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F785A-387F-4FF2-B080-F36242B0B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A0B27-CE29-4F69-8E63-93B2CDB7B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67022-4BFC-4487-ABBD-909B8321E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EBEB1-D69D-42C2-B7B8-665D7D189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1AAA5-8473-401B-AB11-2CFD96982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51B34-28D9-4131-A0F9-D8401ECBF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E1327-A68E-4FEA-965A-6C67D8236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C3250-AE9D-4553-8872-013BB7315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DA43F-44E0-413E-8063-0B54447B1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C3650-174A-4F78-A4CD-400DFAFEC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EF5A5-7D92-4F6B-9818-CBDA1C0A1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BAAF7-8E2D-4B9C-8A52-B1DAEC5A9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gradFill rotWithShape="0">
            <a:gsLst>
              <a:gs pos="0">
                <a:srgbClr val="460017"/>
              </a:gs>
              <a:gs pos="50000">
                <a:srgbClr val="990033"/>
              </a:gs>
              <a:gs pos="100000">
                <a:srgbClr val="46001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152280"/>
            <a:ext cx="9144000" cy="21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Geometr231 Hv BT"/>
              </a:rPr>
              <a:t>B I B L I C A L,   M O R A L L Y - B A S E D   H O P E   I N   T H E   C R I S E S   O F   H U M A N   T R A G E D 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A9AAD-7D08-446C-A5DA-C7A7B0AA25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gradFill rotWithShape="0">
            <a:gsLst>
              <a:gs pos="0">
                <a:srgbClr val="460017"/>
              </a:gs>
              <a:gs pos="50000">
                <a:srgbClr val="990033"/>
              </a:gs>
              <a:gs pos="100000">
                <a:srgbClr val="46001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990720" y="6284880"/>
            <a:ext cx="3504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metr231 Hv BT"/>
              </a:rPr>
              <a:t>A</a:t>
            </a:r>
            <a:r>
              <a:rPr b="0" lang="en-US" sz="2000" spc="-1" strike="noStrike">
                <a:solidFill>
                  <a:srgbClr val="ffffff"/>
                </a:solidFill>
                <a:latin typeface="Geometr231 Hv BT"/>
              </a:rPr>
              <a:t>FRICA… Operation Wh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7924680" y="6494400"/>
            <a:ext cx="914040" cy="149040"/>
            <a:chOff x="7924680" y="6494400"/>
            <a:chExt cx="914040" cy="149040"/>
          </a:xfrm>
        </p:grpSpPr>
        <p:sp>
          <p:nvSpPr>
            <p:cNvPr id="8" name=""/>
            <p:cNvSpPr/>
            <p:nvPr/>
          </p:nvSpPr>
          <p:spPr>
            <a:xfrm>
              <a:off x="7924680" y="6495840"/>
              <a:ext cx="84960" cy="119160"/>
            </a:xfrm>
            <a:custGeom>
              <a:avLst/>
              <a:gdLst/>
              <a:ahLst/>
              <a:rect l="l" t="t" r="r" b="b"/>
              <a:pathLst>
                <a:path w="86" h="126">
                  <a:moveTo>
                    <a:pt x="84" y="124"/>
                  </a:moveTo>
                  <a:lnTo>
                    <a:pt x="82" y="124"/>
                  </a:lnTo>
                  <a:lnTo>
                    <a:pt x="80" y="126"/>
                  </a:lnTo>
                  <a:lnTo>
                    <a:pt x="78" y="126"/>
                  </a:lnTo>
                  <a:lnTo>
                    <a:pt x="76" y="126"/>
                  </a:lnTo>
                  <a:lnTo>
                    <a:pt x="74" y="126"/>
                  </a:lnTo>
                  <a:lnTo>
                    <a:pt x="72" y="126"/>
                  </a:lnTo>
                  <a:lnTo>
                    <a:pt x="70" y="126"/>
                  </a:lnTo>
                  <a:lnTo>
                    <a:pt x="68" y="126"/>
                  </a:lnTo>
                  <a:lnTo>
                    <a:pt x="66" y="126"/>
                  </a:lnTo>
                  <a:lnTo>
                    <a:pt x="58" y="126"/>
                  </a:lnTo>
                  <a:lnTo>
                    <a:pt x="52" y="124"/>
                  </a:lnTo>
                  <a:lnTo>
                    <a:pt x="46" y="124"/>
                  </a:lnTo>
                  <a:lnTo>
                    <a:pt x="40" y="122"/>
                  </a:lnTo>
                  <a:lnTo>
                    <a:pt x="34" y="118"/>
                  </a:lnTo>
                  <a:lnTo>
                    <a:pt x="28" y="116"/>
                  </a:lnTo>
                  <a:lnTo>
                    <a:pt x="22" y="112"/>
                  </a:lnTo>
                  <a:lnTo>
                    <a:pt x="18" y="108"/>
                  </a:lnTo>
                  <a:lnTo>
                    <a:pt x="14" y="104"/>
                  </a:lnTo>
                  <a:lnTo>
                    <a:pt x="10" y="98"/>
                  </a:lnTo>
                  <a:lnTo>
                    <a:pt x="8" y="94"/>
                  </a:lnTo>
                  <a:lnTo>
                    <a:pt x="4" y="88"/>
                  </a:lnTo>
                  <a:lnTo>
                    <a:pt x="2" y="82"/>
                  </a:lnTo>
                  <a:lnTo>
                    <a:pt x="2" y="76"/>
                  </a:lnTo>
                  <a:lnTo>
                    <a:pt x="0" y="70"/>
                  </a:lnTo>
                  <a:lnTo>
                    <a:pt x="0" y="62"/>
                  </a:lnTo>
                  <a:lnTo>
                    <a:pt x="0" y="56"/>
                  </a:lnTo>
                  <a:lnTo>
                    <a:pt x="2" y="48"/>
                  </a:lnTo>
                  <a:lnTo>
                    <a:pt x="2" y="42"/>
                  </a:lnTo>
                  <a:lnTo>
                    <a:pt x="4" y="36"/>
                  </a:lnTo>
                  <a:lnTo>
                    <a:pt x="8" y="32"/>
                  </a:lnTo>
                  <a:lnTo>
                    <a:pt x="10" y="26"/>
                  </a:lnTo>
                  <a:lnTo>
                    <a:pt x="16" y="20"/>
                  </a:lnTo>
                  <a:lnTo>
                    <a:pt x="20" y="16"/>
                  </a:lnTo>
                  <a:lnTo>
                    <a:pt x="24" y="12"/>
                  </a:lnTo>
                  <a:lnTo>
                    <a:pt x="30" y="10"/>
                  </a:lnTo>
                  <a:lnTo>
                    <a:pt x="36" y="6"/>
                  </a:lnTo>
                  <a:lnTo>
                    <a:pt x="42" y="4"/>
                  </a:lnTo>
                  <a:lnTo>
                    <a:pt x="48" y="2"/>
                  </a:lnTo>
                  <a:lnTo>
                    <a:pt x="54" y="2"/>
                  </a:lnTo>
                  <a:lnTo>
                    <a:pt x="60" y="0"/>
                  </a:lnTo>
                  <a:lnTo>
                    <a:pt x="68" y="0"/>
                  </a:lnTo>
                  <a:lnTo>
                    <a:pt x="70" y="0"/>
                  </a:lnTo>
                  <a:lnTo>
                    <a:pt x="72" y="0"/>
                  </a:lnTo>
                  <a:lnTo>
                    <a:pt x="74" y="0"/>
                  </a:lnTo>
                  <a:lnTo>
                    <a:pt x="76" y="0"/>
                  </a:lnTo>
                  <a:lnTo>
                    <a:pt x="78" y="0"/>
                  </a:lnTo>
                  <a:lnTo>
                    <a:pt x="80" y="0"/>
                  </a:lnTo>
                  <a:lnTo>
                    <a:pt x="82" y="0"/>
                  </a:lnTo>
                  <a:lnTo>
                    <a:pt x="82" y="2"/>
                  </a:lnTo>
                  <a:lnTo>
                    <a:pt x="84" y="2"/>
                  </a:lnTo>
                  <a:lnTo>
                    <a:pt x="84" y="32"/>
                  </a:lnTo>
                  <a:lnTo>
                    <a:pt x="82" y="30"/>
                  </a:lnTo>
                  <a:lnTo>
                    <a:pt x="80" y="30"/>
                  </a:lnTo>
                  <a:lnTo>
                    <a:pt x="78" y="30"/>
                  </a:lnTo>
                  <a:lnTo>
                    <a:pt x="76" y="30"/>
                  </a:lnTo>
                  <a:lnTo>
                    <a:pt x="74" y="30"/>
                  </a:lnTo>
                  <a:lnTo>
                    <a:pt x="74" y="28"/>
                  </a:lnTo>
                  <a:lnTo>
                    <a:pt x="72" y="28"/>
                  </a:lnTo>
                  <a:lnTo>
                    <a:pt x="70" y="28"/>
                  </a:lnTo>
                  <a:lnTo>
                    <a:pt x="68" y="28"/>
                  </a:lnTo>
                  <a:lnTo>
                    <a:pt x="64" y="28"/>
                  </a:lnTo>
                  <a:lnTo>
                    <a:pt x="60" y="28"/>
                  </a:lnTo>
                  <a:lnTo>
                    <a:pt x="58" y="30"/>
                  </a:lnTo>
                  <a:lnTo>
                    <a:pt x="54" y="30"/>
                  </a:lnTo>
                  <a:lnTo>
                    <a:pt x="52" y="32"/>
                  </a:lnTo>
                  <a:lnTo>
                    <a:pt x="48" y="34"/>
                  </a:lnTo>
                  <a:lnTo>
                    <a:pt x="46" y="36"/>
                  </a:lnTo>
                  <a:lnTo>
                    <a:pt x="44" y="38"/>
                  </a:lnTo>
                  <a:lnTo>
                    <a:pt x="42" y="40"/>
                  </a:lnTo>
                  <a:lnTo>
                    <a:pt x="40" y="42"/>
                  </a:lnTo>
                  <a:lnTo>
                    <a:pt x="38" y="46"/>
                  </a:lnTo>
                  <a:lnTo>
                    <a:pt x="36" y="48"/>
                  </a:lnTo>
                  <a:lnTo>
                    <a:pt x="36" y="52"/>
                  </a:lnTo>
                  <a:lnTo>
                    <a:pt x="34" y="54"/>
                  </a:lnTo>
                  <a:lnTo>
                    <a:pt x="34" y="58"/>
                  </a:lnTo>
                  <a:lnTo>
                    <a:pt x="34" y="62"/>
                  </a:lnTo>
                  <a:lnTo>
                    <a:pt x="34" y="66"/>
                  </a:lnTo>
                  <a:lnTo>
                    <a:pt x="34" y="70"/>
                  </a:lnTo>
                  <a:lnTo>
                    <a:pt x="36" y="72"/>
                  </a:lnTo>
                  <a:lnTo>
                    <a:pt x="36" y="76"/>
                  </a:lnTo>
                  <a:lnTo>
                    <a:pt x="38" y="78"/>
                  </a:lnTo>
                  <a:lnTo>
                    <a:pt x="40" y="82"/>
                  </a:lnTo>
                  <a:lnTo>
                    <a:pt x="42" y="84"/>
                  </a:lnTo>
                  <a:lnTo>
                    <a:pt x="44" y="86"/>
                  </a:lnTo>
                  <a:lnTo>
                    <a:pt x="46" y="88"/>
                  </a:lnTo>
                  <a:lnTo>
                    <a:pt x="48" y="90"/>
                  </a:lnTo>
                  <a:lnTo>
                    <a:pt x="52" y="92"/>
                  </a:lnTo>
                  <a:lnTo>
                    <a:pt x="54" y="94"/>
                  </a:lnTo>
                  <a:lnTo>
                    <a:pt x="58" y="94"/>
                  </a:lnTo>
                  <a:lnTo>
                    <a:pt x="60" y="96"/>
                  </a:lnTo>
                  <a:lnTo>
                    <a:pt x="64" y="96"/>
                  </a:lnTo>
                  <a:lnTo>
                    <a:pt x="66" y="96"/>
                  </a:lnTo>
                  <a:lnTo>
                    <a:pt x="68" y="96"/>
                  </a:lnTo>
                  <a:lnTo>
                    <a:pt x="70" y="96"/>
                  </a:lnTo>
                  <a:lnTo>
                    <a:pt x="72" y="96"/>
                  </a:lnTo>
                  <a:lnTo>
                    <a:pt x="74" y="96"/>
                  </a:lnTo>
                  <a:lnTo>
                    <a:pt x="76" y="94"/>
                  </a:lnTo>
                  <a:lnTo>
                    <a:pt x="78" y="94"/>
                  </a:lnTo>
                  <a:lnTo>
                    <a:pt x="80" y="94"/>
                  </a:lnTo>
                  <a:lnTo>
                    <a:pt x="82" y="92"/>
                  </a:lnTo>
                  <a:lnTo>
                    <a:pt x="84" y="92"/>
                  </a:lnTo>
                  <a:lnTo>
                    <a:pt x="84" y="90"/>
                  </a:lnTo>
                  <a:lnTo>
                    <a:pt x="86" y="90"/>
                  </a:lnTo>
                  <a:lnTo>
                    <a:pt x="84" y="1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021520" y="6526440"/>
              <a:ext cx="90360" cy="88920"/>
            </a:xfrm>
            <a:custGeom>
              <a:avLst/>
              <a:gdLst/>
              <a:ahLst/>
              <a:rect l="l" t="t" r="r" b="b"/>
              <a:pathLst>
                <a:path w="92" h="94">
                  <a:moveTo>
                    <a:pt x="46" y="30"/>
                  </a:moveTo>
                  <a:lnTo>
                    <a:pt x="44" y="30"/>
                  </a:lnTo>
                  <a:lnTo>
                    <a:pt x="42" y="30"/>
                  </a:lnTo>
                  <a:lnTo>
                    <a:pt x="40" y="32"/>
                  </a:lnTo>
                  <a:lnTo>
                    <a:pt x="38" y="32"/>
                  </a:lnTo>
                  <a:lnTo>
                    <a:pt x="36" y="34"/>
                  </a:lnTo>
                  <a:lnTo>
                    <a:pt x="34" y="34"/>
                  </a:lnTo>
                  <a:lnTo>
                    <a:pt x="34" y="36"/>
                  </a:lnTo>
                  <a:lnTo>
                    <a:pt x="32" y="38"/>
                  </a:lnTo>
                  <a:lnTo>
                    <a:pt x="32" y="40"/>
                  </a:lnTo>
                  <a:lnTo>
                    <a:pt x="30" y="42"/>
                  </a:lnTo>
                  <a:lnTo>
                    <a:pt x="30" y="44"/>
                  </a:lnTo>
                  <a:lnTo>
                    <a:pt x="30" y="46"/>
                  </a:lnTo>
                  <a:lnTo>
                    <a:pt x="30" y="48"/>
                  </a:lnTo>
                  <a:lnTo>
                    <a:pt x="30" y="50"/>
                  </a:lnTo>
                  <a:lnTo>
                    <a:pt x="30" y="52"/>
                  </a:lnTo>
                  <a:lnTo>
                    <a:pt x="32" y="54"/>
                  </a:lnTo>
                  <a:lnTo>
                    <a:pt x="32" y="56"/>
                  </a:lnTo>
                  <a:lnTo>
                    <a:pt x="34" y="58"/>
                  </a:lnTo>
                  <a:lnTo>
                    <a:pt x="34" y="60"/>
                  </a:lnTo>
                  <a:lnTo>
                    <a:pt x="36" y="60"/>
                  </a:lnTo>
                  <a:lnTo>
                    <a:pt x="38" y="62"/>
                  </a:lnTo>
                  <a:lnTo>
                    <a:pt x="40" y="62"/>
                  </a:lnTo>
                  <a:lnTo>
                    <a:pt x="42" y="64"/>
                  </a:lnTo>
                  <a:lnTo>
                    <a:pt x="44" y="64"/>
                  </a:lnTo>
                  <a:lnTo>
                    <a:pt x="46" y="64"/>
                  </a:lnTo>
                  <a:lnTo>
                    <a:pt x="48" y="64"/>
                  </a:lnTo>
                  <a:lnTo>
                    <a:pt x="50" y="64"/>
                  </a:lnTo>
                  <a:lnTo>
                    <a:pt x="52" y="62"/>
                  </a:lnTo>
                  <a:lnTo>
                    <a:pt x="54" y="62"/>
                  </a:lnTo>
                  <a:lnTo>
                    <a:pt x="56" y="62"/>
                  </a:lnTo>
                  <a:lnTo>
                    <a:pt x="56" y="60"/>
                  </a:lnTo>
                  <a:lnTo>
                    <a:pt x="58" y="60"/>
                  </a:lnTo>
                  <a:lnTo>
                    <a:pt x="58" y="58"/>
                  </a:lnTo>
                  <a:lnTo>
                    <a:pt x="60" y="56"/>
                  </a:lnTo>
                  <a:lnTo>
                    <a:pt x="60" y="54"/>
                  </a:lnTo>
                  <a:lnTo>
                    <a:pt x="62" y="52"/>
                  </a:lnTo>
                  <a:lnTo>
                    <a:pt x="62" y="50"/>
                  </a:lnTo>
                  <a:lnTo>
                    <a:pt x="62" y="48"/>
                  </a:lnTo>
                  <a:lnTo>
                    <a:pt x="62" y="46"/>
                  </a:lnTo>
                  <a:lnTo>
                    <a:pt x="62" y="44"/>
                  </a:lnTo>
                  <a:lnTo>
                    <a:pt x="62" y="42"/>
                  </a:lnTo>
                  <a:lnTo>
                    <a:pt x="60" y="40"/>
                  </a:lnTo>
                  <a:lnTo>
                    <a:pt x="60" y="38"/>
                  </a:lnTo>
                  <a:lnTo>
                    <a:pt x="58" y="36"/>
                  </a:lnTo>
                  <a:lnTo>
                    <a:pt x="56" y="34"/>
                  </a:lnTo>
                  <a:lnTo>
                    <a:pt x="54" y="32"/>
                  </a:lnTo>
                  <a:lnTo>
                    <a:pt x="52" y="32"/>
                  </a:lnTo>
                  <a:lnTo>
                    <a:pt x="50" y="30"/>
                  </a:lnTo>
                  <a:lnTo>
                    <a:pt x="48" y="30"/>
                  </a:lnTo>
                  <a:lnTo>
                    <a:pt x="46" y="30"/>
                  </a:lnTo>
                  <a:close/>
                  <a:moveTo>
                    <a:pt x="46" y="0"/>
                  </a:moveTo>
                  <a:lnTo>
                    <a:pt x="50" y="0"/>
                  </a:lnTo>
                  <a:lnTo>
                    <a:pt x="54" y="0"/>
                  </a:lnTo>
                  <a:lnTo>
                    <a:pt x="60" y="2"/>
                  </a:lnTo>
                  <a:lnTo>
                    <a:pt x="64" y="4"/>
                  </a:lnTo>
                  <a:lnTo>
                    <a:pt x="68" y="6"/>
                  </a:lnTo>
                  <a:lnTo>
                    <a:pt x="72" y="8"/>
                  </a:lnTo>
                  <a:lnTo>
                    <a:pt x="74" y="10"/>
                  </a:lnTo>
                  <a:lnTo>
                    <a:pt x="78" y="14"/>
                  </a:lnTo>
                  <a:lnTo>
                    <a:pt x="82" y="18"/>
                  </a:lnTo>
                  <a:lnTo>
                    <a:pt x="84" y="22"/>
                  </a:lnTo>
                  <a:lnTo>
                    <a:pt x="86" y="26"/>
                  </a:lnTo>
                  <a:lnTo>
                    <a:pt x="88" y="30"/>
                  </a:lnTo>
                  <a:lnTo>
                    <a:pt x="90" y="34"/>
                  </a:lnTo>
                  <a:lnTo>
                    <a:pt x="92" y="38"/>
                  </a:lnTo>
                  <a:lnTo>
                    <a:pt x="92" y="42"/>
                  </a:lnTo>
                  <a:lnTo>
                    <a:pt x="92" y="48"/>
                  </a:lnTo>
                  <a:lnTo>
                    <a:pt x="92" y="52"/>
                  </a:lnTo>
                  <a:lnTo>
                    <a:pt x="92" y="56"/>
                  </a:lnTo>
                  <a:lnTo>
                    <a:pt x="90" y="62"/>
                  </a:lnTo>
                  <a:lnTo>
                    <a:pt x="88" y="66"/>
                  </a:lnTo>
                  <a:lnTo>
                    <a:pt x="86" y="70"/>
                  </a:lnTo>
                  <a:lnTo>
                    <a:pt x="84" y="74"/>
                  </a:lnTo>
                  <a:lnTo>
                    <a:pt x="82" y="76"/>
                  </a:lnTo>
                  <a:lnTo>
                    <a:pt x="78" y="80"/>
                  </a:lnTo>
                  <a:lnTo>
                    <a:pt x="74" y="84"/>
                  </a:lnTo>
                  <a:lnTo>
                    <a:pt x="72" y="86"/>
                  </a:lnTo>
                  <a:lnTo>
                    <a:pt x="68" y="88"/>
                  </a:lnTo>
                  <a:lnTo>
                    <a:pt x="64" y="90"/>
                  </a:lnTo>
                  <a:lnTo>
                    <a:pt x="60" y="92"/>
                  </a:lnTo>
                  <a:lnTo>
                    <a:pt x="54" y="94"/>
                  </a:lnTo>
                  <a:lnTo>
                    <a:pt x="50" y="94"/>
                  </a:lnTo>
                  <a:lnTo>
                    <a:pt x="46" y="94"/>
                  </a:lnTo>
                  <a:lnTo>
                    <a:pt x="42" y="94"/>
                  </a:lnTo>
                  <a:lnTo>
                    <a:pt x="38" y="94"/>
                  </a:lnTo>
                  <a:lnTo>
                    <a:pt x="32" y="92"/>
                  </a:lnTo>
                  <a:lnTo>
                    <a:pt x="28" y="90"/>
                  </a:lnTo>
                  <a:lnTo>
                    <a:pt x="24" y="88"/>
                  </a:lnTo>
                  <a:lnTo>
                    <a:pt x="20" y="86"/>
                  </a:lnTo>
                  <a:lnTo>
                    <a:pt x="18" y="84"/>
                  </a:lnTo>
                  <a:lnTo>
                    <a:pt x="14" y="80"/>
                  </a:lnTo>
                  <a:lnTo>
                    <a:pt x="10" y="76"/>
                  </a:lnTo>
                  <a:lnTo>
                    <a:pt x="8" y="74"/>
                  </a:lnTo>
                  <a:lnTo>
                    <a:pt x="6" y="70"/>
                  </a:lnTo>
                  <a:lnTo>
                    <a:pt x="4" y="66"/>
                  </a:lnTo>
                  <a:lnTo>
                    <a:pt x="2" y="62"/>
                  </a:lnTo>
                  <a:lnTo>
                    <a:pt x="0" y="56"/>
                  </a:lnTo>
                  <a:lnTo>
                    <a:pt x="0" y="52"/>
                  </a:lnTo>
                  <a:lnTo>
                    <a:pt x="0" y="48"/>
                  </a:lnTo>
                  <a:lnTo>
                    <a:pt x="0" y="42"/>
                  </a:lnTo>
                  <a:lnTo>
                    <a:pt x="0" y="38"/>
                  </a:lnTo>
                  <a:lnTo>
                    <a:pt x="2" y="34"/>
                  </a:lnTo>
                  <a:lnTo>
                    <a:pt x="4" y="28"/>
                  </a:lnTo>
                  <a:lnTo>
                    <a:pt x="6" y="24"/>
                  </a:lnTo>
                  <a:lnTo>
                    <a:pt x="8" y="20"/>
                  </a:lnTo>
                  <a:lnTo>
                    <a:pt x="10" y="18"/>
                  </a:lnTo>
                  <a:lnTo>
                    <a:pt x="14" y="14"/>
                  </a:lnTo>
                  <a:lnTo>
                    <a:pt x="18" y="10"/>
                  </a:lnTo>
                  <a:lnTo>
                    <a:pt x="20" y="8"/>
                  </a:lnTo>
                  <a:lnTo>
                    <a:pt x="24" y="6"/>
                  </a:lnTo>
                  <a:lnTo>
                    <a:pt x="28" y="4"/>
                  </a:lnTo>
                  <a:lnTo>
                    <a:pt x="32" y="2"/>
                  </a:lnTo>
                  <a:lnTo>
                    <a:pt x="38" y="0"/>
                  </a:lnTo>
                  <a:lnTo>
                    <a:pt x="42" y="0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24120" y="6526440"/>
              <a:ext cx="92880" cy="115200"/>
            </a:xfrm>
            <a:custGeom>
              <a:avLst/>
              <a:gdLst/>
              <a:ahLst/>
              <a:rect l="l" t="t" r="r" b="b"/>
              <a:pathLst>
                <a:path w="94" h="122">
                  <a:moveTo>
                    <a:pt x="48" y="64"/>
                  </a:moveTo>
                  <a:lnTo>
                    <a:pt x="50" y="64"/>
                  </a:lnTo>
                  <a:lnTo>
                    <a:pt x="52" y="64"/>
                  </a:lnTo>
                  <a:lnTo>
                    <a:pt x="54" y="62"/>
                  </a:lnTo>
                  <a:lnTo>
                    <a:pt x="56" y="62"/>
                  </a:lnTo>
                  <a:lnTo>
                    <a:pt x="58" y="62"/>
                  </a:lnTo>
                  <a:lnTo>
                    <a:pt x="58" y="60"/>
                  </a:lnTo>
                  <a:lnTo>
                    <a:pt x="60" y="60"/>
                  </a:lnTo>
                  <a:lnTo>
                    <a:pt x="60" y="58"/>
                  </a:lnTo>
                  <a:lnTo>
                    <a:pt x="62" y="56"/>
                  </a:lnTo>
                  <a:lnTo>
                    <a:pt x="62" y="54"/>
                  </a:lnTo>
                  <a:lnTo>
                    <a:pt x="64" y="52"/>
                  </a:lnTo>
                  <a:lnTo>
                    <a:pt x="64" y="50"/>
                  </a:lnTo>
                  <a:lnTo>
                    <a:pt x="64" y="48"/>
                  </a:lnTo>
                  <a:lnTo>
                    <a:pt x="64" y="46"/>
                  </a:lnTo>
                  <a:lnTo>
                    <a:pt x="64" y="44"/>
                  </a:lnTo>
                  <a:lnTo>
                    <a:pt x="64" y="42"/>
                  </a:lnTo>
                  <a:lnTo>
                    <a:pt x="62" y="40"/>
                  </a:lnTo>
                  <a:lnTo>
                    <a:pt x="62" y="38"/>
                  </a:lnTo>
                  <a:lnTo>
                    <a:pt x="60" y="36"/>
                  </a:lnTo>
                  <a:lnTo>
                    <a:pt x="58" y="34"/>
                  </a:lnTo>
                  <a:lnTo>
                    <a:pt x="56" y="32"/>
                  </a:lnTo>
                  <a:lnTo>
                    <a:pt x="54" y="32"/>
                  </a:lnTo>
                  <a:lnTo>
                    <a:pt x="52" y="30"/>
                  </a:lnTo>
                  <a:lnTo>
                    <a:pt x="50" y="30"/>
                  </a:lnTo>
                  <a:lnTo>
                    <a:pt x="48" y="30"/>
                  </a:lnTo>
                  <a:lnTo>
                    <a:pt x="46" y="30"/>
                  </a:lnTo>
                  <a:lnTo>
                    <a:pt x="44" y="30"/>
                  </a:lnTo>
                  <a:lnTo>
                    <a:pt x="42" y="32"/>
                  </a:lnTo>
                  <a:lnTo>
                    <a:pt x="40" y="32"/>
                  </a:lnTo>
                  <a:lnTo>
                    <a:pt x="38" y="34"/>
                  </a:lnTo>
                  <a:lnTo>
                    <a:pt x="36" y="34"/>
                  </a:lnTo>
                  <a:lnTo>
                    <a:pt x="36" y="36"/>
                  </a:lnTo>
                  <a:lnTo>
                    <a:pt x="34" y="38"/>
                  </a:lnTo>
                  <a:lnTo>
                    <a:pt x="34" y="40"/>
                  </a:lnTo>
                  <a:lnTo>
                    <a:pt x="32" y="42"/>
                  </a:lnTo>
                  <a:lnTo>
                    <a:pt x="32" y="44"/>
                  </a:lnTo>
                  <a:lnTo>
                    <a:pt x="32" y="46"/>
                  </a:lnTo>
                  <a:lnTo>
                    <a:pt x="32" y="48"/>
                  </a:lnTo>
                  <a:lnTo>
                    <a:pt x="32" y="50"/>
                  </a:lnTo>
                  <a:lnTo>
                    <a:pt x="32" y="52"/>
                  </a:lnTo>
                  <a:lnTo>
                    <a:pt x="34" y="54"/>
                  </a:lnTo>
                  <a:lnTo>
                    <a:pt x="34" y="56"/>
                  </a:lnTo>
                  <a:lnTo>
                    <a:pt x="36" y="58"/>
                  </a:lnTo>
                  <a:lnTo>
                    <a:pt x="36" y="60"/>
                  </a:lnTo>
                  <a:lnTo>
                    <a:pt x="38" y="60"/>
                  </a:lnTo>
                  <a:lnTo>
                    <a:pt x="40" y="62"/>
                  </a:lnTo>
                  <a:lnTo>
                    <a:pt x="42" y="62"/>
                  </a:lnTo>
                  <a:lnTo>
                    <a:pt x="44" y="64"/>
                  </a:lnTo>
                  <a:lnTo>
                    <a:pt x="46" y="64"/>
                  </a:lnTo>
                  <a:lnTo>
                    <a:pt x="48" y="64"/>
                  </a:lnTo>
                  <a:close/>
                  <a:moveTo>
                    <a:pt x="30" y="88"/>
                  </a:moveTo>
                  <a:lnTo>
                    <a:pt x="30" y="122"/>
                  </a:lnTo>
                  <a:lnTo>
                    <a:pt x="0" y="122"/>
                  </a:lnTo>
                  <a:lnTo>
                    <a:pt x="0" y="2"/>
                  </a:lnTo>
                  <a:lnTo>
                    <a:pt x="30" y="2"/>
                  </a:lnTo>
                  <a:lnTo>
                    <a:pt x="30" y="10"/>
                  </a:lnTo>
                  <a:lnTo>
                    <a:pt x="32" y="8"/>
                  </a:lnTo>
                  <a:lnTo>
                    <a:pt x="34" y="6"/>
                  </a:lnTo>
                  <a:lnTo>
                    <a:pt x="36" y="6"/>
                  </a:lnTo>
                  <a:lnTo>
                    <a:pt x="36" y="4"/>
                  </a:lnTo>
                  <a:lnTo>
                    <a:pt x="38" y="4"/>
                  </a:lnTo>
                  <a:lnTo>
                    <a:pt x="38" y="2"/>
                  </a:lnTo>
                  <a:lnTo>
                    <a:pt x="40" y="2"/>
                  </a:lnTo>
                  <a:lnTo>
                    <a:pt x="42" y="2"/>
                  </a:lnTo>
                  <a:lnTo>
                    <a:pt x="44" y="0"/>
                  </a:lnTo>
                  <a:lnTo>
                    <a:pt x="46" y="0"/>
                  </a:lnTo>
                  <a:lnTo>
                    <a:pt x="48" y="0"/>
                  </a:lnTo>
                  <a:lnTo>
                    <a:pt x="50" y="0"/>
                  </a:lnTo>
                  <a:lnTo>
                    <a:pt x="52" y="0"/>
                  </a:lnTo>
                  <a:lnTo>
                    <a:pt x="54" y="0"/>
                  </a:lnTo>
                  <a:lnTo>
                    <a:pt x="58" y="0"/>
                  </a:lnTo>
                  <a:lnTo>
                    <a:pt x="62" y="0"/>
                  </a:lnTo>
                  <a:lnTo>
                    <a:pt x="66" y="2"/>
                  </a:lnTo>
                  <a:lnTo>
                    <a:pt x="68" y="4"/>
                  </a:lnTo>
                  <a:lnTo>
                    <a:pt x="72" y="6"/>
                  </a:lnTo>
                  <a:lnTo>
                    <a:pt x="76" y="8"/>
                  </a:lnTo>
                  <a:lnTo>
                    <a:pt x="78" y="10"/>
                  </a:lnTo>
                  <a:lnTo>
                    <a:pt x="82" y="14"/>
                  </a:lnTo>
                  <a:lnTo>
                    <a:pt x="84" y="18"/>
                  </a:lnTo>
                  <a:lnTo>
                    <a:pt x="88" y="20"/>
                  </a:lnTo>
                  <a:lnTo>
                    <a:pt x="90" y="24"/>
                  </a:lnTo>
                  <a:lnTo>
                    <a:pt x="92" y="28"/>
                  </a:lnTo>
                  <a:lnTo>
                    <a:pt x="92" y="32"/>
                  </a:lnTo>
                  <a:lnTo>
                    <a:pt x="94" y="38"/>
                  </a:lnTo>
                  <a:lnTo>
                    <a:pt x="94" y="42"/>
                  </a:lnTo>
                  <a:lnTo>
                    <a:pt x="94" y="46"/>
                  </a:lnTo>
                  <a:lnTo>
                    <a:pt x="94" y="52"/>
                  </a:lnTo>
                  <a:lnTo>
                    <a:pt x="94" y="56"/>
                  </a:lnTo>
                  <a:lnTo>
                    <a:pt x="92" y="60"/>
                  </a:lnTo>
                  <a:lnTo>
                    <a:pt x="92" y="66"/>
                  </a:lnTo>
                  <a:lnTo>
                    <a:pt x="90" y="70"/>
                  </a:lnTo>
                  <a:lnTo>
                    <a:pt x="88" y="74"/>
                  </a:lnTo>
                  <a:lnTo>
                    <a:pt x="84" y="76"/>
                  </a:lnTo>
                  <a:lnTo>
                    <a:pt x="82" y="80"/>
                  </a:lnTo>
                  <a:lnTo>
                    <a:pt x="78" y="84"/>
                  </a:lnTo>
                  <a:lnTo>
                    <a:pt x="76" y="86"/>
                  </a:lnTo>
                  <a:lnTo>
                    <a:pt x="72" y="88"/>
                  </a:lnTo>
                  <a:lnTo>
                    <a:pt x="68" y="90"/>
                  </a:lnTo>
                  <a:lnTo>
                    <a:pt x="64" y="92"/>
                  </a:lnTo>
                  <a:lnTo>
                    <a:pt x="58" y="94"/>
                  </a:lnTo>
                  <a:lnTo>
                    <a:pt x="54" y="94"/>
                  </a:lnTo>
                  <a:lnTo>
                    <a:pt x="50" y="94"/>
                  </a:lnTo>
                  <a:lnTo>
                    <a:pt x="48" y="94"/>
                  </a:lnTo>
                  <a:lnTo>
                    <a:pt x="46" y="94"/>
                  </a:lnTo>
                  <a:lnTo>
                    <a:pt x="44" y="94"/>
                  </a:lnTo>
                  <a:lnTo>
                    <a:pt x="42" y="94"/>
                  </a:lnTo>
                  <a:lnTo>
                    <a:pt x="40" y="92"/>
                  </a:lnTo>
                  <a:lnTo>
                    <a:pt x="38" y="92"/>
                  </a:lnTo>
                  <a:lnTo>
                    <a:pt x="36" y="92"/>
                  </a:lnTo>
                  <a:lnTo>
                    <a:pt x="34" y="90"/>
                  </a:lnTo>
                  <a:lnTo>
                    <a:pt x="32" y="90"/>
                  </a:lnTo>
                  <a:lnTo>
                    <a:pt x="30" y="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220600" y="6528240"/>
              <a:ext cx="88560" cy="113400"/>
            </a:xfrm>
            <a:custGeom>
              <a:avLst/>
              <a:gdLst/>
              <a:ahLst/>
              <a:rect l="l" t="t" r="r" b="b"/>
              <a:pathLst>
                <a:path w="90" h="120">
                  <a:moveTo>
                    <a:pt x="20" y="120"/>
                  </a:moveTo>
                  <a:lnTo>
                    <a:pt x="32" y="86"/>
                  </a:lnTo>
                  <a:lnTo>
                    <a:pt x="0" y="0"/>
                  </a:lnTo>
                  <a:lnTo>
                    <a:pt x="34" y="0"/>
                  </a:lnTo>
                  <a:lnTo>
                    <a:pt x="46" y="44"/>
                  </a:lnTo>
                  <a:lnTo>
                    <a:pt x="58" y="0"/>
                  </a:lnTo>
                  <a:lnTo>
                    <a:pt x="90" y="0"/>
                  </a:lnTo>
                  <a:lnTo>
                    <a:pt x="54" y="120"/>
                  </a:lnTo>
                  <a:lnTo>
                    <a:pt x="20" y="1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315640" y="6526440"/>
              <a:ext cx="48960" cy="86760"/>
            </a:xfrm>
            <a:custGeom>
              <a:avLst/>
              <a:gdLst/>
              <a:ahLst/>
              <a:rect l="l" t="t" r="r" b="b"/>
              <a:pathLst>
                <a:path w="50" h="92">
                  <a:moveTo>
                    <a:pt x="0" y="92"/>
                  </a:moveTo>
                  <a:lnTo>
                    <a:pt x="0" y="2"/>
                  </a:lnTo>
                  <a:lnTo>
                    <a:pt x="30" y="2"/>
                  </a:lnTo>
                  <a:lnTo>
                    <a:pt x="30" y="10"/>
                  </a:lnTo>
                  <a:lnTo>
                    <a:pt x="32" y="8"/>
                  </a:lnTo>
                  <a:lnTo>
                    <a:pt x="34" y="6"/>
                  </a:lnTo>
                  <a:lnTo>
                    <a:pt x="34" y="4"/>
                  </a:lnTo>
                  <a:lnTo>
                    <a:pt x="36" y="4"/>
                  </a:lnTo>
                  <a:lnTo>
                    <a:pt x="36" y="2"/>
                  </a:lnTo>
                  <a:lnTo>
                    <a:pt x="38" y="2"/>
                  </a:lnTo>
                  <a:lnTo>
                    <a:pt x="40" y="2"/>
                  </a:lnTo>
                  <a:lnTo>
                    <a:pt x="42" y="2"/>
                  </a:lnTo>
                  <a:lnTo>
                    <a:pt x="44" y="0"/>
                  </a:lnTo>
                  <a:lnTo>
                    <a:pt x="46" y="0"/>
                  </a:lnTo>
                  <a:lnTo>
                    <a:pt x="48" y="0"/>
                  </a:lnTo>
                  <a:lnTo>
                    <a:pt x="50" y="0"/>
                  </a:lnTo>
                  <a:lnTo>
                    <a:pt x="50" y="30"/>
                  </a:lnTo>
                  <a:lnTo>
                    <a:pt x="46" y="30"/>
                  </a:lnTo>
                  <a:lnTo>
                    <a:pt x="44" y="30"/>
                  </a:lnTo>
                  <a:lnTo>
                    <a:pt x="42" y="30"/>
                  </a:lnTo>
                  <a:lnTo>
                    <a:pt x="40" y="32"/>
                  </a:lnTo>
                  <a:lnTo>
                    <a:pt x="38" y="32"/>
                  </a:lnTo>
                  <a:lnTo>
                    <a:pt x="36" y="34"/>
                  </a:lnTo>
                  <a:lnTo>
                    <a:pt x="34" y="34"/>
                  </a:lnTo>
                  <a:lnTo>
                    <a:pt x="34" y="36"/>
                  </a:lnTo>
                  <a:lnTo>
                    <a:pt x="32" y="38"/>
                  </a:lnTo>
                  <a:lnTo>
                    <a:pt x="32" y="40"/>
                  </a:lnTo>
                  <a:lnTo>
                    <a:pt x="30" y="42"/>
                  </a:lnTo>
                  <a:lnTo>
                    <a:pt x="30" y="44"/>
                  </a:lnTo>
                  <a:lnTo>
                    <a:pt x="30" y="46"/>
                  </a:lnTo>
                  <a:lnTo>
                    <a:pt x="30" y="48"/>
                  </a:lnTo>
                  <a:lnTo>
                    <a:pt x="30" y="92"/>
                  </a:lnTo>
                  <a:lnTo>
                    <a:pt x="0" y="9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376840" y="6495840"/>
              <a:ext cx="29520" cy="117360"/>
            </a:xfrm>
            <a:custGeom>
              <a:avLst/>
              <a:gdLst/>
              <a:ahLst/>
              <a:rect l="l" t="t" r="r" b="b"/>
              <a:pathLst>
                <a:path w="30" h="124">
                  <a:moveTo>
                    <a:pt x="0" y="124"/>
                  </a:moveTo>
                  <a:lnTo>
                    <a:pt x="0" y="34"/>
                  </a:lnTo>
                  <a:lnTo>
                    <a:pt x="30" y="34"/>
                  </a:lnTo>
                  <a:lnTo>
                    <a:pt x="30" y="124"/>
                  </a:lnTo>
                  <a:lnTo>
                    <a:pt x="0" y="124"/>
                  </a:lnTo>
                  <a:close/>
                  <a:moveTo>
                    <a:pt x="0" y="26"/>
                  </a:moveTo>
                  <a:lnTo>
                    <a:pt x="0" y="0"/>
                  </a:lnTo>
                  <a:lnTo>
                    <a:pt x="30" y="0"/>
                  </a:lnTo>
                  <a:lnTo>
                    <a:pt x="30" y="2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416440" y="6526440"/>
              <a:ext cx="82800" cy="117000"/>
            </a:xfrm>
            <a:custGeom>
              <a:avLst/>
              <a:gdLst/>
              <a:ahLst/>
              <a:rect l="l" t="t" r="r" b="b"/>
              <a:pathLst>
                <a:path w="84" h="124">
                  <a:moveTo>
                    <a:pt x="42" y="52"/>
                  </a:moveTo>
                  <a:lnTo>
                    <a:pt x="44" y="52"/>
                  </a:lnTo>
                  <a:lnTo>
                    <a:pt x="46" y="52"/>
                  </a:lnTo>
                  <a:lnTo>
                    <a:pt x="46" y="50"/>
                  </a:lnTo>
                  <a:lnTo>
                    <a:pt x="48" y="50"/>
                  </a:lnTo>
                  <a:lnTo>
                    <a:pt x="50" y="48"/>
                  </a:lnTo>
                  <a:lnTo>
                    <a:pt x="52" y="46"/>
                  </a:lnTo>
                  <a:lnTo>
                    <a:pt x="52" y="44"/>
                  </a:lnTo>
                  <a:lnTo>
                    <a:pt x="54" y="44"/>
                  </a:lnTo>
                  <a:lnTo>
                    <a:pt x="54" y="42"/>
                  </a:lnTo>
                  <a:lnTo>
                    <a:pt x="54" y="40"/>
                  </a:lnTo>
                  <a:lnTo>
                    <a:pt x="54" y="38"/>
                  </a:lnTo>
                  <a:lnTo>
                    <a:pt x="52" y="36"/>
                  </a:lnTo>
                  <a:lnTo>
                    <a:pt x="50" y="34"/>
                  </a:lnTo>
                  <a:lnTo>
                    <a:pt x="48" y="32"/>
                  </a:lnTo>
                  <a:lnTo>
                    <a:pt x="46" y="32"/>
                  </a:lnTo>
                  <a:lnTo>
                    <a:pt x="46" y="30"/>
                  </a:lnTo>
                  <a:lnTo>
                    <a:pt x="44" y="30"/>
                  </a:lnTo>
                  <a:lnTo>
                    <a:pt x="42" y="30"/>
                  </a:lnTo>
                  <a:lnTo>
                    <a:pt x="40" y="30"/>
                  </a:lnTo>
                  <a:lnTo>
                    <a:pt x="40" y="32"/>
                  </a:lnTo>
                  <a:lnTo>
                    <a:pt x="38" y="32"/>
                  </a:lnTo>
                  <a:lnTo>
                    <a:pt x="36" y="34"/>
                  </a:lnTo>
                  <a:lnTo>
                    <a:pt x="34" y="36"/>
                  </a:lnTo>
                  <a:lnTo>
                    <a:pt x="32" y="38"/>
                  </a:lnTo>
                  <a:lnTo>
                    <a:pt x="32" y="40"/>
                  </a:lnTo>
                  <a:lnTo>
                    <a:pt x="32" y="42"/>
                  </a:lnTo>
                  <a:lnTo>
                    <a:pt x="32" y="44"/>
                  </a:lnTo>
                  <a:lnTo>
                    <a:pt x="34" y="44"/>
                  </a:lnTo>
                  <a:lnTo>
                    <a:pt x="34" y="46"/>
                  </a:lnTo>
                  <a:lnTo>
                    <a:pt x="36" y="48"/>
                  </a:lnTo>
                  <a:lnTo>
                    <a:pt x="38" y="50"/>
                  </a:lnTo>
                  <a:lnTo>
                    <a:pt x="40" y="50"/>
                  </a:lnTo>
                  <a:lnTo>
                    <a:pt x="40" y="52"/>
                  </a:lnTo>
                  <a:lnTo>
                    <a:pt x="42" y="52"/>
                  </a:lnTo>
                  <a:close/>
                  <a:moveTo>
                    <a:pt x="52" y="78"/>
                  </a:moveTo>
                  <a:lnTo>
                    <a:pt x="50" y="80"/>
                  </a:lnTo>
                  <a:lnTo>
                    <a:pt x="48" y="80"/>
                  </a:lnTo>
                  <a:lnTo>
                    <a:pt x="46" y="80"/>
                  </a:lnTo>
                  <a:lnTo>
                    <a:pt x="44" y="80"/>
                  </a:lnTo>
                  <a:lnTo>
                    <a:pt x="42" y="80"/>
                  </a:lnTo>
                  <a:lnTo>
                    <a:pt x="40" y="80"/>
                  </a:lnTo>
                  <a:lnTo>
                    <a:pt x="36" y="80"/>
                  </a:lnTo>
                  <a:lnTo>
                    <a:pt x="32" y="80"/>
                  </a:lnTo>
                  <a:lnTo>
                    <a:pt x="28" y="78"/>
                  </a:lnTo>
                  <a:lnTo>
                    <a:pt x="26" y="76"/>
                  </a:lnTo>
                  <a:lnTo>
                    <a:pt x="22" y="76"/>
                  </a:lnTo>
                  <a:lnTo>
                    <a:pt x="18" y="74"/>
                  </a:lnTo>
                  <a:lnTo>
                    <a:pt x="16" y="70"/>
                  </a:lnTo>
                  <a:lnTo>
                    <a:pt x="12" y="68"/>
                  </a:lnTo>
                  <a:lnTo>
                    <a:pt x="10" y="66"/>
                  </a:lnTo>
                  <a:lnTo>
                    <a:pt x="8" y="62"/>
                  </a:lnTo>
                  <a:lnTo>
                    <a:pt x="6" y="60"/>
                  </a:lnTo>
                  <a:lnTo>
                    <a:pt x="4" y="56"/>
                  </a:lnTo>
                  <a:lnTo>
                    <a:pt x="4" y="52"/>
                  </a:lnTo>
                  <a:lnTo>
                    <a:pt x="2" y="48"/>
                  </a:lnTo>
                  <a:lnTo>
                    <a:pt x="2" y="44"/>
                  </a:lnTo>
                  <a:lnTo>
                    <a:pt x="2" y="40"/>
                  </a:lnTo>
                  <a:lnTo>
                    <a:pt x="2" y="36"/>
                  </a:lnTo>
                  <a:lnTo>
                    <a:pt x="2" y="32"/>
                  </a:lnTo>
                  <a:lnTo>
                    <a:pt x="4" y="28"/>
                  </a:lnTo>
                  <a:lnTo>
                    <a:pt x="6" y="24"/>
                  </a:lnTo>
                  <a:lnTo>
                    <a:pt x="6" y="20"/>
                  </a:lnTo>
                  <a:lnTo>
                    <a:pt x="8" y="18"/>
                  </a:lnTo>
                  <a:lnTo>
                    <a:pt x="12" y="14"/>
                  </a:lnTo>
                  <a:lnTo>
                    <a:pt x="14" y="12"/>
                  </a:lnTo>
                  <a:lnTo>
                    <a:pt x="18" y="10"/>
                  </a:lnTo>
                  <a:lnTo>
                    <a:pt x="20" y="6"/>
                  </a:lnTo>
                  <a:lnTo>
                    <a:pt x="24" y="4"/>
                  </a:lnTo>
                  <a:lnTo>
                    <a:pt x="28" y="2"/>
                  </a:lnTo>
                  <a:lnTo>
                    <a:pt x="30" y="2"/>
                  </a:lnTo>
                  <a:lnTo>
                    <a:pt x="34" y="0"/>
                  </a:lnTo>
                  <a:lnTo>
                    <a:pt x="38" y="0"/>
                  </a:lnTo>
                  <a:lnTo>
                    <a:pt x="42" y="0"/>
                  </a:lnTo>
                  <a:lnTo>
                    <a:pt x="44" y="0"/>
                  </a:lnTo>
                  <a:lnTo>
                    <a:pt x="46" y="0"/>
                  </a:lnTo>
                  <a:lnTo>
                    <a:pt x="48" y="0"/>
                  </a:lnTo>
                  <a:lnTo>
                    <a:pt x="50" y="0"/>
                  </a:lnTo>
                  <a:lnTo>
                    <a:pt x="52" y="0"/>
                  </a:lnTo>
                  <a:lnTo>
                    <a:pt x="54" y="0"/>
                  </a:lnTo>
                  <a:lnTo>
                    <a:pt x="54" y="2"/>
                  </a:lnTo>
                  <a:lnTo>
                    <a:pt x="56" y="2"/>
                  </a:lnTo>
                  <a:lnTo>
                    <a:pt x="84" y="2"/>
                  </a:lnTo>
                  <a:lnTo>
                    <a:pt x="76" y="16"/>
                  </a:lnTo>
                  <a:lnTo>
                    <a:pt x="76" y="18"/>
                  </a:lnTo>
                  <a:lnTo>
                    <a:pt x="78" y="18"/>
                  </a:lnTo>
                  <a:lnTo>
                    <a:pt x="78" y="20"/>
                  </a:lnTo>
                  <a:lnTo>
                    <a:pt x="80" y="22"/>
                  </a:lnTo>
                  <a:lnTo>
                    <a:pt x="80" y="24"/>
                  </a:lnTo>
                  <a:lnTo>
                    <a:pt x="82" y="26"/>
                  </a:lnTo>
                  <a:lnTo>
                    <a:pt x="82" y="28"/>
                  </a:lnTo>
                  <a:lnTo>
                    <a:pt x="82" y="30"/>
                  </a:lnTo>
                  <a:lnTo>
                    <a:pt x="84" y="32"/>
                  </a:lnTo>
                  <a:lnTo>
                    <a:pt x="84" y="34"/>
                  </a:lnTo>
                  <a:lnTo>
                    <a:pt x="84" y="36"/>
                  </a:lnTo>
                  <a:lnTo>
                    <a:pt x="84" y="38"/>
                  </a:lnTo>
                  <a:lnTo>
                    <a:pt x="84" y="40"/>
                  </a:lnTo>
                  <a:lnTo>
                    <a:pt x="84" y="42"/>
                  </a:lnTo>
                  <a:lnTo>
                    <a:pt x="84" y="44"/>
                  </a:lnTo>
                  <a:lnTo>
                    <a:pt x="84" y="46"/>
                  </a:lnTo>
                  <a:lnTo>
                    <a:pt x="84" y="48"/>
                  </a:lnTo>
                  <a:lnTo>
                    <a:pt x="84" y="50"/>
                  </a:lnTo>
                  <a:lnTo>
                    <a:pt x="82" y="52"/>
                  </a:lnTo>
                  <a:lnTo>
                    <a:pt x="82" y="54"/>
                  </a:lnTo>
                  <a:lnTo>
                    <a:pt x="82" y="56"/>
                  </a:lnTo>
                  <a:lnTo>
                    <a:pt x="80" y="56"/>
                  </a:lnTo>
                  <a:lnTo>
                    <a:pt x="80" y="58"/>
                  </a:lnTo>
                  <a:lnTo>
                    <a:pt x="78" y="60"/>
                  </a:lnTo>
                  <a:lnTo>
                    <a:pt x="78" y="62"/>
                  </a:lnTo>
                  <a:lnTo>
                    <a:pt x="76" y="62"/>
                  </a:lnTo>
                  <a:lnTo>
                    <a:pt x="76" y="64"/>
                  </a:lnTo>
                  <a:lnTo>
                    <a:pt x="74" y="64"/>
                  </a:lnTo>
                  <a:lnTo>
                    <a:pt x="76" y="66"/>
                  </a:lnTo>
                  <a:lnTo>
                    <a:pt x="78" y="68"/>
                  </a:lnTo>
                  <a:lnTo>
                    <a:pt x="78" y="70"/>
                  </a:lnTo>
                  <a:lnTo>
                    <a:pt x="80" y="72"/>
                  </a:lnTo>
                  <a:lnTo>
                    <a:pt x="80" y="74"/>
                  </a:lnTo>
                  <a:lnTo>
                    <a:pt x="80" y="76"/>
                  </a:lnTo>
                  <a:lnTo>
                    <a:pt x="80" y="78"/>
                  </a:lnTo>
                  <a:lnTo>
                    <a:pt x="82" y="78"/>
                  </a:lnTo>
                  <a:lnTo>
                    <a:pt x="82" y="80"/>
                  </a:lnTo>
                  <a:lnTo>
                    <a:pt x="82" y="82"/>
                  </a:lnTo>
                  <a:lnTo>
                    <a:pt x="82" y="84"/>
                  </a:lnTo>
                  <a:lnTo>
                    <a:pt x="82" y="86"/>
                  </a:lnTo>
                  <a:lnTo>
                    <a:pt x="82" y="90"/>
                  </a:lnTo>
                  <a:lnTo>
                    <a:pt x="82" y="94"/>
                  </a:lnTo>
                  <a:lnTo>
                    <a:pt x="80" y="98"/>
                  </a:lnTo>
                  <a:lnTo>
                    <a:pt x="80" y="102"/>
                  </a:lnTo>
                  <a:lnTo>
                    <a:pt x="78" y="104"/>
                  </a:lnTo>
                  <a:lnTo>
                    <a:pt x="76" y="108"/>
                  </a:lnTo>
                  <a:lnTo>
                    <a:pt x="72" y="110"/>
                  </a:lnTo>
                  <a:lnTo>
                    <a:pt x="70" y="114"/>
                  </a:lnTo>
                  <a:lnTo>
                    <a:pt x="68" y="116"/>
                  </a:lnTo>
                  <a:lnTo>
                    <a:pt x="64" y="118"/>
                  </a:lnTo>
                  <a:lnTo>
                    <a:pt x="62" y="120"/>
                  </a:lnTo>
                  <a:lnTo>
                    <a:pt x="58" y="122"/>
                  </a:lnTo>
                  <a:lnTo>
                    <a:pt x="54" y="122"/>
                  </a:lnTo>
                  <a:lnTo>
                    <a:pt x="50" y="124"/>
                  </a:lnTo>
                  <a:lnTo>
                    <a:pt x="46" y="124"/>
                  </a:lnTo>
                  <a:lnTo>
                    <a:pt x="42" y="124"/>
                  </a:lnTo>
                  <a:lnTo>
                    <a:pt x="40" y="124"/>
                  </a:lnTo>
                  <a:lnTo>
                    <a:pt x="36" y="124"/>
                  </a:lnTo>
                  <a:lnTo>
                    <a:pt x="34" y="124"/>
                  </a:lnTo>
                  <a:lnTo>
                    <a:pt x="30" y="122"/>
                  </a:lnTo>
                  <a:lnTo>
                    <a:pt x="28" y="122"/>
                  </a:lnTo>
                  <a:lnTo>
                    <a:pt x="24" y="122"/>
                  </a:lnTo>
                  <a:lnTo>
                    <a:pt x="22" y="120"/>
                  </a:lnTo>
                  <a:lnTo>
                    <a:pt x="18" y="120"/>
                  </a:lnTo>
                  <a:lnTo>
                    <a:pt x="16" y="118"/>
                  </a:lnTo>
                  <a:lnTo>
                    <a:pt x="14" y="116"/>
                  </a:lnTo>
                  <a:lnTo>
                    <a:pt x="12" y="116"/>
                  </a:lnTo>
                  <a:lnTo>
                    <a:pt x="10" y="114"/>
                  </a:lnTo>
                  <a:lnTo>
                    <a:pt x="6" y="112"/>
                  </a:lnTo>
                  <a:lnTo>
                    <a:pt x="4" y="110"/>
                  </a:lnTo>
                  <a:lnTo>
                    <a:pt x="2" y="108"/>
                  </a:lnTo>
                  <a:lnTo>
                    <a:pt x="0" y="106"/>
                  </a:lnTo>
                  <a:lnTo>
                    <a:pt x="16" y="84"/>
                  </a:lnTo>
                  <a:lnTo>
                    <a:pt x="18" y="86"/>
                  </a:lnTo>
                  <a:lnTo>
                    <a:pt x="20" y="86"/>
                  </a:lnTo>
                  <a:lnTo>
                    <a:pt x="20" y="88"/>
                  </a:lnTo>
                  <a:lnTo>
                    <a:pt x="22" y="90"/>
                  </a:lnTo>
                  <a:lnTo>
                    <a:pt x="24" y="92"/>
                  </a:lnTo>
                  <a:lnTo>
                    <a:pt x="26" y="92"/>
                  </a:lnTo>
                  <a:lnTo>
                    <a:pt x="26" y="94"/>
                  </a:lnTo>
                  <a:lnTo>
                    <a:pt x="28" y="94"/>
                  </a:lnTo>
                  <a:lnTo>
                    <a:pt x="30" y="94"/>
                  </a:lnTo>
                  <a:lnTo>
                    <a:pt x="32" y="96"/>
                  </a:lnTo>
                  <a:lnTo>
                    <a:pt x="34" y="96"/>
                  </a:lnTo>
                  <a:lnTo>
                    <a:pt x="36" y="96"/>
                  </a:lnTo>
                  <a:lnTo>
                    <a:pt x="38" y="96"/>
                  </a:lnTo>
                  <a:lnTo>
                    <a:pt x="40" y="96"/>
                  </a:lnTo>
                  <a:lnTo>
                    <a:pt x="42" y="96"/>
                  </a:lnTo>
                  <a:lnTo>
                    <a:pt x="44" y="96"/>
                  </a:lnTo>
                  <a:lnTo>
                    <a:pt x="44" y="94"/>
                  </a:lnTo>
                  <a:lnTo>
                    <a:pt x="46" y="94"/>
                  </a:lnTo>
                  <a:lnTo>
                    <a:pt x="48" y="92"/>
                  </a:lnTo>
                  <a:lnTo>
                    <a:pt x="50" y="90"/>
                  </a:lnTo>
                  <a:lnTo>
                    <a:pt x="50" y="88"/>
                  </a:lnTo>
                  <a:lnTo>
                    <a:pt x="52" y="88"/>
                  </a:lnTo>
                  <a:lnTo>
                    <a:pt x="52" y="86"/>
                  </a:lnTo>
                  <a:lnTo>
                    <a:pt x="52" y="84"/>
                  </a:lnTo>
                  <a:lnTo>
                    <a:pt x="52" y="82"/>
                  </a:lnTo>
                  <a:lnTo>
                    <a:pt x="52" y="80"/>
                  </a:lnTo>
                  <a:lnTo>
                    <a:pt x="5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513280" y="6495840"/>
              <a:ext cx="76680" cy="117360"/>
            </a:xfrm>
            <a:custGeom>
              <a:avLst/>
              <a:gdLst/>
              <a:ahLst/>
              <a:rect l="l" t="t" r="r" b="b"/>
              <a:pathLst>
                <a:path w="78" h="124">
                  <a:moveTo>
                    <a:pt x="0" y="124"/>
                  </a:moveTo>
                  <a:lnTo>
                    <a:pt x="0" y="0"/>
                  </a:lnTo>
                  <a:lnTo>
                    <a:pt x="30" y="0"/>
                  </a:lnTo>
                  <a:lnTo>
                    <a:pt x="30" y="42"/>
                  </a:lnTo>
                  <a:lnTo>
                    <a:pt x="30" y="40"/>
                  </a:lnTo>
                  <a:lnTo>
                    <a:pt x="32" y="40"/>
                  </a:lnTo>
                  <a:lnTo>
                    <a:pt x="32" y="38"/>
                  </a:lnTo>
                  <a:lnTo>
                    <a:pt x="34" y="38"/>
                  </a:lnTo>
                  <a:lnTo>
                    <a:pt x="36" y="36"/>
                  </a:lnTo>
                  <a:lnTo>
                    <a:pt x="38" y="36"/>
                  </a:lnTo>
                  <a:lnTo>
                    <a:pt x="38" y="34"/>
                  </a:lnTo>
                  <a:lnTo>
                    <a:pt x="40" y="34"/>
                  </a:lnTo>
                  <a:lnTo>
                    <a:pt x="42" y="34"/>
                  </a:lnTo>
                  <a:lnTo>
                    <a:pt x="44" y="32"/>
                  </a:lnTo>
                  <a:lnTo>
                    <a:pt x="46" y="32"/>
                  </a:lnTo>
                  <a:lnTo>
                    <a:pt x="48" y="32"/>
                  </a:lnTo>
                  <a:lnTo>
                    <a:pt x="50" y="32"/>
                  </a:lnTo>
                  <a:lnTo>
                    <a:pt x="52" y="32"/>
                  </a:lnTo>
                  <a:lnTo>
                    <a:pt x="54" y="32"/>
                  </a:lnTo>
                  <a:lnTo>
                    <a:pt x="58" y="32"/>
                  </a:lnTo>
                  <a:lnTo>
                    <a:pt x="60" y="32"/>
                  </a:lnTo>
                  <a:lnTo>
                    <a:pt x="62" y="34"/>
                  </a:lnTo>
                  <a:lnTo>
                    <a:pt x="66" y="34"/>
                  </a:lnTo>
                  <a:lnTo>
                    <a:pt x="68" y="36"/>
                  </a:lnTo>
                  <a:lnTo>
                    <a:pt x="70" y="38"/>
                  </a:lnTo>
                  <a:lnTo>
                    <a:pt x="72" y="40"/>
                  </a:lnTo>
                  <a:lnTo>
                    <a:pt x="74" y="42"/>
                  </a:lnTo>
                  <a:lnTo>
                    <a:pt x="74" y="44"/>
                  </a:lnTo>
                  <a:lnTo>
                    <a:pt x="76" y="46"/>
                  </a:lnTo>
                  <a:lnTo>
                    <a:pt x="76" y="48"/>
                  </a:lnTo>
                  <a:lnTo>
                    <a:pt x="78" y="52"/>
                  </a:lnTo>
                  <a:lnTo>
                    <a:pt x="78" y="54"/>
                  </a:lnTo>
                  <a:lnTo>
                    <a:pt x="78" y="58"/>
                  </a:lnTo>
                  <a:lnTo>
                    <a:pt x="78" y="62"/>
                  </a:lnTo>
                  <a:lnTo>
                    <a:pt x="78" y="124"/>
                  </a:lnTo>
                  <a:lnTo>
                    <a:pt x="48" y="124"/>
                  </a:lnTo>
                  <a:lnTo>
                    <a:pt x="48" y="76"/>
                  </a:lnTo>
                  <a:lnTo>
                    <a:pt x="48" y="74"/>
                  </a:lnTo>
                  <a:lnTo>
                    <a:pt x="48" y="72"/>
                  </a:lnTo>
                  <a:lnTo>
                    <a:pt x="48" y="70"/>
                  </a:lnTo>
                  <a:lnTo>
                    <a:pt x="48" y="68"/>
                  </a:lnTo>
                  <a:lnTo>
                    <a:pt x="46" y="66"/>
                  </a:lnTo>
                  <a:lnTo>
                    <a:pt x="44" y="64"/>
                  </a:lnTo>
                  <a:lnTo>
                    <a:pt x="42" y="62"/>
                  </a:lnTo>
                  <a:lnTo>
                    <a:pt x="40" y="62"/>
                  </a:lnTo>
                  <a:lnTo>
                    <a:pt x="38" y="62"/>
                  </a:lnTo>
                  <a:lnTo>
                    <a:pt x="36" y="62"/>
                  </a:lnTo>
                  <a:lnTo>
                    <a:pt x="36" y="64"/>
                  </a:lnTo>
                  <a:lnTo>
                    <a:pt x="34" y="64"/>
                  </a:lnTo>
                  <a:lnTo>
                    <a:pt x="32" y="66"/>
                  </a:lnTo>
                  <a:lnTo>
                    <a:pt x="30" y="68"/>
                  </a:lnTo>
                  <a:lnTo>
                    <a:pt x="30" y="70"/>
                  </a:lnTo>
                  <a:lnTo>
                    <a:pt x="30" y="72"/>
                  </a:lnTo>
                  <a:lnTo>
                    <a:pt x="30" y="74"/>
                  </a:lnTo>
                  <a:lnTo>
                    <a:pt x="30" y="76"/>
                  </a:lnTo>
                  <a:lnTo>
                    <a:pt x="30" y="124"/>
                  </a:lnTo>
                  <a:lnTo>
                    <a:pt x="0" y="1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02200" y="6503760"/>
              <a:ext cx="48960" cy="111600"/>
            </a:xfrm>
            <a:custGeom>
              <a:avLst/>
              <a:gdLst/>
              <a:ahLst/>
              <a:rect l="l" t="t" r="r" b="b"/>
              <a:pathLst>
                <a:path w="50" h="118">
                  <a:moveTo>
                    <a:pt x="44" y="116"/>
                  </a:moveTo>
                  <a:lnTo>
                    <a:pt x="42" y="116"/>
                  </a:lnTo>
                  <a:lnTo>
                    <a:pt x="42" y="118"/>
                  </a:lnTo>
                  <a:lnTo>
                    <a:pt x="40" y="118"/>
                  </a:lnTo>
                  <a:lnTo>
                    <a:pt x="38" y="118"/>
                  </a:lnTo>
                  <a:lnTo>
                    <a:pt x="36" y="118"/>
                  </a:lnTo>
                  <a:lnTo>
                    <a:pt x="34" y="118"/>
                  </a:lnTo>
                  <a:lnTo>
                    <a:pt x="32" y="118"/>
                  </a:lnTo>
                  <a:lnTo>
                    <a:pt x="28" y="118"/>
                  </a:lnTo>
                  <a:lnTo>
                    <a:pt x="26" y="118"/>
                  </a:lnTo>
                  <a:lnTo>
                    <a:pt x="22" y="118"/>
                  </a:lnTo>
                  <a:lnTo>
                    <a:pt x="20" y="116"/>
                  </a:lnTo>
                  <a:lnTo>
                    <a:pt x="18" y="116"/>
                  </a:lnTo>
                  <a:lnTo>
                    <a:pt x="16" y="114"/>
                  </a:lnTo>
                  <a:lnTo>
                    <a:pt x="14" y="114"/>
                  </a:lnTo>
                  <a:lnTo>
                    <a:pt x="12" y="112"/>
                  </a:lnTo>
                  <a:lnTo>
                    <a:pt x="10" y="110"/>
                  </a:lnTo>
                  <a:lnTo>
                    <a:pt x="10" y="108"/>
                  </a:lnTo>
                  <a:lnTo>
                    <a:pt x="8" y="106"/>
                  </a:lnTo>
                  <a:lnTo>
                    <a:pt x="8" y="102"/>
                  </a:lnTo>
                  <a:lnTo>
                    <a:pt x="6" y="100"/>
                  </a:lnTo>
                  <a:lnTo>
                    <a:pt x="6" y="96"/>
                  </a:lnTo>
                  <a:lnTo>
                    <a:pt x="6" y="90"/>
                  </a:lnTo>
                  <a:lnTo>
                    <a:pt x="6" y="86"/>
                  </a:lnTo>
                  <a:lnTo>
                    <a:pt x="6" y="54"/>
                  </a:lnTo>
                  <a:lnTo>
                    <a:pt x="0" y="54"/>
                  </a:lnTo>
                  <a:lnTo>
                    <a:pt x="0" y="26"/>
                  </a:lnTo>
                  <a:lnTo>
                    <a:pt x="6" y="26"/>
                  </a:lnTo>
                  <a:lnTo>
                    <a:pt x="6" y="16"/>
                  </a:lnTo>
                  <a:lnTo>
                    <a:pt x="36" y="0"/>
                  </a:lnTo>
                  <a:lnTo>
                    <a:pt x="36" y="26"/>
                  </a:lnTo>
                  <a:lnTo>
                    <a:pt x="48" y="26"/>
                  </a:lnTo>
                  <a:lnTo>
                    <a:pt x="48" y="54"/>
                  </a:lnTo>
                  <a:lnTo>
                    <a:pt x="36" y="54"/>
                  </a:lnTo>
                  <a:lnTo>
                    <a:pt x="36" y="74"/>
                  </a:lnTo>
                  <a:lnTo>
                    <a:pt x="36" y="76"/>
                  </a:lnTo>
                  <a:lnTo>
                    <a:pt x="36" y="78"/>
                  </a:lnTo>
                  <a:lnTo>
                    <a:pt x="36" y="80"/>
                  </a:lnTo>
                  <a:lnTo>
                    <a:pt x="36" y="82"/>
                  </a:lnTo>
                  <a:lnTo>
                    <a:pt x="38" y="84"/>
                  </a:lnTo>
                  <a:lnTo>
                    <a:pt x="40" y="86"/>
                  </a:lnTo>
                  <a:lnTo>
                    <a:pt x="42" y="86"/>
                  </a:lnTo>
                  <a:lnTo>
                    <a:pt x="44" y="86"/>
                  </a:lnTo>
                  <a:lnTo>
                    <a:pt x="46" y="86"/>
                  </a:lnTo>
                  <a:lnTo>
                    <a:pt x="48" y="86"/>
                  </a:lnTo>
                  <a:lnTo>
                    <a:pt x="50" y="86"/>
                  </a:lnTo>
                  <a:lnTo>
                    <a:pt x="44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712360" y="6494400"/>
              <a:ext cx="126360" cy="119160"/>
            </a:xfrm>
            <a:custGeom>
              <a:avLst/>
              <a:gdLst/>
              <a:ahLst/>
              <a:rect l="l" t="t" r="r" b="b"/>
              <a:pathLst>
                <a:path w="128" h="126">
                  <a:moveTo>
                    <a:pt x="96" y="50"/>
                  </a:moveTo>
                  <a:lnTo>
                    <a:pt x="76" y="50"/>
                  </a:lnTo>
                  <a:lnTo>
                    <a:pt x="76" y="48"/>
                  </a:lnTo>
                  <a:lnTo>
                    <a:pt x="76" y="46"/>
                  </a:lnTo>
                  <a:lnTo>
                    <a:pt x="74" y="46"/>
                  </a:lnTo>
                  <a:lnTo>
                    <a:pt x="74" y="44"/>
                  </a:lnTo>
                  <a:lnTo>
                    <a:pt x="72" y="42"/>
                  </a:lnTo>
                  <a:lnTo>
                    <a:pt x="70" y="40"/>
                  </a:lnTo>
                  <a:lnTo>
                    <a:pt x="68" y="40"/>
                  </a:lnTo>
                  <a:lnTo>
                    <a:pt x="68" y="38"/>
                  </a:lnTo>
                  <a:lnTo>
                    <a:pt x="66" y="38"/>
                  </a:lnTo>
                  <a:lnTo>
                    <a:pt x="64" y="38"/>
                  </a:lnTo>
                  <a:lnTo>
                    <a:pt x="62" y="38"/>
                  </a:lnTo>
                  <a:lnTo>
                    <a:pt x="60" y="38"/>
                  </a:lnTo>
                  <a:lnTo>
                    <a:pt x="58" y="40"/>
                  </a:lnTo>
                  <a:lnTo>
                    <a:pt x="56" y="40"/>
                  </a:lnTo>
                  <a:lnTo>
                    <a:pt x="56" y="42"/>
                  </a:lnTo>
                  <a:lnTo>
                    <a:pt x="54" y="42"/>
                  </a:lnTo>
                  <a:lnTo>
                    <a:pt x="54" y="44"/>
                  </a:lnTo>
                  <a:lnTo>
                    <a:pt x="54" y="46"/>
                  </a:lnTo>
                  <a:lnTo>
                    <a:pt x="52" y="48"/>
                  </a:lnTo>
                  <a:lnTo>
                    <a:pt x="52" y="50"/>
                  </a:lnTo>
                  <a:lnTo>
                    <a:pt x="52" y="52"/>
                  </a:lnTo>
                  <a:lnTo>
                    <a:pt x="50" y="54"/>
                  </a:lnTo>
                  <a:lnTo>
                    <a:pt x="50" y="56"/>
                  </a:lnTo>
                  <a:lnTo>
                    <a:pt x="50" y="60"/>
                  </a:lnTo>
                  <a:lnTo>
                    <a:pt x="50" y="62"/>
                  </a:lnTo>
                  <a:lnTo>
                    <a:pt x="50" y="64"/>
                  </a:lnTo>
                  <a:lnTo>
                    <a:pt x="50" y="68"/>
                  </a:lnTo>
                  <a:lnTo>
                    <a:pt x="50" y="70"/>
                  </a:lnTo>
                  <a:lnTo>
                    <a:pt x="52" y="72"/>
                  </a:lnTo>
                  <a:lnTo>
                    <a:pt x="52" y="74"/>
                  </a:lnTo>
                  <a:lnTo>
                    <a:pt x="52" y="76"/>
                  </a:lnTo>
                  <a:lnTo>
                    <a:pt x="54" y="78"/>
                  </a:lnTo>
                  <a:lnTo>
                    <a:pt x="54" y="80"/>
                  </a:lnTo>
                  <a:lnTo>
                    <a:pt x="54" y="82"/>
                  </a:lnTo>
                  <a:lnTo>
                    <a:pt x="56" y="82"/>
                  </a:lnTo>
                  <a:lnTo>
                    <a:pt x="56" y="84"/>
                  </a:lnTo>
                  <a:lnTo>
                    <a:pt x="58" y="84"/>
                  </a:lnTo>
                  <a:lnTo>
                    <a:pt x="60" y="86"/>
                  </a:lnTo>
                  <a:lnTo>
                    <a:pt x="62" y="86"/>
                  </a:lnTo>
                  <a:lnTo>
                    <a:pt x="64" y="86"/>
                  </a:lnTo>
                  <a:lnTo>
                    <a:pt x="66" y="86"/>
                  </a:lnTo>
                  <a:lnTo>
                    <a:pt x="68" y="86"/>
                  </a:lnTo>
                  <a:lnTo>
                    <a:pt x="68" y="84"/>
                  </a:lnTo>
                  <a:lnTo>
                    <a:pt x="70" y="84"/>
                  </a:lnTo>
                  <a:lnTo>
                    <a:pt x="72" y="82"/>
                  </a:lnTo>
                  <a:lnTo>
                    <a:pt x="74" y="80"/>
                  </a:lnTo>
                  <a:lnTo>
                    <a:pt x="74" y="78"/>
                  </a:lnTo>
                  <a:lnTo>
                    <a:pt x="76" y="78"/>
                  </a:lnTo>
                  <a:lnTo>
                    <a:pt x="76" y="76"/>
                  </a:lnTo>
                  <a:lnTo>
                    <a:pt x="76" y="74"/>
                  </a:lnTo>
                  <a:lnTo>
                    <a:pt x="96" y="74"/>
                  </a:lnTo>
                  <a:lnTo>
                    <a:pt x="96" y="76"/>
                  </a:lnTo>
                  <a:lnTo>
                    <a:pt x="96" y="80"/>
                  </a:lnTo>
                  <a:lnTo>
                    <a:pt x="94" y="82"/>
                  </a:lnTo>
                  <a:lnTo>
                    <a:pt x="94" y="84"/>
                  </a:lnTo>
                  <a:lnTo>
                    <a:pt x="92" y="86"/>
                  </a:lnTo>
                  <a:lnTo>
                    <a:pt x="90" y="88"/>
                  </a:lnTo>
                  <a:lnTo>
                    <a:pt x="88" y="90"/>
                  </a:lnTo>
                  <a:lnTo>
                    <a:pt x="86" y="92"/>
                  </a:lnTo>
                  <a:lnTo>
                    <a:pt x="84" y="94"/>
                  </a:lnTo>
                  <a:lnTo>
                    <a:pt x="82" y="96"/>
                  </a:lnTo>
                  <a:lnTo>
                    <a:pt x="80" y="98"/>
                  </a:lnTo>
                  <a:lnTo>
                    <a:pt x="78" y="98"/>
                  </a:lnTo>
                  <a:lnTo>
                    <a:pt x="74" y="100"/>
                  </a:lnTo>
                  <a:lnTo>
                    <a:pt x="72" y="100"/>
                  </a:lnTo>
                  <a:lnTo>
                    <a:pt x="68" y="100"/>
                  </a:lnTo>
                  <a:lnTo>
                    <a:pt x="64" y="100"/>
                  </a:lnTo>
                  <a:lnTo>
                    <a:pt x="60" y="100"/>
                  </a:lnTo>
                  <a:lnTo>
                    <a:pt x="56" y="100"/>
                  </a:lnTo>
                  <a:lnTo>
                    <a:pt x="54" y="98"/>
                  </a:lnTo>
                  <a:lnTo>
                    <a:pt x="50" y="98"/>
                  </a:lnTo>
                  <a:lnTo>
                    <a:pt x="48" y="96"/>
                  </a:lnTo>
                  <a:lnTo>
                    <a:pt x="44" y="94"/>
                  </a:lnTo>
                  <a:lnTo>
                    <a:pt x="42" y="92"/>
                  </a:lnTo>
                  <a:lnTo>
                    <a:pt x="40" y="90"/>
                  </a:lnTo>
                  <a:lnTo>
                    <a:pt x="38" y="88"/>
                  </a:lnTo>
                  <a:lnTo>
                    <a:pt x="36" y="84"/>
                  </a:lnTo>
                  <a:lnTo>
                    <a:pt x="34" y="82"/>
                  </a:lnTo>
                  <a:lnTo>
                    <a:pt x="32" y="78"/>
                  </a:lnTo>
                  <a:lnTo>
                    <a:pt x="32" y="74"/>
                  </a:lnTo>
                  <a:lnTo>
                    <a:pt x="30" y="70"/>
                  </a:lnTo>
                  <a:lnTo>
                    <a:pt x="30" y="66"/>
                  </a:lnTo>
                  <a:lnTo>
                    <a:pt x="30" y="62"/>
                  </a:lnTo>
                  <a:lnTo>
                    <a:pt x="30" y="58"/>
                  </a:lnTo>
                  <a:lnTo>
                    <a:pt x="30" y="54"/>
                  </a:lnTo>
                  <a:lnTo>
                    <a:pt x="32" y="50"/>
                  </a:lnTo>
                  <a:lnTo>
                    <a:pt x="32" y="46"/>
                  </a:lnTo>
                  <a:lnTo>
                    <a:pt x="34" y="44"/>
                  </a:lnTo>
                  <a:lnTo>
                    <a:pt x="36" y="40"/>
                  </a:lnTo>
                  <a:lnTo>
                    <a:pt x="38" y="38"/>
                  </a:lnTo>
                  <a:lnTo>
                    <a:pt x="40" y="34"/>
                  </a:lnTo>
                  <a:lnTo>
                    <a:pt x="42" y="32"/>
                  </a:lnTo>
                  <a:lnTo>
                    <a:pt x="44" y="30"/>
                  </a:lnTo>
                  <a:lnTo>
                    <a:pt x="48" y="28"/>
                  </a:lnTo>
                  <a:lnTo>
                    <a:pt x="50" y="26"/>
                  </a:lnTo>
                  <a:lnTo>
                    <a:pt x="54" y="26"/>
                  </a:lnTo>
                  <a:lnTo>
                    <a:pt x="56" y="24"/>
                  </a:lnTo>
                  <a:lnTo>
                    <a:pt x="60" y="24"/>
                  </a:lnTo>
                  <a:lnTo>
                    <a:pt x="64" y="24"/>
                  </a:lnTo>
                  <a:lnTo>
                    <a:pt x="68" y="24"/>
                  </a:lnTo>
                  <a:lnTo>
                    <a:pt x="70" y="24"/>
                  </a:lnTo>
                  <a:lnTo>
                    <a:pt x="74" y="24"/>
                  </a:lnTo>
                  <a:lnTo>
                    <a:pt x="76" y="26"/>
                  </a:lnTo>
                  <a:lnTo>
                    <a:pt x="80" y="26"/>
                  </a:lnTo>
                  <a:lnTo>
                    <a:pt x="82" y="28"/>
                  </a:lnTo>
                  <a:lnTo>
                    <a:pt x="84" y="30"/>
                  </a:lnTo>
                  <a:lnTo>
                    <a:pt x="86" y="32"/>
                  </a:lnTo>
                  <a:lnTo>
                    <a:pt x="88" y="34"/>
                  </a:lnTo>
                  <a:lnTo>
                    <a:pt x="90" y="36"/>
                  </a:lnTo>
                  <a:lnTo>
                    <a:pt x="92" y="38"/>
                  </a:lnTo>
                  <a:lnTo>
                    <a:pt x="92" y="40"/>
                  </a:lnTo>
                  <a:lnTo>
                    <a:pt x="94" y="42"/>
                  </a:lnTo>
                  <a:lnTo>
                    <a:pt x="94" y="44"/>
                  </a:lnTo>
                  <a:lnTo>
                    <a:pt x="96" y="48"/>
                  </a:lnTo>
                  <a:lnTo>
                    <a:pt x="96" y="50"/>
                  </a:lnTo>
                  <a:close/>
                  <a:moveTo>
                    <a:pt x="64" y="12"/>
                  </a:moveTo>
                  <a:lnTo>
                    <a:pt x="62" y="12"/>
                  </a:lnTo>
                  <a:lnTo>
                    <a:pt x="58" y="12"/>
                  </a:lnTo>
                  <a:lnTo>
                    <a:pt x="56" y="12"/>
                  </a:lnTo>
                  <a:lnTo>
                    <a:pt x="54" y="12"/>
                  </a:lnTo>
                  <a:lnTo>
                    <a:pt x="50" y="14"/>
                  </a:lnTo>
                  <a:lnTo>
                    <a:pt x="48" y="14"/>
                  </a:lnTo>
                  <a:lnTo>
                    <a:pt x="46" y="14"/>
                  </a:lnTo>
                  <a:lnTo>
                    <a:pt x="44" y="14"/>
                  </a:lnTo>
                  <a:lnTo>
                    <a:pt x="42" y="14"/>
                  </a:lnTo>
                  <a:lnTo>
                    <a:pt x="40" y="16"/>
                  </a:lnTo>
                  <a:lnTo>
                    <a:pt x="38" y="18"/>
                  </a:lnTo>
                  <a:lnTo>
                    <a:pt x="36" y="18"/>
                  </a:lnTo>
                  <a:lnTo>
                    <a:pt x="34" y="20"/>
                  </a:lnTo>
                  <a:lnTo>
                    <a:pt x="32" y="22"/>
                  </a:lnTo>
                  <a:lnTo>
                    <a:pt x="30" y="24"/>
                  </a:lnTo>
                  <a:lnTo>
                    <a:pt x="28" y="26"/>
                  </a:lnTo>
                  <a:lnTo>
                    <a:pt x="26" y="28"/>
                  </a:lnTo>
                  <a:lnTo>
                    <a:pt x="24" y="30"/>
                  </a:lnTo>
                  <a:lnTo>
                    <a:pt x="22" y="32"/>
                  </a:lnTo>
                  <a:lnTo>
                    <a:pt x="20" y="34"/>
                  </a:lnTo>
                  <a:lnTo>
                    <a:pt x="20" y="36"/>
                  </a:lnTo>
                  <a:lnTo>
                    <a:pt x="18" y="38"/>
                  </a:lnTo>
                  <a:lnTo>
                    <a:pt x="16" y="40"/>
                  </a:lnTo>
                  <a:lnTo>
                    <a:pt x="16" y="42"/>
                  </a:lnTo>
                  <a:lnTo>
                    <a:pt x="16" y="44"/>
                  </a:lnTo>
                  <a:lnTo>
                    <a:pt x="14" y="46"/>
                  </a:lnTo>
                  <a:lnTo>
                    <a:pt x="14" y="50"/>
                  </a:lnTo>
                  <a:lnTo>
                    <a:pt x="14" y="52"/>
                  </a:lnTo>
                  <a:lnTo>
                    <a:pt x="12" y="54"/>
                  </a:lnTo>
                  <a:lnTo>
                    <a:pt x="12" y="58"/>
                  </a:lnTo>
                  <a:lnTo>
                    <a:pt x="12" y="60"/>
                  </a:lnTo>
                  <a:lnTo>
                    <a:pt x="12" y="62"/>
                  </a:lnTo>
                  <a:lnTo>
                    <a:pt x="12" y="64"/>
                  </a:lnTo>
                  <a:lnTo>
                    <a:pt x="12" y="66"/>
                  </a:lnTo>
                  <a:lnTo>
                    <a:pt x="12" y="70"/>
                  </a:lnTo>
                  <a:lnTo>
                    <a:pt x="14" y="72"/>
                  </a:lnTo>
                  <a:lnTo>
                    <a:pt x="14" y="74"/>
                  </a:lnTo>
                  <a:lnTo>
                    <a:pt x="14" y="78"/>
                  </a:lnTo>
                  <a:lnTo>
                    <a:pt x="16" y="80"/>
                  </a:lnTo>
                  <a:lnTo>
                    <a:pt x="16" y="82"/>
                  </a:lnTo>
                  <a:lnTo>
                    <a:pt x="16" y="84"/>
                  </a:lnTo>
                  <a:lnTo>
                    <a:pt x="18" y="86"/>
                  </a:lnTo>
                  <a:lnTo>
                    <a:pt x="20" y="88"/>
                  </a:lnTo>
                  <a:lnTo>
                    <a:pt x="20" y="90"/>
                  </a:lnTo>
                  <a:lnTo>
                    <a:pt x="22" y="92"/>
                  </a:lnTo>
                  <a:lnTo>
                    <a:pt x="24" y="94"/>
                  </a:lnTo>
                  <a:lnTo>
                    <a:pt x="26" y="96"/>
                  </a:lnTo>
                  <a:lnTo>
                    <a:pt x="28" y="98"/>
                  </a:lnTo>
                  <a:lnTo>
                    <a:pt x="30" y="100"/>
                  </a:lnTo>
                  <a:lnTo>
                    <a:pt x="32" y="102"/>
                  </a:lnTo>
                  <a:lnTo>
                    <a:pt x="34" y="104"/>
                  </a:lnTo>
                  <a:lnTo>
                    <a:pt x="36" y="106"/>
                  </a:lnTo>
                  <a:lnTo>
                    <a:pt x="38" y="106"/>
                  </a:lnTo>
                  <a:lnTo>
                    <a:pt x="40" y="108"/>
                  </a:lnTo>
                  <a:lnTo>
                    <a:pt x="42" y="110"/>
                  </a:lnTo>
                  <a:lnTo>
                    <a:pt x="44" y="110"/>
                  </a:lnTo>
                  <a:lnTo>
                    <a:pt x="46" y="110"/>
                  </a:lnTo>
                  <a:lnTo>
                    <a:pt x="48" y="112"/>
                  </a:lnTo>
                  <a:lnTo>
                    <a:pt x="52" y="112"/>
                  </a:lnTo>
                  <a:lnTo>
                    <a:pt x="54" y="112"/>
                  </a:lnTo>
                  <a:lnTo>
                    <a:pt x="56" y="114"/>
                  </a:lnTo>
                  <a:lnTo>
                    <a:pt x="60" y="114"/>
                  </a:lnTo>
                  <a:lnTo>
                    <a:pt x="62" y="114"/>
                  </a:lnTo>
                  <a:lnTo>
                    <a:pt x="64" y="114"/>
                  </a:lnTo>
                  <a:lnTo>
                    <a:pt x="66" y="114"/>
                  </a:lnTo>
                  <a:lnTo>
                    <a:pt x="68" y="114"/>
                  </a:lnTo>
                  <a:lnTo>
                    <a:pt x="72" y="114"/>
                  </a:lnTo>
                  <a:lnTo>
                    <a:pt x="74" y="112"/>
                  </a:lnTo>
                  <a:lnTo>
                    <a:pt x="76" y="112"/>
                  </a:lnTo>
                  <a:lnTo>
                    <a:pt x="80" y="112"/>
                  </a:lnTo>
                  <a:lnTo>
                    <a:pt x="82" y="110"/>
                  </a:lnTo>
                  <a:lnTo>
                    <a:pt x="84" y="110"/>
                  </a:lnTo>
                  <a:lnTo>
                    <a:pt x="86" y="110"/>
                  </a:lnTo>
                  <a:lnTo>
                    <a:pt x="88" y="108"/>
                  </a:lnTo>
                  <a:lnTo>
                    <a:pt x="90" y="106"/>
                  </a:lnTo>
                  <a:lnTo>
                    <a:pt x="94" y="106"/>
                  </a:lnTo>
                  <a:lnTo>
                    <a:pt x="96" y="104"/>
                  </a:lnTo>
                  <a:lnTo>
                    <a:pt x="98" y="102"/>
                  </a:lnTo>
                  <a:lnTo>
                    <a:pt x="100" y="100"/>
                  </a:lnTo>
                  <a:lnTo>
                    <a:pt x="102" y="98"/>
                  </a:lnTo>
                  <a:lnTo>
                    <a:pt x="104" y="96"/>
                  </a:lnTo>
                  <a:lnTo>
                    <a:pt x="104" y="94"/>
                  </a:lnTo>
                  <a:lnTo>
                    <a:pt x="106" y="92"/>
                  </a:lnTo>
                  <a:lnTo>
                    <a:pt x="108" y="90"/>
                  </a:lnTo>
                  <a:lnTo>
                    <a:pt x="110" y="88"/>
                  </a:lnTo>
                  <a:lnTo>
                    <a:pt x="110" y="86"/>
                  </a:lnTo>
                  <a:lnTo>
                    <a:pt x="112" y="84"/>
                  </a:lnTo>
                  <a:lnTo>
                    <a:pt x="112" y="82"/>
                  </a:lnTo>
                  <a:lnTo>
                    <a:pt x="112" y="80"/>
                  </a:lnTo>
                  <a:lnTo>
                    <a:pt x="114" y="78"/>
                  </a:lnTo>
                  <a:lnTo>
                    <a:pt x="114" y="76"/>
                  </a:lnTo>
                  <a:lnTo>
                    <a:pt x="114" y="72"/>
                  </a:lnTo>
                  <a:lnTo>
                    <a:pt x="116" y="70"/>
                  </a:lnTo>
                  <a:lnTo>
                    <a:pt x="116" y="68"/>
                  </a:lnTo>
                  <a:lnTo>
                    <a:pt x="116" y="64"/>
                  </a:lnTo>
                  <a:lnTo>
                    <a:pt x="116" y="62"/>
                  </a:lnTo>
                  <a:lnTo>
                    <a:pt x="116" y="60"/>
                  </a:lnTo>
                  <a:lnTo>
                    <a:pt x="116" y="58"/>
                  </a:lnTo>
                  <a:lnTo>
                    <a:pt x="116" y="54"/>
                  </a:lnTo>
                  <a:lnTo>
                    <a:pt x="114" y="52"/>
                  </a:lnTo>
                  <a:lnTo>
                    <a:pt x="114" y="50"/>
                  </a:lnTo>
                  <a:lnTo>
                    <a:pt x="114" y="46"/>
                  </a:lnTo>
                  <a:lnTo>
                    <a:pt x="112" y="44"/>
                  </a:lnTo>
                  <a:lnTo>
                    <a:pt x="112" y="42"/>
                  </a:lnTo>
                  <a:lnTo>
                    <a:pt x="112" y="40"/>
                  </a:lnTo>
                  <a:lnTo>
                    <a:pt x="110" y="38"/>
                  </a:lnTo>
                  <a:lnTo>
                    <a:pt x="110" y="36"/>
                  </a:lnTo>
                  <a:lnTo>
                    <a:pt x="108" y="34"/>
                  </a:lnTo>
                  <a:lnTo>
                    <a:pt x="106" y="32"/>
                  </a:lnTo>
                  <a:lnTo>
                    <a:pt x="104" y="30"/>
                  </a:lnTo>
                  <a:lnTo>
                    <a:pt x="104" y="28"/>
                  </a:lnTo>
                  <a:lnTo>
                    <a:pt x="102" y="26"/>
                  </a:lnTo>
                  <a:lnTo>
                    <a:pt x="100" y="24"/>
                  </a:lnTo>
                  <a:lnTo>
                    <a:pt x="98" y="22"/>
                  </a:lnTo>
                  <a:lnTo>
                    <a:pt x="96" y="20"/>
                  </a:lnTo>
                  <a:lnTo>
                    <a:pt x="94" y="18"/>
                  </a:lnTo>
                  <a:lnTo>
                    <a:pt x="90" y="18"/>
                  </a:lnTo>
                  <a:lnTo>
                    <a:pt x="88" y="16"/>
                  </a:lnTo>
                  <a:lnTo>
                    <a:pt x="86" y="14"/>
                  </a:lnTo>
                  <a:lnTo>
                    <a:pt x="84" y="14"/>
                  </a:lnTo>
                  <a:lnTo>
                    <a:pt x="82" y="14"/>
                  </a:lnTo>
                  <a:lnTo>
                    <a:pt x="80" y="14"/>
                  </a:lnTo>
                  <a:lnTo>
                    <a:pt x="78" y="14"/>
                  </a:lnTo>
                  <a:lnTo>
                    <a:pt x="74" y="12"/>
                  </a:lnTo>
                  <a:lnTo>
                    <a:pt x="72" y="12"/>
                  </a:lnTo>
                  <a:lnTo>
                    <a:pt x="70" y="12"/>
                  </a:lnTo>
                  <a:lnTo>
                    <a:pt x="66" y="12"/>
                  </a:lnTo>
                  <a:lnTo>
                    <a:pt x="64" y="12"/>
                  </a:lnTo>
                  <a:close/>
                  <a:moveTo>
                    <a:pt x="64" y="0"/>
                  </a:moveTo>
                  <a:lnTo>
                    <a:pt x="68" y="0"/>
                  </a:lnTo>
                  <a:lnTo>
                    <a:pt x="70" y="0"/>
                  </a:lnTo>
                  <a:lnTo>
                    <a:pt x="74" y="0"/>
                  </a:lnTo>
                  <a:lnTo>
                    <a:pt x="76" y="2"/>
                  </a:lnTo>
                  <a:lnTo>
                    <a:pt x="80" y="2"/>
                  </a:lnTo>
                  <a:lnTo>
                    <a:pt x="82" y="2"/>
                  </a:lnTo>
                  <a:lnTo>
                    <a:pt x="86" y="4"/>
                  </a:lnTo>
                  <a:lnTo>
                    <a:pt x="88" y="4"/>
                  </a:lnTo>
                  <a:lnTo>
                    <a:pt x="90" y="6"/>
                  </a:lnTo>
                  <a:lnTo>
                    <a:pt x="94" y="6"/>
                  </a:lnTo>
                  <a:lnTo>
                    <a:pt x="96" y="8"/>
                  </a:lnTo>
                  <a:lnTo>
                    <a:pt x="100" y="10"/>
                  </a:lnTo>
                  <a:lnTo>
                    <a:pt x="102" y="12"/>
                  </a:lnTo>
                  <a:lnTo>
                    <a:pt x="106" y="12"/>
                  </a:lnTo>
                  <a:lnTo>
                    <a:pt x="108" y="14"/>
                  </a:lnTo>
                  <a:lnTo>
                    <a:pt x="110" y="16"/>
                  </a:lnTo>
                  <a:lnTo>
                    <a:pt x="112" y="18"/>
                  </a:lnTo>
                  <a:lnTo>
                    <a:pt x="114" y="20"/>
                  </a:lnTo>
                  <a:lnTo>
                    <a:pt x="116" y="24"/>
                  </a:lnTo>
                  <a:lnTo>
                    <a:pt x="118" y="26"/>
                  </a:lnTo>
                  <a:lnTo>
                    <a:pt x="120" y="30"/>
                  </a:lnTo>
                  <a:lnTo>
                    <a:pt x="120" y="32"/>
                  </a:lnTo>
                  <a:lnTo>
                    <a:pt x="122" y="36"/>
                  </a:lnTo>
                  <a:lnTo>
                    <a:pt x="124" y="38"/>
                  </a:lnTo>
                  <a:lnTo>
                    <a:pt x="124" y="40"/>
                  </a:lnTo>
                  <a:lnTo>
                    <a:pt x="126" y="44"/>
                  </a:lnTo>
                  <a:lnTo>
                    <a:pt x="126" y="46"/>
                  </a:lnTo>
                  <a:lnTo>
                    <a:pt x="126" y="50"/>
                  </a:lnTo>
                  <a:lnTo>
                    <a:pt x="128" y="52"/>
                  </a:lnTo>
                  <a:lnTo>
                    <a:pt x="128" y="56"/>
                  </a:lnTo>
                  <a:lnTo>
                    <a:pt x="128" y="58"/>
                  </a:lnTo>
                  <a:lnTo>
                    <a:pt x="128" y="62"/>
                  </a:lnTo>
                  <a:lnTo>
                    <a:pt x="128" y="64"/>
                  </a:lnTo>
                  <a:lnTo>
                    <a:pt x="128" y="68"/>
                  </a:lnTo>
                  <a:lnTo>
                    <a:pt x="128" y="70"/>
                  </a:lnTo>
                  <a:lnTo>
                    <a:pt x="126" y="74"/>
                  </a:lnTo>
                  <a:lnTo>
                    <a:pt x="126" y="76"/>
                  </a:lnTo>
                  <a:lnTo>
                    <a:pt x="126" y="80"/>
                  </a:lnTo>
                  <a:lnTo>
                    <a:pt x="124" y="82"/>
                  </a:lnTo>
                  <a:lnTo>
                    <a:pt x="124" y="86"/>
                  </a:lnTo>
                  <a:lnTo>
                    <a:pt x="122" y="88"/>
                  </a:lnTo>
                  <a:lnTo>
                    <a:pt x="120" y="92"/>
                  </a:lnTo>
                  <a:lnTo>
                    <a:pt x="120" y="94"/>
                  </a:lnTo>
                  <a:lnTo>
                    <a:pt x="118" y="98"/>
                  </a:lnTo>
                  <a:lnTo>
                    <a:pt x="116" y="100"/>
                  </a:lnTo>
                  <a:lnTo>
                    <a:pt x="114" y="102"/>
                  </a:lnTo>
                  <a:lnTo>
                    <a:pt x="112" y="104"/>
                  </a:lnTo>
                  <a:lnTo>
                    <a:pt x="110" y="106"/>
                  </a:lnTo>
                  <a:lnTo>
                    <a:pt x="108" y="108"/>
                  </a:lnTo>
                  <a:lnTo>
                    <a:pt x="106" y="112"/>
                  </a:lnTo>
                  <a:lnTo>
                    <a:pt x="102" y="114"/>
                  </a:lnTo>
                  <a:lnTo>
                    <a:pt x="100" y="116"/>
                  </a:lnTo>
                  <a:lnTo>
                    <a:pt x="96" y="118"/>
                  </a:lnTo>
                  <a:lnTo>
                    <a:pt x="94" y="118"/>
                  </a:lnTo>
                  <a:lnTo>
                    <a:pt x="90" y="120"/>
                  </a:lnTo>
                  <a:lnTo>
                    <a:pt x="88" y="122"/>
                  </a:lnTo>
                  <a:lnTo>
                    <a:pt x="86" y="122"/>
                  </a:lnTo>
                  <a:lnTo>
                    <a:pt x="82" y="124"/>
                  </a:lnTo>
                  <a:lnTo>
                    <a:pt x="80" y="124"/>
                  </a:lnTo>
                  <a:lnTo>
                    <a:pt x="76" y="124"/>
                  </a:lnTo>
                  <a:lnTo>
                    <a:pt x="74" y="126"/>
                  </a:lnTo>
                  <a:lnTo>
                    <a:pt x="70" y="126"/>
                  </a:lnTo>
                  <a:lnTo>
                    <a:pt x="68" y="126"/>
                  </a:lnTo>
                  <a:lnTo>
                    <a:pt x="64" y="126"/>
                  </a:lnTo>
                  <a:lnTo>
                    <a:pt x="62" y="126"/>
                  </a:lnTo>
                  <a:lnTo>
                    <a:pt x="58" y="126"/>
                  </a:lnTo>
                  <a:lnTo>
                    <a:pt x="56" y="126"/>
                  </a:lnTo>
                  <a:lnTo>
                    <a:pt x="52" y="124"/>
                  </a:lnTo>
                  <a:lnTo>
                    <a:pt x="50" y="124"/>
                  </a:lnTo>
                  <a:lnTo>
                    <a:pt x="46" y="124"/>
                  </a:lnTo>
                  <a:lnTo>
                    <a:pt x="44" y="122"/>
                  </a:lnTo>
                  <a:lnTo>
                    <a:pt x="40" y="122"/>
                  </a:lnTo>
                  <a:lnTo>
                    <a:pt x="38" y="120"/>
                  </a:lnTo>
                  <a:lnTo>
                    <a:pt x="34" y="118"/>
                  </a:lnTo>
                  <a:lnTo>
                    <a:pt x="32" y="118"/>
                  </a:lnTo>
                  <a:lnTo>
                    <a:pt x="28" y="116"/>
                  </a:lnTo>
                  <a:lnTo>
                    <a:pt x="26" y="114"/>
                  </a:lnTo>
                  <a:lnTo>
                    <a:pt x="22" y="112"/>
                  </a:lnTo>
                  <a:lnTo>
                    <a:pt x="20" y="110"/>
                  </a:lnTo>
                  <a:lnTo>
                    <a:pt x="18" y="108"/>
                  </a:lnTo>
                  <a:lnTo>
                    <a:pt x="16" y="106"/>
                  </a:lnTo>
                  <a:lnTo>
                    <a:pt x="14" y="102"/>
                  </a:lnTo>
                  <a:lnTo>
                    <a:pt x="12" y="100"/>
                  </a:lnTo>
                  <a:lnTo>
                    <a:pt x="10" y="96"/>
                  </a:lnTo>
                  <a:lnTo>
                    <a:pt x="8" y="94"/>
                  </a:lnTo>
                  <a:lnTo>
                    <a:pt x="8" y="92"/>
                  </a:lnTo>
                  <a:lnTo>
                    <a:pt x="6" y="88"/>
                  </a:lnTo>
                  <a:lnTo>
                    <a:pt x="4" y="86"/>
                  </a:lnTo>
                  <a:lnTo>
                    <a:pt x="4" y="82"/>
                  </a:lnTo>
                  <a:lnTo>
                    <a:pt x="2" y="80"/>
                  </a:lnTo>
                  <a:lnTo>
                    <a:pt x="2" y="76"/>
                  </a:lnTo>
                  <a:lnTo>
                    <a:pt x="2" y="74"/>
                  </a:lnTo>
                  <a:lnTo>
                    <a:pt x="0" y="70"/>
                  </a:lnTo>
                  <a:lnTo>
                    <a:pt x="0" y="68"/>
                  </a:lnTo>
                  <a:lnTo>
                    <a:pt x="0" y="64"/>
                  </a:lnTo>
                  <a:lnTo>
                    <a:pt x="0" y="62"/>
                  </a:lnTo>
                  <a:lnTo>
                    <a:pt x="0" y="58"/>
                  </a:lnTo>
                  <a:lnTo>
                    <a:pt x="0" y="56"/>
                  </a:lnTo>
                  <a:lnTo>
                    <a:pt x="0" y="52"/>
                  </a:lnTo>
                  <a:lnTo>
                    <a:pt x="2" y="50"/>
                  </a:lnTo>
                  <a:lnTo>
                    <a:pt x="2" y="46"/>
                  </a:lnTo>
                  <a:lnTo>
                    <a:pt x="2" y="44"/>
                  </a:lnTo>
                  <a:lnTo>
                    <a:pt x="4" y="40"/>
                  </a:lnTo>
                  <a:lnTo>
                    <a:pt x="4" y="38"/>
                  </a:lnTo>
                  <a:lnTo>
                    <a:pt x="6" y="36"/>
                  </a:lnTo>
                  <a:lnTo>
                    <a:pt x="8" y="32"/>
                  </a:lnTo>
                  <a:lnTo>
                    <a:pt x="8" y="30"/>
                  </a:lnTo>
                  <a:lnTo>
                    <a:pt x="10" y="26"/>
                  </a:lnTo>
                  <a:lnTo>
                    <a:pt x="12" y="24"/>
                  </a:lnTo>
                  <a:lnTo>
                    <a:pt x="14" y="20"/>
                  </a:lnTo>
                  <a:lnTo>
                    <a:pt x="18" y="18"/>
                  </a:lnTo>
                  <a:lnTo>
                    <a:pt x="20" y="16"/>
                  </a:lnTo>
                  <a:lnTo>
                    <a:pt x="22" y="14"/>
                  </a:lnTo>
                  <a:lnTo>
                    <a:pt x="24" y="12"/>
                  </a:lnTo>
                  <a:lnTo>
                    <a:pt x="26" y="12"/>
                  </a:lnTo>
                  <a:lnTo>
                    <a:pt x="30" y="10"/>
                  </a:lnTo>
                  <a:lnTo>
                    <a:pt x="32" y="8"/>
                  </a:lnTo>
                  <a:lnTo>
                    <a:pt x="34" y="6"/>
                  </a:lnTo>
                  <a:lnTo>
                    <a:pt x="38" y="6"/>
                  </a:lnTo>
                  <a:lnTo>
                    <a:pt x="40" y="4"/>
                  </a:lnTo>
                  <a:lnTo>
                    <a:pt x="44" y="4"/>
                  </a:lnTo>
                  <a:lnTo>
                    <a:pt x="46" y="2"/>
                  </a:lnTo>
                  <a:lnTo>
                    <a:pt x="50" y="2"/>
                  </a:lnTo>
                  <a:lnTo>
                    <a:pt x="52" y="2"/>
                  </a:lnTo>
                  <a:lnTo>
                    <a:pt x="56" y="0"/>
                  </a:lnTo>
                  <a:lnTo>
                    <a:pt x="58" y="0"/>
                  </a:lnTo>
                  <a:lnTo>
                    <a:pt x="62" y="0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8" name=""/>
          <p:cNvGraphicFramePr/>
          <p:nvPr/>
        </p:nvGraphicFramePr>
        <p:xfrm>
          <a:off x="250920" y="5373720"/>
          <a:ext cx="1054080" cy="1209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0920" y="5373720"/>
                    <a:ext cx="1054080" cy="12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1979640" y="907920"/>
          <a:ext cx="5040360" cy="4896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79640" y="907920"/>
                    <a:ext cx="5040360" cy="489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"/>
          <p:cNvGrpSpPr/>
          <p:nvPr/>
        </p:nvGrpSpPr>
        <p:grpSpPr>
          <a:xfrm>
            <a:off x="1065240" y="990720"/>
            <a:ext cx="7012080" cy="1501200"/>
            <a:chOff x="1065240" y="990720"/>
            <a:chExt cx="7012080" cy="1501200"/>
          </a:xfrm>
        </p:grpSpPr>
        <p:sp>
          <p:nvSpPr>
            <p:cNvPr id="59" name=""/>
            <p:cNvSpPr/>
            <p:nvPr/>
          </p:nvSpPr>
          <p:spPr>
            <a:xfrm>
              <a:off x="1596960" y="2298600"/>
              <a:ext cx="163440" cy="183600"/>
            </a:xfrm>
            <a:custGeom>
              <a:avLst/>
              <a:gdLst/>
              <a:ahLst/>
              <a:rect l="l" t="t" r="r" b="b"/>
              <a:pathLst>
                <a:path w="413" h="465">
                  <a:moveTo>
                    <a:pt x="100" y="394"/>
                  </a:moveTo>
                  <a:lnTo>
                    <a:pt x="100" y="443"/>
                  </a:lnTo>
                  <a:lnTo>
                    <a:pt x="100" y="448"/>
                  </a:lnTo>
                  <a:lnTo>
                    <a:pt x="99" y="452"/>
                  </a:lnTo>
                  <a:lnTo>
                    <a:pt x="97" y="456"/>
                  </a:lnTo>
                  <a:lnTo>
                    <a:pt x="95" y="459"/>
                  </a:lnTo>
                  <a:lnTo>
                    <a:pt x="91" y="461"/>
                  </a:lnTo>
                  <a:lnTo>
                    <a:pt x="88" y="462"/>
                  </a:lnTo>
                  <a:lnTo>
                    <a:pt x="84" y="464"/>
                  </a:lnTo>
                  <a:lnTo>
                    <a:pt x="79" y="465"/>
                  </a:lnTo>
                  <a:lnTo>
                    <a:pt x="78" y="465"/>
                  </a:lnTo>
                  <a:lnTo>
                    <a:pt x="76" y="464"/>
                  </a:lnTo>
                  <a:lnTo>
                    <a:pt x="74" y="464"/>
                  </a:lnTo>
                  <a:lnTo>
                    <a:pt x="71" y="464"/>
                  </a:lnTo>
                  <a:lnTo>
                    <a:pt x="69" y="462"/>
                  </a:lnTo>
                  <a:lnTo>
                    <a:pt x="66" y="462"/>
                  </a:lnTo>
                  <a:lnTo>
                    <a:pt x="63" y="461"/>
                  </a:lnTo>
                  <a:lnTo>
                    <a:pt x="58" y="461"/>
                  </a:lnTo>
                  <a:lnTo>
                    <a:pt x="54" y="460"/>
                  </a:lnTo>
                  <a:lnTo>
                    <a:pt x="49" y="459"/>
                  </a:lnTo>
                  <a:lnTo>
                    <a:pt x="45" y="459"/>
                  </a:lnTo>
                  <a:lnTo>
                    <a:pt x="42" y="458"/>
                  </a:lnTo>
                  <a:lnTo>
                    <a:pt x="37" y="457"/>
                  </a:lnTo>
                  <a:lnTo>
                    <a:pt x="33" y="456"/>
                  </a:lnTo>
                  <a:lnTo>
                    <a:pt x="30" y="456"/>
                  </a:lnTo>
                  <a:lnTo>
                    <a:pt x="25" y="455"/>
                  </a:lnTo>
                  <a:lnTo>
                    <a:pt x="22" y="454"/>
                  </a:lnTo>
                  <a:lnTo>
                    <a:pt x="19" y="452"/>
                  </a:lnTo>
                  <a:lnTo>
                    <a:pt x="15" y="451"/>
                  </a:lnTo>
                  <a:lnTo>
                    <a:pt x="12" y="450"/>
                  </a:lnTo>
                  <a:lnTo>
                    <a:pt x="10" y="449"/>
                  </a:lnTo>
                  <a:lnTo>
                    <a:pt x="7" y="448"/>
                  </a:lnTo>
                  <a:lnTo>
                    <a:pt x="6" y="447"/>
                  </a:lnTo>
                  <a:lnTo>
                    <a:pt x="4" y="445"/>
                  </a:lnTo>
                  <a:lnTo>
                    <a:pt x="3" y="443"/>
                  </a:lnTo>
                  <a:lnTo>
                    <a:pt x="2" y="440"/>
                  </a:lnTo>
                  <a:lnTo>
                    <a:pt x="1" y="436"/>
                  </a:lnTo>
                  <a:lnTo>
                    <a:pt x="1" y="432"/>
                  </a:lnTo>
                  <a:lnTo>
                    <a:pt x="0" y="427"/>
                  </a:lnTo>
                  <a:lnTo>
                    <a:pt x="0" y="422"/>
                  </a:lnTo>
                  <a:lnTo>
                    <a:pt x="0" y="415"/>
                  </a:lnTo>
                  <a:lnTo>
                    <a:pt x="0" y="407"/>
                  </a:lnTo>
                  <a:lnTo>
                    <a:pt x="0" y="225"/>
                  </a:lnTo>
                  <a:lnTo>
                    <a:pt x="0" y="110"/>
                  </a:lnTo>
                  <a:lnTo>
                    <a:pt x="0" y="99"/>
                  </a:lnTo>
                  <a:lnTo>
                    <a:pt x="0" y="88"/>
                  </a:lnTo>
                  <a:lnTo>
                    <a:pt x="0" y="79"/>
                  </a:lnTo>
                  <a:lnTo>
                    <a:pt x="0" y="71"/>
                  </a:lnTo>
                  <a:lnTo>
                    <a:pt x="0" y="63"/>
                  </a:lnTo>
                  <a:lnTo>
                    <a:pt x="1" y="56"/>
                  </a:lnTo>
                  <a:lnTo>
                    <a:pt x="1" y="51"/>
                  </a:lnTo>
                  <a:lnTo>
                    <a:pt x="1" y="45"/>
                  </a:lnTo>
                  <a:lnTo>
                    <a:pt x="2" y="41"/>
                  </a:lnTo>
                  <a:lnTo>
                    <a:pt x="3" y="38"/>
                  </a:lnTo>
                  <a:lnTo>
                    <a:pt x="4" y="34"/>
                  </a:lnTo>
                  <a:lnTo>
                    <a:pt x="5" y="31"/>
                  </a:lnTo>
                  <a:lnTo>
                    <a:pt x="7" y="28"/>
                  </a:lnTo>
                  <a:lnTo>
                    <a:pt x="10" y="25"/>
                  </a:lnTo>
                  <a:lnTo>
                    <a:pt x="12" y="23"/>
                  </a:lnTo>
                  <a:lnTo>
                    <a:pt x="14" y="21"/>
                  </a:lnTo>
                  <a:lnTo>
                    <a:pt x="17" y="20"/>
                  </a:lnTo>
                  <a:lnTo>
                    <a:pt x="20" y="19"/>
                  </a:lnTo>
                  <a:lnTo>
                    <a:pt x="22" y="18"/>
                  </a:lnTo>
                  <a:lnTo>
                    <a:pt x="24" y="17"/>
                  </a:lnTo>
                  <a:lnTo>
                    <a:pt x="26" y="15"/>
                  </a:lnTo>
                  <a:lnTo>
                    <a:pt x="28" y="14"/>
                  </a:lnTo>
                  <a:lnTo>
                    <a:pt x="31" y="13"/>
                  </a:lnTo>
                  <a:lnTo>
                    <a:pt x="32" y="12"/>
                  </a:lnTo>
                  <a:lnTo>
                    <a:pt x="34" y="11"/>
                  </a:lnTo>
                  <a:lnTo>
                    <a:pt x="36" y="11"/>
                  </a:lnTo>
                  <a:lnTo>
                    <a:pt x="37" y="10"/>
                  </a:lnTo>
                  <a:lnTo>
                    <a:pt x="39" y="10"/>
                  </a:lnTo>
                  <a:lnTo>
                    <a:pt x="41" y="9"/>
                  </a:lnTo>
                  <a:lnTo>
                    <a:pt x="42" y="9"/>
                  </a:lnTo>
                  <a:lnTo>
                    <a:pt x="44" y="9"/>
                  </a:lnTo>
                  <a:lnTo>
                    <a:pt x="45" y="9"/>
                  </a:lnTo>
                  <a:lnTo>
                    <a:pt x="47" y="9"/>
                  </a:lnTo>
                  <a:lnTo>
                    <a:pt x="49" y="9"/>
                  </a:lnTo>
                  <a:lnTo>
                    <a:pt x="52" y="10"/>
                  </a:lnTo>
                  <a:lnTo>
                    <a:pt x="55" y="10"/>
                  </a:lnTo>
                  <a:lnTo>
                    <a:pt x="58" y="11"/>
                  </a:lnTo>
                  <a:lnTo>
                    <a:pt x="62" y="12"/>
                  </a:lnTo>
                  <a:lnTo>
                    <a:pt x="65" y="13"/>
                  </a:lnTo>
                  <a:lnTo>
                    <a:pt x="69" y="14"/>
                  </a:lnTo>
                  <a:lnTo>
                    <a:pt x="73" y="15"/>
                  </a:lnTo>
                  <a:lnTo>
                    <a:pt x="76" y="17"/>
                  </a:lnTo>
                  <a:lnTo>
                    <a:pt x="79" y="17"/>
                  </a:lnTo>
                  <a:lnTo>
                    <a:pt x="81" y="18"/>
                  </a:lnTo>
                  <a:lnTo>
                    <a:pt x="84" y="19"/>
                  </a:lnTo>
                  <a:lnTo>
                    <a:pt x="85" y="19"/>
                  </a:lnTo>
                  <a:lnTo>
                    <a:pt x="86" y="19"/>
                  </a:lnTo>
                  <a:lnTo>
                    <a:pt x="87" y="19"/>
                  </a:lnTo>
                  <a:lnTo>
                    <a:pt x="94" y="18"/>
                  </a:lnTo>
                  <a:lnTo>
                    <a:pt x="101" y="15"/>
                  </a:lnTo>
                  <a:lnTo>
                    <a:pt x="109" y="14"/>
                  </a:lnTo>
                  <a:lnTo>
                    <a:pt x="117" y="13"/>
                  </a:lnTo>
                  <a:lnTo>
                    <a:pt x="124" y="11"/>
                  </a:lnTo>
                  <a:lnTo>
                    <a:pt x="133" y="10"/>
                  </a:lnTo>
                  <a:lnTo>
                    <a:pt x="141" y="8"/>
                  </a:lnTo>
                  <a:lnTo>
                    <a:pt x="150" y="7"/>
                  </a:lnTo>
                  <a:lnTo>
                    <a:pt x="159" y="4"/>
                  </a:lnTo>
                  <a:lnTo>
                    <a:pt x="166" y="3"/>
                  </a:lnTo>
                  <a:lnTo>
                    <a:pt x="174" y="2"/>
                  </a:lnTo>
                  <a:lnTo>
                    <a:pt x="182" y="2"/>
                  </a:lnTo>
                  <a:lnTo>
                    <a:pt x="190" y="1"/>
                  </a:lnTo>
                  <a:lnTo>
                    <a:pt x="196" y="0"/>
                  </a:lnTo>
                  <a:lnTo>
                    <a:pt x="203" y="0"/>
                  </a:lnTo>
                  <a:lnTo>
                    <a:pt x="209" y="0"/>
                  </a:lnTo>
                  <a:lnTo>
                    <a:pt x="230" y="1"/>
                  </a:lnTo>
                  <a:lnTo>
                    <a:pt x="249" y="2"/>
                  </a:lnTo>
                  <a:lnTo>
                    <a:pt x="268" y="6"/>
                  </a:lnTo>
                  <a:lnTo>
                    <a:pt x="287" y="9"/>
                  </a:lnTo>
                  <a:lnTo>
                    <a:pt x="304" y="14"/>
                  </a:lnTo>
                  <a:lnTo>
                    <a:pt x="321" y="21"/>
                  </a:lnTo>
                  <a:lnTo>
                    <a:pt x="338" y="29"/>
                  </a:lnTo>
                  <a:lnTo>
                    <a:pt x="352" y="38"/>
                  </a:lnTo>
                  <a:lnTo>
                    <a:pt x="366" y="46"/>
                  </a:lnTo>
                  <a:lnTo>
                    <a:pt x="378" y="56"/>
                  </a:lnTo>
                  <a:lnTo>
                    <a:pt x="389" y="65"/>
                  </a:lnTo>
                  <a:lnTo>
                    <a:pt x="397" y="75"/>
                  </a:lnTo>
                  <a:lnTo>
                    <a:pt x="404" y="86"/>
                  </a:lnTo>
                  <a:lnTo>
                    <a:pt x="409" y="96"/>
                  </a:lnTo>
                  <a:lnTo>
                    <a:pt x="412" y="107"/>
                  </a:lnTo>
                  <a:lnTo>
                    <a:pt x="413" y="117"/>
                  </a:lnTo>
                  <a:lnTo>
                    <a:pt x="412" y="127"/>
                  </a:lnTo>
                  <a:lnTo>
                    <a:pt x="410" y="136"/>
                  </a:lnTo>
                  <a:lnTo>
                    <a:pt x="407" y="146"/>
                  </a:lnTo>
                  <a:lnTo>
                    <a:pt x="403" y="155"/>
                  </a:lnTo>
                  <a:lnTo>
                    <a:pt x="397" y="164"/>
                  </a:lnTo>
                  <a:lnTo>
                    <a:pt x="391" y="173"/>
                  </a:lnTo>
                  <a:lnTo>
                    <a:pt x="382" y="183"/>
                  </a:lnTo>
                  <a:lnTo>
                    <a:pt x="373" y="192"/>
                  </a:lnTo>
                  <a:lnTo>
                    <a:pt x="363" y="201"/>
                  </a:lnTo>
                  <a:lnTo>
                    <a:pt x="353" y="210"/>
                  </a:lnTo>
                  <a:lnTo>
                    <a:pt x="342" y="217"/>
                  </a:lnTo>
                  <a:lnTo>
                    <a:pt x="332" y="225"/>
                  </a:lnTo>
                  <a:lnTo>
                    <a:pt x="321" y="232"/>
                  </a:lnTo>
                  <a:lnTo>
                    <a:pt x="310" y="237"/>
                  </a:lnTo>
                  <a:lnTo>
                    <a:pt x="299" y="243"/>
                  </a:lnTo>
                  <a:lnTo>
                    <a:pt x="288" y="247"/>
                  </a:lnTo>
                  <a:lnTo>
                    <a:pt x="278" y="252"/>
                  </a:lnTo>
                  <a:lnTo>
                    <a:pt x="269" y="256"/>
                  </a:lnTo>
                  <a:lnTo>
                    <a:pt x="261" y="259"/>
                  </a:lnTo>
                  <a:lnTo>
                    <a:pt x="255" y="263"/>
                  </a:lnTo>
                  <a:lnTo>
                    <a:pt x="249" y="265"/>
                  </a:lnTo>
                  <a:lnTo>
                    <a:pt x="246" y="267"/>
                  </a:lnTo>
                  <a:lnTo>
                    <a:pt x="244" y="269"/>
                  </a:lnTo>
                  <a:lnTo>
                    <a:pt x="244" y="270"/>
                  </a:lnTo>
                  <a:lnTo>
                    <a:pt x="257" y="284"/>
                  </a:lnTo>
                  <a:lnTo>
                    <a:pt x="270" y="296"/>
                  </a:lnTo>
                  <a:lnTo>
                    <a:pt x="282" y="309"/>
                  </a:lnTo>
                  <a:lnTo>
                    <a:pt x="296" y="321"/>
                  </a:lnTo>
                  <a:lnTo>
                    <a:pt x="309" y="334"/>
                  </a:lnTo>
                  <a:lnTo>
                    <a:pt x="322" y="347"/>
                  </a:lnTo>
                  <a:lnTo>
                    <a:pt x="335" y="360"/>
                  </a:lnTo>
                  <a:lnTo>
                    <a:pt x="347" y="372"/>
                  </a:lnTo>
                  <a:lnTo>
                    <a:pt x="360" y="384"/>
                  </a:lnTo>
                  <a:lnTo>
                    <a:pt x="371" y="394"/>
                  </a:lnTo>
                  <a:lnTo>
                    <a:pt x="380" y="404"/>
                  </a:lnTo>
                  <a:lnTo>
                    <a:pt x="387" y="412"/>
                  </a:lnTo>
                  <a:lnTo>
                    <a:pt x="393" y="419"/>
                  </a:lnTo>
                  <a:lnTo>
                    <a:pt x="396" y="425"/>
                  </a:lnTo>
                  <a:lnTo>
                    <a:pt x="399" y="430"/>
                  </a:lnTo>
                  <a:lnTo>
                    <a:pt x="399" y="434"/>
                  </a:lnTo>
                  <a:lnTo>
                    <a:pt x="399" y="435"/>
                  </a:lnTo>
                  <a:lnTo>
                    <a:pt x="399" y="436"/>
                  </a:lnTo>
                  <a:lnTo>
                    <a:pt x="399" y="437"/>
                  </a:lnTo>
                  <a:lnTo>
                    <a:pt x="398" y="439"/>
                  </a:lnTo>
                  <a:lnTo>
                    <a:pt x="397" y="440"/>
                  </a:lnTo>
                  <a:lnTo>
                    <a:pt x="396" y="441"/>
                  </a:lnTo>
                  <a:lnTo>
                    <a:pt x="395" y="443"/>
                  </a:lnTo>
                  <a:lnTo>
                    <a:pt x="394" y="444"/>
                  </a:lnTo>
                  <a:lnTo>
                    <a:pt x="393" y="445"/>
                  </a:lnTo>
                  <a:lnTo>
                    <a:pt x="392" y="446"/>
                  </a:lnTo>
                  <a:lnTo>
                    <a:pt x="389" y="448"/>
                  </a:lnTo>
                  <a:lnTo>
                    <a:pt x="387" y="449"/>
                  </a:lnTo>
                  <a:lnTo>
                    <a:pt x="386" y="450"/>
                  </a:lnTo>
                  <a:lnTo>
                    <a:pt x="384" y="452"/>
                  </a:lnTo>
                  <a:lnTo>
                    <a:pt x="382" y="455"/>
                  </a:lnTo>
                  <a:lnTo>
                    <a:pt x="380" y="456"/>
                  </a:lnTo>
                  <a:lnTo>
                    <a:pt x="377" y="458"/>
                  </a:lnTo>
                  <a:lnTo>
                    <a:pt x="374" y="460"/>
                  </a:lnTo>
                  <a:lnTo>
                    <a:pt x="372" y="461"/>
                  </a:lnTo>
                  <a:lnTo>
                    <a:pt x="368" y="462"/>
                  </a:lnTo>
                  <a:lnTo>
                    <a:pt x="366" y="464"/>
                  </a:lnTo>
                  <a:lnTo>
                    <a:pt x="363" y="464"/>
                  </a:lnTo>
                  <a:lnTo>
                    <a:pt x="360" y="464"/>
                  </a:lnTo>
                  <a:lnTo>
                    <a:pt x="356" y="465"/>
                  </a:lnTo>
                  <a:lnTo>
                    <a:pt x="349" y="464"/>
                  </a:lnTo>
                  <a:lnTo>
                    <a:pt x="342" y="464"/>
                  </a:lnTo>
                  <a:lnTo>
                    <a:pt x="334" y="461"/>
                  </a:lnTo>
                  <a:lnTo>
                    <a:pt x="328" y="460"/>
                  </a:lnTo>
                  <a:lnTo>
                    <a:pt x="320" y="457"/>
                  </a:lnTo>
                  <a:lnTo>
                    <a:pt x="313" y="454"/>
                  </a:lnTo>
                  <a:lnTo>
                    <a:pt x="307" y="450"/>
                  </a:lnTo>
                  <a:lnTo>
                    <a:pt x="300" y="446"/>
                  </a:lnTo>
                  <a:lnTo>
                    <a:pt x="291" y="440"/>
                  </a:lnTo>
                  <a:lnTo>
                    <a:pt x="279" y="430"/>
                  </a:lnTo>
                  <a:lnTo>
                    <a:pt x="262" y="417"/>
                  </a:lnTo>
                  <a:lnTo>
                    <a:pt x="243" y="401"/>
                  </a:lnTo>
                  <a:lnTo>
                    <a:pt x="218" y="381"/>
                  </a:lnTo>
                  <a:lnTo>
                    <a:pt x="190" y="358"/>
                  </a:lnTo>
                  <a:lnTo>
                    <a:pt x="159" y="331"/>
                  </a:lnTo>
                  <a:lnTo>
                    <a:pt x="122" y="301"/>
                  </a:lnTo>
                  <a:lnTo>
                    <a:pt x="107" y="288"/>
                  </a:lnTo>
                  <a:lnTo>
                    <a:pt x="100" y="394"/>
                  </a:lnTo>
                  <a:close/>
                  <a:moveTo>
                    <a:pt x="112" y="223"/>
                  </a:moveTo>
                  <a:lnTo>
                    <a:pt x="121" y="223"/>
                  </a:lnTo>
                  <a:lnTo>
                    <a:pt x="131" y="221"/>
                  </a:lnTo>
                  <a:lnTo>
                    <a:pt x="142" y="217"/>
                  </a:lnTo>
                  <a:lnTo>
                    <a:pt x="155" y="212"/>
                  </a:lnTo>
                  <a:lnTo>
                    <a:pt x="169" y="205"/>
                  </a:lnTo>
                  <a:lnTo>
                    <a:pt x="185" y="198"/>
                  </a:lnTo>
                  <a:lnTo>
                    <a:pt x="202" y="189"/>
                  </a:lnTo>
                  <a:lnTo>
                    <a:pt x="221" y="178"/>
                  </a:lnTo>
                  <a:lnTo>
                    <a:pt x="238" y="167"/>
                  </a:lnTo>
                  <a:lnTo>
                    <a:pt x="254" y="155"/>
                  </a:lnTo>
                  <a:lnTo>
                    <a:pt x="267" y="143"/>
                  </a:lnTo>
                  <a:lnTo>
                    <a:pt x="277" y="134"/>
                  </a:lnTo>
                  <a:lnTo>
                    <a:pt x="286" y="123"/>
                  </a:lnTo>
                  <a:lnTo>
                    <a:pt x="291" y="111"/>
                  </a:lnTo>
                  <a:lnTo>
                    <a:pt x="293" y="106"/>
                  </a:lnTo>
                  <a:lnTo>
                    <a:pt x="295" y="102"/>
                  </a:lnTo>
                  <a:lnTo>
                    <a:pt x="296" y="96"/>
                  </a:lnTo>
                  <a:lnTo>
                    <a:pt x="296" y="91"/>
                  </a:lnTo>
                  <a:lnTo>
                    <a:pt x="296" y="85"/>
                  </a:lnTo>
                  <a:lnTo>
                    <a:pt x="292" y="79"/>
                  </a:lnTo>
                  <a:lnTo>
                    <a:pt x="288" y="75"/>
                  </a:lnTo>
                  <a:lnTo>
                    <a:pt x="281" y="72"/>
                  </a:lnTo>
                  <a:lnTo>
                    <a:pt x="272" y="70"/>
                  </a:lnTo>
                  <a:lnTo>
                    <a:pt x="261" y="67"/>
                  </a:lnTo>
                  <a:lnTo>
                    <a:pt x="249" y="66"/>
                  </a:lnTo>
                  <a:lnTo>
                    <a:pt x="235" y="65"/>
                  </a:lnTo>
                  <a:lnTo>
                    <a:pt x="226" y="66"/>
                  </a:lnTo>
                  <a:lnTo>
                    <a:pt x="217" y="66"/>
                  </a:lnTo>
                  <a:lnTo>
                    <a:pt x="209" y="66"/>
                  </a:lnTo>
                  <a:lnTo>
                    <a:pt x="201" y="67"/>
                  </a:lnTo>
                  <a:lnTo>
                    <a:pt x="193" y="67"/>
                  </a:lnTo>
                  <a:lnTo>
                    <a:pt x="185" y="68"/>
                  </a:lnTo>
                  <a:lnTo>
                    <a:pt x="177" y="70"/>
                  </a:lnTo>
                  <a:lnTo>
                    <a:pt x="170" y="70"/>
                  </a:lnTo>
                  <a:lnTo>
                    <a:pt x="163" y="72"/>
                  </a:lnTo>
                  <a:lnTo>
                    <a:pt x="157" y="73"/>
                  </a:lnTo>
                  <a:lnTo>
                    <a:pt x="150" y="74"/>
                  </a:lnTo>
                  <a:lnTo>
                    <a:pt x="144" y="75"/>
                  </a:lnTo>
                  <a:lnTo>
                    <a:pt x="139" y="77"/>
                  </a:lnTo>
                  <a:lnTo>
                    <a:pt x="134" y="78"/>
                  </a:lnTo>
                  <a:lnTo>
                    <a:pt x="129" y="79"/>
                  </a:lnTo>
                  <a:lnTo>
                    <a:pt x="126" y="82"/>
                  </a:lnTo>
                  <a:lnTo>
                    <a:pt x="121" y="84"/>
                  </a:lnTo>
                  <a:lnTo>
                    <a:pt x="118" y="86"/>
                  </a:lnTo>
                  <a:lnTo>
                    <a:pt x="116" y="89"/>
                  </a:lnTo>
                  <a:lnTo>
                    <a:pt x="113" y="92"/>
                  </a:lnTo>
                  <a:lnTo>
                    <a:pt x="111" y="96"/>
                  </a:lnTo>
                  <a:lnTo>
                    <a:pt x="110" y="99"/>
                  </a:lnTo>
                  <a:lnTo>
                    <a:pt x="110" y="104"/>
                  </a:lnTo>
                  <a:lnTo>
                    <a:pt x="109" y="108"/>
                  </a:lnTo>
                  <a:lnTo>
                    <a:pt x="109" y="156"/>
                  </a:lnTo>
                  <a:lnTo>
                    <a:pt x="107" y="219"/>
                  </a:lnTo>
                  <a:lnTo>
                    <a:pt x="107" y="220"/>
                  </a:lnTo>
                  <a:lnTo>
                    <a:pt x="107" y="221"/>
                  </a:lnTo>
                  <a:lnTo>
                    <a:pt x="108" y="222"/>
                  </a:lnTo>
                  <a:lnTo>
                    <a:pt x="108" y="222"/>
                  </a:lnTo>
                  <a:lnTo>
                    <a:pt x="109" y="223"/>
                  </a:lnTo>
                  <a:lnTo>
                    <a:pt x="110" y="223"/>
                  </a:lnTo>
                  <a:lnTo>
                    <a:pt x="111" y="223"/>
                  </a:lnTo>
                  <a:lnTo>
                    <a:pt x="112" y="22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785960" y="2298600"/>
              <a:ext cx="138240" cy="182160"/>
            </a:xfrm>
            <a:custGeom>
              <a:avLst/>
              <a:gdLst/>
              <a:ahLst/>
              <a:rect l="l" t="t" r="r" b="b"/>
              <a:pathLst>
                <a:path w="345" h="460">
                  <a:moveTo>
                    <a:pt x="237" y="0"/>
                  </a:moveTo>
                  <a:lnTo>
                    <a:pt x="249" y="1"/>
                  </a:lnTo>
                  <a:lnTo>
                    <a:pt x="260" y="1"/>
                  </a:lnTo>
                  <a:lnTo>
                    <a:pt x="271" y="3"/>
                  </a:lnTo>
                  <a:lnTo>
                    <a:pt x="281" y="6"/>
                  </a:lnTo>
                  <a:lnTo>
                    <a:pt x="291" y="8"/>
                  </a:lnTo>
                  <a:lnTo>
                    <a:pt x="300" y="11"/>
                  </a:lnTo>
                  <a:lnTo>
                    <a:pt x="309" y="16"/>
                  </a:lnTo>
                  <a:lnTo>
                    <a:pt x="316" y="20"/>
                  </a:lnTo>
                  <a:lnTo>
                    <a:pt x="323" y="24"/>
                  </a:lnTo>
                  <a:lnTo>
                    <a:pt x="329" y="29"/>
                  </a:lnTo>
                  <a:lnTo>
                    <a:pt x="333" y="33"/>
                  </a:lnTo>
                  <a:lnTo>
                    <a:pt x="338" y="38"/>
                  </a:lnTo>
                  <a:lnTo>
                    <a:pt x="341" y="42"/>
                  </a:lnTo>
                  <a:lnTo>
                    <a:pt x="343" y="45"/>
                  </a:lnTo>
                  <a:lnTo>
                    <a:pt x="344" y="49"/>
                  </a:lnTo>
                  <a:lnTo>
                    <a:pt x="345" y="52"/>
                  </a:lnTo>
                  <a:lnTo>
                    <a:pt x="344" y="55"/>
                  </a:lnTo>
                  <a:lnTo>
                    <a:pt x="342" y="58"/>
                  </a:lnTo>
                  <a:lnTo>
                    <a:pt x="338" y="60"/>
                  </a:lnTo>
                  <a:lnTo>
                    <a:pt x="332" y="63"/>
                  </a:lnTo>
                  <a:lnTo>
                    <a:pt x="324" y="65"/>
                  </a:lnTo>
                  <a:lnTo>
                    <a:pt x="314" y="67"/>
                  </a:lnTo>
                  <a:lnTo>
                    <a:pt x="304" y="70"/>
                  </a:lnTo>
                  <a:lnTo>
                    <a:pt x="291" y="72"/>
                  </a:lnTo>
                  <a:lnTo>
                    <a:pt x="278" y="74"/>
                  </a:lnTo>
                  <a:lnTo>
                    <a:pt x="264" y="75"/>
                  </a:lnTo>
                  <a:lnTo>
                    <a:pt x="249" y="76"/>
                  </a:lnTo>
                  <a:lnTo>
                    <a:pt x="234" y="77"/>
                  </a:lnTo>
                  <a:lnTo>
                    <a:pt x="217" y="78"/>
                  </a:lnTo>
                  <a:lnTo>
                    <a:pt x="201" y="80"/>
                  </a:lnTo>
                  <a:lnTo>
                    <a:pt x="184" y="80"/>
                  </a:lnTo>
                  <a:lnTo>
                    <a:pt x="166" y="80"/>
                  </a:lnTo>
                  <a:lnTo>
                    <a:pt x="145" y="80"/>
                  </a:lnTo>
                  <a:lnTo>
                    <a:pt x="142" y="80"/>
                  </a:lnTo>
                  <a:lnTo>
                    <a:pt x="140" y="80"/>
                  </a:lnTo>
                  <a:lnTo>
                    <a:pt x="138" y="80"/>
                  </a:lnTo>
                  <a:lnTo>
                    <a:pt x="136" y="81"/>
                  </a:lnTo>
                  <a:lnTo>
                    <a:pt x="133" y="81"/>
                  </a:lnTo>
                  <a:lnTo>
                    <a:pt x="131" y="81"/>
                  </a:lnTo>
                  <a:lnTo>
                    <a:pt x="130" y="81"/>
                  </a:lnTo>
                  <a:lnTo>
                    <a:pt x="129" y="82"/>
                  </a:lnTo>
                  <a:lnTo>
                    <a:pt x="128" y="82"/>
                  </a:lnTo>
                  <a:lnTo>
                    <a:pt x="127" y="83"/>
                  </a:lnTo>
                  <a:lnTo>
                    <a:pt x="126" y="83"/>
                  </a:lnTo>
                  <a:lnTo>
                    <a:pt x="126" y="84"/>
                  </a:lnTo>
                  <a:lnTo>
                    <a:pt x="125" y="86"/>
                  </a:lnTo>
                  <a:lnTo>
                    <a:pt x="125" y="87"/>
                  </a:lnTo>
                  <a:lnTo>
                    <a:pt x="125" y="88"/>
                  </a:lnTo>
                  <a:lnTo>
                    <a:pt x="125" y="91"/>
                  </a:lnTo>
                  <a:lnTo>
                    <a:pt x="115" y="181"/>
                  </a:lnTo>
                  <a:lnTo>
                    <a:pt x="115" y="182"/>
                  </a:lnTo>
                  <a:lnTo>
                    <a:pt x="116" y="183"/>
                  </a:lnTo>
                  <a:lnTo>
                    <a:pt x="116" y="184"/>
                  </a:lnTo>
                  <a:lnTo>
                    <a:pt x="117" y="186"/>
                  </a:lnTo>
                  <a:lnTo>
                    <a:pt x="118" y="187"/>
                  </a:lnTo>
                  <a:lnTo>
                    <a:pt x="120" y="187"/>
                  </a:lnTo>
                  <a:lnTo>
                    <a:pt x="121" y="187"/>
                  </a:lnTo>
                  <a:lnTo>
                    <a:pt x="123" y="187"/>
                  </a:lnTo>
                  <a:lnTo>
                    <a:pt x="131" y="187"/>
                  </a:lnTo>
                  <a:lnTo>
                    <a:pt x="139" y="186"/>
                  </a:lnTo>
                  <a:lnTo>
                    <a:pt x="148" y="186"/>
                  </a:lnTo>
                  <a:lnTo>
                    <a:pt x="155" y="184"/>
                  </a:lnTo>
                  <a:lnTo>
                    <a:pt x="164" y="184"/>
                  </a:lnTo>
                  <a:lnTo>
                    <a:pt x="173" y="183"/>
                  </a:lnTo>
                  <a:lnTo>
                    <a:pt x="182" y="183"/>
                  </a:lnTo>
                  <a:lnTo>
                    <a:pt x="191" y="182"/>
                  </a:lnTo>
                  <a:lnTo>
                    <a:pt x="198" y="182"/>
                  </a:lnTo>
                  <a:lnTo>
                    <a:pt x="207" y="182"/>
                  </a:lnTo>
                  <a:lnTo>
                    <a:pt x="215" y="181"/>
                  </a:lnTo>
                  <a:lnTo>
                    <a:pt x="223" y="181"/>
                  </a:lnTo>
                  <a:lnTo>
                    <a:pt x="229" y="181"/>
                  </a:lnTo>
                  <a:lnTo>
                    <a:pt x="236" y="181"/>
                  </a:lnTo>
                  <a:lnTo>
                    <a:pt x="243" y="181"/>
                  </a:lnTo>
                  <a:lnTo>
                    <a:pt x="248" y="181"/>
                  </a:lnTo>
                  <a:lnTo>
                    <a:pt x="257" y="181"/>
                  </a:lnTo>
                  <a:lnTo>
                    <a:pt x="266" y="181"/>
                  </a:lnTo>
                  <a:lnTo>
                    <a:pt x="274" y="182"/>
                  </a:lnTo>
                  <a:lnTo>
                    <a:pt x="281" y="182"/>
                  </a:lnTo>
                  <a:lnTo>
                    <a:pt x="288" y="183"/>
                  </a:lnTo>
                  <a:lnTo>
                    <a:pt x="296" y="184"/>
                  </a:lnTo>
                  <a:lnTo>
                    <a:pt x="302" y="186"/>
                  </a:lnTo>
                  <a:lnTo>
                    <a:pt x="308" y="188"/>
                  </a:lnTo>
                  <a:lnTo>
                    <a:pt x="313" y="190"/>
                  </a:lnTo>
                  <a:lnTo>
                    <a:pt x="319" y="191"/>
                  </a:lnTo>
                  <a:lnTo>
                    <a:pt x="323" y="193"/>
                  </a:lnTo>
                  <a:lnTo>
                    <a:pt x="327" y="194"/>
                  </a:lnTo>
                  <a:lnTo>
                    <a:pt x="330" y="197"/>
                  </a:lnTo>
                  <a:lnTo>
                    <a:pt x="332" y="199"/>
                  </a:lnTo>
                  <a:lnTo>
                    <a:pt x="334" y="200"/>
                  </a:lnTo>
                  <a:lnTo>
                    <a:pt x="335" y="202"/>
                  </a:lnTo>
                  <a:lnTo>
                    <a:pt x="336" y="204"/>
                  </a:lnTo>
                  <a:lnTo>
                    <a:pt x="336" y="206"/>
                  </a:lnTo>
                  <a:lnTo>
                    <a:pt x="338" y="208"/>
                  </a:lnTo>
                  <a:lnTo>
                    <a:pt x="339" y="210"/>
                  </a:lnTo>
                  <a:lnTo>
                    <a:pt x="340" y="212"/>
                  </a:lnTo>
                  <a:lnTo>
                    <a:pt x="340" y="214"/>
                  </a:lnTo>
                  <a:lnTo>
                    <a:pt x="341" y="216"/>
                  </a:lnTo>
                  <a:lnTo>
                    <a:pt x="342" y="219"/>
                  </a:lnTo>
                  <a:lnTo>
                    <a:pt x="343" y="220"/>
                  </a:lnTo>
                  <a:lnTo>
                    <a:pt x="343" y="222"/>
                  </a:lnTo>
                  <a:lnTo>
                    <a:pt x="344" y="224"/>
                  </a:lnTo>
                  <a:lnTo>
                    <a:pt x="344" y="225"/>
                  </a:lnTo>
                  <a:lnTo>
                    <a:pt x="344" y="226"/>
                  </a:lnTo>
                  <a:lnTo>
                    <a:pt x="345" y="227"/>
                  </a:lnTo>
                  <a:lnTo>
                    <a:pt x="345" y="229"/>
                  </a:lnTo>
                  <a:lnTo>
                    <a:pt x="345" y="229"/>
                  </a:lnTo>
                  <a:lnTo>
                    <a:pt x="345" y="231"/>
                  </a:lnTo>
                  <a:lnTo>
                    <a:pt x="344" y="232"/>
                  </a:lnTo>
                  <a:lnTo>
                    <a:pt x="343" y="234"/>
                  </a:lnTo>
                  <a:lnTo>
                    <a:pt x="342" y="235"/>
                  </a:lnTo>
                  <a:lnTo>
                    <a:pt x="341" y="237"/>
                  </a:lnTo>
                  <a:lnTo>
                    <a:pt x="339" y="238"/>
                  </a:lnTo>
                  <a:lnTo>
                    <a:pt x="336" y="240"/>
                  </a:lnTo>
                  <a:lnTo>
                    <a:pt x="334" y="241"/>
                  </a:lnTo>
                  <a:lnTo>
                    <a:pt x="331" y="243"/>
                  </a:lnTo>
                  <a:lnTo>
                    <a:pt x="328" y="243"/>
                  </a:lnTo>
                  <a:lnTo>
                    <a:pt x="324" y="244"/>
                  </a:lnTo>
                  <a:lnTo>
                    <a:pt x="321" y="245"/>
                  </a:lnTo>
                  <a:lnTo>
                    <a:pt x="317" y="245"/>
                  </a:lnTo>
                  <a:lnTo>
                    <a:pt x="312" y="246"/>
                  </a:lnTo>
                  <a:lnTo>
                    <a:pt x="308" y="246"/>
                  </a:lnTo>
                  <a:lnTo>
                    <a:pt x="303" y="246"/>
                  </a:lnTo>
                  <a:lnTo>
                    <a:pt x="293" y="247"/>
                  </a:lnTo>
                  <a:lnTo>
                    <a:pt x="282" y="248"/>
                  </a:lnTo>
                  <a:lnTo>
                    <a:pt x="272" y="250"/>
                  </a:lnTo>
                  <a:lnTo>
                    <a:pt x="261" y="250"/>
                  </a:lnTo>
                  <a:lnTo>
                    <a:pt x="250" y="251"/>
                  </a:lnTo>
                  <a:lnTo>
                    <a:pt x="239" y="252"/>
                  </a:lnTo>
                  <a:lnTo>
                    <a:pt x="228" y="253"/>
                  </a:lnTo>
                  <a:lnTo>
                    <a:pt x="217" y="253"/>
                  </a:lnTo>
                  <a:lnTo>
                    <a:pt x="206" y="254"/>
                  </a:lnTo>
                  <a:lnTo>
                    <a:pt x="196" y="255"/>
                  </a:lnTo>
                  <a:lnTo>
                    <a:pt x="185" y="255"/>
                  </a:lnTo>
                  <a:lnTo>
                    <a:pt x="176" y="255"/>
                  </a:lnTo>
                  <a:lnTo>
                    <a:pt x="168" y="256"/>
                  </a:lnTo>
                  <a:lnTo>
                    <a:pt x="159" y="256"/>
                  </a:lnTo>
                  <a:lnTo>
                    <a:pt x="150" y="256"/>
                  </a:lnTo>
                  <a:lnTo>
                    <a:pt x="142" y="256"/>
                  </a:lnTo>
                  <a:lnTo>
                    <a:pt x="137" y="256"/>
                  </a:lnTo>
                  <a:lnTo>
                    <a:pt x="132" y="256"/>
                  </a:lnTo>
                  <a:lnTo>
                    <a:pt x="128" y="257"/>
                  </a:lnTo>
                  <a:lnTo>
                    <a:pt x="123" y="257"/>
                  </a:lnTo>
                  <a:lnTo>
                    <a:pt x="120" y="258"/>
                  </a:lnTo>
                  <a:lnTo>
                    <a:pt x="117" y="258"/>
                  </a:lnTo>
                  <a:lnTo>
                    <a:pt x="113" y="259"/>
                  </a:lnTo>
                  <a:lnTo>
                    <a:pt x="111" y="261"/>
                  </a:lnTo>
                  <a:lnTo>
                    <a:pt x="110" y="262"/>
                  </a:lnTo>
                  <a:lnTo>
                    <a:pt x="108" y="263"/>
                  </a:lnTo>
                  <a:lnTo>
                    <a:pt x="107" y="265"/>
                  </a:lnTo>
                  <a:lnTo>
                    <a:pt x="106" y="267"/>
                  </a:lnTo>
                  <a:lnTo>
                    <a:pt x="105" y="269"/>
                  </a:lnTo>
                  <a:lnTo>
                    <a:pt x="105" y="272"/>
                  </a:lnTo>
                  <a:lnTo>
                    <a:pt x="104" y="275"/>
                  </a:lnTo>
                  <a:lnTo>
                    <a:pt x="104" y="278"/>
                  </a:lnTo>
                  <a:lnTo>
                    <a:pt x="98" y="374"/>
                  </a:lnTo>
                  <a:lnTo>
                    <a:pt x="99" y="378"/>
                  </a:lnTo>
                  <a:lnTo>
                    <a:pt x="99" y="380"/>
                  </a:lnTo>
                  <a:lnTo>
                    <a:pt x="101" y="382"/>
                  </a:lnTo>
                  <a:lnTo>
                    <a:pt x="104" y="384"/>
                  </a:lnTo>
                  <a:lnTo>
                    <a:pt x="107" y="385"/>
                  </a:lnTo>
                  <a:lnTo>
                    <a:pt x="111" y="386"/>
                  </a:lnTo>
                  <a:lnTo>
                    <a:pt x="116" y="387"/>
                  </a:lnTo>
                  <a:lnTo>
                    <a:pt x="120" y="387"/>
                  </a:lnTo>
                  <a:lnTo>
                    <a:pt x="122" y="387"/>
                  </a:lnTo>
                  <a:lnTo>
                    <a:pt x="126" y="387"/>
                  </a:lnTo>
                  <a:lnTo>
                    <a:pt x="130" y="386"/>
                  </a:lnTo>
                  <a:lnTo>
                    <a:pt x="137" y="386"/>
                  </a:lnTo>
                  <a:lnTo>
                    <a:pt x="145" y="385"/>
                  </a:lnTo>
                  <a:lnTo>
                    <a:pt x="155" y="384"/>
                  </a:lnTo>
                  <a:lnTo>
                    <a:pt x="168" y="383"/>
                  </a:lnTo>
                  <a:lnTo>
                    <a:pt x="181" y="382"/>
                  </a:lnTo>
                  <a:lnTo>
                    <a:pt x="194" y="381"/>
                  </a:lnTo>
                  <a:lnTo>
                    <a:pt x="206" y="380"/>
                  </a:lnTo>
                  <a:lnTo>
                    <a:pt x="217" y="379"/>
                  </a:lnTo>
                  <a:lnTo>
                    <a:pt x="226" y="378"/>
                  </a:lnTo>
                  <a:lnTo>
                    <a:pt x="234" y="376"/>
                  </a:lnTo>
                  <a:lnTo>
                    <a:pt x="240" y="376"/>
                  </a:lnTo>
                  <a:lnTo>
                    <a:pt x="246" y="376"/>
                  </a:lnTo>
                  <a:lnTo>
                    <a:pt x="249" y="376"/>
                  </a:lnTo>
                  <a:lnTo>
                    <a:pt x="257" y="376"/>
                  </a:lnTo>
                  <a:lnTo>
                    <a:pt x="265" y="378"/>
                  </a:lnTo>
                  <a:lnTo>
                    <a:pt x="272" y="379"/>
                  </a:lnTo>
                  <a:lnTo>
                    <a:pt x="280" y="381"/>
                  </a:lnTo>
                  <a:lnTo>
                    <a:pt x="288" y="383"/>
                  </a:lnTo>
                  <a:lnTo>
                    <a:pt x="295" y="386"/>
                  </a:lnTo>
                  <a:lnTo>
                    <a:pt x="302" y="390"/>
                  </a:lnTo>
                  <a:lnTo>
                    <a:pt x="310" y="394"/>
                  </a:lnTo>
                  <a:lnTo>
                    <a:pt x="317" y="397"/>
                  </a:lnTo>
                  <a:lnTo>
                    <a:pt x="322" y="401"/>
                  </a:lnTo>
                  <a:lnTo>
                    <a:pt x="328" y="405"/>
                  </a:lnTo>
                  <a:lnTo>
                    <a:pt x="331" y="408"/>
                  </a:lnTo>
                  <a:lnTo>
                    <a:pt x="334" y="412"/>
                  </a:lnTo>
                  <a:lnTo>
                    <a:pt x="336" y="415"/>
                  </a:lnTo>
                  <a:lnTo>
                    <a:pt x="339" y="418"/>
                  </a:lnTo>
                  <a:lnTo>
                    <a:pt x="339" y="422"/>
                  </a:lnTo>
                  <a:lnTo>
                    <a:pt x="339" y="426"/>
                  </a:lnTo>
                  <a:lnTo>
                    <a:pt x="336" y="429"/>
                  </a:lnTo>
                  <a:lnTo>
                    <a:pt x="334" y="433"/>
                  </a:lnTo>
                  <a:lnTo>
                    <a:pt x="331" y="435"/>
                  </a:lnTo>
                  <a:lnTo>
                    <a:pt x="327" y="437"/>
                  </a:lnTo>
                  <a:lnTo>
                    <a:pt x="321" y="439"/>
                  </a:lnTo>
                  <a:lnTo>
                    <a:pt x="316" y="440"/>
                  </a:lnTo>
                  <a:lnTo>
                    <a:pt x="308" y="442"/>
                  </a:lnTo>
                  <a:lnTo>
                    <a:pt x="235" y="447"/>
                  </a:lnTo>
                  <a:lnTo>
                    <a:pt x="227" y="447"/>
                  </a:lnTo>
                  <a:lnTo>
                    <a:pt x="219" y="448"/>
                  </a:lnTo>
                  <a:lnTo>
                    <a:pt x="211" y="449"/>
                  </a:lnTo>
                  <a:lnTo>
                    <a:pt x="201" y="450"/>
                  </a:lnTo>
                  <a:lnTo>
                    <a:pt x="190" y="451"/>
                  </a:lnTo>
                  <a:lnTo>
                    <a:pt x="178" y="453"/>
                  </a:lnTo>
                  <a:lnTo>
                    <a:pt x="165" y="454"/>
                  </a:lnTo>
                  <a:lnTo>
                    <a:pt x="151" y="455"/>
                  </a:lnTo>
                  <a:lnTo>
                    <a:pt x="138" y="456"/>
                  </a:lnTo>
                  <a:lnTo>
                    <a:pt x="127" y="457"/>
                  </a:lnTo>
                  <a:lnTo>
                    <a:pt x="116" y="458"/>
                  </a:lnTo>
                  <a:lnTo>
                    <a:pt x="107" y="459"/>
                  </a:lnTo>
                  <a:lnTo>
                    <a:pt x="100" y="459"/>
                  </a:lnTo>
                  <a:lnTo>
                    <a:pt x="95" y="459"/>
                  </a:lnTo>
                  <a:lnTo>
                    <a:pt x="90" y="460"/>
                  </a:lnTo>
                  <a:lnTo>
                    <a:pt x="87" y="460"/>
                  </a:lnTo>
                  <a:lnTo>
                    <a:pt x="80" y="460"/>
                  </a:lnTo>
                  <a:lnTo>
                    <a:pt x="75" y="459"/>
                  </a:lnTo>
                  <a:lnTo>
                    <a:pt x="67" y="458"/>
                  </a:lnTo>
                  <a:lnTo>
                    <a:pt x="60" y="457"/>
                  </a:lnTo>
                  <a:lnTo>
                    <a:pt x="54" y="456"/>
                  </a:lnTo>
                  <a:lnTo>
                    <a:pt x="46" y="455"/>
                  </a:lnTo>
                  <a:lnTo>
                    <a:pt x="38" y="453"/>
                  </a:lnTo>
                  <a:lnTo>
                    <a:pt x="31" y="450"/>
                  </a:lnTo>
                  <a:lnTo>
                    <a:pt x="23" y="447"/>
                  </a:lnTo>
                  <a:lnTo>
                    <a:pt x="17" y="444"/>
                  </a:lnTo>
                  <a:lnTo>
                    <a:pt x="12" y="440"/>
                  </a:lnTo>
                  <a:lnTo>
                    <a:pt x="7" y="437"/>
                  </a:lnTo>
                  <a:lnTo>
                    <a:pt x="4" y="433"/>
                  </a:lnTo>
                  <a:lnTo>
                    <a:pt x="1" y="428"/>
                  </a:lnTo>
                  <a:lnTo>
                    <a:pt x="0" y="423"/>
                  </a:lnTo>
                  <a:lnTo>
                    <a:pt x="0" y="417"/>
                  </a:lnTo>
                  <a:lnTo>
                    <a:pt x="0" y="401"/>
                  </a:lnTo>
                  <a:lnTo>
                    <a:pt x="0" y="384"/>
                  </a:lnTo>
                  <a:lnTo>
                    <a:pt x="0" y="368"/>
                  </a:lnTo>
                  <a:lnTo>
                    <a:pt x="0" y="352"/>
                  </a:lnTo>
                  <a:lnTo>
                    <a:pt x="0" y="336"/>
                  </a:lnTo>
                  <a:lnTo>
                    <a:pt x="1" y="319"/>
                  </a:lnTo>
                  <a:lnTo>
                    <a:pt x="1" y="304"/>
                  </a:lnTo>
                  <a:lnTo>
                    <a:pt x="2" y="288"/>
                  </a:lnTo>
                  <a:lnTo>
                    <a:pt x="2" y="273"/>
                  </a:lnTo>
                  <a:lnTo>
                    <a:pt x="3" y="257"/>
                  </a:lnTo>
                  <a:lnTo>
                    <a:pt x="4" y="243"/>
                  </a:lnTo>
                  <a:lnTo>
                    <a:pt x="4" y="229"/>
                  </a:lnTo>
                  <a:lnTo>
                    <a:pt x="5" y="215"/>
                  </a:lnTo>
                  <a:lnTo>
                    <a:pt x="6" y="202"/>
                  </a:lnTo>
                  <a:lnTo>
                    <a:pt x="7" y="189"/>
                  </a:lnTo>
                  <a:lnTo>
                    <a:pt x="9" y="176"/>
                  </a:lnTo>
                  <a:lnTo>
                    <a:pt x="10" y="163"/>
                  </a:lnTo>
                  <a:lnTo>
                    <a:pt x="11" y="151"/>
                  </a:lnTo>
                  <a:lnTo>
                    <a:pt x="13" y="138"/>
                  </a:lnTo>
                  <a:lnTo>
                    <a:pt x="14" y="126"/>
                  </a:lnTo>
                  <a:lnTo>
                    <a:pt x="16" y="113"/>
                  </a:lnTo>
                  <a:lnTo>
                    <a:pt x="17" y="101"/>
                  </a:lnTo>
                  <a:lnTo>
                    <a:pt x="20" y="87"/>
                  </a:lnTo>
                  <a:lnTo>
                    <a:pt x="22" y="75"/>
                  </a:lnTo>
                  <a:lnTo>
                    <a:pt x="24" y="63"/>
                  </a:lnTo>
                  <a:lnTo>
                    <a:pt x="26" y="52"/>
                  </a:lnTo>
                  <a:lnTo>
                    <a:pt x="28" y="42"/>
                  </a:lnTo>
                  <a:lnTo>
                    <a:pt x="31" y="34"/>
                  </a:lnTo>
                  <a:lnTo>
                    <a:pt x="32" y="28"/>
                  </a:lnTo>
                  <a:lnTo>
                    <a:pt x="34" y="22"/>
                  </a:lnTo>
                  <a:lnTo>
                    <a:pt x="35" y="19"/>
                  </a:lnTo>
                  <a:lnTo>
                    <a:pt x="37" y="16"/>
                  </a:lnTo>
                  <a:lnTo>
                    <a:pt x="38" y="13"/>
                  </a:lnTo>
                  <a:lnTo>
                    <a:pt x="41" y="12"/>
                  </a:lnTo>
                  <a:lnTo>
                    <a:pt x="43" y="11"/>
                  </a:lnTo>
                  <a:lnTo>
                    <a:pt x="45" y="10"/>
                  </a:lnTo>
                  <a:lnTo>
                    <a:pt x="47" y="9"/>
                  </a:lnTo>
                  <a:lnTo>
                    <a:pt x="51" y="9"/>
                  </a:lnTo>
                  <a:lnTo>
                    <a:pt x="53" y="8"/>
                  </a:lnTo>
                  <a:lnTo>
                    <a:pt x="56" y="8"/>
                  </a:lnTo>
                  <a:lnTo>
                    <a:pt x="56" y="8"/>
                  </a:lnTo>
                  <a:lnTo>
                    <a:pt x="57" y="8"/>
                  </a:lnTo>
                  <a:lnTo>
                    <a:pt x="59" y="8"/>
                  </a:lnTo>
                  <a:lnTo>
                    <a:pt x="60" y="8"/>
                  </a:lnTo>
                  <a:lnTo>
                    <a:pt x="62" y="8"/>
                  </a:lnTo>
                  <a:lnTo>
                    <a:pt x="64" y="8"/>
                  </a:lnTo>
                  <a:lnTo>
                    <a:pt x="66" y="8"/>
                  </a:lnTo>
                  <a:lnTo>
                    <a:pt x="68" y="8"/>
                  </a:lnTo>
                  <a:lnTo>
                    <a:pt x="72" y="8"/>
                  </a:lnTo>
                  <a:lnTo>
                    <a:pt x="75" y="8"/>
                  </a:lnTo>
                  <a:lnTo>
                    <a:pt x="77" y="8"/>
                  </a:lnTo>
                  <a:lnTo>
                    <a:pt x="81" y="8"/>
                  </a:lnTo>
                  <a:lnTo>
                    <a:pt x="85" y="8"/>
                  </a:lnTo>
                  <a:lnTo>
                    <a:pt x="88" y="8"/>
                  </a:lnTo>
                  <a:lnTo>
                    <a:pt x="93" y="8"/>
                  </a:lnTo>
                  <a:lnTo>
                    <a:pt x="97" y="8"/>
                  </a:lnTo>
                  <a:lnTo>
                    <a:pt x="100" y="8"/>
                  </a:lnTo>
                  <a:lnTo>
                    <a:pt x="105" y="8"/>
                  </a:lnTo>
                  <a:lnTo>
                    <a:pt x="111" y="8"/>
                  </a:lnTo>
                  <a:lnTo>
                    <a:pt x="119" y="7"/>
                  </a:lnTo>
                  <a:lnTo>
                    <a:pt x="128" y="7"/>
                  </a:lnTo>
                  <a:lnTo>
                    <a:pt x="139" y="6"/>
                  </a:lnTo>
                  <a:lnTo>
                    <a:pt x="151" y="5"/>
                  </a:lnTo>
                  <a:lnTo>
                    <a:pt x="165" y="5"/>
                  </a:lnTo>
                  <a:lnTo>
                    <a:pt x="179" y="3"/>
                  </a:lnTo>
                  <a:lnTo>
                    <a:pt x="191" y="2"/>
                  </a:lnTo>
                  <a:lnTo>
                    <a:pt x="202" y="2"/>
                  </a:lnTo>
                  <a:lnTo>
                    <a:pt x="212" y="1"/>
                  </a:lnTo>
                  <a:lnTo>
                    <a:pt x="221" y="1"/>
                  </a:lnTo>
                  <a:lnTo>
                    <a:pt x="227" y="0"/>
                  </a:lnTo>
                  <a:lnTo>
                    <a:pt x="233" y="0"/>
                  </a:lnTo>
                  <a:lnTo>
                    <a:pt x="237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940040" y="2298600"/>
              <a:ext cx="156960" cy="193320"/>
            </a:xfrm>
            <a:custGeom>
              <a:avLst/>
              <a:gdLst/>
              <a:ahLst/>
              <a:rect l="l" t="t" r="r" b="b"/>
              <a:pathLst>
                <a:path w="394" h="489">
                  <a:moveTo>
                    <a:pt x="156" y="145"/>
                  </a:moveTo>
                  <a:lnTo>
                    <a:pt x="157" y="152"/>
                  </a:lnTo>
                  <a:lnTo>
                    <a:pt x="159" y="161"/>
                  </a:lnTo>
                  <a:lnTo>
                    <a:pt x="164" y="169"/>
                  </a:lnTo>
                  <a:lnTo>
                    <a:pt x="170" y="177"/>
                  </a:lnTo>
                  <a:lnTo>
                    <a:pt x="178" y="185"/>
                  </a:lnTo>
                  <a:lnTo>
                    <a:pt x="188" y="194"/>
                  </a:lnTo>
                  <a:lnTo>
                    <a:pt x="199" y="203"/>
                  </a:lnTo>
                  <a:lnTo>
                    <a:pt x="213" y="212"/>
                  </a:lnTo>
                  <a:lnTo>
                    <a:pt x="227" y="221"/>
                  </a:lnTo>
                  <a:lnTo>
                    <a:pt x="241" y="230"/>
                  </a:lnTo>
                  <a:lnTo>
                    <a:pt x="255" y="238"/>
                  </a:lnTo>
                  <a:lnTo>
                    <a:pt x="269" y="247"/>
                  </a:lnTo>
                  <a:lnTo>
                    <a:pt x="283" y="256"/>
                  </a:lnTo>
                  <a:lnTo>
                    <a:pt x="297" y="265"/>
                  </a:lnTo>
                  <a:lnTo>
                    <a:pt x="310" y="274"/>
                  </a:lnTo>
                  <a:lnTo>
                    <a:pt x="324" y="281"/>
                  </a:lnTo>
                  <a:lnTo>
                    <a:pt x="338" y="294"/>
                  </a:lnTo>
                  <a:lnTo>
                    <a:pt x="350" y="305"/>
                  </a:lnTo>
                  <a:lnTo>
                    <a:pt x="361" y="317"/>
                  </a:lnTo>
                  <a:lnTo>
                    <a:pt x="369" y="329"/>
                  </a:lnTo>
                  <a:lnTo>
                    <a:pt x="376" y="341"/>
                  </a:lnTo>
                  <a:lnTo>
                    <a:pt x="380" y="352"/>
                  </a:lnTo>
                  <a:lnTo>
                    <a:pt x="383" y="364"/>
                  </a:lnTo>
                  <a:lnTo>
                    <a:pt x="384" y="376"/>
                  </a:lnTo>
                  <a:lnTo>
                    <a:pt x="383" y="384"/>
                  </a:lnTo>
                  <a:lnTo>
                    <a:pt x="381" y="392"/>
                  </a:lnTo>
                  <a:lnTo>
                    <a:pt x="378" y="401"/>
                  </a:lnTo>
                  <a:lnTo>
                    <a:pt x="373" y="408"/>
                  </a:lnTo>
                  <a:lnTo>
                    <a:pt x="368" y="418"/>
                  </a:lnTo>
                  <a:lnTo>
                    <a:pt x="360" y="427"/>
                  </a:lnTo>
                  <a:lnTo>
                    <a:pt x="352" y="437"/>
                  </a:lnTo>
                  <a:lnTo>
                    <a:pt x="343" y="447"/>
                  </a:lnTo>
                  <a:lnTo>
                    <a:pt x="331" y="457"/>
                  </a:lnTo>
                  <a:lnTo>
                    <a:pt x="319" y="466"/>
                  </a:lnTo>
                  <a:lnTo>
                    <a:pt x="307" y="473"/>
                  </a:lnTo>
                  <a:lnTo>
                    <a:pt x="295" y="479"/>
                  </a:lnTo>
                  <a:lnTo>
                    <a:pt x="281" y="483"/>
                  </a:lnTo>
                  <a:lnTo>
                    <a:pt x="266" y="487"/>
                  </a:lnTo>
                  <a:lnTo>
                    <a:pt x="251" y="489"/>
                  </a:lnTo>
                  <a:lnTo>
                    <a:pt x="235" y="489"/>
                  </a:lnTo>
                  <a:lnTo>
                    <a:pt x="216" y="489"/>
                  </a:lnTo>
                  <a:lnTo>
                    <a:pt x="196" y="487"/>
                  </a:lnTo>
                  <a:lnTo>
                    <a:pt x="176" y="483"/>
                  </a:lnTo>
                  <a:lnTo>
                    <a:pt x="156" y="478"/>
                  </a:lnTo>
                  <a:lnTo>
                    <a:pt x="137" y="471"/>
                  </a:lnTo>
                  <a:lnTo>
                    <a:pt x="117" y="464"/>
                  </a:lnTo>
                  <a:lnTo>
                    <a:pt x="97" y="455"/>
                  </a:lnTo>
                  <a:lnTo>
                    <a:pt x="79" y="444"/>
                  </a:lnTo>
                  <a:lnTo>
                    <a:pt x="60" y="433"/>
                  </a:lnTo>
                  <a:lnTo>
                    <a:pt x="44" y="422"/>
                  </a:lnTo>
                  <a:lnTo>
                    <a:pt x="31" y="412"/>
                  </a:lnTo>
                  <a:lnTo>
                    <a:pt x="20" y="402"/>
                  </a:lnTo>
                  <a:lnTo>
                    <a:pt x="11" y="394"/>
                  </a:lnTo>
                  <a:lnTo>
                    <a:pt x="6" y="385"/>
                  </a:lnTo>
                  <a:lnTo>
                    <a:pt x="1" y="377"/>
                  </a:lnTo>
                  <a:lnTo>
                    <a:pt x="0" y="371"/>
                  </a:lnTo>
                  <a:lnTo>
                    <a:pt x="0" y="368"/>
                  </a:lnTo>
                  <a:lnTo>
                    <a:pt x="1" y="364"/>
                  </a:lnTo>
                  <a:lnTo>
                    <a:pt x="1" y="361"/>
                  </a:lnTo>
                  <a:lnTo>
                    <a:pt x="1" y="359"/>
                  </a:lnTo>
                  <a:lnTo>
                    <a:pt x="2" y="355"/>
                  </a:lnTo>
                  <a:lnTo>
                    <a:pt x="2" y="352"/>
                  </a:lnTo>
                  <a:lnTo>
                    <a:pt x="4" y="349"/>
                  </a:lnTo>
                  <a:lnTo>
                    <a:pt x="5" y="345"/>
                  </a:lnTo>
                  <a:lnTo>
                    <a:pt x="6" y="343"/>
                  </a:lnTo>
                  <a:lnTo>
                    <a:pt x="7" y="340"/>
                  </a:lnTo>
                  <a:lnTo>
                    <a:pt x="9" y="338"/>
                  </a:lnTo>
                  <a:lnTo>
                    <a:pt x="11" y="337"/>
                  </a:lnTo>
                  <a:lnTo>
                    <a:pt x="15" y="334"/>
                  </a:lnTo>
                  <a:lnTo>
                    <a:pt x="18" y="333"/>
                  </a:lnTo>
                  <a:lnTo>
                    <a:pt x="21" y="333"/>
                  </a:lnTo>
                  <a:lnTo>
                    <a:pt x="26" y="333"/>
                  </a:lnTo>
                  <a:lnTo>
                    <a:pt x="31" y="333"/>
                  </a:lnTo>
                  <a:lnTo>
                    <a:pt x="38" y="336"/>
                  </a:lnTo>
                  <a:lnTo>
                    <a:pt x="46" y="339"/>
                  </a:lnTo>
                  <a:lnTo>
                    <a:pt x="55" y="342"/>
                  </a:lnTo>
                  <a:lnTo>
                    <a:pt x="65" y="348"/>
                  </a:lnTo>
                  <a:lnTo>
                    <a:pt x="78" y="354"/>
                  </a:lnTo>
                  <a:lnTo>
                    <a:pt x="90" y="362"/>
                  </a:lnTo>
                  <a:lnTo>
                    <a:pt x="104" y="370"/>
                  </a:lnTo>
                  <a:lnTo>
                    <a:pt x="118" y="379"/>
                  </a:lnTo>
                  <a:lnTo>
                    <a:pt x="133" y="386"/>
                  </a:lnTo>
                  <a:lnTo>
                    <a:pt x="146" y="393"/>
                  </a:lnTo>
                  <a:lnTo>
                    <a:pt x="159" y="398"/>
                  </a:lnTo>
                  <a:lnTo>
                    <a:pt x="172" y="402"/>
                  </a:lnTo>
                  <a:lnTo>
                    <a:pt x="184" y="405"/>
                  </a:lnTo>
                  <a:lnTo>
                    <a:pt x="196" y="407"/>
                  </a:lnTo>
                  <a:lnTo>
                    <a:pt x="207" y="407"/>
                  </a:lnTo>
                  <a:lnTo>
                    <a:pt x="217" y="407"/>
                  </a:lnTo>
                  <a:lnTo>
                    <a:pt x="225" y="405"/>
                  </a:lnTo>
                  <a:lnTo>
                    <a:pt x="233" y="403"/>
                  </a:lnTo>
                  <a:lnTo>
                    <a:pt x="239" y="400"/>
                  </a:lnTo>
                  <a:lnTo>
                    <a:pt x="243" y="395"/>
                  </a:lnTo>
                  <a:lnTo>
                    <a:pt x="246" y="388"/>
                  </a:lnTo>
                  <a:lnTo>
                    <a:pt x="249" y="382"/>
                  </a:lnTo>
                  <a:lnTo>
                    <a:pt x="250" y="374"/>
                  </a:lnTo>
                  <a:lnTo>
                    <a:pt x="249" y="365"/>
                  </a:lnTo>
                  <a:lnTo>
                    <a:pt x="246" y="355"/>
                  </a:lnTo>
                  <a:lnTo>
                    <a:pt x="242" y="345"/>
                  </a:lnTo>
                  <a:lnTo>
                    <a:pt x="237" y="337"/>
                  </a:lnTo>
                  <a:lnTo>
                    <a:pt x="229" y="327"/>
                  </a:lnTo>
                  <a:lnTo>
                    <a:pt x="220" y="318"/>
                  </a:lnTo>
                  <a:lnTo>
                    <a:pt x="209" y="308"/>
                  </a:lnTo>
                  <a:lnTo>
                    <a:pt x="197" y="299"/>
                  </a:lnTo>
                  <a:lnTo>
                    <a:pt x="185" y="291"/>
                  </a:lnTo>
                  <a:lnTo>
                    <a:pt x="171" y="284"/>
                  </a:lnTo>
                  <a:lnTo>
                    <a:pt x="159" y="275"/>
                  </a:lnTo>
                  <a:lnTo>
                    <a:pt x="147" y="267"/>
                  </a:lnTo>
                  <a:lnTo>
                    <a:pt x="135" y="259"/>
                  </a:lnTo>
                  <a:lnTo>
                    <a:pt x="122" y="252"/>
                  </a:lnTo>
                  <a:lnTo>
                    <a:pt x="110" y="243"/>
                  </a:lnTo>
                  <a:lnTo>
                    <a:pt x="97" y="235"/>
                  </a:lnTo>
                  <a:lnTo>
                    <a:pt x="85" y="225"/>
                  </a:lnTo>
                  <a:lnTo>
                    <a:pt x="74" y="214"/>
                  </a:lnTo>
                  <a:lnTo>
                    <a:pt x="65" y="203"/>
                  </a:lnTo>
                  <a:lnTo>
                    <a:pt x="58" y="191"/>
                  </a:lnTo>
                  <a:lnTo>
                    <a:pt x="52" y="180"/>
                  </a:lnTo>
                  <a:lnTo>
                    <a:pt x="48" y="168"/>
                  </a:lnTo>
                  <a:lnTo>
                    <a:pt x="44" y="156"/>
                  </a:lnTo>
                  <a:lnTo>
                    <a:pt x="44" y="143"/>
                  </a:lnTo>
                  <a:lnTo>
                    <a:pt x="44" y="132"/>
                  </a:lnTo>
                  <a:lnTo>
                    <a:pt x="48" y="120"/>
                  </a:lnTo>
                  <a:lnTo>
                    <a:pt x="52" y="109"/>
                  </a:lnTo>
                  <a:lnTo>
                    <a:pt x="58" y="97"/>
                  </a:lnTo>
                  <a:lnTo>
                    <a:pt x="65" y="86"/>
                  </a:lnTo>
                  <a:lnTo>
                    <a:pt x="74" y="74"/>
                  </a:lnTo>
                  <a:lnTo>
                    <a:pt x="85" y="62"/>
                  </a:lnTo>
                  <a:lnTo>
                    <a:pt x="97" y="50"/>
                  </a:lnTo>
                  <a:lnTo>
                    <a:pt x="112" y="38"/>
                  </a:lnTo>
                  <a:lnTo>
                    <a:pt x="125" y="28"/>
                  </a:lnTo>
                  <a:lnTo>
                    <a:pt x="140" y="19"/>
                  </a:lnTo>
                  <a:lnTo>
                    <a:pt x="155" y="12"/>
                  </a:lnTo>
                  <a:lnTo>
                    <a:pt x="170" y="7"/>
                  </a:lnTo>
                  <a:lnTo>
                    <a:pt x="187" y="3"/>
                  </a:lnTo>
                  <a:lnTo>
                    <a:pt x="203" y="1"/>
                  </a:lnTo>
                  <a:lnTo>
                    <a:pt x="220" y="0"/>
                  </a:lnTo>
                  <a:lnTo>
                    <a:pt x="225" y="0"/>
                  </a:lnTo>
                  <a:lnTo>
                    <a:pt x="232" y="0"/>
                  </a:lnTo>
                  <a:lnTo>
                    <a:pt x="237" y="1"/>
                  </a:lnTo>
                  <a:lnTo>
                    <a:pt x="242" y="2"/>
                  </a:lnTo>
                  <a:lnTo>
                    <a:pt x="246" y="2"/>
                  </a:lnTo>
                  <a:lnTo>
                    <a:pt x="252" y="4"/>
                  </a:lnTo>
                  <a:lnTo>
                    <a:pt x="255" y="6"/>
                  </a:lnTo>
                  <a:lnTo>
                    <a:pt x="260" y="7"/>
                  </a:lnTo>
                  <a:lnTo>
                    <a:pt x="263" y="9"/>
                  </a:lnTo>
                  <a:lnTo>
                    <a:pt x="267" y="11"/>
                  </a:lnTo>
                  <a:lnTo>
                    <a:pt x="273" y="12"/>
                  </a:lnTo>
                  <a:lnTo>
                    <a:pt x="278" y="15"/>
                  </a:lnTo>
                  <a:lnTo>
                    <a:pt x="284" y="18"/>
                  </a:lnTo>
                  <a:lnTo>
                    <a:pt x="291" y="20"/>
                  </a:lnTo>
                  <a:lnTo>
                    <a:pt x="297" y="23"/>
                  </a:lnTo>
                  <a:lnTo>
                    <a:pt x="305" y="25"/>
                  </a:lnTo>
                  <a:lnTo>
                    <a:pt x="313" y="29"/>
                  </a:lnTo>
                  <a:lnTo>
                    <a:pt x="320" y="33"/>
                  </a:lnTo>
                  <a:lnTo>
                    <a:pt x="327" y="36"/>
                  </a:lnTo>
                  <a:lnTo>
                    <a:pt x="335" y="41"/>
                  </a:lnTo>
                  <a:lnTo>
                    <a:pt x="343" y="46"/>
                  </a:lnTo>
                  <a:lnTo>
                    <a:pt x="350" y="52"/>
                  </a:lnTo>
                  <a:lnTo>
                    <a:pt x="358" y="57"/>
                  </a:lnTo>
                  <a:lnTo>
                    <a:pt x="365" y="63"/>
                  </a:lnTo>
                  <a:lnTo>
                    <a:pt x="372" y="70"/>
                  </a:lnTo>
                  <a:lnTo>
                    <a:pt x="378" y="76"/>
                  </a:lnTo>
                  <a:lnTo>
                    <a:pt x="383" y="83"/>
                  </a:lnTo>
                  <a:lnTo>
                    <a:pt x="387" y="91"/>
                  </a:lnTo>
                  <a:lnTo>
                    <a:pt x="390" y="97"/>
                  </a:lnTo>
                  <a:lnTo>
                    <a:pt x="392" y="105"/>
                  </a:lnTo>
                  <a:lnTo>
                    <a:pt x="394" y="111"/>
                  </a:lnTo>
                  <a:lnTo>
                    <a:pt x="394" y="119"/>
                  </a:lnTo>
                  <a:lnTo>
                    <a:pt x="394" y="126"/>
                  </a:lnTo>
                  <a:lnTo>
                    <a:pt x="393" y="131"/>
                  </a:lnTo>
                  <a:lnTo>
                    <a:pt x="393" y="137"/>
                  </a:lnTo>
                  <a:lnTo>
                    <a:pt x="392" y="142"/>
                  </a:lnTo>
                  <a:lnTo>
                    <a:pt x="390" y="148"/>
                  </a:lnTo>
                  <a:lnTo>
                    <a:pt x="388" y="152"/>
                  </a:lnTo>
                  <a:lnTo>
                    <a:pt x="386" y="158"/>
                  </a:lnTo>
                  <a:lnTo>
                    <a:pt x="383" y="162"/>
                  </a:lnTo>
                  <a:lnTo>
                    <a:pt x="380" y="166"/>
                  </a:lnTo>
                  <a:lnTo>
                    <a:pt x="378" y="169"/>
                  </a:lnTo>
                  <a:lnTo>
                    <a:pt x="375" y="172"/>
                  </a:lnTo>
                  <a:lnTo>
                    <a:pt x="370" y="174"/>
                  </a:lnTo>
                  <a:lnTo>
                    <a:pt x="367" y="177"/>
                  </a:lnTo>
                  <a:lnTo>
                    <a:pt x="363" y="178"/>
                  </a:lnTo>
                  <a:lnTo>
                    <a:pt x="359" y="179"/>
                  </a:lnTo>
                  <a:lnTo>
                    <a:pt x="355" y="179"/>
                  </a:lnTo>
                  <a:lnTo>
                    <a:pt x="352" y="179"/>
                  </a:lnTo>
                  <a:lnTo>
                    <a:pt x="350" y="179"/>
                  </a:lnTo>
                  <a:lnTo>
                    <a:pt x="348" y="178"/>
                  </a:lnTo>
                  <a:lnTo>
                    <a:pt x="345" y="178"/>
                  </a:lnTo>
                  <a:lnTo>
                    <a:pt x="343" y="177"/>
                  </a:lnTo>
                  <a:lnTo>
                    <a:pt x="339" y="175"/>
                  </a:lnTo>
                  <a:lnTo>
                    <a:pt x="336" y="175"/>
                  </a:lnTo>
                  <a:lnTo>
                    <a:pt x="333" y="174"/>
                  </a:lnTo>
                  <a:lnTo>
                    <a:pt x="329" y="173"/>
                  </a:lnTo>
                  <a:lnTo>
                    <a:pt x="326" y="172"/>
                  </a:lnTo>
                  <a:lnTo>
                    <a:pt x="323" y="171"/>
                  </a:lnTo>
                  <a:lnTo>
                    <a:pt x="318" y="170"/>
                  </a:lnTo>
                  <a:lnTo>
                    <a:pt x="315" y="169"/>
                  </a:lnTo>
                  <a:lnTo>
                    <a:pt x="310" y="169"/>
                  </a:lnTo>
                  <a:lnTo>
                    <a:pt x="307" y="168"/>
                  </a:lnTo>
                  <a:lnTo>
                    <a:pt x="303" y="167"/>
                  </a:lnTo>
                  <a:lnTo>
                    <a:pt x="298" y="167"/>
                  </a:lnTo>
                  <a:lnTo>
                    <a:pt x="295" y="166"/>
                  </a:lnTo>
                  <a:lnTo>
                    <a:pt x="291" y="166"/>
                  </a:lnTo>
                  <a:lnTo>
                    <a:pt x="288" y="164"/>
                  </a:lnTo>
                  <a:lnTo>
                    <a:pt x="285" y="164"/>
                  </a:lnTo>
                  <a:lnTo>
                    <a:pt x="283" y="163"/>
                  </a:lnTo>
                  <a:lnTo>
                    <a:pt x="281" y="162"/>
                  </a:lnTo>
                  <a:lnTo>
                    <a:pt x="278" y="162"/>
                  </a:lnTo>
                  <a:lnTo>
                    <a:pt x="276" y="161"/>
                  </a:lnTo>
                  <a:lnTo>
                    <a:pt x="275" y="160"/>
                  </a:lnTo>
                  <a:lnTo>
                    <a:pt x="273" y="159"/>
                  </a:lnTo>
                  <a:lnTo>
                    <a:pt x="271" y="157"/>
                  </a:lnTo>
                  <a:lnTo>
                    <a:pt x="269" y="155"/>
                  </a:lnTo>
                  <a:lnTo>
                    <a:pt x="266" y="153"/>
                  </a:lnTo>
                  <a:lnTo>
                    <a:pt x="263" y="150"/>
                  </a:lnTo>
                  <a:lnTo>
                    <a:pt x="261" y="148"/>
                  </a:lnTo>
                  <a:lnTo>
                    <a:pt x="259" y="145"/>
                  </a:lnTo>
                  <a:lnTo>
                    <a:pt x="256" y="142"/>
                  </a:lnTo>
                  <a:lnTo>
                    <a:pt x="254" y="139"/>
                  </a:lnTo>
                  <a:lnTo>
                    <a:pt x="252" y="136"/>
                  </a:lnTo>
                  <a:lnTo>
                    <a:pt x="251" y="132"/>
                  </a:lnTo>
                  <a:lnTo>
                    <a:pt x="250" y="129"/>
                  </a:lnTo>
                  <a:lnTo>
                    <a:pt x="249" y="125"/>
                  </a:lnTo>
                  <a:lnTo>
                    <a:pt x="248" y="121"/>
                  </a:lnTo>
                  <a:lnTo>
                    <a:pt x="248" y="117"/>
                  </a:lnTo>
                  <a:lnTo>
                    <a:pt x="246" y="114"/>
                  </a:lnTo>
                  <a:lnTo>
                    <a:pt x="246" y="109"/>
                  </a:lnTo>
                  <a:lnTo>
                    <a:pt x="246" y="106"/>
                  </a:lnTo>
                  <a:lnTo>
                    <a:pt x="245" y="103"/>
                  </a:lnTo>
                  <a:lnTo>
                    <a:pt x="245" y="99"/>
                  </a:lnTo>
                  <a:lnTo>
                    <a:pt x="245" y="95"/>
                  </a:lnTo>
                  <a:lnTo>
                    <a:pt x="244" y="92"/>
                  </a:lnTo>
                  <a:lnTo>
                    <a:pt x="245" y="91"/>
                  </a:lnTo>
                  <a:lnTo>
                    <a:pt x="245" y="89"/>
                  </a:lnTo>
                  <a:lnTo>
                    <a:pt x="244" y="88"/>
                  </a:lnTo>
                  <a:lnTo>
                    <a:pt x="244" y="87"/>
                  </a:lnTo>
                  <a:lnTo>
                    <a:pt x="244" y="86"/>
                  </a:lnTo>
                  <a:lnTo>
                    <a:pt x="243" y="85"/>
                  </a:lnTo>
                  <a:lnTo>
                    <a:pt x="242" y="84"/>
                  </a:lnTo>
                  <a:lnTo>
                    <a:pt x="241" y="83"/>
                  </a:lnTo>
                  <a:lnTo>
                    <a:pt x="240" y="82"/>
                  </a:lnTo>
                  <a:lnTo>
                    <a:pt x="239" y="82"/>
                  </a:lnTo>
                  <a:lnTo>
                    <a:pt x="238" y="81"/>
                  </a:lnTo>
                  <a:lnTo>
                    <a:pt x="237" y="81"/>
                  </a:lnTo>
                  <a:lnTo>
                    <a:pt x="235" y="79"/>
                  </a:lnTo>
                  <a:lnTo>
                    <a:pt x="234" y="79"/>
                  </a:lnTo>
                  <a:lnTo>
                    <a:pt x="232" y="79"/>
                  </a:lnTo>
                  <a:lnTo>
                    <a:pt x="231" y="79"/>
                  </a:lnTo>
                  <a:lnTo>
                    <a:pt x="228" y="79"/>
                  </a:lnTo>
                  <a:lnTo>
                    <a:pt x="224" y="81"/>
                  </a:lnTo>
                  <a:lnTo>
                    <a:pt x="221" y="82"/>
                  </a:lnTo>
                  <a:lnTo>
                    <a:pt x="216" y="84"/>
                  </a:lnTo>
                  <a:lnTo>
                    <a:pt x="210" y="86"/>
                  </a:lnTo>
                  <a:lnTo>
                    <a:pt x="203" y="89"/>
                  </a:lnTo>
                  <a:lnTo>
                    <a:pt x="197" y="93"/>
                  </a:lnTo>
                  <a:lnTo>
                    <a:pt x="189" y="96"/>
                  </a:lnTo>
                  <a:lnTo>
                    <a:pt x="181" y="102"/>
                  </a:lnTo>
                  <a:lnTo>
                    <a:pt x="175" y="106"/>
                  </a:lnTo>
                  <a:lnTo>
                    <a:pt x="169" y="111"/>
                  </a:lnTo>
                  <a:lnTo>
                    <a:pt x="164" y="117"/>
                  </a:lnTo>
                  <a:lnTo>
                    <a:pt x="160" y="124"/>
                  </a:lnTo>
                  <a:lnTo>
                    <a:pt x="158" y="130"/>
                  </a:lnTo>
                  <a:lnTo>
                    <a:pt x="156" y="138"/>
                  </a:lnTo>
                  <a:lnTo>
                    <a:pt x="156" y="14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117880" y="2295360"/>
              <a:ext cx="174600" cy="188640"/>
            </a:xfrm>
            <a:custGeom>
              <a:avLst/>
              <a:gdLst/>
              <a:ahLst/>
              <a:rect l="l" t="t" r="r" b="b"/>
              <a:pathLst>
                <a:path w="439" h="474">
                  <a:moveTo>
                    <a:pt x="234" y="474"/>
                  </a:moveTo>
                  <a:lnTo>
                    <a:pt x="215" y="473"/>
                  </a:lnTo>
                  <a:lnTo>
                    <a:pt x="195" y="471"/>
                  </a:lnTo>
                  <a:lnTo>
                    <a:pt x="176" y="466"/>
                  </a:lnTo>
                  <a:lnTo>
                    <a:pt x="156" y="461"/>
                  </a:lnTo>
                  <a:lnTo>
                    <a:pt x="138" y="454"/>
                  </a:lnTo>
                  <a:lnTo>
                    <a:pt x="118" y="445"/>
                  </a:lnTo>
                  <a:lnTo>
                    <a:pt x="98" y="434"/>
                  </a:lnTo>
                  <a:lnTo>
                    <a:pt x="78" y="422"/>
                  </a:lnTo>
                  <a:lnTo>
                    <a:pt x="69" y="416"/>
                  </a:lnTo>
                  <a:lnTo>
                    <a:pt x="60" y="409"/>
                  </a:lnTo>
                  <a:lnTo>
                    <a:pt x="51" y="401"/>
                  </a:lnTo>
                  <a:lnTo>
                    <a:pt x="44" y="392"/>
                  </a:lnTo>
                  <a:lnTo>
                    <a:pt x="37" y="384"/>
                  </a:lnTo>
                  <a:lnTo>
                    <a:pt x="31" y="375"/>
                  </a:lnTo>
                  <a:lnTo>
                    <a:pt x="25" y="365"/>
                  </a:lnTo>
                  <a:lnTo>
                    <a:pt x="19" y="355"/>
                  </a:lnTo>
                  <a:lnTo>
                    <a:pt x="15" y="344"/>
                  </a:lnTo>
                  <a:lnTo>
                    <a:pt x="11" y="333"/>
                  </a:lnTo>
                  <a:lnTo>
                    <a:pt x="7" y="322"/>
                  </a:lnTo>
                  <a:lnTo>
                    <a:pt x="5" y="310"/>
                  </a:lnTo>
                  <a:lnTo>
                    <a:pt x="3" y="296"/>
                  </a:lnTo>
                  <a:lnTo>
                    <a:pt x="1" y="283"/>
                  </a:lnTo>
                  <a:lnTo>
                    <a:pt x="1" y="270"/>
                  </a:lnTo>
                  <a:lnTo>
                    <a:pt x="0" y="256"/>
                  </a:lnTo>
                  <a:lnTo>
                    <a:pt x="1" y="231"/>
                  </a:lnTo>
                  <a:lnTo>
                    <a:pt x="4" y="208"/>
                  </a:lnTo>
                  <a:lnTo>
                    <a:pt x="8" y="186"/>
                  </a:lnTo>
                  <a:lnTo>
                    <a:pt x="16" y="163"/>
                  </a:lnTo>
                  <a:lnTo>
                    <a:pt x="25" y="142"/>
                  </a:lnTo>
                  <a:lnTo>
                    <a:pt x="36" y="120"/>
                  </a:lnTo>
                  <a:lnTo>
                    <a:pt x="49" y="99"/>
                  </a:lnTo>
                  <a:lnTo>
                    <a:pt x="65" y="79"/>
                  </a:lnTo>
                  <a:lnTo>
                    <a:pt x="80" y="60"/>
                  </a:lnTo>
                  <a:lnTo>
                    <a:pt x="97" y="44"/>
                  </a:lnTo>
                  <a:lnTo>
                    <a:pt x="112" y="31"/>
                  </a:lnTo>
                  <a:lnTo>
                    <a:pt x="129" y="19"/>
                  </a:lnTo>
                  <a:lnTo>
                    <a:pt x="136" y="14"/>
                  </a:lnTo>
                  <a:lnTo>
                    <a:pt x="145" y="11"/>
                  </a:lnTo>
                  <a:lnTo>
                    <a:pt x="153" y="7"/>
                  </a:lnTo>
                  <a:lnTo>
                    <a:pt x="162" y="4"/>
                  </a:lnTo>
                  <a:lnTo>
                    <a:pt x="170" y="2"/>
                  </a:lnTo>
                  <a:lnTo>
                    <a:pt x="177" y="1"/>
                  </a:lnTo>
                  <a:lnTo>
                    <a:pt x="186" y="0"/>
                  </a:lnTo>
                  <a:lnTo>
                    <a:pt x="194" y="0"/>
                  </a:lnTo>
                  <a:lnTo>
                    <a:pt x="197" y="0"/>
                  </a:lnTo>
                  <a:lnTo>
                    <a:pt x="199" y="0"/>
                  </a:lnTo>
                  <a:lnTo>
                    <a:pt x="202" y="0"/>
                  </a:lnTo>
                  <a:lnTo>
                    <a:pt x="204" y="0"/>
                  </a:lnTo>
                  <a:lnTo>
                    <a:pt x="206" y="0"/>
                  </a:lnTo>
                  <a:lnTo>
                    <a:pt x="208" y="0"/>
                  </a:lnTo>
                  <a:lnTo>
                    <a:pt x="209" y="0"/>
                  </a:lnTo>
                  <a:lnTo>
                    <a:pt x="212" y="1"/>
                  </a:lnTo>
                  <a:lnTo>
                    <a:pt x="213" y="1"/>
                  </a:lnTo>
                  <a:lnTo>
                    <a:pt x="215" y="2"/>
                  </a:lnTo>
                  <a:lnTo>
                    <a:pt x="218" y="2"/>
                  </a:lnTo>
                  <a:lnTo>
                    <a:pt x="222" y="3"/>
                  </a:lnTo>
                  <a:lnTo>
                    <a:pt x="226" y="4"/>
                  </a:lnTo>
                  <a:lnTo>
                    <a:pt x="230" y="5"/>
                  </a:lnTo>
                  <a:lnTo>
                    <a:pt x="235" y="7"/>
                  </a:lnTo>
                  <a:lnTo>
                    <a:pt x="240" y="8"/>
                  </a:lnTo>
                  <a:lnTo>
                    <a:pt x="247" y="11"/>
                  </a:lnTo>
                  <a:lnTo>
                    <a:pt x="252" y="12"/>
                  </a:lnTo>
                  <a:lnTo>
                    <a:pt x="258" y="14"/>
                  </a:lnTo>
                  <a:lnTo>
                    <a:pt x="263" y="15"/>
                  </a:lnTo>
                  <a:lnTo>
                    <a:pt x="269" y="16"/>
                  </a:lnTo>
                  <a:lnTo>
                    <a:pt x="276" y="16"/>
                  </a:lnTo>
                  <a:lnTo>
                    <a:pt x="281" y="17"/>
                  </a:lnTo>
                  <a:lnTo>
                    <a:pt x="286" y="17"/>
                  </a:lnTo>
                  <a:lnTo>
                    <a:pt x="291" y="18"/>
                  </a:lnTo>
                  <a:lnTo>
                    <a:pt x="297" y="18"/>
                  </a:lnTo>
                  <a:lnTo>
                    <a:pt x="301" y="19"/>
                  </a:lnTo>
                  <a:lnTo>
                    <a:pt x="305" y="21"/>
                  </a:lnTo>
                  <a:lnTo>
                    <a:pt x="310" y="21"/>
                  </a:lnTo>
                  <a:lnTo>
                    <a:pt x="314" y="22"/>
                  </a:lnTo>
                  <a:lnTo>
                    <a:pt x="318" y="23"/>
                  </a:lnTo>
                  <a:lnTo>
                    <a:pt x="322" y="24"/>
                  </a:lnTo>
                  <a:lnTo>
                    <a:pt x="325" y="26"/>
                  </a:lnTo>
                  <a:lnTo>
                    <a:pt x="330" y="27"/>
                  </a:lnTo>
                  <a:lnTo>
                    <a:pt x="334" y="31"/>
                  </a:lnTo>
                  <a:lnTo>
                    <a:pt x="340" y="33"/>
                  </a:lnTo>
                  <a:lnTo>
                    <a:pt x="345" y="36"/>
                  </a:lnTo>
                  <a:lnTo>
                    <a:pt x="351" y="40"/>
                  </a:lnTo>
                  <a:lnTo>
                    <a:pt x="357" y="45"/>
                  </a:lnTo>
                  <a:lnTo>
                    <a:pt x="364" y="49"/>
                  </a:lnTo>
                  <a:lnTo>
                    <a:pt x="372" y="55"/>
                  </a:lnTo>
                  <a:lnTo>
                    <a:pt x="378" y="61"/>
                  </a:lnTo>
                  <a:lnTo>
                    <a:pt x="385" y="68"/>
                  </a:lnTo>
                  <a:lnTo>
                    <a:pt x="392" y="76"/>
                  </a:lnTo>
                  <a:lnTo>
                    <a:pt x="398" y="85"/>
                  </a:lnTo>
                  <a:lnTo>
                    <a:pt x="404" y="95"/>
                  </a:lnTo>
                  <a:lnTo>
                    <a:pt x="410" y="106"/>
                  </a:lnTo>
                  <a:lnTo>
                    <a:pt x="416" y="118"/>
                  </a:lnTo>
                  <a:lnTo>
                    <a:pt x="421" y="130"/>
                  </a:lnTo>
                  <a:lnTo>
                    <a:pt x="426" y="142"/>
                  </a:lnTo>
                  <a:lnTo>
                    <a:pt x="430" y="154"/>
                  </a:lnTo>
                  <a:lnTo>
                    <a:pt x="433" y="167"/>
                  </a:lnTo>
                  <a:lnTo>
                    <a:pt x="436" y="181"/>
                  </a:lnTo>
                  <a:lnTo>
                    <a:pt x="438" y="194"/>
                  </a:lnTo>
                  <a:lnTo>
                    <a:pt x="439" y="207"/>
                  </a:lnTo>
                  <a:lnTo>
                    <a:pt x="439" y="221"/>
                  </a:lnTo>
                  <a:lnTo>
                    <a:pt x="438" y="242"/>
                  </a:lnTo>
                  <a:lnTo>
                    <a:pt x="436" y="263"/>
                  </a:lnTo>
                  <a:lnTo>
                    <a:pt x="431" y="284"/>
                  </a:lnTo>
                  <a:lnTo>
                    <a:pt x="425" y="305"/>
                  </a:lnTo>
                  <a:lnTo>
                    <a:pt x="416" y="327"/>
                  </a:lnTo>
                  <a:lnTo>
                    <a:pt x="406" y="348"/>
                  </a:lnTo>
                  <a:lnTo>
                    <a:pt x="394" y="369"/>
                  </a:lnTo>
                  <a:lnTo>
                    <a:pt x="379" y="390"/>
                  </a:lnTo>
                  <a:lnTo>
                    <a:pt x="373" y="400"/>
                  </a:lnTo>
                  <a:lnTo>
                    <a:pt x="365" y="410"/>
                  </a:lnTo>
                  <a:lnTo>
                    <a:pt x="356" y="419"/>
                  </a:lnTo>
                  <a:lnTo>
                    <a:pt x="348" y="427"/>
                  </a:lnTo>
                  <a:lnTo>
                    <a:pt x="341" y="434"/>
                  </a:lnTo>
                  <a:lnTo>
                    <a:pt x="332" y="441"/>
                  </a:lnTo>
                  <a:lnTo>
                    <a:pt x="323" y="448"/>
                  </a:lnTo>
                  <a:lnTo>
                    <a:pt x="314" y="453"/>
                  </a:lnTo>
                  <a:lnTo>
                    <a:pt x="304" y="458"/>
                  </a:lnTo>
                  <a:lnTo>
                    <a:pt x="295" y="462"/>
                  </a:lnTo>
                  <a:lnTo>
                    <a:pt x="286" y="465"/>
                  </a:lnTo>
                  <a:lnTo>
                    <a:pt x="276" y="469"/>
                  </a:lnTo>
                  <a:lnTo>
                    <a:pt x="266" y="471"/>
                  </a:lnTo>
                  <a:lnTo>
                    <a:pt x="255" y="473"/>
                  </a:lnTo>
                  <a:lnTo>
                    <a:pt x="245" y="473"/>
                  </a:lnTo>
                  <a:lnTo>
                    <a:pt x="234" y="474"/>
                  </a:lnTo>
                  <a:close/>
                  <a:moveTo>
                    <a:pt x="234" y="50"/>
                  </a:moveTo>
                  <a:lnTo>
                    <a:pt x="228" y="51"/>
                  </a:lnTo>
                  <a:lnTo>
                    <a:pt x="224" y="51"/>
                  </a:lnTo>
                  <a:lnTo>
                    <a:pt x="218" y="54"/>
                  </a:lnTo>
                  <a:lnTo>
                    <a:pt x="213" y="56"/>
                  </a:lnTo>
                  <a:lnTo>
                    <a:pt x="203" y="61"/>
                  </a:lnTo>
                  <a:lnTo>
                    <a:pt x="193" y="70"/>
                  </a:lnTo>
                  <a:lnTo>
                    <a:pt x="183" y="80"/>
                  </a:lnTo>
                  <a:lnTo>
                    <a:pt x="173" y="93"/>
                  </a:lnTo>
                  <a:lnTo>
                    <a:pt x="163" y="109"/>
                  </a:lnTo>
                  <a:lnTo>
                    <a:pt x="153" y="127"/>
                  </a:lnTo>
                  <a:lnTo>
                    <a:pt x="144" y="145"/>
                  </a:lnTo>
                  <a:lnTo>
                    <a:pt x="136" y="164"/>
                  </a:lnTo>
                  <a:lnTo>
                    <a:pt x="130" y="182"/>
                  </a:lnTo>
                  <a:lnTo>
                    <a:pt x="124" y="199"/>
                  </a:lnTo>
                  <a:lnTo>
                    <a:pt x="120" y="216"/>
                  </a:lnTo>
                  <a:lnTo>
                    <a:pt x="117" y="234"/>
                  </a:lnTo>
                  <a:lnTo>
                    <a:pt x="116" y="250"/>
                  </a:lnTo>
                  <a:lnTo>
                    <a:pt x="114" y="266"/>
                  </a:lnTo>
                  <a:lnTo>
                    <a:pt x="114" y="281"/>
                  </a:lnTo>
                  <a:lnTo>
                    <a:pt x="116" y="296"/>
                  </a:lnTo>
                  <a:lnTo>
                    <a:pt x="118" y="311"/>
                  </a:lnTo>
                  <a:lnTo>
                    <a:pt x="120" y="324"/>
                  </a:lnTo>
                  <a:lnTo>
                    <a:pt x="123" y="337"/>
                  </a:lnTo>
                  <a:lnTo>
                    <a:pt x="127" y="351"/>
                  </a:lnTo>
                  <a:lnTo>
                    <a:pt x="132" y="363"/>
                  </a:lnTo>
                  <a:lnTo>
                    <a:pt x="136" y="374"/>
                  </a:lnTo>
                  <a:lnTo>
                    <a:pt x="142" y="385"/>
                  </a:lnTo>
                  <a:lnTo>
                    <a:pt x="149" y="394"/>
                  </a:lnTo>
                  <a:lnTo>
                    <a:pt x="155" y="401"/>
                  </a:lnTo>
                  <a:lnTo>
                    <a:pt x="162" y="408"/>
                  </a:lnTo>
                  <a:lnTo>
                    <a:pt x="169" y="412"/>
                  </a:lnTo>
                  <a:lnTo>
                    <a:pt x="176" y="416"/>
                  </a:lnTo>
                  <a:lnTo>
                    <a:pt x="183" y="418"/>
                  </a:lnTo>
                  <a:lnTo>
                    <a:pt x="192" y="419"/>
                  </a:lnTo>
                  <a:lnTo>
                    <a:pt x="198" y="419"/>
                  </a:lnTo>
                  <a:lnTo>
                    <a:pt x="204" y="418"/>
                  </a:lnTo>
                  <a:lnTo>
                    <a:pt x="210" y="417"/>
                  </a:lnTo>
                  <a:lnTo>
                    <a:pt x="217" y="415"/>
                  </a:lnTo>
                  <a:lnTo>
                    <a:pt x="223" y="411"/>
                  </a:lnTo>
                  <a:lnTo>
                    <a:pt x="228" y="408"/>
                  </a:lnTo>
                  <a:lnTo>
                    <a:pt x="234" y="405"/>
                  </a:lnTo>
                  <a:lnTo>
                    <a:pt x="239" y="400"/>
                  </a:lnTo>
                  <a:lnTo>
                    <a:pt x="250" y="389"/>
                  </a:lnTo>
                  <a:lnTo>
                    <a:pt x="260" y="376"/>
                  </a:lnTo>
                  <a:lnTo>
                    <a:pt x="269" y="360"/>
                  </a:lnTo>
                  <a:lnTo>
                    <a:pt x="278" y="342"/>
                  </a:lnTo>
                  <a:lnTo>
                    <a:pt x="284" y="323"/>
                  </a:lnTo>
                  <a:lnTo>
                    <a:pt x="291" y="305"/>
                  </a:lnTo>
                  <a:lnTo>
                    <a:pt x="297" y="287"/>
                  </a:lnTo>
                  <a:lnTo>
                    <a:pt x="302" y="270"/>
                  </a:lnTo>
                  <a:lnTo>
                    <a:pt x="305" y="253"/>
                  </a:lnTo>
                  <a:lnTo>
                    <a:pt x="308" y="237"/>
                  </a:lnTo>
                  <a:lnTo>
                    <a:pt x="309" y="221"/>
                  </a:lnTo>
                  <a:lnTo>
                    <a:pt x="310" y="207"/>
                  </a:lnTo>
                  <a:lnTo>
                    <a:pt x="310" y="194"/>
                  </a:lnTo>
                  <a:lnTo>
                    <a:pt x="309" y="182"/>
                  </a:lnTo>
                  <a:lnTo>
                    <a:pt x="308" y="168"/>
                  </a:lnTo>
                  <a:lnTo>
                    <a:pt x="305" y="155"/>
                  </a:lnTo>
                  <a:lnTo>
                    <a:pt x="303" y="142"/>
                  </a:lnTo>
                  <a:lnTo>
                    <a:pt x="300" y="129"/>
                  </a:lnTo>
                  <a:lnTo>
                    <a:pt x="297" y="117"/>
                  </a:lnTo>
                  <a:lnTo>
                    <a:pt x="292" y="103"/>
                  </a:lnTo>
                  <a:lnTo>
                    <a:pt x="288" y="91"/>
                  </a:lnTo>
                  <a:lnTo>
                    <a:pt x="282" y="80"/>
                  </a:lnTo>
                  <a:lnTo>
                    <a:pt x="277" y="71"/>
                  </a:lnTo>
                  <a:lnTo>
                    <a:pt x="269" y="64"/>
                  </a:lnTo>
                  <a:lnTo>
                    <a:pt x="261" y="58"/>
                  </a:lnTo>
                  <a:lnTo>
                    <a:pt x="254" y="54"/>
                  </a:lnTo>
                  <a:lnTo>
                    <a:pt x="244" y="51"/>
                  </a:lnTo>
                  <a:lnTo>
                    <a:pt x="234" y="5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322360" y="2301840"/>
              <a:ext cx="149400" cy="183600"/>
            </a:xfrm>
            <a:custGeom>
              <a:avLst/>
              <a:gdLst/>
              <a:ahLst/>
              <a:rect l="l" t="t" r="r" b="b"/>
              <a:pathLst>
                <a:path w="378" h="463">
                  <a:moveTo>
                    <a:pt x="157" y="456"/>
                  </a:moveTo>
                  <a:lnTo>
                    <a:pt x="118" y="444"/>
                  </a:lnTo>
                  <a:lnTo>
                    <a:pt x="109" y="440"/>
                  </a:lnTo>
                  <a:lnTo>
                    <a:pt x="102" y="438"/>
                  </a:lnTo>
                  <a:lnTo>
                    <a:pt x="94" y="436"/>
                  </a:lnTo>
                  <a:lnTo>
                    <a:pt x="87" y="434"/>
                  </a:lnTo>
                  <a:lnTo>
                    <a:pt x="82" y="431"/>
                  </a:lnTo>
                  <a:lnTo>
                    <a:pt x="76" y="429"/>
                  </a:lnTo>
                  <a:lnTo>
                    <a:pt x="72" y="428"/>
                  </a:lnTo>
                  <a:lnTo>
                    <a:pt x="68" y="427"/>
                  </a:lnTo>
                  <a:lnTo>
                    <a:pt x="66" y="426"/>
                  </a:lnTo>
                  <a:lnTo>
                    <a:pt x="63" y="425"/>
                  </a:lnTo>
                  <a:lnTo>
                    <a:pt x="60" y="423"/>
                  </a:lnTo>
                  <a:lnTo>
                    <a:pt x="56" y="420"/>
                  </a:lnTo>
                  <a:lnTo>
                    <a:pt x="53" y="418"/>
                  </a:lnTo>
                  <a:lnTo>
                    <a:pt x="49" y="416"/>
                  </a:lnTo>
                  <a:lnTo>
                    <a:pt x="45" y="413"/>
                  </a:lnTo>
                  <a:lnTo>
                    <a:pt x="41" y="409"/>
                  </a:lnTo>
                  <a:lnTo>
                    <a:pt x="36" y="406"/>
                  </a:lnTo>
                  <a:lnTo>
                    <a:pt x="33" y="402"/>
                  </a:lnTo>
                  <a:lnTo>
                    <a:pt x="29" y="396"/>
                  </a:lnTo>
                  <a:lnTo>
                    <a:pt x="25" y="391"/>
                  </a:lnTo>
                  <a:lnTo>
                    <a:pt x="22" y="384"/>
                  </a:lnTo>
                  <a:lnTo>
                    <a:pt x="19" y="377"/>
                  </a:lnTo>
                  <a:lnTo>
                    <a:pt x="15" y="370"/>
                  </a:lnTo>
                  <a:lnTo>
                    <a:pt x="12" y="361"/>
                  </a:lnTo>
                  <a:lnTo>
                    <a:pt x="9" y="351"/>
                  </a:lnTo>
                  <a:lnTo>
                    <a:pt x="7" y="342"/>
                  </a:lnTo>
                  <a:lnTo>
                    <a:pt x="4" y="331"/>
                  </a:lnTo>
                  <a:lnTo>
                    <a:pt x="3" y="320"/>
                  </a:lnTo>
                  <a:lnTo>
                    <a:pt x="2" y="309"/>
                  </a:lnTo>
                  <a:lnTo>
                    <a:pt x="1" y="297"/>
                  </a:lnTo>
                  <a:lnTo>
                    <a:pt x="0" y="284"/>
                  </a:lnTo>
                  <a:lnTo>
                    <a:pt x="0" y="270"/>
                  </a:lnTo>
                  <a:lnTo>
                    <a:pt x="0" y="260"/>
                  </a:lnTo>
                  <a:lnTo>
                    <a:pt x="1" y="249"/>
                  </a:lnTo>
                  <a:lnTo>
                    <a:pt x="1" y="236"/>
                  </a:lnTo>
                  <a:lnTo>
                    <a:pt x="2" y="222"/>
                  </a:lnTo>
                  <a:lnTo>
                    <a:pt x="3" y="206"/>
                  </a:lnTo>
                  <a:lnTo>
                    <a:pt x="4" y="189"/>
                  </a:lnTo>
                  <a:lnTo>
                    <a:pt x="5" y="170"/>
                  </a:lnTo>
                  <a:lnTo>
                    <a:pt x="8" y="150"/>
                  </a:lnTo>
                  <a:lnTo>
                    <a:pt x="10" y="130"/>
                  </a:lnTo>
                  <a:lnTo>
                    <a:pt x="11" y="113"/>
                  </a:lnTo>
                  <a:lnTo>
                    <a:pt x="13" y="97"/>
                  </a:lnTo>
                  <a:lnTo>
                    <a:pt x="14" y="84"/>
                  </a:lnTo>
                  <a:lnTo>
                    <a:pt x="15" y="74"/>
                  </a:lnTo>
                  <a:lnTo>
                    <a:pt x="17" y="65"/>
                  </a:lnTo>
                  <a:lnTo>
                    <a:pt x="18" y="60"/>
                  </a:lnTo>
                  <a:lnTo>
                    <a:pt x="19" y="55"/>
                  </a:lnTo>
                  <a:lnTo>
                    <a:pt x="19" y="49"/>
                  </a:lnTo>
                  <a:lnTo>
                    <a:pt x="19" y="41"/>
                  </a:lnTo>
                  <a:lnTo>
                    <a:pt x="20" y="35"/>
                  </a:lnTo>
                  <a:lnTo>
                    <a:pt x="21" y="30"/>
                  </a:lnTo>
                  <a:lnTo>
                    <a:pt x="22" y="25"/>
                  </a:lnTo>
                  <a:lnTo>
                    <a:pt x="23" y="21"/>
                  </a:lnTo>
                  <a:lnTo>
                    <a:pt x="24" y="18"/>
                  </a:lnTo>
                  <a:lnTo>
                    <a:pt x="26" y="15"/>
                  </a:lnTo>
                  <a:lnTo>
                    <a:pt x="29" y="14"/>
                  </a:lnTo>
                  <a:lnTo>
                    <a:pt x="31" y="12"/>
                  </a:lnTo>
                  <a:lnTo>
                    <a:pt x="33" y="11"/>
                  </a:lnTo>
                  <a:lnTo>
                    <a:pt x="36" y="10"/>
                  </a:lnTo>
                  <a:lnTo>
                    <a:pt x="39" y="9"/>
                  </a:lnTo>
                  <a:lnTo>
                    <a:pt x="42" y="9"/>
                  </a:lnTo>
                  <a:lnTo>
                    <a:pt x="45" y="8"/>
                  </a:lnTo>
                  <a:lnTo>
                    <a:pt x="49" y="8"/>
                  </a:lnTo>
                  <a:lnTo>
                    <a:pt x="57" y="8"/>
                  </a:lnTo>
                  <a:lnTo>
                    <a:pt x="65" y="9"/>
                  </a:lnTo>
                  <a:lnTo>
                    <a:pt x="72" y="9"/>
                  </a:lnTo>
                  <a:lnTo>
                    <a:pt x="79" y="10"/>
                  </a:lnTo>
                  <a:lnTo>
                    <a:pt x="86" y="11"/>
                  </a:lnTo>
                  <a:lnTo>
                    <a:pt x="93" y="12"/>
                  </a:lnTo>
                  <a:lnTo>
                    <a:pt x="99" y="14"/>
                  </a:lnTo>
                  <a:lnTo>
                    <a:pt x="106" y="17"/>
                  </a:lnTo>
                  <a:lnTo>
                    <a:pt x="111" y="18"/>
                  </a:lnTo>
                  <a:lnTo>
                    <a:pt x="116" y="21"/>
                  </a:lnTo>
                  <a:lnTo>
                    <a:pt x="120" y="23"/>
                  </a:lnTo>
                  <a:lnTo>
                    <a:pt x="124" y="25"/>
                  </a:lnTo>
                  <a:lnTo>
                    <a:pt x="126" y="29"/>
                  </a:lnTo>
                  <a:lnTo>
                    <a:pt x="128" y="32"/>
                  </a:lnTo>
                  <a:lnTo>
                    <a:pt x="129" y="35"/>
                  </a:lnTo>
                  <a:lnTo>
                    <a:pt x="129" y="39"/>
                  </a:lnTo>
                  <a:lnTo>
                    <a:pt x="129" y="42"/>
                  </a:lnTo>
                  <a:lnTo>
                    <a:pt x="129" y="47"/>
                  </a:lnTo>
                  <a:lnTo>
                    <a:pt x="128" y="54"/>
                  </a:lnTo>
                  <a:lnTo>
                    <a:pt x="127" y="65"/>
                  </a:lnTo>
                  <a:lnTo>
                    <a:pt x="126" y="77"/>
                  </a:lnTo>
                  <a:lnTo>
                    <a:pt x="125" y="92"/>
                  </a:lnTo>
                  <a:lnTo>
                    <a:pt x="123" y="109"/>
                  </a:lnTo>
                  <a:lnTo>
                    <a:pt x="120" y="128"/>
                  </a:lnTo>
                  <a:lnTo>
                    <a:pt x="118" y="148"/>
                  </a:lnTo>
                  <a:lnTo>
                    <a:pt x="117" y="165"/>
                  </a:lnTo>
                  <a:lnTo>
                    <a:pt x="115" y="180"/>
                  </a:lnTo>
                  <a:lnTo>
                    <a:pt x="114" y="192"/>
                  </a:lnTo>
                  <a:lnTo>
                    <a:pt x="113" y="202"/>
                  </a:lnTo>
                  <a:lnTo>
                    <a:pt x="113" y="210"/>
                  </a:lnTo>
                  <a:lnTo>
                    <a:pt x="113" y="214"/>
                  </a:lnTo>
                  <a:lnTo>
                    <a:pt x="111" y="217"/>
                  </a:lnTo>
                  <a:lnTo>
                    <a:pt x="111" y="217"/>
                  </a:lnTo>
                  <a:lnTo>
                    <a:pt x="111" y="218"/>
                  </a:lnTo>
                  <a:lnTo>
                    <a:pt x="111" y="221"/>
                  </a:lnTo>
                  <a:lnTo>
                    <a:pt x="111" y="223"/>
                  </a:lnTo>
                  <a:lnTo>
                    <a:pt x="111" y="226"/>
                  </a:lnTo>
                  <a:lnTo>
                    <a:pt x="111" y="229"/>
                  </a:lnTo>
                  <a:lnTo>
                    <a:pt x="111" y="234"/>
                  </a:lnTo>
                  <a:lnTo>
                    <a:pt x="111" y="238"/>
                  </a:lnTo>
                  <a:lnTo>
                    <a:pt x="111" y="244"/>
                  </a:lnTo>
                  <a:lnTo>
                    <a:pt x="111" y="248"/>
                  </a:lnTo>
                  <a:lnTo>
                    <a:pt x="111" y="253"/>
                  </a:lnTo>
                  <a:lnTo>
                    <a:pt x="111" y="257"/>
                  </a:lnTo>
                  <a:lnTo>
                    <a:pt x="111" y="262"/>
                  </a:lnTo>
                  <a:lnTo>
                    <a:pt x="111" y="266"/>
                  </a:lnTo>
                  <a:lnTo>
                    <a:pt x="111" y="270"/>
                  </a:lnTo>
                  <a:lnTo>
                    <a:pt x="111" y="275"/>
                  </a:lnTo>
                  <a:lnTo>
                    <a:pt x="113" y="290"/>
                  </a:lnTo>
                  <a:lnTo>
                    <a:pt x="113" y="305"/>
                  </a:lnTo>
                  <a:lnTo>
                    <a:pt x="114" y="318"/>
                  </a:lnTo>
                  <a:lnTo>
                    <a:pt x="115" y="330"/>
                  </a:lnTo>
                  <a:lnTo>
                    <a:pt x="116" y="341"/>
                  </a:lnTo>
                  <a:lnTo>
                    <a:pt x="118" y="350"/>
                  </a:lnTo>
                  <a:lnTo>
                    <a:pt x="120" y="358"/>
                  </a:lnTo>
                  <a:lnTo>
                    <a:pt x="123" y="364"/>
                  </a:lnTo>
                  <a:lnTo>
                    <a:pt x="126" y="371"/>
                  </a:lnTo>
                  <a:lnTo>
                    <a:pt x="129" y="375"/>
                  </a:lnTo>
                  <a:lnTo>
                    <a:pt x="132" y="380"/>
                  </a:lnTo>
                  <a:lnTo>
                    <a:pt x="137" y="383"/>
                  </a:lnTo>
                  <a:lnTo>
                    <a:pt x="140" y="386"/>
                  </a:lnTo>
                  <a:lnTo>
                    <a:pt x="145" y="387"/>
                  </a:lnTo>
                  <a:lnTo>
                    <a:pt x="149" y="388"/>
                  </a:lnTo>
                  <a:lnTo>
                    <a:pt x="155" y="390"/>
                  </a:lnTo>
                  <a:lnTo>
                    <a:pt x="169" y="388"/>
                  </a:lnTo>
                  <a:lnTo>
                    <a:pt x="182" y="386"/>
                  </a:lnTo>
                  <a:lnTo>
                    <a:pt x="194" y="382"/>
                  </a:lnTo>
                  <a:lnTo>
                    <a:pt x="205" y="376"/>
                  </a:lnTo>
                  <a:lnTo>
                    <a:pt x="214" y="369"/>
                  </a:lnTo>
                  <a:lnTo>
                    <a:pt x="222" y="360"/>
                  </a:lnTo>
                  <a:lnTo>
                    <a:pt x="228" y="349"/>
                  </a:lnTo>
                  <a:lnTo>
                    <a:pt x="234" y="337"/>
                  </a:lnTo>
                  <a:lnTo>
                    <a:pt x="238" y="322"/>
                  </a:lnTo>
                  <a:lnTo>
                    <a:pt x="242" y="308"/>
                  </a:lnTo>
                  <a:lnTo>
                    <a:pt x="245" y="292"/>
                  </a:lnTo>
                  <a:lnTo>
                    <a:pt x="247" y="275"/>
                  </a:lnTo>
                  <a:lnTo>
                    <a:pt x="249" y="257"/>
                  </a:lnTo>
                  <a:lnTo>
                    <a:pt x="252" y="238"/>
                  </a:lnTo>
                  <a:lnTo>
                    <a:pt x="252" y="218"/>
                  </a:lnTo>
                  <a:lnTo>
                    <a:pt x="253" y="199"/>
                  </a:lnTo>
                  <a:lnTo>
                    <a:pt x="253" y="148"/>
                  </a:lnTo>
                  <a:lnTo>
                    <a:pt x="253" y="42"/>
                  </a:lnTo>
                  <a:lnTo>
                    <a:pt x="253" y="36"/>
                  </a:lnTo>
                  <a:lnTo>
                    <a:pt x="253" y="31"/>
                  </a:lnTo>
                  <a:lnTo>
                    <a:pt x="253" y="25"/>
                  </a:lnTo>
                  <a:lnTo>
                    <a:pt x="254" y="21"/>
                  </a:lnTo>
                  <a:lnTo>
                    <a:pt x="255" y="18"/>
                  </a:lnTo>
                  <a:lnTo>
                    <a:pt x="255" y="14"/>
                  </a:lnTo>
                  <a:lnTo>
                    <a:pt x="257" y="11"/>
                  </a:lnTo>
                  <a:lnTo>
                    <a:pt x="258" y="9"/>
                  </a:lnTo>
                  <a:lnTo>
                    <a:pt x="259" y="7"/>
                  </a:lnTo>
                  <a:lnTo>
                    <a:pt x="263" y="4"/>
                  </a:lnTo>
                  <a:lnTo>
                    <a:pt x="266" y="3"/>
                  </a:lnTo>
                  <a:lnTo>
                    <a:pt x="269" y="2"/>
                  </a:lnTo>
                  <a:lnTo>
                    <a:pt x="275" y="1"/>
                  </a:lnTo>
                  <a:lnTo>
                    <a:pt x="280" y="0"/>
                  </a:lnTo>
                  <a:lnTo>
                    <a:pt x="287" y="0"/>
                  </a:lnTo>
                  <a:lnTo>
                    <a:pt x="295" y="0"/>
                  </a:lnTo>
                  <a:lnTo>
                    <a:pt x="302" y="0"/>
                  </a:lnTo>
                  <a:lnTo>
                    <a:pt x="309" y="0"/>
                  </a:lnTo>
                  <a:lnTo>
                    <a:pt x="316" y="0"/>
                  </a:lnTo>
                  <a:lnTo>
                    <a:pt x="322" y="1"/>
                  </a:lnTo>
                  <a:lnTo>
                    <a:pt x="329" y="2"/>
                  </a:lnTo>
                  <a:lnTo>
                    <a:pt x="336" y="3"/>
                  </a:lnTo>
                  <a:lnTo>
                    <a:pt x="341" y="4"/>
                  </a:lnTo>
                  <a:lnTo>
                    <a:pt x="347" y="5"/>
                  </a:lnTo>
                  <a:lnTo>
                    <a:pt x="351" y="8"/>
                  </a:lnTo>
                  <a:lnTo>
                    <a:pt x="357" y="9"/>
                  </a:lnTo>
                  <a:lnTo>
                    <a:pt x="360" y="10"/>
                  </a:lnTo>
                  <a:lnTo>
                    <a:pt x="364" y="12"/>
                  </a:lnTo>
                  <a:lnTo>
                    <a:pt x="366" y="13"/>
                  </a:lnTo>
                  <a:lnTo>
                    <a:pt x="369" y="14"/>
                  </a:lnTo>
                  <a:lnTo>
                    <a:pt x="371" y="15"/>
                  </a:lnTo>
                  <a:lnTo>
                    <a:pt x="373" y="17"/>
                  </a:lnTo>
                  <a:lnTo>
                    <a:pt x="373" y="17"/>
                  </a:lnTo>
                  <a:lnTo>
                    <a:pt x="374" y="19"/>
                  </a:lnTo>
                  <a:lnTo>
                    <a:pt x="375" y="20"/>
                  </a:lnTo>
                  <a:lnTo>
                    <a:pt x="376" y="21"/>
                  </a:lnTo>
                  <a:lnTo>
                    <a:pt x="376" y="23"/>
                  </a:lnTo>
                  <a:lnTo>
                    <a:pt x="376" y="25"/>
                  </a:lnTo>
                  <a:lnTo>
                    <a:pt x="378" y="26"/>
                  </a:lnTo>
                  <a:lnTo>
                    <a:pt x="378" y="30"/>
                  </a:lnTo>
                  <a:lnTo>
                    <a:pt x="373" y="129"/>
                  </a:lnTo>
                  <a:lnTo>
                    <a:pt x="373" y="248"/>
                  </a:lnTo>
                  <a:lnTo>
                    <a:pt x="373" y="271"/>
                  </a:lnTo>
                  <a:lnTo>
                    <a:pt x="371" y="294"/>
                  </a:lnTo>
                  <a:lnTo>
                    <a:pt x="368" y="314"/>
                  </a:lnTo>
                  <a:lnTo>
                    <a:pt x="363" y="334"/>
                  </a:lnTo>
                  <a:lnTo>
                    <a:pt x="358" y="353"/>
                  </a:lnTo>
                  <a:lnTo>
                    <a:pt x="351" y="371"/>
                  </a:lnTo>
                  <a:lnTo>
                    <a:pt x="343" y="387"/>
                  </a:lnTo>
                  <a:lnTo>
                    <a:pt x="334" y="403"/>
                  </a:lnTo>
                  <a:lnTo>
                    <a:pt x="329" y="410"/>
                  </a:lnTo>
                  <a:lnTo>
                    <a:pt x="323" y="417"/>
                  </a:lnTo>
                  <a:lnTo>
                    <a:pt x="318" y="424"/>
                  </a:lnTo>
                  <a:lnTo>
                    <a:pt x="311" y="429"/>
                  </a:lnTo>
                  <a:lnTo>
                    <a:pt x="305" y="435"/>
                  </a:lnTo>
                  <a:lnTo>
                    <a:pt x="298" y="440"/>
                  </a:lnTo>
                  <a:lnTo>
                    <a:pt x="291" y="445"/>
                  </a:lnTo>
                  <a:lnTo>
                    <a:pt x="284" y="448"/>
                  </a:lnTo>
                  <a:lnTo>
                    <a:pt x="276" y="452"/>
                  </a:lnTo>
                  <a:lnTo>
                    <a:pt x="267" y="455"/>
                  </a:lnTo>
                  <a:lnTo>
                    <a:pt x="258" y="458"/>
                  </a:lnTo>
                  <a:lnTo>
                    <a:pt x="249" y="460"/>
                  </a:lnTo>
                  <a:lnTo>
                    <a:pt x="231" y="462"/>
                  </a:lnTo>
                  <a:lnTo>
                    <a:pt x="210" y="463"/>
                  </a:lnTo>
                  <a:lnTo>
                    <a:pt x="208" y="463"/>
                  </a:lnTo>
                  <a:lnTo>
                    <a:pt x="205" y="463"/>
                  </a:lnTo>
                  <a:lnTo>
                    <a:pt x="202" y="463"/>
                  </a:lnTo>
                  <a:lnTo>
                    <a:pt x="200" y="463"/>
                  </a:lnTo>
                  <a:lnTo>
                    <a:pt x="195" y="462"/>
                  </a:lnTo>
                  <a:lnTo>
                    <a:pt x="192" y="462"/>
                  </a:lnTo>
                  <a:lnTo>
                    <a:pt x="189" y="461"/>
                  </a:lnTo>
                  <a:lnTo>
                    <a:pt x="184" y="461"/>
                  </a:lnTo>
                  <a:lnTo>
                    <a:pt x="180" y="460"/>
                  </a:lnTo>
                  <a:lnTo>
                    <a:pt x="175" y="460"/>
                  </a:lnTo>
                  <a:lnTo>
                    <a:pt x="172" y="459"/>
                  </a:lnTo>
                  <a:lnTo>
                    <a:pt x="168" y="458"/>
                  </a:lnTo>
                  <a:lnTo>
                    <a:pt x="164" y="458"/>
                  </a:lnTo>
                  <a:lnTo>
                    <a:pt x="162" y="457"/>
                  </a:lnTo>
                  <a:lnTo>
                    <a:pt x="159" y="456"/>
                  </a:lnTo>
                  <a:lnTo>
                    <a:pt x="157" y="45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508120" y="2298600"/>
              <a:ext cx="165240" cy="183600"/>
            </a:xfrm>
            <a:custGeom>
              <a:avLst/>
              <a:gdLst/>
              <a:ahLst/>
              <a:rect l="l" t="t" r="r" b="b"/>
              <a:pathLst>
                <a:path w="414" h="465">
                  <a:moveTo>
                    <a:pt x="102" y="394"/>
                  </a:moveTo>
                  <a:lnTo>
                    <a:pt x="102" y="443"/>
                  </a:lnTo>
                  <a:lnTo>
                    <a:pt x="101" y="448"/>
                  </a:lnTo>
                  <a:lnTo>
                    <a:pt x="100" y="452"/>
                  </a:lnTo>
                  <a:lnTo>
                    <a:pt x="99" y="456"/>
                  </a:lnTo>
                  <a:lnTo>
                    <a:pt x="96" y="459"/>
                  </a:lnTo>
                  <a:lnTo>
                    <a:pt x="93" y="461"/>
                  </a:lnTo>
                  <a:lnTo>
                    <a:pt x="90" y="462"/>
                  </a:lnTo>
                  <a:lnTo>
                    <a:pt x="85" y="464"/>
                  </a:lnTo>
                  <a:lnTo>
                    <a:pt x="80" y="465"/>
                  </a:lnTo>
                  <a:lnTo>
                    <a:pt x="79" y="465"/>
                  </a:lnTo>
                  <a:lnTo>
                    <a:pt x="78" y="464"/>
                  </a:lnTo>
                  <a:lnTo>
                    <a:pt x="75" y="464"/>
                  </a:lnTo>
                  <a:lnTo>
                    <a:pt x="73" y="464"/>
                  </a:lnTo>
                  <a:lnTo>
                    <a:pt x="70" y="462"/>
                  </a:lnTo>
                  <a:lnTo>
                    <a:pt x="67" y="462"/>
                  </a:lnTo>
                  <a:lnTo>
                    <a:pt x="63" y="461"/>
                  </a:lnTo>
                  <a:lnTo>
                    <a:pt x="59" y="461"/>
                  </a:lnTo>
                  <a:lnTo>
                    <a:pt x="55" y="460"/>
                  </a:lnTo>
                  <a:lnTo>
                    <a:pt x="51" y="459"/>
                  </a:lnTo>
                  <a:lnTo>
                    <a:pt x="47" y="459"/>
                  </a:lnTo>
                  <a:lnTo>
                    <a:pt x="42" y="458"/>
                  </a:lnTo>
                  <a:lnTo>
                    <a:pt x="39" y="457"/>
                  </a:lnTo>
                  <a:lnTo>
                    <a:pt x="34" y="456"/>
                  </a:lnTo>
                  <a:lnTo>
                    <a:pt x="30" y="456"/>
                  </a:lnTo>
                  <a:lnTo>
                    <a:pt x="27" y="455"/>
                  </a:lnTo>
                  <a:lnTo>
                    <a:pt x="22" y="454"/>
                  </a:lnTo>
                  <a:lnTo>
                    <a:pt x="19" y="452"/>
                  </a:lnTo>
                  <a:lnTo>
                    <a:pt x="16" y="451"/>
                  </a:lnTo>
                  <a:lnTo>
                    <a:pt x="14" y="450"/>
                  </a:lnTo>
                  <a:lnTo>
                    <a:pt x="11" y="449"/>
                  </a:lnTo>
                  <a:lnTo>
                    <a:pt x="9" y="448"/>
                  </a:lnTo>
                  <a:lnTo>
                    <a:pt x="7" y="447"/>
                  </a:lnTo>
                  <a:lnTo>
                    <a:pt x="6" y="445"/>
                  </a:lnTo>
                  <a:lnTo>
                    <a:pt x="5" y="443"/>
                  </a:lnTo>
                  <a:lnTo>
                    <a:pt x="4" y="440"/>
                  </a:lnTo>
                  <a:lnTo>
                    <a:pt x="2" y="436"/>
                  </a:lnTo>
                  <a:lnTo>
                    <a:pt x="1" y="432"/>
                  </a:lnTo>
                  <a:lnTo>
                    <a:pt x="1" y="427"/>
                  </a:lnTo>
                  <a:lnTo>
                    <a:pt x="1" y="422"/>
                  </a:lnTo>
                  <a:lnTo>
                    <a:pt x="0" y="415"/>
                  </a:lnTo>
                  <a:lnTo>
                    <a:pt x="0" y="407"/>
                  </a:lnTo>
                  <a:lnTo>
                    <a:pt x="0" y="225"/>
                  </a:lnTo>
                  <a:lnTo>
                    <a:pt x="0" y="110"/>
                  </a:lnTo>
                  <a:lnTo>
                    <a:pt x="0" y="99"/>
                  </a:lnTo>
                  <a:lnTo>
                    <a:pt x="0" y="88"/>
                  </a:lnTo>
                  <a:lnTo>
                    <a:pt x="1" y="79"/>
                  </a:lnTo>
                  <a:lnTo>
                    <a:pt x="1" y="71"/>
                  </a:lnTo>
                  <a:lnTo>
                    <a:pt x="1" y="63"/>
                  </a:lnTo>
                  <a:lnTo>
                    <a:pt x="1" y="56"/>
                  </a:lnTo>
                  <a:lnTo>
                    <a:pt x="2" y="51"/>
                  </a:lnTo>
                  <a:lnTo>
                    <a:pt x="2" y="45"/>
                  </a:lnTo>
                  <a:lnTo>
                    <a:pt x="4" y="41"/>
                  </a:lnTo>
                  <a:lnTo>
                    <a:pt x="4" y="38"/>
                  </a:lnTo>
                  <a:lnTo>
                    <a:pt x="5" y="34"/>
                  </a:lnTo>
                  <a:lnTo>
                    <a:pt x="7" y="31"/>
                  </a:lnTo>
                  <a:lnTo>
                    <a:pt x="8" y="28"/>
                  </a:lnTo>
                  <a:lnTo>
                    <a:pt x="10" y="25"/>
                  </a:lnTo>
                  <a:lnTo>
                    <a:pt x="12" y="23"/>
                  </a:lnTo>
                  <a:lnTo>
                    <a:pt x="16" y="21"/>
                  </a:lnTo>
                  <a:lnTo>
                    <a:pt x="18" y="20"/>
                  </a:lnTo>
                  <a:lnTo>
                    <a:pt x="20" y="19"/>
                  </a:lnTo>
                  <a:lnTo>
                    <a:pt x="23" y="18"/>
                  </a:lnTo>
                  <a:lnTo>
                    <a:pt x="26" y="17"/>
                  </a:lnTo>
                  <a:lnTo>
                    <a:pt x="28" y="15"/>
                  </a:lnTo>
                  <a:lnTo>
                    <a:pt x="30" y="14"/>
                  </a:lnTo>
                  <a:lnTo>
                    <a:pt x="31" y="13"/>
                  </a:lnTo>
                  <a:lnTo>
                    <a:pt x="33" y="12"/>
                  </a:lnTo>
                  <a:lnTo>
                    <a:pt x="36" y="11"/>
                  </a:lnTo>
                  <a:lnTo>
                    <a:pt x="37" y="11"/>
                  </a:lnTo>
                  <a:lnTo>
                    <a:pt x="39" y="10"/>
                  </a:lnTo>
                  <a:lnTo>
                    <a:pt x="40" y="10"/>
                  </a:lnTo>
                  <a:lnTo>
                    <a:pt x="42" y="9"/>
                  </a:lnTo>
                  <a:lnTo>
                    <a:pt x="43" y="9"/>
                  </a:lnTo>
                  <a:lnTo>
                    <a:pt x="44" y="9"/>
                  </a:lnTo>
                  <a:lnTo>
                    <a:pt x="46" y="9"/>
                  </a:lnTo>
                  <a:lnTo>
                    <a:pt x="48" y="9"/>
                  </a:lnTo>
                  <a:lnTo>
                    <a:pt x="51" y="9"/>
                  </a:lnTo>
                  <a:lnTo>
                    <a:pt x="53" y="10"/>
                  </a:lnTo>
                  <a:lnTo>
                    <a:pt x="57" y="10"/>
                  </a:lnTo>
                  <a:lnTo>
                    <a:pt x="59" y="11"/>
                  </a:lnTo>
                  <a:lnTo>
                    <a:pt x="63" y="12"/>
                  </a:lnTo>
                  <a:lnTo>
                    <a:pt x="67" y="13"/>
                  </a:lnTo>
                  <a:lnTo>
                    <a:pt x="70" y="14"/>
                  </a:lnTo>
                  <a:lnTo>
                    <a:pt x="74" y="15"/>
                  </a:lnTo>
                  <a:lnTo>
                    <a:pt x="78" y="17"/>
                  </a:lnTo>
                  <a:lnTo>
                    <a:pt x="80" y="17"/>
                  </a:lnTo>
                  <a:lnTo>
                    <a:pt x="82" y="18"/>
                  </a:lnTo>
                  <a:lnTo>
                    <a:pt x="84" y="19"/>
                  </a:lnTo>
                  <a:lnTo>
                    <a:pt x="86" y="19"/>
                  </a:lnTo>
                  <a:lnTo>
                    <a:pt x="87" y="19"/>
                  </a:lnTo>
                  <a:lnTo>
                    <a:pt x="87" y="19"/>
                  </a:lnTo>
                  <a:lnTo>
                    <a:pt x="95" y="18"/>
                  </a:lnTo>
                  <a:lnTo>
                    <a:pt x="103" y="15"/>
                  </a:lnTo>
                  <a:lnTo>
                    <a:pt x="110" y="14"/>
                  </a:lnTo>
                  <a:lnTo>
                    <a:pt x="118" y="13"/>
                  </a:lnTo>
                  <a:lnTo>
                    <a:pt x="126" y="11"/>
                  </a:lnTo>
                  <a:lnTo>
                    <a:pt x="134" y="10"/>
                  </a:lnTo>
                  <a:lnTo>
                    <a:pt x="143" y="8"/>
                  </a:lnTo>
                  <a:lnTo>
                    <a:pt x="152" y="7"/>
                  </a:lnTo>
                  <a:lnTo>
                    <a:pt x="159" y="4"/>
                  </a:lnTo>
                  <a:lnTo>
                    <a:pt x="168" y="3"/>
                  </a:lnTo>
                  <a:lnTo>
                    <a:pt x="176" y="2"/>
                  </a:lnTo>
                  <a:lnTo>
                    <a:pt x="184" y="2"/>
                  </a:lnTo>
                  <a:lnTo>
                    <a:pt x="191" y="1"/>
                  </a:lnTo>
                  <a:lnTo>
                    <a:pt x="198" y="0"/>
                  </a:lnTo>
                  <a:lnTo>
                    <a:pt x="205" y="0"/>
                  </a:lnTo>
                  <a:lnTo>
                    <a:pt x="211" y="0"/>
                  </a:lnTo>
                  <a:lnTo>
                    <a:pt x="231" y="1"/>
                  </a:lnTo>
                  <a:lnTo>
                    <a:pt x="251" y="2"/>
                  </a:lnTo>
                  <a:lnTo>
                    <a:pt x="270" y="6"/>
                  </a:lnTo>
                  <a:lnTo>
                    <a:pt x="287" y="9"/>
                  </a:lnTo>
                  <a:lnTo>
                    <a:pt x="305" y="14"/>
                  </a:lnTo>
                  <a:lnTo>
                    <a:pt x="323" y="21"/>
                  </a:lnTo>
                  <a:lnTo>
                    <a:pt x="338" y="29"/>
                  </a:lnTo>
                  <a:lnTo>
                    <a:pt x="354" y="38"/>
                  </a:lnTo>
                  <a:lnTo>
                    <a:pt x="368" y="46"/>
                  </a:lnTo>
                  <a:lnTo>
                    <a:pt x="380" y="56"/>
                  </a:lnTo>
                  <a:lnTo>
                    <a:pt x="390" y="65"/>
                  </a:lnTo>
                  <a:lnTo>
                    <a:pt x="399" y="75"/>
                  </a:lnTo>
                  <a:lnTo>
                    <a:pt x="405" y="86"/>
                  </a:lnTo>
                  <a:lnTo>
                    <a:pt x="410" y="96"/>
                  </a:lnTo>
                  <a:lnTo>
                    <a:pt x="413" y="107"/>
                  </a:lnTo>
                  <a:lnTo>
                    <a:pt x="414" y="117"/>
                  </a:lnTo>
                  <a:lnTo>
                    <a:pt x="413" y="127"/>
                  </a:lnTo>
                  <a:lnTo>
                    <a:pt x="411" y="136"/>
                  </a:lnTo>
                  <a:lnTo>
                    <a:pt x="409" y="146"/>
                  </a:lnTo>
                  <a:lnTo>
                    <a:pt x="404" y="155"/>
                  </a:lnTo>
                  <a:lnTo>
                    <a:pt x="399" y="164"/>
                  </a:lnTo>
                  <a:lnTo>
                    <a:pt x="391" y="173"/>
                  </a:lnTo>
                  <a:lnTo>
                    <a:pt x="383" y="183"/>
                  </a:lnTo>
                  <a:lnTo>
                    <a:pt x="375" y="192"/>
                  </a:lnTo>
                  <a:lnTo>
                    <a:pt x="365" y="201"/>
                  </a:lnTo>
                  <a:lnTo>
                    <a:pt x="354" y="210"/>
                  </a:lnTo>
                  <a:lnTo>
                    <a:pt x="344" y="217"/>
                  </a:lnTo>
                  <a:lnTo>
                    <a:pt x="333" y="225"/>
                  </a:lnTo>
                  <a:lnTo>
                    <a:pt x="323" y="232"/>
                  </a:lnTo>
                  <a:lnTo>
                    <a:pt x="312" y="237"/>
                  </a:lnTo>
                  <a:lnTo>
                    <a:pt x="301" y="243"/>
                  </a:lnTo>
                  <a:lnTo>
                    <a:pt x="290" y="247"/>
                  </a:lnTo>
                  <a:lnTo>
                    <a:pt x="278" y="252"/>
                  </a:lnTo>
                  <a:lnTo>
                    <a:pt x="270" y="256"/>
                  </a:lnTo>
                  <a:lnTo>
                    <a:pt x="262" y="259"/>
                  </a:lnTo>
                  <a:lnTo>
                    <a:pt x="256" y="263"/>
                  </a:lnTo>
                  <a:lnTo>
                    <a:pt x="251" y="265"/>
                  </a:lnTo>
                  <a:lnTo>
                    <a:pt x="248" y="267"/>
                  </a:lnTo>
                  <a:lnTo>
                    <a:pt x="245" y="269"/>
                  </a:lnTo>
                  <a:lnTo>
                    <a:pt x="244" y="270"/>
                  </a:lnTo>
                  <a:lnTo>
                    <a:pt x="257" y="284"/>
                  </a:lnTo>
                  <a:lnTo>
                    <a:pt x="271" y="296"/>
                  </a:lnTo>
                  <a:lnTo>
                    <a:pt x="284" y="309"/>
                  </a:lnTo>
                  <a:lnTo>
                    <a:pt x="297" y="321"/>
                  </a:lnTo>
                  <a:lnTo>
                    <a:pt x="310" y="334"/>
                  </a:lnTo>
                  <a:lnTo>
                    <a:pt x="323" y="347"/>
                  </a:lnTo>
                  <a:lnTo>
                    <a:pt x="336" y="360"/>
                  </a:lnTo>
                  <a:lnTo>
                    <a:pt x="349" y="372"/>
                  </a:lnTo>
                  <a:lnTo>
                    <a:pt x="361" y="384"/>
                  </a:lnTo>
                  <a:lnTo>
                    <a:pt x="372" y="394"/>
                  </a:lnTo>
                  <a:lnTo>
                    <a:pt x="381" y="404"/>
                  </a:lnTo>
                  <a:lnTo>
                    <a:pt x="388" y="412"/>
                  </a:lnTo>
                  <a:lnTo>
                    <a:pt x="393" y="419"/>
                  </a:lnTo>
                  <a:lnTo>
                    <a:pt x="398" y="425"/>
                  </a:lnTo>
                  <a:lnTo>
                    <a:pt x="400" y="430"/>
                  </a:lnTo>
                  <a:lnTo>
                    <a:pt x="401" y="434"/>
                  </a:lnTo>
                  <a:lnTo>
                    <a:pt x="401" y="435"/>
                  </a:lnTo>
                  <a:lnTo>
                    <a:pt x="401" y="436"/>
                  </a:lnTo>
                  <a:lnTo>
                    <a:pt x="400" y="437"/>
                  </a:lnTo>
                  <a:lnTo>
                    <a:pt x="400" y="439"/>
                  </a:lnTo>
                  <a:lnTo>
                    <a:pt x="399" y="440"/>
                  </a:lnTo>
                  <a:lnTo>
                    <a:pt x="398" y="441"/>
                  </a:lnTo>
                  <a:lnTo>
                    <a:pt x="397" y="443"/>
                  </a:lnTo>
                  <a:lnTo>
                    <a:pt x="395" y="444"/>
                  </a:lnTo>
                  <a:lnTo>
                    <a:pt x="394" y="445"/>
                  </a:lnTo>
                  <a:lnTo>
                    <a:pt x="392" y="446"/>
                  </a:lnTo>
                  <a:lnTo>
                    <a:pt x="391" y="448"/>
                  </a:lnTo>
                  <a:lnTo>
                    <a:pt x="389" y="449"/>
                  </a:lnTo>
                  <a:lnTo>
                    <a:pt x="387" y="450"/>
                  </a:lnTo>
                  <a:lnTo>
                    <a:pt x="384" y="452"/>
                  </a:lnTo>
                  <a:lnTo>
                    <a:pt x="383" y="455"/>
                  </a:lnTo>
                  <a:lnTo>
                    <a:pt x="380" y="456"/>
                  </a:lnTo>
                  <a:lnTo>
                    <a:pt x="378" y="458"/>
                  </a:lnTo>
                  <a:lnTo>
                    <a:pt x="376" y="460"/>
                  </a:lnTo>
                  <a:lnTo>
                    <a:pt x="372" y="461"/>
                  </a:lnTo>
                  <a:lnTo>
                    <a:pt x="370" y="462"/>
                  </a:lnTo>
                  <a:lnTo>
                    <a:pt x="367" y="464"/>
                  </a:lnTo>
                  <a:lnTo>
                    <a:pt x="363" y="464"/>
                  </a:lnTo>
                  <a:lnTo>
                    <a:pt x="360" y="464"/>
                  </a:lnTo>
                  <a:lnTo>
                    <a:pt x="357" y="465"/>
                  </a:lnTo>
                  <a:lnTo>
                    <a:pt x="350" y="464"/>
                  </a:lnTo>
                  <a:lnTo>
                    <a:pt x="343" y="464"/>
                  </a:lnTo>
                  <a:lnTo>
                    <a:pt x="336" y="461"/>
                  </a:lnTo>
                  <a:lnTo>
                    <a:pt x="328" y="460"/>
                  </a:lnTo>
                  <a:lnTo>
                    <a:pt x="322" y="457"/>
                  </a:lnTo>
                  <a:lnTo>
                    <a:pt x="315" y="454"/>
                  </a:lnTo>
                  <a:lnTo>
                    <a:pt x="308" y="450"/>
                  </a:lnTo>
                  <a:lnTo>
                    <a:pt x="302" y="446"/>
                  </a:lnTo>
                  <a:lnTo>
                    <a:pt x="293" y="440"/>
                  </a:lnTo>
                  <a:lnTo>
                    <a:pt x="281" y="430"/>
                  </a:lnTo>
                  <a:lnTo>
                    <a:pt x="264" y="417"/>
                  </a:lnTo>
                  <a:lnTo>
                    <a:pt x="243" y="401"/>
                  </a:lnTo>
                  <a:lnTo>
                    <a:pt x="219" y="381"/>
                  </a:lnTo>
                  <a:lnTo>
                    <a:pt x="191" y="358"/>
                  </a:lnTo>
                  <a:lnTo>
                    <a:pt x="159" y="331"/>
                  </a:lnTo>
                  <a:lnTo>
                    <a:pt x="124" y="301"/>
                  </a:lnTo>
                  <a:lnTo>
                    <a:pt x="107" y="288"/>
                  </a:lnTo>
                  <a:lnTo>
                    <a:pt x="102" y="394"/>
                  </a:lnTo>
                  <a:close/>
                  <a:moveTo>
                    <a:pt x="113" y="223"/>
                  </a:moveTo>
                  <a:lnTo>
                    <a:pt x="122" y="223"/>
                  </a:lnTo>
                  <a:lnTo>
                    <a:pt x="132" y="221"/>
                  </a:lnTo>
                  <a:lnTo>
                    <a:pt x="144" y="217"/>
                  </a:lnTo>
                  <a:lnTo>
                    <a:pt x="156" y="212"/>
                  </a:lnTo>
                  <a:lnTo>
                    <a:pt x="170" y="205"/>
                  </a:lnTo>
                  <a:lnTo>
                    <a:pt x="186" y="198"/>
                  </a:lnTo>
                  <a:lnTo>
                    <a:pt x="202" y="189"/>
                  </a:lnTo>
                  <a:lnTo>
                    <a:pt x="221" y="178"/>
                  </a:lnTo>
                  <a:lnTo>
                    <a:pt x="239" y="167"/>
                  </a:lnTo>
                  <a:lnTo>
                    <a:pt x="254" y="155"/>
                  </a:lnTo>
                  <a:lnTo>
                    <a:pt x="267" y="143"/>
                  </a:lnTo>
                  <a:lnTo>
                    <a:pt x="278" y="134"/>
                  </a:lnTo>
                  <a:lnTo>
                    <a:pt x="286" y="123"/>
                  </a:lnTo>
                  <a:lnTo>
                    <a:pt x="293" y="111"/>
                  </a:lnTo>
                  <a:lnTo>
                    <a:pt x="295" y="106"/>
                  </a:lnTo>
                  <a:lnTo>
                    <a:pt x="296" y="102"/>
                  </a:lnTo>
                  <a:lnTo>
                    <a:pt x="297" y="96"/>
                  </a:lnTo>
                  <a:lnTo>
                    <a:pt x="297" y="91"/>
                  </a:lnTo>
                  <a:lnTo>
                    <a:pt x="296" y="85"/>
                  </a:lnTo>
                  <a:lnTo>
                    <a:pt x="294" y="79"/>
                  </a:lnTo>
                  <a:lnTo>
                    <a:pt x="288" y="75"/>
                  </a:lnTo>
                  <a:lnTo>
                    <a:pt x="282" y="72"/>
                  </a:lnTo>
                  <a:lnTo>
                    <a:pt x="273" y="70"/>
                  </a:lnTo>
                  <a:lnTo>
                    <a:pt x="263" y="67"/>
                  </a:lnTo>
                  <a:lnTo>
                    <a:pt x="251" y="66"/>
                  </a:lnTo>
                  <a:lnTo>
                    <a:pt x="237" y="65"/>
                  </a:lnTo>
                  <a:lnTo>
                    <a:pt x="228" y="66"/>
                  </a:lnTo>
                  <a:lnTo>
                    <a:pt x="219" y="66"/>
                  </a:lnTo>
                  <a:lnTo>
                    <a:pt x="210" y="66"/>
                  </a:lnTo>
                  <a:lnTo>
                    <a:pt x="202" y="67"/>
                  </a:lnTo>
                  <a:lnTo>
                    <a:pt x="195" y="67"/>
                  </a:lnTo>
                  <a:lnTo>
                    <a:pt x="187" y="68"/>
                  </a:lnTo>
                  <a:lnTo>
                    <a:pt x="179" y="70"/>
                  </a:lnTo>
                  <a:lnTo>
                    <a:pt x="171" y="70"/>
                  </a:lnTo>
                  <a:lnTo>
                    <a:pt x="165" y="72"/>
                  </a:lnTo>
                  <a:lnTo>
                    <a:pt x="158" y="73"/>
                  </a:lnTo>
                  <a:lnTo>
                    <a:pt x="152" y="74"/>
                  </a:lnTo>
                  <a:lnTo>
                    <a:pt x="146" y="75"/>
                  </a:lnTo>
                  <a:lnTo>
                    <a:pt x="140" y="77"/>
                  </a:lnTo>
                  <a:lnTo>
                    <a:pt x="135" y="78"/>
                  </a:lnTo>
                  <a:lnTo>
                    <a:pt x="131" y="79"/>
                  </a:lnTo>
                  <a:lnTo>
                    <a:pt x="126" y="82"/>
                  </a:lnTo>
                  <a:lnTo>
                    <a:pt x="123" y="84"/>
                  </a:lnTo>
                  <a:lnTo>
                    <a:pt x="119" y="86"/>
                  </a:lnTo>
                  <a:lnTo>
                    <a:pt x="117" y="89"/>
                  </a:lnTo>
                  <a:lnTo>
                    <a:pt x="115" y="92"/>
                  </a:lnTo>
                  <a:lnTo>
                    <a:pt x="113" y="96"/>
                  </a:lnTo>
                  <a:lnTo>
                    <a:pt x="112" y="99"/>
                  </a:lnTo>
                  <a:lnTo>
                    <a:pt x="111" y="104"/>
                  </a:lnTo>
                  <a:lnTo>
                    <a:pt x="111" y="108"/>
                  </a:lnTo>
                  <a:lnTo>
                    <a:pt x="111" y="156"/>
                  </a:lnTo>
                  <a:lnTo>
                    <a:pt x="107" y="219"/>
                  </a:lnTo>
                  <a:lnTo>
                    <a:pt x="107" y="220"/>
                  </a:lnTo>
                  <a:lnTo>
                    <a:pt x="108" y="221"/>
                  </a:lnTo>
                  <a:lnTo>
                    <a:pt x="108" y="222"/>
                  </a:lnTo>
                  <a:lnTo>
                    <a:pt x="110" y="222"/>
                  </a:lnTo>
                  <a:lnTo>
                    <a:pt x="110" y="223"/>
                  </a:lnTo>
                  <a:lnTo>
                    <a:pt x="111" y="223"/>
                  </a:lnTo>
                  <a:lnTo>
                    <a:pt x="112" y="223"/>
                  </a:lnTo>
                  <a:lnTo>
                    <a:pt x="113" y="22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690640" y="2293920"/>
              <a:ext cx="168480" cy="194760"/>
            </a:xfrm>
            <a:custGeom>
              <a:avLst/>
              <a:gdLst/>
              <a:ahLst/>
              <a:rect l="l" t="t" r="r" b="b"/>
              <a:pathLst>
                <a:path w="425" h="491">
                  <a:moveTo>
                    <a:pt x="247" y="0"/>
                  </a:moveTo>
                  <a:lnTo>
                    <a:pt x="250" y="0"/>
                  </a:lnTo>
                  <a:lnTo>
                    <a:pt x="254" y="0"/>
                  </a:lnTo>
                  <a:lnTo>
                    <a:pt x="258" y="1"/>
                  </a:lnTo>
                  <a:lnTo>
                    <a:pt x="262" y="1"/>
                  </a:lnTo>
                  <a:lnTo>
                    <a:pt x="266" y="2"/>
                  </a:lnTo>
                  <a:lnTo>
                    <a:pt x="270" y="4"/>
                  </a:lnTo>
                  <a:lnTo>
                    <a:pt x="274" y="5"/>
                  </a:lnTo>
                  <a:lnTo>
                    <a:pt x="279" y="6"/>
                  </a:lnTo>
                  <a:lnTo>
                    <a:pt x="283" y="8"/>
                  </a:lnTo>
                  <a:lnTo>
                    <a:pt x="288" y="9"/>
                  </a:lnTo>
                  <a:lnTo>
                    <a:pt x="293" y="10"/>
                  </a:lnTo>
                  <a:lnTo>
                    <a:pt x="297" y="11"/>
                  </a:lnTo>
                  <a:lnTo>
                    <a:pt x="302" y="13"/>
                  </a:lnTo>
                  <a:lnTo>
                    <a:pt x="306" y="15"/>
                  </a:lnTo>
                  <a:lnTo>
                    <a:pt x="311" y="16"/>
                  </a:lnTo>
                  <a:lnTo>
                    <a:pt x="315" y="18"/>
                  </a:lnTo>
                  <a:lnTo>
                    <a:pt x="324" y="20"/>
                  </a:lnTo>
                  <a:lnTo>
                    <a:pt x="334" y="23"/>
                  </a:lnTo>
                  <a:lnTo>
                    <a:pt x="341" y="28"/>
                  </a:lnTo>
                  <a:lnTo>
                    <a:pt x="349" y="32"/>
                  </a:lnTo>
                  <a:lnTo>
                    <a:pt x="357" y="37"/>
                  </a:lnTo>
                  <a:lnTo>
                    <a:pt x="364" y="42"/>
                  </a:lnTo>
                  <a:lnTo>
                    <a:pt x="369" y="48"/>
                  </a:lnTo>
                  <a:lnTo>
                    <a:pt x="375" y="54"/>
                  </a:lnTo>
                  <a:lnTo>
                    <a:pt x="379" y="61"/>
                  </a:lnTo>
                  <a:lnTo>
                    <a:pt x="383" y="69"/>
                  </a:lnTo>
                  <a:lnTo>
                    <a:pt x="387" y="76"/>
                  </a:lnTo>
                  <a:lnTo>
                    <a:pt x="389" y="85"/>
                  </a:lnTo>
                  <a:lnTo>
                    <a:pt x="391" y="94"/>
                  </a:lnTo>
                  <a:lnTo>
                    <a:pt x="393" y="104"/>
                  </a:lnTo>
                  <a:lnTo>
                    <a:pt x="393" y="115"/>
                  </a:lnTo>
                  <a:lnTo>
                    <a:pt x="394" y="126"/>
                  </a:lnTo>
                  <a:lnTo>
                    <a:pt x="393" y="135"/>
                  </a:lnTo>
                  <a:lnTo>
                    <a:pt x="393" y="141"/>
                  </a:lnTo>
                  <a:lnTo>
                    <a:pt x="392" y="148"/>
                  </a:lnTo>
                  <a:lnTo>
                    <a:pt x="391" y="155"/>
                  </a:lnTo>
                  <a:lnTo>
                    <a:pt x="389" y="160"/>
                  </a:lnTo>
                  <a:lnTo>
                    <a:pt x="387" y="166"/>
                  </a:lnTo>
                  <a:lnTo>
                    <a:pt x="383" y="170"/>
                  </a:lnTo>
                  <a:lnTo>
                    <a:pt x="380" y="175"/>
                  </a:lnTo>
                  <a:lnTo>
                    <a:pt x="377" y="178"/>
                  </a:lnTo>
                  <a:lnTo>
                    <a:pt x="372" y="181"/>
                  </a:lnTo>
                  <a:lnTo>
                    <a:pt x="368" y="183"/>
                  </a:lnTo>
                  <a:lnTo>
                    <a:pt x="362" y="186"/>
                  </a:lnTo>
                  <a:lnTo>
                    <a:pt x="357" y="188"/>
                  </a:lnTo>
                  <a:lnTo>
                    <a:pt x="350" y="189"/>
                  </a:lnTo>
                  <a:lnTo>
                    <a:pt x="344" y="189"/>
                  </a:lnTo>
                  <a:lnTo>
                    <a:pt x="336" y="189"/>
                  </a:lnTo>
                  <a:lnTo>
                    <a:pt x="323" y="189"/>
                  </a:lnTo>
                  <a:lnTo>
                    <a:pt x="311" y="187"/>
                  </a:lnTo>
                  <a:lnTo>
                    <a:pt x="300" y="184"/>
                  </a:lnTo>
                  <a:lnTo>
                    <a:pt x="291" y="180"/>
                  </a:lnTo>
                  <a:lnTo>
                    <a:pt x="283" y="176"/>
                  </a:lnTo>
                  <a:lnTo>
                    <a:pt x="276" y="170"/>
                  </a:lnTo>
                  <a:lnTo>
                    <a:pt x="271" y="162"/>
                  </a:lnTo>
                  <a:lnTo>
                    <a:pt x="267" y="154"/>
                  </a:lnTo>
                  <a:lnTo>
                    <a:pt x="264" y="146"/>
                  </a:lnTo>
                  <a:lnTo>
                    <a:pt x="262" y="137"/>
                  </a:lnTo>
                  <a:lnTo>
                    <a:pt x="259" y="129"/>
                  </a:lnTo>
                  <a:lnTo>
                    <a:pt x="256" y="122"/>
                  </a:lnTo>
                  <a:lnTo>
                    <a:pt x="254" y="115"/>
                  </a:lnTo>
                  <a:lnTo>
                    <a:pt x="252" y="107"/>
                  </a:lnTo>
                  <a:lnTo>
                    <a:pt x="250" y="101"/>
                  </a:lnTo>
                  <a:lnTo>
                    <a:pt x="248" y="95"/>
                  </a:lnTo>
                  <a:lnTo>
                    <a:pt x="241" y="96"/>
                  </a:lnTo>
                  <a:lnTo>
                    <a:pt x="234" y="100"/>
                  </a:lnTo>
                  <a:lnTo>
                    <a:pt x="226" y="106"/>
                  </a:lnTo>
                  <a:lnTo>
                    <a:pt x="216" y="115"/>
                  </a:lnTo>
                  <a:lnTo>
                    <a:pt x="205" y="126"/>
                  </a:lnTo>
                  <a:lnTo>
                    <a:pt x="194" y="139"/>
                  </a:lnTo>
                  <a:lnTo>
                    <a:pt x="180" y="156"/>
                  </a:lnTo>
                  <a:lnTo>
                    <a:pt x="167" y="175"/>
                  </a:lnTo>
                  <a:lnTo>
                    <a:pt x="154" y="194"/>
                  </a:lnTo>
                  <a:lnTo>
                    <a:pt x="142" y="214"/>
                  </a:lnTo>
                  <a:lnTo>
                    <a:pt x="132" y="233"/>
                  </a:lnTo>
                  <a:lnTo>
                    <a:pt x="124" y="252"/>
                  </a:lnTo>
                  <a:lnTo>
                    <a:pt x="117" y="271"/>
                  </a:lnTo>
                  <a:lnTo>
                    <a:pt x="113" y="289"/>
                  </a:lnTo>
                  <a:lnTo>
                    <a:pt x="111" y="308"/>
                  </a:lnTo>
                  <a:lnTo>
                    <a:pt x="110" y="326"/>
                  </a:lnTo>
                  <a:lnTo>
                    <a:pt x="110" y="337"/>
                  </a:lnTo>
                  <a:lnTo>
                    <a:pt x="111" y="347"/>
                  </a:lnTo>
                  <a:lnTo>
                    <a:pt x="113" y="357"/>
                  </a:lnTo>
                  <a:lnTo>
                    <a:pt x="116" y="365"/>
                  </a:lnTo>
                  <a:lnTo>
                    <a:pt x="120" y="374"/>
                  </a:lnTo>
                  <a:lnTo>
                    <a:pt x="124" y="382"/>
                  </a:lnTo>
                  <a:lnTo>
                    <a:pt x="128" y="391"/>
                  </a:lnTo>
                  <a:lnTo>
                    <a:pt x="135" y="397"/>
                  </a:lnTo>
                  <a:lnTo>
                    <a:pt x="142" y="404"/>
                  </a:lnTo>
                  <a:lnTo>
                    <a:pt x="148" y="411"/>
                  </a:lnTo>
                  <a:lnTo>
                    <a:pt x="156" y="415"/>
                  </a:lnTo>
                  <a:lnTo>
                    <a:pt x="164" y="420"/>
                  </a:lnTo>
                  <a:lnTo>
                    <a:pt x="171" y="423"/>
                  </a:lnTo>
                  <a:lnTo>
                    <a:pt x="180" y="425"/>
                  </a:lnTo>
                  <a:lnTo>
                    <a:pt x="189" y="426"/>
                  </a:lnTo>
                  <a:lnTo>
                    <a:pt x="198" y="426"/>
                  </a:lnTo>
                  <a:lnTo>
                    <a:pt x="211" y="426"/>
                  </a:lnTo>
                  <a:lnTo>
                    <a:pt x="224" y="424"/>
                  </a:lnTo>
                  <a:lnTo>
                    <a:pt x="238" y="421"/>
                  </a:lnTo>
                  <a:lnTo>
                    <a:pt x="251" y="416"/>
                  </a:lnTo>
                  <a:lnTo>
                    <a:pt x="263" y="411"/>
                  </a:lnTo>
                  <a:lnTo>
                    <a:pt x="275" y="404"/>
                  </a:lnTo>
                  <a:lnTo>
                    <a:pt x="287" y="396"/>
                  </a:lnTo>
                  <a:lnTo>
                    <a:pt x="298" y="388"/>
                  </a:lnTo>
                  <a:lnTo>
                    <a:pt x="309" y="377"/>
                  </a:lnTo>
                  <a:lnTo>
                    <a:pt x="319" y="367"/>
                  </a:lnTo>
                  <a:lnTo>
                    <a:pt x="330" y="356"/>
                  </a:lnTo>
                  <a:lnTo>
                    <a:pt x="340" y="345"/>
                  </a:lnTo>
                  <a:lnTo>
                    <a:pt x="351" y="335"/>
                  </a:lnTo>
                  <a:lnTo>
                    <a:pt x="361" y="324"/>
                  </a:lnTo>
                  <a:lnTo>
                    <a:pt x="371" y="313"/>
                  </a:lnTo>
                  <a:lnTo>
                    <a:pt x="382" y="303"/>
                  </a:lnTo>
                  <a:lnTo>
                    <a:pt x="386" y="303"/>
                  </a:lnTo>
                  <a:lnTo>
                    <a:pt x="388" y="304"/>
                  </a:lnTo>
                  <a:lnTo>
                    <a:pt x="391" y="305"/>
                  </a:lnTo>
                  <a:lnTo>
                    <a:pt x="396" y="306"/>
                  </a:lnTo>
                  <a:lnTo>
                    <a:pt x="399" y="308"/>
                  </a:lnTo>
                  <a:lnTo>
                    <a:pt x="402" y="310"/>
                  </a:lnTo>
                  <a:lnTo>
                    <a:pt x="405" y="314"/>
                  </a:lnTo>
                  <a:lnTo>
                    <a:pt x="410" y="317"/>
                  </a:lnTo>
                  <a:lnTo>
                    <a:pt x="413" y="320"/>
                  </a:lnTo>
                  <a:lnTo>
                    <a:pt x="417" y="324"/>
                  </a:lnTo>
                  <a:lnTo>
                    <a:pt x="420" y="327"/>
                  </a:lnTo>
                  <a:lnTo>
                    <a:pt x="422" y="330"/>
                  </a:lnTo>
                  <a:lnTo>
                    <a:pt x="423" y="333"/>
                  </a:lnTo>
                  <a:lnTo>
                    <a:pt x="424" y="336"/>
                  </a:lnTo>
                  <a:lnTo>
                    <a:pt x="425" y="338"/>
                  </a:lnTo>
                  <a:lnTo>
                    <a:pt x="425" y="341"/>
                  </a:lnTo>
                  <a:lnTo>
                    <a:pt x="424" y="353"/>
                  </a:lnTo>
                  <a:lnTo>
                    <a:pt x="422" y="367"/>
                  </a:lnTo>
                  <a:lnTo>
                    <a:pt x="418" y="379"/>
                  </a:lnTo>
                  <a:lnTo>
                    <a:pt x="411" y="392"/>
                  </a:lnTo>
                  <a:lnTo>
                    <a:pt x="403" y="404"/>
                  </a:lnTo>
                  <a:lnTo>
                    <a:pt x="392" y="416"/>
                  </a:lnTo>
                  <a:lnTo>
                    <a:pt x="381" y="429"/>
                  </a:lnTo>
                  <a:lnTo>
                    <a:pt x="367" y="442"/>
                  </a:lnTo>
                  <a:lnTo>
                    <a:pt x="352" y="454"/>
                  </a:lnTo>
                  <a:lnTo>
                    <a:pt x="337" y="464"/>
                  </a:lnTo>
                  <a:lnTo>
                    <a:pt x="322" y="473"/>
                  </a:lnTo>
                  <a:lnTo>
                    <a:pt x="306" y="479"/>
                  </a:lnTo>
                  <a:lnTo>
                    <a:pt x="291" y="485"/>
                  </a:lnTo>
                  <a:lnTo>
                    <a:pt x="274" y="488"/>
                  </a:lnTo>
                  <a:lnTo>
                    <a:pt x="256" y="490"/>
                  </a:lnTo>
                  <a:lnTo>
                    <a:pt x="240" y="491"/>
                  </a:lnTo>
                  <a:lnTo>
                    <a:pt x="220" y="490"/>
                  </a:lnTo>
                  <a:lnTo>
                    <a:pt x="200" y="488"/>
                  </a:lnTo>
                  <a:lnTo>
                    <a:pt x="180" y="485"/>
                  </a:lnTo>
                  <a:lnTo>
                    <a:pt x="160" y="479"/>
                  </a:lnTo>
                  <a:lnTo>
                    <a:pt x="141" y="473"/>
                  </a:lnTo>
                  <a:lnTo>
                    <a:pt x="121" y="464"/>
                  </a:lnTo>
                  <a:lnTo>
                    <a:pt x="101" y="454"/>
                  </a:lnTo>
                  <a:lnTo>
                    <a:pt x="81" y="443"/>
                  </a:lnTo>
                  <a:lnTo>
                    <a:pt x="71" y="436"/>
                  </a:lnTo>
                  <a:lnTo>
                    <a:pt x="62" y="429"/>
                  </a:lnTo>
                  <a:lnTo>
                    <a:pt x="53" y="423"/>
                  </a:lnTo>
                  <a:lnTo>
                    <a:pt x="46" y="415"/>
                  </a:lnTo>
                  <a:lnTo>
                    <a:pt x="38" y="409"/>
                  </a:lnTo>
                  <a:lnTo>
                    <a:pt x="31" y="401"/>
                  </a:lnTo>
                  <a:lnTo>
                    <a:pt x="26" y="393"/>
                  </a:lnTo>
                  <a:lnTo>
                    <a:pt x="20" y="385"/>
                  </a:lnTo>
                  <a:lnTo>
                    <a:pt x="16" y="377"/>
                  </a:lnTo>
                  <a:lnTo>
                    <a:pt x="11" y="369"/>
                  </a:lnTo>
                  <a:lnTo>
                    <a:pt x="8" y="360"/>
                  </a:lnTo>
                  <a:lnTo>
                    <a:pt x="6" y="350"/>
                  </a:lnTo>
                  <a:lnTo>
                    <a:pt x="4" y="341"/>
                  </a:lnTo>
                  <a:lnTo>
                    <a:pt x="1" y="331"/>
                  </a:lnTo>
                  <a:lnTo>
                    <a:pt x="0" y="321"/>
                  </a:lnTo>
                  <a:lnTo>
                    <a:pt x="0" y="311"/>
                  </a:lnTo>
                  <a:lnTo>
                    <a:pt x="1" y="293"/>
                  </a:lnTo>
                  <a:lnTo>
                    <a:pt x="4" y="275"/>
                  </a:lnTo>
                  <a:lnTo>
                    <a:pt x="7" y="256"/>
                  </a:lnTo>
                  <a:lnTo>
                    <a:pt x="11" y="237"/>
                  </a:lnTo>
                  <a:lnTo>
                    <a:pt x="18" y="220"/>
                  </a:lnTo>
                  <a:lnTo>
                    <a:pt x="26" y="201"/>
                  </a:lnTo>
                  <a:lnTo>
                    <a:pt x="36" y="183"/>
                  </a:lnTo>
                  <a:lnTo>
                    <a:pt x="46" y="166"/>
                  </a:lnTo>
                  <a:lnTo>
                    <a:pt x="58" y="148"/>
                  </a:lnTo>
                  <a:lnTo>
                    <a:pt x="70" y="132"/>
                  </a:lnTo>
                  <a:lnTo>
                    <a:pt x="82" y="115"/>
                  </a:lnTo>
                  <a:lnTo>
                    <a:pt x="95" y="101"/>
                  </a:lnTo>
                  <a:lnTo>
                    <a:pt x="109" y="86"/>
                  </a:lnTo>
                  <a:lnTo>
                    <a:pt x="123" y="72"/>
                  </a:lnTo>
                  <a:lnTo>
                    <a:pt x="137" y="60"/>
                  </a:lnTo>
                  <a:lnTo>
                    <a:pt x="153" y="48"/>
                  </a:lnTo>
                  <a:lnTo>
                    <a:pt x="167" y="37"/>
                  </a:lnTo>
                  <a:lnTo>
                    <a:pt x="181" y="27"/>
                  </a:lnTo>
                  <a:lnTo>
                    <a:pt x="194" y="19"/>
                  </a:lnTo>
                  <a:lnTo>
                    <a:pt x="206" y="12"/>
                  </a:lnTo>
                  <a:lnTo>
                    <a:pt x="218" y="7"/>
                  </a:lnTo>
                  <a:lnTo>
                    <a:pt x="228" y="4"/>
                  </a:lnTo>
                  <a:lnTo>
                    <a:pt x="238" y="1"/>
                  </a:lnTo>
                  <a:lnTo>
                    <a:pt x="247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882880" y="2298600"/>
              <a:ext cx="138240" cy="182160"/>
            </a:xfrm>
            <a:custGeom>
              <a:avLst/>
              <a:gdLst/>
              <a:ahLst/>
              <a:rect l="l" t="t" r="r" b="b"/>
              <a:pathLst>
                <a:path w="347" h="460">
                  <a:moveTo>
                    <a:pt x="239" y="0"/>
                  </a:moveTo>
                  <a:lnTo>
                    <a:pt x="251" y="1"/>
                  </a:lnTo>
                  <a:lnTo>
                    <a:pt x="262" y="1"/>
                  </a:lnTo>
                  <a:lnTo>
                    <a:pt x="273" y="3"/>
                  </a:lnTo>
                  <a:lnTo>
                    <a:pt x="283" y="6"/>
                  </a:lnTo>
                  <a:lnTo>
                    <a:pt x="293" y="8"/>
                  </a:lnTo>
                  <a:lnTo>
                    <a:pt x="301" y="11"/>
                  </a:lnTo>
                  <a:lnTo>
                    <a:pt x="309" y="16"/>
                  </a:lnTo>
                  <a:lnTo>
                    <a:pt x="317" y="20"/>
                  </a:lnTo>
                  <a:lnTo>
                    <a:pt x="324" y="24"/>
                  </a:lnTo>
                  <a:lnTo>
                    <a:pt x="330" y="29"/>
                  </a:lnTo>
                  <a:lnTo>
                    <a:pt x="335" y="33"/>
                  </a:lnTo>
                  <a:lnTo>
                    <a:pt x="339" y="38"/>
                  </a:lnTo>
                  <a:lnTo>
                    <a:pt x="342" y="42"/>
                  </a:lnTo>
                  <a:lnTo>
                    <a:pt x="345" y="45"/>
                  </a:lnTo>
                  <a:lnTo>
                    <a:pt x="346" y="49"/>
                  </a:lnTo>
                  <a:lnTo>
                    <a:pt x="347" y="52"/>
                  </a:lnTo>
                  <a:lnTo>
                    <a:pt x="346" y="55"/>
                  </a:lnTo>
                  <a:lnTo>
                    <a:pt x="343" y="58"/>
                  </a:lnTo>
                  <a:lnTo>
                    <a:pt x="339" y="60"/>
                  </a:lnTo>
                  <a:lnTo>
                    <a:pt x="332" y="63"/>
                  </a:lnTo>
                  <a:lnTo>
                    <a:pt x="326" y="65"/>
                  </a:lnTo>
                  <a:lnTo>
                    <a:pt x="316" y="67"/>
                  </a:lnTo>
                  <a:lnTo>
                    <a:pt x="305" y="70"/>
                  </a:lnTo>
                  <a:lnTo>
                    <a:pt x="293" y="72"/>
                  </a:lnTo>
                  <a:lnTo>
                    <a:pt x="279" y="74"/>
                  </a:lnTo>
                  <a:lnTo>
                    <a:pt x="265" y="75"/>
                  </a:lnTo>
                  <a:lnTo>
                    <a:pt x="250" y="76"/>
                  </a:lnTo>
                  <a:lnTo>
                    <a:pt x="234" y="77"/>
                  </a:lnTo>
                  <a:lnTo>
                    <a:pt x="219" y="78"/>
                  </a:lnTo>
                  <a:lnTo>
                    <a:pt x="202" y="80"/>
                  </a:lnTo>
                  <a:lnTo>
                    <a:pt x="186" y="80"/>
                  </a:lnTo>
                  <a:lnTo>
                    <a:pt x="168" y="80"/>
                  </a:lnTo>
                  <a:lnTo>
                    <a:pt x="147" y="80"/>
                  </a:lnTo>
                  <a:lnTo>
                    <a:pt x="144" y="80"/>
                  </a:lnTo>
                  <a:lnTo>
                    <a:pt x="141" y="80"/>
                  </a:lnTo>
                  <a:lnTo>
                    <a:pt x="139" y="80"/>
                  </a:lnTo>
                  <a:lnTo>
                    <a:pt x="137" y="81"/>
                  </a:lnTo>
                  <a:lnTo>
                    <a:pt x="135" y="81"/>
                  </a:lnTo>
                  <a:lnTo>
                    <a:pt x="133" y="81"/>
                  </a:lnTo>
                  <a:lnTo>
                    <a:pt x="131" y="81"/>
                  </a:lnTo>
                  <a:lnTo>
                    <a:pt x="130" y="82"/>
                  </a:lnTo>
                  <a:lnTo>
                    <a:pt x="129" y="82"/>
                  </a:lnTo>
                  <a:lnTo>
                    <a:pt x="128" y="83"/>
                  </a:lnTo>
                  <a:lnTo>
                    <a:pt x="127" y="83"/>
                  </a:lnTo>
                  <a:lnTo>
                    <a:pt x="127" y="84"/>
                  </a:lnTo>
                  <a:lnTo>
                    <a:pt x="126" y="86"/>
                  </a:lnTo>
                  <a:lnTo>
                    <a:pt x="126" y="87"/>
                  </a:lnTo>
                  <a:lnTo>
                    <a:pt x="126" y="88"/>
                  </a:lnTo>
                  <a:lnTo>
                    <a:pt x="125" y="91"/>
                  </a:lnTo>
                  <a:lnTo>
                    <a:pt x="116" y="181"/>
                  </a:lnTo>
                  <a:lnTo>
                    <a:pt x="116" y="182"/>
                  </a:lnTo>
                  <a:lnTo>
                    <a:pt x="117" y="183"/>
                  </a:lnTo>
                  <a:lnTo>
                    <a:pt x="117" y="184"/>
                  </a:lnTo>
                  <a:lnTo>
                    <a:pt x="118" y="186"/>
                  </a:lnTo>
                  <a:lnTo>
                    <a:pt x="119" y="187"/>
                  </a:lnTo>
                  <a:lnTo>
                    <a:pt x="120" y="187"/>
                  </a:lnTo>
                  <a:lnTo>
                    <a:pt x="123" y="187"/>
                  </a:lnTo>
                  <a:lnTo>
                    <a:pt x="125" y="187"/>
                  </a:lnTo>
                  <a:lnTo>
                    <a:pt x="133" y="187"/>
                  </a:lnTo>
                  <a:lnTo>
                    <a:pt x="140" y="186"/>
                  </a:lnTo>
                  <a:lnTo>
                    <a:pt x="149" y="186"/>
                  </a:lnTo>
                  <a:lnTo>
                    <a:pt x="157" y="184"/>
                  </a:lnTo>
                  <a:lnTo>
                    <a:pt x="166" y="184"/>
                  </a:lnTo>
                  <a:lnTo>
                    <a:pt x="173" y="183"/>
                  </a:lnTo>
                  <a:lnTo>
                    <a:pt x="182" y="183"/>
                  </a:lnTo>
                  <a:lnTo>
                    <a:pt x="191" y="182"/>
                  </a:lnTo>
                  <a:lnTo>
                    <a:pt x="200" y="182"/>
                  </a:lnTo>
                  <a:lnTo>
                    <a:pt x="209" y="182"/>
                  </a:lnTo>
                  <a:lnTo>
                    <a:pt x="216" y="181"/>
                  </a:lnTo>
                  <a:lnTo>
                    <a:pt x="224" y="181"/>
                  </a:lnTo>
                  <a:lnTo>
                    <a:pt x="231" y="181"/>
                  </a:lnTo>
                  <a:lnTo>
                    <a:pt x="237" y="181"/>
                  </a:lnTo>
                  <a:lnTo>
                    <a:pt x="243" y="181"/>
                  </a:lnTo>
                  <a:lnTo>
                    <a:pt x="250" y="181"/>
                  </a:lnTo>
                  <a:lnTo>
                    <a:pt x="258" y="181"/>
                  </a:lnTo>
                  <a:lnTo>
                    <a:pt x="266" y="181"/>
                  </a:lnTo>
                  <a:lnTo>
                    <a:pt x="275" y="182"/>
                  </a:lnTo>
                  <a:lnTo>
                    <a:pt x="283" y="182"/>
                  </a:lnTo>
                  <a:lnTo>
                    <a:pt x="289" y="183"/>
                  </a:lnTo>
                  <a:lnTo>
                    <a:pt x="297" y="184"/>
                  </a:lnTo>
                  <a:lnTo>
                    <a:pt x="304" y="186"/>
                  </a:lnTo>
                  <a:lnTo>
                    <a:pt x="309" y="188"/>
                  </a:lnTo>
                  <a:lnTo>
                    <a:pt x="315" y="190"/>
                  </a:lnTo>
                  <a:lnTo>
                    <a:pt x="320" y="191"/>
                  </a:lnTo>
                  <a:lnTo>
                    <a:pt x="325" y="193"/>
                  </a:lnTo>
                  <a:lnTo>
                    <a:pt x="328" y="194"/>
                  </a:lnTo>
                  <a:lnTo>
                    <a:pt x="331" y="197"/>
                  </a:lnTo>
                  <a:lnTo>
                    <a:pt x="333" y="199"/>
                  </a:lnTo>
                  <a:lnTo>
                    <a:pt x="336" y="200"/>
                  </a:lnTo>
                  <a:lnTo>
                    <a:pt x="337" y="202"/>
                  </a:lnTo>
                  <a:lnTo>
                    <a:pt x="338" y="204"/>
                  </a:lnTo>
                  <a:lnTo>
                    <a:pt x="338" y="206"/>
                  </a:lnTo>
                  <a:lnTo>
                    <a:pt x="339" y="208"/>
                  </a:lnTo>
                  <a:lnTo>
                    <a:pt x="340" y="210"/>
                  </a:lnTo>
                  <a:lnTo>
                    <a:pt x="340" y="212"/>
                  </a:lnTo>
                  <a:lnTo>
                    <a:pt x="341" y="214"/>
                  </a:lnTo>
                  <a:lnTo>
                    <a:pt x="342" y="216"/>
                  </a:lnTo>
                  <a:lnTo>
                    <a:pt x="343" y="219"/>
                  </a:lnTo>
                  <a:lnTo>
                    <a:pt x="343" y="220"/>
                  </a:lnTo>
                  <a:lnTo>
                    <a:pt x="345" y="222"/>
                  </a:lnTo>
                  <a:lnTo>
                    <a:pt x="345" y="224"/>
                  </a:lnTo>
                  <a:lnTo>
                    <a:pt x="346" y="225"/>
                  </a:lnTo>
                  <a:lnTo>
                    <a:pt x="346" y="226"/>
                  </a:lnTo>
                  <a:lnTo>
                    <a:pt x="346" y="227"/>
                  </a:lnTo>
                  <a:lnTo>
                    <a:pt x="347" y="229"/>
                  </a:lnTo>
                  <a:lnTo>
                    <a:pt x="347" y="229"/>
                  </a:lnTo>
                  <a:lnTo>
                    <a:pt x="346" y="231"/>
                  </a:lnTo>
                  <a:lnTo>
                    <a:pt x="346" y="232"/>
                  </a:lnTo>
                  <a:lnTo>
                    <a:pt x="345" y="234"/>
                  </a:lnTo>
                  <a:lnTo>
                    <a:pt x="343" y="235"/>
                  </a:lnTo>
                  <a:lnTo>
                    <a:pt x="342" y="237"/>
                  </a:lnTo>
                  <a:lnTo>
                    <a:pt x="340" y="238"/>
                  </a:lnTo>
                  <a:lnTo>
                    <a:pt x="338" y="240"/>
                  </a:lnTo>
                  <a:lnTo>
                    <a:pt x="336" y="241"/>
                  </a:lnTo>
                  <a:lnTo>
                    <a:pt x="332" y="243"/>
                  </a:lnTo>
                  <a:lnTo>
                    <a:pt x="329" y="243"/>
                  </a:lnTo>
                  <a:lnTo>
                    <a:pt x="326" y="244"/>
                  </a:lnTo>
                  <a:lnTo>
                    <a:pt x="322" y="245"/>
                  </a:lnTo>
                  <a:lnTo>
                    <a:pt x="318" y="245"/>
                  </a:lnTo>
                  <a:lnTo>
                    <a:pt x="314" y="246"/>
                  </a:lnTo>
                  <a:lnTo>
                    <a:pt x="309" y="246"/>
                  </a:lnTo>
                  <a:lnTo>
                    <a:pt x="305" y="246"/>
                  </a:lnTo>
                  <a:lnTo>
                    <a:pt x="295" y="247"/>
                  </a:lnTo>
                  <a:lnTo>
                    <a:pt x="284" y="248"/>
                  </a:lnTo>
                  <a:lnTo>
                    <a:pt x="274" y="250"/>
                  </a:lnTo>
                  <a:lnTo>
                    <a:pt x="263" y="250"/>
                  </a:lnTo>
                  <a:lnTo>
                    <a:pt x="252" y="251"/>
                  </a:lnTo>
                  <a:lnTo>
                    <a:pt x="241" y="252"/>
                  </a:lnTo>
                  <a:lnTo>
                    <a:pt x="230" y="253"/>
                  </a:lnTo>
                  <a:lnTo>
                    <a:pt x="219" y="253"/>
                  </a:lnTo>
                  <a:lnTo>
                    <a:pt x="208" y="254"/>
                  </a:lnTo>
                  <a:lnTo>
                    <a:pt x="197" y="255"/>
                  </a:lnTo>
                  <a:lnTo>
                    <a:pt x="187" y="255"/>
                  </a:lnTo>
                  <a:lnTo>
                    <a:pt x="178" y="255"/>
                  </a:lnTo>
                  <a:lnTo>
                    <a:pt x="168" y="256"/>
                  </a:lnTo>
                  <a:lnTo>
                    <a:pt x="160" y="256"/>
                  </a:lnTo>
                  <a:lnTo>
                    <a:pt x="151" y="256"/>
                  </a:lnTo>
                  <a:lnTo>
                    <a:pt x="144" y="256"/>
                  </a:lnTo>
                  <a:lnTo>
                    <a:pt x="138" y="256"/>
                  </a:lnTo>
                  <a:lnTo>
                    <a:pt x="134" y="256"/>
                  </a:lnTo>
                  <a:lnTo>
                    <a:pt x="128" y="257"/>
                  </a:lnTo>
                  <a:lnTo>
                    <a:pt x="125" y="257"/>
                  </a:lnTo>
                  <a:lnTo>
                    <a:pt x="120" y="258"/>
                  </a:lnTo>
                  <a:lnTo>
                    <a:pt x="118" y="258"/>
                  </a:lnTo>
                  <a:lnTo>
                    <a:pt x="115" y="259"/>
                  </a:lnTo>
                  <a:lnTo>
                    <a:pt x="113" y="261"/>
                  </a:lnTo>
                  <a:lnTo>
                    <a:pt x="110" y="262"/>
                  </a:lnTo>
                  <a:lnTo>
                    <a:pt x="109" y="263"/>
                  </a:lnTo>
                  <a:lnTo>
                    <a:pt x="108" y="265"/>
                  </a:lnTo>
                  <a:lnTo>
                    <a:pt x="107" y="267"/>
                  </a:lnTo>
                  <a:lnTo>
                    <a:pt x="106" y="269"/>
                  </a:lnTo>
                  <a:lnTo>
                    <a:pt x="105" y="272"/>
                  </a:lnTo>
                  <a:lnTo>
                    <a:pt x="105" y="275"/>
                  </a:lnTo>
                  <a:lnTo>
                    <a:pt x="105" y="278"/>
                  </a:lnTo>
                  <a:lnTo>
                    <a:pt x="99" y="374"/>
                  </a:lnTo>
                  <a:lnTo>
                    <a:pt x="99" y="378"/>
                  </a:lnTo>
                  <a:lnTo>
                    <a:pt x="101" y="380"/>
                  </a:lnTo>
                  <a:lnTo>
                    <a:pt x="103" y="382"/>
                  </a:lnTo>
                  <a:lnTo>
                    <a:pt x="105" y="384"/>
                  </a:lnTo>
                  <a:lnTo>
                    <a:pt x="108" y="385"/>
                  </a:lnTo>
                  <a:lnTo>
                    <a:pt x="112" y="386"/>
                  </a:lnTo>
                  <a:lnTo>
                    <a:pt x="116" y="387"/>
                  </a:lnTo>
                  <a:lnTo>
                    <a:pt x="122" y="387"/>
                  </a:lnTo>
                  <a:lnTo>
                    <a:pt x="124" y="387"/>
                  </a:lnTo>
                  <a:lnTo>
                    <a:pt x="126" y="387"/>
                  </a:lnTo>
                  <a:lnTo>
                    <a:pt x="131" y="386"/>
                  </a:lnTo>
                  <a:lnTo>
                    <a:pt x="138" y="386"/>
                  </a:lnTo>
                  <a:lnTo>
                    <a:pt x="147" y="385"/>
                  </a:lnTo>
                  <a:lnTo>
                    <a:pt x="157" y="384"/>
                  </a:lnTo>
                  <a:lnTo>
                    <a:pt x="168" y="383"/>
                  </a:lnTo>
                  <a:lnTo>
                    <a:pt x="182" y="382"/>
                  </a:lnTo>
                  <a:lnTo>
                    <a:pt x="195" y="381"/>
                  </a:lnTo>
                  <a:lnTo>
                    <a:pt x="208" y="380"/>
                  </a:lnTo>
                  <a:lnTo>
                    <a:pt x="219" y="379"/>
                  </a:lnTo>
                  <a:lnTo>
                    <a:pt x="228" y="378"/>
                  </a:lnTo>
                  <a:lnTo>
                    <a:pt x="235" y="376"/>
                  </a:lnTo>
                  <a:lnTo>
                    <a:pt x="242" y="376"/>
                  </a:lnTo>
                  <a:lnTo>
                    <a:pt x="246" y="376"/>
                  </a:lnTo>
                  <a:lnTo>
                    <a:pt x="251" y="376"/>
                  </a:lnTo>
                  <a:lnTo>
                    <a:pt x="258" y="376"/>
                  </a:lnTo>
                  <a:lnTo>
                    <a:pt x="266" y="378"/>
                  </a:lnTo>
                  <a:lnTo>
                    <a:pt x="274" y="379"/>
                  </a:lnTo>
                  <a:lnTo>
                    <a:pt x="282" y="381"/>
                  </a:lnTo>
                  <a:lnTo>
                    <a:pt x="288" y="383"/>
                  </a:lnTo>
                  <a:lnTo>
                    <a:pt x="296" y="386"/>
                  </a:lnTo>
                  <a:lnTo>
                    <a:pt x="304" y="390"/>
                  </a:lnTo>
                  <a:lnTo>
                    <a:pt x="311" y="394"/>
                  </a:lnTo>
                  <a:lnTo>
                    <a:pt x="318" y="397"/>
                  </a:lnTo>
                  <a:lnTo>
                    <a:pt x="324" y="401"/>
                  </a:lnTo>
                  <a:lnTo>
                    <a:pt x="329" y="405"/>
                  </a:lnTo>
                  <a:lnTo>
                    <a:pt x="332" y="408"/>
                  </a:lnTo>
                  <a:lnTo>
                    <a:pt x="336" y="412"/>
                  </a:lnTo>
                  <a:lnTo>
                    <a:pt x="338" y="415"/>
                  </a:lnTo>
                  <a:lnTo>
                    <a:pt x="339" y="418"/>
                  </a:lnTo>
                  <a:lnTo>
                    <a:pt x="340" y="422"/>
                  </a:lnTo>
                  <a:lnTo>
                    <a:pt x="339" y="426"/>
                  </a:lnTo>
                  <a:lnTo>
                    <a:pt x="338" y="429"/>
                  </a:lnTo>
                  <a:lnTo>
                    <a:pt x="336" y="433"/>
                  </a:lnTo>
                  <a:lnTo>
                    <a:pt x="332" y="435"/>
                  </a:lnTo>
                  <a:lnTo>
                    <a:pt x="328" y="437"/>
                  </a:lnTo>
                  <a:lnTo>
                    <a:pt x="322" y="439"/>
                  </a:lnTo>
                  <a:lnTo>
                    <a:pt x="317" y="440"/>
                  </a:lnTo>
                  <a:lnTo>
                    <a:pt x="309" y="442"/>
                  </a:lnTo>
                  <a:lnTo>
                    <a:pt x="236" y="447"/>
                  </a:lnTo>
                  <a:lnTo>
                    <a:pt x="229" y="447"/>
                  </a:lnTo>
                  <a:lnTo>
                    <a:pt x="221" y="448"/>
                  </a:lnTo>
                  <a:lnTo>
                    <a:pt x="212" y="449"/>
                  </a:lnTo>
                  <a:lnTo>
                    <a:pt x="201" y="450"/>
                  </a:lnTo>
                  <a:lnTo>
                    <a:pt x="191" y="451"/>
                  </a:lnTo>
                  <a:lnTo>
                    <a:pt x="179" y="453"/>
                  </a:lnTo>
                  <a:lnTo>
                    <a:pt x="166" y="454"/>
                  </a:lnTo>
                  <a:lnTo>
                    <a:pt x="152" y="455"/>
                  </a:lnTo>
                  <a:lnTo>
                    <a:pt x="139" y="456"/>
                  </a:lnTo>
                  <a:lnTo>
                    <a:pt x="128" y="457"/>
                  </a:lnTo>
                  <a:lnTo>
                    <a:pt x="117" y="458"/>
                  </a:lnTo>
                  <a:lnTo>
                    <a:pt x="108" y="459"/>
                  </a:lnTo>
                  <a:lnTo>
                    <a:pt x="102" y="459"/>
                  </a:lnTo>
                  <a:lnTo>
                    <a:pt x="95" y="459"/>
                  </a:lnTo>
                  <a:lnTo>
                    <a:pt x="92" y="460"/>
                  </a:lnTo>
                  <a:lnTo>
                    <a:pt x="88" y="460"/>
                  </a:lnTo>
                  <a:lnTo>
                    <a:pt x="82" y="460"/>
                  </a:lnTo>
                  <a:lnTo>
                    <a:pt x="75" y="459"/>
                  </a:lnTo>
                  <a:lnTo>
                    <a:pt x="69" y="458"/>
                  </a:lnTo>
                  <a:lnTo>
                    <a:pt x="62" y="457"/>
                  </a:lnTo>
                  <a:lnTo>
                    <a:pt x="54" y="456"/>
                  </a:lnTo>
                  <a:lnTo>
                    <a:pt x="48" y="455"/>
                  </a:lnTo>
                  <a:lnTo>
                    <a:pt x="40" y="453"/>
                  </a:lnTo>
                  <a:lnTo>
                    <a:pt x="32" y="450"/>
                  </a:lnTo>
                  <a:lnTo>
                    <a:pt x="24" y="447"/>
                  </a:lnTo>
                  <a:lnTo>
                    <a:pt x="18" y="444"/>
                  </a:lnTo>
                  <a:lnTo>
                    <a:pt x="13" y="440"/>
                  </a:lnTo>
                  <a:lnTo>
                    <a:pt x="9" y="437"/>
                  </a:lnTo>
                  <a:lnTo>
                    <a:pt x="4" y="433"/>
                  </a:lnTo>
                  <a:lnTo>
                    <a:pt x="2" y="428"/>
                  </a:lnTo>
                  <a:lnTo>
                    <a:pt x="1" y="423"/>
                  </a:lnTo>
                  <a:lnTo>
                    <a:pt x="0" y="417"/>
                  </a:lnTo>
                  <a:lnTo>
                    <a:pt x="0" y="401"/>
                  </a:lnTo>
                  <a:lnTo>
                    <a:pt x="1" y="384"/>
                  </a:lnTo>
                  <a:lnTo>
                    <a:pt x="1" y="368"/>
                  </a:lnTo>
                  <a:lnTo>
                    <a:pt x="1" y="352"/>
                  </a:lnTo>
                  <a:lnTo>
                    <a:pt x="1" y="336"/>
                  </a:lnTo>
                  <a:lnTo>
                    <a:pt x="2" y="319"/>
                  </a:lnTo>
                  <a:lnTo>
                    <a:pt x="2" y="304"/>
                  </a:lnTo>
                  <a:lnTo>
                    <a:pt x="3" y="288"/>
                  </a:lnTo>
                  <a:lnTo>
                    <a:pt x="3" y="273"/>
                  </a:lnTo>
                  <a:lnTo>
                    <a:pt x="4" y="257"/>
                  </a:lnTo>
                  <a:lnTo>
                    <a:pt x="4" y="243"/>
                  </a:lnTo>
                  <a:lnTo>
                    <a:pt x="6" y="229"/>
                  </a:lnTo>
                  <a:lnTo>
                    <a:pt x="7" y="215"/>
                  </a:lnTo>
                  <a:lnTo>
                    <a:pt x="8" y="202"/>
                  </a:lnTo>
                  <a:lnTo>
                    <a:pt x="9" y="189"/>
                  </a:lnTo>
                  <a:lnTo>
                    <a:pt x="10" y="176"/>
                  </a:lnTo>
                  <a:lnTo>
                    <a:pt x="11" y="163"/>
                  </a:lnTo>
                  <a:lnTo>
                    <a:pt x="12" y="151"/>
                  </a:lnTo>
                  <a:lnTo>
                    <a:pt x="13" y="138"/>
                  </a:lnTo>
                  <a:lnTo>
                    <a:pt x="16" y="126"/>
                  </a:lnTo>
                  <a:lnTo>
                    <a:pt x="17" y="113"/>
                  </a:lnTo>
                  <a:lnTo>
                    <a:pt x="19" y="101"/>
                  </a:lnTo>
                  <a:lnTo>
                    <a:pt x="21" y="87"/>
                  </a:lnTo>
                  <a:lnTo>
                    <a:pt x="23" y="75"/>
                  </a:lnTo>
                  <a:lnTo>
                    <a:pt x="25" y="63"/>
                  </a:lnTo>
                  <a:lnTo>
                    <a:pt x="28" y="52"/>
                  </a:lnTo>
                  <a:lnTo>
                    <a:pt x="30" y="42"/>
                  </a:lnTo>
                  <a:lnTo>
                    <a:pt x="31" y="34"/>
                  </a:lnTo>
                  <a:lnTo>
                    <a:pt x="33" y="28"/>
                  </a:lnTo>
                  <a:lnTo>
                    <a:pt x="35" y="22"/>
                  </a:lnTo>
                  <a:lnTo>
                    <a:pt x="37" y="19"/>
                  </a:lnTo>
                  <a:lnTo>
                    <a:pt x="39" y="16"/>
                  </a:lnTo>
                  <a:lnTo>
                    <a:pt x="40" y="13"/>
                  </a:lnTo>
                  <a:lnTo>
                    <a:pt x="42" y="12"/>
                  </a:lnTo>
                  <a:lnTo>
                    <a:pt x="44" y="11"/>
                  </a:lnTo>
                  <a:lnTo>
                    <a:pt x="46" y="10"/>
                  </a:lnTo>
                  <a:lnTo>
                    <a:pt x="49" y="9"/>
                  </a:lnTo>
                  <a:lnTo>
                    <a:pt x="51" y="9"/>
                  </a:lnTo>
                  <a:lnTo>
                    <a:pt x="54" y="8"/>
                  </a:lnTo>
                  <a:lnTo>
                    <a:pt x="57" y="8"/>
                  </a:lnTo>
                  <a:lnTo>
                    <a:pt x="57" y="8"/>
                  </a:lnTo>
                  <a:lnTo>
                    <a:pt x="59" y="8"/>
                  </a:lnTo>
                  <a:lnTo>
                    <a:pt x="60" y="8"/>
                  </a:lnTo>
                  <a:lnTo>
                    <a:pt x="62" y="8"/>
                  </a:lnTo>
                  <a:lnTo>
                    <a:pt x="63" y="8"/>
                  </a:lnTo>
                  <a:lnTo>
                    <a:pt x="65" y="8"/>
                  </a:lnTo>
                  <a:lnTo>
                    <a:pt x="67" y="8"/>
                  </a:lnTo>
                  <a:lnTo>
                    <a:pt x="70" y="8"/>
                  </a:lnTo>
                  <a:lnTo>
                    <a:pt x="73" y="8"/>
                  </a:lnTo>
                  <a:lnTo>
                    <a:pt x="75" y="8"/>
                  </a:lnTo>
                  <a:lnTo>
                    <a:pt x="78" y="8"/>
                  </a:lnTo>
                  <a:lnTo>
                    <a:pt x="82" y="8"/>
                  </a:lnTo>
                  <a:lnTo>
                    <a:pt x="86" y="8"/>
                  </a:lnTo>
                  <a:lnTo>
                    <a:pt x="90" y="8"/>
                  </a:lnTo>
                  <a:lnTo>
                    <a:pt x="94" y="8"/>
                  </a:lnTo>
                  <a:lnTo>
                    <a:pt x="98" y="8"/>
                  </a:lnTo>
                  <a:lnTo>
                    <a:pt x="102" y="8"/>
                  </a:lnTo>
                  <a:lnTo>
                    <a:pt x="106" y="8"/>
                  </a:lnTo>
                  <a:lnTo>
                    <a:pt x="113" y="8"/>
                  </a:lnTo>
                  <a:lnTo>
                    <a:pt x="120" y="7"/>
                  </a:lnTo>
                  <a:lnTo>
                    <a:pt x="129" y="7"/>
                  </a:lnTo>
                  <a:lnTo>
                    <a:pt x="140" y="6"/>
                  </a:lnTo>
                  <a:lnTo>
                    <a:pt x="152" y="5"/>
                  </a:lnTo>
                  <a:lnTo>
                    <a:pt x="166" y="5"/>
                  </a:lnTo>
                  <a:lnTo>
                    <a:pt x="180" y="3"/>
                  </a:lnTo>
                  <a:lnTo>
                    <a:pt x="192" y="2"/>
                  </a:lnTo>
                  <a:lnTo>
                    <a:pt x="203" y="2"/>
                  </a:lnTo>
                  <a:lnTo>
                    <a:pt x="213" y="1"/>
                  </a:lnTo>
                  <a:lnTo>
                    <a:pt x="222" y="1"/>
                  </a:lnTo>
                  <a:lnTo>
                    <a:pt x="229" y="0"/>
                  </a:lnTo>
                  <a:lnTo>
                    <a:pt x="234" y="0"/>
                  </a:lnTo>
                  <a:lnTo>
                    <a:pt x="239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144960" y="2298600"/>
              <a:ext cx="136440" cy="182160"/>
            </a:xfrm>
            <a:custGeom>
              <a:avLst/>
              <a:gdLst/>
              <a:ahLst/>
              <a:rect l="l" t="t" r="r" b="b"/>
              <a:pathLst>
                <a:path w="346" h="460">
                  <a:moveTo>
                    <a:pt x="238" y="0"/>
                  </a:moveTo>
                  <a:lnTo>
                    <a:pt x="250" y="1"/>
                  </a:lnTo>
                  <a:lnTo>
                    <a:pt x="261" y="1"/>
                  </a:lnTo>
                  <a:lnTo>
                    <a:pt x="272" y="3"/>
                  </a:lnTo>
                  <a:lnTo>
                    <a:pt x="282" y="6"/>
                  </a:lnTo>
                  <a:lnTo>
                    <a:pt x="292" y="8"/>
                  </a:lnTo>
                  <a:lnTo>
                    <a:pt x="301" y="11"/>
                  </a:lnTo>
                  <a:lnTo>
                    <a:pt x="308" y="16"/>
                  </a:lnTo>
                  <a:lnTo>
                    <a:pt x="316" y="20"/>
                  </a:lnTo>
                  <a:lnTo>
                    <a:pt x="323" y="24"/>
                  </a:lnTo>
                  <a:lnTo>
                    <a:pt x="329" y="29"/>
                  </a:lnTo>
                  <a:lnTo>
                    <a:pt x="334" y="33"/>
                  </a:lnTo>
                  <a:lnTo>
                    <a:pt x="338" y="38"/>
                  </a:lnTo>
                  <a:lnTo>
                    <a:pt x="341" y="42"/>
                  </a:lnTo>
                  <a:lnTo>
                    <a:pt x="344" y="45"/>
                  </a:lnTo>
                  <a:lnTo>
                    <a:pt x="345" y="49"/>
                  </a:lnTo>
                  <a:lnTo>
                    <a:pt x="346" y="52"/>
                  </a:lnTo>
                  <a:lnTo>
                    <a:pt x="345" y="55"/>
                  </a:lnTo>
                  <a:lnTo>
                    <a:pt x="343" y="58"/>
                  </a:lnTo>
                  <a:lnTo>
                    <a:pt x="338" y="60"/>
                  </a:lnTo>
                  <a:lnTo>
                    <a:pt x="333" y="63"/>
                  </a:lnTo>
                  <a:lnTo>
                    <a:pt x="325" y="65"/>
                  </a:lnTo>
                  <a:lnTo>
                    <a:pt x="315" y="67"/>
                  </a:lnTo>
                  <a:lnTo>
                    <a:pt x="304" y="70"/>
                  </a:lnTo>
                  <a:lnTo>
                    <a:pt x="292" y="72"/>
                  </a:lnTo>
                  <a:lnTo>
                    <a:pt x="278" y="74"/>
                  </a:lnTo>
                  <a:lnTo>
                    <a:pt x="264" y="75"/>
                  </a:lnTo>
                  <a:lnTo>
                    <a:pt x="249" y="76"/>
                  </a:lnTo>
                  <a:lnTo>
                    <a:pt x="234" y="77"/>
                  </a:lnTo>
                  <a:lnTo>
                    <a:pt x="218" y="78"/>
                  </a:lnTo>
                  <a:lnTo>
                    <a:pt x="201" y="80"/>
                  </a:lnTo>
                  <a:lnTo>
                    <a:pt x="185" y="80"/>
                  </a:lnTo>
                  <a:lnTo>
                    <a:pt x="167" y="80"/>
                  </a:lnTo>
                  <a:lnTo>
                    <a:pt x="146" y="80"/>
                  </a:lnTo>
                  <a:lnTo>
                    <a:pt x="143" y="80"/>
                  </a:lnTo>
                  <a:lnTo>
                    <a:pt x="140" y="80"/>
                  </a:lnTo>
                  <a:lnTo>
                    <a:pt x="138" y="80"/>
                  </a:lnTo>
                  <a:lnTo>
                    <a:pt x="136" y="81"/>
                  </a:lnTo>
                  <a:lnTo>
                    <a:pt x="134" y="81"/>
                  </a:lnTo>
                  <a:lnTo>
                    <a:pt x="132" y="81"/>
                  </a:lnTo>
                  <a:lnTo>
                    <a:pt x="131" y="81"/>
                  </a:lnTo>
                  <a:lnTo>
                    <a:pt x="129" y="82"/>
                  </a:lnTo>
                  <a:lnTo>
                    <a:pt x="128" y="82"/>
                  </a:lnTo>
                  <a:lnTo>
                    <a:pt x="127" y="83"/>
                  </a:lnTo>
                  <a:lnTo>
                    <a:pt x="126" y="83"/>
                  </a:lnTo>
                  <a:lnTo>
                    <a:pt x="126" y="84"/>
                  </a:lnTo>
                  <a:lnTo>
                    <a:pt x="125" y="86"/>
                  </a:lnTo>
                  <a:lnTo>
                    <a:pt x="125" y="87"/>
                  </a:lnTo>
                  <a:lnTo>
                    <a:pt x="125" y="88"/>
                  </a:lnTo>
                  <a:lnTo>
                    <a:pt x="125" y="91"/>
                  </a:lnTo>
                  <a:lnTo>
                    <a:pt x="115" y="181"/>
                  </a:lnTo>
                  <a:lnTo>
                    <a:pt x="115" y="182"/>
                  </a:lnTo>
                  <a:lnTo>
                    <a:pt x="116" y="183"/>
                  </a:lnTo>
                  <a:lnTo>
                    <a:pt x="116" y="184"/>
                  </a:lnTo>
                  <a:lnTo>
                    <a:pt x="117" y="186"/>
                  </a:lnTo>
                  <a:lnTo>
                    <a:pt x="118" y="187"/>
                  </a:lnTo>
                  <a:lnTo>
                    <a:pt x="120" y="187"/>
                  </a:lnTo>
                  <a:lnTo>
                    <a:pt x="122" y="187"/>
                  </a:lnTo>
                  <a:lnTo>
                    <a:pt x="124" y="187"/>
                  </a:lnTo>
                  <a:lnTo>
                    <a:pt x="132" y="187"/>
                  </a:lnTo>
                  <a:lnTo>
                    <a:pt x="139" y="186"/>
                  </a:lnTo>
                  <a:lnTo>
                    <a:pt x="148" y="186"/>
                  </a:lnTo>
                  <a:lnTo>
                    <a:pt x="156" y="184"/>
                  </a:lnTo>
                  <a:lnTo>
                    <a:pt x="165" y="184"/>
                  </a:lnTo>
                  <a:lnTo>
                    <a:pt x="174" y="183"/>
                  </a:lnTo>
                  <a:lnTo>
                    <a:pt x="181" y="183"/>
                  </a:lnTo>
                  <a:lnTo>
                    <a:pt x="190" y="182"/>
                  </a:lnTo>
                  <a:lnTo>
                    <a:pt x="199" y="182"/>
                  </a:lnTo>
                  <a:lnTo>
                    <a:pt x="208" y="182"/>
                  </a:lnTo>
                  <a:lnTo>
                    <a:pt x="216" y="181"/>
                  </a:lnTo>
                  <a:lnTo>
                    <a:pt x="223" y="181"/>
                  </a:lnTo>
                  <a:lnTo>
                    <a:pt x="230" y="181"/>
                  </a:lnTo>
                  <a:lnTo>
                    <a:pt x="237" y="181"/>
                  </a:lnTo>
                  <a:lnTo>
                    <a:pt x="243" y="181"/>
                  </a:lnTo>
                  <a:lnTo>
                    <a:pt x="249" y="181"/>
                  </a:lnTo>
                  <a:lnTo>
                    <a:pt x="258" y="181"/>
                  </a:lnTo>
                  <a:lnTo>
                    <a:pt x="265" y="181"/>
                  </a:lnTo>
                  <a:lnTo>
                    <a:pt x="274" y="182"/>
                  </a:lnTo>
                  <a:lnTo>
                    <a:pt x="282" y="182"/>
                  </a:lnTo>
                  <a:lnTo>
                    <a:pt x="288" y="183"/>
                  </a:lnTo>
                  <a:lnTo>
                    <a:pt x="296" y="184"/>
                  </a:lnTo>
                  <a:lnTo>
                    <a:pt x="303" y="186"/>
                  </a:lnTo>
                  <a:lnTo>
                    <a:pt x="308" y="188"/>
                  </a:lnTo>
                  <a:lnTo>
                    <a:pt x="314" y="190"/>
                  </a:lnTo>
                  <a:lnTo>
                    <a:pt x="319" y="191"/>
                  </a:lnTo>
                  <a:lnTo>
                    <a:pt x="324" y="193"/>
                  </a:lnTo>
                  <a:lnTo>
                    <a:pt x="327" y="194"/>
                  </a:lnTo>
                  <a:lnTo>
                    <a:pt x="330" y="197"/>
                  </a:lnTo>
                  <a:lnTo>
                    <a:pt x="333" y="199"/>
                  </a:lnTo>
                  <a:lnTo>
                    <a:pt x="335" y="200"/>
                  </a:lnTo>
                  <a:lnTo>
                    <a:pt x="336" y="202"/>
                  </a:lnTo>
                  <a:lnTo>
                    <a:pt x="337" y="204"/>
                  </a:lnTo>
                  <a:lnTo>
                    <a:pt x="337" y="206"/>
                  </a:lnTo>
                  <a:lnTo>
                    <a:pt x="338" y="208"/>
                  </a:lnTo>
                  <a:lnTo>
                    <a:pt x="339" y="210"/>
                  </a:lnTo>
                  <a:lnTo>
                    <a:pt x="340" y="212"/>
                  </a:lnTo>
                  <a:lnTo>
                    <a:pt x="340" y="214"/>
                  </a:lnTo>
                  <a:lnTo>
                    <a:pt x="341" y="216"/>
                  </a:lnTo>
                  <a:lnTo>
                    <a:pt x="343" y="219"/>
                  </a:lnTo>
                  <a:lnTo>
                    <a:pt x="343" y="220"/>
                  </a:lnTo>
                  <a:lnTo>
                    <a:pt x="344" y="222"/>
                  </a:lnTo>
                  <a:lnTo>
                    <a:pt x="345" y="224"/>
                  </a:lnTo>
                  <a:lnTo>
                    <a:pt x="345" y="225"/>
                  </a:lnTo>
                  <a:lnTo>
                    <a:pt x="345" y="226"/>
                  </a:lnTo>
                  <a:lnTo>
                    <a:pt x="345" y="227"/>
                  </a:lnTo>
                  <a:lnTo>
                    <a:pt x="346" y="229"/>
                  </a:lnTo>
                  <a:lnTo>
                    <a:pt x="346" y="229"/>
                  </a:lnTo>
                  <a:lnTo>
                    <a:pt x="346" y="231"/>
                  </a:lnTo>
                  <a:lnTo>
                    <a:pt x="345" y="232"/>
                  </a:lnTo>
                  <a:lnTo>
                    <a:pt x="344" y="234"/>
                  </a:lnTo>
                  <a:lnTo>
                    <a:pt x="343" y="235"/>
                  </a:lnTo>
                  <a:lnTo>
                    <a:pt x="341" y="237"/>
                  </a:lnTo>
                  <a:lnTo>
                    <a:pt x="339" y="238"/>
                  </a:lnTo>
                  <a:lnTo>
                    <a:pt x="337" y="240"/>
                  </a:lnTo>
                  <a:lnTo>
                    <a:pt x="335" y="241"/>
                  </a:lnTo>
                  <a:lnTo>
                    <a:pt x="331" y="243"/>
                  </a:lnTo>
                  <a:lnTo>
                    <a:pt x="328" y="243"/>
                  </a:lnTo>
                  <a:lnTo>
                    <a:pt x="325" y="244"/>
                  </a:lnTo>
                  <a:lnTo>
                    <a:pt x="322" y="245"/>
                  </a:lnTo>
                  <a:lnTo>
                    <a:pt x="317" y="245"/>
                  </a:lnTo>
                  <a:lnTo>
                    <a:pt x="313" y="246"/>
                  </a:lnTo>
                  <a:lnTo>
                    <a:pt x="308" y="246"/>
                  </a:lnTo>
                  <a:lnTo>
                    <a:pt x="304" y="246"/>
                  </a:lnTo>
                  <a:lnTo>
                    <a:pt x="294" y="247"/>
                  </a:lnTo>
                  <a:lnTo>
                    <a:pt x="283" y="248"/>
                  </a:lnTo>
                  <a:lnTo>
                    <a:pt x="273" y="250"/>
                  </a:lnTo>
                  <a:lnTo>
                    <a:pt x="262" y="250"/>
                  </a:lnTo>
                  <a:lnTo>
                    <a:pt x="251" y="251"/>
                  </a:lnTo>
                  <a:lnTo>
                    <a:pt x="240" y="252"/>
                  </a:lnTo>
                  <a:lnTo>
                    <a:pt x="229" y="253"/>
                  </a:lnTo>
                  <a:lnTo>
                    <a:pt x="218" y="253"/>
                  </a:lnTo>
                  <a:lnTo>
                    <a:pt x="207" y="254"/>
                  </a:lnTo>
                  <a:lnTo>
                    <a:pt x="196" y="255"/>
                  </a:lnTo>
                  <a:lnTo>
                    <a:pt x="186" y="255"/>
                  </a:lnTo>
                  <a:lnTo>
                    <a:pt x="177" y="255"/>
                  </a:lnTo>
                  <a:lnTo>
                    <a:pt x="167" y="256"/>
                  </a:lnTo>
                  <a:lnTo>
                    <a:pt x="159" y="256"/>
                  </a:lnTo>
                  <a:lnTo>
                    <a:pt x="150" y="256"/>
                  </a:lnTo>
                  <a:lnTo>
                    <a:pt x="143" y="256"/>
                  </a:lnTo>
                  <a:lnTo>
                    <a:pt x="137" y="256"/>
                  </a:lnTo>
                  <a:lnTo>
                    <a:pt x="133" y="256"/>
                  </a:lnTo>
                  <a:lnTo>
                    <a:pt x="128" y="257"/>
                  </a:lnTo>
                  <a:lnTo>
                    <a:pt x="124" y="257"/>
                  </a:lnTo>
                  <a:lnTo>
                    <a:pt x="121" y="258"/>
                  </a:lnTo>
                  <a:lnTo>
                    <a:pt x="117" y="258"/>
                  </a:lnTo>
                  <a:lnTo>
                    <a:pt x="114" y="259"/>
                  </a:lnTo>
                  <a:lnTo>
                    <a:pt x="112" y="261"/>
                  </a:lnTo>
                  <a:lnTo>
                    <a:pt x="111" y="262"/>
                  </a:lnTo>
                  <a:lnTo>
                    <a:pt x="108" y="263"/>
                  </a:lnTo>
                  <a:lnTo>
                    <a:pt x="107" y="265"/>
                  </a:lnTo>
                  <a:lnTo>
                    <a:pt x="106" y="267"/>
                  </a:lnTo>
                  <a:lnTo>
                    <a:pt x="105" y="269"/>
                  </a:lnTo>
                  <a:lnTo>
                    <a:pt x="105" y="272"/>
                  </a:lnTo>
                  <a:lnTo>
                    <a:pt x="104" y="275"/>
                  </a:lnTo>
                  <a:lnTo>
                    <a:pt x="104" y="278"/>
                  </a:lnTo>
                  <a:lnTo>
                    <a:pt x="99" y="374"/>
                  </a:lnTo>
                  <a:lnTo>
                    <a:pt x="99" y="378"/>
                  </a:lnTo>
                  <a:lnTo>
                    <a:pt x="100" y="380"/>
                  </a:lnTo>
                  <a:lnTo>
                    <a:pt x="102" y="382"/>
                  </a:lnTo>
                  <a:lnTo>
                    <a:pt x="104" y="384"/>
                  </a:lnTo>
                  <a:lnTo>
                    <a:pt x="107" y="385"/>
                  </a:lnTo>
                  <a:lnTo>
                    <a:pt x="111" y="386"/>
                  </a:lnTo>
                  <a:lnTo>
                    <a:pt x="115" y="387"/>
                  </a:lnTo>
                  <a:lnTo>
                    <a:pt x="121" y="387"/>
                  </a:lnTo>
                  <a:lnTo>
                    <a:pt x="123" y="387"/>
                  </a:lnTo>
                  <a:lnTo>
                    <a:pt x="126" y="387"/>
                  </a:lnTo>
                  <a:lnTo>
                    <a:pt x="131" y="386"/>
                  </a:lnTo>
                  <a:lnTo>
                    <a:pt x="137" y="386"/>
                  </a:lnTo>
                  <a:lnTo>
                    <a:pt x="146" y="385"/>
                  </a:lnTo>
                  <a:lnTo>
                    <a:pt x="156" y="384"/>
                  </a:lnTo>
                  <a:lnTo>
                    <a:pt x="167" y="383"/>
                  </a:lnTo>
                  <a:lnTo>
                    <a:pt x="181" y="382"/>
                  </a:lnTo>
                  <a:lnTo>
                    <a:pt x="195" y="381"/>
                  </a:lnTo>
                  <a:lnTo>
                    <a:pt x="207" y="380"/>
                  </a:lnTo>
                  <a:lnTo>
                    <a:pt x="218" y="379"/>
                  </a:lnTo>
                  <a:lnTo>
                    <a:pt x="227" y="378"/>
                  </a:lnTo>
                  <a:lnTo>
                    <a:pt x="234" y="376"/>
                  </a:lnTo>
                  <a:lnTo>
                    <a:pt x="241" y="376"/>
                  </a:lnTo>
                  <a:lnTo>
                    <a:pt x="245" y="376"/>
                  </a:lnTo>
                  <a:lnTo>
                    <a:pt x="250" y="376"/>
                  </a:lnTo>
                  <a:lnTo>
                    <a:pt x="258" y="376"/>
                  </a:lnTo>
                  <a:lnTo>
                    <a:pt x="265" y="378"/>
                  </a:lnTo>
                  <a:lnTo>
                    <a:pt x="273" y="379"/>
                  </a:lnTo>
                  <a:lnTo>
                    <a:pt x="281" y="381"/>
                  </a:lnTo>
                  <a:lnTo>
                    <a:pt x="288" y="383"/>
                  </a:lnTo>
                  <a:lnTo>
                    <a:pt x="295" y="386"/>
                  </a:lnTo>
                  <a:lnTo>
                    <a:pt x="303" y="390"/>
                  </a:lnTo>
                  <a:lnTo>
                    <a:pt x="310" y="394"/>
                  </a:lnTo>
                  <a:lnTo>
                    <a:pt x="317" y="397"/>
                  </a:lnTo>
                  <a:lnTo>
                    <a:pt x="323" y="401"/>
                  </a:lnTo>
                  <a:lnTo>
                    <a:pt x="328" y="405"/>
                  </a:lnTo>
                  <a:lnTo>
                    <a:pt x="331" y="408"/>
                  </a:lnTo>
                  <a:lnTo>
                    <a:pt x="335" y="412"/>
                  </a:lnTo>
                  <a:lnTo>
                    <a:pt x="337" y="415"/>
                  </a:lnTo>
                  <a:lnTo>
                    <a:pt x="338" y="418"/>
                  </a:lnTo>
                  <a:lnTo>
                    <a:pt x="339" y="422"/>
                  </a:lnTo>
                  <a:lnTo>
                    <a:pt x="338" y="426"/>
                  </a:lnTo>
                  <a:lnTo>
                    <a:pt x="337" y="429"/>
                  </a:lnTo>
                  <a:lnTo>
                    <a:pt x="335" y="433"/>
                  </a:lnTo>
                  <a:lnTo>
                    <a:pt x="331" y="435"/>
                  </a:lnTo>
                  <a:lnTo>
                    <a:pt x="327" y="437"/>
                  </a:lnTo>
                  <a:lnTo>
                    <a:pt x="322" y="439"/>
                  </a:lnTo>
                  <a:lnTo>
                    <a:pt x="316" y="440"/>
                  </a:lnTo>
                  <a:lnTo>
                    <a:pt x="308" y="442"/>
                  </a:lnTo>
                  <a:lnTo>
                    <a:pt x="235" y="447"/>
                  </a:lnTo>
                  <a:lnTo>
                    <a:pt x="228" y="447"/>
                  </a:lnTo>
                  <a:lnTo>
                    <a:pt x="220" y="448"/>
                  </a:lnTo>
                  <a:lnTo>
                    <a:pt x="211" y="449"/>
                  </a:lnTo>
                  <a:lnTo>
                    <a:pt x="201" y="450"/>
                  </a:lnTo>
                  <a:lnTo>
                    <a:pt x="190" y="451"/>
                  </a:lnTo>
                  <a:lnTo>
                    <a:pt x="178" y="453"/>
                  </a:lnTo>
                  <a:lnTo>
                    <a:pt x="166" y="454"/>
                  </a:lnTo>
                  <a:lnTo>
                    <a:pt x="152" y="455"/>
                  </a:lnTo>
                  <a:lnTo>
                    <a:pt x="138" y="456"/>
                  </a:lnTo>
                  <a:lnTo>
                    <a:pt x="127" y="457"/>
                  </a:lnTo>
                  <a:lnTo>
                    <a:pt x="116" y="458"/>
                  </a:lnTo>
                  <a:lnTo>
                    <a:pt x="107" y="459"/>
                  </a:lnTo>
                  <a:lnTo>
                    <a:pt x="101" y="459"/>
                  </a:lnTo>
                  <a:lnTo>
                    <a:pt x="95" y="459"/>
                  </a:lnTo>
                  <a:lnTo>
                    <a:pt x="91" y="460"/>
                  </a:lnTo>
                  <a:lnTo>
                    <a:pt x="87" y="460"/>
                  </a:lnTo>
                  <a:lnTo>
                    <a:pt x="81" y="460"/>
                  </a:lnTo>
                  <a:lnTo>
                    <a:pt x="74" y="459"/>
                  </a:lnTo>
                  <a:lnTo>
                    <a:pt x="68" y="458"/>
                  </a:lnTo>
                  <a:lnTo>
                    <a:pt x="61" y="457"/>
                  </a:lnTo>
                  <a:lnTo>
                    <a:pt x="53" y="456"/>
                  </a:lnTo>
                  <a:lnTo>
                    <a:pt x="47" y="455"/>
                  </a:lnTo>
                  <a:lnTo>
                    <a:pt x="39" y="453"/>
                  </a:lnTo>
                  <a:lnTo>
                    <a:pt x="31" y="450"/>
                  </a:lnTo>
                  <a:lnTo>
                    <a:pt x="23" y="447"/>
                  </a:lnTo>
                  <a:lnTo>
                    <a:pt x="18" y="444"/>
                  </a:lnTo>
                  <a:lnTo>
                    <a:pt x="12" y="440"/>
                  </a:lnTo>
                  <a:lnTo>
                    <a:pt x="8" y="437"/>
                  </a:lnTo>
                  <a:lnTo>
                    <a:pt x="5" y="433"/>
                  </a:lnTo>
                  <a:lnTo>
                    <a:pt x="1" y="428"/>
                  </a:lnTo>
                  <a:lnTo>
                    <a:pt x="0" y="423"/>
                  </a:lnTo>
                  <a:lnTo>
                    <a:pt x="0" y="417"/>
                  </a:lnTo>
                  <a:lnTo>
                    <a:pt x="0" y="401"/>
                  </a:lnTo>
                  <a:lnTo>
                    <a:pt x="0" y="384"/>
                  </a:lnTo>
                  <a:lnTo>
                    <a:pt x="0" y="368"/>
                  </a:lnTo>
                  <a:lnTo>
                    <a:pt x="0" y="352"/>
                  </a:lnTo>
                  <a:lnTo>
                    <a:pt x="0" y="336"/>
                  </a:lnTo>
                  <a:lnTo>
                    <a:pt x="1" y="319"/>
                  </a:lnTo>
                  <a:lnTo>
                    <a:pt x="1" y="304"/>
                  </a:lnTo>
                  <a:lnTo>
                    <a:pt x="2" y="288"/>
                  </a:lnTo>
                  <a:lnTo>
                    <a:pt x="2" y="273"/>
                  </a:lnTo>
                  <a:lnTo>
                    <a:pt x="4" y="257"/>
                  </a:lnTo>
                  <a:lnTo>
                    <a:pt x="4" y="243"/>
                  </a:lnTo>
                  <a:lnTo>
                    <a:pt x="5" y="229"/>
                  </a:lnTo>
                  <a:lnTo>
                    <a:pt x="6" y="215"/>
                  </a:lnTo>
                  <a:lnTo>
                    <a:pt x="7" y="202"/>
                  </a:lnTo>
                  <a:lnTo>
                    <a:pt x="8" y="189"/>
                  </a:lnTo>
                  <a:lnTo>
                    <a:pt x="9" y="176"/>
                  </a:lnTo>
                  <a:lnTo>
                    <a:pt x="10" y="163"/>
                  </a:lnTo>
                  <a:lnTo>
                    <a:pt x="11" y="151"/>
                  </a:lnTo>
                  <a:lnTo>
                    <a:pt x="14" y="138"/>
                  </a:lnTo>
                  <a:lnTo>
                    <a:pt x="15" y="126"/>
                  </a:lnTo>
                  <a:lnTo>
                    <a:pt x="17" y="113"/>
                  </a:lnTo>
                  <a:lnTo>
                    <a:pt x="18" y="101"/>
                  </a:lnTo>
                  <a:lnTo>
                    <a:pt x="20" y="87"/>
                  </a:lnTo>
                  <a:lnTo>
                    <a:pt x="22" y="75"/>
                  </a:lnTo>
                  <a:lnTo>
                    <a:pt x="25" y="63"/>
                  </a:lnTo>
                  <a:lnTo>
                    <a:pt x="27" y="52"/>
                  </a:lnTo>
                  <a:lnTo>
                    <a:pt x="29" y="42"/>
                  </a:lnTo>
                  <a:lnTo>
                    <a:pt x="30" y="34"/>
                  </a:lnTo>
                  <a:lnTo>
                    <a:pt x="32" y="28"/>
                  </a:lnTo>
                  <a:lnTo>
                    <a:pt x="34" y="22"/>
                  </a:lnTo>
                  <a:lnTo>
                    <a:pt x="36" y="19"/>
                  </a:lnTo>
                  <a:lnTo>
                    <a:pt x="38" y="16"/>
                  </a:lnTo>
                  <a:lnTo>
                    <a:pt x="39" y="13"/>
                  </a:lnTo>
                  <a:lnTo>
                    <a:pt x="41" y="12"/>
                  </a:lnTo>
                  <a:lnTo>
                    <a:pt x="43" y="11"/>
                  </a:lnTo>
                  <a:lnTo>
                    <a:pt x="46" y="10"/>
                  </a:lnTo>
                  <a:lnTo>
                    <a:pt x="48" y="9"/>
                  </a:lnTo>
                  <a:lnTo>
                    <a:pt x="50" y="9"/>
                  </a:lnTo>
                  <a:lnTo>
                    <a:pt x="53" y="8"/>
                  </a:lnTo>
                  <a:lnTo>
                    <a:pt x="57" y="8"/>
                  </a:lnTo>
                  <a:lnTo>
                    <a:pt x="57" y="8"/>
                  </a:lnTo>
                  <a:lnTo>
                    <a:pt x="58" y="8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2" y="8"/>
                  </a:lnTo>
                  <a:lnTo>
                    <a:pt x="64" y="8"/>
                  </a:lnTo>
                  <a:lnTo>
                    <a:pt x="67" y="8"/>
                  </a:lnTo>
                  <a:lnTo>
                    <a:pt x="69" y="8"/>
                  </a:lnTo>
                  <a:lnTo>
                    <a:pt x="72" y="8"/>
                  </a:lnTo>
                  <a:lnTo>
                    <a:pt x="74" y="8"/>
                  </a:lnTo>
                  <a:lnTo>
                    <a:pt x="78" y="8"/>
                  </a:lnTo>
                  <a:lnTo>
                    <a:pt x="81" y="8"/>
                  </a:lnTo>
                  <a:lnTo>
                    <a:pt x="85" y="8"/>
                  </a:lnTo>
                  <a:lnTo>
                    <a:pt x="89" y="8"/>
                  </a:lnTo>
                  <a:lnTo>
                    <a:pt x="93" y="8"/>
                  </a:lnTo>
                  <a:lnTo>
                    <a:pt x="97" y="8"/>
                  </a:lnTo>
                  <a:lnTo>
                    <a:pt x="101" y="8"/>
                  </a:lnTo>
                  <a:lnTo>
                    <a:pt x="105" y="8"/>
                  </a:lnTo>
                  <a:lnTo>
                    <a:pt x="112" y="8"/>
                  </a:lnTo>
                  <a:lnTo>
                    <a:pt x="120" y="7"/>
                  </a:lnTo>
                  <a:lnTo>
                    <a:pt x="128" y="7"/>
                  </a:lnTo>
                  <a:lnTo>
                    <a:pt x="139" y="6"/>
                  </a:lnTo>
                  <a:lnTo>
                    <a:pt x="152" y="5"/>
                  </a:lnTo>
                  <a:lnTo>
                    <a:pt x="165" y="5"/>
                  </a:lnTo>
                  <a:lnTo>
                    <a:pt x="179" y="3"/>
                  </a:lnTo>
                  <a:lnTo>
                    <a:pt x="191" y="2"/>
                  </a:lnTo>
                  <a:lnTo>
                    <a:pt x="202" y="2"/>
                  </a:lnTo>
                  <a:lnTo>
                    <a:pt x="212" y="1"/>
                  </a:lnTo>
                  <a:lnTo>
                    <a:pt x="221" y="1"/>
                  </a:lnTo>
                  <a:lnTo>
                    <a:pt x="228" y="0"/>
                  </a:lnTo>
                  <a:lnTo>
                    <a:pt x="233" y="0"/>
                  </a:lnTo>
                  <a:lnTo>
                    <a:pt x="238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14880" y="2293920"/>
              <a:ext cx="153720" cy="188280"/>
            </a:xfrm>
            <a:custGeom>
              <a:avLst/>
              <a:gdLst/>
              <a:ahLst/>
              <a:rect l="l" t="t" r="r" b="b"/>
              <a:pathLst>
                <a:path w="390" h="477">
                  <a:moveTo>
                    <a:pt x="252" y="423"/>
                  </a:moveTo>
                  <a:lnTo>
                    <a:pt x="243" y="429"/>
                  </a:lnTo>
                  <a:lnTo>
                    <a:pt x="234" y="435"/>
                  </a:lnTo>
                  <a:lnTo>
                    <a:pt x="225" y="439"/>
                  </a:lnTo>
                  <a:lnTo>
                    <a:pt x="216" y="445"/>
                  </a:lnTo>
                  <a:lnTo>
                    <a:pt x="206" y="449"/>
                  </a:lnTo>
                  <a:lnTo>
                    <a:pt x="197" y="454"/>
                  </a:lnTo>
                  <a:lnTo>
                    <a:pt x="187" y="458"/>
                  </a:lnTo>
                  <a:lnTo>
                    <a:pt x="178" y="462"/>
                  </a:lnTo>
                  <a:lnTo>
                    <a:pt x="168" y="466"/>
                  </a:lnTo>
                  <a:lnTo>
                    <a:pt x="159" y="469"/>
                  </a:lnTo>
                  <a:lnTo>
                    <a:pt x="151" y="471"/>
                  </a:lnTo>
                  <a:lnTo>
                    <a:pt x="143" y="474"/>
                  </a:lnTo>
                  <a:lnTo>
                    <a:pt x="135" y="476"/>
                  </a:lnTo>
                  <a:lnTo>
                    <a:pt x="127" y="477"/>
                  </a:lnTo>
                  <a:lnTo>
                    <a:pt x="121" y="477"/>
                  </a:lnTo>
                  <a:lnTo>
                    <a:pt x="114" y="477"/>
                  </a:lnTo>
                  <a:lnTo>
                    <a:pt x="110" y="477"/>
                  </a:lnTo>
                  <a:lnTo>
                    <a:pt x="105" y="477"/>
                  </a:lnTo>
                  <a:lnTo>
                    <a:pt x="99" y="476"/>
                  </a:lnTo>
                  <a:lnTo>
                    <a:pt x="92" y="475"/>
                  </a:lnTo>
                  <a:lnTo>
                    <a:pt x="84" y="474"/>
                  </a:lnTo>
                  <a:lnTo>
                    <a:pt x="77" y="471"/>
                  </a:lnTo>
                  <a:lnTo>
                    <a:pt x="68" y="469"/>
                  </a:lnTo>
                  <a:lnTo>
                    <a:pt x="59" y="466"/>
                  </a:lnTo>
                  <a:lnTo>
                    <a:pt x="49" y="464"/>
                  </a:lnTo>
                  <a:lnTo>
                    <a:pt x="41" y="461"/>
                  </a:lnTo>
                  <a:lnTo>
                    <a:pt x="34" y="458"/>
                  </a:lnTo>
                  <a:lnTo>
                    <a:pt x="27" y="456"/>
                  </a:lnTo>
                  <a:lnTo>
                    <a:pt x="21" y="454"/>
                  </a:lnTo>
                  <a:lnTo>
                    <a:pt x="17" y="451"/>
                  </a:lnTo>
                  <a:lnTo>
                    <a:pt x="13" y="449"/>
                  </a:lnTo>
                  <a:lnTo>
                    <a:pt x="10" y="447"/>
                  </a:lnTo>
                  <a:lnTo>
                    <a:pt x="8" y="445"/>
                  </a:lnTo>
                  <a:lnTo>
                    <a:pt x="6" y="442"/>
                  </a:lnTo>
                  <a:lnTo>
                    <a:pt x="5" y="438"/>
                  </a:lnTo>
                  <a:lnTo>
                    <a:pt x="3" y="434"/>
                  </a:lnTo>
                  <a:lnTo>
                    <a:pt x="3" y="428"/>
                  </a:lnTo>
                  <a:lnTo>
                    <a:pt x="2" y="422"/>
                  </a:lnTo>
                  <a:lnTo>
                    <a:pt x="2" y="415"/>
                  </a:lnTo>
                  <a:lnTo>
                    <a:pt x="0" y="406"/>
                  </a:lnTo>
                  <a:lnTo>
                    <a:pt x="4" y="42"/>
                  </a:lnTo>
                  <a:lnTo>
                    <a:pt x="0" y="28"/>
                  </a:lnTo>
                  <a:lnTo>
                    <a:pt x="2" y="27"/>
                  </a:lnTo>
                  <a:lnTo>
                    <a:pt x="3" y="24"/>
                  </a:lnTo>
                  <a:lnTo>
                    <a:pt x="4" y="22"/>
                  </a:lnTo>
                  <a:lnTo>
                    <a:pt x="6" y="20"/>
                  </a:lnTo>
                  <a:lnTo>
                    <a:pt x="8" y="18"/>
                  </a:lnTo>
                  <a:lnTo>
                    <a:pt x="13" y="16"/>
                  </a:lnTo>
                  <a:lnTo>
                    <a:pt x="16" y="13"/>
                  </a:lnTo>
                  <a:lnTo>
                    <a:pt x="20" y="11"/>
                  </a:lnTo>
                  <a:lnTo>
                    <a:pt x="26" y="8"/>
                  </a:lnTo>
                  <a:lnTo>
                    <a:pt x="31" y="6"/>
                  </a:lnTo>
                  <a:lnTo>
                    <a:pt x="37" y="5"/>
                  </a:lnTo>
                  <a:lnTo>
                    <a:pt x="41" y="2"/>
                  </a:lnTo>
                  <a:lnTo>
                    <a:pt x="47" y="1"/>
                  </a:lnTo>
                  <a:lnTo>
                    <a:pt x="53" y="1"/>
                  </a:lnTo>
                  <a:lnTo>
                    <a:pt x="59" y="0"/>
                  </a:lnTo>
                  <a:lnTo>
                    <a:pt x="64" y="0"/>
                  </a:lnTo>
                  <a:lnTo>
                    <a:pt x="89" y="0"/>
                  </a:lnTo>
                  <a:lnTo>
                    <a:pt x="112" y="1"/>
                  </a:lnTo>
                  <a:lnTo>
                    <a:pt x="134" y="3"/>
                  </a:lnTo>
                  <a:lnTo>
                    <a:pt x="155" y="6"/>
                  </a:lnTo>
                  <a:lnTo>
                    <a:pt x="175" y="9"/>
                  </a:lnTo>
                  <a:lnTo>
                    <a:pt x="194" y="13"/>
                  </a:lnTo>
                  <a:lnTo>
                    <a:pt x="211" y="19"/>
                  </a:lnTo>
                  <a:lnTo>
                    <a:pt x="228" y="24"/>
                  </a:lnTo>
                  <a:lnTo>
                    <a:pt x="243" y="30"/>
                  </a:lnTo>
                  <a:lnTo>
                    <a:pt x="258" y="37"/>
                  </a:lnTo>
                  <a:lnTo>
                    <a:pt x="271" y="43"/>
                  </a:lnTo>
                  <a:lnTo>
                    <a:pt x="283" y="51"/>
                  </a:lnTo>
                  <a:lnTo>
                    <a:pt x="295" y="57"/>
                  </a:lnTo>
                  <a:lnTo>
                    <a:pt x="306" y="65"/>
                  </a:lnTo>
                  <a:lnTo>
                    <a:pt x="316" y="73"/>
                  </a:lnTo>
                  <a:lnTo>
                    <a:pt x="325" y="82"/>
                  </a:lnTo>
                  <a:lnTo>
                    <a:pt x="333" y="89"/>
                  </a:lnTo>
                  <a:lnTo>
                    <a:pt x="340" y="98"/>
                  </a:lnTo>
                  <a:lnTo>
                    <a:pt x="347" y="107"/>
                  </a:lnTo>
                  <a:lnTo>
                    <a:pt x="354" y="115"/>
                  </a:lnTo>
                  <a:lnTo>
                    <a:pt x="360" y="124"/>
                  </a:lnTo>
                  <a:lnTo>
                    <a:pt x="366" y="133"/>
                  </a:lnTo>
                  <a:lnTo>
                    <a:pt x="370" y="141"/>
                  </a:lnTo>
                  <a:lnTo>
                    <a:pt x="375" y="150"/>
                  </a:lnTo>
                  <a:lnTo>
                    <a:pt x="378" y="159"/>
                  </a:lnTo>
                  <a:lnTo>
                    <a:pt x="381" y="168"/>
                  </a:lnTo>
                  <a:lnTo>
                    <a:pt x="384" y="177"/>
                  </a:lnTo>
                  <a:lnTo>
                    <a:pt x="386" y="185"/>
                  </a:lnTo>
                  <a:lnTo>
                    <a:pt x="388" y="193"/>
                  </a:lnTo>
                  <a:lnTo>
                    <a:pt x="389" y="202"/>
                  </a:lnTo>
                  <a:lnTo>
                    <a:pt x="390" y="211"/>
                  </a:lnTo>
                  <a:lnTo>
                    <a:pt x="390" y="220"/>
                  </a:lnTo>
                  <a:lnTo>
                    <a:pt x="389" y="233"/>
                  </a:lnTo>
                  <a:lnTo>
                    <a:pt x="388" y="246"/>
                  </a:lnTo>
                  <a:lnTo>
                    <a:pt x="385" y="259"/>
                  </a:lnTo>
                  <a:lnTo>
                    <a:pt x="381" y="273"/>
                  </a:lnTo>
                  <a:lnTo>
                    <a:pt x="376" y="286"/>
                  </a:lnTo>
                  <a:lnTo>
                    <a:pt x="370" y="299"/>
                  </a:lnTo>
                  <a:lnTo>
                    <a:pt x="363" y="312"/>
                  </a:lnTo>
                  <a:lnTo>
                    <a:pt x="354" y="327"/>
                  </a:lnTo>
                  <a:lnTo>
                    <a:pt x="345" y="340"/>
                  </a:lnTo>
                  <a:lnTo>
                    <a:pt x="334" y="352"/>
                  </a:lnTo>
                  <a:lnTo>
                    <a:pt x="323" y="365"/>
                  </a:lnTo>
                  <a:lnTo>
                    <a:pt x="311" y="378"/>
                  </a:lnTo>
                  <a:lnTo>
                    <a:pt x="297" y="390"/>
                  </a:lnTo>
                  <a:lnTo>
                    <a:pt x="283" y="401"/>
                  </a:lnTo>
                  <a:lnTo>
                    <a:pt x="269" y="412"/>
                  </a:lnTo>
                  <a:lnTo>
                    <a:pt x="252" y="423"/>
                  </a:lnTo>
                  <a:close/>
                  <a:moveTo>
                    <a:pt x="136" y="59"/>
                  </a:moveTo>
                  <a:lnTo>
                    <a:pt x="133" y="59"/>
                  </a:lnTo>
                  <a:lnTo>
                    <a:pt x="131" y="59"/>
                  </a:lnTo>
                  <a:lnTo>
                    <a:pt x="127" y="60"/>
                  </a:lnTo>
                  <a:lnTo>
                    <a:pt x="125" y="60"/>
                  </a:lnTo>
                  <a:lnTo>
                    <a:pt x="123" y="61"/>
                  </a:lnTo>
                  <a:lnTo>
                    <a:pt x="122" y="62"/>
                  </a:lnTo>
                  <a:lnTo>
                    <a:pt x="120" y="63"/>
                  </a:lnTo>
                  <a:lnTo>
                    <a:pt x="119" y="64"/>
                  </a:lnTo>
                  <a:lnTo>
                    <a:pt x="117" y="65"/>
                  </a:lnTo>
                  <a:lnTo>
                    <a:pt x="117" y="67"/>
                  </a:lnTo>
                  <a:lnTo>
                    <a:pt x="116" y="70"/>
                  </a:lnTo>
                  <a:lnTo>
                    <a:pt x="115" y="73"/>
                  </a:lnTo>
                  <a:lnTo>
                    <a:pt x="115" y="76"/>
                  </a:lnTo>
                  <a:lnTo>
                    <a:pt x="115" y="80"/>
                  </a:lnTo>
                  <a:lnTo>
                    <a:pt x="114" y="84"/>
                  </a:lnTo>
                  <a:lnTo>
                    <a:pt x="114" y="88"/>
                  </a:lnTo>
                  <a:lnTo>
                    <a:pt x="114" y="97"/>
                  </a:lnTo>
                  <a:lnTo>
                    <a:pt x="114" y="107"/>
                  </a:lnTo>
                  <a:lnTo>
                    <a:pt x="114" y="116"/>
                  </a:lnTo>
                  <a:lnTo>
                    <a:pt x="113" y="126"/>
                  </a:lnTo>
                  <a:lnTo>
                    <a:pt x="113" y="136"/>
                  </a:lnTo>
                  <a:lnTo>
                    <a:pt x="113" y="146"/>
                  </a:lnTo>
                  <a:lnTo>
                    <a:pt x="113" y="157"/>
                  </a:lnTo>
                  <a:lnTo>
                    <a:pt x="113" y="167"/>
                  </a:lnTo>
                  <a:lnTo>
                    <a:pt x="112" y="178"/>
                  </a:lnTo>
                  <a:lnTo>
                    <a:pt x="112" y="189"/>
                  </a:lnTo>
                  <a:lnTo>
                    <a:pt x="112" y="200"/>
                  </a:lnTo>
                  <a:lnTo>
                    <a:pt x="112" y="212"/>
                  </a:lnTo>
                  <a:lnTo>
                    <a:pt x="112" y="223"/>
                  </a:lnTo>
                  <a:lnTo>
                    <a:pt x="112" y="234"/>
                  </a:lnTo>
                  <a:lnTo>
                    <a:pt x="112" y="246"/>
                  </a:lnTo>
                  <a:lnTo>
                    <a:pt x="112" y="258"/>
                  </a:lnTo>
                  <a:lnTo>
                    <a:pt x="112" y="265"/>
                  </a:lnTo>
                  <a:lnTo>
                    <a:pt x="112" y="273"/>
                  </a:lnTo>
                  <a:lnTo>
                    <a:pt x="112" y="280"/>
                  </a:lnTo>
                  <a:lnTo>
                    <a:pt x="112" y="287"/>
                  </a:lnTo>
                  <a:lnTo>
                    <a:pt x="112" y="295"/>
                  </a:lnTo>
                  <a:lnTo>
                    <a:pt x="112" y="301"/>
                  </a:lnTo>
                  <a:lnTo>
                    <a:pt x="112" y="308"/>
                  </a:lnTo>
                  <a:lnTo>
                    <a:pt x="112" y="315"/>
                  </a:lnTo>
                  <a:lnTo>
                    <a:pt x="112" y="321"/>
                  </a:lnTo>
                  <a:lnTo>
                    <a:pt x="113" y="327"/>
                  </a:lnTo>
                  <a:lnTo>
                    <a:pt x="113" y="332"/>
                  </a:lnTo>
                  <a:lnTo>
                    <a:pt x="113" y="337"/>
                  </a:lnTo>
                  <a:lnTo>
                    <a:pt x="113" y="341"/>
                  </a:lnTo>
                  <a:lnTo>
                    <a:pt x="114" y="346"/>
                  </a:lnTo>
                  <a:lnTo>
                    <a:pt x="114" y="349"/>
                  </a:lnTo>
                  <a:lnTo>
                    <a:pt x="114" y="352"/>
                  </a:lnTo>
                  <a:lnTo>
                    <a:pt x="114" y="353"/>
                  </a:lnTo>
                  <a:lnTo>
                    <a:pt x="114" y="354"/>
                  </a:lnTo>
                  <a:lnTo>
                    <a:pt x="114" y="355"/>
                  </a:lnTo>
                  <a:lnTo>
                    <a:pt x="114" y="357"/>
                  </a:lnTo>
                  <a:lnTo>
                    <a:pt x="114" y="358"/>
                  </a:lnTo>
                  <a:lnTo>
                    <a:pt x="114" y="358"/>
                  </a:lnTo>
                  <a:lnTo>
                    <a:pt x="114" y="359"/>
                  </a:lnTo>
                  <a:lnTo>
                    <a:pt x="114" y="360"/>
                  </a:lnTo>
                  <a:lnTo>
                    <a:pt x="114" y="364"/>
                  </a:lnTo>
                  <a:lnTo>
                    <a:pt x="114" y="369"/>
                  </a:lnTo>
                  <a:lnTo>
                    <a:pt x="115" y="372"/>
                  </a:lnTo>
                  <a:lnTo>
                    <a:pt x="115" y="376"/>
                  </a:lnTo>
                  <a:lnTo>
                    <a:pt x="115" y="380"/>
                  </a:lnTo>
                  <a:lnTo>
                    <a:pt x="115" y="383"/>
                  </a:lnTo>
                  <a:lnTo>
                    <a:pt x="116" y="386"/>
                  </a:lnTo>
                  <a:lnTo>
                    <a:pt x="116" y="389"/>
                  </a:lnTo>
                  <a:lnTo>
                    <a:pt x="117" y="391"/>
                  </a:lnTo>
                  <a:lnTo>
                    <a:pt x="117" y="393"/>
                  </a:lnTo>
                  <a:lnTo>
                    <a:pt x="119" y="395"/>
                  </a:lnTo>
                  <a:lnTo>
                    <a:pt x="120" y="396"/>
                  </a:lnTo>
                  <a:lnTo>
                    <a:pt x="121" y="397"/>
                  </a:lnTo>
                  <a:lnTo>
                    <a:pt x="122" y="398"/>
                  </a:lnTo>
                  <a:lnTo>
                    <a:pt x="123" y="398"/>
                  </a:lnTo>
                  <a:lnTo>
                    <a:pt x="125" y="400"/>
                  </a:lnTo>
                  <a:lnTo>
                    <a:pt x="126" y="398"/>
                  </a:lnTo>
                  <a:lnTo>
                    <a:pt x="128" y="398"/>
                  </a:lnTo>
                  <a:lnTo>
                    <a:pt x="131" y="397"/>
                  </a:lnTo>
                  <a:lnTo>
                    <a:pt x="133" y="396"/>
                  </a:lnTo>
                  <a:lnTo>
                    <a:pt x="136" y="394"/>
                  </a:lnTo>
                  <a:lnTo>
                    <a:pt x="140" y="392"/>
                  </a:lnTo>
                  <a:lnTo>
                    <a:pt x="144" y="389"/>
                  </a:lnTo>
                  <a:lnTo>
                    <a:pt x="148" y="386"/>
                  </a:lnTo>
                  <a:lnTo>
                    <a:pt x="153" y="382"/>
                  </a:lnTo>
                  <a:lnTo>
                    <a:pt x="157" y="379"/>
                  </a:lnTo>
                  <a:lnTo>
                    <a:pt x="163" y="374"/>
                  </a:lnTo>
                  <a:lnTo>
                    <a:pt x="168" y="370"/>
                  </a:lnTo>
                  <a:lnTo>
                    <a:pt x="174" y="364"/>
                  </a:lnTo>
                  <a:lnTo>
                    <a:pt x="179" y="359"/>
                  </a:lnTo>
                  <a:lnTo>
                    <a:pt x="186" y="352"/>
                  </a:lnTo>
                  <a:lnTo>
                    <a:pt x="193" y="346"/>
                  </a:lnTo>
                  <a:lnTo>
                    <a:pt x="199" y="339"/>
                  </a:lnTo>
                  <a:lnTo>
                    <a:pt x="206" y="332"/>
                  </a:lnTo>
                  <a:lnTo>
                    <a:pt x="211" y="326"/>
                  </a:lnTo>
                  <a:lnTo>
                    <a:pt x="218" y="318"/>
                  </a:lnTo>
                  <a:lnTo>
                    <a:pt x="223" y="310"/>
                  </a:lnTo>
                  <a:lnTo>
                    <a:pt x="229" y="304"/>
                  </a:lnTo>
                  <a:lnTo>
                    <a:pt x="234" y="296"/>
                  </a:lnTo>
                  <a:lnTo>
                    <a:pt x="240" y="288"/>
                  </a:lnTo>
                  <a:lnTo>
                    <a:pt x="246" y="279"/>
                  </a:lnTo>
                  <a:lnTo>
                    <a:pt x="250" y="272"/>
                  </a:lnTo>
                  <a:lnTo>
                    <a:pt x="253" y="262"/>
                  </a:lnTo>
                  <a:lnTo>
                    <a:pt x="257" y="252"/>
                  </a:lnTo>
                  <a:lnTo>
                    <a:pt x="259" y="242"/>
                  </a:lnTo>
                  <a:lnTo>
                    <a:pt x="260" y="231"/>
                  </a:lnTo>
                  <a:lnTo>
                    <a:pt x="261" y="220"/>
                  </a:lnTo>
                  <a:lnTo>
                    <a:pt x="262" y="208"/>
                  </a:lnTo>
                  <a:lnTo>
                    <a:pt x="261" y="195"/>
                  </a:lnTo>
                  <a:lnTo>
                    <a:pt x="260" y="183"/>
                  </a:lnTo>
                  <a:lnTo>
                    <a:pt x="257" y="171"/>
                  </a:lnTo>
                  <a:lnTo>
                    <a:pt x="253" y="159"/>
                  </a:lnTo>
                  <a:lnTo>
                    <a:pt x="249" y="147"/>
                  </a:lnTo>
                  <a:lnTo>
                    <a:pt x="243" y="135"/>
                  </a:lnTo>
                  <a:lnTo>
                    <a:pt x="237" y="123"/>
                  </a:lnTo>
                  <a:lnTo>
                    <a:pt x="229" y="109"/>
                  </a:lnTo>
                  <a:lnTo>
                    <a:pt x="221" y="97"/>
                  </a:lnTo>
                  <a:lnTo>
                    <a:pt x="211" y="87"/>
                  </a:lnTo>
                  <a:lnTo>
                    <a:pt x="201" y="78"/>
                  </a:lnTo>
                  <a:lnTo>
                    <a:pt x="190" y="72"/>
                  </a:lnTo>
                  <a:lnTo>
                    <a:pt x="178" y="66"/>
                  </a:lnTo>
                  <a:lnTo>
                    <a:pt x="165" y="62"/>
                  </a:lnTo>
                  <a:lnTo>
                    <a:pt x="152" y="60"/>
                  </a:lnTo>
                  <a:lnTo>
                    <a:pt x="136" y="5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498840" y="2301840"/>
              <a:ext cx="149400" cy="183600"/>
            </a:xfrm>
            <a:custGeom>
              <a:avLst/>
              <a:gdLst/>
              <a:ahLst/>
              <a:rect l="l" t="t" r="r" b="b"/>
              <a:pathLst>
                <a:path w="378" h="463">
                  <a:moveTo>
                    <a:pt x="156" y="456"/>
                  </a:moveTo>
                  <a:lnTo>
                    <a:pt x="118" y="444"/>
                  </a:lnTo>
                  <a:lnTo>
                    <a:pt x="109" y="440"/>
                  </a:lnTo>
                  <a:lnTo>
                    <a:pt x="101" y="438"/>
                  </a:lnTo>
                  <a:lnTo>
                    <a:pt x="94" y="436"/>
                  </a:lnTo>
                  <a:lnTo>
                    <a:pt x="87" y="434"/>
                  </a:lnTo>
                  <a:lnTo>
                    <a:pt x="82" y="431"/>
                  </a:lnTo>
                  <a:lnTo>
                    <a:pt x="76" y="429"/>
                  </a:lnTo>
                  <a:lnTo>
                    <a:pt x="72" y="428"/>
                  </a:lnTo>
                  <a:lnTo>
                    <a:pt x="69" y="427"/>
                  </a:lnTo>
                  <a:lnTo>
                    <a:pt x="66" y="426"/>
                  </a:lnTo>
                  <a:lnTo>
                    <a:pt x="63" y="425"/>
                  </a:lnTo>
                  <a:lnTo>
                    <a:pt x="60" y="423"/>
                  </a:lnTo>
                  <a:lnTo>
                    <a:pt x="56" y="420"/>
                  </a:lnTo>
                  <a:lnTo>
                    <a:pt x="52" y="418"/>
                  </a:lnTo>
                  <a:lnTo>
                    <a:pt x="49" y="416"/>
                  </a:lnTo>
                  <a:lnTo>
                    <a:pt x="44" y="413"/>
                  </a:lnTo>
                  <a:lnTo>
                    <a:pt x="41" y="409"/>
                  </a:lnTo>
                  <a:lnTo>
                    <a:pt x="37" y="406"/>
                  </a:lnTo>
                  <a:lnTo>
                    <a:pt x="32" y="402"/>
                  </a:lnTo>
                  <a:lnTo>
                    <a:pt x="29" y="396"/>
                  </a:lnTo>
                  <a:lnTo>
                    <a:pt x="25" y="391"/>
                  </a:lnTo>
                  <a:lnTo>
                    <a:pt x="22" y="384"/>
                  </a:lnTo>
                  <a:lnTo>
                    <a:pt x="18" y="377"/>
                  </a:lnTo>
                  <a:lnTo>
                    <a:pt x="16" y="370"/>
                  </a:lnTo>
                  <a:lnTo>
                    <a:pt x="12" y="361"/>
                  </a:lnTo>
                  <a:lnTo>
                    <a:pt x="9" y="351"/>
                  </a:lnTo>
                  <a:lnTo>
                    <a:pt x="7" y="342"/>
                  </a:lnTo>
                  <a:lnTo>
                    <a:pt x="5" y="331"/>
                  </a:lnTo>
                  <a:lnTo>
                    <a:pt x="3" y="320"/>
                  </a:lnTo>
                  <a:lnTo>
                    <a:pt x="1" y="309"/>
                  </a:lnTo>
                  <a:lnTo>
                    <a:pt x="1" y="297"/>
                  </a:lnTo>
                  <a:lnTo>
                    <a:pt x="0" y="284"/>
                  </a:lnTo>
                  <a:lnTo>
                    <a:pt x="0" y="270"/>
                  </a:lnTo>
                  <a:lnTo>
                    <a:pt x="0" y="260"/>
                  </a:lnTo>
                  <a:lnTo>
                    <a:pt x="0" y="249"/>
                  </a:lnTo>
                  <a:lnTo>
                    <a:pt x="1" y="236"/>
                  </a:lnTo>
                  <a:lnTo>
                    <a:pt x="2" y="222"/>
                  </a:lnTo>
                  <a:lnTo>
                    <a:pt x="3" y="206"/>
                  </a:lnTo>
                  <a:lnTo>
                    <a:pt x="5" y="189"/>
                  </a:lnTo>
                  <a:lnTo>
                    <a:pt x="6" y="170"/>
                  </a:lnTo>
                  <a:lnTo>
                    <a:pt x="8" y="150"/>
                  </a:lnTo>
                  <a:lnTo>
                    <a:pt x="10" y="130"/>
                  </a:lnTo>
                  <a:lnTo>
                    <a:pt x="11" y="113"/>
                  </a:lnTo>
                  <a:lnTo>
                    <a:pt x="13" y="97"/>
                  </a:lnTo>
                  <a:lnTo>
                    <a:pt x="14" y="84"/>
                  </a:lnTo>
                  <a:lnTo>
                    <a:pt x="16" y="74"/>
                  </a:lnTo>
                  <a:lnTo>
                    <a:pt x="17" y="65"/>
                  </a:lnTo>
                  <a:lnTo>
                    <a:pt x="18" y="60"/>
                  </a:lnTo>
                  <a:lnTo>
                    <a:pt x="19" y="55"/>
                  </a:lnTo>
                  <a:lnTo>
                    <a:pt x="19" y="49"/>
                  </a:lnTo>
                  <a:lnTo>
                    <a:pt x="19" y="41"/>
                  </a:lnTo>
                  <a:lnTo>
                    <a:pt x="20" y="35"/>
                  </a:lnTo>
                  <a:lnTo>
                    <a:pt x="20" y="30"/>
                  </a:lnTo>
                  <a:lnTo>
                    <a:pt x="21" y="25"/>
                  </a:lnTo>
                  <a:lnTo>
                    <a:pt x="23" y="21"/>
                  </a:lnTo>
                  <a:lnTo>
                    <a:pt x="24" y="18"/>
                  </a:lnTo>
                  <a:lnTo>
                    <a:pt x="27" y="15"/>
                  </a:lnTo>
                  <a:lnTo>
                    <a:pt x="29" y="14"/>
                  </a:lnTo>
                  <a:lnTo>
                    <a:pt x="31" y="12"/>
                  </a:lnTo>
                  <a:lnTo>
                    <a:pt x="33" y="11"/>
                  </a:lnTo>
                  <a:lnTo>
                    <a:pt x="35" y="10"/>
                  </a:lnTo>
                  <a:lnTo>
                    <a:pt x="39" y="9"/>
                  </a:lnTo>
                  <a:lnTo>
                    <a:pt x="42" y="9"/>
                  </a:lnTo>
                  <a:lnTo>
                    <a:pt x="45" y="8"/>
                  </a:lnTo>
                  <a:lnTo>
                    <a:pt x="49" y="8"/>
                  </a:lnTo>
                  <a:lnTo>
                    <a:pt x="56" y="8"/>
                  </a:lnTo>
                  <a:lnTo>
                    <a:pt x="64" y="9"/>
                  </a:lnTo>
                  <a:lnTo>
                    <a:pt x="72" y="9"/>
                  </a:lnTo>
                  <a:lnTo>
                    <a:pt x="80" y="10"/>
                  </a:lnTo>
                  <a:lnTo>
                    <a:pt x="86" y="11"/>
                  </a:lnTo>
                  <a:lnTo>
                    <a:pt x="93" y="12"/>
                  </a:lnTo>
                  <a:lnTo>
                    <a:pt x="99" y="14"/>
                  </a:lnTo>
                  <a:lnTo>
                    <a:pt x="105" y="17"/>
                  </a:lnTo>
                  <a:lnTo>
                    <a:pt x="110" y="18"/>
                  </a:lnTo>
                  <a:lnTo>
                    <a:pt x="116" y="21"/>
                  </a:lnTo>
                  <a:lnTo>
                    <a:pt x="120" y="23"/>
                  </a:lnTo>
                  <a:lnTo>
                    <a:pt x="124" y="25"/>
                  </a:lnTo>
                  <a:lnTo>
                    <a:pt x="126" y="29"/>
                  </a:lnTo>
                  <a:lnTo>
                    <a:pt x="128" y="32"/>
                  </a:lnTo>
                  <a:lnTo>
                    <a:pt x="129" y="35"/>
                  </a:lnTo>
                  <a:lnTo>
                    <a:pt x="129" y="39"/>
                  </a:lnTo>
                  <a:lnTo>
                    <a:pt x="129" y="42"/>
                  </a:lnTo>
                  <a:lnTo>
                    <a:pt x="129" y="47"/>
                  </a:lnTo>
                  <a:lnTo>
                    <a:pt x="128" y="54"/>
                  </a:lnTo>
                  <a:lnTo>
                    <a:pt x="127" y="65"/>
                  </a:lnTo>
                  <a:lnTo>
                    <a:pt x="126" y="77"/>
                  </a:lnTo>
                  <a:lnTo>
                    <a:pt x="125" y="92"/>
                  </a:lnTo>
                  <a:lnTo>
                    <a:pt x="123" y="109"/>
                  </a:lnTo>
                  <a:lnTo>
                    <a:pt x="120" y="128"/>
                  </a:lnTo>
                  <a:lnTo>
                    <a:pt x="118" y="148"/>
                  </a:lnTo>
                  <a:lnTo>
                    <a:pt x="117" y="165"/>
                  </a:lnTo>
                  <a:lnTo>
                    <a:pt x="115" y="180"/>
                  </a:lnTo>
                  <a:lnTo>
                    <a:pt x="114" y="192"/>
                  </a:lnTo>
                  <a:lnTo>
                    <a:pt x="113" y="202"/>
                  </a:lnTo>
                  <a:lnTo>
                    <a:pt x="113" y="210"/>
                  </a:lnTo>
                  <a:lnTo>
                    <a:pt x="112" y="214"/>
                  </a:lnTo>
                  <a:lnTo>
                    <a:pt x="112" y="217"/>
                  </a:lnTo>
                  <a:lnTo>
                    <a:pt x="112" y="217"/>
                  </a:lnTo>
                  <a:lnTo>
                    <a:pt x="112" y="218"/>
                  </a:lnTo>
                  <a:lnTo>
                    <a:pt x="112" y="221"/>
                  </a:lnTo>
                  <a:lnTo>
                    <a:pt x="112" y="223"/>
                  </a:lnTo>
                  <a:lnTo>
                    <a:pt x="112" y="226"/>
                  </a:lnTo>
                  <a:lnTo>
                    <a:pt x="112" y="229"/>
                  </a:lnTo>
                  <a:lnTo>
                    <a:pt x="112" y="234"/>
                  </a:lnTo>
                  <a:lnTo>
                    <a:pt x="112" y="238"/>
                  </a:lnTo>
                  <a:lnTo>
                    <a:pt x="112" y="244"/>
                  </a:lnTo>
                  <a:lnTo>
                    <a:pt x="112" y="248"/>
                  </a:lnTo>
                  <a:lnTo>
                    <a:pt x="112" y="253"/>
                  </a:lnTo>
                  <a:lnTo>
                    <a:pt x="112" y="257"/>
                  </a:lnTo>
                  <a:lnTo>
                    <a:pt x="112" y="262"/>
                  </a:lnTo>
                  <a:lnTo>
                    <a:pt x="112" y="266"/>
                  </a:lnTo>
                  <a:lnTo>
                    <a:pt x="112" y="270"/>
                  </a:lnTo>
                  <a:lnTo>
                    <a:pt x="112" y="275"/>
                  </a:lnTo>
                  <a:lnTo>
                    <a:pt x="112" y="290"/>
                  </a:lnTo>
                  <a:lnTo>
                    <a:pt x="113" y="305"/>
                  </a:lnTo>
                  <a:lnTo>
                    <a:pt x="114" y="318"/>
                  </a:lnTo>
                  <a:lnTo>
                    <a:pt x="115" y="330"/>
                  </a:lnTo>
                  <a:lnTo>
                    <a:pt x="116" y="341"/>
                  </a:lnTo>
                  <a:lnTo>
                    <a:pt x="118" y="350"/>
                  </a:lnTo>
                  <a:lnTo>
                    <a:pt x="120" y="358"/>
                  </a:lnTo>
                  <a:lnTo>
                    <a:pt x="123" y="364"/>
                  </a:lnTo>
                  <a:lnTo>
                    <a:pt x="126" y="371"/>
                  </a:lnTo>
                  <a:lnTo>
                    <a:pt x="129" y="375"/>
                  </a:lnTo>
                  <a:lnTo>
                    <a:pt x="133" y="380"/>
                  </a:lnTo>
                  <a:lnTo>
                    <a:pt x="136" y="383"/>
                  </a:lnTo>
                  <a:lnTo>
                    <a:pt x="140" y="386"/>
                  </a:lnTo>
                  <a:lnTo>
                    <a:pt x="145" y="387"/>
                  </a:lnTo>
                  <a:lnTo>
                    <a:pt x="149" y="388"/>
                  </a:lnTo>
                  <a:lnTo>
                    <a:pt x="155" y="390"/>
                  </a:lnTo>
                  <a:lnTo>
                    <a:pt x="169" y="388"/>
                  </a:lnTo>
                  <a:lnTo>
                    <a:pt x="182" y="386"/>
                  </a:lnTo>
                  <a:lnTo>
                    <a:pt x="194" y="382"/>
                  </a:lnTo>
                  <a:lnTo>
                    <a:pt x="204" y="376"/>
                  </a:lnTo>
                  <a:lnTo>
                    <a:pt x="214" y="369"/>
                  </a:lnTo>
                  <a:lnTo>
                    <a:pt x="222" y="360"/>
                  </a:lnTo>
                  <a:lnTo>
                    <a:pt x="229" y="349"/>
                  </a:lnTo>
                  <a:lnTo>
                    <a:pt x="234" y="337"/>
                  </a:lnTo>
                  <a:lnTo>
                    <a:pt x="239" y="322"/>
                  </a:lnTo>
                  <a:lnTo>
                    <a:pt x="242" y="308"/>
                  </a:lnTo>
                  <a:lnTo>
                    <a:pt x="245" y="292"/>
                  </a:lnTo>
                  <a:lnTo>
                    <a:pt x="247" y="275"/>
                  </a:lnTo>
                  <a:lnTo>
                    <a:pt x="250" y="257"/>
                  </a:lnTo>
                  <a:lnTo>
                    <a:pt x="251" y="238"/>
                  </a:lnTo>
                  <a:lnTo>
                    <a:pt x="252" y="218"/>
                  </a:lnTo>
                  <a:lnTo>
                    <a:pt x="253" y="199"/>
                  </a:lnTo>
                  <a:lnTo>
                    <a:pt x="253" y="148"/>
                  </a:lnTo>
                  <a:lnTo>
                    <a:pt x="253" y="42"/>
                  </a:lnTo>
                  <a:lnTo>
                    <a:pt x="253" y="36"/>
                  </a:lnTo>
                  <a:lnTo>
                    <a:pt x="253" y="31"/>
                  </a:lnTo>
                  <a:lnTo>
                    <a:pt x="253" y="25"/>
                  </a:lnTo>
                  <a:lnTo>
                    <a:pt x="254" y="21"/>
                  </a:lnTo>
                  <a:lnTo>
                    <a:pt x="254" y="18"/>
                  </a:lnTo>
                  <a:lnTo>
                    <a:pt x="255" y="14"/>
                  </a:lnTo>
                  <a:lnTo>
                    <a:pt x="256" y="11"/>
                  </a:lnTo>
                  <a:lnTo>
                    <a:pt x="258" y="9"/>
                  </a:lnTo>
                  <a:lnTo>
                    <a:pt x="260" y="7"/>
                  </a:lnTo>
                  <a:lnTo>
                    <a:pt x="262" y="4"/>
                  </a:lnTo>
                  <a:lnTo>
                    <a:pt x="266" y="3"/>
                  </a:lnTo>
                  <a:lnTo>
                    <a:pt x="269" y="2"/>
                  </a:lnTo>
                  <a:lnTo>
                    <a:pt x="275" y="1"/>
                  </a:lnTo>
                  <a:lnTo>
                    <a:pt x="281" y="0"/>
                  </a:lnTo>
                  <a:lnTo>
                    <a:pt x="287" y="0"/>
                  </a:lnTo>
                  <a:lnTo>
                    <a:pt x="295" y="0"/>
                  </a:lnTo>
                  <a:lnTo>
                    <a:pt x="301" y="0"/>
                  </a:lnTo>
                  <a:lnTo>
                    <a:pt x="309" y="0"/>
                  </a:lnTo>
                  <a:lnTo>
                    <a:pt x="316" y="0"/>
                  </a:lnTo>
                  <a:lnTo>
                    <a:pt x="322" y="1"/>
                  </a:lnTo>
                  <a:lnTo>
                    <a:pt x="329" y="2"/>
                  </a:lnTo>
                  <a:lnTo>
                    <a:pt x="335" y="3"/>
                  </a:lnTo>
                  <a:lnTo>
                    <a:pt x="341" y="4"/>
                  </a:lnTo>
                  <a:lnTo>
                    <a:pt x="347" y="5"/>
                  </a:lnTo>
                  <a:lnTo>
                    <a:pt x="351" y="8"/>
                  </a:lnTo>
                  <a:lnTo>
                    <a:pt x="356" y="9"/>
                  </a:lnTo>
                  <a:lnTo>
                    <a:pt x="360" y="10"/>
                  </a:lnTo>
                  <a:lnTo>
                    <a:pt x="363" y="12"/>
                  </a:lnTo>
                  <a:lnTo>
                    <a:pt x="367" y="13"/>
                  </a:lnTo>
                  <a:lnTo>
                    <a:pt x="369" y="14"/>
                  </a:lnTo>
                  <a:lnTo>
                    <a:pt x="371" y="15"/>
                  </a:lnTo>
                  <a:lnTo>
                    <a:pt x="372" y="17"/>
                  </a:lnTo>
                  <a:lnTo>
                    <a:pt x="373" y="17"/>
                  </a:lnTo>
                  <a:lnTo>
                    <a:pt x="374" y="19"/>
                  </a:lnTo>
                  <a:lnTo>
                    <a:pt x="375" y="20"/>
                  </a:lnTo>
                  <a:lnTo>
                    <a:pt x="377" y="21"/>
                  </a:lnTo>
                  <a:lnTo>
                    <a:pt x="377" y="23"/>
                  </a:lnTo>
                  <a:lnTo>
                    <a:pt x="377" y="25"/>
                  </a:lnTo>
                  <a:lnTo>
                    <a:pt x="377" y="26"/>
                  </a:lnTo>
                  <a:lnTo>
                    <a:pt x="378" y="30"/>
                  </a:lnTo>
                  <a:lnTo>
                    <a:pt x="373" y="129"/>
                  </a:lnTo>
                  <a:lnTo>
                    <a:pt x="373" y="248"/>
                  </a:lnTo>
                  <a:lnTo>
                    <a:pt x="373" y="271"/>
                  </a:lnTo>
                  <a:lnTo>
                    <a:pt x="371" y="294"/>
                  </a:lnTo>
                  <a:lnTo>
                    <a:pt x="368" y="314"/>
                  </a:lnTo>
                  <a:lnTo>
                    <a:pt x="363" y="334"/>
                  </a:lnTo>
                  <a:lnTo>
                    <a:pt x="358" y="353"/>
                  </a:lnTo>
                  <a:lnTo>
                    <a:pt x="351" y="371"/>
                  </a:lnTo>
                  <a:lnTo>
                    <a:pt x="343" y="387"/>
                  </a:lnTo>
                  <a:lnTo>
                    <a:pt x="335" y="403"/>
                  </a:lnTo>
                  <a:lnTo>
                    <a:pt x="329" y="410"/>
                  </a:lnTo>
                  <a:lnTo>
                    <a:pt x="324" y="417"/>
                  </a:lnTo>
                  <a:lnTo>
                    <a:pt x="318" y="424"/>
                  </a:lnTo>
                  <a:lnTo>
                    <a:pt x="311" y="429"/>
                  </a:lnTo>
                  <a:lnTo>
                    <a:pt x="305" y="435"/>
                  </a:lnTo>
                  <a:lnTo>
                    <a:pt x="298" y="440"/>
                  </a:lnTo>
                  <a:lnTo>
                    <a:pt x="292" y="445"/>
                  </a:lnTo>
                  <a:lnTo>
                    <a:pt x="284" y="448"/>
                  </a:lnTo>
                  <a:lnTo>
                    <a:pt x="275" y="452"/>
                  </a:lnTo>
                  <a:lnTo>
                    <a:pt x="267" y="455"/>
                  </a:lnTo>
                  <a:lnTo>
                    <a:pt x="258" y="458"/>
                  </a:lnTo>
                  <a:lnTo>
                    <a:pt x="250" y="460"/>
                  </a:lnTo>
                  <a:lnTo>
                    <a:pt x="231" y="462"/>
                  </a:lnTo>
                  <a:lnTo>
                    <a:pt x="210" y="463"/>
                  </a:lnTo>
                  <a:lnTo>
                    <a:pt x="208" y="463"/>
                  </a:lnTo>
                  <a:lnTo>
                    <a:pt x="205" y="463"/>
                  </a:lnTo>
                  <a:lnTo>
                    <a:pt x="202" y="463"/>
                  </a:lnTo>
                  <a:lnTo>
                    <a:pt x="199" y="463"/>
                  </a:lnTo>
                  <a:lnTo>
                    <a:pt x="196" y="462"/>
                  </a:lnTo>
                  <a:lnTo>
                    <a:pt x="192" y="462"/>
                  </a:lnTo>
                  <a:lnTo>
                    <a:pt x="188" y="461"/>
                  </a:lnTo>
                  <a:lnTo>
                    <a:pt x="184" y="461"/>
                  </a:lnTo>
                  <a:lnTo>
                    <a:pt x="180" y="460"/>
                  </a:lnTo>
                  <a:lnTo>
                    <a:pt x="176" y="460"/>
                  </a:lnTo>
                  <a:lnTo>
                    <a:pt x="172" y="459"/>
                  </a:lnTo>
                  <a:lnTo>
                    <a:pt x="168" y="458"/>
                  </a:lnTo>
                  <a:lnTo>
                    <a:pt x="165" y="458"/>
                  </a:lnTo>
                  <a:lnTo>
                    <a:pt x="161" y="457"/>
                  </a:lnTo>
                  <a:lnTo>
                    <a:pt x="159" y="456"/>
                  </a:lnTo>
                  <a:lnTo>
                    <a:pt x="156" y="45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676680" y="2293920"/>
              <a:ext cx="169920" cy="194760"/>
            </a:xfrm>
            <a:custGeom>
              <a:avLst/>
              <a:gdLst/>
              <a:ahLst/>
              <a:rect l="l" t="t" r="r" b="b"/>
              <a:pathLst>
                <a:path w="426" h="491">
                  <a:moveTo>
                    <a:pt x="246" y="0"/>
                  </a:moveTo>
                  <a:lnTo>
                    <a:pt x="250" y="0"/>
                  </a:lnTo>
                  <a:lnTo>
                    <a:pt x="254" y="0"/>
                  </a:lnTo>
                  <a:lnTo>
                    <a:pt x="258" y="1"/>
                  </a:lnTo>
                  <a:lnTo>
                    <a:pt x="261" y="1"/>
                  </a:lnTo>
                  <a:lnTo>
                    <a:pt x="266" y="2"/>
                  </a:lnTo>
                  <a:lnTo>
                    <a:pt x="270" y="4"/>
                  </a:lnTo>
                  <a:lnTo>
                    <a:pt x="275" y="5"/>
                  </a:lnTo>
                  <a:lnTo>
                    <a:pt x="279" y="6"/>
                  </a:lnTo>
                  <a:lnTo>
                    <a:pt x="283" y="8"/>
                  </a:lnTo>
                  <a:lnTo>
                    <a:pt x="288" y="9"/>
                  </a:lnTo>
                  <a:lnTo>
                    <a:pt x="292" y="10"/>
                  </a:lnTo>
                  <a:lnTo>
                    <a:pt x="297" y="11"/>
                  </a:lnTo>
                  <a:lnTo>
                    <a:pt x="301" y="13"/>
                  </a:lnTo>
                  <a:lnTo>
                    <a:pt x="305" y="15"/>
                  </a:lnTo>
                  <a:lnTo>
                    <a:pt x="310" y="16"/>
                  </a:lnTo>
                  <a:lnTo>
                    <a:pt x="314" y="18"/>
                  </a:lnTo>
                  <a:lnTo>
                    <a:pt x="324" y="20"/>
                  </a:lnTo>
                  <a:lnTo>
                    <a:pt x="333" y="23"/>
                  </a:lnTo>
                  <a:lnTo>
                    <a:pt x="342" y="28"/>
                  </a:lnTo>
                  <a:lnTo>
                    <a:pt x="350" y="32"/>
                  </a:lnTo>
                  <a:lnTo>
                    <a:pt x="356" y="37"/>
                  </a:lnTo>
                  <a:lnTo>
                    <a:pt x="363" y="42"/>
                  </a:lnTo>
                  <a:lnTo>
                    <a:pt x="368" y="48"/>
                  </a:lnTo>
                  <a:lnTo>
                    <a:pt x="374" y="54"/>
                  </a:lnTo>
                  <a:lnTo>
                    <a:pt x="378" y="61"/>
                  </a:lnTo>
                  <a:lnTo>
                    <a:pt x="383" y="69"/>
                  </a:lnTo>
                  <a:lnTo>
                    <a:pt x="386" y="76"/>
                  </a:lnTo>
                  <a:lnTo>
                    <a:pt x="389" y="85"/>
                  </a:lnTo>
                  <a:lnTo>
                    <a:pt x="392" y="94"/>
                  </a:lnTo>
                  <a:lnTo>
                    <a:pt x="393" y="104"/>
                  </a:lnTo>
                  <a:lnTo>
                    <a:pt x="394" y="115"/>
                  </a:lnTo>
                  <a:lnTo>
                    <a:pt x="394" y="126"/>
                  </a:lnTo>
                  <a:lnTo>
                    <a:pt x="394" y="135"/>
                  </a:lnTo>
                  <a:lnTo>
                    <a:pt x="393" y="141"/>
                  </a:lnTo>
                  <a:lnTo>
                    <a:pt x="392" y="148"/>
                  </a:lnTo>
                  <a:lnTo>
                    <a:pt x="390" y="155"/>
                  </a:lnTo>
                  <a:lnTo>
                    <a:pt x="388" y="160"/>
                  </a:lnTo>
                  <a:lnTo>
                    <a:pt x="386" y="166"/>
                  </a:lnTo>
                  <a:lnTo>
                    <a:pt x="384" y="170"/>
                  </a:lnTo>
                  <a:lnTo>
                    <a:pt x="381" y="175"/>
                  </a:lnTo>
                  <a:lnTo>
                    <a:pt x="376" y="178"/>
                  </a:lnTo>
                  <a:lnTo>
                    <a:pt x="372" y="181"/>
                  </a:lnTo>
                  <a:lnTo>
                    <a:pt x="367" y="183"/>
                  </a:lnTo>
                  <a:lnTo>
                    <a:pt x="362" y="186"/>
                  </a:lnTo>
                  <a:lnTo>
                    <a:pt x="356" y="188"/>
                  </a:lnTo>
                  <a:lnTo>
                    <a:pt x="350" y="189"/>
                  </a:lnTo>
                  <a:lnTo>
                    <a:pt x="343" y="189"/>
                  </a:lnTo>
                  <a:lnTo>
                    <a:pt x="335" y="189"/>
                  </a:lnTo>
                  <a:lnTo>
                    <a:pt x="322" y="189"/>
                  </a:lnTo>
                  <a:lnTo>
                    <a:pt x="310" y="187"/>
                  </a:lnTo>
                  <a:lnTo>
                    <a:pt x="300" y="184"/>
                  </a:lnTo>
                  <a:lnTo>
                    <a:pt x="290" y="180"/>
                  </a:lnTo>
                  <a:lnTo>
                    <a:pt x="282" y="176"/>
                  </a:lnTo>
                  <a:lnTo>
                    <a:pt x="276" y="170"/>
                  </a:lnTo>
                  <a:lnTo>
                    <a:pt x="271" y="162"/>
                  </a:lnTo>
                  <a:lnTo>
                    <a:pt x="267" y="154"/>
                  </a:lnTo>
                  <a:lnTo>
                    <a:pt x="265" y="146"/>
                  </a:lnTo>
                  <a:lnTo>
                    <a:pt x="261" y="137"/>
                  </a:lnTo>
                  <a:lnTo>
                    <a:pt x="259" y="129"/>
                  </a:lnTo>
                  <a:lnTo>
                    <a:pt x="257" y="122"/>
                  </a:lnTo>
                  <a:lnTo>
                    <a:pt x="254" y="115"/>
                  </a:lnTo>
                  <a:lnTo>
                    <a:pt x="251" y="107"/>
                  </a:lnTo>
                  <a:lnTo>
                    <a:pt x="250" y="101"/>
                  </a:lnTo>
                  <a:lnTo>
                    <a:pt x="248" y="95"/>
                  </a:lnTo>
                  <a:lnTo>
                    <a:pt x="241" y="96"/>
                  </a:lnTo>
                  <a:lnTo>
                    <a:pt x="234" y="100"/>
                  </a:lnTo>
                  <a:lnTo>
                    <a:pt x="225" y="106"/>
                  </a:lnTo>
                  <a:lnTo>
                    <a:pt x="216" y="115"/>
                  </a:lnTo>
                  <a:lnTo>
                    <a:pt x="205" y="126"/>
                  </a:lnTo>
                  <a:lnTo>
                    <a:pt x="193" y="139"/>
                  </a:lnTo>
                  <a:lnTo>
                    <a:pt x="181" y="156"/>
                  </a:lnTo>
                  <a:lnTo>
                    <a:pt x="166" y="175"/>
                  </a:lnTo>
                  <a:lnTo>
                    <a:pt x="153" y="194"/>
                  </a:lnTo>
                  <a:lnTo>
                    <a:pt x="141" y="214"/>
                  </a:lnTo>
                  <a:lnTo>
                    <a:pt x="131" y="233"/>
                  </a:lnTo>
                  <a:lnTo>
                    <a:pt x="123" y="252"/>
                  </a:lnTo>
                  <a:lnTo>
                    <a:pt x="118" y="271"/>
                  </a:lnTo>
                  <a:lnTo>
                    <a:pt x="112" y="289"/>
                  </a:lnTo>
                  <a:lnTo>
                    <a:pt x="110" y="308"/>
                  </a:lnTo>
                  <a:lnTo>
                    <a:pt x="109" y="326"/>
                  </a:lnTo>
                  <a:lnTo>
                    <a:pt x="110" y="337"/>
                  </a:lnTo>
                  <a:lnTo>
                    <a:pt x="111" y="347"/>
                  </a:lnTo>
                  <a:lnTo>
                    <a:pt x="112" y="357"/>
                  </a:lnTo>
                  <a:lnTo>
                    <a:pt x="116" y="365"/>
                  </a:lnTo>
                  <a:lnTo>
                    <a:pt x="119" y="374"/>
                  </a:lnTo>
                  <a:lnTo>
                    <a:pt x="123" y="382"/>
                  </a:lnTo>
                  <a:lnTo>
                    <a:pt x="129" y="391"/>
                  </a:lnTo>
                  <a:lnTo>
                    <a:pt x="134" y="397"/>
                  </a:lnTo>
                  <a:lnTo>
                    <a:pt x="141" y="404"/>
                  </a:lnTo>
                  <a:lnTo>
                    <a:pt x="148" y="411"/>
                  </a:lnTo>
                  <a:lnTo>
                    <a:pt x="155" y="415"/>
                  </a:lnTo>
                  <a:lnTo>
                    <a:pt x="163" y="420"/>
                  </a:lnTo>
                  <a:lnTo>
                    <a:pt x="171" y="423"/>
                  </a:lnTo>
                  <a:lnTo>
                    <a:pt x="180" y="425"/>
                  </a:lnTo>
                  <a:lnTo>
                    <a:pt x="188" y="426"/>
                  </a:lnTo>
                  <a:lnTo>
                    <a:pt x="198" y="426"/>
                  </a:lnTo>
                  <a:lnTo>
                    <a:pt x="212" y="426"/>
                  </a:lnTo>
                  <a:lnTo>
                    <a:pt x="225" y="424"/>
                  </a:lnTo>
                  <a:lnTo>
                    <a:pt x="238" y="421"/>
                  </a:lnTo>
                  <a:lnTo>
                    <a:pt x="250" y="416"/>
                  </a:lnTo>
                  <a:lnTo>
                    <a:pt x="262" y="411"/>
                  </a:lnTo>
                  <a:lnTo>
                    <a:pt x="275" y="404"/>
                  </a:lnTo>
                  <a:lnTo>
                    <a:pt x="287" y="396"/>
                  </a:lnTo>
                  <a:lnTo>
                    <a:pt x="299" y="388"/>
                  </a:lnTo>
                  <a:lnTo>
                    <a:pt x="309" y="377"/>
                  </a:lnTo>
                  <a:lnTo>
                    <a:pt x="320" y="367"/>
                  </a:lnTo>
                  <a:lnTo>
                    <a:pt x="330" y="356"/>
                  </a:lnTo>
                  <a:lnTo>
                    <a:pt x="341" y="345"/>
                  </a:lnTo>
                  <a:lnTo>
                    <a:pt x="351" y="335"/>
                  </a:lnTo>
                  <a:lnTo>
                    <a:pt x="361" y="324"/>
                  </a:lnTo>
                  <a:lnTo>
                    <a:pt x="372" y="313"/>
                  </a:lnTo>
                  <a:lnTo>
                    <a:pt x="382" y="303"/>
                  </a:lnTo>
                  <a:lnTo>
                    <a:pt x="385" y="303"/>
                  </a:lnTo>
                  <a:lnTo>
                    <a:pt x="388" y="304"/>
                  </a:lnTo>
                  <a:lnTo>
                    <a:pt x="392" y="305"/>
                  </a:lnTo>
                  <a:lnTo>
                    <a:pt x="395" y="306"/>
                  </a:lnTo>
                  <a:lnTo>
                    <a:pt x="398" y="308"/>
                  </a:lnTo>
                  <a:lnTo>
                    <a:pt x="401" y="310"/>
                  </a:lnTo>
                  <a:lnTo>
                    <a:pt x="406" y="314"/>
                  </a:lnTo>
                  <a:lnTo>
                    <a:pt x="409" y="317"/>
                  </a:lnTo>
                  <a:lnTo>
                    <a:pt x="414" y="320"/>
                  </a:lnTo>
                  <a:lnTo>
                    <a:pt x="417" y="324"/>
                  </a:lnTo>
                  <a:lnTo>
                    <a:pt x="419" y="327"/>
                  </a:lnTo>
                  <a:lnTo>
                    <a:pt x="421" y="330"/>
                  </a:lnTo>
                  <a:lnTo>
                    <a:pt x="424" y="333"/>
                  </a:lnTo>
                  <a:lnTo>
                    <a:pt x="425" y="336"/>
                  </a:lnTo>
                  <a:lnTo>
                    <a:pt x="425" y="338"/>
                  </a:lnTo>
                  <a:lnTo>
                    <a:pt x="426" y="341"/>
                  </a:lnTo>
                  <a:lnTo>
                    <a:pt x="425" y="353"/>
                  </a:lnTo>
                  <a:lnTo>
                    <a:pt x="421" y="367"/>
                  </a:lnTo>
                  <a:lnTo>
                    <a:pt x="417" y="379"/>
                  </a:lnTo>
                  <a:lnTo>
                    <a:pt x="410" y="392"/>
                  </a:lnTo>
                  <a:lnTo>
                    <a:pt x="403" y="404"/>
                  </a:lnTo>
                  <a:lnTo>
                    <a:pt x="393" y="416"/>
                  </a:lnTo>
                  <a:lnTo>
                    <a:pt x="381" y="429"/>
                  </a:lnTo>
                  <a:lnTo>
                    <a:pt x="367" y="442"/>
                  </a:lnTo>
                  <a:lnTo>
                    <a:pt x="353" y="454"/>
                  </a:lnTo>
                  <a:lnTo>
                    <a:pt x="337" y="464"/>
                  </a:lnTo>
                  <a:lnTo>
                    <a:pt x="322" y="473"/>
                  </a:lnTo>
                  <a:lnTo>
                    <a:pt x="307" y="479"/>
                  </a:lnTo>
                  <a:lnTo>
                    <a:pt x="290" y="485"/>
                  </a:lnTo>
                  <a:lnTo>
                    <a:pt x="273" y="488"/>
                  </a:lnTo>
                  <a:lnTo>
                    <a:pt x="257" y="490"/>
                  </a:lnTo>
                  <a:lnTo>
                    <a:pt x="239" y="491"/>
                  </a:lnTo>
                  <a:lnTo>
                    <a:pt x="219" y="490"/>
                  </a:lnTo>
                  <a:lnTo>
                    <a:pt x="201" y="488"/>
                  </a:lnTo>
                  <a:lnTo>
                    <a:pt x="181" y="485"/>
                  </a:lnTo>
                  <a:lnTo>
                    <a:pt x="161" y="479"/>
                  </a:lnTo>
                  <a:lnTo>
                    <a:pt x="141" y="473"/>
                  </a:lnTo>
                  <a:lnTo>
                    <a:pt x="121" y="464"/>
                  </a:lnTo>
                  <a:lnTo>
                    <a:pt x="100" y="454"/>
                  </a:lnTo>
                  <a:lnTo>
                    <a:pt x="80" y="443"/>
                  </a:lnTo>
                  <a:lnTo>
                    <a:pt x="70" y="436"/>
                  </a:lnTo>
                  <a:lnTo>
                    <a:pt x="61" y="429"/>
                  </a:lnTo>
                  <a:lnTo>
                    <a:pt x="53" y="423"/>
                  </a:lnTo>
                  <a:lnTo>
                    <a:pt x="45" y="415"/>
                  </a:lnTo>
                  <a:lnTo>
                    <a:pt x="38" y="409"/>
                  </a:lnTo>
                  <a:lnTo>
                    <a:pt x="32" y="401"/>
                  </a:lnTo>
                  <a:lnTo>
                    <a:pt x="25" y="393"/>
                  </a:lnTo>
                  <a:lnTo>
                    <a:pt x="21" y="385"/>
                  </a:lnTo>
                  <a:lnTo>
                    <a:pt x="15" y="377"/>
                  </a:lnTo>
                  <a:lnTo>
                    <a:pt x="12" y="369"/>
                  </a:lnTo>
                  <a:lnTo>
                    <a:pt x="8" y="360"/>
                  </a:lnTo>
                  <a:lnTo>
                    <a:pt x="5" y="350"/>
                  </a:lnTo>
                  <a:lnTo>
                    <a:pt x="3" y="341"/>
                  </a:lnTo>
                  <a:lnTo>
                    <a:pt x="2" y="331"/>
                  </a:lnTo>
                  <a:lnTo>
                    <a:pt x="1" y="321"/>
                  </a:lnTo>
                  <a:lnTo>
                    <a:pt x="0" y="311"/>
                  </a:lnTo>
                  <a:lnTo>
                    <a:pt x="1" y="293"/>
                  </a:lnTo>
                  <a:lnTo>
                    <a:pt x="3" y="275"/>
                  </a:lnTo>
                  <a:lnTo>
                    <a:pt x="6" y="256"/>
                  </a:lnTo>
                  <a:lnTo>
                    <a:pt x="12" y="237"/>
                  </a:lnTo>
                  <a:lnTo>
                    <a:pt x="18" y="220"/>
                  </a:lnTo>
                  <a:lnTo>
                    <a:pt x="26" y="201"/>
                  </a:lnTo>
                  <a:lnTo>
                    <a:pt x="35" y="183"/>
                  </a:lnTo>
                  <a:lnTo>
                    <a:pt x="46" y="166"/>
                  </a:lnTo>
                  <a:lnTo>
                    <a:pt x="57" y="148"/>
                  </a:lnTo>
                  <a:lnTo>
                    <a:pt x="69" y="132"/>
                  </a:lnTo>
                  <a:lnTo>
                    <a:pt x="82" y="115"/>
                  </a:lnTo>
                  <a:lnTo>
                    <a:pt x="96" y="101"/>
                  </a:lnTo>
                  <a:lnTo>
                    <a:pt x="109" y="86"/>
                  </a:lnTo>
                  <a:lnTo>
                    <a:pt x="123" y="72"/>
                  </a:lnTo>
                  <a:lnTo>
                    <a:pt x="138" y="60"/>
                  </a:lnTo>
                  <a:lnTo>
                    <a:pt x="152" y="48"/>
                  </a:lnTo>
                  <a:lnTo>
                    <a:pt x="166" y="37"/>
                  </a:lnTo>
                  <a:lnTo>
                    <a:pt x="181" y="27"/>
                  </a:lnTo>
                  <a:lnTo>
                    <a:pt x="194" y="19"/>
                  </a:lnTo>
                  <a:lnTo>
                    <a:pt x="206" y="12"/>
                  </a:lnTo>
                  <a:lnTo>
                    <a:pt x="217" y="7"/>
                  </a:lnTo>
                  <a:lnTo>
                    <a:pt x="228" y="4"/>
                  </a:lnTo>
                  <a:lnTo>
                    <a:pt x="237" y="1"/>
                  </a:lnTo>
                  <a:lnTo>
                    <a:pt x="246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854520" y="2298600"/>
              <a:ext cx="168120" cy="191880"/>
            </a:xfrm>
            <a:custGeom>
              <a:avLst/>
              <a:gdLst/>
              <a:ahLst/>
              <a:rect l="l" t="t" r="r" b="b"/>
              <a:pathLst>
                <a:path w="425" h="487">
                  <a:moveTo>
                    <a:pt x="246" y="340"/>
                  </a:moveTo>
                  <a:lnTo>
                    <a:pt x="152" y="347"/>
                  </a:lnTo>
                  <a:lnTo>
                    <a:pt x="150" y="347"/>
                  </a:lnTo>
                  <a:lnTo>
                    <a:pt x="148" y="350"/>
                  </a:lnTo>
                  <a:lnTo>
                    <a:pt x="144" y="354"/>
                  </a:lnTo>
                  <a:lnTo>
                    <a:pt x="141" y="360"/>
                  </a:lnTo>
                  <a:lnTo>
                    <a:pt x="138" y="368"/>
                  </a:lnTo>
                  <a:lnTo>
                    <a:pt x="133" y="376"/>
                  </a:lnTo>
                  <a:lnTo>
                    <a:pt x="129" y="386"/>
                  </a:lnTo>
                  <a:lnTo>
                    <a:pt x="123" y="400"/>
                  </a:lnTo>
                  <a:lnTo>
                    <a:pt x="119" y="412"/>
                  </a:lnTo>
                  <a:lnTo>
                    <a:pt x="113" y="423"/>
                  </a:lnTo>
                  <a:lnTo>
                    <a:pt x="110" y="433"/>
                  </a:lnTo>
                  <a:lnTo>
                    <a:pt x="107" y="441"/>
                  </a:lnTo>
                  <a:lnTo>
                    <a:pt x="104" y="449"/>
                  </a:lnTo>
                  <a:lnTo>
                    <a:pt x="101" y="456"/>
                  </a:lnTo>
                  <a:lnTo>
                    <a:pt x="100" y="460"/>
                  </a:lnTo>
                  <a:lnTo>
                    <a:pt x="99" y="464"/>
                  </a:lnTo>
                  <a:lnTo>
                    <a:pt x="98" y="467"/>
                  </a:lnTo>
                  <a:lnTo>
                    <a:pt x="97" y="469"/>
                  </a:lnTo>
                  <a:lnTo>
                    <a:pt x="96" y="471"/>
                  </a:lnTo>
                  <a:lnTo>
                    <a:pt x="95" y="475"/>
                  </a:lnTo>
                  <a:lnTo>
                    <a:pt x="94" y="476"/>
                  </a:lnTo>
                  <a:lnTo>
                    <a:pt x="92" y="478"/>
                  </a:lnTo>
                  <a:lnTo>
                    <a:pt x="91" y="480"/>
                  </a:lnTo>
                  <a:lnTo>
                    <a:pt x="89" y="481"/>
                  </a:lnTo>
                  <a:lnTo>
                    <a:pt x="87" y="482"/>
                  </a:lnTo>
                  <a:lnTo>
                    <a:pt x="86" y="483"/>
                  </a:lnTo>
                  <a:lnTo>
                    <a:pt x="83" y="484"/>
                  </a:lnTo>
                  <a:lnTo>
                    <a:pt x="80" y="486"/>
                  </a:lnTo>
                  <a:lnTo>
                    <a:pt x="77" y="486"/>
                  </a:lnTo>
                  <a:lnTo>
                    <a:pt x="74" y="487"/>
                  </a:lnTo>
                  <a:lnTo>
                    <a:pt x="69" y="487"/>
                  </a:lnTo>
                  <a:lnTo>
                    <a:pt x="65" y="487"/>
                  </a:lnTo>
                  <a:lnTo>
                    <a:pt x="59" y="487"/>
                  </a:lnTo>
                  <a:lnTo>
                    <a:pt x="53" y="487"/>
                  </a:lnTo>
                  <a:lnTo>
                    <a:pt x="46" y="486"/>
                  </a:lnTo>
                  <a:lnTo>
                    <a:pt x="41" y="486"/>
                  </a:lnTo>
                  <a:lnTo>
                    <a:pt x="35" y="484"/>
                  </a:lnTo>
                  <a:lnTo>
                    <a:pt x="30" y="483"/>
                  </a:lnTo>
                  <a:lnTo>
                    <a:pt x="24" y="482"/>
                  </a:lnTo>
                  <a:lnTo>
                    <a:pt x="20" y="481"/>
                  </a:lnTo>
                  <a:lnTo>
                    <a:pt x="15" y="479"/>
                  </a:lnTo>
                  <a:lnTo>
                    <a:pt x="11" y="478"/>
                  </a:lnTo>
                  <a:lnTo>
                    <a:pt x="7" y="476"/>
                  </a:lnTo>
                  <a:lnTo>
                    <a:pt x="4" y="473"/>
                  </a:lnTo>
                  <a:lnTo>
                    <a:pt x="2" y="471"/>
                  </a:lnTo>
                  <a:lnTo>
                    <a:pt x="1" y="468"/>
                  </a:lnTo>
                  <a:lnTo>
                    <a:pt x="0" y="466"/>
                  </a:lnTo>
                  <a:lnTo>
                    <a:pt x="0" y="462"/>
                  </a:lnTo>
                  <a:lnTo>
                    <a:pt x="0" y="456"/>
                  </a:lnTo>
                  <a:lnTo>
                    <a:pt x="2" y="448"/>
                  </a:lnTo>
                  <a:lnTo>
                    <a:pt x="4" y="438"/>
                  </a:lnTo>
                  <a:lnTo>
                    <a:pt x="6" y="426"/>
                  </a:lnTo>
                  <a:lnTo>
                    <a:pt x="11" y="413"/>
                  </a:lnTo>
                  <a:lnTo>
                    <a:pt x="16" y="398"/>
                  </a:lnTo>
                  <a:lnTo>
                    <a:pt x="22" y="382"/>
                  </a:lnTo>
                  <a:lnTo>
                    <a:pt x="28" y="363"/>
                  </a:lnTo>
                  <a:lnTo>
                    <a:pt x="36" y="344"/>
                  </a:lnTo>
                  <a:lnTo>
                    <a:pt x="44" y="323"/>
                  </a:lnTo>
                  <a:lnTo>
                    <a:pt x="52" y="304"/>
                  </a:lnTo>
                  <a:lnTo>
                    <a:pt x="60" y="283"/>
                  </a:lnTo>
                  <a:lnTo>
                    <a:pt x="69" y="260"/>
                  </a:lnTo>
                  <a:lnTo>
                    <a:pt x="78" y="239"/>
                  </a:lnTo>
                  <a:lnTo>
                    <a:pt x="87" y="216"/>
                  </a:lnTo>
                  <a:lnTo>
                    <a:pt x="97" y="193"/>
                  </a:lnTo>
                  <a:lnTo>
                    <a:pt x="106" y="171"/>
                  </a:lnTo>
                  <a:lnTo>
                    <a:pt x="115" y="150"/>
                  </a:lnTo>
                  <a:lnTo>
                    <a:pt x="123" y="130"/>
                  </a:lnTo>
                  <a:lnTo>
                    <a:pt x="131" y="113"/>
                  </a:lnTo>
                  <a:lnTo>
                    <a:pt x="138" y="96"/>
                  </a:lnTo>
                  <a:lnTo>
                    <a:pt x="144" y="81"/>
                  </a:lnTo>
                  <a:lnTo>
                    <a:pt x="151" y="67"/>
                  </a:lnTo>
                  <a:lnTo>
                    <a:pt x="155" y="55"/>
                  </a:lnTo>
                  <a:lnTo>
                    <a:pt x="161" y="44"/>
                  </a:lnTo>
                  <a:lnTo>
                    <a:pt x="165" y="35"/>
                  </a:lnTo>
                  <a:lnTo>
                    <a:pt x="169" y="27"/>
                  </a:lnTo>
                  <a:lnTo>
                    <a:pt x="172" y="20"/>
                  </a:lnTo>
                  <a:lnTo>
                    <a:pt x="175" y="14"/>
                  </a:lnTo>
                  <a:lnTo>
                    <a:pt x="177" y="10"/>
                  </a:lnTo>
                  <a:lnTo>
                    <a:pt x="179" y="7"/>
                  </a:lnTo>
                  <a:lnTo>
                    <a:pt x="181" y="4"/>
                  </a:lnTo>
                  <a:lnTo>
                    <a:pt x="182" y="3"/>
                  </a:lnTo>
                  <a:lnTo>
                    <a:pt x="183" y="2"/>
                  </a:lnTo>
                  <a:lnTo>
                    <a:pt x="185" y="1"/>
                  </a:lnTo>
                  <a:lnTo>
                    <a:pt x="187" y="1"/>
                  </a:lnTo>
                  <a:lnTo>
                    <a:pt x="190" y="0"/>
                  </a:lnTo>
                  <a:lnTo>
                    <a:pt x="193" y="0"/>
                  </a:lnTo>
                  <a:lnTo>
                    <a:pt x="196" y="0"/>
                  </a:lnTo>
                  <a:lnTo>
                    <a:pt x="200" y="0"/>
                  </a:lnTo>
                  <a:lnTo>
                    <a:pt x="202" y="0"/>
                  </a:lnTo>
                  <a:lnTo>
                    <a:pt x="205" y="0"/>
                  </a:lnTo>
                  <a:lnTo>
                    <a:pt x="210" y="0"/>
                  </a:lnTo>
                  <a:lnTo>
                    <a:pt x="214" y="1"/>
                  </a:lnTo>
                  <a:lnTo>
                    <a:pt x="219" y="1"/>
                  </a:lnTo>
                  <a:lnTo>
                    <a:pt x="225" y="2"/>
                  </a:lnTo>
                  <a:lnTo>
                    <a:pt x="232" y="3"/>
                  </a:lnTo>
                  <a:lnTo>
                    <a:pt x="238" y="4"/>
                  </a:lnTo>
                  <a:lnTo>
                    <a:pt x="246" y="6"/>
                  </a:lnTo>
                  <a:lnTo>
                    <a:pt x="253" y="7"/>
                  </a:lnTo>
                  <a:lnTo>
                    <a:pt x="260" y="8"/>
                  </a:lnTo>
                  <a:lnTo>
                    <a:pt x="267" y="9"/>
                  </a:lnTo>
                  <a:lnTo>
                    <a:pt x="274" y="10"/>
                  </a:lnTo>
                  <a:lnTo>
                    <a:pt x="280" y="10"/>
                  </a:lnTo>
                  <a:lnTo>
                    <a:pt x="286" y="11"/>
                  </a:lnTo>
                  <a:lnTo>
                    <a:pt x="292" y="12"/>
                  </a:lnTo>
                  <a:lnTo>
                    <a:pt x="298" y="12"/>
                  </a:lnTo>
                  <a:lnTo>
                    <a:pt x="303" y="13"/>
                  </a:lnTo>
                  <a:lnTo>
                    <a:pt x="308" y="14"/>
                  </a:lnTo>
                  <a:lnTo>
                    <a:pt x="312" y="15"/>
                  </a:lnTo>
                  <a:lnTo>
                    <a:pt x="317" y="17"/>
                  </a:lnTo>
                  <a:lnTo>
                    <a:pt x="319" y="18"/>
                  </a:lnTo>
                  <a:lnTo>
                    <a:pt x="322" y="19"/>
                  </a:lnTo>
                  <a:lnTo>
                    <a:pt x="324" y="20"/>
                  </a:lnTo>
                  <a:lnTo>
                    <a:pt x="325" y="22"/>
                  </a:lnTo>
                  <a:lnTo>
                    <a:pt x="328" y="24"/>
                  </a:lnTo>
                  <a:lnTo>
                    <a:pt x="329" y="27"/>
                  </a:lnTo>
                  <a:lnTo>
                    <a:pt x="331" y="29"/>
                  </a:lnTo>
                  <a:lnTo>
                    <a:pt x="332" y="31"/>
                  </a:lnTo>
                  <a:lnTo>
                    <a:pt x="333" y="34"/>
                  </a:lnTo>
                  <a:lnTo>
                    <a:pt x="334" y="39"/>
                  </a:lnTo>
                  <a:lnTo>
                    <a:pt x="334" y="42"/>
                  </a:lnTo>
                  <a:lnTo>
                    <a:pt x="336" y="47"/>
                  </a:lnTo>
                  <a:lnTo>
                    <a:pt x="338" y="57"/>
                  </a:lnTo>
                  <a:lnTo>
                    <a:pt x="341" y="70"/>
                  </a:lnTo>
                  <a:lnTo>
                    <a:pt x="344" y="86"/>
                  </a:lnTo>
                  <a:lnTo>
                    <a:pt x="350" y="106"/>
                  </a:lnTo>
                  <a:lnTo>
                    <a:pt x="354" y="129"/>
                  </a:lnTo>
                  <a:lnTo>
                    <a:pt x="361" y="156"/>
                  </a:lnTo>
                  <a:lnTo>
                    <a:pt x="368" y="185"/>
                  </a:lnTo>
                  <a:lnTo>
                    <a:pt x="375" y="216"/>
                  </a:lnTo>
                  <a:lnTo>
                    <a:pt x="382" y="245"/>
                  </a:lnTo>
                  <a:lnTo>
                    <a:pt x="388" y="272"/>
                  </a:lnTo>
                  <a:lnTo>
                    <a:pt x="394" y="296"/>
                  </a:lnTo>
                  <a:lnTo>
                    <a:pt x="399" y="319"/>
                  </a:lnTo>
                  <a:lnTo>
                    <a:pt x="404" y="339"/>
                  </a:lnTo>
                  <a:lnTo>
                    <a:pt x="408" y="356"/>
                  </a:lnTo>
                  <a:lnTo>
                    <a:pt x="412" y="372"/>
                  </a:lnTo>
                  <a:lnTo>
                    <a:pt x="415" y="386"/>
                  </a:lnTo>
                  <a:lnTo>
                    <a:pt x="417" y="398"/>
                  </a:lnTo>
                  <a:lnTo>
                    <a:pt x="419" y="408"/>
                  </a:lnTo>
                  <a:lnTo>
                    <a:pt x="421" y="417"/>
                  </a:lnTo>
                  <a:lnTo>
                    <a:pt x="423" y="425"/>
                  </a:lnTo>
                  <a:lnTo>
                    <a:pt x="424" y="430"/>
                  </a:lnTo>
                  <a:lnTo>
                    <a:pt x="425" y="434"/>
                  </a:lnTo>
                  <a:lnTo>
                    <a:pt x="425" y="436"/>
                  </a:lnTo>
                  <a:lnTo>
                    <a:pt x="424" y="440"/>
                  </a:lnTo>
                  <a:lnTo>
                    <a:pt x="421" y="444"/>
                  </a:lnTo>
                  <a:lnTo>
                    <a:pt x="418" y="447"/>
                  </a:lnTo>
                  <a:lnTo>
                    <a:pt x="413" y="450"/>
                  </a:lnTo>
                  <a:lnTo>
                    <a:pt x="405" y="452"/>
                  </a:lnTo>
                  <a:lnTo>
                    <a:pt x="396" y="454"/>
                  </a:lnTo>
                  <a:lnTo>
                    <a:pt x="386" y="455"/>
                  </a:lnTo>
                  <a:lnTo>
                    <a:pt x="374" y="455"/>
                  </a:lnTo>
                  <a:lnTo>
                    <a:pt x="366" y="455"/>
                  </a:lnTo>
                  <a:lnTo>
                    <a:pt x="359" y="454"/>
                  </a:lnTo>
                  <a:lnTo>
                    <a:pt x="352" y="452"/>
                  </a:lnTo>
                  <a:lnTo>
                    <a:pt x="345" y="450"/>
                  </a:lnTo>
                  <a:lnTo>
                    <a:pt x="340" y="448"/>
                  </a:lnTo>
                  <a:lnTo>
                    <a:pt x="335" y="445"/>
                  </a:lnTo>
                  <a:lnTo>
                    <a:pt x="331" y="441"/>
                  </a:lnTo>
                  <a:lnTo>
                    <a:pt x="328" y="437"/>
                  </a:lnTo>
                  <a:lnTo>
                    <a:pt x="324" y="433"/>
                  </a:lnTo>
                  <a:lnTo>
                    <a:pt x="322" y="428"/>
                  </a:lnTo>
                  <a:lnTo>
                    <a:pt x="319" y="423"/>
                  </a:lnTo>
                  <a:lnTo>
                    <a:pt x="315" y="417"/>
                  </a:lnTo>
                  <a:lnTo>
                    <a:pt x="312" y="412"/>
                  </a:lnTo>
                  <a:lnTo>
                    <a:pt x="310" y="405"/>
                  </a:lnTo>
                  <a:lnTo>
                    <a:pt x="307" y="400"/>
                  </a:lnTo>
                  <a:lnTo>
                    <a:pt x="303" y="392"/>
                  </a:lnTo>
                  <a:lnTo>
                    <a:pt x="300" y="385"/>
                  </a:lnTo>
                  <a:lnTo>
                    <a:pt x="298" y="380"/>
                  </a:lnTo>
                  <a:lnTo>
                    <a:pt x="295" y="373"/>
                  </a:lnTo>
                  <a:lnTo>
                    <a:pt x="292" y="369"/>
                  </a:lnTo>
                  <a:lnTo>
                    <a:pt x="290" y="363"/>
                  </a:lnTo>
                  <a:lnTo>
                    <a:pt x="289" y="359"/>
                  </a:lnTo>
                  <a:lnTo>
                    <a:pt x="287" y="355"/>
                  </a:lnTo>
                  <a:lnTo>
                    <a:pt x="286" y="351"/>
                  </a:lnTo>
                  <a:lnTo>
                    <a:pt x="285" y="349"/>
                  </a:lnTo>
                  <a:lnTo>
                    <a:pt x="283" y="345"/>
                  </a:lnTo>
                  <a:lnTo>
                    <a:pt x="281" y="343"/>
                  </a:lnTo>
                  <a:lnTo>
                    <a:pt x="280" y="341"/>
                  </a:lnTo>
                  <a:lnTo>
                    <a:pt x="278" y="340"/>
                  </a:lnTo>
                  <a:lnTo>
                    <a:pt x="276" y="339"/>
                  </a:lnTo>
                  <a:lnTo>
                    <a:pt x="275" y="339"/>
                  </a:lnTo>
                  <a:lnTo>
                    <a:pt x="272" y="338"/>
                  </a:lnTo>
                  <a:lnTo>
                    <a:pt x="246" y="340"/>
                  </a:lnTo>
                  <a:close/>
                  <a:moveTo>
                    <a:pt x="181" y="268"/>
                  </a:moveTo>
                  <a:lnTo>
                    <a:pt x="181" y="269"/>
                  </a:lnTo>
                  <a:lnTo>
                    <a:pt x="180" y="272"/>
                  </a:lnTo>
                  <a:lnTo>
                    <a:pt x="180" y="273"/>
                  </a:lnTo>
                  <a:lnTo>
                    <a:pt x="180" y="274"/>
                  </a:lnTo>
                  <a:lnTo>
                    <a:pt x="180" y="275"/>
                  </a:lnTo>
                  <a:lnTo>
                    <a:pt x="179" y="275"/>
                  </a:lnTo>
                  <a:lnTo>
                    <a:pt x="179" y="276"/>
                  </a:lnTo>
                  <a:lnTo>
                    <a:pt x="179" y="276"/>
                  </a:lnTo>
                  <a:lnTo>
                    <a:pt x="179" y="277"/>
                  </a:lnTo>
                  <a:lnTo>
                    <a:pt x="180" y="277"/>
                  </a:lnTo>
                  <a:lnTo>
                    <a:pt x="180" y="278"/>
                  </a:lnTo>
                  <a:lnTo>
                    <a:pt x="181" y="279"/>
                  </a:lnTo>
                  <a:lnTo>
                    <a:pt x="182" y="279"/>
                  </a:lnTo>
                  <a:lnTo>
                    <a:pt x="183" y="279"/>
                  </a:lnTo>
                  <a:lnTo>
                    <a:pt x="184" y="280"/>
                  </a:lnTo>
                  <a:lnTo>
                    <a:pt x="185" y="280"/>
                  </a:lnTo>
                  <a:lnTo>
                    <a:pt x="246" y="267"/>
                  </a:lnTo>
                  <a:lnTo>
                    <a:pt x="250" y="267"/>
                  </a:lnTo>
                  <a:lnTo>
                    <a:pt x="254" y="267"/>
                  </a:lnTo>
                  <a:lnTo>
                    <a:pt x="257" y="267"/>
                  </a:lnTo>
                  <a:lnTo>
                    <a:pt x="260" y="267"/>
                  </a:lnTo>
                  <a:lnTo>
                    <a:pt x="263" y="267"/>
                  </a:lnTo>
                  <a:lnTo>
                    <a:pt x="265" y="266"/>
                  </a:lnTo>
                  <a:lnTo>
                    <a:pt x="266" y="266"/>
                  </a:lnTo>
                  <a:lnTo>
                    <a:pt x="268" y="266"/>
                  </a:lnTo>
                  <a:lnTo>
                    <a:pt x="269" y="266"/>
                  </a:lnTo>
                  <a:lnTo>
                    <a:pt x="270" y="266"/>
                  </a:lnTo>
                  <a:lnTo>
                    <a:pt x="270" y="265"/>
                  </a:lnTo>
                  <a:lnTo>
                    <a:pt x="271" y="265"/>
                  </a:lnTo>
                  <a:lnTo>
                    <a:pt x="271" y="264"/>
                  </a:lnTo>
                  <a:lnTo>
                    <a:pt x="272" y="264"/>
                  </a:lnTo>
                  <a:lnTo>
                    <a:pt x="272" y="263"/>
                  </a:lnTo>
                  <a:lnTo>
                    <a:pt x="272" y="262"/>
                  </a:lnTo>
                  <a:lnTo>
                    <a:pt x="272" y="260"/>
                  </a:lnTo>
                  <a:lnTo>
                    <a:pt x="271" y="257"/>
                  </a:lnTo>
                  <a:lnTo>
                    <a:pt x="270" y="252"/>
                  </a:lnTo>
                  <a:lnTo>
                    <a:pt x="268" y="245"/>
                  </a:lnTo>
                  <a:lnTo>
                    <a:pt x="266" y="236"/>
                  </a:lnTo>
                  <a:lnTo>
                    <a:pt x="263" y="225"/>
                  </a:lnTo>
                  <a:lnTo>
                    <a:pt x="259" y="213"/>
                  </a:lnTo>
                  <a:lnTo>
                    <a:pt x="255" y="199"/>
                  </a:lnTo>
                  <a:lnTo>
                    <a:pt x="250" y="184"/>
                  </a:lnTo>
                  <a:lnTo>
                    <a:pt x="247" y="171"/>
                  </a:lnTo>
                  <a:lnTo>
                    <a:pt x="244" y="160"/>
                  </a:lnTo>
                  <a:lnTo>
                    <a:pt x="242" y="150"/>
                  </a:lnTo>
                  <a:lnTo>
                    <a:pt x="239" y="143"/>
                  </a:lnTo>
                  <a:lnTo>
                    <a:pt x="238" y="137"/>
                  </a:lnTo>
                  <a:lnTo>
                    <a:pt x="237" y="134"/>
                  </a:lnTo>
                  <a:lnTo>
                    <a:pt x="237" y="130"/>
                  </a:lnTo>
                  <a:lnTo>
                    <a:pt x="235" y="134"/>
                  </a:lnTo>
                  <a:lnTo>
                    <a:pt x="233" y="139"/>
                  </a:lnTo>
                  <a:lnTo>
                    <a:pt x="229" y="146"/>
                  </a:lnTo>
                  <a:lnTo>
                    <a:pt x="226" y="153"/>
                  </a:lnTo>
                  <a:lnTo>
                    <a:pt x="223" y="162"/>
                  </a:lnTo>
                  <a:lnTo>
                    <a:pt x="218" y="173"/>
                  </a:lnTo>
                  <a:lnTo>
                    <a:pt x="213" y="187"/>
                  </a:lnTo>
                  <a:lnTo>
                    <a:pt x="207" y="200"/>
                  </a:lnTo>
                  <a:lnTo>
                    <a:pt x="202" y="214"/>
                  </a:lnTo>
                  <a:lnTo>
                    <a:pt x="196" y="226"/>
                  </a:lnTo>
                  <a:lnTo>
                    <a:pt x="193" y="237"/>
                  </a:lnTo>
                  <a:lnTo>
                    <a:pt x="189" y="246"/>
                  </a:lnTo>
                  <a:lnTo>
                    <a:pt x="186" y="254"/>
                  </a:lnTo>
                  <a:lnTo>
                    <a:pt x="183" y="260"/>
                  </a:lnTo>
                  <a:lnTo>
                    <a:pt x="182" y="265"/>
                  </a:lnTo>
                  <a:lnTo>
                    <a:pt x="181" y="26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030560" y="2298600"/>
              <a:ext cx="166680" cy="191880"/>
            </a:xfrm>
            <a:custGeom>
              <a:avLst/>
              <a:gdLst/>
              <a:ahLst/>
              <a:rect l="l" t="t" r="r" b="b"/>
              <a:pathLst>
                <a:path w="418" h="484">
                  <a:moveTo>
                    <a:pt x="258" y="441"/>
                  </a:moveTo>
                  <a:lnTo>
                    <a:pt x="258" y="468"/>
                  </a:lnTo>
                  <a:lnTo>
                    <a:pt x="258" y="471"/>
                  </a:lnTo>
                  <a:lnTo>
                    <a:pt x="257" y="475"/>
                  </a:lnTo>
                  <a:lnTo>
                    <a:pt x="255" y="477"/>
                  </a:lnTo>
                  <a:lnTo>
                    <a:pt x="251" y="479"/>
                  </a:lnTo>
                  <a:lnTo>
                    <a:pt x="248" y="481"/>
                  </a:lnTo>
                  <a:lnTo>
                    <a:pt x="244" y="482"/>
                  </a:lnTo>
                  <a:lnTo>
                    <a:pt x="238" y="484"/>
                  </a:lnTo>
                  <a:lnTo>
                    <a:pt x="231" y="484"/>
                  </a:lnTo>
                  <a:lnTo>
                    <a:pt x="226" y="484"/>
                  </a:lnTo>
                  <a:lnTo>
                    <a:pt x="220" y="484"/>
                  </a:lnTo>
                  <a:lnTo>
                    <a:pt x="214" y="482"/>
                  </a:lnTo>
                  <a:lnTo>
                    <a:pt x="208" y="481"/>
                  </a:lnTo>
                  <a:lnTo>
                    <a:pt x="202" y="480"/>
                  </a:lnTo>
                  <a:lnTo>
                    <a:pt x="196" y="479"/>
                  </a:lnTo>
                  <a:lnTo>
                    <a:pt x="189" y="477"/>
                  </a:lnTo>
                  <a:lnTo>
                    <a:pt x="183" y="476"/>
                  </a:lnTo>
                  <a:lnTo>
                    <a:pt x="177" y="474"/>
                  </a:lnTo>
                  <a:lnTo>
                    <a:pt x="172" y="471"/>
                  </a:lnTo>
                  <a:lnTo>
                    <a:pt x="167" y="469"/>
                  </a:lnTo>
                  <a:lnTo>
                    <a:pt x="164" y="467"/>
                  </a:lnTo>
                  <a:lnTo>
                    <a:pt x="161" y="465"/>
                  </a:lnTo>
                  <a:lnTo>
                    <a:pt x="159" y="463"/>
                  </a:lnTo>
                  <a:lnTo>
                    <a:pt x="157" y="462"/>
                  </a:lnTo>
                  <a:lnTo>
                    <a:pt x="157" y="459"/>
                  </a:lnTo>
                  <a:lnTo>
                    <a:pt x="152" y="327"/>
                  </a:lnTo>
                  <a:lnTo>
                    <a:pt x="157" y="105"/>
                  </a:lnTo>
                  <a:lnTo>
                    <a:pt x="157" y="103"/>
                  </a:lnTo>
                  <a:lnTo>
                    <a:pt x="157" y="101"/>
                  </a:lnTo>
                  <a:lnTo>
                    <a:pt x="156" y="100"/>
                  </a:lnTo>
                  <a:lnTo>
                    <a:pt x="156" y="97"/>
                  </a:lnTo>
                  <a:lnTo>
                    <a:pt x="156" y="96"/>
                  </a:lnTo>
                  <a:lnTo>
                    <a:pt x="155" y="95"/>
                  </a:lnTo>
                  <a:lnTo>
                    <a:pt x="154" y="94"/>
                  </a:lnTo>
                  <a:lnTo>
                    <a:pt x="153" y="93"/>
                  </a:lnTo>
                  <a:lnTo>
                    <a:pt x="152" y="92"/>
                  </a:lnTo>
                  <a:lnTo>
                    <a:pt x="150" y="92"/>
                  </a:lnTo>
                  <a:lnTo>
                    <a:pt x="147" y="91"/>
                  </a:lnTo>
                  <a:lnTo>
                    <a:pt x="144" y="91"/>
                  </a:lnTo>
                  <a:lnTo>
                    <a:pt x="141" y="90"/>
                  </a:lnTo>
                  <a:lnTo>
                    <a:pt x="136" y="90"/>
                  </a:lnTo>
                  <a:lnTo>
                    <a:pt x="131" y="90"/>
                  </a:lnTo>
                  <a:lnTo>
                    <a:pt x="125" y="90"/>
                  </a:lnTo>
                  <a:lnTo>
                    <a:pt x="113" y="90"/>
                  </a:lnTo>
                  <a:lnTo>
                    <a:pt x="65" y="89"/>
                  </a:lnTo>
                  <a:lnTo>
                    <a:pt x="59" y="89"/>
                  </a:lnTo>
                  <a:lnTo>
                    <a:pt x="54" y="89"/>
                  </a:lnTo>
                  <a:lnTo>
                    <a:pt x="48" y="86"/>
                  </a:lnTo>
                  <a:lnTo>
                    <a:pt x="43" y="85"/>
                  </a:lnTo>
                  <a:lnTo>
                    <a:pt x="37" y="83"/>
                  </a:lnTo>
                  <a:lnTo>
                    <a:pt x="32" y="81"/>
                  </a:lnTo>
                  <a:lnTo>
                    <a:pt x="26" y="77"/>
                  </a:lnTo>
                  <a:lnTo>
                    <a:pt x="21" y="74"/>
                  </a:lnTo>
                  <a:lnTo>
                    <a:pt x="15" y="70"/>
                  </a:lnTo>
                  <a:lnTo>
                    <a:pt x="12" y="66"/>
                  </a:lnTo>
                  <a:lnTo>
                    <a:pt x="7" y="62"/>
                  </a:lnTo>
                  <a:lnTo>
                    <a:pt x="5" y="59"/>
                  </a:lnTo>
                  <a:lnTo>
                    <a:pt x="3" y="55"/>
                  </a:lnTo>
                  <a:lnTo>
                    <a:pt x="1" y="51"/>
                  </a:lnTo>
                  <a:lnTo>
                    <a:pt x="0" y="48"/>
                  </a:lnTo>
                  <a:lnTo>
                    <a:pt x="0" y="44"/>
                  </a:lnTo>
                  <a:lnTo>
                    <a:pt x="0" y="41"/>
                  </a:lnTo>
                  <a:lnTo>
                    <a:pt x="2" y="38"/>
                  </a:lnTo>
                  <a:lnTo>
                    <a:pt x="6" y="36"/>
                  </a:lnTo>
                  <a:lnTo>
                    <a:pt x="11" y="32"/>
                  </a:lnTo>
                  <a:lnTo>
                    <a:pt x="17" y="30"/>
                  </a:lnTo>
                  <a:lnTo>
                    <a:pt x="25" y="28"/>
                  </a:lnTo>
                  <a:lnTo>
                    <a:pt x="34" y="25"/>
                  </a:lnTo>
                  <a:lnTo>
                    <a:pt x="45" y="22"/>
                  </a:lnTo>
                  <a:lnTo>
                    <a:pt x="57" y="20"/>
                  </a:lnTo>
                  <a:lnTo>
                    <a:pt x="72" y="18"/>
                  </a:lnTo>
                  <a:lnTo>
                    <a:pt x="89" y="17"/>
                  </a:lnTo>
                  <a:lnTo>
                    <a:pt x="109" y="15"/>
                  </a:lnTo>
                  <a:lnTo>
                    <a:pt x="131" y="12"/>
                  </a:lnTo>
                  <a:lnTo>
                    <a:pt x="156" y="10"/>
                  </a:lnTo>
                  <a:lnTo>
                    <a:pt x="183" y="9"/>
                  </a:lnTo>
                  <a:lnTo>
                    <a:pt x="213" y="7"/>
                  </a:lnTo>
                  <a:lnTo>
                    <a:pt x="241" y="6"/>
                  </a:lnTo>
                  <a:lnTo>
                    <a:pt x="268" y="4"/>
                  </a:lnTo>
                  <a:lnTo>
                    <a:pt x="292" y="2"/>
                  </a:lnTo>
                  <a:lnTo>
                    <a:pt x="313" y="1"/>
                  </a:lnTo>
                  <a:lnTo>
                    <a:pt x="331" y="1"/>
                  </a:lnTo>
                  <a:lnTo>
                    <a:pt x="346" y="0"/>
                  </a:lnTo>
                  <a:lnTo>
                    <a:pt x="359" y="0"/>
                  </a:lnTo>
                  <a:lnTo>
                    <a:pt x="369" y="0"/>
                  </a:lnTo>
                  <a:lnTo>
                    <a:pt x="374" y="0"/>
                  </a:lnTo>
                  <a:lnTo>
                    <a:pt x="378" y="0"/>
                  </a:lnTo>
                  <a:lnTo>
                    <a:pt x="383" y="1"/>
                  </a:lnTo>
                  <a:lnTo>
                    <a:pt x="387" y="2"/>
                  </a:lnTo>
                  <a:lnTo>
                    <a:pt x="391" y="5"/>
                  </a:lnTo>
                  <a:lnTo>
                    <a:pt x="395" y="6"/>
                  </a:lnTo>
                  <a:lnTo>
                    <a:pt x="399" y="8"/>
                  </a:lnTo>
                  <a:lnTo>
                    <a:pt x="403" y="10"/>
                  </a:lnTo>
                  <a:lnTo>
                    <a:pt x="407" y="13"/>
                  </a:lnTo>
                  <a:lnTo>
                    <a:pt x="409" y="16"/>
                  </a:lnTo>
                  <a:lnTo>
                    <a:pt x="412" y="19"/>
                  </a:lnTo>
                  <a:lnTo>
                    <a:pt x="415" y="21"/>
                  </a:lnTo>
                  <a:lnTo>
                    <a:pt x="416" y="25"/>
                  </a:lnTo>
                  <a:lnTo>
                    <a:pt x="417" y="28"/>
                  </a:lnTo>
                  <a:lnTo>
                    <a:pt x="418" y="31"/>
                  </a:lnTo>
                  <a:lnTo>
                    <a:pt x="418" y="34"/>
                  </a:lnTo>
                  <a:lnTo>
                    <a:pt x="418" y="36"/>
                  </a:lnTo>
                  <a:lnTo>
                    <a:pt x="418" y="37"/>
                  </a:lnTo>
                  <a:lnTo>
                    <a:pt x="418" y="39"/>
                  </a:lnTo>
                  <a:lnTo>
                    <a:pt x="417" y="40"/>
                  </a:lnTo>
                  <a:lnTo>
                    <a:pt x="417" y="42"/>
                  </a:lnTo>
                  <a:lnTo>
                    <a:pt x="416" y="44"/>
                  </a:lnTo>
                  <a:lnTo>
                    <a:pt x="416" y="47"/>
                  </a:lnTo>
                  <a:lnTo>
                    <a:pt x="415" y="49"/>
                  </a:lnTo>
                  <a:lnTo>
                    <a:pt x="414" y="51"/>
                  </a:lnTo>
                  <a:lnTo>
                    <a:pt x="412" y="54"/>
                  </a:lnTo>
                  <a:lnTo>
                    <a:pt x="411" y="57"/>
                  </a:lnTo>
                  <a:lnTo>
                    <a:pt x="410" y="59"/>
                  </a:lnTo>
                  <a:lnTo>
                    <a:pt x="409" y="61"/>
                  </a:lnTo>
                  <a:lnTo>
                    <a:pt x="409" y="63"/>
                  </a:lnTo>
                  <a:lnTo>
                    <a:pt x="408" y="65"/>
                  </a:lnTo>
                  <a:lnTo>
                    <a:pt x="407" y="68"/>
                  </a:lnTo>
                  <a:lnTo>
                    <a:pt x="405" y="69"/>
                  </a:lnTo>
                  <a:lnTo>
                    <a:pt x="403" y="71"/>
                  </a:lnTo>
                  <a:lnTo>
                    <a:pt x="398" y="73"/>
                  </a:lnTo>
                  <a:lnTo>
                    <a:pt x="393" y="74"/>
                  </a:lnTo>
                  <a:lnTo>
                    <a:pt x="386" y="76"/>
                  </a:lnTo>
                  <a:lnTo>
                    <a:pt x="378" y="77"/>
                  </a:lnTo>
                  <a:lnTo>
                    <a:pt x="368" y="79"/>
                  </a:lnTo>
                  <a:lnTo>
                    <a:pt x="358" y="80"/>
                  </a:lnTo>
                  <a:lnTo>
                    <a:pt x="347" y="81"/>
                  </a:lnTo>
                  <a:lnTo>
                    <a:pt x="337" y="82"/>
                  </a:lnTo>
                  <a:lnTo>
                    <a:pt x="327" y="83"/>
                  </a:lnTo>
                  <a:lnTo>
                    <a:pt x="319" y="84"/>
                  </a:lnTo>
                  <a:lnTo>
                    <a:pt x="311" y="84"/>
                  </a:lnTo>
                  <a:lnTo>
                    <a:pt x="303" y="85"/>
                  </a:lnTo>
                  <a:lnTo>
                    <a:pt x="295" y="85"/>
                  </a:lnTo>
                  <a:lnTo>
                    <a:pt x="290" y="85"/>
                  </a:lnTo>
                  <a:lnTo>
                    <a:pt x="287" y="85"/>
                  </a:lnTo>
                  <a:lnTo>
                    <a:pt x="284" y="85"/>
                  </a:lnTo>
                  <a:lnTo>
                    <a:pt x="282" y="85"/>
                  </a:lnTo>
                  <a:lnTo>
                    <a:pt x="280" y="86"/>
                  </a:lnTo>
                  <a:lnTo>
                    <a:pt x="278" y="86"/>
                  </a:lnTo>
                  <a:lnTo>
                    <a:pt x="276" y="87"/>
                  </a:lnTo>
                  <a:lnTo>
                    <a:pt x="274" y="87"/>
                  </a:lnTo>
                  <a:lnTo>
                    <a:pt x="273" y="89"/>
                  </a:lnTo>
                  <a:lnTo>
                    <a:pt x="272" y="90"/>
                  </a:lnTo>
                  <a:lnTo>
                    <a:pt x="271" y="91"/>
                  </a:lnTo>
                  <a:lnTo>
                    <a:pt x="270" y="92"/>
                  </a:lnTo>
                  <a:lnTo>
                    <a:pt x="269" y="94"/>
                  </a:lnTo>
                  <a:lnTo>
                    <a:pt x="268" y="95"/>
                  </a:lnTo>
                  <a:lnTo>
                    <a:pt x="268" y="97"/>
                  </a:lnTo>
                  <a:lnTo>
                    <a:pt x="267" y="100"/>
                  </a:lnTo>
                  <a:lnTo>
                    <a:pt x="267" y="103"/>
                  </a:lnTo>
                  <a:lnTo>
                    <a:pt x="258" y="356"/>
                  </a:lnTo>
                  <a:lnTo>
                    <a:pt x="258" y="44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210200" y="2293920"/>
              <a:ext cx="47520" cy="188280"/>
            </a:xfrm>
            <a:custGeom>
              <a:avLst/>
              <a:gdLst/>
              <a:ahLst/>
              <a:rect l="l" t="t" r="r" b="b"/>
              <a:pathLst>
                <a:path w="118" h="475">
                  <a:moveTo>
                    <a:pt x="116" y="448"/>
                  </a:moveTo>
                  <a:lnTo>
                    <a:pt x="116" y="454"/>
                  </a:lnTo>
                  <a:lnTo>
                    <a:pt x="115" y="459"/>
                  </a:lnTo>
                  <a:lnTo>
                    <a:pt x="113" y="465"/>
                  </a:lnTo>
                  <a:lnTo>
                    <a:pt x="111" y="468"/>
                  </a:lnTo>
                  <a:lnTo>
                    <a:pt x="107" y="471"/>
                  </a:lnTo>
                  <a:lnTo>
                    <a:pt x="104" y="474"/>
                  </a:lnTo>
                  <a:lnTo>
                    <a:pt x="98" y="475"/>
                  </a:lnTo>
                  <a:lnTo>
                    <a:pt x="94" y="475"/>
                  </a:lnTo>
                  <a:lnTo>
                    <a:pt x="89" y="475"/>
                  </a:lnTo>
                  <a:lnTo>
                    <a:pt x="84" y="475"/>
                  </a:lnTo>
                  <a:lnTo>
                    <a:pt x="77" y="474"/>
                  </a:lnTo>
                  <a:lnTo>
                    <a:pt x="71" y="473"/>
                  </a:lnTo>
                  <a:lnTo>
                    <a:pt x="64" y="471"/>
                  </a:lnTo>
                  <a:lnTo>
                    <a:pt x="55" y="470"/>
                  </a:lnTo>
                  <a:lnTo>
                    <a:pt x="48" y="468"/>
                  </a:lnTo>
                  <a:lnTo>
                    <a:pt x="38" y="466"/>
                  </a:lnTo>
                  <a:lnTo>
                    <a:pt x="29" y="464"/>
                  </a:lnTo>
                  <a:lnTo>
                    <a:pt x="21" y="461"/>
                  </a:lnTo>
                  <a:lnTo>
                    <a:pt x="16" y="459"/>
                  </a:lnTo>
                  <a:lnTo>
                    <a:pt x="10" y="456"/>
                  </a:lnTo>
                  <a:lnTo>
                    <a:pt x="6" y="454"/>
                  </a:lnTo>
                  <a:lnTo>
                    <a:pt x="2" y="450"/>
                  </a:lnTo>
                  <a:lnTo>
                    <a:pt x="1" y="448"/>
                  </a:lnTo>
                  <a:lnTo>
                    <a:pt x="0" y="445"/>
                  </a:lnTo>
                  <a:lnTo>
                    <a:pt x="0" y="215"/>
                  </a:lnTo>
                  <a:lnTo>
                    <a:pt x="4" y="50"/>
                  </a:lnTo>
                  <a:lnTo>
                    <a:pt x="5" y="42"/>
                  </a:lnTo>
                  <a:lnTo>
                    <a:pt x="5" y="36"/>
                  </a:lnTo>
                  <a:lnTo>
                    <a:pt x="6" y="29"/>
                  </a:lnTo>
                  <a:lnTo>
                    <a:pt x="7" y="23"/>
                  </a:lnTo>
                  <a:lnTo>
                    <a:pt x="8" y="19"/>
                  </a:lnTo>
                  <a:lnTo>
                    <a:pt x="10" y="15"/>
                  </a:lnTo>
                  <a:lnTo>
                    <a:pt x="12" y="11"/>
                  </a:lnTo>
                  <a:lnTo>
                    <a:pt x="15" y="9"/>
                  </a:lnTo>
                  <a:lnTo>
                    <a:pt x="18" y="7"/>
                  </a:lnTo>
                  <a:lnTo>
                    <a:pt x="20" y="5"/>
                  </a:lnTo>
                  <a:lnTo>
                    <a:pt x="23" y="4"/>
                  </a:lnTo>
                  <a:lnTo>
                    <a:pt x="27" y="2"/>
                  </a:lnTo>
                  <a:lnTo>
                    <a:pt x="30" y="1"/>
                  </a:lnTo>
                  <a:lnTo>
                    <a:pt x="33" y="0"/>
                  </a:lnTo>
                  <a:lnTo>
                    <a:pt x="37" y="0"/>
                  </a:lnTo>
                  <a:lnTo>
                    <a:pt x="41" y="0"/>
                  </a:lnTo>
                  <a:lnTo>
                    <a:pt x="45" y="0"/>
                  </a:lnTo>
                  <a:lnTo>
                    <a:pt x="51" y="0"/>
                  </a:lnTo>
                  <a:lnTo>
                    <a:pt x="55" y="0"/>
                  </a:lnTo>
                  <a:lnTo>
                    <a:pt x="62" y="1"/>
                  </a:lnTo>
                  <a:lnTo>
                    <a:pt x="68" y="2"/>
                  </a:lnTo>
                  <a:lnTo>
                    <a:pt x="74" y="4"/>
                  </a:lnTo>
                  <a:lnTo>
                    <a:pt x="81" y="5"/>
                  </a:lnTo>
                  <a:lnTo>
                    <a:pt x="89" y="7"/>
                  </a:lnTo>
                  <a:lnTo>
                    <a:pt x="95" y="8"/>
                  </a:lnTo>
                  <a:lnTo>
                    <a:pt x="102" y="10"/>
                  </a:lnTo>
                  <a:lnTo>
                    <a:pt x="107" y="11"/>
                  </a:lnTo>
                  <a:lnTo>
                    <a:pt x="112" y="13"/>
                  </a:lnTo>
                  <a:lnTo>
                    <a:pt x="114" y="16"/>
                  </a:lnTo>
                  <a:lnTo>
                    <a:pt x="117" y="18"/>
                  </a:lnTo>
                  <a:lnTo>
                    <a:pt x="118" y="20"/>
                  </a:lnTo>
                  <a:lnTo>
                    <a:pt x="118" y="23"/>
                  </a:lnTo>
                  <a:lnTo>
                    <a:pt x="116" y="120"/>
                  </a:lnTo>
                  <a:lnTo>
                    <a:pt x="116" y="44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287960" y="2295360"/>
              <a:ext cx="172800" cy="188640"/>
            </a:xfrm>
            <a:custGeom>
              <a:avLst/>
              <a:gdLst/>
              <a:ahLst/>
              <a:rect l="l" t="t" r="r" b="b"/>
              <a:pathLst>
                <a:path w="440" h="474">
                  <a:moveTo>
                    <a:pt x="234" y="474"/>
                  </a:moveTo>
                  <a:lnTo>
                    <a:pt x="216" y="473"/>
                  </a:lnTo>
                  <a:lnTo>
                    <a:pt x="196" y="471"/>
                  </a:lnTo>
                  <a:lnTo>
                    <a:pt x="177" y="466"/>
                  </a:lnTo>
                  <a:lnTo>
                    <a:pt x="157" y="461"/>
                  </a:lnTo>
                  <a:lnTo>
                    <a:pt x="137" y="454"/>
                  </a:lnTo>
                  <a:lnTo>
                    <a:pt x="119" y="445"/>
                  </a:lnTo>
                  <a:lnTo>
                    <a:pt x="99" y="434"/>
                  </a:lnTo>
                  <a:lnTo>
                    <a:pt x="79" y="422"/>
                  </a:lnTo>
                  <a:lnTo>
                    <a:pt x="70" y="416"/>
                  </a:lnTo>
                  <a:lnTo>
                    <a:pt x="61" y="409"/>
                  </a:lnTo>
                  <a:lnTo>
                    <a:pt x="52" y="401"/>
                  </a:lnTo>
                  <a:lnTo>
                    <a:pt x="45" y="392"/>
                  </a:lnTo>
                  <a:lnTo>
                    <a:pt x="38" y="384"/>
                  </a:lnTo>
                  <a:lnTo>
                    <a:pt x="31" y="375"/>
                  </a:lnTo>
                  <a:lnTo>
                    <a:pt x="26" y="365"/>
                  </a:lnTo>
                  <a:lnTo>
                    <a:pt x="20" y="355"/>
                  </a:lnTo>
                  <a:lnTo>
                    <a:pt x="16" y="344"/>
                  </a:lnTo>
                  <a:lnTo>
                    <a:pt x="11" y="333"/>
                  </a:lnTo>
                  <a:lnTo>
                    <a:pt x="8" y="322"/>
                  </a:lnTo>
                  <a:lnTo>
                    <a:pt x="6" y="310"/>
                  </a:lnTo>
                  <a:lnTo>
                    <a:pt x="4" y="296"/>
                  </a:lnTo>
                  <a:lnTo>
                    <a:pt x="2" y="283"/>
                  </a:lnTo>
                  <a:lnTo>
                    <a:pt x="0" y="270"/>
                  </a:lnTo>
                  <a:lnTo>
                    <a:pt x="0" y="256"/>
                  </a:lnTo>
                  <a:lnTo>
                    <a:pt x="2" y="231"/>
                  </a:lnTo>
                  <a:lnTo>
                    <a:pt x="5" y="208"/>
                  </a:lnTo>
                  <a:lnTo>
                    <a:pt x="9" y="186"/>
                  </a:lnTo>
                  <a:lnTo>
                    <a:pt x="17" y="163"/>
                  </a:lnTo>
                  <a:lnTo>
                    <a:pt x="26" y="142"/>
                  </a:lnTo>
                  <a:lnTo>
                    <a:pt x="37" y="120"/>
                  </a:lnTo>
                  <a:lnTo>
                    <a:pt x="50" y="99"/>
                  </a:lnTo>
                  <a:lnTo>
                    <a:pt x="64" y="79"/>
                  </a:lnTo>
                  <a:lnTo>
                    <a:pt x="81" y="60"/>
                  </a:lnTo>
                  <a:lnTo>
                    <a:pt x="98" y="44"/>
                  </a:lnTo>
                  <a:lnTo>
                    <a:pt x="113" y="31"/>
                  </a:lnTo>
                  <a:lnTo>
                    <a:pt x="130" y="19"/>
                  </a:lnTo>
                  <a:lnTo>
                    <a:pt x="137" y="14"/>
                  </a:lnTo>
                  <a:lnTo>
                    <a:pt x="146" y="11"/>
                  </a:lnTo>
                  <a:lnTo>
                    <a:pt x="154" y="7"/>
                  </a:lnTo>
                  <a:lnTo>
                    <a:pt x="162" y="4"/>
                  </a:lnTo>
                  <a:lnTo>
                    <a:pt x="170" y="2"/>
                  </a:lnTo>
                  <a:lnTo>
                    <a:pt x="178" y="1"/>
                  </a:lnTo>
                  <a:lnTo>
                    <a:pt x="187" y="0"/>
                  </a:lnTo>
                  <a:lnTo>
                    <a:pt x="195" y="0"/>
                  </a:lnTo>
                  <a:lnTo>
                    <a:pt x="197" y="0"/>
                  </a:lnTo>
                  <a:lnTo>
                    <a:pt x="200" y="0"/>
                  </a:lnTo>
                  <a:lnTo>
                    <a:pt x="202" y="0"/>
                  </a:lnTo>
                  <a:lnTo>
                    <a:pt x="205" y="0"/>
                  </a:lnTo>
                  <a:lnTo>
                    <a:pt x="207" y="0"/>
                  </a:lnTo>
                  <a:lnTo>
                    <a:pt x="208" y="0"/>
                  </a:lnTo>
                  <a:lnTo>
                    <a:pt x="210" y="0"/>
                  </a:lnTo>
                  <a:lnTo>
                    <a:pt x="212" y="1"/>
                  </a:lnTo>
                  <a:lnTo>
                    <a:pt x="213" y="1"/>
                  </a:lnTo>
                  <a:lnTo>
                    <a:pt x="216" y="2"/>
                  </a:lnTo>
                  <a:lnTo>
                    <a:pt x="219" y="2"/>
                  </a:lnTo>
                  <a:lnTo>
                    <a:pt x="222" y="3"/>
                  </a:lnTo>
                  <a:lnTo>
                    <a:pt x="227" y="4"/>
                  </a:lnTo>
                  <a:lnTo>
                    <a:pt x="231" y="5"/>
                  </a:lnTo>
                  <a:lnTo>
                    <a:pt x="236" y="7"/>
                  </a:lnTo>
                  <a:lnTo>
                    <a:pt x="241" y="8"/>
                  </a:lnTo>
                  <a:lnTo>
                    <a:pt x="248" y="11"/>
                  </a:lnTo>
                  <a:lnTo>
                    <a:pt x="253" y="12"/>
                  </a:lnTo>
                  <a:lnTo>
                    <a:pt x="259" y="14"/>
                  </a:lnTo>
                  <a:lnTo>
                    <a:pt x="264" y="15"/>
                  </a:lnTo>
                  <a:lnTo>
                    <a:pt x="270" y="16"/>
                  </a:lnTo>
                  <a:lnTo>
                    <a:pt x="275" y="16"/>
                  </a:lnTo>
                  <a:lnTo>
                    <a:pt x="281" y="17"/>
                  </a:lnTo>
                  <a:lnTo>
                    <a:pt x="286" y="17"/>
                  </a:lnTo>
                  <a:lnTo>
                    <a:pt x="292" y="18"/>
                  </a:lnTo>
                  <a:lnTo>
                    <a:pt x="297" y="18"/>
                  </a:lnTo>
                  <a:lnTo>
                    <a:pt x="302" y="19"/>
                  </a:lnTo>
                  <a:lnTo>
                    <a:pt x="306" y="21"/>
                  </a:lnTo>
                  <a:lnTo>
                    <a:pt x="311" y="21"/>
                  </a:lnTo>
                  <a:lnTo>
                    <a:pt x="315" y="22"/>
                  </a:lnTo>
                  <a:lnTo>
                    <a:pt x="318" y="23"/>
                  </a:lnTo>
                  <a:lnTo>
                    <a:pt x="323" y="24"/>
                  </a:lnTo>
                  <a:lnTo>
                    <a:pt x="326" y="26"/>
                  </a:lnTo>
                  <a:lnTo>
                    <a:pt x="330" y="27"/>
                  </a:lnTo>
                  <a:lnTo>
                    <a:pt x="335" y="31"/>
                  </a:lnTo>
                  <a:lnTo>
                    <a:pt x="339" y="33"/>
                  </a:lnTo>
                  <a:lnTo>
                    <a:pt x="346" y="36"/>
                  </a:lnTo>
                  <a:lnTo>
                    <a:pt x="351" y="40"/>
                  </a:lnTo>
                  <a:lnTo>
                    <a:pt x="358" y="45"/>
                  </a:lnTo>
                  <a:lnTo>
                    <a:pt x="365" y="49"/>
                  </a:lnTo>
                  <a:lnTo>
                    <a:pt x="372" y="55"/>
                  </a:lnTo>
                  <a:lnTo>
                    <a:pt x="379" y="61"/>
                  </a:lnTo>
                  <a:lnTo>
                    <a:pt x="386" y="68"/>
                  </a:lnTo>
                  <a:lnTo>
                    <a:pt x="392" y="76"/>
                  </a:lnTo>
                  <a:lnTo>
                    <a:pt x="399" y="85"/>
                  </a:lnTo>
                  <a:lnTo>
                    <a:pt x="404" y="95"/>
                  </a:lnTo>
                  <a:lnTo>
                    <a:pt x="411" y="106"/>
                  </a:lnTo>
                  <a:lnTo>
                    <a:pt x="417" y="118"/>
                  </a:lnTo>
                  <a:lnTo>
                    <a:pt x="422" y="130"/>
                  </a:lnTo>
                  <a:lnTo>
                    <a:pt x="427" y="142"/>
                  </a:lnTo>
                  <a:lnTo>
                    <a:pt x="431" y="154"/>
                  </a:lnTo>
                  <a:lnTo>
                    <a:pt x="434" y="167"/>
                  </a:lnTo>
                  <a:lnTo>
                    <a:pt x="436" y="181"/>
                  </a:lnTo>
                  <a:lnTo>
                    <a:pt x="439" y="194"/>
                  </a:lnTo>
                  <a:lnTo>
                    <a:pt x="440" y="207"/>
                  </a:lnTo>
                  <a:lnTo>
                    <a:pt x="440" y="221"/>
                  </a:lnTo>
                  <a:lnTo>
                    <a:pt x="439" y="242"/>
                  </a:lnTo>
                  <a:lnTo>
                    <a:pt x="436" y="263"/>
                  </a:lnTo>
                  <a:lnTo>
                    <a:pt x="431" y="284"/>
                  </a:lnTo>
                  <a:lnTo>
                    <a:pt x="425" y="305"/>
                  </a:lnTo>
                  <a:lnTo>
                    <a:pt x="417" y="327"/>
                  </a:lnTo>
                  <a:lnTo>
                    <a:pt x="407" y="348"/>
                  </a:lnTo>
                  <a:lnTo>
                    <a:pt x="395" y="369"/>
                  </a:lnTo>
                  <a:lnTo>
                    <a:pt x="380" y="390"/>
                  </a:lnTo>
                  <a:lnTo>
                    <a:pt x="374" y="400"/>
                  </a:lnTo>
                  <a:lnTo>
                    <a:pt x="366" y="410"/>
                  </a:lnTo>
                  <a:lnTo>
                    <a:pt x="357" y="419"/>
                  </a:lnTo>
                  <a:lnTo>
                    <a:pt x="349" y="427"/>
                  </a:lnTo>
                  <a:lnTo>
                    <a:pt x="340" y="434"/>
                  </a:lnTo>
                  <a:lnTo>
                    <a:pt x="333" y="441"/>
                  </a:lnTo>
                  <a:lnTo>
                    <a:pt x="324" y="448"/>
                  </a:lnTo>
                  <a:lnTo>
                    <a:pt x="314" y="453"/>
                  </a:lnTo>
                  <a:lnTo>
                    <a:pt x="305" y="458"/>
                  </a:lnTo>
                  <a:lnTo>
                    <a:pt x="296" y="462"/>
                  </a:lnTo>
                  <a:lnTo>
                    <a:pt x="286" y="465"/>
                  </a:lnTo>
                  <a:lnTo>
                    <a:pt x="276" y="469"/>
                  </a:lnTo>
                  <a:lnTo>
                    <a:pt x="266" y="471"/>
                  </a:lnTo>
                  <a:lnTo>
                    <a:pt x="255" y="473"/>
                  </a:lnTo>
                  <a:lnTo>
                    <a:pt x="245" y="473"/>
                  </a:lnTo>
                  <a:lnTo>
                    <a:pt x="234" y="474"/>
                  </a:lnTo>
                  <a:close/>
                  <a:moveTo>
                    <a:pt x="234" y="50"/>
                  </a:moveTo>
                  <a:lnTo>
                    <a:pt x="229" y="51"/>
                  </a:lnTo>
                  <a:lnTo>
                    <a:pt x="225" y="51"/>
                  </a:lnTo>
                  <a:lnTo>
                    <a:pt x="219" y="54"/>
                  </a:lnTo>
                  <a:lnTo>
                    <a:pt x="213" y="56"/>
                  </a:lnTo>
                  <a:lnTo>
                    <a:pt x="204" y="61"/>
                  </a:lnTo>
                  <a:lnTo>
                    <a:pt x="194" y="70"/>
                  </a:lnTo>
                  <a:lnTo>
                    <a:pt x="184" y="80"/>
                  </a:lnTo>
                  <a:lnTo>
                    <a:pt x="174" y="93"/>
                  </a:lnTo>
                  <a:lnTo>
                    <a:pt x="164" y="109"/>
                  </a:lnTo>
                  <a:lnTo>
                    <a:pt x="154" y="127"/>
                  </a:lnTo>
                  <a:lnTo>
                    <a:pt x="145" y="145"/>
                  </a:lnTo>
                  <a:lnTo>
                    <a:pt x="137" y="164"/>
                  </a:lnTo>
                  <a:lnTo>
                    <a:pt x="131" y="182"/>
                  </a:lnTo>
                  <a:lnTo>
                    <a:pt x="125" y="199"/>
                  </a:lnTo>
                  <a:lnTo>
                    <a:pt x="121" y="216"/>
                  </a:lnTo>
                  <a:lnTo>
                    <a:pt x="117" y="234"/>
                  </a:lnTo>
                  <a:lnTo>
                    <a:pt x="116" y="250"/>
                  </a:lnTo>
                  <a:lnTo>
                    <a:pt x="115" y="266"/>
                  </a:lnTo>
                  <a:lnTo>
                    <a:pt x="115" y="281"/>
                  </a:lnTo>
                  <a:lnTo>
                    <a:pt x="116" y="296"/>
                  </a:lnTo>
                  <a:lnTo>
                    <a:pt x="119" y="311"/>
                  </a:lnTo>
                  <a:lnTo>
                    <a:pt x="121" y="324"/>
                  </a:lnTo>
                  <a:lnTo>
                    <a:pt x="124" y="337"/>
                  </a:lnTo>
                  <a:lnTo>
                    <a:pt x="127" y="351"/>
                  </a:lnTo>
                  <a:lnTo>
                    <a:pt x="132" y="363"/>
                  </a:lnTo>
                  <a:lnTo>
                    <a:pt x="137" y="374"/>
                  </a:lnTo>
                  <a:lnTo>
                    <a:pt x="143" y="385"/>
                  </a:lnTo>
                  <a:lnTo>
                    <a:pt x="149" y="394"/>
                  </a:lnTo>
                  <a:lnTo>
                    <a:pt x="155" y="401"/>
                  </a:lnTo>
                  <a:lnTo>
                    <a:pt x="162" y="408"/>
                  </a:lnTo>
                  <a:lnTo>
                    <a:pt x="169" y="412"/>
                  </a:lnTo>
                  <a:lnTo>
                    <a:pt x="176" y="416"/>
                  </a:lnTo>
                  <a:lnTo>
                    <a:pt x="184" y="418"/>
                  </a:lnTo>
                  <a:lnTo>
                    <a:pt x="192" y="419"/>
                  </a:lnTo>
                  <a:lnTo>
                    <a:pt x="198" y="419"/>
                  </a:lnTo>
                  <a:lnTo>
                    <a:pt x="205" y="418"/>
                  </a:lnTo>
                  <a:lnTo>
                    <a:pt x="211" y="417"/>
                  </a:lnTo>
                  <a:lnTo>
                    <a:pt x="218" y="415"/>
                  </a:lnTo>
                  <a:lnTo>
                    <a:pt x="223" y="411"/>
                  </a:lnTo>
                  <a:lnTo>
                    <a:pt x="229" y="408"/>
                  </a:lnTo>
                  <a:lnTo>
                    <a:pt x="234" y="405"/>
                  </a:lnTo>
                  <a:lnTo>
                    <a:pt x="240" y="400"/>
                  </a:lnTo>
                  <a:lnTo>
                    <a:pt x="251" y="389"/>
                  </a:lnTo>
                  <a:lnTo>
                    <a:pt x="261" y="376"/>
                  </a:lnTo>
                  <a:lnTo>
                    <a:pt x="270" y="360"/>
                  </a:lnTo>
                  <a:lnTo>
                    <a:pt x="278" y="342"/>
                  </a:lnTo>
                  <a:lnTo>
                    <a:pt x="285" y="323"/>
                  </a:lnTo>
                  <a:lnTo>
                    <a:pt x="292" y="305"/>
                  </a:lnTo>
                  <a:lnTo>
                    <a:pt x="297" y="287"/>
                  </a:lnTo>
                  <a:lnTo>
                    <a:pt x="302" y="270"/>
                  </a:lnTo>
                  <a:lnTo>
                    <a:pt x="306" y="253"/>
                  </a:lnTo>
                  <a:lnTo>
                    <a:pt x="308" y="237"/>
                  </a:lnTo>
                  <a:lnTo>
                    <a:pt x="310" y="221"/>
                  </a:lnTo>
                  <a:lnTo>
                    <a:pt x="311" y="207"/>
                  </a:lnTo>
                  <a:lnTo>
                    <a:pt x="310" y="194"/>
                  </a:lnTo>
                  <a:lnTo>
                    <a:pt x="310" y="182"/>
                  </a:lnTo>
                  <a:lnTo>
                    <a:pt x="308" y="168"/>
                  </a:lnTo>
                  <a:lnTo>
                    <a:pt x="306" y="155"/>
                  </a:lnTo>
                  <a:lnTo>
                    <a:pt x="304" y="142"/>
                  </a:lnTo>
                  <a:lnTo>
                    <a:pt x="301" y="129"/>
                  </a:lnTo>
                  <a:lnTo>
                    <a:pt x="297" y="117"/>
                  </a:lnTo>
                  <a:lnTo>
                    <a:pt x="293" y="103"/>
                  </a:lnTo>
                  <a:lnTo>
                    <a:pt x="289" y="91"/>
                  </a:lnTo>
                  <a:lnTo>
                    <a:pt x="283" y="80"/>
                  </a:lnTo>
                  <a:lnTo>
                    <a:pt x="276" y="71"/>
                  </a:lnTo>
                  <a:lnTo>
                    <a:pt x="270" y="64"/>
                  </a:lnTo>
                  <a:lnTo>
                    <a:pt x="262" y="58"/>
                  </a:lnTo>
                  <a:lnTo>
                    <a:pt x="253" y="54"/>
                  </a:lnTo>
                  <a:lnTo>
                    <a:pt x="244" y="51"/>
                  </a:lnTo>
                  <a:lnTo>
                    <a:pt x="234" y="5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491000" y="2293920"/>
              <a:ext cx="152280" cy="198000"/>
            </a:xfrm>
            <a:custGeom>
              <a:avLst/>
              <a:gdLst/>
              <a:ahLst/>
              <a:rect l="l" t="t" r="r" b="b"/>
              <a:pathLst>
                <a:path w="382" h="500">
                  <a:moveTo>
                    <a:pt x="274" y="274"/>
                  </a:moveTo>
                  <a:lnTo>
                    <a:pt x="280" y="28"/>
                  </a:lnTo>
                  <a:lnTo>
                    <a:pt x="281" y="21"/>
                  </a:lnTo>
                  <a:lnTo>
                    <a:pt x="282" y="16"/>
                  </a:lnTo>
                  <a:lnTo>
                    <a:pt x="285" y="11"/>
                  </a:lnTo>
                  <a:lnTo>
                    <a:pt x="287" y="7"/>
                  </a:lnTo>
                  <a:lnTo>
                    <a:pt x="291" y="3"/>
                  </a:lnTo>
                  <a:lnTo>
                    <a:pt x="296" y="2"/>
                  </a:lnTo>
                  <a:lnTo>
                    <a:pt x="301" y="0"/>
                  </a:lnTo>
                  <a:lnTo>
                    <a:pt x="308" y="0"/>
                  </a:lnTo>
                  <a:lnTo>
                    <a:pt x="317" y="0"/>
                  </a:lnTo>
                  <a:lnTo>
                    <a:pt x="326" y="0"/>
                  </a:lnTo>
                  <a:lnTo>
                    <a:pt x="333" y="1"/>
                  </a:lnTo>
                  <a:lnTo>
                    <a:pt x="340" y="2"/>
                  </a:lnTo>
                  <a:lnTo>
                    <a:pt x="347" y="2"/>
                  </a:lnTo>
                  <a:lnTo>
                    <a:pt x="352" y="3"/>
                  </a:lnTo>
                  <a:lnTo>
                    <a:pt x="356" y="6"/>
                  </a:lnTo>
                  <a:lnTo>
                    <a:pt x="361" y="7"/>
                  </a:lnTo>
                  <a:lnTo>
                    <a:pt x="365" y="9"/>
                  </a:lnTo>
                  <a:lnTo>
                    <a:pt x="369" y="10"/>
                  </a:lnTo>
                  <a:lnTo>
                    <a:pt x="371" y="12"/>
                  </a:lnTo>
                  <a:lnTo>
                    <a:pt x="373" y="14"/>
                  </a:lnTo>
                  <a:lnTo>
                    <a:pt x="375" y="16"/>
                  </a:lnTo>
                  <a:lnTo>
                    <a:pt x="377" y="18"/>
                  </a:lnTo>
                  <a:lnTo>
                    <a:pt x="379" y="20"/>
                  </a:lnTo>
                  <a:lnTo>
                    <a:pt x="380" y="21"/>
                  </a:lnTo>
                  <a:lnTo>
                    <a:pt x="381" y="23"/>
                  </a:lnTo>
                  <a:lnTo>
                    <a:pt x="381" y="27"/>
                  </a:lnTo>
                  <a:lnTo>
                    <a:pt x="381" y="29"/>
                  </a:lnTo>
                  <a:lnTo>
                    <a:pt x="382" y="33"/>
                  </a:lnTo>
                  <a:lnTo>
                    <a:pt x="382" y="37"/>
                  </a:lnTo>
                  <a:lnTo>
                    <a:pt x="382" y="41"/>
                  </a:lnTo>
                  <a:lnTo>
                    <a:pt x="382" y="46"/>
                  </a:lnTo>
                  <a:lnTo>
                    <a:pt x="382" y="52"/>
                  </a:lnTo>
                  <a:lnTo>
                    <a:pt x="382" y="366"/>
                  </a:lnTo>
                  <a:lnTo>
                    <a:pt x="382" y="430"/>
                  </a:lnTo>
                  <a:lnTo>
                    <a:pt x="382" y="436"/>
                  </a:lnTo>
                  <a:lnTo>
                    <a:pt x="382" y="442"/>
                  </a:lnTo>
                  <a:lnTo>
                    <a:pt x="382" y="446"/>
                  </a:lnTo>
                  <a:lnTo>
                    <a:pt x="381" y="449"/>
                  </a:lnTo>
                  <a:lnTo>
                    <a:pt x="380" y="453"/>
                  </a:lnTo>
                  <a:lnTo>
                    <a:pt x="379" y="456"/>
                  </a:lnTo>
                  <a:lnTo>
                    <a:pt x="377" y="458"/>
                  </a:lnTo>
                  <a:lnTo>
                    <a:pt x="376" y="459"/>
                  </a:lnTo>
                  <a:lnTo>
                    <a:pt x="374" y="461"/>
                  </a:lnTo>
                  <a:lnTo>
                    <a:pt x="372" y="462"/>
                  </a:lnTo>
                  <a:lnTo>
                    <a:pt x="369" y="464"/>
                  </a:lnTo>
                  <a:lnTo>
                    <a:pt x="364" y="464"/>
                  </a:lnTo>
                  <a:lnTo>
                    <a:pt x="360" y="465"/>
                  </a:lnTo>
                  <a:lnTo>
                    <a:pt x="354" y="465"/>
                  </a:lnTo>
                  <a:lnTo>
                    <a:pt x="349" y="466"/>
                  </a:lnTo>
                  <a:lnTo>
                    <a:pt x="342" y="466"/>
                  </a:lnTo>
                  <a:lnTo>
                    <a:pt x="307" y="465"/>
                  </a:lnTo>
                  <a:lnTo>
                    <a:pt x="302" y="465"/>
                  </a:lnTo>
                  <a:lnTo>
                    <a:pt x="298" y="464"/>
                  </a:lnTo>
                  <a:lnTo>
                    <a:pt x="294" y="464"/>
                  </a:lnTo>
                  <a:lnTo>
                    <a:pt x="290" y="461"/>
                  </a:lnTo>
                  <a:lnTo>
                    <a:pt x="286" y="460"/>
                  </a:lnTo>
                  <a:lnTo>
                    <a:pt x="281" y="458"/>
                  </a:lnTo>
                  <a:lnTo>
                    <a:pt x="278" y="456"/>
                  </a:lnTo>
                  <a:lnTo>
                    <a:pt x="275" y="454"/>
                  </a:lnTo>
                  <a:lnTo>
                    <a:pt x="270" y="450"/>
                  </a:lnTo>
                  <a:lnTo>
                    <a:pt x="266" y="446"/>
                  </a:lnTo>
                  <a:lnTo>
                    <a:pt x="262" y="440"/>
                  </a:lnTo>
                  <a:lnTo>
                    <a:pt x="256" y="435"/>
                  </a:lnTo>
                  <a:lnTo>
                    <a:pt x="249" y="428"/>
                  </a:lnTo>
                  <a:lnTo>
                    <a:pt x="243" y="421"/>
                  </a:lnTo>
                  <a:lnTo>
                    <a:pt x="235" y="412"/>
                  </a:lnTo>
                  <a:lnTo>
                    <a:pt x="227" y="402"/>
                  </a:lnTo>
                  <a:lnTo>
                    <a:pt x="220" y="392"/>
                  </a:lnTo>
                  <a:lnTo>
                    <a:pt x="211" y="382"/>
                  </a:lnTo>
                  <a:lnTo>
                    <a:pt x="202" y="371"/>
                  </a:lnTo>
                  <a:lnTo>
                    <a:pt x="193" y="359"/>
                  </a:lnTo>
                  <a:lnTo>
                    <a:pt x="183" y="348"/>
                  </a:lnTo>
                  <a:lnTo>
                    <a:pt x="174" y="334"/>
                  </a:lnTo>
                  <a:lnTo>
                    <a:pt x="164" y="322"/>
                  </a:lnTo>
                  <a:lnTo>
                    <a:pt x="154" y="309"/>
                  </a:lnTo>
                  <a:lnTo>
                    <a:pt x="146" y="296"/>
                  </a:lnTo>
                  <a:lnTo>
                    <a:pt x="137" y="285"/>
                  </a:lnTo>
                  <a:lnTo>
                    <a:pt x="129" y="274"/>
                  </a:lnTo>
                  <a:lnTo>
                    <a:pt x="124" y="265"/>
                  </a:lnTo>
                  <a:lnTo>
                    <a:pt x="118" y="257"/>
                  </a:lnTo>
                  <a:lnTo>
                    <a:pt x="112" y="251"/>
                  </a:lnTo>
                  <a:lnTo>
                    <a:pt x="109" y="245"/>
                  </a:lnTo>
                  <a:lnTo>
                    <a:pt x="107" y="241"/>
                  </a:lnTo>
                  <a:lnTo>
                    <a:pt x="107" y="278"/>
                  </a:lnTo>
                  <a:lnTo>
                    <a:pt x="107" y="358"/>
                  </a:lnTo>
                  <a:lnTo>
                    <a:pt x="107" y="466"/>
                  </a:lnTo>
                  <a:lnTo>
                    <a:pt x="107" y="468"/>
                  </a:lnTo>
                  <a:lnTo>
                    <a:pt x="107" y="469"/>
                  </a:lnTo>
                  <a:lnTo>
                    <a:pt x="107" y="470"/>
                  </a:lnTo>
                  <a:lnTo>
                    <a:pt x="107" y="471"/>
                  </a:lnTo>
                  <a:lnTo>
                    <a:pt x="107" y="474"/>
                  </a:lnTo>
                  <a:lnTo>
                    <a:pt x="107" y="475"/>
                  </a:lnTo>
                  <a:lnTo>
                    <a:pt x="107" y="476"/>
                  </a:lnTo>
                  <a:lnTo>
                    <a:pt x="107" y="477"/>
                  </a:lnTo>
                  <a:lnTo>
                    <a:pt x="107" y="479"/>
                  </a:lnTo>
                  <a:lnTo>
                    <a:pt x="107" y="481"/>
                  </a:lnTo>
                  <a:lnTo>
                    <a:pt x="106" y="483"/>
                  </a:lnTo>
                  <a:lnTo>
                    <a:pt x="106" y="486"/>
                  </a:lnTo>
                  <a:lnTo>
                    <a:pt x="105" y="488"/>
                  </a:lnTo>
                  <a:lnTo>
                    <a:pt x="104" y="489"/>
                  </a:lnTo>
                  <a:lnTo>
                    <a:pt x="103" y="491"/>
                  </a:lnTo>
                  <a:lnTo>
                    <a:pt x="101" y="493"/>
                  </a:lnTo>
                  <a:lnTo>
                    <a:pt x="99" y="494"/>
                  </a:lnTo>
                  <a:lnTo>
                    <a:pt x="98" y="496"/>
                  </a:lnTo>
                  <a:lnTo>
                    <a:pt x="96" y="498"/>
                  </a:lnTo>
                  <a:lnTo>
                    <a:pt x="93" y="498"/>
                  </a:lnTo>
                  <a:lnTo>
                    <a:pt x="89" y="499"/>
                  </a:lnTo>
                  <a:lnTo>
                    <a:pt x="86" y="500"/>
                  </a:lnTo>
                  <a:lnTo>
                    <a:pt x="83" y="500"/>
                  </a:lnTo>
                  <a:lnTo>
                    <a:pt x="78" y="500"/>
                  </a:lnTo>
                  <a:lnTo>
                    <a:pt x="75" y="500"/>
                  </a:lnTo>
                  <a:lnTo>
                    <a:pt x="72" y="500"/>
                  </a:lnTo>
                  <a:lnTo>
                    <a:pt x="67" y="500"/>
                  </a:lnTo>
                  <a:lnTo>
                    <a:pt x="64" y="499"/>
                  </a:lnTo>
                  <a:lnTo>
                    <a:pt x="59" y="499"/>
                  </a:lnTo>
                  <a:lnTo>
                    <a:pt x="55" y="498"/>
                  </a:lnTo>
                  <a:lnTo>
                    <a:pt x="52" y="498"/>
                  </a:lnTo>
                  <a:lnTo>
                    <a:pt x="47" y="497"/>
                  </a:lnTo>
                  <a:lnTo>
                    <a:pt x="43" y="496"/>
                  </a:lnTo>
                  <a:lnTo>
                    <a:pt x="39" y="494"/>
                  </a:lnTo>
                  <a:lnTo>
                    <a:pt x="35" y="493"/>
                  </a:lnTo>
                  <a:lnTo>
                    <a:pt x="32" y="492"/>
                  </a:lnTo>
                  <a:lnTo>
                    <a:pt x="27" y="492"/>
                  </a:lnTo>
                  <a:lnTo>
                    <a:pt x="24" y="491"/>
                  </a:lnTo>
                  <a:lnTo>
                    <a:pt x="21" y="489"/>
                  </a:lnTo>
                  <a:lnTo>
                    <a:pt x="19" y="488"/>
                  </a:lnTo>
                  <a:lnTo>
                    <a:pt x="15" y="487"/>
                  </a:lnTo>
                  <a:lnTo>
                    <a:pt x="13" y="486"/>
                  </a:lnTo>
                  <a:lnTo>
                    <a:pt x="11" y="483"/>
                  </a:lnTo>
                  <a:lnTo>
                    <a:pt x="9" y="480"/>
                  </a:lnTo>
                  <a:lnTo>
                    <a:pt x="6" y="478"/>
                  </a:lnTo>
                  <a:lnTo>
                    <a:pt x="5" y="475"/>
                  </a:lnTo>
                  <a:lnTo>
                    <a:pt x="4" y="470"/>
                  </a:lnTo>
                  <a:lnTo>
                    <a:pt x="3" y="467"/>
                  </a:lnTo>
                  <a:lnTo>
                    <a:pt x="2" y="462"/>
                  </a:lnTo>
                  <a:lnTo>
                    <a:pt x="1" y="458"/>
                  </a:lnTo>
                  <a:lnTo>
                    <a:pt x="1" y="454"/>
                  </a:lnTo>
                  <a:lnTo>
                    <a:pt x="0" y="449"/>
                  </a:lnTo>
                  <a:lnTo>
                    <a:pt x="0" y="444"/>
                  </a:lnTo>
                  <a:lnTo>
                    <a:pt x="0" y="439"/>
                  </a:lnTo>
                  <a:lnTo>
                    <a:pt x="0" y="435"/>
                  </a:lnTo>
                  <a:lnTo>
                    <a:pt x="0" y="429"/>
                  </a:lnTo>
                  <a:lnTo>
                    <a:pt x="0" y="423"/>
                  </a:lnTo>
                  <a:lnTo>
                    <a:pt x="0" y="417"/>
                  </a:lnTo>
                  <a:lnTo>
                    <a:pt x="0" y="411"/>
                  </a:lnTo>
                  <a:lnTo>
                    <a:pt x="0" y="404"/>
                  </a:lnTo>
                  <a:lnTo>
                    <a:pt x="0" y="397"/>
                  </a:lnTo>
                  <a:lnTo>
                    <a:pt x="0" y="390"/>
                  </a:lnTo>
                  <a:lnTo>
                    <a:pt x="0" y="382"/>
                  </a:lnTo>
                  <a:lnTo>
                    <a:pt x="0" y="374"/>
                  </a:lnTo>
                  <a:lnTo>
                    <a:pt x="0" y="365"/>
                  </a:lnTo>
                  <a:lnTo>
                    <a:pt x="0" y="357"/>
                  </a:lnTo>
                  <a:lnTo>
                    <a:pt x="0" y="348"/>
                  </a:lnTo>
                  <a:lnTo>
                    <a:pt x="0" y="338"/>
                  </a:lnTo>
                  <a:lnTo>
                    <a:pt x="0" y="328"/>
                  </a:lnTo>
                  <a:lnTo>
                    <a:pt x="0" y="318"/>
                  </a:lnTo>
                  <a:lnTo>
                    <a:pt x="0" y="307"/>
                  </a:lnTo>
                  <a:lnTo>
                    <a:pt x="0" y="296"/>
                  </a:lnTo>
                  <a:lnTo>
                    <a:pt x="0" y="285"/>
                  </a:lnTo>
                  <a:lnTo>
                    <a:pt x="6" y="55"/>
                  </a:lnTo>
                  <a:lnTo>
                    <a:pt x="8" y="51"/>
                  </a:lnTo>
                  <a:lnTo>
                    <a:pt x="9" y="46"/>
                  </a:lnTo>
                  <a:lnTo>
                    <a:pt x="10" y="43"/>
                  </a:lnTo>
                  <a:lnTo>
                    <a:pt x="13" y="40"/>
                  </a:lnTo>
                  <a:lnTo>
                    <a:pt x="16" y="38"/>
                  </a:lnTo>
                  <a:lnTo>
                    <a:pt x="20" y="37"/>
                  </a:lnTo>
                  <a:lnTo>
                    <a:pt x="24" y="35"/>
                  </a:lnTo>
                  <a:lnTo>
                    <a:pt x="30" y="34"/>
                  </a:lnTo>
                  <a:lnTo>
                    <a:pt x="36" y="34"/>
                  </a:lnTo>
                  <a:lnTo>
                    <a:pt x="43" y="35"/>
                  </a:lnTo>
                  <a:lnTo>
                    <a:pt x="48" y="35"/>
                  </a:lnTo>
                  <a:lnTo>
                    <a:pt x="56" y="37"/>
                  </a:lnTo>
                  <a:lnTo>
                    <a:pt x="63" y="38"/>
                  </a:lnTo>
                  <a:lnTo>
                    <a:pt x="69" y="39"/>
                  </a:lnTo>
                  <a:lnTo>
                    <a:pt x="77" y="40"/>
                  </a:lnTo>
                  <a:lnTo>
                    <a:pt x="84" y="41"/>
                  </a:lnTo>
                  <a:lnTo>
                    <a:pt x="91" y="43"/>
                  </a:lnTo>
                  <a:lnTo>
                    <a:pt x="98" y="44"/>
                  </a:lnTo>
                  <a:lnTo>
                    <a:pt x="104" y="46"/>
                  </a:lnTo>
                  <a:lnTo>
                    <a:pt x="108" y="49"/>
                  </a:lnTo>
                  <a:lnTo>
                    <a:pt x="112" y="52"/>
                  </a:lnTo>
                  <a:lnTo>
                    <a:pt x="117" y="54"/>
                  </a:lnTo>
                  <a:lnTo>
                    <a:pt x="119" y="57"/>
                  </a:lnTo>
                  <a:lnTo>
                    <a:pt x="121" y="60"/>
                  </a:lnTo>
                  <a:lnTo>
                    <a:pt x="229" y="237"/>
                  </a:lnTo>
                  <a:lnTo>
                    <a:pt x="273" y="310"/>
                  </a:lnTo>
                  <a:lnTo>
                    <a:pt x="274" y="27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772160" y="2295360"/>
              <a:ext cx="137880" cy="186840"/>
            </a:xfrm>
            <a:custGeom>
              <a:avLst/>
              <a:gdLst/>
              <a:ahLst/>
              <a:rect l="l" t="t" r="r" b="b"/>
              <a:pathLst>
                <a:path w="347" h="472">
                  <a:moveTo>
                    <a:pt x="108" y="148"/>
                  </a:moveTo>
                  <a:lnTo>
                    <a:pt x="108" y="181"/>
                  </a:lnTo>
                  <a:lnTo>
                    <a:pt x="108" y="184"/>
                  </a:lnTo>
                  <a:lnTo>
                    <a:pt x="108" y="185"/>
                  </a:lnTo>
                  <a:lnTo>
                    <a:pt x="109" y="187"/>
                  </a:lnTo>
                  <a:lnTo>
                    <a:pt x="110" y="187"/>
                  </a:lnTo>
                  <a:lnTo>
                    <a:pt x="112" y="188"/>
                  </a:lnTo>
                  <a:lnTo>
                    <a:pt x="113" y="189"/>
                  </a:lnTo>
                  <a:lnTo>
                    <a:pt x="115" y="189"/>
                  </a:lnTo>
                  <a:lnTo>
                    <a:pt x="119" y="189"/>
                  </a:lnTo>
                  <a:lnTo>
                    <a:pt x="120" y="189"/>
                  </a:lnTo>
                  <a:lnTo>
                    <a:pt x="121" y="189"/>
                  </a:lnTo>
                  <a:lnTo>
                    <a:pt x="122" y="189"/>
                  </a:lnTo>
                  <a:lnTo>
                    <a:pt x="123" y="189"/>
                  </a:lnTo>
                  <a:lnTo>
                    <a:pt x="124" y="189"/>
                  </a:lnTo>
                  <a:lnTo>
                    <a:pt x="126" y="189"/>
                  </a:lnTo>
                  <a:lnTo>
                    <a:pt x="127" y="189"/>
                  </a:lnTo>
                  <a:lnTo>
                    <a:pt x="128" y="189"/>
                  </a:lnTo>
                  <a:lnTo>
                    <a:pt x="131" y="189"/>
                  </a:lnTo>
                  <a:lnTo>
                    <a:pt x="133" y="189"/>
                  </a:lnTo>
                  <a:lnTo>
                    <a:pt x="134" y="189"/>
                  </a:lnTo>
                  <a:lnTo>
                    <a:pt x="136" y="189"/>
                  </a:lnTo>
                  <a:lnTo>
                    <a:pt x="138" y="189"/>
                  </a:lnTo>
                  <a:lnTo>
                    <a:pt x="140" y="189"/>
                  </a:lnTo>
                  <a:lnTo>
                    <a:pt x="142" y="189"/>
                  </a:lnTo>
                  <a:lnTo>
                    <a:pt x="144" y="189"/>
                  </a:lnTo>
                  <a:lnTo>
                    <a:pt x="149" y="189"/>
                  </a:lnTo>
                  <a:lnTo>
                    <a:pt x="155" y="189"/>
                  </a:lnTo>
                  <a:lnTo>
                    <a:pt x="161" y="189"/>
                  </a:lnTo>
                  <a:lnTo>
                    <a:pt x="166" y="189"/>
                  </a:lnTo>
                  <a:lnTo>
                    <a:pt x="172" y="189"/>
                  </a:lnTo>
                  <a:lnTo>
                    <a:pt x="178" y="189"/>
                  </a:lnTo>
                  <a:lnTo>
                    <a:pt x="184" y="189"/>
                  </a:lnTo>
                  <a:lnTo>
                    <a:pt x="189" y="189"/>
                  </a:lnTo>
                  <a:lnTo>
                    <a:pt x="196" y="190"/>
                  </a:lnTo>
                  <a:lnTo>
                    <a:pt x="202" y="190"/>
                  </a:lnTo>
                  <a:lnTo>
                    <a:pt x="209" y="190"/>
                  </a:lnTo>
                  <a:lnTo>
                    <a:pt x="216" y="190"/>
                  </a:lnTo>
                  <a:lnTo>
                    <a:pt x="222" y="191"/>
                  </a:lnTo>
                  <a:lnTo>
                    <a:pt x="230" y="191"/>
                  </a:lnTo>
                  <a:lnTo>
                    <a:pt x="238" y="192"/>
                  </a:lnTo>
                  <a:lnTo>
                    <a:pt x="246" y="192"/>
                  </a:lnTo>
                  <a:lnTo>
                    <a:pt x="254" y="194"/>
                  </a:lnTo>
                  <a:lnTo>
                    <a:pt x="262" y="195"/>
                  </a:lnTo>
                  <a:lnTo>
                    <a:pt x="270" y="197"/>
                  </a:lnTo>
                  <a:lnTo>
                    <a:pt x="278" y="199"/>
                  </a:lnTo>
                  <a:lnTo>
                    <a:pt x="284" y="201"/>
                  </a:lnTo>
                  <a:lnTo>
                    <a:pt x="292" y="203"/>
                  </a:lnTo>
                  <a:lnTo>
                    <a:pt x="299" y="207"/>
                  </a:lnTo>
                  <a:lnTo>
                    <a:pt x="305" y="211"/>
                  </a:lnTo>
                  <a:lnTo>
                    <a:pt x="311" y="214"/>
                  </a:lnTo>
                  <a:lnTo>
                    <a:pt x="316" y="218"/>
                  </a:lnTo>
                  <a:lnTo>
                    <a:pt x="321" y="222"/>
                  </a:lnTo>
                  <a:lnTo>
                    <a:pt x="324" y="226"/>
                  </a:lnTo>
                  <a:lnTo>
                    <a:pt x="327" y="230"/>
                  </a:lnTo>
                  <a:lnTo>
                    <a:pt x="329" y="233"/>
                  </a:lnTo>
                  <a:lnTo>
                    <a:pt x="331" y="237"/>
                  </a:lnTo>
                  <a:lnTo>
                    <a:pt x="331" y="240"/>
                  </a:lnTo>
                  <a:lnTo>
                    <a:pt x="331" y="243"/>
                  </a:lnTo>
                  <a:lnTo>
                    <a:pt x="329" y="245"/>
                  </a:lnTo>
                  <a:lnTo>
                    <a:pt x="326" y="246"/>
                  </a:lnTo>
                  <a:lnTo>
                    <a:pt x="323" y="249"/>
                  </a:lnTo>
                  <a:lnTo>
                    <a:pt x="318" y="251"/>
                  </a:lnTo>
                  <a:lnTo>
                    <a:pt x="313" y="252"/>
                  </a:lnTo>
                  <a:lnTo>
                    <a:pt x="306" y="254"/>
                  </a:lnTo>
                  <a:lnTo>
                    <a:pt x="300" y="255"/>
                  </a:lnTo>
                  <a:lnTo>
                    <a:pt x="291" y="256"/>
                  </a:lnTo>
                  <a:lnTo>
                    <a:pt x="283" y="259"/>
                  </a:lnTo>
                  <a:lnTo>
                    <a:pt x="274" y="260"/>
                  </a:lnTo>
                  <a:lnTo>
                    <a:pt x="265" y="260"/>
                  </a:lnTo>
                  <a:lnTo>
                    <a:pt x="255" y="261"/>
                  </a:lnTo>
                  <a:lnTo>
                    <a:pt x="246" y="262"/>
                  </a:lnTo>
                  <a:lnTo>
                    <a:pt x="236" y="262"/>
                  </a:lnTo>
                  <a:lnTo>
                    <a:pt x="226" y="263"/>
                  </a:lnTo>
                  <a:lnTo>
                    <a:pt x="215" y="263"/>
                  </a:lnTo>
                  <a:lnTo>
                    <a:pt x="205" y="263"/>
                  </a:lnTo>
                  <a:lnTo>
                    <a:pt x="194" y="264"/>
                  </a:lnTo>
                  <a:lnTo>
                    <a:pt x="184" y="264"/>
                  </a:lnTo>
                  <a:lnTo>
                    <a:pt x="173" y="264"/>
                  </a:lnTo>
                  <a:lnTo>
                    <a:pt x="163" y="264"/>
                  </a:lnTo>
                  <a:lnTo>
                    <a:pt x="152" y="264"/>
                  </a:lnTo>
                  <a:lnTo>
                    <a:pt x="142" y="264"/>
                  </a:lnTo>
                  <a:lnTo>
                    <a:pt x="140" y="264"/>
                  </a:lnTo>
                  <a:lnTo>
                    <a:pt x="137" y="264"/>
                  </a:lnTo>
                  <a:lnTo>
                    <a:pt x="135" y="264"/>
                  </a:lnTo>
                  <a:lnTo>
                    <a:pt x="133" y="264"/>
                  </a:lnTo>
                  <a:lnTo>
                    <a:pt x="132" y="264"/>
                  </a:lnTo>
                  <a:lnTo>
                    <a:pt x="131" y="264"/>
                  </a:lnTo>
                  <a:lnTo>
                    <a:pt x="130" y="264"/>
                  </a:lnTo>
                  <a:lnTo>
                    <a:pt x="128" y="264"/>
                  </a:lnTo>
                  <a:lnTo>
                    <a:pt x="128" y="264"/>
                  </a:lnTo>
                  <a:lnTo>
                    <a:pt x="127" y="264"/>
                  </a:lnTo>
                  <a:lnTo>
                    <a:pt x="127" y="264"/>
                  </a:lnTo>
                  <a:lnTo>
                    <a:pt x="126" y="264"/>
                  </a:lnTo>
                  <a:lnTo>
                    <a:pt x="126" y="264"/>
                  </a:lnTo>
                  <a:lnTo>
                    <a:pt x="125" y="264"/>
                  </a:lnTo>
                  <a:lnTo>
                    <a:pt x="124" y="264"/>
                  </a:lnTo>
                  <a:lnTo>
                    <a:pt x="124" y="264"/>
                  </a:lnTo>
                  <a:lnTo>
                    <a:pt x="119" y="264"/>
                  </a:lnTo>
                  <a:lnTo>
                    <a:pt x="115" y="265"/>
                  </a:lnTo>
                  <a:lnTo>
                    <a:pt x="112" y="267"/>
                  </a:lnTo>
                  <a:lnTo>
                    <a:pt x="109" y="270"/>
                  </a:lnTo>
                  <a:lnTo>
                    <a:pt x="106" y="272"/>
                  </a:lnTo>
                  <a:lnTo>
                    <a:pt x="104" y="275"/>
                  </a:lnTo>
                  <a:lnTo>
                    <a:pt x="104" y="280"/>
                  </a:lnTo>
                  <a:lnTo>
                    <a:pt x="103" y="284"/>
                  </a:lnTo>
                  <a:lnTo>
                    <a:pt x="103" y="435"/>
                  </a:lnTo>
                  <a:lnTo>
                    <a:pt x="103" y="440"/>
                  </a:lnTo>
                  <a:lnTo>
                    <a:pt x="103" y="444"/>
                  </a:lnTo>
                  <a:lnTo>
                    <a:pt x="102" y="448"/>
                  </a:lnTo>
                  <a:lnTo>
                    <a:pt x="102" y="453"/>
                  </a:lnTo>
                  <a:lnTo>
                    <a:pt x="101" y="456"/>
                  </a:lnTo>
                  <a:lnTo>
                    <a:pt x="100" y="458"/>
                  </a:lnTo>
                  <a:lnTo>
                    <a:pt x="99" y="462"/>
                  </a:lnTo>
                  <a:lnTo>
                    <a:pt x="96" y="464"/>
                  </a:lnTo>
                  <a:lnTo>
                    <a:pt x="95" y="465"/>
                  </a:lnTo>
                  <a:lnTo>
                    <a:pt x="93" y="467"/>
                  </a:lnTo>
                  <a:lnTo>
                    <a:pt x="91" y="468"/>
                  </a:lnTo>
                  <a:lnTo>
                    <a:pt x="88" y="469"/>
                  </a:lnTo>
                  <a:lnTo>
                    <a:pt x="85" y="471"/>
                  </a:lnTo>
                  <a:lnTo>
                    <a:pt x="82" y="472"/>
                  </a:lnTo>
                  <a:lnTo>
                    <a:pt x="78" y="472"/>
                  </a:lnTo>
                  <a:lnTo>
                    <a:pt x="74" y="472"/>
                  </a:lnTo>
                  <a:lnTo>
                    <a:pt x="70" y="472"/>
                  </a:lnTo>
                  <a:lnTo>
                    <a:pt x="64" y="472"/>
                  </a:lnTo>
                  <a:lnTo>
                    <a:pt x="60" y="471"/>
                  </a:lnTo>
                  <a:lnTo>
                    <a:pt x="56" y="471"/>
                  </a:lnTo>
                  <a:lnTo>
                    <a:pt x="51" y="469"/>
                  </a:lnTo>
                  <a:lnTo>
                    <a:pt x="47" y="468"/>
                  </a:lnTo>
                  <a:lnTo>
                    <a:pt x="42" y="466"/>
                  </a:lnTo>
                  <a:lnTo>
                    <a:pt x="38" y="465"/>
                  </a:lnTo>
                  <a:lnTo>
                    <a:pt x="34" y="463"/>
                  </a:lnTo>
                  <a:lnTo>
                    <a:pt x="29" y="462"/>
                  </a:lnTo>
                  <a:lnTo>
                    <a:pt x="25" y="459"/>
                  </a:lnTo>
                  <a:lnTo>
                    <a:pt x="21" y="458"/>
                  </a:lnTo>
                  <a:lnTo>
                    <a:pt x="18" y="456"/>
                  </a:lnTo>
                  <a:lnTo>
                    <a:pt x="15" y="455"/>
                  </a:lnTo>
                  <a:lnTo>
                    <a:pt x="13" y="453"/>
                  </a:lnTo>
                  <a:lnTo>
                    <a:pt x="10" y="452"/>
                  </a:lnTo>
                  <a:lnTo>
                    <a:pt x="8" y="450"/>
                  </a:lnTo>
                  <a:lnTo>
                    <a:pt x="6" y="448"/>
                  </a:lnTo>
                  <a:lnTo>
                    <a:pt x="5" y="447"/>
                  </a:lnTo>
                  <a:lnTo>
                    <a:pt x="3" y="446"/>
                  </a:lnTo>
                  <a:lnTo>
                    <a:pt x="3" y="445"/>
                  </a:lnTo>
                  <a:lnTo>
                    <a:pt x="2" y="444"/>
                  </a:lnTo>
                  <a:lnTo>
                    <a:pt x="0" y="443"/>
                  </a:lnTo>
                  <a:lnTo>
                    <a:pt x="0" y="442"/>
                  </a:lnTo>
                  <a:lnTo>
                    <a:pt x="0" y="274"/>
                  </a:lnTo>
                  <a:lnTo>
                    <a:pt x="6" y="45"/>
                  </a:lnTo>
                  <a:lnTo>
                    <a:pt x="6" y="38"/>
                  </a:lnTo>
                  <a:lnTo>
                    <a:pt x="6" y="31"/>
                  </a:lnTo>
                  <a:lnTo>
                    <a:pt x="7" y="26"/>
                  </a:lnTo>
                  <a:lnTo>
                    <a:pt x="8" y="20"/>
                  </a:lnTo>
                  <a:lnTo>
                    <a:pt x="10" y="16"/>
                  </a:lnTo>
                  <a:lnTo>
                    <a:pt x="13" y="13"/>
                  </a:lnTo>
                  <a:lnTo>
                    <a:pt x="15" y="10"/>
                  </a:lnTo>
                  <a:lnTo>
                    <a:pt x="17" y="8"/>
                  </a:lnTo>
                  <a:lnTo>
                    <a:pt x="21" y="6"/>
                  </a:lnTo>
                  <a:lnTo>
                    <a:pt x="27" y="5"/>
                  </a:lnTo>
                  <a:lnTo>
                    <a:pt x="34" y="4"/>
                  </a:lnTo>
                  <a:lnTo>
                    <a:pt x="42" y="3"/>
                  </a:lnTo>
                  <a:lnTo>
                    <a:pt x="52" y="3"/>
                  </a:lnTo>
                  <a:lnTo>
                    <a:pt x="63" y="2"/>
                  </a:lnTo>
                  <a:lnTo>
                    <a:pt x="77" y="2"/>
                  </a:lnTo>
                  <a:lnTo>
                    <a:pt x="91" y="2"/>
                  </a:lnTo>
                  <a:lnTo>
                    <a:pt x="240" y="0"/>
                  </a:lnTo>
                  <a:lnTo>
                    <a:pt x="252" y="2"/>
                  </a:lnTo>
                  <a:lnTo>
                    <a:pt x="264" y="3"/>
                  </a:lnTo>
                  <a:lnTo>
                    <a:pt x="274" y="4"/>
                  </a:lnTo>
                  <a:lnTo>
                    <a:pt x="285" y="6"/>
                  </a:lnTo>
                  <a:lnTo>
                    <a:pt x="294" y="9"/>
                  </a:lnTo>
                  <a:lnTo>
                    <a:pt x="303" y="13"/>
                  </a:lnTo>
                  <a:lnTo>
                    <a:pt x="311" y="16"/>
                  </a:lnTo>
                  <a:lnTo>
                    <a:pt x="318" y="21"/>
                  </a:lnTo>
                  <a:lnTo>
                    <a:pt x="325" y="26"/>
                  </a:lnTo>
                  <a:lnTo>
                    <a:pt x="331" y="31"/>
                  </a:lnTo>
                  <a:lnTo>
                    <a:pt x="336" y="36"/>
                  </a:lnTo>
                  <a:lnTo>
                    <a:pt x="339" y="41"/>
                  </a:lnTo>
                  <a:lnTo>
                    <a:pt x="343" y="46"/>
                  </a:lnTo>
                  <a:lnTo>
                    <a:pt x="345" y="50"/>
                  </a:lnTo>
                  <a:lnTo>
                    <a:pt x="346" y="54"/>
                  </a:lnTo>
                  <a:lnTo>
                    <a:pt x="347" y="60"/>
                  </a:lnTo>
                  <a:lnTo>
                    <a:pt x="346" y="63"/>
                  </a:lnTo>
                  <a:lnTo>
                    <a:pt x="344" y="67"/>
                  </a:lnTo>
                  <a:lnTo>
                    <a:pt x="339" y="69"/>
                  </a:lnTo>
                  <a:lnTo>
                    <a:pt x="334" y="71"/>
                  </a:lnTo>
                  <a:lnTo>
                    <a:pt x="326" y="73"/>
                  </a:lnTo>
                  <a:lnTo>
                    <a:pt x="317" y="74"/>
                  </a:lnTo>
                  <a:lnTo>
                    <a:pt x="307" y="75"/>
                  </a:lnTo>
                  <a:lnTo>
                    <a:pt x="295" y="75"/>
                  </a:lnTo>
                  <a:lnTo>
                    <a:pt x="126" y="75"/>
                  </a:lnTo>
                  <a:lnTo>
                    <a:pt x="124" y="75"/>
                  </a:lnTo>
                  <a:lnTo>
                    <a:pt x="121" y="75"/>
                  </a:lnTo>
                  <a:lnTo>
                    <a:pt x="119" y="77"/>
                  </a:lnTo>
                  <a:lnTo>
                    <a:pt x="116" y="77"/>
                  </a:lnTo>
                  <a:lnTo>
                    <a:pt x="115" y="78"/>
                  </a:lnTo>
                  <a:lnTo>
                    <a:pt x="113" y="79"/>
                  </a:lnTo>
                  <a:lnTo>
                    <a:pt x="112" y="80"/>
                  </a:lnTo>
                  <a:lnTo>
                    <a:pt x="111" y="82"/>
                  </a:lnTo>
                  <a:lnTo>
                    <a:pt x="110" y="83"/>
                  </a:lnTo>
                  <a:lnTo>
                    <a:pt x="110" y="85"/>
                  </a:lnTo>
                  <a:lnTo>
                    <a:pt x="109" y="89"/>
                  </a:lnTo>
                  <a:lnTo>
                    <a:pt x="108" y="92"/>
                  </a:lnTo>
                  <a:lnTo>
                    <a:pt x="108" y="95"/>
                  </a:lnTo>
                  <a:lnTo>
                    <a:pt x="108" y="100"/>
                  </a:lnTo>
                  <a:lnTo>
                    <a:pt x="108" y="104"/>
                  </a:lnTo>
                  <a:lnTo>
                    <a:pt x="108" y="109"/>
                  </a:lnTo>
                  <a:lnTo>
                    <a:pt x="108" y="14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923000" y="2295360"/>
              <a:ext cx="174600" cy="188640"/>
            </a:xfrm>
            <a:custGeom>
              <a:avLst/>
              <a:gdLst/>
              <a:ahLst/>
              <a:rect l="l" t="t" r="r" b="b"/>
              <a:pathLst>
                <a:path w="440" h="474">
                  <a:moveTo>
                    <a:pt x="234" y="474"/>
                  </a:moveTo>
                  <a:lnTo>
                    <a:pt x="216" y="473"/>
                  </a:lnTo>
                  <a:lnTo>
                    <a:pt x="196" y="471"/>
                  </a:lnTo>
                  <a:lnTo>
                    <a:pt x="177" y="466"/>
                  </a:lnTo>
                  <a:lnTo>
                    <a:pt x="157" y="461"/>
                  </a:lnTo>
                  <a:lnTo>
                    <a:pt x="138" y="454"/>
                  </a:lnTo>
                  <a:lnTo>
                    <a:pt x="118" y="445"/>
                  </a:lnTo>
                  <a:lnTo>
                    <a:pt x="99" y="434"/>
                  </a:lnTo>
                  <a:lnTo>
                    <a:pt x="80" y="422"/>
                  </a:lnTo>
                  <a:lnTo>
                    <a:pt x="70" y="416"/>
                  </a:lnTo>
                  <a:lnTo>
                    <a:pt x="61" y="409"/>
                  </a:lnTo>
                  <a:lnTo>
                    <a:pt x="52" y="401"/>
                  </a:lnTo>
                  <a:lnTo>
                    <a:pt x="44" y="392"/>
                  </a:lnTo>
                  <a:lnTo>
                    <a:pt x="38" y="384"/>
                  </a:lnTo>
                  <a:lnTo>
                    <a:pt x="31" y="375"/>
                  </a:lnTo>
                  <a:lnTo>
                    <a:pt x="26" y="365"/>
                  </a:lnTo>
                  <a:lnTo>
                    <a:pt x="20" y="355"/>
                  </a:lnTo>
                  <a:lnTo>
                    <a:pt x="16" y="344"/>
                  </a:lnTo>
                  <a:lnTo>
                    <a:pt x="11" y="333"/>
                  </a:lnTo>
                  <a:lnTo>
                    <a:pt x="8" y="322"/>
                  </a:lnTo>
                  <a:lnTo>
                    <a:pt x="6" y="310"/>
                  </a:lnTo>
                  <a:lnTo>
                    <a:pt x="4" y="296"/>
                  </a:lnTo>
                  <a:lnTo>
                    <a:pt x="1" y="283"/>
                  </a:lnTo>
                  <a:lnTo>
                    <a:pt x="1" y="270"/>
                  </a:lnTo>
                  <a:lnTo>
                    <a:pt x="0" y="256"/>
                  </a:lnTo>
                  <a:lnTo>
                    <a:pt x="1" y="231"/>
                  </a:lnTo>
                  <a:lnTo>
                    <a:pt x="5" y="208"/>
                  </a:lnTo>
                  <a:lnTo>
                    <a:pt x="10" y="186"/>
                  </a:lnTo>
                  <a:lnTo>
                    <a:pt x="17" y="163"/>
                  </a:lnTo>
                  <a:lnTo>
                    <a:pt x="26" y="142"/>
                  </a:lnTo>
                  <a:lnTo>
                    <a:pt x="37" y="120"/>
                  </a:lnTo>
                  <a:lnTo>
                    <a:pt x="50" y="99"/>
                  </a:lnTo>
                  <a:lnTo>
                    <a:pt x="65" y="79"/>
                  </a:lnTo>
                  <a:lnTo>
                    <a:pt x="81" y="60"/>
                  </a:lnTo>
                  <a:lnTo>
                    <a:pt x="97" y="44"/>
                  </a:lnTo>
                  <a:lnTo>
                    <a:pt x="113" y="31"/>
                  </a:lnTo>
                  <a:lnTo>
                    <a:pt x="129" y="19"/>
                  </a:lnTo>
                  <a:lnTo>
                    <a:pt x="137" y="14"/>
                  </a:lnTo>
                  <a:lnTo>
                    <a:pt x="146" y="11"/>
                  </a:lnTo>
                  <a:lnTo>
                    <a:pt x="154" y="7"/>
                  </a:lnTo>
                  <a:lnTo>
                    <a:pt x="163" y="4"/>
                  </a:lnTo>
                  <a:lnTo>
                    <a:pt x="170" y="2"/>
                  </a:lnTo>
                  <a:lnTo>
                    <a:pt x="178" y="1"/>
                  </a:lnTo>
                  <a:lnTo>
                    <a:pt x="187" y="0"/>
                  </a:lnTo>
                  <a:lnTo>
                    <a:pt x="195" y="0"/>
                  </a:lnTo>
                  <a:lnTo>
                    <a:pt x="198" y="0"/>
                  </a:lnTo>
                  <a:lnTo>
                    <a:pt x="200" y="0"/>
                  </a:lnTo>
                  <a:lnTo>
                    <a:pt x="202" y="0"/>
                  </a:lnTo>
                  <a:lnTo>
                    <a:pt x="205" y="0"/>
                  </a:lnTo>
                  <a:lnTo>
                    <a:pt x="207" y="0"/>
                  </a:lnTo>
                  <a:lnTo>
                    <a:pt x="209" y="0"/>
                  </a:lnTo>
                  <a:lnTo>
                    <a:pt x="210" y="0"/>
                  </a:lnTo>
                  <a:lnTo>
                    <a:pt x="212" y="1"/>
                  </a:lnTo>
                  <a:lnTo>
                    <a:pt x="213" y="1"/>
                  </a:lnTo>
                  <a:lnTo>
                    <a:pt x="216" y="2"/>
                  </a:lnTo>
                  <a:lnTo>
                    <a:pt x="219" y="2"/>
                  </a:lnTo>
                  <a:lnTo>
                    <a:pt x="222" y="3"/>
                  </a:lnTo>
                  <a:lnTo>
                    <a:pt x="227" y="4"/>
                  </a:lnTo>
                  <a:lnTo>
                    <a:pt x="231" y="5"/>
                  </a:lnTo>
                  <a:lnTo>
                    <a:pt x="235" y="7"/>
                  </a:lnTo>
                  <a:lnTo>
                    <a:pt x="241" y="8"/>
                  </a:lnTo>
                  <a:lnTo>
                    <a:pt x="248" y="11"/>
                  </a:lnTo>
                  <a:lnTo>
                    <a:pt x="253" y="12"/>
                  </a:lnTo>
                  <a:lnTo>
                    <a:pt x="259" y="14"/>
                  </a:lnTo>
                  <a:lnTo>
                    <a:pt x="264" y="15"/>
                  </a:lnTo>
                  <a:lnTo>
                    <a:pt x="271" y="16"/>
                  </a:lnTo>
                  <a:lnTo>
                    <a:pt x="276" y="16"/>
                  </a:lnTo>
                  <a:lnTo>
                    <a:pt x="282" y="17"/>
                  </a:lnTo>
                  <a:lnTo>
                    <a:pt x="287" y="17"/>
                  </a:lnTo>
                  <a:lnTo>
                    <a:pt x="292" y="18"/>
                  </a:lnTo>
                  <a:lnTo>
                    <a:pt x="297" y="18"/>
                  </a:lnTo>
                  <a:lnTo>
                    <a:pt x="302" y="19"/>
                  </a:lnTo>
                  <a:lnTo>
                    <a:pt x="306" y="21"/>
                  </a:lnTo>
                  <a:lnTo>
                    <a:pt x="311" y="21"/>
                  </a:lnTo>
                  <a:lnTo>
                    <a:pt x="315" y="22"/>
                  </a:lnTo>
                  <a:lnTo>
                    <a:pt x="319" y="23"/>
                  </a:lnTo>
                  <a:lnTo>
                    <a:pt x="323" y="24"/>
                  </a:lnTo>
                  <a:lnTo>
                    <a:pt x="326" y="26"/>
                  </a:lnTo>
                  <a:lnTo>
                    <a:pt x="330" y="27"/>
                  </a:lnTo>
                  <a:lnTo>
                    <a:pt x="335" y="31"/>
                  </a:lnTo>
                  <a:lnTo>
                    <a:pt x="340" y="33"/>
                  </a:lnTo>
                  <a:lnTo>
                    <a:pt x="346" y="36"/>
                  </a:lnTo>
                  <a:lnTo>
                    <a:pt x="351" y="40"/>
                  </a:lnTo>
                  <a:lnTo>
                    <a:pt x="358" y="45"/>
                  </a:lnTo>
                  <a:lnTo>
                    <a:pt x="365" y="49"/>
                  </a:lnTo>
                  <a:lnTo>
                    <a:pt x="372" y="55"/>
                  </a:lnTo>
                  <a:lnTo>
                    <a:pt x="379" y="61"/>
                  </a:lnTo>
                  <a:lnTo>
                    <a:pt x="386" y="68"/>
                  </a:lnTo>
                  <a:lnTo>
                    <a:pt x="392" y="76"/>
                  </a:lnTo>
                  <a:lnTo>
                    <a:pt x="399" y="85"/>
                  </a:lnTo>
                  <a:lnTo>
                    <a:pt x="404" y="95"/>
                  </a:lnTo>
                  <a:lnTo>
                    <a:pt x="411" y="106"/>
                  </a:lnTo>
                  <a:lnTo>
                    <a:pt x="417" y="118"/>
                  </a:lnTo>
                  <a:lnTo>
                    <a:pt x="422" y="130"/>
                  </a:lnTo>
                  <a:lnTo>
                    <a:pt x="426" y="142"/>
                  </a:lnTo>
                  <a:lnTo>
                    <a:pt x="431" y="154"/>
                  </a:lnTo>
                  <a:lnTo>
                    <a:pt x="434" y="167"/>
                  </a:lnTo>
                  <a:lnTo>
                    <a:pt x="436" y="181"/>
                  </a:lnTo>
                  <a:lnTo>
                    <a:pt x="439" y="194"/>
                  </a:lnTo>
                  <a:lnTo>
                    <a:pt x="440" y="207"/>
                  </a:lnTo>
                  <a:lnTo>
                    <a:pt x="440" y="221"/>
                  </a:lnTo>
                  <a:lnTo>
                    <a:pt x="439" y="242"/>
                  </a:lnTo>
                  <a:lnTo>
                    <a:pt x="436" y="263"/>
                  </a:lnTo>
                  <a:lnTo>
                    <a:pt x="432" y="284"/>
                  </a:lnTo>
                  <a:lnTo>
                    <a:pt x="425" y="305"/>
                  </a:lnTo>
                  <a:lnTo>
                    <a:pt x="417" y="327"/>
                  </a:lnTo>
                  <a:lnTo>
                    <a:pt x="407" y="348"/>
                  </a:lnTo>
                  <a:lnTo>
                    <a:pt x="394" y="369"/>
                  </a:lnTo>
                  <a:lnTo>
                    <a:pt x="381" y="390"/>
                  </a:lnTo>
                  <a:lnTo>
                    <a:pt x="373" y="400"/>
                  </a:lnTo>
                  <a:lnTo>
                    <a:pt x="366" y="410"/>
                  </a:lnTo>
                  <a:lnTo>
                    <a:pt x="358" y="419"/>
                  </a:lnTo>
                  <a:lnTo>
                    <a:pt x="349" y="427"/>
                  </a:lnTo>
                  <a:lnTo>
                    <a:pt x="341" y="434"/>
                  </a:lnTo>
                  <a:lnTo>
                    <a:pt x="333" y="441"/>
                  </a:lnTo>
                  <a:lnTo>
                    <a:pt x="324" y="448"/>
                  </a:lnTo>
                  <a:lnTo>
                    <a:pt x="315" y="453"/>
                  </a:lnTo>
                  <a:lnTo>
                    <a:pt x="305" y="458"/>
                  </a:lnTo>
                  <a:lnTo>
                    <a:pt x="296" y="462"/>
                  </a:lnTo>
                  <a:lnTo>
                    <a:pt x="286" y="465"/>
                  </a:lnTo>
                  <a:lnTo>
                    <a:pt x="276" y="469"/>
                  </a:lnTo>
                  <a:lnTo>
                    <a:pt x="266" y="471"/>
                  </a:lnTo>
                  <a:lnTo>
                    <a:pt x="255" y="473"/>
                  </a:lnTo>
                  <a:lnTo>
                    <a:pt x="245" y="473"/>
                  </a:lnTo>
                  <a:lnTo>
                    <a:pt x="234" y="474"/>
                  </a:lnTo>
                  <a:close/>
                  <a:moveTo>
                    <a:pt x="234" y="50"/>
                  </a:moveTo>
                  <a:lnTo>
                    <a:pt x="229" y="51"/>
                  </a:lnTo>
                  <a:lnTo>
                    <a:pt x="224" y="51"/>
                  </a:lnTo>
                  <a:lnTo>
                    <a:pt x="219" y="54"/>
                  </a:lnTo>
                  <a:lnTo>
                    <a:pt x="214" y="56"/>
                  </a:lnTo>
                  <a:lnTo>
                    <a:pt x="203" y="61"/>
                  </a:lnTo>
                  <a:lnTo>
                    <a:pt x="194" y="70"/>
                  </a:lnTo>
                  <a:lnTo>
                    <a:pt x="184" y="80"/>
                  </a:lnTo>
                  <a:lnTo>
                    <a:pt x="174" y="93"/>
                  </a:lnTo>
                  <a:lnTo>
                    <a:pt x="164" y="109"/>
                  </a:lnTo>
                  <a:lnTo>
                    <a:pt x="154" y="127"/>
                  </a:lnTo>
                  <a:lnTo>
                    <a:pt x="145" y="145"/>
                  </a:lnTo>
                  <a:lnTo>
                    <a:pt x="137" y="164"/>
                  </a:lnTo>
                  <a:lnTo>
                    <a:pt x="131" y="182"/>
                  </a:lnTo>
                  <a:lnTo>
                    <a:pt x="125" y="199"/>
                  </a:lnTo>
                  <a:lnTo>
                    <a:pt x="121" y="216"/>
                  </a:lnTo>
                  <a:lnTo>
                    <a:pt x="117" y="234"/>
                  </a:lnTo>
                  <a:lnTo>
                    <a:pt x="116" y="250"/>
                  </a:lnTo>
                  <a:lnTo>
                    <a:pt x="115" y="266"/>
                  </a:lnTo>
                  <a:lnTo>
                    <a:pt x="116" y="281"/>
                  </a:lnTo>
                  <a:lnTo>
                    <a:pt x="116" y="296"/>
                  </a:lnTo>
                  <a:lnTo>
                    <a:pt x="118" y="311"/>
                  </a:lnTo>
                  <a:lnTo>
                    <a:pt x="121" y="324"/>
                  </a:lnTo>
                  <a:lnTo>
                    <a:pt x="124" y="337"/>
                  </a:lnTo>
                  <a:lnTo>
                    <a:pt x="127" y="351"/>
                  </a:lnTo>
                  <a:lnTo>
                    <a:pt x="133" y="363"/>
                  </a:lnTo>
                  <a:lnTo>
                    <a:pt x="137" y="374"/>
                  </a:lnTo>
                  <a:lnTo>
                    <a:pt x="143" y="385"/>
                  </a:lnTo>
                  <a:lnTo>
                    <a:pt x="149" y="394"/>
                  </a:lnTo>
                  <a:lnTo>
                    <a:pt x="156" y="401"/>
                  </a:lnTo>
                  <a:lnTo>
                    <a:pt x="163" y="408"/>
                  </a:lnTo>
                  <a:lnTo>
                    <a:pt x="169" y="412"/>
                  </a:lnTo>
                  <a:lnTo>
                    <a:pt x="177" y="416"/>
                  </a:lnTo>
                  <a:lnTo>
                    <a:pt x="185" y="418"/>
                  </a:lnTo>
                  <a:lnTo>
                    <a:pt x="192" y="419"/>
                  </a:lnTo>
                  <a:lnTo>
                    <a:pt x="199" y="419"/>
                  </a:lnTo>
                  <a:lnTo>
                    <a:pt x="206" y="418"/>
                  </a:lnTo>
                  <a:lnTo>
                    <a:pt x="211" y="417"/>
                  </a:lnTo>
                  <a:lnTo>
                    <a:pt x="218" y="415"/>
                  </a:lnTo>
                  <a:lnTo>
                    <a:pt x="223" y="411"/>
                  </a:lnTo>
                  <a:lnTo>
                    <a:pt x="229" y="408"/>
                  </a:lnTo>
                  <a:lnTo>
                    <a:pt x="234" y="405"/>
                  </a:lnTo>
                  <a:lnTo>
                    <a:pt x="240" y="400"/>
                  </a:lnTo>
                  <a:lnTo>
                    <a:pt x="251" y="389"/>
                  </a:lnTo>
                  <a:lnTo>
                    <a:pt x="261" y="376"/>
                  </a:lnTo>
                  <a:lnTo>
                    <a:pt x="270" y="360"/>
                  </a:lnTo>
                  <a:lnTo>
                    <a:pt x="279" y="342"/>
                  </a:lnTo>
                  <a:lnTo>
                    <a:pt x="285" y="323"/>
                  </a:lnTo>
                  <a:lnTo>
                    <a:pt x="292" y="305"/>
                  </a:lnTo>
                  <a:lnTo>
                    <a:pt x="297" y="287"/>
                  </a:lnTo>
                  <a:lnTo>
                    <a:pt x="303" y="270"/>
                  </a:lnTo>
                  <a:lnTo>
                    <a:pt x="306" y="253"/>
                  </a:lnTo>
                  <a:lnTo>
                    <a:pt x="308" y="237"/>
                  </a:lnTo>
                  <a:lnTo>
                    <a:pt x="309" y="221"/>
                  </a:lnTo>
                  <a:lnTo>
                    <a:pt x="311" y="207"/>
                  </a:lnTo>
                  <a:lnTo>
                    <a:pt x="311" y="194"/>
                  </a:lnTo>
                  <a:lnTo>
                    <a:pt x="309" y="182"/>
                  </a:lnTo>
                  <a:lnTo>
                    <a:pt x="308" y="168"/>
                  </a:lnTo>
                  <a:lnTo>
                    <a:pt x="306" y="155"/>
                  </a:lnTo>
                  <a:lnTo>
                    <a:pt x="304" y="142"/>
                  </a:lnTo>
                  <a:lnTo>
                    <a:pt x="301" y="129"/>
                  </a:lnTo>
                  <a:lnTo>
                    <a:pt x="297" y="117"/>
                  </a:lnTo>
                  <a:lnTo>
                    <a:pt x="293" y="103"/>
                  </a:lnTo>
                  <a:lnTo>
                    <a:pt x="288" y="91"/>
                  </a:lnTo>
                  <a:lnTo>
                    <a:pt x="283" y="80"/>
                  </a:lnTo>
                  <a:lnTo>
                    <a:pt x="277" y="71"/>
                  </a:lnTo>
                  <a:lnTo>
                    <a:pt x="270" y="64"/>
                  </a:lnTo>
                  <a:lnTo>
                    <a:pt x="262" y="58"/>
                  </a:lnTo>
                  <a:lnTo>
                    <a:pt x="254" y="54"/>
                  </a:lnTo>
                  <a:lnTo>
                    <a:pt x="244" y="51"/>
                  </a:lnTo>
                  <a:lnTo>
                    <a:pt x="234" y="5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126040" y="2298600"/>
              <a:ext cx="165240" cy="183600"/>
            </a:xfrm>
            <a:custGeom>
              <a:avLst/>
              <a:gdLst/>
              <a:ahLst/>
              <a:rect l="l" t="t" r="r" b="b"/>
              <a:pathLst>
                <a:path w="413" h="465">
                  <a:moveTo>
                    <a:pt x="100" y="394"/>
                  </a:moveTo>
                  <a:lnTo>
                    <a:pt x="100" y="443"/>
                  </a:lnTo>
                  <a:lnTo>
                    <a:pt x="100" y="448"/>
                  </a:lnTo>
                  <a:lnTo>
                    <a:pt x="99" y="452"/>
                  </a:lnTo>
                  <a:lnTo>
                    <a:pt x="98" y="456"/>
                  </a:lnTo>
                  <a:lnTo>
                    <a:pt x="96" y="459"/>
                  </a:lnTo>
                  <a:lnTo>
                    <a:pt x="92" y="461"/>
                  </a:lnTo>
                  <a:lnTo>
                    <a:pt x="89" y="462"/>
                  </a:lnTo>
                  <a:lnTo>
                    <a:pt x="85" y="464"/>
                  </a:lnTo>
                  <a:lnTo>
                    <a:pt x="79" y="465"/>
                  </a:lnTo>
                  <a:lnTo>
                    <a:pt x="78" y="465"/>
                  </a:lnTo>
                  <a:lnTo>
                    <a:pt x="77" y="464"/>
                  </a:lnTo>
                  <a:lnTo>
                    <a:pt x="75" y="464"/>
                  </a:lnTo>
                  <a:lnTo>
                    <a:pt x="73" y="464"/>
                  </a:lnTo>
                  <a:lnTo>
                    <a:pt x="69" y="462"/>
                  </a:lnTo>
                  <a:lnTo>
                    <a:pt x="66" y="462"/>
                  </a:lnTo>
                  <a:lnTo>
                    <a:pt x="63" y="461"/>
                  </a:lnTo>
                  <a:lnTo>
                    <a:pt x="58" y="461"/>
                  </a:lnTo>
                  <a:lnTo>
                    <a:pt x="54" y="460"/>
                  </a:lnTo>
                  <a:lnTo>
                    <a:pt x="50" y="459"/>
                  </a:lnTo>
                  <a:lnTo>
                    <a:pt x="46" y="459"/>
                  </a:lnTo>
                  <a:lnTo>
                    <a:pt x="42" y="458"/>
                  </a:lnTo>
                  <a:lnTo>
                    <a:pt x="37" y="457"/>
                  </a:lnTo>
                  <a:lnTo>
                    <a:pt x="34" y="456"/>
                  </a:lnTo>
                  <a:lnTo>
                    <a:pt x="29" y="456"/>
                  </a:lnTo>
                  <a:lnTo>
                    <a:pt x="26" y="455"/>
                  </a:lnTo>
                  <a:lnTo>
                    <a:pt x="22" y="454"/>
                  </a:lnTo>
                  <a:lnTo>
                    <a:pt x="18" y="452"/>
                  </a:lnTo>
                  <a:lnTo>
                    <a:pt x="15" y="451"/>
                  </a:lnTo>
                  <a:lnTo>
                    <a:pt x="13" y="450"/>
                  </a:lnTo>
                  <a:lnTo>
                    <a:pt x="11" y="449"/>
                  </a:lnTo>
                  <a:lnTo>
                    <a:pt x="8" y="448"/>
                  </a:lnTo>
                  <a:lnTo>
                    <a:pt x="6" y="447"/>
                  </a:lnTo>
                  <a:lnTo>
                    <a:pt x="5" y="445"/>
                  </a:lnTo>
                  <a:lnTo>
                    <a:pt x="4" y="443"/>
                  </a:lnTo>
                  <a:lnTo>
                    <a:pt x="3" y="440"/>
                  </a:lnTo>
                  <a:lnTo>
                    <a:pt x="2" y="436"/>
                  </a:lnTo>
                  <a:lnTo>
                    <a:pt x="1" y="432"/>
                  </a:lnTo>
                  <a:lnTo>
                    <a:pt x="1" y="427"/>
                  </a:lnTo>
                  <a:lnTo>
                    <a:pt x="0" y="422"/>
                  </a:lnTo>
                  <a:lnTo>
                    <a:pt x="0" y="415"/>
                  </a:lnTo>
                  <a:lnTo>
                    <a:pt x="0" y="407"/>
                  </a:lnTo>
                  <a:lnTo>
                    <a:pt x="0" y="225"/>
                  </a:lnTo>
                  <a:lnTo>
                    <a:pt x="0" y="110"/>
                  </a:lnTo>
                  <a:lnTo>
                    <a:pt x="0" y="99"/>
                  </a:lnTo>
                  <a:lnTo>
                    <a:pt x="0" y="88"/>
                  </a:lnTo>
                  <a:lnTo>
                    <a:pt x="0" y="79"/>
                  </a:lnTo>
                  <a:lnTo>
                    <a:pt x="1" y="71"/>
                  </a:lnTo>
                  <a:lnTo>
                    <a:pt x="1" y="63"/>
                  </a:lnTo>
                  <a:lnTo>
                    <a:pt x="1" y="56"/>
                  </a:lnTo>
                  <a:lnTo>
                    <a:pt x="1" y="51"/>
                  </a:lnTo>
                  <a:lnTo>
                    <a:pt x="2" y="45"/>
                  </a:lnTo>
                  <a:lnTo>
                    <a:pt x="2" y="41"/>
                  </a:lnTo>
                  <a:lnTo>
                    <a:pt x="3" y="38"/>
                  </a:lnTo>
                  <a:lnTo>
                    <a:pt x="4" y="34"/>
                  </a:lnTo>
                  <a:lnTo>
                    <a:pt x="6" y="31"/>
                  </a:lnTo>
                  <a:lnTo>
                    <a:pt x="7" y="28"/>
                  </a:lnTo>
                  <a:lnTo>
                    <a:pt x="10" y="25"/>
                  </a:lnTo>
                  <a:lnTo>
                    <a:pt x="12" y="23"/>
                  </a:lnTo>
                  <a:lnTo>
                    <a:pt x="15" y="21"/>
                  </a:lnTo>
                  <a:lnTo>
                    <a:pt x="17" y="20"/>
                  </a:lnTo>
                  <a:lnTo>
                    <a:pt x="20" y="19"/>
                  </a:lnTo>
                  <a:lnTo>
                    <a:pt x="22" y="18"/>
                  </a:lnTo>
                  <a:lnTo>
                    <a:pt x="25" y="17"/>
                  </a:lnTo>
                  <a:lnTo>
                    <a:pt x="27" y="15"/>
                  </a:lnTo>
                  <a:lnTo>
                    <a:pt x="28" y="14"/>
                  </a:lnTo>
                  <a:lnTo>
                    <a:pt x="31" y="13"/>
                  </a:lnTo>
                  <a:lnTo>
                    <a:pt x="33" y="12"/>
                  </a:lnTo>
                  <a:lnTo>
                    <a:pt x="34" y="11"/>
                  </a:lnTo>
                  <a:lnTo>
                    <a:pt x="36" y="11"/>
                  </a:lnTo>
                  <a:lnTo>
                    <a:pt x="37" y="10"/>
                  </a:lnTo>
                  <a:lnTo>
                    <a:pt x="39" y="10"/>
                  </a:lnTo>
                  <a:lnTo>
                    <a:pt x="41" y="9"/>
                  </a:lnTo>
                  <a:lnTo>
                    <a:pt x="43" y="9"/>
                  </a:lnTo>
                  <a:lnTo>
                    <a:pt x="44" y="9"/>
                  </a:lnTo>
                  <a:lnTo>
                    <a:pt x="45" y="9"/>
                  </a:lnTo>
                  <a:lnTo>
                    <a:pt x="47" y="9"/>
                  </a:lnTo>
                  <a:lnTo>
                    <a:pt x="49" y="9"/>
                  </a:lnTo>
                  <a:lnTo>
                    <a:pt x="53" y="10"/>
                  </a:lnTo>
                  <a:lnTo>
                    <a:pt x="55" y="10"/>
                  </a:lnTo>
                  <a:lnTo>
                    <a:pt x="58" y="11"/>
                  </a:lnTo>
                  <a:lnTo>
                    <a:pt x="61" y="12"/>
                  </a:lnTo>
                  <a:lnTo>
                    <a:pt x="66" y="13"/>
                  </a:lnTo>
                  <a:lnTo>
                    <a:pt x="69" y="14"/>
                  </a:lnTo>
                  <a:lnTo>
                    <a:pt x="73" y="15"/>
                  </a:lnTo>
                  <a:lnTo>
                    <a:pt x="76" y="17"/>
                  </a:lnTo>
                  <a:lnTo>
                    <a:pt x="79" y="17"/>
                  </a:lnTo>
                  <a:lnTo>
                    <a:pt x="81" y="18"/>
                  </a:lnTo>
                  <a:lnTo>
                    <a:pt x="84" y="19"/>
                  </a:lnTo>
                  <a:lnTo>
                    <a:pt x="85" y="19"/>
                  </a:lnTo>
                  <a:lnTo>
                    <a:pt x="86" y="19"/>
                  </a:lnTo>
                  <a:lnTo>
                    <a:pt x="87" y="19"/>
                  </a:lnTo>
                  <a:lnTo>
                    <a:pt x="95" y="18"/>
                  </a:lnTo>
                  <a:lnTo>
                    <a:pt x="101" y="15"/>
                  </a:lnTo>
                  <a:lnTo>
                    <a:pt x="109" y="14"/>
                  </a:lnTo>
                  <a:lnTo>
                    <a:pt x="117" y="13"/>
                  </a:lnTo>
                  <a:lnTo>
                    <a:pt x="126" y="11"/>
                  </a:lnTo>
                  <a:lnTo>
                    <a:pt x="133" y="10"/>
                  </a:lnTo>
                  <a:lnTo>
                    <a:pt x="142" y="8"/>
                  </a:lnTo>
                  <a:lnTo>
                    <a:pt x="150" y="7"/>
                  </a:lnTo>
                  <a:lnTo>
                    <a:pt x="159" y="4"/>
                  </a:lnTo>
                  <a:lnTo>
                    <a:pt x="167" y="3"/>
                  </a:lnTo>
                  <a:lnTo>
                    <a:pt x="175" y="2"/>
                  </a:lnTo>
                  <a:lnTo>
                    <a:pt x="183" y="2"/>
                  </a:lnTo>
                  <a:lnTo>
                    <a:pt x="190" y="1"/>
                  </a:lnTo>
                  <a:lnTo>
                    <a:pt x="197" y="0"/>
                  </a:lnTo>
                  <a:lnTo>
                    <a:pt x="204" y="0"/>
                  </a:lnTo>
                  <a:lnTo>
                    <a:pt x="211" y="0"/>
                  </a:lnTo>
                  <a:lnTo>
                    <a:pt x="230" y="1"/>
                  </a:lnTo>
                  <a:lnTo>
                    <a:pt x="250" y="2"/>
                  </a:lnTo>
                  <a:lnTo>
                    <a:pt x="269" y="6"/>
                  </a:lnTo>
                  <a:lnTo>
                    <a:pt x="287" y="9"/>
                  </a:lnTo>
                  <a:lnTo>
                    <a:pt x="304" y="14"/>
                  </a:lnTo>
                  <a:lnTo>
                    <a:pt x="321" y="21"/>
                  </a:lnTo>
                  <a:lnTo>
                    <a:pt x="337" y="29"/>
                  </a:lnTo>
                  <a:lnTo>
                    <a:pt x="353" y="38"/>
                  </a:lnTo>
                  <a:lnTo>
                    <a:pt x="367" y="46"/>
                  </a:lnTo>
                  <a:lnTo>
                    <a:pt x="379" y="56"/>
                  </a:lnTo>
                  <a:lnTo>
                    <a:pt x="389" y="65"/>
                  </a:lnTo>
                  <a:lnTo>
                    <a:pt x="398" y="75"/>
                  </a:lnTo>
                  <a:lnTo>
                    <a:pt x="405" y="86"/>
                  </a:lnTo>
                  <a:lnTo>
                    <a:pt x="409" y="96"/>
                  </a:lnTo>
                  <a:lnTo>
                    <a:pt x="413" y="107"/>
                  </a:lnTo>
                  <a:lnTo>
                    <a:pt x="413" y="117"/>
                  </a:lnTo>
                  <a:lnTo>
                    <a:pt x="413" y="127"/>
                  </a:lnTo>
                  <a:lnTo>
                    <a:pt x="410" y="136"/>
                  </a:lnTo>
                  <a:lnTo>
                    <a:pt x="407" y="146"/>
                  </a:lnTo>
                  <a:lnTo>
                    <a:pt x="403" y="155"/>
                  </a:lnTo>
                  <a:lnTo>
                    <a:pt x="397" y="164"/>
                  </a:lnTo>
                  <a:lnTo>
                    <a:pt x="390" y="173"/>
                  </a:lnTo>
                  <a:lnTo>
                    <a:pt x="383" y="183"/>
                  </a:lnTo>
                  <a:lnTo>
                    <a:pt x="373" y="192"/>
                  </a:lnTo>
                  <a:lnTo>
                    <a:pt x="363" y="201"/>
                  </a:lnTo>
                  <a:lnTo>
                    <a:pt x="353" y="210"/>
                  </a:lnTo>
                  <a:lnTo>
                    <a:pt x="343" y="217"/>
                  </a:lnTo>
                  <a:lnTo>
                    <a:pt x="332" y="225"/>
                  </a:lnTo>
                  <a:lnTo>
                    <a:pt x="322" y="232"/>
                  </a:lnTo>
                  <a:lnTo>
                    <a:pt x="311" y="237"/>
                  </a:lnTo>
                  <a:lnTo>
                    <a:pt x="300" y="243"/>
                  </a:lnTo>
                  <a:lnTo>
                    <a:pt x="289" y="247"/>
                  </a:lnTo>
                  <a:lnTo>
                    <a:pt x="278" y="252"/>
                  </a:lnTo>
                  <a:lnTo>
                    <a:pt x="269" y="256"/>
                  </a:lnTo>
                  <a:lnTo>
                    <a:pt x="261" y="259"/>
                  </a:lnTo>
                  <a:lnTo>
                    <a:pt x="255" y="263"/>
                  </a:lnTo>
                  <a:lnTo>
                    <a:pt x="250" y="265"/>
                  </a:lnTo>
                  <a:lnTo>
                    <a:pt x="247" y="267"/>
                  </a:lnTo>
                  <a:lnTo>
                    <a:pt x="245" y="269"/>
                  </a:lnTo>
                  <a:lnTo>
                    <a:pt x="244" y="270"/>
                  </a:lnTo>
                  <a:lnTo>
                    <a:pt x="257" y="284"/>
                  </a:lnTo>
                  <a:lnTo>
                    <a:pt x="270" y="296"/>
                  </a:lnTo>
                  <a:lnTo>
                    <a:pt x="283" y="309"/>
                  </a:lnTo>
                  <a:lnTo>
                    <a:pt x="297" y="321"/>
                  </a:lnTo>
                  <a:lnTo>
                    <a:pt x="310" y="334"/>
                  </a:lnTo>
                  <a:lnTo>
                    <a:pt x="322" y="347"/>
                  </a:lnTo>
                  <a:lnTo>
                    <a:pt x="335" y="360"/>
                  </a:lnTo>
                  <a:lnTo>
                    <a:pt x="349" y="372"/>
                  </a:lnTo>
                  <a:lnTo>
                    <a:pt x="361" y="384"/>
                  </a:lnTo>
                  <a:lnTo>
                    <a:pt x="371" y="394"/>
                  </a:lnTo>
                  <a:lnTo>
                    <a:pt x="379" y="404"/>
                  </a:lnTo>
                  <a:lnTo>
                    <a:pt x="387" y="412"/>
                  </a:lnTo>
                  <a:lnTo>
                    <a:pt x="393" y="419"/>
                  </a:lnTo>
                  <a:lnTo>
                    <a:pt x="397" y="425"/>
                  </a:lnTo>
                  <a:lnTo>
                    <a:pt x="399" y="430"/>
                  </a:lnTo>
                  <a:lnTo>
                    <a:pt x="400" y="434"/>
                  </a:lnTo>
                  <a:lnTo>
                    <a:pt x="400" y="435"/>
                  </a:lnTo>
                  <a:lnTo>
                    <a:pt x="399" y="436"/>
                  </a:lnTo>
                  <a:lnTo>
                    <a:pt x="399" y="437"/>
                  </a:lnTo>
                  <a:lnTo>
                    <a:pt x="398" y="439"/>
                  </a:lnTo>
                  <a:lnTo>
                    <a:pt x="398" y="440"/>
                  </a:lnTo>
                  <a:lnTo>
                    <a:pt x="397" y="441"/>
                  </a:lnTo>
                  <a:lnTo>
                    <a:pt x="396" y="443"/>
                  </a:lnTo>
                  <a:lnTo>
                    <a:pt x="395" y="444"/>
                  </a:lnTo>
                  <a:lnTo>
                    <a:pt x="393" y="445"/>
                  </a:lnTo>
                  <a:lnTo>
                    <a:pt x="392" y="446"/>
                  </a:lnTo>
                  <a:lnTo>
                    <a:pt x="389" y="448"/>
                  </a:lnTo>
                  <a:lnTo>
                    <a:pt x="388" y="449"/>
                  </a:lnTo>
                  <a:lnTo>
                    <a:pt x="386" y="450"/>
                  </a:lnTo>
                  <a:lnTo>
                    <a:pt x="384" y="452"/>
                  </a:lnTo>
                  <a:lnTo>
                    <a:pt x="382" y="455"/>
                  </a:lnTo>
                  <a:lnTo>
                    <a:pt x="379" y="456"/>
                  </a:lnTo>
                  <a:lnTo>
                    <a:pt x="377" y="458"/>
                  </a:lnTo>
                  <a:lnTo>
                    <a:pt x="375" y="460"/>
                  </a:lnTo>
                  <a:lnTo>
                    <a:pt x="372" y="461"/>
                  </a:lnTo>
                  <a:lnTo>
                    <a:pt x="370" y="462"/>
                  </a:lnTo>
                  <a:lnTo>
                    <a:pt x="366" y="464"/>
                  </a:lnTo>
                  <a:lnTo>
                    <a:pt x="363" y="464"/>
                  </a:lnTo>
                  <a:lnTo>
                    <a:pt x="360" y="464"/>
                  </a:lnTo>
                  <a:lnTo>
                    <a:pt x="356" y="465"/>
                  </a:lnTo>
                  <a:lnTo>
                    <a:pt x="350" y="464"/>
                  </a:lnTo>
                  <a:lnTo>
                    <a:pt x="342" y="464"/>
                  </a:lnTo>
                  <a:lnTo>
                    <a:pt x="334" y="461"/>
                  </a:lnTo>
                  <a:lnTo>
                    <a:pt x="328" y="460"/>
                  </a:lnTo>
                  <a:lnTo>
                    <a:pt x="321" y="457"/>
                  </a:lnTo>
                  <a:lnTo>
                    <a:pt x="314" y="454"/>
                  </a:lnTo>
                  <a:lnTo>
                    <a:pt x="307" y="450"/>
                  </a:lnTo>
                  <a:lnTo>
                    <a:pt x="300" y="446"/>
                  </a:lnTo>
                  <a:lnTo>
                    <a:pt x="292" y="440"/>
                  </a:lnTo>
                  <a:lnTo>
                    <a:pt x="279" y="430"/>
                  </a:lnTo>
                  <a:lnTo>
                    <a:pt x="264" y="417"/>
                  </a:lnTo>
                  <a:lnTo>
                    <a:pt x="243" y="401"/>
                  </a:lnTo>
                  <a:lnTo>
                    <a:pt x="218" y="381"/>
                  </a:lnTo>
                  <a:lnTo>
                    <a:pt x="191" y="358"/>
                  </a:lnTo>
                  <a:lnTo>
                    <a:pt x="159" y="331"/>
                  </a:lnTo>
                  <a:lnTo>
                    <a:pt x="122" y="301"/>
                  </a:lnTo>
                  <a:lnTo>
                    <a:pt x="107" y="288"/>
                  </a:lnTo>
                  <a:lnTo>
                    <a:pt x="100" y="394"/>
                  </a:lnTo>
                  <a:close/>
                  <a:moveTo>
                    <a:pt x="112" y="223"/>
                  </a:moveTo>
                  <a:lnTo>
                    <a:pt x="121" y="223"/>
                  </a:lnTo>
                  <a:lnTo>
                    <a:pt x="131" y="221"/>
                  </a:lnTo>
                  <a:lnTo>
                    <a:pt x="142" y="217"/>
                  </a:lnTo>
                  <a:lnTo>
                    <a:pt x="155" y="212"/>
                  </a:lnTo>
                  <a:lnTo>
                    <a:pt x="170" y="205"/>
                  </a:lnTo>
                  <a:lnTo>
                    <a:pt x="185" y="198"/>
                  </a:lnTo>
                  <a:lnTo>
                    <a:pt x="202" y="189"/>
                  </a:lnTo>
                  <a:lnTo>
                    <a:pt x="220" y="178"/>
                  </a:lnTo>
                  <a:lnTo>
                    <a:pt x="238" y="167"/>
                  </a:lnTo>
                  <a:lnTo>
                    <a:pt x="254" y="155"/>
                  </a:lnTo>
                  <a:lnTo>
                    <a:pt x="267" y="143"/>
                  </a:lnTo>
                  <a:lnTo>
                    <a:pt x="278" y="134"/>
                  </a:lnTo>
                  <a:lnTo>
                    <a:pt x="286" y="123"/>
                  </a:lnTo>
                  <a:lnTo>
                    <a:pt x="292" y="111"/>
                  </a:lnTo>
                  <a:lnTo>
                    <a:pt x="293" y="106"/>
                  </a:lnTo>
                  <a:lnTo>
                    <a:pt x="296" y="102"/>
                  </a:lnTo>
                  <a:lnTo>
                    <a:pt x="297" y="96"/>
                  </a:lnTo>
                  <a:lnTo>
                    <a:pt x="297" y="91"/>
                  </a:lnTo>
                  <a:lnTo>
                    <a:pt x="296" y="85"/>
                  </a:lnTo>
                  <a:lnTo>
                    <a:pt x="292" y="79"/>
                  </a:lnTo>
                  <a:lnTo>
                    <a:pt x="288" y="75"/>
                  </a:lnTo>
                  <a:lnTo>
                    <a:pt x="281" y="72"/>
                  </a:lnTo>
                  <a:lnTo>
                    <a:pt x="272" y="70"/>
                  </a:lnTo>
                  <a:lnTo>
                    <a:pt x="262" y="67"/>
                  </a:lnTo>
                  <a:lnTo>
                    <a:pt x="249" y="66"/>
                  </a:lnTo>
                  <a:lnTo>
                    <a:pt x="235" y="65"/>
                  </a:lnTo>
                  <a:lnTo>
                    <a:pt x="226" y="66"/>
                  </a:lnTo>
                  <a:lnTo>
                    <a:pt x="218" y="66"/>
                  </a:lnTo>
                  <a:lnTo>
                    <a:pt x="209" y="66"/>
                  </a:lnTo>
                  <a:lnTo>
                    <a:pt x="202" y="67"/>
                  </a:lnTo>
                  <a:lnTo>
                    <a:pt x="194" y="67"/>
                  </a:lnTo>
                  <a:lnTo>
                    <a:pt x="185" y="68"/>
                  </a:lnTo>
                  <a:lnTo>
                    <a:pt x="179" y="70"/>
                  </a:lnTo>
                  <a:lnTo>
                    <a:pt x="171" y="70"/>
                  </a:lnTo>
                  <a:lnTo>
                    <a:pt x="163" y="72"/>
                  </a:lnTo>
                  <a:lnTo>
                    <a:pt x="156" y="73"/>
                  </a:lnTo>
                  <a:lnTo>
                    <a:pt x="151" y="74"/>
                  </a:lnTo>
                  <a:lnTo>
                    <a:pt x="144" y="75"/>
                  </a:lnTo>
                  <a:lnTo>
                    <a:pt x="140" y="77"/>
                  </a:lnTo>
                  <a:lnTo>
                    <a:pt x="134" y="78"/>
                  </a:lnTo>
                  <a:lnTo>
                    <a:pt x="130" y="79"/>
                  </a:lnTo>
                  <a:lnTo>
                    <a:pt x="126" y="82"/>
                  </a:lnTo>
                  <a:lnTo>
                    <a:pt x="122" y="84"/>
                  </a:lnTo>
                  <a:lnTo>
                    <a:pt x="119" y="86"/>
                  </a:lnTo>
                  <a:lnTo>
                    <a:pt x="116" y="89"/>
                  </a:lnTo>
                  <a:lnTo>
                    <a:pt x="113" y="92"/>
                  </a:lnTo>
                  <a:lnTo>
                    <a:pt x="112" y="96"/>
                  </a:lnTo>
                  <a:lnTo>
                    <a:pt x="111" y="99"/>
                  </a:lnTo>
                  <a:lnTo>
                    <a:pt x="110" y="104"/>
                  </a:lnTo>
                  <a:lnTo>
                    <a:pt x="110" y="108"/>
                  </a:lnTo>
                  <a:lnTo>
                    <a:pt x="110" y="156"/>
                  </a:lnTo>
                  <a:lnTo>
                    <a:pt x="107" y="219"/>
                  </a:lnTo>
                  <a:lnTo>
                    <a:pt x="107" y="220"/>
                  </a:lnTo>
                  <a:lnTo>
                    <a:pt x="108" y="221"/>
                  </a:lnTo>
                  <a:lnTo>
                    <a:pt x="108" y="222"/>
                  </a:lnTo>
                  <a:lnTo>
                    <a:pt x="108" y="222"/>
                  </a:lnTo>
                  <a:lnTo>
                    <a:pt x="109" y="223"/>
                  </a:lnTo>
                  <a:lnTo>
                    <a:pt x="110" y="223"/>
                  </a:lnTo>
                  <a:lnTo>
                    <a:pt x="111" y="223"/>
                  </a:lnTo>
                  <a:lnTo>
                    <a:pt x="112" y="22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392800" y="2298600"/>
              <a:ext cx="168120" cy="191880"/>
            </a:xfrm>
            <a:custGeom>
              <a:avLst/>
              <a:gdLst/>
              <a:ahLst/>
              <a:rect l="l" t="t" r="r" b="b"/>
              <a:pathLst>
                <a:path w="426" h="487">
                  <a:moveTo>
                    <a:pt x="247" y="340"/>
                  </a:moveTo>
                  <a:lnTo>
                    <a:pt x="153" y="347"/>
                  </a:lnTo>
                  <a:lnTo>
                    <a:pt x="151" y="347"/>
                  </a:lnTo>
                  <a:lnTo>
                    <a:pt x="148" y="350"/>
                  </a:lnTo>
                  <a:lnTo>
                    <a:pt x="145" y="354"/>
                  </a:lnTo>
                  <a:lnTo>
                    <a:pt x="142" y="360"/>
                  </a:lnTo>
                  <a:lnTo>
                    <a:pt x="138" y="368"/>
                  </a:lnTo>
                  <a:lnTo>
                    <a:pt x="133" y="376"/>
                  </a:lnTo>
                  <a:lnTo>
                    <a:pt x="129" y="386"/>
                  </a:lnTo>
                  <a:lnTo>
                    <a:pt x="124" y="400"/>
                  </a:lnTo>
                  <a:lnTo>
                    <a:pt x="119" y="412"/>
                  </a:lnTo>
                  <a:lnTo>
                    <a:pt x="115" y="423"/>
                  </a:lnTo>
                  <a:lnTo>
                    <a:pt x="110" y="433"/>
                  </a:lnTo>
                  <a:lnTo>
                    <a:pt x="107" y="441"/>
                  </a:lnTo>
                  <a:lnTo>
                    <a:pt x="105" y="449"/>
                  </a:lnTo>
                  <a:lnTo>
                    <a:pt x="102" y="456"/>
                  </a:lnTo>
                  <a:lnTo>
                    <a:pt x="100" y="460"/>
                  </a:lnTo>
                  <a:lnTo>
                    <a:pt x="99" y="464"/>
                  </a:lnTo>
                  <a:lnTo>
                    <a:pt x="99" y="467"/>
                  </a:lnTo>
                  <a:lnTo>
                    <a:pt x="98" y="469"/>
                  </a:lnTo>
                  <a:lnTo>
                    <a:pt x="97" y="471"/>
                  </a:lnTo>
                  <a:lnTo>
                    <a:pt x="96" y="475"/>
                  </a:lnTo>
                  <a:lnTo>
                    <a:pt x="95" y="476"/>
                  </a:lnTo>
                  <a:lnTo>
                    <a:pt x="92" y="478"/>
                  </a:lnTo>
                  <a:lnTo>
                    <a:pt x="91" y="480"/>
                  </a:lnTo>
                  <a:lnTo>
                    <a:pt x="90" y="481"/>
                  </a:lnTo>
                  <a:lnTo>
                    <a:pt x="88" y="482"/>
                  </a:lnTo>
                  <a:lnTo>
                    <a:pt x="86" y="483"/>
                  </a:lnTo>
                  <a:lnTo>
                    <a:pt x="84" y="484"/>
                  </a:lnTo>
                  <a:lnTo>
                    <a:pt x="80" y="486"/>
                  </a:lnTo>
                  <a:lnTo>
                    <a:pt x="77" y="486"/>
                  </a:lnTo>
                  <a:lnTo>
                    <a:pt x="74" y="487"/>
                  </a:lnTo>
                  <a:lnTo>
                    <a:pt x="70" y="487"/>
                  </a:lnTo>
                  <a:lnTo>
                    <a:pt x="66" y="487"/>
                  </a:lnTo>
                  <a:lnTo>
                    <a:pt x="59" y="487"/>
                  </a:lnTo>
                  <a:lnTo>
                    <a:pt x="53" y="487"/>
                  </a:lnTo>
                  <a:lnTo>
                    <a:pt x="47" y="486"/>
                  </a:lnTo>
                  <a:lnTo>
                    <a:pt x="42" y="486"/>
                  </a:lnTo>
                  <a:lnTo>
                    <a:pt x="36" y="484"/>
                  </a:lnTo>
                  <a:lnTo>
                    <a:pt x="31" y="483"/>
                  </a:lnTo>
                  <a:lnTo>
                    <a:pt x="25" y="482"/>
                  </a:lnTo>
                  <a:lnTo>
                    <a:pt x="20" y="481"/>
                  </a:lnTo>
                  <a:lnTo>
                    <a:pt x="15" y="479"/>
                  </a:lnTo>
                  <a:lnTo>
                    <a:pt x="12" y="478"/>
                  </a:lnTo>
                  <a:lnTo>
                    <a:pt x="7" y="476"/>
                  </a:lnTo>
                  <a:lnTo>
                    <a:pt x="5" y="473"/>
                  </a:lnTo>
                  <a:lnTo>
                    <a:pt x="3" y="471"/>
                  </a:lnTo>
                  <a:lnTo>
                    <a:pt x="2" y="468"/>
                  </a:lnTo>
                  <a:lnTo>
                    <a:pt x="1" y="466"/>
                  </a:lnTo>
                  <a:lnTo>
                    <a:pt x="0" y="462"/>
                  </a:lnTo>
                  <a:lnTo>
                    <a:pt x="1" y="456"/>
                  </a:lnTo>
                  <a:lnTo>
                    <a:pt x="2" y="448"/>
                  </a:lnTo>
                  <a:lnTo>
                    <a:pt x="4" y="438"/>
                  </a:lnTo>
                  <a:lnTo>
                    <a:pt x="7" y="426"/>
                  </a:lnTo>
                  <a:lnTo>
                    <a:pt x="12" y="413"/>
                  </a:lnTo>
                  <a:lnTo>
                    <a:pt x="16" y="398"/>
                  </a:lnTo>
                  <a:lnTo>
                    <a:pt x="23" y="382"/>
                  </a:lnTo>
                  <a:lnTo>
                    <a:pt x="29" y="363"/>
                  </a:lnTo>
                  <a:lnTo>
                    <a:pt x="36" y="344"/>
                  </a:lnTo>
                  <a:lnTo>
                    <a:pt x="44" y="323"/>
                  </a:lnTo>
                  <a:lnTo>
                    <a:pt x="53" y="304"/>
                  </a:lnTo>
                  <a:lnTo>
                    <a:pt x="60" y="283"/>
                  </a:lnTo>
                  <a:lnTo>
                    <a:pt x="69" y="260"/>
                  </a:lnTo>
                  <a:lnTo>
                    <a:pt x="78" y="239"/>
                  </a:lnTo>
                  <a:lnTo>
                    <a:pt x="88" y="216"/>
                  </a:lnTo>
                  <a:lnTo>
                    <a:pt x="97" y="193"/>
                  </a:lnTo>
                  <a:lnTo>
                    <a:pt x="107" y="171"/>
                  </a:lnTo>
                  <a:lnTo>
                    <a:pt x="116" y="150"/>
                  </a:lnTo>
                  <a:lnTo>
                    <a:pt x="123" y="130"/>
                  </a:lnTo>
                  <a:lnTo>
                    <a:pt x="131" y="113"/>
                  </a:lnTo>
                  <a:lnTo>
                    <a:pt x="139" y="96"/>
                  </a:lnTo>
                  <a:lnTo>
                    <a:pt x="145" y="81"/>
                  </a:lnTo>
                  <a:lnTo>
                    <a:pt x="151" y="67"/>
                  </a:lnTo>
                  <a:lnTo>
                    <a:pt x="156" y="55"/>
                  </a:lnTo>
                  <a:lnTo>
                    <a:pt x="161" y="44"/>
                  </a:lnTo>
                  <a:lnTo>
                    <a:pt x="165" y="35"/>
                  </a:lnTo>
                  <a:lnTo>
                    <a:pt x="170" y="27"/>
                  </a:lnTo>
                  <a:lnTo>
                    <a:pt x="173" y="20"/>
                  </a:lnTo>
                  <a:lnTo>
                    <a:pt x="175" y="14"/>
                  </a:lnTo>
                  <a:lnTo>
                    <a:pt x="177" y="10"/>
                  </a:lnTo>
                  <a:lnTo>
                    <a:pt x="180" y="7"/>
                  </a:lnTo>
                  <a:lnTo>
                    <a:pt x="181" y="4"/>
                  </a:lnTo>
                  <a:lnTo>
                    <a:pt x="182" y="3"/>
                  </a:lnTo>
                  <a:lnTo>
                    <a:pt x="184" y="2"/>
                  </a:lnTo>
                  <a:lnTo>
                    <a:pt x="185" y="1"/>
                  </a:lnTo>
                  <a:lnTo>
                    <a:pt x="187" y="1"/>
                  </a:lnTo>
                  <a:lnTo>
                    <a:pt x="191" y="0"/>
                  </a:lnTo>
                  <a:lnTo>
                    <a:pt x="193" y="0"/>
                  </a:lnTo>
                  <a:lnTo>
                    <a:pt x="196" y="0"/>
                  </a:lnTo>
                  <a:lnTo>
                    <a:pt x="200" y="0"/>
                  </a:lnTo>
                  <a:lnTo>
                    <a:pt x="203" y="0"/>
                  </a:lnTo>
                  <a:lnTo>
                    <a:pt x="206" y="0"/>
                  </a:lnTo>
                  <a:lnTo>
                    <a:pt x="211" y="0"/>
                  </a:lnTo>
                  <a:lnTo>
                    <a:pt x="215" y="1"/>
                  </a:lnTo>
                  <a:lnTo>
                    <a:pt x="219" y="1"/>
                  </a:lnTo>
                  <a:lnTo>
                    <a:pt x="226" y="2"/>
                  </a:lnTo>
                  <a:lnTo>
                    <a:pt x="233" y="3"/>
                  </a:lnTo>
                  <a:lnTo>
                    <a:pt x="239" y="4"/>
                  </a:lnTo>
                  <a:lnTo>
                    <a:pt x="246" y="6"/>
                  </a:lnTo>
                  <a:lnTo>
                    <a:pt x="254" y="7"/>
                  </a:lnTo>
                  <a:lnTo>
                    <a:pt x="260" y="8"/>
                  </a:lnTo>
                  <a:lnTo>
                    <a:pt x="267" y="9"/>
                  </a:lnTo>
                  <a:lnTo>
                    <a:pt x="273" y="10"/>
                  </a:lnTo>
                  <a:lnTo>
                    <a:pt x="280" y="10"/>
                  </a:lnTo>
                  <a:lnTo>
                    <a:pt x="287" y="11"/>
                  </a:lnTo>
                  <a:lnTo>
                    <a:pt x="292" y="12"/>
                  </a:lnTo>
                  <a:lnTo>
                    <a:pt x="299" y="12"/>
                  </a:lnTo>
                  <a:lnTo>
                    <a:pt x="304" y="13"/>
                  </a:lnTo>
                  <a:lnTo>
                    <a:pt x="309" y="14"/>
                  </a:lnTo>
                  <a:lnTo>
                    <a:pt x="313" y="15"/>
                  </a:lnTo>
                  <a:lnTo>
                    <a:pt x="317" y="17"/>
                  </a:lnTo>
                  <a:lnTo>
                    <a:pt x="320" y="18"/>
                  </a:lnTo>
                  <a:lnTo>
                    <a:pt x="322" y="19"/>
                  </a:lnTo>
                  <a:lnTo>
                    <a:pt x="324" y="20"/>
                  </a:lnTo>
                  <a:lnTo>
                    <a:pt x="326" y="22"/>
                  </a:lnTo>
                  <a:lnTo>
                    <a:pt x="328" y="24"/>
                  </a:lnTo>
                  <a:lnTo>
                    <a:pt x="330" y="27"/>
                  </a:lnTo>
                  <a:lnTo>
                    <a:pt x="331" y="29"/>
                  </a:lnTo>
                  <a:lnTo>
                    <a:pt x="332" y="31"/>
                  </a:lnTo>
                  <a:lnTo>
                    <a:pt x="333" y="34"/>
                  </a:lnTo>
                  <a:lnTo>
                    <a:pt x="334" y="39"/>
                  </a:lnTo>
                  <a:lnTo>
                    <a:pt x="335" y="42"/>
                  </a:lnTo>
                  <a:lnTo>
                    <a:pt x="336" y="47"/>
                  </a:lnTo>
                  <a:lnTo>
                    <a:pt x="339" y="57"/>
                  </a:lnTo>
                  <a:lnTo>
                    <a:pt x="342" y="70"/>
                  </a:lnTo>
                  <a:lnTo>
                    <a:pt x="345" y="86"/>
                  </a:lnTo>
                  <a:lnTo>
                    <a:pt x="350" y="106"/>
                  </a:lnTo>
                  <a:lnTo>
                    <a:pt x="355" y="129"/>
                  </a:lnTo>
                  <a:lnTo>
                    <a:pt x="362" y="156"/>
                  </a:lnTo>
                  <a:lnTo>
                    <a:pt x="368" y="185"/>
                  </a:lnTo>
                  <a:lnTo>
                    <a:pt x="376" y="216"/>
                  </a:lnTo>
                  <a:lnTo>
                    <a:pt x="383" y="245"/>
                  </a:lnTo>
                  <a:lnTo>
                    <a:pt x="388" y="272"/>
                  </a:lnTo>
                  <a:lnTo>
                    <a:pt x="395" y="296"/>
                  </a:lnTo>
                  <a:lnTo>
                    <a:pt x="399" y="319"/>
                  </a:lnTo>
                  <a:lnTo>
                    <a:pt x="404" y="339"/>
                  </a:lnTo>
                  <a:lnTo>
                    <a:pt x="408" y="356"/>
                  </a:lnTo>
                  <a:lnTo>
                    <a:pt x="411" y="372"/>
                  </a:lnTo>
                  <a:lnTo>
                    <a:pt x="415" y="386"/>
                  </a:lnTo>
                  <a:lnTo>
                    <a:pt x="418" y="398"/>
                  </a:lnTo>
                  <a:lnTo>
                    <a:pt x="420" y="408"/>
                  </a:lnTo>
                  <a:lnTo>
                    <a:pt x="423" y="417"/>
                  </a:lnTo>
                  <a:lnTo>
                    <a:pt x="424" y="425"/>
                  </a:lnTo>
                  <a:lnTo>
                    <a:pt x="425" y="430"/>
                  </a:lnTo>
                  <a:lnTo>
                    <a:pt x="425" y="434"/>
                  </a:lnTo>
                  <a:lnTo>
                    <a:pt x="426" y="436"/>
                  </a:lnTo>
                  <a:lnTo>
                    <a:pt x="425" y="440"/>
                  </a:lnTo>
                  <a:lnTo>
                    <a:pt x="423" y="444"/>
                  </a:lnTo>
                  <a:lnTo>
                    <a:pt x="418" y="447"/>
                  </a:lnTo>
                  <a:lnTo>
                    <a:pt x="413" y="450"/>
                  </a:lnTo>
                  <a:lnTo>
                    <a:pt x="406" y="452"/>
                  </a:lnTo>
                  <a:lnTo>
                    <a:pt x="397" y="454"/>
                  </a:lnTo>
                  <a:lnTo>
                    <a:pt x="386" y="455"/>
                  </a:lnTo>
                  <a:lnTo>
                    <a:pt x="375" y="455"/>
                  </a:lnTo>
                  <a:lnTo>
                    <a:pt x="366" y="455"/>
                  </a:lnTo>
                  <a:lnTo>
                    <a:pt x="358" y="454"/>
                  </a:lnTo>
                  <a:lnTo>
                    <a:pt x="352" y="452"/>
                  </a:lnTo>
                  <a:lnTo>
                    <a:pt x="346" y="450"/>
                  </a:lnTo>
                  <a:lnTo>
                    <a:pt x="341" y="448"/>
                  </a:lnTo>
                  <a:lnTo>
                    <a:pt x="335" y="445"/>
                  </a:lnTo>
                  <a:lnTo>
                    <a:pt x="332" y="441"/>
                  </a:lnTo>
                  <a:lnTo>
                    <a:pt x="329" y="437"/>
                  </a:lnTo>
                  <a:lnTo>
                    <a:pt x="325" y="433"/>
                  </a:lnTo>
                  <a:lnTo>
                    <a:pt x="322" y="428"/>
                  </a:lnTo>
                  <a:lnTo>
                    <a:pt x="319" y="423"/>
                  </a:lnTo>
                  <a:lnTo>
                    <a:pt x="317" y="417"/>
                  </a:lnTo>
                  <a:lnTo>
                    <a:pt x="313" y="412"/>
                  </a:lnTo>
                  <a:lnTo>
                    <a:pt x="310" y="405"/>
                  </a:lnTo>
                  <a:lnTo>
                    <a:pt x="307" y="400"/>
                  </a:lnTo>
                  <a:lnTo>
                    <a:pt x="303" y="392"/>
                  </a:lnTo>
                  <a:lnTo>
                    <a:pt x="301" y="385"/>
                  </a:lnTo>
                  <a:lnTo>
                    <a:pt x="298" y="380"/>
                  </a:lnTo>
                  <a:lnTo>
                    <a:pt x="296" y="373"/>
                  </a:lnTo>
                  <a:lnTo>
                    <a:pt x="293" y="369"/>
                  </a:lnTo>
                  <a:lnTo>
                    <a:pt x="291" y="363"/>
                  </a:lnTo>
                  <a:lnTo>
                    <a:pt x="289" y="359"/>
                  </a:lnTo>
                  <a:lnTo>
                    <a:pt x="288" y="355"/>
                  </a:lnTo>
                  <a:lnTo>
                    <a:pt x="287" y="351"/>
                  </a:lnTo>
                  <a:lnTo>
                    <a:pt x="285" y="349"/>
                  </a:lnTo>
                  <a:lnTo>
                    <a:pt x="283" y="345"/>
                  </a:lnTo>
                  <a:lnTo>
                    <a:pt x="282" y="343"/>
                  </a:lnTo>
                  <a:lnTo>
                    <a:pt x="280" y="341"/>
                  </a:lnTo>
                  <a:lnTo>
                    <a:pt x="279" y="340"/>
                  </a:lnTo>
                  <a:lnTo>
                    <a:pt x="277" y="339"/>
                  </a:lnTo>
                  <a:lnTo>
                    <a:pt x="275" y="339"/>
                  </a:lnTo>
                  <a:lnTo>
                    <a:pt x="272" y="338"/>
                  </a:lnTo>
                  <a:lnTo>
                    <a:pt x="247" y="340"/>
                  </a:lnTo>
                  <a:close/>
                  <a:moveTo>
                    <a:pt x="182" y="268"/>
                  </a:moveTo>
                  <a:lnTo>
                    <a:pt x="181" y="269"/>
                  </a:lnTo>
                  <a:lnTo>
                    <a:pt x="181" y="272"/>
                  </a:lnTo>
                  <a:lnTo>
                    <a:pt x="180" y="273"/>
                  </a:lnTo>
                  <a:lnTo>
                    <a:pt x="180" y="274"/>
                  </a:lnTo>
                  <a:lnTo>
                    <a:pt x="180" y="275"/>
                  </a:lnTo>
                  <a:lnTo>
                    <a:pt x="180" y="275"/>
                  </a:lnTo>
                  <a:lnTo>
                    <a:pt x="180" y="276"/>
                  </a:lnTo>
                  <a:lnTo>
                    <a:pt x="180" y="276"/>
                  </a:lnTo>
                  <a:lnTo>
                    <a:pt x="180" y="277"/>
                  </a:lnTo>
                  <a:lnTo>
                    <a:pt x="180" y="277"/>
                  </a:lnTo>
                  <a:lnTo>
                    <a:pt x="181" y="278"/>
                  </a:lnTo>
                  <a:lnTo>
                    <a:pt x="181" y="279"/>
                  </a:lnTo>
                  <a:lnTo>
                    <a:pt x="182" y="279"/>
                  </a:lnTo>
                  <a:lnTo>
                    <a:pt x="183" y="279"/>
                  </a:lnTo>
                  <a:lnTo>
                    <a:pt x="184" y="280"/>
                  </a:lnTo>
                  <a:lnTo>
                    <a:pt x="186" y="280"/>
                  </a:lnTo>
                  <a:lnTo>
                    <a:pt x="247" y="267"/>
                  </a:lnTo>
                  <a:lnTo>
                    <a:pt x="251" y="267"/>
                  </a:lnTo>
                  <a:lnTo>
                    <a:pt x="255" y="267"/>
                  </a:lnTo>
                  <a:lnTo>
                    <a:pt x="258" y="267"/>
                  </a:lnTo>
                  <a:lnTo>
                    <a:pt x="260" y="267"/>
                  </a:lnTo>
                  <a:lnTo>
                    <a:pt x="264" y="267"/>
                  </a:lnTo>
                  <a:lnTo>
                    <a:pt x="265" y="266"/>
                  </a:lnTo>
                  <a:lnTo>
                    <a:pt x="267" y="266"/>
                  </a:lnTo>
                  <a:lnTo>
                    <a:pt x="268" y="266"/>
                  </a:lnTo>
                  <a:lnTo>
                    <a:pt x="269" y="266"/>
                  </a:lnTo>
                  <a:lnTo>
                    <a:pt x="270" y="266"/>
                  </a:lnTo>
                  <a:lnTo>
                    <a:pt x="271" y="265"/>
                  </a:lnTo>
                  <a:lnTo>
                    <a:pt x="271" y="265"/>
                  </a:lnTo>
                  <a:lnTo>
                    <a:pt x="272" y="264"/>
                  </a:lnTo>
                  <a:lnTo>
                    <a:pt x="272" y="264"/>
                  </a:lnTo>
                  <a:lnTo>
                    <a:pt x="272" y="263"/>
                  </a:lnTo>
                  <a:lnTo>
                    <a:pt x="272" y="262"/>
                  </a:lnTo>
                  <a:lnTo>
                    <a:pt x="272" y="260"/>
                  </a:lnTo>
                  <a:lnTo>
                    <a:pt x="271" y="257"/>
                  </a:lnTo>
                  <a:lnTo>
                    <a:pt x="270" y="252"/>
                  </a:lnTo>
                  <a:lnTo>
                    <a:pt x="268" y="245"/>
                  </a:lnTo>
                  <a:lnTo>
                    <a:pt x="266" y="236"/>
                  </a:lnTo>
                  <a:lnTo>
                    <a:pt x="262" y="225"/>
                  </a:lnTo>
                  <a:lnTo>
                    <a:pt x="259" y="213"/>
                  </a:lnTo>
                  <a:lnTo>
                    <a:pt x="256" y="199"/>
                  </a:lnTo>
                  <a:lnTo>
                    <a:pt x="251" y="184"/>
                  </a:lnTo>
                  <a:lnTo>
                    <a:pt x="248" y="171"/>
                  </a:lnTo>
                  <a:lnTo>
                    <a:pt x="245" y="160"/>
                  </a:lnTo>
                  <a:lnTo>
                    <a:pt x="243" y="150"/>
                  </a:lnTo>
                  <a:lnTo>
                    <a:pt x="240" y="143"/>
                  </a:lnTo>
                  <a:lnTo>
                    <a:pt x="239" y="137"/>
                  </a:lnTo>
                  <a:lnTo>
                    <a:pt x="238" y="134"/>
                  </a:lnTo>
                  <a:lnTo>
                    <a:pt x="238" y="130"/>
                  </a:lnTo>
                  <a:lnTo>
                    <a:pt x="236" y="134"/>
                  </a:lnTo>
                  <a:lnTo>
                    <a:pt x="234" y="139"/>
                  </a:lnTo>
                  <a:lnTo>
                    <a:pt x="230" y="146"/>
                  </a:lnTo>
                  <a:lnTo>
                    <a:pt x="227" y="153"/>
                  </a:lnTo>
                  <a:lnTo>
                    <a:pt x="223" y="162"/>
                  </a:lnTo>
                  <a:lnTo>
                    <a:pt x="218" y="173"/>
                  </a:lnTo>
                  <a:lnTo>
                    <a:pt x="213" y="187"/>
                  </a:lnTo>
                  <a:lnTo>
                    <a:pt x="207" y="200"/>
                  </a:lnTo>
                  <a:lnTo>
                    <a:pt x="202" y="214"/>
                  </a:lnTo>
                  <a:lnTo>
                    <a:pt x="197" y="226"/>
                  </a:lnTo>
                  <a:lnTo>
                    <a:pt x="193" y="237"/>
                  </a:lnTo>
                  <a:lnTo>
                    <a:pt x="190" y="246"/>
                  </a:lnTo>
                  <a:lnTo>
                    <a:pt x="186" y="254"/>
                  </a:lnTo>
                  <a:lnTo>
                    <a:pt x="184" y="260"/>
                  </a:lnTo>
                  <a:lnTo>
                    <a:pt x="182" y="265"/>
                  </a:lnTo>
                  <a:lnTo>
                    <a:pt x="182" y="26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5589720" y="2293920"/>
              <a:ext cx="46080" cy="188280"/>
            </a:xfrm>
            <a:custGeom>
              <a:avLst/>
              <a:gdLst/>
              <a:ahLst/>
              <a:rect l="l" t="t" r="r" b="b"/>
              <a:pathLst>
                <a:path w="119" h="475">
                  <a:moveTo>
                    <a:pt x="116" y="448"/>
                  </a:moveTo>
                  <a:lnTo>
                    <a:pt x="115" y="454"/>
                  </a:lnTo>
                  <a:lnTo>
                    <a:pt x="114" y="459"/>
                  </a:lnTo>
                  <a:lnTo>
                    <a:pt x="113" y="465"/>
                  </a:lnTo>
                  <a:lnTo>
                    <a:pt x="111" y="468"/>
                  </a:lnTo>
                  <a:lnTo>
                    <a:pt x="108" y="471"/>
                  </a:lnTo>
                  <a:lnTo>
                    <a:pt x="103" y="474"/>
                  </a:lnTo>
                  <a:lnTo>
                    <a:pt x="99" y="475"/>
                  </a:lnTo>
                  <a:lnTo>
                    <a:pt x="94" y="475"/>
                  </a:lnTo>
                  <a:lnTo>
                    <a:pt x="89" y="475"/>
                  </a:lnTo>
                  <a:lnTo>
                    <a:pt x="84" y="475"/>
                  </a:lnTo>
                  <a:lnTo>
                    <a:pt x="78" y="474"/>
                  </a:lnTo>
                  <a:lnTo>
                    <a:pt x="71" y="473"/>
                  </a:lnTo>
                  <a:lnTo>
                    <a:pt x="65" y="471"/>
                  </a:lnTo>
                  <a:lnTo>
                    <a:pt x="56" y="470"/>
                  </a:lnTo>
                  <a:lnTo>
                    <a:pt x="48" y="468"/>
                  </a:lnTo>
                  <a:lnTo>
                    <a:pt x="38" y="466"/>
                  </a:lnTo>
                  <a:lnTo>
                    <a:pt x="29" y="464"/>
                  </a:lnTo>
                  <a:lnTo>
                    <a:pt x="21" y="461"/>
                  </a:lnTo>
                  <a:lnTo>
                    <a:pt x="15" y="459"/>
                  </a:lnTo>
                  <a:lnTo>
                    <a:pt x="10" y="456"/>
                  </a:lnTo>
                  <a:lnTo>
                    <a:pt x="6" y="454"/>
                  </a:lnTo>
                  <a:lnTo>
                    <a:pt x="3" y="450"/>
                  </a:lnTo>
                  <a:lnTo>
                    <a:pt x="2" y="448"/>
                  </a:lnTo>
                  <a:lnTo>
                    <a:pt x="0" y="445"/>
                  </a:lnTo>
                  <a:lnTo>
                    <a:pt x="0" y="215"/>
                  </a:lnTo>
                  <a:lnTo>
                    <a:pt x="4" y="50"/>
                  </a:lnTo>
                  <a:lnTo>
                    <a:pt x="5" y="42"/>
                  </a:lnTo>
                  <a:lnTo>
                    <a:pt x="5" y="36"/>
                  </a:lnTo>
                  <a:lnTo>
                    <a:pt x="6" y="29"/>
                  </a:lnTo>
                  <a:lnTo>
                    <a:pt x="7" y="23"/>
                  </a:lnTo>
                  <a:lnTo>
                    <a:pt x="8" y="19"/>
                  </a:lnTo>
                  <a:lnTo>
                    <a:pt x="10" y="15"/>
                  </a:lnTo>
                  <a:lnTo>
                    <a:pt x="13" y="11"/>
                  </a:lnTo>
                  <a:lnTo>
                    <a:pt x="15" y="9"/>
                  </a:lnTo>
                  <a:lnTo>
                    <a:pt x="18" y="7"/>
                  </a:lnTo>
                  <a:lnTo>
                    <a:pt x="20" y="5"/>
                  </a:lnTo>
                  <a:lnTo>
                    <a:pt x="24" y="4"/>
                  </a:lnTo>
                  <a:lnTo>
                    <a:pt x="27" y="2"/>
                  </a:lnTo>
                  <a:lnTo>
                    <a:pt x="30" y="1"/>
                  </a:lnTo>
                  <a:lnTo>
                    <a:pt x="34" y="0"/>
                  </a:lnTo>
                  <a:lnTo>
                    <a:pt x="37" y="0"/>
                  </a:lnTo>
                  <a:lnTo>
                    <a:pt x="41" y="0"/>
                  </a:lnTo>
                  <a:lnTo>
                    <a:pt x="46" y="0"/>
                  </a:lnTo>
                  <a:lnTo>
                    <a:pt x="51" y="0"/>
                  </a:lnTo>
                  <a:lnTo>
                    <a:pt x="56" y="0"/>
                  </a:lnTo>
                  <a:lnTo>
                    <a:pt x="62" y="1"/>
                  </a:lnTo>
                  <a:lnTo>
                    <a:pt x="68" y="2"/>
                  </a:lnTo>
                  <a:lnTo>
                    <a:pt x="74" y="4"/>
                  </a:lnTo>
                  <a:lnTo>
                    <a:pt x="81" y="5"/>
                  </a:lnTo>
                  <a:lnTo>
                    <a:pt x="89" y="7"/>
                  </a:lnTo>
                  <a:lnTo>
                    <a:pt x="95" y="8"/>
                  </a:lnTo>
                  <a:lnTo>
                    <a:pt x="102" y="10"/>
                  </a:lnTo>
                  <a:lnTo>
                    <a:pt x="108" y="11"/>
                  </a:lnTo>
                  <a:lnTo>
                    <a:pt x="111" y="13"/>
                  </a:lnTo>
                  <a:lnTo>
                    <a:pt x="114" y="16"/>
                  </a:lnTo>
                  <a:lnTo>
                    <a:pt x="118" y="18"/>
                  </a:lnTo>
                  <a:lnTo>
                    <a:pt x="119" y="20"/>
                  </a:lnTo>
                  <a:lnTo>
                    <a:pt x="119" y="23"/>
                  </a:lnTo>
                  <a:lnTo>
                    <a:pt x="116" y="120"/>
                  </a:lnTo>
                  <a:lnTo>
                    <a:pt x="116" y="44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673600" y="2293920"/>
              <a:ext cx="155880" cy="188280"/>
            </a:xfrm>
            <a:custGeom>
              <a:avLst/>
              <a:gdLst/>
              <a:ahLst/>
              <a:rect l="l" t="t" r="r" b="b"/>
              <a:pathLst>
                <a:path w="388" h="477">
                  <a:moveTo>
                    <a:pt x="250" y="423"/>
                  </a:moveTo>
                  <a:lnTo>
                    <a:pt x="241" y="429"/>
                  </a:lnTo>
                  <a:lnTo>
                    <a:pt x="233" y="435"/>
                  </a:lnTo>
                  <a:lnTo>
                    <a:pt x="223" y="439"/>
                  </a:lnTo>
                  <a:lnTo>
                    <a:pt x="214" y="445"/>
                  </a:lnTo>
                  <a:lnTo>
                    <a:pt x="205" y="449"/>
                  </a:lnTo>
                  <a:lnTo>
                    <a:pt x="195" y="454"/>
                  </a:lnTo>
                  <a:lnTo>
                    <a:pt x="186" y="458"/>
                  </a:lnTo>
                  <a:lnTo>
                    <a:pt x="176" y="462"/>
                  </a:lnTo>
                  <a:lnTo>
                    <a:pt x="166" y="466"/>
                  </a:lnTo>
                  <a:lnTo>
                    <a:pt x="158" y="469"/>
                  </a:lnTo>
                  <a:lnTo>
                    <a:pt x="149" y="471"/>
                  </a:lnTo>
                  <a:lnTo>
                    <a:pt x="141" y="474"/>
                  </a:lnTo>
                  <a:lnTo>
                    <a:pt x="133" y="476"/>
                  </a:lnTo>
                  <a:lnTo>
                    <a:pt x="127" y="477"/>
                  </a:lnTo>
                  <a:lnTo>
                    <a:pt x="119" y="477"/>
                  </a:lnTo>
                  <a:lnTo>
                    <a:pt x="112" y="477"/>
                  </a:lnTo>
                  <a:lnTo>
                    <a:pt x="108" y="477"/>
                  </a:lnTo>
                  <a:lnTo>
                    <a:pt x="103" y="477"/>
                  </a:lnTo>
                  <a:lnTo>
                    <a:pt x="97" y="476"/>
                  </a:lnTo>
                  <a:lnTo>
                    <a:pt x="90" y="475"/>
                  </a:lnTo>
                  <a:lnTo>
                    <a:pt x="84" y="474"/>
                  </a:lnTo>
                  <a:lnTo>
                    <a:pt x="75" y="471"/>
                  </a:lnTo>
                  <a:lnTo>
                    <a:pt x="66" y="469"/>
                  </a:lnTo>
                  <a:lnTo>
                    <a:pt x="57" y="466"/>
                  </a:lnTo>
                  <a:lnTo>
                    <a:pt x="47" y="464"/>
                  </a:lnTo>
                  <a:lnTo>
                    <a:pt x="39" y="461"/>
                  </a:lnTo>
                  <a:lnTo>
                    <a:pt x="32" y="458"/>
                  </a:lnTo>
                  <a:lnTo>
                    <a:pt x="25" y="456"/>
                  </a:lnTo>
                  <a:lnTo>
                    <a:pt x="20" y="454"/>
                  </a:lnTo>
                  <a:lnTo>
                    <a:pt x="15" y="451"/>
                  </a:lnTo>
                  <a:lnTo>
                    <a:pt x="11" y="449"/>
                  </a:lnTo>
                  <a:lnTo>
                    <a:pt x="8" y="447"/>
                  </a:lnTo>
                  <a:lnTo>
                    <a:pt x="6" y="445"/>
                  </a:lnTo>
                  <a:lnTo>
                    <a:pt x="4" y="442"/>
                  </a:lnTo>
                  <a:lnTo>
                    <a:pt x="3" y="438"/>
                  </a:lnTo>
                  <a:lnTo>
                    <a:pt x="2" y="434"/>
                  </a:lnTo>
                  <a:lnTo>
                    <a:pt x="1" y="428"/>
                  </a:lnTo>
                  <a:lnTo>
                    <a:pt x="0" y="422"/>
                  </a:lnTo>
                  <a:lnTo>
                    <a:pt x="0" y="415"/>
                  </a:lnTo>
                  <a:lnTo>
                    <a:pt x="0" y="406"/>
                  </a:lnTo>
                  <a:lnTo>
                    <a:pt x="2" y="42"/>
                  </a:lnTo>
                  <a:lnTo>
                    <a:pt x="0" y="28"/>
                  </a:lnTo>
                  <a:lnTo>
                    <a:pt x="0" y="27"/>
                  </a:lnTo>
                  <a:lnTo>
                    <a:pt x="1" y="24"/>
                  </a:lnTo>
                  <a:lnTo>
                    <a:pt x="2" y="22"/>
                  </a:lnTo>
                  <a:lnTo>
                    <a:pt x="4" y="20"/>
                  </a:lnTo>
                  <a:lnTo>
                    <a:pt x="7" y="18"/>
                  </a:lnTo>
                  <a:lnTo>
                    <a:pt x="11" y="16"/>
                  </a:lnTo>
                  <a:lnTo>
                    <a:pt x="14" y="13"/>
                  </a:lnTo>
                  <a:lnTo>
                    <a:pt x="18" y="11"/>
                  </a:lnTo>
                  <a:lnTo>
                    <a:pt x="24" y="8"/>
                  </a:lnTo>
                  <a:lnTo>
                    <a:pt x="29" y="6"/>
                  </a:lnTo>
                  <a:lnTo>
                    <a:pt x="35" y="5"/>
                  </a:lnTo>
                  <a:lnTo>
                    <a:pt x="41" y="2"/>
                  </a:lnTo>
                  <a:lnTo>
                    <a:pt x="46" y="1"/>
                  </a:lnTo>
                  <a:lnTo>
                    <a:pt x="52" y="1"/>
                  </a:lnTo>
                  <a:lnTo>
                    <a:pt x="57" y="0"/>
                  </a:lnTo>
                  <a:lnTo>
                    <a:pt x="63" y="0"/>
                  </a:lnTo>
                  <a:lnTo>
                    <a:pt x="87" y="0"/>
                  </a:lnTo>
                  <a:lnTo>
                    <a:pt x="110" y="1"/>
                  </a:lnTo>
                  <a:lnTo>
                    <a:pt x="132" y="3"/>
                  </a:lnTo>
                  <a:lnTo>
                    <a:pt x="153" y="6"/>
                  </a:lnTo>
                  <a:lnTo>
                    <a:pt x="173" y="9"/>
                  </a:lnTo>
                  <a:lnTo>
                    <a:pt x="192" y="13"/>
                  </a:lnTo>
                  <a:lnTo>
                    <a:pt x="209" y="19"/>
                  </a:lnTo>
                  <a:lnTo>
                    <a:pt x="226" y="24"/>
                  </a:lnTo>
                  <a:lnTo>
                    <a:pt x="241" y="30"/>
                  </a:lnTo>
                  <a:lnTo>
                    <a:pt x="256" y="37"/>
                  </a:lnTo>
                  <a:lnTo>
                    <a:pt x="269" y="43"/>
                  </a:lnTo>
                  <a:lnTo>
                    <a:pt x="282" y="51"/>
                  </a:lnTo>
                  <a:lnTo>
                    <a:pt x="293" y="57"/>
                  </a:lnTo>
                  <a:lnTo>
                    <a:pt x="304" y="65"/>
                  </a:lnTo>
                  <a:lnTo>
                    <a:pt x="314" y="73"/>
                  </a:lnTo>
                  <a:lnTo>
                    <a:pt x="323" y="82"/>
                  </a:lnTo>
                  <a:lnTo>
                    <a:pt x="331" y="89"/>
                  </a:lnTo>
                  <a:lnTo>
                    <a:pt x="339" y="98"/>
                  </a:lnTo>
                  <a:lnTo>
                    <a:pt x="346" y="107"/>
                  </a:lnTo>
                  <a:lnTo>
                    <a:pt x="352" y="115"/>
                  </a:lnTo>
                  <a:lnTo>
                    <a:pt x="358" y="124"/>
                  </a:lnTo>
                  <a:lnTo>
                    <a:pt x="364" y="133"/>
                  </a:lnTo>
                  <a:lnTo>
                    <a:pt x="368" y="141"/>
                  </a:lnTo>
                  <a:lnTo>
                    <a:pt x="373" y="150"/>
                  </a:lnTo>
                  <a:lnTo>
                    <a:pt x="376" y="159"/>
                  </a:lnTo>
                  <a:lnTo>
                    <a:pt x="379" y="168"/>
                  </a:lnTo>
                  <a:lnTo>
                    <a:pt x="382" y="177"/>
                  </a:lnTo>
                  <a:lnTo>
                    <a:pt x="384" y="185"/>
                  </a:lnTo>
                  <a:lnTo>
                    <a:pt x="386" y="193"/>
                  </a:lnTo>
                  <a:lnTo>
                    <a:pt x="387" y="202"/>
                  </a:lnTo>
                  <a:lnTo>
                    <a:pt x="388" y="211"/>
                  </a:lnTo>
                  <a:lnTo>
                    <a:pt x="388" y="220"/>
                  </a:lnTo>
                  <a:lnTo>
                    <a:pt x="388" y="233"/>
                  </a:lnTo>
                  <a:lnTo>
                    <a:pt x="386" y="246"/>
                  </a:lnTo>
                  <a:lnTo>
                    <a:pt x="383" y="259"/>
                  </a:lnTo>
                  <a:lnTo>
                    <a:pt x="379" y="273"/>
                  </a:lnTo>
                  <a:lnTo>
                    <a:pt x="374" y="286"/>
                  </a:lnTo>
                  <a:lnTo>
                    <a:pt x="368" y="299"/>
                  </a:lnTo>
                  <a:lnTo>
                    <a:pt x="361" y="312"/>
                  </a:lnTo>
                  <a:lnTo>
                    <a:pt x="352" y="327"/>
                  </a:lnTo>
                  <a:lnTo>
                    <a:pt x="343" y="340"/>
                  </a:lnTo>
                  <a:lnTo>
                    <a:pt x="332" y="352"/>
                  </a:lnTo>
                  <a:lnTo>
                    <a:pt x="321" y="365"/>
                  </a:lnTo>
                  <a:lnTo>
                    <a:pt x="309" y="378"/>
                  </a:lnTo>
                  <a:lnTo>
                    <a:pt x="296" y="390"/>
                  </a:lnTo>
                  <a:lnTo>
                    <a:pt x="281" y="401"/>
                  </a:lnTo>
                  <a:lnTo>
                    <a:pt x="267" y="412"/>
                  </a:lnTo>
                  <a:lnTo>
                    <a:pt x="250" y="423"/>
                  </a:lnTo>
                  <a:close/>
                  <a:moveTo>
                    <a:pt x="134" y="59"/>
                  </a:moveTo>
                  <a:lnTo>
                    <a:pt x="131" y="59"/>
                  </a:lnTo>
                  <a:lnTo>
                    <a:pt x="129" y="59"/>
                  </a:lnTo>
                  <a:lnTo>
                    <a:pt x="126" y="60"/>
                  </a:lnTo>
                  <a:lnTo>
                    <a:pt x="123" y="60"/>
                  </a:lnTo>
                  <a:lnTo>
                    <a:pt x="121" y="61"/>
                  </a:lnTo>
                  <a:lnTo>
                    <a:pt x="120" y="62"/>
                  </a:lnTo>
                  <a:lnTo>
                    <a:pt x="118" y="63"/>
                  </a:lnTo>
                  <a:lnTo>
                    <a:pt x="117" y="64"/>
                  </a:lnTo>
                  <a:lnTo>
                    <a:pt x="116" y="65"/>
                  </a:lnTo>
                  <a:lnTo>
                    <a:pt x="116" y="67"/>
                  </a:lnTo>
                  <a:lnTo>
                    <a:pt x="114" y="70"/>
                  </a:lnTo>
                  <a:lnTo>
                    <a:pt x="113" y="73"/>
                  </a:lnTo>
                  <a:lnTo>
                    <a:pt x="113" y="76"/>
                  </a:lnTo>
                  <a:lnTo>
                    <a:pt x="113" y="80"/>
                  </a:lnTo>
                  <a:lnTo>
                    <a:pt x="113" y="84"/>
                  </a:lnTo>
                  <a:lnTo>
                    <a:pt x="112" y="88"/>
                  </a:lnTo>
                  <a:lnTo>
                    <a:pt x="112" y="97"/>
                  </a:lnTo>
                  <a:lnTo>
                    <a:pt x="112" y="107"/>
                  </a:lnTo>
                  <a:lnTo>
                    <a:pt x="112" y="116"/>
                  </a:lnTo>
                  <a:lnTo>
                    <a:pt x="111" y="126"/>
                  </a:lnTo>
                  <a:lnTo>
                    <a:pt x="111" y="136"/>
                  </a:lnTo>
                  <a:lnTo>
                    <a:pt x="111" y="146"/>
                  </a:lnTo>
                  <a:lnTo>
                    <a:pt x="111" y="157"/>
                  </a:lnTo>
                  <a:lnTo>
                    <a:pt x="111" y="167"/>
                  </a:lnTo>
                  <a:lnTo>
                    <a:pt x="111" y="178"/>
                  </a:lnTo>
                  <a:lnTo>
                    <a:pt x="110" y="189"/>
                  </a:lnTo>
                  <a:lnTo>
                    <a:pt x="110" y="200"/>
                  </a:lnTo>
                  <a:lnTo>
                    <a:pt x="110" y="212"/>
                  </a:lnTo>
                  <a:lnTo>
                    <a:pt x="110" y="223"/>
                  </a:lnTo>
                  <a:lnTo>
                    <a:pt x="110" y="234"/>
                  </a:lnTo>
                  <a:lnTo>
                    <a:pt x="110" y="246"/>
                  </a:lnTo>
                  <a:lnTo>
                    <a:pt x="110" y="258"/>
                  </a:lnTo>
                  <a:lnTo>
                    <a:pt x="110" y="265"/>
                  </a:lnTo>
                  <a:lnTo>
                    <a:pt x="110" y="273"/>
                  </a:lnTo>
                  <a:lnTo>
                    <a:pt x="110" y="280"/>
                  </a:lnTo>
                  <a:lnTo>
                    <a:pt x="110" y="287"/>
                  </a:lnTo>
                  <a:lnTo>
                    <a:pt x="110" y="295"/>
                  </a:lnTo>
                  <a:lnTo>
                    <a:pt x="110" y="301"/>
                  </a:lnTo>
                  <a:lnTo>
                    <a:pt x="110" y="308"/>
                  </a:lnTo>
                  <a:lnTo>
                    <a:pt x="110" y="315"/>
                  </a:lnTo>
                  <a:lnTo>
                    <a:pt x="111" y="321"/>
                  </a:lnTo>
                  <a:lnTo>
                    <a:pt x="111" y="327"/>
                  </a:lnTo>
                  <a:lnTo>
                    <a:pt x="111" y="332"/>
                  </a:lnTo>
                  <a:lnTo>
                    <a:pt x="111" y="337"/>
                  </a:lnTo>
                  <a:lnTo>
                    <a:pt x="111" y="341"/>
                  </a:lnTo>
                  <a:lnTo>
                    <a:pt x="112" y="346"/>
                  </a:lnTo>
                  <a:lnTo>
                    <a:pt x="112" y="349"/>
                  </a:lnTo>
                  <a:lnTo>
                    <a:pt x="112" y="352"/>
                  </a:lnTo>
                  <a:lnTo>
                    <a:pt x="112" y="353"/>
                  </a:lnTo>
                  <a:lnTo>
                    <a:pt x="112" y="354"/>
                  </a:lnTo>
                  <a:lnTo>
                    <a:pt x="112" y="355"/>
                  </a:lnTo>
                  <a:lnTo>
                    <a:pt x="112" y="357"/>
                  </a:lnTo>
                  <a:lnTo>
                    <a:pt x="112" y="358"/>
                  </a:lnTo>
                  <a:lnTo>
                    <a:pt x="112" y="358"/>
                  </a:lnTo>
                  <a:lnTo>
                    <a:pt x="112" y="359"/>
                  </a:lnTo>
                  <a:lnTo>
                    <a:pt x="112" y="360"/>
                  </a:lnTo>
                  <a:lnTo>
                    <a:pt x="113" y="364"/>
                  </a:lnTo>
                  <a:lnTo>
                    <a:pt x="113" y="369"/>
                  </a:lnTo>
                  <a:lnTo>
                    <a:pt x="113" y="372"/>
                  </a:lnTo>
                  <a:lnTo>
                    <a:pt x="113" y="376"/>
                  </a:lnTo>
                  <a:lnTo>
                    <a:pt x="113" y="380"/>
                  </a:lnTo>
                  <a:lnTo>
                    <a:pt x="113" y="383"/>
                  </a:lnTo>
                  <a:lnTo>
                    <a:pt x="114" y="386"/>
                  </a:lnTo>
                  <a:lnTo>
                    <a:pt x="114" y="389"/>
                  </a:lnTo>
                  <a:lnTo>
                    <a:pt x="116" y="391"/>
                  </a:lnTo>
                  <a:lnTo>
                    <a:pt x="116" y="393"/>
                  </a:lnTo>
                  <a:lnTo>
                    <a:pt x="117" y="395"/>
                  </a:lnTo>
                  <a:lnTo>
                    <a:pt x="118" y="396"/>
                  </a:lnTo>
                  <a:lnTo>
                    <a:pt x="119" y="397"/>
                  </a:lnTo>
                  <a:lnTo>
                    <a:pt x="120" y="398"/>
                  </a:lnTo>
                  <a:lnTo>
                    <a:pt x="121" y="398"/>
                  </a:lnTo>
                  <a:lnTo>
                    <a:pt x="123" y="400"/>
                  </a:lnTo>
                  <a:lnTo>
                    <a:pt x="124" y="398"/>
                  </a:lnTo>
                  <a:lnTo>
                    <a:pt x="127" y="398"/>
                  </a:lnTo>
                  <a:lnTo>
                    <a:pt x="129" y="397"/>
                  </a:lnTo>
                  <a:lnTo>
                    <a:pt x="131" y="396"/>
                  </a:lnTo>
                  <a:lnTo>
                    <a:pt x="134" y="394"/>
                  </a:lnTo>
                  <a:lnTo>
                    <a:pt x="138" y="392"/>
                  </a:lnTo>
                  <a:lnTo>
                    <a:pt x="142" y="389"/>
                  </a:lnTo>
                  <a:lnTo>
                    <a:pt x="146" y="386"/>
                  </a:lnTo>
                  <a:lnTo>
                    <a:pt x="151" y="382"/>
                  </a:lnTo>
                  <a:lnTo>
                    <a:pt x="155" y="379"/>
                  </a:lnTo>
                  <a:lnTo>
                    <a:pt x="161" y="374"/>
                  </a:lnTo>
                  <a:lnTo>
                    <a:pt x="166" y="370"/>
                  </a:lnTo>
                  <a:lnTo>
                    <a:pt x="172" y="364"/>
                  </a:lnTo>
                  <a:lnTo>
                    <a:pt x="177" y="359"/>
                  </a:lnTo>
                  <a:lnTo>
                    <a:pt x="184" y="352"/>
                  </a:lnTo>
                  <a:lnTo>
                    <a:pt x="191" y="346"/>
                  </a:lnTo>
                  <a:lnTo>
                    <a:pt x="197" y="339"/>
                  </a:lnTo>
                  <a:lnTo>
                    <a:pt x="204" y="332"/>
                  </a:lnTo>
                  <a:lnTo>
                    <a:pt x="209" y="326"/>
                  </a:lnTo>
                  <a:lnTo>
                    <a:pt x="216" y="318"/>
                  </a:lnTo>
                  <a:lnTo>
                    <a:pt x="222" y="310"/>
                  </a:lnTo>
                  <a:lnTo>
                    <a:pt x="227" y="304"/>
                  </a:lnTo>
                  <a:lnTo>
                    <a:pt x="233" y="296"/>
                  </a:lnTo>
                  <a:lnTo>
                    <a:pt x="238" y="288"/>
                  </a:lnTo>
                  <a:lnTo>
                    <a:pt x="244" y="279"/>
                  </a:lnTo>
                  <a:lnTo>
                    <a:pt x="248" y="272"/>
                  </a:lnTo>
                  <a:lnTo>
                    <a:pt x="251" y="262"/>
                  </a:lnTo>
                  <a:lnTo>
                    <a:pt x="255" y="252"/>
                  </a:lnTo>
                  <a:lnTo>
                    <a:pt x="257" y="242"/>
                  </a:lnTo>
                  <a:lnTo>
                    <a:pt x="258" y="231"/>
                  </a:lnTo>
                  <a:lnTo>
                    <a:pt x="259" y="220"/>
                  </a:lnTo>
                  <a:lnTo>
                    <a:pt x="260" y="208"/>
                  </a:lnTo>
                  <a:lnTo>
                    <a:pt x="259" y="195"/>
                  </a:lnTo>
                  <a:lnTo>
                    <a:pt x="258" y="183"/>
                  </a:lnTo>
                  <a:lnTo>
                    <a:pt x="256" y="171"/>
                  </a:lnTo>
                  <a:lnTo>
                    <a:pt x="251" y="159"/>
                  </a:lnTo>
                  <a:lnTo>
                    <a:pt x="247" y="147"/>
                  </a:lnTo>
                  <a:lnTo>
                    <a:pt x="241" y="135"/>
                  </a:lnTo>
                  <a:lnTo>
                    <a:pt x="235" y="123"/>
                  </a:lnTo>
                  <a:lnTo>
                    <a:pt x="227" y="109"/>
                  </a:lnTo>
                  <a:lnTo>
                    <a:pt x="219" y="97"/>
                  </a:lnTo>
                  <a:lnTo>
                    <a:pt x="209" y="87"/>
                  </a:lnTo>
                  <a:lnTo>
                    <a:pt x="199" y="78"/>
                  </a:lnTo>
                  <a:lnTo>
                    <a:pt x="188" y="72"/>
                  </a:lnTo>
                  <a:lnTo>
                    <a:pt x="176" y="66"/>
                  </a:lnTo>
                  <a:lnTo>
                    <a:pt x="163" y="62"/>
                  </a:lnTo>
                  <a:lnTo>
                    <a:pt x="150" y="60"/>
                  </a:lnTo>
                  <a:lnTo>
                    <a:pt x="134" y="5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43520" y="2298600"/>
              <a:ext cx="155520" cy="193320"/>
            </a:xfrm>
            <a:custGeom>
              <a:avLst/>
              <a:gdLst/>
              <a:ahLst/>
              <a:rect l="l" t="t" r="r" b="b"/>
              <a:pathLst>
                <a:path w="393" h="489">
                  <a:moveTo>
                    <a:pt x="154" y="145"/>
                  </a:moveTo>
                  <a:lnTo>
                    <a:pt x="155" y="152"/>
                  </a:lnTo>
                  <a:lnTo>
                    <a:pt x="158" y="161"/>
                  </a:lnTo>
                  <a:lnTo>
                    <a:pt x="162" y="169"/>
                  </a:lnTo>
                  <a:lnTo>
                    <a:pt x="169" y="177"/>
                  </a:lnTo>
                  <a:lnTo>
                    <a:pt x="176" y="185"/>
                  </a:lnTo>
                  <a:lnTo>
                    <a:pt x="186" y="194"/>
                  </a:lnTo>
                  <a:lnTo>
                    <a:pt x="199" y="203"/>
                  </a:lnTo>
                  <a:lnTo>
                    <a:pt x="212" y="212"/>
                  </a:lnTo>
                  <a:lnTo>
                    <a:pt x="226" y="221"/>
                  </a:lnTo>
                  <a:lnTo>
                    <a:pt x="239" y="230"/>
                  </a:lnTo>
                  <a:lnTo>
                    <a:pt x="254" y="238"/>
                  </a:lnTo>
                  <a:lnTo>
                    <a:pt x="268" y="247"/>
                  </a:lnTo>
                  <a:lnTo>
                    <a:pt x="281" y="256"/>
                  </a:lnTo>
                  <a:lnTo>
                    <a:pt x="296" y="265"/>
                  </a:lnTo>
                  <a:lnTo>
                    <a:pt x="309" y="274"/>
                  </a:lnTo>
                  <a:lnTo>
                    <a:pt x="323" y="281"/>
                  </a:lnTo>
                  <a:lnTo>
                    <a:pt x="337" y="294"/>
                  </a:lnTo>
                  <a:lnTo>
                    <a:pt x="349" y="305"/>
                  </a:lnTo>
                  <a:lnTo>
                    <a:pt x="360" y="317"/>
                  </a:lnTo>
                  <a:lnTo>
                    <a:pt x="367" y="329"/>
                  </a:lnTo>
                  <a:lnTo>
                    <a:pt x="374" y="341"/>
                  </a:lnTo>
                  <a:lnTo>
                    <a:pt x="380" y="352"/>
                  </a:lnTo>
                  <a:lnTo>
                    <a:pt x="382" y="364"/>
                  </a:lnTo>
                  <a:lnTo>
                    <a:pt x="383" y="376"/>
                  </a:lnTo>
                  <a:lnTo>
                    <a:pt x="382" y="384"/>
                  </a:lnTo>
                  <a:lnTo>
                    <a:pt x="381" y="392"/>
                  </a:lnTo>
                  <a:lnTo>
                    <a:pt x="377" y="401"/>
                  </a:lnTo>
                  <a:lnTo>
                    <a:pt x="373" y="408"/>
                  </a:lnTo>
                  <a:lnTo>
                    <a:pt x="366" y="418"/>
                  </a:lnTo>
                  <a:lnTo>
                    <a:pt x="360" y="427"/>
                  </a:lnTo>
                  <a:lnTo>
                    <a:pt x="351" y="437"/>
                  </a:lnTo>
                  <a:lnTo>
                    <a:pt x="341" y="447"/>
                  </a:lnTo>
                  <a:lnTo>
                    <a:pt x="330" y="457"/>
                  </a:lnTo>
                  <a:lnTo>
                    <a:pt x="319" y="466"/>
                  </a:lnTo>
                  <a:lnTo>
                    <a:pt x="306" y="473"/>
                  </a:lnTo>
                  <a:lnTo>
                    <a:pt x="293" y="479"/>
                  </a:lnTo>
                  <a:lnTo>
                    <a:pt x="279" y="483"/>
                  </a:lnTo>
                  <a:lnTo>
                    <a:pt x="265" y="487"/>
                  </a:lnTo>
                  <a:lnTo>
                    <a:pt x="250" y="489"/>
                  </a:lnTo>
                  <a:lnTo>
                    <a:pt x="234" y="489"/>
                  </a:lnTo>
                  <a:lnTo>
                    <a:pt x="214" y="489"/>
                  </a:lnTo>
                  <a:lnTo>
                    <a:pt x="194" y="487"/>
                  </a:lnTo>
                  <a:lnTo>
                    <a:pt x="174" y="483"/>
                  </a:lnTo>
                  <a:lnTo>
                    <a:pt x="155" y="478"/>
                  </a:lnTo>
                  <a:lnTo>
                    <a:pt x="136" y="471"/>
                  </a:lnTo>
                  <a:lnTo>
                    <a:pt x="116" y="464"/>
                  </a:lnTo>
                  <a:lnTo>
                    <a:pt x="96" y="455"/>
                  </a:lnTo>
                  <a:lnTo>
                    <a:pt x="77" y="444"/>
                  </a:lnTo>
                  <a:lnTo>
                    <a:pt x="58" y="433"/>
                  </a:lnTo>
                  <a:lnTo>
                    <a:pt x="43" y="422"/>
                  </a:lnTo>
                  <a:lnTo>
                    <a:pt x="30" y="412"/>
                  </a:lnTo>
                  <a:lnTo>
                    <a:pt x="19" y="402"/>
                  </a:lnTo>
                  <a:lnTo>
                    <a:pt x="10" y="394"/>
                  </a:lnTo>
                  <a:lnTo>
                    <a:pt x="4" y="385"/>
                  </a:lnTo>
                  <a:lnTo>
                    <a:pt x="1" y="377"/>
                  </a:lnTo>
                  <a:lnTo>
                    <a:pt x="0" y="371"/>
                  </a:lnTo>
                  <a:lnTo>
                    <a:pt x="0" y="368"/>
                  </a:lnTo>
                  <a:lnTo>
                    <a:pt x="0" y="364"/>
                  </a:lnTo>
                  <a:lnTo>
                    <a:pt x="0" y="361"/>
                  </a:lnTo>
                  <a:lnTo>
                    <a:pt x="0" y="359"/>
                  </a:lnTo>
                  <a:lnTo>
                    <a:pt x="1" y="355"/>
                  </a:lnTo>
                  <a:lnTo>
                    <a:pt x="1" y="352"/>
                  </a:lnTo>
                  <a:lnTo>
                    <a:pt x="2" y="349"/>
                  </a:lnTo>
                  <a:lnTo>
                    <a:pt x="3" y="345"/>
                  </a:lnTo>
                  <a:lnTo>
                    <a:pt x="4" y="343"/>
                  </a:lnTo>
                  <a:lnTo>
                    <a:pt x="5" y="340"/>
                  </a:lnTo>
                  <a:lnTo>
                    <a:pt x="8" y="338"/>
                  </a:lnTo>
                  <a:lnTo>
                    <a:pt x="10" y="337"/>
                  </a:lnTo>
                  <a:lnTo>
                    <a:pt x="13" y="334"/>
                  </a:lnTo>
                  <a:lnTo>
                    <a:pt x="16" y="333"/>
                  </a:lnTo>
                  <a:lnTo>
                    <a:pt x="20" y="333"/>
                  </a:lnTo>
                  <a:lnTo>
                    <a:pt x="24" y="333"/>
                  </a:lnTo>
                  <a:lnTo>
                    <a:pt x="30" y="333"/>
                  </a:lnTo>
                  <a:lnTo>
                    <a:pt x="36" y="336"/>
                  </a:lnTo>
                  <a:lnTo>
                    <a:pt x="44" y="339"/>
                  </a:lnTo>
                  <a:lnTo>
                    <a:pt x="54" y="342"/>
                  </a:lnTo>
                  <a:lnTo>
                    <a:pt x="64" y="348"/>
                  </a:lnTo>
                  <a:lnTo>
                    <a:pt x="76" y="354"/>
                  </a:lnTo>
                  <a:lnTo>
                    <a:pt x="88" y="362"/>
                  </a:lnTo>
                  <a:lnTo>
                    <a:pt x="102" y="370"/>
                  </a:lnTo>
                  <a:lnTo>
                    <a:pt x="118" y="379"/>
                  </a:lnTo>
                  <a:lnTo>
                    <a:pt x="131" y="386"/>
                  </a:lnTo>
                  <a:lnTo>
                    <a:pt x="146" y="393"/>
                  </a:lnTo>
                  <a:lnTo>
                    <a:pt x="158" y="398"/>
                  </a:lnTo>
                  <a:lnTo>
                    <a:pt x="171" y="402"/>
                  </a:lnTo>
                  <a:lnTo>
                    <a:pt x="183" y="405"/>
                  </a:lnTo>
                  <a:lnTo>
                    <a:pt x="194" y="407"/>
                  </a:lnTo>
                  <a:lnTo>
                    <a:pt x="205" y="407"/>
                  </a:lnTo>
                  <a:lnTo>
                    <a:pt x="215" y="407"/>
                  </a:lnTo>
                  <a:lnTo>
                    <a:pt x="224" y="405"/>
                  </a:lnTo>
                  <a:lnTo>
                    <a:pt x="232" y="403"/>
                  </a:lnTo>
                  <a:lnTo>
                    <a:pt x="237" y="400"/>
                  </a:lnTo>
                  <a:lnTo>
                    <a:pt x="242" y="395"/>
                  </a:lnTo>
                  <a:lnTo>
                    <a:pt x="245" y="388"/>
                  </a:lnTo>
                  <a:lnTo>
                    <a:pt x="247" y="382"/>
                  </a:lnTo>
                  <a:lnTo>
                    <a:pt x="248" y="374"/>
                  </a:lnTo>
                  <a:lnTo>
                    <a:pt x="247" y="365"/>
                  </a:lnTo>
                  <a:lnTo>
                    <a:pt x="245" y="355"/>
                  </a:lnTo>
                  <a:lnTo>
                    <a:pt x="240" y="345"/>
                  </a:lnTo>
                  <a:lnTo>
                    <a:pt x="235" y="337"/>
                  </a:lnTo>
                  <a:lnTo>
                    <a:pt x="227" y="327"/>
                  </a:lnTo>
                  <a:lnTo>
                    <a:pt x="218" y="318"/>
                  </a:lnTo>
                  <a:lnTo>
                    <a:pt x="207" y="308"/>
                  </a:lnTo>
                  <a:lnTo>
                    <a:pt x="195" y="299"/>
                  </a:lnTo>
                  <a:lnTo>
                    <a:pt x="183" y="291"/>
                  </a:lnTo>
                  <a:lnTo>
                    <a:pt x="170" y="284"/>
                  </a:lnTo>
                  <a:lnTo>
                    <a:pt x="158" y="275"/>
                  </a:lnTo>
                  <a:lnTo>
                    <a:pt x="146" y="267"/>
                  </a:lnTo>
                  <a:lnTo>
                    <a:pt x="133" y="259"/>
                  </a:lnTo>
                  <a:lnTo>
                    <a:pt x="121" y="252"/>
                  </a:lnTo>
                  <a:lnTo>
                    <a:pt x="109" y="243"/>
                  </a:lnTo>
                  <a:lnTo>
                    <a:pt x="96" y="235"/>
                  </a:lnTo>
                  <a:lnTo>
                    <a:pt x="84" y="225"/>
                  </a:lnTo>
                  <a:lnTo>
                    <a:pt x="73" y="214"/>
                  </a:lnTo>
                  <a:lnTo>
                    <a:pt x="64" y="203"/>
                  </a:lnTo>
                  <a:lnTo>
                    <a:pt x="56" y="191"/>
                  </a:lnTo>
                  <a:lnTo>
                    <a:pt x="51" y="180"/>
                  </a:lnTo>
                  <a:lnTo>
                    <a:pt x="46" y="168"/>
                  </a:lnTo>
                  <a:lnTo>
                    <a:pt x="44" y="156"/>
                  </a:lnTo>
                  <a:lnTo>
                    <a:pt x="43" y="143"/>
                  </a:lnTo>
                  <a:lnTo>
                    <a:pt x="44" y="132"/>
                  </a:lnTo>
                  <a:lnTo>
                    <a:pt x="46" y="120"/>
                  </a:lnTo>
                  <a:lnTo>
                    <a:pt x="51" y="109"/>
                  </a:lnTo>
                  <a:lnTo>
                    <a:pt x="56" y="97"/>
                  </a:lnTo>
                  <a:lnTo>
                    <a:pt x="64" y="86"/>
                  </a:lnTo>
                  <a:lnTo>
                    <a:pt x="73" y="74"/>
                  </a:lnTo>
                  <a:lnTo>
                    <a:pt x="84" y="62"/>
                  </a:lnTo>
                  <a:lnTo>
                    <a:pt x="96" y="50"/>
                  </a:lnTo>
                  <a:lnTo>
                    <a:pt x="110" y="38"/>
                  </a:lnTo>
                  <a:lnTo>
                    <a:pt x="125" y="28"/>
                  </a:lnTo>
                  <a:lnTo>
                    <a:pt x="139" y="19"/>
                  </a:lnTo>
                  <a:lnTo>
                    <a:pt x="153" y="12"/>
                  </a:lnTo>
                  <a:lnTo>
                    <a:pt x="169" y="7"/>
                  </a:lnTo>
                  <a:lnTo>
                    <a:pt x="185" y="3"/>
                  </a:lnTo>
                  <a:lnTo>
                    <a:pt x="202" y="1"/>
                  </a:lnTo>
                  <a:lnTo>
                    <a:pt x="218" y="0"/>
                  </a:lnTo>
                  <a:lnTo>
                    <a:pt x="225" y="0"/>
                  </a:lnTo>
                  <a:lnTo>
                    <a:pt x="231" y="0"/>
                  </a:lnTo>
                  <a:lnTo>
                    <a:pt x="236" y="1"/>
                  </a:lnTo>
                  <a:lnTo>
                    <a:pt x="240" y="2"/>
                  </a:lnTo>
                  <a:lnTo>
                    <a:pt x="246" y="2"/>
                  </a:lnTo>
                  <a:lnTo>
                    <a:pt x="250" y="4"/>
                  </a:lnTo>
                  <a:lnTo>
                    <a:pt x="255" y="6"/>
                  </a:lnTo>
                  <a:lnTo>
                    <a:pt x="258" y="7"/>
                  </a:lnTo>
                  <a:lnTo>
                    <a:pt x="263" y="9"/>
                  </a:lnTo>
                  <a:lnTo>
                    <a:pt x="267" y="11"/>
                  </a:lnTo>
                  <a:lnTo>
                    <a:pt x="271" y="12"/>
                  </a:lnTo>
                  <a:lnTo>
                    <a:pt x="277" y="15"/>
                  </a:lnTo>
                  <a:lnTo>
                    <a:pt x="282" y="18"/>
                  </a:lnTo>
                  <a:lnTo>
                    <a:pt x="289" y="20"/>
                  </a:lnTo>
                  <a:lnTo>
                    <a:pt x="296" y="23"/>
                  </a:lnTo>
                  <a:lnTo>
                    <a:pt x="303" y="25"/>
                  </a:lnTo>
                  <a:lnTo>
                    <a:pt x="311" y="29"/>
                  </a:lnTo>
                  <a:lnTo>
                    <a:pt x="319" y="33"/>
                  </a:lnTo>
                  <a:lnTo>
                    <a:pt x="327" y="36"/>
                  </a:lnTo>
                  <a:lnTo>
                    <a:pt x="333" y="41"/>
                  </a:lnTo>
                  <a:lnTo>
                    <a:pt x="341" y="46"/>
                  </a:lnTo>
                  <a:lnTo>
                    <a:pt x="349" y="52"/>
                  </a:lnTo>
                  <a:lnTo>
                    <a:pt x="356" y="57"/>
                  </a:lnTo>
                  <a:lnTo>
                    <a:pt x="363" y="63"/>
                  </a:lnTo>
                  <a:lnTo>
                    <a:pt x="371" y="70"/>
                  </a:lnTo>
                  <a:lnTo>
                    <a:pt x="376" y="76"/>
                  </a:lnTo>
                  <a:lnTo>
                    <a:pt x="382" y="83"/>
                  </a:lnTo>
                  <a:lnTo>
                    <a:pt x="386" y="91"/>
                  </a:lnTo>
                  <a:lnTo>
                    <a:pt x="388" y="97"/>
                  </a:lnTo>
                  <a:lnTo>
                    <a:pt x="392" y="105"/>
                  </a:lnTo>
                  <a:lnTo>
                    <a:pt x="393" y="111"/>
                  </a:lnTo>
                  <a:lnTo>
                    <a:pt x="393" y="119"/>
                  </a:lnTo>
                  <a:lnTo>
                    <a:pt x="393" y="126"/>
                  </a:lnTo>
                  <a:lnTo>
                    <a:pt x="393" y="131"/>
                  </a:lnTo>
                  <a:lnTo>
                    <a:pt x="392" y="137"/>
                  </a:lnTo>
                  <a:lnTo>
                    <a:pt x="391" y="142"/>
                  </a:lnTo>
                  <a:lnTo>
                    <a:pt x="388" y="148"/>
                  </a:lnTo>
                  <a:lnTo>
                    <a:pt x="387" y="152"/>
                  </a:lnTo>
                  <a:lnTo>
                    <a:pt x="385" y="158"/>
                  </a:lnTo>
                  <a:lnTo>
                    <a:pt x="382" y="162"/>
                  </a:lnTo>
                  <a:lnTo>
                    <a:pt x="380" y="166"/>
                  </a:lnTo>
                  <a:lnTo>
                    <a:pt x="376" y="169"/>
                  </a:lnTo>
                  <a:lnTo>
                    <a:pt x="373" y="172"/>
                  </a:lnTo>
                  <a:lnTo>
                    <a:pt x="370" y="174"/>
                  </a:lnTo>
                  <a:lnTo>
                    <a:pt x="365" y="177"/>
                  </a:lnTo>
                  <a:lnTo>
                    <a:pt x="362" y="178"/>
                  </a:lnTo>
                  <a:lnTo>
                    <a:pt x="358" y="179"/>
                  </a:lnTo>
                  <a:lnTo>
                    <a:pt x="353" y="179"/>
                  </a:lnTo>
                  <a:lnTo>
                    <a:pt x="351" y="179"/>
                  </a:lnTo>
                  <a:lnTo>
                    <a:pt x="349" y="179"/>
                  </a:lnTo>
                  <a:lnTo>
                    <a:pt x="346" y="178"/>
                  </a:lnTo>
                  <a:lnTo>
                    <a:pt x="344" y="178"/>
                  </a:lnTo>
                  <a:lnTo>
                    <a:pt x="341" y="177"/>
                  </a:lnTo>
                  <a:lnTo>
                    <a:pt x="338" y="175"/>
                  </a:lnTo>
                  <a:lnTo>
                    <a:pt x="335" y="175"/>
                  </a:lnTo>
                  <a:lnTo>
                    <a:pt x="332" y="174"/>
                  </a:lnTo>
                  <a:lnTo>
                    <a:pt x="328" y="173"/>
                  </a:lnTo>
                  <a:lnTo>
                    <a:pt x="324" y="172"/>
                  </a:lnTo>
                  <a:lnTo>
                    <a:pt x="321" y="171"/>
                  </a:lnTo>
                  <a:lnTo>
                    <a:pt x="318" y="170"/>
                  </a:lnTo>
                  <a:lnTo>
                    <a:pt x="313" y="169"/>
                  </a:lnTo>
                  <a:lnTo>
                    <a:pt x="309" y="169"/>
                  </a:lnTo>
                  <a:lnTo>
                    <a:pt x="306" y="168"/>
                  </a:lnTo>
                  <a:lnTo>
                    <a:pt x="301" y="167"/>
                  </a:lnTo>
                  <a:lnTo>
                    <a:pt x="297" y="167"/>
                  </a:lnTo>
                  <a:lnTo>
                    <a:pt x="293" y="166"/>
                  </a:lnTo>
                  <a:lnTo>
                    <a:pt x="290" y="166"/>
                  </a:lnTo>
                  <a:lnTo>
                    <a:pt x="287" y="164"/>
                  </a:lnTo>
                  <a:lnTo>
                    <a:pt x="284" y="164"/>
                  </a:lnTo>
                  <a:lnTo>
                    <a:pt x="281" y="163"/>
                  </a:lnTo>
                  <a:lnTo>
                    <a:pt x="279" y="162"/>
                  </a:lnTo>
                  <a:lnTo>
                    <a:pt x="277" y="162"/>
                  </a:lnTo>
                  <a:lnTo>
                    <a:pt x="276" y="161"/>
                  </a:lnTo>
                  <a:lnTo>
                    <a:pt x="274" y="160"/>
                  </a:lnTo>
                  <a:lnTo>
                    <a:pt x="271" y="159"/>
                  </a:lnTo>
                  <a:lnTo>
                    <a:pt x="269" y="157"/>
                  </a:lnTo>
                  <a:lnTo>
                    <a:pt x="267" y="155"/>
                  </a:lnTo>
                  <a:lnTo>
                    <a:pt x="265" y="153"/>
                  </a:lnTo>
                  <a:lnTo>
                    <a:pt x="263" y="150"/>
                  </a:lnTo>
                  <a:lnTo>
                    <a:pt x="259" y="148"/>
                  </a:lnTo>
                  <a:lnTo>
                    <a:pt x="257" y="145"/>
                  </a:lnTo>
                  <a:lnTo>
                    <a:pt x="255" y="142"/>
                  </a:lnTo>
                  <a:lnTo>
                    <a:pt x="253" y="139"/>
                  </a:lnTo>
                  <a:lnTo>
                    <a:pt x="252" y="136"/>
                  </a:lnTo>
                  <a:lnTo>
                    <a:pt x="249" y="132"/>
                  </a:lnTo>
                  <a:lnTo>
                    <a:pt x="248" y="129"/>
                  </a:lnTo>
                  <a:lnTo>
                    <a:pt x="247" y="125"/>
                  </a:lnTo>
                  <a:lnTo>
                    <a:pt x="247" y="121"/>
                  </a:lnTo>
                  <a:lnTo>
                    <a:pt x="246" y="117"/>
                  </a:lnTo>
                  <a:lnTo>
                    <a:pt x="246" y="114"/>
                  </a:lnTo>
                  <a:lnTo>
                    <a:pt x="245" y="109"/>
                  </a:lnTo>
                  <a:lnTo>
                    <a:pt x="245" y="106"/>
                  </a:lnTo>
                  <a:lnTo>
                    <a:pt x="244" y="103"/>
                  </a:lnTo>
                  <a:lnTo>
                    <a:pt x="244" y="99"/>
                  </a:lnTo>
                  <a:lnTo>
                    <a:pt x="244" y="95"/>
                  </a:lnTo>
                  <a:lnTo>
                    <a:pt x="244" y="92"/>
                  </a:lnTo>
                  <a:lnTo>
                    <a:pt x="244" y="91"/>
                  </a:lnTo>
                  <a:lnTo>
                    <a:pt x="244" y="89"/>
                  </a:lnTo>
                  <a:lnTo>
                    <a:pt x="244" y="88"/>
                  </a:lnTo>
                  <a:lnTo>
                    <a:pt x="243" y="87"/>
                  </a:lnTo>
                  <a:lnTo>
                    <a:pt x="243" y="86"/>
                  </a:lnTo>
                  <a:lnTo>
                    <a:pt x="242" y="85"/>
                  </a:lnTo>
                  <a:lnTo>
                    <a:pt x="242" y="84"/>
                  </a:lnTo>
                  <a:lnTo>
                    <a:pt x="240" y="83"/>
                  </a:lnTo>
                  <a:lnTo>
                    <a:pt x="239" y="82"/>
                  </a:lnTo>
                  <a:lnTo>
                    <a:pt x="238" y="82"/>
                  </a:lnTo>
                  <a:lnTo>
                    <a:pt x="237" y="81"/>
                  </a:lnTo>
                  <a:lnTo>
                    <a:pt x="235" y="81"/>
                  </a:lnTo>
                  <a:lnTo>
                    <a:pt x="234" y="79"/>
                  </a:lnTo>
                  <a:lnTo>
                    <a:pt x="233" y="79"/>
                  </a:lnTo>
                  <a:lnTo>
                    <a:pt x="231" y="79"/>
                  </a:lnTo>
                  <a:lnTo>
                    <a:pt x="229" y="79"/>
                  </a:lnTo>
                  <a:lnTo>
                    <a:pt x="227" y="79"/>
                  </a:lnTo>
                  <a:lnTo>
                    <a:pt x="224" y="81"/>
                  </a:lnTo>
                  <a:lnTo>
                    <a:pt x="220" y="82"/>
                  </a:lnTo>
                  <a:lnTo>
                    <a:pt x="214" y="84"/>
                  </a:lnTo>
                  <a:lnTo>
                    <a:pt x="208" y="86"/>
                  </a:lnTo>
                  <a:lnTo>
                    <a:pt x="202" y="89"/>
                  </a:lnTo>
                  <a:lnTo>
                    <a:pt x="195" y="93"/>
                  </a:lnTo>
                  <a:lnTo>
                    <a:pt x="187" y="96"/>
                  </a:lnTo>
                  <a:lnTo>
                    <a:pt x="180" y="102"/>
                  </a:lnTo>
                  <a:lnTo>
                    <a:pt x="173" y="106"/>
                  </a:lnTo>
                  <a:lnTo>
                    <a:pt x="168" y="111"/>
                  </a:lnTo>
                  <a:lnTo>
                    <a:pt x="163" y="117"/>
                  </a:lnTo>
                  <a:lnTo>
                    <a:pt x="159" y="124"/>
                  </a:lnTo>
                  <a:lnTo>
                    <a:pt x="157" y="130"/>
                  </a:lnTo>
                  <a:lnTo>
                    <a:pt x="155" y="138"/>
                  </a:lnTo>
                  <a:lnTo>
                    <a:pt x="154" y="14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121440" y="2293920"/>
              <a:ext cx="136440" cy="188280"/>
            </a:xfrm>
            <a:custGeom>
              <a:avLst/>
              <a:gdLst/>
              <a:ahLst/>
              <a:rect l="l" t="t" r="r" b="b"/>
              <a:pathLst>
                <a:path w="344" h="476">
                  <a:moveTo>
                    <a:pt x="0" y="44"/>
                  </a:moveTo>
                  <a:lnTo>
                    <a:pt x="0" y="41"/>
                  </a:lnTo>
                  <a:lnTo>
                    <a:pt x="1" y="38"/>
                  </a:lnTo>
                  <a:lnTo>
                    <a:pt x="1" y="36"/>
                  </a:lnTo>
                  <a:lnTo>
                    <a:pt x="1" y="33"/>
                  </a:lnTo>
                  <a:lnTo>
                    <a:pt x="1" y="30"/>
                  </a:lnTo>
                  <a:lnTo>
                    <a:pt x="2" y="28"/>
                  </a:lnTo>
                  <a:lnTo>
                    <a:pt x="2" y="26"/>
                  </a:lnTo>
                  <a:lnTo>
                    <a:pt x="3" y="23"/>
                  </a:lnTo>
                  <a:lnTo>
                    <a:pt x="3" y="21"/>
                  </a:lnTo>
                  <a:lnTo>
                    <a:pt x="4" y="19"/>
                  </a:lnTo>
                  <a:lnTo>
                    <a:pt x="5" y="17"/>
                  </a:lnTo>
                  <a:lnTo>
                    <a:pt x="6" y="15"/>
                  </a:lnTo>
                  <a:lnTo>
                    <a:pt x="8" y="12"/>
                  </a:lnTo>
                  <a:lnTo>
                    <a:pt x="10" y="10"/>
                  </a:lnTo>
                  <a:lnTo>
                    <a:pt x="12" y="8"/>
                  </a:lnTo>
                  <a:lnTo>
                    <a:pt x="14" y="7"/>
                  </a:lnTo>
                  <a:lnTo>
                    <a:pt x="17" y="5"/>
                  </a:lnTo>
                  <a:lnTo>
                    <a:pt x="22" y="4"/>
                  </a:lnTo>
                  <a:lnTo>
                    <a:pt x="26" y="2"/>
                  </a:lnTo>
                  <a:lnTo>
                    <a:pt x="33" y="1"/>
                  </a:lnTo>
                  <a:lnTo>
                    <a:pt x="39" y="0"/>
                  </a:lnTo>
                  <a:lnTo>
                    <a:pt x="47" y="0"/>
                  </a:lnTo>
                  <a:lnTo>
                    <a:pt x="56" y="0"/>
                  </a:lnTo>
                  <a:lnTo>
                    <a:pt x="67" y="0"/>
                  </a:lnTo>
                  <a:lnTo>
                    <a:pt x="92" y="0"/>
                  </a:lnTo>
                  <a:lnTo>
                    <a:pt x="118" y="2"/>
                  </a:lnTo>
                  <a:lnTo>
                    <a:pt x="142" y="5"/>
                  </a:lnTo>
                  <a:lnTo>
                    <a:pt x="166" y="9"/>
                  </a:lnTo>
                  <a:lnTo>
                    <a:pt x="190" y="13"/>
                  </a:lnTo>
                  <a:lnTo>
                    <a:pt x="213" y="20"/>
                  </a:lnTo>
                  <a:lnTo>
                    <a:pt x="236" y="28"/>
                  </a:lnTo>
                  <a:lnTo>
                    <a:pt x="258" y="37"/>
                  </a:lnTo>
                  <a:lnTo>
                    <a:pt x="278" y="45"/>
                  </a:lnTo>
                  <a:lnTo>
                    <a:pt x="296" y="55"/>
                  </a:lnTo>
                  <a:lnTo>
                    <a:pt x="303" y="61"/>
                  </a:lnTo>
                  <a:lnTo>
                    <a:pt x="310" y="66"/>
                  </a:lnTo>
                  <a:lnTo>
                    <a:pt x="316" y="72"/>
                  </a:lnTo>
                  <a:lnTo>
                    <a:pt x="322" y="79"/>
                  </a:lnTo>
                  <a:lnTo>
                    <a:pt x="328" y="84"/>
                  </a:lnTo>
                  <a:lnTo>
                    <a:pt x="332" y="91"/>
                  </a:lnTo>
                  <a:lnTo>
                    <a:pt x="335" y="97"/>
                  </a:lnTo>
                  <a:lnTo>
                    <a:pt x="339" y="103"/>
                  </a:lnTo>
                  <a:lnTo>
                    <a:pt x="341" y="109"/>
                  </a:lnTo>
                  <a:lnTo>
                    <a:pt x="343" y="117"/>
                  </a:lnTo>
                  <a:lnTo>
                    <a:pt x="344" y="124"/>
                  </a:lnTo>
                  <a:lnTo>
                    <a:pt x="344" y="132"/>
                  </a:lnTo>
                  <a:lnTo>
                    <a:pt x="343" y="148"/>
                  </a:lnTo>
                  <a:lnTo>
                    <a:pt x="341" y="164"/>
                  </a:lnTo>
                  <a:lnTo>
                    <a:pt x="335" y="178"/>
                  </a:lnTo>
                  <a:lnTo>
                    <a:pt x="330" y="191"/>
                  </a:lnTo>
                  <a:lnTo>
                    <a:pt x="321" y="203"/>
                  </a:lnTo>
                  <a:lnTo>
                    <a:pt x="311" y="214"/>
                  </a:lnTo>
                  <a:lnTo>
                    <a:pt x="299" y="225"/>
                  </a:lnTo>
                  <a:lnTo>
                    <a:pt x="284" y="234"/>
                  </a:lnTo>
                  <a:lnTo>
                    <a:pt x="270" y="242"/>
                  </a:lnTo>
                  <a:lnTo>
                    <a:pt x="257" y="250"/>
                  </a:lnTo>
                  <a:lnTo>
                    <a:pt x="245" y="256"/>
                  </a:lnTo>
                  <a:lnTo>
                    <a:pt x="234" y="263"/>
                  </a:lnTo>
                  <a:lnTo>
                    <a:pt x="223" y="268"/>
                  </a:lnTo>
                  <a:lnTo>
                    <a:pt x="213" y="273"/>
                  </a:lnTo>
                  <a:lnTo>
                    <a:pt x="204" y="276"/>
                  </a:lnTo>
                  <a:lnTo>
                    <a:pt x="196" y="279"/>
                  </a:lnTo>
                  <a:lnTo>
                    <a:pt x="190" y="282"/>
                  </a:lnTo>
                  <a:lnTo>
                    <a:pt x="182" y="285"/>
                  </a:lnTo>
                  <a:lnTo>
                    <a:pt x="175" y="287"/>
                  </a:lnTo>
                  <a:lnTo>
                    <a:pt x="167" y="289"/>
                  </a:lnTo>
                  <a:lnTo>
                    <a:pt x="161" y="292"/>
                  </a:lnTo>
                  <a:lnTo>
                    <a:pt x="154" y="293"/>
                  </a:lnTo>
                  <a:lnTo>
                    <a:pt x="148" y="295"/>
                  </a:lnTo>
                  <a:lnTo>
                    <a:pt x="140" y="296"/>
                  </a:lnTo>
                  <a:lnTo>
                    <a:pt x="133" y="298"/>
                  </a:lnTo>
                  <a:lnTo>
                    <a:pt x="128" y="299"/>
                  </a:lnTo>
                  <a:lnTo>
                    <a:pt x="123" y="300"/>
                  </a:lnTo>
                  <a:lnTo>
                    <a:pt x="119" y="303"/>
                  </a:lnTo>
                  <a:lnTo>
                    <a:pt x="116" y="304"/>
                  </a:lnTo>
                  <a:lnTo>
                    <a:pt x="113" y="305"/>
                  </a:lnTo>
                  <a:lnTo>
                    <a:pt x="112" y="307"/>
                  </a:lnTo>
                  <a:lnTo>
                    <a:pt x="111" y="308"/>
                  </a:lnTo>
                  <a:lnTo>
                    <a:pt x="111" y="310"/>
                  </a:lnTo>
                  <a:lnTo>
                    <a:pt x="110" y="313"/>
                  </a:lnTo>
                  <a:lnTo>
                    <a:pt x="110" y="316"/>
                  </a:lnTo>
                  <a:lnTo>
                    <a:pt x="110" y="320"/>
                  </a:lnTo>
                  <a:lnTo>
                    <a:pt x="109" y="326"/>
                  </a:lnTo>
                  <a:lnTo>
                    <a:pt x="109" y="331"/>
                  </a:lnTo>
                  <a:lnTo>
                    <a:pt x="109" y="338"/>
                  </a:lnTo>
                  <a:lnTo>
                    <a:pt x="109" y="346"/>
                  </a:lnTo>
                  <a:lnTo>
                    <a:pt x="109" y="420"/>
                  </a:lnTo>
                  <a:lnTo>
                    <a:pt x="109" y="454"/>
                  </a:lnTo>
                  <a:lnTo>
                    <a:pt x="109" y="459"/>
                  </a:lnTo>
                  <a:lnTo>
                    <a:pt x="108" y="464"/>
                  </a:lnTo>
                  <a:lnTo>
                    <a:pt x="105" y="467"/>
                  </a:lnTo>
                  <a:lnTo>
                    <a:pt x="101" y="470"/>
                  </a:lnTo>
                  <a:lnTo>
                    <a:pt x="97" y="473"/>
                  </a:lnTo>
                  <a:lnTo>
                    <a:pt x="91" y="475"/>
                  </a:lnTo>
                  <a:lnTo>
                    <a:pt x="86" y="476"/>
                  </a:lnTo>
                  <a:lnTo>
                    <a:pt x="78" y="476"/>
                  </a:lnTo>
                  <a:lnTo>
                    <a:pt x="75" y="476"/>
                  </a:lnTo>
                  <a:lnTo>
                    <a:pt x="70" y="475"/>
                  </a:lnTo>
                  <a:lnTo>
                    <a:pt x="66" y="475"/>
                  </a:lnTo>
                  <a:lnTo>
                    <a:pt x="60" y="474"/>
                  </a:lnTo>
                  <a:lnTo>
                    <a:pt x="55" y="471"/>
                  </a:lnTo>
                  <a:lnTo>
                    <a:pt x="49" y="470"/>
                  </a:lnTo>
                  <a:lnTo>
                    <a:pt x="43" y="468"/>
                  </a:lnTo>
                  <a:lnTo>
                    <a:pt x="36" y="466"/>
                  </a:lnTo>
                  <a:lnTo>
                    <a:pt x="29" y="464"/>
                  </a:lnTo>
                  <a:lnTo>
                    <a:pt x="23" y="460"/>
                  </a:lnTo>
                  <a:lnTo>
                    <a:pt x="18" y="458"/>
                  </a:lnTo>
                  <a:lnTo>
                    <a:pt x="14" y="456"/>
                  </a:lnTo>
                  <a:lnTo>
                    <a:pt x="11" y="454"/>
                  </a:lnTo>
                  <a:lnTo>
                    <a:pt x="8" y="453"/>
                  </a:lnTo>
                  <a:lnTo>
                    <a:pt x="6" y="450"/>
                  </a:lnTo>
                  <a:lnTo>
                    <a:pt x="5" y="448"/>
                  </a:lnTo>
                  <a:lnTo>
                    <a:pt x="5" y="447"/>
                  </a:lnTo>
                  <a:lnTo>
                    <a:pt x="5" y="445"/>
                  </a:lnTo>
                  <a:lnTo>
                    <a:pt x="4" y="442"/>
                  </a:lnTo>
                  <a:lnTo>
                    <a:pt x="4" y="439"/>
                  </a:lnTo>
                  <a:lnTo>
                    <a:pt x="3" y="436"/>
                  </a:lnTo>
                  <a:lnTo>
                    <a:pt x="3" y="432"/>
                  </a:lnTo>
                  <a:lnTo>
                    <a:pt x="3" y="428"/>
                  </a:lnTo>
                  <a:lnTo>
                    <a:pt x="2" y="424"/>
                  </a:lnTo>
                  <a:lnTo>
                    <a:pt x="2" y="420"/>
                  </a:lnTo>
                  <a:lnTo>
                    <a:pt x="1" y="416"/>
                  </a:lnTo>
                  <a:lnTo>
                    <a:pt x="1" y="413"/>
                  </a:lnTo>
                  <a:lnTo>
                    <a:pt x="1" y="410"/>
                  </a:lnTo>
                  <a:lnTo>
                    <a:pt x="1" y="407"/>
                  </a:lnTo>
                  <a:lnTo>
                    <a:pt x="1" y="405"/>
                  </a:lnTo>
                  <a:lnTo>
                    <a:pt x="0" y="404"/>
                  </a:lnTo>
                  <a:lnTo>
                    <a:pt x="0" y="403"/>
                  </a:lnTo>
                  <a:lnTo>
                    <a:pt x="0" y="44"/>
                  </a:lnTo>
                  <a:close/>
                  <a:moveTo>
                    <a:pt x="109" y="202"/>
                  </a:moveTo>
                  <a:lnTo>
                    <a:pt x="108" y="205"/>
                  </a:lnTo>
                  <a:lnTo>
                    <a:pt x="108" y="209"/>
                  </a:lnTo>
                  <a:lnTo>
                    <a:pt x="107" y="211"/>
                  </a:lnTo>
                  <a:lnTo>
                    <a:pt x="107" y="213"/>
                  </a:lnTo>
                  <a:lnTo>
                    <a:pt x="106" y="215"/>
                  </a:lnTo>
                  <a:lnTo>
                    <a:pt x="106" y="218"/>
                  </a:lnTo>
                  <a:lnTo>
                    <a:pt x="106" y="219"/>
                  </a:lnTo>
                  <a:lnTo>
                    <a:pt x="106" y="221"/>
                  </a:lnTo>
                  <a:lnTo>
                    <a:pt x="106" y="224"/>
                  </a:lnTo>
                  <a:lnTo>
                    <a:pt x="106" y="228"/>
                  </a:lnTo>
                  <a:lnTo>
                    <a:pt x="107" y="230"/>
                  </a:lnTo>
                  <a:lnTo>
                    <a:pt x="108" y="232"/>
                  </a:lnTo>
                  <a:lnTo>
                    <a:pt x="109" y="233"/>
                  </a:lnTo>
                  <a:lnTo>
                    <a:pt x="110" y="234"/>
                  </a:lnTo>
                  <a:lnTo>
                    <a:pt x="111" y="235"/>
                  </a:lnTo>
                  <a:lnTo>
                    <a:pt x="113" y="235"/>
                  </a:lnTo>
                  <a:lnTo>
                    <a:pt x="120" y="235"/>
                  </a:lnTo>
                  <a:lnTo>
                    <a:pt x="128" y="233"/>
                  </a:lnTo>
                  <a:lnTo>
                    <a:pt x="135" y="231"/>
                  </a:lnTo>
                  <a:lnTo>
                    <a:pt x="143" y="228"/>
                  </a:lnTo>
                  <a:lnTo>
                    <a:pt x="152" y="223"/>
                  </a:lnTo>
                  <a:lnTo>
                    <a:pt x="161" y="218"/>
                  </a:lnTo>
                  <a:lnTo>
                    <a:pt x="171" y="212"/>
                  </a:lnTo>
                  <a:lnTo>
                    <a:pt x="181" y="204"/>
                  </a:lnTo>
                  <a:lnTo>
                    <a:pt x="191" y="197"/>
                  </a:lnTo>
                  <a:lnTo>
                    <a:pt x="199" y="189"/>
                  </a:lnTo>
                  <a:lnTo>
                    <a:pt x="206" y="180"/>
                  </a:lnTo>
                  <a:lnTo>
                    <a:pt x="212" y="170"/>
                  </a:lnTo>
                  <a:lnTo>
                    <a:pt x="216" y="160"/>
                  </a:lnTo>
                  <a:lnTo>
                    <a:pt x="219" y="150"/>
                  </a:lnTo>
                  <a:lnTo>
                    <a:pt x="222" y="139"/>
                  </a:lnTo>
                  <a:lnTo>
                    <a:pt x="222" y="128"/>
                  </a:lnTo>
                  <a:lnTo>
                    <a:pt x="222" y="117"/>
                  </a:lnTo>
                  <a:lnTo>
                    <a:pt x="220" y="107"/>
                  </a:lnTo>
                  <a:lnTo>
                    <a:pt x="217" y="98"/>
                  </a:lnTo>
                  <a:lnTo>
                    <a:pt x="214" y="91"/>
                  </a:lnTo>
                  <a:lnTo>
                    <a:pt x="209" y="83"/>
                  </a:lnTo>
                  <a:lnTo>
                    <a:pt x="204" y="77"/>
                  </a:lnTo>
                  <a:lnTo>
                    <a:pt x="198" y="73"/>
                  </a:lnTo>
                  <a:lnTo>
                    <a:pt x="191" y="69"/>
                  </a:lnTo>
                  <a:lnTo>
                    <a:pt x="183" y="65"/>
                  </a:lnTo>
                  <a:lnTo>
                    <a:pt x="175" y="63"/>
                  </a:lnTo>
                  <a:lnTo>
                    <a:pt x="169" y="60"/>
                  </a:lnTo>
                  <a:lnTo>
                    <a:pt x="163" y="58"/>
                  </a:lnTo>
                  <a:lnTo>
                    <a:pt x="156" y="55"/>
                  </a:lnTo>
                  <a:lnTo>
                    <a:pt x="151" y="54"/>
                  </a:lnTo>
                  <a:lnTo>
                    <a:pt x="146" y="52"/>
                  </a:lnTo>
                  <a:lnTo>
                    <a:pt x="142" y="51"/>
                  </a:lnTo>
                  <a:lnTo>
                    <a:pt x="138" y="50"/>
                  </a:lnTo>
                  <a:lnTo>
                    <a:pt x="133" y="50"/>
                  </a:lnTo>
                  <a:lnTo>
                    <a:pt x="129" y="49"/>
                  </a:lnTo>
                  <a:lnTo>
                    <a:pt x="125" y="48"/>
                  </a:lnTo>
                  <a:lnTo>
                    <a:pt x="122" y="48"/>
                  </a:lnTo>
                  <a:lnTo>
                    <a:pt x="119" y="48"/>
                  </a:lnTo>
                  <a:lnTo>
                    <a:pt x="116" y="47"/>
                  </a:lnTo>
                  <a:lnTo>
                    <a:pt x="112" y="47"/>
                  </a:lnTo>
                  <a:lnTo>
                    <a:pt x="110" y="47"/>
                  </a:lnTo>
                  <a:lnTo>
                    <a:pt x="109" y="48"/>
                  </a:lnTo>
                  <a:lnTo>
                    <a:pt x="108" y="48"/>
                  </a:lnTo>
                  <a:lnTo>
                    <a:pt x="107" y="49"/>
                  </a:lnTo>
                  <a:lnTo>
                    <a:pt x="107" y="49"/>
                  </a:lnTo>
                  <a:lnTo>
                    <a:pt x="106" y="50"/>
                  </a:lnTo>
                  <a:lnTo>
                    <a:pt x="106" y="51"/>
                  </a:lnTo>
                  <a:lnTo>
                    <a:pt x="106" y="52"/>
                  </a:lnTo>
                  <a:lnTo>
                    <a:pt x="106" y="61"/>
                  </a:lnTo>
                  <a:lnTo>
                    <a:pt x="107" y="62"/>
                  </a:lnTo>
                  <a:lnTo>
                    <a:pt x="107" y="64"/>
                  </a:lnTo>
                  <a:lnTo>
                    <a:pt x="108" y="65"/>
                  </a:lnTo>
                  <a:lnTo>
                    <a:pt x="108" y="68"/>
                  </a:lnTo>
                  <a:lnTo>
                    <a:pt x="109" y="70"/>
                  </a:lnTo>
                  <a:lnTo>
                    <a:pt x="109" y="72"/>
                  </a:lnTo>
                  <a:lnTo>
                    <a:pt x="109" y="74"/>
                  </a:lnTo>
                  <a:lnTo>
                    <a:pt x="109" y="77"/>
                  </a:lnTo>
                  <a:lnTo>
                    <a:pt x="109" y="81"/>
                  </a:lnTo>
                  <a:lnTo>
                    <a:pt x="109" y="83"/>
                  </a:lnTo>
                  <a:lnTo>
                    <a:pt x="109" y="86"/>
                  </a:lnTo>
                  <a:lnTo>
                    <a:pt x="109" y="88"/>
                  </a:lnTo>
                  <a:lnTo>
                    <a:pt x="109" y="92"/>
                  </a:lnTo>
                  <a:lnTo>
                    <a:pt x="109" y="94"/>
                  </a:lnTo>
                  <a:lnTo>
                    <a:pt x="109" y="97"/>
                  </a:lnTo>
                  <a:lnTo>
                    <a:pt x="109" y="100"/>
                  </a:lnTo>
                  <a:lnTo>
                    <a:pt x="109" y="20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281640" y="2298600"/>
              <a:ext cx="163440" cy="183600"/>
            </a:xfrm>
            <a:custGeom>
              <a:avLst/>
              <a:gdLst/>
              <a:ahLst/>
              <a:rect l="l" t="t" r="r" b="b"/>
              <a:pathLst>
                <a:path w="413" h="465">
                  <a:moveTo>
                    <a:pt x="100" y="394"/>
                  </a:moveTo>
                  <a:lnTo>
                    <a:pt x="100" y="443"/>
                  </a:lnTo>
                  <a:lnTo>
                    <a:pt x="100" y="448"/>
                  </a:lnTo>
                  <a:lnTo>
                    <a:pt x="99" y="452"/>
                  </a:lnTo>
                  <a:lnTo>
                    <a:pt x="97" y="456"/>
                  </a:lnTo>
                  <a:lnTo>
                    <a:pt x="95" y="459"/>
                  </a:lnTo>
                  <a:lnTo>
                    <a:pt x="91" y="461"/>
                  </a:lnTo>
                  <a:lnTo>
                    <a:pt x="88" y="462"/>
                  </a:lnTo>
                  <a:lnTo>
                    <a:pt x="84" y="464"/>
                  </a:lnTo>
                  <a:lnTo>
                    <a:pt x="79" y="465"/>
                  </a:lnTo>
                  <a:lnTo>
                    <a:pt x="78" y="465"/>
                  </a:lnTo>
                  <a:lnTo>
                    <a:pt x="76" y="464"/>
                  </a:lnTo>
                  <a:lnTo>
                    <a:pt x="74" y="464"/>
                  </a:lnTo>
                  <a:lnTo>
                    <a:pt x="71" y="464"/>
                  </a:lnTo>
                  <a:lnTo>
                    <a:pt x="69" y="462"/>
                  </a:lnTo>
                  <a:lnTo>
                    <a:pt x="66" y="462"/>
                  </a:lnTo>
                  <a:lnTo>
                    <a:pt x="62" y="461"/>
                  </a:lnTo>
                  <a:lnTo>
                    <a:pt x="58" y="461"/>
                  </a:lnTo>
                  <a:lnTo>
                    <a:pt x="54" y="460"/>
                  </a:lnTo>
                  <a:lnTo>
                    <a:pt x="49" y="459"/>
                  </a:lnTo>
                  <a:lnTo>
                    <a:pt x="45" y="459"/>
                  </a:lnTo>
                  <a:lnTo>
                    <a:pt x="42" y="458"/>
                  </a:lnTo>
                  <a:lnTo>
                    <a:pt x="37" y="457"/>
                  </a:lnTo>
                  <a:lnTo>
                    <a:pt x="33" y="456"/>
                  </a:lnTo>
                  <a:lnTo>
                    <a:pt x="30" y="456"/>
                  </a:lnTo>
                  <a:lnTo>
                    <a:pt x="25" y="455"/>
                  </a:lnTo>
                  <a:lnTo>
                    <a:pt x="22" y="454"/>
                  </a:lnTo>
                  <a:lnTo>
                    <a:pt x="17" y="452"/>
                  </a:lnTo>
                  <a:lnTo>
                    <a:pt x="15" y="451"/>
                  </a:lnTo>
                  <a:lnTo>
                    <a:pt x="12" y="450"/>
                  </a:lnTo>
                  <a:lnTo>
                    <a:pt x="10" y="449"/>
                  </a:lnTo>
                  <a:lnTo>
                    <a:pt x="7" y="448"/>
                  </a:lnTo>
                  <a:lnTo>
                    <a:pt x="5" y="447"/>
                  </a:lnTo>
                  <a:lnTo>
                    <a:pt x="4" y="445"/>
                  </a:lnTo>
                  <a:lnTo>
                    <a:pt x="3" y="443"/>
                  </a:lnTo>
                  <a:lnTo>
                    <a:pt x="2" y="440"/>
                  </a:lnTo>
                  <a:lnTo>
                    <a:pt x="1" y="436"/>
                  </a:lnTo>
                  <a:lnTo>
                    <a:pt x="1" y="432"/>
                  </a:lnTo>
                  <a:lnTo>
                    <a:pt x="0" y="427"/>
                  </a:lnTo>
                  <a:lnTo>
                    <a:pt x="0" y="422"/>
                  </a:lnTo>
                  <a:lnTo>
                    <a:pt x="0" y="415"/>
                  </a:lnTo>
                  <a:lnTo>
                    <a:pt x="0" y="407"/>
                  </a:lnTo>
                  <a:lnTo>
                    <a:pt x="0" y="225"/>
                  </a:lnTo>
                  <a:lnTo>
                    <a:pt x="0" y="110"/>
                  </a:lnTo>
                  <a:lnTo>
                    <a:pt x="0" y="99"/>
                  </a:lnTo>
                  <a:lnTo>
                    <a:pt x="0" y="88"/>
                  </a:lnTo>
                  <a:lnTo>
                    <a:pt x="0" y="79"/>
                  </a:lnTo>
                  <a:lnTo>
                    <a:pt x="0" y="71"/>
                  </a:lnTo>
                  <a:lnTo>
                    <a:pt x="0" y="63"/>
                  </a:lnTo>
                  <a:lnTo>
                    <a:pt x="0" y="56"/>
                  </a:lnTo>
                  <a:lnTo>
                    <a:pt x="1" y="51"/>
                  </a:lnTo>
                  <a:lnTo>
                    <a:pt x="1" y="45"/>
                  </a:lnTo>
                  <a:lnTo>
                    <a:pt x="2" y="41"/>
                  </a:lnTo>
                  <a:lnTo>
                    <a:pt x="3" y="38"/>
                  </a:lnTo>
                  <a:lnTo>
                    <a:pt x="4" y="34"/>
                  </a:lnTo>
                  <a:lnTo>
                    <a:pt x="5" y="31"/>
                  </a:lnTo>
                  <a:lnTo>
                    <a:pt x="7" y="28"/>
                  </a:lnTo>
                  <a:lnTo>
                    <a:pt x="9" y="25"/>
                  </a:lnTo>
                  <a:lnTo>
                    <a:pt x="12" y="23"/>
                  </a:lnTo>
                  <a:lnTo>
                    <a:pt x="14" y="21"/>
                  </a:lnTo>
                  <a:lnTo>
                    <a:pt x="16" y="20"/>
                  </a:lnTo>
                  <a:lnTo>
                    <a:pt x="20" y="19"/>
                  </a:lnTo>
                  <a:lnTo>
                    <a:pt x="22" y="18"/>
                  </a:lnTo>
                  <a:lnTo>
                    <a:pt x="24" y="17"/>
                  </a:lnTo>
                  <a:lnTo>
                    <a:pt x="26" y="15"/>
                  </a:lnTo>
                  <a:lnTo>
                    <a:pt x="28" y="14"/>
                  </a:lnTo>
                  <a:lnTo>
                    <a:pt x="31" y="13"/>
                  </a:lnTo>
                  <a:lnTo>
                    <a:pt x="32" y="12"/>
                  </a:lnTo>
                  <a:lnTo>
                    <a:pt x="34" y="11"/>
                  </a:lnTo>
                  <a:lnTo>
                    <a:pt x="35" y="11"/>
                  </a:lnTo>
                  <a:lnTo>
                    <a:pt x="37" y="10"/>
                  </a:lnTo>
                  <a:lnTo>
                    <a:pt x="38" y="10"/>
                  </a:lnTo>
                  <a:lnTo>
                    <a:pt x="41" y="9"/>
                  </a:lnTo>
                  <a:lnTo>
                    <a:pt x="42" y="9"/>
                  </a:lnTo>
                  <a:lnTo>
                    <a:pt x="43" y="9"/>
                  </a:lnTo>
                  <a:lnTo>
                    <a:pt x="45" y="9"/>
                  </a:lnTo>
                  <a:lnTo>
                    <a:pt x="47" y="9"/>
                  </a:lnTo>
                  <a:lnTo>
                    <a:pt x="49" y="9"/>
                  </a:lnTo>
                  <a:lnTo>
                    <a:pt x="52" y="10"/>
                  </a:lnTo>
                  <a:lnTo>
                    <a:pt x="55" y="10"/>
                  </a:lnTo>
                  <a:lnTo>
                    <a:pt x="58" y="11"/>
                  </a:lnTo>
                  <a:lnTo>
                    <a:pt x="62" y="12"/>
                  </a:lnTo>
                  <a:lnTo>
                    <a:pt x="65" y="13"/>
                  </a:lnTo>
                  <a:lnTo>
                    <a:pt x="69" y="14"/>
                  </a:lnTo>
                  <a:lnTo>
                    <a:pt x="73" y="15"/>
                  </a:lnTo>
                  <a:lnTo>
                    <a:pt x="76" y="17"/>
                  </a:lnTo>
                  <a:lnTo>
                    <a:pt x="78" y="17"/>
                  </a:lnTo>
                  <a:lnTo>
                    <a:pt x="81" y="18"/>
                  </a:lnTo>
                  <a:lnTo>
                    <a:pt x="83" y="19"/>
                  </a:lnTo>
                  <a:lnTo>
                    <a:pt x="85" y="19"/>
                  </a:lnTo>
                  <a:lnTo>
                    <a:pt x="86" y="19"/>
                  </a:lnTo>
                  <a:lnTo>
                    <a:pt x="86" y="19"/>
                  </a:lnTo>
                  <a:lnTo>
                    <a:pt x="94" y="18"/>
                  </a:lnTo>
                  <a:lnTo>
                    <a:pt x="101" y="15"/>
                  </a:lnTo>
                  <a:lnTo>
                    <a:pt x="109" y="14"/>
                  </a:lnTo>
                  <a:lnTo>
                    <a:pt x="117" y="13"/>
                  </a:lnTo>
                  <a:lnTo>
                    <a:pt x="124" y="11"/>
                  </a:lnTo>
                  <a:lnTo>
                    <a:pt x="133" y="10"/>
                  </a:lnTo>
                  <a:lnTo>
                    <a:pt x="141" y="8"/>
                  </a:lnTo>
                  <a:lnTo>
                    <a:pt x="150" y="7"/>
                  </a:lnTo>
                  <a:lnTo>
                    <a:pt x="159" y="4"/>
                  </a:lnTo>
                  <a:lnTo>
                    <a:pt x="166" y="3"/>
                  </a:lnTo>
                  <a:lnTo>
                    <a:pt x="174" y="2"/>
                  </a:lnTo>
                  <a:lnTo>
                    <a:pt x="182" y="2"/>
                  </a:lnTo>
                  <a:lnTo>
                    <a:pt x="190" y="1"/>
                  </a:lnTo>
                  <a:lnTo>
                    <a:pt x="196" y="0"/>
                  </a:lnTo>
                  <a:lnTo>
                    <a:pt x="203" y="0"/>
                  </a:lnTo>
                  <a:lnTo>
                    <a:pt x="209" y="0"/>
                  </a:lnTo>
                  <a:lnTo>
                    <a:pt x="229" y="1"/>
                  </a:lnTo>
                  <a:lnTo>
                    <a:pt x="249" y="2"/>
                  </a:lnTo>
                  <a:lnTo>
                    <a:pt x="268" y="6"/>
                  </a:lnTo>
                  <a:lnTo>
                    <a:pt x="287" y="9"/>
                  </a:lnTo>
                  <a:lnTo>
                    <a:pt x="304" y="14"/>
                  </a:lnTo>
                  <a:lnTo>
                    <a:pt x="321" y="21"/>
                  </a:lnTo>
                  <a:lnTo>
                    <a:pt x="336" y="29"/>
                  </a:lnTo>
                  <a:lnTo>
                    <a:pt x="352" y="38"/>
                  </a:lnTo>
                  <a:lnTo>
                    <a:pt x="366" y="46"/>
                  </a:lnTo>
                  <a:lnTo>
                    <a:pt x="378" y="56"/>
                  </a:lnTo>
                  <a:lnTo>
                    <a:pt x="389" y="65"/>
                  </a:lnTo>
                  <a:lnTo>
                    <a:pt x="397" y="75"/>
                  </a:lnTo>
                  <a:lnTo>
                    <a:pt x="404" y="86"/>
                  </a:lnTo>
                  <a:lnTo>
                    <a:pt x="408" y="96"/>
                  </a:lnTo>
                  <a:lnTo>
                    <a:pt x="411" y="107"/>
                  </a:lnTo>
                  <a:lnTo>
                    <a:pt x="413" y="117"/>
                  </a:lnTo>
                  <a:lnTo>
                    <a:pt x="411" y="127"/>
                  </a:lnTo>
                  <a:lnTo>
                    <a:pt x="410" y="136"/>
                  </a:lnTo>
                  <a:lnTo>
                    <a:pt x="407" y="146"/>
                  </a:lnTo>
                  <a:lnTo>
                    <a:pt x="403" y="155"/>
                  </a:lnTo>
                  <a:lnTo>
                    <a:pt x="397" y="164"/>
                  </a:lnTo>
                  <a:lnTo>
                    <a:pt x="391" y="173"/>
                  </a:lnTo>
                  <a:lnTo>
                    <a:pt x="382" y="183"/>
                  </a:lnTo>
                  <a:lnTo>
                    <a:pt x="373" y="192"/>
                  </a:lnTo>
                  <a:lnTo>
                    <a:pt x="363" y="201"/>
                  </a:lnTo>
                  <a:lnTo>
                    <a:pt x="353" y="210"/>
                  </a:lnTo>
                  <a:lnTo>
                    <a:pt x="342" y="217"/>
                  </a:lnTo>
                  <a:lnTo>
                    <a:pt x="332" y="225"/>
                  </a:lnTo>
                  <a:lnTo>
                    <a:pt x="321" y="232"/>
                  </a:lnTo>
                  <a:lnTo>
                    <a:pt x="310" y="237"/>
                  </a:lnTo>
                  <a:lnTo>
                    <a:pt x="299" y="243"/>
                  </a:lnTo>
                  <a:lnTo>
                    <a:pt x="288" y="247"/>
                  </a:lnTo>
                  <a:lnTo>
                    <a:pt x="278" y="252"/>
                  </a:lnTo>
                  <a:lnTo>
                    <a:pt x="268" y="256"/>
                  </a:lnTo>
                  <a:lnTo>
                    <a:pt x="260" y="259"/>
                  </a:lnTo>
                  <a:lnTo>
                    <a:pt x="255" y="263"/>
                  </a:lnTo>
                  <a:lnTo>
                    <a:pt x="249" y="265"/>
                  </a:lnTo>
                  <a:lnTo>
                    <a:pt x="246" y="267"/>
                  </a:lnTo>
                  <a:lnTo>
                    <a:pt x="244" y="269"/>
                  </a:lnTo>
                  <a:lnTo>
                    <a:pt x="244" y="270"/>
                  </a:lnTo>
                  <a:lnTo>
                    <a:pt x="257" y="284"/>
                  </a:lnTo>
                  <a:lnTo>
                    <a:pt x="269" y="296"/>
                  </a:lnTo>
                  <a:lnTo>
                    <a:pt x="282" y="309"/>
                  </a:lnTo>
                  <a:lnTo>
                    <a:pt x="296" y="321"/>
                  </a:lnTo>
                  <a:lnTo>
                    <a:pt x="309" y="334"/>
                  </a:lnTo>
                  <a:lnTo>
                    <a:pt x="322" y="347"/>
                  </a:lnTo>
                  <a:lnTo>
                    <a:pt x="335" y="360"/>
                  </a:lnTo>
                  <a:lnTo>
                    <a:pt x="347" y="372"/>
                  </a:lnTo>
                  <a:lnTo>
                    <a:pt x="360" y="384"/>
                  </a:lnTo>
                  <a:lnTo>
                    <a:pt x="371" y="394"/>
                  </a:lnTo>
                  <a:lnTo>
                    <a:pt x="379" y="404"/>
                  </a:lnTo>
                  <a:lnTo>
                    <a:pt x="386" y="412"/>
                  </a:lnTo>
                  <a:lnTo>
                    <a:pt x="393" y="419"/>
                  </a:lnTo>
                  <a:lnTo>
                    <a:pt x="396" y="425"/>
                  </a:lnTo>
                  <a:lnTo>
                    <a:pt x="398" y="430"/>
                  </a:lnTo>
                  <a:lnTo>
                    <a:pt x="399" y="434"/>
                  </a:lnTo>
                  <a:lnTo>
                    <a:pt x="399" y="435"/>
                  </a:lnTo>
                  <a:lnTo>
                    <a:pt x="399" y="436"/>
                  </a:lnTo>
                  <a:lnTo>
                    <a:pt x="398" y="437"/>
                  </a:lnTo>
                  <a:lnTo>
                    <a:pt x="398" y="439"/>
                  </a:lnTo>
                  <a:lnTo>
                    <a:pt x="397" y="440"/>
                  </a:lnTo>
                  <a:lnTo>
                    <a:pt x="396" y="441"/>
                  </a:lnTo>
                  <a:lnTo>
                    <a:pt x="395" y="443"/>
                  </a:lnTo>
                  <a:lnTo>
                    <a:pt x="394" y="444"/>
                  </a:lnTo>
                  <a:lnTo>
                    <a:pt x="393" y="445"/>
                  </a:lnTo>
                  <a:lnTo>
                    <a:pt x="391" y="446"/>
                  </a:lnTo>
                  <a:lnTo>
                    <a:pt x="389" y="448"/>
                  </a:lnTo>
                  <a:lnTo>
                    <a:pt x="387" y="449"/>
                  </a:lnTo>
                  <a:lnTo>
                    <a:pt x="386" y="450"/>
                  </a:lnTo>
                  <a:lnTo>
                    <a:pt x="384" y="452"/>
                  </a:lnTo>
                  <a:lnTo>
                    <a:pt x="382" y="455"/>
                  </a:lnTo>
                  <a:lnTo>
                    <a:pt x="379" y="456"/>
                  </a:lnTo>
                  <a:lnTo>
                    <a:pt x="377" y="458"/>
                  </a:lnTo>
                  <a:lnTo>
                    <a:pt x="374" y="460"/>
                  </a:lnTo>
                  <a:lnTo>
                    <a:pt x="372" y="461"/>
                  </a:lnTo>
                  <a:lnTo>
                    <a:pt x="368" y="462"/>
                  </a:lnTo>
                  <a:lnTo>
                    <a:pt x="365" y="464"/>
                  </a:lnTo>
                  <a:lnTo>
                    <a:pt x="363" y="464"/>
                  </a:lnTo>
                  <a:lnTo>
                    <a:pt x="360" y="464"/>
                  </a:lnTo>
                  <a:lnTo>
                    <a:pt x="356" y="465"/>
                  </a:lnTo>
                  <a:lnTo>
                    <a:pt x="349" y="464"/>
                  </a:lnTo>
                  <a:lnTo>
                    <a:pt x="341" y="464"/>
                  </a:lnTo>
                  <a:lnTo>
                    <a:pt x="334" y="461"/>
                  </a:lnTo>
                  <a:lnTo>
                    <a:pt x="328" y="460"/>
                  </a:lnTo>
                  <a:lnTo>
                    <a:pt x="320" y="457"/>
                  </a:lnTo>
                  <a:lnTo>
                    <a:pt x="313" y="454"/>
                  </a:lnTo>
                  <a:lnTo>
                    <a:pt x="307" y="450"/>
                  </a:lnTo>
                  <a:lnTo>
                    <a:pt x="300" y="446"/>
                  </a:lnTo>
                  <a:lnTo>
                    <a:pt x="291" y="440"/>
                  </a:lnTo>
                  <a:lnTo>
                    <a:pt x="279" y="430"/>
                  </a:lnTo>
                  <a:lnTo>
                    <a:pt x="262" y="417"/>
                  </a:lnTo>
                  <a:lnTo>
                    <a:pt x="243" y="401"/>
                  </a:lnTo>
                  <a:lnTo>
                    <a:pt x="218" y="381"/>
                  </a:lnTo>
                  <a:lnTo>
                    <a:pt x="190" y="358"/>
                  </a:lnTo>
                  <a:lnTo>
                    <a:pt x="158" y="331"/>
                  </a:lnTo>
                  <a:lnTo>
                    <a:pt x="122" y="301"/>
                  </a:lnTo>
                  <a:lnTo>
                    <a:pt x="107" y="288"/>
                  </a:lnTo>
                  <a:lnTo>
                    <a:pt x="100" y="394"/>
                  </a:lnTo>
                  <a:close/>
                  <a:moveTo>
                    <a:pt x="112" y="223"/>
                  </a:moveTo>
                  <a:lnTo>
                    <a:pt x="121" y="223"/>
                  </a:lnTo>
                  <a:lnTo>
                    <a:pt x="131" y="221"/>
                  </a:lnTo>
                  <a:lnTo>
                    <a:pt x="142" y="217"/>
                  </a:lnTo>
                  <a:lnTo>
                    <a:pt x="154" y="212"/>
                  </a:lnTo>
                  <a:lnTo>
                    <a:pt x="169" y="205"/>
                  </a:lnTo>
                  <a:lnTo>
                    <a:pt x="184" y="198"/>
                  </a:lnTo>
                  <a:lnTo>
                    <a:pt x="202" y="189"/>
                  </a:lnTo>
                  <a:lnTo>
                    <a:pt x="219" y="178"/>
                  </a:lnTo>
                  <a:lnTo>
                    <a:pt x="238" y="167"/>
                  </a:lnTo>
                  <a:lnTo>
                    <a:pt x="254" y="155"/>
                  </a:lnTo>
                  <a:lnTo>
                    <a:pt x="266" y="143"/>
                  </a:lnTo>
                  <a:lnTo>
                    <a:pt x="277" y="134"/>
                  </a:lnTo>
                  <a:lnTo>
                    <a:pt x="286" y="123"/>
                  </a:lnTo>
                  <a:lnTo>
                    <a:pt x="291" y="111"/>
                  </a:lnTo>
                  <a:lnTo>
                    <a:pt x="293" y="106"/>
                  </a:lnTo>
                  <a:lnTo>
                    <a:pt x="294" y="102"/>
                  </a:lnTo>
                  <a:lnTo>
                    <a:pt x="296" y="96"/>
                  </a:lnTo>
                  <a:lnTo>
                    <a:pt x="296" y="91"/>
                  </a:lnTo>
                  <a:lnTo>
                    <a:pt x="294" y="85"/>
                  </a:lnTo>
                  <a:lnTo>
                    <a:pt x="292" y="79"/>
                  </a:lnTo>
                  <a:lnTo>
                    <a:pt x="288" y="75"/>
                  </a:lnTo>
                  <a:lnTo>
                    <a:pt x="280" y="72"/>
                  </a:lnTo>
                  <a:lnTo>
                    <a:pt x="272" y="70"/>
                  </a:lnTo>
                  <a:lnTo>
                    <a:pt x="261" y="67"/>
                  </a:lnTo>
                  <a:lnTo>
                    <a:pt x="249" y="66"/>
                  </a:lnTo>
                  <a:lnTo>
                    <a:pt x="235" y="65"/>
                  </a:lnTo>
                  <a:lnTo>
                    <a:pt x="226" y="66"/>
                  </a:lnTo>
                  <a:lnTo>
                    <a:pt x="217" y="66"/>
                  </a:lnTo>
                  <a:lnTo>
                    <a:pt x="209" y="66"/>
                  </a:lnTo>
                  <a:lnTo>
                    <a:pt x="201" y="67"/>
                  </a:lnTo>
                  <a:lnTo>
                    <a:pt x="193" y="67"/>
                  </a:lnTo>
                  <a:lnTo>
                    <a:pt x="185" y="68"/>
                  </a:lnTo>
                  <a:lnTo>
                    <a:pt x="177" y="70"/>
                  </a:lnTo>
                  <a:lnTo>
                    <a:pt x="170" y="70"/>
                  </a:lnTo>
                  <a:lnTo>
                    <a:pt x="163" y="72"/>
                  </a:lnTo>
                  <a:lnTo>
                    <a:pt x="156" y="73"/>
                  </a:lnTo>
                  <a:lnTo>
                    <a:pt x="150" y="74"/>
                  </a:lnTo>
                  <a:lnTo>
                    <a:pt x="144" y="75"/>
                  </a:lnTo>
                  <a:lnTo>
                    <a:pt x="139" y="77"/>
                  </a:lnTo>
                  <a:lnTo>
                    <a:pt x="133" y="78"/>
                  </a:lnTo>
                  <a:lnTo>
                    <a:pt x="129" y="79"/>
                  </a:lnTo>
                  <a:lnTo>
                    <a:pt x="126" y="82"/>
                  </a:lnTo>
                  <a:lnTo>
                    <a:pt x="121" y="84"/>
                  </a:lnTo>
                  <a:lnTo>
                    <a:pt x="118" y="86"/>
                  </a:lnTo>
                  <a:lnTo>
                    <a:pt x="116" y="89"/>
                  </a:lnTo>
                  <a:lnTo>
                    <a:pt x="113" y="92"/>
                  </a:lnTo>
                  <a:lnTo>
                    <a:pt x="111" y="96"/>
                  </a:lnTo>
                  <a:lnTo>
                    <a:pt x="110" y="99"/>
                  </a:lnTo>
                  <a:lnTo>
                    <a:pt x="109" y="104"/>
                  </a:lnTo>
                  <a:lnTo>
                    <a:pt x="109" y="108"/>
                  </a:lnTo>
                  <a:lnTo>
                    <a:pt x="109" y="156"/>
                  </a:lnTo>
                  <a:lnTo>
                    <a:pt x="107" y="219"/>
                  </a:lnTo>
                  <a:lnTo>
                    <a:pt x="107" y="220"/>
                  </a:lnTo>
                  <a:lnTo>
                    <a:pt x="107" y="221"/>
                  </a:lnTo>
                  <a:lnTo>
                    <a:pt x="107" y="222"/>
                  </a:lnTo>
                  <a:lnTo>
                    <a:pt x="108" y="222"/>
                  </a:lnTo>
                  <a:lnTo>
                    <a:pt x="109" y="223"/>
                  </a:lnTo>
                  <a:lnTo>
                    <a:pt x="110" y="223"/>
                  </a:lnTo>
                  <a:lnTo>
                    <a:pt x="111" y="223"/>
                  </a:lnTo>
                  <a:lnTo>
                    <a:pt x="112" y="22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70640" y="2298600"/>
              <a:ext cx="138240" cy="182160"/>
            </a:xfrm>
            <a:custGeom>
              <a:avLst/>
              <a:gdLst/>
              <a:ahLst/>
              <a:rect l="l" t="t" r="r" b="b"/>
              <a:pathLst>
                <a:path w="346" h="460">
                  <a:moveTo>
                    <a:pt x="238" y="0"/>
                  </a:moveTo>
                  <a:lnTo>
                    <a:pt x="250" y="1"/>
                  </a:lnTo>
                  <a:lnTo>
                    <a:pt x="261" y="1"/>
                  </a:lnTo>
                  <a:lnTo>
                    <a:pt x="272" y="3"/>
                  </a:lnTo>
                  <a:lnTo>
                    <a:pt x="282" y="6"/>
                  </a:lnTo>
                  <a:lnTo>
                    <a:pt x="292" y="8"/>
                  </a:lnTo>
                  <a:lnTo>
                    <a:pt x="301" y="11"/>
                  </a:lnTo>
                  <a:lnTo>
                    <a:pt x="309" y="16"/>
                  </a:lnTo>
                  <a:lnTo>
                    <a:pt x="316" y="20"/>
                  </a:lnTo>
                  <a:lnTo>
                    <a:pt x="323" y="24"/>
                  </a:lnTo>
                  <a:lnTo>
                    <a:pt x="330" y="29"/>
                  </a:lnTo>
                  <a:lnTo>
                    <a:pt x="334" y="33"/>
                  </a:lnTo>
                  <a:lnTo>
                    <a:pt x="339" y="38"/>
                  </a:lnTo>
                  <a:lnTo>
                    <a:pt x="342" y="42"/>
                  </a:lnTo>
                  <a:lnTo>
                    <a:pt x="344" y="45"/>
                  </a:lnTo>
                  <a:lnTo>
                    <a:pt x="345" y="49"/>
                  </a:lnTo>
                  <a:lnTo>
                    <a:pt x="346" y="52"/>
                  </a:lnTo>
                  <a:lnTo>
                    <a:pt x="345" y="55"/>
                  </a:lnTo>
                  <a:lnTo>
                    <a:pt x="343" y="58"/>
                  </a:lnTo>
                  <a:lnTo>
                    <a:pt x="339" y="60"/>
                  </a:lnTo>
                  <a:lnTo>
                    <a:pt x="333" y="63"/>
                  </a:lnTo>
                  <a:lnTo>
                    <a:pt x="325" y="65"/>
                  </a:lnTo>
                  <a:lnTo>
                    <a:pt x="315" y="67"/>
                  </a:lnTo>
                  <a:lnTo>
                    <a:pt x="304" y="70"/>
                  </a:lnTo>
                  <a:lnTo>
                    <a:pt x="292" y="72"/>
                  </a:lnTo>
                  <a:lnTo>
                    <a:pt x="279" y="74"/>
                  </a:lnTo>
                  <a:lnTo>
                    <a:pt x="265" y="75"/>
                  </a:lnTo>
                  <a:lnTo>
                    <a:pt x="249" y="76"/>
                  </a:lnTo>
                  <a:lnTo>
                    <a:pt x="235" y="77"/>
                  </a:lnTo>
                  <a:lnTo>
                    <a:pt x="218" y="78"/>
                  </a:lnTo>
                  <a:lnTo>
                    <a:pt x="202" y="80"/>
                  </a:lnTo>
                  <a:lnTo>
                    <a:pt x="185" y="80"/>
                  </a:lnTo>
                  <a:lnTo>
                    <a:pt x="167" y="80"/>
                  </a:lnTo>
                  <a:lnTo>
                    <a:pt x="146" y="80"/>
                  </a:lnTo>
                  <a:lnTo>
                    <a:pt x="143" y="80"/>
                  </a:lnTo>
                  <a:lnTo>
                    <a:pt x="141" y="80"/>
                  </a:lnTo>
                  <a:lnTo>
                    <a:pt x="139" y="80"/>
                  </a:lnTo>
                  <a:lnTo>
                    <a:pt x="137" y="81"/>
                  </a:lnTo>
                  <a:lnTo>
                    <a:pt x="134" y="81"/>
                  </a:lnTo>
                  <a:lnTo>
                    <a:pt x="132" y="81"/>
                  </a:lnTo>
                  <a:lnTo>
                    <a:pt x="131" y="81"/>
                  </a:lnTo>
                  <a:lnTo>
                    <a:pt x="130" y="82"/>
                  </a:lnTo>
                  <a:lnTo>
                    <a:pt x="129" y="82"/>
                  </a:lnTo>
                  <a:lnTo>
                    <a:pt x="128" y="83"/>
                  </a:lnTo>
                  <a:lnTo>
                    <a:pt x="127" y="83"/>
                  </a:lnTo>
                  <a:lnTo>
                    <a:pt x="127" y="84"/>
                  </a:lnTo>
                  <a:lnTo>
                    <a:pt x="125" y="86"/>
                  </a:lnTo>
                  <a:lnTo>
                    <a:pt x="125" y="87"/>
                  </a:lnTo>
                  <a:lnTo>
                    <a:pt x="125" y="88"/>
                  </a:lnTo>
                  <a:lnTo>
                    <a:pt x="125" y="91"/>
                  </a:lnTo>
                  <a:lnTo>
                    <a:pt x="116" y="181"/>
                  </a:lnTo>
                  <a:lnTo>
                    <a:pt x="116" y="182"/>
                  </a:lnTo>
                  <a:lnTo>
                    <a:pt x="117" y="183"/>
                  </a:lnTo>
                  <a:lnTo>
                    <a:pt x="117" y="184"/>
                  </a:lnTo>
                  <a:lnTo>
                    <a:pt x="118" y="186"/>
                  </a:lnTo>
                  <a:lnTo>
                    <a:pt x="119" y="187"/>
                  </a:lnTo>
                  <a:lnTo>
                    <a:pt x="120" y="187"/>
                  </a:lnTo>
                  <a:lnTo>
                    <a:pt x="122" y="187"/>
                  </a:lnTo>
                  <a:lnTo>
                    <a:pt x="124" y="187"/>
                  </a:lnTo>
                  <a:lnTo>
                    <a:pt x="132" y="187"/>
                  </a:lnTo>
                  <a:lnTo>
                    <a:pt x="140" y="186"/>
                  </a:lnTo>
                  <a:lnTo>
                    <a:pt x="149" y="186"/>
                  </a:lnTo>
                  <a:lnTo>
                    <a:pt x="156" y="184"/>
                  </a:lnTo>
                  <a:lnTo>
                    <a:pt x="165" y="184"/>
                  </a:lnTo>
                  <a:lnTo>
                    <a:pt x="174" y="183"/>
                  </a:lnTo>
                  <a:lnTo>
                    <a:pt x="182" y="183"/>
                  </a:lnTo>
                  <a:lnTo>
                    <a:pt x="191" y="182"/>
                  </a:lnTo>
                  <a:lnTo>
                    <a:pt x="199" y="182"/>
                  </a:lnTo>
                  <a:lnTo>
                    <a:pt x="208" y="182"/>
                  </a:lnTo>
                  <a:lnTo>
                    <a:pt x="216" y="181"/>
                  </a:lnTo>
                  <a:lnTo>
                    <a:pt x="224" y="181"/>
                  </a:lnTo>
                  <a:lnTo>
                    <a:pt x="230" y="181"/>
                  </a:lnTo>
                  <a:lnTo>
                    <a:pt x="237" y="181"/>
                  </a:lnTo>
                  <a:lnTo>
                    <a:pt x="244" y="181"/>
                  </a:lnTo>
                  <a:lnTo>
                    <a:pt x="249" y="181"/>
                  </a:lnTo>
                  <a:lnTo>
                    <a:pt x="258" y="181"/>
                  </a:lnTo>
                  <a:lnTo>
                    <a:pt x="266" y="181"/>
                  </a:lnTo>
                  <a:lnTo>
                    <a:pt x="275" y="182"/>
                  </a:lnTo>
                  <a:lnTo>
                    <a:pt x="282" y="182"/>
                  </a:lnTo>
                  <a:lnTo>
                    <a:pt x="289" y="183"/>
                  </a:lnTo>
                  <a:lnTo>
                    <a:pt x="297" y="184"/>
                  </a:lnTo>
                  <a:lnTo>
                    <a:pt x="303" y="186"/>
                  </a:lnTo>
                  <a:lnTo>
                    <a:pt x="309" y="188"/>
                  </a:lnTo>
                  <a:lnTo>
                    <a:pt x="314" y="190"/>
                  </a:lnTo>
                  <a:lnTo>
                    <a:pt x="320" y="191"/>
                  </a:lnTo>
                  <a:lnTo>
                    <a:pt x="324" y="193"/>
                  </a:lnTo>
                  <a:lnTo>
                    <a:pt x="328" y="194"/>
                  </a:lnTo>
                  <a:lnTo>
                    <a:pt x="331" y="197"/>
                  </a:lnTo>
                  <a:lnTo>
                    <a:pt x="333" y="199"/>
                  </a:lnTo>
                  <a:lnTo>
                    <a:pt x="335" y="200"/>
                  </a:lnTo>
                  <a:lnTo>
                    <a:pt x="336" y="202"/>
                  </a:lnTo>
                  <a:lnTo>
                    <a:pt x="337" y="204"/>
                  </a:lnTo>
                  <a:lnTo>
                    <a:pt x="337" y="206"/>
                  </a:lnTo>
                  <a:lnTo>
                    <a:pt x="339" y="208"/>
                  </a:lnTo>
                  <a:lnTo>
                    <a:pt x="340" y="210"/>
                  </a:lnTo>
                  <a:lnTo>
                    <a:pt x="341" y="212"/>
                  </a:lnTo>
                  <a:lnTo>
                    <a:pt x="341" y="214"/>
                  </a:lnTo>
                  <a:lnTo>
                    <a:pt x="342" y="216"/>
                  </a:lnTo>
                  <a:lnTo>
                    <a:pt x="343" y="219"/>
                  </a:lnTo>
                  <a:lnTo>
                    <a:pt x="343" y="220"/>
                  </a:lnTo>
                  <a:lnTo>
                    <a:pt x="344" y="222"/>
                  </a:lnTo>
                  <a:lnTo>
                    <a:pt x="345" y="224"/>
                  </a:lnTo>
                  <a:lnTo>
                    <a:pt x="345" y="225"/>
                  </a:lnTo>
                  <a:lnTo>
                    <a:pt x="345" y="226"/>
                  </a:lnTo>
                  <a:lnTo>
                    <a:pt x="345" y="227"/>
                  </a:lnTo>
                  <a:lnTo>
                    <a:pt x="346" y="229"/>
                  </a:lnTo>
                  <a:lnTo>
                    <a:pt x="346" y="229"/>
                  </a:lnTo>
                  <a:lnTo>
                    <a:pt x="346" y="231"/>
                  </a:lnTo>
                  <a:lnTo>
                    <a:pt x="345" y="232"/>
                  </a:lnTo>
                  <a:lnTo>
                    <a:pt x="344" y="234"/>
                  </a:lnTo>
                  <a:lnTo>
                    <a:pt x="343" y="235"/>
                  </a:lnTo>
                  <a:lnTo>
                    <a:pt x="342" y="237"/>
                  </a:lnTo>
                  <a:lnTo>
                    <a:pt x="340" y="238"/>
                  </a:lnTo>
                  <a:lnTo>
                    <a:pt x="337" y="240"/>
                  </a:lnTo>
                  <a:lnTo>
                    <a:pt x="335" y="241"/>
                  </a:lnTo>
                  <a:lnTo>
                    <a:pt x="332" y="243"/>
                  </a:lnTo>
                  <a:lnTo>
                    <a:pt x="329" y="243"/>
                  </a:lnTo>
                  <a:lnTo>
                    <a:pt x="325" y="244"/>
                  </a:lnTo>
                  <a:lnTo>
                    <a:pt x="322" y="245"/>
                  </a:lnTo>
                  <a:lnTo>
                    <a:pt x="318" y="245"/>
                  </a:lnTo>
                  <a:lnTo>
                    <a:pt x="313" y="246"/>
                  </a:lnTo>
                  <a:lnTo>
                    <a:pt x="309" y="246"/>
                  </a:lnTo>
                  <a:lnTo>
                    <a:pt x="304" y="246"/>
                  </a:lnTo>
                  <a:lnTo>
                    <a:pt x="294" y="247"/>
                  </a:lnTo>
                  <a:lnTo>
                    <a:pt x="283" y="248"/>
                  </a:lnTo>
                  <a:lnTo>
                    <a:pt x="273" y="250"/>
                  </a:lnTo>
                  <a:lnTo>
                    <a:pt x="262" y="250"/>
                  </a:lnTo>
                  <a:lnTo>
                    <a:pt x="251" y="251"/>
                  </a:lnTo>
                  <a:lnTo>
                    <a:pt x="240" y="252"/>
                  </a:lnTo>
                  <a:lnTo>
                    <a:pt x="229" y="253"/>
                  </a:lnTo>
                  <a:lnTo>
                    <a:pt x="218" y="253"/>
                  </a:lnTo>
                  <a:lnTo>
                    <a:pt x="207" y="254"/>
                  </a:lnTo>
                  <a:lnTo>
                    <a:pt x="196" y="255"/>
                  </a:lnTo>
                  <a:lnTo>
                    <a:pt x="186" y="255"/>
                  </a:lnTo>
                  <a:lnTo>
                    <a:pt x="177" y="255"/>
                  </a:lnTo>
                  <a:lnTo>
                    <a:pt x="167" y="256"/>
                  </a:lnTo>
                  <a:lnTo>
                    <a:pt x="160" y="256"/>
                  </a:lnTo>
                  <a:lnTo>
                    <a:pt x="151" y="256"/>
                  </a:lnTo>
                  <a:lnTo>
                    <a:pt x="143" y="256"/>
                  </a:lnTo>
                  <a:lnTo>
                    <a:pt x="138" y="256"/>
                  </a:lnTo>
                  <a:lnTo>
                    <a:pt x="133" y="256"/>
                  </a:lnTo>
                  <a:lnTo>
                    <a:pt x="129" y="257"/>
                  </a:lnTo>
                  <a:lnTo>
                    <a:pt x="124" y="257"/>
                  </a:lnTo>
                  <a:lnTo>
                    <a:pt x="120" y="258"/>
                  </a:lnTo>
                  <a:lnTo>
                    <a:pt x="118" y="258"/>
                  </a:lnTo>
                  <a:lnTo>
                    <a:pt x="114" y="259"/>
                  </a:lnTo>
                  <a:lnTo>
                    <a:pt x="112" y="261"/>
                  </a:lnTo>
                  <a:lnTo>
                    <a:pt x="111" y="262"/>
                  </a:lnTo>
                  <a:lnTo>
                    <a:pt x="109" y="263"/>
                  </a:lnTo>
                  <a:lnTo>
                    <a:pt x="108" y="265"/>
                  </a:lnTo>
                  <a:lnTo>
                    <a:pt x="107" y="267"/>
                  </a:lnTo>
                  <a:lnTo>
                    <a:pt x="106" y="269"/>
                  </a:lnTo>
                  <a:lnTo>
                    <a:pt x="106" y="272"/>
                  </a:lnTo>
                  <a:lnTo>
                    <a:pt x="105" y="275"/>
                  </a:lnTo>
                  <a:lnTo>
                    <a:pt x="105" y="278"/>
                  </a:lnTo>
                  <a:lnTo>
                    <a:pt x="99" y="374"/>
                  </a:lnTo>
                  <a:lnTo>
                    <a:pt x="99" y="378"/>
                  </a:lnTo>
                  <a:lnTo>
                    <a:pt x="100" y="380"/>
                  </a:lnTo>
                  <a:lnTo>
                    <a:pt x="102" y="382"/>
                  </a:lnTo>
                  <a:lnTo>
                    <a:pt x="105" y="384"/>
                  </a:lnTo>
                  <a:lnTo>
                    <a:pt x="108" y="385"/>
                  </a:lnTo>
                  <a:lnTo>
                    <a:pt x="111" y="386"/>
                  </a:lnTo>
                  <a:lnTo>
                    <a:pt x="116" y="387"/>
                  </a:lnTo>
                  <a:lnTo>
                    <a:pt x="121" y="387"/>
                  </a:lnTo>
                  <a:lnTo>
                    <a:pt x="123" y="387"/>
                  </a:lnTo>
                  <a:lnTo>
                    <a:pt x="127" y="387"/>
                  </a:lnTo>
                  <a:lnTo>
                    <a:pt x="131" y="386"/>
                  </a:lnTo>
                  <a:lnTo>
                    <a:pt x="138" y="386"/>
                  </a:lnTo>
                  <a:lnTo>
                    <a:pt x="146" y="385"/>
                  </a:lnTo>
                  <a:lnTo>
                    <a:pt x="156" y="384"/>
                  </a:lnTo>
                  <a:lnTo>
                    <a:pt x="167" y="383"/>
                  </a:lnTo>
                  <a:lnTo>
                    <a:pt x="182" y="382"/>
                  </a:lnTo>
                  <a:lnTo>
                    <a:pt x="195" y="381"/>
                  </a:lnTo>
                  <a:lnTo>
                    <a:pt x="207" y="380"/>
                  </a:lnTo>
                  <a:lnTo>
                    <a:pt x="218" y="379"/>
                  </a:lnTo>
                  <a:lnTo>
                    <a:pt x="227" y="378"/>
                  </a:lnTo>
                  <a:lnTo>
                    <a:pt x="235" y="376"/>
                  </a:lnTo>
                  <a:lnTo>
                    <a:pt x="241" y="376"/>
                  </a:lnTo>
                  <a:lnTo>
                    <a:pt x="246" y="376"/>
                  </a:lnTo>
                  <a:lnTo>
                    <a:pt x="250" y="376"/>
                  </a:lnTo>
                  <a:lnTo>
                    <a:pt x="258" y="376"/>
                  </a:lnTo>
                  <a:lnTo>
                    <a:pt x="266" y="378"/>
                  </a:lnTo>
                  <a:lnTo>
                    <a:pt x="273" y="379"/>
                  </a:lnTo>
                  <a:lnTo>
                    <a:pt x="281" y="381"/>
                  </a:lnTo>
                  <a:lnTo>
                    <a:pt x="289" y="383"/>
                  </a:lnTo>
                  <a:lnTo>
                    <a:pt x="296" y="386"/>
                  </a:lnTo>
                  <a:lnTo>
                    <a:pt x="303" y="390"/>
                  </a:lnTo>
                  <a:lnTo>
                    <a:pt x="311" y="394"/>
                  </a:lnTo>
                  <a:lnTo>
                    <a:pt x="318" y="397"/>
                  </a:lnTo>
                  <a:lnTo>
                    <a:pt x="323" y="401"/>
                  </a:lnTo>
                  <a:lnTo>
                    <a:pt x="329" y="405"/>
                  </a:lnTo>
                  <a:lnTo>
                    <a:pt x="332" y="408"/>
                  </a:lnTo>
                  <a:lnTo>
                    <a:pt x="335" y="412"/>
                  </a:lnTo>
                  <a:lnTo>
                    <a:pt x="337" y="415"/>
                  </a:lnTo>
                  <a:lnTo>
                    <a:pt x="339" y="418"/>
                  </a:lnTo>
                  <a:lnTo>
                    <a:pt x="340" y="422"/>
                  </a:lnTo>
                  <a:lnTo>
                    <a:pt x="339" y="426"/>
                  </a:lnTo>
                  <a:lnTo>
                    <a:pt x="337" y="429"/>
                  </a:lnTo>
                  <a:lnTo>
                    <a:pt x="335" y="433"/>
                  </a:lnTo>
                  <a:lnTo>
                    <a:pt x="332" y="435"/>
                  </a:lnTo>
                  <a:lnTo>
                    <a:pt x="328" y="437"/>
                  </a:lnTo>
                  <a:lnTo>
                    <a:pt x="322" y="439"/>
                  </a:lnTo>
                  <a:lnTo>
                    <a:pt x="316" y="440"/>
                  </a:lnTo>
                  <a:lnTo>
                    <a:pt x="309" y="442"/>
                  </a:lnTo>
                  <a:lnTo>
                    <a:pt x="236" y="447"/>
                  </a:lnTo>
                  <a:lnTo>
                    <a:pt x="228" y="447"/>
                  </a:lnTo>
                  <a:lnTo>
                    <a:pt x="220" y="448"/>
                  </a:lnTo>
                  <a:lnTo>
                    <a:pt x="212" y="449"/>
                  </a:lnTo>
                  <a:lnTo>
                    <a:pt x="202" y="450"/>
                  </a:lnTo>
                  <a:lnTo>
                    <a:pt x="191" y="451"/>
                  </a:lnTo>
                  <a:lnTo>
                    <a:pt x="178" y="453"/>
                  </a:lnTo>
                  <a:lnTo>
                    <a:pt x="165" y="454"/>
                  </a:lnTo>
                  <a:lnTo>
                    <a:pt x="152" y="455"/>
                  </a:lnTo>
                  <a:lnTo>
                    <a:pt x="139" y="456"/>
                  </a:lnTo>
                  <a:lnTo>
                    <a:pt x="128" y="457"/>
                  </a:lnTo>
                  <a:lnTo>
                    <a:pt x="117" y="458"/>
                  </a:lnTo>
                  <a:lnTo>
                    <a:pt x="108" y="459"/>
                  </a:lnTo>
                  <a:lnTo>
                    <a:pt x="101" y="459"/>
                  </a:lnTo>
                  <a:lnTo>
                    <a:pt x="95" y="459"/>
                  </a:lnTo>
                  <a:lnTo>
                    <a:pt x="91" y="460"/>
                  </a:lnTo>
                  <a:lnTo>
                    <a:pt x="88" y="460"/>
                  </a:lnTo>
                  <a:lnTo>
                    <a:pt x="81" y="460"/>
                  </a:lnTo>
                  <a:lnTo>
                    <a:pt x="75" y="459"/>
                  </a:lnTo>
                  <a:lnTo>
                    <a:pt x="68" y="458"/>
                  </a:lnTo>
                  <a:lnTo>
                    <a:pt x="61" y="457"/>
                  </a:lnTo>
                  <a:lnTo>
                    <a:pt x="54" y="456"/>
                  </a:lnTo>
                  <a:lnTo>
                    <a:pt x="47" y="455"/>
                  </a:lnTo>
                  <a:lnTo>
                    <a:pt x="39" y="453"/>
                  </a:lnTo>
                  <a:lnTo>
                    <a:pt x="32" y="450"/>
                  </a:lnTo>
                  <a:lnTo>
                    <a:pt x="24" y="447"/>
                  </a:lnTo>
                  <a:lnTo>
                    <a:pt x="17" y="444"/>
                  </a:lnTo>
                  <a:lnTo>
                    <a:pt x="13" y="440"/>
                  </a:lnTo>
                  <a:lnTo>
                    <a:pt x="8" y="437"/>
                  </a:lnTo>
                  <a:lnTo>
                    <a:pt x="4" y="433"/>
                  </a:lnTo>
                  <a:lnTo>
                    <a:pt x="2" y="428"/>
                  </a:lnTo>
                  <a:lnTo>
                    <a:pt x="1" y="423"/>
                  </a:lnTo>
                  <a:lnTo>
                    <a:pt x="0" y="417"/>
                  </a:lnTo>
                  <a:lnTo>
                    <a:pt x="1" y="401"/>
                  </a:lnTo>
                  <a:lnTo>
                    <a:pt x="1" y="384"/>
                  </a:lnTo>
                  <a:lnTo>
                    <a:pt x="1" y="368"/>
                  </a:lnTo>
                  <a:lnTo>
                    <a:pt x="1" y="352"/>
                  </a:lnTo>
                  <a:lnTo>
                    <a:pt x="1" y="336"/>
                  </a:lnTo>
                  <a:lnTo>
                    <a:pt x="2" y="319"/>
                  </a:lnTo>
                  <a:lnTo>
                    <a:pt x="2" y="304"/>
                  </a:lnTo>
                  <a:lnTo>
                    <a:pt x="3" y="288"/>
                  </a:lnTo>
                  <a:lnTo>
                    <a:pt x="3" y="273"/>
                  </a:lnTo>
                  <a:lnTo>
                    <a:pt x="4" y="257"/>
                  </a:lnTo>
                  <a:lnTo>
                    <a:pt x="4" y="243"/>
                  </a:lnTo>
                  <a:lnTo>
                    <a:pt x="5" y="229"/>
                  </a:lnTo>
                  <a:lnTo>
                    <a:pt x="6" y="215"/>
                  </a:lnTo>
                  <a:lnTo>
                    <a:pt x="7" y="202"/>
                  </a:lnTo>
                  <a:lnTo>
                    <a:pt x="8" y="189"/>
                  </a:lnTo>
                  <a:lnTo>
                    <a:pt x="10" y="176"/>
                  </a:lnTo>
                  <a:lnTo>
                    <a:pt x="11" y="163"/>
                  </a:lnTo>
                  <a:lnTo>
                    <a:pt x="12" y="151"/>
                  </a:lnTo>
                  <a:lnTo>
                    <a:pt x="14" y="138"/>
                  </a:lnTo>
                  <a:lnTo>
                    <a:pt x="15" y="126"/>
                  </a:lnTo>
                  <a:lnTo>
                    <a:pt x="17" y="113"/>
                  </a:lnTo>
                  <a:lnTo>
                    <a:pt x="18" y="101"/>
                  </a:lnTo>
                  <a:lnTo>
                    <a:pt x="21" y="87"/>
                  </a:lnTo>
                  <a:lnTo>
                    <a:pt x="23" y="75"/>
                  </a:lnTo>
                  <a:lnTo>
                    <a:pt x="25" y="63"/>
                  </a:lnTo>
                  <a:lnTo>
                    <a:pt x="27" y="52"/>
                  </a:lnTo>
                  <a:lnTo>
                    <a:pt x="29" y="42"/>
                  </a:lnTo>
                  <a:lnTo>
                    <a:pt x="31" y="34"/>
                  </a:lnTo>
                  <a:lnTo>
                    <a:pt x="33" y="28"/>
                  </a:lnTo>
                  <a:lnTo>
                    <a:pt x="35" y="22"/>
                  </a:lnTo>
                  <a:lnTo>
                    <a:pt x="36" y="19"/>
                  </a:lnTo>
                  <a:lnTo>
                    <a:pt x="38" y="16"/>
                  </a:lnTo>
                  <a:lnTo>
                    <a:pt x="39" y="13"/>
                  </a:lnTo>
                  <a:lnTo>
                    <a:pt x="42" y="12"/>
                  </a:lnTo>
                  <a:lnTo>
                    <a:pt x="44" y="11"/>
                  </a:lnTo>
                  <a:lnTo>
                    <a:pt x="46" y="10"/>
                  </a:lnTo>
                  <a:lnTo>
                    <a:pt x="48" y="9"/>
                  </a:lnTo>
                  <a:lnTo>
                    <a:pt x="50" y="9"/>
                  </a:lnTo>
                  <a:lnTo>
                    <a:pt x="54" y="8"/>
                  </a:lnTo>
                  <a:lnTo>
                    <a:pt x="57" y="8"/>
                  </a:lnTo>
                  <a:lnTo>
                    <a:pt x="57" y="8"/>
                  </a:lnTo>
                  <a:lnTo>
                    <a:pt x="58" y="8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3" y="8"/>
                  </a:lnTo>
                  <a:lnTo>
                    <a:pt x="65" y="8"/>
                  </a:lnTo>
                  <a:lnTo>
                    <a:pt x="67" y="8"/>
                  </a:lnTo>
                  <a:lnTo>
                    <a:pt x="69" y="8"/>
                  </a:lnTo>
                  <a:lnTo>
                    <a:pt x="72" y="8"/>
                  </a:lnTo>
                  <a:lnTo>
                    <a:pt x="75" y="8"/>
                  </a:lnTo>
                  <a:lnTo>
                    <a:pt x="78" y="8"/>
                  </a:lnTo>
                  <a:lnTo>
                    <a:pt x="81" y="8"/>
                  </a:lnTo>
                  <a:lnTo>
                    <a:pt x="86" y="8"/>
                  </a:lnTo>
                  <a:lnTo>
                    <a:pt x="89" y="8"/>
                  </a:lnTo>
                  <a:lnTo>
                    <a:pt x="93" y="8"/>
                  </a:lnTo>
                  <a:lnTo>
                    <a:pt x="98" y="8"/>
                  </a:lnTo>
                  <a:lnTo>
                    <a:pt x="101" y="8"/>
                  </a:lnTo>
                  <a:lnTo>
                    <a:pt x="106" y="8"/>
                  </a:lnTo>
                  <a:lnTo>
                    <a:pt x="112" y="8"/>
                  </a:lnTo>
                  <a:lnTo>
                    <a:pt x="120" y="7"/>
                  </a:lnTo>
                  <a:lnTo>
                    <a:pt x="129" y="7"/>
                  </a:lnTo>
                  <a:lnTo>
                    <a:pt x="140" y="6"/>
                  </a:lnTo>
                  <a:lnTo>
                    <a:pt x="152" y="5"/>
                  </a:lnTo>
                  <a:lnTo>
                    <a:pt x="165" y="5"/>
                  </a:lnTo>
                  <a:lnTo>
                    <a:pt x="180" y="3"/>
                  </a:lnTo>
                  <a:lnTo>
                    <a:pt x="192" y="2"/>
                  </a:lnTo>
                  <a:lnTo>
                    <a:pt x="203" y="2"/>
                  </a:lnTo>
                  <a:lnTo>
                    <a:pt x="213" y="1"/>
                  </a:lnTo>
                  <a:lnTo>
                    <a:pt x="222" y="1"/>
                  </a:lnTo>
                  <a:lnTo>
                    <a:pt x="228" y="0"/>
                  </a:lnTo>
                  <a:lnTo>
                    <a:pt x="234" y="0"/>
                  </a:lnTo>
                  <a:lnTo>
                    <a:pt x="238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629400" y="2290680"/>
              <a:ext cx="162000" cy="199800"/>
            </a:xfrm>
            <a:custGeom>
              <a:avLst/>
              <a:gdLst/>
              <a:ahLst/>
              <a:rect l="l" t="t" r="r" b="b"/>
              <a:pathLst>
                <a:path w="409" h="505">
                  <a:moveTo>
                    <a:pt x="220" y="234"/>
                  </a:moveTo>
                  <a:lnTo>
                    <a:pt x="268" y="112"/>
                  </a:lnTo>
                  <a:lnTo>
                    <a:pt x="272" y="103"/>
                  </a:lnTo>
                  <a:lnTo>
                    <a:pt x="275" y="94"/>
                  </a:lnTo>
                  <a:lnTo>
                    <a:pt x="280" y="85"/>
                  </a:lnTo>
                  <a:lnTo>
                    <a:pt x="284" y="77"/>
                  </a:lnTo>
                  <a:lnTo>
                    <a:pt x="289" y="69"/>
                  </a:lnTo>
                  <a:lnTo>
                    <a:pt x="293" y="61"/>
                  </a:lnTo>
                  <a:lnTo>
                    <a:pt x="297" y="53"/>
                  </a:lnTo>
                  <a:lnTo>
                    <a:pt x="302" y="46"/>
                  </a:lnTo>
                  <a:lnTo>
                    <a:pt x="306" y="39"/>
                  </a:lnTo>
                  <a:lnTo>
                    <a:pt x="310" y="32"/>
                  </a:lnTo>
                  <a:lnTo>
                    <a:pt x="314" y="27"/>
                  </a:lnTo>
                  <a:lnTo>
                    <a:pt x="317" y="21"/>
                  </a:lnTo>
                  <a:lnTo>
                    <a:pt x="321" y="17"/>
                  </a:lnTo>
                  <a:lnTo>
                    <a:pt x="323" y="14"/>
                  </a:lnTo>
                  <a:lnTo>
                    <a:pt x="326" y="10"/>
                  </a:lnTo>
                  <a:lnTo>
                    <a:pt x="328" y="8"/>
                  </a:lnTo>
                  <a:lnTo>
                    <a:pt x="330" y="6"/>
                  </a:lnTo>
                  <a:lnTo>
                    <a:pt x="333" y="5"/>
                  </a:lnTo>
                  <a:lnTo>
                    <a:pt x="335" y="4"/>
                  </a:lnTo>
                  <a:lnTo>
                    <a:pt x="338" y="3"/>
                  </a:lnTo>
                  <a:lnTo>
                    <a:pt x="340" y="2"/>
                  </a:lnTo>
                  <a:lnTo>
                    <a:pt x="344" y="0"/>
                  </a:lnTo>
                  <a:lnTo>
                    <a:pt x="347" y="0"/>
                  </a:lnTo>
                  <a:lnTo>
                    <a:pt x="350" y="0"/>
                  </a:lnTo>
                  <a:lnTo>
                    <a:pt x="356" y="0"/>
                  </a:lnTo>
                  <a:lnTo>
                    <a:pt x="360" y="2"/>
                  </a:lnTo>
                  <a:lnTo>
                    <a:pt x="366" y="3"/>
                  </a:lnTo>
                  <a:lnTo>
                    <a:pt x="371" y="4"/>
                  </a:lnTo>
                  <a:lnTo>
                    <a:pt x="376" y="6"/>
                  </a:lnTo>
                  <a:lnTo>
                    <a:pt x="381" y="9"/>
                  </a:lnTo>
                  <a:lnTo>
                    <a:pt x="386" y="13"/>
                  </a:lnTo>
                  <a:lnTo>
                    <a:pt x="390" y="16"/>
                  </a:lnTo>
                  <a:lnTo>
                    <a:pt x="395" y="20"/>
                  </a:lnTo>
                  <a:lnTo>
                    <a:pt x="399" y="24"/>
                  </a:lnTo>
                  <a:lnTo>
                    <a:pt x="402" y="27"/>
                  </a:lnTo>
                  <a:lnTo>
                    <a:pt x="404" y="30"/>
                  </a:lnTo>
                  <a:lnTo>
                    <a:pt x="407" y="34"/>
                  </a:lnTo>
                  <a:lnTo>
                    <a:pt x="408" y="37"/>
                  </a:lnTo>
                  <a:lnTo>
                    <a:pt x="409" y="39"/>
                  </a:lnTo>
                  <a:lnTo>
                    <a:pt x="409" y="41"/>
                  </a:lnTo>
                  <a:lnTo>
                    <a:pt x="409" y="45"/>
                  </a:lnTo>
                  <a:lnTo>
                    <a:pt x="408" y="48"/>
                  </a:lnTo>
                  <a:lnTo>
                    <a:pt x="407" y="52"/>
                  </a:lnTo>
                  <a:lnTo>
                    <a:pt x="406" y="58"/>
                  </a:lnTo>
                  <a:lnTo>
                    <a:pt x="403" y="64"/>
                  </a:lnTo>
                  <a:lnTo>
                    <a:pt x="401" y="71"/>
                  </a:lnTo>
                  <a:lnTo>
                    <a:pt x="398" y="80"/>
                  </a:lnTo>
                  <a:lnTo>
                    <a:pt x="395" y="89"/>
                  </a:lnTo>
                  <a:lnTo>
                    <a:pt x="390" y="100"/>
                  </a:lnTo>
                  <a:lnTo>
                    <a:pt x="385" y="113"/>
                  </a:lnTo>
                  <a:lnTo>
                    <a:pt x="378" y="131"/>
                  </a:lnTo>
                  <a:lnTo>
                    <a:pt x="370" y="151"/>
                  </a:lnTo>
                  <a:lnTo>
                    <a:pt x="360" y="174"/>
                  </a:lnTo>
                  <a:lnTo>
                    <a:pt x="350" y="199"/>
                  </a:lnTo>
                  <a:lnTo>
                    <a:pt x="339" y="228"/>
                  </a:lnTo>
                  <a:lnTo>
                    <a:pt x="326" y="260"/>
                  </a:lnTo>
                  <a:lnTo>
                    <a:pt x="314" y="292"/>
                  </a:lnTo>
                  <a:lnTo>
                    <a:pt x="303" y="321"/>
                  </a:lnTo>
                  <a:lnTo>
                    <a:pt x="292" y="347"/>
                  </a:lnTo>
                  <a:lnTo>
                    <a:pt x="284" y="369"/>
                  </a:lnTo>
                  <a:lnTo>
                    <a:pt x="276" y="389"/>
                  </a:lnTo>
                  <a:lnTo>
                    <a:pt x="270" y="404"/>
                  </a:lnTo>
                  <a:lnTo>
                    <a:pt x="265" y="418"/>
                  </a:lnTo>
                  <a:lnTo>
                    <a:pt x="262" y="428"/>
                  </a:lnTo>
                  <a:lnTo>
                    <a:pt x="259" y="436"/>
                  </a:lnTo>
                  <a:lnTo>
                    <a:pt x="257" y="444"/>
                  </a:lnTo>
                  <a:lnTo>
                    <a:pt x="253" y="452"/>
                  </a:lnTo>
                  <a:lnTo>
                    <a:pt x="251" y="458"/>
                  </a:lnTo>
                  <a:lnTo>
                    <a:pt x="249" y="465"/>
                  </a:lnTo>
                  <a:lnTo>
                    <a:pt x="248" y="472"/>
                  </a:lnTo>
                  <a:lnTo>
                    <a:pt x="245" y="477"/>
                  </a:lnTo>
                  <a:lnTo>
                    <a:pt x="243" y="483"/>
                  </a:lnTo>
                  <a:lnTo>
                    <a:pt x="241" y="487"/>
                  </a:lnTo>
                  <a:lnTo>
                    <a:pt x="239" y="492"/>
                  </a:lnTo>
                  <a:lnTo>
                    <a:pt x="236" y="496"/>
                  </a:lnTo>
                  <a:lnTo>
                    <a:pt x="232" y="499"/>
                  </a:lnTo>
                  <a:lnTo>
                    <a:pt x="228" y="501"/>
                  </a:lnTo>
                  <a:lnTo>
                    <a:pt x="224" y="503"/>
                  </a:lnTo>
                  <a:lnTo>
                    <a:pt x="220" y="504"/>
                  </a:lnTo>
                  <a:lnTo>
                    <a:pt x="215" y="505"/>
                  </a:lnTo>
                  <a:lnTo>
                    <a:pt x="213" y="505"/>
                  </a:lnTo>
                  <a:lnTo>
                    <a:pt x="212" y="505"/>
                  </a:lnTo>
                  <a:lnTo>
                    <a:pt x="210" y="504"/>
                  </a:lnTo>
                  <a:lnTo>
                    <a:pt x="208" y="504"/>
                  </a:lnTo>
                  <a:lnTo>
                    <a:pt x="206" y="504"/>
                  </a:lnTo>
                  <a:lnTo>
                    <a:pt x="202" y="503"/>
                  </a:lnTo>
                  <a:lnTo>
                    <a:pt x="199" y="503"/>
                  </a:lnTo>
                  <a:lnTo>
                    <a:pt x="195" y="501"/>
                  </a:lnTo>
                  <a:lnTo>
                    <a:pt x="191" y="501"/>
                  </a:lnTo>
                  <a:lnTo>
                    <a:pt x="187" y="500"/>
                  </a:lnTo>
                  <a:lnTo>
                    <a:pt x="184" y="499"/>
                  </a:lnTo>
                  <a:lnTo>
                    <a:pt x="179" y="499"/>
                  </a:lnTo>
                  <a:lnTo>
                    <a:pt x="175" y="498"/>
                  </a:lnTo>
                  <a:lnTo>
                    <a:pt x="172" y="497"/>
                  </a:lnTo>
                  <a:lnTo>
                    <a:pt x="168" y="497"/>
                  </a:lnTo>
                  <a:lnTo>
                    <a:pt x="164" y="496"/>
                  </a:lnTo>
                  <a:lnTo>
                    <a:pt x="160" y="495"/>
                  </a:lnTo>
                  <a:lnTo>
                    <a:pt x="157" y="494"/>
                  </a:lnTo>
                  <a:lnTo>
                    <a:pt x="154" y="494"/>
                  </a:lnTo>
                  <a:lnTo>
                    <a:pt x="152" y="492"/>
                  </a:lnTo>
                  <a:lnTo>
                    <a:pt x="148" y="490"/>
                  </a:lnTo>
                  <a:lnTo>
                    <a:pt x="146" y="489"/>
                  </a:lnTo>
                  <a:lnTo>
                    <a:pt x="145" y="487"/>
                  </a:lnTo>
                  <a:lnTo>
                    <a:pt x="143" y="486"/>
                  </a:lnTo>
                  <a:lnTo>
                    <a:pt x="141" y="484"/>
                  </a:lnTo>
                  <a:lnTo>
                    <a:pt x="139" y="482"/>
                  </a:lnTo>
                  <a:lnTo>
                    <a:pt x="137" y="478"/>
                  </a:lnTo>
                  <a:lnTo>
                    <a:pt x="135" y="475"/>
                  </a:lnTo>
                  <a:lnTo>
                    <a:pt x="133" y="471"/>
                  </a:lnTo>
                  <a:lnTo>
                    <a:pt x="131" y="466"/>
                  </a:lnTo>
                  <a:lnTo>
                    <a:pt x="127" y="462"/>
                  </a:lnTo>
                  <a:lnTo>
                    <a:pt x="125" y="456"/>
                  </a:lnTo>
                  <a:lnTo>
                    <a:pt x="122" y="450"/>
                  </a:lnTo>
                  <a:lnTo>
                    <a:pt x="119" y="441"/>
                  </a:lnTo>
                  <a:lnTo>
                    <a:pt x="114" y="431"/>
                  </a:lnTo>
                  <a:lnTo>
                    <a:pt x="109" y="419"/>
                  </a:lnTo>
                  <a:lnTo>
                    <a:pt x="104" y="404"/>
                  </a:lnTo>
                  <a:lnTo>
                    <a:pt x="99" y="388"/>
                  </a:lnTo>
                  <a:lnTo>
                    <a:pt x="92" y="369"/>
                  </a:lnTo>
                  <a:lnTo>
                    <a:pt x="85" y="349"/>
                  </a:lnTo>
                  <a:lnTo>
                    <a:pt x="78" y="328"/>
                  </a:lnTo>
                  <a:lnTo>
                    <a:pt x="71" y="308"/>
                  </a:lnTo>
                  <a:lnTo>
                    <a:pt x="66" y="290"/>
                  </a:lnTo>
                  <a:lnTo>
                    <a:pt x="59" y="271"/>
                  </a:lnTo>
                  <a:lnTo>
                    <a:pt x="53" y="253"/>
                  </a:lnTo>
                  <a:lnTo>
                    <a:pt x="49" y="237"/>
                  </a:lnTo>
                  <a:lnTo>
                    <a:pt x="43" y="221"/>
                  </a:lnTo>
                  <a:lnTo>
                    <a:pt x="39" y="206"/>
                  </a:lnTo>
                  <a:lnTo>
                    <a:pt x="35" y="191"/>
                  </a:lnTo>
                  <a:lnTo>
                    <a:pt x="30" y="177"/>
                  </a:lnTo>
                  <a:lnTo>
                    <a:pt x="26" y="164"/>
                  </a:lnTo>
                  <a:lnTo>
                    <a:pt x="22" y="152"/>
                  </a:lnTo>
                  <a:lnTo>
                    <a:pt x="18" y="140"/>
                  </a:lnTo>
                  <a:lnTo>
                    <a:pt x="15" y="127"/>
                  </a:lnTo>
                  <a:lnTo>
                    <a:pt x="11" y="116"/>
                  </a:lnTo>
                  <a:lnTo>
                    <a:pt x="8" y="105"/>
                  </a:lnTo>
                  <a:lnTo>
                    <a:pt x="0" y="77"/>
                  </a:lnTo>
                  <a:lnTo>
                    <a:pt x="0" y="74"/>
                  </a:lnTo>
                  <a:lnTo>
                    <a:pt x="1" y="72"/>
                  </a:lnTo>
                  <a:lnTo>
                    <a:pt x="3" y="71"/>
                  </a:lnTo>
                  <a:lnTo>
                    <a:pt x="4" y="69"/>
                  </a:lnTo>
                  <a:lnTo>
                    <a:pt x="6" y="67"/>
                  </a:lnTo>
                  <a:lnTo>
                    <a:pt x="8" y="64"/>
                  </a:lnTo>
                  <a:lnTo>
                    <a:pt x="11" y="62"/>
                  </a:lnTo>
                  <a:lnTo>
                    <a:pt x="15" y="61"/>
                  </a:lnTo>
                  <a:lnTo>
                    <a:pt x="18" y="59"/>
                  </a:lnTo>
                  <a:lnTo>
                    <a:pt x="21" y="58"/>
                  </a:lnTo>
                  <a:lnTo>
                    <a:pt x="25" y="56"/>
                  </a:lnTo>
                  <a:lnTo>
                    <a:pt x="29" y="55"/>
                  </a:lnTo>
                  <a:lnTo>
                    <a:pt x="32" y="55"/>
                  </a:lnTo>
                  <a:lnTo>
                    <a:pt x="37" y="53"/>
                  </a:lnTo>
                  <a:lnTo>
                    <a:pt x="41" y="53"/>
                  </a:lnTo>
                  <a:lnTo>
                    <a:pt x="45" y="53"/>
                  </a:lnTo>
                  <a:lnTo>
                    <a:pt x="53" y="53"/>
                  </a:lnTo>
                  <a:lnTo>
                    <a:pt x="61" y="55"/>
                  </a:lnTo>
                  <a:lnTo>
                    <a:pt x="69" y="56"/>
                  </a:lnTo>
                  <a:lnTo>
                    <a:pt x="75" y="59"/>
                  </a:lnTo>
                  <a:lnTo>
                    <a:pt x="81" y="61"/>
                  </a:lnTo>
                  <a:lnTo>
                    <a:pt x="86" y="66"/>
                  </a:lnTo>
                  <a:lnTo>
                    <a:pt x="91" y="70"/>
                  </a:lnTo>
                  <a:lnTo>
                    <a:pt x="95" y="76"/>
                  </a:lnTo>
                  <a:lnTo>
                    <a:pt x="100" y="81"/>
                  </a:lnTo>
                  <a:lnTo>
                    <a:pt x="104" y="88"/>
                  </a:lnTo>
                  <a:lnTo>
                    <a:pt x="109" y="95"/>
                  </a:lnTo>
                  <a:lnTo>
                    <a:pt x="113" y="104"/>
                  </a:lnTo>
                  <a:lnTo>
                    <a:pt x="117" y="114"/>
                  </a:lnTo>
                  <a:lnTo>
                    <a:pt x="123" y="124"/>
                  </a:lnTo>
                  <a:lnTo>
                    <a:pt x="127" y="136"/>
                  </a:lnTo>
                  <a:lnTo>
                    <a:pt x="133" y="148"/>
                  </a:lnTo>
                  <a:lnTo>
                    <a:pt x="138" y="160"/>
                  </a:lnTo>
                  <a:lnTo>
                    <a:pt x="144" y="174"/>
                  </a:lnTo>
                  <a:lnTo>
                    <a:pt x="148" y="186"/>
                  </a:lnTo>
                  <a:lnTo>
                    <a:pt x="153" y="198"/>
                  </a:lnTo>
                  <a:lnTo>
                    <a:pt x="157" y="210"/>
                  </a:lnTo>
                  <a:lnTo>
                    <a:pt x="162" y="221"/>
                  </a:lnTo>
                  <a:lnTo>
                    <a:pt x="165" y="233"/>
                  </a:lnTo>
                  <a:lnTo>
                    <a:pt x="168" y="244"/>
                  </a:lnTo>
                  <a:lnTo>
                    <a:pt x="172" y="255"/>
                  </a:lnTo>
                  <a:lnTo>
                    <a:pt x="175" y="266"/>
                  </a:lnTo>
                  <a:lnTo>
                    <a:pt x="178" y="277"/>
                  </a:lnTo>
                  <a:lnTo>
                    <a:pt x="180" y="286"/>
                  </a:lnTo>
                  <a:lnTo>
                    <a:pt x="183" y="296"/>
                  </a:lnTo>
                  <a:lnTo>
                    <a:pt x="184" y="305"/>
                  </a:lnTo>
                  <a:lnTo>
                    <a:pt x="185" y="314"/>
                  </a:lnTo>
                  <a:lnTo>
                    <a:pt x="186" y="323"/>
                  </a:lnTo>
                  <a:lnTo>
                    <a:pt x="189" y="354"/>
                  </a:lnTo>
                  <a:lnTo>
                    <a:pt x="190" y="344"/>
                  </a:lnTo>
                  <a:lnTo>
                    <a:pt x="192" y="335"/>
                  </a:lnTo>
                  <a:lnTo>
                    <a:pt x="194" y="326"/>
                  </a:lnTo>
                  <a:lnTo>
                    <a:pt x="195" y="318"/>
                  </a:lnTo>
                  <a:lnTo>
                    <a:pt x="197" y="312"/>
                  </a:lnTo>
                  <a:lnTo>
                    <a:pt x="198" y="305"/>
                  </a:lnTo>
                  <a:lnTo>
                    <a:pt x="199" y="300"/>
                  </a:lnTo>
                  <a:lnTo>
                    <a:pt x="200" y="294"/>
                  </a:lnTo>
                  <a:lnTo>
                    <a:pt x="202" y="289"/>
                  </a:lnTo>
                  <a:lnTo>
                    <a:pt x="204" y="282"/>
                  </a:lnTo>
                  <a:lnTo>
                    <a:pt x="206" y="275"/>
                  </a:lnTo>
                  <a:lnTo>
                    <a:pt x="208" y="269"/>
                  </a:lnTo>
                  <a:lnTo>
                    <a:pt x="210" y="261"/>
                  </a:lnTo>
                  <a:lnTo>
                    <a:pt x="213" y="253"/>
                  </a:lnTo>
                  <a:lnTo>
                    <a:pt x="217" y="244"/>
                  </a:lnTo>
                  <a:lnTo>
                    <a:pt x="220" y="23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811920" y="2298600"/>
              <a:ext cx="136440" cy="182160"/>
            </a:xfrm>
            <a:custGeom>
              <a:avLst/>
              <a:gdLst/>
              <a:ahLst/>
              <a:rect l="l" t="t" r="r" b="b"/>
              <a:pathLst>
                <a:path w="346" h="460">
                  <a:moveTo>
                    <a:pt x="238" y="0"/>
                  </a:moveTo>
                  <a:lnTo>
                    <a:pt x="250" y="1"/>
                  </a:lnTo>
                  <a:lnTo>
                    <a:pt x="261" y="1"/>
                  </a:lnTo>
                  <a:lnTo>
                    <a:pt x="272" y="3"/>
                  </a:lnTo>
                  <a:lnTo>
                    <a:pt x="282" y="6"/>
                  </a:lnTo>
                  <a:lnTo>
                    <a:pt x="292" y="8"/>
                  </a:lnTo>
                  <a:lnTo>
                    <a:pt x="301" y="11"/>
                  </a:lnTo>
                  <a:lnTo>
                    <a:pt x="309" y="16"/>
                  </a:lnTo>
                  <a:lnTo>
                    <a:pt x="316" y="20"/>
                  </a:lnTo>
                  <a:lnTo>
                    <a:pt x="323" y="24"/>
                  </a:lnTo>
                  <a:lnTo>
                    <a:pt x="330" y="29"/>
                  </a:lnTo>
                  <a:lnTo>
                    <a:pt x="334" y="33"/>
                  </a:lnTo>
                  <a:lnTo>
                    <a:pt x="338" y="38"/>
                  </a:lnTo>
                  <a:lnTo>
                    <a:pt x="342" y="42"/>
                  </a:lnTo>
                  <a:lnTo>
                    <a:pt x="344" y="45"/>
                  </a:lnTo>
                  <a:lnTo>
                    <a:pt x="345" y="49"/>
                  </a:lnTo>
                  <a:lnTo>
                    <a:pt x="346" y="52"/>
                  </a:lnTo>
                  <a:lnTo>
                    <a:pt x="345" y="55"/>
                  </a:lnTo>
                  <a:lnTo>
                    <a:pt x="343" y="58"/>
                  </a:lnTo>
                  <a:lnTo>
                    <a:pt x="338" y="60"/>
                  </a:lnTo>
                  <a:lnTo>
                    <a:pt x="332" y="63"/>
                  </a:lnTo>
                  <a:lnTo>
                    <a:pt x="325" y="65"/>
                  </a:lnTo>
                  <a:lnTo>
                    <a:pt x="315" y="67"/>
                  </a:lnTo>
                  <a:lnTo>
                    <a:pt x="304" y="70"/>
                  </a:lnTo>
                  <a:lnTo>
                    <a:pt x="292" y="72"/>
                  </a:lnTo>
                  <a:lnTo>
                    <a:pt x="279" y="74"/>
                  </a:lnTo>
                  <a:lnTo>
                    <a:pt x="265" y="75"/>
                  </a:lnTo>
                  <a:lnTo>
                    <a:pt x="249" y="76"/>
                  </a:lnTo>
                  <a:lnTo>
                    <a:pt x="234" y="77"/>
                  </a:lnTo>
                  <a:lnTo>
                    <a:pt x="218" y="78"/>
                  </a:lnTo>
                  <a:lnTo>
                    <a:pt x="202" y="80"/>
                  </a:lnTo>
                  <a:lnTo>
                    <a:pt x="185" y="80"/>
                  </a:lnTo>
                  <a:lnTo>
                    <a:pt x="167" y="80"/>
                  </a:lnTo>
                  <a:lnTo>
                    <a:pt x="146" y="80"/>
                  </a:lnTo>
                  <a:lnTo>
                    <a:pt x="143" y="80"/>
                  </a:lnTo>
                  <a:lnTo>
                    <a:pt x="141" y="80"/>
                  </a:lnTo>
                  <a:lnTo>
                    <a:pt x="139" y="80"/>
                  </a:lnTo>
                  <a:lnTo>
                    <a:pt x="136" y="81"/>
                  </a:lnTo>
                  <a:lnTo>
                    <a:pt x="134" y="81"/>
                  </a:lnTo>
                  <a:lnTo>
                    <a:pt x="132" y="81"/>
                  </a:lnTo>
                  <a:lnTo>
                    <a:pt x="131" y="81"/>
                  </a:lnTo>
                  <a:lnTo>
                    <a:pt x="130" y="82"/>
                  </a:lnTo>
                  <a:lnTo>
                    <a:pt x="129" y="82"/>
                  </a:lnTo>
                  <a:lnTo>
                    <a:pt x="128" y="83"/>
                  </a:lnTo>
                  <a:lnTo>
                    <a:pt x="127" y="83"/>
                  </a:lnTo>
                  <a:lnTo>
                    <a:pt x="127" y="84"/>
                  </a:lnTo>
                  <a:lnTo>
                    <a:pt x="125" y="86"/>
                  </a:lnTo>
                  <a:lnTo>
                    <a:pt x="125" y="87"/>
                  </a:lnTo>
                  <a:lnTo>
                    <a:pt x="125" y="88"/>
                  </a:lnTo>
                  <a:lnTo>
                    <a:pt x="124" y="91"/>
                  </a:lnTo>
                  <a:lnTo>
                    <a:pt x="115" y="181"/>
                  </a:lnTo>
                  <a:lnTo>
                    <a:pt x="115" y="182"/>
                  </a:lnTo>
                  <a:lnTo>
                    <a:pt x="117" y="183"/>
                  </a:lnTo>
                  <a:lnTo>
                    <a:pt x="117" y="184"/>
                  </a:lnTo>
                  <a:lnTo>
                    <a:pt x="118" y="186"/>
                  </a:lnTo>
                  <a:lnTo>
                    <a:pt x="119" y="187"/>
                  </a:lnTo>
                  <a:lnTo>
                    <a:pt x="120" y="187"/>
                  </a:lnTo>
                  <a:lnTo>
                    <a:pt x="122" y="187"/>
                  </a:lnTo>
                  <a:lnTo>
                    <a:pt x="124" y="187"/>
                  </a:lnTo>
                  <a:lnTo>
                    <a:pt x="132" y="187"/>
                  </a:lnTo>
                  <a:lnTo>
                    <a:pt x="140" y="186"/>
                  </a:lnTo>
                  <a:lnTo>
                    <a:pt x="149" y="186"/>
                  </a:lnTo>
                  <a:lnTo>
                    <a:pt x="156" y="184"/>
                  </a:lnTo>
                  <a:lnTo>
                    <a:pt x="165" y="184"/>
                  </a:lnTo>
                  <a:lnTo>
                    <a:pt x="173" y="183"/>
                  </a:lnTo>
                  <a:lnTo>
                    <a:pt x="182" y="183"/>
                  </a:lnTo>
                  <a:lnTo>
                    <a:pt x="191" y="182"/>
                  </a:lnTo>
                  <a:lnTo>
                    <a:pt x="199" y="182"/>
                  </a:lnTo>
                  <a:lnTo>
                    <a:pt x="208" y="182"/>
                  </a:lnTo>
                  <a:lnTo>
                    <a:pt x="216" y="181"/>
                  </a:lnTo>
                  <a:lnTo>
                    <a:pt x="224" y="181"/>
                  </a:lnTo>
                  <a:lnTo>
                    <a:pt x="230" y="181"/>
                  </a:lnTo>
                  <a:lnTo>
                    <a:pt x="237" y="181"/>
                  </a:lnTo>
                  <a:lnTo>
                    <a:pt x="242" y="181"/>
                  </a:lnTo>
                  <a:lnTo>
                    <a:pt x="249" y="181"/>
                  </a:lnTo>
                  <a:lnTo>
                    <a:pt x="258" y="181"/>
                  </a:lnTo>
                  <a:lnTo>
                    <a:pt x="266" y="181"/>
                  </a:lnTo>
                  <a:lnTo>
                    <a:pt x="274" y="182"/>
                  </a:lnTo>
                  <a:lnTo>
                    <a:pt x="282" y="182"/>
                  </a:lnTo>
                  <a:lnTo>
                    <a:pt x="289" y="183"/>
                  </a:lnTo>
                  <a:lnTo>
                    <a:pt x="297" y="184"/>
                  </a:lnTo>
                  <a:lnTo>
                    <a:pt x="302" y="186"/>
                  </a:lnTo>
                  <a:lnTo>
                    <a:pt x="309" y="188"/>
                  </a:lnTo>
                  <a:lnTo>
                    <a:pt x="314" y="190"/>
                  </a:lnTo>
                  <a:lnTo>
                    <a:pt x="320" y="191"/>
                  </a:lnTo>
                  <a:lnTo>
                    <a:pt x="324" y="193"/>
                  </a:lnTo>
                  <a:lnTo>
                    <a:pt x="327" y="194"/>
                  </a:lnTo>
                  <a:lnTo>
                    <a:pt x="331" y="197"/>
                  </a:lnTo>
                  <a:lnTo>
                    <a:pt x="333" y="199"/>
                  </a:lnTo>
                  <a:lnTo>
                    <a:pt x="335" y="200"/>
                  </a:lnTo>
                  <a:lnTo>
                    <a:pt x="336" y="202"/>
                  </a:lnTo>
                  <a:lnTo>
                    <a:pt x="337" y="204"/>
                  </a:lnTo>
                  <a:lnTo>
                    <a:pt x="337" y="206"/>
                  </a:lnTo>
                  <a:lnTo>
                    <a:pt x="338" y="208"/>
                  </a:lnTo>
                  <a:lnTo>
                    <a:pt x="340" y="210"/>
                  </a:lnTo>
                  <a:lnTo>
                    <a:pt x="340" y="212"/>
                  </a:lnTo>
                  <a:lnTo>
                    <a:pt x="341" y="214"/>
                  </a:lnTo>
                  <a:lnTo>
                    <a:pt x="342" y="216"/>
                  </a:lnTo>
                  <a:lnTo>
                    <a:pt x="343" y="219"/>
                  </a:lnTo>
                  <a:lnTo>
                    <a:pt x="343" y="220"/>
                  </a:lnTo>
                  <a:lnTo>
                    <a:pt x="344" y="222"/>
                  </a:lnTo>
                  <a:lnTo>
                    <a:pt x="344" y="224"/>
                  </a:lnTo>
                  <a:lnTo>
                    <a:pt x="345" y="225"/>
                  </a:lnTo>
                  <a:lnTo>
                    <a:pt x="345" y="226"/>
                  </a:lnTo>
                  <a:lnTo>
                    <a:pt x="345" y="227"/>
                  </a:lnTo>
                  <a:lnTo>
                    <a:pt x="346" y="229"/>
                  </a:lnTo>
                  <a:lnTo>
                    <a:pt x="346" y="229"/>
                  </a:lnTo>
                  <a:lnTo>
                    <a:pt x="345" y="231"/>
                  </a:lnTo>
                  <a:lnTo>
                    <a:pt x="345" y="232"/>
                  </a:lnTo>
                  <a:lnTo>
                    <a:pt x="344" y="234"/>
                  </a:lnTo>
                  <a:lnTo>
                    <a:pt x="343" y="235"/>
                  </a:lnTo>
                  <a:lnTo>
                    <a:pt x="342" y="237"/>
                  </a:lnTo>
                  <a:lnTo>
                    <a:pt x="340" y="238"/>
                  </a:lnTo>
                  <a:lnTo>
                    <a:pt x="337" y="240"/>
                  </a:lnTo>
                  <a:lnTo>
                    <a:pt x="335" y="241"/>
                  </a:lnTo>
                  <a:lnTo>
                    <a:pt x="332" y="243"/>
                  </a:lnTo>
                  <a:lnTo>
                    <a:pt x="329" y="243"/>
                  </a:lnTo>
                  <a:lnTo>
                    <a:pt x="325" y="244"/>
                  </a:lnTo>
                  <a:lnTo>
                    <a:pt x="322" y="245"/>
                  </a:lnTo>
                  <a:lnTo>
                    <a:pt x="317" y="245"/>
                  </a:lnTo>
                  <a:lnTo>
                    <a:pt x="313" y="246"/>
                  </a:lnTo>
                  <a:lnTo>
                    <a:pt x="309" y="246"/>
                  </a:lnTo>
                  <a:lnTo>
                    <a:pt x="304" y="246"/>
                  </a:lnTo>
                  <a:lnTo>
                    <a:pt x="294" y="247"/>
                  </a:lnTo>
                  <a:lnTo>
                    <a:pt x="283" y="248"/>
                  </a:lnTo>
                  <a:lnTo>
                    <a:pt x="273" y="250"/>
                  </a:lnTo>
                  <a:lnTo>
                    <a:pt x="262" y="250"/>
                  </a:lnTo>
                  <a:lnTo>
                    <a:pt x="251" y="251"/>
                  </a:lnTo>
                  <a:lnTo>
                    <a:pt x="240" y="252"/>
                  </a:lnTo>
                  <a:lnTo>
                    <a:pt x="229" y="253"/>
                  </a:lnTo>
                  <a:lnTo>
                    <a:pt x="218" y="253"/>
                  </a:lnTo>
                  <a:lnTo>
                    <a:pt x="207" y="254"/>
                  </a:lnTo>
                  <a:lnTo>
                    <a:pt x="196" y="255"/>
                  </a:lnTo>
                  <a:lnTo>
                    <a:pt x="186" y="255"/>
                  </a:lnTo>
                  <a:lnTo>
                    <a:pt x="177" y="255"/>
                  </a:lnTo>
                  <a:lnTo>
                    <a:pt x="167" y="256"/>
                  </a:lnTo>
                  <a:lnTo>
                    <a:pt x="160" y="256"/>
                  </a:lnTo>
                  <a:lnTo>
                    <a:pt x="151" y="256"/>
                  </a:lnTo>
                  <a:lnTo>
                    <a:pt x="143" y="256"/>
                  </a:lnTo>
                  <a:lnTo>
                    <a:pt x="138" y="256"/>
                  </a:lnTo>
                  <a:lnTo>
                    <a:pt x="133" y="256"/>
                  </a:lnTo>
                  <a:lnTo>
                    <a:pt x="128" y="257"/>
                  </a:lnTo>
                  <a:lnTo>
                    <a:pt x="124" y="257"/>
                  </a:lnTo>
                  <a:lnTo>
                    <a:pt x="120" y="258"/>
                  </a:lnTo>
                  <a:lnTo>
                    <a:pt x="118" y="258"/>
                  </a:lnTo>
                  <a:lnTo>
                    <a:pt x="114" y="259"/>
                  </a:lnTo>
                  <a:lnTo>
                    <a:pt x="112" y="261"/>
                  </a:lnTo>
                  <a:lnTo>
                    <a:pt x="110" y="262"/>
                  </a:lnTo>
                  <a:lnTo>
                    <a:pt x="109" y="263"/>
                  </a:lnTo>
                  <a:lnTo>
                    <a:pt x="108" y="265"/>
                  </a:lnTo>
                  <a:lnTo>
                    <a:pt x="107" y="267"/>
                  </a:lnTo>
                  <a:lnTo>
                    <a:pt x="106" y="269"/>
                  </a:lnTo>
                  <a:lnTo>
                    <a:pt x="104" y="272"/>
                  </a:lnTo>
                  <a:lnTo>
                    <a:pt x="104" y="275"/>
                  </a:lnTo>
                  <a:lnTo>
                    <a:pt x="104" y="278"/>
                  </a:lnTo>
                  <a:lnTo>
                    <a:pt x="99" y="374"/>
                  </a:lnTo>
                  <a:lnTo>
                    <a:pt x="99" y="378"/>
                  </a:lnTo>
                  <a:lnTo>
                    <a:pt x="100" y="380"/>
                  </a:lnTo>
                  <a:lnTo>
                    <a:pt x="102" y="382"/>
                  </a:lnTo>
                  <a:lnTo>
                    <a:pt x="104" y="384"/>
                  </a:lnTo>
                  <a:lnTo>
                    <a:pt x="108" y="385"/>
                  </a:lnTo>
                  <a:lnTo>
                    <a:pt x="111" y="386"/>
                  </a:lnTo>
                  <a:lnTo>
                    <a:pt x="115" y="387"/>
                  </a:lnTo>
                  <a:lnTo>
                    <a:pt x="121" y="387"/>
                  </a:lnTo>
                  <a:lnTo>
                    <a:pt x="123" y="387"/>
                  </a:lnTo>
                  <a:lnTo>
                    <a:pt x="125" y="387"/>
                  </a:lnTo>
                  <a:lnTo>
                    <a:pt x="131" y="386"/>
                  </a:lnTo>
                  <a:lnTo>
                    <a:pt x="138" y="386"/>
                  </a:lnTo>
                  <a:lnTo>
                    <a:pt x="146" y="385"/>
                  </a:lnTo>
                  <a:lnTo>
                    <a:pt x="156" y="384"/>
                  </a:lnTo>
                  <a:lnTo>
                    <a:pt x="167" y="383"/>
                  </a:lnTo>
                  <a:lnTo>
                    <a:pt x="182" y="382"/>
                  </a:lnTo>
                  <a:lnTo>
                    <a:pt x="195" y="381"/>
                  </a:lnTo>
                  <a:lnTo>
                    <a:pt x="207" y="380"/>
                  </a:lnTo>
                  <a:lnTo>
                    <a:pt x="218" y="379"/>
                  </a:lnTo>
                  <a:lnTo>
                    <a:pt x="227" y="378"/>
                  </a:lnTo>
                  <a:lnTo>
                    <a:pt x="235" y="376"/>
                  </a:lnTo>
                  <a:lnTo>
                    <a:pt x="241" y="376"/>
                  </a:lnTo>
                  <a:lnTo>
                    <a:pt x="246" y="376"/>
                  </a:lnTo>
                  <a:lnTo>
                    <a:pt x="250" y="376"/>
                  </a:lnTo>
                  <a:lnTo>
                    <a:pt x="258" y="376"/>
                  </a:lnTo>
                  <a:lnTo>
                    <a:pt x="266" y="378"/>
                  </a:lnTo>
                  <a:lnTo>
                    <a:pt x="273" y="379"/>
                  </a:lnTo>
                  <a:lnTo>
                    <a:pt x="281" y="381"/>
                  </a:lnTo>
                  <a:lnTo>
                    <a:pt x="288" y="383"/>
                  </a:lnTo>
                  <a:lnTo>
                    <a:pt x="295" y="386"/>
                  </a:lnTo>
                  <a:lnTo>
                    <a:pt x="303" y="390"/>
                  </a:lnTo>
                  <a:lnTo>
                    <a:pt x="311" y="394"/>
                  </a:lnTo>
                  <a:lnTo>
                    <a:pt x="317" y="397"/>
                  </a:lnTo>
                  <a:lnTo>
                    <a:pt x="323" y="401"/>
                  </a:lnTo>
                  <a:lnTo>
                    <a:pt x="329" y="405"/>
                  </a:lnTo>
                  <a:lnTo>
                    <a:pt x="332" y="408"/>
                  </a:lnTo>
                  <a:lnTo>
                    <a:pt x="335" y="412"/>
                  </a:lnTo>
                  <a:lnTo>
                    <a:pt x="337" y="415"/>
                  </a:lnTo>
                  <a:lnTo>
                    <a:pt x="338" y="418"/>
                  </a:lnTo>
                  <a:lnTo>
                    <a:pt x="340" y="422"/>
                  </a:lnTo>
                  <a:lnTo>
                    <a:pt x="338" y="426"/>
                  </a:lnTo>
                  <a:lnTo>
                    <a:pt x="337" y="429"/>
                  </a:lnTo>
                  <a:lnTo>
                    <a:pt x="335" y="433"/>
                  </a:lnTo>
                  <a:lnTo>
                    <a:pt x="332" y="435"/>
                  </a:lnTo>
                  <a:lnTo>
                    <a:pt x="327" y="437"/>
                  </a:lnTo>
                  <a:lnTo>
                    <a:pt x="322" y="439"/>
                  </a:lnTo>
                  <a:lnTo>
                    <a:pt x="316" y="440"/>
                  </a:lnTo>
                  <a:lnTo>
                    <a:pt x="309" y="442"/>
                  </a:lnTo>
                  <a:lnTo>
                    <a:pt x="236" y="447"/>
                  </a:lnTo>
                  <a:lnTo>
                    <a:pt x="228" y="447"/>
                  </a:lnTo>
                  <a:lnTo>
                    <a:pt x="220" y="448"/>
                  </a:lnTo>
                  <a:lnTo>
                    <a:pt x="212" y="449"/>
                  </a:lnTo>
                  <a:lnTo>
                    <a:pt x="200" y="450"/>
                  </a:lnTo>
                  <a:lnTo>
                    <a:pt x="191" y="451"/>
                  </a:lnTo>
                  <a:lnTo>
                    <a:pt x="178" y="453"/>
                  </a:lnTo>
                  <a:lnTo>
                    <a:pt x="165" y="454"/>
                  </a:lnTo>
                  <a:lnTo>
                    <a:pt x="152" y="455"/>
                  </a:lnTo>
                  <a:lnTo>
                    <a:pt x="139" y="456"/>
                  </a:lnTo>
                  <a:lnTo>
                    <a:pt x="128" y="457"/>
                  </a:lnTo>
                  <a:lnTo>
                    <a:pt x="117" y="458"/>
                  </a:lnTo>
                  <a:lnTo>
                    <a:pt x="108" y="459"/>
                  </a:lnTo>
                  <a:lnTo>
                    <a:pt x="101" y="459"/>
                  </a:lnTo>
                  <a:lnTo>
                    <a:pt x="94" y="459"/>
                  </a:lnTo>
                  <a:lnTo>
                    <a:pt x="91" y="460"/>
                  </a:lnTo>
                  <a:lnTo>
                    <a:pt x="88" y="460"/>
                  </a:lnTo>
                  <a:lnTo>
                    <a:pt x="81" y="460"/>
                  </a:lnTo>
                  <a:lnTo>
                    <a:pt x="75" y="459"/>
                  </a:lnTo>
                  <a:lnTo>
                    <a:pt x="68" y="458"/>
                  </a:lnTo>
                  <a:lnTo>
                    <a:pt x="61" y="457"/>
                  </a:lnTo>
                  <a:lnTo>
                    <a:pt x="54" y="456"/>
                  </a:lnTo>
                  <a:lnTo>
                    <a:pt x="47" y="455"/>
                  </a:lnTo>
                  <a:lnTo>
                    <a:pt x="39" y="453"/>
                  </a:lnTo>
                  <a:lnTo>
                    <a:pt x="32" y="450"/>
                  </a:lnTo>
                  <a:lnTo>
                    <a:pt x="24" y="447"/>
                  </a:lnTo>
                  <a:lnTo>
                    <a:pt x="17" y="444"/>
                  </a:lnTo>
                  <a:lnTo>
                    <a:pt x="13" y="440"/>
                  </a:lnTo>
                  <a:lnTo>
                    <a:pt x="8" y="437"/>
                  </a:lnTo>
                  <a:lnTo>
                    <a:pt x="4" y="433"/>
                  </a:lnTo>
                  <a:lnTo>
                    <a:pt x="2" y="428"/>
                  </a:lnTo>
                  <a:lnTo>
                    <a:pt x="1" y="423"/>
                  </a:lnTo>
                  <a:lnTo>
                    <a:pt x="0" y="417"/>
                  </a:lnTo>
                  <a:lnTo>
                    <a:pt x="0" y="401"/>
                  </a:lnTo>
                  <a:lnTo>
                    <a:pt x="1" y="384"/>
                  </a:lnTo>
                  <a:lnTo>
                    <a:pt x="1" y="368"/>
                  </a:lnTo>
                  <a:lnTo>
                    <a:pt x="1" y="352"/>
                  </a:lnTo>
                  <a:lnTo>
                    <a:pt x="1" y="336"/>
                  </a:lnTo>
                  <a:lnTo>
                    <a:pt x="2" y="319"/>
                  </a:lnTo>
                  <a:lnTo>
                    <a:pt x="2" y="304"/>
                  </a:lnTo>
                  <a:lnTo>
                    <a:pt x="3" y="288"/>
                  </a:lnTo>
                  <a:lnTo>
                    <a:pt x="3" y="273"/>
                  </a:lnTo>
                  <a:lnTo>
                    <a:pt x="4" y="257"/>
                  </a:lnTo>
                  <a:lnTo>
                    <a:pt x="4" y="243"/>
                  </a:lnTo>
                  <a:lnTo>
                    <a:pt x="5" y="229"/>
                  </a:lnTo>
                  <a:lnTo>
                    <a:pt x="6" y="215"/>
                  </a:lnTo>
                  <a:lnTo>
                    <a:pt x="7" y="202"/>
                  </a:lnTo>
                  <a:lnTo>
                    <a:pt x="8" y="189"/>
                  </a:lnTo>
                  <a:lnTo>
                    <a:pt x="9" y="176"/>
                  </a:lnTo>
                  <a:lnTo>
                    <a:pt x="11" y="163"/>
                  </a:lnTo>
                  <a:lnTo>
                    <a:pt x="12" y="151"/>
                  </a:lnTo>
                  <a:lnTo>
                    <a:pt x="13" y="138"/>
                  </a:lnTo>
                  <a:lnTo>
                    <a:pt x="15" y="126"/>
                  </a:lnTo>
                  <a:lnTo>
                    <a:pt x="16" y="113"/>
                  </a:lnTo>
                  <a:lnTo>
                    <a:pt x="18" y="101"/>
                  </a:lnTo>
                  <a:lnTo>
                    <a:pt x="21" y="87"/>
                  </a:lnTo>
                  <a:lnTo>
                    <a:pt x="23" y="75"/>
                  </a:lnTo>
                  <a:lnTo>
                    <a:pt x="25" y="63"/>
                  </a:lnTo>
                  <a:lnTo>
                    <a:pt x="27" y="52"/>
                  </a:lnTo>
                  <a:lnTo>
                    <a:pt x="29" y="42"/>
                  </a:lnTo>
                  <a:lnTo>
                    <a:pt x="30" y="34"/>
                  </a:lnTo>
                  <a:lnTo>
                    <a:pt x="33" y="28"/>
                  </a:lnTo>
                  <a:lnTo>
                    <a:pt x="35" y="22"/>
                  </a:lnTo>
                  <a:lnTo>
                    <a:pt x="36" y="19"/>
                  </a:lnTo>
                  <a:lnTo>
                    <a:pt x="38" y="16"/>
                  </a:lnTo>
                  <a:lnTo>
                    <a:pt x="39" y="13"/>
                  </a:lnTo>
                  <a:lnTo>
                    <a:pt x="41" y="12"/>
                  </a:lnTo>
                  <a:lnTo>
                    <a:pt x="44" y="11"/>
                  </a:lnTo>
                  <a:lnTo>
                    <a:pt x="46" y="10"/>
                  </a:lnTo>
                  <a:lnTo>
                    <a:pt x="48" y="9"/>
                  </a:lnTo>
                  <a:lnTo>
                    <a:pt x="50" y="9"/>
                  </a:lnTo>
                  <a:lnTo>
                    <a:pt x="54" y="8"/>
                  </a:lnTo>
                  <a:lnTo>
                    <a:pt x="57" y="8"/>
                  </a:lnTo>
                  <a:lnTo>
                    <a:pt x="57" y="8"/>
                  </a:lnTo>
                  <a:lnTo>
                    <a:pt x="58" y="8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2" y="8"/>
                  </a:lnTo>
                  <a:lnTo>
                    <a:pt x="65" y="8"/>
                  </a:lnTo>
                  <a:lnTo>
                    <a:pt x="67" y="8"/>
                  </a:lnTo>
                  <a:lnTo>
                    <a:pt x="69" y="8"/>
                  </a:lnTo>
                  <a:lnTo>
                    <a:pt x="72" y="8"/>
                  </a:lnTo>
                  <a:lnTo>
                    <a:pt x="75" y="8"/>
                  </a:lnTo>
                  <a:lnTo>
                    <a:pt x="78" y="8"/>
                  </a:lnTo>
                  <a:lnTo>
                    <a:pt x="81" y="8"/>
                  </a:lnTo>
                  <a:lnTo>
                    <a:pt x="86" y="8"/>
                  </a:lnTo>
                  <a:lnTo>
                    <a:pt x="89" y="8"/>
                  </a:lnTo>
                  <a:lnTo>
                    <a:pt x="93" y="8"/>
                  </a:lnTo>
                  <a:lnTo>
                    <a:pt x="98" y="8"/>
                  </a:lnTo>
                  <a:lnTo>
                    <a:pt x="101" y="8"/>
                  </a:lnTo>
                  <a:lnTo>
                    <a:pt x="106" y="8"/>
                  </a:lnTo>
                  <a:lnTo>
                    <a:pt x="112" y="8"/>
                  </a:lnTo>
                  <a:lnTo>
                    <a:pt x="120" y="7"/>
                  </a:lnTo>
                  <a:lnTo>
                    <a:pt x="129" y="7"/>
                  </a:lnTo>
                  <a:lnTo>
                    <a:pt x="140" y="6"/>
                  </a:lnTo>
                  <a:lnTo>
                    <a:pt x="152" y="5"/>
                  </a:lnTo>
                  <a:lnTo>
                    <a:pt x="165" y="5"/>
                  </a:lnTo>
                  <a:lnTo>
                    <a:pt x="179" y="3"/>
                  </a:lnTo>
                  <a:lnTo>
                    <a:pt x="192" y="2"/>
                  </a:lnTo>
                  <a:lnTo>
                    <a:pt x="203" y="2"/>
                  </a:lnTo>
                  <a:lnTo>
                    <a:pt x="213" y="1"/>
                  </a:lnTo>
                  <a:lnTo>
                    <a:pt x="221" y="1"/>
                  </a:lnTo>
                  <a:lnTo>
                    <a:pt x="228" y="0"/>
                  </a:lnTo>
                  <a:lnTo>
                    <a:pt x="234" y="0"/>
                  </a:lnTo>
                  <a:lnTo>
                    <a:pt x="238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80400" y="2293920"/>
              <a:ext cx="152280" cy="198000"/>
            </a:xfrm>
            <a:custGeom>
              <a:avLst/>
              <a:gdLst/>
              <a:ahLst/>
              <a:rect l="l" t="t" r="r" b="b"/>
              <a:pathLst>
                <a:path w="383" h="500">
                  <a:moveTo>
                    <a:pt x="273" y="274"/>
                  </a:moveTo>
                  <a:lnTo>
                    <a:pt x="281" y="28"/>
                  </a:lnTo>
                  <a:lnTo>
                    <a:pt x="281" y="21"/>
                  </a:lnTo>
                  <a:lnTo>
                    <a:pt x="283" y="16"/>
                  </a:lnTo>
                  <a:lnTo>
                    <a:pt x="285" y="11"/>
                  </a:lnTo>
                  <a:lnTo>
                    <a:pt x="288" y="7"/>
                  </a:lnTo>
                  <a:lnTo>
                    <a:pt x="292" y="3"/>
                  </a:lnTo>
                  <a:lnTo>
                    <a:pt x="297" y="2"/>
                  </a:lnTo>
                  <a:lnTo>
                    <a:pt x="302" y="0"/>
                  </a:lnTo>
                  <a:lnTo>
                    <a:pt x="308" y="0"/>
                  </a:lnTo>
                  <a:lnTo>
                    <a:pt x="318" y="0"/>
                  </a:lnTo>
                  <a:lnTo>
                    <a:pt x="325" y="0"/>
                  </a:lnTo>
                  <a:lnTo>
                    <a:pt x="333" y="1"/>
                  </a:lnTo>
                  <a:lnTo>
                    <a:pt x="341" y="2"/>
                  </a:lnTo>
                  <a:lnTo>
                    <a:pt x="346" y="2"/>
                  </a:lnTo>
                  <a:lnTo>
                    <a:pt x="353" y="3"/>
                  </a:lnTo>
                  <a:lnTo>
                    <a:pt x="357" y="6"/>
                  </a:lnTo>
                  <a:lnTo>
                    <a:pt x="362" y="7"/>
                  </a:lnTo>
                  <a:lnTo>
                    <a:pt x="365" y="9"/>
                  </a:lnTo>
                  <a:lnTo>
                    <a:pt x="368" y="10"/>
                  </a:lnTo>
                  <a:lnTo>
                    <a:pt x="372" y="12"/>
                  </a:lnTo>
                  <a:lnTo>
                    <a:pt x="374" y="14"/>
                  </a:lnTo>
                  <a:lnTo>
                    <a:pt x="376" y="16"/>
                  </a:lnTo>
                  <a:lnTo>
                    <a:pt x="378" y="18"/>
                  </a:lnTo>
                  <a:lnTo>
                    <a:pt x="379" y="20"/>
                  </a:lnTo>
                  <a:lnTo>
                    <a:pt x="381" y="21"/>
                  </a:lnTo>
                  <a:lnTo>
                    <a:pt x="381" y="23"/>
                  </a:lnTo>
                  <a:lnTo>
                    <a:pt x="382" y="27"/>
                  </a:lnTo>
                  <a:lnTo>
                    <a:pt x="382" y="29"/>
                  </a:lnTo>
                  <a:lnTo>
                    <a:pt x="383" y="33"/>
                  </a:lnTo>
                  <a:lnTo>
                    <a:pt x="383" y="37"/>
                  </a:lnTo>
                  <a:lnTo>
                    <a:pt x="383" y="41"/>
                  </a:lnTo>
                  <a:lnTo>
                    <a:pt x="383" y="46"/>
                  </a:lnTo>
                  <a:lnTo>
                    <a:pt x="383" y="52"/>
                  </a:lnTo>
                  <a:lnTo>
                    <a:pt x="383" y="366"/>
                  </a:lnTo>
                  <a:lnTo>
                    <a:pt x="383" y="430"/>
                  </a:lnTo>
                  <a:lnTo>
                    <a:pt x="383" y="436"/>
                  </a:lnTo>
                  <a:lnTo>
                    <a:pt x="383" y="442"/>
                  </a:lnTo>
                  <a:lnTo>
                    <a:pt x="382" y="446"/>
                  </a:lnTo>
                  <a:lnTo>
                    <a:pt x="382" y="449"/>
                  </a:lnTo>
                  <a:lnTo>
                    <a:pt x="381" y="453"/>
                  </a:lnTo>
                  <a:lnTo>
                    <a:pt x="379" y="456"/>
                  </a:lnTo>
                  <a:lnTo>
                    <a:pt x="378" y="458"/>
                  </a:lnTo>
                  <a:lnTo>
                    <a:pt x="376" y="459"/>
                  </a:lnTo>
                  <a:lnTo>
                    <a:pt x="375" y="461"/>
                  </a:lnTo>
                  <a:lnTo>
                    <a:pt x="372" y="462"/>
                  </a:lnTo>
                  <a:lnTo>
                    <a:pt x="368" y="464"/>
                  </a:lnTo>
                  <a:lnTo>
                    <a:pt x="365" y="464"/>
                  </a:lnTo>
                  <a:lnTo>
                    <a:pt x="361" y="465"/>
                  </a:lnTo>
                  <a:lnTo>
                    <a:pt x="355" y="465"/>
                  </a:lnTo>
                  <a:lnTo>
                    <a:pt x="349" y="466"/>
                  </a:lnTo>
                  <a:lnTo>
                    <a:pt x="342" y="466"/>
                  </a:lnTo>
                  <a:lnTo>
                    <a:pt x="308" y="465"/>
                  </a:lnTo>
                  <a:lnTo>
                    <a:pt x="303" y="465"/>
                  </a:lnTo>
                  <a:lnTo>
                    <a:pt x="299" y="464"/>
                  </a:lnTo>
                  <a:lnTo>
                    <a:pt x="294" y="464"/>
                  </a:lnTo>
                  <a:lnTo>
                    <a:pt x="290" y="461"/>
                  </a:lnTo>
                  <a:lnTo>
                    <a:pt x="287" y="460"/>
                  </a:lnTo>
                  <a:lnTo>
                    <a:pt x="282" y="458"/>
                  </a:lnTo>
                  <a:lnTo>
                    <a:pt x="279" y="456"/>
                  </a:lnTo>
                  <a:lnTo>
                    <a:pt x="276" y="454"/>
                  </a:lnTo>
                  <a:lnTo>
                    <a:pt x="271" y="450"/>
                  </a:lnTo>
                  <a:lnTo>
                    <a:pt x="267" y="446"/>
                  </a:lnTo>
                  <a:lnTo>
                    <a:pt x="262" y="440"/>
                  </a:lnTo>
                  <a:lnTo>
                    <a:pt x="257" y="435"/>
                  </a:lnTo>
                  <a:lnTo>
                    <a:pt x="250" y="428"/>
                  </a:lnTo>
                  <a:lnTo>
                    <a:pt x="244" y="421"/>
                  </a:lnTo>
                  <a:lnTo>
                    <a:pt x="236" y="412"/>
                  </a:lnTo>
                  <a:lnTo>
                    <a:pt x="228" y="402"/>
                  </a:lnTo>
                  <a:lnTo>
                    <a:pt x="219" y="392"/>
                  </a:lnTo>
                  <a:lnTo>
                    <a:pt x="212" y="382"/>
                  </a:lnTo>
                  <a:lnTo>
                    <a:pt x="203" y="371"/>
                  </a:lnTo>
                  <a:lnTo>
                    <a:pt x="193" y="359"/>
                  </a:lnTo>
                  <a:lnTo>
                    <a:pt x="184" y="348"/>
                  </a:lnTo>
                  <a:lnTo>
                    <a:pt x="175" y="334"/>
                  </a:lnTo>
                  <a:lnTo>
                    <a:pt x="165" y="322"/>
                  </a:lnTo>
                  <a:lnTo>
                    <a:pt x="155" y="309"/>
                  </a:lnTo>
                  <a:lnTo>
                    <a:pt x="145" y="296"/>
                  </a:lnTo>
                  <a:lnTo>
                    <a:pt x="138" y="285"/>
                  </a:lnTo>
                  <a:lnTo>
                    <a:pt x="130" y="274"/>
                  </a:lnTo>
                  <a:lnTo>
                    <a:pt x="123" y="265"/>
                  </a:lnTo>
                  <a:lnTo>
                    <a:pt x="118" y="257"/>
                  </a:lnTo>
                  <a:lnTo>
                    <a:pt x="113" y="251"/>
                  </a:lnTo>
                  <a:lnTo>
                    <a:pt x="110" y="245"/>
                  </a:lnTo>
                  <a:lnTo>
                    <a:pt x="108" y="241"/>
                  </a:lnTo>
                  <a:lnTo>
                    <a:pt x="108" y="278"/>
                  </a:lnTo>
                  <a:lnTo>
                    <a:pt x="108" y="358"/>
                  </a:lnTo>
                  <a:lnTo>
                    <a:pt x="108" y="466"/>
                  </a:lnTo>
                  <a:lnTo>
                    <a:pt x="108" y="468"/>
                  </a:lnTo>
                  <a:lnTo>
                    <a:pt x="108" y="469"/>
                  </a:lnTo>
                  <a:lnTo>
                    <a:pt x="108" y="470"/>
                  </a:lnTo>
                  <a:lnTo>
                    <a:pt x="108" y="471"/>
                  </a:lnTo>
                  <a:lnTo>
                    <a:pt x="108" y="474"/>
                  </a:lnTo>
                  <a:lnTo>
                    <a:pt x="108" y="475"/>
                  </a:lnTo>
                  <a:lnTo>
                    <a:pt x="108" y="476"/>
                  </a:lnTo>
                  <a:lnTo>
                    <a:pt x="108" y="477"/>
                  </a:lnTo>
                  <a:lnTo>
                    <a:pt x="108" y="479"/>
                  </a:lnTo>
                  <a:lnTo>
                    <a:pt x="107" y="481"/>
                  </a:lnTo>
                  <a:lnTo>
                    <a:pt x="107" y="483"/>
                  </a:lnTo>
                  <a:lnTo>
                    <a:pt x="106" y="486"/>
                  </a:lnTo>
                  <a:lnTo>
                    <a:pt x="106" y="488"/>
                  </a:lnTo>
                  <a:lnTo>
                    <a:pt x="105" y="489"/>
                  </a:lnTo>
                  <a:lnTo>
                    <a:pt x="103" y="491"/>
                  </a:lnTo>
                  <a:lnTo>
                    <a:pt x="102" y="493"/>
                  </a:lnTo>
                  <a:lnTo>
                    <a:pt x="100" y="494"/>
                  </a:lnTo>
                  <a:lnTo>
                    <a:pt x="98" y="496"/>
                  </a:lnTo>
                  <a:lnTo>
                    <a:pt x="96" y="498"/>
                  </a:lnTo>
                  <a:lnTo>
                    <a:pt x="94" y="498"/>
                  </a:lnTo>
                  <a:lnTo>
                    <a:pt x="90" y="499"/>
                  </a:lnTo>
                  <a:lnTo>
                    <a:pt x="87" y="500"/>
                  </a:lnTo>
                  <a:lnTo>
                    <a:pt x="84" y="500"/>
                  </a:lnTo>
                  <a:lnTo>
                    <a:pt x="79" y="500"/>
                  </a:lnTo>
                  <a:lnTo>
                    <a:pt x="76" y="500"/>
                  </a:lnTo>
                  <a:lnTo>
                    <a:pt x="71" y="500"/>
                  </a:lnTo>
                  <a:lnTo>
                    <a:pt x="68" y="500"/>
                  </a:lnTo>
                  <a:lnTo>
                    <a:pt x="64" y="499"/>
                  </a:lnTo>
                  <a:lnTo>
                    <a:pt x="60" y="499"/>
                  </a:lnTo>
                  <a:lnTo>
                    <a:pt x="56" y="498"/>
                  </a:lnTo>
                  <a:lnTo>
                    <a:pt x="52" y="498"/>
                  </a:lnTo>
                  <a:lnTo>
                    <a:pt x="48" y="497"/>
                  </a:lnTo>
                  <a:lnTo>
                    <a:pt x="44" y="496"/>
                  </a:lnTo>
                  <a:lnTo>
                    <a:pt x="39" y="494"/>
                  </a:lnTo>
                  <a:lnTo>
                    <a:pt x="36" y="493"/>
                  </a:lnTo>
                  <a:lnTo>
                    <a:pt x="32" y="492"/>
                  </a:lnTo>
                  <a:lnTo>
                    <a:pt x="28" y="492"/>
                  </a:lnTo>
                  <a:lnTo>
                    <a:pt x="25" y="491"/>
                  </a:lnTo>
                  <a:lnTo>
                    <a:pt x="22" y="489"/>
                  </a:lnTo>
                  <a:lnTo>
                    <a:pt x="18" y="488"/>
                  </a:lnTo>
                  <a:lnTo>
                    <a:pt x="16" y="487"/>
                  </a:lnTo>
                  <a:lnTo>
                    <a:pt x="13" y="486"/>
                  </a:lnTo>
                  <a:lnTo>
                    <a:pt x="11" y="483"/>
                  </a:lnTo>
                  <a:lnTo>
                    <a:pt x="9" y="480"/>
                  </a:lnTo>
                  <a:lnTo>
                    <a:pt x="7" y="478"/>
                  </a:lnTo>
                  <a:lnTo>
                    <a:pt x="5" y="475"/>
                  </a:lnTo>
                  <a:lnTo>
                    <a:pt x="4" y="470"/>
                  </a:lnTo>
                  <a:lnTo>
                    <a:pt x="3" y="467"/>
                  </a:lnTo>
                  <a:lnTo>
                    <a:pt x="3" y="462"/>
                  </a:lnTo>
                  <a:lnTo>
                    <a:pt x="2" y="458"/>
                  </a:lnTo>
                  <a:lnTo>
                    <a:pt x="2" y="454"/>
                  </a:lnTo>
                  <a:lnTo>
                    <a:pt x="1" y="449"/>
                  </a:lnTo>
                  <a:lnTo>
                    <a:pt x="1" y="444"/>
                  </a:lnTo>
                  <a:lnTo>
                    <a:pt x="1" y="439"/>
                  </a:lnTo>
                  <a:lnTo>
                    <a:pt x="1" y="435"/>
                  </a:lnTo>
                  <a:lnTo>
                    <a:pt x="0" y="429"/>
                  </a:lnTo>
                  <a:lnTo>
                    <a:pt x="0" y="423"/>
                  </a:lnTo>
                  <a:lnTo>
                    <a:pt x="0" y="417"/>
                  </a:lnTo>
                  <a:lnTo>
                    <a:pt x="0" y="411"/>
                  </a:lnTo>
                  <a:lnTo>
                    <a:pt x="0" y="404"/>
                  </a:lnTo>
                  <a:lnTo>
                    <a:pt x="0" y="397"/>
                  </a:lnTo>
                  <a:lnTo>
                    <a:pt x="0" y="390"/>
                  </a:lnTo>
                  <a:lnTo>
                    <a:pt x="0" y="382"/>
                  </a:lnTo>
                  <a:lnTo>
                    <a:pt x="0" y="374"/>
                  </a:lnTo>
                  <a:lnTo>
                    <a:pt x="0" y="365"/>
                  </a:lnTo>
                  <a:lnTo>
                    <a:pt x="0" y="357"/>
                  </a:lnTo>
                  <a:lnTo>
                    <a:pt x="0" y="348"/>
                  </a:lnTo>
                  <a:lnTo>
                    <a:pt x="0" y="338"/>
                  </a:lnTo>
                  <a:lnTo>
                    <a:pt x="0" y="328"/>
                  </a:lnTo>
                  <a:lnTo>
                    <a:pt x="0" y="318"/>
                  </a:lnTo>
                  <a:lnTo>
                    <a:pt x="0" y="307"/>
                  </a:lnTo>
                  <a:lnTo>
                    <a:pt x="0" y="296"/>
                  </a:lnTo>
                  <a:lnTo>
                    <a:pt x="0" y="285"/>
                  </a:lnTo>
                  <a:lnTo>
                    <a:pt x="7" y="55"/>
                  </a:lnTo>
                  <a:lnTo>
                    <a:pt x="7" y="51"/>
                  </a:lnTo>
                  <a:lnTo>
                    <a:pt x="9" y="46"/>
                  </a:lnTo>
                  <a:lnTo>
                    <a:pt x="11" y="43"/>
                  </a:lnTo>
                  <a:lnTo>
                    <a:pt x="13" y="40"/>
                  </a:lnTo>
                  <a:lnTo>
                    <a:pt x="16" y="38"/>
                  </a:lnTo>
                  <a:lnTo>
                    <a:pt x="21" y="37"/>
                  </a:lnTo>
                  <a:lnTo>
                    <a:pt x="25" y="35"/>
                  </a:lnTo>
                  <a:lnTo>
                    <a:pt x="31" y="34"/>
                  </a:lnTo>
                  <a:lnTo>
                    <a:pt x="37" y="34"/>
                  </a:lnTo>
                  <a:lnTo>
                    <a:pt x="43" y="35"/>
                  </a:lnTo>
                  <a:lnTo>
                    <a:pt x="49" y="35"/>
                  </a:lnTo>
                  <a:lnTo>
                    <a:pt x="56" y="37"/>
                  </a:lnTo>
                  <a:lnTo>
                    <a:pt x="63" y="38"/>
                  </a:lnTo>
                  <a:lnTo>
                    <a:pt x="70" y="39"/>
                  </a:lnTo>
                  <a:lnTo>
                    <a:pt x="77" y="40"/>
                  </a:lnTo>
                  <a:lnTo>
                    <a:pt x="85" y="41"/>
                  </a:lnTo>
                  <a:lnTo>
                    <a:pt x="92" y="43"/>
                  </a:lnTo>
                  <a:lnTo>
                    <a:pt x="98" y="44"/>
                  </a:lnTo>
                  <a:lnTo>
                    <a:pt x="105" y="46"/>
                  </a:lnTo>
                  <a:lnTo>
                    <a:pt x="109" y="49"/>
                  </a:lnTo>
                  <a:lnTo>
                    <a:pt x="113" y="52"/>
                  </a:lnTo>
                  <a:lnTo>
                    <a:pt x="117" y="54"/>
                  </a:lnTo>
                  <a:lnTo>
                    <a:pt x="120" y="57"/>
                  </a:lnTo>
                  <a:lnTo>
                    <a:pt x="122" y="60"/>
                  </a:lnTo>
                  <a:lnTo>
                    <a:pt x="230" y="237"/>
                  </a:lnTo>
                  <a:lnTo>
                    <a:pt x="273" y="310"/>
                  </a:lnTo>
                  <a:lnTo>
                    <a:pt x="273" y="27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148520" y="2298600"/>
              <a:ext cx="166680" cy="191880"/>
            </a:xfrm>
            <a:custGeom>
              <a:avLst/>
              <a:gdLst/>
              <a:ahLst/>
              <a:rect l="l" t="t" r="r" b="b"/>
              <a:pathLst>
                <a:path w="418" h="484">
                  <a:moveTo>
                    <a:pt x="258" y="441"/>
                  </a:moveTo>
                  <a:lnTo>
                    <a:pt x="258" y="468"/>
                  </a:lnTo>
                  <a:lnTo>
                    <a:pt x="258" y="471"/>
                  </a:lnTo>
                  <a:lnTo>
                    <a:pt x="257" y="475"/>
                  </a:lnTo>
                  <a:lnTo>
                    <a:pt x="255" y="477"/>
                  </a:lnTo>
                  <a:lnTo>
                    <a:pt x="251" y="479"/>
                  </a:lnTo>
                  <a:lnTo>
                    <a:pt x="248" y="481"/>
                  </a:lnTo>
                  <a:lnTo>
                    <a:pt x="244" y="482"/>
                  </a:lnTo>
                  <a:lnTo>
                    <a:pt x="238" y="484"/>
                  </a:lnTo>
                  <a:lnTo>
                    <a:pt x="232" y="484"/>
                  </a:lnTo>
                  <a:lnTo>
                    <a:pt x="226" y="484"/>
                  </a:lnTo>
                  <a:lnTo>
                    <a:pt x="221" y="484"/>
                  </a:lnTo>
                  <a:lnTo>
                    <a:pt x="214" y="482"/>
                  </a:lnTo>
                  <a:lnTo>
                    <a:pt x="208" y="481"/>
                  </a:lnTo>
                  <a:lnTo>
                    <a:pt x="202" y="480"/>
                  </a:lnTo>
                  <a:lnTo>
                    <a:pt x="196" y="479"/>
                  </a:lnTo>
                  <a:lnTo>
                    <a:pt x="190" y="477"/>
                  </a:lnTo>
                  <a:lnTo>
                    <a:pt x="183" y="476"/>
                  </a:lnTo>
                  <a:lnTo>
                    <a:pt x="177" y="474"/>
                  </a:lnTo>
                  <a:lnTo>
                    <a:pt x="172" y="471"/>
                  </a:lnTo>
                  <a:lnTo>
                    <a:pt x="168" y="469"/>
                  </a:lnTo>
                  <a:lnTo>
                    <a:pt x="164" y="467"/>
                  </a:lnTo>
                  <a:lnTo>
                    <a:pt x="161" y="465"/>
                  </a:lnTo>
                  <a:lnTo>
                    <a:pt x="159" y="463"/>
                  </a:lnTo>
                  <a:lnTo>
                    <a:pt x="158" y="462"/>
                  </a:lnTo>
                  <a:lnTo>
                    <a:pt x="158" y="459"/>
                  </a:lnTo>
                  <a:lnTo>
                    <a:pt x="152" y="327"/>
                  </a:lnTo>
                  <a:lnTo>
                    <a:pt x="158" y="105"/>
                  </a:lnTo>
                  <a:lnTo>
                    <a:pt x="158" y="103"/>
                  </a:lnTo>
                  <a:lnTo>
                    <a:pt x="158" y="101"/>
                  </a:lnTo>
                  <a:lnTo>
                    <a:pt x="156" y="100"/>
                  </a:lnTo>
                  <a:lnTo>
                    <a:pt x="156" y="97"/>
                  </a:lnTo>
                  <a:lnTo>
                    <a:pt x="156" y="96"/>
                  </a:lnTo>
                  <a:lnTo>
                    <a:pt x="155" y="95"/>
                  </a:lnTo>
                  <a:lnTo>
                    <a:pt x="154" y="94"/>
                  </a:lnTo>
                  <a:lnTo>
                    <a:pt x="153" y="93"/>
                  </a:lnTo>
                  <a:lnTo>
                    <a:pt x="152" y="92"/>
                  </a:lnTo>
                  <a:lnTo>
                    <a:pt x="150" y="92"/>
                  </a:lnTo>
                  <a:lnTo>
                    <a:pt x="148" y="91"/>
                  </a:lnTo>
                  <a:lnTo>
                    <a:pt x="144" y="91"/>
                  </a:lnTo>
                  <a:lnTo>
                    <a:pt x="141" y="90"/>
                  </a:lnTo>
                  <a:lnTo>
                    <a:pt x="137" y="90"/>
                  </a:lnTo>
                  <a:lnTo>
                    <a:pt x="131" y="90"/>
                  </a:lnTo>
                  <a:lnTo>
                    <a:pt x="126" y="90"/>
                  </a:lnTo>
                  <a:lnTo>
                    <a:pt x="113" y="90"/>
                  </a:lnTo>
                  <a:lnTo>
                    <a:pt x="65" y="89"/>
                  </a:lnTo>
                  <a:lnTo>
                    <a:pt x="59" y="89"/>
                  </a:lnTo>
                  <a:lnTo>
                    <a:pt x="54" y="89"/>
                  </a:lnTo>
                  <a:lnTo>
                    <a:pt x="48" y="86"/>
                  </a:lnTo>
                  <a:lnTo>
                    <a:pt x="43" y="85"/>
                  </a:lnTo>
                  <a:lnTo>
                    <a:pt x="37" y="83"/>
                  </a:lnTo>
                  <a:lnTo>
                    <a:pt x="32" y="81"/>
                  </a:lnTo>
                  <a:lnTo>
                    <a:pt x="26" y="77"/>
                  </a:lnTo>
                  <a:lnTo>
                    <a:pt x="21" y="74"/>
                  </a:lnTo>
                  <a:lnTo>
                    <a:pt x="15" y="70"/>
                  </a:lnTo>
                  <a:lnTo>
                    <a:pt x="12" y="66"/>
                  </a:lnTo>
                  <a:lnTo>
                    <a:pt x="7" y="62"/>
                  </a:lnTo>
                  <a:lnTo>
                    <a:pt x="5" y="59"/>
                  </a:lnTo>
                  <a:lnTo>
                    <a:pt x="3" y="55"/>
                  </a:lnTo>
                  <a:lnTo>
                    <a:pt x="1" y="51"/>
                  </a:lnTo>
                  <a:lnTo>
                    <a:pt x="0" y="48"/>
                  </a:lnTo>
                  <a:lnTo>
                    <a:pt x="0" y="44"/>
                  </a:lnTo>
                  <a:lnTo>
                    <a:pt x="0" y="41"/>
                  </a:lnTo>
                  <a:lnTo>
                    <a:pt x="2" y="38"/>
                  </a:lnTo>
                  <a:lnTo>
                    <a:pt x="6" y="36"/>
                  </a:lnTo>
                  <a:lnTo>
                    <a:pt x="11" y="32"/>
                  </a:lnTo>
                  <a:lnTo>
                    <a:pt x="17" y="30"/>
                  </a:lnTo>
                  <a:lnTo>
                    <a:pt x="25" y="28"/>
                  </a:lnTo>
                  <a:lnTo>
                    <a:pt x="34" y="25"/>
                  </a:lnTo>
                  <a:lnTo>
                    <a:pt x="45" y="22"/>
                  </a:lnTo>
                  <a:lnTo>
                    <a:pt x="57" y="20"/>
                  </a:lnTo>
                  <a:lnTo>
                    <a:pt x="73" y="18"/>
                  </a:lnTo>
                  <a:lnTo>
                    <a:pt x="89" y="17"/>
                  </a:lnTo>
                  <a:lnTo>
                    <a:pt x="109" y="15"/>
                  </a:lnTo>
                  <a:lnTo>
                    <a:pt x="131" y="12"/>
                  </a:lnTo>
                  <a:lnTo>
                    <a:pt x="156" y="10"/>
                  </a:lnTo>
                  <a:lnTo>
                    <a:pt x="183" y="9"/>
                  </a:lnTo>
                  <a:lnTo>
                    <a:pt x="213" y="7"/>
                  </a:lnTo>
                  <a:lnTo>
                    <a:pt x="242" y="6"/>
                  </a:lnTo>
                  <a:lnTo>
                    <a:pt x="268" y="4"/>
                  </a:lnTo>
                  <a:lnTo>
                    <a:pt x="292" y="2"/>
                  </a:lnTo>
                  <a:lnTo>
                    <a:pt x="313" y="1"/>
                  </a:lnTo>
                  <a:lnTo>
                    <a:pt x="331" y="1"/>
                  </a:lnTo>
                  <a:lnTo>
                    <a:pt x="346" y="0"/>
                  </a:lnTo>
                  <a:lnTo>
                    <a:pt x="360" y="0"/>
                  </a:lnTo>
                  <a:lnTo>
                    <a:pt x="370" y="0"/>
                  </a:lnTo>
                  <a:lnTo>
                    <a:pt x="374" y="0"/>
                  </a:lnTo>
                  <a:lnTo>
                    <a:pt x="378" y="0"/>
                  </a:lnTo>
                  <a:lnTo>
                    <a:pt x="383" y="1"/>
                  </a:lnTo>
                  <a:lnTo>
                    <a:pt x="387" y="2"/>
                  </a:lnTo>
                  <a:lnTo>
                    <a:pt x="392" y="5"/>
                  </a:lnTo>
                  <a:lnTo>
                    <a:pt x="395" y="6"/>
                  </a:lnTo>
                  <a:lnTo>
                    <a:pt x="399" y="8"/>
                  </a:lnTo>
                  <a:lnTo>
                    <a:pt x="403" y="10"/>
                  </a:lnTo>
                  <a:lnTo>
                    <a:pt x="407" y="13"/>
                  </a:lnTo>
                  <a:lnTo>
                    <a:pt x="409" y="16"/>
                  </a:lnTo>
                  <a:lnTo>
                    <a:pt x="413" y="19"/>
                  </a:lnTo>
                  <a:lnTo>
                    <a:pt x="415" y="21"/>
                  </a:lnTo>
                  <a:lnTo>
                    <a:pt x="416" y="25"/>
                  </a:lnTo>
                  <a:lnTo>
                    <a:pt x="417" y="28"/>
                  </a:lnTo>
                  <a:lnTo>
                    <a:pt x="418" y="31"/>
                  </a:lnTo>
                  <a:lnTo>
                    <a:pt x="418" y="34"/>
                  </a:lnTo>
                  <a:lnTo>
                    <a:pt x="418" y="36"/>
                  </a:lnTo>
                  <a:lnTo>
                    <a:pt x="418" y="37"/>
                  </a:lnTo>
                  <a:lnTo>
                    <a:pt x="418" y="39"/>
                  </a:lnTo>
                  <a:lnTo>
                    <a:pt x="417" y="40"/>
                  </a:lnTo>
                  <a:lnTo>
                    <a:pt x="417" y="42"/>
                  </a:lnTo>
                  <a:lnTo>
                    <a:pt x="416" y="44"/>
                  </a:lnTo>
                  <a:lnTo>
                    <a:pt x="416" y="47"/>
                  </a:lnTo>
                  <a:lnTo>
                    <a:pt x="415" y="49"/>
                  </a:lnTo>
                  <a:lnTo>
                    <a:pt x="414" y="51"/>
                  </a:lnTo>
                  <a:lnTo>
                    <a:pt x="413" y="54"/>
                  </a:lnTo>
                  <a:lnTo>
                    <a:pt x="412" y="57"/>
                  </a:lnTo>
                  <a:lnTo>
                    <a:pt x="410" y="59"/>
                  </a:lnTo>
                  <a:lnTo>
                    <a:pt x="409" y="61"/>
                  </a:lnTo>
                  <a:lnTo>
                    <a:pt x="409" y="63"/>
                  </a:lnTo>
                  <a:lnTo>
                    <a:pt x="408" y="65"/>
                  </a:lnTo>
                  <a:lnTo>
                    <a:pt x="407" y="68"/>
                  </a:lnTo>
                  <a:lnTo>
                    <a:pt x="405" y="69"/>
                  </a:lnTo>
                  <a:lnTo>
                    <a:pt x="403" y="71"/>
                  </a:lnTo>
                  <a:lnTo>
                    <a:pt x="398" y="73"/>
                  </a:lnTo>
                  <a:lnTo>
                    <a:pt x="393" y="74"/>
                  </a:lnTo>
                  <a:lnTo>
                    <a:pt x="386" y="76"/>
                  </a:lnTo>
                  <a:lnTo>
                    <a:pt x="378" y="77"/>
                  </a:lnTo>
                  <a:lnTo>
                    <a:pt x="368" y="79"/>
                  </a:lnTo>
                  <a:lnTo>
                    <a:pt x="359" y="80"/>
                  </a:lnTo>
                  <a:lnTo>
                    <a:pt x="347" y="81"/>
                  </a:lnTo>
                  <a:lnTo>
                    <a:pt x="338" y="82"/>
                  </a:lnTo>
                  <a:lnTo>
                    <a:pt x="328" y="83"/>
                  </a:lnTo>
                  <a:lnTo>
                    <a:pt x="319" y="84"/>
                  </a:lnTo>
                  <a:lnTo>
                    <a:pt x="311" y="84"/>
                  </a:lnTo>
                  <a:lnTo>
                    <a:pt x="303" y="85"/>
                  </a:lnTo>
                  <a:lnTo>
                    <a:pt x="296" y="85"/>
                  </a:lnTo>
                  <a:lnTo>
                    <a:pt x="290" y="85"/>
                  </a:lnTo>
                  <a:lnTo>
                    <a:pt x="287" y="85"/>
                  </a:lnTo>
                  <a:lnTo>
                    <a:pt x="285" y="85"/>
                  </a:lnTo>
                  <a:lnTo>
                    <a:pt x="282" y="85"/>
                  </a:lnTo>
                  <a:lnTo>
                    <a:pt x="280" y="86"/>
                  </a:lnTo>
                  <a:lnTo>
                    <a:pt x="278" y="86"/>
                  </a:lnTo>
                  <a:lnTo>
                    <a:pt x="276" y="87"/>
                  </a:lnTo>
                  <a:lnTo>
                    <a:pt x="275" y="87"/>
                  </a:lnTo>
                  <a:lnTo>
                    <a:pt x="274" y="89"/>
                  </a:lnTo>
                  <a:lnTo>
                    <a:pt x="272" y="90"/>
                  </a:lnTo>
                  <a:lnTo>
                    <a:pt x="271" y="91"/>
                  </a:lnTo>
                  <a:lnTo>
                    <a:pt x="270" y="92"/>
                  </a:lnTo>
                  <a:lnTo>
                    <a:pt x="269" y="94"/>
                  </a:lnTo>
                  <a:lnTo>
                    <a:pt x="268" y="95"/>
                  </a:lnTo>
                  <a:lnTo>
                    <a:pt x="268" y="97"/>
                  </a:lnTo>
                  <a:lnTo>
                    <a:pt x="267" y="100"/>
                  </a:lnTo>
                  <a:lnTo>
                    <a:pt x="267" y="103"/>
                  </a:lnTo>
                  <a:lnTo>
                    <a:pt x="258" y="356"/>
                  </a:lnTo>
                  <a:lnTo>
                    <a:pt x="258" y="44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329600" y="2293920"/>
              <a:ext cx="46080" cy="188280"/>
            </a:xfrm>
            <a:custGeom>
              <a:avLst/>
              <a:gdLst/>
              <a:ahLst/>
              <a:rect l="l" t="t" r="r" b="b"/>
              <a:pathLst>
                <a:path w="118" h="475">
                  <a:moveTo>
                    <a:pt x="116" y="448"/>
                  </a:moveTo>
                  <a:lnTo>
                    <a:pt x="116" y="454"/>
                  </a:lnTo>
                  <a:lnTo>
                    <a:pt x="115" y="459"/>
                  </a:lnTo>
                  <a:lnTo>
                    <a:pt x="113" y="465"/>
                  </a:lnTo>
                  <a:lnTo>
                    <a:pt x="111" y="468"/>
                  </a:lnTo>
                  <a:lnTo>
                    <a:pt x="107" y="471"/>
                  </a:lnTo>
                  <a:lnTo>
                    <a:pt x="104" y="474"/>
                  </a:lnTo>
                  <a:lnTo>
                    <a:pt x="99" y="475"/>
                  </a:lnTo>
                  <a:lnTo>
                    <a:pt x="94" y="475"/>
                  </a:lnTo>
                  <a:lnTo>
                    <a:pt x="89" y="475"/>
                  </a:lnTo>
                  <a:lnTo>
                    <a:pt x="84" y="475"/>
                  </a:lnTo>
                  <a:lnTo>
                    <a:pt x="78" y="474"/>
                  </a:lnTo>
                  <a:lnTo>
                    <a:pt x="71" y="473"/>
                  </a:lnTo>
                  <a:lnTo>
                    <a:pt x="64" y="471"/>
                  </a:lnTo>
                  <a:lnTo>
                    <a:pt x="57" y="470"/>
                  </a:lnTo>
                  <a:lnTo>
                    <a:pt x="48" y="468"/>
                  </a:lnTo>
                  <a:lnTo>
                    <a:pt x="38" y="466"/>
                  </a:lnTo>
                  <a:lnTo>
                    <a:pt x="29" y="464"/>
                  </a:lnTo>
                  <a:lnTo>
                    <a:pt x="21" y="461"/>
                  </a:lnTo>
                  <a:lnTo>
                    <a:pt x="16" y="459"/>
                  </a:lnTo>
                  <a:lnTo>
                    <a:pt x="10" y="456"/>
                  </a:lnTo>
                  <a:lnTo>
                    <a:pt x="6" y="454"/>
                  </a:lnTo>
                  <a:lnTo>
                    <a:pt x="3" y="450"/>
                  </a:lnTo>
                  <a:lnTo>
                    <a:pt x="1" y="448"/>
                  </a:lnTo>
                  <a:lnTo>
                    <a:pt x="0" y="445"/>
                  </a:lnTo>
                  <a:lnTo>
                    <a:pt x="0" y="215"/>
                  </a:lnTo>
                  <a:lnTo>
                    <a:pt x="5" y="50"/>
                  </a:lnTo>
                  <a:lnTo>
                    <a:pt x="5" y="42"/>
                  </a:lnTo>
                  <a:lnTo>
                    <a:pt x="5" y="36"/>
                  </a:lnTo>
                  <a:lnTo>
                    <a:pt x="6" y="29"/>
                  </a:lnTo>
                  <a:lnTo>
                    <a:pt x="7" y="23"/>
                  </a:lnTo>
                  <a:lnTo>
                    <a:pt x="8" y="19"/>
                  </a:lnTo>
                  <a:lnTo>
                    <a:pt x="10" y="15"/>
                  </a:lnTo>
                  <a:lnTo>
                    <a:pt x="13" y="11"/>
                  </a:lnTo>
                  <a:lnTo>
                    <a:pt x="15" y="9"/>
                  </a:lnTo>
                  <a:lnTo>
                    <a:pt x="18" y="7"/>
                  </a:lnTo>
                  <a:lnTo>
                    <a:pt x="20" y="5"/>
                  </a:lnTo>
                  <a:lnTo>
                    <a:pt x="24" y="4"/>
                  </a:lnTo>
                  <a:lnTo>
                    <a:pt x="27" y="2"/>
                  </a:lnTo>
                  <a:lnTo>
                    <a:pt x="30" y="1"/>
                  </a:lnTo>
                  <a:lnTo>
                    <a:pt x="33" y="0"/>
                  </a:lnTo>
                  <a:lnTo>
                    <a:pt x="38" y="0"/>
                  </a:lnTo>
                  <a:lnTo>
                    <a:pt x="41" y="0"/>
                  </a:lnTo>
                  <a:lnTo>
                    <a:pt x="46" y="0"/>
                  </a:lnTo>
                  <a:lnTo>
                    <a:pt x="51" y="0"/>
                  </a:lnTo>
                  <a:lnTo>
                    <a:pt x="57" y="0"/>
                  </a:lnTo>
                  <a:lnTo>
                    <a:pt x="62" y="1"/>
                  </a:lnTo>
                  <a:lnTo>
                    <a:pt x="68" y="2"/>
                  </a:lnTo>
                  <a:lnTo>
                    <a:pt x="74" y="4"/>
                  </a:lnTo>
                  <a:lnTo>
                    <a:pt x="81" y="5"/>
                  </a:lnTo>
                  <a:lnTo>
                    <a:pt x="89" y="7"/>
                  </a:lnTo>
                  <a:lnTo>
                    <a:pt x="95" y="8"/>
                  </a:lnTo>
                  <a:lnTo>
                    <a:pt x="102" y="10"/>
                  </a:lnTo>
                  <a:lnTo>
                    <a:pt x="107" y="11"/>
                  </a:lnTo>
                  <a:lnTo>
                    <a:pt x="112" y="13"/>
                  </a:lnTo>
                  <a:lnTo>
                    <a:pt x="114" y="16"/>
                  </a:lnTo>
                  <a:lnTo>
                    <a:pt x="117" y="18"/>
                  </a:lnTo>
                  <a:lnTo>
                    <a:pt x="118" y="20"/>
                  </a:lnTo>
                  <a:lnTo>
                    <a:pt x="118" y="23"/>
                  </a:lnTo>
                  <a:lnTo>
                    <a:pt x="116" y="120"/>
                  </a:lnTo>
                  <a:lnTo>
                    <a:pt x="116" y="44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405560" y="2295360"/>
              <a:ext cx="174600" cy="188640"/>
            </a:xfrm>
            <a:custGeom>
              <a:avLst/>
              <a:gdLst/>
              <a:ahLst/>
              <a:rect l="l" t="t" r="r" b="b"/>
              <a:pathLst>
                <a:path w="439" h="474">
                  <a:moveTo>
                    <a:pt x="234" y="474"/>
                  </a:moveTo>
                  <a:lnTo>
                    <a:pt x="215" y="473"/>
                  </a:lnTo>
                  <a:lnTo>
                    <a:pt x="195" y="471"/>
                  </a:lnTo>
                  <a:lnTo>
                    <a:pt x="176" y="466"/>
                  </a:lnTo>
                  <a:lnTo>
                    <a:pt x="156" y="461"/>
                  </a:lnTo>
                  <a:lnTo>
                    <a:pt x="136" y="454"/>
                  </a:lnTo>
                  <a:lnTo>
                    <a:pt x="118" y="445"/>
                  </a:lnTo>
                  <a:lnTo>
                    <a:pt x="98" y="434"/>
                  </a:lnTo>
                  <a:lnTo>
                    <a:pt x="78" y="422"/>
                  </a:lnTo>
                  <a:lnTo>
                    <a:pt x="69" y="416"/>
                  </a:lnTo>
                  <a:lnTo>
                    <a:pt x="60" y="409"/>
                  </a:lnTo>
                  <a:lnTo>
                    <a:pt x="51" y="401"/>
                  </a:lnTo>
                  <a:lnTo>
                    <a:pt x="44" y="392"/>
                  </a:lnTo>
                  <a:lnTo>
                    <a:pt x="37" y="384"/>
                  </a:lnTo>
                  <a:lnTo>
                    <a:pt x="30" y="375"/>
                  </a:lnTo>
                  <a:lnTo>
                    <a:pt x="25" y="365"/>
                  </a:lnTo>
                  <a:lnTo>
                    <a:pt x="19" y="355"/>
                  </a:lnTo>
                  <a:lnTo>
                    <a:pt x="15" y="344"/>
                  </a:lnTo>
                  <a:lnTo>
                    <a:pt x="11" y="333"/>
                  </a:lnTo>
                  <a:lnTo>
                    <a:pt x="7" y="322"/>
                  </a:lnTo>
                  <a:lnTo>
                    <a:pt x="5" y="310"/>
                  </a:lnTo>
                  <a:lnTo>
                    <a:pt x="3" y="296"/>
                  </a:lnTo>
                  <a:lnTo>
                    <a:pt x="1" y="283"/>
                  </a:lnTo>
                  <a:lnTo>
                    <a:pt x="0" y="270"/>
                  </a:lnTo>
                  <a:lnTo>
                    <a:pt x="0" y="256"/>
                  </a:lnTo>
                  <a:lnTo>
                    <a:pt x="1" y="231"/>
                  </a:lnTo>
                  <a:lnTo>
                    <a:pt x="4" y="208"/>
                  </a:lnTo>
                  <a:lnTo>
                    <a:pt x="8" y="186"/>
                  </a:lnTo>
                  <a:lnTo>
                    <a:pt x="16" y="163"/>
                  </a:lnTo>
                  <a:lnTo>
                    <a:pt x="25" y="142"/>
                  </a:lnTo>
                  <a:lnTo>
                    <a:pt x="36" y="120"/>
                  </a:lnTo>
                  <a:lnTo>
                    <a:pt x="49" y="99"/>
                  </a:lnTo>
                  <a:lnTo>
                    <a:pt x="64" y="79"/>
                  </a:lnTo>
                  <a:lnTo>
                    <a:pt x="80" y="60"/>
                  </a:lnTo>
                  <a:lnTo>
                    <a:pt x="97" y="44"/>
                  </a:lnTo>
                  <a:lnTo>
                    <a:pt x="112" y="31"/>
                  </a:lnTo>
                  <a:lnTo>
                    <a:pt x="129" y="19"/>
                  </a:lnTo>
                  <a:lnTo>
                    <a:pt x="136" y="14"/>
                  </a:lnTo>
                  <a:lnTo>
                    <a:pt x="145" y="11"/>
                  </a:lnTo>
                  <a:lnTo>
                    <a:pt x="153" y="7"/>
                  </a:lnTo>
                  <a:lnTo>
                    <a:pt x="161" y="4"/>
                  </a:lnTo>
                  <a:lnTo>
                    <a:pt x="170" y="2"/>
                  </a:lnTo>
                  <a:lnTo>
                    <a:pt x="177" y="1"/>
                  </a:lnTo>
                  <a:lnTo>
                    <a:pt x="186" y="0"/>
                  </a:lnTo>
                  <a:lnTo>
                    <a:pt x="194" y="0"/>
                  </a:lnTo>
                  <a:lnTo>
                    <a:pt x="196" y="0"/>
                  </a:lnTo>
                  <a:lnTo>
                    <a:pt x="199" y="0"/>
                  </a:lnTo>
                  <a:lnTo>
                    <a:pt x="202" y="0"/>
                  </a:lnTo>
                  <a:lnTo>
                    <a:pt x="204" y="0"/>
                  </a:lnTo>
                  <a:lnTo>
                    <a:pt x="206" y="0"/>
                  </a:lnTo>
                  <a:lnTo>
                    <a:pt x="207" y="0"/>
                  </a:lnTo>
                  <a:lnTo>
                    <a:pt x="209" y="0"/>
                  </a:lnTo>
                  <a:lnTo>
                    <a:pt x="212" y="1"/>
                  </a:lnTo>
                  <a:lnTo>
                    <a:pt x="213" y="1"/>
                  </a:lnTo>
                  <a:lnTo>
                    <a:pt x="215" y="2"/>
                  </a:lnTo>
                  <a:lnTo>
                    <a:pt x="218" y="2"/>
                  </a:lnTo>
                  <a:lnTo>
                    <a:pt x="221" y="3"/>
                  </a:lnTo>
                  <a:lnTo>
                    <a:pt x="226" y="4"/>
                  </a:lnTo>
                  <a:lnTo>
                    <a:pt x="230" y="5"/>
                  </a:lnTo>
                  <a:lnTo>
                    <a:pt x="235" y="7"/>
                  </a:lnTo>
                  <a:lnTo>
                    <a:pt x="240" y="8"/>
                  </a:lnTo>
                  <a:lnTo>
                    <a:pt x="247" y="11"/>
                  </a:lnTo>
                  <a:lnTo>
                    <a:pt x="252" y="12"/>
                  </a:lnTo>
                  <a:lnTo>
                    <a:pt x="258" y="14"/>
                  </a:lnTo>
                  <a:lnTo>
                    <a:pt x="263" y="15"/>
                  </a:lnTo>
                  <a:lnTo>
                    <a:pt x="269" y="16"/>
                  </a:lnTo>
                  <a:lnTo>
                    <a:pt x="274" y="16"/>
                  </a:lnTo>
                  <a:lnTo>
                    <a:pt x="280" y="17"/>
                  </a:lnTo>
                  <a:lnTo>
                    <a:pt x="286" y="17"/>
                  </a:lnTo>
                  <a:lnTo>
                    <a:pt x="291" y="18"/>
                  </a:lnTo>
                  <a:lnTo>
                    <a:pt x="297" y="18"/>
                  </a:lnTo>
                  <a:lnTo>
                    <a:pt x="301" y="19"/>
                  </a:lnTo>
                  <a:lnTo>
                    <a:pt x="305" y="21"/>
                  </a:lnTo>
                  <a:lnTo>
                    <a:pt x="310" y="21"/>
                  </a:lnTo>
                  <a:lnTo>
                    <a:pt x="314" y="22"/>
                  </a:lnTo>
                  <a:lnTo>
                    <a:pt x="318" y="23"/>
                  </a:lnTo>
                  <a:lnTo>
                    <a:pt x="322" y="24"/>
                  </a:lnTo>
                  <a:lnTo>
                    <a:pt x="325" y="26"/>
                  </a:lnTo>
                  <a:lnTo>
                    <a:pt x="330" y="27"/>
                  </a:lnTo>
                  <a:lnTo>
                    <a:pt x="334" y="31"/>
                  </a:lnTo>
                  <a:lnTo>
                    <a:pt x="338" y="33"/>
                  </a:lnTo>
                  <a:lnTo>
                    <a:pt x="345" y="36"/>
                  </a:lnTo>
                  <a:lnTo>
                    <a:pt x="351" y="40"/>
                  </a:lnTo>
                  <a:lnTo>
                    <a:pt x="357" y="45"/>
                  </a:lnTo>
                  <a:lnTo>
                    <a:pt x="364" y="49"/>
                  </a:lnTo>
                  <a:lnTo>
                    <a:pt x="372" y="55"/>
                  </a:lnTo>
                  <a:lnTo>
                    <a:pt x="378" y="61"/>
                  </a:lnTo>
                  <a:lnTo>
                    <a:pt x="385" y="68"/>
                  </a:lnTo>
                  <a:lnTo>
                    <a:pt x="391" y="76"/>
                  </a:lnTo>
                  <a:lnTo>
                    <a:pt x="398" y="85"/>
                  </a:lnTo>
                  <a:lnTo>
                    <a:pt x="404" y="95"/>
                  </a:lnTo>
                  <a:lnTo>
                    <a:pt x="410" y="106"/>
                  </a:lnTo>
                  <a:lnTo>
                    <a:pt x="416" y="118"/>
                  </a:lnTo>
                  <a:lnTo>
                    <a:pt x="421" y="130"/>
                  </a:lnTo>
                  <a:lnTo>
                    <a:pt x="426" y="142"/>
                  </a:lnTo>
                  <a:lnTo>
                    <a:pt x="430" y="154"/>
                  </a:lnTo>
                  <a:lnTo>
                    <a:pt x="433" y="167"/>
                  </a:lnTo>
                  <a:lnTo>
                    <a:pt x="436" y="181"/>
                  </a:lnTo>
                  <a:lnTo>
                    <a:pt x="438" y="194"/>
                  </a:lnTo>
                  <a:lnTo>
                    <a:pt x="439" y="207"/>
                  </a:lnTo>
                  <a:lnTo>
                    <a:pt x="439" y="221"/>
                  </a:lnTo>
                  <a:lnTo>
                    <a:pt x="438" y="242"/>
                  </a:lnTo>
                  <a:lnTo>
                    <a:pt x="436" y="263"/>
                  </a:lnTo>
                  <a:lnTo>
                    <a:pt x="430" y="284"/>
                  </a:lnTo>
                  <a:lnTo>
                    <a:pt x="425" y="305"/>
                  </a:lnTo>
                  <a:lnTo>
                    <a:pt x="416" y="327"/>
                  </a:lnTo>
                  <a:lnTo>
                    <a:pt x="406" y="348"/>
                  </a:lnTo>
                  <a:lnTo>
                    <a:pt x="394" y="369"/>
                  </a:lnTo>
                  <a:lnTo>
                    <a:pt x="379" y="390"/>
                  </a:lnTo>
                  <a:lnTo>
                    <a:pt x="373" y="400"/>
                  </a:lnTo>
                  <a:lnTo>
                    <a:pt x="365" y="410"/>
                  </a:lnTo>
                  <a:lnTo>
                    <a:pt x="356" y="419"/>
                  </a:lnTo>
                  <a:lnTo>
                    <a:pt x="348" y="427"/>
                  </a:lnTo>
                  <a:lnTo>
                    <a:pt x="340" y="434"/>
                  </a:lnTo>
                  <a:lnTo>
                    <a:pt x="332" y="441"/>
                  </a:lnTo>
                  <a:lnTo>
                    <a:pt x="323" y="448"/>
                  </a:lnTo>
                  <a:lnTo>
                    <a:pt x="313" y="453"/>
                  </a:lnTo>
                  <a:lnTo>
                    <a:pt x="304" y="458"/>
                  </a:lnTo>
                  <a:lnTo>
                    <a:pt x="295" y="462"/>
                  </a:lnTo>
                  <a:lnTo>
                    <a:pt x="286" y="465"/>
                  </a:lnTo>
                  <a:lnTo>
                    <a:pt x="276" y="469"/>
                  </a:lnTo>
                  <a:lnTo>
                    <a:pt x="266" y="471"/>
                  </a:lnTo>
                  <a:lnTo>
                    <a:pt x="255" y="473"/>
                  </a:lnTo>
                  <a:lnTo>
                    <a:pt x="245" y="473"/>
                  </a:lnTo>
                  <a:lnTo>
                    <a:pt x="234" y="474"/>
                  </a:lnTo>
                  <a:close/>
                  <a:moveTo>
                    <a:pt x="234" y="50"/>
                  </a:moveTo>
                  <a:lnTo>
                    <a:pt x="228" y="51"/>
                  </a:lnTo>
                  <a:lnTo>
                    <a:pt x="224" y="51"/>
                  </a:lnTo>
                  <a:lnTo>
                    <a:pt x="218" y="54"/>
                  </a:lnTo>
                  <a:lnTo>
                    <a:pt x="213" y="56"/>
                  </a:lnTo>
                  <a:lnTo>
                    <a:pt x="203" y="61"/>
                  </a:lnTo>
                  <a:lnTo>
                    <a:pt x="193" y="70"/>
                  </a:lnTo>
                  <a:lnTo>
                    <a:pt x="183" y="80"/>
                  </a:lnTo>
                  <a:lnTo>
                    <a:pt x="173" y="93"/>
                  </a:lnTo>
                  <a:lnTo>
                    <a:pt x="163" y="109"/>
                  </a:lnTo>
                  <a:lnTo>
                    <a:pt x="153" y="127"/>
                  </a:lnTo>
                  <a:lnTo>
                    <a:pt x="144" y="145"/>
                  </a:lnTo>
                  <a:lnTo>
                    <a:pt x="136" y="164"/>
                  </a:lnTo>
                  <a:lnTo>
                    <a:pt x="130" y="182"/>
                  </a:lnTo>
                  <a:lnTo>
                    <a:pt x="124" y="199"/>
                  </a:lnTo>
                  <a:lnTo>
                    <a:pt x="120" y="216"/>
                  </a:lnTo>
                  <a:lnTo>
                    <a:pt x="117" y="234"/>
                  </a:lnTo>
                  <a:lnTo>
                    <a:pt x="115" y="250"/>
                  </a:lnTo>
                  <a:lnTo>
                    <a:pt x="114" y="266"/>
                  </a:lnTo>
                  <a:lnTo>
                    <a:pt x="114" y="281"/>
                  </a:lnTo>
                  <a:lnTo>
                    <a:pt x="115" y="296"/>
                  </a:lnTo>
                  <a:lnTo>
                    <a:pt x="118" y="311"/>
                  </a:lnTo>
                  <a:lnTo>
                    <a:pt x="120" y="324"/>
                  </a:lnTo>
                  <a:lnTo>
                    <a:pt x="123" y="337"/>
                  </a:lnTo>
                  <a:lnTo>
                    <a:pt x="127" y="351"/>
                  </a:lnTo>
                  <a:lnTo>
                    <a:pt x="131" y="363"/>
                  </a:lnTo>
                  <a:lnTo>
                    <a:pt x="136" y="374"/>
                  </a:lnTo>
                  <a:lnTo>
                    <a:pt x="142" y="385"/>
                  </a:lnTo>
                  <a:lnTo>
                    <a:pt x="149" y="394"/>
                  </a:lnTo>
                  <a:lnTo>
                    <a:pt x="154" y="401"/>
                  </a:lnTo>
                  <a:lnTo>
                    <a:pt x="161" y="408"/>
                  </a:lnTo>
                  <a:lnTo>
                    <a:pt x="168" y="412"/>
                  </a:lnTo>
                  <a:lnTo>
                    <a:pt x="175" y="416"/>
                  </a:lnTo>
                  <a:lnTo>
                    <a:pt x="183" y="418"/>
                  </a:lnTo>
                  <a:lnTo>
                    <a:pt x="192" y="419"/>
                  </a:lnTo>
                  <a:lnTo>
                    <a:pt x="197" y="419"/>
                  </a:lnTo>
                  <a:lnTo>
                    <a:pt x="204" y="418"/>
                  </a:lnTo>
                  <a:lnTo>
                    <a:pt x="210" y="417"/>
                  </a:lnTo>
                  <a:lnTo>
                    <a:pt x="217" y="415"/>
                  </a:lnTo>
                  <a:lnTo>
                    <a:pt x="223" y="411"/>
                  </a:lnTo>
                  <a:lnTo>
                    <a:pt x="228" y="408"/>
                  </a:lnTo>
                  <a:lnTo>
                    <a:pt x="234" y="405"/>
                  </a:lnTo>
                  <a:lnTo>
                    <a:pt x="239" y="400"/>
                  </a:lnTo>
                  <a:lnTo>
                    <a:pt x="250" y="389"/>
                  </a:lnTo>
                  <a:lnTo>
                    <a:pt x="260" y="376"/>
                  </a:lnTo>
                  <a:lnTo>
                    <a:pt x="269" y="360"/>
                  </a:lnTo>
                  <a:lnTo>
                    <a:pt x="277" y="342"/>
                  </a:lnTo>
                  <a:lnTo>
                    <a:pt x="284" y="323"/>
                  </a:lnTo>
                  <a:lnTo>
                    <a:pt x="291" y="305"/>
                  </a:lnTo>
                  <a:lnTo>
                    <a:pt x="297" y="287"/>
                  </a:lnTo>
                  <a:lnTo>
                    <a:pt x="301" y="270"/>
                  </a:lnTo>
                  <a:lnTo>
                    <a:pt x="305" y="253"/>
                  </a:lnTo>
                  <a:lnTo>
                    <a:pt x="308" y="237"/>
                  </a:lnTo>
                  <a:lnTo>
                    <a:pt x="309" y="221"/>
                  </a:lnTo>
                  <a:lnTo>
                    <a:pt x="310" y="207"/>
                  </a:lnTo>
                  <a:lnTo>
                    <a:pt x="309" y="194"/>
                  </a:lnTo>
                  <a:lnTo>
                    <a:pt x="309" y="182"/>
                  </a:lnTo>
                  <a:lnTo>
                    <a:pt x="308" y="168"/>
                  </a:lnTo>
                  <a:lnTo>
                    <a:pt x="305" y="155"/>
                  </a:lnTo>
                  <a:lnTo>
                    <a:pt x="303" y="142"/>
                  </a:lnTo>
                  <a:lnTo>
                    <a:pt x="300" y="129"/>
                  </a:lnTo>
                  <a:lnTo>
                    <a:pt x="297" y="117"/>
                  </a:lnTo>
                  <a:lnTo>
                    <a:pt x="292" y="103"/>
                  </a:lnTo>
                  <a:lnTo>
                    <a:pt x="288" y="91"/>
                  </a:lnTo>
                  <a:lnTo>
                    <a:pt x="282" y="80"/>
                  </a:lnTo>
                  <a:lnTo>
                    <a:pt x="276" y="71"/>
                  </a:lnTo>
                  <a:lnTo>
                    <a:pt x="269" y="64"/>
                  </a:lnTo>
                  <a:lnTo>
                    <a:pt x="261" y="58"/>
                  </a:lnTo>
                  <a:lnTo>
                    <a:pt x="252" y="54"/>
                  </a:lnTo>
                  <a:lnTo>
                    <a:pt x="244" y="51"/>
                  </a:lnTo>
                  <a:lnTo>
                    <a:pt x="234" y="5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610400" y="2293920"/>
              <a:ext cx="150840" cy="198000"/>
            </a:xfrm>
            <a:custGeom>
              <a:avLst/>
              <a:gdLst/>
              <a:ahLst/>
              <a:rect l="l" t="t" r="r" b="b"/>
              <a:pathLst>
                <a:path w="382" h="500">
                  <a:moveTo>
                    <a:pt x="274" y="274"/>
                  </a:moveTo>
                  <a:lnTo>
                    <a:pt x="280" y="28"/>
                  </a:lnTo>
                  <a:lnTo>
                    <a:pt x="282" y="21"/>
                  </a:lnTo>
                  <a:lnTo>
                    <a:pt x="283" y="16"/>
                  </a:lnTo>
                  <a:lnTo>
                    <a:pt x="285" y="11"/>
                  </a:lnTo>
                  <a:lnTo>
                    <a:pt x="287" y="7"/>
                  </a:lnTo>
                  <a:lnTo>
                    <a:pt x="291" y="3"/>
                  </a:lnTo>
                  <a:lnTo>
                    <a:pt x="296" y="2"/>
                  </a:lnTo>
                  <a:lnTo>
                    <a:pt x="301" y="0"/>
                  </a:lnTo>
                  <a:lnTo>
                    <a:pt x="308" y="0"/>
                  </a:lnTo>
                  <a:lnTo>
                    <a:pt x="317" y="0"/>
                  </a:lnTo>
                  <a:lnTo>
                    <a:pt x="326" y="0"/>
                  </a:lnTo>
                  <a:lnTo>
                    <a:pt x="333" y="1"/>
                  </a:lnTo>
                  <a:lnTo>
                    <a:pt x="340" y="2"/>
                  </a:lnTo>
                  <a:lnTo>
                    <a:pt x="347" y="2"/>
                  </a:lnTo>
                  <a:lnTo>
                    <a:pt x="352" y="3"/>
                  </a:lnTo>
                  <a:lnTo>
                    <a:pt x="357" y="6"/>
                  </a:lnTo>
                  <a:lnTo>
                    <a:pt x="361" y="7"/>
                  </a:lnTo>
                  <a:lnTo>
                    <a:pt x="365" y="9"/>
                  </a:lnTo>
                  <a:lnTo>
                    <a:pt x="369" y="10"/>
                  </a:lnTo>
                  <a:lnTo>
                    <a:pt x="371" y="12"/>
                  </a:lnTo>
                  <a:lnTo>
                    <a:pt x="373" y="14"/>
                  </a:lnTo>
                  <a:lnTo>
                    <a:pt x="375" y="16"/>
                  </a:lnTo>
                  <a:lnTo>
                    <a:pt x="378" y="18"/>
                  </a:lnTo>
                  <a:lnTo>
                    <a:pt x="379" y="20"/>
                  </a:lnTo>
                  <a:lnTo>
                    <a:pt x="380" y="21"/>
                  </a:lnTo>
                  <a:lnTo>
                    <a:pt x="381" y="23"/>
                  </a:lnTo>
                  <a:lnTo>
                    <a:pt x="381" y="27"/>
                  </a:lnTo>
                  <a:lnTo>
                    <a:pt x="381" y="29"/>
                  </a:lnTo>
                  <a:lnTo>
                    <a:pt x="382" y="33"/>
                  </a:lnTo>
                  <a:lnTo>
                    <a:pt x="382" y="37"/>
                  </a:lnTo>
                  <a:lnTo>
                    <a:pt x="382" y="41"/>
                  </a:lnTo>
                  <a:lnTo>
                    <a:pt x="382" y="46"/>
                  </a:lnTo>
                  <a:lnTo>
                    <a:pt x="382" y="52"/>
                  </a:lnTo>
                  <a:lnTo>
                    <a:pt x="382" y="366"/>
                  </a:lnTo>
                  <a:lnTo>
                    <a:pt x="382" y="430"/>
                  </a:lnTo>
                  <a:lnTo>
                    <a:pt x="382" y="436"/>
                  </a:lnTo>
                  <a:lnTo>
                    <a:pt x="382" y="442"/>
                  </a:lnTo>
                  <a:lnTo>
                    <a:pt x="382" y="446"/>
                  </a:lnTo>
                  <a:lnTo>
                    <a:pt x="381" y="449"/>
                  </a:lnTo>
                  <a:lnTo>
                    <a:pt x="380" y="453"/>
                  </a:lnTo>
                  <a:lnTo>
                    <a:pt x="379" y="456"/>
                  </a:lnTo>
                  <a:lnTo>
                    <a:pt x="378" y="458"/>
                  </a:lnTo>
                  <a:lnTo>
                    <a:pt x="376" y="459"/>
                  </a:lnTo>
                  <a:lnTo>
                    <a:pt x="374" y="461"/>
                  </a:lnTo>
                  <a:lnTo>
                    <a:pt x="372" y="462"/>
                  </a:lnTo>
                  <a:lnTo>
                    <a:pt x="369" y="464"/>
                  </a:lnTo>
                  <a:lnTo>
                    <a:pt x="364" y="464"/>
                  </a:lnTo>
                  <a:lnTo>
                    <a:pt x="360" y="465"/>
                  </a:lnTo>
                  <a:lnTo>
                    <a:pt x="354" y="465"/>
                  </a:lnTo>
                  <a:lnTo>
                    <a:pt x="349" y="466"/>
                  </a:lnTo>
                  <a:lnTo>
                    <a:pt x="342" y="466"/>
                  </a:lnTo>
                  <a:lnTo>
                    <a:pt x="307" y="465"/>
                  </a:lnTo>
                  <a:lnTo>
                    <a:pt x="303" y="465"/>
                  </a:lnTo>
                  <a:lnTo>
                    <a:pt x="298" y="464"/>
                  </a:lnTo>
                  <a:lnTo>
                    <a:pt x="294" y="464"/>
                  </a:lnTo>
                  <a:lnTo>
                    <a:pt x="290" y="461"/>
                  </a:lnTo>
                  <a:lnTo>
                    <a:pt x="286" y="460"/>
                  </a:lnTo>
                  <a:lnTo>
                    <a:pt x="282" y="458"/>
                  </a:lnTo>
                  <a:lnTo>
                    <a:pt x="278" y="456"/>
                  </a:lnTo>
                  <a:lnTo>
                    <a:pt x="275" y="454"/>
                  </a:lnTo>
                  <a:lnTo>
                    <a:pt x="271" y="450"/>
                  </a:lnTo>
                  <a:lnTo>
                    <a:pt x="266" y="446"/>
                  </a:lnTo>
                  <a:lnTo>
                    <a:pt x="262" y="440"/>
                  </a:lnTo>
                  <a:lnTo>
                    <a:pt x="256" y="435"/>
                  </a:lnTo>
                  <a:lnTo>
                    <a:pt x="250" y="428"/>
                  </a:lnTo>
                  <a:lnTo>
                    <a:pt x="243" y="421"/>
                  </a:lnTo>
                  <a:lnTo>
                    <a:pt x="235" y="412"/>
                  </a:lnTo>
                  <a:lnTo>
                    <a:pt x="227" y="402"/>
                  </a:lnTo>
                  <a:lnTo>
                    <a:pt x="220" y="392"/>
                  </a:lnTo>
                  <a:lnTo>
                    <a:pt x="211" y="382"/>
                  </a:lnTo>
                  <a:lnTo>
                    <a:pt x="202" y="371"/>
                  </a:lnTo>
                  <a:lnTo>
                    <a:pt x="193" y="359"/>
                  </a:lnTo>
                  <a:lnTo>
                    <a:pt x="183" y="348"/>
                  </a:lnTo>
                  <a:lnTo>
                    <a:pt x="174" y="334"/>
                  </a:lnTo>
                  <a:lnTo>
                    <a:pt x="165" y="322"/>
                  </a:lnTo>
                  <a:lnTo>
                    <a:pt x="155" y="309"/>
                  </a:lnTo>
                  <a:lnTo>
                    <a:pt x="146" y="296"/>
                  </a:lnTo>
                  <a:lnTo>
                    <a:pt x="137" y="285"/>
                  </a:lnTo>
                  <a:lnTo>
                    <a:pt x="129" y="274"/>
                  </a:lnTo>
                  <a:lnTo>
                    <a:pt x="124" y="265"/>
                  </a:lnTo>
                  <a:lnTo>
                    <a:pt x="118" y="257"/>
                  </a:lnTo>
                  <a:lnTo>
                    <a:pt x="113" y="251"/>
                  </a:lnTo>
                  <a:lnTo>
                    <a:pt x="109" y="245"/>
                  </a:lnTo>
                  <a:lnTo>
                    <a:pt x="107" y="241"/>
                  </a:lnTo>
                  <a:lnTo>
                    <a:pt x="107" y="278"/>
                  </a:lnTo>
                  <a:lnTo>
                    <a:pt x="107" y="358"/>
                  </a:lnTo>
                  <a:lnTo>
                    <a:pt x="107" y="466"/>
                  </a:lnTo>
                  <a:lnTo>
                    <a:pt x="107" y="468"/>
                  </a:lnTo>
                  <a:lnTo>
                    <a:pt x="107" y="469"/>
                  </a:lnTo>
                  <a:lnTo>
                    <a:pt x="107" y="470"/>
                  </a:lnTo>
                  <a:lnTo>
                    <a:pt x="107" y="471"/>
                  </a:lnTo>
                  <a:lnTo>
                    <a:pt x="107" y="474"/>
                  </a:lnTo>
                  <a:lnTo>
                    <a:pt x="107" y="475"/>
                  </a:lnTo>
                  <a:lnTo>
                    <a:pt x="107" y="476"/>
                  </a:lnTo>
                  <a:lnTo>
                    <a:pt x="107" y="477"/>
                  </a:lnTo>
                  <a:lnTo>
                    <a:pt x="107" y="479"/>
                  </a:lnTo>
                  <a:lnTo>
                    <a:pt x="107" y="481"/>
                  </a:lnTo>
                  <a:lnTo>
                    <a:pt x="106" y="483"/>
                  </a:lnTo>
                  <a:lnTo>
                    <a:pt x="106" y="486"/>
                  </a:lnTo>
                  <a:lnTo>
                    <a:pt x="105" y="488"/>
                  </a:lnTo>
                  <a:lnTo>
                    <a:pt x="104" y="489"/>
                  </a:lnTo>
                  <a:lnTo>
                    <a:pt x="103" y="491"/>
                  </a:lnTo>
                  <a:lnTo>
                    <a:pt x="102" y="493"/>
                  </a:lnTo>
                  <a:lnTo>
                    <a:pt x="99" y="494"/>
                  </a:lnTo>
                  <a:lnTo>
                    <a:pt x="98" y="496"/>
                  </a:lnTo>
                  <a:lnTo>
                    <a:pt x="96" y="498"/>
                  </a:lnTo>
                  <a:lnTo>
                    <a:pt x="93" y="498"/>
                  </a:lnTo>
                  <a:lnTo>
                    <a:pt x="89" y="499"/>
                  </a:lnTo>
                  <a:lnTo>
                    <a:pt x="86" y="500"/>
                  </a:lnTo>
                  <a:lnTo>
                    <a:pt x="83" y="500"/>
                  </a:lnTo>
                  <a:lnTo>
                    <a:pt x="78" y="500"/>
                  </a:lnTo>
                  <a:lnTo>
                    <a:pt x="75" y="500"/>
                  </a:lnTo>
                  <a:lnTo>
                    <a:pt x="72" y="500"/>
                  </a:lnTo>
                  <a:lnTo>
                    <a:pt x="67" y="500"/>
                  </a:lnTo>
                  <a:lnTo>
                    <a:pt x="64" y="499"/>
                  </a:lnTo>
                  <a:lnTo>
                    <a:pt x="60" y="499"/>
                  </a:lnTo>
                  <a:lnTo>
                    <a:pt x="55" y="498"/>
                  </a:lnTo>
                  <a:lnTo>
                    <a:pt x="52" y="498"/>
                  </a:lnTo>
                  <a:lnTo>
                    <a:pt x="48" y="497"/>
                  </a:lnTo>
                  <a:lnTo>
                    <a:pt x="43" y="496"/>
                  </a:lnTo>
                  <a:lnTo>
                    <a:pt x="39" y="494"/>
                  </a:lnTo>
                  <a:lnTo>
                    <a:pt x="35" y="493"/>
                  </a:lnTo>
                  <a:lnTo>
                    <a:pt x="32" y="492"/>
                  </a:lnTo>
                  <a:lnTo>
                    <a:pt x="28" y="492"/>
                  </a:lnTo>
                  <a:lnTo>
                    <a:pt x="24" y="491"/>
                  </a:lnTo>
                  <a:lnTo>
                    <a:pt x="21" y="489"/>
                  </a:lnTo>
                  <a:lnTo>
                    <a:pt x="19" y="488"/>
                  </a:lnTo>
                  <a:lnTo>
                    <a:pt x="15" y="487"/>
                  </a:lnTo>
                  <a:lnTo>
                    <a:pt x="13" y="486"/>
                  </a:lnTo>
                  <a:lnTo>
                    <a:pt x="11" y="483"/>
                  </a:lnTo>
                  <a:lnTo>
                    <a:pt x="9" y="480"/>
                  </a:lnTo>
                  <a:lnTo>
                    <a:pt x="7" y="478"/>
                  </a:lnTo>
                  <a:lnTo>
                    <a:pt x="6" y="475"/>
                  </a:lnTo>
                  <a:lnTo>
                    <a:pt x="4" y="470"/>
                  </a:lnTo>
                  <a:lnTo>
                    <a:pt x="3" y="467"/>
                  </a:lnTo>
                  <a:lnTo>
                    <a:pt x="2" y="462"/>
                  </a:lnTo>
                  <a:lnTo>
                    <a:pt x="1" y="458"/>
                  </a:lnTo>
                  <a:lnTo>
                    <a:pt x="1" y="454"/>
                  </a:lnTo>
                  <a:lnTo>
                    <a:pt x="0" y="449"/>
                  </a:lnTo>
                  <a:lnTo>
                    <a:pt x="0" y="444"/>
                  </a:lnTo>
                  <a:lnTo>
                    <a:pt x="0" y="439"/>
                  </a:lnTo>
                  <a:lnTo>
                    <a:pt x="0" y="435"/>
                  </a:lnTo>
                  <a:lnTo>
                    <a:pt x="0" y="429"/>
                  </a:lnTo>
                  <a:lnTo>
                    <a:pt x="0" y="423"/>
                  </a:lnTo>
                  <a:lnTo>
                    <a:pt x="0" y="417"/>
                  </a:lnTo>
                  <a:lnTo>
                    <a:pt x="0" y="411"/>
                  </a:lnTo>
                  <a:lnTo>
                    <a:pt x="0" y="404"/>
                  </a:lnTo>
                  <a:lnTo>
                    <a:pt x="0" y="397"/>
                  </a:lnTo>
                  <a:lnTo>
                    <a:pt x="0" y="390"/>
                  </a:lnTo>
                  <a:lnTo>
                    <a:pt x="0" y="382"/>
                  </a:lnTo>
                  <a:lnTo>
                    <a:pt x="0" y="374"/>
                  </a:lnTo>
                  <a:lnTo>
                    <a:pt x="0" y="365"/>
                  </a:lnTo>
                  <a:lnTo>
                    <a:pt x="0" y="357"/>
                  </a:lnTo>
                  <a:lnTo>
                    <a:pt x="0" y="348"/>
                  </a:lnTo>
                  <a:lnTo>
                    <a:pt x="0" y="338"/>
                  </a:lnTo>
                  <a:lnTo>
                    <a:pt x="0" y="328"/>
                  </a:lnTo>
                  <a:lnTo>
                    <a:pt x="0" y="318"/>
                  </a:lnTo>
                  <a:lnTo>
                    <a:pt x="0" y="307"/>
                  </a:lnTo>
                  <a:lnTo>
                    <a:pt x="0" y="296"/>
                  </a:lnTo>
                  <a:lnTo>
                    <a:pt x="0" y="285"/>
                  </a:lnTo>
                  <a:lnTo>
                    <a:pt x="7" y="55"/>
                  </a:lnTo>
                  <a:lnTo>
                    <a:pt x="8" y="51"/>
                  </a:lnTo>
                  <a:lnTo>
                    <a:pt x="9" y="46"/>
                  </a:lnTo>
                  <a:lnTo>
                    <a:pt x="10" y="43"/>
                  </a:lnTo>
                  <a:lnTo>
                    <a:pt x="13" y="40"/>
                  </a:lnTo>
                  <a:lnTo>
                    <a:pt x="17" y="38"/>
                  </a:lnTo>
                  <a:lnTo>
                    <a:pt x="20" y="37"/>
                  </a:lnTo>
                  <a:lnTo>
                    <a:pt x="24" y="35"/>
                  </a:lnTo>
                  <a:lnTo>
                    <a:pt x="30" y="34"/>
                  </a:lnTo>
                  <a:lnTo>
                    <a:pt x="36" y="34"/>
                  </a:lnTo>
                  <a:lnTo>
                    <a:pt x="43" y="35"/>
                  </a:lnTo>
                  <a:lnTo>
                    <a:pt x="49" y="35"/>
                  </a:lnTo>
                  <a:lnTo>
                    <a:pt x="56" y="37"/>
                  </a:lnTo>
                  <a:lnTo>
                    <a:pt x="63" y="38"/>
                  </a:lnTo>
                  <a:lnTo>
                    <a:pt x="70" y="39"/>
                  </a:lnTo>
                  <a:lnTo>
                    <a:pt x="77" y="40"/>
                  </a:lnTo>
                  <a:lnTo>
                    <a:pt x="84" y="41"/>
                  </a:lnTo>
                  <a:lnTo>
                    <a:pt x="92" y="43"/>
                  </a:lnTo>
                  <a:lnTo>
                    <a:pt x="98" y="44"/>
                  </a:lnTo>
                  <a:lnTo>
                    <a:pt x="104" y="46"/>
                  </a:lnTo>
                  <a:lnTo>
                    <a:pt x="108" y="49"/>
                  </a:lnTo>
                  <a:lnTo>
                    <a:pt x="113" y="52"/>
                  </a:lnTo>
                  <a:lnTo>
                    <a:pt x="117" y="54"/>
                  </a:lnTo>
                  <a:lnTo>
                    <a:pt x="119" y="57"/>
                  </a:lnTo>
                  <a:lnTo>
                    <a:pt x="121" y="60"/>
                  </a:lnTo>
                  <a:lnTo>
                    <a:pt x="230" y="237"/>
                  </a:lnTo>
                  <a:lnTo>
                    <a:pt x="273" y="310"/>
                  </a:lnTo>
                  <a:lnTo>
                    <a:pt x="274" y="27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486080" y="1023840"/>
              <a:ext cx="1338120" cy="815760"/>
            </a:xfrm>
            <a:custGeom>
              <a:avLst/>
              <a:gdLst/>
              <a:ahLst/>
              <a:rect l="l" t="t" r="r" b="b"/>
              <a:pathLst>
                <a:path w="3373" h="2057">
                  <a:moveTo>
                    <a:pt x="142" y="120"/>
                  </a:moveTo>
                  <a:lnTo>
                    <a:pt x="142" y="118"/>
                  </a:lnTo>
                  <a:lnTo>
                    <a:pt x="140" y="117"/>
                  </a:lnTo>
                  <a:lnTo>
                    <a:pt x="137" y="115"/>
                  </a:lnTo>
                  <a:lnTo>
                    <a:pt x="135" y="113"/>
                  </a:lnTo>
                  <a:lnTo>
                    <a:pt x="131" y="110"/>
                  </a:lnTo>
                  <a:lnTo>
                    <a:pt x="126" y="108"/>
                  </a:lnTo>
                  <a:lnTo>
                    <a:pt x="121" y="106"/>
                  </a:lnTo>
                  <a:lnTo>
                    <a:pt x="114" y="103"/>
                  </a:lnTo>
                  <a:lnTo>
                    <a:pt x="108" y="100"/>
                  </a:lnTo>
                  <a:lnTo>
                    <a:pt x="102" y="98"/>
                  </a:lnTo>
                  <a:lnTo>
                    <a:pt x="98" y="96"/>
                  </a:lnTo>
                  <a:lnTo>
                    <a:pt x="93" y="94"/>
                  </a:lnTo>
                  <a:lnTo>
                    <a:pt x="90" y="92"/>
                  </a:lnTo>
                  <a:lnTo>
                    <a:pt x="88" y="89"/>
                  </a:lnTo>
                  <a:lnTo>
                    <a:pt x="87" y="87"/>
                  </a:lnTo>
                  <a:lnTo>
                    <a:pt x="87" y="85"/>
                  </a:lnTo>
                  <a:lnTo>
                    <a:pt x="87" y="78"/>
                  </a:lnTo>
                  <a:lnTo>
                    <a:pt x="88" y="72"/>
                  </a:lnTo>
                  <a:lnTo>
                    <a:pt x="89" y="66"/>
                  </a:lnTo>
                  <a:lnTo>
                    <a:pt x="90" y="62"/>
                  </a:lnTo>
                  <a:lnTo>
                    <a:pt x="92" y="57"/>
                  </a:lnTo>
                  <a:lnTo>
                    <a:pt x="94" y="54"/>
                  </a:lnTo>
                  <a:lnTo>
                    <a:pt x="98" y="51"/>
                  </a:lnTo>
                  <a:lnTo>
                    <a:pt x="101" y="49"/>
                  </a:lnTo>
                  <a:lnTo>
                    <a:pt x="105" y="45"/>
                  </a:lnTo>
                  <a:lnTo>
                    <a:pt x="112" y="43"/>
                  </a:lnTo>
                  <a:lnTo>
                    <a:pt x="120" y="41"/>
                  </a:lnTo>
                  <a:lnTo>
                    <a:pt x="130" y="39"/>
                  </a:lnTo>
                  <a:lnTo>
                    <a:pt x="154" y="33"/>
                  </a:lnTo>
                  <a:lnTo>
                    <a:pt x="185" y="29"/>
                  </a:lnTo>
                  <a:lnTo>
                    <a:pt x="221" y="24"/>
                  </a:lnTo>
                  <a:lnTo>
                    <a:pt x="265" y="21"/>
                  </a:lnTo>
                  <a:lnTo>
                    <a:pt x="315" y="17"/>
                  </a:lnTo>
                  <a:lnTo>
                    <a:pt x="372" y="12"/>
                  </a:lnTo>
                  <a:lnTo>
                    <a:pt x="420" y="10"/>
                  </a:lnTo>
                  <a:lnTo>
                    <a:pt x="466" y="8"/>
                  </a:lnTo>
                  <a:lnTo>
                    <a:pt x="509" y="5"/>
                  </a:lnTo>
                  <a:lnTo>
                    <a:pt x="549" y="3"/>
                  </a:lnTo>
                  <a:lnTo>
                    <a:pt x="588" y="2"/>
                  </a:lnTo>
                  <a:lnTo>
                    <a:pt x="623" y="1"/>
                  </a:lnTo>
                  <a:lnTo>
                    <a:pt x="656" y="1"/>
                  </a:lnTo>
                  <a:lnTo>
                    <a:pt x="686" y="0"/>
                  </a:lnTo>
                  <a:lnTo>
                    <a:pt x="791" y="1"/>
                  </a:lnTo>
                  <a:lnTo>
                    <a:pt x="899" y="2"/>
                  </a:lnTo>
                  <a:lnTo>
                    <a:pt x="1012" y="4"/>
                  </a:lnTo>
                  <a:lnTo>
                    <a:pt x="1127" y="8"/>
                  </a:lnTo>
                  <a:lnTo>
                    <a:pt x="1246" y="12"/>
                  </a:lnTo>
                  <a:lnTo>
                    <a:pt x="1368" y="18"/>
                  </a:lnTo>
                  <a:lnTo>
                    <a:pt x="1494" y="24"/>
                  </a:lnTo>
                  <a:lnTo>
                    <a:pt x="1623" y="32"/>
                  </a:lnTo>
                  <a:lnTo>
                    <a:pt x="1658" y="35"/>
                  </a:lnTo>
                  <a:lnTo>
                    <a:pt x="1695" y="40"/>
                  </a:lnTo>
                  <a:lnTo>
                    <a:pt x="1737" y="45"/>
                  </a:lnTo>
                  <a:lnTo>
                    <a:pt x="1782" y="50"/>
                  </a:lnTo>
                  <a:lnTo>
                    <a:pt x="1832" y="56"/>
                  </a:lnTo>
                  <a:lnTo>
                    <a:pt x="1886" y="62"/>
                  </a:lnTo>
                  <a:lnTo>
                    <a:pt x="1943" y="68"/>
                  </a:lnTo>
                  <a:lnTo>
                    <a:pt x="2005" y="75"/>
                  </a:lnTo>
                  <a:lnTo>
                    <a:pt x="2032" y="78"/>
                  </a:lnTo>
                  <a:lnTo>
                    <a:pt x="2060" y="81"/>
                  </a:lnTo>
                  <a:lnTo>
                    <a:pt x="2091" y="85"/>
                  </a:lnTo>
                  <a:lnTo>
                    <a:pt x="2127" y="88"/>
                  </a:lnTo>
                  <a:lnTo>
                    <a:pt x="2164" y="93"/>
                  </a:lnTo>
                  <a:lnTo>
                    <a:pt x="2205" y="98"/>
                  </a:lnTo>
                  <a:lnTo>
                    <a:pt x="2248" y="104"/>
                  </a:lnTo>
                  <a:lnTo>
                    <a:pt x="2295" y="109"/>
                  </a:lnTo>
                  <a:lnTo>
                    <a:pt x="2341" y="118"/>
                  </a:lnTo>
                  <a:lnTo>
                    <a:pt x="2386" y="127"/>
                  </a:lnTo>
                  <a:lnTo>
                    <a:pt x="2433" y="137"/>
                  </a:lnTo>
                  <a:lnTo>
                    <a:pt x="2478" y="148"/>
                  </a:lnTo>
                  <a:lnTo>
                    <a:pt x="2522" y="159"/>
                  </a:lnTo>
                  <a:lnTo>
                    <a:pt x="2567" y="171"/>
                  </a:lnTo>
                  <a:lnTo>
                    <a:pt x="2612" y="184"/>
                  </a:lnTo>
                  <a:lnTo>
                    <a:pt x="2657" y="198"/>
                  </a:lnTo>
                  <a:lnTo>
                    <a:pt x="2701" y="212"/>
                  </a:lnTo>
                  <a:lnTo>
                    <a:pt x="2745" y="227"/>
                  </a:lnTo>
                  <a:lnTo>
                    <a:pt x="2789" y="243"/>
                  </a:lnTo>
                  <a:lnTo>
                    <a:pt x="2832" y="259"/>
                  </a:lnTo>
                  <a:lnTo>
                    <a:pt x="2876" y="277"/>
                  </a:lnTo>
                  <a:lnTo>
                    <a:pt x="2919" y="295"/>
                  </a:lnTo>
                  <a:lnTo>
                    <a:pt x="2962" y="313"/>
                  </a:lnTo>
                  <a:lnTo>
                    <a:pt x="3006" y="333"/>
                  </a:lnTo>
                  <a:lnTo>
                    <a:pt x="3050" y="354"/>
                  </a:lnTo>
                  <a:lnTo>
                    <a:pt x="3092" y="375"/>
                  </a:lnTo>
                  <a:lnTo>
                    <a:pt x="3130" y="396"/>
                  </a:lnTo>
                  <a:lnTo>
                    <a:pt x="3167" y="417"/>
                  </a:lnTo>
                  <a:lnTo>
                    <a:pt x="3200" y="438"/>
                  </a:lnTo>
                  <a:lnTo>
                    <a:pt x="3230" y="458"/>
                  </a:lnTo>
                  <a:lnTo>
                    <a:pt x="3257" y="479"/>
                  </a:lnTo>
                  <a:lnTo>
                    <a:pt x="3282" y="499"/>
                  </a:lnTo>
                  <a:lnTo>
                    <a:pt x="3302" y="519"/>
                  </a:lnTo>
                  <a:lnTo>
                    <a:pt x="3321" y="537"/>
                  </a:lnTo>
                  <a:lnTo>
                    <a:pt x="3338" y="557"/>
                  </a:lnTo>
                  <a:lnTo>
                    <a:pt x="3350" y="576"/>
                  </a:lnTo>
                  <a:lnTo>
                    <a:pt x="3355" y="585"/>
                  </a:lnTo>
                  <a:lnTo>
                    <a:pt x="3360" y="595"/>
                  </a:lnTo>
                  <a:lnTo>
                    <a:pt x="3364" y="604"/>
                  </a:lnTo>
                  <a:lnTo>
                    <a:pt x="3368" y="614"/>
                  </a:lnTo>
                  <a:lnTo>
                    <a:pt x="3370" y="622"/>
                  </a:lnTo>
                  <a:lnTo>
                    <a:pt x="3372" y="631"/>
                  </a:lnTo>
                  <a:lnTo>
                    <a:pt x="3373" y="641"/>
                  </a:lnTo>
                  <a:lnTo>
                    <a:pt x="3373" y="650"/>
                  </a:lnTo>
                  <a:lnTo>
                    <a:pt x="3373" y="661"/>
                  </a:lnTo>
                  <a:lnTo>
                    <a:pt x="3372" y="672"/>
                  </a:lnTo>
                  <a:lnTo>
                    <a:pt x="3371" y="683"/>
                  </a:lnTo>
                  <a:lnTo>
                    <a:pt x="3369" y="694"/>
                  </a:lnTo>
                  <a:lnTo>
                    <a:pt x="3365" y="705"/>
                  </a:lnTo>
                  <a:lnTo>
                    <a:pt x="3362" y="716"/>
                  </a:lnTo>
                  <a:lnTo>
                    <a:pt x="3359" y="727"/>
                  </a:lnTo>
                  <a:lnTo>
                    <a:pt x="3354" y="738"/>
                  </a:lnTo>
                  <a:lnTo>
                    <a:pt x="3349" y="748"/>
                  </a:lnTo>
                  <a:lnTo>
                    <a:pt x="3343" y="759"/>
                  </a:lnTo>
                  <a:lnTo>
                    <a:pt x="3337" y="769"/>
                  </a:lnTo>
                  <a:lnTo>
                    <a:pt x="3330" y="779"/>
                  </a:lnTo>
                  <a:lnTo>
                    <a:pt x="3315" y="800"/>
                  </a:lnTo>
                  <a:lnTo>
                    <a:pt x="3297" y="820"/>
                  </a:lnTo>
                  <a:lnTo>
                    <a:pt x="3276" y="840"/>
                  </a:lnTo>
                  <a:lnTo>
                    <a:pt x="3253" y="859"/>
                  </a:lnTo>
                  <a:lnTo>
                    <a:pt x="3229" y="878"/>
                  </a:lnTo>
                  <a:lnTo>
                    <a:pt x="3201" y="896"/>
                  </a:lnTo>
                  <a:lnTo>
                    <a:pt x="3170" y="915"/>
                  </a:lnTo>
                  <a:lnTo>
                    <a:pt x="3138" y="932"/>
                  </a:lnTo>
                  <a:lnTo>
                    <a:pt x="3104" y="950"/>
                  </a:lnTo>
                  <a:lnTo>
                    <a:pt x="3066" y="968"/>
                  </a:lnTo>
                  <a:lnTo>
                    <a:pt x="3018" y="988"/>
                  </a:lnTo>
                  <a:lnTo>
                    <a:pt x="2962" y="1009"/>
                  </a:lnTo>
                  <a:lnTo>
                    <a:pt x="2901" y="1031"/>
                  </a:lnTo>
                  <a:lnTo>
                    <a:pt x="2832" y="1052"/>
                  </a:lnTo>
                  <a:lnTo>
                    <a:pt x="2758" y="1074"/>
                  </a:lnTo>
                  <a:lnTo>
                    <a:pt x="2677" y="1097"/>
                  </a:lnTo>
                  <a:lnTo>
                    <a:pt x="2589" y="1120"/>
                  </a:lnTo>
                  <a:lnTo>
                    <a:pt x="2494" y="1143"/>
                  </a:lnTo>
                  <a:lnTo>
                    <a:pt x="2423" y="1161"/>
                  </a:lnTo>
                  <a:lnTo>
                    <a:pt x="2361" y="1177"/>
                  </a:lnTo>
                  <a:lnTo>
                    <a:pt x="2308" y="1193"/>
                  </a:lnTo>
                  <a:lnTo>
                    <a:pt x="2265" y="1206"/>
                  </a:lnTo>
                  <a:lnTo>
                    <a:pt x="2247" y="1213"/>
                  </a:lnTo>
                  <a:lnTo>
                    <a:pt x="2231" y="1218"/>
                  </a:lnTo>
                  <a:lnTo>
                    <a:pt x="2217" y="1224"/>
                  </a:lnTo>
                  <a:lnTo>
                    <a:pt x="2207" y="1229"/>
                  </a:lnTo>
                  <a:lnTo>
                    <a:pt x="2198" y="1234"/>
                  </a:lnTo>
                  <a:lnTo>
                    <a:pt x="2193" y="1238"/>
                  </a:lnTo>
                  <a:lnTo>
                    <a:pt x="2189" y="1243"/>
                  </a:lnTo>
                  <a:lnTo>
                    <a:pt x="2187" y="1246"/>
                  </a:lnTo>
                  <a:lnTo>
                    <a:pt x="2190" y="1250"/>
                  </a:lnTo>
                  <a:lnTo>
                    <a:pt x="2194" y="1257"/>
                  </a:lnTo>
                  <a:lnTo>
                    <a:pt x="2203" y="1264"/>
                  </a:lnTo>
                  <a:lnTo>
                    <a:pt x="2215" y="1272"/>
                  </a:lnTo>
                  <a:lnTo>
                    <a:pt x="2249" y="1296"/>
                  </a:lnTo>
                  <a:lnTo>
                    <a:pt x="2297" y="1323"/>
                  </a:lnTo>
                  <a:lnTo>
                    <a:pt x="2357" y="1358"/>
                  </a:lnTo>
                  <a:lnTo>
                    <a:pt x="2431" y="1399"/>
                  </a:lnTo>
                  <a:lnTo>
                    <a:pt x="2520" y="1446"/>
                  </a:lnTo>
                  <a:lnTo>
                    <a:pt x="2621" y="1499"/>
                  </a:lnTo>
                  <a:lnTo>
                    <a:pt x="2718" y="1547"/>
                  </a:lnTo>
                  <a:lnTo>
                    <a:pt x="2807" y="1591"/>
                  </a:lnTo>
                  <a:lnTo>
                    <a:pt x="2886" y="1631"/>
                  </a:lnTo>
                  <a:lnTo>
                    <a:pt x="2957" y="1666"/>
                  </a:lnTo>
                  <a:lnTo>
                    <a:pt x="3020" y="1696"/>
                  </a:lnTo>
                  <a:lnTo>
                    <a:pt x="3074" y="1721"/>
                  </a:lnTo>
                  <a:lnTo>
                    <a:pt x="3119" y="1741"/>
                  </a:lnTo>
                  <a:lnTo>
                    <a:pt x="3157" y="1757"/>
                  </a:lnTo>
                  <a:lnTo>
                    <a:pt x="3169" y="1762"/>
                  </a:lnTo>
                  <a:lnTo>
                    <a:pt x="3184" y="1767"/>
                  </a:lnTo>
                  <a:lnTo>
                    <a:pt x="3201" y="1770"/>
                  </a:lnTo>
                  <a:lnTo>
                    <a:pt x="3221" y="1774"/>
                  </a:lnTo>
                  <a:lnTo>
                    <a:pt x="3243" y="1778"/>
                  </a:lnTo>
                  <a:lnTo>
                    <a:pt x="3268" y="1782"/>
                  </a:lnTo>
                  <a:lnTo>
                    <a:pt x="3295" y="1785"/>
                  </a:lnTo>
                  <a:lnTo>
                    <a:pt x="3325" y="1789"/>
                  </a:lnTo>
                  <a:lnTo>
                    <a:pt x="3293" y="1802"/>
                  </a:lnTo>
                  <a:lnTo>
                    <a:pt x="3262" y="1815"/>
                  </a:lnTo>
                  <a:lnTo>
                    <a:pt x="3231" y="1827"/>
                  </a:lnTo>
                  <a:lnTo>
                    <a:pt x="3200" y="1838"/>
                  </a:lnTo>
                  <a:lnTo>
                    <a:pt x="3171" y="1848"/>
                  </a:lnTo>
                  <a:lnTo>
                    <a:pt x="3142" y="1858"/>
                  </a:lnTo>
                  <a:lnTo>
                    <a:pt x="3114" y="1866"/>
                  </a:lnTo>
                  <a:lnTo>
                    <a:pt x="3087" y="1874"/>
                  </a:lnTo>
                  <a:lnTo>
                    <a:pt x="3061" y="1880"/>
                  </a:lnTo>
                  <a:lnTo>
                    <a:pt x="3034" y="1887"/>
                  </a:lnTo>
                  <a:lnTo>
                    <a:pt x="3009" y="1891"/>
                  </a:lnTo>
                  <a:lnTo>
                    <a:pt x="2985" y="1896"/>
                  </a:lnTo>
                  <a:lnTo>
                    <a:pt x="2961" y="1899"/>
                  </a:lnTo>
                  <a:lnTo>
                    <a:pt x="2938" y="1901"/>
                  </a:lnTo>
                  <a:lnTo>
                    <a:pt x="2916" y="1902"/>
                  </a:lnTo>
                  <a:lnTo>
                    <a:pt x="2895" y="1902"/>
                  </a:lnTo>
                  <a:lnTo>
                    <a:pt x="2871" y="1902"/>
                  </a:lnTo>
                  <a:lnTo>
                    <a:pt x="2847" y="1900"/>
                  </a:lnTo>
                  <a:lnTo>
                    <a:pt x="2822" y="1898"/>
                  </a:lnTo>
                  <a:lnTo>
                    <a:pt x="2799" y="1894"/>
                  </a:lnTo>
                  <a:lnTo>
                    <a:pt x="2776" y="1888"/>
                  </a:lnTo>
                  <a:lnTo>
                    <a:pt x="2752" y="1883"/>
                  </a:lnTo>
                  <a:lnTo>
                    <a:pt x="2728" y="1875"/>
                  </a:lnTo>
                  <a:lnTo>
                    <a:pt x="2705" y="1866"/>
                  </a:lnTo>
                  <a:lnTo>
                    <a:pt x="2585" y="1819"/>
                  </a:lnTo>
                  <a:lnTo>
                    <a:pt x="2450" y="1766"/>
                  </a:lnTo>
                  <a:lnTo>
                    <a:pt x="2300" y="1708"/>
                  </a:lnTo>
                  <a:lnTo>
                    <a:pt x="2136" y="1645"/>
                  </a:lnTo>
                  <a:lnTo>
                    <a:pt x="1956" y="1576"/>
                  </a:lnTo>
                  <a:lnTo>
                    <a:pt x="1761" y="1503"/>
                  </a:lnTo>
                  <a:lnTo>
                    <a:pt x="1552" y="1424"/>
                  </a:lnTo>
                  <a:lnTo>
                    <a:pt x="1327" y="1339"/>
                  </a:lnTo>
                  <a:lnTo>
                    <a:pt x="1255" y="1347"/>
                  </a:lnTo>
                  <a:lnTo>
                    <a:pt x="1182" y="1354"/>
                  </a:lnTo>
                  <a:lnTo>
                    <a:pt x="1109" y="1361"/>
                  </a:lnTo>
                  <a:lnTo>
                    <a:pt x="1038" y="1366"/>
                  </a:lnTo>
                  <a:lnTo>
                    <a:pt x="966" y="1372"/>
                  </a:lnTo>
                  <a:lnTo>
                    <a:pt x="896" y="1375"/>
                  </a:lnTo>
                  <a:lnTo>
                    <a:pt x="825" y="1378"/>
                  </a:lnTo>
                  <a:lnTo>
                    <a:pt x="756" y="1382"/>
                  </a:lnTo>
                  <a:lnTo>
                    <a:pt x="758" y="1436"/>
                  </a:lnTo>
                  <a:lnTo>
                    <a:pt x="759" y="1490"/>
                  </a:lnTo>
                  <a:lnTo>
                    <a:pt x="761" y="1544"/>
                  </a:lnTo>
                  <a:lnTo>
                    <a:pt x="763" y="1597"/>
                  </a:lnTo>
                  <a:lnTo>
                    <a:pt x="764" y="1649"/>
                  </a:lnTo>
                  <a:lnTo>
                    <a:pt x="767" y="1699"/>
                  </a:lnTo>
                  <a:lnTo>
                    <a:pt x="770" y="1750"/>
                  </a:lnTo>
                  <a:lnTo>
                    <a:pt x="772" y="1800"/>
                  </a:lnTo>
                  <a:lnTo>
                    <a:pt x="771" y="1815"/>
                  </a:lnTo>
                  <a:lnTo>
                    <a:pt x="771" y="1832"/>
                  </a:lnTo>
                  <a:lnTo>
                    <a:pt x="772" y="1851"/>
                  </a:lnTo>
                  <a:lnTo>
                    <a:pt x="773" y="1870"/>
                  </a:lnTo>
                  <a:lnTo>
                    <a:pt x="774" y="1891"/>
                  </a:lnTo>
                  <a:lnTo>
                    <a:pt x="777" y="1913"/>
                  </a:lnTo>
                  <a:lnTo>
                    <a:pt x="780" y="1938"/>
                  </a:lnTo>
                  <a:lnTo>
                    <a:pt x="782" y="1964"/>
                  </a:lnTo>
                  <a:lnTo>
                    <a:pt x="783" y="1966"/>
                  </a:lnTo>
                  <a:lnTo>
                    <a:pt x="785" y="1969"/>
                  </a:lnTo>
                  <a:lnTo>
                    <a:pt x="788" y="1970"/>
                  </a:lnTo>
                  <a:lnTo>
                    <a:pt x="790" y="1972"/>
                  </a:lnTo>
                  <a:lnTo>
                    <a:pt x="792" y="1974"/>
                  </a:lnTo>
                  <a:lnTo>
                    <a:pt x="795" y="1976"/>
                  </a:lnTo>
                  <a:lnTo>
                    <a:pt x="799" y="1979"/>
                  </a:lnTo>
                  <a:lnTo>
                    <a:pt x="803" y="1981"/>
                  </a:lnTo>
                  <a:lnTo>
                    <a:pt x="806" y="1983"/>
                  </a:lnTo>
                  <a:lnTo>
                    <a:pt x="811" y="1985"/>
                  </a:lnTo>
                  <a:lnTo>
                    <a:pt x="813" y="1989"/>
                  </a:lnTo>
                  <a:lnTo>
                    <a:pt x="816" y="1992"/>
                  </a:lnTo>
                  <a:lnTo>
                    <a:pt x="817" y="1995"/>
                  </a:lnTo>
                  <a:lnTo>
                    <a:pt x="820" y="1998"/>
                  </a:lnTo>
                  <a:lnTo>
                    <a:pt x="820" y="2002"/>
                  </a:lnTo>
                  <a:lnTo>
                    <a:pt x="821" y="2006"/>
                  </a:lnTo>
                  <a:lnTo>
                    <a:pt x="820" y="2008"/>
                  </a:lnTo>
                  <a:lnTo>
                    <a:pt x="817" y="2011"/>
                  </a:lnTo>
                  <a:lnTo>
                    <a:pt x="813" y="2013"/>
                  </a:lnTo>
                  <a:lnTo>
                    <a:pt x="809" y="2014"/>
                  </a:lnTo>
                  <a:lnTo>
                    <a:pt x="793" y="2018"/>
                  </a:lnTo>
                  <a:lnTo>
                    <a:pt x="773" y="2023"/>
                  </a:lnTo>
                  <a:lnTo>
                    <a:pt x="746" y="2027"/>
                  </a:lnTo>
                  <a:lnTo>
                    <a:pt x="714" y="2032"/>
                  </a:lnTo>
                  <a:lnTo>
                    <a:pt x="675" y="2036"/>
                  </a:lnTo>
                  <a:lnTo>
                    <a:pt x="631" y="2040"/>
                  </a:lnTo>
                  <a:lnTo>
                    <a:pt x="592" y="2044"/>
                  </a:lnTo>
                  <a:lnTo>
                    <a:pt x="556" y="2047"/>
                  </a:lnTo>
                  <a:lnTo>
                    <a:pt x="522" y="2050"/>
                  </a:lnTo>
                  <a:lnTo>
                    <a:pt x="492" y="2053"/>
                  </a:lnTo>
                  <a:lnTo>
                    <a:pt x="463" y="2055"/>
                  </a:lnTo>
                  <a:lnTo>
                    <a:pt x="439" y="2056"/>
                  </a:lnTo>
                  <a:lnTo>
                    <a:pt x="417" y="2056"/>
                  </a:lnTo>
                  <a:lnTo>
                    <a:pt x="397" y="2057"/>
                  </a:lnTo>
                  <a:lnTo>
                    <a:pt x="375" y="2056"/>
                  </a:lnTo>
                  <a:lnTo>
                    <a:pt x="350" y="2056"/>
                  </a:lnTo>
                  <a:lnTo>
                    <a:pt x="325" y="2054"/>
                  </a:lnTo>
                  <a:lnTo>
                    <a:pt x="297" y="2051"/>
                  </a:lnTo>
                  <a:lnTo>
                    <a:pt x="268" y="2049"/>
                  </a:lnTo>
                  <a:lnTo>
                    <a:pt x="237" y="2046"/>
                  </a:lnTo>
                  <a:lnTo>
                    <a:pt x="205" y="2041"/>
                  </a:lnTo>
                  <a:lnTo>
                    <a:pt x="170" y="2037"/>
                  </a:lnTo>
                  <a:lnTo>
                    <a:pt x="131" y="2032"/>
                  </a:lnTo>
                  <a:lnTo>
                    <a:pt x="95" y="2025"/>
                  </a:lnTo>
                  <a:lnTo>
                    <a:pt x="67" y="2018"/>
                  </a:lnTo>
                  <a:lnTo>
                    <a:pt x="42" y="2013"/>
                  </a:lnTo>
                  <a:lnTo>
                    <a:pt x="25" y="2006"/>
                  </a:lnTo>
                  <a:lnTo>
                    <a:pt x="11" y="2000"/>
                  </a:lnTo>
                  <a:lnTo>
                    <a:pt x="7" y="1996"/>
                  </a:lnTo>
                  <a:lnTo>
                    <a:pt x="4" y="1993"/>
                  </a:lnTo>
                  <a:lnTo>
                    <a:pt x="2" y="1990"/>
                  </a:lnTo>
                  <a:lnTo>
                    <a:pt x="0" y="1986"/>
                  </a:lnTo>
                  <a:lnTo>
                    <a:pt x="0" y="1991"/>
                  </a:lnTo>
                  <a:lnTo>
                    <a:pt x="2" y="1992"/>
                  </a:lnTo>
                  <a:lnTo>
                    <a:pt x="3" y="1989"/>
                  </a:lnTo>
                  <a:lnTo>
                    <a:pt x="4" y="1983"/>
                  </a:lnTo>
                  <a:lnTo>
                    <a:pt x="7" y="1962"/>
                  </a:lnTo>
                  <a:lnTo>
                    <a:pt x="13" y="1927"/>
                  </a:lnTo>
                  <a:lnTo>
                    <a:pt x="19" y="1878"/>
                  </a:lnTo>
                  <a:lnTo>
                    <a:pt x="28" y="1815"/>
                  </a:lnTo>
                  <a:lnTo>
                    <a:pt x="38" y="1740"/>
                  </a:lnTo>
                  <a:lnTo>
                    <a:pt x="49" y="1651"/>
                  </a:lnTo>
                  <a:lnTo>
                    <a:pt x="58" y="1578"/>
                  </a:lnTo>
                  <a:lnTo>
                    <a:pt x="67" y="1503"/>
                  </a:lnTo>
                  <a:lnTo>
                    <a:pt x="75" y="1426"/>
                  </a:lnTo>
                  <a:lnTo>
                    <a:pt x="82" y="1347"/>
                  </a:lnTo>
                  <a:lnTo>
                    <a:pt x="90" y="1267"/>
                  </a:lnTo>
                  <a:lnTo>
                    <a:pt x="96" y="1184"/>
                  </a:lnTo>
                  <a:lnTo>
                    <a:pt x="102" y="1099"/>
                  </a:lnTo>
                  <a:lnTo>
                    <a:pt x="108" y="1013"/>
                  </a:lnTo>
                  <a:lnTo>
                    <a:pt x="115" y="868"/>
                  </a:lnTo>
                  <a:lnTo>
                    <a:pt x="122" y="733"/>
                  </a:lnTo>
                  <a:lnTo>
                    <a:pt x="128" y="607"/>
                  </a:lnTo>
                  <a:lnTo>
                    <a:pt x="133" y="490"/>
                  </a:lnTo>
                  <a:lnTo>
                    <a:pt x="136" y="383"/>
                  </a:lnTo>
                  <a:lnTo>
                    <a:pt x="140" y="286"/>
                  </a:lnTo>
                  <a:lnTo>
                    <a:pt x="141" y="199"/>
                  </a:lnTo>
                  <a:lnTo>
                    <a:pt x="142" y="120"/>
                  </a:lnTo>
                  <a:close/>
                  <a:moveTo>
                    <a:pt x="1079" y="221"/>
                  </a:moveTo>
                  <a:lnTo>
                    <a:pt x="1058" y="222"/>
                  </a:lnTo>
                  <a:lnTo>
                    <a:pt x="1038" y="223"/>
                  </a:lnTo>
                  <a:lnTo>
                    <a:pt x="1019" y="225"/>
                  </a:lnTo>
                  <a:lnTo>
                    <a:pt x="1001" y="227"/>
                  </a:lnTo>
                  <a:lnTo>
                    <a:pt x="984" y="231"/>
                  </a:lnTo>
                  <a:lnTo>
                    <a:pt x="968" y="235"/>
                  </a:lnTo>
                  <a:lnTo>
                    <a:pt x="953" y="239"/>
                  </a:lnTo>
                  <a:lnTo>
                    <a:pt x="939" y="245"/>
                  </a:lnTo>
                  <a:lnTo>
                    <a:pt x="926" y="252"/>
                  </a:lnTo>
                  <a:lnTo>
                    <a:pt x="913" y="258"/>
                  </a:lnTo>
                  <a:lnTo>
                    <a:pt x="902" y="266"/>
                  </a:lnTo>
                  <a:lnTo>
                    <a:pt x="892" y="275"/>
                  </a:lnTo>
                  <a:lnTo>
                    <a:pt x="884" y="284"/>
                  </a:lnTo>
                  <a:lnTo>
                    <a:pt x="876" y="295"/>
                  </a:lnTo>
                  <a:lnTo>
                    <a:pt x="868" y="305"/>
                  </a:lnTo>
                  <a:lnTo>
                    <a:pt x="863" y="317"/>
                  </a:lnTo>
                  <a:lnTo>
                    <a:pt x="848" y="351"/>
                  </a:lnTo>
                  <a:lnTo>
                    <a:pt x="834" y="386"/>
                  </a:lnTo>
                  <a:lnTo>
                    <a:pt x="822" y="425"/>
                  </a:lnTo>
                  <a:lnTo>
                    <a:pt x="811" y="466"/>
                  </a:lnTo>
                  <a:lnTo>
                    <a:pt x="800" y="509"/>
                  </a:lnTo>
                  <a:lnTo>
                    <a:pt x="791" y="554"/>
                  </a:lnTo>
                  <a:lnTo>
                    <a:pt x="782" y="601"/>
                  </a:lnTo>
                  <a:lnTo>
                    <a:pt x="775" y="651"/>
                  </a:lnTo>
                  <a:lnTo>
                    <a:pt x="769" y="703"/>
                  </a:lnTo>
                  <a:lnTo>
                    <a:pt x="763" y="757"/>
                  </a:lnTo>
                  <a:lnTo>
                    <a:pt x="760" y="813"/>
                  </a:lnTo>
                  <a:lnTo>
                    <a:pt x="757" y="872"/>
                  </a:lnTo>
                  <a:lnTo>
                    <a:pt x="754" y="932"/>
                  </a:lnTo>
                  <a:lnTo>
                    <a:pt x="754" y="995"/>
                  </a:lnTo>
                  <a:lnTo>
                    <a:pt x="754" y="1060"/>
                  </a:lnTo>
                  <a:lnTo>
                    <a:pt x="756" y="1128"/>
                  </a:lnTo>
                  <a:lnTo>
                    <a:pt x="756" y="1201"/>
                  </a:lnTo>
                  <a:lnTo>
                    <a:pt x="841" y="1197"/>
                  </a:lnTo>
                  <a:lnTo>
                    <a:pt x="926" y="1193"/>
                  </a:lnTo>
                  <a:lnTo>
                    <a:pt x="1011" y="1187"/>
                  </a:lnTo>
                  <a:lnTo>
                    <a:pt x="1094" y="1180"/>
                  </a:lnTo>
                  <a:lnTo>
                    <a:pt x="1178" y="1172"/>
                  </a:lnTo>
                  <a:lnTo>
                    <a:pt x="1262" y="1163"/>
                  </a:lnTo>
                  <a:lnTo>
                    <a:pt x="1346" y="1152"/>
                  </a:lnTo>
                  <a:lnTo>
                    <a:pt x="1430" y="1141"/>
                  </a:lnTo>
                  <a:lnTo>
                    <a:pt x="1513" y="1128"/>
                  </a:lnTo>
                  <a:lnTo>
                    <a:pt x="1596" y="1113"/>
                  </a:lnTo>
                  <a:lnTo>
                    <a:pt x="1679" y="1099"/>
                  </a:lnTo>
                  <a:lnTo>
                    <a:pt x="1760" y="1083"/>
                  </a:lnTo>
                  <a:lnTo>
                    <a:pt x="1843" y="1065"/>
                  </a:lnTo>
                  <a:lnTo>
                    <a:pt x="1925" y="1046"/>
                  </a:lnTo>
                  <a:lnTo>
                    <a:pt x="2006" y="1025"/>
                  </a:lnTo>
                  <a:lnTo>
                    <a:pt x="2088" y="1004"/>
                  </a:lnTo>
                  <a:lnTo>
                    <a:pt x="2178" y="979"/>
                  </a:lnTo>
                  <a:lnTo>
                    <a:pt x="2261" y="953"/>
                  </a:lnTo>
                  <a:lnTo>
                    <a:pt x="2301" y="941"/>
                  </a:lnTo>
                  <a:lnTo>
                    <a:pt x="2340" y="928"/>
                  </a:lnTo>
                  <a:lnTo>
                    <a:pt x="2376" y="915"/>
                  </a:lnTo>
                  <a:lnTo>
                    <a:pt x="2412" y="902"/>
                  </a:lnTo>
                  <a:lnTo>
                    <a:pt x="2446" y="888"/>
                  </a:lnTo>
                  <a:lnTo>
                    <a:pt x="2479" y="875"/>
                  </a:lnTo>
                  <a:lnTo>
                    <a:pt x="2510" y="862"/>
                  </a:lnTo>
                  <a:lnTo>
                    <a:pt x="2540" y="849"/>
                  </a:lnTo>
                  <a:lnTo>
                    <a:pt x="2567" y="834"/>
                  </a:lnTo>
                  <a:lnTo>
                    <a:pt x="2595" y="821"/>
                  </a:lnTo>
                  <a:lnTo>
                    <a:pt x="2619" y="808"/>
                  </a:lnTo>
                  <a:lnTo>
                    <a:pt x="2643" y="793"/>
                  </a:lnTo>
                  <a:lnTo>
                    <a:pt x="2665" y="779"/>
                  </a:lnTo>
                  <a:lnTo>
                    <a:pt x="2686" y="766"/>
                  </a:lnTo>
                  <a:lnTo>
                    <a:pt x="2706" y="751"/>
                  </a:lnTo>
                  <a:lnTo>
                    <a:pt x="2724" y="737"/>
                  </a:lnTo>
                  <a:lnTo>
                    <a:pt x="2742" y="723"/>
                  </a:lnTo>
                  <a:lnTo>
                    <a:pt x="2756" y="708"/>
                  </a:lnTo>
                  <a:lnTo>
                    <a:pt x="2770" y="694"/>
                  </a:lnTo>
                  <a:lnTo>
                    <a:pt x="2783" y="679"/>
                  </a:lnTo>
                  <a:lnTo>
                    <a:pt x="2794" y="664"/>
                  </a:lnTo>
                  <a:lnTo>
                    <a:pt x="2802" y="650"/>
                  </a:lnTo>
                  <a:lnTo>
                    <a:pt x="2810" y="635"/>
                  </a:lnTo>
                  <a:lnTo>
                    <a:pt x="2817" y="620"/>
                  </a:lnTo>
                  <a:lnTo>
                    <a:pt x="2822" y="605"/>
                  </a:lnTo>
                  <a:lnTo>
                    <a:pt x="2826" y="589"/>
                  </a:lnTo>
                  <a:lnTo>
                    <a:pt x="2828" y="574"/>
                  </a:lnTo>
                  <a:lnTo>
                    <a:pt x="2829" y="558"/>
                  </a:lnTo>
                  <a:lnTo>
                    <a:pt x="2828" y="545"/>
                  </a:lnTo>
                  <a:lnTo>
                    <a:pt x="2827" y="532"/>
                  </a:lnTo>
                  <a:lnTo>
                    <a:pt x="2823" y="519"/>
                  </a:lnTo>
                  <a:lnTo>
                    <a:pt x="2819" y="505"/>
                  </a:lnTo>
                  <a:lnTo>
                    <a:pt x="2813" y="492"/>
                  </a:lnTo>
                  <a:lnTo>
                    <a:pt x="2806" y="480"/>
                  </a:lnTo>
                  <a:lnTo>
                    <a:pt x="2798" y="468"/>
                  </a:lnTo>
                  <a:lnTo>
                    <a:pt x="2788" y="457"/>
                  </a:lnTo>
                  <a:lnTo>
                    <a:pt x="2778" y="445"/>
                  </a:lnTo>
                  <a:lnTo>
                    <a:pt x="2766" y="434"/>
                  </a:lnTo>
                  <a:lnTo>
                    <a:pt x="2753" y="423"/>
                  </a:lnTo>
                  <a:lnTo>
                    <a:pt x="2738" y="413"/>
                  </a:lnTo>
                  <a:lnTo>
                    <a:pt x="2722" y="402"/>
                  </a:lnTo>
                  <a:lnTo>
                    <a:pt x="2705" y="392"/>
                  </a:lnTo>
                  <a:lnTo>
                    <a:pt x="2686" y="382"/>
                  </a:lnTo>
                  <a:lnTo>
                    <a:pt x="2668" y="373"/>
                  </a:lnTo>
                  <a:lnTo>
                    <a:pt x="2647" y="363"/>
                  </a:lnTo>
                  <a:lnTo>
                    <a:pt x="2625" y="354"/>
                  </a:lnTo>
                  <a:lnTo>
                    <a:pt x="2601" y="346"/>
                  </a:lnTo>
                  <a:lnTo>
                    <a:pt x="2577" y="338"/>
                  </a:lnTo>
                  <a:lnTo>
                    <a:pt x="2551" y="330"/>
                  </a:lnTo>
                  <a:lnTo>
                    <a:pt x="2524" y="322"/>
                  </a:lnTo>
                  <a:lnTo>
                    <a:pt x="2495" y="314"/>
                  </a:lnTo>
                  <a:lnTo>
                    <a:pt x="2466" y="308"/>
                  </a:lnTo>
                  <a:lnTo>
                    <a:pt x="2403" y="294"/>
                  </a:lnTo>
                  <a:lnTo>
                    <a:pt x="2335" y="281"/>
                  </a:lnTo>
                  <a:lnTo>
                    <a:pt x="2263" y="270"/>
                  </a:lnTo>
                  <a:lnTo>
                    <a:pt x="2184" y="260"/>
                  </a:lnTo>
                  <a:lnTo>
                    <a:pt x="2139" y="256"/>
                  </a:lnTo>
                  <a:lnTo>
                    <a:pt x="2091" y="252"/>
                  </a:lnTo>
                  <a:lnTo>
                    <a:pt x="2040" y="247"/>
                  </a:lnTo>
                  <a:lnTo>
                    <a:pt x="1985" y="244"/>
                  </a:lnTo>
                  <a:lnTo>
                    <a:pt x="1866" y="236"/>
                  </a:lnTo>
                  <a:lnTo>
                    <a:pt x="1735" y="231"/>
                  </a:lnTo>
                  <a:lnTo>
                    <a:pt x="1590" y="227"/>
                  </a:lnTo>
                  <a:lnTo>
                    <a:pt x="1432" y="224"/>
                  </a:lnTo>
                  <a:lnTo>
                    <a:pt x="1262" y="222"/>
                  </a:lnTo>
                  <a:lnTo>
                    <a:pt x="1079" y="22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360600" y="1049040"/>
              <a:ext cx="1140120" cy="828360"/>
            </a:xfrm>
            <a:custGeom>
              <a:avLst/>
              <a:gdLst/>
              <a:ahLst/>
              <a:rect l="l" t="t" r="r" b="b"/>
              <a:pathLst>
                <a:path w="2869" h="2089">
                  <a:moveTo>
                    <a:pt x="82" y="175"/>
                  </a:moveTo>
                  <a:lnTo>
                    <a:pt x="81" y="168"/>
                  </a:lnTo>
                  <a:lnTo>
                    <a:pt x="79" y="159"/>
                  </a:lnTo>
                  <a:lnTo>
                    <a:pt x="76" y="150"/>
                  </a:lnTo>
                  <a:lnTo>
                    <a:pt x="71" y="140"/>
                  </a:lnTo>
                  <a:lnTo>
                    <a:pt x="66" y="130"/>
                  </a:lnTo>
                  <a:lnTo>
                    <a:pt x="58" y="120"/>
                  </a:lnTo>
                  <a:lnTo>
                    <a:pt x="50" y="109"/>
                  </a:lnTo>
                  <a:lnTo>
                    <a:pt x="40" y="98"/>
                  </a:lnTo>
                  <a:lnTo>
                    <a:pt x="32" y="87"/>
                  </a:lnTo>
                  <a:lnTo>
                    <a:pt x="23" y="77"/>
                  </a:lnTo>
                  <a:lnTo>
                    <a:pt x="16" y="68"/>
                  </a:lnTo>
                  <a:lnTo>
                    <a:pt x="10" y="60"/>
                  </a:lnTo>
                  <a:lnTo>
                    <a:pt x="5" y="54"/>
                  </a:lnTo>
                  <a:lnTo>
                    <a:pt x="2" y="48"/>
                  </a:lnTo>
                  <a:lnTo>
                    <a:pt x="1" y="44"/>
                  </a:lnTo>
                  <a:lnTo>
                    <a:pt x="0" y="41"/>
                  </a:lnTo>
                  <a:lnTo>
                    <a:pt x="1" y="35"/>
                  </a:lnTo>
                  <a:lnTo>
                    <a:pt x="3" y="31"/>
                  </a:lnTo>
                  <a:lnTo>
                    <a:pt x="6" y="26"/>
                  </a:lnTo>
                  <a:lnTo>
                    <a:pt x="11" y="22"/>
                  </a:lnTo>
                  <a:lnTo>
                    <a:pt x="17" y="19"/>
                  </a:lnTo>
                  <a:lnTo>
                    <a:pt x="25" y="15"/>
                  </a:lnTo>
                  <a:lnTo>
                    <a:pt x="34" y="12"/>
                  </a:lnTo>
                  <a:lnTo>
                    <a:pt x="45" y="10"/>
                  </a:lnTo>
                  <a:lnTo>
                    <a:pt x="69" y="5"/>
                  </a:lnTo>
                  <a:lnTo>
                    <a:pt x="100" y="2"/>
                  </a:lnTo>
                  <a:lnTo>
                    <a:pt x="137" y="0"/>
                  </a:lnTo>
                  <a:lnTo>
                    <a:pt x="178" y="0"/>
                  </a:lnTo>
                  <a:lnTo>
                    <a:pt x="333" y="0"/>
                  </a:lnTo>
                  <a:lnTo>
                    <a:pt x="479" y="0"/>
                  </a:lnTo>
                  <a:lnTo>
                    <a:pt x="617" y="0"/>
                  </a:lnTo>
                  <a:lnTo>
                    <a:pt x="747" y="1"/>
                  </a:lnTo>
                  <a:lnTo>
                    <a:pt x="867" y="2"/>
                  </a:lnTo>
                  <a:lnTo>
                    <a:pt x="981" y="2"/>
                  </a:lnTo>
                  <a:lnTo>
                    <a:pt x="1085" y="3"/>
                  </a:lnTo>
                  <a:lnTo>
                    <a:pt x="1182" y="5"/>
                  </a:lnTo>
                  <a:lnTo>
                    <a:pt x="1309" y="6"/>
                  </a:lnTo>
                  <a:lnTo>
                    <a:pt x="1448" y="9"/>
                  </a:lnTo>
                  <a:lnTo>
                    <a:pt x="1598" y="12"/>
                  </a:lnTo>
                  <a:lnTo>
                    <a:pt x="1761" y="15"/>
                  </a:lnTo>
                  <a:lnTo>
                    <a:pt x="1935" y="20"/>
                  </a:lnTo>
                  <a:lnTo>
                    <a:pt x="2120" y="24"/>
                  </a:lnTo>
                  <a:lnTo>
                    <a:pt x="2319" y="30"/>
                  </a:lnTo>
                  <a:lnTo>
                    <a:pt x="2528" y="36"/>
                  </a:lnTo>
                  <a:lnTo>
                    <a:pt x="2549" y="37"/>
                  </a:lnTo>
                  <a:lnTo>
                    <a:pt x="2568" y="39"/>
                  </a:lnTo>
                  <a:lnTo>
                    <a:pt x="2585" y="42"/>
                  </a:lnTo>
                  <a:lnTo>
                    <a:pt x="2602" y="44"/>
                  </a:lnTo>
                  <a:lnTo>
                    <a:pt x="2617" y="47"/>
                  </a:lnTo>
                  <a:lnTo>
                    <a:pt x="2632" y="51"/>
                  </a:lnTo>
                  <a:lnTo>
                    <a:pt x="2644" y="55"/>
                  </a:lnTo>
                  <a:lnTo>
                    <a:pt x="2655" y="59"/>
                  </a:lnTo>
                  <a:lnTo>
                    <a:pt x="2665" y="64"/>
                  </a:lnTo>
                  <a:lnTo>
                    <a:pt x="2674" y="69"/>
                  </a:lnTo>
                  <a:lnTo>
                    <a:pt x="2681" y="75"/>
                  </a:lnTo>
                  <a:lnTo>
                    <a:pt x="2687" y="80"/>
                  </a:lnTo>
                  <a:lnTo>
                    <a:pt x="2691" y="87"/>
                  </a:lnTo>
                  <a:lnTo>
                    <a:pt x="2695" y="94"/>
                  </a:lnTo>
                  <a:lnTo>
                    <a:pt x="2697" y="100"/>
                  </a:lnTo>
                  <a:lnTo>
                    <a:pt x="2698" y="108"/>
                  </a:lnTo>
                  <a:lnTo>
                    <a:pt x="2697" y="113"/>
                  </a:lnTo>
                  <a:lnTo>
                    <a:pt x="2695" y="120"/>
                  </a:lnTo>
                  <a:lnTo>
                    <a:pt x="2691" y="124"/>
                  </a:lnTo>
                  <a:lnTo>
                    <a:pt x="2687" y="130"/>
                  </a:lnTo>
                  <a:lnTo>
                    <a:pt x="2680" y="134"/>
                  </a:lnTo>
                  <a:lnTo>
                    <a:pt x="2672" y="139"/>
                  </a:lnTo>
                  <a:lnTo>
                    <a:pt x="2664" y="143"/>
                  </a:lnTo>
                  <a:lnTo>
                    <a:pt x="2654" y="147"/>
                  </a:lnTo>
                  <a:lnTo>
                    <a:pt x="2642" y="150"/>
                  </a:lnTo>
                  <a:lnTo>
                    <a:pt x="2628" y="153"/>
                  </a:lnTo>
                  <a:lnTo>
                    <a:pt x="2614" y="156"/>
                  </a:lnTo>
                  <a:lnTo>
                    <a:pt x="2598" y="159"/>
                  </a:lnTo>
                  <a:lnTo>
                    <a:pt x="2563" y="163"/>
                  </a:lnTo>
                  <a:lnTo>
                    <a:pt x="2522" y="166"/>
                  </a:lnTo>
                  <a:lnTo>
                    <a:pt x="2455" y="171"/>
                  </a:lnTo>
                  <a:lnTo>
                    <a:pt x="2382" y="174"/>
                  </a:lnTo>
                  <a:lnTo>
                    <a:pt x="2303" y="179"/>
                  </a:lnTo>
                  <a:lnTo>
                    <a:pt x="2216" y="182"/>
                  </a:lnTo>
                  <a:lnTo>
                    <a:pt x="2125" y="185"/>
                  </a:lnTo>
                  <a:lnTo>
                    <a:pt x="2027" y="188"/>
                  </a:lnTo>
                  <a:lnTo>
                    <a:pt x="1923" y="192"/>
                  </a:lnTo>
                  <a:lnTo>
                    <a:pt x="1811" y="194"/>
                  </a:lnTo>
                  <a:lnTo>
                    <a:pt x="1687" y="197"/>
                  </a:lnTo>
                  <a:lnTo>
                    <a:pt x="1572" y="200"/>
                  </a:lnTo>
                  <a:lnTo>
                    <a:pt x="1467" y="202"/>
                  </a:lnTo>
                  <a:lnTo>
                    <a:pt x="1372" y="205"/>
                  </a:lnTo>
                  <a:lnTo>
                    <a:pt x="1287" y="207"/>
                  </a:lnTo>
                  <a:lnTo>
                    <a:pt x="1212" y="209"/>
                  </a:lnTo>
                  <a:lnTo>
                    <a:pt x="1148" y="212"/>
                  </a:lnTo>
                  <a:lnTo>
                    <a:pt x="1094" y="215"/>
                  </a:lnTo>
                  <a:lnTo>
                    <a:pt x="1046" y="217"/>
                  </a:lnTo>
                  <a:lnTo>
                    <a:pt x="1005" y="222"/>
                  </a:lnTo>
                  <a:lnTo>
                    <a:pt x="988" y="225"/>
                  </a:lnTo>
                  <a:lnTo>
                    <a:pt x="970" y="227"/>
                  </a:lnTo>
                  <a:lnTo>
                    <a:pt x="955" y="230"/>
                  </a:lnTo>
                  <a:lnTo>
                    <a:pt x="940" y="234"/>
                  </a:lnTo>
                  <a:lnTo>
                    <a:pt x="928" y="238"/>
                  </a:lnTo>
                  <a:lnTo>
                    <a:pt x="917" y="243"/>
                  </a:lnTo>
                  <a:lnTo>
                    <a:pt x="907" y="247"/>
                  </a:lnTo>
                  <a:lnTo>
                    <a:pt x="898" y="251"/>
                  </a:lnTo>
                  <a:lnTo>
                    <a:pt x="891" y="256"/>
                  </a:lnTo>
                  <a:lnTo>
                    <a:pt x="885" y="261"/>
                  </a:lnTo>
                  <a:lnTo>
                    <a:pt x="881" y="267"/>
                  </a:lnTo>
                  <a:lnTo>
                    <a:pt x="878" y="273"/>
                  </a:lnTo>
                  <a:lnTo>
                    <a:pt x="876" y="280"/>
                  </a:lnTo>
                  <a:lnTo>
                    <a:pt x="874" y="296"/>
                  </a:lnTo>
                  <a:lnTo>
                    <a:pt x="871" y="321"/>
                  </a:lnTo>
                  <a:lnTo>
                    <a:pt x="866" y="355"/>
                  </a:lnTo>
                  <a:lnTo>
                    <a:pt x="862" y="399"/>
                  </a:lnTo>
                  <a:lnTo>
                    <a:pt x="855" y="452"/>
                  </a:lnTo>
                  <a:lnTo>
                    <a:pt x="849" y="515"/>
                  </a:lnTo>
                  <a:lnTo>
                    <a:pt x="841" y="588"/>
                  </a:lnTo>
                  <a:lnTo>
                    <a:pt x="771" y="1216"/>
                  </a:lnTo>
                  <a:lnTo>
                    <a:pt x="1960" y="1224"/>
                  </a:lnTo>
                  <a:lnTo>
                    <a:pt x="2002" y="1224"/>
                  </a:lnTo>
                  <a:lnTo>
                    <a:pt x="2048" y="1222"/>
                  </a:lnTo>
                  <a:lnTo>
                    <a:pt x="2098" y="1222"/>
                  </a:lnTo>
                  <a:lnTo>
                    <a:pt x="2154" y="1224"/>
                  </a:lnTo>
                  <a:lnTo>
                    <a:pt x="2212" y="1224"/>
                  </a:lnTo>
                  <a:lnTo>
                    <a:pt x="2275" y="1225"/>
                  </a:lnTo>
                  <a:lnTo>
                    <a:pt x="2343" y="1226"/>
                  </a:lnTo>
                  <a:lnTo>
                    <a:pt x="2415" y="1227"/>
                  </a:lnTo>
                  <a:lnTo>
                    <a:pt x="2446" y="1229"/>
                  </a:lnTo>
                  <a:lnTo>
                    <a:pt x="2474" y="1234"/>
                  </a:lnTo>
                  <a:lnTo>
                    <a:pt x="2486" y="1237"/>
                  </a:lnTo>
                  <a:lnTo>
                    <a:pt x="2497" y="1240"/>
                  </a:lnTo>
                  <a:lnTo>
                    <a:pt x="2507" y="1243"/>
                  </a:lnTo>
                  <a:lnTo>
                    <a:pt x="2516" y="1247"/>
                  </a:lnTo>
                  <a:lnTo>
                    <a:pt x="2523" y="1251"/>
                  </a:lnTo>
                  <a:lnTo>
                    <a:pt x="2530" y="1257"/>
                  </a:lnTo>
                  <a:lnTo>
                    <a:pt x="2536" y="1261"/>
                  </a:lnTo>
                  <a:lnTo>
                    <a:pt x="2541" y="1267"/>
                  </a:lnTo>
                  <a:lnTo>
                    <a:pt x="2544" y="1273"/>
                  </a:lnTo>
                  <a:lnTo>
                    <a:pt x="2547" y="1279"/>
                  </a:lnTo>
                  <a:lnTo>
                    <a:pt x="2549" y="1285"/>
                  </a:lnTo>
                  <a:lnTo>
                    <a:pt x="2549" y="1293"/>
                  </a:lnTo>
                  <a:lnTo>
                    <a:pt x="2549" y="1301"/>
                  </a:lnTo>
                  <a:lnTo>
                    <a:pt x="2547" y="1309"/>
                  </a:lnTo>
                  <a:lnTo>
                    <a:pt x="2544" y="1315"/>
                  </a:lnTo>
                  <a:lnTo>
                    <a:pt x="2540" y="1323"/>
                  </a:lnTo>
                  <a:lnTo>
                    <a:pt x="2536" y="1328"/>
                  </a:lnTo>
                  <a:lnTo>
                    <a:pt x="2529" y="1335"/>
                  </a:lnTo>
                  <a:lnTo>
                    <a:pt x="2522" y="1339"/>
                  </a:lnTo>
                  <a:lnTo>
                    <a:pt x="2513" y="1345"/>
                  </a:lnTo>
                  <a:lnTo>
                    <a:pt x="2505" y="1349"/>
                  </a:lnTo>
                  <a:lnTo>
                    <a:pt x="2494" y="1354"/>
                  </a:lnTo>
                  <a:lnTo>
                    <a:pt x="2483" y="1357"/>
                  </a:lnTo>
                  <a:lnTo>
                    <a:pt x="2469" y="1360"/>
                  </a:lnTo>
                  <a:lnTo>
                    <a:pt x="2456" y="1364"/>
                  </a:lnTo>
                  <a:lnTo>
                    <a:pt x="2441" y="1366"/>
                  </a:lnTo>
                  <a:lnTo>
                    <a:pt x="2425" y="1368"/>
                  </a:lnTo>
                  <a:lnTo>
                    <a:pt x="2409" y="1369"/>
                  </a:lnTo>
                  <a:lnTo>
                    <a:pt x="2363" y="1373"/>
                  </a:lnTo>
                  <a:lnTo>
                    <a:pt x="2288" y="1376"/>
                  </a:lnTo>
                  <a:lnTo>
                    <a:pt x="2182" y="1381"/>
                  </a:lnTo>
                  <a:lnTo>
                    <a:pt x="2046" y="1387"/>
                  </a:lnTo>
                  <a:lnTo>
                    <a:pt x="1879" y="1394"/>
                  </a:lnTo>
                  <a:lnTo>
                    <a:pt x="1681" y="1401"/>
                  </a:lnTo>
                  <a:lnTo>
                    <a:pt x="1454" y="1410"/>
                  </a:lnTo>
                  <a:lnTo>
                    <a:pt x="1194" y="1420"/>
                  </a:lnTo>
                  <a:lnTo>
                    <a:pt x="1157" y="1422"/>
                  </a:lnTo>
                  <a:lnTo>
                    <a:pt x="1115" y="1423"/>
                  </a:lnTo>
                  <a:lnTo>
                    <a:pt x="1068" y="1426"/>
                  </a:lnTo>
                  <a:lnTo>
                    <a:pt x="1018" y="1428"/>
                  </a:lnTo>
                  <a:lnTo>
                    <a:pt x="963" y="1430"/>
                  </a:lnTo>
                  <a:lnTo>
                    <a:pt x="904" y="1431"/>
                  </a:lnTo>
                  <a:lnTo>
                    <a:pt x="840" y="1434"/>
                  </a:lnTo>
                  <a:lnTo>
                    <a:pt x="771" y="1437"/>
                  </a:lnTo>
                  <a:lnTo>
                    <a:pt x="768" y="1486"/>
                  </a:lnTo>
                  <a:lnTo>
                    <a:pt x="765" y="1534"/>
                  </a:lnTo>
                  <a:lnTo>
                    <a:pt x="763" y="1579"/>
                  </a:lnTo>
                  <a:lnTo>
                    <a:pt x="760" y="1621"/>
                  </a:lnTo>
                  <a:lnTo>
                    <a:pt x="759" y="1662"/>
                  </a:lnTo>
                  <a:lnTo>
                    <a:pt x="758" y="1700"/>
                  </a:lnTo>
                  <a:lnTo>
                    <a:pt x="757" y="1737"/>
                  </a:lnTo>
                  <a:lnTo>
                    <a:pt x="757" y="1771"/>
                  </a:lnTo>
                  <a:lnTo>
                    <a:pt x="758" y="1782"/>
                  </a:lnTo>
                  <a:lnTo>
                    <a:pt x="760" y="1792"/>
                  </a:lnTo>
                  <a:lnTo>
                    <a:pt x="764" y="1801"/>
                  </a:lnTo>
                  <a:lnTo>
                    <a:pt x="769" y="1808"/>
                  </a:lnTo>
                  <a:lnTo>
                    <a:pt x="777" y="1816"/>
                  </a:lnTo>
                  <a:lnTo>
                    <a:pt x="786" y="1824"/>
                  </a:lnTo>
                  <a:lnTo>
                    <a:pt x="796" y="1829"/>
                  </a:lnTo>
                  <a:lnTo>
                    <a:pt x="807" y="1836"/>
                  </a:lnTo>
                  <a:lnTo>
                    <a:pt x="820" y="1840"/>
                  </a:lnTo>
                  <a:lnTo>
                    <a:pt x="835" y="1845"/>
                  </a:lnTo>
                  <a:lnTo>
                    <a:pt x="852" y="1848"/>
                  </a:lnTo>
                  <a:lnTo>
                    <a:pt x="870" y="1851"/>
                  </a:lnTo>
                  <a:lnTo>
                    <a:pt x="889" y="1854"/>
                  </a:lnTo>
                  <a:lnTo>
                    <a:pt x="910" y="1856"/>
                  </a:lnTo>
                  <a:lnTo>
                    <a:pt x="933" y="1857"/>
                  </a:lnTo>
                  <a:lnTo>
                    <a:pt x="957" y="1857"/>
                  </a:lnTo>
                  <a:lnTo>
                    <a:pt x="1031" y="1857"/>
                  </a:lnTo>
                  <a:lnTo>
                    <a:pt x="1114" y="1857"/>
                  </a:lnTo>
                  <a:lnTo>
                    <a:pt x="1205" y="1857"/>
                  </a:lnTo>
                  <a:lnTo>
                    <a:pt x="1306" y="1857"/>
                  </a:lnTo>
                  <a:lnTo>
                    <a:pt x="1415" y="1857"/>
                  </a:lnTo>
                  <a:lnTo>
                    <a:pt x="1534" y="1857"/>
                  </a:lnTo>
                  <a:lnTo>
                    <a:pt x="1661" y="1856"/>
                  </a:lnTo>
                  <a:lnTo>
                    <a:pt x="1797" y="1856"/>
                  </a:lnTo>
                  <a:lnTo>
                    <a:pt x="1932" y="1856"/>
                  </a:lnTo>
                  <a:lnTo>
                    <a:pt x="2059" y="1856"/>
                  </a:lnTo>
                  <a:lnTo>
                    <a:pt x="2177" y="1855"/>
                  </a:lnTo>
                  <a:lnTo>
                    <a:pt x="2286" y="1855"/>
                  </a:lnTo>
                  <a:lnTo>
                    <a:pt x="2386" y="1855"/>
                  </a:lnTo>
                  <a:lnTo>
                    <a:pt x="2478" y="1855"/>
                  </a:lnTo>
                  <a:lnTo>
                    <a:pt x="2561" y="1855"/>
                  </a:lnTo>
                  <a:lnTo>
                    <a:pt x="2635" y="1855"/>
                  </a:lnTo>
                  <a:lnTo>
                    <a:pt x="2690" y="1856"/>
                  </a:lnTo>
                  <a:lnTo>
                    <a:pt x="2738" y="1858"/>
                  </a:lnTo>
                  <a:lnTo>
                    <a:pt x="2759" y="1860"/>
                  </a:lnTo>
                  <a:lnTo>
                    <a:pt x="2777" y="1863"/>
                  </a:lnTo>
                  <a:lnTo>
                    <a:pt x="2795" y="1866"/>
                  </a:lnTo>
                  <a:lnTo>
                    <a:pt x="2810" y="1869"/>
                  </a:lnTo>
                  <a:lnTo>
                    <a:pt x="2825" y="1874"/>
                  </a:lnTo>
                  <a:lnTo>
                    <a:pt x="2836" y="1878"/>
                  </a:lnTo>
                  <a:lnTo>
                    <a:pt x="2846" y="1882"/>
                  </a:lnTo>
                  <a:lnTo>
                    <a:pt x="2855" y="1888"/>
                  </a:lnTo>
                  <a:lnTo>
                    <a:pt x="2861" y="1893"/>
                  </a:lnTo>
                  <a:lnTo>
                    <a:pt x="2866" y="1899"/>
                  </a:lnTo>
                  <a:lnTo>
                    <a:pt x="2868" y="1906"/>
                  </a:lnTo>
                  <a:lnTo>
                    <a:pt x="2869" y="1913"/>
                  </a:lnTo>
                  <a:lnTo>
                    <a:pt x="2868" y="1919"/>
                  </a:lnTo>
                  <a:lnTo>
                    <a:pt x="2866" y="1924"/>
                  </a:lnTo>
                  <a:lnTo>
                    <a:pt x="2862" y="1930"/>
                  </a:lnTo>
                  <a:lnTo>
                    <a:pt x="2858" y="1935"/>
                  </a:lnTo>
                  <a:lnTo>
                    <a:pt x="2851" y="1940"/>
                  </a:lnTo>
                  <a:lnTo>
                    <a:pt x="2844" y="1944"/>
                  </a:lnTo>
                  <a:lnTo>
                    <a:pt x="2834" y="1949"/>
                  </a:lnTo>
                  <a:lnTo>
                    <a:pt x="2823" y="1953"/>
                  </a:lnTo>
                  <a:lnTo>
                    <a:pt x="2810" y="1956"/>
                  </a:lnTo>
                  <a:lnTo>
                    <a:pt x="2797" y="1961"/>
                  </a:lnTo>
                  <a:lnTo>
                    <a:pt x="2782" y="1964"/>
                  </a:lnTo>
                  <a:lnTo>
                    <a:pt x="2765" y="1967"/>
                  </a:lnTo>
                  <a:lnTo>
                    <a:pt x="2727" y="1973"/>
                  </a:lnTo>
                  <a:lnTo>
                    <a:pt x="2683" y="1977"/>
                  </a:lnTo>
                  <a:lnTo>
                    <a:pt x="2591" y="1985"/>
                  </a:lnTo>
                  <a:lnTo>
                    <a:pt x="2485" y="1994"/>
                  </a:lnTo>
                  <a:lnTo>
                    <a:pt x="2366" y="2003"/>
                  </a:lnTo>
                  <a:lnTo>
                    <a:pt x="2234" y="2012"/>
                  </a:lnTo>
                  <a:lnTo>
                    <a:pt x="2088" y="2020"/>
                  </a:lnTo>
                  <a:lnTo>
                    <a:pt x="1931" y="2030"/>
                  </a:lnTo>
                  <a:lnTo>
                    <a:pt x="1758" y="2039"/>
                  </a:lnTo>
                  <a:lnTo>
                    <a:pt x="1574" y="2049"/>
                  </a:lnTo>
                  <a:lnTo>
                    <a:pt x="1386" y="2059"/>
                  </a:lnTo>
                  <a:lnTo>
                    <a:pt x="1212" y="2067"/>
                  </a:lnTo>
                  <a:lnTo>
                    <a:pt x="1052" y="2073"/>
                  </a:lnTo>
                  <a:lnTo>
                    <a:pt x="907" y="2079"/>
                  </a:lnTo>
                  <a:lnTo>
                    <a:pt x="777" y="2083"/>
                  </a:lnTo>
                  <a:lnTo>
                    <a:pt x="661" y="2087"/>
                  </a:lnTo>
                  <a:lnTo>
                    <a:pt x="558" y="2089"/>
                  </a:lnTo>
                  <a:lnTo>
                    <a:pt x="471" y="2089"/>
                  </a:lnTo>
                  <a:lnTo>
                    <a:pt x="417" y="2089"/>
                  </a:lnTo>
                  <a:lnTo>
                    <a:pt x="366" y="2087"/>
                  </a:lnTo>
                  <a:lnTo>
                    <a:pt x="319" y="2083"/>
                  </a:lnTo>
                  <a:lnTo>
                    <a:pt x="276" y="2079"/>
                  </a:lnTo>
                  <a:lnTo>
                    <a:pt x="236" y="2072"/>
                  </a:lnTo>
                  <a:lnTo>
                    <a:pt x="199" y="2066"/>
                  </a:lnTo>
                  <a:lnTo>
                    <a:pt x="182" y="2061"/>
                  </a:lnTo>
                  <a:lnTo>
                    <a:pt x="166" y="2057"/>
                  </a:lnTo>
                  <a:lnTo>
                    <a:pt x="151" y="2052"/>
                  </a:lnTo>
                  <a:lnTo>
                    <a:pt x="137" y="2048"/>
                  </a:lnTo>
                  <a:lnTo>
                    <a:pt x="123" y="2042"/>
                  </a:lnTo>
                  <a:lnTo>
                    <a:pt x="111" y="2037"/>
                  </a:lnTo>
                  <a:lnTo>
                    <a:pt x="100" y="2030"/>
                  </a:lnTo>
                  <a:lnTo>
                    <a:pt x="89" y="2024"/>
                  </a:lnTo>
                  <a:lnTo>
                    <a:pt x="79" y="2017"/>
                  </a:lnTo>
                  <a:lnTo>
                    <a:pt x="70" y="2010"/>
                  </a:lnTo>
                  <a:lnTo>
                    <a:pt x="63" y="2003"/>
                  </a:lnTo>
                  <a:lnTo>
                    <a:pt x="55" y="1996"/>
                  </a:lnTo>
                  <a:lnTo>
                    <a:pt x="49" y="1987"/>
                  </a:lnTo>
                  <a:lnTo>
                    <a:pt x="44" y="1979"/>
                  </a:lnTo>
                  <a:lnTo>
                    <a:pt x="39" y="1971"/>
                  </a:lnTo>
                  <a:lnTo>
                    <a:pt x="36" y="1962"/>
                  </a:lnTo>
                  <a:lnTo>
                    <a:pt x="33" y="1953"/>
                  </a:lnTo>
                  <a:lnTo>
                    <a:pt x="32" y="1943"/>
                  </a:lnTo>
                  <a:lnTo>
                    <a:pt x="31" y="1933"/>
                  </a:lnTo>
                  <a:lnTo>
                    <a:pt x="31" y="1923"/>
                  </a:lnTo>
                  <a:lnTo>
                    <a:pt x="31" y="1908"/>
                  </a:lnTo>
                  <a:lnTo>
                    <a:pt x="43" y="1668"/>
                  </a:lnTo>
                  <a:lnTo>
                    <a:pt x="53" y="1435"/>
                  </a:lnTo>
                  <a:lnTo>
                    <a:pt x="61" y="1209"/>
                  </a:lnTo>
                  <a:lnTo>
                    <a:pt x="69" y="990"/>
                  </a:lnTo>
                  <a:lnTo>
                    <a:pt x="75" y="777"/>
                  </a:lnTo>
                  <a:lnTo>
                    <a:pt x="79" y="569"/>
                  </a:lnTo>
                  <a:lnTo>
                    <a:pt x="81" y="369"/>
                  </a:lnTo>
                  <a:lnTo>
                    <a:pt x="82" y="17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878360" y="1052280"/>
              <a:ext cx="1549440" cy="822240"/>
            </a:xfrm>
            <a:custGeom>
              <a:avLst/>
              <a:gdLst/>
              <a:ahLst/>
              <a:rect l="l" t="t" r="r" b="b"/>
              <a:pathLst>
                <a:path w="3902" h="2074">
                  <a:moveTo>
                    <a:pt x="1684" y="0"/>
                  </a:moveTo>
                  <a:lnTo>
                    <a:pt x="1702" y="0"/>
                  </a:lnTo>
                  <a:lnTo>
                    <a:pt x="1721" y="2"/>
                  </a:lnTo>
                  <a:lnTo>
                    <a:pt x="1743" y="2"/>
                  </a:lnTo>
                  <a:lnTo>
                    <a:pt x="1766" y="3"/>
                  </a:lnTo>
                  <a:lnTo>
                    <a:pt x="1791" y="4"/>
                  </a:lnTo>
                  <a:lnTo>
                    <a:pt x="1818" y="6"/>
                  </a:lnTo>
                  <a:lnTo>
                    <a:pt x="1848" y="7"/>
                  </a:lnTo>
                  <a:lnTo>
                    <a:pt x="1879" y="9"/>
                  </a:lnTo>
                  <a:lnTo>
                    <a:pt x="1910" y="12"/>
                  </a:lnTo>
                  <a:lnTo>
                    <a:pt x="1939" y="14"/>
                  </a:lnTo>
                  <a:lnTo>
                    <a:pt x="1967" y="15"/>
                  </a:lnTo>
                  <a:lnTo>
                    <a:pt x="1992" y="16"/>
                  </a:lnTo>
                  <a:lnTo>
                    <a:pt x="2016" y="17"/>
                  </a:lnTo>
                  <a:lnTo>
                    <a:pt x="2038" y="18"/>
                  </a:lnTo>
                  <a:lnTo>
                    <a:pt x="2056" y="18"/>
                  </a:lnTo>
                  <a:lnTo>
                    <a:pt x="2074" y="18"/>
                  </a:lnTo>
                  <a:lnTo>
                    <a:pt x="2085" y="18"/>
                  </a:lnTo>
                  <a:lnTo>
                    <a:pt x="2097" y="18"/>
                  </a:lnTo>
                  <a:lnTo>
                    <a:pt x="2111" y="17"/>
                  </a:lnTo>
                  <a:lnTo>
                    <a:pt x="2125" y="17"/>
                  </a:lnTo>
                  <a:lnTo>
                    <a:pt x="2140" y="16"/>
                  </a:lnTo>
                  <a:lnTo>
                    <a:pt x="2158" y="15"/>
                  </a:lnTo>
                  <a:lnTo>
                    <a:pt x="2177" y="14"/>
                  </a:lnTo>
                  <a:lnTo>
                    <a:pt x="2197" y="13"/>
                  </a:lnTo>
                  <a:lnTo>
                    <a:pt x="2215" y="10"/>
                  </a:lnTo>
                  <a:lnTo>
                    <a:pt x="2234" y="9"/>
                  </a:lnTo>
                  <a:lnTo>
                    <a:pt x="2252" y="8"/>
                  </a:lnTo>
                  <a:lnTo>
                    <a:pt x="2268" y="8"/>
                  </a:lnTo>
                  <a:lnTo>
                    <a:pt x="2283" y="7"/>
                  </a:lnTo>
                  <a:lnTo>
                    <a:pt x="2297" y="7"/>
                  </a:lnTo>
                  <a:lnTo>
                    <a:pt x="2310" y="6"/>
                  </a:lnTo>
                  <a:lnTo>
                    <a:pt x="2323" y="6"/>
                  </a:lnTo>
                  <a:lnTo>
                    <a:pt x="2360" y="7"/>
                  </a:lnTo>
                  <a:lnTo>
                    <a:pt x="2395" y="7"/>
                  </a:lnTo>
                  <a:lnTo>
                    <a:pt x="2430" y="9"/>
                  </a:lnTo>
                  <a:lnTo>
                    <a:pt x="2461" y="12"/>
                  </a:lnTo>
                  <a:lnTo>
                    <a:pt x="2490" y="15"/>
                  </a:lnTo>
                  <a:lnTo>
                    <a:pt x="2517" y="18"/>
                  </a:lnTo>
                  <a:lnTo>
                    <a:pt x="2542" y="21"/>
                  </a:lnTo>
                  <a:lnTo>
                    <a:pt x="2564" y="27"/>
                  </a:lnTo>
                  <a:lnTo>
                    <a:pt x="2585" y="32"/>
                  </a:lnTo>
                  <a:lnTo>
                    <a:pt x="2603" y="38"/>
                  </a:lnTo>
                  <a:lnTo>
                    <a:pt x="2619" y="45"/>
                  </a:lnTo>
                  <a:lnTo>
                    <a:pt x="2633" y="52"/>
                  </a:lnTo>
                  <a:lnTo>
                    <a:pt x="2645" y="60"/>
                  </a:lnTo>
                  <a:lnTo>
                    <a:pt x="2654" y="69"/>
                  </a:lnTo>
                  <a:lnTo>
                    <a:pt x="2661" y="78"/>
                  </a:lnTo>
                  <a:lnTo>
                    <a:pt x="2667" y="88"/>
                  </a:lnTo>
                  <a:lnTo>
                    <a:pt x="2674" y="112"/>
                  </a:lnTo>
                  <a:lnTo>
                    <a:pt x="2681" y="140"/>
                  </a:lnTo>
                  <a:lnTo>
                    <a:pt x="2690" y="169"/>
                  </a:lnTo>
                  <a:lnTo>
                    <a:pt x="2701" y="202"/>
                  </a:lnTo>
                  <a:lnTo>
                    <a:pt x="2714" y="239"/>
                  </a:lnTo>
                  <a:lnTo>
                    <a:pt x="2728" y="277"/>
                  </a:lnTo>
                  <a:lnTo>
                    <a:pt x="2743" y="319"/>
                  </a:lnTo>
                  <a:lnTo>
                    <a:pt x="2760" y="365"/>
                  </a:lnTo>
                  <a:lnTo>
                    <a:pt x="2786" y="420"/>
                  </a:lnTo>
                  <a:lnTo>
                    <a:pt x="2813" y="475"/>
                  </a:lnTo>
                  <a:lnTo>
                    <a:pt x="2840" y="529"/>
                  </a:lnTo>
                  <a:lnTo>
                    <a:pt x="2869" y="583"/>
                  </a:lnTo>
                  <a:lnTo>
                    <a:pt x="2898" y="637"/>
                  </a:lnTo>
                  <a:lnTo>
                    <a:pt x="2928" y="690"/>
                  </a:lnTo>
                  <a:lnTo>
                    <a:pt x="2957" y="743"/>
                  </a:lnTo>
                  <a:lnTo>
                    <a:pt x="2988" y="796"/>
                  </a:lnTo>
                  <a:lnTo>
                    <a:pt x="3019" y="848"/>
                  </a:lnTo>
                  <a:lnTo>
                    <a:pt x="3050" y="900"/>
                  </a:lnTo>
                  <a:lnTo>
                    <a:pt x="3083" y="951"/>
                  </a:lnTo>
                  <a:lnTo>
                    <a:pt x="3115" y="1002"/>
                  </a:lnTo>
                  <a:lnTo>
                    <a:pt x="3149" y="1052"/>
                  </a:lnTo>
                  <a:lnTo>
                    <a:pt x="3183" y="1102"/>
                  </a:lnTo>
                  <a:lnTo>
                    <a:pt x="3218" y="1151"/>
                  </a:lnTo>
                  <a:lnTo>
                    <a:pt x="3253" y="1201"/>
                  </a:lnTo>
                  <a:lnTo>
                    <a:pt x="3289" y="1250"/>
                  </a:lnTo>
                  <a:lnTo>
                    <a:pt x="3325" y="1298"/>
                  </a:lnTo>
                  <a:lnTo>
                    <a:pt x="3361" y="1346"/>
                  </a:lnTo>
                  <a:lnTo>
                    <a:pt x="3399" y="1393"/>
                  </a:lnTo>
                  <a:lnTo>
                    <a:pt x="3436" y="1441"/>
                  </a:lnTo>
                  <a:lnTo>
                    <a:pt x="3475" y="1487"/>
                  </a:lnTo>
                  <a:lnTo>
                    <a:pt x="3515" y="1533"/>
                  </a:lnTo>
                  <a:lnTo>
                    <a:pt x="3555" y="1579"/>
                  </a:lnTo>
                  <a:lnTo>
                    <a:pt x="3594" y="1624"/>
                  </a:lnTo>
                  <a:lnTo>
                    <a:pt x="3635" y="1669"/>
                  </a:lnTo>
                  <a:lnTo>
                    <a:pt x="3677" y="1713"/>
                  </a:lnTo>
                  <a:lnTo>
                    <a:pt x="3719" y="1757"/>
                  </a:lnTo>
                  <a:lnTo>
                    <a:pt x="3762" y="1800"/>
                  </a:lnTo>
                  <a:lnTo>
                    <a:pt x="3805" y="1843"/>
                  </a:lnTo>
                  <a:lnTo>
                    <a:pt x="3848" y="1886"/>
                  </a:lnTo>
                  <a:lnTo>
                    <a:pt x="3894" y="1929"/>
                  </a:lnTo>
                  <a:lnTo>
                    <a:pt x="3896" y="1931"/>
                  </a:lnTo>
                  <a:lnTo>
                    <a:pt x="3897" y="1933"/>
                  </a:lnTo>
                  <a:lnTo>
                    <a:pt x="3899" y="1934"/>
                  </a:lnTo>
                  <a:lnTo>
                    <a:pt x="3900" y="1936"/>
                  </a:lnTo>
                  <a:lnTo>
                    <a:pt x="3901" y="1937"/>
                  </a:lnTo>
                  <a:lnTo>
                    <a:pt x="3902" y="1939"/>
                  </a:lnTo>
                  <a:lnTo>
                    <a:pt x="3902" y="1942"/>
                  </a:lnTo>
                  <a:lnTo>
                    <a:pt x="3902" y="1943"/>
                  </a:lnTo>
                  <a:lnTo>
                    <a:pt x="3901" y="1948"/>
                  </a:lnTo>
                  <a:lnTo>
                    <a:pt x="3899" y="1954"/>
                  </a:lnTo>
                  <a:lnTo>
                    <a:pt x="3894" y="1958"/>
                  </a:lnTo>
                  <a:lnTo>
                    <a:pt x="3887" y="1961"/>
                  </a:lnTo>
                  <a:lnTo>
                    <a:pt x="3877" y="1964"/>
                  </a:lnTo>
                  <a:lnTo>
                    <a:pt x="3866" y="1966"/>
                  </a:lnTo>
                  <a:lnTo>
                    <a:pt x="3853" y="1967"/>
                  </a:lnTo>
                  <a:lnTo>
                    <a:pt x="3838" y="1967"/>
                  </a:lnTo>
                  <a:lnTo>
                    <a:pt x="3831" y="1967"/>
                  </a:lnTo>
                  <a:lnTo>
                    <a:pt x="3822" y="1967"/>
                  </a:lnTo>
                  <a:lnTo>
                    <a:pt x="3813" y="1967"/>
                  </a:lnTo>
                  <a:lnTo>
                    <a:pt x="3803" y="1966"/>
                  </a:lnTo>
                  <a:lnTo>
                    <a:pt x="3792" y="1966"/>
                  </a:lnTo>
                  <a:lnTo>
                    <a:pt x="3781" y="1965"/>
                  </a:lnTo>
                  <a:lnTo>
                    <a:pt x="3768" y="1965"/>
                  </a:lnTo>
                  <a:lnTo>
                    <a:pt x="3754" y="1964"/>
                  </a:lnTo>
                  <a:lnTo>
                    <a:pt x="3741" y="1963"/>
                  </a:lnTo>
                  <a:lnTo>
                    <a:pt x="3729" y="1961"/>
                  </a:lnTo>
                  <a:lnTo>
                    <a:pt x="3717" y="1960"/>
                  </a:lnTo>
                  <a:lnTo>
                    <a:pt x="3706" y="1960"/>
                  </a:lnTo>
                  <a:lnTo>
                    <a:pt x="3696" y="1959"/>
                  </a:lnTo>
                  <a:lnTo>
                    <a:pt x="3686" y="1959"/>
                  </a:lnTo>
                  <a:lnTo>
                    <a:pt x="3677" y="1959"/>
                  </a:lnTo>
                  <a:lnTo>
                    <a:pt x="3668" y="1959"/>
                  </a:lnTo>
                  <a:lnTo>
                    <a:pt x="3595" y="1968"/>
                  </a:lnTo>
                  <a:lnTo>
                    <a:pt x="3527" y="1976"/>
                  </a:lnTo>
                  <a:lnTo>
                    <a:pt x="3466" y="1981"/>
                  </a:lnTo>
                  <a:lnTo>
                    <a:pt x="3411" y="1987"/>
                  </a:lnTo>
                  <a:lnTo>
                    <a:pt x="3362" y="1991"/>
                  </a:lnTo>
                  <a:lnTo>
                    <a:pt x="3319" y="1993"/>
                  </a:lnTo>
                  <a:lnTo>
                    <a:pt x="3283" y="1996"/>
                  </a:lnTo>
                  <a:lnTo>
                    <a:pt x="3252" y="1996"/>
                  </a:lnTo>
                  <a:lnTo>
                    <a:pt x="3206" y="1995"/>
                  </a:lnTo>
                  <a:lnTo>
                    <a:pt x="3164" y="1992"/>
                  </a:lnTo>
                  <a:lnTo>
                    <a:pt x="3145" y="1990"/>
                  </a:lnTo>
                  <a:lnTo>
                    <a:pt x="3126" y="1987"/>
                  </a:lnTo>
                  <a:lnTo>
                    <a:pt x="3110" y="1985"/>
                  </a:lnTo>
                  <a:lnTo>
                    <a:pt x="3095" y="1980"/>
                  </a:lnTo>
                  <a:lnTo>
                    <a:pt x="3081" y="1977"/>
                  </a:lnTo>
                  <a:lnTo>
                    <a:pt x="3068" y="1971"/>
                  </a:lnTo>
                  <a:lnTo>
                    <a:pt x="3057" y="1967"/>
                  </a:lnTo>
                  <a:lnTo>
                    <a:pt x="3046" y="1961"/>
                  </a:lnTo>
                  <a:lnTo>
                    <a:pt x="3037" y="1956"/>
                  </a:lnTo>
                  <a:lnTo>
                    <a:pt x="3029" y="1949"/>
                  </a:lnTo>
                  <a:lnTo>
                    <a:pt x="3022" y="1942"/>
                  </a:lnTo>
                  <a:lnTo>
                    <a:pt x="3017" y="1935"/>
                  </a:lnTo>
                  <a:lnTo>
                    <a:pt x="2978" y="1869"/>
                  </a:lnTo>
                  <a:lnTo>
                    <a:pt x="2940" y="1804"/>
                  </a:lnTo>
                  <a:lnTo>
                    <a:pt x="2901" y="1740"/>
                  </a:lnTo>
                  <a:lnTo>
                    <a:pt x="2860" y="1677"/>
                  </a:lnTo>
                  <a:lnTo>
                    <a:pt x="2820" y="1615"/>
                  </a:lnTo>
                  <a:lnTo>
                    <a:pt x="2778" y="1553"/>
                  </a:lnTo>
                  <a:lnTo>
                    <a:pt x="2737" y="1492"/>
                  </a:lnTo>
                  <a:lnTo>
                    <a:pt x="2693" y="1432"/>
                  </a:lnTo>
                  <a:lnTo>
                    <a:pt x="1051" y="1480"/>
                  </a:lnTo>
                  <a:lnTo>
                    <a:pt x="1030" y="1504"/>
                  </a:lnTo>
                  <a:lnTo>
                    <a:pt x="1008" y="1530"/>
                  </a:lnTo>
                  <a:lnTo>
                    <a:pt x="987" y="1556"/>
                  </a:lnTo>
                  <a:lnTo>
                    <a:pt x="965" y="1585"/>
                  </a:lnTo>
                  <a:lnTo>
                    <a:pt x="943" y="1614"/>
                  </a:lnTo>
                  <a:lnTo>
                    <a:pt x="920" y="1646"/>
                  </a:lnTo>
                  <a:lnTo>
                    <a:pt x="898" y="1678"/>
                  </a:lnTo>
                  <a:lnTo>
                    <a:pt x="876" y="1712"/>
                  </a:lnTo>
                  <a:lnTo>
                    <a:pt x="854" y="1746"/>
                  </a:lnTo>
                  <a:lnTo>
                    <a:pt x="831" y="1784"/>
                  </a:lnTo>
                  <a:lnTo>
                    <a:pt x="808" y="1821"/>
                  </a:lnTo>
                  <a:lnTo>
                    <a:pt x="786" y="1860"/>
                  </a:lnTo>
                  <a:lnTo>
                    <a:pt x="739" y="1943"/>
                  </a:lnTo>
                  <a:lnTo>
                    <a:pt x="692" y="2031"/>
                  </a:lnTo>
                  <a:lnTo>
                    <a:pt x="689" y="2037"/>
                  </a:lnTo>
                  <a:lnTo>
                    <a:pt x="685" y="2041"/>
                  </a:lnTo>
                  <a:lnTo>
                    <a:pt x="681" y="2045"/>
                  </a:lnTo>
                  <a:lnTo>
                    <a:pt x="675" y="2050"/>
                  </a:lnTo>
                  <a:lnTo>
                    <a:pt x="664" y="2057"/>
                  </a:lnTo>
                  <a:lnTo>
                    <a:pt x="651" y="2063"/>
                  </a:lnTo>
                  <a:lnTo>
                    <a:pt x="637" y="2067"/>
                  </a:lnTo>
                  <a:lnTo>
                    <a:pt x="619" y="2071"/>
                  </a:lnTo>
                  <a:lnTo>
                    <a:pt x="599" y="2073"/>
                  </a:lnTo>
                  <a:lnTo>
                    <a:pt x="578" y="2074"/>
                  </a:lnTo>
                  <a:lnTo>
                    <a:pt x="527" y="2073"/>
                  </a:lnTo>
                  <a:lnTo>
                    <a:pt x="481" y="2073"/>
                  </a:lnTo>
                  <a:lnTo>
                    <a:pt x="438" y="2071"/>
                  </a:lnTo>
                  <a:lnTo>
                    <a:pt x="400" y="2069"/>
                  </a:lnTo>
                  <a:lnTo>
                    <a:pt x="365" y="2066"/>
                  </a:lnTo>
                  <a:lnTo>
                    <a:pt x="334" y="2063"/>
                  </a:lnTo>
                  <a:lnTo>
                    <a:pt x="308" y="2060"/>
                  </a:lnTo>
                  <a:lnTo>
                    <a:pt x="286" y="2056"/>
                  </a:lnTo>
                  <a:lnTo>
                    <a:pt x="257" y="2048"/>
                  </a:lnTo>
                  <a:lnTo>
                    <a:pt x="229" y="2039"/>
                  </a:lnTo>
                  <a:lnTo>
                    <a:pt x="201" y="2030"/>
                  </a:lnTo>
                  <a:lnTo>
                    <a:pt x="173" y="2022"/>
                  </a:lnTo>
                  <a:lnTo>
                    <a:pt x="144" y="2013"/>
                  </a:lnTo>
                  <a:lnTo>
                    <a:pt x="117" y="2005"/>
                  </a:lnTo>
                  <a:lnTo>
                    <a:pt x="89" y="1996"/>
                  </a:lnTo>
                  <a:lnTo>
                    <a:pt x="62" y="1988"/>
                  </a:lnTo>
                  <a:lnTo>
                    <a:pt x="47" y="1982"/>
                  </a:lnTo>
                  <a:lnTo>
                    <a:pt x="35" y="1977"/>
                  </a:lnTo>
                  <a:lnTo>
                    <a:pt x="24" y="1970"/>
                  </a:lnTo>
                  <a:lnTo>
                    <a:pt x="15" y="1964"/>
                  </a:lnTo>
                  <a:lnTo>
                    <a:pt x="9" y="1955"/>
                  </a:lnTo>
                  <a:lnTo>
                    <a:pt x="3" y="1947"/>
                  </a:lnTo>
                  <a:lnTo>
                    <a:pt x="1" y="1938"/>
                  </a:lnTo>
                  <a:lnTo>
                    <a:pt x="0" y="1928"/>
                  </a:lnTo>
                  <a:lnTo>
                    <a:pt x="1" y="1921"/>
                  </a:lnTo>
                  <a:lnTo>
                    <a:pt x="6" y="1910"/>
                  </a:lnTo>
                  <a:lnTo>
                    <a:pt x="15" y="1895"/>
                  </a:lnTo>
                  <a:lnTo>
                    <a:pt x="27" y="1878"/>
                  </a:lnTo>
                  <a:lnTo>
                    <a:pt x="43" y="1857"/>
                  </a:lnTo>
                  <a:lnTo>
                    <a:pt x="62" y="1832"/>
                  </a:lnTo>
                  <a:lnTo>
                    <a:pt x="84" y="1805"/>
                  </a:lnTo>
                  <a:lnTo>
                    <a:pt x="110" y="1773"/>
                  </a:lnTo>
                  <a:lnTo>
                    <a:pt x="172" y="1701"/>
                  </a:lnTo>
                  <a:lnTo>
                    <a:pt x="248" y="1615"/>
                  </a:lnTo>
                  <a:lnTo>
                    <a:pt x="338" y="1516"/>
                  </a:lnTo>
                  <a:lnTo>
                    <a:pt x="440" y="1402"/>
                  </a:lnTo>
                  <a:lnTo>
                    <a:pt x="508" y="1330"/>
                  </a:lnTo>
                  <a:lnTo>
                    <a:pt x="575" y="1257"/>
                  </a:lnTo>
                  <a:lnTo>
                    <a:pt x="642" y="1186"/>
                  </a:lnTo>
                  <a:lnTo>
                    <a:pt x="710" y="1114"/>
                  </a:lnTo>
                  <a:lnTo>
                    <a:pt x="777" y="1041"/>
                  </a:lnTo>
                  <a:lnTo>
                    <a:pt x="843" y="969"/>
                  </a:lnTo>
                  <a:lnTo>
                    <a:pt x="910" y="897"/>
                  </a:lnTo>
                  <a:lnTo>
                    <a:pt x="978" y="825"/>
                  </a:lnTo>
                  <a:lnTo>
                    <a:pt x="1042" y="753"/>
                  </a:lnTo>
                  <a:lnTo>
                    <a:pt x="1099" y="689"/>
                  </a:lnTo>
                  <a:lnTo>
                    <a:pt x="1150" y="633"/>
                  </a:lnTo>
                  <a:lnTo>
                    <a:pt x="1194" y="583"/>
                  </a:lnTo>
                  <a:lnTo>
                    <a:pt x="1233" y="540"/>
                  </a:lnTo>
                  <a:lnTo>
                    <a:pt x="1265" y="505"/>
                  </a:lnTo>
                  <a:lnTo>
                    <a:pt x="1289" y="476"/>
                  </a:lnTo>
                  <a:lnTo>
                    <a:pt x="1308" y="454"/>
                  </a:lnTo>
                  <a:lnTo>
                    <a:pt x="1352" y="401"/>
                  </a:lnTo>
                  <a:lnTo>
                    <a:pt x="1393" y="349"/>
                  </a:lnTo>
                  <a:lnTo>
                    <a:pt x="1430" y="300"/>
                  </a:lnTo>
                  <a:lnTo>
                    <a:pt x="1465" y="252"/>
                  </a:lnTo>
                  <a:lnTo>
                    <a:pt x="1497" y="206"/>
                  </a:lnTo>
                  <a:lnTo>
                    <a:pt x="1525" y="161"/>
                  </a:lnTo>
                  <a:lnTo>
                    <a:pt x="1551" y="119"/>
                  </a:lnTo>
                  <a:lnTo>
                    <a:pt x="1574" y="77"/>
                  </a:lnTo>
                  <a:lnTo>
                    <a:pt x="1576" y="70"/>
                  </a:lnTo>
                  <a:lnTo>
                    <a:pt x="1577" y="64"/>
                  </a:lnTo>
                  <a:lnTo>
                    <a:pt x="1580" y="58"/>
                  </a:lnTo>
                  <a:lnTo>
                    <a:pt x="1582" y="51"/>
                  </a:lnTo>
                  <a:lnTo>
                    <a:pt x="1583" y="46"/>
                  </a:lnTo>
                  <a:lnTo>
                    <a:pt x="1585" y="39"/>
                  </a:lnTo>
                  <a:lnTo>
                    <a:pt x="1586" y="32"/>
                  </a:lnTo>
                  <a:lnTo>
                    <a:pt x="1588" y="27"/>
                  </a:lnTo>
                  <a:lnTo>
                    <a:pt x="1594" y="20"/>
                  </a:lnTo>
                  <a:lnTo>
                    <a:pt x="1602" y="16"/>
                  </a:lnTo>
                  <a:lnTo>
                    <a:pt x="1612" y="10"/>
                  </a:lnTo>
                  <a:lnTo>
                    <a:pt x="1623" y="7"/>
                  </a:lnTo>
                  <a:lnTo>
                    <a:pt x="1636" y="5"/>
                  </a:lnTo>
                  <a:lnTo>
                    <a:pt x="1650" y="3"/>
                  </a:lnTo>
                  <a:lnTo>
                    <a:pt x="1667" y="2"/>
                  </a:lnTo>
                  <a:lnTo>
                    <a:pt x="1684" y="0"/>
                  </a:lnTo>
                  <a:close/>
                  <a:moveTo>
                    <a:pt x="2586" y="1281"/>
                  </a:moveTo>
                  <a:lnTo>
                    <a:pt x="2045" y="400"/>
                  </a:lnTo>
                  <a:lnTo>
                    <a:pt x="1185" y="1315"/>
                  </a:lnTo>
                  <a:lnTo>
                    <a:pt x="2586" y="128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880320" y="1028520"/>
              <a:ext cx="1103040" cy="815760"/>
            </a:xfrm>
            <a:custGeom>
              <a:avLst/>
              <a:gdLst/>
              <a:ahLst/>
              <a:rect l="l" t="t" r="r" b="b"/>
              <a:pathLst>
                <a:path w="2781" h="2056">
                  <a:moveTo>
                    <a:pt x="117" y="476"/>
                  </a:moveTo>
                  <a:lnTo>
                    <a:pt x="117" y="397"/>
                  </a:lnTo>
                  <a:lnTo>
                    <a:pt x="116" y="328"/>
                  </a:lnTo>
                  <a:lnTo>
                    <a:pt x="115" y="266"/>
                  </a:lnTo>
                  <a:lnTo>
                    <a:pt x="114" y="213"/>
                  </a:lnTo>
                  <a:lnTo>
                    <a:pt x="111" y="169"/>
                  </a:lnTo>
                  <a:lnTo>
                    <a:pt x="109" y="134"/>
                  </a:lnTo>
                  <a:lnTo>
                    <a:pt x="107" y="106"/>
                  </a:lnTo>
                  <a:lnTo>
                    <a:pt x="104" y="86"/>
                  </a:lnTo>
                  <a:lnTo>
                    <a:pt x="104" y="84"/>
                  </a:lnTo>
                  <a:lnTo>
                    <a:pt x="103" y="81"/>
                  </a:lnTo>
                  <a:lnTo>
                    <a:pt x="101" y="78"/>
                  </a:lnTo>
                  <a:lnTo>
                    <a:pt x="99" y="75"/>
                  </a:lnTo>
                  <a:lnTo>
                    <a:pt x="97" y="71"/>
                  </a:lnTo>
                  <a:lnTo>
                    <a:pt x="94" y="67"/>
                  </a:lnTo>
                  <a:lnTo>
                    <a:pt x="90" y="63"/>
                  </a:lnTo>
                  <a:lnTo>
                    <a:pt x="86" y="59"/>
                  </a:lnTo>
                  <a:lnTo>
                    <a:pt x="83" y="54"/>
                  </a:lnTo>
                  <a:lnTo>
                    <a:pt x="78" y="50"/>
                  </a:lnTo>
                  <a:lnTo>
                    <a:pt x="76" y="46"/>
                  </a:lnTo>
                  <a:lnTo>
                    <a:pt x="74" y="43"/>
                  </a:lnTo>
                  <a:lnTo>
                    <a:pt x="72" y="41"/>
                  </a:lnTo>
                  <a:lnTo>
                    <a:pt x="71" y="39"/>
                  </a:lnTo>
                  <a:lnTo>
                    <a:pt x="69" y="38"/>
                  </a:lnTo>
                  <a:lnTo>
                    <a:pt x="69" y="35"/>
                  </a:lnTo>
                  <a:lnTo>
                    <a:pt x="71" y="31"/>
                  </a:lnTo>
                  <a:lnTo>
                    <a:pt x="72" y="28"/>
                  </a:lnTo>
                  <a:lnTo>
                    <a:pt x="74" y="23"/>
                  </a:lnTo>
                  <a:lnTo>
                    <a:pt x="76" y="20"/>
                  </a:lnTo>
                  <a:lnTo>
                    <a:pt x="80" y="17"/>
                  </a:lnTo>
                  <a:lnTo>
                    <a:pt x="85" y="14"/>
                  </a:lnTo>
                  <a:lnTo>
                    <a:pt x="90" y="11"/>
                  </a:lnTo>
                  <a:lnTo>
                    <a:pt x="96" y="9"/>
                  </a:lnTo>
                  <a:lnTo>
                    <a:pt x="111" y="6"/>
                  </a:lnTo>
                  <a:lnTo>
                    <a:pt x="129" y="2"/>
                  </a:lnTo>
                  <a:lnTo>
                    <a:pt x="151" y="1"/>
                  </a:lnTo>
                  <a:lnTo>
                    <a:pt x="175" y="0"/>
                  </a:lnTo>
                  <a:lnTo>
                    <a:pt x="181" y="0"/>
                  </a:lnTo>
                  <a:lnTo>
                    <a:pt x="188" y="1"/>
                  </a:lnTo>
                  <a:lnTo>
                    <a:pt x="195" y="1"/>
                  </a:lnTo>
                  <a:lnTo>
                    <a:pt x="204" y="1"/>
                  </a:lnTo>
                  <a:lnTo>
                    <a:pt x="213" y="2"/>
                  </a:lnTo>
                  <a:lnTo>
                    <a:pt x="223" y="3"/>
                  </a:lnTo>
                  <a:lnTo>
                    <a:pt x="234" y="3"/>
                  </a:lnTo>
                  <a:lnTo>
                    <a:pt x="245" y="5"/>
                  </a:lnTo>
                  <a:lnTo>
                    <a:pt x="256" y="6"/>
                  </a:lnTo>
                  <a:lnTo>
                    <a:pt x="267" y="7"/>
                  </a:lnTo>
                  <a:lnTo>
                    <a:pt x="278" y="7"/>
                  </a:lnTo>
                  <a:lnTo>
                    <a:pt x="287" y="8"/>
                  </a:lnTo>
                  <a:lnTo>
                    <a:pt x="296" y="8"/>
                  </a:lnTo>
                  <a:lnTo>
                    <a:pt x="303" y="8"/>
                  </a:lnTo>
                  <a:lnTo>
                    <a:pt x="311" y="8"/>
                  </a:lnTo>
                  <a:lnTo>
                    <a:pt x="318" y="9"/>
                  </a:lnTo>
                  <a:lnTo>
                    <a:pt x="337" y="8"/>
                  </a:lnTo>
                  <a:lnTo>
                    <a:pt x="356" y="8"/>
                  </a:lnTo>
                  <a:lnTo>
                    <a:pt x="379" y="8"/>
                  </a:lnTo>
                  <a:lnTo>
                    <a:pt x="404" y="8"/>
                  </a:lnTo>
                  <a:lnTo>
                    <a:pt x="430" y="7"/>
                  </a:lnTo>
                  <a:lnTo>
                    <a:pt x="459" y="7"/>
                  </a:lnTo>
                  <a:lnTo>
                    <a:pt x="490" y="6"/>
                  </a:lnTo>
                  <a:lnTo>
                    <a:pt x="522" y="5"/>
                  </a:lnTo>
                  <a:lnTo>
                    <a:pt x="555" y="3"/>
                  </a:lnTo>
                  <a:lnTo>
                    <a:pt x="586" y="3"/>
                  </a:lnTo>
                  <a:lnTo>
                    <a:pt x="615" y="2"/>
                  </a:lnTo>
                  <a:lnTo>
                    <a:pt x="640" y="1"/>
                  </a:lnTo>
                  <a:lnTo>
                    <a:pt x="664" y="1"/>
                  </a:lnTo>
                  <a:lnTo>
                    <a:pt x="687" y="1"/>
                  </a:lnTo>
                  <a:lnTo>
                    <a:pt x="706" y="0"/>
                  </a:lnTo>
                  <a:lnTo>
                    <a:pt x="724" y="0"/>
                  </a:lnTo>
                  <a:lnTo>
                    <a:pt x="822" y="1"/>
                  </a:lnTo>
                  <a:lnTo>
                    <a:pt x="918" y="2"/>
                  </a:lnTo>
                  <a:lnTo>
                    <a:pt x="1014" y="6"/>
                  </a:lnTo>
                  <a:lnTo>
                    <a:pt x="1107" y="9"/>
                  </a:lnTo>
                  <a:lnTo>
                    <a:pt x="1199" y="13"/>
                  </a:lnTo>
                  <a:lnTo>
                    <a:pt x="1288" y="19"/>
                  </a:lnTo>
                  <a:lnTo>
                    <a:pt x="1377" y="25"/>
                  </a:lnTo>
                  <a:lnTo>
                    <a:pt x="1463" y="33"/>
                  </a:lnTo>
                  <a:lnTo>
                    <a:pt x="1547" y="42"/>
                  </a:lnTo>
                  <a:lnTo>
                    <a:pt x="1629" y="51"/>
                  </a:lnTo>
                  <a:lnTo>
                    <a:pt x="1710" y="62"/>
                  </a:lnTo>
                  <a:lnTo>
                    <a:pt x="1789" y="73"/>
                  </a:lnTo>
                  <a:lnTo>
                    <a:pt x="1867" y="86"/>
                  </a:lnTo>
                  <a:lnTo>
                    <a:pt x="1942" y="99"/>
                  </a:lnTo>
                  <a:lnTo>
                    <a:pt x="2016" y="115"/>
                  </a:lnTo>
                  <a:lnTo>
                    <a:pt x="2088" y="130"/>
                  </a:lnTo>
                  <a:lnTo>
                    <a:pt x="2131" y="140"/>
                  </a:lnTo>
                  <a:lnTo>
                    <a:pt x="2171" y="150"/>
                  </a:lnTo>
                  <a:lnTo>
                    <a:pt x="2211" y="161"/>
                  </a:lnTo>
                  <a:lnTo>
                    <a:pt x="2250" y="171"/>
                  </a:lnTo>
                  <a:lnTo>
                    <a:pt x="2287" y="182"/>
                  </a:lnTo>
                  <a:lnTo>
                    <a:pt x="2323" y="194"/>
                  </a:lnTo>
                  <a:lnTo>
                    <a:pt x="2358" y="205"/>
                  </a:lnTo>
                  <a:lnTo>
                    <a:pt x="2391" y="218"/>
                  </a:lnTo>
                  <a:lnTo>
                    <a:pt x="2423" y="230"/>
                  </a:lnTo>
                  <a:lnTo>
                    <a:pt x="2453" y="242"/>
                  </a:lnTo>
                  <a:lnTo>
                    <a:pt x="2482" y="254"/>
                  </a:lnTo>
                  <a:lnTo>
                    <a:pt x="2510" y="267"/>
                  </a:lnTo>
                  <a:lnTo>
                    <a:pt x="2536" y="280"/>
                  </a:lnTo>
                  <a:lnTo>
                    <a:pt x="2561" y="294"/>
                  </a:lnTo>
                  <a:lnTo>
                    <a:pt x="2585" y="307"/>
                  </a:lnTo>
                  <a:lnTo>
                    <a:pt x="2608" y="321"/>
                  </a:lnTo>
                  <a:lnTo>
                    <a:pt x="2628" y="336"/>
                  </a:lnTo>
                  <a:lnTo>
                    <a:pt x="2648" y="350"/>
                  </a:lnTo>
                  <a:lnTo>
                    <a:pt x="2666" y="364"/>
                  </a:lnTo>
                  <a:lnTo>
                    <a:pt x="2683" y="380"/>
                  </a:lnTo>
                  <a:lnTo>
                    <a:pt x="2698" y="394"/>
                  </a:lnTo>
                  <a:lnTo>
                    <a:pt x="2712" y="410"/>
                  </a:lnTo>
                  <a:lnTo>
                    <a:pt x="2726" y="426"/>
                  </a:lnTo>
                  <a:lnTo>
                    <a:pt x="2737" y="442"/>
                  </a:lnTo>
                  <a:lnTo>
                    <a:pt x="2748" y="458"/>
                  </a:lnTo>
                  <a:lnTo>
                    <a:pt x="2755" y="475"/>
                  </a:lnTo>
                  <a:lnTo>
                    <a:pt x="2763" y="491"/>
                  </a:lnTo>
                  <a:lnTo>
                    <a:pt x="2770" y="508"/>
                  </a:lnTo>
                  <a:lnTo>
                    <a:pt x="2774" y="525"/>
                  </a:lnTo>
                  <a:lnTo>
                    <a:pt x="2778" y="543"/>
                  </a:lnTo>
                  <a:lnTo>
                    <a:pt x="2780" y="561"/>
                  </a:lnTo>
                  <a:lnTo>
                    <a:pt x="2781" y="578"/>
                  </a:lnTo>
                  <a:lnTo>
                    <a:pt x="2780" y="597"/>
                  </a:lnTo>
                  <a:lnTo>
                    <a:pt x="2778" y="616"/>
                  </a:lnTo>
                  <a:lnTo>
                    <a:pt x="2775" y="636"/>
                  </a:lnTo>
                  <a:lnTo>
                    <a:pt x="2771" y="653"/>
                  </a:lnTo>
                  <a:lnTo>
                    <a:pt x="2765" y="672"/>
                  </a:lnTo>
                  <a:lnTo>
                    <a:pt x="2759" y="691"/>
                  </a:lnTo>
                  <a:lnTo>
                    <a:pt x="2752" y="710"/>
                  </a:lnTo>
                  <a:lnTo>
                    <a:pt x="2743" y="727"/>
                  </a:lnTo>
                  <a:lnTo>
                    <a:pt x="2733" y="745"/>
                  </a:lnTo>
                  <a:lnTo>
                    <a:pt x="2721" y="764"/>
                  </a:lnTo>
                  <a:lnTo>
                    <a:pt x="2709" y="781"/>
                  </a:lnTo>
                  <a:lnTo>
                    <a:pt x="2696" y="799"/>
                  </a:lnTo>
                  <a:lnTo>
                    <a:pt x="2681" y="816"/>
                  </a:lnTo>
                  <a:lnTo>
                    <a:pt x="2666" y="833"/>
                  </a:lnTo>
                  <a:lnTo>
                    <a:pt x="2648" y="851"/>
                  </a:lnTo>
                  <a:lnTo>
                    <a:pt x="2631" y="867"/>
                  </a:lnTo>
                  <a:lnTo>
                    <a:pt x="2611" y="885"/>
                  </a:lnTo>
                  <a:lnTo>
                    <a:pt x="2591" y="902"/>
                  </a:lnTo>
                  <a:lnTo>
                    <a:pt x="2569" y="918"/>
                  </a:lnTo>
                  <a:lnTo>
                    <a:pt x="2546" y="935"/>
                  </a:lnTo>
                  <a:lnTo>
                    <a:pt x="2523" y="951"/>
                  </a:lnTo>
                  <a:lnTo>
                    <a:pt x="2497" y="968"/>
                  </a:lnTo>
                  <a:lnTo>
                    <a:pt x="2471" y="983"/>
                  </a:lnTo>
                  <a:lnTo>
                    <a:pt x="2443" y="1000"/>
                  </a:lnTo>
                  <a:lnTo>
                    <a:pt x="2414" y="1015"/>
                  </a:lnTo>
                  <a:lnTo>
                    <a:pt x="2385" y="1031"/>
                  </a:lnTo>
                  <a:lnTo>
                    <a:pt x="2354" y="1046"/>
                  </a:lnTo>
                  <a:lnTo>
                    <a:pt x="2322" y="1062"/>
                  </a:lnTo>
                  <a:lnTo>
                    <a:pt x="2287" y="1077"/>
                  </a:lnTo>
                  <a:lnTo>
                    <a:pt x="2253" y="1093"/>
                  </a:lnTo>
                  <a:lnTo>
                    <a:pt x="2218" y="1108"/>
                  </a:lnTo>
                  <a:lnTo>
                    <a:pt x="2180" y="1122"/>
                  </a:lnTo>
                  <a:lnTo>
                    <a:pt x="2143" y="1138"/>
                  </a:lnTo>
                  <a:lnTo>
                    <a:pt x="2105" y="1151"/>
                  </a:lnTo>
                  <a:lnTo>
                    <a:pt x="2067" y="1165"/>
                  </a:lnTo>
                  <a:lnTo>
                    <a:pt x="2028" y="1179"/>
                  </a:lnTo>
                  <a:lnTo>
                    <a:pt x="1950" y="1204"/>
                  </a:lnTo>
                  <a:lnTo>
                    <a:pt x="1870" y="1227"/>
                  </a:lnTo>
                  <a:lnTo>
                    <a:pt x="1788" y="1248"/>
                  </a:lnTo>
                  <a:lnTo>
                    <a:pt x="1707" y="1268"/>
                  </a:lnTo>
                  <a:lnTo>
                    <a:pt x="1623" y="1286"/>
                  </a:lnTo>
                  <a:lnTo>
                    <a:pt x="1538" y="1301"/>
                  </a:lnTo>
                  <a:lnTo>
                    <a:pt x="1452" y="1316"/>
                  </a:lnTo>
                  <a:lnTo>
                    <a:pt x="1363" y="1328"/>
                  </a:lnTo>
                  <a:lnTo>
                    <a:pt x="1275" y="1338"/>
                  </a:lnTo>
                  <a:lnTo>
                    <a:pt x="1184" y="1345"/>
                  </a:lnTo>
                  <a:lnTo>
                    <a:pt x="1093" y="1352"/>
                  </a:lnTo>
                  <a:lnTo>
                    <a:pt x="999" y="1357"/>
                  </a:lnTo>
                  <a:lnTo>
                    <a:pt x="905" y="1360"/>
                  </a:lnTo>
                  <a:lnTo>
                    <a:pt x="809" y="1361"/>
                  </a:lnTo>
                  <a:lnTo>
                    <a:pt x="806" y="1384"/>
                  </a:lnTo>
                  <a:lnTo>
                    <a:pt x="804" y="1406"/>
                  </a:lnTo>
                  <a:lnTo>
                    <a:pt x="800" y="1427"/>
                  </a:lnTo>
                  <a:lnTo>
                    <a:pt x="799" y="1447"/>
                  </a:lnTo>
                  <a:lnTo>
                    <a:pt x="797" y="1466"/>
                  </a:lnTo>
                  <a:lnTo>
                    <a:pt x="796" y="1483"/>
                  </a:lnTo>
                  <a:lnTo>
                    <a:pt x="796" y="1500"/>
                  </a:lnTo>
                  <a:lnTo>
                    <a:pt x="796" y="1516"/>
                  </a:lnTo>
                  <a:lnTo>
                    <a:pt x="796" y="1555"/>
                  </a:lnTo>
                  <a:lnTo>
                    <a:pt x="796" y="1593"/>
                  </a:lnTo>
                  <a:lnTo>
                    <a:pt x="798" y="1628"/>
                  </a:lnTo>
                  <a:lnTo>
                    <a:pt x="799" y="1663"/>
                  </a:lnTo>
                  <a:lnTo>
                    <a:pt x="801" y="1696"/>
                  </a:lnTo>
                  <a:lnTo>
                    <a:pt x="805" y="1728"/>
                  </a:lnTo>
                  <a:lnTo>
                    <a:pt x="808" y="1759"/>
                  </a:lnTo>
                  <a:lnTo>
                    <a:pt x="812" y="1788"/>
                  </a:lnTo>
                  <a:lnTo>
                    <a:pt x="817" y="1815"/>
                  </a:lnTo>
                  <a:lnTo>
                    <a:pt x="821" y="1842"/>
                  </a:lnTo>
                  <a:lnTo>
                    <a:pt x="827" y="1867"/>
                  </a:lnTo>
                  <a:lnTo>
                    <a:pt x="832" y="1890"/>
                  </a:lnTo>
                  <a:lnTo>
                    <a:pt x="839" y="1913"/>
                  </a:lnTo>
                  <a:lnTo>
                    <a:pt x="846" y="1933"/>
                  </a:lnTo>
                  <a:lnTo>
                    <a:pt x="853" y="1953"/>
                  </a:lnTo>
                  <a:lnTo>
                    <a:pt x="861" y="1971"/>
                  </a:lnTo>
                  <a:lnTo>
                    <a:pt x="867" y="1982"/>
                  </a:lnTo>
                  <a:lnTo>
                    <a:pt x="871" y="1991"/>
                  </a:lnTo>
                  <a:lnTo>
                    <a:pt x="874" y="1999"/>
                  </a:lnTo>
                  <a:lnTo>
                    <a:pt x="878" y="2004"/>
                  </a:lnTo>
                  <a:lnTo>
                    <a:pt x="880" y="2009"/>
                  </a:lnTo>
                  <a:lnTo>
                    <a:pt x="881" y="2011"/>
                  </a:lnTo>
                  <a:lnTo>
                    <a:pt x="882" y="2012"/>
                  </a:lnTo>
                  <a:lnTo>
                    <a:pt x="882" y="2011"/>
                  </a:lnTo>
                  <a:lnTo>
                    <a:pt x="882" y="2016"/>
                  </a:lnTo>
                  <a:lnTo>
                    <a:pt x="880" y="2021"/>
                  </a:lnTo>
                  <a:lnTo>
                    <a:pt x="878" y="2026"/>
                  </a:lnTo>
                  <a:lnTo>
                    <a:pt x="873" y="2031"/>
                  </a:lnTo>
                  <a:lnTo>
                    <a:pt x="868" y="2034"/>
                  </a:lnTo>
                  <a:lnTo>
                    <a:pt x="861" y="2038"/>
                  </a:lnTo>
                  <a:lnTo>
                    <a:pt x="853" y="2042"/>
                  </a:lnTo>
                  <a:lnTo>
                    <a:pt x="844" y="2045"/>
                  </a:lnTo>
                  <a:lnTo>
                    <a:pt x="834" y="2047"/>
                  </a:lnTo>
                  <a:lnTo>
                    <a:pt x="823" y="2049"/>
                  </a:lnTo>
                  <a:lnTo>
                    <a:pt x="810" y="2052"/>
                  </a:lnTo>
                  <a:lnTo>
                    <a:pt x="797" y="2053"/>
                  </a:lnTo>
                  <a:lnTo>
                    <a:pt x="766" y="2055"/>
                  </a:lnTo>
                  <a:lnTo>
                    <a:pt x="731" y="2056"/>
                  </a:lnTo>
                  <a:lnTo>
                    <a:pt x="720" y="2056"/>
                  </a:lnTo>
                  <a:lnTo>
                    <a:pt x="709" y="2055"/>
                  </a:lnTo>
                  <a:lnTo>
                    <a:pt x="698" y="2054"/>
                  </a:lnTo>
                  <a:lnTo>
                    <a:pt x="685" y="2053"/>
                  </a:lnTo>
                  <a:lnTo>
                    <a:pt x="672" y="2052"/>
                  </a:lnTo>
                  <a:lnTo>
                    <a:pt x="658" y="2050"/>
                  </a:lnTo>
                  <a:lnTo>
                    <a:pt x="645" y="2048"/>
                  </a:lnTo>
                  <a:lnTo>
                    <a:pt x="629" y="2045"/>
                  </a:lnTo>
                  <a:lnTo>
                    <a:pt x="615" y="2043"/>
                  </a:lnTo>
                  <a:lnTo>
                    <a:pt x="602" y="2041"/>
                  </a:lnTo>
                  <a:lnTo>
                    <a:pt x="588" y="2039"/>
                  </a:lnTo>
                  <a:lnTo>
                    <a:pt x="577" y="2037"/>
                  </a:lnTo>
                  <a:lnTo>
                    <a:pt x="566" y="2036"/>
                  </a:lnTo>
                  <a:lnTo>
                    <a:pt x="557" y="2036"/>
                  </a:lnTo>
                  <a:lnTo>
                    <a:pt x="549" y="2035"/>
                  </a:lnTo>
                  <a:lnTo>
                    <a:pt x="541" y="2035"/>
                  </a:lnTo>
                  <a:lnTo>
                    <a:pt x="535" y="2035"/>
                  </a:lnTo>
                  <a:lnTo>
                    <a:pt x="530" y="2035"/>
                  </a:lnTo>
                  <a:lnTo>
                    <a:pt x="523" y="2036"/>
                  </a:lnTo>
                  <a:lnTo>
                    <a:pt x="515" y="2036"/>
                  </a:lnTo>
                  <a:lnTo>
                    <a:pt x="508" y="2037"/>
                  </a:lnTo>
                  <a:lnTo>
                    <a:pt x="499" y="2037"/>
                  </a:lnTo>
                  <a:lnTo>
                    <a:pt x="489" y="2038"/>
                  </a:lnTo>
                  <a:lnTo>
                    <a:pt x="479" y="2039"/>
                  </a:lnTo>
                  <a:lnTo>
                    <a:pt x="469" y="2041"/>
                  </a:lnTo>
                  <a:lnTo>
                    <a:pt x="460" y="2042"/>
                  </a:lnTo>
                  <a:lnTo>
                    <a:pt x="451" y="2043"/>
                  </a:lnTo>
                  <a:lnTo>
                    <a:pt x="443" y="2044"/>
                  </a:lnTo>
                  <a:lnTo>
                    <a:pt x="436" y="2044"/>
                  </a:lnTo>
                  <a:lnTo>
                    <a:pt x="429" y="2044"/>
                  </a:lnTo>
                  <a:lnTo>
                    <a:pt x="423" y="2045"/>
                  </a:lnTo>
                  <a:lnTo>
                    <a:pt x="418" y="2045"/>
                  </a:lnTo>
                  <a:lnTo>
                    <a:pt x="396" y="2044"/>
                  </a:lnTo>
                  <a:lnTo>
                    <a:pt x="372" y="2043"/>
                  </a:lnTo>
                  <a:lnTo>
                    <a:pt x="344" y="2041"/>
                  </a:lnTo>
                  <a:lnTo>
                    <a:pt x="316" y="2037"/>
                  </a:lnTo>
                  <a:lnTo>
                    <a:pt x="285" y="2033"/>
                  </a:lnTo>
                  <a:lnTo>
                    <a:pt x="250" y="2027"/>
                  </a:lnTo>
                  <a:lnTo>
                    <a:pt x="214" y="2021"/>
                  </a:lnTo>
                  <a:lnTo>
                    <a:pt x="175" y="2013"/>
                  </a:lnTo>
                  <a:lnTo>
                    <a:pt x="135" y="2005"/>
                  </a:lnTo>
                  <a:lnTo>
                    <a:pt x="99" y="1996"/>
                  </a:lnTo>
                  <a:lnTo>
                    <a:pt x="69" y="1989"/>
                  </a:lnTo>
                  <a:lnTo>
                    <a:pt x="44" y="1981"/>
                  </a:lnTo>
                  <a:lnTo>
                    <a:pt x="25" y="1973"/>
                  </a:lnTo>
                  <a:lnTo>
                    <a:pt x="11" y="1965"/>
                  </a:lnTo>
                  <a:lnTo>
                    <a:pt x="6" y="1961"/>
                  </a:lnTo>
                  <a:lnTo>
                    <a:pt x="3" y="1958"/>
                  </a:lnTo>
                  <a:lnTo>
                    <a:pt x="1" y="1954"/>
                  </a:lnTo>
                  <a:lnTo>
                    <a:pt x="0" y="1951"/>
                  </a:lnTo>
                  <a:lnTo>
                    <a:pt x="1" y="1948"/>
                  </a:lnTo>
                  <a:lnTo>
                    <a:pt x="1" y="1946"/>
                  </a:lnTo>
                  <a:lnTo>
                    <a:pt x="2" y="1942"/>
                  </a:lnTo>
                  <a:lnTo>
                    <a:pt x="4" y="1939"/>
                  </a:lnTo>
                  <a:lnTo>
                    <a:pt x="6" y="1936"/>
                  </a:lnTo>
                  <a:lnTo>
                    <a:pt x="9" y="1931"/>
                  </a:lnTo>
                  <a:lnTo>
                    <a:pt x="12" y="1927"/>
                  </a:lnTo>
                  <a:lnTo>
                    <a:pt x="15" y="1922"/>
                  </a:lnTo>
                  <a:lnTo>
                    <a:pt x="20" y="1918"/>
                  </a:lnTo>
                  <a:lnTo>
                    <a:pt x="23" y="1915"/>
                  </a:lnTo>
                  <a:lnTo>
                    <a:pt x="25" y="1910"/>
                  </a:lnTo>
                  <a:lnTo>
                    <a:pt x="29" y="1907"/>
                  </a:lnTo>
                  <a:lnTo>
                    <a:pt x="31" y="1904"/>
                  </a:lnTo>
                  <a:lnTo>
                    <a:pt x="32" y="1901"/>
                  </a:lnTo>
                  <a:lnTo>
                    <a:pt x="33" y="1898"/>
                  </a:lnTo>
                  <a:lnTo>
                    <a:pt x="34" y="1896"/>
                  </a:lnTo>
                  <a:lnTo>
                    <a:pt x="39" y="1876"/>
                  </a:lnTo>
                  <a:lnTo>
                    <a:pt x="42" y="1850"/>
                  </a:lnTo>
                  <a:lnTo>
                    <a:pt x="45" y="1819"/>
                  </a:lnTo>
                  <a:lnTo>
                    <a:pt x="50" y="1781"/>
                  </a:lnTo>
                  <a:lnTo>
                    <a:pt x="57" y="1691"/>
                  </a:lnTo>
                  <a:lnTo>
                    <a:pt x="65" y="1578"/>
                  </a:lnTo>
                  <a:lnTo>
                    <a:pt x="74" y="1444"/>
                  </a:lnTo>
                  <a:lnTo>
                    <a:pt x="84" y="1286"/>
                  </a:lnTo>
                  <a:lnTo>
                    <a:pt x="93" y="1107"/>
                  </a:lnTo>
                  <a:lnTo>
                    <a:pt x="103" y="906"/>
                  </a:lnTo>
                  <a:lnTo>
                    <a:pt x="106" y="841"/>
                  </a:lnTo>
                  <a:lnTo>
                    <a:pt x="109" y="778"/>
                  </a:lnTo>
                  <a:lnTo>
                    <a:pt x="111" y="720"/>
                  </a:lnTo>
                  <a:lnTo>
                    <a:pt x="114" y="664"/>
                  </a:lnTo>
                  <a:lnTo>
                    <a:pt x="115" y="613"/>
                  </a:lnTo>
                  <a:lnTo>
                    <a:pt x="116" y="563"/>
                  </a:lnTo>
                  <a:lnTo>
                    <a:pt x="117" y="518"/>
                  </a:lnTo>
                  <a:lnTo>
                    <a:pt x="117" y="476"/>
                  </a:lnTo>
                  <a:close/>
                  <a:moveTo>
                    <a:pt x="1382" y="212"/>
                  </a:moveTo>
                  <a:lnTo>
                    <a:pt x="1335" y="212"/>
                  </a:lnTo>
                  <a:lnTo>
                    <a:pt x="1289" y="212"/>
                  </a:lnTo>
                  <a:lnTo>
                    <a:pt x="1245" y="213"/>
                  </a:lnTo>
                  <a:lnTo>
                    <a:pt x="1204" y="213"/>
                  </a:lnTo>
                  <a:lnTo>
                    <a:pt x="1165" y="214"/>
                  </a:lnTo>
                  <a:lnTo>
                    <a:pt x="1127" y="215"/>
                  </a:lnTo>
                  <a:lnTo>
                    <a:pt x="1092" y="216"/>
                  </a:lnTo>
                  <a:lnTo>
                    <a:pt x="1058" y="219"/>
                  </a:lnTo>
                  <a:lnTo>
                    <a:pt x="1023" y="221"/>
                  </a:lnTo>
                  <a:lnTo>
                    <a:pt x="993" y="222"/>
                  </a:lnTo>
                  <a:lnTo>
                    <a:pt x="966" y="225"/>
                  </a:lnTo>
                  <a:lnTo>
                    <a:pt x="942" y="227"/>
                  </a:lnTo>
                  <a:lnTo>
                    <a:pt x="920" y="231"/>
                  </a:lnTo>
                  <a:lnTo>
                    <a:pt x="902" y="235"/>
                  </a:lnTo>
                  <a:lnTo>
                    <a:pt x="887" y="238"/>
                  </a:lnTo>
                  <a:lnTo>
                    <a:pt x="875" y="243"/>
                  </a:lnTo>
                  <a:lnTo>
                    <a:pt x="865" y="247"/>
                  </a:lnTo>
                  <a:lnTo>
                    <a:pt x="857" y="254"/>
                  </a:lnTo>
                  <a:lnTo>
                    <a:pt x="849" y="262"/>
                  </a:lnTo>
                  <a:lnTo>
                    <a:pt x="842" y="270"/>
                  </a:lnTo>
                  <a:lnTo>
                    <a:pt x="836" y="280"/>
                  </a:lnTo>
                  <a:lnTo>
                    <a:pt x="831" y="291"/>
                  </a:lnTo>
                  <a:lnTo>
                    <a:pt x="827" y="304"/>
                  </a:lnTo>
                  <a:lnTo>
                    <a:pt x="823" y="317"/>
                  </a:lnTo>
                  <a:lnTo>
                    <a:pt x="812" y="412"/>
                  </a:lnTo>
                  <a:lnTo>
                    <a:pt x="802" y="510"/>
                  </a:lnTo>
                  <a:lnTo>
                    <a:pt x="795" y="610"/>
                  </a:lnTo>
                  <a:lnTo>
                    <a:pt x="787" y="715"/>
                  </a:lnTo>
                  <a:lnTo>
                    <a:pt x="783" y="822"/>
                  </a:lnTo>
                  <a:lnTo>
                    <a:pt x="778" y="933"/>
                  </a:lnTo>
                  <a:lnTo>
                    <a:pt x="776" y="1046"/>
                  </a:lnTo>
                  <a:lnTo>
                    <a:pt x="775" y="1162"/>
                  </a:lnTo>
                  <a:lnTo>
                    <a:pt x="776" y="1168"/>
                  </a:lnTo>
                  <a:lnTo>
                    <a:pt x="777" y="1173"/>
                  </a:lnTo>
                  <a:lnTo>
                    <a:pt x="779" y="1179"/>
                  </a:lnTo>
                  <a:lnTo>
                    <a:pt x="782" y="1183"/>
                  </a:lnTo>
                  <a:lnTo>
                    <a:pt x="786" y="1188"/>
                  </a:lnTo>
                  <a:lnTo>
                    <a:pt x="790" y="1191"/>
                  </a:lnTo>
                  <a:lnTo>
                    <a:pt x="796" y="1194"/>
                  </a:lnTo>
                  <a:lnTo>
                    <a:pt x="802" y="1197"/>
                  </a:lnTo>
                  <a:lnTo>
                    <a:pt x="809" y="1201"/>
                  </a:lnTo>
                  <a:lnTo>
                    <a:pt x="817" y="1203"/>
                  </a:lnTo>
                  <a:lnTo>
                    <a:pt x="826" y="1205"/>
                  </a:lnTo>
                  <a:lnTo>
                    <a:pt x="836" y="1206"/>
                  </a:lnTo>
                  <a:lnTo>
                    <a:pt x="858" y="1208"/>
                  </a:lnTo>
                  <a:lnTo>
                    <a:pt x="882" y="1210"/>
                  </a:lnTo>
                  <a:lnTo>
                    <a:pt x="926" y="1208"/>
                  </a:lnTo>
                  <a:lnTo>
                    <a:pt x="971" y="1206"/>
                  </a:lnTo>
                  <a:lnTo>
                    <a:pt x="1020" y="1201"/>
                  </a:lnTo>
                  <a:lnTo>
                    <a:pt x="1070" y="1194"/>
                  </a:lnTo>
                  <a:lnTo>
                    <a:pt x="1123" y="1186"/>
                  </a:lnTo>
                  <a:lnTo>
                    <a:pt x="1178" y="1175"/>
                  </a:lnTo>
                  <a:lnTo>
                    <a:pt x="1235" y="1163"/>
                  </a:lnTo>
                  <a:lnTo>
                    <a:pt x="1295" y="1150"/>
                  </a:lnTo>
                  <a:lnTo>
                    <a:pt x="1342" y="1138"/>
                  </a:lnTo>
                  <a:lnTo>
                    <a:pt x="1390" y="1125"/>
                  </a:lnTo>
                  <a:lnTo>
                    <a:pt x="1435" y="1111"/>
                  </a:lnTo>
                  <a:lnTo>
                    <a:pt x="1479" y="1098"/>
                  </a:lnTo>
                  <a:lnTo>
                    <a:pt x="1522" y="1084"/>
                  </a:lnTo>
                  <a:lnTo>
                    <a:pt x="1565" y="1069"/>
                  </a:lnTo>
                  <a:lnTo>
                    <a:pt x="1606" y="1054"/>
                  </a:lnTo>
                  <a:lnTo>
                    <a:pt x="1646" y="1039"/>
                  </a:lnTo>
                  <a:lnTo>
                    <a:pt x="1685" y="1023"/>
                  </a:lnTo>
                  <a:lnTo>
                    <a:pt x="1722" y="1007"/>
                  </a:lnTo>
                  <a:lnTo>
                    <a:pt x="1760" y="989"/>
                  </a:lnTo>
                  <a:lnTo>
                    <a:pt x="1795" y="971"/>
                  </a:lnTo>
                  <a:lnTo>
                    <a:pt x="1829" y="954"/>
                  </a:lnTo>
                  <a:lnTo>
                    <a:pt x="1862" y="935"/>
                  </a:lnTo>
                  <a:lnTo>
                    <a:pt x="1894" y="916"/>
                  </a:lnTo>
                  <a:lnTo>
                    <a:pt x="1925" y="896"/>
                  </a:lnTo>
                  <a:lnTo>
                    <a:pt x="1955" y="876"/>
                  </a:lnTo>
                  <a:lnTo>
                    <a:pt x="1984" y="855"/>
                  </a:lnTo>
                  <a:lnTo>
                    <a:pt x="2010" y="834"/>
                  </a:lnTo>
                  <a:lnTo>
                    <a:pt x="2035" y="813"/>
                  </a:lnTo>
                  <a:lnTo>
                    <a:pt x="2058" y="792"/>
                  </a:lnTo>
                  <a:lnTo>
                    <a:pt x="2079" y="773"/>
                  </a:lnTo>
                  <a:lnTo>
                    <a:pt x="2097" y="752"/>
                  </a:lnTo>
                  <a:lnTo>
                    <a:pt x="2115" y="730"/>
                  </a:lnTo>
                  <a:lnTo>
                    <a:pt x="2131" y="709"/>
                  </a:lnTo>
                  <a:lnTo>
                    <a:pt x="2144" y="688"/>
                  </a:lnTo>
                  <a:lnTo>
                    <a:pt x="2156" y="667"/>
                  </a:lnTo>
                  <a:lnTo>
                    <a:pt x="2166" y="646"/>
                  </a:lnTo>
                  <a:lnTo>
                    <a:pt x="2174" y="624"/>
                  </a:lnTo>
                  <a:lnTo>
                    <a:pt x="2180" y="603"/>
                  </a:lnTo>
                  <a:lnTo>
                    <a:pt x="2185" y="581"/>
                  </a:lnTo>
                  <a:lnTo>
                    <a:pt x="2188" y="560"/>
                  </a:lnTo>
                  <a:lnTo>
                    <a:pt x="2188" y="533"/>
                  </a:lnTo>
                  <a:lnTo>
                    <a:pt x="2188" y="513"/>
                  </a:lnTo>
                  <a:lnTo>
                    <a:pt x="2187" y="494"/>
                  </a:lnTo>
                  <a:lnTo>
                    <a:pt x="2184" y="476"/>
                  </a:lnTo>
                  <a:lnTo>
                    <a:pt x="2179" y="458"/>
                  </a:lnTo>
                  <a:lnTo>
                    <a:pt x="2174" y="440"/>
                  </a:lnTo>
                  <a:lnTo>
                    <a:pt x="2166" y="424"/>
                  </a:lnTo>
                  <a:lnTo>
                    <a:pt x="2156" y="408"/>
                  </a:lnTo>
                  <a:lnTo>
                    <a:pt x="2145" y="393"/>
                  </a:lnTo>
                  <a:lnTo>
                    <a:pt x="2133" y="378"/>
                  </a:lnTo>
                  <a:lnTo>
                    <a:pt x="2117" y="363"/>
                  </a:lnTo>
                  <a:lnTo>
                    <a:pt x="2102" y="350"/>
                  </a:lnTo>
                  <a:lnTo>
                    <a:pt x="2084" y="338"/>
                  </a:lnTo>
                  <a:lnTo>
                    <a:pt x="2064" y="325"/>
                  </a:lnTo>
                  <a:lnTo>
                    <a:pt x="2043" y="314"/>
                  </a:lnTo>
                  <a:lnTo>
                    <a:pt x="2021" y="302"/>
                  </a:lnTo>
                  <a:lnTo>
                    <a:pt x="1997" y="293"/>
                  </a:lnTo>
                  <a:lnTo>
                    <a:pt x="1971" y="283"/>
                  </a:lnTo>
                  <a:lnTo>
                    <a:pt x="1943" y="273"/>
                  </a:lnTo>
                  <a:lnTo>
                    <a:pt x="1913" y="265"/>
                  </a:lnTo>
                  <a:lnTo>
                    <a:pt x="1882" y="257"/>
                  </a:lnTo>
                  <a:lnTo>
                    <a:pt x="1850" y="250"/>
                  </a:lnTo>
                  <a:lnTo>
                    <a:pt x="1816" y="243"/>
                  </a:lnTo>
                  <a:lnTo>
                    <a:pt x="1780" y="237"/>
                  </a:lnTo>
                  <a:lnTo>
                    <a:pt x="1742" y="232"/>
                  </a:lnTo>
                  <a:lnTo>
                    <a:pt x="1703" y="227"/>
                  </a:lnTo>
                  <a:lnTo>
                    <a:pt x="1662" y="223"/>
                  </a:lnTo>
                  <a:lnTo>
                    <a:pt x="1619" y="220"/>
                  </a:lnTo>
                  <a:lnTo>
                    <a:pt x="1575" y="216"/>
                  </a:lnTo>
                  <a:lnTo>
                    <a:pt x="1530" y="214"/>
                  </a:lnTo>
                  <a:lnTo>
                    <a:pt x="1483" y="213"/>
                  </a:lnTo>
                  <a:lnTo>
                    <a:pt x="1433" y="212"/>
                  </a:lnTo>
                  <a:lnTo>
                    <a:pt x="1382" y="21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962440" y="1373040"/>
              <a:ext cx="172800" cy="172800"/>
            </a:xfrm>
            <a:custGeom>
              <a:avLst/>
              <a:gdLst/>
              <a:ahLst/>
              <a:rect l="l" t="t" r="r" b="b"/>
              <a:pathLst>
                <a:path w="438" h="438">
                  <a:moveTo>
                    <a:pt x="218" y="0"/>
                  </a:moveTo>
                  <a:lnTo>
                    <a:pt x="231" y="0"/>
                  </a:lnTo>
                  <a:lnTo>
                    <a:pt x="242" y="1"/>
                  </a:lnTo>
                  <a:lnTo>
                    <a:pt x="253" y="3"/>
                  </a:lnTo>
                  <a:lnTo>
                    <a:pt x="263" y="5"/>
                  </a:lnTo>
                  <a:lnTo>
                    <a:pt x="285" y="10"/>
                  </a:lnTo>
                  <a:lnTo>
                    <a:pt x="305" y="17"/>
                  </a:lnTo>
                  <a:lnTo>
                    <a:pt x="323" y="27"/>
                  </a:lnTo>
                  <a:lnTo>
                    <a:pt x="342" y="38"/>
                  </a:lnTo>
                  <a:lnTo>
                    <a:pt x="359" y="50"/>
                  </a:lnTo>
                  <a:lnTo>
                    <a:pt x="374" y="64"/>
                  </a:lnTo>
                  <a:lnTo>
                    <a:pt x="388" y="80"/>
                  </a:lnTo>
                  <a:lnTo>
                    <a:pt x="401" y="96"/>
                  </a:lnTo>
                  <a:lnTo>
                    <a:pt x="412" y="115"/>
                  </a:lnTo>
                  <a:lnTo>
                    <a:pt x="422" y="134"/>
                  </a:lnTo>
                  <a:lnTo>
                    <a:pt x="428" y="155"/>
                  </a:lnTo>
                  <a:lnTo>
                    <a:pt x="434" y="176"/>
                  </a:lnTo>
                  <a:lnTo>
                    <a:pt x="436" y="186"/>
                  </a:lnTo>
                  <a:lnTo>
                    <a:pt x="437" y="197"/>
                  </a:lnTo>
                  <a:lnTo>
                    <a:pt x="438" y="208"/>
                  </a:lnTo>
                  <a:lnTo>
                    <a:pt x="438" y="220"/>
                  </a:lnTo>
                  <a:lnTo>
                    <a:pt x="438" y="231"/>
                  </a:lnTo>
                  <a:lnTo>
                    <a:pt x="437" y="242"/>
                  </a:lnTo>
                  <a:lnTo>
                    <a:pt x="436" y="253"/>
                  </a:lnTo>
                  <a:lnTo>
                    <a:pt x="434" y="264"/>
                  </a:lnTo>
                  <a:lnTo>
                    <a:pt x="428" y="285"/>
                  </a:lnTo>
                  <a:lnTo>
                    <a:pt x="422" y="305"/>
                  </a:lnTo>
                  <a:lnTo>
                    <a:pt x="412" y="324"/>
                  </a:lnTo>
                  <a:lnTo>
                    <a:pt x="401" y="342"/>
                  </a:lnTo>
                  <a:lnTo>
                    <a:pt x="388" y="359"/>
                  </a:lnTo>
                  <a:lnTo>
                    <a:pt x="374" y="374"/>
                  </a:lnTo>
                  <a:lnTo>
                    <a:pt x="359" y="389"/>
                  </a:lnTo>
                  <a:lnTo>
                    <a:pt x="342" y="401"/>
                  </a:lnTo>
                  <a:lnTo>
                    <a:pt x="323" y="412"/>
                  </a:lnTo>
                  <a:lnTo>
                    <a:pt x="305" y="422"/>
                  </a:lnTo>
                  <a:lnTo>
                    <a:pt x="285" y="429"/>
                  </a:lnTo>
                  <a:lnTo>
                    <a:pt x="263" y="434"/>
                  </a:lnTo>
                  <a:lnTo>
                    <a:pt x="253" y="436"/>
                  </a:lnTo>
                  <a:lnTo>
                    <a:pt x="242" y="437"/>
                  </a:lnTo>
                  <a:lnTo>
                    <a:pt x="231" y="438"/>
                  </a:lnTo>
                  <a:lnTo>
                    <a:pt x="218" y="438"/>
                  </a:lnTo>
                  <a:lnTo>
                    <a:pt x="207" y="438"/>
                  </a:lnTo>
                  <a:lnTo>
                    <a:pt x="196" y="437"/>
                  </a:lnTo>
                  <a:lnTo>
                    <a:pt x="185" y="436"/>
                  </a:lnTo>
                  <a:lnTo>
                    <a:pt x="174" y="434"/>
                  </a:lnTo>
                  <a:lnTo>
                    <a:pt x="153" y="429"/>
                  </a:lnTo>
                  <a:lnTo>
                    <a:pt x="133" y="422"/>
                  </a:lnTo>
                  <a:lnTo>
                    <a:pt x="115" y="412"/>
                  </a:lnTo>
                  <a:lnTo>
                    <a:pt x="96" y="401"/>
                  </a:lnTo>
                  <a:lnTo>
                    <a:pt x="79" y="389"/>
                  </a:lnTo>
                  <a:lnTo>
                    <a:pt x="64" y="374"/>
                  </a:lnTo>
                  <a:lnTo>
                    <a:pt x="49" y="359"/>
                  </a:lnTo>
                  <a:lnTo>
                    <a:pt x="37" y="342"/>
                  </a:lnTo>
                  <a:lnTo>
                    <a:pt x="26" y="324"/>
                  </a:lnTo>
                  <a:lnTo>
                    <a:pt x="16" y="305"/>
                  </a:lnTo>
                  <a:lnTo>
                    <a:pt x="10" y="285"/>
                  </a:lnTo>
                  <a:lnTo>
                    <a:pt x="4" y="264"/>
                  </a:lnTo>
                  <a:lnTo>
                    <a:pt x="2" y="253"/>
                  </a:lnTo>
                  <a:lnTo>
                    <a:pt x="1" y="242"/>
                  </a:lnTo>
                  <a:lnTo>
                    <a:pt x="0" y="231"/>
                  </a:lnTo>
                  <a:lnTo>
                    <a:pt x="0" y="220"/>
                  </a:lnTo>
                  <a:lnTo>
                    <a:pt x="0" y="208"/>
                  </a:lnTo>
                  <a:lnTo>
                    <a:pt x="1" y="197"/>
                  </a:lnTo>
                  <a:lnTo>
                    <a:pt x="2" y="186"/>
                  </a:lnTo>
                  <a:lnTo>
                    <a:pt x="4" y="176"/>
                  </a:lnTo>
                  <a:lnTo>
                    <a:pt x="10" y="155"/>
                  </a:lnTo>
                  <a:lnTo>
                    <a:pt x="16" y="134"/>
                  </a:lnTo>
                  <a:lnTo>
                    <a:pt x="26" y="115"/>
                  </a:lnTo>
                  <a:lnTo>
                    <a:pt x="37" y="96"/>
                  </a:lnTo>
                  <a:lnTo>
                    <a:pt x="49" y="80"/>
                  </a:lnTo>
                  <a:lnTo>
                    <a:pt x="64" y="64"/>
                  </a:lnTo>
                  <a:lnTo>
                    <a:pt x="79" y="50"/>
                  </a:lnTo>
                  <a:lnTo>
                    <a:pt x="96" y="38"/>
                  </a:lnTo>
                  <a:lnTo>
                    <a:pt x="115" y="27"/>
                  </a:lnTo>
                  <a:lnTo>
                    <a:pt x="133" y="17"/>
                  </a:lnTo>
                  <a:lnTo>
                    <a:pt x="153" y="10"/>
                  </a:lnTo>
                  <a:lnTo>
                    <a:pt x="174" y="5"/>
                  </a:lnTo>
                  <a:lnTo>
                    <a:pt x="185" y="3"/>
                  </a:lnTo>
                  <a:lnTo>
                    <a:pt x="196" y="1"/>
                  </a:lnTo>
                  <a:lnTo>
                    <a:pt x="207" y="0"/>
                  </a:lnTo>
                  <a:lnTo>
                    <a:pt x="218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3000" y="1373040"/>
              <a:ext cx="173160" cy="172800"/>
            </a:xfrm>
            <a:custGeom>
              <a:avLst/>
              <a:gdLst/>
              <a:ahLst/>
              <a:rect l="l" t="t" r="r" b="b"/>
              <a:pathLst>
                <a:path w="439" h="438">
                  <a:moveTo>
                    <a:pt x="220" y="0"/>
                  </a:moveTo>
                  <a:lnTo>
                    <a:pt x="231" y="0"/>
                  </a:lnTo>
                  <a:lnTo>
                    <a:pt x="242" y="1"/>
                  </a:lnTo>
                  <a:lnTo>
                    <a:pt x="253" y="3"/>
                  </a:lnTo>
                  <a:lnTo>
                    <a:pt x="264" y="5"/>
                  </a:lnTo>
                  <a:lnTo>
                    <a:pt x="285" y="10"/>
                  </a:lnTo>
                  <a:lnTo>
                    <a:pt x="305" y="17"/>
                  </a:lnTo>
                  <a:lnTo>
                    <a:pt x="325" y="27"/>
                  </a:lnTo>
                  <a:lnTo>
                    <a:pt x="342" y="38"/>
                  </a:lnTo>
                  <a:lnTo>
                    <a:pt x="360" y="50"/>
                  </a:lnTo>
                  <a:lnTo>
                    <a:pt x="375" y="64"/>
                  </a:lnTo>
                  <a:lnTo>
                    <a:pt x="390" y="80"/>
                  </a:lnTo>
                  <a:lnTo>
                    <a:pt x="402" y="96"/>
                  </a:lnTo>
                  <a:lnTo>
                    <a:pt x="413" y="115"/>
                  </a:lnTo>
                  <a:lnTo>
                    <a:pt x="422" y="134"/>
                  </a:lnTo>
                  <a:lnTo>
                    <a:pt x="429" y="155"/>
                  </a:lnTo>
                  <a:lnTo>
                    <a:pt x="435" y="176"/>
                  </a:lnTo>
                  <a:lnTo>
                    <a:pt x="437" y="186"/>
                  </a:lnTo>
                  <a:lnTo>
                    <a:pt x="438" y="197"/>
                  </a:lnTo>
                  <a:lnTo>
                    <a:pt x="439" y="208"/>
                  </a:lnTo>
                  <a:lnTo>
                    <a:pt x="439" y="220"/>
                  </a:lnTo>
                  <a:lnTo>
                    <a:pt x="439" y="231"/>
                  </a:lnTo>
                  <a:lnTo>
                    <a:pt x="438" y="242"/>
                  </a:lnTo>
                  <a:lnTo>
                    <a:pt x="437" y="253"/>
                  </a:lnTo>
                  <a:lnTo>
                    <a:pt x="435" y="264"/>
                  </a:lnTo>
                  <a:lnTo>
                    <a:pt x="429" y="285"/>
                  </a:lnTo>
                  <a:lnTo>
                    <a:pt x="422" y="305"/>
                  </a:lnTo>
                  <a:lnTo>
                    <a:pt x="413" y="324"/>
                  </a:lnTo>
                  <a:lnTo>
                    <a:pt x="402" y="342"/>
                  </a:lnTo>
                  <a:lnTo>
                    <a:pt x="390" y="359"/>
                  </a:lnTo>
                  <a:lnTo>
                    <a:pt x="375" y="374"/>
                  </a:lnTo>
                  <a:lnTo>
                    <a:pt x="360" y="389"/>
                  </a:lnTo>
                  <a:lnTo>
                    <a:pt x="342" y="401"/>
                  </a:lnTo>
                  <a:lnTo>
                    <a:pt x="325" y="412"/>
                  </a:lnTo>
                  <a:lnTo>
                    <a:pt x="305" y="422"/>
                  </a:lnTo>
                  <a:lnTo>
                    <a:pt x="285" y="429"/>
                  </a:lnTo>
                  <a:lnTo>
                    <a:pt x="264" y="434"/>
                  </a:lnTo>
                  <a:lnTo>
                    <a:pt x="253" y="436"/>
                  </a:lnTo>
                  <a:lnTo>
                    <a:pt x="242" y="437"/>
                  </a:lnTo>
                  <a:lnTo>
                    <a:pt x="231" y="438"/>
                  </a:lnTo>
                  <a:lnTo>
                    <a:pt x="220" y="438"/>
                  </a:lnTo>
                  <a:lnTo>
                    <a:pt x="209" y="438"/>
                  </a:lnTo>
                  <a:lnTo>
                    <a:pt x="198" y="437"/>
                  </a:lnTo>
                  <a:lnTo>
                    <a:pt x="187" y="436"/>
                  </a:lnTo>
                  <a:lnTo>
                    <a:pt x="176" y="434"/>
                  </a:lnTo>
                  <a:lnTo>
                    <a:pt x="155" y="429"/>
                  </a:lnTo>
                  <a:lnTo>
                    <a:pt x="135" y="422"/>
                  </a:lnTo>
                  <a:lnTo>
                    <a:pt x="116" y="412"/>
                  </a:lnTo>
                  <a:lnTo>
                    <a:pt x="97" y="401"/>
                  </a:lnTo>
                  <a:lnTo>
                    <a:pt x="81" y="389"/>
                  </a:lnTo>
                  <a:lnTo>
                    <a:pt x="65" y="374"/>
                  </a:lnTo>
                  <a:lnTo>
                    <a:pt x="51" y="359"/>
                  </a:lnTo>
                  <a:lnTo>
                    <a:pt x="38" y="342"/>
                  </a:lnTo>
                  <a:lnTo>
                    <a:pt x="27" y="324"/>
                  </a:lnTo>
                  <a:lnTo>
                    <a:pt x="18" y="305"/>
                  </a:lnTo>
                  <a:lnTo>
                    <a:pt x="10" y="285"/>
                  </a:lnTo>
                  <a:lnTo>
                    <a:pt x="4" y="264"/>
                  </a:lnTo>
                  <a:lnTo>
                    <a:pt x="3" y="253"/>
                  </a:lnTo>
                  <a:lnTo>
                    <a:pt x="1" y="242"/>
                  </a:lnTo>
                  <a:lnTo>
                    <a:pt x="1" y="231"/>
                  </a:lnTo>
                  <a:lnTo>
                    <a:pt x="0" y="220"/>
                  </a:lnTo>
                  <a:lnTo>
                    <a:pt x="1" y="208"/>
                  </a:lnTo>
                  <a:lnTo>
                    <a:pt x="1" y="197"/>
                  </a:lnTo>
                  <a:lnTo>
                    <a:pt x="3" y="186"/>
                  </a:lnTo>
                  <a:lnTo>
                    <a:pt x="4" y="176"/>
                  </a:lnTo>
                  <a:lnTo>
                    <a:pt x="10" y="155"/>
                  </a:lnTo>
                  <a:lnTo>
                    <a:pt x="18" y="134"/>
                  </a:lnTo>
                  <a:lnTo>
                    <a:pt x="27" y="115"/>
                  </a:lnTo>
                  <a:lnTo>
                    <a:pt x="38" y="96"/>
                  </a:lnTo>
                  <a:lnTo>
                    <a:pt x="51" y="80"/>
                  </a:lnTo>
                  <a:lnTo>
                    <a:pt x="65" y="64"/>
                  </a:lnTo>
                  <a:lnTo>
                    <a:pt x="81" y="50"/>
                  </a:lnTo>
                  <a:lnTo>
                    <a:pt x="97" y="38"/>
                  </a:lnTo>
                  <a:lnTo>
                    <a:pt x="116" y="27"/>
                  </a:lnTo>
                  <a:lnTo>
                    <a:pt x="135" y="17"/>
                  </a:lnTo>
                  <a:lnTo>
                    <a:pt x="155" y="10"/>
                  </a:lnTo>
                  <a:lnTo>
                    <a:pt x="176" y="5"/>
                  </a:lnTo>
                  <a:lnTo>
                    <a:pt x="187" y="3"/>
                  </a:lnTo>
                  <a:lnTo>
                    <a:pt x="198" y="1"/>
                  </a:lnTo>
                  <a:lnTo>
                    <a:pt x="209" y="0"/>
                  </a:lnTo>
                  <a:lnTo>
                    <a:pt x="22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454800" y="1373040"/>
              <a:ext cx="174600" cy="172800"/>
            </a:xfrm>
            <a:custGeom>
              <a:avLst/>
              <a:gdLst/>
              <a:ahLst/>
              <a:rect l="l" t="t" r="r" b="b"/>
              <a:pathLst>
                <a:path w="439" h="438">
                  <a:moveTo>
                    <a:pt x="219" y="0"/>
                  </a:moveTo>
                  <a:lnTo>
                    <a:pt x="231" y="0"/>
                  </a:lnTo>
                  <a:lnTo>
                    <a:pt x="242" y="1"/>
                  </a:lnTo>
                  <a:lnTo>
                    <a:pt x="253" y="3"/>
                  </a:lnTo>
                  <a:lnTo>
                    <a:pt x="264" y="5"/>
                  </a:lnTo>
                  <a:lnTo>
                    <a:pt x="285" y="10"/>
                  </a:lnTo>
                  <a:lnTo>
                    <a:pt x="304" y="17"/>
                  </a:lnTo>
                  <a:lnTo>
                    <a:pt x="323" y="27"/>
                  </a:lnTo>
                  <a:lnTo>
                    <a:pt x="342" y="38"/>
                  </a:lnTo>
                  <a:lnTo>
                    <a:pt x="359" y="50"/>
                  </a:lnTo>
                  <a:lnTo>
                    <a:pt x="374" y="64"/>
                  </a:lnTo>
                  <a:lnTo>
                    <a:pt x="388" y="80"/>
                  </a:lnTo>
                  <a:lnTo>
                    <a:pt x="401" y="96"/>
                  </a:lnTo>
                  <a:lnTo>
                    <a:pt x="412" y="115"/>
                  </a:lnTo>
                  <a:lnTo>
                    <a:pt x="422" y="134"/>
                  </a:lnTo>
                  <a:lnTo>
                    <a:pt x="429" y="155"/>
                  </a:lnTo>
                  <a:lnTo>
                    <a:pt x="434" y="176"/>
                  </a:lnTo>
                  <a:lnTo>
                    <a:pt x="436" y="186"/>
                  </a:lnTo>
                  <a:lnTo>
                    <a:pt x="437" y="197"/>
                  </a:lnTo>
                  <a:lnTo>
                    <a:pt x="438" y="208"/>
                  </a:lnTo>
                  <a:lnTo>
                    <a:pt x="439" y="220"/>
                  </a:lnTo>
                  <a:lnTo>
                    <a:pt x="438" y="231"/>
                  </a:lnTo>
                  <a:lnTo>
                    <a:pt x="437" y="242"/>
                  </a:lnTo>
                  <a:lnTo>
                    <a:pt x="436" y="253"/>
                  </a:lnTo>
                  <a:lnTo>
                    <a:pt x="434" y="264"/>
                  </a:lnTo>
                  <a:lnTo>
                    <a:pt x="429" y="285"/>
                  </a:lnTo>
                  <a:lnTo>
                    <a:pt x="422" y="305"/>
                  </a:lnTo>
                  <a:lnTo>
                    <a:pt x="412" y="324"/>
                  </a:lnTo>
                  <a:lnTo>
                    <a:pt x="401" y="342"/>
                  </a:lnTo>
                  <a:lnTo>
                    <a:pt x="388" y="359"/>
                  </a:lnTo>
                  <a:lnTo>
                    <a:pt x="374" y="374"/>
                  </a:lnTo>
                  <a:lnTo>
                    <a:pt x="359" y="389"/>
                  </a:lnTo>
                  <a:lnTo>
                    <a:pt x="342" y="401"/>
                  </a:lnTo>
                  <a:lnTo>
                    <a:pt x="323" y="412"/>
                  </a:lnTo>
                  <a:lnTo>
                    <a:pt x="304" y="422"/>
                  </a:lnTo>
                  <a:lnTo>
                    <a:pt x="285" y="429"/>
                  </a:lnTo>
                  <a:lnTo>
                    <a:pt x="264" y="434"/>
                  </a:lnTo>
                  <a:lnTo>
                    <a:pt x="253" y="436"/>
                  </a:lnTo>
                  <a:lnTo>
                    <a:pt x="242" y="437"/>
                  </a:lnTo>
                  <a:lnTo>
                    <a:pt x="231" y="438"/>
                  </a:lnTo>
                  <a:lnTo>
                    <a:pt x="219" y="438"/>
                  </a:lnTo>
                  <a:lnTo>
                    <a:pt x="207" y="438"/>
                  </a:lnTo>
                  <a:lnTo>
                    <a:pt x="196" y="437"/>
                  </a:lnTo>
                  <a:lnTo>
                    <a:pt x="185" y="436"/>
                  </a:lnTo>
                  <a:lnTo>
                    <a:pt x="175" y="434"/>
                  </a:lnTo>
                  <a:lnTo>
                    <a:pt x="154" y="429"/>
                  </a:lnTo>
                  <a:lnTo>
                    <a:pt x="133" y="422"/>
                  </a:lnTo>
                  <a:lnTo>
                    <a:pt x="115" y="412"/>
                  </a:lnTo>
                  <a:lnTo>
                    <a:pt x="97" y="401"/>
                  </a:lnTo>
                  <a:lnTo>
                    <a:pt x="79" y="389"/>
                  </a:lnTo>
                  <a:lnTo>
                    <a:pt x="64" y="374"/>
                  </a:lnTo>
                  <a:lnTo>
                    <a:pt x="49" y="359"/>
                  </a:lnTo>
                  <a:lnTo>
                    <a:pt x="37" y="342"/>
                  </a:lnTo>
                  <a:lnTo>
                    <a:pt x="26" y="324"/>
                  </a:lnTo>
                  <a:lnTo>
                    <a:pt x="16" y="305"/>
                  </a:lnTo>
                  <a:lnTo>
                    <a:pt x="10" y="285"/>
                  </a:lnTo>
                  <a:lnTo>
                    <a:pt x="4" y="264"/>
                  </a:lnTo>
                  <a:lnTo>
                    <a:pt x="2" y="253"/>
                  </a:lnTo>
                  <a:lnTo>
                    <a:pt x="1" y="242"/>
                  </a:lnTo>
                  <a:lnTo>
                    <a:pt x="0" y="231"/>
                  </a:lnTo>
                  <a:lnTo>
                    <a:pt x="0" y="220"/>
                  </a:lnTo>
                  <a:lnTo>
                    <a:pt x="0" y="208"/>
                  </a:lnTo>
                  <a:lnTo>
                    <a:pt x="1" y="197"/>
                  </a:lnTo>
                  <a:lnTo>
                    <a:pt x="2" y="186"/>
                  </a:lnTo>
                  <a:lnTo>
                    <a:pt x="4" y="176"/>
                  </a:lnTo>
                  <a:lnTo>
                    <a:pt x="10" y="155"/>
                  </a:lnTo>
                  <a:lnTo>
                    <a:pt x="16" y="134"/>
                  </a:lnTo>
                  <a:lnTo>
                    <a:pt x="26" y="115"/>
                  </a:lnTo>
                  <a:lnTo>
                    <a:pt x="37" y="96"/>
                  </a:lnTo>
                  <a:lnTo>
                    <a:pt x="49" y="80"/>
                  </a:lnTo>
                  <a:lnTo>
                    <a:pt x="64" y="64"/>
                  </a:lnTo>
                  <a:lnTo>
                    <a:pt x="79" y="50"/>
                  </a:lnTo>
                  <a:lnTo>
                    <a:pt x="97" y="38"/>
                  </a:lnTo>
                  <a:lnTo>
                    <a:pt x="115" y="27"/>
                  </a:lnTo>
                  <a:lnTo>
                    <a:pt x="133" y="17"/>
                  </a:lnTo>
                  <a:lnTo>
                    <a:pt x="154" y="10"/>
                  </a:lnTo>
                  <a:lnTo>
                    <a:pt x="175" y="5"/>
                  </a:lnTo>
                  <a:lnTo>
                    <a:pt x="185" y="3"/>
                  </a:lnTo>
                  <a:lnTo>
                    <a:pt x="196" y="1"/>
                  </a:lnTo>
                  <a:lnTo>
                    <a:pt x="207" y="0"/>
                  </a:lnTo>
                  <a:lnTo>
                    <a:pt x="219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519200" y="990720"/>
              <a:ext cx="1338480" cy="815760"/>
            </a:xfrm>
            <a:custGeom>
              <a:avLst/>
              <a:gdLst/>
              <a:ahLst/>
              <a:rect l="l" t="t" r="r" b="b"/>
              <a:pathLst>
                <a:path w="3371" h="2056">
                  <a:moveTo>
                    <a:pt x="140" y="120"/>
                  </a:moveTo>
                  <a:lnTo>
                    <a:pt x="140" y="118"/>
                  </a:lnTo>
                  <a:lnTo>
                    <a:pt x="139" y="116"/>
                  </a:lnTo>
                  <a:lnTo>
                    <a:pt x="136" y="115"/>
                  </a:lnTo>
                  <a:lnTo>
                    <a:pt x="133" y="113"/>
                  </a:lnTo>
                  <a:lnTo>
                    <a:pt x="130" y="110"/>
                  </a:lnTo>
                  <a:lnTo>
                    <a:pt x="124" y="108"/>
                  </a:lnTo>
                  <a:lnTo>
                    <a:pt x="119" y="105"/>
                  </a:lnTo>
                  <a:lnTo>
                    <a:pt x="113" y="103"/>
                  </a:lnTo>
                  <a:lnTo>
                    <a:pt x="107" y="100"/>
                  </a:lnTo>
                  <a:lnTo>
                    <a:pt x="101" y="98"/>
                  </a:lnTo>
                  <a:lnTo>
                    <a:pt x="96" y="96"/>
                  </a:lnTo>
                  <a:lnTo>
                    <a:pt x="92" y="93"/>
                  </a:lnTo>
                  <a:lnTo>
                    <a:pt x="89" y="90"/>
                  </a:lnTo>
                  <a:lnTo>
                    <a:pt x="87" y="88"/>
                  </a:lnTo>
                  <a:lnTo>
                    <a:pt x="86" y="86"/>
                  </a:lnTo>
                  <a:lnTo>
                    <a:pt x="85" y="85"/>
                  </a:lnTo>
                  <a:lnTo>
                    <a:pt x="85" y="77"/>
                  </a:lnTo>
                  <a:lnTo>
                    <a:pt x="86" y="72"/>
                  </a:lnTo>
                  <a:lnTo>
                    <a:pt x="87" y="66"/>
                  </a:lnTo>
                  <a:lnTo>
                    <a:pt x="88" y="61"/>
                  </a:lnTo>
                  <a:lnTo>
                    <a:pt x="90" y="56"/>
                  </a:lnTo>
                  <a:lnTo>
                    <a:pt x="92" y="53"/>
                  </a:lnTo>
                  <a:lnTo>
                    <a:pt x="96" y="50"/>
                  </a:lnTo>
                  <a:lnTo>
                    <a:pt x="99" y="47"/>
                  </a:lnTo>
                  <a:lnTo>
                    <a:pt x="103" y="45"/>
                  </a:lnTo>
                  <a:lnTo>
                    <a:pt x="110" y="43"/>
                  </a:lnTo>
                  <a:lnTo>
                    <a:pt x="118" y="41"/>
                  </a:lnTo>
                  <a:lnTo>
                    <a:pt x="128" y="38"/>
                  </a:lnTo>
                  <a:lnTo>
                    <a:pt x="152" y="33"/>
                  </a:lnTo>
                  <a:lnTo>
                    <a:pt x="183" y="29"/>
                  </a:lnTo>
                  <a:lnTo>
                    <a:pt x="220" y="24"/>
                  </a:lnTo>
                  <a:lnTo>
                    <a:pt x="263" y="20"/>
                  </a:lnTo>
                  <a:lnTo>
                    <a:pt x="314" y="17"/>
                  </a:lnTo>
                  <a:lnTo>
                    <a:pt x="370" y="12"/>
                  </a:lnTo>
                  <a:lnTo>
                    <a:pt x="419" y="9"/>
                  </a:lnTo>
                  <a:lnTo>
                    <a:pt x="464" y="7"/>
                  </a:lnTo>
                  <a:lnTo>
                    <a:pt x="507" y="4"/>
                  </a:lnTo>
                  <a:lnTo>
                    <a:pt x="548" y="3"/>
                  </a:lnTo>
                  <a:lnTo>
                    <a:pt x="586" y="2"/>
                  </a:lnTo>
                  <a:lnTo>
                    <a:pt x="621" y="1"/>
                  </a:lnTo>
                  <a:lnTo>
                    <a:pt x="654" y="0"/>
                  </a:lnTo>
                  <a:lnTo>
                    <a:pt x="685" y="0"/>
                  </a:lnTo>
                  <a:lnTo>
                    <a:pt x="790" y="0"/>
                  </a:lnTo>
                  <a:lnTo>
                    <a:pt x="898" y="2"/>
                  </a:lnTo>
                  <a:lnTo>
                    <a:pt x="1010" y="4"/>
                  </a:lnTo>
                  <a:lnTo>
                    <a:pt x="1126" y="8"/>
                  </a:lnTo>
                  <a:lnTo>
                    <a:pt x="1245" y="12"/>
                  </a:lnTo>
                  <a:lnTo>
                    <a:pt x="1366" y="18"/>
                  </a:lnTo>
                  <a:lnTo>
                    <a:pt x="1492" y="24"/>
                  </a:lnTo>
                  <a:lnTo>
                    <a:pt x="1621" y="31"/>
                  </a:lnTo>
                  <a:lnTo>
                    <a:pt x="1656" y="35"/>
                  </a:lnTo>
                  <a:lnTo>
                    <a:pt x="1693" y="40"/>
                  </a:lnTo>
                  <a:lnTo>
                    <a:pt x="1735" y="44"/>
                  </a:lnTo>
                  <a:lnTo>
                    <a:pt x="1780" y="50"/>
                  </a:lnTo>
                  <a:lnTo>
                    <a:pt x="1830" y="55"/>
                  </a:lnTo>
                  <a:lnTo>
                    <a:pt x="1884" y="62"/>
                  </a:lnTo>
                  <a:lnTo>
                    <a:pt x="1943" y="68"/>
                  </a:lnTo>
                  <a:lnTo>
                    <a:pt x="2004" y="75"/>
                  </a:lnTo>
                  <a:lnTo>
                    <a:pt x="2030" y="77"/>
                  </a:lnTo>
                  <a:lnTo>
                    <a:pt x="2058" y="81"/>
                  </a:lnTo>
                  <a:lnTo>
                    <a:pt x="2091" y="84"/>
                  </a:lnTo>
                  <a:lnTo>
                    <a:pt x="2125" y="88"/>
                  </a:lnTo>
                  <a:lnTo>
                    <a:pt x="2162" y="93"/>
                  </a:lnTo>
                  <a:lnTo>
                    <a:pt x="2203" y="97"/>
                  </a:lnTo>
                  <a:lnTo>
                    <a:pt x="2246" y="103"/>
                  </a:lnTo>
                  <a:lnTo>
                    <a:pt x="2294" y="109"/>
                  </a:lnTo>
                  <a:lnTo>
                    <a:pt x="2339" y="117"/>
                  </a:lnTo>
                  <a:lnTo>
                    <a:pt x="2385" y="127"/>
                  </a:lnTo>
                  <a:lnTo>
                    <a:pt x="2431" y="137"/>
                  </a:lnTo>
                  <a:lnTo>
                    <a:pt x="2476" y="148"/>
                  </a:lnTo>
                  <a:lnTo>
                    <a:pt x="2521" y="159"/>
                  </a:lnTo>
                  <a:lnTo>
                    <a:pt x="2566" y="171"/>
                  </a:lnTo>
                  <a:lnTo>
                    <a:pt x="2610" y="184"/>
                  </a:lnTo>
                  <a:lnTo>
                    <a:pt x="2655" y="198"/>
                  </a:lnTo>
                  <a:lnTo>
                    <a:pt x="2699" y="212"/>
                  </a:lnTo>
                  <a:lnTo>
                    <a:pt x="2743" y="227"/>
                  </a:lnTo>
                  <a:lnTo>
                    <a:pt x="2787" y="243"/>
                  </a:lnTo>
                  <a:lnTo>
                    <a:pt x="2831" y="259"/>
                  </a:lnTo>
                  <a:lnTo>
                    <a:pt x="2874" y="276"/>
                  </a:lnTo>
                  <a:lnTo>
                    <a:pt x="2917" y="295"/>
                  </a:lnTo>
                  <a:lnTo>
                    <a:pt x="2960" y="313"/>
                  </a:lnTo>
                  <a:lnTo>
                    <a:pt x="3004" y="332"/>
                  </a:lnTo>
                  <a:lnTo>
                    <a:pt x="3048" y="354"/>
                  </a:lnTo>
                  <a:lnTo>
                    <a:pt x="3090" y="375"/>
                  </a:lnTo>
                  <a:lnTo>
                    <a:pt x="3128" y="396"/>
                  </a:lnTo>
                  <a:lnTo>
                    <a:pt x="3165" y="417"/>
                  </a:lnTo>
                  <a:lnTo>
                    <a:pt x="3198" y="438"/>
                  </a:lnTo>
                  <a:lnTo>
                    <a:pt x="3228" y="458"/>
                  </a:lnTo>
                  <a:lnTo>
                    <a:pt x="3255" y="478"/>
                  </a:lnTo>
                  <a:lnTo>
                    <a:pt x="3280" y="498"/>
                  </a:lnTo>
                  <a:lnTo>
                    <a:pt x="3302" y="518"/>
                  </a:lnTo>
                  <a:lnTo>
                    <a:pt x="3320" y="537"/>
                  </a:lnTo>
                  <a:lnTo>
                    <a:pt x="3336" y="556"/>
                  </a:lnTo>
                  <a:lnTo>
                    <a:pt x="3349" y="576"/>
                  </a:lnTo>
                  <a:lnTo>
                    <a:pt x="3353" y="585"/>
                  </a:lnTo>
                  <a:lnTo>
                    <a:pt x="3359" y="595"/>
                  </a:lnTo>
                  <a:lnTo>
                    <a:pt x="3362" y="604"/>
                  </a:lnTo>
                  <a:lnTo>
                    <a:pt x="3366" y="612"/>
                  </a:lnTo>
                  <a:lnTo>
                    <a:pt x="3368" y="622"/>
                  </a:lnTo>
                  <a:lnTo>
                    <a:pt x="3370" y="631"/>
                  </a:lnTo>
                  <a:lnTo>
                    <a:pt x="3371" y="640"/>
                  </a:lnTo>
                  <a:lnTo>
                    <a:pt x="3371" y="649"/>
                  </a:lnTo>
                  <a:lnTo>
                    <a:pt x="3371" y="661"/>
                  </a:lnTo>
                  <a:lnTo>
                    <a:pt x="3370" y="672"/>
                  </a:lnTo>
                  <a:lnTo>
                    <a:pt x="3369" y="683"/>
                  </a:lnTo>
                  <a:lnTo>
                    <a:pt x="3367" y="694"/>
                  </a:lnTo>
                  <a:lnTo>
                    <a:pt x="3365" y="705"/>
                  </a:lnTo>
                  <a:lnTo>
                    <a:pt x="3361" y="716"/>
                  </a:lnTo>
                  <a:lnTo>
                    <a:pt x="3357" y="726"/>
                  </a:lnTo>
                  <a:lnTo>
                    <a:pt x="3352" y="737"/>
                  </a:lnTo>
                  <a:lnTo>
                    <a:pt x="3347" y="748"/>
                  </a:lnTo>
                  <a:lnTo>
                    <a:pt x="3341" y="758"/>
                  </a:lnTo>
                  <a:lnTo>
                    <a:pt x="3336" y="769"/>
                  </a:lnTo>
                  <a:lnTo>
                    <a:pt x="3328" y="779"/>
                  </a:lnTo>
                  <a:lnTo>
                    <a:pt x="3313" y="799"/>
                  </a:lnTo>
                  <a:lnTo>
                    <a:pt x="3295" y="820"/>
                  </a:lnTo>
                  <a:lnTo>
                    <a:pt x="3274" y="839"/>
                  </a:lnTo>
                  <a:lnTo>
                    <a:pt x="3252" y="859"/>
                  </a:lnTo>
                  <a:lnTo>
                    <a:pt x="3227" y="877"/>
                  </a:lnTo>
                  <a:lnTo>
                    <a:pt x="3199" y="896"/>
                  </a:lnTo>
                  <a:lnTo>
                    <a:pt x="3169" y="915"/>
                  </a:lnTo>
                  <a:lnTo>
                    <a:pt x="3137" y="932"/>
                  </a:lnTo>
                  <a:lnTo>
                    <a:pt x="3102" y="950"/>
                  </a:lnTo>
                  <a:lnTo>
                    <a:pt x="3064" y="967"/>
                  </a:lnTo>
                  <a:lnTo>
                    <a:pt x="3016" y="988"/>
                  </a:lnTo>
                  <a:lnTo>
                    <a:pt x="2960" y="1009"/>
                  </a:lnTo>
                  <a:lnTo>
                    <a:pt x="2899" y="1030"/>
                  </a:lnTo>
                  <a:lnTo>
                    <a:pt x="2831" y="1052"/>
                  </a:lnTo>
                  <a:lnTo>
                    <a:pt x="2756" y="1074"/>
                  </a:lnTo>
                  <a:lnTo>
                    <a:pt x="2676" y="1097"/>
                  </a:lnTo>
                  <a:lnTo>
                    <a:pt x="2587" y="1119"/>
                  </a:lnTo>
                  <a:lnTo>
                    <a:pt x="2493" y="1142"/>
                  </a:lnTo>
                  <a:lnTo>
                    <a:pt x="2422" y="1161"/>
                  </a:lnTo>
                  <a:lnTo>
                    <a:pt x="2359" y="1177"/>
                  </a:lnTo>
                  <a:lnTo>
                    <a:pt x="2306" y="1192"/>
                  </a:lnTo>
                  <a:lnTo>
                    <a:pt x="2263" y="1206"/>
                  </a:lnTo>
                  <a:lnTo>
                    <a:pt x="2245" y="1212"/>
                  </a:lnTo>
                  <a:lnTo>
                    <a:pt x="2230" y="1218"/>
                  </a:lnTo>
                  <a:lnTo>
                    <a:pt x="2216" y="1224"/>
                  </a:lnTo>
                  <a:lnTo>
                    <a:pt x="2205" y="1228"/>
                  </a:lnTo>
                  <a:lnTo>
                    <a:pt x="2198" y="1234"/>
                  </a:lnTo>
                  <a:lnTo>
                    <a:pt x="2191" y="1238"/>
                  </a:lnTo>
                  <a:lnTo>
                    <a:pt x="2188" y="1243"/>
                  </a:lnTo>
                  <a:lnTo>
                    <a:pt x="2187" y="1246"/>
                  </a:lnTo>
                  <a:lnTo>
                    <a:pt x="2188" y="1250"/>
                  </a:lnTo>
                  <a:lnTo>
                    <a:pt x="2193" y="1256"/>
                  </a:lnTo>
                  <a:lnTo>
                    <a:pt x="2202" y="1264"/>
                  </a:lnTo>
                  <a:lnTo>
                    <a:pt x="2213" y="1272"/>
                  </a:lnTo>
                  <a:lnTo>
                    <a:pt x="2247" y="1294"/>
                  </a:lnTo>
                  <a:lnTo>
                    <a:pt x="2295" y="1323"/>
                  </a:lnTo>
                  <a:lnTo>
                    <a:pt x="2355" y="1357"/>
                  </a:lnTo>
                  <a:lnTo>
                    <a:pt x="2431" y="1398"/>
                  </a:lnTo>
                  <a:lnTo>
                    <a:pt x="2519" y="1445"/>
                  </a:lnTo>
                  <a:lnTo>
                    <a:pt x="2620" y="1497"/>
                  </a:lnTo>
                  <a:lnTo>
                    <a:pt x="2716" y="1547"/>
                  </a:lnTo>
                  <a:lnTo>
                    <a:pt x="2805" y="1591"/>
                  </a:lnTo>
                  <a:lnTo>
                    <a:pt x="2884" y="1631"/>
                  </a:lnTo>
                  <a:lnTo>
                    <a:pt x="2956" y="1665"/>
                  </a:lnTo>
                  <a:lnTo>
                    <a:pt x="3018" y="1695"/>
                  </a:lnTo>
                  <a:lnTo>
                    <a:pt x="3072" y="1720"/>
                  </a:lnTo>
                  <a:lnTo>
                    <a:pt x="3118" y="1741"/>
                  </a:lnTo>
                  <a:lnTo>
                    <a:pt x="3155" y="1757"/>
                  </a:lnTo>
                  <a:lnTo>
                    <a:pt x="3168" y="1761"/>
                  </a:lnTo>
                  <a:lnTo>
                    <a:pt x="3182" y="1766"/>
                  </a:lnTo>
                  <a:lnTo>
                    <a:pt x="3200" y="1770"/>
                  </a:lnTo>
                  <a:lnTo>
                    <a:pt x="3220" y="1774"/>
                  </a:lnTo>
                  <a:lnTo>
                    <a:pt x="3242" y="1778"/>
                  </a:lnTo>
                  <a:lnTo>
                    <a:pt x="3266" y="1781"/>
                  </a:lnTo>
                  <a:lnTo>
                    <a:pt x="3294" y="1784"/>
                  </a:lnTo>
                  <a:lnTo>
                    <a:pt x="3324" y="1788"/>
                  </a:lnTo>
                  <a:lnTo>
                    <a:pt x="3292" y="1802"/>
                  </a:lnTo>
                  <a:lnTo>
                    <a:pt x="3260" y="1814"/>
                  </a:lnTo>
                  <a:lnTo>
                    <a:pt x="3229" y="1826"/>
                  </a:lnTo>
                  <a:lnTo>
                    <a:pt x="3199" y="1837"/>
                  </a:lnTo>
                  <a:lnTo>
                    <a:pt x="3169" y="1848"/>
                  </a:lnTo>
                  <a:lnTo>
                    <a:pt x="3140" y="1857"/>
                  </a:lnTo>
                  <a:lnTo>
                    <a:pt x="3113" y="1866"/>
                  </a:lnTo>
                  <a:lnTo>
                    <a:pt x="3085" y="1874"/>
                  </a:lnTo>
                  <a:lnTo>
                    <a:pt x="3059" y="1880"/>
                  </a:lnTo>
                  <a:lnTo>
                    <a:pt x="3033" y="1886"/>
                  </a:lnTo>
                  <a:lnTo>
                    <a:pt x="3008" y="1891"/>
                  </a:lnTo>
                  <a:lnTo>
                    <a:pt x="2984" y="1895"/>
                  </a:lnTo>
                  <a:lnTo>
                    <a:pt x="2959" y="1898"/>
                  </a:lnTo>
                  <a:lnTo>
                    <a:pt x="2937" y="1900"/>
                  </a:lnTo>
                  <a:lnTo>
                    <a:pt x="2914" y="1901"/>
                  </a:lnTo>
                  <a:lnTo>
                    <a:pt x="2893" y="1902"/>
                  </a:lnTo>
                  <a:lnTo>
                    <a:pt x="2869" y="1901"/>
                  </a:lnTo>
                  <a:lnTo>
                    <a:pt x="2845" y="1900"/>
                  </a:lnTo>
                  <a:lnTo>
                    <a:pt x="2821" y="1897"/>
                  </a:lnTo>
                  <a:lnTo>
                    <a:pt x="2797" y="1893"/>
                  </a:lnTo>
                  <a:lnTo>
                    <a:pt x="2774" y="1888"/>
                  </a:lnTo>
                  <a:lnTo>
                    <a:pt x="2751" y="1882"/>
                  </a:lnTo>
                  <a:lnTo>
                    <a:pt x="2728" y="1874"/>
                  </a:lnTo>
                  <a:lnTo>
                    <a:pt x="2703" y="1865"/>
                  </a:lnTo>
                  <a:lnTo>
                    <a:pt x="2583" y="1819"/>
                  </a:lnTo>
                  <a:lnTo>
                    <a:pt x="2448" y="1766"/>
                  </a:lnTo>
                  <a:lnTo>
                    <a:pt x="2298" y="1708"/>
                  </a:lnTo>
                  <a:lnTo>
                    <a:pt x="2134" y="1644"/>
                  </a:lnTo>
                  <a:lnTo>
                    <a:pt x="1954" y="1576"/>
                  </a:lnTo>
                  <a:lnTo>
                    <a:pt x="1759" y="1502"/>
                  </a:lnTo>
                  <a:lnTo>
                    <a:pt x="1550" y="1422"/>
                  </a:lnTo>
                  <a:lnTo>
                    <a:pt x="1325" y="1339"/>
                  </a:lnTo>
                  <a:lnTo>
                    <a:pt x="1253" y="1346"/>
                  </a:lnTo>
                  <a:lnTo>
                    <a:pt x="1180" y="1354"/>
                  </a:lnTo>
                  <a:lnTo>
                    <a:pt x="1108" y="1361"/>
                  </a:lnTo>
                  <a:lnTo>
                    <a:pt x="1036" y="1366"/>
                  </a:lnTo>
                  <a:lnTo>
                    <a:pt x="964" y="1371"/>
                  </a:lnTo>
                  <a:lnTo>
                    <a:pt x="894" y="1375"/>
                  </a:lnTo>
                  <a:lnTo>
                    <a:pt x="824" y="1378"/>
                  </a:lnTo>
                  <a:lnTo>
                    <a:pt x="754" y="1381"/>
                  </a:lnTo>
                  <a:lnTo>
                    <a:pt x="756" y="1436"/>
                  </a:lnTo>
                  <a:lnTo>
                    <a:pt x="758" y="1490"/>
                  </a:lnTo>
                  <a:lnTo>
                    <a:pt x="759" y="1543"/>
                  </a:lnTo>
                  <a:lnTo>
                    <a:pt x="761" y="1596"/>
                  </a:lnTo>
                  <a:lnTo>
                    <a:pt x="764" y="1648"/>
                  </a:lnTo>
                  <a:lnTo>
                    <a:pt x="766" y="1699"/>
                  </a:lnTo>
                  <a:lnTo>
                    <a:pt x="768" y="1750"/>
                  </a:lnTo>
                  <a:lnTo>
                    <a:pt x="770" y="1800"/>
                  </a:lnTo>
                  <a:lnTo>
                    <a:pt x="770" y="1815"/>
                  </a:lnTo>
                  <a:lnTo>
                    <a:pt x="770" y="1832"/>
                  </a:lnTo>
                  <a:lnTo>
                    <a:pt x="770" y="1850"/>
                  </a:lnTo>
                  <a:lnTo>
                    <a:pt x="771" y="1869"/>
                  </a:lnTo>
                  <a:lnTo>
                    <a:pt x="773" y="1890"/>
                  </a:lnTo>
                  <a:lnTo>
                    <a:pt x="775" y="1914"/>
                  </a:lnTo>
                  <a:lnTo>
                    <a:pt x="778" y="1938"/>
                  </a:lnTo>
                  <a:lnTo>
                    <a:pt x="781" y="1963"/>
                  </a:lnTo>
                  <a:lnTo>
                    <a:pt x="782" y="1965"/>
                  </a:lnTo>
                  <a:lnTo>
                    <a:pt x="783" y="1968"/>
                  </a:lnTo>
                  <a:lnTo>
                    <a:pt x="786" y="1970"/>
                  </a:lnTo>
                  <a:lnTo>
                    <a:pt x="788" y="1972"/>
                  </a:lnTo>
                  <a:lnTo>
                    <a:pt x="791" y="1974"/>
                  </a:lnTo>
                  <a:lnTo>
                    <a:pt x="793" y="1976"/>
                  </a:lnTo>
                  <a:lnTo>
                    <a:pt x="798" y="1979"/>
                  </a:lnTo>
                  <a:lnTo>
                    <a:pt x="801" y="1981"/>
                  </a:lnTo>
                  <a:lnTo>
                    <a:pt x="805" y="1983"/>
                  </a:lnTo>
                  <a:lnTo>
                    <a:pt x="809" y="1985"/>
                  </a:lnTo>
                  <a:lnTo>
                    <a:pt x="812" y="1989"/>
                  </a:lnTo>
                  <a:lnTo>
                    <a:pt x="814" y="1991"/>
                  </a:lnTo>
                  <a:lnTo>
                    <a:pt x="816" y="1994"/>
                  </a:lnTo>
                  <a:lnTo>
                    <a:pt x="818" y="1998"/>
                  </a:lnTo>
                  <a:lnTo>
                    <a:pt x="819" y="2002"/>
                  </a:lnTo>
                  <a:lnTo>
                    <a:pt x="819" y="2006"/>
                  </a:lnTo>
                  <a:lnTo>
                    <a:pt x="818" y="2008"/>
                  </a:lnTo>
                  <a:lnTo>
                    <a:pt x="815" y="2010"/>
                  </a:lnTo>
                  <a:lnTo>
                    <a:pt x="812" y="2012"/>
                  </a:lnTo>
                  <a:lnTo>
                    <a:pt x="807" y="2014"/>
                  </a:lnTo>
                  <a:lnTo>
                    <a:pt x="792" y="2018"/>
                  </a:lnTo>
                  <a:lnTo>
                    <a:pt x="771" y="2023"/>
                  </a:lnTo>
                  <a:lnTo>
                    <a:pt x="745" y="2026"/>
                  </a:lnTo>
                  <a:lnTo>
                    <a:pt x="712" y="2030"/>
                  </a:lnTo>
                  <a:lnTo>
                    <a:pt x="674" y="2035"/>
                  </a:lnTo>
                  <a:lnTo>
                    <a:pt x="629" y="2039"/>
                  </a:lnTo>
                  <a:lnTo>
                    <a:pt x="590" y="2044"/>
                  </a:lnTo>
                  <a:lnTo>
                    <a:pt x="554" y="2047"/>
                  </a:lnTo>
                  <a:lnTo>
                    <a:pt x="521" y="2049"/>
                  </a:lnTo>
                  <a:lnTo>
                    <a:pt x="490" y="2051"/>
                  </a:lnTo>
                  <a:lnTo>
                    <a:pt x="462" y="2054"/>
                  </a:lnTo>
                  <a:lnTo>
                    <a:pt x="437" y="2055"/>
                  </a:lnTo>
                  <a:lnTo>
                    <a:pt x="415" y="2056"/>
                  </a:lnTo>
                  <a:lnTo>
                    <a:pt x="395" y="2056"/>
                  </a:lnTo>
                  <a:lnTo>
                    <a:pt x="373" y="2056"/>
                  </a:lnTo>
                  <a:lnTo>
                    <a:pt x="348" y="2055"/>
                  </a:lnTo>
                  <a:lnTo>
                    <a:pt x="323" y="2054"/>
                  </a:lnTo>
                  <a:lnTo>
                    <a:pt x="295" y="2051"/>
                  </a:lnTo>
                  <a:lnTo>
                    <a:pt x="267" y="2048"/>
                  </a:lnTo>
                  <a:lnTo>
                    <a:pt x="236" y="2045"/>
                  </a:lnTo>
                  <a:lnTo>
                    <a:pt x="203" y="2042"/>
                  </a:lnTo>
                  <a:lnTo>
                    <a:pt x="168" y="2037"/>
                  </a:lnTo>
                  <a:lnTo>
                    <a:pt x="129" y="2030"/>
                  </a:lnTo>
                  <a:lnTo>
                    <a:pt x="94" y="2025"/>
                  </a:lnTo>
                  <a:lnTo>
                    <a:pt x="65" y="2018"/>
                  </a:lnTo>
                  <a:lnTo>
                    <a:pt x="41" y="2012"/>
                  </a:lnTo>
                  <a:lnTo>
                    <a:pt x="23" y="2005"/>
                  </a:lnTo>
                  <a:lnTo>
                    <a:pt x="9" y="1998"/>
                  </a:lnTo>
                  <a:lnTo>
                    <a:pt x="5" y="1995"/>
                  </a:lnTo>
                  <a:lnTo>
                    <a:pt x="2" y="1992"/>
                  </a:lnTo>
                  <a:lnTo>
                    <a:pt x="0" y="1989"/>
                  </a:lnTo>
                  <a:lnTo>
                    <a:pt x="0" y="1985"/>
                  </a:lnTo>
                  <a:lnTo>
                    <a:pt x="0" y="1990"/>
                  </a:lnTo>
                  <a:lnTo>
                    <a:pt x="0" y="1991"/>
                  </a:lnTo>
                  <a:lnTo>
                    <a:pt x="1" y="1989"/>
                  </a:lnTo>
                  <a:lnTo>
                    <a:pt x="2" y="1983"/>
                  </a:lnTo>
                  <a:lnTo>
                    <a:pt x="6" y="1961"/>
                  </a:lnTo>
                  <a:lnTo>
                    <a:pt x="12" y="1926"/>
                  </a:lnTo>
                  <a:lnTo>
                    <a:pt x="18" y="1877"/>
                  </a:lnTo>
                  <a:lnTo>
                    <a:pt x="26" y="1815"/>
                  </a:lnTo>
                  <a:lnTo>
                    <a:pt x="36" y="1739"/>
                  </a:lnTo>
                  <a:lnTo>
                    <a:pt x="47" y="1650"/>
                  </a:lnTo>
                  <a:lnTo>
                    <a:pt x="57" y="1577"/>
                  </a:lnTo>
                  <a:lnTo>
                    <a:pt x="66" y="1502"/>
                  </a:lnTo>
                  <a:lnTo>
                    <a:pt x="74" y="1426"/>
                  </a:lnTo>
                  <a:lnTo>
                    <a:pt x="81" y="1346"/>
                  </a:lnTo>
                  <a:lnTo>
                    <a:pt x="88" y="1266"/>
                  </a:lnTo>
                  <a:lnTo>
                    <a:pt x="94" y="1184"/>
                  </a:lnTo>
                  <a:lnTo>
                    <a:pt x="100" y="1099"/>
                  </a:lnTo>
                  <a:lnTo>
                    <a:pt x="106" y="1013"/>
                  </a:lnTo>
                  <a:lnTo>
                    <a:pt x="114" y="867"/>
                  </a:lnTo>
                  <a:lnTo>
                    <a:pt x="121" y="732"/>
                  </a:lnTo>
                  <a:lnTo>
                    <a:pt x="126" y="606"/>
                  </a:lnTo>
                  <a:lnTo>
                    <a:pt x="131" y="490"/>
                  </a:lnTo>
                  <a:lnTo>
                    <a:pt x="135" y="383"/>
                  </a:lnTo>
                  <a:lnTo>
                    <a:pt x="138" y="286"/>
                  </a:lnTo>
                  <a:lnTo>
                    <a:pt x="140" y="198"/>
                  </a:lnTo>
                  <a:lnTo>
                    <a:pt x="140" y="120"/>
                  </a:lnTo>
                  <a:close/>
                  <a:moveTo>
                    <a:pt x="1077" y="221"/>
                  </a:moveTo>
                  <a:lnTo>
                    <a:pt x="1056" y="221"/>
                  </a:lnTo>
                  <a:lnTo>
                    <a:pt x="1036" y="222"/>
                  </a:lnTo>
                  <a:lnTo>
                    <a:pt x="1017" y="224"/>
                  </a:lnTo>
                  <a:lnTo>
                    <a:pt x="1000" y="226"/>
                  </a:lnTo>
                  <a:lnTo>
                    <a:pt x="982" y="231"/>
                  </a:lnTo>
                  <a:lnTo>
                    <a:pt x="967" y="234"/>
                  </a:lnTo>
                  <a:lnTo>
                    <a:pt x="951" y="239"/>
                  </a:lnTo>
                  <a:lnTo>
                    <a:pt x="938" y="245"/>
                  </a:lnTo>
                  <a:lnTo>
                    <a:pt x="925" y="251"/>
                  </a:lnTo>
                  <a:lnTo>
                    <a:pt x="913" y="258"/>
                  </a:lnTo>
                  <a:lnTo>
                    <a:pt x="902" y="266"/>
                  </a:lnTo>
                  <a:lnTo>
                    <a:pt x="892" y="275"/>
                  </a:lnTo>
                  <a:lnTo>
                    <a:pt x="882" y="284"/>
                  </a:lnTo>
                  <a:lnTo>
                    <a:pt x="874" y="294"/>
                  </a:lnTo>
                  <a:lnTo>
                    <a:pt x="867" y="305"/>
                  </a:lnTo>
                  <a:lnTo>
                    <a:pt x="861" y="316"/>
                  </a:lnTo>
                  <a:lnTo>
                    <a:pt x="846" y="350"/>
                  </a:lnTo>
                  <a:lnTo>
                    <a:pt x="833" y="386"/>
                  </a:lnTo>
                  <a:lnTo>
                    <a:pt x="820" y="425"/>
                  </a:lnTo>
                  <a:lnTo>
                    <a:pt x="809" y="466"/>
                  </a:lnTo>
                  <a:lnTo>
                    <a:pt x="799" y="509"/>
                  </a:lnTo>
                  <a:lnTo>
                    <a:pt x="789" y="554"/>
                  </a:lnTo>
                  <a:lnTo>
                    <a:pt x="781" y="600"/>
                  </a:lnTo>
                  <a:lnTo>
                    <a:pt x="773" y="650"/>
                  </a:lnTo>
                  <a:lnTo>
                    <a:pt x="767" y="702"/>
                  </a:lnTo>
                  <a:lnTo>
                    <a:pt x="762" y="756"/>
                  </a:lnTo>
                  <a:lnTo>
                    <a:pt x="758" y="812"/>
                  </a:lnTo>
                  <a:lnTo>
                    <a:pt x="756" y="871"/>
                  </a:lnTo>
                  <a:lnTo>
                    <a:pt x="754" y="931"/>
                  </a:lnTo>
                  <a:lnTo>
                    <a:pt x="752" y="994"/>
                  </a:lnTo>
                  <a:lnTo>
                    <a:pt x="752" y="1059"/>
                  </a:lnTo>
                  <a:lnTo>
                    <a:pt x="754" y="1128"/>
                  </a:lnTo>
                  <a:lnTo>
                    <a:pt x="754" y="1200"/>
                  </a:lnTo>
                  <a:lnTo>
                    <a:pt x="840" y="1196"/>
                  </a:lnTo>
                  <a:lnTo>
                    <a:pt x="924" y="1192"/>
                  </a:lnTo>
                  <a:lnTo>
                    <a:pt x="1009" y="1186"/>
                  </a:lnTo>
                  <a:lnTo>
                    <a:pt x="1094" y="1180"/>
                  </a:lnTo>
                  <a:lnTo>
                    <a:pt x="1178" y="1172"/>
                  </a:lnTo>
                  <a:lnTo>
                    <a:pt x="1261" y="1162"/>
                  </a:lnTo>
                  <a:lnTo>
                    <a:pt x="1344" y="1152"/>
                  </a:lnTo>
                  <a:lnTo>
                    <a:pt x="1428" y="1140"/>
                  </a:lnTo>
                  <a:lnTo>
                    <a:pt x="1511" y="1128"/>
                  </a:lnTo>
                  <a:lnTo>
                    <a:pt x="1594" y="1113"/>
                  </a:lnTo>
                  <a:lnTo>
                    <a:pt x="1677" y="1098"/>
                  </a:lnTo>
                  <a:lnTo>
                    <a:pt x="1759" y="1081"/>
                  </a:lnTo>
                  <a:lnTo>
                    <a:pt x="1841" y="1064"/>
                  </a:lnTo>
                  <a:lnTo>
                    <a:pt x="1923" y="1045"/>
                  </a:lnTo>
                  <a:lnTo>
                    <a:pt x="2004" y="1025"/>
                  </a:lnTo>
                  <a:lnTo>
                    <a:pt x="2086" y="1003"/>
                  </a:lnTo>
                  <a:lnTo>
                    <a:pt x="2176" y="979"/>
                  </a:lnTo>
                  <a:lnTo>
                    <a:pt x="2259" y="953"/>
                  </a:lnTo>
                  <a:lnTo>
                    <a:pt x="2299" y="940"/>
                  </a:lnTo>
                  <a:lnTo>
                    <a:pt x="2338" y="927"/>
                  </a:lnTo>
                  <a:lnTo>
                    <a:pt x="2375" y="915"/>
                  </a:lnTo>
                  <a:lnTo>
                    <a:pt x="2411" y="902"/>
                  </a:lnTo>
                  <a:lnTo>
                    <a:pt x="2445" y="888"/>
                  </a:lnTo>
                  <a:lnTo>
                    <a:pt x="2477" y="875"/>
                  </a:lnTo>
                  <a:lnTo>
                    <a:pt x="2508" y="862"/>
                  </a:lnTo>
                  <a:lnTo>
                    <a:pt x="2538" y="848"/>
                  </a:lnTo>
                  <a:lnTo>
                    <a:pt x="2566" y="834"/>
                  </a:lnTo>
                  <a:lnTo>
                    <a:pt x="2593" y="821"/>
                  </a:lnTo>
                  <a:lnTo>
                    <a:pt x="2618" y="807"/>
                  </a:lnTo>
                  <a:lnTo>
                    <a:pt x="2641" y="793"/>
                  </a:lnTo>
                  <a:lnTo>
                    <a:pt x="2665" y="779"/>
                  </a:lnTo>
                  <a:lnTo>
                    <a:pt x="2686" y="765"/>
                  </a:lnTo>
                  <a:lnTo>
                    <a:pt x="2704" y="750"/>
                  </a:lnTo>
                  <a:lnTo>
                    <a:pt x="2723" y="737"/>
                  </a:lnTo>
                  <a:lnTo>
                    <a:pt x="2740" y="723"/>
                  </a:lnTo>
                  <a:lnTo>
                    <a:pt x="2755" y="707"/>
                  </a:lnTo>
                  <a:lnTo>
                    <a:pt x="2768" y="693"/>
                  </a:lnTo>
                  <a:lnTo>
                    <a:pt x="2781" y="679"/>
                  </a:lnTo>
                  <a:lnTo>
                    <a:pt x="2792" y="664"/>
                  </a:lnTo>
                  <a:lnTo>
                    <a:pt x="2801" y="649"/>
                  </a:lnTo>
                  <a:lnTo>
                    <a:pt x="2809" y="635"/>
                  </a:lnTo>
                  <a:lnTo>
                    <a:pt x="2816" y="619"/>
                  </a:lnTo>
                  <a:lnTo>
                    <a:pt x="2820" y="604"/>
                  </a:lnTo>
                  <a:lnTo>
                    <a:pt x="2825" y="589"/>
                  </a:lnTo>
                  <a:lnTo>
                    <a:pt x="2827" y="574"/>
                  </a:lnTo>
                  <a:lnTo>
                    <a:pt x="2827" y="558"/>
                  </a:lnTo>
                  <a:lnTo>
                    <a:pt x="2827" y="544"/>
                  </a:lnTo>
                  <a:lnTo>
                    <a:pt x="2825" y="531"/>
                  </a:lnTo>
                  <a:lnTo>
                    <a:pt x="2821" y="518"/>
                  </a:lnTo>
                  <a:lnTo>
                    <a:pt x="2817" y="504"/>
                  </a:lnTo>
                  <a:lnTo>
                    <a:pt x="2811" y="492"/>
                  </a:lnTo>
                  <a:lnTo>
                    <a:pt x="2805" y="480"/>
                  </a:lnTo>
                  <a:lnTo>
                    <a:pt x="2796" y="468"/>
                  </a:lnTo>
                  <a:lnTo>
                    <a:pt x="2787" y="456"/>
                  </a:lnTo>
                  <a:lnTo>
                    <a:pt x="2776" y="445"/>
                  </a:lnTo>
                  <a:lnTo>
                    <a:pt x="2764" y="434"/>
                  </a:lnTo>
                  <a:lnTo>
                    <a:pt x="2751" y="423"/>
                  </a:lnTo>
                  <a:lnTo>
                    <a:pt x="2736" y="412"/>
                  </a:lnTo>
                  <a:lnTo>
                    <a:pt x="2721" y="402"/>
                  </a:lnTo>
                  <a:lnTo>
                    <a:pt x="2703" y="392"/>
                  </a:lnTo>
                  <a:lnTo>
                    <a:pt x="2686" y="382"/>
                  </a:lnTo>
                  <a:lnTo>
                    <a:pt x="2666" y="372"/>
                  </a:lnTo>
                  <a:lnTo>
                    <a:pt x="2645" y="363"/>
                  </a:lnTo>
                  <a:lnTo>
                    <a:pt x="2623" y="354"/>
                  </a:lnTo>
                  <a:lnTo>
                    <a:pt x="2599" y="345"/>
                  </a:lnTo>
                  <a:lnTo>
                    <a:pt x="2575" y="338"/>
                  </a:lnTo>
                  <a:lnTo>
                    <a:pt x="2550" y="329"/>
                  </a:lnTo>
                  <a:lnTo>
                    <a:pt x="2522" y="321"/>
                  </a:lnTo>
                  <a:lnTo>
                    <a:pt x="2495" y="315"/>
                  </a:lnTo>
                  <a:lnTo>
                    <a:pt x="2465" y="307"/>
                  </a:lnTo>
                  <a:lnTo>
                    <a:pt x="2402" y="294"/>
                  </a:lnTo>
                  <a:lnTo>
                    <a:pt x="2333" y="281"/>
                  </a:lnTo>
                  <a:lnTo>
                    <a:pt x="2261" y="270"/>
                  </a:lnTo>
                  <a:lnTo>
                    <a:pt x="2183" y="260"/>
                  </a:lnTo>
                  <a:lnTo>
                    <a:pt x="2138" y="256"/>
                  </a:lnTo>
                  <a:lnTo>
                    <a:pt x="2089" y="251"/>
                  </a:lnTo>
                  <a:lnTo>
                    <a:pt x="2038" y="247"/>
                  </a:lnTo>
                  <a:lnTo>
                    <a:pt x="1983" y="243"/>
                  </a:lnTo>
                  <a:lnTo>
                    <a:pt x="1864" y="236"/>
                  </a:lnTo>
                  <a:lnTo>
                    <a:pt x="1733" y="231"/>
                  </a:lnTo>
                  <a:lnTo>
                    <a:pt x="1588" y="226"/>
                  </a:lnTo>
                  <a:lnTo>
                    <a:pt x="1430" y="223"/>
                  </a:lnTo>
                  <a:lnTo>
                    <a:pt x="1260" y="222"/>
                  </a:lnTo>
                  <a:lnTo>
                    <a:pt x="1077" y="221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395520" y="1014120"/>
              <a:ext cx="1138320" cy="830160"/>
            </a:xfrm>
            <a:custGeom>
              <a:avLst/>
              <a:gdLst/>
              <a:ahLst/>
              <a:rect l="l" t="t" r="r" b="b"/>
              <a:pathLst>
                <a:path w="2869" h="2090">
                  <a:moveTo>
                    <a:pt x="82" y="175"/>
                  </a:moveTo>
                  <a:lnTo>
                    <a:pt x="81" y="167"/>
                  </a:lnTo>
                  <a:lnTo>
                    <a:pt x="80" y="159"/>
                  </a:lnTo>
                  <a:lnTo>
                    <a:pt x="77" y="150"/>
                  </a:lnTo>
                  <a:lnTo>
                    <a:pt x="73" y="141"/>
                  </a:lnTo>
                  <a:lnTo>
                    <a:pt x="66" y="131"/>
                  </a:lnTo>
                  <a:lnTo>
                    <a:pt x="59" y="120"/>
                  </a:lnTo>
                  <a:lnTo>
                    <a:pt x="50" y="110"/>
                  </a:lnTo>
                  <a:lnTo>
                    <a:pt x="42" y="98"/>
                  </a:lnTo>
                  <a:lnTo>
                    <a:pt x="32" y="88"/>
                  </a:lnTo>
                  <a:lnTo>
                    <a:pt x="24" y="78"/>
                  </a:lnTo>
                  <a:lnTo>
                    <a:pt x="16" y="69"/>
                  </a:lnTo>
                  <a:lnTo>
                    <a:pt x="11" y="61"/>
                  </a:lnTo>
                  <a:lnTo>
                    <a:pt x="6" y="55"/>
                  </a:lnTo>
                  <a:lnTo>
                    <a:pt x="3" y="49"/>
                  </a:lnTo>
                  <a:lnTo>
                    <a:pt x="1" y="44"/>
                  </a:lnTo>
                  <a:lnTo>
                    <a:pt x="0" y="41"/>
                  </a:lnTo>
                  <a:lnTo>
                    <a:pt x="1" y="36"/>
                  </a:lnTo>
                  <a:lnTo>
                    <a:pt x="3" y="32"/>
                  </a:lnTo>
                  <a:lnTo>
                    <a:pt x="6" y="27"/>
                  </a:lnTo>
                  <a:lnTo>
                    <a:pt x="12" y="23"/>
                  </a:lnTo>
                  <a:lnTo>
                    <a:pt x="17" y="20"/>
                  </a:lnTo>
                  <a:lnTo>
                    <a:pt x="25" y="16"/>
                  </a:lnTo>
                  <a:lnTo>
                    <a:pt x="35" y="13"/>
                  </a:lnTo>
                  <a:lnTo>
                    <a:pt x="45" y="10"/>
                  </a:lnTo>
                  <a:lnTo>
                    <a:pt x="70" y="5"/>
                  </a:lnTo>
                  <a:lnTo>
                    <a:pt x="101" y="2"/>
                  </a:lnTo>
                  <a:lnTo>
                    <a:pt x="138" y="1"/>
                  </a:lnTo>
                  <a:lnTo>
                    <a:pt x="179" y="0"/>
                  </a:lnTo>
                  <a:lnTo>
                    <a:pt x="333" y="0"/>
                  </a:lnTo>
                  <a:lnTo>
                    <a:pt x="480" y="1"/>
                  </a:lnTo>
                  <a:lnTo>
                    <a:pt x="618" y="1"/>
                  </a:lnTo>
                  <a:lnTo>
                    <a:pt x="747" y="1"/>
                  </a:lnTo>
                  <a:lnTo>
                    <a:pt x="869" y="2"/>
                  </a:lnTo>
                  <a:lnTo>
                    <a:pt x="981" y="3"/>
                  </a:lnTo>
                  <a:lnTo>
                    <a:pt x="1086" y="4"/>
                  </a:lnTo>
                  <a:lnTo>
                    <a:pt x="1182" y="5"/>
                  </a:lnTo>
                  <a:lnTo>
                    <a:pt x="1309" y="7"/>
                  </a:lnTo>
                  <a:lnTo>
                    <a:pt x="1448" y="10"/>
                  </a:lnTo>
                  <a:lnTo>
                    <a:pt x="1598" y="13"/>
                  </a:lnTo>
                  <a:lnTo>
                    <a:pt x="1762" y="16"/>
                  </a:lnTo>
                  <a:lnTo>
                    <a:pt x="1935" y="21"/>
                  </a:lnTo>
                  <a:lnTo>
                    <a:pt x="2122" y="25"/>
                  </a:lnTo>
                  <a:lnTo>
                    <a:pt x="2319" y="31"/>
                  </a:lnTo>
                  <a:lnTo>
                    <a:pt x="2529" y="36"/>
                  </a:lnTo>
                  <a:lnTo>
                    <a:pt x="2549" y="38"/>
                  </a:lnTo>
                  <a:lnTo>
                    <a:pt x="2569" y="39"/>
                  </a:lnTo>
                  <a:lnTo>
                    <a:pt x="2586" y="42"/>
                  </a:lnTo>
                  <a:lnTo>
                    <a:pt x="2603" y="45"/>
                  </a:lnTo>
                  <a:lnTo>
                    <a:pt x="2617" y="48"/>
                  </a:lnTo>
                  <a:lnTo>
                    <a:pt x="2632" y="52"/>
                  </a:lnTo>
                  <a:lnTo>
                    <a:pt x="2644" y="55"/>
                  </a:lnTo>
                  <a:lnTo>
                    <a:pt x="2656" y="59"/>
                  </a:lnTo>
                  <a:lnTo>
                    <a:pt x="2666" y="65"/>
                  </a:lnTo>
                  <a:lnTo>
                    <a:pt x="2674" y="69"/>
                  </a:lnTo>
                  <a:lnTo>
                    <a:pt x="2681" y="75"/>
                  </a:lnTo>
                  <a:lnTo>
                    <a:pt x="2687" y="81"/>
                  </a:lnTo>
                  <a:lnTo>
                    <a:pt x="2692" y="87"/>
                  </a:lnTo>
                  <a:lnTo>
                    <a:pt x="2696" y="93"/>
                  </a:lnTo>
                  <a:lnTo>
                    <a:pt x="2697" y="101"/>
                  </a:lnTo>
                  <a:lnTo>
                    <a:pt x="2698" y="109"/>
                  </a:lnTo>
                  <a:lnTo>
                    <a:pt x="2697" y="114"/>
                  </a:lnTo>
                  <a:lnTo>
                    <a:pt x="2695" y="120"/>
                  </a:lnTo>
                  <a:lnTo>
                    <a:pt x="2691" y="125"/>
                  </a:lnTo>
                  <a:lnTo>
                    <a:pt x="2687" y="130"/>
                  </a:lnTo>
                  <a:lnTo>
                    <a:pt x="2680" y="135"/>
                  </a:lnTo>
                  <a:lnTo>
                    <a:pt x="2674" y="140"/>
                  </a:lnTo>
                  <a:lnTo>
                    <a:pt x="2664" y="143"/>
                  </a:lnTo>
                  <a:lnTo>
                    <a:pt x="2654" y="148"/>
                  </a:lnTo>
                  <a:lnTo>
                    <a:pt x="2643" y="151"/>
                  </a:lnTo>
                  <a:lnTo>
                    <a:pt x="2629" y="154"/>
                  </a:lnTo>
                  <a:lnTo>
                    <a:pt x="2615" y="157"/>
                  </a:lnTo>
                  <a:lnTo>
                    <a:pt x="2600" y="160"/>
                  </a:lnTo>
                  <a:lnTo>
                    <a:pt x="2563" y="164"/>
                  </a:lnTo>
                  <a:lnTo>
                    <a:pt x="2522" y="167"/>
                  </a:lnTo>
                  <a:lnTo>
                    <a:pt x="2456" y="172"/>
                  </a:lnTo>
                  <a:lnTo>
                    <a:pt x="2382" y="175"/>
                  </a:lnTo>
                  <a:lnTo>
                    <a:pt x="2303" y="178"/>
                  </a:lnTo>
                  <a:lnTo>
                    <a:pt x="2218" y="183"/>
                  </a:lnTo>
                  <a:lnTo>
                    <a:pt x="2125" y="186"/>
                  </a:lnTo>
                  <a:lnTo>
                    <a:pt x="2028" y="188"/>
                  </a:lnTo>
                  <a:lnTo>
                    <a:pt x="1923" y="192"/>
                  </a:lnTo>
                  <a:lnTo>
                    <a:pt x="1812" y="195"/>
                  </a:lnTo>
                  <a:lnTo>
                    <a:pt x="1688" y="197"/>
                  </a:lnTo>
                  <a:lnTo>
                    <a:pt x="1572" y="201"/>
                  </a:lnTo>
                  <a:lnTo>
                    <a:pt x="1467" y="203"/>
                  </a:lnTo>
                  <a:lnTo>
                    <a:pt x="1372" y="205"/>
                  </a:lnTo>
                  <a:lnTo>
                    <a:pt x="1288" y="208"/>
                  </a:lnTo>
                  <a:lnTo>
                    <a:pt x="1213" y="210"/>
                  </a:lnTo>
                  <a:lnTo>
                    <a:pt x="1148" y="213"/>
                  </a:lnTo>
                  <a:lnTo>
                    <a:pt x="1094" y="215"/>
                  </a:lnTo>
                  <a:lnTo>
                    <a:pt x="1047" y="218"/>
                  </a:lnTo>
                  <a:lnTo>
                    <a:pt x="1007" y="223"/>
                  </a:lnTo>
                  <a:lnTo>
                    <a:pt x="988" y="225"/>
                  </a:lnTo>
                  <a:lnTo>
                    <a:pt x="971" y="228"/>
                  </a:lnTo>
                  <a:lnTo>
                    <a:pt x="956" y="231"/>
                  </a:lnTo>
                  <a:lnTo>
                    <a:pt x="941" y="235"/>
                  </a:lnTo>
                  <a:lnTo>
                    <a:pt x="928" y="238"/>
                  </a:lnTo>
                  <a:lnTo>
                    <a:pt x="917" y="242"/>
                  </a:lnTo>
                  <a:lnTo>
                    <a:pt x="907" y="247"/>
                  </a:lnTo>
                  <a:lnTo>
                    <a:pt x="898" y="251"/>
                  </a:lnTo>
                  <a:lnTo>
                    <a:pt x="892" y="257"/>
                  </a:lnTo>
                  <a:lnTo>
                    <a:pt x="886" y="262"/>
                  </a:lnTo>
                  <a:lnTo>
                    <a:pt x="882" y="268"/>
                  </a:lnTo>
                  <a:lnTo>
                    <a:pt x="878" y="273"/>
                  </a:lnTo>
                  <a:lnTo>
                    <a:pt x="877" y="280"/>
                  </a:lnTo>
                  <a:lnTo>
                    <a:pt x="875" y="295"/>
                  </a:lnTo>
                  <a:lnTo>
                    <a:pt x="872" y="321"/>
                  </a:lnTo>
                  <a:lnTo>
                    <a:pt x="867" y="356"/>
                  </a:lnTo>
                  <a:lnTo>
                    <a:pt x="862" y="400"/>
                  </a:lnTo>
                  <a:lnTo>
                    <a:pt x="856" y="453"/>
                  </a:lnTo>
                  <a:lnTo>
                    <a:pt x="849" y="516"/>
                  </a:lnTo>
                  <a:lnTo>
                    <a:pt x="841" y="588"/>
                  </a:lnTo>
                  <a:lnTo>
                    <a:pt x="771" y="1216"/>
                  </a:lnTo>
                  <a:lnTo>
                    <a:pt x="1960" y="1225"/>
                  </a:lnTo>
                  <a:lnTo>
                    <a:pt x="2002" y="1224"/>
                  </a:lnTo>
                  <a:lnTo>
                    <a:pt x="2049" y="1224"/>
                  </a:lnTo>
                  <a:lnTo>
                    <a:pt x="2098" y="1224"/>
                  </a:lnTo>
                  <a:lnTo>
                    <a:pt x="2154" y="1224"/>
                  </a:lnTo>
                  <a:lnTo>
                    <a:pt x="2213" y="1225"/>
                  </a:lnTo>
                  <a:lnTo>
                    <a:pt x="2276" y="1225"/>
                  </a:lnTo>
                  <a:lnTo>
                    <a:pt x="2343" y="1226"/>
                  </a:lnTo>
                  <a:lnTo>
                    <a:pt x="2415" y="1227"/>
                  </a:lnTo>
                  <a:lnTo>
                    <a:pt x="2447" y="1230"/>
                  </a:lnTo>
                  <a:lnTo>
                    <a:pt x="2474" y="1235"/>
                  </a:lnTo>
                  <a:lnTo>
                    <a:pt x="2486" y="1237"/>
                  </a:lnTo>
                  <a:lnTo>
                    <a:pt x="2497" y="1240"/>
                  </a:lnTo>
                  <a:lnTo>
                    <a:pt x="2507" y="1243"/>
                  </a:lnTo>
                  <a:lnTo>
                    <a:pt x="2516" y="1248"/>
                  </a:lnTo>
                  <a:lnTo>
                    <a:pt x="2523" y="1252"/>
                  </a:lnTo>
                  <a:lnTo>
                    <a:pt x="2531" y="1257"/>
                  </a:lnTo>
                  <a:lnTo>
                    <a:pt x="2537" y="1262"/>
                  </a:lnTo>
                  <a:lnTo>
                    <a:pt x="2541" y="1268"/>
                  </a:lnTo>
                  <a:lnTo>
                    <a:pt x="2544" y="1273"/>
                  </a:lnTo>
                  <a:lnTo>
                    <a:pt x="2548" y="1280"/>
                  </a:lnTo>
                  <a:lnTo>
                    <a:pt x="2549" y="1286"/>
                  </a:lnTo>
                  <a:lnTo>
                    <a:pt x="2550" y="1294"/>
                  </a:lnTo>
                  <a:lnTo>
                    <a:pt x="2549" y="1302"/>
                  </a:lnTo>
                  <a:lnTo>
                    <a:pt x="2548" y="1310"/>
                  </a:lnTo>
                  <a:lnTo>
                    <a:pt x="2544" y="1316"/>
                  </a:lnTo>
                  <a:lnTo>
                    <a:pt x="2541" y="1323"/>
                  </a:lnTo>
                  <a:lnTo>
                    <a:pt x="2536" y="1329"/>
                  </a:lnTo>
                  <a:lnTo>
                    <a:pt x="2530" y="1335"/>
                  </a:lnTo>
                  <a:lnTo>
                    <a:pt x="2522" y="1340"/>
                  </a:lnTo>
                  <a:lnTo>
                    <a:pt x="2515" y="1346"/>
                  </a:lnTo>
                  <a:lnTo>
                    <a:pt x="2505" y="1350"/>
                  </a:lnTo>
                  <a:lnTo>
                    <a:pt x="2495" y="1355"/>
                  </a:lnTo>
                  <a:lnTo>
                    <a:pt x="2483" y="1358"/>
                  </a:lnTo>
                  <a:lnTo>
                    <a:pt x="2470" y="1361"/>
                  </a:lnTo>
                  <a:lnTo>
                    <a:pt x="2456" y="1365"/>
                  </a:lnTo>
                  <a:lnTo>
                    <a:pt x="2442" y="1367"/>
                  </a:lnTo>
                  <a:lnTo>
                    <a:pt x="2425" y="1369"/>
                  </a:lnTo>
                  <a:lnTo>
                    <a:pt x="2409" y="1370"/>
                  </a:lnTo>
                  <a:lnTo>
                    <a:pt x="2363" y="1374"/>
                  </a:lnTo>
                  <a:lnTo>
                    <a:pt x="2288" y="1377"/>
                  </a:lnTo>
                  <a:lnTo>
                    <a:pt x="2182" y="1381"/>
                  </a:lnTo>
                  <a:lnTo>
                    <a:pt x="2046" y="1388"/>
                  </a:lnTo>
                  <a:lnTo>
                    <a:pt x="1880" y="1395"/>
                  </a:lnTo>
                  <a:lnTo>
                    <a:pt x="1682" y="1402"/>
                  </a:lnTo>
                  <a:lnTo>
                    <a:pt x="1454" y="1411"/>
                  </a:lnTo>
                  <a:lnTo>
                    <a:pt x="1195" y="1421"/>
                  </a:lnTo>
                  <a:lnTo>
                    <a:pt x="1158" y="1422"/>
                  </a:lnTo>
                  <a:lnTo>
                    <a:pt x="1116" y="1424"/>
                  </a:lnTo>
                  <a:lnTo>
                    <a:pt x="1069" y="1427"/>
                  </a:lnTo>
                  <a:lnTo>
                    <a:pt x="1019" y="1428"/>
                  </a:lnTo>
                  <a:lnTo>
                    <a:pt x="963" y="1430"/>
                  </a:lnTo>
                  <a:lnTo>
                    <a:pt x="904" y="1432"/>
                  </a:lnTo>
                  <a:lnTo>
                    <a:pt x="840" y="1434"/>
                  </a:lnTo>
                  <a:lnTo>
                    <a:pt x="771" y="1436"/>
                  </a:lnTo>
                  <a:lnTo>
                    <a:pt x="768" y="1486"/>
                  </a:lnTo>
                  <a:lnTo>
                    <a:pt x="766" y="1534"/>
                  </a:lnTo>
                  <a:lnTo>
                    <a:pt x="763" y="1579"/>
                  </a:lnTo>
                  <a:lnTo>
                    <a:pt x="761" y="1622"/>
                  </a:lnTo>
                  <a:lnTo>
                    <a:pt x="759" y="1663"/>
                  </a:lnTo>
                  <a:lnTo>
                    <a:pt x="758" y="1701"/>
                  </a:lnTo>
                  <a:lnTo>
                    <a:pt x="758" y="1738"/>
                  </a:lnTo>
                  <a:lnTo>
                    <a:pt x="757" y="1772"/>
                  </a:lnTo>
                  <a:lnTo>
                    <a:pt x="758" y="1782"/>
                  </a:lnTo>
                  <a:lnTo>
                    <a:pt x="760" y="1792"/>
                  </a:lnTo>
                  <a:lnTo>
                    <a:pt x="765" y="1801"/>
                  </a:lnTo>
                  <a:lnTo>
                    <a:pt x="770" y="1809"/>
                  </a:lnTo>
                  <a:lnTo>
                    <a:pt x="777" y="1817"/>
                  </a:lnTo>
                  <a:lnTo>
                    <a:pt x="786" y="1824"/>
                  </a:lnTo>
                  <a:lnTo>
                    <a:pt x="796" y="1830"/>
                  </a:lnTo>
                  <a:lnTo>
                    <a:pt x="808" y="1836"/>
                  </a:lnTo>
                  <a:lnTo>
                    <a:pt x="821" y="1841"/>
                  </a:lnTo>
                  <a:lnTo>
                    <a:pt x="835" y="1846"/>
                  </a:lnTo>
                  <a:lnTo>
                    <a:pt x="852" y="1849"/>
                  </a:lnTo>
                  <a:lnTo>
                    <a:pt x="870" y="1853"/>
                  </a:lnTo>
                  <a:lnTo>
                    <a:pt x="889" y="1855"/>
                  </a:lnTo>
                  <a:lnTo>
                    <a:pt x="910" y="1856"/>
                  </a:lnTo>
                  <a:lnTo>
                    <a:pt x="934" y="1857"/>
                  </a:lnTo>
                  <a:lnTo>
                    <a:pt x="958" y="1858"/>
                  </a:lnTo>
                  <a:lnTo>
                    <a:pt x="1032" y="1858"/>
                  </a:lnTo>
                  <a:lnTo>
                    <a:pt x="1115" y="1857"/>
                  </a:lnTo>
                  <a:lnTo>
                    <a:pt x="1206" y="1857"/>
                  </a:lnTo>
                  <a:lnTo>
                    <a:pt x="1307" y="1857"/>
                  </a:lnTo>
                  <a:lnTo>
                    <a:pt x="1416" y="1857"/>
                  </a:lnTo>
                  <a:lnTo>
                    <a:pt x="1534" y="1857"/>
                  </a:lnTo>
                  <a:lnTo>
                    <a:pt x="1661" y="1857"/>
                  </a:lnTo>
                  <a:lnTo>
                    <a:pt x="1797" y="1857"/>
                  </a:lnTo>
                  <a:lnTo>
                    <a:pt x="1933" y="1856"/>
                  </a:lnTo>
                  <a:lnTo>
                    <a:pt x="2059" y="1856"/>
                  </a:lnTo>
                  <a:lnTo>
                    <a:pt x="2177" y="1856"/>
                  </a:lnTo>
                  <a:lnTo>
                    <a:pt x="2286" y="1856"/>
                  </a:lnTo>
                  <a:lnTo>
                    <a:pt x="2387" y="1856"/>
                  </a:lnTo>
                  <a:lnTo>
                    <a:pt x="2478" y="1855"/>
                  </a:lnTo>
                  <a:lnTo>
                    <a:pt x="2561" y="1855"/>
                  </a:lnTo>
                  <a:lnTo>
                    <a:pt x="2635" y="1855"/>
                  </a:lnTo>
                  <a:lnTo>
                    <a:pt x="2690" y="1856"/>
                  </a:lnTo>
                  <a:lnTo>
                    <a:pt x="2738" y="1859"/>
                  </a:lnTo>
                  <a:lnTo>
                    <a:pt x="2759" y="1861"/>
                  </a:lnTo>
                  <a:lnTo>
                    <a:pt x="2778" y="1864"/>
                  </a:lnTo>
                  <a:lnTo>
                    <a:pt x="2796" y="1867"/>
                  </a:lnTo>
                  <a:lnTo>
                    <a:pt x="2812" y="1870"/>
                  </a:lnTo>
                  <a:lnTo>
                    <a:pt x="2825" y="1873"/>
                  </a:lnTo>
                  <a:lnTo>
                    <a:pt x="2837" y="1878"/>
                  </a:lnTo>
                  <a:lnTo>
                    <a:pt x="2847" y="1883"/>
                  </a:lnTo>
                  <a:lnTo>
                    <a:pt x="2855" y="1888"/>
                  </a:lnTo>
                  <a:lnTo>
                    <a:pt x="2861" y="1893"/>
                  </a:lnTo>
                  <a:lnTo>
                    <a:pt x="2866" y="1900"/>
                  </a:lnTo>
                  <a:lnTo>
                    <a:pt x="2869" y="1907"/>
                  </a:lnTo>
                  <a:lnTo>
                    <a:pt x="2869" y="1913"/>
                  </a:lnTo>
                  <a:lnTo>
                    <a:pt x="2869" y="1920"/>
                  </a:lnTo>
                  <a:lnTo>
                    <a:pt x="2867" y="1925"/>
                  </a:lnTo>
                  <a:lnTo>
                    <a:pt x="2863" y="1931"/>
                  </a:lnTo>
                  <a:lnTo>
                    <a:pt x="2858" y="1935"/>
                  </a:lnTo>
                  <a:lnTo>
                    <a:pt x="2851" y="1941"/>
                  </a:lnTo>
                  <a:lnTo>
                    <a:pt x="2844" y="1945"/>
                  </a:lnTo>
                  <a:lnTo>
                    <a:pt x="2834" y="1950"/>
                  </a:lnTo>
                  <a:lnTo>
                    <a:pt x="2824" y="1953"/>
                  </a:lnTo>
                  <a:lnTo>
                    <a:pt x="2812" y="1957"/>
                  </a:lnTo>
                  <a:lnTo>
                    <a:pt x="2797" y="1961"/>
                  </a:lnTo>
                  <a:lnTo>
                    <a:pt x="2782" y="1964"/>
                  </a:lnTo>
                  <a:lnTo>
                    <a:pt x="2765" y="1967"/>
                  </a:lnTo>
                  <a:lnTo>
                    <a:pt x="2728" y="1973"/>
                  </a:lnTo>
                  <a:lnTo>
                    <a:pt x="2683" y="1978"/>
                  </a:lnTo>
                  <a:lnTo>
                    <a:pt x="2591" y="1986"/>
                  </a:lnTo>
                  <a:lnTo>
                    <a:pt x="2485" y="1995"/>
                  </a:lnTo>
                  <a:lnTo>
                    <a:pt x="2367" y="2003"/>
                  </a:lnTo>
                  <a:lnTo>
                    <a:pt x="2234" y="2013"/>
                  </a:lnTo>
                  <a:lnTo>
                    <a:pt x="2088" y="2021"/>
                  </a:lnTo>
                  <a:lnTo>
                    <a:pt x="1931" y="2030"/>
                  </a:lnTo>
                  <a:lnTo>
                    <a:pt x="1759" y="2040"/>
                  </a:lnTo>
                  <a:lnTo>
                    <a:pt x="1575" y="2050"/>
                  </a:lnTo>
                  <a:lnTo>
                    <a:pt x="1386" y="2059"/>
                  </a:lnTo>
                  <a:lnTo>
                    <a:pt x="1212" y="2068"/>
                  </a:lnTo>
                  <a:lnTo>
                    <a:pt x="1053" y="2074"/>
                  </a:lnTo>
                  <a:lnTo>
                    <a:pt x="908" y="2080"/>
                  </a:lnTo>
                  <a:lnTo>
                    <a:pt x="777" y="2084"/>
                  </a:lnTo>
                  <a:lnTo>
                    <a:pt x="661" y="2086"/>
                  </a:lnTo>
                  <a:lnTo>
                    <a:pt x="559" y="2089"/>
                  </a:lnTo>
                  <a:lnTo>
                    <a:pt x="472" y="2090"/>
                  </a:lnTo>
                  <a:lnTo>
                    <a:pt x="417" y="2089"/>
                  </a:lnTo>
                  <a:lnTo>
                    <a:pt x="367" y="2086"/>
                  </a:lnTo>
                  <a:lnTo>
                    <a:pt x="320" y="2083"/>
                  </a:lnTo>
                  <a:lnTo>
                    <a:pt x="276" y="2079"/>
                  </a:lnTo>
                  <a:lnTo>
                    <a:pt x="236" y="2073"/>
                  </a:lnTo>
                  <a:lnTo>
                    <a:pt x="199" y="2067"/>
                  </a:lnTo>
                  <a:lnTo>
                    <a:pt x="183" y="2062"/>
                  </a:lnTo>
                  <a:lnTo>
                    <a:pt x="166" y="2058"/>
                  </a:lnTo>
                  <a:lnTo>
                    <a:pt x="152" y="2053"/>
                  </a:lnTo>
                  <a:lnTo>
                    <a:pt x="138" y="2048"/>
                  </a:lnTo>
                  <a:lnTo>
                    <a:pt x="124" y="2042"/>
                  </a:lnTo>
                  <a:lnTo>
                    <a:pt x="111" y="2037"/>
                  </a:lnTo>
                  <a:lnTo>
                    <a:pt x="100" y="2031"/>
                  </a:lnTo>
                  <a:lnTo>
                    <a:pt x="89" y="2025"/>
                  </a:lnTo>
                  <a:lnTo>
                    <a:pt x="79" y="2018"/>
                  </a:lnTo>
                  <a:lnTo>
                    <a:pt x="70" y="2011"/>
                  </a:lnTo>
                  <a:lnTo>
                    <a:pt x="63" y="2004"/>
                  </a:lnTo>
                  <a:lnTo>
                    <a:pt x="56" y="1996"/>
                  </a:lnTo>
                  <a:lnTo>
                    <a:pt x="49" y="1988"/>
                  </a:lnTo>
                  <a:lnTo>
                    <a:pt x="44" y="1979"/>
                  </a:lnTo>
                  <a:lnTo>
                    <a:pt x="39" y="1972"/>
                  </a:lnTo>
                  <a:lnTo>
                    <a:pt x="36" y="1963"/>
                  </a:lnTo>
                  <a:lnTo>
                    <a:pt x="34" y="1953"/>
                  </a:lnTo>
                  <a:lnTo>
                    <a:pt x="32" y="1944"/>
                  </a:lnTo>
                  <a:lnTo>
                    <a:pt x="31" y="1934"/>
                  </a:lnTo>
                  <a:lnTo>
                    <a:pt x="31" y="1923"/>
                  </a:lnTo>
                  <a:lnTo>
                    <a:pt x="31" y="1908"/>
                  </a:lnTo>
                  <a:lnTo>
                    <a:pt x="43" y="1669"/>
                  </a:lnTo>
                  <a:lnTo>
                    <a:pt x="53" y="1436"/>
                  </a:lnTo>
                  <a:lnTo>
                    <a:pt x="63" y="1210"/>
                  </a:lnTo>
                  <a:lnTo>
                    <a:pt x="69" y="991"/>
                  </a:lnTo>
                  <a:lnTo>
                    <a:pt x="75" y="777"/>
                  </a:lnTo>
                  <a:lnTo>
                    <a:pt x="79" y="570"/>
                  </a:lnTo>
                  <a:lnTo>
                    <a:pt x="81" y="369"/>
                  </a:lnTo>
                  <a:lnTo>
                    <a:pt x="82" y="175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911840" y="1017360"/>
              <a:ext cx="1549440" cy="822240"/>
            </a:xfrm>
            <a:custGeom>
              <a:avLst/>
              <a:gdLst/>
              <a:ahLst/>
              <a:rect l="l" t="t" r="r" b="b"/>
              <a:pathLst>
                <a:path w="3903" h="2072">
                  <a:moveTo>
                    <a:pt x="1686" y="0"/>
                  </a:moveTo>
                  <a:lnTo>
                    <a:pt x="1702" y="0"/>
                  </a:lnTo>
                  <a:lnTo>
                    <a:pt x="1722" y="0"/>
                  </a:lnTo>
                  <a:lnTo>
                    <a:pt x="1743" y="1"/>
                  </a:lnTo>
                  <a:lnTo>
                    <a:pt x="1766" y="2"/>
                  </a:lnTo>
                  <a:lnTo>
                    <a:pt x="1791" y="3"/>
                  </a:lnTo>
                  <a:lnTo>
                    <a:pt x="1819" y="4"/>
                  </a:lnTo>
                  <a:lnTo>
                    <a:pt x="1848" y="6"/>
                  </a:lnTo>
                  <a:lnTo>
                    <a:pt x="1879" y="8"/>
                  </a:lnTo>
                  <a:lnTo>
                    <a:pt x="1911" y="11"/>
                  </a:lnTo>
                  <a:lnTo>
                    <a:pt x="1939" y="12"/>
                  </a:lnTo>
                  <a:lnTo>
                    <a:pt x="1967" y="14"/>
                  </a:lnTo>
                  <a:lnTo>
                    <a:pt x="1992" y="15"/>
                  </a:lnTo>
                  <a:lnTo>
                    <a:pt x="2016" y="16"/>
                  </a:lnTo>
                  <a:lnTo>
                    <a:pt x="2038" y="16"/>
                  </a:lnTo>
                  <a:lnTo>
                    <a:pt x="2058" y="17"/>
                  </a:lnTo>
                  <a:lnTo>
                    <a:pt x="2074" y="17"/>
                  </a:lnTo>
                  <a:lnTo>
                    <a:pt x="2085" y="17"/>
                  </a:lnTo>
                  <a:lnTo>
                    <a:pt x="2097" y="16"/>
                  </a:lnTo>
                  <a:lnTo>
                    <a:pt x="2111" y="16"/>
                  </a:lnTo>
                  <a:lnTo>
                    <a:pt x="2125" y="15"/>
                  </a:lnTo>
                  <a:lnTo>
                    <a:pt x="2141" y="15"/>
                  </a:lnTo>
                  <a:lnTo>
                    <a:pt x="2158" y="14"/>
                  </a:lnTo>
                  <a:lnTo>
                    <a:pt x="2177" y="13"/>
                  </a:lnTo>
                  <a:lnTo>
                    <a:pt x="2197" y="11"/>
                  </a:lnTo>
                  <a:lnTo>
                    <a:pt x="2217" y="9"/>
                  </a:lnTo>
                  <a:lnTo>
                    <a:pt x="2235" y="8"/>
                  </a:lnTo>
                  <a:lnTo>
                    <a:pt x="2252" y="7"/>
                  </a:lnTo>
                  <a:lnTo>
                    <a:pt x="2268" y="6"/>
                  </a:lnTo>
                  <a:lnTo>
                    <a:pt x="2284" y="6"/>
                  </a:lnTo>
                  <a:lnTo>
                    <a:pt x="2297" y="5"/>
                  </a:lnTo>
                  <a:lnTo>
                    <a:pt x="2310" y="5"/>
                  </a:lnTo>
                  <a:lnTo>
                    <a:pt x="2323" y="5"/>
                  </a:lnTo>
                  <a:lnTo>
                    <a:pt x="2360" y="5"/>
                  </a:lnTo>
                  <a:lnTo>
                    <a:pt x="2396" y="6"/>
                  </a:lnTo>
                  <a:lnTo>
                    <a:pt x="2430" y="7"/>
                  </a:lnTo>
                  <a:lnTo>
                    <a:pt x="2462" y="9"/>
                  </a:lnTo>
                  <a:lnTo>
                    <a:pt x="2490" y="13"/>
                  </a:lnTo>
                  <a:lnTo>
                    <a:pt x="2518" y="16"/>
                  </a:lnTo>
                  <a:lnTo>
                    <a:pt x="2542" y="20"/>
                  </a:lnTo>
                  <a:lnTo>
                    <a:pt x="2565" y="25"/>
                  </a:lnTo>
                  <a:lnTo>
                    <a:pt x="2585" y="30"/>
                  </a:lnTo>
                  <a:lnTo>
                    <a:pt x="2604" y="37"/>
                  </a:lnTo>
                  <a:lnTo>
                    <a:pt x="2619" y="44"/>
                  </a:lnTo>
                  <a:lnTo>
                    <a:pt x="2634" y="51"/>
                  </a:lnTo>
                  <a:lnTo>
                    <a:pt x="2645" y="59"/>
                  </a:lnTo>
                  <a:lnTo>
                    <a:pt x="2655" y="68"/>
                  </a:lnTo>
                  <a:lnTo>
                    <a:pt x="2661" y="77"/>
                  </a:lnTo>
                  <a:lnTo>
                    <a:pt x="2667" y="87"/>
                  </a:lnTo>
                  <a:lnTo>
                    <a:pt x="2674" y="111"/>
                  </a:lnTo>
                  <a:lnTo>
                    <a:pt x="2681" y="139"/>
                  </a:lnTo>
                  <a:lnTo>
                    <a:pt x="2691" y="168"/>
                  </a:lnTo>
                  <a:lnTo>
                    <a:pt x="2702" y="201"/>
                  </a:lnTo>
                  <a:lnTo>
                    <a:pt x="2714" y="238"/>
                  </a:lnTo>
                  <a:lnTo>
                    <a:pt x="2728" y="277"/>
                  </a:lnTo>
                  <a:lnTo>
                    <a:pt x="2743" y="318"/>
                  </a:lnTo>
                  <a:lnTo>
                    <a:pt x="2760" y="363"/>
                  </a:lnTo>
                  <a:lnTo>
                    <a:pt x="2786" y="418"/>
                  </a:lnTo>
                  <a:lnTo>
                    <a:pt x="2814" y="473"/>
                  </a:lnTo>
                  <a:lnTo>
                    <a:pt x="2841" y="528"/>
                  </a:lnTo>
                  <a:lnTo>
                    <a:pt x="2869" y="582"/>
                  </a:lnTo>
                  <a:lnTo>
                    <a:pt x="2899" y="636"/>
                  </a:lnTo>
                  <a:lnTo>
                    <a:pt x="2928" y="689"/>
                  </a:lnTo>
                  <a:lnTo>
                    <a:pt x="2957" y="742"/>
                  </a:lnTo>
                  <a:lnTo>
                    <a:pt x="2988" y="795"/>
                  </a:lnTo>
                  <a:lnTo>
                    <a:pt x="3019" y="847"/>
                  </a:lnTo>
                  <a:lnTo>
                    <a:pt x="3051" y="899"/>
                  </a:lnTo>
                  <a:lnTo>
                    <a:pt x="3083" y="950"/>
                  </a:lnTo>
                  <a:lnTo>
                    <a:pt x="3116" y="1000"/>
                  </a:lnTo>
                  <a:lnTo>
                    <a:pt x="3149" y="1051"/>
                  </a:lnTo>
                  <a:lnTo>
                    <a:pt x="3184" y="1101"/>
                  </a:lnTo>
                  <a:lnTo>
                    <a:pt x="3218" y="1151"/>
                  </a:lnTo>
                  <a:lnTo>
                    <a:pt x="3253" y="1199"/>
                  </a:lnTo>
                  <a:lnTo>
                    <a:pt x="3289" y="1249"/>
                  </a:lnTo>
                  <a:lnTo>
                    <a:pt x="3325" y="1296"/>
                  </a:lnTo>
                  <a:lnTo>
                    <a:pt x="3362" y="1345"/>
                  </a:lnTo>
                  <a:lnTo>
                    <a:pt x="3399" y="1392"/>
                  </a:lnTo>
                  <a:lnTo>
                    <a:pt x="3438" y="1439"/>
                  </a:lnTo>
                  <a:lnTo>
                    <a:pt x="3476" y="1485"/>
                  </a:lnTo>
                  <a:lnTo>
                    <a:pt x="3515" y="1531"/>
                  </a:lnTo>
                  <a:lnTo>
                    <a:pt x="3555" y="1578"/>
                  </a:lnTo>
                  <a:lnTo>
                    <a:pt x="3595" y="1623"/>
                  </a:lnTo>
                  <a:lnTo>
                    <a:pt x="3636" y="1667"/>
                  </a:lnTo>
                  <a:lnTo>
                    <a:pt x="3677" y="1712"/>
                  </a:lnTo>
                  <a:lnTo>
                    <a:pt x="3719" y="1755"/>
                  </a:lnTo>
                  <a:lnTo>
                    <a:pt x="3762" y="1799"/>
                  </a:lnTo>
                  <a:lnTo>
                    <a:pt x="3805" y="1842"/>
                  </a:lnTo>
                  <a:lnTo>
                    <a:pt x="3849" y="1885"/>
                  </a:lnTo>
                  <a:lnTo>
                    <a:pt x="3894" y="1927"/>
                  </a:lnTo>
                  <a:lnTo>
                    <a:pt x="3896" y="1930"/>
                  </a:lnTo>
                  <a:lnTo>
                    <a:pt x="3898" y="1931"/>
                  </a:lnTo>
                  <a:lnTo>
                    <a:pt x="3899" y="1933"/>
                  </a:lnTo>
                  <a:lnTo>
                    <a:pt x="3900" y="1934"/>
                  </a:lnTo>
                  <a:lnTo>
                    <a:pt x="3901" y="1936"/>
                  </a:lnTo>
                  <a:lnTo>
                    <a:pt x="3902" y="1938"/>
                  </a:lnTo>
                  <a:lnTo>
                    <a:pt x="3902" y="1940"/>
                  </a:lnTo>
                  <a:lnTo>
                    <a:pt x="3903" y="1942"/>
                  </a:lnTo>
                  <a:lnTo>
                    <a:pt x="3902" y="1947"/>
                  </a:lnTo>
                  <a:lnTo>
                    <a:pt x="3899" y="1952"/>
                  </a:lnTo>
                  <a:lnTo>
                    <a:pt x="3894" y="1956"/>
                  </a:lnTo>
                  <a:lnTo>
                    <a:pt x="3887" y="1959"/>
                  </a:lnTo>
                  <a:lnTo>
                    <a:pt x="3878" y="1963"/>
                  </a:lnTo>
                  <a:lnTo>
                    <a:pt x="3867" y="1964"/>
                  </a:lnTo>
                  <a:lnTo>
                    <a:pt x="3854" y="1965"/>
                  </a:lnTo>
                  <a:lnTo>
                    <a:pt x="3838" y="1966"/>
                  </a:lnTo>
                  <a:lnTo>
                    <a:pt x="3831" y="1966"/>
                  </a:lnTo>
                  <a:lnTo>
                    <a:pt x="3823" y="1965"/>
                  </a:lnTo>
                  <a:lnTo>
                    <a:pt x="3814" y="1965"/>
                  </a:lnTo>
                  <a:lnTo>
                    <a:pt x="3804" y="1965"/>
                  </a:lnTo>
                  <a:lnTo>
                    <a:pt x="3793" y="1964"/>
                  </a:lnTo>
                  <a:lnTo>
                    <a:pt x="3781" y="1964"/>
                  </a:lnTo>
                  <a:lnTo>
                    <a:pt x="3769" y="1963"/>
                  </a:lnTo>
                  <a:lnTo>
                    <a:pt x="3754" y="1962"/>
                  </a:lnTo>
                  <a:lnTo>
                    <a:pt x="3741" y="1960"/>
                  </a:lnTo>
                  <a:lnTo>
                    <a:pt x="3729" y="1960"/>
                  </a:lnTo>
                  <a:lnTo>
                    <a:pt x="3717" y="1959"/>
                  </a:lnTo>
                  <a:lnTo>
                    <a:pt x="3706" y="1958"/>
                  </a:lnTo>
                  <a:lnTo>
                    <a:pt x="3696" y="1958"/>
                  </a:lnTo>
                  <a:lnTo>
                    <a:pt x="3686" y="1958"/>
                  </a:lnTo>
                  <a:lnTo>
                    <a:pt x="3677" y="1958"/>
                  </a:lnTo>
                  <a:lnTo>
                    <a:pt x="3669" y="1957"/>
                  </a:lnTo>
                  <a:lnTo>
                    <a:pt x="3595" y="1966"/>
                  </a:lnTo>
                  <a:lnTo>
                    <a:pt x="3528" y="1974"/>
                  </a:lnTo>
                  <a:lnTo>
                    <a:pt x="3466" y="1980"/>
                  </a:lnTo>
                  <a:lnTo>
                    <a:pt x="3411" y="1986"/>
                  </a:lnTo>
                  <a:lnTo>
                    <a:pt x="3362" y="1989"/>
                  </a:lnTo>
                  <a:lnTo>
                    <a:pt x="3319" y="1992"/>
                  </a:lnTo>
                  <a:lnTo>
                    <a:pt x="3283" y="1994"/>
                  </a:lnTo>
                  <a:lnTo>
                    <a:pt x="3253" y="1995"/>
                  </a:lnTo>
                  <a:lnTo>
                    <a:pt x="3206" y="1994"/>
                  </a:lnTo>
                  <a:lnTo>
                    <a:pt x="3164" y="1990"/>
                  </a:lnTo>
                  <a:lnTo>
                    <a:pt x="3145" y="1988"/>
                  </a:lnTo>
                  <a:lnTo>
                    <a:pt x="3127" y="1986"/>
                  </a:lnTo>
                  <a:lnTo>
                    <a:pt x="3111" y="1983"/>
                  </a:lnTo>
                  <a:lnTo>
                    <a:pt x="3095" y="1979"/>
                  </a:lnTo>
                  <a:lnTo>
                    <a:pt x="3081" y="1975"/>
                  </a:lnTo>
                  <a:lnTo>
                    <a:pt x="3069" y="1970"/>
                  </a:lnTo>
                  <a:lnTo>
                    <a:pt x="3057" y="1966"/>
                  </a:lnTo>
                  <a:lnTo>
                    <a:pt x="3047" y="1960"/>
                  </a:lnTo>
                  <a:lnTo>
                    <a:pt x="3038" y="1954"/>
                  </a:lnTo>
                  <a:lnTo>
                    <a:pt x="3029" y="1947"/>
                  </a:lnTo>
                  <a:lnTo>
                    <a:pt x="3022" y="1941"/>
                  </a:lnTo>
                  <a:lnTo>
                    <a:pt x="3018" y="1933"/>
                  </a:lnTo>
                  <a:lnTo>
                    <a:pt x="2979" y="1868"/>
                  </a:lnTo>
                  <a:lnTo>
                    <a:pt x="2941" y="1803"/>
                  </a:lnTo>
                  <a:lnTo>
                    <a:pt x="2901" y="1739"/>
                  </a:lnTo>
                  <a:lnTo>
                    <a:pt x="2861" y="1676"/>
                  </a:lnTo>
                  <a:lnTo>
                    <a:pt x="2820" y="1613"/>
                  </a:lnTo>
                  <a:lnTo>
                    <a:pt x="2778" y="1551"/>
                  </a:lnTo>
                  <a:lnTo>
                    <a:pt x="2737" y="1490"/>
                  </a:lnTo>
                  <a:lnTo>
                    <a:pt x="2695" y="1431"/>
                  </a:lnTo>
                  <a:lnTo>
                    <a:pt x="1052" y="1478"/>
                  </a:lnTo>
                  <a:lnTo>
                    <a:pt x="1030" y="1503"/>
                  </a:lnTo>
                  <a:lnTo>
                    <a:pt x="1009" y="1528"/>
                  </a:lnTo>
                  <a:lnTo>
                    <a:pt x="987" y="1555"/>
                  </a:lnTo>
                  <a:lnTo>
                    <a:pt x="966" y="1583"/>
                  </a:lnTo>
                  <a:lnTo>
                    <a:pt x="944" y="1613"/>
                  </a:lnTo>
                  <a:lnTo>
                    <a:pt x="922" y="1644"/>
                  </a:lnTo>
                  <a:lnTo>
                    <a:pt x="899" y="1677"/>
                  </a:lnTo>
                  <a:lnTo>
                    <a:pt x="876" y="1710"/>
                  </a:lnTo>
                  <a:lnTo>
                    <a:pt x="854" y="1745"/>
                  </a:lnTo>
                  <a:lnTo>
                    <a:pt x="832" y="1782"/>
                  </a:lnTo>
                  <a:lnTo>
                    <a:pt x="809" y="1820"/>
                  </a:lnTo>
                  <a:lnTo>
                    <a:pt x="786" y="1859"/>
                  </a:lnTo>
                  <a:lnTo>
                    <a:pt x="739" y="1942"/>
                  </a:lnTo>
                  <a:lnTo>
                    <a:pt x="693" y="2030"/>
                  </a:lnTo>
                  <a:lnTo>
                    <a:pt x="690" y="2034"/>
                  </a:lnTo>
                  <a:lnTo>
                    <a:pt x="685" y="2040"/>
                  </a:lnTo>
                  <a:lnTo>
                    <a:pt x="681" y="2044"/>
                  </a:lnTo>
                  <a:lnTo>
                    <a:pt x="676" y="2049"/>
                  </a:lnTo>
                  <a:lnTo>
                    <a:pt x="665" y="2055"/>
                  </a:lnTo>
                  <a:lnTo>
                    <a:pt x="652" y="2062"/>
                  </a:lnTo>
                  <a:lnTo>
                    <a:pt x="637" y="2066"/>
                  </a:lnTo>
                  <a:lnTo>
                    <a:pt x="619" y="2070"/>
                  </a:lnTo>
                  <a:lnTo>
                    <a:pt x="600" y="2072"/>
                  </a:lnTo>
                  <a:lnTo>
                    <a:pt x="578" y="2072"/>
                  </a:lnTo>
                  <a:lnTo>
                    <a:pt x="529" y="2072"/>
                  </a:lnTo>
                  <a:lnTo>
                    <a:pt x="481" y="2071"/>
                  </a:lnTo>
                  <a:lnTo>
                    <a:pt x="439" y="2070"/>
                  </a:lnTo>
                  <a:lnTo>
                    <a:pt x="400" y="2068"/>
                  </a:lnTo>
                  <a:lnTo>
                    <a:pt x="366" y="2065"/>
                  </a:lnTo>
                  <a:lnTo>
                    <a:pt x="335" y="2062"/>
                  </a:lnTo>
                  <a:lnTo>
                    <a:pt x="309" y="2059"/>
                  </a:lnTo>
                  <a:lnTo>
                    <a:pt x="286" y="2054"/>
                  </a:lnTo>
                  <a:lnTo>
                    <a:pt x="258" y="2045"/>
                  </a:lnTo>
                  <a:lnTo>
                    <a:pt x="229" y="2038"/>
                  </a:lnTo>
                  <a:lnTo>
                    <a:pt x="202" y="2029"/>
                  </a:lnTo>
                  <a:lnTo>
                    <a:pt x="173" y="2020"/>
                  </a:lnTo>
                  <a:lnTo>
                    <a:pt x="145" y="2011"/>
                  </a:lnTo>
                  <a:lnTo>
                    <a:pt x="118" y="2004"/>
                  </a:lnTo>
                  <a:lnTo>
                    <a:pt x="90" y="1995"/>
                  </a:lnTo>
                  <a:lnTo>
                    <a:pt x="63" y="1986"/>
                  </a:lnTo>
                  <a:lnTo>
                    <a:pt x="48" y="1981"/>
                  </a:lnTo>
                  <a:lnTo>
                    <a:pt x="35" y="1975"/>
                  </a:lnTo>
                  <a:lnTo>
                    <a:pt x="24" y="1969"/>
                  </a:lnTo>
                  <a:lnTo>
                    <a:pt x="16" y="1962"/>
                  </a:lnTo>
                  <a:lnTo>
                    <a:pt x="9" y="1954"/>
                  </a:lnTo>
                  <a:lnTo>
                    <a:pt x="4" y="1945"/>
                  </a:lnTo>
                  <a:lnTo>
                    <a:pt x="1" y="1936"/>
                  </a:lnTo>
                  <a:lnTo>
                    <a:pt x="0" y="1926"/>
                  </a:lnTo>
                  <a:lnTo>
                    <a:pt x="2" y="1919"/>
                  </a:lnTo>
                  <a:lnTo>
                    <a:pt x="7" y="1909"/>
                  </a:lnTo>
                  <a:lnTo>
                    <a:pt x="15" y="1894"/>
                  </a:lnTo>
                  <a:lnTo>
                    <a:pt x="27" y="1877"/>
                  </a:lnTo>
                  <a:lnTo>
                    <a:pt x="43" y="1856"/>
                  </a:lnTo>
                  <a:lnTo>
                    <a:pt x="62" y="1830"/>
                  </a:lnTo>
                  <a:lnTo>
                    <a:pt x="85" y="1803"/>
                  </a:lnTo>
                  <a:lnTo>
                    <a:pt x="110" y="1772"/>
                  </a:lnTo>
                  <a:lnTo>
                    <a:pt x="172" y="1699"/>
                  </a:lnTo>
                  <a:lnTo>
                    <a:pt x="248" y="1613"/>
                  </a:lnTo>
                  <a:lnTo>
                    <a:pt x="338" y="1514"/>
                  </a:lnTo>
                  <a:lnTo>
                    <a:pt x="441" y="1401"/>
                  </a:lnTo>
                  <a:lnTo>
                    <a:pt x="508" y="1328"/>
                  </a:lnTo>
                  <a:lnTo>
                    <a:pt x="575" y="1256"/>
                  </a:lnTo>
                  <a:lnTo>
                    <a:pt x="642" y="1185"/>
                  </a:lnTo>
                  <a:lnTo>
                    <a:pt x="710" y="1112"/>
                  </a:lnTo>
                  <a:lnTo>
                    <a:pt x="777" y="1040"/>
                  </a:lnTo>
                  <a:lnTo>
                    <a:pt x="844" y="967"/>
                  </a:lnTo>
                  <a:lnTo>
                    <a:pt x="912" y="896"/>
                  </a:lnTo>
                  <a:lnTo>
                    <a:pt x="978" y="823"/>
                  </a:lnTo>
                  <a:lnTo>
                    <a:pt x="1042" y="752"/>
                  </a:lnTo>
                  <a:lnTo>
                    <a:pt x="1099" y="688"/>
                  </a:lnTo>
                  <a:lnTo>
                    <a:pt x="1150" y="632"/>
                  </a:lnTo>
                  <a:lnTo>
                    <a:pt x="1195" y="581"/>
                  </a:lnTo>
                  <a:lnTo>
                    <a:pt x="1233" y="539"/>
                  </a:lnTo>
                  <a:lnTo>
                    <a:pt x="1265" y="503"/>
                  </a:lnTo>
                  <a:lnTo>
                    <a:pt x="1290" y="474"/>
                  </a:lnTo>
                  <a:lnTo>
                    <a:pt x="1309" y="453"/>
                  </a:lnTo>
                  <a:lnTo>
                    <a:pt x="1352" y="400"/>
                  </a:lnTo>
                  <a:lnTo>
                    <a:pt x="1393" y="348"/>
                  </a:lnTo>
                  <a:lnTo>
                    <a:pt x="1430" y="299"/>
                  </a:lnTo>
                  <a:lnTo>
                    <a:pt x="1465" y="250"/>
                  </a:lnTo>
                  <a:lnTo>
                    <a:pt x="1497" y="204"/>
                  </a:lnTo>
                  <a:lnTo>
                    <a:pt x="1525" y="160"/>
                  </a:lnTo>
                  <a:lnTo>
                    <a:pt x="1552" y="116"/>
                  </a:lnTo>
                  <a:lnTo>
                    <a:pt x="1575" y="76"/>
                  </a:lnTo>
                  <a:lnTo>
                    <a:pt x="1576" y="69"/>
                  </a:lnTo>
                  <a:lnTo>
                    <a:pt x="1578" y="62"/>
                  </a:lnTo>
                  <a:lnTo>
                    <a:pt x="1580" y="57"/>
                  </a:lnTo>
                  <a:lnTo>
                    <a:pt x="1582" y="50"/>
                  </a:lnTo>
                  <a:lnTo>
                    <a:pt x="1584" y="44"/>
                  </a:lnTo>
                  <a:lnTo>
                    <a:pt x="1585" y="38"/>
                  </a:lnTo>
                  <a:lnTo>
                    <a:pt x="1587" y="32"/>
                  </a:lnTo>
                  <a:lnTo>
                    <a:pt x="1588" y="25"/>
                  </a:lnTo>
                  <a:lnTo>
                    <a:pt x="1595" y="19"/>
                  </a:lnTo>
                  <a:lnTo>
                    <a:pt x="1602" y="14"/>
                  </a:lnTo>
                  <a:lnTo>
                    <a:pt x="1612" y="9"/>
                  </a:lnTo>
                  <a:lnTo>
                    <a:pt x="1623" y="6"/>
                  </a:lnTo>
                  <a:lnTo>
                    <a:pt x="1636" y="3"/>
                  </a:lnTo>
                  <a:lnTo>
                    <a:pt x="1650" y="1"/>
                  </a:lnTo>
                  <a:lnTo>
                    <a:pt x="1667" y="0"/>
                  </a:lnTo>
                  <a:lnTo>
                    <a:pt x="1686" y="0"/>
                  </a:lnTo>
                  <a:close/>
                  <a:moveTo>
                    <a:pt x="2587" y="1280"/>
                  </a:moveTo>
                  <a:lnTo>
                    <a:pt x="2047" y="398"/>
                  </a:lnTo>
                  <a:lnTo>
                    <a:pt x="1185" y="1314"/>
                  </a:lnTo>
                  <a:lnTo>
                    <a:pt x="2587" y="1280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913440" y="995400"/>
              <a:ext cx="1103400" cy="815400"/>
            </a:xfrm>
            <a:custGeom>
              <a:avLst/>
              <a:gdLst/>
              <a:ahLst/>
              <a:rect l="l" t="t" r="r" b="b"/>
              <a:pathLst>
                <a:path w="2780" h="2055">
                  <a:moveTo>
                    <a:pt x="116" y="475"/>
                  </a:moveTo>
                  <a:lnTo>
                    <a:pt x="116" y="397"/>
                  </a:lnTo>
                  <a:lnTo>
                    <a:pt x="116" y="328"/>
                  </a:lnTo>
                  <a:lnTo>
                    <a:pt x="115" y="266"/>
                  </a:lnTo>
                  <a:lnTo>
                    <a:pt x="113" y="213"/>
                  </a:lnTo>
                  <a:lnTo>
                    <a:pt x="111" y="169"/>
                  </a:lnTo>
                  <a:lnTo>
                    <a:pt x="109" y="133"/>
                  </a:lnTo>
                  <a:lnTo>
                    <a:pt x="106" y="105"/>
                  </a:lnTo>
                  <a:lnTo>
                    <a:pt x="104" y="86"/>
                  </a:lnTo>
                  <a:lnTo>
                    <a:pt x="103" y="84"/>
                  </a:lnTo>
                  <a:lnTo>
                    <a:pt x="103" y="81"/>
                  </a:lnTo>
                  <a:lnTo>
                    <a:pt x="100" y="77"/>
                  </a:lnTo>
                  <a:lnTo>
                    <a:pt x="99" y="74"/>
                  </a:lnTo>
                  <a:lnTo>
                    <a:pt x="96" y="71"/>
                  </a:lnTo>
                  <a:lnTo>
                    <a:pt x="94" y="66"/>
                  </a:lnTo>
                  <a:lnTo>
                    <a:pt x="89" y="63"/>
                  </a:lnTo>
                  <a:lnTo>
                    <a:pt x="86" y="59"/>
                  </a:lnTo>
                  <a:lnTo>
                    <a:pt x="82" y="54"/>
                  </a:lnTo>
                  <a:lnTo>
                    <a:pt x="78" y="50"/>
                  </a:lnTo>
                  <a:lnTo>
                    <a:pt x="75" y="46"/>
                  </a:lnTo>
                  <a:lnTo>
                    <a:pt x="73" y="43"/>
                  </a:lnTo>
                  <a:lnTo>
                    <a:pt x="72" y="41"/>
                  </a:lnTo>
                  <a:lnTo>
                    <a:pt x="71" y="39"/>
                  </a:lnTo>
                  <a:lnTo>
                    <a:pt x="70" y="37"/>
                  </a:lnTo>
                  <a:lnTo>
                    <a:pt x="70" y="35"/>
                  </a:lnTo>
                  <a:lnTo>
                    <a:pt x="70" y="31"/>
                  </a:lnTo>
                  <a:lnTo>
                    <a:pt x="71" y="27"/>
                  </a:lnTo>
                  <a:lnTo>
                    <a:pt x="73" y="23"/>
                  </a:lnTo>
                  <a:lnTo>
                    <a:pt x="76" y="20"/>
                  </a:lnTo>
                  <a:lnTo>
                    <a:pt x="79" y="17"/>
                  </a:lnTo>
                  <a:lnTo>
                    <a:pt x="84" y="13"/>
                  </a:lnTo>
                  <a:lnTo>
                    <a:pt x="89" y="11"/>
                  </a:lnTo>
                  <a:lnTo>
                    <a:pt x="96" y="9"/>
                  </a:lnTo>
                  <a:lnTo>
                    <a:pt x="110" y="5"/>
                  </a:lnTo>
                  <a:lnTo>
                    <a:pt x="129" y="2"/>
                  </a:lnTo>
                  <a:lnTo>
                    <a:pt x="150" y="0"/>
                  </a:lnTo>
                  <a:lnTo>
                    <a:pt x="176" y="0"/>
                  </a:lnTo>
                  <a:lnTo>
                    <a:pt x="181" y="0"/>
                  </a:lnTo>
                  <a:lnTo>
                    <a:pt x="188" y="0"/>
                  </a:lnTo>
                  <a:lnTo>
                    <a:pt x="194" y="1"/>
                  </a:lnTo>
                  <a:lnTo>
                    <a:pt x="203" y="1"/>
                  </a:lnTo>
                  <a:lnTo>
                    <a:pt x="212" y="1"/>
                  </a:lnTo>
                  <a:lnTo>
                    <a:pt x="222" y="2"/>
                  </a:lnTo>
                  <a:lnTo>
                    <a:pt x="233" y="3"/>
                  </a:lnTo>
                  <a:lnTo>
                    <a:pt x="244" y="5"/>
                  </a:lnTo>
                  <a:lnTo>
                    <a:pt x="256" y="6"/>
                  </a:lnTo>
                  <a:lnTo>
                    <a:pt x="267" y="6"/>
                  </a:lnTo>
                  <a:lnTo>
                    <a:pt x="277" y="7"/>
                  </a:lnTo>
                  <a:lnTo>
                    <a:pt x="287" y="7"/>
                  </a:lnTo>
                  <a:lnTo>
                    <a:pt x="296" y="8"/>
                  </a:lnTo>
                  <a:lnTo>
                    <a:pt x="304" y="8"/>
                  </a:lnTo>
                  <a:lnTo>
                    <a:pt x="311" y="8"/>
                  </a:lnTo>
                  <a:lnTo>
                    <a:pt x="317" y="8"/>
                  </a:lnTo>
                  <a:lnTo>
                    <a:pt x="336" y="8"/>
                  </a:lnTo>
                  <a:lnTo>
                    <a:pt x="355" y="8"/>
                  </a:lnTo>
                  <a:lnTo>
                    <a:pt x="379" y="8"/>
                  </a:lnTo>
                  <a:lnTo>
                    <a:pt x="403" y="7"/>
                  </a:lnTo>
                  <a:lnTo>
                    <a:pt x="429" y="7"/>
                  </a:lnTo>
                  <a:lnTo>
                    <a:pt x="458" y="6"/>
                  </a:lnTo>
                  <a:lnTo>
                    <a:pt x="489" y="6"/>
                  </a:lnTo>
                  <a:lnTo>
                    <a:pt x="522" y="5"/>
                  </a:lnTo>
                  <a:lnTo>
                    <a:pt x="555" y="3"/>
                  </a:lnTo>
                  <a:lnTo>
                    <a:pt x="585" y="2"/>
                  </a:lnTo>
                  <a:lnTo>
                    <a:pt x="614" y="1"/>
                  </a:lnTo>
                  <a:lnTo>
                    <a:pt x="640" y="1"/>
                  </a:lnTo>
                  <a:lnTo>
                    <a:pt x="665" y="1"/>
                  </a:lnTo>
                  <a:lnTo>
                    <a:pt x="686" y="0"/>
                  </a:lnTo>
                  <a:lnTo>
                    <a:pt x="705" y="0"/>
                  </a:lnTo>
                  <a:lnTo>
                    <a:pt x="723" y="0"/>
                  </a:lnTo>
                  <a:lnTo>
                    <a:pt x="821" y="0"/>
                  </a:lnTo>
                  <a:lnTo>
                    <a:pt x="919" y="2"/>
                  </a:lnTo>
                  <a:lnTo>
                    <a:pt x="1013" y="5"/>
                  </a:lnTo>
                  <a:lnTo>
                    <a:pt x="1106" y="8"/>
                  </a:lnTo>
                  <a:lnTo>
                    <a:pt x="1198" y="12"/>
                  </a:lnTo>
                  <a:lnTo>
                    <a:pt x="1288" y="19"/>
                  </a:lnTo>
                  <a:lnTo>
                    <a:pt x="1376" y="24"/>
                  </a:lnTo>
                  <a:lnTo>
                    <a:pt x="1462" y="32"/>
                  </a:lnTo>
                  <a:lnTo>
                    <a:pt x="1547" y="41"/>
                  </a:lnTo>
                  <a:lnTo>
                    <a:pt x="1629" y="51"/>
                  </a:lnTo>
                  <a:lnTo>
                    <a:pt x="1710" y="62"/>
                  </a:lnTo>
                  <a:lnTo>
                    <a:pt x="1788" y="73"/>
                  </a:lnTo>
                  <a:lnTo>
                    <a:pt x="1866" y="86"/>
                  </a:lnTo>
                  <a:lnTo>
                    <a:pt x="1942" y="99"/>
                  </a:lnTo>
                  <a:lnTo>
                    <a:pt x="2015" y="114"/>
                  </a:lnTo>
                  <a:lnTo>
                    <a:pt x="2088" y="129"/>
                  </a:lnTo>
                  <a:lnTo>
                    <a:pt x="2130" y="140"/>
                  </a:lnTo>
                  <a:lnTo>
                    <a:pt x="2172" y="150"/>
                  </a:lnTo>
                  <a:lnTo>
                    <a:pt x="2211" y="160"/>
                  </a:lnTo>
                  <a:lnTo>
                    <a:pt x="2250" y="171"/>
                  </a:lnTo>
                  <a:lnTo>
                    <a:pt x="2286" y="182"/>
                  </a:lnTo>
                  <a:lnTo>
                    <a:pt x="2323" y="193"/>
                  </a:lnTo>
                  <a:lnTo>
                    <a:pt x="2357" y="205"/>
                  </a:lnTo>
                  <a:lnTo>
                    <a:pt x="2390" y="216"/>
                  </a:lnTo>
                  <a:lnTo>
                    <a:pt x="2422" y="229"/>
                  </a:lnTo>
                  <a:lnTo>
                    <a:pt x="2453" y="242"/>
                  </a:lnTo>
                  <a:lnTo>
                    <a:pt x="2482" y="254"/>
                  </a:lnTo>
                  <a:lnTo>
                    <a:pt x="2509" y="267"/>
                  </a:lnTo>
                  <a:lnTo>
                    <a:pt x="2536" y="280"/>
                  </a:lnTo>
                  <a:lnTo>
                    <a:pt x="2561" y="294"/>
                  </a:lnTo>
                  <a:lnTo>
                    <a:pt x="2584" y="307"/>
                  </a:lnTo>
                  <a:lnTo>
                    <a:pt x="2607" y="321"/>
                  </a:lnTo>
                  <a:lnTo>
                    <a:pt x="2628" y="335"/>
                  </a:lnTo>
                  <a:lnTo>
                    <a:pt x="2647" y="349"/>
                  </a:lnTo>
                  <a:lnTo>
                    <a:pt x="2665" y="364"/>
                  </a:lnTo>
                  <a:lnTo>
                    <a:pt x="2683" y="379"/>
                  </a:lnTo>
                  <a:lnTo>
                    <a:pt x="2698" y="394"/>
                  </a:lnTo>
                  <a:lnTo>
                    <a:pt x="2713" y="410"/>
                  </a:lnTo>
                  <a:lnTo>
                    <a:pt x="2725" y="425"/>
                  </a:lnTo>
                  <a:lnTo>
                    <a:pt x="2737" y="442"/>
                  </a:lnTo>
                  <a:lnTo>
                    <a:pt x="2747" y="457"/>
                  </a:lnTo>
                  <a:lnTo>
                    <a:pt x="2756" y="474"/>
                  </a:lnTo>
                  <a:lnTo>
                    <a:pt x="2763" y="490"/>
                  </a:lnTo>
                  <a:lnTo>
                    <a:pt x="2769" y="508"/>
                  </a:lnTo>
                  <a:lnTo>
                    <a:pt x="2773" y="524"/>
                  </a:lnTo>
                  <a:lnTo>
                    <a:pt x="2777" y="542"/>
                  </a:lnTo>
                  <a:lnTo>
                    <a:pt x="2779" y="560"/>
                  </a:lnTo>
                  <a:lnTo>
                    <a:pt x="2780" y="578"/>
                  </a:lnTo>
                  <a:lnTo>
                    <a:pt x="2779" y="597"/>
                  </a:lnTo>
                  <a:lnTo>
                    <a:pt x="2778" y="616"/>
                  </a:lnTo>
                  <a:lnTo>
                    <a:pt x="2774" y="635"/>
                  </a:lnTo>
                  <a:lnTo>
                    <a:pt x="2770" y="653"/>
                  </a:lnTo>
                  <a:lnTo>
                    <a:pt x="2766" y="672"/>
                  </a:lnTo>
                  <a:lnTo>
                    <a:pt x="2759" y="691"/>
                  </a:lnTo>
                  <a:lnTo>
                    <a:pt x="2751" y="709"/>
                  </a:lnTo>
                  <a:lnTo>
                    <a:pt x="2742" y="727"/>
                  </a:lnTo>
                  <a:lnTo>
                    <a:pt x="2732" y="745"/>
                  </a:lnTo>
                  <a:lnTo>
                    <a:pt x="2721" y="763"/>
                  </a:lnTo>
                  <a:lnTo>
                    <a:pt x="2709" y="780"/>
                  </a:lnTo>
                  <a:lnTo>
                    <a:pt x="2696" y="798"/>
                  </a:lnTo>
                  <a:lnTo>
                    <a:pt x="2680" y="816"/>
                  </a:lnTo>
                  <a:lnTo>
                    <a:pt x="2665" y="833"/>
                  </a:lnTo>
                  <a:lnTo>
                    <a:pt x="2648" y="850"/>
                  </a:lnTo>
                  <a:lnTo>
                    <a:pt x="2630" y="868"/>
                  </a:lnTo>
                  <a:lnTo>
                    <a:pt x="2611" y="884"/>
                  </a:lnTo>
                  <a:lnTo>
                    <a:pt x="2590" y="901"/>
                  </a:lnTo>
                  <a:lnTo>
                    <a:pt x="2568" y="918"/>
                  </a:lnTo>
                  <a:lnTo>
                    <a:pt x="2546" y="935"/>
                  </a:lnTo>
                  <a:lnTo>
                    <a:pt x="2522" y="950"/>
                  </a:lnTo>
                  <a:lnTo>
                    <a:pt x="2496" y="967"/>
                  </a:lnTo>
                  <a:lnTo>
                    <a:pt x="2470" y="983"/>
                  </a:lnTo>
                  <a:lnTo>
                    <a:pt x="2442" y="999"/>
                  </a:lnTo>
                  <a:lnTo>
                    <a:pt x="2413" y="1015"/>
                  </a:lnTo>
                  <a:lnTo>
                    <a:pt x="2384" y="1031"/>
                  </a:lnTo>
                  <a:lnTo>
                    <a:pt x="2353" y="1046"/>
                  </a:lnTo>
                  <a:lnTo>
                    <a:pt x="2321" y="1062"/>
                  </a:lnTo>
                  <a:lnTo>
                    <a:pt x="2287" y="1077"/>
                  </a:lnTo>
                  <a:lnTo>
                    <a:pt x="2252" y="1093"/>
                  </a:lnTo>
                  <a:lnTo>
                    <a:pt x="2217" y="1107"/>
                  </a:lnTo>
                  <a:lnTo>
                    <a:pt x="2180" y="1122"/>
                  </a:lnTo>
                  <a:lnTo>
                    <a:pt x="2143" y="1137"/>
                  </a:lnTo>
                  <a:lnTo>
                    <a:pt x="2104" y="1151"/>
                  </a:lnTo>
                  <a:lnTo>
                    <a:pt x="2066" y="1164"/>
                  </a:lnTo>
                  <a:lnTo>
                    <a:pt x="2027" y="1178"/>
                  </a:lnTo>
                  <a:lnTo>
                    <a:pt x="1949" y="1203"/>
                  </a:lnTo>
                  <a:lnTo>
                    <a:pt x="1869" y="1226"/>
                  </a:lnTo>
                  <a:lnTo>
                    <a:pt x="1788" y="1248"/>
                  </a:lnTo>
                  <a:lnTo>
                    <a:pt x="1706" y="1267"/>
                  </a:lnTo>
                  <a:lnTo>
                    <a:pt x="1622" y="1285"/>
                  </a:lnTo>
                  <a:lnTo>
                    <a:pt x="1537" y="1301"/>
                  </a:lnTo>
                  <a:lnTo>
                    <a:pt x="1451" y="1314"/>
                  </a:lnTo>
                  <a:lnTo>
                    <a:pt x="1363" y="1327"/>
                  </a:lnTo>
                  <a:lnTo>
                    <a:pt x="1274" y="1337"/>
                  </a:lnTo>
                  <a:lnTo>
                    <a:pt x="1183" y="1345"/>
                  </a:lnTo>
                  <a:lnTo>
                    <a:pt x="1092" y="1352"/>
                  </a:lnTo>
                  <a:lnTo>
                    <a:pt x="999" y="1356"/>
                  </a:lnTo>
                  <a:lnTo>
                    <a:pt x="904" y="1360"/>
                  </a:lnTo>
                  <a:lnTo>
                    <a:pt x="809" y="1361"/>
                  </a:lnTo>
                  <a:lnTo>
                    <a:pt x="806" y="1383"/>
                  </a:lnTo>
                  <a:lnTo>
                    <a:pt x="803" y="1405"/>
                  </a:lnTo>
                  <a:lnTo>
                    <a:pt x="800" y="1426"/>
                  </a:lnTo>
                  <a:lnTo>
                    <a:pt x="798" y="1446"/>
                  </a:lnTo>
                  <a:lnTo>
                    <a:pt x="797" y="1465"/>
                  </a:lnTo>
                  <a:lnTo>
                    <a:pt x="796" y="1483"/>
                  </a:lnTo>
                  <a:lnTo>
                    <a:pt x="795" y="1500"/>
                  </a:lnTo>
                  <a:lnTo>
                    <a:pt x="795" y="1515"/>
                  </a:lnTo>
                  <a:lnTo>
                    <a:pt x="795" y="1554"/>
                  </a:lnTo>
                  <a:lnTo>
                    <a:pt x="796" y="1591"/>
                  </a:lnTo>
                  <a:lnTo>
                    <a:pt x="797" y="1628"/>
                  </a:lnTo>
                  <a:lnTo>
                    <a:pt x="799" y="1662"/>
                  </a:lnTo>
                  <a:lnTo>
                    <a:pt x="801" y="1696"/>
                  </a:lnTo>
                  <a:lnTo>
                    <a:pt x="804" y="1727"/>
                  </a:lnTo>
                  <a:lnTo>
                    <a:pt x="807" y="1758"/>
                  </a:lnTo>
                  <a:lnTo>
                    <a:pt x="811" y="1788"/>
                  </a:lnTo>
                  <a:lnTo>
                    <a:pt x="816" y="1815"/>
                  </a:lnTo>
                  <a:lnTo>
                    <a:pt x="820" y="1842"/>
                  </a:lnTo>
                  <a:lnTo>
                    <a:pt x="826" y="1866"/>
                  </a:lnTo>
                  <a:lnTo>
                    <a:pt x="832" y="1890"/>
                  </a:lnTo>
                  <a:lnTo>
                    <a:pt x="838" y="1913"/>
                  </a:lnTo>
                  <a:lnTo>
                    <a:pt x="846" y="1934"/>
                  </a:lnTo>
                  <a:lnTo>
                    <a:pt x="852" y="1952"/>
                  </a:lnTo>
                  <a:lnTo>
                    <a:pt x="861" y="1971"/>
                  </a:lnTo>
                  <a:lnTo>
                    <a:pt x="866" y="1981"/>
                  </a:lnTo>
                  <a:lnTo>
                    <a:pt x="870" y="1991"/>
                  </a:lnTo>
                  <a:lnTo>
                    <a:pt x="873" y="1998"/>
                  </a:lnTo>
                  <a:lnTo>
                    <a:pt x="877" y="2004"/>
                  </a:lnTo>
                  <a:lnTo>
                    <a:pt x="879" y="2007"/>
                  </a:lnTo>
                  <a:lnTo>
                    <a:pt x="881" y="2011"/>
                  </a:lnTo>
                  <a:lnTo>
                    <a:pt x="881" y="2011"/>
                  </a:lnTo>
                  <a:lnTo>
                    <a:pt x="882" y="2010"/>
                  </a:lnTo>
                  <a:lnTo>
                    <a:pt x="881" y="2015"/>
                  </a:lnTo>
                  <a:lnTo>
                    <a:pt x="880" y="2021"/>
                  </a:lnTo>
                  <a:lnTo>
                    <a:pt x="877" y="2025"/>
                  </a:lnTo>
                  <a:lnTo>
                    <a:pt x="872" y="2030"/>
                  </a:lnTo>
                  <a:lnTo>
                    <a:pt x="867" y="2034"/>
                  </a:lnTo>
                  <a:lnTo>
                    <a:pt x="860" y="2037"/>
                  </a:lnTo>
                  <a:lnTo>
                    <a:pt x="852" y="2041"/>
                  </a:lnTo>
                  <a:lnTo>
                    <a:pt x="843" y="2044"/>
                  </a:lnTo>
                  <a:lnTo>
                    <a:pt x="834" y="2047"/>
                  </a:lnTo>
                  <a:lnTo>
                    <a:pt x="822" y="2049"/>
                  </a:lnTo>
                  <a:lnTo>
                    <a:pt x="810" y="2050"/>
                  </a:lnTo>
                  <a:lnTo>
                    <a:pt x="796" y="2053"/>
                  </a:lnTo>
                  <a:lnTo>
                    <a:pt x="766" y="2055"/>
                  </a:lnTo>
                  <a:lnTo>
                    <a:pt x="730" y="2055"/>
                  </a:lnTo>
                  <a:lnTo>
                    <a:pt x="720" y="2055"/>
                  </a:lnTo>
                  <a:lnTo>
                    <a:pt x="709" y="2055"/>
                  </a:lnTo>
                  <a:lnTo>
                    <a:pt x="697" y="2054"/>
                  </a:lnTo>
                  <a:lnTo>
                    <a:pt x="684" y="2053"/>
                  </a:lnTo>
                  <a:lnTo>
                    <a:pt x="671" y="2052"/>
                  </a:lnTo>
                  <a:lnTo>
                    <a:pt x="658" y="2049"/>
                  </a:lnTo>
                  <a:lnTo>
                    <a:pt x="644" y="2047"/>
                  </a:lnTo>
                  <a:lnTo>
                    <a:pt x="629" y="2045"/>
                  </a:lnTo>
                  <a:lnTo>
                    <a:pt x="614" y="2043"/>
                  </a:lnTo>
                  <a:lnTo>
                    <a:pt x="601" y="2041"/>
                  </a:lnTo>
                  <a:lnTo>
                    <a:pt x="588" y="2038"/>
                  </a:lnTo>
                  <a:lnTo>
                    <a:pt x="576" y="2037"/>
                  </a:lnTo>
                  <a:lnTo>
                    <a:pt x="566" y="2036"/>
                  </a:lnTo>
                  <a:lnTo>
                    <a:pt x="556" y="2035"/>
                  </a:lnTo>
                  <a:lnTo>
                    <a:pt x="549" y="2035"/>
                  </a:lnTo>
                  <a:lnTo>
                    <a:pt x="541" y="2035"/>
                  </a:lnTo>
                  <a:lnTo>
                    <a:pt x="535" y="2035"/>
                  </a:lnTo>
                  <a:lnTo>
                    <a:pt x="529" y="2035"/>
                  </a:lnTo>
                  <a:lnTo>
                    <a:pt x="522" y="2035"/>
                  </a:lnTo>
                  <a:lnTo>
                    <a:pt x="514" y="2036"/>
                  </a:lnTo>
                  <a:lnTo>
                    <a:pt x="507" y="2036"/>
                  </a:lnTo>
                  <a:lnTo>
                    <a:pt x="498" y="2037"/>
                  </a:lnTo>
                  <a:lnTo>
                    <a:pt x="489" y="2038"/>
                  </a:lnTo>
                  <a:lnTo>
                    <a:pt x="478" y="2039"/>
                  </a:lnTo>
                  <a:lnTo>
                    <a:pt x="468" y="2041"/>
                  </a:lnTo>
                  <a:lnTo>
                    <a:pt x="459" y="2042"/>
                  </a:lnTo>
                  <a:lnTo>
                    <a:pt x="450" y="2043"/>
                  </a:lnTo>
                  <a:lnTo>
                    <a:pt x="443" y="2043"/>
                  </a:lnTo>
                  <a:lnTo>
                    <a:pt x="435" y="2044"/>
                  </a:lnTo>
                  <a:lnTo>
                    <a:pt x="428" y="2044"/>
                  </a:lnTo>
                  <a:lnTo>
                    <a:pt x="423" y="2044"/>
                  </a:lnTo>
                  <a:lnTo>
                    <a:pt x="417" y="2044"/>
                  </a:lnTo>
                  <a:lnTo>
                    <a:pt x="395" y="2044"/>
                  </a:lnTo>
                  <a:lnTo>
                    <a:pt x="371" y="2042"/>
                  </a:lnTo>
                  <a:lnTo>
                    <a:pt x="344" y="2039"/>
                  </a:lnTo>
                  <a:lnTo>
                    <a:pt x="315" y="2036"/>
                  </a:lnTo>
                  <a:lnTo>
                    <a:pt x="284" y="2032"/>
                  </a:lnTo>
                  <a:lnTo>
                    <a:pt x="249" y="2026"/>
                  </a:lnTo>
                  <a:lnTo>
                    <a:pt x="213" y="2021"/>
                  </a:lnTo>
                  <a:lnTo>
                    <a:pt x="176" y="2013"/>
                  </a:lnTo>
                  <a:lnTo>
                    <a:pt x="134" y="2004"/>
                  </a:lnTo>
                  <a:lnTo>
                    <a:pt x="98" y="1996"/>
                  </a:lnTo>
                  <a:lnTo>
                    <a:pt x="68" y="1988"/>
                  </a:lnTo>
                  <a:lnTo>
                    <a:pt x="44" y="1980"/>
                  </a:lnTo>
                  <a:lnTo>
                    <a:pt x="24" y="1972"/>
                  </a:lnTo>
                  <a:lnTo>
                    <a:pt x="11" y="1964"/>
                  </a:lnTo>
                  <a:lnTo>
                    <a:pt x="6" y="1961"/>
                  </a:lnTo>
                  <a:lnTo>
                    <a:pt x="2" y="1958"/>
                  </a:lnTo>
                  <a:lnTo>
                    <a:pt x="0" y="1953"/>
                  </a:lnTo>
                  <a:lnTo>
                    <a:pt x="0" y="1950"/>
                  </a:lnTo>
                  <a:lnTo>
                    <a:pt x="0" y="1948"/>
                  </a:lnTo>
                  <a:lnTo>
                    <a:pt x="1" y="1945"/>
                  </a:lnTo>
                  <a:lnTo>
                    <a:pt x="2" y="1942"/>
                  </a:lnTo>
                  <a:lnTo>
                    <a:pt x="3" y="1939"/>
                  </a:lnTo>
                  <a:lnTo>
                    <a:pt x="6" y="1935"/>
                  </a:lnTo>
                  <a:lnTo>
                    <a:pt x="8" y="1931"/>
                  </a:lnTo>
                  <a:lnTo>
                    <a:pt x="11" y="1927"/>
                  </a:lnTo>
                  <a:lnTo>
                    <a:pt x="15" y="1922"/>
                  </a:lnTo>
                  <a:lnTo>
                    <a:pt x="19" y="1918"/>
                  </a:lnTo>
                  <a:lnTo>
                    <a:pt x="22" y="1914"/>
                  </a:lnTo>
                  <a:lnTo>
                    <a:pt x="25" y="1910"/>
                  </a:lnTo>
                  <a:lnTo>
                    <a:pt x="28" y="1907"/>
                  </a:lnTo>
                  <a:lnTo>
                    <a:pt x="30" y="1904"/>
                  </a:lnTo>
                  <a:lnTo>
                    <a:pt x="32" y="1900"/>
                  </a:lnTo>
                  <a:lnTo>
                    <a:pt x="33" y="1898"/>
                  </a:lnTo>
                  <a:lnTo>
                    <a:pt x="34" y="1896"/>
                  </a:lnTo>
                  <a:lnTo>
                    <a:pt x="38" y="1875"/>
                  </a:lnTo>
                  <a:lnTo>
                    <a:pt x="41" y="1850"/>
                  </a:lnTo>
                  <a:lnTo>
                    <a:pt x="45" y="1818"/>
                  </a:lnTo>
                  <a:lnTo>
                    <a:pt x="49" y="1781"/>
                  </a:lnTo>
                  <a:lnTo>
                    <a:pt x="56" y="1691"/>
                  </a:lnTo>
                  <a:lnTo>
                    <a:pt x="65" y="1577"/>
                  </a:lnTo>
                  <a:lnTo>
                    <a:pt x="74" y="1442"/>
                  </a:lnTo>
                  <a:lnTo>
                    <a:pt x="83" y="1286"/>
                  </a:lnTo>
                  <a:lnTo>
                    <a:pt x="93" y="1107"/>
                  </a:lnTo>
                  <a:lnTo>
                    <a:pt x="103" y="906"/>
                  </a:lnTo>
                  <a:lnTo>
                    <a:pt x="106" y="840"/>
                  </a:lnTo>
                  <a:lnTo>
                    <a:pt x="108" y="778"/>
                  </a:lnTo>
                  <a:lnTo>
                    <a:pt x="110" y="720"/>
                  </a:lnTo>
                  <a:lnTo>
                    <a:pt x="113" y="664"/>
                  </a:lnTo>
                  <a:lnTo>
                    <a:pt x="115" y="611"/>
                  </a:lnTo>
                  <a:lnTo>
                    <a:pt x="116" y="563"/>
                  </a:lnTo>
                  <a:lnTo>
                    <a:pt x="116" y="518"/>
                  </a:lnTo>
                  <a:lnTo>
                    <a:pt x="116" y="475"/>
                  </a:lnTo>
                  <a:close/>
                  <a:moveTo>
                    <a:pt x="1381" y="211"/>
                  </a:moveTo>
                  <a:lnTo>
                    <a:pt x="1334" y="211"/>
                  </a:lnTo>
                  <a:lnTo>
                    <a:pt x="1288" y="212"/>
                  </a:lnTo>
                  <a:lnTo>
                    <a:pt x="1245" y="212"/>
                  </a:lnTo>
                  <a:lnTo>
                    <a:pt x="1203" y="213"/>
                  </a:lnTo>
                  <a:lnTo>
                    <a:pt x="1164" y="214"/>
                  </a:lnTo>
                  <a:lnTo>
                    <a:pt x="1126" y="215"/>
                  </a:lnTo>
                  <a:lnTo>
                    <a:pt x="1091" y="216"/>
                  </a:lnTo>
                  <a:lnTo>
                    <a:pt x="1057" y="219"/>
                  </a:lnTo>
                  <a:lnTo>
                    <a:pt x="1023" y="220"/>
                  </a:lnTo>
                  <a:lnTo>
                    <a:pt x="992" y="222"/>
                  </a:lnTo>
                  <a:lnTo>
                    <a:pt x="965" y="224"/>
                  </a:lnTo>
                  <a:lnTo>
                    <a:pt x="941" y="227"/>
                  </a:lnTo>
                  <a:lnTo>
                    <a:pt x="920" y="231"/>
                  </a:lnTo>
                  <a:lnTo>
                    <a:pt x="901" y="234"/>
                  </a:lnTo>
                  <a:lnTo>
                    <a:pt x="886" y="239"/>
                  </a:lnTo>
                  <a:lnTo>
                    <a:pt x="874" y="242"/>
                  </a:lnTo>
                  <a:lnTo>
                    <a:pt x="866" y="247"/>
                  </a:lnTo>
                  <a:lnTo>
                    <a:pt x="857" y="254"/>
                  </a:lnTo>
                  <a:lnTo>
                    <a:pt x="848" y="262"/>
                  </a:lnTo>
                  <a:lnTo>
                    <a:pt x="841" y="269"/>
                  </a:lnTo>
                  <a:lnTo>
                    <a:pt x="836" y="279"/>
                  </a:lnTo>
                  <a:lnTo>
                    <a:pt x="830" y="290"/>
                  </a:lnTo>
                  <a:lnTo>
                    <a:pt x="826" y="303"/>
                  </a:lnTo>
                  <a:lnTo>
                    <a:pt x="822" y="316"/>
                  </a:lnTo>
                  <a:lnTo>
                    <a:pt x="811" y="411"/>
                  </a:lnTo>
                  <a:lnTo>
                    <a:pt x="803" y="509"/>
                  </a:lnTo>
                  <a:lnTo>
                    <a:pt x="794" y="610"/>
                  </a:lnTo>
                  <a:lnTo>
                    <a:pt x="787" y="714"/>
                  </a:lnTo>
                  <a:lnTo>
                    <a:pt x="782" y="821"/>
                  </a:lnTo>
                  <a:lnTo>
                    <a:pt x="778" y="932"/>
                  </a:lnTo>
                  <a:lnTo>
                    <a:pt x="776" y="1045"/>
                  </a:lnTo>
                  <a:lnTo>
                    <a:pt x="775" y="1162"/>
                  </a:lnTo>
                  <a:lnTo>
                    <a:pt x="775" y="1168"/>
                  </a:lnTo>
                  <a:lnTo>
                    <a:pt x="776" y="1173"/>
                  </a:lnTo>
                  <a:lnTo>
                    <a:pt x="778" y="1178"/>
                  </a:lnTo>
                  <a:lnTo>
                    <a:pt x="782" y="1182"/>
                  </a:lnTo>
                  <a:lnTo>
                    <a:pt x="785" y="1186"/>
                  </a:lnTo>
                  <a:lnTo>
                    <a:pt x="789" y="1191"/>
                  </a:lnTo>
                  <a:lnTo>
                    <a:pt x="795" y="1194"/>
                  </a:lnTo>
                  <a:lnTo>
                    <a:pt x="801" y="1197"/>
                  </a:lnTo>
                  <a:lnTo>
                    <a:pt x="808" y="1200"/>
                  </a:lnTo>
                  <a:lnTo>
                    <a:pt x="817" y="1203"/>
                  </a:lnTo>
                  <a:lnTo>
                    <a:pt x="825" y="1204"/>
                  </a:lnTo>
                  <a:lnTo>
                    <a:pt x="835" y="1206"/>
                  </a:lnTo>
                  <a:lnTo>
                    <a:pt x="857" y="1209"/>
                  </a:lnTo>
                  <a:lnTo>
                    <a:pt x="882" y="1210"/>
                  </a:lnTo>
                  <a:lnTo>
                    <a:pt x="925" y="1209"/>
                  </a:lnTo>
                  <a:lnTo>
                    <a:pt x="972" y="1205"/>
                  </a:lnTo>
                  <a:lnTo>
                    <a:pt x="1019" y="1201"/>
                  </a:lnTo>
                  <a:lnTo>
                    <a:pt x="1070" y="1194"/>
                  </a:lnTo>
                  <a:lnTo>
                    <a:pt x="1123" y="1185"/>
                  </a:lnTo>
                  <a:lnTo>
                    <a:pt x="1178" y="1175"/>
                  </a:lnTo>
                  <a:lnTo>
                    <a:pt x="1235" y="1163"/>
                  </a:lnTo>
                  <a:lnTo>
                    <a:pt x="1295" y="1149"/>
                  </a:lnTo>
                  <a:lnTo>
                    <a:pt x="1342" y="1137"/>
                  </a:lnTo>
                  <a:lnTo>
                    <a:pt x="1389" y="1125"/>
                  </a:lnTo>
                  <a:lnTo>
                    <a:pt x="1434" y="1111"/>
                  </a:lnTo>
                  <a:lnTo>
                    <a:pt x="1479" y="1098"/>
                  </a:lnTo>
                  <a:lnTo>
                    <a:pt x="1522" y="1084"/>
                  </a:lnTo>
                  <a:lnTo>
                    <a:pt x="1564" y="1069"/>
                  </a:lnTo>
                  <a:lnTo>
                    <a:pt x="1605" y="1054"/>
                  </a:lnTo>
                  <a:lnTo>
                    <a:pt x="1645" y="1039"/>
                  </a:lnTo>
                  <a:lnTo>
                    <a:pt x="1685" y="1022"/>
                  </a:lnTo>
                  <a:lnTo>
                    <a:pt x="1722" y="1005"/>
                  </a:lnTo>
                  <a:lnTo>
                    <a:pt x="1759" y="989"/>
                  </a:lnTo>
                  <a:lnTo>
                    <a:pt x="1794" y="971"/>
                  </a:lnTo>
                  <a:lnTo>
                    <a:pt x="1828" y="952"/>
                  </a:lnTo>
                  <a:lnTo>
                    <a:pt x="1861" y="935"/>
                  </a:lnTo>
                  <a:lnTo>
                    <a:pt x="1893" y="915"/>
                  </a:lnTo>
                  <a:lnTo>
                    <a:pt x="1925" y="896"/>
                  </a:lnTo>
                  <a:lnTo>
                    <a:pt x="1955" y="875"/>
                  </a:lnTo>
                  <a:lnTo>
                    <a:pt x="1984" y="854"/>
                  </a:lnTo>
                  <a:lnTo>
                    <a:pt x="2009" y="834"/>
                  </a:lnTo>
                  <a:lnTo>
                    <a:pt x="2035" y="813"/>
                  </a:lnTo>
                  <a:lnTo>
                    <a:pt x="2057" y="792"/>
                  </a:lnTo>
                  <a:lnTo>
                    <a:pt x="2078" y="772"/>
                  </a:lnTo>
                  <a:lnTo>
                    <a:pt x="2098" y="751"/>
                  </a:lnTo>
                  <a:lnTo>
                    <a:pt x="2114" y="730"/>
                  </a:lnTo>
                  <a:lnTo>
                    <a:pt x="2130" y="709"/>
                  </a:lnTo>
                  <a:lnTo>
                    <a:pt x="2144" y="688"/>
                  </a:lnTo>
                  <a:lnTo>
                    <a:pt x="2155" y="667"/>
                  </a:lnTo>
                  <a:lnTo>
                    <a:pt x="2165" y="645"/>
                  </a:lnTo>
                  <a:lnTo>
                    <a:pt x="2174" y="624"/>
                  </a:lnTo>
                  <a:lnTo>
                    <a:pt x="2180" y="602"/>
                  </a:lnTo>
                  <a:lnTo>
                    <a:pt x="2185" y="581"/>
                  </a:lnTo>
                  <a:lnTo>
                    <a:pt x="2187" y="559"/>
                  </a:lnTo>
                  <a:lnTo>
                    <a:pt x="2187" y="533"/>
                  </a:lnTo>
                  <a:lnTo>
                    <a:pt x="2188" y="513"/>
                  </a:lnTo>
                  <a:lnTo>
                    <a:pt x="2186" y="493"/>
                  </a:lnTo>
                  <a:lnTo>
                    <a:pt x="2184" y="476"/>
                  </a:lnTo>
                  <a:lnTo>
                    <a:pt x="2179" y="457"/>
                  </a:lnTo>
                  <a:lnTo>
                    <a:pt x="2173" y="440"/>
                  </a:lnTo>
                  <a:lnTo>
                    <a:pt x="2165" y="424"/>
                  </a:lnTo>
                  <a:lnTo>
                    <a:pt x="2156" y="407"/>
                  </a:lnTo>
                  <a:lnTo>
                    <a:pt x="2145" y="392"/>
                  </a:lnTo>
                  <a:lnTo>
                    <a:pt x="2132" y="378"/>
                  </a:lnTo>
                  <a:lnTo>
                    <a:pt x="2117" y="363"/>
                  </a:lnTo>
                  <a:lnTo>
                    <a:pt x="2101" y="350"/>
                  </a:lnTo>
                  <a:lnTo>
                    <a:pt x="2083" y="337"/>
                  </a:lnTo>
                  <a:lnTo>
                    <a:pt x="2064" y="325"/>
                  </a:lnTo>
                  <a:lnTo>
                    <a:pt x="2043" y="314"/>
                  </a:lnTo>
                  <a:lnTo>
                    <a:pt x="2020" y="303"/>
                  </a:lnTo>
                  <a:lnTo>
                    <a:pt x="1996" y="291"/>
                  </a:lnTo>
                  <a:lnTo>
                    <a:pt x="1970" y="282"/>
                  </a:lnTo>
                  <a:lnTo>
                    <a:pt x="1942" y="273"/>
                  </a:lnTo>
                  <a:lnTo>
                    <a:pt x="1913" y="264"/>
                  </a:lnTo>
                  <a:lnTo>
                    <a:pt x="1882" y="256"/>
                  </a:lnTo>
                  <a:lnTo>
                    <a:pt x="1849" y="250"/>
                  </a:lnTo>
                  <a:lnTo>
                    <a:pt x="1815" y="243"/>
                  </a:lnTo>
                  <a:lnTo>
                    <a:pt x="1780" y="236"/>
                  </a:lnTo>
                  <a:lnTo>
                    <a:pt x="1742" y="231"/>
                  </a:lnTo>
                  <a:lnTo>
                    <a:pt x="1702" y="226"/>
                  </a:lnTo>
                  <a:lnTo>
                    <a:pt x="1662" y="222"/>
                  </a:lnTo>
                  <a:lnTo>
                    <a:pt x="1618" y="219"/>
                  </a:lnTo>
                  <a:lnTo>
                    <a:pt x="1574" y="216"/>
                  </a:lnTo>
                  <a:lnTo>
                    <a:pt x="1529" y="214"/>
                  </a:lnTo>
                  <a:lnTo>
                    <a:pt x="1482" y="212"/>
                  </a:lnTo>
                  <a:lnTo>
                    <a:pt x="1432" y="211"/>
                  </a:lnTo>
                  <a:lnTo>
                    <a:pt x="1381" y="211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995560" y="1338120"/>
              <a:ext cx="174600" cy="174240"/>
            </a:xfrm>
            <a:custGeom>
              <a:avLst/>
              <a:gdLst/>
              <a:ahLst/>
              <a:rect l="l" t="t" r="r" b="b"/>
              <a:pathLst>
                <a:path w="439" h="440">
                  <a:moveTo>
                    <a:pt x="220" y="0"/>
                  </a:moveTo>
                  <a:lnTo>
                    <a:pt x="231" y="1"/>
                  </a:lnTo>
                  <a:lnTo>
                    <a:pt x="242" y="1"/>
                  </a:lnTo>
                  <a:lnTo>
                    <a:pt x="253" y="4"/>
                  </a:lnTo>
                  <a:lnTo>
                    <a:pt x="264" y="5"/>
                  </a:lnTo>
                  <a:lnTo>
                    <a:pt x="285" y="10"/>
                  </a:lnTo>
                  <a:lnTo>
                    <a:pt x="305" y="18"/>
                  </a:lnTo>
                  <a:lnTo>
                    <a:pt x="324" y="27"/>
                  </a:lnTo>
                  <a:lnTo>
                    <a:pt x="342" y="38"/>
                  </a:lnTo>
                  <a:lnTo>
                    <a:pt x="359" y="51"/>
                  </a:lnTo>
                  <a:lnTo>
                    <a:pt x="374" y="65"/>
                  </a:lnTo>
                  <a:lnTo>
                    <a:pt x="388" y="81"/>
                  </a:lnTo>
                  <a:lnTo>
                    <a:pt x="402" y="97"/>
                  </a:lnTo>
                  <a:lnTo>
                    <a:pt x="413" y="115"/>
                  </a:lnTo>
                  <a:lnTo>
                    <a:pt x="422" y="135"/>
                  </a:lnTo>
                  <a:lnTo>
                    <a:pt x="429" y="155"/>
                  </a:lnTo>
                  <a:lnTo>
                    <a:pt x="435" y="176"/>
                  </a:lnTo>
                  <a:lnTo>
                    <a:pt x="436" y="187"/>
                  </a:lnTo>
                  <a:lnTo>
                    <a:pt x="438" y="198"/>
                  </a:lnTo>
                  <a:lnTo>
                    <a:pt x="439" y="209"/>
                  </a:lnTo>
                  <a:lnTo>
                    <a:pt x="439" y="220"/>
                  </a:lnTo>
                  <a:lnTo>
                    <a:pt x="439" y="231"/>
                  </a:lnTo>
                  <a:lnTo>
                    <a:pt x="438" y="242"/>
                  </a:lnTo>
                  <a:lnTo>
                    <a:pt x="436" y="253"/>
                  </a:lnTo>
                  <a:lnTo>
                    <a:pt x="435" y="264"/>
                  </a:lnTo>
                  <a:lnTo>
                    <a:pt x="429" y="285"/>
                  </a:lnTo>
                  <a:lnTo>
                    <a:pt x="422" y="305"/>
                  </a:lnTo>
                  <a:lnTo>
                    <a:pt x="413" y="325"/>
                  </a:lnTo>
                  <a:lnTo>
                    <a:pt x="402" y="342"/>
                  </a:lnTo>
                  <a:lnTo>
                    <a:pt x="388" y="360"/>
                  </a:lnTo>
                  <a:lnTo>
                    <a:pt x="374" y="376"/>
                  </a:lnTo>
                  <a:lnTo>
                    <a:pt x="359" y="390"/>
                  </a:lnTo>
                  <a:lnTo>
                    <a:pt x="342" y="402"/>
                  </a:lnTo>
                  <a:lnTo>
                    <a:pt x="324" y="413"/>
                  </a:lnTo>
                  <a:lnTo>
                    <a:pt x="305" y="422"/>
                  </a:lnTo>
                  <a:lnTo>
                    <a:pt x="285" y="430"/>
                  </a:lnTo>
                  <a:lnTo>
                    <a:pt x="264" y="435"/>
                  </a:lnTo>
                  <a:lnTo>
                    <a:pt x="253" y="437"/>
                  </a:lnTo>
                  <a:lnTo>
                    <a:pt x="242" y="438"/>
                  </a:lnTo>
                  <a:lnTo>
                    <a:pt x="231" y="440"/>
                  </a:lnTo>
                  <a:lnTo>
                    <a:pt x="220" y="440"/>
                  </a:lnTo>
                  <a:lnTo>
                    <a:pt x="208" y="440"/>
                  </a:lnTo>
                  <a:lnTo>
                    <a:pt x="197" y="438"/>
                  </a:lnTo>
                  <a:lnTo>
                    <a:pt x="186" y="437"/>
                  </a:lnTo>
                  <a:lnTo>
                    <a:pt x="175" y="435"/>
                  </a:lnTo>
                  <a:lnTo>
                    <a:pt x="154" y="430"/>
                  </a:lnTo>
                  <a:lnTo>
                    <a:pt x="134" y="422"/>
                  </a:lnTo>
                  <a:lnTo>
                    <a:pt x="115" y="413"/>
                  </a:lnTo>
                  <a:lnTo>
                    <a:pt x="97" y="402"/>
                  </a:lnTo>
                  <a:lnTo>
                    <a:pt x="79" y="390"/>
                  </a:lnTo>
                  <a:lnTo>
                    <a:pt x="64" y="376"/>
                  </a:lnTo>
                  <a:lnTo>
                    <a:pt x="49" y="360"/>
                  </a:lnTo>
                  <a:lnTo>
                    <a:pt x="37" y="342"/>
                  </a:lnTo>
                  <a:lnTo>
                    <a:pt x="26" y="325"/>
                  </a:lnTo>
                  <a:lnTo>
                    <a:pt x="17" y="305"/>
                  </a:lnTo>
                  <a:lnTo>
                    <a:pt x="10" y="285"/>
                  </a:lnTo>
                  <a:lnTo>
                    <a:pt x="4" y="264"/>
                  </a:lnTo>
                  <a:lnTo>
                    <a:pt x="2" y="253"/>
                  </a:lnTo>
                  <a:lnTo>
                    <a:pt x="1" y="242"/>
                  </a:lnTo>
                  <a:lnTo>
                    <a:pt x="0" y="231"/>
                  </a:lnTo>
                  <a:lnTo>
                    <a:pt x="0" y="220"/>
                  </a:lnTo>
                  <a:lnTo>
                    <a:pt x="0" y="209"/>
                  </a:lnTo>
                  <a:lnTo>
                    <a:pt x="1" y="198"/>
                  </a:lnTo>
                  <a:lnTo>
                    <a:pt x="2" y="187"/>
                  </a:lnTo>
                  <a:lnTo>
                    <a:pt x="4" y="176"/>
                  </a:lnTo>
                  <a:lnTo>
                    <a:pt x="10" y="155"/>
                  </a:lnTo>
                  <a:lnTo>
                    <a:pt x="17" y="135"/>
                  </a:lnTo>
                  <a:lnTo>
                    <a:pt x="26" y="115"/>
                  </a:lnTo>
                  <a:lnTo>
                    <a:pt x="37" y="97"/>
                  </a:lnTo>
                  <a:lnTo>
                    <a:pt x="49" y="81"/>
                  </a:lnTo>
                  <a:lnTo>
                    <a:pt x="64" y="65"/>
                  </a:lnTo>
                  <a:lnTo>
                    <a:pt x="79" y="51"/>
                  </a:lnTo>
                  <a:lnTo>
                    <a:pt x="97" y="38"/>
                  </a:lnTo>
                  <a:lnTo>
                    <a:pt x="115" y="27"/>
                  </a:lnTo>
                  <a:lnTo>
                    <a:pt x="134" y="18"/>
                  </a:lnTo>
                  <a:lnTo>
                    <a:pt x="154" y="10"/>
                  </a:lnTo>
                  <a:lnTo>
                    <a:pt x="175" y="5"/>
                  </a:lnTo>
                  <a:lnTo>
                    <a:pt x="186" y="4"/>
                  </a:lnTo>
                  <a:lnTo>
                    <a:pt x="197" y="1"/>
                  </a:lnTo>
                  <a:lnTo>
                    <a:pt x="208" y="1"/>
                  </a:lnTo>
                  <a:lnTo>
                    <a:pt x="220" y="0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686480" y="1338120"/>
              <a:ext cx="174600" cy="174240"/>
            </a:xfrm>
            <a:custGeom>
              <a:avLst/>
              <a:gdLst/>
              <a:ahLst/>
              <a:rect l="l" t="t" r="r" b="b"/>
              <a:pathLst>
                <a:path w="440" h="440">
                  <a:moveTo>
                    <a:pt x="220" y="0"/>
                  </a:moveTo>
                  <a:lnTo>
                    <a:pt x="231" y="1"/>
                  </a:lnTo>
                  <a:lnTo>
                    <a:pt x="242" y="1"/>
                  </a:lnTo>
                  <a:lnTo>
                    <a:pt x="253" y="4"/>
                  </a:lnTo>
                  <a:lnTo>
                    <a:pt x="264" y="5"/>
                  </a:lnTo>
                  <a:lnTo>
                    <a:pt x="285" y="10"/>
                  </a:lnTo>
                  <a:lnTo>
                    <a:pt x="305" y="18"/>
                  </a:lnTo>
                  <a:lnTo>
                    <a:pt x="324" y="27"/>
                  </a:lnTo>
                  <a:lnTo>
                    <a:pt x="342" y="38"/>
                  </a:lnTo>
                  <a:lnTo>
                    <a:pt x="359" y="51"/>
                  </a:lnTo>
                  <a:lnTo>
                    <a:pt x="374" y="65"/>
                  </a:lnTo>
                  <a:lnTo>
                    <a:pt x="389" y="81"/>
                  </a:lnTo>
                  <a:lnTo>
                    <a:pt x="401" y="97"/>
                  </a:lnTo>
                  <a:lnTo>
                    <a:pt x="412" y="115"/>
                  </a:lnTo>
                  <a:lnTo>
                    <a:pt x="422" y="135"/>
                  </a:lnTo>
                  <a:lnTo>
                    <a:pt x="430" y="155"/>
                  </a:lnTo>
                  <a:lnTo>
                    <a:pt x="434" y="176"/>
                  </a:lnTo>
                  <a:lnTo>
                    <a:pt x="436" y="187"/>
                  </a:lnTo>
                  <a:lnTo>
                    <a:pt x="437" y="198"/>
                  </a:lnTo>
                  <a:lnTo>
                    <a:pt x="438" y="209"/>
                  </a:lnTo>
                  <a:lnTo>
                    <a:pt x="440" y="220"/>
                  </a:lnTo>
                  <a:lnTo>
                    <a:pt x="438" y="231"/>
                  </a:lnTo>
                  <a:lnTo>
                    <a:pt x="437" y="242"/>
                  </a:lnTo>
                  <a:lnTo>
                    <a:pt x="436" y="253"/>
                  </a:lnTo>
                  <a:lnTo>
                    <a:pt x="434" y="264"/>
                  </a:lnTo>
                  <a:lnTo>
                    <a:pt x="430" y="285"/>
                  </a:lnTo>
                  <a:lnTo>
                    <a:pt x="422" y="305"/>
                  </a:lnTo>
                  <a:lnTo>
                    <a:pt x="412" y="325"/>
                  </a:lnTo>
                  <a:lnTo>
                    <a:pt x="401" y="342"/>
                  </a:lnTo>
                  <a:lnTo>
                    <a:pt x="389" y="360"/>
                  </a:lnTo>
                  <a:lnTo>
                    <a:pt x="374" y="376"/>
                  </a:lnTo>
                  <a:lnTo>
                    <a:pt x="359" y="390"/>
                  </a:lnTo>
                  <a:lnTo>
                    <a:pt x="342" y="402"/>
                  </a:lnTo>
                  <a:lnTo>
                    <a:pt x="324" y="413"/>
                  </a:lnTo>
                  <a:lnTo>
                    <a:pt x="305" y="422"/>
                  </a:lnTo>
                  <a:lnTo>
                    <a:pt x="285" y="430"/>
                  </a:lnTo>
                  <a:lnTo>
                    <a:pt x="264" y="435"/>
                  </a:lnTo>
                  <a:lnTo>
                    <a:pt x="253" y="437"/>
                  </a:lnTo>
                  <a:lnTo>
                    <a:pt x="242" y="438"/>
                  </a:lnTo>
                  <a:lnTo>
                    <a:pt x="231" y="440"/>
                  </a:lnTo>
                  <a:lnTo>
                    <a:pt x="220" y="440"/>
                  </a:lnTo>
                  <a:lnTo>
                    <a:pt x="208" y="440"/>
                  </a:lnTo>
                  <a:lnTo>
                    <a:pt x="197" y="438"/>
                  </a:lnTo>
                  <a:lnTo>
                    <a:pt x="186" y="437"/>
                  </a:lnTo>
                  <a:lnTo>
                    <a:pt x="176" y="435"/>
                  </a:lnTo>
                  <a:lnTo>
                    <a:pt x="155" y="430"/>
                  </a:lnTo>
                  <a:lnTo>
                    <a:pt x="134" y="422"/>
                  </a:lnTo>
                  <a:lnTo>
                    <a:pt x="115" y="413"/>
                  </a:lnTo>
                  <a:lnTo>
                    <a:pt x="97" y="402"/>
                  </a:lnTo>
                  <a:lnTo>
                    <a:pt x="80" y="390"/>
                  </a:lnTo>
                  <a:lnTo>
                    <a:pt x="64" y="376"/>
                  </a:lnTo>
                  <a:lnTo>
                    <a:pt x="50" y="360"/>
                  </a:lnTo>
                  <a:lnTo>
                    <a:pt x="38" y="342"/>
                  </a:lnTo>
                  <a:lnTo>
                    <a:pt x="27" y="325"/>
                  </a:lnTo>
                  <a:lnTo>
                    <a:pt x="17" y="305"/>
                  </a:lnTo>
                  <a:lnTo>
                    <a:pt x="10" y="285"/>
                  </a:lnTo>
                  <a:lnTo>
                    <a:pt x="5" y="264"/>
                  </a:lnTo>
                  <a:lnTo>
                    <a:pt x="2" y="253"/>
                  </a:lnTo>
                  <a:lnTo>
                    <a:pt x="1" y="242"/>
                  </a:lnTo>
                  <a:lnTo>
                    <a:pt x="0" y="231"/>
                  </a:lnTo>
                  <a:lnTo>
                    <a:pt x="0" y="220"/>
                  </a:lnTo>
                  <a:lnTo>
                    <a:pt x="0" y="209"/>
                  </a:lnTo>
                  <a:lnTo>
                    <a:pt x="1" y="198"/>
                  </a:lnTo>
                  <a:lnTo>
                    <a:pt x="2" y="187"/>
                  </a:lnTo>
                  <a:lnTo>
                    <a:pt x="5" y="176"/>
                  </a:lnTo>
                  <a:lnTo>
                    <a:pt x="10" y="155"/>
                  </a:lnTo>
                  <a:lnTo>
                    <a:pt x="17" y="135"/>
                  </a:lnTo>
                  <a:lnTo>
                    <a:pt x="27" y="115"/>
                  </a:lnTo>
                  <a:lnTo>
                    <a:pt x="38" y="97"/>
                  </a:lnTo>
                  <a:lnTo>
                    <a:pt x="50" y="81"/>
                  </a:lnTo>
                  <a:lnTo>
                    <a:pt x="64" y="65"/>
                  </a:lnTo>
                  <a:lnTo>
                    <a:pt x="80" y="51"/>
                  </a:lnTo>
                  <a:lnTo>
                    <a:pt x="97" y="38"/>
                  </a:lnTo>
                  <a:lnTo>
                    <a:pt x="115" y="27"/>
                  </a:lnTo>
                  <a:lnTo>
                    <a:pt x="134" y="18"/>
                  </a:lnTo>
                  <a:lnTo>
                    <a:pt x="155" y="10"/>
                  </a:lnTo>
                  <a:lnTo>
                    <a:pt x="176" y="5"/>
                  </a:lnTo>
                  <a:lnTo>
                    <a:pt x="186" y="4"/>
                  </a:lnTo>
                  <a:lnTo>
                    <a:pt x="197" y="1"/>
                  </a:lnTo>
                  <a:lnTo>
                    <a:pt x="208" y="1"/>
                  </a:lnTo>
                  <a:lnTo>
                    <a:pt x="220" y="0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488280" y="1338120"/>
              <a:ext cx="174600" cy="174240"/>
            </a:xfrm>
            <a:custGeom>
              <a:avLst/>
              <a:gdLst/>
              <a:ahLst/>
              <a:rect l="l" t="t" r="r" b="b"/>
              <a:pathLst>
                <a:path w="439" h="440">
                  <a:moveTo>
                    <a:pt x="219" y="0"/>
                  </a:moveTo>
                  <a:lnTo>
                    <a:pt x="231" y="1"/>
                  </a:lnTo>
                  <a:lnTo>
                    <a:pt x="242" y="1"/>
                  </a:lnTo>
                  <a:lnTo>
                    <a:pt x="253" y="4"/>
                  </a:lnTo>
                  <a:lnTo>
                    <a:pt x="264" y="5"/>
                  </a:lnTo>
                  <a:lnTo>
                    <a:pt x="285" y="10"/>
                  </a:lnTo>
                  <a:lnTo>
                    <a:pt x="304" y="18"/>
                  </a:lnTo>
                  <a:lnTo>
                    <a:pt x="324" y="27"/>
                  </a:lnTo>
                  <a:lnTo>
                    <a:pt x="342" y="38"/>
                  </a:lnTo>
                  <a:lnTo>
                    <a:pt x="359" y="51"/>
                  </a:lnTo>
                  <a:lnTo>
                    <a:pt x="375" y="65"/>
                  </a:lnTo>
                  <a:lnTo>
                    <a:pt x="388" y="81"/>
                  </a:lnTo>
                  <a:lnTo>
                    <a:pt x="402" y="97"/>
                  </a:lnTo>
                  <a:lnTo>
                    <a:pt x="413" y="115"/>
                  </a:lnTo>
                  <a:lnTo>
                    <a:pt x="422" y="135"/>
                  </a:lnTo>
                  <a:lnTo>
                    <a:pt x="429" y="155"/>
                  </a:lnTo>
                  <a:lnTo>
                    <a:pt x="435" y="176"/>
                  </a:lnTo>
                  <a:lnTo>
                    <a:pt x="437" y="187"/>
                  </a:lnTo>
                  <a:lnTo>
                    <a:pt x="438" y="198"/>
                  </a:lnTo>
                  <a:lnTo>
                    <a:pt x="439" y="209"/>
                  </a:lnTo>
                  <a:lnTo>
                    <a:pt x="439" y="220"/>
                  </a:lnTo>
                  <a:lnTo>
                    <a:pt x="439" y="231"/>
                  </a:lnTo>
                  <a:lnTo>
                    <a:pt x="438" y="242"/>
                  </a:lnTo>
                  <a:lnTo>
                    <a:pt x="437" y="253"/>
                  </a:lnTo>
                  <a:lnTo>
                    <a:pt x="435" y="264"/>
                  </a:lnTo>
                  <a:lnTo>
                    <a:pt x="429" y="285"/>
                  </a:lnTo>
                  <a:lnTo>
                    <a:pt x="422" y="305"/>
                  </a:lnTo>
                  <a:lnTo>
                    <a:pt x="413" y="325"/>
                  </a:lnTo>
                  <a:lnTo>
                    <a:pt x="402" y="342"/>
                  </a:lnTo>
                  <a:lnTo>
                    <a:pt x="388" y="360"/>
                  </a:lnTo>
                  <a:lnTo>
                    <a:pt x="375" y="376"/>
                  </a:lnTo>
                  <a:lnTo>
                    <a:pt x="359" y="390"/>
                  </a:lnTo>
                  <a:lnTo>
                    <a:pt x="342" y="402"/>
                  </a:lnTo>
                  <a:lnTo>
                    <a:pt x="324" y="413"/>
                  </a:lnTo>
                  <a:lnTo>
                    <a:pt x="304" y="422"/>
                  </a:lnTo>
                  <a:lnTo>
                    <a:pt x="285" y="430"/>
                  </a:lnTo>
                  <a:lnTo>
                    <a:pt x="264" y="435"/>
                  </a:lnTo>
                  <a:lnTo>
                    <a:pt x="253" y="437"/>
                  </a:lnTo>
                  <a:lnTo>
                    <a:pt x="242" y="438"/>
                  </a:lnTo>
                  <a:lnTo>
                    <a:pt x="231" y="440"/>
                  </a:lnTo>
                  <a:lnTo>
                    <a:pt x="219" y="440"/>
                  </a:lnTo>
                  <a:lnTo>
                    <a:pt x="208" y="440"/>
                  </a:lnTo>
                  <a:lnTo>
                    <a:pt x="197" y="438"/>
                  </a:lnTo>
                  <a:lnTo>
                    <a:pt x="186" y="437"/>
                  </a:lnTo>
                  <a:lnTo>
                    <a:pt x="175" y="435"/>
                  </a:lnTo>
                  <a:lnTo>
                    <a:pt x="154" y="430"/>
                  </a:lnTo>
                  <a:lnTo>
                    <a:pt x="134" y="422"/>
                  </a:lnTo>
                  <a:lnTo>
                    <a:pt x="115" y="413"/>
                  </a:lnTo>
                  <a:lnTo>
                    <a:pt x="97" y="402"/>
                  </a:lnTo>
                  <a:lnTo>
                    <a:pt x="80" y="390"/>
                  </a:lnTo>
                  <a:lnTo>
                    <a:pt x="64" y="376"/>
                  </a:lnTo>
                  <a:lnTo>
                    <a:pt x="51" y="360"/>
                  </a:lnTo>
                  <a:lnTo>
                    <a:pt x="37" y="342"/>
                  </a:lnTo>
                  <a:lnTo>
                    <a:pt x="26" y="325"/>
                  </a:lnTo>
                  <a:lnTo>
                    <a:pt x="17" y="305"/>
                  </a:lnTo>
                  <a:lnTo>
                    <a:pt x="10" y="285"/>
                  </a:lnTo>
                  <a:lnTo>
                    <a:pt x="4" y="264"/>
                  </a:lnTo>
                  <a:lnTo>
                    <a:pt x="2" y="253"/>
                  </a:lnTo>
                  <a:lnTo>
                    <a:pt x="1" y="242"/>
                  </a:lnTo>
                  <a:lnTo>
                    <a:pt x="0" y="231"/>
                  </a:lnTo>
                  <a:lnTo>
                    <a:pt x="0" y="220"/>
                  </a:lnTo>
                  <a:lnTo>
                    <a:pt x="0" y="209"/>
                  </a:lnTo>
                  <a:lnTo>
                    <a:pt x="1" y="198"/>
                  </a:lnTo>
                  <a:lnTo>
                    <a:pt x="2" y="187"/>
                  </a:lnTo>
                  <a:lnTo>
                    <a:pt x="4" y="176"/>
                  </a:lnTo>
                  <a:lnTo>
                    <a:pt x="10" y="155"/>
                  </a:lnTo>
                  <a:lnTo>
                    <a:pt x="17" y="135"/>
                  </a:lnTo>
                  <a:lnTo>
                    <a:pt x="26" y="115"/>
                  </a:lnTo>
                  <a:lnTo>
                    <a:pt x="37" y="97"/>
                  </a:lnTo>
                  <a:lnTo>
                    <a:pt x="51" y="81"/>
                  </a:lnTo>
                  <a:lnTo>
                    <a:pt x="64" y="65"/>
                  </a:lnTo>
                  <a:lnTo>
                    <a:pt x="80" y="51"/>
                  </a:lnTo>
                  <a:lnTo>
                    <a:pt x="97" y="38"/>
                  </a:lnTo>
                  <a:lnTo>
                    <a:pt x="115" y="27"/>
                  </a:lnTo>
                  <a:lnTo>
                    <a:pt x="134" y="18"/>
                  </a:lnTo>
                  <a:lnTo>
                    <a:pt x="154" y="10"/>
                  </a:lnTo>
                  <a:lnTo>
                    <a:pt x="175" y="5"/>
                  </a:lnTo>
                  <a:lnTo>
                    <a:pt x="186" y="4"/>
                  </a:lnTo>
                  <a:lnTo>
                    <a:pt x="197" y="1"/>
                  </a:lnTo>
                  <a:lnTo>
                    <a:pt x="208" y="1"/>
                  </a:lnTo>
                  <a:lnTo>
                    <a:pt x="219" y="0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065240" y="1912680"/>
              <a:ext cx="6978600" cy="214200"/>
            </a:xfrm>
            <a:custGeom>
              <a:avLst/>
              <a:gdLst/>
              <a:ahLst/>
              <a:rect l="l" t="t" r="r" b="b"/>
              <a:pathLst>
                <a:path w="17584" h="541">
                  <a:moveTo>
                    <a:pt x="918" y="269"/>
                  </a:moveTo>
                  <a:lnTo>
                    <a:pt x="1433" y="246"/>
                  </a:lnTo>
                  <a:lnTo>
                    <a:pt x="1947" y="225"/>
                  </a:lnTo>
                  <a:lnTo>
                    <a:pt x="2460" y="204"/>
                  </a:lnTo>
                  <a:lnTo>
                    <a:pt x="2975" y="185"/>
                  </a:lnTo>
                  <a:lnTo>
                    <a:pt x="3489" y="168"/>
                  </a:lnTo>
                  <a:lnTo>
                    <a:pt x="4004" y="151"/>
                  </a:lnTo>
                  <a:lnTo>
                    <a:pt x="4517" y="135"/>
                  </a:lnTo>
                  <a:lnTo>
                    <a:pt x="5032" y="120"/>
                  </a:lnTo>
                  <a:lnTo>
                    <a:pt x="5545" y="107"/>
                  </a:lnTo>
                  <a:lnTo>
                    <a:pt x="6059" y="94"/>
                  </a:lnTo>
                  <a:lnTo>
                    <a:pt x="6573" y="83"/>
                  </a:lnTo>
                  <a:lnTo>
                    <a:pt x="7085" y="72"/>
                  </a:lnTo>
                  <a:lnTo>
                    <a:pt x="7598" y="62"/>
                  </a:lnTo>
                  <a:lnTo>
                    <a:pt x="8111" y="53"/>
                  </a:lnTo>
                  <a:lnTo>
                    <a:pt x="8622" y="45"/>
                  </a:lnTo>
                  <a:lnTo>
                    <a:pt x="9133" y="37"/>
                  </a:lnTo>
                  <a:lnTo>
                    <a:pt x="9644" y="31"/>
                  </a:lnTo>
                  <a:lnTo>
                    <a:pt x="10154" y="25"/>
                  </a:lnTo>
                  <a:lnTo>
                    <a:pt x="10664" y="20"/>
                  </a:lnTo>
                  <a:lnTo>
                    <a:pt x="11173" y="15"/>
                  </a:lnTo>
                  <a:lnTo>
                    <a:pt x="11682" y="12"/>
                  </a:lnTo>
                  <a:lnTo>
                    <a:pt x="12190" y="9"/>
                  </a:lnTo>
                  <a:lnTo>
                    <a:pt x="12697" y="5"/>
                  </a:lnTo>
                  <a:lnTo>
                    <a:pt x="13202" y="4"/>
                  </a:lnTo>
                  <a:lnTo>
                    <a:pt x="14212" y="1"/>
                  </a:lnTo>
                  <a:lnTo>
                    <a:pt x="15218" y="0"/>
                  </a:lnTo>
                  <a:lnTo>
                    <a:pt x="16221" y="1"/>
                  </a:lnTo>
                  <a:lnTo>
                    <a:pt x="17218" y="2"/>
                  </a:lnTo>
                  <a:lnTo>
                    <a:pt x="17313" y="3"/>
                  </a:lnTo>
                  <a:lnTo>
                    <a:pt x="17391" y="5"/>
                  </a:lnTo>
                  <a:lnTo>
                    <a:pt x="17453" y="8"/>
                  </a:lnTo>
                  <a:lnTo>
                    <a:pt x="17500" y="11"/>
                  </a:lnTo>
                  <a:lnTo>
                    <a:pt x="17536" y="15"/>
                  </a:lnTo>
                  <a:lnTo>
                    <a:pt x="17560" y="20"/>
                  </a:lnTo>
                  <a:lnTo>
                    <a:pt x="17569" y="22"/>
                  </a:lnTo>
                  <a:lnTo>
                    <a:pt x="17575" y="25"/>
                  </a:lnTo>
                  <a:lnTo>
                    <a:pt x="17580" y="28"/>
                  </a:lnTo>
                  <a:lnTo>
                    <a:pt x="17583" y="30"/>
                  </a:lnTo>
                  <a:lnTo>
                    <a:pt x="17584" y="32"/>
                  </a:lnTo>
                  <a:lnTo>
                    <a:pt x="17584" y="35"/>
                  </a:lnTo>
                  <a:lnTo>
                    <a:pt x="17583" y="37"/>
                  </a:lnTo>
                  <a:lnTo>
                    <a:pt x="17581" y="40"/>
                  </a:lnTo>
                  <a:lnTo>
                    <a:pt x="17575" y="44"/>
                  </a:lnTo>
                  <a:lnTo>
                    <a:pt x="17569" y="48"/>
                  </a:lnTo>
                  <a:lnTo>
                    <a:pt x="17562" y="52"/>
                  </a:lnTo>
                  <a:lnTo>
                    <a:pt x="17558" y="54"/>
                  </a:lnTo>
                  <a:lnTo>
                    <a:pt x="17558" y="55"/>
                  </a:lnTo>
                  <a:lnTo>
                    <a:pt x="17558" y="56"/>
                  </a:lnTo>
                  <a:lnTo>
                    <a:pt x="17559" y="57"/>
                  </a:lnTo>
                  <a:lnTo>
                    <a:pt x="17562" y="57"/>
                  </a:lnTo>
                  <a:lnTo>
                    <a:pt x="17014" y="61"/>
                  </a:lnTo>
                  <a:lnTo>
                    <a:pt x="16466" y="65"/>
                  </a:lnTo>
                  <a:lnTo>
                    <a:pt x="15917" y="71"/>
                  </a:lnTo>
                  <a:lnTo>
                    <a:pt x="15368" y="77"/>
                  </a:lnTo>
                  <a:lnTo>
                    <a:pt x="14820" y="85"/>
                  </a:lnTo>
                  <a:lnTo>
                    <a:pt x="14270" y="93"/>
                  </a:lnTo>
                  <a:lnTo>
                    <a:pt x="13721" y="101"/>
                  </a:lnTo>
                  <a:lnTo>
                    <a:pt x="13173" y="111"/>
                  </a:lnTo>
                  <a:lnTo>
                    <a:pt x="12623" y="121"/>
                  </a:lnTo>
                  <a:lnTo>
                    <a:pt x="12074" y="132"/>
                  </a:lnTo>
                  <a:lnTo>
                    <a:pt x="11525" y="144"/>
                  </a:lnTo>
                  <a:lnTo>
                    <a:pt x="10977" y="158"/>
                  </a:lnTo>
                  <a:lnTo>
                    <a:pt x="10427" y="171"/>
                  </a:lnTo>
                  <a:lnTo>
                    <a:pt x="9878" y="184"/>
                  </a:lnTo>
                  <a:lnTo>
                    <a:pt x="9331" y="200"/>
                  </a:lnTo>
                  <a:lnTo>
                    <a:pt x="8782" y="215"/>
                  </a:lnTo>
                  <a:lnTo>
                    <a:pt x="8233" y="231"/>
                  </a:lnTo>
                  <a:lnTo>
                    <a:pt x="7686" y="248"/>
                  </a:lnTo>
                  <a:lnTo>
                    <a:pt x="7138" y="265"/>
                  </a:lnTo>
                  <a:lnTo>
                    <a:pt x="6590" y="284"/>
                  </a:lnTo>
                  <a:lnTo>
                    <a:pt x="6044" y="301"/>
                  </a:lnTo>
                  <a:lnTo>
                    <a:pt x="5498" y="321"/>
                  </a:lnTo>
                  <a:lnTo>
                    <a:pt x="4951" y="341"/>
                  </a:lnTo>
                  <a:lnTo>
                    <a:pt x="4406" y="361"/>
                  </a:lnTo>
                  <a:lnTo>
                    <a:pt x="3315" y="403"/>
                  </a:lnTo>
                  <a:lnTo>
                    <a:pt x="2227" y="447"/>
                  </a:lnTo>
                  <a:lnTo>
                    <a:pt x="1141" y="493"/>
                  </a:lnTo>
                  <a:lnTo>
                    <a:pt x="57" y="541"/>
                  </a:lnTo>
                  <a:lnTo>
                    <a:pt x="38" y="541"/>
                  </a:lnTo>
                  <a:lnTo>
                    <a:pt x="23" y="538"/>
                  </a:lnTo>
                  <a:lnTo>
                    <a:pt x="12" y="535"/>
                  </a:lnTo>
                  <a:lnTo>
                    <a:pt x="4" y="531"/>
                  </a:lnTo>
                  <a:lnTo>
                    <a:pt x="0" y="524"/>
                  </a:lnTo>
                  <a:lnTo>
                    <a:pt x="0" y="517"/>
                  </a:lnTo>
                  <a:lnTo>
                    <a:pt x="2" y="510"/>
                  </a:lnTo>
                  <a:lnTo>
                    <a:pt x="8" y="501"/>
                  </a:lnTo>
                  <a:lnTo>
                    <a:pt x="17" y="491"/>
                  </a:lnTo>
                  <a:lnTo>
                    <a:pt x="30" y="480"/>
                  </a:lnTo>
                  <a:lnTo>
                    <a:pt x="46" y="469"/>
                  </a:lnTo>
                  <a:lnTo>
                    <a:pt x="65" y="457"/>
                  </a:lnTo>
                  <a:lnTo>
                    <a:pt x="86" y="445"/>
                  </a:lnTo>
                  <a:lnTo>
                    <a:pt x="110" y="433"/>
                  </a:lnTo>
                  <a:lnTo>
                    <a:pt x="136" y="419"/>
                  </a:lnTo>
                  <a:lnTo>
                    <a:pt x="166" y="407"/>
                  </a:lnTo>
                  <a:lnTo>
                    <a:pt x="198" y="394"/>
                  </a:lnTo>
                  <a:lnTo>
                    <a:pt x="233" y="381"/>
                  </a:lnTo>
                  <a:lnTo>
                    <a:pt x="270" y="369"/>
                  </a:lnTo>
                  <a:lnTo>
                    <a:pt x="309" y="356"/>
                  </a:lnTo>
                  <a:lnTo>
                    <a:pt x="350" y="344"/>
                  </a:lnTo>
                  <a:lnTo>
                    <a:pt x="393" y="333"/>
                  </a:lnTo>
                  <a:lnTo>
                    <a:pt x="438" y="322"/>
                  </a:lnTo>
                  <a:lnTo>
                    <a:pt x="485" y="312"/>
                  </a:lnTo>
                  <a:lnTo>
                    <a:pt x="534" y="302"/>
                  </a:lnTo>
                  <a:lnTo>
                    <a:pt x="585" y="295"/>
                  </a:lnTo>
                  <a:lnTo>
                    <a:pt x="637" y="287"/>
                  </a:lnTo>
                  <a:lnTo>
                    <a:pt x="691" y="281"/>
                  </a:lnTo>
                  <a:lnTo>
                    <a:pt x="746" y="276"/>
                  </a:lnTo>
                  <a:lnTo>
                    <a:pt x="802" y="272"/>
                  </a:lnTo>
                  <a:lnTo>
                    <a:pt x="860" y="270"/>
                  </a:lnTo>
                  <a:lnTo>
                    <a:pt x="918" y="26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098720" y="1877760"/>
              <a:ext cx="6978600" cy="214200"/>
            </a:xfrm>
            <a:custGeom>
              <a:avLst/>
              <a:gdLst/>
              <a:ahLst/>
              <a:rect l="l" t="t" r="r" b="b"/>
              <a:pathLst>
                <a:path w="17584" h="540">
                  <a:moveTo>
                    <a:pt x="918" y="269"/>
                  </a:moveTo>
                  <a:lnTo>
                    <a:pt x="1433" y="246"/>
                  </a:lnTo>
                  <a:lnTo>
                    <a:pt x="1947" y="224"/>
                  </a:lnTo>
                  <a:lnTo>
                    <a:pt x="2462" y="204"/>
                  </a:lnTo>
                  <a:lnTo>
                    <a:pt x="2976" y="185"/>
                  </a:lnTo>
                  <a:lnTo>
                    <a:pt x="3489" y="167"/>
                  </a:lnTo>
                  <a:lnTo>
                    <a:pt x="4004" y="150"/>
                  </a:lnTo>
                  <a:lnTo>
                    <a:pt x="4518" y="135"/>
                  </a:lnTo>
                  <a:lnTo>
                    <a:pt x="5032" y="120"/>
                  </a:lnTo>
                  <a:lnTo>
                    <a:pt x="5546" y="106"/>
                  </a:lnTo>
                  <a:lnTo>
                    <a:pt x="6059" y="94"/>
                  </a:lnTo>
                  <a:lnTo>
                    <a:pt x="6573" y="82"/>
                  </a:lnTo>
                  <a:lnTo>
                    <a:pt x="7086" y="72"/>
                  </a:lnTo>
                  <a:lnTo>
                    <a:pt x="7598" y="62"/>
                  </a:lnTo>
                  <a:lnTo>
                    <a:pt x="8111" y="53"/>
                  </a:lnTo>
                  <a:lnTo>
                    <a:pt x="8623" y="44"/>
                  </a:lnTo>
                  <a:lnTo>
                    <a:pt x="9134" y="37"/>
                  </a:lnTo>
                  <a:lnTo>
                    <a:pt x="9645" y="31"/>
                  </a:lnTo>
                  <a:lnTo>
                    <a:pt x="10155" y="24"/>
                  </a:lnTo>
                  <a:lnTo>
                    <a:pt x="10664" y="20"/>
                  </a:lnTo>
                  <a:lnTo>
                    <a:pt x="11174" y="15"/>
                  </a:lnTo>
                  <a:lnTo>
                    <a:pt x="11682" y="11"/>
                  </a:lnTo>
                  <a:lnTo>
                    <a:pt x="12190" y="8"/>
                  </a:lnTo>
                  <a:lnTo>
                    <a:pt x="12697" y="5"/>
                  </a:lnTo>
                  <a:lnTo>
                    <a:pt x="13203" y="3"/>
                  </a:lnTo>
                  <a:lnTo>
                    <a:pt x="14212" y="1"/>
                  </a:lnTo>
                  <a:lnTo>
                    <a:pt x="15218" y="0"/>
                  </a:lnTo>
                  <a:lnTo>
                    <a:pt x="16221" y="0"/>
                  </a:lnTo>
                  <a:lnTo>
                    <a:pt x="17219" y="2"/>
                  </a:lnTo>
                  <a:lnTo>
                    <a:pt x="17314" y="3"/>
                  </a:lnTo>
                  <a:lnTo>
                    <a:pt x="17391" y="4"/>
                  </a:lnTo>
                  <a:lnTo>
                    <a:pt x="17453" y="8"/>
                  </a:lnTo>
                  <a:lnTo>
                    <a:pt x="17500" y="11"/>
                  </a:lnTo>
                  <a:lnTo>
                    <a:pt x="17536" y="15"/>
                  </a:lnTo>
                  <a:lnTo>
                    <a:pt x="17560" y="20"/>
                  </a:lnTo>
                  <a:lnTo>
                    <a:pt x="17569" y="22"/>
                  </a:lnTo>
                  <a:lnTo>
                    <a:pt x="17575" y="24"/>
                  </a:lnTo>
                  <a:lnTo>
                    <a:pt x="17580" y="26"/>
                  </a:lnTo>
                  <a:lnTo>
                    <a:pt x="17583" y="30"/>
                  </a:lnTo>
                  <a:lnTo>
                    <a:pt x="17584" y="32"/>
                  </a:lnTo>
                  <a:lnTo>
                    <a:pt x="17584" y="34"/>
                  </a:lnTo>
                  <a:lnTo>
                    <a:pt x="17583" y="36"/>
                  </a:lnTo>
                  <a:lnTo>
                    <a:pt x="17582" y="40"/>
                  </a:lnTo>
                  <a:lnTo>
                    <a:pt x="17576" y="44"/>
                  </a:lnTo>
                  <a:lnTo>
                    <a:pt x="17569" y="47"/>
                  </a:lnTo>
                  <a:lnTo>
                    <a:pt x="17563" y="52"/>
                  </a:lnTo>
                  <a:lnTo>
                    <a:pt x="17559" y="54"/>
                  </a:lnTo>
                  <a:lnTo>
                    <a:pt x="17558" y="55"/>
                  </a:lnTo>
                  <a:lnTo>
                    <a:pt x="17558" y="56"/>
                  </a:lnTo>
                  <a:lnTo>
                    <a:pt x="17560" y="56"/>
                  </a:lnTo>
                  <a:lnTo>
                    <a:pt x="17563" y="57"/>
                  </a:lnTo>
                  <a:lnTo>
                    <a:pt x="17014" y="61"/>
                  </a:lnTo>
                  <a:lnTo>
                    <a:pt x="16466" y="65"/>
                  </a:lnTo>
                  <a:lnTo>
                    <a:pt x="15917" y="71"/>
                  </a:lnTo>
                  <a:lnTo>
                    <a:pt x="15368" y="77"/>
                  </a:lnTo>
                  <a:lnTo>
                    <a:pt x="14820" y="84"/>
                  </a:lnTo>
                  <a:lnTo>
                    <a:pt x="14271" y="93"/>
                  </a:lnTo>
                  <a:lnTo>
                    <a:pt x="13721" y="101"/>
                  </a:lnTo>
                  <a:lnTo>
                    <a:pt x="13173" y="110"/>
                  </a:lnTo>
                  <a:lnTo>
                    <a:pt x="12624" y="121"/>
                  </a:lnTo>
                  <a:lnTo>
                    <a:pt x="12074" y="132"/>
                  </a:lnTo>
                  <a:lnTo>
                    <a:pt x="11525" y="145"/>
                  </a:lnTo>
                  <a:lnTo>
                    <a:pt x="10977" y="157"/>
                  </a:lnTo>
                  <a:lnTo>
                    <a:pt x="10428" y="170"/>
                  </a:lnTo>
                  <a:lnTo>
                    <a:pt x="9879" y="184"/>
                  </a:lnTo>
                  <a:lnTo>
                    <a:pt x="9331" y="199"/>
                  </a:lnTo>
                  <a:lnTo>
                    <a:pt x="8782" y="214"/>
                  </a:lnTo>
                  <a:lnTo>
                    <a:pt x="8234" y="231"/>
                  </a:lnTo>
                  <a:lnTo>
                    <a:pt x="7687" y="247"/>
                  </a:lnTo>
                  <a:lnTo>
                    <a:pt x="7139" y="265"/>
                  </a:lnTo>
                  <a:lnTo>
                    <a:pt x="6592" y="282"/>
                  </a:lnTo>
                  <a:lnTo>
                    <a:pt x="6044" y="301"/>
                  </a:lnTo>
                  <a:lnTo>
                    <a:pt x="5498" y="320"/>
                  </a:lnTo>
                  <a:lnTo>
                    <a:pt x="4952" y="340"/>
                  </a:lnTo>
                  <a:lnTo>
                    <a:pt x="4406" y="361"/>
                  </a:lnTo>
                  <a:lnTo>
                    <a:pt x="3316" y="403"/>
                  </a:lnTo>
                  <a:lnTo>
                    <a:pt x="2227" y="447"/>
                  </a:lnTo>
                  <a:lnTo>
                    <a:pt x="1141" y="492"/>
                  </a:lnTo>
                  <a:lnTo>
                    <a:pt x="58" y="540"/>
                  </a:lnTo>
                  <a:lnTo>
                    <a:pt x="39" y="540"/>
                  </a:lnTo>
                  <a:lnTo>
                    <a:pt x="24" y="538"/>
                  </a:lnTo>
                  <a:lnTo>
                    <a:pt x="12" y="535"/>
                  </a:lnTo>
                  <a:lnTo>
                    <a:pt x="4" y="530"/>
                  </a:lnTo>
                  <a:lnTo>
                    <a:pt x="1" y="524"/>
                  </a:lnTo>
                  <a:lnTo>
                    <a:pt x="0" y="518"/>
                  </a:lnTo>
                  <a:lnTo>
                    <a:pt x="3" y="509"/>
                  </a:lnTo>
                  <a:lnTo>
                    <a:pt x="8" y="500"/>
                  </a:lnTo>
                  <a:lnTo>
                    <a:pt x="18" y="490"/>
                  </a:lnTo>
                  <a:lnTo>
                    <a:pt x="31" y="480"/>
                  </a:lnTo>
                  <a:lnTo>
                    <a:pt x="46" y="468"/>
                  </a:lnTo>
                  <a:lnTo>
                    <a:pt x="65" y="457"/>
                  </a:lnTo>
                  <a:lnTo>
                    <a:pt x="86" y="445"/>
                  </a:lnTo>
                  <a:lnTo>
                    <a:pt x="110" y="431"/>
                  </a:lnTo>
                  <a:lnTo>
                    <a:pt x="138" y="419"/>
                  </a:lnTo>
                  <a:lnTo>
                    <a:pt x="167" y="406"/>
                  </a:lnTo>
                  <a:lnTo>
                    <a:pt x="199" y="394"/>
                  </a:lnTo>
                  <a:lnTo>
                    <a:pt x="234" y="381"/>
                  </a:lnTo>
                  <a:lnTo>
                    <a:pt x="270" y="369"/>
                  </a:lnTo>
                  <a:lnTo>
                    <a:pt x="309" y="355"/>
                  </a:lnTo>
                  <a:lnTo>
                    <a:pt x="351" y="344"/>
                  </a:lnTo>
                  <a:lnTo>
                    <a:pt x="394" y="332"/>
                  </a:lnTo>
                  <a:lnTo>
                    <a:pt x="439" y="322"/>
                  </a:lnTo>
                  <a:lnTo>
                    <a:pt x="485" y="311"/>
                  </a:lnTo>
                  <a:lnTo>
                    <a:pt x="535" y="302"/>
                  </a:lnTo>
                  <a:lnTo>
                    <a:pt x="585" y="293"/>
                  </a:lnTo>
                  <a:lnTo>
                    <a:pt x="638" y="287"/>
                  </a:lnTo>
                  <a:lnTo>
                    <a:pt x="691" y="280"/>
                  </a:lnTo>
                  <a:lnTo>
                    <a:pt x="746" y="276"/>
                  </a:lnTo>
                  <a:lnTo>
                    <a:pt x="802" y="271"/>
                  </a:lnTo>
                  <a:lnTo>
                    <a:pt x="860" y="269"/>
                  </a:lnTo>
                  <a:lnTo>
                    <a:pt x="918" y="269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9" name="AFRICA" descr=""/>
          <p:cNvPicPr/>
          <p:nvPr/>
        </p:nvPicPr>
        <p:blipFill>
          <a:blip r:embed="rId2"/>
          <a:stretch/>
        </p:blipFill>
        <p:spPr>
          <a:xfrm>
            <a:off x="1295280" y="2895480"/>
            <a:ext cx="2936880" cy="304812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2438280" y="3454560"/>
            <a:ext cx="4724640" cy="1701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6521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Death &amp; Dying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950400" y="1371600"/>
            <a:ext cx="4522320" cy="14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900" spc="-1" strike="noStrike">
                <a:solidFill>
                  <a:srgbClr val="902444"/>
                </a:solidFill>
                <a:latin typeface="Geometr231 Hv BT"/>
              </a:rPr>
              <a:t>DYING PEOPLE 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900" spc="-1" strike="noStrike">
                <a:solidFill>
                  <a:srgbClr val="902444"/>
                </a:solidFill>
                <a:latin typeface="Geometr231 Hv BT"/>
              </a:rPr>
              <a:t>HAVE RIGHTS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687920" y="2141640"/>
            <a:ext cx="12600" cy="2979720"/>
          </a:xfrm>
          <a:prstGeom prst="rect">
            <a:avLst/>
          </a:prstGeom>
          <a:solidFill>
            <a:srgbClr val="ca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689360" y="2152800"/>
            <a:ext cx="9720" cy="2954160"/>
          </a:xfrm>
          <a:prstGeom prst="rect">
            <a:avLst/>
          </a:prstGeom>
          <a:solidFill>
            <a:srgbClr val="d5d4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5168880" y="1676520"/>
            <a:ext cx="2603520" cy="4103640"/>
            <a:chOff x="5168880" y="1676520"/>
            <a:chExt cx="2603520" cy="4103640"/>
          </a:xfrm>
        </p:grpSpPr>
        <p:sp>
          <p:nvSpPr>
            <p:cNvPr id="115" name=""/>
            <p:cNvSpPr/>
            <p:nvPr/>
          </p:nvSpPr>
          <p:spPr>
            <a:xfrm>
              <a:off x="5340240" y="4988160"/>
              <a:ext cx="136440" cy="123840"/>
            </a:xfrm>
            <a:custGeom>
              <a:avLst/>
              <a:gdLst/>
              <a:ahLst/>
              <a:rect l="l" t="t" r="r" b="b"/>
              <a:pathLst>
                <a:path w="429" h="391">
                  <a:moveTo>
                    <a:pt x="429" y="364"/>
                  </a:moveTo>
                  <a:lnTo>
                    <a:pt x="249" y="164"/>
                  </a:lnTo>
                  <a:lnTo>
                    <a:pt x="226" y="147"/>
                  </a:lnTo>
                  <a:lnTo>
                    <a:pt x="226" y="145"/>
                  </a:lnTo>
                  <a:lnTo>
                    <a:pt x="226" y="140"/>
                  </a:lnTo>
                  <a:lnTo>
                    <a:pt x="227" y="133"/>
                  </a:lnTo>
                  <a:lnTo>
                    <a:pt x="229" y="124"/>
                  </a:lnTo>
                  <a:lnTo>
                    <a:pt x="230" y="115"/>
                  </a:lnTo>
                  <a:lnTo>
                    <a:pt x="231" y="105"/>
                  </a:lnTo>
                  <a:lnTo>
                    <a:pt x="232" y="96"/>
                  </a:lnTo>
                  <a:lnTo>
                    <a:pt x="234" y="90"/>
                  </a:lnTo>
                  <a:lnTo>
                    <a:pt x="235" y="87"/>
                  </a:lnTo>
                  <a:lnTo>
                    <a:pt x="236" y="82"/>
                  </a:lnTo>
                  <a:lnTo>
                    <a:pt x="235" y="78"/>
                  </a:lnTo>
                  <a:lnTo>
                    <a:pt x="234" y="74"/>
                  </a:lnTo>
                  <a:lnTo>
                    <a:pt x="231" y="63"/>
                  </a:lnTo>
                  <a:lnTo>
                    <a:pt x="224" y="52"/>
                  </a:lnTo>
                  <a:lnTo>
                    <a:pt x="217" y="41"/>
                  </a:lnTo>
                  <a:lnTo>
                    <a:pt x="208" y="32"/>
                  </a:lnTo>
                  <a:lnTo>
                    <a:pt x="198" y="22"/>
                  </a:lnTo>
                  <a:lnTo>
                    <a:pt x="190" y="13"/>
                  </a:lnTo>
                  <a:lnTo>
                    <a:pt x="184" y="10"/>
                  </a:lnTo>
                  <a:lnTo>
                    <a:pt x="179" y="7"/>
                  </a:lnTo>
                  <a:lnTo>
                    <a:pt x="172" y="5"/>
                  </a:lnTo>
                  <a:lnTo>
                    <a:pt x="165" y="2"/>
                  </a:lnTo>
                  <a:lnTo>
                    <a:pt x="156" y="1"/>
                  </a:lnTo>
                  <a:lnTo>
                    <a:pt x="148" y="0"/>
                  </a:lnTo>
                  <a:lnTo>
                    <a:pt x="138" y="0"/>
                  </a:lnTo>
                  <a:lnTo>
                    <a:pt x="127" y="0"/>
                  </a:lnTo>
                  <a:lnTo>
                    <a:pt x="116" y="1"/>
                  </a:lnTo>
                  <a:lnTo>
                    <a:pt x="105" y="2"/>
                  </a:lnTo>
                  <a:lnTo>
                    <a:pt x="94" y="5"/>
                  </a:lnTo>
                  <a:lnTo>
                    <a:pt x="82" y="8"/>
                  </a:lnTo>
                  <a:lnTo>
                    <a:pt x="70" y="11"/>
                  </a:lnTo>
                  <a:lnTo>
                    <a:pt x="58" y="15"/>
                  </a:lnTo>
                  <a:lnTo>
                    <a:pt x="46" y="20"/>
                  </a:lnTo>
                  <a:lnTo>
                    <a:pt x="33" y="26"/>
                  </a:lnTo>
                  <a:lnTo>
                    <a:pt x="22" y="33"/>
                  </a:lnTo>
                  <a:lnTo>
                    <a:pt x="15" y="39"/>
                  </a:lnTo>
                  <a:lnTo>
                    <a:pt x="8" y="48"/>
                  </a:lnTo>
                  <a:lnTo>
                    <a:pt x="4" y="56"/>
                  </a:lnTo>
                  <a:lnTo>
                    <a:pt x="1" y="65"/>
                  </a:lnTo>
                  <a:lnTo>
                    <a:pt x="0" y="74"/>
                  </a:lnTo>
                  <a:lnTo>
                    <a:pt x="0" y="82"/>
                  </a:lnTo>
                  <a:lnTo>
                    <a:pt x="1" y="91"/>
                  </a:lnTo>
                  <a:lnTo>
                    <a:pt x="5" y="107"/>
                  </a:lnTo>
                  <a:lnTo>
                    <a:pt x="10" y="120"/>
                  </a:lnTo>
                  <a:lnTo>
                    <a:pt x="15" y="129"/>
                  </a:lnTo>
                  <a:lnTo>
                    <a:pt x="16" y="132"/>
                  </a:lnTo>
                  <a:lnTo>
                    <a:pt x="280" y="391"/>
                  </a:lnTo>
                  <a:lnTo>
                    <a:pt x="429" y="364"/>
                  </a:lnTo>
                  <a:close/>
                </a:path>
              </a:pathLst>
            </a:custGeom>
            <a:solidFill>
              <a:srgbClr val="a2ac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340240" y="4988160"/>
              <a:ext cx="136440" cy="123840"/>
            </a:xfrm>
            <a:custGeom>
              <a:avLst/>
              <a:gdLst/>
              <a:ahLst/>
              <a:rect l="l" t="t" r="r" b="b"/>
              <a:pathLst>
                <a:path w="429" h="391">
                  <a:moveTo>
                    <a:pt x="429" y="364"/>
                  </a:moveTo>
                  <a:lnTo>
                    <a:pt x="249" y="164"/>
                  </a:lnTo>
                  <a:lnTo>
                    <a:pt x="226" y="147"/>
                  </a:lnTo>
                  <a:lnTo>
                    <a:pt x="226" y="145"/>
                  </a:lnTo>
                  <a:lnTo>
                    <a:pt x="226" y="140"/>
                  </a:lnTo>
                  <a:lnTo>
                    <a:pt x="227" y="133"/>
                  </a:lnTo>
                  <a:lnTo>
                    <a:pt x="229" y="124"/>
                  </a:lnTo>
                  <a:lnTo>
                    <a:pt x="230" y="115"/>
                  </a:lnTo>
                  <a:lnTo>
                    <a:pt x="231" y="105"/>
                  </a:lnTo>
                  <a:lnTo>
                    <a:pt x="232" y="96"/>
                  </a:lnTo>
                  <a:lnTo>
                    <a:pt x="234" y="90"/>
                  </a:lnTo>
                  <a:lnTo>
                    <a:pt x="235" y="87"/>
                  </a:lnTo>
                  <a:lnTo>
                    <a:pt x="236" y="82"/>
                  </a:lnTo>
                  <a:lnTo>
                    <a:pt x="235" y="78"/>
                  </a:lnTo>
                  <a:lnTo>
                    <a:pt x="234" y="74"/>
                  </a:lnTo>
                  <a:lnTo>
                    <a:pt x="231" y="63"/>
                  </a:lnTo>
                  <a:lnTo>
                    <a:pt x="224" y="52"/>
                  </a:lnTo>
                  <a:lnTo>
                    <a:pt x="217" y="41"/>
                  </a:lnTo>
                  <a:lnTo>
                    <a:pt x="208" y="32"/>
                  </a:lnTo>
                  <a:lnTo>
                    <a:pt x="198" y="22"/>
                  </a:lnTo>
                  <a:lnTo>
                    <a:pt x="190" y="13"/>
                  </a:lnTo>
                  <a:lnTo>
                    <a:pt x="184" y="10"/>
                  </a:lnTo>
                  <a:lnTo>
                    <a:pt x="179" y="7"/>
                  </a:lnTo>
                  <a:lnTo>
                    <a:pt x="172" y="5"/>
                  </a:lnTo>
                  <a:lnTo>
                    <a:pt x="165" y="2"/>
                  </a:lnTo>
                  <a:lnTo>
                    <a:pt x="156" y="1"/>
                  </a:lnTo>
                  <a:lnTo>
                    <a:pt x="148" y="0"/>
                  </a:lnTo>
                  <a:lnTo>
                    <a:pt x="138" y="0"/>
                  </a:lnTo>
                  <a:lnTo>
                    <a:pt x="127" y="0"/>
                  </a:lnTo>
                  <a:lnTo>
                    <a:pt x="116" y="1"/>
                  </a:lnTo>
                  <a:lnTo>
                    <a:pt x="105" y="2"/>
                  </a:lnTo>
                  <a:lnTo>
                    <a:pt x="94" y="5"/>
                  </a:lnTo>
                  <a:lnTo>
                    <a:pt x="82" y="8"/>
                  </a:lnTo>
                  <a:lnTo>
                    <a:pt x="70" y="11"/>
                  </a:lnTo>
                  <a:lnTo>
                    <a:pt x="58" y="15"/>
                  </a:lnTo>
                  <a:lnTo>
                    <a:pt x="46" y="20"/>
                  </a:lnTo>
                  <a:lnTo>
                    <a:pt x="33" y="26"/>
                  </a:lnTo>
                  <a:lnTo>
                    <a:pt x="22" y="33"/>
                  </a:lnTo>
                  <a:lnTo>
                    <a:pt x="15" y="39"/>
                  </a:lnTo>
                  <a:lnTo>
                    <a:pt x="8" y="48"/>
                  </a:lnTo>
                  <a:lnTo>
                    <a:pt x="4" y="56"/>
                  </a:lnTo>
                  <a:lnTo>
                    <a:pt x="1" y="65"/>
                  </a:lnTo>
                  <a:lnTo>
                    <a:pt x="0" y="74"/>
                  </a:lnTo>
                  <a:lnTo>
                    <a:pt x="0" y="82"/>
                  </a:lnTo>
                  <a:lnTo>
                    <a:pt x="1" y="91"/>
                  </a:lnTo>
                  <a:lnTo>
                    <a:pt x="5" y="107"/>
                  </a:lnTo>
                  <a:lnTo>
                    <a:pt x="10" y="120"/>
                  </a:lnTo>
                  <a:lnTo>
                    <a:pt x="15" y="129"/>
                  </a:lnTo>
                  <a:lnTo>
                    <a:pt x="16" y="132"/>
                  </a:lnTo>
                  <a:lnTo>
                    <a:pt x="280" y="391"/>
                  </a:lnTo>
                  <a:lnTo>
                    <a:pt x="429" y="364"/>
                  </a:lnTo>
                </a:path>
              </a:pathLst>
            </a:custGeom>
            <a:noFill/>
            <a:ln w="14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202360" y="5004000"/>
              <a:ext cx="347400" cy="199800"/>
            </a:xfrm>
            <a:custGeom>
              <a:avLst/>
              <a:gdLst/>
              <a:ahLst/>
              <a:rect l="l" t="t" r="r" b="b"/>
              <a:pathLst>
                <a:path w="1098" h="630">
                  <a:moveTo>
                    <a:pt x="890" y="316"/>
                  </a:moveTo>
                  <a:lnTo>
                    <a:pt x="891" y="318"/>
                  </a:lnTo>
                  <a:lnTo>
                    <a:pt x="895" y="322"/>
                  </a:lnTo>
                  <a:lnTo>
                    <a:pt x="901" y="328"/>
                  </a:lnTo>
                  <a:lnTo>
                    <a:pt x="909" y="336"/>
                  </a:lnTo>
                  <a:lnTo>
                    <a:pt x="920" y="344"/>
                  </a:lnTo>
                  <a:lnTo>
                    <a:pt x="936" y="353"/>
                  </a:lnTo>
                  <a:lnTo>
                    <a:pt x="954" y="363"/>
                  </a:lnTo>
                  <a:lnTo>
                    <a:pt x="978" y="371"/>
                  </a:lnTo>
                  <a:lnTo>
                    <a:pt x="989" y="376"/>
                  </a:lnTo>
                  <a:lnTo>
                    <a:pt x="1000" y="381"/>
                  </a:lnTo>
                  <a:lnTo>
                    <a:pt x="1010" y="389"/>
                  </a:lnTo>
                  <a:lnTo>
                    <a:pt x="1020" y="396"/>
                  </a:lnTo>
                  <a:lnTo>
                    <a:pt x="1030" y="406"/>
                  </a:lnTo>
                  <a:lnTo>
                    <a:pt x="1038" y="416"/>
                  </a:lnTo>
                  <a:lnTo>
                    <a:pt x="1046" y="426"/>
                  </a:lnTo>
                  <a:lnTo>
                    <a:pt x="1053" y="438"/>
                  </a:lnTo>
                  <a:lnTo>
                    <a:pt x="1060" y="450"/>
                  </a:lnTo>
                  <a:lnTo>
                    <a:pt x="1066" y="463"/>
                  </a:lnTo>
                  <a:lnTo>
                    <a:pt x="1073" y="476"/>
                  </a:lnTo>
                  <a:lnTo>
                    <a:pt x="1078" y="490"/>
                  </a:lnTo>
                  <a:lnTo>
                    <a:pt x="1088" y="517"/>
                  </a:lnTo>
                  <a:lnTo>
                    <a:pt x="1095" y="544"/>
                  </a:lnTo>
                  <a:lnTo>
                    <a:pt x="1098" y="558"/>
                  </a:lnTo>
                  <a:lnTo>
                    <a:pt x="1097" y="570"/>
                  </a:lnTo>
                  <a:lnTo>
                    <a:pt x="1091" y="581"/>
                  </a:lnTo>
                  <a:lnTo>
                    <a:pt x="1083" y="591"/>
                  </a:lnTo>
                  <a:lnTo>
                    <a:pt x="1072" y="599"/>
                  </a:lnTo>
                  <a:lnTo>
                    <a:pt x="1059" y="606"/>
                  </a:lnTo>
                  <a:lnTo>
                    <a:pt x="1043" y="612"/>
                  </a:lnTo>
                  <a:lnTo>
                    <a:pt x="1024" y="618"/>
                  </a:lnTo>
                  <a:lnTo>
                    <a:pt x="1004" y="622"/>
                  </a:lnTo>
                  <a:lnTo>
                    <a:pt x="982" y="625"/>
                  </a:lnTo>
                  <a:lnTo>
                    <a:pt x="958" y="627"/>
                  </a:lnTo>
                  <a:lnTo>
                    <a:pt x="935" y="628"/>
                  </a:lnTo>
                  <a:lnTo>
                    <a:pt x="909" y="630"/>
                  </a:lnTo>
                  <a:lnTo>
                    <a:pt x="882" y="630"/>
                  </a:lnTo>
                  <a:lnTo>
                    <a:pt x="855" y="630"/>
                  </a:lnTo>
                  <a:lnTo>
                    <a:pt x="828" y="628"/>
                  </a:lnTo>
                  <a:lnTo>
                    <a:pt x="772" y="626"/>
                  </a:lnTo>
                  <a:lnTo>
                    <a:pt x="720" y="622"/>
                  </a:lnTo>
                  <a:lnTo>
                    <a:pt x="669" y="617"/>
                  </a:lnTo>
                  <a:lnTo>
                    <a:pt x="623" y="611"/>
                  </a:lnTo>
                  <a:lnTo>
                    <a:pt x="555" y="603"/>
                  </a:lnTo>
                  <a:lnTo>
                    <a:pt x="529" y="598"/>
                  </a:lnTo>
                  <a:lnTo>
                    <a:pt x="515" y="590"/>
                  </a:lnTo>
                  <a:lnTo>
                    <a:pt x="478" y="565"/>
                  </a:lnTo>
                  <a:lnTo>
                    <a:pt x="421" y="529"/>
                  </a:lnTo>
                  <a:lnTo>
                    <a:pt x="354" y="486"/>
                  </a:lnTo>
                  <a:lnTo>
                    <a:pt x="282" y="443"/>
                  </a:lnTo>
                  <a:lnTo>
                    <a:pt x="212" y="402"/>
                  </a:lnTo>
                  <a:lnTo>
                    <a:pt x="178" y="383"/>
                  </a:lnTo>
                  <a:lnTo>
                    <a:pt x="148" y="368"/>
                  </a:lnTo>
                  <a:lnTo>
                    <a:pt x="122" y="355"/>
                  </a:lnTo>
                  <a:lnTo>
                    <a:pt x="99" y="347"/>
                  </a:lnTo>
                  <a:lnTo>
                    <a:pt x="80" y="339"/>
                  </a:lnTo>
                  <a:lnTo>
                    <a:pt x="64" y="331"/>
                  </a:lnTo>
                  <a:lnTo>
                    <a:pt x="49" y="325"/>
                  </a:lnTo>
                  <a:lnTo>
                    <a:pt x="37" y="317"/>
                  </a:lnTo>
                  <a:lnTo>
                    <a:pt x="26" y="310"/>
                  </a:lnTo>
                  <a:lnTo>
                    <a:pt x="17" y="302"/>
                  </a:lnTo>
                  <a:lnTo>
                    <a:pt x="11" y="294"/>
                  </a:lnTo>
                  <a:lnTo>
                    <a:pt x="5" y="286"/>
                  </a:lnTo>
                  <a:lnTo>
                    <a:pt x="2" y="276"/>
                  </a:lnTo>
                  <a:lnTo>
                    <a:pt x="0" y="267"/>
                  </a:lnTo>
                  <a:lnTo>
                    <a:pt x="0" y="257"/>
                  </a:lnTo>
                  <a:lnTo>
                    <a:pt x="1" y="246"/>
                  </a:lnTo>
                  <a:lnTo>
                    <a:pt x="3" y="234"/>
                  </a:lnTo>
                  <a:lnTo>
                    <a:pt x="7" y="221"/>
                  </a:lnTo>
                  <a:lnTo>
                    <a:pt x="11" y="208"/>
                  </a:lnTo>
                  <a:lnTo>
                    <a:pt x="15" y="193"/>
                  </a:lnTo>
                  <a:lnTo>
                    <a:pt x="22" y="178"/>
                  </a:lnTo>
                  <a:lnTo>
                    <a:pt x="28" y="162"/>
                  </a:lnTo>
                  <a:lnTo>
                    <a:pt x="36" y="147"/>
                  </a:lnTo>
                  <a:lnTo>
                    <a:pt x="44" y="131"/>
                  </a:lnTo>
                  <a:lnTo>
                    <a:pt x="53" y="115"/>
                  </a:lnTo>
                  <a:lnTo>
                    <a:pt x="63" y="100"/>
                  </a:lnTo>
                  <a:lnTo>
                    <a:pt x="72" y="86"/>
                  </a:lnTo>
                  <a:lnTo>
                    <a:pt x="83" y="72"/>
                  </a:lnTo>
                  <a:lnTo>
                    <a:pt x="93" y="59"/>
                  </a:lnTo>
                  <a:lnTo>
                    <a:pt x="104" y="47"/>
                  </a:lnTo>
                  <a:lnTo>
                    <a:pt x="114" y="37"/>
                  </a:lnTo>
                  <a:lnTo>
                    <a:pt x="124" y="27"/>
                  </a:lnTo>
                  <a:lnTo>
                    <a:pt x="134" y="19"/>
                  </a:lnTo>
                  <a:lnTo>
                    <a:pt x="144" y="13"/>
                  </a:lnTo>
                  <a:lnTo>
                    <a:pt x="152" y="9"/>
                  </a:lnTo>
                  <a:lnTo>
                    <a:pt x="161" y="5"/>
                  </a:lnTo>
                  <a:lnTo>
                    <a:pt x="177" y="3"/>
                  </a:lnTo>
                  <a:lnTo>
                    <a:pt x="192" y="1"/>
                  </a:lnTo>
                  <a:lnTo>
                    <a:pt x="208" y="0"/>
                  </a:lnTo>
                  <a:lnTo>
                    <a:pt x="224" y="1"/>
                  </a:lnTo>
                  <a:lnTo>
                    <a:pt x="242" y="3"/>
                  </a:lnTo>
                  <a:lnTo>
                    <a:pt x="262" y="7"/>
                  </a:lnTo>
                  <a:lnTo>
                    <a:pt x="283" y="14"/>
                  </a:lnTo>
                  <a:lnTo>
                    <a:pt x="307" y="23"/>
                  </a:lnTo>
                  <a:lnTo>
                    <a:pt x="319" y="28"/>
                  </a:lnTo>
                  <a:lnTo>
                    <a:pt x="330" y="33"/>
                  </a:lnTo>
                  <a:lnTo>
                    <a:pt x="338" y="40"/>
                  </a:lnTo>
                  <a:lnTo>
                    <a:pt x="345" y="45"/>
                  </a:lnTo>
                  <a:lnTo>
                    <a:pt x="356" y="57"/>
                  </a:lnTo>
                  <a:lnTo>
                    <a:pt x="365" y="67"/>
                  </a:lnTo>
                  <a:lnTo>
                    <a:pt x="368" y="71"/>
                  </a:lnTo>
                  <a:lnTo>
                    <a:pt x="373" y="74"/>
                  </a:lnTo>
                  <a:lnTo>
                    <a:pt x="378" y="77"/>
                  </a:lnTo>
                  <a:lnTo>
                    <a:pt x="384" y="79"/>
                  </a:lnTo>
                  <a:lnTo>
                    <a:pt x="390" y="79"/>
                  </a:lnTo>
                  <a:lnTo>
                    <a:pt x="398" y="78"/>
                  </a:lnTo>
                  <a:lnTo>
                    <a:pt x="407" y="75"/>
                  </a:lnTo>
                  <a:lnTo>
                    <a:pt x="418" y="72"/>
                  </a:lnTo>
                  <a:lnTo>
                    <a:pt x="421" y="71"/>
                  </a:lnTo>
                  <a:lnTo>
                    <a:pt x="431" y="70"/>
                  </a:lnTo>
                  <a:lnTo>
                    <a:pt x="444" y="70"/>
                  </a:lnTo>
                  <a:lnTo>
                    <a:pt x="461" y="70"/>
                  </a:lnTo>
                  <a:lnTo>
                    <a:pt x="470" y="71"/>
                  </a:lnTo>
                  <a:lnTo>
                    <a:pt x="480" y="73"/>
                  </a:lnTo>
                  <a:lnTo>
                    <a:pt x="488" y="75"/>
                  </a:lnTo>
                  <a:lnTo>
                    <a:pt x="498" y="79"/>
                  </a:lnTo>
                  <a:lnTo>
                    <a:pt x="507" y="82"/>
                  </a:lnTo>
                  <a:lnTo>
                    <a:pt x="515" y="87"/>
                  </a:lnTo>
                  <a:lnTo>
                    <a:pt x="523" y="94"/>
                  </a:lnTo>
                  <a:lnTo>
                    <a:pt x="529" y="101"/>
                  </a:lnTo>
                  <a:lnTo>
                    <a:pt x="537" y="111"/>
                  </a:lnTo>
                  <a:lnTo>
                    <a:pt x="547" y="124"/>
                  </a:lnTo>
                  <a:lnTo>
                    <a:pt x="556" y="139"/>
                  </a:lnTo>
                  <a:lnTo>
                    <a:pt x="566" y="155"/>
                  </a:lnTo>
                  <a:lnTo>
                    <a:pt x="589" y="194"/>
                  </a:lnTo>
                  <a:lnTo>
                    <a:pt x="613" y="235"/>
                  </a:lnTo>
                  <a:lnTo>
                    <a:pt x="635" y="274"/>
                  </a:lnTo>
                  <a:lnTo>
                    <a:pt x="655" y="308"/>
                  </a:lnTo>
                  <a:lnTo>
                    <a:pt x="663" y="322"/>
                  </a:lnTo>
                  <a:lnTo>
                    <a:pt x="671" y="333"/>
                  </a:lnTo>
                  <a:lnTo>
                    <a:pt x="676" y="340"/>
                  </a:lnTo>
                  <a:lnTo>
                    <a:pt x="681" y="344"/>
                  </a:lnTo>
                  <a:lnTo>
                    <a:pt x="685" y="344"/>
                  </a:lnTo>
                  <a:lnTo>
                    <a:pt x="691" y="344"/>
                  </a:lnTo>
                  <a:lnTo>
                    <a:pt x="701" y="342"/>
                  </a:lnTo>
                  <a:lnTo>
                    <a:pt x="712" y="340"/>
                  </a:lnTo>
                  <a:lnTo>
                    <a:pt x="739" y="334"/>
                  </a:lnTo>
                  <a:lnTo>
                    <a:pt x="770" y="327"/>
                  </a:lnTo>
                  <a:lnTo>
                    <a:pt x="804" y="320"/>
                  </a:lnTo>
                  <a:lnTo>
                    <a:pt x="837" y="315"/>
                  </a:lnTo>
                  <a:lnTo>
                    <a:pt x="852" y="313"/>
                  </a:lnTo>
                  <a:lnTo>
                    <a:pt x="866" y="313"/>
                  </a:lnTo>
                  <a:lnTo>
                    <a:pt x="879" y="314"/>
                  </a:lnTo>
                  <a:lnTo>
                    <a:pt x="890" y="316"/>
                  </a:lnTo>
                  <a:close/>
                </a:path>
              </a:pathLst>
            </a:custGeom>
            <a:solidFill>
              <a:srgbClr val="b5b5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02360" y="5004000"/>
              <a:ext cx="347400" cy="199800"/>
            </a:xfrm>
            <a:custGeom>
              <a:avLst/>
              <a:gdLst/>
              <a:ahLst/>
              <a:rect l="l" t="t" r="r" b="b"/>
              <a:pathLst>
                <a:path w="1098" h="630">
                  <a:moveTo>
                    <a:pt x="890" y="316"/>
                  </a:moveTo>
                  <a:lnTo>
                    <a:pt x="891" y="318"/>
                  </a:lnTo>
                  <a:lnTo>
                    <a:pt x="895" y="322"/>
                  </a:lnTo>
                  <a:lnTo>
                    <a:pt x="901" y="328"/>
                  </a:lnTo>
                  <a:lnTo>
                    <a:pt x="909" y="336"/>
                  </a:lnTo>
                  <a:lnTo>
                    <a:pt x="920" y="344"/>
                  </a:lnTo>
                  <a:lnTo>
                    <a:pt x="936" y="353"/>
                  </a:lnTo>
                  <a:lnTo>
                    <a:pt x="954" y="363"/>
                  </a:lnTo>
                  <a:lnTo>
                    <a:pt x="978" y="371"/>
                  </a:lnTo>
                  <a:lnTo>
                    <a:pt x="989" y="376"/>
                  </a:lnTo>
                  <a:lnTo>
                    <a:pt x="1000" y="381"/>
                  </a:lnTo>
                  <a:lnTo>
                    <a:pt x="1010" y="389"/>
                  </a:lnTo>
                  <a:lnTo>
                    <a:pt x="1020" y="396"/>
                  </a:lnTo>
                  <a:lnTo>
                    <a:pt x="1030" y="406"/>
                  </a:lnTo>
                  <a:lnTo>
                    <a:pt x="1038" y="416"/>
                  </a:lnTo>
                  <a:lnTo>
                    <a:pt x="1046" y="426"/>
                  </a:lnTo>
                  <a:lnTo>
                    <a:pt x="1053" y="438"/>
                  </a:lnTo>
                  <a:lnTo>
                    <a:pt x="1060" y="450"/>
                  </a:lnTo>
                  <a:lnTo>
                    <a:pt x="1066" y="463"/>
                  </a:lnTo>
                  <a:lnTo>
                    <a:pt x="1073" y="476"/>
                  </a:lnTo>
                  <a:lnTo>
                    <a:pt x="1078" y="490"/>
                  </a:lnTo>
                  <a:lnTo>
                    <a:pt x="1088" y="517"/>
                  </a:lnTo>
                  <a:lnTo>
                    <a:pt x="1095" y="544"/>
                  </a:lnTo>
                  <a:lnTo>
                    <a:pt x="1098" y="558"/>
                  </a:lnTo>
                  <a:lnTo>
                    <a:pt x="1097" y="570"/>
                  </a:lnTo>
                  <a:lnTo>
                    <a:pt x="1091" y="581"/>
                  </a:lnTo>
                  <a:lnTo>
                    <a:pt x="1083" y="591"/>
                  </a:lnTo>
                  <a:lnTo>
                    <a:pt x="1072" y="599"/>
                  </a:lnTo>
                  <a:lnTo>
                    <a:pt x="1059" y="606"/>
                  </a:lnTo>
                  <a:lnTo>
                    <a:pt x="1043" y="612"/>
                  </a:lnTo>
                  <a:lnTo>
                    <a:pt x="1024" y="618"/>
                  </a:lnTo>
                  <a:lnTo>
                    <a:pt x="1004" y="622"/>
                  </a:lnTo>
                  <a:lnTo>
                    <a:pt x="982" y="625"/>
                  </a:lnTo>
                  <a:lnTo>
                    <a:pt x="958" y="627"/>
                  </a:lnTo>
                  <a:lnTo>
                    <a:pt x="935" y="628"/>
                  </a:lnTo>
                  <a:lnTo>
                    <a:pt x="909" y="630"/>
                  </a:lnTo>
                  <a:lnTo>
                    <a:pt x="882" y="630"/>
                  </a:lnTo>
                  <a:lnTo>
                    <a:pt x="855" y="630"/>
                  </a:lnTo>
                  <a:lnTo>
                    <a:pt x="828" y="628"/>
                  </a:lnTo>
                  <a:lnTo>
                    <a:pt x="772" y="626"/>
                  </a:lnTo>
                  <a:lnTo>
                    <a:pt x="720" y="622"/>
                  </a:lnTo>
                  <a:lnTo>
                    <a:pt x="669" y="617"/>
                  </a:lnTo>
                  <a:lnTo>
                    <a:pt x="623" y="611"/>
                  </a:lnTo>
                  <a:lnTo>
                    <a:pt x="555" y="603"/>
                  </a:lnTo>
                  <a:lnTo>
                    <a:pt x="529" y="598"/>
                  </a:lnTo>
                  <a:lnTo>
                    <a:pt x="515" y="590"/>
                  </a:lnTo>
                  <a:lnTo>
                    <a:pt x="478" y="565"/>
                  </a:lnTo>
                  <a:lnTo>
                    <a:pt x="421" y="529"/>
                  </a:lnTo>
                  <a:lnTo>
                    <a:pt x="354" y="486"/>
                  </a:lnTo>
                  <a:lnTo>
                    <a:pt x="282" y="443"/>
                  </a:lnTo>
                  <a:lnTo>
                    <a:pt x="212" y="402"/>
                  </a:lnTo>
                  <a:lnTo>
                    <a:pt x="178" y="383"/>
                  </a:lnTo>
                  <a:lnTo>
                    <a:pt x="148" y="368"/>
                  </a:lnTo>
                  <a:lnTo>
                    <a:pt x="122" y="355"/>
                  </a:lnTo>
                  <a:lnTo>
                    <a:pt x="99" y="347"/>
                  </a:lnTo>
                  <a:lnTo>
                    <a:pt x="80" y="339"/>
                  </a:lnTo>
                  <a:lnTo>
                    <a:pt x="64" y="331"/>
                  </a:lnTo>
                  <a:lnTo>
                    <a:pt x="49" y="325"/>
                  </a:lnTo>
                  <a:lnTo>
                    <a:pt x="37" y="317"/>
                  </a:lnTo>
                  <a:lnTo>
                    <a:pt x="26" y="310"/>
                  </a:lnTo>
                  <a:lnTo>
                    <a:pt x="17" y="302"/>
                  </a:lnTo>
                  <a:lnTo>
                    <a:pt x="11" y="294"/>
                  </a:lnTo>
                  <a:lnTo>
                    <a:pt x="5" y="286"/>
                  </a:lnTo>
                  <a:lnTo>
                    <a:pt x="2" y="276"/>
                  </a:lnTo>
                  <a:lnTo>
                    <a:pt x="0" y="267"/>
                  </a:lnTo>
                  <a:lnTo>
                    <a:pt x="0" y="257"/>
                  </a:lnTo>
                  <a:lnTo>
                    <a:pt x="1" y="246"/>
                  </a:lnTo>
                  <a:lnTo>
                    <a:pt x="3" y="234"/>
                  </a:lnTo>
                  <a:lnTo>
                    <a:pt x="7" y="221"/>
                  </a:lnTo>
                  <a:lnTo>
                    <a:pt x="11" y="208"/>
                  </a:lnTo>
                  <a:lnTo>
                    <a:pt x="15" y="193"/>
                  </a:lnTo>
                  <a:lnTo>
                    <a:pt x="22" y="178"/>
                  </a:lnTo>
                  <a:lnTo>
                    <a:pt x="28" y="162"/>
                  </a:lnTo>
                  <a:lnTo>
                    <a:pt x="36" y="147"/>
                  </a:lnTo>
                  <a:lnTo>
                    <a:pt x="44" y="131"/>
                  </a:lnTo>
                  <a:lnTo>
                    <a:pt x="53" y="115"/>
                  </a:lnTo>
                  <a:lnTo>
                    <a:pt x="63" y="100"/>
                  </a:lnTo>
                  <a:lnTo>
                    <a:pt x="72" y="86"/>
                  </a:lnTo>
                  <a:lnTo>
                    <a:pt x="83" y="72"/>
                  </a:lnTo>
                  <a:lnTo>
                    <a:pt x="93" y="59"/>
                  </a:lnTo>
                  <a:lnTo>
                    <a:pt x="104" y="47"/>
                  </a:lnTo>
                  <a:lnTo>
                    <a:pt x="114" y="37"/>
                  </a:lnTo>
                  <a:lnTo>
                    <a:pt x="124" y="27"/>
                  </a:lnTo>
                  <a:lnTo>
                    <a:pt x="134" y="19"/>
                  </a:lnTo>
                  <a:lnTo>
                    <a:pt x="144" y="13"/>
                  </a:lnTo>
                  <a:lnTo>
                    <a:pt x="152" y="9"/>
                  </a:lnTo>
                  <a:lnTo>
                    <a:pt x="161" y="5"/>
                  </a:lnTo>
                  <a:lnTo>
                    <a:pt x="177" y="3"/>
                  </a:lnTo>
                  <a:lnTo>
                    <a:pt x="192" y="1"/>
                  </a:lnTo>
                  <a:lnTo>
                    <a:pt x="208" y="0"/>
                  </a:lnTo>
                  <a:lnTo>
                    <a:pt x="224" y="1"/>
                  </a:lnTo>
                  <a:lnTo>
                    <a:pt x="242" y="3"/>
                  </a:lnTo>
                  <a:lnTo>
                    <a:pt x="262" y="7"/>
                  </a:lnTo>
                  <a:lnTo>
                    <a:pt x="283" y="14"/>
                  </a:lnTo>
                  <a:lnTo>
                    <a:pt x="307" y="23"/>
                  </a:lnTo>
                  <a:lnTo>
                    <a:pt x="319" y="28"/>
                  </a:lnTo>
                  <a:lnTo>
                    <a:pt x="330" y="33"/>
                  </a:lnTo>
                  <a:lnTo>
                    <a:pt x="338" y="40"/>
                  </a:lnTo>
                  <a:lnTo>
                    <a:pt x="345" y="45"/>
                  </a:lnTo>
                  <a:lnTo>
                    <a:pt x="356" y="57"/>
                  </a:lnTo>
                  <a:lnTo>
                    <a:pt x="365" y="67"/>
                  </a:lnTo>
                  <a:lnTo>
                    <a:pt x="368" y="71"/>
                  </a:lnTo>
                  <a:lnTo>
                    <a:pt x="373" y="74"/>
                  </a:lnTo>
                  <a:lnTo>
                    <a:pt x="378" y="77"/>
                  </a:lnTo>
                  <a:lnTo>
                    <a:pt x="384" y="79"/>
                  </a:lnTo>
                  <a:lnTo>
                    <a:pt x="390" y="79"/>
                  </a:lnTo>
                  <a:lnTo>
                    <a:pt x="398" y="78"/>
                  </a:lnTo>
                  <a:lnTo>
                    <a:pt x="407" y="75"/>
                  </a:lnTo>
                  <a:lnTo>
                    <a:pt x="418" y="72"/>
                  </a:lnTo>
                  <a:lnTo>
                    <a:pt x="421" y="71"/>
                  </a:lnTo>
                  <a:lnTo>
                    <a:pt x="431" y="70"/>
                  </a:lnTo>
                  <a:lnTo>
                    <a:pt x="444" y="70"/>
                  </a:lnTo>
                  <a:lnTo>
                    <a:pt x="461" y="70"/>
                  </a:lnTo>
                  <a:lnTo>
                    <a:pt x="470" y="71"/>
                  </a:lnTo>
                  <a:lnTo>
                    <a:pt x="480" y="73"/>
                  </a:lnTo>
                  <a:lnTo>
                    <a:pt x="488" y="75"/>
                  </a:lnTo>
                  <a:lnTo>
                    <a:pt x="498" y="79"/>
                  </a:lnTo>
                  <a:lnTo>
                    <a:pt x="507" y="82"/>
                  </a:lnTo>
                  <a:lnTo>
                    <a:pt x="515" y="87"/>
                  </a:lnTo>
                  <a:lnTo>
                    <a:pt x="523" y="94"/>
                  </a:lnTo>
                  <a:lnTo>
                    <a:pt x="529" y="101"/>
                  </a:lnTo>
                  <a:lnTo>
                    <a:pt x="537" y="111"/>
                  </a:lnTo>
                  <a:lnTo>
                    <a:pt x="547" y="124"/>
                  </a:lnTo>
                  <a:lnTo>
                    <a:pt x="556" y="139"/>
                  </a:lnTo>
                  <a:lnTo>
                    <a:pt x="566" y="155"/>
                  </a:lnTo>
                  <a:lnTo>
                    <a:pt x="589" y="194"/>
                  </a:lnTo>
                  <a:lnTo>
                    <a:pt x="613" y="235"/>
                  </a:lnTo>
                  <a:lnTo>
                    <a:pt x="635" y="274"/>
                  </a:lnTo>
                  <a:lnTo>
                    <a:pt x="655" y="308"/>
                  </a:lnTo>
                  <a:lnTo>
                    <a:pt x="663" y="322"/>
                  </a:lnTo>
                  <a:lnTo>
                    <a:pt x="671" y="333"/>
                  </a:lnTo>
                  <a:lnTo>
                    <a:pt x="676" y="340"/>
                  </a:lnTo>
                  <a:lnTo>
                    <a:pt x="681" y="344"/>
                  </a:lnTo>
                  <a:lnTo>
                    <a:pt x="685" y="344"/>
                  </a:lnTo>
                  <a:lnTo>
                    <a:pt x="691" y="344"/>
                  </a:lnTo>
                  <a:lnTo>
                    <a:pt x="701" y="342"/>
                  </a:lnTo>
                  <a:lnTo>
                    <a:pt x="712" y="340"/>
                  </a:lnTo>
                  <a:lnTo>
                    <a:pt x="739" y="334"/>
                  </a:lnTo>
                  <a:lnTo>
                    <a:pt x="770" y="327"/>
                  </a:lnTo>
                  <a:lnTo>
                    <a:pt x="804" y="320"/>
                  </a:lnTo>
                  <a:lnTo>
                    <a:pt x="837" y="315"/>
                  </a:lnTo>
                  <a:lnTo>
                    <a:pt x="852" y="313"/>
                  </a:lnTo>
                  <a:lnTo>
                    <a:pt x="866" y="313"/>
                  </a:lnTo>
                  <a:lnTo>
                    <a:pt x="879" y="314"/>
                  </a:lnTo>
                  <a:lnTo>
                    <a:pt x="890" y="316"/>
                  </a:lnTo>
                </a:path>
              </a:pathLst>
            </a:custGeom>
            <a:noFill/>
            <a:ln w="14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208480" y="5094360"/>
              <a:ext cx="225360" cy="101520"/>
            </a:xfrm>
            <a:custGeom>
              <a:avLst/>
              <a:gdLst/>
              <a:ahLst/>
              <a:rect l="l" t="t" r="r" b="b"/>
              <a:pathLst>
                <a:path w="712" h="321">
                  <a:moveTo>
                    <a:pt x="21" y="0"/>
                  </a:moveTo>
                  <a:lnTo>
                    <a:pt x="28" y="1"/>
                  </a:lnTo>
                  <a:lnTo>
                    <a:pt x="43" y="3"/>
                  </a:lnTo>
                  <a:lnTo>
                    <a:pt x="66" y="8"/>
                  </a:lnTo>
                  <a:lnTo>
                    <a:pt x="95" y="11"/>
                  </a:lnTo>
                  <a:lnTo>
                    <a:pt x="126" y="15"/>
                  </a:lnTo>
                  <a:lnTo>
                    <a:pt x="160" y="17"/>
                  </a:lnTo>
                  <a:lnTo>
                    <a:pt x="176" y="18"/>
                  </a:lnTo>
                  <a:lnTo>
                    <a:pt x="191" y="18"/>
                  </a:lnTo>
                  <a:lnTo>
                    <a:pt x="206" y="18"/>
                  </a:lnTo>
                  <a:lnTo>
                    <a:pt x="220" y="17"/>
                  </a:lnTo>
                  <a:lnTo>
                    <a:pt x="232" y="16"/>
                  </a:lnTo>
                  <a:lnTo>
                    <a:pt x="244" y="15"/>
                  </a:lnTo>
                  <a:lnTo>
                    <a:pt x="257" y="15"/>
                  </a:lnTo>
                  <a:lnTo>
                    <a:pt x="269" y="15"/>
                  </a:lnTo>
                  <a:lnTo>
                    <a:pt x="282" y="17"/>
                  </a:lnTo>
                  <a:lnTo>
                    <a:pt x="293" y="19"/>
                  </a:lnTo>
                  <a:lnTo>
                    <a:pt x="307" y="24"/>
                  </a:lnTo>
                  <a:lnTo>
                    <a:pt x="320" y="29"/>
                  </a:lnTo>
                  <a:lnTo>
                    <a:pt x="336" y="37"/>
                  </a:lnTo>
                  <a:lnTo>
                    <a:pt x="351" y="45"/>
                  </a:lnTo>
                  <a:lnTo>
                    <a:pt x="367" y="56"/>
                  </a:lnTo>
                  <a:lnTo>
                    <a:pt x="384" y="69"/>
                  </a:lnTo>
                  <a:lnTo>
                    <a:pt x="403" y="84"/>
                  </a:lnTo>
                  <a:lnTo>
                    <a:pt x="423" y="102"/>
                  </a:lnTo>
                  <a:lnTo>
                    <a:pt x="444" y="122"/>
                  </a:lnTo>
                  <a:lnTo>
                    <a:pt x="466" y="146"/>
                  </a:lnTo>
                  <a:lnTo>
                    <a:pt x="490" y="168"/>
                  </a:lnTo>
                  <a:lnTo>
                    <a:pt x="514" y="190"/>
                  </a:lnTo>
                  <a:lnTo>
                    <a:pt x="537" y="208"/>
                  </a:lnTo>
                  <a:lnTo>
                    <a:pt x="558" y="225"/>
                  </a:lnTo>
                  <a:lnTo>
                    <a:pt x="580" y="239"/>
                  </a:lnTo>
                  <a:lnTo>
                    <a:pt x="599" y="252"/>
                  </a:lnTo>
                  <a:lnTo>
                    <a:pt x="619" y="262"/>
                  </a:lnTo>
                  <a:lnTo>
                    <a:pt x="636" y="271"/>
                  </a:lnTo>
                  <a:lnTo>
                    <a:pt x="667" y="285"/>
                  </a:lnTo>
                  <a:lnTo>
                    <a:pt x="691" y="293"/>
                  </a:lnTo>
                  <a:lnTo>
                    <a:pt x="706" y="297"/>
                  </a:lnTo>
                  <a:lnTo>
                    <a:pt x="712" y="299"/>
                  </a:lnTo>
                  <a:lnTo>
                    <a:pt x="706" y="300"/>
                  </a:lnTo>
                  <a:lnTo>
                    <a:pt x="692" y="303"/>
                  </a:lnTo>
                  <a:lnTo>
                    <a:pt x="670" y="308"/>
                  </a:lnTo>
                  <a:lnTo>
                    <a:pt x="643" y="313"/>
                  </a:lnTo>
                  <a:lnTo>
                    <a:pt x="612" y="318"/>
                  </a:lnTo>
                  <a:lnTo>
                    <a:pt x="580" y="321"/>
                  </a:lnTo>
                  <a:lnTo>
                    <a:pt x="564" y="321"/>
                  </a:lnTo>
                  <a:lnTo>
                    <a:pt x="548" y="321"/>
                  </a:lnTo>
                  <a:lnTo>
                    <a:pt x="533" y="321"/>
                  </a:lnTo>
                  <a:lnTo>
                    <a:pt x="518" y="319"/>
                  </a:lnTo>
                  <a:lnTo>
                    <a:pt x="502" y="315"/>
                  </a:lnTo>
                  <a:lnTo>
                    <a:pt x="483" y="309"/>
                  </a:lnTo>
                  <a:lnTo>
                    <a:pt x="459" y="301"/>
                  </a:lnTo>
                  <a:lnTo>
                    <a:pt x="433" y="292"/>
                  </a:lnTo>
                  <a:lnTo>
                    <a:pt x="377" y="270"/>
                  </a:lnTo>
                  <a:lnTo>
                    <a:pt x="319" y="246"/>
                  </a:lnTo>
                  <a:lnTo>
                    <a:pt x="265" y="222"/>
                  </a:lnTo>
                  <a:lnTo>
                    <a:pt x="220" y="202"/>
                  </a:lnTo>
                  <a:lnTo>
                    <a:pt x="189" y="188"/>
                  </a:lnTo>
                  <a:lnTo>
                    <a:pt x="178" y="183"/>
                  </a:lnTo>
                  <a:lnTo>
                    <a:pt x="0" y="27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b5b5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208480" y="5100840"/>
              <a:ext cx="193680" cy="95040"/>
            </a:xfrm>
            <a:custGeom>
              <a:avLst/>
              <a:gdLst/>
              <a:ahLst/>
              <a:rect l="l" t="t" r="r" b="b"/>
              <a:pathLst>
                <a:path w="608" h="299">
                  <a:moveTo>
                    <a:pt x="0" y="0"/>
                  </a:moveTo>
                  <a:lnTo>
                    <a:pt x="6" y="3"/>
                  </a:lnTo>
                  <a:lnTo>
                    <a:pt x="23" y="10"/>
                  </a:lnTo>
                  <a:lnTo>
                    <a:pt x="50" y="20"/>
                  </a:lnTo>
                  <a:lnTo>
                    <a:pt x="82" y="32"/>
                  </a:lnTo>
                  <a:lnTo>
                    <a:pt x="117" y="44"/>
                  </a:lnTo>
                  <a:lnTo>
                    <a:pt x="153" y="54"/>
                  </a:lnTo>
                  <a:lnTo>
                    <a:pt x="170" y="57"/>
                  </a:lnTo>
                  <a:lnTo>
                    <a:pt x="187" y="59"/>
                  </a:lnTo>
                  <a:lnTo>
                    <a:pt x="202" y="60"/>
                  </a:lnTo>
                  <a:lnTo>
                    <a:pt x="215" y="59"/>
                  </a:lnTo>
                  <a:lnTo>
                    <a:pt x="226" y="58"/>
                  </a:lnTo>
                  <a:lnTo>
                    <a:pt x="236" y="57"/>
                  </a:lnTo>
                  <a:lnTo>
                    <a:pt x="244" y="57"/>
                  </a:lnTo>
                  <a:lnTo>
                    <a:pt x="251" y="58"/>
                  </a:lnTo>
                  <a:lnTo>
                    <a:pt x="258" y="59"/>
                  </a:lnTo>
                  <a:lnTo>
                    <a:pt x="263" y="62"/>
                  </a:lnTo>
                  <a:lnTo>
                    <a:pt x="269" y="65"/>
                  </a:lnTo>
                  <a:lnTo>
                    <a:pt x="274" y="70"/>
                  </a:lnTo>
                  <a:lnTo>
                    <a:pt x="287" y="82"/>
                  </a:lnTo>
                  <a:lnTo>
                    <a:pt x="302" y="98"/>
                  </a:lnTo>
                  <a:lnTo>
                    <a:pt x="324" y="118"/>
                  </a:lnTo>
                  <a:lnTo>
                    <a:pt x="353" y="143"/>
                  </a:lnTo>
                  <a:lnTo>
                    <a:pt x="380" y="164"/>
                  </a:lnTo>
                  <a:lnTo>
                    <a:pt x="406" y="182"/>
                  </a:lnTo>
                  <a:lnTo>
                    <a:pt x="431" y="198"/>
                  </a:lnTo>
                  <a:lnTo>
                    <a:pt x="454" y="212"/>
                  </a:lnTo>
                  <a:lnTo>
                    <a:pt x="477" y="224"/>
                  </a:lnTo>
                  <a:lnTo>
                    <a:pt x="498" y="234"/>
                  </a:lnTo>
                  <a:lnTo>
                    <a:pt x="517" y="243"/>
                  </a:lnTo>
                  <a:lnTo>
                    <a:pt x="535" y="250"/>
                  </a:lnTo>
                  <a:lnTo>
                    <a:pt x="566" y="260"/>
                  </a:lnTo>
                  <a:lnTo>
                    <a:pt x="588" y="266"/>
                  </a:lnTo>
                  <a:lnTo>
                    <a:pt x="602" y="269"/>
                  </a:lnTo>
                  <a:lnTo>
                    <a:pt x="608" y="270"/>
                  </a:lnTo>
                  <a:lnTo>
                    <a:pt x="607" y="271"/>
                  </a:lnTo>
                  <a:lnTo>
                    <a:pt x="605" y="275"/>
                  </a:lnTo>
                  <a:lnTo>
                    <a:pt x="599" y="281"/>
                  </a:lnTo>
                  <a:lnTo>
                    <a:pt x="591" y="288"/>
                  </a:lnTo>
                  <a:lnTo>
                    <a:pt x="586" y="290"/>
                  </a:lnTo>
                  <a:lnTo>
                    <a:pt x="580" y="293"/>
                  </a:lnTo>
                  <a:lnTo>
                    <a:pt x="572" y="296"/>
                  </a:lnTo>
                  <a:lnTo>
                    <a:pt x="564" y="298"/>
                  </a:lnTo>
                  <a:lnTo>
                    <a:pt x="555" y="299"/>
                  </a:lnTo>
                  <a:lnTo>
                    <a:pt x="544" y="299"/>
                  </a:lnTo>
                  <a:lnTo>
                    <a:pt x="532" y="299"/>
                  </a:lnTo>
                  <a:lnTo>
                    <a:pt x="518" y="297"/>
                  </a:lnTo>
                  <a:lnTo>
                    <a:pt x="502" y="293"/>
                  </a:lnTo>
                  <a:lnTo>
                    <a:pt x="483" y="287"/>
                  </a:lnTo>
                  <a:lnTo>
                    <a:pt x="459" y="279"/>
                  </a:lnTo>
                  <a:lnTo>
                    <a:pt x="433" y="270"/>
                  </a:lnTo>
                  <a:lnTo>
                    <a:pt x="377" y="248"/>
                  </a:lnTo>
                  <a:lnTo>
                    <a:pt x="319" y="224"/>
                  </a:lnTo>
                  <a:lnTo>
                    <a:pt x="265" y="200"/>
                  </a:lnTo>
                  <a:lnTo>
                    <a:pt x="220" y="180"/>
                  </a:lnTo>
                  <a:lnTo>
                    <a:pt x="189" y="166"/>
                  </a:lnTo>
                  <a:lnTo>
                    <a:pt x="178" y="161"/>
                  </a:lnTo>
                  <a:lnTo>
                    <a:pt x="0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c8b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342040" y="5025960"/>
              <a:ext cx="79200" cy="95400"/>
            </a:xfrm>
            <a:custGeom>
              <a:avLst/>
              <a:gdLst/>
              <a:ahLst/>
              <a:rect l="l" t="t" r="r" b="b"/>
              <a:pathLst>
                <a:path w="250" h="298">
                  <a:moveTo>
                    <a:pt x="227" y="256"/>
                  </a:moveTo>
                  <a:lnTo>
                    <a:pt x="222" y="250"/>
                  </a:lnTo>
                  <a:lnTo>
                    <a:pt x="211" y="231"/>
                  </a:lnTo>
                  <a:lnTo>
                    <a:pt x="194" y="205"/>
                  </a:lnTo>
                  <a:lnTo>
                    <a:pt x="174" y="173"/>
                  </a:lnTo>
                  <a:lnTo>
                    <a:pt x="152" y="138"/>
                  </a:lnTo>
                  <a:lnTo>
                    <a:pt x="129" y="104"/>
                  </a:lnTo>
                  <a:lnTo>
                    <a:pt x="110" y="70"/>
                  </a:lnTo>
                  <a:lnTo>
                    <a:pt x="94" y="43"/>
                  </a:lnTo>
                  <a:lnTo>
                    <a:pt x="86" y="33"/>
                  </a:lnTo>
                  <a:lnTo>
                    <a:pt x="79" y="23"/>
                  </a:lnTo>
                  <a:lnTo>
                    <a:pt x="71" y="15"/>
                  </a:lnTo>
                  <a:lnTo>
                    <a:pt x="63" y="10"/>
                  </a:lnTo>
                  <a:lnTo>
                    <a:pt x="55" y="6"/>
                  </a:lnTo>
                  <a:lnTo>
                    <a:pt x="47" y="3"/>
                  </a:lnTo>
                  <a:lnTo>
                    <a:pt x="40" y="1"/>
                  </a:lnTo>
                  <a:lnTo>
                    <a:pt x="32" y="0"/>
                  </a:lnTo>
                  <a:lnTo>
                    <a:pt x="19" y="1"/>
                  </a:lnTo>
                  <a:lnTo>
                    <a:pt x="8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1" y="9"/>
                  </a:lnTo>
                  <a:lnTo>
                    <a:pt x="4" y="14"/>
                  </a:lnTo>
                  <a:lnTo>
                    <a:pt x="10" y="24"/>
                  </a:lnTo>
                  <a:lnTo>
                    <a:pt x="17" y="35"/>
                  </a:lnTo>
                  <a:lnTo>
                    <a:pt x="25" y="47"/>
                  </a:lnTo>
                  <a:lnTo>
                    <a:pt x="32" y="58"/>
                  </a:lnTo>
                  <a:lnTo>
                    <a:pt x="39" y="69"/>
                  </a:lnTo>
                  <a:lnTo>
                    <a:pt x="44" y="78"/>
                  </a:lnTo>
                  <a:lnTo>
                    <a:pt x="50" y="89"/>
                  </a:lnTo>
                  <a:lnTo>
                    <a:pt x="60" y="106"/>
                  </a:lnTo>
                  <a:lnTo>
                    <a:pt x="73" y="128"/>
                  </a:lnTo>
                  <a:lnTo>
                    <a:pt x="87" y="151"/>
                  </a:lnTo>
                  <a:lnTo>
                    <a:pt x="102" y="175"/>
                  </a:lnTo>
                  <a:lnTo>
                    <a:pt x="116" y="198"/>
                  </a:lnTo>
                  <a:lnTo>
                    <a:pt x="127" y="218"/>
                  </a:lnTo>
                  <a:lnTo>
                    <a:pt x="136" y="233"/>
                  </a:lnTo>
                  <a:lnTo>
                    <a:pt x="142" y="245"/>
                  </a:lnTo>
                  <a:lnTo>
                    <a:pt x="149" y="255"/>
                  </a:lnTo>
                  <a:lnTo>
                    <a:pt x="155" y="265"/>
                  </a:lnTo>
                  <a:lnTo>
                    <a:pt x="162" y="272"/>
                  </a:lnTo>
                  <a:lnTo>
                    <a:pt x="167" y="279"/>
                  </a:lnTo>
                  <a:lnTo>
                    <a:pt x="171" y="284"/>
                  </a:lnTo>
                  <a:lnTo>
                    <a:pt x="174" y="286"/>
                  </a:lnTo>
                  <a:lnTo>
                    <a:pt x="175" y="287"/>
                  </a:lnTo>
                  <a:lnTo>
                    <a:pt x="177" y="289"/>
                  </a:lnTo>
                  <a:lnTo>
                    <a:pt x="181" y="290"/>
                  </a:lnTo>
                  <a:lnTo>
                    <a:pt x="189" y="292"/>
                  </a:lnTo>
                  <a:lnTo>
                    <a:pt x="197" y="295"/>
                  </a:lnTo>
                  <a:lnTo>
                    <a:pt x="208" y="297"/>
                  </a:lnTo>
                  <a:lnTo>
                    <a:pt x="219" y="298"/>
                  </a:lnTo>
                  <a:lnTo>
                    <a:pt x="230" y="298"/>
                  </a:lnTo>
                  <a:lnTo>
                    <a:pt x="240" y="297"/>
                  </a:lnTo>
                  <a:lnTo>
                    <a:pt x="246" y="295"/>
                  </a:lnTo>
                  <a:lnTo>
                    <a:pt x="249" y="292"/>
                  </a:lnTo>
                  <a:lnTo>
                    <a:pt x="250" y="289"/>
                  </a:lnTo>
                  <a:lnTo>
                    <a:pt x="248" y="285"/>
                  </a:lnTo>
                  <a:lnTo>
                    <a:pt x="246" y="282"/>
                  </a:lnTo>
                  <a:lnTo>
                    <a:pt x="243" y="280"/>
                  </a:lnTo>
                  <a:lnTo>
                    <a:pt x="241" y="279"/>
                  </a:lnTo>
                  <a:lnTo>
                    <a:pt x="240" y="278"/>
                  </a:lnTo>
                </a:path>
              </a:pathLst>
            </a:custGeom>
            <a:noFill/>
            <a:ln w="1440">
              <a:solidFill>
                <a:srgbClr val="4d749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191200" y="5073840"/>
              <a:ext cx="230040" cy="144360"/>
            </a:xfrm>
            <a:custGeom>
              <a:avLst/>
              <a:gdLst/>
              <a:ahLst/>
              <a:rect l="l" t="t" r="r" b="b"/>
              <a:pathLst>
                <a:path w="723" h="455">
                  <a:moveTo>
                    <a:pt x="646" y="361"/>
                  </a:moveTo>
                  <a:lnTo>
                    <a:pt x="635" y="358"/>
                  </a:lnTo>
                  <a:lnTo>
                    <a:pt x="607" y="350"/>
                  </a:lnTo>
                  <a:lnTo>
                    <a:pt x="566" y="337"/>
                  </a:lnTo>
                  <a:lnTo>
                    <a:pt x="517" y="321"/>
                  </a:lnTo>
                  <a:lnTo>
                    <a:pt x="464" y="302"/>
                  </a:lnTo>
                  <a:lnTo>
                    <a:pt x="413" y="282"/>
                  </a:lnTo>
                  <a:lnTo>
                    <a:pt x="390" y="272"/>
                  </a:lnTo>
                  <a:lnTo>
                    <a:pt x="368" y="262"/>
                  </a:lnTo>
                  <a:lnTo>
                    <a:pt x="350" y="252"/>
                  </a:lnTo>
                  <a:lnTo>
                    <a:pt x="333" y="242"/>
                  </a:lnTo>
                  <a:lnTo>
                    <a:pt x="321" y="233"/>
                  </a:lnTo>
                  <a:lnTo>
                    <a:pt x="312" y="224"/>
                  </a:lnTo>
                  <a:lnTo>
                    <a:pt x="304" y="215"/>
                  </a:lnTo>
                  <a:lnTo>
                    <a:pt x="299" y="208"/>
                  </a:lnTo>
                  <a:lnTo>
                    <a:pt x="294" y="199"/>
                  </a:lnTo>
                  <a:lnTo>
                    <a:pt x="291" y="192"/>
                  </a:lnTo>
                  <a:lnTo>
                    <a:pt x="289" y="185"/>
                  </a:lnTo>
                  <a:lnTo>
                    <a:pt x="287" y="178"/>
                  </a:lnTo>
                  <a:lnTo>
                    <a:pt x="285" y="172"/>
                  </a:lnTo>
                  <a:lnTo>
                    <a:pt x="283" y="165"/>
                  </a:lnTo>
                  <a:lnTo>
                    <a:pt x="279" y="160"/>
                  </a:lnTo>
                  <a:lnTo>
                    <a:pt x="274" y="154"/>
                  </a:lnTo>
                  <a:lnTo>
                    <a:pt x="269" y="148"/>
                  </a:lnTo>
                  <a:lnTo>
                    <a:pt x="261" y="144"/>
                  </a:lnTo>
                  <a:lnTo>
                    <a:pt x="250" y="138"/>
                  </a:lnTo>
                  <a:lnTo>
                    <a:pt x="237" y="134"/>
                  </a:lnTo>
                  <a:lnTo>
                    <a:pt x="222" y="128"/>
                  </a:lnTo>
                  <a:lnTo>
                    <a:pt x="207" y="121"/>
                  </a:lnTo>
                  <a:lnTo>
                    <a:pt x="191" y="114"/>
                  </a:lnTo>
                  <a:lnTo>
                    <a:pt x="175" y="104"/>
                  </a:lnTo>
                  <a:lnTo>
                    <a:pt x="143" y="84"/>
                  </a:lnTo>
                  <a:lnTo>
                    <a:pt x="113" y="64"/>
                  </a:lnTo>
                  <a:lnTo>
                    <a:pt x="86" y="44"/>
                  </a:lnTo>
                  <a:lnTo>
                    <a:pt x="63" y="26"/>
                  </a:lnTo>
                  <a:lnTo>
                    <a:pt x="47" y="11"/>
                  </a:lnTo>
                  <a:lnTo>
                    <a:pt x="37" y="0"/>
                  </a:lnTo>
                  <a:lnTo>
                    <a:pt x="36" y="0"/>
                  </a:lnTo>
                  <a:lnTo>
                    <a:pt x="34" y="2"/>
                  </a:lnTo>
                  <a:lnTo>
                    <a:pt x="31" y="5"/>
                  </a:lnTo>
                  <a:lnTo>
                    <a:pt x="27" y="9"/>
                  </a:lnTo>
                  <a:lnTo>
                    <a:pt x="21" y="15"/>
                  </a:lnTo>
                  <a:lnTo>
                    <a:pt x="16" y="25"/>
                  </a:lnTo>
                  <a:lnTo>
                    <a:pt x="9" y="38"/>
                  </a:lnTo>
                  <a:lnTo>
                    <a:pt x="3" y="54"/>
                  </a:lnTo>
                  <a:lnTo>
                    <a:pt x="1" y="62"/>
                  </a:lnTo>
                  <a:lnTo>
                    <a:pt x="0" y="71"/>
                  </a:lnTo>
                  <a:lnTo>
                    <a:pt x="0" y="82"/>
                  </a:lnTo>
                  <a:lnTo>
                    <a:pt x="1" y="94"/>
                  </a:lnTo>
                  <a:lnTo>
                    <a:pt x="2" y="101"/>
                  </a:lnTo>
                  <a:lnTo>
                    <a:pt x="4" y="107"/>
                  </a:lnTo>
                  <a:lnTo>
                    <a:pt x="7" y="114"/>
                  </a:lnTo>
                  <a:lnTo>
                    <a:pt x="10" y="119"/>
                  </a:lnTo>
                  <a:lnTo>
                    <a:pt x="15" y="125"/>
                  </a:lnTo>
                  <a:lnTo>
                    <a:pt x="19" y="131"/>
                  </a:lnTo>
                  <a:lnTo>
                    <a:pt x="25" y="136"/>
                  </a:lnTo>
                  <a:lnTo>
                    <a:pt x="32" y="142"/>
                  </a:lnTo>
                  <a:lnTo>
                    <a:pt x="49" y="151"/>
                  </a:lnTo>
                  <a:lnTo>
                    <a:pt x="70" y="164"/>
                  </a:lnTo>
                  <a:lnTo>
                    <a:pt x="95" y="181"/>
                  </a:lnTo>
                  <a:lnTo>
                    <a:pt x="121" y="197"/>
                  </a:lnTo>
                  <a:lnTo>
                    <a:pt x="148" y="214"/>
                  </a:lnTo>
                  <a:lnTo>
                    <a:pt x="175" y="230"/>
                  </a:lnTo>
                  <a:lnTo>
                    <a:pt x="198" y="244"/>
                  </a:lnTo>
                  <a:lnTo>
                    <a:pt x="220" y="255"/>
                  </a:lnTo>
                  <a:lnTo>
                    <a:pt x="231" y="260"/>
                  </a:lnTo>
                  <a:lnTo>
                    <a:pt x="242" y="267"/>
                  </a:lnTo>
                  <a:lnTo>
                    <a:pt x="253" y="273"/>
                  </a:lnTo>
                  <a:lnTo>
                    <a:pt x="265" y="282"/>
                  </a:lnTo>
                  <a:lnTo>
                    <a:pt x="291" y="300"/>
                  </a:lnTo>
                  <a:lnTo>
                    <a:pt x="318" y="319"/>
                  </a:lnTo>
                  <a:lnTo>
                    <a:pt x="345" y="338"/>
                  </a:lnTo>
                  <a:lnTo>
                    <a:pt x="373" y="357"/>
                  </a:lnTo>
                  <a:lnTo>
                    <a:pt x="388" y="364"/>
                  </a:lnTo>
                  <a:lnTo>
                    <a:pt x="402" y="372"/>
                  </a:lnTo>
                  <a:lnTo>
                    <a:pt x="417" y="378"/>
                  </a:lnTo>
                  <a:lnTo>
                    <a:pt x="431" y="384"/>
                  </a:lnTo>
                  <a:lnTo>
                    <a:pt x="459" y="394"/>
                  </a:lnTo>
                  <a:lnTo>
                    <a:pt x="489" y="406"/>
                  </a:lnTo>
                  <a:lnTo>
                    <a:pt x="520" y="417"/>
                  </a:lnTo>
                  <a:lnTo>
                    <a:pt x="553" y="429"/>
                  </a:lnTo>
                  <a:lnTo>
                    <a:pt x="584" y="439"/>
                  </a:lnTo>
                  <a:lnTo>
                    <a:pt x="615" y="446"/>
                  </a:lnTo>
                  <a:lnTo>
                    <a:pt x="630" y="449"/>
                  </a:lnTo>
                  <a:lnTo>
                    <a:pt x="644" y="453"/>
                  </a:lnTo>
                  <a:lnTo>
                    <a:pt x="658" y="454"/>
                  </a:lnTo>
                  <a:lnTo>
                    <a:pt x="673" y="455"/>
                  </a:lnTo>
                  <a:lnTo>
                    <a:pt x="685" y="455"/>
                  </a:lnTo>
                  <a:lnTo>
                    <a:pt x="696" y="453"/>
                  </a:lnTo>
                  <a:lnTo>
                    <a:pt x="705" y="448"/>
                  </a:lnTo>
                  <a:lnTo>
                    <a:pt x="713" y="444"/>
                  </a:lnTo>
                  <a:lnTo>
                    <a:pt x="718" y="438"/>
                  </a:lnTo>
                  <a:lnTo>
                    <a:pt x="721" y="431"/>
                  </a:lnTo>
                  <a:lnTo>
                    <a:pt x="723" y="424"/>
                  </a:lnTo>
                  <a:lnTo>
                    <a:pt x="723" y="416"/>
                  </a:lnTo>
                  <a:lnTo>
                    <a:pt x="721" y="407"/>
                  </a:lnTo>
                  <a:lnTo>
                    <a:pt x="717" y="399"/>
                  </a:lnTo>
                  <a:lnTo>
                    <a:pt x="710" y="391"/>
                  </a:lnTo>
                  <a:lnTo>
                    <a:pt x="702" y="384"/>
                  </a:lnTo>
                  <a:lnTo>
                    <a:pt x="691" y="376"/>
                  </a:lnTo>
                  <a:lnTo>
                    <a:pt x="678" y="371"/>
                  </a:lnTo>
                  <a:lnTo>
                    <a:pt x="663" y="365"/>
                  </a:lnTo>
                  <a:lnTo>
                    <a:pt x="646" y="361"/>
                  </a:lnTo>
                  <a:close/>
                </a:path>
              </a:pathLst>
            </a:custGeom>
            <a:solidFill>
              <a:srgbClr val="de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191200" y="5073840"/>
              <a:ext cx="230040" cy="144360"/>
            </a:xfrm>
            <a:custGeom>
              <a:avLst/>
              <a:gdLst/>
              <a:ahLst/>
              <a:rect l="l" t="t" r="r" b="b"/>
              <a:pathLst>
                <a:path w="723" h="455">
                  <a:moveTo>
                    <a:pt x="646" y="361"/>
                  </a:moveTo>
                  <a:lnTo>
                    <a:pt x="635" y="358"/>
                  </a:lnTo>
                  <a:lnTo>
                    <a:pt x="607" y="350"/>
                  </a:lnTo>
                  <a:lnTo>
                    <a:pt x="566" y="337"/>
                  </a:lnTo>
                  <a:lnTo>
                    <a:pt x="517" y="321"/>
                  </a:lnTo>
                  <a:lnTo>
                    <a:pt x="464" y="302"/>
                  </a:lnTo>
                  <a:lnTo>
                    <a:pt x="413" y="282"/>
                  </a:lnTo>
                  <a:lnTo>
                    <a:pt x="390" y="272"/>
                  </a:lnTo>
                  <a:lnTo>
                    <a:pt x="368" y="262"/>
                  </a:lnTo>
                  <a:lnTo>
                    <a:pt x="350" y="252"/>
                  </a:lnTo>
                  <a:lnTo>
                    <a:pt x="333" y="242"/>
                  </a:lnTo>
                  <a:lnTo>
                    <a:pt x="321" y="233"/>
                  </a:lnTo>
                  <a:lnTo>
                    <a:pt x="312" y="224"/>
                  </a:lnTo>
                  <a:lnTo>
                    <a:pt x="304" y="215"/>
                  </a:lnTo>
                  <a:lnTo>
                    <a:pt x="299" y="208"/>
                  </a:lnTo>
                  <a:lnTo>
                    <a:pt x="294" y="199"/>
                  </a:lnTo>
                  <a:lnTo>
                    <a:pt x="291" y="192"/>
                  </a:lnTo>
                  <a:lnTo>
                    <a:pt x="289" y="185"/>
                  </a:lnTo>
                  <a:lnTo>
                    <a:pt x="287" y="178"/>
                  </a:lnTo>
                  <a:lnTo>
                    <a:pt x="285" y="172"/>
                  </a:lnTo>
                  <a:lnTo>
                    <a:pt x="283" y="165"/>
                  </a:lnTo>
                  <a:lnTo>
                    <a:pt x="279" y="160"/>
                  </a:lnTo>
                  <a:lnTo>
                    <a:pt x="274" y="154"/>
                  </a:lnTo>
                  <a:lnTo>
                    <a:pt x="269" y="148"/>
                  </a:lnTo>
                  <a:lnTo>
                    <a:pt x="261" y="144"/>
                  </a:lnTo>
                  <a:lnTo>
                    <a:pt x="250" y="138"/>
                  </a:lnTo>
                  <a:lnTo>
                    <a:pt x="237" y="134"/>
                  </a:lnTo>
                  <a:lnTo>
                    <a:pt x="222" y="128"/>
                  </a:lnTo>
                  <a:lnTo>
                    <a:pt x="207" y="121"/>
                  </a:lnTo>
                  <a:lnTo>
                    <a:pt x="191" y="114"/>
                  </a:lnTo>
                  <a:lnTo>
                    <a:pt x="175" y="104"/>
                  </a:lnTo>
                  <a:lnTo>
                    <a:pt x="143" y="84"/>
                  </a:lnTo>
                  <a:lnTo>
                    <a:pt x="113" y="64"/>
                  </a:lnTo>
                  <a:lnTo>
                    <a:pt x="86" y="44"/>
                  </a:lnTo>
                  <a:lnTo>
                    <a:pt x="63" y="26"/>
                  </a:lnTo>
                  <a:lnTo>
                    <a:pt x="47" y="11"/>
                  </a:lnTo>
                  <a:lnTo>
                    <a:pt x="37" y="0"/>
                  </a:lnTo>
                  <a:lnTo>
                    <a:pt x="36" y="0"/>
                  </a:lnTo>
                  <a:lnTo>
                    <a:pt x="34" y="2"/>
                  </a:lnTo>
                  <a:lnTo>
                    <a:pt x="31" y="5"/>
                  </a:lnTo>
                  <a:lnTo>
                    <a:pt x="27" y="9"/>
                  </a:lnTo>
                  <a:lnTo>
                    <a:pt x="21" y="15"/>
                  </a:lnTo>
                  <a:lnTo>
                    <a:pt x="16" y="25"/>
                  </a:lnTo>
                  <a:lnTo>
                    <a:pt x="9" y="38"/>
                  </a:lnTo>
                  <a:lnTo>
                    <a:pt x="3" y="54"/>
                  </a:lnTo>
                  <a:lnTo>
                    <a:pt x="1" y="62"/>
                  </a:lnTo>
                  <a:lnTo>
                    <a:pt x="0" y="71"/>
                  </a:lnTo>
                  <a:lnTo>
                    <a:pt x="0" y="82"/>
                  </a:lnTo>
                  <a:lnTo>
                    <a:pt x="1" y="94"/>
                  </a:lnTo>
                  <a:lnTo>
                    <a:pt x="2" y="101"/>
                  </a:lnTo>
                  <a:lnTo>
                    <a:pt x="4" y="107"/>
                  </a:lnTo>
                  <a:lnTo>
                    <a:pt x="7" y="114"/>
                  </a:lnTo>
                  <a:lnTo>
                    <a:pt x="10" y="119"/>
                  </a:lnTo>
                  <a:lnTo>
                    <a:pt x="15" y="125"/>
                  </a:lnTo>
                  <a:lnTo>
                    <a:pt x="19" y="131"/>
                  </a:lnTo>
                  <a:lnTo>
                    <a:pt x="25" y="136"/>
                  </a:lnTo>
                  <a:lnTo>
                    <a:pt x="32" y="142"/>
                  </a:lnTo>
                  <a:lnTo>
                    <a:pt x="49" y="151"/>
                  </a:lnTo>
                  <a:lnTo>
                    <a:pt x="70" y="164"/>
                  </a:lnTo>
                  <a:lnTo>
                    <a:pt x="95" y="181"/>
                  </a:lnTo>
                  <a:lnTo>
                    <a:pt x="121" y="197"/>
                  </a:lnTo>
                  <a:lnTo>
                    <a:pt x="148" y="214"/>
                  </a:lnTo>
                  <a:lnTo>
                    <a:pt x="175" y="230"/>
                  </a:lnTo>
                  <a:lnTo>
                    <a:pt x="198" y="244"/>
                  </a:lnTo>
                  <a:lnTo>
                    <a:pt x="220" y="255"/>
                  </a:lnTo>
                  <a:lnTo>
                    <a:pt x="231" y="260"/>
                  </a:lnTo>
                  <a:lnTo>
                    <a:pt x="242" y="267"/>
                  </a:lnTo>
                  <a:lnTo>
                    <a:pt x="253" y="273"/>
                  </a:lnTo>
                  <a:lnTo>
                    <a:pt x="265" y="282"/>
                  </a:lnTo>
                  <a:lnTo>
                    <a:pt x="291" y="300"/>
                  </a:lnTo>
                  <a:lnTo>
                    <a:pt x="318" y="319"/>
                  </a:lnTo>
                  <a:lnTo>
                    <a:pt x="345" y="338"/>
                  </a:lnTo>
                  <a:lnTo>
                    <a:pt x="373" y="357"/>
                  </a:lnTo>
                  <a:lnTo>
                    <a:pt x="388" y="364"/>
                  </a:lnTo>
                  <a:lnTo>
                    <a:pt x="402" y="372"/>
                  </a:lnTo>
                  <a:lnTo>
                    <a:pt x="417" y="378"/>
                  </a:lnTo>
                  <a:lnTo>
                    <a:pt x="431" y="384"/>
                  </a:lnTo>
                  <a:lnTo>
                    <a:pt x="459" y="394"/>
                  </a:lnTo>
                  <a:lnTo>
                    <a:pt x="489" y="406"/>
                  </a:lnTo>
                  <a:lnTo>
                    <a:pt x="520" y="417"/>
                  </a:lnTo>
                  <a:lnTo>
                    <a:pt x="553" y="429"/>
                  </a:lnTo>
                  <a:lnTo>
                    <a:pt x="584" y="439"/>
                  </a:lnTo>
                  <a:lnTo>
                    <a:pt x="615" y="446"/>
                  </a:lnTo>
                  <a:lnTo>
                    <a:pt x="630" y="449"/>
                  </a:lnTo>
                  <a:lnTo>
                    <a:pt x="644" y="453"/>
                  </a:lnTo>
                  <a:lnTo>
                    <a:pt x="658" y="454"/>
                  </a:lnTo>
                  <a:lnTo>
                    <a:pt x="673" y="455"/>
                  </a:lnTo>
                  <a:lnTo>
                    <a:pt x="685" y="455"/>
                  </a:lnTo>
                  <a:lnTo>
                    <a:pt x="696" y="453"/>
                  </a:lnTo>
                  <a:lnTo>
                    <a:pt x="705" y="448"/>
                  </a:lnTo>
                  <a:lnTo>
                    <a:pt x="713" y="444"/>
                  </a:lnTo>
                  <a:lnTo>
                    <a:pt x="718" y="438"/>
                  </a:lnTo>
                  <a:lnTo>
                    <a:pt x="721" y="431"/>
                  </a:lnTo>
                  <a:lnTo>
                    <a:pt x="723" y="424"/>
                  </a:lnTo>
                  <a:lnTo>
                    <a:pt x="723" y="416"/>
                  </a:lnTo>
                  <a:lnTo>
                    <a:pt x="721" y="407"/>
                  </a:lnTo>
                  <a:lnTo>
                    <a:pt x="717" y="399"/>
                  </a:lnTo>
                  <a:lnTo>
                    <a:pt x="710" y="391"/>
                  </a:lnTo>
                  <a:lnTo>
                    <a:pt x="702" y="384"/>
                  </a:lnTo>
                  <a:lnTo>
                    <a:pt x="691" y="376"/>
                  </a:lnTo>
                  <a:lnTo>
                    <a:pt x="678" y="371"/>
                  </a:lnTo>
                  <a:lnTo>
                    <a:pt x="663" y="365"/>
                  </a:lnTo>
                  <a:lnTo>
                    <a:pt x="646" y="361"/>
                  </a:lnTo>
                </a:path>
              </a:pathLst>
            </a:custGeom>
            <a:noFill/>
            <a:ln w="1440">
              <a:solidFill>
                <a:srgbClr val="57545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369040" y="5180040"/>
              <a:ext cx="183960" cy="50760"/>
            </a:xfrm>
            <a:custGeom>
              <a:avLst/>
              <a:gdLst/>
              <a:ahLst/>
              <a:rect l="l" t="t" r="r" b="b"/>
              <a:pathLst>
                <a:path w="584" h="157">
                  <a:moveTo>
                    <a:pt x="18" y="111"/>
                  </a:moveTo>
                  <a:lnTo>
                    <a:pt x="37" y="116"/>
                  </a:lnTo>
                  <a:lnTo>
                    <a:pt x="88" y="126"/>
                  </a:lnTo>
                  <a:lnTo>
                    <a:pt x="123" y="133"/>
                  </a:lnTo>
                  <a:lnTo>
                    <a:pt x="162" y="139"/>
                  </a:lnTo>
                  <a:lnTo>
                    <a:pt x="205" y="146"/>
                  </a:lnTo>
                  <a:lnTo>
                    <a:pt x="251" y="150"/>
                  </a:lnTo>
                  <a:lnTo>
                    <a:pt x="297" y="155"/>
                  </a:lnTo>
                  <a:lnTo>
                    <a:pt x="345" y="157"/>
                  </a:lnTo>
                  <a:lnTo>
                    <a:pt x="368" y="157"/>
                  </a:lnTo>
                  <a:lnTo>
                    <a:pt x="391" y="157"/>
                  </a:lnTo>
                  <a:lnTo>
                    <a:pt x="414" y="156"/>
                  </a:lnTo>
                  <a:lnTo>
                    <a:pt x="435" y="153"/>
                  </a:lnTo>
                  <a:lnTo>
                    <a:pt x="457" y="151"/>
                  </a:lnTo>
                  <a:lnTo>
                    <a:pt x="476" y="147"/>
                  </a:lnTo>
                  <a:lnTo>
                    <a:pt x="496" y="143"/>
                  </a:lnTo>
                  <a:lnTo>
                    <a:pt x="514" y="137"/>
                  </a:lnTo>
                  <a:lnTo>
                    <a:pt x="530" y="131"/>
                  </a:lnTo>
                  <a:lnTo>
                    <a:pt x="547" y="123"/>
                  </a:lnTo>
                  <a:lnTo>
                    <a:pt x="560" y="115"/>
                  </a:lnTo>
                  <a:lnTo>
                    <a:pt x="571" y="105"/>
                  </a:lnTo>
                  <a:lnTo>
                    <a:pt x="573" y="104"/>
                  </a:lnTo>
                  <a:lnTo>
                    <a:pt x="574" y="102"/>
                  </a:lnTo>
                  <a:lnTo>
                    <a:pt x="575" y="98"/>
                  </a:lnTo>
                  <a:lnTo>
                    <a:pt x="577" y="94"/>
                  </a:lnTo>
                  <a:lnTo>
                    <a:pt x="578" y="89"/>
                  </a:lnTo>
                  <a:lnTo>
                    <a:pt x="579" y="82"/>
                  </a:lnTo>
                  <a:lnTo>
                    <a:pt x="580" y="76"/>
                  </a:lnTo>
                  <a:lnTo>
                    <a:pt x="579" y="67"/>
                  </a:lnTo>
                  <a:lnTo>
                    <a:pt x="579" y="51"/>
                  </a:lnTo>
                  <a:lnTo>
                    <a:pt x="580" y="36"/>
                  </a:lnTo>
                  <a:lnTo>
                    <a:pt x="582" y="23"/>
                  </a:lnTo>
                  <a:lnTo>
                    <a:pt x="583" y="13"/>
                  </a:lnTo>
                  <a:lnTo>
                    <a:pt x="584" y="9"/>
                  </a:lnTo>
                  <a:lnTo>
                    <a:pt x="583" y="5"/>
                  </a:lnTo>
                  <a:lnTo>
                    <a:pt x="582" y="3"/>
                  </a:lnTo>
                  <a:lnTo>
                    <a:pt x="581" y="1"/>
                  </a:lnTo>
                  <a:lnTo>
                    <a:pt x="578" y="0"/>
                  </a:lnTo>
                  <a:lnTo>
                    <a:pt x="574" y="0"/>
                  </a:lnTo>
                  <a:lnTo>
                    <a:pt x="568" y="1"/>
                  </a:lnTo>
                  <a:lnTo>
                    <a:pt x="562" y="3"/>
                  </a:lnTo>
                  <a:lnTo>
                    <a:pt x="544" y="8"/>
                  </a:lnTo>
                  <a:lnTo>
                    <a:pt x="521" y="12"/>
                  </a:lnTo>
                  <a:lnTo>
                    <a:pt x="490" y="16"/>
                  </a:lnTo>
                  <a:lnTo>
                    <a:pt x="457" y="21"/>
                  </a:lnTo>
                  <a:lnTo>
                    <a:pt x="421" y="24"/>
                  </a:lnTo>
                  <a:lnTo>
                    <a:pt x="384" y="27"/>
                  </a:lnTo>
                  <a:lnTo>
                    <a:pt x="346" y="29"/>
                  </a:lnTo>
                  <a:lnTo>
                    <a:pt x="310" y="30"/>
                  </a:lnTo>
                  <a:lnTo>
                    <a:pt x="293" y="30"/>
                  </a:lnTo>
                  <a:lnTo>
                    <a:pt x="277" y="29"/>
                  </a:lnTo>
                  <a:lnTo>
                    <a:pt x="261" y="28"/>
                  </a:lnTo>
                  <a:lnTo>
                    <a:pt x="246" y="27"/>
                  </a:lnTo>
                  <a:lnTo>
                    <a:pt x="218" y="23"/>
                  </a:lnTo>
                  <a:lnTo>
                    <a:pt x="192" y="18"/>
                  </a:lnTo>
                  <a:lnTo>
                    <a:pt x="170" y="15"/>
                  </a:lnTo>
                  <a:lnTo>
                    <a:pt x="149" y="12"/>
                  </a:lnTo>
                  <a:lnTo>
                    <a:pt x="139" y="11"/>
                  </a:lnTo>
                  <a:lnTo>
                    <a:pt x="132" y="11"/>
                  </a:lnTo>
                  <a:lnTo>
                    <a:pt x="124" y="12"/>
                  </a:lnTo>
                  <a:lnTo>
                    <a:pt x="117" y="13"/>
                  </a:lnTo>
                  <a:lnTo>
                    <a:pt x="109" y="15"/>
                  </a:lnTo>
                  <a:lnTo>
                    <a:pt x="100" y="18"/>
                  </a:lnTo>
                  <a:lnTo>
                    <a:pt x="90" y="23"/>
                  </a:lnTo>
                  <a:lnTo>
                    <a:pt x="78" y="28"/>
                  </a:lnTo>
                  <a:lnTo>
                    <a:pt x="66" y="35"/>
                  </a:lnTo>
                  <a:lnTo>
                    <a:pt x="54" y="42"/>
                  </a:lnTo>
                  <a:lnTo>
                    <a:pt x="42" y="50"/>
                  </a:lnTo>
                  <a:lnTo>
                    <a:pt x="30" y="57"/>
                  </a:lnTo>
                  <a:lnTo>
                    <a:pt x="21" y="66"/>
                  </a:lnTo>
                  <a:lnTo>
                    <a:pt x="12" y="74"/>
                  </a:lnTo>
                  <a:lnTo>
                    <a:pt x="5" y="81"/>
                  </a:lnTo>
                  <a:lnTo>
                    <a:pt x="1" y="89"/>
                  </a:lnTo>
                  <a:lnTo>
                    <a:pt x="1" y="93"/>
                  </a:lnTo>
                  <a:lnTo>
                    <a:pt x="0" y="96"/>
                  </a:lnTo>
                  <a:lnTo>
                    <a:pt x="1" y="99"/>
                  </a:lnTo>
                  <a:lnTo>
                    <a:pt x="2" y="103"/>
                  </a:lnTo>
                  <a:lnTo>
                    <a:pt x="5" y="105"/>
                  </a:lnTo>
                  <a:lnTo>
                    <a:pt x="9" y="107"/>
                  </a:lnTo>
                  <a:lnTo>
                    <a:pt x="13" y="110"/>
                  </a:lnTo>
                  <a:lnTo>
                    <a:pt x="18" y="111"/>
                  </a:lnTo>
                  <a:close/>
                </a:path>
              </a:pathLst>
            </a:custGeom>
            <a:solidFill>
              <a:srgbClr val="de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369040" y="5180040"/>
              <a:ext cx="183960" cy="50760"/>
            </a:xfrm>
            <a:custGeom>
              <a:avLst/>
              <a:gdLst/>
              <a:ahLst/>
              <a:rect l="l" t="t" r="r" b="b"/>
              <a:pathLst>
                <a:path w="584" h="157">
                  <a:moveTo>
                    <a:pt x="18" y="111"/>
                  </a:moveTo>
                  <a:lnTo>
                    <a:pt x="37" y="116"/>
                  </a:lnTo>
                  <a:lnTo>
                    <a:pt x="88" y="126"/>
                  </a:lnTo>
                  <a:lnTo>
                    <a:pt x="123" y="133"/>
                  </a:lnTo>
                  <a:lnTo>
                    <a:pt x="162" y="139"/>
                  </a:lnTo>
                  <a:lnTo>
                    <a:pt x="205" y="146"/>
                  </a:lnTo>
                  <a:lnTo>
                    <a:pt x="251" y="150"/>
                  </a:lnTo>
                  <a:lnTo>
                    <a:pt x="297" y="155"/>
                  </a:lnTo>
                  <a:lnTo>
                    <a:pt x="345" y="157"/>
                  </a:lnTo>
                  <a:lnTo>
                    <a:pt x="368" y="157"/>
                  </a:lnTo>
                  <a:lnTo>
                    <a:pt x="391" y="157"/>
                  </a:lnTo>
                  <a:lnTo>
                    <a:pt x="414" y="156"/>
                  </a:lnTo>
                  <a:lnTo>
                    <a:pt x="435" y="153"/>
                  </a:lnTo>
                  <a:lnTo>
                    <a:pt x="457" y="151"/>
                  </a:lnTo>
                  <a:lnTo>
                    <a:pt x="476" y="147"/>
                  </a:lnTo>
                  <a:lnTo>
                    <a:pt x="496" y="143"/>
                  </a:lnTo>
                  <a:lnTo>
                    <a:pt x="514" y="137"/>
                  </a:lnTo>
                  <a:lnTo>
                    <a:pt x="530" y="131"/>
                  </a:lnTo>
                  <a:lnTo>
                    <a:pt x="547" y="123"/>
                  </a:lnTo>
                  <a:lnTo>
                    <a:pt x="560" y="115"/>
                  </a:lnTo>
                  <a:lnTo>
                    <a:pt x="571" y="105"/>
                  </a:lnTo>
                  <a:lnTo>
                    <a:pt x="573" y="104"/>
                  </a:lnTo>
                  <a:lnTo>
                    <a:pt x="574" y="102"/>
                  </a:lnTo>
                  <a:lnTo>
                    <a:pt x="575" y="98"/>
                  </a:lnTo>
                  <a:lnTo>
                    <a:pt x="577" y="94"/>
                  </a:lnTo>
                  <a:lnTo>
                    <a:pt x="578" y="89"/>
                  </a:lnTo>
                  <a:lnTo>
                    <a:pt x="579" y="82"/>
                  </a:lnTo>
                  <a:lnTo>
                    <a:pt x="580" y="76"/>
                  </a:lnTo>
                  <a:lnTo>
                    <a:pt x="579" y="67"/>
                  </a:lnTo>
                  <a:lnTo>
                    <a:pt x="579" y="51"/>
                  </a:lnTo>
                  <a:lnTo>
                    <a:pt x="580" y="36"/>
                  </a:lnTo>
                  <a:lnTo>
                    <a:pt x="582" y="23"/>
                  </a:lnTo>
                  <a:lnTo>
                    <a:pt x="583" y="13"/>
                  </a:lnTo>
                  <a:lnTo>
                    <a:pt x="584" y="9"/>
                  </a:lnTo>
                  <a:lnTo>
                    <a:pt x="583" y="5"/>
                  </a:lnTo>
                  <a:lnTo>
                    <a:pt x="582" y="3"/>
                  </a:lnTo>
                  <a:lnTo>
                    <a:pt x="581" y="1"/>
                  </a:lnTo>
                  <a:lnTo>
                    <a:pt x="578" y="0"/>
                  </a:lnTo>
                  <a:lnTo>
                    <a:pt x="574" y="0"/>
                  </a:lnTo>
                  <a:lnTo>
                    <a:pt x="568" y="1"/>
                  </a:lnTo>
                  <a:lnTo>
                    <a:pt x="562" y="3"/>
                  </a:lnTo>
                  <a:lnTo>
                    <a:pt x="544" y="8"/>
                  </a:lnTo>
                  <a:lnTo>
                    <a:pt x="521" y="12"/>
                  </a:lnTo>
                  <a:lnTo>
                    <a:pt x="490" y="16"/>
                  </a:lnTo>
                  <a:lnTo>
                    <a:pt x="457" y="21"/>
                  </a:lnTo>
                  <a:lnTo>
                    <a:pt x="421" y="24"/>
                  </a:lnTo>
                  <a:lnTo>
                    <a:pt x="384" y="27"/>
                  </a:lnTo>
                  <a:lnTo>
                    <a:pt x="346" y="29"/>
                  </a:lnTo>
                  <a:lnTo>
                    <a:pt x="310" y="30"/>
                  </a:lnTo>
                  <a:lnTo>
                    <a:pt x="293" y="30"/>
                  </a:lnTo>
                  <a:lnTo>
                    <a:pt x="277" y="29"/>
                  </a:lnTo>
                  <a:lnTo>
                    <a:pt x="261" y="28"/>
                  </a:lnTo>
                  <a:lnTo>
                    <a:pt x="246" y="27"/>
                  </a:lnTo>
                  <a:lnTo>
                    <a:pt x="218" y="23"/>
                  </a:lnTo>
                  <a:lnTo>
                    <a:pt x="192" y="18"/>
                  </a:lnTo>
                  <a:lnTo>
                    <a:pt x="170" y="15"/>
                  </a:lnTo>
                  <a:lnTo>
                    <a:pt x="149" y="12"/>
                  </a:lnTo>
                  <a:lnTo>
                    <a:pt x="139" y="11"/>
                  </a:lnTo>
                  <a:lnTo>
                    <a:pt x="132" y="11"/>
                  </a:lnTo>
                  <a:lnTo>
                    <a:pt x="124" y="12"/>
                  </a:lnTo>
                  <a:lnTo>
                    <a:pt x="117" y="13"/>
                  </a:lnTo>
                  <a:lnTo>
                    <a:pt x="109" y="15"/>
                  </a:lnTo>
                  <a:lnTo>
                    <a:pt x="100" y="18"/>
                  </a:lnTo>
                  <a:lnTo>
                    <a:pt x="90" y="23"/>
                  </a:lnTo>
                  <a:lnTo>
                    <a:pt x="78" y="28"/>
                  </a:lnTo>
                  <a:lnTo>
                    <a:pt x="66" y="35"/>
                  </a:lnTo>
                  <a:lnTo>
                    <a:pt x="54" y="42"/>
                  </a:lnTo>
                  <a:lnTo>
                    <a:pt x="42" y="50"/>
                  </a:lnTo>
                  <a:lnTo>
                    <a:pt x="30" y="57"/>
                  </a:lnTo>
                  <a:lnTo>
                    <a:pt x="21" y="66"/>
                  </a:lnTo>
                  <a:lnTo>
                    <a:pt x="12" y="74"/>
                  </a:lnTo>
                  <a:lnTo>
                    <a:pt x="5" y="81"/>
                  </a:lnTo>
                  <a:lnTo>
                    <a:pt x="1" y="89"/>
                  </a:lnTo>
                  <a:lnTo>
                    <a:pt x="1" y="93"/>
                  </a:lnTo>
                  <a:lnTo>
                    <a:pt x="0" y="96"/>
                  </a:lnTo>
                  <a:lnTo>
                    <a:pt x="1" y="99"/>
                  </a:lnTo>
                  <a:lnTo>
                    <a:pt x="2" y="103"/>
                  </a:lnTo>
                  <a:lnTo>
                    <a:pt x="5" y="105"/>
                  </a:lnTo>
                  <a:lnTo>
                    <a:pt x="9" y="107"/>
                  </a:lnTo>
                  <a:lnTo>
                    <a:pt x="13" y="110"/>
                  </a:lnTo>
                  <a:lnTo>
                    <a:pt x="18" y="111"/>
                  </a:lnTo>
                </a:path>
              </a:pathLst>
            </a:custGeom>
            <a:noFill/>
            <a:ln w="1440">
              <a:solidFill>
                <a:srgbClr val="433f3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418000" y="5100840"/>
              <a:ext cx="66960" cy="17280"/>
            </a:xfrm>
            <a:custGeom>
              <a:avLst/>
              <a:gdLst/>
              <a:ahLst/>
              <a:rect l="l" t="t" r="r" b="b"/>
              <a:pathLst>
                <a:path w="211" h="58">
                  <a:moveTo>
                    <a:pt x="207" y="12"/>
                  </a:moveTo>
                  <a:lnTo>
                    <a:pt x="195" y="13"/>
                  </a:lnTo>
                  <a:lnTo>
                    <a:pt x="181" y="14"/>
                  </a:lnTo>
                  <a:lnTo>
                    <a:pt x="167" y="17"/>
                  </a:lnTo>
                  <a:lnTo>
                    <a:pt x="152" y="20"/>
                  </a:lnTo>
                  <a:lnTo>
                    <a:pt x="122" y="26"/>
                  </a:lnTo>
                  <a:lnTo>
                    <a:pt x="92" y="35"/>
                  </a:lnTo>
                  <a:lnTo>
                    <a:pt x="65" y="44"/>
                  </a:lnTo>
                  <a:lnTo>
                    <a:pt x="44" y="50"/>
                  </a:lnTo>
                  <a:lnTo>
                    <a:pt x="29" y="56"/>
                  </a:lnTo>
                  <a:lnTo>
                    <a:pt x="24" y="58"/>
                  </a:lnTo>
                  <a:lnTo>
                    <a:pt x="22" y="57"/>
                  </a:lnTo>
                  <a:lnTo>
                    <a:pt x="18" y="57"/>
                  </a:lnTo>
                  <a:lnTo>
                    <a:pt x="12" y="56"/>
                  </a:lnTo>
                  <a:lnTo>
                    <a:pt x="7" y="53"/>
                  </a:lnTo>
                  <a:lnTo>
                    <a:pt x="4" y="52"/>
                  </a:lnTo>
                  <a:lnTo>
                    <a:pt x="3" y="51"/>
                  </a:lnTo>
                  <a:lnTo>
                    <a:pt x="1" y="50"/>
                  </a:lnTo>
                  <a:lnTo>
                    <a:pt x="0" y="48"/>
                  </a:lnTo>
                  <a:lnTo>
                    <a:pt x="0" y="46"/>
                  </a:lnTo>
                  <a:lnTo>
                    <a:pt x="1" y="44"/>
                  </a:lnTo>
                  <a:lnTo>
                    <a:pt x="3" y="40"/>
                  </a:lnTo>
                  <a:lnTo>
                    <a:pt x="7" y="37"/>
                  </a:lnTo>
                  <a:lnTo>
                    <a:pt x="12" y="36"/>
                  </a:lnTo>
                  <a:lnTo>
                    <a:pt x="27" y="31"/>
                  </a:lnTo>
                  <a:lnTo>
                    <a:pt x="48" y="24"/>
                  </a:lnTo>
                  <a:lnTo>
                    <a:pt x="74" y="17"/>
                  </a:lnTo>
                  <a:lnTo>
                    <a:pt x="103" y="10"/>
                  </a:lnTo>
                  <a:lnTo>
                    <a:pt x="131" y="4"/>
                  </a:lnTo>
                  <a:lnTo>
                    <a:pt x="145" y="2"/>
                  </a:lnTo>
                  <a:lnTo>
                    <a:pt x="158" y="0"/>
                  </a:lnTo>
                  <a:lnTo>
                    <a:pt x="169" y="0"/>
                  </a:lnTo>
                  <a:lnTo>
                    <a:pt x="180" y="0"/>
                  </a:lnTo>
                  <a:lnTo>
                    <a:pt x="182" y="0"/>
                  </a:lnTo>
                  <a:lnTo>
                    <a:pt x="186" y="3"/>
                  </a:lnTo>
                  <a:lnTo>
                    <a:pt x="194" y="5"/>
                  </a:lnTo>
                  <a:lnTo>
                    <a:pt x="200" y="7"/>
                  </a:lnTo>
                  <a:lnTo>
                    <a:pt x="207" y="9"/>
                  </a:lnTo>
                  <a:lnTo>
                    <a:pt x="211" y="11"/>
                  </a:lnTo>
                  <a:lnTo>
                    <a:pt x="211" y="11"/>
                  </a:lnTo>
                  <a:lnTo>
                    <a:pt x="211" y="12"/>
                  </a:lnTo>
                  <a:lnTo>
                    <a:pt x="210" y="12"/>
                  </a:lnTo>
                  <a:lnTo>
                    <a:pt x="207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418000" y="5100840"/>
              <a:ext cx="66960" cy="17280"/>
            </a:xfrm>
            <a:custGeom>
              <a:avLst/>
              <a:gdLst/>
              <a:ahLst/>
              <a:rect l="l" t="t" r="r" b="b"/>
              <a:pathLst>
                <a:path w="211" h="58">
                  <a:moveTo>
                    <a:pt x="207" y="12"/>
                  </a:moveTo>
                  <a:lnTo>
                    <a:pt x="195" y="13"/>
                  </a:lnTo>
                  <a:lnTo>
                    <a:pt x="181" y="14"/>
                  </a:lnTo>
                  <a:lnTo>
                    <a:pt x="167" y="17"/>
                  </a:lnTo>
                  <a:lnTo>
                    <a:pt x="152" y="20"/>
                  </a:lnTo>
                  <a:lnTo>
                    <a:pt x="122" y="26"/>
                  </a:lnTo>
                  <a:lnTo>
                    <a:pt x="92" y="35"/>
                  </a:lnTo>
                  <a:lnTo>
                    <a:pt x="65" y="44"/>
                  </a:lnTo>
                  <a:lnTo>
                    <a:pt x="44" y="50"/>
                  </a:lnTo>
                  <a:lnTo>
                    <a:pt x="29" y="56"/>
                  </a:lnTo>
                  <a:lnTo>
                    <a:pt x="24" y="58"/>
                  </a:lnTo>
                  <a:lnTo>
                    <a:pt x="22" y="57"/>
                  </a:lnTo>
                  <a:lnTo>
                    <a:pt x="18" y="57"/>
                  </a:lnTo>
                  <a:lnTo>
                    <a:pt x="12" y="56"/>
                  </a:lnTo>
                  <a:lnTo>
                    <a:pt x="7" y="53"/>
                  </a:lnTo>
                  <a:lnTo>
                    <a:pt x="4" y="52"/>
                  </a:lnTo>
                  <a:lnTo>
                    <a:pt x="3" y="51"/>
                  </a:lnTo>
                  <a:lnTo>
                    <a:pt x="1" y="50"/>
                  </a:lnTo>
                  <a:lnTo>
                    <a:pt x="0" y="48"/>
                  </a:lnTo>
                  <a:lnTo>
                    <a:pt x="0" y="46"/>
                  </a:lnTo>
                  <a:lnTo>
                    <a:pt x="1" y="44"/>
                  </a:lnTo>
                  <a:lnTo>
                    <a:pt x="3" y="40"/>
                  </a:lnTo>
                  <a:lnTo>
                    <a:pt x="7" y="37"/>
                  </a:lnTo>
                  <a:lnTo>
                    <a:pt x="12" y="36"/>
                  </a:lnTo>
                  <a:lnTo>
                    <a:pt x="27" y="31"/>
                  </a:lnTo>
                  <a:lnTo>
                    <a:pt x="48" y="24"/>
                  </a:lnTo>
                  <a:lnTo>
                    <a:pt x="74" y="17"/>
                  </a:lnTo>
                  <a:lnTo>
                    <a:pt x="103" y="10"/>
                  </a:lnTo>
                  <a:lnTo>
                    <a:pt x="131" y="4"/>
                  </a:lnTo>
                  <a:lnTo>
                    <a:pt x="145" y="2"/>
                  </a:lnTo>
                  <a:lnTo>
                    <a:pt x="158" y="0"/>
                  </a:lnTo>
                  <a:lnTo>
                    <a:pt x="169" y="0"/>
                  </a:lnTo>
                  <a:lnTo>
                    <a:pt x="180" y="0"/>
                  </a:lnTo>
                  <a:lnTo>
                    <a:pt x="182" y="0"/>
                  </a:lnTo>
                  <a:lnTo>
                    <a:pt x="186" y="3"/>
                  </a:lnTo>
                  <a:lnTo>
                    <a:pt x="194" y="5"/>
                  </a:lnTo>
                  <a:lnTo>
                    <a:pt x="200" y="7"/>
                  </a:lnTo>
                  <a:lnTo>
                    <a:pt x="207" y="9"/>
                  </a:lnTo>
                  <a:lnTo>
                    <a:pt x="211" y="11"/>
                  </a:lnTo>
                  <a:lnTo>
                    <a:pt x="211" y="11"/>
                  </a:lnTo>
                  <a:lnTo>
                    <a:pt x="211" y="12"/>
                  </a:lnTo>
                  <a:lnTo>
                    <a:pt x="210" y="12"/>
                  </a:lnTo>
                  <a:lnTo>
                    <a:pt x="207" y="12"/>
                  </a:lnTo>
                </a:path>
              </a:pathLst>
            </a:custGeom>
            <a:noFill/>
            <a:ln w="1440">
              <a:solidFill>
                <a:srgbClr val="37333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413320" y="5079960"/>
              <a:ext cx="49320" cy="3492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12" y="111"/>
                  </a:moveTo>
                  <a:lnTo>
                    <a:pt x="16" y="108"/>
                  </a:lnTo>
                  <a:lnTo>
                    <a:pt x="28" y="99"/>
                  </a:lnTo>
                  <a:lnTo>
                    <a:pt x="46" y="86"/>
                  </a:lnTo>
                  <a:lnTo>
                    <a:pt x="68" y="71"/>
                  </a:lnTo>
                  <a:lnTo>
                    <a:pt x="90" y="56"/>
                  </a:lnTo>
                  <a:lnTo>
                    <a:pt x="113" y="41"/>
                  </a:lnTo>
                  <a:lnTo>
                    <a:pt x="134" y="28"/>
                  </a:lnTo>
                  <a:lnTo>
                    <a:pt x="150" y="20"/>
                  </a:lnTo>
                  <a:lnTo>
                    <a:pt x="152" y="18"/>
                  </a:lnTo>
                  <a:lnTo>
                    <a:pt x="154" y="17"/>
                  </a:lnTo>
                  <a:lnTo>
                    <a:pt x="155" y="16"/>
                  </a:lnTo>
                  <a:lnTo>
                    <a:pt x="155" y="14"/>
                  </a:lnTo>
                  <a:lnTo>
                    <a:pt x="153" y="10"/>
                  </a:lnTo>
                  <a:lnTo>
                    <a:pt x="150" y="7"/>
                  </a:lnTo>
                  <a:lnTo>
                    <a:pt x="145" y="4"/>
                  </a:lnTo>
                  <a:lnTo>
                    <a:pt x="141" y="2"/>
                  </a:lnTo>
                  <a:lnTo>
                    <a:pt x="139" y="1"/>
                  </a:lnTo>
                  <a:lnTo>
                    <a:pt x="137" y="0"/>
                  </a:lnTo>
                  <a:lnTo>
                    <a:pt x="136" y="1"/>
                  </a:lnTo>
                  <a:lnTo>
                    <a:pt x="131" y="2"/>
                  </a:lnTo>
                  <a:lnTo>
                    <a:pt x="124" y="5"/>
                  </a:lnTo>
                  <a:lnTo>
                    <a:pt x="113" y="10"/>
                  </a:lnTo>
                  <a:lnTo>
                    <a:pt x="99" y="19"/>
                  </a:lnTo>
                  <a:lnTo>
                    <a:pt x="82" y="30"/>
                  </a:lnTo>
                  <a:lnTo>
                    <a:pt x="61" y="45"/>
                  </a:lnTo>
                  <a:lnTo>
                    <a:pt x="36" y="64"/>
                  </a:lnTo>
                  <a:lnTo>
                    <a:pt x="27" y="73"/>
                  </a:lnTo>
                  <a:lnTo>
                    <a:pt x="18" y="82"/>
                  </a:lnTo>
                  <a:lnTo>
                    <a:pt x="10" y="89"/>
                  </a:lnTo>
                  <a:lnTo>
                    <a:pt x="4" y="97"/>
                  </a:lnTo>
                  <a:lnTo>
                    <a:pt x="2" y="100"/>
                  </a:lnTo>
                  <a:lnTo>
                    <a:pt x="1" y="103"/>
                  </a:lnTo>
                  <a:lnTo>
                    <a:pt x="0" y="107"/>
                  </a:lnTo>
                  <a:lnTo>
                    <a:pt x="0" y="109"/>
                  </a:lnTo>
                  <a:lnTo>
                    <a:pt x="1" y="110"/>
                  </a:lnTo>
                  <a:lnTo>
                    <a:pt x="3" y="111"/>
                  </a:lnTo>
                  <a:lnTo>
                    <a:pt x="7" y="112"/>
                  </a:lnTo>
                  <a:lnTo>
                    <a:pt x="12" y="1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413320" y="5079960"/>
              <a:ext cx="49320" cy="3492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12" y="111"/>
                  </a:moveTo>
                  <a:lnTo>
                    <a:pt x="16" y="108"/>
                  </a:lnTo>
                  <a:lnTo>
                    <a:pt x="28" y="99"/>
                  </a:lnTo>
                  <a:lnTo>
                    <a:pt x="46" y="86"/>
                  </a:lnTo>
                  <a:lnTo>
                    <a:pt x="68" y="71"/>
                  </a:lnTo>
                  <a:lnTo>
                    <a:pt x="90" y="56"/>
                  </a:lnTo>
                  <a:lnTo>
                    <a:pt x="113" y="41"/>
                  </a:lnTo>
                  <a:lnTo>
                    <a:pt x="134" y="28"/>
                  </a:lnTo>
                  <a:lnTo>
                    <a:pt x="150" y="20"/>
                  </a:lnTo>
                  <a:lnTo>
                    <a:pt x="152" y="18"/>
                  </a:lnTo>
                  <a:lnTo>
                    <a:pt x="154" y="17"/>
                  </a:lnTo>
                  <a:lnTo>
                    <a:pt x="155" y="16"/>
                  </a:lnTo>
                  <a:lnTo>
                    <a:pt x="155" y="14"/>
                  </a:lnTo>
                  <a:lnTo>
                    <a:pt x="153" y="10"/>
                  </a:lnTo>
                  <a:lnTo>
                    <a:pt x="150" y="7"/>
                  </a:lnTo>
                  <a:lnTo>
                    <a:pt x="145" y="4"/>
                  </a:lnTo>
                  <a:lnTo>
                    <a:pt x="141" y="2"/>
                  </a:lnTo>
                  <a:lnTo>
                    <a:pt x="139" y="1"/>
                  </a:lnTo>
                  <a:lnTo>
                    <a:pt x="137" y="0"/>
                  </a:lnTo>
                  <a:lnTo>
                    <a:pt x="136" y="1"/>
                  </a:lnTo>
                  <a:lnTo>
                    <a:pt x="131" y="2"/>
                  </a:lnTo>
                  <a:lnTo>
                    <a:pt x="124" y="5"/>
                  </a:lnTo>
                  <a:lnTo>
                    <a:pt x="113" y="10"/>
                  </a:lnTo>
                  <a:lnTo>
                    <a:pt x="99" y="19"/>
                  </a:lnTo>
                  <a:lnTo>
                    <a:pt x="82" y="30"/>
                  </a:lnTo>
                  <a:lnTo>
                    <a:pt x="61" y="45"/>
                  </a:lnTo>
                  <a:lnTo>
                    <a:pt x="36" y="64"/>
                  </a:lnTo>
                  <a:lnTo>
                    <a:pt x="27" y="73"/>
                  </a:lnTo>
                  <a:lnTo>
                    <a:pt x="18" y="82"/>
                  </a:lnTo>
                  <a:lnTo>
                    <a:pt x="10" y="89"/>
                  </a:lnTo>
                  <a:lnTo>
                    <a:pt x="4" y="97"/>
                  </a:lnTo>
                  <a:lnTo>
                    <a:pt x="2" y="100"/>
                  </a:lnTo>
                  <a:lnTo>
                    <a:pt x="1" y="103"/>
                  </a:lnTo>
                  <a:lnTo>
                    <a:pt x="0" y="107"/>
                  </a:lnTo>
                  <a:lnTo>
                    <a:pt x="0" y="109"/>
                  </a:lnTo>
                  <a:lnTo>
                    <a:pt x="1" y="110"/>
                  </a:lnTo>
                  <a:lnTo>
                    <a:pt x="3" y="111"/>
                  </a:lnTo>
                  <a:lnTo>
                    <a:pt x="7" y="112"/>
                  </a:lnTo>
                  <a:lnTo>
                    <a:pt x="12" y="111"/>
                  </a:lnTo>
                </a:path>
              </a:pathLst>
            </a:custGeom>
            <a:noFill/>
            <a:ln w="1440">
              <a:solidFill>
                <a:srgbClr val="37333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408640" y="5062680"/>
              <a:ext cx="38160" cy="44280"/>
            </a:xfrm>
            <a:custGeom>
              <a:avLst/>
              <a:gdLst/>
              <a:ahLst/>
              <a:rect l="l" t="t" r="r" b="b"/>
              <a:pathLst>
                <a:path w="122" h="140">
                  <a:moveTo>
                    <a:pt x="17" y="138"/>
                  </a:moveTo>
                  <a:lnTo>
                    <a:pt x="20" y="135"/>
                  </a:lnTo>
                  <a:lnTo>
                    <a:pt x="26" y="124"/>
                  </a:lnTo>
                  <a:lnTo>
                    <a:pt x="38" y="109"/>
                  </a:lnTo>
                  <a:lnTo>
                    <a:pt x="51" y="90"/>
                  </a:lnTo>
                  <a:lnTo>
                    <a:pt x="67" y="70"/>
                  </a:lnTo>
                  <a:lnTo>
                    <a:pt x="84" y="50"/>
                  </a:lnTo>
                  <a:lnTo>
                    <a:pt x="100" y="33"/>
                  </a:lnTo>
                  <a:lnTo>
                    <a:pt x="116" y="19"/>
                  </a:lnTo>
                  <a:lnTo>
                    <a:pt x="119" y="17"/>
                  </a:lnTo>
                  <a:lnTo>
                    <a:pt x="121" y="15"/>
                  </a:lnTo>
                  <a:lnTo>
                    <a:pt x="122" y="13"/>
                  </a:lnTo>
                  <a:lnTo>
                    <a:pt x="122" y="10"/>
                  </a:lnTo>
                  <a:lnTo>
                    <a:pt x="121" y="7"/>
                  </a:lnTo>
                  <a:lnTo>
                    <a:pt x="118" y="4"/>
                  </a:lnTo>
                  <a:lnTo>
                    <a:pt x="114" y="2"/>
                  </a:lnTo>
                  <a:lnTo>
                    <a:pt x="111" y="1"/>
                  </a:lnTo>
                  <a:lnTo>
                    <a:pt x="107" y="0"/>
                  </a:lnTo>
                  <a:lnTo>
                    <a:pt x="106" y="0"/>
                  </a:lnTo>
                  <a:lnTo>
                    <a:pt x="104" y="1"/>
                  </a:lnTo>
                  <a:lnTo>
                    <a:pt x="99" y="6"/>
                  </a:lnTo>
                  <a:lnTo>
                    <a:pt x="90" y="13"/>
                  </a:lnTo>
                  <a:lnTo>
                    <a:pt x="80" y="22"/>
                  </a:lnTo>
                  <a:lnTo>
                    <a:pt x="67" y="34"/>
                  </a:lnTo>
                  <a:lnTo>
                    <a:pt x="53" y="48"/>
                  </a:lnTo>
                  <a:lnTo>
                    <a:pt x="39" y="66"/>
                  </a:lnTo>
                  <a:lnTo>
                    <a:pt x="24" y="84"/>
                  </a:lnTo>
                  <a:lnTo>
                    <a:pt x="15" y="95"/>
                  </a:lnTo>
                  <a:lnTo>
                    <a:pt x="9" y="107"/>
                  </a:lnTo>
                  <a:lnTo>
                    <a:pt x="4" y="116"/>
                  </a:lnTo>
                  <a:lnTo>
                    <a:pt x="1" y="126"/>
                  </a:lnTo>
                  <a:lnTo>
                    <a:pt x="0" y="129"/>
                  </a:lnTo>
                  <a:lnTo>
                    <a:pt x="0" y="134"/>
                  </a:lnTo>
                  <a:lnTo>
                    <a:pt x="1" y="136"/>
                  </a:lnTo>
                  <a:lnTo>
                    <a:pt x="2" y="138"/>
                  </a:lnTo>
                  <a:lnTo>
                    <a:pt x="6" y="139"/>
                  </a:lnTo>
                  <a:lnTo>
                    <a:pt x="8" y="140"/>
                  </a:lnTo>
                  <a:lnTo>
                    <a:pt x="12" y="140"/>
                  </a:lnTo>
                  <a:lnTo>
                    <a:pt x="17" y="13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408640" y="5062680"/>
              <a:ext cx="38160" cy="44280"/>
            </a:xfrm>
            <a:custGeom>
              <a:avLst/>
              <a:gdLst/>
              <a:ahLst/>
              <a:rect l="l" t="t" r="r" b="b"/>
              <a:pathLst>
                <a:path w="122" h="140">
                  <a:moveTo>
                    <a:pt x="17" y="138"/>
                  </a:moveTo>
                  <a:lnTo>
                    <a:pt x="20" y="135"/>
                  </a:lnTo>
                  <a:lnTo>
                    <a:pt x="26" y="124"/>
                  </a:lnTo>
                  <a:lnTo>
                    <a:pt x="38" y="109"/>
                  </a:lnTo>
                  <a:lnTo>
                    <a:pt x="51" y="90"/>
                  </a:lnTo>
                  <a:lnTo>
                    <a:pt x="67" y="70"/>
                  </a:lnTo>
                  <a:lnTo>
                    <a:pt x="84" y="50"/>
                  </a:lnTo>
                  <a:lnTo>
                    <a:pt x="100" y="33"/>
                  </a:lnTo>
                  <a:lnTo>
                    <a:pt x="116" y="19"/>
                  </a:lnTo>
                  <a:lnTo>
                    <a:pt x="119" y="17"/>
                  </a:lnTo>
                  <a:lnTo>
                    <a:pt x="121" y="15"/>
                  </a:lnTo>
                  <a:lnTo>
                    <a:pt x="122" y="13"/>
                  </a:lnTo>
                  <a:lnTo>
                    <a:pt x="122" y="10"/>
                  </a:lnTo>
                  <a:lnTo>
                    <a:pt x="121" y="7"/>
                  </a:lnTo>
                  <a:lnTo>
                    <a:pt x="118" y="4"/>
                  </a:lnTo>
                  <a:lnTo>
                    <a:pt x="114" y="2"/>
                  </a:lnTo>
                  <a:lnTo>
                    <a:pt x="111" y="1"/>
                  </a:lnTo>
                  <a:lnTo>
                    <a:pt x="107" y="0"/>
                  </a:lnTo>
                  <a:lnTo>
                    <a:pt x="106" y="0"/>
                  </a:lnTo>
                  <a:lnTo>
                    <a:pt x="104" y="1"/>
                  </a:lnTo>
                  <a:lnTo>
                    <a:pt x="99" y="6"/>
                  </a:lnTo>
                  <a:lnTo>
                    <a:pt x="90" y="13"/>
                  </a:lnTo>
                  <a:lnTo>
                    <a:pt x="80" y="22"/>
                  </a:lnTo>
                  <a:lnTo>
                    <a:pt x="67" y="34"/>
                  </a:lnTo>
                  <a:lnTo>
                    <a:pt x="53" y="48"/>
                  </a:lnTo>
                  <a:lnTo>
                    <a:pt x="39" y="66"/>
                  </a:lnTo>
                  <a:lnTo>
                    <a:pt x="24" y="84"/>
                  </a:lnTo>
                  <a:lnTo>
                    <a:pt x="15" y="95"/>
                  </a:lnTo>
                  <a:lnTo>
                    <a:pt x="9" y="107"/>
                  </a:lnTo>
                  <a:lnTo>
                    <a:pt x="4" y="116"/>
                  </a:lnTo>
                  <a:lnTo>
                    <a:pt x="1" y="126"/>
                  </a:lnTo>
                  <a:lnTo>
                    <a:pt x="0" y="129"/>
                  </a:lnTo>
                  <a:lnTo>
                    <a:pt x="0" y="134"/>
                  </a:lnTo>
                  <a:lnTo>
                    <a:pt x="1" y="136"/>
                  </a:lnTo>
                  <a:lnTo>
                    <a:pt x="2" y="138"/>
                  </a:lnTo>
                  <a:lnTo>
                    <a:pt x="6" y="139"/>
                  </a:lnTo>
                  <a:lnTo>
                    <a:pt x="8" y="140"/>
                  </a:lnTo>
                  <a:lnTo>
                    <a:pt x="12" y="140"/>
                  </a:lnTo>
                  <a:lnTo>
                    <a:pt x="17" y="138"/>
                  </a:lnTo>
                </a:path>
              </a:pathLst>
            </a:custGeom>
            <a:noFill/>
            <a:ln w="1440">
              <a:solidFill>
                <a:srgbClr val="37333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400720" y="5091120"/>
              <a:ext cx="74520" cy="11160"/>
            </a:xfrm>
            <a:custGeom>
              <a:avLst/>
              <a:gdLst/>
              <a:ahLst/>
              <a:rect l="l" t="t" r="r" b="b"/>
              <a:pathLst>
                <a:path w="234" h="36">
                  <a:moveTo>
                    <a:pt x="228" y="28"/>
                  </a:moveTo>
                  <a:lnTo>
                    <a:pt x="222" y="27"/>
                  </a:lnTo>
                  <a:lnTo>
                    <a:pt x="205" y="26"/>
                  </a:lnTo>
                  <a:lnTo>
                    <a:pt x="180" y="24"/>
                  </a:lnTo>
                  <a:lnTo>
                    <a:pt x="150" y="23"/>
                  </a:lnTo>
                  <a:lnTo>
                    <a:pt x="116" y="23"/>
                  </a:lnTo>
                  <a:lnTo>
                    <a:pt x="81" y="25"/>
                  </a:lnTo>
                  <a:lnTo>
                    <a:pt x="63" y="26"/>
                  </a:lnTo>
                  <a:lnTo>
                    <a:pt x="47" y="28"/>
                  </a:lnTo>
                  <a:lnTo>
                    <a:pt x="32" y="32"/>
                  </a:lnTo>
                  <a:lnTo>
                    <a:pt x="18" y="36"/>
                  </a:lnTo>
                  <a:lnTo>
                    <a:pt x="17" y="35"/>
                  </a:lnTo>
                  <a:lnTo>
                    <a:pt x="14" y="33"/>
                  </a:lnTo>
                  <a:lnTo>
                    <a:pt x="9" y="29"/>
                  </a:lnTo>
                  <a:lnTo>
                    <a:pt x="5" y="26"/>
                  </a:lnTo>
                  <a:lnTo>
                    <a:pt x="2" y="22"/>
                  </a:lnTo>
                  <a:lnTo>
                    <a:pt x="0" y="17"/>
                  </a:lnTo>
                  <a:lnTo>
                    <a:pt x="1" y="15"/>
                  </a:lnTo>
                  <a:lnTo>
                    <a:pt x="2" y="14"/>
                  </a:lnTo>
                  <a:lnTo>
                    <a:pt x="4" y="12"/>
                  </a:lnTo>
                  <a:lnTo>
                    <a:pt x="8" y="11"/>
                  </a:lnTo>
                  <a:lnTo>
                    <a:pt x="20" y="9"/>
                  </a:lnTo>
                  <a:lnTo>
                    <a:pt x="40" y="6"/>
                  </a:lnTo>
                  <a:lnTo>
                    <a:pt x="66" y="3"/>
                  </a:lnTo>
                  <a:lnTo>
                    <a:pt x="95" y="1"/>
                  </a:lnTo>
                  <a:lnTo>
                    <a:pt x="126" y="0"/>
                  </a:lnTo>
                  <a:lnTo>
                    <a:pt x="157" y="0"/>
                  </a:lnTo>
                  <a:lnTo>
                    <a:pt x="171" y="1"/>
                  </a:lnTo>
                  <a:lnTo>
                    <a:pt x="184" y="3"/>
                  </a:lnTo>
                  <a:lnTo>
                    <a:pt x="197" y="6"/>
                  </a:lnTo>
                  <a:lnTo>
                    <a:pt x="208" y="8"/>
                  </a:lnTo>
                  <a:lnTo>
                    <a:pt x="210" y="9"/>
                  </a:lnTo>
                  <a:lnTo>
                    <a:pt x="215" y="10"/>
                  </a:lnTo>
                  <a:lnTo>
                    <a:pt x="220" y="12"/>
                  </a:lnTo>
                  <a:lnTo>
                    <a:pt x="226" y="14"/>
                  </a:lnTo>
                  <a:lnTo>
                    <a:pt x="231" y="17"/>
                  </a:lnTo>
                  <a:lnTo>
                    <a:pt x="233" y="21"/>
                  </a:lnTo>
                  <a:lnTo>
                    <a:pt x="234" y="23"/>
                  </a:lnTo>
                  <a:lnTo>
                    <a:pt x="233" y="24"/>
                  </a:lnTo>
                  <a:lnTo>
                    <a:pt x="231" y="26"/>
                  </a:lnTo>
                  <a:lnTo>
                    <a:pt x="228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400720" y="5091120"/>
              <a:ext cx="74520" cy="11160"/>
            </a:xfrm>
            <a:custGeom>
              <a:avLst/>
              <a:gdLst/>
              <a:ahLst/>
              <a:rect l="l" t="t" r="r" b="b"/>
              <a:pathLst>
                <a:path w="234" h="36">
                  <a:moveTo>
                    <a:pt x="228" y="28"/>
                  </a:moveTo>
                  <a:lnTo>
                    <a:pt x="222" y="27"/>
                  </a:lnTo>
                  <a:lnTo>
                    <a:pt x="205" y="26"/>
                  </a:lnTo>
                  <a:lnTo>
                    <a:pt x="180" y="24"/>
                  </a:lnTo>
                  <a:lnTo>
                    <a:pt x="150" y="23"/>
                  </a:lnTo>
                  <a:lnTo>
                    <a:pt x="116" y="23"/>
                  </a:lnTo>
                  <a:lnTo>
                    <a:pt x="81" y="25"/>
                  </a:lnTo>
                  <a:lnTo>
                    <a:pt x="63" y="26"/>
                  </a:lnTo>
                  <a:lnTo>
                    <a:pt x="47" y="28"/>
                  </a:lnTo>
                  <a:lnTo>
                    <a:pt x="32" y="32"/>
                  </a:lnTo>
                  <a:lnTo>
                    <a:pt x="18" y="36"/>
                  </a:lnTo>
                  <a:lnTo>
                    <a:pt x="17" y="35"/>
                  </a:lnTo>
                  <a:lnTo>
                    <a:pt x="14" y="33"/>
                  </a:lnTo>
                  <a:lnTo>
                    <a:pt x="9" y="29"/>
                  </a:lnTo>
                  <a:lnTo>
                    <a:pt x="5" y="26"/>
                  </a:lnTo>
                  <a:lnTo>
                    <a:pt x="2" y="22"/>
                  </a:lnTo>
                  <a:lnTo>
                    <a:pt x="0" y="17"/>
                  </a:lnTo>
                  <a:lnTo>
                    <a:pt x="1" y="15"/>
                  </a:lnTo>
                  <a:lnTo>
                    <a:pt x="2" y="14"/>
                  </a:lnTo>
                  <a:lnTo>
                    <a:pt x="4" y="12"/>
                  </a:lnTo>
                  <a:lnTo>
                    <a:pt x="8" y="11"/>
                  </a:lnTo>
                  <a:lnTo>
                    <a:pt x="20" y="9"/>
                  </a:lnTo>
                  <a:lnTo>
                    <a:pt x="40" y="6"/>
                  </a:lnTo>
                  <a:lnTo>
                    <a:pt x="66" y="3"/>
                  </a:lnTo>
                  <a:lnTo>
                    <a:pt x="95" y="1"/>
                  </a:lnTo>
                  <a:lnTo>
                    <a:pt x="126" y="0"/>
                  </a:lnTo>
                  <a:lnTo>
                    <a:pt x="157" y="0"/>
                  </a:lnTo>
                  <a:lnTo>
                    <a:pt x="171" y="1"/>
                  </a:lnTo>
                  <a:lnTo>
                    <a:pt x="184" y="3"/>
                  </a:lnTo>
                  <a:lnTo>
                    <a:pt x="197" y="6"/>
                  </a:lnTo>
                  <a:lnTo>
                    <a:pt x="208" y="8"/>
                  </a:lnTo>
                  <a:lnTo>
                    <a:pt x="210" y="9"/>
                  </a:lnTo>
                  <a:lnTo>
                    <a:pt x="215" y="10"/>
                  </a:lnTo>
                  <a:lnTo>
                    <a:pt x="220" y="12"/>
                  </a:lnTo>
                  <a:lnTo>
                    <a:pt x="226" y="14"/>
                  </a:lnTo>
                  <a:lnTo>
                    <a:pt x="231" y="17"/>
                  </a:lnTo>
                  <a:lnTo>
                    <a:pt x="233" y="21"/>
                  </a:lnTo>
                  <a:lnTo>
                    <a:pt x="234" y="23"/>
                  </a:lnTo>
                  <a:lnTo>
                    <a:pt x="233" y="24"/>
                  </a:lnTo>
                  <a:lnTo>
                    <a:pt x="231" y="26"/>
                  </a:lnTo>
                  <a:lnTo>
                    <a:pt x="228" y="28"/>
                  </a:lnTo>
                </a:path>
              </a:pathLst>
            </a:custGeom>
            <a:noFill/>
            <a:ln w="1440">
              <a:solidFill>
                <a:srgbClr val="37333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381640" y="5072040"/>
              <a:ext cx="81000" cy="11160"/>
            </a:xfrm>
            <a:custGeom>
              <a:avLst/>
              <a:gdLst/>
              <a:ahLst/>
              <a:rect l="l" t="t" r="r" b="b"/>
              <a:pathLst>
                <a:path w="253" h="33">
                  <a:moveTo>
                    <a:pt x="245" y="33"/>
                  </a:moveTo>
                  <a:lnTo>
                    <a:pt x="241" y="32"/>
                  </a:lnTo>
                  <a:lnTo>
                    <a:pt x="229" y="30"/>
                  </a:lnTo>
                  <a:lnTo>
                    <a:pt x="210" y="27"/>
                  </a:lnTo>
                  <a:lnTo>
                    <a:pt x="183" y="24"/>
                  </a:lnTo>
                  <a:lnTo>
                    <a:pt x="150" y="20"/>
                  </a:lnTo>
                  <a:lnTo>
                    <a:pt x="111" y="18"/>
                  </a:lnTo>
                  <a:lnTo>
                    <a:pt x="67" y="17"/>
                  </a:lnTo>
                  <a:lnTo>
                    <a:pt x="19" y="18"/>
                  </a:lnTo>
                  <a:lnTo>
                    <a:pt x="17" y="17"/>
                  </a:lnTo>
                  <a:lnTo>
                    <a:pt x="14" y="15"/>
                  </a:lnTo>
                  <a:lnTo>
                    <a:pt x="10" y="13"/>
                  </a:lnTo>
                  <a:lnTo>
                    <a:pt x="6" y="10"/>
                  </a:lnTo>
                  <a:lnTo>
                    <a:pt x="2" y="6"/>
                  </a:lnTo>
                  <a:lnTo>
                    <a:pt x="0" y="3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6" y="1"/>
                  </a:lnTo>
                  <a:lnTo>
                    <a:pt x="35" y="0"/>
                  </a:lnTo>
                  <a:lnTo>
                    <a:pt x="66" y="0"/>
                  </a:lnTo>
                  <a:lnTo>
                    <a:pt x="96" y="0"/>
                  </a:lnTo>
                  <a:lnTo>
                    <a:pt x="127" y="1"/>
                  </a:lnTo>
                  <a:lnTo>
                    <a:pt x="155" y="2"/>
                  </a:lnTo>
                  <a:lnTo>
                    <a:pt x="182" y="4"/>
                  </a:lnTo>
                  <a:lnTo>
                    <a:pt x="205" y="9"/>
                  </a:lnTo>
                  <a:lnTo>
                    <a:pt x="226" y="13"/>
                  </a:lnTo>
                  <a:lnTo>
                    <a:pt x="240" y="19"/>
                  </a:lnTo>
                  <a:lnTo>
                    <a:pt x="249" y="24"/>
                  </a:lnTo>
                  <a:lnTo>
                    <a:pt x="253" y="27"/>
                  </a:lnTo>
                  <a:lnTo>
                    <a:pt x="253" y="29"/>
                  </a:lnTo>
                  <a:lnTo>
                    <a:pt x="252" y="31"/>
                  </a:lnTo>
                  <a:lnTo>
                    <a:pt x="250" y="32"/>
                  </a:lnTo>
                  <a:lnTo>
                    <a:pt x="246" y="32"/>
                  </a:lnTo>
                  <a:lnTo>
                    <a:pt x="245" y="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381640" y="5072040"/>
              <a:ext cx="81000" cy="11160"/>
            </a:xfrm>
            <a:custGeom>
              <a:avLst/>
              <a:gdLst/>
              <a:ahLst/>
              <a:rect l="l" t="t" r="r" b="b"/>
              <a:pathLst>
                <a:path w="253" h="33">
                  <a:moveTo>
                    <a:pt x="245" y="33"/>
                  </a:moveTo>
                  <a:lnTo>
                    <a:pt x="241" y="32"/>
                  </a:lnTo>
                  <a:lnTo>
                    <a:pt x="229" y="30"/>
                  </a:lnTo>
                  <a:lnTo>
                    <a:pt x="210" y="27"/>
                  </a:lnTo>
                  <a:lnTo>
                    <a:pt x="183" y="24"/>
                  </a:lnTo>
                  <a:lnTo>
                    <a:pt x="150" y="20"/>
                  </a:lnTo>
                  <a:lnTo>
                    <a:pt x="111" y="18"/>
                  </a:lnTo>
                  <a:lnTo>
                    <a:pt x="67" y="17"/>
                  </a:lnTo>
                  <a:lnTo>
                    <a:pt x="19" y="18"/>
                  </a:lnTo>
                  <a:lnTo>
                    <a:pt x="17" y="17"/>
                  </a:lnTo>
                  <a:lnTo>
                    <a:pt x="14" y="15"/>
                  </a:lnTo>
                  <a:lnTo>
                    <a:pt x="10" y="13"/>
                  </a:lnTo>
                  <a:lnTo>
                    <a:pt x="6" y="10"/>
                  </a:lnTo>
                  <a:lnTo>
                    <a:pt x="2" y="6"/>
                  </a:lnTo>
                  <a:lnTo>
                    <a:pt x="0" y="3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6" y="1"/>
                  </a:lnTo>
                  <a:lnTo>
                    <a:pt x="35" y="0"/>
                  </a:lnTo>
                  <a:lnTo>
                    <a:pt x="66" y="0"/>
                  </a:lnTo>
                  <a:lnTo>
                    <a:pt x="96" y="0"/>
                  </a:lnTo>
                  <a:lnTo>
                    <a:pt x="127" y="1"/>
                  </a:lnTo>
                  <a:lnTo>
                    <a:pt x="155" y="2"/>
                  </a:lnTo>
                  <a:lnTo>
                    <a:pt x="182" y="4"/>
                  </a:lnTo>
                  <a:lnTo>
                    <a:pt x="205" y="9"/>
                  </a:lnTo>
                  <a:lnTo>
                    <a:pt x="226" y="13"/>
                  </a:lnTo>
                  <a:lnTo>
                    <a:pt x="240" y="19"/>
                  </a:lnTo>
                  <a:lnTo>
                    <a:pt x="249" y="24"/>
                  </a:lnTo>
                  <a:lnTo>
                    <a:pt x="253" y="27"/>
                  </a:lnTo>
                  <a:lnTo>
                    <a:pt x="253" y="29"/>
                  </a:lnTo>
                  <a:lnTo>
                    <a:pt x="252" y="31"/>
                  </a:lnTo>
                  <a:lnTo>
                    <a:pt x="250" y="32"/>
                  </a:lnTo>
                  <a:lnTo>
                    <a:pt x="246" y="32"/>
                  </a:lnTo>
                  <a:lnTo>
                    <a:pt x="245" y="33"/>
                  </a:lnTo>
                </a:path>
              </a:pathLst>
            </a:custGeom>
            <a:noFill/>
            <a:ln w="1440">
              <a:solidFill>
                <a:srgbClr val="37333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370480" y="5054760"/>
              <a:ext cx="74520" cy="11160"/>
            </a:xfrm>
            <a:custGeom>
              <a:avLst/>
              <a:gdLst/>
              <a:ahLst/>
              <a:rect l="l" t="t" r="r" b="b"/>
              <a:pathLst>
                <a:path w="238" h="34">
                  <a:moveTo>
                    <a:pt x="236" y="34"/>
                  </a:moveTo>
                  <a:lnTo>
                    <a:pt x="231" y="33"/>
                  </a:lnTo>
                  <a:lnTo>
                    <a:pt x="215" y="31"/>
                  </a:lnTo>
                  <a:lnTo>
                    <a:pt x="193" y="29"/>
                  </a:lnTo>
                  <a:lnTo>
                    <a:pt x="164" y="26"/>
                  </a:lnTo>
                  <a:lnTo>
                    <a:pt x="129" y="23"/>
                  </a:lnTo>
                  <a:lnTo>
                    <a:pt x="92" y="21"/>
                  </a:lnTo>
                  <a:lnTo>
                    <a:pt x="74" y="21"/>
                  </a:lnTo>
                  <a:lnTo>
                    <a:pt x="56" y="22"/>
                  </a:lnTo>
                  <a:lnTo>
                    <a:pt x="36" y="22"/>
                  </a:lnTo>
                  <a:lnTo>
                    <a:pt x="18" y="24"/>
                  </a:lnTo>
                  <a:lnTo>
                    <a:pt x="17" y="23"/>
                  </a:lnTo>
                  <a:lnTo>
                    <a:pt x="13" y="21"/>
                  </a:lnTo>
                  <a:lnTo>
                    <a:pt x="10" y="19"/>
                  </a:lnTo>
                  <a:lnTo>
                    <a:pt x="6" y="16"/>
                  </a:lnTo>
                  <a:lnTo>
                    <a:pt x="2" y="12"/>
                  </a:lnTo>
                  <a:lnTo>
                    <a:pt x="0" y="8"/>
                  </a:lnTo>
                  <a:lnTo>
                    <a:pt x="0" y="7"/>
                  </a:lnTo>
                  <a:lnTo>
                    <a:pt x="2" y="6"/>
                  </a:lnTo>
                  <a:lnTo>
                    <a:pt x="3" y="5"/>
                  </a:lnTo>
                  <a:lnTo>
                    <a:pt x="6" y="5"/>
                  </a:lnTo>
                  <a:lnTo>
                    <a:pt x="17" y="4"/>
                  </a:lnTo>
                  <a:lnTo>
                    <a:pt x="35" y="2"/>
                  </a:lnTo>
                  <a:lnTo>
                    <a:pt x="60" y="1"/>
                  </a:lnTo>
                  <a:lnTo>
                    <a:pt x="89" y="0"/>
                  </a:lnTo>
                  <a:lnTo>
                    <a:pt x="121" y="0"/>
                  </a:lnTo>
                  <a:lnTo>
                    <a:pt x="154" y="3"/>
                  </a:lnTo>
                  <a:lnTo>
                    <a:pt x="170" y="5"/>
                  </a:lnTo>
                  <a:lnTo>
                    <a:pt x="186" y="8"/>
                  </a:lnTo>
                  <a:lnTo>
                    <a:pt x="201" y="12"/>
                  </a:lnTo>
                  <a:lnTo>
                    <a:pt x="215" y="17"/>
                  </a:lnTo>
                  <a:lnTo>
                    <a:pt x="218" y="17"/>
                  </a:lnTo>
                  <a:lnTo>
                    <a:pt x="221" y="18"/>
                  </a:lnTo>
                  <a:lnTo>
                    <a:pt x="225" y="20"/>
                  </a:lnTo>
                  <a:lnTo>
                    <a:pt x="229" y="22"/>
                  </a:lnTo>
                  <a:lnTo>
                    <a:pt x="234" y="26"/>
                  </a:lnTo>
                  <a:lnTo>
                    <a:pt x="237" y="29"/>
                  </a:lnTo>
                  <a:lnTo>
                    <a:pt x="237" y="30"/>
                  </a:lnTo>
                  <a:lnTo>
                    <a:pt x="238" y="31"/>
                  </a:lnTo>
                  <a:lnTo>
                    <a:pt x="237" y="33"/>
                  </a:lnTo>
                  <a:lnTo>
                    <a:pt x="236" y="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370480" y="5054760"/>
              <a:ext cx="74520" cy="11160"/>
            </a:xfrm>
            <a:custGeom>
              <a:avLst/>
              <a:gdLst/>
              <a:ahLst/>
              <a:rect l="l" t="t" r="r" b="b"/>
              <a:pathLst>
                <a:path w="238" h="34">
                  <a:moveTo>
                    <a:pt x="236" y="34"/>
                  </a:moveTo>
                  <a:lnTo>
                    <a:pt x="231" y="33"/>
                  </a:lnTo>
                  <a:lnTo>
                    <a:pt x="215" y="31"/>
                  </a:lnTo>
                  <a:lnTo>
                    <a:pt x="193" y="29"/>
                  </a:lnTo>
                  <a:lnTo>
                    <a:pt x="164" y="26"/>
                  </a:lnTo>
                  <a:lnTo>
                    <a:pt x="129" y="23"/>
                  </a:lnTo>
                  <a:lnTo>
                    <a:pt x="92" y="21"/>
                  </a:lnTo>
                  <a:lnTo>
                    <a:pt x="74" y="21"/>
                  </a:lnTo>
                  <a:lnTo>
                    <a:pt x="56" y="22"/>
                  </a:lnTo>
                  <a:lnTo>
                    <a:pt x="36" y="22"/>
                  </a:lnTo>
                  <a:lnTo>
                    <a:pt x="18" y="24"/>
                  </a:lnTo>
                  <a:lnTo>
                    <a:pt x="17" y="23"/>
                  </a:lnTo>
                  <a:lnTo>
                    <a:pt x="13" y="21"/>
                  </a:lnTo>
                  <a:lnTo>
                    <a:pt x="10" y="19"/>
                  </a:lnTo>
                  <a:lnTo>
                    <a:pt x="6" y="16"/>
                  </a:lnTo>
                  <a:lnTo>
                    <a:pt x="2" y="12"/>
                  </a:lnTo>
                  <a:lnTo>
                    <a:pt x="0" y="8"/>
                  </a:lnTo>
                  <a:lnTo>
                    <a:pt x="0" y="7"/>
                  </a:lnTo>
                  <a:lnTo>
                    <a:pt x="2" y="6"/>
                  </a:lnTo>
                  <a:lnTo>
                    <a:pt x="3" y="5"/>
                  </a:lnTo>
                  <a:lnTo>
                    <a:pt x="6" y="5"/>
                  </a:lnTo>
                  <a:lnTo>
                    <a:pt x="17" y="4"/>
                  </a:lnTo>
                  <a:lnTo>
                    <a:pt x="35" y="2"/>
                  </a:lnTo>
                  <a:lnTo>
                    <a:pt x="60" y="1"/>
                  </a:lnTo>
                  <a:lnTo>
                    <a:pt x="89" y="0"/>
                  </a:lnTo>
                  <a:lnTo>
                    <a:pt x="121" y="0"/>
                  </a:lnTo>
                  <a:lnTo>
                    <a:pt x="154" y="3"/>
                  </a:lnTo>
                  <a:lnTo>
                    <a:pt x="170" y="5"/>
                  </a:lnTo>
                  <a:lnTo>
                    <a:pt x="186" y="8"/>
                  </a:lnTo>
                  <a:lnTo>
                    <a:pt x="201" y="12"/>
                  </a:lnTo>
                  <a:lnTo>
                    <a:pt x="215" y="17"/>
                  </a:lnTo>
                  <a:lnTo>
                    <a:pt x="218" y="17"/>
                  </a:lnTo>
                  <a:lnTo>
                    <a:pt x="221" y="18"/>
                  </a:lnTo>
                  <a:lnTo>
                    <a:pt x="225" y="20"/>
                  </a:lnTo>
                  <a:lnTo>
                    <a:pt x="229" y="22"/>
                  </a:lnTo>
                  <a:lnTo>
                    <a:pt x="234" y="26"/>
                  </a:lnTo>
                  <a:lnTo>
                    <a:pt x="237" y="29"/>
                  </a:lnTo>
                  <a:lnTo>
                    <a:pt x="237" y="30"/>
                  </a:lnTo>
                  <a:lnTo>
                    <a:pt x="238" y="31"/>
                  </a:lnTo>
                  <a:lnTo>
                    <a:pt x="237" y="33"/>
                  </a:lnTo>
                  <a:lnTo>
                    <a:pt x="236" y="34"/>
                  </a:lnTo>
                </a:path>
              </a:pathLst>
            </a:custGeom>
            <a:noFill/>
            <a:ln w="1440">
              <a:solidFill>
                <a:srgbClr val="37333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392800" y="5045040"/>
              <a:ext cx="39600" cy="47880"/>
            </a:xfrm>
            <a:custGeom>
              <a:avLst/>
              <a:gdLst/>
              <a:ahLst/>
              <a:rect l="l" t="t" r="r" b="b"/>
              <a:pathLst>
                <a:path w="125" h="148">
                  <a:moveTo>
                    <a:pt x="19" y="145"/>
                  </a:moveTo>
                  <a:lnTo>
                    <a:pt x="21" y="141"/>
                  </a:lnTo>
                  <a:lnTo>
                    <a:pt x="28" y="130"/>
                  </a:lnTo>
                  <a:lnTo>
                    <a:pt x="39" y="114"/>
                  </a:lnTo>
                  <a:lnTo>
                    <a:pt x="51" y="95"/>
                  </a:lnTo>
                  <a:lnTo>
                    <a:pt x="66" y="74"/>
                  </a:lnTo>
                  <a:lnTo>
                    <a:pt x="83" y="54"/>
                  </a:lnTo>
                  <a:lnTo>
                    <a:pt x="92" y="44"/>
                  </a:lnTo>
                  <a:lnTo>
                    <a:pt x="100" y="34"/>
                  </a:lnTo>
                  <a:lnTo>
                    <a:pt x="109" y="27"/>
                  </a:lnTo>
                  <a:lnTo>
                    <a:pt x="119" y="19"/>
                  </a:lnTo>
                  <a:lnTo>
                    <a:pt x="122" y="16"/>
                  </a:lnTo>
                  <a:lnTo>
                    <a:pt x="124" y="14"/>
                  </a:lnTo>
                  <a:lnTo>
                    <a:pt x="125" y="10"/>
                  </a:lnTo>
                  <a:lnTo>
                    <a:pt x="125" y="8"/>
                  </a:lnTo>
                  <a:lnTo>
                    <a:pt x="125" y="7"/>
                  </a:lnTo>
                  <a:lnTo>
                    <a:pt x="124" y="5"/>
                  </a:lnTo>
                  <a:lnTo>
                    <a:pt x="122" y="4"/>
                  </a:lnTo>
                  <a:lnTo>
                    <a:pt x="121" y="3"/>
                  </a:lnTo>
                  <a:lnTo>
                    <a:pt x="115" y="1"/>
                  </a:lnTo>
                  <a:lnTo>
                    <a:pt x="111" y="0"/>
                  </a:lnTo>
                  <a:lnTo>
                    <a:pt x="107" y="0"/>
                  </a:lnTo>
                  <a:lnTo>
                    <a:pt x="106" y="0"/>
                  </a:lnTo>
                  <a:lnTo>
                    <a:pt x="105" y="1"/>
                  </a:lnTo>
                  <a:lnTo>
                    <a:pt x="99" y="5"/>
                  </a:lnTo>
                  <a:lnTo>
                    <a:pt x="93" y="12"/>
                  </a:lnTo>
                  <a:lnTo>
                    <a:pt x="83" y="21"/>
                  </a:lnTo>
                  <a:lnTo>
                    <a:pt x="71" y="34"/>
                  </a:lnTo>
                  <a:lnTo>
                    <a:pt x="57" y="49"/>
                  </a:lnTo>
                  <a:lnTo>
                    <a:pt x="41" y="68"/>
                  </a:lnTo>
                  <a:lnTo>
                    <a:pt x="25" y="88"/>
                  </a:lnTo>
                  <a:lnTo>
                    <a:pt x="15" y="101"/>
                  </a:lnTo>
                  <a:lnTo>
                    <a:pt x="7" y="114"/>
                  </a:lnTo>
                  <a:lnTo>
                    <a:pt x="3" y="125"/>
                  </a:lnTo>
                  <a:lnTo>
                    <a:pt x="1" y="135"/>
                  </a:lnTo>
                  <a:lnTo>
                    <a:pt x="0" y="138"/>
                  </a:lnTo>
                  <a:lnTo>
                    <a:pt x="1" y="142"/>
                  </a:lnTo>
                  <a:lnTo>
                    <a:pt x="2" y="144"/>
                  </a:lnTo>
                  <a:lnTo>
                    <a:pt x="4" y="147"/>
                  </a:lnTo>
                  <a:lnTo>
                    <a:pt x="6" y="148"/>
                  </a:lnTo>
                  <a:lnTo>
                    <a:pt x="10" y="148"/>
                  </a:lnTo>
                  <a:lnTo>
                    <a:pt x="14" y="147"/>
                  </a:lnTo>
                  <a:lnTo>
                    <a:pt x="19" y="14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392800" y="5045040"/>
              <a:ext cx="39600" cy="47880"/>
            </a:xfrm>
            <a:custGeom>
              <a:avLst/>
              <a:gdLst/>
              <a:ahLst/>
              <a:rect l="l" t="t" r="r" b="b"/>
              <a:pathLst>
                <a:path w="125" h="148">
                  <a:moveTo>
                    <a:pt x="19" y="145"/>
                  </a:moveTo>
                  <a:lnTo>
                    <a:pt x="21" y="141"/>
                  </a:lnTo>
                  <a:lnTo>
                    <a:pt x="28" y="130"/>
                  </a:lnTo>
                  <a:lnTo>
                    <a:pt x="39" y="114"/>
                  </a:lnTo>
                  <a:lnTo>
                    <a:pt x="51" y="95"/>
                  </a:lnTo>
                  <a:lnTo>
                    <a:pt x="66" y="74"/>
                  </a:lnTo>
                  <a:lnTo>
                    <a:pt x="83" y="54"/>
                  </a:lnTo>
                  <a:lnTo>
                    <a:pt x="92" y="44"/>
                  </a:lnTo>
                  <a:lnTo>
                    <a:pt x="100" y="34"/>
                  </a:lnTo>
                  <a:lnTo>
                    <a:pt x="109" y="27"/>
                  </a:lnTo>
                  <a:lnTo>
                    <a:pt x="119" y="19"/>
                  </a:lnTo>
                  <a:lnTo>
                    <a:pt x="122" y="16"/>
                  </a:lnTo>
                  <a:lnTo>
                    <a:pt x="124" y="14"/>
                  </a:lnTo>
                  <a:lnTo>
                    <a:pt x="125" y="10"/>
                  </a:lnTo>
                  <a:lnTo>
                    <a:pt x="125" y="8"/>
                  </a:lnTo>
                  <a:lnTo>
                    <a:pt x="125" y="7"/>
                  </a:lnTo>
                  <a:lnTo>
                    <a:pt x="124" y="5"/>
                  </a:lnTo>
                  <a:lnTo>
                    <a:pt x="122" y="4"/>
                  </a:lnTo>
                  <a:lnTo>
                    <a:pt x="121" y="3"/>
                  </a:lnTo>
                  <a:lnTo>
                    <a:pt x="115" y="1"/>
                  </a:lnTo>
                  <a:lnTo>
                    <a:pt x="111" y="0"/>
                  </a:lnTo>
                  <a:lnTo>
                    <a:pt x="107" y="0"/>
                  </a:lnTo>
                  <a:lnTo>
                    <a:pt x="106" y="0"/>
                  </a:lnTo>
                  <a:lnTo>
                    <a:pt x="105" y="1"/>
                  </a:lnTo>
                  <a:lnTo>
                    <a:pt x="99" y="5"/>
                  </a:lnTo>
                  <a:lnTo>
                    <a:pt x="93" y="12"/>
                  </a:lnTo>
                  <a:lnTo>
                    <a:pt x="83" y="21"/>
                  </a:lnTo>
                  <a:lnTo>
                    <a:pt x="71" y="34"/>
                  </a:lnTo>
                  <a:lnTo>
                    <a:pt x="57" y="49"/>
                  </a:lnTo>
                  <a:lnTo>
                    <a:pt x="41" y="68"/>
                  </a:lnTo>
                  <a:lnTo>
                    <a:pt x="25" y="88"/>
                  </a:lnTo>
                  <a:lnTo>
                    <a:pt x="15" y="101"/>
                  </a:lnTo>
                  <a:lnTo>
                    <a:pt x="7" y="114"/>
                  </a:lnTo>
                  <a:lnTo>
                    <a:pt x="3" y="125"/>
                  </a:lnTo>
                  <a:lnTo>
                    <a:pt x="1" y="135"/>
                  </a:lnTo>
                  <a:lnTo>
                    <a:pt x="0" y="138"/>
                  </a:lnTo>
                  <a:lnTo>
                    <a:pt x="1" y="142"/>
                  </a:lnTo>
                  <a:lnTo>
                    <a:pt x="2" y="144"/>
                  </a:lnTo>
                  <a:lnTo>
                    <a:pt x="4" y="147"/>
                  </a:lnTo>
                  <a:lnTo>
                    <a:pt x="6" y="148"/>
                  </a:lnTo>
                  <a:lnTo>
                    <a:pt x="10" y="148"/>
                  </a:lnTo>
                  <a:lnTo>
                    <a:pt x="14" y="147"/>
                  </a:lnTo>
                  <a:lnTo>
                    <a:pt x="19" y="145"/>
                  </a:lnTo>
                </a:path>
              </a:pathLst>
            </a:custGeom>
            <a:noFill/>
            <a:ln w="1440">
              <a:solidFill>
                <a:srgbClr val="37333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371920" y="5031000"/>
              <a:ext cx="46080" cy="41040"/>
            </a:xfrm>
            <a:custGeom>
              <a:avLst/>
              <a:gdLst/>
              <a:ahLst/>
              <a:rect l="l" t="t" r="r" b="b"/>
              <a:pathLst>
                <a:path w="147" h="129">
                  <a:moveTo>
                    <a:pt x="26" y="122"/>
                  </a:moveTo>
                  <a:lnTo>
                    <a:pt x="29" y="119"/>
                  </a:lnTo>
                  <a:lnTo>
                    <a:pt x="39" y="109"/>
                  </a:lnTo>
                  <a:lnTo>
                    <a:pt x="52" y="96"/>
                  </a:lnTo>
                  <a:lnTo>
                    <a:pt x="69" y="80"/>
                  </a:lnTo>
                  <a:lnTo>
                    <a:pt x="86" y="63"/>
                  </a:lnTo>
                  <a:lnTo>
                    <a:pt x="103" y="47"/>
                  </a:lnTo>
                  <a:lnTo>
                    <a:pt x="120" y="33"/>
                  </a:lnTo>
                  <a:lnTo>
                    <a:pt x="132" y="23"/>
                  </a:lnTo>
                  <a:lnTo>
                    <a:pt x="140" y="16"/>
                  </a:lnTo>
                  <a:lnTo>
                    <a:pt x="145" y="11"/>
                  </a:lnTo>
                  <a:lnTo>
                    <a:pt x="146" y="8"/>
                  </a:lnTo>
                  <a:lnTo>
                    <a:pt x="147" y="7"/>
                  </a:lnTo>
                  <a:lnTo>
                    <a:pt x="147" y="5"/>
                  </a:lnTo>
                  <a:lnTo>
                    <a:pt x="146" y="4"/>
                  </a:lnTo>
                  <a:lnTo>
                    <a:pt x="142" y="1"/>
                  </a:lnTo>
                  <a:lnTo>
                    <a:pt x="138" y="0"/>
                  </a:lnTo>
                  <a:lnTo>
                    <a:pt x="132" y="1"/>
                  </a:lnTo>
                  <a:lnTo>
                    <a:pt x="124" y="4"/>
                  </a:lnTo>
                  <a:lnTo>
                    <a:pt x="114" y="8"/>
                  </a:lnTo>
                  <a:lnTo>
                    <a:pt x="99" y="19"/>
                  </a:lnTo>
                  <a:lnTo>
                    <a:pt x="81" y="33"/>
                  </a:lnTo>
                  <a:lnTo>
                    <a:pt x="62" y="49"/>
                  </a:lnTo>
                  <a:lnTo>
                    <a:pt x="43" y="65"/>
                  </a:lnTo>
                  <a:lnTo>
                    <a:pt x="26" y="81"/>
                  </a:lnTo>
                  <a:lnTo>
                    <a:pt x="12" y="95"/>
                  </a:lnTo>
                  <a:lnTo>
                    <a:pt x="3" y="105"/>
                  </a:lnTo>
                  <a:lnTo>
                    <a:pt x="1" y="109"/>
                  </a:lnTo>
                  <a:lnTo>
                    <a:pt x="0" y="113"/>
                  </a:lnTo>
                  <a:lnTo>
                    <a:pt x="0" y="117"/>
                  </a:lnTo>
                  <a:lnTo>
                    <a:pt x="0" y="119"/>
                  </a:lnTo>
                  <a:lnTo>
                    <a:pt x="1" y="122"/>
                  </a:lnTo>
                  <a:lnTo>
                    <a:pt x="2" y="124"/>
                  </a:lnTo>
                  <a:lnTo>
                    <a:pt x="4" y="126"/>
                  </a:lnTo>
                  <a:lnTo>
                    <a:pt x="7" y="128"/>
                  </a:lnTo>
                  <a:lnTo>
                    <a:pt x="13" y="129"/>
                  </a:lnTo>
                  <a:lnTo>
                    <a:pt x="18" y="128"/>
                  </a:lnTo>
                  <a:lnTo>
                    <a:pt x="20" y="127"/>
                  </a:lnTo>
                  <a:lnTo>
                    <a:pt x="22" y="126"/>
                  </a:lnTo>
                  <a:lnTo>
                    <a:pt x="25" y="124"/>
                  </a:lnTo>
                  <a:lnTo>
                    <a:pt x="26" y="12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371920" y="5031000"/>
              <a:ext cx="46080" cy="41040"/>
            </a:xfrm>
            <a:custGeom>
              <a:avLst/>
              <a:gdLst/>
              <a:ahLst/>
              <a:rect l="l" t="t" r="r" b="b"/>
              <a:pathLst>
                <a:path w="147" h="129">
                  <a:moveTo>
                    <a:pt x="26" y="122"/>
                  </a:moveTo>
                  <a:lnTo>
                    <a:pt x="29" y="119"/>
                  </a:lnTo>
                  <a:lnTo>
                    <a:pt x="39" y="109"/>
                  </a:lnTo>
                  <a:lnTo>
                    <a:pt x="52" y="96"/>
                  </a:lnTo>
                  <a:lnTo>
                    <a:pt x="69" y="80"/>
                  </a:lnTo>
                  <a:lnTo>
                    <a:pt x="86" y="63"/>
                  </a:lnTo>
                  <a:lnTo>
                    <a:pt x="103" y="47"/>
                  </a:lnTo>
                  <a:lnTo>
                    <a:pt x="120" y="33"/>
                  </a:lnTo>
                  <a:lnTo>
                    <a:pt x="132" y="23"/>
                  </a:lnTo>
                  <a:lnTo>
                    <a:pt x="140" y="16"/>
                  </a:lnTo>
                  <a:lnTo>
                    <a:pt x="145" y="11"/>
                  </a:lnTo>
                  <a:lnTo>
                    <a:pt x="146" y="8"/>
                  </a:lnTo>
                  <a:lnTo>
                    <a:pt x="147" y="7"/>
                  </a:lnTo>
                  <a:lnTo>
                    <a:pt x="147" y="5"/>
                  </a:lnTo>
                  <a:lnTo>
                    <a:pt x="146" y="4"/>
                  </a:lnTo>
                  <a:lnTo>
                    <a:pt x="142" y="1"/>
                  </a:lnTo>
                  <a:lnTo>
                    <a:pt x="138" y="0"/>
                  </a:lnTo>
                  <a:lnTo>
                    <a:pt x="132" y="1"/>
                  </a:lnTo>
                  <a:lnTo>
                    <a:pt x="124" y="4"/>
                  </a:lnTo>
                  <a:lnTo>
                    <a:pt x="114" y="8"/>
                  </a:lnTo>
                  <a:lnTo>
                    <a:pt x="99" y="19"/>
                  </a:lnTo>
                  <a:lnTo>
                    <a:pt x="81" y="33"/>
                  </a:lnTo>
                  <a:lnTo>
                    <a:pt x="62" y="49"/>
                  </a:lnTo>
                  <a:lnTo>
                    <a:pt x="43" y="65"/>
                  </a:lnTo>
                  <a:lnTo>
                    <a:pt x="26" y="81"/>
                  </a:lnTo>
                  <a:lnTo>
                    <a:pt x="12" y="95"/>
                  </a:lnTo>
                  <a:lnTo>
                    <a:pt x="3" y="105"/>
                  </a:lnTo>
                  <a:lnTo>
                    <a:pt x="1" y="109"/>
                  </a:lnTo>
                  <a:lnTo>
                    <a:pt x="0" y="113"/>
                  </a:lnTo>
                  <a:lnTo>
                    <a:pt x="0" y="117"/>
                  </a:lnTo>
                  <a:lnTo>
                    <a:pt x="0" y="119"/>
                  </a:lnTo>
                  <a:lnTo>
                    <a:pt x="1" y="122"/>
                  </a:lnTo>
                  <a:lnTo>
                    <a:pt x="2" y="124"/>
                  </a:lnTo>
                  <a:lnTo>
                    <a:pt x="4" y="126"/>
                  </a:lnTo>
                  <a:lnTo>
                    <a:pt x="7" y="128"/>
                  </a:lnTo>
                  <a:lnTo>
                    <a:pt x="13" y="129"/>
                  </a:lnTo>
                  <a:lnTo>
                    <a:pt x="18" y="128"/>
                  </a:lnTo>
                  <a:lnTo>
                    <a:pt x="20" y="127"/>
                  </a:lnTo>
                  <a:lnTo>
                    <a:pt x="22" y="126"/>
                  </a:lnTo>
                  <a:lnTo>
                    <a:pt x="25" y="124"/>
                  </a:lnTo>
                  <a:lnTo>
                    <a:pt x="26" y="122"/>
                  </a:lnTo>
                </a:path>
              </a:pathLst>
            </a:custGeom>
            <a:noFill/>
            <a:ln w="1440">
              <a:solidFill>
                <a:srgbClr val="37333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353200" y="5035680"/>
              <a:ext cx="79200" cy="12600"/>
            </a:xfrm>
            <a:custGeom>
              <a:avLst/>
              <a:gdLst/>
              <a:ahLst/>
              <a:rect l="l" t="t" r="r" b="b"/>
              <a:pathLst>
                <a:path w="248" h="40">
                  <a:moveTo>
                    <a:pt x="247" y="40"/>
                  </a:moveTo>
                  <a:lnTo>
                    <a:pt x="240" y="38"/>
                  </a:lnTo>
                  <a:lnTo>
                    <a:pt x="222" y="34"/>
                  </a:lnTo>
                  <a:lnTo>
                    <a:pt x="194" y="28"/>
                  </a:lnTo>
                  <a:lnTo>
                    <a:pt x="161" y="23"/>
                  </a:lnTo>
                  <a:lnTo>
                    <a:pt x="142" y="21"/>
                  </a:lnTo>
                  <a:lnTo>
                    <a:pt x="123" y="20"/>
                  </a:lnTo>
                  <a:lnTo>
                    <a:pt x="104" y="19"/>
                  </a:lnTo>
                  <a:lnTo>
                    <a:pt x="85" y="18"/>
                  </a:lnTo>
                  <a:lnTo>
                    <a:pt x="68" y="19"/>
                  </a:lnTo>
                  <a:lnTo>
                    <a:pt x="50" y="20"/>
                  </a:lnTo>
                  <a:lnTo>
                    <a:pt x="34" y="23"/>
                  </a:lnTo>
                  <a:lnTo>
                    <a:pt x="20" y="27"/>
                  </a:lnTo>
                  <a:lnTo>
                    <a:pt x="15" y="29"/>
                  </a:lnTo>
                  <a:lnTo>
                    <a:pt x="10" y="29"/>
                  </a:lnTo>
                  <a:lnTo>
                    <a:pt x="7" y="29"/>
                  </a:lnTo>
                  <a:lnTo>
                    <a:pt x="4" y="28"/>
                  </a:lnTo>
                  <a:lnTo>
                    <a:pt x="2" y="27"/>
                  </a:lnTo>
                  <a:lnTo>
                    <a:pt x="1" y="25"/>
                  </a:lnTo>
                  <a:lnTo>
                    <a:pt x="0" y="23"/>
                  </a:lnTo>
                  <a:lnTo>
                    <a:pt x="0" y="20"/>
                  </a:lnTo>
                  <a:lnTo>
                    <a:pt x="2" y="14"/>
                  </a:lnTo>
                  <a:lnTo>
                    <a:pt x="5" y="9"/>
                  </a:lnTo>
                  <a:lnTo>
                    <a:pt x="7" y="8"/>
                  </a:lnTo>
                  <a:lnTo>
                    <a:pt x="10" y="6"/>
                  </a:lnTo>
                  <a:lnTo>
                    <a:pt x="14" y="6"/>
                  </a:lnTo>
                  <a:lnTo>
                    <a:pt x="17" y="6"/>
                  </a:lnTo>
                  <a:lnTo>
                    <a:pt x="29" y="5"/>
                  </a:lnTo>
                  <a:lnTo>
                    <a:pt x="47" y="3"/>
                  </a:lnTo>
                  <a:lnTo>
                    <a:pt x="72" y="1"/>
                  </a:lnTo>
                  <a:lnTo>
                    <a:pt x="100" y="0"/>
                  </a:lnTo>
                  <a:lnTo>
                    <a:pt x="130" y="0"/>
                  </a:lnTo>
                  <a:lnTo>
                    <a:pt x="159" y="1"/>
                  </a:lnTo>
                  <a:lnTo>
                    <a:pt x="173" y="2"/>
                  </a:lnTo>
                  <a:lnTo>
                    <a:pt x="185" y="5"/>
                  </a:lnTo>
                  <a:lnTo>
                    <a:pt x="197" y="7"/>
                  </a:lnTo>
                  <a:lnTo>
                    <a:pt x="208" y="10"/>
                  </a:lnTo>
                  <a:lnTo>
                    <a:pt x="223" y="18"/>
                  </a:lnTo>
                  <a:lnTo>
                    <a:pt x="234" y="23"/>
                  </a:lnTo>
                  <a:lnTo>
                    <a:pt x="240" y="28"/>
                  </a:lnTo>
                  <a:lnTo>
                    <a:pt x="245" y="33"/>
                  </a:lnTo>
                  <a:lnTo>
                    <a:pt x="247" y="36"/>
                  </a:lnTo>
                  <a:lnTo>
                    <a:pt x="248" y="38"/>
                  </a:lnTo>
                  <a:lnTo>
                    <a:pt x="247" y="39"/>
                  </a:lnTo>
                  <a:lnTo>
                    <a:pt x="247" y="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353200" y="5035680"/>
              <a:ext cx="79200" cy="12600"/>
            </a:xfrm>
            <a:custGeom>
              <a:avLst/>
              <a:gdLst/>
              <a:ahLst/>
              <a:rect l="l" t="t" r="r" b="b"/>
              <a:pathLst>
                <a:path w="248" h="40">
                  <a:moveTo>
                    <a:pt x="247" y="40"/>
                  </a:moveTo>
                  <a:lnTo>
                    <a:pt x="240" y="38"/>
                  </a:lnTo>
                  <a:lnTo>
                    <a:pt x="222" y="34"/>
                  </a:lnTo>
                  <a:lnTo>
                    <a:pt x="194" y="28"/>
                  </a:lnTo>
                  <a:lnTo>
                    <a:pt x="161" y="23"/>
                  </a:lnTo>
                  <a:lnTo>
                    <a:pt x="142" y="21"/>
                  </a:lnTo>
                  <a:lnTo>
                    <a:pt x="123" y="20"/>
                  </a:lnTo>
                  <a:lnTo>
                    <a:pt x="104" y="19"/>
                  </a:lnTo>
                  <a:lnTo>
                    <a:pt x="85" y="18"/>
                  </a:lnTo>
                  <a:lnTo>
                    <a:pt x="68" y="19"/>
                  </a:lnTo>
                  <a:lnTo>
                    <a:pt x="50" y="20"/>
                  </a:lnTo>
                  <a:lnTo>
                    <a:pt x="34" y="23"/>
                  </a:lnTo>
                  <a:lnTo>
                    <a:pt x="20" y="27"/>
                  </a:lnTo>
                  <a:lnTo>
                    <a:pt x="15" y="29"/>
                  </a:lnTo>
                  <a:lnTo>
                    <a:pt x="10" y="29"/>
                  </a:lnTo>
                  <a:lnTo>
                    <a:pt x="7" y="29"/>
                  </a:lnTo>
                  <a:lnTo>
                    <a:pt x="4" y="28"/>
                  </a:lnTo>
                  <a:lnTo>
                    <a:pt x="2" y="27"/>
                  </a:lnTo>
                  <a:lnTo>
                    <a:pt x="1" y="25"/>
                  </a:lnTo>
                  <a:lnTo>
                    <a:pt x="0" y="23"/>
                  </a:lnTo>
                  <a:lnTo>
                    <a:pt x="0" y="20"/>
                  </a:lnTo>
                  <a:lnTo>
                    <a:pt x="2" y="14"/>
                  </a:lnTo>
                  <a:lnTo>
                    <a:pt x="5" y="9"/>
                  </a:lnTo>
                  <a:lnTo>
                    <a:pt x="7" y="8"/>
                  </a:lnTo>
                  <a:lnTo>
                    <a:pt x="10" y="6"/>
                  </a:lnTo>
                  <a:lnTo>
                    <a:pt x="14" y="6"/>
                  </a:lnTo>
                  <a:lnTo>
                    <a:pt x="17" y="6"/>
                  </a:lnTo>
                  <a:lnTo>
                    <a:pt x="29" y="5"/>
                  </a:lnTo>
                  <a:lnTo>
                    <a:pt x="47" y="3"/>
                  </a:lnTo>
                  <a:lnTo>
                    <a:pt x="72" y="1"/>
                  </a:lnTo>
                  <a:lnTo>
                    <a:pt x="100" y="0"/>
                  </a:lnTo>
                  <a:lnTo>
                    <a:pt x="130" y="0"/>
                  </a:lnTo>
                  <a:lnTo>
                    <a:pt x="159" y="1"/>
                  </a:lnTo>
                  <a:lnTo>
                    <a:pt x="173" y="2"/>
                  </a:lnTo>
                  <a:lnTo>
                    <a:pt x="185" y="5"/>
                  </a:lnTo>
                  <a:lnTo>
                    <a:pt x="197" y="7"/>
                  </a:lnTo>
                  <a:lnTo>
                    <a:pt x="208" y="10"/>
                  </a:lnTo>
                  <a:lnTo>
                    <a:pt x="223" y="18"/>
                  </a:lnTo>
                  <a:lnTo>
                    <a:pt x="234" y="23"/>
                  </a:lnTo>
                  <a:lnTo>
                    <a:pt x="240" y="28"/>
                  </a:lnTo>
                  <a:lnTo>
                    <a:pt x="245" y="33"/>
                  </a:lnTo>
                  <a:lnTo>
                    <a:pt x="247" y="36"/>
                  </a:lnTo>
                  <a:lnTo>
                    <a:pt x="248" y="38"/>
                  </a:lnTo>
                  <a:lnTo>
                    <a:pt x="247" y="39"/>
                  </a:lnTo>
                  <a:lnTo>
                    <a:pt x="247" y="40"/>
                  </a:lnTo>
                </a:path>
              </a:pathLst>
            </a:custGeom>
            <a:noFill/>
            <a:ln w="1440">
              <a:solidFill>
                <a:srgbClr val="37333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418000" y="5116680"/>
              <a:ext cx="104760" cy="38160"/>
            </a:xfrm>
            <a:custGeom>
              <a:avLst/>
              <a:gdLst/>
              <a:ahLst/>
              <a:rect l="l" t="t" r="r" b="b"/>
              <a:pathLst>
                <a:path w="332" h="121">
                  <a:moveTo>
                    <a:pt x="328" y="75"/>
                  </a:moveTo>
                  <a:lnTo>
                    <a:pt x="327" y="70"/>
                  </a:lnTo>
                  <a:lnTo>
                    <a:pt x="324" y="66"/>
                  </a:lnTo>
                  <a:lnTo>
                    <a:pt x="319" y="61"/>
                  </a:lnTo>
                  <a:lnTo>
                    <a:pt x="314" y="55"/>
                  </a:lnTo>
                  <a:lnTo>
                    <a:pt x="301" y="43"/>
                  </a:lnTo>
                  <a:lnTo>
                    <a:pt x="284" y="31"/>
                  </a:lnTo>
                  <a:lnTo>
                    <a:pt x="275" y="25"/>
                  </a:lnTo>
                  <a:lnTo>
                    <a:pt x="265" y="20"/>
                  </a:lnTo>
                  <a:lnTo>
                    <a:pt x="254" y="14"/>
                  </a:lnTo>
                  <a:lnTo>
                    <a:pt x="244" y="10"/>
                  </a:lnTo>
                  <a:lnTo>
                    <a:pt x="233" y="7"/>
                  </a:lnTo>
                  <a:lnTo>
                    <a:pt x="222" y="4"/>
                  </a:lnTo>
                  <a:lnTo>
                    <a:pt x="210" y="1"/>
                  </a:lnTo>
                  <a:lnTo>
                    <a:pt x="199" y="0"/>
                  </a:lnTo>
                  <a:lnTo>
                    <a:pt x="177" y="0"/>
                  </a:lnTo>
                  <a:lnTo>
                    <a:pt x="151" y="0"/>
                  </a:lnTo>
                  <a:lnTo>
                    <a:pt x="124" y="2"/>
                  </a:lnTo>
                  <a:lnTo>
                    <a:pt x="97" y="7"/>
                  </a:lnTo>
                  <a:lnTo>
                    <a:pt x="84" y="9"/>
                  </a:lnTo>
                  <a:lnTo>
                    <a:pt x="71" y="12"/>
                  </a:lnTo>
                  <a:lnTo>
                    <a:pt x="59" y="15"/>
                  </a:lnTo>
                  <a:lnTo>
                    <a:pt x="48" y="20"/>
                  </a:lnTo>
                  <a:lnTo>
                    <a:pt x="38" y="24"/>
                  </a:lnTo>
                  <a:lnTo>
                    <a:pt x="30" y="29"/>
                  </a:lnTo>
                  <a:lnTo>
                    <a:pt x="22" y="36"/>
                  </a:lnTo>
                  <a:lnTo>
                    <a:pt x="17" y="42"/>
                  </a:lnTo>
                  <a:lnTo>
                    <a:pt x="7" y="54"/>
                  </a:lnTo>
                  <a:lnTo>
                    <a:pt x="1" y="66"/>
                  </a:lnTo>
                  <a:lnTo>
                    <a:pt x="0" y="72"/>
                  </a:lnTo>
                  <a:lnTo>
                    <a:pt x="0" y="76"/>
                  </a:lnTo>
                  <a:lnTo>
                    <a:pt x="2" y="80"/>
                  </a:lnTo>
                  <a:lnTo>
                    <a:pt x="5" y="85"/>
                  </a:lnTo>
                  <a:lnTo>
                    <a:pt x="11" y="89"/>
                  </a:lnTo>
                  <a:lnTo>
                    <a:pt x="19" y="93"/>
                  </a:lnTo>
                  <a:lnTo>
                    <a:pt x="30" y="96"/>
                  </a:lnTo>
                  <a:lnTo>
                    <a:pt x="44" y="100"/>
                  </a:lnTo>
                  <a:lnTo>
                    <a:pt x="61" y="102"/>
                  </a:lnTo>
                  <a:lnTo>
                    <a:pt x="82" y="105"/>
                  </a:lnTo>
                  <a:lnTo>
                    <a:pt x="105" y="107"/>
                  </a:lnTo>
                  <a:lnTo>
                    <a:pt x="132" y="109"/>
                  </a:lnTo>
                  <a:lnTo>
                    <a:pt x="187" y="114"/>
                  </a:lnTo>
                  <a:lnTo>
                    <a:pt x="234" y="118"/>
                  </a:lnTo>
                  <a:lnTo>
                    <a:pt x="253" y="119"/>
                  </a:lnTo>
                  <a:lnTo>
                    <a:pt x="271" y="120"/>
                  </a:lnTo>
                  <a:lnTo>
                    <a:pt x="285" y="121"/>
                  </a:lnTo>
                  <a:lnTo>
                    <a:pt x="298" y="120"/>
                  </a:lnTo>
                  <a:lnTo>
                    <a:pt x="308" y="119"/>
                  </a:lnTo>
                  <a:lnTo>
                    <a:pt x="317" y="117"/>
                  </a:lnTo>
                  <a:lnTo>
                    <a:pt x="320" y="116"/>
                  </a:lnTo>
                  <a:lnTo>
                    <a:pt x="324" y="114"/>
                  </a:lnTo>
                  <a:lnTo>
                    <a:pt x="327" y="112"/>
                  </a:lnTo>
                  <a:lnTo>
                    <a:pt x="328" y="108"/>
                  </a:lnTo>
                  <a:lnTo>
                    <a:pt x="330" y="106"/>
                  </a:lnTo>
                  <a:lnTo>
                    <a:pt x="331" y="103"/>
                  </a:lnTo>
                  <a:lnTo>
                    <a:pt x="331" y="99"/>
                  </a:lnTo>
                  <a:lnTo>
                    <a:pt x="332" y="95"/>
                  </a:lnTo>
                  <a:lnTo>
                    <a:pt x="331" y="86"/>
                  </a:lnTo>
                  <a:lnTo>
                    <a:pt x="328" y="75"/>
                  </a:lnTo>
                  <a:close/>
                </a:path>
              </a:pathLst>
            </a:custGeom>
            <a:solidFill>
              <a:srgbClr val="b5b5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425920" y="5119920"/>
              <a:ext cx="87480" cy="29880"/>
            </a:xfrm>
            <a:custGeom>
              <a:avLst/>
              <a:gdLst/>
              <a:ahLst/>
              <a:rect l="l" t="t" r="r" b="b"/>
              <a:pathLst>
                <a:path w="276" h="99">
                  <a:moveTo>
                    <a:pt x="273" y="60"/>
                  </a:moveTo>
                  <a:lnTo>
                    <a:pt x="275" y="69"/>
                  </a:lnTo>
                  <a:lnTo>
                    <a:pt x="276" y="76"/>
                  </a:lnTo>
                  <a:lnTo>
                    <a:pt x="275" y="83"/>
                  </a:lnTo>
                  <a:lnTo>
                    <a:pt x="273" y="88"/>
                  </a:lnTo>
                  <a:lnTo>
                    <a:pt x="269" y="92"/>
                  </a:lnTo>
                  <a:lnTo>
                    <a:pt x="263" y="95"/>
                  </a:lnTo>
                  <a:lnTo>
                    <a:pt x="256" y="97"/>
                  </a:lnTo>
                  <a:lnTo>
                    <a:pt x="247" y="98"/>
                  </a:lnTo>
                  <a:lnTo>
                    <a:pt x="223" y="99"/>
                  </a:lnTo>
                  <a:lnTo>
                    <a:pt x="193" y="98"/>
                  </a:lnTo>
                  <a:lnTo>
                    <a:pt x="155" y="95"/>
                  </a:lnTo>
                  <a:lnTo>
                    <a:pt x="110" y="93"/>
                  </a:lnTo>
                  <a:lnTo>
                    <a:pt x="87" y="90"/>
                  </a:lnTo>
                  <a:lnTo>
                    <a:pt x="67" y="88"/>
                  </a:lnTo>
                  <a:lnTo>
                    <a:pt x="50" y="86"/>
                  </a:lnTo>
                  <a:lnTo>
                    <a:pt x="36" y="83"/>
                  </a:lnTo>
                  <a:lnTo>
                    <a:pt x="24" y="81"/>
                  </a:lnTo>
                  <a:lnTo>
                    <a:pt x="16" y="78"/>
                  </a:lnTo>
                  <a:lnTo>
                    <a:pt x="8" y="74"/>
                  </a:lnTo>
                  <a:lnTo>
                    <a:pt x="4" y="71"/>
                  </a:lnTo>
                  <a:lnTo>
                    <a:pt x="1" y="68"/>
                  </a:lnTo>
                  <a:lnTo>
                    <a:pt x="0" y="63"/>
                  </a:lnTo>
                  <a:lnTo>
                    <a:pt x="0" y="59"/>
                  </a:lnTo>
                  <a:lnTo>
                    <a:pt x="1" y="55"/>
                  </a:lnTo>
                  <a:lnTo>
                    <a:pt x="6" y="46"/>
                  </a:lnTo>
                  <a:lnTo>
                    <a:pt x="14" y="35"/>
                  </a:lnTo>
                  <a:lnTo>
                    <a:pt x="18" y="30"/>
                  </a:lnTo>
                  <a:lnTo>
                    <a:pt x="23" y="26"/>
                  </a:lnTo>
                  <a:lnTo>
                    <a:pt x="31" y="21"/>
                  </a:lnTo>
                  <a:lnTo>
                    <a:pt x="38" y="17"/>
                  </a:lnTo>
                  <a:lnTo>
                    <a:pt x="47" y="14"/>
                  </a:lnTo>
                  <a:lnTo>
                    <a:pt x="57" y="11"/>
                  </a:lnTo>
                  <a:lnTo>
                    <a:pt x="67" y="8"/>
                  </a:lnTo>
                  <a:lnTo>
                    <a:pt x="77" y="6"/>
                  </a:lnTo>
                  <a:lnTo>
                    <a:pt x="99" y="3"/>
                  </a:lnTo>
                  <a:lnTo>
                    <a:pt x="121" y="1"/>
                  </a:lnTo>
                  <a:lnTo>
                    <a:pt x="142" y="0"/>
                  </a:lnTo>
                  <a:lnTo>
                    <a:pt x="162" y="1"/>
                  </a:lnTo>
                  <a:lnTo>
                    <a:pt x="170" y="2"/>
                  </a:lnTo>
                  <a:lnTo>
                    <a:pt x="180" y="3"/>
                  </a:lnTo>
                  <a:lnTo>
                    <a:pt x="189" y="6"/>
                  </a:lnTo>
                  <a:lnTo>
                    <a:pt x="197" y="9"/>
                  </a:lnTo>
                  <a:lnTo>
                    <a:pt x="216" y="17"/>
                  </a:lnTo>
                  <a:lnTo>
                    <a:pt x="232" y="26"/>
                  </a:lnTo>
                  <a:lnTo>
                    <a:pt x="247" y="35"/>
                  </a:lnTo>
                  <a:lnTo>
                    <a:pt x="259" y="45"/>
                  </a:lnTo>
                  <a:lnTo>
                    <a:pt x="267" y="54"/>
                  </a:lnTo>
                  <a:lnTo>
                    <a:pt x="273" y="60"/>
                  </a:lnTo>
                  <a:close/>
                </a:path>
              </a:pathLst>
            </a:custGeom>
            <a:solidFill>
              <a:srgbClr val="bfbf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433840" y="5121360"/>
              <a:ext cx="71640" cy="25560"/>
            </a:xfrm>
            <a:custGeom>
              <a:avLst/>
              <a:gdLst/>
              <a:ahLst/>
              <a:rect l="l" t="t" r="r" b="b"/>
              <a:pathLst>
                <a:path w="222" h="78">
                  <a:moveTo>
                    <a:pt x="217" y="48"/>
                  </a:moveTo>
                  <a:lnTo>
                    <a:pt x="220" y="54"/>
                  </a:lnTo>
                  <a:lnTo>
                    <a:pt x="222" y="60"/>
                  </a:lnTo>
                  <a:lnTo>
                    <a:pt x="221" y="65"/>
                  </a:lnTo>
                  <a:lnTo>
                    <a:pt x="220" y="68"/>
                  </a:lnTo>
                  <a:lnTo>
                    <a:pt x="217" y="72"/>
                  </a:lnTo>
                  <a:lnTo>
                    <a:pt x="212" y="74"/>
                  </a:lnTo>
                  <a:lnTo>
                    <a:pt x="207" y="76"/>
                  </a:lnTo>
                  <a:lnTo>
                    <a:pt x="199" y="77"/>
                  </a:lnTo>
                  <a:lnTo>
                    <a:pt x="180" y="78"/>
                  </a:lnTo>
                  <a:lnTo>
                    <a:pt x="155" y="77"/>
                  </a:lnTo>
                  <a:lnTo>
                    <a:pt x="125" y="76"/>
                  </a:lnTo>
                  <a:lnTo>
                    <a:pt x="88" y="73"/>
                  </a:lnTo>
                  <a:lnTo>
                    <a:pt x="55" y="69"/>
                  </a:lnTo>
                  <a:lnTo>
                    <a:pt x="30" y="66"/>
                  </a:lnTo>
                  <a:lnTo>
                    <a:pt x="21" y="64"/>
                  </a:lnTo>
                  <a:lnTo>
                    <a:pt x="14" y="62"/>
                  </a:lnTo>
                  <a:lnTo>
                    <a:pt x="8" y="59"/>
                  </a:lnTo>
                  <a:lnTo>
                    <a:pt x="4" y="56"/>
                  </a:lnTo>
                  <a:lnTo>
                    <a:pt x="2" y="53"/>
                  </a:lnTo>
                  <a:lnTo>
                    <a:pt x="1" y="50"/>
                  </a:lnTo>
                  <a:lnTo>
                    <a:pt x="0" y="47"/>
                  </a:lnTo>
                  <a:lnTo>
                    <a:pt x="1" y="44"/>
                  </a:lnTo>
                  <a:lnTo>
                    <a:pt x="5" y="36"/>
                  </a:lnTo>
                  <a:lnTo>
                    <a:pt x="11" y="28"/>
                  </a:lnTo>
                  <a:lnTo>
                    <a:pt x="16" y="24"/>
                  </a:lnTo>
                  <a:lnTo>
                    <a:pt x="20" y="20"/>
                  </a:lnTo>
                  <a:lnTo>
                    <a:pt x="25" y="17"/>
                  </a:lnTo>
                  <a:lnTo>
                    <a:pt x="31" y="13"/>
                  </a:lnTo>
                  <a:lnTo>
                    <a:pt x="45" y="8"/>
                  </a:lnTo>
                  <a:lnTo>
                    <a:pt x="60" y="5"/>
                  </a:lnTo>
                  <a:lnTo>
                    <a:pt x="76" y="2"/>
                  </a:lnTo>
                  <a:lnTo>
                    <a:pt x="92" y="1"/>
                  </a:lnTo>
                  <a:lnTo>
                    <a:pt x="109" y="0"/>
                  </a:lnTo>
                  <a:lnTo>
                    <a:pt x="123" y="1"/>
                  </a:lnTo>
                  <a:lnTo>
                    <a:pt x="130" y="1"/>
                  </a:lnTo>
                  <a:lnTo>
                    <a:pt x="138" y="2"/>
                  </a:lnTo>
                  <a:lnTo>
                    <a:pt x="145" y="5"/>
                  </a:lnTo>
                  <a:lnTo>
                    <a:pt x="154" y="7"/>
                  </a:lnTo>
                  <a:lnTo>
                    <a:pt x="168" y="13"/>
                  </a:lnTo>
                  <a:lnTo>
                    <a:pt x="182" y="21"/>
                  </a:lnTo>
                  <a:lnTo>
                    <a:pt x="195" y="28"/>
                  </a:lnTo>
                  <a:lnTo>
                    <a:pt x="205" y="37"/>
                  </a:lnTo>
                  <a:lnTo>
                    <a:pt x="212" y="44"/>
                  </a:lnTo>
                  <a:lnTo>
                    <a:pt x="217" y="48"/>
                  </a:lnTo>
                  <a:close/>
                </a:path>
              </a:pathLst>
            </a:custGeom>
            <a:solidFill>
              <a:srgbClr val="cc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443560" y="5122800"/>
              <a:ext cx="52200" cy="19080"/>
            </a:xfrm>
            <a:custGeom>
              <a:avLst/>
              <a:gdLst/>
              <a:ahLst/>
              <a:rect l="l" t="t" r="r" b="b"/>
              <a:pathLst>
                <a:path w="165" h="59">
                  <a:moveTo>
                    <a:pt x="159" y="38"/>
                  </a:moveTo>
                  <a:lnTo>
                    <a:pt x="163" y="42"/>
                  </a:lnTo>
                  <a:lnTo>
                    <a:pt x="164" y="45"/>
                  </a:lnTo>
                  <a:lnTo>
                    <a:pt x="165" y="48"/>
                  </a:lnTo>
                  <a:lnTo>
                    <a:pt x="164" y="52"/>
                  </a:lnTo>
                  <a:lnTo>
                    <a:pt x="162" y="54"/>
                  </a:lnTo>
                  <a:lnTo>
                    <a:pt x="158" y="56"/>
                  </a:lnTo>
                  <a:lnTo>
                    <a:pt x="154" y="57"/>
                  </a:lnTo>
                  <a:lnTo>
                    <a:pt x="149" y="58"/>
                  </a:lnTo>
                  <a:lnTo>
                    <a:pt x="134" y="59"/>
                  </a:lnTo>
                  <a:lnTo>
                    <a:pt x="115" y="58"/>
                  </a:lnTo>
                  <a:lnTo>
                    <a:pt x="93" y="57"/>
                  </a:lnTo>
                  <a:lnTo>
                    <a:pt x="66" y="55"/>
                  </a:lnTo>
                  <a:lnTo>
                    <a:pt x="40" y="53"/>
                  </a:lnTo>
                  <a:lnTo>
                    <a:pt x="21" y="49"/>
                  </a:lnTo>
                  <a:lnTo>
                    <a:pt x="15" y="48"/>
                  </a:lnTo>
                  <a:lnTo>
                    <a:pt x="9" y="46"/>
                  </a:lnTo>
                  <a:lnTo>
                    <a:pt x="5" y="45"/>
                  </a:lnTo>
                  <a:lnTo>
                    <a:pt x="2" y="43"/>
                  </a:lnTo>
                  <a:lnTo>
                    <a:pt x="0" y="41"/>
                  </a:lnTo>
                  <a:lnTo>
                    <a:pt x="0" y="39"/>
                  </a:lnTo>
                  <a:lnTo>
                    <a:pt x="0" y="36"/>
                  </a:lnTo>
                  <a:lnTo>
                    <a:pt x="0" y="34"/>
                  </a:lnTo>
                  <a:lnTo>
                    <a:pt x="4" y="29"/>
                  </a:lnTo>
                  <a:lnTo>
                    <a:pt x="8" y="22"/>
                  </a:lnTo>
                  <a:lnTo>
                    <a:pt x="15" y="16"/>
                  </a:lnTo>
                  <a:lnTo>
                    <a:pt x="21" y="12"/>
                  </a:lnTo>
                  <a:lnTo>
                    <a:pt x="30" y="7"/>
                  </a:lnTo>
                  <a:lnTo>
                    <a:pt x="41" y="5"/>
                  </a:lnTo>
                  <a:lnTo>
                    <a:pt x="50" y="3"/>
                  </a:lnTo>
                  <a:lnTo>
                    <a:pt x="61" y="1"/>
                  </a:lnTo>
                  <a:lnTo>
                    <a:pt x="72" y="1"/>
                  </a:lnTo>
                  <a:lnTo>
                    <a:pt x="83" y="0"/>
                  </a:lnTo>
                  <a:lnTo>
                    <a:pt x="95" y="2"/>
                  </a:lnTo>
                  <a:lnTo>
                    <a:pt x="105" y="6"/>
                  </a:lnTo>
                  <a:lnTo>
                    <a:pt x="117" y="11"/>
                  </a:lnTo>
                  <a:lnTo>
                    <a:pt x="128" y="17"/>
                  </a:lnTo>
                  <a:lnTo>
                    <a:pt x="139" y="22"/>
                  </a:lnTo>
                  <a:lnTo>
                    <a:pt x="148" y="29"/>
                  </a:lnTo>
                  <a:lnTo>
                    <a:pt x="154" y="33"/>
                  </a:lnTo>
                  <a:lnTo>
                    <a:pt x="159" y="38"/>
                  </a:lnTo>
                  <a:close/>
                </a:path>
              </a:pathLst>
            </a:custGeom>
            <a:solidFill>
              <a:srgbClr val="d7d7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451480" y="5126040"/>
              <a:ext cx="34920" cy="11160"/>
            </a:xfrm>
            <a:custGeom>
              <a:avLst/>
              <a:gdLst/>
              <a:ahLst/>
              <a:rect l="l" t="t" r="r" b="b"/>
              <a:pathLst>
                <a:path w="110" h="38">
                  <a:moveTo>
                    <a:pt x="102" y="25"/>
                  </a:moveTo>
                  <a:lnTo>
                    <a:pt x="98" y="23"/>
                  </a:lnTo>
                  <a:lnTo>
                    <a:pt x="93" y="20"/>
                  </a:lnTo>
                  <a:lnTo>
                    <a:pt x="85" y="15"/>
                  </a:lnTo>
                  <a:lnTo>
                    <a:pt x="77" y="12"/>
                  </a:lnTo>
                  <a:lnTo>
                    <a:pt x="69" y="8"/>
                  </a:lnTo>
                  <a:lnTo>
                    <a:pt x="61" y="5"/>
                  </a:lnTo>
                  <a:lnTo>
                    <a:pt x="53" y="2"/>
                  </a:lnTo>
                  <a:lnTo>
                    <a:pt x="46" y="0"/>
                  </a:lnTo>
                  <a:lnTo>
                    <a:pt x="39" y="0"/>
                  </a:lnTo>
                  <a:lnTo>
                    <a:pt x="32" y="1"/>
                  </a:lnTo>
                  <a:lnTo>
                    <a:pt x="27" y="2"/>
                  </a:lnTo>
                  <a:lnTo>
                    <a:pt x="21" y="4"/>
                  </a:lnTo>
                  <a:lnTo>
                    <a:pt x="16" y="6"/>
                  </a:lnTo>
                  <a:lnTo>
                    <a:pt x="11" y="8"/>
                  </a:lnTo>
                  <a:lnTo>
                    <a:pt x="7" y="11"/>
                  </a:lnTo>
                  <a:lnTo>
                    <a:pt x="4" y="15"/>
                  </a:lnTo>
                  <a:lnTo>
                    <a:pt x="2" y="20"/>
                  </a:lnTo>
                  <a:lnTo>
                    <a:pt x="0" y="23"/>
                  </a:lnTo>
                  <a:lnTo>
                    <a:pt x="0" y="26"/>
                  </a:lnTo>
                  <a:lnTo>
                    <a:pt x="1" y="29"/>
                  </a:lnTo>
                  <a:lnTo>
                    <a:pt x="5" y="32"/>
                  </a:lnTo>
                  <a:lnTo>
                    <a:pt x="14" y="34"/>
                  </a:lnTo>
                  <a:lnTo>
                    <a:pt x="24" y="36"/>
                  </a:lnTo>
                  <a:lnTo>
                    <a:pt x="41" y="38"/>
                  </a:lnTo>
                  <a:lnTo>
                    <a:pt x="59" y="38"/>
                  </a:lnTo>
                  <a:lnTo>
                    <a:pt x="75" y="38"/>
                  </a:lnTo>
                  <a:lnTo>
                    <a:pt x="89" y="37"/>
                  </a:lnTo>
                  <a:lnTo>
                    <a:pt x="100" y="36"/>
                  </a:lnTo>
                  <a:lnTo>
                    <a:pt x="107" y="34"/>
                  </a:lnTo>
                  <a:lnTo>
                    <a:pt x="110" y="32"/>
                  </a:lnTo>
                  <a:lnTo>
                    <a:pt x="110" y="31"/>
                  </a:lnTo>
                  <a:lnTo>
                    <a:pt x="109" y="28"/>
                  </a:lnTo>
                  <a:lnTo>
                    <a:pt x="107" y="27"/>
                  </a:lnTo>
                  <a:lnTo>
                    <a:pt x="102" y="25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989680" y="4964040"/>
              <a:ext cx="149040" cy="119160"/>
            </a:xfrm>
            <a:custGeom>
              <a:avLst/>
              <a:gdLst/>
              <a:ahLst/>
              <a:rect l="l" t="t" r="r" b="b"/>
              <a:pathLst>
                <a:path w="470" h="376">
                  <a:moveTo>
                    <a:pt x="470" y="336"/>
                  </a:moveTo>
                  <a:lnTo>
                    <a:pt x="215" y="156"/>
                  </a:lnTo>
                  <a:lnTo>
                    <a:pt x="198" y="149"/>
                  </a:lnTo>
                  <a:lnTo>
                    <a:pt x="197" y="146"/>
                  </a:lnTo>
                  <a:lnTo>
                    <a:pt x="195" y="139"/>
                  </a:lnTo>
                  <a:lnTo>
                    <a:pt x="191" y="129"/>
                  </a:lnTo>
                  <a:lnTo>
                    <a:pt x="186" y="117"/>
                  </a:lnTo>
                  <a:lnTo>
                    <a:pt x="183" y="105"/>
                  </a:lnTo>
                  <a:lnTo>
                    <a:pt x="182" y="93"/>
                  </a:lnTo>
                  <a:lnTo>
                    <a:pt x="182" y="88"/>
                  </a:lnTo>
                  <a:lnTo>
                    <a:pt x="182" y="84"/>
                  </a:lnTo>
                  <a:lnTo>
                    <a:pt x="184" y="79"/>
                  </a:lnTo>
                  <a:lnTo>
                    <a:pt x="186" y="77"/>
                  </a:lnTo>
                  <a:lnTo>
                    <a:pt x="188" y="74"/>
                  </a:lnTo>
                  <a:lnTo>
                    <a:pt x="191" y="71"/>
                  </a:lnTo>
                  <a:lnTo>
                    <a:pt x="192" y="66"/>
                  </a:lnTo>
                  <a:lnTo>
                    <a:pt x="192" y="62"/>
                  </a:lnTo>
                  <a:lnTo>
                    <a:pt x="191" y="58"/>
                  </a:lnTo>
                  <a:lnTo>
                    <a:pt x="189" y="52"/>
                  </a:lnTo>
                  <a:lnTo>
                    <a:pt x="187" y="47"/>
                  </a:lnTo>
                  <a:lnTo>
                    <a:pt x="184" y="42"/>
                  </a:lnTo>
                  <a:lnTo>
                    <a:pt x="178" y="31"/>
                  </a:lnTo>
                  <a:lnTo>
                    <a:pt x="169" y="21"/>
                  </a:lnTo>
                  <a:lnTo>
                    <a:pt x="159" y="12"/>
                  </a:lnTo>
                  <a:lnTo>
                    <a:pt x="148" y="5"/>
                  </a:lnTo>
                  <a:lnTo>
                    <a:pt x="143" y="3"/>
                  </a:lnTo>
                  <a:lnTo>
                    <a:pt x="137" y="1"/>
                  </a:lnTo>
                  <a:lnTo>
                    <a:pt x="129" y="1"/>
                  </a:lnTo>
                  <a:lnTo>
                    <a:pt x="121" y="0"/>
                  </a:lnTo>
                  <a:lnTo>
                    <a:pt x="114" y="1"/>
                  </a:lnTo>
                  <a:lnTo>
                    <a:pt x="105" y="2"/>
                  </a:lnTo>
                  <a:lnTo>
                    <a:pt x="97" y="3"/>
                  </a:lnTo>
                  <a:lnTo>
                    <a:pt x="88" y="6"/>
                  </a:lnTo>
                  <a:lnTo>
                    <a:pt x="78" y="9"/>
                  </a:lnTo>
                  <a:lnTo>
                    <a:pt x="70" y="12"/>
                  </a:lnTo>
                  <a:lnTo>
                    <a:pt x="60" y="18"/>
                  </a:lnTo>
                  <a:lnTo>
                    <a:pt x="51" y="23"/>
                  </a:lnTo>
                  <a:lnTo>
                    <a:pt x="41" y="29"/>
                  </a:lnTo>
                  <a:lnTo>
                    <a:pt x="33" y="36"/>
                  </a:lnTo>
                  <a:lnTo>
                    <a:pt x="24" y="44"/>
                  </a:lnTo>
                  <a:lnTo>
                    <a:pt x="16" y="52"/>
                  </a:lnTo>
                  <a:lnTo>
                    <a:pt x="11" y="57"/>
                  </a:lnTo>
                  <a:lnTo>
                    <a:pt x="8" y="61"/>
                  </a:lnTo>
                  <a:lnTo>
                    <a:pt x="6" y="65"/>
                  </a:lnTo>
                  <a:lnTo>
                    <a:pt x="4" y="71"/>
                  </a:lnTo>
                  <a:lnTo>
                    <a:pt x="1" y="81"/>
                  </a:lnTo>
                  <a:lnTo>
                    <a:pt x="0" y="90"/>
                  </a:lnTo>
                  <a:lnTo>
                    <a:pt x="1" y="99"/>
                  </a:lnTo>
                  <a:lnTo>
                    <a:pt x="4" y="109"/>
                  </a:lnTo>
                  <a:lnTo>
                    <a:pt x="7" y="118"/>
                  </a:lnTo>
                  <a:lnTo>
                    <a:pt x="11" y="127"/>
                  </a:lnTo>
                  <a:lnTo>
                    <a:pt x="21" y="142"/>
                  </a:lnTo>
                  <a:lnTo>
                    <a:pt x="30" y="155"/>
                  </a:lnTo>
                  <a:lnTo>
                    <a:pt x="37" y="163"/>
                  </a:lnTo>
                  <a:lnTo>
                    <a:pt x="40" y="166"/>
                  </a:lnTo>
                  <a:lnTo>
                    <a:pt x="376" y="376"/>
                  </a:lnTo>
                  <a:lnTo>
                    <a:pt x="470" y="336"/>
                  </a:lnTo>
                  <a:close/>
                </a:path>
              </a:pathLst>
            </a:custGeom>
            <a:solidFill>
              <a:srgbClr val="a2ac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989680" y="4964040"/>
              <a:ext cx="149040" cy="119160"/>
            </a:xfrm>
            <a:custGeom>
              <a:avLst/>
              <a:gdLst/>
              <a:ahLst/>
              <a:rect l="l" t="t" r="r" b="b"/>
              <a:pathLst>
                <a:path w="470" h="376">
                  <a:moveTo>
                    <a:pt x="470" y="336"/>
                  </a:moveTo>
                  <a:lnTo>
                    <a:pt x="215" y="156"/>
                  </a:lnTo>
                  <a:lnTo>
                    <a:pt x="198" y="149"/>
                  </a:lnTo>
                  <a:lnTo>
                    <a:pt x="197" y="146"/>
                  </a:lnTo>
                  <a:lnTo>
                    <a:pt x="195" y="139"/>
                  </a:lnTo>
                  <a:lnTo>
                    <a:pt x="191" y="129"/>
                  </a:lnTo>
                  <a:lnTo>
                    <a:pt x="186" y="117"/>
                  </a:lnTo>
                  <a:lnTo>
                    <a:pt x="183" y="105"/>
                  </a:lnTo>
                  <a:lnTo>
                    <a:pt x="182" y="93"/>
                  </a:lnTo>
                  <a:lnTo>
                    <a:pt x="182" y="88"/>
                  </a:lnTo>
                  <a:lnTo>
                    <a:pt x="182" y="84"/>
                  </a:lnTo>
                  <a:lnTo>
                    <a:pt x="184" y="79"/>
                  </a:lnTo>
                  <a:lnTo>
                    <a:pt x="186" y="77"/>
                  </a:lnTo>
                  <a:lnTo>
                    <a:pt x="188" y="74"/>
                  </a:lnTo>
                  <a:lnTo>
                    <a:pt x="191" y="71"/>
                  </a:lnTo>
                  <a:lnTo>
                    <a:pt x="192" y="66"/>
                  </a:lnTo>
                  <a:lnTo>
                    <a:pt x="192" y="62"/>
                  </a:lnTo>
                  <a:lnTo>
                    <a:pt x="191" y="58"/>
                  </a:lnTo>
                  <a:lnTo>
                    <a:pt x="189" y="52"/>
                  </a:lnTo>
                  <a:lnTo>
                    <a:pt x="187" y="47"/>
                  </a:lnTo>
                  <a:lnTo>
                    <a:pt x="184" y="42"/>
                  </a:lnTo>
                  <a:lnTo>
                    <a:pt x="178" y="31"/>
                  </a:lnTo>
                  <a:lnTo>
                    <a:pt x="169" y="21"/>
                  </a:lnTo>
                  <a:lnTo>
                    <a:pt x="159" y="12"/>
                  </a:lnTo>
                  <a:lnTo>
                    <a:pt x="148" y="5"/>
                  </a:lnTo>
                  <a:lnTo>
                    <a:pt x="143" y="3"/>
                  </a:lnTo>
                  <a:lnTo>
                    <a:pt x="137" y="1"/>
                  </a:lnTo>
                  <a:lnTo>
                    <a:pt x="129" y="1"/>
                  </a:lnTo>
                  <a:lnTo>
                    <a:pt x="121" y="0"/>
                  </a:lnTo>
                  <a:lnTo>
                    <a:pt x="114" y="1"/>
                  </a:lnTo>
                  <a:lnTo>
                    <a:pt x="105" y="2"/>
                  </a:lnTo>
                  <a:lnTo>
                    <a:pt x="97" y="3"/>
                  </a:lnTo>
                  <a:lnTo>
                    <a:pt x="88" y="6"/>
                  </a:lnTo>
                  <a:lnTo>
                    <a:pt x="78" y="9"/>
                  </a:lnTo>
                  <a:lnTo>
                    <a:pt x="70" y="12"/>
                  </a:lnTo>
                  <a:lnTo>
                    <a:pt x="60" y="18"/>
                  </a:lnTo>
                  <a:lnTo>
                    <a:pt x="51" y="23"/>
                  </a:lnTo>
                  <a:lnTo>
                    <a:pt x="41" y="29"/>
                  </a:lnTo>
                  <a:lnTo>
                    <a:pt x="33" y="36"/>
                  </a:lnTo>
                  <a:lnTo>
                    <a:pt x="24" y="44"/>
                  </a:lnTo>
                  <a:lnTo>
                    <a:pt x="16" y="52"/>
                  </a:lnTo>
                  <a:lnTo>
                    <a:pt x="11" y="57"/>
                  </a:lnTo>
                  <a:lnTo>
                    <a:pt x="8" y="61"/>
                  </a:lnTo>
                  <a:lnTo>
                    <a:pt x="6" y="65"/>
                  </a:lnTo>
                  <a:lnTo>
                    <a:pt x="4" y="71"/>
                  </a:lnTo>
                  <a:lnTo>
                    <a:pt x="1" y="81"/>
                  </a:lnTo>
                  <a:lnTo>
                    <a:pt x="0" y="90"/>
                  </a:lnTo>
                  <a:lnTo>
                    <a:pt x="1" y="99"/>
                  </a:lnTo>
                  <a:lnTo>
                    <a:pt x="4" y="109"/>
                  </a:lnTo>
                  <a:lnTo>
                    <a:pt x="7" y="118"/>
                  </a:lnTo>
                  <a:lnTo>
                    <a:pt x="11" y="127"/>
                  </a:lnTo>
                  <a:lnTo>
                    <a:pt x="21" y="142"/>
                  </a:lnTo>
                  <a:lnTo>
                    <a:pt x="30" y="155"/>
                  </a:lnTo>
                  <a:lnTo>
                    <a:pt x="37" y="163"/>
                  </a:lnTo>
                  <a:lnTo>
                    <a:pt x="40" y="166"/>
                  </a:lnTo>
                  <a:lnTo>
                    <a:pt x="376" y="376"/>
                  </a:lnTo>
                  <a:lnTo>
                    <a:pt x="470" y="336"/>
                  </a:lnTo>
                </a:path>
              </a:pathLst>
            </a:custGeom>
            <a:noFill/>
            <a:ln w="14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871960" y="5004000"/>
              <a:ext cx="389160" cy="161640"/>
            </a:xfrm>
            <a:custGeom>
              <a:avLst/>
              <a:gdLst/>
              <a:ahLst/>
              <a:rect l="l" t="t" r="r" b="b"/>
              <a:pathLst>
                <a:path w="1222" h="514">
                  <a:moveTo>
                    <a:pt x="853" y="205"/>
                  </a:moveTo>
                  <a:lnTo>
                    <a:pt x="856" y="206"/>
                  </a:lnTo>
                  <a:lnTo>
                    <a:pt x="864" y="207"/>
                  </a:lnTo>
                  <a:lnTo>
                    <a:pt x="877" y="210"/>
                  </a:lnTo>
                  <a:lnTo>
                    <a:pt x="893" y="214"/>
                  </a:lnTo>
                  <a:lnTo>
                    <a:pt x="913" y="217"/>
                  </a:lnTo>
                  <a:lnTo>
                    <a:pt x="936" y="220"/>
                  </a:lnTo>
                  <a:lnTo>
                    <a:pt x="959" y="222"/>
                  </a:lnTo>
                  <a:lnTo>
                    <a:pt x="984" y="224"/>
                  </a:lnTo>
                  <a:lnTo>
                    <a:pt x="1010" y="229"/>
                  </a:lnTo>
                  <a:lnTo>
                    <a:pt x="1040" y="235"/>
                  </a:lnTo>
                  <a:lnTo>
                    <a:pt x="1057" y="239"/>
                  </a:lnTo>
                  <a:lnTo>
                    <a:pt x="1073" y="245"/>
                  </a:lnTo>
                  <a:lnTo>
                    <a:pt x="1089" y="250"/>
                  </a:lnTo>
                  <a:lnTo>
                    <a:pt x="1105" y="257"/>
                  </a:lnTo>
                  <a:lnTo>
                    <a:pt x="1121" y="264"/>
                  </a:lnTo>
                  <a:lnTo>
                    <a:pt x="1138" y="272"/>
                  </a:lnTo>
                  <a:lnTo>
                    <a:pt x="1152" y="282"/>
                  </a:lnTo>
                  <a:lnTo>
                    <a:pt x="1167" y="290"/>
                  </a:lnTo>
                  <a:lnTo>
                    <a:pt x="1180" y="301"/>
                  </a:lnTo>
                  <a:lnTo>
                    <a:pt x="1192" y="312"/>
                  </a:lnTo>
                  <a:lnTo>
                    <a:pt x="1202" y="324"/>
                  </a:lnTo>
                  <a:lnTo>
                    <a:pt x="1212" y="336"/>
                  </a:lnTo>
                  <a:lnTo>
                    <a:pt x="1219" y="350"/>
                  </a:lnTo>
                  <a:lnTo>
                    <a:pt x="1222" y="363"/>
                  </a:lnTo>
                  <a:lnTo>
                    <a:pt x="1222" y="374"/>
                  </a:lnTo>
                  <a:lnTo>
                    <a:pt x="1219" y="386"/>
                  </a:lnTo>
                  <a:lnTo>
                    <a:pt x="1212" y="397"/>
                  </a:lnTo>
                  <a:lnTo>
                    <a:pt x="1203" y="408"/>
                  </a:lnTo>
                  <a:lnTo>
                    <a:pt x="1192" y="418"/>
                  </a:lnTo>
                  <a:lnTo>
                    <a:pt x="1178" y="426"/>
                  </a:lnTo>
                  <a:lnTo>
                    <a:pt x="1161" y="435"/>
                  </a:lnTo>
                  <a:lnTo>
                    <a:pt x="1144" y="444"/>
                  </a:lnTo>
                  <a:lnTo>
                    <a:pt x="1125" y="450"/>
                  </a:lnTo>
                  <a:lnTo>
                    <a:pt x="1103" y="458"/>
                  </a:lnTo>
                  <a:lnTo>
                    <a:pt x="1080" y="464"/>
                  </a:lnTo>
                  <a:lnTo>
                    <a:pt x="1058" y="470"/>
                  </a:lnTo>
                  <a:lnTo>
                    <a:pt x="1034" y="476"/>
                  </a:lnTo>
                  <a:lnTo>
                    <a:pt x="1009" y="480"/>
                  </a:lnTo>
                  <a:lnTo>
                    <a:pt x="959" y="490"/>
                  </a:lnTo>
                  <a:lnTo>
                    <a:pt x="911" y="497"/>
                  </a:lnTo>
                  <a:lnTo>
                    <a:pt x="864" y="503"/>
                  </a:lnTo>
                  <a:lnTo>
                    <a:pt x="822" y="507"/>
                  </a:lnTo>
                  <a:lnTo>
                    <a:pt x="758" y="513"/>
                  </a:lnTo>
                  <a:lnTo>
                    <a:pt x="735" y="514"/>
                  </a:lnTo>
                  <a:lnTo>
                    <a:pt x="713" y="508"/>
                  </a:lnTo>
                  <a:lnTo>
                    <a:pt x="656" y="493"/>
                  </a:lnTo>
                  <a:lnTo>
                    <a:pt x="573" y="472"/>
                  </a:lnTo>
                  <a:lnTo>
                    <a:pt x="475" y="447"/>
                  </a:lnTo>
                  <a:lnTo>
                    <a:pt x="372" y="420"/>
                  </a:lnTo>
                  <a:lnTo>
                    <a:pt x="273" y="396"/>
                  </a:lnTo>
                  <a:lnTo>
                    <a:pt x="191" y="377"/>
                  </a:lnTo>
                  <a:lnTo>
                    <a:pt x="134" y="366"/>
                  </a:lnTo>
                  <a:lnTo>
                    <a:pt x="115" y="363"/>
                  </a:lnTo>
                  <a:lnTo>
                    <a:pt x="97" y="358"/>
                  </a:lnTo>
                  <a:lnTo>
                    <a:pt x="81" y="354"/>
                  </a:lnTo>
                  <a:lnTo>
                    <a:pt x="68" y="350"/>
                  </a:lnTo>
                  <a:lnTo>
                    <a:pt x="55" y="344"/>
                  </a:lnTo>
                  <a:lnTo>
                    <a:pt x="45" y="338"/>
                  </a:lnTo>
                  <a:lnTo>
                    <a:pt x="36" y="331"/>
                  </a:lnTo>
                  <a:lnTo>
                    <a:pt x="28" y="323"/>
                  </a:lnTo>
                  <a:lnTo>
                    <a:pt x="22" y="315"/>
                  </a:lnTo>
                  <a:lnTo>
                    <a:pt x="16" y="305"/>
                  </a:lnTo>
                  <a:lnTo>
                    <a:pt x="12" y="295"/>
                  </a:lnTo>
                  <a:lnTo>
                    <a:pt x="8" y="283"/>
                  </a:lnTo>
                  <a:lnTo>
                    <a:pt x="5" y="271"/>
                  </a:lnTo>
                  <a:lnTo>
                    <a:pt x="3" y="257"/>
                  </a:lnTo>
                  <a:lnTo>
                    <a:pt x="1" y="242"/>
                  </a:lnTo>
                  <a:lnTo>
                    <a:pt x="0" y="224"/>
                  </a:lnTo>
                  <a:lnTo>
                    <a:pt x="0" y="208"/>
                  </a:lnTo>
                  <a:lnTo>
                    <a:pt x="0" y="191"/>
                  </a:lnTo>
                  <a:lnTo>
                    <a:pt x="1" y="173"/>
                  </a:lnTo>
                  <a:lnTo>
                    <a:pt x="2" y="155"/>
                  </a:lnTo>
                  <a:lnTo>
                    <a:pt x="4" y="138"/>
                  </a:lnTo>
                  <a:lnTo>
                    <a:pt x="7" y="121"/>
                  </a:lnTo>
                  <a:lnTo>
                    <a:pt x="10" y="103"/>
                  </a:lnTo>
                  <a:lnTo>
                    <a:pt x="14" y="87"/>
                  </a:lnTo>
                  <a:lnTo>
                    <a:pt x="18" y="72"/>
                  </a:lnTo>
                  <a:lnTo>
                    <a:pt x="23" y="58"/>
                  </a:lnTo>
                  <a:lnTo>
                    <a:pt x="27" y="45"/>
                  </a:lnTo>
                  <a:lnTo>
                    <a:pt x="32" y="33"/>
                  </a:lnTo>
                  <a:lnTo>
                    <a:pt x="39" y="22"/>
                  </a:lnTo>
                  <a:lnTo>
                    <a:pt x="44" y="14"/>
                  </a:lnTo>
                  <a:lnTo>
                    <a:pt x="51" y="7"/>
                  </a:lnTo>
                  <a:lnTo>
                    <a:pt x="57" y="2"/>
                  </a:lnTo>
                  <a:lnTo>
                    <a:pt x="63" y="0"/>
                  </a:lnTo>
                  <a:lnTo>
                    <a:pt x="69" y="0"/>
                  </a:lnTo>
                  <a:lnTo>
                    <a:pt x="76" y="1"/>
                  </a:lnTo>
                  <a:lnTo>
                    <a:pt x="82" y="4"/>
                  </a:lnTo>
                  <a:lnTo>
                    <a:pt x="97" y="13"/>
                  </a:lnTo>
                  <a:lnTo>
                    <a:pt x="112" y="25"/>
                  </a:lnTo>
                  <a:lnTo>
                    <a:pt x="131" y="38"/>
                  </a:lnTo>
                  <a:lnTo>
                    <a:pt x="150" y="52"/>
                  </a:lnTo>
                  <a:lnTo>
                    <a:pt x="161" y="57"/>
                  </a:lnTo>
                  <a:lnTo>
                    <a:pt x="173" y="62"/>
                  </a:lnTo>
                  <a:lnTo>
                    <a:pt x="185" y="67"/>
                  </a:lnTo>
                  <a:lnTo>
                    <a:pt x="198" y="69"/>
                  </a:lnTo>
                  <a:lnTo>
                    <a:pt x="225" y="73"/>
                  </a:lnTo>
                  <a:lnTo>
                    <a:pt x="250" y="75"/>
                  </a:lnTo>
                  <a:lnTo>
                    <a:pt x="261" y="75"/>
                  </a:lnTo>
                  <a:lnTo>
                    <a:pt x="273" y="75"/>
                  </a:lnTo>
                  <a:lnTo>
                    <a:pt x="285" y="75"/>
                  </a:lnTo>
                  <a:lnTo>
                    <a:pt x="296" y="74"/>
                  </a:lnTo>
                  <a:lnTo>
                    <a:pt x="307" y="72"/>
                  </a:lnTo>
                  <a:lnTo>
                    <a:pt x="318" y="70"/>
                  </a:lnTo>
                  <a:lnTo>
                    <a:pt x="328" y="67"/>
                  </a:lnTo>
                  <a:lnTo>
                    <a:pt x="338" y="62"/>
                  </a:lnTo>
                  <a:lnTo>
                    <a:pt x="348" y="58"/>
                  </a:lnTo>
                  <a:lnTo>
                    <a:pt x="358" y="53"/>
                  </a:lnTo>
                  <a:lnTo>
                    <a:pt x="367" y="46"/>
                  </a:lnTo>
                  <a:lnTo>
                    <a:pt x="376" y="40"/>
                  </a:lnTo>
                  <a:lnTo>
                    <a:pt x="379" y="39"/>
                  </a:lnTo>
                  <a:lnTo>
                    <a:pt x="387" y="35"/>
                  </a:lnTo>
                  <a:lnTo>
                    <a:pt x="398" y="31"/>
                  </a:lnTo>
                  <a:lnTo>
                    <a:pt x="413" y="28"/>
                  </a:lnTo>
                  <a:lnTo>
                    <a:pt x="421" y="27"/>
                  </a:lnTo>
                  <a:lnTo>
                    <a:pt x="430" y="27"/>
                  </a:lnTo>
                  <a:lnTo>
                    <a:pt x="439" y="27"/>
                  </a:lnTo>
                  <a:lnTo>
                    <a:pt x="448" y="28"/>
                  </a:lnTo>
                  <a:lnTo>
                    <a:pt x="457" y="30"/>
                  </a:lnTo>
                  <a:lnTo>
                    <a:pt x="467" y="33"/>
                  </a:lnTo>
                  <a:lnTo>
                    <a:pt x="475" y="39"/>
                  </a:lnTo>
                  <a:lnTo>
                    <a:pt x="485" y="44"/>
                  </a:lnTo>
                  <a:lnTo>
                    <a:pt x="509" y="62"/>
                  </a:lnTo>
                  <a:lnTo>
                    <a:pt x="542" y="88"/>
                  </a:lnTo>
                  <a:lnTo>
                    <a:pt x="581" y="119"/>
                  </a:lnTo>
                  <a:lnTo>
                    <a:pt x="623" y="151"/>
                  </a:lnTo>
                  <a:lnTo>
                    <a:pt x="663" y="182"/>
                  </a:lnTo>
                  <a:lnTo>
                    <a:pt x="699" y="209"/>
                  </a:lnTo>
                  <a:lnTo>
                    <a:pt x="725" y="229"/>
                  </a:lnTo>
                  <a:lnTo>
                    <a:pt x="739" y="237"/>
                  </a:lnTo>
                  <a:lnTo>
                    <a:pt x="743" y="237"/>
                  </a:lnTo>
                  <a:lnTo>
                    <a:pt x="746" y="237"/>
                  </a:lnTo>
                  <a:lnTo>
                    <a:pt x="752" y="235"/>
                  </a:lnTo>
                  <a:lnTo>
                    <a:pt x="757" y="233"/>
                  </a:lnTo>
                  <a:lnTo>
                    <a:pt x="768" y="228"/>
                  </a:lnTo>
                  <a:lnTo>
                    <a:pt x="782" y="220"/>
                  </a:lnTo>
                  <a:lnTo>
                    <a:pt x="797" y="214"/>
                  </a:lnTo>
                  <a:lnTo>
                    <a:pt x="815" y="208"/>
                  </a:lnTo>
                  <a:lnTo>
                    <a:pt x="824" y="206"/>
                  </a:lnTo>
                  <a:lnTo>
                    <a:pt x="833" y="205"/>
                  </a:lnTo>
                  <a:lnTo>
                    <a:pt x="843" y="204"/>
                  </a:lnTo>
                  <a:lnTo>
                    <a:pt x="853" y="205"/>
                  </a:lnTo>
                  <a:close/>
                </a:path>
              </a:pathLst>
            </a:custGeom>
            <a:solidFill>
              <a:srgbClr val="b5b5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871960" y="5004000"/>
              <a:ext cx="389160" cy="161640"/>
            </a:xfrm>
            <a:custGeom>
              <a:avLst/>
              <a:gdLst/>
              <a:ahLst/>
              <a:rect l="l" t="t" r="r" b="b"/>
              <a:pathLst>
                <a:path w="1222" h="514">
                  <a:moveTo>
                    <a:pt x="853" y="205"/>
                  </a:moveTo>
                  <a:lnTo>
                    <a:pt x="856" y="206"/>
                  </a:lnTo>
                  <a:lnTo>
                    <a:pt x="864" y="207"/>
                  </a:lnTo>
                  <a:lnTo>
                    <a:pt x="877" y="210"/>
                  </a:lnTo>
                  <a:lnTo>
                    <a:pt x="893" y="214"/>
                  </a:lnTo>
                  <a:lnTo>
                    <a:pt x="913" y="217"/>
                  </a:lnTo>
                  <a:lnTo>
                    <a:pt x="936" y="220"/>
                  </a:lnTo>
                  <a:lnTo>
                    <a:pt x="959" y="222"/>
                  </a:lnTo>
                  <a:lnTo>
                    <a:pt x="984" y="224"/>
                  </a:lnTo>
                  <a:lnTo>
                    <a:pt x="1010" y="229"/>
                  </a:lnTo>
                  <a:lnTo>
                    <a:pt x="1040" y="235"/>
                  </a:lnTo>
                  <a:lnTo>
                    <a:pt x="1057" y="239"/>
                  </a:lnTo>
                  <a:lnTo>
                    <a:pt x="1073" y="245"/>
                  </a:lnTo>
                  <a:lnTo>
                    <a:pt x="1089" y="250"/>
                  </a:lnTo>
                  <a:lnTo>
                    <a:pt x="1105" y="257"/>
                  </a:lnTo>
                  <a:lnTo>
                    <a:pt x="1121" y="264"/>
                  </a:lnTo>
                  <a:lnTo>
                    <a:pt x="1138" y="272"/>
                  </a:lnTo>
                  <a:lnTo>
                    <a:pt x="1152" y="282"/>
                  </a:lnTo>
                  <a:lnTo>
                    <a:pt x="1167" y="290"/>
                  </a:lnTo>
                  <a:lnTo>
                    <a:pt x="1180" y="301"/>
                  </a:lnTo>
                  <a:lnTo>
                    <a:pt x="1192" y="312"/>
                  </a:lnTo>
                  <a:lnTo>
                    <a:pt x="1202" y="324"/>
                  </a:lnTo>
                  <a:lnTo>
                    <a:pt x="1212" y="336"/>
                  </a:lnTo>
                  <a:lnTo>
                    <a:pt x="1219" y="350"/>
                  </a:lnTo>
                  <a:lnTo>
                    <a:pt x="1222" y="363"/>
                  </a:lnTo>
                  <a:lnTo>
                    <a:pt x="1222" y="374"/>
                  </a:lnTo>
                  <a:lnTo>
                    <a:pt x="1219" y="386"/>
                  </a:lnTo>
                  <a:lnTo>
                    <a:pt x="1212" y="397"/>
                  </a:lnTo>
                  <a:lnTo>
                    <a:pt x="1203" y="408"/>
                  </a:lnTo>
                  <a:lnTo>
                    <a:pt x="1192" y="418"/>
                  </a:lnTo>
                  <a:lnTo>
                    <a:pt x="1178" y="426"/>
                  </a:lnTo>
                  <a:lnTo>
                    <a:pt x="1161" y="435"/>
                  </a:lnTo>
                  <a:lnTo>
                    <a:pt x="1144" y="444"/>
                  </a:lnTo>
                  <a:lnTo>
                    <a:pt x="1125" y="450"/>
                  </a:lnTo>
                  <a:lnTo>
                    <a:pt x="1103" y="458"/>
                  </a:lnTo>
                  <a:lnTo>
                    <a:pt x="1080" y="464"/>
                  </a:lnTo>
                  <a:lnTo>
                    <a:pt x="1058" y="470"/>
                  </a:lnTo>
                  <a:lnTo>
                    <a:pt x="1034" y="476"/>
                  </a:lnTo>
                  <a:lnTo>
                    <a:pt x="1009" y="480"/>
                  </a:lnTo>
                  <a:lnTo>
                    <a:pt x="959" y="490"/>
                  </a:lnTo>
                  <a:lnTo>
                    <a:pt x="911" y="497"/>
                  </a:lnTo>
                  <a:lnTo>
                    <a:pt x="864" y="503"/>
                  </a:lnTo>
                  <a:lnTo>
                    <a:pt x="822" y="507"/>
                  </a:lnTo>
                  <a:lnTo>
                    <a:pt x="758" y="513"/>
                  </a:lnTo>
                  <a:lnTo>
                    <a:pt x="735" y="514"/>
                  </a:lnTo>
                  <a:lnTo>
                    <a:pt x="713" y="508"/>
                  </a:lnTo>
                  <a:lnTo>
                    <a:pt x="656" y="493"/>
                  </a:lnTo>
                  <a:lnTo>
                    <a:pt x="573" y="472"/>
                  </a:lnTo>
                  <a:lnTo>
                    <a:pt x="475" y="447"/>
                  </a:lnTo>
                  <a:lnTo>
                    <a:pt x="372" y="420"/>
                  </a:lnTo>
                  <a:lnTo>
                    <a:pt x="273" y="396"/>
                  </a:lnTo>
                  <a:lnTo>
                    <a:pt x="191" y="377"/>
                  </a:lnTo>
                  <a:lnTo>
                    <a:pt x="134" y="366"/>
                  </a:lnTo>
                  <a:lnTo>
                    <a:pt x="115" y="363"/>
                  </a:lnTo>
                  <a:lnTo>
                    <a:pt x="97" y="358"/>
                  </a:lnTo>
                  <a:lnTo>
                    <a:pt x="81" y="354"/>
                  </a:lnTo>
                  <a:lnTo>
                    <a:pt x="68" y="350"/>
                  </a:lnTo>
                  <a:lnTo>
                    <a:pt x="55" y="344"/>
                  </a:lnTo>
                  <a:lnTo>
                    <a:pt x="45" y="338"/>
                  </a:lnTo>
                  <a:lnTo>
                    <a:pt x="36" y="331"/>
                  </a:lnTo>
                  <a:lnTo>
                    <a:pt x="28" y="323"/>
                  </a:lnTo>
                  <a:lnTo>
                    <a:pt x="22" y="315"/>
                  </a:lnTo>
                  <a:lnTo>
                    <a:pt x="16" y="305"/>
                  </a:lnTo>
                  <a:lnTo>
                    <a:pt x="12" y="295"/>
                  </a:lnTo>
                  <a:lnTo>
                    <a:pt x="8" y="283"/>
                  </a:lnTo>
                  <a:lnTo>
                    <a:pt x="5" y="271"/>
                  </a:lnTo>
                  <a:lnTo>
                    <a:pt x="3" y="257"/>
                  </a:lnTo>
                  <a:lnTo>
                    <a:pt x="1" y="242"/>
                  </a:lnTo>
                  <a:lnTo>
                    <a:pt x="0" y="224"/>
                  </a:lnTo>
                  <a:lnTo>
                    <a:pt x="0" y="208"/>
                  </a:lnTo>
                  <a:lnTo>
                    <a:pt x="0" y="191"/>
                  </a:lnTo>
                  <a:lnTo>
                    <a:pt x="1" y="173"/>
                  </a:lnTo>
                  <a:lnTo>
                    <a:pt x="2" y="155"/>
                  </a:lnTo>
                  <a:lnTo>
                    <a:pt x="4" y="138"/>
                  </a:lnTo>
                  <a:lnTo>
                    <a:pt x="7" y="121"/>
                  </a:lnTo>
                  <a:lnTo>
                    <a:pt x="10" y="103"/>
                  </a:lnTo>
                  <a:lnTo>
                    <a:pt x="14" y="87"/>
                  </a:lnTo>
                  <a:lnTo>
                    <a:pt x="18" y="72"/>
                  </a:lnTo>
                  <a:lnTo>
                    <a:pt x="23" y="58"/>
                  </a:lnTo>
                  <a:lnTo>
                    <a:pt x="27" y="45"/>
                  </a:lnTo>
                  <a:lnTo>
                    <a:pt x="32" y="33"/>
                  </a:lnTo>
                  <a:lnTo>
                    <a:pt x="39" y="22"/>
                  </a:lnTo>
                  <a:lnTo>
                    <a:pt x="44" y="14"/>
                  </a:lnTo>
                  <a:lnTo>
                    <a:pt x="51" y="7"/>
                  </a:lnTo>
                  <a:lnTo>
                    <a:pt x="57" y="2"/>
                  </a:lnTo>
                  <a:lnTo>
                    <a:pt x="63" y="0"/>
                  </a:lnTo>
                  <a:lnTo>
                    <a:pt x="69" y="0"/>
                  </a:lnTo>
                  <a:lnTo>
                    <a:pt x="76" y="1"/>
                  </a:lnTo>
                  <a:lnTo>
                    <a:pt x="82" y="4"/>
                  </a:lnTo>
                  <a:lnTo>
                    <a:pt x="97" y="13"/>
                  </a:lnTo>
                  <a:lnTo>
                    <a:pt x="112" y="25"/>
                  </a:lnTo>
                  <a:lnTo>
                    <a:pt x="131" y="38"/>
                  </a:lnTo>
                  <a:lnTo>
                    <a:pt x="150" y="52"/>
                  </a:lnTo>
                  <a:lnTo>
                    <a:pt x="161" y="57"/>
                  </a:lnTo>
                  <a:lnTo>
                    <a:pt x="173" y="62"/>
                  </a:lnTo>
                  <a:lnTo>
                    <a:pt x="185" y="67"/>
                  </a:lnTo>
                  <a:lnTo>
                    <a:pt x="198" y="69"/>
                  </a:lnTo>
                  <a:lnTo>
                    <a:pt x="225" y="73"/>
                  </a:lnTo>
                  <a:lnTo>
                    <a:pt x="250" y="75"/>
                  </a:lnTo>
                  <a:lnTo>
                    <a:pt x="261" y="75"/>
                  </a:lnTo>
                  <a:lnTo>
                    <a:pt x="273" y="75"/>
                  </a:lnTo>
                  <a:lnTo>
                    <a:pt x="285" y="75"/>
                  </a:lnTo>
                  <a:lnTo>
                    <a:pt x="296" y="74"/>
                  </a:lnTo>
                  <a:lnTo>
                    <a:pt x="307" y="72"/>
                  </a:lnTo>
                  <a:lnTo>
                    <a:pt x="318" y="70"/>
                  </a:lnTo>
                  <a:lnTo>
                    <a:pt x="328" y="67"/>
                  </a:lnTo>
                  <a:lnTo>
                    <a:pt x="338" y="62"/>
                  </a:lnTo>
                  <a:lnTo>
                    <a:pt x="348" y="58"/>
                  </a:lnTo>
                  <a:lnTo>
                    <a:pt x="358" y="53"/>
                  </a:lnTo>
                  <a:lnTo>
                    <a:pt x="367" y="46"/>
                  </a:lnTo>
                  <a:lnTo>
                    <a:pt x="376" y="40"/>
                  </a:lnTo>
                  <a:lnTo>
                    <a:pt x="379" y="39"/>
                  </a:lnTo>
                  <a:lnTo>
                    <a:pt x="387" y="35"/>
                  </a:lnTo>
                  <a:lnTo>
                    <a:pt x="398" y="31"/>
                  </a:lnTo>
                  <a:lnTo>
                    <a:pt x="413" y="28"/>
                  </a:lnTo>
                  <a:lnTo>
                    <a:pt x="421" y="27"/>
                  </a:lnTo>
                  <a:lnTo>
                    <a:pt x="430" y="27"/>
                  </a:lnTo>
                  <a:lnTo>
                    <a:pt x="439" y="27"/>
                  </a:lnTo>
                  <a:lnTo>
                    <a:pt x="448" y="28"/>
                  </a:lnTo>
                  <a:lnTo>
                    <a:pt x="457" y="30"/>
                  </a:lnTo>
                  <a:lnTo>
                    <a:pt x="467" y="33"/>
                  </a:lnTo>
                  <a:lnTo>
                    <a:pt x="475" y="39"/>
                  </a:lnTo>
                  <a:lnTo>
                    <a:pt x="485" y="44"/>
                  </a:lnTo>
                  <a:lnTo>
                    <a:pt x="509" y="62"/>
                  </a:lnTo>
                  <a:lnTo>
                    <a:pt x="542" y="88"/>
                  </a:lnTo>
                  <a:lnTo>
                    <a:pt x="581" y="119"/>
                  </a:lnTo>
                  <a:lnTo>
                    <a:pt x="623" y="151"/>
                  </a:lnTo>
                  <a:lnTo>
                    <a:pt x="663" y="182"/>
                  </a:lnTo>
                  <a:lnTo>
                    <a:pt x="699" y="209"/>
                  </a:lnTo>
                  <a:lnTo>
                    <a:pt x="725" y="229"/>
                  </a:lnTo>
                  <a:lnTo>
                    <a:pt x="739" y="237"/>
                  </a:lnTo>
                  <a:lnTo>
                    <a:pt x="743" y="237"/>
                  </a:lnTo>
                  <a:lnTo>
                    <a:pt x="746" y="237"/>
                  </a:lnTo>
                  <a:lnTo>
                    <a:pt x="752" y="235"/>
                  </a:lnTo>
                  <a:lnTo>
                    <a:pt x="757" y="233"/>
                  </a:lnTo>
                  <a:lnTo>
                    <a:pt x="768" y="228"/>
                  </a:lnTo>
                  <a:lnTo>
                    <a:pt x="782" y="220"/>
                  </a:lnTo>
                  <a:lnTo>
                    <a:pt x="797" y="214"/>
                  </a:lnTo>
                  <a:lnTo>
                    <a:pt x="815" y="208"/>
                  </a:lnTo>
                  <a:lnTo>
                    <a:pt x="824" y="206"/>
                  </a:lnTo>
                  <a:lnTo>
                    <a:pt x="833" y="205"/>
                  </a:lnTo>
                  <a:lnTo>
                    <a:pt x="843" y="204"/>
                  </a:lnTo>
                  <a:lnTo>
                    <a:pt x="853" y="205"/>
                  </a:lnTo>
                </a:path>
              </a:pathLst>
            </a:custGeom>
            <a:noFill/>
            <a:ln w="14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889600" y="5086440"/>
              <a:ext cx="268200" cy="81000"/>
            </a:xfrm>
            <a:custGeom>
              <a:avLst/>
              <a:gdLst/>
              <a:ahLst/>
              <a:rect l="l" t="t" r="r" b="b"/>
              <a:pathLst>
                <a:path w="848" h="255">
                  <a:moveTo>
                    <a:pt x="10" y="52"/>
                  </a:moveTo>
                  <a:lnTo>
                    <a:pt x="17" y="51"/>
                  </a:lnTo>
                  <a:lnTo>
                    <a:pt x="38" y="49"/>
                  </a:lnTo>
                  <a:lnTo>
                    <a:pt x="68" y="46"/>
                  </a:lnTo>
                  <a:lnTo>
                    <a:pt x="104" y="40"/>
                  </a:lnTo>
                  <a:lnTo>
                    <a:pt x="142" y="35"/>
                  </a:lnTo>
                  <a:lnTo>
                    <a:pt x="180" y="28"/>
                  </a:lnTo>
                  <a:lnTo>
                    <a:pt x="198" y="24"/>
                  </a:lnTo>
                  <a:lnTo>
                    <a:pt x="214" y="21"/>
                  </a:lnTo>
                  <a:lnTo>
                    <a:pt x="228" y="16"/>
                  </a:lnTo>
                  <a:lnTo>
                    <a:pt x="240" y="12"/>
                  </a:lnTo>
                  <a:lnTo>
                    <a:pt x="250" y="9"/>
                  </a:lnTo>
                  <a:lnTo>
                    <a:pt x="262" y="6"/>
                  </a:lnTo>
                  <a:lnTo>
                    <a:pt x="274" y="2"/>
                  </a:lnTo>
                  <a:lnTo>
                    <a:pt x="286" y="1"/>
                  </a:lnTo>
                  <a:lnTo>
                    <a:pt x="300" y="0"/>
                  </a:lnTo>
                  <a:lnTo>
                    <a:pt x="314" y="1"/>
                  </a:lnTo>
                  <a:lnTo>
                    <a:pt x="329" y="3"/>
                  </a:lnTo>
                  <a:lnTo>
                    <a:pt x="346" y="6"/>
                  </a:lnTo>
                  <a:lnTo>
                    <a:pt x="364" y="11"/>
                  </a:lnTo>
                  <a:lnTo>
                    <a:pt x="382" y="17"/>
                  </a:lnTo>
                  <a:lnTo>
                    <a:pt x="403" y="25"/>
                  </a:lnTo>
                  <a:lnTo>
                    <a:pt x="426" y="35"/>
                  </a:lnTo>
                  <a:lnTo>
                    <a:pt x="449" y="48"/>
                  </a:lnTo>
                  <a:lnTo>
                    <a:pt x="474" y="62"/>
                  </a:lnTo>
                  <a:lnTo>
                    <a:pt x="502" y="78"/>
                  </a:lnTo>
                  <a:lnTo>
                    <a:pt x="531" y="96"/>
                  </a:lnTo>
                  <a:lnTo>
                    <a:pt x="546" y="106"/>
                  </a:lnTo>
                  <a:lnTo>
                    <a:pt x="562" y="115"/>
                  </a:lnTo>
                  <a:lnTo>
                    <a:pt x="577" y="123"/>
                  </a:lnTo>
                  <a:lnTo>
                    <a:pt x="592" y="131"/>
                  </a:lnTo>
                  <a:lnTo>
                    <a:pt x="621" y="144"/>
                  </a:lnTo>
                  <a:lnTo>
                    <a:pt x="650" y="154"/>
                  </a:lnTo>
                  <a:lnTo>
                    <a:pt x="677" y="162"/>
                  </a:lnTo>
                  <a:lnTo>
                    <a:pt x="703" y="168"/>
                  </a:lnTo>
                  <a:lnTo>
                    <a:pt x="728" y="172"/>
                  </a:lnTo>
                  <a:lnTo>
                    <a:pt x="751" y="174"/>
                  </a:lnTo>
                  <a:lnTo>
                    <a:pt x="772" y="175"/>
                  </a:lnTo>
                  <a:lnTo>
                    <a:pt x="791" y="176"/>
                  </a:lnTo>
                  <a:lnTo>
                    <a:pt x="808" y="175"/>
                  </a:lnTo>
                  <a:lnTo>
                    <a:pt x="822" y="174"/>
                  </a:lnTo>
                  <a:lnTo>
                    <a:pt x="841" y="172"/>
                  </a:lnTo>
                  <a:lnTo>
                    <a:pt x="848" y="171"/>
                  </a:lnTo>
                  <a:lnTo>
                    <a:pt x="845" y="174"/>
                  </a:lnTo>
                  <a:lnTo>
                    <a:pt x="834" y="183"/>
                  </a:lnTo>
                  <a:lnTo>
                    <a:pt x="817" y="196"/>
                  </a:lnTo>
                  <a:lnTo>
                    <a:pt x="796" y="211"/>
                  </a:lnTo>
                  <a:lnTo>
                    <a:pt x="784" y="218"/>
                  </a:lnTo>
                  <a:lnTo>
                    <a:pt x="771" y="226"/>
                  </a:lnTo>
                  <a:lnTo>
                    <a:pt x="758" y="232"/>
                  </a:lnTo>
                  <a:lnTo>
                    <a:pt x="745" y="239"/>
                  </a:lnTo>
                  <a:lnTo>
                    <a:pt x="731" y="245"/>
                  </a:lnTo>
                  <a:lnTo>
                    <a:pt x="717" y="250"/>
                  </a:lnTo>
                  <a:lnTo>
                    <a:pt x="703" y="253"/>
                  </a:lnTo>
                  <a:lnTo>
                    <a:pt x="690" y="255"/>
                  </a:lnTo>
                  <a:lnTo>
                    <a:pt x="674" y="254"/>
                  </a:lnTo>
                  <a:lnTo>
                    <a:pt x="655" y="253"/>
                  </a:lnTo>
                  <a:lnTo>
                    <a:pt x="631" y="250"/>
                  </a:lnTo>
                  <a:lnTo>
                    <a:pt x="605" y="245"/>
                  </a:lnTo>
                  <a:lnTo>
                    <a:pt x="546" y="235"/>
                  </a:lnTo>
                  <a:lnTo>
                    <a:pt x="486" y="222"/>
                  </a:lnTo>
                  <a:lnTo>
                    <a:pt x="429" y="210"/>
                  </a:lnTo>
                  <a:lnTo>
                    <a:pt x="381" y="199"/>
                  </a:lnTo>
                  <a:lnTo>
                    <a:pt x="349" y="190"/>
                  </a:lnTo>
                  <a:lnTo>
                    <a:pt x="336" y="188"/>
                  </a:lnTo>
                  <a:lnTo>
                    <a:pt x="0" y="87"/>
                  </a:lnTo>
                  <a:lnTo>
                    <a:pt x="10" y="52"/>
                  </a:lnTo>
                  <a:close/>
                </a:path>
              </a:pathLst>
            </a:custGeom>
            <a:solidFill>
              <a:srgbClr val="b5b5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889600" y="5092920"/>
              <a:ext cx="262080" cy="74520"/>
            </a:xfrm>
            <a:custGeom>
              <a:avLst/>
              <a:gdLst/>
              <a:ahLst/>
              <a:rect l="l" t="t" r="r" b="b"/>
              <a:pathLst>
                <a:path w="826" h="233">
                  <a:moveTo>
                    <a:pt x="512" y="89"/>
                  </a:moveTo>
                  <a:lnTo>
                    <a:pt x="485" y="72"/>
                  </a:lnTo>
                  <a:lnTo>
                    <a:pt x="459" y="58"/>
                  </a:lnTo>
                  <a:lnTo>
                    <a:pt x="435" y="45"/>
                  </a:lnTo>
                  <a:lnTo>
                    <a:pt x="413" y="34"/>
                  </a:lnTo>
                  <a:lnTo>
                    <a:pt x="392" y="25"/>
                  </a:lnTo>
                  <a:lnTo>
                    <a:pt x="373" y="17"/>
                  </a:lnTo>
                  <a:lnTo>
                    <a:pt x="354" y="11"/>
                  </a:lnTo>
                  <a:lnTo>
                    <a:pt x="337" y="6"/>
                  </a:lnTo>
                  <a:lnTo>
                    <a:pt x="321" y="3"/>
                  </a:lnTo>
                  <a:lnTo>
                    <a:pt x="306" y="1"/>
                  </a:lnTo>
                  <a:lnTo>
                    <a:pt x="292" y="0"/>
                  </a:lnTo>
                  <a:lnTo>
                    <a:pt x="279" y="0"/>
                  </a:lnTo>
                  <a:lnTo>
                    <a:pt x="267" y="1"/>
                  </a:lnTo>
                  <a:lnTo>
                    <a:pt x="255" y="3"/>
                  </a:lnTo>
                  <a:lnTo>
                    <a:pt x="243" y="6"/>
                  </a:lnTo>
                  <a:lnTo>
                    <a:pt x="232" y="11"/>
                  </a:lnTo>
                  <a:lnTo>
                    <a:pt x="220" y="14"/>
                  </a:lnTo>
                  <a:lnTo>
                    <a:pt x="206" y="18"/>
                  </a:lnTo>
                  <a:lnTo>
                    <a:pt x="190" y="21"/>
                  </a:lnTo>
                  <a:lnTo>
                    <a:pt x="173" y="24"/>
                  </a:lnTo>
                  <a:lnTo>
                    <a:pt x="136" y="29"/>
                  </a:lnTo>
                  <a:lnTo>
                    <a:pt x="97" y="32"/>
                  </a:lnTo>
                  <a:lnTo>
                    <a:pt x="61" y="34"/>
                  </a:lnTo>
                  <a:lnTo>
                    <a:pt x="32" y="36"/>
                  </a:lnTo>
                  <a:lnTo>
                    <a:pt x="13" y="36"/>
                  </a:lnTo>
                  <a:lnTo>
                    <a:pt x="5" y="38"/>
                  </a:lnTo>
                  <a:lnTo>
                    <a:pt x="0" y="65"/>
                  </a:lnTo>
                  <a:lnTo>
                    <a:pt x="336" y="166"/>
                  </a:lnTo>
                  <a:lnTo>
                    <a:pt x="349" y="168"/>
                  </a:lnTo>
                  <a:lnTo>
                    <a:pt x="381" y="177"/>
                  </a:lnTo>
                  <a:lnTo>
                    <a:pt x="429" y="188"/>
                  </a:lnTo>
                  <a:lnTo>
                    <a:pt x="486" y="200"/>
                  </a:lnTo>
                  <a:lnTo>
                    <a:pt x="546" y="213"/>
                  </a:lnTo>
                  <a:lnTo>
                    <a:pt x="605" y="223"/>
                  </a:lnTo>
                  <a:lnTo>
                    <a:pt x="631" y="228"/>
                  </a:lnTo>
                  <a:lnTo>
                    <a:pt x="655" y="231"/>
                  </a:lnTo>
                  <a:lnTo>
                    <a:pt x="674" y="232"/>
                  </a:lnTo>
                  <a:lnTo>
                    <a:pt x="690" y="233"/>
                  </a:lnTo>
                  <a:lnTo>
                    <a:pt x="703" y="231"/>
                  </a:lnTo>
                  <a:lnTo>
                    <a:pt x="716" y="228"/>
                  </a:lnTo>
                  <a:lnTo>
                    <a:pt x="729" y="223"/>
                  </a:lnTo>
                  <a:lnTo>
                    <a:pt x="741" y="219"/>
                  </a:lnTo>
                  <a:lnTo>
                    <a:pt x="753" y="214"/>
                  </a:lnTo>
                  <a:lnTo>
                    <a:pt x="765" y="207"/>
                  </a:lnTo>
                  <a:lnTo>
                    <a:pt x="774" y="201"/>
                  </a:lnTo>
                  <a:lnTo>
                    <a:pt x="785" y="193"/>
                  </a:lnTo>
                  <a:lnTo>
                    <a:pt x="801" y="180"/>
                  </a:lnTo>
                  <a:lnTo>
                    <a:pt x="814" y="169"/>
                  </a:lnTo>
                  <a:lnTo>
                    <a:pt x="823" y="162"/>
                  </a:lnTo>
                  <a:lnTo>
                    <a:pt x="826" y="159"/>
                  </a:lnTo>
                  <a:lnTo>
                    <a:pt x="819" y="160"/>
                  </a:lnTo>
                  <a:lnTo>
                    <a:pt x="800" y="162"/>
                  </a:lnTo>
                  <a:lnTo>
                    <a:pt x="786" y="163"/>
                  </a:lnTo>
                  <a:lnTo>
                    <a:pt x="770" y="163"/>
                  </a:lnTo>
                  <a:lnTo>
                    <a:pt x="752" y="163"/>
                  </a:lnTo>
                  <a:lnTo>
                    <a:pt x="731" y="162"/>
                  </a:lnTo>
                  <a:lnTo>
                    <a:pt x="709" y="160"/>
                  </a:lnTo>
                  <a:lnTo>
                    <a:pt x="684" y="155"/>
                  </a:lnTo>
                  <a:lnTo>
                    <a:pt x="658" y="150"/>
                  </a:lnTo>
                  <a:lnTo>
                    <a:pt x="631" y="142"/>
                  </a:lnTo>
                  <a:lnTo>
                    <a:pt x="603" y="134"/>
                  </a:lnTo>
                  <a:lnTo>
                    <a:pt x="572" y="121"/>
                  </a:lnTo>
                  <a:lnTo>
                    <a:pt x="558" y="114"/>
                  </a:lnTo>
                  <a:lnTo>
                    <a:pt x="542" y="107"/>
                  </a:lnTo>
                  <a:lnTo>
                    <a:pt x="527" y="98"/>
                  </a:lnTo>
                  <a:lnTo>
                    <a:pt x="512" y="89"/>
                  </a:lnTo>
                  <a:close/>
                </a:path>
              </a:pathLst>
            </a:custGeom>
            <a:solidFill>
              <a:srgbClr val="a9a9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889600" y="5100840"/>
              <a:ext cx="254160" cy="66600"/>
            </a:xfrm>
            <a:custGeom>
              <a:avLst/>
              <a:gdLst/>
              <a:ahLst/>
              <a:rect l="l" t="t" r="r" b="b"/>
              <a:pathLst>
                <a:path w="804" h="212">
                  <a:moveTo>
                    <a:pt x="492" y="80"/>
                  </a:moveTo>
                  <a:lnTo>
                    <a:pt x="468" y="66"/>
                  </a:lnTo>
                  <a:lnTo>
                    <a:pt x="444" y="53"/>
                  </a:lnTo>
                  <a:lnTo>
                    <a:pt x="422" y="41"/>
                  </a:lnTo>
                  <a:lnTo>
                    <a:pt x="401" y="32"/>
                  </a:lnTo>
                  <a:lnTo>
                    <a:pt x="381" y="23"/>
                  </a:lnTo>
                  <a:lnTo>
                    <a:pt x="363" y="17"/>
                  </a:lnTo>
                  <a:lnTo>
                    <a:pt x="346" y="10"/>
                  </a:lnTo>
                  <a:lnTo>
                    <a:pt x="329" y="6"/>
                  </a:lnTo>
                  <a:lnTo>
                    <a:pt x="313" y="3"/>
                  </a:lnTo>
                  <a:lnTo>
                    <a:pt x="299" y="0"/>
                  </a:lnTo>
                  <a:lnTo>
                    <a:pt x="285" y="0"/>
                  </a:lnTo>
                  <a:lnTo>
                    <a:pt x="272" y="0"/>
                  </a:lnTo>
                  <a:lnTo>
                    <a:pt x="259" y="1"/>
                  </a:lnTo>
                  <a:lnTo>
                    <a:pt x="247" y="4"/>
                  </a:lnTo>
                  <a:lnTo>
                    <a:pt x="236" y="7"/>
                  </a:lnTo>
                  <a:lnTo>
                    <a:pt x="225" y="11"/>
                  </a:lnTo>
                  <a:lnTo>
                    <a:pt x="213" y="15"/>
                  </a:lnTo>
                  <a:lnTo>
                    <a:pt x="199" y="18"/>
                  </a:lnTo>
                  <a:lnTo>
                    <a:pt x="184" y="21"/>
                  </a:lnTo>
                  <a:lnTo>
                    <a:pt x="166" y="22"/>
                  </a:lnTo>
                  <a:lnTo>
                    <a:pt x="130" y="24"/>
                  </a:lnTo>
                  <a:lnTo>
                    <a:pt x="93" y="24"/>
                  </a:lnTo>
                  <a:lnTo>
                    <a:pt x="58" y="24"/>
                  </a:lnTo>
                  <a:lnTo>
                    <a:pt x="29" y="23"/>
                  </a:lnTo>
                  <a:lnTo>
                    <a:pt x="10" y="22"/>
                  </a:lnTo>
                  <a:lnTo>
                    <a:pt x="2" y="21"/>
                  </a:lnTo>
                  <a:lnTo>
                    <a:pt x="0" y="44"/>
                  </a:lnTo>
                  <a:lnTo>
                    <a:pt x="336" y="145"/>
                  </a:lnTo>
                  <a:lnTo>
                    <a:pt x="349" y="147"/>
                  </a:lnTo>
                  <a:lnTo>
                    <a:pt x="381" y="156"/>
                  </a:lnTo>
                  <a:lnTo>
                    <a:pt x="429" y="167"/>
                  </a:lnTo>
                  <a:lnTo>
                    <a:pt x="486" y="179"/>
                  </a:lnTo>
                  <a:lnTo>
                    <a:pt x="546" y="192"/>
                  </a:lnTo>
                  <a:lnTo>
                    <a:pt x="605" y="202"/>
                  </a:lnTo>
                  <a:lnTo>
                    <a:pt x="631" y="207"/>
                  </a:lnTo>
                  <a:lnTo>
                    <a:pt x="655" y="210"/>
                  </a:lnTo>
                  <a:lnTo>
                    <a:pt x="674" y="211"/>
                  </a:lnTo>
                  <a:lnTo>
                    <a:pt x="690" y="212"/>
                  </a:lnTo>
                  <a:lnTo>
                    <a:pt x="703" y="210"/>
                  </a:lnTo>
                  <a:lnTo>
                    <a:pt x="715" y="208"/>
                  </a:lnTo>
                  <a:lnTo>
                    <a:pt x="727" y="203"/>
                  </a:lnTo>
                  <a:lnTo>
                    <a:pt x="738" y="199"/>
                  </a:lnTo>
                  <a:lnTo>
                    <a:pt x="749" y="194"/>
                  </a:lnTo>
                  <a:lnTo>
                    <a:pt x="757" y="188"/>
                  </a:lnTo>
                  <a:lnTo>
                    <a:pt x="766" y="182"/>
                  </a:lnTo>
                  <a:lnTo>
                    <a:pt x="773" y="176"/>
                  </a:lnTo>
                  <a:lnTo>
                    <a:pt x="786" y="165"/>
                  </a:lnTo>
                  <a:lnTo>
                    <a:pt x="796" y="155"/>
                  </a:lnTo>
                  <a:lnTo>
                    <a:pt x="801" y="147"/>
                  </a:lnTo>
                  <a:lnTo>
                    <a:pt x="804" y="145"/>
                  </a:lnTo>
                  <a:lnTo>
                    <a:pt x="797" y="146"/>
                  </a:lnTo>
                  <a:lnTo>
                    <a:pt x="779" y="148"/>
                  </a:lnTo>
                  <a:lnTo>
                    <a:pt x="765" y="149"/>
                  </a:lnTo>
                  <a:lnTo>
                    <a:pt x="750" y="150"/>
                  </a:lnTo>
                  <a:lnTo>
                    <a:pt x="731" y="150"/>
                  </a:lnTo>
                  <a:lnTo>
                    <a:pt x="711" y="149"/>
                  </a:lnTo>
                  <a:lnTo>
                    <a:pt x="689" y="147"/>
                  </a:lnTo>
                  <a:lnTo>
                    <a:pt x="664" y="144"/>
                  </a:lnTo>
                  <a:lnTo>
                    <a:pt x="638" y="140"/>
                  </a:lnTo>
                  <a:lnTo>
                    <a:pt x="611" y="132"/>
                  </a:lnTo>
                  <a:lnTo>
                    <a:pt x="583" y="123"/>
                  </a:lnTo>
                  <a:lnTo>
                    <a:pt x="554" y="112"/>
                  </a:lnTo>
                  <a:lnTo>
                    <a:pt x="539" y="105"/>
                  </a:lnTo>
                  <a:lnTo>
                    <a:pt x="524" y="98"/>
                  </a:lnTo>
                  <a:lnTo>
                    <a:pt x="508" y="89"/>
                  </a:lnTo>
                  <a:lnTo>
                    <a:pt x="492" y="80"/>
                  </a:lnTo>
                  <a:close/>
                </a:path>
              </a:pathLst>
            </a:custGeom>
            <a:solidFill>
              <a:srgbClr val="a0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889600" y="5106960"/>
              <a:ext cx="247680" cy="60480"/>
            </a:xfrm>
            <a:custGeom>
              <a:avLst/>
              <a:gdLst/>
              <a:ahLst/>
              <a:rect l="l" t="t" r="r" b="b"/>
              <a:pathLst>
                <a:path w="781" h="190">
                  <a:moveTo>
                    <a:pt x="472" y="73"/>
                  </a:moveTo>
                  <a:lnTo>
                    <a:pt x="449" y="60"/>
                  </a:lnTo>
                  <a:lnTo>
                    <a:pt x="428" y="50"/>
                  </a:lnTo>
                  <a:lnTo>
                    <a:pt x="408" y="40"/>
                  </a:lnTo>
                  <a:lnTo>
                    <a:pt x="389" y="31"/>
                  </a:lnTo>
                  <a:lnTo>
                    <a:pt x="370" y="24"/>
                  </a:lnTo>
                  <a:lnTo>
                    <a:pt x="352" y="17"/>
                  </a:lnTo>
                  <a:lnTo>
                    <a:pt x="336" y="11"/>
                  </a:lnTo>
                  <a:lnTo>
                    <a:pt x="320" y="6"/>
                  </a:lnTo>
                  <a:lnTo>
                    <a:pt x="305" y="3"/>
                  </a:lnTo>
                  <a:lnTo>
                    <a:pt x="290" y="1"/>
                  </a:lnTo>
                  <a:lnTo>
                    <a:pt x="278" y="0"/>
                  </a:lnTo>
                  <a:lnTo>
                    <a:pt x="265" y="0"/>
                  </a:lnTo>
                  <a:lnTo>
                    <a:pt x="252" y="1"/>
                  </a:lnTo>
                  <a:lnTo>
                    <a:pt x="240" y="2"/>
                  </a:lnTo>
                  <a:lnTo>
                    <a:pt x="229" y="5"/>
                  </a:lnTo>
                  <a:lnTo>
                    <a:pt x="218" y="9"/>
                  </a:lnTo>
                  <a:lnTo>
                    <a:pt x="206" y="13"/>
                  </a:lnTo>
                  <a:lnTo>
                    <a:pt x="192" y="15"/>
                  </a:lnTo>
                  <a:lnTo>
                    <a:pt x="176" y="17"/>
                  </a:lnTo>
                  <a:lnTo>
                    <a:pt x="160" y="18"/>
                  </a:lnTo>
                  <a:lnTo>
                    <a:pt x="124" y="18"/>
                  </a:lnTo>
                  <a:lnTo>
                    <a:pt x="87" y="16"/>
                  </a:lnTo>
                  <a:lnTo>
                    <a:pt x="54" y="13"/>
                  </a:lnTo>
                  <a:lnTo>
                    <a:pt x="26" y="10"/>
                  </a:lnTo>
                  <a:lnTo>
                    <a:pt x="7" y="8"/>
                  </a:lnTo>
                  <a:lnTo>
                    <a:pt x="0" y="6"/>
                  </a:lnTo>
                  <a:lnTo>
                    <a:pt x="0" y="22"/>
                  </a:lnTo>
                  <a:lnTo>
                    <a:pt x="336" y="123"/>
                  </a:lnTo>
                  <a:lnTo>
                    <a:pt x="349" y="125"/>
                  </a:lnTo>
                  <a:lnTo>
                    <a:pt x="381" y="134"/>
                  </a:lnTo>
                  <a:lnTo>
                    <a:pt x="429" y="145"/>
                  </a:lnTo>
                  <a:lnTo>
                    <a:pt x="486" y="157"/>
                  </a:lnTo>
                  <a:lnTo>
                    <a:pt x="546" y="170"/>
                  </a:lnTo>
                  <a:lnTo>
                    <a:pt x="605" y="180"/>
                  </a:lnTo>
                  <a:lnTo>
                    <a:pt x="631" y="185"/>
                  </a:lnTo>
                  <a:lnTo>
                    <a:pt x="655" y="188"/>
                  </a:lnTo>
                  <a:lnTo>
                    <a:pt x="674" y="189"/>
                  </a:lnTo>
                  <a:lnTo>
                    <a:pt x="690" y="190"/>
                  </a:lnTo>
                  <a:lnTo>
                    <a:pt x="703" y="188"/>
                  </a:lnTo>
                  <a:lnTo>
                    <a:pt x="714" y="186"/>
                  </a:lnTo>
                  <a:lnTo>
                    <a:pt x="725" y="182"/>
                  </a:lnTo>
                  <a:lnTo>
                    <a:pt x="734" y="178"/>
                  </a:lnTo>
                  <a:lnTo>
                    <a:pt x="743" y="174"/>
                  </a:lnTo>
                  <a:lnTo>
                    <a:pt x="751" y="170"/>
                  </a:lnTo>
                  <a:lnTo>
                    <a:pt x="757" y="164"/>
                  </a:lnTo>
                  <a:lnTo>
                    <a:pt x="763" y="159"/>
                  </a:lnTo>
                  <a:lnTo>
                    <a:pt x="771" y="149"/>
                  </a:lnTo>
                  <a:lnTo>
                    <a:pt x="778" y="140"/>
                  </a:lnTo>
                  <a:lnTo>
                    <a:pt x="780" y="135"/>
                  </a:lnTo>
                  <a:lnTo>
                    <a:pt x="781" y="133"/>
                  </a:lnTo>
                  <a:lnTo>
                    <a:pt x="776" y="134"/>
                  </a:lnTo>
                  <a:lnTo>
                    <a:pt x="757" y="136"/>
                  </a:lnTo>
                  <a:lnTo>
                    <a:pt x="744" y="137"/>
                  </a:lnTo>
                  <a:lnTo>
                    <a:pt x="729" y="138"/>
                  </a:lnTo>
                  <a:lnTo>
                    <a:pt x="711" y="138"/>
                  </a:lnTo>
                  <a:lnTo>
                    <a:pt x="691" y="137"/>
                  </a:lnTo>
                  <a:lnTo>
                    <a:pt x="669" y="135"/>
                  </a:lnTo>
                  <a:lnTo>
                    <a:pt x="645" y="133"/>
                  </a:lnTo>
                  <a:lnTo>
                    <a:pt x="620" y="127"/>
                  </a:lnTo>
                  <a:lnTo>
                    <a:pt x="593" y="121"/>
                  </a:lnTo>
                  <a:lnTo>
                    <a:pt x="564" y="112"/>
                  </a:lnTo>
                  <a:lnTo>
                    <a:pt x="535" y="103"/>
                  </a:lnTo>
                  <a:lnTo>
                    <a:pt x="504" y="90"/>
                  </a:lnTo>
                  <a:lnTo>
                    <a:pt x="472" y="73"/>
                  </a:lnTo>
                  <a:close/>
                </a:path>
              </a:pathLst>
            </a:custGeom>
            <a:solidFill>
              <a:srgbClr val="9695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888160" y="5112000"/>
              <a:ext cx="241200" cy="55440"/>
            </a:xfrm>
            <a:custGeom>
              <a:avLst/>
              <a:gdLst/>
              <a:ahLst/>
              <a:rect l="l" t="t" r="r" b="b"/>
              <a:pathLst>
                <a:path w="761" h="176">
                  <a:moveTo>
                    <a:pt x="0" y="0"/>
                  </a:moveTo>
                  <a:lnTo>
                    <a:pt x="6" y="1"/>
                  </a:lnTo>
                  <a:lnTo>
                    <a:pt x="25" y="5"/>
                  </a:lnTo>
                  <a:lnTo>
                    <a:pt x="52" y="11"/>
                  </a:lnTo>
                  <a:lnTo>
                    <a:pt x="85" y="16"/>
                  </a:lnTo>
                  <a:lnTo>
                    <a:pt x="120" y="19"/>
                  </a:lnTo>
                  <a:lnTo>
                    <a:pt x="155" y="22"/>
                  </a:lnTo>
                  <a:lnTo>
                    <a:pt x="171" y="22"/>
                  </a:lnTo>
                  <a:lnTo>
                    <a:pt x="187" y="21"/>
                  </a:lnTo>
                  <a:lnTo>
                    <a:pt x="201" y="18"/>
                  </a:lnTo>
                  <a:lnTo>
                    <a:pt x="213" y="15"/>
                  </a:lnTo>
                  <a:lnTo>
                    <a:pt x="223" y="11"/>
                  </a:lnTo>
                  <a:lnTo>
                    <a:pt x="234" y="9"/>
                  </a:lnTo>
                  <a:lnTo>
                    <a:pt x="246" y="6"/>
                  </a:lnTo>
                  <a:lnTo>
                    <a:pt x="259" y="6"/>
                  </a:lnTo>
                  <a:lnTo>
                    <a:pt x="272" y="6"/>
                  </a:lnTo>
                  <a:lnTo>
                    <a:pt x="285" y="8"/>
                  </a:lnTo>
                  <a:lnTo>
                    <a:pt x="299" y="11"/>
                  </a:lnTo>
                  <a:lnTo>
                    <a:pt x="314" y="14"/>
                  </a:lnTo>
                  <a:lnTo>
                    <a:pt x="329" y="17"/>
                  </a:lnTo>
                  <a:lnTo>
                    <a:pt x="345" y="23"/>
                  </a:lnTo>
                  <a:lnTo>
                    <a:pt x="362" y="29"/>
                  </a:lnTo>
                  <a:lnTo>
                    <a:pt x="379" y="36"/>
                  </a:lnTo>
                  <a:lnTo>
                    <a:pt x="416" y="52"/>
                  </a:lnTo>
                  <a:lnTo>
                    <a:pt x="455" y="71"/>
                  </a:lnTo>
                  <a:lnTo>
                    <a:pt x="487" y="87"/>
                  </a:lnTo>
                  <a:lnTo>
                    <a:pt x="517" y="99"/>
                  </a:lnTo>
                  <a:lnTo>
                    <a:pt x="547" y="110"/>
                  </a:lnTo>
                  <a:lnTo>
                    <a:pt x="576" y="118"/>
                  </a:lnTo>
                  <a:lnTo>
                    <a:pt x="603" y="124"/>
                  </a:lnTo>
                  <a:lnTo>
                    <a:pt x="627" y="129"/>
                  </a:lnTo>
                  <a:lnTo>
                    <a:pt x="651" y="132"/>
                  </a:lnTo>
                  <a:lnTo>
                    <a:pt x="673" y="134"/>
                  </a:lnTo>
                  <a:lnTo>
                    <a:pt x="692" y="134"/>
                  </a:lnTo>
                  <a:lnTo>
                    <a:pt x="709" y="134"/>
                  </a:lnTo>
                  <a:lnTo>
                    <a:pt x="725" y="133"/>
                  </a:lnTo>
                  <a:lnTo>
                    <a:pt x="738" y="132"/>
                  </a:lnTo>
                  <a:lnTo>
                    <a:pt x="755" y="130"/>
                  </a:lnTo>
                  <a:lnTo>
                    <a:pt x="761" y="129"/>
                  </a:lnTo>
                  <a:lnTo>
                    <a:pt x="761" y="131"/>
                  </a:lnTo>
                  <a:lnTo>
                    <a:pt x="760" y="135"/>
                  </a:lnTo>
                  <a:lnTo>
                    <a:pt x="758" y="143"/>
                  </a:lnTo>
                  <a:lnTo>
                    <a:pt x="754" y="150"/>
                  </a:lnTo>
                  <a:lnTo>
                    <a:pt x="749" y="154"/>
                  </a:lnTo>
                  <a:lnTo>
                    <a:pt x="745" y="159"/>
                  </a:lnTo>
                  <a:lnTo>
                    <a:pt x="740" y="162"/>
                  </a:lnTo>
                  <a:lnTo>
                    <a:pt x="733" y="166"/>
                  </a:lnTo>
                  <a:lnTo>
                    <a:pt x="725" y="170"/>
                  </a:lnTo>
                  <a:lnTo>
                    <a:pt x="716" y="172"/>
                  </a:lnTo>
                  <a:lnTo>
                    <a:pt x="704" y="174"/>
                  </a:lnTo>
                  <a:lnTo>
                    <a:pt x="692" y="176"/>
                  </a:lnTo>
                  <a:lnTo>
                    <a:pt x="676" y="175"/>
                  </a:lnTo>
                  <a:lnTo>
                    <a:pt x="657" y="174"/>
                  </a:lnTo>
                  <a:lnTo>
                    <a:pt x="633" y="171"/>
                  </a:lnTo>
                  <a:lnTo>
                    <a:pt x="607" y="166"/>
                  </a:lnTo>
                  <a:lnTo>
                    <a:pt x="548" y="156"/>
                  </a:lnTo>
                  <a:lnTo>
                    <a:pt x="488" y="143"/>
                  </a:lnTo>
                  <a:lnTo>
                    <a:pt x="431" y="131"/>
                  </a:lnTo>
                  <a:lnTo>
                    <a:pt x="383" y="120"/>
                  </a:lnTo>
                  <a:lnTo>
                    <a:pt x="351" y="111"/>
                  </a:lnTo>
                  <a:lnTo>
                    <a:pt x="338" y="109"/>
                  </a:lnTo>
                  <a:lnTo>
                    <a:pt x="2" y="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c8b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992920" y="5011920"/>
              <a:ext cx="114120" cy="82440"/>
            </a:xfrm>
            <a:custGeom>
              <a:avLst/>
              <a:gdLst/>
              <a:ahLst/>
              <a:rect l="l" t="t" r="r" b="b"/>
              <a:pathLst>
                <a:path w="358" h="260">
                  <a:moveTo>
                    <a:pt x="319" y="260"/>
                  </a:moveTo>
                  <a:lnTo>
                    <a:pt x="317" y="259"/>
                  </a:lnTo>
                  <a:lnTo>
                    <a:pt x="313" y="257"/>
                  </a:lnTo>
                  <a:lnTo>
                    <a:pt x="306" y="252"/>
                  </a:lnTo>
                  <a:lnTo>
                    <a:pt x="297" y="247"/>
                  </a:lnTo>
                  <a:lnTo>
                    <a:pt x="288" y="241"/>
                  </a:lnTo>
                  <a:lnTo>
                    <a:pt x="276" y="233"/>
                  </a:lnTo>
                  <a:lnTo>
                    <a:pt x="264" y="223"/>
                  </a:lnTo>
                  <a:lnTo>
                    <a:pt x="252" y="212"/>
                  </a:lnTo>
                  <a:lnTo>
                    <a:pt x="236" y="200"/>
                  </a:lnTo>
                  <a:lnTo>
                    <a:pt x="213" y="181"/>
                  </a:lnTo>
                  <a:lnTo>
                    <a:pt x="188" y="162"/>
                  </a:lnTo>
                  <a:lnTo>
                    <a:pt x="161" y="140"/>
                  </a:lnTo>
                  <a:lnTo>
                    <a:pt x="134" y="120"/>
                  </a:lnTo>
                  <a:lnTo>
                    <a:pt x="111" y="101"/>
                  </a:lnTo>
                  <a:lnTo>
                    <a:pt x="91" y="86"/>
                  </a:lnTo>
                  <a:lnTo>
                    <a:pt x="79" y="76"/>
                  </a:lnTo>
                  <a:lnTo>
                    <a:pt x="69" y="69"/>
                  </a:lnTo>
                  <a:lnTo>
                    <a:pt x="58" y="60"/>
                  </a:lnTo>
                  <a:lnTo>
                    <a:pt x="45" y="49"/>
                  </a:lnTo>
                  <a:lnTo>
                    <a:pt x="31" y="40"/>
                  </a:lnTo>
                  <a:lnTo>
                    <a:pt x="19" y="30"/>
                  </a:lnTo>
                  <a:lnTo>
                    <a:pt x="9" y="22"/>
                  </a:lnTo>
                  <a:lnTo>
                    <a:pt x="3" y="17"/>
                  </a:lnTo>
                  <a:lnTo>
                    <a:pt x="0" y="15"/>
                  </a:lnTo>
                  <a:lnTo>
                    <a:pt x="3" y="14"/>
                  </a:lnTo>
                  <a:lnTo>
                    <a:pt x="8" y="9"/>
                  </a:lnTo>
                  <a:lnTo>
                    <a:pt x="19" y="5"/>
                  </a:lnTo>
                  <a:lnTo>
                    <a:pt x="33" y="1"/>
                  </a:lnTo>
                  <a:lnTo>
                    <a:pt x="40" y="0"/>
                  </a:lnTo>
                  <a:lnTo>
                    <a:pt x="49" y="0"/>
                  </a:lnTo>
                  <a:lnTo>
                    <a:pt x="60" y="1"/>
                  </a:lnTo>
                  <a:lnTo>
                    <a:pt x="69" y="3"/>
                  </a:lnTo>
                  <a:lnTo>
                    <a:pt x="81" y="7"/>
                  </a:lnTo>
                  <a:lnTo>
                    <a:pt x="93" y="13"/>
                  </a:lnTo>
                  <a:lnTo>
                    <a:pt x="105" y="20"/>
                  </a:lnTo>
                  <a:lnTo>
                    <a:pt x="118" y="30"/>
                  </a:lnTo>
                  <a:lnTo>
                    <a:pt x="148" y="54"/>
                  </a:lnTo>
                  <a:lnTo>
                    <a:pt x="185" y="82"/>
                  </a:lnTo>
                  <a:lnTo>
                    <a:pt x="225" y="113"/>
                  </a:lnTo>
                  <a:lnTo>
                    <a:pt x="264" y="142"/>
                  </a:lnTo>
                  <a:lnTo>
                    <a:pt x="301" y="169"/>
                  </a:lnTo>
                  <a:lnTo>
                    <a:pt x="331" y="192"/>
                  </a:lnTo>
                  <a:lnTo>
                    <a:pt x="351" y="207"/>
                  </a:lnTo>
                  <a:lnTo>
                    <a:pt x="358" y="212"/>
                  </a:lnTo>
                </a:path>
              </a:pathLst>
            </a:custGeom>
            <a:noFill/>
            <a:ln w="1440">
              <a:solidFill>
                <a:srgbClr val="4d749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870520" y="5086440"/>
              <a:ext cx="285840" cy="98280"/>
            </a:xfrm>
            <a:custGeom>
              <a:avLst/>
              <a:gdLst/>
              <a:ahLst/>
              <a:rect l="l" t="t" r="r" b="b"/>
              <a:pathLst>
                <a:path w="899" h="310">
                  <a:moveTo>
                    <a:pt x="804" y="215"/>
                  </a:moveTo>
                  <a:lnTo>
                    <a:pt x="800" y="215"/>
                  </a:lnTo>
                  <a:lnTo>
                    <a:pt x="785" y="216"/>
                  </a:lnTo>
                  <a:lnTo>
                    <a:pt x="763" y="216"/>
                  </a:lnTo>
                  <a:lnTo>
                    <a:pt x="736" y="215"/>
                  </a:lnTo>
                  <a:lnTo>
                    <a:pt x="705" y="213"/>
                  </a:lnTo>
                  <a:lnTo>
                    <a:pt x="671" y="208"/>
                  </a:lnTo>
                  <a:lnTo>
                    <a:pt x="654" y="204"/>
                  </a:lnTo>
                  <a:lnTo>
                    <a:pt x="637" y="200"/>
                  </a:lnTo>
                  <a:lnTo>
                    <a:pt x="621" y="195"/>
                  </a:lnTo>
                  <a:lnTo>
                    <a:pt x="604" y="188"/>
                  </a:lnTo>
                  <a:lnTo>
                    <a:pt x="571" y="172"/>
                  </a:lnTo>
                  <a:lnTo>
                    <a:pt x="532" y="152"/>
                  </a:lnTo>
                  <a:lnTo>
                    <a:pt x="512" y="143"/>
                  </a:lnTo>
                  <a:lnTo>
                    <a:pt x="490" y="133"/>
                  </a:lnTo>
                  <a:lnTo>
                    <a:pt x="467" y="123"/>
                  </a:lnTo>
                  <a:lnTo>
                    <a:pt x="445" y="115"/>
                  </a:lnTo>
                  <a:lnTo>
                    <a:pt x="421" y="106"/>
                  </a:lnTo>
                  <a:lnTo>
                    <a:pt x="396" y="98"/>
                  </a:lnTo>
                  <a:lnTo>
                    <a:pt x="370" y="92"/>
                  </a:lnTo>
                  <a:lnTo>
                    <a:pt x="344" y="88"/>
                  </a:lnTo>
                  <a:lnTo>
                    <a:pt x="318" y="84"/>
                  </a:lnTo>
                  <a:lnTo>
                    <a:pt x="291" y="83"/>
                  </a:lnTo>
                  <a:lnTo>
                    <a:pt x="277" y="84"/>
                  </a:lnTo>
                  <a:lnTo>
                    <a:pt x="264" y="85"/>
                  </a:lnTo>
                  <a:lnTo>
                    <a:pt x="250" y="87"/>
                  </a:lnTo>
                  <a:lnTo>
                    <a:pt x="236" y="89"/>
                  </a:lnTo>
                  <a:lnTo>
                    <a:pt x="229" y="90"/>
                  </a:lnTo>
                  <a:lnTo>
                    <a:pt x="221" y="91"/>
                  </a:lnTo>
                  <a:lnTo>
                    <a:pt x="212" y="91"/>
                  </a:lnTo>
                  <a:lnTo>
                    <a:pt x="205" y="90"/>
                  </a:lnTo>
                  <a:lnTo>
                    <a:pt x="188" y="88"/>
                  </a:lnTo>
                  <a:lnTo>
                    <a:pt x="169" y="83"/>
                  </a:lnTo>
                  <a:lnTo>
                    <a:pt x="152" y="78"/>
                  </a:lnTo>
                  <a:lnTo>
                    <a:pt x="133" y="71"/>
                  </a:lnTo>
                  <a:lnTo>
                    <a:pt x="116" y="65"/>
                  </a:lnTo>
                  <a:lnTo>
                    <a:pt x="99" y="56"/>
                  </a:lnTo>
                  <a:lnTo>
                    <a:pt x="67" y="40"/>
                  </a:lnTo>
                  <a:lnTo>
                    <a:pt x="38" y="23"/>
                  </a:lnTo>
                  <a:lnTo>
                    <a:pt x="17" y="9"/>
                  </a:lnTo>
                  <a:lnTo>
                    <a:pt x="4" y="0"/>
                  </a:lnTo>
                  <a:lnTo>
                    <a:pt x="3" y="1"/>
                  </a:lnTo>
                  <a:lnTo>
                    <a:pt x="3" y="7"/>
                  </a:lnTo>
                  <a:lnTo>
                    <a:pt x="1" y="14"/>
                  </a:lnTo>
                  <a:lnTo>
                    <a:pt x="0" y="24"/>
                  </a:lnTo>
                  <a:lnTo>
                    <a:pt x="0" y="37"/>
                  </a:lnTo>
                  <a:lnTo>
                    <a:pt x="0" y="52"/>
                  </a:lnTo>
                  <a:lnTo>
                    <a:pt x="1" y="69"/>
                  </a:lnTo>
                  <a:lnTo>
                    <a:pt x="4" y="89"/>
                  </a:lnTo>
                  <a:lnTo>
                    <a:pt x="5" y="94"/>
                  </a:lnTo>
                  <a:lnTo>
                    <a:pt x="8" y="100"/>
                  </a:lnTo>
                  <a:lnTo>
                    <a:pt x="13" y="105"/>
                  </a:lnTo>
                  <a:lnTo>
                    <a:pt x="18" y="110"/>
                  </a:lnTo>
                  <a:lnTo>
                    <a:pt x="24" y="117"/>
                  </a:lnTo>
                  <a:lnTo>
                    <a:pt x="33" y="124"/>
                  </a:lnTo>
                  <a:lnTo>
                    <a:pt x="44" y="131"/>
                  </a:lnTo>
                  <a:lnTo>
                    <a:pt x="56" y="138"/>
                  </a:lnTo>
                  <a:lnTo>
                    <a:pt x="65" y="143"/>
                  </a:lnTo>
                  <a:lnTo>
                    <a:pt x="77" y="148"/>
                  </a:lnTo>
                  <a:lnTo>
                    <a:pt x="94" y="154"/>
                  </a:lnTo>
                  <a:lnTo>
                    <a:pt x="112" y="158"/>
                  </a:lnTo>
                  <a:lnTo>
                    <a:pt x="155" y="169"/>
                  </a:lnTo>
                  <a:lnTo>
                    <a:pt x="203" y="178"/>
                  </a:lnTo>
                  <a:lnTo>
                    <a:pt x="250" y="188"/>
                  </a:lnTo>
                  <a:lnTo>
                    <a:pt x="296" y="197"/>
                  </a:lnTo>
                  <a:lnTo>
                    <a:pt x="334" y="204"/>
                  </a:lnTo>
                  <a:lnTo>
                    <a:pt x="363" y="210"/>
                  </a:lnTo>
                  <a:lnTo>
                    <a:pt x="386" y="217"/>
                  </a:lnTo>
                  <a:lnTo>
                    <a:pt x="417" y="227"/>
                  </a:lnTo>
                  <a:lnTo>
                    <a:pt x="450" y="238"/>
                  </a:lnTo>
                  <a:lnTo>
                    <a:pt x="486" y="250"/>
                  </a:lnTo>
                  <a:lnTo>
                    <a:pt x="522" y="260"/>
                  </a:lnTo>
                  <a:lnTo>
                    <a:pt x="558" y="271"/>
                  </a:lnTo>
                  <a:lnTo>
                    <a:pt x="592" y="280"/>
                  </a:lnTo>
                  <a:lnTo>
                    <a:pt x="622" y="286"/>
                  </a:lnTo>
                  <a:lnTo>
                    <a:pt x="652" y="291"/>
                  </a:lnTo>
                  <a:lnTo>
                    <a:pt x="683" y="296"/>
                  </a:lnTo>
                  <a:lnTo>
                    <a:pt x="716" y="300"/>
                  </a:lnTo>
                  <a:lnTo>
                    <a:pt x="749" y="305"/>
                  </a:lnTo>
                  <a:lnTo>
                    <a:pt x="781" y="308"/>
                  </a:lnTo>
                  <a:lnTo>
                    <a:pt x="812" y="310"/>
                  </a:lnTo>
                  <a:lnTo>
                    <a:pt x="827" y="310"/>
                  </a:lnTo>
                  <a:lnTo>
                    <a:pt x="841" y="309"/>
                  </a:lnTo>
                  <a:lnTo>
                    <a:pt x="854" y="308"/>
                  </a:lnTo>
                  <a:lnTo>
                    <a:pt x="867" y="307"/>
                  </a:lnTo>
                  <a:lnTo>
                    <a:pt x="877" y="304"/>
                  </a:lnTo>
                  <a:lnTo>
                    <a:pt x="885" y="299"/>
                  </a:lnTo>
                  <a:lnTo>
                    <a:pt x="892" y="293"/>
                  </a:lnTo>
                  <a:lnTo>
                    <a:pt x="896" y="286"/>
                  </a:lnTo>
                  <a:lnTo>
                    <a:pt x="898" y="279"/>
                  </a:lnTo>
                  <a:lnTo>
                    <a:pt x="899" y="271"/>
                  </a:lnTo>
                  <a:lnTo>
                    <a:pt x="897" y="264"/>
                  </a:lnTo>
                  <a:lnTo>
                    <a:pt x="894" y="255"/>
                  </a:lnTo>
                  <a:lnTo>
                    <a:pt x="889" y="247"/>
                  </a:lnTo>
                  <a:lnTo>
                    <a:pt x="882" y="240"/>
                  </a:lnTo>
                  <a:lnTo>
                    <a:pt x="873" y="232"/>
                  </a:lnTo>
                  <a:lnTo>
                    <a:pt x="863" y="227"/>
                  </a:lnTo>
                  <a:lnTo>
                    <a:pt x="851" y="222"/>
                  </a:lnTo>
                  <a:lnTo>
                    <a:pt x="837" y="217"/>
                  </a:lnTo>
                  <a:lnTo>
                    <a:pt x="822" y="215"/>
                  </a:lnTo>
                  <a:lnTo>
                    <a:pt x="804" y="215"/>
                  </a:lnTo>
                  <a:close/>
                </a:path>
              </a:pathLst>
            </a:custGeom>
            <a:solidFill>
              <a:srgbClr val="de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870520" y="5086440"/>
              <a:ext cx="285840" cy="98280"/>
            </a:xfrm>
            <a:custGeom>
              <a:avLst/>
              <a:gdLst/>
              <a:ahLst/>
              <a:rect l="l" t="t" r="r" b="b"/>
              <a:pathLst>
                <a:path w="899" h="310">
                  <a:moveTo>
                    <a:pt x="804" y="215"/>
                  </a:moveTo>
                  <a:lnTo>
                    <a:pt x="800" y="215"/>
                  </a:lnTo>
                  <a:lnTo>
                    <a:pt x="785" y="216"/>
                  </a:lnTo>
                  <a:lnTo>
                    <a:pt x="763" y="216"/>
                  </a:lnTo>
                  <a:lnTo>
                    <a:pt x="736" y="215"/>
                  </a:lnTo>
                  <a:lnTo>
                    <a:pt x="705" y="213"/>
                  </a:lnTo>
                  <a:lnTo>
                    <a:pt x="671" y="208"/>
                  </a:lnTo>
                  <a:lnTo>
                    <a:pt x="654" y="204"/>
                  </a:lnTo>
                  <a:lnTo>
                    <a:pt x="637" y="200"/>
                  </a:lnTo>
                  <a:lnTo>
                    <a:pt x="621" y="195"/>
                  </a:lnTo>
                  <a:lnTo>
                    <a:pt x="604" y="188"/>
                  </a:lnTo>
                  <a:lnTo>
                    <a:pt x="571" y="172"/>
                  </a:lnTo>
                  <a:lnTo>
                    <a:pt x="532" y="152"/>
                  </a:lnTo>
                  <a:lnTo>
                    <a:pt x="512" y="143"/>
                  </a:lnTo>
                  <a:lnTo>
                    <a:pt x="490" y="133"/>
                  </a:lnTo>
                  <a:lnTo>
                    <a:pt x="467" y="123"/>
                  </a:lnTo>
                  <a:lnTo>
                    <a:pt x="445" y="115"/>
                  </a:lnTo>
                  <a:lnTo>
                    <a:pt x="421" y="106"/>
                  </a:lnTo>
                  <a:lnTo>
                    <a:pt x="396" y="98"/>
                  </a:lnTo>
                  <a:lnTo>
                    <a:pt x="370" y="92"/>
                  </a:lnTo>
                  <a:lnTo>
                    <a:pt x="344" y="88"/>
                  </a:lnTo>
                  <a:lnTo>
                    <a:pt x="318" y="84"/>
                  </a:lnTo>
                  <a:lnTo>
                    <a:pt x="291" y="83"/>
                  </a:lnTo>
                  <a:lnTo>
                    <a:pt x="277" y="84"/>
                  </a:lnTo>
                  <a:lnTo>
                    <a:pt x="264" y="85"/>
                  </a:lnTo>
                  <a:lnTo>
                    <a:pt x="250" y="87"/>
                  </a:lnTo>
                  <a:lnTo>
                    <a:pt x="236" y="89"/>
                  </a:lnTo>
                  <a:lnTo>
                    <a:pt x="229" y="90"/>
                  </a:lnTo>
                  <a:lnTo>
                    <a:pt x="221" y="91"/>
                  </a:lnTo>
                  <a:lnTo>
                    <a:pt x="212" y="91"/>
                  </a:lnTo>
                  <a:lnTo>
                    <a:pt x="205" y="90"/>
                  </a:lnTo>
                  <a:lnTo>
                    <a:pt x="188" y="88"/>
                  </a:lnTo>
                  <a:lnTo>
                    <a:pt x="169" y="83"/>
                  </a:lnTo>
                  <a:lnTo>
                    <a:pt x="152" y="78"/>
                  </a:lnTo>
                  <a:lnTo>
                    <a:pt x="133" y="71"/>
                  </a:lnTo>
                  <a:lnTo>
                    <a:pt x="116" y="65"/>
                  </a:lnTo>
                  <a:lnTo>
                    <a:pt x="99" y="56"/>
                  </a:lnTo>
                  <a:lnTo>
                    <a:pt x="67" y="40"/>
                  </a:lnTo>
                  <a:lnTo>
                    <a:pt x="38" y="23"/>
                  </a:lnTo>
                  <a:lnTo>
                    <a:pt x="17" y="9"/>
                  </a:lnTo>
                  <a:lnTo>
                    <a:pt x="4" y="0"/>
                  </a:lnTo>
                  <a:lnTo>
                    <a:pt x="3" y="1"/>
                  </a:lnTo>
                  <a:lnTo>
                    <a:pt x="3" y="7"/>
                  </a:lnTo>
                  <a:lnTo>
                    <a:pt x="1" y="14"/>
                  </a:lnTo>
                  <a:lnTo>
                    <a:pt x="0" y="24"/>
                  </a:lnTo>
                  <a:lnTo>
                    <a:pt x="0" y="37"/>
                  </a:lnTo>
                  <a:lnTo>
                    <a:pt x="0" y="52"/>
                  </a:lnTo>
                  <a:lnTo>
                    <a:pt x="1" y="69"/>
                  </a:lnTo>
                  <a:lnTo>
                    <a:pt x="4" y="89"/>
                  </a:lnTo>
                  <a:lnTo>
                    <a:pt x="5" y="94"/>
                  </a:lnTo>
                  <a:lnTo>
                    <a:pt x="8" y="100"/>
                  </a:lnTo>
                  <a:lnTo>
                    <a:pt x="13" y="105"/>
                  </a:lnTo>
                  <a:lnTo>
                    <a:pt x="18" y="110"/>
                  </a:lnTo>
                  <a:lnTo>
                    <a:pt x="24" y="117"/>
                  </a:lnTo>
                  <a:lnTo>
                    <a:pt x="33" y="124"/>
                  </a:lnTo>
                  <a:lnTo>
                    <a:pt x="44" y="131"/>
                  </a:lnTo>
                  <a:lnTo>
                    <a:pt x="56" y="138"/>
                  </a:lnTo>
                  <a:lnTo>
                    <a:pt x="65" y="143"/>
                  </a:lnTo>
                  <a:lnTo>
                    <a:pt x="77" y="148"/>
                  </a:lnTo>
                  <a:lnTo>
                    <a:pt x="94" y="154"/>
                  </a:lnTo>
                  <a:lnTo>
                    <a:pt x="112" y="158"/>
                  </a:lnTo>
                  <a:lnTo>
                    <a:pt x="155" y="169"/>
                  </a:lnTo>
                  <a:lnTo>
                    <a:pt x="203" y="178"/>
                  </a:lnTo>
                  <a:lnTo>
                    <a:pt x="250" y="188"/>
                  </a:lnTo>
                  <a:lnTo>
                    <a:pt x="296" y="197"/>
                  </a:lnTo>
                  <a:lnTo>
                    <a:pt x="334" y="204"/>
                  </a:lnTo>
                  <a:lnTo>
                    <a:pt x="363" y="210"/>
                  </a:lnTo>
                  <a:lnTo>
                    <a:pt x="386" y="217"/>
                  </a:lnTo>
                  <a:lnTo>
                    <a:pt x="417" y="227"/>
                  </a:lnTo>
                  <a:lnTo>
                    <a:pt x="450" y="238"/>
                  </a:lnTo>
                  <a:lnTo>
                    <a:pt x="486" y="250"/>
                  </a:lnTo>
                  <a:lnTo>
                    <a:pt x="522" y="260"/>
                  </a:lnTo>
                  <a:lnTo>
                    <a:pt x="558" y="271"/>
                  </a:lnTo>
                  <a:lnTo>
                    <a:pt x="592" y="280"/>
                  </a:lnTo>
                  <a:lnTo>
                    <a:pt x="622" y="286"/>
                  </a:lnTo>
                  <a:lnTo>
                    <a:pt x="652" y="291"/>
                  </a:lnTo>
                  <a:lnTo>
                    <a:pt x="683" y="296"/>
                  </a:lnTo>
                  <a:lnTo>
                    <a:pt x="716" y="300"/>
                  </a:lnTo>
                  <a:lnTo>
                    <a:pt x="749" y="305"/>
                  </a:lnTo>
                  <a:lnTo>
                    <a:pt x="781" y="308"/>
                  </a:lnTo>
                  <a:lnTo>
                    <a:pt x="812" y="310"/>
                  </a:lnTo>
                  <a:lnTo>
                    <a:pt x="827" y="310"/>
                  </a:lnTo>
                  <a:lnTo>
                    <a:pt x="841" y="309"/>
                  </a:lnTo>
                  <a:lnTo>
                    <a:pt x="854" y="308"/>
                  </a:lnTo>
                  <a:lnTo>
                    <a:pt x="867" y="307"/>
                  </a:lnTo>
                  <a:lnTo>
                    <a:pt x="877" y="304"/>
                  </a:lnTo>
                  <a:lnTo>
                    <a:pt x="885" y="299"/>
                  </a:lnTo>
                  <a:lnTo>
                    <a:pt x="892" y="293"/>
                  </a:lnTo>
                  <a:lnTo>
                    <a:pt x="896" y="286"/>
                  </a:lnTo>
                  <a:lnTo>
                    <a:pt x="898" y="279"/>
                  </a:lnTo>
                  <a:lnTo>
                    <a:pt x="899" y="271"/>
                  </a:lnTo>
                  <a:lnTo>
                    <a:pt x="897" y="264"/>
                  </a:lnTo>
                  <a:lnTo>
                    <a:pt x="894" y="255"/>
                  </a:lnTo>
                  <a:lnTo>
                    <a:pt x="889" y="247"/>
                  </a:lnTo>
                  <a:lnTo>
                    <a:pt x="882" y="240"/>
                  </a:lnTo>
                  <a:lnTo>
                    <a:pt x="873" y="232"/>
                  </a:lnTo>
                  <a:lnTo>
                    <a:pt x="863" y="227"/>
                  </a:lnTo>
                  <a:lnTo>
                    <a:pt x="851" y="222"/>
                  </a:lnTo>
                  <a:lnTo>
                    <a:pt x="837" y="217"/>
                  </a:lnTo>
                  <a:lnTo>
                    <a:pt x="822" y="215"/>
                  </a:lnTo>
                  <a:lnTo>
                    <a:pt x="804" y="215"/>
                  </a:lnTo>
                </a:path>
              </a:pathLst>
            </a:custGeom>
            <a:noFill/>
            <a:ln w="1440">
              <a:solidFill>
                <a:srgbClr val="57545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006960" y="4975200"/>
              <a:ext cx="36720" cy="25560"/>
            </a:xfrm>
            <a:custGeom>
              <a:avLst/>
              <a:gdLst/>
              <a:ahLst/>
              <a:rect l="l" t="t" r="r" b="b"/>
              <a:pathLst>
                <a:path w="119" h="79">
                  <a:moveTo>
                    <a:pt x="107" y="0"/>
                  </a:moveTo>
                  <a:lnTo>
                    <a:pt x="104" y="1"/>
                  </a:lnTo>
                  <a:lnTo>
                    <a:pt x="97" y="5"/>
                  </a:lnTo>
                  <a:lnTo>
                    <a:pt x="86" y="9"/>
                  </a:lnTo>
                  <a:lnTo>
                    <a:pt x="71" y="14"/>
                  </a:lnTo>
                  <a:lnTo>
                    <a:pt x="54" y="20"/>
                  </a:lnTo>
                  <a:lnTo>
                    <a:pt x="36" y="24"/>
                  </a:lnTo>
                  <a:lnTo>
                    <a:pt x="19" y="28"/>
                  </a:lnTo>
                  <a:lnTo>
                    <a:pt x="0" y="31"/>
                  </a:lnTo>
                  <a:lnTo>
                    <a:pt x="13" y="79"/>
                  </a:lnTo>
                  <a:lnTo>
                    <a:pt x="17" y="78"/>
                  </a:lnTo>
                  <a:lnTo>
                    <a:pt x="26" y="76"/>
                  </a:lnTo>
                  <a:lnTo>
                    <a:pt x="40" y="73"/>
                  </a:lnTo>
                  <a:lnTo>
                    <a:pt x="58" y="67"/>
                  </a:lnTo>
                  <a:lnTo>
                    <a:pt x="75" y="62"/>
                  </a:lnTo>
                  <a:lnTo>
                    <a:pt x="92" y="56"/>
                  </a:lnTo>
                  <a:lnTo>
                    <a:pt x="108" y="51"/>
                  </a:lnTo>
                  <a:lnTo>
                    <a:pt x="119" y="45"/>
                  </a:lnTo>
                  <a:lnTo>
                    <a:pt x="107" y="0"/>
                  </a:lnTo>
                  <a:close/>
                </a:path>
              </a:pathLst>
            </a:custGeom>
            <a:solidFill>
              <a:srgbClr val="4d74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006960" y="4975200"/>
              <a:ext cx="36720" cy="25560"/>
            </a:xfrm>
            <a:custGeom>
              <a:avLst/>
              <a:gdLst/>
              <a:ahLst/>
              <a:rect l="l" t="t" r="r" b="b"/>
              <a:pathLst>
                <a:path w="119" h="79">
                  <a:moveTo>
                    <a:pt x="107" y="0"/>
                  </a:moveTo>
                  <a:lnTo>
                    <a:pt x="104" y="1"/>
                  </a:lnTo>
                  <a:lnTo>
                    <a:pt x="97" y="5"/>
                  </a:lnTo>
                  <a:lnTo>
                    <a:pt x="86" y="9"/>
                  </a:lnTo>
                  <a:lnTo>
                    <a:pt x="71" y="14"/>
                  </a:lnTo>
                  <a:lnTo>
                    <a:pt x="54" y="20"/>
                  </a:lnTo>
                  <a:lnTo>
                    <a:pt x="36" y="24"/>
                  </a:lnTo>
                  <a:lnTo>
                    <a:pt x="19" y="28"/>
                  </a:lnTo>
                  <a:lnTo>
                    <a:pt x="0" y="31"/>
                  </a:lnTo>
                  <a:lnTo>
                    <a:pt x="13" y="79"/>
                  </a:lnTo>
                  <a:lnTo>
                    <a:pt x="17" y="78"/>
                  </a:lnTo>
                  <a:lnTo>
                    <a:pt x="26" y="76"/>
                  </a:lnTo>
                  <a:lnTo>
                    <a:pt x="40" y="73"/>
                  </a:lnTo>
                  <a:lnTo>
                    <a:pt x="58" y="67"/>
                  </a:lnTo>
                  <a:lnTo>
                    <a:pt x="75" y="62"/>
                  </a:lnTo>
                  <a:lnTo>
                    <a:pt x="92" y="56"/>
                  </a:lnTo>
                  <a:lnTo>
                    <a:pt x="108" y="51"/>
                  </a:lnTo>
                  <a:lnTo>
                    <a:pt x="119" y="45"/>
                  </a:lnTo>
                  <a:lnTo>
                    <a:pt x="107" y="0"/>
                  </a:lnTo>
                </a:path>
              </a:pathLst>
            </a:custGeom>
            <a:noFill/>
            <a:ln w="1440">
              <a:solidFill>
                <a:srgbClr val="7b797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10280" y="5113440"/>
              <a:ext cx="163440" cy="74520"/>
            </a:xfrm>
            <a:custGeom>
              <a:avLst/>
              <a:gdLst/>
              <a:ahLst/>
              <a:rect l="l" t="t" r="r" b="b"/>
              <a:pathLst>
                <a:path w="517" h="235">
                  <a:moveTo>
                    <a:pt x="23" y="235"/>
                  </a:moveTo>
                  <a:lnTo>
                    <a:pt x="42" y="235"/>
                  </a:lnTo>
                  <a:lnTo>
                    <a:pt x="91" y="234"/>
                  </a:lnTo>
                  <a:lnTo>
                    <a:pt x="125" y="233"/>
                  </a:lnTo>
                  <a:lnTo>
                    <a:pt x="163" y="229"/>
                  </a:lnTo>
                  <a:lnTo>
                    <a:pt x="203" y="226"/>
                  </a:lnTo>
                  <a:lnTo>
                    <a:pt x="246" y="221"/>
                  </a:lnTo>
                  <a:lnTo>
                    <a:pt x="289" y="213"/>
                  </a:lnTo>
                  <a:lnTo>
                    <a:pt x="331" y="205"/>
                  </a:lnTo>
                  <a:lnTo>
                    <a:pt x="353" y="199"/>
                  </a:lnTo>
                  <a:lnTo>
                    <a:pt x="373" y="194"/>
                  </a:lnTo>
                  <a:lnTo>
                    <a:pt x="393" y="187"/>
                  </a:lnTo>
                  <a:lnTo>
                    <a:pt x="411" y="181"/>
                  </a:lnTo>
                  <a:lnTo>
                    <a:pt x="430" y="173"/>
                  </a:lnTo>
                  <a:lnTo>
                    <a:pt x="447" y="165"/>
                  </a:lnTo>
                  <a:lnTo>
                    <a:pt x="462" y="156"/>
                  </a:lnTo>
                  <a:lnTo>
                    <a:pt x="476" y="146"/>
                  </a:lnTo>
                  <a:lnTo>
                    <a:pt x="489" y="135"/>
                  </a:lnTo>
                  <a:lnTo>
                    <a:pt x="500" y="124"/>
                  </a:lnTo>
                  <a:lnTo>
                    <a:pt x="508" y="112"/>
                  </a:lnTo>
                  <a:lnTo>
                    <a:pt x="516" y="99"/>
                  </a:lnTo>
                  <a:lnTo>
                    <a:pt x="516" y="100"/>
                  </a:lnTo>
                  <a:lnTo>
                    <a:pt x="517" y="101"/>
                  </a:lnTo>
                  <a:lnTo>
                    <a:pt x="517" y="103"/>
                  </a:lnTo>
                  <a:lnTo>
                    <a:pt x="517" y="103"/>
                  </a:lnTo>
                  <a:lnTo>
                    <a:pt x="516" y="100"/>
                  </a:lnTo>
                  <a:lnTo>
                    <a:pt x="514" y="94"/>
                  </a:lnTo>
                  <a:lnTo>
                    <a:pt x="508" y="85"/>
                  </a:lnTo>
                  <a:lnTo>
                    <a:pt x="501" y="70"/>
                  </a:lnTo>
                  <a:lnTo>
                    <a:pt x="494" y="52"/>
                  </a:lnTo>
                  <a:lnTo>
                    <a:pt x="489" y="36"/>
                  </a:lnTo>
                  <a:lnTo>
                    <a:pt x="487" y="23"/>
                  </a:lnTo>
                  <a:lnTo>
                    <a:pt x="484" y="12"/>
                  </a:lnTo>
                  <a:lnTo>
                    <a:pt x="482" y="8"/>
                  </a:lnTo>
                  <a:lnTo>
                    <a:pt x="481" y="5"/>
                  </a:lnTo>
                  <a:lnTo>
                    <a:pt x="479" y="3"/>
                  </a:lnTo>
                  <a:lnTo>
                    <a:pt x="477" y="1"/>
                  </a:lnTo>
                  <a:lnTo>
                    <a:pt x="474" y="0"/>
                  </a:lnTo>
                  <a:lnTo>
                    <a:pt x="471" y="1"/>
                  </a:lnTo>
                  <a:lnTo>
                    <a:pt x="466" y="4"/>
                  </a:lnTo>
                  <a:lnTo>
                    <a:pt x="461" y="7"/>
                  </a:lnTo>
                  <a:lnTo>
                    <a:pt x="448" y="17"/>
                  </a:lnTo>
                  <a:lnTo>
                    <a:pt x="428" y="26"/>
                  </a:lnTo>
                  <a:lnTo>
                    <a:pt x="404" y="37"/>
                  </a:lnTo>
                  <a:lnTo>
                    <a:pt x="376" y="48"/>
                  </a:lnTo>
                  <a:lnTo>
                    <a:pt x="344" y="59"/>
                  </a:lnTo>
                  <a:lnTo>
                    <a:pt x="313" y="70"/>
                  </a:lnTo>
                  <a:lnTo>
                    <a:pt x="280" y="80"/>
                  </a:lnTo>
                  <a:lnTo>
                    <a:pt x="248" y="89"/>
                  </a:lnTo>
                  <a:lnTo>
                    <a:pt x="234" y="92"/>
                  </a:lnTo>
                  <a:lnTo>
                    <a:pt x="219" y="95"/>
                  </a:lnTo>
                  <a:lnTo>
                    <a:pt x="205" y="98"/>
                  </a:lnTo>
                  <a:lnTo>
                    <a:pt x="191" y="100"/>
                  </a:lnTo>
                  <a:lnTo>
                    <a:pt x="165" y="102"/>
                  </a:lnTo>
                  <a:lnTo>
                    <a:pt x="140" y="103"/>
                  </a:lnTo>
                  <a:lnTo>
                    <a:pt x="118" y="103"/>
                  </a:lnTo>
                  <a:lnTo>
                    <a:pt x="99" y="104"/>
                  </a:lnTo>
                  <a:lnTo>
                    <a:pt x="90" y="105"/>
                  </a:lnTo>
                  <a:lnTo>
                    <a:pt x="83" y="107"/>
                  </a:lnTo>
                  <a:lnTo>
                    <a:pt x="76" y="108"/>
                  </a:lnTo>
                  <a:lnTo>
                    <a:pt x="71" y="112"/>
                  </a:lnTo>
                  <a:lnTo>
                    <a:pt x="59" y="121"/>
                  </a:lnTo>
                  <a:lnTo>
                    <a:pt x="44" y="138"/>
                  </a:lnTo>
                  <a:lnTo>
                    <a:pt x="35" y="146"/>
                  </a:lnTo>
                  <a:lnTo>
                    <a:pt x="28" y="157"/>
                  </a:lnTo>
                  <a:lnTo>
                    <a:pt x="20" y="167"/>
                  </a:lnTo>
                  <a:lnTo>
                    <a:pt x="13" y="178"/>
                  </a:lnTo>
                  <a:lnTo>
                    <a:pt x="7" y="188"/>
                  </a:lnTo>
                  <a:lnTo>
                    <a:pt x="3" y="198"/>
                  </a:lnTo>
                  <a:lnTo>
                    <a:pt x="0" y="208"/>
                  </a:lnTo>
                  <a:lnTo>
                    <a:pt x="0" y="215"/>
                  </a:lnTo>
                  <a:lnTo>
                    <a:pt x="0" y="220"/>
                  </a:lnTo>
                  <a:lnTo>
                    <a:pt x="1" y="223"/>
                  </a:lnTo>
                  <a:lnTo>
                    <a:pt x="3" y="226"/>
                  </a:lnTo>
                  <a:lnTo>
                    <a:pt x="5" y="228"/>
                  </a:lnTo>
                  <a:lnTo>
                    <a:pt x="8" y="232"/>
                  </a:lnTo>
                  <a:lnTo>
                    <a:pt x="13" y="233"/>
                  </a:lnTo>
                  <a:lnTo>
                    <a:pt x="18" y="234"/>
                  </a:lnTo>
                  <a:lnTo>
                    <a:pt x="23" y="235"/>
                  </a:lnTo>
                  <a:close/>
                </a:path>
              </a:pathLst>
            </a:custGeom>
            <a:solidFill>
              <a:srgbClr val="de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110280" y="5113440"/>
              <a:ext cx="163440" cy="74520"/>
            </a:xfrm>
            <a:custGeom>
              <a:avLst/>
              <a:gdLst/>
              <a:ahLst/>
              <a:rect l="l" t="t" r="r" b="b"/>
              <a:pathLst>
                <a:path w="517" h="235">
                  <a:moveTo>
                    <a:pt x="23" y="235"/>
                  </a:moveTo>
                  <a:lnTo>
                    <a:pt x="42" y="235"/>
                  </a:lnTo>
                  <a:lnTo>
                    <a:pt x="91" y="234"/>
                  </a:lnTo>
                  <a:lnTo>
                    <a:pt x="125" y="233"/>
                  </a:lnTo>
                  <a:lnTo>
                    <a:pt x="163" y="229"/>
                  </a:lnTo>
                  <a:lnTo>
                    <a:pt x="203" y="226"/>
                  </a:lnTo>
                  <a:lnTo>
                    <a:pt x="246" y="221"/>
                  </a:lnTo>
                  <a:lnTo>
                    <a:pt x="289" y="213"/>
                  </a:lnTo>
                  <a:lnTo>
                    <a:pt x="331" y="205"/>
                  </a:lnTo>
                  <a:lnTo>
                    <a:pt x="353" y="199"/>
                  </a:lnTo>
                  <a:lnTo>
                    <a:pt x="373" y="194"/>
                  </a:lnTo>
                  <a:lnTo>
                    <a:pt x="393" y="187"/>
                  </a:lnTo>
                  <a:lnTo>
                    <a:pt x="411" y="181"/>
                  </a:lnTo>
                  <a:lnTo>
                    <a:pt x="430" y="173"/>
                  </a:lnTo>
                  <a:lnTo>
                    <a:pt x="447" y="165"/>
                  </a:lnTo>
                  <a:lnTo>
                    <a:pt x="462" y="156"/>
                  </a:lnTo>
                  <a:lnTo>
                    <a:pt x="476" y="146"/>
                  </a:lnTo>
                  <a:lnTo>
                    <a:pt x="489" y="135"/>
                  </a:lnTo>
                  <a:lnTo>
                    <a:pt x="500" y="124"/>
                  </a:lnTo>
                  <a:lnTo>
                    <a:pt x="508" y="112"/>
                  </a:lnTo>
                  <a:lnTo>
                    <a:pt x="516" y="99"/>
                  </a:lnTo>
                  <a:lnTo>
                    <a:pt x="516" y="100"/>
                  </a:lnTo>
                  <a:lnTo>
                    <a:pt x="517" y="101"/>
                  </a:lnTo>
                  <a:lnTo>
                    <a:pt x="517" y="103"/>
                  </a:lnTo>
                  <a:lnTo>
                    <a:pt x="517" y="103"/>
                  </a:lnTo>
                  <a:lnTo>
                    <a:pt x="516" y="100"/>
                  </a:lnTo>
                  <a:lnTo>
                    <a:pt x="514" y="94"/>
                  </a:lnTo>
                  <a:lnTo>
                    <a:pt x="508" y="85"/>
                  </a:lnTo>
                  <a:lnTo>
                    <a:pt x="501" y="70"/>
                  </a:lnTo>
                  <a:lnTo>
                    <a:pt x="494" y="52"/>
                  </a:lnTo>
                  <a:lnTo>
                    <a:pt x="489" y="36"/>
                  </a:lnTo>
                  <a:lnTo>
                    <a:pt x="487" y="23"/>
                  </a:lnTo>
                  <a:lnTo>
                    <a:pt x="484" y="12"/>
                  </a:lnTo>
                  <a:lnTo>
                    <a:pt x="482" y="8"/>
                  </a:lnTo>
                  <a:lnTo>
                    <a:pt x="481" y="5"/>
                  </a:lnTo>
                  <a:lnTo>
                    <a:pt x="479" y="3"/>
                  </a:lnTo>
                  <a:lnTo>
                    <a:pt x="477" y="1"/>
                  </a:lnTo>
                  <a:lnTo>
                    <a:pt x="474" y="0"/>
                  </a:lnTo>
                  <a:lnTo>
                    <a:pt x="471" y="1"/>
                  </a:lnTo>
                  <a:lnTo>
                    <a:pt x="466" y="4"/>
                  </a:lnTo>
                  <a:lnTo>
                    <a:pt x="461" y="7"/>
                  </a:lnTo>
                  <a:lnTo>
                    <a:pt x="448" y="17"/>
                  </a:lnTo>
                  <a:lnTo>
                    <a:pt x="428" y="26"/>
                  </a:lnTo>
                  <a:lnTo>
                    <a:pt x="404" y="37"/>
                  </a:lnTo>
                  <a:lnTo>
                    <a:pt x="376" y="48"/>
                  </a:lnTo>
                  <a:lnTo>
                    <a:pt x="344" y="59"/>
                  </a:lnTo>
                  <a:lnTo>
                    <a:pt x="313" y="70"/>
                  </a:lnTo>
                  <a:lnTo>
                    <a:pt x="280" y="80"/>
                  </a:lnTo>
                  <a:lnTo>
                    <a:pt x="248" y="89"/>
                  </a:lnTo>
                  <a:lnTo>
                    <a:pt x="234" y="92"/>
                  </a:lnTo>
                  <a:lnTo>
                    <a:pt x="219" y="95"/>
                  </a:lnTo>
                  <a:lnTo>
                    <a:pt x="205" y="98"/>
                  </a:lnTo>
                  <a:lnTo>
                    <a:pt x="191" y="100"/>
                  </a:lnTo>
                  <a:lnTo>
                    <a:pt x="165" y="102"/>
                  </a:lnTo>
                  <a:lnTo>
                    <a:pt x="140" y="103"/>
                  </a:lnTo>
                  <a:lnTo>
                    <a:pt x="118" y="103"/>
                  </a:lnTo>
                  <a:lnTo>
                    <a:pt x="99" y="104"/>
                  </a:lnTo>
                  <a:lnTo>
                    <a:pt x="90" y="105"/>
                  </a:lnTo>
                  <a:lnTo>
                    <a:pt x="83" y="107"/>
                  </a:lnTo>
                  <a:lnTo>
                    <a:pt x="76" y="108"/>
                  </a:lnTo>
                  <a:lnTo>
                    <a:pt x="71" y="112"/>
                  </a:lnTo>
                  <a:lnTo>
                    <a:pt x="59" y="121"/>
                  </a:lnTo>
                  <a:lnTo>
                    <a:pt x="44" y="138"/>
                  </a:lnTo>
                  <a:lnTo>
                    <a:pt x="35" y="146"/>
                  </a:lnTo>
                  <a:lnTo>
                    <a:pt x="28" y="157"/>
                  </a:lnTo>
                  <a:lnTo>
                    <a:pt x="20" y="167"/>
                  </a:lnTo>
                  <a:lnTo>
                    <a:pt x="13" y="178"/>
                  </a:lnTo>
                  <a:lnTo>
                    <a:pt x="7" y="188"/>
                  </a:lnTo>
                  <a:lnTo>
                    <a:pt x="3" y="198"/>
                  </a:lnTo>
                  <a:lnTo>
                    <a:pt x="0" y="208"/>
                  </a:lnTo>
                  <a:lnTo>
                    <a:pt x="0" y="215"/>
                  </a:lnTo>
                  <a:lnTo>
                    <a:pt x="0" y="220"/>
                  </a:lnTo>
                  <a:lnTo>
                    <a:pt x="1" y="223"/>
                  </a:lnTo>
                  <a:lnTo>
                    <a:pt x="3" y="226"/>
                  </a:lnTo>
                  <a:lnTo>
                    <a:pt x="5" y="228"/>
                  </a:lnTo>
                  <a:lnTo>
                    <a:pt x="8" y="232"/>
                  </a:lnTo>
                  <a:lnTo>
                    <a:pt x="13" y="233"/>
                  </a:lnTo>
                  <a:lnTo>
                    <a:pt x="18" y="234"/>
                  </a:lnTo>
                  <a:lnTo>
                    <a:pt x="23" y="235"/>
                  </a:lnTo>
                </a:path>
              </a:pathLst>
            </a:custGeom>
            <a:noFill/>
            <a:ln w="1440">
              <a:solidFill>
                <a:srgbClr val="433f3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107040" y="5065920"/>
              <a:ext cx="36720" cy="20520"/>
            </a:xfrm>
            <a:custGeom>
              <a:avLst/>
              <a:gdLst/>
              <a:ahLst/>
              <a:rect l="l" t="t" r="r" b="b"/>
              <a:pathLst>
                <a:path w="113" h="66">
                  <a:moveTo>
                    <a:pt x="109" y="8"/>
                  </a:moveTo>
                  <a:lnTo>
                    <a:pt x="99" y="11"/>
                  </a:lnTo>
                  <a:lnTo>
                    <a:pt x="90" y="14"/>
                  </a:lnTo>
                  <a:lnTo>
                    <a:pt x="81" y="18"/>
                  </a:lnTo>
                  <a:lnTo>
                    <a:pt x="73" y="22"/>
                  </a:lnTo>
                  <a:lnTo>
                    <a:pt x="59" y="32"/>
                  </a:lnTo>
                  <a:lnTo>
                    <a:pt x="47" y="41"/>
                  </a:lnTo>
                  <a:lnTo>
                    <a:pt x="39" y="50"/>
                  </a:lnTo>
                  <a:lnTo>
                    <a:pt x="32" y="58"/>
                  </a:lnTo>
                  <a:lnTo>
                    <a:pt x="29" y="63"/>
                  </a:lnTo>
                  <a:lnTo>
                    <a:pt x="28" y="65"/>
                  </a:lnTo>
                  <a:lnTo>
                    <a:pt x="26" y="65"/>
                  </a:lnTo>
                  <a:lnTo>
                    <a:pt x="22" y="66"/>
                  </a:lnTo>
                  <a:lnTo>
                    <a:pt x="16" y="66"/>
                  </a:lnTo>
                  <a:lnTo>
                    <a:pt x="11" y="66"/>
                  </a:lnTo>
                  <a:lnTo>
                    <a:pt x="5" y="64"/>
                  </a:lnTo>
                  <a:lnTo>
                    <a:pt x="1" y="62"/>
                  </a:lnTo>
                  <a:lnTo>
                    <a:pt x="1" y="60"/>
                  </a:lnTo>
                  <a:lnTo>
                    <a:pt x="0" y="58"/>
                  </a:lnTo>
                  <a:lnTo>
                    <a:pt x="1" y="54"/>
                  </a:lnTo>
                  <a:lnTo>
                    <a:pt x="3" y="50"/>
                  </a:lnTo>
                  <a:lnTo>
                    <a:pt x="4" y="48"/>
                  </a:lnTo>
                  <a:lnTo>
                    <a:pt x="9" y="44"/>
                  </a:lnTo>
                  <a:lnTo>
                    <a:pt x="15" y="36"/>
                  </a:lnTo>
                  <a:lnTo>
                    <a:pt x="25" y="27"/>
                  </a:lnTo>
                  <a:lnTo>
                    <a:pt x="36" y="19"/>
                  </a:lnTo>
                  <a:lnTo>
                    <a:pt x="49" y="10"/>
                  </a:lnTo>
                  <a:lnTo>
                    <a:pt x="56" y="7"/>
                  </a:lnTo>
                  <a:lnTo>
                    <a:pt x="64" y="5"/>
                  </a:lnTo>
                  <a:lnTo>
                    <a:pt x="71" y="3"/>
                  </a:lnTo>
                  <a:lnTo>
                    <a:pt x="80" y="0"/>
                  </a:lnTo>
                  <a:lnTo>
                    <a:pt x="82" y="0"/>
                  </a:lnTo>
                  <a:lnTo>
                    <a:pt x="86" y="1"/>
                  </a:lnTo>
                  <a:lnTo>
                    <a:pt x="94" y="1"/>
                  </a:lnTo>
                  <a:lnTo>
                    <a:pt x="100" y="3"/>
                  </a:lnTo>
                  <a:lnTo>
                    <a:pt x="107" y="4"/>
                  </a:lnTo>
                  <a:lnTo>
                    <a:pt x="112" y="5"/>
                  </a:lnTo>
                  <a:lnTo>
                    <a:pt x="113" y="6"/>
                  </a:lnTo>
                  <a:lnTo>
                    <a:pt x="113" y="7"/>
                  </a:lnTo>
                  <a:lnTo>
                    <a:pt x="111" y="7"/>
                  </a:lnTo>
                  <a:lnTo>
                    <a:pt x="109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107040" y="5065920"/>
              <a:ext cx="36720" cy="20520"/>
            </a:xfrm>
            <a:custGeom>
              <a:avLst/>
              <a:gdLst/>
              <a:ahLst/>
              <a:rect l="l" t="t" r="r" b="b"/>
              <a:pathLst>
                <a:path w="113" h="66">
                  <a:moveTo>
                    <a:pt x="109" y="8"/>
                  </a:moveTo>
                  <a:lnTo>
                    <a:pt x="99" y="11"/>
                  </a:lnTo>
                  <a:lnTo>
                    <a:pt x="90" y="14"/>
                  </a:lnTo>
                  <a:lnTo>
                    <a:pt x="81" y="18"/>
                  </a:lnTo>
                  <a:lnTo>
                    <a:pt x="73" y="22"/>
                  </a:lnTo>
                  <a:lnTo>
                    <a:pt x="59" y="32"/>
                  </a:lnTo>
                  <a:lnTo>
                    <a:pt x="47" y="41"/>
                  </a:lnTo>
                  <a:lnTo>
                    <a:pt x="39" y="50"/>
                  </a:lnTo>
                  <a:lnTo>
                    <a:pt x="32" y="58"/>
                  </a:lnTo>
                  <a:lnTo>
                    <a:pt x="29" y="63"/>
                  </a:lnTo>
                  <a:lnTo>
                    <a:pt x="28" y="65"/>
                  </a:lnTo>
                  <a:lnTo>
                    <a:pt x="26" y="65"/>
                  </a:lnTo>
                  <a:lnTo>
                    <a:pt x="22" y="66"/>
                  </a:lnTo>
                  <a:lnTo>
                    <a:pt x="16" y="66"/>
                  </a:lnTo>
                  <a:lnTo>
                    <a:pt x="11" y="66"/>
                  </a:lnTo>
                  <a:lnTo>
                    <a:pt x="5" y="64"/>
                  </a:lnTo>
                  <a:lnTo>
                    <a:pt x="1" y="62"/>
                  </a:lnTo>
                  <a:lnTo>
                    <a:pt x="1" y="60"/>
                  </a:lnTo>
                  <a:lnTo>
                    <a:pt x="0" y="58"/>
                  </a:lnTo>
                  <a:lnTo>
                    <a:pt x="1" y="54"/>
                  </a:lnTo>
                  <a:lnTo>
                    <a:pt x="3" y="50"/>
                  </a:lnTo>
                  <a:lnTo>
                    <a:pt x="4" y="48"/>
                  </a:lnTo>
                  <a:lnTo>
                    <a:pt x="9" y="44"/>
                  </a:lnTo>
                  <a:lnTo>
                    <a:pt x="15" y="36"/>
                  </a:lnTo>
                  <a:lnTo>
                    <a:pt x="25" y="27"/>
                  </a:lnTo>
                  <a:lnTo>
                    <a:pt x="36" y="19"/>
                  </a:lnTo>
                  <a:lnTo>
                    <a:pt x="49" y="10"/>
                  </a:lnTo>
                  <a:lnTo>
                    <a:pt x="56" y="7"/>
                  </a:lnTo>
                  <a:lnTo>
                    <a:pt x="64" y="5"/>
                  </a:lnTo>
                  <a:lnTo>
                    <a:pt x="71" y="3"/>
                  </a:lnTo>
                  <a:lnTo>
                    <a:pt x="80" y="0"/>
                  </a:lnTo>
                  <a:lnTo>
                    <a:pt x="82" y="0"/>
                  </a:lnTo>
                  <a:lnTo>
                    <a:pt x="86" y="1"/>
                  </a:lnTo>
                  <a:lnTo>
                    <a:pt x="94" y="1"/>
                  </a:lnTo>
                  <a:lnTo>
                    <a:pt x="100" y="3"/>
                  </a:lnTo>
                  <a:lnTo>
                    <a:pt x="107" y="4"/>
                  </a:lnTo>
                  <a:lnTo>
                    <a:pt x="112" y="5"/>
                  </a:lnTo>
                  <a:lnTo>
                    <a:pt x="113" y="6"/>
                  </a:lnTo>
                  <a:lnTo>
                    <a:pt x="113" y="7"/>
                  </a:lnTo>
                  <a:lnTo>
                    <a:pt x="111" y="7"/>
                  </a:lnTo>
                  <a:lnTo>
                    <a:pt x="109" y="8"/>
                  </a:lnTo>
                </a:path>
              </a:pathLst>
            </a:custGeom>
            <a:noFill/>
            <a:ln w="1440">
              <a:solidFill>
                <a:srgbClr val="37333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100560" y="5048280"/>
              <a:ext cx="12960" cy="36720"/>
            </a:xfrm>
            <a:custGeom>
              <a:avLst/>
              <a:gdLst/>
              <a:ahLst/>
              <a:rect l="l" t="t" r="r" b="b"/>
              <a:pathLst>
                <a:path w="40" h="111">
                  <a:moveTo>
                    <a:pt x="17" y="108"/>
                  </a:moveTo>
                  <a:lnTo>
                    <a:pt x="18" y="104"/>
                  </a:lnTo>
                  <a:lnTo>
                    <a:pt x="19" y="95"/>
                  </a:lnTo>
                  <a:lnTo>
                    <a:pt x="22" y="81"/>
                  </a:lnTo>
                  <a:lnTo>
                    <a:pt x="25" y="65"/>
                  </a:lnTo>
                  <a:lnTo>
                    <a:pt x="30" y="48"/>
                  </a:lnTo>
                  <a:lnTo>
                    <a:pt x="33" y="32"/>
                  </a:lnTo>
                  <a:lnTo>
                    <a:pt x="36" y="19"/>
                  </a:lnTo>
                  <a:lnTo>
                    <a:pt x="38" y="9"/>
                  </a:lnTo>
                  <a:lnTo>
                    <a:pt x="39" y="6"/>
                  </a:lnTo>
                  <a:lnTo>
                    <a:pt x="40" y="4"/>
                  </a:lnTo>
                  <a:lnTo>
                    <a:pt x="39" y="3"/>
                  </a:lnTo>
                  <a:lnTo>
                    <a:pt x="38" y="2"/>
                  </a:lnTo>
                  <a:lnTo>
                    <a:pt x="35" y="0"/>
                  </a:lnTo>
                  <a:lnTo>
                    <a:pt x="31" y="0"/>
                  </a:lnTo>
                  <a:lnTo>
                    <a:pt x="25" y="2"/>
                  </a:lnTo>
                  <a:lnTo>
                    <a:pt x="21" y="3"/>
                  </a:lnTo>
                  <a:lnTo>
                    <a:pt x="18" y="4"/>
                  </a:lnTo>
                  <a:lnTo>
                    <a:pt x="17" y="4"/>
                  </a:lnTo>
                  <a:lnTo>
                    <a:pt x="17" y="6"/>
                  </a:lnTo>
                  <a:lnTo>
                    <a:pt x="17" y="9"/>
                  </a:lnTo>
                  <a:lnTo>
                    <a:pt x="17" y="14"/>
                  </a:lnTo>
                  <a:lnTo>
                    <a:pt x="17" y="22"/>
                  </a:lnTo>
                  <a:lnTo>
                    <a:pt x="16" y="30"/>
                  </a:lnTo>
                  <a:lnTo>
                    <a:pt x="14" y="39"/>
                  </a:lnTo>
                  <a:lnTo>
                    <a:pt x="12" y="50"/>
                  </a:lnTo>
                  <a:lnTo>
                    <a:pt x="9" y="61"/>
                  </a:lnTo>
                  <a:lnTo>
                    <a:pt x="6" y="72"/>
                  </a:lnTo>
                  <a:lnTo>
                    <a:pt x="3" y="83"/>
                  </a:lnTo>
                  <a:lnTo>
                    <a:pt x="1" y="91"/>
                  </a:lnTo>
                  <a:lnTo>
                    <a:pt x="0" y="100"/>
                  </a:lnTo>
                  <a:lnTo>
                    <a:pt x="1" y="103"/>
                  </a:lnTo>
                  <a:lnTo>
                    <a:pt x="1" y="105"/>
                  </a:lnTo>
                  <a:lnTo>
                    <a:pt x="3" y="107"/>
                  </a:lnTo>
                  <a:lnTo>
                    <a:pt x="5" y="110"/>
                  </a:lnTo>
                  <a:lnTo>
                    <a:pt x="7" y="110"/>
                  </a:lnTo>
                  <a:lnTo>
                    <a:pt x="9" y="111"/>
                  </a:lnTo>
                  <a:lnTo>
                    <a:pt x="12" y="110"/>
                  </a:lnTo>
                  <a:lnTo>
                    <a:pt x="17" y="10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100560" y="5048280"/>
              <a:ext cx="12960" cy="36720"/>
            </a:xfrm>
            <a:custGeom>
              <a:avLst/>
              <a:gdLst/>
              <a:ahLst/>
              <a:rect l="l" t="t" r="r" b="b"/>
              <a:pathLst>
                <a:path w="40" h="111">
                  <a:moveTo>
                    <a:pt x="17" y="108"/>
                  </a:moveTo>
                  <a:lnTo>
                    <a:pt x="18" y="104"/>
                  </a:lnTo>
                  <a:lnTo>
                    <a:pt x="19" y="95"/>
                  </a:lnTo>
                  <a:lnTo>
                    <a:pt x="22" y="81"/>
                  </a:lnTo>
                  <a:lnTo>
                    <a:pt x="25" y="65"/>
                  </a:lnTo>
                  <a:lnTo>
                    <a:pt x="30" y="48"/>
                  </a:lnTo>
                  <a:lnTo>
                    <a:pt x="33" y="32"/>
                  </a:lnTo>
                  <a:lnTo>
                    <a:pt x="36" y="19"/>
                  </a:lnTo>
                  <a:lnTo>
                    <a:pt x="38" y="9"/>
                  </a:lnTo>
                  <a:lnTo>
                    <a:pt x="39" y="6"/>
                  </a:lnTo>
                  <a:lnTo>
                    <a:pt x="40" y="4"/>
                  </a:lnTo>
                  <a:lnTo>
                    <a:pt x="39" y="3"/>
                  </a:lnTo>
                  <a:lnTo>
                    <a:pt x="38" y="2"/>
                  </a:lnTo>
                  <a:lnTo>
                    <a:pt x="35" y="0"/>
                  </a:lnTo>
                  <a:lnTo>
                    <a:pt x="31" y="0"/>
                  </a:lnTo>
                  <a:lnTo>
                    <a:pt x="25" y="2"/>
                  </a:lnTo>
                  <a:lnTo>
                    <a:pt x="21" y="3"/>
                  </a:lnTo>
                  <a:lnTo>
                    <a:pt x="18" y="4"/>
                  </a:lnTo>
                  <a:lnTo>
                    <a:pt x="17" y="4"/>
                  </a:lnTo>
                  <a:lnTo>
                    <a:pt x="17" y="6"/>
                  </a:lnTo>
                  <a:lnTo>
                    <a:pt x="17" y="9"/>
                  </a:lnTo>
                  <a:lnTo>
                    <a:pt x="17" y="14"/>
                  </a:lnTo>
                  <a:lnTo>
                    <a:pt x="17" y="22"/>
                  </a:lnTo>
                  <a:lnTo>
                    <a:pt x="16" y="30"/>
                  </a:lnTo>
                  <a:lnTo>
                    <a:pt x="14" y="39"/>
                  </a:lnTo>
                  <a:lnTo>
                    <a:pt x="12" y="50"/>
                  </a:lnTo>
                  <a:lnTo>
                    <a:pt x="9" y="61"/>
                  </a:lnTo>
                  <a:lnTo>
                    <a:pt x="6" y="72"/>
                  </a:lnTo>
                  <a:lnTo>
                    <a:pt x="3" y="83"/>
                  </a:lnTo>
                  <a:lnTo>
                    <a:pt x="1" y="91"/>
                  </a:lnTo>
                  <a:lnTo>
                    <a:pt x="0" y="100"/>
                  </a:lnTo>
                  <a:lnTo>
                    <a:pt x="1" y="103"/>
                  </a:lnTo>
                  <a:lnTo>
                    <a:pt x="1" y="105"/>
                  </a:lnTo>
                  <a:lnTo>
                    <a:pt x="3" y="107"/>
                  </a:lnTo>
                  <a:lnTo>
                    <a:pt x="5" y="110"/>
                  </a:lnTo>
                  <a:lnTo>
                    <a:pt x="7" y="110"/>
                  </a:lnTo>
                  <a:lnTo>
                    <a:pt x="9" y="111"/>
                  </a:lnTo>
                  <a:lnTo>
                    <a:pt x="12" y="110"/>
                  </a:lnTo>
                  <a:lnTo>
                    <a:pt x="17" y="108"/>
                  </a:lnTo>
                </a:path>
              </a:pathLst>
            </a:custGeom>
            <a:noFill/>
            <a:ln w="1440">
              <a:solidFill>
                <a:srgbClr val="37333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83280" y="5035680"/>
              <a:ext cx="7920" cy="38160"/>
            </a:xfrm>
            <a:custGeom>
              <a:avLst/>
              <a:gdLst/>
              <a:ahLst/>
              <a:rect l="l" t="t" r="r" b="b"/>
              <a:pathLst>
                <a:path w="28" h="120">
                  <a:moveTo>
                    <a:pt x="28" y="118"/>
                  </a:moveTo>
                  <a:lnTo>
                    <a:pt x="28" y="114"/>
                  </a:lnTo>
                  <a:lnTo>
                    <a:pt x="28" y="104"/>
                  </a:lnTo>
                  <a:lnTo>
                    <a:pt x="28" y="90"/>
                  </a:lnTo>
                  <a:lnTo>
                    <a:pt x="28" y="73"/>
                  </a:lnTo>
                  <a:lnTo>
                    <a:pt x="28" y="55"/>
                  </a:lnTo>
                  <a:lnTo>
                    <a:pt x="28" y="38"/>
                  </a:lnTo>
                  <a:lnTo>
                    <a:pt x="28" y="24"/>
                  </a:lnTo>
                  <a:lnTo>
                    <a:pt x="28" y="13"/>
                  </a:lnTo>
                  <a:lnTo>
                    <a:pt x="28" y="11"/>
                  </a:lnTo>
                  <a:lnTo>
                    <a:pt x="27" y="8"/>
                  </a:lnTo>
                  <a:lnTo>
                    <a:pt x="26" y="6"/>
                  </a:lnTo>
                  <a:lnTo>
                    <a:pt x="25" y="4"/>
                  </a:lnTo>
                  <a:lnTo>
                    <a:pt x="21" y="2"/>
                  </a:lnTo>
                  <a:lnTo>
                    <a:pt x="15" y="1"/>
                  </a:lnTo>
                  <a:lnTo>
                    <a:pt x="10" y="0"/>
                  </a:lnTo>
                  <a:lnTo>
                    <a:pt x="6" y="1"/>
                  </a:lnTo>
                  <a:lnTo>
                    <a:pt x="2" y="1"/>
                  </a:lnTo>
                  <a:lnTo>
                    <a:pt x="0" y="1"/>
                  </a:lnTo>
                  <a:lnTo>
                    <a:pt x="1" y="3"/>
                  </a:lnTo>
                  <a:lnTo>
                    <a:pt x="2" y="8"/>
                  </a:lnTo>
                  <a:lnTo>
                    <a:pt x="5" y="15"/>
                  </a:lnTo>
                  <a:lnTo>
                    <a:pt x="7" y="25"/>
                  </a:lnTo>
                  <a:lnTo>
                    <a:pt x="9" y="36"/>
                  </a:lnTo>
                  <a:lnTo>
                    <a:pt x="10" y="47"/>
                  </a:lnTo>
                  <a:lnTo>
                    <a:pt x="11" y="58"/>
                  </a:lnTo>
                  <a:lnTo>
                    <a:pt x="11" y="70"/>
                  </a:lnTo>
                  <a:lnTo>
                    <a:pt x="9" y="82"/>
                  </a:lnTo>
                  <a:lnTo>
                    <a:pt x="9" y="93"/>
                  </a:lnTo>
                  <a:lnTo>
                    <a:pt x="9" y="103"/>
                  </a:lnTo>
                  <a:lnTo>
                    <a:pt x="10" y="110"/>
                  </a:lnTo>
                  <a:lnTo>
                    <a:pt x="11" y="114"/>
                  </a:lnTo>
                  <a:lnTo>
                    <a:pt x="12" y="117"/>
                  </a:lnTo>
                  <a:lnTo>
                    <a:pt x="14" y="119"/>
                  </a:lnTo>
                  <a:lnTo>
                    <a:pt x="16" y="120"/>
                  </a:lnTo>
                  <a:lnTo>
                    <a:pt x="19" y="120"/>
                  </a:lnTo>
                  <a:lnTo>
                    <a:pt x="22" y="120"/>
                  </a:lnTo>
                  <a:lnTo>
                    <a:pt x="24" y="119"/>
                  </a:lnTo>
                  <a:lnTo>
                    <a:pt x="28" y="1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083280" y="5035680"/>
              <a:ext cx="7920" cy="38160"/>
            </a:xfrm>
            <a:custGeom>
              <a:avLst/>
              <a:gdLst/>
              <a:ahLst/>
              <a:rect l="l" t="t" r="r" b="b"/>
              <a:pathLst>
                <a:path w="28" h="120">
                  <a:moveTo>
                    <a:pt x="28" y="118"/>
                  </a:moveTo>
                  <a:lnTo>
                    <a:pt x="28" y="114"/>
                  </a:lnTo>
                  <a:lnTo>
                    <a:pt x="28" y="104"/>
                  </a:lnTo>
                  <a:lnTo>
                    <a:pt x="28" y="90"/>
                  </a:lnTo>
                  <a:lnTo>
                    <a:pt x="28" y="73"/>
                  </a:lnTo>
                  <a:lnTo>
                    <a:pt x="28" y="55"/>
                  </a:lnTo>
                  <a:lnTo>
                    <a:pt x="28" y="38"/>
                  </a:lnTo>
                  <a:lnTo>
                    <a:pt x="28" y="24"/>
                  </a:lnTo>
                  <a:lnTo>
                    <a:pt x="28" y="13"/>
                  </a:lnTo>
                  <a:lnTo>
                    <a:pt x="28" y="11"/>
                  </a:lnTo>
                  <a:lnTo>
                    <a:pt x="27" y="8"/>
                  </a:lnTo>
                  <a:lnTo>
                    <a:pt x="26" y="6"/>
                  </a:lnTo>
                  <a:lnTo>
                    <a:pt x="25" y="4"/>
                  </a:lnTo>
                  <a:lnTo>
                    <a:pt x="21" y="2"/>
                  </a:lnTo>
                  <a:lnTo>
                    <a:pt x="15" y="1"/>
                  </a:lnTo>
                  <a:lnTo>
                    <a:pt x="10" y="0"/>
                  </a:lnTo>
                  <a:lnTo>
                    <a:pt x="6" y="1"/>
                  </a:lnTo>
                  <a:lnTo>
                    <a:pt x="2" y="1"/>
                  </a:lnTo>
                  <a:lnTo>
                    <a:pt x="0" y="1"/>
                  </a:lnTo>
                  <a:lnTo>
                    <a:pt x="1" y="3"/>
                  </a:lnTo>
                  <a:lnTo>
                    <a:pt x="2" y="8"/>
                  </a:lnTo>
                  <a:lnTo>
                    <a:pt x="5" y="15"/>
                  </a:lnTo>
                  <a:lnTo>
                    <a:pt x="7" y="25"/>
                  </a:lnTo>
                  <a:lnTo>
                    <a:pt x="9" y="36"/>
                  </a:lnTo>
                  <a:lnTo>
                    <a:pt x="10" y="47"/>
                  </a:lnTo>
                  <a:lnTo>
                    <a:pt x="11" y="58"/>
                  </a:lnTo>
                  <a:lnTo>
                    <a:pt x="11" y="70"/>
                  </a:lnTo>
                  <a:lnTo>
                    <a:pt x="9" y="82"/>
                  </a:lnTo>
                  <a:lnTo>
                    <a:pt x="9" y="93"/>
                  </a:lnTo>
                  <a:lnTo>
                    <a:pt x="9" y="103"/>
                  </a:lnTo>
                  <a:lnTo>
                    <a:pt x="10" y="110"/>
                  </a:lnTo>
                  <a:lnTo>
                    <a:pt x="11" y="114"/>
                  </a:lnTo>
                  <a:lnTo>
                    <a:pt x="12" y="117"/>
                  </a:lnTo>
                  <a:lnTo>
                    <a:pt x="14" y="119"/>
                  </a:lnTo>
                  <a:lnTo>
                    <a:pt x="16" y="120"/>
                  </a:lnTo>
                  <a:lnTo>
                    <a:pt x="19" y="120"/>
                  </a:lnTo>
                  <a:lnTo>
                    <a:pt x="22" y="120"/>
                  </a:lnTo>
                  <a:lnTo>
                    <a:pt x="24" y="119"/>
                  </a:lnTo>
                  <a:lnTo>
                    <a:pt x="28" y="118"/>
                  </a:lnTo>
                </a:path>
              </a:pathLst>
            </a:custGeom>
            <a:noFill/>
            <a:ln w="1440">
              <a:solidFill>
                <a:srgbClr val="37333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086520" y="5060880"/>
              <a:ext cx="46080" cy="12960"/>
            </a:xfrm>
            <a:custGeom>
              <a:avLst/>
              <a:gdLst/>
              <a:ahLst/>
              <a:rect l="l" t="t" r="r" b="b"/>
              <a:pathLst>
                <a:path w="146" h="42">
                  <a:moveTo>
                    <a:pt x="143" y="13"/>
                  </a:moveTo>
                  <a:lnTo>
                    <a:pt x="139" y="13"/>
                  </a:lnTo>
                  <a:lnTo>
                    <a:pt x="131" y="13"/>
                  </a:lnTo>
                  <a:lnTo>
                    <a:pt x="117" y="14"/>
                  </a:lnTo>
                  <a:lnTo>
                    <a:pt x="99" y="16"/>
                  </a:lnTo>
                  <a:lnTo>
                    <a:pt x="80" y="21"/>
                  </a:lnTo>
                  <a:lnTo>
                    <a:pt x="59" y="26"/>
                  </a:lnTo>
                  <a:lnTo>
                    <a:pt x="50" y="29"/>
                  </a:lnTo>
                  <a:lnTo>
                    <a:pt x="39" y="33"/>
                  </a:lnTo>
                  <a:lnTo>
                    <a:pt x="29" y="38"/>
                  </a:lnTo>
                  <a:lnTo>
                    <a:pt x="19" y="42"/>
                  </a:lnTo>
                  <a:lnTo>
                    <a:pt x="18" y="42"/>
                  </a:lnTo>
                  <a:lnTo>
                    <a:pt x="15" y="41"/>
                  </a:lnTo>
                  <a:lnTo>
                    <a:pt x="11" y="39"/>
                  </a:lnTo>
                  <a:lnTo>
                    <a:pt x="7" y="37"/>
                  </a:lnTo>
                  <a:lnTo>
                    <a:pt x="3" y="35"/>
                  </a:lnTo>
                  <a:lnTo>
                    <a:pt x="1" y="32"/>
                  </a:lnTo>
                  <a:lnTo>
                    <a:pt x="0" y="29"/>
                  </a:lnTo>
                  <a:lnTo>
                    <a:pt x="1" y="28"/>
                  </a:lnTo>
                  <a:lnTo>
                    <a:pt x="2" y="27"/>
                  </a:lnTo>
                  <a:lnTo>
                    <a:pt x="4" y="25"/>
                  </a:lnTo>
                  <a:lnTo>
                    <a:pt x="12" y="22"/>
                  </a:lnTo>
                  <a:lnTo>
                    <a:pt x="23" y="16"/>
                  </a:lnTo>
                  <a:lnTo>
                    <a:pt x="37" y="12"/>
                  </a:lnTo>
                  <a:lnTo>
                    <a:pt x="52" y="8"/>
                  </a:lnTo>
                  <a:lnTo>
                    <a:pt x="69" y="3"/>
                  </a:lnTo>
                  <a:lnTo>
                    <a:pt x="86" y="1"/>
                  </a:lnTo>
                  <a:lnTo>
                    <a:pt x="105" y="0"/>
                  </a:lnTo>
                  <a:lnTo>
                    <a:pt x="123" y="1"/>
                  </a:lnTo>
                  <a:lnTo>
                    <a:pt x="124" y="1"/>
                  </a:lnTo>
                  <a:lnTo>
                    <a:pt x="129" y="1"/>
                  </a:lnTo>
                  <a:lnTo>
                    <a:pt x="133" y="1"/>
                  </a:lnTo>
                  <a:lnTo>
                    <a:pt x="138" y="2"/>
                  </a:lnTo>
                  <a:lnTo>
                    <a:pt x="143" y="3"/>
                  </a:lnTo>
                  <a:lnTo>
                    <a:pt x="145" y="6"/>
                  </a:lnTo>
                  <a:lnTo>
                    <a:pt x="146" y="8"/>
                  </a:lnTo>
                  <a:lnTo>
                    <a:pt x="146" y="9"/>
                  </a:lnTo>
                  <a:lnTo>
                    <a:pt x="145" y="11"/>
                  </a:lnTo>
                  <a:lnTo>
                    <a:pt x="143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086520" y="5060880"/>
              <a:ext cx="46080" cy="12960"/>
            </a:xfrm>
            <a:custGeom>
              <a:avLst/>
              <a:gdLst/>
              <a:ahLst/>
              <a:rect l="l" t="t" r="r" b="b"/>
              <a:pathLst>
                <a:path w="146" h="42">
                  <a:moveTo>
                    <a:pt x="143" y="13"/>
                  </a:moveTo>
                  <a:lnTo>
                    <a:pt x="139" y="13"/>
                  </a:lnTo>
                  <a:lnTo>
                    <a:pt x="131" y="13"/>
                  </a:lnTo>
                  <a:lnTo>
                    <a:pt x="117" y="14"/>
                  </a:lnTo>
                  <a:lnTo>
                    <a:pt x="99" y="16"/>
                  </a:lnTo>
                  <a:lnTo>
                    <a:pt x="80" y="21"/>
                  </a:lnTo>
                  <a:lnTo>
                    <a:pt x="59" y="26"/>
                  </a:lnTo>
                  <a:lnTo>
                    <a:pt x="50" y="29"/>
                  </a:lnTo>
                  <a:lnTo>
                    <a:pt x="39" y="33"/>
                  </a:lnTo>
                  <a:lnTo>
                    <a:pt x="29" y="38"/>
                  </a:lnTo>
                  <a:lnTo>
                    <a:pt x="19" y="42"/>
                  </a:lnTo>
                  <a:lnTo>
                    <a:pt x="18" y="42"/>
                  </a:lnTo>
                  <a:lnTo>
                    <a:pt x="15" y="41"/>
                  </a:lnTo>
                  <a:lnTo>
                    <a:pt x="11" y="39"/>
                  </a:lnTo>
                  <a:lnTo>
                    <a:pt x="7" y="37"/>
                  </a:lnTo>
                  <a:lnTo>
                    <a:pt x="3" y="35"/>
                  </a:lnTo>
                  <a:lnTo>
                    <a:pt x="1" y="32"/>
                  </a:lnTo>
                  <a:lnTo>
                    <a:pt x="0" y="29"/>
                  </a:lnTo>
                  <a:lnTo>
                    <a:pt x="1" y="28"/>
                  </a:lnTo>
                  <a:lnTo>
                    <a:pt x="2" y="27"/>
                  </a:lnTo>
                  <a:lnTo>
                    <a:pt x="4" y="25"/>
                  </a:lnTo>
                  <a:lnTo>
                    <a:pt x="12" y="22"/>
                  </a:lnTo>
                  <a:lnTo>
                    <a:pt x="23" y="16"/>
                  </a:lnTo>
                  <a:lnTo>
                    <a:pt x="37" y="12"/>
                  </a:lnTo>
                  <a:lnTo>
                    <a:pt x="52" y="8"/>
                  </a:lnTo>
                  <a:lnTo>
                    <a:pt x="69" y="3"/>
                  </a:lnTo>
                  <a:lnTo>
                    <a:pt x="86" y="1"/>
                  </a:lnTo>
                  <a:lnTo>
                    <a:pt x="105" y="0"/>
                  </a:lnTo>
                  <a:lnTo>
                    <a:pt x="123" y="1"/>
                  </a:lnTo>
                  <a:lnTo>
                    <a:pt x="124" y="1"/>
                  </a:lnTo>
                  <a:lnTo>
                    <a:pt x="129" y="1"/>
                  </a:lnTo>
                  <a:lnTo>
                    <a:pt x="133" y="1"/>
                  </a:lnTo>
                  <a:lnTo>
                    <a:pt x="138" y="2"/>
                  </a:lnTo>
                  <a:lnTo>
                    <a:pt x="143" y="3"/>
                  </a:lnTo>
                  <a:lnTo>
                    <a:pt x="145" y="6"/>
                  </a:lnTo>
                  <a:lnTo>
                    <a:pt x="146" y="8"/>
                  </a:lnTo>
                  <a:lnTo>
                    <a:pt x="146" y="9"/>
                  </a:lnTo>
                  <a:lnTo>
                    <a:pt x="145" y="11"/>
                  </a:lnTo>
                  <a:lnTo>
                    <a:pt x="143" y="13"/>
                  </a:lnTo>
                </a:path>
              </a:pathLst>
            </a:custGeom>
            <a:noFill/>
            <a:ln w="1440">
              <a:solidFill>
                <a:srgbClr val="37333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065640" y="5045040"/>
              <a:ext cx="47880" cy="11160"/>
            </a:xfrm>
            <a:custGeom>
              <a:avLst/>
              <a:gdLst/>
              <a:ahLst/>
              <a:rect l="l" t="t" r="r" b="b"/>
              <a:pathLst>
                <a:path w="151" h="33">
                  <a:moveTo>
                    <a:pt x="147" y="20"/>
                  </a:moveTo>
                  <a:lnTo>
                    <a:pt x="145" y="19"/>
                  </a:lnTo>
                  <a:lnTo>
                    <a:pt x="139" y="18"/>
                  </a:lnTo>
                  <a:lnTo>
                    <a:pt x="130" y="16"/>
                  </a:lnTo>
                  <a:lnTo>
                    <a:pt x="116" y="15"/>
                  </a:lnTo>
                  <a:lnTo>
                    <a:pt x="97" y="16"/>
                  </a:lnTo>
                  <a:lnTo>
                    <a:pt x="76" y="18"/>
                  </a:lnTo>
                  <a:lnTo>
                    <a:pt x="62" y="20"/>
                  </a:lnTo>
                  <a:lnTo>
                    <a:pt x="48" y="23"/>
                  </a:lnTo>
                  <a:lnTo>
                    <a:pt x="33" y="28"/>
                  </a:lnTo>
                  <a:lnTo>
                    <a:pt x="16" y="33"/>
                  </a:lnTo>
                  <a:lnTo>
                    <a:pt x="15" y="32"/>
                  </a:lnTo>
                  <a:lnTo>
                    <a:pt x="12" y="31"/>
                  </a:lnTo>
                  <a:lnTo>
                    <a:pt x="9" y="29"/>
                  </a:lnTo>
                  <a:lnTo>
                    <a:pt x="6" y="27"/>
                  </a:lnTo>
                  <a:lnTo>
                    <a:pt x="2" y="24"/>
                  </a:lnTo>
                  <a:lnTo>
                    <a:pt x="0" y="22"/>
                  </a:lnTo>
                  <a:lnTo>
                    <a:pt x="0" y="21"/>
                  </a:lnTo>
                  <a:lnTo>
                    <a:pt x="1" y="20"/>
                  </a:lnTo>
                  <a:lnTo>
                    <a:pt x="2" y="19"/>
                  </a:lnTo>
                  <a:lnTo>
                    <a:pt x="3" y="18"/>
                  </a:lnTo>
                  <a:lnTo>
                    <a:pt x="23" y="11"/>
                  </a:lnTo>
                  <a:lnTo>
                    <a:pt x="39" y="7"/>
                  </a:lnTo>
                  <a:lnTo>
                    <a:pt x="55" y="4"/>
                  </a:lnTo>
                  <a:lnTo>
                    <a:pt x="70" y="1"/>
                  </a:lnTo>
                  <a:lnTo>
                    <a:pt x="84" y="0"/>
                  </a:lnTo>
                  <a:lnTo>
                    <a:pt x="97" y="0"/>
                  </a:lnTo>
                  <a:lnTo>
                    <a:pt x="111" y="1"/>
                  </a:lnTo>
                  <a:lnTo>
                    <a:pt x="125" y="3"/>
                  </a:lnTo>
                  <a:lnTo>
                    <a:pt x="137" y="6"/>
                  </a:lnTo>
                  <a:lnTo>
                    <a:pt x="145" y="8"/>
                  </a:lnTo>
                  <a:lnTo>
                    <a:pt x="149" y="11"/>
                  </a:lnTo>
                  <a:lnTo>
                    <a:pt x="151" y="15"/>
                  </a:lnTo>
                  <a:lnTo>
                    <a:pt x="150" y="17"/>
                  </a:lnTo>
                  <a:lnTo>
                    <a:pt x="149" y="19"/>
                  </a:lnTo>
                  <a:lnTo>
                    <a:pt x="148" y="20"/>
                  </a:lnTo>
                  <a:lnTo>
                    <a:pt x="147" y="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065640" y="5045040"/>
              <a:ext cx="47880" cy="11160"/>
            </a:xfrm>
            <a:custGeom>
              <a:avLst/>
              <a:gdLst/>
              <a:ahLst/>
              <a:rect l="l" t="t" r="r" b="b"/>
              <a:pathLst>
                <a:path w="151" h="33">
                  <a:moveTo>
                    <a:pt x="147" y="20"/>
                  </a:moveTo>
                  <a:lnTo>
                    <a:pt x="145" y="19"/>
                  </a:lnTo>
                  <a:lnTo>
                    <a:pt x="139" y="18"/>
                  </a:lnTo>
                  <a:lnTo>
                    <a:pt x="130" y="16"/>
                  </a:lnTo>
                  <a:lnTo>
                    <a:pt x="116" y="15"/>
                  </a:lnTo>
                  <a:lnTo>
                    <a:pt x="97" y="16"/>
                  </a:lnTo>
                  <a:lnTo>
                    <a:pt x="76" y="18"/>
                  </a:lnTo>
                  <a:lnTo>
                    <a:pt x="62" y="20"/>
                  </a:lnTo>
                  <a:lnTo>
                    <a:pt x="48" y="23"/>
                  </a:lnTo>
                  <a:lnTo>
                    <a:pt x="33" y="28"/>
                  </a:lnTo>
                  <a:lnTo>
                    <a:pt x="16" y="33"/>
                  </a:lnTo>
                  <a:lnTo>
                    <a:pt x="15" y="32"/>
                  </a:lnTo>
                  <a:lnTo>
                    <a:pt x="12" y="31"/>
                  </a:lnTo>
                  <a:lnTo>
                    <a:pt x="9" y="29"/>
                  </a:lnTo>
                  <a:lnTo>
                    <a:pt x="6" y="27"/>
                  </a:lnTo>
                  <a:lnTo>
                    <a:pt x="2" y="24"/>
                  </a:lnTo>
                  <a:lnTo>
                    <a:pt x="0" y="22"/>
                  </a:lnTo>
                  <a:lnTo>
                    <a:pt x="0" y="21"/>
                  </a:lnTo>
                  <a:lnTo>
                    <a:pt x="1" y="20"/>
                  </a:lnTo>
                  <a:lnTo>
                    <a:pt x="2" y="19"/>
                  </a:lnTo>
                  <a:lnTo>
                    <a:pt x="3" y="18"/>
                  </a:lnTo>
                  <a:lnTo>
                    <a:pt x="23" y="11"/>
                  </a:lnTo>
                  <a:lnTo>
                    <a:pt x="39" y="7"/>
                  </a:lnTo>
                  <a:lnTo>
                    <a:pt x="55" y="4"/>
                  </a:lnTo>
                  <a:lnTo>
                    <a:pt x="70" y="1"/>
                  </a:lnTo>
                  <a:lnTo>
                    <a:pt x="84" y="0"/>
                  </a:lnTo>
                  <a:lnTo>
                    <a:pt x="97" y="0"/>
                  </a:lnTo>
                  <a:lnTo>
                    <a:pt x="111" y="1"/>
                  </a:lnTo>
                  <a:lnTo>
                    <a:pt x="125" y="3"/>
                  </a:lnTo>
                  <a:lnTo>
                    <a:pt x="137" y="6"/>
                  </a:lnTo>
                  <a:lnTo>
                    <a:pt x="145" y="8"/>
                  </a:lnTo>
                  <a:lnTo>
                    <a:pt x="149" y="11"/>
                  </a:lnTo>
                  <a:lnTo>
                    <a:pt x="151" y="15"/>
                  </a:lnTo>
                  <a:lnTo>
                    <a:pt x="150" y="17"/>
                  </a:lnTo>
                  <a:lnTo>
                    <a:pt x="149" y="19"/>
                  </a:lnTo>
                  <a:lnTo>
                    <a:pt x="148" y="20"/>
                  </a:lnTo>
                  <a:lnTo>
                    <a:pt x="147" y="20"/>
                  </a:lnTo>
                </a:path>
              </a:pathLst>
            </a:custGeom>
            <a:noFill/>
            <a:ln w="1440">
              <a:solidFill>
                <a:srgbClr val="37333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046920" y="5031000"/>
              <a:ext cx="44280" cy="9360"/>
            </a:xfrm>
            <a:custGeom>
              <a:avLst/>
              <a:gdLst/>
              <a:ahLst/>
              <a:rect l="l" t="t" r="r" b="b"/>
              <a:pathLst>
                <a:path w="141" h="34">
                  <a:moveTo>
                    <a:pt x="141" y="18"/>
                  </a:moveTo>
                  <a:lnTo>
                    <a:pt x="138" y="18"/>
                  </a:lnTo>
                  <a:lnTo>
                    <a:pt x="131" y="17"/>
                  </a:lnTo>
                  <a:lnTo>
                    <a:pt x="120" y="16"/>
                  </a:lnTo>
                  <a:lnTo>
                    <a:pt x="105" y="16"/>
                  </a:lnTo>
                  <a:lnTo>
                    <a:pt x="86" y="17"/>
                  </a:lnTo>
                  <a:lnTo>
                    <a:pt x="65" y="19"/>
                  </a:lnTo>
                  <a:lnTo>
                    <a:pt x="54" y="22"/>
                  </a:lnTo>
                  <a:lnTo>
                    <a:pt x="42" y="25"/>
                  </a:lnTo>
                  <a:lnTo>
                    <a:pt x="30" y="29"/>
                  </a:lnTo>
                  <a:lnTo>
                    <a:pt x="17" y="34"/>
                  </a:lnTo>
                  <a:lnTo>
                    <a:pt x="16" y="34"/>
                  </a:lnTo>
                  <a:lnTo>
                    <a:pt x="13" y="32"/>
                  </a:lnTo>
                  <a:lnTo>
                    <a:pt x="10" y="30"/>
                  </a:lnTo>
                  <a:lnTo>
                    <a:pt x="5" y="28"/>
                  </a:lnTo>
                  <a:lnTo>
                    <a:pt x="2" y="26"/>
                  </a:lnTo>
                  <a:lnTo>
                    <a:pt x="0" y="23"/>
                  </a:lnTo>
                  <a:lnTo>
                    <a:pt x="0" y="22"/>
                  </a:lnTo>
                  <a:lnTo>
                    <a:pt x="0" y="21"/>
                  </a:lnTo>
                  <a:lnTo>
                    <a:pt x="1" y="19"/>
                  </a:lnTo>
                  <a:lnTo>
                    <a:pt x="2" y="18"/>
                  </a:lnTo>
                  <a:lnTo>
                    <a:pt x="8" y="16"/>
                  </a:lnTo>
                  <a:lnTo>
                    <a:pt x="17" y="13"/>
                  </a:lnTo>
                  <a:lnTo>
                    <a:pt x="29" y="9"/>
                  </a:lnTo>
                  <a:lnTo>
                    <a:pt x="43" y="4"/>
                  </a:lnTo>
                  <a:lnTo>
                    <a:pt x="59" y="2"/>
                  </a:lnTo>
                  <a:lnTo>
                    <a:pt x="79" y="0"/>
                  </a:lnTo>
                  <a:lnTo>
                    <a:pt x="88" y="0"/>
                  </a:lnTo>
                  <a:lnTo>
                    <a:pt x="99" y="1"/>
                  </a:lnTo>
                  <a:lnTo>
                    <a:pt x="110" y="2"/>
                  </a:lnTo>
                  <a:lnTo>
                    <a:pt x="121" y="4"/>
                  </a:lnTo>
                  <a:lnTo>
                    <a:pt x="122" y="4"/>
                  </a:lnTo>
                  <a:lnTo>
                    <a:pt x="125" y="5"/>
                  </a:lnTo>
                  <a:lnTo>
                    <a:pt x="128" y="7"/>
                  </a:lnTo>
                  <a:lnTo>
                    <a:pt x="133" y="9"/>
                  </a:lnTo>
                  <a:lnTo>
                    <a:pt x="137" y="11"/>
                  </a:lnTo>
                  <a:lnTo>
                    <a:pt x="140" y="13"/>
                  </a:lnTo>
                  <a:lnTo>
                    <a:pt x="141" y="16"/>
                  </a:lnTo>
                  <a:lnTo>
                    <a:pt x="141" y="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046920" y="5031000"/>
              <a:ext cx="44280" cy="9360"/>
            </a:xfrm>
            <a:custGeom>
              <a:avLst/>
              <a:gdLst/>
              <a:ahLst/>
              <a:rect l="l" t="t" r="r" b="b"/>
              <a:pathLst>
                <a:path w="141" h="34">
                  <a:moveTo>
                    <a:pt x="141" y="18"/>
                  </a:moveTo>
                  <a:lnTo>
                    <a:pt x="138" y="18"/>
                  </a:lnTo>
                  <a:lnTo>
                    <a:pt x="131" y="17"/>
                  </a:lnTo>
                  <a:lnTo>
                    <a:pt x="120" y="16"/>
                  </a:lnTo>
                  <a:lnTo>
                    <a:pt x="105" y="16"/>
                  </a:lnTo>
                  <a:lnTo>
                    <a:pt x="86" y="17"/>
                  </a:lnTo>
                  <a:lnTo>
                    <a:pt x="65" y="19"/>
                  </a:lnTo>
                  <a:lnTo>
                    <a:pt x="54" y="22"/>
                  </a:lnTo>
                  <a:lnTo>
                    <a:pt x="42" y="25"/>
                  </a:lnTo>
                  <a:lnTo>
                    <a:pt x="30" y="29"/>
                  </a:lnTo>
                  <a:lnTo>
                    <a:pt x="17" y="34"/>
                  </a:lnTo>
                  <a:lnTo>
                    <a:pt x="16" y="34"/>
                  </a:lnTo>
                  <a:lnTo>
                    <a:pt x="13" y="32"/>
                  </a:lnTo>
                  <a:lnTo>
                    <a:pt x="10" y="30"/>
                  </a:lnTo>
                  <a:lnTo>
                    <a:pt x="5" y="28"/>
                  </a:lnTo>
                  <a:lnTo>
                    <a:pt x="2" y="26"/>
                  </a:lnTo>
                  <a:lnTo>
                    <a:pt x="0" y="23"/>
                  </a:lnTo>
                  <a:lnTo>
                    <a:pt x="0" y="22"/>
                  </a:lnTo>
                  <a:lnTo>
                    <a:pt x="0" y="21"/>
                  </a:lnTo>
                  <a:lnTo>
                    <a:pt x="1" y="19"/>
                  </a:lnTo>
                  <a:lnTo>
                    <a:pt x="2" y="18"/>
                  </a:lnTo>
                  <a:lnTo>
                    <a:pt x="8" y="16"/>
                  </a:lnTo>
                  <a:lnTo>
                    <a:pt x="17" y="13"/>
                  </a:lnTo>
                  <a:lnTo>
                    <a:pt x="29" y="9"/>
                  </a:lnTo>
                  <a:lnTo>
                    <a:pt x="43" y="4"/>
                  </a:lnTo>
                  <a:lnTo>
                    <a:pt x="59" y="2"/>
                  </a:lnTo>
                  <a:lnTo>
                    <a:pt x="79" y="0"/>
                  </a:lnTo>
                  <a:lnTo>
                    <a:pt x="88" y="0"/>
                  </a:lnTo>
                  <a:lnTo>
                    <a:pt x="99" y="1"/>
                  </a:lnTo>
                  <a:lnTo>
                    <a:pt x="110" y="2"/>
                  </a:lnTo>
                  <a:lnTo>
                    <a:pt x="121" y="4"/>
                  </a:lnTo>
                  <a:lnTo>
                    <a:pt x="122" y="4"/>
                  </a:lnTo>
                  <a:lnTo>
                    <a:pt x="125" y="5"/>
                  </a:lnTo>
                  <a:lnTo>
                    <a:pt x="128" y="7"/>
                  </a:lnTo>
                  <a:lnTo>
                    <a:pt x="133" y="9"/>
                  </a:lnTo>
                  <a:lnTo>
                    <a:pt x="137" y="11"/>
                  </a:lnTo>
                  <a:lnTo>
                    <a:pt x="140" y="13"/>
                  </a:lnTo>
                  <a:lnTo>
                    <a:pt x="141" y="16"/>
                  </a:lnTo>
                  <a:lnTo>
                    <a:pt x="141" y="18"/>
                  </a:lnTo>
                </a:path>
              </a:pathLst>
            </a:custGeom>
            <a:noFill/>
            <a:ln w="1440">
              <a:solidFill>
                <a:srgbClr val="37333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064200" y="5018040"/>
              <a:ext cx="7920" cy="38160"/>
            </a:xfrm>
            <a:custGeom>
              <a:avLst/>
              <a:gdLst/>
              <a:ahLst/>
              <a:rect l="l" t="t" r="r" b="b"/>
              <a:pathLst>
                <a:path w="27" h="121">
                  <a:moveTo>
                    <a:pt x="27" y="118"/>
                  </a:moveTo>
                  <a:lnTo>
                    <a:pt x="27" y="115"/>
                  </a:lnTo>
                  <a:lnTo>
                    <a:pt x="27" y="105"/>
                  </a:lnTo>
                  <a:lnTo>
                    <a:pt x="27" y="91"/>
                  </a:lnTo>
                  <a:lnTo>
                    <a:pt x="27" y="74"/>
                  </a:lnTo>
                  <a:lnTo>
                    <a:pt x="27" y="56"/>
                  </a:lnTo>
                  <a:lnTo>
                    <a:pt x="27" y="39"/>
                  </a:lnTo>
                  <a:lnTo>
                    <a:pt x="27" y="24"/>
                  </a:lnTo>
                  <a:lnTo>
                    <a:pt x="27" y="14"/>
                  </a:lnTo>
                  <a:lnTo>
                    <a:pt x="27" y="11"/>
                  </a:lnTo>
                  <a:lnTo>
                    <a:pt x="26" y="8"/>
                  </a:lnTo>
                  <a:lnTo>
                    <a:pt x="25" y="5"/>
                  </a:lnTo>
                  <a:lnTo>
                    <a:pt x="24" y="4"/>
                  </a:lnTo>
                  <a:lnTo>
                    <a:pt x="19" y="1"/>
                  </a:lnTo>
                  <a:lnTo>
                    <a:pt x="14" y="1"/>
                  </a:lnTo>
                  <a:lnTo>
                    <a:pt x="9" y="0"/>
                  </a:lnTo>
                  <a:lnTo>
                    <a:pt x="4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9"/>
                  </a:lnTo>
                  <a:lnTo>
                    <a:pt x="3" y="16"/>
                  </a:lnTo>
                  <a:lnTo>
                    <a:pt x="5" y="25"/>
                  </a:lnTo>
                  <a:lnTo>
                    <a:pt x="7" y="36"/>
                  </a:lnTo>
                  <a:lnTo>
                    <a:pt x="9" y="48"/>
                  </a:lnTo>
                  <a:lnTo>
                    <a:pt x="10" y="59"/>
                  </a:lnTo>
                  <a:lnTo>
                    <a:pt x="10" y="71"/>
                  </a:lnTo>
                  <a:lnTo>
                    <a:pt x="7" y="83"/>
                  </a:lnTo>
                  <a:lnTo>
                    <a:pt x="7" y="94"/>
                  </a:lnTo>
                  <a:lnTo>
                    <a:pt x="7" y="104"/>
                  </a:lnTo>
                  <a:lnTo>
                    <a:pt x="9" y="111"/>
                  </a:lnTo>
                  <a:lnTo>
                    <a:pt x="10" y="115"/>
                  </a:lnTo>
                  <a:lnTo>
                    <a:pt x="11" y="117"/>
                  </a:lnTo>
                  <a:lnTo>
                    <a:pt x="13" y="119"/>
                  </a:lnTo>
                  <a:lnTo>
                    <a:pt x="15" y="120"/>
                  </a:lnTo>
                  <a:lnTo>
                    <a:pt x="17" y="121"/>
                  </a:lnTo>
                  <a:lnTo>
                    <a:pt x="20" y="121"/>
                  </a:lnTo>
                  <a:lnTo>
                    <a:pt x="23" y="120"/>
                  </a:lnTo>
                  <a:lnTo>
                    <a:pt x="27" y="1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064200" y="5018040"/>
              <a:ext cx="7920" cy="38160"/>
            </a:xfrm>
            <a:custGeom>
              <a:avLst/>
              <a:gdLst/>
              <a:ahLst/>
              <a:rect l="l" t="t" r="r" b="b"/>
              <a:pathLst>
                <a:path w="27" h="121">
                  <a:moveTo>
                    <a:pt x="27" y="118"/>
                  </a:moveTo>
                  <a:lnTo>
                    <a:pt x="27" y="115"/>
                  </a:lnTo>
                  <a:lnTo>
                    <a:pt x="27" y="105"/>
                  </a:lnTo>
                  <a:lnTo>
                    <a:pt x="27" y="91"/>
                  </a:lnTo>
                  <a:lnTo>
                    <a:pt x="27" y="74"/>
                  </a:lnTo>
                  <a:lnTo>
                    <a:pt x="27" y="56"/>
                  </a:lnTo>
                  <a:lnTo>
                    <a:pt x="27" y="39"/>
                  </a:lnTo>
                  <a:lnTo>
                    <a:pt x="27" y="24"/>
                  </a:lnTo>
                  <a:lnTo>
                    <a:pt x="27" y="14"/>
                  </a:lnTo>
                  <a:lnTo>
                    <a:pt x="27" y="11"/>
                  </a:lnTo>
                  <a:lnTo>
                    <a:pt x="26" y="8"/>
                  </a:lnTo>
                  <a:lnTo>
                    <a:pt x="25" y="5"/>
                  </a:lnTo>
                  <a:lnTo>
                    <a:pt x="24" y="4"/>
                  </a:lnTo>
                  <a:lnTo>
                    <a:pt x="19" y="1"/>
                  </a:lnTo>
                  <a:lnTo>
                    <a:pt x="14" y="1"/>
                  </a:lnTo>
                  <a:lnTo>
                    <a:pt x="9" y="0"/>
                  </a:lnTo>
                  <a:lnTo>
                    <a:pt x="4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9"/>
                  </a:lnTo>
                  <a:lnTo>
                    <a:pt x="3" y="16"/>
                  </a:lnTo>
                  <a:lnTo>
                    <a:pt x="5" y="25"/>
                  </a:lnTo>
                  <a:lnTo>
                    <a:pt x="7" y="36"/>
                  </a:lnTo>
                  <a:lnTo>
                    <a:pt x="9" y="48"/>
                  </a:lnTo>
                  <a:lnTo>
                    <a:pt x="10" y="59"/>
                  </a:lnTo>
                  <a:lnTo>
                    <a:pt x="10" y="71"/>
                  </a:lnTo>
                  <a:lnTo>
                    <a:pt x="7" y="83"/>
                  </a:lnTo>
                  <a:lnTo>
                    <a:pt x="7" y="94"/>
                  </a:lnTo>
                  <a:lnTo>
                    <a:pt x="7" y="104"/>
                  </a:lnTo>
                  <a:lnTo>
                    <a:pt x="9" y="111"/>
                  </a:lnTo>
                  <a:lnTo>
                    <a:pt x="10" y="115"/>
                  </a:lnTo>
                  <a:lnTo>
                    <a:pt x="11" y="117"/>
                  </a:lnTo>
                  <a:lnTo>
                    <a:pt x="13" y="119"/>
                  </a:lnTo>
                  <a:lnTo>
                    <a:pt x="15" y="120"/>
                  </a:lnTo>
                  <a:lnTo>
                    <a:pt x="17" y="121"/>
                  </a:lnTo>
                  <a:lnTo>
                    <a:pt x="20" y="121"/>
                  </a:lnTo>
                  <a:lnTo>
                    <a:pt x="23" y="120"/>
                  </a:lnTo>
                  <a:lnTo>
                    <a:pt x="27" y="118"/>
                  </a:lnTo>
                </a:path>
              </a:pathLst>
            </a:custGeom>
            <a:noFill/>
            <a:ln w="1440">
              <a:solidFill>
                <a:srgbClr val="37333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046920" y="5010120"/>
              <a:ext cx="10800" cy="30240"/>
            </a:xfrm>
            <a:custGeom>
              <a:avLst/>
              <a:gdLst/>
              <a:ahLst/>
              <a:rect l="l" t="t" r="r" b="b"/>
              <a:pathLst>
                <a:path w="34" h="93">
                  <a:moveTo>
                    <a:pt x="21" y="88"/>
                  </a:moveTo>
                  <a:lnTo>
                    <a:pt x="21" y="86"/>
                  </a:lnTo>
                  <a:lnTo>
                    <a:pt x="20" y="79"/>
                  </a:lnTo>
                  <a:lnTo>
                    <a:pt x="20" y="70"/>
                  </a:lnTo>
                  <a:lnTo>
                    <a:pt x="20" y="59"/>
                  </a:lnTo>
                  <a:lnTo>
                    <a:pt x="20" y="47"/>
                  </a:lnTo>
                  <a:lnTo>
                    <a:pt x="23" y="35"/>
                  </a:lnTo>
                  <a:lnTo>
                    <a:pt x="25" y="24"/>
                  </a:lnTo>
                  <a:lnTo>
                    <a:pt x="29" y="17"/>
                  </a:lnTo>
                  <a:lnTo>
                    <a:pt x="32" y="10"/>
                  </a:lnTo>
                  <a:lnTo>
                    <a:pt x="34" y="6"/>
                  </a:lnTo>
                  <a:lnTo>
                    <a:pt x="34" y="3"/>
                  </a:lnTo>
                  <a:lnTo>
                    <a:pt x="33" y="0"/>
                  </a:lnTo>
                  <a:lnTo>
                    <a:pt x="30" y="0"/>
                  </a:lnTo>
                  <a:lnTo>
                    <a:pt x="27" y="0"/>
                  </a:lnTo>
                  <a:lnTo>
                    <a:pt x="24" y="2"/>
                  </a:lnTo>
                  <a:lnTo>
                    <a:pt x="19" y="4"/>
                  </a:lnTo>
                  <a:lnTo>
                    <a:pt x="14" y="9"/>
                  </a:lnTo>
                  <a:lnTo>
                    <a:pt x="11" y="17"/>
                  </a:lnTo>
                  <a:lnTo>
                    <a:pt x="6" y="26"/>
                  </a:lnTo>
                  <a:lnTo>
                    <a:pt x="3" y="37"/>
                  </a:lnTo>
                  <a:lnTo>
                    <a:pt x="2" y="49"/>
                  </a:lnTo>
                  <a:lnTo>
                    <a:pt x="0" y="60"/>
                  </a:lnTo>
                  <a:lnTo>
                    <a:pt x="0" y="71"/>
                  </a:lnTo>
                  <a:lnTo>
                    <a:pt x="1" y="78"/>
                  </a:lnTo>
                  <a:lnTo>
                    <a:pt x="4" y="85"/>
                  </a:lnTo>
                  <a:lnTo>
                    <a:pt x="6" y="89"/>
                  </a:lnTo>
                  <a:lnTo>
                    <a:pt x="10" y="92"/>
                  </a:lnTo>
                  <a:lnTo>
                    <a:pt x="13" y="93"/>
                  </a:lnTo>
                  <a:lnTo>
                    <a:pt x="16" y="93"/>
                  </a:lnTo>
                  <a:lnTo>
                    <a:pt x="19" y="92"/>
                  </a:lnTo>
                  <a:lnTo>
                    <a:pt x="20" y="90"/>
                  </a:lnTo>
                  <a:lnTo>
                    <a:pt x="21" y="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46920" y="5010120"/>
              <a:ext cx="10800" cy="30240"/>
            </a:xfrm>
            <a:custGeom>
              <a:avLst/>
              <a:gdLst/>
              <a:ahLst/>
              <a:rect l="l" t="t" r="r" b="b"/>
              <a:pathLst>
                <a:path w="34" h="93">
                  <a:moveTo>
                    <a:pt x="21" y="88"/>
                  </a:moveTo>
                  <a:lnTo>
                    <a:pt x="21" y="86"/>
                  </a:lnTo>
                  <a:lnTo>
                    <a:pt x="20" y="79"/>
                  </a:lnTo>
                  <a:lnTo>
                    <a:pt x="20" y="70"/>
                  </a:lnTo>
                  <a:lnTo>
                    <a:pt x="20" y="59"/>
                  </a:lnTo>
                  <a:lnTo>
                    <a:pt x="20" y="47"/>
                  </a:lnTo>
                  <a:lnTo>
                    <a:pt x="23" y="35"/>
                  </a:lnTo>
                  <a:lnTo>
                    <a:pt x="25" y="24"/>
                  </a:lnTo>
                  <a:lnTo>
                    <a:pt x="29" y="17"/>
                  </a:lnTo>
                  <a:lnTo>
                    <a:pt x="32" y="10"/>
                  </a:lnTo>
                  <a:lnTo>
                    <a:pt x="34" y="6"/>
                  </a:lnTo>
                  <a:lnTo>
                    <a:pt x="34" y="3"/>
                  </a:lnTo>
                  <a:lnTo>
                    <a:pt x="33" y="0"/>
                  </a:lnTo>
                  <a:lnTo>
                    <a:pt x="30" y="0"/>
                  </a:lnTo>
                  <a:lnTo>
                    <a:pt x="27" y="0"/>
                  </a:lnTo>
                  <a:lnTo>
                    <a:pt x="24" y="2"/>
                  </a:lnTo>
                  <a:lnTo>
                    <a:pt x="19" y="4"/>
                  </a:lnTo>
                  <a:lnTo>
                    <a:pt x="14" y="9"/>
                  </a:lnTo>
                  <a:lnTo>
                    <a:pt x="11" y="17"/>
                  </a:lnTo>
                  <a:lnTo>
                    <a:pt x="6" y="26"/>
                  </a:lnTo>
                  <a:lnTo>
                    <a:pt x="3" y="37"/>
                  </a:lnTo>
                  <a:lnTo>
                    <a:pt x="2" y="49"/>
                  </a:lnTo>
                  <a:lnTo>
                    <a:pt x="0" y="60"/>
                  </a:lnTo>
                  <a:lnTo>
                    <a:pt x="0" y="71"/>
                  </a:lnTo>
                  <a:lnTo>
                    <a:pt x="1" y="78"/>
                  </a:lnTo>
                  <a:lnTo>
                    <a:pt x="4" y="85"/>
                  </a:lnTo>
                  <a:lnTo>
                    <a:pt x="6" y="89"/>
                  </a:lnTo>
                  <a:lnTo>
                    <a:pt x="10" y="92"/>
                  </a:lnTo>
                  <a:lnTo>
                    <a:pt x="13" y="93"/>
                  </a:lnTo>
                  <a:lnTo>
                    <a:pt x="16" y="93"/>
                  </a:lnTo>
                  <a:lnTo>
                    <a:pt x="19" y="92"/>
                  </a:lnTo>
                  <a:lnTo>
                    <a:pt x="20" y="90"/>
                  </a:lnTo>
                  <a:lnTo>
                    <a:pt x="21" y="88"/>
                  </a:lnTo>
                </a:path>
              </a:pathLst>
            </a:custGeom>
            <a:noFill/>
            <a:ln w="1440">
              <a:solidFill>
                <a:srgbClr val="37333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29280" y="5013360"/>
              <a:ext cx="44640" cy="12600"/>
            </a:xfrm>
            <a:custGeom>
              <a:avLst/>
              <a:gdLst/>
              <a:ahLst/>
              <a:rect l="l" t="t" r="r" b="b"/>
              <a:pathLst>
                <a:path w="141" h="40">
                  <a:moveTo>
                    <a:pt x="141" y="23"/>
                  </a:moveTo>
                  <a:lnTo>
                    <a:pt x="138" y="22"/>
                  </a:lnTo>
                  <a:lnTo>
                    <a:pt x="127" y="20"/>
                  </a:lnTo>
                  <a:lnTo>
                    <a:pt x="112" y="18"/>
                  </a:lnTo>
                  <a:lnTo>
                    <a:pt x="95" y="16"/>
                  </a:lnTo>
                  <a:lnTo>
                    <a:pt x="84" y="15"/>
                  </a:lnTo>
                  <a:lnTo>
                    <a:pt x="74" y="16"/>
                  </a:lnTo>
                  <a:lnTo>
                    <a:pt x="63" y="16"/>
                  </a:lnTo>
                  <a:lnTo>
                    <a:pt x="54" y="19"/>
                  </a:lnTo>
                  <a:lnTo>
                    <a:pt x="44" y="21"/>
                  </a:lnTo>
                  <a:lnTo>
                    <a:pt x="34" y="25"/>
                  </a:lnTo>
                  <a:lnTo>
                    <a:pt x="25" y="29"/>
                  </a:lnTo>
                  <a:lnTo>
                    <a:pt x="18" y="35"/>
                  </a:lnTo>
                  <a:lnTo>
                    <a:pt x="15" y="38"/>
                  </a:lnTo>
                  <a:lnTo>
                    <a:pt x="11" y="39"/>
                  </a:lnTo>
                  <a:lnTo>
                    <a:pt x="9" y="40"/>
                  </a:lnTo>
                  <a:lnTo>
                    <a:pt x="6" y="40"/>
                  </a:lnTo>
                  <a:lnTo>
                    <a:pt x="5" y="39"/>
                  </a:lnTo>
                  <a:lnTo>
                    <a:pt x="3" y="38"/>
                  </a:lnTo>
                  <a:lnTo>
                    <a:pt x="2" y="36"/>
                  </a:lnTo>
                  <a:lnTo>
                    <a:pt x="1" y="34"/>
                  </a:lnTo>
                  <a:lnTo>
                    <a:pt x="0" y="29"/>
                  </a:lnTo>
                  <a:lnTo>
                    <a:pt x="1" y="24"/>
                  </a:lnTo>
                  <a:lnTo>
                    <a:pt x="2" y="22"/>
                  </a:lnTo>
                  <a:lnTo>
                    <a:pt x="3" y="20"/>
                  </a:lnTo>
                  <a:lnTo>
                    <a:pt x="5" y="19"/>
                  </a:lnTo>
                  <a:lnTo>
                    <a:pt x="7" y="18"/>
                  </a:lnTo>
                  <a:lnTo>
                    <a:pt x="14" y="16"/>
                  </a:lnTo>
                  <a:lnTo>
                    <a:pt x="22" y="13"/>
                  </a:lnTo>
                  <a:lnTo>
                    <a:pt x="33" y="9"/>
                  </a:lnTo>
                  <a:lnTo>
                    <a:pt x="46" y="6"/>
                  </a:lnTo>
                  <a:lnTo>
                    <a:pt x="59" y="2"/>
                  </a:lnTo>
                  <a:lnTo>
                    <a:pt x="74" y="0"/>
                  </a:lnTo>
                  <a:lnTo>
                    <a:pt x="82" y="0"/>
                  </a:lnTo>
                  <a:lnTo>
                    <a:pt x="89" y="0"/>
                  </a:lnTo>
                  <a:lnTo>
                    <a:pt x="97" y="1"/>
                  </a:lnTo>
                  <a:lnTo>
                    <a:pt x="104" y="2"/>
                  </a:lnTo>
                  <a:lnTo>
                    <a:pt x="117" y="7"/>
                  </a:lnTo>
                  <a:lnTo>
                    <a:pt x="126" y="10"/>
                  </a:lnTo>
                  <a:lnTo>
                    <a:pt x="134" y="13"/>
                  </a:lnTo>
                  <a:lnTo>
                    <a:pt x="138" y="16"/>
                  </a:lnTo>
                  <a:lnTo>
                    <a:pt x="140" y="19"/>
                  </a:lnTo>
                  <a:lnTo>
                    <a:pt x="141" y="21"/>
                  </a:lnTo>
                  <a:lnTo>
                    <a:pt x="141" y="22"/>
                  </a:lnTo>
                  <a:lnTo>
                    <a:pt x="141" y="2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029280" y="5013360"/>
              <a:ext cx="44640" cy="12600"/>
            </a:xfrm>
            <a:custGeom>
              <a:avLst/>
              <a:gdLst/>
              <a:ahLst/>
              <a:rect l="l" t="t" r="r" b="b"/>
              <a:pathLst>
                <a:path w="141" h="40">
                  <a:moveTo>
                    <a:pt x="141" y="23"/>
                  </a:moveTo>
                  <a:lnTo>
                    <a:pt x="138" y="22"/>
                  </a:lnTo>
                  <a:lnTo>
                    <a:pt x="127" y="20"/>
                  </a:lnTo>
                  <a:lnTo>
                    <a:pt x="112" y="18"/>
                  </a:lnTo>
                  <a:lnTo>
                    <a:pt x="95" y="16"/>
                  </a:lnTo>
                  <a:lnTo>
                    <a:pt x="84" y="15"/>
                  </a:lnTo>
                  <a:lnTo>
                    <a:pt x="74" y="16"/>
                  </a:lnTo>
                  <a:lnTo>
                    <a:pt x="63" y="16"/>
                  </a:lnTo>
                  <a:lnTo>
                    <a:pt x="54" y="19"/>
                  </a:lnTo>
                  <a:lnTo>
                    <a:pt x="44" y="21"/>
                  </a:lnTo>
                  <a:lnTo>
                    <a:pt x="34" y="25"/>
                  </a:lnTo>
                  <a:lnTo>
                    <a:pt x="25" y="29"/>
                  </a:lnTo>
                  <a:lnTo>
                    <a:pt x="18" y="35"/>
                  </a:lnTo>
                  <a:lnTo>
                    <a:pt x="15" y="38"/>
                  </a:lnTo>
                  <a:lnTo>
                    <a:pt x="11" y="39"/>
                  </a:lnTo>
                  <a:lnTo>
                    <a:pt x="9" y="40"/>
                  </a:lnTo>
                  <a:lnTo>
                    <a:pt x="6" y="40"/>
                  </a:lnTo>
                  <a:lnTo>
                    <a:pt x="5" y="39"/>
                  </a:lnTo>
                  <a:lnTo>
                    <a:pt x="3" y="38"/>
                  </a:lnTo>
                  <a:lnTo>
                    <a:pt x="2" y="36"/>
                  </a:lnTo>
                  <a:lnTo>
                    <a:pt x="1" y="34"/>
                  </a:lnTo>
                  <a:lnTo>
                    <a:pt x="0" y="29"/>
                  </a:lnTo>
                  <a:lnTo>
                    <a:pt x="1" y="24"/>
                  </a:lnTo>
                  <a:lnTo>
                    <a:pt x="2" y="22"/>
                  </a:lnTo>
                  <a:lnTo>
                    <a:pt x="3" y="20"/>
                  </a:lnTo>
                  <a:lnTo>
                    <a:pt x="5" y="19"/>
                  </a:lnTo>
                  <a:lnTo>
                    <a:pt x="7" y="18"/>
                  </a:lnTo>
                  <a:lnTo>
                    <a:pt x="14" y="16"/>
                  </a:lnTo>
                  <a:lnTo>
                    <a:pt x="22" y="13"/>
                  </a:lnTo>
                  <a:lnTo>
                    <a:pt x="33" y="9"/>
                  </a:lnTo>
                  <a:lnTo>
                    <a:pt x="46" y="6"/>
                  </a:lnTo>
                  <a:lnTo>
                    <a:pt x="59" y="2"/>
                  </a:lnTo>
                  <a:lnTo>
                    <a:pt x="74" y="0"/>
                  </a:lnTo>
                  <a:lnTo>
                    <a:pt x="82" y="0"/>
                  </a:lnTo>
                  <a:lnTo>
                    <a:pt x="89" y="0"/>
                  </a:lnTo>
                  <a:lnTo>
                    <a:pt x="97" y="1"/>
                  </a:lnTo>
                  <a:lnTo>
                    <a:pt x="104" y="2"/>
                  </a:lnTo>
                  <a:lnTo>
                    <a:pt x="117" y="7"/>
                  </a:lnTo>
                  <a:lnTo>
                    <a:pt x="126" y="10"/>
                  </a:lnTo>
                  <a:lnTo>
                    <a:pt x="134" y="13"/>
                  </a:lnTo>
                  <a:lnTo>
                    <a:pt x="138" y="16"/>
                  </a:lnTo>
                  <a:lnTo>
                    <a:pt x="140" y="19"/>
                  </a:lnTo>
                  <a:lnTo>
                    <a:pt x="141" y="21"/>
                  </a:lnTo>
                  <a:lnTo>
                    <a:pt x="141" y="22"/>
                  </a:lnTo>
                  <a:lnTo>
                    <a:pt x="141" y="23"/>
                  </a:lnTo>
                </a:path>
              </a:pathLst>
            </a:custGeom>
            <a:noFill/>
            <a:ln w="1440">
              <a:solidFill>
                <a:srgbClr val="37333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129360" y="5076720"/>
              <a:ext cx="100080" cy="41400"/>
            </a:xfrm>
            <a:custGeom>
              <a:avLst/>
              <a:gdLst/>
              <a:ahLst/>
              <a:rect l="l" t="t" r="r" b="b"/>
              <a:pathLst>
                <a:path w="318" h="131">
                  <a:moveTo>
                    <a:pt x="294" y="41"/>
                  </a:moveTo>
                  <a:lnTo>
                    <a:pt x="278" y="37"/>
                  </a:lnTo>
                  <a:lnTo>
                    <a:pt x="256" y="30"/>
                  </a:lnTo>
                  <a:lnTo>
                    <a:pt x="231" y="23"/>
                  </a:lnTo>
                  <a:lnTo>
                    <a:pt x="203" y="15"/>
                  </a:lnTo>
                  <a:lnTo>
                    <a:pt x="175" y="8"/>
                  </a:lnTo>
                  <a:lnTo>
                    <a:pt x="148" y="2"/>
                  </a:lnTo>
                  <a:lnTo>
                    <a:pt x="135" y="1"/>
                  </a:lnTo>
                  <a:lnTo>
                    <a:pt x="122" y="0"/>
                  </a:lnTo>
                  <a:lnTo>
                    <a:pt x="111" y="0"/>
                  </a:lnTo>
                  <a:lnTo>
                    <a:pt x="100" y="2"/>
                  </a:lnTo>
                  <a:lnTo>
                    <a:pt x="81" y="6"/>
                  </a:lnTo>
                  <a:lnTo>
                    <a:pt x="64" y="12"/>
                  </a:lnTo>
                  <a:lnTo>
                    <a:pt x="56" y="15"/>
                  </a:lnTo>
                  <a:lnTo>
                    <a:pt x="49" y="18"/>
                  </a:lnTo>
                  <a:lnTo>
                    <a:pt x="42" y="23"/>
                  </a:lnTo>
                  <a:lnTo>
                    <a:pt x="36" y="27"/>
                  </a:lnTo>
                  <a:lnTo>
                    <a:pt x="30" y="31"/>
                  </a:lnTo>
                  <a:lnTo>
                    <a:pt x="25" y="37"/>
                  </a:lnTo>
                  <a:lnTo>
                    <a:pt x="19" y="42"/>
                  </a:lnTo>
                  <a:lnTo>
                    <a:pt x="16" y="48"/>
                  </a:lnTo>
                  <a:lnTo>
                    <a:pt x="12" y="54"/>
                  </a:lnTo>
                  <a:lnTo>
                    <a:pt x="9" y="62"/>
                  </a:lnTo>
                  <a:lnTo>
                    <a:pt x="6" y="68"/>
                  </a:lnTo>
                  <a:lnTo>
                    <a:pt x="4" y="76"/>
                  </a:lnTo>
                  <a:lnTo>
                    <a:pt x="1" y="92"/>
                  </a:lnTo>
                  <a:lnTo>
                    <a:pt x="0" y="105"/>
                  </a:lnTo>
                  <a:lnTo>
                    <a:pt x="1" y="111"/>
                  </a:lnTo>
                  <a:lnTo>
                    <a:pt x="3" y="117"/>
                  </a:lnTo>
                  <a:lnTo>
                    <a:pt x="6" y="121"/>
                  </a:lnTo>
                  <a:lnTo>
                    <a:pt x="11" y="124"/>
                  </a:lnTo>
                  <a:lnTo>
                    <a:pt x="18" y="127"/>
                  </a:lnTo>
                  <a:lnTo>
                    <a:pt x="27" y="130"/>
                  </a:lnTo>
                  <a:lnTo>
                    <a:pt x="38" y="131"/>
                  </a:lnTo>
                  <a:lnTo>
                    <a:pt x="52" y="131"/>
                  </a:lnTo>
                  <a:lnTo>
                    <a:pt x="68" y="131"/>
                  </a:lnTo>
                  <a:lnTo>
                    <a:pt x="87" y="129"/>
                  </a:lnTo>
                  <a:lnTo>
                    <a:pt x="109" y="126"/>
                  </a:lnTo>
                  <a:lnTo>
                    <a:pt x="135" y="123"/>
                  </a:lnTo>
                  <a:lnTo>
                    <a:pt x="161" y="118"/>
                  </a:lnTo>
                  <a:lnTo>
                    <a:pt x="186" y="113"/>
                  </a:lnTo>
                  <a:lnTo>
                    <a:pt x="208" y="108"/>
                  </a:lnTo>
                  <a:lnTo>
                    <a:pt x="230" y="103"/>
                  </a:lnTo>
                  <a:lnTo>
                    <a:pt x="250" y="96"/>
                  </a:lnTo>
                  <a:lnTo>
                    <a:pt x="267" y="91"/>
                  </a:lnTo>
                  <a:lnTo>
                    <a:pt x="282" y="85"/>
                  </a:lnTo>
                  <a:lnTo>
                    <a:pt x="294" y="79"/>
                  </a:lnTo>
                  <a:lnTo>
                    <a:pt x="304" y="73"/>
                  </a:lnTo>
                  <a:lnTo>
                    <a:pt x="311" y="68"/>
                  </a:lnTo>
                  <a:lnTo>
                    <a:pt x="314" y="66"/>
                  </a:lnTo>
                  <a:lnTo>
                    <a:pt x="317" y="63"/>
                  </a:lnTo>
                  <a:lnTo>
                    <a:pt x="318" y="60"/>
                  </a:lnTo>
                  <a:lnTo>
                    <a:pt x="318" y="58"/>
                  </a:lnTo>
                  <a:lnTo>
                    <a:pt x="318" y="55"/>
                  </a:lnTo>
                  <a:lnTo>
                    <a:pt x="317" y="53"/>
                  </a:lnTo>
                  <a:lnTo>
                    <a:pt x="315" y="51"/>
                  </a:lnTo>
                  <a:lnTo>
                    <a:pt x="312" y="49"/>
                  </a:lnTo>
                  <a:lnTo>
                    <a:pt x="305" y="44"/>
                  </a:lnTo>
                  <a:lnTo>
                    <a:pt x="294" y="41"/>
                  </a:lnTo>
                  <a:close/>
                </a:path>
              </a:pathLst>
            </a:custGeom>
            <a:solidFill>
              <a:srgbClr val="b5b5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35840" y="5079960"/>
              <a:ext cx="83880" cy="33480"/>
            </a:xfrm>
            <a:custGeom>
              <a:avLst/>
              <a:gdLst/>
              <a:ahLst/>
              <a:rect l="l" t="t" r="r" b="b"/>
              <a:pathLst>
                <a:path w="263" h="107">
                  <a:moveTo>
                    <a:pt x="111" y="99"/>
                  </a:moveTo>
                  <a:lnTo>
                    <a:pt x="153" y="91"/>
                  </a:lnTo>
                  <a:lnTo>
                    <a:pt x="191" y="84"/>
                  </a:lnTo>
                  <a:lnTo>
                    <a:pt x="207" y="80"/>
                  </a:lnTo>
                  <a:lnTo>
                    <a:pt x="221" y="75"/>
                  </a:lnTo>
                  <a:lnTo>
                    <a:pt x="233" y="71"/>
                  </a:lnTo>
                  <a:lnTo>
                    <a:pt x="244" y="66"/>
                  </a:lnTo>
                  <a:lnTo>
                    <a:pt x="252" y="61"/>
                  </a:lnTo>
                  <a:lnTo>
                    <a:pt x="258" y="57"/>
                  </a:lnTo>
                  <a:lnTo>
                    <a:pt x="262" y="53"/>
                  </a:lnTo>
                  <a:lnTo>
                    <a:pt x="263" y="48"/>
                  </a:lnTo>
                  <a:lnTo>
                    <a:pt x="263" y="47"/>
                  </a:lnTo>
                  <a:lnTo>
                    <a:pt x="262" y="45"/>
                  </a:lnTo>
                  <a:lnTo>
                    <a:pt x="260" y="43"/>
                  </a:lnTo>
                  <a:lnTo>
                    <a:pt x="258" y="41"/>
                  </a:lnTo>
                  <a:lnTo>
                    <a:pt x="251" y="37"/>
                  </a:lnTo>
                  <a:lnTo>
                    <a:pt x="242" y="34"/>
                  </a:lnTo>
                  <a:lnTo>
                    <a:pt x="229" y="31"/>
                  </a:lnTo>
                  <a:lnTo>
                    <a:pt x="211" y="26"/>
                  </a:lnTo>
                  <a:lnTo>
                    <a:pt x="191" y="19"/>
                  </a:lnTo>
                  <a:lnTo>
                    <a:pt x="168" y="12"/>
                  </a:lnTo>
                  <a:lnTo>
                    <a:pt x="144" y="6"/>
                  </a:lnTo>
                  <a:lnTo>
                    <a:pt x="122" y="2"/>
                  </a:lnTo>
                  <a:lnTo>
                    <a:pt x="111" y="0"/>
                  </a:lnTo>
                  <a:lnTo>
                    <a:pt x="101" y="0"/>
                  </a:lnTo>
                  <a:lnTo>
                    <a:pt x="91" y="0"/>
                  </a:lnTo>
                  <a:lnTo>
                    <a:pt x="84" y="0"/>
                  </a:lnTo>
                  <a:lnTo>
                    <a:pt x="68" y="4"/>
                  </a:lnTo>
                  <a:lnTo>
                    <a:pt x="54" y="8"/>
                  </a:lnTo>
                  <a:lnTo>
                    <a:pt x="41" y="14"/>
                  </a:lnTo>
                  <a:lnTo>
                    <a:pt x="30" y="21"/>
                  </a:lnTo>
                  <a:lnTo>
                    <a:pt x="26" y="24"/>
                  </a:lnTo>
                  <a:lnTo>
                    <a:pt x="21" y="29"/>
                  </a:lnTo>
                  <a:lnTo>
                    <a:pt x="17" y="34"/>
                  </a:lnTo>
                  <a:lnTo>
                    <a:pt x="14" y="39"/>
                  </a:lnTo>
                  <a:lnTo>
                    <a:pt x="10" y="44"/>
                  </a:lnTo>
                  <a:lnTo>
                    <a:pt x="8" y="49"/>
                  </a:lnTo>
                  <a:lnTo>
                    <a:pt x="6" y="56"/>
                  </a:lnTo>
                  <a:lnTo>
                    <a:pt x="4" y="62"/>
                  </a:lnTo>
                  <a:lnTo>
                    <a:pt x="1" y="75"/>
                  </a:lnTo>
                  <a:lnTo>
                    <a:pt x="0" y="86"/>
                  </a:lnTo>
                  <a:lnTo>
                    <a:pt x="1" y="91"/>
                  </a:lnTo>
                  <a:lnTo>
                    <a:pt x="3" y="95"/>
                  </a:lnTo>
                  <a:lnTo>
                    <a:pt x="5" y="99"/>
                  </a:lnTo>
                  <a:lnTo>
                    <a:pt x="9" y="102"/>
                  </a:lnTo>
                  <a:lnTo>
                    <a:pt x="15" y="104"/>
                  </a:lnTo>
                  <a:lnTo>
                    <a:pt x="22" y="105"/>
                  </a:lnTo>
                  <a:lnTo>
                    <a:pt x="31" y="107"/>
                  </a:lnTo>
                  <a:lnTo>
                    <a:pt x="43" y="107"/>
                  </a:lnTo>
                  <a:lnTo>
                    <a:pt x="56" y="107"/>
                  </a:lnTo>
                  <a:lnTo>
                    <a:pt x="72" y="104"/>
                  </a:lnTo>
                  <a:lnTo>
                    <a:pt x="90" y="102"/>
                  </a:lnTo>
                  <a:lnTo>
                    <a:pt x="111" y="99"/>
                  </a:lnTo>
                  <a:close/>
                </a:path>
              </a:pathLst>
            </a:custGeom>
            <a:solidFill>
              <a:srgbClr val="bfbf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41960" y="5081760"/>
              <a:ext cx="66600" cy="28440"/>
            </a:xfrm>
            <a:custGeom>
              <a:avLst/>
              <a:gdLst/>
              <a:ahLst/>
              <a:rect l="l" t="t" r="r" b="b"/>
              <a:pathLst>
                <a:path w="210" h="86">
                  <a:moveTo>
                    <a:pt x="89" y="80"/>
                  </a:moveTo>
                  <a:lnTo>
                    <a:pt x="122" y="74"/>
                  </a:lnTo>
                  <a:lnTo>
                    <a:pt x="153" y="67"/>
                  </a:lnTo>
                  <a:lnTo>
                    <a:pt x="176" y="60"/>
                  </a:lnTo>
                  <a:lnTo>
                    <a:pt x="195" y="53"/>
                  </a:lnTo>
                  <a:lnTo>
                    <a:pt x="201" y="49"/>
                  </a:lnTo>
                  <a:lnTo>
                    <a:pt x="206" y="46"/>
                  </a:lnTo>
                  <a:lnTo>
                    <a:pt x="209" y="42"/>
                  </a:lnTo>
                  <a:lnTo>
                    <a:pt x="210" y="39"/>
                  </a:lnTo>
                  <a:lnTo>
                    <a:pt x="209" y="36"/>
                  </a:lnTo>
                  <a:lnTo>
                    <a:pt x="206" y="33"/>
                  </a:lnTo>
                  <a:lnTo>
                    <a:pt x="200" y="30"/>
                  </a:lnTo>
                  <a:lnTo>
                    <a:pt x="193" y="27"/>
                  </a:lnTo>
                  <a:lnTo>
                    <a:pt x="182" y="25"/>
                  </a:lnTo>
                  <a:lnTo>
                    <a:pt x="169" y="21"/>
                  </a:lnTo>
                  <a:lnTo>
                    <a:pt x="152" y="15"/>
                  </a:lnTo>
                  <a:lnTo>
                    <a:pt x="134" y="10"/>
                  </a:lnTo>
                  <a:lnTo>
                    <a:pt x="116" y="6"/>
                  </a:lnTo>
                  <a:lnTo>
                    <a:pt x="98" y="2"/>
                  </a:lnTo>
                  <a:lnTo>
                    <a:pt x="89" y="1"/>
                  </a:lnTo>
                  <a:lnTo>
                    <a:pt x="81" y="0"/>
                  </a:lnTo>
                  <a:lnTo>
                    <a:pt x="74" y="0"/>
                  </a:lnTo>
                  <a:lnTo>
                    <a:pt x="66" y="0"/>
                  </a:lnTo>
                  <a:lnTo>
                    <a:pt x="54" y="3"/>
                  </a:lnTo>
                  <a:lnTo>
                    <a:pt x="42" y="8"/>
                  </a:lnTo>
                  <a:lnTo>
                    <a:pt x="33" y="12"/>
                  </a:lnTo>
                  <a:lnTo>
                    <a:pt x="24" y="17"/>
                  </a:lnTo>
                  <a:lnTo>
                    <a:pt x="16" y="24"/>
                  </a:lnTo>
                  <a:lnTo>
                    <a:pt x="10" y="32"/>
                  </a:lnTo>
                  <a:lnTo>
                    <a:pt x="6" y="40"/>
                  </a:lnTo>
                  <a:lnTo>
                    <a:pt x="2" y="50"/>
                  </a:lnTo>
                  <a:lnTo>
                    <a:pt x="0" y="61"/>
                  </a:lnTo>
                  <a:lnTo>
                    <a:pt x="0" y="69"/>
                  </a:lnTo>
                  <a:lnTo>
                    <a:pt x="1" y="73"/>
                  </a:lnTo>
                  <a:lnTo>
                    <a:pt x="2" y="76"/>
                  </a:lnTo>
                  <a:lnTo>
                    <a:pt x="5" y="79"/>
                  </a:lnTo>
                  <a:lnTo>
                    <a:pt x="8" y="81"/>
                  </a:lnTo>
                  <a:lnTo>
                    <a:pt x="13" y="83"/>
                  </a:lnTo>
                  <a:lnTo>
                    <a:pt x="19" y="84"/>
                  </a:lnTo>
                  <a:lnTo>
                    <a:pt x="26" y="86"/>
                  </a:lnTo>
                  <a:lnTo>
                    <a:pt x="35" y="86"/>
                  </a:lnTo>
                  <a:lnTo>
                    <a:pt x="58" y="83"/>
                  </a:lnTo>
                  <a:lnTo>
                    <a:pt x="89" y="80"/>
                  </a:lnTo>
                  <a:close/>
                </a:path>
              </a:pathLst>
            </a:custGeom>
            <a:solidFill>
              <a:srgbClr val="cc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149880" y="5085000"/>
              <a:ext cx="49320" cy="20520"/>
            </a:xfrm>
            <a:custGeom>
              <a:avLst/>
              <a:gdLst/>
              <a:ahLst/>
              <a:rect l="l" t="t" r="r" b="b"/>
              <a:pathLst>
                <a:path w="155" h="65">
                  <a:moveTo>
                    <a:pt x="67" y="59"/>
                  </a:moveTo>
                  <a:lnTo>
                    <a:pt x="92" y="55"/>
                  </a:lnTo>
                  <a:lnTo>
                    <a:pt x="112" y="51"/>
                  </a:lnTo>
                  <a:lnTo>
                    <a:pt x="131" y="45"/>
                  </a:lnTo>
                  <a:lnTo>
                    <a:pt x="144" y="40"/>
                  </a:lnTo>
                  <a:lnTo>
                    <a:pt x="149" y="36"/>
                  </a:lnTo>
                  <a:lnTo>
                    <a:pt x="152" y="34"/>
                  </a:lnTo>
                  <a:lnTo>
                    <a:pt x="154" y="31"/>
                  </a:lnTo>
                  <a:lnTo>
                    <a:pt x="155" y="29"/>
                  </a:lnTo>
                  <a:lnTo>
                    <a:pt x="155" y="27"/>
                  </a:lnTo>
                  <a:lnTo>
                    <a:pt x="153" y="24"/>
                  </a:lnTo>
                  <a:lnTo>
                    <a:pt x="149" y="21"/>
                  </a:lnTo>
                  <a:lnTo>
                    <a:pt x="144" y="19"/>
                  </a:lnTo>
                  <a:lnTo>
                    <a:pt x="135" y="18"/>
                  </a:lnTo>
                  <a:lnTo>
                    <a:pt x="125" y="15"/>
                  </a:lnTo>
                  <a:lnTo>
                    <a:pt x="112" y="12"/>
                  </a:lnTo>
                  <a:lnTo>
                    <a:pt x="99" y="8"/>
                  </a:lnTo>
                  <a:lnTo>
                    <a:pt x="85" y="4"/>
                  </a:lnTo>
                  <a:lnTo>
                    <a:pt x="72" y="2"/>
                  </a:lnTo>
                  <a:lnTo>
                    <a:pt x="59" y="0"/>
                  </a:lnTo>
                  <a:lnTo>
                    <a:pt x="50" y="0"/>
                  </a:lnTo>
                  <a:lnTo>
                    <a:pt x="41" y="2"/>
                  </a:lnTo>
                  <a:lnTo>
                    <a:pt x="32" y="5"/>
                  </a:lnTo>
                  <a:lnTo>
                    <a:pt x="25" y="8"/>
                  </a:lnTo>
                  <a:lnTo>
                    <a:pt x="18" y="13"/>
                  </a:lnTo>
                  <a:lnTo>
                    <a:pt x="13" y="18"/>
                  </a:lnTo>
                  <a:lnTo>
                    <a:pt x="9" y="24"/>
                  </a:lnTo>
                  <a:lnTo>
                    <a:pt x="5" y="30"/>
                  </a:lnTo>
                  <a:lnTo>
                    <a:pt x="2" y="38"/>
                  </a:lnTo>
                  <a:lnTo>
                    <a:pt x="1" y="45"/>
                  </a:lnTo>
                  <a:lnTo>
                    <a:pt x="0" y="52"/>
                  </a:lnTo>
                  <a:lnTo>
                    <a:pt x="1" y="55"/>
                  </a:lnTo>
                  <a:lnTo>
                    <a:pt x="2" y="57"/>
                  </a:lnTo>
                  <a:lnTo>
                    <a:pt x="3" y="59"/>
                  </a:lnTo>
                  <a:lnTo>
                    <a:pt x="5" y="61"/>
                  </a:lnTo>
                  <a:lnTo>
                    <a:pt x="10" y="62"/>
                  </a:lnTo>
                  <a:lnTo>
                    <a:pt x="14" y="63"/>
                  </a:lnTo>
                  <a:lnTo>
                    <a:pt x="19" y="65"/>
                  </a:lnTo>
                  <a:lnTo>
                    <a:pt x="26" y="65"/>
                  </a:lnTo>
                  <a:lnTo>
                    <a:pt x="43" y="62"/>
                  </a:lnTo>
                  <a:lnTo>
                    <a:pt x="67" y="59"/>
                  </a:lnTo>
                  <a:close/>
                </a:path>
              </a:pathLst>
            </a:custGeom>
            <a:solidFill>
              <a:srgbClr val="d7d7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157800" y="5087880"/>
              <a:ext cx="31680" cy="12960"/>
            </a:xfrm>
            <a:custGeom>
              <a:avLst/>
              <a:gdLst/>
              <a:ahLst/>
              <a:rect l="l" t="t" r="r" b="b"/>
              <a:pathLst>
                <a:path w="100" h="41">
                  <a:moveTo>
                    <a:pt x="93" y="14"/>
                  </a:moveTo>
                  <a:lnTo>
                    <a:pt x="87" y="12"/>
                  </a:lnTo>
                  <a:lnTo>
                    <a:pt x="80" y="10"/>
                  </a:lnTo>
                  <a:lnTo>
                    <a:pt x="72" y="8"/>
                  </a:lnTo>
                  <a:lnTo>
                    <a:pt x="63" y="5"/>
                  </a:lnTo>
                  <a:lnTo>
                    <a:pt x="54" y="3"/>
                  </a:lnTo>
                  <a:lnTo>
                    <a:pt x="45" y="1"/>
                  </a:lnTo>
                  <a:lnTo>
                    <a:pt x="37" y="0"/>
                  </a:lnTo>
                  <a:lnTo>
                    <a:pt x="30" y="1"/>
                  </a:lnTo>
                  <a:lnTo>
                    <a:pt x="24" y="3"/>
                  </a:lnTo>
                  <a:lnTo>
                    <a:pt x="19" y="5"/>
                  </a:lnTo>
                  <a:lnTo>
                    <a:pt x="14" y="7"/>
                  </a:lnTo>
                  <a:lnTo>
                    <a:pt x="9" y="9"/>
                  </a:lnTo>
                  <a:lnTo>
                    <a:pt x="6" y="12"/>
                  </a:lnTo>
                  <a:lnTo>
                    <a:pt x="4" y="16"/>
                  </a:lnTo>
                  <a:lnTo>
                    <a:pt x="2" y="20"/>
                  </a:lnTo>
                  <a:lnTo>
                    <a:pt x="1" y="24"/>
                  </a:lnTo>
                  <a:lnTo>
                    <a:pt x="0" y="30"/>
                  </a:lnTo>
                  <a:lnTo>
                    <a:pt x="0" y="34"/>
                  </a:lnTo>
                  <a:lnTo>
                    <a:pt x="1" y="37"/>
                  </a:lnTo>
                  <a:lnTo>
                    <a:pt x="3" y="40"/>
                  </a:lnTo>
                  <a:lnTo>
                    <a:pt x="8" y="41"/>
                  </a:lnTo>
                  <a:lnTo>
                    <a:pt x="16" y="41"/>
                  </a:lnTo>
                  <a:lnTo>
                    <a:pt x="28" y="41"/>
                  </a:lnTo>
                  <a:lnTo>
                    <a:pt x="43" y="39"/>
                  </a:lnTo>
                  <a:lnTo>
                    <a:pt x="58" y="36"/>
                  </a:lnTo>
                  <a:lnTo>
                    <a:pt x="72" y="33"/>
                  </a:lnTo>
                  <a:lnTo>
                    <a:pt x="84" y="30"/>
                  </a:lnTo>
                  <a:lnTo>
                    <a:pt x="93" y="25"/>
                  </a:lnTo>
                  <a:lnTo>
                    <a:pt x="98" y="22"/>
                  </a:lnTo>
                  <a:lnTo>
                    <a:pt x="100" y="19"/>
                  </a:lnTo>
                  <a:lnTo>
                    <a:pt x="100" y="18"/>
                  </a:lnTo>
                  <a:lnTo>
                    <a:pt x="98" y="17"/>
                  </a:lnTo>
                  <a:lnTo>
                    <a:pt x="96" y="16"/>
                  </a:lnTo>
                  <a:lnTo>
                    <a:pt x="93" y="14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056280" y="4967280"/>
              <a:ext cx="54000" cy="49320"/>
            </a:xfrm>
            <a:custGeom>
              <a:avLst/>
              <a:gdLst/>
              <a:ahLst/>
              <a:rect l="l" t="t" r="r" b="b"/>
              <a:pathLst>
                <a:path w="171" h="158">
                  <a:moveTo>
                    <a:pt x="37" y="158"/>
                  </a:moveTo>
                  <a:lnTo>
                    <a:pt x="41" y="158"/>
                  </a:lnTo>
                  <a:lnTo>
                    <a:pt x="51" y="155"/>
                  </a:lnTo>
                  <a:lnTo>
                    <a:pt x="58" y="153"/>
                  </a:lnTo>
                  <a:lnTo>
                    <a:pt x="67" y="148"/>
                  </a:lnTo>
                  <a:lnTo>
                    <a:pt x="77" y="144"/>
                  </a:lnTo>
                  <a:lnTo>
                    <a:pt x="86" y="139"/>
                  </a:lnTo>
                  <a:lnTo>
                    <a:pt x="96" y="132"/>
                  </a:lnTo>
                  <a:lnTo>
                    <a:pt x="107" y="123"/>
                  </a:lnTo>
                  <a:lnTo>
                    <a:pt x="118" y="114"/>
                  </a:lnTo>
                  <a:lnTo>
                    <a:pt x="129" y="102"/>
                  </a:lnTo>
                  <a:lnTo>
                    <a:pt x="138" y="89"/>
                  </a:lnTo>
                  <a:lnTo>
                    <a:pt x="148" y="74"/>
                  </a:lnTo>
                  <a:lnTo>
                    <a:pt x="158" y="56"/>
                  </a:lnTo>
                  <a:lnTo>
                    <a:pt x="165" y="37"/>
                  </a:lnTo>
                  <a:lnTo>
                    <a:pt x="169" y="27"/>
                  </a:lnTo>
                  <a:lnTo>
                    <a:pt x="171" y="20"/>
                  </a:lnTo>
                  <a:lnTo>
                    <a:pt x="171" y="13"/>
                  </a:lnTo>
                  <a:lnTo>
                    <a:pt x="171" y="8"/>
                  </a:lnTo>
                  <a:lnTo>
                    <a:pt x="169" y="5"/>
                  </a:lnTo>
                  <a:lnTo>
                    <a:pt x="165" y="1"/>
                  </a:lnTo>
                  <a:lnTo>
                    <a:pt x="162" y="0"/>
                  </a:lnTo>
                  <a:lnTo>
                    <a:pt x="157" y="0"/>
                  </a:lnTo>
                  <a:lnTo>
                    <a:pt x="151" y="1"/>
                  </a:lnTo>
                  <a:lnTo>
                    <a:pt x="146" y="2"/>
                  </a:lnTo>
                  <a:lnTo>
                    <a:pt x="138" y="6"/>
                  </a:lnTo>
                  <a:lnTo>
                    <a:pt x="132" y="9"/>
                  </a:lnTo>
                  <a:lnTo>
                    <a:pt x="116" y="18"/>
                  </a:lnTo>
                  <a:lnTo>
                    <a:pt x="98" y="29"/>
                  </a:lnTo>
                  <a:lnTo>
                    <a:pt x="81" y="44"/>
                  </a:lnTo>
                  <a:lnTo>
                    <a:pt x="63" y="60"/>
                  </a:lnTo>
                  <a:lnTo>
                    <a:pt x="47" y="76"/>
                  </a:lnTo>
                  <a:lnTo>
                    <a:pt x="31" y="93"/>
                  </a:lnTo>
                  <a:lnTo>
                    <a:pt x="18" y="110"/>
                  </a:lnTo>
                  <a:lnTo>
                    <a:pt x="9" y="127"/>
                  </a:lnTo>
                  <a:lnTo>
                    <a:pt x="4" y="134"/>
                  </a:lnTo>
                  <a:lnTo>
                    <a:pt x="2" y="142"/>
                  </a:lnTo>
                  <a:lnTo>
                    <a:pt x="0" y="149"/>
                  </a:lnTo>
                  <a:lnTo>
                    <a:pt x="0" y="156"/>
                  </a:lnTo>
                </a:path>
              </a:pathLst>
            </a:custGeom>
            <a:noFill/>
            <a:ln w="7920">
              <a:solidFill>
                <a:srgbClr val="433f3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037200" y="4957920"/>
              <a:ext cx="31680" cy="66600"/>
            </a:xfrm>
            <a:custGeom>
              <a:avLst/>
              <a:gdLst/>
              <a:ahLst/>
              <a:rect l="l" t="t" r="r" b="b"/>
              <a:pathLst>
                <a:path w="100" h="211">
                  <a:moveTo>
                    <a:pt x="85" y="186"/>
                  </a:moveTo>
                  <a:lnTo>
                    <a:pt x="86" y="180"/>
                  </a:lnTo>
                  <a:lnTo>
                    <a:pt x="90" y="166"/>
                  </a:lnTo>
                  <a:lnTo>
                    <a:pt x="95" y="146"/>
                  </a:lnTo>
                  <a:lnTo>
                    <a:pt x="99" y="120"/>
                  </a:lnTo>
                  <a:lnTo>
                    <a:pt x="100" y="106"/>
                  </a:lnTo>
                  <a:lnTo>
                    <a:pt x="100" y="92"/>
                  </a:lnTo>
                  <a:lnTo>
                    <a:pt x="99" y="77"/>
                  </a:lnTo>
                  <a:lnTo>
                    <a:pt x="97" y="63"/>
                  </a:lnTo>
                  <a:lnTo>
                    <a:pt x="94" y="49"/>
                  </a:lnTo>
                  <a:lnTo>
                    <a:pt x="88" y="36"/>
                  </a:lnTo>
                  <a:lnTo>
                    <a:pt x="85" y="29"/>
                  </a:lnTo>
                  <a:lnTo>
                    <a:pt x="82" y="24"/>
                  </a:lnTo>
                  <a:lnTo>
                    <a:pt x="77" y="18"/>
                  </a:lnTo>
                  <a:lnTo>
                    <a:pt x="72" y="13"/>
                  </a:lnTo>
                  <a:lnTo>
                    <a:pt x="68" y="9"/>
                  </a:lnTo>
                  <a:lnTo>
                    <a:pt x="62" y="4"/>
                  </a:lnTo>
                  <a:lnTo>
                    <a:pt x="58" y="2"/>
                  </a:lnTo>
                  <a:lnTo>
                    <a:pt x="54" y="1"/>
                  </a:lnTo>
                  <a:lnTo>
                    <a:pt x="49" y="0"/>
                  </a:lnTo>
                  <a:lnTo>
                    <a:pt x="45" y="0"/>
                  </a:lnTo>
                  <a:lnTo>
                    <a:pt x="41" y="1"/>
                  </a:lnTo>
                  <a:lnTo>
                    <a:pt x="36" y="3"/>
                  </a:lnTo>
                  <a:lnTo>
                    <a:pt x="33" y="5"/>
                  </a:lnTo>
                  <a:lnTo>
                    <a:pt x="29" y="9"/>
                  </a:lnTo>
                  <a:lnTo>
                    <a:pt x="25" y="13"/>
                  </a:lnTo>
                  <a:lnTo>
                    <a:pt x="22" y="17"/>
                  </a:lnTo>
                  <a:lnTo>
                    <a:pt x="17" y="28"/>
                  </a:lnTo>
                  <a:lnTo>
                    <a:pt x="11" y="40"/>
                  </a:lnTo>
                  <a:lnTo>
                    <a:pt x="7" y="54"/>
                  </a:lnTo>
                  <a:lnTo>
                    <a:pt x="4" y="69"/>
                  </a:lnTo>
                  <a:lnTo>
                    <a:pt x="2" y="85"/>
                  </a:lnTo>
                  <a:lnTo>
                    <a:pt x="0" y="103"/>
                  </a:lnTo>
                  <a:lnTo>
                    <a:pt x="0" y="119"/>
                  </a:lnTo>
                  <a:lnTo>
                    <a:pt x="2" y="135"/>
                  </a:lnTo>
                  <a:lnTo>
                    <a:pt x="4" y="151"/>
                  </a:lnTo>
                  <a:lnTo>
                    <a:pt x="8" y="166"/>
                  </a:lnTo>
                  <a:lnTo>
                    <a:pt x="13" y="179"/>
                  </a:lnTo>
                  <a:lnTo>
                    <a:pt x="17" y="189"/>
                  </a:lnTo>
                  <a:lnTo>
                    <a:pt x="20" y="198"/>
                  </a:lnTo>
                  <a:lnTo>
                    <a:pt x="24" y="203"/>
                  </a:lnTo>
                  <a:lnTo>
                    <a:pt x="28" y="207"/>
                  </a:lnTo>
                  <a:lnTo>
                    <a:pt x="31" y="210"/>
                  </a:lnTo>
                  <a:lnTo>
                    <a:pt x="33" y="211"/>
                  </a:lnTo>
                  <a:lnTo>
                    <a:pt x="35" y="211"/>
                  </a:lnTo>
                  <a:lnTo>
                    <a:pt x="40" y="209"/>
                  </a:lnTo>
                  <a:lnTo>
                    <a:pt x="43" y="204"/>
                  </a:lnTo>
                  <a:lnTo>
                    <a:pt x="44" y="200"/>
                  </a:lnTo>
                  <a:lnTo>
                    <a:pt x="45" y="199"/>
                  </a:lnTo>
                </a:path>
              </a:pathLst>
            </a:custGeom>
            <a:noFill/>
            <a:ln w="7920">
              <a:solidFill>
                <a:srgbClr val="433f3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056280" y="4967280"/>
              <a:ext cx="54000" cy="49320"/>
            </a:xfrm>
            <a:custGeom>
              <a:avLst/>
              <a:gdLst/>
              <a:ahLst/>
              <a:rect l="l" t="t" r="r" b="b"/>
              <a:pathLst>
                <a:path w="171" h="158">
                  <a:moveTo>
                    <a:pt x="37" y="158"/>
                  </a:moveTo>
                  <a:lnTo>
                    <a:pt x="41" y="158"/>
                  </a:lnTo>
                  <a:lnTo>
                    <a:pt x="51" y="155"/>
                  </a:lnTo>
                  <a:lnTo>
                    <a:pt x="58" y="153"/>
                  </a:lnTo>
                  <a:lnTo>
                    <a:pt x="67" y="148"/>
                  </a:lnTo>
                  <a:lnTo>
                    <a:pt x="77" y="144"/>
                  </a:lnTo>
                  <a:lnTo>
                    <a:pt x="86" y="139"/>
                  </a:lnTo>
                  <a:lnTo>
                    <a:pt x="96" y="132"/>
                  </a:lnTo>
                  <a:lnTo>
                    <a:pt x="107" y="123"/>
                  </a:lnTo>
                  <a:lnTo>
                    <a:pt x="118" y="114"/>
                  </a:lnTo>
                  <a:lnTo>
                    <a:pt x="129" y="102"/>
                  </a:lnTo>
                  <a:lnTo>
                    <a:pt x="138" y="89"/>
                  </a:lnTo>
                  <a:lnTo>
                    <a:pt x="148" y="74"/>
                  </a:lnTo>
                  <a:lnTo>
                    <a:pt x="158" y="56"/>
                  </a:lnTo>
                  <a:lnTo>
                    <a:pt x="165" y="37"/>
                  </a:lnTo>
                  <a:lnTo>
                    <a:pt x="169" y="27"/>
                  </a:lnTo>
                  <a:lnTo>
                    <a:pt x="171" y="20"/>
                  </a:lnTo>
                  <a:lnTo>
                    <a:pt x="171" y="13"/>
                  </a:lnTo>
                  <a:lnTo>
                    <a:pt x="171" y="8"/>
                  </a:lnTo>
                  <a:lnTo>
                    <a:pt x="169" y="5"/>
                  </a:lnTo>
                  <a:lnTo>
                    <a:pt x="165" y="1"/>
                  </a:lnTo>
                  <a:lnTo>
                    <a:pt x="162" y="0"/>
                  </a:lnTo>
                  <a:lnTo>
                    <a:pt x="157" y="0"/>
                  </a:lnTo>
                  <a:lnTo>
                    <a:pt x="151" y="1"/>
                  </a:lnTo>
                  <a:lnTo>
                    <a:pt x="146" y="2"/>
                  </a:lnTo>
                  <a:lnTo>
                    <a:pt x="138" y="6"/>
                  </a:lnTo>
                  <a:lnTo>
                    <a:pt x="132" y="9"/>
                  </a:lnTo>
                  <a:lnTo>
                    <a:pt x="116" y="18"/>
                  </a:lnTo>
                  <a:lnTo>
                    <a:pt x="98" y="29"/>
                  </a:lnTo>
                  <a:lnTo>
                    <a:pt x="81" y="44"/>
                  </a:lnTo>
                  <a:lnTo>
                    <a:pt x="63" y="60"/>
                  </a:lnTo>
                  <a:lnTo>
                    <a:pt x="47" y="76"/>
                  </a:lnTo>
                  <a:lnTo>
                    <a:pt x="31" y="93"/>
                  </a:lnTo>
                  <a:lnTo>
                    <a:pt x="18" y="110"/>
                  </a:lnTo>
                  <a:lnTo>
                    <a:pt x="9" y="127"/>
                  </a:lnTo>
                  <a:lnTo>
                    <a:pt x="4" y="134"/>
                  </a:lnTo>
                  <a:lnTo>
                    <a:pt x="2" y="142"/>
                  </a:lnTo>
                  <a:lnTo>
                    <a:pt x="0" y="149"/>
                  </a:lnTo>
                  <a:lnTo>
                    <a:pt x="0" y="156"/>
                  </a:lnTo>
                </a:path>
              </a:pathLst>
            </a:custGeom>
            <a:noFill/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037200" y="4957920"/>
              <a:ext cx="31680" cy="66600"/>
            </a:xfrm>
            <a:custGeom>
              <a:avLst/>
              <a:gdLst/>
              <a:ahLst/>
              <a:rect l="l" t="t" r="r" b="b"/>
              <a:pathLst>
                <a:path w="100" h="211">
                  <a:moveTo>
                    <a:pt x="85" y="186"/>
                  </a:moveTo>
                  <a:lnTo>
                    <a:pt x="86" y="180"/>
                  </a:lnTo>
                  <a:lnTo>
                    <a:pt x="90" y="166"/>
                  </a:lnTo>
                  <a:lnTo>
                    <a:pt x="95" y="146"/>
                  </a:lnTo>
                  <a:lnTo>
                    <a:pt x="99" y="120"/>
                  </a:lnTo>
                  <a:lnTo>
                    <a:pt x="100" y="106"/>
                  </a:lnTo>
                  <a:lnTo>
                    <a:pt x="100" y="92"/>
                  </a:lnTo>
                  <a:lnTo>
                    <a:pt x="99" y="77"/>
                  </a:lnTo>
                  <a:lnTo>
                    <a:pt x="97" y="63"/>
                  </a:lnTo>
                  <a:lnTo>
                    <a:pt x="94" y="49"/>
                  </a:lnTo>
                  <a:lnTo>
                    <a:pt x="88" y="36"/>
                  </a:lnTo>
                  <a:lnTo>
                    <a:pt x="85" y="29"/>
                  </a:lnTo>
                  <a:lnTo>
                    <a:pt x="82" y="24"/>
                  </a:lnTo>
                  <a:lnTo>
                    <a:pt x="77" y="18"/>
                  </a:lnTo>
                  <a:lnTo>
                    <a:pt x="72" y="13"/>
                  </a:lnTo>
                  <a:lnTo>
                    <a:pt x="68" y="9"/>
                  </a:lnTo>
                  <a:lnTo>
                    <a:pt x="62" y="4"/>
                  </a:lnTo>
                  <a:lnTo>
                    <a:pt x="58" y="2"/>
                  </a:lnTo>
                  <a:lnTo>
                    <a:pt x="54" y="1"/>
                  </a:lnTo>
                  <a:lnTo>
                    <a:pt x="49" y="0"/>
                  </a:lnTo>
                  <a:lnTo>
                    <a:pt x="45" y="0"/>
                  </a:lnTo>
                  <a:lnTo>
                    <a:pt x="41" y="1"/>
                  </a:lnTo>
                  <a:lnTo>
                    <a:pt x="36" y="3"/>
                  </a:lnTo>
                  <a:lnTo>
                    <a:pt x="33" y="5"/>
                  </a:lnTo>
                  <a:lnTo>
                    <a:pt x="29" y="9"/>
                  </a:lnTo>
                  <a:lnTo>
                    <a:pt x="25" y="13"/>
                  </a:lnTo>
                  <a:lnTo>
                    <a:pt x="22" y="17"/>
                  </a:lnTo>
                  <a:lnTo>
                    <a:pt x="17" y="28"/>
                  </a:lnTo>
                  <a:lnTo>
                    <a:pt x="11" y="40"/>
                  </a:lnTo>
                  <a:lnTo>
                    <a:pt x="7" y="54"/>
                  </a:lnTo>
                  <a:lnTo>
                    <a:pt x="4" y="69"/>
                  </a:lnTo>
                  <a:lnTo>
                    <a:pt x="2" y="85"/>
                  </a:lnTo>
                  <a:lnTo>
                    <a:pt x="0" y="103"/>
                  </a:lnTo>
                  <a:lnTo>
                    <a:pt x="0" y="119"/>
                  </a:lnTo>
                  <a:lnTo>
                    <a:pt x="2" y="135"/>
                  </a:lnTo>
                  <a:lnTo>
                    <a:pt x="4" y="151"/>
                  </a:lnTo>
                  <a:lnTo>
                    <a:pt x="8" y="166"/>
                  </a:lnTo>
                  <a:lnTo>
                    <a:pt x="13" y="179"/>
                  </a:lnTo>
                  <a:lnTo>
                    <a:pt x="17" y="189"/>
                  </a:lnTo>
                  <a:lnTo>
                    <a:pt x="20" y="198"/>
                  </a:lnTo>
                  <a:lnTo>
                    <a:pt x="24" y="203"/>
                  </a:lnTo>
                  <a:lnTo>
                    <a:pt x="28" y="207"/>
                  </a:lnTo>
                  <a:lnTo>
                    <a:pt x="31" y="210"/>
                  </a:lnTo>
                  <a:lnTo>
                    <a:pt x="33" y="211"/>
                  </a:lnTo>
                  <a:lnTo>
                    <a:pt x="35" y="211"/>
                  </a:lnTo>
                  <a:lnTo>
                    <a:pt x="40" y="209"/>
                  </a:lnTo>
                  <a:lnTo>
                    <a:pt x="43" y="204"/>
                  </a:lnTo>
                  <a:lnTo>
                    <a:pt x="44" y="200"/>
                  </a:lnTo>
                  <a:lnTo>
                    <a:pt x="45" y="199"/>
                  </a:lnTo>
                </a:path>
              </a:pathLst>
            </a:custGeom>
            <a:noFill/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183280" y="3260880"/>
              <a:ext cx="1017360" cy="1828800"/>
            </a:xfrm>
            <a:custGeom>
              <a:avLst/>
              <a:gdLst/>
              <a:ahLst/>
              <a:rect l="l" t="t" r="r" b="b"/>
              <a:pathLst>
                <a:path w="3204" h="5760">
                  <a:moveTo>
                    <a:pt x="503" y="1750"/>
                  </a:moveTo>
                  <a:lnTo>
                    <a:pt x="487" y="1824"/>
                  </a:lnTo>
                  <a:lnTo>
                    <a:pt x="472" y="1892"/>
                  </a:lnTo>
                  <a:lnTo>
                    <a:pt x="459" y="1956"/>
                  </a:lnTo>
                  <a:lnTo>
                    <a:pt x="447" y="2018"/>
                  </a:lnTo>
                  <a:lnTo>
                    <a:pt x="441" y="2048"/>
                  </a:lnTo>
                  <a:lnTo>
                    <a:pt x="437" y="2078"/>
                  </a:lnTo>
                  <a:lnTo>
                    <a:pt x="434" y="2108"/>
                  </a:lnTo>
                  <a:lnTo>
                    <a:pt x="431" y="2139"/>
                  </a:lnTo>
                  <a:lnTo>
                    <a:pt x="427" y="2170"/>
                  </a:lnTo>
                  <a:lnTo>
                    <a:pt x="425" y="2202"/>
                  </a:lnTo>
                  <a:lnTo>
                    <a:pt x="424" y="2236"/>
                  </a:lnTo>
                  <a:lnTo>
                    <a:pt x="424" y="2272"/>
                  </a:lnTo>
                  <a:lnTo>
                    <a:pt x="423" y="2306"/>
                  </a:lnTo>
                  <a:lnTo>
                    <a:pt x="422" y="2341"/>
                  </a:lnTo>
                  <a:lnTo>
                    <a:pt x="419" y="2375"/>
                  </a:lnTo>
                  <a:lnTo>
                    <a:pt x="416" y="2410"/>
                  </a:lnTo>
                  <a:lnTo>
                    <a:pt x="406" y="2478"/>
                  </a:lnTo>
                  <a:lnTo>
                    <a:pt x="394" y="2546"/>
                  </a:lnTo>
                  <a:lnTo>
                    <a:pt x="382" y="2612"/>
                  </a:lnTo>
                  <a:lnTo>
                    <a:pt x="369" y="2677"/>
                  </a:lnTo>
                  <a:lnTo>
                    <a:pt x="357" y="2741"/>
                  </a:lnTo>
                  <a:lnTo>
                    <a:pt x="347" y="2805"/>
                  </a:lnTo>
                  <a:lnTo>
                    <a:pt x="344" y="2834"/>
                  </a:lnTo>
                  <a:lnTo>
                    <a:pt x="343" y="2860"/>
                  </a:lnTo>
                  <a:lnTo>
                    <a:pt x="343" y="2883"/>
                  </a:lnTo>
                  <a:lnTo>
                    <a:pt x="344" y="2904"/>
                  </a:lnTo>
                  <a:lnTo>
                    <a:pt x="349" y="2942"/>
                  </a:lnTo>
                  <a:lnTo>
                    <a:pt x="353" y="2979"/>
                  </a:lnTo>
                  <a:lnTo>
                    <a:pt x="355" y="2998"/>
                  </a:lnTo>
                  <a:lnTo>
                    <a:pt x="356" y="3019"/>
                  </a:lnTo>
                  <a:lnTo>
                    <a:pt x="355" y="3041"/>
                  </a:lnTo>
                  <a:lnTo>
                    <a:pt x="354" y="3066"/>
                  </a:lnTo>
                  <a:lnTo>
                    <a:pt x="351" y="3095"/>
                  </a:lnTo>
                  <a:lnTo>
                    <a:pt x="344" y="3126"/>
                  </a:lnTo>
                  <a:lnTo>
                    <a:pt x="337" y="3161"/>
                  </a:lnTo>
                  <a:lnTo>
                    <a:pt x="325" y="3203"/>
                  </a:lnTo>
                  <a:lnTo>
                    <a:pt x="300" y="3296"/>
                  </a:lnTo>
                  <a:lnTo>
                    <a:pt x="274" y="3400"/>
                  </a:lnTo>
                  <a:lnTo>
                    <a:pt x="248" y="3508"/>
                  </a:lnTo>
                  <a:lnTo>
                    <a:pt x="224" y="3617"/>
                  </a:lnTo>
                  <a:lnTo>
                    <a:pt x="203" y="3722"/>
                  </a:lnTo>
                  <a:lnTo>
                    <a:pt x="183" y="3819"/>
                  </a:lnTo>
                  <a:lnTo>
                    <a:pt x="168" y="3903"/>
                  </a:lnTo>
                  <a:lnTo>
                    <a:pt x="157" y="3971"/>
                  </a:lnTo>
                  <a:lnTo>
                    <a:pt x="154" y="4002"/>
                  </a:lnTo>
                  <a:lnTo>
                    <a:pt x="152" y="4032"/>
                  </a:lnTo>
                  <a:lnTo>
                    <a:pt x="151" y="4064"/>
                  </a:lnTo>
                  <a:lnTo>
                    <a:pt x="151" y="4097"/>
                  </a:lnTo>
                  <a:lnTo>
                    <a:pt x="153" y="4165"/>
                  </a:lnTo>
                  <a:lnTo>
                    <a:pt x="156" y="4237"/>
                  </a:lnTo>
                  <a:lnTo>
                    <a:pt x="157" y="4275"/>
                  </a:lnTo>
                  <a:lnTo>
                    <a:pt x="158" y="4313"/>
                  </a:lnTo>
                  <a:lnTo>
                    <a:pt x="159" y="4352"/>
                  </a:lnTo>
                  <a:lnTo>
                    <a:pt x="159" y="4392"/>
                  </a:lnTo>
                  <a:lnTo>
                    <a:pt x="158" y="4433"/>
                  </a:lnTo>
                  <a:lnTo>
                    <a:pt x="156" y="4475"/>
                  </a:lnTo>
                  <a:lnTo>
                    <a:pt x="152" y="4517"/>
                  </a:lnTo>
                  <a:lnTo>
                    <a:pt x="148" y="4560"/>
                  </a:lnTo>
                  <a:lnTo>
                    <a:pt x="136" y="4643"/>
                  </a:lnTo>
                  <a:lnTo>
                    <a:pt x="126" y="4717"/>
                  </a:lnTo>
                  <a:lnTo>
                    <a:pt x="118" y="4779"/>
                  </a:lnTo>
                  <a:lnTo>
                    <a:pt x="112" y="4832"/>
                  </a:lnTo>
                  <a:lnTo>
                    <a:pt x="108" y="4873"/>
                  </a:lnTo>
                  <a:lnTo>
                    <a:pt x="104" y="4904"/>
                  </a:lnTo>
                  <a:lnTo>
                    <a:pt x="103" y="4922"/>
                  </a:lnTo>
                  <a:lnTo>
                    <a:pt x="102" y="4928"/>
                  </a:lnTo>
                  <a:lnTo>
                    <a:pt x="98" y="4938"/>
                  </a:lnTo>
                  <a:lnTo>
                    <a:pt x="86" y="4966"/>
                  </a:lnTo>
                  <a:lnTo>
                    <a:pt x="70" y="5007"/>
                  </a:lnTo>
                  <a:lnTo>
                    <a:pt x="53" y="5057"/>
                  </a:lnTo>
                  <a:lnTo>
                    <a:pt x="45" y="5084"/>
                  </a:lnTo>
                  <a:lnTo>
                    <a:pt x="37" y="5112"/>
                  </a:lnTo>
                  <a:lnTo>
                    <a:pt x="32" y="5140"/>
                  </a:lnTo>
                  <a:lnTo>
                    <a:pt x="28" y="5167"/>
                  </a:lnTo>
                  <a:lnTo>
                    <a:pt x="27" y="5180"/>
                  </a:lnTo>
                  <a:lnTo>
                    <a:pt x="26" y="5194"/>
                  </a:lnTo>
                  <a:lnTo>
                    <a:pt x="26" y="5206"/>
                  </a:lnTo>
                  <a:lnTo>
                    <a:pt x="26" y="5219"/>
                  </a:lnTo>
                  <a:lnTo>
                    <a:pt x="28" y="5231"/>
                  </a:lnTo>
                  <a:lnTo>
                    <a:pt x="30" y="5242"/>
                  </a:lnTo>
                  <a:lnTo>
                    <a:pt x="32" y="5252"/>
                  </a:lnTo>
                  <a:lnTo>
                    <a:pt x="36" y="5262"/>
                  </a:lnTo>
                  <a:lnTo>
                    <a:pt x="44" y="5279"/>
                  </a:lnTo>
                  <a:lnTo>
                    <a:pt x="49" y="5296"/>
                  </a:lnTo>
                  <a:lnTo>
                    <a:pt x="54" y="5310"/>
                  </a:lnTo>
                  <a:lnTo>
                    <a:pt x="56" y="5323"/>
                  </a:lnTo>
                  <a:lnTo>
                    <a:pt x="57" y="5336"/>
                  </a:lnTo>
                  <a:lnTo>
                    <a:pt x="57" y="5347"/>
                  </a:lnTo>
                  <a:lnTo>
                    <a:pt x="56" y="5358"/>
                  </a:lnTo>
                  <a:lnTo>
                    <a:pt x="54" y="5370"/>
                  </a:lnTo>
                  <a:lnTo>
                    <a:pt x="47" y="5394"/>
                  </a:lnTo>
                  <a:lnTo>
                    <a:pt x="37" y="5421"/>
                  </a:lnTo>
                  <a:lnTo>
                    <a:pt x="26" y="5453"/>
                  </a:lnTo>
                  <a:lnTo>
                    <a:pt x="14" y="5494"/>
                  </a:lnTo>
                  <a:lnTo>
                    <a:pt x="8" y="5517"/>
                  </a:lnTo>
                  <a:lnTo>
                    <a:pt x="4" y="5540"/>
                  </a:lnTo>
                  <a:lnTo>
                    <a:pt x="2" y="5561"/>
                  </a:lnTo>
                  <a:lnTo>
                    <a:pt x="0" y="5583"/>
                  </a:lnTo>
                  <a:lnTo>
                    <a:pt x="0" y="5602"/>
                  </a:lnTo>
                  <a:lnTo>
                    <a:pt x="0" y="5622"/>
                  </a:lnTo>
                  <a:lnTo>
                    <a:pt x="2" y="5639"/>
                  </a:lnTo>
                  <a:lnTo>
                    <a:pt x="3" y="5655"/>
                  </a:lnTo>
                  <a:lnTo>
                    <a:pt x="8" y="5684"/>
                  </a:lnTo>
                  <a:lnTo>
                    <a:pt x="13" y="5706"/>
                  </a:lnTo>
                  <a:lnTo>
                    <a:pt x="17" y="5719"/>
                  </a:lnTo>
                  <a:lnTo>
                    <a:pt x="19" y="5724"/>
                  </a:lnTo>
                  <a:lnTo>
                    <a:pt x="19" y="5726"/>
                  </a:lnTo>
                  <a:lnTo>
                    <a:pt x="19" y="5731"/>
                  </a:lnTo>
                  <a:lnTo>
                    <a:pt x="19" y="5737"/>
                  </a:lnTo>
                  <a:lnTo>
                    <a:pt x="20" y="5745"/>
                  </a:lnTo>
                  <a:lnTo>
                    <a:pt x="21" y="5752"/>
                  </a:lnTo>
                  <a:lnTo>
                    <a:pt x="23" y="5758"/>
                  </a:lnTo>
                  <a:lnTo>
                    <a:pt x="26" y="5759"/>
                  </a:lnTo>
                  <a:lnTo>
                    <a:pt x="28" y="5760"/>
                  </a:lnTo>
                  <a:lnTo>
                    <a:pt x="31" y="5760"/>
                  </a:lnTo>
                  <a:lnTo>
                    <a:pt x="33" y="5759"/>
                  </a:lnTo>
                  <a:lnTo>
                    <a:pt x="51" y="5749"/>
                  </a:lnTo>
                  <a:lnTo>
                    <a:pt x="75" y="5738"/>
                  </a:lnTo>
                  <a:lnTo>
                    <a:pt x="103" y="5725"/>
                  </a:lnTo>
                  <a:lnTo>
                    <a:pt x="137" y="5712"/>
                  </a:lnTo>
                  <a:lnTo>
                    <a:pt x="175" y="5697"/>
                  </a:lnTo>
                  <a:lnTo>
                    <a:pt x="216" y="5683"/>
                  </a:lnTo>
                  <a:lnTo>
                    <a:pt x="260" y="5669"/>
                  </a:lnTo>
                  <a:lnTo>
                    <a:pt x="309" y="5655"/>
                  </a:lnTo>
                  <a:lnTo>
                    <a:pt x="359" y="5642"/>
                  </a:lnTo>
                  <a:lnTo>
                    <a:pt x="412" y="5631"/>
                  </a:lnTo>
                  <a:lnTo>
                    <a:pt x="439" y="5626"/>
                  </a:lnTo>
                  <a:lnTo>
                    <a:pt x="467" y="5622"/>
                  </a:lnTo>
                  <a:lnTo>
                    <a:pt x="497" y="5617"/>
                  </a:lnTo>
                  <a:lnTo>
                    <a:pt x="525" y="5614"/>
                  </a:lnTo>
                  <a:lnTo>
                    <a:pt x="554" y="5611"/>
                  </a:lnTo>
                  <a:lnTo>
                    <a:pt x="583" y="5609"/>
                  </a:lnTo>
                  <a:lnTo>
                    <a:pt x="613" y="5608"/>
                  </a:lnTo>
                  <a:lnTo>
                    <a:pt x="642" y="5607"/>
                  </a:lnTo>
                  <a:lnTo>
                    <a:pt x="673" y="5607"/>
                  </a:lnTo>
                  <a:lnTo>
                    <a:pt x="703" y="5608"/>
                  </a:lnTo>
                  <a:lnTo>
                    <a:pt x="733" y="5610"/>
                  </a:lnTo>
                  <a:lnTo>
                    <a:pt x="763" y="5613"/>
                  </a:lnTo>
                  <a:lnTo>
                    <a:pt x="767" y="5616"/>
                  </a:lnTo>
                  <a:lnTo>
                    <a:pt x="775" y="5622"/>
                  </a:lnTo>
                  <a:lnTo>
                    <a:pt x="781" y="5626"/>
                  </a:lnTo>
                  <a:lnTo>
                    <a:pt x="787" y="5628"/>
                  </a:lnTo>
                  <a:lnTo>
                    <a:pt x="795" y="5631"/>
                  </a:lnTo>
                  <a:lnTo>
                    <a:pt x="802" y="5633"/>
                  </a:lnTo>
                  <a:lnTo>
                    <a:pt x="811" y="5631"/>
                  </a:lnTo>
                  <a:lnTo>
                    <a:pt x="820" y="5629"/>
                  </a:lnTo>
                  <a:lnTo>
                    <a:pt x="823" y="5627"/>
                  </a:lnTo>
                  <a:lnTo>
                    <a:pt x="827" y="5625"/>
                  </a:lnTo>
                  <a:lnTo>
                    <a:pt x="831" y="5622"/>
                  </a:lnTo>
                  <a:lnTo>
                    <a:pt x="835" y="5617"/>
                  </a:lnTo>
                  <a:lnTo>
                    <a:pt x="839" y="5612"/>
                  </a:lnTo>
                  <a:lnTo>
                    <a:pt x="842" y="5607"/>
                  </a:lnTo>
                  <a:lnTo>
                    <a:pt x="845" y="5600"/>
                  </a:lnTo>
                  <a:lnTo>
                    <a:pt x="849" y="5593"/>
                  </a:lnTo>
                  <a:lnTo>
                    <a:pt x="854" y="5574"/>
                  </a:lnTo>
                  <a:lnTo>
                    <a:pt x="859" y="5552"/>
                  </a:lnTo>
                  <a:lnTo>
                    <a:pt x="863" y="5528"/>
                  </a:lnTo>
                  <a:lnTo>
                    <a:pt x="865" y="5507"/>
                  </a:lnTo>
                  <a:lnTo>
                    <a:pt x="866" y="5490"/>
                  </a:lnTo>
                  <a:lnTo>
                    <a:pt x="866" y="5474"/>
                  </a:lnTo>
                  <a:lnTo>
                    <a:pt x="864" y="5448"/>
                  </a:lnTo>
                  <a:lnTo>
                    <a:pt x="861" y="5425"/>
                  </a:lnTo>
                  <a:lnTo>
                    <a:pt x="859" y="5415"/>
                  </a:lnTo>
                  <a:lnTo>
                    <a:pt x="857" y="5405"/>
                  </a:lnTo>
                  <a:lnTo>
                    <a:pt x="857" y="5393"/>
                  </a:lnTo>
                  <a:lnTo>
                    <a:pt x="857" y="5381"/>
                  </a:lnTo>
                  <a:lnTo>
                    <a:pt x="858" y="5368"/>
                  </a:lnTo>
                  <a:lnTo>
                    <a:pt x="861" y="5353"/>
                  </a:lnTo>
                  <a:lnTo>
                    <a:pt x="864" y="5336"/>
                  </a:lnTo>
                  <a:lnTo>
                    <a:pt x="869" y="5316"/>
                  </a:lnTo>
                  <a:lnTo>
                    <a:pt x="885" y="5263"/>
                  </a:lnTo>
                  <a:lnTo>
                    <a:pt x="907" y="5189"/>
                  </a:lnTo>
                  <a:lnTo>
                    <a:pt x="931" y="5100"/>
                  </a:lnTo>
                  <a:lnTo>
                    <a:pt x="957" y="5004"/>
                  </a:lnTo>
                  <a:lnTo>
                    <a:pt x="969" y="4954"/>
                  </a:lnTo>
                  <a:lnTo>
                    <a:pt x="980" y="4905"/>
                  </a:lnTo>
                  <a:lnTo>
                    <a:pt x="991" y="4856"/>
                  </a:lnTo>
                  <a:lnTo>
                    <a:pt x="1001" y="4808"/>
                  </a:lnTo>
                  <a:lnTo>
                    <a:pt x="1010" y="4763"/>
                  </a:lnTo>
                  <a:lnTo>
                    <a:pt x="1017" y="4721"/>
                  </a:lnTo>
                  <a:lnTo>
                    <a:pt x="1022" y="4683"/>
                  </a:lnTo>
                  <a:lnTo>
                    <a:pt x="1025" y="4649"/>
                  </a:lnTo>
                  <a:lnTo>
                    <a:pt x="1027" y="4632"/>
                  </a:lnTo>
                  <a:lnTo>
                    <a:pt x="1029" y="4615"/>
                  </a:lnTo>
                  <a:lnTo>
                    <a:pt x="1033" y="4597"/>
                  </a:lnTo>
                  <a:lnTo>
                    <a:pt x="1038" y="4577"/>
                  </a:lnTo>
                  <a:lnTo>
                    <a:pt x="1050" y="4536"/>
                  </a:lnTo>
                  <a:lnTo>
                    <a:pt x="1064" y="4491"/>
                  </a:lnTo>
                  <a:lnTo>
                    <a:pt x="1100" y="4389"/>
                  </a:lnTo>
                  <a:lnTo>
                    <a:pt x="1141" y="4278"/>
                  </a:lnTo>
                  <a:lnTo>
                    <a:pt x="1163" y="4219"/>
                  </a:lnTo>
                  <a:lnTo>
                    <a:pt x="1185" y="4158"/>
                  </a:lnTo>
                  <a:lnTo>
                    <a:pt x="1205" y="4097"/>
                  </a:lnTo>
                  <a:lnTo>
                    <a:pt x="1225" y="4034"/>
                  </a:lnTo>
                  <a:lnTo>
                    <a:pt x="1243" y="3971"/>
                  </a:lnTo>
                  <a:lnTo>
                    <a:pt x="1259" y="3908"/>
                  </a:lnTo>
                  <a:lnTo>
                    <a:pt x="1266" y="3876"/>
                  </a:lnTo>
                  <a:lnTo>
                    <a:pt x="1272" y="3844"/>
                  </a:lnTo>
                  <a:lnTo>
                    <a:pt x="1278" y="3813"/>
                  </a:lnTo>
                  <a:lnTo>
                    <a:pt x="1282" y="3781"/>
                  </a:lnTo>
                  <a:lnTo>
                    <a:pt x="1292" y="3714"/>
                  </a:lnTo>
                  <a:lnTo>
                    <a:pt x="1305" y="3638"/>
                  </a:lnTo>
                  <a:lnTo>
                    <a:pt x="1320" y="3556"/>
                  </a:lnTo>
                  <a:lnTo>
                    <a:pt x="1338" y="3466"/>
                  </a:lnTo>
                  <a:lnTo>
                    <a:pt x="1359" y="3372"/>
                  </a:lnTo>
                  <a:lnTo>
                    <a:pt x="1381" y="3275"/>
                  </a:lnTo>
                  <a:lnTo>
                    <a:pt x="1405" y="3177"/>
                  </a:lnTo>
                  <a:lnTo>
                    <a:pt x="1431" y="3076"/>
                  </a:lnTo>
                  <a:lnTo>
                    <a:pt x="1458" y="2977"/>
                  </a:lnTo>
                  <a:lnTo>
                    <a:pt x="1486" y="2880"/>
                  </a:lnTo>
                  <a:lnTo>
                    <a:pt x="1516" y="2785"/>
                  </a:lnTo>
                  <a:lnTo>
                    <a:pt x="1545" y="2695"/>
                  </a:lnTo>
                  <a:lnTo>
                    <a:pt x="1562" y="2652"/>
                  </a:lnTo>
                  <a:lnTo>
                    <a:pt x="1577" y="2611"/>
                  </a:lnTo>
                  <a:lnTo>
                    <a:pt x="1592" y="2571"/>
                  </a:lnTo>
                  <a:lnTo>
                    <a:pt x="1608" y="2533"/>
                  </a:lnTo>
                  <a:lnTo>
                    <a:pt x="1623" y="2497"/>
                  </a:lnTo>
                  <a:lnTo>
                    <a:pt x="1639" y="2464"/>
                  </a:lnTo>
                  <a:lnTo>
                    <a:pt x="1655" y="2432"/>
                  </a:lnTo>
                  <a:lnTo>
                    <a:pt x="1671" y="2404"/>
                  </a:lnTo>
                  <a:lnTo>
                    <a:pt x="1700" y="2354"/>
                  </a:lnTo>
                  <a:lnTo>
                    <a:pt x="1725" y="2307"/>
                  </a:lnTo>
                  <a:lnTo>
                    <a:pt x="1747" y="2267"/>
                  </a:lnTo>
                  <a:lnTo>
                    <a:pt x="1766" y="2232"/>
                  </a:lnTo>
                  <a:lnTo>
                    <a:pt x="1795" y="2175"/>
                  </a:lnTo>
                  <a:lnTo>
                    <a:pt x="1814" y="2139"/>
                  </a:lnTo>
                  <a:lnTo>
                    <a:pt x="1821" y="2127"/>
                  </a:lnTo>
                  <a:lnTo>
                    <a:pt x="1826" y="2119"/>
                  </a:lnTo>
                  <a:lnTo>
                    <a:pt x="1828" y="2116"/>
                  </a:lnTo>
                  <a:lnTo>
                    <a:pt x="1831" y="2115"/>
                  </a:lnTo>
                  <a:lnTo>
                    <a:pt x="1833" y="2114"/>
                  </a:lnTo>
                  <a:lnTo>
                    <a:pt x="1835" y="2115"/>
                  </a:lnTo>
                  <a:lnTo>
                    <a:pt x="1838" y="2118"/>
                  </a:lnTo>
                  <a:lnTo>
                    <a:pt x="1841" y="2125"/>
                  </a:lnTo>
                  <a:lnTo>
                    <a:pt x="1845" y="2134"/>
                  </a:lnTo>
                  <a:lnTo>
                    <a:pt x="1848" y="2147"/>
                  </a:lnTo>
                  <a:lnTo>
                    <a:pt x="1851" y="2162"/>
                  </a:lnTo>
                  <a:lnTo>
                    <a:pt x="1853" y="2177"/>
                  </a:lnTo>
                  <a:lnTo>
                    <a:pt x="1854" y="2189"/>
                  </a:lnTo>
                  <a:lnTo>
                    <a:pt x="1856" y="2204"/>
                  </a:lnTo>
                  <a:lnTo>
                    <a:pt x="1854" y="2231"/>
                  </a:lnTo>
                  <a:lnTo>
                    <a:pt x="1852" y="2258"/>
                  </a:lnTo>
                  <a:lnTo>
                    <a:pt x="1852" y="2272"/>
                  </a:lnTo>
                  <a:lnTo>
                    <a:pt x="1852" y="2287"/>
                  </a:lnTo>
                  <a:lnTo>
                    <a:pt x="1854" y="2302"/>
                  </a:lnTo>
                  <a:lnTo>
                    <a:pt x="1857" y="2318"/>
                  </a:lnTo>
                  <a:lnTo>
                    <a:pt x="1861" y="2335"/>
                  </a:lnTo>
                  <a:lnTo>
                    <a:pt x="1866" y="2353"/>
                  </a:lnTo>
                  <a:lnTo>
                    <a:pt x="1874" y="2372"/>
                  </a:lnTo>
                  <a:lnTo>
                    <a:pt x="1883" y="2393"/>
                  </a:lnTo>
                  <a:lnTo>
                    <a:pt x="1906" y="2437"/>
                  </a:lnTo>
                  <a:lnTo>
                    <a:pt x="1933" y="2485"/>
                  </a:lnTo>
                  <a:lnTo>
                    <a:pt x="1964" y="2538"/>
                  </a:lnTo>
                  <a:lnTo>
                    <a:pt x="1993" y="2596"/>
                  </a:lnTo>
                  <a:lnTo>
                    <a:pt x="2006" y="2625"/>
                  </a:lnTo>
                  <a:lnTo>
                    <a:pt x="2019" y="2655"/>
                  </a:lnTo>
                  <a:lnTo>
                    <a:pt x="2031" y="2686"/>
                  </a:lnTo>
                  <a:lnTo>
                    <a:pt x="2040" y="2718"/>
                  </a:lnTo>
                  <a:lnTo>
                    <a:pt x="2049" y="2749"/>
                  </a:lnTo>
                  <a:lnTo>
                    <a:pt x="2055" y="2781"/>
                  </a:lnTo>
                  <a:lnTo>
                    <a:pt x="2058" y="2798"/>
                  </a:lnTo>
                  <a:lnTo>
                    <a:pt x="2060" y="2814"/>
                  </a:lnTo>
                  <a:lnTo>
                    <a:pt x="2061" y="2831"/>
                  </a:lnTo>
                  <a:lnTo>
                    <a:pt x="2061" y="2847"/>
                  </a:lnTo>
                  <a:lnTo>
                    <a:pt x="2061" y="2863"/>
                  </a:lnTo>
                  <a:lnTo>
                    <a:pt x="2062" y="2880"/>
                  </a:lnTo>
                  <a:lnTo>
                    <a:pt x="2064" y="2896"/>
                  </a:lnTo>
                  <a:lnTo>
                    <a:pt x="2066" y="2911"/>
                  </a:lnTo>
                  <a:lnTo>
                    <a:pt x="2072" y="2942"/>
                  </a:lnTo>
                  <a:lnTo>
                    <a:pt x="2079" y="2971"/>
                  </a:lnTo>
                  <a:lnTo>
                    <a:pt x="2088" y="2999"/>
                  </a:lnTo>
                  <a:lnTo>
                    <a:pt x="2099" y="3028"/>
                  </a:lnTo>
                  <a:lnTo>
                    <a:pt x="2109" y="3055"/>
                  </a:lnTo>
                  <a:lnTo>
                    <a:pt x="2122" y="3082"/>
                  </a:lnTo>
                  <a:lnTo>
                    <a:pt x="2148" y="3132"/>
                  </a:lnTo>
                  <a:lnTo>
                    <a:pt x="2173" y="3183"/>
                  </a:lnTo>
                  <a:lnTo>
                    <a:pt x="2186" y="3208"/>
                  </a:lnTo>
                  <a:lnTo>
                    <a:pt x="2197" y="3233"/>
                  </a:lnTo>
                  <a:lnTo>
                    <a:pt x="2208" y="3258"/>
                  </a:lnTo>
                  <a:lnTo>
                    <a:pt x="2216" y="3282"/>
                  </a:lnTo>
                  <a:lnTo>
                    <a:pt x="2225" y="3307"/>
                  </a:lnTo>
                  <a:lnTo>
                    <a:pt x="2231" y="3332"/>
                  </a:lnTo>
                  <a:lnTo>
                    <a:pt x="2238" y="3358"/>
                  </a:lnTo>
                  <a:lnTo>
                    <a:pt x="2243" y="3383"/>
                  </a:lnTo>
                  <a:lnTo>
                    <a:pt x="2249" y="3407"/>
                  </a:lnTo>
                  <a:lnTo>
                    <a:pt x="2252" y="3431"/>
                  </a:lnTo>
                  <a:lnTo>
                    <a:pt x="2255" y="3455"/>
                  </a:lnTo>
                  <a:lnTo>
                    <a:pt x="2257" y="3478"/>
                  </a:lnTo>
                  <a:lnTo>
                    <a:pt x="2260" y="3500"/>
                  </a:lnTo>
                  <a:lnTo>
                    <a:pt x="2261" y="3520"/>
                  </a:lnTo>
                  <a:lnTo>
                    <a:pt x="2261" y="3541"/>
                  </a:lnTo>
                  <a:lnTo>
                    <a:pt x="2260" y="3558"/>
                  </a:lnTo>
                  <a:lnTo>
                    <a:pt x="2257" y="3575"/>
                  </a:lnTo>
                  <a:lnTo>
                    <a:pt x="2255" y="3590"/>
                  </a:lnTo>
                  <a:lnTo>
                    <a:pt x="2253" y="3604"/>
                  </a:lnTo>
                  <a:lnTo>
                    <a:pt x="2249" y="3616"/>
                  </a:lnTo>
                  <a:lnTo>
                    <a:pt x="2236" y="3650"/>
                  </a:lnTo>
                  <a:lnTo>
                    <a:pt x="2217" y="3706"/>
                  </a:lnTo>
                  <a:lnTo>
                    <a:pt x="2206" y="3741"/>
                  </a:lnTo>
                  <a:lnTo>
                    <a:pt x="2194" y="3780"/>
                  </a:lnTo>
                  <a:lnTo>
                    <a:pt x="2182" y="3824"/>
                  </a:lnTo>
                  <a:lnTo>
                    <a:pt x="2170" y="3868"/>
                  </a:lnTo>
                  <a:lnTo>
                    <a:pt x="2158" y="3914"/>
                  </a:lnTo>
                  <a:lnTo>
                    <a:pt x="2147" y="3963"/>
                  </a:lnTo>
                  <a:lnTo>
                    <a:pt x="2137" y="4011"/>
                  </a:lnTo>
                  <a:lnTo>
                    <a:pt x="2129" y="4059"/>
                  </a:lnTo>
                  <a:lnTo>
                    <a:pt x="2122" y="4106"/>
                  </a:lnTo>
                  <a:lnTo>
                    <a:pt x="2117" y="4153"/>
                  </a:lnTo>
                  <a:lnTo>
                    <a:pt x="2116" y="4176"/>
                  </a:lnTo>
                  <a:lnTo>
                    <a:pt x="2115" y="4197"/>
                  </a:lnTo>
                  <a:lnTo>
                    <a:pt x="2115" y="4219"/>
                  </a:lnTo>
                  <a:lnTo>
                    <a:pt x="2115" y="4238"/>
                  </a:lnTo>
                  <a:lnTo>
                    <a:pt x="2116" y="4259"/>
                  </a:lnTo>
                  <a:lnTo>
                    <a:pt x="2116" y="4279"/>
                  </a:lnTo>
                  <a:lnTo>
                    <a:pt x="2116" y="4301"/>
                  </a:lnTo>
                  <a:lnTo>
                    <a:pt x="2115" y="4322"/>
                  </a:lnTo>
                  <a:lnTo>
                    <a:pt x="2112" y="4368"/>
                  </a:lnTo>
                  <a:lnTo>
                    <a:pt x="2106" y="4415"/>
                  </a:lnTo>
                  <a:lnTo>
                    <a:pt x="2092" y="4513"/>
                  </a:lnTo>
                  <a:lnTo>
                    <a:pt x="2076" y="4612"/>
                  </a:lnTo>
                  <a:lnTo>
                    <a:pt x="2068" y="4661"/>
                  </a:lnTo>
                  <a:lnTo>
                    <a:pt x="2062" y="4709"/>
                  </a:lnTo>
                  <a:lnTo>
                    <a:pt x="2056" y="4757"/>
                  </a:lnTo>
                  <a:lnTo>
                    <a:pt x="2052" y="4802"/>
                  </a:lnTo>
                  <a:lnTo>
                    <a:pt x="2051" y="4825"/>
                  </a:lnTo>
                  <a:lnTo>
                    <a:pt x="2050" y="4845"/>
                  </a:lnTo>
                  <a:lnTo>
                    <a:pt x="2050" y="4867"/>
                  </a:lnTo>
                  <a:lnTo>
                    <a:pt x="2051" y="4887"/>
                  </a:lnTo>
                  <a:lnTo>
                    <a:pt x="2052" y="4907"/>
                  </a:lnTo>
                  <a:lnTo>
                    <a:pt x="2054" y="4925"/>
                  </a:lnTo>
                  <a:lnTo>
                    <a:pt x="2058" y="4943"/>
                  </a:lnTo>
                  <a:lnTo>
                    <a:pt x="2061" y="4961"/>
                  </a:lnTo>
                  <a:lnTo>
                    <a:pt x="2078" y="5023"/>
                  </a:lnTo>
                  <a:lnTo>
                    <a:pt x="2094" y="5078"/>
                  </a:lnTo>
                  <a:lnTo>
                    <a:pt x="2110" y="5127"/>
                  </a:lnTo>
                  <a:lnTo>
                    <a:pt x="2123" y="5170"/>
                  </a:lnTo>
                  <a:lnTo>
                    <a:pt x="2128" y="5191"/>
                  </a:lnTo>
                  <a:lnTo>
                    <a:pt x="2132" y="5209"/>
                  </a:lnTo>
                  <a:lnTo>
                    <a:pt x="2135" y="5228"/>
                  </a:lnTo>
                  <a:lnTo>
                    <a:pt x="2137" y="5244"/>
                  </a:lnTo>
                  <a:lnTo>
                    <a:pt x="2137" y="5260"/>
                  </a:lnTo>
                  <a:lnTo>
                    <a:pt x="2135" y="5276"/>
                  </a:lnTo>
                  <a:lnTo>
                    <a:pt x="2133" y="5291"/>
                  </a:lnTo>
                  <a:lnTo>
                    <a:pt x="2128" y="5306"/>
                  </a:lnTo>
                  <a:lnTo>
                    <a:pt x="2121" y="5323"/>
                  </a:lnTo>
                  <a:lnTo>
                    <a:pt x="2116" y="5343"/>
                  </a:lnTo>
                  <a:lnTo>
                    <a:pt x="2110" y="5366"/>
                  </a:lnTo>
                  <a:lnTo>
                    <a:pt x="2106" y="5392"/>
                  </a:lnTo>
                  <a:lnTo>
                    <a:pt x="2102" y="5420"/>
                  </a:lnTo>
                  <a:lnTo>
                    <a:pt x="2100" y="5449"/>
                  </a:lnTo>
                  <a:lnTo>
                    <a:pt x="2099" y="5479"/>
                  </a:lnTo>
                  <a:lnTo>
                    <a:pt x="2099" y="5510"/>
                  </a:lnTo>
                  <a:lnTo>
                    <a:pt x="2101" y="5541"/>
                  </a:lnTo>
                  <a:lnTo>
                    <a:pt x="2104" y="5571"/>
                  </a:lnTo>
                  <a:lnTo>
                    <a:pt x="2107" y="5586"/>
                  </a:lnTo>
                  <a:lnTo>
                    <a:pt x="2110" y="5600"/>
                  </a:lnTo>
                  <a:lnTo>
                    <a:pt x="2114" y="5614"/>
                  </a:lnTo>
                  <a:lnTo>
                    <a:pt x="2118" y="5627"/>
                  </a:lnTo>
                  <a:lnTo>
                    <a:pt x="2122" y="5640"/>
                  </a:lnTo>
                  <a:lnTo>
                    <a:pt x="2128" y="5652"/>
                  </a:lnTo>
                  <a:lnTo>
                    <a:pt x="2133" y="5663"/>
                  </a:lnTo>
                  <a:lnTo>
                    <a:pt x="2140" y="5674"/>
                  </a:lnTo>
                  <a:lnTo>
                    <a:pt x="2147" y="5683"/>
                  </a:lnTo>
                  <a:lnTo>
                    <a:pt x="2155" y="5692"/>
                  </a:lnTo>
                  <a:lnTo>
                    <a:pt x="2163" y="5701"/>
                  </a:lnTo>
                  <a:lnTo>
                    <a:pt x="2172" y="5707"/>
                  </a:lnTo>
                  <a:lnTo>
                    <a:pt x="2193" y="5697"/>
                  </a:lnTo>
                  <a:lnTo>
                    <a:pt x="2248" y="5674"/>
                  </a:lnTo>
                  <a:lnTo>
                    <a:pt x="2285" y="5658"/>
                  </a:lnTo>
                  <a:lnTo>
                    <a:pt x="2330" y="5641"/>
                  </a:lnTo>
                  <a:lnTo>
                    <a:pt x="2378" y="5624"/>
                  </a:lnTo>
                  <a:lnTo>
                    <a:pt x="2431" y="5607"/>
                  </a:lnTo>
                  <a:lnTo>
                    <a:pt x="2459" y="5599"/>
                  </a:lnTo>
                  <a:lnTo>
                    <a:pt x="2487" y="5590"/>
                  </a:lnTo>
                  <a:lnTo>
                    <a:pt x="2517" y="5584"/>
                  </a:lnTo>
                  <a:lnTo>
                    <a:pt x="2546" y="5576"/>
                  </a:lnTo>
                  <a:lnTo>
                    <a:pt x="2575" y="5570"/>
                  </a:lnTo>
                  <a:lnTo>
                    <a:pt x="2605" y="5564"/>
                  </a:lnTo>
                  <a:lnTo>
                    <a:pt x="2634" y="5560"/>
                  </a:lnTo>
                  <a:lnTo>
                    <a:pt x="2665" y="5557"/>
                  </a:lnTo>
                  <a:lnTo>
                    <a:pt x="2694" y="5554"/>
                  </a:lnTo>
                  <a:lnTo>
                    <a:pt x="2723" y="5553"/>
                  </a:lnTo>
                  <a:lnTo>
                    <a:pt x="2752" y="5553"/>
                  </a:lnTo>
                  <a:lnTo>
                    <a:pt x="2780" y="5554"/>
                  </a:lnTo>
                  <a:lnTo>
                    <a:pt x="2807" y="5556"/>
                  </a:lnTo>
                  <a:lnTo>
                    <a:pt x="2834" y="5560"/>
                  </a:lnTo>
                  <a:lnTo>
                    <a:pt x="2859" y="5566"/>
                  </a:lnTo>
                  <a:lnTo>
                    <a:pt x="2884" y="5573"/>
                  </a:lnTo>
                  <a:lnTo>
                    <a:pt x="2891" y="5505"/>
                  </a:lnTo>
                  <a:lnTo>
                    <a:pt x="2910" y="5326"/>
                  </a:lnTo>
                  <a:lnTo>
                    <a:pt x="2938" y="5068"/>
                  </a:lnTo>
                  <a:lnTo>
                    <a:pt x="2971" y="4766"/>
                  </a:lnTo>
                  <a:lnTo>
                    <a:pt x="2990" y="4611"/>
                  </a:lnTo>
                  <a:lnTo>
                    <a:pt x="3009" y="4457"/>
                  </a:lnTo>
                  <a:lnTo>
                    <a:pt x="3029" y="4310"/>
                  </a:lnTo>
                  <a:lnTo>
                    <a:pt x="3048" y="4175"/>
                  </a:lnTo>
                  <a:lnTo>
                    <a:pt x="3058" y="4112"/>
                  </a:lnTo>
                  <a:lnTo>
                    <a:pt x="3066" y="4054"/>
                  </a:lnTo>
                  <a:lnTo>
                    <a:pt x="3076" y="4000"/>
                  </a:lnTo>
                  <a:lnTo>
                    <a:pt x="3085" y="3952"/>
                  </a:lnTo>
                  <a:lnTo>
                    <a:pt x="3093" y="3910"/>
                  </a:lnTo>
                  <a:lnTo>
                    <a:pt x="3101" y="3874"/>
                  </a:lnTo>
                  <a:lnTo>
                    <a:pt x="3110" y="3846"/>
                  </a:lnTo>
                  <a:lnTo>
                    <a:pt x="3116" y="3826"/>
                  </a:lnTo>
                  <a:lnTo>
                    <a:pt x="3143" y="3767"/>
                  </a:lnTo>
                  <a:lnTo>
                    <a:pt x="3166" y="3722"/>
                  </a:lnTo>
                  <a:lnTo>
                    <a:pt x="3175" y="3703"/>
                  </a:lnTo>
                  <a:lnTo>
                    <a:pt x="3182" y="3684"/>
                  </a:lnTo>
                  <a:lnTo>
                    <a:pt x="3189" y="3666"/>
                  </a:lnTo>
                  <a:lnTo>
                    <a:pt x="3194" y="3646"/>
                  </a:lnTo>
                  <a:lnTo>
                    <a:pt x="3198" y="3627"/>
                  </a:lnTo>
                  <a:lnTo>
                    <a:pt x="3202" y="3605"/>
                  </a:lnTo>
                  <a:lnTo>
                    <a:pt x="3204" y="3581"/>
                  </a:lnTo>
                  <a:lnTo>
                    <a:pt x="3204" y="3552"/>
                  </a:lnTo>
                  <a:lnTo>
                    <a:pt x="3204" y="3521"/>
                  </a:lnTo>
                  <a:lnTo>
                    <a:pt x="3202" y="3484"/>
                  </a:lnTo>
                  <a:lnTo>
                    <a:pt x="3199" y="3442"/>
                  </a:lnTo>
                  <a:lnTo>
                    <a:pt x="3196" y="3394"/>
                  </a:lnTo>
                  <a:lnTo>
                    <a:pt x="3191" y="3339"/>
                  </a:lnTo>
                  <a:lnTo>
                    <a:pt x="3184" y="3281"/>
                  </a:lnTo>
                  <a:lnTo>
                    <a:pt x="3177" y="3222"/>
                  </a:lnTo>
                  <a:lnTo>
                    <a:pt x="3169" y="3160"/>
                  </a:lnTo>
                  <a:lnTo>
                    <a:pt x="3151" y="3038"/>
                  </a:lnTo>
                  <a:lnTo>
                    <a:pt x="3131" y="2922"/>
                  </a:lnTo>
                  <a:lnTo>
                    <a:pt x="3114" y="2818"/>
                  </a:lnTo>
                  <a:lnTo>
                    <a:pt x="3099" y="2735"/>
                  </a:lnTo>
                  <a:lnTo>
                    <a:pt x="3088" y="2679"/>
                  </a:lnTo>
                  <a:lnTo>
                    <a:pt x="3085" y="2659"/>
                  </a:lnTo>
                  <a:lnTo>
                    <a:pt x="2751" y="1959"/>
                  </a:lnTo>
                  <a:lnTo>
                    <a:pt x="2739" y="1912"/>
                  </a:lnTo>
                  <a:lnTo>
                    <a:pt x="2705" y="1780"/>
                  </a:lnTo>
                  <a:lnTo>
                    <a:pt x="2693" y="1737"/>
                  </a:lnTo>
                  <a:lnTo>
                    <a:pt x="2679" y="1689"/>
                  </a:lnTo>
                  <a:lnTo>
                    <a:pt x="2662" y="1639"/>
                  </a:lnTo>
                  <a:lnTo>
                    <a:pt x="2645" y="1585"/>
                  </a:lnTo>
                  <a:lnTo>
                    <a:pt x="2626" y="1527"/>
                  </a:lnTo>
                  <a:lnTo>
                    <a:pt x="2605" y="1468"/>
                  </a:lnTo>
                  <a:lnTo>
                    <a:pt x="2583" y="1406"/>
                  </a:lnTo>
                  <a:lnTo>
                    <a:pt x="2559" y="1344"/>
                  </a:lnTo>
                  <a:lnTo>
                    <a:pt x="2533" y="1278"/>
                  </a:lnTo>
                  <a:lnTo>
                    <a:pt x="2505" y="1212"/>
                  </a:lnTo>
                  <a:lnTo>
                    <a:pt x="2476" y="1145"/>
                  </a:lnTo>
                  <a:lnTo>
                    <a:pt x="2444" y="1076"/>
                  </a:lnTo>
                  <a:lnTo>
                    <a:pt x="2411" y="1008"/>
                  </a:lnTo>
                  <a:lnTo>
                    <a:pt x="2375" y="939"/>
                  </a:lnTo>
                  <a:lnTo>
                    <a:pt x="2338" y="871"/>
                  </a:lnTo>
                  <a:lnTo>
                    <a:pt x="2299" y="802"/>
                  </a:lnTo>
                  <a:lnTo>
                    <a:pt x="2258" y="735"/>
                  </a:lnTo>
                  <a:lnTo>
                    <a:pt x="2215" y="668"/>
                  </a:lnTo>
                  <a:lnTo>
                    <a:pt x="2170" y="603"/>
                  </a:lnTo>
                  <a:lnTo>
                    <a:pt x="2122" y="539"/>
                  </a:lnTo>
                  <a:lnTo>
                    <a:pt x="2073" y="479"/>
                  </a:lnTo>
                  <a:lnTo>
                    <a:pt x="2022" y="419"/>
                  </a:lnTo>
                  <a:lnTo>
                    <a:pt x="1968" y="362"/>
                  </a:lnTo>
                  <a:lnTo>
                    <a:pt x="1913" y="308"/>
                  </a:lnTo>
                  <a:lnTo>
                    <a:pt x="1884" y="284"/>
                  </a:lnTo>
                  <a:lnTo>
                    <a:pt x="1851" y="261"/>
                  </a:lnTo>
                  <a:lnTo>
                    <a:pt x="1817" y="238"/>
                  </a:lnTo>
                  <a:lnTo>
                    <a:pt x="1778" y="215"/>
                  </a:lnTo>
                  <a:lnTo>
                    <a:pt x="1738" y="195"/>
                  </a:lnTo>
                  <a:lnTo>
                    <a:pt x="1695" y="175"/>
                  </a:lnTo>
                  <a:lnTo>
                    <a:pt x="1649" y="156"/>
                  </a:lnTo>
                  <a:lnTo>
                    <a:pt x="1603" y="139"/>
                  </a:lnTo>
                  <a:lnTo>
                    <a:pt x="1554" y="121"/>
                  </a:lnTo>
                  <a:lnTo>
                    <a:pt x="1504" y="105"/>
                  </a:lnTo>
                  <a:lnTo>
                    <a:pt x="1455" y="91"/>
                  </a:lnTo>
                  <a:lnTo>
                    <a:pt x="1403" y="77"/>
                  </a:lnTo>
                  <a:lnTo>
                    <a:pt x="1352" y="64"/>
                  </a:lnTo>
                  <a:lnTo>
                    <a:pt x="1301" y="53"/>
                  </a:lnTo>
                  <a:lnTo>
                    <a:pt x="1249" y="42"/>
                  </a:lnTo>
                  <a:lnTo>
                    <a:pt x="1200" y="33"/>
                  </a:lnTo>
                  <a:lnTo>
                    <a:pt x="1150" y="25"/>
                  </a:lnTo>
                  <a:lnTo>
                    <a:pt x="1101" y="18"/>
                  </a:lnTo>
                  <a:lnTo>
                    <a:pt x="1055" y="12"/>
                  </a:lnTo>
                  <a:lnTo>
                    <a:pt x="1010" y="8"/>
                  </a:lnTo>
                  <a:lnTo>
                    <a:pt x="966" y="4"/>
                  </a:lnTo>
                  <a:lnTo>
                    <a:pt x="925" y="1"/>
                  </a:lnTo>
                  <a:lnTo>
                    <a:pt x="887" y="0"/>
                  </a:lnTo>
                  <a:lnTo>
                    <a:pt x="851" y="0"/>
                  </a:lnTo>
                  <a:lnTo>
                    <a:pt x="818" y="2"/>
                  </a:lnTo>
                  <a:lnTo>
                    <a:pt x="789" y="5"/>
                  </a:lnTo>
                  <a:lnTo>
                    <a:pt x="764" y="9"/>
                  </a:lnTo>
                  <a:lnTo>
                    <a:pt x="743" y="14"/>
                  </a:lnTo>
                  <a:lnTo>
                    <a:pt x="726" y="21"/>
                  </a:lnTo>
                  <a:lnTo>
                    <a:pt x="714" y="28"/>
                  </a:lnTo>
                  <a:lnTo>
                    <a:pt x="706" y="38"/>
                  </a:lnTo>
                  <a:lnTo>
                    <a:pt x="704" y="49"/>
                  </a:lnTo>
                  <a:lnTo>
                    <a:pt x="704" y="108"/>
                  </a:lnTo>
                  <a:lnTo>
                    <a:pt x="703" y="171"/>
                  </a:lnTo>
                  <a:lnTo>
                    <a:pt x="701" y="235"/>
                  </a:lnTo>
                  <a:lnTo>
                    <a:pt x="697" y="301"/>
                  </a:lnTo>
                  <a:lnTo>
                    <a:pt x="694" y="369"/>
                  </a:lnTo>
                  <a:lnTo>
                    <a:pt x="689" y="437"/>
                  </a:lnTo>
                  <a:lnTo>
                    <a:pt x="683" y="507"/>
                  </a:lnTo>
                  <a:lnTo>
                    <a:pt x="677" y="577"/>
                  </a:lnTo>
                  <a:lnTo>
                    <a:pt x="662" y="720"/>
                  </a:lnTo>
                  <a:lnTo>
                    <a:pt x="645" y="861"/>
                  </a:lnTo>
                  <a:lnTo>
                    <a:pt x="626" y="999"/>
                  </a:lnTo>
                  <a:lnTo>
                    <a:pt x="607" y="1133"/>
                  </a:lnTo>
                  <a:lnTo>
                    <a:pt x="588" y="1259"/>
                  </a:lnTo>
                  <a:lnTo>
                    <a:pt x="569" y="1375"/>
                  </a:lnTo>
                  <a:lnTo>
                    <a:pt x="552" y="1481"/>
                  </a:lnTo>
                  <a:lnTo>
                    <a:pt x="535" y="1572"/>
                  </a:lnTo>
                  <a:lnTo>
                    <a:pt x="513" y="1702"/>
                  </a:lnTo>
                  <a:lnTo>
                    <a:pt x="503" y="1750"/>
                  </a:lnTo>
                  <a:close/>
                </a:path>
              </a:pathLst>
            </a:custGeom>
            <a:solidFill>
              <a:srgbClr val="5b8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080040" y="2702160"/>
              <a:ext cx="273240" cy="369720"/>
            </a:xfrm>
            <a:custGeom>
              <a:avLst/>
              <a:gdLst/>
              <a:ahLst/>
              <a:rect l="l" t="t" r="r" b="b"/>
              <a:pathLst>
                <a:path w="857" h="1166">
                  <a:moveTo>
                    <a:pt x="12" y="375"/>
                  </a:moveTo>
                  <a:lnTo>
                    <a:pt x="16" y="385"/>
                  </a:lnTo>
                  <a:lnTo>
                    <a:pt x="27" y="412"/>
                  </a:lnTo>
                  <a:lnTo>
                    <a:pt x="45" y="453"/>
                  </a:lnTo>
                  <a:lnTo>
                    <a:pt x="69" y="503"/>
                  </a:lnTo>
                  <a:lnTo>
                    <a:pt x="82" y="530"/>
                  </a:lnTo>
                  <a:lnTo>
                    <a:pt x="97" y="557"/>
                  </a:lnTo>
                  <a:lnTo>
                    <a:pt x="112" y="584"/>
                  </a:lnTo>
                  <a:lnTo>
                    <a:pt x="128" y="610"/>
                  </a:lnTo>
                  <a:lnTo>
                    <a:pt x="146" y="636"/>
                  </a:lnTo>
                  <a:lnTo>
                    <a:pt x="163" y="660"/>
                  </a:lnTo>
                  <a:lnTo>
                    <a:pt x="173" y="670"/>
                  </a:lnTo>
                  <a:lnTo>
                    <a:pt x="181" y="680"/>
                  </a:lnTo>
                  <a:lnTo>
                    <a:pt x="190" y="690"/>
                  </a:lnTo>
                  <a:lnTo>
                    <a:pt x="200" y="699"/>
                  </a:lnTo>
                  <a:lnTo>
                    <a:pt x="233" y="728"/>
                  </a:lnTo>
                  <a:lnTo>
                    <a:pt x="258" y="751"/>
                  </a:lnTo>
                  <a:lnTo>
                    <a:pt x="269" y="761"/>
                  </a:lnTo>
                  <a:lnTo>
                    <a:pt x="276" y="771"/>
                  </a:lnTo>
                  <a:lnTo>
                    <a:pt x="284" y="780"/>
                  </a:lnTo>
                  <a:lnTo>
                    <a:pt x="289" y="789"/>
                  </a:lnTo>
                  <a:lnTo>
                    <a:pt x="295" y="798"/>
                  </a:lnTo>
                  <a:lnTo>
                    <a:pt x="298" y="807"/>
                  </a:lnTo>
                  <a:lnTo>
                    <a:pt x="301" y="817"/>
                  </a:lnTo>
                  <a:lnTo>
                    <a:pt x="303" y="828"/>
                  </a:lnTo>
                  <a:lnTo>
                    <a:pt x="308" y="854"/>
                  </a:lnTo>
                  <a:lnTo>
                    <a:pt x="311" y="886"/>
                  </a:lnTo>
                  <a:lnTo>
                    <a:pt x="316" y="927"/>
                  </a:lnTo>
                  <a:lnTo>
                    <a:pt x="322" y="973"/>
                  </a:lnTo>
                  <a:lnTo>
                    <a:pt x="327" y="1019"/>
                  </a:lnTo>
                  <a:lnTo>
                    <a:pt x="332" y="1064"/>
                  </a:lnTo>
                  <a:lnTo>
                    <a:pt x="338" y="1105"/>
                  </a:lnTo>
                  <a:lnTo>
                    <a:pt x="342" y="1136"/>
                  </a:lnTo>
                  <a:lnTo>
                    <a:pt x="344" y="1158"/>
                  </a:lnTo>
                  <a:lnTo>
                    <a:pt x="345" y="1166"/>
                  </a:lnTo>
                  <a:lnTo>
                    <a:pt x="857" y="1132"/>
                  </a:lnTo>
                  <a:lnTo>
                    <a:pt x="857" y="1123"/>
                  </a:lnTo>
                  <a:lnTo>
                    <a:pt x="857" y="1099"/>
                  </a:lnTo>
                  <a:lnTo>
                    <a:pt x="856" y="1082"/>
                  </a:lnTo>
                  <a:lnTo>
                    <a:pt x="854" y="1062"/>
                  </a:lnTo>
                  <a:lnTo>
                    <a:pt x="852" y="1041"/>
                  </a:lnTo>
                  <a:lnTo>
                    <a:pt x="849" y="1016"/>
                  </a:lnTo>
                  <a:lnTo>
                    <a:pt x="843" y="990"/>
                  </a:lnTo>
                  <a:lnTo>
                    <a:pt x="837" y="962"/>
                  </a:lnTo>
                  <a:lnTo>
                    <a:pt x="828" y="932"/>
                  </a:lnTo>
                  <a:lnTo>
                    <a:pt x="819" y="902"/>
                  </a:lnTo>
                  <a:lnTo>
                    <a:pt x="807" y="870"/>
                  </a:lnTo>
                  <a:lnTo>
                    <a:pt x="793" y="839"/>
                  </a:lnTo>
                  <a:lnTo>
                    <a:pt x="784" y="823"/>
                  </a:lnTo>
                  <a:lnTo>
                    <a:pt x="775" y="807"/>
                  </a:lnTo>
                  <a:lnTo>
                    <a:pt x="766" y="791"/>
                  </a:lnTo>
                  <a:lnTo>
                    <a:pt x="756" y="775"/>
                  </a:lnTo>
                  <a:lnTo>
                    <a:pt x="756" y="770"/>
                  </a:lnTo>
                  <a:lnTo>
                    <a:pt x="757" y="755"/>
                  </a:lnTo>
                  <a:lnTo>
                    <a:pt x="756" y="732"/>
                  </a:lnTo>
                  <a:lnTo>
                    <a:pt x="753" y="704"/>
                  </a:lnTo>
                  <a:lnTo>
                    <a:pt x="749" y="688"/>
                  </a:lnTo>
                  <a:lnTo>
                    <a:pt x="745" y="670"/>
                  </a:lnTo>
                  <a:lnTo>
                    <a:pt x="740" y="653"/>
                  </a:lnTo>
                  <a:lnTo>
                    <a:pt x="733" y="636"/>
                  </a:lnTo>
                  <a:lnTo>
                    <a:pt x="725" y="618"/>
                  </a:lnTo>
                  <a:lnTo>
                    <a:pt x="715" y="599"/>
                  </a:lnTo>
                  <a:lnTo>
                    <a:pt x="703" y="582"/>
                  </a:lnTo>
                  <a:lnTo>
                    <a:pt x="689" y="565"/>
                  </a:lnTo>
                  <a:lnTo>
                    <a:pt x="688" y="561"/>
                  </a:lnTo>
                  <a:lnTo>
                    <a:pt x="684" y="549"/>
                  </a:lnTo>
                  <a:lnTo>
                    <a:pt x="678" y="531"/>
                  </a:lnTo>
                  <a:lnTo>
                    <a:pt x="672" y="508"/>
                  </a:lnTo>
                  <a:lnTo>
                    <a:pt x="664" y="479"/>
                  </a:lnTo>
                  <a:lnTo>
                    <a:pt x="657" y="447"/>
                  </a:lnTo>
                  <a:lnTo>
                    <a:pt x="650" y="412"/>
                  </a:lnTo>
                  <a:lnTo>
                    <a:pt x="645" y="375"/>
                  </a:lnTo>
                  <a:lnTo>
                    <a:pt x="639" y="333"/>
                  </a:lnTo>
                  <a:lnTo>
                    <a:pt x="631" y="285"/>
                  </a:lnTo>
                  <a:lnTo>
                    <a:pt x="620" y="233"/>
                  </a:lnTo>
                  <a:lnTo>
                    <a:pt x="607" y="180"/>
                  </a:lnTo>
                  <a:lnTo>
                    <a:pt x="599" y="153"/>
                  </a:lnTo>
                  <a:lnTo>
                    <a:pt x="591" y="128"/>
                  </a:lnTo>
                  <a:lnTo>
                    <a:pt x="582" y="103"/>
                  </a:lnTo>
                  <a:lnTo>
                    <a:pt x="573" y="81"/>
                  </a:lnTo>
                  <a:lnTo>
                    <a:pt x="564" y="59"/>
                  </a:lnTo>
                  <a:lnTo>
                    <a:pt x="554" y="40"/>
                  </a:lnTo>
                  <a:lnTo>
                    <a:pt x="544" y="22"/>
                  </a:lnTo>
                  <a:lnTo>
                    <a:pt x="533" y="8"/>
                  </a:lnTo>
                  <a:lnTo>
                    <a:pt x="527" y="4"/>
                  </a:lnTo>
                  <a:lnTo>
                    <a:pt x="518" y="1"/>
                  </a:lnTo>
                  <a:lnTo>
                    <a:pt x="507" y="0"/>
                  </a:lnTo>
                  <a:lnTo>
                    <a:pt x="495" y="1"/>
                  </a:lnTo>
                  <a:lnTo>
                    <a:pt x="480" y="4"/>
                  </a:lnTo>
                  <a:lnTo>
                    <a:pt x="464" y="8"/>
                  </a:lnTo>
                  <a:lnTo>
                    <a:pt x="446" y="15"/>
                  </a:lnTo>
                  <a:lnTo>
                    <a:pt x="426" y="22"/>
                  </a:lnTo>
                  <a:lnTo>
                    <a:pt x="407" y="31"/>
                  </a:lnTo>
                  <a:lnTo>
                    <a:pt x="385" y="41"/>
                  </a:lnTo>
                  <a:lnTo>
                    <a:pt x="364" y="53"/>
                  </a:lnTo>
                  <a:lnTo>
                    <a:pt x="340" y="65"/>
                  </a:lnTo>
                  <a:lnTo>
                    <a:pt x="294" y="89"/>
                  </a:lnTo>
                  <a:lnTo>
                    <a:pt x="246" y="117"/>
                  </a:lnTo>
                  <a:lnTo>
                    <a:pt x="199" y="146"/>
                  </a:lnTo>
                  <a:lnTo>
                    <a:pt x="154" y="174"/>
                  </a:lnTo>
                  <a:lnTo>
                    <a:pt x="112" y="201"/>
                  </a:lnTo>
                  <a:lnTo>
                    <a:pt x="75" y="224"/>
                  </a:lnTo>
                  <a:lnTo>
                    <a:pt x="20" y="262"/>
                  </a:lnTo>
                  <a:lnTo>
                    <a:pt x="0" y="276"/>
                  </a:lnTo>
                  <a:lnTo>
                    <a:pt x="12" y="375"/>
                  </a:lnTo>
                  <a:close/>
                </a:path>
              </a:pathLst>
            </a:custGeom>
            <a:solidFill>
              <a:srgbClr val="9a76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080040" y="2760840"/>
              <a:ext cx="171360" cy="311040"/>
            </a:xfrm>
            <a:custGeom>
              <a:avLst/>
              <a:gdLst/>
              <a:ahLst/>
              <a:rect l="l" t="t" r="r" b="b"/>
              <a:pathLst>
                <a:path w="537" h="982">
                  <a:moveTo>
                    <a:pt x="489" y="971"/>
                  </a:moveTo>
                  <a:lnTo>
                    <a:pt x="345" y="982"/>
                  </a:lnTo>
                  <a:lnTo>
                    <a:pt x="344" y="974"/>
                  </a:lnTo>
                  <a:lnTo>
                    <a:pt x="342" y="952"/>
                  </a:lnTo>
                  <a:lnTo>
                    <a:pt x="338" y="921"/>
                  </a:lnTo>
                  <a:lnTo>
                    <a:pt x="332" y="880"/>
                  </a:lnTo>
                  <a:lnTo>
                    <a:pt x="327" y="835"/>
                  </a:lnTo>
                  <a:lnTo>
                    <a:pt x="322" y="789"/>
                  </a:lnTo>
                  <a:lnTo>
                    <a:pt x="316" y="743"/>
                  </a:lnTo>
                  <a:lnTo>
                    <a:pt x="311" y="702"/>
                  </a:lnTo>
                  <a:lnTo>
                    <a:pt x="308" y="670"/>
                  </a:lnTo>
                  <a:lnTo>
                    <a:pt x="303" y="644"/>
                  </a:lnTo>
                  <a:lnTo>
                    <a:pt x="301" y="633"/>
                  </a:lnTo>
                  <a:lnTo>
                    <a:pt x="298" y="623"/>
                  </a:lnTo>
                  <a:lnTo>
                    <a:pt x="295" y="614"/>
                  </a:lnTo>
                  <a:lnTo>
                    <a:pt x="289" y="605"/>
                  </a:lnTo>
                  <a:lnTo>
                    <a:pt x="284" y="596"/>
                  </a:lnTo>
                  <a:lnTo>
                    <a:pt x="276" y="587"/>
                  </a:lnTo>
                  <a:lnTo>
                    <a:pt x="269" y="577"/>
                  </a:lnTo>
                  <a:lnTo>
                    <a:pt x="258" y="567"/>
                  </a:lnTo>
                  <a:lnTo>
                    <a:pt x="233" y="544"/>
                  </a:lnTo>
                  <a:lnTo>
                    <a:pt x="200" y="515"/>
                  </a:lnTo>
                  <a:lnTo>
                    <a:pt x="190" y="506"/>
                  </a:lnTo>
                  <a:lnTo>
                    <a:pt x="181" y="496"/>
                  </a:lnTo>
                  <a:lnTo>
                    <a:pt x="173" y="486"/>
                  </a:lnTo>
                  <a:lnTo>
                    <a:pt x="163" y="476"/>
                  </a:lnTo>
                  <a:lnTo>
                    <a:pt x="146" y="452"/>
                  </a:lnTo>
                  <a:lnTo>
                    <a:pt x="128" y="426"/>
                  </a:lnTo>
                  <a:lnTo>
                    <a:pt x="112" y="400"/>
                  </a:lnTo>
                  <a:lnTo>
                    <a:pt x="97" y="373"/>
                  </a:lnTo>
                  <a:lnTo>
                    <a:pt x="82" y="346"/>
                  </a:lnTo>
                  <a:lnTo>
                    <a:pt x="69" y="319"/>
                  </a:lnTo>
                  <a:lnTo>
                    <a:pt x="45" y="269"/>
                  </a:lnTo>
                  <a:lnTo>
                    <a:pt x="27" y="228"/>
                  </a:lnTo>
                  <a:lnTo>
                    <a:pt x="16" y="201"/>
                  </a:lnTo>
                  <a:lnTo>
                    <a:pt x="12" y="191"/>
                  </a:lnTo>
                  <a:lnTo>
                    <a:pt x="0" y="92"/>
                  </a:lnTo>
                  <a:lnTo>
                    <a:pt x="2" y="90"/>
                  </a:lnTo>
                  <a:lnTo>
                    <a:pt x="9" y="85"/>
                  </a:lnTo>
                  <a:lnTo>
                    <a:pt x="22" y="76"/>
                  </a:lnTo>
                  <a:lnTo>
                    <a:pt x="39" y="65"/>
                  </a:lnTo>
                  <a:lnTo>
                    <a:pt x="58" y="51"/>
                  </a:lnTo>
                  <a:lnTo>
                    <a:pt x="82" y="36"/>
                  </a:lnTo>
                  <a:lnTo>
                    <a:pt x="108" y="19"/>
                  </a:lnTo>
                  <a:lnTo>
                    <a:pt x="136" y="0"/>
                  </a:lnTo>
                  <a:lnTo>
                    <a:pt x="137" y="9"/>
                  </a:lnTo>
                  <a:lnTo>
                    <a:pt x="140" y="34"/>
                  </a:lnTo>
                  <a:lnTo>
                    <a:pt x="148" y="68"/>
                  </a:lnTo>
                  <a:lnTo>
                    <a:pt x="159" y="112"/>
                  </a:lnTo>
                  <a:lnTo>
                    <a:pt x="166" y="135"/>
                  </a:lnTo>
                  <a:lnTo>
                    <a:pt x="174" y="159"/>
                  </a:lnTo>
                  <a:lnTo>
                    <a:pt x="183" y="183"/>
                  </a:lnTo>
                  <a:lnTo>
                    <a:pt x="194" y="206"/>
                  </a:lnTo>
                  <a:lnTo>
                    <a:pt x="205" y="228"/>
                  </a:lnTo>
                  <a:lnTo>
                    <a:pt x="219" y="249"/>
                  </a:lnTo>
                  <a:lnTo>
                    <a:pt x="226" y="259"/>
                  </a:lnTo>
                  <a:lnTo>
                    <a:pt x="233" y="268"/>
                  </a:lnTo>
                  <a:lnTo>
                    <a:pt x="241" y="277"/>
                  </a:lnTo>
                  <a:lnTo>
                    <a:pt x="249" y="284"/>
                  </a:lnTo>
                  <a:lnTo>
                    <a:pt x="265" y="300"/>
                  </a:lnTo>
                  <a:lnTo>
                    <a:pt x="281" y="311"/>
                  </a:lnTo>
                  <a:lnTo>
                    <a:pt x="295" y="322"/>
                  </a:lnTo>
                  <a:lnTo>
                    <a:pt x="308" y="332"/>
                  </a:lnTo>
                  <a:lnTo>
                    <a:pt x="320" y="340"/>
                  </a:lnTo>
                  <a:lnTo>
                    <a:pt x="331" y="345"/>
                  </a:lnTo>
                  <a:lnTo>
                    <a:pt x="343" y="350"/>
                  </a:lnTo>
                  <a:lnTo>
                    <a:pt x="354" y="354"/>
                  </a:lnTo>
                  <a:lnTo>
                    <a:pt x="364" y="357"/>
                  </a:lnTo>
                  <a:lnTo>
                    <a:pt x="375" y="359"/>
                  </a:lnTo>
                  <a:lnTo>
                    <a:pt x="384" y="360"/>
                  </a:lnTo>
                  <a:lnTo>
                    <a:pt x="394" y="361"/>
                  </a:lnTo>
                  <a:lnTo>
                    <a:pt x="413" y="362"/>
                  </a:lnTo>
                  <a:lnTo>
                    <a:pt x="434" y="363"/>
                  </a:lnTo>
                  <a:lnTo>
                    <a:pt x="445" y="365"/>
                  </a:lnTo>
                  <a:lnTo>
                    <a:pt x="456" y="367"/>
                  </a:lnTo>
                  <a:lnTo>
                    <a:pt x="466" y="369"/>
                  </a:lnTo>
                  <a:lnTo>
                    <a:pt x="477" y="372"/>
                  </a:lnTo>
                  <a:lnTo>
                    <a:pt x="488" y="376"/>
                  </a:lnTo>
                  <a:lnTo>
                    <a:pt x="498" y="383"/>
                  </a:lnTo>
                  <a:lnTo>
                    <a:pt x="507" y="389"/>
                  </a:lnTo>
                  <a:lnTo>
                    <a:pt x="516" y="398"/>
                  </a:lnTo>
                  <a:lnTo>
                    <a:pt x="524" y="408"/>
                  </a:lnTo>
                  <a:lnTo>
                    <a:pt x="529" y="419"/>
                  </a:lnTo>
                  <a:lnTo>
                    <a:pt x="531" y="426"/>
                  </a:lnTo>
                  <a:lnTo>
                    <a:pt x="533" y="434"/>
                  </a:lnTo>
                  <a:lnTo>
                    <a:pt x="534" y="441"/>
                  </a:lnTo>
                  <a:lnTo>
                    <a:pt x="536" y="449"/>
                  </a:lnTo>
                  <a:lnTo>
                    <a:pt x="537" y="467"/>
                  </a:lnTo>
                  <a:lnTo>
                    <a:pt x="534" y="488"/>
                  </a:lnTo>
                  <a:lnTo>
                    <a:pt x="530" y="511"/>
                  </a:lnTo>
                  <a:lnTo>
                    <a:pt x="524" y="537"/>
                  </a:lnTo>
                  <a:lnTo>
                    <a:pt x="515" y="564"/>
                  </a:lnTo>
                  <a:lnTo>
                    <a:pt x="509" y="593"/>
                  </a:lnTo>
                  <a:lnTo>
                    <a:pt x="502" y="624"/>
                  </a:lnTo>
                  <a:lnTo>
                    <a:pt x="497" y="655"/>
                  </a:lnTo>
                  <a:lnTo>
                    <a:pt x="492" y="687"/>
                  </a:lnTo>
                  <a:lnTo>
                    <a:pt x="488" y="719"/>
                  </a:lnTo>
                  <a:lnTo>
                    <a:pt x="485" y="750"/>
                  </a:lnTo>
                  <a:lnTo>
                    <a:pt x="483" y="781"/>
                  </a:lnTo>
                  <a:lnTo>
                    <a:pt x="482" y="812"/>
                  </a:lnTo>
                  <a:lnTo>
                    <a:pt x="480" y="841"/>
                  </a:lnTo>
                  <a:lnTo>
                    <a:pt x="480" y="868"/>
                  </a:lnTo>
                  <a:lnTo>
                    <a:pt x="480" y="894"/>
                  </a:lnTo>
                  <a:lnTo>
                    <a:pt x="482" y="917"/>
                  </a:lnTo>
                  <a:lnTo>
                    <a:pt x="484" y="939"/>
                  </a:lnTo>
                  <a:lnTo>
                    <a:pt x="486" y="956"/>
                  </a:lnTo>
                  <a:lnTo>
                    <a:pt x="489" y="971"/>
                  </a:lnTo>
                  <a:close/>
                </a:path>
              </a:pathLst>
            </a:custGeom>
            <a:solidFill>
              <a:srgbClr val="9a76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207120" y="2702160"/>
              <a:ext cx="146160" cy="361800"/>
            </a:xfrm>
            <a:custGeom>
              <a:avLst/>
              <a:gdLst/>
              <a:ahLst/>
              <a:rect l="l" t="t" r="r" b="b"/>
              <a:pathLst>
                <a:path w="458" h="1143">
                  <a:moveTo>
                    <a:pt x="268" y="1143"/>
                  </a:moveTo>
                  <a:lnTo>
                    <a:pt x="458" y="1132"/>
                  </a:lnTo>
                  <a:lnTo>
                    <a:pt x="458" y="1123"/>
                  </a:lnTo>
                  <a:lnTo>
                    <a:pt x="458" y="1099"/>
                  </a:lnTo>
                  <a:lnTo>
                    <a:pt x="457" y="1082"/>
                  </a:lnTo>
                  <a:lnTo>
                    <a:pt x="455" y="1062"/>
                  </a:lnTo>
                  <a:lnTo>
                    <a:pt x="453" y="1041"/>
                  </a:lnTo>
                  <a:lnTo>
                    <a:pt x="450" y="1016"/>
                  </a:lnTo>
                  <a:lnTo>
                    <a:pt x="444" y="990"/>
                  </a:lnTo>
                  <a:lnTo>
                    <a:pt x="438" y="962"/>
                  </a:lnTo>
                  <a:lnTo>
                    <a:pt x="429" y="932"/>
                  </a:lnTo>
                  <a:lnTo>
                    <a:pt x="420" y="902"/>
                  </a:lnTo>
                  <a:lnTo>
                    <a:pt x="408" y="870"/>
                  </a:lnTo>
                  <a:lnTo>
                    <a:pt x="394" y="839"/>
                  </a:lnTo>
                  <a:lnTo>
                    <a:pt x="385" y="823"/>
                  </a:lnTo>
                  <a:lnTo>
                    <a:pt x="376" y="807"/>
                  </a:lnTo>
                  <a:lnTo>
                    <a:pt x="367" y="791"/>
                  </a:lnTo>
                  <a:lnTo>
                    <a:pt x="357" y="775"/>
                  </a:lnTo>
                  <a:lnTo>
                    <a:pt x="357" y="770"/>
                  </a:lnTo>
                  <a:lnTo>
                    <a:pt x="358" y="755"/>
                  </a:lnTo>
                  <a:lnTo>
                    <a:pt x="357" y="732"/>
                  </a:lnTo>
                  <a:lnTo>
                    <a:pt x="354" y="704"/>
                  </a:lnTo>
                  <a:lnTo>
                    <a:pt x="350" y="688"/>
                  </a:lnTo>
                  <a:lnTo>
                    <a:pt x="346" y="670"/>
                  </a:lnTo>
                  <a:lnTo>
                    <a:pt x="341" y="653"/>
                  </a:lnTo>
                  <a:lnTo>
                    <a:pt x="334" y="636"/>
                  </a:lnTo>
                  <a:lnTo>
                    <a:pt x="326" y="618"/>
                  </a:lnTo>
                  <a:lnTo>
                    <a:pt x="316" y="599"/>
                  </a:lnTo>
                  <a:lnTo>
                    <a:pt x="304" y="582"/>
                  </a:lnTo>
                  <a:lnTo>
                    <a:pt x="290" y="565"/>
                  </a:lnTo>
                  <a:lnTo>
                    <a:pt x="289" y="561"/>
                  </a:lnTo>
                  <a:lnTo>
                    <a:pt x="285" y="549"/>
                  </a:lnTo>
                  <a:lnTo>
                    <a:pt x="279" y="531"/>
                  </a:lnTo>
                  <a:lnTo>
                    <a:pt x="273" y="508"/>
                  </a:lnTo>
                  <a:lnTo>
                    <a:pt x="265" y="479"/>
                  </a:lnTo>
                  <a:lnTo>
                    <a:pt x="258" y="447"/>
                  </a:lnTo>
                  <a:lnTo>
                    <a:pt x="251" y="412"/>
                  </a:lnTo>
                  <a:lnTo>
                    <a:pt x="246" y="375"/>
                  </a:lnTo>
                  <a:lnTo>
                    <a:pt x="240" y="333"/>
                  </a:lnTo>
                  <a:lnTo>
                    <a:pt x="232" y="285"/>
                  </a:lnTo>
                  <a:lnTo>
                    <a:pt x="221" y="233"/>
                  </a:lnTo>
                  <a:lnTo>
                    <a:pt x="208" y="180"/>
                  </a:lnTo>
                  <a:lnTo>
                    <a:pt x="200" y="153"/>
                  </a:lnTo>
                  <a:lnTo>
                    <a:pt x="192" y="128"/>
                  </a:lnTo>
                  <a:lnTo>
                    <a:pt x="183" y="103"/>
                  </a:lnTo>
                  <a:lnTo>
                    <a:pt x="174" y="81"/>
                  </a:lnTo>
                  <a:lnTo>
                    <a:pt x="165" y="59"/>
                  </a:lnTo>
                  <a:lnTo>
                    <a:pt x="155" y="40"/>
                  </a:lnTo>
                  <a:lnTo>
                    <a:pt x="145" y="22"/>
                  </a:lnTo>
                  <a:lnTo>
                    <a:pt x="134" y="8"/>
                  </a:lnTo>
                  <a:lnTo>
                    <a:pt x="131" y="5"/>
                  </a:lnTo>
                  <a:lnTo>
                    <a:pt x="127" y="3"/>
                  </a:lnTo>
                  <a:lnTo>
                    <a:pt x="123" y="1"/>
                  </a:lnTo>
                  <a:lnTo>
                    <a:pt x="116" y="0"/>
                  </a:lnTo>
                  <a:lnTo>
                    <a:pt x="110" y="0"/>
                  </a:lnTo>
                  <a:lnTo>
                    <a:pt x="103" y="0"/>
                  </a:lnTo>
                  <a:lnTo>
                    <a:pt x="94" y="1"/>
                  </a:lnTo>
                  <a:lnTo>
                    <a:pt x="86" y="3"/>
                  </a:lnTo>
                  <a:lnTo>
                    <a:pt x="67" y="7"/>
                  </a:lnTo>
                  <a:lnTo>
                    <a:pt x="47" y="15"/>
                  </a:lnTo>
                  <a:lnTo>
                    <a:pt x="24" y="24"/>
                  </a:lnTo>
                  <a:lnTo>
                    <a:pt x="0" y="33"/>
                  </a:lnTo>
                  <a:lnTo>
                    <a:pt x="5" y="34"/>
                  </a:lnTo>
                  <a:lnTo>
                    <a:pt x="14" y="39"/>
                  </a:lnTo>
                  <a:lnTo>
                    <a:pt x="22" y="42"/>
                  </a:lnTo>
                  <a:lnTo>
                    <a:pt x="30" y="47"/>
                  </a:lnTo>
                  <a:lnTo>
                    <a:pt x="38" y="53"/>
                  </a:lnTo>
                  <a:lnTo>
                    <a:pt x="48" y="61"/>
                  </a:lnTo>
                  <a:lnTo>
                    <a:pt x="58" y="71"/>
                  </a:lnTo>
                  <a:lnTo>
                    <a:pt x="69" y="83"/>
                  </a:lnTo>
                  <a:lnTo>
                    <a:pt x="78" y="97"/>
                  </a:lnTo>
                  <a:lnTo>
                    <a:pt x="88" y="114"/>
                  </a:lnTo>
                  <a:lnTo>
                    <a:pt x="99" y="134"/>
                  </a:lnTo>
                  <a:lnTo>
                    <a:pt x="107" y="155"/>
                  </a:lnTo>
                  <a:lnTo>
                    <a:pt x="116" y="181"/>
                  </a:lnTo>
                  <a:lnTo>
                    <a:pt x="125" y="209"/>
                  </a:lnTo>
                  <a:lnTo>
                    <a:pt x="131" y="240"/>
                  </a:lnTo>
                  <a:lnTo>
                    <a:pt x="137" y="269"/>
                  </a:lnTo>
                  <a:lnTo>
                    <a:pt x="141" y="299"/>
                  </a:lnTo>
                  <a:lnTo>
                    <a:pt x="145" y="328"/>
                  </a:lnTo>
                  <a:lnTo>
                    <a:pt x="152" y="383"/>
                  </a:lnTo>
                  <a:lnTo>
                    <a:pt x="157" y="435"/>
                  </a:lnTo>
                  <a:lnTo>
                    <a:pt x="159" y="459"/>
                  </a:lnTo>
                  <a:lnTo>
                    <a:pt x="162" y="480"/>
                  </a:lnTo>
                  <a:lnTo>
                    <a:pt x="166" y="501"/>
                  </a:lnTo>
                  <a:lnTo>
                    <a:pt x="169" y="519"/>
                  </a:lnTo>
                  <a:lnTo>
                    <a:pt x="173" y="535"/>
                  </a:lnTo>
                  <a:lnTo>
                    <a:pt x="179" y="549"/>
                  </a:lnTo>
                  <a:lnTo>
                    <a:pt x="181" y="556"/>
                  </a:lnTo>
                  <a:lnTo>
                    <a:pt x="184" y="561"/>
                  </a:lnTo>
                  <a:lnTo>
                    <a:pt x="187" y="566"/>
                  </a:lnTo>
                  <a:lnTo>
                    <a:pt x="192" y="570"/>
                  </a:lnTo>
                  <a:lnTo>
                    <a:pt x="198" y="578"/>
                  </a:lnTo>
                  <a:lnTo>
                    <a:pt x="206" y="583"/>
                  </a:lnTo>
                  <a:lnTo>
                    <a:pt x="214" y="588"/>
                  </a:lnTo>
                  <a:lnTo>
                    <a:pt x="223" y="594"/>
                  </a:lnTo>
                  <a:lnTo>
                    <a:pt x="239" y="603"/>
                  </a:lnTo>
                  <a:lnTo>
                    <a:pt x="256" y="612"/>
                  </a:lnTo>
                  <a:lnTo>
                    <a:pt x="264" y="616"/>
                  </a:lnTo>
                  <a:lnTo>
                    <a:pt x="272" y="622"/>
                  </a:lnTo>
                  <a:lnTo>
                    <a:pt x="279" y="627"/>
                  </a:lnTo>
                  <a:lnTo>
                    <a:pt x="286" y="634"/>
                  </a:lnTo>
                  <a:lnTo>
                    <a:pt x="291" y="641"/>
                  </a:lnTo>
                  <a:lnTo>
                    <a:pt x="295" y="649"/>
                  </a:lnTo>
                  <a:lnTo>
                    <a:pt x="300" y="659"/>
                  </a:lnTo>
                  <a:lnTo>
                    <a:pt x="303" y="669"/>
                  </a:lnTo>
                  <a:lnTo>
                    <a:pt x="306" y="691"/>
                  </a:lnTo>
                  <a:lnTo>
                    <a:pt x="309" y="714"/>
                  </a:lnTo>
                  <a:lnTo>
                    <a:pt x="313" y="736"/>
                  </a:lnTo>
                  <a:lnTo>
                    <a:pt x="315" y="763"/>
                  </a:lnTo>
                  <a:lnTo>
                    <a:pt x="315" y="794"/>
                  </a:lnTo>
                  <a:lnTo>
                    <a:pt x="314" y="831"/>
                  </a:lnTo>
                  <a:lnTo>
                    <a:pt x="309" y="876"/>
                  </a:lnTo>
                  <a:lnTo>
                    <a:pt x="303" y="931"/>
                  </a:lnTo>
                  <a:lnTo>
                    <a:pt x="294" y="986"/>
                  </a:lnTo>
                  <a:lnTo>
                    <a:pt x="288" y="1032"/>
                  </a:lnTo>
                  <a:lnTo>
                    <a:pt x="281" y="1069"/>
                  </a:lnTo>
                  <a:lnTo>
                    <a:pt x="277" y="1097"/>
                  </a:lnTo>
                  <a:lnTo>
                    <a:pt x="273" y="1119"/>
                  </a:lnTo>
                  <a:lnTo>
                    <a:pt x="271" y="1133"/>
                  </a:lnTo>
                  <a:lnTo>
                    <a:pt x="268" y="1141"/>
                  </a:lnTo>
                  <a:lnTo>
                    <a:pt x="268" y="1143"/>
                  </a:lnTo>
                  <a:close/>
                </a:path>
              </a:pathLst>
            </a:custGeom>
            <a:solidFill>
              <a:srgbClr val="9a76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80040" y="2765520"/>
              <a:ext cx="165240" cy="306360"/>
            </a:xfrm>
            <a:custGeom>
              <a:avLst/>
              <a:gdLst/>
              <a:ahLst/>
              <a:rect l="l" t="t" r="r" b="b"/>
              <a:pathLst>
                <a:path w="520" h="966">
                  <a:moveTo>
                    <a:pt x="424" y="380"/>
                  </a:moveTo>
                  <a:lnTo>
                    <a:pt x="446" y="382"/>
                  </a:lnTo>
                  <a:lnTo>
                    <a:pt x="468" y="386"/>
                  </a:lnTo>
                  <a:lnTo>
                    <a:pt x="477" y="389"/>
                  </a:lnTo>
                  <a:lnTo>
                    <a:pt x="487" y="395"/>
                  </a:lnTo>
                  <a:lnTo>
                    <a:pt x="496" y="400"/>
                  </a:lnTo>
                  <a:lnTo>
                    <a:pt x="503" y="407"/>
                  </a:lnTo>
                  <a:lnTo>
                    <a:pt x="510" y="415"/>
                  </a:lnTo>
                  <a:lnTo>
                    <a:pt x="515" y="426"/>
                  </a:lnTo>
                  <a:lnTo>
                    <a:pt x="518" y="439"/>
                  </a:lnTo>
                  <a:lnTo>
                    <a:pt x="520" y="453"/>
                  </a:lnTo>
                  <a:lnTo>
                    <a:pt x="520" y="470"/>
                  </a:lnTo>
                  <a:lnTo>
                    <a:pt x="518" y="490"/>
                  </a:lnTo>
                  <a:lnTo>
                    <a:pt x="513" y="513"/>
                  </a:lnTo>
                  <a:lnTo>
                    <a:pt x="506" y="538"/>
                  </a:lnTo>
                  <a:lnTo>
                    <a:pt x="498" y="567"/>
                  </a:lnTo>
                  <a:lnTo>
                    <a:pt x="491" y="595"/>
                  </a:lnTo>
                  <a:lnTo>
                    <a:pt x="485" y="625"/>
                  </a:lnTo>
                  <a:lnTo>
                    <a:pt x="479" y="655"/>
                  </a:lnTo>
                  <a:lnTo>
                    <a:pt x="475" y="685"/>
                  </a:lnTo>
                  <a:lnTo>
                    <a:pt x="471" y="716"/>
                  </a:lnTo>
                  <a:lnTo>
                    <a:pt x="468" y="746"/>
                  </a:lnTo>
                  <a:lnTo>
                    <a:pt x="465" y="775"/>
                  </a:lnTo>
                  <a:lnTo>
                    <a:pt x="464" y="803"/>
                  </a:lnTo>
                  <a:lnTo>
                    <a:pt x="463" y="831"/>
                  </a:lnTo>
                  <a:lnTo>
                    <a:pt x="463" y="857"/>
                  </a:lnTo>
                  <a:lnTo>
                    <a:pt x="463" y="881"/>
                  </a:lnTo>
                  <a:lnTo>
                    <a:pt x="464" y="904"/>
                  </a:lnTo>
                  <a:lnTo>
                    <a:pt x="466" y="923"/>
                  </a:lnTo>
                  <a:lnTo>
                    <a:pt x="469" y="941"/>
                  </a:lnTo>
                  <a:lnTo>
                    <a:pt x="472" y="955"/>
                  </a:lnTo>
                  <a:lnTo>
                    <a:pt x="345" y="966"/>
                  </a:lnTo>
                  <a:lnTo>
                    <a:pt x="344" y="958"/>
                  </a:lnTo>
                  <a:lnTo>
                    <a:pt x="342" y="936"/>
                  </a:lnTo>
                  <a:lnTo>
                    <a:pt x="338" y="905"/>
                  </a:lnTo>
                  <a:lnTo>
                    <a:pt x="332" y="864"/>
                  </a:lnTo>
                  <a:lnTo>
                    <a:pt x="327" y="819"/>
                  </a:lnTo>
                  <a:lnTo>
                    <a:pt x="322" y="773"/>
                  </a:lnTo>
                  <a:lnTo>
                    <a:pt x="316" y="727"/>
                  </a:lnTo>
                  <a:lnTo>
                    <a:pt x="311" y="686"/>
                  </a:lnTo>
                  <a:lnTo>
                    <a:pt x="308" y="654"/>
                  </a:lnTo>
                  <a:lnTo>
                    <a:pt x="303" y="628"/>
                  </a:lnTo>
                  <a:lnTo>
                    <a:pt x="301" y="617"/>
                  </a:lnTo>
                  <a:lnTo>
                    <a:pt x="298" y="607"/>
                  </a:lnTo>
                  <a:lnTo>
                    <a:pt x="295" y="598"/>
                  </a:lnTo>
                  <a:lnTo>
                    <a:pt x="289" y="589"/>
                  </a:lnTo>
                  <a:lnTo>
                    <a:pt x="284" y="580"/>
                  </a:lnTo>
                  <a:lnTo>
                    <a:pt x="276" y="571"/>
                  </a:lnTo>
                  <a:lnTo>
                    <a:pt x="269" y="561"/>
                  </a:lnTo>
                  <a:lnTo>
                    <a:pt x="258" y="551"/>
                  </a:lnTo>
                  <a:lnTo>
                    <a:pt x="233" y="528"/>
                  </a:lnTo>
                  <a:lnTo>
                    <a:pt x="200" y="499"/>
                  </a:lnTo>
                  <a:lnTo>
                    <a:pt x="190" y="490"/>
                  </a:lnTo>
                  <a:lnTo>
                    <a:pt x="181" y="480"/>
                  </a:lnTo>
                  <a:lnTo>
                    <a:pt x="173" y="470"/>
                  </a:lnTo>
                  <a:lnTo>
                    <a:pt x="163" y="460"/>
                  </a:lnTo>
                  <a:lnTo>
                    <a:pt x="146" y="436"/>
                  </a:lnTo>
                  <a:lnTo>
                    <a:pt x="128" y="410"/>
                  </a:lnTo>
                  <a:lnTo>
                    <a:pt x="112" y="384"/>
                  </a:lnTo>
                  <a:lnTo>
                    <a:pt x="97" y="357"/>
                  </a:lnTo>
                  <a:lnTo>
                    <a:pt x="82" y="330"/>
                  </a:lnTo>
                  <a:lnTo>
                    <a:pt x="69" y="303"/>
                  </a:lnTo>
                  <a:lnTo>
                    <a:pt x="45" y="253"/>
                  </a:lnTo>
                  <a:lnTo>
                    <a:pt x="27" y="212"/>
                  </a:lnTo>
                  <a:lnTo>
                    <a:pt x="16" y="185"/>
                  </a:lnTo>
                  <a:lnTo>
                    <a:pt x="12" y="175"/>
                  </a:lnTo>
                  <a:lnTo>
                    <a:pt x="0" y="76"/>
                  </a:lnTo>
                  <a:lnTo>
                    <a:pt x="1" y="75"/>
                  </a:lnTo>
                  <a:lnTo>
                    <a:pt x="6" y="71"/>
                  </a:lnTo>
                  <a:lnTo>
                    <a:pt x="15" y="64"/>
                  </a:lnTo>
                  <a:lnTo>
                    <a:pt x="28" y="56"/>
                  </a:lnTo>
                  <a:lnTo>
                    <a:pt x="44" y="45"/>
                  </a:lnTo>
                  <a:lnTo>
                    <a:pt x="63" y="32"/>
                  </a:lnTo>
                  <a:lnTo>
                    <a:pt x="88" y="17"/>
                  </a:lnTo>
                  <a:lnTo>
                    <a:pt x="115" y="0"/>
                  </a:lnTo>
                  <a:lnTo>
                    <a:pt x="117" y="8"/>
                  </a:lnTo>
                  <a:lnTo>
                    <a:pt x="123" y="34"/>
                  </a:lnTo>
                  <a:lnTo>
                    <a:pt x="132" y="72"/>
                  </a:lnTo>
                  <a:lnTo>
                    <a:pt x="146" y="117"/>
                  </a:lnTo>
                  <a:lnTo>
                    <a:pt x="153" y="142"/>
                  </a:lnTo>
                  <a:lnTo>
                    <a:pt x="163" y="167"/>
                  </a:lnTo>
                  <a:lnTo>
                    <a:pt x="173" y="192"/>
                  </a:lnTo>
                  <a:lnTo>
                    <a:pt x="184" y="217"/>
                  </a:lnTo>
                  <a:lnTo>
                    <a:pt x="197" y="239"/>
                  </a:lnTo>
                  <a:lnTo>
                    <a:pt x="210" y="261"/>
                  </a:lnTo>
                  <a:lnTo>
                    <a:pt x="218" y="272"/>
                  </a:lnTo>
                  <a:lnTo>
                    <a:pt x="226" y="281"/>
                  </a:lnTo>
                  <a:lnTo>
                    <a:pt x="233" y="290"/>
                  </a:lnTo>
                  <a:lnTo>
                    <a:pt x="242" y="299"/>
                  </a:lnTo>
                  <a:lnTo>
                    <a:pt x="258" y="313"/>
                  </a:lnTo>
                  <a:lnTo>
                    <a:pt x="273" y="326"/>
                  </a:lnTo>
                  <a:lnTo>
                    <a:pt x="287" y="337"/>
                  </a:lnTo>
                  <a:lnTo>
                    <a:pt x="300" y="345"/>
                  </a:lnTo>
                  <a:lnTo>
                    <a:pt x="313" y="353"/>
                  </a:lnTo>
                  <a:lnTo>
                    <a:pt x="324" y="359"/>
                  </a:lnTo>
                  <a:lnTo>
                    <a:pt x="336" y="364"/>
                  </a:lnTo>
                  <a:lnTo>
                    <a:pt x="347" y="368"/>
                  </a:lnTo>
                  <a:lnTo>
                    <a:pt x="366" y="373"/>
                  </a:lnTo>
                  <a:lnTo>
                    <a:pt x="385" y="375"/>
                  </a:lnTo>
                  <a:lnTo>
                    <a:pt x="405" y="378"/>
                  </a:lnTo>
                  <a:lnTo>
                    <a:pt x="424" y="380"/>
                  </a:lnTo>
                  <a:close/>
                </a:path>
              </a:pathLst>
            </a:custGeom>
            <a:solidFill>
              <a:srgbClr val="936f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080040" y="2768760"/>
              <a:ext cx="160560" cy="303120"/>
            </a:xfrm>
            <a:custGeom>
              <a:avLst/>
              <a:gdLst/>
              <a:ahLst/>
              <a:rect l="l" t="t" r="r" b="b"/>
              <a:pathLst>
                <a:path w="504" h="955">
                  <a:moveTo>
                    <a:pt x="417" y="399"/>
                  </a:moveTo>
                  <a:lnTo>
                    <a:pt x="438" y="400"/>
                  </a:lnTo>
                  <a:lnTo>
                    <a:pt x="459" y="403"/>
                  </a:lnTo>
                  <a:lnTo>
                    <a:pt x="468" y="407"/>
                  </a:lnTo>
                  <a:lnTo>
                    <a:pt x="476" y="410"/>
                  </a:lnTo>
                  <a:lnTo>
                    <a:pt x="485" y="415"/>
                  </a:lnTo>
                  <a:lnTo>
                    <a:pt x="491" y="421"/>
                  </a:lnTo>
                  <a:lnTo>
                    <a:pt x="497" y="428"/>
                  </a:lnTo>
                  <a:lnTo>
                    <a:pt x="501" y="438"/>
                  </a:lnTo>
                  <a:lnTo>
                    <a:pt x="503" y="450"/>
                  </a:lnTo>
                  <a:lnTo>
                    <a:pt x="504" y="464"/>
                  </a:lnTo>
                  <a:lnTo>
                    <a:pt x="503" y="480"/>
                  </a:lnTo>
                  <a:lnTo>
                    <a:pt x="501" y="499"/>
                  </a:lnTo>
                  <a:lnTo>
                    <a:pt x="496" y="522"/>
                  </a:lnTo>
                  <a:lnTo>
                    <a:pt x="489" y="547"/>
                  </a:lnTo>
                  <a:lnTo>
                    <a:pt x="480" y="575"/>
                  </a:lnTo>
                  <a:lnTo>
                    <a:pt x="474" y="603"/>
                  </a:lnTo>
                  <a:lnTo>
                    <a:pt x="468" y="631"/>
                  </a:lnTo>
                  <a:lnTo>
                    <a:pt x="462" y="660"/>
                  </a:lnTo>
                  <a:lnTo>
                    <a:pt x="458" y="689"/>
                  </a:lnTo>
                  <a:lnTo>
                    <a:pt x="455" y="718"/>
                  </a:lnTo>
                  <a:lnTo>
                    <a:pt x="451" y="746"/>
                  </a:lnTo>
                  <a:lnTo>
                    <a:pt x="449" y="774"/>
                  </a:lnTo>
                  <a:lnTo>
                    <a:pt x="448" y="801"/>
                  </a:lnTo>
                  <a:lnTo>
                    <a:pt x="447" y="826"/>
                  </a:lnTo>
                  <a:lnTo>
                    <a:pt x="447" y="850"/>
                  </a:lnTo>
                  <a:lnTo>
                    <a:pt x="447" y="873"/>
                  </a:lnTo>
                  <a:lnTo>
                    <a:pt x="448" y="894"/>
                  </a:lnTo>
                  <a:lnTo>
                    <a:pt x="449" y="913"/>
                  </a:lnTo>
                  <a:lnTo>
                    <a:pt x="451" y="930"/>
                  </a:lnTo>
                  <a:lnTo>
                    <a:pt x="455" y="944"/>
                  </a:lnTo>
                  <a:lnTo>
                    <a:pt x="345" y="955"/>
                  </a:lnTo>
                  <a:lnTo>
                    <a:pt x="344" y="947"/>
                  </a:lnTo>
                  <a:lnTo>
                    <a:pt x="342" y="925"/>
                  </a:lnTo>
                  <a:lnTo>
                    <a:pt x="338" y="894"/>
                  </a:lnTo>
                  <a:lnTo>
                    <a:pt x="332" y="853"/>
                  </a:lnTo>
                  <a:lnTo>
                    <a:pt x="327" y="808"/>
                  </a:lnTo>
                  <a:lnTo>
                    <a:pt x="322" y="762"/>
                  </a:lnTo>
                  <a:lnTo>
                    <a:pt x="316" y="716"/>
                  </a:lnTo>
                  <a:lnTo>
                    <a:pt x="311" y="675"/>
                  </a:lnTo>
                  <a:lnTo>
                    <a:pt x="308" y="643"/>
                  </a:lnTo>
                  <a:lnTo>
                    <a:pt x="303" y="617"/>
                  </a:lnTo>
                  <a:lnTo>
                    <a:pt x="301" y="606"/>
                  </a:lnTo>
                  <a:lnTo>
                    <a:pt x="298" y="596"/>
                  </a:lnTo>
                  <a:lnTo>
                    <a:pt x="295" y="587"/>
                  </a:lnTo>
                  <a:lnTo>
                    <a:pt x="289" y="578"/>
                  </a:lnTo>
                  <a:lnTo>
                    <a:pt x="284" y="569"/>
                  </a:lnTo>
                  <a:lnTo>
                    <a:pt x="276" y="560"/>
                  </a:lnTo>
                  <a:lnTo>
                    <a:pt x="269" y="550"/>
                  </a:lnTo>
                  <a:lnTo>
                    <a:pt x="258" y="540"/>
                  </a:lnTo>
                  <a:lnTo>
                    <a:pt x="233" y="517"/>
                  </a:lnTo>
                  <a:lnTo>
                    <a:pt x="200" y="488"/>
                  </a:lnTo>
                  <a:lnTo>
                    <a:pt x="190" y="479"/>
                  </a:lnTo>
                  <a:lnTo>
                    <a:pt x="181" y="469"/>
                  </a:lnTo>
                  <a:lnTo>
                    <a:pt x="173" y="459"/>
                  </a:lnTo>
                  <a:lnTo>
                    <a:pt x="163" y="449"/>
                  </a:lnTo>
                  <a:lnTo>
                    <a:pt x="146" y="425"/>
                  </a:lnTo>
                  <a:lnTo>
                    <a:pt x="128" y="399"/>
                  </a:lnTo>
                  <a:lnTo>
                    <a:pt x="112" y="373"/>
                  </a:lnTo>
                  <a:lnTo>
                    <a:pt x="97" y="346"/>
                  </a:lnTo>
                  <a:lnTo>
                    <a:pt x="82" y="319"/>
                  </a:lnTo>
                  <a:lnTo>
                    <a:pt x="69" y="292"/>
                  </a:lnTo>
                  <a:lnTo>
                    <a:pt x="45" y="242"/>
                  </a:lnTo>
                  <a:lnTo>
                    <a:pt x="27" y="201"/>
                  </a:lnTo>
                  <a:lnTo>
                    <a:pt x="16" y="174"/>
                  </a:lnTo>
                  <a:lnTo>
                    <a:pt x="12" y="164"/>
                  </a:lnTo>
                  <a:lnTo>
                    <a:pt x="0" y="65"/>
                  </a:lnTo>
                  <a:lnTo>
                    <a:pt x="0" y="64"/>
                  </a:lnTo>
                  <a:lnTo>
                    <a:pt x="3" y="62"/>
                  </a:lnTo>
                  <a:lnTo>
                    <a:pt x="8" y="58"/>
                  </a:lnTo>
                  <a:lnTo>
                    <a:pt x="17" y="51"/>
                  </a:lnTo>
                  <a:lnTo>
                    <a:pt x="30" y="43"/>
                  </a:lnTo>
                  <a:lnTo>
                    <a:pt x="46" y="32"/>
                  </a:lnTo>
                  <a:lnTo>
                    <a:pt x="67" y="18"/>
                  </a:lnTo>
                  <a:lnTo>
                    <a:pt x="94" y="0"/>
                  </a:lnTo>
                  <a:lnTo>
                    <a:pt x="96" y="11"/>
                  </a:lnTo>
                  <a:lnTo>
                    <a:pt x="102" y="38"/>
                  </a:lnTo>
                  <a:lnTo>
                    <a:pt x="113" y="78"/>
                  </a:lnTo>
                  <a:lnTo>
                    <a:pt x="129" y="127"/>
                  </a:lnTo>
                  <a:lnTo>
                    <a:pt x="138" y="154"/>
                  </a:lnTo>
                  <a:lnTo>
                    <a:pt x="149" y="180"/>
                  </a:lnTo>
                  <a:lnTo>
                    <a:pt x="161" y="207"/>
                  </a:lnTo>
                  <a:lnTo>
                    <a:pt x="173" y="233"/>
                  </a:lnTo>
                  <a:lnTo>
                    <a:pt x="186" y="256"/>
                  </a:lnTo>
                  <a:lnTo>
                    <a:pt x="201" y="279"/>
                  </a:lnTo>
                  <a:lnTo>
                    <a:pt x="208" y="290"/>
                  </a:lnTo>
                  <a:lnTo>
                    <a:pt x="216" y="300"/>
                  </a:lnTo>
                  <a:lnTo>
                    <a:pt x="223" y="308"/>
                  </a:lnTo>
                  <a:lnTo>
                    <a:pt x="232" y="317"/>
                  </a:lnTo>
                  <a:lnTo>
                    <a:pt x="248" y="332"/>
                  </a:lnTo>
                  <a:lnTo>
                    <a:pt x="263" y="345"/>
                  </a:lnTo>
                  <a:lnTo>
                    <a:pt x="277" y="356"/>
                  </a:lnTo>
                  <a:lnTo>
                    <a:pt x="290" y="364"/>
                  </a:lnTo>
                  <a:lnTo>
                    <a:pt x="303" y="372"/>
                  </a:lnTo>
                  <a:lnTo>
                    <a:pt x="315" y="378"/>
                  </a:lnTo>
                  <a:lnTo>
                    <a:pt x="327" y="384"/>
                  </a:lnTo>
                  <a:lnTo>
                    <a:pt x="338" y="387"/>
                  </a:lnTo>
                  <a:lnTo>
                    <a:pt x="348" y="390"/>
                  </a:lnTo>
                  <a:lnTo>
                    <a:pt x="358" y="392"/>
                  </a:lnTo>
                  <a:lnTo>
                    <a:pt x="368" y="395"/>
                  </a:lnTo>
                  <a:lnTo>
                    <a:pt x="378" y="396"/>
                  </a:lnTo>
                  <a:lnTo>
                    <a:pt x="397" y="397"/>
                  </a:lnTo>
                  <a:lnTo>
                    <a:pt x="417" y="399"/>
                  </a:lnTo>
                  <a:close/>
                </a:path>
              </a:pathLst>
            </a:custGeom>
            <a:solidFill>
              <a:srgbClr val="8968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080040" y="2773440"/>
              <a:ext cx="155520" cy="298440"/>
            </a:xfrm>
            <a:custGeom>
              <a:avLst/>
              <a:gdLst/>
              <a:ahLst/>
              <a:rect l="l" t="t" r="r" b="b"/>
              <a:pathLst>
                <a:path w="489" h="942">
                  <a:moveTo>
                    <a:pt x="410" y="417"/>
                  </a:moveTo>
                  <a:lnTo>
                    <a:pt x="431" y="419"/>
                  </a:lnTo>
                  <a:lnTo>
                    <a:pt x="449" y="421"/>
                  </a:lnTo>
                  <a:lnTo>
                    <a:pt x="458" y="422"/>
                  </a:lnTo>
                  <a:lnTo>
                    <a:pt x="466" y="425"/>
                  </a:lnTo>
                  <a:lnTo>
                    <a:pt x="473" y="428"/>
                  </a:lnTo>
                  <a:lnTo>
                    <a:pt x="478" y="432"/>
                  </a:lnTo>
                  <a:lnTo>
                    <a:pt x="484" y="440"/>
                  </a:lnTo>
                  <a:lnTo>
                    <a:pt x="487" y="448"/>
                  </a:lnTo>
                  <a:lnTo>
                    <a:pt x="488" y="458"/>
                  </a:lnTo>
                  <a:lnTo>
                    <a:pt x="489" y="471"/>
                  </a:lnTo>
                  <a:lnTo>
                    <a:pt x="487" y="487"/>
                  </a:lnTo>
                  <a:lnTo>
                    <a:pt x="484" y="506"/>
                  </a:lnTo>
                  <a:lnTo>
                    <a:pt x="478" y="529"/>
                  </a:lnTo>
                  <a:lnTo>
                    <a:pt x="472" y="553"/>
                  </a:lnTo>
                  <a:lnTo>
                    <a:pt x="463" y="580"/>
                  </a:lnTo>
                  <a:lnTo>
                    <a:pt x="457" y="608"/>
                  </a:lnTo>
                  <a:lnTo>
                    <a:pt x="450" y="635"/>
                  </a:lnTo>
                  <a:lnTo>
                    <a:pt x="445" y="664"/>
                  </a:lnTo>
                  <a:lnTo>
                    <a:pt x="440" y="691"/>
                  </a:lnTo>
                  <a:lnTo>
                    <a:pt x="437" y="718"/>
                  </a:lnTo>
                  <a:lnTo>
                    <a:pt x="434" y="743"/>
                  </a:lnTo>
                  <a:lnTo>
                    <a:pt x="432" y="769"/>
                  </a:lnTo>
                  <a:lnTo>
                    <a:pt x="431" y="794"/>
                  </a:lnTo>
                  <a:lnTo>
                    <a:pt x="431" y="819"/>
                  </a:lnTo>
                  <a:lnTo>
                    <a:pt x="431" y="842"/>
                  </a:lnTo>
                  <a:lnTo>
                    <a:pt x="431" y="862"/>
                  </a:lnTo>
                  <a:lnTo>
                    <a:pt x="432" y="883"/>
                  </a:lnTo>
                  <a:lnTo>
                    <a:pt x="434" y="901"/>
                  </a:lnTo>
                  <a:lnTo>
                    <a:pt x="436" y="917"/>
                  </a:lnTo>
                  <a:lnTo>
                    <a:pt x="439" y="931"/>
                  </a:lnTo>
                  <a:lnTo>
                    <a:pt x="345" y="942"/>
                  </a:lnTo>
                  <a:lnTo>
                    <a:pt x="344" y="934"/>
                  </a:lnTo>
                  <a:lnTo>
                    <a:pt x="342" y="912"/>
                  </a:lnTo>
                  <a:lnTo>
                    <a:pt x="338" y="881"/>
                  </a:lnTo>
                  <a:lnTo>
                    <a:pt x="332" y="840"/>
                  </a:lnTo>
                  <a:lnTo>
                    <a:pt x="327" y="795"/>
                  </a:lnTo>
                  <a:lnTo>
                    <a:pt x="322" y="749"/>
                  </a:lnTo>
                  <a:lnTo>
                    <a:pt x="316" y="703"/>
                  </a:lnTo>
                  <a:lnTo>
                    <a:pt x="311" y="662"/>
                  </a:lnTo>
                  <a:lnTo>
                    <a:pt x="308" y="630"/>
                  </a:lnTo>
                  <a:lnTo>
                    <a:pt x="303" y="604"/>
                  </a:lnTo>
                  <a:lnTo>
                    <a:pt x="301" y="593"/>
                  </a:lnTo>
                  <a:lnTo>
                    <a:pt x="298" y="583"/>
                  </a:lnTo>
                  <a:lnTo>
                    <a:pt x="295" y="574"/>
                  </a:lnTo>
                  <a:lnTo>
                    <a:pt x="289" y="565"/>
                  </a:lnTo>
                  <a:lnTo>
                    <a:pt x="284" y="556"/>
                  </a:lnTo>
                  <a:lnTo>
                    <a:pt x="276" y="547"/>
                  </a:lnTo>
                  <a:lnTo>
                    <a:pt x="269" y="537"/>
                  </a:lnTo>
                  <a:lnTo>
                    <a:pt x="258" y="527"/>
                  </a:lnTo>
                  <a:lnTo>
                    <a:pt x="233" y="504"/>
                  </a:lnTo>
                  <a:lnTo>
                    <a:pt x="200" y="475"/>
                  </a:lnTo>
                  <a:lnTo>
                    <a:pt x="190" y="466"/>
                  </a:lnTo>
                  <a:lnTo>
                    <a:pt x="181" y="456"/>
                  </a:lnTo>
                  <a:lnTo>
                    <a:pt x="173" y="446"/>
                  </a:lnTo>
                  <a:lnTo>
                    <a:pt x="163" y="436"/>
                  </a:lnTo>
                  <a:lnTo>
                    <a:pt x="146" y="412"/>
                  </a:lnTo>
                  <a:lnTo>
                    <a:pt x="128" y="386"/>
                  </a:lnTo>
                  <a:lnTo>
                    <a:pt x="112" y="360"/>
                  </a:lnTo>
                  <a:lnTo>
                    <a:pt x="97" y="333"/>
                  </a:lnTo>
                  <a:lnTo>
                    <a:pt x="82" y="306"/>
                  </a:lnTo>
                  <a:lnTo>
                    <a:pt x="69" y="279"/>
                  </a:lnTo>
                  <a:lnTo>
                    <a:pt x="45" y="229"/>
                  </a:lnTo>
                  <a:lnTo>
                    <a:pt x="27" y="188"/>
                  </a:lnTo>
                  <a:lnTo>
                    <a:pt x="16" y="161"/>
                  </a:lnTo>
                  <a:lnTo>
                    <a:pt x="12" y="151"/>
                  </a:lnTo>
                  <a:lnTo>
                    <a:pt x="0" y="52"/>
                  </a:lnTo>
                  <a:lnTo>
                    <a:pt x="0" y="52"/>
                  </a:lnTo>
                  <a:lnTo>
                    <a:pt x="0" y="51"/>
                  </a:lnTo>
                  <a:lnTo>
                    <a:pt x="2" y="49"/>
                  </a:lnTo>
                  <a:lnTo>
                    <a:pt x="6" y="46"/>
                  </a:lnTo>
                  <a:lnTo>
                    <a:pt x="15" y="39"/>
                  </a:lnTo>
                  <a:lnTo>
                    <a:pt x="29" y="30"/>
                  </a:lnTo>
                  <a:lnTo>
                    <a:pt x="47" y="17"/>
                  </a:lnTo>
                  <a:lnTo>
                    <a:pt x="73" y="0"/>
                  </a:lnTo>
                  <a:lnTo>
                    <a:pt x="76" y="11"/>
                  </a:lnTo>
                  <a:lnTo>
                    <a:pt x="85" y="40"/>
                  </a:lnTo>
                  <a:lnTo>
                    <a:pt x="98" y="84"/>
                  </a:lnTo>
                  <a:lnTo>
                    <a:pt x="115" y="135"/>
                  </a:lnTo>
                  <a:lnTo>
                    <a:pt x="126" y="163"/>
                  </a:lnTo>
                  <a:lnTo>
                    <a:pt x="138" y="192"/>
                  </a:lnTo>
                  <a:lnTo>
                    <a:pt x="150" y="219"/>
                  </a:lnTo>
                  <a:lnTo>
                    <a:pt x="163" y="246"/>
                  </a:lnTo>
                  <a:lnTo>
                    <a:pt x="177" y="271"/>
                  </a:lnTo>
                  <a:lnTo>
                    <a:pt x="192" y="295"/>
                  </a:lnTo>
                  <a:lnTo>
                    <a:pt x="200" y="306"/>
                  </a:lnTo>
                  <a:lnTo>
                    <a:pt x="208" y="316"/>
                  </a:lnTo>
                  <a:lnTo>
                    <a:pt x="216" y="325"/>
                  </a:lnTo>
                  <a:lnTo>
                    <a:pt x="224" y="334"/>
                  </a:lnTo>
                  <a:lnTo>
                    <a:pt x="241" y="348"/>
                  </a:lnTo>
                  <a:lnTo>
                    <a:pt x="256" y="360"/>
                  </a:lnTo>
                  <a:lnTo>
                    <a:pt x="270" y="371"/>
                  </a:lnTo>
                  <a:lnTo>
                    <a:pt x="283" y="381"/>
                  </a:lnTo>
                  <a:lnTo>
                    <a:pt x="296" y="388"/>
                  </a:lnTo>
                  <a:lnTo>
                    <a:pt x="308" y="395"/>
                  </a:lnTo>
                  <a:lnTo>
                    <a:pt x="320" y="400"/>
                  </a:lnTo>
                  <a:lnTo>
                    <a:pt x="330" y="404"/>
                  </a:lnTo>
                  <a:lnTo>
                    <a:pt x="340" y="408"/>
                  </a:lnTo>
                  <a:lnTo>
                    <a:pt x="351" y="411"/>
                  </a:lnTo>
                  <a:lnTo>
                    <a:pt x="361" y="413"/>
                  </a:lnTo>
                  <a:lnTo>
                    <a:pt x="370" y="414"/>
                  </a:lnTo>
                  <a:lnTo>
                    <a:pt x="390" y="416"/>
                  </a:lnTo>
                  <a:lnTo>
                    <a:pt x="410" y="417"/>
                  </a:lnTo>
                  <a:close/>
                </a:path>
              </a:pathLst>
            </a:custGeom>
            <a:solidFill>
              <a:srgbClr val="8061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078600" y="2776680"/>
              <a:ext cx="152280" cy="295200"/>
            </a:xfrm>
            <a:custGeom>
              <a:avLst/>
              <a:gdLst/>
              <a:ahLst/>
              <a:rect l="l" t="t" r="r" b="b"/>
              <a:pathLst>
                <a:path w="481" h="928">
                  <a:moveTo>
                    <a:pt x="409" y="434"/>
                  </a:moveTo>
                  <a:lnTo>
                    <a:pt x="429" y="435"/>
                  </a:lnTo>
                  <a:lnTo>
                    <a:pt x="448" y="436"/>
                  </a:lnTo>
                  <a:lnTo>
                    <a:pt x="455" y="437"/>
                  </a:lnTo>
                  <a:lnTo>
                    <a:pt x="463" y="438"/>
                  </a:lnTo>
                  <a:lnTo>
                    <a:pt x="468" y="440"/>
                  </a:lnTo>
                  <a:lnTo>
                    <a:pt x="474" y="444"/>
                  </a:lnTo>
                  <a:lnTo>
                    <a:pt x="478" y="450"/>
                  </a:lnTo>
                  <a:lnTo>
                    <a:pt x="480" y="457"/>
                  </a:lnTo>
                  <a:lnTo>
                    <a:pt x="481" y="466"/>
                  </a:lnTo>
                  <a:lnTo>
                    <a:pt x="481" y="478"/>
                  </a:lnTo>
                  <a:lnTo>
                    <a:pt x="479" y="493"/>
                  </a:lnTo>
                  <a:lnTo>
                    <a:pt x="476" y="511"/>
                  </a:lnTo>
                  <a:lnTo>
                    <a:pt x="470" y="532"/>
                  </a:lnTo>
                  <a:lnTo>
                    <a:pt x="463" y="557"/>
                  </a:lnTo>
                  <a:lnTo>
                    <a:pt x="455" y="585"/>
                  </a:lnTo>
                  <a:lnTo>
                    <a:pt x="448" y="612"/>
                  </a:lnTo>
                  <a:lnTo>
                    <a:pt x="441" y="639"/>
                  </a:lnTo>
                  <a:lnTo>
                    <a:pt x="436" y="665"/>
                  </a:lnTo>
                  <a:lnTo>
                    <a:pt x="431" y="691"/>
                  </a:lnTo>
                  <a:lnTo>
                    <a:pt x="428" y="716"/>
                  </a:lnTo>
                  <a:lnTo>
                    <a:pt x="425" y="741"/>
                  </a:lnTo>
                  <a:lnTo>
                    <a:pt x="423" y="765"/>
                  </a:lnTo>
                  <a:lnTo>
                    <a:pt x="421" y="789"/>
                  </a:lnTo>
                  <a:lnTo>
                    <a:pt x="419" y="810"/>
                  </a:lnTo>
                  <a:lnTo>
                    <a:pt x="419" y="832"/>
                  </a:lnTo>
                  <a:lnTo>
                    <a:pt x="419" y="851"/>
                  </a:lnTo>
                  <a:lnTo>
                    <a:pt x="421" y="871"/>
                  </a:lnTo>
                  <a:lnTo>
                    <a:pt x="423" y="888"/>
                  </a:lnTo>
                  <a:lnTo>
                    <a:pt x="425" y="903"/>
                  </a:lnTo>
                  <a:lnTo>
                    <a:pt x="428" y="917"/>
                  </a:lnTo>
                  <a:lnTo>
                    <a:pt x="351" y="928"/>
                  </a:lnTo>
                  <a:lnTo>
                    <a:pt x="350" y="920"/>
                  </a:lnTo>
                  <a:lnTo>
                    <a:pt x="348" y="898"/>
                  </a:lnTo>
                  <a:lnTo>
                    <a:pt x="344" y="867"/>
                  </a:lnTo>
                  <a:lnTo>
                    <a:pt x="338" y="826"/>
                  </a:lnTo>
                  <a:lnTo>
                    <a:pt x="333" y="781"/>
                  </a:lnTo>
                  <a:lnTo>
                    <a:pt x="328" y="735"/>
                  </a:lnTo>
                  <a:lnTo>
                    <a:pt x="322" y="689"/>
                  </a:lnTo>
                  <a:lnTo>
                    <a:pt x="317" y="648"/>
                  </a:lnTo>
                  <a:lnTo>
                    <a:pt x="314" y="616"/>
                  </a:lnTo>
                  <a:lnTo>
                    <a:pt x="309" y="590"/>
                  </a:lnTo>
                  <a:lnTo>
                    <a:pt x="307" y="579"/>
                  </a:lnTo>
                  <a:lnTo>
                    <a:pt x="304" y="569"/>
                  </a:lnTo>
                  <a:lnTo>
                    <a:pt x="301" y="560"/>
                  </a:lnTo>
                  <a:lnTo>
                    <a:pt x="295" y="551"/>
                  </a:lnTo>
                  <a:lnTo>
                    <a:pt x="290" y="542"/>
                  </a:lnTo>
                  <a:lnTo>
                    <a:pt x="282" y="533"/>
                  </a:lnTo>
                  <a:lnTo>
                    <a:pt x="275" y="523"/>
                  </a:lnTo>
                  <a:lnTo>
                    <a:pt x="264" y="513"/>
                  </a:lnTo>
                  <a:lnTo>
                    <a:pt x="239" y="490"/>
                  </a:lnTo>
                  <a:lnTo>
                    <a:pt x="206" y="461"/>
                  </a:lnTo>
                  <a:lnTo>
                    <a:pt x="196" y="452"/>
                  </a:lnTo>
                  <a:lnTo>
                    <a:pt x="187" y="442"/>
                  </a:lnTo>
                  <a:lnTo>
                    <a:pt x="179" y="432"/>
                  </a:lnTo>
                  <a:lnTo>
                    <a:pt x="169" y="422"/>
                  </a:lnTo>
                  <a:lnTo>
                    <a:pt x="152" y="398"/>
                  </a:lnTo>
                  <a:lnTo>
                    <a:pt x="134" y="372"/>
                  </a:lnTo>
                  <a:lnTo>
                    <a:pt x="118" y="346"/>
                  </a:lnTo>
                  <a:lnTo>
                    <a:pt x="103" y="319"/>
                  </a:lnTo>
                  <a:lnTo>
                    <a:pt x="88" y="292"/>
                  </a:lnTo>
                  <a:lnTo>
                    <a:pt x="75" y="265"/>
                  </a:lnTo>
                  <a:lnTo>
                    <a:pt x="51" y="215"/>
                  </a:lnTo>
                  <a:lnTo>
                    <a:pt x="33" y="174"/>
                  </a:lnTo>
                  <a:lnTo>
                    <a:pt x="22" y="147"/>
                  </a:lnTo>
                  <a:lnTo>
                    <a:pt x="18" y="137"/>
                  </a:lnTo>
                  <a:lnTo>
                    <a:pt x="6" y="38"/>
                  </a:lnTo>
                  <a:lnTo>
                    <a:pt x="5" y="38"/>
                  </a:lnTo>
                  <a:lnTo>
                    <a:pt x="3" y="39"/>
                  </a:lnTo>
                  <a:lnTo>
                    <a:pt x="1" y="39"/>
                  </a:lnTo>
                  <a:lnTo>
                    <a:pt x="1" y="39"/>
                  </a:lnTo>
                  <a:lnTo>
                    <a:pt x="0" y="39"/>
                  </a:lnTo>
                  <a:lnTo>
                    <a:pt x="1" y="38"/>
                  </a:lnTo>
                  <a:lnTo>
                    <a:pt x="6" y="34"/>
                  </a:lnTo>
                  <a:lnTo>
                    <a:pt x="15" y="27"/>
                  </a:lnTo>
                  <a:lnTo>
                    <a:pt x="33" y="17"/>
                  </a:lnTo>
                  <a:lnTo>
                    <a:pt x="58" y="0"/>
                  </a:lnTo>
                  <a:lnTo>
                    <a:pt x="61" y="12"/>
                  </a:lnTo>
                  <a:lnTo>
                    <a:pt x="71" y="44"/>
                  </a:lnTo>
                  <a:lnTo>
                    <a:pt x="86" y="89"/>
                  </a:lnTo>
                  <a:lnTo>
                    <a:pt x="105" y="143"/>
                  </a:lnTo>
                  <a:lnTo>
                    <a:pt x="117" y="172"/>
                  </a:lnTo>
                  <a:lnTo>
                    <a:pt x="130" y="201"/>
                  </a:lnTo>
                  <a:lnTo>
                    <a:pt x="143" y="230"/>
                  </a:lnTo>
                  <a:lnTo>
                    <a:pt x="157" y="259"/>
                  </a:lnTo>
                  <a:lnTo>
                    <a:pt x="172" y="284"/>
                  </a:lnTo>
                  <a:lnTo>
                    <a:pt x="188" y="308"/>
                  </a:lnTo>
                  <a:lnTo>
                    <a:pt x="196" y="319"/>
                  </a:lnTo>
                  <a:lnTo>
                    <a:pt x="203" y="330"/>
                  </a:lnTo>
                  <a:lnTo>
                    <a:pt x="212" y="338"/>
                  </a:lnTo>
                  <a:lnTo>
                    <a:pt x="221" y="347"/>
                  </a:lnTo>
                  <a:lnTo>
                    <a:pt x="237" y="361"/>
                  </a:lnTo>
                  <a:lnTo>
                    <a:pt x="252" y="374"/>
                  </a:lnTo>
                  <a:lnTo>
                    <a:pt x="266" y="386"/>
                  </a:lnTo>
                  <a:lnTo>
                    <a:pt x="280" y="395"/>
                  </a:lnTo>
                  <a:lnTo>
                    <a:pt x="292" y="403"/>
                  </a:lnTo>
                  <a:lnTo>
                    <a:pt x="305" y="410"/>
                  </a:lnTo>
                  <a:lnTo>
                    <a:pt x="316" y="415"/>
                  </a:lnTo>
                  <a:lnTo>
                    <a:pt x="328" y="419"/>
                  </a:lnTo>
                  <a:lnTo>
                    <a:pt x="338" y="424"/>
                  </a:lnTo>
                  <a:lnTo>
                    <a:pt x="348" y="426"/>
                  </a:lnTo>
                  <a:lnTo>
                    <a:pt x="359" y="428"/>
                  </a:lnTo>
                  <a:lnTo>
                    <a:pt x="369" y="429"/>
                  </a:lnTo>
                  <a:lnTo>
                    <a:pt x="388" y="431"/>
                  </a:lnTo>
                  <a:lnTo>
                    <a:pt x="409" y="434"/>
                  </a:lnTo>
                  <a:close/>
                </a:path>
              </a:pathLst>
            </a:custGeom>
            <a:solidFill>
              <a:srgbClr val="785a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076800" y="2781360"/>
              <a:ext cx="149400" cy="290520"/>
            </a:xfrm>
            <a:custGeom>
              <a:avLst/>
              <a:gdLst/>
              <a:ahLst/>
              <a:rect l="l" t="t" r="r" b="b"/>
              <a:pathLst>
                <a:path w="474" h="915">
                  <a:moveTo>
                    <a:pt x="419" y="904"/>
                  </a:moveTo>
                  <a:lnTo>
                    <a:pt x="359" y="915"/>
                  </a:lnTo>
                  <a:lnTo>
                    <a:pt x="358" y="907"/>
                  </a:lnTo>
                  <a:lnTo>
                    <a:pt x="356" y="885"/>
                  </a:lnTo>
                  <a:lnTo>
                    <a:pt x="352" y="854"/>
                  </a:lnTo>
                  <a:lnTo>
                    <a:pt x="346" y="813"/>
                  </a:lnTo>
                  <a:lnTo>
                    <a:pt x="341" y="768"/>
                  </a:lnTo>
                  <a:lnTo>
                    <a:pt x="336" y="722"/>
                  </a:lnTo>
                  <a:lnTo>
                    <a:pt x="330" y="676"/>
                  </a:lnTo>
                  <a:lnTo>
                    <a:pt x="325" y="635"/>
                  </a:lnTo>
                  <a:lnTo>
                    <a:pt x="322" y="603"/>
                  </a:lnTo>
                  <a:lnTo>
                    <a:pt x="317" y="577"/>
                  </a:lnTo>
                  <a:lnTo>
                    <a:pt x="315" y="566"/>
                  </a:lnTo>
                  <a:lnTo>
                    <a:pt x="312" y="556"/>
                  </a:lnTo>
                  <a:lnTo>
                    <a:pt x="309" y="547"/>
                  </a:lnTo>
                  <a:lnTo>
                    <a:pt x="303" y="538"/>
                  </a:lnTo>
                  <a:lnTo>
                    <a:pt x="298" y="529"/>
                  </a:lnTo>
                  <a:lnTo>
                    <a:pt x="290" y="520"/>
                  </a:lnTo>
                  <a:lnTo>
                    <a:pt x="283" y="510"/>
                  </a:lnTo>
                  <a:lnTo>
                    <a:pt x="272" y="500"/>
                  </a:lnTo>
                  <a:lnTo>
                    <a:pt x="247" y="477"/>
                  </a:lnTo>
                  <a:lnTo>
                    <a:pt x="214" y="448"/>
                  </a:lnTo>
                  <a:lnTo>
                    <a:pt x="204" y="439"/>
                  </a:lnTo>
                  <a:lnTo>
                    <a:pt x="195" y="429"/>
                  </a:lnTo>
                  <a:lnTo>
                    <a:pt x="187" y="419"/>
                  </a:lnTo>
                  <a:lnTo>
                    <a:pt x="177" y="409"/>
                  </a:lnTo>
                  <a:lnTo>
                    <a:pt x="160" y="385"/>
                  </a:lnTo>
                  <a:lnTo>
                    <a:pt x="142" y="359"/>
                  </a:lnTo>
                  <a:lnTo>
                    <a:pt x="126" y="333"/>
                  </a:lnTo>
                  <a:lnTo>
                    <a:pt x="111" y="306"/>
                  </a:lnTo>
                  <a:lnTo>
                    <a:pt x="96" y="279"/>
                  </a:lnTo>
                  <a:lnTo>
                    <a:pt x="83" y="252"/>
                  </a:lnTo>
                  <a:lnTo>
                    <a:pt x="59" y="202"/>
                  </a:lnTo>
                  <a:lnTo>
                    <a:pt x="41" y="161"/>
                  </a:lnTo>
                  <a:lnTo>
                    <a:pt x="30" y="134"/>
                  </a:lnTo>
                  <a:lnTo>
                    <a:pt x="26" y="124"/>
                  </a:lnTo>
                  <a:lnTo>
                    <a:pt x="14" y="25"/>
                  </a:lnTo>
                  <a:lnTo>
                    <a:pt x="12" y="26"/>
                  </a:lnTo>
                  <a:lnTo>
                    <a:pt x="7" y="28"/>
                  </a:lnTo>
                  <a:lnTo>
                    <a:pt x="3" y="31"/>
                  </a:lnTo>
                  <a:lnTo>
                    <a:pt x="0" y="31"/>
                  </a:lnTo>
                  <a:lnTo>
                    <a:pt x="0" y="30"/>
                  </a:lnTo>
                  <a:lnTo>
                    <a:pt x="6" y="25"/>
                  </a:lnTo>
                  <a:lnTo>
                    <a:pt x="20" y="16"/>
                  </a:lnTo>
                  <a:lnTo>
                    <a:pt x="43" y="0"/>
                  </a:lnTo>
                  <a:lnTo>
                    <a:pt x="47" y="12"/>
                  </a:lnTo>
                  <a:lnTo>
                    <a:pt x="58" y="45"/>
                  </a:lnTo>
                  <a:lnTo>
                    <a:pt x="75" y="93"/>
                  </a:lnTo>
                  <a:lnTo>
                    <a:pt x="97" y="151"/>
                  </a:lnTo>
                  <a:lnTo>
                    <a:pt x="110" y="181"/>
                  </a:lnTo>
                  <a:lnTo>
                    <a:pt x="124" y="212"/>
                  </a:lnTo>
                  <a:lnTo>
                    <a:pt x="138" y="242"/>
                  </a:lnTo>
                  <a:lnTo>
                    <a:pt x="153" y="271"/>
                  </a:lnTo>
                  <a:lnTo>
                    <a:pt x="169" y="298"/>
                  </a:lnTo>
                  <a:lnTo>
                    <a:pt x="186" y="323"/>
                  </a:lnTo>
                  <a:lnTo>
                    <a:pt x="194" y="335"/>
                  </a:lnTo>
                  <a:lnTo>
                    <a:pt x="202" y="346"/>
                  </a:lnTo>
                  <a:lnTo>
                    <a:pt x="210" y="355"/>
                  </a:lnTo>
                  <a:lnTo>
                    <a:pt x="219" y="363"/>
                  </a:lnTo>
                  <a:lnTo>
                    <a:pt x="235" y="378"/>
                  </a:lnTo>
                  <a:lnTo>
                    <a:pt x="250" y="391"/>
                  </a:lnTo>
                  <a:lnTo>
                    <a:pt x="264" y="402"/>
                  </a:lnTo>
                  <a:lnTo>
                    <a:pt x="277" y="412"/>
                  </a:lnTo>
                  <a:lnTo>
                    <a:pt x="290" y="421"/>
                  </a:lnTo>
                  <a:lnTo>
                    <a:pt x="303" y="427"/>
                  </a:lnTo>
                  <a:lnTo>
                    <a:pt x="314" y="433"/>
                  </a:lnTo>
                  <a:lnTo>
                    <a:pt x="326" y="438"/>
                  </a:lnTo>
                  <a:lnTo>
                    <a:pt x="337" y="441"/>
                  </a:lnTo>
                  <a:lnTo>
                    <a:pt x="348" y="444"/>
                  </a:lnTo>
                  <a:lnTo>
                    <a:pt x="357" y="446"/>
                  </a:lnTo>
                  <a:lnTo>
                    <a:pt x="368" y="449"/>
                  </a:lnTo>
                  <a:lnTo>
                    <a:pt x="389" y="451"/>
                  </a:lnTo>
                  <a:lnTo>
                    <a:pt x="409" y="453"/>
                  </a:lnTo>
                  <a:lnTo>
                    <a:pt x="429" y="453"/>
                  </a:lnTo>
                  <a:lnTo>
                    <a:pt x="445" y="452"/>
                  </a:lnTo>
                  <a:lnTo>
                    <a:pt x="452" y="451"/>
                  </a:lnTo>
                  <a:lnTo>
                    <a:pt x="459" y="452"/>
                  </a:lnTo>
                  <a:lnTo>
                    <a:pt x="464" y="453"/>
                  </a:lnTo>
                  <a:lnTo>
                    <a:pt x="469" y="455"/>
                  </a:lnTo>
                  <a:lnTo>
                    <a:pt x="472" y="459"/>
                  </a:lnTo>
                  <a:lnTo>
                    <a:pt x="473" y="466"/>
                  </a:lnTo>
                  <a:lnTo>
                    <a:pt x="474" y="475"/>
                  </a:lnTo>
                  <a:lnTo>
                    <a:pt x="473" y="485"/>
                  </a:lnTo>
                  <a:lnTo>
                    <a:pt x="471" y="499"/>
                  </a:lnTo>
                  <a:lnTo>
                    <a:pt x="466" y="518"/>
                  </a:lnTo>
                  <a:lnTo>
                    <a:pt x="461" y="538"/>
                  </a:lnTo>
                  <a:lnTo>
                    <a:pt x="453" y="564"/>
                  </a:lnTo>
                  <a:lnTo>
                    <a:pt x="446" y="590"/>
                  </a:lnTo>
                  <a:lnTo>
                    <a:pt x="438" y="617"/>
                  </a:lnTo>
                  <a:lnTo>
                    <a:pt x="433" y="642"/>
                  </a:lnTo>
                  <a:lnTo>
                    <a:pt x="427" y="668"/>
                  </a:lnTo>
                  <a:lnTo>
                    <a:pt x="423" y="692"/>
                  </a:lnTo>
                  <a:lnTo>
                    <a:pt x="419" y="715"/>
                  </a:lnTo>
                  <a:lnTo>
                    <a:pt x="416" y="739"/>
                  </a:lnTo>
                  <a:lnTo>
                    <a:pt x="413" y="761"/>
                  </a:lnTo>
                  <a:lnTo>
                    <a:pt x="412" y="782"/>
                  </a:lnTo>
                  <a:lnTo>
                    <a:pt x="411" y="803"/>
                  </a:lnTo>
                  <a:lnTo>
                    <a:pt x="411" y="823"/>
                  </a:lnTo>
                  <a:lnTo>
                    <a:pt x="411" y="842"/>
                  </a:lnTo>
                  <a:lnTo>
                    <a:pt x="412" y="859"/>
                  </a:lnTo>
                  <a:lnTo>
                    <a:pt x="415" y="875"/>
                  </a:lnTo>
                  <a:lnTo>
                    <a:pt x="417" y="890"/>
                  </a:lnTo>
                  <a:lnTo>
                    <a:pt x="419" y="904"/>
                  </a:lnTo>
                  <a:close/>
                </a:path>
              </a:pathLst>
            </a:custGeom>
            <a:solidFill>
              <a:srgbClr val="705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084720" y="2820960"/>
              <a:ext cx="104760" cy="250920"/>
            </a:xfrm>
            <a:custGeom>
              <a:avLst/>
              <a:gdLst/>
              <a:ahLst/>
              <a:rect l="l" t="t" r="r" b="b"/>
              <a:pathLst>
                <a:path w="333" h="791">
                  <a:moveTo>
                    <a:pt x="333" y="791"/>
                  </a:moveTo>
                  <a:lnTo>
                    <a:pt x="332" y="783"/>
                  </a:lnTo>
                  <a:lnTo>
                    <a:pt x="330" y="761"/>
                  </a:lnTo>
                  <a:lnTo>
                    <a:pt x="326" y="730"/>
                  </a:lnTo>
                  <a:lnTo>
                    <a:pt x="320" y="689"/>
                  </a:lnTo>
                  <a:lnTo>
                    <a:pt x="315" y="644"/>
                  </a:lnTo>
                  <a:lnTo>
                    <a:pt x="310" y="598"/>
                  </a:lnTo>
                  <a:lnTo>
                    <a:pt x="304" y="552"/>
                  </a:lnTo>
                  <a:lnTo>
                    <a:pt x="299" y="511"/>
                  </a:lnTo>
                  <a:lnTo>
                    <a:pt x="296" y="479"/>
                  </a:lnTo>
                  <a:lnTo>
                    <a:pt x="291" y="453"/>
                  </a:lnTo>
                  <a:lnTo>
                    <a:pt x="289" y="442"/>
                  </a:lnTo>
                  <a:lnTo>
                    <a:pt x="286" y="432"/>
                  </a:lnTo>
                  <a:lnTo>
                    <a:pt x="283" y="423"/>
                  </a:lnTo>
                  <a:lnTo>
                    <a:pt x="277" y="414"/>
                  </a:lnTo>
                  <a:lnTo>
                    <a:pt x="272" y="405"/>
                  </a:lnTo>
                  <a:lnTo>
                    <a:pt x="264" y="396"/>
                  </a:lnTo>
                  <a:lnTo>
                    <a:pt x="257" y="386"/>
                  </a:lnTo>
                  <a:lnTo>
                    <a:pt x="246" y="376"/>
                  </a:lnTo>
                  <a:lnTo>
                    <a:pt x="221" y="353"/>
                  </a:lnTo>
                  <a:lnTo>
                    <a:pt x="188" y="324"/>
                  </a:lnTo>
                  <a:lnTo>
                    <a:pt x="178" y="315"/>
                  </a:lnTo>
                  <a:lnTo>
                    <a:pt x="169" y="305"/>
                  </a:lnTo>
                  <a:lnTo>
                    <a:pt x="161" y="295"/>
                  </a:lnTo>
                  <a:lnTo>
                    <a:pt x="151" y="285"/>
                  </a:lnTo>
                  <a:lnTo>
                    <a:pt x="134" y="261"/>
                  </a:lnTo>
                  <a:lnTo>
                    <a:pt x="116" y="235"/>
                  </a:lnTo>
                  <a:lnTo>
                    <a:pt x="100" y="209"/>
                  </a:lnTo>
                  <a:lnTo>
                    <a:pt x="85" y="182"/>
                  </a:lnTo>
                  <a:lnTo>
                    <a:pt x="70" y="155"/>
                  </a:lnTo>
                  <a:lnTo>
                    <a:pt x="57" y="128"/>
                  </a:lnTo>
                  <a:lnTo>
                    <a:pt x="33" y="78"/>
                  </a:lnTo>
                  <a:lnTo>
                    <a:pt x="15" y="37"/>
                  </a:lnTo>
                  <a:lnTo>
                    <a:pt x="4" y="10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215040" y="2702160"/>
              <a:ext cx="138240" cy="361800"/>
            </a:xfrm>
            <a:custGeom>
              <a:avLst/>
              <a:gdLst/>
              <a:ahLst/>
              <a:rect l="l" t="t" r="r" b="b"/>
              <a:pathLst>
                <a:path w="435" h="1144">
                  <a:moveTo>
                    <a:pt x="183" y="571"/>
                  </a:moveTo>
                  <a:lnTo>
                    <a:pt x="179" y="567"/>
                  </a:lnTo>
                  <a:lnTo>
                    <a:pt x="176" y="562"/>
                  </a:lnTo>
                  <a:lnTo>
                    <a:pt x="173" y="557"/>
                  </a:lnTo>
                  <a:lnTo>
                    <a:pt x="171" y="550"/>
                  </a:lnTo>
                  <a:lnTo>
                    <a:pt x="165" y="536"/>
                  </a:lnTo>
                  <a:lnTo>
                    <a:pt x="161" y="520"/>
                  </a:lnTo>
                  <a:lnTo>
                    <a:pt x="158" y="502"/>
                  </a:lnTo>
                  <a:lnTo>
                    <a:pt x="155" y="481"/>
                  </a:lnTo>
                  <a:lnTo>
                    <a:pt x="152" y="459"/>
                  </a:lnTo>
                  <a:lnTo>
                    <a:pt x="149" y="435"/>
                  </a:lnTo>
                  <a:lnTo>
                    <a:pt x="145" y="383"/>
                  </a:lnTo>
                  <a:lnTo>
                    <a:pt x="138" y="327"/>
                  </a:lnTo>
                  <a:lnTo>
                    <a:pt x="134" y="298"/>
                  </a:lnTo>
                  <a:lnTo>
                    <a:pt x="129" y="268"/>
                  </a:lnTo>
                  <a:lnTo>
                    <a:pt x="123" y="237"/>
                  </a:lnTo>
                  <a:lnTo>
                    <a:pt x="117" y="208"/>
                  </a:lnTo>
                  <a:lnTo>
                    <a:pt x="108" y="179"/>
                  </a:lnTo>
                  <a:lnTo>
                    <a:pt x="100" y="153"/>
                  </a:lnTo>
                  <a:lnTo>
                    <a:pt x="91" y="130"/>
                  </a:lnTo>
                  <a:lnTo>
                    <a:pt x="81" y="111"/>
                  </a:lnTo>
                  <a:lnTo>
                    <a:pt x="71" y="94"/>
                  </a:lnTo>
                  <a:lnTo>
                    <a:pt x="62" y="80"/>
                  </a:lnTo>
                  <a:lnTo>
                    <a:pt x="53" y="68"/>
                  </a:lnTo>
                  <a:lnTo>
                    <a:pt x="43" y="58"/>
                  </a:lnTo>
                  <a:lnTo>
                    <a:pt x="35" y="49"/>
                  </a:lnTo>
                  <a:lnTo>
                    <a:pt x="26" y="43"/>
                  </a:lnTo>
                  <a:lnTo>
                    <a:pt x="20" y="39"/>
                  </a:lnTo>
                  <a:lnTo>
                    <a:pt x="13" y="34"/>
                  </a:lnTo>
                  <a:lnTo>
                    <a:pt x="3" y="31"/>
                  </a:lnTo>
                  <a:lnTo>
                    <a:pt x="0" y="30"/>
                  </a:lnTo>
                  <a:lnTo>
                    <a:pt x="23" y="19"/>
                  </a:lnTo>
                  <a:lnTo>
                    <a:pt x="42" y="12"/>
                  </a:lnTo>
                  <a:lnTo>
                    <a:pt x="60" y="5"/>
                  </a:lnTo>
                  <a:lnTo>
                    <a:pt x="75" y="1"/>
                  </a:lnTo>
                  <a:lnTo>
                    <a:pt x="81" y="0"/>
                  </a:lnTo>
                  <a:lnTo>
                    <a:pt x="87" y="0"/>
                  </a:lnTo>
                  <a:lnTo>
                    <a:pt x="92" y="0"/>
                  </a:lnTo>
                  <a:lnTo>
                    <a:pt x="96" y="1"/>
                  </a:lnTo>
                  <a:lnTo>
                    <a:pt x="101" y="2"/>
                  </a:lnTo>
                  <a:lnTo>
                    <a:pt x="105" y="4"/>
                  </a:lnTo>
                  <a:lnTo>
                    <a:pt x="108" y="6"/>
                  </a:lnTo>
                  <a:lnTo>
                    <a:pt x="111" y="9"/>
                  </a:lnTo>
                  <a:lnTo>
                    <a:pt x="122" y="23"/>
                  </a:lnTo>
                  <a:lnTo>
                    <a:pt x="132" y="41"/>
                  </a:lnTo>
                  <a:lnTo>
                    <a:pt x="142" y="60"/>
                  </a:lnTo>
                  <a:lnTo>
                    <a:pt x="151" y="82"/>
                  </a:lnTo>
                  <a:lnTo>
                    <a:pt x="160" y="104"/>
                  </a:lnTo>
                  <a:lnTo>
                    <a:pt x="169" y="129"/>
                  </a:lnTo>
                  <a:lnTo>
                    <a:pt x="177" y="154"/>
                  </a:lnTo>
                  <a:lnTo>
                    <a:pt x="185" y="181"/>
                  </a:lnTo>
                  <a:lnTo>
                    <a:pt x="198" y="234"/>
                  </a:lnTo>
                  <a:lnTo>
                    <a:pt x="209" y="286"/>
                  </a:lnTo>
                  <a:lnTo>
                    <a:pt x="217" y="334"/>
                  </a:lnTo>
                  <a:lnTo>
                    <a:pt x="223" y="376"/>
                  </a:lnTo>
                  <a:lnTo>
                    <a:pt x="228" y="413"/>
                  </a:lnTo>
                  <a:lnTo>
                    <a:pt x="235" y="448"/>
                  </a:lnTo>
                  <a:lnTo>
                    <a:pt x="242" y="480"/>
                  </a:lnTo>
                  <a:lnTo>
                    <a:pt x="250" y="509"/>
                  </a:lnTo>
                  <a:lnTo>
                    <a:pt x="256" y="532"/>
                  </a:lnTo>
                  <a:lnTo>
                    <a:pt x="262" y="550"/>
                  </a:lnTo>
                  <a:lnTo>
                    <a:pt x="266" y="562"/>
                  </a:lnTo>
                  <a:lnTo>
                    <a:pt x="267" y="566"/>
                  </a:lnTo>
                  <a:lnTo>
                    <a:pt x="281" y="583"/>
                  </a:lnTo>
                  <a:lnTo>
                    <a:pt x="293" y="600"/>
                  </a:lnTo>
                  <a:lnTo>
                    <a:pt x="303" y="619"/>
                  </a:lnTo>
                  <a:lnTo>
                    <a:pt x="311" y="637"/>
                  </a:lnTo>
                  <a:lnTo>
                    <a:pt x="318" y="654"/>
                  </a:lnTo>
                  <a:lnTo>
                    <a:pt x="323" y="671"/>
                  </a:lnTo>
                  <a:lnTo>
                    <a:pt x="327" y="689"/>
                  </a:lnTo>
                  <a:lnTo>
                    <a:pt x="331" y="705"/>
                  </a:lnTo>
                  <a:lnTo>
                    <a:pt x="334" y="733"/>
                  </a:lnTo>
                  <a:lnTo>
                    <a:pt x="335" y="756"/>
                  </a:lnTo>
                  <a:lnTo>
                    <a:pt x="334" y="771"/>
                  </a:lnTo>
                  <a:lnTo>
                    <a:pt x="334" y="776"/>
                  </a:lnTo>
                  <a:lnTo>
                    <a:pt x="344" y="792"/>
                  </a:lnTo>
                  <a:lnTo>
                    <a:pt x="353" y="808"/>
                  </a:lnTo>
                  <a:lnTo>
                    <a:pt x="362" y="824"/>
                  </a:lnTo>
                  <a:lnTo>
                    <a:pt x="371" y="840"/>
                  </a:lnTo>
                  <a:lnTo>
                    <a:pt x="385" y="871"/>
                  </a:lnTo>
                  <a:lnTo>
                    <a:pt x="397" y="903"/>
                  </a:lnTo>
                  <a:lnTo>
                    <a:pt x="406" y="933"/>
                  </a:lnTo>
                  <a:lnTo>
                    <a:pt x="415" y="963"/>
                  </a:lnTo>
                  <a:lnTo>
                    <a:pt x="421" y="991"/>
                  </a:lnTo>
                  <a:lnTo>
                    <a:pt x="427" y="1017"/>
                  </a:lnTo>
                  <a:lnTo>
                    <a:pt x="430" y="1042"/>
                  </a:lnTo>
                  <a:lnTo>
                    <a:pt x="432" y="1063"/>
                  </a:lnTo>
                  <a:lnTo>
                    <a:pt x="434" y="1083"/>
                  </a:lnTo>
                  <a:lnTo>
                    <a:pt x="435" y="1100"/>
                  </a:lnTo>
                  <a:lnTo>
                    <a:pt x="435" y="1124"/>
                  </a:lnTo>
                  <a:lnTo>
                    <a:pt x="435" y="1133"/>
                  </a:lnTo>
                  <a:lnTo>
                    <a:pt x="257" y="1144"/>
                  </a:lnTo>
                  <a:lnTo>
                    <a:pt x="257" y="1142"/>
                  </a:lnTo>
                  <a:lnTo>
                    <a:pt x="259" y="1135"/>
                  </a:lnTo>
                  <a:lnTo>
                    <a:pt x="262" y="1121"/>
                  </a:lnTo>
                  <a:lnTo>
                    <a:pt x="265" y="1100"/>
                  </a:lnTo>
                  <a:lnTo>
                    <a:pt x="269" y="1071"/>
                  </a:lnTo>
                  <a:lnTo>
                    <a:pt x="275" y="1035"/>
                  </a:lnTo>
                  <a:lnTo>
                    <a:pt x="282" y="990"/>
                  </a:lnTo>
                  <a:lnTo>
                    <a:pt x="290" y="934"/>
                  </a:lnTo>
                  <a:lnTo>
                    <a:pt x="296" y="880"/>
                  </a:lnTo>
                  <a:lnTo>
                    <a:pt x="299" y="835"/>
                  </a:lnTo>
                  <a:lnTo>
                    <a:pt x="300" y="797"/>
                  </a:lnTo>
                  <a:lnTo>
                    <a:pt x="299" y="765"/>
                  </a:lnTo>
                  <a:lnTo>
                    <a:pt x="297" y="738"/>
                  </a:lnTo>
                  <a:lnTo>
                    <a:pt x="294" y="715"/>
                  </a:lnTo>
                  <a:lnTo>
                    <a:pt x="290" y="692"/>
                  </a:lnTo>
                  <a:lnTo>
                    <a:pt x="284" y="670"/>
                  </a:lnTo>
                  <a:lnTo>
                    <a:pt x="282" y="660"/>
                  </a:lnTo>
                  <a:lnTo>
                    <a:pt x="279" y="650"/>
                  </a:lnTo>
                  <a:lnTo>
                    <a:pt x="275" y="642"/>
                  </a:lnTo>
                  <a:lnTo>
                    <a:pt x="270" y="635"/>
                  </a:lnTo>
                  <a:lnTo>
                    <a:pt x="265" y="628"/>
                  </a:lnTo>
                  <a:lnTo>
                    <a:pt x="258" y="623"/>
                  </a:lnTo>
                  <a:lnTo>
                    <a:pt x="252" y="617"/>
                  </a:lnTo>
                  <a:lnTo>
                    <a:pt x="245" y="613"/>
                  </a:lnTo>
                  <a:lnTo>
                    <a:pt x="230" y="604"/>
                  </a:lnTo>
                  <a:lnTo>
                    <a:pt x="214" y="595"/>
                  </a:lnTo>
                  <a:lnTo>
                    <a:pt x="206" y="589"/>
                  </a:lnTo>
                  <a:lnTo>
                    <a:pt x="199" y="584"/>
                  </a:lnTo>
                  <a:lnTo>
                    <a:pt x="190" y="579"/>
                  </a:lnTo>
                  <a:lnTo>
                    <a:pt x="183" y="571"/>
                  </a:lnTo>
                  <a:close/>
                </a:path>
              </a:pathLst>
            </a:custGeom>
            <a:solidFill>
              <a:srgbClr val="916e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221520" y="2700360"/>
              <a:ext cx="131760" cy="363600"/>
            </a:xfrm>
            <a:custGeom>
              <a:avLst/>
              <a:gdLst/>
              <a:ahLst/>
              <a:rect l="l" t="t" r="r" b="b"/>
              <a:pathLst>
                <a:path w="412" h="1144">
                  <a:moveTo>
                    <a:pt x="175" y="573"/>
                  </a:moveTo>
                  <a:lnTo>
                    <a:pt x="172" y="569"/>
                  </a:lnTo>
                  <a:lnTo>
                    <a:pt x="168" y="564"/>
                  </a:lnTo>
                  <a:lnTo>
                    <a:pt x="165" y="559"/>
                  </a:lnTo>
                  <a:lnTo>
                    <a:pt x="162" y="552"/>
                  </a:lnTo>
                  <a:lnTo>
                    <a:pt x="158" y="538"/>
                  </a:lnTo>
                  <a:lnTo>
                    <a:pt x="153" y="522"/>
                  </a:lnTo>
                  <a:lnTo>
                    <a:pt x="150" y="503"/>
                  </a:lnTo>
                  <a:lnTo>
                    <a:pt x="147" y="482"/>
                  </a:lnTo>
                  <a:lnTo>
                    <a:pt x="145" y="460"/>
                  </a:lnTo>
                  <a:lnTo>
                    <a:pt x="141" y="435"/>
                  </a:lnTo>
                  <a:lnTo>
                    <a:pt x="136" y="383"/>
                  </a:lnTo>
                  <a:lnTo>
                    <a:pt x="129" y="326"/>
                  </a:lnTo>
                  <a:lnTo>
                    <a:pt x="125" y="295"/>
                  </a:lnTo>
                  <a:lnTo>
                    <a:pt x="121" y="266"/>
                  </a:lnTo>
                  <a:lnTo>
                    <a:pt x="115" y="235"/>
                  </a:lnTo>
                  <a:lnTo>
                    <a:pt x="108" y="205"/>
                  </a:lnTo>
                  <a:lnTo>
                    <a:pt x="100" y="177"/>
                  </a:lnTo>
                  <a:lnTo>
                    <a:pt x="92" y="151"/>
                  </a:lnTo>
                  <a:lnTo>
                    <a:pt x="83" y="129"/>
                  </a:lnTo>
                  <a:lnTo>
                    <a:pt x="74" y="110"/>
                  </a:lnTo>
                  <a:lnTo>
                    <a:pt x="66" y="92"/>
                  </a:lnTo>
                  <a:lnTo>
                    <a:pt x="56" y="78"/>
                  </a:lnTo>
                  <a:lnTo>
                    <a:pt x="47" y="65"/>
                  </a:lnTo>
                  <a:lnTo>
                    <a:pt x="39" y="56"/>
                  </a:lnTo>
                  <a:lnTo>
                    <a:pt x="31" y="47"/>
                  </a:lnTo>
                  <a:lnTo>
                    <a:pt x="24" y="41"/>
                  </a:lnTo>
                  <a:lnTo>
                    <a:pt x="17" y="35"/>
                  </a:lnTo>
                  <a:lnTo>
                    <a:pt x="11" y="32"/>
                  </a:lnTo>
                  <a:lnTo>
                    <a:pt x="2" y="28"/>
                  </a:lnTo>
                  <a:lnTo>
                    <a:pt x="0" y="27"/>
                  </a:lnTo>
                  <a:lnTo>
                    <a:pt x="21" y="16"/>
                  </a:lnTo>
                  <a:lnTo>
                    <a:pt x="39" y="8"/>
                  </a:lnTo>
                  <a:lnTo>
                    <a:pt x="52" y="3"/>
                  </a:lnTo>
                  <a:lnTo>
                    <a:pt x="62" y="0"/>
                  </a:lnTo>
                  <a:lnTo>
                    <a:pt x="67" y="0"/>
                  </a:lnTo>
                  <a:lnTo>
                    <a:pt x="71" y="0"/>
                  </a:lnTo>
                  <a:lnTo>
                    <a:pt x="74" y="1"/>
                  </a:lnTo>
                  <a:lnTo>
                    <a:pt x="78" y="2"/>
                  </a:lnTo>
                  <a:lnTo>
                    <a:pt x="83" y="6"/>
                  </a:lnTo>
                  <a:lnTo>
                    <a:pt x="88" y="11"/>
                  </a:lnTo>
                  <a:lnTo>
                    <a:pt x="99" y="25"/>
                  </a:lnTo>
                  <a:lnTo>
                    <a:pt x="109" y="43"/>
                  </a:lnTo>
                  <a:lnTo>
                    <a:pt x="119" y="62"/>
                  </a:lnTo>
                  <a:lnTo>
                    <a:pt x="128" y="84"/>
                  </a:lnTo>
                  <a:lnTo>
                    <a:pt x="137" y="106"/>
                  </a:lnTo>
                  <a:lnTo>
                    <a:pt x="146" y="131"/>
                  </a:lnTo>
                  <a:lnTo>
                    <a:pt x="154" y="156"/>
                  </a:lnTo>
                  <a:lnTo>
                    <a:pt x="162" y="183"/>
                  </a:lnTo>
                  <a:lnTo>
                    <a:pt x="175" y="236"/>
                  </a:lnTo>
                  <a:lnTo>
                    <a:pt x="186" y="288"/>
                  </a:lnTo>
                  <a:lnTo>
                    <a:pt x="194" y="336"/>
                  </a:lnTo>
                  <a:lnTo>
                    <a:pt x="200" y="378"/>
                  </a:lnTo>
                  <a:lnTo>
                    <a:pt x="205" y="415"/>
                  </a:lnTo>
                  <a:lnTo>
                    <a:pt x="212" y="450"/>
                  </a:lnTo>
                  <a:lnTo>
                    <a:pt x="219" y="482"/>
                  </a:lnTo>
                  <a:lnTo>
                    <a:pt x="227" y="511"/>
                  </a:lnTo>
                  <a:lnTo>
                    <a:pt x="233" y="534"/>
                  </a:lnTo>
                  <a:lnTo>
                    <a:pt x="239" y="552"/>
                  </a:lnTo>
                  <a:lnTo>
                    <a:pt x="243" y="564"/>
                  </a:lnTo>
                  <a:lnTo>
                    <a:pt x="244" y="568"/>
                  </a:lnTo>
                  <a:lnTo>
                    <a:pt x="258" y="585"/>
                  </a:lnTo>
                  <a:lnTo>
                    <a:pt x="270" y="602"/>
                  </a:lnTo>
                  <a:lnTo>
                    <a:pt x="280" y="621"/>
                  </a:lnTo>
                  <a:lnTo>
                    <a:pt x="288" y="639"/>
                  </a:lnTo>
                  <a:lnTo>
                    <a:pt x="295" y="656"/>
                  </a:lnTo>
                  <a:lnTo>
                    <a:pt x="300" y="673"/>
                  </a:lnTo>
                  <a:lnTo>
                    <a:pt x="304" y="691"/>
                  </a:lnTo>
                  <a:lnTo>
                    <a:pt x="308" y="707"/>
                  </a:lnTo>
                  <a:lnTo>
                    <a:pt x="311" y="735"/>
                  </a:lnTo>
                  <a:lnTo>
                    <a:pt x="312" y="758"/>
                  </a:lnTo>
                  <a:lnTo>
                    <a:pt x="311" y="773"/>
                  </a:lnTo>
                  <a:lnTo>
                    <a:pt x="311" y="778"/>
                  </a:lnTo>
                  <a:lnTo>
                    <a:pt x="321" y="794"/>
                  </a:lnTo>
                  <a:lnTo>
                    <a:pt x="330" y="810"/>
                  </a:lnTo>
                  <a:lnTo>
                    <a:pt x="339" y="826"/>
                  </a:lnTo>
                  <a:lnTo>
                    <a:pt x="348" y="842"/>
                  </a:lnTo>
                  <a:lnTo>
                    <a:pt x="362" y="873"/>
                  </a:lnTo>
                  <a:lnTo>
                    <a:pt x="374" y="905"/>
                  </a:lnTo>
                  <a:lnTo>
                    <a:pt x="383" y="935"/>
                  </a:lnTo>
                  <a:lnTo>
                    <a:pt x="392" y="965"/>
                  </a:lnTo>
                  <a:lnTo>
                    <a:pt x="398" y="993"/>
                  </a:lnTo>
                  <a:lnTo>
                    <a:pt x="404" y="1019"/>
                  </a:lnTo>
                  <a:lnTo>
                    <a:pt x="407" y="1044"/>
                  </a:lnTo>
                  <a:lnTo>
                    <a:pt x="409" y="1065"/>
                  </a:lnTo>
                  <a:lnTo>
                    <a:pt x="411" y="1085"/>
                  </a:lnTo>
                  <a:lnTo>
                    <a:pt x="412" y="1102"/>
                  </a:lnTo>
                  <a:lnTo>
                    <a:pt x="412" y="1126"/>
                  </a:lnTo>
                  <a:lnTo>
                    <a:pt x="412" y="1135"/>
                  </a:lnTo>
                  <a:lnTo>
                    <a:pt x="246" y="1144"/>
                  </a:lnTo>
                  <a:lnTo>
                    <a:pt x="247" y="1142"/>
                  </a:lnTo>
                  <a:lnTo>
                    <a:pt x="247" y="1135"/>
                  </a:lnTo>
                  <a:lnTo>
                    <a:pt x="249" y="1122"/>
                  </a:lnTo>
                  <a:lnTo>
                    <a:pt x="252" y="1101"/>
                  </a:lnTo>
                  <a:lnTo>
                    <a:pt x="256" y="1074"/>
                  </a:lnTo>
                  <a:lnTo>
                    <a:pt x="260" y="1037"/>
                  </a:lnTo>
                  <a:lnTo>
                    <a:pt x="267" y="992"/>
                  </a:lnTo>
                  <a:lnTo>
                    <a:pt x="274" y="936"/>
                  </a:lnTo>
                  <a:lnTo>
                    <a:pt x="281" y="882"/>
                  </a:lnTo>
                  <a:lnTo>
                    <a:pt x="284" y="837"/>
                  </a:lnTo>
                  <a:lnTo>
                    <a:pt x="285" y="799"/>
                  </a:lnTo>
                  <a:lnTo>
                    <a:pt x="284" y="767"/>
                  </a:lnTo>
                  <a:lnTo>
                    <a:pt x="282" y="740"/>
                  </a:lnTo>
                  <a:lnTo>
                    <a:pt x="277" y="717"/>
                  </a:lnTo>
                  <a:lnTo>
                    <a:pt x="273" y="694"/>
                  </a:lnTo>
                  <a:lnTo>
                    <a:pt x="269" y="672"/>
                  </a:lnTo>
                  <a:lnTo>
                    <a:pt x="267" y="662"/>
                  </a:lnTo>
                  <a:lnTo>
                    <a:pt x="263" y="652"/>
                  </a:lnTo>
                  <a:lnTo>
                    <a:pt x="260" y="644"/>
                  </a:lnTo>
                  <a:lnTo>
                    <a:pt x="256" y="637"/>
                  </a:lnTo>
                  <a:lnTo>
                    <a:pt x="250" y="630"/>
                  </a:lnTo>
                  <a:lnTo>
                    <a:pt x="245" y="625"/>
                  </a:lnTo>
                  <a:lnTo>
                    <a:pt x="240" y="619"/>
                  </a:lnTo>
                  <a:lnTo>
                    <a:pt x="233" y="615"/>
                  </a:lnTo>
                  <a:lnTo>
                    <a:pt x="219" y="606"/>
                  </a:lnTo>
                  <a:lnTo>
                    <a:pt x="205" y="597"/>
                  </a:lnTo>
                  <a:lnTo>
                    <a:pt x="190" y="586"/>
                  </a:lnTo>
                  <a:lnTo>
                    <a:pt x="175" y="573"/>
                  </a:lnTo>
                  <a:close/>
                </a:path>
              </a:pathLst>
            </a:custGeom>
            <a:solidFill>
              <a:srgbClr val="8565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229440" y="2700360"/>
              <a:ext cx="123840" cy="362160"/>
            </a:xfrm>
            <a:custGeom>
              <a:avLst/>
              <a:gdLst/>
              <a:ahLst/>
              <a:rect l="l" t="t" r="r" b="b"/>
              <a:pathLst>
                <a:path w="391" h="1144">
                  <a:moveTo>
                    <a:pt x="169" y="576"/>
                  </a:moveTo>
                  <a:lnTo>
                    <a:pt x="166" y="572"/>
                  </a:lnTo>
                  <a:lnTo>
                    <a:pt x="161" y="567"/>
                  </a:lnTo>
                  <a:lnTo>
                    <a:pt x="159" y="562"/>
                  </a:lnTo>
                  <a:lnTo>
                    <a:pt x="156" y="555"/>
                  </a:lnTo>
                  <a:lnTo>
                    <a:pt x="152" y="541"/>
                  </a:lnTo>
                  <a:lnTo>
                    <a:pt x="147" y="524"/>
                  </a:lnTo>
                  <a:lnTo>
                    <a:pt x="144" y="506"/>
                  </a:lnTo>
                  <a:lnTo>
                    <a:pt x="141" y="484"/>
                  </a:lnTo>
                  <a:lnTo>
                    <a:pt x="138" y="462"/>
                  </a:lnTo>
                  <a:lnTo>
                    <a:pt x="135" y="437"/>
                  </a:lnTo>
                  <a:lnTo>
                    <a:pt x="130" y="384"/>
                  </a:lnTo>
                  <a:lnTo>
                    <a:pt x="124" y="327"/>
                  </a:lnTo>
                  <a:lnTo>
                    <a:pt x="119" y="296"/>
                  </a:lnTo>
                  <a:lnTo>
                    <a:pt x="115" y="266"/>
                  </a:lnTo>
                  <a:lnTo>
                    <a:pt x="108" y="236"/>
                  </a:lnTo>
                  <a:lnTo>
                    <a:pt x="102" y="206"/>
                  </a:lnTo>
                  <a:lnTo>
                    <a:pt x="94" y="176"/>
                  </a:lnTo>
                  <a:lnTo>
                    <a:pt x="86" y="152"/>
                  </a:lnTo>
                  <a:lnTo>
                    <a:pt x="78" y="129"/>
                  </a:lnTo>
                  <a:lnTo>
                    <a:pt x="70" y="109"/>
                  </a:lnTo>
                  <a:lnTo>
                    <a:pt x="61" y="92"/>
                  </a:lnTo>
                  <a:lnTo>
                    <a:pt x="52" y="77"/>
                  </a:lnTo>
                  <a:lnTo>
                    <a:pt x="45" y="64"/>
                  </a:lnTo>
                  <a:lnTo>
                    <a:pt x="36" y="53"/>
                  </a:lnTo>
                  <a:lnTo>
                    <a:pt x="30" y="45"/>
                  </a:lnTo>
                  <a:lnTo>
                    <a:pt x="22" y="38"/>
                  </a:lnTo>
                  <a:lnTo>
                    <a:pt x="17" y="33"/>
                  </a:lnTo>
                  <a:lnTo>
                    <a:pt x="11" y="28"/>
                  </a:lnTo>
                  <a:lnTo>
                    <a:pt x="4" y="24"/>
                  </a:lnTo>
                  <a:lnTo>
                    <a:pt x="0" y="22"/>
                  </a:lnTo>
                  <a:lnTo>
                    <a:pt x="21" y="12"/>
                  </a:lnTo>
                  <a:lnTo>
                    <a:pt x="36" y="6"/>
                  </a:lnTo>
                  <a:lnTo>
                    <a:pt x="46" y="1"/>
                  </a:lnTo>
                  <a:lnTo>
                    <a:pt x="52" y="0"/>
                  </a:lnTo>
                  <a:lnTo>
                    <a:pt x="54" y="0"/>
                  </a:lnTo>
                  <a:lnTo>
                    <a:pt x="57" y="0"/>
                  </a:lnTo>
                  <a:lnTo>
                    <a:pt x="59" y="1"/>
                  </a:lnTo>
                  <a:lnTo>
                    <a:pt x="60" y="4"/>
                  </a:lnTo>
                  <a:lnTo>
                    <a:pt x="63" y="8"/>
                  </a:lnTo>
                  <a:lnTo>
                    <a:pt x="67" y="14"/>
                  </a:lnTo>
                  <a:lnTo>
                    <a:pt x="78" y="28"/>
                  </a:lnTo>
                  <a:lnTo>
                    <a:pt x="88" y="46"/>
                  </a:lnTo>
                  <a:lnTo>
                    <a:pt x="98" y="65"/>
                  </a:lnTo>
                  <a:lnTo>
                    <a:pt x="107" y="87"/>
                  </a:lnTo>
                  <a:lnTo>
                    <a:pt x="116" y="109"/>
                  </a:lnTo>
                  <a:lnTo>
                    <a:pt x="125" y="134"/>
                  </a:lnTo>
                  <a:lnTo>
                    <a:pt x="133" y="159"/>
                  </a:lnTo>
                  <a:lnTo>
                    <a:pt x="141" y="186"/>
                  </a:lnTo>
                  <a:lnTo>
                    <a:pt x="154" y="239"/>
                  </a:lnTo>
                  <a:lnTo>
                    <a:pt x="165" y="291"/>
                  </a:lnTo>
                  <a:lnTo>
                    <a:pt x="173" y="339"/>
                  </a:lnTo>
                  <a:lnTo>
                    <a:pt x="179" y="381"/>
                  </a:lnTo>
                  <a:lnTo>
                    <a:pt x="184" y="418"/>
                  </a:lnTo>
                  <a:lnTo>
                    <a:pt x="191" y="453"/>
                  </a:lnTo>
                  <a:lnTo>
                    <a:pt x="198" y="485"/>
                  </a:lnTo>
                  <a:lnTo>
                    <a:pt x="206" y="514"/>
                  </a:lnTo>
                  <a:lnTo>
                    <a:pt x="212" y="537"/>
                  </a:lnTo>
                  <a:lnTo>
                    <a:pt x="218" y="555"/>
                  </a:lnTo>
                  <a:lnTo>
                    <a:pt x="222" y="567"/>
                  </a:lnTo>
                  <a:lnTo>
                    <a:pt x="223" y="571"/>
                  </a:lnTo>
                  <a:lnTo>
                    <a:pt x="237" y="588"/>
                  </a:lnTo>
                  <a:lnTo>
                    <a:pt x="249" y="605"/>
                  </a:lnTo>
                  <a:lnTo>
                    <a:pt x="259" y="624"/>
                  </a:lnTo>
                  <a:lnTo>
                    <a:pt x="267" y="642"/>
                  </a:lnTo>
                  <a:lnTo>
                    <a:pt x="274" y="659"/>
                  </a:lnTo>
                  <a:lnTo>
                    <a:pt x="279" y="676"/>
                  </a:lnTo>
                  <a:lnTo>
                    <a:pt x="283" y="694"/>
                  </a:lnTo>
                  <a:lnTo>
                    <a:pt x="287" y="710"/>
                  </a:lnTo>
                  <a:lnTo>
                    <a:pt x="290" y="738"/>
                  </a:lnTo>
                  <a:lnTo>
                    <a:pt x="291" y="761"/>
                  </a:lnTo>
                  <a:lnTo>
                    <a:pt x="290" y="776"/>
                  </a:lnTo>
                  <a:lnTo>
                    <a:pt x="290" y="781"/>
                  </a:lnTo>
                  <a:lnTo>
                    <a:pt x="300" y="797"/>
                  </a:lnTo>
                  <a:lnTo>
                    <a:pt x="309" y="813"/>
                  </a:lnTo>
                  <a:lnTo>
                    <a:pt x="318" y="829"/>
                  </a:lnTo>
                  <a:lnTo>
                    <a:pt x="327" y="845"/>
                  </a:lnTo>
                  <a:lnTo>
                    <a:pt x="341" y="876"/>
                  </a:lnTo>
                  <a:lnTo>
                    <a:pt x="353" y="908"/>
                  </a:lnTo>
                  <a:lnTo>
                    <a:pt x="362" y="938"/>
                  </a:lnTo>
                  <a:lnTo>
                    <a:pt x="371" y="968"/>
                  </a:lnTo>
                  <a:lnTo>
                    <a:pt x="377" y="996"/>
                  </a:lnTo>
                  <a:lnTo>
                    <a:pt x="383" y="1022"/>
                  </a:lnTo>
                  <a:lnTo>
                    <a:pt x="386" y="1047"/>
                  </a:lnTo>
                  <a:lnTo>
                    <a:pt x="388" y="1068"/>
                  </a:lnTo>
                  <a:lnTo>
                    <a:pt x="390" y="1088"/>
                  </a:lnTo>
                  <a:lnTo>
                    <a:pt x="391" y="1105"/>
                  </a:lnTo>
                  <a:lnTo>
                    <a:pt x="391" y="1129"/>
                  </a:lnTo>
                  <a:lnTo>
                    <a:pt x="391" y="1138"/>
                  </a:lnTo>
                  <a:lnTo>
                    <a:pt x="238" y="1144"/>
                  </a:lnTo>
                  <a:lnTo>
                    <a:pt x="238" y="1142"/>
                  </a:lnTo>
                  <a:lnTo>
                    <a:pt x="239" y="1135"/>
                  </a:lnTo>
                  <a:lnTo>
                    <a:pt x="240" y="1122"/>
                  </a:lnTo>
                  <a:lnTo>
                    <a:pt x="242" y="1103"/>
                  </a:lnTo>
                  <a:lnTo>
                    <a:pt x="245" y="1077"/>
                  </a:lnTo>
                  <a:lnTo>
                    <a:pt x="250" y="1041"/>
                  </a:lnTo>
                  <a:lnTo>
                    <a:pt x="255" y="997"/>
                  </a:lnTo>
                  <a:lnTo>
                    <a:pt x="263" y="942"/>
                  </a:lnTo>
                  <a:lnTo>
                    <a:pt x="266" y="913"/>
                  </a:lnTo>
                  <a:lnTo>
                    <a:pt x="269" y="887"/>
                  </a:lnTo>
                  <a:lnTo>
                    <a:pt x="272" y="863"/>
                  </a:lnTo>
                  <a:lnTo>
                    <a:pt x="273" y="841"/>
                  </a:lnTo>
                  <a:lnTo>
                    <a:pt x="274" y="821"/>
                  </a:lnTo>
                  <a:lnTo>
                    <a:pt x="274" y="803"/>
                  </a:lnTo>
                  <a:lnTo>
                    <a:pt x="273" y="787"/>
                  </a:lnTo>
                  <a:lnTo>
                    <a:pt x="272" y="771"/>
                  </a:lnTo>
                  <a:lnTo>
                    <a:pt x="269" y="744"/>
                  </a:lnTo>
                  <a:lnTo>
                    <a:pt x="265" y="720"/>
                  </a:lnTo>
                  <a:lnTo>
                    <a:pt x="260" y="698"/>
                  </a:lnTo>
                  <a:lnTo>
                    <a:pt x="255" y="675"/>
                  </a:lnTo>
                  <a:lnTo>
                    <a:pt x="253" y="665"/>
                  </a:lnTo>
                  <a:lnTo>
                    <a:pt x="250" y="655"/>
                  </a:lnTo>
                  <a:lnTo>
                    <a:pt x="247" y="647"/>
                  </a:lnTo>
                  <a:lnTo>
                    <a:pt x="243" y="640"/>
                  </a:lnTo>
                  <a:lnTo>
                    <a:pt x="239" y="633"/>
                  </a:lnTo>
                  <a:lnTo>
                    <a:pt x="234" y="628"/>
                  </a:lnTo>
                  <a:lnTo>
                    <a:pt x="228" y="622"/>
                  </a:lnTo>
                  <a:lnTo>
                    <a:pt x="223" y="618"/>
                  </a:lnTo>
                  <a:lnTo>
                    <a:pt x="211" y="609"/>
                  </a:lnTo>
                  <a:lnTo>
                    <a:pt x="197" y="600"/>
                  </a:lnTo>
                  <a:lnTo>
                    <a:pt x="183" y="589"/>
                  </a:lnTo>
                  <a:lnTo>
                    <a:pt x="169" y="576"/>
                  </a:lnTo>
                  <a:close/>
                </a:path>
              </a:pathLst>
            </a:custGeom>
            <a:solidFill>
              <a:srgbClr val="7a5c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235560" y="2698920"/>
              <a:ext cx="117720" cy="363600"/>
            </a:xfrm>
            <a:custGeom>
              <a:avLst/>
              <a:gdLst/>
              <a:ahLst/>
              <a:rect l="l" t="t" r="r" b="b"/>
              <a:pathLst>
                <a:path w="368" h="1147">
                  <a:moveTo>
                    <a:pt x="227" y="1147"/>
                  </a:moveTo>
                  <a:lnTo>
                    <a:pt x="368" y="1141"/>
                  </a:lnTo>
                  <a:lnTo>
                    <a:pt x="368" y="1132"/>
                  </a:lnTo>
                  <a:lnTo>
                    <a:pt x="368" y="1108"/>
                  </a:lnTo>
                  <a:lnTo>
                    <a:pt x="367" y="1091"/>
                  </a:lnTo>
                  <a:lnTo>
                    <a:pt x="365" y="1071"/>
                  </a:lnTo>
                  <a:lnTo>
                    <a:pt x="363" y="1050"/>
                  </a:lnTo>
                  <a:lnTo>
                    <a:pt x="360" y="1025"/>
                  </a:lnTo>
                  <a:lnTo>
                    <a:pt x="354" y="999"/>
                  </a:lnTo>
                  <a:lnTo>
                    <a:pt x="348" y="971"/>
                  </a:lnTo>
                  <a:lnTo>
                    <a:pt x="339" y="941"/>
                  </a:lnTo>
                  <a:lnTo>
                    <a:pt x="330" y="911"/>
                  </a:lnTo>
                  <a:lnTo>
                    <a:pt x="318" y="879"/>
                  </a:lnTo>
                  <a:lnTo>
                    <a:pt x="304" y="848"/>
                  </a:lnTo>
                  <a:lnTo>
                    <a:pt x="295" y="832"/>
                  </a:lnTo>
                  <a:lnTo>
                    <a:pt x="286" y="816"/>
                  </a:lnTo>
                  <a:lnTo>
                    <a:pt x="277" y="800"/>
                  </a:lnTo>
                  <a:lnTo>
                    <a:pt x="267" y="784"/>
                  </a:lnTo>
                  <a:lnTo>
                    <a:pt x="267" y="779"/>
                  </a:lnTo>
                  <a:lnTo>
                    <a:pt x="268" y="764"/>
                  </a:lnTo>
                  <a:lnTo>
                    <a:pt x="267" y="741"/>
                  </a:lnTo>
                  <a:lnTo>
                    <a:pt x="264" y="713"/>
                  </a:lnTo>
                  <a:lnTo>
                    <a:pt x="260" y="697"/>
                  </a:lnTo>
                  <a:lnTo>
                    <a:pt x="256" y="679"/>
                  </a:lnTo>
                  <a:lnTo>
                    <a:pt x="251" y="662"/>
                  </a:lnTo>
                  <a:lnTo>
                    <a:pt x="244" y="645"/>
                  </a:lnTo>
                  <a:lnTo>
                    <a:pt x="236" y="627"/>
                  </a:lnTo>
                  <a:lnTo>
                    <a:pt x="226" y="608"/>
                  </a:lnTo>
                  <a:lnTo>
                    <a:pt x="214" y="591"/>
                  </a:lnTo>
                  <a:lnTo>
                    <a:pt x="200" y="574"/>
                  </a:lnTo>
                  <a:lnTo>
                    <a:pt x="199" y="570"/>
                  </a:lnTo>
                  <a:lnTo>
                    <a:pt x="195" y="558"/>
                  </a:lnTo>
                  <a:lnTo>
                    <a:pt x="189" y="540"/>
                  </a:lnTo>
                  <a:lnTo>
                    <a:pt x="183" y="517"/>
                  </a:lnTo>
                  <a:lnTo>
                    <a:pt x="175" y="488"/>
                  </a:lnTo>
                  <a:lnTo>
                    <a:pt x="168" y="456"/>
                  </a:lnTo>
                  <a:lnTo>
                    <a:pt x="161" y="421"/>
                  </a:lnTo>
                  <a:lnTo>
                    <a:pt x="156" y="384"/>
                  </a:lnTo>
                  <a:lnTo>
                    <a:pt x="150" y="342"/>
                  </a:lnTo>
                  <a:lnTo>
                    <a:pt x="142" y="294"/>
                  </a:lnTo>
                  <a:lnTo>
                    <a:pt x="131" y="242"/>
                  </a:lnTo>
                  <a:lnTo>
                    <a:pt x="118" y="189"/>
                  </a:lnTo>
                  <a:lnTo>
                    <a:pt x="110" y="162"/>
                  </a:lnTo>
                  <a:lnTo>
                    <a:pt x="102" y="137"/>
                  </a:lnTo>
                  <a:lnTo>
                    <a:pt x="93" y="112"/>
                  </a:lnTo>
                  <a:lnTo>
                    <a:pt x="84" y="90"/>
                  </a:lnTo>
                  <a:lnTo>
                    <a:pt x="75" y="68"/>
                  </a:lnTo>
                  <a:lnTo>
                    <a:pt x="65" y="49"/>
                  </a:lnTo>
                  <a:lnTo>
                    <a:pt x="55" y="31"/>
                  </a:lnTo>
                  <a:lnTo>
                    <a:pt x="44" y="17"/>
                  </a:lnTo>
                  <a:lnTo>
                    <a:pt x="42" y="14"/>
                  </a:lnTo>
                  <a:lnTo>
                    <a:pt x="41" y="11"/>
                  </a:lnTo>
                  <a:lnTo>
                    <a:pt x="40" y="9"/>
                  </a:lnTo>
                  <a:lnTo>
                    <a:pt x="40" y="6"/>
                  </a:lnTo>
                  <a:lnTo>
                    <a:pt x="41" y="2"/>
                  </a:lnTo>
                  <a:lnTo>
                    <a:pt x="41" y="0"/>
                  </a:lnTo>
                  <a:lnTo>
                    <a:pt x="38" y="1"/>
                  </a:lnTo>
                  <a:lnTo>
                    <a:pt x="31" y="4"/>
                  </a:lnTo>
                  <a:lnTo>
                    <a:pt x="20" y="11"/>
                  </a:lnTo>
                  <a:lnTo>
                    <a:pt x="0" y="21"/>
                  </a:lnTo>
                  <a:lnTo>
                    <a:pt x="2" y="22"/>
                  </a:lnTo>
                  <a:lnTo>
                    <a:pt x="10" y="27"/>
                  </a:lnTo>
                  <a:lnTo>
                    <a:pt x="14" y="31"/>
                  </a:lnTo>
                  <a:lnTo>
                    <a:pt x="20" y="37"/>
                  </a:lnTo>
                  <a:lnTo>
                    <a:pt x="26" y="44"/>
                  </a:lnTo>
                  <a:lnTo>
                    <a:pt x="33" y="53"/>
                  </a:lnTo>
                  <a:lnTo>
                    <a:pt x="40" y="64"/>
                  </a:lnTo>
                  <a:lnTo>
                    <a:pt x="48" y="77"/>
                  </a:lnTo>
                  <a:lnTo>
                    <a:pt x="55" y="92"/>
                  </a:lnTo>
                  <a:lnTo>
                    <a:pt x="64" y="109"/>
                  </a:lnTo>
                  <a:lnTo>
                    <a:pt x="71" y="129"/>
                  </a:lnTo>
                  <a:lnTo>
                    <a:pt x="79" y="151"/>
                  </a:lnTo>
                  <a:lnTo>
                    <a:pt x="87" y="177"/>
                  </a:lnTo>
                  <a:lnTo>
                    <a:pt x="94" y="205"/>
                  </a:lnTo>
                  <a:lnTo>
                    <a:pt x="101" y="236"/>
                  </a:lnTo>
                  <a:lnTo>
                    <a:pt x="107" y="267"/>
                  </a:lnTo>
                  <a:lnTo>
                    <a:pt x="111" y="296"/>
                  </a:lnTo>
                  <a:lnTo>
                    <a:pt x="116" y="326"/>
                  </a:lnTo>
                  <a:lnTo>
                    <a:pt x="122" y="385"/>
                  </a:lnTo>
                  <a:lnTo>
                    <a:pt x="129" y="438"/>
                  </a:lnTo>
                  <a:lnTo>
                    <a:pt x="134" y="486"/>
                  </a:lnTo>
                  <a:lnTo>
                    <a:pt x="141" y="527"/>
                  </a:lnTo>
                  <a:lnTo>
                    <a:pt x="144" y="543"/>
                  </a:lnTo>
                  <a:lnTo>
                    <a:pt x="149" y="558"/>
                  </a:lnTo>
                  <a:lnTo>
                    <a:pt x="151" y="565"/>
                  </a:lnTo>
                  <a:lnTo>
                    <a:pt x="155" y="570"/>
                  </a:lnTo>
                  <a:lnTo>
                    <a:pt x="157" y="575"/>
                  </a:lnTo>
                  <a:lnTo>
                    <a:pt x="161" y="579"/>
                  </a:lnTo>
                  <a:lnTo>
                    <a:pt x="175" y="592"/>
                  </a:lnTo>
                  <a:lnTo>
                    <a:pt x="188" y="603"/>
                  </a:lnTo>
                  <a:lnTo>
                    <a:pt x="200" y="612"/>
                  </a:lnTo>
                  <a:lnTo>
                    <a:pt x="211" y="621"/>
                  </a:lnTo>
                  <a:lnTo>
                    <a:pt x="215" y="625"/>
                  </a:lnTo>
                  <a:lnTo>
                    <a:pt x="219" y="631"/>
                  </a:lnTo>
                  <a:lnTo>
                    <a:pt x="224" y="636"/>
                  </a:lnTo>
                  <a:lnTo>
                    <a:pt x="228" y="643"/>
                  </a:lnTo>
                  <a:lnTo>
                    <a:pt x="231" y="650"/>
                  </a:lnTo>
                  <a:lnTo>
                    <a:pt x="235" y="658"/>
                  </a:lnTo>
                  <a:lnTo>
                    <a:pt x="237" y="668"/>
                  </a:lnTo>
                  <a:lnTo>
                    <a:pt x="240" y="678"/>
                  </a:lnTo>
                  <a:lnTo>
                    <a:pt x="244" y="701"/>
                  </a:lnTo>
                  <a:lnTo>
                    <a:pt x="249" y="723"/>
                  </a:lnTo>
                  <a:lnTo>
                    <a:pt x="253" y="747"/>
                  </a:lnTo>
                  <a:lnTo>
                    <a:pt x="257" y="774"/>
                  </a:lnTo>
                  <a:lnTo>
                    <a:pt x="258" y="790"/>
                  </a:lnTo>
                  <a:lnTo>
                    <a:pt x="259" y="806"/>
                  </a:lnTo>
                  <a:lnTo>
                    <a:pt x="259" y="824"/>
                  </a:lnTo>
                  <a:lnTo>
                    <a:pt x="258" y="844"/>
                  </a:lnTo>
                  <a:lnTo>
                    <a:pt x="258" y="866"/>
                  </a:lnTo>
                  <a:lnTo>
                    <a:pt x="256" y="890"/>
                  </a:lnTo>
                  <a:lnTo>
                    <a:pt x="253" y="916"/>
                  </a:lnTo>
                  <a:lnTo>
                    <a:pt x="250" y="945"/>
                  </a:lnTo>
                  <a:lnTo>
                    <a:pt x="242" y="1000"/>
                  </a:lnTo>
                  <a:lnTo>
                    <a:pt x="237" y="1046"/>
                  </a:lnTo>
                  <a:lnTo>
                    <a:pt x="232" y="1081"/>
                  </a:lnTo>
                  <a:lnTo>
                    <a:pt x="230" y="1107"/>
                  </a:lnTo>
                  <a:lnTo>
                    <a:pt x="228" y="1127"/>
                  </a:lnTo>
                  <a:lnTo>
                    <a:pt x="228" y="1138"/>
                  </a:lnTo>
                  <a:lnTo>
                    <a:pt x="227" y="1146"/>
                  </a:lnTo>
                  <a:lnTo>
                    <a:pt x="227" y="1147"/>
                  </a:lnTo>
                  <a:close/>
                </a:path>
              </a:pathLst>
            </a:custGeom>
            <a:solidFill>
              <a:srgbClr val="705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249960" y="2703600"/>
              <a:ext cx="103320" cy="357120"/>
            </a:xfrm>
            <a:custGeom>
              <a:avLst/>
              <a:gdLst/>
              <a:ahLst/>
              <a:rect l="l" t="t" r="r" b="b"/>
              <a:pathLst>
                <a:path w="324" h="1124">
                  <a:moveTo>
                    <a:pt x="324" y="1124"/>
                  </a:moveTo>
                  <a:lnTo>
                    <a:pt x="324" y="1115"/>
                  </a:lnTo>
                  <a:lnTo>
                    <a:pt x="324" y="1091"/>
                  </a:lnTo>
                  <a:lnTo>
                    <a:pt x="323" y="1074"/>
                  </a:lnTo>
                  <a:lnTo>
                    <a:pt x="321" y="1054"/>
                  </a:lnTo>
                  <a:lnTo>
                    <a:pt x="319" y="1033"/>
                  </a:lnTo>
                  <a:lnTo>
                    <a:pt x="316" y="1008"/>
                  </a:lnTo>
                  <a:lnTo>
                    <a:pt x="310" y="982"/>
                  </a:lnTo>
                  <a:lnTo>
                    <a:pt x="304" y="954"/>
                  </a:lnTo>
                  <a:lnTo>
                    <a:pt x="295" y="924"/>
                  </a:lnTo>
                  <a:lnTo>
                    <a:pt x="286" y="894"/>
                  </a:lnTo>
                  <a:lnTo>
                    <a:pt x="274" y="862"/>
                  </a:lnTo>
                  <a:lnTo>
                    <a:pt x="260" y="831"/>
                  </a:lnTo>
                  <a:lnTo>
                    <a:pt x="251" y="815"/>
                  </a:lnTo>
                  <a:lnTo>
                    <a:pt x="242" y="799"/>
                  </a:lnTo>
                  <a:lnTo>
                    <a:pt x="233" y="783"/>
                  </a:lnTo>
                  <a:lnTo>
                    <a:pt x="223" y="767"/>
                  </a:lnTo>
                  <a:lnTo>
                    <a:pt x="223" y="762"/>
                  </a:lnTo>
                  <a:lnTo>
                    <a:pt x="224" y="747"/>
                  </a:lnTo>
                  <a:lnTo>
                    <a:pt x="223" y="724"/>
                  </a:lnTo>
                  <a:lnTo>
                    <a:pt x="220" y="696"/>
                  </a:lnTo>
                  <a:lnTo>
                    <a:pt x="216" y="680"/>
                  </a:lnTo>
                  <a:lnTo>
                    <a:pt x="212" y="662"/>
                  </a:lnTo>
                  <a:lnTo>
                    <a:pt x="207" y="645"/>
                  </a:lnTo>
                  <a:lnTo>
                    <a:pt x="200" y="628"/>
                  </a:lnTo>
                  <a:lnTo>
                    <a:pt x="192" y="610"/>
                  </a:lnTo>
                  <a:lnTo>
                    <a:pt x="182" y="591"/>
                  </a:lnTo>
                  <a:lnTo>
                    <a:pt x="170" y="574"/>
                  </a:lnTo>
                  <a:lnTo>
                    <a:pt x="156" y="557"/>
                  </a:lnTo>
                  <a:lnTo>
                    <a:pt x="155" y="553"/>
                  </a:lnTo>
                  <a:lnTo>
                    <a:pt x="151" y="541"/>
                  </a:lnTo>
                  <a:lnTo>
                    <a:pt x="145" y="523"/>
                  </a:lnTo>
                  <a:lnTo>
                    <a:pt x="139" y="500"/>
                  </a:lnTo>
                  <a:lnTo>
                    <a:pt x="131" y="471"/>
                  </a:lnTo>
                  <a:lnTo>
                    <a:pt x="124" y="439"/>
                  </a:lnTo>
                  <a:lnTo>
                    <a:pt x="117" y="404"/>
                  </a:lnTo>
                  <a:lnTo>
                    <a:pt x="112" y="367"/>
                  </a:lnTo>
                  <a:lnTo>
                    <a:pt x="106" y="325"/>
                  </a:lnTo>
                  <a:lnTo>
                    <a:pt x="98" y="277"/>
                  </a:lnTo>
                  <a:lnTo>
                    <a:pt x="87" y="225"/>
                  </a:lnTo>
                  <a:lnTo>
                    <a:pt x="74" y="172"/>
                  </a:lnTo>
                  <a:lnTo>
                    <a:pt x="66" y="145"/>
                  </a:lnTo>
                  <a:lnTo>
                    <a:pt x="58" y="120"/>
                  </a:lnTo>
                  <a:lnTo>
                    <a:pt x="49" y="95"/>
                  </a:lnTo>
                  <a:lnTo>
                    <a:pt x="40" y="73"/>
                  </a:lnTo>
                  <a:lnTo>
                    <a:pt x="31" y="51"/>
                  </a:lnTo>
                  <a:lnTo>
                    <a:pt x="21" y="32"/>
                  </a:lnTo>
                  <a:lnTo>
                    <a:pt x="11" y="14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168880" y="2214720"/>
              <a:ext cx="1112760" cy="1204920"/>
            </a:xfrm>
            <a:custGeom>
              <a:avLst/>
              <a:gdLst/>
              <a:ahLst/>
              <a:rect l="l" t="t" r="r" b="b"/>
              <a:pathLst>
                <a:path w="3507" h="3796">
                  <a:moveTo>
                    <a:pt x="1336" y="17"/>
                  </a:moveTo>
                  <a:lnTo>
                    <a:pt x="1325" y="23"/>
                  </a:lnTo>
                  <a:lnTo>
                    <a:pt x="1296" y="38"/>
                  </a:lnTo>
                  <a:lnTo>
                    <a:pt x="1254" y="60"/>
                  </a:lnTo>
                  <a:lnTo>
                    <a:pt x="1202" y="87"/>
                  </a:lnTo>
                  <a:lnTo>
                    <a:pt x="1144" y="116"/>
                  </a:lnTo>
                  <a:lnTo>
                    <a:pt x="1088" y="145"/>
                  </a:lnTo>
                  <a:lnTo>
                    <a:pt x="1035" y="173"/>
                  </a:lnTo>
                  <a:lnTo>
                    <a:pt x="992" y="196"/>
                  </a:lnTo>
                  <a:lnTo>
                    <a:pt x="947" y="220"/>
                  </a:lnTo>
                  <a:lnTo>
                    <a:pt x="887" y="251"/>
                  </a:lnTo>
                  <a:lnTo>
                    <a:pt x="820" y="284"/>
                  </a:lnTo>
                  <a:lnTo>
                    <a:pt x="749" y="319"/>
                  </a:lnTo>
                  <a:lnTo>
                    <a:pt x="680" y="354"/>
                  </a:lnTo>
                  <a:lnTo>
                    <a:pt x="616" y="387"/>
                  </a:lnTo>
                  <a:lnTo>
                    <a:pt x="588" y="403"/>
                  </a:lnTo>
                  <a:lnTo>
                    <a:pt x="563" y="417"/>
                  </a:lnTo>
                  <a:lnTo>
                    <a:pt x="542" y="429"/>
                  </a:lnTo>
                  <a:lnTo>
                    <a:pt x="525" y="441"/>
                  </a:lnTo>
                  <a:lnTo>
                    <a:pt x="492" y="465"/>
                  </a:lnTo>
                  <a:lnTo>
                    <a:pt x="452" y="496"/>
                  </a:lnTo>
                  <a:lnTo>
                    <a:pt x="430" y="515"/>
                  </a:lnTo>
                  <a:lnTo>
                    <a:pt x="408" y="536"/>
                  </a:lnTo>
                  <a:lnTo>
                    <a:pt x="385" y="559"/>
                  </a:lnTo>
                  <a:lnTo>
                    <a:pt x="362" y="583"/>
                  </a:lnTo>
                  <a:lnTo>
                    <a:pt x="339" y="610"/>
                  </a:lnTo>
                  <a:lnTo>
                    <a:pt x="315" y="640"/>
                  </a:lnTo>
                  <a:lnTo>
                    <a:pt x="292" y="672"/>
                  </a:lnTo>
                  <a:lnTo>
                    <a:pt x="269" y="708"/>
                  </a:lnTo>
                  <a:lnTo>
                    <a:pt x="259" y="726"/>
                  </a:lnTo>
                  <a:lnTo>
                    <a:pt x="248" y="744"/>
                  </a:lnTo>
                  <a:lnTo>
                    <a:pt x="238" y="765"/>
                  </a:lnTo>
                  <a:lnTo>
                    <a:pt x="228" y="785"/>
                  </a:lnTo>
                  <a:lnTo>
                    <a:pt x="219" y="807"/>
                  </a:lnTo>
                  <a:lnTo>
                    <a:pt x="209" y="829"/>
                  </a:lnTo>
                  <a:lnTo>
                    <a:pt x="200" y="852"/>
                  </a:lnTo>
                  <a:lnTo>
                    <a:pt x="192" y="876"/>
                  </a:lnTo>
                  <a:lnTo>
                    <a:pt x="161" y="965"/>
                  </a:lnTo>
                  <a:lnTo>
                    <a:pt x="137" y="1039"/>
                  </a:lnTo>
                  <a:lnTo>
                    <a:pt x="117" y="1104"/>
                  </a:lnTo>
                  <a:lnTo>
                    <a:pt x="102" y="1157"/>
                  </a:lnTo>
                  <a:lnTo>
                    <a:pt x="92" y="1202"/>
                  </a:lnTo>
                  <a:lnTo>
                    <a:pt x="85" y="1240"/>
                  </a:lnTo>
                  <a:lnTo>
                    <a:pt x="82" y="1256"/>
                  </a:lnTo>
                  <a:lnTo>
                    <a:pt x="81" y="1271"/>
                  </a:lnTo>
                  <a:lnTo>
                    <a:pt x="80" y="1285"/>
                  </a:lnTo>
                  <a:lnTo>
                    <a:pt x="80" y="1298"/>
                  </a:lnTo>
                  <a:lnTo>
                    <a:pt x="79" y="1311"/>
                  </a:lnTo>
                  <a:lnTo>
                    <a:pt x="77" y="1324"/>
                  </a:lnTo>
                  <a:lnTo>
                    <a:pt x="73" y="1338"/>
                  </a:lnTo>
                  <a:lnTo>
                    <a:pt x="68" y="1352"/>
                  </a:lnTo>
                  <a:lnTo>
                    <a:pt x="57" y="1384"/>
                  </a:lnTo>
                  <a:lnTo>
                    <a:pt x="44" y="1416"/>
                  </a:lnTo>
                  <a:lnTo>
                    <a:pt x="37" y="1433"/>
                  </a:lnTo>
                  <a:lnTo>
                    <a:pt x="32" y="1452"/>
                  </a:lnTo>
                  <a:lnTo>
                    <a:pt x="26" y="1471"/>
                  </a:lnTo>
                  <a:lnTo>
                    <a:pt x="23" y="1491"/>
                  </a:lnTo>
                  <a:lnTo>
                    <a:pt x="20" y="1510"/>
                  </a:lnTo>
                  <a:lnTo>
                    <a:pt x="19" y="1532"/>
                  </a:lnTo>
                  <a:lnTo>
                    <a:pt x="20" y="1553"/>
                  </a:lnTo>
                  <a:lnTo>
                    <a:pt x="23" y="1575"/>
                  </a:lnTo>
                  <a:lnTo>
                    <a:pt x="26" y="1597"/>
                  </a:lnTo>
                  <a:lnTo>
                    <a:pt x="28" y="1620"/>
                  </a:lnTo>
                  <a:lnTo>
                    <a:pt x="30" y="1641"/>
                  </a:lnTo>
                  <a:lnTo>
                    <a:pt x="28" y="1660"/>
                  </a:lnTo>
                  <a:lnTo>
                    <a:pt x="27" y="1680"/>
                  </a:lnTo>
                  <a:lnTo>
                    <a:pt x="26" y="1697"/>
                  </a:lnTo>
                  <a:lnTo>
                    <a:pt x="23" y="1713"/>
                  </a:lnTo>
                  <a:lnTo>
                    <a:pt x="20" y="1728"/>
                  </a:lnTo>
                  <a:lnTo>
                    <a:pt x="13" y="1753"/>
                  </a:lnTo>
                  <a:lnTo>
                    <a:pt x="8" y="1771"/>
                  </a:lnTo>
                  <a:lnTo>
                    <a:pt x="3" y="1783"/>
                  </a:lnTo>
                  <a:lnTo>
                    <a:pt x="0" y="1788"/>
                  </a:lnTo>
                  <a:lnTo>
                    <a:pt x="19" y="1789"/>
                  </a:lnTo>
                  <a:lnTo>
                    <a:pt x="68" y="1792"/>
                  </a:lnTo>
                  <a:lnTo>
                    <a:pt x="142" y="1797"/>
                  </a:lnTo>
                  <a:lnTo>
                    <a:pt x="230" y="1806"/>
                  </a:lnTo>
                  <a:lnTo>
                    <a:pt x="279" y="1810"/>
                  </a:lnTo>
                  <a:lnTo>
                    <a:pt x="329" y="1816"/>
                  </a:lnTo>
                  <a:lnTo>
                    <a:pt x="378" y="1822"/>
                  </a:lnTo>
                  <a:lnTo>
                    <a:pt x="428" y="1830"/>
                  </a:lnTo>
                  <a:lnTo>
                    <a:pt x="477" y="1837"/>
                  </a:lnTo>
                  <a:lnTo>
                    <a:pt x="522" y="1846"/>
                  </a:lnTo>
                  <a:lnTo>
                    <a:pt x="564" y="1855"/>
                  </a:lnTo>
                  <a:lnTo>
                    <a:pt x="602" y="1864"/>
                  </a:lnTo>
                  <a:lnTo>
                    <a:pt x="600" y="1900"/>
                  </a:lnTo>
                  <a:lnTo>
                    <a:pt x="596" y="1994"/>
                  </a:lnTo>
                  <a:lnTo>
                    <a:pt x="590" y="2131"/>
                  </a:lnTo>
                  <a:lnTo>
                    <a:pt x="585" y="2293"/>
                  </a:lnTo>
                  <a:lnTo>
                    <a:pt x="583" y="2378"/>
                  </a:lnTo>
                  <a:lnTo>
                    <a:pt x="582" y="2464"/>
                  </a:lnTo>
                  <a:lnTo>
                    <a:pt x="582" y="2547"/>
                  </a:lnTo>
                  <a:lnTo>
                    <a:pt x="583" y="2626"/>
                  </a:lnTo>
                  <a:lnTo>
                    <a:pt x="585" y="2698"/>
                  </a:lnTo>
                  <a:lnTo>
                    <a:pt x="589" y="2762"/>
                  </a:lnTo>
                  <a:lnTo>
                    <a:pt x="591" y="2790"/>
                  </a:lnTo>
                  <a:lnTo>
                    <a:pt x="595" y="2815"/>
                  </a:lnTo>
                  <a:lnTo>
                    <a:pt x="598" y="2837"/>
                  </a:lnTo>
                  <a:lnTo>
                    <a:pt x="602" y="2856"/>
                  </a:lnTo>
                  <a:lnTo>
                    <a:pt x="611" y="2895"/>
                  </a:lnTo>
                  <a:lnTo>
                    <a:pt x="620" y="2942"/>
                  </a:lnTo>
                  <a:lnTo>
                    <a:pt x="631" y="2997"/>
                  </a:lnTo>
                  <a:lnTo>
                    <a:pt x="643" y="3059"/>
                  </a:lnTo>
                  <a:lnTo>
                    <a:pt x="667" y="3194"/>
                  </a:lnTo>
                  <a:lnTo>
                    <a:pt x="692" y="3334"/>
                  </a:lnTo>
                  <a:lnTo>
                    <a:pt x="713" y="3465"/>
                  </a:lnTo>
                  <a:lnTo>
                    <a:pt x="731" y="3575"/>
                  </a:lnTo>
                  <a:lnTo>
                    <a:pt x="744" y="3651"/>
                  </a:lnTo>
                  <a:lnTo>
                    <a:pt x="748" y="3679"/>
                  </a:lnTo>
                  <a:lnTo>
                    <a:pt x="752" y="3680"/>
                  </a:lnTo>
                  <a:lnTo>
                    <a:pt x="764" y="3683"/>
                  </a:lnTo>
                  <a:lnTo>
                    <a:pt x="784" y="3687"/>
                  </a:lnTo>
                  <a:lnTo>
                    <a:pt x="808" y="3692"/>
                  </a:lnTo>
                  <a:lnTo>
                    <a:pt x="822" y="3694"/>
                  </a:lnTo>
                  <a:lnTo>
                    <a:pt x="837" y="3695"/>
                  </a:lnTo>
                  <a:lnTo>
                    <a:pt x="853" y="3696"/>
                  </a:lnTo>
                  <a:lnTo>
                    <a:pt x="869" y="3696"/>
                  </a:lnTo>
                  <a:lnTo>
                    <a:pt x="885" y="3696"/>
                  </a:lnTo>
                  <a:lnTo>
                    <a:pt x="901" y="3695"/>
                  </a:lnTo>
                  <a:lnTo>
                    <a:pt x="919" y="3692"/>
                  </a:lnTo>
                  <a:lnTo>
                    <a:pt x="936" y="3688"/>
                  </a:lnTo>
                  <a:lnTo>
                    <a:pt x="952" y="3685"/>
                  </a:lnTo>
                  <a:lnTo>
                    <a:pt x="967" y="3682"/>
                  </a:lnTo>
                  <a:lnTo>
                    <a:pt x="981" y="3681"/>
                  </a:lnTo>
                  <a:lnTo>
                    <a:pt x="994" y="3680"/>
                  </a:lnTo>
                  <a:lnTo>
                    <a:pt x="1006" y="3680"/>
                  </a:lnTo>
                  <a:lnTo>
                    <a:pt x="1017" y="3681"/>
                  </a:lnTo>
                  <a:lnTo>
                    <a:pt x="1027" y="3683"/>
                  </a:lnTo>
                  <a:lnTo>
                    <a:pt x="1035" y="3686"/>
                  </a:lnTo>
                  <a:lnTo>
                    <a:pt x="1043" y="3689"/>
                  </a:lnTo>
                  <a:lnTo>
                    <a:pt x="1050" y="3694"/>
                  </a:lnTo>
                  <a:lnTo>
                    <a:pt x="1056" y="3698"/>
                  </a:lnTo>
                  <a:lnTo>
                    <a:pt x="1060" y="3705"/>
                  </a:lnTo>
                  <a:lnTo>
                    <a:pt x="1064" y="3710"/>
                  </a:lnTo>
                  <a:lnTo>
                    <a:pt x="1067" y="3718"/>
                  </a:lnTo>
                  <a:lnTo>
                    <a:pt x="1069" y="3725"/>
                  </a:lnTo>
                  <a:lnTo>
                    <a:pt x="1069" y="3733"/>
                  </a:lnTo>
                  <a:lnTo>
                    <a:pt x="1070" y="3737"/>
                  </a:lnTo>
                  <a:lnTo>
                    <a:pt x="1071" y="3741"/>
                  </a:lnTo>
                  <a:lnTo>
                    <a:pt x="1073" y="3746"/>
                  </a:lnTo>
                  <a:lnTo>
                    <a:pt x="1076" y="3749"/>
                  </a:lnTo>
                  <a:lnTo>
                    <a:pt x="1086" y="3756"/>
                  </a:lnTo>
                  <a:lnTo>
                    <a:pt x="1098" y="3764"/>
                  </a:lnTo>
                  <a:lnTo>
                    <a:pt x="1112" y="3770"/>
                  </a:lnTo>
                  <a:lnTo>
                    <a:pt x="1129" y="3777"/>
                  </a:lnTo>
                  <a:lnTo>
                    <a:pt x="1147" y="3781"/>
                  </a:lnTo>
                  <a:lnTo>
                    <a:pt x="1166" y="3787"/>
                  </a:lnTo>
                  <a:lnTo>
                    <a:pt x="1187" y="3790"/>
                  </a:lnTo>
                  <a:lnTo>
                    <a:pt x="1207" y="3793"/>
                  </a:lnTo>
                  <a:lnTo>
                    <a:pt x="1228" y="3795"/>
                  </a:lnTo>
                  <a:lnTo>
                    <a:pt x="1247" y="3796"/>
                  </a:lnTo>
                  <a:lnTo>
                    <a:pt x="1266" y="3796"/>
                  </a:lnTo>
                  <a:lnTo>
                    <a:pt x="1284" y="3795"/>
                  </a:lnTo>
                  <a:lnTo>
                    <a:pt x="1300" y="3793"/>
                  </a:lnTo>
                  <a:lnTo>
                    <a:pt x="1314" y="3790"/>
                  </a:lnTo>
                  <a:lnTo>
                    <a:pt x="1339" y="3780"/>
                  </a:lnTo>
                  <a:lnTo>
                    <a:pt x="1366" y="3767"/>
                  </a:lnTo>
                  <a:lnTo>
                    <a:pt x="1394" y="3754"/>
                  </a:lnTo>
                  <a:lnTo>
                    <a:pt x="1423" y="3742"/>
                  </a:lnTo>
                  <a:lnTo>
                    <a:pt x="1437" y="3738"/>
                  </a:lnTo>
                  <a:lnTo>
                    <a:pt x="1452" y="3734"/>
                  </a:lnTo>
                  <a:lnTo>
                    <a:pt x="1468" y="3732"/>
                  </a:lnTo>
                  <a:lnTo>
                    <a:pt x="1484" y="3730"/>
                  </a:lnTo>
                  <a:lnTo>
                    <a:pt x="1500" y="3730"/>
                  </a:lnTo>
                  <a:lnTo>
                    <a:pt x="1516" y="3734"/>
                  </a:lnTo>
                  <a:lnTo>
                    <a:pt x="1532" y="3738"/>
                  </a:lnTo>
                  <a:lnTo>
                    <a:pt x="1548" y="3746"/>
                  </a:lnTo>
                  <a:lnTo>
                    <a:pt x="1559" y="3749"/>
                  </a:lnTo>
                  <a:lnTo>
                    <a:pt x="1573" y="3749"/>
                  </a:lnTo>
                  <a:lnTo>
                    <a:pt x="1591" y="3748"/>
                  </a:lnTo>
                  <a:lnTo>
                    <a:pt x="1612" y="3746"/>
                  </a:lnTo>
                  <a:lnTo>
                    <a:pt x="1636" y="3740"/>
                  </a:lnTo>
                  <a:lnTo>
                    <a:pt x="1663" y="3734"/>
                  </a:lnTo>
                  <a:lnTo>
                    <a:pt x="1692" y="3726"/>
                  </a:lnTo>
                  <a:lnTo>
                    <a:pt x="1723" y="3716"/>
                  </a:lnTo>
                  <a:lnTo>
                    <a:pt x="1791" y="3695"/>
                  </a:lnTo>
                  <a:lnTo>
                    <a:pt x="1865" y="3670"/>
                  </a:lnTo>
                  <a:lnTo>
                    <a:pt x="1943" y="3641"/>
                  </a:lnTo>
                  <a:lnTo>
                    <a:pt x="2020" y="3612"/>
                  </a:lnTo>
                  <a:lnTo>
                    <a:pt x="2172" y="3551"/>
                  </a:lnTo>
                  <a:lnTo>
                    <a:pt x="2301" y="3497"/>
                  </a:lnTo>
                  <a:lnTo>
                    <a:pt x="2392" y="3458"/>
                  </a:lnTo>
                  <a:lnTo>
                    <a:pt x="2427" y="3444"/>
                  </a:lnTo>
                  <a:lnTo>
                    <a:pt x="2433" y="3416"/>
                  </a:lnTo>
                  <a:lnTo>
                    <a:pt x="2452" y="3341"/>
                  </a:lnTo>
                  <a:lnTo>
                    <a:pt x="2477" y="3234"/>
                  </a:lnTo>
                  <a:lnTo>
                    <a:pt x="2509" y="3106"/>
                  </a:lnTo>
                  <a:lnTo>
                    <a:pt x="2541" y="2973"/>
                  </a:lnTo>
                  <a:lnTo>
                    <a:pt x="2573" y="2848"/>
                  </a:lnTo>
                  <a:lnTo>
                    <a:pt x="2598" y="2746"/>
                  </a:lnTo>
                  <a:lnTo>
                    <a:pt x="2617" y="2677"/>
                  </a:lnTo>
                  <a:lnTo>
                    <a:pt x="2628" y="2633"/>
                  </a:lnTo>
                  <a:lnTo>
                    <a:pt x="2637" y="2591"/>
                  </a:lnTo>
                  <a:lnTo>
                    <a:pt x="2645" y="2552"/>
                  </a:lnTo>
                  <a:lnTo>
                    <a:pt x="2651" y="2517"/>
                  </a:lnTo>
                  <a:lnTo>
                    <a:pt x="2656" y="2483"/>
                  </a:lnTo>
                  <a:lnTo>
                    <a:pt x="2659" y="2453"/>
                  </a:lnTo>
                  <a:lnTo>
                    <a:pt x="2661" y="2425"/>
                  </a:lnTo>
                  <a:lnTo>
                    <a:pt x="2661" y="2398"/>
                  </a:lnTo>
                  <a:lnTo>
                    <a:pt x="2663" y="2363"/>
                  </a:lnTo>
                  <a:lnTo>
                    <a:pt x="2669" y="2314"/>
                  </a:lnTo>
                  <a:lnTo>
                    <a:pt x="2677" y="2253"/>
                  </a:lnTo>
                  <a:lnTo>
                    <a:pt x="2687" y="2188"/>
                  </a:lnTo>
                  <a:lnTo>
                    <a:pt x="2699" y="2125"/>
                  </a:lnTo>
                  <a:lnTo>
                    <a:pt x="2712" y="2065"/>
                  </a:lnTo>
                  <a:lnTo>
                    <a:pt x="2718" y="2040"/>
                  </a:lnTo>
                  <a:lnTo>
                    <a:pt x="2725" y="2019"/>
                  </a:lnTo>
                  <a:lnTo>
                    <a:pt x="2731" y="2000"/>
                  </a:lnTo>
                  <a:lnTo>
                    <a:pt x="2738" y="1987"/>
                  </a:lnTo>
                  <a:lnTo>
                    <a:pt x="2744" y="1975"/>
                  </a:lnTo>
                  <a:lnTo>
                    <a:pt x="2750" y="1963"/>
                  </a:lnTo>
                  <a:lnTo>
                    <a:pt x="2754" y="1946"/>
                  </a:lnTo>
                  <a:lnTo>
                    <a:pt x="2758" y="1929"/>
                  </a:lnTo>
                  <a:lnTo>
                    <a:pt x="2764" y="1892"/>
                  </a:lnTo>
                  <a:lnTo>
                    <a:pt x="2768" y="1856"/>
                  </a:lnTo>
                  <a:lnTo>
                    <a:pt x="2770" y="1821"/>
                  </a:lnTo>
                  <a:lnTo>
                    <a:pt x="2772" y="1792"/>
                  </a:lnTo>
                  <a:lnTo>
                    <a:pt x="2772" y="1772"/>
                  </a:lnTo>
                  <a:lnTo>
                    <a:pt x="2772" y="1765"/>
                  </a:lnTo>
                  <a:lnTo>
                    <a:pt x="2861" y="1931"/>
                  </a:lnTo>
                  <a:lnTo>
                    <a:pt x="2867" y="1924"/>
                  </a:lnTo>
                  <a:lnTo>
                    <a:pt x="2886" y="1904"/>
                  </a:lnTo>
                  <a:lnTo>
                    <a:pt x="2914" y="1874"/>
                  </a:lnTo>
                  <a:lnTo>
                    <a:pt x="2953" y="1837"/>
                  </a:lnTo>
                  <a:lnTo>
                    <a:pt x="2977" y="1817"/>
                  </a:lnTo>
                  <a:lnTo>
                    <a:pt x="3001" y="1796"/>
                  </a:lnTo>
                  <a:lnTo>
                    <a:pt x="3029" y="1775"/>
                  </a:lnTo>
                  <a:lnTo>
                    <a:pt x="3059" y="1754"/>
                  </a:lnTo>
                  <a:lnTo>
                    <a:pt x="3090" y="1732"/>
                  </a:lnTo>
                  <a:lnTo>
                    <a:pt x="3123" y="1713"/>
                  </a:lnTo>
                  <a:lnTo>
                    <a:pt x="3158" y="1694"/>
                  </a:lnTo>
                  <a:lnTo>
                    <a:pt x="3195" y="1676"/>
                  </a:lnTo>
                  <a:lnTo>
                    <a:pt x="3231" y="1661"/>
                  </a:lnTo>
                  <a:lnTo>
                    <a:pt x="3266" y="1648"/>
                  </a:lnTo>
                  <a:lnTo>
                    <a:pt x="3298" y="1639"/>
                  </a:lnTo>
                  <a:lnTo>
                    <a:pt x="3329" y="1630"/>
                  </a:lnTo>
                  <a:lnTo>
                    <a:pt x="3356" y="1623"/>
                  </a:lnTo>
                  <a:lnTo>
                    <a:pt x="3382" y="1619"/>
                  </a:lnTo>
                  <a:lnTo>
                    <a:pt x="3405" y="1616"/>
                  </a:lnTo>
                  <a:lnTo>
                    <a:pt x="3426" y="1615"/>
                  </a:lnTo>
                  <a:lnTo>
                    <a:pt x="3444" y="1614"/>
                  </a:lnTo>
                  <a:lnTo>
                    <a:pt x="3460" y="1614"/>
                  </a:lnTo>
                  <a:lnTo>
                    <a:pt x="3475" y="1615"/>
                  </a:lnTo>
                  <a:lnTo>
                    <a:pt x="3486" y="1616"/>
                  </a:lnTo>
                  <a:lnTo>
                    <a:pt x="3502" y="1618"/>
                  </a:lnTo>
                  <a:lnTo>
                    <a:pt x="3507" y="1619"/>
                  </a:lnTo>
                  <a:lnTo>
                    <a:pt x="3502" y="1608"/>
                  </a:lnTo>
                  <a:lnTo>
                    <a:pt x="3489" y="1578"/>
                  </a:lnTo>
                  <a:lnTo>
                    <a:pt x="3470" y="1533"/>
                  </a:lnTo>
                  <a:lnTo>
                    <a:pt x="3446" y="1479"/>
                  </a:lnTo>
                  <a:lnTo>
                    <a:pt x="3423" y="1418"/>
                  </a:lnTo>
                  <a:lnTo>
                    <a:pt x="3398" y="1358"/>
                  </a:lnTo>
                  <a:lnTo>
                    <a:pt x="3377" y="1302"/>
                  </a:lnTo>
                  <a:lnTo>
                    <a:pt x="3361" y="1254"/>
                  </a:lnTo>
                  <a:lnTo>
                    <a:pt x="3344" y="1200"/>
                  </a:lnTo>
                  <a:lnTo>
                    <a:pt x="3319" y="1126"/>
                  </a:lnTo>
                  <a:lnTo>
                    <a:pt x="3287" y="1039"/>
                  </a:lnTo>
                  <a:lnTo>
                    <a:pt x="3252" y="947"/>
                  </a:lnTo>
                  <a:lnTo>
                    <a:pt x="3233" y="902"/>
                  </a:lnTo>
                  <a:lnTo>
                    <a:pt x="3214" y="859"/>
                  </a:lnTo>
                  <a:lnTo>
                    <a:pt x="3196" y="817"/>
                  </a:lnTo>
                  <a:lnTo>
                    <a:pt x="3177" y="778"/>
                  </a:lnTo>
                  <a:lnTo>
                    <a:pt x="3160" y="744"/>
                  </a:lnTo>
                  <a:lnTo>
                    <a:pt x="3144" y="715"/>
                  </a:lnTo>
                  <a:lnTo>
                    <a:pt x="3136" y="702"/>
                  </a:lnTo>
                  <a:lnTo>
                    <a:pt x="3130" y="691"/>
                  </a:lnTo>
                  <a:lnTo>
                    <a:pt x="3122" y="683"/>
                  </a:lnTo>
                  <a:lnTo>
                    <a:pt x="3116" y="675"/>
                  </a:lnTo>
                  <a:lnTo>
                    <a:pt x="3088" y="645"/>
                  </a:lnTo>
                  <a:lnTo>
                    <a:pt x="3052" y="606"/>
                  </a:lnTo>
                  <a:lnTo>
                    <a:pt x="3011" y="561"/>
                  </a:lnTo>
                  <a:lnTo>
                    <a:pt x="2965" y="513"/>
                  </a:lnTo>
                  <a:lnTo>
                    <a:pt x="2940" y="489"/>
                  </a:lnTo>
                  <a:lnTo>
                    <a:pt x="2914" y="466"/>
                  </a:lnTo>
                  <a:lnTo>
                    <a:pt x="2887" y="443"/>
                  </a:lnTo>
                  <a:lnTo>
                    <a:pt x="2859" y="421"/>
                  </a:lnTo>
                  <a:lnTo>
                    <a:pt x="2830" y="401"/>
                  </a:lnTo>
                  <a:lnTo>
                    <a:pt x="2799" y="381"/>
                  </a:lnTo>
                  <a:lnTo>
                    <a:pt x="2784" y="374"/>
                  </a:lnTo>
                  <a:lnTo>
                    <a:pt x="2769" y="365"/>
                  </a:lnTo>
                  <a:lnTo>
                    <a:pt x="2754" y="358"/>
                  </a:lnTo>
                  <a:lnTo>
                    <a:pt x="2738" y="351"/>
                  </a:lnTo>
                  <a:lnTo>
                    <a:pt x="2676" y="326"/>
                  </a:lnTo>
                  <a:lnTo>
                    <a:pt x="2618" y="300"/>
                  </a:lnTo>
                  <a:lnTo>
                    <a:pt x="2562" y="274"/>
                  </a:lnTo>
                  <a:lnTo>
                    <a:pt x="2509" y="251"/>
                  </a:lnTo>
                  <a:lnTo>
                    <a:pt x="2459" y="227"/>
                  </a:lnTo>
                  <a:lnTo>
                    <a:pt x="2414" y="206"/>
                  </a:lnTo>
                  <a:lnTo>
                    <a:pt x="2374" y="188"/>
                  </a:lnTo>
                  <a:lnTo>
                    <a:pt x="2337" y="174"/>
                  </a:lnTo>
                  <a:lnTo>
                    <a:pt x="2312" y="165"/>
                  </a:lnTo>
                  <a:lnTo>
                    <a:pt x="2273" y="155"/>
                  </a:lnTo>
                  <a:lnTo>
                    <a:pt x="2220" y="141"/>
                  </a:lnTo>
                  <a:lnTo>
                    <a:pt x="2158" y="124"/>
                  </a:lnTo>
                  <a:lnTo>
                    <a:pt x="2086" y="108"/>
                  </a:lnTo>
                  <a:lnTo>
                    <a:pt x="2008" y="90"/>
                  </a:lnTo>
                  <a:lnTo>
                    <a:pt x="1925" y="73"/>
                  </a:lnTo>
                  <a:lnTo>
                    <a:pt x="1841" y="55"/>
                  </a:lnTo>
                  <a:lnTo>
                    <a:pt x="1757" y="39"/>
                  </a:lnTo>
                  <a:lnTo>
                    <a:pt x="1674" y="25"/>
                  </a:lnTo>
                  <a:lnTo>
                    <a:pt x="1634" y="19"/>
                  </a:lnTo>
                  <a:lnTo>
                    <a:pt x="1595" y="13"/>
                  </a:lnTo>
                  <a:lnTo>
                    <a:pt x="1558" y="9"/>
                  </a:lnTo>
                  <a:lnTo>
                    <a:pt x="1522" y="6"/>
                  </a:lnTo>
                  <a:lnTo>
                    <a:pt x="1489" y="2"/>
                  </a:lnTo>
                  <a:lnTo>
                    <a:pt x="1459" y="1"/>
                  </a:lnTo>
                  <a:lnTo>
                    <a:pt x="1430" y="0"/>
                  </a:lnTo>
                  <a:lnTo>
                    <a:pt x="1405" y="1"/>
                  </a:lnTo>
                  <a:lnTo>
                    <a:pt x="1382" y="3"/>
                  </a:lnTo>
                  <a:lnTo>
                    <a:pt x="1363" y="7"/>
                  </a:lnTo>
                  <a:lnTo>
                    <a:pt x="1347" y="11"/>
                  </a:lnTo>
                  <a:lnTo>
                    <a:pt x="1336" y="17"/>
                  </a:lnTo>
                  <a:close/>
                </a:path>
              </a:pathLst>
            </a:custGeom>
            <a:solidFill>
              <a:srgbClr val="6398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168880" y="2214720"/>
              <a:ext cx="1112760" cy="1204920"/>
            </a:xfrm>
            <a:custGeom>
              <a:avLst/>
              <a:gdLst/>
              <a:ahLst/>
              <a:rect l="l" t="t" r="r" b="b"/>
              <a:pathLst>
                <a:path w="3507" h="3796">
                  <a:moveTo>
                    <a:pt x="1336" y="17"/>
                  </a:moveTo>
                  <a:lnTo>
                    <a:pt x="1325" y="23"/>
                  </a:lnTo>
                  <a:lnTo>
                    <a:pt x="1296" y="38"/>
                  </a:lnTo>
                  <a:lnTo>
                    <a:pt x="1254" y="60"/>
                  </a:lnTo>
                  <a:lnTo>
                    <a:pt x="1202" y="87"/>
                  </a:lnTo>
                  <a:lnTo>
                    <a:pt x="1144" y="116"/>
                  </a:lnTo>
                  <a:lnTo>
                    <a:pt x="1088" y="145"/>
                  </a:lnTo>
                  <a:lnTo>
                    <a:pt x="1035" y="173"/>
                  </a:lnTo>
                  <a:lnTo>
                    <a:pt x="992" y="196"/>
                  </a:lnTo>
                  <a:lnTo>
                    <a:pt x="947" y="220"/>
                  </a:lnTo>
                  <a:lnTo>
                    <a:pt x="887" y="251"/>
                  </a:lnTo>
                  <a:lnTo>
                    <a:pt x="820" y="284"/>
                  </a:lnTo>
                  <a:lnTo>
                    <a:pt x="749" y="319"/>
                  </a:lnTo>
                  <a:lnTo>
                    <a:pt x="680" y="354"/>
                  </a:lnTo>
                  <a:lnTo>
                    <a:pt x="616" y="387"/>
                  </a:lnTo>
                  <a:lnTo>
                    <a:pt x="588" y="403"/>
                  </a:lnTo>
                  <a:lnTo>
                    <a:pt x="563" y="417"/>
                  </a:lnTo>
                  <a:lnTo>
                    <a:pt x="542" y="429"/>
                  </a:lnTo>
                  <a:lnTo>
                    <a:pt x="525" y="441"/>
                  </a:lnTo>
                  <a:lnTo>
                    <a:pt x="492" y="465"/>
                  </a:lnTo>
                  <a:lnTo>
                    <a:pt x="452" y="496"/>
                  </a:lnTo>
                  <a:lnTo>
                    <a:pt x="430" y="515"/>
                  </a:lnTo>
                  <a:lnTo>
                    <a:pt x="408" y="536"/>
                  </a:lnTo>
                  <a:lnTo>
                    <a:pt x="385" y="559"/>
                  </a:lnTo>
                  <a:lnTo>
                    <a:pt x="362" y="583"/>
                  </a:lnTo>
                  <a:lnTo>
                    <a:pt x="339" y="610"/>
                  </a:lnTo>
                  <a:lnTo>
                    <a:pt x="315" y="640"/>
                  </a:lnTo>
                  <a:lnTo>
                    <a:pt x="292" y="672"/>
                  </a:lnTo>
                  <a:lnTo>
                    <a:pt x="269" y="708"/>
                  </a:lnTo>
                  <a:lnTo>
                    <a:pt x="259" y="726"/>
                  </a:lnTo>
                  <a:lnTo>
                    <a:pt x="248" y="744"/>
                  </a:lnTo>
                  <a:lnTo>
                    <a:pt x="238" y="765"/>
                  </a:lnTo>
                  <a:lnTo>
                    <a:pt x="228" y="785"/>
                  </a:lnTo>
                  <a:lnTo>
                    <a:pt x="219" y="807"/>
                  </a:lnTo>
                  <a:lnTo>
                    <a:pt x="209" y="829"/>
                  </a:lnTo>
                  <a:lnTo>
                    <a:pt x="200" y="852"/>
                  </a:lnTo>
                  <a:lnTo>
                    <a:pt x="192" y="876"/>
                  </a:lnTo>
                  <a:lnTo>
                    <a:pt x="161" y="965"/>
                  </a:lnTo>
                  <a:lnTo>
                    <a:pt x="137" y="1039"/>
                  </a:lnTo>
                  <a:lnTo>
                    <a:pt x="117" y="1104"/>
                  </a:lnTo>
                  <a:lnTo>
                    <a:pt x="102" y="1157"/>
                  </a:lnTo>
                  <a:lnTo>
                    <a:pt x="92" y="1202"/>
                  </a:lnTo>
                  <a:lnTo>
                    <a:pt x="85" y="1240"/>
                  </a:lnTo>
                  <a:lnTo>
                    <a:pt x="82" y="1256"/>
                  </a:lnTo>
                  <a:lnTo>
                    <a:pt x="81" y="1271"/>
                  </a:lnTo>
                  <a:lnTo>
                    <a:pt x="80" y="1285"/>
                  </a:lnTo>
                  <a:lnTo>
                    <a:pt x="80" y="1298"/>
                  </a:lnTo>
                  <a:lnTo>
                    <a:pt x="79" y="1311"/>
                  </a:lnTo>
                  <a:lnTo>
                    <a:pt x="77" y="1324"/>
                  </a:lnTo>
                  <a:lnTo>
                    <a:pt x="73" y="1338"/>
                  </a:lnTo>
                  <a:lnTo>
                    <a:pt x="68" y="1352"/>
                  </a:lnTo>
                  <a:lnTo>
                    <a:pt x="57" y="1384"/>
                  </a:lnTo>
                  <a:lnTo>
                    <a:pt x="44" y="1416"/>
                  </a:lnTo>
                  <a:lnTo>
                    <a:pt x="37" y="1433"/>
                  </a:lnTo>
                  <a:lnTo>
                    <a:pt x="32" y="1452"/>
                  </a:lnTo>
                  <a:lnTo>
                    <a:pt x="26" y="1471"/>
                  </a:lnTo>
                  <a:lnTo>
                    <a:pt x="23" y="1491"/>
                  </a:lnTo>
                  <a:lnTo>
                    <a:pt x="20" y="1510"/>
                  </a:lnTo>
                  <a:lnTo>
                    <a:pt x="19" y="1532"/>
                  </a:lnTo>
                  <a:lnTo>
                    <a:pt x="20" y="1553"/>
                  </a:lnTo>
                  <a:lnTo>
                    <a:pt x="23" y="1575"/>
                  </a:lnTo>
                  <a:lnTo>
                    <a:pt x="26" y="1597"/>
                  </a:lnTo>
                  <a:lnTo>
                    <a:pt x="28" y="1620"/>
                  </a:lnTo>
                  <a:lnTo>
                    <a:pt x="30" y="1641"/>
                  </a:lnTo>
                  <a:lnTo>
                    <a:pt x="28" y="1660"/>
                  </a:lnTo>
                  <a:lnTo>
                    <a:pt x="27" y="1680"/>
                  </a:lnTo>
                  <a:lnTo>
                    <a:pt x="26" y="1697"/>
                  </a:lnTo>
                  <a:lnTo>
                    <a:pt x="23" y="1713"/>
                  </a:lnTo>
                  <a:lnTo>
                    <a:pt x="20" y="1728"/>
                  </a:lnTo>
                  <a:lnTo>
                    <a:pt x="13" y="1753"/>
                  </a:lnTo>
                  <a:lnTo>
                    <a:pt x="8" y="1771"/>
                  </a:lnTo>
                  <a:lnTo>
                    <a:pt x="3" y="1783"/>
                  </a:lnTo>
                  <a:lnTo>
                    <a:pt x="0" y="1788"/>
                  </a:lnTo>
                  <a:lnTo>
                    <a:pt x="19" y="1789"/>
                  </a:lnTo>
                  <a:lnTo>
                    <a:pt x="68" y="1792"/>
                  </a:lnTo>
                  <a:lnTo>
                    <a:pt x="142" y="1797"/>
                  </a:lnTo>
                  <a:lnTo>
                    <a:pt x="230" y="1806"/>
                  </a:lnTo>
                  <a:lnTo>
                    <a:pt x="279" y="1810"/>
                  </a:lnTo>
                  <a:lnTo>
                    <a:pt x="329" y="1816"/>
                  </a:lnTo>
                  <a:lnTo>
                    <a:pt x="378" y="1822"/>
                  </a:lnTo>
                  <a:lnTo>
                    <a:pt x="428" y="1830"/>
                  </a:lnTo>
                  <a:lnTo>
                    <a:pt x="477" y="1837"/>
                  </a:lnTo>
                  <a:lnTo>
                    <a:pt x="522" y="1846"/>
                  </a:lnTo>
                  <a:lnTo>
                    <a:pt x="564" y="1855"/>
                  </a:lnTo>
                  <a:lnTo>
                    <a:pt x="602" y="1864"/>
                  </a:lnTo>
                  <a:lnTo>
                    <a:pt x="600" y="1900"/>
                  </a:lnTo>
                  <a:lnTo>
                    <a:pt x="596" y="1994"/>
                  </a:lnTo>
                  <a:lnTo>
                    <a:pt x="590" y="2131"/>
                  </a:lnTo>
                  <a:lnTo>
                    <a:pt x="585" y="2293"/>
                  </a:lnTo>
                  <a:lnTo>
                    <a:pt x="583" y="2378"/>
                  </a:lnTo>
                  <a:lnTo>
                    <a:pt x="582" y="2464"/>
                  </a:lnTo>
                  <a:lnTo>
                    <a:pt x="582" y="2547"/>
                  </a:lnTo>
                  <a:lnTo>
                    <a:pt x="583" y="2626"/>
                  </a:lnTo>
                  <a:lnTo>
                    <a:pt x="585" y="2698"/>
                  </a:lnTo>
                  <a:lnTo>
                    <a:pt x="589" y="2762"/>
                  </a:lnTo>
                  <a:lnTo>
                    <a:pt x="591" y="2790"/>
                  </a:lnTo>
                  <a:lnTo>
                    <a:pt x="595" y="2815"/>
                  </a:lnTo>
                  <a:lnTo>
                    <a:pt x="598" y="2837"/>
                  </a:lnTo>
                  <a:lnTo>
                    <a:pt x="602" y="2856"/>
                  </a:lnTo>
                  <a:lnTo>
                    <a:pt x="611" y="2895"/>
                  </a:lnTo>
                  <a:lnTo>
                    <a:pt x="620" y="2942"/>
                  </a:lnTo>
                  <a:lnTo>
                    <a:pt x="631" y="2997"/>
                  </a:lnTo>
                  <a:lnTo>
                    <a:pt x="643" y="3059"/>
                  </a:lnTo>
                  <a:lnTo>
                    <a:pt x="667" y="3194"/>
                  </a:lnTo>
                  <a:lnTo>
                    <a:pt x="692" y="3334"/>
                  </a:lnTo>
                  <a:lnTo>
                    <a:pt x="713" y="3465"/>
                  </a:lnTo>
                  <a:lnTo>
                    <a:pt x="731" y="3575"/>
                  </a:lnTo>
                  <a:lnTo>
                    <a:pt x="744" y="3651"/>
                  </a:lnTo>
                  <a:lnTo>
                    <a:pt x="748" y="3679"/>
                  </a:lnTo>
                  <a:lnTo>
                    <a:pt x="752" y="3680"/>
                  </a:lnTo>
                  <a:lnTo>
                    <a:pt x="764" y="3683"/>
                  </a:lnTo>
                  <a:lnTo>
                    <a:pt x="784" y="3687"/>
                  </a:lnTo>
                  <a:lnTo>
                    <a:pt x="808" y="3692"/>
                  </a:lnTo>
                  <a:lnTo>
                    <a:pt x="822" y="3694"/>
                  </a:lnTo>
                  <a:lnTo>
                    <a:pt x="837" y="3695"/>
                  </a:lnTo>
                  <a:lnTo>
                    <a:pt x="853" y="3696"/>
                  </a:lnTo>
                  <a:lnTo>
                    <a:pt x="869" y="3696"/>
                  </a:lnTo>
                  <a:lnTo>
                    <a:pt x="885" y="3696"/>
                  </a:lnTo>
                  <a:lnTo>
                    <a:pt x="901" y="3695"/>
                  </a:lnTo>
                  <a:lnTo>
                    <a:pt x="919" y="3692"/>
                  </a:lnTo>
                  <a:lnTo>
                    <a:pt x="936" y="3688"/>
                  </a:lnTo>
                  <a:lnTo>
                    <a:pt x="952" y="3685"/>
                  </a:lnTo>
                  <a:lnTo>
                    <a:pt x="967" y="3682"/>
                  </a:lnTo>
                  <a:lnTo>
                    <a:pt x="981" y="3681"/>
                  </a:lnTo>
                  <a:lnTo>
                    <a:pt x="994" y="3680"/>
                  </a:lnTo>
                  <a:lnTo>
                    <a:pt x="1006" y="3680"/>
                  </a:lnTo>
                  <a:lnTo>
                    <a:pt x="1017" y="3681"/>
                  </a:lnTo>
                  <a:lnTo>
                    <a:pt x="1027" y="3683"/>
                  </a:lnTo>
                  <a:lnTo>
                    <a:pt x="1035" y="3686"/>
                  </a:lnTo>
                  <a:lnTo>
                    <a:pt x="1043" y="3689"/>
                  </a:lnTo>
                  <a:lnTo>
                    <a:pt x="1050" y="3694"/>
                  </a:lnTo>
                  <a:lnTo>
                    <a:pt x="1056" y="3698"/>
                  </a:lnTo>
                  <a:lnTo>
                    <a:pt x="1060" y="3705"/>
                  </a:lnTo>
                  <a:lnTo>
                    <a:pt x="1064" y="3710"/>
                  </a:lnTo>
                  <a:lnTo>
                    <a:pt x="1067" y="3718"/>
                  </a:lnTo>
                  <a:lnTo>
                    <a:pt x="1069" y="3725"/>
                  </a:lnTo>
                  <a:lnTo>
                    <a:pt x="1069" y="3733"/>
                  </a:lnTo>
                  <a:lnTo>
                    <a:pt x="1070" y="3737"/>
                  </a:lnTo>
                  <a:lnTo>
                    <a:pt x="1071" y="3741"/>
                  </a:lnTo>
                  <a:lnTo>
                    <a:pt x="1073" y="3746"/>
                  </a:lnTo>
                  <a:lnTo>
                    <a:pt x="1076" y="3749"/>
                  </a:lnTo>
                  <a:lnTo>
                    <a:pt x="1086" y="3756"/>
                  </a:lnTo>
                  <a:lnTo>
                    <a:pt x="1098" y="3764"/>
                  </a:lnTo>
                  <a:lnTo>
                    <a:pt x="1112" y="3770"/>
                  </a:lnTo>
                  <a:lnTo>
                    <a:pt x="1129" y="3777"/>
                  </a:lnTo>
                  <a:lnTo>
                    <a:pt x="1147" y="3781"/>
                  </a:lnTo>
                  <a:lnTo>
                    <a:pt x="1166" y="3787"/>
                  </a:lnTo>
                  <a:lnTo>
                    <a:pt x="1187" y="3790"/>
                  </a:lnTo>
                  <a:lnTo>
                    <a:pt x="1207" y="3793"/>
                  </a:lnTo>
                  <a:lnTo>
                    <a:pt x="1228" y="3795"/>
                  </a:lnTo>
                  <a:lnTo>
                    <a:pt x="1247" y="3796"/>
                  </a:lnTo>
                  <a:lnTo>
                    <a:pt x="1266" y="3796"/>
                  </a:lnTo>
                  <a:lnTo>
                    <a:pt x="1284" y="3795"/>
                  </a:lnTo>
                  <a:lnTo>
                    <a:pt x="1300" y="3793"/>
                  </a:lnTo>
                  <a:lnTo>
                    <a:pt x="1314" y="3790"/>
                  </a:lnTo>
                  <a:lnTo>
                    <a:pt x="1339" y="3780"/>
                  </a:lnTo>
                  <a:lnTo>
                    <a:pt x="1366" y="3767"/>
                  </a:lnTo>
                  <a:lnTo>
                    <a:pt x="1394" y="3754"/>
                  </a:lnTo>
                  <a:lnTo>
                    <a:pt x="1423" y="3742"/>
                  </a:lnTo>
                  <a:lnTo>
                    <a:pt x="1437" y="3738"/>
                  </a:lnTo>
                  <a:lnTo>
                    <a:pt x="1452" y="3734"/>
                  </a:lnTo>
                  <a:lnTo>
                    <a:pt x="1468" y="3732"/>
                  </a:lnTo>
                  <a:lnTo>
                    <a:pt x="1484" y="3730"/>
                  </a:lnTo>
                  <a:lnTo>
                    <a:pt x="1500" y="3730"/>
                  </a:lnTo>
                  <a:lnTo>
                    <a:pt x="1516" y="3734"/>
                  </a:lnTo>
                  <a:lnTo>
                    <a:pt x="1532" y="3738"/>
                  </a:lnTo>
                  <a:lnTo>
                    <a:pt x="1548" y="3746"/>
                  </a:lnTo>
                  <a:lnTo>
                    <a:pt x="1559" y="3749"/>
                  </a:lnTo>
                  <a:lnTo>
                    <a:pt x="1573" y="3749"/>
                  </a:lnTo>
                  <a:lnTo>
                    <a:pt x="1591" y="3748"/>
                  </a:lnTo>
                  <a:lnTo>
                    <a:pt x="1612" y="3746"/>
                  </a:lnTo>
                  <a:lnTo>
                    <a:pt x="1636" y="3740"/>
                  </a:lnTo>
                  <a:lnTo>
                    <a:pt x="1663" y="3734"/>
                  </a:lnTo>
                  <a:lnTo>
                    <a:pt x="1692" y="3726"/>
                  </a:lnTo>
                  <a:lnTo>
                    <a:pt x="1723" y="3716"/>
                  </a:lnTo>
                  <a:lnTo>
                    <a:pt x="1791" y="3695"/>
                  </a:lnTo>
                  <a:lnTo>
                    <a:pt x="1865" y="3670"/>
                  </a:lnTo>
                  <a:lnTo>
                    <a:pt x="1943" y="3641"/>
                  </a:lnTo>
                  <a:lnTo>
                    <a:pt x="2020" y="3612"/>
                  </a:lnTo>
                  <a:lnTo>
                    <a:pt x="2172" y="3551"/>
                  </a:lnTo>
                  <a:lnTo>
                    <a:pt x="2301" y="3497"/>
                  </a:lnTo>
                  <a:lnTo>
                    <a:pt x="2392" y="3458"/>
                  </a:lnTo>
                  <a:lnTo>
                    <a:pt x="2427" y="3444"/>
                  </a:lnTo>
                  <a:lnTo>
                    <a:pt x="2433" y="3416"/>
                  </a:lnTo>
                  <a:lnTo>
                    <a:pt x="2452" y="3341"/>
                  </a:lnTo>
                  <a:lnTo>
                    <a:pt x="2477" y="3234"/>
                  </a:lnTo>
                  <a:lnTo>
                    <a:pt x="2509" y="3106"/>
                  </a:lnTo>
                  <a:lnTo>
                    <a:pt x="2541" y="2973"/>
                  </a:lnTo>
                  <a:lnTo>
                    <a:pt x="2573" y="2848"/>
                  </a:lnTo>
                  <a:lnTo>
                    <a:pt x="2598" y="2746"/>
                  </a:lnTo>
                  <a:lnTo>
                    <a:pt x="2617" y="2677"/>
                  </a:lnTo>
                  <a:lnTo>
                    <a:pt x="2628" y="2633"/>
                  </a:lnTo>
                  <a:lnTo>
                    <a:pt x="2637" y="2591"/>
                  </a:lnTo>
                  <a:lnTo>
                    <a:pt x="2645" y="2552"/>
                  </a:lnTo>
                  <a:lnTo>
                    <a:pt x="2651" y="2517"/>
                  </a:lnTo>
                  <a:lnTo>
                    <a:pt x="2656" y="2483"/>
                  </a:lnTo>
                  <a:lnTo>
                    <a:pt x="2659" y="2453"/>
                  </a:lnTo>
                  <a:lnTo>
                    <a:pt x="2661" y="2425"/>
                  </a:lnTo>
                  <a:lnTo>
                    <a:pt x="2661" y="2398"/>
                  </a:lnTo>
                  <a:lnTo>
                    <a:pt x="2663" y="2363"/>
                  </a:lnTo>
                  <a:lnTo>
                    <a:pt x="2669" y="2314"/>
                  </a:lnTo>
                  <a:lnTo>
                    <a:pt x="2677" y="2253"/>
                  </a:lnTo>
                  <a:lnTo>
                    <a:pt x="2687" y="2188"/>
                  </a:lnTo>
                  <a:lnTo>
                    <a:pt x="2699" y="2125"/>
                  </a:lnTo>
                  <a:lnTo>
                    <a:pt x="2712" y="2065"/>
                  </a:lnTo>
                  <a:lnTo>
                    <a:pt x="2718" y="2040"/>
                  </a:lnTo>
                  <a:lnTo>
                    <a:pt x="2725" y="2019"/>
                  </a:lnTo>
                  <a:lnTo>
                    <a:pt x="2731" y="2000"/>
                  </a:lnTo>
                  <a:lnTo>
                    <a:pt x="2738" y="1987"/>
                  </a:lnTo>
                  <a:lnTo>
                    <a:pt x="2744" y="1975"/>
                  </a:lnTo>
                  <a:lnTo>
                    <a:pt x="2750" y="1963"/>
                  </a:lnTo>
                  <a:lnTo>
                    <a:pt x="2754" y="1946"/>
                  </a:lnTo>
                  <a:lnTo>
                    <a:pt x="2758" y="1929"/>
                  </a:lnTo>
                  <a:lnTo>
                    <a:pt x="2764" y="1892"/>
                  </a:lnTo>
                  <a:lnTo>
                    <a:pt x="2768" y="1856"/>
                  </a:lnTo>
                  <a:lnTo>
                    <a:pt x="2770" y="1821"/>
                  </a:lnTo>
                  <a:lnTo>
                    <a:pt x="2772" y="1792"/>
                  </a:lnTo>
                  <a:lnTo>
                    <a:pt x="2772" y="1772"/>
                  </a:lnTo>
                  <a:lnTo>
                    <a:pt x="2772" y="1765"/>
                  </a:lnTo>
                  <a:lnTo>
                    <a:pt x="2861" y="1931"/>
                  </a:lnTo>
                  <a:lnTo>
                    <a:pt x="2867" y="1924"/>
                  </a:lnTo>
                  <a:lnTo>
                    <a:pt x="2886" y="1904"/>
                  </a:lnTo>
                  <a:lnTo>
                    <a:pt x="2914" y="1874"/>
                  </a:lnTo>
                  <a:lnTo>
                    <a:pt x="2953" y="1837"/>
                  </a:lnTo>
                  <a:lnTo>
                    <a:pt x="2977" y="1817"/>
                  </a:lnTo>
                  <a:lnTo>
                    <a:pt x="3001" y="1796"/>
                  </a:lnTo>
                  <a:lnTo>
                    <a:pt x="3029" y="1775"/>
                  </a:lnTo>
                  <a:lnTo>
                    <a:pt x="3059" y="1754"/>
                  </a:lnTo>
                  <a:lnTo>
                    <a:pt x="3090" y="1732"/>
                  </a:lnTo>
                  <a:lnTo>
                    <a:pt x="3123" y="1713"/>
                  </a:lnTo>
                  <a:lnTo>
                    <a:pt x="3158" y="1694"/>
                  </a:lnTo>
                  <a:lnTo>
                    <a:pt x="3195" y="1676"/>
                  </a:lnTo>
                  <a:lnTo>
                    <a:pt x="3231" y="1661"/>
                  </a:lnTo>
                  <a:lnTo>
                    <a:pt x="3266" y="1648"/>
                  </a:lnTo>
                  <a:lnTo>
                    <a:pt x="3298" y="1639"/>
                  </a:lnTo>
                  <a:lnTo>
                    <a:pt x="3329" y="1630"/>
                  </a:lnTo>
                  <a:lnTo>
                    <a:pt x="3356" y="1623"/>
                  </a:lnTo>
                  <a:lnTo>
                    <a:pt x="3382" y="1619"/>
                  </a:lnTo>
                  <a:lnTo>
                    <a:pt x="3405" y="1616"/>
                  </a:lnTo>
                  <a:lnTo>
                    <a:pt x="3426" y="1615"/>
                  </a:lnTo>
                  <a:lnTo>
                    <a:pt x="3444" y="1614"/>
                  </a:lnTo>
                  <a:lnTo>
                    <a:pt x="3460" y="1614"/>
                  </a:lnTo>
                  <a:lnTo>
                    <a:pt x="3475" y="1615"/>
                  </a:lnTo>
                  <a:lnTo>
                    <a:pt x="3486" y="1616"/>
                  </a:lnTo>
                  <a:lnTo>
                    <a:pt x="3502" y="1618"/>
                  </a:lnTo>
                  <a:lnTo>
                    <a:pt x="3507" y="1619"/>
                  </a:lnTo>
                  <a:lnTo>
                    <a:pt x="3502" y="1608"/>
                  </a:lnTo>
                  <a:lnTo>
                    <a:pt x="3489" y="1578"/>
                  </a:lnTo>
                  <a:lnTo>
                    <a:pt x="3470" y="1533"/>
                  </a:lnTo>
                  <a:lnTo>
                    <a:pt x="3446" y="1479"/>
                  </a:lnTo>
                  <a:lnTo>
                    <a:pt x="3423" y="1418"/>
                  </a:lnTo>
                  <a:lnTo>
                    <a:pt x="3398" y="1358"/>
                  </a:lnTo>
                  <a:lnTo>
                    <a:pt x="3377" y="1302"/>
                  </a:lnTo>
                  <a:lnTo>
                    <a:pt x="3361" y="1254"/>
                  </a:lnTo>
                  <a:lnTo>
                    <a:pt x="3344" y="1200"/>
                  </a:lnTo>
                  <a:lnTo>
                    <a:pt x="3319" y="1126"/>
                  </a:lnTo>
                  <a:lnTo>
                    <a:pt x="3287" y="1039"/>
                  </a:lnTo>
                  <a:lnTo>
                    <a:pt x="3252" y="947"/>
                  </a:lnTo>
                  <a:lnTo>
                    <a:pt x="3233" y="902"/>
                  </a:lnTo>
                  <a:lnTo>
                    <a:pt x="3214" y="859"/>
                  </a:lnTo>
                  <a:lnTo>
                    <a:pt x="3196" y="817"/>
                  </a:lnTo>
                  <a:lnTo>
                    <a:pt x="3177" y="778"/>
                  </a:lnTo>
                  <a:lnTo>
                    <a:pt x="3160" y="744"/>
                  </a:lnTo>
                  <a:lnTo>
                    <a:pt x="3144" y="715"/>
                  </a:lnTo>
                  <a:lnTo>
                    <a:pt x="3136" y="702"/>
                  </a:lnTo>
                  <a:lnTo>
                    <a:pt x="3130" y="691"/>
                  </a:lnTo>
                  <a:lnTo>
                    <a:pt x="3122" y="683"/>
                  </a:lnTo>
                  <a:lnTo>
                    <a:pt x="3116" y="675"/>
                  </a:lnTo>
                  <a:lnTo>
                    <a:pt x="3088" y="645"/>
                  </a:lnTo>
                  <a:lnTo>
                    <a:pt x="3052" y="606"/>
                  </a:lnTo>
                  <a:lnTo>
                    <a:pt x="3011" y="561"/>
                  </a:lnTo>
                  <a:lnTo>
                    <a:pt x="2965" y="513"/>
                  </a:lnTo>
                  <a:lnTo>
                    <a:pt x="2940" y="489"/>
                  </a:lnTo>
                  <a:lnTo>
                    <a:pt x="2914" y="466"/>
                  </a:lnTo>
                  <a:lnTo>
                    <a:pt x="2887" y="443"/>
                  </a:lnTo>
                  <a:lnTo>
                    <a:pt x="2859" y="421"/>
                  </a:lnTo>
                  <a:lnTo>
                    <a:pt x="2830" y="401"/>
                  </a:lnTo>
                  <a:lnTo>
                    <a:pt x="2799" y="381"/>
                  </a:lnTo>
                  <a:lnTo>
                    <a:pt x="2784" y="374"/>
                  </a:lnTo>
                  <a:lnTo>
                    <a:pt x="2769" y="365"/>
                  </a:lnTo>
                  <a:lnTo>
                    <a:pt x="2754" y="358"/>
                  </a:lnTo>
                  <a:lnTo>
                    <a:pt x="2738" y="351"/>
                  </a:lnTo>
                  <a:lnTo>
                    <a:pt x="2676" y="326"/>
                  </a:lnTo>
                  <a:lnTo>
                    <a:pt x="2618" y="300"/>
                  </a:lnTo>
                  <a:lnTo>
                    <a:pt x="2562" y="274"/>
                  </a:lnTo>
                  <a:lnTo>
                    <a:pt x="2509" y="251"/>
                  </a:lnTo>
                  <a:lnTo>
                    <a:pt x="2459" y="227"/>
                  </a:lnTo>
                  <a:lnTo>
                    <a:pt x="2414" y="206"/>
                  </a:lnTo>
                  <a:lnTo>
                    <a:pt x="2374" y="188"/>
                  </a:lnTo>
                  <a:lnTo>
                    <a:pt x="2337" y="174"/>
                  </a:lnTo>
                  <a:lnTo>
                    <a:pt x="2312" y="165"/>
                  </a:lnTo>
                  <a:lnTo>
                    <a:pt x="2273" y="155"/>
                  </a:lnTo>
                  <a:lnTo>
                    <a:pt x="2220" y="141"/>
                  </a:lnTo>
                  <a:lnTo>
                    <a:pt x="2158" y="124"/>
                  </a:lnTo>
                  <a:lnTo>
                    <a:pt x="2086" y="108"/>
                  </a:lnTo>
                  <a:lnTo>
                    <a:pt x="2008" y="90"/>
                  </a:lnTo>
                  <a:lnTo>
                    <a:pt x="1925" y="73"/>
                  </a:lnTo>
                  <a:lnTo>
                    <a:pt x="1841" y="55"/>
                  </a:lnTo>
                  <a:lnTo>
                    <a:pt x="1757" y="39"/>
                  </a:lnTo>
                  <a:lnTo>
                    <a:pt x="1674" y="25"/>
                  </a:lnTo>
                  <a:lnTo>
                    <a:pt x="1634" y="19"/>
                  </a:lnTo>
                  <a:lnTo>
                    <a:pt x="1595" y="13"/>
                  </a:lnTo>
                  <a:lnTo>
                    <a:pt x="1558" y="9"/>
                  </a:lnTo>
                  <a:lnTo>
                    <a:pt x="1522" y="6"/>
                  </a:lnTo>
                  <a:lnTo>
                    <a:pt x="1489" y="2"/>
                  </a:lnTo>
                  <a:lnTo>
                    <a:pt x="1459" y="1"/>
                  </a:lnTo>
                  <a:lnTo>
                    <a:pt x="1430" y="0"/>
                  </a:lnTo>
                  <a:lnTo>
                    <a:pt x="1405" y="1"/>
                  </a:lnTo>
                  <a:lnTo>
                    <a:pt x="1382" y="3"/>
                  </a:lnTo>
                  <a:lnTo>
                    <a:pt x="1363" y="7"/>
                  </a:lnTo>
                  <a:lnTo>
                    <a:pt x="1347" y="11"/>
                  </a:lnTo>
                  <a:lnTo>
                    <a:pt x="1336" y="17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048360" y="2581200"/>
              <a:ext cx="147600" cy="238320"/>
            </a:xfrm>
            <a:custGeom>
              <a:avLst/>
              <a:gdLst/>
              <a:ahLst/>
              <a:rect l="l" t="t" r="r" b="b"/>
              <a:pathLst>
                <a:path w="464" h="751">
                  <a:moveTo>
                    <a:pt x="77" y="351"/>
                  </a:moveTo>
                  <a:lnTo>
                    <a:pt x="86" y="331"/>
                  </a:lnTo>
                  <a:lnTo>
                    <a:pt x="108" y="282"/>
                  </a:lnTo>
                  <a:lnTo>
                    <a:pt x="125" y="250"/>
                  </a:lnTo>
                  <a:lnTo>
                    <a:pt x="143" y="216"/>
                  </a:lnTo>
                  <a:lnTo>
                    <a:pt x="163" y="179"/>
                  </a:lnTo>
                  <a:lnTo>
                    <a:pt x="185" y="142"/>
                  </a:lnTo>
                  <a:lnTo>
                    <a:pt x="208" y="106"/>
                  </a:lnTo>
                  <a:lnTo>
                    <a:pt x="232" y="73"/>
                  </a:lnTo>
                  <a:lnTo>
                    <a:pt x="242" y="59"/>
                  </a:lnTo>
                  <a:lnTo>
                    <a:pt x="254" y="45"/>
                  </a:lnTo>
                  <a:lnTo>
                    <a:pt x="266" y="33"/>
                  </a:lnTo>
                  <a:lnTo>
                    <a:pt x="277" y="22"/>
                  </a:lnTo>
                  <a:lnTo>
                    <a:pt x="289" y="14"/>
                  </a:lnTo>
                  <a:lnTo>
                    <a:pt x="300" y="6"/>
                  </a:lnTo>
                  <a:lnTo>
                    <a:pt x="310" y="2"/>
                  </a:lnTo>
                  <a:lnTo>
                    <a:pt x="320" y="0"/>
                  </a:lnTo>
                  <a:lnTo>
                    <a:pt x="330" y="0"/>
                  </a:lnTo>
                  <a:lnTo>
                    <a:pt x="340" y="2"/>
                  </a:lnTo>
                  <a:lnTo>
                    <a:pt x="348" y="8"/>
                  </a:lnTo>
                  <a:lnTo>
                    <a:pt x="357" y="17"/>
                  </a:lnTo>
                  <a:lnTo>
                    <a:pt x="362" y="27"/>
                  </a:lnTo>
                  <a:lnTo>
                    <a:pt x="367" y="38"/>
                  </a:lnTo>
                  <a:lnTo>
                    <a:pt x="370" y="51"/>
                  </a:lnTo>
                  <a:lnTo>
                    <a:pt x="371" y="64"/>
                  </a:lnTo>
                  <a:lnTo>
                    <a:pt x="371" y="79"/>
                  </a:lnTo>
                  <a:lnTo>
                    <a:pt x="370" y="95"/>
                  </a:lnTo>
                  <a:lnTo>
                    <a:pt x="368" y="111"/>
                  </a:lnTo>
                  <a:lnTo>
                    <a:pt x="364" y="128"/>
                  </a:lnTo>
                  <a:lnTo>
                    <a:pt x="360" y="145"/>
                  </a:lnTo>
                  <a:lnTo>
                    <a:pt x="355" y="163"/>
                  </a:lnTo>
                  <a:lnTo>
                    <a:pt x="349" y="181"/>
                  </a:lnTo>
                  <a:lnTo>
                    <a:pt x="343" y="199"/>
                  </a:lnTo>
                  <a:lnTo>
                    <a:pt x="329" y="235"/>
                  </a:lnTo>
                  <a:lnTo>
                    <a:pt x="313" y="272"/>
                  </a:lnTo>
                  <a:lnTo>
                    <a:pt x="281" y="339"/>
                  </a:lnTo>
                  <a:lnTo>
                    <a:pt x="255" y="394"/>
                  </a:lnTo>
                  <a:lnTo>
                    <a:pt x="247" y="414"/>
                  </a:lnTo>
                  <a:lnTo>
                    <a:pt x="241" y="429"/>
                  </a:lnTo>
                  <a:lnTo>
                    <a:pt x="240" y="435"/>
                  </a:lnTo>
                  <a:lnTo>
                    <a:pt x="240" y="438"/>
                  </a:lnTo>
                  <a:lnTo>
                    <a:pt x="242" y="440"/>
                  </a:lnTo>
                  <a:lnTo>
                    <a:pt x="246" y="439"/>
                  </a:lnTo>
                  <a:lnTo>
                    <a:pt x="284" y="426"/>
                  </a:lnTo>
                  <a:lnTo>
                    <a:pt x="329" y="410"/>
                  </a:lnTo>
                  <a:lnTo>
                    <a:pt x="351" y="402"/>
                  </a:lnTo>
                  <a:lnTo>
                    <a:pt x="374" y="396"/>
                  </a:lnTo>
                  <a:lnTo>
                    <a:pt x="395" y="389"/>
                  </a:lnTo>
                  <a:lnTo>
                    <a:pt x="414" y="385"/>
                  </a:lnTo>
                  <a:lnTo>
                    <a:pt x="431" y="382"/>
                  </a:lnTo>
                  <a:lnTo>
                    <a:pt x="445" y="381"/>
                  </a:lnTo>
                  <a:lnTo>
                    <a:pt x="451" y="381"/>
                  </a:lnTo>
                  <a:lnTo>
                    <a:pt x="455" y="382"/>
                  </a:lnTo>
                  <a:lnTo>
                    <a:pt x="459" y="384"/>
                  </a:lnTo>
                  <a:lnTo>
                    <a:pt x="462" y="386"/>
                  </a:lnTo>
                  <a:lnTo>
                    <a:pt x="463" y="389"/>
                  </a:lnTo>
                  <a:lnTo>
                    <a:pt x="464" y="393"/>
                  </a:lnTo>
                  <a:lnTo>
                    <a:pt x="462" y="397"/>
                  </a:lnTo>
                  <a:lnTo>
                    <a:pt x="459" y="402"/>
                  </a:lnTo>
                  <a:lnTo>
                    <a:pt x="455" y="409"/>
                  </a:lnTo>
                  <a:lnTo>
                    <a:pt x="450" y="416"/>
                  </a:lnTo>
                  <a:lnTo>
                    <a:pt x="442" y="425"/>
                  </a:lnTo>
                  <a:lnTo>
                    <a:pt x="434" y="435"/>
                  </a:lnTo>
                  <a:lnTo>
                    <a:pt x="387" y="479"/>
                  </a:lnTo>
                  <a:lnTo>
                    <a:pt x="332" y="529"/>
                  </a:lnTo>
                  <a:lnTo>
                    <a:pt x="273" y="582"/>
                  </a:lnTo>
                  <a:lnTo>
                    <a:pt x="213" y="632"/>
                  </a:lnTo>
                  <a:lnTo>
                    <a:pt x="158" y="679"/>
                  </a:lnTo>
                  <a:lnTo>
                    <a:pt x="114" y="717"/>
                  </a:lnTo>
                  <a:lnTo>
                    <a:pt x="84" y="741"/>
                  </a:lnTo>
                  <a:lnTo>
                    <a:pt x="72" y="751"/>
                  </a:lnTo>
                  <a:lnTo>
                    <a:pt x="0" y="617"/>
                  </a:lnTo>
                  <a:lnTo>
                    <a:pt x="77" y="351"/>
                  </a:lnTo>
                  <a:close/>
                </a:path>
              </a:pathLst>
            </a:custGeom>
            <a:solidFill>
              <a:srgbClr val="6398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048360" y="2598840"/>
              <a:ext cx="135000" cy="220680"/>
            </a:xfrm>
            <a:custGeom>
              <a:avLst/>
              <a:gdLst/>
              <a:ahLst/>
              <a:rect l="l" t="t" r="r" b="b"/>
              <a:pathLst>
                <a:path w="422" h="694">
                  <a:moveTo>
                    <a:pt x="215" y="409"/>
                  </a:moveTo>
                  <a:lnTo>
                    <a:pt x="255" y="396"/>
                  </a:lnTo>
                  <a:lnTo>
                    <a:pt x="299" y="380"/>
                  </a:lnTo>
                  <a:lnTo>
                    <a:pt x="341" y="365"/>
                  </a:lnTo>
                  <a:lnTo>
                    <a:pt x="378" y="354"/>
                  </a:lnTo>
                  <a:lnTo>
                    <a:pt x="394" y="351"/>
                  </a:lnTo>
                  <a:lnTo>
                    <a:pt x="407" y="350"/>
                  </a:lnTo>
                  <a:lnTo>
                    <a:pt x="412" y="350"/>
                  </a:lnTo>
                  <a:lnTo>
                    <a:pt x="416" y="351"/>
                  </a:lnTo>
                  <a:lnTo>
                    <a:pt x="418" y="352"/>
                  </a:lnTo>
                  <a:lnTo>
                    <a:pt x="421" y="354"/>
                  </a:lnTo>
                  <a:lnTo>
                    <a:pt x="422" y="357"/>
                  </a:lnTo>
                  <a:lnTo>
                    <a:pt x="422" y="360"/>
                  </a:lnTo>
                  <a:lnTo>
                    <a:pt x="421" y="365"/>
                  </a:lnTo>
                  <a:lnTo>
                    <a:pt x="417" y="370"/>
                  </a:lnTo>
                  <a:lnTo>
                    <a:pt x="408" y="384"/>
                  </a:lnTo>
                  <a:lnTo>
                    <a:pt x="391" y="403"/>
                  </a:lnTo>
                  <a:lnTo>
                    <a:pt x="347" y="445"/>
                  </a:lnTo>
                  <a:lnTo>
                    <a:pt x="296" y="492"/>
                  </a:lnTo>
                  <a:lnTo>
                    <a:pt x="243" y="541"/>
                  </a:lnTo>
                  <a:lnTo>
                    <a:pt x="192" y="588"/>
                  </a:lnTo>
                  <a:lnTo>
                    <a:pt x="145" y="629"/>
                  </a:lnTo>
                  <a:lnTo>
                    <a:pt x="107" y="663"/>
                  </a:lnTo>
                  <a:lnTo>
                    <a:pt x="81" y="686"/>
                  </a:lnTo>
                  <a:lnTo>
                    <a:pt x="72" y="694"/>
                  </a:lnTo>
                  <a:lnTo>
                    <a:pt x="0" y="560"/>
                  </a:lnTo>
                  <a:lnTo>
                    <a:pt x="77" y="294"/>
                  </a:lnTo>
                  <a:lnTo>
                    <a:pt x="85" y="277"/>
                  </a:lnTo>
                  <a:lnTo>
                    <a:pt x="105" y="236"/>
                  </a:lnTo>
                  <a:lnTo>
                    <a:pt x="119" y="209"/>
                  </a:lnTo>
                  <a:lnTo>
                    <a:pt x="135" y="179"/>
                  </a:lnTo>
                  <a:lnTo>
                    <a:pt x="153" y="148"/>
                  </a:lnTo>
                  <a:lnTo>
                    <a:pt x="172" y="117"/>
                  </a:lnTo>
                  <a:lnTo>
                    <a:pt x="192" y="87"/>
                  </a:lnTo>
                  <a:lnTo>
                    <a:pt x="212" y="59"/>
                  </a:lnTo>
                  <a:lnTo>
                    <a:pt x="222" y="47"/>
                  </a:lnTo>
                  <a:lnTo>
                    <a:pt x="232" y="35"/>
                  </a:lnTo>
                  <a:lnTo>
                    <a:pt x="241" y="26"/>
                  </a:lnTo>
                  <a:lnTo>
                    <a:pt x="251" y="17"/>
                  </a:lnTo>
                  <a:lnTo>
                    <a:pt x="261" y="9"/>
                  </a:lnTo>
                  <a:lnTo>
                    <a:pt x="270" y="4"/>
                  </a:lnTo>
                  <a:lnTo>
                    <a:pt x="279" y="1"/>
                  </a:lnTo>
                  <a:lnTo>
                    <a:pt x="288" y="0"/>
                  </a:lnTo>
                  <a:lnTo>
                    <a:pt x="295" y="0"/>
                  </a:lnTo>
                  <a:lnTo>
                    <a:pt x="303" y="3"/>
                  </a:lnTo>
                  <a:lnTo>
                    <a:pt x="310" y="8"/>
                  </a:lnTo>
                  <a:lnTo>
                    <a:pt x="317" y="17"/>
                  </a:lnTo>
                  <a:lnTo>
                    <a:pt x="322" y="26"/>
                  </a:lnTo>
                  <a:lnTo>
                    <a:pt x="326" y="36"/>
                  </a:lnTo>
                  <a:lnTo>
                    <a:pt x="328" y="48"/>
                  </a:lnTo>
                  <a:lnTo>
                    <a:pt x="328" y="61"/>
                  </a:lnTo>
                  <a:lnTo>
                    <a:pt x="328" y="75"/>
                  </a:lnTo>
                  <a:lnTo>
                    <a:pt x="326" y="89"/>
                  </a:lnTo>
                  <a:lnTo>
                    <a:pt x="323" y="105"/>
                  </a:lnTo>
                  <a:lnTo>
                    <a:pt x="320" y="121"/>
                  </a:lnTo>
                  <a:lnTo>
                    <a:pt x="310" y="153"/>
                  </a:lnTo>
                  <a:lnTo>
                    <a:pt x="299" y="188"/>
                  </a:lnTo>
                  <a:lnTo>
                    <a:pt x="284" y="222"/>
                  </a:lnTo>
                  <a:lnTo>
                    <a:pt x="270" y="256"/>
                  </a:lnTo>
                  <a:lnTo>
                    <a:pt x="241" y="318"/>
                  </a:lnTo>
                  <a:lnTo>
                    <a:pt x="219" y="370"/>
                  </a:lnTo>
                  <a:lnTo>
                    <a:pt x="211" y="389"/>
                  </a:lnTo>
                  <a:lnTo>
                    <a:pt x="208" y="403"/>
                  </a:lnTo>
                  <a:lnTo>
                    <a:pt x="208" y="407"/>
                  </a:lnTo>
                  <a:lnTo>
                    <a:pt x="209" y="409"/>
                  </a:lnTo>
                  <a:lnTo>
                    <a:pt x="211" y="410"/>
                  </a:lnTo>
                  <a:lnTo>
                    <a:pt x="215" y="409"/>
                  </a:lnTo>
                  <a:close/>
                </a:path>
              </a:pathLst>
            </a:custGeom>
            <a:solidFill>
              <a:srgbClr val="6094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048360" y="2617920"/>
              <a:ext cx="122400" cy="201600"/>
            </a:xfrm>
            <a:custGeom>
              <a:avLst/>
              <a:gdLst/>
              <a:ahLst/>
              <a:rect l="l" t="t" r="r" b="b"/>
              <a:pathLst>
                <a:path w="381" h="635">
                  <a:moveTo>
                    <a:pt x="188" y="380"/>
                  </a:moveTo>
                  <a:lnTo>
                    <a:pt x="226" y="365"/>
                  </a:lnTo>
                  <a:lnTo>
                    <a:pt x="267" y="349"/>
                  </a:lnTo>
                  <a:lnTo>
                    <a:pt x="308" y="334"/>
                  </a:lnTo>
                  <a:lnTo>
                    <a:pt x="343" y="322"/>
                  </a:lnTo>
                  <a:lnTo>
                    <a:pt x="357" y="319"/>
                  </a:lnTo>
                  <a:lnTo>
                    <a:pt x="368" y="317"/>
                  </a:lnTo>
                  <a:lnTo>
                    <a:pt x="372" y="317"/>
                  </a:lnTo>
                  <a:lnTo>
                    <a:pt x="376" y="318"/>
                  </a:lnTo>
                  <a:lnTo>
                    <a:pt x="378" y="319"/>
                  </a:lnTo>
                  <a:lnTo>
                    <a:pt x="380" y="321"/>
                  </a:lnTo>
                  <a:lnTo>
                    <a:pt x="381" y="324"/>
                  </a:lnTo>
                  <a:lnTo>
                    <a:pt x="380" y="327"/>
                  </a:lnTo>
                  <a:lnTo>
                    <a:pt x="377" y="332"/>
                  </a:lnTo>
                  <a:lnTo>
                    <a:pt x="374" y="337"/>
                  </a:lnTo>
                  <a:lnTo>
                    <a:pt x="363" y="350"/>
                  </a:lnTo>
                  <a:lnTo>
                    <a:pt x="346" y="367"/>
                  </a:lnTo>
                  <a:lnTo>
                    <a:pt x="304" y="409"/>
                  </a:lnTo>
                  <a:lnTo>
                    <a:pt x="259" y="455"/>
                  </a:lnTo>
                  <a:lnTo>
                    <a:pt x="213" y="499"/>
                  </a:lnTo>
                  <a:lnTo>
                    <a:pt x="170" y="541"/>
                  </a:lnTo>
                  <a:lnTo>
                    <a:pt x="131" y="578"/>
                  </a:lnTo>
                  <a:lnTo>
                    <a:pt x="100" y="608"/>
                  </a:lnTo>
                  <a:lnTo>
                    <a:pt x="79" y="628"/>
                  </a:lnTo>
                  <a:lnTo>
                    <a:pt x="72" y="635"/>
                  </a:lnTo>
                  <a:lnTo>
                    <a:pt x="0" y="501"/>
                  </a:lnTo>
                  <a:lnTo>
                    <a:pt x="77" y="235"/>
                  </a:lnTo>
                  <a:lnTo>
                    <a:pt x="84" y="222"/>
                  </a:lnTo>
                  <a:lnTo>
                    <a:pt x="102" y="188"/>
                  </a:lnTo>
                  <a:lnTo>
                    <a:pt x="114" y="165"/>
                  </a:lnTo>
                  <a:lnTo>
                    <a:pt x="128" y="142"/>
                  </a:lnTo>
                  <a:lnTo>
                    <a:pt x="143" y="117"/>
                  </a:lnTo>
                  <a:lnTo>
                    <a:pt x="159" y="91"/>
                  </a:lnTo>
                  <a:lnTo>
                    <a:pt x="175" y="67"/>
                  </a:lnTo>
                  <a:lnTo>
                    <a:pt x="193" y="46"/>
                  </a:lnTo>
                  <a:lnTo>
                    <a:pt x="201" y="36"/>
                  </a:lnTo>
                  <a:lnTo>
                    <a:pt x="210" y="27"/>
                  </a:lnTo>
                  <a:lnTo>
                    <a:pt x="219" y="19"/>
                  </a:lnTo>
                  <a:lnTo>
                    <a:pt x="226" y="12"/>
                  </a:lnTo>
                  <a:lnTo>
                    <a:pt x="234" y="7"/>
                  </a:lnTo>
                  <a:lnTo>
                    <a:pt x="242" y="3"/>
                  </a:lnTo>
                  <a:lnTo>
                    <a:pt x="249" y="0"/>
                  </a:lnTo>
                  <a:lnTo>
                    <a:pt x="256" y="0"/>
                  </a:lnTo>
                  <a:lnTo>
                    <a:pt x="263" y="1"/>
                  </a:lnTo>
                  <a:lnTo>
                    <a:pt x="269" y="4"/>
                  </a:lnTo>
                  <a:lnTo>
                    <a:pt x="275" y="10"/>
                  </a:lnTo>
                  <a:lnTo>
                    <a:pt x="280" y="16"/>
                  </a:lnTo>
                  <a:lnTo>
                    <a:pt x="283" y="25"/>
                  </a:lnTo>
                  <a:lnTo>
                    <a:pt x="286" y="35"/>
                  </a:lnTo>
                  <a:lnTo>
                    <a:pt x="287" y="46"/>
                  </a:lnTo>
                  <a:lnTo>
                    <a:pt x="287" y="56"/>
                  </a:lnTo>
                  <a:lnTo>
                    <a:pt x="286" y="69"/>
                  </a:lnTo>
                  <a:lnTo>
                    <a:pt x="283" y="82"/>
                  </a:lnTo>
                  <a:lnTo>
                    <a:pt x="280" y="96"/>
                  </a:lnTo>
                  <a:lnTo>
                    <a:pt x="277" y="110"/>
                  </a:lnTo>
                  <a:lnTo>
                    <a:pt x="267" y="142"/>
                  </a:lnTo>
                  <a:lnTo>
                    <a:pt x="255" y="173"/>
                  </a:lnTo>
                  <a:lnTo>
                    <a:pt x="242" y="205"/>
                  </a:lnTo>
                  <a:lnTo>
                    <a:pt x="228" y="237"/>
                  </a:lnTo>
                  <a:lnTo>
                    <a:pt x="202" y="295"/>
                  </a:lnTo>
                  <a:lnTo>
                    <a:pt x="183" y="344"/>
                  </a:lnTo>
                  <a:lnTo>
                    <a:pt x="180" y="352"/>
                  </a:lnTo>
                  <a:lnTo>
                    <a:pt x="178" y="361"/>
                  </a:lnTo>
                  <a:lnTo>
                    <a:pt x="176" y="368"/>
                  </a:lnTo>
                  <a:lnTo>
                    <a:pt x="176" y="374"/>
                  </a:lnTo>
                  <a:lnTo>
                    <a:pt x="178" y="378"/>
                  </a:lnTo>
                  <a:lnTo>
                    <a:pt x="180" y="380"/>
                  </a:lnTo>
                  <a:lnTo>
                    <a:pt x="183" y="381"/>
                  </a:lnTo>
                  <a:lnTo>
                    <a:pt x="188" y="380"/>
                  </a:lnTo>
                  <a:close/>
                </a:path>
              </a:pathLst>
            </a:custGeom>
            <a:solidFill>
              <a:srgbClr val="5f8f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048360" y="2635200"/>
              <a:ext cx="108000" cy="184320"/>
            </a:xfrm>
            <a:custGeom>
              <a:avLst/>
              <a:gdLst/>
              <a:ahLst/>
              <a:rect l="l" t="t" r="r" b="b"/>
              <a:pathLst>
                <a:path w="338" h="578">
                  <a:moveTo>
                    <a:pt x="161" y="350"/>
                  </a:moveTo>
                  <a:lnTo>
                    <a:pt x="198" y="335"/>
                  </a:lnTo>
                  <a:lnTo>
                    <a:pt x="238" y="319"/>
                  </a:lnTo>
                  <a:lnTo>
                    <a:pt x="275" y="303"/>
                  </a:lnTo>
                  <a:lnTo>
                    <a:pt x="307" y="291"/>
                  </a:lnTo>
                  <a:lnTo>
                    <a:pt x="319" y="288"/>
                  </a:lnTo>
                  <a:lnTo>
                    <a:pt x="329" y="287"/>
                  </a:lnTo>
                  <a:lnTo>
                    <a:pt x="333" y="287"/>
                  </a:lnTo>
                  <a:lnTo>
                    <a:pt x="335" y="287"/>
                  </a:lnTo>
                  <a:lnTo>
                    <a:pt x="337" y="288"/>
                  </a:lnTo>
                  <a:lnTo>
                    <a:pt x="338" y="290"/>
                  </a:lnTo>
                  <a:lnTo>
                    <a:pt x="337" y="293"/>
                  </a:lnTo>
                  <a:lnTo>
                    <a:pt x="336" y="296"/>
                  </a:lnTo>
                  <a:lnTo>
                    <a:pt x="334" y="302"/>
                  </a:lnTo>
                  <a:lnTo>
                    <a:pt x="331" y="307"/>
                  </a:lnTo>
                  <a:lnTo>
                    <a:pt x="319" y="320"/>
                  </a:lnTo>
                  <a:lnTo>
                    <a:pt x="302" y="338"/>
                  </a:lnTo>
                  <a:lnTo>
                    <a:pt x="263" y="378"/>
                  </a:lnTo>
                  <a:lnTo>
                    <a:pt x="222" y="421"/>
                  </a:lnTo>
                  <a:lnTo>
                    <a:pt x="184" y="460"/>
                  </a:lnTo>
                  <a:lnTo>
                    <a:pt x="148" y="498"/>
                  </a:lnTo>
                  <a:lnTo>
                    <a:pt x="117" y="530"/>
                  </a:lnTo>
                  <a:lnTo>
                    <a:pt x="93" y="556"/>
                  </a:lnTo>
                  <a:lnTo>
                    <a:pt x="78" y="572"/>
                  </a:lnTo>
                  <a:lnTo>
                    <a:pt x="72" y="578"/>
                  </a:lnTo>
                  <a:lnTo>
                    <a:pt x="0" y="444"/>
                  </a:lnTo>
                  <a:lnTo>
                    <a:pt x="77" y="178"/>
                  </a:lnTo>
                  <a:lnTo>
                    <a:pt x="82" y="167"/>
                  </a:lnTo>
                  <a:lnTo>
                    <a:pt x="98" y="141"/>
                  </a:lnTo>
                  <a:lnTo>
                    <a:pt x="119" y="105"/>
                  </a:lnTo>
                  <a:lnTo>
                    <a:pt x="146" y="66"/>
                  </a:lnTo>
                  <a:lnTo>
                    <a:pt x="160" y="48"/>
                  </a:lnTo>
                  <a:lnTo>
                    <a:pt x="174" y="32"/>
                  </a:lnTo>
                  <a:lnTo>
                    <a:pt x="181" y="24"/>
                  </a:lnTo>
                  <a:lnTo>
                    <a:pt x="188" y="18"/>
                  </a:lnTo>
                  <a:lnTo>
                    <a:pt x="195" y="12"/>
                  </a:lnTo>
                  <a:lnTo>
                    <a:pt x="201" y="7"/>
                  </a:lnTo>
                  <a:lnTo>
                    <a:pt x="208" y="4"/>
                  </a:lnTo>
                  <a:lnTo>
                    <a:pt x="213" y="1"/>
                  </a:lnTo>
                  <a:lnTo>
                    <a:pt x="220" y="0"/>
                  </a:lnTo>
                  <a:lnTo>
                    <a:pt x="225" y="0"/>
                  </a:lnTo>
                  <a:lnTo>
                    <a:pt x="230" y="1"/>
                  </a:lnTo>
                  <a:lnTo>
                    <a:pt x="235" y="5"/>
                  </a:lnTo>
                  <a:lnTo>
                    <a:pt x="239" y="10"/>
                  </a:lnTo>
                  <a:lnTo>
                    <a:pt x="242" y="17"/>
                  </a:lnTo>
                  <a:lnTo>
                    <a:pt x="246" y="24"/>
                  </a:lnTo>
                  <a:lnTo>
                    <a:pt x="247" y="33"/>
                  </a:lnTo>
                  <a:lnTo>
                    <a:pt x="247" y="43"/>
                  </a:lnTo>
                  <a:lnTo>
                    <a:pt x="246" y="53"/>
                  </a:lnTo>
                  <a:lnTo>
                    <a:pt x="243" y="65"/>
                  </a:lnTo>
                  <a:lnTo>
                    <a:pt x="241" y="77"/>
                  </a:lnTo>
                  <a:lnTo>
                    <a:pt x="237" y="90"/>
                  </a:lnTo>
                  <a:lnTo>
                    <a:pt x="233" y="104"/>
                  </a:lnTo>
                  <a:lnTo>
                    <a:pt x="223" y="132"/>
                  </a:lnTo>
                  <a:lnTo>
                    <a:pt x="211" y="161"/>
                  </a:lnTo>
                  <a:lnTo>
                    <a:pt x="199" y="192"/>
                  </a:lnTo>
                  <a:lnTo>
                    <a:pt x="186" y="221"/>
                  </a:lnTo>
                  <a:lnTo>
                    <a:pt x="174" y="249"/>
                  </a:lnTo>
                  <a:lnTo>
                    <a:pt x="162" y="275"/>
                  </a:lnTo>
                  <a:lnTo>
                    <a:pt x="154" y="298"/>
                  </a:lnTo>
                  <a:lnTo>
                    <a:pt x="147" y="319"/>
                  </a:lnTo>
                  <a:lnTo>
                    <a:pt x="145" y="328"/>
                  </a:lnTo>
                  <a:lnTo>
                    <a:pt x="144" y="335"/>
                  </a:lnTo>
                  <a:lnTo>
                    <a:pt x="144" y="342"/>
                  </a:lnTo>
                  <a:lnTo>
                    <a:pt x="145" y="346"/>
                  </a:lnTo>
                  <a:lnTo>
                    <a:pt x="147" y="349"/>
                  </a:lnTo>
                  <a:lnTo>
                    <a:pt x="151" y="351"/>
                  </a:lnTo>
                  <a:lnTo>
                    <a:pt x="155" y="351"/>
                  </a:lnTo>
                  <a:lnTo>
                    <a:pt x="161" y="350"/>
                  </a:lnTo>
                  <a:close/>
                </a:path>
              </a:pathLst>
            </a:custGeom>
            <a:solidFill>
              <a:srgbClr val="5e89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048360" y="2654280"/>
              <a:ext cx="95400" cy="165240"/>
            </a:xfrm>
            <a:custGeom>
              <a:avLst/>
              <a:gdLst/>
              <a:ahLst/>
              <a:rect l="l" t="t" r="r" b="b"/>
              <a:pathLst>
                <a:path w="299" h="519">
                  <a:moveTo>
                    <a:pt x="134" y="318"/>
                  </a:moveTo>
                  <a:lnTo>
                    <a:pt x="171" y="304"/>
                  </a:lnTo>
                  <a:lnTo>
                    <a:pt x="208" y="288"/>
                  </a:lnTo>
                  <a:lnTo>
                    <a:pt x="243" y="272"/>
                  </a:lnTo>
                  <a:lnTo>
                    <a:pt x="273" y="259"/>
                  </a:lnTo>
                  <a:lnTo>
                    <a:pt x="283" y="256"/>
                  </a:lnTo>
                  <a:lnTo>
                    <a:pt x="292" y="254"/>
                  </a:lnTo>
                  <a:lnTo>
                    <a:pt x="294" y="254"/>
                  </a:lnTo>
                  <a:lnTo>
                    <a:pt x="296" y="254"/>
                  </a:lnTo>
                  <a:lnTo>
                    <a:pt x="299" y="255"/>
                  </a:lnTo>
                  <a:lnTo>
                    <a:pt x="299" y="257"/>
                  </a:lnTo>
                  <a:lnTo>
                    <a:pt x="296" y="263"/>
                  </a:lnTo>
                  <a:lnTo>
                    <a:pt x="289" y="273"/>
                  </a:lnTo>
                  <a:lnTo>
                    <a:pt x="277" y="286"/>
                  </a:lnTo>
                  <a:lnTo>
                    <a:pt x="260" y="304"/>
                  </a:lnTo>
                  <a:lnTo>
                    <a:pt x="222" y="343"/>
                  </a:lnTo>
                  <a:lnTo>
                    <a:pt x="186" y="382"/>
                  </a:lnTo>
                  <a:lnTo>
                    <a:pt x="154" y="419"/>
                  </a:lnTo>
                  <a:lnTo>
                    <a:pt x="127" y="451"/>
                  </a:lnTo>
                  <a:lnTo>
                    <a:pt x="104" y="479"/>
                  </a:lnTo>
                  <a:lnTo>
                    <a:pt x="87" y="500"/>
                  </a:lnTo>
                  <a:lnTo>
                    <a:pt x="76" y="514"/>
                  </a:lnTo>
                  <a:lnTo>
                    <a:pt x="72" y="519"/>
                  </a:lnTo>
                  <a:lnTo>
                    <a:pt x="0" y="385"/>
                  </a:lnTo>
                  <a:lnTo>
                    <a:pt x="77" y="119"/>
                  </a:lnTo>
                  <a:lnTo>
                    <a:pt x="81" y="111"/>
                  </a:lnTo>
                  <a:lnTo>
                    <a:pt x="93" y="93"/>
                  </a:lnTo>
                  <a:lnTo>
                    <a:pt x="112" y="68"/>
                  </a:lnTo>
                  <a:lnTo>
                    <a:pt x="132" y="41"/>
                  </a:lnTo>
                  <a:lnTo>
                    <a:pt x="143" y="29"/>
                  </a:lnTo>
                  <a:lnTo>
                    <a:pt x="154" y="18"/>
                  </a:lnTo>
                  <a:lnTo>
                    <a:pt x="165" y="8"/>
                  </a:lnTo>
                  <a:lnTo>
                    <a:pt x="174" y="3"/>
                  </a:lnTo>
                  <a:lnTo>
                    <a:pt x="179" y="1"/>
                  </a:lnTo>
                  <a:lnTo>
                    <a:pt x="183" y="0"/>
                  </a:lnTo>
                  <a:lnTo>
                    <a:pt x="187" y="0"/>
                  </a:lnTo>
                  <a:lnTo>
                    <a:pt x="192" y="1"/>
                  </a:lnTo>
                  <a:lnTo>
                    <a:pt x="195" y="3"/>
                  </a:lnTo>
                  <a:lnTo>
                    <a:pt x="198" y="6"/>
                  </a:lnTo>
                  <a:lnTo>
                    <a:pt x="201" y="11"/>
                  </a:lnTo>
                  <a:lnTo>
                    <a:pt x="203" y="17"/>
                  </a:lnTo>
                  <a:lnTo>
                    <a:pt x="205" y="23"/>
                  </a:lnTo>
                  <a:lnTo>
                    <a:pt x="206" y="31"/>
                  </a:lnTo>
                  <a:lnTo>
                    <a:pt x="205" y="40"/>
                  </a:lnTo>
                  <a:lnTo>
                    <a:pt x="203" y="49"/>
                  </a:lnTo>
                  <a:lnTo>
                    <a:pt x="198" y="71"/>
                  </a:lnTo>
                  <a:lnTo>
                    <a:pt x="189" y="96"/>
                  </a:lnTo>
                  <a:lnTo>
                    <a:pt x="169" y="149"/>
                  </a:lnTo>
                  <a:lnTo>
                    <a:pt x="145" y="203"/>
                  </a:lnTo>
                  <a:lnTo>
                    <a:pt x="134" y="229"/>
                  </a:lnTo>
                  <a:lnTo>
                    <a:pt x="125" y="254"/>
                  </a:lnTo>
                  <a:lnTo>
                    <a:pt x="117" y="275"/>
                  </a:lnTo>
                  <a:lnTo>
                    <a:pt x="113" y="293"/>
                  </a:lnTo>
                  <a:lnTo>
                    <a:pt x="112" y="301"/>
                  </a:lnTo>
                  <a:lnTo>
                    <a:pt x="111" y="308"/>
                  </a:lnTo>
                  <a:lnTo>
                    <a:pt x="112" y="313"/>
                  </a:lnTo>
                  <a:lnTo>
                    <a:pt x="114" y="317"/>
                  </a:lnTo>
                  <a:lnTo>
                    <a:pt x="117" y="319"/>
                  </a:lnTo>
                  <a:lnTo>
                    <a:pt x="121" y="320"/>
                  </a:lnTo>
                  <a:lnTo>
                    <a:pt x="127" y="320"/>
                  </a:lnTo>
                  <a:lnTo>
                    <a:pt x="134" y="318"/>
                  </a:lnTo>
                  <a:close/>
                </a:path>
              </a:pathLst>
            </a:custGeom>
            <a:solidFill>
              <a:srgbClr val="5b8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048360" y="2671920"/>
              <a:ext cx="82440" cy="147600"/>
            </a:xfrm>
            <a:custGeom>
              <a:avLst/>
              <a:gdLst/>
              <a:ahLst/>
              <a:rect l="l" t="t" r="r" b="b"/>
              <a:pathLst>
                <a:path w="256" h="464">
                  <a:moveTo>
                    <a:pt x="77" y="64"/>
                  </a:moveTo>
                  <a:lnTo>
                    <a:pt x="80" y="59"/>
                  </a:lnTo>
                  <a:lnTo>
                    <a:pt x="90" y="47"/>
                  </a:lnTo>
                  <a:lnTo>
                    <a:pt x="103" y="33"/>
                  </a:lnTo>
                  <a:lnTo>
                    <a:pt x="119" y="18"/>
                  </a:lnTo>
                  <a:lnTo>
                    <a:pt x="127" y="12"/>
                  </a:lnTo>
                  <a:lnTo>
                    <a:pt x="134" y="6"/>
                  </a:lnTo>
                  <a:lnTo>
                    <a:pt x="142" y="2"/>
                  </a:lnTo>
                  <a:lnTo>
                    <a:pt x="149" y="0"/>
                  </a:lnTo>
                  <a:lnTo>
                    <a:pt x="153" y="0"/>
                  </a:lnTo>
                  <a:lnTo>
                    <a:pt x="155" y="0"/>
                  </a:lnTo>
                  <a:lnTo>
                    <a:pt x="158" y="1"/>
                  </a:lnTo>
                  <a:lnTo>
                    <a:pt x="160" y="3"/>
                  </a:lnTo>
                  <a:lnTo>
                    <a:pt x="162" y="5"/>
                  </a:lnTo>
                  <a:lnTo>
                    <a:pt x="163" y="10"/>
                  </a:lnTo>
                  <a:lnTo>
                    <a:pt x="166" y="14"/>
                  </a:lnTo>
                  <a:lnTo>
                    <a:pt x="166" y="19"/>
                  </a:lnTo>
                  <a:lnTo>
                    <a:pt x="167" y="25"/>
                  </a:lnTo>
                  <a:lnTo>
                    <a:pt x="166" y="32"/>
                  </a:lnTo>
                  <a:lnTo>
                    <a:pt x="165" y="40"/>
                  </a:lnTo>
                  <a:lnTo>
                    <a:pt x="161" y="48"/>
                  </a:lnTo>
                  <a:lnTo>
                    <a:pt x="155" y="68"/>
                  </a:lnTo>
                  <a:lnTo>
                    <a:pt x="146" y="91"/>
                  </a:lnTo>
                  <a:lnTo>
                    <a:pt x="125" y="139"/>
                  </a:lnTo>
                  <a:lnTo>
                    <a:pt x="103" y="189"/>
                  </a:lnTo>
                  <a:lnTo>
                    <a:pt x="93" y="213"/>
                  </a:lnTo>
                  <a:lnTo>
                    <a:pt x="85" y="235"/>
                  </a:lnTo>
                  <a:lnTo>
                    <a:pt x="78" y="255"/>
                  </a:lnTo>
                  <a:lnTo>
                    <a:pt x="75" y="271"/>
                  </a:lnTo>
                  <a:lnTo>
                    <a:pt x="75" y="277"/>
                  </a:lnTo>
                  <a:lnTo>
                    <a:pt x="76" y="284"/>
                  </a:lnTo>
                  <a:lnTo>
                    <a:pt x="77" y="288"/>
                  </a:lnTo>
                  <a:lnTo>
                    <a:pt x="80" y="291"/>
                  </a:lnTo>
                  <a:lnTo>
                    <a:pt x="85" y="294"/>
                  </a:lnTo>
                  <a:lnTo>
                    <a:pt x="90" y="294"/>
                  </a:lnTo>
                  <a:lnTo>
                    <a:pt x="97" y="294"/>
                  </a:lnTo>
                  <a:lnTo>
                    <a:pt x="104" y="290"/>
                  </a:lnTo>
                  <a:lnTo>
                    <a:pt x="122" y="284"/>
                  </a:lnTo>
                  <a:lnTo>
                    <a:pt x="141" y="276"/>
                  </a:lnTo>
                  <a:lnTo>
                    <a:pt x="159" y="269"/>
                  </a:lnTo>
                  <a:lnTo>
                    <a:pt x="178" y="260"/>
                  </a:lnTo>
                  <a:lnTo>
                    <a:pt x="210" y="244"/>
                  </a:lnTo>
                  <a:lnTo>
                    <a:pt x="236" y="232"/>
                  </a:lnTo>
                  <a:lnTo>
                    <a:pt x="246" y="228"/>
                  </a:lnTo>
                  <a:lnTo>
                    <a:pt x="252" y="226"/>
                  </a:lnTo>
                  <a:lnTo>
                    <a:pt x="255" y="226"/>
                  </a:lnTo>
                  <a:lnTo>
                    <a:pt x="256" y="226"/>
                  </a:lnTo>
                  <a:lnTo>
                    <a:pt x="256" y="227"/>
                  </a:lnTo>
                  <a:lnTo>
                    <a:pt x="256" y="229"/>
                  </a:lnTo>
                  <a:lnTo>
                    <a:pt x="253" y="235"/>
                  </a:lnTo>
                  <a:lnTo>
                    <a:pt x="246" y="245"/>
                  </a:lnTo>
                  <a:lnTo>
                    <a:pt x="233" y="258"/>
                  </a:lnTo>
                  <a:lnTo>
                    <a:pt x="215" y="276"/>
                  </a:lnTo>
                  <a:lnTo>
                    <a:pt x="197" y="296"/>
                  </a:lnTo>
                  <a:lnTo>
                    <a:pt x="180" y="314"/>
                  </a:lnTo>
                  <a:lnTo>
                    <a:pt x="163" y="331"/>
                  </a:lnTo>
                  <a:lnTo>
                    <a:pt x="149" y="349"/>
                  </a:lnTo>
                  <a:lnTo>
                    <a:pt x="125" y="381"/>
                  </a:lnTo>
                  <a:lnTo>
                    <a:pt x="105" y="409"/>
                  </a:lnTo>
                  <a:lnTo>
                    <a:pt x="90" y="432"/>
                  </a:lnTo>
                  <a:lnTo>
                    <a:pt x="80" y="449"/>
                  </a:lnTo>
                  <a:lnTo>
                    <a:pt x="74" y="460"/>
                  </a:lnTo>
                  <a:lnTo>
                    <a:pt x="72" y="464"/>
                  </a:lnTo>
                  <a:lnTo>
                    <a:pt x="0" y="330"/>
                  </a:lnTo>
                  <a:lnTo>
                    <a:pt x="77" y="64"/>
                  </a:lnTo>
                  <a:close/>
                </a:path>
              </a:pathLst>
            </a:custGeom>
            <a:solidFill>
              <a:srgbClr val="5880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329080" y="2384640"/>
              <a:ext cx="757440" cy="1035000"/>
            </a:xfrm>
            <a:custGeom>
              <a:avLst/>
              <a:gdLst/>
              <a:ahLst/>
              <a:rect l="l" t="t" r="r" b="b"/>
              <a:pathLst>
                <a:path w="2385" h="3259">
                  <a:moveTo>
                    <a:pt x="994" y="654"/>
                  </a:moveTo>
                  <a:lnTo>
                    <a:pt x="996" y="644"/>
                  </a:lnTo>
                  <a:lnTo>
                    <a:pt x="998" y="628"/>
                  </a:lnTo>
                  <a:lnTo>
                    <a:pt x="999" y="612"/>
                  </a:lnTo>
                  <a:lnTo>
                    <a:pt x="1000" y="593"/>
                  </a:lnTo>
                  <a:lnTo>
                    <a:pt x="1001" y="549"/>
                  </a:lnTo>
                  <a:lnTo>
                    <a:pt x="1001" y="499"/>
                  </a:lnTo>
                  <a:lnTo>
                    <a:pt x="1000" y="446"/>
                  </a:lnTo>
                  <a:lnTo>
                    <a:pt x="1000" y="391"/>
                  </a:lnTo>
                  <a:lnTo>
                    <a:pt x="999" y="336"/>
                  </a:lnTo>
                  <a:lnTo>
                    <a:pt x="999" y="284"/>
                  </a:lnTo>
                  <a:lnTo>
                    <a:pt x="1000" y="266"/>
                  </a:lnTo>
                  <a:lnTo>
                    <a:pt x="1002" y="249"/>
                  </a:lnTo>
                  <a:lnTo>
                    <a:pt x="1007" y="233"/>
                  </a:lnTo>
                  <a:lnTo>
                    <a:pt x="1012" y="220"/>
                  </a:lnTo>
                  <a:lnTo>
                    <a:pt x="1015" y="214"/>
                  </a:lnTo>
                  <a:lnTo>
                    <a:pt x="1019" y="208"/>
                  </a:lnTo>
                  <a:lnTo>
                    <a:pt x="1024" y="204"/>
                  </a:lnTo>
                  <a:lnTo>
                    <a:pt x="1028" y="200"/>
                  </a:lnTo>
                  <a:lnTo>
                    <a:pt x="1032" y="196"/>
                  </a:lnTo>
                  <a:lnTo>
                    <a:pt x="1037" y="194"/>
                  </a:lnTo>
                  <a:lnTo>
                    <a:pt x="1042" y="192"/>
                  </a:lnTo>
                  <a:lnTo>
                    <a:pt x="1048" y="192"/>
                  </a:lnTo>
                  <a:lnTo>
                    <a:pt x="1053" y="192"/>
                  </a:lnTo>
                  <a:lnTo>
                    <a:pt x="1059" y="194"/>
                  </a:lnTo>
                  <a:lnTo>
                    <a:pt x="1065" y="196"/>
                  </a:lnTo>
                  <a:lnTo>
                    <a:pt x="1071" y="200"/>
                  </a:lnTo>
                  <a:lnTo>
                    <a:pt x="1078" y="205"/>
                  </a:lnTo>
                  <a:lnTo>
                    <a:pt x="1084" y="211"/>
                  </a:lnTo>
                  <a:lnTo>
                    <a:pt x="1091" y="218"/>
                  </a:lnTo>
                  <a:lnTo>
                    <a:pt x="1097" y="227"/>
                  </a:lnTo>
                  <a:lnTo>
                    <a:pt x="1105" y="236"/>
                  </a:lnTo>
                  <a:lnTo>
                    <a:pt x="1111" y="247"/>
                  </a:lnTo>
                  <a:lnTo>
                    <a:pt x="1119" y="260"/>
                  </a:lnTo>
                  <a:lnTo>
                    <a:pt x="1125" y="275"/>
                  </a:lnTo>
                  <a:lnTo>
                    <a:pt x="1133" y="290"/>
                  </a:lnTo>
                  <a:lnTo>
                    <a:pt x="1140" y="309"/>
                  </a:lnTo>
                  <a:lnTo>
                    <a:pt x="1147" y="327"/>
                  </a:lnTo>
                  <a:lnTo>
                    <a:pt x="1155" y="349"/>
                  </a:lnTo>
                  <a:lnTo>
                    <a:pt x="1185" y="433"/>
                  </a:lnTo>
                  <a:lnTo>
                    <a:pt x="1214" y="512"/>
                  </a:lnTo>
                  <a:lnTo>
                    <a:pt x="1242" y="585"/>
                  </a:lnTo>
                  <a:lnTo>
                    <a:pt x="1267" y="652"/>
                  </a:lnTo>
                  <a:lnTo>
                    <a:pt x="1278" y="684"/>
                  </a:lnTo>
                  <a:lnTo>
                    <a:pt x="1286" y="714"/>
                  </a:lnTo>
                  <a:lnTo>
                    <a:pt x="1294" y="743"/>
                  </a:lnTo>
                  <a:lnTo>
                    <a:pt x="1300" y="771"/>
                  </a:lnTo>
                  <a:lnTo>
                    <a:pt x="1304" y="798"/>
                  </a:lnTo>
                  <a:lnTo>
                    <a:pt x="1306" y="824"/>
                  </a:lnTo>
                  <a:lnTo>
                    <a:pt x="1306" y="837"/>
                  </a:lnTo>
                  <a:lnTo>
                    <a:pt x="1306" y="849"/>
                  </a:lnTo>
                  <a:lnTo>
                    <a:pt x="1305" y="861"/>
                  </a:lnTo>
                  <a:lnTo>
                    <a:pt x="1303" y="873"/>
                  </a:lnTo>
                  <a:lnTo>
                    <a:pt x="1299" y="895"/>
                  </a:lnTo>
                  <a:lnTo>
                    <a:pt x="1298" y="918"/>
                  </a:lnTo>
                  <a:lnTo>
                    <a:pt x="1297" y="941"/>
                  </a:lnTo>
                  <a:lnTo>
                    <a:pt x="1298" y="963"/>
                  </a:lnTo>
                  <a:lnTo>
                    <a:pt x="1300" y="985"/>
                  </a:lnTo>
                  <a:lnTo>
                    <a:pt x="1303" y="1006"/>
                  </a:lnTo>
                  <a:lnTo>
                    <a:pt x="1306" y="1028"/>
                  </a:lnTo>
                  <a:lnTo>
                    <a:pt x="1309" y="1049"/>
                  </a:lnTo>
                  <a:lnTo>
                    <a:pt x="1315" y="1089"/>
                  </a:lnTo>
                  <a:lnTo>
                    <a:pt x="1321" y="1125"/>
                  </a:lnTo>
                  <a:lnTo>
                    <a:pt x="1322" y="1143"/>
                  </a:lnTo>
                  <a:lnTo>
                    <a:pt x="1323" y="1158"/>
                  </a:lnTo>
                  <a:lnTo>
                    <a:pt x="1322" y="1173"/>
                  </a:lnTo>
                  <a:lnTo>
                    <a:pt x="1320" y="1187"/>
                  </a:lnTo>
                  <a:lnTo>
                    <a:pt x="1318" y="1191"/>
                  </a:lnTo>
                  <a:lnTo>
                    <a:pt x="1315" y="1193"/>
                  </a:lnTo>
                  <a:lnTo>
                    <a:pt x="1315" y="1193"/>
                  </a:lnTo>
                  <a:lnTo>
                    <a:pt x="1315" y="1191"/>
                  </a:lnTo>
                  <a:lnTo>
                    <a:pt x="1319" y="1180"/>
                  </a:lnTo>
                  <a:lnTo>
                    <a:pt x="1324" y="1162"/>
                  </a:lnTo>
                  <a:lnTo>
                    <a:pt x="1341" y="1109"/>
                  </a:lnTo>
                  <a:lnTo>
                    <a:pt x="1366" y="1038"/>
                  </a:lnTo>
                  <a:lnTo>
                    <a:pt x="1395" y="957"/>
                  </a:lnTo>
                  <a:lnTo>
                    <a:pt x="1424" y="873"/>
                  </a:lnTo>
                  <a:lnTo>
                    <a:pt x="1451" y="794"/>
                  </a:lnTo>
                  <a:lnTo>
                    <a:pt x="1471" y="727"/>
                  </a:lnTo>
                  <a:lnTo>
                    <a:pt x="1479" y="701"/>
                  </a:lnTo>
                  <a:lnTo>
                    <a:pt x="1485" y="679"/>
                  </a:lnTo>
                  <a:lnTo>
                    <a:pt x="1492" y="663"/>
                  </a:lnTo>
                  <a:lnTo>
                    <a:pt x="1496" y="651"/>
                  </a:lnTo>
                  <a:lnTo>
                    <a:pt x="1501" y="641"/>
                  </a:lnTo>
                  <a:lnTo>
                    <a:pt x="1506" y="634"/>
                  </a:lnTo>
                  <a:lnTo>
                    <a:pt x="1511" y="627"/>
                  </a:lnTo>
                  <a:lnTo>
                    <a:pt x="1516" y="621"/>
                  </a:lnTo>
                  <a:lnTo>
                    <a:pt x="1528" y="606"/>
                  </a:lnTo>
                  <a:lnTo>
                    <a:pt x="1543" y="583"/>
                  </a:lnTo>
                  <a:lnTo>
                    <a:pt x="1554" y="566"/>
                  </a:lnTo>
                  <a:lnTo>
                    <a:pt x="1565" y="543"/>
                  </a:lnTo>
                  <a:lnTo>
                    <a:pt x="1579" y="516"/>
                  </a:lnTo>
                  <a:lnTo>
                    <a:pt x="1594" y="482"/>
                  </a:lnTo>
                  <a:lnTo>
                    <a:pt x="1626" y="411"/>
                  </a:lnTo>
                  <a:lnTo>
                    <a:pt x="1653" y="351"/>
                  </a:lnTo>
                  <a:lnTo>
                    <a:pt x="1676" y="296"/>
                  </a:lnTo>
                  <a:lnTo>
                    <a:pt x="1698" y="247"/>
                  </a:lnTo>
                  <a:lnTo>
                    <a:pt x="1716" y="201"/>
                  </a:lnTo>
                  <a:lnTo>
                    <a:pt x="1735" y="155"/>
                  </a:lnTo>
                  <a:lnTo>
                    <a:pt x="1751" y="110"/>
                  </a:lnTo>
                  <a:lnTo>
                    <a:pt x="1767" y="61"/>
                  </a:lnTo>
                  <a:lnTo>
                    <a:pt x="1771" y="50"/>
                  </a:lnTo>
                  <a:lnTo>
                    <a:pt x="1777" y="39"/>
                  </a:lnTo>
                  <a:lnTo>
                    <a:pt x="1781" y="30"/>
                  </a:lnTo>
                  <a:lnTo>
                    <a:pt x="1786" y="22"/>
                  </a:lnTo>
                  <a:lnTo>
                    <a:pt x="1792" y="15"/>
                  </a:lnTo>
                  <a:lnTo>
                    <a:pt x="1797" y="10"/>
                  </a:lnTo>
                  <a:lnTo>
                    <a:pt x="1803" y="5"/>
                  </a:lnTo>
                  <a:lnTo>
                    <a:pt x="1808" y="2"/>
                  </a:lnTo>
                  <a:lnTo>
                    <a:pt x="1813" y="0"/>
                  </a:lnTo>
                  <a:lnTo>
                    <a:pt x="1820" y="0"/>
                  </a:lnTo>
                  <a:lnTo>
                    <a:pt x="1825" y="0"/>
                  </a:lnTo>
                  <a:lnTo>
                    <a:pt x="1831" y="1"/>
                  </a:lnTo>
                  <a:lnTo>
                    <a:pt x="1836" y="4"/>
                  </a:lnTo>
                  <a:lnTo>
                    <a:pt x="1842" y="7"/>
                  </a:lnTo>
                  <a:lnTo>
                    <a:pt x="1847" y="13"/>
                  </a:lnTo>
                  <a:lnTo>
                    <a:pt x="1852" y="18"/>
                  </a:lnTo>
                  <a:lnTo>
                    <a:pt x="1857" y="25"/>
                  </a:lnTo>
                  <a:lnTo>
                    <a:pt x="1862" y="32"/>
                  </a:lnTo>
                  <a:lnTo>
                    <a:pt x="1866" y="42"/>
                  </a:lnTo>
                  <a:lnTo>
                    <a:pt x="1870" y="52"/>
                  </a:lnTo>
                  <a:lnTo>
                    <a:pt x="1874" y="63"/>
                  </a:lnTo>
                  <a:lnTo>
                    <a:pt x="1877" y="74"/>
                  </a:lnTo>
                  <a:lnTo>
                    <a:pt x="1879" y="86"/>
                  </a:lnTo>
                  <a:lnTo>
                    <a:pt x="1883" y="100"/>
                  </a:lnTo>
                  <a:lnTo>
                    <a:pt x="1884" y="114"/>
                  </a:lnTo>
                  <a:lnTo>
                    <a:pt x="1886" y="131"/>
                  </a:lnTo>
                  <a:lnTo>
                    <a:pt x="1887" y="147"/>
                  </a:lnTo>
                  <a:lnTo>
                    <a:pt x="1887" y="163"/>
                  </a:lnTo>
                  <a:lnTo>
                    <a:pt x="1886" y="181"/>
                  </a:lnTo>
                  <a:lnTo>
                    <a:pt x="1886" y="200"/>
                  </a:lnTo>
                  <a:lnTo>
                    <a:pt x="1884" y="219"/>
                  </a:lnTo>
                  <a:lnTo>
                    <a:pt x="1882" y="240"/>
                  </a:lnTo>
                  <a:lnTo>
                    <a:pt x="1865" y="338"/>
                  </a:lnTo>
                  <a:lnTo>
                    <a:pt x="1848" y="437"/>
                  </a:lnTo>
                  <a:lnTo>
                    <a:pt x="1839" y="485"/>
                  </a:lnTo>
                  <a:lnTo>
                    <a:pt x="1832" y="530"/>
                  </a:lnTo>
                  <a:lnTo>
                    <a:pt x="1826" y="572"/>
                  </a:lnTo>
                  <a:lnTo>
                    <a:pt x="1821" y="609"/>
                  </a:lnTo>
                  <a:lnTo>
                    <a:pt x="1818" y="640"/>
                  </a:lnTo>
                  <a:lnTo>
                    <a:pt x="1817" y="666"/>
                  </a:lnTo>
                  <a:lnTo>
                    <a:pt x="1818" y="676"/>
                  </a:lnTo>
                  <a:lnTo>
                    <a:pt x="1819" y="684"/>
                  </a:lnTo>
                  <a:lnTo>
                    <a:pt x="1821" y="689"/>
                  </a:lnTo>
                  <a:lnTo>
                    <a:pt x="1824" y="692"/>
                  </a:lnTo>
                  <a:lnTo>
                    <a:pt x="1828" y="693"/>
                  </a:lnTo>
                  <a:lnTo>
                    <a:pt x="1832" y="692"/>
                  </a:lnTo>
                  <a:lnTo>
                    <a:pt x="1837" y="688"/>
                  </a:lnTo>
                  <a:lnTo>
                    <a:pt x="1844" y="680"/>
                  </a:lnTo>
                  <a:lnTo>
                    <a:pt x="1851" y="671"/>
                  </a:lnTo>
                  <a:lnTo>
                    <a:pt x="1861" y="658"/>
                  </a:lnTo>
                  <a:lnTo>
                    <a:pt x="1871" y="643"/>
                  </a:lnTo>
                  <a:lnTo>
                    <a:pt x="1882" y="623"/>
                  </a:lnTo>
                  <a:lnTo>
                    <a:pt x="1893" y="600"/>
                  </a:lnTo>
                  <a:lnTo>
                    <a:pt x="1905" y="578"/>
                  </a:lnTo>
                  <a:lnTo>
                    <a:pt x="1917" y="554"/>
                  </a:lnTo>
                  <a:lnTo>
                    <a:pt x="1928" y="529"/>
                  </a:lnTo>
                  <a:lnTo>
                    <a:pt x="1950" y="479"/>
                  </a:lnTo>
                  <a:lnTo>
                    <a:pt x="1971" y="428"/>
                  </a:lnTo>
                  <a:lnTo>
                    <a:pt x="2008" y="329"/>
                  </a:lnTo>
                  <a:lnTo>
                    <a:pt x="2040" y="244"/>
                  </a:lnTo>
                  <a:lnTo>
                    <a:pt x="2054" y="211"/>
                  </a:lnTo>
                  <a:lnTo>
                    <a:pt x="2067" y="184"/>
                  </a:lnTo>
                  <a:lnTo>
                    <a:pt x="2074" y="174"/>
                  </a:lnTo>
                  <a:lnTo>
                    <a:pt x="2079" y="166"/>
                  </a:lnTo>
                  <a:lnTo>
                    <a:pt x="2084" y="161"/>
                  </a:lnTo>
                  <a:lnTo>
                    <a:pt x="2089" y="159"/>
                  </a:lnTo>
                  <a:lnTo>
                    <a:pt x="2092" y="160"/>
                  </a:lnTo>
                  <a:lnTo>
                    <a:pt x="2097" y="164"/>
                  </a:lnTo>
                  <a:lnTo>
                    <a:pt x="2100" y="171"/>
                  </a:lnTo>
                  <a:lnTo>
                    <a:pt x="2103" y="181"/>
                  </a:lnTo>
                  <a:lnTo>
                    <a:pt x="2106" y="195"/>
                  </a:lnTo>
                  <a:lnTo>
                    <a:pt x="2108" y="214"/>
                  </a:lnTo>
                  <a:lnTo>
                    <a:pt x="2109" y="235"/>
                  </a:lnTo>
                  <a:lnTo>
                    <a:pt x="2112" y="262"/>
                  </a:lnTo>
                  <a:lnTo>
                    <a:pt x="2114" y="367"/>
                  </a:lnTo>
                  <a:lnTo>
                    <a:pt x="2115" y="459"/>
                  </a:lnTo>
                  <a:lnTo>
                    <a:pt x="2114" y="540"/>
                  </a:lnTo>
                  <a:lnTo>
                    <a:pt x="2113" y="612"/>
                  </a:lnTo>
                  <a:lnTo>
                    <a:pt x="2111" y="678"/>
                  </a:lnTo>
                  <a:lnTo>
                    <a:pt x="2108" y="741"/>
                  </a:lnTo>
                  <a:lnTo>
                    <a:pt x="2107" y="801"/>
                  </a:lnTo>
                  <a:lnTo>
                    <a:pt x="2106" y="863"/>
                  </a:lnTo>
                  <a:lnTo>
                    <a:pt x="2106" y="878"/>
                  </a:lnTo>
                  <a:lnTo>
                    <a:pt x="2107" y="892"/>
                  </a:lnTo>
                  <a:lnTo>
                    <a:pt x="2108" y="905"/>
                  </a:lnTo>
                  <a:lnTo>
                    <a:pt x="2111" y="918"/>
                  </a:lnTo>
                  <a:lnTo>
                    <a:pt x="2113" y="929"/>
                  </a:lnTo>
                  <a:lnTo>
                    <a:pt x="2115" y="940"/>
                  </a:lnTo>
                  <a:lnTo>
                    <a:pt x="2118" y="949"/>
                  </a:lnTo>
                  <a:lnTo>
                    <a:pt x="2121" y="957"/>
                  </a:lnTo>
                  <a:lnTo>
                    <a:pt x="2126" y="964"/>
                  </a:lnTo>
                  <a:lnTo>
                    <a:pt x="2129" y="971"/>
                  </a:lnTo>
                  <a:lnTo>
                    <a:pt x="2133" y="975"/>
                  </a:lnTo>
                  <a:lnTo>
                    <a:pt x="2139" y="979"/>
                  </a:lnTo>
                  <a:lnTo>
                    <a:pt x="2144" y="983"/>
                  </a:lnTo>
                  <a:lnTo>
                    <a:pt x="2149" y="984"/>
                  </a:lnTo>
                  <a:lnTo>
                    <a:pt x="2155" y="985"/>
                  </a:lnTo>
                  <a:lnTo>
                    <a:pt x="2160" y="984"/>
                  </a:lnTo>
                  <a:lnTo>
                    <a:pt x="2167" y="983"/>
                  </a:lnTo>
                  <a:lnTo>
                    <a:pt x="2173" y="979"/>
                  </a:lnTo>
                  <a:lnTo>
                    <a:pt x="2180" y="975"/>
                  </a:lnTo>
                  <a:lnTo>
                    <a:pt x="2186" y="970"/>
                  </a:lnTo>
                  <a:lnTo>
                    <a:pt x="2194" y="964"/>
                  </a:lnTo>
                  <a:lnTo>
                    <a:pt x="2200" y="956"/>
                  </a:lnTo>
                  <a:lnTo>
                    <a:pt x="2208" y="947"/>
                  </a:lnTo>
                  <a:lnTo>
                    <a:pt x="2214" y="937"/>
                  </a:lnTo>
                  <a:lnTo>
                    <a:pt x="2222" y="925"/>
                  </a:lnTo>
                  <a:lnTo>
                    <a:pt x="2229" y="914"/>
                  </a:lnTo>
                  <a:lnTo>
                    <a:pt x="2237" y="900"/>
                  </a:lnTo>
                  <a:lnTo>
                    <a:pt x="2245" y="884"/>
                  </a:lnTo>
                  <a:lnTo>
                    <a:pt x="2260" y="850"/>
                  </a:lnTo>
                  <a:lnTo>
                    <a:pt x="2275" y="811"/>
                  </a:lnTo>
                  <a:lnTo>
                    <a:pt x="2303" y="733"/>
                  </a:lnTo>
                  <a:lnTo>
                    <a:pt x="2330" y="663"/>
                  </a:lnTo>
                  <a:lnTo>
                    <a:pt x="2341" y="633"/>
                  </a:lnTo>
                  <a:lnTo>
                    <a:pt x="2351" y="608"/>
                  </a:lnTo>
                  <a:lnTo>
                    <a:pt x="2361" y="587"/>
                  </a:lnTo>
                  <a:lnTo>
                    <a:pt x="2369" y="572"/>
                  </a:lnTo>
                  <a:lnTo>
                    <a:pt x="2373" y="568"/>
                  </a:lnTo>
                  <a:lnTo>
                    <a:pt x="2375" y="565"/>
                  </a:lnTo>
                  <a:lnTo>
                    <a:pt x="2378" y="564"/>
                  </a:lnTo>
                  <a:lnTo>
                    <a:pt x="2381" y="565"/>
                  </a:lnTo>
                  <a:lnTo>
                    <a:pt x="2383" y="568"/>
                  </a:lnTo>
                  <a:lnTo>
                    <a:pt x="2384" y="573"/>
                  </a:lnTo>
                  <a:lnTo>
                    <a:pt x="2384" y="581"/>
                  </a:lnTo>
                  <a:lnTo>
                    <a:pt x="2385" y="591"/>
                  </a:lnTo>
                  <a:lnTo>
                    <a:pt x="2384" y="619"/>
                  </a:lnTo>
                  <a:lnTo>
                    <a:pt x="2380" y="657"/>
                  </a:lnTo>
                  <a:lnTo>
                    <a:pt x="2374" y="706"/>
                  </a:lnTo>
                  <a:lnTo>
                    <a:pt x="2366" y="769"/>
                  </a:lnTo>
                  <a:lnTo>
                    <a:pt x="2358" y="830"/>
                  </a:lnTo>
                  <a:lnTo>
                    <a:pt x="2349" y="887"/>
                  </a:lnTo>
                  <a:lnTo>
                    <a:pt x="2341" y="938"/>
                  </a:lnTo>
                  <a:lnTo>
                    <a:pt x="2332" y="986"/>
                  </a:lnTo>
                  <a:lnTo>
                    <a:pt x="2323" y="1027"/>
                  </a:lnTo>
                  <a:lnTo>
                    <a:pt x="2316" y="1065"/>
                  </a:lnTo>
                  <a:lnTo>
                    <a:pt x="2308" y="1098"/>
                  </a:lnTo>
                  <a:lnTo>
                    <a:pt x="2301" y="1127"/>
                  </a:lnTo>
                  <a:lnTo>
                    <a:pt x="2288" y="1174"/>
                  </a:lnTo>
                  <a:lnTo>
                    <a:pt x="2278" y="1205"/>
                  </a:lnTo>
                  <a:lnTo>
                    <a:pt x="2272" y="1222"/>
                  </a:lnTo>
                  <a:lnTo>
                    <a:pt x="2269" y="1228"/>
                  </a:lnTo>
                  <a:lnTo>
                    <a:pt x="2269" y="1235"/>
                  </a:lnTo>
                  <a:lnTo>
                    <a:pt x="2269" y="1255"/>
                  </a:lnTo>
                  <a:lnTo>
                    <a:pt x="2267" y="1284"/>
                  </a:lnTo>
                  <a:lnTo>
                    <a:pt x="2265" y="1319"/>
                  </a:lnTo>
                  <a:lnTo>
                    <a:pt x="2261" y="1355"/>
                  </a:lnTo>
                  <a:lnTo>
                    <a:pt x="2255" y="1392"/>
                  </a:lnTo>
                  <a:lnTo>
                    <a:pt x="2251" y="1409"/>
                  </a:lnTo>
                  <a:lnTo>
                    <a:pt x="2247" y="1426"/>
                  </a:lnTo>
                  <a:lnTo>
                    <a:pt x="2241" y="1438"/>
                  </a:lnTo>
                  <a:lnTo>
                    <a:pt x="2235" y="1450"/>
                  </a:lnTo>
                  <a:lnTo>
                    <a:pt x="2228" y="1463"/>
                  </a:lnTo>
                  <a:lnTo>
                    <a:pt x="2222" y="1482"/>
                  </a:lnTo>
                  <a:lnTo>
                    <a:pt x="2215" y="1503"/>
                  </a:lnTo>
                  <a:lnTo>
                    <a:pt x="2209" y="1528"/>
                  </a:lnTo>
                  <a:lnTo>
                    <a:pt x="2196" y="1588"/>
                  </a:lnTo>
                  <a:lnTo>
                    <a:pt x="2184" y="1651"/>
                  </a:lnTo>
                  <a:lnTo>
                    <a:pt x="2174" y="1716"/>
                  </a:lnTo>
                  <a:lnTo>
                    <a:pt x="2166" y="1777"/>
                  </a:lnTo>
                  <a:lnTo>
                    <a:pt x="2160" y="1826"/>
                  </a:lnTo>
                  <a:lnTo>
                    <a:pt x="2158" y="1861"/>
                  </a:lnTo>
                  <a:lnTo>
                    <a:pt x="2158" y="1888"/>
                  </a:lnTo>
                  <a:lnTo>
                    <a:pt x="2156" y="1916"/>
                  </a:lnTo>
                  <a:lnTo>
                    <a:pt x="2153" y="1946"/>
                  </a:lnTo>
                  <a:lnTo>
                    <a:pt x="2148" y="1980"/>
                  </a:lnTo>
                  <a:lnTo>
                    <a:pt x="2142" y="2015"/>
                  </a:lnTo>
                  <a:lnTo>
                    <a:pt x="2134" y="2054"/>
                  </a:lnTo>
                  <a:lnTo>
                    <a:pt x="2125" y="2096"/>
                  </a:lnTo>
                  <a:lnTo>
                    <a:pt x="2114" y="2140"/>
                  </a:lnTo>
                  <a:lnTo>
                    <a:pt x="2095" y="2209"/>
                  </a:lnTo>
                  <a:lnTo>
                    <a:pt x="2070" y="2311"/>
                  </a:lnTo>
                  <a:lnTo>
                    <a:pt x="2038" y="2436"/>
                  </a:lnTo>
                  <a:lnTo>
                    <a:pt x="2006" y="2569"/>
                  </a:lnTo>
                  <a:lnTo>
                    <a:pt x="1974" y="2697"/>
                  </a:lnTo>
                  <a:lnTo>
                    <a:pt x="1949" y="2804"/>
                  </a:lnTo>
                  <a:lnTo>
                    <a:pt x="1930" y="2879"/>
                  </a:lnTo>
                  <a:lnTo>
                    <a:pt x="1924" y="2907"/>
                  </a:lnTo>
                  <a:lnTo>
                    <a:pt x="1889" y="2921"/>
                  </a:lnTo>
                  <a:lnTo>
                    <a:pt x="1798" y="2960"/>
                  </a:lnTo>
                  <a:lnTo>
                    <a:pt x="1669" y="3014"/>
                  </a:lnTo>
                  <a:lnTo>
                    <a:pt x="1517" y="3075"/>
                  </a:lnTo>
                  <a:lnTo>
                    <a:pt x="1440" y="3104"/>
                  </a:lnTo>
                  <a:lnTo>
                    <a:pt x="1362" y="3133"/>
                  </a:lnTo>
                  <a:lnTo>
                    <a:pt x="1288" y="3158"/>
                  </a:lnTo>
                  <a:lnTo>
                    <a:pt x="1220" y="3179"/>
                  </a:lnTo>
                  <a:lnTo>
                    <a:pt x="1189" y="3189"/>
                  </a:lnTo>
                  <a:lnTo>
                    <a:pt x="1160" y="3197"/>
                  </a:lnTo>
                  <a:lnTo>
                    <a:pt x="1133" y="3203"/>
                  </a:lnTo>
                  <a:lnTo>
                    <a:pt x="1109" y="3209"/>
                  </a:lnTo>
                  <a:lnTo>
                    <a:pt x="1088" y="3211"/>
                  </a:lnTo>
                  <a:lnTo>
                    <a:pt x="1070" y="3212"/>
                  </a:lnTo>
                  <a:lnTo>
                    <a:pt x="1056" y="3212"/>
                  </a:lnTo>
                  <a:lnTo>
                    <a:pt x="1045" y="3209"/>
                  </a:lnTo>
                  <a:lnTo>
                    <a:pt x="1029" y="3201"/>
                  </a:lnTo>
                  <a:lnTo>
                    <a:pt x="1013" y="3197"/>
                  </a:lnTo>
                  <a:lnTo>
                    <a:pt x="997" y="3193"/>
                  </a:lnTo>
                  <a:lnTo>
                    <a:pt x="981" y="3193"/>
                  </a:lnTo>
                  <a:lnTo>
                    <a:pt x="965" y="3195"/>
                  </a:lnTo>
                  <a:lnTo>
                    <a:pt x="949" y="3197"/>
                  </a:lnTo>
                  <a:lnTo>
                    <a:pt x="934" y="3201"/>
                  </a:lnTo>
                  <a:lnTo>
                    <a:pt x="920" y="3205"/>
                  </a:lnTo>
                  <a:lnTo>
                    <a:pt x="891" y="3217"/>
                  </a:lnTo>
                  <a:lnTo>
                    <a:pt x="863" y="3230"/>
                  </a:lnTo>
                  <a:lnTo>
                    <a:pt x="836" y="3243"/>
                  </a:lnTo>
                  <a:lnTo>
                    <a:pt x="811" y="3253"/>
                  </a:lnTo>
                  <a:lnTo>
                    <a:pt x="797" y="3256"/>
                  </a:lnTo>
                  <a:lnTo>
                    <a:pt x="781" y="3258"/>
                  </a:lnTo>
                  <a:lnTo>
                    <a:pt x="763" y="3259"/>
                  </a:lnTo>
                  <a:lnTo>
                    <a:pt x="744" y="3259"/>
                  </a:lnTo>
                  <a:lnTo>
                    <a:pt x="725" y="3258"/>
                  </a:lnTo>
                  <a:lnTo>
                    <a:pt x="704" y="3256"/>
                  </a:lnTo>
                  <a:lnTo>
                    <a:pt x="684" y="3253"/>
                  </a:lnTo>
                  <a:lnTo>
                    <a:pt x="663" y="3250"/>
                  </a:lnTo>
                  <a:lnTo>
                    <a:pt x="644" y="3244"/>
                  </a:lnTo>
                  <a:lnTo>
                    <a:pt x="626" y="3240"/>
                  </a:lnTo>
                  <a:lnTo>
                    <a:pt x="609" y="3233"/>
                  </a:lnTo>
                  <a:lnTo>
                    <a:pt x="595" y="3227"/>
                  </a:lnTo>
                  <a:lnTo>
                    <a:pt x="583" y="3219"/>
                  </a:lnTo>
                  <a:lnTo>
                    <a:pt x="573" y="3212"/>
                  </a:lnTo>
                  <a:lnTo>
                    <a:pt x="570" y="3209"/>
                  </a:lnTo>
                  <a:lnTo>
                    <a:pt x="568" y="3204"/>
                  </a:lnTo>
                  <a:lnTo>
                    <a:pt x="567" y="3200"/>
                  </a:lnTo>
                  <a:lnTo>
                    <a:pt x="566" y="3196"/>
                  </a:lnTo>
                  <a:lnTo>
                    <a:pt x="566" y="3188"/>
                  </a:lnTo>
                  <a:lnTo>
                    <a:pt x="564" y="3181"/>
                  </a:lnTo>
                  <a:lnTo>
                    <a:pt x="561" y="3173"/>
                  </a:lnTo>
                  <a:lnTo>
                    <a:pt x="557" y="3168"/>
                  </a:lnTo>
                  <a:lnTo>
                    <a:pt x="553" y="3161"/>
                  </a:lnTo>
                  <a:lnTo>
                    <a:pt x="547" y="3157"/>
                  </a:lnTo>
                  <a:lnTo>
                    <a:pt x="540" y="3152"/>
                  </a:lnTo>
                  <a:lnTo>
                    <a:pt x="532" y="3149"/>
                  </a:lnTo>
                  <a:lnTo>
                    <a:pt x="524" y="3146"/>
                  </a:lnTo>
                  <a:lnTo>
                    <a:pt x="514" y="3144"/>
                  </a:lnTo>
                  <a:lnTo>
                    <a:pt x="503" y="3143"/>
                  </a:lnTo>
                  <a:lnTo>
                    <a:pt x="491" y="3143"/>
                  </a:lnTo>
                  <a:lnTo>
                    <a:pt x="478" y="3144"/>
                  </a:lnTo>
                  <a:lnTo>
                    <a:pt x="464" y="3145"/>
                  </a:lnTo>
                  <a:lnTo>
                    <a:pt x="449" y="3148"/>
                  </a:lnTo>
                  <a:lnTo>
                    <a:pt x="433" y="3151"/>
                  </a:lnTo>
                  <a:lnTo>
                    <a:pt x="416" y="3155"/>
                  </a:lnTo>
                  <a:lnTo>
                    <a:pt x="398" y="3158"/>
                  </a:lnTo>
                  <a:lnTo>
                    <a:pt x="382" y="3159"/>
                  </a:lnTo>
                  <a:lnTo>
                    <a:pt x="366" y="3159"/>
                  </a:lnTo>
                  <a:lnTo>
                    <a:pt x="350" y="3159"/>
                  </a:lnTo>
                  <a:lnTo>
                    <a:pt x="334" y="3158"/>
                  </a:lnTo>
                  <a:lnTo>
                    <a:pt x="319" y="3157"/>
                  </a:lnTo>
                  <a:lnTo>
                    <a:pt x="305" y="3155"/>
                  </a:lnTo>
                  <a:lnTo>
                    <a:pt x="281" y="3150"/>
                  </a:lnTo>
                  <a:lnTo>
                    <a:pt x="261" y="3146"/>
                  </a:lnTo>
                  <a:lnTo>
                    <a:pt x="249" y="3143"/>
                  </a:lnTo>
                  <a:lnTo>
                    <a:pt x="245" y="3142"/>
                  </a:lnTo>
                  <a:lnTo>
                    <a:pt x="0" y="1918"/>
                  </a:lnTo>
                  <a:lnTo>
                    <a:pt x="311" y="1372"/>
                  </a:lnTo>
                  <a:lnTo>
                    <a:pt x="315" y="1362"/>
                  </a:lnTo>
                  <a:lnTo>
                    <a:pt x="327" y="1333"/>
                  </a:lnTo>
                  <a:lnTo>
                    <a:pt x="334" y="1311"/>
                  </a:lnTo>
                  <a:lnTo>
                    <a:pt x="342" y="1287"/>
                  </a:lnTo>
                  <a:lnTo>
                    <a:pt x="351" y="1259"/>
                  </a:lnTo>
                  <a:lnTo>
                    <a:pt x="359" y="1228"/>
                  </a:lnTo>
                  <a:lnTo>
                    <a:pt x="368" y="1193"/>
                  </a:lnTo>
                  <a:lnTo>
                    <a:pt x="377" y="1157"/>
                  </a:lnTo>
                  <a:lnTo>
                    <a:pt x="384" y="1118"/>
                  </a:lnTo>
                  <a:lnTo>
                    <a:pt x="392" y="1077"/>
                  </a:lnTo>
                  <a:lnTo>
                    <a:pt x="397" y="1035"/>
                  </a:lnTo>
                  <a:lnTo>
                    <a:pt x="400" y="990"/>
                  </a:lnTo>
                  <a:lnTo>
                    <a:pt x="403" y="968"/>
                  </a:lnTo>
                  <a:lnTo>
                    <a:pt x="403" y="945"/>
                  </a:lnTo>
                  <a:lnTo>
                    <a:pt x="403" y="922"/>
                  </a:lnTo>
                  <a:lnTo>
                    <a:pt x="403" y="900"/>
                  </a:lnTo>
                  <a:lnTo>
                    <a:pt x="402" y="809"/>
                  </a:lnTo>
                  <a:lnTo>
                    <a:pt x="399" y="722"/>
                  </a:lnTo>
                  <a:lnTo>
                    <a:pt x="398" y="640"/>
                  </a:lnTo>
                  <a:lnTo>
                    <a:pt x="395" y="564"/>
                  </a:lnTo>
                  <a:lnTo>
                    <a:pt x="392" y="527"/>
                  </a:lnTo>
                  <a:lnTo>
                    <a:pt x="390" y="492"/>
                  </a:lnTo>
                  <a:lnTo>
                    <a:pt x="385" y="460"/>
                  </a:lnTo>
                  <a:lnTo>
                    <a:pt x="381" y="430"/>
                  </a:lnTo>
                  <a:lnTo>
                    <a:pt x="376" y="401"/>
                  </a:lnTo>
                  <a:lnTo>
                    <a:pt x="369" y="375"/>
                  </a:lnTo>
                  <a:lnTo>
                    <a:pt x="362" y="350"/>
                  </a:lnTo>
                  <a:lnTo>
                    <a:pt x="353" y="328"/>
                  </a:lnTo>
                  <a:lnTo>
                    <a:pt x="349" y="319"/>
                  </a:lnTo>
                  <a:lnTo>
                    <a:pt x="345" y="309"/>
                  </a:lnTo>
                  <a:lnTo>
                    <a:pt x="343" y="300"/>
                  </a:lnTo>
                  <a:lnTo>
                    <a:pt x="341" y="292"/>
                  </a:lnTo>
                  <a:lnTo>
                    <a:pt x="340" y="284"/>
                  </a:lnTo>
                  <a:lnTo>
                    <a:pt x="340" y="277"/>
                  </a:lnTo>
                  <a:lnTo>
                    <a:pt x="340" y="271"/>
                  </a:lnTo>
                  <a:lnTo>
                    <a:pt x="341" y="266"/>
                  </a:lnTo>
                  <a:lnTo>
                    <a:pt x="343" y="260"/>
                  </a:lnTo>
                  <a:lnTo>
                    <a:pt x="344" y="256"/>
                  </a:lnTo>
                  <a:lnTo>
                    <a:pt x="348" y="253"/>
                  </a:lnTo>
                  <a:lnTo>
                    <a:pt x="350" y="249"/>
                  </a:lnTo>
                  <a:lnTo>
                    <a:pt x="353" y="247"/>
                  </a:lnTo>
                  <a:lnTo>
                    <a:pt x="357" y="245"/>
                  </a:lnTo>
                  <a:lnTo>
                    <a:pt x="362" y="244"/>
                  </a:lnTo>
                  <a:lnTo>
                    <a:pt x="365" y="243"/>
                  </a:lnTo>
                  <a:lnTo>
                    <a:pt x="375" y="243"/>
                  </a:lnTo>
                  <a:lnTo>
                    <a:pt x="384" y="245"/>
                  </a:lnTo>
                  <a:lnTo>
                    <a:pt x="394" y="248"/>
                  </a:lnTo>
                  <a:lnTo>
                    <a:pt x="404" y="255"/>
                  </a:lnTo>
                  <a:lnTo>
                    <a:pt x="413" y="261"/>
                  </a:lnTo>
                  <a:lnTo>
                    <a:pt x="421" y="271"/>
                  </a:lnTo>
                  <a:lnTo>
                    <a:pt x="429" y="282"/>
                  </a:lnTo>
                  <a:lnTo>
                    <a:pt x="435" y="294"/>
                  </a:lnTo>
                  <a:lnTo>
                    <a:pt x="438" y="304"/>
                  </a:lnTo>
                  <a:lnTo>
                    <a:pt x="442" y="315"/>
                  </a:lnTo>
                  <a:lnTo>
                    <a:pt x="445" y="324"/>
                  </a:lnTo>
                  <a:lnTo>
                    <a:pt x="449" y="333"/>
                  </a:lnTo>
                  <a:lnTo>
                    <a:pt x="455" y="340"/>
                  </a:lnTo>
                  <a:lnTo>
                    <a:pt x="459" y="348"/>
                  </a:lnTo>
                  <a:lnTo>
                    <a:pt x="464" y="354"/>
                  </a:lnTo>
                  <a:lnTo>
                    <a:pt x="470" y="360"/>
                  </a:lnTo>
                  <a:lnTo>
                    <a:pt x="482" y="369"/>
                  </a:lnTo>
                  <a:lnTo>
                    <a:pt x="493" y="376"/>
                  </a:lnTo>
                  <a:lnTo>
                    <a:pt x="505" y="381"/>
                  </a:lnTo>
                  <a:lnTo>
                    <a:pt x="518" y="385"/>
                  </a:lnTo>
                  <a:lnTo>
                    <a:pt x="529" y="388"/>
                  </a:lnTo>
                  <a:lnTo>
                    <a:pt x="541" y="389"/>
                  </a:lnTo>
                  <a:lnTo>
                    <a:pt x="551" y="389"/>
                  </a:lnTo>
                  <a:lnTo>
                    <a:pt x="560" y="389"/>
                  </a:lnTo>
                  <a:lnTo>
                    <a:pt x="573" y="387"/>
                  </a:lnTo>
                  <a:lnTo>
                    <a:pt x="579" y="385"/>
                  </a:lnTo>
                  <a:lnTo>
                    <a:pt x="582" y="378"/>
                  </a:lnTo>
                  <a:lnTo>
                    <a:pt x="593" y="356"/>
                  </a:lnTo>
                  <a:lnTo>
                    <a:pt x="607" y="326"/>
                  </a:lnTo>
                  <a:lnTo>
                    <a:pt x="625" y="293"/>
                  </a:lnTo>
                  <a:lnTo>
                    <a:pt x="642" y="259"/>
                  </a:lnTo>
                  <a:lnTo>
                    <a:pt x="660" y="231"/>
                  </a:lnTo>
                  <a:lnTo>
                    <a:pt x="667" y="220"/>
                  </a:lnTo>
                  <a:lnTo>
                    <a:pt x="674" y="213"/>
                  </a:lnTo>
                  <a:lnTo>
                    <a:pt x="676" y="209"/>
                  </a:lnTo>
                  <a:lnTo>
                    <a:pt x="678" y="208"/>
                  </a:lnTo>
                  <a:lnTo>
                    <a:pt x="680" y="207"/>
                  </a:lnTo>
                  <a:lnTo>
                    <a:pt x="682" y="207"/>
                  </a:lnTo>
                  <a:lnTo>
                    <a:pt x="686" y="217"/>
                  </a:lnTo>
                  <a:lnTo>
                    <a:pt x="691" y="226"/>
                  </a:lnTo>
                  <a:lnTo>
                    <a:pt x="696" y="234"/>
                  </a:lnTo>
                  <a:lnTo>
                    <a:pt x="703" y="243"/>
                  </a:lnTo>
                  <a:lnTo>
                    <a:pt x="718" y="258"/>
                  </a:lnTo>
                  <a:lnTo>
                    <a:pt x="734" y="275"/>
                  </a:lnTo>
                  <a:lnTo>
                    <a:pt x="752" y="294"/>
                  </a:lnTo>
                  <a:lnTo>
                    <a:pt x="769" y="315"/>
                  </a:lnTo>
                  <a:lnTo>
                    <a:pt x="778" y="327"/>
                  </a:lnTo>
                  <a:lnTo>
                    <a:pt x="785" y="340"/>
                  </a:lnTo>
                  <a:lnTo>
                    <a:pt x="792" y="355"/>
                  </a:lnTo>
                  <a:lnTo>
                    <a:pt x="798" y="370"/>
                  </a:lnTo>
                  <a:lnTo>
                    <a:pt x="806" y="389"/>
                  </a:lnTo>
                  <a:lnTo>
                    <a:pt x="816" y="410"/>
                  </a:lnTo>
                  <a:lnTo>
                    <a:pt x="828" y="435"/>
                  </a:lnTo>
                  <a:lnTo>
                    <a:pt x="842" y="461"/>
                  </a:lnTo>
                  <a:lnTo>
                    <a:pt x="857" y="487"/>
                  </a:lnTo>
                  <a:lnTo>
                    <a:pt x="873" y="515"/>
                  </a:lnTo>
                  <a:lnTo>
                    <a:pt x="889" y="542"/>
                  </a:lnTo>
                  <a:lnTo>
                    <a:pt x="905" y="568"/>
                  </a:lnTo>
                  <a:lnTo>
                    <a:pt x="921" y="592"/>
                  </a:lnTo>
                  <a:lnTo>
                    <a:pt x="936" y="613"/>
                  </a:lnTo>
                  <a:lnTo>
                    <a:pt x="951" y="632"/>
                  </a:lnTo>
                  <a:lnTo>
                    <a:pt x="963" y="647"/>
                  </a:lnTo>
                  <a:lnTo>
                    <a:pt x="970" y="653"/>
                  </a:lnTo>
                  <a:lnTo>
                    <a:pt x="975" y="658"/>
                  </a:lnTo>
                  <a:lnTo>
                    <a:pt x="980" y="661"/>
                  </a:lnTo>
                  <a:lnTo>
                    <a:pt x="984" y="663"/>
                  </a:lnTo>
                  <a:lnTo>
                    <a:pt x="987" y="663"/>
                  </a:lnTo>
                  <a:lnTo>
                    <a:pt x="990" y="662"/>
                  </a:lnTo>
                  <a:lnTo>
                    <a:pt x="992" y="660"/>
                  </a:lnTo>
                  <a:lnTo>
                    <a:pt x="994" y="654"/>
                  </a:lnTo>
                  <a:close/>
                </a:path>
              </a:pathLst>
            </a:custGeom>
            <a:solidFill>
              <a:srgbClr val="6195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329080" y="2401920"/>
              <a:ext cx="752760" cy="1017720"/>
            </a:xfrm>
            <a:custGeom>
              <a:avLst/>
              <a:gdLst/>
              <a:ahLst/>
              <a:rect l="l" t="t" r="r" b="b"/>
              <a:pathLst>
                <a:path w="2373" h="3205">
                  <a:moveTo>
                    <a:pt x="1001" y="673"/>
                  </a:moveTo>
                  <a:lnTo>
                    <a:pt x="1004" y="648"/>
                  </a:lnTo>
                  <a:lnTo>
                    <a:pt x="1009" y="613"/>
                  </a:lnTo>
                  <a:lnTo>
                    <a:pt x="1012" y="572"/>
                  </a:lnTo>
                  <a:lnTo>
                    <a:pt x="1015" y="524"/>
                  </a:lnTo>
                  <a:lnTo>
                    <a:pt x="1017" y="470"/>
                  </a:lnTo>
                  <a:lnTo>
                    <a:pt x="1019" y="412"/>
                  </a:lnTo>
                  <a:lnTo>
                    <a:pt x="1021" y="352"/>
                  </a:lnTo>
                  <a:lnTo>
                    <a:pt x="1021" y="289"/>
                  </a:lnTo>
                  <a:lnTo>
                    <a:pt x="1022" y="271"/>
                  </a:lnTo>
                  <a:lnTo>
                    <a:pt x="1024" y="253"/>
                  </a:lnTo>
                  <a:lnTo>
                    <a:pt x="1026" y="234"/>
                  </a:lnTo>
                  <a:lnTo>
                    <a:pt x="1030" y="217"/>
                  </a:lnTo>
                  <a:lnTo>
                    <a:pt x="1036" y="202"/>
                  </a:lnTo>
                  <a:lnTo>
                    <a:pt x="1042" y="190"/>
                  </a:lnTo>
                  <a:lnTo>
                    <a:pt x="1045" y="185"/>
                  </a:lnTo>
                  <a:lnTo>
                    <a:pt x="1050" y="179"/>
                  </a:lnTo>
                  <a:lnTo>
                    <a:pt x="1054" y="176"/>
                  </a:lnTo>
                  <a:lnTo>
                    <a:pt x="1058" y="173"/>
                  </a:lnTo>
                  <a:lnTo>
                    <a:pt x="1063" y="172"/>
                  </a:lnTo>
                  <a:lnTo>
                    <a:pt x="1067" y="171"/>
                  </a:lnTo>
                  <a:lnTo>
                    <a:pt x="1072" y="171"/>
                  </a:lnTo>
                  <a:lnTo>
                    <a:pt x="1078" y="172"/>
                  </a:lnTo>
                  <a:lnTo>
                    <a:pt x="1083" y="175"/>
                  </a:lnTo>
                  <a:lnTo>
                    <a:pt x="1089" y="179"/>
                  </a:lnTo>
                  <a:lnTo>
                    <a:pt x="1094" y="185"/>
                  </a:lnTo>
                  <a:lnTo>
                    <a:pt x="1101" y="191"/>
                  </a:lnTo>
                  <a:lnTo>
                    <a:pt x="1106" y="200"/>
                  </a:lnTo>
                  <a:lnTo>
                    <a:pt x="1112" y="209"/>
                  </a:lnTo>
                  <a:lnTo>
                    <a:pt x="1119" y="221"/>
                  </a:lnTo>
                  <a:lnTo>
                    <a:pt x="1126" y="234"/>
                  </a:lnTo>
                  <a:lnTo>
                    <a:pt x="1133" y="249"/>
                  </a:lnTo>
                  <a:lnTo>
                    <a:pt x="1139" y="267"/>
                  </a:lnTo>
                  <a:lnTo>
                    <a:pt x="1147" y="286"/>
                  </a:lnTo>
                  <a:lnTo>
                    <a:pt x="1155" y="307"/>
                  </a:lnTo>
                  <a:lnTo>
                    <a:pt x="1183" y="391"/>
                  </a:lnTo>
                  <a:lnTo>
                    <a:pt x="1210" y="471"/>
                  </a:lnTo>
                  <a:lnTo>
                    <a:pt x="1233" y="545"/>
                  </a:lnTo>
                  <a:lnTo>
                    <a:pt x="1255" y="614"/>
                  </a:lnTo>
                  <a:lnTo>
                    <a:pt x="1264" y="647"/>
                  </a:lnTo>
                  <a:lnTo>
                    <a:pt x="1270" y="679"/>
                  </a:lnTo>
                  <a:lnTo>
                    <a:pt x="1277" y="708"/>
                  </a:lnTo>
                  <a:lnTo>
                    <a:pt x="1281" y="738"/>
                  </a:lnTo>
                  <a:lnTo>
                    <a:pt x="1284" y="766"/>
                  </a:lnTo>
                  <a:lnTo>
                    <a:pt x="1284" y="792"/>
                  </a:lnTo>
                  <a:lnTo>
                    <a:pt x="1284" y="805"/>
                  </a:lnTo>
                  <a:lnTo>
                    <a:pt x="1283" y="816"/>
                  </a:lnTo>
                  <a:lnTo>
                    <a:pt x="1282" y="829"/>
                  </a:lnTo>
                  <a:lnTo>
                    <a:pt x="1281" y="840"/>
                  </a:lnTo>
                  <a:lnTo>
                    <a:pt x="1277" y="864"/>
                  </a:lnTo>
                  <a:lnTo>
                    <a:pt x="1274" y="888"/>
                  </a:lnTo>
                  <a:lnTo>
                    <a:pt x="1272" y="911"/>
                  </a:lnTo>
                  <a:lnTo>
                    <a:pt x="1271" y="936"/>
                  </a:lnTo>
                  <a:lnTo>
                    <a:pt x="1271" y="961"/>
                  </a:lnTo>
                  <a:lnTo>
                    <a:pt x="1271" y="986"/>
                  </a:lnTo>
                  <a:lnTo>
                    <a:pt x="1272" y="1011"/>
                  </a:lnTo>
                  <a:lnTo>
                    <a:pt x="1273" y="1035"/>
                  </a:lnTo>
                  <a:lnTo>
                    <a:pt x="1278" y="1081"/>
                  </a:lnTo>
                  <a:lnTo>
                    <a:pt x="1283" y="1123"/>
                  </a:lnTo>
                  <a:lnTo>
                    <a:pt x="1287" y="1160"/>
                  </a:lnTo>
                  <a:lnTo>
                    <a:pt x="1293" y="1189"/>
                  </a:lnTo>
                  <a:lnTo>
                    <a:pt x="1292" y="1193"/>
                  </a:lnTo>
                  <a:lnTo>
                    <a:pt x="1292" y="1195"/>
                  </a:lnTo>
                  <a:lnTo>
                    <a:pt x="1293" y="1195"/>
                  </a:lnTo>
                  <a:lnTo>
                    <a:pt x="1295" y="1193"/>
                  </a:lnTo>
                  <a:lnTo>
                    <a:pt x="1300" y="1183"/>
                  </a:lnTo>
                  <a:lnTo>
                    <a:pt x="1309" y="1164"/>
                  </a:lnTo>
                  <a:lnTo>
                    <a:pt x="1333" y="1111"/>
                  </a:lnTo>
                  <a:lnTo>
                    <a:pt x="1362" y="1040"/>
                  </a:lnTo>
                  <a:lnTo>
                    <a:pt x="1394" y="959"/>
                  </a:lnTo>
                  <a:lnTo>
                    <a:pt x="1427" y="876"/>
                  </a:lnTo>
                  <a:lnTo>
                    <a:pt x="1441" y="835"/>
                  </a:lnTo>
                  <a:lnTo>
                    <a:pt x="1455" y="796"/>
                  </a:lnTo>
                  <a:lnTo>
                    <a:pt x="1467" y="761"/>
                  </a:lnTo>
                  <a:lnTo>
                    <a:pt x="1475" y="730"/>
                  </a:lnTo>
                  <a:lnTo>
                    <a:pt x="1490" y="681"/>
                  </a:lnTo>
                  <a:lnTo>
                    <a:pt x="1501" y="648"/>
                  </a:lnTo>
                  <a:lnTo>
                    <a:pt x="1512" y="624"/>
                  </a:lnTo>
                  <a:lnTo>
                    <a:pt x="1522" y="606"/>
                  </a:lnTo>
                  <a:lnTo>
                    <a:pt x="1535" y="584"/>
                  </a:lnTo>
                  <a:lnTo>
                    <a:pt x="1551" y="554"/>
                  </a:lnTo>
                  <a:lnTo>
                    <a:pt x="1573" y="511"/>
                  </a:lnTo>
                  <a:lnTo>
                    <a:pt x="1602" y="448"/>
                  </a:lnTo>
                  <a:lnTo>
                    <a:pt x="1632" y="379"/>
                  </a:lnTo>
                  <a:lnTo>
                    <a:pt x="1658" y="321"/>
                  </a:lnTo>
                  <a:lnTo>
                    <a:pt x="1678" y="271"/>
                  </a:lnTo>
                  <a:lnTo>
                    <a:pt x="1697" y="228"/>
                  </a:lnTo>
                  <a:lnTo>
                    <a:pt x="1712" y="187"/>
                  </a:lnTo>
                  <a:lnTo>
                    <a:pt x="1727" y="147"/>
                  </a:lnTo>
                  <a:lnTo>
                    <a:pt x="1742" y="104"/>
                  </a:lnTo>
                  <a:lnTo>
                    <a:pt x="1757" y="57"/>
                  </a:lnTo>
                  <a:lnTo>
                    <a:pt x="1762" y="45"/>
                  </a:lnTo>
                  <a:lnTo>
                    <a:pt x="1766" y="34"/>
                  </a:lnTo>
                  <a:lnTo>
                    <a:pt x="1771" y="26"/>
                  </a:lnTo>
                  <a:lnTo>
                    <a:pt x="1776" y="18"/>
                  </a:lnTo>
                  <a:lnTo>
                    <a:pt x="1781" y="12"/>
                  </a:lnTo>
                  <a:lnTo>
                    <a:pt x="1785" y="7"/>
                  </a:lnTo>
                  <a:lnTo>
                    <a:pt x="1791" y="3"/>
                  </a:lnTo>
                  <a:lnTo>
                    <a:pt x="1796" y="1"/>
                  </a:lnTo>
                  <a:lnTo>
                    <a:pt x="1801" y="0"/>
                  </a:lnTo>
                  <a:lnTo>
                    <a:pt x="1806" y="0"/>
                  </a:lnTo>
                  <a:lnTo>
                    <a:pt x="1811" y="1"/>
                  </a:lnTo>
                  <a:lnTo>
                    <a:pt x="1816" y="4"/>
                  </a:lnTo>
                  <a:lnTo>
                    <a:pt x="1821" y="7"/>
                  </a:lnTo>
                  <a:lnTo>
                    <a:pt x="1825" y="12"/>
                  </a:lnTo>
                  <a:lnTo>
                    <a:pt x="1830" y="18"/>
                  </a:lnTo>
                  <a:lnTo>
                    <a:pt x="1834" y="25"/>
                  </a:lnTo>
                  <a:lnTo>
                    <a:pt x="1838" y="32"/>
                  </a:lnTo>
                  <a:lnTo>
                    <a:pt x="1843" y="41"/>
                  </a:lnTo>
                  <a:lnTo>
                    <a:pt x="1846" y="52"/>
                  </a:lnTo>
                  <a:lnTo>
                    <a:pt x="1849" y="63"/>
                  </a:lnTo>
                  <a:lnTo>
                    <a:pt x="1851" y="73"/>
                  </a:lnTo>
                  <a:lnTo>
                    <a:pt x="1855" y="86"/>
                  </a:lnTo>
                  <a:lnTo>
                    <a:pt x="1856" y="100"/>
                  </a:lnTo>
                  <a:lnTo>
                    <a:pt x="1858" y="114"/>
                  </a:lnTo>
                  <a:lnTo>
                    <a:pt x="1860" y="146"/>
                  </a:lnTo>
                  <a:lnTo>
                    <a:pt x="1859" y="180"/>
                  </a:lnTo>
                  <a:lnTo>
                    <a:pt x="1859" y="199"/>
                  </a:lnTo>
                  <a:lnTo>
                    <a:pt x="1857" y="217"/>
                  </a:lnTo>
                  <a:lnTo>
                    <a:pt x="1855" y="238"/>
                  </a:lnTo>
                  <a:lnTo>
                    <a:pt x="1851" y="257"/>
                  </a:lnTo>
                  <a:lnTo>
                    <a:pt x="1832" y="363"/>
                  </a:lnTo>
                  <a:lnTo>
                    <a:pt x="1812" y="465"/>
                  </a:lnTo>
                  <a:lnTo>
                    <a:pt x="1804" y="515"/>
                  </a:lnTo>
                  <a:lnTo>
                    <a:pt x="1796" y="560"/>
                  </a:lnTo>
                  <a:lnTo>
                    <a:pt x="1790" y="601"/>
                  </a:lnTo>
                  <a:lnTo>
                    <a:pt x="1786" y="638"/>
                  </a:lnTo>
                  <a:lnTo>
                    <a:pt x="1784" y="654"/>
                  </a:lnTo>
                  <a:lnTo>
                    <a:pt x="1784" y="670"/>
                  </a:lnTo>
                  <a:lnTo>
                    <a:pt x="1784" y="682"/>
                  </a:lnTo>
                  <a:lnTo>
                    <a:pt x="1785" y="694"/>
                  </a:lnTo>
                  <a:lnTo>
                    <a:pt x="1786" y="704"/>
                  </a:lnTo>
                  <a:lnTo>
                    <a:pt x="1789" y="711"/>
                  </a:lnTo>
                  <a:lnTo>
                    <a:pt x="1792" y="716"/>
                  </a:lnTo>
                  <a:lnTo>
                    <a:pt x="1795" y="719"/>
                  </a:lnTo>
                  <a:lnTo>
                    <a:pt x="1799" y="720"/>
                  </a:lnTo>
                  <a:lnTo>
                    <a:pt x="1806" y="719"/>
                  </a:lnTo>
                  <a:lnTo>
                    <a:pt x="1812" y="715"/>
                  </a:lnTo>
                  <a:lnTo>
                    <a:pt x="1820" y="708"/>
                  </a:lnTo>
                  <a:lnTo>
                    <a:pt x="1829" y="699"/>
                  </a:lnTo>
                  <a:lnTo>
                    <a:pt x="1838" y="687"/>
                  </a:lnTo>
                  <a:lnTo>
                    <a:pt x="1849" y="672"/>
                  </a:lnTo>
                  <a:lnTo>
                    <a:pt x="1861" y="653"/>
                  </a:lnTo>
                  <a:lnTo>
                    <a:pt x="1875" y="632"/>
                  </a:lnTo>
                  <a:lnTo>
                    <a:pt x="1889" y="609"/>
                  </a:lnTo>
                  <a:lnTo>
                    <a:pt x="1902" y="585"/>
                  </a:lnTo>
                  <a:lnTo>
                    <a:pt x="1914" y="560"/>
                  </a:lnTo>
                  <a:lnTo>
                    <a:pt x="1938" y="510"/>
                  </a:lnTo>
                  <a:lnTo>
                    <a:pt x="1960" y="458"/>
                  </a:lnTo>
                  <a:lnTo>
                    <a:pt x="1999" y="356"/>
                  </a:lnTo>
                  <a:lnTo>
                    <a:pt x="2031" y="268"/>
                  </a:lnTo>
                  <a:lnTo>
                    <a:pt x="2045" y="232"/>
                  </a:lnTo>
                  <a:lnTo>
                    <a:pt x="2057" y="204"/>
                  </a:lnTo>
                  <a:lnTo>
                    <a:pt x="2062" y="193"/>
                  </a:lnTo>
                  <a:lnTo>
                    <a:pt x="2066" y="185"/>
                  </a:lnTo>
                  <a:lnTo>
                    <a:pt x="2072" y="179"/>
                  </a:lnTo>
                  <a:lnTo>
                    <a:pt x="2076" y="176"/>
                  </a:lnTo>
                  <a:lnTo>
                    <a:pt x="2079" y="176"/>
                  </a:lnTo>
                  <a:lnTo>
                    <a:pt x="2084" y="179"/>
                  </a:lnTo>
                  <a:lnTo>
                    <a:pt x="2086" y="186"/>
                  </a:lnTo>
                  <a:lnTo>
                    <a:pt x="2089" y="195"/>
                  </a:lnTo>
                  <a:lnTo>
                    <a:pt x="2091" y="209"/>
                  </a:lnTo>
                  <a:lnTo>
                    <a:pt x="2093" y="227"/>
                  </a:lnTo>
                  <a:lnTo>
                    <a:pt x="2095" y="248"/>
                  </a:lnTo>
                  <a:lnTo>
                    <a:pt x="2097" y="274"/>
                  </a:lnTo>
                  <a:lnTo>
                    <a:pt x="2098" y="329"/>
                  </a:lnTo>
                  <a:lnTo>
                    <a:pt x="2099" y="380"/>
                  </a:lnTo>
                  <a:lnTo>
                    <a:pt x="2099" y="428"/>
                  </a:lnTo>
                  <a:lnTo>
                    <a:pt x="2098" y="471"/>
                  </a:lnTo>
                  <a:lnTo>
                    <a:pt x="2095" y="551"/>
                  </a:lnTo>
                  <a:lnTo>
                    <a:pt x="2091" y="622"/>
                  </a:lnTo>
                  <a:lnTo>
                    <a:pt x="2087" y="687"/>
                  </a:lnTo>
                  <a:lnTo>
                    <a:pt x="2084" y="747"/>
                  </a:lnTo>
                  <a:lnTo>
                    <a:pt x="2080" y="808"/>
                  </a:lnTo>
                  <a:lnTo>
                    <a:pt x="2079" y="868"/>
                  </a:lnTo>
                  <a:lnTo>
                    <a:pt x="2079" y="883"/>
                  </a:lnTo>
                  <a:lnTo>
                    <a:pt x="2080" y="897"/>
                  </a:lnTo>
                  <a:lnTo>
                    <a:pt x="2082" y="910"/>
                  </a:lnTo>
                  <a:lnTo>
                    <a:pt x="2085" y="922"/>
                  </a:lnTo>
                  <a:lnTo>
                    <a:pt x="2087" y="934"/>
                  </a:lnTo>
                  <a:lnTo>
                    <a:pt x="2091" y="944"/>
                  </a:lnTo>
                  <a:lnTo>
                    <a:pt x="2094" y="952"/>
                  </a:lnTo>
                  <a:lnTo>
                    <a:pt x="2099" y="961"/>
                  </a:lnTo>
                  <a:lnTo>
                    <a:pt x="2104" y="968"/>
                  </a:lnTo>
                  <a:lnTo>
                    <a:pt x="2109" y="973"/>
                  </a:lnTo>
                  <a:lnTo>
                    <a:pt x="2115" y="977"/>
                  </a:lnTo>
                  <a:lnTo>
                    <a:pt x="2121" y="981"/>
                  </a:lnTo>
                  <a:lnTo>
                    <a:pt x="2128" y="984"/>
                  </a:lnTo>
                  <a:lnTo>
                    <a:pt x="2134" y="985"/>
                  </a:lnTo>
                  <a:lnTo>
                    <a:pt x="2141" y="985"/>
                  </a:lnTo>
                  <a:lnTo>
                    <a:pt x="2148" y="983"/>
                  </a:lnTo>
                  <a:lnTo>
                    <a:pt x="2156" y="981"/>
                  </a:lnTo>
                  <a:lnTo>
                    <a:pt x="2163" y="977"/>
                  </a:lnTo>
                  <a:lnTo>
                    <a:pt x="2171" y="972"/>
                  </a:lnTo>
                  <a:lnTo>
                    <a:pt x="2179" y="967"/>
                  </a:lnTo>
                  <a:lnTo>
                    <a:pt x="2186" y="959"/>
                  </a:lnTo>
                  <a:lnTo>
                    <a:pt x="2195" y="950"/>
                  </a:lnTo>
                  <a:lnTo>
                    <a:pt x="2202" y="941"/>
                  </a:lnTo>
                  <a:lnTo>
                    <a:pt x="2210" y="930"/>
                  </a:lnTo>
                  <a:lnTo>
                    <a:pt x="2219" y="918"/>
                  </a:lnTo>
                  <a:lnTo>
                    <a:pt x="2226" y="905"/>
                  </a:lnTo>
                  <a:lnTo>
                    <a:pt x="2234" y="890"/>
                  </a:lnTo>
                  <a:lnTo>
                    <a:pt x="2241" y="874"/>
                  </a:lnTo>
                  <a:lnTo>
                    <a:pt x="2249" y="856"/>
                  </a:lnTo>
                  <a:lnTo>
                    <a:pt x="2256" y="838"/>
                  </a:lnTo>
                  <a:lnTo>
                    <a:pt x="2263" y="817"/>
                  </a:lnTo>
                  <a:lnTo>
                    <a:pt x="2269" y="796"/>
                  </a:lnTo>
                  <a:lnTo>
                    <a:pt x="2294" y="717"/>
                  </a:lnTo>
                  <a:lnTo>
                    <a:pt x="2319" y="647"/>
                  </a:lnTo>
                  <a:lnTo>
                    <a:pt x="2330" y="618"/>
                  </a:lnTo>
                  <a:lnTo>
                    <a:pt x="2341" y="593"/>
                  </a:lnTo>
                  <a:lnTo>
                    <a:pt x="2349" y="572"/>
                  </a:lnTo>
                  <a:lnTo>
                    <a:pt x="2358" y="558"/>
                  </a:lnTo>
                  <a:lnTo>
                    <a:pt x="2361" y="554"/>
                  </a:lnTo>
                  <a:lnTo>
                    <a:pt x="2364" y="552"/>
                  </a:lnTo>
                  <a:lnTo>
                    <a:pt x="2367" y="551"/>
                  </a:lnTo>
                  <a:lnTo>
                    <a:pt x="2369" y="552"/>
                  </a:lnTo>
                  <a:lnTo>
                    <a:pt x="2371" y="555"/>
                  </a:lnTo>
                  <a:lnTo>
                    <a:pt x="2372" y="562"/>
                  </a:lnTo>
                  <a:lnTo>
                    <a:pt x="2373" y="569"/>
                  </a:lnTo>
                  <a:lnTo>
                    <a:pt x="2373" y="579"/>
                  </a:lnTo>
                  <a:lnTo>
                    <a:pt x="2371" y="607"/>
                  </a:lnTo>
                  <a:lnTo>
                    <a:pt x="2368" y="645"/>
                  </a:lnTo>
                  <a:lnTo>
                    <a:pt x="2360" y="694"/>
                  </a:lnTo>
                  <a:lnTo>
                    <a:pt x="2351" y="757"/>
                  </a:lnTo>
                  <a:lnTo>
                    <a:pt x="2335" y="865"/>
                  </a:lnTo>
                  <a:lnTo>
                    <a:pt x="2319" y="956"/>
                  </a:lnTo>
                  <a:lnTo>
                    <a:pt x="2306" y="1028"/>
                  </a:lnTo>
                  <a:lnTo>
                    <a:pt x="2293" y="1084"/>
                  </a:lnTo>
                  <a:lnTo>
                    <a:pt x="2283" y="1125"/>
                  </a:lnTo>
                  <a:lnTo>
                    <a:pt x="2276" y="1153"/>
                  </a:lnTo>
                  <a:lnTo>
                    <a:pt x="2272" y="1170"/>
                  </a:lnTo>
                  <a:lnTo>
                    <a:pt x="2269" y="1174"/>
                  </a:lnTo>
                  <a:lnTo>
                    <a:pt x="2269" y="1181"/>
                  </a:lnTo>
                  <a:lnTo>
                    <a:pt x="2269" y="1201"/>
                  </a:lnTo>
                  <a:lnTo>
                    <a:pt x="2267" y="1230"/>
                  </a:lnTo>
                  <a:lnTo>
                    <a:pt x="2265" y="1265"/>
                  </a:lnTo>
                  <a:lnTo>
                    <a:pt x="2261" y="1301"/>
                  </a:lnTo>
                  <a:lnTo>
                    <a:pt x="2255" y="1338"/>
                  </a:lnTo>
                  <a:lnTo>
                    <a:pt x="2251" y="1355"/>
                  </a:lnTo>
                  <a:lnTo>
                    <a:pt x="2247" y="1372"/>
                  </a:lnTo>
                  <a:lnTo>
                    <a:pt x="2241" y="1384"/>
                  </a:lnTo>
                  <a:lnTo>
                    <a:pt x="2235" y="1396"/>
                  </a:lnTo>
                  <a:lnTo>
                    <a:pt x="2228" y="1409"/>
                  </a:lnTo>
                  <a:lnTo>
                    <a:pt x="2222" y="1428"/>
                  </a:lnTo>
                  <a:lnTo>
                    <a:pt x="2215" y="1449"/>
                  </a:lnTo>
                  <a:lnTo>
                    <a:pt x="2209" y="1474"/>
                  </a:lnTo>
                  <a:lnTo>
                    <a:pt x="2196" y="1534"/>
                  </a:lnTo>
                  <a:lnTo>
                    <a:pt x="2184" y="1597"/>
                  </a:lnTo>
                  <a:lnTo>
                    <a:pt x="2174" y="1662"/>
                  </a:lnTo>
                  <a:lnTo>
                    <a:pt x="2166" y="1723"/>
                  </a:lnTo>
                  <a:lnTo>
                    <a:pt x="2160" y="1772"/>
                  </a:lnTo>
                  <a:lnTo>
                    <a:pt x="2158" y="1807"/>
                  </a:lnTo>
                  <a:lnTo>
                    <a:pt x="2158" y="1834"/>
                  </a:lnTo>
                  <a:lnTo>
                    <a:pt x="2156" y="1862"/>
                  </a:lnTo>
                  <a:lnTo>
                    <a:pt x="2153" y="1892"/>
                  </a:lnTo>
                  <a:lnTo>
                    <a:pt x="2148" y="1926"/>
                  </a:lnTo>
                  <a:lnTo>
                    <a:pt x="2142" y="1961"/>
                  </a:lnTo>
                  <a:lnTo>
                    <a:pt x="2134" y="2000"/>
                  </a:lnTo>
                  <a:lnTo>
                    <a:pt x="2125" y="2042"/>
                  </a:lnTo>
                  <a:lnTo>
                    <a:pt x="2114" y="2086"/>
                  </a:lnTo>
                  <a:lnTo>
                    <a:pt x="2095" y="2155"/>
                  </a:lnTo>
                  <a:lnTo>
                    <a:pt x="2070" y="2257"/>
                  </a:lnTo>
                  <a:lnTo>
                    <a:pt x="2038" y="2382"/>
                  </a:lnTo>
                  <a:lnTo>
                    <a:pt x="2006" y="2515"/>
                  </a:lnTo>
                  <a:lnTo>
                    <a:pt x="1974" y="2643"/>
                  </a:lnTo>
                  <a:lnTo>
                    <a:pt x="1949" y="2750"/>
                  </a:lnTo>
                  <a:lnTo>
                    <a:pt x="1930" y="2825"/>
                  </a:lnTo>
                  <a:lnTo>
                    <a:pt x="1924" y="2853"/>
                  </a:lnTo>
                  <a:lnTo>
                    <a:pt x="1889" y="2867"/>
                  </a:lnTo>
                  <a:lnTo>
                    <a:pt x="1798" y="2906"/>
                  </a:lnTo>
                  <a:lnTo>
                    <a:pt x="1669" y="2960"/>
                  </a:lnTo>
                  <a:lnTo>
                    <a:pt x="1517" y="3021"/>
                  </a:lnTo>
                  <a:lnTo>
                    <a:pt x="1440" y="3050"/>
                  </a:lnTo>
                  <a:lnTo>
                    <a:pt x="1362" y="3079"/>
                  </a:lnTo>
                  <a:lnTo>
                    <a:pt x="1288" y="3104"/>
                  </a:lnTo>
                  <a:lnTo>
                    <a:pt x="1220" y="3125"/>
                  </a:lnTo>
                  <a:lnTo>
                    <a:pt x="1189" y="3135"/>
                  </a:lnTo>
                  <a:lnTo>
                    <a:pt x="1160" y="3143"/>
                  </a:lnTo>
                  <a:lnTo>
                    <a:pt x="1133" y="3149"/>
                  </a:lnTo>
                  <a:lnTo>
                    <a:pt x="1109" y="3155"/>
                  </a:lnTo>
                  <a:lnTo>
                    <a:pt x="1088" y="3157"/>
                  </a:lnTo>
                  <a:lnTo>
                    <a:pt x="1070" y="3158"/>
                  </a:lnTo>
                  <a:lnTo>
                    <a:pt x="1056" y="3158"/>
                  </a:lnTo>
                  <a:lnTo>
                    <a:pt x="1045" y="3155"/>
                  </a:lnTo>
                  <a:lnTo>
                    <a:pt x="1029" y="3147"/>
                  </a:lnTo>
                  <a:lnTo>
                    <a:pt x="1013" y="3143"/>
                  </a:lnTo>
                  <a:lnTo>
                    <a:pt x="997" y="3139"/>
                  </a:lnTo>
                  <a:lnTo>
                    <a:pt x="981" y="3139"/>
                  </a:lnTo>
                  <a:lnTo>
                    <a:pt x="965" y="3141"/>
                  </a:lnTo>
                  <a:lnTo>
                    <a:pt x="949" y="3143"/>
                  </a:lnTo>
                  <a:lnTo>
                    <a:pt x="934" y="3147"/>
                  </a:lnTo>
                  <a:lnTo>
                    <a:pt x="920" y="3151"/>
                  </a:lnTo>
                  <a:lnTo>
                    <a:pt x="891" y="3163"/>
                  </a:lnTo>
                  <a:lnTo>
                    <a:pt x="863" y="3176"/>
                  </a:lnTo>
                  <a:lnTo>
                    <a:pt x="836" y="3189"/>
                  </a:lnTo>
                  <a:lnTo>
                    <a:pt x="811" y="3199"/>
                  </a:lnTo>
                  <a:lnTo>
                    <a:pt x="797" y="3202"/>
                  </a:lnTo>
                  <a:lnTo>
                    <a:pt x="781" y="3204"/>
                  </a:lnTo>
                  <a:lnTo>
                    <a:pt x="763" y="3205"/>
                  </a:lnTo>
                  <a:lnTo>
                    <a:pt x="744" y="3205"/>
                  </a:lnTo>
                  <a:lnTo>
                    <a:pt x="725" y="3204"/>
                  </a:lnTo>
                  <a:lnTo>
                    <a:pt x="704" y="3202"/>
                  </a:lnTo>
                  <a:lnTo>
                    <a:pt x="684" y="3199"/>
                  </a:lnTo>
                  <a:lnTo>
                    <a:pt x="663" y="3196"/>
                  </a:lnTo>
                  <a:lnTo>
                    <a:pt x="644" y="3190"/>
                  </a:lnTo>
                  <a:lnTo>
                    <a:pt x="626" y="3186"/>
                  </a:lnTo>
                  <a:lnTo>
                    <a:pt x="609" y="3179"/>
                  </a:lnTo>
                  <a:lnTo>
                    <a:pt x="595" y="3173"/>
                  </a:lnTo>
                  <a:lnTo>
                    <a:pt x="583" y="3165"/>
                  </a:lnTo>
                  <a:lnTo>
                    <a:pt x="573" y="3158"/>
                  </a:lnTo>
                  <a:lnTo>
                    <a:pt x="570" y="3155"/>
                  </a:lnTo>
                  <a:lnTo>
                    <a:pt x="568" y="3150"/>
                  </a:lnTo>
                  <a:lnTo>
                    <a:pt x="567" y="3146"/>
                  </a:lnTo>
                  <a:lnTo>
                    <a:pt x="566" y="3142"/>
                  </a:lnTo>
                  <a:lnTo>
                    <a:pt x="566" y="3134"/>
                  </a:lnTo>
                  <a:lnTo>
                    <a:pt x="564" y="3127"/>
                  </a:lnTo>
                  <a:lnTo>
                    <a:pt x="561" y="3119"/>
                  </a:lnTo>
                  <a:lnTo>
                    <a:pt x="557" y="3114"/>
                  </a:lnTo>
                  <a:lnTo>
                    <a:pt x="553" y="3107"/>
                  </a:lnTo>
                  <a:lnTo>
                    <a:pt x="547" y="3103"/>
                  </a:lnTo>
                  <a:lnTo>
                    <a:pt x="540" y="3098"/>
                  </a:lnTo>
                  <a:lnTo>
                    <a:pt x="532" y="3095"/>
                  </a:lnTo>
                  <a:lnTo>
                    <a:pt x="524" y="3092"/>
                  </a:lnTo>
                  <a:lnTo>
                    <a:pt x="514" y="3090"/>
                  </a:lnTo>
                  <a:lnTo>
                    <a:pt x="503" y="3089"/>
                  </a:lnTo>
                  <a:lnTo>
                    <a:pt x="491" y="3089"/>
                  </a:lnTo>
                  <a:lnTo>
                    <a:pt x="478" y="3090"/>
                  </a:lnTo>
                  <a:lnTo>
                    <a:pt x="464" y="3091"/>
                  </a:lnTo>
                  <a:lnTo>
                    <a:pt x="449" y="3094"/>
                  </a:lnTo>
                  <a:lnTo>
                    <a:pt x="433" y="3097"/>
                  </a:lnTo>
                  <a:lnTo>
                    <a:pt x="416" y="3101"/>
                  </a:lnTo>
                  <a:lnTo>
                    <a:pt x="398" y="3104"/>
                  </a:lnTo>
                  <a:lnTo>
                    <a:pt x="382" y="3105"/>
                  </a:lnTo>
                  <a:lnTo>
                    <a:pt x="366" y="3105"/>
                  </a:lnTo>
                  <a:lnTo>
                    <a:pt x="350" y="3105"/>
                  </a:lnTo>
                  <a:lnTo>
                    <a:pt x="334" y="3104"/>
                  </a:lnTo>
                  <a:lnTo>
                    <a:pt x="319" y="3103"/>
                  </a:lnTo>
                  <a:lnTo>
                    <a:pt x="305" y="3101"/>
                  </a:lnTo>
                  <a:lnTo>
                    <a:pt x="281" y="3096"/>
                  </a:lnTo>
                  <a:lnTo>
                    <a:pt x="261" y="3092"/>
                  </a:lnTo>
                  <a:lnTo>
                    <a:pt x="249" y="3089"/>
                  </a:lnTo>
                  <a:lnTo>
                    <a:pt x="245" y="3088"/>
                  </a:lnTo>
                  <a:lnTo>
                    <a:pt x="0" y="1864"/>
                  </a:lnTo>
                  <a:lnTo>
                    <a:pt x="311" y="1318"/>
                  </a:lnTo>
                  <a:lnTo>
                    <a:pt x="315" y="1308"/>
                  </a:lnTo>
                  <a:lnTo>
                    <a:pt x="326" y="1279"/>
                  </a:lnTo>
                  <a:lnTo>
                    <a:pt x="342" y="1234"/>
                  </a:lnTo>
                  <a:lnTo>
                    <a:pt x="359" y="1176"/>
                  </a:lnTo>
                  <a:lnTo>
                    <a:pt x="368" y="1143"/>
                  </a:lnTo>
                  <a:lnTo>
                    <a:pt x="377" y="1106"/>
                  </a:lnTo>
                  <a:lnTo>
                    <a:pt x="385" y="1067"/>
                  </a:lnTo>
                  <a:lnTo>
                    <a:pt x="393" y="1027"/>
                  </a:lnTo>
                  <a:lnTo>
                    <a:pt x="398" y="985"/>
                  </a:lnTo>
                  <a:lnTo>
                    <a:pt x="404" y="941"/>
                  </a:lnTo>
                  <a:lnTo>
                    <a:pt x="407" y="896"/>
                  </a:lnTo>
                  <a:lnTo>
                    <a:pt x="408" y="851"/>
                  </a:lnTo>
                  <a:lnTo>
                    <a:pt x="408" y="762"/>
                  </a:lnTo>
                  <a:lnTo>
                    <a:pt x="408" y="679"/>
                  </a:lnTo>
                  <a:lnTo>
                    <a:pt x="408" y="604"/>
                  </a:lnTo>
                  <a:lnTo>
                    <a:pt x="407" y="533"/>
                  </a:lnTo>
                  <a:lnTo>
                    <a:pt x="405" y="501"/>
                  </a:lnTo>
                  <a:lnTo>
                    <a:pt x="403" y="471"/>
                  </a:lnTo>
                  <a:lnTo>
                    <a:pt x="400" y="442"/>
                  </a:lnTo>
                  <a:lnTo>
                    <a:pt x="397" y="414"/>
                  </a:lnTo>
                  <a:lnTo>
                    <a:pt x="393" y="388"/>
                  </a:lnTo>
                  <a:lnTo>
                    <a:pt x="389" y="363"/>
                  </a:lnTo>
                  <a:lnTo>
                    <a:pt x="382" y="340"/>
                  </a:lnTo>
                  <a:lnTo>
                    <a:pt x="376" y="320"/>
                  </a:lnTo>
                  <a:lnTo>
                    <a:pt x="369" y="299"/>
                  </a:lnTo>
                  <a:lnTo>
                    <a:pt x="366" y="282"/>
                  </a:lnTo>
                  <a:lnTo>
                    <a:pt x="365" y="274"/>
                  </a:lnTo>
                  <a:lnTo>
                    <a:pt x="365" y="268"/>
                  </a:lnTo>
                  <a:lnTo>
                    <a:pt x="365" y="261"/>
                  </a:lnTo>
                  <a:lnTo>
                    <a:pt x="366" y="256"/>
                  </a:lnTo>
                  <a:lnTo>
                    <a:pt x="367" y="252"/>
                  </a:lnTo>
                  <a:lnTo>
                    <a:pt x="369" y="247"/>
                  </a:lnTo>
                  <a:lnTo>
                    <a:pt x="371" y="243"/>
                  </a:lnTo>
                  <a:lnTo>
                    <a:pt x="375" y="240"/>
                  </a:lnTo>
                  <a:lnTo>
                    <a:pt x="377" y="238"/>
                  </a:lnTo>
                  <a:lnTo>
                    <a:pt x="380" y="235"/>
                  </a:lnTo>
                  <a:lnTo>
                    <a:pt x="384" y="234"/>
                  </a:lnTo>
                  <a:lnTo>
                    <a:pt x="388" y="233"/>
                  </a:lnTo>
                  <a:lnTo>
                    <a:pt x="396" y="233"/>
                  </a:lnTo>
                  <a:lnTo>
                    <a:pt x="405" y="235"/>
                  </a:lnTo>
                  <a:lnTo>
                    <a:pt x="413" y="239"/>
                  </a:lnTo>
                  <a:lnTo>
                    <a:pt x="422" y="245"/>
                  </a:lnTo>
                  <a:lnTo>
                    <a:pt x="430" y="253"/>
                  </a:lnTo>
                  <a:lnTo>
                    <a:pt x="437" y="261"/>
                  </a:lnTo>
                  <a:lnTo>
                    <a:pt x="445" y="272"/>
                  </a:lnTo>
                  <a:lnTo>
                    <a:pt x="450" y="285"/>
                  </a:lnTo>
                  <a:lnTo>
                    <a:pt x="452" y="300"/>
                  </a:lnTo>
                  <a:lnTo>
                    <a:pt x="455" y="315"/>
                  </a:lnTo>
                  <a:lnTo>
                    <a:pt x="459" y="329"/>
                  </a:lnTo>
                  <a:lnTo>
                    <a:pt x="462" y="341"/>
                  </a:lnTo>
                  <a:lnTo>
                    <a:pt x="466" y="353"/>
                  </a:lnTo>
                  <a:lnTo>
                    <a:pt x="471" y="363"/>
                  </a:lnTo>
                  <a:lnTo>
                    <a:pt x="476" y="371"/>
                  </a:lnTo>
                  <a:lnTo>
                    <a:pt x="482" y="380"/>
                  </a:lnTo>
                  <a:lnTo>
                    <a:pt x="487" y="388"/>
                  </a:lnTo>
                  <a:lnTo>
                    <a:pt x="492" y="394"/>
                  </a:lnTo>
                  <a:lnTo>
                    <a:pt x="498" y="400"/>
                  </a:lnTo>
                  <a:lnTo>
                    <a:pt x="504" y="404"/>
                  </a:lnTo>
                  <a:lnTo>
                    <a:pt x="511" y="408"/>
                  </a:lnTo>
                  <a:lnTo>
                    <a:pt x="516" y="411"/>
                  </a:lnTo>
                  <a:lnTo>
                    <a:pt x="523" y="415"/>
                  </a:lnTo>
                  <a:lnTo>
                    <a:pt x="529" y="417"/>
                  </a:lnTo>
                  <a:lnTo>
                    <a:pt x="541" y="420"/>
                  </a:lnTo>
                  <a:lnTo>
                    <a:pt x="552" y="421"/>
                  </a:lnTo>
                  <a:lnTo>
                    <a:pt x="563" y="421"/>
                  </a:lnTo>
                  <a:lnTo>
                    <a:pt x="572" y="420"/>
                  </a:lnTo>
                  <a:lnTo>
                    <a:pt x="585" y="417"/>
                  </a:lnTo>
                  <a:lnTo>
                    <a:pt x="591" y="416"/>
                  </a:lnTo>
                  <a:lnTo>
                    <a:pt x="595" y="408"/>
                  </a:lnTo>
                  <a:lnTo>
                    <a:pt x="607" y="389"/>
                  </a:lnTo>
                  <a:lnTo>
                    <a:pt x="623" y="360"/>
                  </a:lnTo>
                  <a:lnTo>
                    <a:pt x="642" y="326"/>
                  </a:lnTo>
                  <a:lnTo>
                    <a:pt x="661" y="289"/>
                  </a:lnTo>
                  <a:lnTo>
                    <a:pt x="678" y="255"/>
                  </a:lnTo>
                  <a:lnTo>
                    <a:pt x="686" y="239"/>
                  </a:lnTo>
                  <a:lnTo>
                    <a:pt x="691" y="225"/>
                  </a:lnTo>
                  <a:lnTo>
                    <a:pt x="695" y="213"/>
                  </a:lnTo>
                  <a:lnTo>
                    <a:pt x="696" y="203"/>
                  </a:lnTo>
                  <a:lnTo>
                    <a:pt x="705" y="216"/>
                  </a:lnTo>
                  <a:lnTo>
                    <a:pt x="716" y="232"/>
                  </a:lnTo>
                  <a:lnTo>
                    <a:pt x="730" y="250"/>
                  </a:lnTo>
                  <a:lnTo>
                    <a:pt x="746" y="271"/>
                  </a:lnTo>
                  <a:lnTo>
                    <a:pt x="762" y="294"/>
                  </a:lnTo>
                  <a:lnTo>
                    <a:pt x="780" y="320"/>
                  </a:lnTo>
                  <a:lnTo>
                    <a:pt x="787" y="335"/>
                  </a:lnTo>
                  <a:lnTo>
                    <a:pt x="795" y="349"/>
                  </a:lnTo>
                  <a:lnTo>
                    <a:pt x="802" y="365"/>
                  </a:lnTo>
                  <a:lnTo>
                    <a:pt x="808" y="381"/>
                  </a:lnTo>
                  <a:lnTo>
                    <a:pt x="816" y="400"/>
                  </a:lnTo>
                  <a:lnTo>
                    <a:pt x="826" y="421"/>
                  </a:lnTo>
                  <a:lnTo>
                    <a:pt x="838" y="446"/>
                  </a:lnTo>
                  <a:lnTo>
                    <a:pt x="851" y="472"/>
                  </a:lnTo>
                  <a:lnTo>
                    <a:pt x="866" y="500"/>
                  </a:lnTo>
                  <a:lnTo>
                    <a:pt x="881" y="527"/>
                  </a:lnTo>
                  <a:lnTo>
                    <a:pt x="897" y="555"/>
                  </a:lnTo>
                  <a:lnTo>
                    <a:pt x="913" y="581"/>
                  </a:lnTo>
                  <a:lnTo>
                    <a:pt x="929" y="607"/>
                  </a:lnTo>
                  <a:lnTo>
                    <a:pt x="944" y="628"/>
                  </a:lnTo>
                  <a:lnTo>
                    <a:pt x="958" y="648"/>
                  </a:lnTo>
                  <a:lnTo>
                    <a:pt x="971" y="663"/>
                  </a:lnTo>
                  <a:lnTo>
                    <a:pt x="976" y="670"/>
                  </a:lnTo>
                  <a:lnTo>
                    <a:pt x="982" y="675"/>
                  </a:lnTo>
                  <a:lnTo>
                    <a:pt x="986" y="678"/>
                  </a:lnTo>
                  <a:lnTo>
                    <a:pt x="990" y="680"/>
                  </a:lnTo>
                  <a:lnTo>
                    <a:pt x="995" y="680"/>
                  </a:lnTo>
                  <a:lnTo>
                    <a:pt x="997" y="679"/>
                  </a:lnTo>
                  <a:lnTo>
                    <a:pt x="1000" y="677"/>
                  </a:lnTo>
                  <a:lnTo>
                    <a:pt x="1001" y="673"/>
                  </a:lnTo>
                  <a:close/>
                </a:path>
              </a:pathLst>
            </a:custGeom>
            <a:solidFill>
              <a:srgbClr val="5f92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329080" y="2419560"/>
              <a:ext cx="749520" cy="1000080"/>
            </a:xfrm>
            <a:custGeom>
              <a:avLst/>
              <a:gdLst/>
              <a:ahLst/>
              <a:rect l="l" t="t" r="r" b="b"/>
              <a:pathLst>
                <a:path w="2361" h="3153">
                  <a:moveTo>
                    <a:pt x="1007" y="695"/>
                  </a:moveTo>
                  <a:lnTo>
                    <a:pt x="1011" y="669"/>
                  </a:lnTo>
                  <a:lnTo>
                    <a:pt x="1015" y="637"/>
                  </a:lnTo>
                  <a:lnTo>
                    <a:pt x="1022" y="597"/>
                  </a:lnTo>
                  <a:lnTo>
                    <a:pt x="1027" y="549"/>
                  </a:lnTo>
                  <a:lnTo>
                    <a:pt x="1032" y="495"/>
                  </a:lnTo>
                  <a:lnTo>
                    <a:pt x="1037" y="435"/>
                  </a:lnTo>
                  <a:lnTo>
                    <a:pt x="1040" y="369"/>
                  </a:lnTo>
                  <a:lnTo>
                    <a:pt x="1041" y="297"/>
                  </a:lnTo>
                  <a:lnTo>
                    <a:pt x="1041" y="277"/>
                  </a:lnTo>
                  <a:lnTo>
                    <a:pt x="1042" y="257"/>
                  </a:lnTo>
                  <a:lnTo>
                    <a:pt x="1044" y="236"/>
                  </a:lnTo>
                  <a:lnTo>
                    <a:pt x="1048" y="217"/>
                  </a:lnTo>
                  <a:lnTo>
                    <a:pt x="1051" y="197"/>
                  </a:lnTo>
                  <a:lnTo>
                    <a:pt x="1055" y="181"/>
                  </a:lnTo>
                  <a:lnTo>
                    <a:pt x="1058" y="174"/>
                  </a:lnTo>
                  <a:lnTo>
                    <a:pt x="1062" y="166"/>
                  </a:lnTo>
                  <a:lnTo>
                    <a:pt x="1064" y="161"/>
                  </a:lnTo>
                  <a:lnTo>
                    <a:pt x="1067" y="155"/>
                  </a:lnTo>
                  <a:lnTo>
                    <a:pt x="1071" y="152"/>
                  </a:lnTo>
                  <a:lnTo>
                    <a:pt x="1075" y="149"/>
                  </a:lnTo>
                  <a:lnTo>
                    <a:pt x="1079" y="147"/>
                  </a:lnTo>
                  <a:lnTo>
                    <a:pt x="1083" y="146"/>
                  </a:lnTo>
                  <a:lnTo>
                    <a:pt x="1088" y="147"/>
                  </a:lnTo>
                  <a:lnTo>
                    <a:pt x="1092" y="149"/>
                  </a:lnTo>
                  <a:lnTo>
                    <a:pt x="1097" y="152"/>
                  </a:lnTo>
                  <a:lnTo>
                    <a:pt x="1103" y="157"/>
                  </a:lnTo>
                  <a:lnTo>
                    <a:pt x="1108" y="164"/>
                  </a:lnTo>
                  <a:lnTo>
                    <a:pt x="1113" y="173"/>
                  </a:lnTo>
                  <a:lnTo>
                    <a:pt x="1119" y="183"/>
                  </a:lnTo>
                  <a:lnTo>
                    <a:pt x="1125" y="195"/>
                  </a:lnTo>
                  <a:lnTo>
                    <a:pt x="1132" y="209"/>
                  </a:lnTo>
                  <a:lnTo>
                    <a:pt x="1138" y="225"/>
                  </a:lnTo>
                  <a:lnTo>
                    <a:pt x="1145" y="244"/>
                  </a:lnTo>
                  <a:lnTo>
                    <a:pt x="1152" y="264"/>
                  </a:lnTo>
                  <a:lnTo>
                    <a:pt x="1180" y="351"/>
                  </a:lnTo>
                  <a:lnTo>
                    <a:pt x="1205" y="432"/>
                  </a:lnTo>
                  <a:lnTo>
                    <a:pt x="1217" y="471"/>
                  </a:lnTo>
                  <a:lnTo>
                    <a:pt x="1227" y="508"/>
                  </a:lnTo>
                  <a:lnTo>
                    <a:pt x="1237" y="544"/>
                  </a:lnTo>
                  <a:lnTo>
                    <a:pt x="1244" y="580"/>
                  </a:lnTo>
                  <a:lnTo>
                    <a:pt x="1252" y="613"/>
                  </a:lnTo>
                  <a:lnTo>
                    <a:pt x="1257" y="646"/>
                  </a:lnTo>
                  <a:lnTo>
                    <a:pt x="1261" y="677"/>
                  </a:lnTo>
                  <a:lnTo>
                    <a:pt x="1265" y="706"/>
                  </a:lnTo>
                  <a:lnTo>
                    <a:pt x="1266" y="735"/>
                  </a:lnTo>
                  <a:lnTo>
                    <a:pt x="1266" y="761"/>
                  </a:lnTo>
                  <a:lnTo>
                    <a:pt x="1264" y="787"/>
                  </a:lnTo>
                  <a:lnTo>
                    <a:pt x="1260" y="811"/>
                  </a:lnTo>
                  <a:lnTo>
                    <a:pt x="1253" y="859"/>
                  </a:lnTo>
                  <a:lnTo>
                    <a:pt x="1246" y="912"/>
                  </a:lnTo>
                  <a:lnTo>
                    <a:pt x="1244" y="939"/>
                  </a:lnTo>
                  <a:lnTo>
                    <a:pt x="1242" y="967"/>
                  </a:lnTo>
                  <a:lnTo>
                    <a:pt x="1241" y="994"/>
                  </a:lnTo>
                  <a:lnTo>
                    <a:pt x="1240" y="1023"/>
                  </a:lnTo>
                  <a:lnTo>
                    <a:pt x="1240" y="1050"/>
                  </a:lnTo>
                  <a:lnTo>
                    <a:pt x="1241" y="1075"/>
                  </a:lnTo>
                  <a:lnTo>
                    <a:pt x="1242" y="1100"/>
                  </a:lnTo>
                  <a:lnTo>
                    <a:pt x="1245" y="1123"/>
                  </a:lnTo>
                  <a:lnTo>
                    <a:pt x="1249" y="1145"/>
                  </a:lnTo>
                  <a:lnTo>
                    <a:pt x="1253" y="1164"/>
                  </a:lnTo>
                  <a:lnTo>
                    <a:pt x="1259" y="1181"/>
                  </a:lnTo>
                  <a:lnTo>
                    <a:pt x="1266" y="1196"/>
                  </a:lnTo>
                  <a:lnTo>
                    <a:pt x="1266" y="1201"/>
                  </a:lnTo>
                  <a:lnTo>
                    <a:pt x="1268" y="1202"/>
                  </a:lnTo>
                  <a:lnTo>
                    <a:pt x="1270" y="1202"/>
                  </a:lnTo>
                  <a:lnTo>
                    <a:pt x="1273" y="1199"/>
                  </a:lnTo>
                  <a:lnTo>
                    <a:pt x="1282" y="1187"/>
                  </a:lnTo>
                  <a:lnTo>
                    <a:pt x="1293" y="1168"/>
                  </a:lnTo>
                  <a:lnTo>
                    <a:pt x="1307" y="1145"/>
                  </a:lnTo>
                  <a:lnTo>
                    <a:pt x="1322" y="1114"/>
                  </a:lnTo>
                  <a:lnTo>
                    <a:pt x="1339" y="1081"/>
                  </a:lnTo>
                  <a:lnTo>
                    <a:pt x="1357" y="1043"/>
                  </a:lnTo>
                  <a:lnTo>
                    <a:pt x="1375" y="1003"/>
                  </a:lnTo>
                  <a:lnTo>
                    <a:pt x="1393" y="962"/>
                  </a:lnTo>
                  <a:lnTo>
                    <a:pt x="1412" y="920"/>
                  </a:lnTo>
                  <a:lnTo>
                    <a:pt x="1428" y="878"/>
                  </a:lnTo>
                  <a:lnTo>
                    <a:pt x="1444" y="837"/>
                  </a:lnTo>
                  <a:lnTo>
                    <a:pt x="1459" y="799"/>
                  </a:lnTo>
                  <a:lnTo>
                    <a:pt x="1471" y="763"/>
                  </a:lnTo>
                  <a:lnTo>
                    <a:pt x="1481" y="732"/>
                  </a:lnTo>
                  <a:lnTo>
                    <a:pt x="1495" y="682"/>
                  </a:lnTo>
                  <a:lnTo>
                    <a:pt x="1507" y="646"/>
                  </a:lnTo>
                  <a:lnTo>
                    <a:pt x="1516" y="616"/>
                  </a:lnTo>
                  <a:lnTo>
                    <a:pt x="1527" y="592"/>
                  </a:lnTo>
                  <a:lnTo>
                    <a:pt x="1539" y="565"/>
                  </a:lnTo>
                  <a:lnTo>
                    <a:pt x="1555" y="530"/>
                  </a:lnTo>
                  <a:lnTo>
                    <a:pt x="1578" y="483"/>
                  </a:lnTo>
                  <a:lnTo>
                    <a:pt x="1607" y="418"/>
                  </a:lnTo>
                  <a:lnTo>
                    <a:pt x="1636" y="350"/>
                  </a:lnTo>
                  <a:lnTo>
                    <a:pt x="1660" y="295"/>
                  </a:lnTo>
                  <a:lnTo>
                    <a:pt x="1678" y="249"/>
                  </a:lnTo>
                  <a:lnTo>
                    <a:pt x="1692" y="210"/>
                  </a:lnTo>
                  <a:lnTo>
                    <a:pt x="1705" y="174"/>
                  </a:lnTo>
                  <a:lnTo>
                    <a:pt x="1717" y="137"/>
                  </a:lnTo>
                  <a:lnTo>
                    <a:pt x="1730" y="98"/>
                  </a:lnTo>
                  <a:lnTo>
                    <a:pt x="1745" y="52"/>
                  </a:lnTo>
                  <a:lnTo>
                    <a:pt x="1750" y="41"/>
                  </a:lnTo>
                  <a:lnTo>
                    <a:pt x="1754" y="30"/>
                  </a:lnTo>
                  <a:lnTo>
                    <a:pt x="1758" y="21"/>
                  </a:lnTo>
                  <a:lnTo>
                    <a:pt x="1763" y="14"/>
                  </a:lnTo>
                  <a:lnTo>
                    <a:pt x="1768" y="8"/>
                  </a:lnTo>
                  <a:lnTo>
                    <a:pt x="1772" y="4"/>
                  </a:lnTo>
                  <a:lnTo>
                    <a:pt x="1777" y="1"/>
                  </a:lnTo>
                  <a:lnTo>
                    <a:pt x="1781" y="0"/>
                  </a:lnTo>
                  <a:lnTo>
                    <a:pt x="1786" y="0"/>
                  </a:lnTo>
                  <a:lnTo>
                    <a:pt x="1791" y="0"/>
                  </a:lnTo>
                  <a:lnTo>
                    <a:pt x="1795" y="2"/>
                  </a:lnTo>
                  <a:lnTo>
                    <a:pt x="1799" y="6"/>
                  </a:lnTo>
                  <a:lnTo>
                    <a:pt x="1804" y="11"/>
                  </a:lnTo>
                  <a:lnTo>
                    <a:pt x="1808" y="16"/>
                  </a:lnTo>
                  <a:lnTo>
                    <a:pt x="1811" y="22"/>
                  </a:lnTo>
                  <a:lnTo>
                    <a:pt x="1816" y="31"/>
                  </a:lnTo>
                  <a:lnTo>
                    <a:pt x="1819" y="40"/>
                  </a:lnTo>
                  <a:lnTo>
                    <a:pt x="1821" y="49"/>
                  </a:lnTo>
                  <a:lnTo>
                    <a:pt x="1824" y="60"/>
                  </a:lnTo>
                  <a:lnTo>
                    <a:pt x="1826" y="72"/>
                  </a:lnTo>
                  <a:lnTo>
                    <a:pt x="1831" y="99"/>
                  </a:lnTo>
                  <a:lnTo>
                    <a:pt x="1833" y="128"/>
                  </a:lnTo>
                  <a:lnTo>
                    <a:pt x="1833" y="161"/>
                  </a:lnTo>
                  <a:lnTo>
                    <a:pt x="1832" y="196"/>
                  </a:lnTo>
                  <a:lnTo>
                    <a:pt x="1829" y="234"/>
                  </a:lnTo>
                  <a:lnTo>
                    <a:pt x="1822" y="274"/>
                  </a:lnTo>
                  <a:lnTo>
                    <a:pt x="1797" y="387"/>
                  </a:lnTo>
                  <a:lnTo>
                    <a:pt x="1775" y="495"/>
                  </a:lnTo>
                  <a:lnTo>
                    <a:pt x="1766" y="545"/>
                  </a:lnTo>
                  <a:lnTo>
                    <a:pt x="1758" y="592"/>
                  </a:lnTo>
                  <a:lnTo>
                    <a:pt x="1753" y="634"/>
                  </a:lnTo>
                  <a:lnTo>
                    <a:pt x="1751" y="670"/>
                  </a:lnTo>
                  <a:lnTo>
                    <a:pt x="1750" y="687"/>
                  </a:lnTo>
                  <a:lnTo>
                    <a:pt x="1750" y="701"/>
                  </a:lnTo>
                  <a:lnTo>
                    <a:pt x="1751" y="714"/>
                  </a:lnTo>
                  <a:lnTo>
                    <a:pt x="1753" y="724"/>
                  </a:lnTo>
                  <a:lnTo>
                    <a:pt x="1755" y="734"/>
                  </a:lnTo>
                  <a:lnTo>
                    <a:pt x="1758" y="742"/>
                  </a:lnTo>
                  <a:lnTo>
                    <a:pt x="1763" y="747"/>
                  </a:lnTo>
                  <a:lnTo>
                    <a:pt x="1767" y="750"/>
                  </a:lnTo>
                  <a:lnTo>
                    <a:pt x="1774" y="751"/>
                  </a:lnTo>
                  <a:lnTo>
                    <a:pt x="1780" y="749"/>
                  </a:lnTo>
                  <a:lnTo>
                    <a:pt x="1788" y="746"/>
                  </a:lnTo>
                  <a:lnTo>
                    <a:pt x="1797" y="740"/>
                  </a:lnTo>
                  <a:lnTo>
                    <a:pt x="1807" y="731"/>
                  </a:lnTo>
                  <a:lnTo>
                    <a:pt x="1818" y="719"/>
                  </a:lnTo>
                  <a:lnTo>
                    <a:pt x="1831" y="705"/>
                  </a:lnTo>
                  <a:lnTo>
                    <a:pt x="1844" y="688"/>
                  </a:lnTo>
                  <a:lnTo>
                    <a:pt x="1860" y="666"/>
                  </a:lnTo>
                  <a:lnTo>
                    <a:pt x="1874" y="643"/>
                  </a:lnTo>
                  <a:lnTo>
                    <a:pt x="1889" y="620"/>
                  </a:lnTo>
                  <a:lnTo>
                    <a:pt x="1902" y="596"/>
                  </a:lnTo>
                  <a:lnTo>
                    <a:pt x="1915" y="570"/>
                  </a:lnTo>
                  <a:lnTo>
                    <a:pt x="1928" y="544"/>
                  </a:lnTo>
                  <a:lnTo>
                    <a:pt x="1940" y="518"/>
                  </a:lnTo>
                  <a:lnTo>
                    <a:pt x="1951" y="491"/>
                  </a:lnTo>
                  <a:lnTo>
                    <a:pt x="1971" y="438"/>
                  </a:lnTo>
                  <a:lnTo>
                    <a:pt x="1991" y="387"/>
                  </a:lnTo>
                  <a:lnTo>
                    <a:pt x="2007" y="339"/>
                  </a:lnTo>
                  <a:lnTo>
                    <a:pt x="2022" y="295"/>
                  </a:lnTo>
                  <a:lnTo>
                    <a:pt x="2035" y="257"/>
                  </a:lnTo>
                  <a:lnTo>
                    <a:pt x="2047" y="228"/>
                  </a:lnTo>
                  <a:lnTo>
                    <a:pt x="2051" y="216"/>
                  </a:lnTo>
                  <a:lnTo>
                    <a:pt x="2055" y="206"/>
                  </a:lnTo>
                  <a:lnTo>
                    <a:pt x="2060" y="200"/>
                  </a:lnTo>
                  <a:lnTo>
                    <a:pt x="2064" y="196"/>
                  </a:lnTo>
                  <a:lnTo>
                    <a:pt x="2067" y="195"/>
                  </a:lnTo>
                  <a:lnTo>
                    <a:pt x="2071" y="197"/>
                  </a:lnTo>
                  <a:lnTo>
                    <a:pt x="2073" y="204"/>
                  </a:lnTo>
                  <a:lnTo>
                    <a:pt x="2075" y="214"/>
                  </a:lnTo>
                  <a:lnTo>
                    <a:pt x="2077" y="227"/>
                  </a:lnTo>
                  <a:lnTo>
                    <a:pt x="2079" y="244"/>
                  </a:lnTo>
                  <a:lnTo>
                    <a:pt x="2080" y="265"/>
                  </a:lnTo>
                  <a:lnTo>
                    <a:pt x="2081" y="291"/>
                  </a:lnTo>
                  <a:lnTo>
                    <a:pt x="2084" y="345"/>
                  </a:lnTo>
                  <a:lnTo>
                    <a:pt x="2084" y="396"/>
                  </a:lnTo>
                  <a:lnTo>
                    <a:pt x="2084" y="443"/>
                  </a:lnTo>
                  <a:lnTo>
                    <a:pt x="2082" y="486"/>
                  </a:lnTo>
                  <a:lnTo>
                    <a:pt x="2080" y="526"/>
                  </a:lnTo>
                  <a:lnTo>
                    <a:pt x="2077" y="564"/>
                  </a:lnTo>
                  <a:lnTo>
                    <a:pt x="2075" y="599"/>
                  </a:lnTo>
                  <a:lnTo>
                    <a:pt x="2072" y="633"/>
                  </a:lnTo>
                  <a:lnTo>
                    <a:pt x="2064" y="695"/>
                  </a:lnTo>
                  <a:lnTo>
                    <a:pt x="2059" y="755"/>
                  </a:lnTo>
                  <a:lnTo>
                    <a:pt x="2055" y="785"/>
                  </a:lnTo>
                  <a:lnTo>
                    <a:pt x="2053" y="814"/>
                  </a:lnTo>
                  <a:lnTo>
                    <a:pt x="2052" y="844"/>
                  </a:lnTo>
                  <a:lnTo>
                    <a:pt x="2052" y="876"/>
                  </a:lnTo>
                  <a:lnTo>
                    <a:pt x="2052" y="891"/>
                  </a:lnTo>
                  <a:lnTo>
                    <a:pt x="2053" y="904"/>
                  </a:lnTo>
                  <a:lnTo>
                    <a:pt x="2055" y="917"/>
                  </a:lnTo>
                  <a:lnTo>
                    <a:pt x="2059" y="929"/>
                  </a:lnTo>
                  <a:lnTo>
                    <a:pt x="2062" y="939"/>
                  </a:lnTo>
                  <a:lnTo>
                    <a:pt x="2066" y="949"/>
                  </a:lnTo>
                  <a:lnTo>
                    <a:pt x="2071" y="958"/>
                  </a:lnTo>
                  <a:lnTo>
                    <a:pt x="2076" y="965"/>
                  </a:lnTo>
                  <a:lnTo>
                    <a:pt x="2082" y="972"/>
                  </a:lnTo>
                  <a:lnTo>
                    <a:pt x="2089" y="977"/>
                  </a:lnTo>
                  <a:lnTo>
                    <a:pt x="2095" y="981"/>
                  </a:lnTo>
                  <a:lnTo>
                    <a:pt x="2103" y="985"/>
                  </a:lnTo>
                  <a:lnTo>
                    <a:pt x="2111" y="986"/>
                  </a:lnTo>
                  <a:lnTo>
                    <a:pt x="2118" y="987"/>
                  </a:lnTo>
                  <a:lnTo>
                    <a:pt x="2127" y="986"/>
                  </a:lnTo>
                  <a:lnTo>
                    <a:pt x="2134" y="985"/>
                  </a:lnTo>
                  <a:lnTo>
                    <a:pt x="2143" y="981"/>
                  </a:lnTo>
                  <a:lnTo>
                    <a:pt x="2152" y="977"/>
                  </a:lnTo>
                  <a:lnTo>
                    <a:pt x="2160" y="972"/>
                  </a:lnTo>
                  <a:lnTo>
                    <a:pt x="2170" y="965"/>
                  </a:lnTo>
                  <a:lnTo>
                    <a:pt x="2179" y="957"/>
                  </a:lnTo>
                  <a:lnTo>
                    <a:pt x="2187" y="948"/>
                  </a:lnTo>
                  <a:lnTo>
                    <a:pt x="2196" y="937"/>
                  </a:lnTo>
                  <a:lnTo>
                    <a:pt x="2205" y="925"/>
                  </a:lnTo>
                  <a:lnTo>
                    <a:pt x="2212" y="912"/>
                  </a:lnTo>
                  <a:lnTo>
                    <a:pt x="2221" y="898"/>
                  </a:lnTo>
                  <a:lnTo>
                    <a:pt x="2228" y="882"/>
                  </a:lnTo>
                  <a:lnTo>
                    <a:pt x="2236" y="866"/>
                  </a:lnTo>
                  <a:lnTo>
                    <a:pt x="2243" y="848"/>
                  </a:lnTo>
                  <a:lnTo>
                    <a:pt x="2250" y="827"/>
                  </a:lnTo>
                  <a:lnTo>
                    <a:pt x="2256" y="807"/>
                  </a:lnTo>
                  <a:lnTo>
                    <a:pt x="2262" y="784"/>
                  </a:lnTo>
                  <a:lnTo>
                    <a:pt x="2274" y="743"/>
                  </a:lnTo>
                  <a:lnTo>
                    <a:pt x="2284" y="704"/>
                  </a:lnTo>
                  <a:lnTo>
                    <a:pt x="2296" y="667"/>
                  </a:lnTo>
                  <a:lnTo>
                    <a:pt x="2308" y="634"/>
                  </a:lnTo>
                  <a:lnTo>
                    <a:pt x="2319" y="605"/>
                  </a:lnTo>
                  <a:lnTo>
                    <a:pt x="2329" y="580"/>
                  </a:lnTo>
                  <a:lnTo>
                    <a:pt x="2337" y="560"/>
                  </a:lnTo>
                  <a:lnTo>
                    <a:pt x="2346" y="546"/>
                  </a:lnTo>
                  <a:lnTo>
                    <a:pt x="2349" y="542"/>
                  </a:lnTo>
                  <a:lnTo>
                    <a:pt x="2353" y="540"/>
                  </a:lnTo>
                  <a:lnTo>
                    <a:pt x="2355" y="540"/>
                  </a:lnTo>
                  <a:lnTo>
                    <a:pt x="2357" y="541"/>
                  </a:lnTo>
                  <a:lnTo>
                    <a:pt x="2359" y="544"/>
                  </a:lnTo>
                  <a:lnTo>
                    <a:pt x="2360" y="549"/>
                  </a:lnTo>
                  <a:lnTo>
                    <a:pt x="2361" y="558"/>
                  </a:lnTo>
                  <a:lnTo>
                    <a:pt x="2361" y="568"/>
                  </a:lnTo>
                  <a:lnTo>
                    <a:pt x="2360" y="596"/>
                  </a:lnTo>
                  <a:lnTo>
                    <a:pt x="2356" y="635"/>
                  </a:lnTo>
                  <a:lnTo>
                    <a:pt x="2348" y="684"/>
                  </a:lnTo>
                  <a:lnTo>
                    <a:pt x="2339" y="747"/>
                  </a:lnTo>
                  <a:lnTo>
                    <a:pt x="2323" y="846"/>
                  </a:lnTo>
                  <a:lnTo>
                    <a:pt x="2309" y="929"/>
                  </a:lnTo>
                  <a:lnTo>
                    <a:pt x="2297" y="993"/>
                  </a:lnTo>
                  <a:lnTo>
                    <a:pt x="2288" y="1044"/>
                  </a:lnTo>
                  <a:lnTo>
                    <a:pt x="2279" y="1081"/>
                  </a:lnTo>
                  <a:lnTo>
                    <a:pt x="2274" y="1105"/>
                  </a:lnTo>
                  <a:lnTo>
                    <a:pt x="2270" y="1119"/>
                  </a:lnTo>
                  <a:lnTo>
                    <a:pt x="2269" y="1122"/>
                  </a:lnTo>
                  <a:lnTo>
                    <a:pt x="2269" y="1129"/>
                  </a:lnTo>
                  <a:lnTo>
                    <a:pt x="2269" y="1149"/>
                  </a:lnTo>
                  <a:lnTo>
                    <a:pt x="2267" y="1178"/>
                  </a:lnTo>
                  <a:lnTo>
                    <a:pt x="2265" y="1213"/>
                  </a:lnTo>
                  <a:lnTo>
                    <a:pt x="2261" y="1249"/>
                  </a:lnTo>
                  <a:lnTo>
                    <a:pt x="2255" y="1286"/>
                  </a:lnTo>
                  <a:lnTo>
                    <a:pt x="2251" y="1303"/>
                  </a:lnTo>
                  <a:lnTo>
                    <a:pt x="2247" y="1320"/>
                  </a:lnTo>
                  <a:lnTo>
                    <a:pt x="2241" y="1332"/>
                  </a:lnTo>
                  <a:lnTo>
                    <a:pt x="2235" y="1344"/>
                  </a:lnTo>
                  <a:lnTo>
                    <a:pt x="2228" y="1357"/>
                  </a:lnTo>
                  <a:lnTo>
                    <a:pt x="2222" y="1376"/>
                  </a:lnTo>
                  <a:lnTo>
                    <a:pt x="2215" y="1397"/>
                  </a:lnTo>
                  <a:lnTo>
                    <a:pt x="2209" y="1422"/>
                  </a:lnTo>
                  <a:lnTo>
                    <a:pt x="2196" y="1482"/>
                  </a:lnTo>
                  <a:lnTo>
                    <a:pt x="2184" y="1545"/>
                  </a:lnTo>
                  <a:lnTo>
                    <a:pt x="2174" y="1610"/>
                  </a:lnTo>
                  <a:lnTo>
                    <a:pt x="2166" y="1671"/>
                  </a:lnTo>
                  <a:lnTo>
                    <a:pt x="2160" y="1720"/>
                  </a:lnTo>
                  <a:lnTo>
                    <a:pt x="2158" y="1755"/>
                  </a:lnTo>
                  <a:lnTo>
                    <a:pt x="2158" y="1782"/>
                  </a:lnTo>
                  <a:lnTo>
                    <a:pt x="2156" y="1810"/>
                  </a:lnTo>
                  <a:lnTo>
                    <a:pt x="2153" y="1840"/>
                  </a:lnTo>
                  <a:lnTo>
                    <a:pt x="2148" y="1874"/>
                  </a:lnTo>
                  <a:lnTo>
                    <a:pt x="2142" y="1909"/>
                  </a:lnTo>
                  <a:lnTo>
                    <a:pt x="2134" y="1948"/>
                  </a:lnTo>
                  <a:lnTo>
                    <a:pt x="2125" y="1990"/>
                  </a:lnTo>
                  <a:lnTo>
                    <a:pt x="2114" y="2034"/>
                  </a:lnTo>
                  <a:lnTo>
                    <a:pt x="2095" y="2103"/>
                  </a:lnTo>
                  <a:lnTo>
                    <a:pt x="2070" y="2205"/>
                  </a:lnTo>
                  <a:lnTo>
                    <a:pt x="2038" y="2330"/>
                  </a:lnTo>
                  <a:lnTo>
                    <a:pt x="2006" y="2463"/>
                  </a:lnTo>
                  <a:lnTo>
                    <a:pt x="1974" y="2591"/>
                  </a:lnTo>
                  <a:lnTo>
                    <a:pt x="1949" y="2698"/>
                  </a:lnTo>
                  <a:lnTo>
                    <a:pt x="1930" y="2773"/>
                  </a:lnTo>
                  <a:lnTo>
                    <a:pt x="1924" y="2801"/>
                  </a:lnTo>
                  <a:lnTo>
                    <a:pt x="1889" y="2815"/>
                  </a:lnTo>
                  <a:lnTo>
                    <a:pt x="1798" y="2854"/>
                  </a:lnTo>
                  <a:lnTo>
                    <a:pt x="1669" y="2908"/>
                  </a:lnTo>
                  <a:lnTo>
                    <a:pt x="1517" y="2969"/>
                  </a:lnTo>
                  <a:lnTo>
                    <a:pt x="1440" y="2998"/>
                  </a:lnTo>
                  <a:lnTo>
                    <a:pt x="1362" y="3027"/>
                  </a:lnTo>
                  <a:lnTo>
                    <a:pt x="1288" y="3052"/>
                  </a:lnTo>
                  <a:lnTo>
                    <a:pt x="1220" y="3073"/>
                  </a:lnTo>
                  <a:lnTo>
                    <a:pt x="1189" y="3083"/>
                  </a:lnTo>
                  <a:lnTo>
                    <a:pt x="1160" y="3091"/>
                  </a:lnTo>
                  <a:lnTo>
                    <a:pt x="1133" y="3097"/>
                  </a:lnTo>
                  <a:lnTo>
                    <a:pt x="1109" y="3103"/>
                  </a:lnTo>
                  <a:lnTo>
                    <a:pt x="1088" y="3105"/>
                  </a:lnTo>
                  <a:lnTo>
                    <a:pt x="1070" y="3106"/>
                  </a:lnTo>
                  <a:lnTo>
                    <a:pt x="1056" y="3106"/>
                  </a:lnTo>
                  <a:lnTo>
                    <a:pt x="1045" y="3103"/>
                  </a:lnTo>
                  <a:lnTo>
                    <a:pt x="1029" y="3095"/>
                  </a:lnTo>
                  <a:lnTo>
                    <a:pt x="1013" y="3091"/>
                  </a:lnTo>
                  <a:lnTo>
                    <a:pt x="997" y="3087"/>
                  </a:lnTo>
                  <a:lnTo>
                    <a:pt x="981" y="3087"/>
                  </a:lnTo>
                  <a:lnTo>
                    <a:pt x="965" y="3089"/>
                  </a:lnTo>
                  <a:lnTo>
                    <a:pt x="949" y="3091"/>
                  </a:lnTo>
                  <a:lnTo>
                    <a:pt x="934" y="3095"/>
                  </a:lnTo>
                  <a:lnTo>
                    <a:pt x="920" y="3099"/>
                  </a:lnTo>
                  <a:lnTo>
                    <a:pt x="891" y="3111"/>
                  </a:lnTo>
                  <a:lnTo>
                    <a:pt x="863" y="3124"/>
                  </a:lnTo>
                  <a:lnTo>
                    <a:pt x="836" y="3137"/>
                  </a:lnTo>
                  <a:lnTo>
                    <a:pt x="811" y="3147"/>
                  </a:lnTo>
                  <a:lnTo>
                    <a:pt x="797" y="3150"/>
                  </a:lnTo>
                  <a:lnTo>
                    <a:pt x="781" y="3152"/>
                  </a:lnTo>
                  <a:lnTo>
                    <a:pt x="763" y="3153"/>
                  </a:lnTo>
                  <a:lnTo>
                    <a:pt x="744" y="3153"/>
                  </a:lnTo>
                  <a:lnTo>
                    <a:pt x="725" y="3152"/>
                  </a:lnTo>
                  <a:lnTo>
                    <a:pt x="704" y="3150"/>
                  </a:lnTo>
                  <a:lnTo>
                    <a:pt x="684" y="3147"/>
                  </a:lnTo>
                  <a:lnTo>
                    <a:pt x="663" y="3144"/>
                  </a:lnTo>
                  <a:lnTo>
                    <a:pt x="644" y="3138"/>
                  </a:lnTo>
                  <a:lnTo>
                    <a:pt x="626" y="3134"/>
                  </a:lnTo>
                  <a:lnTo>
                    <a:pt x="609" y="3127"/>
                  </a:lnTo>
                  <a:lnTo>
                    <a:pt x="595" y="3121"/>
                  </a:lnTo>
                  <a:lnTo>
                    <a:pt x="583" y="3113"/>
                  </a:lnTo>
                  <a:lnTo>
                    <a:pt x="573" y="3106"/>
                  </a:lnTo>
                  <a:lnTo>
                    <a:pt x="570" y="3103"/>
                  </a:lnTo>
                  <a:lnTo>
                    <a:pt x="568" y="3098"/>
                  </a:lnTo>
                  <a:lnTo>
                    <a:pt x="567" y="3094"/>
                  </a:lnTo>
                  <a:lnTo>
                    <a:pt x="566" y="3090"/>
                  </a:lnTo>
                  <a:lnTo>
                    <a:pt x="566" y="3082"/>
                  </a:lnTo>
                  <a:lnTo>
                    <a:pt x="564" y="3075"/>
                  </a:lnTo>
                  <a:lnTo>
                    <a:pt x="561" y="3067"/>
                  </a:lnTo>
                  <a:lnTo>
                    <a:pt x="557" y="3062"/>
                  </a:lnTo>
                  <a:lnTo>
                    <a:pt x="553" y="3055"/>
                  </a:lnTo>
                  <a:lnTo>
                    <a:pt x="547" y="3051"/>
                  </a:lnTo>
                  <a:lnTo>
                    <a:pt x="540" y="3046"/>
                  </a:lnTo>
                  <a:lnTo>
                    <a:pt x="532" y="3043"/>
                  </a:lnTo>
                  <a:lnTo>
                    <a:pt x="524" y="3040"/>
                  </a:lnTo>
                  <a:lnTo>
                    <a:pt x="514" y="3038"/>
                  </a:lnTo>
                  <a:lnTo>
                    <a:pt x="503" y="3037"/>
                  </a:lnTo>
                  <a:lnTo>
                    <a:pt x="491" y="3037"/>
                  </a:lnTo>
                  <a:lnTo>
                    <a:pt x="478" y="3038"/>
                  </a:lnTo>
                  <a:lnTo>
                    <a:pt x="464" y="3039"/>
                  </a:lnTo>
                  <a:lnTo>
                    <a:pt x="449" y="3042"/>
                  </a:lnTo>
                  <a:lnTo>
                    <a:pt x="433" y="3045"/>
                  </a:lnTo>
                  <a:lnTo>
                    <a:pt x="416" y="3049"/>
                  </a:lnTo>
                  <a:lnTo>
                    <a:pt x="398" y="3052"/>
                  </a:lnTo>
                  <a:lnTo>
                    <a:pt x="382" y="3053"/>
                  </a:lnTo>
                  <a:lnTo>
                    <a:pt x="366" y="3053"/>
                  </a:lnTo>
                  <a:lnTo>
                    <a:pt x="350" y="3053"/>
                  </a:lnTo>
                  <a:lnTo>
                    <a:pt x="334" y="3052"/>
                  </a:lnTo>
                  <a:lnTo>
                    <a:pt x="319" y="3051"/>
                  </a:lnTo>
                  <a:lnTo>
                    <a:pt x="305" y="3049"/>
                  </a:lnTo>
                  <a:lnTo>
                    <a:pt x="281" y="3044"/>
                  </a:lnTo>
                  <a:lnTo>
                    <a:pt x="261" y="3040"/>
                  </a:lnTo>
                  <a:lnTo>
                    <a:pt x="249" y="3037"/>
                  </a:lnTo>
                  <a:lnTo>
                    <a:pt x="245" y="3036"/>
                  </a:lnTo>
                  <a:lnTo>
                    <a:pt x="0" y="1812"/>
                  </a:lnTo>
                  <a:lnTo>
                    <a:pt x="311" y="1266"/>
                  </a:lnTo>
                  <a:lnTo>
                    <a:pt x="315" y="1256"/>
                  </a:lnTo>
                  <a:lnTo>
                    <a:pt x="326" y="1228"/>
                  </a:lnTo>
                  <a:lnTo>
                    <a:pt x="342" y="1185"/>
                  </a:lnTo>
                  <a:lnTo>
                    <a:pt x="361" y="1126"/>
                  </a:lnTo>
                  <a:lnTo>
                    <a:pt x="369" y="1094"/>
                  </a:lnTo>
                  <a:lnTo>
                    <a:pt x="379" y="1058"/>
                  </a:lnTo>
                  <a:lnTo>
                    <a:pt x="386" y="1020"/>
                  </a:lnTo>
                  <a:lnTo>
                    <a:pt x="395" y="980"/>
                  </a:lnTo>
                  <a:lnTo>
                    <a:pt x="402" y="938"/>
                  </a:lnTo>
                  <a:lnTo>
                    <a:pt x="407" y="895"/>
                  </a:lnTo>
                  <a:lnTo>
                    <a:pt x="410" y="851"/>
                  </a:lnTo>
                  <a:lnTo>
                    <a:pt x="412" y="807"/>
                  </a:lnTo>
                  <a:lnTo>
                    <a:pt x="415" y="719"/>
                  </a:lnTo>
                  <a:lnTo>
                    <a:pt x="417" y="641"/>
                  </a:lnTo>
                  <a:lnTo>
                    <a:pt x="419" y="571"/>
                  </a:lnTo>
                  <a:lnTo>
                    <a:pt x="419" y="508"/>
                  </a:lnTo>
                  <a:lnTo>
                    <a:pt x="419" y="479"/>
                  </a:lnTo>
                  <a:lnTo>
                    <a:pt x="418" y="452"/>
                  </a:lnTo>
                  <a:lnTo>
                    <a:pt x="416" y="426"/>
                  </a:lnTo>
                  <a:lnTo>
                    <a:pt x="413" y="402"/>
                  </a:lnTo>
                  <a:lnTo>
                    <a:pt x="410" y="378"/>
                  </a:lnTo>
                  <a:lnTo>
                    <a:pt x="406" y="356"/>
                  </a:lnTo>
                  <a:lnTo>
                    <a:pt x="402" y="335"/>
                  </a:lnTo>
                  <a:lnTo>
                    <a:pt x="395" y="314"/>
                  </a:lnTo>
                  <a:lnTo>
                    <a:pt x="390" y="294"/>
                  </a:lnTo>
                  <a:lnTo>
                    <a:pt x="388" y="276"/>
                  </a:lnTo>
                  <a:lnTo>
                    <a:pt x="386" y="261"/>
                  </a:lnTo>
                  <a:lnTo>
                    <a:pt x="389" y="249"/>
                  </a:lnTo>
                  <a:lnTo>
                    <a:pt x="390" y="245"/>
                  </a:lnTo>
                  <a:lnTo>
                    <a:pt x="392" y="241"/>
                  </a:lnTo>
                  <a:lnTo>
                    <a:pt x="394" y="236"/>
                  </a:lnTo>
                  <a:lnTo>
                    <a:pt x="396" y="233"/>
                  </a:lnTo>
                  <a:lnTo>
                    <a:pt x="399" y="231"/>
                  </a:lnTo>
                  <a:lnTo>
                    <a:pt x="402" y="229"/>
                  </a:lnTo>
                  <a:lnTo>
                    <a:pt x="405" y="227"/>
                  </a:lnTo>
                  <a:lnTo>
                    <a:pt x="409" y="227"/>
                  </a:lnTo>
                  <a:lnTo>
                    <a:pt x="416" y="225"/>
                  </a:lnTo>
                  <a:lnTo>
                    <a:pt x="424" y="228"/>
                  </a:lnTo>
                  <a:lnTo>
                    <a:pt x="432" y="232"/>
                  </a:lnTo>
                  <a:lnTo>
                    <a:pt x="439" y="237"/>
                  </a:lnTo>
                  <a:lnTo>
                    <a:pt x="447" y="245"/>
                  </a:lnTo>
                  <a:lnTo>
                    <a:pt x="453" y="254"/>
                  </a:lnTo>
                  <a:lnTo>
                    <a:pt x="460" y="264"/>
                  </a:lnTo>
                  <a:lnTo>
                    <a:pt x="464" y="277"/>
                  </a:lnTo>
                  <a:lnTo>
                    <a:pt x="466" y="298"/>
                  </a:lnTo>
                  <a:lnTo>
                    <a:pt x="469" y="317"/>
                  </a:lnTo>
                  <a:lnTo>
                    <a:pt x="472" y="335"/>
                  </a:lnTo>
                  <a:lnTo>
                    <a:pt x="475" y="351"/>
                  </a:lnTo>
                  <a:lnTo>
                    <a:pt x="478" y="366"/>
                  </a:lnTo>
                  <a:lnTo>
                    <a:pt x="483" y="379"/>
                  </a:lnTo>
                  <a:lnTo>
                    <a:pt x="488" y="391"/>
                  </a:lnTo>
                  <a:lnTo>
                    <a:pt x="492" y="402"/>
                  </a:lnTo>
                  <a:lnTo>
                    <a:pt x="498" y="411"/>
                  </a:lnTo>
                  <a:lnTo>
                    <a:pt x="503" y="419"/>
                  </a:lnTo>
                  <a:lnTo>
                    <a:pt x="509" y="426"/>
                  </a:lnTo>
                  <a:lnTo>
                    <a:pt x="515" y="433"/>
                  </a:lnTo>
                  <a:lnTo>
                    <a:pt x="520" y="437"/>
                  </a:lnTo>
                  <a:lnTo>
                    <a:pt x="527" y="441"/>
                  </a:lnTo>
                  <a:lnTo>
                    <a:pt x="533" y="446"/>
                  </a:lnTo>
                  <a:lnTo>
                    <a:pt x="540" y="448"/>
                  </a:lnTo>
                  <a:lnTo>
                    <a:pt x="552" y="452"/>
                  </a:lnTo>
                  <a:lnTo>
                    <a:pt x="564" y="453"/>
                  </a:lnTo>
                  <a:lnTo>
                    <a:pt x="574" y="453"/>
                  </a:lnTo>
                  <a:lnTo>
                    <a:pt x="583" y="451"/>
                  </a:lnTo>
                  <a:lnTo>
                    <a:pt x="598" y="448"/>
                  </a:lnTo>
                  <a:lnTo>
                    <a:pt x="603" y="445"/>
                  </a:lnTo>
                  <a:lnTo>
                    <a:pt x="608" y="438"/>
                  </a:lnTo>
                  <a:lnTo>
                    <a:pt x="621" y="421"/>
                  </a:lnTo>
                  <a:lnTo>
                    <a:pt x="638" y="394"/>
                  </a:lnTo>
                  <a:lnTo>
                    <a:pt x="659" y="359"/>
                  </a:lnTo>
                  <a:lnTo>
                    <a:pt x="668" y="341"/>
                  </a:lnTo>
                  <a:lnTo>
                    <a:pt x="678" y="322"/>
                  </a:lnTo>
                  <a:lnTo>
                    <a:pt x="688" y="301"/>
                  </a:lnTo>
                  <a:lnTo>
                    <a:pt x="695" y="281"/>
                  </a:lnTo>
                  <a:lnTo>
                    <a:pt x="703" y="260"/>
                  </a:lnTo>
                  <a:lnTo>
                    <a:pt x="708" y="240"/>
                  </a:lnTo>
                  <a:lnTo>
                    <a:pt x="709" y="230"/>
                  </a:lnTo>
                  <a:lnTo>
                    <a:pt x="711" y="219"/>
                  </a:lnTo>
                  <a:lnTo>
                    <a:pt x="712" y="209"/>
                  </a:lnTo>
                  <a:lnTo>
                    <a:pt x="712" y="201"/>
                  </a:lnTo>
                  <a:lnTo>
                    <a:pt x="718" y="209"/>
                  </a:lnTo>
                  <a:lnTo>
                    <a:pt x="729" y="224"/>
                  </a:lnTo>
                  <a:lnTo>
                    <a:pt x="742" y="245"/>
                  </a:lnTo>
                  <a:lnTo>
                    <a:pt x="758" y="270"/>
                  </a:lnTo>
                  <a:lnTo>
                    <a:pt x="773" y="299"/>
                  </a:lnTo>
                  <a:lnTo>
                    <a:pt x="789" y="330"/>
                  </a:lnTo>
                  <a:lnTo>
                    <a:pt x="805" y="363"/>
                  </a:lnTo>
                  <a:lnTo>
                    <a:pt x="819" y="396"/>
                  </a:lnTo>
                  <a:lnTo>
                    <a:pt x="836" y="436"/>
                  </a:lnTo>
                  <a:lnTo>
                    <a:pt x="861" y="488"/>
                  </a:lnTo>
                  <a:lnTo>
                    <a:pt x="890" y="544"/>
                  </a:lnTo>
                  <a:lnTo>
                    <a:pt x="920" y="599"/>
                  </a:lnTo>
                  <a:lnTo>
                    <a:pt x="935" y="624"/>
                  </a:lnTo>
                  <a:lnTo>
                    <a:pt x="950" y="648"/>
                  </a:lnTo>
                  <a:lnTo>
                    <a:pt x="964" y="667"/>
                  </a:lnTo>
                  <a:lnTo>
                    <a:pt x="976" y="683"/>
                  </a:lnTo>
                  <a:lnTo>
                    <a:pt x="982" y="690"/>
                  </a:lnTo>
                  <a:lnTo>
                    <a:pt x="987" y="695"/>
                  </a:lnTo>
                  <a:lnTo>
                    <a:pt x="991" y="699"/>
                  </a:lnTo>
                  <a:lnTo>
                    <a:pt x="996" y="701"/>
                  </a:lnTo>
                  <a:lnTo>
                    <a:pt x="999" y="702"/>
                  </a:lnTo>
                  <a:lnTo>
                    <a:pt x="1002" y="702"/>
                  </a:lnTo>
                  <a:lnTo>
                    <a:pt x="1004" y="699"/>
                  </a:lnTo>
                  <a:lnTo>
                    <a:pt x="1007" y="695"/>
                  </a:lnTo>
                  <a:close/>
                </a:path>
              </a:pathLst>
            </a:custGeom>
            <a:solidFill>
              <a:srgbClr val="5e8d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329080" y="2435400"/>
              <a:ext cx="744840" cy="984240"/>
            </a:xfrm>
            <a:custGeom>
              <a:avLst/>
              <a:gdLst/>
              <a:ahLst/>
              <a:rect l="l" t="t" r="r" b="b"/>
              <a:pathLst>
                <a:path w="2349" h="3102">
                  <a:moveTo>
                    <a:pt x="1011" y="716"/>
                  </a:moveTo>
                  <a:lnTo>
                    <a:pt x="1016" y="691"/>
                  </a:lnTo>
                  <a:lnTo>
                    <a:pt x="1024" y="660"/>
                  </a:lnTo>
                  <a:lnTo>
                    <a:pt x="1032" y="622"/>
                  </a:lnTo>
                  <a:lnTo>
                    <a:pt x="1040" y="576"/>
                  </a:lnTo>
                  <a:lnTo>
                    <a:pt x="1044" y="549"/>
                  </a:lnTo>
                  <a:lnTo>
                    <a:pt x="1048" y="521"/>
                  </a:lnTo>
                  <a:lnTo>
                    <a:pt x="1052" y="491"/>
                  </a:lnTo>
                  <a:lnTo>
                    <a:pt x="1054" y="459"/>
                  </a:lnTo>
                  <a:lnTo>
                    <a:pt x="1057" y="423"/>
                  </a:lnTo>
                  <a:lnTo>
                    <a:pt x="1058" y="385"/>
                  </a:lnTo>
                  <a:lnTo>
                    <a:pt x="1059" y="345"/>
                  </a:lnTo>
                  <a:lnTo>
                    <a:pt x="1061" y="303"/>
                  </a:lnTo>
                  <a:lnTo>
                    <a:pt x="1062" y="261"/>
                  </a:lnTo>
                  <a:lnTo>
                    <a:pt x="1064" y="216"/>
                  </a:lnTo>
                  <a:lnTo>
                    <a:pt x="1066" y="194"/>
                  </a:lnTo>
                  <a:lnTo>
                    <a:pt x="1068" y="173"/>
                  </a:lnTo>
                  <a:lnTo>
                    <a:pt x="1071" y="155"/>
                  </a:lnTo>
                  <a:lnTo>
                    <a:pt x="1076" y="139"/>
                  </a:lnTo>
                  <a:lnTo>
                    <a:pt x="1079" y="133"/>
                  </a:lnTo>
                  <a:lnTo>
                    <a:pt x="1081" y="128"/>
                  </a:lnTo>
                  <a:lnTo>
                    <a:pt x="1084" y="124"/>
                  </a:lnTo>
                  <a:lnTo>
                    <a:pt x="1088" y="120"/>
                  </a:lnTo>
                  <a:lnTo>
                    <a:pt x="1091" y="119"/>
                  </a:lnTo>
                  <a:lnTo>
                    <a:pt x="1095" y="119"/>
                  </a:lnTo>
                  <a:lnTo>
                    <a:pt x="1098" y="122"/>
                  </a:lnTo>
                  <a:lnTo>
                    <a:pt x="1103" y="125"/>
                  </a:lnTo>
                  <a:lnTo>
                    <a:pt x="1108" y="130"/>
                  </a:lnTo>
                  <a:lnTo>
                    <a:pt x="1112" y="138"/>
                  </a:lnTo>
                  <a:lnTo>
                    <a:pt x="1118" y="146"/>
                  </a:lnTo>
                  <a:lnTo>
                    <a:pt x="1123" y="158"/>
                  </a:lnTo>
                  <a:lnTo>
                    <a:pt x="1136" y="187"/>
                  </a:lnTo>
                  <a:lnTo>
                    <a:pt x="1149" y="226"/>
                  </a:lnTo>
                  <a:lnTo>
                    <a:pt x="1163" y="270"/>
                  </a:lnTo>
                  <a:lnTo>
                    <a:pt x="1177" y="312"/>
                  </a:lnTo>
                  <a:lnTo>
                    <a:pt x="1189" y="353"/>
                  </a:lnTo>
                  <a:lnTo>
                    <a:pt x="1200" y="394"/>
                  </a:lnTo>
                  <a:lnTo>
                    <a:pt x="1210" y="433"/>
                  </a:lnTo>
                  <a:lnTo>
                    <a:pt x="1218" y="471"/>
                  </a:lnTo>
                  <a:lnTo>
                    <a:pt x="1226" y="509"/>
                  </a:lnTo>
                  <a:lnTo>
                    <a:pt x="1232" y="545"/>
                  </a:lnTo>
                  <a:lnTo>
                    <a:pt x="1237" y="579"/>
                  </a:lnTo>
                  <a:lnTo>
                    <a:pt x="1241" y="613"/>
                  </a:lnTo>
                  <a:lnTo>
                    <a:pt x="1243" y="645"/>
                  </a:lnTo>
                  <a:lnTo>
                    <a:pt x="1245" y="676"/>
                  </a:lnTo>
                  <a:lnTo>
                    <a:pt x="1245" y="705"/>
                  </a:lnTo>
                  <a:lnTo>
                    <a:pt x="1244" y="733"/>
                  </a:lnTo>
                  <a:lnTo>
                    <a:pt x="1242" y="758"/>
                  </a:lnTo>
                  <a:lnTo>
                    <a:pt x="1239" y="783"/>
                  </a:lnTo>
                  <a:lnTo>
                    <a:pt x="1229" y="832"/>
                  </a:lnTo>
                  <a:lnTo>
                    <a:pt x="1219" y="889"/>
                  </a:lnTo>
                  <a:lnTo>
                    <a:pt x="1215" y="919"/>
                  </a:lnTo>
                  <a:lnTo>
                    <a:pt x="1211" y="950"/>
                  </a:lnTo>
                  <a:lnTo>
                    <a:pt x="1207" y="980"/>
                  </a:lnTo>
                  <a:lnTo>
                    <a:pt x="1205" y="1011"/>
                  </a:lnTo>
                  <a:lnTo>
                    <a:pt x="1203" y="1042"/>
                  </a:lnTo>
                  <a:lnTo>
                    <a:pt x="1203" y="1071"/>
                  </a:lnTo>
                  <a:lnTo>
                    <a:pt x="1204" y="1098"/>
                  </a:lnTo>
                  <a:lnTo>
                    <a:pt x="1207" y="1125"/>
                  </a:lnTo>
                  <a:lnTo>
                    <a:pt x="1210" y="1137"/>
                  </a:lnTo>
                  <a:lnTo>
                    <a:pt x="1212" y="1149"/>
                  </a:lnTo>
                  <a:lnTo>
                    <a:pt x="1215" y="1159"/>
                  </a:lnTo>
                  <a:lnTo>
                    <a:pt x="1218" y="1170"/>
                  </a:lnTo>
                  <a:lnTo>
                    <a:pt x="1223" y="1180"/>
                  </a:lnTo>
                  <a:lnTo>
                    <a:pt x="1227" y="1190"/>
                  </a:lnTo>
                  <a:lnTo>
                    <a:pt x="1232" y="1197"/>
                  </a:lnTo>
                  <a:lnTo>
                    <a:pt x="1239" y="1205"/>
                  </a:lnTo>
                  <a:lnTo>
                    <a:pt x="1240" y="1208"/>
                  </a:lnTo>
                  <a:lnTo>
                    <a:pt x="1243" y="1209"/>
                  </a:lnTo>
                  <a:lnTo>
                    <a:pt x="1246" y="1208"/>
                  </a:lnTo>
                  <a:lnTo>
                    <a:pt x="1252" y="1206"/>
                  </a:lnTo>
                  <a:lnTo>
                    <a:pt x="1257" y="1200"/>
                  </a:lnTo>
                  <a:lnTo>
                    <a:pt x="1263" y="1194"/>
                  </a:lnTo>
                  <a:lnTo>
                    <a:pt x="1269" y="1185"/>
                  </a:lnTo>
                  <a:lnTo>
                    <a:pt x="1277" y="1175"/>
                  </a:lnTo>
                  <a:lnTo>
                    <a:pt x="1293" y="1150"/>
                  </a:lnTo>
                  <a:lnTo>
                    <a:pt x="1311" y="1119"/>
                  </a:lnTo>
                  <a:lnTo>
                    <a:pt x="1330" y="1086"/>
                  </a:lnTo>
                  <a:lnTo>
                    <a:pt x="1350" y="1048"/>
                  </a:lnTo>
                  <a:lnTo>
                    <a:pt x="1369" y="1008"/>
                  </a:lnTo>
                  <a:lnTo>
                    <a:pt x="1390" y="967"/>
                  </a:lnTo>
                  <a:lnTo>
                    <a:pt x="1409" y="925"/>
                  </a:lnTo>
                  <a:lnTo>
                    <a:pt x="1428" y="883"/>
                  </a:lnTo>
                  <a:lnTo>
                    <a:pt x="1445" y="843"/>
                  </a:lnTo>
                  <a:lnTo>
                    <a:pt x="1460" y="804"/>
                  </a:lnTo>
                  <a:lnTo>
                    <a:pt x="1473" y="770"/>
                  </a:lnTo>
                  <a:lnTo>
                    <a:pt x="1483" y="737"/>
                  </a:lnTo>
                  <a:lnTo>
                    <a:pt x="1498" y="686"/>
                  </a:lnTo>
                  <a:lnTo>
                    <a:pt x="1510" y="645"/>
                  </a:lnTo>
                  <a:lnTo>
                    <a:pt x="1520" y="611"/>
                  </a:lnTo>
                  <a:lnTo>
                    <a:pt x="1530" y="578"/>
                  </a:lnTo>
                  <a:lnTo>
                    <a:pt x="1543" y="545"/>
                  </a:lnTo>
                  <a:lnTo>
                    <a:pt x="1561" y="504"/>
                  </a:lnTo>
                  <a:lnTo>
                    <a:pt x="1582" y="453"/>
                  </a:lnTo>
                  <a:lnTo>
                    <a:pt x="1611" y="386"/>
                  </a:lnTo>
                  <a:lnTo>
                    <a:pt x="1641" y="320"/>
                  </a:lnTo>
                  <a:lnTo>
                    <a:pt x="1662" y="268"/>
                  </a:lnTo>
                  <a:lnTo>
                    <a:pt x="1678" y="226"/>
                  </a:lnTo>
                  <a:lnTo>
                    <a:pt x="1690" y="193"/>
                  </a:lnTo>
                  <a:lnTo>
                    <a:pt x="1700" y="162"/>
                  </a:lnTo>
                  <a:lnTo>
                    <a:pt x="1710" y="129"/>
                  </a:lnTo>
                  <a:lnTo>
                    <a:pt x="1721" y="92"/>
                  </a:lnTo>
                  <a:lnTo>
                    <a:pt x="1736" y="48"/>
                  </a:lnTo>
                  <a:lnTo>
                    <a:pt x="1740" y="36"/>
                  </a:lnTo>
                  <a:lnTo>
                    <a:pt x="1744" y="27"/>
                  </a:lnTo>
                  <a:lnTo>
                    <a:pt x="1748" y="18"/>
                  </a:lnTo>
                  <a:lnTo>
                    <a:pt x="1752" y="11"/>
                  </a:lnTo>
                  <a:lnTo>
                    <a:pt x="1756" y="6"/>
                  </a:lnTo>
                  <a:lnTo>
                    <a:pt x="1761" y="3"/>
                  </a:lnTo>
                  <a:lnTo>
                    <a:pt x="1765" y="1"/>
                  </a:lnTo>
                  <a:lnTo>
                    <a:pt x="1769" y="0"/>
                  </a:lnTo>
                  <a:lnTo>
                    <a:pt x="1774" y="0"/>
                  </a:lnTo>
                  <a:lnTo>
                    <a:pt x="1777" y="2"/>
                  </a:lnTo>
                  <a:lnTo>
                    <a:pt x="1781" y="5"/>
                  </a:lnTo>
                  <a:lnTo>
                    <a:pt x="1784" y="9"/>
                  </a:lnTo>
                  <a:lnTo>
                    <a:pt x="1788" y="15"/>
                  </a:lnTo>
                  <a:lnTo>
                    <a:pt x="1791" y="22"/>
                  </a:lnTo>
                  <a:lnTo>
                    <a:pt x="1794" y="30"/>
                  </a:lnTo>
                  <a:lnTo>
                    <a:pt x="1797" y="38"/>
                  </a:lnTo>
                  <a:lnTo>
                    <a:pt x="1802" y="60"/>
                  </a:lnTo>
                  <a:lnTo>
                    <a:pt x="1805" y="85"/>
                  </a:lnTo>
                  <a:lnTo>
                    <a:pt x="1807" y="113"/>
                  </a:lnTo>
                  <a:lnTo>
                    <a:pt x="1807" y="144"/>
                  </a:lnTo>
                  <a:lnTo>
                    <a:pt x="1806" y="178"/>
                  </a:lnTo>
                  <a:lnTo>
                    <a:pt x="1803" y="214"/>
                  </a:lnTo>
                  <a:lnTo>
                    <a:pt x="1797" y="252"/>
                  </a:lnTo>
                  <a:lnTo>
                    <a:pt x="1790" y="293"/>
                  </a:lnTo>
                  <a:lnTo>
                    <a:pt x="1775" y="355"/>
                  </a:lnTo>
                  <a:lnTo>
                    <a:pt x="1761" y="415"/>
                  </a:lnTo>
                  <a:lnTo>
                    <a:pt x="1748" y="473"/>
                  </a:lnTo>
                  <a:lnTo>
                    <a:pt x="1737" y="528"/>
                  </a:lnTo>
                  <a:lnTo>
                    <a:pt x="1728" y="578"/>
                  </a:lnTo>
                  <a:lnTo>
                    <a:pt x="1721" y="626"/>
                  </a:lnTo>
                  <a:lnTo>
                    <a:pt x="1718" y="648"/>
                  </a:lnTo>
                  <a:lnTo>
                    <a:pt x="1716" y="668"/>
                  </a:lnTo>
                  <a:lnTo>
                    <a:pt x="1715" y="686"/>
                  </a:lnTo>
                  <a:lnTo>
                    <a:pt x="1714" y="704"/>
                  </a:lnTo>
                  <a:lnTo>
                    <a:pt x="1714" y="720"/>
                  </a:lnTo>
                  <a:lnTo>
                    <a:pt x="1715" y="734"/>
                  </a:lnTo>
                  <a:lnTo>
                    <a:pt x="1717" y="747"/>
                  </a:lnTo>
                  <a:lnTo>
                    <a:pt x="1720" y="758"/>
                  </a:lnTo>
                  <a:lnTo>
                    <a:pt x="1723" y="766"/>
                  </a:lnTo>
                  <a:lnTo>
                    <a:pt x="1727" y="774"/>
                  </a:lnTo>
                  <a:lnTo>
                    <a:pt x="1732" y="779"/>
                  </a:lnTo>
                  <a:lnTo>
                    <a:pt x="1738" y="781"/>
                  </a:lnTo>
                  <a:lnTo>
                    <a:pt x="1745" y="783"/>
                  </a:lnTo>
                  <a:lnTo>
                    <a:pt x="1753" y="781"/>
                  </a:lnTo>
                  <a:lnTo>
                    <a:pt x="1763" y="777"/>
                  </a:lnTo>
                  <a:lnTo>
                    <a:pt x="1772" y="771"/>
                  </a:lnTo>
                  <a:lnTo>
                    <a:pt x="1784" y="762"/>
                  </a:lnTo>
                  <a:lnTo>
                    <a:pt x="1796" y="751"/>
                  </a:lnTo>
                  <a:lnTo>
                    <a:pt x="1810" y="737"/>
                  </a:lnTo>
                  <a:lnTo>
                    <a:pt x="1824" y="720"/>
                  </a:lnTo>
                  <a:lnTo>
                    <a:pt x="1842" y="699"/>
                  </a:lnTo>
                  <a:lnTo>
                    <a:pt x="1858" y="678"/>
                  </a:lnTo>
                  <a:lnTo>
                    <a:pt x="1874" y="654"/>
                  </a:lnTo>
                  <a:lnTo>
                    <a:pt x="1888" y="630"/>
                  </a:lnTo>
                  <a:lnTo>
                    <a:pt x="1902" y="604"/>
                  </a:lnTo>
                  <a:lnTo>
                    <a:pt x="1916" y="578"/>
                  </a:lnTo>
                  <a:lnTo>
                    <a:pt x="1928" y="552"/>
                  </a:lnTo>
                  <a:lnTo>
                    <a:pt x="1940" y="525"/>
                  </a:lnTo>
                  <a:lnTo>
                    <a:pt x="1961" y="471"/>
                  </a:lnTo>
                  <a:lnTo>
                    <a:pt x="1981" y="419"/>
                  </a:lnTo>
                  <a:lnTo>
                    <a:pt x="1998" y="369"/>
                  </a:lnTo>
                  <a:lnTo>
                    <a:pt x="2012" y="324"/>
                  </a:lnTo>
                  <a:lnTo>
                    <a:pt x="2025" y="284"/>
                  </a:lnTo>
                  <a:lnTo>
                    <a:pt x="2036" y="252"/>
                  </a:lnTo>
                  <a:lnTo>
                    <a:pt x="2040" y="239"/>
                  </a:lnTo>
                  <a:lnTo>
                    <a:pt x="2045" y="230"/>
                  </a:lnTo>
                  <a:lnTo>
                    <a:pt x="2049" y="222"/>
                  </a:lnTo>
                  <a:lnTo>
                    <a:pt x="2052" y="218"/>
                  </a:lnTo>
                  <a:lnTo>
                    <a:pt x="2055" y="216"/>
                  </a:lnTo>
                  <a:lnTo>
                    <a:pt x="2058" y="218"/>
                  </a:lnTo>
                  <a:lnTo>
                    <a:pt x="2061" y="223"/>
                  </a:lnTo>
                  <a:lnTo>
                    <a:pt x="2063" y="233"/>
                  </a:lnTo>
                  <a:lnTo>
                    <a:pt x="2065" y="246"/>
                  </a:lnTo>
                  <a:lnTo>
                    <a:pt x="2066" y="263"/>
                  </a:lnTo>
                  <a:lnTo>
                    <a:pt x="2068" y="285"/>
                  </a:lnTo>
                  <a:lnTo>
                    <a:pt x="2070" y="311"/>
                  </a:lnTo>
                  <a:lnTo>
                    <a:pt x="2071" y="363"/>
                  </a:lnTo>
                  <a:lnTo>
                    <a:pt x="2071" y="413"/>
                  </a:lnTo>
                  <a:lnTo>
                    <a:pt x="2068" y="460"/>
                  </a:lnTo>
                  <a:lnTo>
                    <a:pt x="2066" y="502"/>
                  </a:lnTo>
                  <a:lnTo>
                    <a:pt x="2063" y="542"/>
                  </a:lnTo>
                  <a:lnTo>
                    <a:pt x="2060" y="578"/>
                  </a:lnTo>
                  <a:lnTo>
                    <a:pt x="2055" y="613"/>
                  </a:lnTo>
                  <a:lnTo>
                    <a:pt x="2051" y="645"/>
                  </a:lnTo>
                  <a:lnTo>
                    <a:pt x="2041" y="707"/>
                  </a:lnTo>
                  <a:lnTo>
                    <a:pt x="2033" y="764"/>
                  </a:lnTo>
                  <a:lnTo>
                    <a:pt x="2030" y="792"/>
                  </a:lnTo>
                  <a:lnTo>
                    <a:pt x="2027" y="821"/>
                  </a:lnTo>
                  <a:lnTo>
                    <a:pt x="2025" y="851"/>
                  </a:lnTo>
                  <a:lnTo>
                    <a:pt x="2024" y="881"/>
                  </a:lnTo>
                  <a:lnTo>
                    <a:pt x="2025" y="896"/>
                  </a:lnTo>
                  <a:lnTo>
                    <a:pt x="2026" y="910"/>
                  </a:lnTo>
                  <a:lnTo>
                    <a:pt x="2030" y="923"/>
                  </a:lnTo>
                  <a:lnTo>
                    <a:pt x="2033" y="935"/>
                  </a:lnTo>
                  <a:lnTo>
                    <a:pt x="2037" y="946"/>
                  </a:lnTo>
                  <a:lnTo>
                    <a:pt x="2041" y="955"/>
                  </a:lnTo>
                  <a:lnTo>
                    <a:pt x="2048" y="964"/>
                  </a:lnTo>
                  <a:lnTo>
                    <a:pt x="2054" y="972"/>
                  </a:lnTo>
                  <a:lnTo>
                    <a:pt x="2061" y="978"/>
                  </a:lnTo>
                  <a:lnTo>
                    <a:pt x="2068" y="982"/>
                  </a:lnTo>
                  <a:lnTo>
                    <a:pt x="2077" y="987"/>
                  </a:lnTo>
                  <a:lnTo>
                    <a:pt x="2085" y="989"/>
                  </a:lnTo>
                  <a:lnTo>
                    <a:pt x="2094" y="990"/>
                  </a:lnTo>
                  <a:lnTo>
                    <a:pt x="2103" y="990"/>
                  </a:lnTo>
                  <a:lnTo>
                    <a:pt x="2113" y="989"/>
                  </a:lnTo>
                  <a:lnTo>
                    <a:pt x="2122" y="987"/>
                  </a:lnTo>
                  <a:lnTo>
                    <a:pt x="2132" y="983"/>
                  </a:lnTo>
                  <a:lnTo>
                    <a:pt x="2142" y="978"/>
                  </a:lnTo>
                  <a:lnTo>
                    <a:pt x="2152" y="972"/>
                  </a:lnTo>
                  <a:lnTo>
                    <a:pt x="2161" y="964"/>
                  </a:lnTo>
                  <a:lnTo>
                    <a:pt x="2171" y="955"/>
                  </a:lnTo>
                  <a:lnTo>
                    <a:pt x="2181" y="946"/>
                  </a:lnTo>
                  <a:lnTo>
                    <a:pt x="2191" y="934"/>
                  </a:lnTo>
                  <a:lnTo>
                    <a:pt x="2200" y="922"/>
                  </a:lnTo>
                  <a:lnTo>
                    <a:pt x="2209" y="908"/>
                  </a:lnTo>
                  <a:lnTo>
                    <a:pt x="2218" y="892"/>
                  </a:lnTo>
                  <a:lnTo>
                    <a:pt x="2225" y="875"/>
                  </a:lnTo>
                  <a:lnTo>
                    <a:pt x="2233" y="857"/>
                  </a:lnTo>
                  <a:lnTo>
                    <a:pt x="2240" y="838"/>
                  </a:lnTo>
                  <a:lnTo>
                    <a:pt x="2247" y="816"/>
                  </a:lnTo>
                  <a:lnTo>
                    <a:pt x="2252" y="793"/>
                  </a:lnTo>
                  <a:lnTo>
                    <a:pt x="2257" y="770"/>
                  </a:lnTo>
                  <a:lnTo>
                    <a:pt x="2267" y="730"/>
                  </a:lnTo>
                  <a:lnTo>
                    <a:pt x="2277" y="691"/>
                  </a:lnTo>
                  <a:lnTo>
                    <a:pt x="2288" y="654"/>
                  </a:lnTo>
                  <a:lnTo>
                    <a:pt x="2299" y="621"/>
                  </a:lnTo>
                  <a:lnTo>
                    <a:pt x="2308" y="591"/>
                  </a:lnTo>
                  <a:lnTo>
                    <a:pt x="2318" y="568"/>
                  </a:lnTo>
                  <a:lnTo>
                    <a:pt x="2327" y="548"/>
                  </a:lnTo>
                  <a:lnTo>
                    <a:pt x="2335" y="535"/>
                  </a:lnTo>
                  <a:lnTo>
                    <a:pt x="2339" y="531"/>
                  </a:lnTo>
                  <a:lnTo>
                    <a:pt x="2342" y="529"/>
                  </a:lnTo>
                  <a:lnTo>
                    <a:pt x="2344" y="529"/>
                  </a:lnTo>
                  <a:lnTo>
                    <a:pt x="2346" y="530"/>
                  </a:lnTo>
                  <a:lnTo>
                    <a:pt x="2348" y="534"/>
                  </a:lnTo>
                  <a:lnTo>
                    <a:pt x="2349" y="540"/>
                  </a:lnTo>
                  <a:lnTo>
                    <a:pt x="2349" y="548"/>
                  </a:lnTo>
                  <a:lnTo>
                    <a:pt x="2349" y="559"/>
                  </a:lnTo>
                  <a:lnTo>
                    <a:pt x="2347" y="587"/>
                  </a:lnTo>
                  <a:lnTo>
                    <a:pt x="2343" y="626"/>
                  </a:lnTo>
                  <a:lnTo>
                    <a:pt x="2335" y="676"/>
                  </a:lnTo>
                  <a:lnTo>
                    <a:pt x="2323" y="737"/>
                  </a:lnTo>
                  <a:lnTo>
                    <a:pt x="2308" y="829"/>
                  </a:lnTo>
                  <a:lnTo>
                    <a:pt x="2296" y="902"/>
                  </a:lnTo>
                  <a:lnTo>
                    <a:pt x="2287" y="961"/>
                  </a:lnTo>
                  <a:lnTo>
                    <a:pt x="2280" y="1005"/>
                  </a:lnTo>
                  <a:lnTo>
                    <a:pt x="2275" y="1036"/>
                  </a:lnTo>
                  <a:lnTo>
                    <a:pt x="2272" y="1057"/>
                  </a:lnTo>
                  <a:lnTo>
                    <a:pt x="2270" y="1068"/>
                  </a:lnTo>
                  <a:lnTo>
                    <a:pt x="2269" y="1071"/>
                  </a:lnTo>
                  <a:lnTo>
                    <a:pt x="2269" y="1078"/>
                  </a:lnTo>
                  <a:lnTo>
                    <a:pt x="2269" y="1098"/>
                  </a:lnTo>
                  <a:lnTo>
                    <a:pt x="2267" y="1127"/>
                  </a:lnTo>
                  <a:lnTo>
                    <a:pt x="2265" y="1162"/>
                  </a:lnTo>
                  <a:lnTo>
                    <a:pt x="2261" y="1198"/>
                  </a:lnTo>
                  <a:lnTo>
                    <a:pt x="2255" y="1235"/>
                  </a:lnTo>
                  <a:lnTo>
                    <a:pt x="2251" y="1252"/>
                  </a:lnTo>
                  <a:lnTo>
                    <a:pt x="2247" y="1269"/>
                  </a:lnTo>
                  <a:lnTo>
                    <a:pt x="2241" y="1281"/>
                  </a:lnTo>
                  <a:lnTo>
                    <a:pt x="2235" y="1293"/>
                  </a:lnTo>
                  <a:lnTo>
                    <a:pt x="2228" y="1306"/>
                  </a:lnTo>
                  <a:lnTo>
                    <a:pt x="2222" y="1325"/>
                  </a:lnTo>
                  <a:lnTo>
                    <a:pt x="2215" y="1346"/>
                  </a:lnTo>
                  <a:lnTo>
                    <a:pt x="2209" y="1371"/>
                  </a:lnTo>
                  <a:lnTo>
                    <a:pt x="2196" y="1431"/>
                  </a:lnTo>
                  <a:lnTo>
                    <a:pt x="2184" y="1494"/>
                  </a:lnTo>
                  <a:lnTo>
                    <a:pt x="2174" y="1559"/>
                  </a:lnTo>
                  <a:lnTo>
                    <a:pt x="2166" y="1620"/>
                  </a:lnTo>
                  <a:lnTo>
                    <a:pt x="2160" y="1669"/>
                  </a:lnTo>
                  <a:lnTo>
                    <a:pt x="2158" y="1704"/>
                  </a:lnTo>
                  <a:lnTo>
                    <a:pt x="2158" y="1731"/>
                  </a:lnTo>
                  <a:lnTo>
                    <a:pt x="2156" y="1759"/>
                  </a:lnTo>
                  <a:lnTo>
                    <a:pt x="2153" y="1789"/>
                  </a:lnTo>
                  <a:lnTo>
                    <a:pt x="2148" y="1823"/>
                  </a:lnTo>
                  <a:lnTo>
                    <a:pt x="2142" y="1858"/>
                  </a:lnTo>
                  <a:lnTo>
                    <a:pt x="2134" y="1897"/>
                  </a:lnTo>
                  <a:lnTo>
                    <a:pt x="2125" y="1939"/>
                  </a:lnTo>
                  <a:lnTo>
                    <a:pt x="2114" y="1983"/>
                  </a:lnTo>
                  <a:lnTo>
                    <a:pt x="2095" y="2052"/>
                  </a:lnTo>
                  <a:lnTo>
                    <a:pt x="2070" y="2154"/>
                  </a:lnTo>
                  <a:lnTo>
                    <a:pt x="2038" y="2279"/>
                  </a:lnTo>
                  <a:lnTo>
                    <a:pt x="2006" y="2412"/>
                  </a:lnTo>
                  <a:lnTo>
                    <a:pt x="1974" y="2540"/>
                  </a:lnTo>
                  <a:lnTo>
                    <a:pt x="1949" y="2647"/>
                  </a:lnTo>
                  <a:lnTo>
                    <a:pt x="1930" y="2722"/>
                  </a:lnTo>
                  <a:lnTo>
                    <a:pt x="1924" y="2750"/>
                  </a:lnTo>
                  <a:lnTo>
                    <a:pt x="1889" y="2764"/>
                  </a:lnTo>
                  <a:lnTo>
                    <a:pt x="1798" y="2803"/>
                  </a:lnTo>
                  <a:lnTo>
                    <a:pt x="1669" y="2857"/>
                  </a:lnTo>
                  <a:lnTo>
                    <a:pt x="1517" y="2918"/>
                  </a:lnTo>
                  <a:lnTo>
                    <a:pt x="1440" y="2947"/>
                  </a:lnTo>
                  <a:lnTo>
                    <a:pt x="1362" y="2976"/>
                  </a:lnTo>
                  <a:lnTo>
                    <a:pt x="1288" y="3001"/>
                  </a:lnTo>
                  <a:lnTo>
                    <a:pt x="1220" y="3022"/>
                  </a:lnTo>
                  <a:lnTo>
                    <a:pt x="1189" y="3032"/>
                  </a:lnTo>
                  <a:lnTo>
                    <a:pt x="1160" y="3040"/>
                  </a:lnTo>
                  <a:lnTo>
                    <a:pt x="1133" y="3046"/>
                  </a:lnTo>
                  <a:lnTo>
                    <a:pt x="1109" y="3052"/>
                  </a:lnTo>
                  <a:lnTo>
                    <a:pt x="1088" y="3054"/>
                  </a:lnTo>
                  <a:lnTo>
                    <a:pt x="1070" y="3055"/>
                  </a:lnTo>
                  <a:lnTo>
                    <a:pt x="1056" y="3055"/>
                  </a:lnTo>
                  <a:lnTo>
                    <a:pt x="1045" y="3052"/>
                  </a:lnTo>
                  <a:lnTo>
                    <a:pt x="1029" y="3044"/>
                  </a:lnTo>
                  <a:lnTo>
                    <a:pt x="1013" y="3040"/>
                  </a:lnTo>
                  <a:lnTo>
                    <a:pt x="997" y="3036"/>
                  </a:lnTo>
                  <a:lnTo>
                    <a:pt x="981" y="3036"/>
                  </a:lnTo>
                  <a:lnTo>
                    <a:pt x="965" y="3038"/>
                  </a:lnTo>
                  <a:lnTo>
                    <a:pt x="949" y="3040"/>
                  </a:lnTo>
                  <a:lnTo>
                    <a:pt x="934" y="3044"/>
                  </a:lnTo>
                  <a:lnTo>
                    <a:pt x="920" y="3048"/>
                  </a:lnTo>
                  <a:lnTo>
                    <a:pt x="891" y="3060"/>
                  </a:lnTo>
                  <a:lnTo>
                    <a:pt x="863" y="3073"/>
                  </a:lnTo>
                  <a:lnTo>
                    <a:pt x="836" y="3086"/>
                  </a:lnTo>
                  <a:lnTo>
                    <a:pt x="811" y="3096"/>
                  </a:lnTo>
                  <a:lnTo>
                    <a:pt x="797" y="3099"/>
                  </a:lnTo>
                  <a:lnTo>
                    <a:pt x="781" y="3101"/>
                  </a:lnTo>
                  <a:lnTo>
                    <a:pt x="763" y="3102"/>
                  </a:lnTo>
                  <a:lnTo>
                    <a:pt x="744" y="3102"/>
                  </a:lnTo>
                  <a:lnTo>
                    <a:pt x="725" y="3101"/>
                  </a:lnTo>
                  <a:lnTo>
                    <a:pt x="704" y="3099"/>
                  </a:lnTo>
                  <a:lnTo>
                    <a:pt x="684" y="3096"/>
                  </a:lnTo>
                  <a:lnTo>
                    <a:pt x="663" y="3093"/>
                  </a:lnTo>
                  <a:lnTo>
                    <a:pt x="644" y="3087"/>
                  </a:lnTo>
                  <a:lnTo>
                    <a:pt x="626" y="3083"/>
                  </a:lnTo>
                  <a:lnTo>
                    <a:pt x="609" y="3076"/>
                  </a:lnTo>
                  <a:lnTo>
                    <a:pt x="595" y="3070"/>
                  </a:lnTo>
                  <a:lnTo>
                    <a:pt x="583" y="3062"/>
                  </a:lnTo>
                  <a:lnTo>
                    <a:pt x="573" y="3055"/>
                  </a:lnTo>
                  <a:lnTo>
                    <a:pt x="570" y="3052"/>
                  </a:lnTo>
                  <a:lnTo>
                    <a:pt x="568" y="3047"/>
                  </a:lnTo>
                  <a:lnTo>
                    <a:pt x="567" y="3043"/>
                  </a:lnTo>
                  <a:lnTo>
                    <a:pt x="566" y="3039"/>
                  </a:lnTo>
                  <a:lnTo>
                    <a:pt x="566" y="3031"/>
                  </a:lnTo>
                  <a:lnTo>
                    <a:pt x="564" y="3024"/>
                  </a:lnTo>
                  <a:lnTo>
                    <a:pt x="561" y="3016"/>
                  </a:lnTo>
                  <a:lnTo>
                    <a:pt x="557" y="3011"/>
                  </a:lnTo>
                  <a:lnTo>
                    <a:pt x="553" y="3004"/>
                  </a:lnTo>
                  <a:lnTo>
                    <a:pt x="547" y="3000"/>
                  </a:lnTo>
                  <a:lnTo>
                    <a:pt x="540" y="2995"/>
                  </a:lnTo>
                  <a:lnTo>
                    <a:pt x="532" y="2992"/>
                  </a:lnTo>
                  <a:lnTo>
                    <a:pt x="524" y="2989"/>
                  </a:lnTo>
                  <a:lnTo>
                    <a:pt x="514" y="2987"/>
                  </a:lnTo>
                  <a:lnTo>
                    <a:pt x="503" y="2986"/>
                  </a:lnTo>
                  <a:lnTo>
                    <a:pt x="491" y="2986"/>
                  </a:lnTo>
                  <a:lnTo>
                    <a:pt x="478" y="2987"/>
                  </a:lnTo>
                  <a:lnTo>
                    <a:pt x="464" y="2988"/>
                  </a:lnTo>
                  <a:lnTo>
                    <a:pt x="449" y="2991"/>
                  </a:lnTo>
                  <a:lnTo>
                    <a:pt x="433" y="2994"/>
                  </a:lnTo>
                  <a:lnTo>
                    <a:pt x="416" y="2998"/>
                  </a:lnTo>
                  <a:lnTo>
                    <a:pt x="398" y="3001"/>
                  </a:lnTo>
                  <a:lnTo>
                    <a:pt x="382" y="3002"/>
                  </a:lnTo>
                  <a:lnTo>
                    <a:pt x="366" y="3002"/>
                  </a:lnTo>
                  <a:lnTo>
                    <a:pt x="350" y="3002"/>
                  </a:lnTo>
                  <a:lnTo>
                    <a:pt x="334" y="3001"/>
                  </a:lnTo>
                  <a:lnTo>
                    <a:pt x="319" y="3000"/>
                  </a:lnTo>
                  <a:lnTo>
                    <a:pt x="305" y="2998"/>
                  </a:lnTo>
                  <a:lnTo>
                    <a:pt x="281" y="2993"/>
                  </a:lnTo>
                  <a:lnTo>
                    <a:pt x="261" y="2989"/>
                  </a:lnTo>
                  <a:lnTo>
                    <a:pt x="249" y="2986"/>
                  </a:lnTo>
                  <a:lnTo>
                    <a:pt x="245" y="2985"/>
                  </a:lnTo>
                  <a:lnTo>
                    <a:pt x="0" y="1761"/>
                  </a:lnTo>
                  <a:lnTo>
                    <a:pt x="311" y="1215"/>
                  </a:lnTo>
                  <a:lnTo>
                    <a:pt x="315" y="1205"/>
                  </a:lnTo>
                  <a:lnTo>
                    <a:pt x="326" y="1178"/>
                  </a:lnTo>
                  <a:lnTo>
                    <a:pt x="341" y="1135"/>
                  </a:lnTo>
                  <a:lnTo>
                    <a:pt x="359" y="1078"/>
                  </a:lnTo>
                  <a:lnTo>
                    <a:pt x="369" y="1046"/>
                  </a:lnTo>
                  <a:lnTo>
                    <a:pt x="378" y="1010"/>
                  </a:lnTo>
                  <a:lnTo>
                    <a:pt x="386" y="973"/>
                  </a:lnTo>
                  <a:lnTo>
                    <a:pt x="395" y="934"/>
                  </a:lnTo>
                  <a:lnTo>
                    <a:pt x="402" y="892"/>
                  </a:lnTo>
                  <a:lnTo>
                    <a:pt x="408" y="849"/>
                  </a:lnTo>
                  <a:lnTo>
                    <a:pt x="412" y="805"/>
                  </a:lnTo>
                  <a:lnTo>
                    <a:pt x="416" y="760"/>
                  </a:lnTo>
                  <a:lnTo>
                    <a:pt x="420" y="675"/>
                  </a:lnTo>
                  <a:lnTo>
                    <a:pt x="424" y="601"/>
                  </a:lnTo>
                  <a:lnTo>
                    <a:pt x="429" y="537"/>
                  </a:lnTo>
                  <a:lnTo>
                    <a:pt x="431" y="482"/>
                  </a:lnTo>
                  <a:lnTo>
                    <a:pt x="432" y="457"/>
                  </a:lnTo>
                  <a:lnTo>
                    <a:pt x="432" y="434"/>
                  </a:lnTo>
                  <a:lnTo>
                    <a:pt x="431" y="411"/>
                  </a:lnTo>
                  <a:lnTo>
                    <a:pt x="430" y="389"/>
                  </a:lnTo>
                  <a:lnTo>
                    <a:pt x="428" y="369"/>
                  </a:lnTo>
                  <a:lnTo>
                    <a:pt x="424" y="349"/>
                  </a:lnTo>
                  <a:lnTo>
                    <a:pt x="420" y="330"/>
                  </a:lnTo>
                  <a:lnTo>
                    <a:pt x="416" y="311"/>
                  </a:lnTo>
                  <a:lnTo>
                    <a:pt x="411" y="289"/>
                  </a:lnTo>
                  <a:lnTo>
                    <a:pt x="409" y="272"/>
                  </a:lnTo>
                  <a:lnTo>
                    <a:pt x="409" y="257"/>
                  </a:lnTo>
                  <a:lnTo>
                    <a:pt x="411" y="244"/>
                  </a:lnTo>
                  <a:lnTo>
                    <a:pt x="415" y="234"/>
                  </a:lnTo>
                  <a:lnTo>
                    <a:pt x="419" y="226"/>
                  </a:lnTo>
                  <a:lnTo>
                    <a:pt x="421" y="224"/>
                  </a:lnTo>
                  <a:lnTo>
                    <a:pt x="424" y="222"/>
                  </a:lnTo>
                  <a:lnTo>
                    <a:pt x="428" y="220"/>
                  </a:lnTo>
                  <a:lnTo>
                    <a:pt x="431" y="219"/>
                  </a:lnTo>
                  <a:lnTo>
                    <a:pt x="437" y="219"/>
                  </a:lnTo>
                  <a:lnTo>
                    <a:pt x="444" y="220"/>
                  </a:lnTo>
                  <a:lnTo>
                    <a:pt x="450" y="224"/>
                  </a:lnTo>
                  <a:lnTo>
                    <a:pt x="457" y="230"/>
                  </a:lnTo>
                  <a:lnTo>
                    <a:pt x="463" y="237"/>
                  </a:lnTo>
                  <a:lnTo>
                    <a:pt x="469" y="247"/>
                  </a:lnTo>
                  <a:lnTo>
                    <a:pt x="474" y="258"/>
                  </a:lnTo>
                  <a:lnTo>
                    <a:pt x="477" y="271"/>
                  </a:lnTo>
                  <a:lnTo>
                    <a:pt x="478" y="297"/>
                  </a:lnTo>
                  <a:lnTo>
                    <a:pt x="480" y="320"/>
                  </a:lnTo>
                  <a:lnTo>
                    <a:pt x="484" y="342"/>
                  </a:lnTo>
                  <a:lnTo>
                    <a:pt x="487" y="362"/>
                  </a:lnTo>
                  <a:lnTo>
                    <a:pt x="490" y="381"/>
                  </a:lnTo>
                  <a:lnTo>
                    <a:pt x="494" y="397"/>
                  </a:lnTo>
                  <a:lnTo>
                    <a:pt x="499" y="411"/>
                  </a:lnTo>
                  <a:lnTo>
                    <a:pt x="504" y="425"/>
                  </a:lnTo>
                  <a:lnTo>
                    <a:pt x="509" y="436"/>
                  </a:lnTo>
                  <a:lnTo>
                    <a:pt x="515" y="447"/>
                  </a:lnTo>
                  <a:lnTo>
                    <a:pt x="520" y="455"/>
                  </a:lnTo>
                  <a:lnTo>
                    <a:pt x="526" y="463"/>
                  </a:lnTo>
                  <a:lnTo>
                    <a:pt x="532" y="469"/>
                  </a:lnTo>
                  <a:lnTo>
                    <a:pt x="539" y="474"/>
                  </a:lnTo>
                  <a:lnTo>
                    <a:pt x="544" y="478"/>
                  </a:lnTo>
                  <a:lnTo>
                    <a:pt x="551" y="481"/>
                  </a:lnTo>
                  <a:lnTo>
                    <a:pt x="557" y="484"/>
                  </a:lnTo>
                  <a:lnTo>
                    <a:pt x="563" y="486"/>
                  </a:lnTo>
                  <a:lnTo>
                    <a:pt x="569" y="487"/>
                  </a:lnTo>
                  <a:lnTo>
                    <a:pt x="574" y="487"/>
                  </a:lnTo>
                  <a:lnTo>
                    <a:pt x="585" y="487"/>
                  </a:lnTo>
                  <a:lnTo>
                    <a:pt x="596" y="484"/>
                  </a:lnTo>
                  <a:lnTo>
                    <a:pt x="610" y="479"/>
                  </a:lnTo>
                  <a:lnTo>
                    <a:pt x="615" y="476"/>
                  </a:lnTo>
                  <a:lnTo>
                    <a:pt x="621" y="470"/>
                  </a:lnTo>
                  <a:lnTo>
                    <a:pt x="635" y="454"/>
                  </a:lnTo>
                  <a:lnTo>
                    <a:pt x="644" y="442"/>
                  </a:lnTo>
                  <a:lnTo>
                    <a:pt x="654" y="429"/>
                  </a:lnTo>
                  <a:lnTo>
                    <a:pt x="665" y="413"/>
                  </a:lnTo>
                  <a:lnTo>
                    <a:pt x="676" y="396"/>
                  </a:lnTo>
                  <a:lnTo>
                    <a:pt x="687" y="376"/>
                  </a:lnTo>
                  <a:lnTo>
                    <a:pt x="696" y="355"/>
                  </a:lnTo>
                  <a:lnTo>
                    <a:pt x="706" y="332"/>
                  </a:lnTo>
                  <a:lnTo>
                    <a:pt x="715" y="307"/>
                  </a:lnTo>
                  <a:lnTo>
                    <a:pt x="718" y="295"/>
                  </a:lnTo>
                  <a:lnTo>
                    <a:pt x="721" y="282"/>
                  </a:lnTo>
                  <a:lnTo>
                    <a:pt x="723" y="270"/>
                  </a:lnTo>
                  <a:lnTo>
                    <a:pt x="726" y="255"/>
                  </a:lnTo>
                  <a:lnTo>
                    <a:pt x="727" y="241"/>
                  </a:lnTo>
                  <a:lnTo>
                    <a:pt x="728" y="227"/>
                  </a:lnTo>
                  <a:lnTo>
                    <a:pt x="728" y="213"/>
                  </a:lnTo>
                  <a:lnTo>
                    <a:pt x="727" y="199"/>
                  </a:lnTo>
                  <a:lnTo>
                    <a:pt x="729" y="199"/>
                  </a:lnTo>
                  <a:lnTo>
                    <a:pt x="732" y="204"/>
                  </a:lnTo>
                  <a:lnTo>
                    <a:pt x="735" y="210"/>
                  </a:lnTo>
                  <a:lnTo>
                    <a:pt x="741" y="218"/>
                  </a:lnTo>
                  <a:lnTo>
                    <a:pt x="753" y="240"/>
                  </a:lnTo>
                  <a:lnTo>
                    <a:pt x="767" y="270"/>
                  </a:lnTo>
                  <a:lnTo>
                    <a:pt x="783" y="303"/>
                  </a:lnTo>
                  <a:lnTo>
                    <a:pt x="799" y="339"/>
                  </a:lnTo>
                  <a:lnTo>
                    <a:pt x="814" y="374"/>
                  </a:lnTo>
                  <a:lnTo>
                    <a:pt x="828" y="409"/>
                  </a:lnTo>
                  <a:lnTo>
                    <a:pt x="835" y="427"/>
                  </a:lnTo>
                  <a:lnTo>
                    <a:pt x="844" y="450"/>
                  </a:lnTo>
                  <a:lnTo>
                    <a:pt x="856" y="475"/>
                  </a:lnTo>
                  <a:lnTo>
                    <a:pt x="868" y="502"/>
                  </a:lnTo>
                  <a:lnTo>
                    <a:pt x="897" y="559"/>
                  </a:lnTo>
                  <a:lnTo>
                    <a:pt x="928" y="616"/>
                  </a:lnTo>
                  <a:lnTo>
                    <a:pt x="943" y="642"/>
                  </a:lnTo>
                  <a:lnTo>
                    <a:pt x="957" y="666"/>
                  </a:lnTo>
                  <a:lnTo>
                    <a:pt x="971" y="686"/>
                  </a:lnTo>
                  <a:lnTo>
                    <a:pt x="983" y="703"/>
                  </a:lnTo>
                  <a:lnTo>
                    <a:pt x="988" y="710"/>
                  </a:lnTo>
                  <a:lnTo>
                    <a:pt x="994" y="714"/>
                  </a:lnTo>
                  <a:lnTo>
                    <a:pt x="998" y="719"/>
                  </a:lnTo>
                  <a:lnTo>
                    <a:pt x="1001" y="722"/>
                  </a:lnTo>
                  <a:lnTo>
                    <a:pt x="1005" y="723"/>
                  </a:lnTo>
                  <a:lnTo>
                    <a:pt x="1008" y="722"/>
                  </a:lnTo>
                  <a:lnTo>
                    <a:pt x="1010" y="720"/>
                  </a:lnTo>
                  <a:lnTo>
                    <a:pt x="1011" y="716"/>
                  </a:lnTo>
                  <a:close/>
                </a:path>
              </a:pathLst>
            </a:custGeom>
            <a:solidFill>
              <a:srgbClr val="5d88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329080" y="2451240"/>
              <a:ext cx="741600" cy="968400"/>
            </a:xfrm>
            <a:custGeom>
              <a:avLst/>
              <a:gdLst/>
              <a:ahLst/>
              <a:rect l="l" t="t" r="r" b="b"/>
              <a:pathLst>
                <a:path w="2339" h="3052">
                  <a:moveTo>
                    <a:pt x="1016" y="737"/>
                  </a:moveTo>
                  <a:lnTo>
                    <a:pt x="1023" y="714"/>
                  </a:lnTo>
                  <a:lnTo>
                    <a:pt x="1031" y="685"/>
                  </a:lnTo>
                  <a:lnTo>
                    <a:pt x="1042" y="649"/>
                  </a:lnTo>
                  <a:lnTo>
                    <a:pt x="1054" y="604"/>
                  </a:lnTo>
                  <a:lnTo>
                    <a:pt x="1059" y="578"/>
                  </a:lnTo>
                  <a:lnTo>
                    <a:pt x="1065" y="550"/>
                  </a:lnTo>
                  <a:lnTo>
                    <a:pt x="1069" y="518"/>
                  </a:lnTo>
                  <a:lnTo>
                    <a:pt x="1074" y="483"/>
                  </a:lnTo>
                  <a:lnTo>
                    <a:pt x="1078" y="445"/>
                  </a:lnTo>
                  <a:lnTo>
                    <a:pt x="1080" y="404"/>
                  </a:lnTo>
                  <a:lnTo>
                    <a:pt x="1082" y="360"/>
                  </a:lnTo>
                  <a:lnTo>
                    <a:pt x="1082" y="312"/>
                  </a:lnTo>
                  <a:lnTo>
                    <a:pt x="1082" y="268"/>
                  </a:lnTo>
                  <a:lnTo>
                    <a:pt x="1082" y="217"/>
                  </a:lnTo>
                  <a:lnTo>
                    <a:pt x="1082" y="191"/>
                  </a:lnTo>
                  <a:lnTo>
                    <a:pt x="1083" y="167"/>
                  </a:lnTo>
                  <a:lnTo>
                    <a:pt x="1084" y="144"/>
                  </a:lnTo>
                  <a:lnTo>
                    <a:pt x="1086" y="123"/>
                  </a:lnTo>
                  <a:lnTo>
                    <a:pt x="1088" y="116"/>
                  </a:lnTo>
                  <a:lnTo>
                    <a:pt x="1090" y="108"/>
                  </a:lnTo>
                  <a:lnTo>
                    <a:pt x="1092" y="102"/>
                  </a:lnTo>
                  <a:lnTo>
                    <a:pt x="1094" y="97"/>
                  </a:lnTo>
                  <a:lnTo>
                    <a:pt x="1096" y="93"/>
                  </a:lnTo>
                  <a:lnTo>
                    <a:pt x="1098" y="92"/>
                  </a:lnTo>
                  <a:lnTo>
                    <a:pt x="1102" y="92"/>
                  </a:lnTo>
                  <a:lnTo>
                    <a:pt x="1106" y="93"/>
                  </a:lnTo>
                  <a:lnTo>
                    <a:pt x="1109" y="97"/>
                  </a:lnTo>
                  <a:lnTo>
                    <a:pt x="1113" y="103"/>
                  </a:lnTo>
                  <a:lnTo>
                    <a:pt x="1119" y="110"/>
                  </a:lnTo>
                  <a:lnTo>
                    <a:pt x="1124" y="120"/>
                  </a:lnTo>
                  <a:lnTo>
                    <a:pt x="1136" y="148"/>
                  </a:lnTo>
                  <a:lnTo>
                    <a:pt x="1149" y="186"/>
                  </a:lnTo>
                  <a:lnTo>
                    <a:pt x="1163" y="229"/>
                  </a:lnTo>
                  <a:lnTo>
                    <a:pt x="1175" y="272"/>
                  </a:lnTo>
                  <a:lnTo>
                    <a:pt x="1186" y="315"/>
                  </a:lnTo>
                  <a:lnTo>
                    <a:pt x="1196" y="357"/>
                  </a:lnTo>
                  <a:lnTo>
                    <a:pt x="1204" y="397"/>
                  </a:lnTo>
                  <a:lnTo>
                    <a:pt x="1211" y="437"/>
                  </a:lnTo>
                  <a:lnTo>
                    <a:pt x="1216" y="474"/>
                  </a:lnTo>
                  <a:lnTo>
                    <a:pt x="1222" y="512"/>
                  </a:lnTo>
                  <a:lnTo>
                    <a:pt x="1225" y="548"/>
                  </a:lnTo>
                  <a:lnTo>
                    <a:pt x="1227" y="582"/>
                  </a:lnTo>
                  <a:lnTo>
                    <a:pt x="1228" y="615"/>
                  </a:lnTo>
                  <a:lnTo>
                    <a:pt x="1228" y="646"/>
                  </a:lnTo>
                  <a:lnTo>
                    <a:pt x="1227" y="676"/>
                  </a:lnTo>
                  <a:lnTo>
                    <a:pt x="1225" y="704"/>
                  </a:lnTo>
                  <a:lnTo>
                    <a:pt x="1223" y="730"/>
                  </a:lnTo>
                  <a:lnTo>
                    <a:pt x="1218" y="754"/>
                  </a:lnTo>
                  <a:lnTo>
                    <a:pt x="1209" y="806"/>
                  </a:lnTo>
                  <a:lnTo>
                    <a:pt x="1196" y="866"/>
                  </a:lnTo>
                  <a:lnTo>
                    <a:pt x="1189" y="900"/>
                  </a:lnTo>
                  <a:lnTo>
                    <a:pt x="1183" y="933"/>
                  </a:lnTo>
                  <a:lnTo>
                    <a:pt x="1177" y="968"/>
                  </a:lnTo>
                  <a:lnTo>
                    <a:pt x="1173" y="1001"/>
                  </a:lnTo>
                  <a:lnTo>
                    <a:pt x="1170" y="1035"/>
                  </a:lnTo>
                  <a:lnTo>
                    <a:pt x="1169" y="1067"/>
                  </a:lnTo>
                  <a:lnTo>
                    <a:pt x="1169" y="1084"/>
                  </a:lnTo>
                  <a:lnTo>
                    <a:pt x="1169" y="1099"/>
                  </a:lnTo>
                  <a:lnTo>
                    <a:pt x="1170" y="1113"/>
                  </a:lnTo>
                  <a:lnTo>
                    <a:pt x="1172" y="1127"/>
                  </a:lnTo>
                  <a:lnTo>
                    <a:pt x="1174" y="1141"/>
                  </a:lnTo>
                  <a:lnTo>
                    <a:pt x="1177" y="1154"/>
                  </a:lnTo>
                  <a:lnTo>
                    <a:pt x="1182" y="1166"/>
                  </a:lnTo>
                  <a:lnTo>
                    <a:pt x="1186" y="1176"/>
                  </a:lnTo>
                  <a:lnTo>
                    <a:pt x="1191" y="1187"/>
                  </a:lnTo>
                  <a:lnTo>
                    <a:pt x="1198" y="1196"/>
                  </a:lnTo>
                  <a:lnTo>
                    <a:pt x="1205" y="1204"/>
                  </a:lnTo>
                  <a:lnTo>
                    <a:pt x="1214" y="1212"/>
                  </a:lnTo>
                  <a:lnTo>
                    <a:pt x="1217" y="1215"/>
                  </a:lnTo>
                  <a:lnTo>
                    <a:pt x="1222" y="1216"/>
                  </a:lnTo>
                  <a:lnTo>
                    <a:pt x="1226" y="1214"/>
                  </a:lnTo>
                  <a:lnTo>
                    <a:pt x="1232" y="1211"/>
                  </a:lnTo>
                  <a:lnTo>
                    <a:pt x="1239" y="1207"/>
                  </a:lnTo>
                  <a:lnTo>
                    <a:pt x="1246" y="1199"/>
                  </a:lnTo>
                  <a:lnTo>
                    <a:pt x="1254" y="1190"/>
                  </a:lnTo>
                  <a:lnTo>
                    <a:pt x="1263" y="1180"/>
                  </a:lnTo>
                  <a:lnTo>
                    <a:pt x="1282" y="1155"/>
                  </a:lnTo>
                  <a:lnTo>
                    <a:pt x="1301" y="1125"/>
                  </a:lnTo>
                  <a:lnTo>
                    <a:pt x="1323" y="1090"/>
                  </a:lnTo>
                  <a:lnTo>
                    <a:pt x="1346" y="1053"/>
                  </a:lnTo>
                  <a:lnTo>
                    <a:pt x="1367" y="1013"/>
                  </a:lnTo>
                  <a:lnTo>
                    <a:pt x="1390" y="971"/>
                  </a:lnTo>
                  <a:lnTo>
                    <a:pt x="1411" y="929"/>
                  </a:lnTo>
                  <a:lnTo>
                    <a:pt x="1431" y="888"/>
                  </a:lnTo>
                  <a:lnTo>
                    <a:pt x="1448" y="847"/>
                  </a:lnTo>
                  <a:lnTo>
                    <a:pt x="1465" y="809"/>
                  </a:lnTo>
                  <a:lnTo>
                    <a:pt x="1478" y="774"/>
                  </a:lnTo>
                  <a:lnTo>
                    <a:pt x="1488" y="742"/>
                  </a:lnTo>
                  <a:lnTo>
                    <a:pt x="1502" y="689"/>
                  </a:lnTo>
                  <a:lnTo>
                    <a:pt x="1514" y="644"/>
                  </a:lnTo>
                  <a:lnTo>
                    <a:pt x="1525" y="604"/>
                  </a:lnTo>
                  <a:lnTo>
                    <a:pt x="1536" y="566"/>
                  </a:lnTo>
                  <a:lnTo>
                    <a:pt x="1549" y="525"/>
                  </a:lnTo>
                  <a:lnTo>
                    <a:pt x="1565" y="480"/>
                  </a:lnTo>
                  <a:lnTo>
                    <a:pt x="1588" y="424"/>
                  </a:lnTo>
                  <a:lnTo>
                    <a:pt x="1617" y="357"/>
                  </a:lnTo>
                  <a:lnTo>
                    <a:pt x="1645" y="291"/>
                  </a:lnTo>
                  <a:lnTo>
                    <a:pt x="1664" y="242"/>
                  </a:lnTo>
                  <a:lnTo>
                    <a:pt x="1677" y="205"/>
                  </a:lnTo>
                  <a:lnTo>
                    <a:pt x="1687" y="175"/>
                  </a:lnTo>
                  <a:lnTo>
                    <a:pt x="1694" y="149"/>
                  </a:lnTo>
                  <a:lnTo>
                    <a:pt x="1700" y="122"/>
                  </a:lnTo>
                  <a:lnTo>
                    <a:pt x="1710" y="89"/>
                  </a:lnTo>
                  <a:lnTo>
                    <a:pt x="1723" y="45"/>
                  </a:lnTo>
                  <a:lnTo>
                    <a:pt x="1727" y="34"/>
                  </a:lnTo>
                  <a:lnTo>
                    <a:pt x="1731" y="24"/>
                  </a:lnTo>
                  <a:lnTo>
                    <a:pt x="1736" y="15"/>
                  </a:lnTo>
                  <a:lnTo>
                    <a:pt x="1740" y="9"/>
                  </a:lnTo>
                  <a:lnTo>
                    <a:pt x="1743" y="5"/>
                  </a:lnTo>
                  <a:lnTo>
                    <a:pt x="1748" y="1"/>
                  </a:lnTo>
                  <a:lnTo>
                    <a:pt x="1751" y="0"/>
                  </a:lnTo>
                  <a:lnTo>
                    <a:pt x="1755" y="0"/>
                  </a:lnTo>
                  <a:lnTo>
                    <a:pt x="1758" y="1"/>
                  </a:lnTo>
                  <a:lnTo>
                    <a:pt x="1762" y="4"/>
                  </a:lnTo>
                  <a:lnTo>
                    <a:pt x="1765" y="8"/>
                  </a:lnTo>
                  <a:lnTo>
                    <a:pt x="1768" y="13"/>
                  </a:lnTo>
                  <a:lnTo>
                    <a:pt x="1770" y="20"/>
                  </a:lnTo>
                  <a:lnTo>
                    <a:pt x="1774" y="28"/>
                  </a:lnTo>
                  <a:lnTo>
                    <a:pt x="1776" y="37"/>
                  </a:lnTo>
                  <a:lnTo>
                    <a:pt x="1778" y="47"/>
                  </a:lnTo>
                  <a:lnTo>
                    <a:pt x="1781" y="70"/>
                  </a:lnTo>
                  <a:lnTo>
                    <a:pt x="1783" y="96"/>
                  </a:lnTo>
                  <a:lnTo>
                    <a:pt x="1783" y="127"/>
                  </a:lnTo>
                  <a:lnTo>
                    <a:pt x="1782" y="160"/>
                  </a:lnTo>
                  <a:lnTo>
                    <a:pt x="1780" y="195"/>
                  </a:lnTo>
                  <a:lnTo>
                    <a:pt x="1776" y="232"/>
                  </a:lnTo>
                  <a:lnTo>
                    <a:pt x="1769" y="271"/>
                  </a:lnTo>
                  <a:lnTo>
                    <a:pt x="1761" y="312"/>
                  </a:lnTo>
                  <a:lnTo>
                    <a:pt x="1742" y="378"/>
                  </a:lnTo>
                  <a:lnTo>
                    <a:pt x="1727" y="442"/>
                  </a:lnTo>
                  <a:lnTo>
                    <a:pt x="1713" y="502"/>
                  </a:lnTo>
                  <a:lnTo>
                    <a:pt x="1701" y="559"/>
                  </a:lnTo>
                  <a:lnTo>
                    <a:pt x="1691" y="612"/>
                  </a:lnTo>
                  <a:lnTo>
                    <a:pt x="1685" y="659"/>
                  </a:lnTo>
                  <a:lnTo>
                    <a:pt x="1683" y="681"/>
                  </a:lnTo>
                  <a:lnTo>
                    <a:pt x="1682" y="701"/>
                  </a:lnTo>
                  <a:lnTo>
                    <a:pt x="1681" y="720"/>
                  </a:lnTo>
                  <a:lnTo>
                    <a:pt x="1681" y="737"/>
                  </a:lnTo>
                  <a:lnTo>
                    <a:pt x="1681" y="753"/>
                  </a:lnTo>
                  <a:lnTo>
                    <a:pt x="1683" y="767"/>
                  </a:lnTo>
                  <a:lnTo>
                    <a:pt x="1685" y="779"/>
                  </a:lnTo>
                  <a:lnTo>
                    <a:pt x="1688" y="790"/>
                  </a:lnTo>
                  <a:lnTo>
                    <a:pt x="1692" y="798"/>
                  </a:lnTo>
                  <a:lnTo>
                    <a:pt x="1698" y="806"/>
                  </a:lnTo>
                  <a:lnTo>
                    <a:pt x="1703" y="810"/>
                  </a:lnTo>
                  <a:lnTo>
                    <a:pt x="1711" y="814"/>
                  </a:lnTo>
                  <a:lnTo>
                    <a:pt x="1718" y="814"/>
                  </a:lnTo>
                  <a:lnTo>
                    <a:pt x="1728" y="812"/>
                  </a:lnTo>
                  <a:lnTo>
                    <a:pt x="1738" y="809"/>
                  </a:lnTo>
                  <a:lnTo>
                    <a:pt x="1749" y="803"/>
                  </a:lnTo>
                  <a:lnTo>
                    <a:pt x="1762" y="794"/>
                  </a:lnTo>
                  <a:lnTo>
                    <a:pt x="1775" y="783"/>
                  </a:lnTo>
                  <a:lnTo>
                    <a:pt x="1789" y="770"/>
                  </a:lnTo>
                  <a:lnTo>
                    <a:pt x="1805" y="754"/>
                  </a:lnTo>
                  <a:lnTo>
                    <a:pt x="1823" y="735"/>
                  </a:lnTo>
                  <a:lnTo>
                    <a:pt x="1842" y="713"/>
                  </a:lnTo>
                  <a:lnTo>
                    <a:pt x="1859" y="689"/>
                  </a:lnTo>
                  <a:lnTo>
                    <a:pt x="1875" y="664"/>
                  </a:lnTo>
                  <a:lnTo>
                    <a:pt x="1890" y="640"/>
                  </a:lnTo>
                  <a:lnTo>
                    <a:pt x="1904" y="613"/>
                  </a:lnTo>
                  <a:lnTo>
                    <a:pt x="1917" y="587"/>
                  </a:lnTo>
                  <a:lnTo>
                    <a:pt x="1930" y="559"/>
                  </a:lnTo>
                  <a:lnTo>
                    <a:pt x="1942" y="532"/>
                  </a:lnTo>
                  <a:lnTo>
                    <a:pt x="1953" y="505"/>
                  </a:lnTo>
                  <a:lnTo>
                    <a:pt x="1963" y="477"/>
                  </a:lnTo>
                  <a:lnTo>
                    <a:pt x="1972" y="451"/>
                  </a:lnTo>
                  <a:lnTo>
                    <a:pt x="1990" y="399"/>
                  </a:lnTo>
                  <a:lnTo>
                    <a:pt x="2004" y="351"/>
                  </a:lnTo>
                  <a:lnTo>
                    <a:pt x="2015" y="310"/>
                  </a:lnTo>
                  <a:lnTo>
                    <a:pt x="2025" y="277"/>
                  </a:lnTo>
                  <a:lnTo>
                    <a:pt x="2030" y="263"/>
                  </a:lnTo>
                  <a:lnTo>
                    <a:pt x="2034" y="252"/>
                  </a:lnTo>
                  <a:lnTo>
                    <a:pt x="2037" y="244"/>
                  </a:lnTo>
                  <a:lnTo>
                    <a:pt x="2040" y="239"/>
                  </a:lnTo>
                  <a:lnTo>
                    <a:pt x="2043" y="237"/>
                  </a:lnTo>
                  <a:lnTo>
                    <a:pt x="2046" y="238"/>
                  </a:lnTo>
                  <a:lnTo>
                    <a:pt x="2048" y="242"/>
                  </a:lnTo>
                  <a:lnTo>
                    <a:pt x="2049" y="251"/>
                  </a:lnTo>
                  <a:lnTo>
                    <a:pt x="2052" y="280"/>
                  </a:lnTo>
                  <a:lnTo>
                    <a:pt x="2054" y="326"/>
                  </a:lnTo>
                  <a:lnTo>
                    <a:pt x="2055" y="382"/>
                  </a:lnTo>
                  <a:lnTo>
                    <a:pt x="2055" y="431"/>
                  </a:lnTo>
                  <a:lnTo>
                    <a:pt x="2053" y="477"/>
                  </a:lnTo>
                  <a:lnTo>
                    <a:pt x="2050" y="519"/>
                  </a:lnTo>
                  <a:lnTo>
                    <a:pt x="2046" y="558"/>
                  </a:lnTo>
                  <a:lnTo>
                    <a:pt x="2041" y="593"/>
                  </a:lnTo>
                  <a:lnTo>
                    <a:pt x="2035" y="627"/>
                  </a:lnTo>
                  <a:lnTo>
                    <a:pt x="2030" y="659"/>
                  </a:lnTo>
                  <a:lnTo>
                    <a:pt x="2017" y="717"/>
                  </a:lnTo>
                  <a:lnTo>
                    <a:pt x="2006" y="774"/>
                  </a:lnTo>
                  <a:lnTo>
                    <a:pt x="2001" y="802"/>
                  </a:lnTo>
                  <a:lnTo>
                    <a:pt x="1998" y="831"/>
                  </a:lnTo>
                  <a:lnTo>
                    <a:pt x="1996" y="860"/>
                  </a:lnTo>
                  <a:lnTo>
                    <a:pt x="1995" y="890"/>
                  </a:lnTo>
                  <a:lnTo>
                    <a:pt x="1996" y="905"/>
                  </a:lnTo>
                  <a:lnTo>
                    <a:pt x="1997" y="919"/>
                  </a:lnTo>
                  <a:lnTo>
                    <a:pt x="2000" y="932"/>
                  </a:lnTo>
                  <a:lnTo>
                    <a:pt x="2005" y="943"/>
                  </a:lnTo>
                  <a:lnTo>
                    <a:pt x="2009" y="954"/>
                  </a:lnTo>
                  <a:lnTo>
                    <a:pt x="2015" y="964"/>
                  </a:lnTo>
                  <a:lnTo>
                    <a:pt x="2022" y="971"/>
                  </a:lnTo>
                  <a:lnTo>
                    <a:pt x="2030" y="979"/>
                  </a:lnTo>
                  <a:lnTo>
                    <a:pt x="2038" y="984"/>
                  </a:lnTo>
                  <a:lnTo>
                    <a:pt x="2047" y="988"/>
                  </a:lnTo>
                  <a:lnTo>
                    <a:pt x="2057" y="992"/>
                  </a:lnTo>
                  <a:lnTo>
                    <a:pt x="2066" y="994"/>
                  </a:lnTo>
                  <a:lnTo>
                    <a:pt x="2076" y="995"/>
                  </a:lnTo>
                  <a:lnTo>
                    <a:pt x="2087" y="995"/>
                  </a:lnTo>
                  <a:lnTo>
                    <a:pt x="2098" y="993"/>
                  </a:lnTo>
                  <a:lnTo>
                    <a:pt x="2108" y="990"/>
                  </a:lnTo>
                  <a:lnTo>
                    <a:pt x="2120" y="985"/>
                  </a:lnTo>
                  <a:lnTo>
                    <a:pt x="2131" y="980"/>
                  </a:lnTo>
                  <a:lnTo>
                    <a:pt x="2142" y="973"/>
                  </a:lnTo>
                  <a:lnTo>
                    <a:pt x="2154" y="965"/>
                  </a:lnTo>
                  <a:lnTo>
                    <a:pt x="2165" y="956"/>
                  </a:lnTo>
                  <a:lnTo>
                    <a:pt x="2175" y="944"/>
                  </a:lnTo>
                  <a:lnTo>
                    <a:pt x="2185" y="932"/>
                  </a:lnTo>
                  <a:lnTo>
                    <a:pt x="2195" y="919"/>
                  </a:lnTo>
                  <a:lnTo>
                    <a:pt x="2205" y="904"/>
                  </a:lnTo>
                  <a:lnTo>
                    <a:pt x="2213" y="888"/>
                  </a:lnTo>
                  <a:lnTo>
                    <a:pt x="2222" y="870"/>
                  </a:lnTo>
                  <a:lnTo>
                    <a:pt x="2229" y="850"/>
                  </a:lnTo>
                  <a:lnTo>
                    <a:pt x="2237" y="830"/>
                  </a:lnTo>
                  <a:lnTo>
                    <a:pt x="2242" y="808"/>
                  </a:lnTo>
                  <a:lnTo>
                    <a:pt x="2248" y="784"/>
                  </a:lnTo>
                  <a:lnTo>
                    <a:pt x="2252" y="760"/>
                  </a:lnTo>
                  <a:lnTo>
                    <a:pt x="2260" y="718"/>
                  </a:lnTo>
                  <a:lnTo>
                    <a:pt x="2268" y="680"/>
                  </a:lnTo>
                  <a:lnTo>
                    <a:pt x="2278" y="643"/>
                  </a:lnTo>
                  <a:lnTo>
                    <a:pt x="2288" y="610"/>
                  </a:lnTo>
                  <a:lnTo>
                    <a:pt x="2297" y="581"/>
                  </a:lnTo>
                  <a:lnTo>
                    <a:pt x="2307" y="558"/>
                  </a:lnTo>
                  <a:lnTo>
                    <a:pt x="2316" y="538"/>
                  </a:lnTo>
                  <a:lnTo>
                    <a:pt x="2323" y="526"/>
                  </a:lnTo>
                  <a:lnTo>
                    <a:pt x="2327" y="522"/>
                  </a:lnTo>
                  <a:lnTo>
                    <a:pt x="2330" y="520"/>
                  </a:lnTo>
                  <a:lnTo>
                    <a:pt x="2333" y="520"/>
                  </a:lnTo>
                  <a:lnTo>
                    <a:pt x="2335" y="522"/>
                  </a:lnTo>
                  <a:lnTo>
                    <a:pt x="2336" y="526"/>
                  </a:lnTo>
                  <a:lnTo>
                    <a:pt x="2339" y="532"/>
                  </a:lnTo>
                  <a:lnTo>
                    <a:pt x="2339" y="540"/>
                  </a:lnTo>
                  <a:lnTo>
                    <a:pt x="2339" y="551"/>
                  </a:lnTo>
                  <a:lnTo>
                    <a:pt x="2336" y="579"/>
                  </a:lnTo>
                  <a:lnTo>
                    <a:pt x="2332" y="618"/>
                  </a:lnTo>
                  <a:lnTo>
                    <a:pt x="2323" y="668"/>
                  </a:lnTo>
                  <a:lnTo>
                    <a:pt x="2311" y="729"/>
                  </a:lnTo>
                  <a:lnTo>
                    <a:pt x="2296" y="811"/>
                  </a:lnTo>
                  <a:lnTo>
                    <a:pt x="2287" y="877"/>
                  </a:lnTo>
                  <a:lnTo>
                    <a:pt x="2279" y="928"/>
                  </a:lnTo>
                  <a:lnTo>
                    <a:pt x="2274" y="967"/>
                  </a:lnTo>
                  <a:lnTo>
                    <a:pt x="2272" y="993"/>
                  </a:lnTo>
                  <a:lnTo>
                    <a:pt x="2269" y="1010"/>
                  </a:lnTo>
                  <a:lnTo>
                    <a:pt x="2269" y="1019"/>
                  </a:lnTo>
                  <a:lnTo>
                    <a:pt x="2269" y="1021"/>
                  </a:lnTo>
                  <a:lnTo>
                    <a:pt x="2269" y="1028"/>
                  </a:lnTo>
                  <a:lnTo>
                    <a:pt x="2269" y="1048"/>
                  </a:lnTo>
                  <a:lnTo>
                    <a:pt x="2267" y="1077"/>
                  </a:lnTo>
                  <a:lnTo>
                    <a:pt x="2265" y="1112"/>
                  </a:lnTo>
                  <a:lnTo>
                    <a:pt x="2261" y="1148"/>
                  </a:lnTo>
                  <a:lnTo>
                    <a:pt x="2255" y="1185"/>
                  </a:lnTo>
                  <a:lnTo>
                    <a:pt x="2251" y="1202"/>
                  </a:lnTo>
                  <a:lnTo>
                    <a:pt x="2247" y="1219"/>
                  </a:lnTo>
                  <a:lnTo>
                    <a:pt x="2241" y="1231"/>
                  </a:lnTo>
                  <a:lnTo>
                    <a:pt x="2235" y="1243"/>
                  </a:lnTo>
                  <a:lnTo>
                    <a:pt x="2228" y="1256"/>
                  </a:lnTo>
                  <a:lnTo>
                    <a:pt x="2222" y="1275"/>
                  </a:lnTo>
                  <a:lnTo>
                    <a:pt x="2215" y="1296"/>
                  </a:lnTo>
                  <a:lnTo>
                    <a:pt x="2209" y="1321"/>
                  </a:lnTo>
                  <a:lnTo>
                    <a:pt x="2196" y="1381"/>
                  </a:lnTo>
                  <a:lnTo>
                    <a:pt x="2184" y="1444"/>
                  </a:lnTo>
                  <a:lnTo>
                    <a:pt x="2174" y="1509"/>
                  </a:lnTo>
                  <a:lnTo>
                    <a:pt x="2166" y="1570"/>
                  </a:lnTo>
                  <a:lnTo>
                    <a:pt x="2160" y="1619"/>
                  </a:lnTo>
                  <a:lnTo>
                    <a:pt x="2158" y="1654"/>
                  </a:lnTo>
                  <a:lnTo>
                    <a:pt x="2158" y="1681"/>
                  </a:lnTo>
                  <a:lnTo>
                    <a:pt x="2156" y="1709"/>
                  </a:lnTo>
                  <a:lnTo>
                    <a:pt x="2153" y="1739"/>
                  </a:lnTo>
                  <a:lnTo>
                    <a:pt x="2148" y="1773"/>
                  </a:lnTo>
                  <a:lnTo>
                    <a:pt x="2142" y="1808"/>
                  </a:lnTo>
                  <a:lnTo>
                    <a:pt x="2134" y="1847"/>
                  </a:lnTo>
                  <a:lnTo>
                    <a:pt x="2125" y="1889"/>
                  </a:lnTo>
                  <a:lnTo>
                    <a:pt x="2114" y="1933"/>
                  </a:lnTo>
                  <a:lnTo>
                    <a:pt x="2095" y="2002"/>
                  </a:lnTo>
                  <a:lnTo>
                    <a:pt x="2070" y="2104"/>
                  </a:lnTo>
                  <a:lnTo>
                    <a:pt x="2038" y="2229"/>
                  </a:lnTo>
                  <a:lnTo>
                    <a:pt x="2006" y="2362"/>
                  </a:lnTo>
                  <a:lnTo>
                    <a:pt x="1974" y="2490"/>
                  </a:lnTo>
                  <a:lnTo>
                    <a:pt x="1949" y="2597"/>
                  </a:lnTo>
                  <a:lnTo>
                    <a:pt x="1930" y="2672"/>
                  </a:lnTo>
                  <a:lnTo>
                    <a:pt x="1924" y="2700"/>
                  </a:lnTo>
                  <a:lnTo>
                    <a:pt x="1889" y="2714"/>
                  </a:lnTo>
                  <a:lnTo>
                    <a:pt x="1798" y="2753"/>
                  </a:lnTo>
                  <a:lnTo>
                    <a:pt x="1669" y="2807"/>
                  </a:lnTo>
                  <a:lnTo>
                    <a:pt x="1517" y="2868"/>
                  </a:lnTo>
                  <a:lnTo>
                    <a:pt x="1440" y="2897"/>
                  </a:lnTo>
                  <a:lnTo>
                    <a:pt x="1362" y="2926"/>
                  </a:lnTo>
                  <a:lnTo>
                    <a:pt x="1288" y="2951"/>
                  </a:lnTo>
                  <a:lnTo>
                    <a:pt x="1220" y="2972"/>
                  </a:lnTo>
                  <a:lnTo>
                    <a:pt x="1189" y="2982"/>
                  </a:lnTo>
                  <a:lnTo>
                    <a:pt x="1160" y="2990"/>
                  </a:lnTo>
                  <a:lnTo>
                    <a:pt x="1133" y="2996"/>
                  </a:lnTo>
                  <a:lnTo>
                    <a:pt x="1109" y="3002"/>
                  </a:lnTo>
                  <a:lnTo>
                    <a:pt x="1088" y="3004"/>
                  </a:lnTo>
                  <a:lnTo>
                    <a:pt x="1070" y="3005"/>
                  </a:lnTo>
                  <a:lnTo>
                    <a:pt x="1056" y="3005"/>
                  </a:lnTo>
                  <a:lnTo>
                    <a:pt x="1045" y="3002"/>
                  </a:lnTo>
                  <a:lnTo>
                    <a:pt x="1029" y="2994"/>
                  </a:lnTo>
                  <a:lnTo>
                    <a:pt x="1013" y="2990"/>
                  </a:lnTo>
                  <a:lnTo>
                    <a:pt x="997" y="2986"/>
                  </a:lnTo>
                  <a:lnTo>
                    <a:pt x="981" y="2986"/>
                  </a:lnTo>
                  <a:lnTo>
                    <a:pt x="965" y="2988"/>
                  </a:lnTo>
                  <a:lnTo>
                    <a:pt x="949" y="2990"/>
                  </a:lnTo>
                  <a:lnTo>
                    <a:pt x="934" y="2994"/>
                  </a:lnTo>
                  <a:lnTo>
                    <a:pt x="920" y="2998"/>
                  </a:lnTo>
                  <a:lnTo>
                    <a:pt x="891" y="3010"/>
                  </a:lnTo>
                  <a:lnTo>
                    <a:pt x="863" y="3023"/>
                  </a:lnTo>
                  <a:lnTo>
                    <a:pt x="836" y="3036"/>
                  </a:lnTo>
                  <a:lnTo>
                    <a:pt x="811" y="3046"/>
                  </a:lnTo>
                  <a:lnTo>
                    <a:pt x="797" y="3049"/>
                  </a:lnTo>
                  <a:lnTo>
                    <a:pt x="781" y="3051"/>
                  </a:lnTo>
                  <a:lnTo>
                    <a:pt x="763" y="3052"/>
                  </a:lnTo>
                  <a:lnTo>
                    <a:pt x="744" y="3052"/>
                  </a:lnTo>
                  <a:lnTo>
                    <a:pt x="725" y="3051"/>
                  </a:lnTo>
                  <a:lnTo>
                    <a:pt x="704" y="3049"/>
                  </a:lnTo>
                  <a:lnTo>
                    <a:pt x="684" y="3046"/>
                  </a:lnTo>
                  <a:lnTo>
                    <a:pt x="663" y="3043"/>
                  </a:lnTo>
                  <a:lnTo>
                    <a:pt x="644" y="3037"/>
                  </a:lnTo>
                  <a:lnTo>
                    <a:pt x="626" y="3033"/>
                  </a:lnTo>
                  <a:lnTo>
                    <a:pt x="609" y="3026"/>
                  </a:lnTo>
                  <a:lnTo>
                    <a:pt x="595" y="3020"/>
                  </a:lnTo>
                  <a:lnTo>
                    <a:pt x="583" y="3012"/>
                  </a:lnTo>
                  <a:lnTo>
                    <a:pt x="573" y="3005"/>
                  </a:lnTo>
                  <a:lnTo>
                    <a:pt x="570" y="3002"/>
                  </a:lnTo>
                  <a:lnTo>
                    <a:pt x="568" y="2997"/>
                  </a:lnTo>
                  <a:lnTo>
                    <a:pt x="567" y="2993"/>
                  </a:lnTo>
                  <a:lnTo>
                    <a:pt x="566" y="2989"/>
                  </a:lnTo>
                  <a:lnTo>
                    <a:pt x="566" y="2981"/>
                  </a:lnTo>
                  <a:lnTo>
                    <a:pt x="564" y="2974"/>
                  </a:lnTo>
                  <a:lnTo>
                    <a:pt x="561" y="2966"/>
                  </a:lnTo>
                  <a:lnTo>
                    <a:pt x="557" y="2961"/>
                  </a:lnTo>
                  <a:lnTo>
                    <a:pt x="553" y="2954"/>
                  </a:lnTo>
                  <a:lnTo>
                    <a:pt x="547" y="2950"/>
                  </a:lnTo>
                  <a:lnTo>
                    <a:pt x="540" y="2945"/>
                  </a:lnTo>
                  <a:lnTo>
                    <a:pt x="532" y="2942"/>
                  </a:lnTo>
                  <a:lnTo>
                    <a:pt x="524" y="2939"/>
                  </a:lnTo>
                  <a:lnTo>
                    <a:pt x="514" y="2937"/>
                  </a:lnTo>
                  <a:lnTo>
                    <a:pt x="503" y="2936"/>
                  </a:lnTo>
                  <a:lnTo>
                    <a:pt x="491" y="2936"/>
                  </a:lnTo>
                  <a:lnTo>
                    <a:pt x="478" y="2937"/>
                  </a:lnTo>
                  <a:lnTo>
                    <a:pt x="464" y="2938"/>
                  </a:lnTo>
                  <a:lnTo>
                    <a:pt x="449" y="2941"/>
                  </a:lnTo>
                  <a:lnTo>
                    <a:pt x="433" y="2944"/>
                  </a:lnTo>
                  <a:lnTo>
                    <a:pt x="416" y="2948"/>
                  </a:lnTo>
                  <a:lnTo>
                    <a:pt x="398" y="2951"/>
                  </a:lnTo>
                  <a:lnTo>
                    <a:pt x="382" y="2952"/>
                  </a:lnTo>
                  <a:lnTo>
                    <a:pt x="366" y="2952"/>
                  </a:lnTo>
                  <a:lnTo>
                    <a:pt x="350" y="2952"/>
                  </a:lnTo>
                  <a:lnTo>
                    <a:pt x="334" y="2951"/>
                  </a:lnTo>
                  <a:lnTo>
                    <a:pt x="319" y="2950"/>
                  </a:lnTo>
                  <a:lnTo>
                    <a:pt x="305" y="2948"/>
                  </a:lnTo>
                  <a:lnTo>
                    <a:pt x="281" y="2943"/>
                  </a:lnTo>
                  <a:lnTo>
                    <a:pt x="261" y="2939"/>
                  </a:lnTo>
                  <a:lnTo>
                    <a:pt x="249" y="2936"/>
                  </a:lnTo>
                  <a:lnTo>
                    <a:pt x="245" y="2935"/>
                  </a:lnTo>
                  <a:lnTo>
                    <a:pt x="0" y="1711"/>
                  </a:lnTo>
                  <a:lnTo>
                    <a:pt x="311" y="1165"/>
                  </a:lnTo>
                  <a:lnTo>
                    <a:pt x="315" y="1156"/>
                  </a:lnTo>
                  <a:lnTo>
                    <a:pt x="326" y="1129"/>
                  </a:lnTo>
                  <a:lnTo>
                    <a:pt x="341" y="1087"/>
                  </a:lnTo>
                  <a:lnTo>
                    <a:pt x="359" y="1031"/>
                  </a:lnTo>
                  <a:lnTo>
                    <a:pt x="368" y="998"/>
                  </a:lnTo>
                  <a:lnTo>
                    <a:pt x="378" y="964"/>
                  </a:lnTo>
                  <a:lnTo>
                    <a:pt x="388" y="927"/>
                  </a:lnTo>
                  <a:lnTo>
                    <a:pt x="396" y="887"/>
                  </a:lnTo>
                  <a:lnTo>
                    <a:pt x="404" y="846"/>
                  </a:lnTo>
                  <a:lnTo>
                    <a:pt x="410" y="804"/>
                  </a:lnTo>
                  <a:lnTo>
                    <a:pt x="416" y="760"/>
                  </a:lnTo>
                  <a:lnTo>
                    <a:pt x="420" y="715"/>
                  </a:lnTo>
                  <a:lnTo>
                    <a:pt x="426" y="631"/>
                  </a:lnTo>
                  <a:lnTo>
                    <a:pt x="433" y="562"/>
                  </a:lnTo>
                  <a:lnTo>
                    <a:pt x="438" y="505"/>
                  </a:lnTo>
                  <a:lnTo>
                    <a:pt x="443" y="457"/>
                  </a:lnTo>
                  <a:lnTo>
                    <a:pt x="445" y="415"/>
                  </a:lnTo>
                  <a:lnTo>
                    <a:pt x="446" y="378"/>
                  </a:lnTo>
                  <a:lnTo>
                    <a:pt x="445" y="360"/>
                  </a:lnTo>
                  <a:lnTo>
                    <a:pt x="443" y="342"/>
                  </a:lnTo>
                  <a:lnTo>
                    <a:pt x="440" y="323"/>
                  </a:lnTo>
                  <a:lnTo>
                    <a:pt x="437" y="305"/>
                  </a:lnTo>
                  <a:lnTo>
                    <a:pt x="434" y="284"/>
                  </a:lnTo>
                  <a:lnTo>
                    <a:pt x="433" y="266"/>
                  </a:lnTo>
                  <a:lnTo>
                    <a:pt x="433" y="251"/>
                  </a:lnTo>
                  <a:lnTo>
                    <a:pt x="435" y="238"/>
                  </a:lnTo>
                  <a:lnTo>
                    <a:pt x="437" y="228"/>
                  </a:lnTo>
                  <a:lnTo>
                    <a:pt x="442" y="221"/>
                  </a:lnTo>
                  <a:lnTo>
                    <a:pt x="444" y="218"/>
                  </a:lnTo>
                  <a:lnTo>
                    <a:pt x="446" y="216"/>
                  </a:lnTo>
                  <a:lnTo>
                    <a:pt x="449" y="214"/>
                  </a:lnTo>
                  <a:lnTo>
                    <a:pt x="451" y="213"/>
                  </a:lnTo>
                  <a:lnTo>
                    <a:pt x="458" y="213"/>
                  </a:lnTo>
                  <a:lnTo>
                    <a:pt x="463" y="215"/>
                  </a:lnTo>
                  <a:lnTo>
                    <a:pt x="470" y="218"/>
                  </a:lnTo>
                  <a:lnTo>
                    <a:pt x="475" y="224"/>
                  </a:lnTo>
                  <a:lnTo>
                    <a:pt x="480" y="231"/>
                  </a:lnTo>
                  <a:lnTo>
                    <a:pt x="485" y="241"/>
                  </a:lnTo>
                  <a:lnTo>
                    <a:pt x="489" y="252"/>
                  </a:lnTo>
                  <a:lnTo>
                    <a:pt x="491" y="265"/>
                  </a:lnTo>
                  <a:lnTo>
                    <a:pt x="492" y="296"/>
                  </a:lnTo>
                  <a:lnTo>
                    <a:pt x="494" y="324"/>
                  </a:lnTo>
                  <a:lnTo>
                    <a:pt x="497" y="350"/>
                  </a:lnTo>
                  <a:lnTo>
                    <a:pt x="499" y="374"/>
                  </a:lnTo>
                  <a:lnTo>
                    <a:pt x="502" y="396"/>
                  </a:lnTo>
                  <a:lnTo>
                    <a:pt x="506" y="415"/>
                  </a:lnTo>
                  <a:lnTo>
                    <a:pt x="511" y="432"/>
                  </a:lnTo>
                  <a:lnTo>
                    <a:pt x="515" y="447"/>
                  </a:lnTo>
                  <a:lnTo>
                    <a:pt x="520" y="461"/>
                  </a:lnTo>
                  <a:lnTo>
                    <a:pt x="526" y="473"/>
                  </a:lnTo>
                  <a:lnTo>
                    <a:pt x="532" y="484"/>
                  </a:lnTo>
                  <a:lnTo>
                    <a:pt x="538" y="493"/>
                  </a:lnTo>
                  <a:lnTo>
                    <a:pt x="544" y="500"/>
                  </a:lnTo>
                  <a:lnTo>
                    <a:pt x="551" y="506"/>
                  </a:lnTo>
                  <a:lnTo>
                    <a:pt x="556" y="511"/>
                  </a:lnTo>
                  <a:lnTo>
                    <a:pt x="563" y="515"/>
                  </a:lnTo>
                  <a:lnTo>
                    <a:pt x="569" y="518"/>
                  </a:lnTo>
                  <a:lnTo>
                    <a:pt x="575" y="520"/>
                  </a:lnTo>
                  <a:lnTo>
                    <a:pt x="582" y="521"/>
                  </a:lnTo>
                  <a:lnTo>
                    <a:pt x="587" y="521"/>
                  </a:lnTo>
                  <a:lnTo>
                    <a:pt x="599" y="520"/>
                  </a:lnTo>
                  <a:lnTo>
                    <a:pt x="609" y="518"/>
                  </a:lnTo>
                  <a:lnTo>
                    <a:pt x="624" y="511"/>
                  </a:lnTo>
                  <a:lnTo>
                    <a:pt x="631" y="507"/>
                  </a:lnTo>
                  <a:lnTo>
                    <a:pt x="636" y="502"/>
                  </a:lnTo>
                  <a:lnTo>
                    <a:pt x="651" y="488"/>
                  </a:lnTo>
                  <a:lnTo>
                    <a:pt x="661" y="478"/>
                  </a:lnTo>
                  <a:lnTo>
                    <a:pt x="672" y="465"/>
                  </a:lnTo>
                  <a:lnTo>
                    <a:pt x="682" y="450"/>
                  </a:lnTo>
                  <a:lnTo>
                    <a:pt x="694" y="431"/>
                  </a:lnTo>
                  <a:lnTo>
                    <a:pt x="706" y="411"/>
                  </a:lnTo>
                  <a:lnTo>
                    <a:pt x="717" y="388"/>
                  </a:lnTo>
                  <a:lnTo>
                    <a:pt x="721" y="375"/>
                  </a:lnTo>
                  <a:lnTo>
                    <a:pt x="727" y="362"/>
                  </a:lnTo>
                  <a:lnTo>
                    <a:pt x="731" y="348"/>
                  </a:lnTo>
                  <a:lnTo>
                    <a:pt x="734" y="334"/>
                  </a:lnTo>
                  <a:lnTo>
                    <a:pt x="738" y="319"/>
                  </a:lnTo>
                  <a:lnTo>
                    <a:pt x="741" y="304"/>
                  </a:lnTo>
                  <a:lnTo>
                    <a:pt x="743" y="288"/>
                  </a:lnTo>
                  <a:lnTo>
                    <a:pt x="745" y="270"/>
                  </a:lnTo>
                  <a:lnTo>
                    <a:pt x="746" y="253"/>
                  </a:lnTo>
                  <a:lnTo>
                    <a:pt x="746" y="235"/>
                  </a:lnTo>
                  <a:lnTo>
                    <a:pt x="745" y="215"/>
                  </a:lnTo>
                  <a:lnTo>
                    <a:pt x="744" y="196"/>
                  </a:lnTo>
                  <a:lnTo>
                    <a:pt x="744" y="195"/>
                  </a:lnTo>
                  <a:lnTo>
                    <a:pt x="745" y="195"/>
                  </a:lnTo>
                  <a:lnTo>
                    <a:pt x="746" y="196"/>
                  </a:lnTo>
                  <a:lnTo>
                    <a:pt x="747" y="197"/>
                  </a:lnTo>
                  <a:lnTo>
                    <a:pt x="751" y="202"/>
                  </a:lnTo>
                  <a:lnTo>
                    <a:pt x="755" y="212"/>
                  </a:lnTo>
                  <a:lnTo>
                    <a:pt x="766" y="237"/>
                  </a:lnTo>
                  <a:lnTo>
                    <a:pt x="779" y="269"/>
                  </a:lnTo>
                  <a:lnTo>
                    <a:pt x="794" y="308"/>
                  </a:lnTo>
                  <a:lnTo>
                    <a:pt x="809" y="348"/>
                  </a:lnTo>
                  <a:lnTo>
                    <a:pt x="824" y="387"/>
                  </a:lnTo>
                  <a:lnTo>
                    <a:pt x="838" y="424"/>
                  </a:lnTo>
                  <a:lnTo>
                    <a:pt x="854" y="465"/>
                  </a:lnTo>
                  <a:lnTo>
                    <a:pt x="878" y="518"/>
                  </a:lnTo>
                  <a:lnTo>
                    <a:pt x="906" y="577"/>
                  </a:lnTo>
                  <a:lnTo>
                    <a:pt x="935" y="635"/>
                  </a:lnTo>
                  <a:lnTo>
                    <a:pt x="949" y="662"/>
                  </a:lnTo>
                  <a:lnTo>
                    <a:pt x="963" y="686"/>
                  </a:lnTo>
                  <a:lnTo>
                    <a:pt x="976" y="708"/>
                  </a:lnTo>
                  <a:lnTo>
                    <a:pt x="988" y="725"/>
                  </a:lnTo>
                  <a:lnTo>
                    <a:pt x="994" y="731"/>
                  </a:lnTo>
                  <a:lnTo>
                    <a:pt x="999" y="737"/>
                  </a:lnTo>
                  <a:lnTo>
                    <a:pt x="1003" y="741"/>
                  </a:lnTo>
                  <a:lnTo>
                    <a:pt x="1007" y="743"/>
                  </a:lnTo>
                  <a:lnTo>
                    <a:pt x="1010" y="744"/>
                  </a:lnTo>
                  <a:lnTo>
                    <a:pt x="1013" y="744"/>
                  </a:lnTo>
                  <a:lnTo>
                    <a:pt x="1014" y="741"/>
                  </a:lnTo>
                  <a:lnTo>
                    <a:pt x="1016" y="737"/>
                  </a:lnTo>
                  <a:close/>
                </a:path>
              </a:pathLst>
            </a:custGeom>
            <a:solidFill>
              <a:srgbClr val="5b8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329080" y="2467080"/>
              <a:ext cx="738360" cy="952560"/>
            </a:xfrm>
            <a:custGeom>
              <a:avLst/>
              <a:gdLst/>
              <a:ahLst/>
              <a:rect l="l" t="t" r="r" b="b"/>
              <a:pathLst>
                <a:path w="2328" h="3002">
                  <a:moveTo>
                    <a:pt x="1024" y="759"/>
                  </a:moveTo>
                  <a:lnTo>
                    <a:pt x="1026" y="748"/>
                  </a:lnTo>
                  <a:lnTo>
                    <a:pt x="1029" y="737"/>
                  </a:lnTo>
                  <a:lnTo>
                    <a:pt x="1035" y="724"/>
                  </a:lnTo>
                  <a:lnTo>
                    <a:pt x="1040" y="710"/>
                  </a:lnTo>
                  <a:lnTo>
                    <a:pt x="1053" y="675"/>
                  </a:lnTo>
                  <a:lnTo>
                    <a:pt x="1067" y="632"/>
                  </a:lnTo>
                  <a:lnTo>
                    <a:pt x="1074" y="606"/>
                  </a:lnTo>
                  <a:lnTo>
                    <a:pt x="1080" y="577"/>
                  </a:lnTo>
                  <a:lnTo>
                    <a:pt x="1086" y="544"/>
                  </a:lnTo>
                  <a:lnTo>
                    <a:pt x="1092" y="509"/>
                  </a:lnTo>
                  <a:lnTo>
                    <a:pt x="1096" y="468"/>
                  </a:lnTo>
                  <a:lnTo>
                    <a:pt x="1099" y="423"/>
                  </a:lnTo>
                  <a:lnTo>
                    <a:pt x="1102" y="375"/>
                  </a:lnTo>
                  <a:lnTo>
                    <a:pt x="1103" y="322"/>
                  </a:lnTo>
                  <a:lnTo>
                    <a:pt x="1102" y="275"/>
                  </a:lnTo>
                  <a:lnTo>
                    <a:pt x="1098" y="218"/>
                  </a:lnTo>
                  <a:lnTo>
                    <a:pt x="1096" y="160"/>
                  </a:lnTo>
                  <a:lnTo>
                    <a:pt x="1096" y="109"/>
                  </a:lnTo>
                  <a:lnTo>
                    <a:pt x="1097" y="89"/>
                  </a:lnTo>
                  <a:lnTo>
                    <a:pt x="1099" y="73"/>
                  </a:lnTo>
                  <a:lnTo>
                    <a:pt x="1101" y="68"/>
                  </a:lnTo>
                  <a:lnTo>
                    <a:pt x="1103" y="64"/>
                  </a:lnTo>
                  <a:lnTo>
                    <a:pt x="1105" y="62"/>
                  </a:lnTo>
                  <a:lnTo>
                    <a:pt x="1108" y="62"/>
                  </a:lnTo>
                  <a:lnTo>
                    <a:pt x="1111" y="64"/>
                  </a:lnTo>
                  <a:lnTo>
                    <a:pt x="1115" y="68"/>
                  </a:lnTo>
                  <a:lnTo>
                    <a:pt x="1119" y="74"/>
                  </a:lnTo>
                  <a:lnTo>
                    <a:pt x="1123" y="84"/>
                  </a:lnTo>
                  <a:lnTo>
                    <a:pt x="1134" y="110"/>
                  </a:lnTo>
                  <a:lnTo>
                    <a:pt x="1147" y="148"/>
                  </a:lnTo>
                  <a:lnTo>
                    <a:pt x="1161" y="192"/>
                  </a:lnTo>
                  <a:lnTo>
                    <a:pt x="1173" y="234"/>
                  </a:lnTo>
                  <a:lnTo>
                    <a:pt x="1183" y="278"/>
                  </a:lnTo>
                  <a:lnTo>
                    <a:pt x="1191" y="320"/>
                  </a:lnTo>
                  <a:lnTo>
                    <a:pt x="1199" y="361"/>
                  </a:lnTo>
                  <a:lnTo>
                    <a:pt x="1204" y="401"/>
                  </a:lnTo>
                  <a:lnTo>
                    <a:pt x="1209" y="441"/>
                  </a:lnTo>
                  <a:lnTo>
                    <a:pt x="1211" y="478"/>
                  </a:lnTo>
                  <a:lnTo>
                    <a:pt x="1213" y="515"/>
                  </a:lnTo>
                  <a:lnTo>
                    <a:pt x="1213" y="551"/>
                  </a:lnTo>
                  <a:lnTo>
                    <a:pt x="1213" y="584"/>
                  </a:lnTo>
                  <a:lnTo>
                    <a:pt x="1212" y="617"/>
                  </a:lnTo>
                  <a:lnTo>
                    <a:pt x="1210" y="647"/>
                  </a:lnTo>
                  <a:lnTo>
                    <a:pt x="1206" y="676"/>
                  </a:lnTo>
                  <a:lnTo>
                    <a:pt x="1203" y="702"/>
                  </a:lnTo>
                  <a:lnTo>
                    <a:pt x="1199" y="727"/>
                  </a:lnTo>
                  <a:lnTo>
                    <a:pt x="1187" y="780"/>
                  </a:lnTo>
                  <a:lnTo>
                    <a:pt x="1171" y="845"/>
                  </a:lnTo>
                  <a:lnTo>
                    <a:pt x="1162" y="880"/>
                  </a:lnTo>
                  <a:lnTo>
                    <a:pt x="1153" y="917"/>
                  </a:lnTo>
                  <a:lnTo>
                    <a:pt x="1146" y="954"/>
                  </a:lnTo>
                  <a:lnTo>
                    <a:pt x="1139" y="991"/>
                  </a:lnTo>
                  <a:lnTo>
                    <a:pt x="1134" y="1028"/>
                  </a:lnTo>
                  <a:lnTo>
                    <a:pt x="1132" y="1064"/>
                  </a:lnTo>
                  <a:lnTo>
                    <a:pt x="1131" y="1081"/>
                  </a:lnTo>
                  <a:lnTo>
                    <a:pt x="1131" y="1098"/>
                  </a:lnTo>
                  <a:lnTo>
                    <a:pt x="1132" y="1115"/>
                  </a:lnTo>
                  <a:lnTo>
                    <a:pt x="1134" y="1130"/>
                  </a:lnTo>
                  <a:lnTo>
                    <a:pt x="1137" y="1145"/>
                  </a:lnTo>
                  <a:lnTo>
                    <a:pt x="1140" y="1159"/>
                  </a:lnTo>
                  <a:lnTo>
                    <a:pt x="1146" y="1172"/>
                  </a:lnTo>
                  <a:lnTo>
                    <a:pt x="1151" y="1184"/>
                  </a:lnTo>
                  <a:lnTo>
                    <a:pt x="1158" y="1194"/>
                  </a:lnTo>
                  <a:lnTo>
                    <a:pt x="1166" y="1204"/>
                  </a:lnTo>
                  <a:lnTo>
                    <a:pt x="1176" y="1214"/>
                  </a:lnTo>
                  <a:lnTo>
                    <a:pt x="1187" y="1221"/>
                  </a:lnTo>
                  <a:lnTo>
                    <a:pt x="1191" y="1224"/>
                  </a:lnTo>
                  <a:lnTo>
                    <a:pt x="1197" y="1224"/>
                  </a:lnTo>
                  <a:lnTo>
                    <a:pt x="1203" y="1223"/>
                  </a:lnTo>
                  <a:lnTo>
                    <a:pt x="1211" y="1218"/>
                  </a:lnTo>
                  <a:lnTo>
                    <a:pt x="1218" y="1213"/>
                  </a:lnTo>
                  <a:lnTo>
                    <a:pt x="1228" y="1205"/>
                  </a:lnTo>
                  <a:lnTo>
                    <a:pt x="1237" y="1197"/>
                  </a:lnTo>
                  <a:lnTo>
                    <a:pt x="1247" y="1186"/>
                  </a:lnTo>
                  <a:lnTo>
                    <a:pt x="1268" y="1161"/>
                  </a:lnTo>
                  <a:lnTo>
                    <a:pt x="1292" y="1130"/>
                  </a:lnTo>
                  <a:lnTo>
                    <a:pt x="1315" y="1096"/>
                  </a:lnTo>
                  <a:lnTo>
                    <a:pt x="1340" y="1058"/>
                  </a:lnTo>
                  <a:lnTo>
                    <a:pt x="1364" y="1018"/>
                  </a:lnTo>
                  <a:lnTo>
                    <a:pt x="1388" y="977"/>
                  </a:lnTo>
                  <a:lnTo>
                    <a:pt x="1412" y="935"/>
                  </a:lnTo>
                  <a:lnTo>
                    <a:pt x="1432" y="894"/>
                  </a:lnTo>
                  <a:lnTo>
                    <a:pt x="1452" y="854"/>
                  </a:lnTo>
                  <a:lnTo>
                    <a:pt x="1469" y="815"/>
                  </a:lnTo>
                  <a:lnTo>
                    <a:pt x="1483" y="781"/>
                  </a:lnTo>
                  <a:lnTo>
                    <a:pt x="1493" y="748"/>
                  </a:lnTo>
                  <a:lnTo>
                    <a:pt x="1508" y="694"/>
                  </a:lnTo>
                  <a:lnTo>
                    <a:pt x="1520" y="646"/>
                  </a:lnTo>
                  <a:lnTo>
                    <a:pt x="1530" y="600"/>
                  </a:lnTo>
                  <a:lnTo>
                    <a:pt x="1542" y="555"/>
                  </a:lnTo>
                  <a:lnTo>
                    <a:pt x="1555" y="509"/>
                  </a:lnTo>
                  <a:lnTo>
                    <a:pt x="1573" y="457"/>
                  </a:lnTo>
                  <a:lnTo>
                    <a:pt x="1582" y="429"/>
                  </a:lnTo>
                  <a:lnTo>
                    <a:pt x="1595" y="397"/>
                  </a:lnTo>
                  <a:lnTo>
                    <a:pt x="1608" y="365"/>
                  </a:lnTo>
                  <a:lnTo>
                    <a:pt x="1624" y="328"/>
                  </a:lnTo>
                  <a:lnTo>
                    <a:pt x="1640" y="294"/>
                  </a:lnTo>
                  <a:lnTo>
                    <a:pt x="1651" y="265"/>
                  </a:lnTo>
                  <a:lnTo>
                    <a:pt x="1661" y="240"/>
                  </a:lnTo>
                  <a:lnTo>
                    <a:pt x="1670" y="218"/>
                  </a:lnTo>
                  <a:lnTo>
                    <a:pt x="1675" y="201"/>
                  </a:lnTo>
                  <a:lnTo>
                    <a:pt x="1680" y="186"/>
                  </a:lnTo>
                  <a:lnTo>
                    <a:pt x="1683" y="172"/>
                  </a:lnTo>
                  <a:lnTo>
                    <a:pt x="1685" y="160"/>
                  </a:lnTo>
                  <a:lnTo>
                    <a:pt x="1689" y="138"/>
                  </a:lnTo>
                  <a:lnTo>
                    <a:pt x="1692" y="114"/>
                  </a:lnTo>
                  <a:lnTo>
                    <a:pt x="1696" y="100"/>
                  </a:lnTo>
                  <a:lnTo>
                    <a:pt x="1700" y="84"/>
                  </a:lnTo>
                  <a:lnTo>
                    <a:pt x="1705" y="65"/>
                  </a:lnTo>
                  <a:lnTo>
                    <a:pt x="1713" y="42"/>
                  </a:lnTo>
                  <a:lnTo>
                    <a:pt x="1717" y="30"/>
                  </a:lnTo>
                  <a:lnTo>
                    <a:pt x="1722" y="20"/>
                  </a:lnTo>
                  <a:lnTo>
                    <a:pt x="1725" y="13"/>
                  </a:lnTo>
                  <a:lnTo>
                    <a:pt x="1729" y="8"/>
                  </a:lnTo>
                  <a:lnTo>
                    <a:pt x="1732" y="3"/>
                  </a:lnTo>
                  <a:lnTo>
                    <a:pt x="1736" y="1"/>
                  </a:lnTo>
                  <a:lnTo>
                    <a:pt x="1739" y="0"/>
                  </a:lnTo>
                  <a:lnTo>
                    <a:pt x="1742" y="1"/>
                  </a:lnTo>
                  <a:lnTo>
                    <a:pt x="1745" y="3"/>
                  </a:lnTo>
                  <a:lnTo>
                    <a:pt x="1749" y="6"/>
                  </a:lnTo>
                  <a:lnTo>
                    <a:pt x="1751" y="12"/>
                  </a:lnTo>
                  <a:lnTo>
                    <a:pt x="1753" y="18"/>
                  </a:lnTo>
                  <a:lnTo>
                    <a:pt x="1757" y="35"/>
                  </a:lnTo>
                  <a:lnTo>
                    <a:pt x="1759" y="56"/>
                  </a:lnTo>
                  <a:lnTo>
                    <a:pt x="1761" y="81"/>
                  </a:lnTo>
                  <a:lnTo>
                    <a:pt x="1761" y="110"/>
                  </a:lnTo>
                  <a:lnTo>
                    <a:pt x="1759" y="141"/>
                  </a:lnTo>
                  <a:lnTo>
                    <a:pt x="1757" y="176"/>
                  </a:lnTo>
                  <a:lnTo>
                    <a:pt x="1752" y="213"/>
                  </a:lnTo>
                  <a:lnTo>
                    <a:pt x="1747" y="252"/>
                  </a:lnTo>
                  <a:lnTo>
                    <a:pt x="1738" y="292"/>
                  </a:lnTo>
                  <a:lnTo>
                    <a:pt x="1728" y="332"/>
                  </a:lnTo>
                  <a:lnTo>
                    <a:pt x="1708" y="403"/>
                  </a:lnTo>
                  <a:lnTo>
                    <a:pt x="1690" y="470"/>
                  </a:lnTo>
                  <a:lnTo>
                    <a:pt x="1675" y="533"/>
                  </a:lnTo>
                  <a:lnTo>
                    <a:pt x="1663" y="592"/>
                  </a:lnTo>
                  <a:lnTo>
                    <a:pt x="1658" y="619"/>
                  </a:lnTo>
                  <a:lnTo>
                    <a:pt x="1654" y="645"/>
                  </a:lnTo>
                  <a:lnTo>
                    <a:pt x="1650" y="670"/>
                  </a:lnTo>
                  <a:lnTo>
                    <a:pt x="1647" y="693"/>
                  </a:lnTo>
                  <a:lnTo>
                    <a:pt x="1645" y="715"/>
                  </a:lnTo>
                  <a:lnTo>
                    <a:pt x="1644" y="735"/>
                  </a:lnTo>
                  <a:lnTo>
                    <a:pt x="1644" y="754"/>
                  </a:lnTo>
                  <a:lnTo>
                    <a:pt x="1644" y="771"/>
                  </a:lnTo>
                  <a:lnTo>
                    <a:pt x="1646" y="787"/>
                  </a:lnTo>
                  <a:lnTo>
                    <a:pt x="1648" y="801"/>
                  </a:lnTo>
                  <a:lnTo>
                    <a:pt x="1651" y="813"/>
                  </a:lnTo>
                  <a:lnTo>
                    <a:pt x="1656" y="823"/>
                  </a:lnTo>
                  <a:lnTo>
                    <a:pt x="1660" y="832"/>
                  </a:lnTo>
                  <a:lnTo>
                    <a:pt x="1667" y="838"/>
                  </a:lnTo>
                  <a:lnTo>
                    <a:pt x="1674" y="843"/>
                  </a:lnTo>
                  <a:lnTo>
                    <a:pt x="1682" y="846"/>
                  </a:lnTo>
                  <a:lnTo>
                    <a:pt x="1690" y="847"/>
                  </a:lnTo>
                  <a:lnTo>
                    <a:pt x="1701" y="846"/>
                  </a:lnTo>
                  <a:lnTo>
                    <a:pt x="1712" y="842"/>
                  </a:lnTo>
                  <a:lnTo>
                    <a:pt x="1725" y="836"/>
                  </a:lnTo>
                  <a:lnTo>
                    <a:pt x="1738" y="828"/>
                  </a:lnTo>
                  <a:lnTo>
                    <a:pt x="1752" y="819"/>
                  </a:lnTo>
                  <a:lnTo>
                    <a:pt x="1768" y="806"/>
                  </a:lnTo>
                  <a:lnTo>
                    <a:pt x="1784" y="791"/>
                  </a:lnTo>
                  <a:lnTo>
                    <a:pt x="1806" y="771"/>
                  </a:lnTo>
                  <a:lnTo>
                    <a:pt x="1825" y="749"/>
                  </a:lnTo>
                  <a:lnTo>
                    <a:pt x="1844" y="727"/>
                  </a:lnTo>
                  <a:lnTo>
                    <a:pt x="1861" y="702"/>
                  </a:lnTo>
                  <a:lnTo>
                    <a:pt x="1877" y="676"/>
                  </a:lnTo>
                  <a:lnTo>
                    <a:pt x="1892" y="650"/>
                  </a:lnTo>
                  <a:lnTo>
                    <a:pt x="1906" y="622"/>
                  </a:lnTo>
                  <a:lnTo>
                    <a:pt x="1919" y="595"/>
                  </a:lnTo>
                  <a:lnTo>
                    <a:pt x="1931" y="567"/>
                  </a:lnTo>
                  <a:lnTo>
                    <a:pt x="1943" y="538"/>
                  </a:lnTo>
                  <a:lnTo>
                    <a:pt x="1953" y="511"/>
                  </a:lnTo>
                  <a:lnTo>
                    <a:pt x="1963" y="483"/>
                  </a:lnTo>
                  <a:lnTo>
                    <a:pt x="1980" y="430"/>
                  </a:lnTo>
                  <a:lnTo>
                    <a:pt x="1994" y="380"/>
                  </a:lnTo>
                  <a:lnTo>
                    <a:pt x="2006" y="337"/>
                  </a:lnTo>
                  <a:lnTo>
                    <a:pt x="2014" y="301"/>
                  </a:lnTo>
                  <a:lnTo>
                    <a:pt x="2022" y="275"/>
                  </a:lnTo>
                  <a:lnTo>
                    <a:pt x="2027" y="260"/>
                  </a:lnTo>
                  <a:lnTo>
                    <a:pt x="2030" y="257"/>
                  </a:lnTo>
                  <a:lnTo>
                    <a:pt x="2032" y="258"/>
                  </a:lnTo>
                  <a:lnTo>
                    <a:pt x="2034" y="262"/>
                  </a:lnTo>
                  <a:lnTo>
                    <a:pt x="2035" y="270"/>
                  </a:lnTo>
                  <a:lnTo>
                    <a:pt x="2037" y="299"/>
                  </a:lnTo>
                  <a:lnTo>
                    <a:pt x="2039" y="346"/>
                  </a:lnTo>
                  <a:lnTo>
                    <a:pt x="2040" y="400"/>
                  </a:lnTo>
                  <a:lnTo>
                    <a:pt x="2040" y="449"/>
                  </a:lnTo>
                  <a:lnTo>
                    <a:pt x="2037" y="494"/>
                  </a:lnTo>
                  <a:lnTo>
                    <a:pt x="2034" y="535"/>
                  </a:lnTo>
                  <a:lnTo>
                    <a:pt x="2028" y="573"/>
                  </a:lnTo>
                  <a:lnTo>
                    <a:pt x="2022" y="608"/>
                  </a:lnTo>
                  <a:lnTo>
                    <a:pt x="2015" y="641"/>
                  </a:lnTo>
                  <a:lnTo>
                    <a:pt x="2008" y="672"/>
                  </a:lnTo>
                  <a:lnTo>
                    <a:pt x="1994" y="730"/>
                  </a:lnTo>
                  <a:lnTo>
                    <a:pt x="1981" y="784"/>
                  </a:lnTo>
                  <a:lnTo>
                    <a:pt x="1976" y="812"/>
                  </a:lnTo>
                  <a:lnTo>
                    <a:pt x="1971" y="840"/>
                  </a:lnTo>
                  <a:lnTo>
                    <a:pt x="1969" y="869"/>
                  </a:lnTo>
                  <a:lnTo>
                    <a:pt x="1968" y="900"/>
                  </a:lnTo>
                  <a:lnTo>
                    <a:pt x="1969" y="915"/>
                  </a:lnTo>
                  <a:lnTo>
                    <a:pt x="1970" y="929"/>
                  </a:lnTo>
                  <a:lnTo>
                    <a:pt x="1974" y="941"/>
                  </a:lnTo>
                  <a:lnTo>
                    <a:pt x="1979" y="953"/>
                  </a:lnTo>
                  <a:lnTo>
                    <a:pt x="1984" y="963"/>
                  </a:lnTo>
                  <a:lnTo>
                    <a:pt x="1991" y="972"/>
                  </a:lnTo>
                  <a:lnTo>
                    <a:pt x="1998" y="980"/>
                  </a:lnTo>
                  <a:lnTo>
                    <a:pt x="2007" y="986"/>
                  </a:lnTo>
                  <a:lnTo>
                    <a:pt x="2017" y="991"/>
                  </a:lnTo>
                  <a:lnTo>
                    <a:pt x="2026" y="996"/>
                  </a:lnTo>
                  <a:lnTo>
                    <a:pt x="2037" y="999"/>
                  </a:lnTo>
                  <a:lnTo>
                    <a:pt x="2048" y="1000"/>
                  </a:lnTo>
                  <a:lnTo>
                    <a:pt x="2059" y="1001"/>
                  </a:lnTo>
                  <a:lnTo>
                    <a:pt x="2071" y="1000"/>
                  </a:lnTo>
                  <a:lnTo>
                    <a:pt x="2084" y="998"/>
                  </a:lnTo>
                  <a:lnTo>
                    <a:pt x="2095" y="994"/>
                  </a:lnTo>
                  <a:lnTo>
                    <a:pt x="2107" y="989"/>
                  </a:lnTo>
                  <a:lnTo>
                    <a:pt x="2120" y="983"/>
                  </a:lnTo>
                  <a:lnTo>
                    <a:pt x="2132" y="975"/>
                  </a:lnTo>
                  <a:lnTo>
                    <a:pt x="2145" y="967"/>
                  </a:lnTo>
                  <a:lnTo>
                    <a:pt x="2157" y="956"/>
                  </a:lnTo>
                  <a:lnTo>
                    <a:pt x="2168" y="944"/>
                  </a:lnTo>
                  <a:lnTo>
                    <a:pt x="2180" y="931"/>
                  </a:lnTo>
                  <a:lnTo>
                    <a:pt x="2191" y="917"/>
                  </a:lnTo>
                  <a:lnTo>
                    <a:pt x="2200" y="901"/>
                  </a:lnTo>
                  <a:lnTo>
                    <a:pt x="2210" y="883"/>
                  </a:lnTo>
                  <a:lnTo>
                    <a:pt x="2219" y="865"/>
                  </a:lnTo>
                  <a:lnTo>
                    <a:pt x="2226" y="845"/>
                  </a:lnTo>
                  <a:lnTo>
                    <a:pt x="2233" y="823"/>
                  </a:lnTo>
                  <a:lnTo>
                    <a:pt x="2239" y="799"/>
                  </a:lnTo>
                  <a:lnTo>
                    <a:pt x="2243" y="775"/>
                  </a:lnTo>
                  <a:lnTo>
                    <a:pt x="2247" y="748"/>
                  </a:lnTo>
                  <a:lnTo>
                    <a:pt x="2253" y="707"/>
                  </a:lnTo>
                  <a:lnTo>
                    <a:pt x="2261" y="668"/>
                  </a:lnTo>
                  <a:lnTo>
                    <a:pt x="2269" y="632"/>
                  </a:lnTo>
                  <a:lnTo>
                    <a:pt x="2278" y="599"/>
                  </a:lnTo>
                  <a:lnTo>
                    <a:pt x="2287" y="570"/>
                  </a:lnTo>
                  <a:lnTo>
                    <a:pt x="2296" y="546"/>
                  </a:lnTo>
                  <a:lnTo>
                    <a:pt x="2305" y="528"/>
                  </a:lnTo>
                  <a:lnTo>
                    <a:pt x="2313" y="515"/>
                  </a:lnTo>
                  <a:lnTo>
                    <a:pt x="2316" y="512"/>
                  </a:lnTo>
                  <a:lnTo>
                    <a:pt x="2319" y="511"/>
                  </a:lnTo>
                  <a:lnTo>
                    <a:pt x="2322" y="511"/>
                  </a:lnTo>
                  <a:lnTo>
                    <a:pt x="2324" y="513"/>
                  </a:lnTo>
                  <a:lnTo>
                    <a:pt x="2326" y="516"/>
                  </a:lnTo>
                  <a:lnTo>
                    <a:pt x="2327" y="523"/>
                  </a:lnTo>
                  <a:lnTo>
                    <a:pt x="2328" y="531"/>
                  </a:lnTo>
                  <a:lnTo>
                    <a:pt x="2327" y="542"/>
                  </a:lnTo>
                  <a:lnTo>
                    <a:pt x="2324" y="571"/>
                  </a:lnTo>
                  <a:lnTo>
                    <a:pt x="2319" y="610"/>
                  </a:lnTo>
                  <a:lnTo>
                    <a:pt x="2309" y="660"/>
                  </a:lnTo>
                  <a:lnTo>
                    <a:pt x="2296" y="721"/>
                  </a:lnTo>
                  <a:lnTo>
                    <a:pt x="2282" y="794"/>
                  </a:lnTo>
                  <a:lnTo>
                    <a:pt x="2274" y="851"/>
                  </a:lnTo>
                  <a:lnTo>
                    <a:pt x="2268" y="895"/>
                  </a:lnTo>
                  <a:lnTo>
                    <a:pt x="2266" y="928"/>
                  </a:lnTo>
                  <a:lnTo>
                    <a:pt x="2266" y="949"/>
                  </a:lnTo>
                  <a:lnTo>
                    <a:pt x="2267" y="962"/>
                  </a:lnTo>
                  <a:lnTo>
                    <a:pt x="2268" y="970"/>
                  </a:lnTo>
                  <a:lnTo>
                    <a:pt x="2269" y="971"/>
                  </a:lnTo>
                  <a:lnTo>
                    <a:pt x="2269" y="978"/>
                  </a:lnTo>
                  <a:lnTo>
                    <a:pt x="2269" y="998"/>
                  </a:lnTo>
                  <a:lnTo>
                    <a:pt x="2267" y="1027"/>
                  </a:lnTo>
                  <a:lnTo>
                    <a:pt x="2265" y="1062"/>
                  </a:lnTo>
                  <a:lnTo>
                    <a:pt x="2261" y="1098"/>
                  </a:lnTo>
                  <a:lnTo>
                    <a:pt x="2255" y="1135"/>
                  </a:lnTo>
                  <a:lnTo>
                    <a:pt x="2251" y="1152"/>
                  </a:lnTo>
                  <a:lnTo>
                    <a:pt x="2247" y="1169"/>
                  </a:lnTo>
                  <a:lnTo>
                    <a:pt x="2241" y="1181"/>
                  </a:lnTo>
                  <a:lnTo>
                    <a:pt x="2235" y="1193"/>
                  </a:lnTo>
                  <a:lnTo>
                    <a:pt x="2228" y="1206"/>
                  </a:lnTo>
                  <a:lnTo>
                    <a:pt x="2222" y="1225"/>
                  </a:lnTo>
                  <a:lnTo>
                    <a:pt x="2215" y="1246"/>
                  </a:lnTo>
                  <a:lnTo>
                    <a:pt x="2209" y="1271"/>
                  </a:lnTo>
                  <a:lnTo>
                    <a:pt x="2196" y="1331"/>
                  </a:lnTo>
                  <a:lnTo>
                    <a:pt x="2184" y="1394"/>
                  </a:lnTo>
                  <a:lnTo>
                    <a:pt x="2174" y="1459"/>
                  </a:lnTo>
                  <a:lnTo>
                    <a:pt x="2166" y="1520"/>
                  </a:lnTo>
                  <a:lnTo>
                    <a:pt x="2160" y="1569"/>
                  </a:lnTo>
                  <a:lnTo>
                    <a:pt x="2158" y="1604"/>
                  </a:lnTo>
                  <a:lnTo>
                    <a:pt x="2158" y="1631"/>
                  </a:lnTo>
                  <a:lnTo>
                    <a:pt x="2156" y="1659"/>
                  </a:lnTo>
                  <a:lnTo>
                    <a:pt x="2153" y="1689"/>
                  </a:lnTo>
                  <a:lnTo>
                    <a:pt x="2148" y="1723"/>
                  </a:lnTo>
                  <a:lnTo>
                    <a:pt x="2142" y="1758"/>
                  </a:lnTo>
                  <a:lnTo>
                    <a:pt x="2134" y="1797"/>
                  </a:lnTo>
                  <a:lnTo>
                    <a:pt x="2125" y="1839"/>
                  </a:lnTo>
                  <a:lnTo>
                    <a:pt x="2114" y="1883"/>
                  </a:lnTo>
                  <a:lnTo>
                    <a:pt x="2095" y="1952"/>
                  </a:lnTo>
                  <a:lnTo>
                    <a:pt x="2070" y="2054"/>
                  </a:lnTo>
                  <a:lnTo>
                    <a:pt x="2038" y="2179"/>
                  </a:lnTo>
                  <a:lnTo>
                    <a:pt x="2006" y="2312"/>
                  </a:lnTo>
                  <a:lnTo>
                    <a:pt x="1974" y="2440"/>
                  </a:lnTo>
                  <a:lnTo>
                    <a:pt x="1949" y="2547"/>
                  </a:lnTo>
                  <a:lnTo>
                    <a:pt x="1930" y="2622"/>
                  </a:lnTo>
                  <a:lnTo>
                    <a:pt x="1924" y="2650"/>
                  </a:lnTo>
                  <a:lnTo>
                    <a:pt x="1889" y="2664"/>
                  </a:lnTo>
                  <a:lnTo>
                    <a:pt x="1798" y="2703"/>
                  </a:lnTo>
                  <a:lnTo>
                    <a:pt x="1669" y="2757"/>
                  </a:lnTo>
                  <a:lnTo>
                    <a:pt x="1517" y="2818"/>
                  </a:lnTo>
                  <a:lnTo>
                    <a:pt x="1440" y="2847"/>
                  </a:lnTo>
                  <a:lnTo>
                    <a:pt x="1362" y="2876"/>
                  </a:lnTo>
                  <a:lnTo>
                    <a:pt x="1288" y="2901"/>
                  </a:lnTo>
                  <a:lnTo>
                    <a:pt x="1220" y="2922"/>
                  </a:lnTo>
                  <a:lnTo>
                    <a:pt x="1189" y="2932"/>
                  </a:lnTo>
                  <a:lnTo>
                    <a:pt x="1160" y="2940"/>
                  </a:lnTo>
                  <a:lnTo>
                    <a:pt x="1133" y="2946"/>
                  </a:lnTo>
                  <a:lnTo>
                    <a:pt x="1109" y="2952"/>
                  </a:lnTo>
                  <a:lnTo>
                    <a:pt x="1088" y="2954"/>
                  </a:lnTo>
                  <a:lnTo>
                    <a:pt x="1070" y="2955"/>
                  </a:lnTo>
                  <a:lnTo>
                    <a:pt x="1056" y="2955"/>
                  </a:lnTo>
                  <a:lnTo>
                    <a:pt x="1045" y="2952"/>
                  </a:lnTo>
                  <a:lnTo>
                    <a:pt x="1029" y="2944"/>
                  </a:lnTo>
                  <a:lnTo>
                    <a:pt x="1013" y="2940"/>
                  </a:lnTo>
                  <a:lnTo>
                    <a:pt x="997" y="2936"/>
                  </a:lnTo>
                  <a:lnTo>
                    <a:pt x="981" y="2936"/>
                  </a:lnTo>
                  <a:lnTo>
                    <a:pt x="965" y="2938"/>
                  </a:lnTo>
                  <a:lnTo>
                    <a:pt x="949" y="2940"/>
                  </a:lnTo>
                  <a:lnTo>
                    <a:pt x="934" y="2944"/>
                  </a:lnTo>
                  <a:lnTo>
                    <a:pt x="920" y="2948"/>
                  </a:lnTo>
                  <a:lnTo>
                    <a:pt x="891" y="2960"/>
                  </a:lnTo>
                  <a:lnTo>
                    <a:pt x="863" y="2973"/>
                  </a:lnTo>
                  <a:lnTo>
                    <a:pt x="836" y="2986"/>
                  </a:lnTo>
                  <a:lnTo>
                    <a:pt x="811" y="2996"/>
                  </a:lnTo>
                  <a:lnTo>
                    <a:pt x="797" y="2999"/>
                  </a:lnTo>
                  <a:lnTo>
                    <a:pt x="781" y="3001"/>
                  </a:lnTo>
                  <a:lnTo>
                    <a:pt x="763" y="3002"/>
                  </a:lnTo>
                  <a:lnTo>
                    <a:pt x="744" y="3002"/>
                  </a:lnTo>
                  <a:lnTo>
                    <a:pt x="725" y="3001"/>
                  </a:lnTo>
                  <a:lnTo>
                    <a:pt x="704" y="2999"/>
                  </a:lnTo>
                  <a:lnTo>
                    <a:pt x="684" y="2996"/>
                  </a:lnTo>
                  <a:lnTo>
                    <a:pt x="663" y="2993"/>
                  </a:lnTo>
                  <a:lnTo>
                    <a:pt x="644" y="2987"/>
                  </a:lnTo>
                  <a:lnTo>
                    <a:pt x="626" y="2983"/>
                  </a:lnTo>
                  <a:lnTo>
                    <a:pt x="609" y="2976"/>
                  </a:lnTo>
                  <a:lnTo>
                    <a:pt x="595" y="2970"/>
                  </a:lnTo>
                  <a:lnTo>
                    <a:pt x="583" y="2962"/>
                  </a:lnTo>
                  <a:lnTo>
                    <a:pt x="573" y="2955"/>
                  </a:lnTo>
                  <a:lnTo>
                    <a:pt x="570" y="2952"/>
                  </a:lnTo>
                  <a:lnTo>
                    <a:pt x="568" y="2947"/>
                  </a:lnTo>
                  <a:lnTo>
                    <a:pt x="567" y="2943"/>
                  </a:lnTo>
                  <a:lnTo>
                    <a:pt x="566" y="2939"/>
                  </a:lnTo>
                  <a:lnTo>
                    <a:pt x="566" y="2931"/>
                  </a:lnTo>
                  <a:lnTo>
                    <a:pt x="564" y="2924"/>
                  </a:lnTo>
                  <a:lnTo>
                    <a:pt x="561" y="2916"/>
                  </a:lnTo>
                  <a:lnTo>
                    <a:pt x="557" y="2911"/>
                  </a:lnTo>
                  <a:lnTo>
                    <a:pt x="553" y="2904"/>
                  </a:lnTo>
                  <a:lnTo>
                    <a:pt x="547" y="2900"/>
                  </a:lnTo>
                  <a:lnTo>
                    <a:pt x="540" y="2895"/>
                  </a:lnTo>
                  <a:lnTo>
                    <a:pt x="532" y="2892"/>
                  </a:lnTo>
                  <a:lnTo>
                    <a:pt x="524" y="2889"/>
                  </a:lnTo>
                  <a:lnTo>
                    <a:pt x="514" y="2887"/>
                  </a:lnTo>
                  <a:lnTo>
                    <a:pt x="503" y="2886"/>
                  </a:lnTo>
                  <a:lnTo>
                    <a:pt x="491" y="2886"/>
                  </a:lnTo>
                  <a:lnTo>
                    <a:pt x="478" y="2887"/>
                  </a:lnTo>
                  <a:lnTo>
                    <a:pt x="464" y="2888"/>
                  </a:lnTo>
                  <a:lnTo>
                    <a:pt x="449" y="2891"/>
                  </a:lnTo>
                  <a:lnTo>
                    <a:pt x="433" y="2894"/>
                  </a:lnTo>
                  <a:lnTo>
                    <a:pt x="416" y="2898"/>
                  </a:lnTo>
                  <a:lnTo>
                    <a:pt x="398" y="2901"/>
                  </a:lnTo>
                  <a:lnTo>
                    <a:pt x="382" y="2902"/>
                  </a:lnTo>
                  <a:lnTo>
                    <a:pt x="366" y="2902"/>
                  </a:lnTo>
                  <a:lnTo>
                    <a:pt x="350" y="2902"/>
                  </a:lnTo>
                  <a:lnTo>
                    <a:pt x="334" y="2901"/>
                  </a:lnTo>
                  <a:lnTo>
                    <a:pt x="319" y="2900"/>
                  </a:lnTo>
                  <a:lnTo>
                    <a:pt x="305" y="2898"/>
                  </a:lnTo>
                  <a:lnTo>
                    <a:pt x="281" y="2893"/>
                  </a:lnTo>
                  <a:lnTo>
                    <a:pt x="261" y="2889"/>
                  </a:lnTo>
                  <a:lnTo>
                    <a:pt x="249" y="2886"/>
                  </a:lnTo>
                  <a:lnTo>
                    <a:pt x="245" y="2885"/>
                  </a:lnTo>
                  <a:lnTo>
                    <a:pt x="0" y="1661"/>
                  </a:lnTo>
                  <a:lnTo>
                    <a:pt x="311" y="1115"/>
                  </a:lnTo>
                  <a:lnTo>
                    <a:pt x="315" y="1106"/>
                  </a:lnTo>
                  <a:lnTo>
                    <a:pt x="326" y="1080"/>
                  </a:lnTo>
                  <a:lnTo>
                    <a:pt x="341" y="1039"/>
                  </a:lnTo>
                  <a:lnTo>
                    <a:pt x="359" y="984"/>
                  </a:lnTo>
                  <a:lnTo>
                    <a:pt x="369" y="953"/>
                  </a:lnTo>
                  <a:lnTo>
                    <a:pt x="379" y="918"/>
                  </a:lnTo>
                  <a:lnTo>
                    <a:pt x="389" y="881"/>
                  </a:lnTo>
                  <a:lnTo>
                    <a:pt x="398" y="842"/>
                  </a:lnTo>
                  <a:lnTo>
                    <a:pt x="406" y="801"/>
                  </a:lnTo>
                  <a:lnTo>
                    <a:pt x="413" y="759"/>
                  </a:lnTo>
                  <a:lnTo>
                    <a:pt x="420" y="715"/>
                  </a:lnTo>
                  <a:lnTo>
                    <a:pt x="425" y="670"/>
                  </a:lnTo>
                  <a:lnTo>
                    <a:pt x="433" y="587"/>
                  </a:lnTo>
                  <a:lnTo>
                    <a:pt x="442" y="524"/>
                  </a:lnTo>
                  <a:lnTo>
                    <a:pt x="449" y="473"/>
                  </a:lnTo>
                  <a:lnTo>
                    <a:pt x="455" y="432"/>
                  </a:lnTo>
                  <a:lnTo>
                    <a:pt x="459" y="398"/>
                  </a:lnTo>
                  <a:lnTo>
                    <a:pt x="461" y="367"/>
                  </a:lnTo>
                  <a:lnTo>
                    <a:pt x="462" y="352"/>
                  </a:lnTo>
                  <a:lnTo>
                    <a:pt x="461" y="337"/>
                  </a:lnTo>
                  <a:lnTo>
                    <a:pt x="460" y="320"/>
                  </a:lnTo>
                  <a:lnTo>
                    <a:pt x="457" y="301"/>
                  </a:lnTo>
                  <a:lnTo>
                    <a:pt x="456" y="281"/>
                  </a:lnTo>
                  <a:lnTo>
                    <a:pt x="456" y="262"/>
                  </a:lnTo>
                  <a:lnTo>
                    <a:pt x="457" y="246"/>
                  </a:lnTo>
                  <a:lnTo>
                    <a:pt x="459" y="233"/>
                  </a:lnTo>
                  <a:lnTo>
                    <a:pt x="462" y="224"/>
                  </a:lnTo>
                  <a:lnTo>
                    <a:pt x="465" y="216"/>
                  </a:lnTo>
                  <a:lnTo>
                    <a:pt x="470" y="211"/>
                  </a:lnTo>
                  <a:lnTo>
                    <a:pt x="474" y="207"/>
                  </a:lnTo>
                  <a:lnTo>
                    <a:pt x="476" y="206"/>
                  </a:lnTo>
                  <a:lnTo>
                    <a:pt x="479" y="206"/>
                  </a:lnTo>
                  <a:lnTo>
                    <a:pt x="482" y="207"/>
                  </a:lnTo>
                  <a:lnTo>
                    <a:pt x="484" y="208"/>
                  </a:lnTo>
                  <a:lnTo>
                    <a:pt x="488" y="212"/>
                  </a:lnTo>
                  <a:lnTo>
                    <a:pt x="493" y="218"/>
                  </a:lnTo>
                  <a:lnTo>
                    <a:pt x="497" y="226"/>
                  </a:lnTo>
                  <a:lnTo>
                    <a:pt x="500" y="235"/>
                  </a:lnTo>
                  <a:lnTo>
                    <a:pt x="503" y="246"/>
                  </a:lnTo>
                  <a:lnTo>
                    <a:pt x="504" y="259"/>
                  </a:lnTo>
                  <a:lnTo>
                    <a:pt x="504" y="296"/>
                  </a:lnTo>
                  <a:lnTo>
                    <a:pt x="505" y="328"/>
                  </a:lnTo>
                  <a:lnTo>
                    <a:pt x="507" y="359"/>
                  </a:lnTo>
                  <a:lnTo>
                    <a:pt x="510" y="387"/>
                  </a:lnTo>
                  <a:lnTo>
                    <a:pt x="513" y="411"/>
                  </a:lnTo>
                  <a:lnTo>
                    <a:pt x="517" y="434"/>
                  </a:lnTo>
                  <a:lnTo>
                    <a:pt x="521" y="455"/>
                  </a:lnTo>
                  <a:lnTo>
                    <a:pt x="526" y="472"/>
                  </a:lnTo>
                  <a:lnTo>
                    <a:pt x="531" y="488"/>
                  </a:lnTo>
                  <a:lnTo>
                    <a:pt x="537" y="502"/>
                  </a:lnTo>
                  <a:lnTo>
                    <a:pt x="542" y="514"/>
                  </a:lnTo>
                  <a:lnTo>
                    <a:pt x="547" y="524"/>
                  </a:lnTo>
                  <a:lnTo>
                    <a:pt x="554" y="532"/>
                  </a:lnTo>
                  <a:lnTo>
                    <a:pt x="560" y="539"/>
                  </a:lnTo>
                  <a:lnTo>
                    <a:pt x="567" y="545"/>
                  </a:lnTo>
                  <a:lnTo>
                    <a:pt x="573" y="550"/>
                  </a:lnTo>
                  <a:lnTo>
                    <a:pt x="580" y="553"/>
                  </a:lnTo>
                  <a:lnTo>
                    <a:pt x="586" y="555"/>
                  </a:lnTo>
                  <a:lnTo>
                    <a:pt x="593" y="556"/>
                  </a:lnTo>
                  <a:lnTo>
                    <a:pt x="599" y="556"/>
                  </a:lnTo>
                  <a:lnTo>
                    <a:pt x="610" y="555"/>
                  </a:lnTo>
                  <a:lnTo>
                    <a:pt x="621" y="552"/>
                  </a:lnTo>
                  <a:lnTo>
                    <a:pt x="637" y="543"/>
                  </a:lnTo>
                  <a:lnTo>
                    <a:pt x="642" y="539"/>
                  </a:lnTo>
                  <a:lnTo>
                    <a:pt x="649" y="535"/>
                  </a:lnTo>
                  <a:lnTo>
                    <a:pt x="664" y="523"/>
                  </a:lnTo>
                  <a:lnTo>
                    <a:pt x="675" y="513"/>
                  </a:lnTo>
                  <a:lnTo>
                    <a:pt x="687" y="500"/>
                  </a:lnTo>
                  <a:lnTo>
                    <a:pt x="699" y="485"/>
                  </a:lnTo>
                  <a:lnTo>
                    <a:pt x="711" y="468"/>
                  </a:lnTo>
                  <a:lnTo>
                    <a:pt x="717" y="457"/>
                  </a:lnTo>
                  <a:lnTo>
                    <a:pt x="722" y="446"/>
                  </a:lnTo>
                  <a:lnTo>
                    <a:pt x="729" y="434"/>
                  </a:lnTo>
                  <a:lnTo>
                    <a:pt x="734" y="421"/>
                  </a:lnTo>
                  <a:lnTo>
                    <a:pt x="739" y="408"/>
                  </a:lnTo>
                  <a:lnTo>
                    <a:pt x="744" y="393"/>
                  </a:lnTo>
                  <a:lnTo>
                    <a:pt x="748" y="378"/>
                  </a:lnTo>
                  <a:lnTo>
                    <a:pt x="752" y="362"/>
                  </a:lnTo>
                  <a:lnTo>
                    <a:pt x="756" y="344"/>
                  </a:lnTo>
                  <a:lnTo>
                    <a:pt x="758" y="326"/>
                  </a:lnTo>
                  <a:lnTo>
                    <a:pt x="760" y="307"/>
                  </a:lnTo>
                  <a:lnTo>
                    <a:pt x="761" y="286"/>
                  </a:lnTo>
                  <a:lnTo>
                    <a:pt x="762" y="266"/>
                  </a:lnTo>
                  <a:lnTo>
                    <a:pt x="762" y="243"/>
                  </a:lnTo>
                  <a:lnTo>
                    <a:pt x="761" y="219"/>
                  </a:lnTo>
                  <a:lnTo>
                    <a:pt x="759" y="195"/>
                  </a:lnTo>
                  <a:lnTo>
                    <a:pt x="759" y="192"/>
                  </a:lnTo>
                  <a:lnTo>
                    <a:pt x="759" y="191"/>
                  </a:lnTo>
                  <a:lnTo>
                    <a:pt x="760" y="191"/>
                  </a:lnTo>
                  <a:lnTo>
                    <a:pt x="761" y="191"/>
                  </a:lnTo>
                  <a:lnTo>
                    <a:pt x="765" y="197"/>
                  </a:lnTo>
                  <a:lnTo>
                    <a:pt x="768" y="205"/>
                  </a:lnTo>
                  <a:lnTo>
                    <a:pt x="778" y="233"/>
                  </a:lnTo>
                  <a:lnTo>
                    <a:pt x="790" y="270"/>
                  </a:lnTo>
                  <a:lnTo>
                    <a:pt x="805" y="313"/>
                  </a:lnTo>
                  <a:lnTo>
                    <a:pt x="820" y="359"/>
                  </a:lnTo>
                  <a:lnTo>
                    <a:pt x="834" y="403"/>
                  </a:lnTo>
                  <a:lnTo>
                    <a:pt x="848" y="440"/>
                  </a:lnTo>
                  <a:lnTo>
                    <a:pt x="864" y="482"/>
                  </a:lnTo>
                  <a:lnTo>
                    <a:pt x="887" y="536"/>
                  </a:lnTo>
                  <a:lnTo>
                    <a:pt x="915" y="595"/>
                  </a:lnTo>
                  <a:lnTo>
                    <a:pt x="943" y="654"/>
                  </a:lnTo>
                  <a:lnTo>
                    <a:pt x="957" y="681"/>
                  </a:lnTo>
                  <a:lnTo>
                    <a:pt x="971" y="706"/>
                  </a:lnTo>
                  <a:lnTo>
                    <a:pt x="984" y="728"/>
                  </a:lnTo>
                  <a:lnTo>
                    <a:pt x="996" y="745"/>
                  </a:lnTo>
                  <a:lnTo>
                    <a:pt x="1000" y="753"/>
                  </a:lnTo>
                  <a:lnTo>
                    <a:pt x="1005" y="758"/>
                  </a:lnTo>
                  <a:lnTo>
                    <a:pt x="1010" y="762"/>
                  </a:lnTo>
                  <a:lnTo>
                    <a:pt x="1014" y="765"/>
                  </a:lnTo>
                  <a:lnTo>
                    <a:pt x="1017" y="766"/>
                  </a:lnTo>
                  <a:lnTo>
                    <a:pt x="1019" y="766"/>
                  </a:lnTo>
                  <a:lnTo>
                    <a:pt x="1022" y="764"/>
                  </a:lnTo>
                  <a:lnTo>
                    <a:pt x="1024" y="759"/>
                  </a:lnTo>
                  <a:close/>
                </a:path>
              </a:pathLst>
            </a:custGeom>
            <a:solidFill>
              <a:srgbClr val="5981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329080" y="2482920"/>
              <a:ext cx="735120" cy="936720"/>
            </a:xfrm>
            <a:custGeom>
              <a:avLst/>
              <a:gdLst/>
              <a:ahLst/>
              <a:rect l="l" t="t" r="r" b="b"/>
              <a:pathLst>
                <a:path w="2316" h="2952">
                  <a:moveTo>
                    <a:pt x="1028" y="783"/>
                  </a:moveTo>
                  <a:lnTo>
                    <a:pt x="1031" y="772"/>
                  </a:lnTo>
                  <a:lnTo>
                    <a:pt x="1036" y="761"/>
                  </a:lnTo>
                  <a:lnTo>
                    <a:pt x="1041" y="748"/>
                  </a:lnTo>
                  <a:lnTo>
                    <a:pt x="1048" y="735"/>
                  </a:lnTo>
                  <a:lnTo>
                    <a:pt x="1055" y="720"/>
                  </a:lnTo>
                  <a:lnTo>
                    <a:pt x="1063" y="702"/>
                  </a:lnTo>
                  <a:lnTo>
                    <a:pt x="1071" y="682"/>
                  </a:lnTo>
                  <a:lnTo>
                    <a:pt x="1080" y="660"/>
                  </a:lnTo>
                  <a:lnTo>
                    <a:pt x="1089" y="634"/>
                  </a:lnTo>
                  <a:lnTo>
                    <a:pt x="1097" y="603"/>
                  </a:lnTo>
                  <a:lnTo>
                    <a:pt x="1105" y="570"/>
                  </a:lnTo>
                  <a:lnTo>
                    <a:pt x="1111" y="532"/>
                  </a:lnTo>
                  <a:lnTo>
                    <a:pt x="1117" y="489"/>
                  </a:lnTo>
                  <a:lnTo>
                    <a:pt x="1121" y="441"/>
                  </a:lnTo>
                  <a:lnTo>
                    <a:pt x="1123" y="387"/>
                  </a:lnTo>
                  <a:lnTo>
                    <a:pt x="1124" y="328"/>
                  </a:lnTo>
                  <a:lnTo>
                    <a:pt x="1122" y="280"/>
                  </a:lnTo>
                  <a:lnTo>
                    <a:pt x="1117" y="219"/>
                  </a:lnTo>
                  <a:lnTo>
                    <a:pt x="1111" y="154"/>
                  </a:lnTo>
                  <a:lnTo>
                    <a:pt x="1106" y="94"/>
                  </a:lnTo>
                  <a:lnTo>
                    <a:pt x="1105" y="69"/>
                  </a:lnTo>
                  <a:lnTo>
                    <a:pt x="1105" y="49"/>
                  </a:lnTo>
                  <a:lnTo>
                    <a:pt x="1106" y="42"/>
                  </a:lnTo>
                  <a:lnTo>
                    <a:pt x="1107" y="36"/>
                  </a:lnTo>
                  <a:lnTo>
                    <a:pt x="1108" y="32"/>
                  </a:lnTo>
                  <a:lnTo>
                    <a:pt x="1110" y="31"/>
                  </a:lnTo>
                  <a:lnTo>
                    <a:pt x="1112" y="31"/>
                  </a:lnTo>
                  <a:lnTo>
                    <a:pt x="1116" y="34"/>
                  </a:lnTo>
                  <a:lnTo>
                    <a:pt x="1119" y="39"/>
                  </a:lnTo>
                  <a:lnTo>
                    <a:pt x="1123" y="47"/>
                  </a:lnTo>
                  <a:lnTo>
                    <a:pt x="1134" y="71"/>
                  </a:lnTo>
                  <a:lnTo>
                    <a:pt x="1147" y="108"/>
                  </a:lnTo>
                  <a:lnTo>
                    <a:pt x="1160" y="152"/>
                  </a:lnTo>
                  <a:lnTo>
                    <a:pt x="1171" y="196"/>
                  </a:lnTo>
                  <a:lnTo>
                    <a:pt x="1180" y="239"/>
                  </a:lnTo>
                  <a:lnTo>
                    <a:pt x="1187" y="283"/>
                  </a:lnTo>
                  <a:lnTo>
                    <a:pt x="1192" y="325"/>
                  </a:lnTo>
                  <a:lnTo>
                    <a:pt x="1196" y="366"/>
                  </a:lnTo>
                  <a:lnTo>
                    <a:pt x="1198" y="406"/>
                  </a:lnTo>
                  <a:lnTo>
                    <a:pt x="1199" y="446"/>
                  </a:lnTo>
                  <a:lnTo>
                    <a:pt x="1199" y="483"/>
                  </a:lnTo>
                  <a:lnTo>
                    <a:pt x="1198" y="519"/>
                  </a:lnTo>
                  <a:lnTo>
                    <a:pt x="1196" y="555"/>
                  </a:lnTo>
                  <a:lnTo>
                    <a:pt x="1192" y="587"/>
                  </a:lnTo>
                  <a:lnTo>
                    <a:pt x="1189" y="618"/>
                  </a:lnTo>
                  <a:lnTo>
                    <a:pt x="1185" y="648"/>
                  </a:lnTo>
                  <a:lnTo>
                    <a:pt x="1180" y="675"/>
                  </a:lnTo>
                  <a:lnTo>
                    <a:pt x="1176" y="698"/>
                  </a:lnTo>
                  <a:lnTo>
                    <a:pt x="1171" y="724"/>
                  </a:lnTo>
                  <a:lnTo>
                    <a:pt x="1163" y="753"/>
                  </a:lnTo>
                  <a:lnTo>
                    <a:pt x="1155" y="786"/>
                  </a:lnTo>
                  <a:lnTo>
                    <a:pt x="1144" y="823"/>
                  </a:lnTo>
                  <a:lnTo>
                    <a:pt x="1133" y="860"/>
                  </a:lnTo>
                  <a:lnTo>
                    <a:pt x="1122" y="900"/>
                  </a:lnTo>
                  <a:lnTo>
                    <a:pt x="1112" y="940"/>
                  </a:lnTo>
                  <a:lnTo>
                    <a:pt x="1104" y="981"/>
                  </a:lnTo>
                  <a:lnTo>
                    <a:pt x="1101" y="1002"/>
                  </a:lnTo>
                  <a:lnTo>
                    <a:pt x="1097" y="1021"/>
                  </a:lnTo>
                  <a:lnTo>
                    <a:pt x="1095" y="1041"/>
                  </a:lnTo>
                  <a:lnTo>
                    <a:pt x="1094" y="1060"/>
                  </a:lnTo>
                  <a:lnTo>
                    <a:pt x="1093" y="1080"/>
                  </a:lnTo>
                  <a:lnTo>
                    <a:pt x="1093" y="1098"/>
                  </a:lnTo>
                  <a:lnTo>
                    <a:pt x="1094" y="1115"/>
                  </a:lnTo>
                  <a:lnTo>
                    <a:pt x="1096" y="1133"/>
                  </a:lnTo>
                  <a:lnTo>
                    <a:pt x="1099" y="1148"/>
                  </a:lnTo>
                  <a:lnTo>
                    <a:pt x="1104" y="1163"/>
                  </a:lnTo>
                  <a:lnTo>
                    <a:pt x="1109" y="1178"/>
                  </a:lnTo>
                  <a:lnTo>
                    <a:pt x="1117" y="1191"/>
                  </a:lnTo>
                  <a:lnTo>
                    <a:pt x="1125" y="1203"/>
                  </a:lnTo>
                  <a:lnTo>
                    <a:pt x="1135" y="1214"/>
                  </a:lnTo>
                  <a:lnTo>
                    <a:pt x="1146" y="1222"/>
                  </a:lnTo>
                  <a:lnTo>
                    <a:pt x="1159" y="1231"/>
                  </a:lnTo>
                  <a:lnTo>
                    <a:pt x="1165" y="1233"/>
                  </a:lnTo>
                  <a:lnTo>
                    <a:pt x="1173" y="1232"/>
                  </a:lnTo>
                  <a:lnTo>
                    <a:pt x="1180" y="1231"/>
                  </a:lnTo>
                  <a:lnTo>
                    <a:pt x="1189" y="1227"/>
                  </a:lnTo>
                  <a:lnTo>
                    <a:pt x="1199" y="1220"/>
                  </a:lnTo>
                  <a:lnTo>
                    <a:pt x="1209" y="1212"/>
                  </a:lnTo>
                  <a:lnTo>
                    <a:pt x="1219" y="1203"/>
                  </a:lnTo>
                  <a:lnTo>
                    <a:pt x="1230" y="1192"/>
                  </a:lnTo>
                  <a:lnTo>
                    <a:pt x="1255" y="1166"/>
                  </a:lnTo>
                  <a:lnTo>
                    <a:pt x="1280" y="1136"/>
                  </a:lnTo>
                  <a:lnTo>
                    <a:pt x="1307" y="1101"/>
                  </a:lnTo>
                  <a:lnTo>
                    <a:pt x="1333" y="1063"/>
                  </a:lnTo>
                  <a:lnTo>
                    <a:pt x="1360" y="1023"/>
                  </a:lnTo>
                  <a:lnTo>
                    <a:pt x="1386" y="981"/>
                  </a:lnTo>
                  <a:lnTo>
                    <a:pt x="1409" y="940"/>
                  </a:lnTo>
                  <a:lnTo>
                    <a:pt x="1432" y="898"/>
                  </a:lnTo>
                  <a:lnTo>
                    <a:pt x="1453" y="858"/>
                  </a:lnTo>
                  <a:lnTo>
                    <a:pt x="1471" y="820"/>
                  </a:lnTo>
                  <a:lnTo>
                    <a:pt x="1479" y="802"/>
                  </a:lnTo>
                  <a:lnTo>
                    <a:pt x="1485" y="785"/>
                  </a:lnTo>
                  <a:lnTo>
                    <a:pt x="1490" y="769"/>
                  </a:lnTo>
                  <a:lnTo>
                    <a:pt x="1496" y="753"/>
                  </a:lnTo>
                  <a:lnTo>
                    <a:pt x="1510" y="697"/>
                  </a:lnTo>
                  <a:lnTo>
                    <a:pt x="1523" y="644"/>
                  </a:lnTo>
                  <a:lnTo>
                    <a:pt x="1534" y="594"/>
                  </a:lnTo>
                  <a:lnTo>
                    <a:pt x="1546" y="543"/>
                  </a:lnTo>
                  <a:lnTo>
                    <a:pt x="1552" y="516"/>
                  </a:lnTo>
                  <a:lnTo>
                    <a:pt x="1560" y="489"/>
                  </a:lnTo>
                  <a:lnTo>
                    <a:pt x="1567" y="462"/>
                  </a:lnTo>
                  <a:lnTo>
                    <a:pt x="1577" y="432"/>
                  </a:lnTo>
                  <a:lnTo>
                    <a:pt x="1588" y="401"/>
                  </a:lnTo>
                  <a:lnTo>
                    <a:pt x="1600" y="369"/>
                  </a:lnTo>
                  <a:lnTo>
                    <a:pt x="1614" y="334"/>
                  </a:lnTo>
                  <a:lnTo>
                    <a:pt x="1629" y="299"/>
                  </a:lnTo>
                  <a:lnTo>
                    <a:pt x="1644" y="264"/>
                  </a:lnTo>
                  <a:lnTo>
                    <a:pt x="1656" y="235"/>
                  </a:lnTo>
                  <a:lnTo>
                    <a:pt x="1664" y="211"/>
                  </a:lnTo>
                  <a:lnTo>
                    <a:pt x="1672" y="192"/>
                  </a:lnTo>
                  <a:lnTo>
                    <a:pt x="1676" y="177"/>
                  </a:lnTo>
                  <a:lnTo>
                    <a:pt x="1680" y="164"/>
                  </a:lnTo>
                  <a:lnTo>
                    <a:pt x="1681" y="153"/>
                  </a:lnTo>
                  <a:lnTo>
                    <a:pt x="1682" y="143"/>
                  </a:lnTo>
                  <a:lnTo>
                    <a:pt x="1682" y="127"/>
                  </a:lnTo>
                  <a:lnTo>
                    <a:pt x="1684" y="108"/>
                  </a:lnTo>
                  <a:lnTo>
                    <a:pt x="1685" y="96"/>
                  </a:lnTo>
                  <a:lnTo>
                    <a:pt x="1688" y="81"/>
                  </a:lnTo>
                  <a:lnTo>
                    <a:pt x="1694" y="61"/>
                  </a:lnTo>
                  <a:lnTo>
                    <a:pt x="1701" y="39"/>
                  </a:lnTo>
                  <a:lnTo>
                    <a:pt x="1704" y="28"/>
                  </a:lnTo>
                  <a:lnTo>
                    <a:pt x="1709" y="18"/>
                  </a:lnTo>
                  <a:lnTo>
                    <a:pt x="1713" y="10"/>
                  </a:lnTo>
                  <a:lnTo>
                    <a:pt x="1716" y="5"/>
                  </a:lnTo>
                  <a:lnTo>
                    <a:pt x="1720" y="2"/>
                  </a:lnTo>
                  <a:lnTo>
                    <a:pt x="1723" y="0"/>
                  </a:lnTo>
                  <a:lnTo>
                    <a:pt x="1726" y="0"/>
                  </a:lnTo>
                  <a:lnTo>
                    <a:pt x="1728" y="2"/>
                  </a:lnTo>
                  <a:lnTo>
                    <a:pt x="1730" y="5"/>
                  </a:lnTo>
                  <a:lnTo>
                    <a:pt x="1732" y="9"/>
                  </a:lnTo>
                  <a:lnTo>
                    <a:pt x="1735" y="16"/>
                  </a:lnTo>
                  <a:lnTo>
                    <a:pt x="1737" y="22"/>
                  </a:lnTo>
                  <a:lnTo>
                    <a:pt x="1739" y="42"/>
                  </a:lnTo>
                  <a:lnTo>
                    <a:pt x="1740" y="64"/>
                  </a:lnTo>
                  <a:lnTo>
                    <a:pt x="1740" y="93"/>
                  </a:lnTo>
                  <a:lnTo>
                    <a:pt x="1739" y="123"/>
                  </a:lnTo>
                  <a:lnTo>
                    <a:pt x="1737" y="157"/>
                  </a:lnTo>
                  <a:lnTo>
                    <a:pt x="1732" y="193"/>
                  </a:lnTo>
                  <a:lnTo>
                    <a:pt x="1726" y="231"/>
                  </a:lnTo>
                  <a:lnTo>
                    <a:pt x="1718" y="271"/>
                  </a:lnTo>
                  <a:lnTo>
                    <a:pt x="1710" y="311"/>
                  </a:lnTo>
                  <a:lnTo>
                    <a:pt x="1698" y="351"/>
                  </a:lnTo>
                  <a:lnTo>
                    <a:pt x="1675" y="426"/>
                  </a:lnTo>
                  <a:lnTo>
                    <a:pt x="1656" y="498"/>
                  </a:lnTo>
                  <a:lnTo>
                    <a:pt x="1640" y="563"/>
                  </a:lnTo>
                  <a:lnTo>
                    <a:pt x="1627" y="624"/>
                  </a:lnTo>
                  <a:lnTo>
                    <a:pt x="1621" y="651"/>
                  </a:lnTo>
                  <a:lnTo>
                    <a:pt x="1617" y="678"/>
                  </a:lnTo>
                  <a:lnTo>
                    <a:pt x="1614" y="703"/>
                  </a:lnTo>
                  <a:lnTo>
                    <a:pt x="1610" y="726"/>
                  </a:lnTo>
                  <a:lnTo>
                    <a:pt x="1609" y="748"/>
                  </a:lnTo>
                  <a:lnTo>
                    <a:pt x="1608" y="769"/>
                  </a:lnTo>
                  <a:lnTo>
                    <a:pt x="1608" y="788"/>
                  </a:lnTo>
                  <a:lnTo>
                    <a:pt x="1609" y="804"/>
                  </a:lnTo>
                  <a:lnTo>
                    <a:pt x="1611" y="820"/>
                  </a:lnTo>
                  <a:lnTo>
                    <a:pt x="1615" y="833"/>
                  </a:lnTo>
                  <a:lnTo>
                    <a:pt x="1618" y="845"/>
                  </a:lnTo>
                  <a:lnTo>
                    <a:pt x="1623" y="856"/>
                  </a:lnTo>
                  <a:lnTo>
                    <a:pt x="1629" y="864"/>
                  </a:lnTo>
                  <a:lnTo>
                    <a:pt x="1636" y="870"/>
                  </a:lnTo>
                  <a:lnTo>
                    <a:pt x="1644" y="874"/>
                  </a:lnTo>
                  <a:lnTo>
                    <a:pt x="1654" y="878"/>
                  </a:lnTo>
                  <a:lnTo>
                    <a:pt x="1663" y="878"/>
                  </a:lnTo>
                  <a:lnTo>
                    <a:pt x="1674" y="877"/>
                  </a:lnTo>
                  <a:lnTo>
                    <a:pt x="1687" y="873"/>
                  </a:lnTo>
                  <a:lnTo>
                    <a:pt x="1700" y="868"/>
                  </a:lnTo>
                  <a:lnTo>
                    <a:pt x="1714" y="860"/>
                  </a:lnTo>
                  <a:lnTo>
                    <a:pt x="1730" y="851"/>
                  </a:lnTo>
                  <a:lnTo>
                    <a:pt x="1748" y="839"/>
                  </a:lnTo>
                  <a:lnTo>
                    <a:pt x="1765" y="825"/>
                  </a:lnTo>
                  <a:lnTo>
                    <a:pt x="1788" y="805"/>
                  </a:lnTo>
                  <a:lnTo>
                    <a:pt x="1808" y="785"/>
                  </a:lnTo>
                  <a:lnTo>
                    <a:pt x="1829" y="761"/>
                  </a:lnTo>
                  <a:lnTo>
                    <a:pt x="1847" y="737"/>
                  </a:lnTo>
                  <a:lnTo>
                    <a:pt x="1864" y="711"/>
                  </a:lnTo>
                  <a:lnTo>
                    <a:pt x="1880" y="684"/>
                  </a:lnTo>
                  <a:lnTo>
                    <a:pt x="1895" y="656"/>
                  </a:lnTo>
                  <a:lnTo>
                    <a:pt x="1909" y="628"/>
                  </a:lnTo>
                  <a:lnTo>
                    <a:pt x="1922" y="600"/>
                  </a:lnTo>
                  <a:lnTo>
                    <a:pt x="1933" y="571"/>
                  </a:lnTo>
                  <a:lnTo>
                    <a:pt x="1943" y="543"/>
                  </a:lnTo>
                  <a:lnTo>
                    <a:pt x="1953" y="514"/>
                  </a:lnTo>
                  <a:lnTo>
                    <a:pt x="1970" y="460"/>
                  </a:lnTo>
                  <a:lnTo>
                    <a:pt x="1984" y="409"/>
                  </a:lnTo>
                  <a:lnTo>
                    <a:pt x="2004" y="326"/>
                  </a:lnTo>
                  <a:lnTo>
                    <a:pt x="2015" y="282"/>
                  </a:lnTo>
                  <a:lnTo>
                    <a:pt x="2018" y="278"/>
                  </a:lnTo>
                  <a:lnTo>
                    <a:pt x="2020" y="277"/>
                  </a:lnTo>
                  <a:lnTo>
                    <a:pt x="2021" y="282"/>
                  </a:lnTo>
                  <a:lnTo>
                    <a:pt x="2022" y="289"/>
                  </a:lnTo>
                  <a:lnTo>
                    <a:pt x="2025" y="316"/>
                  </a:lnTo>
                  <a:lnTo>
                    <a:pt x="2027" y="363"/>
                  </a:lnTo>
                  <a:lnTo>
                    <a:pt x="2027" y="391"/>
                  </a:lnTo>
                  <a:lnTo>
                    <a:pt x="2027" y="417"/>
                  </a:lnTo>
                  <a:lnTo>
                    <a:pt x="2027" y="442"/>
                  </a:lnTo>
                  <a:lnTo>
                    <a:pt x="2026" y="466"/>
                  </a:lnTo>
                  <a:lnTo>
                    <a:pt x="2023" y="510"/>
                  </a:lnTo>
                  <a:lnTo>
                    <a:pt x="2018" y="552"/>
                  </a:lnTo>
                  <a:lnTo>
                    <a:pt x="2011" y="589"/>
                  </a:lnTo>
                  <a:lnTo>
                    <a:pt x="2004" y="624"/>
                  </a:lnTo>
                  <a:lnTo>
                    <a:pt x="1996" y="655"/>
                  </a:lnTo>
                  <a:lnTo>
                    <a:pt x="1987" y="685"/>
                  </a:lnTo>
                  <a:lnTo>
                    <a:pt x="1970" y="742"/>
                  </a:lnTo>
                  <a:lnTo>
                    <a:pt x="1955" y="795"/>
                  </a:lnTo>
                  <a:lnTo>
                    <a:pt x="1950" y="820"/>
                  </a:lnTo>
                  <a:lnTo>
                    <a:pt x="1944" y="849"/>
                  </a:lnTo>
                  <a:lnTo>
                    <a:pt x="1942" y="877"/>
                  </a:lnTo>
                  <a:lnTo>
                    <a:pt x="1941" y="907"/>
                  </a:lnTo>
                  <a:lnTo>
                    <a:pt x="1941" y="922"/>
                  </a:lnTo>
                  <a:lnTo>
                    <a:pt x="1944" y="936"/>
                  </a:lnTo>
                  <a:lnTo>
                    <a:pt x="1947" y="948"/>
                  </a:lnTo>
                  <a:lnTo>
                    <a:pt x="1953" y="960"/>
                  </a:lnTo>
                  <a:lnTo>
                    <a:pt x="1959" y="969"/>
                  </a:lnTo>
                  <a:lnTo>
                    <a:pt x="1967" y="979"/>
                  </a:lnTo>
                  <a:lnTo>
                    <a:pt x="1976" y="987"/>
                  </a:lnTo>
                  <a:lnTo>
                    <a:pt x="1984" y="993"/>
                  </a:lnTo>
                  <a:lnTo>
                    <a:pt x="1995" y="998"/>
                  </a:lnTo>
                  <a:lnTo>
                    <a:pt x="2006" y="1002"/>
                  </a:lnTo>
                  <a:lnTo>
                    <a:pt x="2018" y="1004"/>
                  </a:lnTo>
                  <a:lnTo>
                    <a:pt x="2030" y="1005"/>
                  </a:lnTo>
                  <a:lnTo>
                    <a:pt x="2043" y="1005"/>
                  </a:lnTo>
                  <a:lnTo>
                    <a:pt x="2055" y="1004"/>
                  </a:lnTo>
                  <a:lnTo>
                    <a:pt x="2070" y="1001"/>
                  </a:lnTo>
                  <a:lnTo>
                    <a:pt x="2082" y="996"/>
                  </a:lnTo>
                  <a:lnTo>
                    <a:pt x="2097" y="991"/>
                  </a:lnTo>
                  <a:lnTo>
                    <a:pt x="2109" y="985"/>
                  </a:lnTo>
                  <a:lnTo>
                    <a:pt x="2124" y="976"/>
                  </a:lnTo>
                  <a:lnTo>
                    <a:pt x="2136" y="966"/>
                  </a:lnTo>
                  <a:lnTo>
                    <a:pt x="2149" y="955"/>
                  </a:lnTo>
                  <a:lnTo>
                    <a:pt x="2161" y="942"/>
                  </a:lnTo>
                  <a:lnTo>
                    <a:pt x="2173" y="928"/>
                  </a:lnTo>
                  <a:lnTo>
                    <a:pt x="2185" y="913"/>
                  </a:lnTo>
                  <a:lnTo>
                    <a:pt x="2195" y="897"/>
                  </a:lnTo>
                  <a:lnTo>
                    <a:pt x="2205" y="879"/>
                  </a:lnTo>
                  <a:lnTo>
                    <a:pt x="2213" y="859"/>
                  </a:lnTo>
                  <a:lnTo>
                    <a:pt x="2221" y="838"/>
                  </a:lnTo>
                  <a:lnTo>
                    <a:pt x="2228" y="815"/>
                  </a:lnTo>
                  <a:lnTo>
                    <a:pt x="2233" y="791"/>
                  </a:lnTo>
                  <a:lnTo>
                    <a:pt x="2237" y="765"/>
                  </a:lnTo>
                  <a:lnTo>
                    <a:pt x="2240" y="738"/>
                  </a:lnTo>
                  <a:lnTo>
                    <a:pt x="2245" y="696"/>
                  </a:lnTo>
                  <a:lnTo>
                    <a:pt x="2251" y="657"/>
                  </a:lnTo>
                  <a:lnTo>
                    <a:pt x="2259" y="621"/>
                  </a:lnTo>
                  <a:lnTo>
                    <a:pt x="2267" y="588"/>
                  </a:lnTo>
                  <a:lnTo>
                    <a:pt x="2276" y="559"/>
                  </a:lnTo>
                  <a:lnTo>
                    <a:pt x="2286" y="535"/>
                  </a:lnTo>
                  <a:lnTo>
                    <a:pt x="2290" y="526"/>
                  </a:lnTo>
                  <a:lnTo>
                    <a:pt x="2294" y="517"/>
                  </a:lnTo>
                  <a:lnTo>
                    <a:pt x="2297" y="510"/>
                  </a:lnTo>
                  <a:lnTo>
                    <a:pt x="2302" y="505"/>
                  </a:lnTo>
                  <a:lnTo>
                    <a:pt x="2305" y="502"/>
                  </a:lnTo>
                  <a:lnTo>
                    <a:pt x="2308" y="500"/>
                  </a:lnTo>
                  <a:lnTo>
                    <a:pt x="2310" y="501"/>
                  </a:lnTo>
                  <a:lnTo>
                    <a:pt x="2313" y="503"/>
                  </a:lnTo>
                  <a:lnTo>
                    <a:pt x="2315" y="506"/>
                  </a:lnTo>
                  <a:lnTo>
                    <a:pt x="2316" y="513"/>
                  </a:lnTo>
                  <a:lnTo>
                    <a:pt x="2316" y="521"/>
                  </a:lnTo>
                  <a:lnTo>
                    <a:pt x="2316" y="532"/>
                  </a:lnTo>
                  <a:lnTo>
                    <a:pt x="2313" y="561"/>
                  </a:lnTo>
                  <a:lnTo>
                    <a:pt x="2306" y="600"/>
                  </a:lnTo>
                  <a:lnTo>
                    <a:pt x="2296" y="650"/>
                  </a:lnTo>
                  <a:lnTo>
                    <a:pt x="2282" y="711"/>
                  </a:lnTo>
                  <a:lnTo>
                    <a:pt x="2275" y="746"/>
                  </a:lnTo>
                  <a:lnTo>
                    <a:pt x="2268" y="776"/>
                  </a:lnTo>
                  <a:lnTo>
                    <a:pt x="2264" y="802"/>
                  </a:lnTo>
                  <a:lnTo>
                    <a:pt x="2261" y="826"/>
                  </a:lnTo>
                  <a:lnTo>
                    <a:pt x="2260" y="845"/>
                  </a:lnTo>
                  <a:lnTo>
                    <a:pt x="2259" y="863"/>
                  </a:lnTo>
                  <a:lnTo>
                    <a:pt x="2259" y="877"/>
                  </a:lnTo>
                  <a:lnTo>
                    <a:pt x="2259" y="888"/>
                  </a:lnTo>
                  <a:lnTo>
                    <a:pt x="2260" y="898"/>
                  </a:lnTo>
                  <a:lnTo>
                    <a:pt x="2262" y="906"/>
                  </a:lnTo>
                  <a:lnTo>
                    <a:pt x="2263" y="911"/>
                  </a:lnTo>
                  <a:lnTo>
                    <a:pt x="2265" y="915"/>
                  </a:lnTo>
                  <a:lnTo>
                    <a:pt x="2268" y="920"/>
                  </a:lnTo>
                  <a:lnTo>
                    <a:pt x="2269" y="921"/>
                  </a:lnTo>
                  <a:lnTo>
                    <a:pt x="2269" y="928"/>
                  </a:lnTo>
                  <a:lnTo>
                    <a:pt x="2269" y="948"/>
                  </a:lnTo>
                  <a:lnTo>
                    <a:pt x="2267" y="977"/>
                  </a:lnTo>
                  <a:lnTo>
                    <a:pt x="2265" y="1012"/>
                  </a:lnTo>
                  <a:lnTo>
                    <a:pt x="2261" y="1048"/>
                  </a:lnTo>
                  <a:lnTo>
                    <a:pt x="2255" y="1085"/>
                  </a:lnTo>
                  <a:lnTo>
                    <a:pt x="2251" y="1102"/>
                  </a:lnTo>
                  <a:lnTo>
                    <a:pt x="2247" y="1119"/>
                  </a:lnTo>
                  <a:lnTo>
                    <a:pt x="2241" y="1131"/>
                  </a:lnTo>
                  <a:lnTo>
                    <a:pt x="2235" y="1143"/>
                  </a:lnTo>
                  <a:lnTo>
                    <a:pt x="2228" y="1156"/>
                  </a:lnTo>
                  <a:lnTo>
                    <a:pt x="2222" y="1175"/>
                  </a:lnTo>
                  <a:lnTo>
                    <a:pt x="2215" y="1196"/>
                  </a:lnTo>
                  <a:lnTo>
                    <a:pt x="2209" y="1221"/>
                  </a:lnTo>
                  <a:lnTo>
                    <a:pt x="2196" y="1281"/>
                  </a:lnTo>
                  <a:lnTo>
                    <a:pt x="2184" y="1344"/>
                  </a:lnTo>
                  <a:lnTo>
                    <a:pt x="2174" y="1409"/>
                  </a:lnTo>
                  <a:lnTo>
                    <a:pt x="2166" y="1470"/>
                  </a:lnTo>
                  <a:lnTo>
                    <a:pt x="2160" y="1519"/>
                  </a:lnTo>
                  <a:lnTo>
                    <a:pt x="2158" y="1554"/>
                  </a:lnTo>
                  <a:lnTo>
                    <a:pt x="2158" y="1581"/>
                  </a:lnTo>
                  <a:lnTo>
                    <a:pt x="2156" y="1609"/>
                  </a:lnTo>
                  <a:lnTo>
                    <a:pt x="2153" y="1639"/>
                  </a:lnTo>
                  <a:lnTo>
                    <a:pt x="2148" y="1673"/>
                  </a:lnTo>
                  <a:lnTo>
                    <a:pt x="2142" y="1708"/>
                  </a:lnTo>
                  <a:lnTo>
                    <a:pt x="2134" y="1747"/>
                  </a:lnTo>
                  <a:lnTo>
                    <a:pt x="2125" y="1789"/>
                  </a:lnTo>
                  <a:lnTo>
                    <a:pt x="2114" y="1833"/>
                  </a:lnTo>
                  <a:lnTo>
                    <a:pt x="2095" y="1902"/>
                  </a:lnTo>
                  <a:lnTo>
                    <a:pt x="2070" y="2004"/>
                  </a:lnTo>
                  <a:lnTo>
                    <a:pt x="2038" y="2129"/>
                  </a:lnTo>
                  <a:lnTo>
                    <a:pt x="2006" y="2262"/>
                  </a:lnTo>
                  <a:lnTo>
                    <a:pt x="1974" y="2390"/>
                  </a:lnTo>
                  <a:lnTo>
                    <a:pt x="1949" y="2497"/>
                  </a:lnTo>
                  <a:lnTo>
                    <a:pt x="1930" y="2572"/>
                  </a:lnTo>
                  <a:lnTo>
                    <a:pt x="1924" y="2600"/>
                  </a:lnTo>
                  <a:lnTo>
                    <a:pt x="1889" y="2614"/>
                  </a:lnTo>
                  <a:lnTo>
                    <a:pt x="1798" y="2653"/>
                  </a:lnTo>
                  <a:lnTo>
                    <a:pt x="1669" y="2707"/>
                  </a:lnTo>
                  <a:lnTo>
                    <a:pt x="1517" y="2768"/>
                  </a:lnTo>
                  <a:lnTo>
                    <a:pt x="1440" y="2797"/>
                  </a:lnTo>
                  <a:lnTo>
                    <a:pt x="1362" y="2826"/>
                  </a:lnTo>
                  <a:lnTo>
                    <a:pt x="1288" y="2851"/>
                  </a:lnTo>
                  <a:lnTo>
                    <a:pt x="1220" y="2872"/>
                  </a:lnTo>
                  <a:lnTo>
                    <a:pt x="1189" y="2882"/>
                  </a:lnTo>
                  <a:lnTo>
                    <a:pt x="1160" y="2890"/>
                  </a:lnTo>
                  <a:lnTo>
                    <a:pt x="1133" y="2896"/>
                  </a:lnTo>
                  <a:lnTo>
                    <a:pt x="1109" y="2902"/>
                  </a:lnTo>
                  <a:lnTo>
                    <a:pt x="1088" y="2904"/>
                  </a:lnTo>
                  <a:lnTo>
                    <a:pt x="1070" y="2905"/>
                  </a:lnTo>
                  <a:lnTo>
                    <a:pt x="1056" y="2905"/>
                  </a:lnTo>
                  <a:lnTo>
                    <a:pt x="1045" y="2902"/>
                  </a:lnTo>
                  <a:lnTo>
                    <a:pt x="1029" y="2894"/>
                  </a:lnTo>
                  <a:lnTo>
                    <a:pt x="1013" y="2890"/>
                  </a:lnTo>
                  <a:lnTo>
                    <a:pt x="997" y="2886"/>
                  </a:lnTo>
                  <a:lnTo>
                    <a:pt x="981" y="2886"/>
                  </a:lnTo>
                  <a:lnTo>
                    <a:pt x="965" y="2888"/>
                  </a:lnTo>
                  <a:lnTo>
                    <a:pt x="949" y="2890"/>
                  </a:lnTo>
                  <a:lnTo>
                    <a:pt x="934" y="2894"/>
                  </a:lnTo>
                  <a:lnTo>
                    <a:pt x="920" y="2898"/>
                  </a:lnTo>
                  <a:lnTo>
                    <a:pt x="891" y="2910"/>
                  </a:lnTo>
                  <a:lnTo>
                    <a:pt x="863" y="2923"/>
                  </a:lnTo>
                  <a:lnTo>
                    <a:pt x="836" y="2936"/>
                  </a:lnTo>
                  <a:lnTo>
                    <a:pt x="811" y="2946"/>
                  </a:lnTo>
                  <a:lnTo>
                    <a:pt x="797" y="2949"/>
                  </a:lnTo>
                  <a:lnTo>
                    <a:pt x="781" y="2951"/>
                  </a:lnTo>
                  <a:lnTo>
                    <a:pt x="763" y="2952"/>
                  </a:lnTo>
                  <a:lnTo>
                    <a:pt x="744" y="2952"/>
                  </a:lnTo>
                  <a:lnTo>
                    <a:pt x="725" y="2951"/>
                  </a:lnTo>
                  <a:lnTo>
                    <a:pt x="704" y="2949"/>
                  </a:lnTo>
                  <a:lnTo>
                    <a:pt x="684" y="2946"/>
                  </a:lnTo>
                  <a:lnTo>
                    <a:pt x="663" y="2943"/>
                  </a:lnTo>
                  <a:lnTo>
                    <a:pt x="644" y="2937"/>
                  </a:lnTo>
                  <a:lnTo>
                    <a:pt x="626" y="2933"/>
                  </a:lnTo>
                  <a:lnTo>
                    <a:pt x="609" y="2926"/>
                  </a:lnTo>
                  <a:lnTo>
                    <a:pt x="595" y="2920"/>
                  </a:lnTo>
                  <a:lnTo>
                    <a:pt x="583" y="2912"/>
                  </a:lnTo>
                  <a:lnTo>
                    <a:pt x="573" y="2905"/>
                  </a:lnTo>
                  <a:lnTo>
                    <a:pt x="570" y="2902"/>
                  </a:lnTo>
                  <a:lnTo>
                    <a:pt x="568" y="2897"/>
                  </a:lnTo>
                  <a:lnTo>
                    <a:pt x="567" y="2893"/>
                  </a:lnTo>
                  <a:lnTo>
                    <a:pt x="566" y="2889"/>
                  </a:lnTo>
                  <a:lnTo>
                    <a:pt x="566" y="2881"/>
                  </a:lnTo>
                  <a:lnTo>
                    <a:pt x="564" y="2874"/>
                  </a:lnTo>
                  <a:lnTo>
                    <a:pt x="561" y="2866"/>
                  </a:lnTo>
                  <a:lnTo>
                    <a:pt x="557" y="2861"/>
                  </a:lnTo>
                  <a:lnTo>
                    <a:pt x="553" y="2854"/>
                  </a:lnTo>
                  <a:lnTo>
                    <a:pt x="547" y="2850"/>
                  </a:lnTo>
                  <a:lnTo>
                    <a:pt x="540" y="2845"/>
                  </a:lnTo>
                  <a:lnTo>
                    <a:pt x="532" y="2842"/>
                  </a:lnTo>
                  <a:lnTo>
                    <a:pt x="524" y="2839"/>
                  </a:lnTo>
                  <a:lnTo>
                    <a:pt x="514" y="2837"/>
                  </a:lnTo>
                  <a:lnTo>
                    <a:pt x="503" y="2836"/>
                  </a:lnTo>
                  <a:lnTo>
                    <a:pt x="491" y="2836"/>
                  </a:lnTo>
                  <a:lnTo>
                    <a:pt x="478" y="2837"/>
                  </a:lnTo>
                  <a:lnTo>
                    <a:pt x="464" y="2838"/>
                  </a:lnTo>
                  <a:lnTo>
                    <a:pt x="449" y="2841"/>
                  </a:lnTo>
                  <a:lnTo>
                    <a:pt x="433" y="2844"/>
                  </a:lnTo>
                  <a:lnTo>
                    <a:pt x="416" y="2848"/>
                  </a:lnTo>
                  <a:lnTo>
                    <a:pt x="398" y="2851"/>
                  </a:lnTo>
                  <a:lnTo>
                    <a:pt x="382" y="2852"/>
                  </a:lnTo>
                  <a:lnTo>
                    <a:pt x="366" y="2852"/>
                  </a:lnTo>
                  <a:lnTo>
                    <a:pt x="350" y="2852"/>
                  </a:lnTo>
                  <a:lnTo>
                    <a:pt x="334" y="2851"/>
                  </a:lnTo>
                  <a:lnTo>
                    <a:pt x="319" y="2850"/>
                  </a:lnTo>
                  <a:lnTo>
                    <a:pt x="305" y="2848"/>
                  </a:lnTo>
                  <a:lnTo>
                    <a:pt x="281" y="2843"/>
                  </a:lnTo>
                  <a:lnTo>
                    <a:pt x="261" y="2839"/>
                  </a:lnTo>
                  <a:lnTo>
                    <a:pt x="249" y="2836"/>
                  </a:lnTo>
                  <a:lnTo>
                    <a:pt x="245" y="2835"/>
                  </a:lnTo>
                  <a:lnTo>
                    <a:pt x="0" y="1611"/>
                  </a:lnTo>
                  <a:lnTo>
                    <a:pt x="311" y="1065"/>
                  </a:lnTo>
                  <a:lnTo>
                    <a:pt x="315" y="1056"/>
                  </a:lnTo>
                  <a:lnTo>
                    <a:pt x="326" y="1030"/>
                  </a:lnTo>
                  <a:lnTo>
                    <a:pt x="341" y="990"/>
                  </a:lnTo>
                  <a:lnTo>
                    <a:pt x="359" y="937"/>
                  </a:lnTo>
                  <a:lnTo>
                    <a:pt x="369" y="906"/>
                  </a:lnTo>
                  <a:lnTo>
                    <a:pt x="379" y="872"/>
                  </a:lnTo>
                  <a:lnTo>
                    <a:pt x="390" y="836"/>
                  </a:lnTo>
                  <a:lnTo>
                    <a:pt x="399" y="798"/>
                  </a:lnTo>
                  <a:lnTo>
                    <a:pt x="408" y="758"/>
                  </a:lnTo>
                  <a:lnTo>
                    <a:pt x="417" y="716"/>
                  </a:lnTo>
                  <a:lnTo>
                    <a:pt x="424" y="672"/>
                  </a:lnTo>
                  <a:lnTo>
                    <a:pt x="430" y="627"/>
                  </a:lnTo>
                  <a:lnTo>
                    <a:pt x="435" y="584"/>
                  </a:lnTo>
                  <a:lnTo>
                    <a:pt x="440" y="547"/>
                  </a:lnTo>
                  <a:lnTo>
                    <a:pt x="445" y="515"/>
                  </a:lnTo>
                  <a:lnTo>
                    <a:pt x="450" y="487"/>
                  </a:lnTo>
                  <a:lnTo>
                    <a:pt x="460" y="441"/>
                  </a:lnTo>
                  <a:lnTo>
                    <a:pt x="467" y="408"/>
                  </a:lnTo>
                  <a:lnTo>
                    <a:pt x="474" y="381"/>
                  </a:lnTo>
                  <a:lnTo>
                    <a:pt x="478" y="356"/>
                  </a:lnTo>
                  <a:lnTo>
                    <a:pt x="480" y="343"/>
                  </a:lnTo>
                  <a:lnTo>
                    <a:pt x="480" y="329"/>
                  </a:lnTo>
                  <a:lnTo>
                    <a:pt x="480" y="314"/>
                  </a:lnTo>
                  <a:lnTo>
                    <a:pt x="479" y="296"/>
                  </a:lnTo>
                  <a:lnTo>
                    <a:pt x="478" y="275"/>
                  </a:lnTo>
                  <a:lnTo>
                    <a:pt x="479" y="257"/>
                  </a:lnTo>
                  <a:lnTo>
                    <a:pt x="480" y="240"/>
                  </a:lnTo>
                  <a:lnTo>
                    <a:pt x="483" y="228"/>
                  </a:lnTo>
                  <a:lnTo>
                    <a:pt x="485" y="218"/>
                  </a:lnTo>
                  <a:lnTo>
                    <a:pt x="488" y="210"/>
                  </a:lnTo>
                  <a:lnTo>
                    <a:pt x="491" y="205"/>
                  </a:lnTo>
                  <a:lnTo>
                    <a:pt x="496" y="202"/>
                  </a:lnTo>
                  <a:lnTo>
                    <a:pt x="498" y="202"/>
                  </a:lnTo>
                  <a:lnTo>
                    <a:pt x="500" y="202"/>
                  </a:lnTo>
                  <a:lnTo>
                    <a:pt x="501" y="202"/>
                  </a:lnTo>
                  <a:lnTo>
                    <a:pt x="503" y="203"/>
                  </a:lnTo>
                  <a:lnTo>
                    <a:pt x="507" y="207"/>
                  </a:lnTo>
                  <a:lnTo>
                    <a:pt x="511" y="212"/>
                  </a:lnTo>
                  <a:lnTo>
                    <a:pt x="514" y="220"/>
                  </a:lnTo>
                  <a:lnTo>
                    <a:pt x="516" y="230"/>
                  </a:lnTo>
                  <a:lnTo>
                    <a:pt x="518" y="240"/>
                  </a:lnTo>
                  <a:lnTo>
                    <a:pt x="519" y="255"/>
                  </a:lnTo>
                  <a:lnTo>
                    <a:pt x="519" y="294"/>
                  </a:lnTo>
                  <a:lnTo>
                    <a:pt x="519" y="332"/>
                  </a:lnTo>
                  <a:lnTo>
                    <a:pt x="521" y="367"/>
                  </a:lnTo>
                  <a:lnTo>
                    <a:pt x="524" y="398"/>
                  </a:lnTo>
                  <a:lnTo>
                    <a:pt x="526" y="426"/>
                  </a:lnTo>
                  <a:lnTo>
                    <a:pt x="530" y="452"/>
                  </a:lnTo>
                  <a:lnTo>
                    <a:pt x="533" y="475"/>
                  </a:lnTo>
                  <a:lnTo>
                    <a:pt x="538" y="495"/>
                  </a:lnTo>
                  <a:lnTo>
                    <a:pt x="543" y="514"/>
                  </a:lnTo>
                  <a:lnTo>
                    <a:pt x="548" y="530"/>
                  </a:lnTo>
                  <a:lnTo>
                    <a:pt x="554" y="543"/>
                  </a:lnTo>
                  <a:lnTo>
                    <a:pt x="559" y="555"/>
                  </a:lnTo>
                  <a:lnTo>
                    <a:pt x="566" y="564"/>
                  </a:lnTo>
                  <a:lnTo>
                    <a:pt x="572" y="573"/>
                  </a:lnTo>
                  <a:lnTo>
                    <a:pt x="579" y="579"/>
                  </a:lnTo>
                  <a:lnTo>
                    <a:pt x="585" y="584"/>
                  </a:lnTo>
                  <a:lnTo>
                    <a:pt x="592" y="587"/>
                  </a:lnTo>
                  <a:lnTo>
                    <a:pt x="598" y="590"/>
                  </a:lnTo>
                  <a:lnTo>
                    <a:pt x="605" y="591"/>
                  </a:lnTo>
                  <a:lnTo>
                    <a:pt x="611" y="591"/>
                  </a:lnTo>
                  <a:lnTo>
                    <a:pt x="617" y="591"/>
                  </a:lnTo>
                  <a:lnTo>
                    <a:pt x="622" y="590"/>
                  </a:lnTo>
                  <a:lnTo>
                    <a:pt x="627" y="589"/>
                  </a:lnTo>
                  <a:lnTo>
                    <a:pt x="633" y="587"/>
                  </a:lnTo>
                  <a:lnTo>
                    <a:pt x="649" y="577"/>
                  </a:lnTo>
                  <a:lnTo>
                    <a:pt x="655" y="573"/>
                  </a:lnTo>
                  <a:lnTo>
                    <a:pt x="662" y="570"/>
                  </a:lnTo>
                  <a:lnTo>
                    <a:pt x="679" y="559"/>
                  </a:lnTo>
                  <a:lnTo>
                    <a:pt x="690" y="549"/>
                  </a:lnTo>
                  <a:lnTo>
                    <a:pt x="702" y="537"/>
                  </a:lnTo>
                  <a:lnTo>
                    <a:pt x="715" y="522"/>
                  </a:lnTo>
                  <a:lnTo>
                    <a:pt x="728" y="504"/>
                  </a:lnTo>
                  <a:lnTo>
                    <a:pt x="734" y="493"/>
                  </a:lnTo>
                  <a:lnTo>
                    <a:pt x="741" y="482"/>
                  </a:lnTo>
                  <a:lnTo>
                    <a:pt x="746" y="469"/>
                  </a:lnTo>
                  <a:lnTo>
                    <a:pt x="753" y="455"/>
                  </a:lnTo>
                  <a:lnTo>
                    <a:pt x="758" y="440"/>
                  </a:lnTo>
                  <a:lnTo>
                    <a:pt x="762" y="425"/>
                  </a:lnTo>
                  <a:lnTo>
                    <a:pt x="767" y="408"/>
                  </a:lnTo>
                  <a:lnTo>
                    <a:pt x="771" y="390"/>
                  </a:lnTo>
                  <a:lnTo>
                    <a:pt x="774" y="370"/>
                  </a:lnTo>
                  <a:lnTo>
                    <a:pt x="776" y="348"/>
                  </a:lnTo>
                  <a:lnTo>
                    <a:pt x="779" y="327"/>
                  </a:lnTo>
                  <a:lnTo>
                    <a:pt x="780" y="303"/>
                  </a:lnTo>
                  <a:lnTo>
                    <a:pt x="780" y="278"/>
                  </a:lnTo>
                  <a:lnTo>
                    <a:pt x="779" y="252"/>
                  </a:lnTo>
                  <a:lnTo>
                    <a:pt x="776" y="224"/>
                  </a:lnTo>
                  <a:lnTo>
                    <a:pt x="773" y="195"/>
                  </a:lnTo>
                  <a:lnTo>
                    <a:pt x="773" y="188"/>
                  </a:lnTo>
                  <a:lnTo>
                    <a:pt x="774" y="186"/>
                  </a:lnTo>
                  <a:lnTo>
                    <a:pt x="776" y="191"/>
                  </a:lnTo>
                  <a:lnTo>
                    <a:pt x="780" y="199"/>
                  </a:lnTo>
                  <a:lnTo>
                    <a:pt x="789" y="230"/>
                  </a:lnTo>
                  <a:lnTo>
                    <a:pt x="801" y="271"/>
                  </a:lnTo>
                  <a:lnTo>
                    <a:pt x="814" y="318"/>
                  </a:lnTo>
                  <a:lnTo>
                    <a:pt x="829" y="369"/>
                  </a:lnTo>
                  <a:lnTo>
                    <a:pt x="843" y="415"/>
                  </a:lnTo>
                  <a:lnTo>
                    <a:pt x="857" y="454"/>
                  </a:lnTo>
                  <a:lnTo>
                    <a:pt x="874" y="496"/>
                  </a:lnTo>
                  <a:lnTo>
                    <a:pt x="896" y="550"/>
                  </a:lnTo>
                  <a:lnTo>
                    <a:pt x="922" y="612"/>
                  </a:lnTo>
                  <a:lnTo>
                    <a:pt x="950" y="672"/>
                  </a:lnTo>
                  <a:lnTo>
                    <a:pt x="964" y="701"/>
                  </a:lnTo>
                  <a:lnTo>
                    <a:pt x="977" y="726"/>
                  </a:lnTo>
                  <a:lnTo>
                    <a:pt x="989" y="749"/>
                  </a:lnTo>
                  <a:lnTo>
                    <a:pt x="1001" y="768"/>
                  </a:lnTo>
                  <a:lnTo>
                    <a:pt x="1007" y="774"/>
                  </a:lnTo>
                  <a:lnTo>
                    <a:pt x="1011" y="780"/>
                  </a:lnTo>
                  <a:lnTo>
                    <a:pt x="1015" y="785"/>
                  </a:lnTo>
                  <a:lnTo>
                    <a:pt x="1018" y="788"/>
                  </a:lnTo>
                  <a:lnTo>
                    <a:pt x="1022" y="789"/>
                  </a:lnTo>
                  <a:lnTo>
                    <a:pt x="1025" y="789"/>
                  </a:lnTo>
                  <a:lnTo>
                    <a:pt x="1027" y="787"/>
                  </a:lnTo>
                  <a:lnTo>
                    <a:pt x="1028" y="783"/>
                  </a:lnTo>
                  <a:close/>
                </a:path>
              </a:pathLst>
            </a:custGeom>
            <a:solidFill>
              <a:srgbClr val="57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329080" y="2497320"/>
              <a:ext cx="731880" cy="922320"/>
            </a:xfrm>
            <a:custGeom>
              <a:avLst/>
              <a:gdLst/>
              <a:ahLst/>
              <a:rect l="l" t="t" r="r" b="b"/>
              <a:pathLst>
                <a:path w="2305" h="2904">
                  <a:moveTo>
                    <a:pt x="311" y="1017"/>
                  </a:moveTo>
                  <a:lnTo>
                    <a:pt x="315" y="1008"/>
                  </a:lnTo>
                  <a:lnTo>
                    <a:pt x="326" y="983"/>
                  </a:lnTo>
                  <a:lnTo>
                    <a:pt x="341" y="944"/>
                  </a:lnTo>
                  <a:lnTo>
                    <a:pt x="359" y="891"/>
                  </a:lnTo>
                  <a:lnTo>
                    <a:pt x="370" y="861"/>
                  </a:lnTo>
                  <a:lnTo>
                    <a:pt x="380" y="828"/>
                  </a:lnTo>
                  <a:lnTo>
                    <a:pt x="390" y="792"/>
                  </a:lnTo>
                  <a:lnTo>
                    <a:pt x="399" y="754"/>
                  </a:lnTo>
                  <a:lnTo>
                    <a:pt x="409" y="714"/>
                  </a:lnTo>
                  <a:lnTo>
                    <a:pt x="418" y="672"/>
                  </a:lnTo>
                  <a:lnTo>
                    <a:pt x="425" y="629"/>
                  </a:lnTo>
                  <a:lnTo>
                    <a:pt x="433" y="585"/>
                  </a:lnTo>
                  <a:lnTo>
                    <a:pt x="439" y="541"/>
                  </a:lnTo>
                  <a:lnTo>
                    <a:pt x="445" y="506"/>
                  </a:lnTo>
                  <a:lnTo>
                    <a:pt x="451" y="475"/>
                  </a:lnTo>
                  <a:lnTo>
                    <a:pt x="458" y="450"/>
                  </a:lnTo>
                  <a:lnTo>
                    <a:pt x="463" y="429"/>
                  </a:lnTo>
                  <a:lnTo>
                    <a:pt x="469" y="412"/>
                  </a:lnTo>
                  <a:lnTo>
                    <a:pt x="474" y="397"/>
                  </a:lnTo>
                  <a:lnTo>
                    <a:pt x="478" y="385"/>
                  </a:lnTo>
                  <a:lnTo>
                    <a:pt x="487" y="365"/>
                  </a:lnTo>
                  <a:lnTo>
                    <a:pt x="493" y="348"/>
                  </a:lnTo>
                  <a:lnTo>
                    <a:pt x="496" y="337"/>
                  </a:lnTo>
                  <a:lnTo>
                    <a:pt x="498" y="325"/>
                  </a:lnTo>
                  <a:lnTo>
                    <a:pt x="499" y="312"/>
                  </a:lnTo>
                  <a:lnTo>
                    <a:pt x="499" y="295"/>
                  </a:lnTo>
                  <a:lnTo>
                    <a:pt x="500" y="272"/>
                  </a:lnTo>
                  <a:lnTo>
                    <a:pt x="501" y="254"/>
                  </a:lnTo>
                  <a:lnTo>
                    <a:pt x="502" y="238"/>
                  </a:lnTo>
                  <a:lnTo>
                    <a:pt x="504" y="225"/>
                  </a:lnTo>
                  <a:lnTo>
                    <a:pt x="507" y="214"/>
                  </a:lnTo>
                  <a:lnTo>
                    <a:pt x="510" y="205"/>
                  </a:lnTo>
                  <a:lnTo>
                    <a:pt x="513" y="201"/>
                  </a:lnTo>
                  <a:lnTo>
                    <a:pt x="516" y="198"/>
                  </a:lnTo>
                  <a:lnTo>
                    <a:pt x="518" y="197"/>
                  </a:lnTo>
                  <a:lnTo>
                    <a:pt x="519" y="197"/>
                  </a:lnTo>
                  <a:lnTo>
                    <a:pt x="521" y="198"/>
                  </a:lnTo>
                  <a:lnTo>
                    <a:pt x="523" y="199"/>
                  </a:lnTo>
                  <a:lnTo>
                    <a:pt x="526" y="202"/>
                  </a:lnTo>
                  <a:lnTo>
                    <a:pt x="528" y="209"/>
                  </a:lnTo>
                  <a:lnTo>
                    <a:pt x="530" y="216"/>
                  </a:lnTo>
                  <a:lnTo>
                    <a:pt x="532" y="226"/>
                  </a:lnTo>
                  <a:lnTo>
                    <a:pt x="533" y="238"/>
                  </a:lnTo>
                  <a:lnTo>
                    <a:pt x="533" y="251"/>
                  </a:lnTo>
                  <a:lnTo>
                    <a:pt x="533" y="296"/>
                  </a:lnTo>
                  <a:lnTo>
                    <a:pt x="533" y="339"/>
                  </a:lnTo>
                  <a:lnTo>
                    <a:pt x="534" y="377"/>
                  </a:lnTo>
                  <a:lnTo>
                    <a:pt x="536" y="413"/>
                  </a:lnTo>
                  <a:lnTo>
                    <a:pt x="539" y="444"/>
                  </a:lnTo>
                  <a:lnTo>
                    <a:pt x="542" y="473"/>
                  </a:lnTo>
                  <a:lnTo>
                    <a:pt x="545" y="499"/>
                  </a:lnTo>
                  <a:lnTo>
                    <a:pt x="550" y="522"/>
                  </a:lnTo>
                  <a:lnTo>
                    <a:pt x="554" y="542"/>
                  </a:lnTo>
                  <a:lnTo>
                    <a:pt x="559" y="560"/>
                  </a:lnTo>
                  <a:lnTo>
                    <a:pt x="565" y="575"/>
                  </a:lnTo>
                  <a:lnTo>
                    <a:pt x="570" y="588"/>
                  </a:lnTo>
                  <a:lnTo>
                    <a:pt x="577" y="599"/>
                  </a:lnTo>
                  <a:lnTo>
                    <a:pt x="583" y="608"/>
                  </a:lnTo>
                  <a:lnTo>
                    <a:pt x="590" y="615"/>
                  </a:lnTo>
                  <a:lnTo>
                    <a:pt x="596" y="620"/>
                  </a:lnTo>
                  <a:lnTo>
                    <a:pt x="603" y="624"/>
                  </a:lnTo>
                  <a:lnTo>
                    <a:pt x="609" y="627"/>
                  </a:lnTo>
                  <a:lnTo>
                    <a:pt x="615" y="629"/>
                  </a:lnTo>
                  <a:lnTo>
                    <a:pt x="622" y="629"/>
                  </a:lnTo>
                  <a:lnTo>
                    <a:pt x="628" y="628"/>
                  </a:lnTo>
                  <a:lnTo>
                    <a:pt x="634" y="627"/>
                  </a:lnTo>
                  <a:lnTo>
                    <a:pt x="639" y="626"/>
                  </a:lnTo>
                  <a:lnTo>
                    <a:pt x="645" y="622"/>
                  </a:lnTo>
                  <a:lnTo>
                    <a:pt x="661" y="613"/>
                  </a:lnTo>
                  <a:lnTo>
                    <a:pt x="667" y="606"/>
                  </a:lnTo>
                  <a:lnTo>
                    <a:pt x="674" y="604"/>
                  </a:lnTo>
                  <a:lnTo>
                    <a:pt x="692" y="595"/>
                  </a:lnTo>
                  <a:lnTo>
                    <a:pt x="704" y="587"/>
                  </a:lnTo>
                  <a:lnTo>
                    <a:pt x="717" y="576"/>
                  </a:lnTo>
                  <a:lnTo>
                    <a:pt x="725" y="568"/>
                  </a:lnTo>
                  <a:lnTo>
                    <a:pt x="731" y="561"/>
                  </a:lnTo>
                  <a:lnTo>
                    <a:pt x="738" y="552"/>
                  </a:lnTo>
                  <a:lnTo>
                    <a:pt x="745" y="542"/>
                  </a:lnTo>
                  <a:lnTo>
                    <a:pt x="752" y="531"/>
                  </a:lnTo>
                  <a:lnTo>
                    <a:pt x="758" y="519"/>
                  </a:lnTo>
                  <a:lnTo>
                    <a:pt x="763" y="506"/>
                  </a:lnTo>
                  <a:lnTo>
                    <a:pt x="770" y="491"/>
                  </a:lnTo>
                  <a:lnTo>
                    <a:pt x="775" y="474"/>
                  </a:lnTo>
                  <a:lnTo>
                    <a:pt x="780" y="457"/>
                  </a:lnTo>
                  <a:lnTo>
                    <a:pt x="784" y="438"/>
                  </a:lnTo>
                  <a:lnTo>
                    <a:pt x="788" y="418"/>
                  </a:lnTo>
                  <a:lnTo>
                    <a:pt x="792" y="396"/>
                  </a:lnTo>
                  <a:lnTo>
                    <a:pt x="794" y="372"/>
                  </a:lnTo>
                  <a:lnTo>
                    <a:pt x="796" y="347"/>
                  </a:lnTo>
                  <a:lnTo>
                    <a:pt x="796" y="320"/>
                  </a:lnTo>
                  <a:lnTo>
                    <a:pt x="796" y="291"/>
                  </a:lnTo>
                  <a:lnTo>
                    <a:pt x="795" y="261"/>
                  </a:lnTo>
                  <a:lnTo>
                    <a:pt x="792" y="228"/>
                  </a:lnTo>
                  <a:lnTo>
                    <a:pt x="788" y="194"/>
                  </a:lnTo>
                  <a:lnTo>
                    <a:pt x="787" y="185"/>
                  </a:lnTo>
                  <a:lnTo>
                    <a:pt x="788" y="182"/>
                  </a:lnTo>
                  <a:lnTo>
                    <a:pt x="790" y="186"/>
                  </a:lnTo>
                  <a:lnTo>
                    <a:pt x="793" y="196"/>
                  </a:lnTo>
                  <a:lnTo>
                    <a:pt x="801" y="228"/>
                  </a:lnTo>
                  <a:lnTo>
                    <a:pt x="812" y="273"/>
                  </a:lnTo>
                  <a:lnTo>
                    <a:pt x="825" y="327"/>
                  </a:lnTo>
                  <a:lnTo>
                    <a:pt x="839" y="383"/>
                  </a:lnTo>
                  <a:lnTo>
                    <a:pt x="847" y="408"/>
                  </a:lnTo>
                  <a:lnTo>
                    <a:pt x="854" y="432"/>
                  </a:lnTo>
                  <a:lnTo>
                    <a:pt x="861" y="455"/>
                  </a:lnTo>
                  <a:lnTo>
                    <a:pt x="867" y="473"/>
                  </a:lnTo>
                  <a:lnTo>
                    <a:pt x="883" y="515"/>
                  </a:lnTo>
                  <a:lnTo>
                    <a:pt x="906" y="570"/>
                  </a:lnTo>
                  <a:lnTo>
                    <a:pt x="932" y="632"/>
                  </a:lnTo>
                  <a:lnTo>
                    <a:pt x="959" y="694"/>
                  </a:lnTo>
                  <a:lnTo>
                    <a:pt x="972" y="723"/>
                  </a:lnTo>
                  <a:lnTo>
                    <a:pt x="985" y="749"/>
                  </a:lnTo>
                  <a:lnTo>
                    <a:pt x="997" y="771"/>
                  </a:lnTo>
                  <a:lnTo>
                    <a:pt x="1008" y="790"/>
                  </a:lnTo>
                  <a:lnTo>
                    <a:pt x="1013" y="797"/>
                  </a:lnTo>
                  <a:lnTo>
                    <a:pt x="1017" y="804"/>
                  </a:lnTo>
                  <a:lnTo>
                    <a:pt x="1021" y="808"/>
                  </a:lnTo>
                  <a:lnTo>
                    <a:pt x="1025" y="811"/>
                  </a:lnTo>
                  <a:lnTo>
                    <a:pt x="1028" y="813"/>
                  </a:lnTo>
                  <a:lnTo>
                    <a:pt x="1030" y="812"/>
                  </a:lnTo>
                  <a:lnTo>
                    <a:pt x="1032" y="810"/>
                  </a:lnTo>
                  <a:lnTo>
                    <a:pt x="1034" y="807"/>
                  </a:lnTo>
                  <a:lnTo>
                    <a:pt x="1037" y="796"/>
                  </a:lnTo>
                  <a:lnTo>
                    <a:pt x="1041" y="785"/>
                  </a:lnTo>
                  <a:lnTo>
                    <a:pt x="1048" y="774"/>
                  </a:lnTo>
                  <a:lnTo>
                    <a:pt x="1056" y="762"/>
                  </a:lnTo>
                  <a:lnTo>
                    <a:pt x="1065" y="747"/>
                  </a:lnTo>
                  <a:lnTo>
                    <a:pt x="1074" y="730"/>
                  </a:lnTo>
                  <a:lnTo>
                    <a:pt x="1083" y="711"/>
                  </a:lnTo>
                  <a:lnTo>
                    <a:pt x="1094" y="689"/>
                  </a:lnTo>
                  <a:lnTo>
                    <a:pt x="1104" y="663"/>
                  </a:lnTo>
                  <a:lnTo>
                    <a:pt x="1112" y="633"/>
                  </a:lnTo>
                  <a:lnTo>
                    <a:pt x="1121" y="599"/>
                  </a:lnTo>
                  <a:lnTo>
                    <a:pt x="1129" y="559"/>
                  </a:lnTo>
                  <a:lnTo>
                    <a:pt x="1132" y="537"/>
                  </a:lnTo>
                  <a:lnTo>
                    <a:pt x="1135" y="513"/>
                  </a:lnTo>
                  <a:lnTo>
                    <a:pt x="1138" y="488"/>
                  </a:lnTo>
                  <a:lnTo>
                    <a:pt x="1140" y="462"/>
                  </a:lnTo>
                  <a:lnTo>
                    <a:pt x="1142" y="434"/>
                  </a:lnTo>
                  <a:lnTo>
                    <a:pt x="1144" y="404"/>
                  </a:lnTo>
                  <a:lnTo>
                    <a:pt x="1144" y="373"/>
                  </a:lnTo>
                  <a:lnTo>
                    <a:pt x="1145" y="339"/>
                  </a:lnTo>
                  <a:lnTo>
                    <a:pt x="1144" y="317"/>
                  </a:lnTo>
                  <a:lnTo>
                    <a:pt x="1142" y="290"/>
                  </a:lnTo>
                  <a:lnTo>
                    <a:pt x="1138" y="257"/>
                  </a:lnTo>
                  <a:lnTo>
                    <a:pt x="1134" y="222"/>
                  </a:lnTo>
                  <a:lnTo>
                    <a:pt x="1124" y="148"/>
                  </a:lnTo>
                  <a:lnTo>
                    <a:pt x="1116" y="80"/>
                  </a:lnTo>
                  <a:lnTo>
                    <a:pt x="1112" y="51"/>
                  </a:lnTo>
                  <a:lnTo>
                    <a:pt x="1111" y="27"/>
                  </a:lnTo>
                  <a:lnTo>
                    <a:pt x="1110" y="18"/>
                  </a:lnTo>
                  <a:lnTo>
                    <a:pt x="1110" y="10"/>
                  </a:lnTo>
                  <a:lnTo>
                    <a:pt x="1111" y="5"/>
                  </a:lnTo>
                  <a:lnTo>
                    <a:pt x="1112" y="1"/>
                  </a:lnTo>
                  <a:lnTo>
                    <a:pt x="1113" y="0"/>
                  </a:lnTo>
                  <a:lnTo>
                    <a:pt x="1116" y="1"/>
                  </a:lnTo>
                  <a:lnTo>
                    <a:pt x="1119" y="6"/>
                  </a:lnTo>
                  <a:lnTo>
                    <a:pt x="1122" y="12"/>
                  </a:lnTo>
                  <a:lnTo>
                    <a:pt x="1132" y="36"/>
                  </a:lnTo>
                  <a:lnTo>
                    <a:pt x="1145" y="73"/>
                  </a:lnTo>
                  <a:lnTo>
                    <a:pt x="1151" y="94"/>
                  </a:lnTo>
                  <a:lnTo>
                    <a:pt x="1158" y="116"/>
                  </a:lnTo>
                  <a:lnTo>
                    <a:pt x="1163" y="138"/>
                  </a:lnTo>
                  <a:lnTo>
                    <a:pt x="1169" y="160"/>
                  </a:lnTo>
                  <a:lnTo>
                    <a:pt x="1173" y="182"/>
                  </a:lnTo>
                  <a:lnTo>
                    <a:pt x="1177" y="203"/>
                  </a:lnTo>
                  <a:lnTo>
                    <a:pt x="1180" y="225"/>
                  </a:lnTo>
                  <a:lnTo>
                    <a:pt x="1183" y="248"/>
                  </a:lnTo>
                  <a:lnTo>
                    <a:pt x="1187" y="290"/>
                  </a:lnTo>
                  <a:lnTo>
                    <a:pt x="1189" y="332"/>
                  </a:lnTo>
                  <a:lnTo>
                    <a:pt x="1189" y="374"/>
                  </a:lnTo>
                  <a:lnTo>
                    <a:pt x="1189" y="414"/>
                  </a:lnTo>
                  <a:lnTo>
                    <a:pt x="1187" y="453"/>
                  </a:lnTo>
                  <a:lnTo>
                    <a:pt x="1184" y="491"/>
                  </a:lnTo>
                  <a:lnTo>
                    <a:pt x="1179" y="526"/>
                  </a:lnTo>
                  <a:lnTo>
                    <a:pt x="1175" y="560"/>
                  </a:lnTo>
                  <a:lnTo>
                    <a:pt x="1166" y="621"/>
                  </a:lnTo>
                  <a:lnTo>
                    <a:pt x="1157" y="673"/>
                  </a:lnTo>
                  <a:lnTo>
                    <a:pt x="1151" y="699"/>
                  </a:lnTo>
                  <a:lnTo>
                    <a:pt x="1143" y="729"/>
                  </a:lnTo>
                  <a:lnTo>
                    <a:pt x="1131" y="764"/>
                  </a:lnTo>
                  <a:lnTo>
                    <a:pt x="1119" y="802"/>
                  </a:lnTo>
                  <a:lnTo>
                    <a:pt x="1106" y="843"/>
                  </a:lnTo>
                  <a:lnTo>
                    <a:pt x="1093" y="886"/>
                  </a:lnTo>
                  <a:lnTo>
                    <a:pt x="1081" y="929"/>
                  </a:lnTo>
                  <a:lnTo>
                    <a:pt x="1070" y="973"/>
                  </a:lnTo>
                  <a:lnTo>
                    <a:pt x="1066" y="995"/>
                  </a:lnTo>
                  <a:lnTo>
                    <a:pt x="1063" y="1017"/>
                  </a:lnTo>
                  <a:lnTo>
                    <a:pt x="1059" y="1037"/>
                  </a:lnTo>
                  <a:lnTo>
                    <a:pt x="1057" y="1059"/>
                  </a:lnTo>
                  <a:lnTo>
                    <a:pt x="1056" y="1079"/>
                  </a:lnTo>
                  <a:lnTo>
                    <a:pt x="1056" y="1099"/>
                  </a:lnTo>
                  <a:lnTo>
                    <a:pt x="1057" y="1117"/>
                  </a:lnTo>
                  <a:lnTo>
                    <a:pt x="1059" y="1135"/>
                  </a:lnTo>
                  <a:lnTo>
                    <a:pt x="1064" y="1153"/>
                  </a:lnTo>
                  <a:lnTo>
                    <a:pt x="1068" y="1169"/>
                  </a:lnTo>
                  <a:lnTo>
                    <a:pt x="1076" y="1184"/>
                  </a:lnTo>
                  <a:lnTo>
                    <a:pt x="1083" y="1198"/>
                  </a:lnTo>
                  <a:lnTo>
                    <a:pt x="1093" y="1211"/>
                  </a:lnTo>
                  <a:lnTo>
                    <a:pt x="1105" y="1222"/>
                  </a:lnTo>
                  <a:lnTo>
                    <a:pt x="1119" y="1231"/>
                  </a:lnTo>
                  <a:lnTo>
                    <a:pt x="1135" y="1239"/>
                  </a:lnTo>
                  <a:lnTo>
                    <a:pt x="1142" y="1241"/>
                  </a:lnTo>
                  <a:lnTo>
                    <a:pt x="1150" y="1241"/>
                  </a:lnTo>
                  <a:lnTo>
                    <a:pt x="1159" y="1239"/>
                  </a:lnTo>
                  <a:lnTo>
                    <a:pt x="1169" y="1235"/>
                  </a:lnTo>
                  <a:lnTo>
                    <a:pt x="1179" y="1228"/>
                  </a:lnTo>
                  <a:lnTo>
                    <a:pt x="1191" y="1221"/>
                  </a:lnTo>
                  <a:lnTo>
                    <a:pt x="1203" y="1211"/>
                  </a:lnTo>
                  <a:lnTo>
                    <a:pt x="1216" y="1200"/>
                  </a:lnTo>
                  <a:lnTo>
                    <a:pt x="1229" y="1188"/>
                  </a:lnTo>
                  <a:lnTo>
                    <a:pt x="1242" y="1174"/>
                  </a:lnTo>
                  <a:lnTo>
                    <a:pt x="1256" y="1159"/>
                  </a:lnTo>
                  <a:lnTo>
                    <a:pt x="1270" y="1144"/>
                  </a:lnTo>
                  <a:lnTo>
                    <a:pt x="1299" y="1108"/>
                  </a:lnTo>
                  <a:lnTo>
                    <a:pt x="1327" y="1072"/>
                  </a:lnTo>
                  <a:lnTo>
                    <a:pt x="1357" y="1032"/>
                  </a:lnTo>
                  <a:lnTo>
                    <a:pt x="1384" y="990"/>
                  </a:lnTo>
                  <a:lnTo>
                    <a:pt x="1411" y="948"/>
                  </a:lnTo>
                  <a:lnTo>
                    <a:pt x="1434" y="907"/>
                  </a:lnTo>
                  <a:lnTo>
                    <a:pt x="1456" y="866"/>
                  </a:lnTo>
                  <a:lnTo>
                    <a:pt x="1475" y="829"/>
                  </a:lnTo>
                  <a:lnTo>
                    <a:pt x="1483" y="810"/>
                  </a:lnTo>
                  <a:lnTo>
                    <a:pt x="1489" y="794"/>
                  </a:lnTo>
                  <a:lnTo>
                    <a:pt x="1496" y="778"/>
                  </a:lnTo>
                  <a:lnTo>
                    <a:pt x="1500" y="762"/>
                  </a:lnTo>
                  <a:lnTo>
                    <a:pt x="1509" y="734"/>
                  </a:lnTo>
                  <a:lnTo>
                    <a:pt x="1515" y="704"/>
                  </a:lnTo>
                  <a:lnTo>
                    <a:pt x="1522" y="676"/>
                  </a:lnTo>
                  <a:lnTo>
                    <a:pt x="1527" y="648"/>
                  </a:lnTo>
                  <a:lnTo>
                    <a:pt x="1539" y="592"/>
                  </a:lnTo>
                  <a:lnTo>
                    <a:pt x="1551" y="534"/>
                  </a:lnTo>
                  <a:lnTo>
                    <a:pt x="1557" y="505"/>
                  </a:lnTo>
                  <a:lnTo>
                    <a:pt x="1564" y="474"/>
                  </a:lnTo>
                  <a:lnTo>
                    <a:pt x="1573" y="444"/>
                  </a:lnTo>
                  <a:lnTo>
                    <a:pt x="1582" y="412"/>
                  </a:lnTo>
                  <a:lnTo>
                    <a:pt x="1592" y="379"/>
                  </a:lnTo>
                  <a:lnTo>
                    <a:pt x="1605" y="345"/>
                  </a:lnTo>
                  <a:lnTo>
                    <a:pt x="1618" y="309"/>
                  </a:lnTo>
                  <a:lnTo>
                    <a:pt x="1634" y="272"/>
                  </a:lnTo>
                  <a:lnTo>
                    <a:pt x="1649" y="239"/>
                  </a:lnTo>
                  <a:lnTo>
                    <a:pt x="1660" y="211"/>
                  </a:lnTo>
                  <a:lnTo>
                    <a:pt x="1669" y="188"/>
                  </a:lnTo>
                  <a:lnTo>
                    <a:pt x="1674" y="171"/>
                  </a:lnTo>
                  <a:lnTo>
                    <a:pt x="1677" y="157"/>
                  </a:lnTo>
                  <a:lnTo>
                    <a:pt x="1680" y="146"/>
                  </a:lnTo>
                  <a:lnTo>
                    <a:pt x="1680" y="137"/>
                  </a:lnTo>
                  <a:lnTo>
                    <a:pt x="1680" y="130"/>
                  </a:lnTo>
                  <a:lnTo>
                    <a:pt x="1676" y="118"/>
                  </a:lnTo>
                  <a:lnTo>
                    <a:pt x="1675" y="103"/>
                  </a:lnTo>
                  <a:lnTo>
                    <a:pt x="1676" y="92"/>
                  </a:lnTo>
                  <a:lnTo>
                    <a:pt x="1680" y="78"/>
                  </a:lnTo>
                  <a:lnTo>
                    <a:pt x="1684" y="61"/>
                  </a:lnTo>
                  <a:lnTo>
                    <a:pt x="1691" y="38"/>
                  </a:lnTo>
                  <a:lnTo>
                    <a:pt x="1695" y="26"/>
                  </a:lnTo>
                  <a:lnTo>
                    <a:pt x="1699" y="18"/>
                  </a:lnTo>
                  <a:lnTo>
                    <a:pt x="1702" y="10"/>
                  </a:lnTo>
                  <a:lnTo>
                    <a:pt x="1705" y="6"/>
                  </a:lnTo>
                  <a:lnTo>
                    <a:pt x="1709" y="2"/>
                  </a:lnTo>
                  <a:lnTo>
                    <a:pt x="1711" y="1"/>
                  </a:lnTo>
                  <a:lnTo>
                    <a:pt x="1714" y="1"/>
                  </a:lnTo>
                  <a:lnTo>
                    <a:pt x="1716" y="3"/>
                  </a:lnTo>
                  <a:lnTo>
                    <a:pt x="1717" y="8"/>
                  </a:lnTo>
                  <a:lnTo>
                    <a:pt x="1720" y="13"/>
                  </a:lnTo>
                  <a:lnTo>
                    <a:pt x="1721" y="21"/>
                  </a:lnTo>
                  <a:lnTo>
                    <a:pt x="1722" y="28"/>
                  </a:lnTo>
                  <a:lnTo>
                    <a:pt x="1723" y="50"/>
                  </a:lnTo>
                  <a:lnTo>
                    <a:pt x="1723" y="75"/>
                  </a:lnTo>
                  <a:lnTo>
                    <a:pt x="1721" y="105"/>
                  </a:lnTo>
                  <a:lnTo>
                    <a:pt x="1717" y="137"/>
                  </a:lnTo>
                  <a:lnTo>
                    <a:pt x="1713" y="173"/>
                  </a:lnTo>
                  <a:lnTo>
                    <a:pt x="1708" y="211"/>
                  </a:lnTo>
                  <a:lnTo>
                    <a:pt x="1700" y="251"/>
                  </a:lnTo>
                  <a:lnTo>
                    <a:pt x="1691" y="291"/>
                  </a:lnTo>
                  <a:lnTo>
                    <a:pt x="1681" y="332"/>
                  </a:lnTo>
                  <a:lnTo>
                    <a:pt x="1669" y="372"/>
                  </a:lnTo>
                  <a:lnTo>
                    <a:pt x="1643" y="452"/>
                  </a:lnTo>
                  <a:lnTo>
                    <a:pt x="1621" y="526"/>
                  </a:lnTo>
                  <a:lnTo>
                    <a:pt x="1611" y="562"/>
                  </a:lnTo>
                  <a:lnTo>
                    <a:pt x="1604" y="595"/>
                  </a:lnTo>
                  <a:lnTo>
                    <a:pt x="1596" y="627"/>
                  </a:lnTo>
                  <a:lnTo>
                    <a:pt x="1590" y="657"/>
                  </a:lnTo>
                  <a:lnTo>
                    <a:pt x="1584" y="686"/>
                  </a:lnTo>
                  <a:lnTo>
                    <a:pt x="1579" y="713"/>
                  </a:lnTo>
                  <a:lnTo>
                    <a:pt x="1576" y="738"/>
                  </a:lnTo>
                  <a:lnTo>
                    <a:pt x="1574" y="762"/>
                  </a:lnTo>
                  <a:lnTo>
                    <a:pt x="1572" y="784"/>
                  </a:lnTo>
                  <a:lnTo>
                    <a:pt x="1572" y="804"/>
                  </a:lnTo>
                  <a:lnTo>
                    <a:pt x="1572" y="823"/>
                  </a:lnTo>
                  <a:lnTo>
                    <a:pt x="1574" y="839"/>
                  </a:lnTo>
                  <a:lnTo>
                    <a:pt x="1576" y="855"/>
                  </a:lnTo>
                  <a:lnTo>
                    <a:pt x="1580" y="869"/>
                  </a:lnTo>
                  <a:lnTo>
                    <a:pt x="1584" y="880"/>
                  </a:lnTo>
                  <a:lnTo>
                    <a:pt x="1590" y="890"/>
                  </a:lnTo>
                  <a:lnTo>
                    <a:pt x="1597" y="898"/>
                  </a:lnTo>
                  <a:lnTo>
                    <a:pt x="1605" y="904"/>
                  </a:lnTo>
                  <a:lnTo>
                    <a:pt x="1614" y="909"/>
                  </a:lnTo>
                  <a:lnTo>
                    <a:pt x="1624" y="911"/>
                  </a:lnTo>
                  <a:lnTo>
                    <a:pt x="1635" y="912"/>
                  </a:lnTo>
                  <a:lnTo>
                    <a:pt x="1647" y="910"/>
                  </a:lnTo>
                  <a:lnTo>
                    <a:pt x="1661" y="906"/>
                  </a:lnTo>
                  <a:lnTo>
                    <a:pt x="1675" y="902"/>
                  </a:lnTo>
                  <a:lnTo>
                    <a:pt x="1691" y="894"/>
                  </a:lnTo>
                  <a:lnTo>
                    <a:pt x="1709" y="885"/>
                  </a:lnTo>
                  <a:lnTo>
                    <a:pt x="1726" y="874"/>
                  </a:lnTo>
                  <a:lnTo>
                    <a:pt x="1745" y="861"/>
                  </a:lnTo>
                  <a:lnTo>
                    <a:pt x="1769" y="843"/>
                  </a:lnTo>
                  <a:lnTo>
                    <a:pt x="1792" y="821"/>
                  </a:lnTo>
                  <a:lnTo>
                    <a:pt x="1813" y="798"/>
                  </a:lnTo>
                  <a:lnTo>
                    <a:pt x="1833" y="775"/>
                  </a:lnTo>
                  <a:lnTo>
                    <a:pt x="1851" y="749"/>
                  </a:lnTo>
                  <a:lnTo>
                    <a:pt x="1869" y="722"/>
                  </a:lnTo>
                  <a:lnTo>
                    <a:pt x="1884" y="694"/>
                  </a:lnTo>
                  <a:lnTo>
                    <a:pt x="1898" y="664"/>
                  </a:lnTo>
                  <a:lnTo>
                    <a:pt x="1912" y="635"/>
                  </a:lnTo>
                  <a:lnTo>
                    <a:pt x="1924" y="606"/>
                  </a:lnTo>
                  <a:lnTo>
                    <a:pt x="1934" y="577"/>
                  </a:lnTo>
                  <a:lnTo>
                    <a:pt x="1944" y="548"/>
                  </a:lnTo>
                  <a:lnTo>
                    <a:pt x="1954" y="520"/>
                  </a:lnTo>
                  <a:lnTo>
                    <a:pt x="1961" y="492"/>
                  </a:lnTo>
                  <a:lnTo>
                    <a:pt x="1969" y="465"/>
                  </a:lnTo>
                  <a:lnTo>
                    <a:pt x="1976" y="439"/>
                  </a:lnTo>
                  <a:lnTo>
                    <a:pt x="1994" y="353"/>
                  </a:lnTo>
                  <a:lnTo>
                    <a:pt x="2004" y="305"/>
                  </a:lnTo>
                  <a:lnTo>
                    <a:pt x="2006" y="300"/>
                  </a:lnTo>
                  <a:lnTo>
                    <a:pt x="2007" y="299"/>
                  </a:lnTo>
                  <a:lnTo>
                    <a:pt x="2008" y="303"/>
                  </a:lnTo>
                  <a:lnTo>
                    <a:pt x="2009" y="310"/>
                  </a:lnTo>
                  <a:lnTo>
                    <a:pt x="2010" y="337"/>
                  </a:lnTo>
                  <a:lnTo>
                    <a:pt x="2012" y="384"/>
                  </a:lnTo>
                  <a:lnTo>
                    <a:pt x="2013" y="412"/>
                  </a:lnTo>
                  <a:lnTo>
                    <a:pt x="2013" y="438"/>
                  </a:lnTo>
                  <a:lnTo>
                    <a:pt x="2012" y="462"/>
                  </a:lnTo>
                  <a:lnTo>
                    <a:pt x="2011" y="486"/>
                  </a:lnTo>
                  <a:lnTo>
                    <a:pt x="2010" y="509"/>
                  </a:lnTo>
                  <a:lnTo>
                    <a:pt x="2008" y="529"/>
                  </a:lnTo>
                  <a:lnTo>
                    <a:pt x="2005" y="550"/>
                  </a:lnTo>
                  <a:lnTo>
                    <a:pt x="2003" y="570"/>
                  </a:lnTo>
                  <a:lnTo>
                    <a:pt x="1995" y="606"/>
                  </a:lnTo>
                  <a:lnTo>
                    <a:pt x="1986" y="640"/>
                  </a:lnTo>
                  <a:lnTo>
                    <a:pt x="1978" y="671"/>
                  </a:lnTo>
                  <a:lnTo>
                    <a:pt x="1968" y="700"/>
                  </a:lnTo>
                  <a:lnTo>
                    <a:pt x="1947" y="754"/>
                  </a:lnTo>
                  <a:lnTo>
                    <a:pt x="1930" y="806"/>
                  </a:lnTo>
                  <a:lnTo>
                    <a:pt x="1924" y="832"/>
                  </a:lnTo>
                  <a:lnTo>
                    <a:pt x="1918" y="859"/>
                  </a:lnTo>
                  <a:lnTo>
                    <a:pt x="1916" y="873"/>
                  </a:lnTo>
                  <a:lnTo>
                    <a:pt x="1915" y="888"/>
                  </a:lnTo>
                  <a:lnTo>
                    <a:pt x="1914" y="902"/>
                  </a:lnTo>
                  <a:lnTo>
                    <a:pt x="1913" y="918"/>
                  </a:lnTo>
                  <a:lnTo>
                    <a:pt x="1914" y="932"/>
                  </a:lnTo>
                  <a:lnTo>
                    <a:pt x="1917" y="946"/>
                  </a:lnTo>
                  <a:lnTo>
                    <a:pt x="1922" y="959"/>
                  </a:lnTo>
                  <a:lnTo>
                    <a:pt x="1927" y="970"/>
                  </a:lnTo>
                  <a:lnTo>
                    <a:pt x="1933" y="980"/>
                  </a:lnTo>
                  <a:lnTo>
                    <a:pt x="1942" y="988"/>
                  </a:lnTo>
                  <a:lnTo>
                    <a:pt x="1952" y="996"/>
                  </a:lnTo>
                  <a:lnTo>
                    <a:pt x="1963" y="1001"/>
                  </a:lnTo>
                  <a:lnTo>
                    <a:pt x="1973" y="1007"/>
                  </a:lnTo>
                  <a:lnTo>
                    <a:pt x="1986" y="1010"/>
                  </a:lnTo>
                  <a:lnTo>
                    <a:pt x="1999" y="1012"/>
                  </a:lnTo>
                  <a:lnTo>
                    <a:pt x="2012" y="1012"/>
                  </a:lnTo>
                  <a:lnTo>
                    <a:pt x="2026" y="1012"/>
                  </a:lnTo>
                  <a:lnTo>
                    <a:pt x="2041" y="1010"/>
                  </a:lnTo>
                  <a:lnTo>
                    <a:pt x="2055" y="1007"/>
                  </a:lnTo>
                  <a:lnTo>
                    <a:pt x="2071" y="1001"/>
                  </a:lnTo>
                  <a:lnTo>
                    <a:pt x="2086" y="995"/>
                  </a:lnTo>
                  <a:lnTo>
                    <a:pt x="2100" y="987"/>
                  </a:lnTo>
                  <a:lnTo>
                    <a:pt x="2115" y="979"/>
                  </a:lnTo>
                  <a:lnTo>
                    <a:pt x="2129" y="968"/>
                  </a:lnTo>
                  <a:lnTo>
                    <a:pt x="2143" y="956"/>
                  </a:lnTo>
                  <a:lnTo>
                    <a:pt x="2156" y="943"/>
                  </a:lnTo>
                  <a:lnTo>
                    <a:pt x="2169" y="928"/>
                  </a:lnTo>
                  <a:lnTo>
                    <a:pt x="2181" y="912"/>
                  </a:lnTo>
                  <a:lnTo>
                    <a:pt x="2192" y="894"/>
                  </a:lnTo>
                  <a:lnTo>
                    <a:pt x="2201" y="875"/>
                  </a:lnTo>
                  <a:lnTo>
                    <a:pt x="2210" y="855"/>
                  </a:lnTo>
                  <a:lnTo>
                    <a:pt x="2219" y="832"/>
                  </a:lnTo>
                  <a:lnTo>
                    <a:pt x="2225" y="808"/>
                  </a:lnTo>
                  <a:lnTo>
                    <a:pt x="2229" y="783"/>
                  </a:lnTo>
                  <a:lnTo>
                    <a:pt x="2233" y="756"/>
                  </a:lnTo>
                  <a:lnTo>
                    <a:pt x="2235" y="727"/>
                  </a:lnTo>
                  <a:lnTo>
                    <a:pt x="2236" y="707"/>
                  </a:lnTo>
                  <a:lnTo>
                    <a:pt x="2237" y="686"/>
                  </a:lnTo>
                  <a:lnTo>
                    <a:pt x="2239" y="666"/>
                  </a:lnTo>
                  <a:lnTo>
                    <a:pt x="2242" y="647"/>
                  </a:lnTo>
                  <a:lnTo>
                    <a:pt x="2249" y="610"/>
                  </a:lnTo>
                  <a:lnTo>
                    <a:pt x="2256" y="578"/>
                  </a:lnTo>
                  <a:lnTo>
                    <a:pt x="2265" y="550"/>
                  </a:lnTo>
                  <a:lnTo>
                    <a:pt x="2274" y="527"/>
                  </a:lnTo>
                  <a:lnTo>
                    <a:pt x="2278" y="518"/>
                  </a:lnTo>
                  <a:lnTo>
                    <a:pt x="2282" y="509"/>
                  </a:lnTo>
                  <a:lnTo>
                    <a:pt x="2287" y="502"/>
                  </a:lnTo>
                  <a:lnTo>
                    <a:pt x="2290" y="498"/>
                  </a:lnTo>
                  <a:lnTo>
                    <a:pt x="2293" y="495"/>
                  </a:lnTo>
                  <a:lnTo>
                    <a:pt x="2296" y="493"/>
                  </a:lnTo>
                  <a:lnTo>
                    <a:pt x="2300" y="494"/>
                  </a:lnTo>
                  <a:lnTo>
                    <a:pt x="2302" y="496"/>
                  </a:lnTo>
                  <a:lnTo>
                    <a:pt x="2304" y="500"/>
                  </a:lnTo>
                  <a:lnTo>
                    <a:pt x="2305" y="507"/>
                  </a:lnTo>
                  <a:lnTo>
                    <a:pt x="2305" y="515"/>
                  </a:lnTo>
                  <a:lnTo>
                    <a:pt x="2305" y="526"/>
                  </a:lnTo>
                  <a:lnTo>
                    <a:pt x="2304" y="540"/>
                  </a:lnTo>
                  <a:lnTo>
                    <a:pt x="2302" y="555"/>
                  </a:lnTo>
                  <a:lnTo>
                    <a:pt x="2299" y="574"/>
                  </a:lnTo>
                  <a:lnTo>
                    <a:pt x="2295" y="594"/>
                  </a:lnTo>
                  <a:lnTo>
                    <a:pt x="2284" y="644"/>
                  </a:lnTo>
                  <a:lnTo>
                    <a:pt x="2269" y="705"/>
                  </a:lnTo>
                  <a:lnTo>
                    <a:pt x="2262" y="735"/>
                  </a:lnTo>
                  <a:lnTo>
                    <a:pt x="2256" y="761"/>
                  </a:lnTo>
                  <a:lnTo>
                    <a:pt x="2253" y="783"/>
                  </a:lnTo>
                  <a:lnTo>
                    <a:pt x="2251" y="803"/>
                  </a:lnTo>
                  <a:lnTo>
                    <a:pt x="2250" y="819"/>
                  </a:lnTo>
                  <a:lnTo>
                    <a:pt x="2250" y="832"/>
                  </a:lnTo>
                  <a:lnTo>
                    <a:pt x="2251" y="844"/>
                  </a:lnTo>
                  <a:lnTo>
                    <a:pt x="2253" y="852"/>
                  </a:lnTo>
                  <a:lnTo>
                    <a:pt x="2255" y="859"/>
                  </a:lnTo>
                  <a:lnTo>
                    <a:pt x="2257" y="864"/>
                  </a:lnTo>
                  <a:lnTo>
                    <a:pt x="2261" y="869"/>
                  </a:lnTo>
                  <a:lnTo>
                    <a:pt x="2263" y="871"/>
                  </a:lnTo>
                  <a:lnTo>
                    <a:pt x="2267" y="873"/>
                  </a:lnTo>
                  <a:lnTo>
                    <a:pt x="2269" y="873"/>
                  </a:lnTo>
                  <a:lnTo>
                    <a:pt x="2269" y="880"/>
                  </a:lnTo>
                  <a:lnTo>
                    <a:pt x="2269" y="900"/>
                  </a:lnTo>
                  <a:lnTo>
                    <a:pt x="2267" y="929"/>
                  </a:lnTo>
                  <a:lnTo>
                    <a:pt x="2265" y="964"/>
                  </a:lnTo>
                  <a:lnTo>
                    <a:pt x="2261" y="1000"/>
                  </a:lnTo>
                  <a:lnTo>
                    <a:pt x="2255" y="1037"/>
                  </a:lnTo>
                  <a:lnTo>
                    <a:pt x="2251" y="1054"/>
                  </a:lnTo>
                  <a:lnTo>
                    <a:pt x="2247" y="1071"/>
                  </a:lnTo>
                  <a:lnTo>
                    <a:pt x="2241" y="1083"/>
                  </a:lnTo>
                  <a:lnTo>
                    <a:pt x="2235" y="1095"/>
                  </a:lnTo>
                  <a:lnTo>
                    <a:pt x="2228" y="1108"/>
                  </a:lnTo>
                  <a:lnTo>
                    <a:pt x="2222" y="1127"/>
                  </a:lnTo>
                  <a:lnTo>
                    <a:pt x="2215" y="1148"/>
                  </a:lnTo>
                  <a:lnTo>
                    <a:pt x="2209" y="1173"/>
                  </a:lnTo>
                  <a:lnTo>
                    <a:pt x="2196" y="1233"/>
                  </a:lnTo>
                  <a:lnTo>
                    <a:pt x="2184" y="1296"/>
                  </a:lnTo>
                  <a:lnTo>
                    <a:pt x="2174" y="1361"/>
                  </a:lnTo>
                  <a:lnTo>
                    <a:pt x="2166" y="1422"/>
                  </a:lnTo>
                  <a:lnTo>
                    <a:pt x="2160" y="1471"/>
                  </a:lnTo>
                  <a:lnTo>
                    <a:pt x="2158" y="1506"/>
                  </a:lnTo>
                  <a:lnTo>
                    <a:pt x="2158" y="1533"/>
                  </a:lnTo>
                  <a:lnTo>
                    <a:pt x="2156" y="1561"/>
                  </a:lnTo>
                  <a:lnTo>
                    <a:pt x="2153" y="1591"/>
                  </a:lnTo>
                  <a:lnTo>
                    <a:pt x="2148" y="1625"/>
                  </a:lnTo>
                  <a:lnTo>
                    <a:pt x="2142" y="1660"/>
                  </a:lnTo>
                  <a:lnTo>
                    <a:pt x="2134" y="1699"/>
                  </a:lnTo>
                  <a:lnTo>
                    <a:pt x="2125" y="1741"/>
                  </a:lnTo>
                  <a:lnTo>
                    <a:pt x="2114" y="1785"/>
                  </a:lnTo>
                  <a:lnTo>
                    <a:pt x="2095" y="1854"/>
                  </a:lnTo>
                  <a:lnTo>
                    <a:pt x="2070" y="1956"/>
                  </a:lnTo>
                  <a:lnTo>
                    <a:pt x="2038" y="2081"/>
                  </a:lnTo>
                  <a:lnTo>
                    <a:pt x="2006" y="2214"/>
                  </a:lnTo>
                  <a:lnTo>
                    <a:pt x="1974" y="2342"/>
                  </a:lnTo>
                  <a:lnTo>
                    <a:pt x="1949" y="2449"/>
                  </a:lnTo>
                  <a:lnTo>
                    <a:pt x="1930" y="2524"/>
                  </a:lnTo>
                  <a:lnTo>
                    <a:pt x="1924" y="2552"/>
                  </a:lnTo>
                  <a:lnTo>
                    <a:pt x="1889" y="2566"/>
                  </a:lnTo>
                  <a:lnTo>
                    <a:pt x="1798" y="2605"/>
                  </a:lnTo>
                  <a:lnTo>
                    <a:pt x="1669" y="2659"/>
                  </a:lnTo>
                  <a:lnTo>
                    <a:pt x="1517" y="2720"/>
                  </a:lnTo>
                  <a:lnTo>
                    <a:pt x="1440" y="2749"/>
                  </a:lnTo>
                  <a:lnTo>
                    <a:pt x="1362" y="2778"/>
                  </a:lnTo>
                  <a:lnTo>
                    <a:pt x="1288" y="2803"/>
                  </a:lnTo>
                  <a:lnTo>
                    <a:pt x="1220" y="2824"/>
                  </a:lnTo>
                  <a:lnTo>
                    <a:pt x="1189" y="2834"/>
                  </a:lnTo>
                  <a:lnTo>
                    <a:pt x="1160" y="2842"/>
                  </a:lnTo>
                  <a:lnTo>
                    <a:pt x="1133" y="2848"/>
                  </a:lnTo>
                  <a:lnTo>
                    <a:pt x="1109" y="2854"/>
                  </a:lnTo>
                  <a:lnTo>
                    <a:pt x="1088" y="2856"/>
                  </a:lnTo>
                  <a:lnTo>
                    <a:pt x="1070" y="2857"/>
                  </a:lnTo>
                  <a:lnTo>
                    <a:pt x="1056" y="2857"/>
                  </a:lnTo>
                  <a:lnTo>
                    <a:pt x="1045" y="2854"/>
                  </a:lnTo>
                  <a:lnTo>
                    <a:pt x="1029" y="2846"/>
                  </a:lnTo>
                  <a:lnTo>
                    <a:pt x="1013" y="2842"/>
                  </a:lnTo>
                  <a:lnTo>
                    <a:pt x="997" y="2838"/>
                  </a:lnTo>
                  <a:lnTo>
                    <a:pt x="981" y="2838"/>
                  </a:lnTo>
                  <a:lnTo>
                    <a:pt x="965" y="2840"/>
                  </a:lnTo>
                  <a:lnTo>
                    <a:pt x="949" y="2842"/>
                  </a:lnTo>
                  <a:lnTo>
                    <a:pt x="934" y="2846"/>
                  </a:lnTo>
                  <a:lnTo>
                    <a:pt x="920" y="2850"/>
                  </a:lnTo>
                  <a:lnTo>
                    <a:pt x="891" y="2862"/>
                  </a:lnTo>
                  <a:lnTo>
                    <a:pt x="863" y="2875"/>
                  </a:lnTo>
                  <a:lnTo>
                    <a:pt x="836" y="2888"/>
                  </a:lnTo>
                  <a:lnTo>
                    <a:pt x="811" y="2898"/>
                  </a:lnTo>
                  <a:lnTo>
                    <a:pt x="797" y="2901"/>
                  </a:lnTo>
                  <a:lnTo>
                    <a:pt x="781" y="2903"/>
                  </a:lnTo>
                  <a:lnTo>
                    <a:pt x="763" y="2904"/>
                  </a:lnTo>
                  <a:lnTo>
                    <a:pt x="744" y="2904"/>
                  </a:lnTo>
                  <a:lnTo>
                    <a:pt x="725" y="2903"/>
                  </a:lnTo>
                  <a:lnTo>
                    <a:pt x="704" y="2901"/>
                  </a:lnTo>
                  <a:lnTo>
                    <a:pt x="684" y="2898"/>
                  </a:lnTo>
                  <a:lnTo>
                    <a:pt x="663" y="2895"/>
                  </a:lnTo>
                  <a:lnTo>
                    <a:pt x="644" y="2889"/>
                  </a:lnTo>
                  <a:lnTo>
                    <a:pt x="626" y="2885"/>
                  </a:lnTo>
                  <a:lnTo>
                    <a:pt x="609" y="2878"/>
                  </a:lnTo>
                  <a:lnTo>
                    <a:pt x="595" y="2872"/>
                  </a:lnTo>
                  <a:lnTo>
                    <a:pt x="583" y="2864"/>
                  </a:lnTo>
                  <a:lnTo>
                    <a:pt x="573" y="2857"/>
                  </a:lnTo>
                  <a:lnTo>
                    <a:pt x="570" y="2854"/>
                  </a:lnTo>
                  <a:lnTo>
                    <a:pt x="568" y="2849"/>
                  </a:lnTo>
                  <a:lnTo>
                    <a:pt x="567" y="2845"/>
                  </a:lnTo>
                  <a:lnTo>
                    <a:pt x="566" y="2841"/>
                  </a:lnTo>
                  <a:lnTo>
                    <a:pt x="566" y="2833"/>
                  </a:lnTo>
                  <a:lnTo>
                    <a:pt x="564" y="2826"/>
                  </a:lnTo>
                  <a:lnTo>
                    <a:pt x="561" y="2818"/>
                  </a:lnTo>
                  <a:lnTo>
                    <a:pt x="557" y="2813"/>
                  </a:lnTo>
                  <a:lnTo>
                    <a:pt x="553" y="2806"/>
                  </a:lnTo>
                  <a:lnTo>
                    <a:pt x="547" y="2802"/>
                  </a:lnTo>
                  <a:lnTo>
                    <a:pt x="540" y="2797"/>
                  </a:lnTo>
                  <a:lnTo>
                    <a:pt x="532" y="2794"/>
                  </a:lnTo>
                  <a:lnTo>
                    <a:pt x="524" y="2791"/>
                  </a:lnTo>
                  <a:lnTo>
                    <a:pt x="514" y="2789"/>
                  </a:lnTo>
                  <a:lnTo>
                    <a:pt x="503" y="2788"/>
                  </a:lnTo>
                  <a:lnTo>
                    <a:pt x="491" y="2788"/>
                  </a:lnTo>
                  <a:lnTo>
                    <a:pt x="478" y="2789"/>
                  </a:lnTo>
                  <a:lnTo>
                    <a:pt x="464" y="2790"/>
                  </a:lnTo>
                  <a:lnTo>
                    <a:pt x="449" y="2793"/>
                  </a:lnTo>
                  <a:lnTo>
                    <a:pt x="433" y="2796"/>
                  </a:lnTo>
                  <a:lnTo>
                    <a:pt x="416" y="2800"/>
                  </a:lnTo>
                  <a:lnTo>
                    <a:pt x="398" y="2803"/>
                  </a:lnTo>
                  <a:lnTo>
                    <a:pt x="382" y="2804"/>
                  </a:lnTo>
                  <a:lnTo>
                    <a:pt x="366" y="2804"/>
                  </a:lnTo>
                  <a:lnTo>
                    <a:pt x="350" y="2804"/>
                  </a:lnTo>
                  <a:lnTo>
                    <a:pt x="334" y="2803"/>
                  </a:lnTo>
                  <a:lnTo>
                    <a:pt x="319" y="2802"/>
                  </a:lnTo>
                  <a:lnTo>
                    <a:pt x="305" y="2800"/>
                  </a:lnTo>
                  <a:lnTo>
                    <a:pt x="281" y="2795"/>
                  </a:lnTo>
                  <a:lnTo>
                    <a:pt x="261" y="2791"/>
                  </a:lnTo>
                  <a:lnTo>
                    <a:pt x="249" y="2788"/>
                  </a:lnTo>
                  <a:lnTo>
                    <a:pt x="245" y="2787"/>
                  </a:lnTo>
                  <a:lnTo>
                    <a:pt x="0" y="1563"/>
                  </a:lnTo>
                  <a:lnTo>
                    <a:pt x="311" y="1017"/>
                  </a:lnTo>
                  <a:close/>
                </a:path>
              </a:pathLst>
            </a:custGeom>
            <a:solidFill>
              <a:srgbClr val="567a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329080" y="2654280"/>
              <a:ext cx="731880" cy="765360"/>
            </a:xfrm>
            <a:custGeom>
              <a:avLst/>
              <a:gdLst/>
              <a:ahLst/>
              <a:rect l="l" t="t" r="r" b="b"/>
              <a:pathLst>
                <a:path w="2305" h="2411">
                  <a:moveTo>
                    <a:pt x="2235" y="234"/>
                  </a:moveTo>
                  <a:lnTo>
                    <a:pt x="2236" y="214"/>
                  </a:lnTo>
                  <a:lnTo>
                    <a:pt x="2237" y="193"/>
                  </a:lnTo>
                  <a:lnTo>
                    <a:pt x="2239" y="173"/>
                  </a:lnTo>
                  <a:lnTo>
                    <a:pt x="2242" y="154"/>
                  </a:lnTo>
                  <a:lnTo>
                    <a:pt x="2249" y="117"/>
                  </a:lnTo>
                  <a:lnTo>
                    <a:pt x="2256" y="85"/>
                  </a:lnTo>
                  <a:lnTo>
                    <a:pt x="2265" y="57"/>
                  </a:lnTo>
                  <a:lnTo>
                    <a:pt x="2274" y="34"/>
                  </a:lnTo>
                  <a:lnTo>
                    <a:pt x="2278" y="25"/>
                  </a:lnTo>
                  <a:lnTo>
                    <a:pt x="2282" y="16"/>
                  </a:lnTo>
                  <a:lnTo>
                    <a:pt x="2287" y="9"/>
                  </a:lnTo>
                  <a:lnTo>
                    <a:pt x="2290" y="5"/>
                  </a:lnTo>
                  <a:lnTo>
                    <a:pt x="2293" y="2"/>
                  </a:lnTo>
                  <a:lnTo>
                    <a:pt x="2296" y="0"/>
                  </a:lnTo>
                  <a:lnTo>
                    <a:pt x="2300" y="1"/>
                  </a:lnTo>
                  <a:lnTo>
                    <a:pt x="2302" y="3"/>
                  </a:lnTo>
                  <a:lnTo>
                    <a:pt x="2304" y="7"/>
                  </a:lnTo>
                  <a:lnTo>
                    <a:pt x="2305" y="14"/>
                  </a:lnTo>
                  <a:lnTo>
                    <a:pt x="2305" y="22"/>
                  </a:lnTo>
                  <a:lnTo>
                    <a:pt x="2305" y="33"/>
                  </a:lnTo>
                  <a:lnTo>
                    <a:pt x="2304" y="47"/>
                  </a:lnTo>
                  <a:lnTo>
                    <a:pt x="2302" y="62"/>
                  </a:lnTo>
                  <a:lnTo>
                    <a:pt x="2299" y="81"/>
                  </a:lnTo>
                  <a:lnTo>
                    <a:pt x="2295" y="101"/>
                  </a:lnTo>
                  <a:lnTo>
                    <a:pt x="2284" y="151"/>
                  </a:lnTo>
                  <a:lnTo>
                    <a:pt x="2269" y="212"/>
                  </a:lnTo>
                  <a:lnTo>
                    <a:pt x="2262" y="242"/>
                  </a:lnTo>
                  <a:lnTo>
                    <a:pt x="2256" y="268"/>
                  </a:lnTo>
                  <a:lnTo>
                    <a:pt x="2253" y="290"/>
                  </a:lnTo>
                  <a:lnTo>
                    <a:pt x="2251" y="310"/>
                  </a:lnTo>
                  <a:lnTo>
                    <a:pt x="2250" y="326"/>
                  </a:lnTo>
                  <a:lnTo>
                    <a:pt x="2250" y="339"/>
                  </a:lnTo>
                  <a:lnTo>
                    <a:pt x="2251" y="351"/>
                  </a:lnTo>
                  <a:lnTo>
                    <a:pt x="2253" y="359"/>
                  </a:lnTo>
                  <a:lnTo>
                    <a:pt x="2255" y="366"/>
                  </a:lnTo>
                  <a:lnTo>
                    <a:pt x="2257" y="371"/>
                  </a:lnTo>
                  <a:lnTo>
                    <a:pt x="2261" y="376"/>
                  </a:lnTo>
                  <a:lnTo>
                    <a:pt x="2263" y="378"/>
                  </a:lnTo>
                  <a:lnTo>
                    <a:pt x="2267" y="380"/>
                  </a:lnTo>
                  <a:lnTo>
                    <a:pt x="2269" y="380"/>
                  </a:lnTo>
                  <a:lnTo>
                    <a:pt x="2269" y="387"/>
                  </a:lnTo>
                  <a:lnTo>
                    <a:pt x="2269" y="407"/>
                  </a:lnTo>
                  <a:lnTo>
                    <a:pt x="2267" y="436"/>
                  </a:lnTo>
                  <a:lnTo>
                    <a:pt x="2265" y="471"/>
                  </a:lnTo>
                  <a:lnTo>
                    <a:pt x="2261" y="507"/>
                  </a:lnTo>
                  <a:lnTo>
                    <a:pt x="2255" y="544"/>
                  </a:lnTo>
                  <a:lnTo>
                    <a:pt x="2251" y="561"/>
                  </a:lnTo>
                  <a:lnTo>
                    <a:pt x="2247" y="578"/>
                  </a:lnTo>
                  <a:lnTo>
                    <a:pt x="2241" y="590"/>
                  </a:lnTo>
                  <a:lnTo>
                    <a:pt x="2235" y="602"/>
                  </a:lnTo>
                  <a:lnTo>
                    <a:pt x="2228" y="615"/>
                  </a:lnTo>
                  <a:lnTo>
                    <a:pt x="2222" y="634"/>
                  </a:lnTo>
                  <a:lnTo>
                    <a:pt x="2215" y="655"/>
                  </a:lnTo>
                  <a:lnTo>
                    <a:pt x="2209" y="680"/>
                  </a:lnTo>
                  <a:lnTo>
                    <a:pt x="2196" y="740"/>
                  </a:lnTo>
                  <a:lnTo>
                    <a:pt x="2184" y="803"/>
                  </a:lnTo>
                  <a:lnTo>
                    <a:pt x="2174" y="868"/>
                  </a:lnTo>
                  <a:lnTo>
                    <a:pt x="2166" y="929"/>
                  </a:lnTo>
                  <a:lnTo>
                    <a:pt x="2160" y="978"/>
                  </a:lnTo>
                  <a:lnTo>
                    <a:pt x="2158" y="1013"/>
                  </a:lnTo>
                  <a:lnTo>
                    <a:pt x="2158" y="1040"/>
                  </a:lnTo>
                  <a:lnTo>
                    <a:pt x="2156" y="1068"/>
                  </a:lnTo>
                  <a:lnTo>
                    <a:pt x="2153" y="1098"/>
                  </a:lnTo>
                  <a:lnTo>
                    <a:pt x="2148" y="1132"/>
                  </a:lnTo>
                  <a:lnTo>
                    <a:pt x="2142" y="1167"/>
                  </a:lnTo>
                  <a:lnTo>
                    <a:pt x="2134" y="1206"/>
                  </a:lnTo>
                  <a:lnTo>
                    <a:pt x="2125" y="1248"/>
                  </a:lnTo>
                  <a:lnTo>
                    <a:pt x="2114" y="1292"/>
                  </a:lnTo>
                  <a:lnTo>
                    <a:pt x="2095" y="1361"/>
                  </a:lnTo>
                  <a:lnTo>
                    <a:pt x="2070" y="1463"/>
                  </a:lnTo>
                  <a:lnTo>
                    <a:pt x="2038" y="1588"/>
                  </a:lnTo>
                  <a:lnTo>
                    <a:pt x="2006" y="1721"/>
                  </a:lnTo>
                  <a:lnTo>
                    <a:pt x="1974" y="1849"/>
                  </a:lnTo>
                  <a:lnTo>
                    <a:pt x="1949" y="1956"/>
                  </a:lnTo>
                  <a:lnTo>
                    <a:pt x="1930" y="2031"/>
                  </a:lnTo>
                  <a:lnTo>
                    <a:pt x="1924" y="2059"/>
                  </a:lnTo>
                  <a:lnTo>
                    <a:pt x="1889" y="2073"/>
                  </a:lnTo>
                  <a:lnTo>
                    <a:pt x="1798" y="2112"/>
                  </a:lnTo>
                  <a:lnTo>
                    <a:pt x="1669" y="2166"/>
                  </a:lnTo>
                  <a:lnTo>
                    <a:pt x="1517" y="2227"/>
                  </a:lnTo>
                  <a:lnTo>
                    <a:pt x="1440" y="2256"/>
                  </a:lnTo>
                  <a:lnTo>
                    <a:pt x="1362" y="2285"/>
                  </a:lnTo>
                  <a:lnTo>
                    <a:pt x="1288" y="2310"/>
                  </a:lnTo>
                  <a:lnTo>
                    <a:pt x="1220" y="2331"/>
                  </a:lnTo>
                  <a:lnTo>
                    <a:pt x="1189" y="2341"/>
                  </a:lnTo>
                  <a:lnTo>
                    <a:pt x="1160" y="2349"/>
                  </a:lnTo>
                  <a:lnTo>
                    <a:pt x="1133" y="2355"/>
                  </a:lnTo>
                  <a:lnTo>
                    <a:pt x="1109" y="2361"/>
                  </a:lnTo>
                  <a:lnTo>
                    <a:pt x="1088" y="2363"/>
                  </a:lnTo>
                  <a:lnTo>
                    <a:pt x="1070" y="2364"/>
                  </a:lnTo>
                  <a:lnTo>
                    <a:pt x="1056" y="2364"/>
                  </a:lnTo>
                  <a:lnTo>
                    <a:pt x="1045" y="2361"/>
                  </a:lnTo>
                  <a:lnTo>
                    <a:pt x="1029" y="2353"/>
                  </a:lnTo>
                  <a:lnTo>
                    <a:pt x="1013" y="2349"/>
                  </a:lnTo>
                  <a:lnTo>
                    <a:pt x="997" y="2345"/>
                  </a:lnTo>
                  <a:lnTo>
                    <a:pt x="981" y="2345"/>
                  </a:lnTo>
                  <a:lnTo>
                    <a:pt x="965" y="2347"/>
                  </a:lnTo>
                  <a:lnTo>
                    <a:pt x="949" y="2349"/>
                  </a:lnTo>
                  <a:lnTo>
                    <a:pt x="934" y="2353"/>
                  </a:lnTo>
                  <a:lnTo>
                    <a:pt x="920" y="2357"/>
                  </a:lnTo>
                  <a:lnTo>
                    <a:pt x="891" y="2369"/>
                  </a:lnTo>
                  <a:lnTo>
                    <a:pt x="863" y="2382"/>
                  </a:lnTo>
                  <a:lnTo>
                    <a:pt x="836" y="2395"/>
                  </a:lnTo>
                  <a:lnTo>
                    <a:pt x="811" y="2405"/>
                  </a:lnTo>
                  <a:lnTo>
                    <a:pt x="797" y="2408"/>
                  </a:lnTo>
                  <a:lnTo>
                    <a:pt x="781" y="2410"/>
                  </a:lnTo>
                  <a:lnTo>
                    <a:pt x="763" y="2411"/>
                  </a:lnTo>
                  <a:lnTo>
                    <a:pt x="744" y="2411"/>
                  </a:lnTo>
                  <a:lnTo>
                    <a:pt x="725" y="2410"/>
                  </a:lnTo>
                  <a:lnTo>
                    <a:pt x="704" y="2408"/>
                  </a:lnTo>
                  <a:lnTo>
                    <a:pt x="684" y="2405"/>
                  </a:lnTo>
                  <a:lnTo>
                    <a:pt x="663" y="2402"/>
                  </a:lnTo>
                  <a:lnTo>
                    <a:pt x="644" y="2396"/>
                  </a:lnTo>
                  <a:lnTo>
                    <a:pt x="626" y="2392"/>
                  </a:lnTo>
                  <a:lnTo>
                    <a:pt x="609" y="2385"/>
                  </a:lnTo>
                  <a:lnTo>
                    <a:pt x="595" y="2379"/>
                  </a:lnTo>
                  <a:lnTo>
                    <a:pt x="583" y="2371"/>
                  </a:lnTo>
                  <a:lnTo>
                    <a:pt x="573" y="2364"/>
                  </a:lnTo>
                  <a:lnTo>
                    <a:pt x="570" y="2361"/>
                  </a:lnTo>
                  <a:lnTo>
                    <a:pt x="568" y="2356"/>
                  </a:lnTo>
                  <a:lnTo>
                    <a:pt x="567" y="2352"/>
                  </a:lnTo>
                  <a:lnTo>
                    <a:pt x="566" y="2348"/>
                  </a:lnTo>
                  <a:lnTo>
                    <a:pt x="566" y="2340"/>
                  </a:lnTo>
                  <a:lnTo>
                    <a:pt x="564" y="2333"/>
                  </a:lnTo>
                  <a:lnTo>
                    <a:pt x="561" y="2325"/>
                  </a:lnTo>
                  <a:lnTo>
                    <a:pt x="557" y="2320"/>
                  </a:lnTo>
                  <a:lnTo>
                    <a:pt x="553" y="2313"/>
                  </a:lnTo>
                  <a:lnTo>
                    <a:pt x="547" y="2309"/>
                  </a:lnTo>
                  <a:lnTo>
                    <a:pt x="540" y="2304"/>
                  </a:lnTo>
                  <a:lnTo>
                    <a:pt x="532" y="2301"/>
                  </a:lnTo>
                  <a:lnTo>
                    <a:pt x="524" y="2298"/>
                  </a:lnTo>
                  <a:lnTo>
                    <a:pt x="514" y="2296"/>
                  </a:lnTo>
                  <a:lnTo>
                    <a:pt x="503" y="2295"/>
                  </a:lnTo>
                  <a:lnTo>
                    <a:pt x="491" y="2295"/>
                  </a:lnTo>
                  <a:lnTo>
                    <a:pt x="478" y="2296"/>
                  </a:lnTo>
                  <a:lnTo>
                    <a:pt x="464" y="2297"/>
                  </a:lnTo>
                  <a:lnTo>
                    <a:pt x="449" y="2300"/>
                  </a:lnTo>
                  <a:lnTo>
                    <a:pt x="433" y="2303"/>
                  </a:lnTo>
                  <a:lnTo>
                    <a:pt x="416" y="2307"/>
                  </a:lnTo>
                  <a:lnTo>
                    <a:pt x="398" y="2310"/>
                  </a:lnTo>
                  <a:lnTo>
                    <a:pt x="382" y="2311"/>
                  </a:lnTo>
                  <a:lnTo>
                    <a:pt x="366" y="2311"/>
                  </a:lnTo>
                  <a:lnTo>
                    <a:pt x="350" y="2311"/>
                  </a:lnTo>
                  <a:lnTo>
                    <a:pt x="334" y="2310"/>
                  </a:lnTo>
                  <a:lnTo>
                    <a:pt x="319" y="2309"/>
                  </a:lnTo>
                  <a:lnTo>
                    <a:pt x="305" y="2307"/>
                  </a:lnTo>
                  <a:lnTo>
                    <a:pt x="281" y="2302"/>
                  </a:lnTo>
                  <a:lnTo>
                    <a:pt x="261" y="2298"/>
                  </a:lnTo>
                  <a:lnTo>
                    <a:pt x="249" y="2295"/>
                  </a:lnTo>
                  <a:lnTo>
                    <a:pt x="245" y="2294"/>
                  </a:lnTo>
                  <a:lnTo>
                    <a:pt x="0" y="1070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200560" y="2702160"/>
              <a:ext cx="328680" cy="963360"/>
            </a:xfrm>
            <a:custGeom>
              <a:avLst/>
              <a:gdLst/>
              <a:ahLst/>
              <a:rect l="l" t="t" r="r" b="b"/>
              <a:pathLst>
                <a:path w="1035" h="3036">
                  <a:moveTo>
                    <a:pt x="694" y="331"/>
                  </a:moveTo>
                  <a:lnTo>
                    <a:pt x="692" y="345"/>
                  </a:lnTo>
                  <a:lnTo>
                    <a:pt x="688" y="385"/>
                  </a:lnTo>
                  <a:lnTo>
                    <a:pt x="681" y="442"/>
                  </a:lnTo>
                  <a:lnTo>
                    <a:pt x="673" y="511"/>
                  </a:lnTo>
                  <a:lnTo>
                    <a:pt x="663" y="584"/>
                  </a:lnTo>
                  <a:lnTo>
                    <a:pt x="651" y="655"/>
                  </a:lnTo>
                  <a:lnTo>
                    <a:pt x="646" y="689"/>
                  </a:lnTo>
                  <a:lnTo>
                    <a:pt x="639" y="719"/>
                  </a:lnTo>
                  <a:lnTo>
                    <a:pt x="634" y="745"/>
                  </a:lnTo>
                  <a:lnTo>
                    <a:pt x="627" y="766"/>
                  </a:lnTo>
                  <a:lnTo>
                    <a:pt x="614" y="802"/>
                  </a:lnTo>
                  <a:lnTo>
                    <a:pt x="603" y="835"/>
                  </a:lnTo>
                  <a:lnTo>
                    <a:pt x="593" y="865"/>
                  </a:lnTo>
                  <a:lnTo>
                    <a:pt x="582" y="892"/>
                  </a:lnTo>
                  <a:lnTo>
                    <a:pt x="571" y="917"/>
                  </a:lnTo>
                  <a:lnTo>
                    <a:pt x="561" y="938"/>
                  </a:lnTo>
                  <a:lnTo>
                    <a:pt x="549" y="959"/>
                  </a:lnTo>
                  <a:lnTo>
                    <a:pt x="539" y="976"/>
                  </a:lnTo>
                  <a:lnTo>
                    <a:pt x="532" y="986"/>
                  </a:lnTo>
                  <a:lnTo>
                    <a:pt x="528" y="997"/>
                  </a:lnTo>
                  <a:lnTo>
                    <a:pt x="524" y="1008"/>
                  </a:lnTo>
                  <a:lnTo>
                    <a:pt x="520" y="1022"/>
                  </a:lnTo>
                  <a:lnTo>
                    <a:pt x="518" y="1036"/>
                  </a:lnTo>
                  <a:lnTo>
                    <a:pt x="517" y="1052"/>
                  </a:lnTo>
                  <a:lnTo>
                    <a:pt x="517" y="1067"/>
                  </a:lnTo>
                  <a:lnTo>
                    <a:pt x="517" y="1083"/>
                  </a:lnTo>
                  <a:lnTo>
                    <a:pt x="518" y="1098"/>
                  </a:lnTo>
                  <a:lnTo>
                    <a:pt x="519" y="1114"/>
                  </a:lnTo>
                  <a:lnTo>
                    <a:pt x="521" y="1129"/>
                  </a:lnTo>
                  <a:lnTo>
                    <a:pt x="524" y="1143"/>
                  </a:lnTo>
                  <a:lnTo>
                    <a:pt x="527" y="1156"/>
                  </a:lnTo>
                  <a:lnTo>
                    <a:pt x="530" y="1169"/>
                  </a:lnTo>
                  <a:lnTo>
                    <a:pt x="534" y="1180"/>
                  </a:lnTo>
                  <a:lnTo>
                    <a:pt x="539" y="1189"/>
                  </a:lnTo>
                  <a:lnTo>
                    <a:pt x="543" y="1201"/>
                  </a:lnTo>
                  <a:lnTo>
                    <a:pt x="549" y="1220"/>
                  </a:lnTo>
                  <a:lnTo>
                    <a:pt x="558" y="1246"/>
                  </a:lnTo>
                  <a:lnTo>
                    <a:pt x="567" y="1276"/>
                  </a:lnTo>
                  <a:lnTo>
                    <a:pt x="587" y="1352"/>
                  </a:lnTo>
                  <a:lnTo>
                    <a:pt x="609" y="1439"/>
                  </a:lnTo>
                  <a:lnTo>
                    <a:pt x="620" y="1486"/>
                  </a:lnTo>
                  <a:lnTo>
                    <a:pt x="630" y="1533"/>
                  </a:lnTo>
                  <a:lnTo>
                    <a:pt x="640" y="1581"/>
                  </a:lnTo>
                  <a:lnTo>
                    <a:pt x="649" y="1627"/>
                  </a:lnTo>
                  <a:lnTo>
                    <a:pt x="656" y="1672"/>
                  </a:lnTo>
                  <a:lnTo>
                    <a:pt x="663" y="1715"/>
                  </a:lnTo>
                  <a:lnTo>
                    <a:pt x="668" y="1754"/>
                  </a:lnTo>
                  <a:lnTo>
                    <a:pt x="672" y="1789"/>
                  </a:lnTo>
                  <a:lnTo>
                    <a:pt x="675" y="1866"/>
                  </a:lnTo>
                  <a:lnTo>
                    <a:pt x="679" y="1958"/>
                  </a:lnTo>
                  <a:lnTo>
                    <a:pt x="682" y="2007"/>
                  </a:lnTo>
                  <a:lnTo>
                    <a:pt x="686" y="2059"/>
                  </a:lnTo>
                  <a:lnTo>
                    <a:pt x="690" y="2112"/>
                  </a:lnTo>
                  <a:lnTo>
                    <a:pt x="696" y="2165"/>
                  </a:lnTo>
                  <a:lnTo>
                    <a:pt x="703" y="2218"/>
                  </a:lnTo>
                  <a:lnTo>
                    <a:pt x="712" y="2270"/>
                  </a:lnTo>
                  <a:lnTo>
                    <a:pt x="716" y="2296"/>
                  </a:lnTo>
                  <a:lnTo>
                    <a:pt x="721" y="2321"/>
                  </a:lnTo>
                  <a:lnTo>
                    <a:pt x="728" y="2344"/>
                  </a:lnTo>
                  <a:lnTo>
                    <a:pt x="734" y="2368"/>
                  </a:lnTo>
                  <a:lnTo>
                    <a:pt x="741" y="2392"/>
                  </a:lnTo>
                  <a:lnTo>
                    <a:pt x="748" y="2413"/>
                  </a:lnTo>
                  <a:lnTo>
                    <a:pt x="756" y="2435"/>
                  </a:lnTo>
                  <a:lnTo>
                    <a:pt x="764" y="2455"/>
                  </a:lnTo>
                  <a:lnTo>
                    <a:pt x="774" y="2474"/>
                  </a:lnTo>
                  <a:lnTo>
                    <a:pt x="784" y="2492"/>
                  </a:lnTo>
                  <a:lnTo>
                    <a:pt x="794" y="2509"/>
                  </a:lnTo>
                  <a:lnTo>
                    <a:pt x="805" y="2524"/>
                  </a:lnTo>
                  <a:lnTo>
                    <a:pt x="811" y="2525"/>
                  </a:lnTo>
                  <a:lnTo>
                    <a:pt x="827" y="2526"/>
                  </a:lnTo>
                  <a:lnTo>
                    <a:pt x="850" y="2528"/>
                  </a:lnTo>
                  <a:lnTo>
                    <a:pt x="878" y="2530"/>
                  </a:lnTo>
                  <a:lnTo>
                    <a:pt x="907" y="2533"/>
                  </a:lnTo>
                  <a:lnTo>
                    <a:pt x="936" y="2538"/>
                  </a:lnTo>
                  <a:lnTo>
                    <a:pt x="963" y="2542"/>
                  </a:lnTo>
                  <a:lnTo>
                    <a:pt x="984" y="2546"/>
                  </a:lnTo>
                  <a:lnTo>
                    <a:pt x="991" y="2548"/>
                  </a:lnTo>
                  <a:lnTo>
                    <a:pt x="1000" y="2551"/>
                  </a:lnTo>
                  <a:lnTo>
                    <a:pt x="1009" y="2554"/>
                  </a:lnTo>
                  <a:lnTo>
                    <a:pt x="1016" y="2557"/>
                  </a:lnTo>
                  <a:lnTo>
                    <a:pt x="1023" y="2563"/>
                  </a:lnTo>
                  <a:lnTo>
                    <a:pt x="1028" y="2568"/>
                  </a:lnTo>
                  <a:lnTo>
                    <a:pt x="1032" y="2575"/>
                  </a:lnTo>
                  <a:lnTo>
                    <a:pt x="1035" y="2584"/>
                  </a:lnTo>
                  <a:lnTo>
                    <a:pt x="1035" y="2594"/>
                  </a:lnTo>
                  <a:lnTo>
                    <a:pt x="1033" y="2606"/>
                  </a:lnTo>
                  <a:lnTo>
                    <a:pt x="1029" y="2620"/>
                  </a:lnTo>
                  <a:lnTo>
                    <a:pt x="1022" y="2636"/>
                  </a:lnTo>
                  <a:lnTo>
                    <a:pt x="1012" y="2654"/>
                  </a:lnTo>
                  <a:lnTo>
                    <a:pt x="999" y="2675"/>
                  </a:lnTo>
                  <a:lnTo>
                    <a:pt x="982" y="2699"/>
                  </a:lnTo>
                  <a:lnTo>
                    <a:pt x="961" y="2725"/>
                  </a:lnTo>
                  <a:lnTo>
                    <a:pt x="949" y="2737"/>
                  </a:lnTo>
                  <a:lnTo>
                    <a:pt x="936" y="2752"/>
                  </a:lnTo>
                  <a:lnTo>
                    <a:pt x="922" y="2764"/>
                  </a:lnTo>
                  <a:lnTo>
                    <a:pt x="907" y="2779"/>
                  </a:lnTo>
                  <a:lnTo>
                    <a:pt x="876" y="2806"/>
                  </a:lnTo>
                  <a:lnTo>
                    <a:pt x="843" y="2834"/>
                  </a:lnTo>
                  <a:lnTo>
                    <a:pt x="809" y="2860"/>
                  </a:lnTo>
                  <a:lnTo>
                    <a:pt x="773" y="2885"/>
                  </a:lnTo>
                  <a:lnTo>
                    <a:pt x="737" y="2910"/>
                  </a:lnTo>
                  <a:lnTo>
                    <a:pt x="703" y="2933"/>
                  </a:lnTo>
                  <a:lnTo>
                    <a:pt x="639" y="2975"/>
                  </a:lnTo>
                  <a:lnTo>
                    <a:pt x="587" y="3007"/>
                  </a:lnTo>
                  <a:lnTo>
                    <a:pt x="552" y="3028"/>
                  </a:lnTo>
                  <a:lnTo>
                    <a:pt x="539" y="3036"/>
                  </a:lnTo>
                  <a:lnTo>
                    <a:pt x="539" y="3031"/>
                  </a:lnTo>
                  <a:lnTo>
                    <a:pt x="538" y="3019"/>
                  </a:lnTo>
                  <a:lnTo>
                    <a:pt x="534" y="2999"/>
                  </a:lnTo>
                  <a:lnTo>
                    <a:pt x="530" y="2970"/>
                  </a:lnTo>
                  <a:lnTo>
                    <a:pt x="522" y="2934"/>
                  </a:lnTo>
                  <a:lnTo>
                    <a:pt x="511" y="2890"/>
                  </a:lnTo>
                  <a:lnTo>
                    <a:pt x="502" y="2865"/>
                  </a:lnTo>
                  <a:lnTo>
                    <a:pt x="493" y="2838"/>
                  </a:lnTo>
                  <a:lnTo>
                    <a:pt x="484" y="2809"/>
                  </a:lnTo>
                  <a:lnTo>
                    <a:pt x="472" y="2779"/>
                  </a:lnTo>
                  <a:lnTo>
                    <a:pt x="444" y="2704"/>
                  </a:lnTo>
                  <a:lnTo>
                    <a:pt x="409" y="2609"/>
                  </a:lnTo>
                  <a:lnTo>
                    <a:pt x="372" y="2501"/>
                  </a:lnTo>
                  <a:lnTo>
                    <a:pt x="333" y="2386"/>
                  </a:lnTo>
                  <a:lnTo>
                    <a:pt x="296" y="2274"/>
                  </a:lnTo>
                  <a:lnTo>
                    <a:pt x="260" y="2169"/>
                  </a:lnTo>
                  <a:lnTo>
                    <a:pt x="229" y="2080"/>
                  </a:lnTo>
                  <a:lnTo>
                    <a:pt x="205" y="2012"/>
                  </a:lnTo>
                  <a:lnTo>
                    <a:pt x="193" y="1983"/>
                  </a:lnTo>
                  <a:lnTo>
                    <a:pt x="181" y="1947"/>
                  </a:lnTo>
                  <a:lnTo>
                    <a:pt x="169" y="1907"/>
                  </a:lnTo>
                  <a:lnTo>
                    <a:pt x="156" y="1864"/>
                  </a:lnTo>
                  <a:lnTo>
                    <a:pt x="143" y="1817"/>
                  </a:lnTo>
                  <a:lnTo>
                    <a:pt x="129" y="1769"/>
                  </a:lnTo>
                  <a:lnTo>
                    <a:pt x="116" y="1718"/>
                  </a:lnTo>
                  <a:lnTo>
                    <a:pt x="103" y="1667"/>
                  </a:lnTo>
                  <a:lnTo>
                    <a:pt x="91" y="1614"/>
                  </a:lnTo>
                  <a:lnTo>
                    <a:pt x="80" y="1562"/>
                  </a:lnTo>
                  <a:lnTo>
                    <a:pt x="70" y="1511"/>
                  </a:lnTo>
                  <a:lnTo>
                    <a:pt x="60" y="1461"/>
                  </a:lnTo>
                  <a:lnTo>
                    <a:pt x="51" y="1413"/>
                  </a:lnTo>
                  <a:lnTo>
                    <a:pt x="45" y="1368"/>
                  </a:lnTo>
                  <a:lnTo>
                    <a:pt x="40" y="1326"/>
                  </a:lnTo>
                  <a:lnTo>
                    <a:pt x="36" y="1288"/>
                  </a:lnTo>
                  <a:lnTo>
                    <a:pt x="35" y="1254"/>
                  </a:lnTo>
                  <a:lnTo>
                    <a:pt x="34" y="1222"/>
                  </a:lnTo>
                  <a:lnTo>
                    <a:pt x="34" y="1193"/>
                  </a:lnTo>
                  <a:lnTo>
                    <a:pt x="34" y="1165"/>
                  </a:lnTo>
                  <a:lnTo>
                    <a:pt x="36" y="1117"/>
                  </a:lnTo>
                  <a:lnTo>
                    <a:pt x="39" y="1079"/>
                  </a:lnTo>
                  <a:lnTo>
                    <a:pt x="42" y="1049"/>
                  </a:lnTo>
                  <a:lnTo>
                    <a:pt x="45" y="1028"/>
                  </a:lnTo>
                  <a:lnTo>
                    <a:pt x="48" y="1015"/>
                  </a:lnTo>
                  <a:lnTo>
                    <a:pt x="48" y="1011"/>
                  </a:lnTo>
                  <a:lnTo>
                    <a:pt x="48" y="1006"/>
                  </a:lnTo>
                  <a:lnTo>
                    <a:pt x="45" y="991"/>
                  </a:lnTo>
                  <a:lnTo>
                    <a:pt x="42" y="967"/>
                  </a:lnTo>
                  <a:lnTo>
                    <a:pt x="37" y="934"/>
                  </a:lnTo>
                  <a:lnTo>
                    <a:pt x="33" y="894"/>
                  </a:lnTo>
                  <a:lnTo>
                    <a:pt x="30" y="846"/>
                  </a:lnTo>
                  <a:lnTo>
                    <a:pt x="28" y="792"/>
                  </a:lnTo>
                  <a:lnTo>
                    <a:pt x="27" y="732"/>
                  </a:lnTo>
                  <a:lnTo>
                    <a:pt x="27" y="674"/>
                  </a:lnTo>
                  <a:lnTo>
                    <a:pt x="27" y="623"/>
                  </a:lnTo>
                  <a:lnTo>
                    <a:pt x="26" y="577"/>
                  </a:lnTo>
                  <a:lnTo>
                    <a:pt x="24" y="538"/>
                  </a:lnTo>
                  <a:lnTo>
                    <a:pt x="23" y="502"/>
                  </a:lnTo>
                  <a:lnTo>
                    <a:pt x="21" y="469"/>
                  </a:lnTo>
                  <a:lnTo>
                    <a:pt x="18" y="439"/>
                  </a:lnTo>
                  <a:lnTo>
                    <a:pt x="14" y="410"/>
                  </a:lnTo>
                  <a:lnTo>
                    <a:pt x="10" y="378"/>
                  </a:lnTo>
                  <a:lnTo>
                    <a:pt x="7" y="340"/>
                  </a:lnTo>
                  <a:lnTo>
                    <a:pt x="3" y="297"/>
                  </a:lnTo>
                  <a:lnTo>
                    <a:pt x="1" y="250"/>
                  </a:lnTo>
                  <a:lnTo>
                    <a:pt x="0" y="199"/>
                  </a:lnTo>
                  <a:lnTo>
                    <a:pt x="0" y="145"/>
                  </a:lnTo>
                  <a:lnTo>
                    <a:pt x="1" y="90"/>
                  </a:lnTo>
                  <a:lnTo>
                    <a:pt x="4" y="32"/>
                  </a:lnTo>
                  <a:lnTo>
                    <a:pt x="7" y="19"/>
                  </a:lnTo>
                  <a:lnTo>
                    <a:pt x="14" y="9"/>
                  </a:lnTo>
                  <a:lnTo>
                    <a:pt x="23" y="4"/>
                  </a:lnTo>
                  <a:lnTo>
                    <a:pt x="36" y="1"/>
                  </a:lnTo>
                  <a:lnTo>
                    <a:pt x="53" y="0"/>
                  </a:lnTo>
                  <a:lnTo>
                    <a:pt x="72" y="2"/>
                  </a:lnTo>
                  <a:lnTo>
                    <a:pt x="93" y="6"/>
                  </a:lnTo>
                  <a:lnTo>
                    <a:pt x="116" y="14"/>
                  </a:lnTo>
                  <a:lnTo>
                    <a:pt x="141" y="22"/>
                  </a:lnTo>
                  <a:lnTo>
                    <a:pt x="168" y="32"/>
                  </a:lnTo>
                  <a:lnTo>
                    <a:pt x="197" y="45"/>
                  </a:lnTo>
                  <a:lnTo>
                    <a:pt x="226" y="58"/>
                  </a:lnTo>
                  <a:lnTo>
                    <a:pt x="289" y="89"/>
                  </a:lnTo>
                  <a:lnTo>
                    <a:pt x="353" y="123"/>
                  </a:lnTo>
                  <a:lnTo>
                    <a:pt x="417" y="160"/>
                  </a:lnTo>
                  <a:lnTo>
                    <a:pt x="478" y="195"/>
                  </a:lnTo>
                  <a:lnTo>
                    <a:pt x="537" y="231"/>
                  </a:lnTo>
                  <a:lnTo>
                    <a:pt x="587" y="262"/>
                  </a:lnTo>
                  <a:lnTo>
                    <a:pt x="665" y="312"/>
                  </a:lnTo>
                  <a:lnTo>
                    <a:pt x="694" y="331"/>
                  </a:lnTo>
                  <a:close/>
                </a:path>
              </a:pathLst>
            </a:custGeom>
            <a:solidFill>
              <a:srgbClr val="9a76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692760" y="1770120"/>
              <a:ext cx="49320" cy="38160"/>
            </a:xfrm>
            <a:custGeom>
              <a:avLst/>
              <a:gdLst/>
              <a:ahLst/>
              <a:rect l="l" t="t" r="r" b="b"/>
              <a:pathLst>
                <a:path w="156" h="118">
                  <a:moveTo>
                    <a:pt x="62" y="115"/>
                  </a:moveTo>
                  <a:lnTo>
                    <a:pt x="156" y="7"/>
                  </a:lnTo>
                  <a:lnTo>
                    <a:pt x="126" y="0"/>
                  </a:lnTo>
                  <a:lnTo>
                    <a:pt x="0" y="103"/>
                  </a:lnTo>
                  <a:lnTo>
                    <a:pt x="1" y="104"/>
                  </a:lnTo>
                  <a:lnTo>
                    <a:pt x="7" y="106"/>
                  </a:lnTo>
                  <a:lnTo>
                    <a:pt x="13" y="110"/>
                  </a:lnTo>
                  <a:lnTo>
                    <a:pt x="22" y="113"/>
                  </a:lnTo>
                  <a:lnTo>
                    <a:pt x="31" y="116"/>
                  </a:lnTo>
                  <a:lnTo>
                    <a:pt x="41" y="118"/>
                  </a:lnTo>
                  <a:lnTo>
                    <a:pt x="46" y="118"/>
                  </a:lnTo>
                  <a:lnTo>
                    <a:pt x="52" y="118"/>
                  </a:lnTo>
                  <a:lnTo>
                    <a:pt x="57" y="117"/>
                  </a:lnTo>
                  <a:lnTo>
                    <a:pt x="62" y="115"/>
                  </a:lnTo>
                  <a:close/>
                </a:path>
              </a:pathLst>
            </a:custGeom>
            <a:solidFill>
              <a:srgbClr val="e1e8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692760" y="1770120"/>
              <a:ext cx="49320" cy="38160"/>
            </a:xfrm>
            <a:custGeom>
              <a:avLst/>
              <a:gdLst/>
              <a:ahLst/>
              <a:rect l="l" t="t" r="r" b="b"/>
              <a:pathLst>
                <a:path w="156" h="118">
                  <a:moveTo>
                    <a:pt x="62" y="115"/>
                  </a:moveTo>
                  <a:lnTo>
                    <a:pt x="156" y="7"/>
                  </a:lnTo>
                  <a:lnTo>
                    <a:pt x="126" y="0"/>
                  </a:lnTo>
                  <a:lnTo>
                    <a:pt x="0" y="103"/>
                  </a:lnTo>
                  <a:lnTo>
                    <a:pt x="1" y="104"/>
                  </a:lnTo>
                  <a:lnTo>
                    <a:pt x="7" y="106"/>
                  </a:lnTo>
                  <a:lnTo>
                    <a:pt x="13" y="110"/>
                  </a:lnTo>
                  <a:lnTo>
                    <a:pt x="22" y="113"/>
                  </a:lnTo>
                  <a:lnTo>
                    <a:pt x="31" y="116"/>
                  </a:lnTo>
                  <a:lnTo>
                    <a:pt x="41" y="118"/>
                  </a:lnTo>
                  <a:lnTo>
                    <a:pt x="46" y="118"/>
                  </a:lnTo>
                  <a:lnTo>
                    <a:pt x="52" y="118"/>
                  </a:lnTo>
                  <a:lnTo>
                    <a:pt x="57" y="117"/>
                  </a:lnTo>
                  <a:lnTo>
                    <a:pt x="62" y="115"/>
                  </a:lnTo>
                </a:path>
              </a:pathLst>
            </a:custGeom>
            <a:noFill/>
            <a:ln w="3240">
              <a:solidFill>
                <a:srgbClr val="3e49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665760" y="2397240"/>
              <a:ext cx="33480" cy="15840"/>
            </a:xfrm>
            <a:custGeom>
              <a:avLst/>
              <a:gdLst/>
              <a:ahLst/>
              <a:rect l="l" t="t" r="r" b="b"/>
              <a:pathLst>
                <a:path w="103" h="49">
                  <a:moveTo>
                    <a:pt x="103" y="9"/>
                  </a:moveTo>
                  <a:lnTo>
                    <a:pt x="5" y="0"/>
                  </a:lnTo>
                  <a:lnTo>
                    <a:pt x="0" y="37"/>
                  </a:lnTo>
                  <a:lnTo>
                    <a:pt x="99" y="49"/>
                  </a:lnTo>
                  <a:lnTo>
                    <a:pt x="103" y="9"/>
                  </a:lnTo>
                  <a:close/>
                </a:path>
              </a:pathLst>
            </a:custGeom>
            <a:solidFill>
              <a:srgbClr val="ccbd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665760" y="2397240"/>
              <a:ext cx="33480" cy="15840"/>
            </a:xfrm>
            <a:custGeom>
              <a:avLst/>
              <a:gdLst/>
              <a:ahLst/>
              <a:rect l="l" t="t" r="r" b="b"/>
              <a:pathLst>
                <a:path w="103" h="49">
                  <a:moveTo>
                    <a:pt x="103" y="9"/>
                  </a:moveTo>
                  <a:lnTo>
                    <a:pt x="5" y="0"/>
                  </a:lnTo>
                  <a:lnTo>
                    <a:pt x="0" y="37"/>
                  </a:lnTo>
                  <a:lnTo>
                    <a:pt x="99" y="49"/>
                  </a:lnTo>
                  <a:lnTo>
                    <a:pt x="103" y="9"/>
                  </a:lnTo>
                </a:path>
              </a:pathLst>
            </a:custGeom>
            <a:noFill/>
            <a:ln w="3240">
              <a:solidFill>
                <a:srgbClr val="3e49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700680" y="2338560"/>
              <a:ext cx="39960" cy="63360"/>
            </a:xfrm>
            <a:custGeom>
              <a:avLst/>
              <a:gdLst/>
              <a:ahLst/>
              <a:rect l="l" t="t" r="r" b="b"/>
              <a:pathLst>
                <a:path w="125" h="198">
                  <a:moveTo>
                    <a:pt x="0" y="0"/>
                  </a:moveTo>
                  <a:lnTo>
                    <a:pt x="2" y="190"/>
                  </a:lnTo>
                  <a:lnTo>
                    <a:pt x="91" y="198"/>
                  </a:lnTo>
                  <a:lnTo>
                    <a:pt x="125" y="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5b5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700680" y="2338560"/>
              <a:ext cx="39960" cy="63360"/>
            </a:xfrm>
            <a:custGeom>
              <a:avLst/>
              <a:gdLst/>
              <a:ahLst/>
              <a:rect l="l" t="t" r="r" b="b"/>
              <a:pathLst>
                <a:path w="125" h="198">
                  <a:moveTo>
                    <a:pt x="0" y="0"/>
                  </a:moveTo>
                  <a:lnTo>
                    <a:pt x="2" y="190"/>
                  </a:lnTo>
                  <a:lnTo>
                    <a:pt x="91" y="198"/>
                  </a:lnTo>
                  <a:lnTo>
                    <a:pt x="125" y="8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4e67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700680" y="2486160"/>
              <a:ext cx="17640" cy="88920"/>
            </a:xfrm>
            <a:custGeom>
              <a:avLst/>
              <a:gdLst/>
              <a:ahLst/>
              <a:rect l="l" t="t" r="r" b="b"/>
              <a:pathLst>
                <a:path w="56" h="279">
                  <a:moveTo>
                    <a:pt x="56" y="270"/>
                  </a:moveTo>
                  <a:lnTo>
                    <a:pt x="56" y="268"/>
                  </a:lnTo>
                  <a:lnTo>
                    <a:pt x="53" y="257"/>
                  </a:lnTo>
                  <a:lnTo>
                    <a:pt x="50" y="241"/>
                  </a:lnTo>
                  <a:lnTo>
                    <a:pt x="46" y="223"/>
                  </a:lnTo>
                  <a:lnTo>
                    <a:pt x="43" y="204"/>
                  </a:lnTo>
                  <a:lnTo>
                    <a:pt x="39" y="159"/>
                  </a:lnTo>
                  <a:lnTo>
                    <a:pt x="36" y="113"/>
                  </a:lnTo>
                  <a:lnTo>
                    <a:pt x="35" y="70"/>
                  </a:lnTo>
                  <a:lnTo>
                    <a:pt x="32" y="33"/>
                  </a:lnTo>
                  <a:lnTo>
                    <a:pt x="32" y="9"/>
                  </a:lnTo>
                  <a:lnTo>
                    <a:pt x="32" y="0"/>
                  </a:lnTo>
                  <a:lnTo>
                    <a:pt x="0" y="0"/>
                  </a:lnTo>
                  <a:lnTo>
                    <a:pt x="0" y="9"/>
                  </a:lnTo>
                  <a:lnTo>
                    <a:pt x="0" y="34"/>
                  </a:lnTo>
                  <a:lnTo>
                    <a:pt x="1" y="71"/>
                  </a:lnTo>
                  <a:lnTo>
                    <a:pt x="3" y="115"/>
                  </a:lnTo>
                  <a:lnTo>
                    <a:pt x="6" y="162"/>
                  </a:lnTo>
                  <a:lnTo>
                    <a:pt x="11" y="207"/>
                  </a:lnTo>
                  <a:lnTo>
                    <a:pt x="14" y="228"/>
                  </a:lnTo>
                  <a:lnTo>
                    <a:pt x="17" y="248"/>
                  </a:lnTo>
                  <a:lnTo>
                    <a:pt x="20" y="265"/>
                  </a:lnTo>
                  <a:lnTo>
                    <a:pt x="25" y="279"/>
                  </a:lnTo>
                  <a:lnTo>
                    <a:pt x="25" y="279"/>
                  </a:lnTo>
                  <a:lnTo>
                    <a:pt x="56" y="270"/>
                  </a:lnTo>
                  <a:close/>
                </a:path>
              </a:pathLst>
            </a:custGeom>
            <a:solidFill>
              <a:srgbClr val="4e67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708600" y="2571840"/>
              <a:ext cx="16200" cy="71280"/>
            </a:xfrm>
            <a:custGeom>
              <a:avLst/>
              <a:gdLst/>
              <a:ahLst/>
              <a:rect l="l" t="t" r="r" b="b"/>
              <a:pathLst>
                <a:path w="51" h="226">
                  <a:moveTo>
                    <a:pt x="44" y="226"/>
                  </a:moveTo>
                  <a:lnTo>
                    <a:pt x="44" y="226"/>
                  </a:lnTo>
                  <a:lnTo>
                    <a:pt x="48" y="197"/>
                  </a:lnTo>
                  <a:lnTo>
                    <a:pt x="51" y="167"/>
                  </a:lnTo>
                  <a:lnTo>
                    <a:pt x="51" y="138"/>
                  </a:lnTo>
                  <a:lnTo>
                    <a:pt x="51" y="109"/>
                  </a:lnTo>
                  <a:lnTo>
                    <a:pt x="47" y="81"/>
                  </a:lnTo>
                  <a:lnTo>
                    <a:pt x="44" y="52"/>
                  </a:lnTo>
                  <a:lnTo>
                    <a:pt x="39" y="25"/>
                  </a:lnTo>
                  <a:lnTo>
                    <a:pt x="31" y="0"/>
                  </a:lnTo>
                  <a:lnTo>
                    <a:pt x="0" y="9"/>
                  </a:lnTo>
                  <a:lnTo>
                    <a:pt x="6" y="33"/>
                  </a:lnTo>
                  <a:lnTo>
                    <a:pt x="12" y="58"/>
                  </a:lnTo>
                  <a:lnTo>
                    <a:pt x="15" y="84"/>
                  </a:lnTo>
                  <a:lnTo>
                    <a:pt x="17" y="111"/>
                  </a:lnTo>
                  <a:lnTo>
                    <a:pt x="18" y="138"/>
                  </a:lnTo>
                  <a:lnTo>
                    <a:pt x="18" y="166"/>
                  </a:lnTo>
                  <a:lnTo>
                    <a:pt x="16" y="194"/>
                  </a:lnTo>
                  <a:lnTo>
                    <a:pt x="12" y="222"/>
                  </a:lnTo>
                  <a:lnTo>
                    <a:pt x="12" y="222"/>
                  </a:lnTo>
                  <a:lnTo>
                    <a:pt x="44" y="226"/>
                  </a:lnTo>
                  <a:close/>
                </a:path>
              </a:pathLst>
            </a:custGeom>
            <a:solidFill>
              <a:srgbClr val="4e67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708600" y="2643120"/>
              <a:ext cx="14400" cy="76320"/>
            </a:xfrm>
            <a:custGeom>
              <a:avLst/>
              <a:gdLst/>
              <a:ahLst/>
              <a:rect l="l" t="t" r="r" b="b"/>
              <a:pathLst>
                <a:path w="47" h="241">
                  <a:moveTo>
                    <a:pt x="37" y="238"/>
                  </a:moveTo>
                  <a:lnTo>
                    <a:pt x="37" y="238"/>
                  </a:lnTo>
                  <a:lnTo>
                    <a:pt x="34" y="202"/>
                  </a:lnTo>
                  <a:lnTo>
                    <a:pt x="32" y="170"/>
                  </a:lnTo>
                  <a:lnTo>
                    <a:pt x="32" y="140"/>
                  </a:lnTo>
                  <a:lnTo>
                    <a:pt x="34" y="112"/>
                  </a:lnTo>
                  <a:lnTo>
                    <a:pt x="36" y="86"/>
                  </a:lnTo>
                  <a:lnTo>
                    <a:pt x="40" y="59"/>
                  </a:lnTo>
                  <a:lnTo>
                    <a:pt x="43" y="32"/>
                  </a:lnTo>
                  <a:lnTo>
                    <a:pt x="47" y="4"/>
                  </a:lnTo>
                  <a:lnTo>
                    <a:pt x="15" y="0"/>
                  </a:lnTo>
                  <a:lnTo>
                    <a:pt x="11" y="28"/>
                  </a:lnTo>
                  <a:lnTo>
                    <a:pt x="7" y="55"/>
                  </a:lnTo>
                  <a:lnTo>
                    <a:pt x="4" y="82"/>
                  </a:lnTo>
                  <a:lnTo>
                    <a:pt x="2" y="110"/>
                  </a:lnTo>
                  <a:lnTo>
                    <a:pt x="0" y="139"/>
                  </a:lnTo>
                  <a:lnTo>
                    <a:pt x="0" y="171"/>
                  </a:lnTo>
                  <a:lnTo>
                    <a:pt x="2" y="204"/>
                  </a:lnTo>
                  <a:lnTo>
                    <a:pt x="5" y="241"/>
                  </a:lnTo>
                  <a:lnTo>
                    <a:pt x="5" y="241"/>
                  </a:lnTo>
                  <a:lnTo>
                    <a:pt x="37" y="238"/>
                  </a:lnTo>
                  <a:close/>
                </a:path>
              </a:pathLst>
            </a:custGeom>
            <a:solidFill>
              <a:srgbClr val="4e67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710400" y="2718000"/>
              <a:ext cx="17280" cy="152280"/>
            </a:xfrm>
            <a:custGeom>
              <a:avLst/>
              <a:gdLst/>
              <a:ahLst/>
              <a:rect l="l" t="t" r="r" b="b"/>
              <a:pathLst>
                <a:path w="59" h="479">
                  <a:moveTo>
                    <a:pt x="57" y="479"/>
                  </a:moveTo>
                  <a:lnTo>
                    <a:pt x="57" y="479"/>
                  </a:lnTo>
                  <a:lnTo>
                    <a:pt x="58" y="453"/>
                  </a:lnTo>
                  <a:lnTo>
                    <a:pt x="59" y="424"/>
                  </a:lnTo>
                  <a:lnTo>
                    <a:pt x="59" y="394"/>
                  </a:lnTo>
                  <a:lnTo>
                    <a:pt x="59" y="361"/>
                  </a:lnTo>
                  <a:lnTo>
                    <a:pt x="57" y="294"/>
                  </a:lnTo>
                  <a:lnTo>
                    <a:pt x="53" y="226"/>
                  </a:lnTo>
                  <a:lnTo>
                    <a:pt x="49" y="161"/>
                  </a:lnTo>
                  <a:lnTo>
                    <a:pt x="43" y="99"/>
                  </a:lnTo>
                  <a:lnTo>
                    <a:pt x="38" y="44"/>
                  </a:lnTo>
                  <a:lnTo>
                    <a:pt x="32" y="0"/>
                  </a:lnTo>
                  <a:lnTo>
                    <a:pt x="0" y="3"/>
                  </a:lnTo>
                  <a:lnTo>
                    <a:pt x="5" y="47"/>
                  </a:lnTo>
                  <a:lnTo>
                    <a:pt x="11" y="101"/>
                  </a:lnTo>
                  <a:lnTo>
                    <a:pt x="16" y="163"/>
                  </a:lnTo>
                  <a:lnTo>
                    <a:pt x="20" y="229"/>
                  </a:lnTo>
                  <a:lnTo>
                    <a:pt x="25" y="297"/>
                  </a:lnTo>
                  <a:lnTo>
                    <a:pt x="27" y="362"/>
                  </a:lnTo>
                  <a:lnTo>
                    <a:pt x="27" y="394"/>
                  </a:lnTo>
                  <a:lnTo>
                    <a:pt x="27" y="424"/>
                  </a:lnTo>
                  <a:lnTo>
                    <a:pt x="26" y="452"/>
                  </a:lnTo>
                  <a:lnTo>
                    <a:pt x="25" y="477"/>
                  </a:lnTo>
                  <a:lnTo>
                    <a:pt x="25" y="477"/>
                  </a:lnTo>
                  <a:lnTo>
                    <a:pt x="57" y="479"/>
                  </a:lnTo>
                  <a:close/>
                </a:path>
              </a:pathLst>
            </a:custGeom>
            <a:solidFill>
              <a:srgbClr val="4e67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716520" y="2870280"/>
              <a:ext cx="33480" cy="198360"/>
            </a:xfrm>
            <a:custGeom>
              <a:avLst/>
              <a:gdLst/>
              <a:ahLst/>
              <a:rect l="l" t="t" r="r" b="b"/>
              <a:pathLst>
                <a:path w="102" h="626">
                  <a:moveTo>
                    <a:pt x="102" y="612"/>
                  </a:moveTo>
                  <a:lnTo>
                    <a:pt x="102" y="613"/>
                  </a:lnTo>
                  <a:lnTo>
                    <a:pt x="95" y="594"/>
                  </a:lnTo>
                  <a:lnTo>
                    <a:pt x="88" y="569"/>
                  </a:lnTo>
                  <a:lnTo>
                    <a:pt x="81" y="538"/>
                  </a:lnTo>
                  <a:lnTo>
                    <a:pt x="74" y="502"/>
                  </a:lnTo>
                  <a:lnTo>
                    <a:pt x="68" y="461"/>
                  </a:lnTo>
                  <a:lnTo>
                    <a:pt x="61" y="419"/>
                  </a:lnTo>
                  <a:lnTo>
                    <a:pt x="56" y="374"/>
                  </a:lnTo>
                  <a:lnTo>
                    <a:pt x="50" y="326"/>
                  </a:lnTo>
                  <a:lnTo>
                    <a:pt x="45" y="279"/>
                  </a:lnTo>
                  <a:lnTo>
                    <a:pt x="41" y="232"/>
                  </a:lnTo>
                  <a:lnTo>
                    <a:pt x="37" y="186"/>
                  </a:lnTo>
                  <a:lnTo>
                    <a:pt x="35" y="143"/>
                  </a:lnTo>
                  <a:lnTo>
                    <a:pt x="33" y="100"/>
                  </a:lnTo>
                  <a:lnTo>
                    <a:pt x="33" y="64"/>
                  </a:lnTo>
                  <a:lnTo>
                    <a:pt x="33" y="30"/>
                  </a:lnTo>
                  <a:lnTo>
                    <a:pt x="34" y="2"/>
                  </a:lnTo>
                  <a:lnTo>
                    <a:pt x="2" y="0"/>
                  </a:lnTo>
                  <a:lnTo>
                    <a:pt x="1" y="29"/>
                  </a:lnTo>
                  <a:lnTo>
                    <a:pt x="0" y="64"/>
                  </a:lnTo>
                  <a:lnTo>
                    <a:pt x="1" y="101"/>
                  </a:lnTo>
                  <a:lnTo>
                    <a:pt x="3" y="144"/>
                  </a:lnTo>
                  <a:lnTo>
                    <a:pt x="5" y="188"/>
                  </a:lnTo>
                  <a:lnTo>
                    <a:pt x="8" y="234"/>
                  </a:lnTo>
                  <a:lnTo>
                    <a:pt x="13" y="282"/>
                  </a:lnTo>
                  <a:lnTo>
                    <a:pt x="18" y="329"/>
                  </a:lnTo>
                  <a:lnTo>
                    <a:pt x="23" y="377"/>
                  </a:lnTo>
                  <a:lnTo>
                    <a:pt x="29" y="423"/>
                  </a:lnTo>
                  <a:lnTo>
                    <a:pt x="35" y="467"/>
                  </a:lnTo>
                  <a:lnTo>
                    <a:pt x="42" y="508"/>
                  </a:lnTo>
                  <a:lnTo>
                    <a:pt x="49" y="544"/>
                  </a:lnTo>
                  <a:lnTo>
                    <a:pt x="57" y="577"/>
                  </a:lnTo>
                  <a:lnTo>
                    <a:pt x="64" y="605"/>
                  </a:lnTo>
                  <a:lnTo>
                    <a:pt x="72" y="626"/>
                  </a:lnTo>
                  <a:lnTo>
                    <a:pt x="72" y="626"/>
                  </a:lnTo>
                  <a:lnTo>
                    <a:pt x="102" y="612"/>
                  </a:lnTo>
                  <a:close/>
                </a:path>
              </a:pathLst>
            </a:custGeom>
            <a:solidFill>
              <a:srgbClr val="4e67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740640" y="3063960"/>
              <a:ext cx="20520" cy="131760"/>
            </a:xfrm>
            <a:custGeom>
              <a:avLst/>
              <a:gdLst/>
              <a:ahLst/>
              <a:rect l="l" t="t" r="r" b="b"/>
              <a:pathLst>
                <a:path w="67" h="415">
                  <a:moveTo>
                    <a:pt x="58" y="415"/>
                  </a:moveTo>
                  <a:lnTo>
                    <a:pt x="58" y="415"/>
                  </a:lnTo>
                  <a:lnTo>
                    <a:pt x="61" y="391"/>
                  </a:lnTo>
                  <a:lnTo>
                    <a:pt x="63" y="366"/>
                  </a:lnTo>
                  <a:lnTo>
                    <a:pt x="65" y="341"/>
                  </a:lnTo>
                  <a:lnTo>
                    <a:pt x="66" y="314"/>
                  </a:lnTo>
                  <a:lnTo>
                    <a:pt x="67" y="285"/>
                  </a:lnTo>
                  <a:lnTo>
                    <a:pt x="67" y="256"/>
                  </a:lnTo>
                  <a:lnTo>
                    <a:pt x="66" y="227"/>
                  </a:lnTo>
                  <a:lnTo>
                    <a:pt x="65" y="198"/>
                  </a:lnTo>
                  <a:lnTo>
                    <a:pt x="64" y="170"/>
                  </a:lnTo>
                  <a:lnTo>
                    <a:pt x="62" y="142"/>
                  </a:lnTo>
                  <a:lnTo>
                    <a:pt x="58" y="115"/>
                  </a:lnTo>
                  <a:lnTo>
                    <a:pt x="54" y="88"/>
                  </a:lnTo>
                  <a:lnTo>
                    <a:pt x="50" y="64"/>
                  </a:lnTo>
                  <a:lnTo>
                    <a:pt x="44" y="40"/>
                  </a:lnTo>
                  <a:lnTo>
                    <a:pt x="38" y="20"/>
                  </a:lnTo>
                  <a:lnTo>
                    <a:pt x="30" y="0"/>
                  </a:lnTo>
                  <a:lnTo>
                    <a:pt x="0" y="14"/>
                  </a:lnTo>
                  <a:lnTo>
                    <a:pt x="7" y="31"/>
                  </a:lnTo>
                  <a:lnTo>
                    <a:pt x="13" y="49"/>
                  </a:lnTo>
                  <a:lnTo>
                    <a:pt x="17" y="71"/>
                  </a:lnTo>
                  <a:lnTo>
                    <a:pt x="22" y="93"/>
                  </a:lnTo>
                  <a:lnTo>
                    <a:pt x="26" y="118"/>
                  </a:lnTo>
                  <a:lnTo>
                    <a:pt x="29" y="145"/>
                  </a:lnTo>
                  <a:lnTo>
                    <a:pt x="31" y="172"/>
                  </a:lnTo>
                  <a:lnTo>
                    <a:pt x="32" y="200"/>
                  </a:lnTo>
                  <a:lnTo>
                    <a:pt x="34" y="228"/>
                  </a:lnTo>
                  <a:lnTo>
                    <a:pt x="35" y="256"/>
                  </a:lnTo>
                  <a:lnTo>
                    <a:pt x="35" y="284"/>
                  </a:lnTo>
                  <a:lnTo>
                    <a:pt x="34" y="312"/>
                  </a:lnTo>
                  <a:lnTo>
                    <a:pt x="32" y="338"/>
                  </a:lnTo>
                  <a:lnTo>
                    <a:pt x="30" y="364"/>
                  </a:lnTo>
                  <a:lnTo>
                    <a:pt x="28" y="388"/>
                  </a:lnTo>
                  <a:lnTo>
                    <a:pt x="26" y="411"/>
                  </a:lnTo>
                  <a:lnTo>
                    <a:pt x="26" y="411"/>
                  </a:lnTo>
                  <a:lnTo>
                    <a:pt x="58" y="415"/>
                  </a:lnTo>
                  <a:close/>
                </a:path>
              </a:pathLst>
            </a:custGeom>
            <a:solidFill>
              <a:srgbClr val="4e67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743520" y="3194280"/>
              <a:ext cx="14400" cy="390240"/>
            </a:xfrm>
            <a:custGeom>
              <a:avLst/>
              <a:gdLst/>
              <a:ahLst/>
              <a:rect l="l" t="t" r="r" b="b"/>
              <a:pathLst>
                <a:path w="48" h="1230">
                  <a:moveTo>
                    <a:pt x="39" y="1226"/>
                  </a:moveTo>
                  <a:lnTo>
                    <a:pt x="39" y="1226"/>
                  </a:lnTo>
                  <a:lnTo>
                    <a:pt x="36" y="1195"/>
                  </a:lnTo>
                  <a:lnTo>
                    <a:pt x="34" y="1146"/>
                  </a:lnTo>
                  <a:lnTo>
                    <a:pt x="33" y="1081"/>
                  </a:lnTo>
                  <a:lnTo>
                    <a:pt x="32" y="1004"/>
                  </a:lnTo>
                  <a:lnTo>
                    <a:pt x="32" y="819"/>
                  </a:lnTo>
                  <a:lnTo>
                    <a:pt x="33" y="615"/>
                  </a:lnTo>
                  <a:lnTo>
                    <a:pt x="36" y="410"/>
                  </a:lnTo>
                  <a:lnTo>
                    <a:pt x="40" y="227"/>
                  </a:lnTo>
                  <a:lnTo>
                    <a:pt x="42" y="149"/>
                  </a:lnTo>
                  <a:lnTo>
                    <a:pt x="44" y="84"/>
                  </a:lnTo>
                  <a:lnTo>
                    <a:pt x="46" y="34"/>
                  </a:lnTo>
                  <a:lnTo>
                    <a:pt x="48" y="4"/>
                  </a:lnTo>
                  <a:lnTo>
                    <a:pt x="16" y="0"/>
                  </a:lnTo>
                  <a:lnTo>
                    <a:pt x="14" y="32"/>
                  </a:lnTo>
                  <a:lnTo>
                    <a:pt x="12" y="83"/>
                  </a:lnTo>
                  <a:lnTo>
                    <a:pt x="9" y="148"/>
                  </a:lnTo>
                  <a:lnTo>
                    <a:pt x="7" y="225"/>
                  </a:lnTo>
                  <a:lnTo>
                    <a:pt x="3" y="410"/>
                  </a:lnTo>
                  <a:lnTo>
                    <a:pt x="1" y="614"/>
                  </a:lnTo>
                  <a:lnTo>
                    <a:pt x="0" y="819"/>
                  </a:lnTo>
                  <a:lnTo>
                    <a:pt x="0" y="1004"/>
                  </a:lnTo>
                  <a:lnTo>
                    <a:pt x="1" y="1082"/>
                  </a:lnTo>
                  <a:lnTo>
                    <a:pt x="2" y="1147"/>
                  </a:lnTo>
                  <a:lnTo>
                    <a:pt x="4" y="1197"/>
                  </a:lnTo>
                  <a:lnTo>
                    <a:pt x="6" y="1230"/>
                  </a:lnTo>
                  <a:lnTo>
                    <a:pt x="6" y="1230"/>
                  </a:lnTo>
                  <a:lnTo>
                    <a:pt x="39" y="1226"/>
                  </a:lnTo>
                  <a:close/>
                </a:path>
              </a:pathLst>
            </a:custGeom>
            <a:solidFill>
              <a:srgbClr val="4e67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745320" y="3583080"/>
              <a:ext cx="28440" cy="171360"/>
            </a:xfrm>
            <a:custGeom>
              <a:avLst/>
              <a:gdLst/>
              <a:ahLst/>
              <a:rect l="l" t="t" r="r" b="b"/>
              <a:pathLst>
                <a:path w="90" h="537">
                  <a:moveTo>
                    <a:pt x="87" y="537"/>
                  </a:moveTo>
                  <a:lnTo>
                    <a:pt x="89" y="514"/>
                  </a:lnTo>
                  <a:lnTo>
                    <a:pt x="90" y="486"/>
                  </a:lnTo>
                  <a:lnTo>
                    <a:pt x="89" y="454"/>
                  </a:lnTo>
                  <a:lnTo>
                    <a:pt x="87" y="420"/>
                  </a:lnTo>
                  <a:lnTo>
                    <a:pt x="80" y="346"/>
                  </a:lnTo>
                  <a:lnTo>
                    <a:pt x="70" y="267"/>
                  </a:lnTo>
                  <a:lnTo>
                    <a:pt x="60" y="190"/>
                  </a:lnTo>
                  <a:lnTo>
                    <a:pt x="49" y="115"/>
                  </a:lnTo>
                  <a:lnTo>
                    <a:pt x="39" y="50"/>
                  </a:lnTo>
                  <a:lnTo>
                    <a:pt x="33" y="0"/>
                  </a:lnTo>
                  <a:lnTo>
                    <a:pt x="0" y="4"/>
                  </a:lnTo>
                  <a:lnTo>
                    <a:pt x="8" y="56"/>
                  </a:lnTo>
                  <a:lnTo>
                    <a:pt x="18" y="120"/>
                  </a:lnTo>
                  <a:lnTo>
                    <a:pt x="28" y="194"/>
                  </a:lnTo>
                  <a:lnTo>
                    <a:pt x="38" y="272"/>
                  </a:lnTo>
                  <a:lnTo>
                    <a:pt x="48" y="349"/>
                  </a:lnTo>
                  <a:lnTo>
                    <a:pt x="54" y="423"/>
                  </a:lnTo>
                  <a:lnTo>
                    <a:pt x="56" y="455"/>
                  </a:lnTo>
                  <a:lnTo>
                    <a:pt x="56" y="486"/>
                  </a:lnTo>
                  <a:lnTo>
                    <a:pt x="56" y="511"/>
                  </a:lnTo>
                  <a:lnTo>
                    <a:pt x="54" y="534"/>
                  </a:lnTo>
                  <a:lnTo>
                    <a:pt x="87" y="537"/>
                  </a:lnTo>
                  <a:close/>
                </a:path>
              </a:pathLst>
            </a:custGeom>
            <a:solidFill>
              <a:srgbClr val="4e67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705720" y="2486160"/>
              <a:ext cx="63360" cy="1268280"/>
            </a:xfrm>
            <a:custGeom>
              <a:avLst/>
              <a:gdLst/>
              <a:ahLst/>
              <a:rect l="l" t="t" r="r" b="b"/>
              <a:pathLst>
                <a:path w="196" h="3992">
                  <a:moveTo>
                    <a:pt x="0" y="0"/>
                  </a:moveTo>
                  <a:lnTo>
                    <a:pt x="0" y="9"/>
                  </a:lnTo>
                  <a:lnTo>
                    <a:pt x="0" y="34"/>
                  </a:lnTo>
                  <a:lnTo>
                    <a:pt x="2" y="71"/>
                  </a:lnTo>
                  <a:lnTo>
                    <a:pt x="3" y="114"/>
                  </a:lnTo>
                  <a:lnTo>
                    <a:pt x="7" y="160"/>
                  </a:lnTo>
                  <a:lnTo>
                    <a:pt x="11" y="205"/>
                  </a:lnTo>
                  <a:lnTo>
                    <a:pt x="14" y="226"/>
                  </a:lnTo>
                  <a:lnTo>
                    <a:pt x="17" y="245"/>
                  </a:lnTo>
                  <a:lnTo>
                    <a:pt x="21" y="261"/>
                  </a:lnTo>
                  <a:lnTo>
                    <a:pt x="25" y="274"/>
                  </a:lnTo>
                  <a:lnTo>
                    <a:pt x="31" y="299"/>
                  </a:lnTo>
                  <a:lnTo>
                    <a:pt x="37" y="325"/>
                  </a:lnTo>
                  <a:lnTo>
                    <a:pt x="40" y="352"/>
                  </a:lnTo>
                  <a:lnTo>
                    <a:pt x="42" y="380"/>
                  </a:lnTo>
                  <a:lnTo>
                    <a:pt x="43" y="408"/>
                  </a:lnTo>
                  <a:lnTo>
                    <a:pt x="43" y="437"/>
                  </a:lnTo>
                  <a:lnTo>
                    <a:pt x="41" y="465"/>
                  </a:lnTo>
                  <a:lnTo>
                    <a:pt x="37" y="494"/>
                  </a:lnTo>
                  <a:lnTo>
                    <a:pt x="34" y="522"/>
                  </a:lnTo>
                  <a:lnTo>
                    <a:pt x="29" y="549"/>
                  </a:lnTo>
                  <a:lnTo>
                    <a:pt x="26" y="576"/>
                  </a:lnTo>
                  <a:lnTo>
                    <a:pt x="24" y="603"/>
                  </a:lnTo>
                  <a:lnTo>
                    <a:pt x="22" y="632"/>
                  </a:lnTo>
                  <a:lnTo>
                    <a:pt x="22" y="663"/>
                  </a:lnTo>
                  <a:lnTo>
                    <a:pt x="24" y="695"/>
                  </a:lnTo>
                  <a:lnTo>
                    <a:pt x="27" y="732"/>
                  </a:lnTo>
                  <a:lnTo>
                    <a:pt x="33" y="776"/>
                  </a:lnTo>
                  <a:lnTo>
                    <a:pt x="38" y="830"/>
                  </a:lnTo>
                  <a:lnTo>
                    <a:pt x="43" y="892"/>
                  </a:lnTo>
                  <a:lnTo>
                    <a:pt x="48" y="957"/>
                  </a:lnTo>
                  <a:lnTo>
                    <a:pt x="52" y="1026"/>
                  </a:lnTo>
                  <a:lnTo>
                    <a:pt x="54" y="1091"/>
                  </a:lnTo>
                  <a:lnTo>
                    <a:pt x="54" y="1124"/>
                  </a:lnTo>
                  <a:lnTo>
                    <a:pt x="54" y="1154"/>
                  </a:lnTo>
                  <a:lnTo>
                    <a:pt x="53" y="1182"/>
                  </a:lnTo>
                  <a:lnTo>
                    <a:pt x="52" y="1208"/>
                  </a:lnTo>
                  <a:lnTo>
                    <a:pt x="51" y="1237"/>
                  </a:lnTo>
                  <a:lnTo>
                    <a:pt x="50" y="1271"/>
                  </a:lnTo>
                  <a:lnTo>
                    <a:pt x="51" y="1308"/>
                  </a:lnTo>
                  <a:lnTo>
                    <a:pt x="53" y="1350"/>
                  </a:lnTo>
                  <a:lnTo>
                    <a:pt x="55" y="1394"/>
                  </a:lnTo>
                  <a:lnTo>
                    <a:pt x="58" y="1440"/>
                  </a:lnTo>
                  <a:lnTo>
                    <a:pt x="63" y="1488"/>
                  </a:lnTo>
                  <a:lnTo>
                    <a:pt x="68" y="1535"/>
                  </a:lnTo>
                  <a:lnTo>
                    <a:pt x="74" y="1582"/>
                  </a:lnTo>
                  <a:lnTo>
                    <a:pt x="79" y="1628"/>
                  </a:lnTo>
                  <a:lnTo>
                    <a:pt x="86" y="1671"/>
                  </a:lnTo>
                  <a:lnTo>
                    <a:pt x="92" y="1711"/>
                  </a:lnTo>
                  <a:lnTo>
                    <a:pt x="100" y="1748"/>
                  </a:lnTo>
                  <a:lnTo>
                    <a:pt x="106" y="1780"/>
                  </a:lnTo>
                  <a:lnTo>
                    <a:pt x="114" y="1806"/>
                  </a:lnTo>
                  <a:lnTo>
                    <a:pt x="121" y="1827"/>
                  </a:lnTo>
                  <a:lnTo>
                    <a:pt x="128" y="1844"/>
                  </a:lnTo>
                  <a:lnTo>
                    <a:pt x="134" y="1864"/>
                  </a:lnTo>
                  <a:lnTo>
                    <a:pt x="140" y="1886"/>
                  </a:lnTo>
                  <a:lnTo>
                    <a:pt x="144" y="1910"/>
                  </a:lnTo>
                  <a:lnTo>
                    <a:pt x="148" y="1935"/>
                  </a:lnTo>
                  <a:lnTo>
                    <a:pt x="151" y="1962"/>
                  </a:lnTo>
                  <a:lnTo>
                    <a:pt x="154" y="1990"/>
                  </a:lnTo>
                  <a:lnTo>
                    <a:pt x="155" y="2018"/>
                  </a:lnTo>
                  <a:lnTo>
                    <a:pt x="156" y="2046"/>
                  </a:lnTo>
                  <a:lnTo>
                    <a:pt x="157" y="2075"/>
                  </a:lnTo>
                  <a:lnTo>
                    <a:pt x="157" y="2103"/>
                  </a:lnTo>
                  <a:lnTo>
                    <a:pt x="156" y="2131"/>
                  </a:lnTo>
                  <a:lnTo>
                    <a:pt x="155" y="2158"/>
                  </a:lnTo>
                  <a:lnTo>
                    <a:pt x="152" y="2184"/>
                  </a:lnTo>
                  <a:lnTo>
                    <a:pt x="150" y="2209"/>
                  </a:lnTo>
                  <a:lnTo>
                    <a:pt x="148" y="2232"/>
                  </a:lnTo>
                  <a:lnTo>
                    <a:pt x="146" y="2263"/>
                  </a:lnTo>
                  <a:lnTo>
                    <a:pt x="144" y="2313"/>
                  </a:lnTo>
                  <a:lnTo>
                    <a:pt x="142" y="2378"/>
                  </a:lnTo>
                  <a:lnTo>
                    <a:pt x="140" y="2457"/>
                  </a:lnTo>
                  <a:lnTo>
                    <a:pt x="135" y="2640"/>
                  </a:lnTo>
                  <a:lnTo>
                    <a:pt x="133" y="2845"/>
                  </a:lnTo>
                  <a:lnTo>
                    <a:pt x="132" y="3049"/>
                  </a:lnTo>
                  <a:lnTo>
                    <a:pt x="132" y="3234"/>
                  </a:lnTo>
                  <a:lnTo>
                    <a:pt x="133" y="3312"/>
                  </a:lnTo>
                  <a:lnTo>
                    <a:pt x="134" y="3377"/>
                  </a:lnTo>
                  <a:lnTo>
                    <a:pt x="136" y="3426"/>
                  </a:lnTo>
                  <a:lnTo>
                    <a:pt x="138" y="3458"/>
                  </a:lnTo>
                  <a:lnTo>
                    <a:pt x="146" y="3508"/>
                  </a:lnTo>
                  <a:lnTo>
                    <a:pt x="155" y="3573"/>
                  </a:lnTo>
                  <a:lnTo>
                    <a:pt x="165" y="3648"/>
                  </a:lnTo>
                  <a:lnTo>
                    <a:pt x="176" y="3726"/>
                  </a:lnTo>
                  <a:lnTo>
                    <a:pt x="186" y="3804"/>
                  </a:lnTo>
                  <a:lnTo>
                    <a:pt x="192" y="3878"/>
                  </a:lnTo>
                  <a:lnTo>
                    <a:pt x="195" y="3911"/>
                  </a:lnTo>
                  <a:lnTo>
                    <a:pt x="196" y="3942"/>
                  </a:lnTo>
                  <a:lnTo>
                    <a:pt x="195" y="3969"/>
                  </a:lnTo>
                  <a:lnTo>
                    <a:pt x="192" y="3992"/>
                  </a:lnTo>
                </a:path>
              </a:pathLst>
            </a:custGeom>
            <a:noFill/>
            <a:ln w="6480">
              <a:solidFill>
                <a:srgbClr val="70a6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707160" y="2527200"/>
              <a:ext cx="61920" cy="1227240"/>
            </a:xfrm>
            <a:custGeom>
              <a:avLst/>
              <a:gdLst/>
              <a:ahLst/>
              <a:rect l="l" t="t" r="r" b="b"/>
              <a:pathLst>
                <a:path w="192" h="3861">
                  <a:moveTo>
                    <a:pt x="0" y="0"/>
                  </a:moveTo>
                  <a:lnTo>
                    <a:pt x="3" y="21"/>
                  </a:lnTo>
                  <a:lnTo>
                    <a:pt x="5" y="42"/>
                  </a:lnTo>
                  <a:lnTo>
                    <a:pt x="7" y="63"/>
                  </a:lnTo>
                  <a:lnTo>
                    <a:pt x="9" y="82"/>
                  </a:lnTo>
                  <a:lnTo>
                    <a:pt x="11" y="101"/>
                  </a:lnTo>
                  <a:lnTo>
                    <a:pt x="15" y="117"/>
                  </a:lnTo>
                  <a:lnTo>
                    <a:pt x="17" y="132"/>
                  </a:lnTo>
                  <a:lnTo>
                    <a:pt x="21" y="143"/>
                  </a:lnTo>
                  <a:lnTo>
                    <a:pt x="27" y="168"/>
                  </a:lnTo>
                  <a:lnTo>
                    <a:pt x="33" y="194"/>
                  </a:lnTo>
                  <a:lnTo>
                    <a:pt x="36" y="221"/>
                  </a:lnTo>
                  <a:lnTo>
                    <a:pt x="38" y="249"/>
                  </a:lnTo>
                  <a:lnTo>
                    <a:pt x="39" y="277"/>
                  </a:lnTo>
                  <a:lnTo>
                    <a:pt x="39" y="306"/>
                  </a:lnTo>
                  <a:lnTo>
                    <a:pt x="37" y="334"/>
                  </a:lnTo>
                  <a:lnTo>
                    <a:pt x="33" y="363"/>
                  </a:lnTo>
                  <a:lnTo>
                    <a:pt x="30" y="391"/>
                  </a:lnTo>
                  <a:lnTo>
                    <a:pt x="25" y="418"/>
                  </a:lnTo>
                  <a:lnTo>
                    <a:pt x="22" y="445"/>
                  </a:lnTo>
                  <a:lnTo>
                    <a:pt x="20" y="472"/>
                  </a:lnTo>
                  <a:lnTo>
                    <a:pt x="18" y="501"/>
                  </a:lnTo>
                  <a:lnTo>
                    <a:pt x="18" y="532"/>
                  </a:lnTo>
                  <a:lnTo>
                    <a:pt x="20" y="564"/>
                  </a:lnTo>
                  <a:lnTo>
                    <a:pt x="23" y="601"/>
                  </a:lnTo>
                  <a:lnTo>
                    <a:pt x="29" y="645"/>
                  </a:lnTo>
                  <a:lnTo>
                    <a:pt x="34" y="699"/>
                  </a:lnTo>
                  <a:lnTo>
                    <a:pt x="39" y="761"/>
                  </a:lnTo>
                  <a:lnTo>
                    <a:pt x="44" y="826"/>
                  </a:lnTo>
                  <a:lnTo>
                    <a:pt x="48" y="895"/>
                  </a:lnTo>
                  <a:lnTo>
                    <a:pt x="50" y="960"/>
                  </a:lnTo>
                  <a:lnTo>
                    <a:pt x="50" y="993"/>
                  </a:lnTo>
                  <a:lnTo>
                    <a:pt x="50" y="1023"/>
                  </a:lnTo>
                  <a:lnTo>
                    <a:pt x="49" y="1051"/>
                  </a:lnTo>
                  <a:lnTo>
                    <a:pt x="48" y="1077"/>
                  </a:lnTo>
                  <a:lnTo>
                    <a:pt x="47" y="1106"/>
                  </a:lnTo>
                  <a:lnTo>
                    <a:pt x="46" y="1140"/>
                  </a:lnTo>
                  <a:lnTo>
                    <a:pt x="47" y="1177"/>
                  </a:lnTo>
                  <a:lnTo>
                    <a:pt x="49" y="1219"/>
                  </a:lnTo>
                  <a:lnTo>
                    <a:pt x="51" y="1263"/>
                  </a:lnTo>
                  <a:lnTo>
                    <a:pt x="54" y="1309"/>
                  </a:lnTo>
                  <a:lnTo>
                    <a:pt x="59" y="1357"/>
                  </a:lnTo>
                  <a:lnTo>
                    <a:pt x="64" y="1404"/>
                  </a:lnTo>
                  <a:lnTo>
                    <a:pt x="70" y="1451"/>
                  </a:lnTo>
                  <a:lnTo>
                    <a:pt x="75" y="1497"/>
                  </a:lnTo>
                  <a:lnTo>
                    <a:pt x="82" y="1540"/>
                  </a:lnTo>
                  <a:lnTo>
                    <a:pt x="88" y="1580"/>
                  </a:lnTo>
                  <a:lnTo>
                    <a:pt x="96" y="1617"/>
                  </a:lnTo>
                  <a:lnTo>
                    <a:pt x="102" y="1649"/>
                  </a:lnTo>
                  <a:lnTo>
                    <a:pt x="110" y="1675"/>
                  </a:lnTo>
                  <a:lnTo>
                    <a:pt x="117" y="1696"/>
                  </a:lnTo>
                  <a:lnTo>
                    <a:pt x="124" y="1713"/>
                  </a:lnTo>
                  <a:lnTo>
                    <a:pt x="130" y="1733"/>
                  </a:lnTo>
                  <a:lnTo>
                    <a:pt x="136" y="1755"/>
                  </a:lnTo>
                  <a:lnTo>
                    <a:pt x="140" y="1779"/>
                  </a:lnTo>
                  <a:lnTo>
                    <a:pt x="144" y="1804"/>
                  </a:lnTo>
                  <a:lnTo>
                    <a:pt x="147" y="1831"/>
                  </a:lnTo>
                  <a:lnTo>
                    <a:pt x="150" y="1859"/>
                  </a:lnTo>
                  <a:lnTo>
                    <a:pt x="151" y="1887"/>
                  </a:lnTo>
                  <a:lnTo>
                    <a:pt x="152" y="1915"/>
                  </a:lnTo>
                  <a:lnTo>
                    <a:pt x="153" y="1944"/>
                  </a:lnTo>
                  <a:lnTo>
                    <a:pt x="153" y="1972"/>
                  </a:lnTo>
                  <a:lnTo>
                    <a:pt x="152" y="2000"/>
                  </a:lnTo>
                  <a:lnTo>
                    <a:pt x="151" y="2027"/>
                  </a:lnTo>
                  <a:lnTo>
                    <a:pt x="148" y="2053"/>
                  </a:lnTo>
                  <a:lnTo>
                    <a:pt x="146" y="2078"/>
                  </a:lnTo>
                  <a:lnTo>
                    <a:pt x="144" y="2101"/>
                  </a:lnTo>
                  <a:lnTo>
                    <a:pt x="142" y="2132"/>
                  </a:lnTo>
                  <a:lnTo>
                    <a:pt x="140" y="2182"/>
                  </a:lnTo>
                  <a:lnTo>
                    <a:pt x="138" y="2247"/>
                  </a:lnTo>
                  <a:lnTo>
                    <a:pt x="136" y="2326"/>
                  </a:lnTo>
                  <a:lnTo>
                    <a:pt x="131" y="2509"/>
                  </a:lnTo>
                  <a:lnTo>
                    <a:pt x="129" y="2714"/>
                  </a:lnTo>
                  <a:lnTo>
                    <a:pt x="128" y="2918"/>
                  </a:lnTo>
                  <a:lnTo>
                    <a:pt x="128" y="3103"/>
                  </a:lnTo>
                  <a:lnTo>
                    <a:pt x="129" y="3181"/>
                  </a:lnTo>
                  <a:lnTo>
                    <a:pt x="130" y="3246"/>
                  </a:lnTo>
                  <a:lnTo>
                    <a:pt x="132" y="3295"/>
                  </a:lnTo>
                  <a:lnTo>
                    <a:pt x="134" y="3327"/>
                  </a:lnTo>
                  <a:lnTo>
                    <a:pt x="142" y="3377"/>
                  </a:lnTo>
                  <a:lnTo>
                    <a:pt x="151" y="3442"/>
                  </a:lnTo>
                  <a:lnTo>
                    <a:pt x="161" y="3517"/>
                  </a:lnTo>
                  <a:lnTo>
                    <a:pt x="172" y="3595"/>
                  </a:lnTo>
                  <a:lnTo>
                    <a:pt x="182" y="3673"/>
                  </a:lnTo>
                  <a:lnTo>
                    <a:pt x="188" y="3747"/>
                  </a:lnTo>
                  <a:lnTo>
                    <a:pt x="191" y="3780"/>
                  </a:lnTo>
                  <a:lnTo>
                    <a:pt x="192" y="3811"/>
                  </a:lnTo>
                  <a:lnTo>
                    <a:pt x="191" y="3838"/>
                  </a:lnTo>
                  <a:lnTo>
                    <a:pt x="188" y="3861"/>
                  </a:lnTo>
                </a:path>
              </a:pathLst>
            </a:custGeom>
            <a:noFill/>
            <a:ln w="1440">
              <a:solidFill>
                <a:srgbClr val="dceed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572160" y="1724040"/>
              <a:ext cx="42840" cy="3044880"/>
            </a:xfrm>
            <a:custGeom>
              <a:avLst/>
              <a:gdLst/>
              <a:ahLst/>
              <a:rect l="l" t="t" r="r" b="b"/>
              <a:pathLst>
                <a:path w="131" h="9590">
                  <a:moveTo>
                    <a:pt x="131" y="0"/>
                  </a:moveTo>
                  <a:lnTo>
                    <a:pt x="131" y="9571"/>
                  </a:lnTo>
                  <a:lnTo>
                    <a:pt x="89" y="9590"/>
                  </a:lnTo>
                  <a:lnTo>
                    <a:pt x="42" y="9590"/>
                  </a:lnTo>
                  <a:lnTo>
                    <a:pt x="0" y="9571"/>
                  </a:lnTo>
                  <a:lnTo>
                    <a:pt x="0" y="0"/>
                  </a:lnTo>
                  <a:lnTo>
                    <a:pt x="131" y="0"/>
                  </a:lnTo>
                  <a:close/>
                </a:path>
              </a:pathLst>
            </a:custGeom>
            <a:solidFill>
              <a:srgbClr val="b5b5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572160" y="1724040"/>
              <a:ext cx="15840" cy="3044880"/>
            </a:xfrm>
            <a:custGeom>
              <a:avLst/>
              <a:gdLst/>
              <a:ahLst/>
              <a:rect l="l" t="t" r="r" b="b"/>
              <a:pathLst>
                <a:path w="49" h="9588">
                  <a:moveTo>
                    <a:pt x="46" y="0"/>
                  </a:moveTo>
                  <a:lnTo>
                    <a:pt x="49" y="9588"/>
                  </a:lnTo>
                  <a:lnTo>
                    <a:pt x="31" y="9586"/>
                  </a:lnTo>
                  <a:lnTo>
                    <a:pt x="0" y="9571"/>
                  </a:lnTo>
                  <a:lnTo>
                    <a:pt x="0" y="0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a4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572160" y="1724040"/>
              <a:ext cx="12600" cy="3043440"/>
            </a:xfrm>
            <a:custGeom>
              <a:avLst/>
              <a:gdLst/>
              <a:ahLst/>
              <a:rect l="l" t="t" r="r" b="b"/>
              <a:pathLst>
                <a:path w="37" h="9583">
                  <a:moveTo>
                    <a:pt x="35" y="0"/>
                  </a:moveTo>
                  <a:lnTo>
                    <a:pt x="37" y="9583"/>
                  </a:lnTo>
                  <a:lnTo>
                    <a:pt x="25" y="9583"/>
                  </a:lnTo>
                  <a:lnTo>
                    <a:pt x="0" y="9571"/>
                  </a:lnTo>
                  <a:lnTo>
                    <a:pt x="0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9695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572160" y="1724040"/>
              <a:ext cx="7920" cy="3041640"/>
            </a:xfrm>
            <a:custGeom>
              <a:avLst/>
              <a:gdLst/>
              <a:ahLst/>
              <a:rect l="l" t="t" r="r" b="b"/>
              <a:pathLst>
                <a:path w="25" h="9580">
                  <a:moveTo>
                    <a:pt x="22" y="0"/>
                  </a:moveTo>
                  <a:lnTo>
                    <a:pt x="25" y="9580"/>
                  </a:lnTo>
                  <a:lnTo>
                    <a:pt x="14" y="9578"/>
                  </a:lnTo>
                  <a:lnTo>
                    <a:pt x="0" y="9571"/>
                  </a:lnTo>
                  <a:lnTo>
                    <a:pt x="0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8987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572160" y="1724040"/>
              <a:ext cx="4680" cy="3040200"/>
            </a:xfrm>
            <a:custGeom>
              <a:avLst/>
              <a:gdLst/>
              <a:ahLst/>
              <a:rect l="l" t="t" r="r" b="b"/>
              <a:pathLst>
                <a:path w="12" h="9575">
                  <a:moveTo>
                    <a:pt x="12" y="9575"/>
                  </a:moveTo>
                  <a:lnTo>
                    <a:pt x="7" y="9575"/>
                  </a:lnTo>
                  <a:lnTo>
                    <a:pt x="0" y="9571"/>
                  </a:lnTo>
                  <a:lnTo>
                    <a:pt x="0" y="0"/>
                  </a:lnTo>
                  <a:lnTo>
                    <a:pt x="10" y="0"/>
                  </a:lnTo>
                  <a:lnTo>
                    <a:pt x="12" y="9575"/>
                  </a:lnTo>
                  <a:close/>
                </a:path>
              </a:pathLst>
            </a:custGeom>
            <a:solidFill>
              <a:srgbClr val="7b79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591240" y="1727280"/>
              <a:ext cx="19080" cy="3025800"/>
            </a:xfrm>
            <a:prstGeom prst="rect">
              <a:avLst/>
            </a:prstGeom>
            <a:solidFill>
              <a:srgbClr val="b5b5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593040" y="1738440"/>
              <a:ext cx="15840" cy="3003480"/>
            </a:xfrm>
            <a:prstGeom prst="rect">
              <a:avLst/>
            </a:prstGeom>
            <a:solidFill>
              <a:srgbClr val="bfbf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600960" y="1771560"/>
              <a:ext cx="1440" cy="2930760"/>
            </a:xfrm>
            <a:prstGeom prst="line">
              <a:avLst/>
            </a:prstGeom>
            <a:ln w="7920">
              <a:solidFill>
                <a:srgbClr val="e5e5e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600960" y="1784520"/>
              <a:ext cx="1440" cy="2905200"/>
            </a:xfrm>
            <a:prstGeom prst="line">
              <a:avLst/>
            </a:prstGeom>
            <a:ln w="468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600960" y="1795680"/>
              <a:ext cx="1440" cy="28810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572160" y="1724040"/>
              <a:ext cx="42840" cy="3044880"/>
            </a:xfrm>
            <a:custGeom>
              <a:avLst/>
              <a:gdLst/>
              <a:ahLst/>
              <a:rect l="l" t="t" r="r" b="b"/>
              <a:pathLst>
                <a:path w="131" h="9590">
                  <a:moveTo>
                    <a:pt x="131" y="0"/>
                  </a:moveTo>
                  <a:lnTo>
                    <a:pt x="131" y="9571"/>
                  </a:lnTo>
                  <a:lnTo>
                    <a:pt x="89" y="9590"/>
                  </a:lnTo>
                  <a:lnTo>
                    <a:pt x="42" y="9590"/>
                  </a:lnTo>
                  <a:lnTo>
                    <a:pt x="0" y="9571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392880" y="1676520"/>
              <a:ext cx="385560" cy="112680"/>
            </a:xfrm>
            <a:custGeom>
              <a:avLst/>
              <a:gdLst/>
              <a:ahLst/>
              <a:rect l="l" t="t" r="r" b="b"/>
              <a:pathLst>
                <a:path w="1213" h="354">
                  <a:moveTo>
                    <a:pt x="569" y="151"/>
                  </a:moveTo>
                  <a:lnTo>
                    <a:pt x="698" y="151"/>
                  </a:lnTo>
                  <a:lnTo>
                    <a:pt x="665" y="76"/>
                  </a:lnTo>
                  <a:lnTo>
                    <a:pt x="1101" y="94"/>
                  </a:lnTo>
                  <a:lnTo>
                    <a:pt x="1102" y="95"/>
                  </a:lnTo>
                  <a:lnTo>
                    <a:pt x="1106" y="98"/>
                  </a:lnTo>
                  <a:lnTo>
                    <a:pt x="1112" y="103"/>
                  </a:lnTo>
                  <a:lnTo>
                    <a:pt x="1120" y="111"/>
                  </a:lnTo>
                  <a:lnTo>
                    <a:pt x="1129" y="122"/>
                  </a:lnTo>
                  <a:lnTo>
                    <a:pt x="1137" y="135"/>
                  </a:lnTo>
                  <a:lnTo>
                    <a:pt x="1142" y="142"/>
                  </a:lnTo>
                  <a:lnTo>
                    <a:pt x="1145" y="151"/>
                  </a:lnTo>
                  <a:lnTo>
                    <a:pt x="1149" y="160"/>
                  </a:lnTo>
                  <a:lnTo>
                    <a:pt x="1152" y="170"/>
                  </a:lnTo>
                  <a:lnTo>
                    <a:pt x="1156" y="181"/>
                  </a:lnTo>
                  <a:lnTo>
                    <a:pt x="1158" y="191"/>
                  </a:lnTo>
                  <a:lnTo>
                    <a:pt x="1159" y="200"/>
                  </a:lnTo>
                  <a:lnTo>
                    <a:pt x="1160" y="210"/>
                  </a:lnTo>
                  <a:lnTo>
                    <a:pt x="1160" y="220"/>
                  </a:lnTo>
                  <a:lnTo>
                    <a:pt x="1160" y="229"/>
                  </a:lnTo>
                  <a:lnTo>
                    <a:pt x="1159" y="237"/>
                  </a:lnTo>
                  <a:lnTo>
                    <a:pt x="1157" y="246"/>
                  </a:lnTo>
                  <a:lnTo>
                    <a:pt x="1154" y="253"/>
                  </a:lnTo>
                  <a:lnTo>
                    <a:pt x="1150" y="261"/>
                  </a:lnTo>
                  <a:lnTo>
                    <a:pt x="1147" y="267"/>
                  </a:lnTo>
                  <a:lnTo>
                    <a:pt x="1143" y="274"/>
                  </a:lnTo>
                  <a:lnTo>
                    <a:pt x="1137" y="279"/>
                  </a:lnTo>
                  <a:lnTo>
                    <a:pt x="1132" y="285"/>
                  </a:lnTo>
                  <a:lnTo>
                    <a:pt x="1125" y="288"/>
                  </a:lnTo>
                  <a:lnTo>
                    <a:pt x="1118" y="291"/>
                  </a:lnTo>
                  <a:lnTo>
                    <a:pt x="1110" y="293"/>
                  </a:lnTo>
                  <a:lnTo>
                    <a:pt x="1103" y="293"/>
                  </a:lnTo>
                  <a:lnTo>
                    <a:pt x="1095" y="292"/>
                  </a:lnTo>
                  <a:lnTo>
                    <a:pt x="1088" y="290"/>
                  </a:lnTo>
                  <a:lnTo>
                    <a:pt x="1080" y="287"/>
                  </a:lnTo>
                  <a:lnTo>
                    <a:pt x="1074" y="283"/>
                  </a:lnTo>
                  <a:lnTo>
                    <a:pt x="1067" y="278"/>
                  </a:lnTo>
                  <a:lnTo>
                    <a:pt x="1062" y="272"/>
                  </a:lnTo>
                  <a:lnTo>
                    <a:pt x="1056" y="265"/>
                  </a:lnTo>
                  <a:lnTo>
                    <a:pt x="1053" y="259"/>
                  </a:lnTo>
                  <a:lnTo>
                    <a:pt x="1050" y="251"/>
                  </a:lnTo>
                  <a:lnTo>
                    <a:pt x="1048" y="244"/>
                  </a:lnTo>
                  <a:lnTo>
                    <a:pt x="1047" y="235"/>
                  </a:lnTo>
                  <a:lnTo>
                    <a:pt x="1048" y="226"/>
                  </a:lnTo>
                  <a:lnTo>
                    <a:pt x="1050" y="219"/>
                  </a:lnTo>
                  <a:lnTo>
                    <a:pt x="1054" y="210"/>
                  </a:lnTo>
                  <a:lnTo>
                    <a:pt x="1063" y="194"/>
                  </a:lnTo>
                  <a:lnTo>
                    <a:pt x="1071" y="183"/>
                  </a:lnTo>
                  <a:lnTo>
                    <a:pt x="1079" y="175"/>
                  </a:lnTo>
                  <a:lnTo>
                    <a:pt x="1084" y="169"/>
                  </a:lnTo>
                  <a:lnTo>
                    <a:pt x="1090" y="166"/>
                  </a:lnTo>
                  <a:lnTo>
                    <a:pt x="1093" y="164"/>
                  </a:lnTo>
                  <a:lnTo>
                    <a:pt x="1095" y="163"/>
                  </a:lnTo>
                  <a:lnTo>
                    <a:pt x="1095" y="163"/>
                  </a:lnTo>
                  <a:lnTo>
                    <a:pt x="1095" y="160"/>
                  </a:lnTo>
                  <a:lnTo>
                    <a:pt x="1094" y="155"/>
                  </a:lnTo>
                  <a:lnTo>
                    <a:pt x="1092" y="148"/>
                  </a:lnTo>
                  <a:lnTo>
                    <a:pt x="1089" y="138"/>
                  </a:lnTo>
                  <a:lnTo>
                    <a:pt x="1087" y="133"/>
                  </a:lnTo>
                  <a:lnTo>
                    <a:pt x="1083" y="130"/>
                  </a:lnTo>
                  <a:lnTo>
                    <a:pt x="1080" y="126"/>
                  </a:lnTo>
                  <a:lnTo>
                    <a:pt x="1076" y="124"/>
                  </a:lnTo>
                  <a:lnTo>
                    <a:pt x="1071" y="122"/>
                  </a:lnTo>
                  <a:lnTo>
                    <a:pt x="1066" y="119"/>
                  </a:lnTo>
                  <a:lnTo>
                    <a:pt x="1061" y="119"/>
                  </a:lnTo>
                  <a:lnTo>
                    <a:pt x="1054" y="121"/>
                  </a:lnTo>
                  <a:lnTo>
                    <a:pt x="1051" y="123"/>
                  </a:lnTo>
                  <a:lnTo>
                    <a:pt x="1043" y="129"/>
                  </a:lnTo>
                  <a:lnTo>
                    <a:pt x="1033" y="139"/>
                  </a:lnTo>
                  <a:lnTo>
                    <a:pt x="1020" y="153"/>
                  </a:lnTo>
                  <a:lnTo>
                    <a:pt x="1014" y="160"/>
                  </a:lnTo>
                  <a:lnTo>
                    <a:pt x="1008" y="169"/>
                  </a:lnTo>
                  <a:lnTo>
                    <a:pt x="1003" y="178"/>
                  </a:lnTo>
                  <a:lnTo>
                    <a:pt x="998" y="187"/>
                  </a:lnTo>
                  <a:lnTo>
                    <a:pt x="995" y="198"/>
                  </a:lnTo>
                  <a:lnTo>
                    <a:pt x="993" y="209"/>
                  </a:lnTo>
                  <a:lnTo>
                    <a:pt x="991" y="220"/>
                  </a:lnTo>
                  <a:lnTo>
                    <a:pt x="991" y="232"/>
                  </a:lnTo>
                  <a:lnTo>
                    <a:pt x="994" y="245"/>
                  </a:lnTo>
                  <a:lnTo>
                    <a:pt x="996" y="256"/>
                  </a:lnTo>
                  <a:lnTo>
                    <a:pt x="999" y="267"/>
                  </a:lnTo>
                  <a:lnTo>
                    <a:pt x="1003" y="278"/>
                  </a:lnTo>
                  <a:lnTo>
                    <a:pt x="1008" y="289"/>
                  </a:lnTo>
                  <a:lnTo>
                    <a:pt x="1012" y="300"/>
                  </a:lnTo>
                  <a:lnTo>
                    <a:pt x="1018" y="308"/>
                  </a:lnTo>
                  <a:lnTo>
                    <a:pt x="1025" y="318"/>
                  </a:lnTo>
                  <a:lnTo>
                    <a:pt x="1033" y="326"/>
                  </a:lnTo>
                  <a:lnTo>
                    <a:pt x="1040" y="333"/>
                  </a:lnTo>
                  <a:lnTo>
                    <a:pt x="1049" y="340"/>
                  </a:lnTo>
                  <a:lnTo>
                    <a:pt x="1057" y="344"/>
                  </a:lnTo>
                  <a:lnTo>
                    <a:pt x="1067" y="348"/>
                  </a:lnTo>
                  <a:lnTo>
                    <a:pt x="1078" y="352"/>
                  </a:lnTo>
                  <a:lnTo>
                    <a:pt x="1089" y="353"/>
                  </a:lnTo>
                  <a:lnTo>
                    <a:pt x="1101" y="354"/>
                  </a:lnTo>
                  <a:lnTo>
                    <a:pt x="1112" y="353"/>
                  </a:lnTo>
                  <a:lnTo>
                    <a:pt x="1124" y="351"/>
                  </a:lnTo>
                  <a:lnTo>
                    <a:pt x="1135" y="348"/>
                  </a:lnTo>
                  <a:lnTo>
                    <a:pt x="1146" y="345"/>
                  </a:lnTo>
                  <a:lnTo>
                    <a:pt x="1155" y="342"/>
                  </a:lnTo>
                  <a:lnTo>
                    <a:pt x="1164" y="338"/>
                  </a:lnTo>
                  <a:lnTo>
                    <a:pt x="1172" y="332"/>
                  </a:lnTo>
                  <a:lnTo>
                    <a:pt x="1179" y="326"/>
                  </a:lnTo>
                  <a:lnTo>
                    <a:pt x="1186" y="318"/>
                  </a:lnTo>
                  <a:lnTo>
                    <a:pt x="1192" y="311"/>
                  </a:lnTo>
                  <a:lnTo>
                    <a:pt x="1198" y="301"/>
                  </a:lnTo>
                  <a:lnTo>
                    <a:pt x="1202" y="291"/>
                  </a:lnTo>
                  <a:lnTo>
                    <a:pt x="1205" y="280"/>
                  </a:lnTo>
                  <a:lnTo>
                    <a:pt x="1209" y="268"/>
                  </a:lnTo>
                  <a:lnTo>
                    <a:pt x="1211" y="256"/>
                  </a:lnTo>
                  <a:lnTo>
                    <a:pt x="1212" y="243"/>
                  </a:lnTo>
                  <a:lnTo>
                    <a:pt x="1213" y="227"/>
                  </a:lnTo>
                  <a:lnTo>
                    <a:pt x="1213" y="212"/>
                  </a:lnTo>
                  <a:lnTo>
                    <a:pt x="1212" y="196"/>
                  </a:lnTo>
                  <a:lnTo>
                    <a:pt x="1210" y="180"/>
                  </a:lnTo>
                  <a:lnTo>
                    <a:pt x="1208" y="165"/>
                  </a:lnTo>
                  <a:lnTo>
                    <a:pt x="1203" y="149"/>
                  </a:lnTo>
                  <a:lnTo>
                    <a:pt x="1199" y="133"/>
                  </a:lnTo>
                  <a:lnTo>
                    <a:pt x="1192" y="118"/>
                  </a:lnTo>
                  <a:lnTo>
                    <a:pt x="1185" y="104"/>
                  </a:lnTo>
                  <a:lnTo>
                    <a:pt x="1177" y="91"/>
                  </a:lnTo>
                  <a:lnTo>
                    <a:pt x="1168" y="79"/>
                  </a:lnTo>
                  <a:lnTo>
                    <a:pt x="1157" y="69"/>
                  </a:lnTo>
                  <a:lnTo>
                    <a:pt x="1150" y="64"/>
                  </a:lnTo>
                  <a:lnTo>
                    <a:pt x="1145" y="60"/>
                  </a:lnTo>
                  <a:lnTo>
                    <a:pt x="1138" y="56"/>
                  </a:lnTo>
                  <a:lnTo>
                    <a:pt x="1131" y="52"/>
                  </a:lnTo>
                  <a:lnTo>
                    <a:pt x="1124" y="49"/>
                  </a:lnTo>
                  <a:lnTo>
                    <a:pt x="1117" y="47"/>
                  </a:lnTo>
                  <a:lnTo>
                    <a:pt x="1109" y="46"/>
                  </a:lnTo>
                  <a:lnTo>
                    <a:pt x="1101" y="44"/>
                  </a:lnTo>
                  <a:lnTo>
                    <a:pt x="141" y="0"/>
                  </a:lnTo>
                  <a:lnTo>
                    <a:pt x="137" y="1"/>
                  </a:lnTo>
                  <a:lnTo>
                    <a:pt x="125" y="2"/>
                  </a:lnTo>
                  <a:lnTo>
                    <a:pt x="116" y="4"/>
                  </a:lnTo>
                  <a:lnTo>
                    <a:pt x="107" y="6"/>
                  </a:lnTo>
                  <a:lnTo>
                    <a:pt x="97" y="10"/>
                  </a:lnTo>
                  <a:lnTo>
                    <a:pt x="85" y="15"/>
                  </a:lnTo>
                  <a:lnTo>
                    <a:pt x="74" y="21"/>
                  </a:lnTo>
                  <a:lnTo>
                    <a:pt x="64" y="28"/>
                  </a:lnTo>
                  <a:lnTo>
                    <a:pt x="52" y="37"/>
                  </a:lnTo>
                  <a:lnTo>
                    <a:pt x="41" y="48"/>
                  </a:lnTo>
                  <a:lnTo>
                    <a:pt x="31" y="60"/>
                  </a:lnTo>
                  <a:lnTo>
                    <a:pt x="22" y="75"/>
                  </a:lnTo>
                  <a:lnTo>
                    <a:pt x="18" y="83"/>
                  </a:lnTo>
                  <a:lnTo>
                    <a:pt x="14" y="92"/>
                  </a:lnTo>
                  <a:lnTo>
                    <a:pt x="11" y="101"/>
                  </a:lnTo>
                  <a:lnTo>
                    <a:pt x="7" y="111"/>
                  </a:lnTo>
                  <a:lnTo>
                    <a:pt x="3" y="128"/>
                  </a:lnTo>
                  <a:lnTo>
                    <a:pt x="1" y="146"/>
                  </a:lnTo>
                  <a:lnTo>
                    <a:pt x="0" y="163"/>
                  </a:lnTo>
                  <a:lnTo>
                    <a:pt x="0" y="180"/>
                  </a:lnTo>
                  <a:lnTo>
                    <a:pt x="2" y="196"/>
                  </a:lnTo>
                  <a:lnTo>
                    <a:pt x="4" y="211"/>
                  </a:lnTo>
                  <a:lnTo>
                    <a:pt x="8" y="226"/>
                  </a:lnTo>
                  <a:lnTo>
                    <a:pt x="14" y="241"/>
                  </a:lnTo>
                  <a:lnTo>
                    <a:pt x="21" y="254"/>
                  </a:lnTo>
                  <a:lnTo>
                    <a:pt x="29" y="267"/>
                  </a:lnTo>
                  <a:lnTo>
                    <a:pt x="38" y="279"/>
                  </a:lnTo>
                  <a:lnTo>
                    <a:pt x="47" y="290"/>
                  </a:lnTo>
                  <a:lnTo>
                    <a:pt x="59" y="300"/>
                  </a:lnTo>
                  <a:lnTo>
                    <a:pt x="70" y="308"/>
                  </a:lnTo>
                  <a:lnTo>
                    <a:pt x="83" y="315"/>
                  </a:lnTo>
                  <a:lnTo>
                    <a:pt x="97" y="321"/>
                  </a:lnTo>
                  <a:lnTo>
                    <a:pt x="111" y="326"/>
                  </a:lnTo>
                  <a:lnTo>
                    <a:pt x="126" y="328"/>
                  </a:lnTo>
                  <a:lnTo>
                    <a:pt x="141" y="329"/>
                  </a:lnTo>
                  <a:lnTo>
                    <a:pt x="155" y="328"/>
                  </a:lnTo>
                  <a:lnTo>
                    <a:pt x="168" y="326"/>
                  </a:lnTo>
                  <a:lnTo>
                    <a:pt x="182" y="321"/>
                  </a:lnTo>
                  <a:lnTo>
                    <a:pt x="194" y="316"/>
                  </a:lnTo>
                  <a:lnTo>
                    <a:pt x="206" y="308"/>
                  </a:lnTo>
                  <a:lnTo>
                    <a:pt x="217" y="300"/>
                  </a:lnTo>
                  <a:lnTo>
                    <a:pt x="227" y="290"/>
                  </a:lnTo>
                  <a:lnTo>
                    <a:pt x="236" y="278"/>
                  </a:lnTo>
                  <a:lnTo>
                    <a:pt x="244" y="265"/>
                  </a:lnTo>
                  <a:lnTo>
                    <a:pt x="249" y="251"/>
                  </a:lnTo>
                  <a:lnTo>
                    <a:pt x="255" y="235"/>
                  </a:lnTo>
                  <a:lnTo>
                    <a:pt x="258" y="219"/>
                  </a:lnTo>
                  <a:lnTo>
                    <a:pt x="260" y="200"/>
                  </a:lnTo>
                  <a:lnTo>
                    <a:pt x="260" y="182"/>
                  </a:lnTo>
                  <a:lnTo>
                    <a:pt x="259" y="166"/>
                  </a:lnTo>
                  <a:lnTo>
                    <a:pt x="257" y="152"/>
                  </a:lnTo>
                  <a:lnTo>
                    <a:pt x="254" y="139"/>
                  </a:lnTo>
                  <a:lnTo>
                    <a:pt x="249" y="129"/>
                  </a:lnTo>
                  <a:lnTo>
                    <a:pt x="244" y="121"/>
                  </a:lnTo>
                  <a:lnTo>
                    <a:pt x="237" y="113"/>
                  </a:lnTo>
                  <a:lnTo>
                    <a:pt x="232" y="106"/>
                  </a:lnTo>
                  <a:lnTo>
                    <a:pt x="226" y="102"/>
                  </a:lnTo>
                  <a:lnTo>
                    <a:pt x="220" y="98"/>
                  </a:lnTo>
                  <a:lnTo>
                    <a:pt x="214" y="96"/>
                  </a:lnTo>
                  <a:lnTo>
                    <a:pt x="209" y="94"/>
                  </a:lnTo>
                  <a:lnTo>
                    <a:pt x="201" y="91"/>
                  </a:lnTo>
                  <a:lnTo>
                    <a:pt x="199" y="91"/>
                  </a:lnTo>
                  <a:lnTo>
                    <a:pt x="196" y="91"/>
                  </a:lnTo>
                  <a:lnTo>
                    <a:pt x="193" y="94"/>
                  </a:lnTo>
                  <a:lnTo>
                    <a:pt x="189" y="97"/>
                  </a:lnTo>
                  <a:lnTo>
                    <a:pt x="183" y="101"/>
                  </a:lnTo>
                  <a:lnTo>
                    <a:pt x="179" y="106"/>
                  </a:lnTo>
                  <a:lnTo>
                    <a:pt x="175" y="114"/>
                  </a:lnTo>
                  <a:lnTo>
                    <a:pt x="175" y="118"/>
                  </a:lnTo>
                  <a:lnTo>
                    <a:pt x="174" y="124"/>
                  </a:lnTo>
                  <a:lnTo>
                    <a:pt x="175" y="129"/>
                  </a:lnTo>
                  <a:lnTo>
                    <a:pt x="176" y="136"/>
                  </a:lnTo>
                  <a:lnTo>
                    <a:pt x="177" y="137"/>
                  </a:lnTo>
                  <a:lnTo>
                    <a:pt x="180" y="139"/>
                  </a:lnTo>
                  <a:lnTo>
                    <a:pt x="185" y="143"/>
                  </a:lnTo>
                  <a:lnTo>
                    <a:pt x="190" y="150"/>
                  </a:lnTo>
                  <a:lnTo>
                    <a:pt x="195" y="158"/>
                  </a:lnTo>
                  <a:lnTo>
                    <a:pt x="200" y="169"/>
                  </a:lnTo>
                  <a:lnTo>
                    <a:pt x="204" y="182"/>
                  </a:lnTo>
                  <a:lnTo>
                    <a:pt x="205" y="197"/>
                  </a:lnTo>
                  <a:lnTo>
                    <a:pt x="205" y="207"/>
                  </a:lnTo>
                  <a:lnTo>
                    <a:pt x="203" y="217"/>
                  </a:lnTo>
                  <a:lnTo>
                    <a:pt x="200" y="226"/>
                  </a:lnTo>
                  <a:lnTo>
                    <a:pt x="194" y="235"/>
                  </a:lnTo>
                  <a:lnTo>
                    <a:pt x="188" y="244"/>
                  </a:lnTo>
                  <a:lnTo>
                    <a:pt x="181" y="251"/>
                  </a:lnTo>
                  <a:lnTo>
                    <a:pt x="173" y="258"/>
                  </a:lnTo>
                  <a:lnTo>
                    <a:pt x="163" y="263"/>
                  </a:lnTo>
                  <a:lnTo>
                    <a:pt x="153" y="266"/>
                  </a:lnTo>
                  <a:lnTo>
                    <a:pt x="142" y="268"/>
                  </a:lnTo>
                  <a:lnTo>
                    <a:pt x="132" y="270"/>
                  </a:lnTo>
                  <a:lnTo>
                    <a:pt x="121" y="267"/>
                  </a:lnTo>
                  <a:lnTo>
                    <a:pt x="114" y="266"/>
                  </a:lnTo>
                  <a:lnTo>
                    <a:pt x="109" y="264"/>
                  </a:lnTo>
                  <a:lnTo>
                    <a:pt x="103" y="261"/>
                  </a:lnTo>
                  <a:lnTo>
                    <a:pt x="97" y="258"/>
                  </a:lnTo>
                  <a:lnTo>
                    <a:pt x="92" y="253"/>
                  </a:lnTo>
                  <a:lnTo>
                    <a:pt x="86" y="249"/>
                  </a:lnTo>
                  <a:lnTo>
                    <a:pt x="80" y="244"/>
                  </a:lnTo>
                  <a:lnTo>
                    <a:pt x="74" y="237"/>
                  </a:lnTo>
                  <a:lnTo>
                    <a:pt x="70" y="231"/>
                  </a:lnTo>
                  <a:lnTo>
                    <a:pt x="66" y="224"/>
                  </a:lnTo>
                  <a:lnTo>
                    <a:pt x="62" y="217"/>
                  </a:lnTo>
                  <a:lnTo>
                    <a:pt x="59" y="210"/>
                  </a:lnTo>
                  <a:lnTo>
                    <a:pt x="55" y="195"/>
                  </a:lnTo>
                  <a:lnTo>
                    <a:pt x="53" y="180"/>
                  </a:lnTo>
                  <a:lnTo>
                    <a:pt x="53" y="166"/>
                  </a:lnTo>
                  <a:lnTo>
                    <a:pt x="55" y="151"/>
                  </a:lnTo>
                  <a:lnTo>
                    <a:pt x="58" y="137"/>
                  </a:lnTo>
                  <a:lnTo>
                    <a:pt x="62" y="123"/>
                  </a:lnTo>
                  <a:lnTo>
                    <a:pt x="68" y="110"/>
                  </a:lnTo>
                  <a:lnTo>
                    <a:pt x="75" y="98"/>
                  </a:lnTo>
                  <a:lnTo>
                    <a:pt x="83" y="87"/>
                  </a:lnTo>
                  <a:lnTo>
                    <a:pt x="91" y="77"/>
                  </a:lnTo>
                  <a:lnTo>
                    <a:pt x="99" y="70"/>
                  </a:lnTo>
                  <a:lnTo>
                    <a:pt x="109" y="63"/>
                  </a:lnTo>
                  <a:lnTo>
                    <a:pt x="118" y="59"/>
                  </a:lnTo>
                  <a:lnTo>
                    <a:pt x="126" y="57"/>
                  </a:lnTo>
                  <a:lnTo>
                    <a:pt x="602" y="74"/>
                  </a:lnTo>
                  <a:lnTo>
                    <a:pt x="569" y="151"/>
                  </a:lnTo>
                  <a:close/>
                </a:path>
              </a:pathLst>
            </a:custGeom>
            <a:solidFill>
              <a:srgbClr val="bdbd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599160" y="1697040"/>
              <a:ext cx="162000" cy="47520"/>
            </a:xfrm>
            <a:custGeom>
              <a:avLst/>
              <a:gdLst/>
              <a:ahLst/>
              <a:rect l="l" t="t" r="r" b="b"/>
              <a:pathLst>
                <a:path w="508" h="147">
                  <a:moveTo>
                    <a:pt x="506" y="120"/>
                  </a:moveTo>
                  <a:lnTo>
                    <a:pt x="505" y="118"/>
                  </a:lnTo>
                  <a:lnTo>
                    <a:pt x="504" y="116"/>
                  </a:lnTo>
                  <a:lnTo>
                    <a:pt x="504" y="114"/>
                  </a:lnTo>
                  <a:lnTo>
                    <a:pt x="503" y="112"/>
                  </a:lnTo>
                  <a:lnTo>
                    <a:pt x="503" y="110"/>
                  </a:lnTo>
                  <a:lnTo>
                    <a:pt x="502" y="108"/>
                  </a:lnTo>
                  <a:lnTo>
                    <a:pt x="502" y="105"/>
                  </a:lnTo>
                  <a:lnTo>
                    <a:pt x="500" y="103"/>
                  </a:lnTo>
                  <a:lnTo>
                    <a:pt x="497" y="93"/>
                  </a:lnTo>
                  <a:lnTo>
                    <a:pt x="493" y="84"/>
                  </a:lnTo>
                  <a:lnTo>
                    <a:pt x="490" y="75"/>
                  </a:lnTo>
                  <a:lnTo>
                    <a:pt x="485" y="68"/>
                  </a:lnTo>
                  <a:lnTo>
                    <a:pt x="477" y="55"/>
                  </a:lnTo>
                  <a:lnTo>
                    <a:pt x="468" y="44"/>
                  </a:lnTo>
                  <a:lnTo>
                    <a:pt x="460" y="36"/>
                  </a:lnTo>
                  <a:lnTo>
                    <a:pt x="454" y="31"/>
                  </a:lnTo>
                  <a:lnTo>
                    <a:pt x="450" y="28"/>
                  </a:lnTo>
                  <a:lnTo>
                    <a:pt x="449" y="27"/>
                  </a:lnTo>
                  <a:lnTo>
                    <a:pt x="13" y="9"/>
                  </a:lnTo>
                  <a:lnTo>
                    <a:pt x="46" y="84"/>
                  </a:lnTo>
                  <a:lnTo>
                    <a:pt x="34" y="84"/>
                  </a:lnTo>
                  <a:lnTo>
                    <a:pt x="32" y="81"/>
                  </a:lnTo>
                  <a:lnTo>
                    <a:pt x="27" y="71"/>
                  </a:lnTo>
                  <a:lnTo>
                    <a:pt x="21" y="57"/>
                  </a:lnTo>
                  <a:lnTo>
                    <a:pt x="14" y="42"/>
                  </a:lnTo>
                  <a:lnTo>
                    <a:pt x="8" y="27"/>
                  </a:lnTo>
                  <a:lnTo>
                    <a:pt x="2" y="12"/>
                  </a:lnTo>
                  <a:lnTo>
                    <a:pt x="1" y="7"/>
                  </a:lnTo>
                  <a:lnTo>
                    <a:pt x="0" y="3"/>
                  </a:lnTo>
                  <a:lnTo>
                    <a:pt x="0" y="1"/>
                  </a:lnTo>
                  <a:lnTo>
                    <a:pt x="1" y="0"/>
                  </a:lnTo>
                  <a:lnTo>
                    <a:pt x="20" y="1"/>
                  </a:lnTo>
                  <a:lnTo>
                    <a:pt x="66" y="2"/>
                  </a:lnTo>
                  <a:lnTo>
                    <a:pt x="131" y="5"/>
                  </a:lnTo>
                  <a:lnTo>
                    <a:pt x="206" y="7"/>
                  </a:lnTo>
                  <a:lnTo>
                    <a:pt x="281" y="10"/>
                  </a:lnTo>
                  <a:lnTo>
                    <a:pt x="349" y="14"/>
                  </a:lnTo>
                  <a:lnTo>
                    <a:pt x="400" y="16"/>
                  </a:lnTo>
                  <a:lnTo>
                    <a:pt x="424" y="17"/>
                  </a:lnTo>
                  <a:lnTo>
                    <a:pt x="433" y="19"/>
                  </a:lnTo>
                  <a:lnTo>
                    <a:pt x="445" y="23"/>
                  </a:lnTo>
                  <a:lnTo>
                    <a:pt x="452" y="25"/>
                  </a:lnTo>
                  <a:lnTo>
                    <a:pt x="459" y="30"/>
                  </a:lnTo>
                  <a:lnTo>
                    <a:pt x="466" y="35"/>
                  </a:lnTo>
                  <a:lnTo>
                    <a:pt x="472" y="42"/>
                  </a:lnTo>
                  <a:lnTo>
                    <a:pt x="479" y="49"/>
                  </a:lnTo>
                  <a:lnTo>
                    <a:pt x="485" y="58"/>
                  </a:lnTo>
                  <a:lnTo>
                    <a:pt x="491" y="69"/>
                  </a:lnTo>
                  <a:lnTo>
                    <a:pt x="496" y="81"/>
                  </a:lnTo>
                  <a:lnTo>
                    <a:pt x="500" y="95"/>
                  </a:lnTo>
                  <a:lnTo>
                    <a:pt x="504" y="111"/>
                  </a:lnTo>
                  <a:lnTo>
                    <a:pt x="507" y="128"/>
                  </a:lnTo>
                  <a:lnTo>
                    <a:pt x="508" y="147"/>
                  </a:lnTo>
                  <a:lnTo>
                    <a:pt x="506" y="120"/>
                  </a:lnTo>
                  <a:close/>
                </a:path>
              </a:pathLst>
            </a:custGeom>
            <a:solidFill>
              <a:srgbClr val="9695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708600" y="1743120"/>
              <a:ext cx="68400" cy="46080"/>
            </a:xfrm>
            <a:custGeom>
              <a:avLst/>
              <a:gdLst/>
              <a:ahLst/>
              <a:rect l="l" t="t" r="r" b="b"/>
              <a:pathLst>
                <a:path w="217" h="144">
                  <a:moveTo>
                    <a:pt x="217" y="42"/>
                  </a:moveTo>
                  <a:lnTo>
                    <a:pt x="215" y="54"/>
                  </a:lnTo>
                  <a:lnTo>
                    <a:pt x="211" y="66"/>
                  </a:lnTo>
                  <a:lnTo>
                    <a:pt x="208" y="77"/>
                  </a:lnTo>
                  <a:lnTo>
                    <a:pt x="204" y="87"/>
                  </a:lnTo>
                  <a:lnTo>
                    <a:pt x="200" y="95"/>
                  </a:lnTo>
                  <a:lnTo>
                    <a:pt x="194" y="104"/>
                  </a:lnTo>
                  <a:lnTo>
                    <a:pt x="189" y="111"/>
                  </a:lnTo>
                  <a:lnTo>
                    <a:pt x="181" y="118"/>
                  </a:lnTo>
                  <a:lnTo>
                    <a:pt x="175" y="123"/>
                  </a:lnTo>
                  <a:lnTo>
                    <a:pt x="166" y="129"/>
                  </a:lnTo>
                  <a:lnTo>
                    <a:pt x="157" y="133"/>
                  </a:lnTo>
                  <a:lnTo>
                    <a:pt x="149" y="136"/>
                  </a:lnTo>
                  <a:lnTo>
                    <a:pt x="139" y="139"/>
                  </a:lnTo>
                  <a:lnTo>
                    <a:pt x="128" y="141"/>
                  </a:lnTo>
                  <a:lnTo>
                    <a:pt x="117" y="143"/>
                  </a:lnTo>
                  <a:lnTo>
                    <a:pt x="106" y="144"/>
                  </a:lnTo>
                  <a:lnTo>
                    <a:pt x="95" y="143"/>
                  </a:lnTo>
                  <a:lnTo>
                    <a:pt x="85" y="142"/>
                  </a:lnTo>
                  <a:lnTo>
                    <a:pt x="75" y="139"/>
                  </a:lnTo>
                  <a:lnTo>
                    <a:pt x="67" y="136"/>
                  </a:lnTo>
                  <a:lnTo>
                    <a:pt x="58" y="132"/>
                  </a:lnTo>
                  <a:lnTo>
                    <a:pt x="50" y="127"/>
                  </a:lnTo>
                  <a:lnTo>
                    <a:pt x="43" y="121"/>
                  </a:lnTo>
                  <a:lnTo>
                    <a:pt x="35" y="114"/>
                  </a:lnTo>
                  <a:lnTo>
                    <a:pt x="29" y="107"/>
                  </a:lnTo>
                  <a:lnTo>
                    <a:pt x="23" y="98"/>
                  </a:lnTo>
                  <a:lnTo>
                    <a:pt x="18" y="90"/>
                  </a:lnTo>
                  <a:lnTo>
                    <a:pt x="13" y="81"/>
                  </a:lnTo>
                  <a:lnTo>
                    <a:pt x="8" y="71"/>
                  </a:lnTo>
                  <a:lnTo>
                    <a:pt x="5" y="62"/>
                  </a:lnTo>
                  <a:lnTo>
                    <a:pt x="2" y="52"/>
                  </a:lnTo>
                  <a:lnTo>
                    <a:pt x="0" y="42"/>
                  </a:lnTo>
                  <a:lnTo>
                    <a:pt x="1" y="47"/>
                  </a:lnTo>
                  <a:lnTo>
                    <a:pt x="4" y="57"/>
                  </a:lnTo>
                  <a:lnTo>
                    <a:pt x="6" y="64"/>
                  </a:lnTo>
                  <a:lnTo>
                    <a:pt x="11" y="73"/>
                  </a:lnTo>
                  <a:lnTo>
                    <a:pt x="15" y="81"/>
                  </a:lnTo>
                  <a:lnTo>
                    <a:pt x="20" y="90"/>
                  </a:lnTo>
                  <a:lnTo>
                    <a:pt x="27" y="98"/>
                  </a:lnTo>
                  <a:lnTo>
                    <a:pt x="34" y="107"/>
                  </a:lnTo>
                  <a:lnTo>
                    <a:pt x="43" y="115"/>
                  </a:lnTo>
                  <a:lnTo>
                    <a:pt x="54" y="121"/>
                  </a:lnTo>
                  <a:lnTo>
                    <a:pt x="65" y="127"/>
                  </a:lnTo>
                  <a:lnTo>
                    <a:pt x="78" y="131"/>
                  </a:lnTo>
                  <a:lnTo>
                    <a:pt x="85" y="132"/>
                  </a:lnTo>
                  <a:lnTo>
                    <a:pt x="93" y="133"/>
                  </a:lnTo>
                  <a:lnTo>
                    <a:pt x="100" y="134"/>
                  </a:lnTo>
                  <a:lnTo>
                    <a:pt x="108" y="133"/>
                  </a:lnTo>
                  <a:lnTo>
                    <a:pt x="124" y="132"/>
                  </a:lnTo>
                  <a:lnTo>
                    <a:pt x="138" y="130"/>
                  </a:lnTo>
                  <a:lnTo>
                    <a:pt x="151" y="125"/>
                  </a:lnTo>
                  <a:lnTo>
                    <a:pt x="162" y="121"/>
                  </a:lnTo>
                  <a:lnTo>
                    <a:pt x="173" y="116"/>
                  </a:lnTo>
                  <a:lnTo>
                    <a:pt x="181" y="108"/>
                  </a:lnTo>
                  <a:lnTo>
                    <a:pt x="189" y="101"/>
                  </a:lnTo>
                  <a:lnTo>
                    <a:pt x="195" y="93"/>
                  </a:lnTo>
                  <a:lnTo>
                    <a:pt x="201" y="83"/>
                  </a:lnTo>
                  <a:lnTo>
                    <a:pt x="205" y="74"/>
                  </a:lnTo>
                  <a:lnTo>
                    <a:pt x="208" y="63"/>
                  </a:lnTo>
                  <a:lnTo>
                    <a:pt x="211" y="51"/>
                  </a:lnTo>
                  <a:lnTo>
                    <a:pt x="214" y="39"/>
                  </a:lnTo>
                  <a:lnTo>
                    <a:pt x="215" y="27"/>
                  </a:lnTo>
                  <a:lnTo>
                    <a:pt x="216" y="13"/>
                  </a:lnTo>
                  <a:lnTo>
                    <a:pt x="217" y="0"/>
                  </a:lnTo>
                  <a:lnTo>
                    <a:pt x="217" y="42"/>
                  </a:lnTo>
                  <a:close/>
                </a:path>
              </a:pathLst>
            </a:custGeom>
            <a:solidFill>
              <a:srgbClr val="9695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411960" y="1692360"/>
              <a:ext cx="177840" cy="31680"/>
            </a:xfrm>
            <a:custGeom>
              <a:avLst/>
              <a:gdLst/>
              <a:ahLst/>
              <a:rect l="l" t="t" r="r" b="b"/>
              <a:pathLst>
                <a:path w="560" h="102">
                  <a:moveTo>
                    <a:pt x="539" y="102"/>
                  </a:moveTo>
                  <a:lnTo>
                    <a:pt x="510" y="102"/>
                  </a:lnTo>
                  <a:lnTo>
                    <a:pt x="543" y="25"/>
                  </a:lnTo>
                  <a:lnTo>
                    <a:pt x="67" y="8"/>
                  </a:lnTo>
                  <a:lnTo>
                    <a:pt x="63" y="9"/>
                  </a:lnTo>
                  <a:lnTo>
                    <a:pt x="57" y="10"/>
                  </a:lnTo>
                  <a:lnTo>
                    <a:pt x="52" y="12"/>
                  </a:lnTo>
                  <a:lnTo>
                    <a:pt x="48" y="15"/>
                  </a:lnTo>
                  <a:lnTo>
                    <a:pt x="38" y="23"/>
                  </a:lnTo>
                  <a:lnTo>
                    <a:pt x="28" y="33"/>
                  </a:lnTo>
                  <a:lnTo>
                    <a:pt x="20" y="43"/>
                  </a:lnTo>
                  <a:lnTo>
                    <a:pt x="12" y="57"/>
                  </a:lnTo>
                  <a:lnTo>
                    <a:pt x="6" y="72"/>
                  </a:lnTo>
                  <a:lnTo>
                    <a:pt x="0" y="87"/>
                  </a:lnTo>
                  <a:lnTo>
                    <a:pt x="1" y="83"/>
                  </a:lnTo>
                  <a:lnTo>
                    <a:pt x="3" y="74"/>
                  </a:lnTo>
                  <a:lnTo>
                    <a:pt x="8" y="60"/>
                  </a:lnTo>
                  <a:lnTo>
                    <a:pt x="14" y="43"/>
                  </a:lnTo>
                  <a:lnTo>
                    <a:pt x="19" y="36"/>
                  </a:lnTo>
                  <a:lnTo>
                    <a:pt x="24" y="27"/>
                  </a:lnTo>
                  <a:lnTo>
                    <a:pt x="29" y="21"/>
                  </a:lnTo>
                  <a:lnTo>
                    <a:pt x="36" y="14"/>
                  </a:lnTo>
                  <a:lnTo>
                    <a:pt x="43" y="8"/>
                  </a:lnTo>
                  <a:lnTo>
                    <a:pt x="52" y="3"/>
                  </a:lnTo>
                  <a:lnTo>
                    <a:pt x="62" y="1"/>
                  </a:lnTo>
                  <a:lnTo>
                    <a:pt x="73" y="0"/>
                  </a:lnTo>
                  <a:lnTo>
                    <a:pt x="115" y="1"/>
                  </a:lnTo>
                  <a:lnTo>
                    <a:pt x="180" y="3"/>
                  </a:lnTo>
                  <a:lnTo>
                    <a:pt x="259" y="6"/>
                  </a:lnTo>
                  <a:lnTo>
                    <a:pt x="344" y="9"/>
                  </a:lnTo>
                  <a:lnTo>
                    <a:pt x="425" y="12"/>
                  </a:lnTo>
                  <a:lnTo>
                    <a:pt x="494" y="15"/>
                  </a:lnTo>
                  <a:lnTo>
                    <a:pt x="541" y="16"/>
                  </a:lnTo>
                  <a:lnTo>
                    <a:pt x="560" y="18"/>
                  </a:lnTo>
                  <a:lnTo>
                    <a:pt x="539" y="102"/>
                  </a:lnTo>
                  <a:close/>
                </a:path>
              </a:pathLst>
            </a:custGeom>
            <a:solidFill>
              <a:srgbClr val="9695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399360" y="1746360"/>
              <a:ext cx="75960" cy="34920"/>
            </a:xfrm>
            <a:custGeom>
              <a:avLst/>
              <a:gdLst/>
              <a:ahLst/>
              <a:rect l="l" t="t" r="r" b="b"/>
              <a:pathLst>
                <a:path w="240" h="111">
                  <a:moveTo>
                    <a:pt x="240" y="0"/>
                  </a:moveTo>
                  <a:lnTo>
                    <a:pt x="237" y="16"/>
                  </a:lnTo>
                  <a:lnTo>
                    <a:pt x="231" y="31"/>
                  </a:lnTo>
                  <a:lnTo>
                    <a:pt x="226" y="45"/>
                  </a:lnTo>
                  <a:lnTo>
                    <a:pt x="219" y="58"/>
                  </a:lnTo>
                  <a:lnTo>
                    <a:pt x="211" y="69"/>
                  </a:lnTo>
                  <a:lnTo>
                    <a:pt x="201" y="79"/>
                  </a:lnTo>
                  <a:lnTo>
                    <a:pt x="192" y="87"/>
                  </a:lnTo>
                  <a:lnTo>
                    <a:pt x="181" y="95"/>
                  </a:lnTo>
                  <a:lnTo>
                    <a:pt x="169" y="101"/>
                  </a:lnTo>
                  <a:lnTo>
                    <a:pt x="157" y="106"/>
                  </a:lnTo>
                  <a:lnTo>
                    <a:pt x="144" y="109"/>
                  </a:lnTo>
                  <a:lnTo>
                    <a:pt x="131" y="110"/>
                  </a:lnTo>
                  <a:lnTo>
                    <a:pt x="118" y="111"/>
                  </a:lnTo>
                  <a:lnTo>
                    <a:pt x="104" y="110"/>
                  </a:lnTo>
                  <a:lnTo>
                    <a:pt x="91" y="107"/>
                  </a:lnTo>
                  <a:lnTo>
                    <a:pt x="77" y="103"/>
                  </a:lnTo>
                  <a:lnTo>
                    <a:pt x="65" y="98"/>
                  </a:lnTo>
                  <a:lnTo>
                    <a:pt x="53" y="92"/>
                  </a:lnTo>
                  <a:lnTo>
                    <a:pt x="42" y="84"/>
                  </a:lnTo>
                  <a:lnTo>
                    <a:pt x="33" y="76"/>
                  </a:lnTo>
                  <a:lnTo>
                    <a:pt x="23" y="67"/>
                  </a:lnTo>
                  <a:lnTo>
                    <a:pt x="14" y="57"/>
                  </a:lnTo>
                  <a:lnTo>
                    <a:pt x="7" y="46"/>
                  </a:lnTo>
                  <a:lnTo>
                    <a:pt x="0" y="34"/>
                  </a:lnTo>
                  <a:lnTo>
                    <a:pt x="2" y="38"/>
                  </a:lnTo>
                  <a:lnTo>
                    <a:pt x="9" y="47"/>
                  </a:lnTo>
                  <a:lnTo>
                    <a:pt x="20" y="60"/>
                  </a:lnTo>
                  <a:lnTo>
                    <a:pt x="35" y="74"/>
                  </a:lnTo>
                  <a:lnTo>
                    <a:pt x="44" y="81"/>
                  </a:lnTo>
                  <a:lnTo>
                    <a:pt x="54" y="87"/>
                  </a:lnTo>
                  <a:lnTo>
                    <a:pt x="65" y="93"/>
                  </a:lnTo>
                  <a:lnTo>
                    <a:pt x="77" y="98"/>
                  </a:lnTo>
                  <a:lnTo>
                    <a:pt x="90" y="101"/>
                  </a:lnTo>
                  <a:lnTo>
                    <a:pt x="105" y="102"/>
                  </a:lnTo>
                  <a:lnTo>
                    <a:pt x="120" y="102"/>
                  </a:lnTo>
                  <a:lnTo>
                    <a:pt x="136" y="101"/>
                  </a:lnTo>
                  <a:lnTo>
                    <a:pt x="153" y="96"/>
                  </a:lnTo>
                  <a:lnTo>
                    <a:pt x="167" y="90"/>
                  </a:lnTo>
                  <a:lnTo>
                    <a:pt x="180" y="84"/>
                  </a:lnTo>
                  <a:lnTo>
                    <a:pt x="190" y="76"/>
                  </a:lnTo>
                  <a:lnTo>
                    <a:pt x="201" y="69"/>
                  </a:lnTo>
                  <a:lnTo>
                    <a:pt x="209" y="60"/>
                  </a:lnTo>
                  <a:lnTo>
                    <a:pt x="216" y="52"/>
                  </a:lnTo>
                  <a:lnTo>
                    <a:pt x="223" y="43"/>
                  </a:lnTo>
                  <a:lnTo>
                    <a:pt x="231" y="27"/>
                  </a:lnTo>
                  <a:lnTo>
                    <a:pt x="237" y="13"/>
                  </a:lnTo>
                  <a:lnTo>
                    <a:pt x="239" y="3"/>
                  </a:lnTo>
                  <a:lnTo>
                    <a:pt x="240" y="0"/>
                  </a:lnTo>
                  <a:close/>
                </a:path>
              </a:pathLst>
            </a:custGeom>
            <a:solidFill>
              <a:srgbClr val="9695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434280" y="1683000"/>
              <a:ext cx="222120" cy="93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670800" y="1692360"/>
              <a:ext cx="60120" cy="14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740640" y="1695600"/>
              <a:ext cx="19080" cy="11160"/>
            </a:xfrm>
            <a:custGeom>
              <a:avLst/>
              <a:gdLst/>
              <a:ahLst/>
              <a:rect l="l" t="t" r="r" b="b"/>
              <a:pathLst>
                <a:path w="62" h="38">
                  <a:moveTo>
                    <a:pt x="0" y="0"/>
                  </a:moveTo>
                  <a:lnTo>
                    <a:pt x="2" y="0"/>
                  </a:lnTo>
                  <a:lnTo>
                    <a:pt x="7" y="0"/>
                  </a:lnTo>
                  <a:lnTo>
                    <a:pt x="13" y="1"/>
                  </a:lnTo>
                  <a:lnTo>
                    <a:pt x="21" y="4"/>
                  </a:lnTo>
                  <a:lnTo>
                    <a:pt x="30" y="9"/>
                  </a:lnTo>
                  <a:lnTo>
                    <a:pt x="41" y="15"/>
                  </a:lnTo>
                  <a:lnTo>
                    <a:pt x="46" y="19"/>
                  </a:lnTo>
                  <a:lnTo>
                    <a:pt x="52" y="25"/>
                  </a:lnTo>
                  <a:lnTo>
                    <a:pt x="57" y="30"/>
                  </a:lnTo>
                  <a:lnTo>
                    <a:pt x="62" y="38"/>
                  </a:lnTo>
                </a:path>
              </a:pathLst>
            </a:custGeom>
            <a:noFill/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764400" y="1714680"/>
              <a:ext cx="4680" cy="126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413400" y="1687680"/>
              <a:ext cx="11160" cy="7920"/>
            </a:xfrm>
            <a:custGeom>
              <a:avLst/>
              <a:gdLst/>
              <a:ahLst/>
              <a:rect l="l" t="t" r="r" b="b"/>
              <a:pathLst>
                <a:path w="34" h="24">
                  <a:moveTo>
                    <a:pt x="34" y="0"/>
                  </a:moveTo>
                  <a:lnTo>
                    <a:pt x="33" y="0"/>
                  </a:lnTo>
                  <a:lnTo>
                    <a:pt x="31" y="1"/>
                  </a:lnTo>
                  <a:lnTo>
                    <a:pt x="27" y="4"/>
                  </a:lnTo>
                  <a:lnTo>
                    <a:pt x="21" y="6"/>
                  </a:lnTo>
                  <a:lnTo>
                    <a:pt x="15" y="9"/>
                  </a:lnTo>
                  <a:lnTo>
                    <a:pt x="9" y="13"/>
                  </a:lnTo>
                  <a:lnTo>
                    <a:pt x="4" y="19"/>
                  </a:lnTo>
                  <a:lnTo>
                    <a:pt x="0" y="24"/>
                  </a:lnTo>
                </a:path>
              </a:pathLst>
            </a:custGeom>
            <a:noFill/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405480" y="1736640"/>
              <a:ext cx="1800" cy="7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411960" y="1752840"/>
              <a:ext cx="12600" cy="10800"/>
            </a:xfrm>
            <a:custGeom>
              <a:avLst/>
              <a:gdLst/>
              <a:ahLst/>
              <a:rect l="l" t="t" r="r" b="b"/>
              <a:pathLst>
                <a:path w="37" h="35">
                  <a:moveTo>
                    <a:pt x="0" y="0"/>
                  </a:moveTo>
                  <a:lnTo>
                    <a:pt x="0" y="1"/>
                  </a:lnTo>
                  <a:lnTo>
                    <a:pt x="3" y="5"/>
                  </a:lnTo>
                  <a:lnTo>
                    <a:pt x="5" y="8"/>
                  </a:lnTo>
                  <a:lnTo>
                    <a:pt x="8" y="13"/>
                  </a:lnTo>
                  <a:lnTo>
                    <a:pt x="13" y="19"/>
                  </a:lnTo>
                  <a:lnTo>
                    <a:pt x="20" y="24"/>
                  </a:lnTo>
                  <a:lnTo>
                    <a:pt x="27" y="31"/>
                  </a:lnTo>
                  <a:lnTo>
                    <a:pt x="37" y="35"/>
                  </a:lnTo>
                </a:path>
              </a:pathLst>
            </a:custGeom>
            <a:noFill/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591240" y="1697040"/>
              <a:ext cx="11160" cy="17640"/>
            </a:xfrm>
            <a:custGeom>
              <a:avLst/>
              <a:gdLst/>
              <a:ahLst/>
              <a:rect l="l" t="t" r="r" b="b"/>
              <a:pathLst>
                <a:path w="36" h="55">
                  <a:moveTo>
                    <a:pt x="0" y="2"/>
                  </a:moveTo>
                  <a:lnTo>
                    <a:pt x="0" y="3"/>
                  </a:lnTo>
                  <a:lnTo>
                    <a:pt x="0" y="6"/>
                  </a:lnTo>
                  <a:lnTo>
                    <a:pt x="0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31"/>
                  </a:lnTo>
                  <a:lnTo>
                    <a:pt x="0" y="38"/>
                  </a:lnTo>
                  <a:lnTo>
                    <a:pt x="0" y="44"/>
                  </a:lnTo>
                  <a:lnTo>
                    <a:pt x="0" y="48"/>
                  </a:lnTo>
                  <a:lnTo>
                    <a:pt x="1" y="51"/>
                  </a:lnTo>
                  <a:lnTo>
                    <a:pt x="5" y="52"/>
                  </a:lnTo>
                  <a:lnTo>
                    <a:pt x="7" y="54"/>
                  </a:lnTo>
                  <a:lnTo>
                    <a:pt x="11" y="55"/>
                  </a:lnTo>
                  <a:lnTo>
                    <a:pt x="14" y="55"/>
                  </a:lnTo>
                  <a:lnTo>
                    <a:pt x="19" y="54"/>
                  </a:lnTo>
                  <a:lnTo>
                    <a:pt x="22" y="54"/>
                  </a:lnTo>
                  <a:lnTo>
                    <a:pt x="26" y="54"/>
                  </a:lnTo>
                  <a:lnTo>
                    <a:pt x="30" y="55"/>
                  </a:lnTo>
                  <a:lnTo>
                    <a:pt x="33" y="54"/>
                  </a:lnTo>
                  <a:lnTo>
                    <a:pt x="35" y="54"/>
                  </a:lnTo>
                  <a:lnTo>
                    <a:pt x="36" y="52"/>
                  </a:lnTo>
                  <a:lnTo>
                    <a:pt x="36" y="50"/>
                  </a:lnTo>
                  <a:lnTo>
                    <a:pt x="36" y="46"/>
                  </a:lnTo>
                  <a:lnTo>
                    <a:pt x="35" y="42"/>
                  </a:lnTo>
                  <a:lnTo>
                    <a:pt x="33" y="36"/>
                  </a:lnTo>
                  <a:lnTo>
                    <a:pt x="31" y="30"/>
                  </a:lnTo>
                  <a:lnTo>
                    <a:pt x="28" y="23"/>
                  </a:lnTo>
                  <a:lnTo>
                    <a:pt x="27" y="17"/>
                  </a:lnTo>
                  <a:lnTo>
                    <a:pt x="25" y="11"/>
                  </a:lnTo>
                  <a:lnTo>
                    <a:pt x="23" y="7"/>
                  </a:lnTo>
                  <a:lnTo>
                    <a:pt x="22" y="4"/>
                  </a:lnTo>
                  <a:lnTo>
                    <a:pt x="20" y="2"/>
                  </a:lnTo>
                  <a:lnTo>
                    <a:pt x="18" y="2"/>
                  </a:lnTo>
                  <a:lnTo>
                    <a:pt x="14" y="1"/>
                  </a:lnTo>
                  <a:lnTo>
                    <a:pt x="12" y="0"/>
                  </a:lnTo>
                  <a:lnTo>
                    <a:pt x="9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1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eeee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589800" y="1717920"/>
              <a:ext cx="17280" cy="6120"/>
            </a:xfrm>
            <a:custGeom>
              <a:avLst/>
              <a:gdLst/>
              <a:ahLst/>
              <a:rect l="l" t="t" r="r" b="b"/>
              <a:pathLst>
                <a:path w="51" h="23">
                  <a:moveTo>
                    <a:pt x="11" y="0"/>
                  </a:moveTo>
                  <a:lnTo>
                    <a:pt x="12" y="0"/>
                  </a:lnTo>
                  <a:lnTo>
                    <a:pt x="15" y="0"/>
                  </a:lnTo>
                  <a:lnTo>
                    <a:pt x="19" y="0"/>
                  </a:lnTo>
                  <a:lnTo>
                    <a:pt x="24" y="0"/>
                  </a:lnTo>
                  <a:lnTo>
                    <a:pt x="29" y="0"/>
                  </a:lnTo>
                  <a:lnTo>
                    <a:pt x="35" y="0"/>
                  </a:lnTo>
                  <a:lnTo>
                    <a:pt x="38" y="0"/>
                  </a:lnTo>
                  <a:lnTo>
                    <a:pt x="41" y="0"/>
                  </a:lnTo>
                  <a:lnTo>
                    <a:pt x="43" y="1"/>
                  </a:lnTo>
                  <a:lnTo>
                    <a:pt x="44" y="2"/>
                  </a:lnTo>
                  <a:lnTo>
                    <a:pt x="46" y="4"/>
                  </a:lnTo>
                  <a:lnTo>
                    <a:pt x="48" y="5"/>
                  </a:lnTo>
                  <a:lnTo>
                    <a:pt x="49" y="8"/>
                  </a:lnTo>
                  <a:lnTo>
                    <a:pt x="50" y="9"/>
                  </a:lnTo>
                  <a:lnTo>
                    <a:pt x="51" y="11"/>
                  </a:lnTo>
                  <a:lnTo>
                    <a:pt x="51" y="13"/>
                  </a:lnTo>
                  <a:lnTo>
                    <a:pt x="51" y="14"/>
                  </a:lnTo>
                  <a:lnTo>
                    <a:pt x="50" y="16"/>
                  </a:lnTo>
                  <a:lnTo>
                    <a:pt x="48" y="18"/>
                  </a:lnTo>
                  <a:lnTo>
                    <a:pt x="45" y="20"/>
                  </a:lnTo>
                  <a:lnTo>
                    <a:pt x="43" y="21"/>
                  </a:lnTo>
                  <a:lnTo>
                    <a:pt x="40" y="22"/>
                  </a:lnTo>
                  <a:lnTo>
                    <a:pt x="37" y="23"/>
                  </a:lnTo>
                  <a:lnTo>
                    <a:pt x="34" y="23"/>
                  </a:lnTo>
                  <a:lnTo>
                    <a:pt x="29" y="23"/>
                  </a:lnTo>
                  <a:lnTo>
                    <a:pt x="25" y="23"/>
                  </a:lnTo>
                  <a:lnTo>
                    <a:pt x="19" y="23"/>
                  </a:lnTo>
                  <a:lnTo>
                    <a:pt x="15" y="22"/>
                  </a:lnTo>
                  <a:lnTo>
                    <a:pt x="10" y="22"/>
                  </a:lnTo>
                  <a:lnTo>
                    <a:pt x="7" y="21"/>
                  </a:lnTo>
                  <a:lnTo>
                    <a:pt x="3" y="20"/>
                  </a:lnTo>
                  <a:lnTo>
                    <a:pt x="1" y="17"/>
                  </a:lnTo>
                  <a:lnTo>
                    <a:pt x="1" y="15"/>
                  </a:lnTo>
                  <a:lnTo>
                    <a:pt x="0" y="13"/>
                  </a:lnTo>
                  <a:lnTo>
                    <a:pt x="1" y="10"/>
                  </a:lnTo>
                  <a:lnTo>
                    <a:pt x="2" y="8"/>
                  </a:lnTo>
                  <a:lnTo>
                    <a:pt x="3" y="4"/>
                  </a:lnTo>
                  <a:lnTo>
                    <a:pt x="5" y="2"/>
                  </a:lnTo>
                  <a:lnTo>
                    <a:pt x="8" y="1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eeee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22920" y="1800360"/>
              <a:ext cx="203400" cy="549360"/>
            </a:xfrm>
            <a:custGeom>
              <a:avLst/>
              <a:gdLst/>
              <a:ahLst/>
              <a:rect l="l" t="t" r="r" b="b"/>
              <a:pathLst>
                <a:path w="640" h="1733">
                  <a:moveTo>
                    <a:pt x="213" y="1684"/>
                  </a:moveTo>
                  <a:lnTo>
                    <a:pt x="204" y="1676"/>
                  </a:lnTo>
                  <a:lnTo>
                    <a:pt x="194" y="1668"/>
                  </a:lnTo>
                  <a:lnTo>
                    <a:pt x="190" y="1666"/>
                  </a:lnTo>
                  <a:lnTo>
                    <a:pt x="186" y="1664"/>
                  </a:lnTo>
                  <a:lnTo>
                    <a:pt x="180" y="1663"/>
                  </a:lnTo>
                  <a:lnTo>
                    <a:pt x="175" y="1661"/>
                  </a:lnTo>
                  <a:lnTo>
                    <a:pt x="169" y="1661"/>
                  </a:lnTo>
                  <a:lnTo>
                    <a:pt x="163" y="1663"/>
                  </a:lnTo>
                  <a:lnTo>
                    <a:pt x="156" y="1665"/>
                  </a:lnTo>
                  <a:lnTo>
                    <a:pt x="150" y="1668"/>
                  </a:lnTo>
                  <a:lnTo>
                    <a:pt x="142" y="1672"/>
                  </a:lnTo>
                  <a:lnTo>
                    <a:pt x="135" y="1678"/>
                  </a:lnTo>
                  <a:lnTo>
                    <a:pt x="126" y="1684"/>
                  </a:lnTo>
                  <a:lnTo>
                    <a:pt x="116" y="1692"/>
                  </a:lnTo>
                  <a:lnTo>
                    <a:pt x="98" y="1708"/>
                  </a:lnTo>
                  <a:lnTo>
                    <a:pt x="82" y="1721"/>
                  </a:lnTo>
                  <a:lnTo>
                    <a:pt x="74" y="1726"/>
                  </a:lnTo>
                  <a:lnTo>
                    <a:pt x="67" y="1730"/>
                  </a:lnTo>
                  <a:lnTo>
                    <a:pt x="60" y="1732"/>
                  </a:lnTo>
                  <a:lnTo>
                    <a:pt x="54" y="1733"/>
                  </a:lnTo>
                  <a:lnTo>
                    <a:pt x="48" y="1732"/>
                  </a:lnTo>
                  <a:lnTo>
                    <a:pt x="43" y="1730"/>
                  </a:lnTo>
                  <a:lnTo>
                    <a:pt x="38" y="1725"/>
                  </a:lnTo>
                  <a:lnTo>
                    <a:pt x="32" y="1720"/>
                  </a:lnTo>
                  <a:lnTo>
                    <a:pt x="27" y="1711"/>
                  </a:lnTo>
                  <a:lnTo>
                    <a:pt x="23" y="1701"/>
                  </a:lnTo>
                  <a:lnTo>
                    <a:pt x="17" y="1690"/>
                  </a:lnTo>
                  <a:lnTo>
                    <a:pt x="13" y="1674"/>
                  </a:lnTo>
                  <a:lnTo>
                    <a:pt x="8" y="1659"/>
                  </a:lnTo>
                  <a:lnTo>
                    <a:pt x="5" y="1644"/>
                  </a:lnTo>
                  <a:lnTo>
                    <a:pt x="3" y="1629"/>
                  </a:lnTo>
                  <a:lnTo>
                    <a:pt x="2" y="1615"/>
                  </a:lnTo>
                  <a:lnTo>
                    <a:pt x="1" y="1600"/>
                  </a:lnTo>
                  <a:lnTo>
                    <a:pt x="0" y="1586"/>
                  </a:lnTo>
                  <a:lnTo>
                    <a:pt x="0" y="1572"/>
                  </a:lnTo>
                  <a:lnTo>
                    <a:pt x="1" y="1557"/>
                  </a:lnTo>
                  <a:lnTo>
                    <a:pt x="4" y="1528"/>
                  </a:lnTo>
                  <a:lnTo>
                    <a:pt x="8" y="1496"/>
                  </a:lnTo>
                  <a:lnTo>
                    <a:pt x="15" y="1463"/>
                  </a:lnTo>
                  <a:lnTo>
                    <a:pt x="23" y="1427"/>
                  </a:lnTo>
                  <a:lnTo>
                    <a:pt x="27" y="1407"/>
                  </a:lnTo>
                  <a:lnTo>
                    <a:pt x="31" y="1379"/>
                  </a:lnTo>
                  <a:lnTo>
                    <a:pt x="35" y="1346"/>
                  </a:lnTo>
                  <a:lnTo>
                    <a:pt x="39" y="1310"/>
                  </a:lnTo>
                  <a:lnTo>
                    <a:pt x="45" y="1229"/>
                  </a:lnTo>
                  <a:lnTo>
                    <a:pt x="50" y="1144"/>
                  </a:lnTo>
                  <a:lnTo>
                    <a:pt x="53" y="1062"/>
                  </a:lnTo>
                  <a:lnTo>
                    <a:pt x="55" y="992"/>
                  </a:lnTo>
                  <a:lnTo>
                    <a:pt x="56" y="940"/>
                  </a:lnTo>
                  <a:lnTo>
                    <a:pt x="55" y="916"/>
                  </a:lnTo>
                  <a:lnTo>
                    <a:pt x="53" y="900"/>
                  </a:lnTo>
                  <a:lnTo>
                    <a:pt x="53" y="869"/>
                  </a:lnTo>
                  <a:lnTo>
                    <a:pt x="53" y="826"/>
                  </a:lnTo>
                  <a:lnTo>
                    <a:pt x="54" y="773"/>
                  </a:lnTo>
                  <a:lnTo>
                    <a:pt x="57" y="712"/>
                  </a:lnTo>
                  <a:lnTo>
                    <a:pt x="62" y="646"/>
                  </a:lnTo>
                  <a:lnTo>
                    <a:pt x="66" y="612"/>
                  </a:lnTo>
                  <a:lnTo>
                    <a:pt x="70" y="576"/>
                  </a:lnTo>
                  <a:lnTo>
                    <a:pt x="74" y="540"/>
                  </a:lnTo>
                  <a:lnTo>
                    <a:pt x="80" y="506"/>
                  </a:lnTo>
                  <a:lnTo>
                    <a:pt x="89" y="438"/>
                  </a:lnTo>
                  <a:lnTo>
                    <a:pt x="97" y="373"/>
                  </a:lnTo>
                  <a:lnTo>
                    <a:pt x="104" y="313"/>
                  </a:lnTo>
                  <a:lnTo>
                    <a:pt x="109" y="256"/>
                  </a:lnTo>
                  <a:lnTo>
                    <a:pt x="112" y="208"/>
                  </a:lnTo>
                  <a:lnTo>
                    <a:pt x="112" y="165"/>
                  </a:lnTo>
                  <a:lnTo>
                    <a:pt x="112" y="146"/>
                  </a:lnTo>
                  <a:lnTo>
                    <a:pt x="111" y="129"/>
                  </a:lnTo>
                  <a:lnTo>
                    <a:pt x="109" y="115"/>
                  </a:lnTo>
                  <a:lnTo>
                    <a:pt x="107" y="103"/>
                  </a:lnTo>
                  <a:lnTo>
                    <a:pt x="105" y="91"/>
                  </a:lnTo>
                  <a:lnTo>
                    <a:pt x="102" y="81"/>
                  </a:lnTo>
                  <a:lnTo>
                    <a:pt x="101" y="72"/>
                  </a:lnTo>
                  <a:lnTo>
                    <a:pt x="101" y="63"/>
                  </a:lnTo>
                  <a:lnTo>
                    <a:pt x="101" y="56"/>
                  </a:lnTo>
                  <a:lnTo>
                    <a:pt x="102" y="48"/>
                  </a:lnTo>
                  <a:lnTo>
                    <a:pt x="104" y="41"/>
                  </a:lnTo>
                  <a:lnTo>
                    <a:pt x="107" y="36"/>
                  </a:lnTo>
                  <a:lnTo>
                    <a:pt x="109" y="31"/>
                  </a:lnTo>
                  <a:lnTo>
                    <a:pt x="113" y="25"/>
                  </a:lnTo>
                  <a:lnTo>
                    <a:pt x="118" y="21"/>
                  </a:lnTo>
                  <a:lnTo>
                    <a:pt x="122" y="17"/>
                  </a:lnTo>
                  <a:lnTo>
                    <a:pt x="134" y="10"/>
                  </a:lnTo>
                  <a:lnTo>
                    <a:pt x="149" y="4"/>
                  </a:lnTo>
                  <a:lnTo>
                    <a:pt x="158" y="2"/>
                  </a:lnTo>
                  <a:lnTo>
                    <a:pt x="166" y="0"/>
                  </a:lnTo>
                  <a:lnTo>
                    <a:pt x="177" y="0"/>
                  </a:lnTo>
                  <a:lnTo>
                    <a:pt x="189" y="2"/>
                  </a:lnTo>
                  <a:lnTo>
                    <a:pt x="213" y="6"/>
                  </a:lnTo>
                  <a:lnTo>
                    <a:pt x="239" y="12"/>
                  </a:lnTo>
                  <a:lnTo>
                    <a:pt x="264" y="20"/>
                  </a:lnTo>
                  <a:lnTo>
                    <a:pt x="288" y="26"/>
                  </a:lnTo>
                  <a:lnTo>
                    <a:pt x="310" y="33"/>
                  </a:lnTo>
                  <a:lnTo>
                    <a:pt x="327" y="36"/>
                  </a:lnTo>
                  <a:lnTo>
                    <a:pt x="342" y="37"/>
                  </a:lnTo>
                  <a:lnTo>
                    <a:pt x="362" y="36"/>
                  </a:lnTo>
                  <a:lnTo>
                    <a:pt x="383" y="34"/>
                  </a:lnTo>
                  <a:lnTo>
                    <a:pt x="406" y="31"/>
                  </a:lnTo>
                  <a:lnTo>
                    <a:pt x="428" y="26"/>
                  </a:lnTo>
                  <a:lnTo>
                    <a:pt x="448" y="22"/>
                  </a:lnTo>
                  <a:lnTo>
                    <a:pt x="466" y="18"/>
                  </a:lnTo>
                  <a:lnTo>
                    <a:pt x="479" y="13"/>
                  </a:lnTo>
                  <a:lnTo>
                    <a:pt x="490" y="10"/>
                  </a:lnTo>
                  <a:lnTo>
                    <a:pt x="502" y="8"/>
                  </a:lnTo>
                  <a:lnTo>
                    <a:pt x="515" y="7"/>
                  </a:lnTo>
                  <a:lnTo>
                    <a:pt x="527" y="6"/>
                  </a:lnTo>
                  <a:lnTo>
                    <a:pt x="540" y="6"/>
                  </a:lnTo>
                  <a:lnTo>
                    <a:pt x="552" y="6"/>
                  </a:lnTo>
                  <a:lnTo>
                    <a:pt x="563" y="7"/>
                  </a:lnTo>
                  <a:lnTo>
                    <a:pt x="571" y="9"/>
                  </a:lnTo>
                  <a:lnTo>
                    <a:pt x="577" y="10"/>
                  </a:lnTo>
                  <a:lnTo>
                    <a:pt x="581" y="13"/>
                  </a:lnTo>
                  <a:lnTo>
                    <a:pt x="586" y="18"/>
                  </a:lnTo>
                  <a:lnTo>
                    <a:pt x="592" y="23"/>
                  </a:lnTo>
                  <a:lnTo>
                    <a:pt x="602" y="35"/>
                  </a:lnTo>
                  <a:lnTo>
                    <a:pt x="611" y="50"/>
                  </a:lnTo>
                  <a:lnTo>
                    <a:pt x="619" y="65"/>
                  </a:lnTo>
                  <a:lnTo>
                    <a:pt x="625" y="80"/>
                  </a:lnTo>
                  <a:lnTo>
                    <a:pt x="627" y="87"/>
                  </a:lnTo>
                  <a:lnTo>
                    <a:pt x="629" y="93"/>
                  </a:lnTo>
                  <a:lnTo>
                    <a:pt x="629" y="99"/>
                  </a:lnTo>
                  <a:lnTo>
                    <a:pt x="629" y="103"/>
                  </a:lnTo>
                  <a:lnTo>
                    <a:pt x="625" y="112"/>
                  </a:lnTo>
                  <a:lnTo>
                    <a:pt x="622" y="124"/>
                  </a:lnTo>
                  <a:lnTo>
                    <a:pt x="618" y="138"/>
                  </a:lnTo>
                  <a:lnTo>
                    <a:pt x="612" y="155"/>
                  </a:lnTo>
                  <a:lnTo>
                    <a:pt x="607" y="172"/>
                  </a:lnTo>
                  <a:lnTo>
                    <a:pt x="603" y="189"/>
                  </a:lnTo>
                  <a:lnTo>
                    <a:pt x="598" y="207"/>
                  </a:lnTo>
                  <a:lnTo>
                    <a:pt x="596" y="222"/>
                  </a:lnTo>
                  <a:lnTo>
                    <a:pt x="595" y="241"/>
                  </a:lnTo>
                  <a:lnTo>
                    <a:pt x="596" y="272"/>
                  </a:lnTo>
                  <a:lnTo>
                    <a:pt x="598" y="308"/>
                  </a:lnTo>
                  <a:lnTo>
                    <a:pt x="603" y="351"/>
                  </a:lnTo>
                  <a:lnTo>
                    <a:pt x="607" y="398"/>
                  </a:lnTo>
                  <a:lnTo>
                    <a:pt x="612" y="446"/>
                  </a:lnTo>
                  <a:lnTo>
                    <a:pt x="618" y="496"/>
                  </a:lnTo>
                  <a:lnTo>
                    <a:pt x="623" y="543"/>
                  </a:lnTo>
                  <a:lnTo>
                    <a:pt x="629" y="594"/>
                  </a:lnTo>
                  <a:lnTo>
                    <a:pt x="633" y="658"/>
                  </a:lnTo>
                  <a:lnTo>
                    <a:pt x="636" y="729"/>
                  </a:lnTo>
                  <a:lnTo>
                    <a:pt x="638" y="806"/>
                  </a:lnTo>
                  <a:lnTo>
                    <a:pt x="639" y="884"/>
                  </a:lnTo>
                  <a:lnTo>
                    <a:pt x="640" y="961"/>
                  </a:lnTo>
                  <a:lnTo>
                    <a:pt x="639" y="1032"/>
                  </a:lnTo>
                  <a:lnTo>
                    <a:pt x="638" y="1097"/>
                  </a:lnTo>
                  <a:lnTo>
                    <a:pt x="635" y="1153"/>
                  </a:lnTo>
                  <a:lnTo>
                    <a:pt x="632" y="1205"/>
                  </a:lnTo>
                  <a:lnTo>
                    <a:pt x="626" y="1250"/>
                  </a:lnTo>
                  <a:lnTo>
                    <a:pt x="621" y="1291"/>
                  </a:lnTo>
                  <a:lnTo>
                    <a:pt x="616" y="1328"/>
                  </a:lnTo>
                  <a:lnTo>
                    <a:pt x="611" y="1359"/>
                  </a:lnTo>
                  <a:lnTo>
                    <a:pt x="608" y="1387"/>
                  </a:lnTo>
                  <a:lnTo>
                    <a:pt x="606" y="1410"/>
                  </a:lnTo>
                  <a:lnTo>
                    <a:pt x="605" y="1431"/>
                  </a:lnTo>
                  <a:lnTo>
                    <a:pt x="604" y="1452"/>
                  </a:lnTo>
                  <a:lnTo>
                    <a:pt x="605" y="1474"/>
                  </a:lnTo>
                  <a:lnTo>
                    <a:pt x="606" y="1493"/>
                  </a:lnTo>
                  <a:lnTo>
                    <a:pt x="609" y="1511"/>
                  </a:lnTo>
                  <a:lnTo>
                    <a:pt x="612" y="1528"/>
                  </a:lnTo>
                  <a:lnTo>
                    <a:pt x="614" y="1534"/>
                  </a:lnTo>
                  <a:lnTo>
                    <a:pt x="618" y="1541"/>
                  </a:lnTo>
                  <a:lnTo>
                    <a:pt x="620" y="1545"/>
                  </a:lnTo>
                  <a:lnTo>
                    <a:pt x="623" y="1549"/>
                  </a:lnTo>
                  <a:lnTo>
                    <a:pt x="626" y="1553"/>
                  </a:lnTo>
                  <a:lnTo>
                    <a:pt x="629" y="1559"/>
                  </a:lnTo>
                  <a:lnTo>
                    <a:pt x="630" y="1565"/>
                  </a:lnTo>
                  <a:lnTo>
                    <a:pt x="630" y="1573"/>
                  </a:lnTo>
                  <a:lnTo>
                    <a:pt x="626" y="1591"/>
                  </a:lnTo>
                  <a:lnTo>
                    <a:pt x="622" y="1611"/>
                  </a:lnTo>
                  <a:lnTo>
                    <a:pt x="616" y="1630"/>
                  </a:lnTo>
                  <a:lnTo>
                    <a:pt x="608" y="1650"/>
                  </a:lnTo>
                  <a:lnTo>
                    <a:pt x="602" y="1667"/>
                  </a:lnTo>
                  <a:lnTo>
                    <a:pt x="596" y="1680"/>
                  </a:lnTo>
                  <a:lnTo>
                    <a:pt x="593" y="1684"/>
                  </a:lnTo>
                  <a:lnTo>
                    <a:pt x="590" y="1688"/>
                  </a:lnTo>
                  <a:lnTo>
                    <a:pt x="584" y="1693"/>
                  </a:lnTo>
                  <a:lnTo>
                    <a:pt x="580" y="1696"/>
                  </a:lnTo>
                  <a:lnTo>
                    <a:pt x="569" y="1701"/>
                  </a:lnTo>
                  <a:lnTo>
                    <a:pt x="557" y="1705"/>
                  </a:lnTo>
                  <a:lnTo>
                    <a:pt x="545" y="1707"/>
                  </a:lnTo>
                  <a:lnTo>
                    <a:pt x="535" y="1707"/>
                  </a:lnTo>
                  <a:lnTo>
                    <a:pt x="525" y="1705"/>
                  </a:lnTo>
                  <a:lnTo>
                    <a:pt x="517" y="1703"/>
                  </a:lnTo>
                  <a:lnTo>
                    <a:pt x="510" y="1698"/>
                  </a:lnTo>
                  <a:lnTo>
                    <a:pt x="501" y="1695"/>
                  </a:lnTo>
                  <a:lnTo>
                    <a:pt x="491" y="1692"/>
                  </a:lnTo>
                  <a:lnTo>
                    <a:pt x="481" y="1690"/>
                  </a:lnTo>
                  <a:lnTo>
                    <a:pt x="469" y="1688"/>
                  </a:lnTo>
                  <a:lnTo>
                    <a:pt x="455" y="1690"/>
                  </a:lnTo>
                  <a:lnTo>
                    <a:pt x="439" y="1692"/>
                  </a:lnTo>
                  <a:lnTo>
                    <a:pt x="423" y="1697"/>
                  </a:lnTo>
                  <a:lnTo>
                    <a:pt x="414" y="1700"/>
                  </a:lnTo>
                  <a:lnTo>
                    <a:pt x="403" y="1704"/>
                  </a:lnTo>
                  <a:lnTo>
                    <a:pt x="390" y="1707"/>
                  </a:lnTo>
                  <a:lnTo>
                    <a:pt x="377" y="1709"/>
                  </a:lnTo>
                  <a:lnTo>
                    <a:pt x="362" y="1711"/>
                  </a:lnTo>
                  <a:lnTo>
                    <a:pt x="347" y="1713"/>
                  </a:lnTo>
                  <a:lnTo>
                    <a:pt x="331" y="1713"/>
                  </a:lnTo>
                  <a:lnTo>
                    <a:pt x="316" y="1714"/>
                  </a:lnTo>
                  <a:lnTo>
                    <a:pt x="300" y="1713"/>
                  </a:lnTo>
                  <a:lnTo>
                    <a:pt x="285" y="1712"/>
                  </a:lnTo>
                  <a:lnTo>
                    <a:pt x="271" y="1710"/>
                  </a:lnTo>
                  <a:lnTo>
                    <a:pt x="257" y="1707"/>
                  </a:lnTo>
                  <a:lnTo>
                    <a:pt x="244" y="1704"/>
                  </a:lnTo>
                  <a:lnTo>
                    <a:pt x="232" y="1698"/>
                  </a:lnTo>
                  <a:lnTo>
                    <a:pt x="221" y="1692"/>
                  </a:lnTo>
                  <a:lnTo>
                    <a:pt x="213" y="1684"/>
                  </a:lnTo>
                  <a:close/>
                </a:path>
              </a:pathLst>
            </a:custGeom>
            <a:solidFill>
              <a:srgbClr val="e1e8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622920" y="1800360"/>
              <a:ext cx="203400" cy="549360"/>
            </a:xfrm>
            <a:custGeom>
              <a:avLst/>
              <a:gdLst/>
              <a:ahLst/>
              <a:rect l="l" t="t" r="r" b="b"/>
              <a:pathLst>
                <a:path w="640" h="1733">
                  <a:moveTo>
                    <a:pt x="213" y="1684"/>
                  </a:moveTo>
                  <a:lnTo>
                    <a:pt x="204" y="1676"/>
                  </a:lnTo>
                  <a:lnTo>
                    <a:pt x="194" y="1668"/>
                  </a:lnTo>
                  <a:lnTo>
                    <a:pt x="190" y="1666"/>
                  </a:lnTo>
                  <a:lnTo>
                    <a:pt x="186" y="1664"/>
                  </a:lnTo>
                  <a:lnTo>
                    <a:pt x="180" y="1663"/>
                  </a:lnTo>
                  <a:lnTo>
                    <a:pt x="175" y="1661"/>
                  </a:lnTo>
                  <a:lnTo>
                    <a:pt x="169" y="1661"/>
                  </a:lnTo>
                  <a:lnTo>
                    <a:pt x="163" y="1663"/>
                  </a:lnTo>
                  <a:lnTo>
                    <a:pt x="156" y="1665"/>
                  </a:lnTo>
                  <a:lnTo>
                    <a:pt x="150" y="1668"/>
                  </a:lnTo>
                  <a:lnTo>
                    <a:pt x="142" y="1672"/>
                  </a:lnTo>
                  <a:lnTo>
                    <a:pt x="135" y="1678"/>
                  </a:lnTo>
                  <a:lnTo>
                    <a:pt x="126" y="1684"/>
                  </a:lnTo>
                  <a:lnTo>
                    <a:pt x="116" y="1692"/>
                  </a:lnTo>
                  <a:lnTo>
                    <a:pt x="98" y="1708"/>
                  </a:lnTo>
                  <a:lnTo>
                    <a:pt x="82" y="1721"/>
                  </a:lnTo>
                  <a:lnTo>
                    <a:pt x="74" y="1726"/>
                  </a:lnTo>
                  <a:lnTo>
                    <a:pt x="67" y="1730"/>
                  </a:lnTo>
                  <a:lnTo>
                    <a:pt x="60" y="1732"/>
                  </a:lnTo>
                  <a:lnTo>
                    <a:pt x="54" y="1733"/>
                  </a:lnTo>
                  <a:lnTo>
                    <a:pt x="48" y="1732"/>
                  </a:lnTo>
                  <a:lnTo>
                    <a:pt x="43" y="1730"/>
                  </a:lnTo>
                  <a:lnTo>
                    <a:pt x="38" y="1725"/>
                  </a:lnTo>
                  <a:lnTo>
                    <a:pt x="32" y="1720"/>
                  </a:lnTo>
                  <a:lnTo>
                    <a:pt x="27" y="1711"/>
                  </a:lnTo>
                  <a:lnTo>
                    <a:pt x="23" y="1701"/>
                  </a:lnTo>
                  <a:lnTo>
                    <a:pt x="17" y="1690"/>
                  </a:lnTo>
                  <a:lnTo>
                    <a:pt x="13" y="1674"/>
                  </a:lnTo>
                  <a:lnTo>
                    <a:pt x="8" y="1659"/>
                  </a:lnTo>
                  <a:lnTo>
                    <a:pt x="5" y="1644"/>
                  </a:lnTo>
                  <a:lnTo>
                    <a:pt x="3" y="1629"/>
                  </a:lnTo>
                  <a:lnTo>
                    <a:pt x="2" y="1615"/>
                  </a:lnTo>
                  <a:lnTo>
                    <a:pt x="1" y="1600"/>
                  </a:lnTo>
                  <a:lnTo>
                    <a:pt x="0" y="1586"/>
                  </a:lnTo>
                  <a:lnTo>
                    <a:pt x="0" y="1572"/>
                  </a:lnTo>
                  <a:lnTo>
                    <a:pt x="1" y="1557"/>
                  </a:lnTo>
                  <a:lnTo>
                    <a:pt x="4" y="1528"/>
                  </a:lnTo>
                  <a:lnTo>
                    <a:pt x="8" y="1496"/>
                  </a:lnTo>
                  <a:lnTo>
                    <a:pt x="15" y="1463"/>
                  </a:lnTo>
                  <a:lnTo>
                    <a:pt x="23" y="1427"/>
                  </a:lnTo>
                  <a:lnTo>
                    <a:pt x="27" y="1407"/>
                  </a:lnTo>
                  <a:lnTo>
                    <a:pt x="31" y="1379"/>
                  </a:lnTo>
                  <a:lnTo>
                    <a:pt x="35" y="1346"/>
                  </a:lnTo>
                  <a:lnTo>
                    <a:pt x="39" y="1310"/>
                  </a:lnTo>
                  <a:lnTo>
                    <a:pt x="45" y="1229"/>
                  </a:lnTo>
                  <a:lnTo>
                    <a:pt x="50" y="1144"/>
                  </a:lnTo>
                  <a:lnTo>
                    <a:pt x="53" y="1062"/>
                  </a:lnTo>
                  <a:lnTo>
                    <a:pt x="55" y="992"/>
                  </a:lnTo>
                  <a:lnTo>
                    <a:pt x="56" y="940"/>
                  </a:lnTo>
                  <a:lnTo>
                    <a:pt x="55" y="916"/>
                  </a:lnTo>
                  <a:lnTo>
                    <a:pt x="53" y="900"/>
                  </a:lnTo>
                  <a:lnTo>
                    <a:pt x="53" y="869"/>
                  </a:lnTo>
                  <a:lnTo>
                    <a:pt x="53" y="826"/>
                  </a:lnTo>
                  <a:lnTo>
                    <a:pt x="54" y="773"/>
                  </a:lnTo>
                  <a:lnTo>
                    <a:pt x="57" y="712"/>
                  </a:lnTo>
                  <a:lnTo>
                    <a:pt x="62" y="646"/>
                  </a:lnTo>
                  <a:lnTo>
                    <a:pt x="66" y="612"/>
                  </a:lnTo>
                  <a:lnTo>
                    <a:pt x="70" y="576"/>
                  </a:lnTo>
                  <a:lnTo>
                    <a:pt x="74" y="540"/>
                  </a:lnTo>
                  <a:lnTo>
                    <a:pt x="80" y="506"/>
                  </a:lnTo>
                  <a:lnTo>
                    <a:pt x="89" y="438"/>
                  </a:lnTo>
                  <a:lnTo>
                    <a:pt x="97" y="373"/>
                  </a:lnTo>
                  <a:lnTo>
                    <a:pt x="104" y="313"/>
                  </a:lnTo>
                  <a:lnTo>
                    <a:pt x="109" y="256"/>
                  </a:lnTo>
                  <a:lnTo>
                    <a:pt x="112" y="208"/>
                  </a:lnTo>
                  <a:lnTo>
                    <a:pt x="112" y="165"/>
                  </a:lnTo>
                  <a:lnTo>
                    <a:pt x="112" y="146"/>
                  </a:lnTo>
                  <a:lnTo>
                    <a:pt x="111" y="129"/>
                  </a:lnTo>
                  <a:lnTo>
                    <a:pt x="109" y="115"/>
                  </a:lnTo>
                  <a:lnTo>
                    <a:pt x="107" y="103"/>
                  </a:lnTo>
                  <a:lnTo>
                    <a:pt x="105" y="91"/>
                  </a:lnTo>
                  <a:lnTo>
                    <a:pt x="102" y="81"/>
                  </a:lnTo>
                  <a:lnTo>
                    <a:pt x="101" y="72"/>
                  </a:lnTo>
                  <a:lnTo>
                    <a:pt x="101" y="63"/>
                  </a:lnTo>
                  <a:lnTo>
                    <a:pt x="101" y="56"/>
                  </a:lnTo>
                  <a:lnTo>
                    <a:pt x="102" y="48"/>
                  </a:lnTo>
                  <a:lnTo>
                    <a:pt x="104" y="41"/>
                  </a:lnTo>
                  <a:lnTo>
                    <a:pt x="107" y="36"/>
                  </a:lnTo>
                  <a:lnTo>
                    <a:pt x="109" y="31"/>
                  </a:lnTo>
                  <a:lnTo>
                    <a:pt x="113" y="25"/>
                  </a:lnTo>
                  <a:lnTo>
                    <a:pt x="118" y="21"/>
                  </a:lnTo>
                  <a:lnTo>
                    <a:pt x="122" y="17"/>
                  </a:lnTo>
                  <a:lnTo>
                    <a:pt x="134" y="10"/>
                  </a:lnTo>
                  <a:lnTo>
                    <a:pt x="149" y="4"/>
                  </a:lnTo>
                  <a:lnTo>
                    <a:pt x="158" y="2"/>
                  </a:lnTo>
                  <a:lnTo>
                    <a:pt x="166" y="0"/>
                  </a:lnTo>
                  <a:lnTo>
                    <a:pt x="177" y="0"/>
                  </a:lnTo>
                  <a:lnTo>
                    <a:pt x="189" y="2"/>
                  </a:lnTo>
                  <a:lnTo>
                    <a:pt x="213" y="6"/>
                  </a:lnTo>
                  <a:lnTo>
                    <a:pt x="239" y="12"/>
                  </a:lnTo>
                  <a:lnTo>
                    <a:pt x="264" y="20"/>
                  </a:lnTo>
                  <a:lnTo>
                    <a:pt x="288" y="26"/>
                  </a:lnTo>
                  <a:lnTo>
                    <a:pt x="310" y="33"/>
                  </a:lnTo>
                  <a:lnTo>
                    <a:pt x="327" y="36"/>
                  </a:lnTo>
                  <a:lnTo>
                    <a:pt x="342" y="37"/>
                  </a:lnTo>
                  <a:lnTo>
                    <a:pt x="362" y="36"/>
                  </a:lnTo>
                  <a:lnTo>
                    <a:pt x="383" y="34"/>
                  </a:lnTo>
                  <a:lnTo>
                    <a:pt x="406" y="31"/>
                  </a:lnTo>
                  <a:lnTo>
                    <a:pt x="428" y="26"/>
                  </a:lnTo>
                  <a:lnTo>
                    <a:pt x="448" y="22"/>
                  </a:lnTo>
                  <a:lnTo>
                    <a:pt x="466" y="18"/>
                  </a:lnTo>
                  <a:lnTo>
                    <a:pt x="479" y="13"/>
                  </a:lnTo>
                  <a:lnTo>
                    <a:pt x="490" y="10"/>
                  </a:lnTo>
                  <a:lnTo>
                    <a:pt x="502" y="8"/>
                  </a:lnTo>
                  <a:lnTo>
                    <a:pt x="515" y="7"/>
                  </a:lnTo>
                  <a:lnTo>
                    <a:pt x="527" y="6"/>
                  </a:lnTo>
                  <a:lnTo>
                    <a:pt x="540" y="6"/>
                  </a:lnTo>
                  <a:lnTo>
                    <a:pt x="552" y="6"/>
                  </a:lnTo>
                  <a:lnTo>
                    <a:pt x="563" y="7"/>
                  </a:lnTo>
                  <a:lnTo>
                    <a:pt x="571" y="9"/>
                  </a:lnTo>
                  <a:lnTo>
                    <a:pt x="577" y="10"/>
                  </a:lnTo>
                  <a:lnTo>
                    <a:pt x="581" y="13"/>
                  </a:lnTo>
                  <a:lnTo>
                    <a:pt x="586" y="18"/>
                  </a:lnTo>
                  <a:lnTo>
                    <a:pt x="592" y="23"/>
                  </a:lnTo>
                  <a:lnTo>
                    <a:pt x="602" y="35"/>
                  </a:lnTo>
                  <a:lnTo>
                    <a:pt x="611" y="50"/>
                  </a:lnTo>
                  <a:lnTo>
                    <a:pt x="619" y="65"/>
                  </a:lnTo>
                  <a:lnTo>
                    <a:pt x="625" y="80"/>
                  </a:lnTo>
                  <a:lnTo>
                    <a:pt x="627" y="87"/>
                  </a:lnTo>
                  <a:lnTo>
                    <a:pt x="629" y="93"/>
                  </a:lnTo>
                  <a:lnTo>
                    <a:pt x="629" y="99"/>
                  </a:lnTo>
                  <a:lnTo>
                    <a:pt x="629" y="103"/>
                  </a:lnTo>
                  <a:lnTo>
                    <a:pt x="625" y="112"/>
                  </a:lnTo>
                  <a:lnTo>
                    <a:pt x="622" y="124"/>
                  </a:lnTo>
                  <a:lnTo>
                    <a:pt x="618" y="138"/>
                  </a:lnTo>
                  <a:lnTo>
                    <a:pt x="612" y="155"/>
                  </a:lnTo>
                  <a:lnTo>
                    <a:pt x="607" y="172"/>
                  </a:lnTo>
                  <a:lnTo>
                    <a:pt x="603" y="189"/>
                  </a:lnTo>
                  <a:lnTo>
                    <a:pt x="598" y="207"/>
                  </a:lnTo>
                  <a:lnTo>
                    <a:pt x="596" y="222"/>
                  </a:lnTo>
                  <a:lnTo>
                    <a:pt x="595" y="241"/>
                  </a:lnTo>
                  <a:lnTo>
                    <a:pt x="596" y="272"/>
                  </a:lnTo>
                  <a:lnTo>
                    <a:pt x="598" y="308"/>
                  </a:lnTo>
                  <a:lnTo>
                    <a:pt x="603" y="351"/>
                  </a:lnTo>
                  <a:lnTo>
                    <a:pt x="607" y="398"/>
                  </a:lnTo>
                  <a:lnTo>
                    <a:pt x="612" y="446"/>
                  </a:lnTo>
                  <a:lnTo>
                    <a:pt x="618" y="496"/>
                  </a:lnTo>
                  <a:lnTo>
                    <a:pt x="623" y="543"/>
                  </a:lnTo>
                  <a:lnTo>
                    <a:pt x="629" y="594"/>
                  </a:lnTo>
                  <a:lnTo>
                    <a:pt x="633" y="658"/>
                  </a:lnTo>
                  <a:lnTo>
                    <a:pt x="636" y="729"/>
                  </a:lnTo>
                  <a:lnTo>
                    <a:pt x="638" y="806"/>
                  </a:lnTo>
                  <a:lnTo>
                    <a:pt x="639" y="884"/>
                  </a:lnTo>
                  <a:lnTo>
                    <a:pt x="640" y="961"/>
                  </a:lnTo>
                  <a:lnTo>
                    <a:pt x="639" y="1032"/>
                  </a:lnTo>
                  <a:lnTo>
                    <a:pt x="638" y="1097"/>
                  </a:lnTo>
                  <a:lnTo>
                    <a:pt x="635" y="1153"/>
                  </a:lnTo>
                  <a:lnTo>
                    <a:pt x="632" y="1205"/>
                  </a:lnTo>
                  <a:lnTo>
                    <a:pt x="626" y="1250"/>
                  </a:lnTo>
                  <a:lnTo>
                    <a:pt x="621" y="1291"/>
                  </a:lnTo>
                  <a:lnTo>
                    <a:pt x="616" y="1328"/>
                  </a:lnTo>
                  <a:lnTo>
                    <a:pt x="611" y="1359"/>
                  </a:lnTo>
                  <a:lnTo>
                    <a:pt x="608" y="1387"/>
                  </a:lnTo>
                  <a:lnTo>
                    <a:pt x="606" y="1410"/>
                  </a:lnTo>
                  <a:lnTo>
                    <a:pt x="605" y="1431"/>
                  </a:lnTo>
                  <a:lnTo>
                    <a:pt x="604" y="1452"/>
                  </a:lnTo>
                  <a:lnTo>
                    <a:pt x="605" y="1474"/>
                  </a:lnTo>
                  <a:lnTo>
                    <a:pt x="606" y="1493"/>
                  </a:lnTo>
                  <a:lnTo>
                    <a:pt x="609" y="1511"/>
                  </a:lnTo>
                  <a:lnTo>
                    <a:pt x="612" y="1528"/>
                  </a:lnTo>
                  <a:lnTo>
                    <a:pt x="614" y="1534"/>
                  </a:lnTo>
                  <a:lnTo>
                    <a:pt x="618" y="1541"/>
                  </a:lnTo>
                  <a:lnTo>
                    <a:pt x="620" y="1545"/>
                  </a:lnTo>
                  <a:lnTo>
                    <a:pt x="623" y="1549"/>
                  </a:lnTo>
                  <a:lnTo>
                    <a:pt x="626" y="1553"/>
                  </a:lnTo>
                  <a:lnTo>
                    <a:pt x="629" y="1559"/>
                  </a:lnTo>
                  <a:lnTo>
                    <a:pt x="630" y="1565"/>
                  </a:lnTo>
                  <a:lnTo>
                    <a:pt x="630" y="1573"/>
                  </a:lnTo>
                  <a:lnTo>
                    <a:pt x="626" y="1591"/>
                  </a:lnTo>
                  <a:lnTo>
                    <a:pt x="622" y="1611"/>
                  </a:lnTo>
                  <a:lnTo>
                    <a:pt x="616" y="1630"/>
                  </a:lnTo>
                  <a:lnTo>
                    <a:pt x="608" y="1650"/>
                  </a:lnTo>
                  <a:lnTo>
                    <a:pt x="602" y="1667"/>
                  </a:lnTo>
                  <a:lnTo>
                    <a:pt x="596" y="1680"/>
                  </a:lnTo>
                  <a:lnTo>
                    <a:pt x="593" y="1684"/>
                  </a:lnTo>
                  <a:lnTo>
                    <a:pt x="590" y="1688"/>
                  </a:lnTo>
                  <a:lnTo>
                    <a:pt x="584" y="1693"/>
                  </a:lnTo>
                  <a:lnTo>
                    <a:pt x="580" y="1696"/>
                  </a:lnTo>
                  <a:lnTo>
                    <a:pt x="569" y="1701"/>
                  </a:lnTo>
                  <a:lnTo>
                    <a:pt x="557" y="1705"/>
                  </a:lnTo>
                  <a:lnTo>
                    <a:pt x="545" y="1707"/>
                  </a:lnTo>
                  <a:lnTo>
                    <a:pt x="535" y="1707"/>
                  </a:lnTo>
                  <a:lnTo>
                    <a:pt x="525" y="1705"/>
                  </a:lnTo>
                  <a:lnTo>
                    <a:pt x="517" y="1703"/>
                  </a:lnTo>
                  <a:lnTo>
                    <a:pt x="510" y="1698"/>
                  </a:lnTo>
                  <a:lnTo>
                    <a:pt x="501" y="1695"/>
                  </a:lnTo>
                  <a:lnTo>
                    <a:pt x="491" y="1692"/>
                  </a:lnTo>
                  <a:lnTo>
                    <a:pt x="481" y="1690"/>
                  </a:lnTo>
                  <a:lnTo>
                    <a:pt x="469" y="1688"/>
                  </a:lnTo>
                  <a:lnTo>
                    <a:pt x="455" y="1690"/>
                  </a:lnTo>
                  <a:lnTo>
                    <a:pt x="439" y="1692"/>
                  </a:lnTo>
                  <a:lnTo>
                    <a:pt x="423" y="1697"/>
                  </a:lnTo>
                  <a:lnTo>
                    <a:pt x="414" y="1700"/>
                  </a:lnTo>
                  <a:lnTo>
                    <a:pt x="403" y="1704"/>
                  </a:lnTo>
                  <a:lnTo>
                    <a:pt x="390" y="1707"/>
                  </a:lnTo>
                  <a:lnTo>
                    <a:pt x="377" y="1709"/>
                  </a:lnTo>
                  <a:lnTo>
                    <a:pt x="362" y="1711"/>
                  </a:lnTo>
                  <a:lnTo>
                    <a:pt x="347" y="1713"/>
                  </a:lnTo>
                  <a:lnTo>
                    <a:pt x="331" y="1713"/>
                  </a:lnTo>
                  <a:lnTo>
                    <a:pt x="316" y="1714"/>
                  </a:lnTo>
                  <a:lnTo>
                    <a:pt x="300" y="1713"/>
                  </a:lnTo>
                  <a:lnTo>
                    <a:pt x="285" y="1712"/>
                  </a:lnTo>
                  <a:lnTo>
                    <a:pt x="271" y="1710"/>
                  </a:lnTo>
                  <a:lnTo>
                    <a:pt x="257" y="1707"/>
                  </a:lnTo>
                  <a:lnTo>
                    <a:pt x="244" y="1704"/>
                  </a:lnTo>
                  <a:lnTo>
                    <a:pt x="232" y="1698"/>
                  </a:lnTo>
                  <a:lnTo>
                    <a:pt x="221" y="1692"/>
                  </a:lnTo>
                  <a:lnTo>
                    <a:pt x="213" y="1684"/>
                  </a:lnTo>
                </a:path>
              </a:pathLst>
            </a:custGeom>
            <a:noFill/>
            <a:ln w="3240">
              <a:solidFill>
                <a:srgbClr val="3e49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649920" y="1806480"/>
              <a:ext cx="166680" cy="273240"/>
            </a:xfrm>
            <a:custGeom>
              <a:avLst/>
              <a:gdLst/>
              <a:ahLst/>
              <a:rect l="l" t="t" r="r" b="b"/>
              <a:pathLst>
                <a:path w="522" h="859">
                  <a:moveTo>
                    <a:pt x="0" y="821"/>
                  </a:moveTo>
                  <a:lnTo>
                    <a:pt x="1" y="813"/>
                  </a:lnTo>
                  <a:lnTo>
                    <a:pt x="1" y="792"/>
                  </a:lnTo>
                  <a:lnTo>
                    <a:pt x="3" y="760"/>
                  </a:lnTo>
                  <a:lnTo>
                    <a:pt x="4" y="722"/>
                  </a:lnTo>
                  <a:lnTo>
                    <a:pt x="7" y="683"/>
                  </a:lnTo>
                  <a:lnTo>
                    <a:pt x="9" y="644"/>
                  </a:lnTo>
                  <a:lnTo>
                    <a:pt x="11" y="609"/>
                  </a:lnTo>
                  <a:lnTo>
                    <a:pt x="13" y="583"/>
                  </a:lnTo>
                  <a:lnTo>
                    <a:pt x="15" y="555"/>
                  </a:lnTo>
                  <a:lnTo>
                    <a:pt x="20" y="514"/>
                  </a:lnTo>
                  <a:lnTo>
                    <a:pt x="24" y="464"/>
                  </a:lnTo>
                  <a:lnTo>
                    <a:pt x="29" y="409"/>
                  </a:lnTo>
                  <a:lnTo>
                    <a:pt x="35" y="354"/>
                  </a:lnTo>
                  <a:lnTo>
                    <a:pt x="39" y="300"/>
                  </a:lnTo>
                  <a:lnTo>
                    <a:pt x="43" y="253"/>
                  </a:lnTo>
                  <a:lnTo>
                    <a:pt x="44" y="215"/>
                  </a:lnTo>
                  <a:lnTo>
                    <a:pt x="47" y="184"/>
                  </a:lnTo>
                  <a:lnTo>
                    <a:pt x="47" y="154"/>
                  </a:lnTo>
                  <a:lnTo>
                    <a:pt x="47" y="125"/>
                  </a:lnTo>
                  <a:lnTo>
                    <a:pt x="45" y="100"/>
                  </a:lnTo>
                  <a:lnTo>
                    <a:pt x="45" y="78"/>
                  </a:lnTo>
                  <a:lnTo>
                    <a:pt x="44" y="58"/>
                  </a:lnTo>
                  <a:lnTo>
                    <a:pt x="44" y="44"/>
                  </a:lnTo>
                  <a:lnTo>
                    <a:pt x="44" y="35"/>
                  </a:lnTo>
                  <a:lnTo>
                    <a:pt x="47" y="31"/>
                  </a:lnTo>
                  <a:lnTo>
                    <a:pt x="48" y="27"/>
                  </a:lnTo>
                  <a:lnTo>
                    <a:pt x="51" y="24"/>
                  </a:lnTo>
                  <a:lnTo>
                    <a:pt x="54" y="19"/>
                  </a:lnTo>
                  <a:lnTo>
                    <a:pt x="58" y="16"/>
                  </a:lnTo>
                  <a:lnTo>
                    <a:pt x="63" y="12"/>
                  </a:lnTo>
                  <a:lnTo>
                    <a:pt x="68" y="9"/>
                  </a:lnTo>
                  <a:lnTo>
                    <a:pt x="75" y="6"/>
                  </a:lnTo>
                  <a:lnTo>
                    <a:pt x="81" y="3"/>
                  </a:lnTo>
                  <a:lnTo>
                    <a:pt x="88" y="2"/>
                  </a:lnTo>
                  <a:lnTo>
                    <a:pt x="95" y="0"/>
                  </a:lnTo>
                  <a:lnTo>
                    <a:pt x="103" y="0"/>
                  </a:lnTo>
                  <a:lnTo>
                    <a:pt x="111" y="0"/>
                  </a:lnTo>
                  <a:lnTo>
                    <a:pt x="120" y="1"/>
                  </a:lnTo>
                  <a:lnTo>
                    <a:pt x="130" y="2"/>
                  </a:lnTo>
                  <a:lnTo>
                    <a:pt x="138" y="5"/>
                  </a:lnTo>
                  <a:lnTo>
                    <a:pt x="159" y="12"/>
                  </a:lnTo>
                  <a:lnTo>
                    <a:pt x="179" y="19"/>
                  </a:lnTo>
                  <a:lnTo>
                    <a:pt x="200" y="25"/>
                  </a:lnTo>
                  <a:lnTo>
                    <a:pt x="223" y="29"/>
                  </a:lnTo>
                  <a:lnTo>
                    <a:pt x="245" y="32"/>
                  </a:lnTo>
                  <a:lnTo>
                    <a:pt x="268" y="33"/>
                  </a:lnTo>
                  <a:lnTo>
                    <a:pt x="280" y="33"/>
                  </a:lnTo>
                  <a:lnTo>
                    <a:pt x="292" y="33"/>
                  </a:lnTo>
                  <a:lnTo>
                    <a:pt x="305" y="31"/>
                  </a:lnTo>
                  <a:lnTo>
                    <a:pt x="317" y="30"/>
                  </a:lnTo>
                  <a:lnTo>
                    <a:pt x="343" y="24"/>
                  </a:lnTo>
                  <a:lnTo>
                    <a:pt x="368" y="17"/>
                  </a:lnTo>
                  <a:lnTo>
                    <a:pt x="397" y="11"/>
                  </a:lnTo>
                  <a:lnTo>
                    <a:pt x="422" y="6"/>
                  </a:lnTo>
                  <a:lnTo>
                    <a:pt x="446" y="2"/>
                  </a:lnTo>
                  <a:lnTo>
                    <a:pt x="467" y="2"/>
                  </a:lnTo>
                  <a:lnTo>
                    <a:pt x="475" y="2"/>
                  </a:lnTo>
                  <a:lnTo>
                    <a:pt x="483" y="4"/>
                  </a:lnTo>
                  <a:lnTo>
                    <a:pt x="488" y="6"/>
                  </a:lnTo>
                  <a:lnTo>
                    <a:pt x="493" y="10"/>
                  </a:lnTo>
                  <a:lnTo>
                    <a:pt x="499" y="20"/>
                  </a:lnTo>
                  <a:lnTo>
                    <a:pt x="507" y="32"/>
                  </a:lnTo>
                  <a:lnTo>
                    <a:pt x="512" y="46"/>
                  </a:lnTo>
                  <a:lnTo>
                    <a:pt x="516" y="63"/>
                  </a:lnTo>
                  <a:lnTo>
                    <a:pt x="518" y="70"/>
                  </a:lnTo>
                  <a:lnTo>
                    <a:pt x="519" y="79"/>
                  </a:lnTo>
                  <a:lnTo>
                    <a:pt x="520" y="87"/>
                  </a:lnTo>
                  <a:lnTo>
                    <a:pt x="519" y="96"/>
                  </a:lnTo>
                  <a:lnTo>
                    <a:pt x="519" y="105"/>
                  </a:lnTo>
                  <a:lnTo>
                    <a:pt x="518" y="113"/>
                  </a:lnTo>
                  <a:lnTo>
                    <a:pt x="515" y="122"/>
                  </a:lnTo>
                  <a:lnTo>
                    <a:pt x="512" y="131"/>
                  </a:lnTo>
                  <a:lnTo>
                    <a:pt x="506" y="148"/>
                  </a:lnTo>
                  <a:lnTo>
                    <a:pt x="499" y="165"/>
                  </a:lnTo>
                  <a:lnTo>
                    <a:pt x="495" y="184"/>
                  </a:lnTo>
                  <a:lnTo>
                    <a:pt x="492" y="202"/>
                  </a:lnTo>
                  <a:lnTo>
                    <a:pt x="491" y="222"/>
                  </a:lnTo>
                  <a:lnTo>
                    <a:pt x="491" y="246"/>
                  </a:lnTo>
                  <a:lnTo>
                    <a:pt x="493" y="273"/>
                  </a:lnTo>
                  <a:lnTo>
                    <a:pt x="497" y="305"/>
                  </a:lnTo>
                  <a:lnTo>
                    <a:pt x="500" y="324"/>
                  </a:lnTo>
                  <a:lnTo>
                    <a:pt x="502" y="350"/>
                  </a:lnTo>
                  <a:lnTo>
                    <a:pt x="506" y="381"/>
                  </a:lnTo>
                  <a:lnTo>
                    <a:pt x="508" y="416"/>
                  </a:lnTo>
                  <a:lnTo>
                    <a:pt x="512" y="496"/>
                  </a:lnTo>
                  <a:lnTo>
                    <a:pt x="516" y="580"/>
                  </a:lnTo>
                  <a:lnTo>
                    <a:pt x="520" y="664"/>
                  </a:lnTo>
                  <a:lnTo>
                    <a:pt x="521" y="739"/>
                  </a:lnTo>
                  <a:lnTo>
                    <a:pt x="522" y="799"/>
                  </a:lnTo>
                  <a:lnTo>
                    <a:pt x="522" y="836"/>
                  </a:lnTo>
                  <a:lnTo>
                    <a:pt x="520" y="841"/>
                  </a:lnTo>
                  <a:lnTo>
                    <a:pt x="515" y="846"/>
                  </a:lnTo>
                  <a:lnTo>
                    <a:pt x="508" y="849"/>
                  </a:lnTo>
                  <a:lnTo>
                    <a:pt x="498" y="852"/>
                  </a:lnTo>
                  <a:lnTo>
                    <a:pt x="486" y="854"/>
                  </a:lnTo>
                  <a:lnTo>
                    <a:pt x="472" y="856"/>
                  </a:lnTo>
                  <a:lnTo>
                    <a:pt x="456" y="857"/>
                  </a:lnTo>
                  <a:lnTo>
                    <a:pt x="439" y="859"/>
                  </a:lnTo>
                  <a:lnTo>
                    <a:pt x="399" y="859"/>
                  </a:lnTo>
                  <a:lnTo>
                    <a:pt x="354" y="857"/>
                  </a:lnTo>
                  <a:lnTo>
                    <a:pt x="308" y="854"/>
                  </a:lnTo>
                  <a:lnTo>
                    <a:pt x="259" y="851"/>
                  </a:lnTo>
                  <a:lnTo>
                    <a:pt x="164" y="841"/>
                  </a:lnTo>
                  <a:lnTo>
                    <a:pt x="81" y="832"/>
                  </a:lnTo>
                  <a:lnTo>
                    <a:pt x="23" y="824"/>
                  </a:lnTo>
                  <a:lnTo>
                    <a:pt x="0" y="821"/>
                  </a:lnTo>
                  <a:close/>
                </a:path>
              </a:pathLst>
            </a:custGeom>
            <a:solidFill>
              <a:srgbClr val="d0d7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6788160" y="2324160"/>
              <a:ext cx="7920" cy="14400"/>
            </a:xfrm>
            <a:custGeom>
              <a:avLst/>
              <a:gdLst/>
              <a:ahLst/>
              <a:rect l="l" t="t" r="r" b="b"/>
              <a:pathLst>
                <a:path w="28" h="44">
                  <a:moveTo>
                    <a:pt x="0" y="0"/>
                  </a:moveTo>
                  <a:lnTo>
                    <a:pt x="0" y="1"/>
                  </a:lnTo>
                  <a:lnTo>
                    <a:pt x="2" y="6"/>
                  </a:lnTo>
                  <a:lnTo>
                    <a:pt x="5" y="13"/>
                  </a:lnTo>
                  <a:lnTo>
                    <a:pt x="8" y="20"/>
                  </a:lnTo>
                  <a:lnTo>
                    <a:pt x="11" y="29"/>
                  </a:lnTo>
                  <a:lnTo>
                    <a:pt x="15" y="37"/>
                  </a:lnTo>
                  <a:lnTo>
                    <a:pt x="18" y="39"/>
                  </a:lnTo>
                  <a:lnTo>
                    <a:pt x="20" y="42"/>
                  </a:lnTo>
                  <a:lnTo>
                    <a:pt x="22" y="43"/>
                  </a:lnTo>
                  <a:lnTo>
                    <a:pt x="25" y="44"/>
                  </a:lnTo>
                  <a:lnTo>
                    <a:pt x="26" y="44"/>
                  </a:lnTo>
                  <a:lnTo>
                    <a:pt x="28" y="43"/>
                  </a:lnTo>
                  <a:lnTo>
                    <a:pt x="28" y="42"/>
                  </a:lnTo>
                  <a:lnTo>
                    <a:pt x="28" y="39"/>
                  </a:lnTo>
                  <a:lnTo>
                    <a:pt x="27" y="33"/>
                  </a:lnTo>
                  <a:lnTo>
                    <a:pt x="23" y="26"/>
                  </a:lnTo>
                  <a:lnTo>
                    <a:pt x="19" y="17"/>
                  </a:lnTo>
                  <a:lnTo>
                    <a:pt x="13" y="10"/>
                  </a:lnTo>
                  <a:lnTo>
                    <a:pt x="7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9b9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794640" y="2319480"/>
              <a:ext cx="14040" cy="11160"/>
            </a:xfrm>
            <a:custGeom>
              <a:avLst/>
              <a:gdLst/>
              <a:ahLst/>
              <a:rect l="l" t="t" r="r" b="b"/>
              <a:pathLst>
                <a:path w="43" h="34">
                  <a:moveTo>
                    <a:pt x="0" y="0"/>
                  </a:moveTo>
                  <a:lnTo>
                    <a:pt x="1" y="1"/>
                  </a:lnTo>
                  <a:lnTo>
                    <a:pt x="4" y="5"/>
                  </a:lnTo>
                  <a:lnTo>
                    <a:pt x="9" y="10"/>
                  </a:lnTo>
                  <a:lnTo>
                    <a:pt x="15" y="17"/>
                  </a:lnTo>
                  <a:lnTo>
                    <a:pt x="20" y="23"/>
                  </a:lnTo>
                  <a:lnTo>
                    <a:pt x="27" y="29"/>
                  </a:lnTo>
                  <a:lnTo>
                    <a:pt x="33" y="32"/>
                  </a:lnTo>
                  <a:lnTo>
                    <a:pt x="40" y="34"/>
                  </a:lnTo>
                  <a:lnTo>
                    <a:pt x="42" y="33"/>
                  </a:lnTo>
                  <a:lnTo>
                    <a:pt x="43" y="32"/>
                  </a:lnTo>
                  <a:lnTo>
                    <a:pt x="43" y="31"/>
                  </a:lnTo>
                  <a:lnTo>
                    <a:pt x="41" y="29"/>
                  </a:lnTo>
                  <a:lnTo>
                    <a:pt x="34" y="23"/>
                  </a:lnTo>
                  <a:lnTo>
                    <a:pt x="27" y="17"/>
                  </a:lnTo>
                  <a:lnTo>
                    <a:pt x="17" y="10"/>
                  </a:lnTo>
                  <a:lnTo>
                    <a:pt x="9" y="5"/>
                  </a:lnTo>
                  <a:lnTo>
                    <a:pt x="3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9b9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800760" y="2308320"/>
              <a:ext cx="15840" cy="9360"/>
            </a:xfrm>
            <a:custGeom>
              <a:avLst/>
              <a:gdLst/>
              <a:ahLst/>
              <a:rect l="l" t="t" r="r" b="b"/>
              <a:pathLst>
                <a:path w="49" h="29">
                  <a:moveTo>
                    <a:pt x="0" y="10"/>
                  </a:moveTo>
                  <a:lnTo>
                    <a:pt x="49" y="29"/>
                  </a:lnTo>
                  <a:lnTo>
                    <a:pt x="3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a9b9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805440" y="2295720"/>
              <a:ext cx="12960" cy="4680"/>
            </a:xfrm>
            <a:custGeom>
              <a:avLst/>
              <a:gdLst/>
              <a:ahLst/>
              <a:rect l="l" t="t" r="r" b="b"/>
              <a:pathLst>
                <a:path w="42" h="17">
                  <a:moveTo>
                    <a:pt x="0" y="8"/>
                  </a:moveTo>
                  <a:lnTo>
                    <a:pt x="42" y="17"/>
                  </a:lnTo>
                  <a:lnTo>
                    <a:pt x="41" y="16"/>
                  </a:lnTo>
                  <a:lnTo>
                    <a:pt x="38" y="13"/>
                  </a:lnTo>
                  <a:lnTo>
                    <a:pt x="33" y="9"/>
                  </a:lnTo>
                  <a:lnTo>
                    <a:pt x="27" y="4"/>
                  </a:lnTo>
                  <a:lnTo>
                    <a:pt x="20" y="1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7" y="1"/>
                  </a:lnTo>
                  <a:lnTo>
                    <a:pt x="4" y="4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a9b9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630840" y="2060640"/>
              <a:ext cx="185760" cy="274680"/>
            </a:xfrm>
            <a:custGeom>
              <a:avLst/>
              <a:gdLst/>
              <a:ahLst/>
              <a:rect l="l" t="t" r="r" b="b"/>
              <a:pathLst>
                <a:path w="584" h="868">
                  <a:moveTo>
                    <a:pt x="60" y="22"/>
                  </a:moveTo>
                  <a:lnTo>
                    <a:pt x="60" y="31"/>
                  </a:lnTo>
                  <a:lnTo>
                    <a:pt x="60" y="58"/>
                  </a:lnTo>
                  <a:lnTo>
                    <a:pt x="60" y="97"/>
                  </a:lnTo>
                  <a:lnTo>
                    <a:pt x="60" y="143"/>
                  </a:lnTo>
                  <a:lnTo>
                    <a:pt x="59" y="192"/>
                  </a:lnTo>
                  <a:lnTo>
                    <a:pt x="58" y="240"/>
                  </a:lnTo>
                  <a:lnTo>
                    <a:pt x="57" y="281"/>
                  </a:lnTo>
                  <a:lnTo>
                    <a:pt x="56" y="311"/>
                  </a:lnTo>
                  <a:lnTo>
                    <a:pt x="54" y="338"/>
                  </a:lnTo>
                  <a:lnTo>
                    <a:pt x="50" y="375"/>
                  </a:lnTo>
                  <a:lnTo>
                    <a:pt x="48" y="417"/>
                  </a:lnTo>
                  <a:lnTo>
                    <a:pt x="44" y="461"/>
                  </a:lnTo>
                  <a:lnTo>
                    <a:pt x="41" y="506"/>
                  </a:lnTo>
                  <a:lnTo>
                    <a:pt x="36" y="547"/>
                  </a:lnTo>
                  <a:lnTo>
                    <a:pt x="31" y="581"/>
                  </a:lnTo>
                  <a:lnTo>
                    <a:pt x="26" y="607"/>
                  </a:lnTo>
                  <a:lnTo>
                    <a:pt x="20" y="630"/>
                  </a:lnTo>
                  <a:lnTo>
                    <a:pt x="15" y="655"/>
                  </a:lnTo>
                  <a:lnTo>
                    <a:pt x="9" y="679"/>
                  </a:lnTo>
                  <a:lnTo>
                    <a:pt x="4" y="703"/>
                  </a:lnTo>
                  <a:lnTo>
                    <a:pt x="1" y="726"/>
                  </a:lnTo>
                  <a:lnTo>
                    <a:pt x="0" y="745"/>
                  </a:lnTo>
                  <a:lnTo>
                    <a:pt x="1" y="753"/>
                  </a:lnTo>
                  <a:lnTo>
                    <a:pt x="2" y="760"/>
                  </a:lnTo>
                  <a:lnTo>
                    <a:pt x="5" y="766"/>
                  </a:lnTo>
                  <a:lnTo>
                    <a:pt x="8" y="771"/>
                  </a:lnTo>
                  <a:lnTo>
                    <a:pt x="17" y="779"/>
                  </a:lnTo>
                  <a:lnTo>
                    <a:pt x="27" y="786"/>
                  </a:lnTo>
                  <a:lnTo>
                    <a:pt x="36" y="794"/>
                  </a:lnTo>
                  <a:lnTo>
                    <a:pt x="48" y="800"/>
                  </a:lnTo>
                  <a:lnTo>
                    <a:pt x="60" y="806"/>
                  </a:lnTo>
                  <a:lnTo>
                    <a:pt x="73" y="809"/>
                  </a:lnTo>
                  <a:lnTo>
                    <a:pt x="80" y="810"/>
                  </a:lnTo>
                  <a:lnTo>
                    <a:pt x="87" y="810"/>
                  </a:lnTo>
                  <a:lnTo>
                    <a:pt x="95" y="809"/>
                  </a:lnTo>
                  <a:lnTo>
                    <a:pt x="102" y="808"/>
                  </a:lnTo>
                  <a:lnTo>
                    <a:pt x="110" y="806"/>
                  </a:lnTo>
                  <a:lnTo>
                    <a:pt x="117" y="806"/>
                  </a:lnTo>
                  <a:lnTo>
                    <a:pt x="124" y="805"/>
                  </a:lnTo>
                  <a:lnTo>
                    <a:pt x="130" y="806"/>
                  </a:lnTo>
                  <a:lnTo>
                    <a:pt x="142" y="808"/>
                  </a:lnTo>
                  <a:lnTo>
                    <a:pt x="154" y="811"/>
                  </a:lnTo>
                  <a:lnTo>
                    <a:pt x="164" y="817"/>
                  </a:lnTo>
                  <a:lnTo>
                    <a:pt x="174" y="822"/>
                  </a:lnTo>
                  <a:lnTo>
                    <a:pt x="184" y="829"/>
                  </a:lnTo>
                  <a:lnTo>
                    <a:pt x="194" y="835"/>
                  </a:lnTo>
                  <a:lnTo>
                    <a:pt x="207" y="843"/>
                  </a:lnTo>
                  <a:lnTo>
                    <a:pt x="224" y="850"/>
                  </a:lnTo>
                  <a:lnTo>
                    <a:pt x="246" y="858"/>
                  </a:lnTo>
                  <a:lnTo>
                    <a:pt x="270" y="863"/>
                  </a:lnTo>
                  <a:lnTo>
                    <a:pt x="282" y="865"/>
                  </a:lnTo>
                  <a:lnTo>
                    <a:pt x="296" y="867"/>
                  </a:lnTo>
                  <a:lnTo>
                    <a:pt x="309" y="867"/>
                  </a:lnTo>
                  <a:lnTo>
                    <a:pt x="324" y="868"/>
                  </a:lnTo>
                  <a:lnTo>
                    <a:pt x="338" y="867"/>
                  </a:lnTo>
                  <a:lnTo>
                    <a:pt x="352" y="866"/>
                  </a:lnTo>
                  <a:lnTo>
                    <a:pt x="367" y="863"/>
                  </a:lnTo>
                  <a:lnTo>
                    <a:pt x="382" y="860"/>
                  </a:lnTo>
                  <a:lnTo>
                    <a:pt x="409" y="852"/>
                  </a:lnTo>
                  <a:lnTo>
                    <a:pt x="431" y="847"/>
                  </a:lnTo>
                  <a:lnTo>
                    <a:pt x="448" y="844"/>
                  </a:lnTo>
                  <a:lnTo>
                    <a:pt x="462" y="841"/>
                  </a:lnTo>
                  <a:lnTo>
                    <a:pt x="474" y="839"/>
                  </a:lnTo>
                  <a:lnTo>
                    <a:pt x="484" y="837"/>
                  </a:lnTo>
                  <a:lnTo>
                    <a:pt x="492" y="835"/>
                  </a:lnTo>
                  <a:lnTo>
                    <a:pt x="501" y="830"/>
                  </a:lnTo>
                  <a:lnTo>
                    <a:pt x="505" y="827"/>
                  </a:lnTo>
                  <a:lnTo>
                    <a:pt x="511" y="823"/>
                  </a:lnTo>
                  <a:lnTo>
                    <a:pt x="516" y="818"/>
                  </a:lnTo>
                  <a:lnTo>
                    <a:pt x="521" y="811"/>
                  </a:lnTo>
                  <a:lnTo>
                    <a:pt x="528" y="804"/>
                  </a:lnTo>
                  <a:lnTo>
                    <a:pt x="533" y="796"/>
                  </a:lnTo>
                  <a:lnTo>
                    <a:pt x="539" y="787"/>
                  </a:lnTo>
                  <a:lnTo>
                    <a:pt x="544" y="778"/>
                  </a:lnTo>
                  <a:lnTo>
                    <a:pt x="549" y="768"/>
                  </a:lnTo>
                  <a:lnTo>
                    <a:pt x="554" y="757"/>
                  </a:lnTo>
                  <a:lnTo>
                    <a:pt x="557" y="746"/>
                  </a:lnTo>
                  <a:lnTo>
                    <a:pt x="560" y="736"/>
                  </a:lnTo>
                  <a:lnTo>
                    <a:pt x="562" y="725"/>
                  </a:lnTo>
                  <a:lnTo>
                    <a:pt x="563" y="713"/>
                  </a:lnTo>
                  <a:lnTo>
                    <a:pt x="563" y="702"/>
                  </a:lnTo>
                  <a:lnTo>
                    <a:pt x="562" y="691"/>
                  </a:lnTo>
                  <a:lnTo>
                    <a:pt x="559" y="671"/>
                  </a:lnTo>
                  <a:lnTo>
                    <a:pt x="557" y="650"/>
                  </a:lnTo>
                  <a:lnTo>
                    <a:pt x="557" y="629"/>
                  </a:lnTo>
                  <a:lnTo>
                    <a:pt x="558" y="605"/>
                  </a:lnTo>
                  <a:lnTo>
                    <a:pt x="560" y="579"/>
                  </a:lnTo>
                  <a:lnTo>
                    <a:pt x="562" y="549"/>
                  </a:lnTo>
                  <a:lnTo>
                    <a:pt x="567" y="514"/>
                  </a:lnTo>
                  <a:lnTo>
                    <a:pt x="572" y="474"/>
                  </a:lnTo>
                  <a:lnTo>
                    <a:pt x="576" y="424"/>
                  </a:lnTo>
                  <a:lnTo>
                    <a:pt x="580" y="363"/>
                  </a:lnTo>
                  <a:lnTo>
                    <a:pt x="582" y="296"/>
                  </a:lnTo>
                  <a:lnTo>
                    <a:pt x="583" y="228"/>
                  </a:lnTo>
                  <a:lnTo>
                    <a:pt x="584" y="163"/>
                  </a:lnTo>
                  <a:lnTo>
                    <a:pt x="584" y="105"/>
                  </a:lnTo>
                  <a:lnTo>
                    <a:pt x="584" y="58"/>
                  </a:lnTo>
                  <a:lnTo>
                    <a:pt x="584" y="27"/>
                  </a:lnTo>
                  <a:lnTo>
                    <a:pt x="572" y="24"/>
                  </a:lnTo>
                  <a:lnTo>
                    <a:pt x="539" y="19"/>
                  </a:lnTo>
                  <a:lnTo>
                    <a:pt x="514" y="15"/>
                  </a:lnTo>
                  <a:lnTo>
                    <a:pt x="486" y="12"/>
                  </a:lnTo>
                  <a:lnTo>
                    <a:pt x="453" y="8"/>
                  </a:lnTo>
                  <a:lnTo>
                    <a:pt x="418" y="4"/>
                  </a:lnTo>
                  <a:lnTo>
                    <a:pt x="379" y="2"/>
                  </a:lnTo>
                  <a:lnTo>
                    <a:pt x="338" y="0"/>
                  </a:lnTo>
                  <a:lnTo>
                    <a:pt x="294" y="0"/>
                  </a:lnTo>
                  <a:lnTo>
                    <a:pt x="249" y="0"/>
                  </a:lnTo>
                  <a:lnTo>
                    <a:pt x="204" y="3"/>
                  </a:lnTo>
                  <a:lnTo>
                    <a:pt x="156" y="7"/>
                  </a:lnTo>
                  <a:lnTo>
                    <a:pt x="132" y="10"/>
                  </a:lnTo>
                  <a:lnTo>
                    <a:pt x="109" y="13"/>
                  </a:lnTo>
                  <a:lnTo>
                    <a:pt x="84" y="17"/>
                  </a:lnTo>
                  <a:lnTo>
                    <a:pt x="60" y="22"/>
                  </a:lnTo>
                  <a:close/>
                </a:path>
              </a:pathLst>
            </a:custGeom>
            <a:solidFill>
              <a:srgbClr val="8bcc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745320" y="2068560"/>
              <a:ext cx="69840" cy="154080"/>
            </a:xfrm>
            <a:custGeom>
              <a:avLst/>
              <a:gdLst/>
              <a:ahLst/>
              <a:rect l="l" t="t" r="r" b="b"/>
              <a:pathLst>
                <a:path w="220" h="486">
                  <a:moveTo>
                    <a:pt x="67" y="345"/>
                  </a:moveTo>
                  <a:lnTo>
                    <a:pt x="69" y="310"/>
                  </a:lnTo>
                  <a:lnTo>
                    <a:pt x="69" y="273"/>
                  </a:lnTo>
                  <a:lnTo>
                    <a:pt x="68" y="237"/>
                  </a:lnTo>
                  <a:lnTo>
                    <a:pt x="65" y="201"/>
                  </a:lnTo>
                  <a:lnTo>
                    <a:pt x="63" y="185"/>
                  </a:lnTo>
                  <a:lnTo>
                    <a:pt x="60" y="169"/>
                  </a:lnTo>
                  <a:lnTo>
                    <a:pt x="56" y="153"/>
                  </a:lnTo>
                  <a:lnTo>
                    <a:pt x="52" y="139"/>
                  </a:lnTo>
                  <a:lnTo>
                    <a:pt x="48" y="126"/>
                  </a:lnTo>
                  <a:lnTo>
                    <a:pt x="42" y="115"/>
                  </a:lnTo>
                  <a:lnTo>
                    <a:pt x="37" y="105"/>
                  </a:lnTo>
                  <a:lnTo>
                    <a:pt x="31" y="97"/>
                  </a:lnTo>
                  <a:lnTo>
                    <a:pt x="23" y="90"/>
                  </a:lnTo>
                  <a:lnTo>
                    <a:pt x="18" y="82"/>
                  </a:lnTo>
                  <a:lnTo>
                    <a:pt x="12" y="74"/>
                  </a:lnTo>
                  <a:lnTo>
                    <a:pt x="8" y="65"/>
                  </a:lnTo>
                  <a:lnTo>
                    <a:pt x="5" y="56"/>
                  </a:lnTo>
                  <a:lnTo>
                    <a:pt x="2" y="48"/>
                  </a:lnTo>
                  <a:lnTo>
                    <a:pt x="0" y="39"/>
                  </a:lnTo>
                  <a:lnTo>
                    <a:pt x="0" y="31"/>
                  </a:lnTo>
                  <a:lnTo>
                    <a:pt x="2" y="24"/>
                  </a:lnTo>
                  <a:lnTo>
                    <a:pt x="5" y="17"/>
                  </a:lnTo>
                  <a:lnTo>
                    <a:pt x="9" y="11"/>
                  </a:lnTo>
                  <a:lnTo>
                    <a:pt x="14" y="7"/>
                  </a:lnTo>
                  <a:lnTo>
                    <a:pt x="22" y="3"/>
                  </a:lnTo>
                  <a:lnTo>
                    <a:pt x="31" y="0"/>
                  </a:lnTo>
                  <a:lnTo>
                    <a:pt x="42" y="0"/>
                  </a:lnTo>
                  <a:lnTo>
                    <a:pt x="55" y="1"/>
                  </a:lnTo>
                  <a:lnTo>
                    <a:pt x="82" y="3"/>
                  </a:lnTo>
                  <a:lnTo>
                    <a:pt x="109" y="5"/>
                  </a:lnTo>
                  <a:lnTo>
                    <a:pt x="135" y="9"/>
                  </a:lnTo>
                  <a:lnTo>
                    <a:pt x="158" y="13"/>
                  </a:lnTo>
                  <a:lnTo>
                    <a:pt x="169" y="16"/>
                  </a:lnTo>
                  <a:lnTo>
                    <a:pt x="179" y="21"/>
                  </a:lnTo>
                  <a:lnTo>
                    <a:pt x="187" y="25"/>
                  </a:lnTo>
                  <a:lnTo>
                    <a:pt x="195" y="31"/>
                  </a:lnTo>
                  <a:lnTo>
                    <a:pt x="201" y="39"/>
                  </a:lnTo>
                  <a:lnTo>
                    <a:pt x="207" y="48"/>
                  </a:lnTo>
                  <a:lnTo>
                    <a:pt x="211" y="58"/>
                  </a:lnTo>
                  <a:lnTo>
                    <a:pt x="213" y="70"/>
                  </a:lnTo>
                  <a:lnTo>
                    <a:pt x="216" y="102"/>
                  </a:lnTo>
                  <a:lnTo>
                    <a:pt x="220" y="142"/>
                  </a:lnTo>
                  <a:lnTo>
                    <a:pt x="220" y="164"/>
                  </a:lnTo>
                  <a:lnTo>
                    <a:pt x="220" y="188"/>
                  </a:lnTo>
                  <a:lnTo>
                    <a:pt x="220" y="213"/>
                  </a:lnTo>
                  <a:lnTo>
                    <a:pt x="217" y="239"/>
                  </a:lnTo>
                  <a:lnTo>
                    <a:pt x="214" y="266"/>
                  </a:lnTo>
                  <a:lnTo>
                    <a:pt x="210" y="293"/>
                  </a:lnTo>
                  <a:lnTo>
                    <a:pt x="204" y="319"/>
                  </a:lnTo>
                  <a:lnTo>
                    <a:pt x="198" y="346"/>
                  </a:lnTo>
                  <a:lnTo>
                    <a:pt x="189" y="372"/>
                  </a:lnTo>
                  <a:lnTo>
                    <a:pt x="179" y="396"/>
                  </a:lnTo>
                  <a:lnTo>
                    <a:pt x="172" y="408"/>
                  </a:lnTo>
                  <a:lnTo>
                    <a:pt x="166" y="420"/>
                  </a:lnTo>
                  <a:lnTo>
                    <a:pt x="159" y="432"/>
                  </a:lnTo>
                  <a:lnTo>
                    <a:pt x="152" y="443"/>
                  </a:lnTo>
                  <a:lnTo>
                    <a:pt x="144" y="454"/>
                  </a:lnTo>
                  <a:lnTo>
                    <a:pt x="136" y="462"/>
                  </a:lnTo>
                  <a:lnTo>
                    <a:pt x="130" y="469"/>
                  </a:lnTo>
                  <a:lnTo>
                    <a:pt x="123" y="475"/>
                  </a:lnTo>
                  <a:lnTo>
                    <a:pt x="117" y="480"/>
                  </a:lnTo>
                  <a:lnTo>
                    <a:pt x="112" y="483"/>
                  </a:lnTo>
                  <a:lnTo>
                    <a:pt x="107" y="485"/>
                  </a:lnTo>
                  <a:lnTo>
                    <a:pt x="102" y="486"/>
                  </a:lnTo>
                  <a:lnTo>
                    <a:pt x="98" y="486"/>
                  </a:lnTo>
                  <a:lnTo>
                    <a:pt x="93" y="485"/>
                  </a:lnTo>
                  <a:lnTo>
                    <a:pt x="90" y="483"/>
                  </a:lnTo>
                  <a:lnTo>
                    <a:pt x="87" y="480"/>
                  </a:lnTo>
                  <a:lnTo>
                    <a:pt x="83" y="476"/>
                  </a:lnTo>
                  <a:lnTo>
                    <a:pt x="80" y="472"/>
                  </a:lnTo>
                  <a:lnTo>
                    <a:pt x="78" y="467"/>
                  </a:lnTo>
                  <a:lnTo>
                    <a:pt x="76" y="461"/>
                  </a:lnTo>
                  <a:lnTo>
                    <a:pt x="73" y="448"/>
                  </a:lnTo>
                  <a:lnTo>
                    <a:pt x="69" y="434"/>
                  </a:lnTo>
                  <a:lnTo>
                    <a:pt x="67" y="419"/>
                  </a:lnTo>
                  <a:lnTo>
                    <a:pt x="66" y="403"/>
                  </a:lnTo>
                  <a:lnTo>
                    <a:pt x="66" y="372"/>
                  </a:lnTo>
                  <a:lnTo>
                    <a:pt x="67" y="345"/>
                  </a:lnTo>
                  <a:close/>
                </a:path>
              </a:pathLst>
            </a:custGeom>
            <a:solidFill>
              <a:srgbClr val="8bcc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745320" y="2068560"/>
              <a:ext cx="69840" cy="154080"/>
            </a:xfrm>
            <a:custGeom>
              <a:avLst/>
              <a:gdLst/>
              <a:ahLst/>
              <a:rect l="l" t="t" r="r" b="b"/>
              <a:pathLst>
                <a:path w="220" h="486">
                  <a:moveTo>
                    <a:pt x="67" y="345"/>
                  </a:moveTo>
                  <a:lnTo>
                    <a:pt x="69" y="310"/>
                  </a:lnTo>
                  <a:lnTo>
                    <a:pt x="69" y="273"/>
                  </a:lnTo>
                  <a:lnTo>
                    <a:pt x="68" y="237"/>
                  </a:lnTo>
                  <a:lnTo>
                    <a:pt x="65" y="201"/>
                  </a:lnTo>
                  <a:lnTo>
                    <a:pt x="63" y="185"/>
                  </a:lnTo>
                  <a:lnTo>
                    <a:pt x="60" y="169"/>
                  </a:lnTo>
                  <a:lnTo>
                    <a:pt x="56" y="153"/>
                  </a:lnTo>
                  <a:lnTo>
                    <a:pt x="52" y="139"/>
                  </a:lnTo>
                  <a:lnTo>
                    <a:pt x="48" y="126"/>
                  </a:lnTo>
                  <a:lnTo>
                    <a:pt x="42" y="115"/>
                  </a:lnTo>
                  <a:lnTo>
                    <a:pt x="37" y="105"/>
                  </a:lnTo>
                  <a:lnTo>
                    <a:pt x="31" y="97"/>
                  </a:lnTo>
                  <a:lnTo>
                    <a:pt x="23" y="90"/>
                  </a:lnTo>
                  <a:lnTo>
                    <a:pt x="18" y="82"/>
                  </a:lnTo>
                  <a:lnTo>
                    <a:pt x="12" y="74"/>
                  </a:lnTo>
                  <a:lnTo>
                    <a:pt x="8" y="65"/>
                  </a:lnTo>
                  <a:lnTo>
                    <a:pt x="5" y="56"/>
                  </a:lnTo>
                  <a:lnTo>
                    <a:pt x="2" y="48"/>
                  </a:lnTo>
                  <a:lnTo>
                    <a:pt x="0" y="39"/>
                  </a:lnTo>
                  <a:lnTo>
                    <a:pt x="0" y="31"/>
                  </a:lnTo>
                  <a:lnTo>
                    <a:pt x="2" y="24"/>
                  </a:lnTo>
                  <a:lnTo>
                    <a:pt x="5" y="17"/>
                  </a:lnTo>
                  <a:lnTo>
                    <a:pt x="9" y="11"/>
                  </a:lnTo>
                  <a:lnTo>
                    <a:pt x="14" y="7"/>
                  </a:lnTo>
                  <a:lnTo>
                    <a:pt x="22" y="3"/>
                  </a:lnTo>
                  <a:lnTo>
                    <a:pt x="31" y="0"/>
                  </a:lnTo>
                  <a:lnTo>
                    <a:pt x="42" y="0"/>
                  </a:lnTo>
                  <a:lnTo>
                    <a:pt x="55" y="1"/>
                  </a:lnTo>
                  <a:lnTo>
                    <a:pt x="82" y="3"/>
                  </a:lnTo>
                  <a:lnTo>
                    <a:pt x="109" y="5"/>
                  </a:lnTo>
                  <a:lnTo>
                    <a:pt x="135" y="9"/>
                  </a:lnTo>
                  <a:lnTo>
                    <a:pt x="158" y="13"/>
                  </a:lnTo>
                  <a:lnTo>
                    <a:pt x="169" y="16"/>
                  </a:lnTo>
                  <a:lnTo>
                    <a:pt x="179" y="21"/>
                  </a:lnTo>
                  <a:lnTo>
                    <a:pt x="187" y="25"/>
                  </a:lnTo>
                  <a:lnTo>
                    <a:pt x="195" y="31"/>
                  </a:lnTo>
                  <a:lnTo>
                    <a:pt x="201" y="39"/>
                  </a:lnTo>
                  <a:lnTo>
                    <a:pt x="207" y="48"/>
                  </a:lnTo>
                  <a:lnTo>
                    <a:pt x="211" y="58"/>
                  </a:lnTo>
                  <a:lnTo>
                    <a:pt x="213" y="70"/>
                  </a:lnTo>
                  <a:lnTo>
                    <a:pt x="216" y="102"/>
                  </a:lnTo>
                  <a:lnTo>
                    <a:pt x="220" y="142"/>
                  </a:lnTo>
                  <a:lnTo>
                    <a:pt x="220" y="164"/>
                  </a:lnTo>
                  <a:lnTo>
                    <a:pt x="220" y="188"/>
                  </a:lnTo>
                  <a:lnTo>
                    <a:pt x="220" y="213"/>
                  </a:lnTo>
                  <a:lnTo>
                    <a:pt x="217" y="239"/>
                  </a:lnTo>
                  <a:lnTo>
                    <a:pt x="214" y="266"/>
                  </a:lnTo>
                  <a:lnTo>
                    <a:pt x="210" y="293"/>
                  </a:lnTo>
                  <a:lnTo>
                    <a:pt x="204" y="319"/>
                  </a:lnTo>
                  <a:lnTo>
                    <a:pt x="198" y="346"/>
                  </a:lnTo>
                  <a:lnTo>
                    <a:pt x="189" y="372"/>
                  </a:lnTo>
                  <a:lnTo>
                    <a:pt x="179" y="396"/>
                  </a:lnTo>
                  <a:lnTo>
                    <a:pt x="172" y="408"/>
                  </a:lnTo>
                  <a:lnTo>
                    <a:pt x="166" y="420"/>
                  </a:lnTo>
                  <a:lnTo>
                    <a:pt x="159" y="432"/>
                  </a:lnTo>
                  <a:lnTo>
                    <a:pt x="152" y="443"/>
                  </a:lnTo>
                  <a:lnTo>
                    <a:pt x="144" y="454"/>
                  </a:lnTo>
                  <a:lnTo>
                    <a:pt x="136" y="462"/>
                  </a:lnTo>
                  <a:lnTo>
                    <a:pt x="130" y="469"/>
                  </a:lnTo>
                  <a:lnTo>
                    <a:pt x="123" y="475"/>
                  </a:lnTo>
                  <a:lnTo>
                    <a:pt x="117" y="480"/>
                  </a:lnTo>
                  <a:lnTo>
                    <a:pt x="112" y="483"/>
                  </a:lnTo>
                  <a:lnTo>
                    <a:pt x="107" y="485"/>
                  </a:lnTo>
                  <a:lnTo>
                    <a:pt x="102" y="486"/>
                  </a:lnTo>
                  <a:lnTo>
                    <a:pt x="98" y="486"/>
                  </a:lnTo>
                  <a:lnTo>
                    <a:pt x="93" y="485"/>
                  </a:lnTo>
                  <a:lnTo>
                    <a:pt x="90" y="483"/>
                  </a:lnTo>
                  <a:lnTo>
                    <a:pt x="87" y="480"/>
                  </a:lnTo>
                  <a:lnTo>
                    <a:pt x="83" y="476"/>
                  </a:lnTo>
                  <a:lnTo>
                    <a:pt x="80" y="472"/>
                  </a:lnTo>
                  <a:lnTo>
                    <a:pt x="78" y="467"/>
                  </a:lnTo>
                  <a:lnTo>
                    <a:pt x="76" y="461"/>
                  </a:lnTo>
                  <a:lnTo>
                    <a:pt x="73" y="448"/>
                  </a:lnTo>
                  <a:lnTo>
                    <a:pt x="69" y="434"/>
                  </a:lnTo>
                  <a:lnTo>
                    <a:pt x="67" y="419"/>
                  </a:lnTo>
                  <a:lnTo>
                    <a:pt x="66" y="403"/>
                  </a:lnTo>
                  <a:lnTo>
                    <a:pt x="66" y="372"/>
                  </a:lnTo>
                  <a:lnTo>
                    <a:pt x="67" y="345"/>
                  </a:lnTo>
                  <a:close/>
                </a:path>
              </a:pathLst>
            </a:custGeom>
            <a:solidFill>
              <a:srgbClr val="8bcc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750000" y="2071800"/>
              <a:ext cx="61920" cy="135000"/>
            </a:xfrm>
            <a:custGeom>
              <a:avLst/>
              <a:gdLst/>
              <a:ahLst/>
              <a:rect l="l" t="t" r="r" b="b"/>
              <a:pathLst>
                <a:path w="194" h="425">
                  <a:moveTo>
                    <a:pt x="65" y="302"/>
                  </a:moveTo>
                  <a:lnTo>
                    <a:pt x="65" y="272"/>
                  </a:lnTo>
                  <a:lnTo>
                    <a:pt x="64" y="240"/>
                  </a:lnTo>
                  <a:lnTo>
                    <a:pt x="62" y="208"/>
                  </a:lnTo>
                  <a:lnTo>
                    <a:pt x="58" y="177"/>
                  </a:lnTo>
                  <a:lnTo>
                    <a:pt x="56" y="163"/>
                  </a:lnTo>
                  <a:lnTo>
                    <a:pt x="52" y="148"/>
                  </a:lnTo>
                  <a:lnTo>
                    <a:pt x="49" y="135"/>
                  </a:lnTo>
                  <a:lnTo>
                    <a:pt x="46" y="122"/>
                  </a:lnTo>
                  <a:lnTo>
                    <a:pt x="42" y="111"/>
                  </a:lnTo>
                  <a:lnTo>
                    <a:pt x="36" y="100"/>
                  </a:lnTo>
                  <a:lnTo>
                    <a:pt x="31" y="91"/>
                  </a:lnTo>
                  <a:lnTo>
                    <a:pt x="25" y="84"/>
                  </a:lnTo>
                  <a:lnTo>
                    <a:pt x="20" y="77"/>
                  </a:lnTo>
                  <a:lnTo>
                    <a:pt x="15" y="71"/>
                  </a:lnTo>
                  <a:lnTo>
                    <a:pt x="10" y="63"/>
                  </a:lnTo>
                  <a:lnTo>
                    <a:pt x="6" y="56"/>
                  </a:lnTo>
                  <a:lnTo>
                    <a:pt x="3" y="48"/>
                  </a:lnTo>
                  <a:lnTo>
                    <a:pt x="1" y="41"/>
                  </a:lnTo>
                  <a:lnTo>
                    <a:pt x="0" y="33"/>
                  </a:lnTo>
                  <a:lnTo>
                    <a:pt x="0" y="27"/>
                  </a:lnTo>
                  <a:lnTo>
                    <a:pt x="1" y="20"/>
                  </a:lnTo>
                  <a:lnTo>
                    <a:pt x="3" y="14"/>
                  </a:lnTo>
                  <a:lnTo>
                    <a:pt x="6" y="9"/>
                  </a:lnTo>
                  <a:lnTo>
                    <a:pt x="10" y="5"/>
                  </a:lnTo>
                  <a:lnTo>
                    <a:pt x="17" y="2"/>
                  </a:lnTo>
                  <a:lnTo>
                    <a:pt x="24" y="0"/>
                  </a:lnTo>
                  <a:lnTo>
                    <a:pt x="34" y="0"/>
                  </a:lnTo>
                  <a:lnTo>
                    <a:pt x="45" y="0"/>
                  </a:lnTo>
                  <a:lnTo>
                    <a:pt x="70" y="3"/>
                  </a:lnTo>
                  <a:lnTo>
                    <a:pt x="95" y="4"/>
                  </a:lnTo>
                  <a:lnTo>
                    <a:pt x="116" y="6"/>
                  </a:lnTo>
                  <a:lnTo>
                    <a:pt x="137" y="10"/>
                  </a:lnTo>
                  <a:lnTo>
                    <a:pt x="146" y="13"/>
                  </a:lnTo>
                  <a:lnTo>
                    <a:pt x="155" y="17"/>
                  </a:lnTo>
                  <a:lnTo>
                    <a:pt x="163" y="21"/>
                  </a:lnTo>
                  <a:lnTo>
                    <a:pt x="169" y="27"/>
                  </a:lnTo>
                  <a:lnTo>
                    <a:pt x="176" y="33"/>
                  </a:lnTo>
                  <a:lnTo>
                    <a:pt x="180" y="41"/>
                  </a:lnTo>
                  <a:lnTo>
                    <a:pt x="184" y="49"/>
                  </a:lnTo>
                  <a:lnTo>
                    <a:pt x="186" y="59"/>
                  </a:lnTo>
                  <a:lnTo>
                    <a:pt x="190" y="87"/>
                  </a:lnTo>
                  <a:lnTo>
                    <a:pt x="193" y="123"/>
                  </a:lnTo>
                  <a:lnTo>
                    <a:pt x="194" y="142"/>
                  </a:lnTo>
                  <a:lnTo>
                    <a:pt x="194" y="164"/>
                  </a:lnTo>
                  <a:lnTo>
                    <a:pt x="193" y="186"/>
                  </a:lnTo>
                  <a:lnTo>
                    <a:pt x="192" y="209"/>
                  </a:lnTo>
                  <a:lnTo>
                    <a:pt x="190" y="233"/>
                  </a:lnTo>
                  <a:lnTo>
                    <a:pt x="186" y="256"/>
                  </a:lnTo>
                  <a:lnTo>
                    <a:pt x="182" y="279"/>
                  </a:lnTo>
                  <a:lnTo>
                    <a:pt x="176" y="303"/>
                  </a:lnTo>
                  <a:lnTo>
                    <a:pt x="169" y="326"/>
                  </a:lnTo>
                  <a:lnTo>
                    <a:pt x="159" y="347"/>
                  </a:lnTo>
                  <a:lnTo>
                    <a:pt x="155" y="358"/>
                  </a:lnTo>
                  <a:lnTo>
                    <a:pt x="150" y="369"/>
                  </a:lnTo>
                  <a:lnTo>
                    <a:pt x="143" y="379"/>
                  </a:lnTo>
                  <a:lnTo>
                    <a:pt x="137" y="388"/>
                  </a:lnTo>
                  <a:lnTo>
                    <a:pt x="125" y="405"/>
                  </a:lnTo>
                  <a:lnTo>
                    <a:pt x="114" y="415"/>
                  </a:lnTo>
                  <a:lnTo>
                    <a:pt x="109" y="420"/>
                  </a:lnTo>
                  <a:lnTo>
                    <a:pt x="104" y="423"/>
                  </a:lnTo>
                  <a:lnTo>
                    <a:pt x="100" y="425"/>
                  </a:lnTo>
                  <a:lnTo>
                    <a:pt x="96" y="425"/>
                  </a:lnTo>
                  <a:lnTo>
                    <a:pt x="92" y="425"/>
                  </a:lnTo>
                  <a:lnTo>
                    <a:pt x="88" y="424"/>
                  </a:lnTo>
                  <a:lnTo>
                    <a:pt x="85" y="423"/>
                  </a:lnTo>
                  <a:lnTo>
                    <a:pt x="83" y="421"/>
                  </a:lnTo>
                  <a:lnTo>
                    <a:pt x="77" y="413"/>
                  </a:lnTo>
                  <a:lnTo>
                    <a:pt x="73" y="405"/>
                  </a:lnTo>
                  <a:lnTo>
                    <a:pt x="70" y="393"/>
                  </a:lnTo>
                  <a:lnTo>
                    <a:pt x="68" y="381"/>
                  </a:lnTo>
                  <a:lnTo>
                    <a:pt x="65" y="368"/>
                  </a:lnTo>
                  <a:lnTo>
                    <a:pt x="64" y="354"/>
                  </a:lnTo>
                  <a:lnTo>
                    <a:pt x="64" y="326"/>
                  </a:lnTo>
                  <a:lnTo>
                    <a:pt x="65" y="302"/>
                  </a:lnTo>
                  <a:close/>
                </a:path>
              </a:pathLst>
            </a:custGeom>
            <a:solidFill>
              <a:srgbClr val="93cf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754680" y="2071800"/>
              <a:ext cx="54000" cy="117360"/>
            </a:xfrm>
            <a:custGeom>
              <a:avLst/>
              <a:gdLst/>
              <a:ahLst/>
              <a:rect l="l" t="t" r="r" b="b"/>
              <a:pathLst>
                <a:path w="170" h="370">
                  <a:moveTo>
                    <a:pt x="63" y="263"/>
                  </a:moveTo>
                  <a:lnTo>
                    <a:pt x="63" y="238"/>
                  </a:lnTo>
                  <a:lnTo>
                    <a:pt x="62" y="209"/>
                  </a:lnTo>
                  <a:lnTo>
                    <a:pt x="59" y="182"/>
                  </a:lnTo>
                  <a:lnTo>
                    <a:pt x="55" y="155"/>
                  </a:lnTo>
                  <a:lnTo>
                    <a:pt x="49" y="131"/>
                  </a:lnTo>
                  <a:lnTo>
                    <a:pt x="42" y="108"/>
                  </a:lnTo>
                  <a:lnTo>
                    <a:pt x="37" y="98"/>
                  </a:lnTo>
                  <a:lnTo>
                    <a:pt x="33" y="90"/>
                  </a:lnTo>
                  <a:lnTo>
                    <a:pt x="29" y="82"/>
                  </a:lnTo>
                  <a:lnTo>
                    <a:pt x="24" y="76"/>
                  </a:lnTo>
                  <a:lnTo>
                    <a:pt x="19" y="70"/>
                  </a:lnTo>
                  <a:lnTo>
                    <a:pt x="14" y="64"/>
                  </a:lnTo>
                  <a:lnTo>
                    <a:pt x="9" y="57"/>
                  </a:lnTo>
                  <a:lnTo>
                    <a:pt x="6" y="51"/>
                  </a:lnTo>
                  <a:lnTo>
                    <a:pt x="3" y="44"/>
                  </a:lnTo>
                  <a:lnTo>
                    <a:pt x="2" y="38"/>
                  </a:lnTo>
                  <a:lnTo>
                    <a:pt x="1" y="31"/>
                  </a:lnTo>
                  <a:lnTo>
                    <a:pt x="0" y="25"/>
                  </a:lnTo>
                  <a:lnTo>
                    <a:pt x="1" y="19"/>
                  </a:lnTo>
                  <a:lnTo>
                    <a:pt x="3" y="14"/>
                  </a:lnTo>
                  <a:lnTo>
                    <a:pt x="6" y="10"/>
                  </a:lnTo>
                  <a:lnTo>
                    <a:pt x="10" y="5"/>
                  </a:lnTo>
                  <a:lnTo>
                    <a:pt x="16" y="3"/>
                  </a:lnTo>
                  <a:lnTo>
                    <a:pt x="23" y="1"/>
                  </a:lnTo>
                  <a:lnTo>
                    <a:pt x="31" y="0"/>
                  </a:lnTo>
                  <a:lnTo>
                    <a:pt x="42" y="1"/>
                  </a:lnTo>
                  <a:lnTo>
                    <a:pt x="62" y="3"/>
                  </a:lnTo>
                  <a:lnTo>
                    <a:pt x="83" y="5"/>
                  </a:lnTo>
                  <a:lnTo>
                    <a:pt x="102" y="8"/>
                  </a:lnTo>
                  <a:lnTo>
                    <a:pt x="119" y="12"/>
                  </a:lnTo>
                  <a:lnTo>
                    <a:pt x="127" y="14"/>
                  </a:lnTo>
                  <a:lnTo>
                    <a:pt x="135" y="17"/>
                  </a:lnTo>
                  <a:lnTo>
                    <a:pt x="141" y="22"/>
                  </a:lnTo>
                  <a:lnTo>
                    <a:pt x="148" y="26"/>
                  </a:lnTo>
                  <a:lnTo>
                    <a:pt x="152" y="32"/>
                  </a:lnTo>
                  <a:lnTo>
                    <a:pt x="156" y="39"/>
                  </a:lnTo>
                  <a:lnTo>
                    <a:pt x="159" y="46"/>
                  </a:lnTo>
                  <a:lnTo>
                    <a:pt x="163" y="55"/>
                  </a:lnTo>
                  <a:lnTo>
                    <a:pt x="166" y="79"/>
                  </a:lnTo>
                  <a:lnTo>
                    <a:pt x="169" y="109"/>
                  </a:lnTo>
                  <a:lnTo>
                    <a:pt x="170" y="126"/>
                  </a:lnTo>
                  <a:lnTo>
                    <a:pt x="170" y="145"/>
                  </a:lnTo>
                  <a:lnTo>
                    <a:pt x="170" y="164"/>
                  </a:lnTo>
                  <a:lnTo>
                    <a:pt x="170" y="184"/>
                  </a:lnTo>
                  <a:lnTo>
                    <a:pt x="168" y="204"/>
                  </a:lnTo>
                  <a:lnTo>
                    <a:pt x="166" y="225"/>
                  </a:lnTo>
                  <a:lnTo>
                    <a:pt x="162" y="245"/>
                  </a:lnTo>
                  <a:lnTo>
                    <a:pt x="157" y="266"/>
                  </a:lnTo>
                  <a:lnTo>
                    <a:pt x="152" y="285"/>
                  </a:lnTo>
                  <a:lnTo>
                    <a:pt x="144" y="305"/>
                  </a:lnTo>
                  <a:lnTo>
                    <a:pt x="136" y="323"/>
                  </a:lnTo>
                  <a:lnTo>
                    <a:pt x="125" y="340"/>
                  </a:lnTo>
                  <a:lnTo>
                    <a:pt x="115" y="353"/>
                  </a:lnTo>
                  <a:lnTo>
                    <a:pt x="107" y="363"/>
                  </a:lnTo>
                  <a:lnTo>
                    <a:pt x="102" y="366"/>
                  </a:lnTo>
                  <a:lnTo>
                    <a:pt x="98" y="368"/>
                  </a:lnTo>
                  <a:lnTo>
                    <a:pt x="95" y="369"/>
                  </a:lnTo>
                  <a:lnTo>
                    <a:pt x="91" y="370"/>
                  </a:lnTo>
                  <a:lnTo>
                    <a:pt x="88" y="370"/>
                  </a:lnTo>
                  <a:lnTo>
                    <a:pt x="85" y="369"/>
                  </a:lnTo>
                  <a:lnTo>
                    <a:pt x="83" y="367"/>
                  </a:lnTo>
                  <a:lnTo>
                    <a:pt x="81" y="365"/>
                  </a:lnTo>
                  <a:lnTo>
                    <a:pt x="75" y="360"/>
                  </a:lnTo>
                  <a:lnTo>
                    <a:pt x="72" y="351"/>
                  </a:lnTo>
                  <a:lnTo>
                    <a:pt x="69" y="342"/>
                  </a:lnTo>
                  <a:lnTo>
                    <a:pt x="67" y="332"/>
                  </a:lnTo>
                  <a:lnTo>
                    <a:pt x="65" y="320"/>
                  </a:lnTo>
                  <a:lnTo>
                    <a:pt x="64" y="308"/>
                  </a:lnTo>
                  <a:lnTo>
                    <a:pt x="63" y="284"/>
                  </a:lnTo>
                  <a:lnTo>
                    <a:pt x="63" y="263"/>
                  </a:lnTo>
                  <a:close/>
                </a:path>
              </a:pathLst>
            </a:custGeom>
            <a:solidFill>
              <a:srgbClr val="a1d4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759720" y="2075040"/>
              <a:ext cx="47520" cy="98280"/>
            </a:xfrm>
            <a:custGeom>
              <a:avLst/>
              <a:gdLst/>
              <a:ahLst/>
              <a:rect l="l" t="t" r="r" b="b"/>
              <a:pathLst>
                <a:path w="146" h="310">
                  <a:moveTo>
                    <a:pt x="60" y="220"/>
                  </a:moveTo>
                  <a:lnTo>
                    <a:pt x="59" y="197"/>
                  </a:lnTo>
                  <a:lnTo>
                    <a:pt x="57" y="175"/>
                  </a:lnTo>
                  <a:lnTo>
                    <a:pt x="53" y="151"/>
                  </a:lnTo>
                  <a:lnTo>
                    <a:pt x="48" y="128"/>
                  </a:lnTo>
                  <a:lnTo>
                    <a:pt x="43" y="108"/>
                  </a:lnTo>
                  <a:lnTo>
                    <a:pt x="35" y="88"/>
                  </a:lnTo>
                  <a:lnTo>
                    <a:pt x="32" y="81"/>
                  </a:lnTo>
                  <a:lnTo>
                    <a:pt x="28" y="73"/>
                  </a:lnTo>
                  <a:lnTo>
                    <a:pt x="25" y="67"/>
                  </a:lnTo>
                  <a:lnTo>
                    <a:pt x="20" y="61"/>
                  </a:lnTo>
                  <a:lnTo>
                    <a:pt x="16" y="57"/>
                  </a:lnTo>
                  <a:lnTo>
                    <a:pt x="12" y="53"/>
                  </a:lnTo>
                  <a:lnTo>
                    <a:pt x="8" y="47"/>
                  </a:lnTo>
                  <a:lnTo>
                    <a:pt x="5" y="42"/>
                  </a:lnTo>
                  <a:lnTo>
                    <a:pt x="3" y="36"/>
                  </a:lnTo>
                  <a:lnTo>
                    <a:pt x="1" y="31"/>
                  </a:lnTo>
                  <a:lnTo>
                    <a:pt x="0" y="26"/>
                  </a:lnTo>
                  <a:lnTo>
                    <a:pt x="0" y="20"/>
                  </a:lnTo>
                  <a:lnTo>
                    <a:pt x="1" y="16"/>
                  </a:lnTo>
                  <a:lnTo>
                    <a:pt x="2" y="11"/>
                  </a:lnTo>
                  <a:lnTo>
                    <a:pt x="5" y="7"/>
                  </a:lnTo>
                  <a:lnTo>
                    <a:pt x="8" y="4"/>
                  </a:lnTo>
                  <a:lnTo>
                    <a:pt x="13" y="2"/>
                  </a:lnTo>
                  <a:lnTo>
                    <a:pt x="19" y="0"/>
                  </a:lnTo>
                  <a:lnTo>
                    <a:pt x="27" y="0"/>
                  </a:lnTo>
                  <a:lnTo>
                    <a:pt x="35" y="0"/>
                  </a:lnTo>
                  <a:lnTo>
                    <a:pt x="53" y="1"/>
                  </a:lnTo>
                  <a:lnTo>
                    <a:pt x="69" y="3"/>
                  </a:lnTo>
                  <a:lnTo>
                    <a:pt x="85" y="4"/>
                  </a:lnTo>
                  <a:lnTo>
                    <a:pt x="99" y="7"/>
                  </a:lnTo>
                  <a:lnTo>
                    <a:pt x="106" y="9"/>
                  </a:lnTo>
                  <a:lnTo>
                    <a:pt x="112" y="11"/>
                  </a:lnTo>
                  <a:lnTo>
                    <a:pt x="118" y="15"/>
                  </a:lnTo>
                  <a:lnTo>
                    <a:pt x="122" y="19"/>
                  </a:lnTo>
                  <a:lnTo>
                    <a:pt x="126" y="23"/>
                  </a:lnTo>
                  <a:lnTo>
                    <a:pt x="129" y="30"/>
                  </a:lnTo>
                  <a:lnTo>
                    <a:pt x="133" y="36"/>
                  </a:lnTo>
                  <a:lnTo>
                    <a:pt x="134" y="44"/>
                  </a:lnTo>
                  <a:lnTo>
                    <a:pt x="138" y="64"/>
                  </a:lnTo>
                  <a:lnTo>
                    <a:pt x="142" y="90"/>
                  </a:lnTo>
                  <a:lnTo>
                    <a:pt x="143" y="104"/>
                  </a:lnTo>
                  <a:lnTo>
                    <a:pt x="145" y="121"/>
                  </a:lnTo>
                  <a:lnTo>
                    <a:pt x="146" y="137"/>
                  </a:lnTo>
                  <a:lnTo>
                    <a:pt x="146" y="153"/>
                  </a:lnTo>
                  <a:lnTo>
                    <a:pt x="145" y="170"/>
                  </a:lnTo>
                  <a:lnTo>
                    <a:pt x="142" y="188"/>
                  </a:lnTo>
                  <a:lnTo>
                    <a:pt x="140" y="205"/>
                  </a:lnTo>
                  <a:lnTo>
                    <a:pt x="137" y="222"/>
                  </a:lnTo>
                  <a:lnTo>
                    <a:pt x="133" y="239"/>
                  </a:lnTo>
                  <a:lnTo>
                    <a:pt x="126" y="256"/>
                  </a:lnTo>
                  <a:lnTo>
                    <a:pt x="120" y="272"/>
                  </a:lnTo>
                  <a:lnTo>
                    <a:pt x="112" y="286"/>
                  </a:lnTo>
                  <a:lnTo>
                    <a:pt x="103" y="297"/>
                  </a:lnTo>
                  <a:lnTo>
                    <a:pt x="97" y="304"/>
                  </a:lnTo>
                  <a:lnTo>
                    <a:pt x="94" y="306"/>
                  </a:lnTo>
                  <a:lnTo>
                    <a:pt x="91" y="308"/>
                  </a:lnTo>
                  <a:lnTo>
                    <a:pt x="87" y="310"/>
                  </a:lnTo>
                  <a:lnTo>
                    <a:pt x="85" y="310"/>
                  </a:lnTo>
                  <a:lnTo>
                    <a:pt x="82" y="310"/>
                  </a:lnTo>
                  <a:lnTo>
                    <a:pt x="80" y="308"/>
                  </a:lnTo>
                  <a:lnTo>
                    <a:pt x="78" y="307"/>
                  </a:lnTo>
                  <a:lnTo>
                    <a:pt x="75" y="305"/>
                  </a:lnTo>
                  <a:lnTo>
                    <a:pt x="72" y="301"/>
                  </a:lnTo>
                  <a:lnTo>
                    <a:pt x="69" y="293"/>
                  </a:lnTo>
                  <a:lnTo>
                    <a:pt x="67" y="286"/>
                  </a:lnTo>
                  <a:lnTo>
                    <a:pt x="65" y="277"/>
                  </a:lnTo>
                  <a:lnTo>
                    <a:pt x="62" y="267"/>
                  </a:lnTo>
                  <a:lnTo>
                    <a:pt x="61" y="257"/>
                  </a:lnTo>
                  <a:lnTo>
                    <a:pt x="60" y="237"/>
                  </a:lnTo>
                  <a:lnTo>
                    <a:pt x="60" y="220"/>
                  </a:lnTo>
                  <a:close/>
                </a:path>
              </a:pathLst>
            </a:custGeom>
            <a:solidFill>
              <a:srgbClr val="a9d8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765840" y="2076480"/>
              <a:ext cx="38160" cy="81000"/>
            </a:xfrm>
            <a:custGeom>
              <a:avLst/>
              <a:gdLst/>
              <a:ahLst/>
              <a:rect l="l" t="t" r="r" b="b"/>
              <a:pathLst>
                <a:path w="121" h="253">
                  <a:moveTo>
                    <a:pt x="58" y="179"/>
                  </a:moveTo>
                  <a:lnTo>
                    <a:pt x="57" y="161"/>
                  </a:lnTo>
                  <a:lnTo>
                    <a:pt x="53" y="142"/>
                  </a:lnTo>
                  <a:lnTo>
                    <a:pt x="49" y="123"/>
                  </a:lnTo>
                  <a:lnTo>
                    <a:pt x="43" y="105"/>
                  </a:lnTo>
                  <a:lnTo>
                    <a:pt x="37" y="88"/>
                  </a:lnTo>
                  <a:lnTo>
                    <a:pt x="29" y="72"/>
                  </a:lnTo>
                  <a:lnTo>
                    <a:pt x="22" y="59"/>
                  </a:lnTo>
                  <a:lnTo>
                    <a:pt x="14" y="51"/>
                  </a:lnTo>
                  <a:lnTo>
                    <a:pt x="9" y="42"/>
                  </a:lnTo>
                  <a:lnTo>
                    <a:pt x="3" y="34"/>
                  </a:lnTo>
                  <a:lnTo>
                    <a:pt x="1" y="25"/>
                  </a:lnTo>
                  <a:lnTo>
                    <a:pt x="0" y="16"/>
                  </a:lnTo>
                  <a:lnTo>
                    <a:pt x="0" y="13"/>
                  </a:lnTo>
                  <a:lnTo>
                    <a:pt x="2" y="9"/>
                  </a:lnTo>
                  <a:lnTo>
                    <a:pt x="3" y="7"/>
                  </a:lnTo>
                  <a:lnTo>
                    <a:pt x="6" y="3"/>
                  </a:lnTo>
                  <a:lnTo>
                    <a:pt x="10" y="2"/>
                  </a:lnTo>
                  <a:lnTo>
                    <a:pt x="15" y="1"/>
                  </a:lnTo>
                  <a:lnTo>
                    <a:pt x="20" y="0"/>
                  </a:lnTo>
                  <a:lnTo>
                    <a:pt x="27" y="1"/>
                  </a:lnTo>
                  <a:lnTo>
                    <a:pt x="41" y="2"/>
                  </a:lnTo>
                  <a:lnTo>
                    <a:pt x="55" y="3"/>
                  </a:lnTo>
                  <a:lnTo>
                    <a:pt x="67" y="5"/>
                  </a:lnTo>
                  <a:lnTo>
                    <a:pt x="79" y="8"/>
                  </a:lnTo>
                  <a:lnTo>
                    <a:pt x="83" y="9"/>
                  </a:lnTo>
                  <a:lnTo>
                    <a:pt x="89" y="11"/>
                  </a:lnTo>
                  <a:lnTo>
                    <a:pt x="93" y="13"/>
                  </a:lnTo>
                  <a:lnTo>
                    <a:pt x="97" y="16"/>
                  </a:lnTo>
                  <a:lnTo>
                    <a:pt x="100" y="20"/>
                  </a:lnTo>
                  <a:lnTo>
                    <a:pt x="104" y="24"/>
                  </a:lnTo>
                  <a:lnTo>
                    <a:pt x="106" y="29"/>
                  </a:lnTo>
                  <a:lnTo>
                    <a:pt x="108" y="36"/>
                  </a:lnTo>
                  <a:lnTo>
                    <a:pt x="112" y="52"/>
                  </a:lnTo>
                  <a:lnTo>
                    <a:pt x="117" y="74"/>
                  </a:lnTo>
                  <a:lnTo>
                    <a:pt x="120" y="98"/>
                  </a:lnTo>
                  <a:lnTo>
                    <a:pt x="121" y="125"/>
                  </a:lnTo>
                  <a:lnTo>
                    <a:pt x="121" y="139"/>
                  </a:lnTo>
                  <a:lnTo>
                    <a:pt x="120" y="153"/>
                  </a:lnTo>
                  <a:lnTo>
                    <a:pt x="119" y="169"/>
                  </a:lnTo>
                  <a:lnTo>
                    <a:pt x="116" y="183"/>
                  </a:lnTo>
                  <a:lnTo>
                    <a:pt x="113" y="197"/>
                  </a:lnTo>
                  <a:lnTo>
                    <a:pt x="109" y="211"/>
                  </a:lnTo>
                  <a:lnTo>
                    <a:pt x="104" y="224"/>
                  </a:lnTo>
                  <a:lnTo>
                    <a:pt x="98" y="236"/>
                  </a:lnTo>
                  <a:lnTo>
                    <a:pt x="93" y="244"/>
                  </a:lnTo>
                  <a:lnTo>
                    <a:pt x="87" y="248"/>
                  </a:lnTo>
                  <a:lnTo>
                    <a:pt x="82" y="252"/>
                  </a:lnTo>
                  <a:lnTo>
                    <a:pt x="79" y="253"/>
                  </a:lnTo>
                  <a:lnTo>
                    <a:pt x="75" y="252"/>
                  </a:lnTo>
                  <a:lnTo>
                    <a:pt x="71" y="248"/>
                  </a:lnTo>
                  <a:lnTo>
                    <a:pt x="69" y="244"/>
                  </a:lnTo>
                  <a:lnTo>
                    <a:pt x="66" y="239"/>
                  </a:lnTo>
                  <a:lnTo>
                    <a:pt x="63" y="225"/>
                  </a:lnTo>
                  <a:lnTo>
                    <a:pt x="60" y="210"/>
                  </a:lnTo>
                  <a:lnTo>
                    <a:pt x="59" y="193"/>
                  </a:lnTo>
                  <a:lnTo>
                    <a:pt x="58" y="179"/>
                  </a:lnTo>
                  <a:close/>
                </a:path>
              </a:pathLst>
            </a:custGeom>
            <a:solidFill>
              <a:srgbClr val="b4dd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770520" y="2078280"/>
              <a:ext cx="30240" cy="63360"/>
            </a:xfrm>
            <a:custGeom>
              <a:avLst/>
              <a:gdLst/>
              <a:ahLst/>
              <a:rect l="l" t="t" r="r" b="b"/>
              <a:pathLst>
                <a:path w="98" h="196">
                  <a:moveTo>
                    <a:pt x="56" y="140"/>
                  </a:moveTo>
                  <a:lnTo>
                    <a:pt x="53" y="126"/>
                  </a:lnTo>
                  <a:lnTo>
                    <a:pt x="49" y="112"/>
                  </a:lnTo>
                  <a:lnTo>
                    <a:pt x="43" y="97"/>
                  </a:lnTo>
                  <a:lnTo>
                    <a:pt x="38" y="83"/>
                  </a:lnTo>
                  <a:lnTo>
                    <a:pt x="30" y="70"/>
                  </a:lnTo>
                  <a:lnTo>
                    <a:pt x="24" y="58"/>
                  </a:lnTo>
                  <a:lnTo>
                    <a:pt x="17" y="48"/>
                  </a:lnTo>
                  <a:lnTo>
                    <a:pt x="12" y="40"/>
                  </a:lnTo>
                  <a:lnTo>
                    <a:pt x="7" y="34"/>
                  </a:lnTo>
                  <a:lnTo>
                    <a:pt x="2" y="27"/>
                  </a:lnTo>
                  <a:lnTo>
                    <a:pt x="0" y="21"/>
                  </a:lnTo>
                  <a:lnTo>
                    <a:pt x="0" y="15"/>
                  </a:lnTo>
                  <a:lnTo>
                    <a:pt x="0" y="11"/>
                  </a:lnTo>
                  <a:lnTo>
                    <a:pt x="1" y="8"/>
                  </a:lnTo>
                  <a:lnTo>
                    <a:pt x="3" y="6"/>
                  </a:lnTo>
                  <a:lnTo>
                    <a:pt x="5" y="4"/>
                  </a:lnTo>
                  <a:lnTo>
                    <a:pt x="8" y="3"/>
                  </a:lnTo>
                  <a:lnTo>
                    <a:pt x="12" y="2"/>
                  </a:lnTo>
                  <a:lnTo>
                    <a:pt x="16" y="0"/>
                  </a:lnTo>
                  <a:lnTo>
                    <a:pt x="22" y="0"/>
                  </a:lnTo>
                  <a:lnTo>
                    <a:pt x="32" y="3"/>
                  </a:lnTo>
                  <a:lnTo>
                    <a:pt x="42" y="4"/>
                  </a:lnTo>
                  <a:lnTo>
                    <a:pt x="51" y="5"/>
                  </a:lnTo>
                  <a:lnTo>
                    <a:pt x="60" y="7"/>
                  </a:lnTo>
                  <a:lnTo>
                    <a:pt x="67" y="10"/>
                  </a:lnTo>
                  <a:lnTo>
                    <a:pt x="74" y="16"/>
                  </a:lnTo>
                  <a:lnTo>
                    <a:pt x="77" y="18"/>
                  </a:lnTo>
                  <a:lnTo>
                    <a:pt x="79" y="22"/>
                  </a:lnTo>
                  <a:lnTo>
                    <a:pt x="81" y="25"/>
                  </a:lnTo>
                  <a:lnTo>
                    <a:pt x="83" y="31"/>
                  </a:lnTo>
                  <a:lnTo>
                    <a:pt x="88" y="43"/>
                  </a:lnTo>
                  <a:lnTo>
                    <a:pt x="92" y="59"/>
                  </a:lnTo>
                  <a:lnTo>
                    <a:pt x="95" y="78"/>
                  </a:lnTo>
                  <a:lnTo>
                    <a:pt x="97" y="99"/>
                  </a:lnTo>
                  <a:lnTo>
                    <a:pt x="98" y="121"/>
                  </a:lnTo>
                  <a:lnTo>
                    <a:pt x="96" y="144"/>
                  </a:lnTo>
                  <a:lnTo>
                    <a:pt x="95" y="155"/>
                  </a:lnTo>
                  <a:lnTo>
                    <a:pt x="92" y="166"/>
                  </a:lnTo>
                  <a:lnTo>
                    <a:pt x="90" y="177"/>
                  </a:lnTo>
                  <a:lnTo>
                    <a:pt x="85" y="186"/>
                  </a:lnTo>
                  <a:lnTo>
                    <a:pt x="82" y="192"/>
                  </a:lnTo>
                  <a:lnTo>
                    <a:pt x="80" y="195"/>
                  </a:lnTo>
                  <a:lnTo>
                    <a:pt x="77" y="196"/>
                  </a:lnTo>
                  <a:lnTo>
                    <a:pt x="74" y="196"/>
                  </a:lnTo>
                  <a:lnTo>
                    <a:pt x="71" y="195"/>
                  </a:lnTo>
                  <a:lnTo>
                    <a:pt x="69" y="193"/>
                  </a:lnTo>
                  <a:lnTo>
                    <a:pt x="67" y="189"/>
                  </a:lnTo>
                  <a:lnTo>
                    <a:pt x="65" y="185"/>
                  </a:lnTo>
                  <a:lnTo>
                    <a:pt x="62" y="174"/>
                  </a:lnTo>
                  <a:lnTo>
                    <a:pt x="60" y="162"/>
                  </a:lnTo>
                  <a:lnTo>
                    <a:pt x="57" y="151"/>
                  </a:lnTo>
                  <a:lnTo>
                    <a:pt x="56" y="140"/>
                  </a:lnTo>
                  <a:close/>
                </a:path>
              </a:pathLst>
            </a:custGeom>
            <a:solidFill>
              <a:srgbClr val="c0e2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775560" y="2081160"/>
              <a:ext cx="23760" cy="42840"/>
            </a:xfrm>
            <a:custGeom>
              <a:avLst/>
              <a:gdLst/>
              <a:ahLst/>
              <a:rect l="l" t="t" r="r" b="b"/>
              <a:pathLst>
                <a:path w="77" h="136">
                  <a:moveTo>
                    <a:pt x="53" y="97"/>
                  </a:moveTo>
                  <a:lnTo>
                    <a:pt x="50" y="88"/>
                  </a:lnTo>
                  <a:lnTo>
                    <a:pt x="46" y="77"/>
                  </a:lnTo>
                  <a:lnTo>
                    <a:pt x="40" y="67"/>
                  </a:lnTo>
                  <a:lnTo>
                    <a:pt x="33" y="56"/>
                  </a:lnTo>
                  <a:lnTo>
                    <a:pt x="26" y="48"/>
                  </a:lnTo>
                  <a:lnTo>
                    <a:pt x="20" y="39"/>
                  </a:lnTo>
                  <a:lnTo>
                    <a:pt x="13" y="32"/>
                  </a:lnTo>
                  <a:lnTo>
                    <a:pt x="9" y="27"/>
                  </a:lnTo>
                  <a:lnTo>
                    <a:pt x="6" y="24"/>
                  </a:lnTo>
                  <a:lnTo>
                    <a:pt x="2" y="18"/>
                  </a:lnTo>
                  <a:lnTo>
                    <a:pt x="1" y="14"/>
                  </a:lnTo>
                  <a:lnTo>
                    <a:pt x="0" y="10"/>
                  </a:lnTo>
                  <a:lnTo>
                    <a:pt x="1" y="5"/>
                  </a:lnTo>
                  <a:lnTo>
                    <a:pt x="3" y="2"/>
                  </a:lnTo>
                  <a:lnTo>
                    <a:pt x="8" y="0"/>
                  </a:lnTo>
                  <a:lnTo>
                    <a:pt x="14" y="0"/>
                  </a:lnTo>
                  <a:lnTo>
                    <a:pt x="22" y="1"/>
                  </a:lnTo>
                  <a:lnTo>
                    <a:pt x="28" y="2"/>
                  </a:lnTo>
                  <a:lnTo>
                    <a:pt x="35" y="3"/>
                  </a:lnTo>
                  <a:lnTo>
                    <a:pt x="40" y="4"/>
                  </a:lnTo>
                  <a:lnTo>
                    <a:pt x="46" y="7"/>
                  </a:lnTo>
                  <a:lnTo>
                    <a:pt x="50" y="10"/>
                  </a:lnTo>
                  <a:lnTo>
                    <a:pt x="54" y="14"/>
                  </a:lnTo>
                  <a:lnTo>
                    <a:pt x="59" y="21"/>
                  </a:lnTo>
                  <a:lnTo>
                    <a:pt x="63" y="29"/>
                  </a:lnTo>
                  <a:lnTo>
                    <a:pt x="67" y="41"/>
                  </a:lnTo>
                  <a:lnTo>
                    <a:pt x="72" y="54"/>
                  </a:lnTo>
                  <a:lnTo>
                    <a:pt x="74" y="69"/>
                  </a:lnTo>
                  <a:lnTo>
                    <a:pt x="76" y="85"/>
                  </a:lnTo>
                  <a:lnTo>
                    <a:pt x="77" y="102"/>
                  </a:lnTo>
                  <a:lnTo>
                    <a:pt x="76" y="117"/>
                  </a:lnTo>
                  <a:lnTo>
                    <a:pt x="74" y="132"/>
                  </a:lnTo>
                  <a:lnTo>
                    <a:pt x="73" y="134"/>
                  </a:lnTo>
                  <a:lnTo>
                    <a:pt x="72" y="136"/>
                  </a:lnTo>
                  <a:lnTo>
                    <a:pt x="69" y="136"/>
                  </a:lnTo>
                  <a:lnTo>
                    <a:pt x="68" y="136"/>
                  </a:lnTo>
                  <a:lnTo>
                    <a:pt x="66" y="133"/>
                  </a:lnTo>
                  <a:lnTo>
                    <a:pt x="63" y="127"/>
                  </a:lnTo>
                  <a:lnTo>
                    <a:pt x="61" y="121"/>
                  </a:lnTo>
                  <a:lnTo>
                    <a:pt x="57" y="112"/>
                  </a:lnTo>
                  <a:lnTo>
                    <a:pt x="55" y="105"/>
                  </a:lnTo>
                  <a:lnTo>
                    <a:pt x="53" y="97"/>
                  </a:lnTo>
                  <a:close/>
                </a:path>
              </a:pathLst>
            </a:custGeom>
            <a:solidFill>
              <a:srgbClr val="cce7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649920" y="2060640"/>
              <a:ext cx="166680" cy="20520"/>
            </a:xfrm>
            <a:custGeom>
              <a:avLst/>
              <a:gdLst/>
              <a:ahLst/>
              <a:rect l="l" t="t" r="r" b="b"/>
              <a:pathLst>
                <a:path w="524" h="64">
                  <a:moveTo>
                    <a:pt x="524" y="41"/>
                  </a:moveTo>
                  <a:lnTo>
                    <a:pt x="524" y="40"/>
                  </a:lnTo>
                  <a:lnTo>
                    <a:pt x="524" y="38"/>
                  </a:lnTo>
                  <a:lnTo>
                    <a:pt x="524" y="36"/>
                  </a:lnTo>
                  <a:lnTo>
                    <a:pt x="524" y="34"/>
                  </a:lnTo>
                  <a:lnTo>
                    <a:pt x="524" y="33"/>
                  </a:lnTo>
                  <a:lnTo>
                    <a:pt x="524" y="30"/>
                  </a:lnTo>
                  <a:lnTo>
                    <a:pt x="524" y="28"/>
                  </a:lnTo>
                  <a:lnTo>
                    <a:pt x="524" y="27"/>
                  </a:lnTo>
                  <a:lnTo>
                    <a:pt x="512" y="24"/>
                  </a:lnTo>
                  <a:lnTo>
                    <a:pt x="479" y="19"/>
                  </a:lnTo>
                  <a:lnTo>
                    <a:pt x="454" y="15"/>
                  </a:lnTo>
                  <a:lnTo>
                    <a:pt x="426" y="12"/>
                  </a:lnTo>
                  <a:lnTo>
                    <a:pt x="393" y="8"/>
                  </a:lnTo>
                  <a:lnTo>
                    <a:pt x="358" y="4"/>
                  </a:lnTo>
                  <a:lnTo>
                    <a:pt x="319" y="2"/>
                  </a:lnTo>
                  <a:lnTo>
                    <a:pt x="278" y="0"/>
                  </a:lnTo>
                  <a:lnTo>
                    <a:pt x="234" y="0"/>
                  </a:lnTo>
                  <a:lnTo>
                    <a:pt x="189" y="0"/>
                  </a:lnTo>
                  <a:lnTo>
                    <a:pt x="144" y="3"/>
                  </a:lnTo>
                  <a:lnTo>
                    <a:pt x="96" y="7"/>
                  </a:lnTo>
                  <a:lnTo>
                    <a:pt x="72" y="10"/>
                  </a:lnTo>
                  <a:lnTo>
                    <a:pt x="49" y="13"/>
                  </a:lnTo>
                  <a:lnTo>
                    <a:pt x="24" y="17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23"/>
                  </a:lnTo>
                  <a:lnTo>
                    <a:pt x="0" y="25"/>
                  </a:lnTo>
                  <a:lnTo>
                    <a:pt x="0" y="27"/>
                  </a:lnTo>
                  <a:lnTo>
                    <a:pt x="0" y="29"/>
                  </a:lnTo>
                  <a:lnTo>
                    <a:pt x="0" y="33"/>
                  </a:lnTo>
                  <a:lnTo>
                    <a:pt x="0" y="36"/>
                  </a:lnTo>
                  <a:lnTo>
                    <a:pt x="0" y="39"/>
                  </a:lnTo>
                  <a:lnTo>
                    <a:pt x="3" y="40"/>
                  </a:lnTo>
                  <a:lnTo>
                    <a:pt x="14" y="42"/>
                  </a:lnTo>
                  <a:lnTo>
                    <a:pt x="32" y="47"/>
                  </a:lnTo>
                  <a:lnTo>
                    <a:pt x="58" y="51"/>
                  </a:lnTo>
                  <a:lnTo>
                    <a:pt x="93" y="55"/>
                  </a:lnTo>
                  <a:lnTo>
                    <a:pt x="138" y="58"/>
                  </a:lnTo>
                  <a:lnTo>
                    <a:pt x="192" y="62"/>
                  </a:lnTo>
                  <a:lnTo>
                    <a:pt x="257" y="64"/>
                  </a:lnTo>
                  <a:lnTo>
                    <a:pt x="323" y="64"/>
                  </a:lnTo>
                  <a:lnTo>
                    <a:pt x="378" y="62"/>
                  </a:lnTo>
                  <a:lnTo>
                    <a:pt x="425" y="57"/>
                  </a:lnTo>
                  <a:lnTo>
                    <a:pt x="461" y="54"/>
                  </a:lnTo>
                  <a:lnTo>
                    <a:pt x="489" y="49"/>
                  </a:lnTo>
                  <a:lnTo>
                    <a:pt x="509" y="46"/>
                  </a:lnTo>
                  <a:lnTo>
                    <a:pt x="521" y="42"/>
                  </a:lnTo>
                  <a:lnTo>
                    <a:pt x="524" y="41"/>
                  </a:lnTo>
                  <a:close/>
                </a:path>
              </a:pathLst>
            </a:custGeom>
            <a:solidFill>
              <a:srgbClr val="6ab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696000" y="1817640"/>
              <a:ext cx="34920" cy="193680"/>
            </a:xfrm>
            <a:custGeom>
              <a:avLst/>
              <a:gdLst/>
              <a:ahLst/>
              <a:rect l="l" t="t" r="r" b="b"/>
              <a:pathLst>
                <a:path w="111" h="608">
                  <a:moveTo>
                    <a:pt x="4" y="585"/>
                  </a:moveTo>
                  <a:lnTo>
                    <a:pt x="3" y="571"/>
                  </a:lnTo>
                  <a:lnTo>
                    <a:pt x="2" y="533"/>
                  </a:lnTo>
                  <a:lnTo>
                    <a:pt x="1" y="479"/>
                  </a:lnTo>
                  <a:lnTo>
                    <a:pt x="0" y="413"/>
                  </a:lnTo>
                  <a:lnTo>
                    <a:pt x="0" y="343"/>
                  </a:lnTo>
                  <a:lnTo>
                    <a:pt x="1" y="275"/>
                  </a:lnTo>
                  <a:lnTo>
                    <a:pt x="1" y="244"/>
                  </a:lnTo>
                  <a:lnTo>
                    <a:pt x="2" y="215"/>
                  </a:lnTo>
                  <a:lnTo>
                    <a:pt x="4" y="190"/>
                  </a:lnTo>
                  <a:lnTo>
                    <a:pt x="6" y="169"/>
                  </a:lnTo>
                  <a:lnTo>
                    <a:pt x="8" y="152"/>
                  </a:lnTo>
                  <a:lnTo>
                    <a:pt x="12" y="134"/>
                  </a:lnTo>
                  <a:lnTo>
                    <a:pt x="15" y="115"/>
                  </a:lnTo>
                  <a:lnTo>
                    <a:pt x="19" y="97"/>
                  </a:lnTo>
                  <a:lnTo>
                    <a:pt x="24" y="80"/>
                  </a:lnTo>
                  <a:lnTo>
                    <a:pt x="29" y="63"/>
                  </a:lnTo>
                  <a:lnTo>
                    <a:pt x="34" y="48"/>
                  </a:lnTo>
                  <a:lnTo>
                    <a:pt x="40" y="34"/>
                  </a:lnTo>
                  <a:lnTo>
                    <a:pt x="46" y="22"/>
                  </a:lnTo>
                  <a:lnTo>
                    <a:pt x="52" y="13"/>
                  </a:lnTo>
                  <a:lnTo>
                    <a:pt x="58" y="5"/>
                  </a:lnTo>
                  <a:lnTo>
                    <a:pt x="65" y="1"/>
                  </a:lnTo>
                  <a:lnTo>
                    <a:pt x="68" y="0"/>
                  </a:lnTo>
                  <a:lnTo>
                    <a:pt x="71" y="0"/>
                  </a:lnTo>
                  <a:lnTo>
                    <a:pt x="74" y="0"/>
                  </a:lnTo>
                  <a:lnTo>
                    <a:pt x="78" y="1"/>
                  </a:lnTo>
                  <a:lnTo>
                    <a:pt x="81" y="3"/>
                  </a:lnTo>
                  <a:lnTo>
                    <a:pt x="84" y="6"/>
                  </a:lnTo>
                  <a:lnTo>
                    <a:pt x="87" y="10"/>
                  </a:lnTo>
                  <a:lnTo>
                    <a:pt x="91" y="16"/>
                  </a:lnTo>
                  <a:lnTo>
                    <a:pt x="94" y="24"/>
                  </a:lnTo>
                  <a:lnTo>
                    <a:pt x="97" y="37"/>
                  </a:lnTo>
                  <a:lnTo>
                    <a:pt x="101" y="54"/>
                  </a:lnTo>
                  <a:lnTo>
                    <a:pt x="105" y="74"/>
                  </a:lnTo>
                  <a:lnTo>
                    <a:pt x="108" y="97"/>
                  </a:lnTo>
                  <a:lnTo>
                    <a:pt x="110" y="123"/>
                  </a:lnTo>
                  <a:lnTo>
                    <a:pt x="111" y="151"/>
                  </a:lnTo>
                  <a:lnTo>
                    <a:pt x="110" y="182"/>
                  </a:lnTo>
                  <a:lnTo>
                    <a:pt x="107" y="235"/>
                  </a:lnTo>
                  <a:lnTo>
                    <a:pt x="101" y="287"/>
                  </a:lnTo>
                  <a:lnTo>
                    <a:pt x="96" y="335"/>
                  </a:lnTo>
                  <a:lnTo>
                    <a:pt x="91" y="381"/>
                  </a:lnTo>
                  <a:lnTo>
                    <a:pt x="84" y="423"/>
                  </a:lnTo>
                  <a:lnTo>
                    <a:pt x="77" y="462"/>
                  </a:lnTo>
                  <a:lnTo>
                    <a:pt x="69" y="497"/>
                  </a:lnTo>
                  <a:lnTo>
                    <a:pt x="61" y="528"/>
                  </a:lnTo>
                  <a:lnTo>
                    <a:pt x="54" y="554"/>
                  </a:lnTo>
                  <a:lnTo>
                    <a:pt x="46" y="575"/>
                  </a:lnTo>
                  <a:lnTo>
                    <a:pt x="42" y="584"/>
                  </a:lnTo>
                  <a:lnTo>
                    <a:pt x="38" y="591"/>
                  </a:lnTo>
                  <a:lnTo>
                    <a:pt x="34" y="598"/>
                  </a:lnTo>
                  <a:lnTo>
                    <a:pt x="30" y="602"/>
                  </a:lnTo>
                  <a:lnTo>
                    <a:pt x="27" y="605"/>
                  </a:lnTo>
                  <a:lnTo>
                    <a:pt x="23" y="608"/>
                  </a:lnTo>
                  <a:lnTo>
                    <a:pt x="19" y="608"/>
                  </a:lnTo>
                  <a:lnTo>
                    <a:pt x="16" y="607"/>
                  </a:lnTo>
                  <a:lnTo>
                    <a:pt x="13" y="603"/>
                  </a:lnTo>
                  <a:lnTo>
                    <a:pt x="10" y="599"/>
                  </a:lnTo>
                  <a:lnTo>
                    <a:pt x="6" y="593"/>
                  </a:lnTo>
                  <a:lnTo>
                    <a:pt x="4" y="585"/>
                  </a:lnTo>
                  <a:close/>
                </a:path>
              </a:pathLst>
            </a:custGeom>
            <a:solidFill>
              <a:srgbClr val="cbd4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699240" y="1819440"/>
              <a:ext cx="30240" cy="169920"/>
            </a:xfrm>
            <a:custGeom>
              <a:avLst/>
              <a:gdLst/>
              <a:ahLst/>
              <a:rect l="l" t="t" r="r" b="b"/>
              <a:pathLst>
                <a:path w="98" h="532">
                  <a:moveTo>
                    <a:pt x="3" y="513"/>
                  </a:moveTo>
                  <a:lnTo>
                    <a:pt x="3" y="501"/>
                  </a:lnTo>
                  <a:lnTo>
                    <a:pt x="2" y="468"/>
                  </a:lnTo>
                  <a:lnTo>
                    <a:pt x="2" y="420"/>
                  </a:lnTo>
                  <a:lnTo>
                    <a:pt x="0" y="363"/>
                  </a:lnTo>
                  <a:lnTo>
                    <a:pt x="0" y="301"/>
                  </a:lnTo>
                  <a:lnTo>
                    <a:pt x="0" y="242"/>
                  </a:lnTo>
                  <a:lnTo>
                    <a:pt x="3" y="189"/>
                  </a:lnTo>
                  <a:lnTo>
                    <a:pt x="6" y="149"/>
                  </a:lnTo>
                  <a:lnTo>
                    <a:pt x="10" y="118"/>
                  </a:lnTo>
                  <a:lnTo>
                    <a:pt x="18" y="85"/>
                  </a:lnTo>
                  <a:lnTo>
                    <a:pt x="22" y="70"/>
                  </a:lnTo>
                  <a:lnTo>
                    <a:pt x="26" y="55"/>
                  </a:lnTo>
                  <a:lnTo>
                    <a:pt x="31" y="42"/>
                  </a:lnTo>
                  <a:lnTo>
                    <a:pt x="36" y="30"/>
                  </a:lnTo>
                  <a:lnTo>
                    <a:pt x="42" y="19"/>
                  </a:lnTo>
                  <a:lnTo>
                    <a:pt x="47" y="11"/>
                  </a:lnTo>
                  <a:lnTo>
                    <a:pt x="52" y="5"/>
                  </a:lnTo>
                  <a:lnTo>
                    <a:pt x="58" y="1"/>
                  </a:lnTo>
                  <a:lnTo>
                    <a:pt x="61" y="0"/>
                  </a:lnTo>
                  <a:lnTo>
                    <a:pt x="63" y="0"/>
                  </a:lnTo>
                  <a:lnTo>
                    <a:pt x="66" y="1"/>
                  </a:lnTo>
                  <a:lnTo>
                    <a:pt x="70" y="2"/>
                  </a:lnTo>
                  <a:lnTo>
                    <a:pt x="72" y="4"/>
                  </a:lnTo>
                  <a:lnTo>
                    <a:pt x="75" y="8"/>
                  </a:lnTo>
                  <a:lnTo>
                    <a:pt x="77" y="11"/>
                  </a:lnTo>
                  <a:lnTo>
                    <a:pt x="79" y="16"/>
                  </a:lnTo>
                  <a:lnTo>
                    <a:pt x="83" y="23"/>
                  </a:lnTo>
                  <a:lnTo>
                    <a:pt x="86" y="33"/>
                  </a:lnTo>
                  <a:lnTo>
                    <a:pt x="90" y="48"/>
                  </a:lnTo>
                  <a:lnTo>
                    <a:pt x="93" y="65"/>
                  </a:lnTo>
                  <a:lnTo>
                    <a:pt x="96" y="85"/>
                  </a:lnTo>
                  <a:lnTo>
                    <a:pt x="98" y="108"/>
                  </a:lnTo>
                  <a:lnTo>
                    <a:pt x="98" y="134"/>
                  </a:lnTo>
                  <a:lnTo>
                    <a:pt x="97" y="162"/>
                  </a:lnTo>
                  <a:lnTo>
                    <a:pt x="93" y="207"/>
                  </a:lnTo>
                  <a:lnTo>
                    <a:pt x="90" y="252"/>
                  </a:lnTo>
                  <a:lnTo>
                    <a:pt x="85" y="294"/>
                  </a:lnTo>
                  <a:lnTo>
                    <a:pt x="80" y="334"/>
                  </a:lnTo>
                  <a:lnTo>
                    <a:pt x="74" y="370"/>
                  </a:lnTo>
                  <a:lnTo>
                    <a:pt x="67" y="404"/>
                  </a:lnTo>
                  <a:lnTo>
                    <a:pt x="61" y="434"/>
                  </a:lnTo>
                  <a:lnTo>
                    <a:pt x="54" y="461"/>
                  </a:lnTo>
                  <a:lnTo>
                    <a:pt x="48" y="485"/>
                  </a:lnTo>
                  <a:lnTo>
                    <a:pt x="40" y="503"/>
                  </a:lnTo>
                  <a:lnTo>
                    <a:pt x="37" y="511"/>
                  </a:lnTo>
                  <a:lnTo>
                    <a:pt x="34" y="518"/>
                  </a:lnTo>
                  <a:lnTo>
                    <a:pt x="31" y="524"/>
                  </a:lnTo>
                  <a:lnTo>
                    <a:pt x="27" y="527"/>
                  </a:lnTo>
                  <a:lnTo>
                    <a:pt x="24" y="530"/>
                  </a:lnTo>
                  <a:lnTo>
                    <a:pt x="21" y="532"/>
                  </a:lnTo>
                  <a:lnTo>
                    <a:pt x="18" y="532"/>
                  </a:lnTo>
                  <a:lnTo>
                    <a:pt x="15" y="531"/>
                  </a:lnTo>
                  <a:lnTo>
                    <a:pt x="11" y="529"/>
                  </a:lnTo>
                  <a:lnTo>
                    <a:pt x="8" y="525"/>
                  </a:lnTo>
                  <a:lnTo>
                    <a:pt x="6" y="519"/>
                  </a:lnTo>
                  <a:lnTo>
                    <a:pt x="3" y="513"/>
                  </a:lnTo>
                  <a:close/>
                </a:path>
              </a:pathLst>
            </a:custGeom>
            <a:solidFill>
              <a:srgbClr val="c4ce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700680" y="1820880"/>
              <a:ext cx="27000" cy="146160"/>
            </a:xfrm>
            <a:custGeom>
              <a:avLst/>
              <a:gdLst/>
              <a:ahLst/>
              <a:rect l="l" t="t" r="r" b="b"/>
              <a:pathLst>
                <a:path w="85" h="459">
                  <a:moveTo>
                    <a:pt x="2" y="443"/>
                  </a:moveTo>
                  <a:lnTo>
                    <a:pt x="2" y="433"/>
                  </a:lnTo>
                  <a:lnTo>
                    <a:pt x="1" y="405"/>
                  </a:lnTo>
                  <a:lnTo>
                    <a:pt x="1" y="364"/>
                  </a:lnTo>
                  <a:lnTo>
                    <a:pt x="0" y="315"/>
                  </a:lnTo>
                  <a:lnTo>
                    <a:pt x="0" y="262"/>
                  </a:lnTo>
                  <a:lnTo>
                    <a:pt x="0" y="210"/>
                  </a:lnTo>
                  <a:lnTo>
                    <a:pt x="2" y="165"/>
                  </a:lnTo>
                  <a:lnTo>
                    <a:pt x="5" y="130"/>
                  </a:lnTo>
                  <a:lnTo>
                    <a:pt x="9" y="102"/>
                  </a:lnTo>
                  <a:lnTo>
                    <a:pt x="15" y="75"/>
                  </a:lnTo>
                  <a:lnTo>
                    <a:pt x="18" y="62"/>
                  </a:lnTo>
                  <a:lnTo>
                    <a:pt x="22" y="49"/>
                  </a:lnTo>
                  <a:lnTo>
                    <a:pt x="26" y="37"/>
                  </a:lnTo>
                  <a:lnTo>
                    <a:pt x="30" y="27"/>
                  </a:lnTo>
                  <a:lnTo>
                    <a:pt x="36" y="18"/>
                  </a:lnTo>
                  <a:lnTo>
                    <a:pt x="40" y="11"/>
                  </a:lnTo>
                  <a:lnTo>
                    <a:pt x="45" y="5"/>
                  </a:lnTo>
                  <a:lnTo>
                    <a:pt x="50" y="1"/>
                  </a:lnTo>
                  <a:lnTo>
                    <a:pt x="52" y="0"/>
                  </a:lnTo>
                  <a:lnTo>
                    <a:pt x="55" y="0"/>
                  </a:lnTo>
                  <a:lnTo>
                    <a:pt x="57" y="1"/>
                  </a:lnTo>
                  <a:lnTo>
                    <a:pt x="59" y="3"/>
                  </a:lnTo>
                  <a:lnTo>
                    <a:pt x="65" y="6"/>
                  </a:lnTo>
                  <a:lnTo>
                    <a:pt x="69" y="13"/>
                  </a:lnTo>
                  <a:lnTo>
                    <a:pt x="71" y="20"/>
                  </a:lnTo>
                  <a:lnTo>
                    <a:pt x="75" y="30"/>
                  </a:lnTo>
                  <a:lnTo>
                    <a:pt x="78" y="41"/>
                  </a:lnTo>
                  <a:lnTo>
                    <a:pt x="80" y="57"/>
                  </a:lnTo>
                  <a:lnTo>
                    <a:pt x="83" y="75"/>
                  </a:lnTo>
                  <a:lnTo>
                    <a:pt x="84" y="94"/>
                  </a:lnTo>
                  <a:lnTo>
                    <a:pt x="85" y="116"/>
                  </a:lnTo>
                  <a:lnTo>
                    <a:pt x="84" y="140"/>
                  </a:lnTo>
                  <a:lnTo>
                    <a:pt x="81" y="179"/>
                  </a:lnTo>
                  <a:lnTo>
                    <a:pt x="78" y="216"/>
                  </a:lnTo>
                  <a:lnTo>
                    <a:pt x="75" y="252"/>
                  </a:lnTo>
                  <a:lnTo>
                    <a:pt x="69" y="287"/>
                  </a:lnTo>
                  <a:lnTo>
                    <a:pt x="65" y="318"/>
                  </a:lnTo>
                  <a:lnTo>
                    <a:pt x="59" y="347"/>
                  </a:lnTo>
                  <a:lnTo>
                    <a:pt x="54" y="373"/>
                  </a:lnTo>
                  <a:lnTo>
                    <a:pt x="48" y="397"/>
                  </a:lnTo>
                  <a:lnTo>
                    <a:pt x="42" y="416"/>
                  </a:lnTo>
                  <a:lnTo>
                    <a:pt x="36" y="432"/>
                  </a:lnTo>
                  <a:lnTo>
                    <a:pt x="30" y="445"/>
                  </a:lnTo>
                  <a:lnTo>
                    <a:pt x="24" y="454"/>
                  </a:lnTo>
                  <a:lnTo>
                    <a:pt x="21" y="457"/>
                  </a:lnTo>
                  <a:lnTo>
                    <a:pt x="18" y="458"/>
                  </a:lnTo>
                  <a:lnTo>
                    <a:pt x="15" y="459"/>
                  </a:lnTo>
                  <a:lnTo>
                    <a:pt x="13" y="458"/>
                  </a:lnTo>
                  <a:lnTo>
                    <a:pt x="10" y="456"/>
                  </a:lnTo>
                  <a:lnTo>
                    <a:pt x="8" y="454"/>
                  </a:lnTo>
                  <a:lnTo>
                    <a:pt x="4" y="450"/>
                  </a:lnTo>
                  <a:lnTo>
                    <a:pt x="2" y="443"/>
                  </a:lnTo>
                  <a:close/>
                </a:path>
              </a:pathLst>
            </a:custGeom>
            <a:solidFill>
              <a:srgbClr val="c2cc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703920" y="1824120"/>
              <a:ext cx="22320" cy="120600"/>
            </a:xfrm>
            <a:custGeom>
              <a:avLst/>
              <a:gdLst/>
              <a:ahLst/>
              <a:rect l="l" t="t" r="r" b="b"/>
              <a:pathLst>
                <a:path w="71" h="381">
                  <a:moveTo>
                    <a:pt x="1" y="369"/>
                  </a:moveTo>
                  <a:lnTo>
                    <a:pt x="1" y="360"/>
                  </a:lnTo>
                  <a:lnTo>
                    <a:pt x="1" y="337"/>
                  </a:lnTo>
                  <a:lnTo>
                    <a:pt x="0" y="302"/>
                  </a:lnTo>
                  <a:lnTo>
                    <a:pt x="0" y="261"/>
                  </a:lnTo>
                  <a:lnTo>
                    <a:pt x="0" y="217"/>
                  </a:lnTo>
                  <a:lnTo>
                    <a:pt x="0" y="175"/>
                  </a:lnTo>
                  <a:lnTo>
                    <a:pt x="1" y="137"/>
                  </a:lnTo>
                  <a:lnTo>
                    <a:pt x="3" y="109"/>
                  </a:lnTo>
                  <a:lnTo>
                    <a:pt x="7" y="85"/>
                  </a:lnTo>
                  <a:lnTo>
                    <a:pt x="13" y="63"/>
                  </a:lnTo>
                  <a:lnTo>
                    <a:pt x="19" y="40"/>
                  </a:lnTo>
                  <a:lnTo>
                    <a:pt x="26" y="22"/>
                  </a:lnTo>
                  <a:lnTo>
                    <a:pt x="30" y="14"/>
                  </a:lnTo>
                  <a:lnTo>
                    <a:pt x="34" y="8"/>
                  </a:lnTo>
                  <a:lnTo>
                    <a:pt x="37" y="3"/>
                  </a:lnTo>
                  <a:lnTo>
                    <a:pt x="42" y="1"/>
                  </a:lnTo>
                  <a:lnTo>
                    <a:pt x="46" y="0"/>
                  </a:lnTo>
                  <a:lnTo>
                    <a:pt x="50" y="1"/>
                  </a:lnTo>
                  <a:lnTo>
                    <a:pt x="54" y="4"/>
                  </a:lnTo>
                  <a:lnTo>
                    <a:pt x="58" y="11"/>
                  </a:lnTo>
                  <a:lnTo>
                    <a:pt x="60" y="16"/>
                  </a:lnTo>
                  <a:lnTo>
                    <a:pt x="62" y="24"/>
                  </a:lnTo>
                  <a:lnTo>
                    <a:pt x="64" y="35"/>
                  </a:lnTo>
                  <a:lnTo>
                    <a:pt x="67" y="46"/>
                  </a:lnTo>
                  <a:lnTo>
                    <a:pt x="69" y="62"/>
                  </a:lnTo>
                  <a:lnTo>
                    <a:pt x="70" y="79"/>
                  </a:lnTo>
                  <a:lnTo>
                    <a:pt x="71" y="97"/>
                  </a:lnTo>
                  <a:lnTo>
                    <a:pt x="70" y="117"/>
                  </a:lnTo>
                  <a:lnTo>
                    <a:pt x="68" y="148"/>
                  </a:lnTo>
                  <a:lnTo>
                    <a:pt x="66" y="179"/>
                  </a:lnTo>
                  <a:lnTo>
                    <a:pt x="62" y="208"/>
                  </a:lnTo>
                  <a:lnTo>
                    <a:pt x="58" y="235"/>
                  </a:lnTo>
                  <a:lnTo>
                    <a:pt x="54" y="261"/>
                  </a:lnTo>
                  <a:lnTo>
                    <a:pt x="49" y="286"/>
                  </a:lnTo>
                  <a:lnTo>
                    <a:pt x="45" y="308"/>
                  </a:lnTo>
                  <a:lnTo>
                    <a:pt x="40" y="327"/>
                  </a:lnTo>
                  <a:lnTo>
                    <a:pt x="35" y="344"/>
                  </a:lnTo>
                  <a:lnTo>
                    <a:pt x="30" y="357"/>
                  </a:lnTo>
                  <a:lnTo>
                    <a:pt x="25" y="369"/>
                  </a:lnTo>
                  <a:lnTo>
                    <a:pt x="20" y="377"/>
                  </a:lnTo>
                  <a:lnTo>
                    <a:pt x="17" y="379"/>
                  </a:lnTo>
                  <a:lnTo>
                    <a:pt x="15" y="380"/>
                  </a:lnTo>
                  <a:lnTo>
                    <a:pt x="13" y="381"/>
                  </a:lnTo>
                  <a:lnTo>
                    <a:pt x="9" y="380"/>
                  </a:lnTo>
                  <a:lnTo>
                    <a:pt x="7" y="379"/>
                  </a:lnTo>
                  <a:lnTo>
                    <a:pt x="5" y="377"/>
                  </a:lnTo>
                  <a:lnTo>
                    <a:pt x="3" y="374"/>
                  </a:lnTo>
                  <a:lnTo>
                    <a:pt x="1" y="369"/>
                  </a:lnTo>
                  <a:close/>
                </a:path>
              </a:pathLst>
            </a:custGeom>
            <a:solidFill>
              <a:srgbClr val="b9c5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707160" y="1825560"/>
              <a:ext cx="17640" cy="96840"/>
            </a:xfrm>
            <a:custGeom>
              <a:avLst/>
              <a:gdLst/>
              <a:ahLst/>
              <a:rect l="l" t="t" r="r" b="b"/>
              <a:pathLst>
                <a:path w="59" h="307">
                  <a:moveTo>
                    <a:pt x="1" y="298"/>
                  </a:moveTo>
                  <a:lnTo>
                    <a:pt x="1" y="291"/>
                  </a:lnTo>
                  <a:lnTo>
                    <a:pt x="1" y="272"/>
                  </a:lnTo>
                  <a:lnTo>
                    <a:pt x="1" y="245"/>
                  </a:lnTo>
                  <a:lnTo>
                    <a:pt x="0" y="213"/>
                  </a:lnTo>
                  <a:lnTo>
                    <a:pt x="1" y="177"/>
                  </a:lnTo>
                  <a:lnTo>
                    <a:pt x="1" y="144"/>
                  </a:lnTo>
                  <a:lnTo>
                    <a:pt x="2" y="114"/>
                  </a:lnTo>
                  <a:lnTo>
                    <a:pt x="3" y="91"/>
                  </a:lnTo>
                  <a:lnTo>
                    <a:pt x="7" y="72"/>
                  </a:lnTo>
                  <a:lnTo>
                    <a:pt x="10" y="52"/>
                  </a:lnTo>
                  <a:lnTo>
                    <a:pt x="15" y="35"/>
                  </a:lnTo>
                  <a:lnTo>
                    <a:pt x="22" y="19"/>
                  </a:lnTo>
                  <a:lnTo>
                    <a:pt x="25" y="13"/>
                  </a:lnTo>
                  <a:lnTo>
                    <a:pt x="28" y="8"/>
                  </a:lnTo>
                  <a:lnTo>
                    <a:pt x="32" y="4"/>
                  </a:lnTo>
                  <a:lnTo>
                    <a:pt x="35" y="1"/>
                  </a:lnTo>
                  <a:lnTo>
                    <a:pt x="38" y="0"/>
                  </a:lnTo>
                  <a:lnTo>
                    <a:pt x="41" y="1"/>
                  </a:lnTo>
                  <a:lnTo>
                    <a:pt x="45" y="4"/>
                  </a:lnTo>
                  <a:lnTo>
                    <a:pt x="48" y="9"/>
                  </a:lnTo>
                  <a:lnTo>
                    <a:pt x="50" y="13"/>
                  </a:lnTo>
                  <a:lnTo>
                    <a:pt x="52" y="21"/>
                  </a:lnTo>
                  <a:lnTo>
                    <a:pt x="54" y="29"/>
                  </a:lnTo>
                  <a:lnTo>
                    <a:pt x="56" y="40"/>
                  </a:lnTo>
                  <a:lnTo>
                    <a:pt x="57" y="52"/>
                  </a:lnTo>
                  <a:lnTo>
                    <a:pt x="59" y="65"/>
                  </a:lnTo>
                  <a:lnTo>
                    <a:pt x="59" y="80"/>
                  </a:lnTo>
                  <a:lnTo>
                    <a:pt x="59" y="95"/>
                  </a:lnTo>
                  <a:lnTo>
                    <a:pt x="54" y="144"/>
                  </a:lnTo>
                  <a:lnTo>
                    <a:pt x="49" y="189"/>
                  </a:lnTo>
                  <a:lnTo>
                    <a:pt x="46" y="210"/>
                  </a:lnTo>
                  <a:lnTo>
                    <a:pt x="42" y="229"/>
                  </a:lnTo>
                  <a:lnTo>
                    <a:pt x="38" y="247"/>
                  </a:lnTo>
                  <a:lnTo>
                    <a:pt x="35" y="263"/>
                  </a:lnTo>
                  <a:lnTo>
                    <a:pt x="30" y="277"/>
                  </a:lnTo>
                  <a:lnTo>
                    <a:pt x="26" y="288"/>
                  </a:lnTo>
                  <a:lnTo>
                    <a:pt x="22" y="296"/>
                  </a:lnTo>
                  <a:lnTo>
                    <a:pt x="18" y="303"/>
                  </a:lnTo>
                  <a:lnTo>
                    <a:pt x="15" y="305"/>
                  </a:lnTo>
                  <a:lnTo>
                    <a:pt x="13" y="307"/>
                  </a:lnTo>
                  <a:lnTo>
                    <a:pt x="11" y="307"/>
                  </a:lnTo>
                  <a:lnTo>
                    <a:pt x="9" y="307"/>
                  </a:lnTo>
                  <a:lnTo>
                    <a:pt x="7" y="306"/>
                  </a:lnTo>
                  <a:lnTo>
                    <a:pt x="6" y="304"/>
                  </a:lnTo>
                  <a:lnTo>
                    <a:pt x="3" y="302"/>
                  </a:lnTo>
                  <a:lnTo>
                    <a:pt x="1" y="298"/>
                  </a:lnTo>
                  <a:close/>
                </a:path>
              </a:pathLst>
            </a:custGeom>
            <a:solidFill>
              <a:srgbClr val="b7c4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708600" y="1827360"/>
              <a:ext cx="14400" cy="73080"/>
            </a:xfrm>
            <a:custGeom>
              <a:avLst/>
              <a:gdLst/>
              <a:ahLst/>
              <a:rect l="l" t="t" r="r" b="b"/>
              <a:pathLst>
                <a:path w="46" h="232">
                  <a:moveTo>
                    <a:pt x="1" y="227"/>
                  </a:moveTo>
                  <a:lnTo>
                    <a:pt x="1" y="221"/>
                  </a:lnTo>
                  <a:lnTo>
                    <a:pt x="1" y="207"/>
                  </a:lnTo>
                  <a:lnTo>
                    <a:pt x="0" y="187"/>
                  </a:lnTo>
                  <a:lnTo>
                    <a:pt x="0" y="162"/>
                  </a:lnTo>
                  <a:lnTo>
                    <a:pt x="0" y="135"/>
                  </a:lnTo>
                  <a:lnTo>
                    <a:pt x="1" y="109"/>
                  </a:lnTo>
                  <a:lnTo>
                    <a:pt x="2" y="86"/>
                  </a:lnTo>
                  <a:lnTo>
                    <a:pt x="3" y="69"/>
                  </a:lnTo>
                  <a:lnTo>
                    <a:pt x="5" y="54"/>
                  </a:lnTo>
                  <a:lnTo>
                    <a:pt x="8" y="39"/>
                  </a:lnTo>
                  <a:lnTo>
                    <a:pt x="13" y="26"/>
                  </a:lnTo>
                  <a:lnTo>
                    <a:pt x="18" y="14"/>
                  </a:lnTo>
                  <a:lnTo>
                    <a:pt x="20" y="9"/>
                  </a:lnTo>
                  <a:lnTo>
                    <a:pt x="22" y="5"/>
                  </a:lnTo>
                  <a:lnTo>
                    <a:pt x="26" y="2"/>
                  </a:lnTo>
                  <a:lnTo>
                    <a:pt x="28" y="1"/>
                  </a:lnTo>
                  <a:lnTo>
                    <a:pt x="30" y="0"/>
                  </a:lnTo>
                  <a:lnTo>
                    <a:pt x="33" y="1"/>
                  </a:lnTo>
                  <a:lnTo>
                    <a:pt x="35" y="3"/>
                  </a:lnTo>
                  <a:lnTo>
                    <a:pt x="38" y="7"/>
                  </a:lnTo>
                  <a:lnTo>
                    <a:pt x="39" y="11"/>
                  </a:lnTo>
                  <a:lnTo>
                    <a:pt x="41" y="16"/>
                  </a:lnTo>
                  <a:lnTo>
                    <a:pt x="42" y="22"/>
                  </a:lnTo>
                  <a:lnTo>
                    <a:pt x="43" y="30"/>
                  </a:lnTo>
                  <a:lnTo>
                    <a:pt x="45" y="40"/>
                  </a:lnTo>
                  <a:lnTo>
                    <a:pt x="45" y="49"/>
                  </a:lnTo>
                  <a:lnTo>
                    <a:pt x="46" y="61"/>
                  </a:lnTo>
                  <a:lnTo>
                    <a:pt x="45" y="73"/>
                  </a:lnTo>
                  <a:lnTo>
                    <a:pt x="43" y="108"/>
                  </a:lnTo>
                  <a:lnTo>
                    <a:pt x="39" y="140"/>
                  </a:lnTo>
                  <a:lnTo>
                    <a:pt x="33" y="169"/>
                  </a:lnTo>
                  <a:lnTo>
                    <a:pt x="28" y="195"/>
                  </a:lnTo>
                  <a:lnTo>
                    <a:pt x="25" y="205"/>
                  </a:lnTo>
                  <a:lnTo>
                    <a:pt x="21" y="215"/>
                  </a:lnTo>
                  <a:lnTo>
                    <a:pt x="18" y="222"/>
                  </a:lnTo>
                  <a:lnTo>
                    <a:pt x="14" y="228"/>
                  </a:lnTo>
                  <a:lnTo>
                    <a:pt x="11" y="231"/>
                  </a:lnTo>
                  <a:lnTo>
                    <a:pt x="7" y="232"/>
                  </a:lnTo>
                  <a:lnTo>
                    <a:pt x="4" y="231"/>
                  </a:lnTo>
                  <a:lnTo>
                    <a:pt x="1" y="227"/>
                  </a:lnTo>
                  <a:close/>
                </a:path>
              </a:pathLst>
            </a:custGeom>
            <a:solidFill>
              <a:srgbClr val="b2c0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711840" y="1828800"/>
              <a:ext cx="9720" cy="49320"/>
            </a:xfrm>
            <a:custGeom>
              <a:avLst/>
              <a:gdLst/>
              <a:ahLst/>
              <a:rect l="l" t="t" r="r" b="b"/>
              <a:pathLst>
                <a:path w="33" h="155">
                  <a:moveTo>
                    <a:pt x="0" y="153"/>
                  </a:moveTo>
                  <a:lnTo>
                    <a:pt x="0" y="149"/>
                  </a:lnTo>
                  <a:lnTo>
                    <a:pt x="0" y="141"/>
                  </a:lnTo>
                  <a:lnTo>
                    <a:pt x="0" y="127"/>
                  </a:lnTo>
                  <a:lnTo>
                    <a:pt x="0" y="110"/>
                  </a:lnTo>
                  <a:lnTo>
                    <a:pt x="0" y="92"/>
                  </a:lnTo>
                  <a:lnTo>
                    <a:pt x="2" y="75"/>
                  </a:lnTo>
                  <a:lnTo>
                    <a:pt x="2" y="60"/>
                  </a:lnTo>
                  <a:lnTo>
                    <a:pt x="3" y="47"/>
                  </a:lnTo>
                  <a:lnTo>
                    <a:pt x="5" y="36"/>
                  </a:lnTo>
                  <a:lnTo>
                    <a:pt x="7" y="26"/>
                  </a:lnTo>
                  <a:lnTo>
                    <a:pt x="10" y="17"/>
                  </a:lnTo>
                  <a:lnTo>
                    <a:pt x="13" y="9"/>
                  </a:lnTo>
                  <a:lnTo>
                    <a:pt x="17" y="4"/>
                  </a:lnTo>
                  <a:lnTo>
                    <a:pt x="20" y="0"/>
                  </a:lnTo>
                  <a:lnTo>
                    <a:pt x="22" y="0"/>
                  </a:lnTo>
                  <a:lnTo>
                    <a:pt x="23" y="0"/>
                  </a:lnTo>
                  <a:lnTo>
                    <a:pt x="25" y="2"/>
                  </a:lnTo>
                  <a:lnTo>
                    <a:pt x="27" y="5"/>
                  </a:lnTo>
                  <a:lnTo>
                    <a:pt x="29" y="7"/>
                  </a:lnTo>
                  <a:lnTo>
                    <a:pt x="30" y="10"/>
                  </a:lnTo>
                  <a:lnTo>
                    <a:pt x="31" y="14"/>
                  </a:lnTo>
                  <a:lnTo>
                    <a:pt x="32" y="20"/>
                  </a:lnTo>
                  <a:lnTo>
                    <a:pt x="33" y="26"/>
                  </a:lnTo>
                  <a:lnTo>
                    <a:pt x="33" y="35"/>
                  </a:lnTo>
                  <a:lnTo>
                    <a:pt x="33" y="42"/>
                  </a:lnTo>
                  <a:lnTo>
                    <a:pt x="32" y="52"/>
                  </a:lnTo>
                  <a:lnTo>
                    <a:pt x="31" y="72"/>
                  </a:lnTo>
                  <a:lnTo>
                    <a:pt x="29" y="92"/>
                  </a:lnTo>
                  <a:lnTo>
                    <a:pt x="25" y="110"/>
                  </a:lnTo>
                  <a:lnTo>
                    <a:pt x="21" y="128"/>
                  </a:lnTo>
                  <a:lnTo>
                    <a:pt x="17" y="141"/>
                  </a:lnTo>
                  <a:lnTo>
                    <a:pt x="11" y="150"/>
                  </a:lnTo>
                  <a:lnTo>
                    <a:pt x="8" y="154"/>
                  </a:lnTo>
                  <a:lnTo>
                    <a:pt x="6" y="155"/>
                  </a:lnTo>
                  <a:lnTo>
                    <a:pt x="3" y="155"/>
                  </a:lnTo>
                  <a:lnTo>
                    <a:pt x="0" y="153"/>
                  </a:lnTo>
                  <a:close/>
                </a:path>
              </a:pathLst>
            </a:custGeom>
            <a:solidFill>
              <a:srgbClr val="afbd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713640" y="1830600"/>
              <a:ext cx="7920" cy="27000"/>
            </a:xfrm>
            <a:custGeom>
              <a:avLst/>
              <a:gdLst/>
              <a:ahLst/>
              <a:rect l="l" t="t" r="r" b="b"/>
              <a:pathLst>
                <a:path w="21" h="84">
                  <a:moveTo>
                    <a:pt x="17" y="2"/>
                  </a:moveTo>
                  <a:lnTo>
                    <a:pt x="17" y="4"/>
                  </a:lnTo>
                  <a:lnTo>
                    <a:pt x="17" y="6"/>
                  </a:lnTo>
                  <a:lnTo>
                    <a:pt x="18" y="8"/>
                  </a:lnTo>
                  <a:lnTo>
                    <a:pt x="19" y="13"/>
                  </a:lnTo>
                  <a:lnTo>
                    <a:pt x="19" y="16"/>
                  </a:lnTo>
                  <a:lnTo>
                    <a:pt x="21" y="20"/>
                  </a:lnTo>
                  <a:lnTo>
                    <a:pt x="19" y="24"/>
                  </a:lnTo>
                  <a:lnTo>
                    <a:pt x="19" y="30"/>
                  </a:lnTo>
                  <a:lnTo>
                    <a:pt x="19" y="36"/>
                  </a:lnTo>
                  <a:lnTo>
                    <a:pt x="17" y="44"/>
                  </a:lnTo>
                  <a:lnTo>
                    <a:pt x="16" y="54"/>
                  </a:lnTo>
                  <a:lnTo>
                    <a:pt x="13" y="62"/>
                  </a:lnTo>
                  <a:lnTo>
                    <a:pt x="10" y="71"/>
                  </a:lnTo>
                  <a:lnTo>
                    <a:pt x="6" y="77"/>
                  </a:lnTo>
                  <a:lnTo>
                    <a:pt x="5" y="80"/>
                  </a:lnTo>
                  <a:lnTo>
                    <a:pt x="3" y="82"/>
                  </a:lnTo>
                  <a:lnTo>
                    <a:pt x="1" y="84"/>
                  </a:lnTo>
                  <a:lnTo>
                    <a:pt x="0" y="84"/>
                  </a:lnTo>
                  <a:lnTo>
                    <a:pt x="0" y="82"/>
                  </a:lnTo>
                  <a:lnTo>
                    <a:pt x="0" y="77"/>
                  </a:lnTo>
                  <a:lnTo>
                    <a:pt x="0" y="71"/>
                  </a:lnTo>
                  <a:lnTo>
                    <a:pt x="1" y="62"/>
                  </a:lnTo>
                  <a:lnTo>
                    <a:pt x="1" y="53"/>
                  </a:lnTo>
                  <a:lnTo>
                    <a:pt x="2" y="43"/>
                  </a:lnTo>
                  <a:lnTo>
                    <a:pt x="2" y="34"/>
                  </a:lnTo>
                  <a:lnTo>
                    <a:pt x="2" y="27"/>
                  </a:lnTo>
                  <a:lnTo>
                    <a:pt x="3" y="21"/>
                  </a:lnTo>
                  <a:lnTo>
                    <a:pt x="4" y="16"/>
                  </a:lnTo>
                  <a:lnTo>
                    <a:pt x="6" y="10"/>
                  </a:lnTo>
                  <a:lnTo>
                    <a:pt x="9" y="5"/>
                  </a:lnTo>
                  <a:lnTo>
                    <a:pt x="11" y="2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7" y="2"/>
                  </a:lnTo>
                  <a:close/>
                </a:path>
              </a:pathLst>
            </a:custGeom>
            <a:solidFill>
              <a:srgbClr val="a9b9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775560" y="1811520"/>
              <a:ext cx="36360" cy="169920"/>
            </a:xfrm>
            <a:custGeom>
              <a:avLst/>
              <a:gdLst/>
              <a:ahLst/>
              <a:rect l="l" t="t" r="r" b="b"/>
              <a:pathLst>
                <a:path w="119" h="537">
                  <a:moveTo>
                    <a:pt x="1" y="390"/>
                  </a:moveTo>
                  <a:lnTo>
                    <a:pt x="8" y="354"/>
                  </a:lnTo>
                  <a:lnTo>
                    <a:pt x="13" y="310"/>
                  </a:lnTo>
                  <a:lnTo>
                    <a:pt x="19" y="260"/>
                  </a:lnTo>
                  <a:lnTo>
                    <a:pt x="24" y="208"/>
                  </a:lnTo>
                  <a:lnTo>
                    <a:pt x="28" y="159"/>
                  </a:lnTo>
                  <a:lnTo>
                    <a:pt x="32" y="113"/>
                  </a:lnTo>
                  <a:lnTo>
                    <a:pt x="36" y="77"/>
                  </a:lnTo>
                  <a:lnTo>
                    <a:pt x="38" y="52"/>
                  </a:lnTo>
                  <a:lnTo>
                    <a:pt x="42" y="29"/>
                  </a:lnTo>
                  <a:lnTo>
                    <a:pt x="47" y="13"/>
                  </a:lnTo>
                  <a:lnTo>
                    <a:pt x="49" y="7"/>
                  </a:lnTo>
                  <a:lnTo>
                    <a:pt x="51" y="3"/>
                  </a:lnTo>
                  <a:lnTo>
                    <a:pt x="53" y="1"/>
                  </a:lnTo>
                  <a:lnTo>
                    <a:pt x="55" y="0"/>
                  </a:lnTo>
                  <a:lnTo>
                    <a:pt x="57" y="1"/>
                  </a:lnTo>
                  <a:lnTo>
                    <a:pt x="61" y="2"/>
                  </a:lnTo>
                  <a:lnTo>
                    <a:pt x="63" y="5"/>
                  </a:lnTo>
                  <a:lnTo>
                    <a:pt x="65" y="10"/>
                  </a:lnTo>
                  <a:lnTo>
                    <a:pt x="70" y="22"/>
                  </a:lnTo>
                  <a:lnTo>
                    <a:pt x="75" y="37"/>
                  </a:lnTo>
                  <a:lnTo>
                    <a:pt x="80" y="56"/>
                  </a:lnTo>
                  <a:lnTo>
                    <a:pt x="84" y="78"/>
                  </a:lnTo>
                  <a:lnTo>
                    <a:pt x="89" y="103"/>
                  </a:lnTo>
                  <a:lnTo>
                    <a:pt x="93" y="128"/>
                  </a:lnTo>
                  <a:lnTo>
                    <a:pt x="102" y="186"/>
                  </a:lnTo>
                  <a:lnTo>
                    <a:pt x="108" y="244"/>
                  </a:lnTo>
                  <a:lnTo>
                    <a:pt x="114" y="297"/>
                  </a:lnTo>
                  <a:lnTo>
                    <a:pt x="117" y="340"/>
                  </a:lnTo>
                  <a:lnTo>
                    <a:pt x="119" y="376"/>
                  </a:lnTo>
                  <a:lnTo>
                    <a:pt x="119" y="406"/>
                  </a:lnTo>
                  <a:lnTo>
                    <a:pt x="118" y="420"/>
                  </a:lnTo>
                  <a:lnTo>
                    <a:pt x="117" y="433"/>
                  </a:lnTo>
                  <a:lnTo>
                    <a:pt x="115" y="446"/>
                  </a:lnTo>
                  <a:lnTo>
                    <a:pt x="113" y="459"/>
                  </a:lnTo>
                  <a:lnTo>
                    <a:pt x="105" y="484"/>
                  </a:lnTo>
                  <a:lnTo>
                    <a:pt x="95" y="511"/>
                  </a:lnTo>
                  <a:lnTo>
                    <a:pt x="93" y="518"/>
                  </a:lnTo>
                  <a:lnTo>
                    <a:pt x="90" y="524"/>
                  </a:lnTo>
                  <a:lnTo>
                    <a:pt x="87" y="528"/>
                  </a:lnTo>
                  <a:lnTo>
                    <a:pt x="83" y="531"/>
                  </a:lnTo>
                  <a:lnTo>
                    <a:pt x="79" y="533"/>
                  </a:lnTo>
                  <a:lnTo>
                    <a:pt x="76" y="536"/>
                  </a:lnTo>
                  <a:lnTo>
                    <a:pt x="72" y="537"/>
                  </a:lnTo>
                  <a:lnTo>
                    <a:pt x="67" y="536"/>
                  </a:lnTo>
                  <a:lnTo>
                    <a:pt x="63" y="536"/>
                  </a:lnTo>
                  <a:lnTo>
                    <a:pt x="59" y="533"/>
                  </a:lnTo>
                  <a:lnTo>
                    <a:pt x="54" y="531"/>
                  </a:lnTo>
                  <a:lnTo>
                    <a:pt x="50" y="528"/>
                  </a:lnTo>
                  <a:lnTo>
                    <a:pt x="41" y="520"/>
                  </a:lnTo>
                  <a:lnTo>
                    <a:pt x="33" y="510"/>
                  </a:lnTo>
                  <a:lnTo>
                    <a:pt x="25" y="498"/>
                  </a:lnTo>
                  <a:lnTo>
                    <a:pt x="17" y="485"/>
                  </a:lnTo>
                  <a:lnTo>
                    <a:pt x="11" y="470"/>
                  </a:lnTo>
                  <a:lnTo>
                    <a:pt x="6" y="455"/>
                  </a:lnTo>
                  <a:lnTo>
                    <a:pt x="2" y="438"/>
                  </a:lnTo>
                  <a:lnTo>
                    <a:pt x="0" y="422"/>
                  </a:lnTo>
                  <a:lnTo>
                    <a:pt x="0" y="406"/>
                  </a:lnTo>
                  <a:lnTo>
                    <a:pt x="1" y="390"/>
                  </a:lnTo>
                  <a:close/>
                </a:path>
              </a:pathLst>
            </a:custGeom>
            <a:solidFill>
              <a:srgbClr val="d7dc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778440" y="1816200"/>
              <a:ext cx="32040" cy="146160"/>
            </a:xfrm>
            <a:custGeom>
              <a:avLst/>
              <a:gdLst/>
              <a:ahLst/>
              <a:rect l="l" t="t" r="r" b="b"/>
              <a:pathLst>
                <a:path w="100" h="458">
                  <a:moveTo>
                    <a:pt x="1" y="331"/>
                  </a:moveTo>
                  <a:lnTo>
                    <a:pt x="6" y="300"/>
                  </a:lnTo>
                  <a:lnTo>
                    <a:pt x="12" y="263"/>
                  </a:lnTo>
                  <a:lnTo>
                    <a:pt x="16" y="221"/>
                  </a:lnTo>
                  <a:lnTo>
                    <a:pt x="20" y="177"/>
                  </a:lnTo>
                  <a:lnTo>
                    <a:pt x="24" y="135"/>
                  </a:lnTo>
                  <a:lnTo>
                    <a:pt x="27" y="97"/>
                  </a:lnTo>
                  <a:lnTo>
                    <a:pt x="30" y="66"/>
                  </a:lnTo>
                  <a:lnTo>
                    <a:pt x="33" y="44"/>
                  </a:lnTo>
                  <a:lnTo>
                    <a:pt x="37" y="25"/>
                  </a:lnTo>
                  <a:lnTo>
                    <a:pt x="40" y="11"/>
                  </a:lnTo>
                  <a:lnTo>
                    <a:pt x="42" y="7"/>
                  </a:lnTo>
                  <a:lnTo>
                    <a:pt x="44" y="3"/>
                  </a:lnTo>
                  <a:lnTo>
                    <a:pt x="46" y="1"/>
                  </a:lnTo>
                  <a:lnTo>
                    <a:pt x="47" y="0"/>
                  </a:lnTo>
                  <a:lnTo>
                    <a:pt x="50" y="0"/>
                  </a:lnTo>
                  <a:lnTo>
                    <a:pt x="52" y="1"/>
                  </a:lnTo>
                  <a:lnTo>
                    <a:pt x="54" y="5"/>
                  </a:lnTo>
                  <a:lnTo>
                    <a:pt x="56" y="8"/>
                  </a:lnTo>
                  <a:lnTo>
                    <a:pt x="59" y="17"/>
                  </a:lnTo>
                  <a:lnTo>
                    <a:pt x="64" y="30"/>
                  </a:lnTo>
                  <a:lnTo>
                    <a:pt x="71" y="65"/>
                  </a:lnTo>
                  <a:lnTo>
                    <a:pt x="79" y="108"/>
                  </a:lnTo>
                  <a:lnTo>
                    <a:pt x="85" y="157"/>
                  </a:lnTo>
                  <a:lnTo>
                    <a:pt x="91" y="208"/>
                  </a:lnTo>
                  <a:lnTo>
                    <a:pt x="95" y="252"/>
                  </a:lnTo>
                  <a:lnTo>
                    <a:pt x="98" y="290"/>
                  </a:lnTo>
                  <a:lnTo>
                    <a:pt x="100" y="320"/>
                  </a:lnTo>
                  <a:lnTo>
                    <a:pt x="100" y="347"/>
                  </a:lnTo>
                  <a:lnTo>
                    <a:pt x="98" y="370"/>
                  </a:lnTo>
                  <a:lnTo>
                    <a:pt x="95" y="391"/>
                  </a:lnTo>
                  <a:lnTo>
                    <a:pt x="89" y="414"/>
                  </a:lnTo>
                  <a:lnTo>
                    <a:pt x="81" y="438"/>
                  </a:lnTo>
                  <a:lnTo>
                    <a:pt x="78" y="443"/>
                  </a:lnTo>
                  <a:lnTo>
                    <a:pt x="76" y="447"/>
                  </a:lnTo>
                  <a:lnTo>
                    <a:pt x="72" y="452"/>
                  </a:lnTo>
                  <a:lnTo>
                    <a:pt x="69" y="454"/>
                  </a:lnTo>
                  <a:lnTo>
                    <a:pt x="66" y="456"/>
                  </a:lnTo>
                  <a:lnTo>
                    <a:pt x="63" y="457"/>
                  </a:lnTo>
                  <a:lnTo>
                    <a:pt x="59" y="458"/>
                  </a:lnTo>
                  <a:lnTo>
                    <a:pt x="55" y="458"/>
                  </a:lnTo>
                  <a:lnTo>
                    <a:pt x="52" y="457"/>
                  </a:lnTo>
                  <a:lnTo>
                    <a:pt x="49" y="456"/>
                  </a:lnTo>
                  <a:lnTo>
                    <a:pt x="44" y="454"/>
                  </a:lnTo>
                  <a:lnTo>
                    <a:pt x="41" y="451"/>
                  </a:lnTo>
                  <a:lnTo>
                    <a:pt x="33" y="444"/>
                  </a:lnTo>
                  <a:lnTo>
                    <a:pt x="26" y="435"/>
                  </a:lnTo>
                  <a:lnTo>
                    <a:pt x="19" y="425"/>
                  </a:lnTo>
                  <a:lnTo>
                    <a:pt x="13" y="413"/>
                  </a:lnTo>
                  <a:lnTo>
                    <a:pt x="9" y="401"/>
                  </a:lnTo>
                  <a:lnTo>
                    <a:pt x="4" y="387"/>
                  </a:lnTo>
                  <a:lnTo>
                    <a:pt x="1" y="373"/>
                  </a:lnTo>
                  <a:lnTo>
                    <a:pt x="0" y="359"/>
                  </a:lnTo>
                  <a:lnTo>
                    <a:pt x="0" y="345"/>
                  </a:lnTo>
                  <a:lnTo>
                    <a:pt x="1" y="331"/>
                  </a:lnTo>
                  <a:close/>
                </a:path>
              </a:pathLst>
            </a:custGeom>
            <a:solidFill>
              <a:srgbClr val="dde3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780240" y="1820880"/>
              <a:ext cx="27000" cy="120600"/>
            </a:xfrm>
            <a:custGeom>
              <a:avLst/>
              <a:gdLst/>
              <a:ahLst/>
              <a:rect l="l" t="t" r="r" b="b"/>
              <a:pathLst>
                <a:path w="85" h="380">
                  <a:moveTo>
                    <a:pt x="2" y="277"/>
                  </a:moveTo>
                  <a:lnTo>
                    <a:pt x="6" y="251"/>
                  </a:lnTo>
                  <a:lnTo>
                    <a:pt x="10" y="220"/>
                  </a:lnTo>
                  <a:lnTo>
                    <a:pt x="15" y="185"/>
                  </a:lnTo>
                  <a:lnTo>
                    <a:pt x="18" y="148"/>
                  </a:lnTo>
                  <a:lnTo>
                    <a:pt x="21" y="113"/>
                  </a:lnTo>
                  <a:lnTo>
                    <a:pt x="24" y="81"/>
                  </a:lnTo>
                  <a:lnTo>
                    <a:pt x="26" y="54"/>
                  </a:lnTo>
                  <a:lnTo>
                    <a:pt x="29" y="37"/>
                  </a:lnTo>
                  <a:lnTo>
                    <a:pt x="32" y="21"/>
                  </a:lnTo>
                  <a:lnTo>
                    <a:pt x="35" y="9"/>
                  </a:lnTo>
                  <a:lnTo>
                    <a:pt x="36" y="5"/>
                  </a:lnTo>
                  <a:lnTo>
                    <a:pt x="38" y="2"/>
                  </a:lnTo>
                  <a:lnTo>
                    <a:pt x="39" y="0"/>
                  </a:lnTo>
                  <a:lnTo>
                    <a:pt x="42" y="0"/>
                  </a:lnTo>
                  <a:lnTo>
                    <a:pt x="43" y="0"/>
                  </a:lnTo>
                  <a:lnTo>
                    <a:pt x="45" y="1"/>
                  </a:lnTo>
                  <a:lnTo>
                    <a:pt x="46" y="4"/>
                  </a:lnTo>
                  <a:lnTo>
                    <a:pt x="48" y="7"/>
                  </a:lnTo>
                  <a:lnTo>
                    <a:pt x="51" y="14"/>
                  </a:lnTo>
                  <a:lnTo>
                    <a:pt x="55" y="26"/>
                  </a:lnTo>
                  <a:lnTo>
                    <a:pt x="61" y="55"/>
                  </a:lnTo>
                  <a:lnTo>
                    <a:pt x="67" y="91"/>
                  </a:lnTo>
                  <a:lnTo>
                    <a:pt x="73" y="131"/>
                  </a:lnTo>
                  <a:lnTo>
                    <a:pt x="78" y="173"/>
                  </a:lnTo>
                  <a:lnTo>
                    <a:pt x="82" y="210"/>
                  </a:lnTo>
                  <a:lnTo>
                    <a:pt x="84" y="241"/>
                  </a:lnTo>
                  <a:lnTo>
                    <a:pt x="85" y="266"/>
                  </a:lnTo>
                  <a:lnTo>
                    <a:pt x="85" y="289"/>
                  </a:lnTo>
                  <a:lnTo>
                    <a:pt x="83" y="308"/>
                  </a:lnTo>
                  <a:lnTo>
                    <a:pt x="79" y="325"/>
                  </a:lnTo>
                  <a:lnTo>
                    <a:pt x="75" y="344"/>
                  </a:lnTo>
                  <a:lnTo>
                    <a:pt x="69" y="363"/>
                  </a:lnTo>
                  <a:lnTo>
                    <a:pt x="66" y="368"/>
                  </a:lnTo>
                  <a:lnTo>
                    <a:pt x="64" y="372"/>
                  </a:lnTo>
                  <a:lnTo>
                    <a:pt x="62" y="375"/>
                  </a:lnTo>
                  <a:lnTo>
                    <a:pt x="60" y="377"/>
                  </a:lnTo>
                  <a:lnTo>
                    <a:pt x="57" y="379"/>
                  </a:lnTo>
                  <a:lnTo>
                    <a:pt x="55" y="380"/>
                  </a:lnTo>
                  <a:lnTo>
                    <a:pt x="51" y="380"/>
                  </a:lnTo>
                  <a:lnTo>
                    <a:pt x="48" y="380"/>
                  </a:lnTo>
                  <a:lnTo>
                    <a:pt x="43" y="378"/>
                  </a:lnTo>
                  <a:lnTo>
                    <a:pt x="36" y="375"/>
                  </a:lnTo>
                  <a:lnTo>
                    <a:pt x="30" y="369"/>
                  </a:lnTo>
                  <a:lnTo>
                    <a:pt x="24" y="361"/>
                  </a:lnTo>
                  <a:lnTo>
                    <a:pt x="19" y="352"/>
                  </a:lnTo>
                  <a:lnTo>
                    <a:pt x="13" y="343"/>
                  </a:lnTo>
                  <a:lnTo>
                    <a:pt x="9" y="333"/>
                  </a:lnTo>
                  <a:lnTo>
                    <a:pt x="5" y="322"/>
                  </a:lnTo>
                  <a:lnTo>
                    <a:pt x="3" y="310"/>
                  </a:lnTo>
                  <a:lnTo>
                    <a:pt x="0" y="298"/>
                  </a:lnTo>
                  <a:lnTo>
                    <a:pt x="0" y="288"/>
                  </a:lnTo>
                  <a:lnTo>
                    <a:pt x="2" y="277"/>
                  </a:lnTo>
                  <a:close/>
                </a:path>
              </a:pathLst>
            </a:custGeom>
            <a:solidFill>
              <a:srgbClr val="e6ea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783480" y="1825560"/>
              <a:ext cx="20520" cy="96840"/>
            </a:xfrm>
            <a:custGeom>
              <a:avLst/>
              <a:gdLst/>
              <a:ahLst/>
              <a:rect l="l" t="t" r="r" b="b"/>
              <a:pathLst>
                <a:path w="67" h="303">
                  <a:moveTo>
                    <a:pt x="1" y="220"/>
                  </a:moveTo>
                  <a:lnTo>
                    <a:pt x="6" y="199"/>
                  </a:lnTo>
                  <a:lnTo>
                    <a:pt x="9" y="174"/>
                  </a:lnTo>
                  <a:lnTo>
                    <a:pt x="12" y="147"/>
                  </a:lnTo>
                  <a:lnTo>
                    <a:pt x="14" y="118"/>
                  </a:lnTo>
                  <a:lnTo>
                    <a:pt x="16" y="90"/>
                  </a:lnTo>
                  <a:lnTo>
                    <a:pt x="19" y="64"/>
                  </a:lnTo>
                  <a:lnTo>
                    <a:pt x="21" y="44"/>
                  </a:lnTo>
                  <a:lnTo>
                    <a:pt x="22" y="30"/>
                  </a:lnTo>
                  <a:lnTo>
                    <a:pt x="24" y="17"/>
                  </a:lnTo>
                  <a:lnTo>
                    <a:pt x="26" y="8"/>
                  </a:lnTo>
                  <a:lnTo>
                    <a:pt x="28" y="3"/>
                  </a:lnTo>
                  <a:lnTo>
                    <a:pt x="32" y="0"/>
                  </a:lnTo>
                  <a:lnTo>
                    <a:pt x="34" y="2"/>
                  </a:lnTo>
                  <a:lnTo>
                    <a:pt x="37" y="6"/>
                  </a:lnTo>
                  <a:lnTo>
                    <a:pt x="39" y="12"/>
                  </a:lnTo>
                  <a:lnTo>
                    <a:pt x="42" y="21"/>
                  </a:lnTo>
                  <a:lnTo>
                    <a:pt x="48" y="45"/>
                  </a:lnTo>
                  <a:lnTo>
                    <a:pt x="52" y="73"/>
                  </a:lnTo>
                  <a:lnTo>
                    <a:pt x="56" y="105"/>
                  </a:lnTo>
                  <a:lnTo>
                    <a:pt x="61" y="138"/>
                  </a:lnTo>
                  <a:lnTo>
                    <a:pt x="64" y="168"/>
                  </a:lnTo>
                  <a:lnTo>
                    <a:pt x="66" y="192"/>
                  </a:lnTo>
                  <a:lnTo>
                    <a:pt x="67" y="212"/>
                  </a:lnTo>
                  <a:lnTo>
                    <a:pt x="67" y="230"/>
                  </a:lnTo>
                  <a:lnTo>
                    <a:pt x="66" y="246"/>
                  </a:lnTo>
                  <a:lnTo>
                    <a:pt x="63" y="260"/>
                  </a:lnTo>
                  <a:lnTo>
                    <a:pt x="60" y="274"/>
                  </a:lnTo>
                  <a:lnTo>
                    <a:pt x="53" y="289"/>
                  </a:lnTo>
                  <a:lnTo>
                    <a:pt x="50" y="295"/>
                  </a:lnTo>
                  <a:lnTo>
                    <a:pt x="47" y="301"/>
                  </a:lnTo>
                  <a:lnTo>
                    <a:pt x="42" y="303"/>
                  </a:lnTo>
                  <a:lnTo>
                    <a:pt x="38" y="303"/>
                  </a:lnTo>
                  <a:lnTo>
                    <a:pt x="33" y="302"/>
                  </a:lnTo>
                  <a:lnTo>
                    <a:pt x="28" y="299"/>
                  </a:lnTo>
                  <a:lnTo>
                    <a:pt x="23" y="294"/>
                  </a:lnTo>
                  <a:lnTo>
                    <a:pt x="19" y="289"/>
                  </a:lnTo>
                  <a:lnTo>
                    <a:pt x="14" y="281"/>
                  </a:lnTo>
                  <a:lnTo>
                    <a:pt x="10" y="274"/>
                  </a:lnTo>
                  <a:lnTo>
                    <a:pt x="7" y="265"/>
                  </a:lnTo>
                  <a:lnTo>
                    <a:pt x="3" y="256"/>
                  </a:lnTo>
                  <a:lnTo>
                    <a:pt x="1" y="247"/>
                  </a:lnTo>
                  <a:lnTo>
                    <a:pt x="0" y="238"/>
                  </a:lnTo>
                  <a:lnTo>
                    <a:pt x="0" y="228"/>
                  </a:lnTo>
                  <a:lnTo>
                    <a:pt x="1" y="220"/>
                  </a:lnTo>
                  <a:close/>
                </a:path>
              </a:pathLst>
            </a:custGeom>
            <a:solidFill>
              <a:srgbClr val="edf0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786360" y="1832040"/>
              <a:ext cx="16200" cy="69840"/>
            </a:xfrm>
            <a:custGeom>
              <a:avLst/>
              <a:gdLst/>
              <a:ahLst/>
              <a:rect l="l" t="t" r="r" b="b"/>
              <a:pathLst>
                <a:path w="50" h="224">
                  <a:moveTo>
                    <a:pt x="0" y="162"/>
                  </a:moveTo>
                  <a:lnTo>
                    <a:pt x="3" y="147"/>
                  </a:lnTo>
                  <a:lnTo>
                    <a:pt x="5" y="128"/>
                  </a:lnTo>
                  <a:lnTo>
                    <a:pt x="7" y="108"/>
                  </a:lnTo>
                  <a:lnTo>
                    <a:pt x="10" y="86"/>
                  </a:lnTo>
                  <a:lnTo>
                    <a:pt x="12" y="66"/>
                  </a:lnTo>
                  <a:lnTo>
                    <a:pt x="14" y="46"/>
                  </a:lnTo>
                  <a:lnTo>
                    <a:pt x="15" y="31"/>
                  </a:lnTo>
                  <a:lnTo>
                    <a:pt x="17" y="21"/>
                  </a:lnTo>
                  <a:lnTo>
                    <a:pt x="19" y="12"/>
                  </a:lnTo>
                  <a:lnTo>
                    <a:pt x="20" y="5"/>
                  </a:lnTo>
                  <a:lnTo>
                    <a:pt x="23" y="1"/>
                  </a:lnTo>
                  <a:lnTo>
                    <a:pt x="24" y="0"/>
                  </a:lnTo>
                  <a:lnTo>
                    <a:pt x="26" y="0"/>
                  </a:lnTo>
                  <a:lnTo>
                    <a:pt x="28" y="3"/>
                  </a:lnTo>
                  <a:lnTo>
                    <a:pt x="30" y="8"/>
                  </a:lnTo>
                  <a:lnTo>
                    <a:pt x="32" y="14"/>
                  </a:lnTo>
                  <a:lnTo>
                    <a:pt x="36" y="31"/>
                  </a:lnTo>
                  <a:lnTo>
                    <a:pt x="39" y="53"/>
                  </a:lnTo>
                  <a:lnTo>
                    <a:pt x="42" y="75"/>
                  </a:lnTo>
                  <a:lnTo>
                    <a:pt x="44" y="100"/>
                  </a:lnTo>
                  <a:lnTo>
                    <a:pt x="47" y="122"/>
                  </a:lnTo>
                  <a:lnTo>
                    <a:pt x="48" y="140"/>
                  </a:lnTo>
                  <a:lnTo>
                    <a:pt x="50" y="156"/>
                  </a:lnTo>
                  <a:lnTo>
                    <a:pt x="50" y="169"/>
                  </a:lnTo>
                  <a:lnTo>
                    <a:pt x="48" y="181"/>
                  </a:lnTo>
                  <a:lnTo>
                    <a:pt x="46" y="192"/>
                  </a:lnTo>
                  <a:lnTo>
                    <a:pt x="44" y="203"/>
                  </a:lnTo>
                  <a:lnTo>
                    <a:pt x="40" y="214"/>
                  </a:lnTo>
                  <a:lnTo>
                    <a:pt x="37" y="219"/>
                  </a:lnTo>
                  <a:lnTo>
                    <a:pt x="34" y="222"/>
                  </a:lnTo>
                  <a:lnTo>
                    <a:pt x="31" y="224"/>
                  </a:lnTo>
                  <a:lnTo>
                    <a:pt x="28" y="224"/>
                  </a:lnTo>
                  <a:lnTo>
                    <a:pt x="24" y="223"/>
                  </a:lnTo>
                  <a:lnTo>
                    <a:pt x="20" y="221"/>
                  </a:lnTo>
                  <a:lnTo>
                    <a:pt x="17" y="217"/>
                  </a:lnTo>
                  <a:lnTo>
                    <a:pt x="13" y="212"/>
                  </a:lnTo>
                  <a:lnTo>
                    <a:pt x="10" y="208"/>
                  </a:lnTo>
                  <a:lnTo>
                    <a:pt x="7" y="202"/>
                  </a:lnTo>
                  <a:lnTo>
                    <a:pt x="4" y="196"/>
                  </a:lnTo>
                  <a:lnTo>
                    <a:pt x="2" y="189"/>
                  </a:lnTo>
                  <a:lnTo>
                    <a:pt x="1" y="182"/>
                  </a:lnTo>
                  <a:lnTo>
                    <a:pt x="0" y="176"/>
                  </a:lnTo>
                  <a:lnTo>
                    <a:pt x="0" y="168"/>
                  </a:lnTo>
                  <a:lnTo>
                    <a:pt x="0" y="162"/>
                  </a:lnTo>
                  <a:close/>
                </a:path>
              </a:pathLst>
            </a:custGeom>
            <a:solidFill>
              <a:srgbClr val="f3f6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789600" y="1835280"/>
              <a:ext cx="9720" cy="47520"/>
            </a:xfrm>
            <a:custGeom>
              <a:avLst/>
              <a:gdLst/>
              <a:ahLst/>
              <a:rect l="l" t="t" r="r" b="b"/>
              <a:pathLst>
                <a:path w="31" h="148">
                  <a:moveTo>
                    <a:pt x="9" y="15"/>
                  </a:moveTo>
                  <a:lnTo>
                    <a:pt x="9" y="21"/>
                  </a:lnTo>
                  <a:lnTo>
                    <a:pt x="8" y="31"/>
                  </a:lnTo>
                  <a:lnTo>
                    <a:pt x="7" y="43"/>
                  </a:lnTo>
                  <a:lnTo>
                    <a:pt x="6" y="57"/>
                  </a:lnTo>
                  <a:lnTo>
                    <a:pt x="5" y="71"/>
                  </a:lnTo>
                  <a:lnTo>
                    <a:pt x="3" y="85"/>
                  </a:lnTo>
                  <a:lnTo>
                    <a:pt x="2" y="98"/>
                  </a:lnTo>
                  <a:lnTo>
                    <a:pt x="0" y="109"/>
                  </a:lnTo>
                  <a:lnTo>
                    <a:pt x="0" y="117"/>
                  </a:lnTo>
                  <a:lnTo>
                    <a:pt x="1" y="126"/>
                  </a:lnTo>
                  <a:lnTo>
                    <a:pt x="4" y="134"/>
                  </a:lnTo>
                  <a:lnTo>
                    <a:pt x="7" y="141"/>
                  </a:lnTo>
                  <a:lnTo>
                    <a:pt x="10" y="143"/>
                  </a:lnTo>
                  <a:lnTo>
                    <a:pt x="13" y="146"/>
                  </a:lnTo>
                  <a:lnTo>
                    <a:pt x="15" y="148"/>
                  </a:lnTo>
                  <a:lnTo>
                    <a:pt x="17" y="148"/>
                  </a:lnTo>
                  <a:lnTo>
                    <a:pt x="19" y="148"/>
                  </a:lnTo>
                  <a:lnTo>
                    <a:pt x="21" y="147"/>
                  </a:lnTo>
                  <a:lnTo>
                    <a:pt x="23" y="144"/>
                  </a:lnTo>
                  <a:lnTo>
                    <a:pt x="24" y="140"/>
                  </a:lnTo>
                  <a:lnTo>
                    <a:pt x="27" y="133"/>
                  </a:lnTo>
                  <a:lnTo>
                    <a:pt x="29" y="125"/>
                  </a:lnTo>
                  <a:lnTo>
                    <a:pt x="30" y="119"/>
                  </a:lnTo>
                  <a:lnTo>
                    <a:pt x="31" y="111"/>
                  </a:lnTo>
                  <a:lnTo>
                    <a:pt x="31" y="102"/>
                  </a:lnTo>
                  <a:lnTo>
                    <a:pt x="31" y="93"/>
                  </a:lnTo>
                  <a:lnTo>
                    <a:pt x="31" y="81"/>
                  </a:lnTo>
                  <a:lnTo>
                    <a:pt x="30" y="67"/>
                  </a:lnTo>
                  <a:lnTo>
                    <a:pt x="28" y="51"/>
                  </a:lnTo>
                  <a:lnTo>
                    <a:pt x="26" y="35"/>
                  </a:lnTo>
                  <a:lnTo>
                    <a:pt x="22" y="21"/>
                  </a:lnTo>
                  <a:lnTo>
                    <a:pt x="20" y="9"/>
                  </a:lnTo>
                  <a:lnTo>
                    <a:pt x="18" y="5"/>
                  </a:lnTo>
                  <a:lnTo>
                    <a:pt x="17" y="2"/>
                  </a:lnTo>
                  <a:lnTo>
                    <a:pt x="16" y="1"/>
                  </a:lnTo>
                  <a:lnTo>
                    <a:pt x="15" y="0"/>
                  </a:lnTo>
                  <a:lnTo>
                    <a:pt x="13" y="1"/>
                  </a:lnTo>
                  <a:lnTo>
                    <a:pt x="11" y="4"/>
                  </a:lnTo>
                  <a:lnTo>
                    <a:pt x="10" y="8"/>
                  </a:lnTo>
                  <a:lnTo>
                    <a:pt x="9" y="15"/>
                  </a:lnTo>
                  <a:close/>
                </a:path>
              </a:pathLst>
            </a:custGeom>
            <a:solidFill>
              <a:srgbClr val="f8fa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742080" y="1816200"/>
              <a:ext cx="58680" cy="201600"/>
            </a:xfrm>
            <a:custGeom>
              <a:avLst/>
              <a:gdLst/>
              <a:ahLst/>
              <a:rect l="l" t="t" r="r" b="b"/>
              <a:pathLst>
                <a:path w="185" h="635">
                  <a:moveTo>
                    <a:pt x="158" y="619"/>
                  </a:moveTo>
                  <a:lnTo>
                    <a:pt x="156" y="625"/>
                  </a:lnTo>
                  <a:lnTo>
                    <a:pt x="154" y="630"/>
                  </a:lnTo>
                  <a:lnTo>
                    <a:pt x="152" y="633"/>
                  </a:lnTo>
                  <a:lnTo>
                    <a:pt x="149" y="635"/>
                  </a:lnTo>
                  <a:lnTo>
                    <a:pt x="145" y="635"/>
                  </a:lnTo>
                  <a:lnTo>
                    <a:pt x="142" y="634"/>
                  </a:lnTo>
                  <a:lnTo>
                    <a:pt x="139" y="632"/>
                  </a:lnTo>
                  <a:lnTo>
                    <a:pt x="136" y="629"/>
                  </a:lnTo>
                  <a:lnTo>
                    <a:pt x="128" y="620"/>
                  </a:lnTo>
                  <a:lnTo>
                    <a:pt x="120" y="606"/>
                  </a:lnTo>
                  <a:lnTo>
                    <a:pt x="112" y="589"/>
                  </a:lnTo>
                  <a:lnTo>
                    <a:pt x="104" y="568"/>
                  </a:lnTo>
                  <a:lnTo>
                    <a:pt x="97" y="546"/>
                  </a:lnTo>
                  <a:lnTo>
                    <a:pt x="89" y="521"/>
                  </a:lnTo>
                  <a:lnTo>
                    <a:pt x="82" y="494"/>
                  </a:lnTo>
                  <a:lnTo>
                    <a:pt x="75" y="466"/>
                  </a:lnTo>
                  <a:lnTo>
                    <a:pt x="70" y="436"/>
                  </a:lnTo>
                  <a:lnTo>
                    <a:pt x="64" y="407"/>
                  </a:lnTo>
                  <a:lnTo>
                    <a:pt x="60" y="378"/>
                  </a:lnTo>
                  <a:lnTo>
                    <a:pt x="58" y="349"/>
                  </a:lnTo>
                  <a:lnTo>
                    <a:pt x="50" y="293"/>
                  </a:lnTo>
                  <a:lnTo>
                    <a:pt x="43" y="236"/>
                  </a:lnTo>
                  <a:lnTo>
                    <a:pt x="33" y="180"/>
                  </a:lnTo>
                  <a:lnTo>
                    <a:pt x="23" y="131"/>
                  </a:lnTo>
                  <a:lnTo>
                    <a:pt x="15" y="88"/>
                  </a:lnTo>
                  <a:lnTo>
                    <a:pt x="7" y="53"/>
                  </a:lnTo>
                  <a:lnTo>
                    <a:pt x="3" y="31"/>
                  </a:lnTo>
                  <a:lnTo>
                    <a:pt x="1" y="23"/>
                  </a:lnTo>
                  <a:lnTo>
                    <a:pt x="0" y="18"/>
                  </a:lnTo>
                  <a:lnTo>
                    <a:pt x="2" y="13"/>
                  </a:lnTo>
                  <a:lnTo>
                    <a:pt x="3" y="11"/>
                  </a:lnTo>
                  <a:lnTo>
                    <a:pt x="5" y="9"/>
                  </a:lnTo>
                  <a:lnTo>
                    <a:pt x="7" y="7"/>
                  </a:lnTo>
                  <a:lnTo>
                    <a:pt x="10" y="4"/>
                  </a:lnTo>
                  <a:lnTo>
                    <a:pt x="15" y="2"/>
                  </a:lnTo>
                  <a:lnTo>
                    <a:pt x="19" y="1"/>
                  </a:lnTo>
                  <a:lnTo>
                    <a:pt x="24" y="1"/>
                  </a:lnTo>
                  <a:lnTo>
                    <a:pt x="30" y="0"/>
                  </a:lnTo>
                  <a:lnTo>
                    <a:pt x="36" y="1"/>
                  </a:lnTo>
                  <a:lnTo>
                    <a:pt x="44" y="2"/>
                  </a:lnTo>
                  <a:lnTo>
                    <a:pt x="51" y="3"/>
                  </a:lnTo>
                  <a:lnTo>
                    <a:pt x="60" y="6"/>
                  </a:lnTo>
                  <a:lnTo>
                    <a:pt x="69" y="10"/>
                  </a:lnTo>
                  <a:lnTo>
                    <a:pt x="77" y="16"/>
                  </a:lnTo>
                  <a:lnTo>
                    <a:pt x="86" y="24"/>
                  </a:lnTo>
                  <a:lnTo>
                    <a:pt x="96" y="35"/>
                  </a:lnTo>
                  <a:lnTo>
                    <a:pt x="104" y="45"/>
                  </a:lnTo>
                  <a:lnTo>
                    <a:pt x="114" y="60"/>
                  </a:lnTo>
                  <a:lnTo>
                    <a:pt x="123" y="74"/>
                  </a:lnTo>
                  <a:lnTo>
                    <a:pt x="131" y="91"/>
                  </a:lnTo>
                  <a:lnTo>
                    <a:pt x="140" y="108"/>
                  </a:lnTo>
                  <a:lnTo>
                    <a:pt x="148" y="128"/>
                  </a:lnTo>
                  <a:lnTo>
                    <a:pt x="155" y="148"/>
                  </a:lnTo>
                  <a:lnTo>
                    <a:pt x="163" y="170"/>
                  </a:lnTo>
                  <a:lnTo>
                    <a:pt x="168" y="192"/>
                  </a:lnTo>
                  <a:lnTo>
                    <a:pt x="173" y="217"/>
                  </a:lnTo>
                  <a:lnTo>
                    <a:pt x="178" y="242"/>
                  </a:lnTo>
                  <a:lnTo>
                    <a:pt x="181" y="268"/>
                  </a:lnTo>
                  <a:lnTo>
                    <a:pt x="183" y="294"/>
                  </a:lnTo>
                  <a:lnTo>
                    <a:pt x="184" y="320"/>
                  </a:lnTo>
                  <a:lnTo>
                    <a:pt x="185" y="346"/>
                  </a:lnTo>
                  <a:lnTo>
                    <a:pt x="185" y="372"/>
                  </a:lnTo>
                  <a:lnTo>
                    <a:pt x="184" y="421"/>
                  </a:lnTo>
                  <a:lnTo>
                    <a:pt x="182" y="469"/>
                  </a:lnTo>
                  <a:lnTo>
                    <a:pt x="178" y="512"/>
                  </a:lnTo>
                  <a:lnTo>
                    <a:pt x="172" y="552"/>
                  </a:lnTo>
                  <a:lnTo>
                    <a:pt x="166" y="589"/>
                  </a:lnTo>
                  <a:lnTo>
                    <a:pt x="158" y="619"/>
                  </a:lnTo>
                  <a:close/>
                </a:path>
              </a:pathLst>
            </a:custGeom>
            <a:solidFill>
              <a:srgbClr val="cbd4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743520" y="1816200"/>
              <a:ext cx="52560" cy="176040"/>
            </a:xfrm>
            <a:custGeom>
              <a:avLst/>
              <a:gdLst/>
              <a:ahLst/>
              <a:rect l="l" t="t" r="r" b="b"/>
              <a:pathLst>
                <a:path w="164" h="555">
                  <a:moveTo>
                    <a:pt x="142" y="541"/>
                  </a:moveTo>
                  <a:lnTo>
                    <a:pt x="141" y="547"/>
                  </a:lnTo>
                  <a:lnTo>
                    <a:pt x="138" y="551"/>
                  </a:lnTo>
                  <a:lnTo>
                    <a:pt x="136" y="553"/>
                  </a:lnTo>
                  <a:lnTo>
                    <a:pt x="134" y="555"/>
                  </a:lnTo>
                  <a:lnTo>
                    <a:pt x="131" y="555"/>
                  </a:lnTo>
                  <a:lnTo>
                    <a:pt x="129" y="555"/>
                  </a:lnTo>
                  <a:lnTo>
                    <a:pt x="125" y="553"/>
                  </a:lnTo>
                  <a:lnTo>
                    <a:pt x="122" y="550"/>
                  </a:lnTo>
                  <a:lnTo>
                    <a:pt x="116" y="543"/>
                  </a:lnTo>
                  <a:lnTo>
                    <a:pt x="109" y="531"/>
                  </a:lnTo>
                  <a:lnTo>
                    <a:pt x="103" y="516"/>
                  </a:lnTo>
                  <a:lnTo>
                    <a:pt x="95" y="497"/>
                  </a:lnTo>
                  <a:lnTo>
                    <a:pt x="89" y="478"/>
                  </a:lnTo>
                  <a:lnTo>
                    <a:pt x="81" y="456"/>
                  </a:lnTo>
                  <a:lnTo>
                    <a:pt x="75" y="432"/>
                  </a:lnTo>
                  <a:lnTo>
                    <a:pt x="68" y="408"/>
                  </a:lnTo>
                  <a:lnTo>
                    <a:pt x="63" y="383"/>
                  </a:lnTo>
                  <a:lnTo>
                    <a:pt x="58" y="357"/>
                  </a:lnTo>
                  <a:lnTo>
                    <a:pt x="54" y="332"/>
                  </a:lnTo>
                  <a:lnTo>
                    <a:pt x="51" y="307"/>
                  </a:lnTo>
                  <a:lnTo>
                    <a:pt x="44" y="257"/>
                  </a:lnTo>
                  <a:lnTo>
                    <a:pt x="38" y="207"/>
                  </a:lnTo>
                  <a:lnTo>
                    <a:pt x="29" y="158"/>
                  </a:lnTo>
                  <a:lnTo>
                    <a:pt x="21" y="115"/>
                  </a:lnTo>
                  <a:lnTo>
                    <a:pt x="13" y="76"/>
                  </a:lnTo>
                  <a:lnTo>
                    <a:pt x="7" y="47"/>
                  </a:lnTo>
                  <a:lnTo>
                    <a:pt x="2" y="27"/>
                  </a:lnTo>
                  <a:lnTo>
                    <a:pt x="1" y="20"/>
                  </a:lnTo>
                  <a:lnTo>
                    <a:pt x="0" y="15"/>
                  </a:lnTo>
                  <a:lnTo>
                    <a:pt x="1" y="11"/>
                  </a:lnTo>
                  <a:lnTo>
                    <a:pt x="4" y="7"/>
                  </a:lnTo>
                  <a:lnTo>
                    <a:pt x="9" y="4"/>
                  </a:lnTo>
                  <a:lnTo>
                    <a:pt x="16" y="0"/>
                  </a:lnTo>
                  <a:lnTo>
                    <a:pt x="25" y="0"/>
                  </a:lnTo>
                  <a:lnTo>
                    <a:pt x="30" y="0"/>
                  </a:lnTo>
                  <a:lnTo>
                    <a:pt x="37" y="1"/>
                  </a:lnTo>
                  <a:lnTo>
                    <a:pt x="43" y="3"/>
                  </a:lnTo>
                  <a:lnTo>
                    <a:pt x="51" y="6"/>
                  </a:lnTo>
                  <a:lnTo>
                    <a:pt x="58" y="9"/>
                  </a:lnTo>
                  <a:lnTo>
                    <a:pt x="67" y="14"/>
                  </a:lnTo>
                  <a:lnTo>
                    <a:pt x="75" y="21"/>
                  </a:lnTo>
                  <a:lnTo>
                    <a:pt x="83" y="30"/>
                  </a:lnTo>
                  <a:lnTo>
                    <a:pt x="92" y="39"/>
                  </a:lnTo>
                  <a:lnTo>
                    <a:pt x="101" y="51"/>
                  </a:lnTo>
                  <a:lnTo>
                    <a:pt x="108" y="64"/>
                  </a:lnTo>
                  <a:lnTo>
                    <a:pt x="116" y="78"/>
                  </a:lnTo>
                  <a:lnTo>
                    <a:pt x="123" y="93"/>
                  </a:lnTo>
                  <a:lnTo>
                    <a:pt x="131" y="111"/>
                  </a:lnTo>
                  <a:lnTo>
                    <a:pt x="137" y="128"/>
                  </a:lnTo>
                  <a:lnTo>
                    <a:pt x="143" y="147"/>
                  </a:lnTo>
                  <a:lnTo>
                    <a:pt x="148" y="167"/>
                  </a:lnTo>
                  <a:lnTo>
                    <a:pt x="152" y="188"/>
                  </a:lnTo>
                  <a:lnTo>
                    <a:pt x="157" y="210"/>
                  </a:lnTo>
                  <a:lnTo>
                    <a:pt x="159" y="233"/>
                  </a:lnTo>
                  <a:lnTo>
                    <a:pt x="163" y="279"/>
                  </a:lnTo>
                  <a:lnTo>
                    <a:pt x="164" y="323"/>
                  </a:lnTo>
                  <a:lnTo>
                    <a:pt x="164" y="368"/>
                  </a:lnTo>
                  <a:lnTo>
                    <a:pt x="162" y="409"/>
                  </a:lnTo>
                  <a:lnTo>
                    <a:pt x="158" y="447"/>
                  </a:lnTo>
                  <a:lnTo>
                    <a:pt x="153" y="483"/>
                  </a:lnTo>
                  <a:lnTo>
                    <a:pt x="148" y="514"/>
                  </a:lnTo>
                  <a:lnTo>
                    <a:pt x="142" y="541"/>
                  </a:lnTo>
                  <a:close/>
                </a:path>
              </a:pathLst>
            </a:custGeom>
            <a:solidFill>
              <a:srgbClr val="c4ce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746760" y="1817640"/>
              <a:ext cx="46080" cy="150840"/>
            </a:xfrm>
            <a:custGeom>
              <a:avLst/>
              <a:gdLst/>
              <a:ahLst/>
              <a:rect l="l" t="t" r="r" b="b"/>
              <a:pathLst>
                <a:path w="143" h="477">
                  <a:moveTo>
                    <a:pt x="124" y="465"/>
                  </a:moveTo>
                  <a:lnTo>
                    <a:pt x="123" y="469"/>
                  </a:lnTo>
                  <a:lnTo>
                    <a:pt x="122" y="473"/>
                  </a:lnTo>
                  <a:lnTo>
                    <a:pt x="120" y="475"/>
                  </a:lnTo>
                  <a:lnTo>
                    <a:pt x="117" y="476"/>
                  </a:lnTo>
                  <a:lnTo>
                    <a:pt x="115" y="477"/>
                  </a:lnTo>
                  <a:lnTo>
                    <a:pt x="113" y="476"/>
                  </a:lnTo>
                  <a:lnTo>
                    <a:pt x="111" y="474"/>
                  </a:lnTo>
                  <a:lnTo>
                    <a:pt x="109" y="471"/>
                  </a:lnTo>
                  <a:lnTo>
                    <a:pt x="102" y="465"/>
                  </a:lnTo>
                  <a:lnTo>
                    <a:pt x="97" y="454"/>
                  </a:lnTo>
                  <a:lnTo>
                    <a:pt x="90" y="441"/>
                  </a:lnTo>
                  <a:lnTo>
                    <a:pt x="85" y="426"/>
                  </a:lnTo>
                  <a:lnTo>
                    <a:pt x="78" y="409"/>
                  </a:lnTo>
                  <a:lnTo>
                    <a:pt x="72" y="390"/>
                  </a:lnTo>
                  <a:lnTo>
                    <a:pt x="67" y="370"/>
                  </a:lnTo>
                  <a:lnTo>
                    <a:pt x="61" y="349"/>
                  </a:lnTo>
                  <a:lnTo>
                    <a:pt x="56" y="328"/>
                  </a:lnTo>
                  <a:lnTo>
                    <a:pt x="51" y="305"/>
                  </a:lnTo>
                  <a:lnTo>
                    <a:pt x="48" y="284"/>
                  </a:lnTo>
                  <a:lnTo>
                    <a:pt x="45" y="262"/>
                  </a:lnTo>
                  <a:lnTo>
                    <a:pt x="40" y="220"/>
                  </a:lnTo>
                  <a:lnTo>
                    <a:pt x="33" y="177"/>
                  </a:lnTo>
                  <a:lnTo>
                    <a:pt x="26" y="136"/>
                  </a:lnTo>
                  <a:lnTo>
                    <a:pt x="18" y="98"/>
                  </a:lnTo>
                  <a:lnTo>
                    <a:pt x="12" y="65"/>
                  </a:lnTo>
                  <a:lnTo>
                    <a:pt x="6" y="39"/>
                  </a:lnTo>
                  <a:lnTo>
                    <a:pt x="2" y="23"/>
                  </a:lnTo>
                  <a:lnTo>
                    <a:pt x="1" y="17"/>
                  </a:lnTo>
                  <a:lnTo>
                    <a:pt x="0" y="14"/>
                  </a:lnTo>
                  <a:lnTo>
                    <a:pt x="0" y="9"/>
                  </a:lnTo>
                  <a:lnTo>
                    <a:pt x="3" y="5"/>
                  </a:lnTo>
                  <a:lnTo>
                    <a:pt x="6" y="3"/>
                  </a:lnTo>
                  <a:lnTo>
                    <a:pt x="13" y="0"/>
                  </a:lnTo>
                  <a:lnTo>
                    <a:pt x="20" y="0"/>
                  </a:lnTo>
                  <a:lnTo>
                    <a:pt x="31" y="0"/>
                  </a:lnTo>
                  <a:lnTo>
                    <a:pt x="43" y="3"/>
                  </a:lnTo>
                  <a:lnTo>
                    <a:pt x="49" y="5"/>
                  </a:lnTo>
                  <a:lnTo>
                    <a:pt x="56" y="10"/>
                  </a:lnTo>
                  <a:lnTo>
                    <a:pt x="63" y="16"/>
                  </a:lnTo>
                  <a:lnTo>
                    <a:pt x="70" y="23"/>
                  </a:lnTo>
                  <a:lnTo>
                    <a:pt x="77" y="32"/>
                  </a:lnTo>
                  <a:lnTo>
                    <a:pt x="85" y="42"/>
                  </a:lnTo>
                  <a:lnTo>
                    <a:pt x="93" y="52"/>
                  </a:lnTo>
                  <a:lnTo>
                    <a:pt x="99" y="64"/>
                  </a:lnTo>
                  <a:lnTo>
                    <a:pt x="105" y="78"/>
                  </a:lnTo>
                  <a:lnTo>
                    <a:pt x="112" y="92"/>
                  </a:lnTo>
                  <a:lnTo>
                    <a:pt x="118" y="108"/>
                  </a:lnTo>
                  <a:lnTo>
                    <a:pt x="124" y="124"/>
                  </a:lnTo>
                  <a:lnTo>
                    <a:pt x="128" y="141"/>
                  </a:lnTo>
                  <a:lnTo>
                    <a:pt x="133" y="159"/>
                  </a:lnTo>
                  <a:lnTo>
                    <a:pt x="136" y="178"/>
                  </a:lnTo>
                  <a:lnTo>
                    <a:pt x="139" y="197"/>
                  </a:lnTo>
                  <a:lnTo>
                    <a:pt x="141" y="237"/>
                  </a:lnTo>
                  <a:lnTo>
                    <a:pt x="143" y="276"/>
                  </a:lnTo>
                  <a:lnTo>
                    <a:pt x="142" y="314"/>
                  </a:lnTo>
                  <a:lnTo>
                    <a:pt x="141" y="349"/>
                  </a:lnTo>
                  <a:lnTo>
                    <a:pt x="138" y="383"/>
                  </a:lnTo>
                  <a:lnTo>
                    <a:pt x="134" y="414"/>
                  </a:lnTo>
                  <a:lnTo>
                    <a:pt x="129" y="441"/>
                  </a:lnTo>
                  <a:lnTo>
                    <a:pt x="124" y="465"/>
                  </a:lnTo>
                  <a:close/>
                </a:path>
              </a:pathLst>
            </a:custGeom>
            <a:solidFill>
              <a:srgbClr val="c0cb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748560" y="1817640"/>
              <a:ext cx="39600" cy="127080"/>
            </a:xfrm>
            <a:custGeom>
              <a:avLst/>
              <a:gdLst/>
              <a:ahLst/>
              <a:rect l="l" t="t" r="r" b="b"/>
              <a:pathLst>
                <a:path w="123" h="397">
                  <a:moveTo>
                    <a:pt x="111" y="386"/>
                  </a:moveTo>
                  <a:lnTo>
                    <a:pt x="110" y="390"/>
                  </a:lnTo>
                  <a:lnTo>
                    <a:pt x="109" y="393"/>
                  </a:lnTo>
                  <a:lnTo>
                    <a:pt x="107" y="395"/>
                  </a:lnTo>
                  <a:lnTo>
                    <a:pt x="106" y="397"/>
                  </a:lnTo>
                  <a:lnTo>
                    <a:pt x="104" y="397"/>
                  </a:lnTo>
                  <a:lnTo>
                    <a:pt x="102" y="397"/>
                  </a:lnTo>
                  <a:lnTo>
                    <a:pt x="99" y="396"/>
                  </a:lnTo>
                  <a:lnTo>
                    <a:pt x="97" y="394"/>
                  </a:lnTo>
                  <a:lnTo>
                    <a:pt x="93" y="388"/>
                  </a:lnTo>
                  <a:lnTo>
                    <a:pt x="88" y="380"/>
                  </a:lnTo>
                  <a:lnTo>
                    <a:pt x="82" y="369"/>
                  </a:lnTo>
                  <a:lnTo>
                    <a:pt x="77" y="357"/>
                  </a:lnTo>
                  <a:lnTo>
                    <a:pt x="66" y="327"/>
                  </a:lnTo>
                  <a:lnTo>
                    <a:pt x="56" y="292"/>
                  </a:lnTo>
                  <a:lnTo>
                    <a:pt x="52" y="275"/>
                  </a:lnTo>
                  <a:lnTo>
                    <a:pt x="49" y="257"/>
                  </a:lnTo>
                  <a:lnTo>
                    <a:pt x="45" y="238"/>
                  </a:lnTo>
                  <a:lnTo>
                    <a:pt x="42" y="220"/>
                  </a:lnTo>
                  <a:lnTo>
                    <a:pt x="37" y="184"/>
                  </a:lnTo>
                  <a:lnTo>
                    <a:pt x="30" y="149"/>
                  </a:lnTo>
                  <a:lnTo>
                    <a:pt x="24" y="114"/>
                  </a:lnTo>
                  <a:lnTo>
                    <a:pt x="16" y="83"/>
                  </a:lnTo>
                  <a:lnTo>
                    <a:pt x="11" y="55"/>
                  </a:lnTo>
                  <a:lnTo>
                    <a:pt x="5" y="34"/>
                  </a:lnTo>
                  <a:lnTo>
                    <a:pt x="2" y="20"/>
                  </a:lnTo>
                  <a:lnTo>
                    <a:pt x="0" y="15"/>
                  </a:lnTo>
                  <a:lnTo>
                    <a:pt x="0" y="12"/>
                  </a:lnTo>
                  <a:lnTo>
                    <a:pt x="1" y="8"/>
                  </a:lnTo>
                  <a:lnTo>
                    <a:pt x="3" y="5"/>
                  </a:lnTo>
                  <a:lnTo>
                    <a:pt x="7" y="3"/>
                  </a:lnTo>
                  <a:lnTo>
                    <a:pt x="12" y="1"/>
                  </a:lnTo>
                  <a:lnTo>
                    <a:pt x="18" y="0"/>
                  </a:lnTo>
                  <a:lnTo>
                    <a:pt x="27" y="0"/>
                  </a:lnTo>
                  <a:lnTo>
                    <a:pt x="38" y="3"/>
                  </a:lnTo>
                  <a:lnTo>
                    <a:pt x="43" y="5"/>
                  </a:lnTo>
                  <a:lnTo>
                    <a:pt x="49" y="9"/>
                  </a:lnTo>
                  <a:lnTo>
                    <a:pt x="55" y="14"/>
                  </a:lnTo>
                  <a:lnTo>
                    <a:pt x="61" y="20"/>
                  </a:lnTo>
                  <a:lnTo>
                    <a:pt x="67" y="27"/>
                  </a:lnTo>
                  <a:lnTo>
                    <a:pt x="73" y="35"/>
                  </a:lnTo>
                  <a:lnTo>
                    <a:pt x="79" y="44"/>
                  </a:lnTo>
                  <a:lnTo>
                    <a:pt x="84" y="55"/>
                  </a:lnTo>
                  <a:lnTo>
                    <a:pt x="91" y="66"/>
                  </a:lnTo>
                  <a:lnTo>
                    <a:pt x="95" y="77"/>
                  </a:lnTo>
                  <a:lnTo>
                    <a:pt x="100" y="89"/>
                  </a:lnTo>
                  <a:lnTo>
                    <a:pt x="105" y="103"/>
                  </a:lnTo>
                  <a:lnTo>
                    <a:pt x="109" y="117"/>
                  </a:lnTo>
                  <a:lnTo>
                    <a:pt x="113" y="133"/>
                  </a:lnTo>
                  <a:lnTo>
                    <a:pt x="117" y="148"/>
                  </a:lnTo>
                  <a:lnTo>
                    <a:pt x="119" y="164"/>
                  </a:lnTo>
                  <a:lnTo>
                    <a:pt x="122" y="196"/>
                  </a:lnTo>
                  <a:lnTo>
                    <a:pt x="123" y="229"/>
                  </a:lnTo>
                  <a:lnTo>
                    <a:pt x="123" y="261"/>
                  </a:lnTo>
                  <a:lnTo>
                    <a:pt x="123" y="290"/>
                  </a:lnTo>
                  <a:lnTo>
                    <a:pt x="121" y="318"/>
                  </a:lnTo>
                  <a:lnTo>
                    <a:pt x="119" y="344"/>
                  </a:lnTo>
                  <a:lnTo>
                    <a:pt x="116" y="367"/>
                  </a:lnTo>
                  <a:lnTo>
                    <a:pt x="111" y="386"/>
                  </a:lnTo>
                  <a:close/>
                </a:path>
              </a:pathLst>
            </a:custGeom>
            <a:solidFill>
              <a:srgbClr val="b7c4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751440" y="1819440"/>
              <a:ext cx="32040" cy="100080"/>
            </a:xfrm>
            <a:custGeom>
              <a:avLst/>
              <a:gdLst/>
              <a:ahLst/>
              <a:rect l="l" t="t" r="r" b="b"/>
              <a:pathLst>
                <a:path w="102" h="317">
                  <a:moveTo>
                    <a:pt x="94" y="309"/>
                  </a:moveTo>
                  <a:lnTo>
                    <a:pt x="92" y="314"/>
                  </a:lnTo>
                  <a:lnTo>
                    <a:pt x="89" y="317"/>
                  </a:lnTo>
                  <a:lnTo>
                    <a:pt x="88" y="317"/>
                  </a:lnTo>
                  <a:lnTo>
                    <a:pt x="87" y="317"/>
                  </a:lnTo>
                  <a:lnTo>
                    <a:pt x="85" y="316"/>
                  </a:lnTo>
                  <a:lnTo>
                    <a:pt x="83" y="315"/>
                  </a:lnTo>
                  <a:lnTo>
                    <a:pt x="80" y="310"/>
                  </a:lnTo>
                  <a:lnTo>
                    <a:pt x="75" y="303"/>
                  </a:lnTo>
                  <a:lnTo>
                    <a:pt x="71" y="295"/>
                  </a:lnTo>
                  <a:lnTo>
                    <a:pt x="67" y="285"/>
                  </a:lnTo>
                  <a:lnTo>
                    <a:pt x="57" y="260"/>
                  </a:lnTo>
                  <a:lnTo>
                    <a:pt x="49" y="233"/>
                  </a:lnTo>
                  <a:lnTo>
                    <a:pt x="42" y="204"/>
                  </a:lnTo>
                  <a:lnTo>
                    <a:pt x="37" y="175"/>
                  </a:lnTo>
                  <a:lnTo>
                    <a:pt x="32" y="147"/>
                  </a:lnTo>
                  <a:lnTo>
                    <a:pt x="27" y="119"/>
                  </a:lnTo>
                  <a:lnTo>
                    <a:pt x="21" y="91"/>
                  </a:lnTo>
                  <a:lnTo>
                    <a:pt x="15" y="66"/>
                  </a:lnTo>
                  <a:lnTo>
                    <a:pt x="9" y="44"/>
                  </a:lnTo>
                  <a:lnTo>
                    <a:pt x="4" y="27"/>
                  </a:lnTo>
                  <a:lnTo>
                    <a:pt x="1" y="16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6"/>
                  </a:lnTo>
                  <a:lnTo>
                    <a:pt x="2" y="4"/>
                  </a:lnTo>
                  <a:lnTo>
                    <a:pt x="4" y="2"/>
                  </a:lnTo>
                  <a:lnTo>
                    <a:pt x="8" y="0"/>
                  </a:lnTo>
                  <a:lnTo>
                    <a:pt x="14" y="0"/>
                  </a:lnTo>
                  <a:lnTo>
                    <a:pt x="21" y="0"/>
                  </a:lnTo>
                  <a:lnTo>
                    <a:pt x="30" y="2"/>
                  </a:lnTo>
                  <a:lnTo>
                    <a:pt x="34" y="3"/>
                  </a:lnTo>
                  <a:lnTo>
                    <a:pt x="38" y="6"/>
                  </a:lnTo>
                  <a:lnTo>
                    <a:pt x="43" y="10"/>
                  </a:lnTo>
                  <a:lnTo>
                    <a:pt x="48" y="14"/>
                  </a:lnTo>
                  <a:lnTo>
                    <a:pt x="58" y="26"/>
                  </a:lnTo>
                  <a:lnTo>
                    <a:pt x="68" y="41"/>
                  </a:lnTo>
                  <a:lnTo>
                    <a:pt x="76" y="60"/>
                  </a:lnTo>
                  <a:lnTo>
                    <a:pt x="85" y="81"/>
                  </a:lnTo>
                  <a:lnTo>
                    <a:pt x="88" y="93"/>
                  </a:lnTo>
                  <a:lnTo>
                    <a:pt x="91" y="105"/>
                  </a:lnTo>
                  <a:lnTo>
                    <a:pt x="94" y="118"/>
                  </a:lnTo>
                  <a:lnTo>
                    <a:pt x="96" y="131"/>
                  </a:lnTo>
                  <a:lnTo>
                    <a:pt x="99" y="157"/>
                  </a:lnTo>
                  <a:lnTo>
                    <a:pt x="101" y="182"/>
                  </a:lnTo>
                  <a:lnTo>
                    <a:pt x="102" y="207"/>
                  </a:lnTo>
                  <a:lnTo>
                    <a:pt x="102" y="232"/>
                  </a:lnTo>
                  <a:lnTo>
                    <a:pt x="101" y="255"/>
                  </a:lnTo>
                  <a:lnTo>
                    <a:pt x="100" y="275"/>
                  </a:lnTo>
                  <a:lnTo>
                    <a:pt x="97" y="294"/>
                  </a:lnTo>
                  <a:lnTo>
                    <a:pt x="94" y="309"/>
                  </a:lnTo>
                  <a:close/>
                </a:path>
              </a:pathLst>
            </a:custGeom>
            <a:solidFill>
              <a:srgbClr val="b2c0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753240" y="1819440"/>
              <a:ext cx="27000" cy="75960"/>
            </a:xfrm>
            <a:custGeom>
              <a:avLst/>
              <a:gdLst/>
              <a:ahLst/>
              <a:rect l="l" t="t" r="r" b="b"/>
              <a:pathLst>
                <a:path w="83" h="240">
                  <a:moveTo>
                    <a:pt x="79" y="233"/>
                  </a:moveTo>
                  <a:lnTo>
                    <a:pt x="78" y="238"/>
                  </a:lnTo>
                  <a:lnTo>
                    <a:pt x="76" y="240"/>
                  </a:lnTo>
                  <a:lnTo>
                    <a:pt x="74" y="240"/>
                  </a:lnTo>
                  <a:lnTo>
                    <a:pt x="71" y="239"/>
                  </a:lnTo>
                  <a:lnTo>
                    <a:pt x="65" y="230"/>
                  </a:lnTo>
                  <a:lnTo>
                    <a:pt x="57" y="215"/>
                  </a:lnTo>
                  <a:lnTo>
                    <a:pt x="50" y="197"/>
                  </a:lnTo>
                  <a:lnTo>
                    <a:pt x="43" y="176"/>
                  </a:lnTo>
                  <a:lnTo>
                    <a:pt x="37" y="154"/>
                  </a:lnTo>
                  <a:lnTo>
                    <a:pt x="33" y="132"/>
                  </a:lnTo>
                  <a:lnTo>
                    <a:pt x="28" y="111"/>
                  </a:lnTo>
                  <a:lnTo>
                    <a:pt x="23" y="91"/>
                  </a:lnTo>
                  <a:lnTo>
                    <a:pt x="17" y="70"/>
                  </a:lnTo>
                  <a:lnTo>
                    <a:pt x="12" y="51"/>
                  </a:lnTo>
                  <a:lnTo>
                    <a:pt x="8" y="35"/>
                  </a:lnTo>
                  <a:lnTo>
                    <a:pt x="3" y="23"/>
                  </a:lnTo>
                  <a:lnTo>
                    <a:pt x="1" y="14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6"/>
                  </a:lnTo>
                  <a:lnTo>
                    <a:pt x="1" y="4"/>
                  </a:lnTo>
                  <a:lnTo>
                    <a:pt x="2" y="2"/>
                  </a:lnTo>
                  <a:lnTo>
                    <a:pt x="6" y="1"/>
                  </a:lnTo>
                  <a:lnTo>
                    <a:pt x="9" y="0"/>
                  </a:lnTo>
                  <a:lnTo>
                    <a:pt x="14" y="0"/>
                  </a:lnTo>
                  <a:lnTo>
                    <a:pt x="20" y="1"/>
                  </a:lnTo>
                  <a:lnTo>
                    <a:pt x="24" y="2"/>
                  </a:lnTo>
                  <a:lnTo>
                    <a:pt x="27" y="4"/>
                  </a:lnTo>
                  <a:lnTo>
                    <a:pt x="31" y="8"/>
                  </a:lnTo>
                  <a:lnTo>
                    <a:pt x="36" y="11"/>
                  </a:lnTo>
                  <a:lnTo>
                    <a:pt x="44" y="19"/>
                  </a:lnTo>
                  <a:lnTo>
                    <a:pt x="52" y="31"/>
                  </a:lnTo>
                  <a:lnTo>
                    <a:pt x="60" y="44"/>
                  </a:lnTo>
                  <a:lnTo>
                    <a:pt x="66" y="60"/>
                  </a:lnTo>
                  <a:lnTo>
                    <a:pt x="73" y="78"/>
                  </a:lnTo>
                  <a:lnTo>
                    <a:pt x="77" y="97"/>
                  </a:lnTo>
                  <a:lnTo>
                    <a:pt x="80" y="118"/>
                  </a:lnTo>
                  <a:lnTo>
                    <a:pt x="82" y="137"/>
                  </a:lnTo>
                  <a:lnTo>
                    <a:pt x="83" y="157"/>
                  </a:lnTo>
                  <a:lnTo>
                    <a:pt x="83" y="175"/>
                  </a:lnTo>
                  <a:lnTo>
                    <a:pt x="83" y="192"/>
                  </a:lnTo>
                  <a:lnTo>
                    <a:pt x="82" y="207"/>
                  </a:lnTo>
                  <a:lnTo>
                    <a:pt x="81" y="221"/>
                  </a:lnTo>
                  <a:lnTo>
                    <a:pt x="79" y="233"/>
                  </a:lnTo>
                  <a:close/>
                </a:path>
              </a:pathLst>
            </a:custGeom>
            <a:solidFill>
              <a:srgbClr val="afbd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754680" y="1820880"/>
              <a:ext cx="20880" cy="50760"/>
            </a:xfrm>
            <a:custGeom>
              <a:avLst/>
              <a:gdLst/>
              <a:ahLst/>
              <a:rect l="l" t="t" r="r" b="b"/>
              <a:pathLst>
                <a:path w="64" h="161">
                  <a:moveTo>
                    <a:pt x="0" y="6"/>
                  </a:moveTo>
                  <a:lnTo>
                    <a:pt x="0" y="8"/>
                  </a:lnTo>
                  <a:lnTo>
                    <a:pt x="3" y="13"/>
                  </a:lnTo>
                  <a:lnTo>
                    <a:pt x="6" y="22"/>
                  </a:lnTo>
                  <a:lnTo>
                    <a:pt x="10" y="33"/>
                  </a:lnTo>
                  <a:lnTo>
                    <a:pt x="15" y="46"/>
                  </a:lnTo>
                  <a:lnTo>
                    <a:pt x="19" y="60"/>
                  </a:lnTo>
                  <a:lnTo>
                    <a:pt x="23" y="75"/>
                  </a:lnTo>
                  <a:lnTo>
                    <a:pt x="27" y="90"/>
                  </a:lnTo>
                  <a:lnTo>
                    <a:pt x="31" y="104"/>
                  </a:lnTo>
                  <a:lnTo>
                    <a:pt x="36" y="119"/>
                  </a:lnTo>
                  <a:lnTo>
                    <a:pt x="42" y="132"/>
                  </a:lnTo>
                  <a:lnTo>
                    <a:pt x="48" y="144"/>
                  </a:lnTo>
                  <a:lnTo>
                    <a:pt x="54" y="154"/>
                  </a:lnTo>
                  <a:lnTo>
                    <a:pt x="58" y="159"/>
                  </a:lnTo>
                  <a:lnTo>
                    <a:pt x="60" y="161"/>
                  </a:lnTo>
                  <a:lnTo>
                    <a:pt x="61" y="161"/>
                  </a:lnTo>
                  <a:lnTo>
                    <a:pt x="62" y="159"/>
                  </a:lnTo>
                  <a:lnTo>
                    <a:pt x="63" y="157"/>
                  </a:lnTo>
                  <a:lnTo>
                    <a:pt x="64" y="147"/>
                  </a:lnTo>
                  <a:lnTo>
                    <a:pt x="64" y="137"/>
                  </a:lnTo>
                  <a:lnTo>
                    <a:pt x="64" y="127"/>
                  </a:lnTo>
                  <a:lnTo>
                    <a:pt x="64" y="115"/>
                  </a:lnTo>
                  <a:lnTo>
                    <a:pt x="63" y="103"/>
                  </a:lnTo>
                  <a:lnTo>
                    <a:pt x="62" y="90"/>
                  </a:lnTo>
                  <a:lnTo>
                    <a:pt x="59" y="76"/>
                  </a:lnTo>
                  <a:lnTo>
                    <a:pt x="56" y="63"/>
                  </a:lnTo>
                  <a:lnTo>
                    <a:pt x="51" y="50"/>
                  </a:lnTo>
                  <a:lnTo>
                    <a:pt x="47" y="38"/>
                  </a:lnTo>
                  <a:lnTo>
                    <a:pt x="42" y="28"/>
                  </a:lnTo>
                  <a:lnTo>
                    <a:pt x="36" y="20"/>
                  </a:lnTo>
                  <a:lnTo>
                    <a:pt x="30" y="12"/>
                  </a:lnTo>
                  <a:lnTo>
                    <a:pt x="24" y="7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9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1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a9b9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630840" y="2198880"/>
              <a:ext cx="182520" cy="136440"/>
            </a:xfrm>
            <a:custGeom>
              <a:avLst/>
              <a:gdLst/>
              <a:ahLst/>
              <a:rect l="l" t="t" r="r" b="b"/>
              <a:pathLst>
                <a:path w="572" h="434">
                  <a:moveTo>
                    <a:pt x="211" y="209"/>
                  </a:moveTo>
                  <a:lnTo>
                    <a:pt x="218" y="211"/>
                  </a:lnTo>
                  <a:lnTo>
                    <a:pt x="223" y="215"/>
                  </a:lnTo>
                  <a:lnTo>
                    <a:pt x="226" y="221"/>
                  </a:lnTo>
                  <a:lnTo>
                    <a:pt x="231" y="228"/>
                  </a:lnTo>
                  <a:lnTo>
                    <a:pt x="236" y="244"/>
                  </a:lnTo>
                  <a:lnTo>
                    <a:pt x="239" y="262"/>
                  </a:lnTo>
                  <a:lnTo>
                    <a:pt x="244" y="280"/>
                  </a:lnTo>
                  <a:lnTo>
                    <a:pt x="249" y="297"/>
                  </a:lnTo>
                  <a:lnTo>
                    <a:pt x="252" y="305"/>
                  </a:lnTo>
                  <a:lnTo>
                    <a:pt x="257" y="311"/>
                  </a:lnTo>
                  <a:lnTo>
                    <a:pt x="262" y="316"/>
                  </a:lnTo>
                  <a:lnTo>
                    <a:pt x="267" y="320"/>
                  </a:lnTo>
                  <a:lnTo>
                    <a:pt x="276" y="322"/>
                  </a:lnTo>
                  <a:lnTo>
                    <a:pt x="287" y="324"/>
                  </a:lnTo>
                  <a:lnTo>
                    <a:pt x="299" y="326"/>
                  </a:lnTo>
                  <a:lnTo>
                    <a:pt x="313" y="328"/>
                  </a:lnTo>
                  <a:lnTo>
                    <a:pt x="327" y="328"/>
                  </a:lnTo>
                  <a:lnTo>
                    <a:pt x="343" y="328"/>
                  </a:lnTo>
                  <a:lnTo>
                    <a:pt x="360" y="325"/>
                  </a:lnTo>
                  <a:lnTo>
                    <a:pt x="377" y="322"/>
                  </a:lnTo>
                  <a:lnTo>
                    <a:pt x="394" y="318"/>
                  </a:lnTo>
                  <a:lnTo>
                    <a:pt x="410" y="310"/>
                  </a:lnTo>
                  <a:lnTo>
                    <a:pt x="419" y="307"/>
                  </a:lnTo>
                  <a:lnTo>
                    <a:pt x="426" y="302"/>
                  </a:lnTo>
                  <a:lnTo>
                    <a:pt x="434" y="297"/>
                  </a:lnTo>
                  <a:lnTo>
                    <a:pt x="441" y="291"/>
                  </a:lnTo>
                  <a:lnTo>
                    <a:pt x="448" y="285"/>
                  </a:lnTo>
                  <a:lnTo>
                    <a:pt x="454" y="278"/>
                  </a:lnTo>
                  <a:lnTo>
                    <a:pt x="461" y="270"/>
                  </a:lnTo>
                  <a:lnTo>
                    <a:pt x="467" y="263"/>
                  </a:lnTo>
                  <a:lnTo>
                    <a:pt x="473" y="254"/>
                  </a:lnTo>
                  <a:lnTo>
                    <a:pt x="477" y="244"/>
                  </a:lnTo>
                  <a:lnTo>
                    <a:pt x="481" y="234"/>
                  </a:lnTo>
                  <a:lnTo>
                    <a:pt x="486" y="223"/>
                  </a:lnTo>
                  <a:lnTo>
                    <a:pt x="500" y="183"/>
                  </a:lnTo>
                  <a:lnTo>
                    <a:pt x="515" y="145"/>
                  </a:lnTo>
                  <a:lnTo>
                    <a:pt x="529" y="112"/>
                  </a:lnTo>
                  <a:lnTo>
                    <a:pt x="543" y="82"/>
                  </a:lnTo>
                  <a:lnTo>
                    <a:pt x="555" y="59"/>
                  </a:lnTo>
                  <a:lnTo>
                    <a:pt x="563" y="40"/>
                  </a:lnTo>
                  <a:lnTo>
                    <a:pt x="570" y="29"/>
                  </a:lnTo>
                  <a:lnTo>
                    <a:pt x="572" y="25"/>
                  </a:lnTo>
                  <a:lnTo>
                    <a:pt x="570" y="36"/>
                  </a:lnTo>
                  <a:lnTo>
                    <a:pt x="569" y="44"/>
                  </a:lnTo>
                  <a:lnTo>
                    <a:pt x="569" y="49"/>
                  </a:lnTo>
                  <a:lnTo>
                    <a:pt x="568" y="53"/>
                  </a:lnTo>
                  <a:lnTo>
                    <a:pt x="568" y="56"/>
                  </a:lnTo>
                  <a:lnTo>
                    <a:pt x="567" y="59"/>
                  </a:lnTo>
                  <a:lnTo>
                    <a:pt x="567" y="62"/>
                  </a:lnTo>
                  <a:lnTo>
                    <a:pt x="567" y="65"/>
                  </a:lnTo>
                  <a:lnTo>
                    <a:pt x="563" y="100"/>
                  </a:lnTo>
                  <a:lnTo>
                    <a:pt x="560" y="130"/>
                  </a:lnTo>
                  <a:lnTo>
                    <a:pt x="558" y="156"/>
                  </a:lnTo>
                  <a:lnTo>
                    <a:pt x="556" y="177"/>
                  </a:lnTo>
                  <a:lnTo>
                    <a:pt x="556" y="198"/>
                  </a:lnTo>
                  <a:lnTo>
                    <a:pt x="557" y="217"/>
                  </a:lnTo>
                  <a:lnTo>
                    <a:pt x="559" y="237"/>
                  </a:lnTo>
                  <a:lnTo>
                    <a:pt x="562" y="257"/>
                  </a:lnTo>
                  <a:lnTo>
                    <a:pt x="563" y="268"/>
                  </a:lnTo>
                  <a:lnTo>
                    <a:pt x="563" y="279"/>
                  </a:lnTo>
                  <a:lnTo>
                    <a:pt x="562" y="291"/>
                  </a:lnTo>
                  <a:lnTo>
                    <a:pt x="560" y="302"/>
                  </a:lnTo>
                  <a:lnTo>
                    <a:pt x="557" y="312"/>
                  </a:lnTo>
                  <a:lnTo>
                    <a:pt x="554" y="323"/>
                  </a:lnTo>
                  <a:lnTo>
                    <a:pt x="549" y="334"/>
                  </a:lnTo>
                  <a:lnTo>
                    <a:pt x="544" y="344"/>
                  </a:lnTo>
                  <a:lnTo>
                    <a:pt x="539" y="353"/>
                  </a:lnTo>
                  <a:lnTo>
                    <a:pt x="533" y="362"/>
                  </a:lnTo>
                  <a:lnTo>
                    <a:pt x="528" y="370"/>
                  </a:lnTo>
                  <a:lnTo>
                    <a:pt x="521" y="377"/>
                  </a:lnTo>
                  <a:lnTo>
                    <a:pt x="516" y="384"/>
                  </a:lnTo>
                  <a:lnTo>
                    <a:pt x="511" y="389"/>
                  </a:lnTo>
                  <a:lnTo>
                    <a:pt x="505" y="393"/>
                  </a:lnTo>
                  <a:lnTo>
                    <a:pt x="501" y="396"/>
                  </a:lnTo>
                  <a:lnTo>
                    <a:pt x="492" y="401"/>
                  </a:lnTo>
                  <a:lnTo>
                    <a:pt x="484" y="403"/>
                  </a:lnTo>
                  <a:lnTo>
                    <a:pt x="474" y="405"/>
                  </a:lnTo>
                  <a:lnTo>
                    <a:pt x="462" y="407"/>
                  </a:lnTo>
                  <a:lnTo>
                    <a:pt x="448" y="410"/>
                  </a:lnTo>
                  <a:lnTo>
                    <a:pt x="431" y="413"/>
                  </a:lnTo>
                  <a:lnTo>
                    <a:pt x="409" y="418"/>
                  </a:lnTo>
                  <a:lnTo>
                    <a:pt x="382" y="426"/>
                  </a:lnTo>
                  <a:lnTo>
                    <a:pt x="367" y="429"/>
                  </a:lnTo>
                  <a:lnTo>
                    <a:pt x="352" y="432"/>
                  </a:lnTo>
                  <a:lnTo>
                    <a:pt x="338" y="433"/>
                  </a:lnTo>
                  <a:lnTo>
                    <a:pt x="324" y="434"/>
                  </a:lnTo>
                  <a:lnTo>
                    <a:pt x="309" y="433"/>
                  </a:lnTo>
                  <a:lnTo>
                    <a:pt x="296" y="433"/>
                  </a:lnTo>
                  <a:lnTo>
                    <a:pt x="282" y="431"/>
                  </a:lnTo>
                  <a:lnTo>
                    <a:pt x="270" y="429"/>
                  </a:lnTo>
                  <a:lnTo>
                    <a:pt x="246" y="424"/>
                  </a:lnTo>
                  <a:lnTo>
                    <a:pt x="224" y="416"/>
                  </a:lnTo>
                  <a:lnTo>
                    <a:pt x="207" y="409"/>
                  </a:lnTo>
                  <a:lnTo>
                    <a:pt x="194" y="401"/>
                  </a:lnTo>
                  <a:lnTo>
                    <a:pt x="184" y="395"/>
                  </a:lnTo>
                  <a:lnTo>
                    <a:pt x="174" y="388"/>
                  </a:lnTo>
                  <a:lnTo>
                    <a:pt x="164" y="383"/>
                  </a:lnTo>
                  <a:lnTo>
                    <a:pt x="154" y="377"/>
                  </a:lnTo>
                  <a:lnTo>
                    <a:pt x="142" y="374"/>
                  </a:lnTo>
                  <a:lnTo>
                    <a:pt x="130" y="372"/>
                  </a:lnTo>
                  <a:lnTo>
                    <a:pt x="124" y="371"/>
                  </a:lnTo>
                  <a:lnTo>
                    <a:pt x="117" y="372"/>
                  </a:lnTo>
                  <a:lnTo>
                    <a:pt x="110" y="372"/>
                  </a:lnTo>
                  <a:lnTo>
                    <a:pt x="102" y="374"/>
                  </a:lnTo>
                  <a:lnTo>
                    <a:pt x="95" y="375"/>
                  </a:lnTo>
                  <a:lnTo>
                    <a:pt x="87" y="376"/>
                  </a:lnTo>
                  <a:lnTo>
                    <a:pt x="80" y="376"/>
                  </a:lnTo>
                  <a:lnTo>
                    <a:pt x="73" y="375"/>
                  </a:lnTo>
                  <a:lnTo>
                    <a:pt x="60" y="372"/>
                  </a:lnTo>
                  <a:lnTo>
                    <a:pt x="48" y="366"/>
                  </a:lnTo>
                  <a:lnTo>
                    <a:pt x="36" y="360"/>
                  </a:lnTo>
                  <a:lnTo>
                    <a:pt x="27" y="352"/>
                  </a:lnTo>
                  <a:lnTo>
                    <a:pt x="17" y="345"/>
                  </a:lnTo>
                  <a:lnTo>
                    <a:pt x="8" y="337"/>
                  </a:lnTo>
                  <a:lnTo>
                    <a:pt x="5" y="332"/>
                  </a:lnTo>
                  <a:lnTo>
                    <a:pt x="2" y="326"/>
                  </a:lnTo>
                  <a:lnTo>
                    <a:pt x="1" y="319"/>
                  </a:lnTo>
                  <a:lnTo>
                    <a:pt x="0" y="311"/>
                  </a:lnTo>
                  <a:lnTo>
                    <a:pt x="1" y="292"/>
                  </a:lnTo>
                  <a:lnTo>
                    <a:pt x="4" y="269"/>
                  </a:lnTo>
                  <a:lnTo>
                    <a:pt x="9" y="245"/>
                  </a:lnTo>
                  <a:lnTo>
                    <a:pt x="15" y="221"/>
                  </a:lnTo>
                  <a:lnTo>
                    <a:pt x="20" y="196"/>
                  </a:lnTo>
                  <a:lnTo>
                    <a:pt x="26" y="173"/>
                  </a:lnTo>
                  <a:lnTo>
                    <a:pt x="29" y="161"/>
                  </a:lnTo>
                  <a:lnTo>
                    <a:pt x="32" y="145"/>
                  </a:lnTo>
                  <a:lnTo>
                    <a:pt x="34" y="125"/>
                  </a:lnTo>
                  <a:lnTo>
                    <a:pt x="37" y="102"/>
                  </a:lnTo>
                  <a:lnTo>
                    <a:pt x="40" y="77"/>
                  </a:lnTo>
                  <a:lnTo>
                    <a:pt x="43" y="52"/>
                  </a:lnTo>
                  <a:lnTo>
                    <a:pt x="44" y="26"/>
                  </a:lnTo>
                  <a:lnTo>
                    <a:pt x="45" y="0"/>
                  </a:lnTo>
                  <a:lnTo>
                    <a:pt x="45" y="7"/>
                  </a:lnTo>
                  <a:lnTo>
                    <a:pt x="46" y="25"/>
                  </a:lnTo>
                  <a:lnTo>
                    <a:pt x="47" y="51"/>
                  </a:lnTo>
                  <a:lnTo>
                    <a:pt x="50" y="85"/>
                  </a:lnTo>
                  <a:lnTo>
                    <a:pt x="53" y="102"/>
                  </a:lnTo>
                  <a:lnTo>
                    <a:pt x="56" y="121"/>
                  </a:lnTo>
                  <a:lnTo>
                    <a:pt x="59" y="140"/>
                  </a:lnTo>
                  <a:lnTo>
                    <a:pt x="63" y="159"/>
                  </a:lnTo>
                  <a:lnTo>
                    <a:pt x="69" y="179"/>
                  </a:lnTo>
                  <a:lnTo>
                    <a:pt x="74" y="197"/>
                  </a:lnTo>
                  <a:lnTo>
                    <a:pt x="82" y="214"/>
                  </a:lnTo>
                  <a:lnTo>
                    <a:pt x="90" y="230"/>
                  </a:lnTo>
                  <a:lnTo>
                    <a:pt x="95" y="238"/>
                  </a:lnTo>
                  <a:lnTo>
                    <a:pt x="99" y="244"/>
                  </a:lnTo>
                  <a:lnTo>
                    <a:pt x="103" y="249"/>
                  </a:lnTo>
                  <a:lnTo>
                    <a:pt x="108" y="253"/>
                  </a:lnTo>
                  <a:lnTo>
                    <a:pt x="111" y="256"/>
                  </a:lnTo>
                  <a:lnTo>
                    <a:pt x="115" y="260"/>
                  </a:lnTo>
                  <a:lnTo>
                    <a:pt x="119" y="261"/>
                  </a:lnTo>
                  <a:lnTo>
                    <a:pt x="124" y="262"/>
                  </a:lnTo>
                  <a:lnTo>
                    <a:pt x="127" y="262"/>
                  </a:lnTo>
                  <a:lnTo>
                    <a:pt x="131" y="261"/>
                  </a:lnTo>
                  <a:lnTo>
                    <a:pt x="136" y="260"/>
                  </a:lnTo>
                  <a:lnTo>
                    <a:pt x="139" y="258"/>
                  </a:lnTo>
                  <a:lnTo>
                    <a:pt x="146" y="254"/>
                  </a:lnTo>
                  <a:lnTo>
                    <a:pt x="154" y="248"/>
                  </a:lnTo>
                  <a:lnTo>
                    <a:pt x="169" y="235"/>
                  </a:lnTo>
                  <a:lnTo>
                    <a:pt x="183" y="221"/>
                  </a:lnTo>
                  <a:lnTo>
                    <a:pt x="190" y="215"/>
                  </a:lnTo>
                  <a:lnTo>
                    <a:pt x="197" y="211"/>
                  </a:lnTo>
                  <a:lnTo>
                    <a:pt x="201" y="209"/>
                  </a:lnTo>
                  <a:lnTo>
                    <a:pt x="204" y="208"/>
                  </a:lnTo>
                  <a:lnTo>
                    <a:pt x="208" y="208"/>
                  </a:lnTo>
                  <a:lnTo>
                    <a:pt x="211" y="209"/>
                  </a:lnTo>
                  <a:close/>
                </a:path>
              </a:pathLst>
            </a:custGeom>
            <a:solidFill>
              <a:srgbClr val="84c4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630840" y="2206800"/>
              <a:ext cx="181080" cy="128520"/>
            </a:xfrm>
            <a:custGeom>
              <a:avLst/>
              <a:gdLst/>
              <a:ahLst/>
              <a:rect l="l" t="t" r="r" b="b"/>
              <a:pathLst>
                <a:path w="567" h="407">
                  <a:moveTo>
                    <a:pt x="209" y="199"/>
                  </a:moveTo>
                  <a:lnTo>
                    <a:pt x="215" y="201"/>
                  </a:lnTo>
                  <a:lnTo>
                    <a:pt x="220" y="206"/>
                  </a:lnTo>
                  <a:lnTo>
                    <a:pt x="224" y="211"/>
                  </a:lnTo>
                  <a:lnTo>
                    <a:pt x="228" y="218"/>
                  </a:lnTo>
                  <a:lnTo>
                    <a:pt x="233" y="235"/>
                  </a:lnTo>
                  <a:lnTo>
                    <a:pt x="236" y="253"/>
                  </a:lnTo>
                  <a:lnTo>
                    <a:pt x="239" y="272"/>
                  </a:lnTo>
                  <a:lnTo>
                    <a:pt x="244" y="290"/>
                  </a:lnTo>
                  <a:lnTo>
                    <a:pt x="247" y="297"/>
                  </a:lnTo>
                  <a:lnTo>
                    <a:pt x="251" y="304"/>
                  </a:lnTo>
                  <a:lnTo>
                    <a:pt x="257" y="308"/>
                  </a:lnTo>
                  <a:lnTo>
                    <a:pt x="263" y="312"/>
                  </a:lnTo>
                  <a:lnTo>
                    <a:pt x="272" y="315"/>
                  </a:lnTo>
                  <a:lnTo>
                    <a:pt x="283" y="317"/>
                  </a:lnTo>
                  <a:lnTo>
                    <a:pt x="297" y="319"/>
                  </a:lnTo>
                  <a:lnTo>
                    <a:pt x="311" y="320"/>
                  </a:lnTo>
                  <a:lnTo>
                    <a:pt x="327" y="321"/>
                  </a:lnTo>
                  <a:lnTo>
                    <a:pt x="344" y="321"/>
                  </a:lnTo>
                  <a:lnTo>
                    <a:pt x="363" y="320"/>
                  </a:lnTo>
                  <a:lnTo>
                    <a:pt x="381" y="317"/>
                  </a:lnTo>
                  <a:lnTo>
                    <a:pt x="399" y="312"/>
                  </a:lnTo>
                  <a:lnTo>
                    <a:pt x="417" y="306"/>
                  </a:lnTo>
                  <a:lnTo>
                    <a:pt x="425" y="302"/>
                  </a:lnTo>
                  <a:lnTo>
                    <a:pt x="434" y="297"/>
                  </a:lnTo>
                  <a:lnTo>
                    <a:pt x="441" y="293"/>
                  </a:lnTo>
                  <a:lnTo>
                    <a:pt x="449" y="287"/>
                  </a:lnTo>
                  <a:lnTo>
                    <a:pt x="457" y="280"/>
                  </a:lnTo>
                  <a:lnTo>
                    <a:pt x="463" y="274"/>
                  </a:lnTo>
                  <a:lnTo>
                    <a:pt x="469" y="266"/>
                  </a:lnTo>
                  <a:lnTo>
                    <a:pt x="476" y="257"/>
                  </a:lnTo>
                  <a:lnTo>
                    <a:pt x="480" y="249"/>
                  </a:lnTo>
                  <a:lnTo>
                    <a:pt x="486" y="238"/>
                  </a:lnTo>
                  <a:lnTo>
                    <a:pt x="490" y="227"/>
                  </a:lnTo>
                  <a:lnTo>
                    <a:pt x="493" y="216"/>
                  </a:lnTo>
                  <a:lnTo>
                    <a:pt x="505" y="174"/>
                  </a:lnTo>
                  <a:lnTo>
                    <a:pt x="518" y="136"/>
                  </a:lnTo>
                  <a:lnTo>
                    <a:pt x="531" y="103"/>
                  </a:lnTo>
                  <a:lnTo>
                    <a:pt x="542" y="75"/>
                  </a:lnTo>
                  <a:lnTo>
                    <a:pt x="553" y="52"/>
                  </a:lnTo>
                  <a:lnTo>
                    <a:pt x="560" y="35"/>
                  </a:lnTo>
                  <a:lnTo>
                    <a:pt x="566" y="24"/>
                  </a:lnTo>
                  <a:lnTo>
                    <a:pt x="567" y="21"/>
                  </a:lnTo>
                  <a:lnTo>
                    <a:pt x="565" y="36"/>
                  </a:lnTo>
                  <a:lnTo>
                    <a:pt x="563" y="47"/>
                  </a:lnTo>
                  <a:lnTo>
                    <a:pt x="562" y="53"/>
                  </a:lnTo>
                  <a:lnTo>
                    <a:pt x="562" y="56"/>
                  </a:lnTo>
                  <a:lnTo>
                    <a:pt x="561" y="59"/>
                  </a:lnTo>
                  <a:lnTo>
                    <a:pt x="562" y="60"/>
                  </a:lnTo>
                  <a:lnTo>
                    <a:pt x="562" y="62"/>
                  </a:lnTo>
                  <a:lnTo>
                    <a:pt x="562" y="65"/>
                  </a:lnTo>
                  <a:lnTo>
                    <a:pt x="559" y="94"/>
                  </a:lnTo>
                  <a:lnTo>
                    <a:pt x="558" y="118"/>
                  </a:lnTo>
                  <a:lnTo>
                    <a:pt x="556" y="140"/>
                  </a:lnTo>
                  <a:lnTo>
                    <a:pt x="556" y="158"/>
                  </a:lnTo>
                  <a:lnTo>
                    <a:pt x="556" y="175"/>
                  </a:lnTo>
                  <a:lnTo>
                    <a:pt x="557" y="193"/>
                  </a:lnTo>
                  <a:lnTo>
                    <a:pt x="559" y="211"/>
                  </a:lnTo>
                  <a:lnTo>
                    <a:pt x="562" y="230"/>
                  </a:lnTo>
                  <a:lnTo>
                    <a:pt x="563" y="241"/>
                  </a:lnTo>
                  <a:lnTo>
                    <a:pt x="563" y="252"/>
                  </a:lnTo>
                  <a:lnTo>
                    <a:pt x="562" y="264"/>
                  </a:lnTo>
                  <a:lnTo>
                    <a:pt x="560" y="275"/>
                  </a:lnTo>
                  <a:lnTo>
                    <a:pt x="557" y="285"/>
                  </a:lnTo>
                  <a:lnTo>
                    <a:pt x="554" y="296"/>
                  </a:lnTo>
                  <a:lnTo>
                    <a:pt x="549" y="307"/>
                  </a:lnTo>
                  <a:lnTo>
                    <a:pt x="544" y="317"/>
                  </a:lnTo>
                  <a:lnTo>
                    <a:pt x="539" y="326"/>
                  </a:lnTo>
                  <a:lnTo>
                    <a:pt x="533" y="335"/>
                  </a:lnTo>
                  <a:lnTo>
                    <a:pt x="528" y="343"/>
                  </a:lnTo>
                  <a:lnTo>
                    <a:pt x="521" y="350"/>
                  </a:lnTo>
                  <a:lnTo>
                    <a:pt x="516" y="357"/>
                  </a:lnTo>
                  <a:lnTo>
                    <a:pt x="511" y="362"/>
                  </a:lnTo>
                  <a:lnTo>
                    <a:pt x="505" y="366"/>
                  </a:lnTo>
                  <a:lnTo>
                    <a:pt x="501" y="369"/>
                  </a:lnTo>
                  <a:lnTo>
                    <a:pt x="492" y="374"/>
                  </a:lnTo>
                  <a:lnTo>
                    <a:pt x="484" y="376"/>
                  </a:lnTo>
                  <a:lnTo>
                    <a:pt x="474" y="378"/>
                  </a:lnTo>
                  <a:lnTo>
                    <a:pt x="462" y="380"/>
                  </a:lnTo>
                  <a:lnTo>
                    <a:pt x="448" y="383"/>
                  </a:lnTo>
                  <a:lnTo>
                    <a:pt x="431" y="386"/>
                  </a:lnTo>
                  <a:lnTo>
                    <a:pt x="409" y="391"/>
                  </a:lnTo>
                  <a:lnTo>
                    <a:pt x="382" y="399"/>
                  </a:lnTo>
                  <a:lnTo>
                    <a:pt x="367" y="402"/>
                  </a:lnTo>
                  <a:lnTo>
                    <a:pt x="352" y="405"/>
                  </a:lnTo>
                  <a:lnTo>
                    <a:pt x="338" y="406"/>
                  </a:lnTo>
                  <a:lnTo>
                    <a:pt x="324" y="407"/>
                  </a:lnTo>
                  <a:lnTo>
                    <a:pt x="309" y="406"/>
                  </a:lnTo>
                  <a:lnTo>
                    <a:pt x="296" y="406"/>
                  </a:lnTo>
                  <a:lnTo>
                    <a:pt x="282" y="404"/>
                  </a:lnTo>
                  <a:lnTo>
                    <a:pt x="270" y="402"/>
                  </a:lnTo>
                  <a:lnTo>
                    <a:pt x="246" y="397"/>
                  </a:lnTo>
                  <a:lnTo>
                    <a:pt x="224" y="389"/>
                  </a:lnTo>
                  <a:lnTo>
                    <a:pt x="207" y="382"/>
                  </a:lnTo>
                  <a:lnTo>
                    <a:pt x="194" y="374"/>
                  </a:lnTo>
                  <a:lnTo>
                    <a:pt x="184" y="368"/>
                  </a:lnTo>
                  <a:lnTo>
                    <a:pt x="174" y="361"/>
                  </a:lnTo>
                  <a:lnTo>
                    <a:pt x="164" y="356"/>
                  </a:lnTo>
                  <a:lnTo>
                    <a:pt x="154" y="350"/>
                  </a:lnTo>
                  <a:lnTo>
                    <a:pt x="142" y="347"/>
                  </a:lnTo>
                  <a:lnTo>
                    <a:pt x="130" y="345"/>
                  </a:lnTo>
                  <a:lnTo>
                    <a:pt x="124" y="344"/>
                  </a:lnTo>
                  <a:lnTo>
                    <a:pt x="117" y="345"/>
                  </a:lnTo>
                  <a:lnTo>
                    <a:pt x="110" y="345"/>
                  </a:lnTo>
                  <a:lnTo>
                    <a:pt x="102" y="347"/>
                  </a:lnTo>
                  <a:lnTo>
                    <a:pt x="95" y="348"/>
                  </a:lnTo>
                  <a:lnTo>
                    <a:pt x="87" y="349"/>
                  </a:lnTo>
                  <a:lnTo>
                    <a:pt x="80" y="349"/>
                  </a:lnTo>
                  <a:lnTo>
                    <a:pt x="73" y="348"/>
                  </a:lnTo>
                  <a:lnTo>
                    <a:pt x="60" y="345"/>
                  </a:lnTo>
                  <a:lnTo>
                    <a:pt x="48" y="339"/>
                  </a:lnTo>
                  <a:lnTo>
                    <a:pt x="36" y="333"/>
                  </a:lnTo>
                  <a:lnTo>
                    <a:pt x="27" y="325"/>
                  </a:lnTo>
                  <a:lnTo>
                    <a:pt x="17" y="318"/>
                  </a:lnTo>
                  <a:lnTo>
                    <a:pt x="8" y="310"/>
                  </a:lnTo>
                  <a:lnTo>
                    <a:pt x="5" y="305"/>
                  </a:lnTo>
                  <a:lnTo>
                    <a:pt x="2" y="299"/>
                  </a:lnTo>
                  <a:lnTo>
                    <a:pt x="1" y="292"/>
                  </a:lnTo>
                  <a:lnTo>
                    <a:pt x="0" y="284"/>
                  </a:lnTo>
                  <a:lnTo>
                    <a:pt x="1" y="265"/>
                  </a:lnTo>
                  <a:lnTo>
                    <a:pt x="4" y="242"/>
                  </a:lnTo>
                  <a:lnTo>
                    <a:pt x="9" y="218"/>
                  </a:lnTo>
                  <a:lnTo>
                    <a:pt x="15" y="194"/>
                  </a:lnTo>
                  <a:lnTo>
                    <a:pt x="20" y="169"/>
                  </a:lnTo>
                  <a:lnTo>
                    <a:pt x="26" y="146"/>
                  </a:lnTo>
                  <a:lnTo>
                    <a:pt x="28" y="137"/>
                  </a:lnTo>
                  <a:lnTo>
                    <a:pt x="31" y="125"/>
                  </a:lnTo>
                  <a:lnTo>
                    <a:pt x="33" y="108"/>
                  </a:lnTo>
                  <a:lnTo>
                    <a:pt x="36" y="90"/>
                  </a:lnTo>
                  <a:lnTo>
                    <a:pt x="40" y="68"/>
                  </a:lnTo>
                  <a:lnTo>
                    <a:pt x="42" y="46"/>
                  </a:lnTo>
                  <a:lnTo>
                    <a:pt x="44" y="23"/>
                  </a:lnTo>
                  <a:lnTo>
                    <a:pt x="45" y="0"/>
                  </a:lnTo>
                  <a:lnTo>
                    <a:pt x="45" y="7"/>
                  </a:lnTo>
                  <a:lnTo>
                    <a:pt x="45" y="24"/>
                  </a:lnTo>
                  <a:lnTo>
                    <a:pt x="45" y="50"/>
                  </a:lnTo>
                  <a:lnTo>
                    <a:pt x="47" y="81"/>
                  </a:lnTo>
                  <a:lnTo>
                    <a:pt x="49" y="100"/>
                  </a:lnTo>
                  <a:lnTo>
                    <a:pt x="51" y="118"/>
                  </a:lnTo>
                  <a:lnTo>
                    <a:pt x="55" y="136"/>
                  </a:lnTo>
                  <a:lnTo>
                    <a:pt x="58" y="155"/>
                  </a:lnTo>
                  <a:lnTo>
                    <a:pt x="62" y="174"/>
                  </a:lnTo>
                  <a:lnTo>
                    <a:pt x="69" y="191"/>
                  </a:lnTo>
                  <a:lnTo>
                    <a:pt x="75" y="210"/>
                  </a:lnTo>
                  <a:lnTo>
                    <a:pt x="83" y="226"/>
                  </a:lnTo>
                  <a:lnTo>
                    <a:pt x="87" y="233"/>
                  </a:lnTo>
                  <a:lnTo>
                    <a:pt x="91" y="239"/>
                  </a:lnTo>
                  <a:lnTo>
                    <a:pt x="96" y="244"/>
                  </a:lnTo>
                  <a:lnTo>
                    <a:pt x="100" y="249"/>
                  </a:lnTo>
                  <a:lnTo>
                    <a:pt x="104" y="251"/>
                  </a:lnTo>
                  <a:lnTo>
                    <a:pt x="109" y="254"/>
                  </a:lnTo>
                  <a:lnTo>
                    <a:pt x="112" y="255"/>
                  </a:lnTo>
                  <a:lnTo>
                    <a:pt x="116" y="255"/>
                  </a:lnTo>
                  <a:lnTo>
                    <a:pt x="121" y="255"/>
                  </a:lnTo>
                  <a:lnTo>
                    <a:pt x="125" y="255"/>
                  </a:lnTo>
                  <a:lnTo>
                    <a:pt x="129" y="253"/>
                  </a:lnTo>
                  <a:lnTo>
                    <a:pt x="132" y="252"/>
                  </a:lnTo>
                  <a:lnTo>
                    <a:pt x="141" y="247"/>
                  </a:lnTo>
                  <a:lnTo>
                    <a:pt x="149" y="240"/>
                  </a:lnTo>
                  <a:lnTo>
                    <a:pt x="164" y="225"/>
                  </a:lnTo>
                  <a:lnTo>
                    <a:pt x="179" y="211"/>
                  </a:lnTo>
                  <a:lnTo>
                    <a:pt x="186" y="204"/>
                  </a:lnTo>
                  <a:lnTo>
                    <a:pt x="194" y="200"/>
                  </a:lnTo>
                  <a:lnTo>
                    <a:pt x="197" y="199"/>
                  </a:lnTo>
                  <a:lnTo>
                    <a:pt x="202" y="198"/>
                  </a:lnTo>
                  <a:lnTo>
                    <a:pt x="205" y="198"/>
                  </a:lnTo>
                  <a:lnTo>
                    <a:pt x="209" y="199"/>
                  </a:lnTo>
                  <a:close/>
                </a:path>
              </a:pathLst>
            </a:custGeom>
            <a:solidFill>
              <a:srgbClr val="80bd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630840" y="2216160"/>
              <a:ext cx="179640" cy="119160"/>
            </a:xfrm>
            <a:custGeom>
              <a:avLst/>
              <a:gdLst/>
              <a:ahLst/>
              <a:rect l="l" t="t" r="r" b="b"/>
              <a:pathLst>
                <a:path w="565" h="379">
                  <a:moveTo>
                    <a:pt x="204" y="188"/>
                  </a:moveTo>
                  <a:lnTo>
                    <a:pt x="210" y="190"/>
                  </a:lnTo>
                  <a:lnTo>
                    <a:pt x="216" y="195"/>
                  </a:lnTo>
                  <a:lnTo>
                    <a:pt x="220" y="201"/>
                  </a:lnTo>
                  <a:lnTo>
                    <a:pt x="223" y="208"/>
                  </a:lnTo>
                  <a:lnTo>
                    <a:pt x="229" y="225"/>
                  </a:lnTo>
                  <a:lnTo>
                    <a:pt x="232" y="244"/>
                  </a:lnTo>
                  <a:lnTo>
                    <a:pt x="236" y="263"/>
                  </a:lnTo>
                  <a:lnTo>
                    <a:pt x="242" y="281"/>
                  </a:lnTo>
                  <a:lnTo>
                    <a:pt x="245" y="289"/>
                  </a:lnTo>
                  <a:lnTo>
                    <a:pt x="249" y="295"/>
                  </a:lnTo>
                  <a:lnTo>
                    <a:pt x="255" y="301"/>
                  </a:lnTo>
                  <a:lnTo>
                    <a:pt x="261" y="304"/>
                  </a:lnTo>
                  <a:lnTo>
                    <a:pt x="269" y="306"/>
                  </a:lnTo>
                  <a:lnTo>
                    <a:pt x="280" y="309"/>
                  </a:lnTo>
                  <a:lnTo>
                    <a:pt x="294" y="311"/>
                  </a:lnTo>
                  <a:lnTo>
                    <a:pt x="310" y="314"/>
                  </a:lnTo>
                  <a:lnTo>
                    <a:pt x="327" y="315"/>
                  </a:lnTo>
                  <a:lnTo>
                    <a:pt x="345" y="315"/>
                  </a:lnTo>
                  <a:lnTo>
                    <a:pt x="365" y="314"/>
                  </a:lnTo>
                  <a:lnTo>
                    <a:pt x="384" y="311"/>
                  </a:lnTo>
                  <a:lnTo>
                    <a:pt x="404" y="307"/>
                  </a:lnTo>
                  <a:lnTo>
                    <a:pt x="422" y="301"/>
                  </a:lnTo>
                  <a:lnTo>
                    <a:pt x="432" y="296"/>
                  </a:lnTo>
                  <a:lnTo>
                    <a:pt x="440" y="292"/>
                  </a:lnTo>
                  <a:lnTo>
                    <a:pt x="449" y="287"/>
                  </a:lnTo>
                  <a:lnTo>
                    <a:pt x="457" y="281"/>
                  </a:lnTo>
                  <a:lnTo>
                    <a:pt x="464" y="274"/>
                  </a:lnTo>
                  <a:lnTo>
                    <a:pt x="472" y="267"/>
                  </a:lnTo>
                  <a:lnTo>
                    <a:pt x="478" y="259"/>
                  </a:lnTo>
                  <a:lnTo>
                    <a:pt x="484" y="250"/>
                  </a:lnTo>
                  <a:lnTo>
                    <a:pt x="489" y="240"/>
                  </a:lnTo>
                  <a:lnTo>
                    <a:pt x="493" y="229"/>
                  </a:lnTo>
                  <a:lnTo>
                    <a:pt x="498" y="217"/>
                  </a:lnTo>
                  <a:lnTo>
                    <a:pt x="501" y="206"/>
                  </a:lnTo>
                  <a:lnTo>
                    <a:pt x="511" y="163"/>
                  </a:lnTo>
                  <a:lnTo>
                    <a:pt x="521" y="127"/>
                  </a:lnTo>
                  <a:lnTo>
                    <a:pt x="531" y="94"/>
                  </a:lnTo>
                  <a:lnTo>
                    <a:pt x="542" y="66"/>
                  </a:lnTo>
                  <a:lnTo>
                    <a:pt x="551" y="45"/>
                  </a:lnTo>
                  <a:lnTo>
                    <a:pt x="558" y="28"/>
                  </a:lnTo>
                  <a:lnTo>
                    <a:pt x="563" y="19"/>
                  </a:lnTo>
                  <a:lnTo>
                    <a:pt x="565" y="14"/>
                  </a:lnTo>
                  <a:lnTo>
                    <a:pt x="561" y="36"/>
                  </a:lnTo>
                  <a:lnTo>
                    <a:pt x="558" y="50"/>
                  </a:lnTo>
                  <a:lnTo>
                    <a:pt x="557" y="58"/>
                  </a:lnTo>
                  <a:lnTo>
                    <a:pt x="556" y="61"/>
                  </a:lnTo>
                  <a:lnTo>
                    <a:pt x="556" y="61"/>
                  </a:lnTo>
                  <a:lnTo>
                    <a:pt x="557" y="60"/>
                  </a:lnTo>
                  <a:lnTo>
                    <a:pt x="557" y="60"/>
                  </a:lnTo>
                  <a:lnTo>
                    <a:pt x="557" y="62"/>
                  </a:lnTo>
                  <a:lnTo>
                    <a:pt x="556" y="86"/>
                  </a:lnTo>
                  <a:lnTo>
                    <a:pt x="555" y="105"/>
                  </a:lnTo>
                  <a:lnTo>
                    <a:pt x="554" y="121"/>
                  </a:lnTo>
                  <a:lnTo>
                    <a:pt x="554" y="136"/>
                  </a:lnTo>
                  <a:lnTo>
                    <a:pt x="555" y="152"/>
                  </a:lnTo>
                  <a:lnTo>
                    <a:pt x="557" y="167"/>
                  </a:lnTo>
                  <a:lnTo>
                    <a:pt x="559" y="183"/>
                  </a:lnTo>
                  <a:lnTo>
                    <a:pt x="562" y="202"/>
                  </a:lnTo>
                  <a:lnTo>
                    <a:pt x="563" y="213"/>
                  </a:lnTo>
                  <a:lnTo>
                    <a:pt x="563" y="224"/>
                  </a:lnTo>
                  <a:lnTo>
                    <a:pt x="562" y="236"/>
                  </a:lnTo>
                  <a:lnTo>
                    <a:pt x="560" y="247"/>
                  </a:lnTo>
                  <a:lnTo>
                    <a:pt x="557" y="257"/>
                  </a:lnTo>
                  <a:lnTo>
                    <a:pt x="554" y="268"/>
                  </a:lnTo>
                  <a:lnTo>
                    <a:pt x="549" y="279"/>
                  </a:lnTo>
                  <a:lnTo>
                    <a:pt x="544" y="289"/>
                  </a:lnTo>
                  <a:lnTo>
                    <a:pt x="539" y="298"/>
                  </a:lnTo>
                  <a:lnTo>
                    <a:pt x="533" y="307"/>
                  </a:lnTo>
                  <a:lnTo>
                    <a:pt x="528" y="315"/>
                  </a:lnTo>
                  <a:lnTo>
                    <a:pt x="521" y="322"/>
                  </a:lnTo>
                  <a:lnTo>
                    <a:pt x="516" y="329"/>
                  </a:lnTo>
                  <a:lnTo>
                    <a:pt x="511" y="334"/>
                  </a:lnTo>
                  <a:lnTo>
                    <a:pt x="505" y="338"/>
                  </a:lnTo>
                  <a:lnTo>
                    <a:pt x="501" y="341"/>
                  </a:lnTo>
                  <a:lnTo>
                    <a:pt x="492" y="346"/>
                  </a:lnTo>
                  <a:lnTo>
                    <a:pt x="484" y="348"/>
                  </a:lnTo>
                  <a:lnTo>
                    <a:pt x="474" y="350"/>
                  </a:lnTo>
                  <a:lnTo>
                    <a:pt x="462" y="352"/>
                  </a:lnTo>
                  <a:lnTo>
                    <a:pt x="448" y="355"/>
                  </a:lnTo>
                  <a:lnTo>
                    <a:pt x="431" y="358"/>
                  </a:lnTo>
                  <a:lnTo>
                    <a:pt x="409" y="363"/>
                  </a:lnTo>
                  <a:lnTo>
                    <a:pt x="382" y="371"/>
                  </a:lnTo>
                  <a:lnTo>
                    <a:pt x="367" y="374"/>
                  </a:lnTo>
                  <a:lnTo>
                    <a:pt x="352" y="377"/>
                  </a:lnTo>
                  <a:lnTo>
                    <a:pt x="338" y="378"/>
                  </a:lnTo>
                  <a:lnTo>
                    <a:pt x="324" y="379"/>
                  </a:lnTo>
                  <a:lnTo>
                    <a:pt x="309" y="378"/>
                  </a:lnTo>
                  <a:lnTo>
                    <a:pt x="296" y="378"/>
                  </a:lnTo>
                  <a:lnTo>
                    <a:pt x="282" y="376"/>
                  </a:lnTo>
                  <a:lnTo>
                    <a:pt x="270" y="374"/>
                  </a:lnTo>
                  <a:lnTo>
                    <a:pt x="246" y="369"/>
                  </a:lnTo>
                  <a:lnTo>
                    <a:pt x="224" y="361"/>
                  </a:lnTo>
                  <a:lnTo>
                    <a:pt x="207" y="354"/>
                  </a:lnTo>
                  <a:lnTo>
                    <a:pt x="194" y="346"/>
                  </a:lnTo>
                  <a:lnTo>
                    <a:pt x="184" y="340"/>
                  </a:lnTo>
                  <a:lnTo>
                    <a:pt x="174" y="333"/>
                  </a:lnTo>
                  <a:lnTo>
                    <a:pt x="164" y="328"/>
                  </a:lnTo>
                  <a:lnTo>
                    <a:pt x="154" y="322"/>
                  </a:lnTo>
                  <a:lnTo>
                    <a:pt x="142" y="319"/>
                  </a:lnTo>
                  <a:lnTo>
                    <a:pt x="130" y="317"/>
                  </a:lnTo>
                  <a:lnTo>
                    <a:pt x="124" y="316"/>
                  </a:lnTo>
                  <a:lnTo>
                    <a:pt x="117" y="317"/>
                  </a:lnTo>
                  <a:lnTo>
                    <a:pt x="110" y="317"/>
                  </a:lnTo>
                  <a:lnTo>
                    <a:pt x="102" y="319"/>
                  </a:lnTo>
                  <a:lnTo>
                    <a:pt x="95" y="320"/>
                  </a:lnTo>
                  <a:lnTo>
                    <a:pt x="87" y="321"/>
                  </a:lnTo>
                  <a:lnTo>
                    <a:pt x="80" y="321"/>
                  </a:lnTo>
                  <a:lnTo>
                    <a:pt x="73" y="320"/>
                  </a:lnTo>
                  <a:lnTo>
                    <a:pt x="60" y="317"/>
                  </a:lnTo>
                  <a:lnTo>
                    <a:pt x="48" y="311"/>
                  </a:lnTo>
                  <a:lnTo>
                    <a:pt x="36" y="305"/>
                  </a:lnTo>
                  <a:lnTo>
                    <a:pt x="27" y="297"/>
                  </a:lnTo>
                  <a:lnTo>
                    <a:pt x="17" y="290"/>
                  </a:lnTo>
                  <a:lnTo>
                    <a:pt x="8" y="282"/>
                  </a:lnTo>
                  <a:lnTo>
                    <a:pt x="5" y="277"/>
                  </a:lnTo>
                  <a:lnTo>
                    <a:pt x="2" y="271"/>
                  </a:lnTo>
                  <a:lnTo>
                    <a:pt x="1" y="264"/>
                  </a:lnTo>
                  <a:lnTo>
                    <a:pt x="0" y="256"/>
                  </a:lnTo>
                  <a:lnTo>
                    <a:pt x="1" y="237"/>
                  </a:lnTo>
                  <a:lnTo>
                    <a:pt x="4" y="214"/>
                  </a:lnTo>
                  <a:lnTo>
                    <a:pt x="9" y="190"/>
                  </a:lnTo>
                  <a:lnTo>
                    <a:pt x="15" y="166"/>
                  </a:lnTo>
                  <a:lnTo>
                    <a:pt x="20" y="141"/>
                  </a:lnTo>
                  <a:lnTo>
                    <a:pt x="26" y="118"/>
                  </a:lnTo>
                  <a:lnTo>
                    <a:pt x="28" y="114"/>
                  </a:lnTo>
                  <a:lnTo>
                    <a:pt x="30" y="105"/>
                  </a:lnTo>
                  <a:lnTo>
                    <a:pt x="32" y="92"/>
                  </a:lnTo>
                  <a:lnTo>
                    <a:pt x="35" y="77"/>
                  </a:lnTo>
                  <a:lnTo>
                    <a:pt x="38" y="59"/>
                  </a:lnTo>
                  <a:lnTo>
                    <a:pt x="41" y="39"/>
                  </a:lnTo>
                  <a:lnTo>
                    <a:pt x="43" y="20"/>
                  </a:lnTo>
                  <a:lnTo>
                    <a:pt x="43" y="0"/>
                  </a:lnTo>
                  <a:lnTo>
                    <a:pt x="43" y="6"/>
                  </a:lnTo>
                  <a:lnTo>
                    <a:pt x="42" y="23"/>
                  </a:lnTo>
                  <a:lnTo>
                    <a:pt x="42" y="48"/>
                  </a:lnTo>
                  <a:lnTo>
                    <a:pt x="43" y="79"/>
                  </a:lnTo>
                  <a:lnTo>
                    <a:pt x="44" y="98"/>
                  </a:lnTo>
                  <a:lnTo>
                    <a:pt x="46" y="115"/>
                  </a:lnTo>
                  <a:lnTo>
                    <a:pt x="49" y="133"/>
                  </a:lnTo>
                  <a:lnTo>
                    <a:pt x="53" y="153"/>
                  </a:lnTo>
                  <a:lnTo>
                    <a:pt x="57" y="171"/>
                  </a:lnTo>
                  <a:lnTo>
                    <a:pt x="62" y="188"/>
                  </a:lnTo>
                  <a:lnTo>
                    <a:pt x="70" y="206"/>
                  </a:lnTo>
                  <a:lnTo>
                    <a:pt x="77" y="223"/>
                  </a:lnTo>
                  <a:lnTo>
                    <a:pt x="82" y="229"/>
                  </a:lnTo>
                  <a:lnTo>
                    <a:pt x="86" y="236"/>
                  </a:lnTo>
                  <a:lnTo>
                    <a:pt x="90" y="240"/>
                  </a:lnTo>
                  <a:lnTo>
                    <a:pt x="95" y="244"/>
                  </a:lnTo>
                  <a:lnTo>
                    <a:pt x="99" y="247"/>
                  </a:lnTo>
                  <a:lnTo>
                    <a:pt x="103" y="249"/>
                  </a:lnTo>
                  <a:lnTo>
                    <a:pt x="108" y="250"/>
                  </a:lnTo>
                  <a:lnTo>
                    <a:pt x="112" y="250"/>
                  </a:lnTo>
                  <a:lnTo>
                    <a:pt x="116" y="250"/>
                  </a:lnTo>
                  <a:lnTo>
                    <a:pt x="121" y="249"/>
                  </a:lnTo>
                  <a:lnTo>
                    <a:pt x="124" y="247"/>
                  </a:lnTo>
                  <a:lnTo>
                    <a:pt x="128" y="244"/>
                  </a:lnTo>
                  <a:lnTo>
                    <a:pt x="137" y="239"/>
                  </a:lnTo>
                  <a:lnTo>
                    <a:pt x="144" y="232"/>
                  </a:lnTo>
                  <a:lnTo>
                    <a:pt x="159" y="216"/>
                  </a:lnTo>
                  <a:lnTo>
                    <a:pt x="175" y="200"/>
                  </a:lnTo>
                  <a:lnTo>
                    <a:pt x="182" y="195"/>
                  </a:lnTo>
                  <a:lnTo>
                    <a:pt x="190" y="189"/>
                  </a:lnTo>
                  <a:lnTo>
                    <a:pt x="193" y="188"/>
                  </a:lnTo>
                  <a:lnTo>
                    <a:pt x="196" y="187"/>
                  </a:lnTo>
                  <a:lnTo>
                    <a:pt x="201" y="187"/>
                  </a:lnTo>
                  <a:lnTo>
                    <a:pt x="204" y="188"/>
                  </a:lnTo>
                  <a:close/>
                </a:path>
              </a:pathLst>
            </a:custGeom>
            <a:solidFill>
              <a:srgbClr val="7cb6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630840" y="2224080"/>
              <a:ext cx="179640" cy="111240"/>
            </a:xfrm>
            <a:custGeom>
              <a:avLst/>
              <a:gdLst/>
              <a:ahLst/>
              <a:rect l="l" t="t" r="r" b="b"/>
              <a:pathLst>
                <a:path w="563" h="352">
                  <a:moveTo>
                    <a:pt x="202" y="179"/>
                  </a:moveTo>
                  <a:lnTo>
                    <a:pt x="208" y="181"/>
                  </a:lnTo>
                  <a:lnTo>
                    <a:pt x="212" y="185"/>
                  </a:lnTo>
                  <a:lnTo>
                    <a:pt x="217" y="192"/>
                  </a:lnTo>
                  <a:lnTo>
                    <a:pt x="220" y="199"/>
                  </a:lnTo>
                  <a:lnTo>
                    <a:pt x="225" y="216"/>
                  </a:lnTo>
                  <a:lnTo>
                    <a:pt x="229" y="236"/>
                  </a:lnTo>
                  <a:lnTo>
                    <a:pt x="232" y="255"/>
                  </a:lnTo>
                  <a:lnTo>
                    <a:pt x="237" y="274"/>
                  </a:lnTo>
                  <a:lnTo>
                    <a:pt x="240" y="281"/>
                  </a:lnTo>
                  <a:lnTo>
                    <a:pt x="244" y="288"/>
                  </a:lnTo>
                  <a:lnTo>
                    <a:pt x="249" y="293"/>
                  </a:lnTo>
                  <a:lnTo>
                    <a:pt x="256" y="296"/>
                  </a:lnTo>
                  <a:lnTo>
                    <a:pt x="264" y="300"/>
                  </a:lnTo>
                  <a:lnTo>
                    <a:pt x="276" y="302"/>
                  </a:lnTo>
                  <a:lnTo>
                    <a:pt x="291" y="305"/>
                  </a:lnTo>
                  <a:lnTo>
                    <a:pt x="307" y="307"/>
                  </a:lnTo>
                  <a:lnTo>
                    <a:pt x="326" y="308"/>
                  </a:lnTo>
                  <a:lnTo>
                    <a:pt x="346" y="309"/>
                  </a:lnTo>
                  <a:lnTo>
                    <a:pt x="367" y="308"/>
                  </a:lnTo>
                  <a:lnTo>
                    <a:pt x="387" y="306"/>
                  </a:lnTo>
                  <a:lnTo>
                    <a:pt x="398" y="305"/>
                  </a:lnTo>
                  <a:lnTo>
                    <a:pt x="408" y="303"/>
                  </a:lnTo>
                  <a:lnTo>
                    <a:pt x="418" y="300"/>
                  </a:lnTo>
                  <a:lnTo>
                    <a:pt x="428" y="296"/>
                  </a:lnTo>
                  <a:lnTo>
                    <a:pt x="438" y="292"/>
                  </a:lnTo>
                  <a:lnTo>
                    <a:pt x="447" y="288"/>
                  </a:lnTo>
                  <a:lnTo>
                    <a:pt x="455" y="282"/>
                  </a:lnTo>
                  <a:lnTo>
                    <a:pt x="464" y="276"/>
                  </a:lnTo>
                  <a:lnTo>
                    <a:pt x="472" y="268"/>
                  </a:lnTo>
                  <a:lnTo>
                    <a:pt x="479" y="261"/>
                  </a:lnTo>
                  <a:lnTo>
                    <a:pt x="486" y="252"/>
                  </a:lnTo>
                  <a:lnTo>
                    <a:pt x="492" y="243"/>
                  </a:lnTo>
                  <a:lnTo>
                    <a:pt x="498" y="233"/>
                  </a:lnTo>
                  <a:lnTo>
                    <a:pt x="502" y="221"/>
                  </a:lnTo>
                  <a:lnTo>
                    <a:pt x="505" y="209"/>
                  </a:lnTo>
                  <a:lnTo>
                    <a:pt x="507" y="196"/>
                  </a:lnTo>
                  <a:lnTo>
                    <a:pt x="516" y="154"/>
                  </a:lnTo>
                  <a:lnTo>
                    <a:pt x="525" y="117"/>
                  </a:lnTo>
                  <a:lnTo>
                    <a:pt x="533" y="86"/>
                  </a:lnTo>
                  <a:lnTo>
                    <a:pt x="541" y="59"/>
                  </a:lnTo>
                  <a:lnTo>
                    <a:pt x="548" y="38"/>
                  </a:lnTo>
                  <a:lnTo>
                    <a:pt x="555" y="23"/>
                  </a:lnTo>
                  <a:lnTo>
                    <a:pt x="558" y="13"/>
                  </a:lnTo>
                  <a:lnTo>
                    <a:pt x="560" y="10"/>
                  </a:lnTo>
                  <a:lnTo>
                    <a:pt x="555" y="37"/>
                  </a:lnTo>
                  <a:lnTo>
                    <a:pt x="553" y="53"/>
                  </a:lnTo>
                  <a:lnTo>
                    <a:pt x="551" y="61"/>
                  </a:lnTo>
                  <a:lnTo>
                    <a:pt x="551" y="64"/>
                  </a:lnTo>
                  <a:lnTo>
                    <a:pt x="551" y="63"/>
                  </a:lnTo>
                  <a:lnTo>
                    <a:pt x="552" y="61"/>
                  </a:lnTo>
                  <a:lnTo>
                    <a:pt x="552" y="60"/>
                  </a:lnTo>
                  <a:lnTo>
                    <a:pt x="552" y="60"/>
                  </a:lnTo>
                  <a:lnTo>
                    <a:pt x="553" y="60"/>
                  </a:lnTo>
                  <a:lnTo>
                    <a:pt x="553" y="62"/>
                  </a:lnTo>
                  <a:lnTo>
                    <a:pt x="552" y="79"/>
                  </a:lnTo>
                  <a:lnTo>
                    <a:pt x="552" y="93"/>
                  </a:lnTo>
                  <a:lnTo>
                    <a:pt x="552" y="106"/>
                  </a:lnTo>
                  <a:lnTo>
                    <a:pt x="553" y="117"/>
                  </a:lnTo>
                  <a:lnTo>
                    <a:pt x="554" y="129"/>
                  </a:lnTo>
                  <a:lnTo>
                    <a:pt x="556" y="141"/>
                  </a:lnTo>
                  <a:lnTo>
                    <a:pt x="559" y="157"/>
                  </a:lnTo>
                  <a:lnTo>
                    <a:pt x="562" y="175"/>
                  </a:lnTo>
                  <a:lnTo>
                    <a:pt x="563" y="186"/>
                  </a:lnTo>
                  <a:lnTo>
                    <a:pt x="563" y="197"/>
                  </a:lnTo>
                  <a:lnTo>
                    <a:pt x="562" y="209"/>
                  </a:lnTo>
                  <a:lnTo>
                    <a:pt x="560" y="220"/>
                  </a:lnTo>
                  <a:lnTo>
                    <a:pt x="557" y="230"/>
                  </a:lnTo>
                  <a:lnTo>
                    <a:pt x="554" y="241"/>
                  </a:lnTo>
                  <a:lnTo>
                    <a:pt x="549" y="252"/>
                  </a:lnTo>
                  <a:lnTo>
                    <a:pt x="544" y="262"/>
                  </a:lnTo>
                  <a:lnTo>
                    <a:pt x="539" y="271"/>
                  </a:lnTo>
                  <a:lnTo>
                    <a:pt x="533" y="280"/>
                  </a:lnTo>
                  <a:lnTo>
                    <a:pt x="528" y="288"/>
                  </a:lnTo>
                  <a:lnTo>
                    <a:pt x="521" y="295"/>
                  </a:lnTo>
                  <a:lnTo>
                    <a:pt x="516" y="302"/>
                  </a:lnTo>
                  <a:lnTo>
                    <a:pt x="511" y="307"/>
                  </a:lnTo>
                  <a:lnTo>
                    <a:pt x="505" y="311"/>
                  </a:lnTo>
                  <a:lnTo>
                    <a:pt x="501" y="314"/>
                  </a:lnTo>
                  <a:lnTo>
                    <a:pt x="492" y="319"/>
                  </a:lnTo>
                  <a:lnTo>
                    <a:pt x="484" y="321"/>
                  </a:lnTo>
                  <a:lnTo>
                    <a:pt x="474" y="323"/>
                  </a:lnTo>
                  <a:lnTo>
                    <a:pt x="462" y="325"/>
                  </a:lnTo>
                  <a:lnTo>
                    <a:pt x="448" y="328"/>
                  </a:lnTo>
                  <a:lnTo>
                    <a:pt x="431" y="331"/>
                  </a:lnTo>
                  <a:lnTo>
                    <a:pt x="409" y="336"/>
                  </a:lnTo>
                  <a:lnTo>
                    <a:pt x="382" y="344"/>
                  </a:lnTo>
                  <a:lnTo>
                    <a:pt x="367" y="347"/>
                  </a:lnTo>
                  <a:lnTo>
                    <a:pt x="352" y="350"/>
                  </a:lnTo>
                  <a:lnTo>
                    <a:pt x="338" y="351"/>
                  </a:lnTo>
                  <a:lnTo>
                    <a:pt x="324" y="352"/>
                  </a:lnTo>
                  <a:lnTo>
                    <a:pt x="309" y="351"/>
                  </a:lnTo>
                  <a:lnTo>
                    <a:pt x="296" y="351"/>
                  </a:lnTo>
                  <a:lnTo>
                    <a:pt x="282" y="349"/>
                  </a:lnTo>
                  <a:lnTo>
                    <a:pt x="270" y="347"/>
                  </a:lnTo>
                  <a:lnTo>
                    <a:pt x="246" y="342"/>
                  </a:lnTo>
                  <a:lnTo>
                    <a:pt x="224" y="334"/>
                  </a:lnTo>
                  <a:lnTo>
                    <a:pt x="207" y="327"/>
                  </a:lnTo>
                  <a:lnTo>
                    <a:pt x="194" y="319"/>
                  </a:lnTo>
                  <a:lnTo>
                    <a:pt x="184" y="313"/>
                  </a:lnTo>
                  <a:lnTo>
                    <a:pt x="174" y="306"/>
                  </a:lnTo>
                  <a:lnTo>
                    <a:pt x="164" y="301"/>
                  </a:lnTo>
                  <a:lnTo>
                    <a:pt x="154" y="295"/>
                  </a:lnTo>
                  <a:lnTo>
                    <a:pt x="142" y="292"/>
                  </a:lnTo>
                  <a:lnTo>
                    <a:pt x="130" y="290"/>
                  </a:lnTo>
                  <a:lnTo>
                    <a:pt x="124" y="289"/>
                  </a:lnTo>
                  <a:lnTo>
                    <a:pt x="117" y="290"/>
                  </a:lnTo>
                  <a:lnTo>
                    <a:pt x="110" y="290"/>
                  </a:lnTo>
                  <a:lnTo>
                    <a:pt x="102" y="292"/>
                  </a:lnTo>
                  <a:lnTo>
                    <a:pt x="95" y="293"/>
                  </a:lnTo>
                  <a:lnTo>
                    <a:pt x="87" y="294"/>
                  </a:lnTo>
                  <a:lnTo>
                    <a:pt x="80" y="294"/>
                  </a:lnTo>
                  <a:lnTo>
                    <a:pt x="73" y="293"/>
                  </a:lnTo>
                  <a:lnTo>
                    <a:pt x="60" y="290"/>
                  </a:lnTo>
                  <a:lnTo>
                    <a:pt x="48" y="284"/>
                  </a:lnTo>
                  <a:lnTo>
                    <a:pt x="36" y="278"/>
                  </a:lnTo>
                  <a:lnTo>
                    <a:pt x="27" y="270"/>
                  </a:lnTo>
                  <a:lnTo>
                    <a:pt x="17" y="263"/>
                  </a:lnTo>
                  <a:lnTo>
                    <a:pt x="8" y="255"/>
                  </a:lnTo>
                  <a:lnTo>
                    <a:pt x="5" y="250"/>
                  </a:lnTo>
                  <a:lnTo>
                    <a:pt x="2" y="244"/>
                  </a:lnTo>
                  <a:lnTo>
                    <a:pt x="1" y="237"/>
                  </a:lnTo>
                  <a:lnTo>
                    <a:pt x="0" y="229"/>
                  </a:lnTo>
                  <a:lnTo>
                    <a:pt x="1" y="210"/>
                  </a:lnTo>
                  <a:lnTo>
                    <a:pt x="4" y="187"/>
                  </a:lnTo>
                  <a:lnTo>
                    <a:pt x="9" y="163"/>
                  </a:lnTo>
                  <a:lnTo>
                    <a:pt x="15" y="139"/>
                  </a:lnTo>
                  <a:lnTo>
                    <a:pt x="20" y="114"/>
                  </a:lnTo>
                  <a:lnTo>
                    <a:pt x="26" y="91"/>
                  </a:lnTo>
                  <a:lnTo>
                    <a:pt x="27" y="91"/>
                  </a:lnTo>
                  <a:lnTo>
                    <a:pt x="29" y="86"/>
                  </a:lnTo>
                  <a:lnTo>
                    <a:pt x="31" y="77"/>
                  </a:lnTo>
                  <a:lnTo>
                    <a:pt x="34" y="64"/>
                  </a:lnTo>
                  <a:lnTo>
                    <a:pt x="37" y="50"/>
                  </a:lnTo>
                  <a:lnTo>
                    <a:pt x="40" y="34"/>
                  </a:lnTo>
                  <a:lnTo>
                    <a:pt x="41" y="17"/>
                  </a:lnTo>
                  <a:lnTo>
                    <a:pt x="41" y="0"/>
                  </a:lnTo>
                  <a:lnTo>
                    <a:pt x="40" y="6"/>
                  </a:lnTo>
                  <a:lnTo>
                    <a:pt x="38" y="22"/>
                  </a:lnTo>
                  <a:lnTo>
                    <a:pt x="37" y="47"/>
                  </a:lnTo>
                  <a:lnTo>
                    <a:pt x="37" y="77"/>
                  </a:lnTo>
                  <a:lnTo>
                    <a:pt x="38" y="94"/>
                  </a:lnTo>
                  <a:lnTo>
                    <a:pt x="41" y="112"/>
                  </a:lnTo>
                  <a:lnTo>
                    <a:pt x="43" y="130"/>
                  </a:lnTo>
                  <a:lnTo>
                    <a:pt x="46" y="148"/>
                  </a:lnTo>
                  <a:lnTo>
                    <a:pt x="50" y="167"/>
                  </a:lnTo>
                  <a:lnTo>
                    <a:pt x="56" y="184"/>
                  </a:lnTo>
                  <a:lnTo>
                    <a:pt x="62" y="201"/>
                  </a:lnTo>
                  <a:lnTo>
                    <a:pt x="70" y="217"/>
                  </a:lnTo>
                  <a:lnTo>
                    <a:pt x="74" y="225"/>
                  </a:lnTo>
                  <a:lnTo>
                    <a:pt x="80" y="232"/>
                  </a:lnTo>
                  <a:lnTo>
                    <a:pt x="84" y="236"/>
                  </a:lnTo>
                  <a:lnTo>
                    <a:pt x="88" y="240"/>
                  </a:lnTo>
                  <a:lnTo>
                    <a:pt x="92" y="242"/>
                  </a:lnTo>
                  <a:lnTo>
                    <a:pt x="97" y="244"/>
                  </a:lnTo>
                  <a:lnTo>
                    <a:pt x="101" y="246"/>
                  </a:lnTo>
                  <a:lnTo>
                    <a:pt x="105" y="246"/>
                  </a:lnTo>
                  <a:lnTo>
                    <a:pt x="110" y="246"/>
                  </a:lnTo>
                  <a:lnTo>
                    <a:pt x="114" y="243"/>
                  </a:lnTo>
                  <a:lnTo>
                    <a:pt x="118" y="242"/>
                  </a:lnTo>
                  <a:lnTo>
                    <a:pt x="123" y="239"/>
                  </a:lnTo>
                  <a:lnTo>
                    <a:pt x="131" y="234"/>
                  </a:lnTo>
                  <a:lnTo>
                    <a:pt x="139" y="226"/>
                  </a:lnTo>
                  <a:lnTo>
                    <a:pt x="156" y="209"/>
                  </a:lnTo>
                  <a:lnTo>
                    <a:pt x="171" y="192"/>
                  </a:lnTo>
                  <a:lnTo>
                    <a:pt x="179" y="185"/>
                  </a:lnTo>
                  <a:lnTo>
                    <a:pt x="186" y="181"/>
                  </a:lnTo>
                  <a:lnTo>
                    <a:pt x="191" y="179"/>
                  </a:lnTo>
                  <a:lnTo>
                    <a:pt x="194" y="178"/>
                  </a:lnTo>
                  <a:lnTo>
                    <a:pt x="197" y="178"/>
                  </a:lnTo>
                  <a:lnTo>
                    <a:pt x="202" y="179"/>
                  </a:lnTo>
                  <a:close/>
                </a:path>
              </a:pathLst>
            </a:custGeom>
            <a:solidFill>
              <a:srgbClr val="77ae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630840" y="2232000"/>
              <a:ext cx="179640" cy="103320"/>
            </a:xfrm>
            <a:custGeom>
              <a:avLst/>
              <a:gdLst/>
              <a:ahLst/>
              <a:rect l="l" t="t" r="r" b="b"/>
              <a:pathLst>
                <a:path w="563" h="325">
                  <a:moveTo>
                    <a:pt x="557" y="6"/>
                  </a:moveTo>
                  <a:lnTo>
                    <a:pt x="552" y="38"/>
                  </a:lnTo>
                  <a:lnTo>
                    <a:pt x="547" y="58"/>
                  </a:lnTo>
                  <a:lnTo>
                    <a:pt x="545" y="66"/>
                  </a:lnTo>
                  <a:lnTo>
                    <a:pt x="545" y="68"/>
                  </a:lnTo>
                  <a:lnTo>
                    <a:pt x="545" y="66"/>
                  </a:lnTo>
                  <a:lnTo>
                    <a:pt x="546" y="62"/>
                  </a:lnTo>
                  <a:lnTo>
                    <a:pt x="547" y="59"/>
                  </a:lnTo>
                  <a:lnTo>
                    <a:pt x="547" y="60"/>
                  </a:lnTo>
                  <a:lnTo>
                    <a:pt x="547" y="72"/>
                  </a:lnTo>
                  <a:lnTo>
                    <a:pt x="548" y="81"/>
                  </a:lnTo>
                  <a:lnTo>
                    <a:pt x="549" y="89"/>
                  </a:lnTo>
                  <a:lnTo>
                    <a:pt x="552" y="97"/>
                  </a:lnTo>
                  <a:lnTo>
                    <a:pt x="553" y="105"/>
                  </a:lnTo>
                  <a:lnTo>
                    <a:pt x="556" y="116"/>
                  </a:lnTo>
                  <a:lnTo>
                    <a:pt x="559" y="130"/>
                  </a:lnTo>
                  <a:lnTo>
                    <a:pt x="562" y="148"/>
                  </a:lnTo>
                  <a:lnTo>
                    <a:pt x="563" y="159"/>
                  </a:lnTo>
                  <a:lnTo>
                    <a:pt x="563" y="170"/>
                  </a:lnTo>
                  <a:lnTo>
                    <a:pt x="562" y="182"/>
                  </a:lnTo>
                  <a:lnTo>
                    <a:pt x="560" y="193"/>
                  </a:lnTo>
                  <a:lnTo>
                    <a:pt x="557" y="203"/>
                  </a:lnTo>
                  <a:lnTo>
                    <a:pt x="554" y="214"/>
                  </a:lnTo>
                  <a:lnTo>
                    <a:pt x="549" y="225"/>
                  </a:lnTo>
                  <a:lnTo>
                    <a:pt x="544" y="235"/>
                  </a:lnTo>
                  <a:lnTo>
                    <a:pt x="539" y="244"/>
                  </a:lnTo>
                  <a:lnTo>
                    <a:pt x="533" y="253"/>
                  </a:lnTo>
                  <a:lnTo>
                    <a:pt x="528" y="261"/>
                  </a:lnTo>
                  <a:lnTo>
                    <a:pt x="521" y="268"/>
                  </a:lnTo>
                  <a:lnTo>
                    <a:pt x="516" y="275"/>
                  </a:lnTo>
                  <a:lnTo>
                    <a:pt x="511" y="280"/>
                  </a:lnTo>
                  <a:lnTo>
                    <a:pt x="505" y="284"/>
                  </a:lnTo>
                  <a:lnTo>
                    <a:pt x="501" y="287"/>
                  </a:lnTo>
                  <a:lnTo>
                    <a:pt x="492" y="292"/>
                  </a:lnTo>
                  <a:lnTo>
                    <a:pt x="484" y="294"/>
                  </a:lnTo>
                  <a:lnTo>
                    <a:pt x="474" y="296"/>
                  </a:lnTo>
                  <a:lnTo>
                    <a:pt x="462" y="298"/>
                  </a:lnTo>
                  <a:lnTo>
                    <a:pt x="448" y="301"/>
                  </a:lnTo>
                  <a:lnTo>
                    <a:pt x="431" y="304"/>
                  </a:lnTo>
                  <a:lnTo>
                    <a:pt x="409" y="309"/>
                  </a:lnTo>
                  <a:lnTo>
                    <a:pt x="382" y="317"/>
                  </a:lnTo>
                  <a:lnTo>
                    <a:pt x="367" y="320"/>
                  </a:lnTo>
                  <a:lnTo>
                    <a:pt x="352" y="323"/>
                  </a:lnTo>
                  <a:lnTo>
                    <a:pt x="338" y="324"/>
                  </a:lnTo>
                  <a:lnTo>
                    <a:pt x="324" y="325"/>
                  </a:lnTo>
                  <a:lnTo>
                    <a:pt x="309" y="324"/>
                  </a:lnTo>
                  <a:lnTo>
                    <a:pt x="296" y="324"/>
                  </a:lnTo>
                  <a:lnTo>
                    <a:pt x="282" y="322"/>
                  </a:lnTo>
                  <a:lnTo>
                    <a:pt x="270" y="320"/>
                  </a:lnTo>
                  <a:lnTo>
                    <a:pt x="246" y="315"/>
                  </a:lnTo>
                  <a:lnTo>
                    <a:pt x="224" y="307"/>
                  </a:lnTo>
                  <a:lnTo>
                    <a:pt x="207" y="300"/>
                  </a:lnTo>
                  <a:lnTo>
                    <a:pt x="194" y="292"/>
                  </a:lnTo>
                  <a:lnTo>
                    <a:pt x="184" y="286"/>
                  </a:lnTo>
                  <a:lnTo>
                    <a:pt x="174" y="279"/>
                  </a:lnTo>
                  <a:lnTo>
                    <a:pt x="164" y="274"/>
                  </a:lnTo>
                  <a:lnTo>
                    <a:pt x="154" y="268"/>
                  </a:lnTo>
                  <a:lnTo>
                    <a:pt x="142" y="265"/>
                  </a:lnTo>
                  <a:lnTo>
                    <a:pt x="130" y="263"/>
                  </a:lnTo>
                  <a:lnTo>
                    <a:pt x="124" y="262"/>
                  </a:lnTo>
                  <a:lnTo>
                    <a:pt x="117" y="263"/>
                  </a:lnTo>
                  <a:lnTo>
                    <a:pt x="110" y="263"/>
                  </a:lnTo>
                  <a:lnTo>
                    <a:pt x="102" y="265"/>
                  </a:lnTo>
                  <a:lnTo>
                    <a:pt x="95" y="266"/>
                  </a:lnTo>
                  <a:lnTo>
                    <a:pt x="87" y="267"/>
                  </a:lnTo>
                  <a:lnTo>
                    <a:pt x="80" y="267"/>
                  </a:lnTo>
                  <a:lnTo>
                    <a:pt x="73" y="266"/>
                  </a:lnTo>
                  <a:lnTo>
                    <a:pt x="60" y="263"/>
                  </a:lnTo>
                  <a:lnTo>
                    <a:pt x="48" y="257"/>
                  </a:lnTo>
                  <a:lnTo>
                    <a:pt x="36" y="251"/>
                  </a:lnTo>
                  <a:lnTo>
                    <a:pt x="27" y="243"/>
                  </a:lnTo>
                  <a:lnTo>
                    <a:pt x="17" y="236"/>
                  </a:lnTo>
                  <a:lnTo>
                    <a:pt x="8" y="228"/>
                  </a:lnTo>
                  <a:lnTo>
                    <a:pt x="5" y="223"/>
                  </a:lnTo>
                  <a:lnTo>
                    <a:pt x="2" y="217"/>
                  </a:lnTo>
                  <a:lnTo>
                    <a:pt x="1" y="210"/>
                  </a:lnTo>
                  <a:lnTo>
                    <a:pt x="0" y="202"/>
                  </a:lnTo>
                  <a:lnTo>
                    <a:pt x="1" y="183"/>
                  </a:lnTo>
                  <a:lnTo>
                    <a:pt x="4" y="160"/>
                  </a:lnTo>
                  <a:lnTo>
                    <a:pt x="9" y="136"/>
                  </a:lnTo>
                  <a:lnTo>
                    <a:pt x="15" y="112"/>
                  </a:lnTo>
                  <a:lnTo>
                    <a:pt x="20" y="87"/>
                  </a:lnTo>
                  <a:lnTo>
                    <a:pt x="26" y="64"/>
                  </a:lnTo>
                  <a:lnTo>
                    <a:pt x="26" y="66"/>
                  </a:lnTo>
                  <a:lnTo>
                    <a:pt x="26" y="67"/>
                  </a:lnTo>
                  <a:lnTo>
                    <a:pt x="27" y="67"/>
                  </a:lnTo>
                  <a:lnTo>
                    <a:pt x="28" y="66"/>
                  </a:lnTo>
                  <a:lnTo>
                    <a:pt x="30" y="61"/>
                  </a:lnTo>
                  <a:lnTo>
                    <a:pt x="33" y="52"/>
                  </a:lnTo>
                  <a:lnTo>
                    <a:pt x="35" y="41"/>
                  </a:lnTo>
                  <a:lnTo>
                    <a:pt x="37" y="28"/>
                  </a:lnTo>
                  <a:lnTo>
                    <a:pt x="38" y="14"/>
                  </a:lnTo>
                  <a:lnTo>
                    <a:pt x="38" y="0"/>
                  </a:lnTo>
                  <a:lnTo>
                    <a:pt x="37" y="6"/>
                  </a:lnTo>
                  <a:lnTo>
                    <a:pt x="35" y="22"/>
                  </a:lnTo>
                  <a:lnTo>
                    <a:pt x="34" y="46"/>
                  </a:lnTo>
                  <a:lnTo>
                    <a:pt x="34" y="75"/>
                  </a:lnTo>
                  <a:lnTo>
                    <a:pt x="34" y="91"/>
                  </a:lnTo>
                  <a:lnTo>
                    <a:pt x="36" y="108"/>
                  </a:lnTo>
                  <a:lnTo>
                    <a:pt x="38" y="127"/>
                  </a:lnTo>
                  <a:lnTo>
                    <a:pt x="42" y="144"/>
                  </a:lnTo>
                  <a:lnTo>
                    <a:pt x="45" y="162"/>
                  </a:lnTo>
                  <a:lnTo>
                    <a:pt x="50" y="180"/>
                  </a:lnTo>
                  <a:lnTo>
                    <a:pt x="57" y="197"/>
                  </a:lnTo>
                  <a:lnTo>
                    <a:pt x="65" y="213"/>
                  </a:lnTo>
                  <a:lnTo>
                    <a:pt x="70" y="221"/>
                  </a:lnTo>
                  <a:lnTo>
                    <a:pt x="74" y="226"/>
                  </a:lnTo>
                  <a:lnTo>
                    <a:pt x="78" y="232"/>
                  </a:lnTo>
                  <a:lnTo>
                    <a:pt x="83" y="235"/>
                  </a:lnTo>
                  <a:lnTo>
                    <a:pt x="87" y="238"/>
                  </a:lnTo>
                  <a:lnTo>
                    <a:pt x="91" y="239"/>
                  </a:lnTo>
                  <a:lnTo>
                    <a:pt x="96" y="240"/>
                  </a:lnTo>
                  <a:lnTo>
                    <a:pt x="100" y="240"/>
                  </a:lnTo>
                  <a:lnTo>
                    <a:pt x="104" y="239"/>
                  </a:lnTo>
                  <a:lnTo>
                    <a:pt x="109" y="238"/>
                  </a:lnTo>
                  <a:lnTo>
                    <a:pt x="113" y="236"/>
                  </a:lnTo>
                  <a:lnTo>
                    <a:pt x="117" y="234"/>
                  </a:lnTo>
                  <a:lnTo>
                    <a:pt x="126" y="226"/>
                  </a:lnTo>
                  <a:lnTo>
                    <a:pt x="135" y="219"/>
                  </a:lnTo>
                  <a:lnTo>
                    <a:pt x="152" y="200"/>
                  </a:lnTo>
                  <a:lnTo>
                    <a:pt x="168" y="183"/>
                  </a:lnTo>
                  <a:lnTo>
                    <a:pt x="177" y="176"/>
                  </a:lnTo>
                  <a:lnTo>
                    <a:pt x="184" y="171"/>
                  </a:lnTo>
                  <a:lnTo>
                    <a:pt x="188" y="169"/>
                  </a:lnTo>
                  <a:lnTo>
                    <a:pt x="192" y="168"/>
                  </a:lnTo>
                  <a:lnTo>
                    <a:pt x="195" y="168"/>
                  </a:lnTo>
                  <a:lnTo>
                    <a:pt x="198" y="169"/>
                  </a:lnTo>
                  <a:lnTo>
                    <a:pt x="202" y="169"/>
                  </a:lnTo>
                  <a:lnTo>
                    <a:pt x="205" y="171"/>
                  </a:lnTo>
                  <a:lnTo>
                    <a:pt x="208" y="173"/>
                  </a:lnTo>
                  <a:lnTo>
                    <a:pt x="210" y="175"/>
                  </a:lnTo>
                  <a:lnTo>
                    <a:pt x="215" y="181"/>
                  </a:lnTo>
                  <a:lnTo>
                    <a:pt x="218" y="188"/>
                  </a:lnTo>
                  <a:lnTo>
                    <a:pt x="222" y="206"/>
                  </a:lnTo>
                  <a:lnTo>
                    <a:pt x="224" y="226"/>
                  </a:lnTo>
                  <a:lnTo>
                    <a:pt x="228" y="246"/>
                  </a:lnTo>
                  <a:lnTo>
                    <a:pt x="232" y="264"/>
                  </a:lnTo>
                  <a:lnTo>
                    <a:pt x="235" y="273"/>
                  </a:lnTo>
                  <a:lnTo>
                    <a:pt x="239" y="279"/>
                  </a:lnTo>
                  <a:lnTo>
                    <a:pt x="242" y="281"/>
                  </a:lnTo>
                  <a:lnTo>
                    <a:pt x="245" y="283"/>
                  </a:lnTo>
                  <a:lnTo>
                    <a:pt x="247" y="286"/>
                  </a:lnTo>
                  <a:lnTo>
                    <a:pt x="250" y="287"/>
                  </a:lnTo>
                  <a:lnTo>
                    <a:pt x="260" y="290"/>
                  </a:lnTo>
                  <a:lnTo>
                    <a:pt x="272" y="293"/>
                  </a:lnTo>
                  <a:lnTo>
                    <a:pt x="287" y="296"/>
                  </a:lnTo>
                  <a:lnTo>
                    <a:pt x="305" y="300"/>
                  </a:lnTo>
                  <a:lnTo>
                    <a:pt x="325" y="302"/>
                  </a:lnTo>
                  <a:lnTo>
                    <a:pt x="346" y="303"/>
                  </a:lnTo>
                  <a:lnTo>
                    <a:pt x="368" y="303"/>
                  </a:lnTo>
                  <a:lnTo>
                    <a:pt x="391" y="302"/>
                  </a:lnTo>
                  <a:lnTo>
                    <a:pt x="401" y="300"/>
                  </a:lnTo>
                  <a:lnTo>
                    <a:pt x="412" y="297"/>
                  </a:lnTo>
                  <a:lnTo>
                    <a:pt x="423" y="294"/>
                  </a:lnTo>
                  <a:lnTo>
                    <a:pt x="434" y="291"/>
                  </a:lnTo>
                  <a:lnTo>
                    <a:pt x="444" y="288"/>
                  </a:lnTo>
                  <a:lnTo>
                    <a:pt x="453" y="282"/>
                  </a:lnTo>
                  <a:lnTo>
                    <a:pt x="463" y="277"/>
                  </a:lnTo>
                  <a:lnTo>
                    <a:pt x="472" y="270"/>
                  </a:lnTo>
                  <a:lnTo>
                    <a:pt x="480" y="263"/>
                  </a:lnTo>
                  <a:lnTo>
                    <a:pt x="488" y="255"/>
                  </a:lnTo>
                  <a:lnTo>
                    <a:pt x="494" y="247"/>
                  </a:lnTo>
                  <a:lnTo>
                    <a:pt x="501" y="236"/>
                  </a:lnTo>
                  <a:lnTo>
                    <a:pt x="505" y="225"/>
                  </a:lnTo>
                  <a:lnTo>
                    <a:pt x="509" y="213"/>
                  </a:lnTo>
                  <a:lnTo>
                    <a:pt x="513" y="200"/>
                  </a:lnTo>
                  <a:lnTo>
                    <a:pt x="515" y="186"/>
                  </a:lnTo>
                  <a:lnTo>
                    <a:pt x="521" y="144"/>
                  </a:lnTo>
                  <a:lnTo>
                    <a:pt x="528" y="107"/>
                  </a:lnTo>
                  <a:lnTo>
                    <a:pt x="535" y="76"/>
                  </a:lnTo>
                  <a:lnTo>
                    <a:pt x="542" y="51"/>
                  </a:lnTo>
                  <a:lnTo>
                    <a:pt x="548" y="31"/>
                  </a:lnTo>
                  <a:lnTo>
                    <a:pt x="553" y="17"/>
                  </a:lnTo>
                  <a:lnTo>
                    <a:pt x="556" y="8"/>
                  </a:lnTo>
                  <a:lnTo>
                    <a:pt x="557" y="6"/>
                  </a:lnTo>
                  <a:close/>
                </a:path>
              </a:pathLst>
            </a:custGeom>
            <a:solidFill>
              <a:srgbClr val="70a6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723000" y="1863720"/>
              <a:ext cx="42840" cy="195480"/>
            </a:xfrm>
            <a:custGeom>
              <a:avLst/>
              <a:gdLst/>
              <a:ahLst/>
              <a:rect l="l" t="t" r="r" b="b"/>
              <a:pathLst>
                <a:path w="135" h="613">
                  <a:moveTo>
                    <a:pt x="44" y="60"/>
                  </a:moveTo>
                  <a:lnTo>
                    <a:pt x="41" y="88"/>
                  </a:lnTo>
                  <a:lnTo>
                    <a:pt x="38" y="130"/>
                  </a:lnTo>
                  <a:lnTo>
                    <a:pt x="33" y="181"/>
                  </a:lnTo>
                  <a:lnTo>
                    <a:pt x="27" y="238"/>
                  </a:lnTo>
                  <a:lnTo>
                    <a:pt x="22" y="296"/>
                  </a:lnTo>
                  <a:lnTo>
                    <a:pt x="15" y="353"/>
                  </a:lnTo>
                  <a:lnTo>
                    <a:pt x="9" y="404"/>
                  </a:lnTo>
                  <a:lnTo>
                    <a:pt x="2" y="445"/>
                  </a:lnTo>
                  <a:lnTo>
                    <a:pt x="1" y="454"/>
                  </a:lnTo>
                  <a:lnTo>
                    <a:pt x="0" y="464"/>
                  </a:lnTo>
                  <a:lnTo>
                    <a:pt x="0" y="472"/>
                  </a:lnTo>
                  <a:lnTo>
                    <a:pt x="0" y="481"/>
                  </a:lnTo>
                  <a:lnTo>
                    <a:pt x="2" y="500"/>
                  </a:lnTo>
                  <a:lnTo>
                    <a:pt x="7" y="519"/>
                  </a:lnTo>
                  <a:lnTo>
                    <a:pt x="12" y="536"/>
                  </a:lnTo>
                  <a:lnTo>
                    <a:pt x="20" y="553"/>
                  </a:lnTo>
                  <a:lnTo>
                    <a:pt x="27" y="568"/>
                  </a:lnTo>
                  <a:lnTo>
                    <a:pt x="37" y="582"/>
                  </a:lnTo>
                  <a:lnTo>
                    <a:pt x="46" y="594"/>
                  </a:lnTo>
                  <a:lnTo>
                    <a:pt x="56" y="603"/>
                  </a:lnTo>
                  <a:lnTo>
                    <a:pt x="61" y="607"/>
                  </a:lnTo>
                  <a:lnTo>
                    <a:pt x="66" y="609"/>
                  </a:lnTo>
                  <a:lnTo>
                    <a:pt x="71" y="612"/>
                  </a:lnTo>
                  <a:lnTo>
                    <a:pt x="76" y="613"/>
                  </a:lnTo>
                  <a:lnTo>
                    <a:pt x="81" y="613"/>
                  </a:lnTo>
                  <a:lnTo>
                    <a:pt x="86" y="612"/>
                  </a:lnTo>
                  <a:lnTo>
                    <a:pt x="90" y="611"/>
                  </a:lnTo>
                  <a:lnTo>
                    <a:pt x="94" y="607"/>
                  </a:lnTo>
                  <a:lnTo>
                    <a:pt x="98" y="603"/>
                  </a:lnTo>
                  <a:lnTo>
                    <a:pt x="103" y="598"/>
                  </a:lnTo>
                  <a:lnTo>
                    <a:pt x="106" y="592"/>
                  </a:lnTo>
                  <a:lnTo>
                    <a:pt x="109" y="584"/>
                  </a:lnTo>
                  <a:lnTo>
                    <a:pt x="120" y="553"/>
                  </a:lnTo>
                  <a:lnTo>
                    <a:pt x="128" y="524"/>
                  </a:lnTo>
                  <a:lnTo>
                    <a:pt x="130" y="510"/>
                  </a:lnTo>
                  <a:lnTo>
                    <a:pt x="132" y="496"/>
                  </a:lnTo>
                  <a:lnTo>
                    <a:pt x="134" y="481"/>
                  </a:lnTo>
                  <a:lnTo>
                    <a:pt x="135" y="465"/>
                  </a:lnTo>
                  <a:lnTo>
                    <a:pt x="135" y="430"/>
                  </a:lnTo>
                  <a:lnTo>
                    <a:pt x="133" y="388"/>
                  </a:lnTo>
                  <a:lnTo>
                    <a:pt x="130" y="338"/>
                  </a:lnTo>
                  <a:lnTo>
                    <a:pt x="124" y="278"/>
                  </a:lnTo>
                  <a:lnTo>
                    <a:pt x="116" y="210"/>
                  </a:lnTo>
                  <a:lnTo>
                    <a:pt x="106" y="145"/>
                  </a:lnTo>
                  <a:lnTo>
                    <a:pt x="102" y="115"/>
                  </a:lnTo>
                  <a:lnTo>
                    <a:pt x="96" y="88"/>
                  </a:lnTo>
                  <a:lnTo>
                    <a:pt x="91" y="62"/>
                  </a:lnTo>
                  <a:lnTo>
                    <a:pt x="86" y="40"/>
                  </a:lnTo>
                  <a:lnTo>
                    <a:pt x="80" y="23"/>
                  </a:lnTo>
                  <a:lnTo>
                    <a:pt x="75" y="10"/>
                  </a:lnTo>
                  <a:lnTo>
                    <a:pt x="71" y="6"/>
                  </a:lnTo>
                  <a:lnTo>
                    <a:pt x="69" y="2"/>
                  </a:lnTo>
                  <a:lnTo>
                    <a:pt x="66" y="0"/>
                  </a:lnTo>
                  <a:lnTo>
                    <a:pt x="64" y="0"/>
                  </a:lnTo>
                  <a:lnTo>
                    <a:pt x="61" y="1"/>
                  </a:lnTo>
                  <a:lnTo>
                    <a:pt x="59" y="5"/>
                  </a:lnTo>
                  <a:lnTo>
                    <a:pt x="56" y="9"/>
                  </a:lnTo>
                  <a:lnTo>
                    <a:pt x="54" y="15"/>
                  </a:lnTo>
                  <a:lnTo>
                    <a:pt x="49" y="34"/>
                  </a:lnTo>
                  <a:lnTo>
                    <a:pt x="44" y="60"/>
                  </a:lnTo>
                  <a:close/>
                </a:path>
              </a:pathLst>
            </a:custGeom>
            <a:solidFill>
              <a:srgbClr val="d0d7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726240" y="1868400"/>
              <a:ext cx="38160" cy="169920"/>
            </a:xfrm>
            <a:custGeom>
              <a:avLst/>
              <a:gdLst/>
              <a:ahLst/>
              <a:rect l="l" t="t" r="r" b="b"/>
              <a:pathLst>
                <a:path w="119" h="537">
                  <a:moveTo>
                    <a:pt x="1" y="388"/>
                  </a:moveTo>
                  <a:lnTo>
                    <a:pt x="7" y="353"/>
                  </a:lnTo>
                  <a:lnTo>
                    <a:pt x="13" y="308"/>
                  </a:lnTo>
                  <a:lnTo>
                    <a:pt x="18" y="259"/>
                  </a:lnTo>
                  <a:lnTo>
                    <a:pt x="24" y="208"/>
                  </a:lnTo>
                  <a:lnTo>
                    <a:pt x="28" y="158"/>
                  </a:lnTo>
                  <a:lnTo>
                    <a:pt x="32" y="113"/>
                  </a:lnTo>
                  <a:lnTo>
                    <a:pt x="35" y="77"/>
                  </a:lnTo>
                  <a:lnTo>
                    <a:pt x="39" y="52"/>
                  </a:lnTo>
                  <a:lnTo>
                    <a:pt x="42" y="30"/>
                  </a:lnTo>
                  <a:lnTo>
                    <a:pt x="46" y="13"/>
                  </a:lnTo>
                  <a:lnTo>
                    <a:pt x="48" y="8"/>
                  </a:lnTo>
                  <a:lnTo>
                    <a:pt x="51" y="4"/>
                  </a:lnTo>
                  <a:lnTo>
                    <a:pt x="53" y="2"/>
                  </a:lnTo>
                  <a:lnTo>
                    <a:pt x="55" y="0"/>
                  </a:lnTo>
                  <a:lnTo>
                    <a:pt x="57" y="0"/>
                  </a:lnTo>
                  <a:lnTo>
                    <a:pt x="59" y="3"/>
                  </a:lnTo>
                  <a:lnTo>
                    <a:pt x="61" y="5"/>
                  </a:lnTo>
                  <a:lnTo>
                    <a:pt x="65" y="9"/>
                  </a:lnTo>
                  <a:lnTo>
                    <a:pt x="69" y="21"/>
                  </a:lnTo>
                  <a:lnTo>
                    <a:pt x="73" y="36"/>
                  </a:lnTo>
                  <a:lnTo>
                    <a:pt x="79" y="56"/>
                  </a:lnTo>
                  <a:lnTo>
                    <a:pt x="83" y="77"/>
                  </a:lnTo>
                  <a:lnTo>
                    <a:pt x="87" y="102"/>
                  </a:lnTo>
                  <a:lnTo>
                    <a:pt x="92" y="128"/>
                  </a:lnTo>
                  <a:lnTo>
                    <a:pt x="100" y="185"/>
                  </a:lnTo>
                  <a:lnTo>
                    <a:pt x="108" y="242"/>
                  </a:lnTo>
                  <a:lnTo>
                    <a:pt x="113" y="295"/>
                  </a:lnTo>
                  <a:lnTo>
                    <a:pt x="116" y="340"/>
                  </a:lnTo>
                  <a:lnTo>
                    <a:pt x="119" y="375"/>
                  </a:lnTo>
                  <a:lnTo>
                    <a:pt x="119" y="407"/>
                  </a:lnTo>
                  <a:lnTo>
                    <a:pt x="118" y="419"/>
                  </a:lnTo>
                  <a:lnTo>
                    <a:pt x="116" y="434"/>
                  </a:lnTo>
                  <a:lnTo>
                    <a:pt x="114" y="446"/>
                  </a:lnTo>
                  <a:lnTo>
                    <a:pt x="112" y="458"/>
                  </a:lnTo>
                  <a:lnTo>
                    <a:pt x="105" y="484"/>
                  </a:lnTo>
                  <a:lnTo>
                    <a:pt x="95" y="512"/>
                  </a:lnTo>
                  <a:lnTo>
                    <a:pt x="93" y="519"/>
                  </a:lnTo>
                  <a:lnTo>
                    <a:pt x="89" y="524"/>
                  </a:lnTo>
                  <a:lnTo>
                    <a:pt x="86" y="529"/>
                  </a:lnTo>
                  <a:lnTo>
                    <a:pt x="83" y="532"/>
                  </a:lnTo>
                  <a:lnTo>
                    <a:pt x="79" y="535"/>
                  </a:lnTo>
                  <a:lnTo>
                    <a:pt x="75" y="536"/>
                  </a:lnTo>
                  <a:lnTo>
                    <a:pt x="71" y="537"/>
                  </a:lnTo>
                  <a:lnTo>
                    <a:pt x="67" y="536"/>
                  </a:lnTo>
                  <a:lnTo>
                    <a:pt x="62" y="536"/>
                  </a:lnTo>
                  <a:lnTo>
                    <a:pt x="58" y="534"/>
                  </a:lnTo>
                  <a:lnTo>
                    <a:pt x="54" y="532"/>
                  </a:lnTo>
                  <a:lnTo>
                    <a:pt x="50" y="529"/>
                  </a:lnTo>
                  <a:lnTo>
                    <a:pt x="41" y="520"/>
                  </a:lnTo>
                  <a:lnTo>
                    <a:pt x="32" y="509"/>
                  </a:lnTo>
                  <a:lnTo>
                    <a:pt x="25" y="497"/>
                  </a:lnTo>
                  <a:lnTo>
                    <a:pt x="17" y="483"/>
                  </a:lnTo>
                  <a:lnTo>
                    <a:pt x="11" y="469"/>
                  </a:lnTo>
                  <a:lnTo>
                    <a:pt x="5" y="453"/>
                  </a:lnTo>
                  <a:lnTo>
                    <a:pt x="2" y="437"/>
                  </a:lnTo>
                  <a:lnTo>
                    <a:pt x="0" y="421"/>
                  </a:lnTo>
                  <a:lnTo>
                    <a:pt x="0" y="404"/>
                  </a:lnTo>
                  <a:lnTo>
                    <a:pt x="1" y="388"/>
                  </a:lnTo>
                  <a:close/>
                </a:path>
              </a:pathLst>
            </a:custGeom>
            <a:solidFill>
              <a:srgbClr val="d7dc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1" name=""/>
            <p:cNvGrpSpPr/>
            <p:nvPr/>
          </p:nvGrpSpPr>
          <p:grpSpPr>
            <a:xfrm>
              <a:off x="5183280" y="1676520"/>
              <a:ext cx="2514600" cy="4044960"/>
              <a:chOff x="5183280" y="1676520"/>
              <a:chExt cx="2514600" cy="4044960"/>
            </a:xfrm>
          </p:grpSpPr>
          <p:sp>
            <p:nvSpPr>
              <p:cNvPr id="312" name=""/>
              <p:cNvSpPr/>
              <p:nvPr/>
            </p:nvSpPr>
            <p:spPr>
              <a:xfrm>
                <a:off x="6729480" y="1873440"/>
                <a:ext cx="31680" cy="145800"/>
              </a:xfrm>
              <a:custGeom>
                <a:avLst/>
                <a:gdLst/>
                <a:ahLst/>
                <a:rect l="l" t="t" r="r" b="b"/>
                <a:pathLst>
                  <a:path w="100" h="459">
                    <a:moveTo>
                      <a:pt x="1" y="333"/>
                    </a:moveTo>
                    <a:lnTo>
                      <a:pt x="6" y="302"/>
                    </a:lnTo>
                    <a:lnTo>
                      <a:pt x="10" y="264"/>
                    </a:lnTo>
                    <a:lnTo>
                      <a:pt x="15" y="222"/>
                    </a:lnTo>
                    <a:lnTo>
                      <a:pt x="19" y="178"/>
                    </a:lnTo>
                    <a:lnTo>
                      <a:pt x="22" y="136"/>
                    </a:lnTo>
                    <a:lnTo>
                      <a:pt x="25" y="97"/>
                    </a:lnTo>
                    <a:lnTo>
                      <a:pt x="29" y="65"/>
                    </a:lnTo>
                    <a:lnTo>
                      <a:pt x="31" y="44"/>
                    </a:lnTo>
                    <a:lnTo>
                      <a:pt x="34" y="24"/>
                    </a:lnTo>
                    <a:lnTo>
                      <a:pt x="37" y="10"/>
                    </a:lnTo>
                    <a:lnTo>
                      <a:pt x="40" y="6"/>
                    </a:lnTo>
                    <a:lnTo>
                      <a:pt x="42" y="3"/>
                    </a:lnTo>
                    <a:lnTo>
                      <a:pt x="44" y="1"/>
                    </a:lnTo>
                    <a:lnTo>
                      <a:pt x="46" y="0"/>
                    </a:lnTo>
                    <a:lnTo>
                      <a:pt x="47" y="0"/>
                    </a:lnTo>
                    <a:lnTo>
                      <a:pt x="49" y="2"/>
                    </a:lnTo>
                    <a:lnTo>
                      <a:pt x="51" y="4"/>
                    </a:lnTo>
                    <a:lnTo>
                      <a:pt x="54" y="7"/>
                    </a:lnTo>
                    <a:lnTo>
                      <a:pt x="58" y="18"/>
                    </a:lnTo>
                    <a:lnTo>
                      <a:pt x="62" y="31"/>
                    </a:lnTo>
                    <a:lnTo>
                      <a:pt x="67" y="47"/>
                    </a:lnTo>
                    <a:lnTo>
                      <a:pt x="71" y="65"/>
                    </a:lnTo>
                    <a:lnTo>
                      <a:pt x="74" y="87"/>
                    </a:lnTo>
                    <a:lnTo>
                      <a:pt x="78" y="109"/>
                    </a:lnTo>
                    <a:lnTo>
                      <a:pt x="85" y="157"/>
                    </a:lnTo>
                    <a:lnTo>
                      <a:pt x="90" y="207"/>
                    </a:lnTo>
                    <a:lnTo>
                      <a:pt x="95" y="252"/>
                    </a:lnTo>
                    <a:lnTo>
                      <a:pt x="98" y="290"/>
                    </a:lnTo>
                    <a:lnTo>
                      <a:pt x="100" y="320"/>
                    </a:lnTo>
                    <a:lnTo>
                      <a:pt x="100" y="347"/>
                    </a:lnTo>
                    <a:lnTo>
                      <a:pt x="98" y="370"/>
                    </a:lnTo>
                    <a:lnTo>
                      <a:pt x="95" y="392"/>
                    </a:lnTo>
                    <a:lnTo>
                      <a:pt x="88" y="413"/>
                    </a:lnTo>
                    <a:lnTo>
                      <a:pt x="81" y="437"/>
                    </a:lnTo>
                    <a:lnTo>
                      <a:pt x="77" y="442"/>
                    </a:lnTo>
                    <a:lnTo>
                      <a:pt x="75" y="448"/>
                    </a:lnTo>
                    <a:lnTo>
                      <a:pt x="72" y="451"/>
                    </a:lnTo>
                    <a:lnTo>
                      <a:pt x="69" y="454"/>
                    </a:lnTo>
                    <a:lnTo>
                      <a:pt x="65" y="456"/>
                    </a:lnTo>
                    <a:lnTo>
                      <a:pt x="62" y="457"/>
                    </a:lnTo>
                    <a:lnTo>
                      <a:pt x="59" y="459"/>
                    </a:lnTo>
                    <a:lnTo>
                      <a:pt x="56" y="459"/>
                    </a:lnTo>
                    <a:lnTo>
                      <a:pt x="51" y="457"/>
                    </a:lnTo>
                    <a:lnTo>
                      <a:pt x="48" y="456"/>
                    </a:lnTo>
                    <a:lnTo>
                      <a:pt x="44" y="454"/>
                    </a:lnTo>
                    <a:lnTo>
                      <a:pt x="41" y="451"/>
                    </a:lnTo>
                    <a:lnTo>
                      <a:pt x="33" y="445"/>
                    </a:lnTo>
                    <a:lnTo>
                      <a:pt x="25" y="436"/>
                    </a:lnTo>
                    <a:lnTo>
                      <a:pt x="19" y="425"/>
                    </a:lnTo>
                    <a:lnTo>
                      <a:pt x="13" y="414"/>
                    </a:lnTo>
                    <a:lnTo>
                      <a:pt x="8" y="401"/>
                    </a:lnTo>
                    <a:lnTo>
                      <a:pt x="4" y="387"/>
                    </a:lnTo>
                    <a:lnTo>
                      <a:pt x="1" y="374"/>
                    </a:lnTo>
                    <a:lnTo>
                      <a:pt x="0" y="360"/>
                    </a:lnTo>
                    <a:lnTo>
                      <a:pt x="0" y="346"/>
                    </a:lnTo>
                    <a:lnTo>
                      <a:pt x="1" y="333"/>
                    </a:lnTo>
                    <a:close/>
                  </a:path>
                </a:pathLst>
              </a:custGeom>
              <a:solidFill>
                <a:srgbClr val="dde3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6730920" y="1878120"/>
                <a:ext cx="27000" cy="120600"/>
              </a:xfrm>
              <a:custGeom>
                <a:avLst/>
                <a:gdLst/>
                <a:ahLst/>
                <a:rect l="l" t="t" r="r" b="b"/>
                <a:pathLst>
                  <a:path w="84" h="380">
                    <a:moveTo>
                      <a:pt x="1" y="275"/>
                    </a:moveTo>
                    <a:lnTo>
                      <a:pt x="6" y="249"/>
                    </a:lnTo>
                    <a:lnTo>
                      <a:pt x="10" y="218"/>
                    </a:lnTo>
                    <a:lnTo>
                      <a:pt x="14" y="183"/>
                    </a:lnTo>
                    <a:lnTo>
                      <a:pt x="17" y="147"/>
                    </a:lnTo>
                    <a:lnTo>
                      <a:pt x="21" y="111"/>
                    </a:lnTo>
                    <a:lnTo>
                      <a:pt x="24" y="80"/>
                    </a:lnTo>
                    <a:lnTo>
                      <a:pt x="26" y="53"/>
                    </a:lnTo>
                    <a:lnTo>
                      <a:pt x="28" y="35"/>
                    </a:lnTo>
                    <a:lnTo>
                      <a:pt x="31" y="19"/>
                    </a:lnTo>
                    <a:lnTo>
                      <a:pt x="35" y="8"/>
                    </a:lnTo>
                    <a:lnTo>
                      <a:pt x="36" y="4"/>
                    </a:lnTo>
                    <a:lnTo>
                      <a:pt x="38" y="2"/>
                    </a:lnTo>
                    <a:lnTo>
                      <a:pt x="39" y="0"/>
                    </a:lnTo>
                    <a:lnTo>
                      <a:pt x="41" y="0"/>
                    </a:lnTo>
                    <a:lnTo>
                      <a:pt x="42" y="0"/>
                    </a:lnTo>
                    <a:lnTo>
                      <a:pt x="44" y="1"/>
                    </a:lnTo>
                    <a:lnTo>
                      <a:pt x="45" y="3"/>
                    </a:lnTo>
                    <a:lnTo>
                      <a:pt x="48" y="6"/>
                    </a:lnTo>
                    <a:lnTo>
                      <a:pt x="51" y="14"/>
                    </a:lnTo>
                    <a:lnTo>
                      <a:pt x="54" y="26"/>
                    </a:lnTo>
                    <a:lnTo>
                      <a:pt x="61" y="54"/>
                    </a:lnTo>
                    <a:lnTo>
                      <a:pt x="67" y="90"/>
                    </a:lnTo>
                    <a:lnTo>
                      <a:pt x="74" y="130"/>
                    </a:lnTo>
                    <a:lnTo>
                      <a:pt x="78" y="171"/>
                    </a:lnTo>
                    <a:lnTo>
                      <a:pt x="81" y="209"/>
                    </a:lnTo>
                    <a:lnTo>
                      <a:pt x="83" y="241"/>
                    </a:lnTo>
                    <a:lnTo>
                      <a:pt x="84" y="265"/>
                    </a:lnTo>
                    <a:lnTo>
                      <a:pt x="84" y="288"/>
                    </a:lnTo>
                    <a:lnTo>
                      <a:pt x="82" y="306"/>
                    </a:lnTo>
                    <a:lnTo>
                      <a:pt x="79" y="325"/>
                    </a:lnTo>
                    <a:lnTo>
                      <a:pt x="75" y="342"/>
                    </a:lnTo>
                    <a:lnTo>
                      <a:pt x="68" y="362"/>
                    </a:lnTo>
                    <a:lnTo>
                      <a:pt x="66" y="366"/>
                    </a:lnTo>
                    <a:lnTo>
                      <a:pt x="64" y="370"/>
                    </a:lnTo>
                    <a:lnTo>
                      <a:pt x="62" y="373"/>
                    </a:lnTo>
                    <a:lnTo>
                      <a:pt x="60" y="377"/>
                    </a:lnTo>
                    <a:lnTo>
                      <a:pt x="56" y="379"/>
                    </a:lnTo>
                    <a:lnTo>
                      <a:pt x="54" y="380"/>
                    </a:lnTo>
                    <a:lnTo>
                      <a:pt x="51" y="380"/>
                    </a:lnTo>
                    <a:lnTo>
                      <a:pt x="48" y="380"/>
                    </a:lnTo>
                    <a:lnTo>
                      <a:pt x="42" y="379"/>
                    </a:lnTo>
                    <a:lnTo>
                      <a:pt x="36" y="375"/>
                    </a:lnTo>
                    <a:lnTo>
                      <a:pt x="29" y="369"/>
                    </a:lnTo>
                    <a:lnTo>
                      <a:pt x="24" y="362"/>
                    </a:lnTo>
                    <a:lnTo>
                      <a:pt x="18" y="353"/>
                    </a:lnTo>
                    <a:lnTo>
                      <a:pt x="13" y="343"/>
                    </a:lnTo>
                    <a:lnTo>
                      <a:pt x="9" y="332"/>
                    </a:lnTo>
                    <a:lnTo>
                      <a:pt x="4" y="322"/>
                    </a:lnTo>
                    <a:lnTo>
                      <a:pt x="2" y="310"/>
                    </a:lnTo>
                    <a:lnTo>
                      <a:pt x="1" y="298"/>
                    </a:lnTo>
                    <a:lnTo>
                      <a:pt x="0" y="286"/>
                    </a:lnTo>
                    <a:lnTo>
                      <a:pt x="1" y="275"/>
                    </a:lnTo>
                    <a:close/>
                  </a:path>
                </a:pathLst>
              </a:custGeom>
              <a:solidFill>
                <a:srgbClr val="e6ea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6734160" y="1882800"/>
                <a:ext cx="22320" cy="96840"/>
              </a:xfrm>
              <a:custGeom>
                <a:avLst/>
                <a:gdLst/>
                <a:ahLst/>
                <a:rect l="l" t="t" r="r" b="b"/>
                <a:pathLst>
                  <a:path w="67" h="302">
                    <a:moveTo>
                      <a:pt x="1" y="220"/>
                    </a:moveTo>
                    <a:lnTo>
                      <a:pt x="4" y="200"/>
                    </a:lnTo>
                    <a:lnTo>
                      <a:pt x="7" y="175"/>
                    </a:lnTo>
                    <a:lnTo>
                      <a:pt x="11" y="147"/>
                    </a:lnTo>
                    <a:lnTo>
                      <a:pt x="13" y="118"/>
                    </a:lnTo>
                    <a:lnTo>
                      <a:pt x="16" y="90"/>
                    </a:lnTo>
                    <a:lnTo>
                      <a:pt x="18" y="65"/>
                    </a:lnTo>
                    <a:lnTo>
                      <a:pt x="20" y="44"/>
                    </a:lnTo>
                    <a:lnTo>
                      <a:pt x="21" y="30"/>
                    </a:lnTo>
                    <a:lnTo>
                      <a:pt x="24" y="17"/>
                    </a:lnTo>
                    <a:lnTo>
                      <a:pt x="26" y="7"/>
                    </a:lnTo>
                    <a:lnTo>
                      <a:pt x="29" y="2"/>
                    </a:lnTo>
                    <a:lnTo>
                      <a:pt x="31" y="0"/>
                    </a:lnTo>
                    <a:lnTo>
                      <a:pt x="33" y="1"/>
                    </a:lnTo>
                    <a:lnTo>
                      <a:pt x="37" y="5"/>
                    </a:lnTo>
                    <a:lnTo>
                      <a:pt x="39" y="12"/>
                    </a:lnTo>
                    <a:lnTo>
                      <a:pt x="42" y="20"/>
                    </a:lnTo>
                    <a:lnTo>
                      <a:pt x="47" y="43"/>
                    </a:lnTo>
                    <a:lnTo>
                      <a:pt x="52" y="72"/>
                    </a:lnTo>
                    <a:lnTo>
                      <a:pt x="57" y="104"/>
                    </a:lnTo>
                    <a:lnTo>
                      <a:pt x="60" y="136"/>
                    </a:lnTo>
                    <a:lnTo>
                      <a:pt x="64" y="166"/>
                    </a:lnTo>
                    <a:lnTo>
                      <a:pt x="66" y="192"/>
                    </a:lnTo>
                    <a:lnTo>
                      <a:pt x="67" y="213"/>
                    </a:lnTo>
                    <a:lnTo>
                      <a:pt x="67" y="230"/>
                    </a:lnTo>
                    <a:lnTo>
                      <a:pt x="66" y="245"/>
                    </a:lnTo>
                    <a:lnTo>
                      <a:pt x="64" y="259"/>
                    </a:lnTo>
                    <a:lnTo>
                      <a:pt x="59" y="274"/>
                    </a:lnTo>
                    <a:lnTo>
                      <a:pt x="53" y="289"/>
                    </a:lnTo>
                    <a:lnTo>
                      <a:pt x="51" y="296"/>
                    </a:lnTo>
                    <a:lnTo>
                      <a:pt x="46" y="300"/>
                    </a:lnTo>
                    <a:lnTo>
                      <a:pt x="42" y="302"/>
                    </a:lnTo>
                    <a:lnTo>
                      <a:pt x="38" y="302"/>
                    </a:lnTo>
                    <a:lnTo>
                      <a:pt x="32" y="301"/>
                    </a:lnTo>
                    <a:lnTo>
                      <a:pt x="28" y="298"/>
                    </a:lnTo>
                    <a:lnTo>
                      <a:pt x="23" y="294"/>
                    </a:lnTo>
                    <a:lnTo>
                      <a:pt x="18" y="287"/>
                    </a:lnTo>
                    <a:lnTo>
                      <a:pt x="14" y="281"/>
                    </a:lnTo>
                    <a:lnTo>
                      <a:pt x="10" y="273"/>
                    </a:lnTo>
                    <a:lnTo>
                      <a:pt x="6" y="264"/>
                    </a:lnTo>
                    <a:lnTo>
                      <a:pt x="3" y="256"/>
                    </a:lnTo>
                    <a:lnTo>
                      <a:pt x="1" y="247"/>
                    </a:lnTo>
                    <a:lnTo>
                      <a:pt x="0" y="237"/>
                    </a:lnTo>
                    <a:lnTo>
                      <a:pt x="0" y="229"/>
                    </a:lnTo>
                    <a:lnTo>
                      <a:pt x="1" y="220"/>
                    </a:lnTo>
                    <a:close/>
                  </a:path>
                </a:pathLst>
              </a:custGeom>
              <a:solidFill>
                <a:srgbClr val="edf0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6737400" y="1889280"/>
                <a:ext cx="15840" cy="71280"/>
              </a:xfrm>
              <a:custGeom>
                <a:avLst/>
                <a:gdLst/>
                <a:ahLst/>
                <a:rect l="l" t="t" r="r" b="b"/>
                <a:pathLst>
                  <a:path w="50" h="225">
                    <a:moveTo>
                      <a:pt x="0" y="162"/>
                    </a:moveTo>
                    <a:lnTo>
                      <a:pt x="4" y="148"/>
                    </a:lnTo>
                    <a:lnTo>
                      <a:pt x="6" y="130"/>
                    </a:lnTo>
                    <a:lnTo>
                      <a:pt x="8" y="109"/>
                    </a:lnTo>
                    <a:lnTo>
                      <a:pt x="10" y="88"/>
                    </a:lnTo>
                    <a:lnTo>
                      <a:pt x="11" y="66"/>
                    </a:lnTo>
                    <a:lnTo>
                      <a:pt x="13" y="48"/>
                    </a:lnTo>
                    <a:lnTo>
                      <a:pt x="15" y="31"/>
                    </a:lnTo>
                    <a:lnTo>
                      <a:pt x="16" y="22"/>
                    </a:lnTo>
                    <a:lnTo>
                      <a:pt x="18" y="12"/>
                    </a:lnTo>
                    <a:lnTo>
                      <a:pt x="20" y="5"/>
                    </a:lnTo>
                    <a:lnTo>
                      <a:pt x="21" y="1"/>
                    </a:lnTo>
                    <a:lnTo>
                      <a:pt x="23" y="0"/>
                    </a:lnTo>
                    <a:lnTo>
                      <a:pt x="25" y="1"/>
                    </a:lnTo>
                    <a:lnTo>
                      <a:pt x="27" y="3"/>
                    </a:lnTo>
                    <a:lnTo>
                      <a:pt x="30" y="9"/>
                    </a:lnTo>
                    <a:lnTo>
                      <a:pt x="32" y="15"/>
                    </a:lnTo>
                    <a:lnTo>
                      <a:pt x="35" y="32"/>
                    </a:lnTo>
                    <a:lnTo>
                      <a:pt x="39" y="54"/>
                    </a:lnTo>
                    <a:lnTo>
                      <a:pt x="43" y="78"/>
                    </a:lnTo>
                    <a:lnTo>
                      <a:pt x="45" y="103"/>
                    </a:lnTo>
                    <a:lnTo>
                      <a:pt x="48" y="125"/>
                    </a:lnTo>
                    <a:lnTo>
                      <a:pt x="49" y="143"/>
                    </a:lnTo>
                    <a:lnTo>
                      <a:pt x="50" y="158"/>
                    </a:lnTo>
                    <a:lnTo>
                      <a:pt x="50" y="171"/>
                    </a:lnTo>
                    <a:lnTo>
                      <a:pt x="49" y="182"/>
                    </a:lnTo>
                    <a:lnTo>
                      <a:pt x="47" y="192"/>
                    </a:lnTo>
                    <a:lnTo>
                      <a:pt x="45" y="203"/>
                    </a:lnTo>
                    <a:lnTo>
                      <a:pt x="40" y="214"/>
                    </a:lnTo>
                    <a:lnTo>
                      <a:pt x="38" y="219"/>
                    </a:lnTo>
                    <a:lnTo>
                      <a:pt x="35" y="223"/>
                    </a:lnTo>
                    <a:lnTo>
                      <a:pt x="32" y="225"/>
                    </a:lnTo>
                    <a:lnTo>
                      <a:pt x="29" y="225"/>
                    </a:lnTo>
                    <a:lnTo>
                      <a:pt x="24" y="224"/>
                    </a:lnTo>
                    <a:lnTo>
                      <a:pt x="21" y="221"/>
                    </a:lnTo>
                    <a:lnTo>
                      <a:pt x="18" y="218"/>
                    </a:lnTo>
                    <a:lnTo>
                      <a:pt x="15" y="213"/>
                    </a:lnTo>
                    <a:lnTo>
                      <a:pt x="11" y="209"/>
                    </a:lnTo>
                    <a:lnTo>
                      <a:pt x="8" y="202"/>
                    </a:lnTo>
                    <a:lnTo>
                      <a:pt x="5" y="197"/>
                    </a:lnTo>
                    <a:lnTo>
                      <a:pt x="3" y="189"/>
                    </a:lnTo>
                    <a:lnTo>
                      <a:pt x="2" y="183"/>
                    </a:lnTo>
                    <a:lnTo>
                      <a:pt x="0" y="176"/>
                    </a:lnTo>
                    <a:lnTo>
                      <a:pt x="0" y="169"/>
                    </a:lnTo>
                    <a:lnTo>
                      <a:pt x="0" y="162"/>
                    </a:lnTo>
                    <a:close/>
                  </a:path>
                </a:pathLst>
              </a:custGeom>
              <a:solidFill>
                <a:srgbClr val="f3f6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740640" y="1893960"/>
                <a:ext cx="9360" cy="46080"/>
              </a:xfrm>
              <a:custGeom>
                <a:avLst/>
                <a:gdLst/>
                <a:ahLst/>
                <a:rect l="l" t="t" r="r" b="b"/>
                <a:pathLst>
                  <a:path w="32" h="146">
                    <a:moveTo>
                      <a:pt x="11" y="13"/>
                    </a:moveTo>
                    <a:lnTo>
                      <a:pt x="10" y="21"/>
                    </a:lnTo>
                    <a:lnTo>
                      <a:pt x="9" y="31"/>
                    </a:lnTo>
                    <a:lnTo>
                      <a:pt x="8" y="43"/>
                    </a:lnTo>
                    <a:lnTo>
                      <a:pt x="7" y="58"/>
                    </a:lnTo>
                    <a:lnTo>
                      <a:pt x="6" y="72"/>
                    </a:lnTo>
                    <a:lnTo>
                      <a:pt x="3" y="85"/>
                    </a:lnTo>
                    <a:lnTo>
                      <a:pt x="2" y="97"/>
                    </a:lnTo>
                    <a:lnTo>
                      <a:pt x="0" y="107"/>
                    </a:lnTo>
                    <a:lnTo>
                      <a:pt x="0" y="116"/>
                    </a:lnTo>
                    <a:lnTo>
                      <a:pt x="1" y="124"/>
                    </a:lnTo>
                    <a:lnTo>
                      <a:pt x="5" y="133"/>
                    </a:lnTo>
                    <a:lnTo>
                      <a:pt x="9" y="140"/>
                    </a:lnTo>
                    <a:lnTo>
                      <a:pt x="11" y="143"/>
                    </a:lnTo>
                    <a:lnTo>
                      <a:pt x="13" y="144"/>
                    </a:lnTo>
                    <a:lnTo>
                      <a:pt x="15" y="146"/>
                    </a:lnTo>
                    <a:lnTo>
                      <a:pt x="17" y="146"/>
                    </a:lnTo>
                    <a:lnTo>
                      <a:pt x="20" y="146"/>
                    </a:lnTo>
                    <a:lnTo>
                      <a:pt x="22" y="145"/>
                    </a:lnTo>
                    <a:lnTo>
                      <a:pt x="24" y="143"/>
                    </a:lnTo>
                    <a:lnTo>
                      <a:pt x="25" y="139"/>
                    </a:lnTo>
                    <a:lnTo>
                      <a:pt x="28" y="132"/>
                    </a:lnTo>
                    <a:lnTo>
                      <a:pt x="29" y="126"/>
                    </a:lnTo>
                    <a:lnTo>
                      <a:pt x="30" y="119"/>
                    </a:lnTo>
                    <a:lnTo>
                      <a:pt x="32" y="112"/>
                    </a:lnTo>
                    <a:lnTo>
                      <a:pt x="32" y="103"/>
                    </a:lnTo>
                    <a:lnTo>
                      <a:pt x="32" y="93"/>
                    </a:lnTo>
                    <a:lnTo>
                      <a:pt x="32" y="81"/>
                    </a:lnTo>
                    <a:lnTo>
                      <a:pt x="30" y="67"/>
                    </a:lnTo>
                    <a:lnTo>
                      <a:pt x="28" y="51"/>
                    </a:lnTo>
                    <a:lnTo>
                      <a:pt x="26" y="36"/>
                    </a:lnTo>
                    <a:lnTo>
                      <a:pt x="23" y="22"/>
                    </a:lnTo>
                    <a:lnTo>
                      <a:pt x="21" y="10"/>
                    </a:lnTo>
                    <a:lnTo>
                      <a:pt x="17" y="2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2"/>
                    </a:lnTo>
                    <a:lnTo>
                      <a:pt x="11" y="7"/>
                    </a:lnTo>
                    <a:lnTo>
                      <a:pt x="11" y="13"/>
                    </a:lnTo>
                    <a:close/>
                  </a:path>
                </a:pathLst>
              </a:custGeom>
              <a:solidFill>
                <a:srgbClr val="f8fa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669000" y="1809720"/>
                <a:ext cx="14400" cy="19080"/>
              </a:xfrm>
              <a:custGeom>
                <a:avLst/>
                <a:gdLst/>
                <a:ahLst/>
                <a:rect l="l" t="t" r="r" b="b"/>
                <a:pathLst>
                  <a:path w="45" h="63">
                    <a:moveTo>
                      <a:pt x="45" y="63"/>
                    </a:moveTo>
                    <a:lnTo>
                      <a:pt x="43" y="61"/>
                    </a:lnTo>
                    <a:lnTo>
                      <a:pt x="36" y="55"/>
                    </a:lnTo>
                    <a:lnTo>
                      <a:pt x="27" y="46"/>
                    </a:lnTo>
                    <a:lnTo>
                      <a:pt x="19" y="36"/>
                    </a:lnTo>
                    <a:lnTo>
                      <a:pt x="10" y="26"/>
                    </a:lnTo>
                    <a:lnTo>
                      <a:pt x="4" y="16"/>
                    </a:lnTo>
                    <a:lnTo>
                      <a:pt x="2" y="11"/>
                    </a:lnTo>
                    <a:lnTo>
                      <a:pt x="0" y="7"/>
                    </a:lnTo>
                    <a:lnTo>
                      <a:pt x="2" y="4"/>
                    </a:lnTo>
                    <a:lnTo>
                      <a:pt x="3" y="1"/>
                    </a:lnTo>
                    <a:lnTo>
                      <a:pt x="6" y="0"/>
                    </a:lnTo>
                    <a:lnTo>
                      <a:pt x="9" y="1"/>
                    </a:lnTo>
                    <a:lnTo>
                      <a:pt x="12" y="3"/>
                    </a:lnTo>
                    <a:lnTo>
                      <a:pt x="16" y="6"/>
                    </a:lnTo>
                    <a:lnTo>
                      <a:pt x="23" y="16"/>
                    </a:lnTo>
                    <a:lnTo>
                      <a:pt x="30" y="29"/>
                    </a:lnTo>
                    <a:lnTo>
                      <a:pt x="36" y="41"/>
                    </a:lnTo>
                    <a:lnTo>
                      <a:pt x="40" y="51"/>
                    </a:lnTo>
                    <a:lnTo>
                      <a:pt x="44" y="60"/>
                    </a:lnTo>
                    <a:lnTo>
                      <a:pt x="45" y="63"/>
                    </a:lnTo>
                    <a:close/>
                  </a:path>
                </a:pathLst>
              </a:custGeom>
              <a:solidFill>
                <a:srgbClr val="a9b9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684840" y="1806480"/>
                <a:ext cx="3240" cy="16200"/>
              </a:xfrm>
              <a:custGeom>
                <a:avLst/>
                <a:gdLst/>
                <a:ahLst/>
                <a:rect l="l" t="t" r="r" b="b"/>
                <a:pathLst>
                  <a:path w="11" h="52">
                    <a:moveTo>
                      <a:pt x="10" y="52"/>
                    </a:moveTo>
                    <a:lnTo>
                      <a:pt x="10" y="50"/>
                    </a:lnTo>
                    <a:lnTo>
                      <a:pt x="8" y="44"/>
                    </a:lnTo>
                    <a:lnTo>
                      <a:pt x="6" y="37"/>
                    </a:lnTo>
                    <a:lnTo>
                      <a:pt x="3" y="27"/>
                    </a:lnTo>
                    <a:lnTo>
                      <a:pt x="1" y="17"/>
                    </a:lnTo>
                    <a:lnTo>
                      <a:pt x="0" y="10"/>
                    </a:lnTo>
                    <a:lnTo>
                      <a:pt x="0" y="5"/>
                    </a:lnTo>
                    <a:lnTo>
                      <a:pt x="1" y="3"/>
                    </a:lnTo>
                    <a:lnTo>
                      <a:pt x="1" y="1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6" y="0"/>
                    </a:lnTo>
                    <a:lnTo>
                      <a:pt x="7" y="1"/>
                    </a:lnTo>
                    <a:lnTo>
                      <a:pt x="8" y="2"/>
                    </a:lnTo>
                    <a:lnTo>
                      <a:pt x="9" y="6"/>
                    </a:lnTo>
                    <a:lnTo>
                      <a:pt x="10" y="13"/>
                    </a:lnTo>
                    <a:lnTo>
                      <a:pt x="11" y="22"/>
                    </a:lnTo>
                    <a:lnTo>
                      <a:pt x="11" y="31"/>
                    </a:lnTo>
                    <a:lnTo>
                      <a:pt x="11" y="41"/>
                    </a:lnTo>
                    <a:lnTo>
                      <a:pt x="10" y="52"/>
                    </a:lnTo>
                    <a:close/>
                  </a:path>
                </a:pathLst>
              </a:custGeom>
              <a:solidFill>
                <a:srgbClr val="a9b9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6664320" y="1828800"/>
                <a:ext cx="15840" cy="3240"/>
              </a:xfrm>
              <a:custGeom>
                <a:avLst/>
                <a:gdLst/>
                <a:ahLst/>
                <a:rect l="l" t="t" r="r" b="b"/>
                <a:pathLst>
                  <a:path w="50" h="10">
                    <a:moveTo>
                      <a:pt x="50" y="10"/>
                    </a:moveTo>
                    <a:lnTo>
                      <a:pt x="49" y="9"/>
                    </a:lnTo>
                    <a:lnTo>
                      <a:pt x="46" y="8"/>
                    </a:lnTo>
                    <a:lnTo>
                      <a:pt x="40" y="6"/>
                    </a:lnTo>
                    <a:lnTo>
                      <a:pt x="34" y="4"/>
                    </a:lnTo>
                    <a:lnTo>
                      <a:pt x="27" y="1"/>
                    </a:lnTo>
                    <a:lnTo>
                      <a:pt x="19" y="0"/>
                    </a:lnTo>
                    <a:lnTo>
                      <a:pt x="11" y="0"/>
                    </a:lnTo>
                    <a:lnTo>
                      <a:pt x="4" y="2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4" y="7"/>
                    </a:lnTo>
                    <a:lnTo>
                      <a:pt x="10" y="8"/>
                    </a:lnTo>
                    <a:lnTo>
                      <a:pt x="20" y="9"/>
                    </a:lnTo>
                    <a:lnTo>
                      <a:pt x="31" y="9"/>
                    </a:lnTo>
                    <a:lnTo>
                      <a:pt x="40" y="10"/>
                    </a:lnTo>
                    <a:lnTo>
                      <a:pt x="48" y="10"/>
                    </a:lnTo>
                    <a:lnTo>
                      <a:pt x="50" y="10"/>
                    </a:lnTo>
                    <a:close/>
                  </a:path>
                </a:pathLst>
              </a:custGeom>
              <a:solidFill>
                <a:srgbClr val="a9b9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6638760" y="2322720"/>
                <a:ext cx="9720" cy="21960"/>
              </a:xfrm>
              <a:custGeom>
                <a:avLst/>
                <a:gdLst/>
                <a:ahLst/>
                <a:rect l="l" t="t" r="r" b="b"/>
                <a:pathLst>
                  <a:path w="29" h="70">
                    <a:moveTo>
                      <a:pt x="29" y="0"/>
                    </a:moveTo>
                    <a:lnTo>
                      <a:pt x="29" y="4"/>
                    </a:lnTo>
                    <a:lnTo>
                      <a:pt x="27" y="12"/>
                    </a:lnTo>
                    <a:lnTo>
                      <a:pt x="25" y="23"/>
                    </a:lnTo>
                    <a:lnTo>
                      <a:pt x="23" y="36"/>
                    </a:lnTo>
                    <a:lnTo>
                      <a:pt x="20" y="49"/>
                    </a:lnTo>
                    <a:lnTo>
                      <a:pt x="16" y="60"/>
                    </a:lnTo>
                    <a:lnTo>
                      <a:pt x="13" y="64"/>
                    </a:lnTo>
                    <a:lnTo>
                      <a:pt x="10" y="67"/>
                    </a:lnTo>
                    <a:lnTo>
                      <a:pt x="7" y="70"/>
                    </a:lnTo>
                    <a:lnTo>
                      <a:pt x="4" y="70"/>
                    </a:lnTo>
                    <a:lnTo>
                      <a:pt x="2" y="68"/>
                    </a:lnTo>
                    <a:lnTo>
                      <a:pt x="0" y="65"/>
                    </a:lnTo>
                    <a:lnTo>
                      <a:pt x="0" y="62"/>
                    </a:lnTo>
                    <a:lnTo>
                      <a:pt x="0" y="57"/>
                    </a:lnTo>
                    <a:lnTo>
                      <a:pt x="5" y="46"/>
                    </a:lnTo>
                    <a:lnTo>
                      <a:pt x="10" y="34"/>
                    </a:lnTo>
                    <a:lnTo>
                      <a:pt x="17" y="21"/>
                    </a:lnTo>
                    <a:lnTo>
                      <a:pt x="23" y="11"/>
                    </a:lnTo>
                    <a:lnTo>
                      <a:pt x="27" y="4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a9b9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6654600" y="2319480"/>
                <a:ext cx="3240" cy="15840"/>
              </a:xfrm>
              <a:custGeom>
                <a:avLst/>
                <a:gdLst/>
                <a:ahLst/>
                <a:rect l="l" t="t" r="r" b="b"/>
                <a:pathLst>
                  <a:path w="9" h="49">
                    <a:moveTo>
                      <a:pt x="4" y="0"/>
                    </a:moveTo>
                    <a:lnTo>
                      <a:pt x="4" y="1"/>
                    </a:lnTo>
                    <a:lnTo>
                      <a:pt x="3" y="5"/>
                    </a:lnTo>
                    <a:lnTo>
                      <a:pt x="2" y="11"/>
                    </a:lnTo>
                    <a:lnTo>
                      <a:pt x="1" y="17"/>
                    </a:lnTo>
                    <a:lnTo>
                      <a:pt x="0" y="25"/>
                    </a:lnTo>
                    <a:lnTo>
                      <a:pt x="0" y="32"/>
                    </a:lnTo>
                    <a:lnTo>
                      <a:pt x="2" y="40"/>
                    </a:lnTo>
                    <a:lnTo>
                      <a:pt x="4" y="46"/>
                    </a:lnTo>
                    <a:lnTo>
                      <a:pt x="7" y="49"/>
                    </a:lnTo>
                    <a:lnTo>
                      <a:pt x="8" y="49"/>
                    </a:lnTo>
                    <a:lnTo>
                      <a:pt x="9" y="48"/>
                    </a:lnTo>
                    <a:lnTo>
                      <a:pt x="9" y="46"/>
                    </a:lnTo>
                    <a:lnTo>
                      <a:pt x="9" y="40"/>
                    </a:lnTo>
                    <a:lnTo>
                      <a:pt x="9" y="30"/>
                    </a:lnTo>
                    <a:lnTo>
                      <a:pt x="8" y="19"/>
                    </a:lnTo>
                    <a:lnTo>
                      <a:pt x="7" y="9"/>
                    </a:lnTo>
                    <a:lnTo>
                      <a:pt x="5" y="3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a9b9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6632640" y="2316240"/>
                <a:ext cx="6120" cy="14400"/>
              </a:xfrm>
              <a:custGeom>
                <a:avLst/>
                <a:gdLst/>
                <a:ahLst/>
                <a:rect l="l" t="t" r="r" b="b"/>
                <a:pathLst>
                  <a:path w="22" h="45">
                    <a:moveTo>
                      <a:pt x="22" y="0"/>
                    </a:moveTo>
                    <a:lnTo>
                      <a:pt x="20" y="0"/>
                    </a:lnTo>
                    <a:lnTo>
                      <a:pt x="18" y="3"/>
                    </a:lnTo>
                    <a:lnTo>
                      <a:pt x="15" y="7"/>
                    </a:lnTo>
                    <a:lnTo>
                      <a:pt x="11" y="13"/>
                    </a:lnTo>
                    <a:lnTo>
                      <a:pt x="6" y="19"/>
                    </a:lnTo>
                    <a:lnTo>
                      <a:pt x="3" y="27"/>
                    </a:lnTo>
                    <a:lnTo>
                      <a:pt x="0" y="34"/>
                    </a:lnTo>
                    <a:lnTo>
                      <a:pt x="0" y="41"/>
                    </a:lnTo>
                    <a:lnTo>
                      <a:pt x="0" y="44"/>
                    </a:lnTo>
                    <a:lnTo>
                      <a:pt x="0" y="45"/>
                    </a:lnTo>
                    <a:lnTo>
                      <a:pt x="1" y="45"/>
                    </a:lnTo>
                    <a:lnTo>
                      <a:pt x="3" y="43"/>
                    </a:lnTo>
                    <a:lnTo>
                      <a:pt x="6" y="37"/>
                    </a:lnTo>
                    <a:lnTo>
                      <a:pt x="11" y="28"/>
                    </a:lnTo>
                    <a:lnTo>
                      <a:pt x="15" y="18"/>
                    </a:lnTo>
                    <a:lnTo>
                      <a:pt x="18" y="8"/>
                    </a:lnTo>
                    <a:lnTo>
                      <a:pt x="20" y="2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a9b9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6651720" y="2162160"/>
                <a:ext cx="52200" cy="112680"/>
              </a:xfrm>
              <a:custGeom>
                <a:avLst/>
                <a:gdLst/>
                <a:ahLst/>
                <a:rect l="l" t="t" r="r" b="b"/>
                <a:pathLst>
                  <a:path w="167" h="357">
                    <a:moveTo>
                      <a:pt x="142" y="292"/>
                    </a:moveTo>
                    <a:lnTo>
                      <a:pt x="139" y="297"/>
                    </a:lnTo>
                    <a:lnTo>
                      <a:pt x="129" y="311"/>
                    </a:lnTo>
                    <a:lnTo>
                      <a:pt x="122" y="320"/>
                    </a:lnTo>
                    <a:lnTo>
                      <a:pt x="115" y="329"/>
                    </a:lnTo>
                    <a:lnTo>
                      <a:pt x="106" y="338"/>
                    </a:lnTo>
                    <a:lnTo>
                      <a:pt x="97" y="346"/>
                    </a:lnTo>
                    <a:lnTo>
                      <a:pt x="88" y="352"/>
                    </a:lnTo>
                    <a:lnTo>
                      <a:pt x="79" y="356"/>
                    </a:lnTo>
                    <a:lnTo>
                      <a:pt x="74" y="357"/>
                    </a:lnTo>
                    <a:lnTo>
                      <a:pt x="69" y="357"/>
                    </a:lnTo>
                    <a:lnTo>
                      <a:pt x="64" y="357"/>
                    </a:lnTo>
                    <a:lnTo>
                      <a:pt x="60" y="356"/>
                    </a:lnTo>
                    <a:lnTo>
                      <a:pt x="54" y="354"/>
                    </a:lnTo>
                    <a:lnTo>
                      <a:pt x="50" y="351"/>
                    </a:lnTo>
                    <a:lnTo>
                      <a:pt x="46" y="347"/>
                    </a:lnTo>
                    <a:lnTo>
                      <a:pt x="41" y="341"/>
                    </a:lnTo>
                    <a:lnTo>
                      <a:pt x="37" y="335"/>
                    </a:lnTo>
                    <a:lnTo>
                      <a:pt x="33" y="326"/>
                    </a:lnTo>
                    <a:lnTo>
                      <a:pt x="29" y="317"/>
                    </a:lnTo>
                    <a:lnTo>
                      <a:pt x="25" y="307"/>
                    </a:lnTo>
                    <a:lnTo>
                      <a:pt x="19" y="283"/>
                    </a:lnTo>
                    <a:lnTo>
                      <a:pt x="13" y="259"/>
                    </a:lnTo>
                    <a:lnTo>
                      <a:pt x="9" y="235"/>
                    </a:lnTo>
                    <a:lnTo>
                      <a:pt x="6" y="213"/>
                    </a:lnTo>
                    <a:lnTo>
                      <a:pt x="2" y="190"/>
                    </a:lnTo>
                    <a:lnTo>
                      <a:pt x="1" y="167"/>
                    </a:lnTo>
                    <a:lnTo>
                      <a:pt x="0" y="147"/>
                    </a:lnTo>
                    <a:lnTo>
                      <a:pt x="1" y="126"/>
                    </a:lnTo>
                    <a:lnTo>
                      <a:pt x="2" y="107"/>
                    </a:lnTo>
                    <a:lnTo>
                      <a:pt x="5" y="88"/>
                    </a:lnTo>
                    <a:lnTo>
                      <a:pt x="7" y="71"/>
                    </a:lnTo>
                    <a:lnTo>
                      <a:pt x="11" y="56"/>
                    </a:lnTo>
                    <a:lnTo>
                      <a:pt x="15" y="42"/>
                    </a:lnTo>
                    <a:lnTo>
                      <a:pt x="22" y="30"/>
                    </a:lnTo>
                    <a:lnTo>
                      <a:pt x="28" y="20"/>
                    </a:lnTo>
                    <a:lnTo>
                      <a:pt x="36" y="12"/>
                    </a:lnTo>
                    <a:lnTo>
                      <a:pt x="39" y="9"/>
                    </a:lnTo>
                    <a:lnTo>
                      <a:pt x="45" y="6"/>
                    </a:lnTo>
                    <a:lnTo>
                      <a:pt x="50" y="4"/>
                    </a:lnTo>
                    <a:lnTo>
                      <a:pt x="55" y="2"/>
                    </a:lnTo>
                    <a:lnTo>
                      <a:pt x="62" y="1"/>
                    </a:lnTo>
                    <a:lnTo>
                      <a:pt x="68" y="0"/>
                    </a:lnTo>
                    <a:lnTo>
                      <a:pt x="75" y="0"/>
                    </a:lnTo>
                    <a:lnTo>
                      <a:pt x="81" y="0"/>
                    </a:lnTo>
                    <a:lnTo>
                      <a:pt x="89" y="1"/>
                    </a:lnTo>
                    <a:lnTo>
                      <a:pt x="95" y="3"/>
                    </a:lnTo>
                    <a:lnTo>
                      <a:pt x="103" y="6"/>
                    </a:lnTo>
                    <a:lnTo>
                      <a:pt x="109" y="10"/>
                    </a:lnTo>
                    <a:lnTo>
                      <a:pt x="117" y="14"/>
                    </a:lnTo>
                    <a:lnTo>
                      <a:pt x="123" y="18"/>
                    </a:lnTo>
                    <a:lnTo>
                      <a:pt x="130" y="25"/>
                    </a:lnTo>
                    <a:lnTo>
                      <a:pt x="136" y="31"/>
                    </a:lnTo>
                    <a:lnTo>
                      <a:pt x="142" y="39"/>
                    </a:lnTo>
                    <a:lnTo>
                      <a:pt x="147" y="47"/>
                    </a:lnTo>
                    <a:lnTo>
                      <a:pt x="151" y="58"/>
                    </a:lnTo>
                    <a:lnTo>
                      <a:pt x="156" y="69"/>
                    </a:lnTo>
                    <a:lnTo>
                      <a:pt x="160" y="81"/>
                    </a:lnTo>
                    <a:lnTo>
                      <a:pt x="162" y="94"/>
                    </a:lnTo>
                    <a:lnTo>
                      <a:pt x="166" y="108"/>
                    </a:lnTo>
                    <a:lnTo>
                      <a:pt x="167" y="123"/>
                    </a:lnTo>
                    <a:lnTo>
                      <a:pt x="167" y="139"/>
                    </a:lnTo>
                    <a:lnTo>
                      <a:pt x="167" y="158"/>
                    </a:lnTo>
                    <a:lnTo>
                      <a:pt x="166" y="176"/>
                    </a:lnTo>
                    <a:lnTo>
                      <a:pt x="163" y="196"/>
                    </a:lnTo>
                    <a:lnTo>
                      <a:pt x="159" y="218"/>
                    </a:lnTo>
                    <a:lnTo>
                      <a:pt x="155" y="241"/>
                    </a:lnTo>
                    <a:lnTo>
                      <a:pt x="149" y="266"/>
                    </a:lnTo>
                    <a:lnTo>
                      <a:pt x="142" y="292"/>
                    </a:lnTo>
                    <a:close/>
                  </a:path>
                </a:pathLst>
              </a:custGeom>
              <a:solidFill>
                <a:srgbClr val="8bcc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6653160" y="2173320"/>
                <a:ext cx="46080" cy="96840"/>
              </a:xfrm>
              <a:custGeom>
                <a:avLst/>
                <a:gdLst/>
                <a:ahLst/>
                <a:rect l="l" t="t" r="r" b="b"/>
                <a:pathLst>
                  <a:path w="143" h="308">
                    <a:moveTo>
                      <a:pt x="30" y="11"/>
                    </a:moveTo>
                    <a:lnTo>
                      <a:pt x="33" y="9"/>
                    </a:lnTo>
                    <a:lnTo>
                      <a:pt x="38" y="6"/>
                    </a:lnTo>
                    <a:lnTo>
                      <a:pt x="42" y="4"/>
                    </a:lnTo>
                    <a:lnTo>
                      <a:pt x="47" y="3"/>
                    </a:lnTo>
                    <a:lnTo>
                      <a:pt x="58" y="0"/>
                    </a:lnTo>
                    <a:lnTo>
                      <a:pt x="70" y="0"/>
                    </a:lnTo>
                    <a:lnTo>
                      <a:pt x="75" y="1"/>
                    </a:lnTo>
                    <a:lnTo>
                      <a:pt x="82" y="4"/>
                    </a:lnTo>
                    <a:lnTo>
                      <a:pt x="88" y="6"/>
                    </a:lnTo>
                    <a:lnTo>
                      <a:pt x="94" y="9"/>
                    </a:lnTo>
                    <a:lnTo>
                      <a:pt x="100" y="12"/>
                    </a:lnTo>
                    <a:lnTo>
                      <a:pt x="106" y="17"/>
                    </a:lnTo>
                    <a:lnTo>
                      <a:pt x="111" y="22"/>
                    </a:lnTo>
                    <a:lnTo>
                      <a:pt x="116" y="27"/>
                    </a:lnTo>
                    <a:lnTo>
                      <a:pt x="121" y="34"/>
                    </a:lnTo>
                    <a:lnTo>
                      <a:pt x="126" y="41"/>
                    </a:lnTo>
                    <a:lnTo>
                      <a:pt x="131" y="50"/>
                    </a:lnTo>
                    <a:lnTo>
                      <a:pt x="134" y="60"/>
                    </a:lnTo>
                    <a:lnTo>
                      <a:pt x="137" y="70"/>
                    </a:lnTo>
                    <a:lnTo>
                      <a:pt x="139" y="80"/>
                    </a:lnTo>
                    <a:lnTo>
                      <a:pt x="141" y="93"/>
                    </a:lnTo>
                    <a:lnTo>
                      <a:pt x="142" y="106"/>
                    </a:lnTo>
                    <a:lnTo>
                      <a:pt x="143" y="120"/>
                    </a:lnTo>
                    <a:lnTo>
                      <a:pt x="142" y="135"/>
                    </a:lnTo>
                    <a:lnTo>
                      <a:pt x="141" y="152"/>
                    </a:lnTo>
                    <a:lnTo>
                      <a:pt x="139" y="169"/>
                    </a:lnTo>
                    <a:lnTo>
                      <a:pt x="137" y="188"/>
                    </a:lnTo>
                    <a:lnTo>
                      <a:pt x="133" y="208"/>
                    </a:lnTo>
                    <a:lnTo>
                      <a:pt x="127" y="229"/>
                    </a:lnTo>
                    <a:lnTo>
                      <a:pt x="122" y="251"/>
                    </a:lnTo>
                    <a:lnTo>
                      <a:pt x="119" y="256"/>
                    </a:lnTo>
                    <a:lnTo>
                      <a:pt x="110" y="268"/>
                    </a:lnTo>
                    <a:lnTo>
                      <a:pt x="105" y="276"/>
                    </a:lnTo>
                    <a:lnTo>
                      <a:pt x="98" y="283"/>
                    </a:lnTo>
                    <a:lnTo>
                      <a:pt x="92" y="291"/>
                    </a:lnTo>
                    <a:lnTo>
                      <a:pt x="84" y="297"/>
                    </a:lnTo>
                    <a:lnTo>
                      <a:pt x="76" y="303"/>
                    </a:lnTo>
                    <a:lnTo>
                      <a:pt x="68" y="306"/>
                    </a:lnTo>
                    <a:lnTo>
                      <a:pt x="64" y="307"/>
                    </a:lnTo>
                    <a:lnTo>
                      <a:pt x="59" y="308"/>
                    </a:lnTo>
                    <a:lnTo>
                      <a:pt x="56" y="307"/>
                    </a:lnTo>
                    <a:lnTo>
                      <a:pt x="52" y="306"/>
                    </a:lnTo>
                    <a:lnTo>
                      <a:pt x="47" y="305"/>
                    </a:lnTo>
                    <a:lnTo>
                      <a:pt x="43" y="302"/>
                    </a:lnTo>
                    <a:lnTo>
                      <a:pt x="40" y="298"/>
                    </a:lnTo>
                    <a:lnTo>
                      <a:pt x="35" y="293"/>
                    </a:lnTo>
                    <a:lnTo>
                      <a:pt x="32" y="288"/>
                    </a:lnTo>
                    <a:lnTo>
                      <a:pt x="29" y="281"/>
                    </a:lnTo>
                    <a:lnTo>
                      <a:pt x="26" y="273"/>
                    </a:lnTo>
                    <a:lnTo>
                      <a:pt x="22" y="264"/>
                    </a:lnTo>
                    <a:lnTo>
                      <a:pt x="17" y="243"/>
                    </a:lnTo>
                    <a:lnTo>
                      <a:pt x="12" y="223"/>
                    </a:lnTo>
                    <a:lnTo>
                      <a:pt x="8" y="202"/>
                    </a:lnTo>
                    <a:lnTo>
                      <a:pt x="5" y="183"/>
                    </a:lnTo>
                    <a:lnTo>
                      <a:pt x="2" y="163"/>
                    </a:lnTo>
                    <a:lnTo>
                      <a:pt x="1" y="144"/>
                    </a:lnTo>
                    <a:lnTo>
                      <a:pt x="0" y="126"/>
                    </a:lnTo>
                    <a:lnTo>
                      <a:pt x="0" y="108"/>
                    </a:lnTo>
                    <a:lnTo>
                      <a:pt x="1" y="92"/>
                    </a:lnTo>
                    <a:lnTo>
                      <a:pt x="3" y="77"/>
                    </a:lnTo>
                    <a:lnTo>
                      <a:pt x="5" y="62"/>
                    </a:lnTo>
                    <a:lnTo>
                      <a:pt x="8" y="49"/>
                    </a:lnTo>
                    <a:lnTo>
                      <a:pt x="13" y="37"/>
                    </a:lnTo>
                    <a:lnTo>
                      <a:pt x="17" y="27"/>
                    </a:lnTo>
                    <a:lnTo>
                      <a:pt x="24" y="19"/>
                    </a:lnTo>
                    <a:lnTo>
                      <a:pt x="30" y="11"/>
                    </a:lnTo>
                    <a:close/>
                  </a:path>
                </a:pathLst>
              </a:custGeom>
              <a:solidFill>
                <a:srgbClr val="96d0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6656400" y="2183040"/>
                <a:ext cx="38160" cy="82440"/>
              </a:xfrm>
              <a:custGeom>
                <a:avLst/>
                <a:gdLst/>
                <a:ahLst/>
                <a:rect l="l" t="t" r="r" b="b"/>
                <a:pathLst>
                  <a:path w="120" h="257">
                    <a:moveTo>
                      <a:pt x="24" y="10"/>
                    </a:moveTo>
                    <a:lnTo>
                      <a:pt x="31" y="5"/>
                    </a:lnTo>
                    <a:lnTo>
                      <a:pt x="39" y="2"/>
                    </a:lnTo>
                    <a:lnTo>
                      <a:pt x="49" y="0"/>
                    </a:lnTo>
                    <a:lnTo>
                      <a:pt x="59" y="1"/>
                    </a:lnTo>
                    <a:lnTo>
                      <a:pt x="68" y="3"/>
                    </a:lnTo>
                    <a:lnTo>
                      <a:pt x="79" y="6"/>
                    </a:lnTo>
                    <a:lnTo>
                      <a:pt x="84" y="10"/>
                    </a:lnTo>
                    <a:lnTo>
                      <a:pt x="89" y="14"/>
                    </a:lnTo>
                    <a:lnTo>
                      <a:pt x="93" y="17"/>
                    </a:lnTo>
                    <a:lnTo>
                      <a:pt x="98" y="23"/>
                    </a:lnTo>
                    <a:lnTo>
                      <a:pt x="102" y="28"/>
                    </a:lnTo>
                    <a:lnTo>
                      <a:pt x="106" y="34"/>
                    </a:lnTo>
                    <a:lnTo>
                      <a:pt x="110" y="41"/>
                    </a:lnTo>
                    <a:lnTo>
                      <a:pt x="113" y="50"/>
                    </a:lnTo>
                    <a:lnTo>
                      <a:pt x="115" y="57"/>
                    </a:lnTo>
                    <a:lnTo>
                      <a:pt x="117" y="67"/>
                    </a:lnTo>
                    <a:lnTo>
                      <a:pt x="118" y="77"/>
                    </a:lnTo>
                    <a:lnTo>
                      <a:pt x="119" y="88"/>
                    </a:lnTo>
                    <a:lnTo>
                      <a:pt x="120" y="100"/>
                    </a:lnTo>
                    <a:lnTo>
                      <a:pt x="119" y="113"/>
                    </a:lnTo>
                    <a:lnTo>
                      <a:pt x="118" y="126"/>
                    </a:lnTo>
                    <a:lnTo>
                      <a:pt x="117" y="141"/>
                    </a:lnTo>
                    <a:lnTo>
                      <a:pt x="114" y="156"/>
                    </a:lnTo>
                    <a:lnTo>
                      <a:pt x="111" y="174"/>
                    </a:lnTo>
                    <a:lnTo>
                      <a:pt x="106" y="191"/>
                    </a:lnTo>
                    <a:lnTo>
                      <a:pt x="101" y="209"/>
                    </a:lnTo>
                    <a:lnTo>
                      <a:pt x="99" y="214"/>
                    </a:lnTo>
                    <a:lnTo>
                      <a:pt x="91" y="223"/>
                    </a:lnTo>
                    <a:lnTo>
                      <a:pt x="87" y="230"/>
                    </a:lnTo>
                    <a:lnTo>
                      <a:pt x="81" y="236"/>
                    </a:lnTo>
                    <a:lnTo>
                      <a:pt x="76" y="243"/>
                    </a:lnTo>
                    <a:lnTo>
                      <a:pt x="70" y="248"/>
                    </a:lnTo>
                    <a:lnTo>
                      <a:pt x="63" y="253"/>
                    </a:lnTo>
                    <a:lnTo>
                      <a:pt x="57" y="256"/>
                    </a:lnTo>
                    <a:lnTo>
                      <a:pt x="52" y="257"/>
                    </a:lnTo>
                    <a:lnTo>
                      <a:pt x="49" y="257"/>
                    </a:lnTo>
                    <a:lnTo>
                      <a:pt x="46" y="257"/>
                    </a:lnTo>
                    <a:lnTo>
                      <a:pt x="43" y="256"/>
                    </a:lnTo>
                    <a:lnTo>
                      <a:pt x="39" y="254"/>
                    </a:lnTo>
                    <a:lnTo>
                      <a:pt x="36" y="252"/>
                    </a:lnTo>
                    <a:lnTo>
                      <a:pt x="33" y="248"/>
                    </a:lnTo>
                    <a:lnTo>
                      <a:pt x="30" y="245"/>
                    </a:lnTo>
                    <a:lnTo>
                      <a:pt x="24" y="234"/>
                    </a:lnTo>
                    <a:lnTo>
                      <a:pt x="20" y="219"/>
                    </a:lnTo>
                    <a:lnTo>
                      <a:pt x="14" y="203"/>
                    </a:lnTo>
                    <a:lnTo>
                      <a:pt x="10" y="186"/>
                    </a:lnTo>
                    <a:lnTo>
                      <a:pt x="7" y="168"/>
                    </a:lnTo>
                    <a:lnTo>
                      <a:pt x="5" y="152"/>
                    </a:lnTo>
                    <a:lnTo>
                      <a:pt x="3" y="135"/>
                    </a:lnTo>
                    <a:lnTo>
                      <a:pt x="2" y="120"/>
                    </a:lnTo>
                    <a:lnTo>
                      <a:pt x="0" y="105"/>
                    </a:lnTo>
                    <a:lnTo>
                      <a:pt x="0" y="90"/>
                    </a:lnTo>
                    <a:lnTo>
                      <a:pt x="2" y="75"/>
                    </a:lnTo>
                    <a:lnTo>
                      <a:pt x="3" y="63"/>
                    </a:lnTo>
                    <a:lnTo>
                      <a:pt x="5" y="51"/>
                    </a:lnTo>
                    <a:lnTo>
                      <a:pt x="7" y="40"/>
                    </a:lnTo>
                    <a:lnTo>
                      <a:pt x="10" y="30"/>
                    </a:lnTo>
                    <a:lnTo>
                      <a:pt x="14" y="21"/>
                    </a:lnTo>
                    <a:lnTo>
                      <a:pt x="19" y="15"/>
                    </a:lnTo>
                    <a:lnTo>
                      <a:pt x="24" y="10"/>
                    </a:lnTo>
                    <a:close/>
                  </a:path>
                </a:pathLst>
              </a:custGeom>
              <a:solidFill>
                <a:srgbClr val="a3d6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6659640" y="2193840"/>
                <a:ext cx="29880" cy="65160"/>
              </a:xfrm>
              <a:custGeom>
                <a:avLst/>
                <a:gdLst/>
                <a:ahLst/>
                <a:rect l="l" t="t" r="r" b="b"/>
                <a:pathLst>
                  <a:path w="96" h="208">
                    <a:moveTo>
                      <a:pt x="21" y="7"/>
                    </a:moveTo>
                    <a:lnTo>
                      <a:pt x="25" y="4"/>
                    </a:lnTo>
                    <a:lnTo>
                      <a:pt x="31" y="1"/>
                    </a:lnTo>
                    <a:lnTo>
                      <a:pt x="38" y="0"/>
                    </a:lnTo>
                    <a:lnTo>
                      <a:pt x="45" y="1"/>
                    </a:lnTo>
                    <a:lnTo>
                      <a:pt x="54" y="2"/>
                    </a:lnTo>
                    <a:lnTo>
                      <a:pt x="62" y="7"/>
                    </a:lnTo>
                    <a:lnTo>
                      <a:pt x="70" y="12"/>
                    </a:lnTo>
                    <a:lnTo>
                      <a:pt x="77" y="19"/>
                    </a:lnTo>
                    <a:lnTo>
                      <a:pt x="83" y="28"/>
                    </a:lnTo>
                    <a:lnTo>
                      <a:pt x="89" y="40"/>
                    </a:lnTo>
                    <a:lnTo>
                      <a:pt x="93" y="54"/>
                    </a:lnTo>
                    <a:lnTo>
                      <a:pt x="95" y="72"/>
                    </a:lnTo>
                    <a:lnTo>
                      <a:pt x="96" y="91"/>
                    </a:lnTo>
                    <a:lnTo>
                      <a:pt x="94" y="114"/>
                    </a:lnTo>
                    <a:lnTo>
                      <a:pt x="90" y="139"/>
                    </a:lnTo>
                    <a:lnTo>
                      <a:pt x="82" y="168"/>
                    </a:lnTo>
                    <a:lnTo>
                      <a:pt x="80" y="171"/>
                    </a:lnTo>
                    <a:lnTo>
                      <a:pt x="75" y="180"/>
                    </a:lnTo>
                    <a:lnTo>
                      <a:pt x="66" y="190"/>
                    </a:lnTo>
                    <a:lnTo>
                      <a:pt x="56" y="200"/>
                    </a:lnTo>
                    <a:lnTo>
                      <a:pt x="51" y="203"/>
                    </a:lnTo>
                    <a:lnTo>
                      <a:pt x="45" y="207"/>
                    </a:lnTo>
                    <a:lnTo>
                      <a:pt x="40" y="208"/>
                    </a:lnTo>
                    <a:lnTo>
                      <a:pt x="35" y="207"/>
                    </a:lnTo>
                    <a:lnTo>
                      <a:pt x="31" y="205"/>
                    </a:lnTo>
                    <a:lnTo>
                      <a:pt x="29" y="203"/>
                    </a:lnTo>
                    <a:lnTo>
                      <a:pt x="26" y="201"/>
                    </a:lnTo>
                    <a:lnTo>
                      <a:pt x="24" y="198"/>
                    </a:lnTo>
                    <a:lnTo>
                      <a:pt x="20" y="189"/>
                    </a:lnTo>
                    <a:lnTo>
                      <a:pt x="15" y="177"/>
                    </a:lnTo>
                    <a:lnTo>
                      <a:pt x="8" y="150"/>
                    </a:lnTo>
                    <a:lnTo>
                      <a:pt x="3" y="123"/>
                    </a:lnTo>
                    <a:lnTo>
                      <a:pt x="0" y="97"/>
                    </a:lnTo>
                    <a:lnTo>
                      <a:pt x="0" y="73"/>
                    </a:lnTo>
                    <a:lnTo>
                      <a:pt x="1" y="62"/>
                    </a:lnTo>
                    <a:lnTo>
                      <a:pt x="2" y="51"/>
                    </a:lnTo>
                    <a:lnTo>
                      <a:pt x="3" y="41"/>
                    </a:lnTo>
                    <a:lnTo>
                      <a:pt x="5" y="33"/>
                    </a:lnTo>
                    <a:lnTo>
                      <a:pt x="9" y="25"/>
                    </a:lnTo>
                    <a:lnTo>
                      <a:pt x="12" y="18"/>
                    </a:lnTo>
                    <a:lnTo>
                      <a:pt x="16" y="12"/>
                    </a:lnTo>
                    <a:lnTo>
                      <a:pt x="21" y="7"/>
                    </a:lnTo>
                    <a:close/>
                  </a:path>
                </a:pathLst>
              </a:custGeom>
              <a:solidFill>
                <a:srgbClr val="b0db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6661080" y="2205000"/>
                <a:ext cx="23760" cy="49320"/>
              </a:xfrm>
              <a:custGeom>
                <a:avLst/>
                <a:gdLst/>
                <a:ahLst/>
                <a:rect l="l" t="t" r="r" b="b"/>
                <a:pathLst>
                  <a:path w="72" h="155">
                    <a:moveTo>
                      <a:pt x="14" y="4"/>
                    </a:moveTo>
                    <a:lnTo>
                      <a:pt x="18" y="2"/>
                    </a:lnTo>
                    <a:lnTo>
                      <a:pt x="22" y="0"/>
                    </a:lnTo>
                    <a:lnTo>
                      <a:pt x="28" y="0"/>
                    </a:lnTo>
                    <a:lnTo>
                      <a:pt x="33" y="0"/>
                    </a:lnTo>
                    <a:lnTo>
                      <a:pt x="40" y="1"/>
                    </a:lnTo>
                    <a:lnTo>
                      <a:pt x="46" y="3"/>
                    </a:lnTo>
                    <a:lnTo>
                      <a:pt x="52" y="7"/>
                    </a:lnTo>
                    <a:lnTo>
                      <a:pt x="58" y="13"/>
                    </a:lnTo>
                    <a:lnTo>
                      <a:pt x="62" y="20"/>
                    </a:lnTo>
                    <a:lnTo>
                      <a:pt x="67" y="29"/>
                    </a:lnTo>
                    <a:lnTo>
                      <a:pt x="70" y="40"/>
                    </a:lnTo>
                    <a:lnTo>
                      <a:pt x="71" y="53"/>
                    </a:lnTo>
                    <a:lnTo>
                      <a:pt x="72" y="67"/>
                    </a:lnTo>
                    <a:lnTo>
                      <a:pt x="70" y="84"/>
                    </a:lnTo>
                    <a:lnTo>
                      <a:pt x="67" y="104"/>
                    </a:lnTo>
                    <a:lnTo>
                      <a:pt x="60" y="125"/>
                    </a:lnTo>
                    <a:lnTo>
                      <a:pt x="59" y="128"/>
                    </a:lnTo>
                    <a:lnTo>
                      <a:pt x="55" y="134"/>
                    </a:lnTo>
                    <a:lnTo>
                      <a:pt x="48" y="142"/>
                    </a:lnTo>
                    <a:lnTo>
                      <a:pt x="41" y="150"/>
                    </a:lnTo>
                    <a:lnTo>
                      <a:pt x="38" y="152"/>
                    </a:lnTo>
                    <a:lnTo>
                      <a:pt x="33" y="154"/>
                    </a:lnTo>
                    <a:lnTo>
                      <a:pt x="29" y="155"/>
                    </a:lnTo>
                    <a:lnTo>
                      <a:pt x="25" y="154"/>
                    </a:lnTo>
                    <a:lnTo>
                      <a:pt x="20" y="152"/>
                    </a:lnTo>
                    <a:lnTo>
                      <a:pt x="16" y="148"/>
                    </a:lnTo>
                    <a:lnTo>
                      <a:pt x="13" y="141"/>
                    </a:lnTo>
                    <a:lnTo>
                      <a:pt x="8" y="133"/>
                    </a:lnTo>
                    <a:lnTo>
                      <a:pt x="4" y="112"/>
                    </a:lnTo>
                    <a:lnTo>
                      <a:pt x="1" y="93"/>
                    </a:lnTo>
                    <a:lnTo>
                      <a:pt x="0" y="73"/>
                    </a:lnTo>
                    <a:lnTo>
                      <a:pt x="0" y="55"/>
                    </a:lnTo>
                    <a:lnTo>
                      <a:pt x="1" y="39"/>
                    </a:lnTo>
                    <a:lnTo>
                      <a:pt x="4" y="24"/>
                    </a:lnTo>
                    <a:lnTo>
                      <a:pt x="5" y="18"/>
                    </a:lnTo>
                    <a:lnTo>
                      <a:pt x="8" y="13"/>
                    </a:lnTo>
                    <a:lnTo>
                      <a:pt x="11" y="8"/>
                    </a:lnTo>
                    <a:lnTo>
                      <a:pt x="14" y="4"/>
                    </a:lnTo>
                    <a:close/>
                  </a:path>
                </a:pathLst>
              </a:custGeom>
              <a:solidFill>
                <a:srgbClr val="bee1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6664320" y="2214720"/>
                <a:ext cx="15840" cy="33120"/>
              </a:xfrm>
              <a:custGeom>
                <a:avLst/>
                <a:gdLst/>
                <a:ahLst/>
                <a:rect l="l" t="t" r="r" b="b"/>
                <a:pathLst>
                  <a:path w="50" h="106">
                    <a:moveTo>
                      <a:pt x="42" y="86"/>
                    </a:moveTo>
                    <a:lnTo>
                      <a:pt x="41" y="88"/>
                    </a:lnTo>
                    <a:lnTo>
                      <a:pt x="39" y="92"/>
                    </a:lnTo>
                    <a:lnTo>
                      <a:pt x="35" y="97"/>
                    </a:lnTo>
                    <a:lnTo>
                      <a:pt x="29" y="103"/>
                    </a:lnTo>
                    <a:lnTo>
                      <a:pt x="27" y="104"/>
                    </a:lnTo>
                    <a:lnTo>
                      <a:pt x="24" y="106"/>
                    </a:lnTo>
                    <a:lnTo>
                      <a:pt x="21" y="106"/>
                    </a:lnTo>
                    <a:lnTo>
                      <a:pt x="19" y="106"/>
                    </a:lnTo>
                    <a:lnTo>
                      <a:pt x="15" y="104"/>
                    </a:lnTo>
                    <a:lnTo>
                      <a:pt x="13" y="102"/>
                    </a:lnTo>
                    <a:lnTo>
                      <a:pt x="10" y="97"/>
                    </a:lnTo>
                    <a:lnTo>
                      <a:pt x="8" y="91"/>
                    </a:lnTo>
                    <a:lnTo>
                      <a:pt x="5" y="77"/>
                    </a:lnTo>
                    <a:lnTo>
                      <a:pt x="2" y="63"/>
                    </a:lnTo>
                    <a:lnTo>
                      <a:pt x="1" y="50"/>
                    </a:lnTo>
                    <a:lnTo>
                      <a:pt x="0" y="38"/>
                    </a:lnTo>
                    <a:lnTo>
                      <a:pt x="1" y="26"/>
                    </a:lnTo>
                    <a:lnTo>
                      <a:pt x="3" y="16"/>
                    </a:lnTo>
                    <a:lnTo>
                      <a:pt x="7" y="10"/>
                    </a:lnTo>
                    <a:lnTo>
                      <a:pt x="10" y="5"/>
                    </a:lnTo>
                    <a:lnTo>
                      <a:pt x="13" y="2"/>
                    </a:lnTo>
                    <a:lnTo>
                      <a:pt x="16" y="1"/>
                    </a:lnTo>
                    <a:lnTo>
                      <a:pt x="20" y="0"/>
                    </a:lnTo>
                    <a:lnTo>
                      <a:pt x="24" y="0"/>
                    </a:lnTo>
                    <a:lnTo>
                      <a:pt x="28" y="1"/>
                    </a:lnTo>
                    <a:lnTo>
                      <a:pt x="33" y="2"/>
                    </a:lnTo>
                    <a:lnTo>
                      <a:pt x="37" y="6"/>
                    </a:lnTo>
                    <a:lnTo>
                      <a:pt x="40" y="9"/>
                    </a:lnTo>
                    <a:lnTo>
                      <a:pt x="43" y="14"/>
                    </a:lnTo>
                    <a:lnTo>
                      <a:pt x="47" y="20"/>
                    </a:lnTo>
                    <a:lnTo>
                      <a:pt x="49" y="27"/>
                    </a:lnTo>
                    <a:lnTo>
                      <a:pt x="50" y="36"/>
                    </a:lnTo>
                    <a:lnTo>
                      <a:pt x="50" y="47"/>
                    </a:lnTo>
                    <a:lnTo>
                      <a:pt x="49" y="57"/>
                    </a:lnTo>
                    <a:lnTo>
                      <a:pt x="47" y="72"/>
                    </a:lnTo>
                    <a:lnTo>
                      <a:pt x="42" y="86"/>
                    </a:lnTo>
                    <a:close/>
                  </a:path>
                </a:pathLst>
              </a:custGeom>
              <a:solidFill>
                <a:srgbClr val="cce7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6657840" y="1828800"/>
                <a:ext cx="38160" cy="168480"/>
              </a:xfrm>
              <a:custGeom>
                <a:avLst/>
                <a:gdLst/>
                <a:ahLst/>
                <a:rect l="l" t="t" r="r" b="b"/>
                <a:pathLst>
                  <a:path w="119" h="532">
                    <a:moveTo>
                      <a:pt x="119" y="392"/>
                    </a:moveTo>
                    <a:lnTo>
                      <a:pt x="116" y="357"/>
                    </a:lnTo>
                    <a:lnTo>
                      <a:pt x="115" y="311"/>
                    </a:lnTo>
                    <a:lnTo>
                      <a:pt x="115" y="262"/>
                    </a:lnTo>
                    <a:lnTo>
                      <a:pt x="116" y="210"/>
                    </a:lnTo>
                    <a:lnTo>
                      <a:pt x="118" y="160"/>
                    </a:lnTo>
                    <a:lnTo>
                      <a:pt x="119" y="115"/>
                    </a:lnTo>
                    <a:lnTo>
                      <a:pt x="119" y="78"/>
                    </a:lnTo>
                    <a:lnTo>
                      <a:pt x="119" y="54"/>
                    </a:lnTo>
                    <a:lnTo>
                      <a:pt x="118" y="30"/>
                    </a:lnTo>
                    <a:lnTo>
                      <a:pt x="115" y="14"/>
                    </a:lnTo>
                    <a:lnTo>
                      <a:pt x="113" y="9"/>
                    </a:lnTo>
                    <a:lnTo>
                      <a:pt x="112" y="4"/>
                    </a:lnTo>
                    <a:lnTo>
                      <a:pt x="110" y="1"/>
                    </a:lnTo>
                    <a:lnTo>
                      <a:pt x="108" y="0"/>
                    </a:lnTo>
                    <a:lnTo>
                      <a:pt x="106" y="0"/>
                    </a:lnTo>
                    <a:lnTo>
                      <a:pt x="103" y="1"/>
                    </a:lnTo>
                    <a:lnTo>
                      <a:pt x="100" y="4"/>
                    </a:lnTo>
                    <a:lnTo>
                      <a:pt x="97" y="8"/>
                    </a:lnTo>
                    <a:lnTo>
                      <a:pt x="92" y="19"/>
                    </a:lnTo>
                    <a:lnTo>
                      <a:pt x="85" y="34"/>
                    </a:lnTo>
                    <a:lnTo>
                      <a:pt x="78" y="52"/>
                    </a:lnTo>
                    <a:lnTo>
                      <a:pt x="71" y="73"/>
                    </a:lnTo>
                    <a:lnTo>
                      <a:pt x="63" y="96"/>
                    </a:lnTo>
                    <a:lnTo>
                      <a:pt x="56" y="122"/>
                    </a:lnTo>
                    <a:lnTo>
                      <a:pt x="42" y="177"/>
                    </a:lnTo>
                    <a:lnTo>
                      <a:pt x="29" y="235"/>
                    </a:lnTo>
                    <a:lnTo>
                      <a:pt x="18" y="286"/>
                    </a:lnTo>
                    <a:lnTo>
                      <a:pt x="9" y="330"/>
                    </a:lnTo>
                    <a:lnTo>
                      <a:pt x="3" y="365"/>
                    </a:lnTo>
                    <a:lnTo>
                      <a:pt x="0" y="395"/>
                    </a:lnTo>
                    <a:lnTo>
                      <a:pt x="0" y="409"/>
                    </a:lnTo>
                    <a:lnTo>
                      <a:pt x="0" y="422"/>
                    </a:lnTo>
                    <a:lnTo>
                      <a:pt x="0" y="435"/>
                    </a:lnTo>
                    <a:lnTo>
                      <a:pt x="2" y="448"/>
                    </a:lnTo>
                    <a:lnTo>
                      <a:pt x="5" y="475"/>
                    </a:lnTo>
                    <a:lnTo>
                      <a:pt x="12" y="503"/>
                    </a:lnTo>
                    <a:lnTo>
                      <a:pt x="14" y="511"/>
                    </a:lnTo>
                    <a:lnTo>
                      <a:pt x="16" y="516"/>
                    </a:lnTo>
                    <a:lnTo>
                      <a:pt x="19" y="521"/>
                    </a:lnTo>
                    <a:lnTo>
                      <a:pt x="22" y="525"/>
                    </a:lnTo>
                    <a:lnTo>
                      <a:pt x="26" y="528"/>
                    </a:lnTo>
                    <a:lnTo>
                      <a:pt x="30" y="529"/>
                    </a:lnTo>
                    <a:lnTo>
                      <a:pt x="33" y="530"/>
                    </a:lnTo>
                    <a:lnTo>
                      <a:pt x="38" y="532"/>
                    </a:lnTo>
                    <a:lnTo>
                      <a:pt x="42" y="530"/>
                    </a:lnTo>
                    <a:lnTo>
                      <a:pt x="47" y="529"/>
                    </a:lnTo>
                    <a:lnTo>
                      <a:pt x="52" y="527"/>
                    </a:lnTo>
                    <a:lnTo>
                      <a:pt x="56" y="525"/>
                    </a:lnTo>
                    <a:lnTo>
                      <a:pt x="66" y="517"/>
                    </a:lnTo>
                    <a:lnTo>
                      <a:pt x="75" y="508"/>
                    </a:lnTo>
                    <a:lnTo>
                      <a:pt x="84" y="497"/>
                    </a:lnTo>
                    <a:lnTo>
                      <a:pt x="93" y="484"/>
                    </a:lnTo>
                    <a:lnTo>
                      <a:pt x="101" y="470"/>
                    </a:lnTo>
                    <a:lnTo>
                      <a:pt x="108" y="455"/>
                    </a:lnTo>
                    <a:lnTo>
                      <a:pt x="113" y="440"/>
                    </a:lnTo>
                    <a:lnTo>
                      <a:pt x="116" y="424"/>
                    </a:lnTo>
                    <a:lnTo>
                      <a:pt x="119" y="408"/>
                    </a:lnTo>
                    <a:lnTo>
                      <a:pt x="119" y="392"/>
                    </a:lnTo>
                    <a:close/>
                  </a:path>
                </a:pathLst>
              </a:custGeom>
              <a:solidFill>
                <a:srgbClr val="d7dc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6661080" y="1833480"/>
                <a:ext cx="33480" cy="144720"/>
              </a:xfrm>
              <a:custGeom>
                <a:avLst/>
                <a:gdLst/>
                <a:ahLst/>
                <a:rect l="l" t="t" r="r" b="b"/>
                <a:pathLst>
                  <a:path w="103" h="454">
                    <a:moveTo>
                      <a:pt x="101" y="335"/>
                    </a:moveTo>
                    <a:lnTo>
                      <a:pt x="100" y="305"/>
                    </a:lnTo>
                    <a:lnTo>
                      <a:pt x="100" y="267"/>
                    </a:lnTo>
                    <a:lnTo>
                      <a:pt x="100" y="225"/>
                    </a:lnTo>
                    <a:lnTo>
                      <a:pt x="101" y="181"/>
                    </a:lnTo>
                    <a:lnTo>
                      <a:pt x="101" y="137"/>
                    </a:lnTo>
                    <a:lnTo>
                      <a:pt x="102" y="100"/>
                    </a:lnTo>
                    <a:lnTo>
                      <a:pt x="103" y="68"/>
                    </a:lnTo>
                    <a:lnTo>
                      <a:pt x="103" y="46"/>
                    </a:lnTo>
                    <a:lnTo>
                      <a:pt x="102" y="26"/>
                    </a:lnTo>
                    <a:lnTo>
                      <a:pt x="100" y="12"/>
                    </a:lnTo>
                    <a:lnTo>
                      <a:pt x="99" y="7"/>
                    </a:lnTo>
                    <a:lnTo>
                      <a:pt x="97" y="4"/>
                    </a:lnTo>
                    <a:lnTo>
                      <a:pt x="96" y="1"/>
                    </a:lnTo>
                    <a:lnTo>
                      <a:pt x="94" y="0"/>
                    </a:lnTo>
                    <a:lnTo>
                      <a:pt x="91" y="0"/>
                    </a:lnTo>
                    <a:lnTo>
                      <a:pt x="89" y="1"/>
                    </a:lnTo>
                    <a:lnTo>
                      <a:pt x="87" y="4"/>
                    </a:lnTo>
                    <a:lnTo>
                      <a:pt x="84" y="7"/>
                    </a:lnTo>
                    <a:lnTo>
                      <a:pt x="80" y="15"/>
                    </a:lnTo>
                    <a:lnTo>
                      <a:pt x="73" y="28"/>
                    </a:lnTo>
                    <a:lnTo>
                      <a:pt x="61" y="63"/>
                    </a:lnTo>
                    <a:lnTo>
                      <a:pt x="49" y="105"/>
                    </a:lnTo>
                    <a:lnTo>
                      <a:pt x="36" y="153"/>
                    </a:lnTo>
                    <a:lnTo>
                      <a:pt x="24" y="202"/>
                    </a:lnTo>
                    <a:lnTo>
                      <a:pt x="16" y="245"/>
                    </a:lnTo>
                    <a:lnTo>
                      <a:pt x="8" y="282"/>
                    </a:lnTo>
                    <a:lnTo>
                      <a:pt x="4" y="312"/>
                    </a:lnTo>
                    <a:lnTo>
                      <a:pt x="1" y="338"/>
                    </a:lnTo>
                    <a:lnTo>
                      <a:pt x="0" y="362"/>
                    </a:lnTo>
                    <a:lnTo>
                      <a:pt x="1" y="384"/>
                    </a:lnTo>
                    <a:lnTo>
                      <a:pt x="4" y="405"/>
                    </a:lnTo>
                    <a:lnTo>
                      <a:pt x="9" y="429"/>
                    </a:lnTo>
                    <a:lnTo>
                      <a:pt x="12" y="436"/>
                    </a:lnTo>
                    <a:lnTo>
                      <a:pt x="14" y="441"/>
                    </a:lnTo>
                    <a:lnTo>
                      <a:pt x="16" y="444"/>
                    </a:lnTo>
                    <a:lnTo>
                      <a:pt x="19" y="448"/>
                    </a:lnTo>
                    <a:lnTo>
                      <a:pt x="22" y="451"/>
                    </a:lnTo>
                    <a:lnTo>
                      <a:pt x="26" y="453"/>
                    </a:lnTo>
                    <a:lnTo>
                      <a:pt x="29" y="454"/>
                    </a:lnTo>
                    <a:lnTo>
                      <a:pt x="32" y="454"/>
                    </a:lnTo>
                    <a:lnTo>
                      <a:pt x="36" y="454"/>
                    </a:lnTo>
                    <a:lnTo>
                      <a:pt x="41" y="453"/>
                    </a:lnTo>
                    <a:lnTo>
                      <a:pt x="44" y="451"/>
                    </a:lnTo>
                    <a:lnTo>
                      <a:pt x="48" y="448"/>
                    </a:lnTo>
                    <a:lnTo>
                      <a:pt x="57" y="443"/>
                    </a:lnTo>
                    <a:lnTo>
                      <a:pt x="64" y="436"/>
                    </a:lnTo>
                    <a:lnTo>
                      <a:pt x="73" y="426"/>
                    </a:lnTo>
                    <a:lnTo>
                      <a:pt x="81" y="415"/>
                    </a:lnTo>
                    <a:lnTo>
                      <a:pt x="87" y="403"/>
                    </a:lnTo>
                    <a:lnTo>
                      <a:pt x="93" y="390"/>
                    </a:lnTo>
                    <a:lnTo>
                      <a:pt x="97" y="376"/>
                    </a:lnTo>
                    <a:lnTo>
                      <a:pt x="100" y="363"/>
                    </a:lnTo>
                    <a:lnTo>
                      <a:pt x="101" y="349"/>
                    </a:lnTo>
                    <a:lnTo>
                      <a:pt x="101" y="335"/>
                    </a:lnTo>
                    <a:close/>
                  </a:path>
                </a:pathLst>
              </a:custGeom>
              <a:solidFill>
                <a:srgbClr val="dde3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6665760" y="1838520"/>
                <a:ext cx="27000" cy="118800"/>
              </a:xfrm>
              <a:custGeom>
                <a:avLst/>
                <a:gdLst/>
                <a:ahLst/>
                <a:rect l="l" t="t" r="r" b="b"/>
                <a:pathLst>
                  <a:path w="86" h="376">
                    <a:moveTo>
                      <a:pt x="84" y="277"/>
                    </a:moveTo>
                    <a:lnTo>
                      <a:pt x="82" y="252"/>
                    </a:lnTo>
                    <a:lnTo>
                      <a:pt x="82" y="221"/>
                    </a:lnTo>
                    <a:lnTo>
                      <a:pt x="82" y="185"/>
                    </a:lnTo>
                    <a:lnTo>
                      <a:pt x="83" y="150"/>
                    </a:lnTo>
                    <a:lnTo>
                      <a:pt x="84" y="114"/>
                    </a:lnTo>
                    <a:lnTo>
                      <a:pt x="85" y="81"/>
                    </a:lnTo>
                    <a:lnTo>
                      <a:pt x="86" y="56"/>
                    </a:lnTo>
                    <a:lnTo>
                      <a:pt x="86" y="37"/>
                    </a:lnTo>
                    <a:lnTo>
                      <a:pt x="85" y="21"/>
                    </a:lnTo>
                    <a:lnTo>
                      <a:pt x="84" y="9"/>
                    </a:lnTo>
                    <a:lnTo>
                      <a:pt x="83" y="6"/>
                    </a:lnTo>
                    <a:lnTo>
                      <a:pt x="81" y="3"/>
                    </a:lnTo>
                    <a:lnTo>
                      <a:pt x="80" y="0"/>
                    </a:lnTo>
                    <a:lnTo>
                      <a:pt x="78" y="0"/>
                    </a:lnTo>
                    <a:lnTo>
                      <a:pt x="76" y="0"/>
                    </a:lnTo>
                    <a:lnTo>
                      <a:pt x="75" y="2"/>
                    </a:lnTo>
                    <a:lnTo>
                      <a:pt x="73" y="3"/>
                    </a:lnTo>
                    <a:lnTo>
                      <a:pt x="71" y="6"/>
                    </a:lnTo>
                    <a:lnTo>
                      <a:pt x="67" y="13"/>
                    </a:lnTo>
                    <a:lnTo>
                      <a:pt x="62" y="24"/>
                    </a:lnTo>
                    <a:lnTo>
                      <a:pt x="53" y="52"/>
                    </a:lnTo>
                    <a:lnTo>
                      <a:pt x="42" y="87"/>
                    </a:lnTo>
                    <a:lnTo>
                      <a:pt x="31" y="126"/>
                    </a:lnTo>
                    <a:lnTo>
                      <a:pt x="21" y="166"/>
                    </a:lnTo>
                    <a:lnTo>
                      <a:pt x="14" y="204"/>
                    </a:lnTo>
                    <a:lnTo>
                      <a:pt x="7" y="234"/>
                    </a:lnTo>
                    <a:lnTo>
                      <a:pt x="3" y="260"/>
                    </a:lnTo>
                    <a:lnTo>
                      <a:pt x="1" y="281"/>
                    </a:lnTo>
                    <a:lnTo>
                      <a:pt x="0" y="300"/>
                    </a:lnTo>
                    <a:lnTo>
                      <a:pt x="2" y="318"/>
                    </a:lnTo>
                    <a:lnTo>
                      <a:pt x="4" y="336"/>
                    </a:lnTo>
                    <a:lnTo>
                      <a:pt x="9" y="357"/>
                    </a:lnTo>
                    <a:lnTo>
                      <a:pt x="10" y="361"/>
                    </a:lnTo>
                    <a:lnTo>
                      <a:pt x="13" y="366"/>
                    </a:lnTo>
                    <a:lnTo>
                      <a:pt x="15" y="369"/>
                    </a:lnTo>
                    <a:lnTo>
                      <a:pt x="17" y="372"/>
                    </a:lnTo>
                    <a:lnTo>
                      <a:pt x="19" y="374"/>
                    </a:lnTo>
                    <a:lnTo>
                      <a:pt x="22" y="375"/>
                    </a:lnTo>
                    <a:lnTo>
                      <a:pt x="26" y="376"/>
                    </a:lnTo>
                    <a:lnTo>
                      <a:pt x="28" y="376"/>
                    </a:lnTo>
                    <a:lnTo>
                      <a:pt x="34" y="375"/>
                    </a:lnTo>
                    <a:lnTo>
                      <a:pt x="41" y="372"/>
                    </a:lnTo>
                    <a:lnTo>
                      <a:pt x="48" y="367"/>
                    </a:lnTo>
                    <a:lnTo>
                      <a:pt x="55" y="360"/>
                    </a:lnTo>
                    <a:lnTo>
                      <a:pt x="61" y="353"/>
                    </a:lnTo>
                    <a:lnTo>
                      <a:pt x="67" y="344"/>
                    </a:lnTo>
                    <a:lnTo>
                      <a:pt x="72" y="333"/>
                    </a:lnTo>
                    <a:lnTo>
                      <a:pt x="77" y="322"/>
                    </a:lnTo>
                    <a:lnTo>
                      <a:pt x="81" y="312"/>
                    </a:lnTo>
                    <a:lnTo>
                      <a:pt x="83" y="300"/>
                    </a:lnTo>
                    <a:lnTo>
                      <a:pt x="84" y="289"/>
                    </a:lnTo>
                    <a:lnTo>
                      <a:pt x="84" y="277"/>
                    </a:lnTo>
                    <a:close/>
                  </a:path>
                </a:pathLst>
              </a:custGeom>
              <a:solidFill>
                <a:srgbClr val="e6ea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6670800" y="1843200"/>
                <a:ext cx="20520" cy="95040"/>
              </a:xfrm>
              <a:custGeom>
                <a:avLst/>
                <a:gdLst/>
                <a:ahLst/>
                <a:rect l="l" t="t" r="r" b="b"/>
                <a:pathLst>
                  <a:path w="67" h="300">
                    <a:moveTo>
                      <a:pt x="67" y="223"/>
                    </a:moveTo>
                    <a:lnTo>
                      <a:pt x="66" y="203"/>
                    </a:lnTo>
                    <a:lnTo>
                      <a:pt x="64" y="177"/>
                    </a:lnTo>
                    <a:lnTo>
                      <a:pt x="64" y="149"/>
                    </a:lnTo>
                    <a:lnTo>
                      <a:pt x="66" y="119"/>
                    </a:lnTo>
                    <a:lnTo>
                      <a:pt x="66" y="90"/>
                    </a:lnTo>
                    <a:lnTo>
                      <a:pt x="67" y="65"/>
                    </a:lnTo>
                    <a:lnTo>
                      <a:pt x="67" y="44"/>
                    </a:lnTo>
                    <a:lnTo>
                      <a:pt x="67" y="30"/>
                    </a:lnTo>
                    <a:lnTo>
                      <a:pt x="67" y="17"/>
                    </a:lnTo>
                    <a:lnTo>
                      <a:pt x="64" y="7"/>
                    </a:lnTo>
                    <a:lnTo>
                      <a:pt x="63" y="2"/>
                    </a:lnTo>
                    <a:lnTo>
                      <a:pt x="60" y="0"/>
                    </a:lnTo>
                    <a:lnTo>
                      <a:pt x="58" y="1"/>
                    </a:lnTo>
                    <a:lnTo>
                      <a:pt x="55" y="4"/>
                    </a:lnTo>
                    <a:lnTo>
                      <a:pt x="52" y="10"/>
                    </a:lnTo>
                    <a:lnTo>
                      <a:pt x="47" y="19"/>
                    </a:lnTo>
                    <a:lnTo>
                      <a:pt x="40" y="42"/>
                    </a:lnTo>
                    <a:lnTo>
                      <a:pt x="32" y="70"/>
                    </a:lnTo>
                    <a:lnTo>
                      <a:pt x="24" y="101"/>
                    </a:lnTo>
                    <a:lnTo>
                      <a:pt x="17" y="133"/>
                    </a:lnTo>
                    <a:lnTo>
                      <a:pt x="10" y="163"/>
                    </a:lnTo>
                    <a:lnTo>
                      <a:pt x="6" y="186"/>
                    </a:lnTo>
                    <a:lnTo>
                      <a:pt x="2" y="207"/>
                    </a:lnTo>
                    <a:lnTo>
                      <a:pt x="0" y="224"/>
                    </a:lnTo>
                    <a:lnTo>
                      <a:pt x="0" y="239"/>
                    </a:lnTo>
                    <a:lnTo>
                      <a:pt x="0" y="254"/>
                    </a:lnTo>
                    <a:lnTo>
                      <a:pt x="2" y="268"/>
                    </a:lnTo>
                    <a:lnTo>
                      <a:pt x="5" y="285"/>
                    </a:lnTo>
                    <a:lnTo>
                      <a:pt x="8" y="292"/>
                    </a:lnTo>
                    <a:lnTo>
                      <a:pt x="12" y="297"/>
                    </a:lnTo>
                    <a:lnTo>
                      <a:pt x="16" y="300"/>
                    </a:lnTo>
                    <a:lnTo>
                      <a:pt x="20" y="300"/>
                    </a:lnTo>
                    <a:lnTo>
                      <a:pt x="26" y="299"/>
                    </a:lnTo>
                    <a:lnTo>
                      <a:pt x="31" y="297"/>
                    </a:lnTo>
                    <a:lnTo>
                      <a:pt x="36" y="292"/>
                    </a:lnTo>
                    <a:lnTo>
                      <a:pt x="42" y="287"/>
                    </a:lnTo>
                    <a:lnTo>
                      <a:pt x="47" y="280"/>
                    </a:lnTo>
                    <a:lnTo>
                      <a:pt x="52" y="274"/>
                    </a:lnTo>
                    <a:lnTo>
                      <a:pt x="56" y="266"/>
                    </a:lnTo>
                    <a:lnTo>
                      <a:pt x="60" y="258"/>
                    </a:lnTo>
                    <a:lnTo>
                      <a:pt x="63" y="249"/>
                    </a:lnTo>
                    <a:lnTo>
                      <a:pt x="66" y="240"/>
                    </a:lnTo>
                    <a:lnTo>
                      <a:pt x="67" y="232"/>
                    </a:lnTo>
                    <a:lnTo>
                      <a:pt x="67" y="223"/>
                    </a:lnTo>
                    <a:close/>
                  </a:path>
                </a:pathLst>
              </a:custGeom>
              <a:solidFill>
                <a:srgbClr val="edf0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6673680" y="1847880"/>
                <a:ext cx="15840" cy="71640"/>
              </a:xfrm>
              <a:custGeom>
                <a:avLst/>
                <a:gdLst/>
                <a:ahLst/>
                <a:rect l="l" t="t" r="r" b="b"/>
                <a:pathLst>
                  <a:path w="49" h="223">
                    <a:moveTo>
                      <a:pt x="49" y="165"/>
                    </a:moveTo>
                    <a:lnTo>
                      <a:pt x="48" y="150"/>
                    </a:lnTo>
                    <a:lnTo>
                      <a:pt x="48" y="130"/>
                    </a:lnTo>
                    <a:lnTo>
                      <a:pt x="48" y="110"/>
                    </a:lnTo>
                    <a:lnTo>
                      <a:pt x="49" y="88"/>
                    </a:lnTo>
                    <a:lnTo>
                      <a:pt x="49" y="68"/>
                    </a:lnTo>
                    <a:lnTo>
                      <a:pt x="49" y="48"/>
                    </a:lnTo>
                    <a:lnTo>
                      <a:pt x="49" y="32"/>
                    </a:lnTo>
                    <a:lnTo>
                      <a:pt x="49" y="21"/>
                    </a:lnTo>
                    <a:lnTo>
                      <a:pt x="48" y="12"/>
                    </a:lnTo>
                    <a:lnTo>
                      <a:pt x="48" y="5"/>
                    </a:lnTo>
                    <a:lnTo>
                      <a:pt x="47" y="1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41" y="3"/>
                    </a:lnTo>
                    <a:lnTo>
                      <a:pt x="39" y="7"/>
                    </a:lnTo>
                    <a:lnTo>
                      <a:pt x="36" y="14"/>
                    </a:lnTo>
                    <a:lnTo>
                      <a:pt x="30" y="30"/>
                    </a:lnTo>
                    <a:lnTo>
                      <a:pt x="23" y="50"/>
                    </a:lnTo>
                    <a:lnTo>
                      <a:pt x="18" y="74"/>
                    </a:lnTo>
                    <a:lnTo>
                      <a:pt x="11" y="98"/>
                    </a:lnTo>
                    <a:lnTo>
                      <a:pt x="7" y="120"/>
                    </a:lnTo>
                    <a:lnTo>
                      <a:pt x="3" y="138"/>
                    </a:lnTo>
                    <a:lnTo>
                      <a:pt x="1" y="153"/>
                    </a:lnTo>
                    <a:lnTo>
                      <a:pt x="0" y="166"/>
                    </a:lnTo>
                    <a:lnTo>
                      <a:pt x="0" y="178"/>
                    </a:lnTo>
                    <a:lnTo>
                      <a:pt x="1" y="189"/>
                    </a:lnTo>
                    <a:lnTo>
                      <a:pt x="2" y="200"/>
                    </a:lnTo>
                    <a:lnTo>
                      <a:pt x="4" y="211"/>
                    </a:lnTo>
                    <a:lnTo>
                      <a:pt x="6" y="217"/>
                    </a:lnTo>
                    <a:lnTo>
                      <a:pt x="8" y="220"/>
                    </a:lnTo>
                    <a:lnTo>
                      <a:pt x="11" y="222"/>
                    </a:lnTo>
                    <a:lnTo>
                      <a:pt x="15" y="223"/>
                    </a:lnTo>
                    <a:lnTo>
                      <a:pt x="19" y="222"/>
                    </a:lnTo>
                    <a:lnTo>
                      <a:pt x="22" y="220"/>
                    </a:lnTo>
                    <a:lnTo>
                      <a:pt x="27" y="217"/>
                    </a:lnTo>
                    <a:lnTo>
                      <a:pt x="30" y="214"/>
                    </a:lnTo>
                    <a:lnTo>
                      <a:pt x="34" y="208"/>
                    </a:lnTo>
                    <a:lnTo>
                      <a:pt x="37" y="204"/>
                    </a:lnTo>
                    <a:lnTo>
                      <a:pt x="41" y="197"/>
                    </a:lnTo>
                    <a:lnTo>
                      <a:pt x="44" y="191"/>
                    </a:lnTo>
                    <a:lnTo>
                      <a:pt x="46" y="184"/>
                    </a:lnTo>
                    <a:lnTo>
                      <a:pt x="48" y="178"/>
                    </a:lnTo>
                    <a:lnTo>
                      <a:pt x="49" y="171"/>
                    </a:lnTo>
                    <a:lnTo>
                      <a:pt x="49" y="165"/>
                    </a:lnTo>
                    <a:close/>
                  </a:path>
                </a:pathLst>
              </a:custGeom>
              <a:solidFill>
                <a:srgbClr val="f3f6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6678720" y="1852560"/>
                <a:ext cx="9360" cy="47880"/>
              </a:xfrm>
              <a:custGeom>
                <a:avLst/>
                <a:gdLst/>
                <a:ahLst/>
                <a:rect l="l" t="t" r="r" b="b"/>
                <a:pathLst>
                  <a:path w="32" h="146">
                    <a:moveTo>
                      <a:pt x="32" y="14"/>
                    </a:moveTo>
                    <a:lnTo>
                      <a:pt x="32" y="21"/>
                    </a:lnTo>
                    <a:lnTo>
                      <a:pt x="32" y="31"/>
                    </a:lnTo>
                    <a:lnTo>
                      <a:pt x="32" y="44"/>
                    </a:lnTo>
                    <a:lnTo>
                      <a:pt x="32" y="58"/>
                    </a:lnTo>
                    <a:lnTo>
                      <a:pt x="31" y="72"/>
                    </a:lnTo>
                    <a:lnTo>
                      <a:pt x="31" y="86"/>
                    </a:lnTo>
                    <a:lnTo>
                      <a:pt x="32" y="98"/>
                    </a:lnTo>
                    <a:lnTo>
                      <a:pt x="32" y="108"/>
                    </a:lnTo>
                    <a:lnTo>
                      <a:pt x="31" y="116"/>
                    </a:lnTo>
                    <a:lnTo>
                      <a:pt x="29" y="125"/>
                    </a:lnTo>
                    <a:lnTo>
                      <a:pt x="25" y="133"/>
                    </a:lnTo>
                    <a:lnTo>
                      <a:pt x="19" y="139"/>
                    </a:lnTo>
                    <a:lnTo>
                      <a:pt x="17" y="141"/>
                    </a:lnTo>
                    <a:lnTo>
                      <a:pt x="15" y="143"/>
                    </a:lnTo>
                    <a:lnTo>
                      <a:pt x="12" y="145"/>
                    </a:lnTo>
                    <a:lnTo>
                      <a:pt x="9" y="146"/>
                    </a:lnTo>
                    <a:lnTo>
                      <a:pt x="7" y="145"/>
                    </a:lnTo>
                    <a:lnTo>
                      <a:pt x="5" y="143"/>
                    </a:lnTo>
                    <a:lnTo>
                      <a:pt x="4" y="141"/>
                    </a:lnTo>
                    <a:lnTo>
                      <a:pt x="3" y="137"/>
                    </a:lnTo>
                    <a:lnTo>
                      <a:pt x="1" y="131"/>
                    </a:lnTo>
                    <a:lnTo>
                      <a:pt x="0" y="123"/>
                    </a:lnTo>
                    <a:lnTo>
                      <a:pt x="0" y="116"/>
                    </a:lnTo>
                    <a:lnTo>
                      <a:pt x="0" y="109"/>
                    </a:lnTo>
                    <a:lnTo>
                      <a:pt x="1" y="100"/>
                    </a:lnTo>
                    <a:lnTo>
                      <a:pt x="2" y="91"/>
                    </a:lnTo>
                    <a:lnTo>
                      <a:pt x="4" y="80"/>
                    </a:lnTo>
                    <a:lnTo>
                      <a:pt x="7" y="66"/>
                    </a:lnTo>
                    <a:lnTo>
                      <a:pt x="10" y="50"/>
                    </a:lnTo>
                    <a:lnTo>
                      <a:pt x="15" y="34"/>
                    </a:lnTo>
                    <a:lnTo>
                      <a:pt x="18" y="20"/>
                    </a:lnTo>
                    <a:lnTo>
                      <a:pt x="22" y="10"/>
                    </a:lnTo>
                    <a:lnTo>
                      <a:pt x="23" y="5"/>
                    </a:lnTo>
                    <a:lnTo>
                      <a:pt x="26" y="2"/>
                    </a:lnTo>
                    <a:lnTo>
                      <a:pt x="27" y="0"/>
                    </a:lnTo>
                    <a:lnTo>
                      <a:pt x="29" y="0"/>
                    </a:lnTo>
                    <a:lnTo>
                      <a:pt x="30" y="0"/>
                    </a:lnTo>
                    <a:lnTo>
                      <a:pt x="31" y="3"/>
                    </a:lnTo>
                    <a:lnTo>
                      <a:pt x="32" y="7"/>
                    </a:lnTo>
                    <a:lnTo>
                      <a:pt x="32" y="14"/>
                    </a:lnTo>
                    <a:close/>
                  </a:path>
                </a:pathLst>
              </a:custGeom>
              <a:solidFill>
                <a:srgbClr val="f8fa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6657840" y="1965240"/>
                <a:ext cx="50760" cy="1800"/>
              </a:xfrm>
              <a:custGeom>
                <a:avLst/>
                <a:gdLst/>
                <a:ahLst/>
                <a:rect l="l" t="t" r="r" b="b"/>
                <a:pathLst>
                  <a:path w="163" h="6">
                    <a:moveTo>
                      <a:pt x="0" y="6"/>
                    </a:moveTo>
                    <a:lnTo>
                      <a:pt x="5" y="6"/>
                    </a:lnTo>
                    <a:lnTo>
                      <a:pt x="19" y="4"/>
                    </a:lnTo>
                    <a:lnTo>
                      <a:pt x="40" y="2"/>
                    </a:lnTo>
                    <a:lnTo>
                      <a:pt x="66" y="1"/>
                    </a:lnTo>
                    <a:lnTo>
                      <a:pt x="93" y="0"/>
                    </a:lnTo>
                    <a:lnTo>
                      <a:pt x="120" y="0"/>
                    </a:lnTo>
                    <a:lnTo>
                      <a:pt x="132" y="1"/>
                    </a:lnTo>
                    <a:lnTo>
                      <a:pt x="143" y="2"/>
                    </a:lnTo>
                    <a:lnTo>
                      <a:pt x="154" y="4"/>
                    </a:lnTo>
                    <a:lnTo>
                      <a:pt x="163" y="6"/>
                    </a:lnTo>
                  </a:path>
                </a:pathLst>
              </a:custGeom>
              <a:noFill/>
              <a:ln w="1440">
                <a:solidFill>
                  <a:srgbClr val="3e495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6657840" y="2016360"/>
                <a:ext cx="50760" cy="1440"/>
              </a:xfrm>
              <a:custGeom>
                <a:avLst/>
                <a:gdLst/>
                <a:ahLst/>
                <a:rect l="l" t="t" r="r" b="b"/>
                <a:pathLst>
                  <a:path w="163" h="6">
                    <a:moveTo>
                      <a:pt x="0" y="6"/>
                    </a:moveTo>
                    <a:lnTo>
                      <a:pt x="5" y="6"/>
                    </a:lnTo>
                    <a:lnTo>
                      <a:pt x="19" y="4"/>
                    </a:lnTo>
                    <a:lnTo>
                      <a:pt x="40" y="3"/>
                    </a:lnTo>
                    <a:lnTo>
                      <a:pt x="66" y="1"/>
                    </a:lnTo>
                    <a:lnTo>
                      <a:pt x="93" y="0"/>
                    </a:lnTo>
                    <a:lnTo>
                      <a:pt x="120" y="0"/>
                    </a:lnTo>
                    <a:lnTo>
                      <a:pt x="132" y="1"/>
                    </a:lnTo>
                    <a:lnTo>
                      <a:pt x="143" y="2"/>
                    </a:lnTo>
                    <a:lnTo>
                      <a:pt x="154" y="4"/>
                    </a:lnTo>
                    <a:lnTo>
                      <a:pt x="163" y="6"/>
                    </a:lnTo>
                  </a:path>
                </a:pathLst>
              </a:custGeom>
              <a:noFill/>
              <a:ln w="1440">
                <a:solidFill>
                  <a:srgbClr val="3e495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6657840" y="2068560"/>
                <a:ext cx="50760" cy="1440"/>
              </a:xfrm>
              <a:custGeom>
                <a:avLst/>
                <a:gdLst/>
                <a:ahLst/>
                <a:rect l="l" t="t" r="r" b="b"/>
                <a:pathLst>
                  <a:path w="163" h="6">
                    <a:moveTo>
                      <a:pt x="0" y="6"/>
                    </a:moveTo>
                    <a:lnTo>
                      <a:pt x="5" y="6"/>
                    </a:lnTo>
                    <a:lnTo>
                      <a:pt x="19" y="4"/>
                    </a:lnTo>
                    <a:lnTo>
                      <a:pt x="40" y="3"/>
                    </a:lnTo>
                    <a:lnTo>
                      <a:pt x="66" y="1"/>
                    </a:lnTo>
                    <a:lnTo>
                      <a:pt x="93" y="0"/>
                    </a:lnTo>
                    <a:lnTo>
                      <a:pt x="120" y="0"/>
                    </a:lnTo>
                    <a:lnTo>
                      <a:pt x="132" y="1"/>
                    </a:lnTo>
                    <a:lnTo>
                      <a:pt x="143" y="2"/>
                    </a:lnTo>
                    <a:lnTo>
                      <a:pt x="154" y="4"/>
                    </a:lnTo>
                    <a:lnTo>
                      <a:pt x="163" y="6"/>
                    </a:lnTo>
                  </a:path>
                </a:pathLst>
              </a:custGeom>
              <a:noFill/>
              <a:ln w="1440">
                <a:solidFill>
                  <a:srgbClr val="3e495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6651720" y="2119320"/>
                <a:ext cx="50760" cy="3240"/>
              </a:xfrm>
              <a:custGeom>
                <a:avLst/>
                <a:gdLst/>
                <a:ahLst/>
                <a:rect l="l" t="t" r="r" b="b"/>
                <a:pathLst>
                  <a:path w="161" h="7">
                    <a:moveTo>
                      <a:pt x="0" y="7"/>
                    </a:moveTo>
                    <a:lnTo>
                      <a:pt x="6" y="7"/>
                    </a:lnTo>
                    <a:lnTo>
                      <a:pt x="20" y="4"/>
                    </a:lnTo>
                    <a:lnTo>
                      <a:pt x="40" y="3"/>
                    </a:lnTo>
                    <a:lnTo>
                      <a:pt x="65" y="1"/>
                    </a:lnTo>
                    <a:lnTo>
                      <a:pt x="91" y="0"/>
                    </a:lnTo>
                    <a:lnTo>
                      <a:pt x="118" y="0"/>
                    </a:lnTo>
                    <a:lnTo>
                      <a:pt x="130" y="1"/>
                    </a:lnTo>
                    <a:lnTo>
                      <a:pt x="142" y="2"/>
                    </a:lnTo>
                    <a:lnTo>
                      <a:pt x="152" y="4"/>
                    </a:lnTo>
                    <a:lnTo>
                      <a:pt x="161" y="7"/>
                    </a:lnTo>
                  </a:path>
                </a:pathLst>
              </a:custGeom>
              <a:noFill/>
              <a:ln w="1440">
                <a:solidFill>
                  <a:srgbClr val="3e495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6648480" y="2171880"/>
                <a:ext cx="52200" cy="1440"/>
              </a:xfrm>
              <a:custGeom>
                <a:avLst/>
                <a:gdLst/>
                <a:ahLst/>
                <a:rect l="l" t="t" r="r" b="b"/>
                <a:pathLst>
                  <a:path w="163" h="5">
                    <a:moveTo>
                      <a:pt x="0" y="5"/>
                    </a:moveTo>
                    <a:lnTo>
                      <a:pt x="5" y="5"/>
                    </a:lnTo>
                    <a:lnTo>
                      <a:pt x="19" y="3"/>
                    </a:lnTo>
                    <a:lnTo>
                      <a:pt x="40" y="2"/>
                    </a:lnTo>
                    <a:lnTo>
                      <a:pt x="66" y="1"/>
                    </a:lnTo>
                    <a:lnTo>
                      <a:pt x="93" y="0"/>
                    </a:lnTo>
                    <a:lnTo>
                      <a:pt x="120" y="0"/>
                    </a:lnTo>
                    <a:lnTo>
                      <a:pt x="132" y="1"/>
                    </a:lnTo>
                    <a:lnTo>
                      <a:pt x="143" y="2"/>
                    </a:lnTo>
                    <a:lnTo>
                      <a:pt x="154" y="3"/>
                    </a:lnTo>
                    <a:lnTo>
                      <a:pt x="163" y="5"/>
                    </a:lnTo>
                  </a:path>
                </a:pathLst>
              </a:custGeom>
              <a:noFill/>
              <a:ln w="1440">
                <a:solidFill>
                  <a:srgbClr val="3e495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6643800" y="2222640"/>
                <a:ext cx="52200" cy="3240"/>
              </a:xfrm>
              <a:custGeom>
                <a:avLst/>
                <a:gdLst/>
                <a:ahLst/>
                <a:rect l="l" t="t" r="r" b="b"/>
                <a:pathLst>
                  <a:path w="163" h="6">
                    <a:moveTo>
                      <a:pt x="0" y="6"/>
                    </a:moveTo>
                    <a:lnTo>
                      <a:pt x="5" y="6"/>
                    </a:lnTo>
                    <a:lnTo>
                      <a:pt x="19" y="3"/>
                    </a:lnTo>
                    <a:lnTo>
                      <a:pt x="40" y="2"/>
                    </a:lnTo>
                    <a:lnTo>
                      <a:pt x="66" y="1"/>
                    </a:lnTo>
                    <a:lnTo>
                      <a:pt x="93" y="0"/>
                    </a:lnTo>
                    <a:lnTo>
                      <a:pt x="120" y="0"/>
                    </a:lnTo>
                    <a:lnTo>
                      <a:pt x="133" y="1"/>
                    </a:lnTo>
                    <a:lnTo>
                      <a:pt x="143" y="2"/>
                    </a:lnTo>
                    <a:lnTo>
                      <a:pt x="154" y="3"/>
                    </a:lnTo>
                    <a:lnTo>
                      <a:pt x="163" y="6"/>
                    </a:lnTo>
                  </a:path>
                </a:pathLst>
              </a:custGeom>
              <a:noFill/>
              <a:ln w="1440">
                <a:solidFill>
                  <a:srgbClr val="3e495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6638760" y="2274840"/>
                <a:ext cx="52560" cy="1800"/>
              </a:xfrm>
              <a:custGeom>
                <a:avLst/>
                <a:gdLst/>
                <a:ahLst/>
                <a:rect l="l" t="t" r="r" b="b"/>
                <a:pathLst>
                  <a:path w="163" h="6">
                    <a:moveTo>
                      <a:pt x="0" y="6"/>
                    </a:moveTo>
                    <a:lnTo>
                      <a:pt x="5" y="6"/>
                    </a:lnTo>
                    <a:lnTo>
                      <a:pt x="19" y="5"/>
                    </a:lnTo>
                    <a:lnTo>
                      <a:pt x="41" y="2"/>
                    </a:lnTo>
                    <a:lnTo>
                      <a:pt x="65" y="1"/>
                    </a:lnTo>
                    <a:lnTo>
                      <a:pt x="92" y="0"/>
                    </a:lnTo>
                    <a:lnTo>
                      <a:pt x="119" y="0"/>
                    </a:lnTo>
                    <a:lnTo>
                      <a:pt x="132" y="1"/>
                    </a:lnTo>
                    <a:lnTo>
                      <a:pt x="144" y="2"/>
                    </a:lnTo>
                    <a:lnTo>
                      <a:pt x="154" y="3"/>
                    </a:lnTo>
                    <a:lnTo>
                      <a:pt x="163" y="6"/>
                    </a:lnTo>
                  </a:path>
                </a:pathLst>
              </a:custGeom>
              <a:noFill/>
              <a:ln w="1440">
                <a:solidFill>
                  <a:srgbClr val="3e495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6667560" y="1989360"/>
                <a:ext cx="25200" cy="1440"/>
              </a:xfrm>
              <a:custGeom>
                <a:avLst/>
                <a:gdLst/>
                <a:ahLst/>
                <a:rect l="l" t="t" r="r" b="b"/>
                <a:pathLst>
                  <a:path w="79" h="5">
                    <a:moveTo>
                      <a:pt x="0" y="5"/>
                    </a:moveTo>
                    <a:lnTo>
                      <a:pt x="9" y="4"/>
                    </a:lnTo>
                    <a:lnTo>
                      <a:pt x="17" y="3"/>
                    </a:lnTo>
                    <a:lnTo>
                      <a:pt x="27" y="3"/>
                    </a:lnTo>
                    <a:lnTo>
                      <a:pt x="37" y="2"/>
                    </a:lnTo>
                    <a:lnTo>
                      <a:pt x="48" y="1"/>
                    </a:lnTo>
                    <a:lnTo>
                      <a:pt x="59" y="1"/>
                    </a:lnTo>
                    <a:lnTo>
                      <a:pt x="68" y="1"/>
                    </a:lnTo>
                    <a:lnTo>
                      <a:pt x="79" y="0"/>
                    </a:lnTo>
                  </a:path>
                </a:pathLst>
              </a:custGeom>
              <a:noFill/>
              <a:ln w="1440">
                <a:solidFill>
                  <a:srgbClr val="3e495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6667560" y="2041560"/>
                <a:ext cx="25200" cy="1800"/>
              </a:xfrm>
              <a:custGeom>
                <a:avLst/>
                <a:gdLst/>
                <a:ahLst/>
                <a:rect l="l" t="t" r="r" b="b"/>
                <a:pathLst>
                  <a:path w="79" h="4">
                    <a:moveTo>
                      <a:pt x="0" y="4"/>
                    </a:moveTo>
                    <a:lnTo>
                      <a:pt x="9" y="3"/>
                    </a:lnTo>
                    <a:lnTo>
                      <a:pt x="17" y="2"/>
                    </a:lnTo>
                    <a:lnTo>
                      <a:pt x="27" y="2"/>
                    </a:lnTo>
                    <a:lnTo>
                      <a:pt x="37" y="1"/>
                    </a:lnTo>
                    <a:lnTo>
                      <a:pt x="48" y="0"/>
                    </a:lnTo>
                    <a:lnTo>
                      <a:pt x="59" y="0"/>
                    </a:lnTo>
                    <a:lnTo>
                      <a:pt x="68" y="0"/>
                    </a:lnTo>
                    <a:lnTo>
                      <a:pt x="79" y="0"/>
                    </a:lnTo>
                  </a:path>
                </a:pathLst>
              </a:custGeom>
              <a:noFill/>
              <a:ln w="1440">
                <a:solidFill>
                  <a:srgbClr val="3e495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6662880" y="2094120"/>
                <a:ext cx="25200" cy="1440"/>
              </a:xfrm>
              <a:custGeom>
                <a:avLst/>
                <a:gdLst/>
                <a:ahLst/>
                <a:rect l="l" t="t" r="r" b="b"/>
                <a:pathLst>
                  <a:path w="81" h="2">
                    <a:moveTo>
                      <a:pt x="0" y="2"/>
                    </a:moveTo>
                    <a:lnTo>
                      <a:pt x="9" y="2"/>
                    </a:lnTo>
                    <a:lnTo>
                      <a:pt x="18" y="2"/>
                    </a:lnTo>
                    <a:lnTo>
                      <a:pt x="28" y="1"/>
                    </a:lnTo>
                    <a:lnTo>
                      <a:pt x="39" y="1"/>
                    </a:lnTo>
                    <a:lnTo>
                      <a:pt x="50" y="0"/>
                    </a:lnTo>
                    <a:lnTo>
                      <a:pt x="61" y="0"/>
                    </a:lnTo>
                    <a:lnTo>
                      <a:pt x="71" y="0"/>
                    </a:lnTo>
                    <a:lnTo>
                      <a:pt x="81" y="0"/>
                    </a:lnTo>
                  </a:path>
                </a:pathLst>
              </a:custGeom>
              <a:noFill/>
              <a:ln w="1440">
                <a:solidFill>
                  <a:srgbClr val="3e495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6662880" y="2144880"/>
                <a:ext cx="25200" cy="1440"/>
              </a:xfrm>
              <a:custGeom>
                <a:avLst/>
                <a:gdLst/>
                <a:ahLst/>
                <a:rect l="l" t="t" r="r" b="b"/>
                <a:pathLst>
                  <a:path w="79" h="2">
                    <a:moveTo>
                      <a:pt x="0" y="2"/>
                    </a:moveTo>
                    <a:lnTo>
                      <a:pt x="9" y="2"/>
                    </a:lnTo>
                    <a:lnTo>
                      <a:pt x="17" y="2"/>
                    </a:lnTo>
                    <a:lnTo>
                      <a:pt x="27" y="1"/>
                    </a:lnTo>
                    <a:lnTo>
                      <a:pt x="37" y="1"/>
                    </a:lnTo>
                    <a:lnTo>
                      <a:pt x="47" y="0"/>
                    </a:lnTo>
                    <a:lnTo>
                      <a:pt x="58" y="0"/>
                    </a:lnTo>
                    <a:lnTo>
                      <a:pt x="68" y="0"/>
                    </a:lnTo>
                    <a:lnTo>
                      <a:pt x="79" y="0"/>
                    </a:lnTo>
                  </a:path>
                </a:pathLst>
              </a:custGeom>
              <a:noFill/>
              <a:ln w="1440">
                <a:solidFill>
                  <a:srgbClr val="3e495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6656400" y="2197080"/>
                <a:ext cx="23760" cy="1800"/>
              </a:xfrm>
              <a:custGeom>
                <a:avLst/>
                <a:gdLst/>
                <a:ahLst/>
                <a:rect l="l" t="t" r="r" b="b"/>
                <a:pathLst>
                  <a:path w="79" h="2">
                    <a:moveTo>
                      <a:pt x="0" y="2"/>
                    </a:moveTo>
                    <a:lnTo>
                      <a:pt x="9" y="2"/>
                    </a:lnTo>
                    <a:lnTo>
                      <a:pt x="19" y="2"/>
                    </a:lnTo>
                    <a:lnTo>
                      <a:pt x="28" y="1"/>
                    </a:lnTo>
                    <a:lnTo>
                      <a:pt x="38" y="1"/>
                    </a:lnTo>
                    <a:lnTo>
                      <a:pt x="49" y="0"/>
                    </a:lnTo>
                    <a:lnTo>
                      <a:pt x="59" y="0"/>
                    </a:lnTo>
                    <a:lnTo>
                      <a:pt x="69" y="0"/>
                    </a:lnTo>
                    <a:lnTo>
                      <a:pt x="79" y="0"/>
                    </a:lnTo>
                  </a:path>
                </a:pathLst>
              </a:custGeom>
              <a:noFill/>
              <a:ln w="1440">
                <a:solidFill>
                  <a:srgbClr val="3e495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6651720" y="2247840"/>
                <a:ext cx="25200" cy="1800"/>
              </a:xfrm>
              <a:custGeom>
                <a:avLst/>
                <a:gdLst/>
                <a:ahLst/>
                <a:rect l="l" t="t" r="r" b="b"/>
                <a:pathLst>
                  <a:path w="81" h="2">
                    <a:moveTo>
                      <a:pt x="0" y="2"/>
                    </a:moveTo>
                    <a:lnTo>
                      <a:pt x="9" y="1"/>
                    </a:lnTo>
                    <a:lnTo>
                      <a:pt x="18" y="1"/>
                    </a:lnTo>
                    <a:lnTo>
                      <a:pt x="28" y="0"/>
                    </a:lnTo>
                    <a:lnTo>
                      <a:pt x="39" y="0"/>
                    </a:lnTo>
                    <a:lnTo>
                      <a:pt x="50" y="0"/>
                    </a:lnTo>
                    <a:lnTo>
                      <a:pt x="61" y="0"/>
                    </a:lnTo>
                    <a:lnTo>
                      <a:pt x="71" y="0"/>
                    </a:lnTo>
                    <a:lnTo>
                      <a:pt x="81" y="0"/>
                    </a:lnTo>
                  </a:path>
                </a:pathLst>
              </a:custGeom>
              <a:noFill/>
              <a:ln w="1440">
                <a:solidFill>
                  <a:srgbClr val="3e495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6667560" y="1976400"/>
                <a:ext cx="17280" cy="1800"/>
              </a:xfrm>
              <a:custGeom>
                <a:avLst/>
                <a:gdLst/>
                <a:ahLst/>
                <a:rect l="l" t="t" r="r" b="b"/>
                <a:pathLst>
                  <a:path w="52" h="2">
                    <a:moveTo>
                      <a:pt x="0" y="2"/>
                    </a:moveTo>
                    <a:lnTo>
                      <a:pt x="6" y="1"/>
                    </a:lnTo>
                    <a:lnTo>
                      <a:pt x="11" y="1"/>
                    </a:lnTo>
                    <a:lnTo>
                      <a:pt x="17" y="0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7" y="0"/>
                    </a:lnTo>
                    <a:lnTo>
                      <a:pt x="44" y="0"/>
                    </a:lnTo>
                    <a:lnTo>
                      <a:pt x="52" y="0"/>
                    </a:lnTo>
                  </a:path>
                </a:pathLst>
              </a:custGeom>
              <a:noFill/>
              <a:ln w="1440">
                <a:solidFill>
                  <a:srgbClr val="3e495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6667560" y="2003400"/>
                <a:ext cx="17280" cy="1800"/>
              </a:xfrm>
              <a:custGeom>
                <a:avLst/>
                <a:gdLst/>
                <a:ahLst/>
                <a:rect l="l" t="t" r="r" b="b"/>
                <a:pathLst>
                  <a:path w="52" h="5">
                    <a:moveTo>
                      <a:pt x="0" y="5"/>
                    </a:moveTo>
                    <a:lnTo>
                      <a:pt x="6" y="4"/>
                    </a:lnTo>
                    <a:lnTo>
                      <a:pt x="11" y="4"/>
                    </a:lnTo>
                    <a:lnTo>
                      <a:pt x="17" y="3"/>
                    </a:lnTo>
                    <a:lnTo>
                      <a:pt x="24" y="3"/>
                    </a:lnTo>
                    <a:lnTo>
                      <a:pt x="30" y="2"/>
                    </a:lnTo>
                    <a:lnTo>
                      <a:pt x="37" y="2"/>
                    </a:lnTo>
                    <a:lnTo>
                      <a:pt x="44" y="1"/>
                    </a:lnTo>
                    <a:lnTo>
                      <a:pt x="52" y="0"/>
                    </a:lnTo>
                  </a:path>
                </a:pathLst>
              </a:custGeom>
              <a:noFill/>
              <a:ln w="1440">
                <a:solidFill>
                  <a:srgbClr val="3e495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667560" y="2028960"/>
                <a:ext cx="17280" cy="1440"/>
              </a:xfrm>
              <a:custGeom>
                <a:avLst/>
                <a:gdLst/>
                <a:ahLst/>
                <a:rect l="l" t="t" r="r" b="b"/>
                <a:pathLst>
                  <a:path w="52" h="2">
                    <a:moveTo>
                      <a:pt x="0" y="2"/>
                    </a:moveTo>
                    <a:lnTo>
                      <a:pt x="6" y="2"/>
                    </a:lnTo>
                    <a:lnTo>
                      <a:pt x="11" y="2"/>
                    </a:lnTo>
                    <a:lnTo>
                      <a:pt x="17" y="2"/>
                    </a:lnTo>
                    <a:lnTo>
                      <a:pt x="24" y="2"/>
                    </a:lnTo>
                    <a:lnTo>
                      <a:pt x="30" y="2"/>
                    </a:lnTo>
                    <a:lnTo>
                      <a:pt x="37" y="2"/>
                    </a:lnTo>
                    <a:lnTo>
                      <a:pt x="44" y="1"/>
                    </a:lnTo>
                    <a:lnTo>
                      <a:pt x="52" y="0"/>
                    </a:lnTo>
                  </a:path>
                </a:pathLst>
              </a:custGeom>
              <a:noFill/>
              <a:ln w="1440">
                <a:solidFill>
                  <a:srgbClr val="3e495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667560" y="2055960"/>
                <a:ext cx="17280" cy="1440"/>
              </a:xfrm>
              <a:custGeom>
                <a:avLst/>
                <a:gdLst/>
                <a:ahLst/>
                <a:rect l="l" t="t" r="r" b="b"/>
                <a:pathLst>
                  <a:path w="52" h="2">
                    <a:moveTo>
                      <a:pt x="0" y="2"/>
                    </a:moveTo>
                    <a:lnTo>
                      <a:pt x="6" y="2"/>
                    </a:lnTo>
                    <a:lnTo>
                      <a:pt x="11" y="2"/>
                    </a:lnTo>
                    <a:lnTo>
                      <a:pt x="17" y="2"/>
                    </a:lnTo>
                    <a:lnTo>
                      <a:pt x="24" y="1"/>
                    </a:lnTo>
                    <a:lnTo>
                      <a:pt x="30" y="1"/>
                    </a:lnTo>
                    <a:lnTo>
                      <a:pt x="37" y="0"/>
                    </a:lnTo>
                    <a:lnTo>
                      <a:pt x="44" y="0"/>
                    </a:lnTo>
                    <a:lnTo>
                      <a:pt x="52" y="0"/>
                    </a:lnTo>
                  </a:path>
                </a:pathLst>
              </a:custGeom>
              <a:noFill/>
              <a:ln w="1440">
                <a:solidFill>
                  <a:srgbClr val="3e495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667560" y="2082960"/>
                <a:ext cx="17280" cy="1440"/>
              </a:xfrm>
              <a:custGeom>
                <a:avLst/>
                <a:gdLst/>
                <a:ahLst/>
                <a:rect l="l" t="t" r="r" b="b"/>
                <a:pathLst>
                  <a:path w="52" h="3">
                    <a:moveTo>
                      <a:pt x="0" y="3"/>
                    </a:moveTo>
                    <a:lnTo>
                      <a:pt x="6" y="3"/>
                    </a:lnTo>
                    <a:lnTo>
                      <a:pt x="11" y="3"/>
                    </a:lnTo>
                    <a:lnTo>
                      <a:pt x="17" y="2"/>
                    </a:lnTo>
                    <a:lnTo>
                      <a:pt x="24" y="2"/>
                    </a:lnTo>
                    <a:lnTo>
                      <a:pt x="30" y="2"/>
                    </a:lnTo>
                    <a:lnTo>
                      <a:pt x="37" y="0"/>
                    </a:lnTo>
                    <a:lnTo>
                      <a:pt x="44" y="0"/>
                    </a:lnTo>
                    <a:lnTo>
                      <a:pt x="52" y="0"/>
                    </a:lnTo>
                  </a:path>
                </a:pathLst>
              </a:custGeom>
              <a:noFill/>
              <a:ln w="1440">
                <a:solidFill>
                  <a:srgbClr val="3e495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6667560" y="2109960"/>
                <a:ext cx="17280" cy="1440"/>
              </a:xfrm>
              <a:custGeom>
                <a:avLst/>
                <a:gdLst/>
                <a:ahLst/>
                <a:rect l="l" t="t" r="r" b="b"/>
                <a:pathLst>
                  <a:path w="52" h="2">
                    <a:moveTo>
                      <a:pt x="0" y="2"/>
                    </a:moveTo>
                    <a:lnTo>
                      <a:pt x="6" y="2"/>
                    </a:lnTo>
                    <a:lnTo>
                      <a:pt x="11" y="2"/>
                    </a:lnTo>
                    <a:lnTo>
                      <a:pt x="17" y="1"/>
                    </a:lnTo>
                    <a:lnTo>
                      <a:pt x="24" y="1"/>
                    </a:lnTo>
                    <a:lnTo>
                      <a:pt x="30" y="0"/>
                    </a:lnTo>
                    <a:lnTo>
                      <a:pt x="37" y="0"/>
                    </a:lnTo>
                    <a:lnTo>
                      <a:pt x="44" y="0"/>
                    </a:lnTo>
                    <a:lnTo>
                      <a:pt x="52" y="0"/>
                    </a:lnTo>
                  </a:path>
                </a:pathLst>
              </a:custGeom>
              <a:noFill/>
              <a:ln w="1440">
                <a:solidFill>
                  <a:srgbClr val="3e495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6667560" y="2135160"/>
                <a:ext cx="17280" cy="1800"/>
              </a:xfrm>
              <a:custGeom>
                <a:avLst/>
                <a:gdLst/>
                <a:ahLst/>
                <a:rect l="l" t="t" r="r" b="b"/>
                <a:pathLst>
                  <a:path w="52" h="2">
                    <a:moveTo>
                      <a:pt x="0" y="2"/>
                    </a:moveTo>
                    <a:lnTo>
                      <a:pt x="6" y="2"/>
                    </a:lnTo>
                    <a:lnTo>
                      <a:pt x="11" y="2"/>
                    </a:lnTo>
                    <a:lnTo>
                      <a:pt x="17" y="1"/>
                    </a:lnTo>
                    <a:lnTo>
                      <a:pt x="24" y="1"/>
                    </a:lnTo>
                    <a:lnTo>
                      <a:pt x="30" y="1"/>
                    </a:lnTo>
                    <a:lnTo>
                      <a:pt x="37" y="0"/>
                    </a:lnTo>
                    <a:lnTo>
                      <a:pt x="44" y="0"/>
                    </a:lnTo>
                    <a:lnTo>
                      <a:pt x="52" y="0"/>
                    </a:lnTo>
                  </a:path>
                </a:pathLst>
              </a:custGeom>
              <a:noFill/>
              <a:ln w="1440">
                <a:solidFill>
                  <a:srgbClr val="3e495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6662880" y="2158920"/>
                <a:ext cx="17280" cy="1800"/>
              </a:xfrm>
              <a:custGeom>
                <a:avLst/>
                <a:gdLst/>
                <a:ahLst/>
                <a:rect l="l" t="t" r="r" b="b"/>
                <a:pathLst>
                  <a:path w="52" h="2">
                    <a:moveTo>
                      <a:pt x="0" y="2"/>
                    </a:moveTo>
                    <a:lnTo>
                      <a:pt x="5" y="2"/>
                    </a:lnTo>
                    <a:lnTo>
                      <a:pt x="12" y="1"/>
                    </a:lnTo>
                    <a:lnTo>
                      <a:pt x="18" y="1"/>
                    </a:lnTo>
                    <a:lnTo>
                      <a:pt x="25" y="1"/>
                    </a:lnTo>
                    <a:lnTo>
                      <a:pt x="31" y="0"/>
                    </a:lnTo>
                    <a:lnTo>
                      <a:pt x="39" y="0"/>
                    </a:lnTo>
                    <a:lnTo>
                      <a:pt x="45" y="0"/>
                    </a:lnTo>
                    <a:lnTo>
                      <a:pt x="52" y="0"/>
                    </a:lnTo>
                  </a:path>
                </a:pathLst>
              </a:custGeom>
              <a:noFill/>
              <a:ln w="1440">
                <a:solidFill>
                  <a:srgbClr val="3e495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6659640" y="2184480"/>
                <a:ext cx="15840" cy="1440"/>
              </a:xfrm>
              <a:custGeom>
                <a:avLst/>
                <a:gdLst/>
                <a:ahLst/>
                <a:rect l="l" t="t" r="r" b="b"/>
                <a:pathLst>
                  <a:path w="52" h="3">
                    <a:moveTo>
                      <a:pt x="0" y="3"/>
                    </a:moveTo>
                    <a:lnTo>
                      <a:pt x="7" y="3"/>
                    </a:lnTo>
                    <a:lnTo>
                      <a:pt x="12" y="2"/>
                    </a:lnTo>
                    <a:lnTo>
                      <a:pt x="18" y="2"/>
                    </a:lnTo>
                    <a:lnTo>
                      <a:pt x="25" y="1"/>
                    </a:lnTo>
                    <a:lnTo>
                      <a:pt x="31" y="1"/>
                    </a:lnTo>
                    <a:lnTo>
                      <a:pt x="38" y="1"/>
                    </a:lnTo>
                    <a:lnTo>
                      <a:pt x="45" y="0"/>
                    </a:lnTo>
                    <a:lnTo>
                      <a:pt x="52" y="0"/>
                    </a:lnTo>
                  </a:path>
                </a:pathLst>
              </a:custGeom>
              <a:noFill/>
              <a:ln w="1440">
                <a:solidFill>
                  <a:srgbClr val="3e495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6656400" y="2210040"/>
                <a:ext cx="15840" cy="1440"/>
              </a:xfrm>
              <a:custGeom>
                <a:avLst/>
                <a:gdLst/>
                <a:ahLst/>
                <a:rect l="l" t="t" r="r" b="b"/>
                <a:pathLst>
                  <a:path w="52" h="2">
                    <a:moveTo>
                      <a:pt x="0" y="2"/>
                    </a:moveTo>
                    <a:lnTo>
                      <a:pt x="6" y="2"/>
                    </a:lnTo>
                    <a:lnTo>
                      <a:pt x="12" y="2"/>
                    </a:lnTo>
                    <a:lnTo>
                      <a:pt x="19" y="1"/>
                    </a:lnTo>
                    <a:lnTo>
                      <a:pt x="25" y="1"/>
                    </a:lnTo>
                    <a:lnTo>
                      <a:pt x="32" y="0"/>
                    </a:lnTo>
                    <a:lnTo>
                      <a:pt x="38" y="0"/>
                    </a:lnTo>
                    <a:lnTo>
                      <a:pt x="46" y="0"/>
                    </a:lnTo>
                    <a:lnTo>
                      <a:pt x="52" y="0"/>
                    </a:lnTo>
                  </a:path>
                </a:pathLst>
              </a:custGeom>
              <a:noFill/>
              <a:ln w="1440">
                <a:solidFill>
                  <a:srgbClr val="3e495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6654600" y="2237040"/>
                <a:ext cx="16200" cy="1440"/>
              </a:xfrm>
              <a:custGeom>
                <a:avLst/>
                <a:gdLst/>
                <a:ahLst/>
                <a:rect l="l" t="t" r="r" b="b"/>
                <a:pathLst>
                  <a:path w="52" h="4">
                    <a:moveTo>
                      <a:pt x="0" y="4"/>
                    </a:moveTo>
                    <a:lnTo>
                      <a:pt x="5" y="4"/>
                    </a:lnTo>
                    <a:lnTo>
                      <a:pt x="12" y="2"/>
                    </a:lnTo>
                    <a:lnTo>
                      <a:pt x="18" y="2"/>
                    </a:lnTo>
                    <a:lnTo>
                      <a:pt x="25" y="2"/>
                    </a:lnTo>
                    <a:lnTo>
                      <a:pt x="31" y="1"/>
                    </a:lnTo>
                    <a:lnTo>
                      <a:pt x="38" y="1"/>
                    </a:lnTo>
                    <a:lnTo>
                      <a:pt x="45" y="1"/>
                    </a:lnTo>
                    <a:lnTo>
                      <a:pt x="52" y="0"/>
                    </a:lnTo>
                  </a:path>
                </a:pathLst>
              </a:custGeom>
              <a:noFill/>
              <a:ln w="1440">
                <a:solidFill>
                  <a:srgbClr val="3e495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6653160" y="2262240"/>
                <a:ext cx="15840" cy="1440"/>
              </a:xfrm>
              <a:custGeom>
                <a:avLst/>
                <a:gdLst/>
                <a:ahLst/>
                <a:rect l="l" t="t" r="r" b="b"/>
                <a:pathLst>
                  <a:path w="51" h="2">
                    <a:moveTo>
                      <a:pt x="0" y="2"/>
                    </a:moveTo>
                    <a:lnTo>
                      <a:pt x="5" y="2"/>
                    </a:lnTo>
                    <a:lnTo>
                      <a:pt x="12" y="2"/>
                    </a:lnTo>
                    <a:lnTo>
                      <a:pt x="18" y="1"/>
                    </a:lnTo>
                    <a:lnTo>
                      <a:pt x="24" y="1"/>
                    </a:lnTo>
                    <a:lnTo>
                      <a:pt x="32" y="0"/>
                    </a:lnTo>
                    <a:lnTo>
                      <a:pt x="39" y="0"/>
                    </a:lnTo>
                    <a:lnTo>
                      <a:pt x="45" y="0"/>
                    </a:lnTo>
                    <a:lnTo>
                      <a:pt x="51" y="0"/>
                    </a:lnTo>
                  </a:path>
                </a:pathLst>
              </a:custGeom>
              <a:noFill/>
              <a:ln w="1440">
                <a:solidFill>
                  <a:srgbClr val="3e495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6665760" y="1954440"/>
                <a:ext cx="17640" cy="1440"/>
              </a:xfrm>
              <a:custGeom>
                <a:avLst/>
                <a:gdLst/>
                <a:ahLst/>
                <a:rect l="l" t="t" r="r" b="b"/>
                <a:pathLst>
                  <a:path w="52" h="4">
                    <a:moveTo>
                      <a:pt x="0" y="4"/>
                    </a:moveTo>
                    <a:lnTo>
                      <a:pt x="5" y="4"/>
                    </a:lnTo>
                    <a:lnTo>
                      <a:pt x="12" y="3"/>
                    </a:lnTo>
                    <a:lnTo>
                      <a:pt x="18" y="3"/>
                    </a:lnTo>
                    <a:lnTo>
                      <a:pt x="25" y="3"/>
                    </a:lnTo>
                    <a:lnTo>
                      <a:pt x="31" y="1"/>
                    </a:lnTo>
                    <a:lnTo>
                      <a:pt x="39" y="1"/>
                    </a:lnTo>
                    <a:lnTo>
                      <a:pt x="45" y="1"/>
                    </a:lnTo>
                    <a:lnTo>
                      <a:pt x="52" y="0"/>
                    </a:lnTo>
                  </a:path>
                </a:pathLst>
              </a:custGeom>
              <a:noFill/>
              <a:ln w="1440">
                <a:solidFill>
                  <a:srgbClr val="3e495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6392880" y="1676520"/>
                <a:ext cx="385560" cy="112680"/>
              </a:xfrm>
              <a:custGeom>
                <a:avLst/>
                <a:gdLst/>
                <a:ahLst/>
                <a:rect l="l" t="t" r="r" b="b"/>
                <a:pathLst>
                  <a:path w="1213" h="354">
                    <a:moveTo>
                      <a:pt x="698" y="151"/>
                    </a:moveTo>
                    <a:lnTo>
                      <a:pt x="665" y="76"/>
                    </a:lnTo>
                    <a:lnTo>
                      <a:pt x="1101" y="94"/>
                    </a:lnTo>
                    <a:lnTo>
                      <a:pt x="1102" y="95"/>
                    </a:lnTo>
                    <a:lnTo>
                      <a:pt x="1106" y="98"/>
                    </a:lnTo>
                    <a:lnTo>
                      <a:pt x="1112" y="103"/>
                    </a:lnTo>
                    <a:lnTo>
                      <a:pt x="1120" y="111"/>
                    </a:lnTo>
                    <a:lnTo>
                      <a:pt x="1129" y="122"/>
                    </a:lnTo>
                    <a:lnTo>
                      <a:pt x="1137" y="135"/>
                    </a:lnTo>
                    <a:lnTo>
                      <a:pt x="1142" y="142"/>
                    </a:lnTo>
                    <a:lnTo>
                      <a:pt x="1145" y="151"/>
                    </a:lnTo>
                    <a:lnTo>
                      <a:pt x="1149" y="160"/>
                    </a:lnTo>
                    <a:lnTo>
                      <a:pt x="1152" y="170"/>
                    </a:lnTo>
                    <a:lnTo>
                      <a:pt x="1156" y="181"/>
                    </a:lnTo>
                    <a:lnTo>
                      <a:pt x="1158" y="191"/>
                    </a:lnTo>
                    <a:lnTo>
                      <a:pt x="1159" y="200"/>
                    </a:lnTo>
                    <a:lnTo>
                      <a:pt x="1160" y="210"/>
                    </a:lnTo>
                    <a:lnTo>
                      <a:pt x="1160" y="220"/>
                    </a:lnTo>
                    <a:lnTo>
                      <a:pt x="1160" y="229"/>
                    </a:lnTo>
                    <a:lnTo>
                      <a:pt x="1159" y="237"/>
                    </a:lnTo>
                    <a:lnTo>
                      <a:pt x="1157" y="246"/>
                    </a:lnTo>
                    <a:lnTo>
                      <a:pt x="1154" y="253"/>
                    </a:lnTo>
                    <a:lnTo>
                      <a:pt x="1150" y="261"/>
                    </a:lnTo>
                    <a:lnTo>
                      <a:pt x="1147" y="267"/>
                    </a:lnTo>
                    <a:lnTo>
                      <a:pt x="1143" y="274"/>
                    </a:lnTo>
                    <a:lnTo>
                      <a:pt x="1137" y="279"/>
                    </a:lnTo>
                    <a:lnTo>
                      <a:pt x="1132" y="285"/>
                    </a:lnTo>
                    <a:lnTo>
                      <a:pt x="1125" y="288"/>
                    </a:lnTo>
                    <a:lnTo>
                      <a:pt x="1118" y="291"/>
                    </a:lnTo>
                    <a:lnTo>
                      <a:pt x="1110" y="293"/>
                    </a:lnTo>
                    <a:lnTo>
                      <a:pt x="1103" y="293"/>
                    </a:lnTo>
                    <a:lnTo>
                      <a:pt x="1095" y="292"/>
                    </a:lnTo>
                    <a:lnTo>
                      <a:pt x="1088" y="290"/>
                    </a:lnTo>
                    <a:lnTo>
                      <a:pt x="1080" y="287"/>
                    </a:lnTo>
                    <a:lnTo>
                      <a:pt x="1074" y="283"/>
                    </a:lnTo>
                    <a:lnTo>
                      <a:pt x="1067" y="278"/>
                    </a:lnTo>
                    <a:lnTo>
                      <a:pt x="1062" y="272"/>
                    </a:lnTo>
                    <a:lnTo>
                      <a:pt x="1056" y="265"/>
                    </a:lnTo>
                    <a:lnTo>
                      <a:pt x="1053" y="259"/>
                    </a:lnTo>
                    <a:lnTo>
                      <a:pt x="1050" y="251"/>
                    </a:lnTo>
                    <a:lnTo>
                      <a:pt x="1048" y="244"/>
                    </a:lnTo>
                    <a:lnTo>
                      <a:pt x="1047" y="235"/>
                    </a:lnTo>
                    <a:lnTo>
                      <a:pt x="1048" y="226"/>
                    </a:lnTo>
                    <a:lnTo>
                      <a:pt x="1050" y="219"/>
                    </a:lnTo>
                    <a:lnTo>
                      <a:pt x="1054" y="210"/>
                    </a:lnTo>
                    <a:lnTo>
                      <a:pt x="1063" y="194"/>
                    </a:lnTo>
                    <a:lnTo>
                      <a:pt x="1071" y="183"/>
                    </a:lnTo>
                    <a:lnTo>
                      <a:pt x="1079" y="175"/>
                    </a:lnTo>
                    <a:lnTo>
                      <a:pt x="1084" y="169"/>
                    </a:lnTo>
                    <a:lnTo>
                      <a:pt x="1090" y="166"/>
                    </a:lnTo>
                    <a:lnTo>
                      <a:pt x="1093" y="164"/>
                    </a:lnTo>
                    <a:lnTo>
                      <a:pt x="1095" y="163"/>
                    </a:lnTo>
                    <a:lnTo>
                      <a:pt x="1095" y="163"/>
                    </a:lnTo>
                    <a:lnTo>
                      <a:pt x="1095" y="160"/>
                    </a:lnTo>
                    <a:lnTo>
                      <a:pt x="1094" y="155"/>
                    </a:lnTo>
                    <a:lnTo>
                      <a:pt x="1092" y="148"/>
                    </a:lnTo>
                    <a:lnTo>
                      <a:pt x="1089" y="138"/>
                    </a:lnTo>
                    <a:lnTo>
                      <a:pt x="1087" y="133"/>
                    </a:lnTo>
                    <a:lnTo>
                      <a:pt x="1083" y="130"/>
                    </a:lnTo>
                    <a:lnTo>
                      <a:pt x="1080" y="126"/>
                    </a:lnTo>
                    <a:lnTo>
                      <a:pt x="1076" y="124"/>
                    </a:lnTo>
                    <a:lnTo>
                      <a:pt x="1071" y="122"/>
                    </a:lnTo>
                    <a:lnTo>
                      <a:pt x="1066" y="119"/>
                    </a:lnTo>
                    <a:lnTo>
                      <a:pt x="1061" y="119"/>
                    </a:lnTo>
                    <a:lnTo>
                      <a:pt x="1054" y="121"/>
                    </a:lnTo>
                    <a:lnTo>
                      <a:pt x="1051" y="123"/>
                    </a:lnTo>
                    <a:lnTo>
                      <a:pt x="1043" y="129"/>
                    </a:lnTo>
                    <a:lnTo>
                      <a:pt x="1033" y="139"/>
                    </a:lnTo>
                    <a:lnTo>
                      <a:pt x="1020" y="153"/>
                    </a:lnTo>
                    <a:lnTo>
                      <a:pt x="1014" y="160"/>
                    </a:lnTo>
                    <a:lnTo>
                      <a:pt x="1008" y="169"/>
                    </a:lnTo>
                    <a:lnTo>
                      <a:pt x="1003" y="178"/>
                    </a:lnTo>
                    <a:lnTo>
                      <a:pt x="998" y="187"/>
                    </a:lnTo>
                    <a:lnTo>
                      <a:pt x="995" y="198"/>
                    </a:lnTo>
                    <a:lnTo>
                      <a:pt x="993" y="209"/>
                    </a:lnTo>
                    <a:lnTo>
                      <a:pt x="991" y="220"/>
                    </a:lnTo>
                    <a:lnTo>
                      <a:pt x="991" y="232"/>
                    </a:lnTo>
                    <a:lnTo>
                      <a:pt x="994" y="245"/>
                    </a:lnTo>
                    <a:lnTo>
                      <a:pt x="996" y="256"/>
                    </a:lnTo>
                    <a:lnTo>
                      <a:pt x="999" y="267"/>
                    </a:lnTo>
                    <a:lnTo>
                      <a:pt x="1003" y="278"/>
                    </a:lnTo>
                    <a:lnTo>
                      <a:pt x="1008" y="289"/>
                    </a:lnTo>
                    <a:lnTo>
                      <a:pt x="1012" y="300"/>
                    </a:lnTo>
                    <a:lnTo>
                      <a:pt x="1018" y="308"/>
                    </a:lnTo>
                    <a:lnTo>
                      <a:pt x="1025" y="318"/>
                    </a:lnTo>
                    <a:lnTo>
                      <a:pt x="1033" y="326"/>
                    </a:lnTo>
                    <a:lnTo>
                      <a:pt x="1040" y="333"/>
                    </a:lnTo>
                    <a:lnTo>
                      <a:pt x="1049" y="340"/>
                    </a:lnTo>
                    <a:lnTo>
                      <a:pt x="1057" y="344"/>
                    </a:lnTo>
                    <a:lnTo>
                      <a:pt x="1067" y="348"/>
                    </a:lnTo>
                    <a:lnTo>
                      <a:pt x="1078" y="352"/>
                    </a:lnTo>
                    <a:lnTo>
                      <a:pt x="1089" y="353"/>
                    </a:lnTo>
                    <a:lnTo>
                      <a:pt x="1101" y="354"/>
                    </a:lnTo>
                    <a:lnTo>
                      <a:pt x="1112" y="353"/>
                    </a:lnTo>
                    <a:lnTo>
                      <a:pt x="1124" y="351"/>
                    </a:lnTo>
                    <a:lnTo>
                      <a:pt x="1135" y="348"/>
                    </a:lnTo>
                    <a:lnTo>
                      <a:pt x="1146" y="345"/>
                    </a:lnTo>
                    <a:lnTo>
                      <a:pt x="1155" y="342"/>
                    </a:lnTo>
                    <a:lnTo>
                      <a:pt x="1164" y="338"/>
                    </a:lnTo>
                    <a:lnTo>
                      <a:pt x="1172" y="332"/>
                    </a:lnTo>
                    <a:lnTo>
                      <a:pt x="1179" y="326"/>
                    </a:lnTo>
                    <a:lnTo>
                      <a:pt x="1186" y="318"/>
                    </a:lnTo>
                    <a:lnTo>
                      <a:pt x="1192" y="311"/>
                    </a:lnTo>
                    <a:lnTo>
                      <a:pt x="1198" y="301"/>
                    </a:lnTo>
                    <a:lnTo>
                      <a:pt x="1202" y="291"/>
                    </a:lnTo>
                    <a:lnTo>
                      <a:pt x="1205" y="280"/>
                    </a:lnTo>
                    <a:lnTo>
                      <a:pt x="1209" y="268"/>
                    </a:lnTo>
                    <a:lnTo>
                      <a:pt x="1211" y="256"/>
                    </a:lnTo>
                    <a:lnTo>
                      <a:pt x="1212" y="243"/>
                    </a:lnTo>
                    <a:lnTo>
                      <a:pt x="1213" y="227"/>
                    </a:lnTo>
                    <a:lnTo>
                      <a:pt x="1213" y="212"/>
                    </a:lnTo>
                    <a:lnTo>
                      <a:pt x="1212" y="196"/>
                    </a:lnTo>
                    <a:lnTo>
                      <a:pt x="1210" y="180"/>
                    </a:lnTo>
                    <a:lnTo>
                      <a:pt x="1208" y="165"/>
                    </a:lnTo>
                    <a:lnTo>
                      <a:pt x="1203" y="149"/>
                    </a:lnTo>
                    <a:lnTo>
                      <a:pt x="1199" y="133"/>
                    </a:lnTo>
                    <a:lnTo>
                      <a:pt x="1192" y="118"/>
                    </a:lnTo>
                    <a:lnTo>
                      <a:pt x="1185" y="104"/>
                    </a:lnTo>
                    <a:lnTo>
                      <a:pt x="1177" y="91"/>
                    </a:lnTo>
                    <a:lnTo>
                      <a:pt x="1168" y="79"/>
                    </a:lnTo>
                    <a:lnTo>
                      <a:pt x="1157" y="69"/>
                    </a:lnTo>
                    <a:lnTo>
                      <a:pt x="1150" y="64"/>
                    </a:lnTo>
                    <a:lnTo>
                      <a:pt x="1145" y="60"/>
                    </a:lnTo>
                    <a:lnTo>
                      <a:pt x="1138" y="56"/>
                    </a:lnTo>
                    <a:lnTo>
                      <a:pt x="1131" y="52"/>
                    </a:lnTo>
                    <a:lnTo>
                      <a:pt x="1124" y="49"/>
                    </a:lnTo>
                    <a:lnTo>
                      <a:pt x="1117" y="47"/>
                    </a:lnTo>
                    <a:lnTo>
                      <a:pt x="1109" y="46"/>
                    </a:lnTo>
                    <a:lnTo>
                      <a:pt x="1101" y="44"/>
                    </a:lnTo>
                    <a:lnTo>
                      <a:pt x="141" y="0"/>
                    </a:lnTo>
                    <a:lnTo>
                      <a:pt x="137" y="1"/>
                    </a:lnTo>
                    <a:lnTo>
                      <a:pt x="125" y="2"/>
                    </a:lnTo>
                    <a:lnTo>
                      <a:pt x="116" y="4"/>
                    </a:lnTo>
                    <a:lnTo>
                      <a:pt x="107" y="6"/>
                    </a:lnTo>
                    <a:lnTo>
                      <a:pt x="97" y="10"/>
                    </a:lnTo>
                    <a:lnTo>
                      <a:pt x="85" y="15"/>
                    </a:lnTo>
                    <a:lnTo>
                      <a:pt x="74" y="21"/>
                    </a:lnTo>
                    <a:lnTo>
                      <a:pt x="64" y="28"/>
                    </a:lnTo>
                    <a:lnTo>
                      <a:pt x="52" y="37"/>
                    </a:lnTo>
                    <a:lnTo>
                      <a:pt x="41" y="48"/>
                    </a:lnTo>
                    <a:lnTo>
                      <a:pt x="31" y="60"/>
                    </a:lnTo>
                    <a:lnTo>
                      <a:pt x="22" y="75"/>
                    </a:lnTo>
                    <a:lnTo>
                      <a:pt x="18" y="83"/>
                    </a:lnTo>
                    <a:lnTo>
                      <a:pt x="14" y="92"/>
                    </a:lnTo>
                    <a:lnTo>
                      <a:pt x="11" y="101"/>
                    </a:lnTo>
                    <a:lnTo>
                      <a:pt x="7" y="111"/>
                    </a:lnTo>
                    <a:lnTo>
                      <a:pt x="3" y="128"/>
                    </a:lnTo>
                    <a:lnTo>
                      <a:pt x="1" y="146"/>
                    </a:lnTo>
                    <a:lnTo>
                      <a:pt x="0" y="163"/>
                    </a:lnTo>
                    <a:lnTo>
                      <a:pt x="0" y="180"/>
                    </a:lnTo>
                    <a:lnTo>
                      <a:pt x="2" y="196"/>
                    </a:lnTo>
                    <a:lnTo>
                      <a:pt x="4" y="211"/>
                    </a:lnTo>
                    <a:lnTo>
                      <a:pt x="8" y="226"/>
                    </a:lnTo>
                    <a:lnTo>
                      <a:pt x="14" y="241"/>
                    </a:lnTo>
                    <a:lnTo>
                      <a:pt x="21" y="254"/>
                    </a:lnTo>
                    <a:lnTo>
                      <a:pt x="29" y="267"/>
                    </a:lnTo>
                    <a:lnTo>
                      <a:pt x="38" y="279"/>
                    </a:lnTo>
                    <a:lnTo>
                      <a:pt x="47" y="290"/>
                    </a:lnTo>
                    <a:lnTo>
                      <a:pt x="59" y="300"/>
                    </a:lnTo>
                    <a:lnTo>
                      <a:pt x="70" y="308"/>
                    </a:lnTo>
                    <a:lnTo>
                      <a:pt x="83" y="315"/>
                    </a:lnTo>
                    <a:lnTo>
                      <a:pt x="97" y="321"/>
                    </a:lnTo>
                    <a:lnTo>
                      <a:pt x="111" y="326"/>
                    </a:lnTo>
                    <a:lnTo>
                      <a:pt x="126" y="328"/>
                    </a:lnTo>
                    <a:lnTo>
                      <a:pt x="141" y="329"/>
                    </a:lnTo>
                    <a:lnTo>
                      <a:pt x="155" y="328"/>
                    </a:lnTo>
                    <a:lnTo>
                      <a:pt x="168" y="326"/>
                    </a:lnTo>
                    <a:lnTo>
                      <a:pt x="182" y="321"/>
                    </a:lnTo>
                    <a:lnTo>
                      <a:pt x="194" y="316"/>
                    </a:lnTo>
                    <a:lnTo>
                      <a:pt x="206" y="308"/>
                    </a:lnTo>
                    <a:lnTo>
                      <a:pt x="217" y="300"/>
                    </a:lnTo>
                    <a:lnTo>
                      <a:pt x="227" y="290"/>
                    </a:lnTo>
                    <a:lnTo>
                      <a:pt x="236" y="278"/>
                    </a:lnTo>
                    <a:lnTo>
                      <a:pt x="244" y="265"/>
                    </a:lnTo>
                    <a:lnTo>
                      <a:pt x="249" y="251"/>
                    </a:lnTo>
                    <a:lnTo>
                      <a:pt x="255" y="235"/>
                    </a:lnTo>
                    <a:lnTo>
                      <a:pt x="258" y="219"/>
                    </a:lnTo>
                    <a:lnTo>
                      <a:pt x="260" y="200"/>
                    </a:lnTo>
                    <a:lnTo>
                      <a:pt x="260" y="182"/>
                    </a:lnTo>
                    <a:lnTo>
                      <a:pt x="259" y="166"/>
                    </a:lnTo>
                    <a:lnTo>
                      <a:pt x="257" y="152"/>
                    </a:lnTo>
                    <a:lnTo>
                      <a:pt x="254" y="139"/>
                    </a:lnTo>
                    <a:lnTo>
                      <a:pt x="249" y="129"/>
                    </a:lnTo>
                    <a:lnTo>
                      <a:pt x="244" y="121"/>
                    </a:lnTo>
                    <a:lnTo>
                      <a:pt x="237" y="113"/>
                    </a:lnTo>
                    <a:lnTo>
                      <a:pt x="232" y="106"/>
                    </a:lnTo>
                    <a:lnTo>
                      <a:pt x="226" y="102"/>
                    </a:lnTo>
                    <a:lnTo>
                      <a:pt x="220" y="98"/>
                    </a:lnTo>
                    <a:lnTo>
                      <a:pt x="214" y="96"/>
                    </a:lnTo>
                    <a:lnTo>
                      <a:pt x="209" y="94"/>
                    </a:lnTo>
                    <a:lnTo>
                      <a:pt x="201" y="91"/>
                    </a:lnTo>
                    <a:lnTo>
                      <a:pt x="199" y="91"/>
                    </a:lnTo>
                    <a:lnTo>
                      <a:pt x="196" y="91"/>
                    </a:lnTo>
                    <a:lnTo>
                      <a:pt x="193" y="94"/>
                    </a:lnTo>
                    <a:lnTo>
                      <a:pt x="189" y="97"/>
                    </a:lnTo>
                    <a:lnTo>
                      <a:pt x="183" y="101"/>
                    </a:lnTo>
                    <a:lnTo>
                      <a:pt x="179" y="106"/>
                    </a:lnTo>
                    <a:lnTo>
                      <a:pt x="175" y="114"/>
                    </a:lnTo>
                    <a:lnTo>
                      <a:pt x="175" y="118"/>
                    </a:lnTo>
                    <a:lnTo>
                      <a:pt x="174" y="124"/>
                    </a:lnTo>
                    <a:lnTo>
                      <a:pt x="175" y="129"/>
                    </a:lnTo>
                    <a:lnTo>
                      <a:pt x="176" y="136"/>
                    </a:lnTo>
                    <a:lnTo>
                      <a:pt x="177" y="137"/>
                    </a:lnTo>
                    <a:lnTo>
                      <a:pt x="180" y="139"/>
                    </a:lnTo>
                    <a:lnTo>
                      <a:pt x="185" y="143"/>
                    </a:lnTo>
                    <a:lnTo>
                      <a:pt x="190" y="150"/>
                    </a:lnTo>
                    <a:lnTo>
                      <a:pt x="195" y="158"/>
                    </a:lnTo>
                    <a:lnTo>
                      <a:pt x="200" y="169"/>
                    </a:lnTo>
                    <a:lnTo>
                      <a:pt x="204" y="182"/>
                    </a:lnTo>
                    <a:lnTo>
                      <a:pt x="205" y="197"/>
                    </a:lnTo>
                    <a:lnTo>
                      <a:pt x="205" y="207"/>
                    </a:lnTo>
                    <a:lnTo>
                      <a:pt x="203" y="217"/>
                    </a:lnTo>
                    <a:lnTo>
                      <a:pt x="200" y="226"/>
                    </a:lnTo>
                    <a:lnTo>
                      <a:pt x="194" y="235"/>
                    </a:lnTo>
                    <a:lnTo>
                      <a:pt x="188" y="244"/>
                    </a:lnTo>
                    <a:lnTo>
                      <a:pt x="181" y="251"/>
                    </a:lnTo>
                    <a:lnTo>
                      <a:pt x="173" y="258"/>
                    </a:lnTo>
                    <a:lnTo>
                      <a:pt x="163" y="263"/>
                    </a:lnTo>
                    <a:lnTo>
                      <a:pt x="153" y="266"/>
                    </a:lnTo>
                    <a:lnTo>
                      <a:pt x="142" y="268"/>
                    </a:lnTo>
                    <a:lnTo>
                      <a:pt x="132" y="270"/>
                    </a:lnTo>
                    <a:lnTo>
                      <a:pt x="121" y="267"/>
                    </a:lnTo>
                    <a:lnTo>
                      <a:pt x="114" y="266"/>
                    </a:lnTo>
                    <a:lnTo>
                      <a:pt x="109" y="264"/>
                    </a:lnTo>
                    <a:lnTo>
                      <a:pt x="103" y="261"/>
                    </a:lnTo>
                    <a:lnTo>
                      <a:pt x="97" y="258"/>
                    </a:lnTo>
                    <a:lnTo>
                      <a:pt x="92" y="253"/>
                    </a:lnTo>
                    <a:lnTo>
                      <a:pt x="86" y="249"/>
                    </a:lnTo>
                    <a:lnTo>
                      <a:pt x="80" y="244"/>
                    </a:lnTo>
                    <a:lnTo>
                      <a:pt x="74" y="237"/>
                    </a:lnTo>
                    <a:lnTo>
                      <a:pt x="70" y="231"/>
                    </a:lnTo>
                    <a:lnTo>
                      <a:pt x="66" y="224"/>
                    </a:lnTo>
                    <a:lnTo>
                      <a:pt x="62" y="217"/>
                    </a:lnTo>
                    <a:lnTo>
                      <a:pt x="59" y="210"/>
                    </a:lnTo>
                    <a:lnTo>
                      <a:pt x="55" y="195"/>
                    </a:lnTo>
                    <a:lnTo>
                      <a:pt x="53" y="180"/>
                    </a:lnTo>
                    <a:lnTo>
                      <a:pt x="53" y="166"/>
                    </a:lnTo>
                    <a:lnTo>
                      <a:pt x="55" y="151"/>
                    </a:lnTo>
                    <a:lnTo>
                      <a:pt x="58" y="137"/>
                    </a:lnTo>
                    <a:lnTo>
                      <a:pt x="62" y="123"/>
                    </a:lnTo>
                    <a:lnTo>
                      <a:pt x="68" y="110"/>
                    </a:lnTo>
                    <a:lnTo>
                      <a:pt x="75" y="98"/>
                    </a:lnTo>
                    <a:lnTo>
                      <a:pt x="83" y="87"/>
                    </a:lnTo>
                    <a:lnTo>
                      <a:pt x="91" y="77"/>
                    </a:lnTo>
                    <a:lnTo>
                      <a:pt x="99" y="70"/>
                    </a:lnTo>
                    <a:lnTo>
                      <a:pt x="109" y="63"/>
                    </a:lnTo>
                    <a:lnTo>
                      <a:pt x="118" y="59"/>
                    </a:lnTo>
                    <a:lnTo>
                      <a:pt x="126" y="57"/>
                    </a:lnTo>
                    <a:lnTo>
                      <a:pt x="602" y="74"/>
                    </a:lnTo>
                    <a:lnTo>
                      <a:pt x="569" y="151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6692760" y="2422440"/>
                <a:ext cx="34920" cy="74880"/>
              </a:xfrm>
              <a:custGeom>
                <a:avLst/>
                <a:gdLst/>
                <a:ahLst/>
                <a:rect l="l" t="t" r="r" b="b"/>
                <a:pathLst>
                  <a:path w="111" h="235">
                    <a:moveTo>
                      <a:pt x="21" y="0"/>
                    </a:moveTo>
                    <a:lnTo>
                      <a:pt x="0" y="224"/>
                    </a:lnTo>
                    <a:lnTo>
                      <a:pt x="1" y="225"/>
                    </a:lnTo>
                    <a:lnTo>
                      <a:pt x="7" y="227"/>
                    </a:lnTo>
                    <a:lnTo>
                      <a:pt x="16" y="229"/>
                    </a:lnTo>
                    <a:lnTo>
                      <a:pt x="26" y="231"/>
                    </a:lnTo>
                    <a:lnTo>
                      <a:pt x="38" y="233"/>
                    </a:lnTo>
                    <a:lnTo>
                      <a:pt x="51" y="235"/>
                    </a:lnTo>
                    <a:lnTo>
                      <a:pt x="63" y="235"/>
                    </a:lnTo>
                    <a:lnTo>
                      <a:pt x="73" y="234"/>
                    </a:lnTo>
                    <a:lnTo>
                      <a:pt x="111" y="9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e1e8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6692760" y="2422440"/>
                <a:ext cx="34920" cy="74880"/>
              </a:xfrm>
              <a:custGeom>
                <a:avLst/>
                <a:gdLst/>
                <a:ahLst/>
                <a:rect l="l" t="t" r="r" b="b"/>
                <a:pathLst>
                  <a:path w="111" h="235">
                    <a:moveTo>
                      <a:pt x="21" y="0"/>
                    </a:moveTo>
                    <a:lnTo>
                      <a:pt x="0" y="224"/>
                    </a:lnTo>
                    <a:lnTo>
                      <a:pt x="1" y="225"/>
                    </a:lnTo>
                    <a:lnTo>
                      <a:pt x="7" y="227"/>
                    </a:lnTo>
                    <a:lnTo>
                      <a:pt x="16" y="229"/>
                    </a:lnTo>
                    <a:lnTo>
                      <a:pt x="26" y="231"/>
                    </a:lnTo>
                    <a:lnTo>
                      <a:pt x="38" y="233"/>
                    </a:lnTo>
                    <a:lnTo>
                      <a:pt x="51" y="235"/>
                    </a:lnTo>
                    <a:lnTo>
                      <a:pt x="63" y="235"/>
                    </a:lnTo>
                    <a:lnTo>
                      <a:pt x="73" y="234"/>
                    </a:lnTo>
                    <a:lnTo>
                      <a:pt x="111" y="9"/>
                    </a:lnTo>
                    <a:lnTo>
                      <a:pt x="21" y="0"/>
                    </a:lnTo>
                  </a:path>
                </a:pathLst>
              </a:custGeom>
              <a:noFill/>
              <a:ln w="3240">
                <a:solidFill>
                  <a:srgbClr val="3e495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6686640" y="2411640"/>
                <a:ext cx="55440" cy="17280"/>
              </a:xfrm>
              <a:custGeom>
                <a:avLst/>
                <a:gdLst/>
                <a:ahLst/>
                <a:rect l="l" t="t" r="r" b="b"/>
                <a:pathLst>
                  <a:path w="172" h="52">
                    <a:moveTo>
                      <a:pt x="0" y="35"/>
                    </a:moveTo>
                    <a:lnTo>
                      <a:pt x="167" y="52"/>
                    </a:lnTo>
                    <a:lnTo>
                      <a:pt x="172" y="17"/>
                    </a:lnTo>
                    <a:lnTo>
                      <a:pt x="0" y="0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ccbd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6686640" y="2411640"/>
                <a:ext cx="55440" cy="17280"/>
              </a:xfrm>
              <a:custGeom>
                <a:avLst/>
                <a:gdLst/>
                <a:ahLst/>
                <a:rect l="l" t="t" r="r" b="b"/>
                <a:pathLst>
                  <a:path w="172" h="52">
                    <a:moveTo>
                      <a:pt x="0" y="35"/>
                    </a:moveTo>
                    <a:lnTo>
                      <a:pt x="167" y="52"/>
                    </a:lnTo>
                    <a:lnTo>
                      <a:pt x="172" y="17"/>
                    </a:lnTo>
                    <a:lnTo>
                      <a:pt x="0" y="0"/>
                    </a:lnTo>
                    <a:lnTo>
                      <a:pt x="0" y="35"/>
                    </a:lnTo>
                  </a:path>
                </a:pathLst>
              </a:custGeom>
              <a:noFill/>
              <a:ln w="3240">
                <a:solidFill>
                  <a:srgbClr val="3e495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6694560" y="2395440"/>
                <a:ext cx="39600" cy="20880"/>
              </a:xfrm>
              <a:custGeom>
                <a:avLst/>
                <a:gdLst/>
                <a:ahLst/>
                <a:rect l="l" t="t" r="r" b="b"/>
                <a:pathLst>
                  <a:path w="125" h="64">
                    <a:moveTo>
                      <a:pt x="0" y="52"/>
                    </a:moveTo>
                    <a:lnTo>
                      <a:pt x="21" y="0"/>
                    </a:lnTo>
                    <a:lnTo>
                      <a:pt x="115" y="10"/>
                    </a:lnTo>
                    <a:lnTo>
                      <a:pt x="125" y="64"/>
                    </a:lnTo>
                    <a:lnTo>
                      <a:pt x="0" y="52"/>
                    </a:lnTo>
                    <a:close/>
                  </a:path>
                </a:pathLst>
              </a:custGeom>
              <a:solidFill>
                <a:srgbClr val="ccbd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6694560" y="2395440"/>
                <a:ext cx="39600" cy="20880"/>
              </a:xfrm>
              <a:custGeom>
                <a:avLst/>
                <a:gdLst/>
                <a:ahLst/>
                <a:rect l="l" t="t" r="r" b="b"/>
                <a:pathLst>
                  <a:path w="125" h="64">
                    <a:moveTo>
                      <a:pt x="0" y="52"/>
                    </a:moveTo>
                    <a:lnTo>
                      <a:pt x="21" y="0"/>
                    </a:lnTo>
                    <a:lnTo>
                      <a:pt x="115" y="10"/>
                    </a:lnTo>
                    <a:lnTo>
                      <a:pt x="125" y="64"/>
                    </a:lnTo>
                    <a:lnTo>
                      <a:pt x="0" y="52"/>
                    </a:lnTo>
                  </a:path>
                </a:pathLst>
              </a:custGeom>
              <a:noFill/>
              <a:ln w="3240">
                <a:solidFill>
                  <a:srgbClr val="3e495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 flipH="1">
                <a:off x="6670800" y="2397240"/>
                <a:ext cx="1440" cy="11160"/>
              </a:xfrm>
              <a:prstGeom prst="line">
                <a:avLst/>
              </a:prstGeom>
              <a:ln w="1440">
                <a:solidFill>
                  <a:srgbClr val="3e49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 flipH="1">
                <a:off x="6675480" y="2397240"/>
                <a:ext cx="1440" cy="11160"/>
              </a:xfrm>
              <a:prstGeom prst="line">
                <a:avLst/>
              </a:prstGeom>
              <a:ln w="1440">
                <a:solidFill>
                  <a:srgbClr val="3e49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 flipH="1">
                <a:off x="6678720" y="2398680"/>
                <a:ext cx="1440" cy="11160"/>
              </a:xfrm>
              <a:prstGeom prst="line">
                <a:avLst/>
              </a:prstGeom>
              <a:ln w="1440">
                <a:solidFill>
                  <a:srgbClr val="3e49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6716520" y="2346480"/>
                <a:ext cx="19080" cy="48960"/>
              </a:xfrm>
              <a:custGeom>
                <a:avLst/>
                <a:gdLst/>
                <a:ahLst/>
                <a:rect l="l" t="t" r="r" b="b"/>
                <a:pathLst>
                  <a:path w="64" h="155">
                    <a:moveTo>
                      <a:pt x="0" y="142"/>
                    </a:moveTo>
                    <a:lnTo>
                      <a:pt x="2" y="137"/>
                    </a:lnTo>
                    <a:lnTo>
                      <a:pt x="3" y="122"/>
                    </a:lnTo>
                    <a:lnTo>
                      <a:pt x="4" y="101"/>
                    </a:lnTo>
                    <a:lnTo>
                      <a:pt x="5" y="76"/>
                    </a:lnTo>
                    <a:lnTo>
                      <a:pt x="7" y="53"/>
                    </a:lnTo>
                    <a:lnTo>
                      <a:pt x="9" y="31"/>
                    </a:lnTo>
                    <a:lnTo>
                      <a:pt x="11" y="16"/>
                    </a:lnTo>
                    <a:lnTo>
                      <a:pt x="13" y="10"/>
                    </a:lnTo>
                    <a:lnTo>
                      <a:pt x="15" y="7"/>
                    </a:lnTo>
                    <a:lnTo>
                      <a:pt x="18" y="5"/>
                    </a:lnTo>
                    <a:lnTo>
                      <a:pt x="22" y="3"/>
                    </a:lnTo>
                    <a:lnTo>
                      <a:pt x="26" y="2"/>
                    </a:lnTo>
                    <a:lnTo>
                      <a:pt x="32" y="1"/>
                    </a:lnTo>
                    <a:lnTo>
                      <a:pt x="37" y="0"/>
                    </a:lnTo>
                    <a:lnTo>
                      <a:pt x="44" y="1"/>
                    </a:lnTo>
                    <a:lnTo>
                      <a:pt x="50" y="2"/>
                    </a:lnTo>
                    <a:lnTo>
                      <a:pt x="56" y="3"/>
                    </a:lnTo>
                    <a:lnTo>
                      <a:pt x="59" y="5"/>
                    </a:lnTo>
                    <a:lnTo>
                      <a:pt x="62" y="10"/>
                    </a:lnTo>
                    <a:lnTo>
                      <a:pt x="63" y="15"/>
                    </a:lnTo>
                    <a:lnTo>
                      <a:pt x="64" y="21"/>
                    </a:lnTo>
                    <a:lnTo>
                      <a:pt x="63" y="30"/>
                    </a:lnTo>
                    <a:lnTo>
                      <a:pt x="61" y="41"/>
                    </a:lnTo>
                    <a:lnTo>
                      <a:pt x="58" y="54"/>
                    </a:lnTo>
                    <a:lnTo>
                      <a:pt x="56" y="69"/>
                    </a:lnTo>
                    <a:lnTo>
                      <a:pt x="52" y="85"/>
                    </a:lnTo>
                    <a:lnTo>
                      <a:pt x="50" y="101"/>
                    </a:lnTo>
                    <a:lnTo>
                      <a:pt x="47" y="116"/>
                    </a:lnTo>
                    <a:lnTo>
                      <a:pt x="45" y="129"/>
                    </a:lnTo>
                    <a:lnTo>
                      <a:pt x="43" y="140"/>
                    </a:lnTo>
                    <a:lnTo>
                      <a:pt x="40" y="149"/>
                    </a:lnTo>
                    <a:lnTo>
                      <a:pt x="38" y="152"/>
                    </a:lnTo>
                    <a:lnTo>
                      <a:pt x="36" y="154"/>
                    </a:lnTo>
                    <a:lnTo>
                      <a:pt x="31" y="155"/>
                    </a:lnTo>
                    <a:lnTo>
                      <a:pt x="24" y="155"/>
                    </a:lnTo>
                    <a:lnTo>
                      <a:pt x="18" y="155"/>
                    </a:lnTo>
                    <a:lnTo>
                      <a:pt x="11" y="153"/>
                    </a:lnTo>
                    <a:lnTo>
                      <a:pt x="6" y="151"/>
                    </a:lnTo>
                    <a:lnTo>
                      <a:pt x="4" y="150"/>
                    </a:lnTo>
                    <a:lnTo>
                      <a:pt x="2" y="148"/>
                    </a:lnTo>
                    <a:lnTo>
                      <a:pt x="0" y="146"/>
                    </a:lnTo>
                    <a:lnTo>
                      <a:pt x="0" y="142"/>
                    </a:lnTo>
                    <a:close/>
                  </a:path>
                </a:pathLst>
              </a:custGeom>
              <a:solidFill>
                <a:srgbClr val="b5b5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6716520" y="2352600"/>
                <a:ext cx="17640" cy="41400"/>
              </a:xfrm>
              <a:custGeom>
                <a:avLst/>
                <a:gdLst/>
                <a:ahLst/>
                <a:rect l="l" t="t" r="r" b="b"/>
                <a:pathLst>
                  <a:path w="53" h="131">
                    <a:moveTo>
                      <a:pt x="0" y="120"/>
                    </a:moveTo>
                    <a:lnTo>
                      <a:pt x="0" y="116"/>
                    </a:lnTo>
                    <a:lnTo>
                      <a:pt x="1" y="103"/>
                    </a:lnTo>
                    <a:lnTo>
                      <a:pt x="2" y="86"/>
                    </a:lnTo>
                    <a:lnTo>
                      <a:pt x="3" y="65"/>
                    </a:lnTo>
                    <a:lnTo>
                      <a:pt x="5" y="44"/>
                    </a:lnTo>
                    <a:lnTo>
                      <a:pt x="7" y="25"/>
                    </a:lnTo>
                    <a:lnTo>
                      <a:pt x="8" y="12"/>
                    </a:lnTo>
                    <a:lnTo>
                      <a:pt x="9" y="7"/>
                    </a:lnTo>
                    <a:lnTo>
                      <a:pt x="11" y="5"/>
                    </a:lnTo>
                    <a:lnTo>
                      <a:pt x="14" y="4"/>
                    </a:lnTo>
                    <a:lnTo>
                      <a:pt x="17" y="2"/>
                    </a:lnTo>
                    <a:lnTo>
                      <a:pt x="21" y="0"/>
                    </a:lnTo>
                    <a:lnTo>
                      <a:pt x="26" y="0"/>
                    </a:lnTo>
                    <a:lnTo>
                      <a:pt x="31" y="0"/>
                    </a:lnTo>
                    <a:lnTo>
                      <a:pt x="36" y="0"/>
                    </a:lnTo>
                    <a:lnTo>
                      <a:pt x="42" y="2"/>
                    </a:lnTo>
                    <a:lnTo>
                      <a:pt x="46" y="4"/>
                    </a:lnTo>
                    <a:lnTo>
                      <a:pt x="49" y="6"/>
                    </a:lnTo>
                    <a:lnTo>
                      <a:pt x="52" y="9"/>
                    </a:lnTo>
                    <a:lnTo>
                      <a:pt x="53" y="13"/>
                    </a:lnTo>
                    <a:lnTo>
                      <a:pt x="53" y="19"/>
                    </a:lnTo>
                    <a:lnTo>
                      <a:pt x="53" y="26"/>
                    </a:lnTo>
                    <a:lnTo>
                      <a:pt x="52" y="35"/>
                    </a:lnTo>
                    <a:lnTo>
                      <a:pt x="49" y="47"/>
                    </a:lnTo>
                    <a:lnTo>
                      <a:pt x="46" y="59"/>
                    </a:lnTo>
                    <a:lnTo>
                      <a:pt x="43" y="73"/>
                    </a:lnTo>
                    <a:lnTo>
                      <a:pt x="41" y="86"/>
                    </a:lnTo>
                    <a:lnTo>
                      <a:pt x="39" y="99"/>
                    </a:lnTo>
                    <a:lnTo>
                      <a:pt x="36" y="110"/>
                    </a:lnTo>
                    <a:lnTo>
                      <a:pt x="34" y="119"/>
                    </a:lnTo>
                    <a:lnTo>
                      <a:pt x="33" y="125"/>
                    </a:lnTo>
                    <a:lnTo>
                      <a:pt x="32" y="128"/>
                    </a:lnTo>
                    <a:lnTo>
                      <a:pt x="29" y="130"/>
                    </a:lnTo>
                    <a:lnTo>
                      <a:pt x="26" y="131"/>
                    </a:lnTo>
                    <a:lnTo>
                      <a:pt x="19" y="131"/>
                    </a:lnTo>
                    <a:lnTo>
                      <a:pt x="14" y="131"/>
                    </a:lnTo>
                    <a:lnTo>
                      <a:pt x="8" y="130"/>
                    </a:lnTo>
                    <a:lnTo>
                      <a:pt x="3" y="128"/>
                    </a:lnTo>
                    <a:lnTo>
                      <a:pt x="1" y="127"/>
                    </a:lnTo>
                    <a:lnTo>
                      <a:pt x="0" y="125"/>
                    </a:lnTo>
                    <a:lnTo>
                      <a:pt x="0" y="123"/>
                    </a:lnTo>
                    <a:lnTo>
                      <a:pt x="0" y="120"/>
                    </a:lnTo>
                    <a:close/>
                  </a:path>
                </a:pathLst>
              </a:custGeom>
              <a:solidFill>
                <a:srgbClr val="c2c2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6718320" y="2359080"/>
                <a:ext cx="14400" cy="34920"/>
              </a:xfrm>
              <a:custGeom>
                <a:avLst/>
                <a:gdLst/>
                <a:ahLst/>
                <a:rect l="l" t="t" r="r" b="b"/>
                <a:pathLst>
                  <a:path w="45" h="108">
                    <a:moveTo>
                      <a:pt x="0" y="99"/>
                    </a:moveTo>
                    <a:lnTo>
                      <a:pt x="0" y="96"/>
                    </a:lnTo>
                    <a:lnTo>
                      <a:pt x="1" y="85"/>
                    </a:lnTo>
                    <a:lnTo>
                      <a:pt x="2" y="71"/>
                    </a:lnTo>
                    <a:lnTo>
                      <a:pt x="4" y="55"/>
                    </a:lnTo>
                    <a:lnTo>
                      <a:pt x="5" y="38"/>
                    </a:lnTo>
                    <a:lnTo>
                      <a:pt x="7" y="23"/>
                    </a:lnTo>
                    <a:lnTo>
                      <a:pt x="9" y="11"/>
                    </a:lnTo>
                    <a:lnTo>
                      <a:pt x="10" y="5"/>
                    </a:lnTo>
                    <a:lnTo>
                      <a:pt x="11" y="4"/>
                    </a:lnTo>
                    <a:lnTo>
                      <a:pt x="13" y="3"/>
                    </a:lnTo>
                    <a:lnTo>
                      <a:pt x="15" y="2"/>
                    </a:lnTo>
                    <a:lnTo>
                      <a:pt x="18" y="1"/>
                    </a:lnTo>
                    <a:lnTo>
                      <a:pt x="21" y="1"/>
                    </a:lnTo>
                    <a:lnTo>
                      <a:pt x="26" y="0"/>
                    </a:lnTo>
                    <a:lnTo>
                      <a:pt x="30" y="0"/>
                    </a:lnTo>
                    <a:lnTo>
                      <a:pt x="34" y="1"/>
                    </a:lnTo>
                    <a:lnTo>
                      <a:pt x="39" y="2"/>
                    </a:lnTo>
                    <a:lnTo>
                      <a:pt x="42" y="4"/>
                    </a:lnTo>
                    <a:lnTo>
                      <a:pt x="44" y="8"/>
                    </a:lnTo>
                    <a:lnTo>
                      <a:pt x="45" y="11"/>
                    </a:lnTo>
                    <a:lnTo>
                      <a:pt x="45" y="16"/>
                    </a:lnTo>
                    <a:lnTo>
                      <a:pt x="44" y="22"/>
                    </a:lnTo>
                    <a:lnTo>
                      <a:pt x="43" y="29"/>
                    </a:lnTo>
                    <a:lnTo>
                      <a:pt x="42" y="38"/>
                    </a:lnTo>
                    <a:lnTo>
                      <a:pt x="39" y="49"/>
                    </a:lnTo>
                    <a:lnTo>
                      <a:pt x="37" y="59"/>
                    </a:lnTo>
                    <a:lnTo>
                      <a:pt x="34" y="70"/>
                    </a:lnTo>
                    <a:lnTo>
                      <a:pt x="32" y="81"/>
                    </a:lnTo>
                    <a:lnTo>
                      <a:pt x="31" y="90"/>
                    </a:lnTo>
                    <a:lnTo>
                      <a:pt x="29" y="97"/>
                    </a:lnTo>
                    <a:lnTo>
                      <a:pt x="28" y="103"/>
                    </a:lnTo>
                    <a:lnTo>
                      <a:pt x="27" y="105"/>
                    </a:lnTo>
                    <a:lnTo>
                      <a:pt x="25" y="106"/>
                    </a:lnTo>
                    <a:lnTo>
                      <a:pt x="21" y="107"/>
                    </a:lnTo>
                    <a:lnTo>
                      <a:pt x="17" y="108"/>
                    </a:lnTo>
                    <a:lnTo>
                      <a:pt x="13" y="108"/>
                    </a:lnTo>
                    <a:lnTo>
                      <a:pt x="7" y="107"/>
                    </a:lnTo>
                    <a:lnTo>
                      <a:pt x="4" y="106"/>
                    </a:lnTo>
                    <a:lnTo>
                      <a:pt x="1" y="103"/>
                    </a:lnTo>
                    <a:lnTo>
                      <a:pt x="0" y="99"/>
                    </a:lnTo>
                    <a:close/>
                  </a:path>
                </a:pathLst>
              </a:custGeom>
              <a:solidFill>
                <a:srgbClr val="cc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6718320" y="2367000"/>
                <a:ext cx="11160" cy="27000"/>
              </a:xfrm>
              <a:custGeom>
                <a:avLst/>
                <a:gdLst/>
                <a:ahLst/>
                <a:rect l="l" t="t" r="r" b="b"/>
                <a:pathLst>
                  <a:path w="36" h="83">
                    <a:moveTo>
                      <a:pt x="0" y="76"/>
                    </a:moveTo>
                    <a:lnTo>
                      <a:pt x="1" y="74"/>
                    </a:lnTo>
                    <a:lnTo>
                      <a:pt x="1" y="66"/>
                    </a:lnTo>
                    <a:lnTo>
                      <a:pt x="2" y="55"/>
                    </a:lnTo>
                    <a:lnTo>
                      <a:pt x="3" y="42"/>
                    </a:lnTo>
                    <a:lnTo>
                      <a:pt x="4" y="29"/>
                    </a:lnTo>
                    <a:lnTo>
                      <a:pt x="5" y="17"/>
                    </a:lnTo>
                    <a:lnTo>
                      <a:pt x="7" y="8"/>
                    </a:lnTo>
                    <a:lnTo>
                      <a:pt x="8" y="5"/>
                    </a:lnTo>
                    <a:lnTo>
                      <a:pt x="9" y="4"/>
                    </a:lnTo>
                    <a:lnTo>
                      <a:pt x="11" y="3"/>
                    </a:lnTo>
                    <a:lnTo>
                      <a:pt x="13" y="2"/>
                    </a:lnTo>
                    <a:lnTo>
                      <a:pt x="16" y="1"/>
                    </a:lnTo>
                    <a:lnTo>
                      <a:pt x="18" y="0"/>
                    </a:lnTo>
                    <a:lnTo>
                      <a:pt x="22" y="0"/>
                    </a:lnTo>
                    <a:lnTo>
                      <a:pt x="25" y="0"/>
                    </a:lnTo>
                    <a:lnTo>
                      <a:pt x="28" y="0"/>
                    </a:lnTo>
                    <a:lnTo>
                      <a:pt x="31" y="1"/>
                    </a:lnTo>
                    <a:lnTo>
                      <a:pt x="34" y="3"/>
                    </a:lnTo>
                    <a:lnTo>
                      <a:pt x="35" y="5"/>
                    </a:lnTo>
                    <a:lnTo>
                      <a:pt x="36" y="7"/>
                    </a:lnTo>
                    <a:lnTo>
                      <a:pt x="36" y="12"/>
                    </a:lnTo>
                    <a:lnTo>
                      <a:pt x="36" y="16"/>
                    </a:lnTo>
                    <a:lnTo>
                      <a:pt x="35" y="22"/>
                    </a:lnTo>
                    <a:lnTo>
                      <a:pt x="32" y="30"/>
                    </a:lnTo>
                    <a:lnTo>
                      <a:pt x="30" y="37"/>
                    </a:lnTo>
                    <a:lnTo>
                      <a:pt x="29" y="46"/>
                    </a:lnTo>
                    <a:lnTo>
                      <a:pt x="28" y="54"/>
                    </a:lnTo>
                    <a:lnTo>
                      <a:pt x="27" y="62"/>
                    </a:lnTo>
                    <a:lnTo>
                      <a:pt x="26" y="69"/>
                    </a:lnTo>
                    <a:lnTo>
                      <a:pt x="25" y="75"/>
                    </a:lnTo>
                    <a:lnTo>
                      <a:pt x="24" y="80"/>
                    </a:lnTo>
                    <a:lnTo>
                      <a:pt x="23" y="82"/>
                    </a:lnTo>
                    <a:lnTo>
                      <a:pt x="21" y="83"/>
                    </a:lnTo>
                    <a:lnTo>
                      <a:pt x="18" y="83"/>
                    </a:lnTo>
                    <a:lnTo>
                      <a:pt x="14" y="83"/>
                    </a:lnTo>
                    <a:lnTo>
                      <a:pt x="11" y="83"/>
                    </a:lnTo>
                    <a:lnTo>
                      <a:pt x="7" y="82"/>
                    </a:lnTo>
                    <a:lnTo>
                      <a:pt x="3" y="81"/>
                    </a:lnTo>
                    <a:lnTo>
                      <a:pt x="1" y="80"/>
                    </a:lnTo>
                    <a:lnTo>
                      <a:pt x="0" y="76"/>
                    </a:lnTo>
                    <a:close/>
                  </a:path>
                </a:pathLst>
              </a:custGeom>
              <a:solidFill>
                <a:srgbClr val="dbdb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6719760" y="2373480"/>
                <a:ext cx="7920" cy="19080"/>
              </a:xfrm>
              <a:custGeom>
                <a:avLst/>
                <a:gdLst/>
                <a:ahLst/>
                <a:rect l="l" t="t" r="r" b="b"/>
                <a:pathLst>
                  <a:path w="24" h="60">
                    <a:moveTo>
                      <a:pt x="0" y="53"/>
                    </a:moveTo>
                    <a:lnTo>
                      <a:pt x="0" y="51"/>
                    </a:lnTo>
                    <a:lnTo>
                      <a:pt x="0" y="46"/>
                    </a:lnTo>
                    <a:lnTo>
                      <a:pt x="2" y="38"/>
                    </a:lnTo>
                    <a:lnTo>
                      <a:pt x="2" y="29"/>
                    </a:lnTo>
                    <a:lnTo>
                      <a:pt x="3" y="21"/>
                    </a:lnTo>
                    <a:lnTo>
                      <a:pt x="4" y="12"/>
                    </a:lnTo>
                    <a:lnTo>
                      <a:pt x="5" y="7"/>
                    </a:lnTo>
                    <a:lnTo>
                      <a:pt x="5" y="4"/>
                    </a:lnTo>
                    <a:lnTo>
                      <a:pt x="6" y="2"/>
                    </a:lnTo>
                    <a:lnTo>
                      <a:pt x="7" y="2"/>
                    </a:lnTo>
                    <a:lnTo>
                      <a:pt x="8" y="1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6" y="0"/>
                    </a:lnTo>
                    <a:lnTo>
                      <a:pt x="18" y="1"/>
                    </a:lnTo>
                    <a:lnTo>
                      <a:pt x="20" y="1"/>
                    </a:lnTo>
                    <a:lnTo>
                      <a:pt x="22" y="2"/>
                    </a:lnTo>
                    <a:lnTo>
                      <a:pt x="23" y="4"/>
                    </a:lnTo>
                    <a:lnTo>
                      <a:pt x="24" y="6"/>
                    </a:lnTo>
                    <a:lnTo>
                      <a:pt x="24" y="8"/>
                    </a:lnTo>
                    <a:lnTo>
                      <a:pt x="24" y="12"/>
                    </a:lnTo>
                    <a:lnTo>
                      <a:pt x="23" y="16"/>
                    </a:lnTo>
                    <a:lnTo>
                      <a:pt x="23" y="21"/>
                    </a:lnTo>
                    <a:lnTo>
                      <a:pt x="22" y="27"/>
                    </a:lnTo>
                    <a:lnTo>
                      <a:pt x="20" y="33"/>
                    </a:lnTo>
                    <a:lnTo>
                      <a:pt x="19" y="39"/>
                    </a:lnTo>
                    <a:lnTo>
                      <a:pt x="18" y="45"/>
                    </a:lnTo>
                    <a:lnTo>
                      <a:pt x="17" y="49"/>
                    </a:lnTo>
                    <a:lnTo>
                      <a:pt x="16" y="53"/>
                    </a:lnTo>
                    <a:lnTo>
                      <a:pt x="16" y="56"/>
                    </a:lnTo>
                    <a:lnTo>
                      <a:pt x="16" y="59"/>
                    </a:lnTo>
                    <a:lnTo>
                      <a:pt x="13" y="59"/>
                    </a:lnTo>
                    <a:lnTo>
                      <a:pt x="11" y="60"/>
                    </a:lnTo>
                    <a:lnTo>
                      <a:pt x="9" y="60"/>
                    </a:lnTo>
                    <a:lnTo>
                      <a:pt x="6" y="60"/>
                    </a:lnTo>
                    <a:lnTo>
                      <a:pt x="4" y="59"/>
                    </a:lnTo>
                    <a:lnTo>
                      <a:pt x="2" y="58"/>
                    </a:lnTo>
                    <a:lnTo>
                      <a:pt x="0" y="55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e8e8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6721560" y="2381400"/>
                <a:ext cx="4680" cy="11160"/>
              </a:xfrm>
              <a:custGeom>
                <a:avLst/>
                <a:gdLst/>
                <a:ahLst/>
                <a:rect l="l" t="t" r="r" b="b"/>
                <a:pathLst>
                  <a:path w="14" h="35">
                    <a:moveTo>
                      <a:pt x="0" y="30"/>
                    </a:moveTo>
                    <a:lnTo>
                      <a:pt x="0" y="29"/>
                    </a:lnTo>
                    <a:lnTo>
                      <a:pt x="1" y="26"/>
                    </a:lnTo>
                    <a:lnTo>
                      <a:pt x="1" y="22"/>
                    </a:lnTo>
                    <a:lnTo>
                      <a:pt x="1" y="16"/>
                    </a:lnTo>
                    <a:lnTo>
                      <a:pt x="2" y="11"/>
                    </a:lnTo>
                    <a:lnTo>
                      <a:pt x="2" y="6"/>
                    </a:lnTo>
                    <a:lnTo>
                      <a:pt x="2" y="2"/>
                    </a:lnTo>
                    <a:lnTo>
                      <a:pt x="2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4" y="1"/>
                    </a:lnTo>
                    <a:lnTo>
                      <a:pt x="14" y="2"/>
                    </a:lnTo>
                    <a:lnTo>
                      <a:pt x="14" y="3"/>
                    </a:lnTo>
                    <a:lnTo>
                      <a:pt x="14" y="4"/>
                    </a:lnTo>
                    <a:lnTo>
                      <a:pt x="14" y="5"/>
                    </a:lnTo>
                    <a:lnTo>
                      <a:pt x="13" y="8"/>
                    </a:lnTo>
                    <a:lnTo>
                      <a:pt x="13" y="11"/>
                    </a:lnTo>
                    <a:lnTo>
                      <a:pt x="13" y="14"/>
                    </a:lnTo>
                    <a:lnTo>
                      <a:pt x="11" y="18"/>
                    </a:lnTo>
                    <a:lnTo>
                      <a:pt x="11" y="22"/>
                    </a:lnTo>
                    <a:lnTo>
                      <a:pt x="11" y="25"/>
                    </a:lnTo>
                    <a:lnTo>
                      <a:pt x="10" y="28"/>
                    </a:lnTo>
                    <a:lnTo>
                      <a:pt x="10" y="30"/>
                    </a:lnTo>
                    <a:lnTo>
                      <a:pt x="9" y="32"/>
                    </a:lnTo>
                    <a:lnTo>
                      <a:pt x="9" y="32"/>
                    </a:lnTo>
                    <a:lnTo>
                      <a:pt x="8" y="33"/>
                    </a:lnTo>
                    <a:lnTo>
                      <a:pt x="7" y="35"/>
                    </a:lnTo>
                    <a:lnTo>
                      <a:pt x="5" y="35"/>
                    </a:lnTo>
                    <a:lnTo>
                      <a:pt x="4" y="35"/>
                    </a:lnTo>
                    <a:lnTo>
                      <a:pt x="2" y="33"/>
                    </a:lnTo>
                    <a:lnTo>
                      <a:pt x="1" y="33"/>
                    </a:lnTo>
                    <a:lnTo>
                      <a:pt x="1" y="32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f9f9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6715080" y="2400480"/>
                <a:ext cx="14400" cy="12600"/>
              </a:xfrm>
              <a:custGeom>
                <a:avLst/>
                <a:gdLst/>
                <a:ahLst/>
                <a:rect l="l" t="t" r="r" b="b"/>
                <a:pathLst>
                  <a:path w="44" h="40">
                    <a:moveTo>
                      <a:pt x="4" y="0"/>
                    </a:moveTo>
                    <a:lnTo>
                      <a:pt x="40" y="4"/>
                    </a:lnTo>
                    <a:lnTo>
                      <a:pt x="40" y="5"/>
                    </a:lnTo>
                    <a:lnTo>
                      <a:pt x="40" y="8"/>
                    </a:lnTo>
                    <a:lnTo>
                      <a:pt x="41" y="12"/>
                    </a:lnTo>
                    <a:lnTo>
                      <a:pt x="42" y="18"/>
                    </a:lnTo>
                    <a:lnTo>
                      <a:pt x="43" y="24"/>
                    </a:lnTo>
                    <a:lnTo>
                      <a:pt x="43" y="30"/>
                    </a:lnTo>
                    <a:lnTo>
                      <a:pt x="44" y="34"/>
                    </a:lnTo>
                    <a:lnTo>
                      <a:pt x="44" y="38"/>
                    </a:lnTo>
                    <a:lnTo>
                      <a:pt x="44" y="39"/>
                    </a:lnTo>
                    <a:lnTo>
                      <a:pt x="43" y="40"/>
                    </a:lnTo>
                    <a:lnTo>
                      <a:pt x="41" y="40"/>
                    </a:lnTo>
                    <a:lnTo>
                      <a:pt x="39" y="40"/>
                    </a:lnTo>
                    <a:lnTo>
                      <a:pt x="35" y="40"/>
                    </a:lnTo>
                    <a:lnTo>
                      <a:pt x="31" y="39"/>
                    </a:lnTo>
                    <a:lnTo>
                      <a:pt x="26" y="39"/>
                    </a:lnTo>
                    <a:lnTo>
                      <a:pt x="20" y="38"/>
                    </a:lnTo>
                    <a:lnTo>
                      <a:pt x="14" y="38"/>
                    </a:lnTo>
                    <a:lnTo>
                      <a:pt x="10" y="37"/>
                    </a:lnTo>
                    <a:lnTo>
                      <a:pt x="6" y="35"/>
                    </a:lnTo>
                    <a:lnTo>
                      <a:pt x="2" y="33"/>
                    </a:lnTo>
                    <a:lnTo>
                      <a:pt x="0" y="27"/>
                    </a:lnTo>
                    <a:lnTo>
                      <a:pt x="0" y="21"/>
                    </a:lnTo>
                    <a:lnTo>
                      <a:pt x="1" y="12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dfb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6710400" y="2328840"/>
                <a:ext cx="27000" cy="4680"/>
              </a:xfrm>
              <a:custGeom>
                <a:avLst/>
                <a:gdLst/>
                <a:ahLst/>
                <a:rect l="l" t="t" r="r" b="b"/>
                <a:pathLst>
                  <a:path w="87" h="15">
                    <a:moveTo>
                      <a:pt x="45" y="13"/>
                    </a:moveTo>
                    <a:lnTo>
                      <a:pt x="44" y="13"/>
                    </a:lnTo>
                    <a:lnTo>
                      <a:pt x="42" y="12"/>
                    </a:lnTo>
                    <a:lnTo>
                      <a:pt x="38" y="12"/>
                    </a:lnTo>
                    <a:lnTo>
                      <a:pt x="32" y="11"/>
                    </a:lnTo>
                    <a:lnTo>
                      <a:pt x="27" y="9"/>
                    </a:lnTo>
                    <a:lnTo>
                      <a:pt x="20" y="8"/>
                    </a:lnTo>
                    <a:lnTo>
                      <a:pt x="14" y="6"/>
                    </a:lnTo>
                    <a:lnTo>
                      <a:pt x="9" y="5"/>
                    </a:lnTo>
                    <a:lnTo>
                      <a:pt x="3" y="3"/>
                    </a:lnTo>
                    <a:lnTo>
                      <a:pt x="1" y="2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9" y="0"/>
                    </a:lnTo>
                    <a:lnTo>
                      <a:pt x="17" y="0"/>
                    </a:lnTo>
                    <a:lnTo>
                      <a:pt x="30" y="1"/>
                    </a:lnTo>
                    <a:lnTo>
                      <a:pt x="45" y="2"/>
                    </a:lnTo>
                    <a:lnTo>
                      <a:pt x="62" y="4"/>
                    </a:lnTo>
                    <a:lnTo>
                      <a:pt x="75" y="7"/>
                    </a:lnTo>
                    <a:lnTo>
                      <a:pt x="83" y="9"/>
                    </a:lnTo>
                    <a:lnTo>
                      <a:pt x="87" y="12"/>
                    </a:lnTo>
                    <a:lnTo>
                      <a:pt x="87" y="13"/>
                    </a:lnTo>
                    <a:lnTo>
                      <a:pt x="86" y="14"/>
                    </a:lnTo>
                    <a:lnTo>
                      <a:pt x="83" y="14"/>
                    </a:lnTo>
                    <a:lnTo>
                      <a:pt x="80" y="15"/>
                    </a:lnTo>
                    <a:lnTo>
                      <a:pt x="66" y="14"/>
                    </a:lnTo>
                    <a:lnTo>
                      <a:pt x="45" y="13"/>
                    </a:lnTo>
                    <a:close/>
                  </a:path>
                </a:pathLst>
              </a:custGeom>
              <a:solidFill>
                <a:srgbClr val="5173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6738840" y="1763640"/>
                <a:ext cx="52560" cy="39960"/>
              </a:xfrm>
              <a:custGeom>
                <a:avLst/>
                <a:gdLst/>
                <a:ahLst/>
                <a:rect l="l" t="t" r="r" b="b"/>
                <a:pathLst>
                  <a:path w="165" h="129">
                    <a:moveTo>
                      <a:pt x="0" y="16"/>
                    </a:moveTo>
                    <a:lnTo>
                      <a:pt x="1" y="15"/>
                    </a:lnTo>
                    <a:lnTo>
                      <a:pt x="4" y="13"/>
                    </a:lnTo>
                    <a:lnTo>
                      <a:pt x="9" y="8"/>
                    </a:lnTo>
                    <a:lnTo>
                      <a:pt x="16" y="5"/>
                    </a:lnTo>
                    <a:lnTo>
                      <a:pt x="23" y="2"/>
                    </a:lnTo>
                    <a:lnTo>
                      <a:pt x="31" y="1"/>
                    </a:lnTo>
                    <a:lnTo>
                      <a:pt x="34" y="0"/>
                    </a:lnTo>
                    <a:lnTo>
                      <a:pt x="38" y="1"/>
                    </a:lnTo>
                    <a:lnTo>
                      <a:pt x="41" y="2"/>
                    </a:lnTo>
                    <a:lnTo>
                      <a:pt x="44" y="4"/>
                    </a:lnTo>
                    <a:lnTo>
                      <a:pt x="54" y="13"/>
                    </a:lnTo>
                    <a:lnTo>
                      <a:pt x="70" y="28"/>
                    </a:lnTo>
                    <a:lnTo>
                      <a:pt x="89" y="46"/>
                    </a:lnTo>
                    <a:lnTo>
                      <a:pt x="111" y="68"/>
                    </a:lnTo>
                    <a:lnTo>
                      <a:pt x="131" y="88"/>
                    </a:lnTo>
                    <a:lnTo>
                      <a:pt x="149" y="106"/>
                    </a:lnTo>
                    <a:lnTo>
                      <a:pt x="161" y="118"/>
                    </a:lnTo>
                    <a:lnTo>
                      <a:pt x="165" y="122"/>
                    </a:lnTo>
                    <a:lnTo>
                      <a:pt x="115" y="129"/>
                    </a:lnTo>
                    <a:lnTo>
                      <a:pt x="112" y="125"/>
                    </a:lnTo>
                    <a:lnTo>
                      <a:pt x="103" y="112"/>
                    </a:lnTo>
                    <a:lnTo>
                      <a:pt x="90" y="95"/>
                    </a:lnTo>
                    <a:lnTo>
                      <a:pt x="75" y="74"/>
                    </a:lnTo>
                    <a:lnTo>
                      <a:pt x="60" y="54"/>
                    </a:lnTo>
                    <a:lnTo>
                      <a:pt x="45" y="37"/>
                    </a:lnTo>
                    <a:lnTo>
                      <a:pt x="40" y="30"/>
                    </a:lnTo>
                    <a:lnTo>
                      <a:pt x="34" y="25"/>
                    </a:lnTo>
                    <a:lnTo>
                      <a:pt x="30" y="21"/>
                    </a:lnTo>
                    <a:lnTo>
                      <a:pt x="27" y="21"/>
                    </a:lnTo>
                    <a:lnTo>
                      <a:pt x="21" y="20"/>
                    </a:lnTo>
                    <a:lnTo>
                      <a:pt x="17" y="20"/>
                    </a:lnTo>
                    <a:lnTo>
                      <a:pt x="13" y="19"/>
                    </a:lnTo>
                    <a:lnTo>
                      <a:pt x="8" y="18"/>
                    </a:lnTo>
                    <a:lnTo>
                      <a:pt x="5" y="17"/>
                    </a:lnTo>
                    <a:lnTo>
                      <a:pt x="2" y="17"/>
                    </a:lnTo>
                    <a:lnTo>
                      <a:pt x="0" y="16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e1e8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6738840" y="1763640"/>
                <a:ext cx="52560" cy="39960"/>
              </a:xfrm>
              <a:custGeom>
                <a:avLst/>
                <a:gdLst/>
                <a:ahLst/>
                <a:rect l="l" t="t" r="r" b="b"/>
                <a:pathLst>
                  <a:path w="165" h="129">
                    <a:moveTo>
                      <a:pt x="0" y="16"/>
                    </a:moveTo>
                    <a:lnTo>
                      <a:pt x="1" y="15"/>
                    </a:lnTo>
                    <a:lnTo>
                      <a:pt x="4" y="13"/>
                    </a:lnTo>
                    <a:lnTo>
                      <a:pt x="9" y="8"/>
                    </a:lnTo>
                    <a:lnTo>
                      <a:pt x="16" y="5"/>
                    </a:lnTo>
                    <a:lnTo>
                      <a:pt x="23" y="2"/>
                    </a:lnTo>
                    <a:lnTo>
                      <a:pt x="31" y="1"/>
                    </a:lnTo>
                    <a:lnTo>
                      <a:pt x="34" y="0"/>
                    </a:lnTo>
                    <a:lnTo>
                      <a:pt x="38" y="1"/>
                    </a:lnTo>
                    <a:lnTo>
                      <a:pt x="41" y="2"/>
                    </a:lnTo>
                    <a:lnTo>
                      <a:pt x="44" y="4"/>
                    </a:lnTo>
                    <a:lnTo>
                      <a:pt x="54" y="13"/>
                    </a:lnTo>
                    <a:lnTo>
                      <a:pt x="70" y="28"/>
                    </a:lnTo>
                    <a:lnTo>
                      <a:pt x="89" y="46"/>
                    </a:lnTo>
                    <a:lnTo>
                      <a:pt x="111" y="68"/>
                    </a:lnTo>
                    <a:lnTo>
                      <a:pt x="131" y="88"/>
                    </a:lnTo>
                    <a:lnTo>
                      <a:pt x="149" y="106"/>
                    </a:lnTo>
                    <a:lnTo>
                      <a:pt x="161" y="118"/>
                    </a:lnTo>
                    <a:lnTo>
                      <a:pt x="165" y="122"/>
                    </a:lnTo>
                    <a:lnTo>
                      <a:pt x="115" y="129"/>
                    </a:lnTo>
                    <a:lnTo>
                      <a:pt x="112" y="125"/>
                    </a:lnTo>
                    <a:lnTo>
                      <a:pt x="103" y="112"/>
                    </a:lnTo>
                    <a:lnTo>
                      <a:pt x="90" y="95"/>
                    </a:lnTo>
                    <a:lnTo>
                      <a:pt x="75" y="74"/>
                    </a:lnTo>
                    <a:lnTo>
                      <a:pt x="60" y="54"/>
                    </a:lnTo>
                    <a:lnTo>
                      <a:pt x="45" y="37"/>
                    </a:lnTo>
                    <a:lnTo>
                      <a:pt x="40" y="30"/>
                    </a:lnTo>
                    <a:lnTo>
                      <a:pt x="34" y="25"/>
                    </a:lnTo>
                    <a:lnTo>
                      <a:pt x="30" y="21"/>
                    </a:lnTo>
                    <a:lnTo>
                      <a:pt x="27" y="21"/>
                    </a:lnTo>
                    <a:lnTo>
                      <a:pt x="21" y="20"/>
                    </a:lnTo>
                    <a:lnTo>
                      <a:pt x="17" y="20"/>
                    </a:lnTo>
                    <a:lnTo>
                      <a:pt x="13" y="19"/>
                    </a:lnTo>
                    <a:lnTo>
                      <a:pt x="8" y="18"/>
                    </a:lnTo>
                    <a:lnTo>
                      <a:pt x="5" y="17"/>
                    </a:lnTo>
                    <a:lnTo>
                      <a:pt x="2" y="17"/>
                    </a:lnTo>
                    <a:lnTo>
                      <a:pt x="0" y="16"/>
                    </a:lnTo>
                    <a:lnTo>
                      <a:pt x="0" y="16"/>
                    </a:lnTo>
                  </a:path>
                </a:pathLst>
              </a:custGeom>
              <a:noFill/>
              <a:ln w="3240">
                <a:solidFill>
                  <a:srgbClr val="3e495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5697360" y="3605400"/>
                <a:ext cx="2000520" cy="176040"/>
              </a:xfrm>
              <a:custGeom>
                <a:avLst/>
                <a:gdLst/>
                <a:ahLst/>
                <a:rect l="l" t="t" r="r" b="b"/>
                <a:pathLst>
                  <a:path w="6298" h="554">
                    <a:moveTo>
                      <a:pt x="204" y="54"/>
                    </a:moveTo>
                    <a:lnTo>
                      <a:pt x="194" y="46"/>
                    </a:lnTo>
                    <a:lnTo>
                      <a:pt x="169" y="28"/>
                    </a:lnTo>
                    <a:lnTo>
                      <a:pt x="151" y="17"/>
                    </a:lnTo>
                    <a:lnTo>
                      <a:pt x="132" y="8"/>
                    </a:lnTo>
                    <a:lnTo>
                      <a:pt x="122" y="5"/>
                    </a:lnTo>
                    <a:lnTo>
                      <a:pt x="113" y="2"/>
                    </a:lnTo>
                    <a:lnTo>
                      <a:pt x="102" y="0"/>
                    </a:lnTo>
                    <a:lnTo>
                      <a:pt x="92" y="0"/>
                    </a:lnTo>
                    <a:lnTo>
                      <a:pt x="82" y="0"/>
                    </a:lnTo>
                    <a:lnTo>
                      <a:pt x="71" y="2"/>
                    </a:lnTo>
                    <a:lnTo>
                      <a:pt x="62" y="5"/>
                    </a:lnTo>
                    <a:lnTo>
                      <a:pt x="53" y="9"/>
                    </a:lnTo>
                    <a:lnTo>
                      <a:pt x="44" y="16"/>
                    </a:lnTo>
                    <a:lnTo>
                      <a:pt x="36" y="24"/>
                    </a:lnTo>
                    <a:lnTo>
                      <a:pt x="28" y="35"/>
                    </a:lnTo>
                    <a:lnTo>
                      <a:pt x="22" y="48"/>
                    </a:lnTo>
                    <a:lnTo>
                      <a:pt x="15" y="64"/>
                    </a:lnTo>
                    <a:lnTo>
                      <a:pt x="10" y="83"/>
                    </a:lnTo>
                    <a:lnTo>
                      <a:pt x="7" y="103"/>
                    </a:lnTo>
                    <a:lnTo>
                      <a:pt x="3" y="127"/>
                    </a:lnTo>
                    <a:lnTo>
                      <a:pt x="1" y="154"/>
                    </a:lnTo>
                    <a:lnTo>
                      <a:pt x="0" y="184"/>
                    </a:lnTo>
                    <a:lnTo>
                      <a:pt x="1" y="218"/>
                    </a:lnTo>
                    <a:lnTo>
                      <a:pt x="3" y="255"/>
                    </a:lnTo>
                    <a:lnTo>
                      <a:pt x="1106" y="554"/>
                    </a:lnTo>
                    <a:lnTo>
                      <a:pt x="6298" y="353"/>
                    </a:lnTo>
                    <a:lnTo>
                      <a:pt x="6165" y="242"/>
                    </a:lnTo>
                    <a:lnTo>
                      <a:pt x="204" y="54"/>
                    </a:lnTo>
                    <a:close/>
                  </a:path>
                </a:pathLst>
              </a:custGeom>
              <a:solidFill>
                <a:srgbClr val="007d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5300640" y="3730680"/>
                <a:ext cx="804960" cy="1343160"/>
              </a:xfrm>
              <a:custGeom>
                <a:avLst/>
                <a:gdLst/>
                <a:ahLst/>
                <a:rect l="l" t="t" r="r" b="b"/>
                <a:pathLst>
                  <a:path w="2536" h="4230">
                    <a:moveTo>
                      <a:pt x="1800" y="4230"/>
                    </a:moveTo>
                    <a:lnTo>
                      <a:pt x="1791" y="4224"/>
                    </a:lnTo>
                    <a:lnTo>
                      <a:pt x="1783" y="4215"/>
                    </a:lnTo>
                    <a:lnTo>
                      <a:pt x="1775" y="4206"/>
                    </a:lnTo>
                    <a:lnTo>
                      <a:pt x="1768" y="4197"/>
                    </a:lnTo>
                    <a:lnTo>
                      <a:pt x="1761" y="4186"/>
                    </a:lnTo>
                    <a:lnTo>
                      <a:pt x="1756" y="4175"/>
                    </a:lnTo>
                    <a:lnTo>
                      <a:pt x="1750" y="4163"/>
                    </a:lnTo>
                    <a:lnTo>
                      <a:pt x="1746" y="4150"/>
                    </a:lnTo>
                    <a:lnTo>
                      <a:pt x="1742" y="4137"/>
                    </a:lnTo>
                    <a:lnTo>
                      <a:pt x="1738" y="4123"/>
                    </a:lnTo>
                    <a:lnTo>
                      <a:pt x="1735" y="4109"/>
                    </a:lnTo>
                    <a:lnTo>
                      <a:pt x="1732" y="4094"/>
                    </a:lnTo>
                    <a:lnTo>
                      <a:pt x="1729" y="4064"/>
                    </a:lnTo>
                    <a:lnTo>
                      <a:pt x="1727" y="4033"/>
                    </a:lnTo>
                    <a:lnTo>
                      <a:pt x="1727" y="4002"/>
                    </a:lnTo>
                    <a:lnTo>
                      <a:pt x="1728" y="3972"/>
                    </a:lnTo>
                    <a:lnTo>
                      <a:pt x="1730" y="3943"/>
                    </a:lnTo>
                    <a:lnTo>
                      <a:pt x="1734" y="3915"/>
                    </a:lnTo>
                    <a:lnTo>
                      <a:pt x="1738" y="3889"/>
                    </a:lnTo>
                    <a:lnTo>
                      <a:pt x="1744" y="3866"/>
                    </a:lnTo>
                    <a:lnTo>
                      <a:pt x="1749" y="3846"/>
                    </a:lnTo>
                    <a:lnTo>
                      <a:pt x="1756" y="3829"/>
                    </a:lnTo>
                    <a:lnTo>
                      <a:pt x="1761" y="3814"/>
                    </a:lnTo>
                    <a:lnTo>
                      <a:pt x="1763" y="3799"/>
                    </a:lnTo>
                    <a:lnTo>
                      <a:pt x="1765" y="3783"/>
                    </a:lnTo>
                    <a:lnTo>
                      <a:pt x="1765" y="3767"/>
                    </a:lnTo>
                    <a:lnTo>
                      <a:pt x="1763" y="3751"/>
                    </a:lnTo>
                    <a:lnTo>
                      <a:pt x="1760" y="3732"/>
                    </a:lnTo>
                    <a:lnTo>
                      <a:pt x="1756" y="3714"/>
                    </a:lnTo>
                    <a:lnTo>
                      <a:pt x="1751" y="3693"/>
                    </a:lnTo>
                    <a:lnTo>
                      <a:pt x="1738" y="3650"/>
                    </a:lnTo>
                    <a:lnTo>
                      <a:pt x="1722" y="3601"/>
                    </a:lnTo>
                    <a:lnTo>
                      <a:pt x="1706" y="3546"/>
                    </a:lnTo>
                    <a:lnTo>
                      <a:pt x="1689" y="3484"/>
                    </a:lnTo>
                    <a:lnTo>
                      <a:pt x="1686" y="3466"/>
                    </a:lnTo>
                    <a:lnTo>
                      <a:pt x="1682" y="3448"/>
                    </a:lnTo>
                    <a:lnTo>
                      <a:pt x="1680" y="3430"/>
                    </a:lnTo>
                    <a:lnTo>
                      <a:pt x="1679" y="3410"/>
                    </a:lnTo>
                    <a:lnTo>
                      <a:pt x="1678" y="3390"/>
                    </a:lnTo>
                    <a:lnTo>
                      <a:pt x="1678" y="3368"/>
                    </a:lnTo>
                    <a:lnTo>
                      <a:pt x="1679" y="3348"/>
                    </a:lnTo>
                    <a:lnTo>
                      <a:pt x="1680" y="3325"/>
                    </a:lnTo>
                    <a:lnTo>
                      <a:pt x="1684" y="3280"/>
                    </a:lnTo>
                    <a:lnTo>
                      <a:pt x="1690" y="3232"/>
                    </a:lnTo>
                    <a:lnTo>
                      <a:pt x="1696" y="3184"/>
                    </a:lnTo>
                    <a:lnTo>
                      <a:pt x="1704" y="3135"/>
                    </a:lnTo>
                    <a:lnTo>
                      <a:pt x="1720" y="3036"/>
                    </a:lnTo>
                    <a:lnTo>
                      <a:pt x="1734" y="2938"/>
                    </a:lnTo>
                    <a:lnTo>
                      <a:pt x="1740" y="2891"/>
                    </a:lnTo>
                    <a:lnTo>
                      <a:pt x="1743" y="2845"/>
                    </a:lnTo>
                    <a:lnTo>
                      <a:pt x="1744" y="2824"/>
                    </a:lnTo>
                    <a:lnTo>
                      <a:pt x="1744" y="2802"/>
                    </a:lnTo>
                    <a:lnTo>
                      <a:pt x="1744" y="2782"/>
                    </a:lnTo>
                    <a:lnTo>
                      <a:pt x="1743" y="2761"/>
                    </a:lnTo>
                    <a:lnTo>
                      <a:pt x="1743" y="2742"/>
                    </a:lnTo>
                    <a:lnTo>
                      <a:pt x="1743" y="2720"/>
                    </a:lnTo>
                    <a:lnTo>
                      <a:pt x="1744" y="2699"/>
                    </a:lnTo>
                    <a:lnTo>
                      <a:pt x="1745" y="2676"/>
                    </a:lnTo>
                    <a:lnTo>
                      <a:pt x="1750" y="2629"/>
                    </a:lnTo>
                    <a:lnTo>
                      <a:pt x="1757" y="2582"/>
                    </a:lnTo>
                    <a:lnTo>
                      <a:pt x="1765" y="2534"/>
                    </a:lnTo>
                    <a:lnTo>
                      <a:pt x="1775" y="2486"/>
                    </a:lnTo>
                    <a:lnTo>
                      <a:pt x="1786" y="2437"/>
                    </a:lnTo>
                    <a:lnTo>
                      <a:pt x="1798" y="2391"/>
                    </a:lnTo>
                    <a:lnTo>
                      <a:pt x="1810" y="2347"/>
                    </a:lnTo>
                    <a:lnTo>
                      <a:pt x="1822" y="2303"/>
                    </a:lnTo>
                    <a:lnTo>
                      <a:pt x="1834" y="2264"/>
                    </a:lnTo>
                    <a:lnTo>
                      <a:pt x="1845" y="2229"/>
                    </a:lnTo>
                    <a:lnTo>
                      <a:pt x="1864" y="2173"/>
                    </a:lnTo>
                    <a:lnTo>
                      <a:pt x="1877" y="2139"/>
                    </a:lnTo>
                    <a:lnTo>
                      <a:pt x="1881" y="2127"/>
                    </a:lnTo>
                    <a:lnTo>
                      <a:pt x="1883" y="2113"/>
                    </a:lnTo>
                    <a:lnTo>
                      <a:pt x="1885" y="2098"/>
                    </a:lnTo>
                    <a:lnTo>
                      <a:pt x="1888" y="2081"/>
                    </a:lnTo>
                    <a:lnTo>
                      <a:pt x="1889" y="2064"/>
                    </a:lnTo>
                    <a:lnTo>
                      <a:pt x="1889" y="2043"/>
                    </a:lnTo>
                    <a:lnTo>
                      <a:pt x="1888" y="2023"/>
                    </a:lnTo>
                    <a:lnTo>
                      <a:pt x="1885" y="2001"/>
                    </a:lnTo>
                    <a:lnTo>
                      <a:pt x="1883" y="1978"/>
                    </a:lnTo>
                    <a:lnTo>
                      <a:pt x="1880" y="1954"/>
                    </a:lnTo>
                    <a:lnTo>
                      <a:pt x="1877" y="1930"/>
                    </a:lnTo>
                    <a:lnTo>
                      <a:pt x="1871" y="1906"/>
                    </a:lnTo>
                    <a:lnTo>
                      <a:pt x="1866" y="1881"/>
                    </a:lnTo>
                    <a:lnTo>
                      <a:pt x="1859" y="1855"/>
                    </a:lnTo>
                    <a:lnTo>
                      <a:pt x="1853" y="1830"/>
                    </a:lnTo>
                    <a:lnTo>
                      <a:pt x="1844" y="1805"/>
                    </a:lnTo>
                    <a:lnTo>
                      <a:pt x="1836" y="1781"/>
                    </a:lnTo>
                    <a:lnTo>
                      <a:pt x="1825" y="1756"/>
                    </a:lnTo>
                    <a:lnTo>
                      <a:pt x="1814" y="1731"/>
                    </a:lnTo>
                    <a:lnTo>
                      <a:pt x="1801" y="1706"/>
                    </a:lnTo>
                    <a:lnTo>
                      <a:pt x="1776" y="1655"/>
                    </a:lnTo>
                    <a:lnTo>
                      <a:pt x="1750" y="1605"/>
                    </a:lnTo>
                    <a:lnTo>
                      <a:pt x="1737" y="1578"/>
                    </a:lnTo>
                    <a:lnTo>
                      <a:pt x="1727" y="1551"/>
                    </a:lnTo>
                    <a:lnTo>
                      <a:pt x="1716" y="1522"/>
                    </a:lnTo>
                    <a:lnTo>
                      <a:pt x="1707" y="1494"/>
                    </a:lnTo>
                    <a:lnTo>
                      <a:pt x="1700" y="1465"/>
                    </a:lnTo>
                    <a:lnTo>
                      <a:pt x="1694" y="1434"/>
                    </a:lnTo>
                    <a:lnTo>
                      <a:pt x="1692" y="1419"/>
                    </a:lnTo>
                    <a:lnTo>
                      <a:pt x="1690" y="1403"/>
                    </a:lnTo>
                    <a:lnTo>
                      <a:pt x="1689" y="1386"/>
                    </a:lnTo>
                    <a:lnTo>
                      <a:pt x="1689" y="1370"/>
                    </a:lnTo>
                    <a:lnTo>
                      <a:pt x="1689" y="1354"/>
                    </a:lnTo>
                    <a:lnTo>
                      <a:pt x="1688" y="1337"/>
                    </a:lnTo>
                    <a:lnTo>
                      <a:pt x="1686" y="1321"/>
                    </a:lnTo>
                    <a:lnTo>
                      <a:pt x="1683" y="1304"/>
                    </a:lnTo>
                    <a:lnTo>
                      <a:pt x="1677" y="1272"/>
                    </a:lnTo>
                    <a:lnTo>
                      <a:pt x="1668" y="1241"/>
                    </a:lnTo>
                    <a:lnTo>
                      <a:pt x="1659" y="1209"/>
                    </a:lnTo>
                    <a:lnTo>
                      <a:pt x="1647" y="1178"/>
                    </a:lnTo>
                    <a:lnTo>
                      <a:pt x="1634" y="1148"/>
                    </a:lnTo>
                    <a:lnTo>
                      <a:pt x="1621" y="1119"/>
                    </a:lnTo>
                    <a:lnTo>
                      <a:pt x="1592" y="1061"/>
                    </a:lnTo>
                    <a:lnTo>
                      <a:pt x="1561" y="1008"/>
                    </a:lnTo>
                    <a:lnTo>
                      <a:pt x="1534" y="960"/>
                    </a:lnTo>
                    <a:lnTo>
                      <a:pt x="1511" y="916"/>
                    </a:lnTo>
                    <a:lnTo>
                      <a:pt x="1502" y="895"/>
                    </a:lnTo>
                    <a:lnTo>
                      <a:pt x="1494" y="876"/>
                    </a:lnTo>
                    <a:lnTo>
                      <a:pt x="1489" y="858"/>
                    </a:lnTo>
                    <a:lnTo>
                      <a:pt x="1485" y="841"/>
                    </a:lnTo>
                    <a:lnTo>
                      <a:pt x="1482" y="825"/>
                    </a:lnTo>
                    <a:lnTo>
                      <a:pt x="1480" y="810"/>
                    </a:lnTo>
                    <a:lnTo>
                      <a:pt x="1480" y="795"/>
                    </a:lnTo>
                    <a:lnTo>
                      <a:pt x="1480" y="781"/>
                    </a:lnTo>
                    <a:lnTo>
                      <a:pt x="1482" y="754"/>
                    </a:lnTo>
                    <a:lnTo>
                      <a:pt x="1484" y="727"/>
                    </a:lnTo>
                    <a:lnTo>
                      <a:pt x="1482" y="712"/>
                    </a:lnTo>
                    <a:lnTo>
                      <a:pt x="1481" y="700"/>
                    </a:lnTo>
                    <a:lnTo>
                      <a:pt x="1479" y="685"/>
                    </a:lnTo>
                    <a:lnTo>
                      <a:pt x="1476" y="670"/>
                    </a:lnTo>
                    <a:lnTo>
                      <a:pt x="1473" y="657"/>
                    </a:lnTo>
                    <a:lnTo>
                      <a:pt x="1469" y="648"/>
                    </a:lnTo>
                    <a:lnTo>
                      <a:pt x="1466" y="641"/>
                    </a:lnTo>
                    <a:lnTo>
                      <a:pt x="1463" y="638"/>
                    </a:lnTo>
                    <a:lnTo>
                      <a:pt x="1461" y="637"/>
                    </a:lnTo>
                    <a:lnTo>
                      <a:pt x="1459" y="638"/>
                    </a:lnTo>
                    <a:lnTo>
                      <a:pt x="1456" y="639"/>
                    </a:lnTo>
                    <a:lnTo>
                      <a:pt x="1454" y="642"/>
                    </a:lnTo>
                    <a:lnTo>
                      <a:pt x="1449" y="650"/>
                    </a:lnTo>
                    <a:lnTo>
                      <a:pt x="1442" y="662"/>
                    </a:lnTo>
                    <a:lnTo>
                      <a:pt x="1423" y="698"/>
                    </a:lnTo>
                    <a:lnTo>
                      <a:pt x="1394" y="755"/>
                    </a:lnTo>
                    <a:lnTo>
                      <a:pt x="1375" y="790"/>
                    </a:lnTo>
                    <a:lnTo>
                      <a:pt x="1353" y="830"/>
                    </a:lnTo>
                    <a:lnTo>
                      <a:pt x="1328" y="877"/>
                    </a:lnTo>
                    <a:lnTo>
                      <a:pt x="1299" y="927"/>
                    </a:lnTo>
                    <a:lnTo>
                      <a:pt x="1283" y="955"/>
                    </a:lnTo>
                    <a:lnTo>
                      <a:pt x="1267" y="987"/>
                    </a:lnTo>
                    <a:lnTo>
                      <a:pt x="1251" y="1020"/>
                    </a:lnTo>
                    <a:lnTo>
                      <a:pt x="1236" y="1056"/>
                    </a:lnTo>
                    <a:lnTo>
                      <a:pt x="1220" y="1094"/>
                    </a:lnTo>
                    <a:lnTo>
                      <a:pt x="1205" y="1134"/>
                    </a:lnTo>
                    <a:lnTo>
                      <a:pt x="1190" y="1175"/>
                    </a:lnTo>
                    <a:lnTo>
                      <a:pt x="1173" y="1218"/>
                    </a:lnTo>
                    <a:lnTo>
                      <a:pt x="1144" y="1308"/>
                    </a:lnTo>
                    <a:lnTo>
                      <a:pt x="1114" y="1403"/>
                    </a:lnTo>
                    <a:lnTo>
                      <a:pt x="1086" y="1500"/>
                    </a:lnTo>
                    <a:lnTo>
                      <a:pt x="1059" y="1599"/>
                    </a:lnTo>
                    <a:lnTo>
                      <a:pt x="1033" y="1700"/>
                    </a:lnTo>
                    <a:lnTo>
                      <a:pt x="1009" y="1798"/>
                    </a:lnTo>
                    <a:lnTo>
                      <a:pt x="987" y="1895"/>
                    </a:lnTo>
                    <a:lnTo>
                      <a:pt x="966" y="1989"/>
                    </a:lnTo>
                    <a:lnTo>
                      <a:pt x="948" y="2079"/>
                    </a:lnTo>
                    <a:lnTo>
                      <a:pt x="933" y="2161"/>
                    </a:lnTo>
                    <a:lnTo>
                      <a:pt x="920" y="2237"/>
                    </a:lnTo>
                    <a:lnTo>
                      <a:pt x="910" y="2304"/>
                    </a:lnTo>
                    <a:lnTo>
                      <a:pt x="906" y="2336"/>
                    </a:lnTo>
                    <a:lnTo>
                      <a:pt x="900" y="2367"/>
                    </a:lnTo>
                    <a:lnTo>
                      <a:pt x="894" y="2399"/>
                    </a:lnTo>
                    <a:lnTo>
                      <a:pt x="887" y="2431"/>
                    </a:lnTo>
                    <a:lnTo>
                      <a:pt x="871" y="2494"/>
                    </a:lnTo>
                    <a:lnTo>
                      <a:pt x="853" y="2557"/>
                    </a:lnTo>
                    <a:lnTo>
                      <a:pt x="833" y="2620"/>
                    </a:lnTo>
                    <a:lnTo>
                      <a:pt x="813" y="2681"/>
                    </a:lnTo>
                    <a:lnTo>
                      <a:pt x="791" y="2742"/>
                    </a:lnTo>
                    <a:lnTo>
                      <a:pt x="769" y="2801"/>
                    </a:lnTo>
                    <a:lnTo>
                      <a:pt x="728" y="2912"/>
                    </a:lnTo>
                    <a:lnTo>
                      <a:pt x="692" y="3014"/>
                    </a:lnTo>
                    <a:lnTo>
                      <a:pt x="678" y="3059"/>
                    </a:lnTo>
                    <a:lnTo>
                      <a:pt x="666" y="3100"/>
                    </a:lnTo>
                    <a:lnTo>
                      <a:pt x="661" y="3120"/>
                    </a:lnTo>
                    <a:lnTo>
                      <a:pt x="657" y="3138"/>
                    </a:lnTo>
                    <a:lnTo>
                      <a:pt x="655" y="3155"/>
                    </a:lnTo>
                    <a:lnTo>
                      <a:pt x="653" y="3172"/>
                    </a:lnTo>
                    <a:lnTo>
                      <a:pt x="650" y="3206"/>
                    </a:lnTo>
                    <a:lnTo>
                      <a:pt x="645" y="3244"/>
                    </a:lnTo>
                    <a:lnTo>
                      <a:pt x="638" y="3286"/>
                    </a:lnTo>
                    <a:lnTo>
                      <a:pt x="629" y="3331"/>
                    </a:lnTo>
                    <a:lnTo>
                      <a:pt x="619" y="3379"/>
                    </a:lnTo>
                    <a:lnTo>
                      <a:pt x="608" y="3428"/>
                    </a:lnTo>
                    <a:lnTo>
                      <a:pt x="597" y="3477"/>
                    </a:lnTo>
                    <a:lnTo>
                      <a:pt x="585" y="3527"/>
                    </a:lnTo>
                    <a:lnTo>
                      <a:pt x="559" y="3623"/>
                    </a:lnTo>
                    <a:lnTo>
                      <a:pt x="535" y="3712"/>
                    </a:lnTo>
                    <a:lnTo>
                      <a:pt x="513" y="3786"/>
                    </a:lnTo>
                    <a:lnTo>
                      <a:pt x="497" y="3839"/>
                    </a:lnTo>
                    <a:lnTo>
                      <a:pt x="492" y="3859"/>
                    </a:lnTo>
                    <a:lnTo>
                      <a:pt x="489" y="3876"/>
                    </a:lnTo>
                    <a:lnTo>
                      <a:pt x="486" y="3891"/>
                    </a:lnTo>
                    <a:lnTo>
                      <a:pt x="485" y="3904"/>
                    </a:lnTo>
                    <a:lnTo>
                      <a:pt x="485" y="3916"/>
                    </a:lnTo>
                    <a:lnTo>
                      <a:pt x="485" y="3928"/>
                    </a:lnTo>
                    <a:lnTo>
                      <a:pt x="487" y="3938"/>
                    </a:lnTo>
                    <a:lnTo>
                      <a:pt x="489" y="3948"/>
                    </a:lnTo>
                    <a:lnTo>
                      <a:pt x="492" y="3971"/>
                    </a:lnTo>
                    <a:lnTo>
                      <a:pt x="494" y="3997"/>
                    </a:lnTo>
                    <a:lnTo>
                      <a:pt x="494" y="4013"/>
                    </a:lnTo>
                    <a:lnTo>
                      <a:pt x="493" y="4030"/>
                    </a:lnTo>
                    <a:lnTo>
                      <a:pt x="491" y="4051"/>
                    </a:lnTo>
                    <a:lnTo>
                      <a:pt x="487" y="4075"/>
                    </a:lnTo>
                    <a:lnTo>
                      <a:pt x="482" y="4097"/>
                    </a:lnTo>
                    <a:lnTo>
                      <a:pt x="477" y="4116"/>
                    </a:lnTo>
                    <a:lnTo>
                      <a:pt x="473" y="4123"/>
                    </a:lnTo>
                    <a:lnTo>
                      <a:pt x="470" y="4130"/>
                    </a:lnTo>
                    <a:lnTo>
                      <a:pt x="467" y="4135"/>
                    </a:lnTo>
                    <a:lnTo>
                      <a:pt x="463" y="4140"/>
                    </a:lnTo>
                    <a:lnTo>
                      <a:pt x="459" y="4145"/>
                    </a:lnTo>
                    <a:lnTo>
                      <a:pt x="455" y="4148"/>
                    </a:lnTo>
                    <a:lnTo>
                      <a:pt x="451" y="4150"/>
                    </a:lnTo>
                    <a:lnTo>
                      <a:pt x="448" y="4152"/>
                    </a:lnTo>
                    <a:lnTo>
                      <a:pt x="439" y="4154"/>
                    </a:lnTo>
                    <a:lnTo>
                      <a:pt x="430" y="4156"/>
                    </a:lnTo>
                    <a:lnTo>
                      <a:pt x="423" y="4154"/>
                    </a:lnTo>
                    <a:lnTo>
                      <a:pt x="415" y="4151"/>
                    </a:lnTo>
                    <a:lnTo>
                      <a:pt x="409" y="4149"/>
                    </a:lnTo>
                    <a:lnTo>
                      <a:pt x="403" y="4145"/>
                    </a:lnTo>
                    <a:lnTo>
                      <a:pt x="395" y="4139"/>
                    </a:lnTo>
                    <a:lnTo>
                      <a:pt x="391" y="4136"/>
                    </a:lnTo>
                    <a:lnTo>
                      <a:pt x="365" y="4133"/>
                    </a:lnTo>
                    <a:lnTo>
                      <a:pt x="339" y="4131"/>
                    </a:lnTo>
                    <a:lnTo>
                      <a:pt x="315" y="4130"/>
                    </a:lnTo>
                    <a:lnTo>
                      <a:pt x="289" y="4130"/>
                    </a:lnTo>
                    <a:lnTo>
                      <a:pt x="264" y="4130"/>
                    </a:lnTo>
                    <a:lnTo>
                      <a:pt x="239" y="4130"/>
                    </a:lnTo>
                    <a:lnTo>
                      <a:pt x="214" y="4131"/>
                    </a:lnTo>
                    <a:lnTo>
                      <a:pt x="189" y="4133"/>
                    </a:lnTo>
                    <a:lnTo>
                      <a:pt x="140" y="4138"/>
                    </a:lnTo>
                    <a:lnTo>
                      <a:pt x="92" y="4145"/>
                    </a:lnTo>
                    <a:lnTo>
                      <a:pt x="46" y="4153"/>
                    </a:lnTo>
                    <a:lnTo>
                      <a:pt x="0" y="4163"/>
                    </a:lnTo>
                    <a:lnTo>
                      <a:pt x="33" y="4154"/>
                    </a:lnTo>
                    <a:lnTo>
                      <a:pt x="63" y="4143"/>
                    </a:lnTo>
                    <a:lnTo>
                      <a:pt x="91" y="4127"/>
                    </a:lnTo>
                    <a:lnTo>
                      <a:pt x="117" y="4111"/>
                    </a:lnTo>
                    <a:lnTo>
                      <a:pt x="142" y="4092"/>
                    </a:lnTo>
                    <a:lnTo>
                      <a:pt x="164" y="4070"/>
                    </a:lnTo>
                    <a:lnTo>
                      <a:pt x="186" y="4048"/>
                    </a:lnTo>
                    <a:lnTo>
                      <a:pt x="206" y="4022"/>
                    </a:lnTo>
                    <a:lnTo>
                      <a:pt x="223" y="3995"/>
                    </a:lnTo>
                    <a:lnTo>
                      <a:pt x="240" y="3967"/>
                    </a:lnTo>
                    <a:lnTo>
                      <a:pt x="255" y="3936"/>
                    </a:lnTo>
                    <a:lnTo>
                      <a:pt x="270" y="3904"/>
                    </a:lnTo>
                    <a:lnTo>
                      <a:pt x="283" y="3871"/>
                    </a:lnTo>
                    <a:lnTo>
                      <a:pt x="296" y="3837"/>
                    </a:lnTo>
                    <a:lnTo>
                      <a:pt x="308" y="3802"/>
                    </a:lnTo>
                    <a:lnTo>
                      <a:pt x="319" y="3767"/>
                    </a:lnTo>
                    <a:lnTo>
                      <a:pt x="339" y="3692"/>
                    </a:lnTo>
                    <a:lnTo>
                      <a:pt x="360" y="3617"/>
                    </a:lnTo>
                    <a:lnTo>
                      <a:pt x="378" y="3541"/>
                    </a:lnTo>
                    <a:lnTo>
                      <a:pt x="398" y="3464"/>
                    </a:lnTo>
                    <a:lnTo>
                      <a:pt x="409" y="3427"/>
                    </a:lnTo>
                    <a:lnTo>
                      <a:pt x="418" y="3390"/>
                    </a:lnTo>
                    <a:lnTo>
                      <a:pt x="430" y="3353"/>
                    </a:lnTo>
                    <a:lnTo>
                      <a:pt x="441" y="3317"/>
                    </a:lnTo>
                    <a:lnTo>
                      <a:pt x="454" y="3283"/>
                    </a:lnTo>
                    <a:lnTo>
                      <a:pt x="467" y="3248"/>
                    </a:lnTo>
                    <a:lnTo>
                      <a:pt x="482" y="3216"/>
                    </a:lnTo>
                    <a:lnTo>
                      <a:pt x="497" y="3185"/>
                    </a:lnTo>
                    <a:lnTo>
                      <a:pt x="503" y="3173"/>
                    </a:lnTo>
                    <a:lnTo>
                      <a:pt x="508" y="3161"/>
                    </a:lnTo>
                    <a:lnTo>
                      <a:pt x="511" y="3149"/>
                    </a:lnTo>
                    <a:lnTo>
                      <a:pt x="513" y="3138"/>
                    </a:lnTo>
                    <a:lnTo>
                      <a:pt x="516" y="3128"/>
                    </a:lnTo>
                    <a:lnTo>
                      <a:pt x="516" y="3119"/>
                    </a:lnTo>
                    <a:lnTo>
                      <a:pt x="516" y="3109"/>
                    </a:lnTo>
                    <a:lnTo>
                      <a:pt x="515" y="3099"/>
                    </a:lnTo>
                    <a:lnTo>
                      <a:pt x="513" y="3090"/>
                    </a:lnTo>
                    <a:lnTo>
                      <a:pt x="511" y="3081"/>
                    </a:lnTo>
                    <a:lnTo>
                      <a:pt x="508" y="3072"/>
                    </a:lnTo>
                    <a:lnTo>
                      <a:pt x="504" y="3065"/>
                    </a:lnTo>
                    <a:lnTo>
                      <a:pt x="495" y="3049"/>
                    </a:lnTo>
                    <a:lnTo>
                      <a:pt x="483" y="3033"/>
                    </a:lnTo>
                    <a:lnTo>
                      <a:pt x="471" y="3018"/>
                    </a:lnTo>
                    <a:lnTo>
                      <a:pt x="456" y="3003"/>
                    </a:lnTo>
                    <a:lnTo>
                      <a:pt x="442" y="2989"/>
                    </a:lnTo>
                    <a:lnTo>
                      <a:pt x="426" y="2975"/>
                    </a:lnTo>
                    <a:lnTo>
                      <a:pt x="411" y="2961"/>
                    </a:lnTo>
                    <a:lnTo>
                      <a:pt x="395" y="2946"/>
                    </a:lnTo>
                    <a:lnTo>
                      <a:pt x="381" y="2931"/>
                    </a:lnTo>
                    <a:lnTo>
                      <a:pt x="367" y="2915"/>
                    </a:lnTo>
                    <a:lnTo>
                      <a:pt x="363" y="2909"/>
                    </a:lnTo>
                    <a:lnTo>
                      <a:pt x="361" y="2904"/>
                    </a:lnTo>
                    <a:lnTo>
                      <a:pt x="361" y="2898"/>
                    </a:lnTo>
                    <a:lnTo>
                      <a:pt x="362" y="2894"/>
                    </a:lnTo>
                    <a:lnTo>
                      <a:pt x="368" y="2883"/>
                    </a:lnTo>
                    <a:lnTo>
                      <a:pt x="374" y="2874"/>
                    </a:lnTo>
                    <a:lnTo>
                      <a:pt x="382" y="2863"/>
                    </a:lnTo>
                    <a:lnTo>
                      <a:pt x="387" y="2852"/>
                    </a:lnTo>
                    <a:lnTo>
                      <a:pt x="388" y="2847"/>
                    </a:lnTo>
                    <a:lnTo>
                      <a:pt x="389" y="2841"/>
                    </a:lnTo>
                    <a:lnTo>
                      <a:pt x="388" y="2835"/>
                    </a:lnTo>
                    <a:lnTo>
                      <a:pt x="386" y="2828"/>
                    </a:lnTo>
                    <a:lnTo>
                      <a:pt x="404" y="2820"/>
                    </a:lnTo>
                    <a:lnTo>
                      <a:pt x="421" y="2809"/>
                    </a:lnTo>
                    <a:lnTo>
                      <a:pt x="436" y="2797"/>
                    </a:lnTo>
                    <a:lnTo>
                      <a:pt x="449" y="2784"/>
                    </a:lnTo>
                    <a:lnTo>
                      <a:pt x="462" y="2770"/>
                    </a:lnTo>
                    <a:lnTo>
                      <a:pt x="472" y="2756"/>
                    </a:lnTo>
                    <a:lnTo>
                      <a:pt x="483" y="2741"/>
                    </a:lnTo>
                    <a:lnTo>
                      <a:pt x="494" y="2725"/>
                    </a:lnTo>
                    <a:lnTo>
                      <a:pt x="515" y="2693"/>
                    </a:lnTo>
                    <a:lnTo>
                      <a:pt x="535" y="2661"/>
                    </a:lnTo>
                    <a:lnTo>
                      <a:pt x="546" y="2645"/>
                    </a:lnTo>
                    <a:lnTo>
                      <a:pt x="558" y="2629"/>
                    </a:lnTo>
                    <a:lnTo>
                      <a:pt x="570" y="2614"/>
                    </a:lnTo>
                    <a:lnTo>
                      <a:pt x="584" y="2601"/>
                    </a:lnTo>
                    <a:lnTo>
                      <a:pt x="589" y="2596"/>
                    </a:lnTo>
                    <a:lnTo>
                      <a:pt x="593" y="2591"/>
                    </a:lnTo>
                    <a:lnTo>
                      <a:pt x="598" y="2585"/>
                    </a:lnTo>
                    <a:lnTo>
                      <a:pt x="601" y="2580"/>
                    </a:lnTo>
                    <a:lnTo>
                      <a:pt x="606" y="2568"/>
                    </a:lnTo>
                    <a:lnTo>
                      <a:pt x="608" y="2557"/>
                    </a:lnTo>
                    <a:lnTo>
                      <a:pt x="611" y="2544"/>
                    </a:lnTo>
                    <a:lnTo>
                      <a:pt x="611" y="2532"/>
                    </a:lnTo>
                    <a:lnTo>
                      <a:pt x="610" y="2520"/>
                    </a:lnTo>
                    <a:lnTo>
                      <a:pt x="607" y="2507"/>
                    </a:lnTo>
                    <a:lnTo>
                      <a:pt x="602" y="2482"/>
                    </a:lnTo>
                    <a:lnTo>
                      <a:pt x="598" y="2457"/>
                    </a:lnTo>
                    <a:lnTo>
                      <a:pt x="596" y="2444"/>
                    </a:lnTo>
                    <a:lnTo>
                      <a:pt x="594" y="2432"/>
                    </a:lnTo>
                    <a:lnTo>
                      <a:pt x="594" y="2420"/>
                    </a:lnTo>
                    <a:lnTo>
                      <a:pt x="597" y="2408"/>
                    </a:lnTo>
                    <a:lnTo>
                      <a:pt x="607" y="2359"/>
                    </a:lnTo>
                    <a:lnTo>
                      <a:pt x="618" y="2308"/>
                    </a:lnTo>
                    <a:lnTo>
                      <a:pt x="623" y="2282"/>
                    </a:lnTo>
                    <a:lnTo>
                      <a:pt x="626" y="2255"/>
                    </a:lnTo>
                    <a:lnTo>
                      <a:pt x="628" y="2229"/>
                    </a:lnTo>
                    <a:lnTo>
                      <a:pt x="629" y="2203"/>
                    </a:lnTo>
                    <a:lnTo>
                      <a:pt x="628" y="2190"/>
                    </a:lnTo>
                    <a:lnTo>
                      <a:pt x="627" y="2178"/>
                    </a:lnTo>
                    <a:lnTo>
                      <a:pt x="625" y="2166"/>
                    </a:lnTo>
                    <a:lnTo>
                      <a:pt x="623" y="2153"/>
                    </a:lnTo>
                    <a:lnTo>
                      <a:pt x="619" y="2142"/>
                    </a:lnTo>
                    <a:lnTo>
                      <a:pt x="615" y="2131"/>
                    </a:lnTo>
                    <a:lnTo>
                      <a:pt x="610" y="2120"/>
                    </a:lnTo>
                    <a:lnTo>
                      <a:pt x="604" y="2109"/>
                    </a:lnTo>
                    <a:lnTo>
                      <a:pt x="598" y="2099"/>
                    </a:lnTo>
                    <a:lnTo>
                      <a:pt x="590" y="2089"/>
                    </a:lnTo>
                    <a:lnTo>
                      <a:pt x="581" y="2080"/>
                    </a:lnTo>
                    <a:lnTo>
                      <a:pt x="572" y="2071"/>
                    </a:lnTo>
                    <a:lnTo>
                      <a:pt x="561" y="2064"/>
                    </a:lnTo>
                    <a:lnTo>
                      <a:pt x="549" y="2056"/>
                    </a:lnTo>
                    <a:lnTo>
                      <a:pt x="536" y="2048"/>
                    </a:lnTo>
                    <a:lnTo>
                      <a:pt x="522" y="2042"/>
                    </a:lnTo>
                    <a:lnTo>
                      <a:pt x="508" y="2037"/>
                    </a:lnTo>
                    <a:lnTo>
                      <a:pt x="494" y="2030"/>
                    </a:lnTo>
                    <a:lnTo>
                      <a:pt x="481" y="2024"/>
                    </a:lnTo>
                    <a:lnTo>
                      <a:pt x="469" y="2016"/>
                    </a:lnTo>
                    <a:lnTo>
                      <a:pt x="457" y="2007"/>
                    </a:lnTo>
                    <a:lnTo>
                      <a:pt x="448" y="1999"/>
                    </a:lnTo>
                    <a:lnTo>
                      <a:pt x="439" y="1990"/>
                    </a:lnTo>
                    <a:lnTo>
                      <a:pt x="431" y="1980"/>
                    </a:lnTo>
                    <a:lnTo>
                      <a:pt x="426" y="1970"/>
                    </a:lnTo>
                    <a:lnTo>
                      <a:pt x="422" y="1959"/>
                    </a:lnTo>
                    <a:lnTo>
                      <a:pt x="421" y="1948"/>
                    </a:lnTo>
                    <a:lnTo>
                      <a:pt x="421" y="1936"/>
                    </a:lnTo>
                    <a:lnTo>
                      <a:pt x="422" y="1930"/>
                    </a:lnTo>
                    <a:lnTo>
                      <a:pt x="423" y="1924"/>
                    </a:lnTo>
                    <a:lnTo>
                      <a:pt x="425" y="1918"/>
                    </a:lnTo>
                    <a:lnTo>
                      <a:pt x="428" y="1911"/>
                    </a:lnTo>
                    <a:lnTo>
                      <a:pt x="435" y="1898"/>
                    </a:lnTo>
                    <a:lnTo>
                      <a:pt x="445" y="1884"/>
                    </a:lnTo>
                    <a:lnTo>
                      <a:pt x="458" y="1868"/>
                    </a:lnTo>
                    <a:lnTo>
                      <a:pt x="472" y="1853"/>
                    </a:lnTo>
                    <a:lnTo>
                      <a:pt x="487" y="1838"/>
                    </a:lnTo>
                    <a:lnTo>
                      <a:pt x="504" y="1824"/>
                    </a:lnTo>
                    <a:lnTo>
                      <a:pt x="536" y="1796"/>
                    </a:lnTo>
                    <a:lnTo>
                      <a:pt x="569" y="1769"/>
                    </a:lnTo>
                    <a:lnTo>
                      <a:pt x="602" y="1742"/>
                    </a:lnTo>
                    <a:lnTo>
                      <a:pt x="634" y="1714"/>
                    </a:lnTo>
                    <a:lnTo>
                      <a:pt x="650" y="1697"/>
                    </a:lnTo>
                    <a:lnTo>
                      <a:pt x="665" y="1681"/>
                    </a:lnTo>
                    <a:lnTo>
                      <a:pt x="679" y="1665"/>
                    </a:lnTo>
                    <a:lnTo>
                      <a:pt x="693" y="1647"/>
                    </a:lnTo>
                    <a:lnTo>
                      <a:pt x="697" y="1638"/>
                    </a:lnTo>
                    <a:lnTo>
                      <a:pt x="700" y="1627"/>
                    </a:lnTo>
                    <a:lnTo>
                      <a:pt x="702" y="1615"/>
                    </a:lnTo>
                    <a:lnTo>
                      <a:pt x="704" y="1605"/>
                    </a:lnTo>
                    <a:lnTo>
                      <a:pt x="702" y="1593"/>
                    </a:lnTo>
                    <a:lnTo>
                      <a:pt x="700" y="1582"/>
                    </a:lnTo>
                    <a:lnTo>
                      <a:pt x="697" y="1573"/>
                    </a:lnTo>
                    <a:lnTo>
                      <a:pt x="693" y="1566"/>
                    </a:lnTo>
                    <a:lnTo>
                      <a:pt x="683" y="1554"/>
                    </a:lnTo>
                    <a:lnTo>
                      <a:pt x="674" y="1543"/>
                    </a:lnTo>
                    <a:lnTo>
                      <a:pt x="667" y="1532"/>
                    </a:lnTo>
                    <a:lnTo>
                      <a:pt x="659" y="1521"/>
                    </a:lnTo>
                    <a:lnTo>
                      <a:pt x="653" y="1511"/>
                    </a:lnTo>
                    <a:lnTo>
                      <a:pt x="647" y="1501"/>
                    </a:lnTo>
                    <a:lnTo>
                      <a:pt x="642" y="1490"/>
                    </a:lnTo>
                    <a:lnTo>
                      <a:pt x="638" y="1479"/>
                    </a:lnTo>
                    <a:lnTo>
                      <a:pt x="634" y="1468"/>
                    </a:lnTo>
                    <a:lnTo>
                      <a:pt x="631" y="1459"/>
                    </a:lnTo>
                    <a:lnTo>
                      <a:pt x="629" y="1448"/>
                    </a:lnTo>
                    <a:lnTo>
                      <a:pt x="627" y="1438"/>
                    </a:lnTo>
                    <a:lnTo>
                      <a:pt x="626" y="1418"/>
                    </a:lnTo>
                    <a:lnTo>
                      <a:pt x="626" y="1397"/>
                    </a:lnTo>
                    <a:lnTo>
                      <a:pt x="627" y="1377"/>
                    </a:lnTo>
                    <a:lnTo>
                      <a:pt x="631" y="1356"/>
                    </a:lnTo>
                    <a:lnTo>
                      <a:pt x="635" y="1335"/>
                    </a:lnTo>
                    <a:lnTo>
                      <a:pt x="642" y="1314"/>
                    </a:lnTo>
                    <a:lnTo>
                      <a:pt x="657" y="1271"/>
                    </a:lnTo>
                    <a:lnTo>
                      <a:pt x="675" y="1227"/>
                    </a:lnTo>
                    <a:lnTo>
                      <a:pt x="651" y="1223"/>
                    </a:lnTo>
                    <a:lnTo>
                      <a:pt x="626" y="1219"/>
                    </a:lnTo>
                    <a:lnTo>
                      <a:pt x="601" y="1213"/>
                    </a:lnTo>
                    <a:lnTo>
                      <a:pt x="576" y="1205"/>
                    </a:lnTo>
                    <a:lnTo>
                      <a:pt x="565" y="1201"/>
                    </a:lnTo>
                    <a:lnTo>
                      <a:pt x="554" y="1195"/>
                    </a:lnTo>
                    <a:lnTo>
                      <a:pt x="545" y="1190"/>
                    </a:lnTo>
                    <a:lnTo>
                      <a:pt x="536" y="1183"/>
                    </a:lnTo>
                    <a:lnTo>
                      <a:pt x="527" y="1178"/>
                    </a:lnTo>
                    <a:lnTo>
                      <a:pt x="520" y="1170"/>
                    </a:lnTo>
                    <a:lnTo>
                      <a:pt x="515" y="1163"/>
                    </a:lnTo>
                    <a:lnTo>
                      <a:pt x="509" y="1155"/>
                    </a:lnTo>
                    <a:lnTo>
                      <a:pt x="502" y="1135"/>
                    </a:lnTo>
                    <a:lnTo>
                      <a:pt x="495" y="1114"/>
                    </a:lnTo>
                    <a:lnTo>
                      <a:pt x="493" y="1095"/>
                    </a:lnTo>
                    <a:lnTo>
                      <a:pt x="492" y="1075"/>
                    </a:lnTo>
                    <a:lnTo>
                      <a:pt x="494" y="1057"/>
                    </a:lnTo>
                    <a:lnTo>
                      <a:pt x="497" y="1039"/>
                    </a:lnTo>
                    <a:lnTo>
                      <a:pt x="503" y="1021"/>
                    </a:lnTo>
                    <a:lnTo>
                      <a:pt x="510" y="1004"/>
                    </a:lnTo>
                    <a:lnTo>
                      <a:pt x="520" y="987"/>
                    </a:lnTo>
                    <a:lnTo>
                      <a:pt x="530" y="970"/>
                    </a:lnTo>
                    <a:lnTo>
                      <a:pt x="542" y="953"/>
                    </a:lnTo>
                    <a:lnTo>
                      <a:pt x="554" y="937"/>
                    </a:lnTo>
                    <a:lnTo>
                      <a:pt x="581" y="905"/>
                    </a:lnTo>
                    <a:lnTo>
                      <a:pt x="611" y="873"/>
                    </a:lnTo>
                    <a:lnTo>
                      <a:pt x="640" y="843"/>
                    </a:lnTo>
                    <a:lnTo>
                      <a:pt x="668" y="812"/>
                    </a:lnTo>
                    <a:lnTo>
                      <a:pt x="682" y="797"/>
                    </a:lnTo>
                    <a:lnTo>
                      <a:pt x="694" y="782"/>
                    </a:lnTo>
                    <a:lnTo>
                      <a:pt x="706" y="765"/>
                    </a:lnTo>
                    <a:lnTo>
                      <a:pt x="715" y="750"/>
                    </a:lnTo>
                    <a:lnTo>
                      <a:pt x="724" y="735"/>
                    </a:lnTo>
                    <a:lnTo>
                      <a:pt x="732" y="719"/>
                    </a:lnTo>
                    <a:lnTo>
                      <a:pt x="737" y="703"/>
                    </a:lnTo>
                    <a:lnTo>
                      <a:pt x="741" y="687"/>
                    </a:lnTo>
                    <a:lnTo>
                      <a:pt x="742" y="670"/>
                    </a:lnTo>
                    <a:lnTo>
                      <a:pt x="741" y="653"/>
                    </a:lnTo>
                    <a:lnTo>
                      <a:pt x="738" y="636"/>
                    </a:lnTo>
                    <a:lnTo>
                      <a:pt x="732" y="619"/>
                    </a:lnTo>
                    <a:lnTo>
                      <a:pt x="729" y="613"/>
                    </a:lnTo>
                    <a:lnTo>
                      <a:pt x="725" y="607"/>
                    </a:lnTo>
                    <a:lnTo>
                      <a:pt x="721" y="601"/>
                    </a:lnTo>
                    <a:lnTo>
                      <a:pt x="717" y="595"/>
                    </a:lnTo>
                    <a:lnTo>
                      <a:pt x="704" y="582"/>
                    </a:lnTo>
                    <a:lnTo>
                      <a:pt x="691" y="569"/>
                    </a:lnTo>
                    <a:lnTo>
                      <a:pt x="659" y="543"/>
                    </a:lnTo>
                    <a:lnTo>
                      <a:pt x="628" y="515"/>
                    </a:lnTo>
                    <a:lnTo>
                      <a:pt x="614" y="501"/>
                    </a:lnTo>
                    <a:lnTo>
                      <a:pt x="602" y="487"/>
                    </a:lnTo>
                    <a:lnTo>
                      <a:pt x="597" y="479"/>
                    </a:lnTo>
                    <a:lnTo>
                      <a:pt x="592" y="473"/>
                    </a:lnTo>
                    <a:lnTo>
                      <a:pt x="588" y="465"/>
                    </a:lnTo>
                    <a:lnTo>
                      <a:pt x="586" y="458"/>
                    </a:lnTo>
                    <a:lnTo>
                      <a:pt x="584" y="450"/>
                    </a:lnTo>
                    <a:lnTo>
                      <a:pt x="583" y="442"/>
                    </a:lnTo>
                    <a:lnTo>
                      <a:pt x="584" y="436"/>
                    </a:lnTo>
                    <a:lnTo>
                      <a:pt x="585" y="428"/>
                    </a:lnTo>
                    <a:lnTo>
                      <a:pt x="587" y="421"/>
                    </a:lnTo>
                    <a:lnTo>
                      <a:pt x="591" y="413"/>
                    </a:lnTo>
                    <a:lnTo>
                      <a:pt x="597" y="406"/>
                    </a:lnTo>
                    <a:lnTo>
                      <a:pt x="603" y="398"/>
                    </a:lnTo>
                    <a:lnTo>
                      <a:pt x="630" y="374"/>
                    </a:lnTo>
                    <a:lnTo>
                      <a:pt x="657" y="352"/>
                    </a:lnTo>
                    <a:lnTo>
                      <a:pt x="686" y="330"/>
                    </a:lnTo>
                    <a:lnTo>
                      <a:pt x="715" y="311"/>
                    </a:lnTo>
                    <a:lnTo>
                      <a:pt x="747" y="292"/>
                    </a:lnTo>
                    <a:lnTo>
                      <a:pt x="779" y="276"/>
                    </a:lnTo>
                    <a:lnTo>
                      <a:pt x="812" y="260"/>
                    </a:lnTo>
                    <a:lnTo>
                      <a:pt x="846" y="245"/>
                    </a:lnTo>
                    <a:lnTo>
                      <a:pt x="881" y="231"/>
                    </a:lnTo>
                    <a:lnTo>
                      <a:pt x="916" y="219"/>
                    </a:lnTo>
                    <a:lnTo>
                      <a:pt x="953" y="206"/>
                    </a:lnTo>
                    <a:lnTo>
                      <a:pt x="990" y="195"/>
                    </a:lnTo>
                    <a:lnTo>
                      <a:pt x="1028" y="184"/>
                    </a:lnTo>
                    <a:lnTo>
                      <a:pt x="1065" y="175"/>
                    </a:lnTo>
                    <a:lnTo>
                      <a:pt x="1103" y="165"/>
                    </a:lnTo>
                    <a:lnTo>
                      <a:pt x="1142" y="156"/>
                    </a:lnTo>
                    <a:lnTo>
                      <a:pt x="1155" y="153"/>
                    </a:lnTo>
                    <a:lnTo>
                      <a:pt x="1168" y="149"/>
                    </a:lnTo>
                    <a:lnTo>
                      <a:pt x="1180" y="143"/>
                    </a:lnTo>
                    <a:lnTo>
                      <a:pt x="1192" y="137"/>
                    </a:lnTo>
                    <a:lnTo>
                      <a:pt x="1215" y="123"/>
                    </a:lnTo>
                    <a:lnTo>
                      <a:pt x="1235" y="108"/>
                    </a:lnTo>
                    <a:lnTo>
                      <a:pt x="1257" y="93"/>
                    </a:lnTo>
                    <a:lnTo>
                      <a:pt x="1278" y="79"/>
                    </a:lnTo>
                    <a:lnTo>
                      <a:pt x="1289" y="72"/>
                    </a:lnTo>
                    <a:lnTo>
                      <a:pt x="1300" y="66"/>
                    </a:lnTo>
                    <a:lnTo>
                      <a:pt x="1311" y="61"/>
                    </a:lnTo>
                    <a:lnTo>
                      <a:pt x="1323" y="57"/>
                    </a:lnTo>
                    <a:lnTo>
                      <a:pt x="1337" y="54"/>
                    </a:lnTo>
                    <a:lnTo>
                      <a:pt x="1351" y="49"/>
                    </a:lnTo>
                    <a:lnTo>
                      <a:pt x="1364" y="44"/>
                    </a:lnTo>
                    <a:lnTo>
                      <a:pt x="1378" y="39"/>
                    </a:lnTo>
                    <a:lnTo>
                      <a:pt x="1404" y="27"/>
                    </a:lnTo>
                    <a:lnTo>
                      <a:pt x="1431" y="16"/>
                    </a:lnTo>
                    <a:lnTo>
                      <a:pt x="1444" y="10"/>
                    </a:lnTo>
                    <a:lnTo>
                      <a:pt x="1458" y="6"/>
                    </a:lnTo>
                    <a:lnTo>
                      <a:pt x="1471" y="3"/>
                    </a:lnTo>
                    <a:lnTo>
                      <a:pt x="1485" y="1"/>
                    </a:lnTo>
                    <a:lnTo>
                      <a:pt x="1499" y="0"/>
                    </a:lnTo>
                    <a:lnTo>
                      <a:pt x="1513" y="0"/>
                    </a:lnTo>
                    <a:lnTo>
                      <a:pt x="1528" y="2"/>
                    </a:lnTo>
                    <a:lnTo>
                      <a:pt x="1543" y="5"/>
                    </a:lnTo>
                    <a:lnTo>
                      <a:pt x="1575" y="16"/>
                    </a:lnTo>
                    <a:lnTo>
                      <a:pt x="1608" y="27"/>
                    </a:lnTo>
                    <a:lnTo>
                      <a:pt x="1640" y="37"/>
                    </a:lnTo>
                    <a:lnTo>
                      <a:pt x="1671" y="49"/>
                    </a:lnTo>
                    <a:lnTo>
                      <a:pt x="1703" y="62"/>
                    </a:lnTo>
                    <a:lnTo>
                      <a:pt x="1734" y="75"/>
                    </a:lnTo>
                    <a:lnTo>
                      <a:pt x="1764" y="89"/>
                    </a:lnTo>
                    <a:lnTo>
                      <a:pt x="1795" y="103"/>
                    </a:lnTo>
                    <a:lnTo>
                      <a:pt x="1825" y="117"/>
                    </a:lnTo>
                    <a:lnTo>
                      <a:pt x="1854" y="133"/>
                    </a:lnTo>
                    <a:lnTo>
                      <a:pt x="1884" y="148"/>
                    </a:lnTo>
                    <a:lnTo>
                      <a:pt x="1912" y="164"/>
                    </a:lnTo>
                    <a:lnTo>
                      <a:pt x="1942" y="181"/>
                    </a:lnTo>
                    <a:lnTo>
                      <a:pt x="1970" y="197"/>
                    </a:lnTo>
                    <a:lnTo>
                      <a:pt x="1998" y="216"/>
                    </a:lnTo>
                    <a:lnTo>
                      <a:pt x="2025" y="233"/>
                    </a:lnTo>
                    <a:lnTo>
                      <a:pt x="2053" y="251"/>
                    </a:lnTo>
                    <a:lnTo>
                      <a:pt x="2079" y="271"/>
                    </a:lnTo>
                    <a:lnTo>
                      <a:pt x="2106" y="290"/>
                    </a:lnTo>
                    <a:lnTo>
                      <a:pt x="2132" y="310"/>
                    </a:lnTo>
                    <a:lnTo>
                      <a:pt x="2158" y="330"/>
                    </a:lnTo>
                    <a:lnTo>
                      <a:pt x="2182" y="351"/>
                    </a:lnTo>
                    <a:lnTo>
                      <a:pt x="2207" y="372"/>
                    </a:lnTo>
                    <a:lnTo>
                      <a:pt x="2231" y="394"/>
                    </a:lnTo>
                    <a:lnTo>
                      <a:pt x="2256" y="415"/>
                    </a:lnTo>
                    <a:lnTo>
                      <a:pt x="2279" y="438"/>
                    </a:lnTo>
                    <a:lnTo>
                      <a:pt x="2302" y="461"/>
                    </a:lnTo>
                    <a:lnTo>
                      <a:pt x="2325" y="485"/>
                    </a:lnTo>
                    <a:lnTo>
                      <a:pt x="2347" y="508"/>
                    </a:lnTo>
                    <a:lnTo>
                      <a:pt x="2368" y="532"/>
                    </a:lnTo>
                    <a:lnTo>
                      <a:pt x="2390" y="557"/>
                    </a:lnTo>
                    <a:lnTo>
                      <a:pt x="2410" y="582"/>
                    </a:lnTo>
                    <a:lnTo>
                      <a:pt x="2350" y="589"/>
                    </a:lnTo>
                    <a:lnTo>
                      <a:pt x="2287" y="599"/>
                    </a:lnTo>
                    <a:lnTo>
                      <a:pt x="2256" y="604"/>
                    </a:lnTo>
                    <a:lnTo>
                      <a:pt x="2226" y="611"/>
                    </a:lnTo>
                    <a:lnTo>
                      <a:pt x="2195" y="619"/>
                    </a:lnTo>
                    <a:lnTo>
                      <a:pt x="2167" y="628"/>
                    </a:lnTo>
                    <a:lnTo>
                      <a:pt x="2153" y="633"/>
                    </a:lnTo>
                    <a:lnTo>
                      <a:pt x="2140" y="638"/>
                    </a:lnTo>
                    <a:lnTo>
                      <a:pt x="2127" y="643"/>
                    </a:lnTo>
                    <a:lnTo>
                      <a:pt x="2114" y="650"/>
                    </a:lnTo>
                    <a:lnTo>
                      <a:pt x="2102" y="656"/>
                    </a:lnTo>
                    <a:lnTo>
                      <a:pt x="2092" y="664"/>
                    </a:lnTo>
                    <a:lnTo>
                      <a:pt x="2081" y="671"/>
                    </a:lnTo>
                    <a:lnTo>
                      <a:pt x="2070" y="679"/>
                    </a:lnTo>
                    <a:lnTo>
                      <a:pt x="2061" y="689"/>
                    </a:lnTo>
                    <a:lnTo>
                      <a:pt x="2053" y="697"/>
                    </a:lnTo>
                    <a:lnTo>
                      <a:pt x="2044" y="707"/>
                    </a:lnTo>
                    <a:lnTo>
                      <a:pt x="2038" y="718"/>
                    </a:lnTo>
                    <a:lnTo>
                      <a:pt x="2031" y="729"/>
                    </a:lnTo>
                    <a:lnTo>
                      <a:pt x="2026" y="741"/>
                    </a:lnTo>
                    <a:lnTo>
                      <a:pt x="2021" y="754"/>
                    </a:lnTo>
                    <a:lnTo>
                      <a:pt x="2018" y="766"/>
                    </a:lnTo>
                    <a:lnTo>
                      <a:pt x="2016" y="777"/>
                    </a:lnTo>
                    <a:lnTo>
                      <a:pt x="2015" y="788"/>
                    </a:lnTo>
                    <a:lnTo>
                      <a:pt x="2015" y="798"/>
                    </a:lnTo>
                    <a:lnTo>
                      <a:pt x="2016" y="809"/>
                    </a:lnTo>
                    <a:lnTo>
                      <a:pt x="2018" y="818"/>
                    </a:lnTo>
                    <a:lnTo>
                      <a:pt x="2020" y="829"/>
                    </a:lnTo>
                    <a:lnTo>
                      <a:pt x="2025" y="839"/>
                    </a:lnTo>
                    <a:lnTo>
                      <a:pt x="2029" y="850"/>
                    </a:lnTo>
                    <a:lnTo>
                      <a:pt x="2033" y="859"/>
                    </a:lnTo>
                    <a:lnTo>
                      <a:pt x="2040" y="870"/>
                    </a:lnTo>
                    <a:lnTo>
                      <a:pt x="2045" y="880"/>
                    </a:lnTo>
                    <a:lnTo>
                      <a:pt x="2053" y="890"/>
                    </a:lnTo>
                    <a:lnTo>
                      <a:pt x="2068" y="910"/>
                    </a:lnTo>
                    <a:lnTo>
                      <a:pt x="2085" y="930"/>
                    </a:lnTo>
                    <a:lnTo>
                      <a:pt x="2105" y="948"/>
                    </a:lnTo>
                    <a:lnTo>
                      <a:pt x="2124" y="967"/>
                    </a:lnTo>
                    <a:lnTo>
                      <a:pt x="2146" y="986"/>
                    </a:lnTo>
                    <a:lnTo>
                      <a:pt x="2167" y="1004"/>
                    </a:lnTo>
                    <a:lnTo>
                      <a:pt x="2212" y="1039"/>
                    </a:lnTo>
                    <a:lnTo>
                      <a:pt x="2255" y="1071"/>
                    </a:lnTo>
                    <a:lnTo>
                      <a:pt x="2234" y="1084"/>
                    </a:lnTo>
                    <a:lnTo>
                      <a:pt x="2216" y="1098"/>
                    </a:lnTo>
                    <a:lnTo>
                      <a:pt x="2200" y="1112"/>
                    </a:lnTo>
                    <a:lnTo>
                      <a:pt x="2185" y="1128"/>
                    </a:lnTo>
                    <a:lnTo>
                      <a:pt x="2171" y="1144"/>
                    </a:lnTo>
                    <a:lnTo>
                      <a:pt x="2159" y="1161"/>
                    </a:lnTo>
                    <a:lnTo>
                      <a:pt x="2148" y="1179"/>
                    </a:lnTo>
                    <a:lnTo>
                      <a:pt x="2139" y="1196"/>
                    </a:lnTo>
                    <a:lnTo>
                      <a:pt x="2132" y="1216"/>
                    </a:lnTo>
                    <a:lnTo>
                      <a:pt x="2126" y="1234"/>
                    </a:lnTo>
                    <a:lnTo>
                      <a:pt x="2122" y="1255"/>
                    </a:lnTo>
                    <a:lnTo>
                      <a:pt x="2118" y="1274"/>
                    </a:lnTo>
                    <a:lnTo>
                      <a:pt x="2115" y="1295"/>
                    </a:lnTo>
                    <a:lnTo>
                      <a:pt x="2115" y="1315"/>
                    </a:lnTo>
                    <a:lnTo>
                      <a:pt x="2115" y="1337"/>
                    </a:lnTo>
                    <a:lnTo>
                      <a:pt x="2117" y="1357"/>
                    </a:lnTo>
                    <a:lnTo>
                      <a:pt x="2119" y="1373"/>
                    </a:lnTo>
                    <a:lnTo>
                      <a:pt x="2122" y="1390"/>
                    </a:lnTo>
                    <a:lnTo>
                      <a:pt x="2126" y="1406"/>
                    </a:lnTo>
                    <a:lnTo>
                      <a:pt x="2131" y="1422"/>
                    </a:lnTo>
                    <a:lnTo>
                      <a:pt x="2137" y="1438"/>
                    </a:lnTo>
                    <a:lnTo>
                      <a:pt x="2145" y="1454"/>
                    </a:lnTo>
                    <a:lnTo>
                      <a:pt x="2152" y="1471"/>
                    </a:lnTo>
                    <a:lnTo>
                      <a:pt x="2161" y="1487"/>
                    </a:lnTo>
                    <a:lnTo>
                      <a:pt x="2171" y="1502"/>
                    </a:lnTo>
                    <a:lnTo>
                      <a:pt x="2181" y="1518"/>
                    </a:lnTo>
                    <a:lnTo>
                      <a:pt x="2192" y="1533"/>
                    </a:lnTo>
                    <a:lnTo>
                      <a:pt x="2204" y="1547"/>
                    </a:lnTo>
                    <a:lnTo>
                      <a:pt x="2217" y="1562"/>
                    </a:lnTo>
                    <a:lnTo>
                      <a:pt x="2230" y="1576"/>
                    </a:lnTo>
                    <a:lnTo>
                      <a:pt x="2243" y="1589"/>
                    </a:lnTo>
                    <a:lnTo>
                      <a:pt x="2258" y="1602"/>
                    </a:lnTo>
                    <a:lnTo>
                      <a:pt x="2305" y="1642"/>
                    </a:lnTo>
                    <a:lnTo>
                      <a:pt x="2354" y="1684"/>
                    </a:lnTo>
                    <a:lnTo>
                      <a:pt x="2379" y="1705"/>
                    </a:lnTo>
                    <a:lnTo>
                      <a:pt x="2404" y="1727"/>
                    </a:lnTo>
                    <a:lnTo>
                      <a:pt x="2427" y="1749"/>
                    </a:lnTo>
                    <a:lnTo>
                      <a:pt x="2449" y="1771"/>
                    </a:lnTo>
                    <a:lnTo>
                      <a:pt x="2469" y="1792"/>
                    </a:lnTo>
                    <a:lnTo>
                      <a:pt x="2487" y="1815"/>
                    </a:lnTo>
                    <a:lnTo>
                      <a:pt x="2496" y="1827"/>
                    </a:lnTo>
                    <a:lnTo>
                      <a:pt x="2503" y="1838"/>
                    </a:lnTo>
                    <a:lnTo>
                      <a:pt x="2511" y="1850"/>
                    </a:lnTo>
                    <a:lnTo>
                      <a:pt x="2516" y="1862"/>
                    </a:lnTo>
                    <a:lnTo>
                      <a:pt x="2522" y="1872"/>
                    </a:lnTo>
                    <a:lnTo>
                      <a:pt x="2527" y="1884"/>
                    </a:lnTo>
                    <a:lnTo>
                      <a:pt x="2530" y="1896"/>
                    </a:lnTo>
                    <a:lnTo>
                      <a:pt x="2534" y="1908"/>
                    </a:lnTo>
                    <a:lnTo>
                      <a:pt x="2535" y="1920"/>
                    </a:lnTo>
                    <a:lnTo>
                      <a:pt x="2536" y="1932"/>
                    </a:lnTo>
                    <a:lnTo>
                      <a:pt x="2536" y="1944"/>
                    </a:lnTo>
                    <a:lnTo>
                      <a:pt x="2535" y="1956"/>
                    </a:lnTo>
                    <a:lnTo>
                      <a:pt x="2532" y="1964"/>
                    </a:lnTo>
                    <a:lnTo>
                      <a:pt x="2529" y="1971"/>
                    </a:lnTo>
                    <a:lnTo>
                      <a:pt x="2526" y="1976"/>
                    </a:lnTo>
                    <a:lnTo>
                      <a:pt x="2521" y="1980"/>
                    </a:lnTo>
                    <a:lnTo>
                      <a:pt x="2514" y="1984"/>
                    </a:lnTo>
                    <a:lnTo>
                      <a:pt x="2508" y="1986"/>
                    </a:lnTo>
                    <a:lnTo>
                      <a:pt x="2500" y="1988"/>
                    </a:lnTo>
                    <a:lnTo>
                      <a:pt x="2491" y="1989"/>
                    </a:lnTo>
                    <a:lnTo>
                      <a:pt x="2473" y="1989"/>
                    </a:lnTo>
                    <a:lnTo>
                      <a:pt x="2453" y="1987"/>
                    </a:lnTo>
                    <a:lnTo>
                      <a:pt x="2430" y="1985"/>
                    </a:lnTo>
                    <a:lnTo>
                      <a:pt x="2405" y="1981"/>
                    </a:lnTo>
                    <a:lnTo>
                      <a:pt x="2380" y="1978"/>
                    </a:lnTo>
                    <a:lnTo>
                      <a:pt x="2354" y="1977"/>
                    </a:lnTo>
                    <a:lnTo>
                      <a:pt x="2340" y="1976"/>
                    </a:lnTo>
                    <a:lnTo>
                      <a:pt x="2327" y="1977"/>
                    </a:lnTo>
                    <a:lnTo>
                      <a:pt x="2314" y="1977"/>
                    </a:lnTo>
                    <a:lnTo>
                      <a:pt x="2302" y="1979"/>
                    </a:lnTo>
                    <a:lnTo>
                      <a:pt x="2289" y="1981"/>
                    </a:lnTo>
                    <a:lnTo>
                      <a:pt x="2276" y="1985"/>
                    </a:lnTo>
                    <a:lnTo>
                      <a:pt x="2265" y="1989"/>
                    </a:lnTo>
                    <a:lnTo>
                      <a:pt x="2253" y="1994"/>
                    </a:lnTo>
                    <a:lnTo>
                      <a:pt x="2242" y="2001"/>
                    </a:lnTo>
                    <a:lnTo>
                      <a:pt x="2231" y="2008"/>
                    </a:lnTo>
                    <a:lnTo>
                      <a:pt x="2220" y="2017"/>
                    </a:lnTo>
                    <a:lnTo>
                      <a:pt x="2211" y="2028"/>
                    </a:lnTo>
                    <a:lnTo>
                      <a:pt x="2228" y="2041"/>
                    </a:lnTo>
                    <a:lnTo>
                      <a:pt x="2246" y="2053"/>
                    </a:lnTo>
                    <a:lnTo>
                      <a:pt x="2263" y="2066"/>
                    </a:lnTo>
                    <a:lnTo>
                      <a:pt x="2282" y="2078"/>
                    </a:lnTo>
                    <a:lnTo>
                      <a:pt x="2299" y="2092"/>
                    </a:lnTo>
                    <a:lnTo>
                      <a:pt x="2315" y="2106"/>
                    </a:lnTo>
                    <a:lnTo>
                      <a:pt x="2322" y="2113"/>
                    </a:lnTo>
                    <a:lnTo>
                      <a:pt x="2329" y="2122"/>
                    </a:lnTo>
                    <a:lnTo>
                      <a:pt x="2336" y="2132"/>
                    </a:lnTo>
                    <a:lnTo>
                      <a:pt x="2341" y="2141"/>
                    </a:lnTo>
                    <a:lnTo>
                      <a:pt x="2346" y="2150"/>
                    </a:lnTo>
                    <a:lnTo>
                      <a:pt x="2348" y="2160"/>
                    </a:lnTo>
                    <a:lnTo>
                      <a:pt x="2349" y="2168"/>
                    </a:lnTo>
                    <a:lnTo>
                      <a:pt x="2348" y="2177"/>
                    </a:lnTo>
                    <a:lnTo>
                      <a:pt x="2347" y="2181"/>
                    </a:lnTo>
                    <a:lnTo>
                      <a:pt x="2344" y="2186"/>
                    </a:lnTo>
                    <a:lnTo>
                      <a:pt x="2342" y="2189"/>
                    </a:lnTo>
                    <a:lnTo>
                      <a:pt x="2339" y="2192"/>
                    </a:lnTo>
                    <a:lnTo>
                      <a:pt x="2336" y="2195"/>
                    </a:lnTo>
                    <a:lnTo>
                      <a:pt x="2332" y="2197"/>
                    </a:lnTo>
                    <a:lnTo>
                      <a:pt x="2327" y="2200"/>
                    </a:lnTo>
                    <a:lnTo>
                      <a:pt x="2322" y="2201"/>
                    </a:lnTo>
                    <a:lnTo>
                      <a:pt x="2297" y="2204"/>
                    </a:lnTo>
                    <a:lnTo>
                      <a:pt x="2272" y="2206"/>
                    </a:lnTo>
                    <a:lnTo>
                      <a:pt x="2247" y="2207"/>
                    </a:lnTo>
                    <a:lnTo>
                      <a:pt x="2221" y="2207"/>
                    </a:lnTo>
                    <a:lnTo>
                      <a:pt x="2196" y="2207"/>
                    </a:lnTo>
                    <a:lnTo>
                      <a:pt x="2172" y="2206"/>
                    </a:lnTo>
                    <a:lnTo>
                      <a:pt x="2147" y="2206"/>
                    </a:lnTo>
                    <a:lnTo>
                      <a:pt x="2122" y="2205"/>
                    </a:lnTo>
                    <a:lnTo>
                      <a:pt x="2124" y="2224"/>
                    </a:lnTo>
                    <a:lnTo>
                      <a:pt x="2130" y="2243"/>
                    </a:lnTo>
                    <a:lnTo>
                      <a:pt x="2136" y="2261"/>
                    </a:lnTo>
                    <a:lnTo>
                      <a:pt x="2144" y="2277"/>
                    </a:lnTo>
                    <a:lnTo>
                      <a:pt x="2152" y="2294"/>
                    </a:lnTo>
                    <a:lnTo>
                      <a:pt x="2163" y="2309"/>
                    </a:lnTo>
                    <a:lnTo>
                      <a:pt x="2174" y="2324"/>
                    </a:lnTo>
                    <a:lnTo>
                      <a:pt x="2186" y="2339"/>
                    </a:lnTo>
                    <a:lnTo>
                      <a:pt x="2199" y="2353"/>
                    </a:lnTo>
                    <a:lnTo>
                      <a:pt x="2213" y="2366"/>
                    </a:lnTo>
                    <a:lnTo>
                      <a:pt x="2227" y="2380"/>
                    </a:lnTo>
                    <a:lnTo>
                      <a:pt x="2241" y="2393"/>
                    </a:lnTo>
                    <a:lnTo>
                      <a:pt x="2270" y="2418"/>
                    </a:lnTo>
                    <a:lnTo>
                      <a:pt x="2299" y="2444"/>
                    </a:lnTo>
                    <a:lnTo>
                      <a:pt x="2313" y="2456"/>
                    </a:lnTo>
                    <a:lnTo>
                      <a:pt x="2326" y="2469"/>
                    </a:lnTo>
                    <a:lnTo>
                      <a:pt x="2339" y="2482"/>
                    </a:lnTo>
                    <a:lnTo>
                      <a:pt x="2351" y="2494"/>
                    </a:lnTo>
                    <a:lnTo>
                      <a:pt x="2362" y="2509"/>
                    </a:lnTo>
                    <a:lnTo>
                      <a:pt x="2373" y="2523"/>
                    </a:lnTo>
                    <a:lnTo>
                      <a:pt x="2381" y="2537"/>
                    </a:lnTo>
                    <a:lnTo>
                      <a:pt x="2389" y="2551"/>
                    </a:lnTo>
                    <a:lnTo>
                      <a:pt x="2394" y="2566"/>
                    </a:lnTo>
                    <a:lnTo>
                      <a:pt x="2398" y="2582"/>
                    </a:lnTo>
                    <a:lnTo>
                      <a:pt x="2402" y="2598"/>
                    </a:lnTo>
                    <a:lnTo>
                      <a:pt x="2403" y="2615"/>
                    </a:lnTo>
                    <a:lnTo>
                      <a:pt x="2401" y="2634"/>
                    </a:lnTo>
                    <a:lnTo>
                      <a:pt x="2397" y="2652"/>
                    </a:lnTo>
                    <a:lnTo>
                      <a:pt x="2392" y="2672"/>
                    </a:lnTo>
                    <a:lnTo>
                      <a:pt x="2383" y="2692"/>
                    </a:lnTo>
                    <a:lnTo>
                      <a:pt x="2380" y="2700"/>
                    </a:lnTo>
                    <a:lnTo>
                      <a:pt x="2377" y="2705"/>
                    </a:lnTo>
                    <a:lnTo>
                      <a:pt x="2374" y="2710"/>
                    </a:lnTo>
                    <a:lnTo>
                      <a:pt x="2369" y="2715"/>
                    </a:lnTo>
                    <a:lnTo>
                      <a:pt x="2366" y="2719"/>
                    </a:lnTo>
                    <a:lnTo>
                      <a:pt x="2362" y="2722"/>
                    </a:lnTo>
                    <a:lnTo>
                      <a:pt x="2357" y="2725"/>
                    </a:lnTo>
                    <a:lnTo>
                      <a:pt x="2353" y="2727"/>
                    </a:lnTo>
                    <a:lnTo>
                      <a:pt x="2344" y="2729"/>
                    </a:lnTo>
                    <a:lnTo>
                      <a:pt x="2336" y="2729"/>
                    </a:lnTo>
                    <a:lnTo>
                      <a:pt x="2326" y="2728"/>
                    </a:lnTo>
                    <a:lnTo>
                      <a:pt x="2316" y="2725"/>
                    </a:lnTo>
                    <a:lnTo>
                      <a:pt x="2297" y="2718"/>
                    </a:lnTo>
                    <a:lnTo>
                      <a:pt x="2276" y="2710"/>
                    </a:lnTo>
                    <a:lnTo>
                      <a:pt x="2267" y="2708"/>
                    </a:lnTo>
                    <a:lnTo>
                      <a:pt x="2256" y="2706"/>
                    </a:lnTo>
                    <a:lnTo>
                      <a:pt x="2245" y="2706"/>
                    </a:lnTo>
                    <a:lnTo>
                      <a:pt x="2235" y="2707"/>
                    </a:lnTo>
                    <a:lnTo>
                      <a:pt x="2230" y="2708"/>
                    </a:lnTo>
                    <a:lnTo>
                      <a:pt x="2226" y="2710"/>
                    </a:lnTo>
                    <a:lnTo>
                      <a:pt x="2221" y="2712"/>
                    </a:lnTo>
                    <a:lnTo>
                      <a:pt x="2219" y="2714"/>
                    </a:lnTo>
                    <a:lnTo>
                      <a:pt x="2216" y="2717"/>
                    </a:lnTo>
                    <a:lnTo>
                      <a:pt x="2215" y="2720"/>
                    </a:lnTo>
                    <a:lnTo>
                      <a:pt x="2214" y="2723"/>
                    </a:lnTo>
                    <a:lnTo>
                      <a:pt x="2214" y="2727"/>
                    </a:lnTo>
                    <a:lnTo>
                      <a:pt x="2214" y="2734"/>
                    </a:lnTo>
                    <a:lnTo>
                      <a:pt x="2216" y="2742"/>
                    </a:lnTo>
                    <a:lnTo>
                      <a:pt x="2218" y="2752"/>
                    </a:lnTo>
                    <a:lnTo>
                      <a:pt x="2222" y="2760"/>
                    </a:lnTo>
                    <a:lnTo>
                      <a:pt x="2230" y="2779"/>
                    </a:lnTo>
                    <a:lnTo>
                      <a:pt x="2236" y="2795"/>
                    </a:lnTo>
                    <a:lnTo>
                      <a:pt x="2238" y="2802"/>
                    </a:lnTo>
                    <a:lnTo>
                      <a:pt x="2236" y="2809"/>
                    </a:lnTo>
                    <a:lnTo>
                      <a:pt x="2235" y="2812"/>
                    </a:lnTo>
                    <a:lnTo>
                      <a:pt x="2233" y="2814"/>
                    </a:lnTo>
                    <a:lnTo>
                      <a:pt x="2231" y="2816"/>
                    </a:lnTo>
                    <a:lnTo>
                      <a:pt x="2228" y="2818"/>
                    </a:lnTo>
                    <a:lnTo>
                      <a:pt x="2206" y="2829"/>
                    </a:lnTo>
                    <a:lnTo>
                      <a:pt x="2185" y="2838"/>
                    </a:lnTo>
                    <a:lnTo>
                      <a:pt x="2161" y="2845"/>
                    </a:lnTo>
                    <a:lnTo>
                      <a:pt x="2136" y="2851"/>
                    </a:lnTo>
                    <a:lnTo>
                      <a:pt x="2123" y="2853"/>
                    </a:lnTo>
                    <a:lnTo>
                      <a:pt x="2110" y="2855"/>
                    </a:lnTo>
                    <a:lnTo>
                      <a:pt x="2097" y="2855"/>
                    </a:lnTo>
                    <a:lnTo>
                      <a:pt x="2084" y="2856"/>
                    </a:lnTo>
                    <a:lnTo>
                      <a:pt x="2071" y="2855"/>
                    </a:lnTo>
                    <a:lnTo>
                      <a:pt x="2058" y="2855"/>
                    </a:lnTo>
                    <a:lnTo>
                      <a:pt x="2045" y="2853"/>
                    </a:lnTo>
                    <a:lnTo>
                      <a:pt x="2032" y="2851"/>
                    </a:lnTo>
                    <a:lnTo>
                      <a:pt x="2047" y="2890"/>
                    </a:lnTo>
                    <a:lnTo>
                      <a:pt x="2061" y="2929"/>
                    </a:lnTo>
                    <a:lnTo>
                      <a:pt x="2077" y="2966"/>
                    </a:lnTo>
                    <a:lnTo>
                      <a:pt x="2094" y="3004"/>
                    </a:lnTo>
                    <a:lnTo>
                      <a:pt x="2102" y="3023"/>
                    </a:lnTo>
                    <a:lnTo>
                      <a:pt x="2112" y="3041"/>
                    </a:lnTo>
                    <a:lnTo>
                      <a:pt x="2123" y="3058"/>
                    </a:lnTo>
                    <a:lnTo>
                      <a:pt x="2134" y="3076"/>
                    </a:lnTo>
                    <a:lnTo>
                      <a:pt x="2146" y="3093"/>
                    </a:lnTo>
                    <a:lnTo>
                      <a:pt x="2159" y="3109"/>
                    </a:lnTo>
                    <a:lnTo>
                      <a:pt x="2173" y="3125"/>
                    </a:lnTo>
                    <a:lnTo>
                      <a:pt x="2188" y="3140"/>
                    </a:lnTo>
                    <a:lnTo>
                      <a:pt x="2175" y="3145"/>
                    </a:lnTo>
                    <a:lnTo>
                      <a:pt x="2163" y="3150"/>
                    </a:lnTo>
                    <a:lnTo>
                      <a:pt x="2152" y="3157"/>
                    </a:lnTo>
                    <a:lnTo>
                      <a:pt x="2144" y="3164"/>
                    </a:lnTo>
                    <a:lnTo>
                      <a:pt x="2136" y="3173"/>
                    </a:lnTo>
                    <a:lnTo>
                      <a:pt x="2131" y="3181"/>
                    </a:lnTo>
                    <a:lnTo>
                      <a:pt x="2125" y="3191"/>
                    </a:lnTo>
                    <a:lnTo>
                      <a:pt x="2121" y="3201"/>
                    </a:lnTo>
                    <a:lnTo>
                      <a:pt x="2118" y="3212"/>
                    </a:lnTo>
                    <a:lnTo>
                      <a:pt x="2115" y="3222"/>
                    </a:lnTo>
                    <a:lnTo>
                      <a:pt x="2113" y="3234"/>
                    </a:lnTo>
                    <a:lnTo>
                      <a:pt x="2111" y="3246"/>
                    </a:lnTo>
                    <a:lnTo>
                      <a:pt x="2108" y="3271"/>
                    </a:lnTo>
                    <a:lnTo>
                      <a:pt x="2105" y="3296"/>
                    </a:lnTo>
                    <a:lnTo>
                      <a:pt x="2105" y="3301"/>
                    </a:lnTo>
                    <a:lnTo>
                      <a:pt x="2106" y="3306"/>
                    </a:lnTo>
                    <a:lnTo>
                      <a:pt x="2110" y="3310"/>
                    </a:lnTo>
                    <a:lnTo>
                      <a:pt x="2114" y="3314"/>
                    </a:lnTo>
                    <a:lnTo>
                      <a:pt x="2121" y="3316"/>
                    </a:lnTo>
                    <a:lnTo>
                      <a:pt x="2128" y="3319"/>
                    </a:lnTo>
                    <a:lnTo>
                      <a:pt x="2136" y="3319"/>
                    </a:lnTo>
                    <a:lnTo>
                      <a:pt x="2144" y="3317"/>
                    </a:lnTo>
                    <a:lnTo>
                      <a:pt x="2134" y="3317"/>
                    </a:lnTo>
                    <a:lnTo>
                      <a:pt x="2124" y="3317"/>
                    </a:lnTo>
                    <a:lnTo>
                      <a:pt x="2114" y="3319"/>
                    </a:lnTo>
                    <a:lnTo>
                      <a:pt x="2105" y="3321"/>
                    </a:lnTo>
                    <a:lnTo>
                      <a:pt x="2085" y="3325"/>
                    </a:lnTo>
                    <a:lnTo>
                      <a:pt x="2066" y="3331"/>
                    </a:lnTo>
                    <a:lnTo>
                      <a:pt x="2047" y="3338"/>
                    </a:lnTo>
                    <a:lnTo>
                      <a:pt x="2028" y="3342"/>
                    </a:lnTo>
                    <a:lnTo>
                      <a:pt x="2018" y="3343"/>
                    </a:lnTo>
                    <a:lnTo>
                      <a:pt x="2009" y="3343"/>
                    </a:lnTo>
                    <a:lnTo>
                      <a:pt x="1998" y="3342"/>
                    </a:lnTo>
                    <a:lnTo>
                      <a:pt x="1988" y="3340"/>
                    </a:lnTo>
                    <a:lnTo>
                      <a:pt x="1988" y="3362"/>
                    </a:lnTo>
                    <a:lnTo>
                      <a:pt x="1990" y="3383"/>
                    </a:lnTo>
                    <a:lnTo>
                      <a:pt x="1993" y="3405"/>
                    </a:lnTo>
                    <a:lnTo>
                      <a:pt x="1999" y="3425"/>
                    </a:lnTo>
                    <a:lnTo>
                      <a:pt x="2005" y="3445"/>
                    </a:lnTo>
                    <a:lnTo>
                      <a:pt x="2013" y="3464"/>
                    </a:lnTo>
                    <a:lnTo>
                      <a:pt x="2021" y="3484"/>
                    </a:lnTo>
                    <a:lnTo>
                      <a:pt x="2031" y="3502"/>
                    </a:lnTo>
                    <a:lnTo>
                      <a:pt x="2043" y="3520"/>
                    </a:lnTo>
                    <a:lnTo>
                      <a:pt x="2055" y="3538"/>
                    </a:lnTo>
                    <a:lnTo>
                      <a:pt x="2068" y="3554"/>
                    </a:lnTo>
                    <a:lnTo>
                      <a:pt x="2082" y="3570"/>
                    </a:lnTo>
                    <a:lnTo>
                      <a:pt x="2096" y="3586"/>
                    </a:lnTo>
                    <a:lnTo>
                      <a:pt x="2111" y="3601"/>
                    </a:lnTo>
                    <a:lnTo>
                      <a:pt x="2127" y="3616"/>
                    </a:lnTo>
                    <a:lnTo>
                      <a:pt x="2144" y="3630"/>
                    </a:lnTo>
                    <a:lnTo>
                      <a:pt x="2130" y="3632"/>
                    </a:lnTo>
                    <a:lnTo>
                      <a:pt x="2115" y="3635"/>
                    </a:lnTo>
                    <a:lnTo>
                      <a:pt x="2108" y="3637"/>
                    </a:lnTo>
                    <a:lnTo>
                      <a:pt x="2102" y="3639"/>
                    </a:lnTo>
                    <a:lnTo>
                      <a:pt x="2096" y="3643"/>
                    </a:lnTo>
                    <a:lnTo>
                      <a:pt x="2092" y="3646"/>
                    </a:lnTo>
                    <a:lnTo>
                      <a:pt x="2086" y="3650"/>
                    </a:lnTo>
                    <a:lnTo>
                      <a:pt x="2083" y="3654"/>
                    </a:lnTo>
                    <a:lnTo>
                      <a:pt x="2080" y="3660"/>
                    </a:lnTo>
                    <a:lnTo>
                      <a:pt x="2078" y="3665"/>
                    </a:lnTo>
                    <a:lnTo>
                      <a:pt x="2077" y="3672"/>
                    </a:lnTo>
                    <a:lnTo>
                      <a:pt x="2077" y="3679"/>
                    </a:lnTo>
                    <a:lnTo>
                      <a:pt x="2078" y="3687"/>
                    </a:lnTo>
                    <a:lnTo>
                      <a:pt x="2080" y="3695"/>
                    </a:lnTo>
                    <a:lnTo>
                      <a:pt x="2085" y="3714"/>
                    </a:lnTo>
                    <a:lnTo>
                      <a:pt x="2092" y="3731"/>
                    </a:lnTo>
                    <a:lnTo>
                      <a:pt x="2098" y="3748"/>
                    </a:lnTo>
                    <a:lnTo>
                      <a:pt x="2107" y="3766"/>
                    </a:lnTo>
                    <a:lnTo>
                      <a:pt x="2115" y="3782"/>
                    </a:lnTo>
                    <a:lnTo>
                      <a:pt x="2124" y="3797"/>
                    </a:lnTo>
                    <a:lnTo>
                      <a:pt x="2135" y="3813"/>
                    </a:lnTo>
                    <a:lnTo>
                      <a:pt x="2147" y="3827"/>
                    </a:lnTo>
                    <a:lnTo>
                      <a:pt x="2157" y="3838"/>
                    </a:lnTo>
                    <a:lnTo>
                      <a:pt x="2168" y="3848"/>
                    </a:lnTo>
                    <a:lnTo>
                      <a:pt x="2180" y="3856"/>
                    </a:lnTo>
                    <a:lnTo>
                      <a:pt x="2193" y="3864"/>
                    </a:lnTo>
                    <a:lnTo>
                      <a:pt x="2220" y="3878"/>
                    </a:lnTo>
                    <a:lnTo>
                      <a:pt x="2247" y="3891"/>
                    </a:lnTo>
                    <a:lnTo>
                      <a:pt x="2260" y="3897"/>
                    </a:lnTo>
                    <a:lnTo>
                      <a:pt x="2274" y="3905"/>
                    </a:lnTo>
                    <a:lnTo>
                      <a:pt x="2287" y="3913"/>
                    </a:lnTo>
                    <a:lnTo>
                      <a:pt x="2300" y="3920"/>
                    </a:lnTo>
                    <a:lnTo>
                      <a:pt x="2312" y="3929"/>
                    </a:lnTo>
                    <a:lnTo>
                      <a:pt x="2324" y="3940"/>
                    </a:lnTo>
                    <a:lnTo>
                      <a:pt x="2335" y="3950"/>
                    </a:lnTo>
                    <a:lnTo>
                      <a:pt x="2344" y="3963"/>
                    </a:lnTo>
                    <a:lnTo>
                      <a:pt x="2338" y="3967"/>
                    </a:lnTo>
                    <a:lnTo>
                      <a:pt x="2320" y="3977"/>
                    </a:lnTo>
                    <a:lnTo>
                      <a:pt x="2290" y="3994"/>
                    </a:lnTo>
                    <a:lnTo>
                      <a:pt x="2253" y="4014"/>
                    </a:lnTo>
                    <a:lnTo>
                      <a:pt x="2208" y="4037"/>
                    </a:lnTo>
                    <a:lnTo>
                      <a:pt x="2158" y="4060"/>
                    </a:lnTo>
                    <a:lnTo>
                      <a:pt x="2131" y="4072"/>
                    </a:lnTo>
                    <a:lnTo>
                      <a:pt x="2102" y="4084"/>
                    </a:lnTo>
                    <a:lnTo>
                      <a:pt x="2074" y="4096"/>
                    </a:lnTo>
                    <a:lnTo>
                      <a:pt x="2045" y="4106"/>
                    </a:lnTo>
                    <a:lnTo>
                      <a:pt x="2016" y="4117"/>
                    </a:lnTo>
                    <a:lnTo>
                      <a:pt x="1990" y="4127"/>
                    </a:lnTo>
                    <a:lnTo>
                      <a:pt x="1964" y="4139"/>
                    </a:lnTo>
                    <a:lnTo>
                      <a:pt x="1940" y="4150"/>
                    </a:lnTo>
                    <a:lnTo>
                      <a:pt x="1899" y="4171"/>
                    </a:lnTo>
                    <a:lnTo>
                      <a:pt x="1864" y="4189"/>
                    </a:lnTo>
                    <a:lnTo>
                      <a:pt x="1837" y="4206"/>
                    </a:lnTo>
                    <a:lnTo>
                      <a:pt x="1816" y="4218"/>
                    </a:lnTo>
                    <a:lnTo>
                      <a:pt x="1804" y="4227"/>
                    </a:lnTo>
                    <a:lnTo>
                      <a:pt x="1800" y="4230"/>
                    </a:lnTo>
                    <a:close/>
                  </a:path>
                </a:pathLst>
              </a:custGeom>
              <a:solidFill>
                <a:srgbClr val="5b8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5300640" y="3730680"/>
                <a:ext cx="787320" cy="1343160"/>
              </a:xfrm>
              <a:custGeom>
                <a:avLst/>
                <a:gdLst/>
                <a:ahLst/>
                <a:rect l="l" t="t" r="r" b="b"/>
                <a:pathLst>
                  <a:path w="2480" h="4230">
                    <a:moveTo>
                      <a:pt x="2201" y="1075"/>
                    </a:moveTo>
                    <a:lnTo>
                      <a:pt x="2180" y="1088"/>
                    </a:lnTo>
                    <a:lnTo>
                      <a:pt x="2161" y="1101"/>
                    </a:lnTo>
                    <a:lnTo>
                      <a:pt x="2144" y="1115"/>
                    </a:lnTo>
                    <a:lnTo>
                      <a:pt x="2128" y="1129"/>
                    </a:lnTo>
                    <a:lnTo>
                      <a:pt x="2115" y="1146"/>
                    </a:lnTo>
                    <a:lnTo>
                      <a:pt x="2104" y="1161"/>
                    </a:lnTo>
                    <a:lnTo>
                      <a:pt x="2093" y="1177"/>
                    </a:lnTo>
                    <a:lnTo>
                      <a:pt x="2084" y="1194"/>
                    </a:lnTo>
                    <a:lnTo>
                      <a:pt x="2077" y="1213"/>
                    </a:lnTo>
                    <a:lnTo>
                      <a:pt x="2071" y="1231"/>
                    </a:lnTo>
                    <a:lnTo>
                      <a:pt x="2067" y="1249"/>
                    </a:lnTo>
                    <a:lnTo>
                      <a:pt x="2064" y="1269"/>
                    </a:lnTo>
                    <a:lnTo>
                      <a:pt x="2061" y="1288"/>
                    </a:lnTo>
                    <a:lnTo>
                      <a:pt x="2060" y="1309"/>
                    </a:lnTo>
                    <a:lnTo>
                      <a:pt x="2060" y="1329"/>
                    </a:lnTo>
                    <a:lnTo>
                      <a:pt x="2063" y="1350"/>
                    </a:lnTo>
                    <a:lnTo>
                      <a:pt x="2065" y="1366"/>
                    </a:lnTo>
                    <a:lnTo>
                      <a:pt x="2068" y="1383"/>
                    </a:lnTo>
                    <a:lnTo>
                      <a:pt x="2072" y="1399"/>
                    </a:lnTo>
                    <a:lnTo>
                      <a:pt x="2079" y="1417"/>
                    </a:lnTo>
                    <a:lnTo>
                      <a:pt x="2086" y="1434"/>
                    </a:lnTo>
                    <a:lnTo>
                      <a:pt x="2095" y="1451"/>
                    </a:lnTo>
                    <a:lnTo>
                      <a:pt x="2104" y="1468"/>
                    </a:lnTo>
                    <a:lnTo>
                      <a:pt x="2113" y="1486"/>
                    </a:lnTo>
                    <a:lnTo>
                      <a:pt x="2125" y="1503"/>
                    </a:lnTo>
                    <a:lnTo>
                      <a:pt x="2136" y="1520"/>
                    </a:lnTo>
                    <a:lnTo>
                      <a:pt x="2149" y="1537"/>
                    </a:lnTo>
                    <a:lnTo>
                      <a:pt x="2161" y="1552"/>
                    </a:lnTo>
                    <a:lnTo>
                      <a:pt x="2175" y="1567"/>
                    </a:lnTo>
                    <a:lnTo>
                      <a:pt x="2188" y="1581"/>
                    </a:lnTo>
                    <a:lnTo>
                      <a:pt x="2202" y="1595"/>
                    </a:lnTo>
                    <a:lnTo>
                      <a:pt x="2216" y="1608"/>
                    </a:lnTo>
                    <a:lnTo>
                      <a:pt x="2262" y="1647"/>
                    </a:lnTo>
                    <a:lnTo>
                      <a:pt x="2310" y="1684"/>
                    </a:lnTo>
                    <a:lnTo>
                      <a:pt x="2334" y="1703"/>
                    </a:lnTo>
                    <a:lnTo>
                      <a:pt x="2356" y="1722"/>
                    </a:lnTo>
                    <a:lnTo>
                      <a:pt x="2379" y="1741"/>
                    </a:lnTo>
                    <a:lnTo>
                      <a:pt x="2400" y="1760"/>
                    </a:lnTo>
                    <a:lnTo>
                      <a:pt x="2418" y="1780"/>
                    </a:lnTo>
                    <a:lnTo>
                      <a:pt x="2435" y="1799"/>
                    </a:lnTo>
                    <a:lnTo>
                      <a:pt x="2443" y="1809"/>
                    </a:lnTo>
                    <a:lnTo>
                      <a:pt x="2450" y="1819"/>
                    </a:lnTo>
                    <a:lnTo>
                      <a:pt x="2457" y="1829"/>
                    </a:lnTo>
                    <a:lnTo>
                      <a:pt x="2462" y="1840"/>
                    </a:lnTo>
                    <a:lnTo>
                      <a:pt x="2467" y="1851"/>
                    </a:lnTo>
                    <a:lnTo>
                      <a:pt x="2471" y="1862"/>
                    </a:lnTo>
                    <a:lnTo>
                      <a:pt x="2474" y="1872"/>
                    </a:lnTo>
                    <a:lnTo>
                      <a:pt x="2477" y="1884"/>
                    </a:lnTo>
                    <a:lnTo>
                      <a:pt x="2478" y="1895"/>
                    </a:lnTo>
                    <a:lnTo>
                      <a:pt x="2480" y="1907"/>
                    </a:lnTo>
                    <a:lnTo>
                      <a:pt x="2478" y="1919"/>
                    </a:lnTo>
                    <a:lnTo>
                      <a:pt x="2477" y="1931"/>
                    </a:lnTo>
                    <a:lnTo>
                      <a:pt x="2475" y="1939"/>
                    </a:lnTo>
                    <a:lnTo>
                      <a:pt x="2473" y="1946"/>
                    </a:lnTo>
                    <a:lnTo>
                      <a:pt x="2469" y="1951"/>
                    </a:lnTo>
                    <a:lnTo>
                      <a:pt x="2464" y="1956"/>
                    </a:lnTo>
                    <a:lnTo>
                      <a:pt x="2458" y="1959"/>
                    </a:lnTo>
                    <a:lnTo>
                      <a:pt x="2451" y="1962"/>
                    </a:lnTo>
                    <a:lnTo>
                      <a:pt x="2444" y="1964"/>
                    </a:lnTo>
                    <a:lnTo>
                      <a:pt x="2436" y="1965"/>
                    </a:lnTo>
                    <a:lnTo>
                      <a:pt x="2418" y="1965"/>
                    </a:lnTo>
                    <a:lnTo>
                      <a:pt x="2397" y="1964"/>
                    </a:lnTo>
                    <a:lnTo>
                      <a:pt x="2376" y="1962"/>
                    </a:lnTo>
                    <a:lnTo>
                      <a:pt x="2352" y="1959"/>
                    </a:lnTo>
                    <a:lnTo>
                      <a:pt x="2327" y="1957"/>
                    </a:lnTo>
                    <a:lnTo>
                      <a:pt x="2302" y="1956"/>
                    </a:lnTo>
                    <a:lnTo>
                      <a:pt x="2289" y="1956"/>
                    </a:lnTo>
                    <a:lnTo>
                      <a:pt x="2278" y="1956"/>
                    </a:lnTo>
                    <a:lnTo>
                      <a:pt x="2265" y="1957"/>
                    </a:lnTo>
                    <a:lnTo>
                      <a:pt x="2253" y="1959"/>
                    </a:lnTo>
                    <a:lnTo>
                      <a:pt x="2240" y="1961"/>
                    </a:lnTo>
                    <a:lnTo>
                      <a:pt x="2228" y="1964"/>
                    </a:lnTo>
                    <a:lnTo>
                      <a:pt x="2216" y="1969"/>
                    </a:lnTo>
                    <a:lnTo>
                      <a:pt x="2205" y="1974"/>
                    </a:lnTo>
                    <a:lnTo>
                      <a:pt x="2194" y="1980"/>
                    </a:lnTo>
                    <a:lnTo>
                      <a:pt x="2184" y="1988"/>
                    </a:lnTo>
                    <a:lnTo>
                      <a:pt x="2173" y="1998"/>
                    </a:lnTo>
                    <a:lnTo>
                      <a:pt x="2164" y="2007"/>
                    </a:lnTo>
                    <a:lnTo>
                      <a:pt x="2180" y="2021"/>
                    </a:lnTo>
                    <a:lnTo>
                      <a:pt x="2199" y="2035"/>
                    </a:lnTo>
                    <a:lnTo>
                      <a:pt x="2216" y="2050"/>
                    </a:lnTo>
                    <a:lnTo>
                      <a:pt x="2233" y="2065"/>
                    </a:lnTo>
                    <a:lnTo>
                      <a:pt x="2250" y="2080"/>
                    </a:lnTo>
                    <a:lnTo>
                      <a:pt x="2266" y="2096"/>
                    </a:lnTo>
                    <a:lnTo>
                      <a:pt x="2273" y="2106"/>
                    </a:lnTo>
                    <a:lnTo>
                      <a:pt x="2280" y="2114"/>
                    </a:lnTo>
                    <a:lnTo>
                      <a:pt x="2286" y="2124"/>
                    </a:lnTo>
                    <a:lnTo>
                      <a:pt x="2293" y="2134"/>
                    </a:lnTo>
                    <a:lnTo>
                      <a:pt x="2297" y="2142"/>
                    </a:lnTo>
                    <a:lnTo>
                      <a:pt x="2301" y="2151"/>
                    </a:lnTo>
                    <a:lnTo>
                      <a:pt x="2305" y="2161"/>
                    </a:lnTo>
                    <a:lnTo>
                      <a:pt x="2307" y="2168"/>
                    </a:lnTo>
                    <a:lnTo>
                      <a:pt x="2307" y="2173"/>
                    </a:lnTo>
                    <a:lnTo>
                      <a:pt x="2307" y="2176"/>
                    </a:lnTo>
                    <a:lnTo>
                      <a:pt x="2306" y="2180"/>
                    </a:lnTo>
                    <a:lnTo>
                      <a:pt x="2305" y="2182"/>
                    </a:lnTo>
                    <a:lnTo>
                      <a:pt x="2302" y="2186"/>
                    </a:lnTo>
                    <a:lnTo>
                      <a:pt x="2299" y="2188"/>
                    </a:lnTo>
                    <a:lnTo>
                      <a:pt x="2295" y="2190"/>
                    </a:lnTo>
                    <a:lnTo>
                      <a:pt x="2289" y="2191"/>
                    </a:lnTo>
                    <a:lnTo>
                      <a:pt x="2265" y="2193"/>
                    </a:lnTo>
                    <a:lnTo>
                      <a:pt x="2240" y="2195"/>
                    </a:lnTo>
                    <a:lnTo>
                      <a:pt x="2215" y="2196"/>
                    </a:lnTo>
                    <a:lnTo>
                      <a:pt x="2190" y="2196"/>
                    </a:lnTo>
                    <a:lnTo>
                      <a:pt x="2164" y="2196"/>
                    </a:lnTo>
                    <a:lnTo>
                      <a:pt x="2139" y="2196"/>
                    </a:lnTo>
                    <a:lnTo>
                      <a:pt x="2114" y="2195"/>
                    </a:lnTo>
                    <a:lnTo>
                      <a:pt x="2090" y="2195"/>
                    </a:lnTo>
                    <a:lnTo>
                      <a:pt x="2093" y="2215"/>
                    </a:lnTo>
                    <a:lnTo>
                      <a:pt x="2097" y="2233"/>
                    </a:lnTo>
                    <a:lnTo>
                      <a:pt x="2104" y="2250"/>
                    </a:lnTo>
                    <a:lnTo>
                      <a:pt x="2111" y="2267"/>
                    </a:lnTo>
                    <a:lnTo>
                      <a:pt x="2120" y="2282"/>
                    </a:lnTo>
                    <a:lnTo>
                      <a:pt x="2130" y="2297"/>
                    </a:lnTo>
                    <a:lnTo>
                      <a:pt x="2141" y="2310"/>
                    </a:lnTo>
                    <a:lnTo>
                      <a:pt x="2153" y="2324"/>
                    </a:lnTo>
                    <a:lnTo>
                      <a:pt x="2165" y="2337"/>
                    </a:lnTo>
                    <a:lnTo>
                      <a:pt x="2179" y="2349"/>
                    </a:lnTo>
                    <a:lnTo>
                      <a:pt x="2192" y="2361"/>
                    </a:lnTo>
                    <a:lnTo>
                      <a:pt x="2206" y="2372"/>
                    </a:lnTo>
                    <a:lnTo>
                      <a:pt x="2235" y="2395"/>
                    </a:lnTo>
                    <a:lnTo>
                      <a:pt x="2263" y="2418"/>
                    </a:lnTo>
                    <a:lnTo>
                      <a:pt x="2278" y="2429"/>
                    </a:lnTo>
                    <a:lnTo>
                      <a:pt x="2290" y="2439"/>
                    </a:lnTo>
                    <a:lnTo>
                      <a:pt x="2302" y="2451"/>
                    </a:lnTo>
                    <a:lnTo>
                      <a:pt x="2314" y="2463"/>
                    </a:lnTo>
                    <a:lnTo>
                      <a:pt x="2325" y="2475"/>
                    </a:lnTo>
                    <a:lnTo>
                      <a:pt x="2335" y="2488"/>
                    </a:lnTo>
                    <a:lnTo>
                      <a:pt x="2343" y="2501"/>
                    </a:lnTo>
                    <a:lnTo>
                      <a:pt x="2351" y="2514"/>
                    </a:lnTo>
                    <a:lnTo>
                      <a:pt x="2357" y="2528"/>
                    </a:lnTo>
                    <a:lnTo>
                      <a:pt x="2362" y="2543"/>
                    </a:lnTo>
                    <a:lnTo>
                      <a:pt x="2364" y="2558"/>
                    </a:lnTo>
                    <a:lnTo>
                      <a:pt x="2365" y="2574"/>
                    </a:lnTo>
                    <a:lnTo>
                      <a:pt x="2364" y="2593"/>
                    </a:lnTo>
                    <a:lnTo>
                      <a:pt x="2361" y="2610"/>
                    </a:lnTo>
                    <a:lnTo>
                      <a:pt x="2354" y="2629"/>
                    </a:lnTo>
                    <a:lnTo>
                      <a:pt x="2347" y="2650"/>
                    </a:lnTo>
                    <a:lnTo>
                      <a:pt x="2340" y="2663"/>
                    </a:lnTo>
                    <a:lnTo>
                      <a:pt x="2333" y="2673"/>
                    </a:lnTo>
                    <a:lnTo>
                      <a:pt x="2325" y="2680"/>
                    </a:lnTo>
                    <a:lnTo>
                      <a:pt x="2317" y="2685"/>
                    </a:lnTo>
                    <a:lnTo>
                      <a:pt x="2309" y="2687"/>
                    </a:lnTo>
                    <a:lnTo>
                      <a:pt x="2300" y="2688"/>
                    </a:lnTo>
                    <a:lnTo>
                      <a:pt x="2292" y="2687"/>
                    </a:lnTo>
                    <a:lnTo>
                      <a:pt x="2282" y="2686"/>
                    </a:lnTo>
                    <a:lnTo>
                      <a:pt x="2263" y="2680"/>
                    </a:lnTo>
                    <a:lnTo>
                      <a:pt x="2244" y="2674"/>
                    </a:lnTo>
                    <a:lnTo>
                      <a:pt x="2233" y="2672"/>
                    </a:lnTo>
                    <a:lnTo>
                      <a:pt x="2223" y="2669"/>
                    </a:lnTo>
                    <a:lnTo>
                      <a:pt x="2214" y="2669"/>
                    </a:lnTo>
                    <a:lnTo>
                      <a:pt x="2203" y="2671"/>
                    </a:lnTo>
                    <a:lnTo>
                      <a:pt x="2198" y="2672"/>
                    </a:lnTo>
                    <a:lnTo>
                      <a:pt x="2193" y="2674"/>
                    </a:lnTo>
                    <a:lnTo>
                      <a:pt x="2189" y="2676"/>
                    </a:lnTo>
                    <a:lnTo>
                      <a:pt x="2186" y="2678"/>
                    </a:lnTo>
                    <a:lnTo>
                      <a:pt x="2184" y="2681"/>
                    </a:lnTo>
                    <a:lnTo>
                      <a:pt x="2182" y="2685"/>
                    </a:lnTo>
                    <a:lnTo>
                      <a:pt x="2181" y="2688"/>
                    </a:lnTo>
                    <a:lnTo>
                      <a:pt x="2180" y="2691"/>
                    </a:lnTo>
                    <a:lnTo>
                      <a:pt x="2181" y="2700"/>
                    </a:lnTo>
                    <a:lnTo>
                      <a:pt x="2184" y="2708"/>
                    </a:lnTo>
                    <a:lnTo>
                      <a:pt x="2187" y="2718"/>
                    </a:lnTo>
                    <a:lnTo>
                      <a:pt x="2190" y="2728"/>
                    </a:lnTo>
                    <a:lnTo>
                      <a:pt x="2199" y="2747"/>
                    </a:lnTo>
                    <a:lnTo>
                      <a:pt x="2205" y="2766"/>
                    </a:lnTo>
                    <a:lnTo>
                      <a:pt x="2207" y="2774"/>
                    </a:lnTo>
                    <a:lnTo>
                      <a:pt x="2206" y="2781"/>
                    </a:lnTo>
                    <a:lnTo>
                      <a:pt x="2205" y="2784"/>
                    </a:lnTo>
                    <a:lnTo>
                      <a:pt x="2204" y="2787"/>
                    </a:lnTo>
                    <a:lnTo>
                      <a:pt x="2201" y="2789"/>
                    </a:lnTo>
                    <a:lnTo>
                      <a:pt x="2199" y="2791"/>
                    </a:lnTo>
                    <a:lnTo>
                      <a:pt x="2177" y="2801"/>
                    </a:lnTo>
                    <a:lnTo>
                      <a:pt x="2155" y="2811"/>
                    </a:lnTo>
                    <a:lnTo>
                      <a:pt x="2133" y="2817"/>
                    </a:lnTo>
                    <a:lnTo>
                      <a:pt x="2109" y="2823"/>
                    </a:lnTo>
                    <a:lnTo>
                      <a:pt x="2096" y="2825"/>
                    </a:lnTo>
                    <a:lnTo>
                      <a:pt x="2084" y="2826"/>
                    </a:lnTo>
                    <a:lnTo>
                      <a:pt x="2071" y="2827"/>
                    </a:lnTo>
                    <a:lnTo>
                      <a:pt x="2059" y="2827"/>
                    </a:lnTo>
                    <a:lnTo>
                      <a:pt x="2046" y="2826"/>
                    </a:lnTo>
                    <a:lnTo>
                      <a:pt x="2033" y="2825"/>
                    </a:lnTo>
                    <a:lnTo>
                      <a:pt x="2020" y="2824"/>
                    </a:lnTo>
                    <a:lnTo>
                      <a:pt x="2007" y="2821"/>
                    </a:lnTo>
                    <a:lnTo>
                      <a:pt x="2021" y="2860"/>
                    </a:lnTo>
                    <a:lnTo>
                      <a:pt x="2032" y="2897"/>
                    </a:lnTo>
                    <a:lnTo>
                      <a:pt x="2043" y="2935"/>
                    </a:lnTo>
                    <a:lnTo>
                      <a:pt x="2055" y="2971"/>
                    </a:lnTo>
                    <a:lnTo>
                      <a:pt x="2061" y="2989"/>
                    </a:lnTo>
                    <a:lnTo>
                      <a:pt x="2069" y="3006"/>
                    </a:lnTo>
                    <a:lnTo>
                      <a:pt x="2077" y="3024"/>
                    </a:lnTo>
                    <a:lnTo>
                      <a:pt x="2085" y="3040"/>
                    </a:lnTo>
                    <a:lnTo>
                      <a:pt x="2095" y="3056"/>
                    </a:lnTo>
                    <a:lnTo>
                      <a:pt x="2107" y="3072"/>
                    </a:lnTo>
                    <a:lnTo>
                      <a:pt x="2120" y="3087"/>
                    </a:lnTo>
                    <a:lnTo>
                      <a:pt x="2134" y="3103"/>
                    </a:lnTo>
                    <a:lnTo>
                      <a:pt x="2127" y="3105"/>
                    </a:lnTo>
                    <a:lnTo>
                      <a:pt x="2121" y="3108"/>
                    </a:lnTo>
                    <a:lnTo>
                      <a:pt x="2114" y="3110"/>
                    </a:lnTo>
                    <a:lnTo>
                      <a:pt x="2109" y="3113"/>
                    </a:lnTo>
                    <a:lnTo>
                      <a:pt x="2105" y="3118"/>
                    </a:lnTo>
                    <a:lnTo>
                      <a:pt x="2100" y="3121"/>
                    </a:lnTo>
                    <a:lnTo>
                      <a:pt x="2097" y="3125"/>
                    </a:lnTo>
                    <a:lnTo>
                      <a:pt x="2094" y="3130"/>
                    </a:lnTo>
                    <a:lnTo>
                      <a:pt x="2088" y="3139"/>
                    </a:lnTo>
                    <a:lnTo>
                      <a:pt x="2085" y="3149"/>
                    </a:lnTo>
                    <a:lnTo>
                      <a:pt x="2083" y="3160"/>
                    </a:lnTo>
                    <a:lnTo>
                      <a:pt x="2082" y="3172"/>
                    </a:lnTo>
                    <a:lnTo>
                      <a:pt x="2081" y="3195"/>
                    </a:lnTo>
                    <a:lnTo>
                      <a:pt x="2082" y="3221"/>
                    </a:lnTo>
                    <a:lnTo>
                      <a:pt x="2082" y="3234"/>
                    </a:lnTo>
                    <a:lnTo>
                      <a:pt x="2082" y="3247"/>
                    </a:lnTo>
                    <a:lnTo>
                      <a:pt x="2081" y="3260"/>
                    </a:lnTo>
                    <a:lnTo>
                      <a:pt x="2080" y="3273"/>
                    </a:lnTo>
                    <a:lnTo>
                      <a:pt x="2080" y="3276"/>
                    </a:lnTo>
                    <a:lnTo>
                      <a:pt x="2081" y="3280"/>
                    </a:lnTo>
                    <a:lnTo>
                      <a:pt x="2083" y="3283"/>
                    </a:lnTo>
                    <a:lnTo>
                      <a:pt x="2085" y="3287"/>
                    </a:lnTo>
                    <a:lnTo>
                      <a:pt x="2093" y="3295"/>
                    </a:lnTo>
                    <a:lnTo>
                      <a:pt x="2102" y="3303"/>
                    </a:lnTo>
                    <a:lnTo>
                      <a:pt x="2113" y="3310"/>
                    </a:lnTo>
                    <a:lnTo>
                      <a:pt x="2124" y="3315"/>
                    </a:lnTo>
                    <a:lnTo>
                      <a:pt x="2130" y="3316"/>
                    </a:lnTo>
                    <a:lnTo>
                      <a:pt x="2135" y="3317"/>
                    </a:lnTo>
                    <a:lnTo>
                      <a:pt x="2139" y="3319"/>
                    </a:lnTo>
                    <a:lnTo>
                      <a:pt x="2144" y="3317"/>
                    </a:lnTo>
                    <a:lnTo>
                      <a:pt x="2133" y="3316"/>
                    </a:lnTo>
                    <a:lnTo>
                      <a:pt x="2122" y="3317"/>
                    </a:lnTo>
                    <a:lnTo>
                      <a:pt x="2110" y="3317"/>
                    </a:lnTo>
                    <a:lnTo>
                      <a:pt x="2097" y="3320"/>
                    </a:lnTo>
                    <a:lnTo>
                      <a:pt x="2071" y="3323"/>
                    </a:lnTo>
                    <a:lnTo>
                      <a:pt x="2044" y="3328"/>
                    </a:lnTo>
                    <a:lnTo>
                      <a:pt x="2016" y="3333"/>
                    </a:lnTo>
                    <a:lnTo>
                      <a:pt x="1990" y="3336"/>
                    </a:lnTo>
                    <a:lnTo>
                      <a:pt x="1977" y="3336"/>
                    </a:lnTo>
                    <a:lnTo>
                      <a:pt x="1965" y="3336"/>
                    </a:lnTo>
                    <a:lnTo>
                      <a:pt x="1955" y="3335"/>
                    </a:lnTo>
                    <a:lnTo>
                      <a:pt x="1944" y="3333"/>
                    </a:lnTo>
                    <a:lnTo>
                      <a:pt x="1944" y="3354"/>
                    </a:lnTo>
                    <a:lnTo>
                      <a:pt x="1946" y="3376"/>
                    </a:lnTo>
                    <a:lnTo>
                      <a:pt x="1949" y="3397"/>
                    </a:lnTo>
                    <a:lnTo>
                      <a:pt x="1955" y="3418"/>
                    </a:lnTo>
                    <a:lnTo>
                      <a:pt x="1961" y="3437"/>
                    </a:lnTo>
                    <a:lnTo>
                      <a:pt x="1969" y="3458"/>
                    </a:lnTo>
                    <a:lnTo>
                      <a:pt x="1977" y="3476"/>
                    </a:lnTo>
                    <a:lnTo>
                      <a:pt x="1987" y="3495"/>
                    </a:lnTo>
                    <a:lnTo>
                      <a:pt x="1998" y="3513"/>
                    </a:lnTo>
                    <a:lnTo>
                      <a:pt x="2011" y="3530"/>
                    </a:lnTo>
                    <a:lnTo>
                      <a:pt x="2024" y="3546"/>
                    </a:lnTo>
                    <a:lnTo>
                      <a:pt x="2037" y="3563"/>
                    </a:lnTo>
                    <a:lnTo>
                      <a:pt x="2052" y="3579"/>
                    </a:lnTo>
                    <a:lnTo>
                      <a:pt x="2067" y="3594"/>
                    </a:lnTo>
                    <a:lnTo>
                      <a:pt x="2083" y="3608"/>
                    </a:lnTo>
                    <a:lnTo>
                      <a:pt x="2099" y="3622"/>
                    </a:lnTo>
                    <a:lnTo>
                      <a:pt x="2084" y="3624"/>
                    </a:lnTo>
                    <a:lnTo>
                      <a:pt x="2070" y="3627"/>
                    </a:lnTo>
                    <a:lnTo>
                      <a:pt x="2064" y="3630"/>
                    </a:lnTo>
                    <a:lnTo>
                      <a:pt x="2057" y="3632"/>
                    </a:lnTo>
                    <a:lnTo>
                      <a:pt x="2052" y="3635"/>
                    </a:lnTo>
                    <a:lnTo>
                      <a:pt x="2046" y="3638"/>
                    </a:lnTo>
                    <a:lnTo>
                      <a:pt x="2042" y="3643"/>
                    </a:lnTo>
                    <a:lnTo>
                      <a:pt x="2039" y="3647"/>
                    </a:lnTo>
                    <a:lnTo>
                      <a:pt x="2036" y="3652"/>
                    </a:lnTo>
                    <a:lnTo>
                      <a:pt x="2033" y="3658"/>
                    </a:lnTo>
                    <a:lnTo>
                      <a:pt x="2032" y="3664"/>
                    </a:lnTo>
                    <a:lnTo>
                      <a:pt x="2032" y="3672"/>
                    </a:lnTo>
                    <a:lnTo>
                      <a:pt x="2033" y="3679"/>
                    </a:lnTo>
                    <a:lnTo>
                      <a:pt x="2036" y="3689"/>
                    </a:lnTo>
                    <a:lnTo>
                      <a:pt x="2041" y="3707"/>
                    </a:lnTo>
                    <a:lnTo>
                      <a:pt x="2047" y="3729"/>
                    </a:lnTo>
                    <a:lnTo>
                      <a:pt x="2054" y="3752"/>
                    </a:lnTo>
                    <a:lnTo>
                      <a:pt x="2061" y="3775"/>
                    </a:lnTo>
                    <a:lnTo>
                      <a:pt x="2070" y="3798"/>
                    </a:lnTo>
                    <a:lnTo>
                      <a:pt x="2080" y="3820"/>
                    </a:lnTo>
                    <a:lnTo>
                      <a:pt x="2085" y="3829"/>
                    </a:lnTo>
                    <a:lnTo>
                      <a:pt x="2091" y="3838"/>
                    </a:lnTo>
                    <a:lnTo>
                      <a:pt x="2096" y="3847"/>
                    </a:lnTo>
                    <a:lnTo>
                      <a:pt x="2101" y="3854"/>
                    </a:lnTo>
                    <a:lnTo>
                      <a:pt x="2112" y="3865"/>
                    </a:lnTo>
                    <a:lnTo>
                      <a:pt x="2123" y="3875"/>
                    </a:lnTo>
                    <a:lnTo>
                      <a:pt x="2135" y="3883"/>
                    </a:lnTo>
                    <a:lnTo>
                      <a:pt x="2147" y="3891"/>
                    </a:lnTo>
                    <a:lnTo>
                      <a:pt x="2172" y="3904"/>
                    </a:lnTo>
                    <a:lnTo>
                      <a:pt x="2196" y="3916"/>
                    </a:lnTo>
                    <a:lnTo>
                      <a:pt x="2221" y="3928"/>
                    </a:lnTo>
                    <a:lnTo>
                      <a:pt x="2245" y="3942"/>
                    </a:lnTo>
                    <a:lnTo>
                      <a:pt x="2256" y="3950"/>
                    </a:lnTo>
                    <a:lnTo>
                      <a:pt x="2268" y="3960"/>
                    </a:lnTo>
                    <a:lnTo>
                      <a:pt x="2278" y="3971"/>
                    </a:lnTo>
                    <a:lnTo>
                      <a:pt x="2287" y="3983"/>
                    </a:lnTo>
                    <a:lnTo>
                      <a:pt x="2283" y="3986"/>
                    </a:lnTo>
                    <a:lnTo>
                      <a:pt x="2271" y="3995"/>
                    </a:lnTo>
                    <a:lnTo>
                      <a:pt x="2252" y="4008"/>
                    </a:lnTo>
                    <a:lnTo>
                      <a:pt x="2225" y="4024"/>
                    </a:lnTo>
                    <a:lnTo>
                      <a:pt x="2190" y="4043"/>
                    </a:lnTo>
                    <a:lnTo>
                      <a:pt x="2149" y="4064"/>
                    </a:lnTo>
                    <a:lnTo>
                      <a:pt x="2125" y="4075"/>
                    </a:lnTo>
                    <a:lnTo>
                      <a:pt x="2100" y="4085"/>
                    </a:lnTo>
                    <a:lnTo>
                      <a:pt x="2073" y="4096"/>
                    </a:lnTo>
                    <a:lnTo>
                      <a:pt x="2045" y="4106"/>
                    </a:lnTo>
                    <a:lnTo>
                      <a:pt x="2016" y="4117"/>
                    </a:lnTo>
                    <a:lnTo>
                      <a:pt x="1990" y="4127"/>
                    </a:lnTo>
                    <a:lnTo>
                      <a:pt x="1964" y="4139"/>
                    </a:lnTo>
                    <a:lnTo>
                      <a:pt x="1940" y="4150"/>
                    </a:lnTo>
                    <a:lnTo>
                      <a:pt x="1899" y="4171"/>
                    </a:lnTo>
                    <a:lnTo>
                      <a:pt x="1864" y="4189"/>
                    </a:lnTo>
                    <a:lnTo>
                      <a:pt x="1837" y="4206"/>
                    </a:lnTo>
                    <a:lnTo>
                      <a:pt x="1816" y="4218"/>
                    </a:lnTo>
                    <a:lnTo>
                      <a:pt x="1804" y="4227"/>
                    </a:lnTo>
                    <a:lnTo>
                      <a:pt x="1800" y="4230"/>
                    </a:lnTo>
                    <a:lnTo>
                      <a:pt x="1791" y="4224"/>
                    </a:lnTo>
                    <a:lnTo>
                      <a:pt x="1783" y="4215"/>
                    </a:lnTo>
                    <a:lnTo>
                      <a:pt x="1775" y="4206"/>
                    </a:lnTo>
                    <a:lnTo>
                      <a:pt x="1768" y="4197"/>
                    </a:lnTo>
                    <a:lnTo>
                      <a:pt x="1761" y="4186"/>
                    </a:lnTo>
                    <a:lnTo>
                      <a:pt x="1756" y="4175"/>
                    </a:lnTo>
                    <a:lnTo>
                      <a:pt x="1750" y="4163"/>
                    </a:lnTo>
                    <a:lnTo>
                      <a:pt x="1746" y="4150"/>
                    </a:lnTo>
                    <a:lnTo>
                      <a:pt x="1742" y="4137"/>
                    </a:lnTo>
                    <a:lnTo>
                      <a:pt x="1738" y="4123"/>
                    </a:lnTo>
                    <a:lnTo>
                      <a:pt x="1735" y="4109"/>
                    </a:lnTo>
                    <a:lnTo>
                      <a:pt x="1732" y="4094"/>
                    </a:lnTo>
                    <a:lnTo>
                      <a:pt x="1729" y="4064"/>
                    </a:lnTo>
                    <a:lnTo>
                      <a:pt x="1727" y="4033"/>
                    </a:lnTo>
                    <a:lnTo>
                      <a:pt x="1727" y="4002"/>
                    </a:lnTo>
                    <a:lnTo>
                      <a:pt x="1728" y="3972"/>
                    </a:lnTo>
                    <a:lnTo>
                      <a:pt x="1730" y="3943"/>
                    </a:lnTo>
                    <a:lnTo>
                      <a:pt x="1734" y="3915"/>
                    </a:lnTo>
                    <a:lnTo>
                      <a:pt x="1738" y="3889"/>
                    </a:lnTo>
                    <a:lnTo>
                      <a:pt x="1744" y="3866"/>
                    </a:lnTo>
                    <a:lnTo>
                      <a:pt x="1749" y="3846"/>
                    </a:lnTo>
                    <a:lnTo>
                      <a:pt x="1756" y="3829"/>
                    </a:lnTo>
                    <a:lnTo>
                      <a:pt x="1761" y="3814"/>
                    </a:lnTo>
                    <a:lnTo>
                      <a:pt x="1763" y="3799"/>
                    </a:lnTo>
                    <a:lnTo>
                      <a:pt x="1765" y="3783"/>
                    </a:lnTo>
                    <a:lnTo>
                      <a:pt x="1765" y="3767"/>
                    </a:lnTo>
                    <a:lnTo>
                      <a:pt x="1763" y="3751"/>
                    </a:lnTo>
                    <a:lnTo>
                      <a:pt x="1760" y="3732"/>
                    </a:lnTo>
                    <a:lnTo>
                      <a:pt x="1756" y="3714"/>
                    </a:lnTo>
                    <a:lnTo>
                      <a:pt x="1751" y="3693"/>
                    </a:lnTo>
                    <a:lnTo>
                      <a:pt x="1738" y="3650"/>
                    </a:lnTo>
                    <a:lnTo>
                      <a:pt x="1722" y="3601"/>
                    </a:lnTo>
                    <a:lnTo>
                      <a:pt x="1706" y="3546"/>
                    </a:lnTo>
                    <a:lnTo>
                      <a:pt x="1689" y="3484"/>
                    </a:lnTo>
                    <a:lnTo>
                      <a:pt x="1686" y="3466"/>
                    </a:lnTo>
                    <a:lnTo>
                      <a:pt x="1682" y="3448"/>
                    </a:lnTo>
                    <a:lnTo>
                      <a:pt x="1680" y="3430"/>
                    </a:lnTo>
                    <a:lnTo>
                      <a:pt x="1679" y="3410"/>
                    </a:lnTo>
                    <a:lnTo>
                      <a:pt x="1678" y="3390"/>
                    </a:lnTo>
                    <a:lnTo>
                      <a:pt x="1678" y="3368"/>
                    </a:lnTo>
                    <a:lnTo>
                      <a:pt x="1679" y="3348"/>
                    </a:lnTo>
                    <a:lnTo>
                      <a:pt x="1680" y="3325"/>
                    </a:lnTo>
                    <a:lnTo>
                      <a:pt x="1684" y="3280"/>
                    </a:lnTo>
                    <a:lnTo>
                      <a:pt x="1690" y="3232"/>
                    </a:lnTo>
                    <a:lnTo>
                      <a:pt x="1696" y="3184"/>
                    </a:lnTo>
                    <a:lnTo>
                      <a:pt x="1704" y="3135"/>
                    </a:lnTo>
                    <a:lnTo>
                      <a:pt x="1720" y="3036"/>
                    </a:lnTo>
                    <a:lnTo>
                      <a:pt x="1734" y="2938"/>
                    </a:lnTo>
                    <a:lnTo>
                      <a:pt x="1740" y="2891"/>
                    </a:lnTo>
                    <a:lnTo>
                      <a:pt x="1743" y="2845"/>
                    </a:lnTo>
                    <a:lnTo>
                      <a:pt x="1744" y="2824"/>
                    </a:lnTo>
                    <a:lnTo>
                      <a:pt x="1744" y="2802"/>
                    </a:lnTo>
                    <a:lnTo>
                      <a:pt x="1744" y="2782"/>
                    </a:lnTo>
                    <a:lnTo>
                      <a:pt x="1743" y="2761"/>
                    </a:lnTo>
                    <a:lnTo>
                      <a:pt x="1743" y="2742"/>
                    </a:lnTo>
                    <a:lnTo>
                      <a:pt x="1743" y="2720"/>
                    </a:lnTo>
                    <a:lnTo>
                      <a:pt x="1744" y="2699"/>
                    </a:lnTo>
                    <a:lnTo>
                      <a:pt x="1745" y="2676"/>
                    </a:lnTo>
                    <a:lnTo>
                      <a:pt x="1750" y="2629"/>
                    </a:lnTo>
                    <a:lnTo>
                      <a:pt x="1757" y="2582"/>
                    </a:lnTo>
                    <a:lnTo>
                      <a:pt x="1765" y="2534"/>
                    </a:lnTo>
                    <a:lnTo>
                      <a:pt x="1775" y="2486"/>
                    </a:lnTo>
                    <a:lnTo>
                      <a:pt x="1786" y="2437"/>
                    </a:lnTo>
                    <a:lnTo>
                      <a:pt x="1798" y="2391"/>
                    </a:lnTo>
                    <a:lnTo>
                      <a:pt x="1810" y="2347"/>
                    </a:lnTo>
                    <a:lnTo>
                      <a:pt x="1822" y="2303"/>
                    </a:lnTo>
                    <a:lnTo>
                      <a:pt x="1834" y="2264"/>
                    </a:lnTo>
                    <a:lnTo>
                      <a:pt x="1845" y="2229"/>
                    </a:lnTo>
                    <a:lnTo>
                      <a:pt x="1864" y="2173"/>
                    </a:lnTo>
                    <a:lnTo>
                      <a:pt x="1877" y="2139"/>
                    </a:lnTo>
                    <a:lnTo>
                      <a:pt x="1881" y="2127"/>
                    </a:lnTo>
                    <a:lnTo>
                      <a:pt x="1883" y="2113"/>
                    </a:lnTo>
                    <a:lnTo>
                      <a:pt x="1885" y="2098"/>
                    </a:lnTo>
                    <a:lnTo>
                      <a:pt x="1888" y="2081"/>
                    </a:lnTo>
                    <a:lnTo>
                      <a:pt x="1889" y="2064"/>
                    </a:lnTo>
                    <a:lnTo>
                      <a:pt x="1889" y="2043"/>
                    </a:lnTo>
                    <a:lnTo>
                      <a:pt x="1888" y="2023"/>
                    </a:lnTo>
                    <a:lnTo>
                      <a:pt x="1885" y="2001"/>
                    </a:lnTo>
                    <a:lnTo>
                      <a:pt x="1883" y="1978"/>
                    </a:lnTo>
                    <a:lnTo>
                      <a:pt x="1880" y="1954"/>
                    </a:lnTo>
                    <a:lnTo>
                      <a:pt x="1877" y="1930"/>
                    </a:lnTo>
                    <a:lnTo>
                      <a:pt x="1871" y="1906"/>
                    </a:lnTo>
                    <a:lnTo>
                      <a:pt x="1866" y="1881"/>
                    </a:lnTo>
                    <a:lnTo>
                      <a:pt x="1859" y="1855"/>
                    </a:lnTo>
                    <a:lnTo>
                      <a:pt x="1853" y="1830"/>
                    </a:lnTo>
                    <a:lnTo>
                      <a:pt x="1844" y="1805"/>
                    </a:lnTo>
                    <a:lnTo>
                      <a:pt x="1836" y="1781"/>
                    </a:lnTo>
                    <a:lnTo>
                      <a:pt x="1825" y="1756"/>
                    </a:lnTo>
                    <a:lnTo>
                      <a:pt x="1814" y="1731"/>
                    </a:lnTo>
                    <a:lnTo>
                      <a:pt x="1801" y="1706"/>
                    </a:lnTo>
                    <a:lnTo>
                      <a:pt x="1776" y="1655"/>
                    </a:lnTo>
                    <a:lnTo>
                      <a:pt x="1750" y="1605"/>
                    </a:lnTo>
                    <a:lnTo>
                      <a:pt x="1737" y="1578"/>
                    </a:lnTo>
                    <a:lnTo>
                      <a:pt x="1727" y="1551"/>
                    </a:lnTo>
                    <a:lnTo>
                      <a:pt x="1716" y="1522"/>
                    </a:lnTo>
                    <a:lnTo>
                      <a:pt x="1707" y="1494"/>
                    </a:lnTo>
                    <a:lnTo>
                      <a:pt x="1700" y="1465"/>
                    </a:lnTo>
                    <a:lnTo>
                      <a:pt x="1694" y="1434"/>
                    </a:lnTo>
                    <a:lnTo>
                      <a:pt x="1692" y="1419"/>
                    </a:lnTo>
                    <a:lnTo>
                      <a:pt x="1690" y="1403"/>
                    </a:lnTo>
                    <a:lnTo>
                      <a:pt x="1689" y="1386"/>
                    </a:lnTo>
                    <a:lnTo>
                      <a:pt x="1689" y="1370"/>
                    </a:lnTo>
                    <a:lnTo>
                      <a:pt x="1689" y="1354"/>
                    </a:lnTo>
                    <a:lnTo>
                      <a:pt x="1688" y="1337"/>
                    </a:lnTo>
                    <a:lnTo>
                      <a:pt x="1686" y="1321"/>
                    </a:lnTo>
                    <a:lnTo>
                      <a:pt x="1683" y="1304"/>
                    </a:lnTo>
                    <a:lnTo>
                      <a:pt x="1677" y="1272"/>
                    </a:lnTo>
                    <a:lnTo>
                      <a:pt x="1668" y="1241"/>
                    </a:lnTo>
                    <a:lnTo>
                      <a:pt x="1659" y="1209"/>
                    </a:lnTo>
                    <a:lnTo>
                      <a:pt x="1647" y="1178"/>
                    </a:lnTo>
                    <a:lnTo>
                      <a:pt x="1634" y="1148"/>
                    </a:lnTo>
                    <a:lnTo>
                      <a:pt x="1621" y="1119"/>
                    </a:lnTo>
                    <a:lnTo>
                      <a:pt x="1592" y="1061"/>
                    </a:lnTo>
                    <a:lnTo>
                      <a:pt x="1561" y="1008"/>
                    </a:lnTo>
                    <a:lnTo>
                      <a:pt x="1534" y="960"/>
                    </a:lnTo>
                    <a:lnTo>
                      <a:pt x="1511" y="916"/>
                    </a:lnTo>
                    <a:lnTo>
                      <a:pt x="1502" y="895"/>
                    </a:lnTo>
                    <a:lnTo>
                      <a:pt x="1494" y="876"/>
                    </a:lnTo>
                    <a:lnTo>
                      <a:pt x="1489" y="858"/>
                    </a:lnTo>
                    <a:lnTo>
                      <a:pt x="1485" y="841"/>
                    </a:lnTo>
                    <a:lnTo>
                      <a:pt x="1482" y="825"/>
                    </a:lnTo>
                    <a:lnTo>
                      <a:pt x="1480" y="810"/>
                    </a:lnTo>
                    <a:lnTo>
                      <a:pt x="1480" y="795"/>
                    </a:lnTo>
                    <a:lnTo>
                      <a:pt x="1480" y="781"/>
                    </a:lnTo>
                    <a:lnTo>
                      <a:pt x="1482" y="754"/>
                    </a:lnTo>
                    <a:lnTo>
                      <a:pt x="1484" y="727"/>
                    </a:lnTo>
                    <a:lnTo>
                      <a:pt x="1482" y="712"/>
                    </a:lnTo>
                    <a:lnTo>
                      <a:pt x="1481" y="700"/>
                    </a:lnTo>
                    <a:lnTo>
                      <a:pt x="1479" y="685"/>
                    </a:lnTo>
                    <a:lnTo>
                      <a:pt x="1476" y="670"/>
                    </a:lnTo>
                    <a:lnTo>
                      <a:pt x="1473" y="657"/>
                    </a:lnTo>
                    <a:lnTo>
                      <a:pt x="1469" y="648"/>
                    </a:lnTo>
                    <a:lnTo>
                      <a:pt x="1466" y="641"/>
                    </a:lnTo>
                    <a:lnTo>
                      <a:pt x="1463" y="638"/>
                    </a:lnTo>
                    <a:lnTo>
                      <a:pt x="1461" y="637"/>
                    </a:lnTo>
                    <a:lnTo>
                      <a:pt x="1459" y="638"/>
                    </a:lnTo>
                    <a:lnTo>
                      <a:pt x="1456" y="639"/>
                    </a:lnTo>
                    <a:lnTo>
                      <a:pt x="1454" y="642"/>
                    </a:lnTo>
                    <a:lnTo>
                      <a:pt x="1449" y="650"/>
                    </a:lnTo>
                    <a:lnTo>
                      <a:pt x="1442" y="662"/>
                    </a:lnTo>
                    <a:lnTo>
                      <a:pt x="1423" y="698"/>
                    </a:lnTo>
                    <a:lnTo>
                      <a:pt x="1394" y="755"/>
                    </a:lnTo>
                    <a:lnTo>
                      <a:pt x="1375" y="790"/>
                    </a:lnTo>
                    <a:lnTo>
                      <a:pt x="1353" y="830"/>
                    </a:lnTo>
                    <a:lnTo>
                      <a:pt x="1328" y="877"/>
                    </a:lnTo>
                    <a:lnTo>
                      <a:pt x="1299" y="927"/>
                    </a:lnTo>
                    <a:lnTo>
                      <a:pt x="1283" y="955"/>
                    </a:lnTo>
                    <a:lnTo>
                      <a:pt x="1267" y="987"/>
                    </a:lnTo>
                    <a:lnTo>
                      <a:pt x="1251" y="1020"/>
                    </a:lnTo>
                    <a:lnTo>
                      <a:pt x="1236" y="1056"/>
                    </a:lnTo>
                    <a:lnTo>
                      <a:pt x="1220" y="1094"/>
                    </a:lnTo>
                    <a:lnTo>
                      <a:pt x="1205" y="1134"/>
                    </a:lnTo>
                    <a:lnTo>
                      <a:pt x="1190" y="1175"/>
                    </a:lnTo>
                    <a:lnTo>
                      <a:pt x="1173" y="1218"/>
                    </a:lnTo>
                    <a:lnTo>
                      <a:pt x="1144" y="1308"/>
                    </a:lnTo>
                    <a:lnTo>
                      <a:pt x="1114" y="1403"/>
                    </a:lnTo>
                    <a:lnTo>
                      <a:pt x="1086" y="1500"/>
                    </a:lnTo>
                    <a:lnTo>
                      <a:pt x="1059" y="1599"/>
                    </a:lnTo>
                    <a:lnTo>
                      <a:pt x="1033" y="1700"/>
                    </a:lnTo>
                    <a:lnTo>
                      <a:pt x="1009" y="1798"/>
                    </a:lnTo>
                    <a:lnTo>
                      <a:pt x="987" y="1895"/>
                    </a:lnTo>
                    <a:lnTo>
                      <a:pt x="966" y="1989"/>
                    </a:lnTo>
                    <a:lnTo>
                      <a:pt x="948" y="2079"/>
                    </a:lnTo>
                    <a:lnTo>
                      <a:pt x="933" y="2161"/>
                    </a:lnTo>
                    <a:lnTo>
                      <a:pt x="920" y="2237"/>
                    </a:lnTo>
                    <a:lnTo>
                      <a:pt x="910" y="2304"/>
                    </a:lnTo>
                    <a:lnTo>
                      <a:pt x="906" y="2336"/>
                    </a:lnTo>
                    <a:lnTo>
                      <a:pt x="900" y="2367"/>
                    </a:lnTo>
                    <a:lnTo>
                      <a:pt x="894" y="2399"/>
                    </a:lnTo>
                    <a:lnTo>
                      <a:pt x="887" y="2431"/>
                    </a:lnTo>
                    <a:lnTo>
                      <a:pt x="871" y="2494"/>
                    </a:lnTo>
                    <a:lnTo>
                      <a:pt x="853" y="2557"/>
                    </a:lnTo>
                    <a:lnTo>
                      <a:pt x="833" y="2620"/>
                    </a:lnTo>
                    <a:lnTo>
                      <a:pt x="813" y="2681"/>
                    </a:lnTo>
                    <a:lnTo>
                      <a:pt x="791" y="2742"/>
                    </a:lnTo>
                    <a:lnTo>
                      <a:pt x="769" y="2801"/>
                    </a:lnTo>
                    <a:lnTo>
                      <a:pt x="728" y="2912"/>
                    </a:lnTo>
                    <a:lnTo>
                      <a:pt x="692" y="3014"/>
                    </a:lnTo>
                    <a:lnTo>
                      <a:pt x="678" y="3059"/>
                    </a:lnTo>
                    <a:lnTo>
                      <a:pt x="666" y="3100"/>
                    </a:lnTo>
                    <a:lnTo>
                      <a:pt x="661" y="3120"/>
                    </a:lnTo>
                    <a:lnTo>
                      <a:pt x="657" y="3138"/>
                    </a:lnTo>
                    <a:lnTo>
                      <a:pt x="655" y="3155"/>
                    </a:lnTo>
                    <a:lnTo>
                      <a:pt x="653" y="3172"/>
                    </a:lnTo>
                    <a:lnTo>
                      <a:pt x="650" y="3206"/>
                    </a:lnTo>
                    <a:lnTo>
                      <a:pt x="645" y="3244"/>
                    </a:lnTo>
                    <a:lnTo>
                      <a:pt x="638" y="3286"/>
                    </a:lnTo>
                    <a:lnTo>
                      <a:pt x="629" y="3331"/>
                    </a:lnTo>
                    <a:lnTo>
                      <a:pt x="619" y="3379"/>
                    </a:lnTo>
                    <a:lnTo>
                      <a:pt x="608" y="3428"/>
                    </a:lnTo>
                    <a:lnTo>
                      <a:pt x="597" y="3477"/>
                    </a:lnTo>
                    <a:lnTo>
                      <a:pt x="585" y="3527"/>
                    </a:lnTo>
                    <a:lnTo>
                      <a:pt x="559" y="3623"/>
                    </a:lnTo>
                    <a:lnTo>
                      <a:pt x="535" y="3712"/>
                    </a:lnTo>
                    <a:lnTo>
                      <a:pt x="513" y="3786"/>
                    </a:lnTo>
                    <a:lnTo>
                      <a:pt x="497" y="3839"/>
                    </a:lnTo>
                    <a:lnTo>
                      <a:pt x="492" y="3859"/>
                    </a:lnTo>
                    <a:lnTo>
                      <a:pt x="489" y="3876"/>
                    </a:lnTo>
                    <a:lnTo>
                      <a:pt x="486" y="3891"/>
                    </a:lnTo>
                    <a:lnTo>
                      <a:pt x="485" y="3904"/>
                    </a:lnTo>
                    <a:lnTo>
                      <a:pt x="485" y="3916"/>
                    </a:lnTo>
                    <a:lnTo>
                      <a:pt x="485" y="3928"/>
                    </a:lnTo>
                    <a:lnTo>
                      <a:pt x="487" y="3938"/>
                    </a:lnTo>
                    <a:lnTo>
                      <a:pt x="489" y="3948"/>
                    </a:lnTo>
                    <a:lnTo>
                      <a:pt x="492" y="3971"/>
                    </a:lnTo>
                    <a:lnTo>
                      <a:pt x="494" y="3997"/>
                    </a:lnTo>
                    <a:lnTo>
                      <a:pt x="494" y="4013"/>
                    </a:lnTo>
                    <a:lnTo>
                      <a:pt x="493" y="4030"/>
                    </a:lnTo>
                    <a:lnTo>
                      <a:pt x="491" y="4051"/>
                    </a:lnTo>
                    <a:lnTo>
                      <a:pt x="487" y="4075"/>
                    </a:lnTo>
                    <a:lnTo>
                      <a:pt x="482" y="4097"/>
                    </a:lnTo>
                    <a:lnTo>
                      <a:pt x="477" y="4116"/>
                    </a:lnTo>
                    <a:lnTo>
                      <a:pt x="473" y="4123"/>
                    </a:lnTo>
                    <a:lnTo>
                      <a:pt x="470" y="4130"/>
                    </a:lnTo>
                    <a:lnTo>
                      <a:pt x="467" y="4135"/>
                    </a:lnTo>
                    <a:lnTo>
                      <a:pt x="463" y="4140"/>
                    </a:lnTo>
                    <a:lnTo>
                      <a:pt x="459" y="4145"/>
                    </a:lnTo>
                    <a:lnTo>
                      <a:pt x="455" y="4148"/>
                    </a:lnTo>
                    <a:lnTo>
                      <a:pt x="451" y="4150"/>
                    </a:lnTo>
                    <a:lnTo>
                      <a:pt x="448" y="4152"/>
                    </a:lnTo>
                    <a:lnTo>
                      <a:pt x="439" y="4154"/>
                    </a:lnTo>
                    <a:lnTo>
                      <a:pt x="430" y="4156"/>
                    </a:lnTo>
                    <a:lnTo>
                      <a:pt x="423" y="4154"/>
                    </a:lnTo>
                    <a:lnTo>
                      <a:pt x="415" y="4151"/>
                    </a:lnTo>
                    <a:lnTo>
                      <a:pt x="409" y="4149"/>
                    </a:lnTo>
                    <a:lnTo>
                      <a:pt x="403" y="4145"/>
                    </a:lnTo>
                    <a:lnTo>
                      <a:pt x="395" y="4139"/>
                    </a:lnTo>
                    <a:lnTo>
                      <a:pt x="391" y="4136"/>
                    </a:lnTo>
                    <a:lnTo>
                      <a:pt x="365" y="4133"/>
                    </a:lnTo>
                    <a:lnTo>
                      <a:pt x="339" y="4132"/>
                    </a:lnTo>
                    <a:lnTo>
                      <a:pt x="315" y="4131"/>
                    </a:lnTo>
                    <a:lnTo>
                      <a:pt x="289" y="4130"/>
                    </a:lnTo>
                    <a:lnTo>
                      <a:pt x="264" y="4130"/>
                    </a:lnTo>
                    <a:lnTo>
                      <a:pt x="239" y="4131"/>
                    </a:lnTo>
                    <a:lnTo>
                      <a:pt x="214" y="4133"/>
                    </a:lnTo>
                    <a:lnTo>
                      <a:pt x="189" y="4135"/>
                    </a:lnTo>
                    <a:lnTo>
                      <a:pt x="140" y="4140"/>
                    </a:lnTo>
                    <a:lnTo>
                      <a:pt x="92" y="4147"/>
                    </a:lnTo>
                    <a:lnTo>
                      <a:pt x="46" y="4154"/>
                    </a:lnTo>
                    <a:lnTo>
                      <a:pt x="0" y="4163"/>
                    </a:lnTo>
                    <a:lnTo>
                      <a:pt x="37" y="4156"/>
                    </a:lnTo>
                    <a:lnTo>
                      <a:pt x="71" y="4146"/>
                    </a:lnTo>
                    <a:lnTo>
                      <a:pt x="102" y="4134"/>
                    </a:lnTo>
                    <a:lnTo>
                      <a:pt x="131" y="4119"/>
                    </a:lnTo>
                    <a:lnTo>
                      <a:pt x="158" y="4102"/>
                    </a:lnTo>
                    <a:lnTo>
                      <a:pt x="183" y="4082"/>
                    </a:lnTo>
                    <a:lnTo>
                      <a:pt x="206" y="4059"/>
                    </a:lnTo>
                    <a:lnTo>
                      <a:pt x="226" y="4037"/>
                    </a:lnTo>
                    <a:lnTo>
                      <a:pt x="244" y="4011"/>
                    </a:lnTo>
                    <a:lnTo>
                      <a:pt x="263" y="3984"/>
                    </a:lnTo>
                    <a:lnTo>
                      <a:pt x="278" y="3955"/>
                    </a:lnTo>
                    <a:lnTo>
                      <a:pt x="293" y="3924"/>
                    </a:lnTo>
                    <a:lnTo>
                      <a:pt x="306" y="3893"/>
                    </a:lnTo>
                    <a:lnTo>
                      <a:pt x="319" y="3860"/>
                    </a:lnTo>
                    <a:lnTo>
                      <a:pt x="330" y="3826"/>
                    </a:lnTo>
                    <a:lnTo>
                      <a:pt x="341" y="3790"/>
                    </a:lnTo>
                    <a:lnTo>
                      <a:pt x="360" y="3718"/>
                    </a:lnTo>
                    <a:lnTo>
                      <a:pt x="378" y="3644"/>
                    </a:lnTo>
                    <a:lnTo>
                      <a:pt x="396" y="3568"/>
                    </a:lnTo>
                    <a:lnTo>
                      <a:pt x="414" y="3491"/>
                    </a:lnTo>
                    <a:lnTo>
                      <a:pt x="424" y="3454"/>
                    </a:lnTo>
                    <a:lnTo>
                      <a:pt x="433" y="3416"/>
                    </a:lnTo>
                    <a:lnTo>
                      <a:pt x="444" y="3378"/>
                    </a:lnTo>
                    <a:lnTo>
                      <a:pt x="456" y="3341"/>
                    </a:lnTo>
                    <a:lnTo>
                      <a:pt x="469" y="3304"/>
                    </a:lnTo>
                    <a:lnTo>
                      <a:pt x="483" y="3270"/>
                    </a:lnTo>
                    <a:lnTo>
                      <a:pt x="498" y="3235"/>
                    </a:lnTo>
                    <a:lnTo>
                      <a:pt x="515" y="3202"/>
                    </a:lnTo>
                    <a:lnTo>
                      <a:pt x="520" y="3190"/>
                    </a:lnTo>
                    <a:lnTo>
                      <a:pt x="525" y="3178"/>
                    </a:lnTo>
                    <a:lnTo>
                      <a:pt x="530" y="3166"/>
                    </a:lnTo>
                    <a:lnTo>
                      <a:pt x="533" y="3154"/>
                    </a:lnTo>
                    <a:lnTo>
                      <a:pt x="535" y="3144"/>
                    </a:lnTo>
                    <a:lnTo>
                      <a:pt x="536" y="3133"/>
                    </a:lnTo>
                    <a:lnTo>
                      <a:pt x="537" y="3122"/>
                    </a:lnTo>
                    <a:lnTo>
                      <a:pt x="537" y="3111"/>
                    </a:lnTo>
                    <a:lnTo>
                      <a:pt x="537" y="3101"/>
                    </a:lnTo>
                    <a:lnTo>
                      <a:pt x="536" y="3091"/>
                    </a:lnTo>
                    <a:lnTo>
                      <a:pt x="534" y="3081"/>
                    </a:lnTo>
                    <a:lnTo>
                      <a:pt x="532" y="3071"/>
                    </a:lnTo>
                    <a:lnTo>
                      <a:pt x="526" y="3053"/>
                    </a:lnTo>
                    <a:lnTo>
                      <a:pt x="518" y="3034"/>
                    </a:lnTo>
                    <a:lnTo>
                      <a:pt x="509" y="3016"/>
                    </a:lnTo>
                    <a:lnTo>
                      <a:pt x="497" y="2999"/>
                    </a:lnTo>
                    <a:lnTo>
                      <a:pt x="485" y="2982"/>
                    </a:lnTo>
                    <a:lnTo>
                      <a:pt x="472" y="2965"/>
                    </a:lnTo>
                    <a:lnTo>
                      <a:pt x="445" y="2933"/>
                    </a:lnTo>
                    <a:lnTo>
                      <a:pt x="418" y="2901"/>
                    </a:lnTo>
                    <a:lnTo>
                      <a:pt x="415" y="2894"/>
                    </a:lnTo>
                    <a:lnTo>
                      <a:pt x="413" y="2890"/>
                    </a:lnTo>
                    <a:lnTo>
                      <a:pt x="413" y="2884"/>
                    </a:lnTo>
                    <a:lnTo>
                      <a:pt x="414" y="2879"/>
                    </a:lnTo>
                    <a:lnTo>
                      <a:pt x="419" y="2869"/>
                    </a:lnTo>
                    <a:lnTo>
                      <a:pt x="426" y="2858"/>
                    </a:lnTo>
                    <a:lnTo>
                      <a:pt x="433" y="2849"/>
                    </a:lnTo>
                    <a:lnTo>
                      <a:pt x="439" y="2838"/>
                    </a:lnTo>
                    <a:lnTo>
                      <a:pt x="441" y="2831"/>
                    </a:lnTo>
                    <a:lnTo>
                      <a:pt x="441" y="2826"/>
                    </a:lnTo>
                    <a:lnTo>
                      <a:pt x="440" y="2820"/>
                    </a:lnTo>
                    <a:lnTo>
                      <a:pt x="438" y="2813"/>
                    </a:lnTo>
                    <a:lnTo>
                      <a:pt x="456" y="2804"/>
                    </a:lnTo>
                    <a:lnTo>
                      <a:pt x="472" y="2794"/>
                    </a:lnTo>
                    <a:lnTo>
                      <a:pt x="486" y="2782"/>
                    </a:lnTo>
                    <a:lnTo>
                      <a:pt x="500" y="2769"/>
                    </a:lnTo>
                    <a:lnTo>
                      <a:pt x="512" y="2756"/>
                    </a:lnTo>
                    <a:lnTo>
                      <a:pt x="523" y="2741"/>
                    </a:lnTo>
                    <a:lnTo>
                      <a:pt x="534" y="2726"/>
                    </a:lnTo>
                    <a:lnTo>
                      <a:pt x="544" y="2710"/>
                    </a:lnTo>
                    <a:lnTo>
                      <a:pt x="563" y="2678"/>
                    </a:lnTo>
                    <a:lnTo>
                      <a:pt x="583" y="2646"/>
                    </a:lnTo>
                    <a:lnTo>
                      <a:pt x="593" y="2629"/>
                    </a:lnTo>
                    <a:lnTo>
                      <a:pt x="604" y="2614"/>
                    </a:lnTo>
                    <a:lnTo>
                      <a:pt x="617" y="2600"/>
                    </a:lnTo>
                    <a:lnTo>
                      <a:pt x="631" y="2586"/>
                    </a:lnTo>
                    <a:lnTo>
                      <a:pt x="635" y="2581"/>
                    </a:lnTo>
                    <a:lnTo>
                      <a:pt x="640" y="2575"/>
                    </a:lnTo>
                    <a:lnTo>
                      <a:pt x="644" y="2570"/>
                    </a:lnTo>
                    <a:lnTo>
                      <a:pt x="647" y="2565"/>
                    </a:lnTo>
                    <a:lnTo>
                      <a:pt x="652" y="2554"/>
                    </a:lnTo>
                    <a:lnTo>
                      <a:pt x="654" y="2543"/>
                    </a:lnTo>
                    <a:lnTo>
                      <a:pt x="654" y="2531"/>
                    </a:lnTo>
                    <a:lnTo>
                      <a:pt x="653" y="2519"/>
                    </a:lnTo>
                    <a:lnTo>
                      <a:pt x="651" y="2507"/>
                    </a:lnTo>
                    <a:lnTo>
                      <a:pt x="647" y="2496"/>
                    </a:lnTo>
                    <a:lnTo>
                      <a:pt x="640" y="2472"/>
                    </a:lnTo>
                    <a:lnTo>
                      <a:pt x="632" y="2447"/>
                    </a:lnTo>
                    <a:lnTo>
                      <a:pt x="630" y="2435"/>
                    </a:lnTo>
                    <a:lnTo>
                      <a:pt x="629" y="2422"/>
                    </a:lnTo>
                    <a:lnTo>
                      <a:pt x="629" y="2410"/>
                    </a:lnTo>
                    <a:lnTo>
                      <a:pt x="631" y="2398"/>
                    </a:lnTo>
                    <a:lnTo>
                      <a:pt x="642" y="2350"/>
                    </a:lnTo>
                    <a:lnTo>
                      <a:pt x="655" y="2297"/>
                    </a:lnTo>
                    <a:lnTo>
                      <a:pt x="661" y="2271"/>
                    </a:lnTo>
                    <a:lnTo>
                      <a:pt x="666" y="2244"/>
                    </a:lnTo>
                    <a:lnTo>
                      <a:pt x="670" y="2217"/>
                    </a:lnTo>
                    <a:lnTo>
                      <a:pt x="672" y="2191"/>
                    </a:lnTo>
                    <a:lnTo>
                      <a:pt x="673" y="2178"/>
                    </a:lnTo>
                    <a:lnTo>
                      <a:pt x="672" y="2165"/>
                    </a:lnTo>
                    <a:lnTo>
                      <a:pt x="672" y="2152"/>
                    </a:lnTo>
                    <a:lnTo>
                      <a:pt x="670" y="2140"/>
                    </a:lnTo>
                    <a:lnTo>
                      <a:pt x="668" y="2128"/>
                    </a:lnTo>
                    <a:lnTo>
                      <a:pt x="665" y="2118"/>
                    </a:lnTo>
                    <a:lnTo>
                      <a:pt x="660" y="2106"/>
                    </a:lnTo>
                    <a:lnTo>
                      <a:pt x="656" y="2095"/>
                    </a:lnTo>
                    <a:lnTo>
                      <a:pt x="651" y="2085"/>
                    </a:lnTo>
                    <a:lnTo>
                      <a:pt x="643" y="2075"/>
                    </a:lnTo>
                    <a:lnTo>
                      <a:pt x="635" y="2066"/>
                    </a:lnTo>
                    <a:lnTo>
                      <a:pt x="627" y="2057"/>
                    </a:lnTo>
                    <a:lnTo>
                      <a:pt x="617" y="2048"/>
                    </a:lnTo>
                    <a:lnTo>
                      <a:pt x="605" y="2041"/>
                    </a:lnTo>
                    <a:lnTo>
                      <a:pt x="592" y="2034"/>
                    </a:lnTo>
                    <a:lnTo>
                      <a:pt x="578" y="2028"/>
                    </a:lnTo>
                    <a:lnTo>
                      <a:pt x="550" y="2015"/>
                    </a:lnTo>
                    <a:lnTo>
                      <a:pt x="523" y="2002"/>
                    </a:lnTo>
                    <a:lnTo>
                      <a:pt x="510" y="1994"/>
                    </a:lnTo>
                    <a:lnTo>
                      <a:pt x="499" y="1987"/>
                    </a:lnTo>
                    <a:lnTo>
                      <a:pt x="490" y="1979"/>
                    </a:lnTo>
                    <a:lnTo>
                      <a:pt x="481" y="1971"/>
                    </a:lnTo>
                    <a:lnTo>
                      <a:pt x="475" y="1961"/>
                    </a:lnTo>
                    <a:lnTo>
                      <a:pt x="469" y="1952"/>
                    </a:lnTo>
                    <a:lnTo>
                      <a:pt x="467" y="1947"/>
                    </a:lnTo>
                    <a:lnTo>
                      <a:pt x="466" y="1942"/>
                    </a:lnTo>
                    <a:lnTo>
                      <a:pt x="466" y="1936"/>
                    </a:lnTo>
                    <a:lnTo>
                      <a:pt x="466" y="1931"/>
                    </a:lnTo>
                    <a:lnTo>
                      <a:pt x="466" y="1925"/>
                    </a:lnTo>
                    <a:lnTo>
                      <a:pt x="467" y="1920"/>
                    </a:lnTo>
                    <a:lnTo>
                      <a:pt x="468" y="1915"/>
                    </a:lnTo>
                    <a:lnTo>
                      <a:pt x="471" y="1908"/>
                    </a:lnTo>
                    <a:lnTo>
                      <a:pt x="478" y="1895"/>
                    </a:lnTo>
                    <a:lnTo>
                      <a:pt x="487" y="1882"/>
                    </a:lnTo>
                    <a:lnTo>
                      <a:pt x="500" y="1866"/>
                    </a:lnTo>
                    <a:lnTo>
                      <a:pt x="515" y="1851"/>
                    </a:lnTo>
                    <a:lnTo>
                      <a:pt x="530" y="1836"/>
                    </a:lnTo>
                    <a:lnTo>
                      <a:pt x="546" y="1822"/>
                    </a:lnTo>
                    <a:lnTo>
                      <a:pt x="577" y="1795"/>
                    </a:lnTo>
                    <a:lnTo>
                      <a:pt x="611" y="1768"/>
                    </a:lnTo>
                    <a:lnTo>
                      <a:pt x="644" y="1740"/>
                    </a:lnTo>
                    <a:lnTo>
                      <a:pt x="677" y="1710"/>
                    </a:lnTo>
                    <a:lnTo>
                      <a:pt x="692" y="1694"/>
                    </a:lnTo>
                    <a:lnTo>
                      <a:pt x="707" y="1678"/>
                    </a:lnTo>
                    <a:lnTo>
                      <a:pt x="721" y="1661"/>
                    </a:lnTo>
                    <a:lnTo>
                      <a:pt x="735" y="1642"/>
                    </a:lnTo>
                    <a:lnTo>
                      <a:pt x="739" y="1634"/>
                    </a:lnTo>
                    <a:lnTo>
                      <a:pt x="742" y="1623"/>
                    </a:lnTo>
                    <a:lnTo>
                      <a:pt x="745" y="1612"/>
                    </a:lnTo>
                    <a:lnTo>
                      <a:pt x="746" y="1600"/>
                    </a:lnTo>
                    <a:lnTo>
                      <a:pt x="745" y="1588"/>
                    </a:lnTo>
                    <a:lnTo>
                      <a:pt x="742" y="1578"/>
                    </a:lnTo>
                    <a:lnTo>
                      <a:pt x="739" y="1568"/>
                    </a:lnTo>
                    <a:lnTo>
                      <a:pt x="735" y="1560"/>
                    </a:lnTo>
                    <a:lnTo>
                      <a:pt x="725" y="1549"/>
                    </a:lnTo>
                    <a:lnTo>
                      <a:pt x="717" y="1539"/>
                    </a:lnTo>
                    <a:lnTo>
                      <a:pt x="709" y="1528"/>
                    </a:lnTo>
                    <a:lnTo>
                      <a:pt x="702" y="1517"/>
                    </a:lnTo>
                    <a:lnTo>
                      <a:pt x="696" y="1506"/>
                    </a:lnTo>
                    <a:lnTo>
                      <a:pt x="692" y="1495"/>
                    </a:lnTo>
                    <a:lnTo>
                      <a:pt x="687" y="1485"/>
                    </a:lnTo>
                    <a:lnTo>
                      <a:pt x="684" y="1474"/>
                    </a:lnTo>
                    <a:lnTo>
                      <a:pt x="681" y="1463"/>
                    </a:lnTo>
                    <a:lnTo>
                      <a:pt x="679" y="1453"/>
                    </a:lnTo>
                    <a:lnTo>
                      <a:pt x="678" y="1443"/>
                    </a:lnTo>
                    <a:lnTo>
                      <a:pt x="678" y="1432"/>
                    </a:lnTo>
                    <a:lnTo>
                      <a:pt x="678" y="1411"/>
                    </a:lnTo>
                    <a:lnTo>
                      <a:pt x="680" y="1391"/>
                    </a:lnTo>
                    <a:lnTo>
                      <a:pt x="684" y="1370"/>
                    </a:lnTo>
                    <a:lnTo>
                      <a:pt x="690" y="1349"/>
                    </a:lnTo>
                    <a:lnTo>
                      <a:pt x="697" y="1328"/>
                    </a:lnTo>
                    <a:lnTo>
                      <a:pt x="705" y="1306"/>
                    </a:lnTo>
                    <a:lnTo>
                      <a:pt x="723" y="1263"/>
                    </a:lnTo>
                    <a:lnTo>
                      <a:pt x="742" y="1219"/>
                    </a:lnTo>
                    <a:lnTo>
                      <a:pt x="729" y="1218"/>
                    </a:lnTo>
                    <a:lnTo>
                      <a:pt x="718" y="1215"/>
                    </a:lnTo>
                    <a:lnTo>
                      <a:pt x="705" y="1211"/>
                    </a:lnTo>
                    <a:lnTo>
                      <a:pt x="692" y="1208"/>
                    </a:lnTo>
                    <a:lnTo>
                      <a:pt x="680" y="1204"/>
                    </a:lnTo>
                    <a:lnTo>
                      <a:pt x="667" y="1198"/>
                    </a:lnTo>
                    <a:lnTo>
                      <a:pt x="655" y="1193"/>
                    </a:lnTo>
                    <a:lnTo>
                      <a:pt x="643" y="1187"/>
                    </a:lnTo>
                    <a:lnTo>
                      <a:pt x="632" y="1180"/>
                    </a:lnTo>
                    <a:lnTo>
                      <a:pt x="621" y="1174"/>
                    </a:lnTo>
                    <a:lnTo>
                      <a:pt x="612" y="1166"/>
                    </a:lnTo>
                    <a:lnTo>
                      <a:pt x="602" y="1159"/>
                    </a:lnTo>
                    <a:lnTo>
                      <a:pt x="594" y="1151"/>
                    </a:lnTo>
                    <a:lnTo>
                      <a:pt x="587" y="1142"/>
                    </a:lnTo>
                    <a:lnTo>
                      <a:pt x="581" y="1134"/>
                    </a:lnTo>
                    <a:lnTo>
                      <a:pt x="576" y="1125"/>
                    </a:lnTo>
                    <a:lnTo>
                      <a:pt x="567" y="1105"/>
                    </a:lnTo>
                    <a:lnTo>
                      <a:pt x="562" y="1085"/>
                    </a:lnTo>
                    <a:lnTo>
                      <a:pt x="559" y="1066"/>
                    </a:lnTo>
                    <a:lnTo>
                      <a:pt x="559" y="1047"/>
                    </a:lnTo>
                    <a:lnTo>
                      <a:pt x="561" y="1029"/>
                    </a:lnTo>
                    <a:lnTo>
                      <a:pt x="564" y="1012"/>
                    </a:lnTo>
                    <a:lnTo>
                      <a:pt x="571" y="994"/>
                    </a:lnTo>
                    <a:lnTo>
                      <a:pt x="578" y="978"/>
                    </a:lnTo>
                    <a:lnTo>
                      <a:pt x="587" y="961"/>
                    </a:lnTo>
                    <a:lnTo>
                      <a:pt x="598" y="946"/>
                    </a:lnTo>
                    <a:lnTo>
                      <a:pt x="610" y="930"/>
                    </a:lnTo>
                    <a:lnTo>
                      <a:pt x="623" y="914"/>
                    </a:lnTo>
                    <a:lnTo>
                      <a:pt x="651" y="883"/>
                    </a:lnTo>
                    <a:lnTo>
                      <a:pt x="680" y="854"/>
                    </a:lnTo>
                    <a:lnTo>
                      <a:pt x="710" y="825"/>
                    </a:lnTo>
                    <a:lnTo>
                      <a:pt x="738" y="795"/>
                    </a:lnTo>
                    <a:lnTo>
                      <a:pt x="752" y="781"/>
                    </a:lnTo>
                    <a:lnTo>
                      <a:pt x="765" y="765"/>
                    </a:lnTo>
                    <a:lnTo>
                      <a:pt x="776" y="750"/>
                    </a:lnTo>
                    <a:lnTo>
                      <a:pt x="787" y="735"/>
                    </a:lnTo>
                    <a:lnTo>
                      <a:pt x="795" y="720"/>
                    </a:lnTo>
                    <a:lnTo>
                      <a:pt x="803" y="705"/>
                    </a:lnTo>
                    <a:lnTo>
                      <a:pt x="808" y="690"/>
                    </a:lnTo>
                    <a:lnTo>
                      <a:pt x="813" y="674"/>
                    </a:lnTo>
                    <a:lnTo>
                      <a:pt x="814" y="657"/>
                    </a:lnTo>
                    <a:lnTo>
                      <a:pt x="813" y="640"/>
                    </a:lnTo>
                    <a:lnTo>
                      <a:pt x="809" y="624"/>
                    </a:lnTo>
                    <a:lnTo>
                      <a:pt x="804" y="607"/>
                    </a:lnTo>
                    <a:lnTo>
                      <a:pt x="798" y="595"/>
                    </a:lnTo>
                    <a:lnTo>
                      <a:pt x="788" y="583"/>
                    </a:lnTo>
                    <a:lnTo>
                      <a:pt x="777" y="572"/>
                    </a:lnTo>
                    <a:lnTo>
                      <a:pt x="764" y="559"/>
                    </a:lnTo>
                    <a:lnTo>
                      <a:pt x="736" y="534"/>
                    </a:lnTo>
                    <a:lnTo>
                      <a:pt x="708" y="508"/>
                    </a:lnTo>
                    <a:lnTo>
                      <a:pt x="696" y="494"/>
                    </a:lnTo>
                    <a:lnTo>
                      <a:pt x="686" y="481"/>
                    </a:lnTo>
                    <a:lnTo>
                      <a:pt x="682" y="474"/>
                    </a:lnTo>
                    <a:lnTo>
                      <a:pt x="678" y="467"/>
                    </a:lnTo>
                    <a:lnTo>
                      <a:pt x="674" y="460"/>
                    </a:lnTo>
                    <a:lnTo>
                      <a:pt x="672" y="453"/>
                    </a:lnTo>
                    <a:lnTo>
                      <a:pt x="671" y="446"/>
                    </a:lnTo>
                    <a:lnTo>
                      <a:pt x="671" y="438"/>
                    </a:lnTo>
                    <a:lnTo>
                      <a:pt x="672" y="431"/>
                    </a:lnTo>
                    <a:lnTo>
                      <a:pt x="673" y="424"/>
                    </a:lnTo>
                    <a:lnTo>
                      <a:pt x="677" y="417"/>
                    </a:lnTo>
                    <a:lnTo>
                      <a:pt x="681" y="409"/>
                    </a:lnTo>
                    <a:lnTo>
                      <a:pt x="686" y="401"/>
                    </a:lnTo>
                    <a:lnTo>
                      <a:pt x="693" y="394"/>
                    </a:lnTo>
                    <a:lnTo>
                      <a:pt x="718" y="369"/>
                    </a:lnTo>
                    <a:lnTo>
                      <a:pt x="744" y="347"/>
                    </a:lnTo>
                    <a:lnTo>
                      <a:pt x="767" y="326"/>
                    </a:lnTo>
                    <a:lnTo>
                      <a:pt x="792" y="306"/>
                    </a:lnTo>
                    <a:lnTo>
                      <a:pt x="816" y="289"/>
                    </a:lnTo>
                    <a:lnTo>
                      <a:pt x="841" y="272"/>
                    </a:lnTo>
                    <a:lnTo>
                      <a:pt x="866" y="257"/>
                    </a:lnTo>
                    <a:lnTo>
                      <a:pt x="892" y="243"/>
                    </a:lnTo>
                    <a:lnTo>
                      <a:pt x="917" y="230"/>
                    </a:lnTo>
                    <a:lnTo>
                      <a:pt x="946" y="217"/>
                    </a:lnTo>
                    <a:lnTo>
                      <a:pt x="974" y="205"/>
                    </a:lnTo>
                    <a:lnTo>
                      <a:pt x="1004" y="194"/>
                    </a:lnTo>
                    <a:lnTo>
                      <a:pt x="1035" y="184"/>
                    </a:lnTo>
                    <a:lnTo>
                      <a:pt x="1069" y="175"/>
                    </a:lnTo>
                    <a:lnTo>
                      <a:pt x="1104" y="165"/>
                    </a:lnTo>
                    <a:lnTo>
                      <a:pt x="1142" y="156"/>
                    </a:lnTo>
                    <a:lnTo>
                      <a:pt x="1155" y="153"/>
                    </a:lnTo>
                    <a:lnTo>
                      <a:pt x="1168" y="149"/>
                    </a:lnTo>
                    <a:lnTo>
                      <a:pt x="1180" y="143"/>
                    </a:lnTo>
                    <a:lnTo>
                      <a:pt x="1192" y="137"/>
                    </a:lnTo>
                    <a:lnTo>
                      <a:pt x="1215" y="123"/>
                    </a:lnTo>
                    <a:lnTo>
                      <a:pt x="1235" y="108"/>
                    </a:lnTo>
                    <a:lnTo>
                      <a:pt x="1257" y="93"/>
                    </a:lnTo>
                    <a:lnTo>
                      <a:pt x="1278" y="79"/>
                    </a:lnTo>
                    <a:lnTo>
                      <a:pt x="1289" y="72"/>
                    </a:lnTo>
                    <a:lnTo>
                      <a:pt x="1300" y="66"/>
                    </a:lnTo>
                    <a:lnTo>
                      <a:pt x="1311" y="61"/>
                    </a:lnTo>
                    <a:lnTo>
                      <a:pt x="1323" y="57"/>
                    </a:lnTo>
                    <a:lnTo>
                      <a:pt x="1337" y="54"/>
                    </a:lnTo>
                    <a:lnTo>
                      <a:pt x="1351" y="49"/>
                    </a:lnTo>
                    <a:lnTo>
                      <a:pt x="1364" y="44"/>
                    </a:lnTo>
                    <a:lnTo>
                      <a:pt x="1378" y="39"/>
                    </a:lnTo>
                    <a:lnTo>
                      <a:pt x="1404" y="27"/>
                    </a:lnTo>
                    <a:lnTo>
                      <a:pt x="1431" y="16"/>
                    </a:lnTo>
                    <a:lnTo>
                      <a:pt x="1444" y="10"/>
                    </a:lnTo>
                    <a:lnTo>
                      <a:pt x="1458" y="6"/>
                    </a:lnTo>
                    <a:lnTo>
                      <a:pt x="1471" y="3"/>
                    </a:lnTo>
                    <a:lnTo>
                      <a:pt x="1485" y="1"/>
                    </a:lnTo>
                    <a:lnTo>
                      <a:pt x="1499" y="0"/>
                    </a:lnTo>
                    <a:lnTo>
                      <a:pt x="1513" y="0"/>
                    </a:lnTo>
                    <a:lnTo>
                      <a:pt x="1528" y="2"/>
                    </a:lnTo>
                    <a:lnTo>
                      <a:pt x="1543" y="5"/>
                    </a:lnTo>
                    <a:lnTo>
                      <a:pt x="1575" y="16"/>
                    </a:lnTo>
                    <a:lnTo>
                      <a:pt x="1608" y="27"/>
                    </a:lnTo>
                    <a:lnTo>
                      <a:pt x="1640" y="37"/>
                    </a:lnTo>
                    <a:lnTo>
                      <a:pt x="1671" y="49"/>
                    </a:lnTo>
                    <a:lnTo>
                      <a:pt x="1703" y="62"/>
                    </a:lnTo>
                    <a:lnTo>
                      <a:pt x="1734" y="75"/>
                    </a:lnTo>
                    <a:lnTo>
                      <a:pt x="1764" y="89"/>
                    </a:lnTo>
                    <a:lnTo>
                      <a:pt x="1795" y="103"/>
                    </a:lnTo>
                    <a:lnTo>
                      <a:pt x="1825" y="117"/>
                    </a:lnTo>
                    <a:lnTo>
                      <a:pt x="1854" y="133"/>
                    </a:lnTo>
                    <a:lnTo>
                      <a:pt x="1884" y="148"/>
                    </a:lnTo>
                    <a:lnTo>
                      <a:pt x="1912" y="164"/>
                    </a:lnTo>
                    <a:lnTo>
                      <a:pt x="1942" y="181"/>
                    </a:lnTo>
                    <a:lnTo>
                      <a:pt x="1970" y="197"/>
                    </a:lnTo>
                    <a:lnTo>
                      <a:pt x="1998" y="216"/>
                    </a:lnTo>
                    <a:lnTo>
                      <a:pt x="2025" y="233"/>
                    </a:lnTo>
                    <a:lnTo>
                      <a:pt x="2053" y="251"/>
                    </a:lnTo>
                    <a:lnTo>
                      <a:pt x="2079" y="271"/>
                    </a:lnTo>
                    <a:lnTo>
                      <a:pt x="2106" y="290"/>
                    </a:lnTo>
                    <a:lnTo>
                      <a:pt x="2132" y="310"/>
                    </a:lnTo>
                    <a:lnTo>
                      <a:pt x="2158" y="330"/>
                    </a:lnTo>
                    <a:lnTo>
                      <a:pt x="2182" y="351"/>
                    </a:lnTo>
                    <a:lnTo>
                      <a:pt x="2207" y="372"/>
                    </a:lnTo>
                    <a:lnTo>
                      <a:pt x="2231" y="394"/>
                    </a:lnTo>
                    <a:lnTo>
                      <a:pt x="2256" y="415"/>
                    </a:lnTo>
                    <a:lnTo>
                      <a:pt x="2279" y="438"/>
                    </a:lnTo>
                    <a:lnTo>
                      <a:pt x="2302" y="461"/>
                    </a:lnTo>
                    <a:lnTo>
                      <a:pt x="2325" y="485"/>
                    </a:lnTo>
                    <a:lnTo>
                      <a:pt x="2347" y="508"/>
                    </a:lnTo>
                    <a:lnTo>
                      <a:pt x="2368" y="532"/>
                    </a:lnTo>
                    <a:lnTo>
                      <a:pt x="2390" y="557"/>
                    </a:lnTo>
                    <a:lnTo>
                      <a:pt x="2410" y="582"/>
                    </a:lnTo>
                    <a:lnTo>
                      <a:pt x="2344" y="590"/>
                    </a:lnTo>
                    <a:lnTo>
                      <a:pt x="2274" y="600"/>
                    </a:lnTo>
                    <a:lnTo>
                      <a:pt x="2239" y="606"/>
                    </a:lnTo>
                    <a:lnTo>
                      <a:pt x="2203" y="612"/>
                    </a:lnTo>
                    <a:lnTo>
                      <a:pt x="2168" y="620"/>
                    </a:lnTo>
                    <a:lnTo>
                      <a:pt x="2135" y="628"/>
                    </a:lnTo>
                    <a:lnTo>
                      <a:pt x="2119" y="634"/>
                    </a:lnTo>
                    <a:lnTo>
                      <a:pt x="2102" y="639"/>
                    </a:lnTo>
                    <a:lnTo>
                      <a:pt x="2087" y="644"/>
                    </a:lnTo>
                    <a:lnTo>
                      <a:pt x="2073" y="651"/>
                    </a:lnTo>
                    <a:lnTo>
                      <a:pt x="2059" y="657"/>
                    </a:lnTo>
                    <a:lnTo>
                      <a:pt x="2045" y="664"/>
                    </a:lnTo>
                    <a:lnTo>
                      <a:pt x="2033" y="671"/>
                    </a:lnTo>
                    <a:lnTo>
                      <a:pt x="2021" y="680"/>
                    </a:lnTo>
                    <a:lnTo>
                      <a:pt x="2010" y="689"/>
                    </a:lnTo>
                    <a:lnTo>
                      <a:pt x="2000" y="697"/>
                    </a:lnTo>
                    <a:lnTo>
                      <a:pt x="1991" y="707"/>
                    </a:lnTo>
                    <a:lnTo>
                      <a:pt x="1983" y="718"/>
                    </a:lnTo>
                    <a:lnTo>
                      <a:pt x="1975" y="729"/>
                    </a:lnTo>
                    <a:lnTo>
                      <a:pt x="1970" y="741"/>
                    </a:lnTo>
                    <a:lnTo>
                      <a:pt x="1964" y="754"/>
                    </a:lnTo>
                    <a:lnTo>
                      <a:pt x="1961" y="766"/>
                    </a:lnTo>
                    <a:lnTo>
                      <a:pt x="1959" y="777"/>
                    </a:lnTo>
                    <a:lnTo>
                      <a:pt x="1958" y="788"/>
                    </a:lnTo>
                    <a:lnTo>
                      <a:pt x="1959" y="799"/>
                    </a:lnTo>
                    <a:lnTo>
                      <a:pt x="1960" y="810"/>
                    </a:lnTo>
                    <a:lnTo>
                      <a:pt x="1961" y="819"/>
                    </a:lnTo>
                    <a:lnTo>
                      <a:pt x="1964" y="830"/>
                    </a:lnTo>
                    <a:lnTo>
                      <a:pt x="1967" y="841"/>
                    </a:lnTo>
                    <a:lnTo>
                      <a:pt x="1972" y="851"/>
                    </a:lnTo>
                    <a:lnTo>
                      <a:pt x="1977" y="862"/>
                    </a:lnTo>
                    <a:lnTo>
                      <a:pt x="1983" y="871"/>
                    </a:lnTo>
                    <a:lnTo>
                      <a:pt x="1989" y="882"/>
                    </a:lnTo>
                    <a:lnTo>
                      <a:pt x="1997" y="892"/>
                    </a:lnTo>
                    <a:lnTo>
                      <a:pt x="2012" y="912"/>
                    </a:lnTo>
                    <a:lnTo>
                      <a:pt x="2030" y="932"/>
                    </a:lnTo>
                    <a:lnTo>
                      <a:pt x="2048" y="951"/>
                    </a:lnTo>
                    <a:lnTo>
                      <a:pt x="2069" y="970"/>
                    </a:lnTo>
                    <a:lnTo>
                      <a:pt x="2091" y="989"/>
                    </a:lnTo>
                    <a:lnTo>
                      <a:pt x="2113" y="1007"/>
                    </a:lnTo>
                    <a:lnTo>
                      <a:pt x="2158" y="1042"/>
                    </a:lnTo>
                    <a:lnTo>
                      <a:pt x="2201" y="1075"/>
                    </a:lnTo>
                    <a:close/>
                  </a:path>
                </a:pathLst>
              </a:custGeom>
              <a:solidFill>
                <a:srgbClr val="5982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5300640" y="3730680"/>
                <a:ext cx="770040" cy="1343160"/>
              </a:xfrm>
              <a:custGeom>
                <a:avLst/>
                <a:gdLst/>
                <a:ahLst/>
                <a:rect l="l" t="t" r="r" b="b"/>
                <a:pathLst>
                  <a:path w="2422" h="4230">
                    <a:moveTo>
                      <a:pt x="2144" y="1079"/>
                    </a:moveTo>
                    <a:lnTo>
                      <a:pt x="2123" y="1092"/>
                    </a:lnTo>
                    <a:lnTo>
                      <a:pt x="2105" y="1105"/>
                    </a:lnTo>
                    <a:lnTo>
                      <a:pt x="2088" y="1117"/>
                    </a:lnTo>
                    <a:lnTo>
                      <a:pt x="2073" y="1132"/>
                    </a:lnTo>
                    <a:lnTo>
                      <a:pt x="2060" y="1147"/>
                    </a:lnTo>
                    <a:lnTo>
                      <a:pt x="2048" y="1162"/>
                    </a:lnTo>
                    <a:lnTo>
                      <a:pt x="2038" y="1177"/>
                    </a:lnTo>
                    <a:lnTo>
                      <a:pt x="2029" y="1193"/>
                    </a:lnTo>
                    <a:lnTo>
                      <a:pt x="2023" y="1209"/>
                    </a:lnTo>
                    <a:lnTo>
                      <a:pt x="2016" y="1227"/>
                    </a:lnTo>
                    <a:lnTo>
                      <a:pt x="2012" y="1245"/>
                    </a:lnTo>
                    <a:lnTo>
                      <a:pt x="2009" y="1263"/>
                    </a:lnTo>
                    <a:lnTo>
                      <a:pt x="2007" y="1282"/>
                    </a:lnTo>
                    <a:lnTo>
                      <a:pt x="2006" y="1301"/>
                    </a:lnTo>
                    <a:lnTo>
                      <a:pt x="2006" y="1322"/>
                    </a:lnTo>
                    <a:lnTo>
                      <a:pt x="2007" y="1343"/>
                    </a:lnTo>
                    <a:lnTo>
                      <a:pt x="2010" y="1359"/>
                    </a:lnTo>
                    <a:lnTo>
                      <a:pt x="2014" y="1376"/>
                    </a:lnTo>
                    <a:lnTo>
                      <a:pt x="2019" y="1393"/>
                    </a:lnTo>
                    <a:lnTo>
                      <a:pt x="2027" y="1411"/>
                    </a:lnTo>
                    <a:lnTo>
                      <a:pt x="2034" y="1430"/>
                    </a:lnTo>
                    <a:lnTo>
                      <a:pt x="2044" y="1448"/>
                    </a:lnTo>
                    <a:lnTo>
                      <a:pt x="2055" y="1466"/>
                    </a:lnTo>
                    <a:lnTo>
                      <a:pt x="2066" y="1486"/>
                    </a:lnTo>
                    <a:lnTo>
                      <a:pt x="2078" y="1503"/>
                    </a:lnTo>
                    <a:lnTo>
                      <a:pt x="2091" y="1521"/>
                    </a:lnTo>
                    <a:lnTo>
                      <a:pt x="2105" y="1539"/>
                    </a:lnTo>
                    <a:lnTo>
                      <a:pt x="2119" y="1556"/>
                    </a:lnTo>
                    <a:lnTo>
                      <a:pt x="2133" y="1572"/>
                    </a:lnTo>
                    <a:lnTo>
                      <a:pt x="2147" y="1587"/>
                    </a:lnTo>
                    <a:lnTo>
                      <a:pt x="2162" y="1601"/>
                    </a:lnTo>
                    <a:lnTo>
                      <a:pt x="2176" y="1614"/>
                    </a:lnTo>
                    <a:lnTo>
                      <a:pt x="2199" y="1634"/>
                    </a:lnTo>
                    <a:lnTo>
                      <a:pt x="2222" y="1652"/>
                    </a:lnTo>
                    <a:lnTo>
                      <a:pt x="2245" y="1669"/>
                    </a:lnTo>
                    <a:lnTo>
                      <a:pt x="2268" y="1687"/>
                    </a:lnTo>
                    <a:lnTo>
                      <a:pt x="2289" y="1703"/>
                    </a:lnTo>
                    <a:lnTo>
                      <a:pt x="2311" y="1719"/>
                    </a:lnTo>
                    <a:lnTo>
                      <a:pt x="2332" y="1735"/>
                    </a:lnTo>
                    <a:lnTo>
                      <a:pt x="2350" y="1751"/>
                    </a:lnTo>
                    <a:lnTo>
                      <a:pt x="2367" y="1768"/>
                    </a:lnTo>
                    <a:lnTo>
                      <a:pt x="2382" y="1784"/>
                    </a:lnTo>
                    <a:lnTo>
                      <a:pt x="2390" y="1792"/>
                    </a:lnTo>
                    <a:lnTo>
                      <a:pt x="2396" y="1801"/>
                    </a:lnTo>
                    <a:lnTo>
                      <a:pt x="2402" y="1810"/>
                    </a:lnTo>
                    <a:lnTo>
                      <a:pt x="2407" y="1819"/>
                    </a:lnTo>
                    <a:lnTo>
                      <a:pt x="2411" y="1829"/>
                    </a:lnTo>
                    <a:lnTo>
                      <a:pt x="2415" y="1839"/>
                    </a:lnTo>
                    <a:lnTo>
                      <a:pt x="2418" y="1849"/>
                    </a:lnTo>
                    <a:lnTo>
                      <a:pt x="2420" y="1859"/>
                    </a:lnTo>
                    <a:lnTo>
                      <a:pt x="2421" y="1869"/>
                    </a:lnTo>
                    <a:lnTo>
                      <a:pt x="2422" y="1881"/>
                    </a:lnTo>
                    <a:lnTo>
                      <a:pt x="2422" y="1892"/>
                    </a:lnTo>
                    <a:lnTo>
                      <a:pt x="2421" y="1904"/>
                    </a:lnTo>
                    <a:lnTo>
                      <a:pt x="2419" y="1912"/>
                    </a:lnTo>
                    <a:lnTo>
                      <a:pt x="2416" y="1919"/>
                    </a:lnTo>
                    <a:lnTo>
                      <a:pt x="2413" y="1924"/>
                    </a:lnTo>
                    <a:lnTo>
                      <a:pt x="2407" y="1929"/>
                    </a:lnTo>
                    <a:lnTo>
                      <a:pt x="2402" y="1933"/>
                    </a:lnTo>
                    <a:lnTo>
                      <a:pt x="2395" y="1935"/>
                    </a:lnTo>
                    <a:lnTo>
                      <a:pt x="2389" y="1937"/>
                    </a:lnTo>
                    <a:lnTo>
                      <a:pt x="2381" y="1939"/>
                    </a:lnTo>
                    <a:lnTo>
                      <a:pt x="2364" y="1940"/>
                    </a:lnTo>
                    <a:lnTo>
                      <a:pt x="2343" y="1939"/>
                    </a:lnTo>
                    <a:lnTo>
                      <a:pt x="2323" y="1937"/>
                    </a:lnTo>
                    <a:lnTo>
                      <a:pt x="2300" y="1935"/>
                    </a:lnTo>
                    <a:lnTo>
                      <a:pt x="2276" y="1934"/>
                    </a:lnTo>
                    <a:lnTo>
                      <a:pt x="2252" y="1933"/>
                    </a:lnTo>
                    <a:lnTo>
                      <a:pt x="2240" y="1933"/>
                    </a:lnTo>
                    <a:lnTo>
                      <a:pt x="2227" y="1934"/>
                    </a:lnTo>
                    <a:lnTo>
                      <a:pt x="2215" y="1935"/>
                    </a:lnTo>
                    <a:lnTo>
                      <a:pt x="2203" y="1936"/>
                    </a:lnTo>
                    <a:lnTo>
                      <a:pt x="2191" y="1939"/>
                    </a:lnTo>
                    <a:lnTo>
                      <a:pt x="2179" y="1943"/>
                    </a:lnTo>
                    <a:lnTo>
                      <a:pt x="2167" y="1947"/>
                    </a:lnTo>
                    <a:lnTo>
                      <a:pt x="2155" y="1952"/>
                    </a:lnTo>
                    <a:lnTo>
                      <a:pt x="2145" y="1959"/>
                    </a:lnTo>
                    <a:lnTo>
                      <a:pt x="2134" y="1966"/>
                    </a:lnTo>
                    <a:lnTo>
                      <a:pt x="2124" y="1975"/>
                    </a:lnTo>
                    <a:lnTo>
                      <a:pt x="2114" y="1986"/>
                    </a:lnTo>
                    <a:lnTo>
                      <a:pt x="2132" y="2001"/>
                    </a:lnTo>
                    <a:lnTo>
                      <a:pt x="2149" y="2016"/>
                    </a:lnTo>
                    <a:lnTo>
                      <a:pt x="2166" y="2033"/>
                    </a:lnTo>
                    <a:lnTo>
                      <a:pt x="2184" y="2051"/>
                    </a:lnTo>
                    <a:lnTo>
                      <a:pt x="2201" y="2068"/>
                    </a:lnTo>
                    <a:lnTo>
                      <a:pt x="2216" y="2087"/>
                    </a:lnTo>
                    <a:lnTo>
                      <a:pt x="2230" y="2107"/>
                    </a:lnTo>
                    <a:lnTo>
                      <a:pt x="2243" y="2126"/>
                    </a:lnTo>
                    <a:lnTo>
                      <a:pt x="2248" y="2135"/>
                    </a:lnTo>
                    <a:lnTo>
                      <a:pt x="2255" y="2143"/>
                    </a:lnTo>
                    <a:lnTo>
                      <a:pt x="2261" y="2151"/>
                    </a:lnTo>
                    <a:lnTo>
                      <a:pt x="2267" y="2159"/>
                    </a:lnTo>
                    <a:lnTo>
                      <a:pt x="2269" y="2162"/>
                    </a:lnTo>
                    <a:lnTo>
                      <a:pt x="2270" y="2165"/>
                    </a:lnTo>
                    <a:lnTo>
                      <a:pt x="2271" y="2168"/>
                    </a:lnTo>
                    <a:lnTo>
                      <a:pt x="2271" y="2172"/>
                    </a:lnTo>
                    <a:lnTo>
                      <a:pt x="2269" y="2174"/>
                    </a:lnTo>
                    <a:lnTo>
                      <a:pt x="2267" y="2176"/>
                    </a:lnTo>
                    <a:lnTo>
                      <a:pt x="2262" y="2177"/>
                    </a:lnTo>
                    <a:lnTo>
                      <a:pt x="2258" y="2178"/>
                    </a:lnTo>
                    <a:lnTo>
                      <a:pt x="2232" y="2182"/>
                    </a:lnTo>
                    <a:lnTo>
                      <a:pt x="2207" y="2185"/>
                    </a:lnTo>
                    <a:lnTo>
                      <a:pt x="2181" y="2186"/>
                    </a:lnTo>
                    <a:lnTo>
                      <a:pt x="2157" y="2187"/>
                    </a:lnTo>
                    <a:lnTo>
                      <a:pt x="2131" y="2187"/>
                    </a:lnTo>
                    <a:lnTo>
                      <a:pt x="2106" y="2187"/>
                    </a:lnTo>
                    <a:lnTo>
                      <a:pt x="2080" y="2186"/>
                    </a:lnTo>
                    <a:lnTo>
                      <a:pt x="2055" y="2186"/>
                    </a:lnTo>
                    <a:lnTo>
                      <a:pt x="2058" y="2205"/>
                    </a:lnTo>
                    <a:lnTo>
                      <a:pt x="2063" y="2223"/>
                    </a:lnTo>
                    <a:lnTo>
                      <a:pt x="2069" y="2240"/>
                    </a:lnTo>
                    <a:lnTo>
                      <a:pt x="2077" y="2256"/>
                    </a:lnTo>
                    <a:lnTo>
                      <a:pt x="2085" y="2271"/>
                    </a:lnTo>
                    <a:lnTo>
                      <a:pt x="2095" y="2284"/>
                    </a:lnTo>
                    <a:lnTo>
                      <a:pt x="2106" y="2298"/>
                    </a:lnTo>
                    <a:lnTo>
                      <a:pt x="2118" y="2310"/>
                    </a:lnTo>
                    <a:lnTo>
                      <a:pt x="2131" y="2322"/>
                    </a:lnTo>
                    <a:lnTo>
                      <a:pt x="2144" y="2332"/>
                    </a:lnTo>
                    <a:lnTo>
                      <a:pt x="2158" y="2343"/>
                    </a:lnTo>
                    <a:lnTo>
                      <a:pt x="2172" y="2354"/>
                    </a:lnTo>
                    <a:lnTo>
                      <a:pt x="2200" y="2374"/>
                    </a:lnTo>
                    <a:lnTo>
                      <a:pt x="2227" y="2392"/>
                    </a:lnTo>
                    <a:lnTo>
                      <a:pt x="2241" y="2402"/>
                    </a:lnTo>
                    <a:lnTo>
                      <a:pt x="2254" y="2411"/>
                    </a:lnTo>
                    <a:lnTo>
                      <a:pt x="2266" y="2422"/>
                    </a:lnTo>
                    <a:lnTo>
                      <a:pt x="2278" y="2432"/>
                    </a:lnTo>
                    <a:lnTo>
                      <a:pt x="2288" y="2443"/>
                    </a:lnTo>
                    <a:lnTo>
                      <a:pt x="2298" y="2453"/>
                    </a:lnTo>
                    <a:lnTo>
                      <a:pt x="2307" y="2465"/>
                    </a:lnTo>
                    <a:lnTo>
                      <a:pt x="2313" y="2477"/>
                    </a:lnTo>
                    <a:lnTo>
                      <a:pt x="2320" y="2490"/>
                    </a:lnTo>
                    <a:lnTo>
                      <a:pt x="2323" y="2504"/>
                    </a:lnTo>
                    <a:lnTo>
                      <a:pt x="2326" y="2518"/>
                    </a:lnTo>
                    <a:lnTo>
                      <a:pt x="2326" y="2534"/>
                    </a:lnTo>
                    <a:lnTo>
                      <a:pt x="2325" y="2551"/>
                    </a:lnTo>
                    <a:lnTo>
                      <a:pt x="2321" y="2569"/>
                    </a:lnTo>
                    <a:lnTo>
                      <a:pt x="2315" y="2588"/>
                    </a:lnTo>
                    <a:lnTo>
                      <a:pt x="2307" y="2608"/>
                    </a:lnTo>
                    <a:lnTo>
                      <a:pt x="2300" y="2621"/>
                    </a:lnTo>
                    <a:lnTo>
                      <a:pt x="2294" y="2632"/>
                    </a:lnTo>
                    <a:lnTo>
                      <a:pt x="2286" y="2638"/>
                    </a:lnTo>
                    <a:lnTo>
                      <a:pt x="2279" y="2644"/>
                    </a:lnTo>
                    <a:lnTo>
                      <a:pt x="2271" y="2647"/>
                    </a:lnTo>
                    <a:lnTo>
                      <a:pt x="2262" y="2648"/>
                    </a:lnTo>
                    <a:lnTo>
                      <a:pt x="2254" y="2648"/>
                    </a:lnTo>
                    <a:lnTo>
                      <a:pt x="2245" y="2647"/>
                    </a:lnTo>
                    <a:lnTo>
                      <a:pt x="2227" y="2642"/>
                    </a:lnTo>
                    <a:lnTo>
                      <a:pt x="2208" y="2638"/>
                    </a:lnTo>
                    <a:lnTo>
                      <a:pt x="2199" y="2636"/>
                    </a:lnTo>
                    <a:lnTo>
                      <a:pt x="2189" y="2635"/>
                    </a:lnTo>
                    <a:lnTo>
                      <a:pt x="2179" y="2635"/>
                    </a:lnTo>
                    <a:lnTo>
                      <a:pt x="2168" y="2636"/>
                    </a:lnTo>
                    <a:lnTo>
                      <a:pt x="2163" y="2637"/>
                    </a:lnTo>
                    <a:lnTo>
                      <a:pt x="2159" y="2639"/>
                    </a:lnTo>
                    <a:lnTo>
                      <a:pt x="2155" y="2641"/>
                    </a:lnTo>
                    <a:lnTo>
                      <a:pt x="2152" y="2644"/>
                    </a:lnTo>
                    <a:lnTo>
                      <a:pt x="2150" y="2647"/>
                    </a:lnTo>
                    <a:lnTo>
                      <a:pt x="2149" y="2650"/>
                    </a:lnTo>
                    <a:lnTo>
                      <a:pt x="2148" y="2654"/>
                    </a:lnTo>
                    <a:lnTo>
                      <a:pt x="2148" y="2658"/>
                    </a:lnTo>
                    <a:lnTo>
                      <a:pt x="2149" y="2667"/>
                    </a:lnTo>
                    <a:lnTo>
                      <a:pt x="2151" y="2676"/>
                    </a:lnTo>
                    <a:lnTo>
                      <a:pt x="2154" y="2687"/>
                    </a:lnTo>
                    <a:lnTo>
                      <a:pt x="2160" y="2698"/>
                    </a:lnTo>
                    <a:lnTo>
                      <a:pt x="2168" y="2718"/>
                    </a:lnTo>
                    <a:lnTo>
                      <a:pt x="2176" y="2737"/>
                    </a:lnTo>
                    <a:lnTo>
                      <a:pt x="2177" y="2746"/>
                    </a:lnTo>
                    <a:lnTo>
                      <a:pt x="2177" y="2754"/>
                    </a:lnTo>
                    <a:lnTo>
                      <a:pt x="2176" y="2757"/>
                    </a:lnTo>
                    <a:lnTo>
                      <a:pt x="2174" y="2759"/>
                    </a:lnTo>
                    <a:lnTo>
                      <a:pt x="2172" y="2762"/>
                    </a:lnTo>
                    <a:lnTo>
                      <a:pt x="2168" y="2764"/>
                    </a:lnTo>
                    <a:lnTo>
                      <a:pt x="2148" y="2774"/>
                    </a:lnTo>
                    <a:lnTo>
                      <a:pt x="2126" y="2783"/>
                    </a:lnTo>
                    <a:lnTo>
                      <a:pt x="2105" y="2789"/>
                    </a:lnTo>
                    <a:lnTo>
                      <a:pt x="2083" y="2795"/>
                    </a:lnTo>
                    <a:lnTo>
                      <a:pt x="2071" y="2796"/>
                    </a:lnTo>
                    <a:lnTo>
                      <a:pt x="2059" y="2797"/>
                    </a:lnTo>
                    <a:lnTo>
                      <a:pt x="2047" y="2798"/>
                    </a:lnTo>
                    <a:lnTo>
                      <a:pt x="2036" y="2798"/>
                    </a:lnTo>
                    <a:lnTo>
                      <a:pt x="2024" y="2797"/>
                    </a:lnTo>
                    <a:lnTo>
                      <a:pt x="2011" y="2796"/>
                    </a:lnTo>
                    <a:lnTo>
                      <a:pt x="1999" y="2794"/>
                    </a:lnTo>
                    <a:lnTo>
                      <a:pt x="1986" y="2791"/>
                    </a:lnTo>
                    <a:lnTo>
                      <a:pt x="1992" y="2811"/>
                    </a:lnTo>
                    <a:lnTo>
                      <a:pt x="1997" y="2829"/>
                    </a:lnTo>
                    <a:lnTo>
                      <a:pt x="2001" y="2849"/>
                    </a:lnTo>
                    <a:lnTo>
                      <a:pt x="2004" y="2867"/>
                    </a:lnTo>
                    <a:lnTo>
                      <a:pt x="2011" y="2903"/>
                    </a:lnTo>
                    <a:lnTo>
                      <a:pt x="2016" y="2937"/>
                    </a:lnTo>
                    <a:lnTo>
                      <a:pt x="2019" y="2955"/>
                    </a:lnTo>
                    <a:lnTo>
                      <a:pt x="2025" y="2972"/>
                    </a:lnTo>
                    <a:lnTo>
                      <a:pt x="2030" y="2988"/>
                    </a:lnTo>
                    <a:lnTo>
                      <a:pt x="2037" y="3004"/>
                    </a:lnTo>
                    <a:lnTo>
                      <a:pt x="2045" y="3019"/>
                    </a:lnTo>
                    <a:lnTo>
                      <a:pt x="2055" y="3036"/>
                    </a:lnTo>
                    <a:lnTo>
                      <a:pt x="2068" y="3051"/>
                    </a:lnTo>
                    <a:lnTo>
                      <a:pt x="2082" y="3066"/>
                    </a:lnTo>
                    <a:lnTo>
                      <a:pt x="2075" y="3068"/>
                    </a:lnTo>
                    <a:lnTo>
                      <a:pt x="2069" y="3071"/>
                    </a:lnTo>
                    <a:lnTo>
                      <a:pt x="2064" y="3073"/>
                    </a:lnTo>
                    <a:lnTo>
                      <a:pt x="2058" y="3078"/>
                    </a:lnTo>
                    <a:lnTo>
                      <a:pt x="2055" y="3081"/>
                    </a:lnTo>
                    <a:lnTo>
                      <a:pt x="2052" y="3085"/>
                    </a:lnTo>
                    <a:lnTo>
                      <a:pt x="2048" y="3090"/>
                    </a:lnTo>
                    <a:lnTo>
                      <a:pt x="2046" y="3095"/>
                    </a:lnTo>
                    <a:lnTo>
                      <a:pt x="2044" y="3105"/>
                    </a:lnTo>
                    <a:lnTo>
                      <a:pt x="2043" y="3117"/>
                    </a:lnTo>
                    <a:lnTo>
                      <a:pt x="2043" y="3128"/>
                    </a:lnTo>
                    <a:lnTo>
                      <a:pt x="2044" y="3141"/>
                    </a:lnTo>
                    <a:lnTo>
                      <a:pt x="2050" y="3169"/>
                    </a:lnTo>
                    <a:lnTo>
                      <a:pt x="2055" y="3198"/>
                    </a:lnTo>
                    <a:lnTo>
                      <a:pt x="2057" y="3212"/>
                    </a:lnTo>
                    <a:lnTo>
                      <a:pt x="2058" y="3225"/>
                    </a:lnTo>
                    <a:lnTo>
                      <a:pt x="2058" y="3239"/>
                    </a:lnTo>
                    <a:lnTo>
                      <a:pt x="2057" y="3252"/>
                    </a:lnTo>
                    <a:lnTo>
                      <a:pt x="2057" y="3255"/>
                    </a:lnTo>
                    <a:lnTo>
                      <a:pt x="2058" y="3258"/>
                    </a:lnTo>
                    <a:lnTo>
                      <a:pt x="2061" y="3263"/>
                    </a:lnTo>
                    <a:lnTo>
                      <a:pt x="2066" y="3269"/>
                    </a:lnTo>
                    <a:lnTo>
                      <a:pt x="2077" y="3280"/>
                    </a:lnTo>
                    <a:lnTo>
                      <a:pt x="2091" y="3292"/>
                    </a:lnTo>
                    <a:lnTo>
                      <a:pt x="2106" y="3302"/>
                    </a:lnTo>
                    <a:lnTo>
                      <a:pt x="2120" y="3312"/>
                    </a:lnTo>
                    <a:lnTo>
                      <a:pt x="2127" y="3315"/>
                    </a:lnTo>
                    <a:lnTo>
                      <a:pt x="2134" y="3317"/>
                    </a:lnTo>
                    <a:lnTo>
                      <a:pt x="2139" y="3319"/>
                    </a:lnTo>
                    <a:lnTo>
                      <a:pt x="2144" y="3317"/>
                    </a:lnTo>
                    <a:lnTo>
                      <a:pt x="2133" y="3316"/>
                    </a:lnTo>
                    <a:lnTo>
                      <a:pt x="2120" y="3316"/>
                    </a:lnTo>
                    <a:lnTo>
                      <a:pt x="2106" y="3317"/>
                    </a:lnTo>
                    <a:lnTo>
                      <a:pt x="2091" y="3317"/>
                    </a:lnTo>
                    <a:lnTo>
                      <a:pt x="2057" y="3321"/>
                    </a:lnTo>
                    <a:lnTo>
                      <a:pt x="2021" y="3324"/>
                    </a:lnTo>
                    <a:lnTo>
                      <a:pt x="1986" y="3327"/>
                    </a:lnTo>
                    <a:lnTo>
                      <a:pt x="1952" y="3329"/>
                    </a:lnTo>
                    <a:lnTo>
                      <a:pt x="1937" y="3329"/>
                    </a:lnTo>
                    <a:lnTo>
                      <a:pt x="1923" y="3329"/>
                    </a:lnTo>
                    <a:lnTo>
                      <a:pt x="1910" y="3327"/>
                    </a:lnTo>
                    <a:lnTo>
                      <a:pt x="1899" y="3325"/>
                    </a:lnTo>
                    <a:lnTo>
                      <a:pt x="1899" y="3348"/>
                    </a:lnTo>
                    <a:lnTo>
                      <a:pt x="1902" y="3369"/>
                    </a:lnTo>
                    <a:lnTo>
                      <a:pt x="1905" y="3390"/>
                    </a:lnTo>
                    <a:lnTo>
                      <a:pt x="1910" y="3410"/>
                    </a:lnTo>
                    <a:lnTo>
                      <a:pt x="1916" y="3431"/>
                    </a:lnTo>
                    <a:lnTo>
                      <a:pt x="1924" y="3450"/>
                    </a:lnTo>
                    <a:lnTo>
                      <a:pt x="1933" y="3469"/>
                    </a:lnTo>
                    <a:lnTo>
                      <a:pt x="1943" y="3487"/>
                    </a:lnTo>
                    <a:lnTo>
                      <a:pt x="1953" y="3505"/>
                    </a:lnTo>
                    <a:lnTo>
                      <a:pt x="1965" y="3523"/>
                    </a:lnTo>
                    <a:lnTo>
                      <a:pt x="1978" y="3540"/>
                    </a:lnTo>
                    <a:lnTo>
                      <a:pt x="1992" y="3556"/>
                    </a:lnTo>
                    <a:lnTo>
                      <a:pt x="2007" y="3571"/>
                    </a:lnTo>
                    <a:lnTo>
                      <a:pt x="2023" y="3586"/>
                    </a:lnTo>
                    <a:lnTo>
                      <a:pt x="2039" y="3600"/>
                    </a:lnTo>
                    <a:lnTo>
                      <a:pt x="2055" y="3614"/>
                    </a:lnTo>
                    <a:lnTo>
                      <a:pt x="2040" y="3617"/>
                    </a:lnTo>
                    <a:lnTo>
                      <a:pt x="2026" y="3620"/>
                    </a:lnTo>
                    <a:lnTo>
                      <a:pt x="2019" y="3622"/>
                    </a:lnTo>
                    <a:lnTo>
                      <a:pt x="2013" y="3624"/>
                    </a:lnTo>
                    <a:lnTo>
                      <a:pt x="2007" y="3627"/>
                    </a:lnTo>
                    <a:lnTo>
                      <a:pt x="2002" y="3631"/>
                    </a:lnTo>
                    <a:lnTo>
                      <a:pt x="1998" y="3635"/>
                    </a:lnTo>
                    <a:lnTo>
                      <a:pt x="1993" y="3639"/>
                    </a:lnTo>
                    <a:lnTo>
                      <a:pt x="1991" y="3645"/>
                    </a:lnTo>
                    <a:lnTo>
                      <a:pt x="1989" y="3650"/>
                    </a:lnTo>
                    <a:lnTo>
                      <a:pt x="1988" y="3657"/>
                    </a:lnTo>
                    <a:lnTo>
                      <a:pt x="1987" y="3664"/>
                    </a:lnTo>
                    <a:lnTo>
                      <a:pt x="1988" y="3673"/>
                    </a:lnTo>
                    <a:lnTo>
                      <a:pt x="1990" y="3681"/>
                    </a:lnTo>
                    <a:lnTo>
                      <a:pt x="1997" y="3702"/>
                    </a:lnTo>
                    <a:lnTo>
                      <a:pt x="2003" y="3727"/>
                    </a:lnTo>
                    <a:lnTo>
                      <a:pt x="2010" y="3755"/>
                    </a:lnTo>
                    <a:lnTo>
                      <a:pt x="2017" y="3785"/>
                    </a:lnTo>
                    <a:lnTo>
                      <a:pt x="2026" y="3814"/>
                    </a:lnTo>
                    <a:lnTo>
                      <a:pt x="2036" y="3841"/>
                    </a:lnTo>
                    <a:lnTo>
                      <a:pt x="2041" y="3853"/>
                    </a:lnTo>
                    <a:lnTo>
                      <a:pt x="2045" y="3864"/>
                    </a:lnTo>
                    <a:lnTo>
                      <a:pt x="2052" y="3874"/>
                    </a:lnTo>
                    <a:lnTo>
                      <a:pt x="2057" y="3881"/>
                    </a:lnTo>
                    <a:lnTo>
                      <a:pt x="2068" y="3892"/>
                    </a:lnTo>
                    <a:lnTo>
                      <a:pt x="2079" y="3902"/>
                    </a:lnTo>
                    <a:lnTo>
                      <a:pt x="2090" y="3909"/>
                    </a:lnTo>
                    <a:lnTo>
                      <a:pt x="2100" y="3917"/>
                    </a:lnTo>
                    <a:lnTo>
                      <a:pt x="2123" y="3929"/>
                    </a:lnTo>
                    <a:lnTo>
                      <a:pt x="2146" y="3940"/>
                    </a:lnTo>
                    <a:lnTo>
                      <a:pt x="2168" y="3950"/>
                    </a:lnTo>
                    <a:lnTo>
                      <a:pt x="2190" y="3963"/>
                    </a:lnTo>
                    <a:lnTo>
                      <a:pt x="2201" y="3971"/>
                    </a:lnTo>
                    <a:lnTo>
                      <a:pt x="2211" y="3979"/>
                    </a:lnTo>
                    <a:lnTo>
                      <a:pt x="2221" y="3990"/>
                    </a:lnTo>
                    <a:lnTo>
                      <a:pt x="2230" y="4002"/>
                    </a:lnTo>
                    <a:lnTo>
                      <a:pt x="2229" y="4004"/>
                    </a:lnTo>
                    <a:lnTo>
                      <a:pt x="2223" y="4011"/>
                    </a:lnTo>
                    <a:lnTo>
                      <a:pt x="2213" y="4021"/>
                    </a:lnTo>
                    <a:lnTo>
                      <a:pt x="2196" y="4033"/>
                    </a:lnTo>
                    <a:lnTo>
                      <a:pt x="2185" y="4041"/>
                    </a:lnTo>
                    <a:lnTo>
                      <a:pt x="2172" y="4050"/>
                    </a:lnTo>
                    <a:lnTo>
                      <a:pt x="2157" y="4058"/>
                    </a:lnTo>
                    <a:lnTo>
                      <a:pt x="2139" y="4067"/>
                    </a:lnTo>
                    <a:lnTo>
                      <a:pt x="2120" y="4077"/>
                    </a:lnTo>
                    <a:lnTo>
                      <a:pt x="2097" y="4086"/>
                    </a:lnTo>
                    <a:lnTo>
                      <a:pt x="2072" y="4096"/>
                    </a:lnTo>
                    <a:lnTo>
                      <a:pt x="2045" y="4106"/>
                    </a:lnTo>
                    <a:lnTo>
                      <a:pt x="2016" y="4117"/>
                    </a:lnTo>
                    <a:lnTo>
                      <a:pt x="1990" y="4127"/>
                    </a:lnTo>
                    <a:lnTo>
                      <a:pt x="1964" y="4139"/>
                    </a:lnTo>
                    <a:lnTo>
                      <a:pt x="1940" y="4150"/>
                    </a:lnTo>
                    <a:lnTo>
                      <a:pt x="1899" y="4171"/>
                    </a:lnTo>
                    <a:lnTo>
                      <a:pt x="1864" y="4189"/>
                    </a:lnTo>
                    <a:lnTo>
                      <a:pt x="1837" y="4206"/>
                    </a:lnTo>
                    <a:lnTo>
                      <a:pt x="1816" y="4218"/>
                    </a:lnTo>
                    <a:lnTo>
                      <a:pt x="1804" y="4227"/>
                    </a:lnTo>
                    <a:lnTo>
                      <a:pt x="1800" y="4230"/>
                    </a:lnTo>
                    <a:lnTo>
                      <a:pt x="1791" y="4224"/>
                    </a:lnTo>
                    <a:lnTo>
                      <a:pt x="1783" y="4215"/>
                    </a:lnTo>
                    <a:lnTo>
                      <a:pt x="1775" y="4206"/>
                    </a:lnTo>
                    <a:lnTo>
                      <a:pt x="1768" y="4197"/>
                    </a:lnTo>
                    <a:lnTo>
                      <a:pt x="1761" y="4186"/>
                    </a:lnTo>
                    <a:lnTo>
                      <a:pt x="1756" y="4175"/>
                    </a:lnTo>
                    <a:lnTo>
                      <a:pt x="1750" y="4163"/>
                    </a:lnTo>
                    <a:lnTo>
                      <a:pt x="1746" y="4150"/>
                    </a:lnTo>
                    <a:lnTo>
                      <a:pt x="1742" y="4137"/>
                    </a:lnTo>
                    <a:lnTo>
                      <a:pt x="1738" y="4123"/>
                    </a:lnTo>
                    <a:lnTo>
                      <a:pt x="1735" y="4109"/>
                    </a:lnTo>
                    <a:lnTo>
                      <a:pt x="1732" y="4094"/>
                    </a:lnTo>
                    <a:lnTo>
                      <a:pt x="1729" y="4064"/>
                    </a:lnTo>
                    <a:lnTo>
                      <a:pt x="1727" y="4033"/>
                    </a:lnTo>
                    <a:lnTo>
                      <a:pt x="1727" y="4002"/>
                    </a:lnTo>
                    <a:lnTo>
                      <a:pt x="1728" y="3972"/>
                    </a:lnTo>
                    <a:lnTo>
                      <a:pt x="1730" y="3943"/>
                    </a:lnTo>
                    <a:lnTo>
                      <a:pt x="1734" y="3915"/>
                    </a:lnTo>
                    <a:lnTo>
                      <a:pt x="1738" y="3889"/>
                    </a:lnTo>
                    <a:lnTo>
                      <a:pt x="1744" y="3866"/>
                    </a:lnTo>
                    <a:lnTo>
                      <a:pt x="1749" y="3846"/>
                    </a:lnTo>
                    <a:lnTo>
                      <a:pt x="1756" y="3829"/>
                    </a:lnTo>
                    <a:lnTo>
                      <a:pt x="1761" y="3814"/>
                    </a:lnTo>
                    <a:lnTo>
                      <a:pt x="1763" y="3799"/>
                    </a:lnTo>
                    <a:lnTo>
                      <a:pt x="1765" y="3783"/>
                    </a:lnTo>
                    <a:lnTo>
                      <a:pt x="1765" y="3767"/>
                    </a:lnTo>
                    <a:lnTo>
                      <a:pt x="1763" y="3751"/>
                    </a:lnTo>
                    <a:lnTo>
                      <a:pt x="1760" y="3732"/>
                    </a:lnTo>
                    <a:lnTo>
                      <a:pt x="1756" y="3714"/>
                    </a:lnTo>
                    <a:lnTo>
                      <a:pt x="1751" y="3693"/>
                    </a:lnTo>
                    <a:lnTo>
                      <a:pt x="1738" y="3650"/>
                    </a:lnTo>
                    <a:lnTo>
                      <a:pt x="1722" y="3601"/>
                    </a:lnTo>
                    <a:lnTo>
                      <a:pt x="1706" y="3546"/>
                    </a:lnTo>
                    <a:lnTo>
                      <a:pt x="1689" y="3484"/>
                    </a:lnTo>
                    <a:lnTo>
                      <a:pt x="1686" y="3466"/>
                    </a:lnTo>
                    <a:lnTo>
                      <a:pt x="1682" y="3448"/>
                    </a:lnTo>
                    <a:lnTo>
                      <a:pt x="1680" y="3430"/>
                    </a:lnTo>
                    <a:lnTo>
                      <a:pt x="1679" y="3410"/>
                    </a:lnTo>
                    <a:lnTo>
                      <a:pt x="1678" y="3390"/>
                    </a:lnTo>
                    <a:lnTo>
                      <a:pt x="1678" y="3368"/>
                    </a:lnTo>
                    <a:lnTo>
                      <a:pt x="1679" y="3348"/>
                    </a:lnTo>
                    <a:lnTo>
                      <a:pt x="1680" y="3325"/>
                    </a:lnTo>
                    <a:lnTo>
                      <a:pt x="1684" y="3280"/>
                    </a:lnTo>
                    <a:lnTo>
                      <a:pt x="1690" y="3232"/>
                    </a:lnTo>
                    <a:lnTo>
                      <a:pt x="1696" y="3184"/>
                    </a:lnTo>
                    <a:lnTo>
                      <a:pt x="1704" y="3135"/>
                    </a:lnTo>
                    <a:lnTo>
                      <a:pt x="1720" y="3036"/>
                    </a:lnTo>
                    <a:lnTo>
                      <a:pt x="1734" y="2938"/>
                    </a:lnTo>
                    <a:lnTo>
                      <a:pt x="1740" y="2891"/>
                    </a:lnTo>
                    <a:lnTo>
                      <a:pt x="1743" y="2845"/>
                    </a:lnTo>
                    <a:lnTo>
                      <a:pt x="1744" y="2824"/>
                    </a:lnTo>
                    <a:lnTo>
                      <a:pt x="1744" y="2802"/>
                    </a:lnTo>
                    <a:lnTo>
                      <a:pt x="1744" y="2782"/>
                    </a:lnTo>
                    <a:lnTo>
                      <a:pt x="1743" y="2761"/>
                    </a:lnTo>
                    <a:lnTo>
                      <a:pt x="1743" y="2742"/>
                    </a:lnTo>
                    <a:lnTo>
                      <a:pt x="1743" y="2720"/>
                    </a:lnTo>
                    <a:lnTo>
                      <a:pt x="1744" y="2699"/>
                    </a:lnTo>
                    <a:lnTo>
                      <a:pt x="1745" y="2676"/>
                    </a:lnTo>
                    <a:lnTo>
                      <a:pt x="1750" y="2629"/>
                    </a:lnTo>
                    <a:lnTo>
                      <a:pt x="1757" y="2582"/>
                    </a:lnTo>
                    <a:lnTo>
                      <a:pt x="1765" y="2534"/>
                    </a:lnTo>
                    <a:lnTo>
                      <a:pt x="1775" y="2486"/>
                    </a:lnTo>
                    <a:lnTo>
                      <a:pt x="1786" y="2437"/>
                    </a:lnTo>
                    <a:lnTo>
                      <a:pt x="1798" y="2391"/>
                    </a:lnTo>
                    <a:lnTo>
                      <a:pt x="1810" y="2347"/>
                    </a:lnTo>
                    <a:lnTo>
                      <a:pt x="1822" y="2303"/>
                    </a:lnTo>
                    <a:lnTo>
                      <a:pt x="1834" y="2264"/>
                    </a:lnTo>
                    <a:lnTo>
                      <a:pt x="1845" y="2229"/>
                    </a:lnTo>
                    <a:lnTo>
                      <a:pt x="1864" y="2173"/>
                    </a:lnTo>
                    <a:lnTo>
                      <a:pt x="1877" y="2139"/>
                    </a:lnTo>
                    <a:lnTo>
                      <a:pt x="1881" y="2127"/>
                    </a:lnTo>
                    <a:lnTo>
                      <a:pt x="1883" y="2113"/>
                    </a:lnTo>
                    <a:lnTo>
                      <a:pt x="1885" y="2098"/>
                    </a:lnTo>
                    <a:lnTo>
                      <a:pt x="1888" y="2081"/>
                    </a:lnTo>
                    <a:lnTo>
                      <a:pt x="1889" y="2064"/>
                    </a:lnTo>
                    <a:lnTo>
                      <a:pt x="1889" y="2043"/>
                    </a:lnTo>
                    <a:lnTo>
                      <a:pt x="1888" y="2023"/>
                    </a:lnTo>
                    <a:lnTo>
                      <a:pt x="1885" y="2001"/>
                    </a:lnTo>
                    <a:lnTo>
                      <a:pt x="1883" y="1978"/>
                    </a:lnTo>
                    <a:lnTo>
                      <a:pt x="1880" y="1954"/>
                    </a:lnTo>
                    <a:lnTo>
                      <a:pt x="1877" y="1930"/>
                    </a:lnTo>
                    <a:lnTo>
                      <a:pt x="1871" y="1906"/>
                    </a:lnTo>
                    <a:lnTo>
                      <a:pt x="1866" y="1881"/>
                    </a:lnTo>
                    <a:lnTo>
                      <a:pt x="1859" y="1855"/>
                    </a:lnTo>
                    <a:lnTo>
                      <a:pt x="1853" y="1830"/>
                    </a:lnTo>
                    <a:lnTo>
                      <a:pt x="1844" y="1805"/>
                    </a:lnTo>
                    <a:lnTo>
                      <a:pt x="1836" y="1781"/>
                    </a:lnTo>
                    <a:lnTo>
                      <a:pt x="1825" y="1756"/>
                    </a:lnTo>
                    <a:lnTo>
                      <a:pt x="1814" y="1731"/>
                    </a:lnTo>
                    <a:lnTo>
                      <a:pt x="1801" y="1706"/>
                    </a:lnTo>
                    <a:lnTo>
                      <a:pt x="1776" y="1655"/>
                    </a:lnTo>
                    <a:lnTo>
                      <a:pt x="1750" y="1605"/>
                    </a:lnTo>
                    <a:lnTo>
                      <a:pt x="1737" y="1578"/>
                    </a:lnTo>
                    <a:lnTo>
                      <a:pt x="1727" y="1551"/>
                    </a:lnTo>
                    <a:lnTo>
                      <a:pt x="1716" y="1522"/>
                    </a:lnTo>
                    <a:lnTo>
                      <a:pt x="1707" y="1494"/>
                    </a:lnTo>
                    <a:lnTo>
                      <a:pt x="1700" y="1465"/>
                    </a:lnTo>
                    <a:lnTo>
                      <a:pt x="1694" y="1434"/>
                    </a:lnTo>
                    <a:lnTo>
                      <a:pt x="1692" y="1419"/>
                    </a:lnTo>
                    <a:lnTo>
                      <a:pt x="1690" y="1403"/>
                    </a:lnTo>
                    <a:lnTo>
                      <a:pt x="1689" y="1386"/>
                    </a:lnTo>
                    <a:lnTo>
                      <a:pt x="1689" y="1370"/>
                    </a:lnTo>
                    <a:lnTo>
                      <a:pt x="1689" y="1354"/>
                    </a:lnTo>
                    <a:lnTo>
                      <a:pt x="1688" y="1337"/>
                    </a:lnTo>
                    <a:lnTo>
                      <a:pt x="1686" y="1321"/>
                    </a:lnTo>
                    <a:lnTo>
                      <a:pt x="1683" y="1304"/>
                    </a:lnTo>
                    <a:lnTo>
                      <a:pt x="1677" y="1272"/>
                    </a:lnTo>
                    <a:lnTo>
                      <a:pt x="1668" y="1241"/>
                    </a:lnTo>
                    <a:lnTo>
                      <a:pt x="1659" y="1209"/>
                    </a:lnTo>
                    <a:lnTo>
                      <a:pt x="1647" y="1178"/>
                    </a:lnTo>
                    <a:lnTo>
                      <a:pt x="1634" y="1148"/>
                    </a:lnTo>
                    <a:lnTo>
                      <a:pt x="1621" y="1119"/>
                    </a:lnTo>
                    <a:lnTo>
                      <a:pt x="1592" y="1061"/>
                    </a:lnTo>
                    <a:lnTo>
                      <a:pt x="1561" y="1008"/>
                    </a:lnTo>
                    <a:lnTo>
                      <a:pt x="1534" y="960"/>
                    </a:lnTo>
                    <a:lnTo>
                      <a:pt x="1511" y="916"/>
                    </a:lnTo>
                    <a:lnTo>
                      <a:pt x="1502" y="895"/>
                    </a:lnTo>
                    <a:lnTo>
                      <a:pt x="1494" y="876"/>
                    </a:lnTo>
                    <a:lnTo>
                      <a:pt x="1489" y="858"/>
                    </a:lnTo>
                    <a:lnTo>
                      <a:pt x="1485" y="841"/>
                    </a:lnTo>
                    <a:lnTo>
                      <a:pt x="1482" y="825"/>
                    </a:lnTo>
                    <a:lnTo>
                      <a:pt x="1480" y="810"/>
                    </a:lnTo>
                    <a:lnTo>
                      <a:pt x="1480" y="795"/>
                    </a:lnTo>
                    <a:lnTo>
                      <a:pt x="1480" y="781"/>
                    </a:lnTo>
                    <a:lnTo>
                      <a:pt x="1482" y="754"/>
                    </a:lnTo>
                    <a:lnTo>
                      <a:pt x="1484" y="727"/>
                    </a:lnTo>
                    <a:lnTo>
                      <a:pt x="1482" y="712"/>
                    </a:lnTo>
                    <a:lnTo>
                      <a:pt x="1481" y="700"/>
                    </a:lnTo>
                    <a:lnTo>
                      <a:pt x="1479" y="685"/>
                    </a:lnTo>
                    <a:lnTo>
                      <a:pt x="1476" y="670"/>
                    </a:lnTo>
                    <a:lnTo>
                      <a:pt x="1473" y="657"/>
                    </a:lnTo>
                    <a:lnTo>
                      <a:pt x="1469" y="648"/>
                    </a:lnTo>
                    <a:lnTo>
                      <a:pt x="1466" y="641"/>
                    </a:lnTo>
                    <a:lnTo>
                      <a:pt x="1463" y="638"/>
                    </a:lnTo>
                    <a:lnTo>
                      <a:pt x="1461" y="637"/>
                    </a:lnTo>
                    <a:lnTo>
                      <a:pt x="1459" y="638"/>
                    </a:lnTo>
                    <a:lnTo>
                      <a:pt x="1456" y="639"/>
                    </a:lnTo>
                    <a:lnTo>
                      <a:pt x="1454" y="642"/>
                    </a:lnTo>
                    <a:lnTo>
                      <a:pt x="1449" y="650"/>
                    </a:lnTo>
                    <a:lnTo>
                      <a:pt x="1442" y="662"/>
                    </a:lnTo>
                    <a:lnTo>
                      <a:pt x="1423" y="698"/>
                    </a:lnTo>
                    <a:lnTo>
                      <a:pt x="1394" y="755"/>
                    </a:lnTo>
                    <a:lnTo>
                      <a:pt x="1375" y="790"/>
                    </a:lnTo>
                    <a:lnTo>
                      <a:pt x="1353" y="830"/>
                    </a:lnTo>
                    <a:lnTo>
                      <a:pt x="1328" y="877"/>
                    </a:lnTo>
                    <a:lnTo>
                      <a:pt x="1299" y="927"/>
                    </a:lnTo>
                    <a:lnTo>
                      <a:pt x="1283" y="955"/>
                    </a:lnTo>
                    <a:lnTo>
                      <a:pt x="1267" y="987"/>
                    </a:lnTo>
                    <a:lnTo>
                      <a:pt x="1251" y="1020"/>
                    </a:lnTo>
                    <a:lnTo>
                      <a:pt x="1236" y="1056"/>
                    </a:lnTo>
                    <a:lnTo>
                      <a:pt x="1220" y="1094"/>
                    </a:lnTo>
                    <a:lnTo>
                      <a:pt x="1205" y="1134"/>
                    </a:lnTo>
                    <a:lnTo>
                      <a:pt x="1190" y="1175"/>
                    </a:lnTo>
                    <a:lnTo>
                      <a:pt x="1173" y="1218"/>
                    </a:lnTo>
                    <a:lnTo>
                      <a:pt x="1144" y="1308"/>
                    </a:lnTo>
                    <a:lnTo>
                      <a:pt x="1114" y="1403"/>
                    </a:lnTo>
                    <a:lnTo>
                      <a:pt x="1086" y="1500"/>
                    </a:lnTo>
                    <a:lnTo>
                      <a:pt x="1059" y="1599"/>
                    </a:lnTo>
                    <a:lnTo>
                      <a:pt x="1033" y="1700"/>
                    </a:lnTo>
                    <a:lnTo>
                      <a:pt x="1009" y="1798"/>
                    </a:lnTo>
                    <a:lnTo>
                      <a:pt x="987" y="1895"/>
                    </a:lnTo>
                    <a:lnTo>
                      <a:pt x="966" y="1989"/>
                    </a:lnTo>
                    <a:lnTo>
                      <a:pt x="948" y="2079"/>
                    </a:lnTo>
                    <a:lnTo>
                      <a:pt x="933" y="2161"/>
                    </a:lnTo>
                    <a:lnTo>
                      <a:pt x="920" y="2237"/>
                    </a:lnTo>
                    <a:lnTo>
                      <a:pt x="910" y="2304"/>
                    </a:lnTo>
                    <a:lnTo>
                      <a:pt x="906" y="2336"/>
                    </a:lnTo>
                    <a:lnTo>
                      <a:pt x="900" y="2367"/>
                    </a:lnTo>
                    <a:lnTo>
                      <a:pt x="894" y="2399"/>
                    </a:lnTo>
                    <a:lnTo>
                      <a:pt x="887" y="2431"/>
                    </a:lnTo>
                    <a:lnTo>
                      <a:pt x="871" y="2494"/>
                    </a:lnTo>
                    <a:lnTo>
                      <a:pt x="853" y="2557"/>
                    </a:lnTo>
                    <a:lnTo>
                      <a:pt x="833" y="2620"/>
                    </a:lnTo>
                    <a:lnTo>
                      <a:pt x="813" y="2681"/>
                    </a:lnTo>
                    <a:lnTo>
                      <a:pt x="791" y="2742"/>
                    </a:lnTo>
                    <a:lnTo>
                      <a:pt x="769" y="2801"/>
                    </a:lnTo>
                    <a:lnTo>
                      <a:pt x="728" y="2912"/>
                    </a:lnTo>
                    <a:lnTo>
                      <a:pt x="692" y="3014"/>
                    </a:lnTo>
                    <a:lnTo>
                      <a:pt x="678" y="3059"/>
                    </a:lnTo>
                    <a:lnTo>
                      <a:pt x="666" y="3100"/>
                    </a:lnTo>
                    <a:lnTo>
                      <a:pt x="661" y="3120"/>
                    </a:lnTo>
                    <a:lnTo>
                      <a:pt x="657" y="3138"/>
                    </a:lnTo>
                    <a:lnTo>
                      <a:pt x="655" y="3155"/>
                    </a:lnTo>
                    <a:lnTo>
                      <a:pt x="653" y="3172"/>
                    </a:lnTo>
                    <a:lnTo>
                      <a:pt x="650" y="3206"/>
                    </a:lnTo>
                    <a:lnTo>
                      <a:pt x="645" y="3244"/>
                    </a:lnTo>
                    <a:lnTo>
                      <a:pt x="638" y="3286"/>
                    </a:lnTo>
                    <a:lnTo>
                      <a:pt x="629" y="3331"/>
                    </a:lnTo>
                    <a:lnTo>
                      <a:pt x="619" y="3379"/>
                    </a:lnTo>
                    <a:lnTo>
                      <a:pt x="608" y="3428"/>
                    </a:lnTo>
                    <a:lnTo>
                      <a:pt x="597" y="3477"/>
                    </a:lnTo>
                    <a:lnTo>
                      <a:pt x="585" y="3527"/>
                    </a:lnTo>
                    <a:lnTo>
                      <a:pt x="559" y="3623"/>
                    </a:lnTo>
                    <a:lnTo>
                      <a:pt x="535" y="3712"/>
                    </a:lnTo>
                    <a:lnTo>
                      <a:pt x="513" y="3786"/>
                    </a:lnTo>
                    <a:lnTo>
                      <a:pt x="497" y="3839"/>
                    </a:lnTo>
                    <a:lnTo>
                      <a:pt x="492" y="3859"/>
                    </a:lnTo>
                    <a:lnTo>
                      <a:pt x="489" y="3876"/>
                    </a:lnTo>
                    <a:lnTo>
                      <a:pt x="486" y="3891"/>
                    </a:lnTo>
                    <a:lnTo>
                      <a:pt x="485" y="3904"/>
                    </a:lnTo>
                    <a:lnTo>
                      <a:pt x="485" y="3916"/>
                    </a:lnTo>
                    <a:lnTo>
                      <a:pt x="485" y="3928"/>
                    </a:lnTo>
                    <a:lnTo>
                      <a:pt x="487" y="3938"/>
                    </a:lnTo>
                    <a:lnTo>
                      <a:pt x="489" y="3948"/>
                    </a:lnTo>
                    <a:lnTo>
                      <a:pt x="492" y="3971"/>
                    </a:lnTo>
                    <a:lnTo>
                      <a:pt x="494" y="3997"/>
                    </a:lnTo>
                    <a:lnTo>
                      <a:pt x="494" y="4013"/>
                    </a:lnTo>
                    <a:lnTo>
                      <a:pt x="493" y="4030"/>
                    </a:lnTo>
                    <a:lnTo>
                      <a:pt x="491" y="4051"/>
                    </a:lnTo>
                    <a:lnTo>
                      <a:pt x="487" y="4075"/>
                    </a:lnTo>
                    <a:lnTo>
                      <a:pt x="482" y="4097"/>
                    </a:lnTo>
                    <a:lnTo>
                      <a:pt x="477" y="4116"/>
                    </a:lnTo>
                    <a:lnTo>
                      <a:pt x="473" y="4123"/>
                    </a:lnTo>
                    <a:lnTo>
                      <a:pt x="470" y="4130"/>
                    </a:lnTo>
                    <a:lnTo>
                      <a:pt x="467" y="4135"/>
                    </a:lnTo>
                    <a:lnTo>
                      <a:pt x="463" y="4140"/>
                    </a:lnTo>
                    <a:lnTo>
                      <a:pt x="459" y="4145"/>
                    </a:lnTo>
                    <a:lnTo>
                      <a:pt x="455" y="4148"/>
                    </a:lnTo>
                    <a:lnTo>
                      <a:pt x="451" y="4150"/>
                    </a:lnTo>
                    <a:lnTo>
                      <a:pt x="448" y="4152"/>
                    </a:lnTo>
                    <a:lnTo>
                      <a:pt x="439" y="4154"/>
                    </a:lnTo>
                    <a:lnTo>
                      <a:pt x="430" y="4156"/>
                    </a:lnTo>
                    <a:lnTo>
                      <a:pt x="423" y="4154"/>
                    </a:lnTo>
                    <a:lnTo>
                      <a:pt x="415" y="4151"/>
                    </a:lnTo>
                    <a:lnTo>
                      <a:pt x="409" y="4149"/>
                    </a:lnTo>
                    <a:lnTo>
                      <a:pt x="403" y="4145"/>
                    </a:lnTo>
                    <a:lnTo>
                      <a:pt x="395" y="4139"/>
                    </a:lnTo>
                    <a:lnTo>
                      <a:pt x="391" y="4136"/>
                    </a:lnTo>
                    <a:lnTo>
                      <a:pt x="365" y="4133"/>
                    </a:lnTo>
                    <a:lnTo>
                      <a:pt x="339" y="4132"/>
                    </a:lnTo>
                    <a:lnTo>
                      <a:pt x="315" y="4131"/>
                    </a:lnTo>
                    <a:lnTo>
                      <a:pt x="289" y="4131"/>
                    </a:lnTo>
                    <a:lnTo>
                      <a:pt x="264" y="4131"/>
                    </a:lnTo>
                    <a:lnTo>
                      <a:pt x="239" y="4133"/>
                    </a:lnTo>
                    <a:lnTo>
                      <a:pt x="214" y="4134"/>
                    </a:lnTo>
                    <a:lnTo>
                      <a:pt x="189" y="4136"/>
                    </a:lnTo>
                    <a:lnTo>
                      <a:pt x="140" y="4143"/>
                    </a:lnTo>
                    <a:lnTo>
                      <a:pt x="92" y="4149"/>
                    </a:lnTo>
                    <a:lnTo>
                      <a:pt x="46" y="4157"/>
                    </a:lnTo>
                    <a:lnTo>
                      <a:pt x="0" y="4163"/>
                    </a:lnTo>
                    <a:lnTo>
                      <a:pt x="41" y="4158"/>
                    </a:lnTo>
                    <a:lnTo>
                      <a:pt x="78" y="4150"/>
                    </a:lnTo>
                    <a:lnTo>
                      <a:pt x="114" y="4139"/>
                    </a:lnTo>
                    <a:lnTo>
                      <a:pt x="145" y="4126"/>
                    </a:lnTo>
                    <a:lnTo>
                      <a:pt x="174" y="4110"/>
                    </a:lnTo>
                    <a:lnTo>
                      <a:pt x="200" y="4093"/>
                    </a:lnTo>
                    <a:lnTo>
                      <a:pt x="225" y="4072"/>
                    </a:lnTo>
                    <a:lnTo>
                      <a:pt x="247" y="4051"/>
                    </a:lnTo>
                    <a:lnTo>
                      <a:pt x="267" y="4026"/>
                    </a:lnTo>
                    <a:lnTo>
                      <a:pt x="284" y="4001"/>
                    </a:lnTo>
                    <a:lnTo>
                      <a:pt x="301" y="3973"/>
                    </a:lnTo>
                    <a:lnTo>
                      <a:pt x="316" y="3944"/>
                    </a:lnTo>
                    <a:lnTo>
                      <a:pt x="329" y="3914"/>
                    </a:lnTo>
                    <a:lnTo>
                      <a:pt x="342" y="3882"/>
                    </a:lnTo>
                    <a:lnTo>
                      <a:pt x="352" y="3849"/>
                    </a:lnTo>
                    <a:lnTo>
                      <a:pt x="362" y="3815"/>
                    </a:lnTo>
                    <a:lnTo>
                      <a:pt x="372" y="3780"/>
                    </a:lnTo>
                    <a:lnTo>
                      <a:pt x="381" y="3744"/>
                    </a:lnTo>
                    <a:lnTo>
                      <a:pt x="389" y="3707"/>
                    </a:lnTo>
                    <a:lnTo>
                      <a:pt x="397" y="3670"/>
                    </a:lnTo>
                    <a:lnTo>
                      <a:pt x="413" y="3594"/>
                    </a:lnTo>
                    <a:lnTo>
                      <a:pt x="430" y="3517"/>
                    </a:lnTo>
                    <a:lnTo>
                      <a:pt x="439" y="3478"/>
                    </a:lnTo>
                    <a:lnTo>
                      <a:pt x="449" y="3439"/>
                    </a:lnTo>
                    <a:lnTo>
                      <a:pt x="459" y="3402"/>
                    </a:lnTo>
                    <a:lnTo>
                      <a:pt x="471" y="3363"/>
                    </a:lnTo>
                    <a:lnTo>
                      <a:pt x="484" y="3326"/>
                    </a:lnTo>
                    <a:lnTo>
                      <a:pt x="498" y="3288"/>
                    </a:lnTo>
                    <a:lnTo>
                      <a:pt x="515" y="3252"/>
                    </a:lnTo>
                    <a:lnTo>
                      <a:pt x="532" y="3216"/>
                    </a:lnTo>
                    <a:lnTo>
                      <a:pt x="537" y="3204"/>
                    </a:lnTo>
                    <a:lnTo>
                      <a:pt x="543" y="3192"/>
                    </a:lnTo>
                    <a:lnTo>
                      <a:pt x="547" y="3180"/>
                    </a:lnTo>
                    <a:lnTo>
                      <a:pt x="551" y="3168"/>
                    </a:lnTo>
                    <a:lnTo>
                      <a:pt x="554" y="3158"/>
                    </a:lnTo>
                    <a:lnTo>
                      <a:pt x="557" y="3146"/>
                    </a:lnTo>
                    <a:lnTo>
                      <a:pt x="559" y="3134"/>
                    </a:lnTo>
                    <a:lnTo>
                      <a:pt x="560" y="3123"/>
                    </a:lnTo>
                    <a:lnTo>
                      <a:pt x="561" y="3100"/>
                    </a:lnTo>
                    <a:lnTo>
                      <a:pt x="561" y="3078"/>
                    </a:lnTo>
                    <a:lnTo>
                      <a:pt x="558" y="3056"/>
                    </a:lnTo>
                    <a:lnTo>
                      <a:pt x="552" y="3036"/>
                    </a:lnTo>
                    <a:lnTo>
                      <a:pt x="547" y="3014"/>
                    </a:lnTo>
                    <a:lnTo>
                      <a:pt x="538" y="2995"/>
                    </a:lnTo>
                    <a:lnTo>
                      <a:pt x="530" y="2974"/>
                    </a:lnTo>
                    <a:lnTo>
                      <a:pt x="519" y="2956"/>
                    </a:lnTo>
                    <a:lnTo>
                      <a:pt x="508" y="2937"/>
                    </a:lnTo>
                    <a:lnTo>
                      <a:pt x="496" y="2919"/>
                    </a:lnTo>
                    <a:lnTo>
                      <a:pt x="483" y="2902"/>
                    </a:lnTo>
                    <a:lnTo>
                      <a:pt x="470" y="2885"/>
                    </a:lnTo>
                    <a:lnTo>
                      <a:pt x="467" y="2880"/>
                    </a:lnTo>
                    <a:lnTo>
                      <a:pt x="465" y="2875"/>
                    </a:lnTo>
                    <a:lnTo>
                      <a:pt x="465" y="2869"/>
                    </a:lnTo>
                    <a:lnTo>
                      <a:pt x="466" y="2864"/>
                    </a:lnTo>
                    <a:lnTo>
                      <a:pt x="471" y="2854"/>
                    </a:lnTo>
                    <a:lnTo>
                      <a:pt x="478" y="2843"/>
                    </a:lnTo>
                    <a:lnTo>
                      <a:pt x="485" y="2834"/>
                    </a:lnTo>
                    <a:lnTo>
                      <a:pt x="491" y="2823"/>
                    </a:lnTo>
                    <a:lnTo>
                      <a:pt x="493" y="2817"/>
                    </a:lnTo>
                    <a:lnTo>
                      <a:pt x="493" y="2811"/>
                    </a:lnTo>
                    <a:lnTo>
                      <a:pt x="492" y="2806"/>
                    </a:lnTo>
                    <a:lnTo>
                      <a:pt x="490" y="2799"/>
                    </a:lnTo>
                    <a:lnTo>
                      <a:pt x="508" y="2789"/>
                    </a:lnTo>
                    <a:lnTo>
                      <a:pt x="524" y="2780"/>
                    </a:lnTo>
                    <a:lnTo>
                      <a:pt x="538" y="2768"/>
                    </a:lnTo>
                    <a:lnTo>
                      <a:pt x="551" y="2755"/>
                    </a:lnTo>
                    <a:lnTo>
                      <a:pt x="563" y="2741"/>
                    </a:lnTo>
                    <a:lnTo>
                      <a:pt x="574" y="2726"/>
                    </a:lnTo>
                    <a:lnTo>
                      <a:pt x="585" y="2710"/>
                    </a:lnTo>
                    <a:lnTo>
                      <a:pt x="594" y="2695"/>
                    </a:lnTo>
                    <a:lnTo>
                      <a:pt x="613" y="2663"/>
                    </a:lnTo>
                    <a:lnTo>
                      <a:pt x="632" y="2631"/>
                    </a:lnTo>
                    <a:lnTo>
                      <a:pt x="643" y="2615"/>
                    </a:lnTo>
                    <a:lnTo>
                      <a:pt x="654" y="2600"/>
                    </a:lnTo>
                    <a:lnTo>
                      <a:pt x="667" y="2585"/>
                    </a:lnTo>
                    <a:lnTo>
                      <a:pt x="680" y="2571"/>
                    </a:lnTo>
                    <a:lnTo>
                      <a:pt x="685" y="2566"/>
                    </a:lnTo>
                    <a:lnTo>
                      <a:pt x="690" y="2561"/>
                    </a:lnTo>
                    <a:lnTo>
                      <a:pt x="693" y="2556"/>
                    </a:lnTo>
                    <a:lnTo>
                      <a:pt x="696" y="2551"/>
                    </a:lnTo>
                    <a:lnTo>
                      <a:pt x="698" y="2545"/>
                    </a:lnTo>
                    <a:lnTo>
                      <a:pt x="699" y="2540"/>
                    </a:lnTo>
                    <a:lnTo>
                      <a:pt x="700" y="2534"/>
                    </a:lnTo>
                    <a:lnTo>
                      <a:pt x="700" y="2529"/>
                    </a:lnTo>
                    <a:lnTo>
                      <a:pt x="700" y="2518"/>
                    </a:lnTo>
                    <a:lnTo>
                      <a:pt x="697" y="2506"/>
                    </a:lnTo>
                    <a:lnTo>
                      <a:pt x="694" y="2496"/>
                    </a:lnTo>
                    <a:lnTo>
                      <a:pt x="690" y="2484"/>
                    </a:lnTo>
                    <a:lnTo>
                      <a:pt x="679" y="2460"/>
                    </a:lnTo>
                    <a:lnTo>
                      <a:pt x="669" y="2436"/>
                    </a:lnTo>
                    <a:lnTo>
                      <a:pt x="665" y="2424"/>
                    </a:lnTo>
                    <a:lnTo>
                      <a:pt x="662" y="2412"/>
                    </a:lnTo>
                    <a:lnTo>
                      <a:pt x="661" y="2401"/>
                    </a:lnTo>
                    <a:lnTo>
                      <a:pt x="662" y="2389"/>
                    </a:lnTo>
                    <a:lnTo>
                      <a:pt x="675" y="2339"/>
                    </a:lnTo>
                    <a:lnTo>
                      <a:pt x="692" y="2286"/>
                    </a:lnTo>
                    <a:lnTo>
                      <a:pt x="700" y="2259"/>
                    </a:lnTo>
                    <a:lnTo>
                      <a:pt x="707" y="2231"/>
                    </a:lnTo>
                    <a:lnTo>
                      <a:pt x="713" y="2204"/>
                    </a:lnTo>
                    <a:lnTo>
                      <a:pt x="718" y="2177"/>
                    </a:lnTo>
                    <a:lnTo>
                      <a:pt x="719" y="2164"/>
                    </a:lnTo>
                    <a:lnTo>
                      <a:pt x="720" y="2151"/>
                    </a:lnTo>
                    <a:lnTo>
                      <a:pt x="720" y="2138"/>
                    </a:lnTo>
                    <a:lnTo>
                      <a:pt x="720" y="2125"/>
                    </a:lnTo>
                    <a:lnTo>
                      <a:pt x="718" y="2113"/>
                    </a:lnTo>
                    <a:lnTo>
                      <a:pt x="715" y="2101"/>
                    </a:lnTo>
                    <a:lnTo>
                      <a:pt x="712" y="2091"/>
                    </a:lnTo>
                    <a:lnTo>
                      <a:pt x="708" y="2079"/>
                    </a:lnTo>
                    <a:lnTo>
                      <a:pt x="704" y="2069"/>
                    </a:lnTo>
                    <a:lnTo>
                      <a:pt x="697" y="2058"/>
                    </a:lnTo>
                    <a:lnTo>
                      <a:pt x="690" y="2048"/>
                    </a:lnTo>
                    <a:lnTo>
                      <a:pt x="681" y="2040"/>
                    </a:lnTo>
                    <a:lnTo>
                      <a:pt x="671" y="2031"/>
                    </a:lnTo>
                    <a:lnTo>
                      <a:pt x="660" y="2024"/>
                    </a:lnTo>
                    <a:lnTo>
                      <a:pt x="647" y="2017"/>
                    </a:lnTo>
                    <a:lnTo>
                      <a:pt x="633" y="2011"/>
                    </a:lnTo>
                    <a:lnTo>
                      <a:pt x="604" y="1999"/>
                    </a:lnTo>
                    <a:lnTo>
                      <a:pt x="576" y="1987"/>
                    </a:lnTo>
                    <a:lnTo>
                      <a:pt x="563" y="1981"/>
                    </a:lnTo>
                    <a:lnTo>
                      <a:pt x="551" y="1975"/>
                    </a:lnTo>
                    <a:lnTo>
                      <a:pt x="540" y="1969"/>
                    </a:lnTo>
                    <a:lnTo>
                      <a:pt x="531" y="1961"/>
                    </a:lnTo>
                    <a:lnTo>
                      <a:pt x="522" y="1953"/>
                    </a:lnTo>
                    <a:lnTo>
                      <a:pt x="516" y="1946"/>
                    </a:lnTo>
                    <a:lnTo>
                      <a:pt x="513" y="1942"/>
                    </a:lnTo>
                    <a:lnTo>
                      <a:pt x="511" y="1937"/>
                    </a:lnTo>
                    <a:lnTo>
                      <a:pt x="510" y="1933"/>
                    </a:lnTo>
                    <a:lnTo>
                      <a:pt x="510" y="1927"/>
                    </a:lnTo>
                    <a:lnTo>
                      <a:pt x="510" y="1922"/>
                    </a:lnTo>
                    <a:lnTo>
                      <a:pt x="510" y="1917"/>
                    </a:lnTo>
                    <a:lnTo>
                      <a:pt x="511" y="1911"/>
                    </a:lnTo>
                    <a:lnTo>
                      <a:pt x="513" y="1906"/>
                    </a:lnTo>
                    <a:lnTo>
                      <a:pt x="520" y="1893"/>
                    </a:lnTo>
                    <a:lnTo>
                      <a:pt x="530" y="1879"/>
                    </a:lnTo>
                    <a:lnTo>
                      <a:pt x="543" y="1864"/>
                    </a:lnTo>
                    <a:lnTo>
                      <a:pt x="558" y="1849"/>
                    </a:lnTo>
                    <a:lnTo>
                      <a:pt x="573" y="1834"/>
                    </a:lnTo>
                    <a:lnTo>
                      <a:pt x="588" y="1819"/>
                    </a:lnTo>
                    <a:lnTo>
                      <a:pt x="620" y="1791"/>
                    </a:lnTo>
                    <a:lnTo>
                      <a:pt x="653" y="1764"/>
                    </a:lnTo>
                    <a:lnTo>
                      <a:pt x="685" y="1736"/>
                    </a:lnTo>
                    <a:lnTo>
                      <a:pt x="717" y="1706"/>
                    </a:lnTo>
                    <a:lnTo>
                      <a:pt x="732" y="1691"/>
                    </a:lnTo>
                    <a:lnTo>
                      <a:pt x="747" y="1675"/>
                    </a:lnTo>
                    <a:lnTo>
                      <a:pt x="761" y="1657"/>
                    </a:lnTo>
                    <a:lnTo>
                      <a:pt x="774" y="1639"/>
                    </a:lnTo>
                    <a:lnTo>
                      <a:pt x="779" y="1630"/>
                    </a:lnTo>
                    <a:lnTo>
                      <a:pt x="782" y="1620"/>
                    </a:lnTo>
                    <a:lnTo>
                      <a:pt x="785" y="1609"/>
                    </a:lnTo>
                    <a:lnTo>
                      <a:pt x="786" y="1597"/>
                    </a:lnTo>
                    <a:lnTo>
                      <a:pt x="785" y="1585"/>
                    </a:lnTo>
                    <a:lnTo>
                      <a:pt x="782" y="1574"/>
                    </a:lnTo>
                    <a:lnTo>
                      <a:pt x="779" y="1566"/>
                    </a:lnTo>
                    <a:lnTo>
                      <a:pt x="774" y="1558"/>
                    </a:lnTo>
                    <a:lnTo>
                      <a:pt x="765" y="1546"/>
                    </a:lnTo>
                    <a:lnTo>
                      <a:pt x="756" y="1535"/>
                    </a:lnTo>
                    <a:lnTo>
                      <a:pt x="749" y="1525"/>
                    </a:lnTo>
                    <a:lnTo>
                      <a:pt x="744" y="1514"/>
                    </a:lnTo>
                    <a:lnTo>
                      <a:pt x="738" y="1503"/>
                    </a:lnTo>
                    <a:lnTo>
                      <a:pt x="734" y="1492"/>
                    </a:lnTo>
                    <a:lnTo>
                      <a:pt x="731" y="1481"/>
                    </a:lnTo>
                    <a:lnTo>
                      <a:pt x="727" y="1471"/>
                    </a:lnTo>
                    <a:lnTo>
                      <a:pt x="726" y="1460"/>
                    </a:lnTo>
                    <a:lnTo>
                      <a:pt x="725" y="1449"/>
                    </a:lnTo>
                    <a:lnTo>
                      <a:pt x="725" y="1439"/>
                    </a:lnTo>
                    <a:lnTo>
                      <a:pt x="725" y="1429"/>
                    </a:lnTo>
                    <a:lnTo>
                      <a:pt x="728" y="1407"/>
                    </a:lnTo>
                    <a:lnTo>
                      <a:pt x="733" y="1385"/>
                    </a:lnTo>
                    <a:lnTo>
                      <a:pt x="739" y="1365"/>
                    </a:lnTo>
                    <a:lnTo>
                      <a:pt x="748" y="1343"/>
                    </a:lnTo>
                    <a:lnTo>
                      <a:pt x="758" y="1322"/>
                    </a:lnTo>
                    <a:lnTo>
                      <a:pt x="767" y="1300"/>
                    </a:lnTo>
                    <a:lnTo>
                      <a:pt x="789" y="1257"/>
                    </a:lnTo>
                    <a:lnTo>
                      <a:pt x="808" y="1211"/>
                    </a:lnTo>
                    <a:lnTo>
                      <a:pt x="796" y="1210"/>
                    </a:lnTo>
                    <a:lnTo>
                      <a:pt x="785" y="1207"/>
                    </a:lnTo>
                    <a:lnTo>
                      <a:pt x="772" y="1203"/>
                    </a:lnTo>
                    <a:lnTo>
                      <a:pt x="759" y="1197"/>
                    </a:lnTo>
                    <a:lnTo>
                      <a:pt x="747" y="1192"/>
                    </a:lnTo>
                    <a:lnTo>
                      <a:pt x="734" y="1184"/>
                    </a:lnTo>
                    <a:lnTo>
                      <a:pt x="722" y="1178"/>
                    </a:lnTo>
                    <a:lnTo>
                      <a:pt x="710" y="1169"/>
                    </a:lnTo>
                    <a:lnTo>
                      <a:pt x="699" y="1162"/>
                    </a:lnTo>
                    <a:lnTo>
                      <a:pt x="688" y="1153"/>
                    </a:lnTo>
                    <a:lnTo>
                      <a:pt x="679" y="1143"/>
                    </a:lnTo>
                    <a:lnTo>
                      <a:pt x="669" y="1135"/>
                    </a:lnTo>
                    <a:lnTo>
                      <a:pt x="661" y="1125"/>
                    </a:lnTo>
                    <a:lnTo>
                      <a:pt x="654" y="1116"/>
                    </a:lnTo>
                    <a:lnTo>
                      <a:pt x="647" y="1107"/>
                    </a:lnTo>
                    <a:lnTo>
                      <a:pt x="643" y="1098"/>
                    </a:lnTo>
                    <a:lnTo>
                      <a:pt x="634" y="1078"/>
                    </a:lnTo>
                    <a:lnTo>
                      <a:pt x="629" y="1058"/>
                    </a:lnTo>
                    <a:lnTo>
                      <a:pt x="626" y="1040"/>
                    </a:lnTo>
                    <a:lnTo>
                      <a:pt x="626" y="1021"/>
                    </a:lnTo>
                    <a:lnTo>
                      <a:pt x="628" y="1003"/>
                    </a:lnTo>
                    <a:lnTo>
                      <a:pt x="631" y="986"/>
                    </a:lnTo>
                    <a:lnTo>
                      <a:pt x="638" y="970"/>
                    </a:lnTo>
                    <a:lnTo>
                      <a:pt x="645" y="953"/>
                    </a:lnTo>
                    <a:lnTo>
                      <a:pt x="655" y="937"/>
                    </a:lnTo>
                    <a:lnTo>
                      <a:pt x="665" y="922"/>
                    </a:lnTo>
                    <a:lnTo>
                      <a:pt x="677" y="907"/>
                    </a:lnTo>
                    <a:lnTo>
                      <a:pt x="690" y="892"/>
                    </a:lnTo>
                    <a:lnTo>
                      <a:pt x="718" y="864"/>
                    </a:lnTo>
                    <a:lnTo>
                      <a:pt x="748" y="836"/>
                    </a:lnTo>
                    <a:lnTo>
                      <a:pt x="778" y="808"/>
                    </a:lnTo>
                    <a:lnTo>
                      <a:pt x="807" y="779"/>
                    </a:lnTo>
                    <a:lnTo>
                      <a:pt x="820" y="765"/>
                    </a:lnTo>
                    <a:lnTo>
                      <a:pt x="833" y="751"/>
                    </a:lnTo>
                    <a:lnTo>
                      <a:pt x="845" y="737"/>
                    </a:lnTo>
                    <a:lnTo>
                      <a:pt x="856" y="723"/>
                    </a:lnTo>
                    <a:lnTo>
                      <a:pt x="865" y="708"/>
                    </a:lnTo>
                    <a:lnTo>
                      <a:pt x="872" y="693"/>
                    </a:lnTo>
                    <a:lnTo>
                      <a:pt x="877" y="678"/>
                    </a:lnTo>
                    <a:lnTo>
                      <a:pt x="882" y="663"/>
                    </a:lnTo>
                    <a:lnTo>
                      <a:pt x="883" y="647"/>
                    </a:lnTo>
                    <a:lnTo>
                      <a:pt x="882" y="630"/>
                    </a:lnTo>
                    <a:lnTo>
                      <a:pt x="879" y="613"/>
                    </a:lnTo>
                    <a:lnTo>
                      <a:pt x="873" y="596"/>
                    </a:lnTo>
                    <a:lnTo>
                      <a:pt x="867" y="585"/>
                    </a:lnTo>
                    <a:lnTo>
                      <a:pt x="859" y="573"/>
                    </a:lnTo>
                    <a:lnTo>
                      <a:pt x="848" y="561"/>
                    </a:lnTo>
                    <a:lnTo>
                      <a:pt x="838" y="549"/>
                    </a:lnTo>
                    <a:lnTo>
                      <a:pt x="813" y="526"/>
                    </a:lnTo>
                    <a:lnTo>
                      <a:pt x="789" y="500"/>
                    </a:lnTo>
                    <a:lnTo>
                      <a:pt x="778" y="488"/>
                    </a:lnTo>
                    <a:lnTo>
                      <a:pt x="769" y="475"/>
                    </a:lnTo>
                    <a:lnTo>
                      <a:pt x="766" y="468"/>
                    </a:lnTo>
                    <a:lnTo>
                      <a:pt x="763" y="461"/>
                    </a:lnTo>
                    <a:lnTo>
                      <a:pt x="762" y="454"/>
                    </a:lnTo>
                    <a:lnTo>
                      <a:pt x="760" y="448"/>
                    </a:lnTo>
                    <a:lnTo>
                      <a:pt x="760" y="441"/>
                    </a:lnTo>
                    <a:lnTo>
                      <a:pt x="760" y="434"/>
                    </a:lnTo>
                    <a:lnTo>
                      <a:pt x="761" y="427"/>
                    </a:lnTo>
                    <a:lnTo>
                      <a:pt x="763" y="420"/>
                    </a:lnTo>
                    <a:lnTo>
                      <a:pt x="766" y="413"/>
                    </a:lnTo>
                    <a:lnTo>
                      <a:pt x="772" y="406"/>
                    </a:lnTo>
                    <a:lnTo>
                      <a:pt x="777" y="398"/>
                    </a:lnTo>
                    <a:lnTo>
                      <a:pt x="783" y="391"/>
                    </a:lnTo>
                    <a:lnTo>
                      <a:pt x="830" y="344"/>
                    </a:lnTo>
                    <a:lnTo>
                      <a:pt x="868" y="304"/>
                    </a:lnTo>
                    <a:lnTo>
                      <a:pt x="885" y="287"/>
                    </a:lnTo>
                    <a:lnTo>
                      <a:pt x="902" y="271"/>
                    </a:lnTo>
                    <a:lnTo>
                      <a:pt x="920" y="256"/>
                    </a:lnTo>
                    <a:lnTo>
                      <a:pt x="936" y="242"/>
                    </a:lnTo>
                    <a:lnTo>
                      <a:pt x="954" y="229"/>
                    </a:lnTo>
                    <a:lnTo>
                      <a:pt x="974" y="216"/>
                    </a:lnTo>
                    <a:lnTo>
                      <a:pt x="994" y="205"/>
                    </a:lnTo>
                    <a:lnTo>
                      <a:pt x="1018" y="194"/>
                    </a:lnTo>
                    <a:lnTo>
                      <a:pt x="1044" y="184"/>
                    </a:lnTo>
                    <a:lnTo>
                      <a:pt x="1073" y="175"/>
                    </a:lnTo>
                    <a:lnTo>
                      <a:pt x="1105" y="165"/>
                    </a:lnTo>
                    <a:lnTo>
                      <a:pt x="1142" y="156"/>
                    </a:lnTo>
                    <a:lnTo>
                      <a:pt x="1155" y="153"/>
                    </a:lnTo>
                    <a:lnTo>
                      <a:pt x="1168" y="149"/>
                    </a:lnTo>
                    <a:lnTo>
                      <a:pt x="1180" y="143"/>
                    </a:lnTo>
                    <a:lnTo>
                      <a:pt x="1192" y="137"/>
                    </a:lnTo>
                    <a:lnTo>
                      <a:pt x="1215" y="123"/>
                    </a:lnTo>
                    <a:lnTo>
                      <a:pt x="1235" y="108"/>
                    </a:lnTo>
                    <a:lnTo>
                      <a:pt x="1257" y="93"/>
                    </a:lnTo>
                    <a:lnTo>
                      <a:pt x="1278" y="79"/>
                    </a:lnTo>
                    <a:lnTo>
                      <a:pt x="1289" y="72"/>
                    </a:lnTo>
                    <a:lnTo>
                      <a:pt x="1300" y="66"/>
                    </a:lnTo>
                    <a:lnTo>
                      <a:pt x="1311" y="61"/>
                    </a:lnTo>
                    <a:lnTo>
                      <a:pt x="1323" y="57"/>
                    </a:lnTo>
                    <a:lnTo>
                      <a:pt x="1337" y="54"/>
                    </a:lnTo>
                    <a:lnTo>
                      <a:pt x="1351" y="49"/>
                    </a:lnTo>
                    <a:lnTo>
                      <a:pt x="1364" y="44"/>
                    </a:lnTo>
                    <a:lnTo>
                      <a:pt x="1378" y="39"/>
                    </a:lnTo>
                    <a:lnTo>
                      <a:pt x="1404" y="27"/>
                    </a:lnTo>
                    <a:lnTo>
                      <a:pt x="1431" y="16"/>
                    </a:lnTo>
                    <a:lnTo>
                      <a:pt x="1444" y="10"/>
                    </a:lnTo>
                    <a:lnTo>
                      <a:pt x="1458" y="6"/>
                    </a:lnTo>
                    <a:lnTo>
                      <a:pt x="1471" y="3"/>
                    </a:lnTo>
                    <a:lnTo>
                      <a:pt x="1485" y="1"/>
                    </a:lnTo>
                    <a:lnTo>
                      <a:pt x="1499" y="0"/>
                    </a:lnTo>
                    <a:lnTo>
                      <a:pt x="1513" y="0"/>
                    </a:lnTo>
                    <a:lnTo>
                      <a:pt x="1528" y="2"/>
                    </a:lnTo>
                    <a:lnTo>
                      <a:pt x="1543" y="5"/>
                    </a:lnTo>
                    <a:lnTo>
                      <a:pt x="1575" y="16"/>
                    </a:lnTo>
                    <a:lnTo>
                      <a:pt x="1608" y="27"/>
                    </a:lnTo>
                    <a:lnTo>
                      <a:pt x="1640" y="37"/>
                    </a:lnTo>
                    <a:lnTo>
                      <a:pt x="1671" y="49"/>
                    </a:lnTo>
                    <a:lnTo>
                      <a:pt x="1703" y="62"/>
                    </a:lnTo>
                    <a:lnTo>
                      <a:pt x="1734" y="75"/>
                    </a:lnTo>
                    <a:lnTo>
                      <a:pt x="1764" y="89"/>
                    </a:lnTo>
                    <a:lnTo>
                      <a:pt x="1795" y="103"/>
                    </a:lnTo>
                    <a:lnTo>
                      <a:pt x="1825" y="117"/>
                    </a:lnTo>
                    <a:lnTo>
                      <a:pt x="1854" y="133"/>
                    </a:lnTo>
                    <a:lnTo>
                      <a:pt x="1884" y="148"/>
                    </a:lnTo>
                    <a:lnTo>
                      <a:pt x="1912" y="164"/>
                    </a:lnTo>
                    <a:lnTo>
                      <a:pt x="1942" y="181"/>
                    </a:lnTo>
                    <a:lnTo>
                      <a:pt x="1970" y="197"/>
                    </a:lnTo>
                    <a:lnTo>
                      <a:pt x="1998" y="216"/>
                    </a:lnTo>
                    <a:lnTo>
                      <a:pt x="2025" y="233"/>
                    </a:lnTo>
                    <a:lnTo>
                      <a:pt x="2053" y="251"/>
                    </a:lnTo>
                    <a:lnTo>
                      <a:pt x="2079" y="271"/>
                    </a:lnTo>
                    <a:lnTo>
                      <a:pt x="2106" y="290"/>
                    </a:lnTo>
                    <a:lnTo>
                      <a:pt x="2132" y="310"/>
                    </a:lnTo>
                    <a:lnTo>
                      <a:pt x="2158" y="330"/>
                    </a:lnTo>
                    <a:lnTo>
                      <a:pt x="2182" y="351"/>
                    </a:lnTo>
                    <a:lnTo>
                      <a:pt x="2207" y="372"/>
                    </a:lnTo>
                    <a:lnTo>
                      <a:pt x="2231" y="394"/>
                    </a:lnTo>
                    <a:lnTo>
                      <a:pt x="2256" y="415"/>
                    </a:lnTo>
                    <a:lnTo>
                      <a:pt x="2279" y="438"/>
                    </a:lnTo>
                    <a:lnTo>
                      <a:pt x="2302" y="461"/>
                    </a:lnTo>
                    <a:lnTo>
                      <a:pt x="2325" y="485"/>
                    </a:lnTo>
                    <a:lnTo>
                      <a:pt x="2347" y="508"/>
                    </a:lnTo>
                    <a:lnTo>
                      <a:pt x="2368" y="532"/>
                    </a:lnTo>
                    <a:lnTo>
                      <a:pt x="2390" y="557"/>
                    </a:lnTo>
                    <a:lnTo>
                      <a:pt x="2410" y="582"/>
                    </a:lnTo>
                    <a:lnTo>
                      <a:pt x="2339" y="590"/>
                    </a:lnTo>
                    <a:lnTo>
                      <a:pt x="2261" y="600"/>
                    </a:lnTo>
                    <a:lnTo>
                      <a:pt x="2221" y="607"/>
                    </a:lnTo>
                    <a:lnTo>
                      <a:pt x="2180" y="613"/>
                    </a:lnTo>
                    <a:lnTo>
                      <a:pt x="2141" y="621"/>
                    </a:lnTo>
                    <a:lnTo>
                      <a:pt x="2102" y="629"/>
                    </a:lnTo>
                    <a:lnTo>
                      <a:pt x="2084" y="634"/>
                    </a:lnTo>
                    <a:lnTo>
                      <a:pt x="2066" y="639"/>
                    </a:lnTo>
                    <a:lnTo>
                      <a:pt x="2048" y="646"/>
                    </a:lnTo>
                    <a:lnTo>
                      <a:pt x="2031" y="651"/>
                    </a:lnTo>
                    <a:lnTo>
                      <a:pt x="2015" y="657"/>
                    </a:lnTo>
                    <a:lnTo>
                      <a:pt x="2000" y="665"/>
                    </a:lnTo>
                    <a:lnTo>
                      <a:pt x="1986" y="673"/>
                    </a:lnTo>
                    <a:lnTo>
                      <a:pt x="1972" y="681"/>
                    </a:lnTo>
                    <a:lnTo>
                      <a:pt x="1959" y="690"/>
                    </a:lnTo>
                    <a:lnTo>
                      <a:pt x="1947" y="700"/>
                    </a:lnTo>
                    <a:lnTo>
                      <a:pt x="1937" y="709"/>
                    </a:lnTo>
                    <a:lnTo>
                      <a:pt x="1927" y="720"/>
                    </a:lnTo>
                    <a:lnTo>
                      <a:pt x="1920" y="731"/>
                    </a:lnTo>
                    <a:lnTo>
                      <a:pt x="1913" y="743"/>
                    </a:lnTo>
                    <a:lnTo>
                      <a:pt x="1908" y="756"/>
                    </a:lnTo>
                    <a:lnTo>
                      <a:pt x="1904" y="770"/>
                    </a:lnTo>
                    <a:lnTo>
                      <a:pt x="1903" y="781"/>
                    </a:lnTo>
                    <a:lnTo>
                      <a:pt x="1902" y="790"/>
                    </a:lnTo>
                    <a:lnTo>
                      <a:pt x="1902" y="801"/>
                    </a:lnTo>
                    <a:lnTo>
                      <a:pt x="1903" y="812"/>
                    </a:lnTo>
                    <a:lnTo>
                      <a:pt x="1905" y="823"/>
                    </a:lnTo>
                    <a:lnTo>
                      <a:pt x="1907" y="832"/>
                    </a:lnTo>
                    <a:lnTo>
                      <a:pt x="1911" y="843"/>
                    </a:lnTo>
                    <a:lnTo>
                      <a:pt x="1916" y="854"/>
                    </a:lnTo>
                    <a:lnTo>
                      <a:pt x="1920" y="864"/>
                    </a:lnTo>
                    <a:lnTo>
                      <a:pt x="1926" y="874"/>
                    </a:lnTo>
                    <a:lnTo>
                      <a:pt x="1933" y="884"/>
                    </a:lnTo>
                    <a:lnTo>
                      <a:pt x="1939" y="895"/>
                    </a:lnTo>
                    <a:lnTo>
                      <a:pt x="1956" y="916"/>
                    </a:lnTo>
                    <a:lnTo>
                      <a:pt x="1973" y="935"/>
                    </a:lnTo>
                    <a:lnTo>
                      <a:pt x="1992" y="954"/>
                    </a:lnTo>
                    <a:lnTo>
                      <a:pt x="2013" y="974"/>
                    </a:lnTo>
                    <a:lnTo>
                      <a:pt x="2033" y="992"/>
                    </a:lnTo>
                    <a:lnTo>
                      <a:pt x="2056" y="1011"/>
                    </a:lnTo>
                    <a:lnTo>
                      <a:pt x="2100" y="1045"/>
                    </a:lnTo>
                    <a:lnTo>
                      <a:pt x="2144" y="1079"/>
                    </a:lnTo>
                    <a:close/>
                  </a:path>
                </a:pathLst>
              </a:custGeom>
              <a:solidFill>
                <a:srgbClr val="5880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5300640" y="3730680"/>
                <a:ext cx="765000" cy="1343160"/>
              </a:xfrm>
              <a:custGeom>
                <a:avLst/>
                <a:gdLst/>
                <a:ahLst/>
                <a:rect l="l" t="t" r="r" b="b"/>
                <a:pathLst>
                  <a:path w="2410" h="4230">
                    <a:moveTo>
                      <a:pt x="2090" y="1083"/>
                    </a:moveTo>
                    <a:lnTo>
                      <a:pt x="2069" y="1096"/>
                    </a:lnTo>
                    <a:lnTo>
                      <a:pt x="2050" y="1108"/>
                    </a:lnTo>
                    <a:lnTo>
                      <a:pt x="2033" y="1121"/>
                    </a:lnTo>
                    <a:lnTo>
                      <a:pt x="2018" y="1134"/>
                    </a:lnTo>
                    <a:lnTo>
                      <a:pt x="2004" y="1148"/>
                    </a:lnTo>
                    <a:lnTo>
                      <a:pt x="1992" y="1162"/>
                    </a:lnTo>
                    <a:lnTo>
                      <a:pt x="1983" y="1176"/>
                    </a:lnTo>
                    <a:lnTo>
                      <a:pt x="1974" y="1191"/>
                    </a:lnTo>
                    <a:lnTo>
                      <a:pt x="1967" y="1206"/>
                    </a:lnTo>
                    <a:lnTo>
                      <a:pt x="1962" y="1222"/>
                    </a:lnTo>
                    <a:lnTo>
                      <a:pt x="1958" y="1240"/>
                    </a:lnTo>
                    <a:lnTo>
                      <a:pt x="1956" y="1257"/>
                    </a:lnTo>
                    <a:lnTo>
                      <a:pt x="1953" y="1275"/>
                    </a:lnTo>
                    <a:lnTo>
                      <a:pt x="1953" y="1295"/>
                    </a:lnTo>
                    <a:lnTo>
                      <a:pt x="1955" y="1314"/>
                    </a:lnTo>
                    <a:lnTo>
                      <a:pt x="1956" y="1336"/>
                    </a:lnTo>
                    <a:lnTo>
                      <a:pt x="1959" y="1352"/>
                    </a:lnTo>
                    <a:lnTo>
                      <a:pt x="1963" y="1369"/>
                    </a:lnTo>
                    <a:lnTo>
                      <a:pt x="1969" y="1387"/>
                    </a:lnTo>
                    <a:lnTo>
                      <a:pt x="1976" y="1406"/>
                    </a:lnTo>
                    <a:lnTo>
                      <a:pt x="1986" y="1425"/>
                    </a:lnTo>
                    <a:lnTo>
                      <a:pt x="1996" y="1445"/>
                    </a:lnTo>
                    <a:lnTo>
                      <a:pt x="2007" y="1464"/>
                    </a:lnTo>
                    <a:lnTo>
                      <a:pt x="2020" y="1484"/>
                    </a:lnTo>
                    <a:lnTo>
                      <a:pt x="2033" y="1503"/>
                    </a:lnTo>
                    <a:lnTo>
                      <a:pt x="2047" y="1522"/>
                    </a:lnTo>
                    <a:lnTo>
                      <a:pt x="2061" y="1541"/>
                    </a:lnTo>
                    <a:lnTo>
                      <a:pt x="2075" y="1559"/>
                    </a:lnTo>
                    <a:lnTo>
                      <a:pt x="2091" y="1575"/>
                    </a:lnTo>
                    <a:lnTo>
                      <a:pt x="2106" y="1592"/>
                    </a:lnTo>
                    <a:lnTo>
                      <a:pt x="2120" y="1607"/>
                    </a:lnTo>
                    <a:lnTo>
                      <a:pt x="2134" y="1620"/>
                    </a:lnTo>
                    <a:lnTo>
                      <a:pt x="2157" y="1639"/>
                    </a:lnTo>
                    <a:lnTo>
                      <a:pt x="2179" y="1656"/>
                    </a:lnTo>
                    <a:lnTo>
                      <a:pt x="2202" y="1672"/>
                    </a:lnTo>
                    <a:lnTo>
                      <a:pt x="2223" y="1687"/>
                    </a:lnTo>
                    <a:lnTo>
                      <a:pt x="2265" y="1714"/>
                    </a:lnTo>
                    <a:lnTo>
                      <a:pt x="2300" y="1741"/>
                    </a:lnTo>
                    <a:lnTo>
                      <a:pt x="2316" y="1754"/>
                    </a:lnTo>
                    <a:lnTo>
                      <a:pt x="2330" y="1768"/>
                    </a:lnTo>
                    <a:lnTo>
                      <a:pt x="2336" y="1775"/>
                    </a:lnTo>
                    <a:lnTo>
                      <a:pt x="2341" y="1783"/>
                    </a:lnTo>
                    <a:lnTo>
                      <a:pt x="2347" y="1790"/>
                    </a:lnTo>
                    <a:lnTo>
                      <a:pt x="2351" y="1798"/>
                    </a:lnTo>
                    <a:lnTo>
                      <a:pt x="2355" y="1807"/>
                    </a:lnTo>
                    <a:lnTo>
                      <a:pt x="2359" y="1816"/>
                    </a:lnTo>
                    <a:lnTo>
                      <a:pt x="2361" y="1825"/>
                    </a:lnTo>
                    <a:lnTo>
                      <a:pt x="2362" y="1835"/>
                    </a:lnTo>
                    <a:lnTo>
                      <a:pt x="2363" y="1845"/>
                    </a:lnTo>
                    <a:lnTo>
                      <a:pt x="2364" y="1856"/>
                    </a:lnTo>
                    <a:lnTo>
                      <a:pt x="2363" y="1867"/>
                    </a:lnTo>
                    <a:lnTo>
                      <a:pt x="2362" y="1879"/>
                    </a:lnTo>
                    <a:lnTo>
                      <a:pt x="2360" y="1888"/>
                    </a:lnTo>
                    <a:lnTo>
                      <a:pt x="2357" y="1894"/>
                    </a:lnTo>
                    <a:lnTo>
                      <a:pt x="2353" y="1899"/>
                    </a:lnTo>
                    <a:lnTo>
                      <a:pt x="2349" y="1905"/>
                    </a:lnTo>
                    <a:lnTo>
                      <a:pt x="2344" y="1908"/>
                    </a:lnTo>
                    <a:lnTo>
                      <a:pt x="2338" y="1911"/>
                    </a:lnTo>
                    <a:lnTo>
                      <a:pt x="2332" y="1913"/>
                    </a:lnTo>
                    <a:lnTo>
                      <a:pt x="2324" y="1915"/>
                    </a:lnTo>
                    <a:lnTo>
                      <a:pt x="2308" y="1916"/>
                    </a:lnTo>
                    <a:lnTo>
                      <a:pt x="2289" y="1916"/>
                    </a:lnTo>
                    <a:lnTo>
                      <a:pt x="2269" y="1915"/>
                    </a:lnTo>
                    <a:lnTo>
                      <a:pt x="2247" y="1912"/>
                    </a:lnTo>
                    <a:lnTo>
                      <a:pt x="2223" y="1911"/>
                    </a:lnTo>
                    <a:lnTo>
                      <a:pt x="2201" y="1910"/>
                    </a:lnTo>
                    <a:lnTo>
                      <a:pt x="2189" y="1910"/>
                    </a:lnTo>
                    <a:lnTo>
                      <a:pt x="2177" y="1911"/>
                    </a:lnTo>
                    <a:lnTo>
                      <a:pt x="2165" y="1913"/>
                    </a:lnTo>
                    <a:lnTo>
                      <a:pt x="2153" y="1915"/>
                    </a:lnTo>
                    <a:lnTo>
                      <a:pt x="2141" y="1918"/>
                    </a:lnTo>
                    <a:lnTo>
                      <a:pt x="2130" y="1921"/>
                    </a:lnTo>
                    <a:lnTo>
                      <a:pt x="2119" y="1926"/>
                    </a:lnTo>
                    <a:lnTo>
                      <a:pt x="2108" y="1932"/>
                    </a:lnTo>
                    <a:lnTo>
                      <a:pt x="2097" y="1938"/>
                    </a:lnTo>
                    <a:lnTo>
                      <a:pt x="2086" y="1946"/>
                    </a:lnTo>
                    <a:lnTo>
                      <a:pt x="2077" y="1956"/>
                    </a:lnTo>
                    <a:lnTo>
                      <a:pt x="2067" y="1965"/>
                    </a:lnTo>
                    <a:lnTo>
                      <a:pt x="2084" y="1980"/>
                    </a:lnTo>
                    <a:lnTo>
                      <a:pt x="2101" y="1998"/>
                    </a:lnTo>
                    <a:lnTo>
                      <a:pt x="2119" y="2016"/>
                    </a:lnTo>
                    <a:lnTo>
                      <a:pt x="2136" y="2035"/>
                    </a:lnTo>
                    <a:lnTo>
                      <a:pt x="2151" y="2056"/>
                    </a:lnTo>
                    <a:lnTo>
                      <a:pt x="2166" y="2078"/>
                    </a:lnTo>
                    <a:lnTo>
                      <a:pt x="2179" y="2098"/>
                    </a:lnTo>
                    <a:lnTo>
                      <a:pt x="2191" y="2119"/>
                    </a:lnTo>
                    <a:lnTo>
                      <a:pt x="2198" y="2127"/>
                    </a:lnTo>
                    <a:lnTo>
                      <a:pt x="2206" y="2135"/>
                    </a:lnTo>
                    <a:lnTo>
                      <a:pt x="2216" y="2143"/>
                    </a:lnTo>
                    <a:lnTo>
                      <a:pt x="2225" y="2150"/>
                    </a:lnTo>
                    <a:lnTo>
                      <a:pt x="2232" y="2156"/>
                    </a:lnTo>
                    <a:lnTo>
                      <a:pt x="2236" y="2162"/>
                    </a:lnTo>
                    <a:lnTo>
                      <a:pt x="2236" y="2164"/>
                    </a:lnTo>
                    <a:lnTo>
                      <a:pt x="2235" y="2166"/>
                    </a:lnTo>
                    <a:lnTo>
                      <a:pt x="2232" y="2167"/>
                    </a:lnTo>
                    <a:lnTo>
                      <a:pt x="2228" y="2168"/>
                    </a:lnTo>
                    <a:lnTo>
                      <a:pt x="2203" y="2172"/>
                    </a:lnTo>
                    <a:lnTo>
                      <a:pt x="2177" y="2174"/>
                    </a:lnTo>
                    <a:lnTo>
                      <a:pt x="2151" y="2176"/>
                    </a:lnTo>
                    <a:lnTo>
                      <a:pt x="2125" y="2177"/>
                    </a:lnTo>
                    <a:lnTo>
                      <a:pt x="2099" y="2178"/>
                    </a:lnTo>
                    <a:lnTo>
                      <a:pt x="2073" y="2178"/>
                    </a:lnTo>
                    <a:lnTo>
                      <a:pt x="2047" y="2178"/>
                    </a:lnTo>
                    <a:lnTo>
                      <a:pt x="2023" y="2178"/>
                    </a:lnTo>
                    <a:lnTo>
                      <a:pt x="2026" y="2197"/>
                    </a:lnTo>
                    <a:lnTo>
                      <a:pt x="2030" y="2215"/>
                    </a:lnTo>
                    <a:lnTo>
                      <a:pt x="2037" y="2231"/>
                    </a:lnTo>
                    <a:lnTo>
                      <a:pt x="2044" y="2246"/>
                    </a:lnTo>
                    <a:lnTo>
                      <a:pt x="2053" y="2260"/>
                    </a:lnTo>
                    <a:lnTo>
                      <a:pt x="2063" y="2273"/>
                    </a:lnTo>
                    <a:lnTo>
                      <a:pt x="2073" y="2285"/>
                    </a:lnTo>
                    <a:lnTo>
                      <a:pt x="2084" y="2296"/>
                    </a:lnTo>
                    <a:lnTo>
                      <a:pt x="2097" y="2307"/>
                    </a:lnTo>
                    <a:lnTo>
                      <a:pt x="2110" y="2316"/>
                    </a:lnTo>
                    <a:lnTo>
                      <a:pt x="2123" y="2325"/>
                    </a:lnTo>
                    <a:lnTo>
                      <a:pt x="2137" y="2334"/>
                    </a:lnTo>
                    <a:lnTo>
                      <a:pt x="2164" y="2351"/>
                    </a:lnTo>
                    <a:lnTo>
                      <a:pt x="2191" y="2366"/>
                    </a:lnTo>
                    <a:lnTo>
                      <a:pt x="2217" y="2382"/>
                    </a:lnTo>
                    <a:lnTo>
                      <a:pt x="2241" y="2399"/>
                    </a:lnTo>
                    <a:lnTo>
                      <a:pt x="2250" y="2408"/>
                    </a:lnTo>
                    <a:lnTo>
                      <a:pt x="2260" y="2418"/>
                    </a:lnTo>
                    <a:lnTo>
                      <a:pt x="2268" y="2429"/>
                    </a:lnTo>
                    <a:lnTo>
                      <a:pt x="2275" y="2439"/>
                    </a:lnTo>
                    <a:lnTo>
                      <a:pt x="2281" y="2451"/>
                    </a:lnTo>
                    <a:lnTo>
                      <a:pt x="2284" y="2464"/>
                    </a:lnTo>
                    <a:lnTo>
                      <a:pt x="2286" y="2477"/>
                    </a:lnTo>
                    <a:lnTo>
                      <a:pt x="2287" y="2492"/>
                    </a:lnTo>
                    <a:lnTo>
                      <a:pt x="2285" y="2509"/>
                    </a:lnTo>
                    <a:lnTo>
                      <a:pt x="2282" y="2525"/>
                    </a:lnTo>
                    <a:lnTo>
                      <a:pt x="2275" y="2544"/>
                    </a:lnTo>
                    <a:lnTo>
                      <a:pt x="2268" y="2564"/>
                    </a:lnTo>
                    <a:lnTo>
                      <a:pt x="2261" y="2578"/>
                    </a:lnTo>
                    <a:lnTo>
                      <a:pt x="2254" y="2587"/>
                    </a:lnTo>
                    <a:lnTo>
                      <a:pt x="2247" y="2596"/>
                    </a:lnTo>
                    <a:lnTo>
                      <a:pt x="2240" y="2601"/>
                    </a:lnTo>
                    <a:lnTo>
                      <a:pt x="2232" y="2605"/>
                    </a:lnTo>
                    <a:lnTo>
                      <a:pt x="2225" y="2607"/>
                    </a:lnTo>
                    <a:lnTo>
                      <a:pt x="2217" y="2608"/>
                    </a:lnTo>
                    <a:lnTo>
                      <a:pt x="2209" y="2608"/>
                    </a:lnTo>
                    <a:lnTo>
                      <a:pt x="2192" y="2605"/>
                    </a:lnTo>
                    <a:lnTo>
                      <a:pt x="2175" y="2601"/>
                    </a:lnTo>
                    <a:lnTo>
                      <a:pt x="2166" y="2599"/>
                    </a:lnTo>
                    <a:lnTo>
                      <a:pt x="2157" y="2599"/>
                    </a:lnTo>
                    <a:lnTo>
                      <a:pt x="2147" y="2599"/>
                    </a:lnTo>
                    <a:lnTo>
                      <a:pt x="2136" y="2601"/>
                    </a:lnTo>
                    <a:lnTo>
                      <a:pt x="2131" y="2602"/>
                    </a:lnTo>
                    <a:lnTo>
                      <a:pt x="2126" y="2605"/>
                    </a:lnTo>
                    <a:lnTo>
                      <a:pt x="2123" y="2607"/>
                    </a:lnTo>
                    <a:lnTo>
                      <a:pt x="2120" y="2610"/>
                    </a:lnTo>
                    <a:lnTo>
                      <a:pt x="2118" y="2613"/>
                    </a:lnTo>
                    <a:lnTo>
                      <a:pt x="2115" y="2617"/>
                    </a:lnTo>
                    <a:lnTo>
                      <a:pt x="2115" y="2621"/>
                    </a:lnTo>
                    <a:lnTo>
                      <a:pt x="2114" y="2625"/>
                    </a:lnTo>
                    <a:lnTo>
                      <a:pt x="2115" y="2634"/>
                    </a:lnTo>
                    <a:lnTo>
                      <a:pt x="2119" y="2645"/>
                    </a:lnTo>
                    <a:lnTo>
                      <a:pt x="2123" y="2655"/>
                    </a:lnTo>
                    <a:lnTo>
                      <a:pt x="2127" y="2666"/>
                    </a:lnTo>
                    <a:lnTo>
                      <a:pt x="2137" y="2689"/>
                    </a:lnTo>
                    <a:lnTo>
                      <a:pt x="2145" y="2709"/>
                    </a:lnTo>
                    <a:lnTo>
                      <a:pt x="2147" y="2718"/>
                    </a:lnTo>
                    <a:lnTo>
                      <a:pt x="2147" y="2726"/>
                    </a:lnTo>
                    <a:lnTo>
                      <a:pt x="2146" y="2729"/>
                    </a:lnTo>
                    <a:lnTo>
                      <a:pt x="2145" y="2732"/>
                    </a:lnTo>
                    <a:lnTo>
                      <a:pt x="2142" y="2735"/>
                    </a:lnTo>
                    <a:lnTo>
                      <a:pt x="2139" y="2736"/>
                    </a:lnTo>
                    <a:lnTo>
                      <a:pt x="2119" y="2747"/>
                    </a:lnTo>
                    <a:lnTo>
                      <a:pt x="2098" y="2756"/>
                    </a:lnTo>
                    <a:lnTo>
                      <a:pt x="2077" y="2761"/>
                    </a:lnTo>
                    <a:lnTo>
                      <a:pt x="2055" y="2766"/>
                    </a:lnTo>
                    <a:lnTo>
                      <a:pt x="2044" y="2768"/>
                    </a:lnTo>
                    <a:lnTo>
                      <a:pt x="2033" y="2768"/>
                    </a:lnTo>
                    <a:lnTo>
                      <a:pt x="2021" y="2769"/>
                    </a:lnTo>
                    <a:lnTo>
                      <a:pt x="2011" y="2768"/>
                    </a:lnTo>
                    <a:lnTo>
                      <a:pt x="1986" y="2766"/>
                    </a:lnTo>
                    <a:lnTo>
                      <a:pt x="1961" y="2761"/>
                    </a:lnTo>
                    <a:lnTo>
                      <a:pt x="1966" y="2781"/>
                    </a:lnTo>
                    <a:lnTo>
                      <a:pt x="1971" y="2800"/>
                    </a:lnTo>
                    <a:lnTo>
                      <a:pt x="1974" y="2818"/>
                    </a:lnTo>
                    <a:lnTo>
                      <a:pt x="1975" y="2836"/>
                    </a:lnTo>
                    <a:lnTo>
                      <a:pt x="1976" y="2871"/>
                    </a:lnTo>
                    <a:lnTo>
                      <a:pt x="1976" y="2905"/>
                    </a:lnTo>
                    <a:lnTo>
                      <a:pt x="1977" y="2921"/>
                    </a:lnTo>
                    <a:lnTo>
                      <a:pt x="1979" y="2937"/>
                    </a:lnTo>
                    <a:lnTo>
                      <a:pt x="1983" y="2952"/>
                    </a:lnTo>
                    <a:lnTo>
                      <a:pt x="1987" y="2969"/>
                    </a:lnTo>
                    <a:lnTo>
                      <a:pt x="1993" y="2984"/>
                    </a:lnTo>
                    <a:lnTo>
                      <a:pt x="2002" y="2999"/>
                    </a:lnTo>
                    <a:lnTo>
                      <a:pt x="2007" y="3006"/>
                    </a:lnTo>
                    <a:lnTo>
                      <a:pt x="2014" y="3014"/>
                    </a:lnTo>
                    <a:lnTo>
                      <a:pt x="2020" y="3022"/>
                    </a:lnTo>
                    <a:lnTo>
                      <a:pt x="2028" y="3029"/>
                    </a:lnTo>
                    <a:lnTo>
                      <a:pt x="2020" y="3031"/>
                    </a:lnTo>
                    <a:lnTo>
                      <a:pt x="2015" y="3033"/>
                    </a:lnTo>
                    <a:lnTo>
                      <a:pt x="2010" y="3037"/>
                    </a:lnTo>
                    <a:lnTo>
                      <a:pt x="2005" y="3041"/>
                    </a:lnTo>
                    <a:lnTo>
                      <a:pt x="2002" y="3045"/>
                    </a:lnTo>
                    <a:lnTo>
                      <a:pt x="2000" y="3050"/>
                    </a:lnTo>
                    <a:lnTo>
                      <a:pt x="1998" y="3055"/>
                    </a:lnTo>
                    <a:lnTo>
                      <a:pt x="1997" y="3060"/>
                    </a:lnTo>
                    <a:lnTo>
                      <a:pt x="1997" y="3071"/>
                    </a:lnTo>
                    <a:lnTo>
                      <a:pt x="1998" y="3084"/>
                    </a:lnTo>
                    <a:lnTo>
                      <a:pt x="2001" y="3098"/>
                    </a:lnTo>
                    <a:lnTo>
                      <a:pt x="2005" y="3112"/>
                    </a:lnTo>
                    <a:lnTo>
                      <a:pt x="2016" y="3142"/>
                    </a:lnTo>
                    <a:lnTo>
                      <a:pt x="2026" y="3173"/>
                    </a:lnTo>
                    <a:lnTo>
                      <a:pt x="2030" y="3188"/>
                    </a:lnTo>
                    <a:lnTo>
                      <a:pt x="2032" y="3202"/>
                    </a:lnTo>
                    <a:lnTo>
                      <a:pt x="2033" y="3216"/>
                    </a:lnTo>
                    <a:lnTo>
                      <a:pt x="2032" y="3229"/>
                    </a:lnTo>
                    <a:lnTo>
                      <a:pt x="2033" y="3232"/>
                    </a:lnTo>
                    <a:lnTo>
                      <a:pt x="2036" y="3238"/>
                    </a:lnTo>
                    <a:lnTo>
                      <a:pt x="2040" y="3243"/>
                    </a:lnTo>
                    <a:lnTo>
                      <a:pt x="2045" y="3249"/>
                    </a:lnTo>
                    <a:lnTo>
                      <a:pt x="2060" y="3265"/>
                    </a:lnTo>
                    <a:lnTo>
                      <a:pt x="2079" y="3281"/>
                    </a:lnTo>
                    <a:lnTo>
                      <a:pt x="2098" y="3296"/>
                    </a:lnTo>
                    <a:lnTo>
                      <a:pt x="2117" y="3308"/>
                    </a:lnTo>
                    <a:lnTo>
                      <a:pt x="2125" y="3313"/>
                    </a:lnTo>
                    <a:lnTo>
                      <a:pt x="2133" y="3316"/>
                    </a:lnTo>
                    <a:lnTo>
                      <a:pt x="2139" y="3317"/>
                    </a:lnTo>
                    <a:lnTo>
                      <a:pt x="2144" y="3317"/>
                    </a:lnTo>
                    <a:lnTo>
                      <a:pt x="2118" y="3316"/>
                    </a:lnTo>
                    <a:lnTo>
                      <a:pt x="2083" y="3316"/>
                    </a:lnTo>
                    <a:lnTo>
                      <a:pt x="2043" y="3319"/>
                    </a:lnTo>
                    <a:lnTo>
                      <a:pt x="1999" y="3321"/>
                    </a:lnTo>
                    <a:lnTo>
                      <a:pt x="1956" y="3323"/>
                    </a:lnTo>
                    <a:lnTo>
                      <a:pt x="1915" y="3323"/>
                    </a:lnTo>
                    <a:lnTo>
                      <a:pt x="1897" y="3323"/>
                    </a:lnTo>
                    <a:lnTo>
                      <a:pt x="1880" y="3322"/>
                    </a:lnTo>
                    <a:lnTo>
                      <a:pt x="1866" y="3321"/>
                    </a:lnTo>
                    <a:lnTo>
                      <a:pt x="1854" y="3317"/>
                    </a:lnTo>
                    <a:lnTo>
                      <a:pt x="1855" y="3340"/>
                    </a:lnTo>
                    <a:lnTo>
                      <a:pt x="1857" y="3362"/>
                    </a:lnTo>
                    <a:lnTo>
                      <a:pt x="1861" y="3382"/>
                    </a:lnTo>
                    <a:lnTo>
                      <a:pt x="1865" y="3403"/>
                    </a:lnTo>
                    <a:lnTo>
                      <a:pt x="1871" y="3423"/>
                    </a:lnTo>
                    <a:lnTo>
                      <a:pt x="1879" y="3443"/>
                    </a:lnTo>
                    <a:lnTo>
                      <a:pt x="1889" y="3461"/>
                    </a:lnTo>
                    <a:lnTo>
                      <a:pt x="1898" y="3481"/>
                    </a:lnTo>
                    <a:lnTo>
                      <a:pt x="1909" y="3498"/>
                    </a:lnTo>
                    <a:lnTo>
                      <a:pt x="1921" y="3515"/>
                    </a:lnTo>
                    <a:lnTo>
                      <a:pt x="1934" y="3532"/>
                    </a:lnTo>
                    <a:lnTo>
                      <a:pt x="1948" y="3549"/>
                    </a:lnTo>
                    <a:lnTo>
                      <a:pt x="1963" y="3564"/>
                    </a:lnTo>
                    <a:lnTo>
                      <a:pt x="1978" y="3579"/>
                    </a:lnTo>
                    <a:lnTo>
                      <a:pt x="1993" y="3593"/>
                    </a:lnTo>
                    <a:lnTo>
                      <a:pt x="2011" y="3607"/>
                    </a:lnTo>
                    <a:lnTo>
                      <a:pt x="1996" y="3609"/>
                    </a:lnTo>
                    <a:lnTo>
                      <a:pt x="1982" y="3612"/>
                    </a:lnTo>
                    <a:lnTo>
                      <a:pt x="1975" y="3614"/>
                    </a:lnTo>
                    <a:lnTo>
                      <a:pt x="1969" y="3618"/>
                    </a:lnTo>
                    <a:lnTo>
                      <a:pt x="1963" y="3620"/>
                    </a:lnTo>
                    <a:lnTo>
                      <a:pt x="1958" y="3624"/>
                    </a:lnTo>
                    <a:lnTo>
                      <a:pt x="1953" y="3627"/>
                    </a:lnTo>
                    <a:lnTo>
                      <a:pt x="1949" y="3632"/>
                    </a:lnTo>
                    <a:lnTo>
                      <a:pt x="1946" y="3637"/>
                    </a:lnTo>
                    <a:lnTo>
                      <a:pt x="1945" y="3644"/>
                    </a:lnTo>
                    <a:lnTo>
                      <a:pt x="1943" y="3650"/>
                    </a:lnTo>
                    <a:lnTo>
                      <a:pt x="1943" y="3657"/>
                    </a:lnTo>
                    <a:lnTo>
                      <a:pt x="1944" y="3665"/>
                    </a:lnTo>
                    <a:lnTo>
                      <a:pt x="1946" y="3674"/>
                    </a:lnTo>
                    <a:lnTo>
                      <a:pt x="1952" y="3695"/>
                    </a:lnTo>
                    <a:lnTo>
                      <a:pt x="1958" y="3725"/>
                    </a:lnTo>
                    <a:lnTo>
                      <a:pt x="1965" y="3759"/>
                    </a:lnTo>
                    <a:lnTo>
                      <a:pt x="1973" y="3795"/>
                    </a:lnTo>
                    <a:lnTo>
                      <a:pt x="1982" y="3830"/>
                    </a:lnTo>
                    <a:lnTo>
                      <a:pt x="1991" y="3864"/>
                    </a:lnTo>
                    <a:lnTo>
                      <a:pt x="1996" y="3878"/>
                    </a:lnTo>
                    <a:lnTo>
                      <a:pt x="2001" y="3891"/>
                    </a:lnTo>
                    <a:lnTo>
                      <a:pt x="2006" y="3903"/>
                    </a:lnTo>
                    <a:lnTo>
                      <a:pt x="2013" y="3911"/>
                    </a:lnTo>
                    <a:lnTo>
                      <a:pt x="2023" y="3922"/>
                    </a:lnTo>
                    <a:lnTo>
                      <a:pt x="2033" y="3931"/>
                    </a:lnTo>
                    <a:lnTo>
                      <a:pt x="2043" y="3938"/>
                    </a:lnTo>
                    <a:lnTo>
                      <a:pt x="2054" y="3945"/>
                    </a:lnTo>
                    <a:lnTo>
                      <a:pt x="2073" y="3956"/>
                    </a:lnTo>
                    <a:lnTo>
                      <a:pt x="2094" y="3964"/>
                    </a:lnTo>
                    <a:lnTo>
                      <a:pt x="2104" y="3969"/>
                    </a:lnTo>
                    <a:lnTo>
                      <a:pt x="2113" y="3974"/>
                    </a:lnTo>
                    <a:lnTo>
                      <a:pt x="2123" y="3979"/>
                    </a:lnTo>
                    <a:lnTo>
                      <a:pt x="2133" y="3985"/>
                    </a:lnTo>
                    <a:lnTo>
                      <a:pt x="2142" y="3992"/>
                    </a:lnTo>
                    <a:lnTo>
                      <a:pt x="2152" y="4002"/>
                    </a:lnTo>
                    <a:lnTo>
                      <a:pt x="2162" y="4012"/>
                    </a:lnTo>
                    <a:lnTo>
                      <a:pt x="2171" y="4025"/>
                    </a:lnTo>
                    <a:lnTo>
                      <a:pt x="2172" y="4026"/>
                    </a:lnTo>
                    <a:lnTo>
                      <a:pt x="2173" y="4030"/>
                    </a:lnTo>
                    <a:lnTo>
                      <a:pt x="2173" y="4032"/>
                    </a:lnTo>
                    <a:lnTo>
                      <a:pt x="2172" y="4037"/>
                    </a:lnTo>
                    <a:lnTo>
                      <a:pt x="2171" y="4040"/>
                    </a:lnTo>
                    <a:lnTo>
                      <a:pt x="2166" y="4045"/>
                    </a:lnTo>
                    <a:lnTo>
                      <a:pt x="2161" y="4051"/>
                    </a:lnTo>
                    <a:lnTo>
                      <a:pt x="2153" y="4056"/>
                    </a:lnTo>
                    <a:lnTo>
                      <a:pt x="2144" y="4064"/>
                    </a:lnTo>
                    <a:lnTo>
                      <a:pt x="2131" y="4070"/>
                    </a:lnTo>
                    <a:lnTo>
                      <a:pt x="2114" y="4079"/>
                    </a:lnTo>
                    <a:lnTo>
                      <a:pt x="2095" y="4087"/>
                    </a:lnTo>
                    <a:lnTo>
                      <a:pt x="2072" y="4096"/>
                    </a:lnTo>
                    <a:lnTo>
                      <a:pt x="2045" y="4106"/>
                    </a:lnTo>
                    <a:lnTo>
                      <a:pt x="2016" y="4117"/>
                    </a:lnTo>
                    <a:lnTo>
                      <a:pt x="1990" y="4127"/>
                    </a:lnTo>
                    <a:lnTo>
                      <a:pt x="1964" y="4139"/>
                    </a:lnTo>
                    <a:lnTo>
                      <a:pt x="1940" y="4150"/>
                    </a:lnTo>
                    <a:lnTo>
                      <a:pt x="1899" y="4171"/>
                    </a:lnTo>
                    <a:lnTo>
                      <a:pt x="1864" y="4189"/>
                    </a:lnTo>
                    <a:lnTo>
                      <a:pt x="1837" y="4206"/>
                    </a:lnTo>
                    <a:lnTo>
                      <a:pt x="1816" y="4218"/>
                    </a:lnTo>
                    <a:lnTo>
                      <a:pt x="1804" y="4227"/>
                    </a:lnTo>
                    <a:lnTo>
                      <a:pt x="1800" y="4230"/>
                    </a:lnTo>
                    <a:lnTo>
                      <a:pt x="1791" y="4224"/>
                    </a:lnTo>
                    <a:lnTo>
                      <a:pt x="1783" y="4215"/>
                    </a:lnTo>
                    <a:lnTo>
                      <a:pt x="1775" y="4206"/>
                    </a:lnTo>
                    <a:lnTo>
                      <a:pt x="1768" y="4197"/>
                    </a:lnTo>
                    <a:lnTo>
                      <a:pt x="1761" y="4186"/>
                    </a:lnTo>
                    <a:lnTo>
                      <a:pt x="1756" y="4175"/>
                    </a:lnTo>
                    <a:lnTo>
                      <a:pt x="1750" y="4163"/>
                    </a:lnTo>
                    <a:lnTo>
                      <a:pt x="1746" y="4150"/>
                    </a:lnTo>
                    <a:lnTo>
                      <a:pt x="1742" y="4137"/>
                    </a:lnTo>
                    <a:lnTo>
                      <a:pt x="1738" y="4123"/>
                    </a:lnTo>
                    <a:lnTo>
                      <a:pt x="1735" y="4109"/>
                    </a:lnTo>
                    <a:lnTo>
                      <a:pt x="1732" y="4094"/>
                    </a:lnTo>
                    <a:lnTo>
                      <a:pt x="1729" y="4064"/>
                    </a:lnTo>
                    <a:lnTo>
                      <a:pt x="1727" y="4033"/>
                    </a:lnTo>
                    <a:lnTo>
                      <a:pt x="1727" y="4002"/>
                    </a:lnTo>
                    <a:lnTo>
                      <a:pt x="1728" y="3972"/>
                    </a:lnTo>
                    <a:lnTo>
                      <a:pt x="1730" y="3943"/>
                    </a:lnTo>
                    <a:lnTo>
                      <a:pt x="1734" y="3915"/>
                    </a:lnTo>
                    <a:lnTo>
                      <a:pt x="1738" y="3889"/>
                    </a:lnTo>
                    <a:lnTo>
                      <a:pt x="1744" y="3866"/>
                    </a:lnTo>
                    <a:lnTo>
                      <a:pt x="1749" y="3846"/>
                    </a:lnTo>
                    <a:lnTo>
                      <a:pt x="1756" y="3829"/>
                    </a:lnTo>
                    <a:lnTo>
                      <a:pt x="1761" y="3814"/>
                    </a:lnTo>
                    <a:lnTo>
                      <a:pt x="1763" y="3799"/>
                    </a:lnTo>
                    <a:lnTo>
                      <a:pt x="1765" y="3783"/>
                    </a:lnTo>
                    <a:lnTo>
                      <a:pt x="1765" y="3767"/>
                    </a:lnTo>
                    <a:lnTo>
                      <a:pt x="1763" y="3751"/>
                    </a:lnTo>
                    <a:lnTo>
                      <a:pt x="1760" y="3732"/>
                    </a:lnTo>
                    <a:lnTo>
                      <a:pt x="1756" y="3714"/>
                    </a:lnTo>
                    <a:lnTo>
                      <a:pt x="1751" y="3693"/>
                    </a:lnTo>
                    <a:lnTo>
                      <a:pt x="1738" y="3650"/>
                    </a:lnTo>
                    <a:lnTo>
                      <a:pt x="1722" y="3601"/>
                    </a:lnTo>
                    <a:lnTo>
                      <a:pt x="1706" y="3546"/>
                    </a:lnTo>
                    <a:lnTo>
                      <a:pt x="1689" y="3484"/>
                    </a:lnTo>
                    <a:lnTo>
                      <a:pt x="1686" y="3466"/>
                    </a:lnTo>
                    <a:lnTo>
                      <a:pt x="1682" y="3448"/>
                    </a:lnTo>
                    <a:lnTo>
                      <a:pt x="1680" y="3430"/>
                    </a:lnTo>
                    <a:lnTo>
                      <a:pt x="1679" y="3410"/>
                    </a:lnTo>
                    <a:lnTo>
                      <a:pt x="1678" y="3390"/>
                    </a:lnTo>
                    <a:lnTo>
                      <a:pt x="1678" y="3368"/>
                    </a:lnTo>
                    <a:lnTo>
                      <a:pt x="1679" y="3348"/>
                    </a:lnTo>
                    <a:lnTo>
                      <a:pt x="1680" y="3325"/>
                    </a:lnTo>
                    <a:lnTo>
                      <a:pt x="1684" y="3280"/>
                    </a:lnTo>
                    <a:lnTo>
                      <a:pt x="1690" y="3232"/>
                    </a:lnTo>
                    <a:lnTo>
                      <a:pt x="1696" y="3184"/>
                    </a:lnTo>
                    <a:lnTo>
                      <a:pt x="1704" y="3135"/>
                    </a:lnTo>
                    <a:lnTo>
                      <a:pt x="1720" y="3036"/>
                    </a:lnTo>
                    <a:lnTo>
                      <a:pt x="1734" y="2938"/>
                    </a:lnTo>
                    <a:lnTo>
                      <a:pt x="1740" y="2891"/>
                    </a:lnTo>
                    <a:lnTo>
                      <a:pt x="1743" y="2845"/>
                    </a:lnTo>
                    <a:lnTo>
                      <a:pt x="1744" y="2824"/>
                    </a:lnTo>
                    <a:lnTo>
                      <a:pt x="1744" y="2802"/>
                    </a:lnTo>
                    <a:lnTo>
                      <a:pt x="1744" y="2782"/>
                    </a:lnTo>
                    <a:lnTo>
                      <a:pt x="1743" y="2761"/>
                    </a:lnTo>
                    <a:lnTo>
                      <a:pt x="1743" y="2742"/>
                    </a:lnTo>
                    <a:lnTo>
                      <a:pt x="1743" y="2720"/>
                    </a:lnTo>
                    <a:lnTo>
                      <a:pt x="1744" y="2699"/>
                    </a:lnTo>
                    <a:lnTo>
                      <a:pt x="1745" y="2676"/>
                    </a:lnTo>
                    <a:lnTo>
                      <a:pt x="1750" y="2629"/>
                    </a:lnTo>
                    <a:lnTo>
                      <a:pt x="1757" y="2582"/>
                    </a:lnTo>
                    <a:lnTo>
                      <a:pt x="1765" y="2534"/>
                    </a:lnTo>
                    <a:lnTo>
                      <a:pt x="1775" y="2486"/>
                    </a:lnTo>
                    <a:lnTo>
                      <a:pt x="1786" y="2437"/>
                    </a:lnTo>
                    <a:lnTo>
                      <a:pt x="1798" y="2391"/>
                    </a:lnTo>
                    <a:lnTo>
                      <a:pt x="1810" y="2347"/>
                    </a:lnTo>
                    <a:lnTo>
                      <a:pt x="1822" y="2303"/>
                    </a:lnTo>
                    <a:lnTo>
                      <a:pt x="1834" y="2264"/>
                    </a:lnTo>
                    <a:lnTo>
                      <a:pt x="1845" y="2229"/>
                    </a:lnTo>
                    <a:lnTo>
                      <a:pt x="1864" y="2173"/>
                    </a:lnTo>
                    <a:lnTo>
                      <a:pt x="1877" y="2139"/>
                    </a:lnTo>
                    <a:lnTo>
                      <a:pt x="1881" y="2127"/>
                    </a:lnTo>
                    <a:lnTo>
                      <a:pt x="1883" y="2113"/>
                    </a:lnTo>
                    <a:lnTo>
                      <a:pt x="1885" y="2098"/>
                    </a:lnTo>
                    <a:lnTo>
                      <a:pt x="1888" y="2081"/>
                    </a:lnTo>
                    <a:lnTo>
                      <a:pt x="1889" y="2064"/>
                    </a:lnTo>
                    <a:lnTo>
                      <a:pt x="1889" y="2043"/>
                    </a:lnTo>
                    <a:lnTo>
                      <a:pt x="1888" y="2023"/>
                    </a:lnTo>
                    <a:lnTo>
                      <a:pt x="1885" y="2001"/>
                    </a:lnTo>
                    <a:lnTo>
                      <a:pt x="1883" y="1978"/>
                    </a:lnTo>
                    <a:lnTo>
                      <a:pt x="1880" y="1954"/>
                    </a:lnTo>
                    <a:lnTo>
                      <a:pt x="1877" y="1930"/>
                    </a:lnTo>
                    <a:lnTo>
                      <a:pt x="1871" y="1906"/>
                    </a:lnTo>
                    <a:lnTo>
                      <a:pt x="1866" y="1881"/>
                    </a:lnTo>
                    <a:lnTo>
                      <a:pt x="1859" y="1855"/>
                    </a:lnTo>
                    <a:lnTo>
                      <a:pt x="1853" y="1830"/>
                    </a:lnTo>
                    <a:lnTo>
                      <a:pt x="1844" y="1805"/>
                    </a:lnTo>
                    <a:lnTo>
                      <a:pt x="1836" y="1781"/>
                    </a:lnTo>
                    <a:lnTo>
                      <a:pt x="1825" y="1756"/>
                    </a:lnTo>
                    <a:lnTo>
                      <a:pt x="1814" y="1731"/>
                    </a:lnTo>
                    <a:lnTo>
                      <a:pt x="1801" y="1706"/>
                    </a:lnTo>
                    <a:lnTo>
                      <a:pt x="1776" y="1655"/>
                    </a:lnTo>
                    <a:lnTo>
                      <a:pt x="1750" y="1605"/>
                    </a:lnTo>
                    <a:lnTo>
                      <a:pt x="1737" y="1578"/>
                    </a:lnTo>
                    <a:lnTo>
                      <a:pt x="1727" y="1551"/>
                    </a:lnTo>
                    <a:lnTo>
                      <a:pt x="1716" y="1522"/>
                    </a:lnTo>
                    <a:lnTo>
                      <a:pt x="1707" y="1494"/>
                    </a:lnTo>
                    <a:lnTo>
                      <a:pt x="1700" y="1465"/>
                    </a:lnTo>
                    <a:lnTo>
                      <a:pt x="1694" y="1434"/>
                    </a:lnTo>
                    <a:lnTo>
                      <a:pt x="1692" y="1419"/>
                    </a:lnTo>
                    <a:lnTo>
                      <a:pt x="1690" y="1403"/>
                    </a:lnTo>
                    <a:lnTo>
                      <a:pt x="1689" y="1386"/>
                    </a:lnTo>
                    <a:lnTo>
                      <a:pt x="1689" y="1370"/>
                    </a:lnTo>
                    <a:lnTo>
                      <a:pt x="1689" y="1354"/>
                    </a:lnTo>
                    <a:lnTo>
                      <a:pt x="1688" y="1337"/>
                    </a:lnTo>
                    <a:lnTo>
                      <a:pt x="1686" y="1321"/>
                    </a:lnTo>
                    <a:lnTo>
                      <a:pt x="1683" y="1304"/>
                    </a:lnTo>
                    <a:lnTo>
                      <a:pt x="1677" y="1272"/>
                    </a:lnTo>
                    <a:lnTo>
                      <a:pt x="1668" y="1241"/>
                    </a:lnTo>
                    <a:lnTo>
                      <a:pt x="1659" y="1209"/>
                    </a:lnTo>
                    <a:lnTo>
                      <a:pt x="1647" y="1178"/>
                    </a:lnTo>
                    <a:lnTo>
                      <a:pt x="1634" y="1148"/>
                    </a:lnTo>
                    <a:lnTo>
                      <a:pt x="1621" y="1119"/>
                    </a:lnTo>
                    <a:lnTo>
                      <a:pt x="1592" y="1061"/>
                    </a:lnTo>
                    <a:lnTo>
                      <a:pt x="1561" y="1008"/>
                    </a:lnTo>
                    <a:lnTo>
                      <a:pt x="1534" y="960"/>
                    </a:lnTo>
                    <a:lnTo>
                      <a:pt x="1511" y="916"/>
                    </a:lnTo>
                    <a:lnTo>
                      <a:pt x="1502" y="895"/>
                    </a:lnTo>
                    <a:lnTo>
                      <a:pt x="1494" y="876"/>
                    </a:lnTo>
                    <a:lnTo>
                      <a:pt x="1489" y="858"/>
                    </a:lnTo>
                    <a:lnTo>
                      <a:pt x="1485" y="841"/>
                    </a:lnTo>
                    <a:lnTo>
                      <a:pt x="1482" y="825"/>
                    </a:lnTo>
                    <a:lnTo>
                      <a:pt x="1480" y="810"/>
                    </a:lnTo>
                    <a:lnTo>
                      <a:pt x="1480" y="795"/>
                    </a:lnTo>
                    <a:lnTo>
                      <a:pt x="1480" y="781"/>
                    </a:lnTo>
                    <a:lnTo>
                      <a:pt x="1482" y="754"/>
                    </a:lnTo>
                    <a:lnTo>
                      <a:pt x="1484" y="727"/>
                    </a:lnTo>
                    <a:lnTo>
                      <a:pt x="1482" y="712"/>
                    </a:lnTo>
                    <a:lnTo>
                      <a:pt x="1481" y="700"/>
                    </a:lnTo>
                    <a:lnTo>
                      <a:pt x="1479" y="685"/>
                    </a:lnTo>
                    <a:lnTo>
                      <a:pt x="1476" y="670"/>
                    </a:lnTo>
                    <a:lnTo>
                      <a:pt x="1473" y="657"/>
                    </a:lnTo>
                    <a:lnTo>
                      <a:pt x="1469" y="648"/>
                    </a:lnTo>
                    <a:lnTo>
                      <a:pt x="1466" y="641"/>
                    </a:lnTo>
                    <a:lnTo>
                      <a:pt x="1463" y="638"/>
                    </a:lnTo>
                    <a:lnTo>
                      <a:pt x="1461" y="637"/>
                    </a:lnTo>
                    <a:lnTo>
                      <a:pt x="1459" y="638"/>
                    </a:lnTo>
                    <a:lnTo>
                      <a:pt x="1456" y="639"/>
                    </a:lnTo>
                    <a:lnTo>
                      <a:pt x="1454" y="642"/>
                    </a:lnTo>
                    <a:lnTo>
                      <a:pt x="1449" y="650"/>
                    </a:lnTo>
                    <a:lnTo>
                      <a:pt x="1442" y="662"/>
                    </a:lnTo>
                    <a:lnTo>
                      <a:pt x="1423" y="698"/>
                    </a:lnTo>
                    <a:lnTo>
                      <a:pt x="1394" y="755"/>
                    </a:lnTo>
                    <a:lnTo>
                      <a:pt x="1375" y="790"/>
                    </a:lnTo>
                    <a:lnTo>
                      <a:pt x="1353" y="830"/>
                    </a:lnTo>
                    <a:lnTo>
                      <a:pt x="1328" y="877"/>
                    </a:lnTo>
                    <a:lnTo>
                      <a:pt x="1299" y="927"/>
                    </a:lnTo>
                    <a:lnTo>
                      <a:pt x="1283" y="955"/>
                    </a:lnTo>
                    <a:lnTo>
                      <a:pt x="1267" y="987"/>
                    </a:lnTo>
                    <a:lnTo>
                      <a:pt x="1251" y="1020"/>
                    </a:lnTo>
                    <a:lnTo>
                      <a:pt x="1236" y="1056"/>
                    </a:lnTo>
                    <a:lnTo>
                      <a:pt x="1220" y="1094"/>
                    </a:lnTo>
                    <a:lnTo>
                      <a:pt x="1205" y="1134"/>
                    </a:lnTo>
                    <a:lnTo>
                      <a:pt x="1190" y="1175"/>
                    </a:lnTo>
                    <a:lnTo>
                      <a:pt x="1173" y="1218"/>
                    </a:lnTo>
                    <a:lnTo>
                      <a:pt x="1144" y="1308"/>
                    </a:lnTo>
                    <a:lnTo>
                      <a:pt x="1114" y="1403"/>
                    </a:lnTo>
                    <a:lnTo>
                      <a:pt x="1086" y="1500"/>
                    </a:lnTo>
                    <a:lnTo>
                      <a:pt x="1059" y="1599"/>
                    </a:lnTo>
                    <a:lnTo>
                      <a:pt x="1033" y="1700"/>
                    </a:lnTo>
                    <a:lnTo>
                      <a:pt x="1009" y="1798"/>
                    </a:lnTo>
                    <a:lnTo>
                      <a:pt x="987" y="1895"/>
                    </a:lnTo>
                    <a:lnTo>
                      <a:pt x="966" y="1989"/>
                    </a:lnTo>
                    <a:lnTo>
                      <a:pt x="948" y="2079"/>
                    </a:lnTo>
                    <a:lnTo>
                      <a:pt x="933" y="2161"/>
                    </a:lnTo>
                    <a:lnTo>
                      <a:pt x="920" y="2237"/>
                    </a:lnTo>
                    <a:lnTo>
                      <a:pt x="910" y="2304"/>
                    </a:lnTo>
                    <a:lnTo>
                      <a:pt x="906" y="2336"/>
                    </a:lnTo>
                    <a:lnTo>
                      <a:pt x="900" y="2367"/>
                    </a:lnTo>
                    <a:lnTo>
                      <a:pt x="894" y="2399"/>
                    </a:lnTo>
                    <a:lnTo>
                      <a:pt x="887" y="2431"/>
                    </a:lnTo>
                    <a:lnTo>
                      <a:pt x="871" y="2494"/>
                    </a:lnTo>
                    <a:lnTo>
                      <a:pt x="853" y="2557"/>
                    </a:lnTo>
                    <a:lnTo>
                      <a:pt x="833" y="2620"/>
                    </a:lnTo>
                    <a:lnTo>
                      <a:pt x="813" y="2681"/>
                    </a:lnTo>
                    <a:lnTo>
                      <a:pt x="791" y="2742"/>
                    </a:lnTo>
                    <a:lnTo>
                      <a:pt x="769" y="2801"/>
                    </a:lnTo>
                    <a:lnTo>
                      <a:pt x="728" y="2912"/>
                    </a:lnTo>
                    <a:lnTo>
                      <a:pt x="692" y="3014"/>
                    </a:lnTo>
                    <a:lnTo>
                      <a:pt x="678" y="3059"/>
                    </a:lnTo>
                    <a:lnTo>
                      <a:pt x="666" y="3100"/>
                    </a:lnTo>
                    <a:lnTo>
                      <a:pt x="661" y="3120"/>
                    </a:lnTo>
                    <a:lnTo>
                      <a:pt x="657" y="3138"/>
                    </a:lnTo>
                    <a:lnTo>
                      <a:pt x="655" y="3155"/>
                    </a:lnTo>
                    <a:lnTo>
                      <a:pt x="653" y="3172"/>
                    </a:lnTo>
                    <a:lnTo>
                      <a:pt x="650" y="3206"/>
                    </a:lnTo>
                    <a:lnTo>
                      <a:pt x="645" y="3244"/>
                    </a:lnTo>
                    <a:lnTo>
                      <a:pt x="638" y="3286"/>
                    </a:lnTo>
                    <a:lnTo>
                      <a:pt x="629" y="3331"/>
                    </a:lnTo>
                    <a:lnTo>
                      <a:pt x="619" y="3379"/>
                    </a:lnTo>
                    <a:lnTo>
                      <a:pt x="608" y="3428"/>
                    </a:lnTo>
                    <a:lnTo>
                      <a:pt x="597" y="3477"/>
                    </a:lnTo>
                    <a:lnTo>
                      <a:pt x="585" y="3527"/>
                    </a:lnTo>
                    <a:lnTo>
                      <a:pt x="559" y="3623"/>
                    </a:lnTo>
                    <a:lnTo>
                      <a:pt x="535" y="3712"/>
                    </a:lnTo>
                    <a:lnTo>
                      <a:pt x="513" y="3786"/>
                    </a:lnTo>
                    <a:lnTo>
                      <a:pt x="497" y="3839"/>
                    </a:lnTo>
                    <a:lnTo>
                      <a:pt x="492" y="3859"/>
                    </a:lnTo>
                    <a:lnTo>
                      <a:pt x="489" y="3876"/>
                    </a:lnTo>
                    <a:lnTo>
                      <a:pt x="486" y="3891"/>
                    </a:lnTo>
                    <a:lnTo>
                      <a:pt x="485" y="3904"/>
                    </a:lnTo>
                    <a:lnTo>
                      <a:pt x="485" y="3916"/>
                    </a:lnTo>
                    <a:lnTo>
                      <a:pt x="485" y="3928"/>
                    </a:lnTo>
                    <a:lnTo>
                      <a:pt x="487" y="3938"/>
                    </a:lnTo>
                    <a:lnTo>
                      <a:pt x="489" y="3948"/>
                    </a:lnTo>
                    <a:lnTo>
                      <a:pt x="492" y="3971"/>
                    </a:lnTo>
                    <a:lnTo>
                      <a:pt x="494" y="3997"/>
                    </a:lnTo>
                    <a:lnTo>
                      <a:pt x="494" y="4013"/>
                    </a:lnTo>
                    <a:lnTo>
                      <a:pt x="493" y="4030"/>
                    </a:lnTo>
                    <a:lnTo>
                      <a:pt x="491" y="4051"/>
                    </a:lnTo>
                    <a:lnTo>
                      <a:pt x="487" y="4075"/>
                    </a:lnTo>
                    <a:lnTo>
                      <a:pt x="482" y="4097"/>
                    </a:lnTo>
                    <a:lnTo>
                      <a:pt x="477" y="4116"/>
                    </a:lnTo>
                    <a:lnTo>
                      <a:pt x="473" y="4123"/>
                    </a:lnTo>
                    <a:lnTo>
                      <a:pt x="470" y="4130"/>
                    </a:lnTo>
                    <a:lnTo>
                      <a:pt x="467" y="4135"/>
                    </a:lnTo>
                    <a:lnTo>
                      <a:pt x="463" y="4140"/>
                    </a:lnTo>
                    <a:lnTo>
                      <a:pt x="459" y="4145"/>
                    </a:lnTo>
                    <a:lnTo>
                      <a:pt x="455" y="4148"/>
                    </a:lnTo>
                    <a:lnTo>
                      <a:pt x="451" y="4150"/>
                    </a:lnTo>
                    <a:lnTo>
                      <a:pt x="448" y="4152"/>
                    </a:lnTo>
                    <a:lnTo>
                      <a:pt x="439" y="4154"/>
                    </a:lnTo>
                    <a:lnTo>
                      <a:pt x="430" y="4156"/>
                    </a:lnTo>
                    <a:lnTo>
                      <a:pt x="423" y="4154"/>
                    </a:lnTo>
                    <a:lnTo>
                      <a:pt x="415" y="4151"/>
                    </a:lnTo>
                    <a:lnTo>
                      <a:pt x="409" y="4149"/>
                    </a:lnTo>
                    <a:lnTo>
                      <a:pt x="403" y="4145"/>
                    </a:lnTo>
                    <a:lnTo>
                      <a:pt x="395" y="4139"/>
                    </a:lnTo>
                    <a:lnTo>
                      <a:pt x="391" y="4136"/>
                    </a:lnTo>
                    <a:lnTo>
                      <a:pt x="365" y="4133"/>
                    </a:lnTo>
                    <a:lnTo>
                      <a:pt x="339" y="4132"/>
                    </a:lnTo>
                    <a:lnTo>
                      <a:pt x="315" y="4131"/>
                    </a:lnTo>
                    <a:lnTo>
                      <a:pt x="290" y="4132"/>
                    </a:lnTo>
                    <a:lnTo>
                      <a:pt x="264" y="4133"/>
                    </a:lnTo>
                    <a:lnTo>
                      <a:pt x="239" y="4134"/>
                    </a:lnTo>
                    <a:lnTo>
                      <a:pt x="214" y="4137"/>
                    </a:lnTo>
                    <a:lnTo>
                      <a:pt x="190" y="4139"/>
                    </a:lnTo>
                    <a:lnTo>
                      <a:pt x="141" y="4146"/>
                    </a:lnTo>
                    <a:lnTo>
                      <a:pt x="93" y="4152"/>
                    </a:lnTo>
                    <a:lnTo>
                      <a:pt x="46" y="4159"/>
                    </a:lnTo>
                    <a:lnTo>
                      <a:pt x="0" y="4163"/>
                    </a:lnTo>
                    <a:lnTo>
                      <a:pt x="46" y="4160"/>
                    </a:lnTo>
                    <a:lnTo>
                      <a:pt x="87" y="4153"/>
                    </a:lnTo>
                    <a:lnTo>
                      <a:pt x="125" y="4145"/>
                    </a:lnTo>
                    <a:lnTo>
                      <a:pt x="159" y="4133"/>
                    </a:lnTo>
                    <a:lnTo>
                      <a:pt x="190" y="4119"/>
                    </a:lnTo>
                    <a:lnTo>
                      <a:pt x="219" y="4103"/>
                    </a:lnTo>
                    <a:lnTo>
                      <a:pt x="244" y="4084"/>
                    </a:lnTo>
                    <a:lnTo>
                      <a:pt x="267" y="4064"/>
                    </a:lnTo>
                    <a:lnTo>
                      <a:pt x="289" y="4042"/>
                    </a:lnTo>
                    <a:lnTo>
                      <a:pt x="307" y="4017"/>
                    </a:lnTo>
                    <a:lnTo>
                      <a:pt x="323" y="3991"/>
                    </a:lnTo>
                    <a:lnTo>
                      <a:pt x="338" y="3963"/>
                    </a:lnTo>
                    <a:lnTo>
                      <a:pt x="351" y="3934"/>
                    </a:lnTo>
                    <a:lnTo>
                      <a:pt x="363" y="3904"/>
                    </a:lnTo>
                    <a:lnTo>
                      <a:pt x="374" y="3871"/>
                    </a:lnTo>
                    <a:lnTo>
                      <a:pt x="384" y="3838"/>
                    </a:lnTo>
                    <a:lnTo>
                      <a:pt x="392" y="3805"/>
                    </a:lnTo>
                    <a:lnTo>
                      <a:pt x="400" y="3769"/>
                    </a:lnTo>
                    <a:lnTo>
                      <a:pt x="408" y="3732"/>
                    </a:lnTo>
                    <a:lnTo>
                      <a:pt x="415" y="3695"/>
                    </a:lnTo>
                    <a:lnTo>
                      <a:pt x="429" y="3620"/>
                    </a:lnTo>
                    <a:lnTo>
                      <a:pt x="445" y="3543"/>
                    </a:lnTo>
                    <a:lnTo>
                      <a:pt x="453" y="3503"/>
                    </a:lnTo>
                    <a:lnTo>
                      <a:pt x="463" y="3464"/>
                    </a:lnTo>
                    <a:lnTo>
                      <a:pt x="473" y="3425"/>
                    </a:lnTo>
                    <a:lnTo>
                      <a:pt x="484" y="3387"/>
                    </a:lnTo>
                    <a:lnTo>
                      <a:pt x="497" y="3348"/>
                    </a:lnTo>
                    <a:lnTo>
                      <a:pt x="512" y="3309"/>
                    </a:lnTo>
                    <a:lnTo>
                      <a:pt x="529" y="3271"/>
                    </a:lnTo>
                    <a:lnTo>
                      <a:pt x="547" y="3234"/>
                    </a:lnTo>
                    <a:lnTo>
                      <a:pt x="558" y="3209"/>
                    </a:lnTo>
                    <a:lnTo>
                      <a:pt x="567" y="3185"/>
                    </a:lnTo>
                    <a:lnTo>
                      <a:pt x="575" y="3160"/>
                    </a:lnTo>
                    <a:lnTo>
                      <a:pt x="581" y="3135"/>
                    </a:lnTo>
                    <a:lnTo>
                      <a:pt x="585" y="3110"/>
                    </a:lnTo>
                    <a:lnTo>
                      <a:pt x="587" y="3085"/>
                    </a:lnTo>
                    <a:lnTo>
                      <a:pt x="588" y="3060"/>
                    </a:lnTo>
                    <a:lnTo>
                      <a:pt x="586" y="3037"/>
                    </a:lnTo>
                    <a:lnTo>
                      <a:pt x="584" y="3013"/>
                    </a:lnTo>
                    <a:lnTo>
                      <a:pt x="579" y="2989"/>
                    </a:lnTo>
                    <a:lnTo>
                      <a:pt x="573" y="2968"/>
                    </a:lnTo>
                    <a:lnTo>
                      <a:pt x="565" y="2946"/>
                    </a:lnTo>
                    <a:lnTo>
                      <a:pt x="557" y="2925"/>
                    </a:lnTo>
                    <a:lnTo>
                      <a:pt x="546" y="2906"/>
                    </a:lnTo>
                    <a:lnTo>
                      <a:pt x="535" y="2888"/>
                    </a:lnTo>
                    <a:lnTo>
                      <a:pt x="522" y="2870"/>
                    </a:lnTo>
                    <a:lnTo>
                      <a:pt x="519" y="2865"/>
                    </a:lnTo>
                    <a:lnTo>
                      <a:pt x="517" y="2860"/>
                    </a:lnTo>
                    <a:lnTo>
                      <a:pt x="517" y="2854"/>
                    </a:lnTo>
                    <a:lnTo>
                      <a:pt x="518" y="2849"/>
                    </a:lnTo>
                    <a:lnTo>
                      <a:pt x="523" y="2839"/>
                    </a:lnTo>
                    <a:lnTo>
                      <a:pt x="530" y="2829"/>
                    </a:lnTo>
                    <a:lnTo>
                      <a:pt x="537" y="2818"/>
                    </a:lnTo>
                    <a:lnTo>
                      <a:pt x="543" y="2808"/>
                    </a:lnTo>
                    <a:lnTo>
                      <a:pt x="545" y="2802"/>
                    </a:lnTo>
                    <a:lnTo>
                      <a:pt x="545" y="2796"/>
                    </a:lnTo>
                    <a:lnTo>
                      <a:pt x="544" y="2790"/>
                    </a:lnTo>
                    <a:lnTo>
                      <a:pt x="542" y="2784"/>
                    </a:lnTo>
                    <a:lnTo>
                      <a:pt x="551" y="2780"/>
                    </a:lnTo>
                    <a:lnTo>
                      <a:pt x="560" y="2775"/>
                    </a:lnTo>
                    <a:lnTo>
                      <a:pt x="567" y="2770"/>
                    </a:lnTo>
                    <a:lnTo>
                      <a:pt x="576" y="2764"/>
                    </a:lnTo>
                    <a:lnTo>
                      <a:pt x="590" y="2753"/>
                    </a:lnTo>
                    <a:lnTo>
                      <a:pt x="603" y="2740"/>
                    </a:lnTo>
                    <a:lnTo>
                      <a:pt x="614" y="2726"/>
                    </a:lnTo>
                    <a:lnTo>
                      <a:pt x="625" y="2712"/>
                    </a:lnTo>
                    <a:lnTo>
                      <a:pt x="634" y="2696"/>
                    </a:lnTo>
                    <a:lnTo>
                      <a:pt x="644" y="2680"/>
                    </a:lnTo>
                    <a:lnTo>
                      <a:pt x="661" y="2648"/>
                    </a:lnTo>
                    <a:lnTo>
                      <a:pt x="680" y="2617"/>
                    </a:lnTo>
                    <a:lnTo>
                      <a:pt x="691" y="2600"/>
                    </a:lnTo>
                    <a:lnTo>
                      <a:pt x="701" y="2585"/>
                    </a:lnTo>
                    <a:lnTo>
                      <a:pt x="713" y="2570"/>
                    </a:lnTo>
                    <a:lnTo>
                      <a:pt x="727" y="2556"/>
                    </a:lnTo>
                    <a:lnTo>
                      <a:pt x="733" y="2552"/>
                    </a:lnTo>
                    <a:lnTo>
                      <a:pt x="736" y="2546"/>
                    </a:lnTo>
                    <a:lnTo>
                      <a:pt x="739" y="2541"/>
                    </a:lnTo>
                    <a:lnTo>
                      <a:pt x="742" y="2536"/>
                    </a:lnTo>
                    <a:lnTo>
                      <a:pt x="744" y="2530"/>
                    </a:lnTo>
                    <a:lnTo>
                      <a:pt x="745" y="2526"/>
                    </a:lnTo>
                    <a:lnTo>
                      <a:pt x="746" y="2520"/>
                    </a:lnTo>
                    <a:lnTo>
                      <a:pt x="746" y="2515"/>
                    </a:lnTo>
                    <a:lnTo>
                      <a:pt x="744" y="2504"/>
                    </a:lnTo>
                    <a:lnTo>
                      <a:pt x="740" y="2493"/>
                    </a:lnTo>
                    <a:lnTo>
                      <a:pt x="735" y="2483"/>
                    </a:lnTo>
                    <a:lnTo>
                      <a:pt x="729" y="2472"/>
                    </a:lnTo>
                    <a:lnTo>
                      <a:pt x="715" y="2449"/>
                    </a:lnTo>
                    <a:lnTo>
                      <a:pt x="705" y="2426"/>
                    </a:lnTo>
                    <a:lnTo>
                      <a:pt x="699" y="2416"/>
                    </a:lnTo>
                    <a:lnTo>
                      <a:pt x="697" y="2404"/>
                    </a:lnTo>
                    <a:lnTo>
                      <a:pt x="696" y="2398"/>
                    </a:lnTo>
                    <a:lnTo>
                      <a:pt x="696" y="2393"/>
                    </a:lnTo>
                    <a:lnTo>
                      <a:pt x="696" y="2386"/>
                    </a:lnTo>
                    <a:lnTo>
                      <a:pt x="697" y="2381"/>
                    </a:lnTo>
                    <a:lnTo>
                      <a:pt x="704" y="2356"/>
                    </a:lnTo>
                    <a:lnTo>
                      <a:pt x="711" y="2330"/>
                    </a:lnTo>
                    <a:lnTo>
                      <a:pt x="720" y="2304"/>
                    </a:lnTo>
                    <a:lnTo>
                      <a:pt x="728" y="2276"/>
                    </a:lnTo>
                    <a:lnTo>
                      <a:pt x="738" y="2248"/>
                    </a:lnTo>
                    <a:lnTo>
                      <a:pt x="747" y="2220"/>
                    </a:lnTo>
                    <a:lnTo>
                      <a:pt x="755" y="2192"/>
                    </a:lnTo>
                    <a:lnTo>
                      <a:pt x="762" y="2164"/>
                    </a:lnTo>
                    <a:lnTo>
                      <a:pt x="764" y="2150"/>
                    </a:lnTo>
                    <a:lnTo>
                      <a:pt x="766" y="2137"/>
                    </a:lnTo>
                    <a:lnTo>
                      <a:pt x="767" y="2124"/>
                    </a:lnTo>
                    <a:lnTo>
                      <a:pt x="767" y="2111"/>
                    </a:lnTo>
                    <a:lnTo>
                      <a:pt x="767" y="2098"/>
                    </a:lnTo>
                    <a:lnTo>
                      <a:pt x="766" y="2086"/>
                    </a:lnTo>
                    <a:lnTo>
                      <a:pt x="764" y="2074"/>
                    </a:lnTo>
                    <a:lnTo>
                      <a:pt x="761" y="2062"/>
                    </a:lnTo>
                    <a:lnTo>
                      <a:pt x="756" y="2052"/>
                    </a:lnTo>
                    <a:lnTo>
                      <a:pt x="751" y="2042"/>
                    </a:lnTo>
                    <a:lnTo>
                      <a:pt x="744" y="2032"/>
                    </a:lnTo>
                    <a:lnTo>
                      <a:pt x="736" y="2023"/>
                    </a:lnTo>
                    <a:lnTo>
                      <a:pt x="726" y="2014"/>
                    </a:lnTo>
                    <a:lnTo>
                      <a:pt x="717" y="2006"/>
                    </a:lnTo>
                    <a:lnTo>
                      <a:pt x="704" y="2000"/>
                    </a:lnTo>
                    <a:lnTo>
                      <a:pt x="690" y="1993"/>
                    </a:lnTo>
                    <a:lnTo>
                      <a:pt x="659" y="1981"/>
                    </a:lnTo>
                    <a:lnTo>
                      <a:pt x="630" y="1972"/>
                    </a:lnTo>
                    <a:lnTo>
                      <a:pt x="616" y="1967"/>
                    </a:lnTo>
                    <a:lnTo>
                      <a:pt x="602" y="1962"/>
                    </a:lnTo>
                    <a:lnTo>
                      <a:pt x="590" y="1957"/>
                    </a:lnTo>
                    <a:lnTo>
                      <a:pt x="579" y="1951"/>
                    </a:lnTo>
                    <a:lnTo>
                      <a:pt x="570" y="1946"/>
                    </a:lnTo>
                    <a:lnTo>
                      <a:pt x="562" y="1938"/>
                    </a:lnTo>
                    <a:lnTo>
                      <a:pt x="560" y="1935"/>
                    </a:lnTo>
                    <a:lnTo>
                      <a:pt x="558" y="1931"/>
                    </a:lnTo>
                    <a:lnTo>
                      <a:pt x="556" y="1927"/>
                    </a:lnTo>
                    <a:lnTo>
                      <a:pt x="554" y="1923"/>
                    </a:lnTo>
                    <a:lnTo>
                      <a:pt x="554" y="1918"/>
                    </a:lnTo>
                    <a:lnTo>
                      <a:pt x="554" y="1913"/>
                    </a:lnTo>
                    <a:lnTo>
                      <a:pt x="556" y="1908"/>
                    </a:lnTo>
                    <a:lnTo>
                      <a:pt x="558" y="1903"/>
                    </a:lnTo>
                    <a:lnTo>
                      <a:pt x="561" y="1896"/>
                    </a:lnTo>
                    <a:lnTo>
                      <a:pt x="564" y="1891"/>
                    </a:lnTo>
                    <a:lnTo>
                      <a:pt x="569" y="1883"/>
                    </a:lnTo>
                    <a:lnTo>
                      <a:pt x="574" y="1877"/>
                    </a:lnTo>
                    <a:lnTo>
                      <a:pt x="587" y="1861"/>
                    </a:lnTo>
                    <a:lnTo>
                      <a:pt x="601" y="1845"/>
                    </a:lnTo>
                    <a:lnTo>
                      <a:pt x="616" y="1831"/>
                    </a:lnTo>
                    <a:lnTo>
                      <a:pt x="631" y="1816"/>
                    </a:lnTo>
                    <a:lnTo>
                      <a:pt x="662" y="1789"/>
                    </a:lnTo>
                    <a:lnTo>
                      <a:pt x="695" y="1761"/>
                    </a:lnTo>
                    <a:lnTo>
                      <a:pt x="727" y="1733"/>
                    </a:lnTo>
                    <a:lnTo>
                      <a:pt x="759" y="1703"/>
                    </a:lnTo>
                    <a:lnTo>
                      <a:pt x="774" y="1687"/>
                    </a:lnTo>
                    <a:lnTo>
                      <a:pt x="789" y="1670"/>
                    </a:lnTo>
                    <a:lnTo>
                      <a:pt x="803" y="1653"/>
                    </a:lnTo>
                    <a:lnTo>
                      <a:pt x="816" y="1635"/>
                    </a:lnTo>
                    <a:lnTo>
                      <a:pt x="821" y="1626"/>
                    </a:lnTo>
                    <a:lnTo>
                      <a:pt x="825" y="1615"/>
                    </a:lnTo>
                    <a:lnTo>
                      <a:pt x="827" y="1605"/>
                    </a:lnTo>
                    <a:lnTo>
                      <a:pt x="828" y="1593"/>
                    </a:lnTo>
                    <a:lnTo>
                      <a:pt x="827" y="1581"/>
                    </a:lnTo>
                    <a:lnTo>
                      <a:pt x="825" y="1570"/>
                    </a:lnTo>
                    <a:lnTo>
                      <a:pt x="821" y="1560"/>
                    </a:lnTo>
                    <a:lnTo>
                      <a:pt x="816" y="1553"/>
                    </a:lnTo>
                    <a:lnTo>
                      <a:pt x="807" y="1542"/>
                    </a:lnTo>
                    <a:lnTo>
                      <a:pt x="799" y="1531"/>
                    </a:lnTo>
                    <a:lnTo>
                      <a:pt x="792" y="1520"/>
                    </a:lnTo>
                    <a:lnTo>
                      <a:pt x="786" y="1508"/>
                    </a:lnTo>
                    <a:lnTo>
                      <a:pt x="781" y="1498"/>
                    </a:lnTo>
                    <a:lnTo>
                      <a:pt x="778" y="1487"/>
                    </a:lnTo>
                    <a:lnTo>
                      <a:pt x="775" y="1476"/>
                    </a:lnTo>
                    <a:lnTo>
                      <a:pt x="774" y="1465"/>
                    </a:lnTo>
                    <a:lnTo>
                      <a:pt x="773" y="1454"/>
                    </a:lnTo>
                    <a:lnTo>
                      <a:pt x="773" y="1444"/>
                    </a:lnTo>
                    <a:lnTo>
                      <a:pt x="774" y="1433"/>
                    </a:lnTo>
                    <a:lnTo>
                      <a:pt x="775" y="1422"/>
                    </a:lnTo>
                    <a:lnTo>
                      <a:pt x="777" y="1411"/>
                    </a:lnTo>
                    <a:lnTo>
                      <a:pt x="780" y="1402"/>
                    </a:lnTo>
                    <a:lnTo>
                      <a:pt x="783" y="1391"/>
                    </a:lnTo>
                    <a:lnTo>
                      <a:pt x="788" y="1380"/>
                    </a:lnTo>
                    <a:lnTo>
                      <a:pt x="796" y="1358"/>
                    </a:lnTo>
                    <a:lnTo>
                      <a:pt x="807" y="1337"/>
                    </a:lnTo>
                    <a:lnTo>
                      <a:pt x="818" y="1315"/>
                    </a:lnTo>
                    <a:lnTo>
                      <a:pt x="830" y="1294"/>
                    </a:lnTo>
                    <a:lnTo>
                      <a:pt x="843" y="1271"/>
                    </a:lnTo>
                    <a:lnTo>
                      <a:pt x="855" y="1249"/>
                    </a:lnTo>
                    <a:lnTo>
                      <a:pt x="866" y="1227"/>
                    </a:lnTo>
                    <a:lnTo>
                      <a:pt x="875" y="1204"/>
                    </a:lnTo>
                    <a:lnTo>
                      <a:pt x="863" y="1202"/>
                    </a:lnTo>
                    <a:lnTo>
                      <a:pt x="850" y="1198"/>
                    </a:lnTo>
                    <a:lnTo>
                      <a:pt x="839" y="1193"/>
                    </a:lnTo>
                    <a:lnTo>
                      <a:pt x="826" y="1187"/>
                    </a:lnTo>
                    <a:lnTo>
                      <a:pt x="813" y="1179"/>
                    </a:lnTo>
                    <a:lnTo>
                      <a:pt x="801" y="1170"/>
                    </a:lnTo>
                    <a:lnTo>
                      <a:pt x="789" y="1162"/>
                    </a:lnTo>
                    <a:lnTo>
                      <a:pt x="777" y="1152"/>
                    </a:lnTo>
                    <a:lnTo>
                      <a:pt x="765" y="1141"/>
                    </a:lnTo>
                    <a:lnTo>
                      <a:pt x="755" y="1130"/>
                    </a:lnTo>
                    <a:lnTo>
                      <a:pt x="745" y="1120"/>
                    </a:lnTo>
                    <a:lnTo>
                      <a:pt x="736" y="1110"/>
                    </a:lnTo>
                    <a:lnTo>
                      <a:pt x="727" y="1099"/>
                    </a:lnTo>
                    <a:lnTo>
                      <a:pt x="721" y="1089"/>
                    </a:lnTo>
                    <a:lnTo>
                      <a:pt x="714" y="1080"/>
                    </a:lnTo>
                    <a:lnTo>
                      <a:pt x="710" y="1071"/>
                    </a:lnTo>
                    <a:lnTo>
                      <a:pt x="701" y="1051"/>
                    </a:lnTo>
                    <a:lnTo>
                      <a:pt x="696" y="1031"/>
                    </a:lnTo>
                    <a:lnTo>
                      <a:pt x="693" y="1012"/>
                    </a:lnTo>
                    <a:lnTo>
                      <a:pt x="693" y="993"/>
                    </a:lnTo>
                    <a:lnTo>
                      <a:pt x="695" y="976"/>
                    </a:lnTo>
                    <a:lnTo>
                      <a:pt x="699" y="960"/>
                    </a:lnTo>
                    <a:lnTo>
                      <a:pt x="705" y="944"/>
                    </a:lnTo>
                    <a:lnTo>
                      <a:pt x="713" y="927"/>
                    </a:lnTo>
                    <a:lnTo>
                      <a:pt x="722" y="912"/>
                    </a:lnTo>
                    <a:lnTo>
                      <a:pt x="733" y="897"/>
                    </a:lnTo>
                    <a:lnTo>
                      <a:pt x="746" y="883"/>
                    </a:lnTo>
                    <a:lnTo>
                      <a:pt x="759" y="869"/>
                    </a:lnTo>
                    <a:lnTo>
                      <a:pt x="787" y="841"/>
                    </a:lnTo>
                    <a:lnTo>
                      <a:pt x="817" y="814"/>
                    </a:lnTo>
                    <a:lnTo>
                      <a:pt x="847" y="788"/>
                    </a:lnTo>
                    <a:lnTo>
                      <a:pt x="877" y="762"/>
                    </a:lnTo>
                    <a:lnTo>
                      <a:pt x="890" y="749"/>
                    </a:lnTo>
                    <a:lnTo>
                      <a:pt x="903" y="735"/>
                    </a:lnTo>
                    <a:lnTo>
                      <a:pt x="915" y="722"/>
                    </a:lnTo>
                    <a:lnTo>
                      <a:pt x="926" y="708"/>
                    </a:lnTo>
                    <a:lnTo>
                      <a:pt x="936" y="694"/>
                    </a:lnTo>
                    <a:lnTo>
                      <a:pt x="943" y="680"/>
                    </a:lnTo>
                    <a:lnTo>
                      <a:pt x="949" y="665"/>
                    </a:lnTo>
                    <a:lnTo>
                      <a:pt x="953" y="650"/>
                    </a:lnTo>
                    <a:lnTo>
                      <a:pt x="954" y="634"/>
                    </a:lnTo>
                    <a:lnTo>
                      <a:pt x="954" y="617"/>
                    </a:lnTo>
                    <a:lnTo>
                      <a:pt x="951" y="601"/>
                    </a:lnTo>
                    <a:lnTo>
                      <a:pt x="944" y="584"/>
                    </a:lnTo>
                    <a:lnTo>
                      <a:pt x="939" y="573"/>
                    </a:lnTo>
                    <a:lnTo>
                      <a:pt x="930" y="561"/>
                    </a:lnTo>
                    <a:lnTo>
                      <a:pt x="921" y="550"/>
                    </a:lnTo>
                    <a:lnTo>
                      <a:pt x="911" y="540"/>
                    </a:lnTo>
                    <a:lnTo>
                      <a:pt x="889" y="517"/>
                    </a:lnTo>
                    <a:lnTo>
                      <a:pt x="869" y="493"/>
                    </a:lnTo>
                    <a:lnTo>
                      <a:pt x="861" y="481"/>
                    </a:lnTo>
                    <a:lnTo>
                      <a:pt x="855" y="469"/>
                    </a:lnTo>
                    <a:lnTo>
                      <a:pt x="852" y="463"/>
                    </a:lnTo>
                    <a:lnTo>
                      <a:pt x="849" y="457"/>
                    </a:lnTo>
                    <a:lnTo>
                      <a:pt x="848" y="450"/>
                    </a:lnTo>
                    <a:lnTo>
                      <a:pt x="848" y="444"/>
                    </a:lnTo>
                    <a:lnTo>
                      <a:pt x="848" y="436"/>
                    </a:lnTo>
                    <a:lnTo>
                      <a:pt x="849" y="430"/>
                    </a:lnTo>
                    <a:lnTo>
                      <a:pt x="852" y="423"/>
                    </a:lnTo>
                    <a:lnTo>
                      <a:pt x="854" y="415"/>
                    </a:lnTo>
                    <a:lnTo>
                      <a:pt x="858" y="409"/>
                    </a:lnTo>
                    <a:lnTo>
                      <a:pt x="862" y="401"/>
                    </a:lnTo>
                    <a:lnTo>
                      <a:pt x="869" y="394"/>
                    </a:lnTo>
                    <a:lnTo>
                      <a:pt x="875" y="386"/>
                    </a:lnTo>
                    <a:lnTo>
                      <a:pt x="899" y="363"/>
                    </a:lnTo>
                    <a:lnTo>
                      <a:pt x="917" y="340"/>
                    </a:lnTo>
                    <a:lnTo>
                      <a:pt x="933" y="319"/>
                    </a:lnTo>
                    <a:lnTo>
                      <a:pt x="946" y="301"/>
                    </a:lnTo>
                    <a:lnTo>
                      <a:pt x="965" y="268"/>
                    </a:lnTo>
                    <a:lnTo>
                      <a:pt x="982" y="238"/>
                    </a:lnTo>
                    <a:lnTo>
                      <a:pt x="992" y="226"/>
                    </a:lnTo>
                    <a:lnTo>
                      <a:pt x="1003" y="215"/>
                    </a:lnTo>
                    <a:lnTo>
                      <a:pt x="1009" y="209"/>
                    </a:lnTo>
                    <a:lnTo>
                      <a:pt x="1016" y="204"/>
                    </a:lnTo>
                    <a:lnTo>
                      <a:pt x="1023" y="198"/>
                    </a:lnTo>
                    <a:lnTo>
                      <a:pt x="1032" y="193"/>
                    </a:lnTo>
                    <a:lnTo>
                      <a:pt x="1052" y="183"/>
                    </a:lnTo>
                    <a:lnTo>
                      <a:pt x="1077" y="175"/>
                    </a:lnTo>
                    <a:lnTo>
                      <a:pt x="1106" y="165"/>
                    </a:lnTo>
                    <a:lnTo>
                      <a:pt x="1142" y="156"/>
                    </a:lnTo>
                    <a:lnTo>
                      <a:pt x="1155" y="153"/>
                    </a:lnTo>
                    <a:lnTo>
                      <a:pt x="1168" y="149"/>
                    </a:lnTo>
                    <a:lnTo>
                      <a:pt x="1180" y="143"/>
                    </a:lnTo>
                    <a:lnTo>
                      <a:pt x="1192" y="137"/>
                    </a:lnTo>
                    <a:lnTo>
                      <a:pt x="1215" y="123"/>
                    </a:lnTo>
                    <a:lnTo>
                      <a:pt x="1235" y="108"/>
                    </a:lnTo>
                    <a:lnTo>
                      <a:pt x="1257" y="93"/>
                    </a:lnTo>
                    <a:lnTo>
                      <a:pt x="1278" y="79"/>
                    </a:lnTo>
                    <a:lnTo>
                      <a:pt x="1289" y="72"/>
                    </a:lnTo>
                    <a:lnTo>
                      <a:pt x="1300" y="66"/>
                    </a:lnTo>
                    <a:lnTo>
                      <a:pt x="1311" y="61"/>
                    </a:lnTo>
                    <a:lnTo>
                      <a:pt x="1323" y="57"/>
                    </a:lnTo>
                    <a:lnTo>
                      <a:pt x="1337" y="54"/>
                    </a:lnTo>
                    <a:lnTo>
                      <a:pt x="1351" y="49"/>
                    </a:lnTo>
                    <a:lnTo>
                      <a:pt x="1364" y="44"/>
                    </a:lnTo>
                    <a:lnTo>
                      <a:pt x="1378" y="39"/>
                    </a:lnTo>
                    <a:lnTo>
                      <a:pt x="1404" y="27"/>
                    </a:lnTo>
                    <a:lnTo>
                      <a:pt x="1431" y="16"/>
                    </a:lnTo>
                    <a:lnTo>
                      <a:pt x="1444" y="10"/>
                    </a:lnTo>
                    <a:lnTo>
                      <a:pt x="1458" y="6"/>
                    </a:lnTo>
                    <a:lnTo>
                      <a:pt x="1471" y="3"/>
                    </a:lnTo>
                    <a:lnTo>
                      <a:pt x="1485" y="1"/>
                    </a:lnTo>
                    <a:lnTo>
                      <a:pt x="1499" y="0"/>
                    </a:lnTo>
                    <a:lnTo>
                      <a:pt x="1513" y="0"/>
                    </a:lnTo>
                    <a:lnTo>
                      <a:pt x="1528" y="2"/>
                    </a:lnTo>
                    <a:lnTo>
                      <a:pt x="1543" y="5"/>
                    </a:lnTo>
                    <a:lnTo>
                      <a:pt x="1575" y="16"/>
                    </a:lnTo>
                    <a:lnTo>
                      <a:pt x="1608" y="27"/>
                    </a:lnTo>
                    <a:lnTo>
                      <a:pt x="1640" y="37"/>
                    </a:lnTo>
                    <a:lnTo>
                      <a:pt x="1671" y="49"/>
                    </a:lnTo>
                    <a:lnTo>
                      <a:pt x="1703" y="62"/>
                    </a:lnTo>
                    <a:lnTo>
                      <a:pt x="1734" y="75"/>
                    </a:lnTo>
                    <a:lnTo>
                      <a:pt x="1764" y="89"/>
                    </a:lnTo>
                    <a:lnTo>
                      <a:pt x="1795" y="103"/>
                    </a:lnTo>
                    <a:lnTo>
                      <a:pt x="1825" y="117"/>
                    </a:lnTo>
                    <a:lnTo>
                      <a:pt x="1854" y="133"/>
                    </a:lnTo>
                    <a:lnTo>
                      <a:pt x="1884" y="148"/>
                    </a:lnTo>
                    <a:lnTo>
                      <a:pt x="1912" y="164"/>
                    </a:lnTo>
                    <a:lnTo>
                      <a:pt x="1942" y="181"/>
                    </a:lnTo>
                    <a:lnTo>
                      <a:pt x="1970" y="197"/>
                    </a:lnTo>
                    <a:lnTo>
                      <a:pt x="1998" y="216"/>
                    </a:lnTo>
                    <a:lnTo>
                      <a:pt x="2025" y="233"/>
                    </a:lnTo>
                    <a:lnTo>
                      <a:pt x="2053" y="251"/>
                    </a:lnTo>
                    <a:lnTo>
                      <a:pt x="2079" y="271"/>
                    </a:lnTo>
                    <a:lnTo>
                      <a:pt x="2106" y="290"/>
                    </a:lnTo>
                    <a:lnTo>
                      <a:pt x="2132" y="310"/>
                    </a:lnTo>
                    <a:lnTo>
                      <a:pt x="2158" y="330"/>
                    </a:lnTo>
                    <a:lnTo>
                      <a:pt x="2182" y="351"/>
                    </a:lnTo>
                    <a:lnTo>
                      <a:pt x="2207" y="372"/>
                    </a:lnTo>
                    <a:lnTo>
                      <a:pt x="2231" y="394"/>
                    </a:lnTo>
                    <a:lnTo>
                      <a:pt x="2256" y="415"/>
                    </a:lnTo>
                    <a:lnTo>
                      <a:pt x="2279" y="438"/>
                    </a:lnTo>
                    <a:lnTo>
                      <a:pt x="2302" y="461"/>
                    </a:lnTo>
                    <a:lnTo>
                      <a:pt x="2325" y="485"/>
                    </a:lnTo>
                    <a:lnTo>
                      <a:pt x="2347" y="508"/>
                    </a:lnTo>
                    <a:lnTo>
                      <a:pt x="2368" y="532"/>
                    </a:lnTo>
                    <a:lnTo>
                      <a:pt x="2390" y="557"/>
                    </a:lnTo>
                    <a:lnTo>
                      <a:pt x="2410" y="582"/>
                    </a:lnTo>
                    <a:lnTo>
                      <a:pt x="2334" y="592"/>
                    </a:lnTo>
                    <a:lnTo>
                      <a:pt x="2248" y="601"/>
                    </a:lnTo>
                    <a:lnTo>
                      <a:pt x="2203" y="608"/>
                    </a:lnTo>
                    <a:lnTo>
                      <a:pt x="2159" y="614"/>
                    </a:lnTo>
                    <a:lnTo>
                      <a:pt x="2113" y="622"/>
                    </a:lnTo>
                    <a:lnTo>
                      <a:pt x="2070" y="630"/>
                    </a:lnTo>
                    <a:lnTo>
                      <a:pt x="2050" y="635"/>
                    </a:lnTo>
                    <a:lnTo>
                      <a:pt x="2029" y="640"/>
                    </a:lnTo>
                    <a:lnTo>
                      <a:pt x="2009" y="647"/>
                    </a:lnTo>
                    <a:lnTo>
                      <a:pt x="1989" y="652"/>
                    </a:lnTo>
                    <a:lnTo>
                      <a:pt x="1971" y="660"/>
                    </a:lnTo>
                    <a:lnTo>
                      <a:pt x="1953" y="666"/>
                    </a:lnTo>
                    <a:lnTo>
                      <a:pt x="1937" y="674"/>
                    </a:lnTo>
                    <a:lnTo>
                      <a:pt x="1921" y="682"/>
                    </a:lnTo>
                    <a:lnTo>
                      <a:pt x="1907" y="691"/>
                    </a:lnTo>
                    <a:lnTo>
                      <a:pt x="1894" y="701"/>
                    </a:lnTo>
                    <a:lnTo>
                      <a:pt x="1882" y="710"/>
                    </a:lnTo>
                    <a:lnTo>
                      <a:pt x="1871" y="721"/>
                    </a:lnTo>
                    <a:lnTo>
                      <a:pt x="1862" y="733"/>
                    </a:lnTo>
                    <a:lnTo>
                      <a:pt x="1855" y="745"/>
                    </a:lnTo>
                    <a:lnTo>
                      <a:pt x="1849" y="758"/>
                    </a:lnTo>
                    <a:lnTo>
                      <a:pt x="1844" y="772"/>
                    </a:lnTo>
                    <a:lnTo>
                      <a:pt x="1843" y="783"/>
                    </a:lnTo>
                    <a:lnTo>
                      <a:pt x="1842" y="793"/>
                    </a:lnTo>
                    <a:lnTo>
                      <a:pt x="1842" y="803"/>
                    </a:lnTo>
                    <a:lnTo>
                      <a:pt x="1843" y="814"/>
                    </a:lnTo>
                    <a:lnTo>
                      <a:pt x="1845" y="825"/>
                    </a:lnTo>
                    <a:lnTo>
                      <a:pt x="1849" y="836"/>
                    </a:lnTo>
                    <a:lnTo>
                      <a:pt x="1852" y="845"/>
                    </a:lnTo>
                    <a:lnTo>
                      <a:pt x="1857" y="856"/>
                    </a:lnTo>
                    <a:lnTo>
                      <a:pt x="1862" y="867"/>
                    </a:lnTo>
                    <a:lnTo>
                      <a:pt x="1868" y="877"/>
                    </a:lnTo>
                    <a:lnTo>
                      <a:pt x="1875" y="887"/>
                    </a:lnTo>
                    <a:lnTo>
                      <a:pt x="1882" y="897"/>
                    </a:lnTo>
                    <a:lnTo>
                      <a:pt x="1898" y="918"/>
                    </a:lnTo>
                    <a:lnTo>
                      <a:pt x="1916" y="938"/>
                    </a:lnTo>
                    <a:lnTo>
                      <a:pt x="1936" y="958"/>
                    </a:lnTo>
                    <a:lnTo>
                      <a:pt x="1957" y="977"/>
                    </a:lnTo>
                    <a:lnTo>
                      <a:pt x="1978" y="995"/>
                    </a:lnTo>
                    <a:lnTo>
                      <a:pt x="2001" y="1014"/>
                    </a:lnTo>
                    <a:lnTo>
                      <a:pt x="2046" y="1049"/>
                    </a:lnTo>
                    <a:lnTo>
                      <a:pt x="2090" y="1083"/>
                    </a:lnTo>
                    <a:close/>
                  </a:path>
                </a:pathLst>
              </a:custGeom>
              <a:solidFill>
                <a:srgbClr val="577e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5300640" y="3730680"/>
                <a:ext cx="765000" cy="1343160"/>
              </a:xfrm>
              <a:custGeom>
                <a:avLst/>
                <a:gdLst/>
                <a:ahLst/>
                <a:rect l="l" t="t" r="r" b="b"/>
                <a:pathLst>
                  <a:path w="2410" h="4230">
                    <a:moveTo>
                      <a:pt x="2032" y="1086"/>
                    </a:moveTo>
                    <a:lnTo>
                      <a:pt x="2012" y="1098"/>
                    </a:lnTo>
                    <a:lnTo>
                      <a:pt x="1993" y="1111"/>
                    </a:lnTo>
                    <a:lnTo>
                      <a:pt x="1977" y="1123"/>
                    </a:lnTo>
                    <a:lnTo>
                      <a:pt x="1963" y="1136"/>
                    </a:lnTo>
                    <a:lnTo>
                      <a:pt x="1950" y="1149"/>
                    </a:lnTo>
                    <a:lnTo>
                      <a:pt x="1938" y="1162"/>
                    </a:lnTo>
                    <a:lnTo>
                      <a:pt x="1929" y="1176"/>
                    </a:lnTo>
                    <a:lnTo>
                      <a:pt x="1921" y="1189"/>
                    </a:lnTo>
                    <a:lnTo>
                      <a:pt x="1913" y="1204"/>
                    </a:lnTo>
                    <a:lnTo>
                      <a:pt x="1909" y="1219"/>
                    </a:lnTo>
                    <a:lnTo>
                      <a:pt x="1905" y="1235"/>
                    </a:lnTo>
                    <a:lnTo>
                      <a:pt x="1902" y="1251"/>
                    </a:lnTo>
                    <a:lnTo>
                      <a:pt x="1900" y="1269"/>
                    </a:lnTo>
                    <a:lnTo>
                      <a:pt x="1899" y="1288"/>
                    </a:lnTo>
                    <a:lnTo>
                      <a:pt x="1900" y="1308"/>
                    </a:lnTo>
                    <a:lnTo>
                      <a:pt x="1902" y="1328"/>
                    </a:lnTo>
                    <a:lnTo>
                      <a:pt x="1904" y="1344"/>
                    </a:lnTo>
                    <a:lnTo>
                      <a:pt x="1909" y="1363"/>
                    </a:lnTo>
                    <a:lnTo>
                      <a:pt x="1916" y="1381"/>
                    </a:lnTo>
                    <a:lnTo>
                      <a:pt x="1924" y="1400"/>
                    </a:lnTo>
                    <a:lnTo>
                      <a:pt x="1934" y="1421"/>
                    </a:lnTo>
                    <a:lnTo>
                      <a:pt x="1946" y="1441"/>
                    </a:lnTo>
                    <a:lnTo>
                      <a:pt x="1958" y="1462"/>
                    </a:lnTo>
                    <a:lnTo>
                      <a:pt x="1972" y="1483"/>
                    </a:lnTo>
                    <a:lnTo>
                      <a:pt x="1987" y="1503"/>
                    </a:lnTo>
                    <a:lnTo>
                      <a:pt x="2002" y="1524"/>
                    </a:lnTo>
                    <a:lnTo>
                      <a:pt x="2017" y="1543"/>
                    </a:lnTo>
                    <a:lnTo>
                      <a:pt x="2033" y="1562"/>
                    </a:lnTo>
                    <a:lnTo>
                      <a:pt x="2048" y="1580"/>
                    </a:lnTo>
                    <a:lnTo>
                      <a:pt x="2065" y="1596"/>
                    </a:lnTo>
                    <a:lnTo>
                      <a:pt x="2080" y="1611"/>
                    </a:lnTo>
                    <a:lnTo>
                      <a:pt x="2094" y="1625"/>
                    </a:lnTo>
                    <a:lnTo>
                      <a:pt x="2117" y="1643"/>
                    </a:lnTo>
                    <a:lnTo>
                      <a:pt x="2139" y="1660"/>
                    </a:lnTo>
                    <a:lnTo>
                      <a:pt x="2161" y="1674"/>
                    </a:lnTo>
                    <a:lnTo>
                      <a:pt x="2181" y="1687"/>
                    </a:lnTo>
                    <a:lnTo>
                      <a:pt x="2219" y="1709"/>
                    </a:lnTo>
                    <a:lnTo>
                      <a:pt x="2253" y="1730"/>
                    </a:lnTo>
                    <a:lnTo>
                      <a:pt x="2267" y="1741"/>
                    </a:lnTo>
                    <a:lnTo>
                      <a:pt x="2279" y="1751"/>
                    </a:lnTo>
                    <a:lnTo>
                      <a:pt x="2284" y="1758"/>
                    </a:lnTo>
                    <a:lnTo>
                      <a:pt x="2289" y="1763"/>
                    </a:lnTo>
                    <a:lnTo>
                      <a:pt x="2294" y="1770"/>
                    </a:lnTo>
                    <a:lnTo>
                      <a:pt x="2297" y="1777"/>
                    </a:lnTo>
                    <a:lnTo>
                      <a:pt x="2300" y="1785"/>
                    </a:lnTo>
                    <a:lnTo>
                      <a:pt x="2302" y="1792"/>
                    </a:lnTo>
                    <a:lnTo>
                      <a:pt x="2305" y="1801"/>
                    </a:lnTo>
                    <a:lnTo>
                      <a:pt x="2307" y="1810"/>
                    </a:lnTo>
                    <a:lnTo>
                      <a:pt x="2307" y="1819"/>
                    </a:lnTo>
                    <a:lnTo>
                      <a:pt x="2307" y="1829"/>
                    </a:lnTo>
                    <a:lnTo>
                      <a:pt x="2306" y="1840"/>
                    </a:lnTo>
                    <a:lnTo>
                      <a:pt x="2305" y="1852"/>
                    </a:lnTo>
                    <a:lnTo>
                      <a:pt x="2302" y="1861"/>
                    </a:lnTo>
                    <a:lnTo>
                      <a:pt x="2300" y="1867"/>
                    </a:lnTo>
                    <a:lnTo>
                      <a:pt x="2297" y="1872"/>
                    </a:lnTo>
                    <a:lnTo>
                      <a:pt x="2293" y="1878"/>
                    </a:lnTo>
                    <a:lnTo>
                      <a:pt x="2287" y="1881"/>
                    </a:lnTo>
                    <a:lnTo>
                      <a:pt x="2281" y="1884"/>
                    </a:lnTo>
                    <a:lnTo>
                      <a:pt x="2274" y="1886"/>
                    </a:lnTo>
                    <a:lnTo>
                      <a:pt x="2268" y="1889"/>
                    </a:lnTo>
                    <a:lnTo>
                      <a:pt x="2252" y="1891"/>
                    </a:lnTo>
                    <a:lnTo>
                      <a:pt x="2234" y="1891"/>
                    </a:lnTo>
                    <a:lnTo>
                      <a:pt x="2215" y="1890"/>
                    </a:lnTo>
                    <a:lnTo>
                      <a:pt x="2193" y="1889"/>
                    </a:lnTo>
                    <a:lnTo>
                      <a:pt x="2172" y="1888"/>
                    </a:lnTo>
                    <a:lnTo>
                      <a:pt x="2149" y="1889"/>
                    </a:lnTo>
                    <a:lnTo>
                      <a:pt x="2138" y="1889"/>
                    </a:lnTo>
                    <a:lnTo>
                      <a:pt x="2126" y="1890"/>
                    </a:lnTo>
                    <a:lnTo>
                      <a:pt x="2114" y="1892"/>
                    </a:lnTo>
                    <a:lnTo>
                      <a:pt x="2104" y="1894"/>
                    </a:lnTo>
                    <a:lnTo>
                      <a:pt x="2092" y="1897"/>
                    </a:lnTo>
                    <a:lnTo>
                      <a:pt x="2081" y="1902"/>
                    </a:lnTo>
                    <a:lnTo>
                      <a:pt x="2069" y="1906"/>
                    </a:lnTo>
                    <a:lnTo>
                      <a:pt x="2058" y="1911"/>
                    </a:lnTo>
                    <a:lnTo>
                      <a:pt x="2047" y="1919"/>
                    </a:lnTo>
                    <a:lnTo>
                      <a:pt x="2038" y="1926"/>
                    </a:lnTo>
                    <a:lnTo>
                      <a:pt x="2027" y="1935"/>
                    </a:lnTo>
                    <a:lnTo>
                      <a:pt x="2018" y="1946"/>
                    </a:lnTo>
                    <a:lnTo>
                      <a:pt x="2034" y="1961"/>
                    </a:lnTo>
                    <a:lnTo>
                      <a:pt x="2052" y="1979"/>
                    </a:lnTo>
                    <a:lnTo>
                      <a:pt x="2069" y="2000"/>
                    </a:lnTo>
                    <a:lnTo>
                      <a:pt x="2085" y="2023"/>
                    </a:lnTo>
                    <a:lnTo>
                      <a:pt x="2101" y="2045"/>
                    </a:lnTo>
                    <a:lnTo>
                      <a:pt x="2115" y="2068"/>
                    </a:lnTo>
                    <a:lnTo>
                      <a:pt x="2130" y="2091"/>
                    </a:lnTo>
                    <a:lnTo>
                      <a:pt x="2141" y="2111"/>
                    </a:lnTo>
                    <a:lnTo>
                      <a:pt x="2145" y="2115"/>
                    </a:lnTo>
                    <a:lnTo>
                      <a:pt x="2149" y="2120"/>
                    </a:lnTo>
                    <a:lnTo>
                      <a:pt x="2153" y="2123"/>
                    </a:lnTo>
                    <a:lnTo>
                      <a:pt x="2160" y="2127"/>
                    </a:lnTo>
                    <a:lnTo>
                      <a:pt x="2172" y="2134"/>
                    </a:lnTo>
                    <a:lnTo>
                      <a:pt x="2185" y="2140"/>
                    </a:lnTo>
                    <a:lnTo>
                      <a:pt x="2194" y="2146"/>
                    </a:lnTo>
                    <a:lnTo>
                      <a:pt x="2202" y="2150"/>
                    </a:lnTo>
                    <a:lnTo>
                      <a:pt x="2203" y="2152"/>
                    </a:lnTo>
                    <a:lnTo>
                      <a:pt x="2202" y="2153"/>
                    </a:lnTo>
                    <a:lnTo>
                      <a:pt x="2200" y="2155"/>
                    </a:lnTo>
                    <a:lnTo>
                      <a:pt x="2195" y="2156"/>
                    </a:lnTo>
                    <a:lnTo>
                      <a:pt x="2171" y="2160"/>
                    </a:lnTo>
                    <a:lnTo>
                      <a:pt x="2145" y="2163"/>
                    </a:lnTo>
                    <a:lnTo>
                      <a:pt x="2119" y="2165"/>
                    </a:lnTo>
                    <a:lnTo>
                      <a:pt x="2092" y="2167"/>
                    </a:lnTo>
                    <a:lnTo>
                      <a:pt x="2066" y="2167"/>
                    </a:lnTo>
                    <a:lnTo>
                      <a:pt x="2039" y="2168"/>
                    </a:lnTo>
                    <a:lnTo>
                      <a:pt x="2014" y="2168"/>
                    </a:lnTo>
                    <a:lnTo>
                      <a:pt x="1988" y="2168"/>
                    </a:lnTo>
                    <a:lnTo>
                      <a:pt x="1991" y="2188"/>
                    </a:lnTo>
                    <a:lnTo>
                      <a:pt x="1996" y="2205"/>
                    </a:lnTo>
                    <a:lnTo>
                      <a:pt x="2002" y="2220"/>
                    </a:lnTo>
                    <a:lnTo>
                      <a:pt x="2009" y="2234"/>
                    </a:lnTo>
                    <a:lnTo>
                      <a:pt x="2017" y="2248"/>
                    </a:lnTo>
                    <a:lnTo>
                      <a:pt x="2027" y="2260"/>
                    </a:lnTo>
                    <a:lnTo>
                      <a:pt x="2038" y="2271"/>
                    </a:lnTo>
                    <a:lnTo>
                      <a:pt x="2050" y="2281"/>
                    </a:lnTo>
                    <a:lnTo>
                      <a:pt x="2061" y="2289"/>
                    </a:lnTo>
                    <a:lnTo>
                      <a:pt x="2074" y="2298"/>
                    </a:lnTo>
                    <a:lnTo>
                      <a:pt x="2087" y="2305"/>
                    </a:lnTo>
                    <a:lnTo>
                      <a:pt x="2100" y="2313"/>
                    </a:lnTo>
                    <a:lnTo>
                      <a:pt x="2127" y="2327"/>
                    </a:lnTo>
                    <a:lnTo>
                      <a:pt x="2154" y="2340"/>
                    </a:lnTo>
                    <a:lnTo>
                      <a:pt x="2179" y="2353"/>
                    </a:lnTo>
                    <a:lnTo>
                      <a:pt x="2202" y="2367"/>
                    </a:lnTo>
                    <a:lnTo>
                      <a:pt x="2213" y="2375"/>
                    </a:lnTo>
                    <a:lnTo>
                      <a:pt x="2221" y="2382"/>
                    </a:lnTo>
                    <a:lnTo>
                      <a:pt x="2230" y="2392"/>
                    </a:lnTo>
                    <a:lnTo>
                      <a:pt x="2236" y="2402"/>
                    </a:lnTo>
                    <a:lnTo>
                      <a:pt x="2242" y="2412"/>
                    </a:lnTo>
                    <a:lnTo>
                      <a:pt x="2245" y="2423"/>
                    </a:lnTo>
                    <a:lnTo>
                      <a:pt x="2247" y="2436"/>
                    </a:lnTo>
                    <a:lnTo>
                      <a:pt x="2247" y="2450"/>
                    </a:lnTo>
                    <a:lnTo>
                      <a:pt x="2246" y="2466"/>
                    </a:lnTo>
                    <a:lnTo>
                      <a:pt x="2242" y="2483"/>
                    </a:lnTo>
                    <a:lnTo>
                      <a:pt x="2236" y="2502"/>
                    </a:lnTo>
                    <a:lnTo>
                      <a:pt x="2228" y="2521"/>
                    </a:lnTo>
                    <a:lnTo>
                      <a:pt x="2221" y="2536"/>
                    </a:lnTo>
                    <a:lnTo>
                      <a:pt x="2215" y="2546"/>
                    </a:lnTo>
                    <a:lnTo>
                      <a:pt x="2208" y="2554"/>
                    </a:lnTo>
                    <a:lnTo>
                      <a:pt x="2201" y="2560"/>
                    </a:lnTo>
                    <a:lnTo>
                      <a:pt x="2194" y="2565"/>
                    </a:lnTo>
                    <a:lnTo>
                      <a:pt x="2187" y="2568"/>
                    </a:lnTo>
                    <a:lnTo>
                      <a:pt x="2180" y="2569"/>
                    </a:lnTo>
                    <a:lnTo>
                      <a:pt x="2173" y="2569"/>
                    </a:lnTo>
                    <a:lnTo>
                      <a:pt x="2157" y="2568"/>
                    </a:lnTo>
                    <a:lnTo>
                      <a:pt x="2139" y="2566"/>
                    </a:lnTo>
                    <a:lnTo>
                      <a:pt x="2131" y="2565"/>
                    </a:lnTo>
                    <a:lnTo>
                      <a:pt x="2121" y="2565"/>
                    </a:lnTo>
                    <a:lnTo>
                      <a:pt x="2112" y="2565"/>
                    </a:lnTo>
                    <a:lnTo>
                      <a:pt x="2101" y="2567"/>
                    </a:lnTo>
                    <a:lnTo>
                      <a:pt x="2096" y="2568"/>
                    </a:lnTo>
                    <a:lnTo>
                      <a:pt x="2092" y="2569"/>
                    </a:lnTo>
                    <a:lnTo>
                      <a:pt x="2088" y="2572"/>
                    </a:lnTo>
                    <a:lnTo>
                      <a:pt x="2086" y="2574"/>
                    </a:lnTo>
                    <a:lnTo>
                      <a:pt x="2084" y="2578"/>
                    </a:lnTo>
                    <a:lnTo>
                      <a:pt x="2083" y="2582"/>
                    </a:lnTo>
                    <a:lnTo>
                      <a:pt x="2082" y="2585"/>
                    </a:lnTo>
                    <a:lnTo>
                      <a:pt x="2082" y="2591"/>
                    </a:lnTo>
                    <a:lnTo>
                      <a:pt x="2083" y="2600"/>
                    </a:lnTo>
                    <a:lnTo>
                      <a:pt x="2086" y="2611"/>
                    </a:lnTo>
                    <a:lnTo>
                      <a:pt x="2091" y="2622"/>
                    </a:lnTo>
                    <a:lnTo>
                      <a:pt x="2096" y="2634"/>
                    </a:lnTo>
                    <a:lnTo>
                      <a:pt x="2107" y="2658"/>
                    </a:lnTo>
                    <a:lnTo>
                      <a:pt x="2115" y="2679"/>
                    </a:lnTo>
                    <a:lnTo>
                      <a:pt x="2117" y="2689"/>
                    </a:lnTo>
                    <a:lnTo>
                      <a:pt x="2117" y="2696"/>
                    </a:lnTo>
                    <a:lnTo>
                      <a:pt x="2117" y="2700"/>
                    </a:lnTo>
                    <a:lnTo>
                      <a:pt x="2114" y="2703"/>
                    </a:lnTo>
                    <a:lnTo>
                      <a:pt x="2112" y="2705"/>
                    </a:lnTo>
                    <a:lnTo>
                      <a:pt x="2109" y="2707"/>
                    </a:lnTo>
                    <a:lnTo>
                      <a:pt x="2088" y="2717"/>
                    </a:lnTo>
                    <a:lnTo>
                      <a:pt x="2069" y="2726"/>
                    </a:lnTo>
                    <a:lnTo>
                      <a:pt x="2048" y="2732"/>
                    </a:lnTo>
                    <a:lnTo>
                      <a:pt x="2028" y="2736"/>
                    </a:lnTo>
                    <a:lnTo>
                      <a:pt x="2017" y="2737"/>
                    </a:lnTo>
                    <a:lnTo>
                      <a:pt x="2007" y="2739"/>
                    </a:lnTo>
                    <a:lnTo>
                      <a:pt x="1996" y="2739"/>
                    </a:lnTo>
                    <a:lnTo>
                      <a:pt x="1985" y="2739"/>
                    </a:lnTo>
                    <a:lnTo>
                      <a:pt x="1961" y="2736"/>
                    </a:lnTo>
                    <a:lnTo>
                      <a:pt x="1936" y="2732"/>
                    </a:lnTo>
                    <a:lnTo>
                      <a:pt x="1939" y="2742"/>
                    </a:lnTo>
                    <a:lnTo>
                      <a:pt x="1943" y="2752"/>
                    </a:lnTo>
                    <a:lnTo>
                      <a:pt x="1944" y="2760"/>
                    </a:lnTo>
                    <a:lnTo>
                      <a:pt x="1946" y="2770"/>
                    </a:lnTo>
                    <a:lnTo>
                      <a:pt x="1947" y="2787"/>
                    </a:lnTo>
                    <a:lnTo>
                      <a:pt x="1947" y="2806"/>
                    </a:lnTo>
                    <a:lnTo>
                      <a:pt x="1943" y="2839"/>
                    </a:lnTo>
                    <a:lnTo>
                      <a:pt x="1938" y="2871"/>
                    </a:lnTo>
                    <a:lnTo>
                      <a:pt x="1936" y="2887"/>
                    </a:lnTo>
                    <a:lnTo>
                      <a:pt x="1935" y="2902"/>
                    </a:lnTo>
                    <a:lnTo>
                      <a:pt x="1935" y="2917"/>
                    </a:lnTo>
                    <a:lnTo>
                      <a:pt x="1937" y="2932"/>
                    </a:lnTo>
                    <a:lnTo>
                      <a:pt x="1939" y="2939"/>
                    </a:lnTo>
                    <a:lnTo>
                      <a:pt x="1942" y="2947"/>
                    </a:lnTo>
                    <a:lnTo>
                      <a:pt x="1945" y="2955"/>
                    </a:lnTo>
                    <a:lnTo>
                      <a:pt x="1949" y="2962"/>
                    </a:lnTo>
                    <a:lnTo>
                      <a:pt x="1953" y="2970"/>
                    </a:lnTo>
                    <a:lnTo>
                      <a:pt x="1960" y="2977"/>
                    </a:lnTo>
                    <a:lnTo>
                      <a:pt x="1965" y="2984"/>
                    </a:lnTo>
                    <a:lnTo>
                      <a:pt x="1973" y="2991"/>
                    </a:lnTo>
                    <a:lnTo>
                      <a:pt x="1966" y="2993"/>
                    </a:lnTo>
                    <a:lnTo>
                      <a:pt x="1961" y="2997"/>
                    </a:lnTo>
                    <a:lnTo>
                      <a:pt x="1956" y="3000"/>
                    </a:lnTo>
                    <a:lnTo>
                      <a:pt x="1952" y="3004"/>
                    </a:lnTo>
                    <a:lnTo>
                      <a:pt x="1950" y="3009"/>
                    </a:lnTo>
                    <a:lnTo>
                      <a:pt x="1948" y="3014"/>
                    </a:lnTo>
                    <a:lnTo>
                      <a:pt x="1947" y="3019"/>
                    </a:lnTo>
                    <a:lnTo>
                      <a:pt x="1947" y="3025"/>
                    </a:lnTo>
                    <a:lnTo>
                      <a:pt x="1949" y="3038"/>
                    </a:lnTo>
                    <a:lnTo>
                      <a:pt x="1952" y="3052"/>
                    </a:lnTo>
                    <a:lnTo>
                      <a:pt x="1959" y="3067"/>
                    </a:lnTo>
                    <a:lnTo>
                      <a:pt x="1965" y="3082"/>
                    </a:lnTo>
                    <a:lnTo>
                      <a:pt x="1982" y="3115"/>
                    </a:lnTo>
                    <a:lnTo>
                      <a:pt x="1997" y="3148"/>
                    </a:lnTo>
                    <a:lnTo>
                      <a:pt x="2002" y="3164"/>
                    </a:lnTo>
                    <a:lnTo>
                      <a:pt x="2006" y="3179"/>
                    </a:lnTo>
                    <a:lnTo>
                      <a:pt x="2007" y="3187"/>
                    </a:lnTo>
                    <a:lnTo>
                      <a:pt x="2009" y="3193"/>
                    </a:lnTo>
                    <a:lnTo>
                      <a:pt x="2009" y="3200"/>
                    </a:lnTo>
                    <a:lnTo>
                      <a:pt x="2007" y="3206"/>
                    </a:lnTo>
                    <a:lnTo>
                      <a:pt x="2009" y="3211"/>
                    </a:lnTo>
                    <a:lnTo>
                      <a:pt x="2012" y="3216"/>
                    </a:lnTo>
                    <a:lnTo>
                      <a:pt x="2017" y="3222"/>
                    </a:lnTo>
                    <a:lnTo>
                      <a:pt x="2025" y="3231"/>
                    </a:lnTo>
                    <a:lnTo>
                      <a:pt x="2044" y="3249"/>
                    </a:lnTo>
                    <a:lnTo>
                      <a:pt x="2067" y="3270"/>
                    </a:lnTo>
                    <a:lnTo>
                      <a:pt x="2091" y="3288"/>
                    </a:lnTo>
                    <a:lnTo>
                      <a:pt x="2113" y="3304"/>
                    </a:lnTo>
                    <a:lnTo>
                      <a:pt x="2123" y="3311"/>
                    </a:lnTo>
                    <a:lnTo>
                      <a:pt x="2132" y="3315"/>
                    </a:lnTo>
                    <a:lnTo>
                      <a:pt x="2138" y="3317"/>
                    </a:lnTo>
                    <a:lnTo>
                      <a:pt x="2144" y="3317"/>
                    </a:lnTo>
                    <a:lnTo>
                      <a:pt x="2117" y="3316"/>
                    </a:lnTo>
                    <a:lnTo>
                      <a:pt x="2077" y="3315"/>
                    </a:lnTo>
                    <a:lnTo>
                      <a:pt x="2029" y="3316"/>
                    </a:lnTo>
                    <a:lnTo>
                      <a:pt x="1977" y="3316"/>
                    </a:lnTo>
                    <a:lnTo>
                      <a:pt x="1925" y="3317"/>
                    </a:lnTo>
                    <a:lnTo>
                      <a:pt x="1878" y="3316"/>
                    </a:lnTo>
                    <a:lnTo>
                      <a:pt x="1856" y="3316"/>
                    </a:lnTo>
                    <a:lnTo>
                      <a:pt x="1838" y="3314"/>
                    </a:lnTo>
                    <a:lnTo>
                      <a:pt x="1822" y="3313"/>
                    </a:lnTo>
                    <a:lnTo>
                      <a:pt x="1810" y="3310"/>
                    </a:lnTo>
                    <a:lnTo>
                      <a:pt x="1811" y="3333"/>
                    </a:lnTo>
                    <a:lnTo>
                      <a:pt x="1812" y="3354"/>
                    </a:lnTo>
                    <a:lnTo>
                      <a:pt x="1816" y="3375"/>
                    </a:lnTo>
                    <a:lnTo>
                      <a:pt x="1821" y="3395"/>
                    </a:lnTo>
                    <a:lnTo>
                      <a:pt x="1827" y="3416"/>
                    </a:lnTo>
                    <a:lnTo>
                      <a:pt x="1835" y="3435"/>
                    </a:lnTo>
                    <a:lnTo>
                      <a:pt x="1843" y="3455"/>
                    </a:lnTo>
                    <a:lnTo>
                      <a:pt x="1854" y="3473"/>
                    </a:lnTo>
                    <a:lnTo>
                      <a:pt x="1865" y="3490"/>
                    </a:lnTo>
                    <a:lnTo>
                      <a:pt x="1877" y="3508"/>
                    </a:lnTo>
                    <a:lnTo>
                      <a:pt x="1890" y="3525"/>
                    </a:lnTo>
                    <a:lnTo>
                      <a:pt x="1904" y="3541"/>
                    </a:lnTo>
                    <a:lnTo>
                      <a:pt x="1918" y="3556"/>
                    </a:lnTo>
                    <a:lnTo>
                      <a:pt x="1934" y="3571"/>
                    </a:lnTo>
                    <a:lnTo>
                      <a:pt x="1949" y="3586"/>
                    </a:lnTo>
                    <a:lnTo>
                      <a:pt x="1965" y="3599"/>
                    </a:lnTo>
                    <a:lnTo>
                      <a:pt x="1951" y="3601"/>
                    </a:lnTo>
                    <a:lnTo>
                      <a:pt x="1937" y="3605"/>
                    </a:lnTo>
                    <a:lnTo>
                      <a:pt x="1931" y="3607"/>
                    </a:lnTo>
                    <a:lnTo>
                      <a:pt x="1924" y="3610"/>
                    </a:lnTo>
                    <a:lnTo>
                      <a:pt x="1919" y="3612"/>
                    </a:lnTo>
                    <a:lnTo>
                      <a:pt x="1913" y="3617"/>
                    </a:lnTo>
                    <a:lnTo>
                      <a:pt x="1909" y="3620"/>
                    </a:lnTo>
                    <a:lnTo>
                      <a:pt x="1905" y="3625"/>
                    </a:lnTo>
                    <a:lnTo>
                      <a:pt x="1902" y="3630"/>
                    </a:lnTo>
                    <a:lnTo>
                      <a:pt x="1899" y="3636"/>
                    </a:lnTo>
                    <a:lnTo>
                      <a:pt x="1898" y="3643"/>
                    </a:lnTo>
                    <a:lnTo>
                      <a:pt x="1898" y="3649"/>
                    </a:lnTo>
                    <a:lnTo>
                      <a:pt x="1899" y="3658"/>
                    </a:lnTo>
                    <a:lnTo>
                      <a:pt x="1902" y="3666"/>
                    </a:lnTo>
                    <a:lnTo>
                      <a:pt x="1907" y="3690"/>
                    </a:lnTo>
                    <a:lnTo>
                      <a:pt x="1913" y="3724"/>
                    </a:lnTo>
                    <a:lnTo>
                      <a:pt x="1921" y="3763"/>
                    </a:lnTo>
                    <a:lnTo>
                      <a:pt x="1929" y="3806"/>
                    </a:lnTo>
                    <a:lnTo>
                      <a:pt x="1937" y="3849"/>
                    </a:lnTo>
                    <a:lnTo>
                      <a:pt x="1946" y="3887"/>
                    </a:lnTo>
                    <a:lnTo>
                      <a:pt x="1951" y="3904"/>
                    </a:lnTo>
                    <a:lnTo>
                      <a:pt x="1957" y="3918"/>
                    </a:lnTo>
                    <a:lnTo>
                      <a:pt x="1962" y="3930"/>
                    </a:lnTo>
                    <a:lnTo>
                      <a:pt x="1969" y="3938"/>
                    </a:lnTo>
                    <a:lnTo>
                      <a:pt x="1978" y="3949"/>
                    </a:lnTo>
                    <a:lnTo>
                      <a:pt x="1988" y="3958"/>
                    </a:lnTo>
                    <a:lnTo>
                      <a:pt x="1998" y="3964"/>
                    </a:lnTo>
                    <a:lnTo>
                      <a:pt x="2007" y="3971"/>
                    </a:lnTo>
                    <a:lnTo>
                      <a:pt x="2026" y="3981"/>
                    </a:lnTo>
                    <a:lnTo>
                      <a:pt x="2043" y="3988"/>
                    </a:lnTo>
                    <a:lnTo>
                      <a:pt x="2052" y="3991"/>
                    </a:lnTo>
                    <a:lnTo>
                      <a:pt x="2060" y="3996"/>
                    </a:lnTo>
                    <a:lnTo>
                      <a:pt x="2069" y="4001"/>
                    </a:lnTo>
                    <a:lnTo>
                      <a:pt x="2078" y="4006"/>
                    </a:lnTo>
                    <a:lnTo>
                      <a:pt x="2087" y="4013"/>
                    </a:lnTo>
                    <a:lnTo>
                      <a:pt x="2096" y="4022"/>
                    </a:lnTo>
                    <a:lnTo>
                      <a:pt x="2105" y="4032"/>
                    </a:lnTo>
                    <a:lnTo>
                      <a:pt x="2114" y="4044"/>
                    </a:lnTo>
                    <a:lnTo>
                      <a:pt x="2118" y="4045"/>
                    </a:lnTo>
                    <a:lnTo>
                      <a:pt x="2125" y="4046"/>
                    </a:lnTo>
                    <a:lnTo>
                      <a:pt x="2130" y="4048"/>
                    </a:lnTo>
                    <a:lnTo>
                      <a:pt x="2134" y="4050"/>
                    </a:lnTo>
                    <a:lnTo>
                      <a:pt x="2136" y="4052"/>
                    </a:lnTo>
                    <a:lnTo>
                      <a:pt x="2138" y="4055"/>
                    </a:lnTo>
                    <a:lnTo>
                      <a:pt x="2138" y="4058"/>
                    </a:lnTo>
                    <a:lnTo>
                      <a:pt x="2135" y="4063"/>
                    </a:lnTo>
                    <a:lnTo>
                      <a:pt x="2130" y="4068"/>
                    </a:lnTo>
                    <a:lnTo>
                      <a:pt x="2122" y="4073"/>
                    </a:lnTo>
                    <a:lnTo>
                      <a:pt x="2109" y="4080"/>
                    </a:lnTo>
                    <a:lnTo>
                      <a:pt x="2093" y="4089"/>
                    </a:lnTo>
                    <a:lnTo>
                      <a:pt x="2071" y="4096"/>
                    </a:lnTo>
                    <a:lnTo>
                      <a:pt x="2045" y="4106"/>
                    </a:lnTo>
                    <a:lnTo>
                      <a:pt x="2016" y="4117"/>
                    </a:lnTo>
                    <a:lnTo>
                      <a:pt x="1990" y="4127"/>
                    </a:lnTo>
                    <a:lnTo>
                      <a:pt x="1964" y="4139"/>
                    </a:lnTo>
                    <a:lnTo>
                      <a:pt x="1940" y="4150"/>
                    </a:lnTo>
                    <a:lnTo>
                      <a:pt x="1899" y="4171"/>
                    </a:lnTo>
                    <a:lnTo>
                      <a:pt x="1864" y="4189"/>
                    </a:lnTo>
                    <a:lnTo>
                      <a:pt x="1837" y="4206"/>
                    </a:lnTo>
                    <a:lnTo>
                      <a:pt x="1816" y="4218"/>
                    </a:lnTo>
                    <a:lnTo>
                      <a:pt x="1804" y="4227"/>
                    </a:lnTo>
                    <a:lnTo>
                      <a:pt x="1800" y="4230"/>
                    </a:lnTo>
                    <a:lnTo>
                      <a:pt x="1791" y="4224"/>
                    </a:lnTo>
                    <a:lnTo>
                      <a:pt x="1783" y="4215"/>
                    </a:lnTo>
                    <a:lnTo>
                      <a:pt x="1775" y="4206"/>
                    </a:lnTo>
                    <a:lnTo>
                      <a:pt x="1768" y="4197"/>
                    </a:lnTo>
                    <a:lnTo>
                      <a:pt x="1761" y="4186"/>
                    </a:lnTo>
                    <a:lnTo>
                      <a:pt x="1756" y="4175"/>
                    </a:lnTo>
                    <a:lnTo>
                      <a:pt x="1750" y="4163"/>
                    </a:lnTo>
                    <a:lnTo>
                      <a:pt x="1746" y="4150"/>
                    </a:lnTo>
                    <a:lnTo>
                      <a:pt x="1742" y="4137"/>
                    </a:lnTo>
                    <a:lnTo>
                      <a:pt x="1738" y="4123"/>
                    </a:lnTo>
                    <a:lnTo>
                      <a:pt x="1735" y="4109"/>
                    </a:lnTo>
                    <a:lnTo>
                      <a:pt x="1732" y="4094"/>
                    </a:lnTo>
                    <a:lnTo>
                      <a:pt x="1729" y="4064"/>
                    </a:lnTo>
                    <a:lnTo>
                      <a:pt x="1727" y="4033"/>
                    </a:lnTo>
                    <a:lnTo>
                      <a:pt x="1727" y="4002"/>
                    </a:lnTo>
                    <a:lnTo>
                      <a:pt x="1728" y="3972"/>
                    </a:lnTo>
                    <a:lnTo>
                      <a:pt x="1730" y="3943"/>
                    </a:lnTo>
                    <a:lnTo>
                      <a:pt x="1734" y="3915"/>
                    </a:lnTo>
                    <a:lnTo>
                      <a:pt x="1738" y="3889"/>
                    </a:lnTo>
                    <a:lnTo>
                      <a:pt x="1744" y="3866"/>
                    </a:lnTo>
                    <a:lnTo>
                      <a:pt x="1749" y="3846"/>
                    </a:lnTo>
                    <a:lnTo>
                      <a:pt x="1756" y="3829"/>
                    </a:lnTo>
                    <a:lnTo>
                      <a:pt x="1761" y="3814"/>
                    </a:lnTo>
                    <a:lnTo>
                      <a:pt x="1763" y="3799"/>
                    </a:lnTo>
                    <a:lnTo>
                      <a:pt x="1765" y="3783"/>
                    </a:lnTo>
                    <a:lnTo>
                      <a:pt x="1765" y="3767"/>
                    </a:lnTo>
                    <a:lnTo>
                      <a:pt x="1763" y="3751"/>
                    </a:lnTo>
                    <a:lnTo>
                      <a:pt x="1760" y="3732"/>
                    </a:lnTo>
                    <a:lnTo>
                      <a:pt x="1756" y="3714"/>
                    </a:lnTo>
                    <a:lnTo>
                      <a:pt x="1751" y="3693"/>
                    </a:lnTo>
                    <a:lnTo>
                      <a:pt x="1738" y="3650"/>
                    </a:lnTo>
                    <a:lnTo>
                      <a:pt x="1722" y="3601"/>
                    </a:lnTo>
                    <a:lnTo>
                      <a:pt x="1706" y="3546"/>
                    </a:lnTo>
                    <a:lnTo>
                      <a:pt x="1689" y="3484"/>
                    </a:lnTo>
                    <a:lnTo>
                      <a:pt x="1686" y="3466"/>
                    </a:lnTo>
                    <a:lnTo>
                      <a:pt x="1682" y="3448"/>
                    </a:lnTo>
                    <a:lnTo>
                      <a:pt x="1680" y="3430"/>
                    </a:lnTo>
                    <a:lnTo>
                      <a:pt x="1679" y="3410"/>
                    </a:lnTo>
                    <a:lnTo>
                      <a:pt x="1678" y="3390"/>
                    </a:lnTo>
                    <a:lnTo>
                      <a:pt x="1678" y="3368"/>
                    </a:lnTo>
                    <a:lnTo>
                      <a:pt x="1679" y="3348"/>
                    </a:lnTo>
                    <a:lnTo>
                      <a:pt x="1680" y="3325"/>
                    </a:lnTo>
                    <a:lnTo>
                      <a:pt x="1684" y="3280"/>
                    </a:lnTo>
                    <a:lnTo>
                      <a:pt x="1690" y="3232"/>
                    </a:lnTo>
                    <a:lnTo>
                      <a:pt x="1696" y="3184"/>
                    </a:lnTo>
                    <a:lnTo>
                      <a:pt x="1704" y="3135"/>
                    </a:lnTo>
                    <a:lnTo>
                      <a:pt x="1720" y="3036"/>
                    </a:lnTo>
                    <a:lnTo>
                      <a:pt x="1734" y="2938"/>
                    </a:lnTo>
                    <a:lnTo>
                      <a:pt x="1740" y="2891"/>
                    </a:lnTo>
                    <a:lnTo>
                      <a:pt x="1743" y="2845"/>
                    </a:lnTo>
                    <a:lnTo>
                      <a:pt x="1744" y="2824"/>
                    </a:lnTo>
                    <a:lnTo>
                      <a:pt x="1744" y="2802"/>
                    </a:lnTo>
                    <a:lnTo>
                      <a:pt x="1744" y="2782"/>
                    </a:lnTo>
                    <a:lnTo>
                      <a:pt x="1743" y="2761"/>
                    </a:lnTo>
                    <a:lnTo>
                      <a:pt x="1743" y="2742"/>
                    </a:lnTo>
                    <a:lnTo>
                      <a:pt x="1743" y="2720"/>
                    </a:lnTo>
                    <a:lnTo>
                      <a:pt x="1744" y="2699"/>
                    </a:lnTo>
                    <a:lnTo>
                      <a:pt x="1745" y="2676"/>
                    </a:lnTo>
                    <a:lnTo>
                      <a:pt x="1750" y="2629"/>
                    </a:lnTo>
                    <a:lnTo>
                      <a:pt x="1757" y="2582"/>
                    </a:lnTo>
                    <a:lnTo>
                      <a:pt x="1765" y="2534"/>
                    </a:lnTo>
                    <a:lnTo>
                      <a:pt x="1775" y="2486"/>
                    </a:lnTo>
                    <a:lnTo>
                      <a:pt x="1786" y="2437"/>
                    </a:lnTo>
                    <a:lnTo>
                      <a:pt x="1798" y="2391"/>
                    </a:lnTo>
                    <a:lnTo>
                      <a:pt x="1810" y="2347"/>
                    </a:lnTo>
                    <a:lnTo>
                      <a:pt x="1822" y="2303"/>
                    </a:lnTo>
                    <a:lnTo>
                      <a:pt x="1834" y="2264"/>
                    </a:lnTo>
                    <a:lnTo>
                      <a:pt x="1845" y="2229"/>
                    </a:lnTo>
                    <a:lnTo>
                      <a:pt x="1864" y="2173"/>
                    </a:lnTo>
                    <a:lnTo>
                      <a:pt x="1877" y="2139"/>
                    </a:lnTo>
                    <a:lnTo>
                      <a:pt x="1881" y="2127"/>
                    </a:lnTo>
                    <a:lnTo>
                      <a:pt x="1883" y="2113"/>
                    </a:lnTo>
                    <a:lnTo>
                      <a:pt x="1885" y="2098"/>
                    </a:lnTo>
                    <a:lnTo>
                      <a:pt x="1888" y="2081"/>
                    </a:lnTo>
                    <a:lnTo>
                      <a:pt x="1889" y="2064"/>
                    </a:lnTo>
                    <a:lnTo>
                      <a:pt x="1889" y="2043"/>
                    </a:lnTo>
                    <a:lnTo>
                      <a:pt x="1888" y="2023"/>
                    </a:lnTo>
                    <a:lnTo>
                      <a:pt x="1885" y="2001"/>
                    </a:lnTo>
                    <a:lnTo>
                      <a:pt x="1883" y="1978"/>
                    </a:lnTo>
                    <a:lnTo>
                      <a:pt x="1880" y="1954"/>
                    </a:lnTo>
                    <a:lnTo>
                      <a:pt x="1877" y="1930"/>
                    </a:lnTo>
                    <a:lnTo>
                      <a:pt x="1871" y="1906"/>
                    </a:lnTo>
                    <a:lnTo>
                      <a:pt x="1866" y="1881"/>
                    </a:lnTo>
                    <a:lnTo>
                      <a:pt x="1859" y="1855"/>
                    </a:lnTo>
                    <a:lnTo>
                      <a:pt x="1853" y="1830"/>
                    </a:lnTo>
                    <a:lnTo>
                      <a:pt x="1844" y="1805"/>
                    </a:lnTo>
                    <a:lnTo>
                      <a:pt x="1836" y="1781"/>
                    </a:lnTo>
                    <a:lnTo>
                      <a:pt x="1825" y="1756"/>
                    </a:lnTo>
                    <a:lnTo>
                      <a:pt x="1814" y="1731"/>
                    </a:lnTo>
                    <a:lnTo>
                      <a:pt x="1801" y="1706"/>
                    </a:lnTo>
                    <a:lnTo>
                      <a:pt x="1776" y="1655"/>
                    </a:lnTo>
                    <a:lnTo>
                      <a:pt x="1750" y="1605"/>
                    </a:lnTo>
                    <a:lnTo>
                      <a:pt x="1737" y="1578"/>
                    </a:lnTo>
                    <a:lnTo>
                      <a:pt x="1727" y="1551"/>
                    </a:lnTo>
                    <a:lnTo>
                      <a:pt x="1716" y="1522"/>
                    </a:lnTo>
                    <a:lnTo>
                      <a:pt x="1707" y="1494"/>
                    </a:lnTo>
                    <a:lnTo>
                      <a:pt x="1700" y="1465"/>
                    </a:lnTo>
                    <a:lnTo>
                      <a:pt x="1694" y="1434"/>
                    </a:lnTo>
                    <a:lnTo>
                      <a:pt x="1692" y="1419"/>
                    </a:lnTo>
                    <a:lnTo>
                      <a:pt x="1690" y="1403"/>
                    </a:lnTo>
                    <a:lnTo>
                      <a:pt x="1689" y="1386"/>
                    </a:lnTo>
                    <a:lnTo>
                      <a:pt x="1689" y="1370"/>
                    </a:lnTo>
                    <a:lnTo>
                      <a:pt x="1689" y="1354"/>
                    </a:lnTo>
                    <a:lnTo>
                      <a:pt x="1688" y="1337"/>
                    </a:lnTo>
                    <a:lnTo>
                      <a:pt x="1686" y="1321"/>
                    </a:lnTo>
                    <a:lnTo>
                      <a:pt x="1683" y="1304"/>
                    </a:lnTo>
                    <a:lnTo>
                      <a:pt x="1677" y="1272"/>
                    </a:lnTo>
                    <a:lnTo>
                      <a:pt x="1668" y="1241"/>
                    </a:lnTo>
                    <a:lnTo>
                      <a:pt x="1659" y="1209"/>
                    </a:lnTo>
                    <a:lnTo>
                      <a:pt x="1647" y="1178"/>
                    </a:lnTo>
                    <a:lnTo>
                      <a:pt x="1634" y="1148"/>
                    </a:lnTo>
                    <a:lnTo>
                      <a:pt x="1621" y="1119"/>
                    </a:lnTo>
                    <a:lnTo>
                      <a:pt x="1592" y="1061"/>
                    </a:lnTo>
                    <a:lnTo>
                      <a:pt x="1561" y="1008"/>
                    </a:lnTo>
                    <a:lnTo>
                      <a:pt x="1534" y="960"/>
                    </a:lnTo>
                    <a:lnTo>
                      <a:pt x="1511" y="916"/>
                    </a:lnTo>
                    <a:lnTo>
                      <a:pt x="1502" y="895"/>
                    </a:lnTo>
                    <a:lnTo>
                      <a:pt x="1494" y="876"/>
                    </a:lnTo>
                    <a:lnTo>
                      <a:pt x="1489" y="858"/>
                    </a:lnTo>
                    <a:lnTo>
                      <a:pt x="1485" y="841"/>
                    </a:lnTo>
                    <a:lnTo>
                      <a:pt x="1482" y="825"/>
                    </a:lnTo>
                    <a:lnTo>
                      <a:pt x="1480" y="810"/>
                    </a:lnTo>
                    <a:lnTo>
                      <a:pt x="1480" y="795"/>
                    </a:lnTo>
                    <a:lnTo>
                      <a:pt x="1480" y="781"/>
                    </a:lnTo>
                    <a:lnTo>
                      <a:pt x="1482" y="754"/>
                    </a:lnTo>
                    <a:lnTo>
                      <a:pt x="1484" y="727"/>
                    </a:lnTo>
                    <a:lnTo>
                      <a:pt x="1482" y="712"/>
                    </a:lnTo>
                    <a:lnTo>
                      <a:pt x="1481" y="700"/>
                    </a:lnTo>
                    <a:lnTo>
                      <a:pt x="1479" y="685"/>
                    </a:lnTo>
                    <a:lnTo>
                      <a:pt x="1476" y="670"/>
                    </a:lnTo>
                    <a:lnTo>
                      <a:pt x="1473" y="657"/>
                    </a:lnTo>
                    <a:lnTo>
                      <a:pt x="1469" y="648"/>
                    </a:lnTo>
                    <a:lnTo>
                      <a:pt x="1466" y="641"/>
                    </a:lnTo>
                    <a:lnTo>
                      <a:pt x="1463" y="638"/>
                    </a:lnTo>
                    <a:lnTo>
                      <a:pt x="1461" y="637"/>
                    </a:lnTo>
                    <a:lnTo>
                      <a:pt x="1459" y="638"/>
                    </a:lnTo>
                    <a:lnTo>
                      <a:pt x="1456" y="639"/>
                    </a:lnTo>
                    <a:lnTo>
                      <a:pt x="1454" y="642"/>
                    </a:lnTo>
                    <a:lnTo>
                      <a:pt x="1449" y="650"/>
                    </a:lnTo>
                    <a:lnTo>
                      <a:pt x="1442" y="662"/>
                    </a:lnTo>
                    <a:lnTo>
                      <a:pt x="1423" y="698"/>
                    </a:lnTo>
                    <a:lnTo>
                      <a:pt x="1394" y="755"/>
                    </a:lnTo>
                    <a:lnTo>
                      <a:pt x="1375" y="790"/>
                    </a:lnTo>
                    <a:lnTo>
                      <a:pt x="1353" y="830"/>
                    </a:lnTo>
                    <a:lnTo>
                      <a:pt x="1328" y="877"/>
                    </a:lnTo>
                    <a:lnTo>
                      <a:pt x="1299" y="927"/>
                    </a:lnTo>
                    <a:lnTo>
                      <a:pt x="1283" y="955"/>
                    </a:lnTo>
                    <a:lnTo>
                      <a:pt x="1267" y="987"/>
                    </a:lnTo>
                    <a:lnTo>
                      <a:pt x="1251" y="1020"/>
                    </a:lnTo>
                    <a:lnTo>
                      <a:pt x="1236" y="1056"/>
                    </a:lnTo>
                    <a:lnTo>
                      <a:pt x="1220" y="1094"/>
                    </a:lnTo>
                    <a:lnTo>
                      <a:pt x="1205" y="1134"/>
                    </a:lnTo>
                    <a:lnTo>
                      <a:pt x="1190" y="1175"/>
                    </a:lnTo>
                    <a:lnTo>
                      <a:pt x="1173" y="1218"/>
                    </a:lnTo>
                    <a:lnTo>
                      <a:pt x="1144" y="1308"/>
                    </a:lnTo>
                    <a:lnTo>
                      <a:pt x="1114" y="1403"/>
                    </a:lnTo>
                    <a:lnTo>
                      <a:pt x="1086" y="1500"/>
                    </a:lnTo>
                    <a:lnTo>
                      <a:pt x="1059" y="1599"/>
                    </a:lnTo>
                    <a:lnTo>
                      <a:pt x="1033" y="1700"/>
                    </a:lnTo>
                    <a:lnTo>
                      <a:pt x="1009" y="1798"/>
                    </a:lnTo>
                    <a:lnTo>
                      <a:pt x="987" y="1895"/>
                    </a:lnTo>
                    <a:lnTo>
                      <a:pt x="966" y="1989"/>
                    </a:lnTo>
                    <a:lnTo>
                      <a:pt x="948" y="2079"/>
                    </a:lnTo>
                    <a:lnTo>
                      <a:pt x="933" y="2161"/>
                    </a:lnTo>
                    <a:lnTo>
                      <a:pt x="920" y="2237"/>
                    </a:lnTo>
                    <a:lnTo>
                      <a:pt x="910" y="2304"/>
                    </a:lnTo>
                    <a:lnTo>
                      <a:pt x="906" y="2336"/>
                    </a:lnTo>
                    <a:lnTo>
                      <a:pt x="900" y="2367"/>
                    </a:lnTo>
                    <a:lnTo>
                      <a:pt x="894" y="2399"/>
                    </a:lnTo>
                    <a:lnTo>
                      <a:pt x="887" y="2431"/>
                    </a:lnTo>
                    <a:lnTo>
                      <a:pt x="871" y="2494"/>
                    </a:lnTo>
                    <a:lnTo>
                      <a:pt x="853" y="2557"/>
                    </a:lnTo>
                    <a:lnTo>
                      <a:pt x="833" y="2620"/>
                    </a:lnTo>
                    <a:lnTo>
                      <a:pt x="813" y="2681"/>
                    </a:lnTo>
                    <a:lnTo>
                      <a:pt x="791" y="2742"/>
                    </a:lnTo>
                    <a:lnTo>
                      <a:pt x="769" y="2801"/>
                    </a:lnTo>
                    <a:lnTo>
                      <a:pt x="728" y="2912"/>
                    </a:lnTo>
                    <a:lnTo>
                      <a:pt x="692" y="3014"/>
                    </a:lnTo>
                    <a:lnTo>
                      <a:pt x="678" y="3059"/>
                    </a:lnTo>
                    <a:lnTo>
                      <a:pt x="666" y="3100"/>
                    </a:lnTo>
                    <a:lnTo>
                      <a:pt x="661" y="3120"/>
                    </a:lnTo>
                    <a:lnTo>
                      <a:pt x="657" y="3138"/>
                    </a:lnTo>
                    <a:lnTo>
                      <a:pt x="655" y="3155"/>
                    </a:lnTo>
                    <a:lnTo>
                      <a:pt x="653" y="3172"/>
                    </a:lnTo>
                    <a:lnTo>
                      <a:pt x="650" y="3206"/>
                    </a:lnTo>
                    <a:lnTo>
                      <a:pt x="645" y="3244"/>
                    </a:lnTo>
                    <a:lnTo>
                      <a:pt x="638" y="3286"/>
                    </a:lnTo>
                    <a:lnTo>
                      <a:pt x="629" y="3331"/>
                    </a:lnTo>
                    <a:lnTo>
                      <a:pt x="619" y="3379"/>
                    </a:lnTo>
                    <a:lnTo>
                      <a:pt x="608" y="3428"/>
                    </a:lnTo>
                    <a:lnTo>
                      <a:pt x="597" y="3477"/>
                    </a:lnTo>
                    <a:lnTo>
                      <a:pt x="585" y="3527"/>
                    </a:lnTo>
                    <a:lnTo>
                      <a:pt x="559" y="3623"/>
                    </a:lnTo>
                    <a:lnTo>
                      <a:pt x="535" y="3712"/>
                    </a:lnTo>
                    <a:lnTo>
                      <a:pt x="513" y="3786"/>
                    </a:lnTo>
                    <a:lnTo>
                      <a:pt x="497" y="3839"/>
                    </a:lnTo>
                    <a:lnTo>
                      <a:pt x="492" y="3859"/>
                    </a:lnTo>
                    <a:lnTo>
                      <a:pt x="489" y="3876"/>
                    </a:lnTo>
                    <a:lnTo>
                      <a:pt x="486" y="3891"/>
                    </a:lnTo>
                    <a:lnTo>
                      <a:pt x="485" y="3904"/>
                    </a:lnTo>
                    <a:lnTo>
                      <a:pt x="485" y="3916"/>
                    </a:lnTo>
                    <a:lnTo>
                      <a:pt x="485" y="3928"/>
                    </a:lnTo>
                    <a:lnTo>
                      <a:pt x="487" y="3938"/>
                    </a:lnTo>
                    <a:lnTo>
                      <a:pt x="489" y="3948"/>
                    </a:lnTo>
                    <a:lnTo>
                      <a:pt x="492" y="3971"/>
                    </a:lnTo>
                    <a:lnTo>
                      <a:pt x="494" y="3997"/>
                    </a:lnTo>
                    <a:lnTo>
                      <a:pt x="494" y="4013"/>
                    </a:lnTo>
                    <a:lnTo>
                      <a:pt x="493" y="4030"/>
                    </a:lnTo>
                    <a:lnTo>
                      <a:pt x="491" y="4051"/>
                    </a:lnTo>
                    <a:lnTo>
                      <a:pt x="487" y="4075"/>
                    </a:lnTo>
                    <a:lnTo>
                      <a:pt x="482" y="4097"/>
                    </a:lnTo>
                    <a:lnTo>
                      <a:pt x="477" y="4116"/>
                    </a:lnTo>
                    <a:lnTo>
                      <a:pt x="473" y="4123"/>
                    </a:lnTo>
                    <a:lnTo>
                      <a:pt x="470" y="4130"/>
                    </a:lnTo>
                    <a:lnTo>
                      <a:pt x="467" y="4135"/>
                    </a:lnTo>
                    <a:lnTo>
                      <a:pt x="463" y="4140"/>
                    </a:lnTo>
                    <a:lnTo>
                      <a:pt x="459" y="4145"/>
                    </a:lnTo>
                    <a:lnTo>
                      <a:pt x="455" y="4148"/>
                    </a:lnTo>
                    <a:lnTo>
                      <a:pt x="451" y="4150"/>
                    </a:lnTo>
                    <a:lnTo>
                      <a:pt x="448" y="4152"/>
                    </a:lnTo>
                    <a:lnTo>
                      <a:pt x="439" y="4154"/>
                    </a:lnTo>
                    <a:lnTo>
                      <a:pt x="430" y="4156"/>
                    </a:lnTo>
                    <a:lnTo>
                      <a:pt x="423" y="4154"/>
                    </a:lnTo>
                    <a:lnTo>
                      <a:pt x="415" y="4151"/>
                    </a:lnTo>
                    <a:lnTo>
                      <a:pt x="409" y="4149"/>
                    </a:lnTo>
                    <a:lnTo>
                      <a:pt x="403" y="4145"/>
                    </a:lnTo>
                    <a:lnTo>
                      <a:pt x="395" y="4139"/>
                    </a:lnTo>
                    <a:lnTo>
                      <a:pt x="391" y="4136"/>
                    </a:lnTo>
                    <a:lnTo>
                      <a:pt x="365" y="4133"/>
                    </a:lnTo>
                    <a:lnTo>
                      <a:pt x="339" y="4132"/>
                    </a:lnTo>
                    <a:lnTo>
                      <a:pt x="315" y="4132"/>
                    </a:lnTo>
                    <a:lnTo>
                      <a:pt x="290" y="4132"/>
                    </a:lnTo>
                    <a:lnTo>
                      <a:pt x="239" y="4136"/>
                    </a:lnTo>
                    <a:lnTo>
                      <a:pt x="190" y="4141"/>
                    </a:lnTo>
                    <a:lnTo>
                      <a:pt x="141" y="4148"/>
                    </a:lnTo>
                    <a:lnTo>
                      <a:pt x="93" y="4154"/>
                    </a:lnTo>
                    <a:lnTo>
                      <a:pt x="46" y="4160"/>
                    </a:lnTo>
                    <a:lnTo>
                      <a:pt x="0" y="4163"/>
                    </a:lnTo>
                    <a:lnTo>
                      <a:pt x="49" y="4161"/>
                    </a:lnTo>
                    <a:lnTo>
                      <a:pt x="94" y="4157"/>
                    </a:lnTo>
                    <a:lnTo>
                      <a:pt x="135" y="4149"/>
                    </a:lnTo>
                    <a:lnTo>
                      <a:pt x="172" y="4139"/>
                    </a:lnTo>
                    <a:lnTo>
                      <a:pt x="207" y="4127"/>
                    </a:lnTo>
                    <a:lnTo>
                      <a:pt x="237" y="4113"/>
                    </a:lnTo>
                    <a:lnTo>
                      <a:pt x="264" y="4096"/>
                    </a:lnTo>
                    <a:lnTo>
                      <a:pt x="289" y="4078"/>
                    </a:lnTo>
                    <a:lnTo>
                      <a:pt x="310" y="4056"/>
                    </a:lnTo>
                    <a:lnTo>
                      <a:pt x="330" y="4033"/>
                    </a:lnTo>
                    <a:lnTo>
                      <a:pt x="346" y="4009"/>
                    </a:lnTo>
                    <a:lnTo>
                      <a:pt x="361" y="3983"/>
                    </a:lnTo>
                    <a:lnTo>
                      <a:pt x="374" y="3955"/>
                    </a:lnTo>
                    <a:lnTo>
                      <a:pt x="386" y="3925"/>
                    </a:lnTo>
                    <a:lnTo>
                      <a:pt x="397" y="3894"/>
                    </a:lnTo>
                    <a:lnTo>
                      <a:pt x="405" y="3862"/>
                    </a:lnTo>
                    <a:lnTo>
                      <a:pt x="413" y="3828"/>
                    </a:lnTo>
                    <a:lnTo>
                      <a:pt x="421" y="3794"/>
                    </a:lnTo>
                    <a:lnTo>
                      <a:pt x="428" y="3758"/>
                    </a:lnTo>
                    <a:lnTo>
                      <a:pt x="433" y="3722"/>
                    </a:lnTo>
                    <a:lnTo>
                      <a:pt x="446" y="3647"/>
                    </a:lnTo>
                    <a:lnTo>
                      <a:pt x="460" y="3569"/>
                    </a:lnTo>
                    <a:lnTo>
                      <a:pt x="469" y="3530"/>
                    </a:lnTo>
                    <a:lnTo>
                      <a:pt x="478" y="3490"/>
                    </a:lnTo>
                    <a:lnTo>
                      <a:pt x="489" y="3450"/>
                    </a:lnTo>
                    <a:lnTo>
                      <a:pt x="499" y="3410"/>
                    </a:lnTo>
                    <a:lnTo>
                      <a:pt x="512" y="3370"/>
                    </a:lnTo>
                    <a:lnTo>
                      <a:pt x="527" y="3330"/>
                    </a:lnTo>
                    <a:lnTo>
                      <a:pt x="545" y="3290"/>
                    </a:lnTo>
                    <a:lnTo>
                      <a:pt x="564" y="3252"/>
                    </a:lnTo>
                    <a:lnTo>
                      <a:pt x="576" y="3226"/>
                    </a:lnTo>
                    <a:lnTo>
                      <a:pt x="587" y="3200"/>
                    </a:lnTo>
                    <a:lnTo>
                      <a:pt x="596" y="3174"/>
                    </a:lnTo>
                    <a:lnTo>
                      <a:pt x="604" y="3146"/>
                    </a:lnTo>
                    <a:lnTo>
                      <a:pt x="611" y="3119"/>
                    </a:lnTo>
                    <a:lnTo>
                      <a:pt x="615" y="3091"/>
                    </a:lnTo>
                    <a:lnTo>
                      <a:pt x="619" y="3064"/>
                    </a:lnTo>
                    <a:lnTo>
                      <a:pt x="620" y="3037"/>
                    </a:lnTo>
                    <a:lnTo>
                      <a:pt x="621" y="3010"/>
                    </a:lnTo>
                    <a:lnTo>
                      <a:pt x="619" y="2984"/>
                    </a:lnTo>
                    <a:lnTo>
                      <a:pt x="617" y="2959"/>
                    </a:lnTo>
                    <a:lnTo>
                      <a:pt x="612" y="2935"/>
                    </a:lnTo>
                    <a:lnTo>
                      <a:pt x="608" y="2924"/>
                    </a:lnTo>
                    <a:lnTo>
                      <a:pt x="605" y="2912"/>
                    </a:lnTo>
                    <a:lnTo>
                      <a:pt x="601" y="2903"/>
                    </a:lnTo>
                    <a:lnTo>
                      <a:pt x="597" y="2892"/>
                    </a:lnTo>
                    <a:lnTo>
                      <a:pt x="591" y="2882"/>
                    </a:lnTo>
                    <a:lnTo>
                      <a:pt x="586" y="2872"/>
                    </a:lnTo>
                    <a:lnTo>
                      <a:pt x="580" y="2864"/>
                    </a:lnTo>
                    <a:lnTo>
                      <a:pt x="574" y="2855"/>
                    </a:lnTo>
                    <a:lnTo>
                      <a:pt x="571" y="2850"/>
                    </a:lnTo>
                    <a:lnTo>
                      <a:pt x="569" y="2844"/>
                    </a:lnTo>
                    <a:lnTo>
                      <a:pt x="569" y="2839"/>
                    </a:lnTo>
                    <a:lnTo>
                      <a:pt x="570" y="2835"/>
                    </a:lnTo>
                    <a:lnTo>
                      <a:pt x="575" y="2824"/>
                    </a:lnTo>
                    <a:lnTo>
                      <a:pt x="581" y="2814"/>
                    </a:lnTo>
                    <a:lnTo>
                      <a:pt x="589" y="2803"/>
                    </a:lnTo>
                    <a:lnTo>
                      <a:pt x="594" y="2793"/>
                    </a:lnTo>
                    <a:lnTo>
                      <a:pt x="597" y="2787"/>
                    </a:lnTo>
                    <a:lnTo>
                      <a:pt x="597" y="2782"/>
                    </a:lnTo>
                    <a:lnTo>
                      <a:pt x="596" y="2775"/>
                    </a:lnTo>
                    <a:lnTo>
                      <a:pt x="593" y="2769"/>
                    </a:lnTo>
                    <a:lnTo>
                      <a:pt x="603" y="2764"/>
                    </a:lnTo>
                    <a:lnTo>
                      <a:pt x="612" y="2760"/>
                    </a:lnTo>
                    <a:lnTo>
                      <a:pt x="619" y="2755"/>
                    </a:lnTo>
                    <a:lnTo>
                      <a:pt x="628" y="2749"/>
                    </a:lnTo>
                    <a:lnTo>
                      <a:pt x="642" y="2737"/>
                    </a:lnTo>
                    <a:lnTo>
                      <a:pt x="654" y="2725"/>
                    </a:lnTo>
                    <a:lnTo>
                      <a:pt x="666" y="2712"/>
                    </a:lnTo>
                    <a:lnTo>
                      <a:pt x="675" y="2696"/>
                    </a:lnTo>
                    <a:lnTo>
                      <a:pt x="685" y="2681"/>
                    </a:lnTo>
                    <a:lnTo>
                      <a:pt x="694" y="2665"/>
                    </a:lnTo>
                    <a:lnTo>
                      <a:pt x="712" y="2634"/>
                    </a:lnTo>
                    <a:lnTo>
                      <a:pt x="729" y="2601"/>
                    </a:lnTo>
                    <a:lnTo>
                      <a:pt x="740" y="2585"/>
                    </a:lnTo>
                    <a:lnTo>
                      <a:pt x="751" y="2570"/>
                    </a:lnTo>
                    <a:lnTo>
                      <a:pt x="763" y="2556"/>
                    </a:lnTo>
                    <a:lnTo>
                      <a:pt x="777" y="2542"/>
                    </a:lnTo>
                    <a:lnTo>
                      <a:pt x="781" y="2537"/>
                    </a:lnTo>
                    <a:lnTo>
                      <a:pt x="786" y="2531"/>
                    </a:lnTo>
                    <a:lnTo>
                      <a:pt x="789" y="2527"/>
                    </a:lnTo>
                    <a:lnTo>
                      <a:pt x="791" y="2521"/>
                    </a:lnTo>
                    <a:lnTo>
                      <a:pt x="792" y="2516"/>
                    </a:lnTo>
                    <a:lnTo>
                      <a:pt x="793" y="2511"/>
                    </a:lnTo>
                    <a:lnTo>
                      <a:pt x="793" y="2506"/>
                    </a:lnTo>
                    <a:lnTo>
                      <a:pt x="792" y="2501"/>
                    </a:lnTo>
                    <a:lnTo>
                      <a:pt x="790" y="2490"/>
                    </a:lnTo>
                    <a:lnTo>
                      <a:pt x="785" y="2480"/>
                    </a:lnTo>
                    <a:lnTo>
                      <a:pt x="778" y="2470"/>
                    </a:lnTo>
                    <a:lnTo>
                      <a:pt x="771" y="2459"/>
                    </a:lnTo>
                    <a:lnTo>
                      <a:pt x="754" y="2438"/>
                    </a:lnTo>
                    <a:lnTo>
                      <a:pt x="740" y="2416"/>
                    </a:lnTo>
                    <a:lnTo>
                      <a:pt x="735" y="2405"/>
                    </a:lnTo>
                    <a:lnTo>
                      <a:pt x="731" y="2394"/>
                    </a:lnTo>
                    <a:lnTo>
                      <a:pt x="729" y="2389"/>
                    </a:lnTo>
                    <a:lnTo>
                      <a:pt x="728" y="2382"/>
                    </a:lnTo>
                    <a:lnTo>
                      <a:pt x="728" y="2377"/>
                    </a:lnTo>
                    <a:lnTo>
                      <a:pt x="729" y="2371"/>
                    </a:lnTo>
                    <a:lnTo>
                      <a:pt x="736" y="2347"/>
                    </a:lnTo>
                    <a:lnTo>
                      <a:pt x="745" y="2322"/>
                    </a:lnTo>
                    <a:lnTo>
                      <a:pt x="754" y="2295"/>
                    </a:lnTo>
                    <a:lnTo>
                      <a:pt x="765" y="2267"/>
                    </a:lnTo>
                    <a:lnTo>
                      <a:pt x="777" y="2237"/>
                    </a:lnTo>
                    <a:lnTo>
                      <a:pt x="788" y="2208"/>
                    </a:lnTo>
                    <a:lnTo>
                      <a:pt x="798" y="2180"/>
                    </a:lnTo>
                    <a:lnTo>
                      <a:pt x="806" y="2151"/>
                    </a:lnTo>
                    <a:lnTo>
                      <a:pt x="810" y="2137"/>
                    </a:lnTo>
                    <a:lnTo>
                      <a:pt x="813" y="2123"/>
                    </a:lnTo>
                    <a:lnTo>
                      <a:pt x="815" y="2110"/>
                    </a:lnTo>
                    <a:lnTo>
                      <a:pt x="816" y="2096"/>
                    </a:lnTo>
                    <a:lnTo>
                      <a:pt x="817" y="2083"/>
                    </a:lnTo>
                    <a:lnTo>
                      <a:pt x="817" y="2071"/>
                    </a:lnTo>
                    <a:lnTo>
                      <a:pt x="815" y="2059"/>
                    </a:lnTo>
                    <a:lnTo>
                      <a:pt x="813" y="2047"/>
                    </a:lnTo>
                    <a:lnTo>
                      <a:pt x="809" y="2035"/>
                    </a:lnTo>
                    <a:lnTo>
                      <a:pt x="804" y="2026"/>
                    </a:lnTo>
                    <a:lnTo>
                      <a:pt x="798" y="2015"/>
                    </a:lnTo>
                    <a:lnTo>
                      <a:pt x="790" y="2006"/>
                    </a:lnTo>
                    <a:lnTo>
                      <a:pt x="781" y="1998"/>
                    </a:lnTo>
                    <a:lnTo>
                      <a:pt x="771" y="1989"/>
                    </a:lnTo>
                    <a:lnTo>
                      <a:pt x="759" y="1983"/>
                    </a:lnTo>
                    <a:lnTo>
                      <a:pt x="745" y="1976"/>
                    </a:lnTo>
                    <a:lnTo>
                      <a:pt x="714" y="1966"/>
                    </a:lnTo>
                    <a:lnTo>
                      <a:pt x="683" y="1958"/>
                    </a:lnTo>
                    <a:lnTo>
                      <a:pt x="654" y="1951"/>
                    </a:lnTo>
                    <a:lnTo>
                      <a:pt x="628" y="1943"/>
                    </a:lnTo>
                    <a:lnTo>
                      <a:pt x="618" y="1938"/>
                    </a:lnTo>
                    <a:lnTo>
                      <a:pt x="610" y="1933"/>
                    </a:lnTo>
                    <a:lnTo>
                      <a:pt x="605" y="1930"/>
                    </a:lnTo>
                    <a:lnTo>
                      <a:pt x="603" y="1926"/>
                    </a:lnTo>
                    <a:lnTo>
                      <a:pt x="601" y="1923"/>
                    </a:lnTo>
                    <a:lnTo>
                      <a:pt x="599" y="1919"/>
                    </a:lnTo>
                    <a:lnTo>
                      <a:pt x="599" y="1916"/>
                    </a:lnTo>
                    <a:lnTo>
                      <a:pt x="598" y="1911"/>
                    </a:lnTo>
                    <a:lnTo>
                      <a:pt x="599" y="1906"/>
                    </a:lnTo>
                    <a:lnTo>
                      <a:pt x="601" y="1902"/>
                    </a:lnTo>
                    <a:lnTo>
                      <a:pt x="603" y="1895"/>
                    </a:lnTo>
                    <a:lnTo>
                      <a:pt x="606" y="1890"/>
                    </a:lnTo>
                    <a:lnTo>
                      <a:pt x="611" y="1883"/>
                    </a:lnTo>
                    <a:lnTo>
                      <a:pt x="616" y="1877"/>
                    </a:lnTo>
                    <a:lnTo>
                      <a:pt x="629" y="1861"/>
                    </a:lnTo>
                    <a:lnTo>
                      <a:pt x="643" y="1844"/>
                    </a:lnTo>
                    <a:lnTo>
                      <a:pt x="658" y="1829"/>
                    </a:lnTo>
                    <a:lnTo>
                      <a:pt x="673" y="1815"/>
                    </a:lnTo>
                    <a:lnTo>
                      <a:pt x="704" y="1786"/>
                    </a:lnTo>
                    <a:lnTo>
                      <a:pt x="736" y="1758"/>
                    </a:lnTo>
                    <a:lnTo>
                      <a:pt x="767" y="1730"/>
                    </a:lnTo>
                    <a:lnTo>
                      <a:pt x="799" y="1700"/>
                    </a:lnTo>
                    <a:lnTo>
                      <a:pt x="814" y="1683"/>
                    </a:lnTo>
                    <a:lnTo>
                      <a:pt x="829" y="1667"/>
                    </a:lnTo>
                    <a:lnTo>
                      <a:pt x="842" y="1650"/>
                    </a:lnTo>
                    <a:lnTo>
                      <a:pt x="856" y="1632"/>
                    </a:lnTo>
                    <a:lnTo>
                      <a:pt x="860" y="1623"/>
                    </a:lnTo>
                    <a:lnTo>
                      <a:pt x="865" y="1612"/>
                    </a:lnTo>
                    <a:lnTo>
                      <a:pt x="866" y="1601"/>
                    </a:lnTo>
                    <a:lnTo>
                      <a:pt x="867" y="1589"/>
                    </a:lnTo>
                    <a:lnTo>
                      <a:pt x="866" y="1578"/>
                    </a:lnTo>
                    <a:lnTo>
                      <a:pt x="865" y="1568"/>
                    </a:lnTo>
                    <a:lnTo>
                      <a:pt x="860" y="1558"/>
                    </a:lnTo>
                    <a:lnTo>
                      <a:pt x="856" y="1551"/>
                    </a:lnTo>
                    <a:lnTo>
                      <a:pt x="846" y="1540"/>
                    </a:lnTo>
                    <a:lnTo>
                      <a:pt x="839" y="1528"/>
                    </a:lnTo>
                    <a:lnTo>
                      <a:pt x="832" y="1517"/>
                    </a:lnTo>
                    <a:lnTo>
                      <a:pt x="827" y="1506"/>
                    </a:lnTo>
                    <a:lnTo>
                      <a:pt x="822" y="1495"/>
                    </a:lnTo>
                    <a:lnTo>
                      <a:pt x="820" y="1485"/>
                    </a:lnTo>
                    <a:lnTo>
                      <a:pt x="818" y="1473"/>
                    </a:lnTo>
                    <a:lnTo>
                      <a:pt x="817" y="1462"/>
                    </a:lnTo>
                    <a:lnTo>
                      <a:pt x="818" y="1451"/>
                    </a:lnTo>
                    <a:lnTo>
                      <a:pt x="819" y="1440"/>
                    </a:lnTo>
                    <a:lnTo>
                      <a:pt x="820" y="1430"/>
                    </a:lnTo>
                    <a:lnTo>
                      <a:pt x="823" y="1419"/>
                    </a:lnTo>
                    <a:lnTo>
                      <a:pt x="827" y="1408"/>
                    </a:lnTo>
                    <a:lnTo>
                      <a:pt x="831" y="1396"/>
                    </a:lnTo>
                    <a:lnTo>
                      <a:pt x="835" y="1385"/>
                    </a:lnTo>
                    <a:lnTo>
                      <a:pt x="841" y="1375"/>
                    </a:lnTo>
                    <a:lnTo>
                      <a:pt x="853" y="1353"/>
                    </a:lnTo>
                    <a:lnTo>
                      <a:pt x="866" y="1330"/>
                    </a:lnTo>
                    <a:lnTo>
                      <a:pt x="879" y="1309"/>
                    </a:lnTo>
                    <a:lnTo>
                      <a:pt x="893" y="1287"/>
                    </a:lnTo>
                    <a:lnTo>
                      <a:pt x="907" y="1264"/>
                    </a:lnTo>
                    <a:lnTo>
                      <a:pt x="920" y="1242"/>
                    </a:lnTo>
                    <a:lnTo>
                      <a:pt x="931" y="1220"/>
                    </a:lnTo>
                    <a:lnTo>
                      <a:pt x="942" y="1197"/>
                    </a:lnTo>
                    <a:lnTo>
                      <a:pt x="930" y="1194"/>
                    </a:lnTo>
                    <a:lnTo>
                      <a:pt x="917" y="1190"/>
                    </a:lnTo>
                    <a:lnTo>
                      <a:pt x="904" y="1183"/>
                    </a:lnTo>
                    <a:lnTo>
                      <a:pt x="893" y="1176"/>
                    </a:lnTo>
                    <a:lnTo>
                      <a:pt x="880" y="1167"/>
                    </a:lnTo>
                    <a:lnTo>
                      <a:pt x="868" y="1157"/>
                    </a:lnTo>
                    <a:lnTo>
                      <a:pt x="855" y="1146"/>
                    </a:lnTo>
                    <a:lnTo>
                      <a:pt x="844" y="1135"/>
                    </a:lnTo>
                    <a:lnTo>
                      <a:pt x="821" y="1110"/>
                    </a:lnTo>
                    <a:lnTo>
                      <a:pt x="803" y="1085"/>
                    </a:lnTo>
                    <a:lnTo>
                      <a:pt x="788" y="1062"/>
                    </a:lnTo>
                    <a:lnTo>
                      <a:pt x="777" y="1044"/>
                    </a:lnTo>
                    <a:lnTo>
                      <a:pt x="768" y="1024"/>
                    </a:lnTo>
                    <a:lnTo>
                      <a:pt x="763" y="1004"/>
                    </a:lnTo>
                    <a:lnTo>
                      <a:pt x="760" y="986"/>
                    </a:lnTo>
                    <a:lnTo>
                      <a:pt x="760" y="967"/>
                    </a:lnTo>
                    <a:lnTo>
                      <a:pt x="762" y="950"/>
                    </a:lnTo>
                    <a:lnTo>
                      <a:pt x="766" y="934"/>
                    </a:lnTo>
                    <a:lnTo>
                      <a:pt x="772" y="918"/>
                    </a:lnTo>
                    <a:lnTo>
                      <a:pt x="780" y="903"/>
                    </a:lnTo>
                    <a:lnTo>
                      <a:pt x="790" y="889"/>
                    </a:lnTo>
                    <a:lnTo>
                      <a:pt x="801" y="874"/>
                    </a:lnTo>
                    <a:lnTo>
                      <a:pt x="813" y="860"/>
                    </a:lnTo>
                    <a:lnTo>
                      <a:pt x="826" y="846"/>
                    </a:lnTo>
                    <a:lnTo>
                      <a:pt x="855" y="820"/>
                    </a:lnTo>
                    <a:lnTo>
                      <a:pt x="885" y="796"/>
                    </a:lnTo>
                    <a:lnTo>
                      <a:pt x="916" y="771"/>
                    </a:lnTo>
                    <a:lnTo>
                      <a:pt x="946" y="747"/>
                    </a:lnTo>
                    <a:lnTo>
                      <a:pt x="960" y="734"/>
                    </a:lnTo>
                    <a:lnTo>
                      <a:pt x="973" y="721"/>
                    </a:lnTo>
                    <a:lnTo>
                      <a:pt x="984" y="708"/>
                    </a:lnTo>
                    <a:lnTo>
                      <a:pt x="995" y="695"/>
                    </a:lnTo>
                    <a:lnTo>
                      <a:pt x="1005" y="682"/>
                    </a:lnTo>
                    <a:lnTo>
                      <a:pt x="1013" y="668"/>
                    </a:lnTo>
                    <a:lnTo>
                      <a:pt x="1018" y="654"/>
                    </a:lnTo>
                    <a:lnTo>
                      <a:pt x="1022" y="639"/>
                    </a:lnTo>
                    <a:lnTo>
                      <a:pt x="1023" y="624"/>
                    </a:lnTo>
                    <a:lnTo>
                      <a:pt x="1023" y="608"/>
                    </a:lnTo>
                    <a:lnTo>
                      <a:pt x="1020" y="592"/>
                    </a:lnTo>
                    <a:lnTo>
                      <a:pt x="1014" y="574"/>
                    </a:lnTo>
                    <a:lnTo>
                      <a:pt x="1008" y="562"/>
                    </a:lnTo>
                    <a:lnTo>
                      <a:pt x="1002" y="552"/>
                    </a:lnTo>
                    <a:lnTo>
                      <a:pt x="993" y="541"/>
                    </a:lnTo>
                    <a:lnTo>
                      <a:pt x="984" y="529"/>
                    </a:lnTo>
                    <a:lnTo>
                      <a:pt x="967" y="507"/>
                    </a:lnTo>
                    <a:lnTo>
                      <a:pt x="951" y="486"/>
                    </a:lnTo>
                    <a:lnTo>
                      <a:pt x="944" y="474"/>
                    </a:lnTo>
                    <a:lnTo>
                      <a:pt x="939" y="462"/>
                    </a:lnTo>
                    <a:lnTo>
                      <a:pt x="938" y="457"/>
                    </a:lnTo>
                    <a:lnTo>
                      <a:pt x="937" y="450"/>
                    </a:lnTo>
                    <a:lnTo>
                      <a:pt x="936" y="445"/>
                    </a:lnTo>
                    <a:lnTo>
                      <a:pt x="937" y="438"/>
                    </a:lnTo>
                    <a:lnTo>
                      <a:pt x="937" y="432"/>
                    </a:lnTo>
                    <a:lnTo>
                      <a:pt x="939" y="425"/>
                    </a:lnTo>
                    <a:lnTo>
                      <a:pt x="941" y="419"/>
                    </a:lnTo>
                    <a:lnTo>
                      <a:pt x="944" y="412"/>
                    </a:lnTo>
                    <a:lnTo>
                      <a:pt x="949" y="406"/>
                    </a:lnTo>
                    <a:lnTo>
                      <a:pt x="954" y="398"/>
                    </a:lnTo>
                    <a:lnTo>
                      <a:pt x="960" y="391"/>
                    </a:lnTo>
                    <a:lnTo>
                      <a:pt x="967" y="384"/>
                    </a:lnTo>
                    <a:lnTo>
                      <a:pt x="979" y="371"/>
                    </a:lnTo>
                    <a:lnTo>
                      <a:pt x="989" y="359"/>
                    </a:lnTo>
                    <a:lnTo>
                      <a:pt x="997" y="349"/>
                    </a:lnTo>
                    <a:lnTo>
                      <a:pt x="1005" y="338"/>
                    </a:lnTo>
                    <a:lnTo>
                      <a:pt x="1011" y="327"/>
                    </a:lnTo>
                    <a:lnTo>
                      <a:pt x="1016" y="317"/>
                    </a:lnTo>
                    <a:lnTo>
                      <a:pt x="1020" y="307"/>
                    </a:lnTo>
                    <a:lnTo>
                      <a:pt x="1022" y="299"/>
                    </a:lnTo>
                    <a:lnTo>
                      <a:pt x="1027" y="282"/>
                    </a:lnTo>
                    <a:lnTo>
                      <a:pt x="1028" y="265"/>
                    </a:lnTo>
                    <a:lnTo>
                      <a:pt x="1028" y="251"/>
                    </a:lnTo>
                    <a:lnTo>
                      <a:pt x="1028" y="237"/>
                    </a:lnTo>
                    <a:lnTo>
                      <a:pt x="1029" y="225"/>
                    </a:lnTo>
                    <a:lnTo>
                      <a:pt x="1032" y="214"/>
                    </a:lnTo>
                    <a:lnTo>
                      <a:pt x="1034" y="208"/>
                    </a:lnTo>
                    <a:lnTo>
                      <a:pt x="1037" y="203"/>
                    </a:lnTo>
                    <a:lnTo>
                      <a:pt x="1042" y="198"/>
                    </a:lnTo>
                    <a:lnTo>
                      <a:pt x="1047" y="193"/>
                    </a:lnTo>
                    <a:lnTo>
                      <a:pt x="1052" y="188"/>
                    </a:lnTo>
                    <a:lnTo>
                      <a:pt x="1061" y="183"/>
                    </a:lnTo>
                    <a:lnTo>
                      <a:pt x="1070" y="179"/>
                    </a:lnTo>
                    <a:lnTo>
                      <a:pt x="1081" y="175"/>
                    </a:lnTo>
                    <a:lnTo>
                      <a:pt x="1094" y="169"/>
                    </a:lnTo>
                    <a:lnTo>
                      <a:pt x="1108" y="165"/>
                    </a:lnTo>
                    <a:lnTo>
                      <a:pt x="1124" y="161"/>
                    </a:lnTo>
                    <a:lnTo>
                      <a:pt x="1142" y="156"/>
                    </a:lnTo>
                    <a:lnTo>
                      <a:pt x="1155" y="153"/>
                    </a:lnTo>
                    <a:lnTo>
                      <a:pt x="1168" y="149"/>
                    </a:lnTo>
                    <a:lnTo>
                      <a:pt x="1180" y="143"/>
                    </a:lnTo>
                    <a:lnTo>
                      <a:pt x="1192" y="137"/>
                    </a:lnTo>
                    <a:lnTo>
                      <a:pt x="1215" y="123"/>
                    </a:lnTo>
                    <a:lnTo>
                      <a:pt x="1235" y="108"/>
                    </a:lnTo>
                    <a:lnTo>
                      <a:pt x="1257" y="93"/>
                    </a:lnTo>
                    <a:lnTo>
                      <a:pt x="1278" y="79"/>
                    </a:lnTo>
                    <a:lnTo>
                      <a:pt x="1289" y="72"/>
                    </a:lnTo>
                    <a:lnTo>
                      <a:pt x="1300" y="66"/>
                    </a:lnTo>
                    <a:lnTo>
                      <a:pt x="1311" y="61"/>
                    </a:lnTo>
                    <a:lnTo>
                      <a:pt x="1323" y="57"/>
                    </a:lnTo>
                    <a:lnTo>
                      <a:pt x="1337" y="54"/>
                    </a:lnTo>
                    <a:lnTo>
                      <a:pt x="1351" y="49"/>
                    </a:lnTo>
                    <a:lnTo>
                      <a:pt x="1364" y="44"/>
                    </a:lnTo>
                    <a:lnTo>
                      <a:pt x="1378" y="39"/>
                    </a:lnTo>
                    <a:lnTo>
                      <a:pt x="1404" y="27"/>
                    </a:lnTo>
                    <a:lnTo>
                      <a:pt x="1431" y="16"/>
                    </a:lnTo>
                    <a:lnTo>
                      <a:pt x="1444" y="10"/>
                    </a:lnTo>
                    <a:lnTo>
                      <a:pt x="1458" y="6"/>
                    </a:lnTo>
                    <a:lnTo>
                      <a:pt x="1471" y="3"/>
                    </a:lnTo>
                    <a:lnTo>
                      <a:pt x="1485" y="1"/>
                    </a:lnTo>
                    <a:lnTo>
                      <a:pt x="1499" y="0"/>
                    </a:lnTo>
                    <a:lnTo>
                      <a:pt x="1513" y="0"/>
                    </a:lnTo>
                    <a:lnTo>
                      <a:pt x="1528" y="2"/>
                    </a:lnTo>
                    <a:lnTo>
                      <a:pt x="1543" y="5"/>
                    </a:lnTo>
                    <a:lnTo>
                      <a:pt x="1575" y="16"/>
                    </a:lnTo>
                    <a:lnTo>
                      <a:pt x="1608" y="27"/>
                    </a:lnTo>
                    <a:lnTo>
                      <a:pt x="1640" y="37"/>
                    </a:lnTo>
                    <a:lnTo>
                      <a:pt x="1671" y="49"/>
                    </a:lnTo>
                    <a:lnTo>
                      <a:pt x="1703" y="62"/>
                    </a:lnTo>
                    <a:lnTo>
                      <a:pt x="1734" y="75"/>
                    </a:lnTo>
                    <a:lnTo>
                      <a:pt x="1764" y="89"/>
                    </a:lnTo>
                    <a:lnTo>
                      <a:pt x="1795" y="103"/>
                    </a:lnTo>
                    <a:lnTo>
                      <a:pt x="1825" y="117"/>
                    </a:lnTo>
                    <a:lnTo>
                      <a:pt x="1854" y="133"/>
                    </a:lnTo>
                    <a:lnTo>
                      <a:pt x="1884" y="148"/>
                    </a:lnTo>
                    <a:lnTo>
                      <a:pt x="1912" y="164"/>
                    </a:lnTo>
                    <a:lnTo>
                      <a:pt x="1942" y="181"/>
                    </a:lnTo>
                    <a:lnTo>
                      <a:pt x="1970" y="197"/>
                    </a:lnTo>
                    <a:lnTo>
                      <a:pt x="1998" y="216"/>
                    </a:lnTo>
                    <a:lnTo>
                      <a:pt x="2025" y="233"/>
                    </a:lnTo>
                    <a:lnTo>
                      <a:pt x="2053" y="251"/>
                    </a:lnTo>
                    <a:lnTo>
                      <a:pt x="2079" y="271"/>
                    </a:lnTo>
                    <a:lnTo>
                      <a:pt x="2106" y="290"/>
                    </a:lnTo>
                    <a:lnTo>
                      <a:pt x="2132" y="310"/>
                    </a:lnTo>
                    <a:lnTo>
                      <a:pt x="2158" y="330"/>
                    </a:lnTo>
                    <a:lnTo>
                      <a:pt x="2182" y="351"/>
                    </a:lnTo>
                    <a:lnTo>
                      <a:pt x="2207" y="372"/>
                    </a:lnTo>
                    <a:lnTo>
                      <a:pt x="2231" y="394"/>
                    </a:lnTo>
                    <a:lnTo>
                      <a:pt x="2256" y="415"/>
                    </a:lnTo>
                    <a:lnTo>
                      <a:pt x="2279" y="438"/>
                    </a:lnTo>
                    <a:lnTo>
                      <a:pt x="2302" y="461"/>
                    </a:lnTo>
                    <a:lnTo>
                      <a:pt x="2325" y="485"/>
                    </a:lnTo>
                    <a:lnTo>
                      <a:pt x="2347" y="508"/>
                    </a:lnTo>
                    <a:lnTo>
                      <a:pt x="2368" y="532"/>
                    </a:lnTo>
                    <a:lnTo>
                      <a:pt x="2390" y="557"/>
                    </a:lnTo>
                    <a:lnTo>
                      <a:pt x="2410" y="582"/>
                    </a:lnTo>
                    <a:lnTo>
                      <a:pt x="2328" y="592"/>
                    </a:lnTo>
                    <a:lnTo>
                      <a:pt x="2234" y="602"/>
                    </a:lnTo>
                    <a:lnTo>
                      <a:pt x="2186" y="609"/>
                    </a:lnTo>
                    <a:lnTo>
                      <a:pt x="2135" y="615"/>
                    </a:lnTo>
                    <a:lnTo>
                      <a:pt x="2085" y="623"/>
                    </a:lnTo>
                    <a:lnTo>
                      <a:pt x="2038" y="631"/>
                    </a:lnTo>
                    <a:lnTo>
                      <a:pt x="2014" y="637"/>
                    </a:lnTo>
                    <a:lnTo>
                      <a:pt x="1990" y="642"/>
                    </a:lnTo>
                    <a:lnTo>
                      <a:pt x="1969" y="648"/>
                    </a:lnTo>
                    <a:lnTo>
                      <a:pt x="1947" y="654"/>
                    </a:lnTo>
                    <a:lnTo>
                      <a:pt x="1926" y="661"/>
                    </a:lnTo>
                    <a:lnTo>
                      <a:pt x="1907" y="667"/>
                    </a:lnTo>
                    <a:lnTo>
                      <a:pt x="1889" y="676"/>
                    </a:lnTo>
                    <a:lnTo>
                      <a:pt x="1871" y="683"/>
                    </a:lnTo>
                    <a:lnTo>
                      <a:pt x="1855" y="693"/>
                    </a:lnTo>
                    <a:lnTo>
                      <a:pt x="1840" y="702"/>
                    </a:lnTo>
                    <a:lnTo>
                      <a:pt x="1827" y="712"/>
                    </a:lnTo>
                    <a:lnTo>
                      <a:pt x="1815" y="723"/>
                    </a:lnTo>
                    <a:lnTo>
                      <a:pt x="1805" y="735"/>
                    </a:lnTo>
                    <a:lnTo>
                      <a:pt x="1798" y="747"/>
                    </a:lnTo>
                    <a:lnTo>
                      <a:pt x="1791" y="760"/>
                    </a:lnTo>
                    <a:lnTo>
                      <a:pt x="1788" y="774"/>
                    </a:lnTo>
                    <a:lnTo>
                      <a:pt x="1786" y="785"/>
                    </a:lnTo>
                    <a:lnTo>
                      <a:pt x="1785" y="796"/>
                    </a:lnTo>
                    <a:lnTo>
                      <a:pt x="1786" y="805"/>
                    </a:lnTo>
                    <a:lnTo>
                      <a:pt x="1787" y="816"/>
                    </a:lnTo>
                    <a:lnTo>
                      <a:pt x="1789" y="827"/>
                    </a:lnTo>
                    <a:lnTo>
                      <a:pt x="1791" y="837"/>
                    </a:lnTo>
                    <a:lnTo>
                      <a:pt x="1796" y="847"/>
                    </a:lnTo>
                    <a:lnTo>
                      <a:pt x="1800" y="858"/>
                    </a:lnTo>
                    <a:lnTo>
                      <a:pt x="1805" y="868"/>
                    </a:lnTo>
                    <a:lnTo>
                      <a:pt x="1811" y="879"/>
                    </a:lnTo>
                    <a:lnTo>
                      <a:pt x="1817" y="890"/>
                    </a:lnTo>
                    <a:lnTo>
                      <a:pt x="1825" y="899"/>
                    </a:lnTo>
                    <a:lnTo>
                      <a:pt x="1841" y="920"/>
                    </a:lnTo>
                    <a:lnTo>
                      <a:pt x="1859" y="940"/>
                    </a:lnTo>
                    <a:lnTo>
                      <a:pt x="1879" y="960"/>
                    </a:lnTo>
                    <a:lnTo>
                      <a:pt x="1899" y="979"/>
                    </a:lnTo>
                    <a:lnTo>
                      <a:pt x="1921" y="999"/>
                    </a:lnTo>
                    <a:lnTo>
                      <a:pt x="1944" y="1017"/>
                    </a:lnTo>
                    <a:lnTo>
                      <a:pt x="1989" y="1053"/>
                    </a:lnTo>
                    <a:lnTo>
                      <a:pt x="2032" y="1086"/>
                    </a:lnTo>
                    <a:close/>
                  </a:path>
                </a:pathLst>
              </a:custGeom>
              <a:solidFill>
                <a:srgbClr val="567b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5300640" y="3730680"/>
                <a:ext cx="765000" cy="1343160"/>
              </a:xfrm>
              <a:custGeom>
                <a:avLst/>
                <a:gdLst/>
                <a:ahLst/>
                <a:rect l="l" t="t" r="r" b="b"/>
                <a:pathLst>
                  <a:path w="2410" h="4230">
                    <a:moveTo>
                      <a:pt x="1978" y="1090"/>
                    </a:moveTo>
                    <a:lnTo>
                      <a:pt x="1958" y="1102"/>
                    </a:lnTo>
                    <a:lnTo>
                      <a:pt x="1938" y="1114"/>
                    </a:lnTo>
                    <a:lnTo>
                      <a:pt x="1922" y="1126"/>
                    </a:lnTo>
                    <a:lnTo>
                      <a:pt x="1907" y="1138"/>
                    </a:lnTo>
                    <a:lnTo>
                      <a:pt x="1894" y="1150"/>
                    </a:lnTo>
                    <a:lnTo>
                      <a:pt x="1883" y="1162"/>
                    </a:lnTo>
                    <a:lnTo>
                      <a:pt x="1873" y="1174"/>
                    </a:lnTo>
                    <a:lnTo>
                      <a:pt x="1865" y="1187"/>
                    </a:lnTo>
                    <a:lnTo>
                      <a:pt x="1858" y="1201"/>
                    </a:lnTo>
                    <a:lnTo>
                      <a:pt x="1854" y="1215"/>
                    </a:lnTo>
                    <a:lnTo>
                      <a:pt x="1850" y="1230"/>
                    </a:lnTo>
                    <a:lnTo>
                      <a:pt x="1848" y="1246"/>
                    </a:lnTo>
                    <a:lnTo>
                      <a:pt x="1845" y="1262"/>
                    </a:lnTo>
                    <a:lnTo>
                      <a:pt x="1845" y="1281"/>
                    </a:lnTo>
                    <a:lnTo>
                      <a:pt x="1845" y="1300"/>
                    </a:lnTo>
                    <a:lnTo>
                      <a:pt x="1848" y="1321"/>
                    </a:lnTo>
                    <a:lnTo>
                      <a:pt x="1850" y="1337"/>
                    </a:lnTo>
                    <a:lnTo>
                      <a:pt x="1855" y="1355"/>
                    </a:lnTo>
                    <a:lnTo>
                      <a:pt x="1863" y="1375"/>
                    </a:lnTo>
                    <a:lnTo>
                      <a:pt x="1872" y="1395"/>
                    </a:lnTo>
                    <a:lnTo>
                      <a:pt x="1883" y="1417"/>
                    </a:lnTo>
                    <a:lnTo>
                      <a:pt x="1896" y="1438"/>
                    </a:lnTo>
                    <a:lnTo>
                      <a:pt x="1910" y="1460"/>
                    </a:lnTo>
                    <a:lnTo>
                      <a:pt x="1924" y="1483"/>
                    </a:lnTo>
                    <a:lnTo>
                      <a:pt x="1940" y="1504"/>
                    </a:lnTo>
                    <a:lnTo>
                      <a:pt x="1957" y="1526"/>
                    </a:lnTo>
                    <a:lnTo>
                      <a:pt x="1973" y="1546"/>
                    </a:lnTo>
                    <a:lnTo>
                      <a:pt x="1990" y="1566"/>
                    </a:lnTo>
                    <a:lnTo>
                      <a:pt x="2006" y="1584"/>
                    </a:lnTo>
                    <a:lnTo>
                      <a:pt x="2023" y="1601"/>
                    </a:lnTo>
                    <a:lnTo>
                      <a:pt x="2038" y="1616"/>
                    </a:lnTo>
                    <a:lnTo>
                      <a:pt x="2053" y="1629"/>
                    </a:lnTo>
                    <a:lnTo>
                      <a:pt x="2074" y="1648"/>
                    </a:lnTo>
                    <a:lnTo>
                      <a:pt x="2096" y="1663"/>
                    </a:lnTo>
                    <a:lnTo>
                      <a:pt x="2117" y="1676"/>
                    </a:lnTo>
                    <a:lnTo>
                      <a:pt x="2137" y="1687"/>
                    </a:lnTo>
                    <a:lnTo>
                      <a:pt x="2173" y="1704"/>
                    </a:lnTo>
                    <a:lnTo>
                      <a:pt x="2203" y="1719"/>
                    </a:lnTo>
                    <a:lnTo>
                      <a:pt x="2216" y="1727"/>
                    </a:lnTo>
                    <a:lnTo>
                      <a:pt x="2227" y="1735"/>
                    </a:lnTo>
                    <a:lnTo>
                      <a:pt x="2231" y="1740"/>
                    </a:lnTo>
                    <a:lnTo>
                      <a:pt x="2235" y="1745"/>
                    </a:lnTo>
                    <a:lnTo>
                      <a:pt x="2240" y="1750"/>
                    </a:lnTo>
                    <a:lnTo>
                      <a:pt x="2243" y="1756"/>
                    </a:lnTo>
                    <a:lnTo>
                      <a:pt x="2245" y="1762"/>
                    </a:lnTo>
                    <a:lnTo>
                      <a:pt x="2247" y="1770"/>
                    </a:lnTo>
                    <a:lnTo>
                      <a:pt x="2249" y="1777"/>
                    </a:lnTo>
                    <a:lnTo>
                      <a:pt x="2249" y="1786"/>
                    </a:lnTo>
                    <a:lnTo>
                      <a:pt x="2250" y="1795"/>
                    </a:lnTo>
                    <a:lnTo>
                      <a:pt x="2250" y="1804"/>
                    </a:lnTo>
                    <a:lnTo>
                      <a:pt x="2249" y="1815"/>
                    </a:lnTo>
                    <a:lnTo>
                      <a:pt x="2247" y="1827"/>
                    </a:lnTo>
                    <a:lnTo>
                      <a:pt x="2246" y="1836"/>
                    </a:lnTo>
                    <a:lnTo>
                      <a:pt x="2243" y="1842"/>
                    </a:lnTo>
                    <a:lnTo>
                      <a:pt x="2240" y="1848"/>
                    </a:lnTo>
                    <a:lnTo>
                      <a:pt x="2235" y="1853"/>
                    </a:lnTo>
                    <a:lnTo>
                      <a:pt x="2231" y="1857"/>
                    </a:lnTo>
                    <a:lnTo>
                      <a:pt x="2225" y="1861"/>
                    </a:lnTo>
                    <a:lnTo>
                      <a:pt x="2219" y="1863"/>
                    </a:lnTo>
                    <a:lnTo>
                      <a:pt x="2212" y="1865"/>
                    </a:lnTo>
                    <a:lnTo>
                      <a:pt x="2196" y="1867"/>
                    </a:lnTo>
                    <a:lnTo>
                      <a:pt x="2179" y="1867"/>
                    </a:lnTo>
                    <a:lnTo>
                      <a:pt x="2161" y="1867"/>
                    </a:lnTo>
                    <a:lnTo>
                      <a:pt x="2140" y="1867"/>
                    </a:lnTo>
                    <a:lnTo>
                      <a:pt x="2120" y="1866"/>
                    </a:lnTo>
                    <a:lnTo>
                      <a:pt x="2098" y="1867"/>
                    </a:lnTo>
                    <a:lnTo>
                      <a:pt x="2087" y="1868"/>
                    </a:lnTo>
                    <a:lnTo>
                      <a:pt x="2075" y="1869"/>
                    </a:lnTo>
                    <a:lnTo>
                      <a:pt x="2065" y="1871"/>
                    </a:lnTo>
                    <a:lnTo>
                      <a:pt x="2054" y="1873"/>
                    </a:lnTo>
                    <a:lnTo>
                      <a:pt x="2043" y="1877"/>
                    </a:lnTo>
                    <a:lnTo>
                      <a:pt x="2032" y="1881"/>
                    </a:lnTo>
                    <a:lnTo>
                      <a:pt x="2021" y="1885"/>
                    </a:lnTo>
                    <a:lnTo>
                      <a:pt x="2011" y="1892"/>
                    </a:lnTo>
                    <a:lnTo>
                      <a:pt x="2000" y="1898"/>
                    </a:lnTo>
                    <a:lnTo>
                      <a:pt x="1990" y="1907"/>
                    </a:lnTo>
                    <a:lnTo>
                      <a:pt x="1980" y="1916"/>
                    </a:lnTo>
                    <a:lnTo>
                      <a:pt x="1971" y="1926"/>
                    </a:lnTo>
                    <a:lnTo>
                      <a:pt x="1979" y="1934"/>
                    </a:lnTo>
                    <a:lnTo>
                      <a:pt x="1988" y="1943"/>
                    </a:lnTo>
                    <a:lnTo>
                      <a:pt x="1996" y="1951"/>
                    </a:lnTo>
                    <a:lnTo>
                      <a:pt x="2004" y="1962"/>
                    </a:lnTo>
                    <a:lnTo>
                      <a:pt x="2020" y="1985"/>
                    </a:lnTo>
                    <a:lnTo>
                      <a:pt x="2037" y="2008"/>
                    </a:lnTo>
                    <a:lnTo>
                      <a:pt x="2052" y="2033"/>
                    </a:lnTo>
                    <a:lnTo>
                      <a:pt x="2067" y="2058"/>
                    </a:lnTo>
                    <a:lnTo>
                      <a:pt x="2080" y="2082"/>
                    </a:lnTo>
                    <a:lnTo>
                      <a:pt x="2092" y="2105"/>
                    </a:lnTo>
                    <a:lnTo>
                      <a:pt x="2095" y="2108"/>
                    </a:lnTo>
                    <a:lnTo>
                      <a:pt x="2099" y="2112"/>
                    </a:lnTo>
                    <a:lnTo>
                      <a:pt x="2106" y="2115"/>
                    </a:lnTo>
                    <a:lnTo>
                      <a:pt x="2112" y="2120"/>
                    </a:lnTo>
                    <a:lnTo>
                      <a:pt x="2127" y="2126"/>
                    </a:lnTo>
                    <a:lnTo>
                      <a:pt x="2144" y="2132"/>
                    </a:lnTo>
                    <a:lnTo>
                      <a:pt x="2158" y="2137"/>
                    </a:lnTo>
                    <a:lnTo>
                      <a:pt x="2166" y="2140"/>
                    </a:lnTo>
                    <a:lnTo>
                      <a:pt x="2169" y="2142"/>
                    </a:lnTo>
                    <a:lnTo>
                      <a:pt x="2169" y="2143"/>
                    </a:lnTo>
                    <a:lnTo>
                      <a:pt x="2167" y="2146"/>
                    </a:lnTo>
                    <a:lnTo>
                      <a:pt x="2164" y="2146"/>
                    </a:lnTo>
                    <a:lnTo>
                      <a:pt x="2138" y="2150"/>
                    </a:lnTo>
                    <a:lnTo>
                      <a:pt x="2112" y="2152"/>
                    </a:lnTo>
                    <a:lnTo>
                      <a:pt x="2086" y="2154"/>
                    </a:lnTo>
                    <a:lnTo>
                      <a:pt x="2059" y="2156"/>
                    </a:lnTo>
                    <a:lnTo>
                      <a:pt x="2033" y="2158"/>
                    </a:lnTo>
                    <a:lnTo>
                      <a:pt x="2007" y="2158"/>
                    </a:lnTo>
                    <a:lnTo>
                      <a:pt x="1982" y="2159"/>
                    </a:lnTo>
                    <a:lnTo>
                      <a:pt x="1956" y="2159"/>
                    </a:lnTo>
                    <a:lnTo>
                      <a:pt x="1959" y="2177"/>
                    </a:lnTo>
                    <a:lnTo>
                      <a:pt x="1963" y="2194"/>
                    </a:lnTo>
                    <a:lnTo>
                      <a:pt x="1970" y="2209"/>
                    </a:lnTo>
                    <a:lnTo>
                      <a:pt x="1976" y="2223"/>
                    </a:lnTo>
                    <a:lnTo>
                      <a:pt x="1985" y="2235"/>
                    </a:lnTo>
                    <a:lnTo>
                      <a:pt x="1994" y="2247"/>
                    </a:lnTo>
                    <a:lnTo>
                      <a:pt x="2004" y="2257"/>
                    </a:lnTo>
                    <a:lnTo>
                      <a:pt x="2016" y="2266"/>
                    </a:lnTo>
                    <a:lnTo>
                      <a:pt x="2028" y="2274"/>
                    </a:lnTo>
                    <a:lnTo>
                      <a:pt x="2040" y="2281"/>
                    </a:lnTo>
                    <a:lnTo>
                      <a:pt x="2053" y="2287"/>
                    </a:lnTo>
                    <a:lnTo>
                      <a:pt x="2066" y="2294"/>
                    </a:lnTo>
                    <a:lnTo>
                      <a:pt x="2093" y="2303"/>
                    </a:lnTo>
                    <a:lnTo>
                      <a:pt x="2119" y="2314"/>
                    </a:lnTo>
                    <a:lnTo>
                      <a:pt x="2144" y="2324"/>
                    </a:lnTo>
                    <a:lnTo>
                      <a:pt x="2166" y="2335"/>
                    </a:lnTo>
                    <a:lnTo>
                      <a:pt x="2176" y="2341"/>
                    </a:lnTo>
                    <a:lnTo>
                      <a:pt x="2185" y="2348"/>
                    </a:lnTo>
                    <a:lnTo>
                      <a:pt x="2192" y="2355"/>
                    </a:lnTo>
                    <a:lnTo>
                      <a:pt x="2199" y="2364"/>
                    </a:lnTo>
                    <a:lnTo>
                      <a:pt x="2204" y="2374"/>
                    </a:lnTo>
                    <a:lnTo>
                      <a:pt x="2207" y="2384"/>
                    </a:lnTo>
                    <a:lnTo>
                      <a:pt x="2209" y="2396"/>
                    </a:lnTo>
                    <a:lnTo>
                      <a:pt x="2211" y="2410"/>
                    </a:lnTo>
                    <a:lnTo>
                      <a:pt x="2208" y="2425"/>
                    </a:lnTo>
                    <a:lnTo>
                      <a:pt x="2205" y="2442"/>
                    </a:lnTo>
                    <a:lnTo>
                      <a:pt x="2199" y="2460"/>
                    </a:lnTo>
                    <a:lnTo>
                      <a:pt x="2191" y="2479"/>
                    </a:lnTo>
                    <a:lnTo>
                      <a:pt x="2185" y="2493"/>
                    </a:lnTo>
                    <a:lnTo>
                      <a:pt x="2178" y="2503"/>
                    </a:lnTo>
                    <a:lnTo>
                      <a:pt x="2172" y="2512"/>
                    </a:lnTo>
                    <a:lnTo>
                      <a:pt x="2165" y="2518"/>
                    </a:lnTo>
                    <a:lnTo>
                      <a:pt x="2159" y="2524"/>
                    </a:lnTo>
                    <a:lnTo>
                      <a:pt x="2151" y="2527"/>
                    </a:lnTo>
                    <a:lnTo>
                      <a:pt x="2145" y="2529"/>
                    </a:lnTo>
                    <a:lnTo>
                      <a:pt x="2138" y="2530"/>
                    </a:lnTo>
                    <a:lnTo>
                      <a:pt x="2123" y="2529"/>
                    </a:lnTo>
                    <a:lnTo>
                      <a:pt x="2107" y="2528"/>
                    </a:lnTo>
                    <a:lnTo>
                      <a:pt x="2098" y="2528"/>
                    </a:lnTo>
                    <a:lnTo>
                      <a:pt x="2090" y="2528"/>
                    </a:lnTo>
                    <a:lnTo>
                      <a:pt x="2080" y="2528"/>
                    </a:lnTo>
                    <a:lnTo>
                      <a:pt x="2070" y="2529"/>
                    </a:lnTo>
                    <a:lnTo>
                      <a:pt x="2064" y="2531"/>
                    </a:lnTo>
                    <a:lnTo>
                      <a:pt x="2059" y="2532"/>
                    </a:lnTo>
                    <a:lnTo>
                      <a:pt x="2056" y="2536"/>
                    </a:lnTo>
                    <a:lnTo>
                      <a:pt x="2053" y="2539"/>
                    </a:lnTo>
                    <a:lnTo>
                      <a:pt x="2051" y="2542"/>
                    </a:lnTo>
                    <a:lnTo>
                      <a:pt x="2050" y="2546"/>
                    </a:lnTo>
                    <a:lnTo>
                      <a:pt x="2050" y="2551"/>
                    </a:lnTo>
                    <a:lnTo>
                      <a:pt x="2050" y="2555"/>
                    </a:lnTo>
                    <a:lnTo>
                      <a:pt x="2051" y="2566"/>
                    </a:lnTo>
                    <a:lnTo>
                      <a:pt x="2054" y="2578"/>
                    </a:lnTo>
                    <a:lnTo>
                      <a:pt x="2059" y="2590"/>
                    </a:lnTo>
                    <a:lnTo>
                      <a:pt x="2065" y="2601"/>
                    </a:lnTo>
                    <a:lnTo>
                      <a:pt x="2075" y="2627"/>
                    </a:lnTo>
                    <a:lnTo>
                      <a:pt x="2084" y="2650"/>
                    </a:lnTo>
                    <a:lnTo>
                      <a:pt x="2087" y="2660"/>
                    </a:lnTo>
                    <a:lnTo>
                      <a:pt x="2087" y="2668"/>
                    </a:lnTo>
                    <a:lnTo>
                      <a:pt x="2086" y="2672"/>
                    </a:lnTo>
                    <a:lnTo>
                      <a:pt x="2085" y="2675"/>
                    </a:lnTo>
                    <a:lnTo>
                      <a:pt x="2083" y="2678"/>
                    </a:lnTo>
                    <a:lnTo>
                      <a:pt x="2080" y="2680"/>
                    </a:lnTo>
                    <a:lnTo>
                      <a:pt x="2059" y="2690"/>
                    </a:lnTo>
                    <a:lnTo>
                      <a:pt x="2040" y="2699"/>
                    </a:lnTo>
                    <a:lnTo>
                      <a:pt x="2020" y="2704"/>
                    </a:lnTo>
                    <a:lnTo>
                      <a:pt x="2001" y="2708"/>
                    </a:lnTo>
                    <a:lnTo>
                      <a:pt x="1980" y="2709"/>
                    </a:lnTo>
                    <a:lnTo>
                      <a:pt x="1959" y="2709"/>
                    </a:lnTo>
                    <a:lnTo>
                      <a:pt x="1936" y="2707"/>
                    </a:lnTo>
                    <a:lnTo>
                      <a:pt x="1911" y="2702"/>
                    </a:lnTo>
                    <a:lnTo>
                      <a:pt x="1915" y="2712"/>
                    </a:lnTo>
                    <a:lnTo>
                      <a:pt x="1917" y="2721"/>
                    </a:lnTo>
                    <a:lnTo>
                      <a:pt x="1919" y="2731"/>
                    </a:lnTo>
                    <a:lnTo>
                      <a:pt x="1920" y="2740"/>
                    </a:lnTo>
                    <a:lnTo>
                      <a:pt x="1920" y="2757"/>
                    </a:lnTo>
                    <a:lnTo>
                      <a:pt x="1918" y="2774"/>
                    </a:lnTo>
                    <a:lnTo>
                      <a:pt x="1915" y="2790"/>
                    </a:lnTo>
                    <a:lnTo>
                      <a:pt x="1909" y="2807"/>
                    </a:lnTo>
                    <a:lnTo>
                      <a:pt x="1905" y="2823"/>
                    </a:lnTo>
                    <a:lnTo>
                      <a:pt x="1899" y="2838"/>
                    </a:lnTo>
                    <a:lnTo>
                      <a:pt x="1895" y="2853"/>
                    </a:lnTo>
                    <a:lnTo>
                      <a:pt x="1891" y="2867"/>
                    </a:lnTo>
                    <a:lnTo>
                      <a:pt x="1889" y="2882"/>
                    </a:lnTo>
                    <a:lnTo>
                      <a:pt x="1889" y="2896"/>
                    </a:lnTo>
                    <a:lnTo>
                      <a:pt x="1890" y="2904"/>
                    </a:lnTo>
                    <a:lnTo>
                      <a:pt x="1891" y="2910"/>
                    </a:lnTo>
                    <a:lnTo>
                      <a:pt x="1894" y="2918"/>
                    </a:lnTo>
                    <a:lnTo>
                      <a:pt x="1896" y="2925"/>
                    </a:lnTo>
                    <a:lnTo>
                      <a:pt x="1900" y="2932"/>
                    </a:lnTo>
                    <a:lnTo>
                      <a:pt x="1906" y="2939"/>
                    </a:lnTo>
                    <a:lnTo>
                      <a:pt x="1911" y="2947"/>
                    </a:lnTo>
                    <a:lnTo>
                      <a:pt x="1919" y="2955"/>
                    </a:lnTo>
                    <a:lnTo>
                      <a:pt x="1912" y="2957"/>
                    </a:lnTo>
                    <a:lnTo>
                      <a:pt x="1907" y="2960"/>
                    </a:lnTo>
                    <a:lnTo>
                      <a:pt x="1903" y="2963"/>
                    </a:lnTo>
                    <a:lnTo>
                      <a:pt x="1899" y="2968"/>
                    </a:lnTo>
                    <a:lnTo>
                      <a:pt x="1897" y="2973"/>
                    </a:lnTo>
                    <a:lnTo>
                      <a:pt x="1896" y="2978"/>
                    </a:lnTo>
                    <a:lnTo>
                      <a:pt x="1896" y="2984"/>
                    </a:lnTo>
                    <a:lnTo>
                      <a:pt x="1897" y="2990"/>
                    </a:lnTo>
                    <a:lnTo>
                      <a:pt x="1902" y="3004"/>
                    </a:lnTo>
                    <a:lnTo>
                      <a:pt x="1908" y="3019"/>
                    </a:lnTo>
                    <a:lnTo>
                      <a:pt x="1916" y="3036"/>
                    </a:lnTo>
                    <a:lnTo>
                      <a:pt x="1926" y="3053"/>
                    </a:lnTo>
                    <a:lnTo>
                      <a:pt x="1947" y="3088"/>
                    </a:lnTo>
                    <a:lnTo>
                      <a:pt x="1967" y="3123"/>
                    </a:lnTo>
                    <a:lnTo>
                      <a:pt x="1975" y="3140"/>
                    </a:lnTo>
                    <a:lnTo>
                      <a:pt x="1980" y="3157"/>
                    </a:lnTo>
                    <a:lnTo>
                      <a:pt x="1983" y="3164"/>
                    </a:lnTo>
                    <a:lnTo>
                      <a:pt x="1984" y="3171"/>
                    </a:lnTo>
                    <a:lnTo>
                      <a:pt x="1984" y="3178"/>
                    </a:lnTo>
                    <a:lnTo>
                      <a:pt x="1983" y="3185"/>
                    </a:lnTo>
                    <a:lnTo>
                      <a:pt x="1985" y="3188"/>
                    </a:lnTo>
                    <a:lnTo>
                      <a:pt x="1988" y="3194"/>
                    </a:lnTo>
                    <a:lnTo>
                      <a:pt x="1996" y="3203"/>
                    </a:lnTo>
                    <a:lnTo>
                      <a:pt x="2004" y="3212"/>
                    </a:lnTo>
                    <a:lnTo>
                      <a:pt x="2027" y="3234"/>
                    </a:lnTo>
                    <a:lnTo>
                      <a:pt x="2054" y="3258"/>
                    </a:lnTo>
                    <a:lnTo>
                      <a:pt x="2083" y="3282"/>
                    </a:lnTo>
                    <a:lnTo>
                      <a:pt x="2109" y="3301"/>
                    </a:lnTo>
                    <a:lnTo>
                      <a:pt x="2121" y="3309"/>
                    </a:lnTo>
                    <a:lnTo>
                      <a:pt x="2131" y="3314"/>
                    </a:lnTo>
                    <a:lnTo>
                      <a:pt x="2138" y="3317"/>
                    </a:lnTo>
                    <a:lnTo>
                      <a:pt x="2144" y="3317"/>
                    </a:lnTo>
                    <a:lnTo>
                      <a:pt x="2114" y="3315"/>
                    </a:lnTo>
                    <a:lnTo>
                      <a:pt x="2069" y="3314"/>
                    </a:lnTo>
                    <a:lnTo>
                      <a:pt x="2015" y="3314"/>
                    </a:lnTo>
                    <a:lnTo>
                      <a:pt x="1955" y="3313"/>
                    </a:lnTo>
                    <a:lnTo>
                      <a:pt x="1895" y="3312"/>
                    </a:lnTo>
                    <a:lnTo>
                      <a:pt x="1840" y="3311"/>
                    </a:lnTo>
                    <a:lnTo>
                      <a:pt x="1816" y="3309"/>
                    </a:lnTo>
                    <a:lnTo>
                      <a:pt x="1796" y="3308"/>
                    </a:lnTo>
                    <a:lnTo>
                      <a:pt x="1778" y="3306"/>
                    </a:lnTo>
                    <a:lnTo>
                      <a:pt x="1765" y="3303"/>
                    </a:lnTo>
                    <a:lnTo>
                      <a:pt x="1765" y="3325"/>
                    </a:lnTo>
                    <a:lnTo>
                      <a:pt x="1768" y="3347"/>
                    </a:lnTo>
                    <a:lnTo>
                      <a:pt x="1771" y="3367"/>
                    </a:lnTo>
                    <a:lnTo>
                      <a:pt x="1776" y="3388"/>
                    </a:lnTo>
                    <a:lnTo>
                      <a:pt x="1783" y="3408"/>
                    </a:lnTo>
                    <a:lnTo>
                      <a:pt x="1790" y="3428"/>
                    </a:lnTo>
                    <a:lnTo>
                      <a:pt x="1799" y="3447"/>
                    </a:lnTo>
                    <a:lnTo>
                      <a:pt x="1809" y="3465"/>
                    </a:lnTo>
                    <a:lnTo>
                      <a:pt x="1821" y="3483"/>
                    </a:lnTo>
                    <a:lnTo>
                      <a:pt x="1832" y="3500"/>
                    </a:lnTo>
                    <a:lnTo>
                      <a:pt x="1845" y="3517"/>
                    </a:lnTo>
                    <a:lnTo>
                      <a:pt x="1859" y="3533"/>
                    </a:lnTo>
                    <a:lnTo>
                      <a:pt x="1873" y="3549"/>
                    </a:lnTo>
                    <a:lnTo>
                      <a:pt x="1889" y="3564"/>
                    </a:lnTo>
                    <a:lnTo>
                      <a:pt x="1905" y="3579"/>
                    </a:lnTo>
                    <a:lnTo>
                      <a:pt x="1921" y="3592"/>
                    </a:lnTo>
                    <a:lnTo>
                      <a:pt x="1907" y="3594"/>
                    </a:lnTo>
                    <a:lnTo>
                      <a:pt x="1893" y="3598"/>
                    </a:lnTo>
                    <a:lnTo>
                      <a:pt x="1885" y="3600"/>
                    </a:lnTo>
                    <a:lnTo>
                      <a:pt x="1880" y="3603"/>
                    </a:lnTo>
                    <a:lnTo>
                      <a:pt x="1873" y="3606"/>
                    </a:lnTo>
                    <a:lnTo>
                      <a:pt x="1869" y="3609"/>
                    </a:lnTo>
                    <a:lnTo>
                      <a:pt x="1864" y="3613"/>
                    </a:lnTo>
                    <a:lnTo>
                      <a:pt x="1861" y="3618"/>
                    </a:lnTo>
                    <a:lnTo>
                      <a:pt x="1857" y="3622"/>
                    </a:lnTo>
                    <a:lnTo>
                      <a:pt x="1855" y="3628"/>
                    </a:lnTo>
                    <a:lnTo>
                      <a:pt x="1854" y="3635"/>
                    </a:lnTo>
                    <a:lnTo>
                      <a:pt x="1854" y="3643"/>
                    </a:lnTo>
                    <a:lnTo>
                      <a:pt x="1855" y="3650"/>
                    </a:lnTo>
                    <a:lnTo>
                      <a:pt x="1857" y="3659"/>
                    </a:lnTo>
                    <a:lnTo>
                      <a:pt x="1863" y="3684"/>
                    </a:lnTo>
                    <a:lnTo>
                      <a:pt x="1869" y="3721"/>
                    </a:lnTo>
                    <a:lnTo>
                      <a:pt x="1876" y="3767"/>
                    </a:lnTo>
                    <a:lnTo>
                      <a:pt x="1884" y="3816"/>
                    </a:lnTo>
                    <a:lnTo>
                      <a:pt x="1893" y="3865"/>
                    </a:lnTo>
                    <a:lnTo>
                      <a:pt x="1902" y="3908"/>
                    </a:lnTo>
                    <a:lnTo>
                      <a:pt x="1907" y="3928"/>
                    </a:lnTo>
                    <a:lnTo>
                      <a:pt x="1912" y="3944"/>
                    </a:lnTo>
                    <a:lnTo>
                      <a:pt x="1918" y="3957"/>
                    </a:lnTo>
                    <a:lnTo>
                      <a:pt x="1924" y="3965"/>
                    </a:lnTo>
                    <a:lnTo>
                      <a:pt x="1934" y="3976"/>
                    </a:lnTo>
                    <a:lnTo>
                      <a:pt x="1943" y="3985"/>
                    </a:lnTo>
                    <a:lnTo>
                      <a:pt x="1952" y="3991"/>
                    </a:lnTo>
                    <a:lnTo>
                      <a:pt x="1961" y="3997"/>
                    </a:lnTo>
                    <a:lnTo>
                      <a:pt x="1977" y="4005"/>
                    </a:lnTo>
                    <a:lnTo>
                      <a:pt x="1992" y="4012"/>
                    </a:lnTo>
                    <a:lnTo>
                      <a:pt x="2000" y="4015"/>
                    </a:lnTo>
                    <a:lnTo>
                      <a:pt x="2007" y="4018"/>
                    </a:lnTo>
                    <a:lnTo>
                      <a:pt x="2015" y="4023"/>
                    </a:lnTo>
                    <a:lnTo>
                      <a:pt x="2024" y="4028"/>
                    </a:lnTo>
                    <a:lnTo>
                      <a:pt x="2031" y="4035"/>
                    </a:lnTo>
                    <a:lnTo>
                      <a:pt x="2040" y="4043"/>
                    </a:lnTo>
                    <a:lnTo>
                      <a:pt x="2048" y="4053"/>
                    </a:lnTo>
                    <a:lnTo>
                      <a:pt x="2057" y="4065"/>
                    </a:lnTo>
                    <a:lnTo>
                      <a:pt x="2064" y="4064"/>
                    </a:lnTo>
                    <a:lnTo>
                      <a:pt x="2078" y="4064"/>
                    </a:lnTo>
                    <a:lnTo>
                      <a:pt x="2095" y="4064"/>
                    </a:lnTo>
                    <a:lnTo>
                      <a:pt x="2109" y="4065"/>
                    </a:lnTo>
                    <a:lnTo>
                      <a:pt x="2114" y="4067"/>
                    </a:lnTo>
                    <a:lnTo>
                      <a:pt x="2118" y="4069"/>
                    </a:lnTo>
                    <a:lnTo>
                      <a:pt x="2118" y="4070"/>
                    </a:lnTo>
                    <a:lnTo>
                      <a:pt x="2117" y="4072"/>
                    </a:lnTo>
                    <a:lnTo>
                      <a:pt x="2115" y="4075"/>
                    </a:lnTo>
                    <a:lnTo>
                      <a:pt x="2112" y="4077"/>
                    </a:lnTo>
                    <a:lnTo>
                      <a:pt x="2104" y="4082"/>
                    </a:lnTo>
                    <a:lnTo>
                      <a:pt x="2091" y="4089"/>
                    </a:lnTo>
                    <a:lnTo>
                      <a:pt x="2071" y="4097"/>
                    </a:lnTo>
                    <a:lnTo>
                      <a:pt x="2045" y="4106"/>
                    </a:lnTo>
                    <a:lnTo>
                      <a:pt x="2016" y="4117"/>
                    </a:lnTo>
                    <a:lnTo>
                      <a:pt x="1990" y="4127"/>
                    </a:lnTo>
                    <a:lnTo>
                      <a:pt x="1964" y="4139"/>
                    </a:lnTo>
                    <a:lnTo>
                      <a:pt x="1940" y="4150"/>
                    </a:lnTo>
                    <a:lnTo>
                      <a:pt x="1899" y="4171"/>
                    </a:lnTo>
                    <a:lnTo>
                      <a:pt x="1864" y="4189"/>
                    </a:lnTo>
                    <a:lnTo>
                      <a:pt x="1837" y="4206"/>
                    </a:lnTo>
                    <a:lnTo>
                      <a:pt x="1816" y="4218"/>
                    </a:lnTo>
                    <a:lnTo>
                      <a:pt x="1804" y="4227"/>
                    </a:lnTo>
                    <a:lnTo>
                      <a:pt x="1800" y="4230"/>
                    </a:lnTo>
                    <a:lnTo>
                      <a:pt x="1791" y="4224"/>
                    </a:lnTo>
                    <a:lnTo>
                      <a:pt x="1783" y="4215"/>
                    </a:lnTo>
                    <a:lnTo>
                      <a:pt x="1775" y="4206"/>
                    </a:lnTo>
                    <a:lnTo>
                      <a:pt x="1768" y="4197"/>
                    </a:lnTo>
                    <a:lnTo>
                      <a:pt x="1761" y="4186"/>
                    </a:lnTo>
                    <a:lnTo>
                      <a:pt x="1756" y="4175"/>
                    </a:lnTo>
                    <a:lnTo>
                      <a:pt x="1750" y="4163"/>
                    </a:lnTo>
                    <a:lnTo>
                      <a:pt x="1746" y="4150"/>
                    </a:lnTo>
                    <a:lnTo>
                      <a:pt x="1742" y="4137"/>
                    </a:lnTo>
                    <a:lnTo>
                      <a:pt x="1738" y="4123"/>
                    </a:lnTo>
                    <a:lnTo>
                      <a:pt x="1735" y="4109"/>
                    </a:lnTo>
                    <a:lnTo>
                      <a:pt x="1732" y="4094"/>
                    </a:lnTo>
                    <a:lnTo>
                      <a:pt x="1729" y="4064"/>
                    </a:lnTo>
                    <a:lnTo>
                      <a:pt x="1727" y="4033"/>
                    </a:lnTo>
                    <a:lnTo>
                      <a:pt x="1727" y="4002"/>
                    </a:lnTo>
                    <a:lnTo>
                      <a:pt x="1728" y="3972"/>
                    </a:lnTo>
                    <a:lnTo>
                      <a:pt x="1730" y="3943"/>
                    </a:lnTo>
                    <a:lnTo>
                      <a:pt x="1734" y="3915"/>
                    </a:lnTo>
                    <a:lnTo>
                      <a:pt x="1738" y="3889"/>
                    </a:lnTo>
                    <a:lnTo>
                      <a:pt x="1744" y="3866"/>
                    </a:lnTo>
                    <a:lnTo>
                      <a:pt x="1749" y="3846"/>
                    </a:lnTo>
                    <a:lnTo>
                      <a:pt x="1756" y="3829"/>
                    </a:lnTo>
                    <a:lnTo>
                      <a:pt x="1761" y="3814"/>
                    </a:lnTo>
                    <a:lnTo>
                      <a:pt x="1763" y="3799"/>
                    </a:lnTo>
                    <a:lnTo>
                      <a:pt x="1765" y="3783"/>
                    </a:lnTo>
                    <a:lnTo>
                      <a:pt x="1765" y="3767"/>
                    </a:lnTo>
                    <a:lnTo>
                      <a:pt x="1763" y="3751"/>
                    </a:lnTo>
                    <a:lnTo>
                      <a:pt x="1760" y="3732"/>
                    </a:lnTo>
                    <a:lnTo>
                      <a:pt x="1756" y="3714"/>
                    </a:lnTo>
                    <a:lnTo>
                      <a:pt x="1751" y="3693"/>
                    </a:lnTo>
                    <a:lnTo>
                      <a:pt x="1738" y="3650"/>
                    </a:lnTo>
                    <a:lnTo>
                      <a:pt x="1722" y="3601"/>
                    </a:lnTo>
                    <a:lnTo>
                      <a:pt x="1706" y="3546"/>
                    </a:lnTo>
                    <a:lnTo>
                      <a:pt x="1689" y="3484"/>
                    </a:lnTo>
                    <a:lnTo>
                      <a:pt x="1686" y="3466"/>
                    </a:lnTo>
                    <a:lnTo>
                      <a:pt x="1682" y="3448"/>
                    </a:lnTo>
                    <a:lnTo>
                      <a:pt x="1680" y="3430"/>
                    </a:lnTo>
                    <a:lnTo>
                      <a:pt x="1679" y="3410"/>
                    </a:lnTo>
                    <a:lnTo>
                      <a:pt x="1678" y="3390"/>
                    </a:lnTo>
                    <a:lnTo>
                      <a:pt x="1678" y="3368"/>
                    </a:lnTo>
                    <a:lnTo>
                      <a:pt x="1679" y="3348"/>
                    </a:lnTo>
                    <a:lnTo>
                      <a:pt x="1680" y="3325"/>
                    </a:lnTo>
                    <a:lnTo>
                      <a:pt x="1684" y="3280"/>
                    </a:lnTo>
                    <a:lnTo>
                      <a:pt x="1690" y="3232"/>
                    </a:lnTo>
                    <a:lnTo>
                      <a:pt x="1696" y="3184"/>
                    </a:lnTo>
                    <a:lnTo>
                      <a:pt x="1704" y="3135"/>
                    </a:lnTo>
                    <a:lnTo>
                      <a:pt x="1720" y="3036"/>
                    </a:lnTo>
                    <a:lnTo>
                      <a:pt x="1734" y="2938"/>
                    </a:lnTo>
                    <a:lnTo>
                      <a:pt x="1740" y="2891"/>
                    </a:lnTo>
                    <a:lnTo>
                      <a:pt x="1743" y="2845"/>
                    </a:lnTo>
                    <a:lnTo>
                      <a:pt x="1744" y="2824"/>
                    </a:lnTo>
                    <a:lnTo>
                      <a:pt x="1744" y="2802"/>
                    </a:lnTo>
                    <a:lnTo>
                      <a:pt x="1744" y="2782"/>
                    </a:lnTo>
                    <a:lnTo>
                      <a:pt x="1743" y="2761"/>
                    </a:lnTo>
                    <a:lnTo>
                      <a:pt x="1743" y="2742"/>
                    </a:lnTo>
                    <a:lnTo>
                      <a:pt x="1743" y="2720"/>
                    </a:lnTo>
                    <a:lnTo>
                      <a:pt x="1744" y="2699"/>
                    </a:lnTo>
                    <a:lnTo>
                      <a:pt x="1745" y="2676"/>
                    </a:lnTo>
                    <a:lnTo>
                      <a:pt x="1750" y="2629"/>
                    </a:lnTo>
                    <a:lnTo>
                      <a:pt x="1757" y="2582"/>
                    </a:lnTo>
                    <a:lnTo>
                      <a:pt x="1765" y="2534"/>
                    </a:lnTo>
                    <a:lnTo>
                      <a:pt x="1775" y="2486"/>
                    </a:lnTo>
                    <a:lnTo>
                      <a:pt x="1786" y="2437"/>
                    </a:lnTo>
                    <a:lnTo>
                      <a:pt x="1798" y="2391"/>
                    </a:lnTo>
                    <a:lnTo>
                      <a:pt x="1810" y="2347"/>
                    </a:lnTo>
                    <a:lnTo>
                      <a:pt x="1822" y="2303"/>
                    </a:lnTo>
                    <a:lnTo>
                      <a:pt x="1834" y="2264"/>
                    </a:lnTo>
                    <a:lnTo>
                      <a:pt x="1845" y="2229"/>
                    </a:lnTo>
                    <a:lnTo>
                      <a:pt x="1864" y="2173"/>
                    </a:lnTo>
                    <a:lnTo>
                      <a:pt x="1877" y="2139"/>
                    </a:lnTo>
                    <a:lnTo>
                      <a:pt x="1881" y="2127"/>
                    </a:lnTo>
                    <a:lnTo>
                      <a:pt x="1883" y="2113"/>
                    </a:lnTo>
                    <a:lnTo>
                      <a:pt x="1885" y="2098"/>
                    </a:lnTo>
                    <a:lnTo>
                      <a:pt x="1888" y="2081"/>
                    </a:lnTo>
                    <a:lnTo>
                      <a:pt x="1889" y="2064"/>
                    </a:lnTo>
                    <a:lnTo>
                      <a:pt x="1889" y="2043"/>
                    </a:lnTo>
                    <a:lnTo>
                      <a:pt x="1888" y="2023"/>
                    </a:lnTo>
                    <a:lnTo>
                      <a:pt x="1885" y="2001"/>
                    </a:lnTo>
                    <a:lnTo>
                      <a:pt x="1883" y="1978"/>
                    </a:lnTo>
                    <a:lnTo>
                      <a:pt x="1880" y="1954"/>
                    </a:lnTo>
                    <a:lnTo>
                      <a:pt x="1877" y="1930"/>
                    </a:lnTo>
                    <a:lnTo>
                      <a:pt x="1871" y="1906"/>
                    </a:lnTo>
                    <a:lnTo>
                      <a:pt x="1866" y="1881"/>
                    </a:lnTo>
                    <a:lnTo>
                      <a:pt x="1859" y="1855"/>
                    </a:lnTo>
                    <a:lnTo>
                      <a:pt x="1853" y="1830"/>
                    </a:lnTo>
                    <a:lnTo>
                      <a:pt x="1844" y="1805"/>
                    </a:lnTo>
                    <a:lnTo>
                      <a:pt x="1836" y="1781"/>
                    </a:lnTo>
                    <a:lnTo>
                      <a:pt x="1825" y="1756"/>
                    </a:lnTo>
                    <a:lnTo>
                      <a:pt x="1814" y="1731"/>
                    </a:lnTo>
                    <a:lnTo>
                      <a:pt x="1801" y="1706"/>
                    </a:lnTo>
                    <a:lnTo>
                      <a:pt x="1776" y="1655"/>
                    </a:lnTo>
                    <a:lnTo>
                      <a:pt x="1750" y="1605"/>
                    </a:lnTo>
                    <a:lnTo>
                      <a:pt x="1737" y="1578"/>
                    </a:lnTo>
                    <a:lnTo>
                      <a:pt x="1727" y="1551"/>
                    </a:lnTo>
                    <a:lnTo>
                      <a:pt x="1716" y="1522"/>
                    </a:lnTo>
                    <a:lnTo>
                      <a:pt x="1707" y="1494"/>
                    </a:lnTo>
                    <a:lnTo>
                      <a:pt x="1700" y="1465"/>
                    </a:lnTo>
                    <a:lnTo>
                      <a:pt x="1694" y="1434"/>
                    </a:lnTo>
                    <a:lnTo>
                      <a:pt x="1692" y="1419"/>
                    </a:lnTo>
                    <a:lnTo>
                      <a:pt x="1690" y="1403"/>
                    </a:lnTo>
                    <a:lnTo>
                      <a:pt x="1689" y="1386"/>
                    </a:lnTo>
                    <a:lnTo>
                      <a:pt x="1689" y="1370"/>
                    </a:lnTo>
                    <a:lnTo>
                      <a:pt x="1689" y="1354"/>
                    </a:lnTo>
                    <a:lnTo>
                      <a:pt x="1688" y="1337"/>
                    </a:lnTo>
                    <a:lnTo>
                      <a:pt x="1686" y="1321"/>
                    </a:lnTo>
                    <a:lnTo>
                      <a:pt x="1683" y="1304"/>
                    </a:lnTo>
                    <a:lnTo>
                      <a:pt x="1677" y="1272"/>
                    </a:lnTo>
                    <a:lnTo>
                      <a:pt x="1668" y="1241"/>
                    </a:lnTo>
                    <a:lnTo>
                      <a:pt x="1659" y="1209"/>
                    </a:lnTo>
                    <a:lnTo>
                      <a:pt x="1647" y="1178"/>
                    </a:lnTo>
                    <a:lnTo>
                      <a:pt x="1634" y="1148"/>
                    </a:lnTo>
                    <a:lnTo>
                      <a:pt x="1621" y="1119"/>
                    </a:lnTo>
                    <a:lnTo>
                      <a:pt x="1592" y="1061"/>
                    </a:lnTo>
                    <a:lnTo>
                      <a:pt x="1561" y="1008"/>
                    </a:lnTo>
                    <a:lnTo>
                      <a:pt x="1534" y="960"/>
                    </a:lnTo>
                    <a:lnTo>
                      <a:pt x="1511" y="916"/>
                    </a:lnTo>
                    <a:lnTo>
                      <a:pt x="1502" y="895"/>
                    </a:lnTo>
                    <a:lnTo>
                      <a:pt x="1494" y="876"/>
                    </a:lnTo>
                    <a:lnTo>
                      <a:pt x="1489" y="858"/>
                    </a:lnTo>
                    <a:lnTo>
                      <a:pt x="1485" y="841"/>
                    </a:lnTo>
                    <a:lnTo>
                      <a:pt x="1482" y="825"/>
                    </a:lnTo>
                    <a:lnTo>
                      <a:pt x="1480" y="810"/>
                    </a:lnTo>
                    <a:lnTo>
                      <a:pt x="1480" y="795"/>
                    </a:lnTo>
                    <a:lnTo>
                      <a:pt x="1480" y="781"/>
                    </a:lnTo>
                    <a:lnTo>
                      <a:pt x="1482" y="754"/>
                    </a:lnTo>
                    <a:lnTo>
                      <a:pt x="1484" y="727"/>
                    </a:lnTo>
                    <a:lnTo>
                      <a:pt x="1482" y="712"/>
                    </a:lnTo>
                    <a:lnTo>
                      <a:pt x="1481" y="700"/>
                    </a:lnTo>
                    <a:lnTo>
                      <a:pt x="1479" y="685"/>
                    </a:lnTo>
                    <a:lnTo>
                      <a:pt x="1476" y="670"/>
                    </a:lnTo>
                    <a:lnTo>
                      <a:pt x="1473" y="657"/>
                    </a:lnTo>
                    <a:lnTo>
                      <a:pt x="1469" y="648"/>
                    </a:lnTo>
                    <a:lnTo>
                      <a:pt x="1466" y="641"/>
                    </a:lnTo>
                    <a:lnTo>
                      <a:pt x="1463" y="638"/>
                    </a:lnTo>
                    <a:lnTo>
                      <a:pt x="1461" y="637"/>
                    </a:lnTo>
                    <a:lnTo>
                      <a:pt x="1459" y="638"/>
                    </a:lnTo>
                    <a:lnTo>
                      <a:pt x="1456" y="639"/>
                    </a:lnTo>
                    <a:lnTo>
                      <a:pt x="1454" y="642"/>
                    </a:lnTo>
                    <a:lnTo>
                      <a:pt x="1449" y="650"/>
                    </a:lnTo>
                    <a:lnTo>
                      <a:pt x="1442" y="662"/>
                    </a:lnTo>
                    <a:lnTo>
                      <a:pt x="1423" y="698"/>
                    </a:lnTo>
                    <a:lnTo>
                      <a:pt x="1394" y="755"/>
                    </a:lnTo>
                    <a:lnTo>
                      <a:pt x="1375" y="790"/>
                    </a:lnTo>
                    <a:lnTo>
                      <a:pt x="1353" y="830"/>
                    </a:lnTo>
                    <a:lnTo>
                      <a:pt x="1328" y="877"/>
                    </a:lnTo>
                    <a:lnTo>
                      <a:pt x="1299" y="927"/>
                    </a:lnTo>
                    <a:lnTo>
                      <a:pt x="1283" y="955"/>
                    </a:lnTo>
                    <a:lnTo>
                      <a:pt x="1267" y="987"/>
                    </a:lnTo>
                    <a:lnTo>
                      <a:pt x="1251" y="1020"/>
                    </a:lnTo>
                    <a:lnTo>
                      <a:pt x="1236" y="1056"/>
                    </a:lnTo>
                    <a:lnTo>
                      <a:pt x="1220" y="1094"/>
                    </a:lnTo>
                    <a:lnTo>
                      <a:pt x="1205" y="1134"/>
                    </a:lnTo>
                    <a:lnTo>
                      <a:pt x="1190" y="1175"/>
                    </a:lnTo>
                    <a:lnTo>
                      <a:pt x="1173" y="1218"/>
                    </a:lnTo>
                    <a:lnTo>
                      <a:pt x="1144" y="1308"/>
                    </a:lnTo>
                    <a:lnTo>
                      <a:pt x="1114" y="1403"/>
                    </a:lnTo>
                    <a:lnTo>
                      <a:pt x="1086" y="1500"/>
                    </a:lnTo>
                    <a:lnTo>
                      <a:pt x="1059" y="1599"/>
                    </a:lnTo>
                    <a:lnTo>
                      <a:pt x="1033" y="1700"/>
                    </a:lnTo>
                    <a:lnTo>
                      <a:pt x="1009" y="1798"/>
                    </a:lnTo>
                    <a:lnTo>
                      <a:pt x="987" y="1895"/>
                    </a:lnTo>
                    <a:lnTo>
                      <a:pt x="966" y="1989"/>
                    </a:lnTo>
                    <a:lnTo>
                      <a:pt x="948" y="2079"/>
                    </a:lnTo>
                    <a:lnTo>
                      <a:pt x="933" y="2161"/>
                    </a:lnTo>
                    <a:lnTo>
                      <a:pt x="920" y="2237"/>
                    </a:lnTo>
                    <a:lnTo>
                      <a:pt x="910" y="2304"/>
                    </a:lnTo>
                    <a:lnTo>
                      <a:pt x="906" y="2336"/>
                    </a:lnTo>
                    <a:lnTo>
                      <a:pt x="900" y="2367"/>
                    </a:lnTo>
                    <a:lnTo>
                      <a:pt x="894" y="2399"/>
                    </a:lnTo>
                    <a:lnTo>
                      <a:pt x="887" y="2431"/>
                    </a:lnTo>
                    <a:lnTo>
                      <a:pt x="871" y="2494"/>
                    </a:lnTo>
                    <a:lnTo>
                      <a:pt x="853" y="2557"/>
                    </a:lnTo>
                    <a:lnTo>
                      <a:pt x="833" y="2620"/>
                    </a:lnTo>
                    <a:lnTo>
                      <a:pt x="813" y="2681"/>
                    </a:lnTo>
                    <a:lnTo>
                      <a:pt x="791" y="2742"/>
                    </a:lnTo>
                    <a:lnTo>
                      <a:pt x="769" y="2801"/>
                    </a:lnTo>
                    <a:lnTo>
                      <a:pt x="728" y="2912"/>
                    </a:lnTo>
                    <a:lnTo>
                      <a:pt x="692" y="3014"/>
                    </a:lnTo>
                    <a:lnTo>
                      <a:pt x="678" y="3059"/>
                    </a:lnTo>
                    <a:lnTo>
                      <a:pt x="666" y="3100"/>
                    </a:lnTo>
                    <a:lnTo>
                      <a:pt x="661" y="3120"/>
                    </a:lnTo>
                    <a:lnTo>
                      <a:pt x="657" y="3138"/>
                    </a:lnTo>
                    <a:lnTo>
                      <a:pt x="655" y="3155"/>
                    </a:lnTo>
                    <a:lnTo>
                      <a:pt x="653" y="3172"/>
                    </a:lnTo>
                    <a:lnTo>
                      <a:pt x="650" y="3206"/>
                    </a:lnTo>
                    <a:lnTo>
                      <a:pt x="645" y="3244"/>
                    </a:lnTo>
                    <a:lnTo>
                      <a:pt x="638" y="3286"/>
                    </a:lnTo>
                    <a:lnTo>
                      <a:pt x="629" y="3331"/>
                    </a:lnTo>
                    <a:lnTo>
                      <a:pt x="619" y="3379"/>
                    </a:lnTo>
                    <a:lnTo>
                      <a:pt x="608" y="3428"/>
                    </a:lnTo>
                    <a:lnTo>
                      <a:pt x="597" y="3477"/>
                    </a:lnTo>
                    <a:lnTo>
                      <a:pt x="585" y="3527"/>
                    </a:lnTo>
                    <a:lnTo>
                      <a:pt x="559" y="3623"/>
                    </a:lnTo>
                    <a:lnTo>
                      <a:pt x="535" y="3712"/>
                    </a:lnTo>
                    <a:lnTo>
                      <a:pt x="513" y="3786"/>
                    </a:lnTo>
                    <a:lnTo>
                      <a:pt x="497" y="3839"/>
                    </a:lnTo>
                    <a:lnTo>
                      <a:pt x="492" y="3859"/>
                    </a:lnTo>
                    <a:lnTo>
                      <a:pt x="489" y="3876"/>
                    </a:lnTo>
                    <a:lnTo>
                      <a:pt x="486" y="3891"/>
                    </a:lnTo>
                    <a:lnTo>
                      <a:pt x="485" y="3904"/>
                    </a:lnTo>
                    <a:lnTo>
                      <a:pt x="485" y="3916"/>
                    </a:lnTo>
                    <a:lnTo>
                      <a:pt x="485" y="3928"/>
                    </a:lnTo>
                    <a:lnTo>
                      <a:pt x="487" y="3938"/>
                    </a:lnTo>
                    <a:lnTo>
                      <a:pt x="489" y="3948"/>
                    </a:lnTo>
                    <a:lnTo>
                      <a:pt x="492" y="3971"/>
                    </a:lnTo>
                    <a:lnTo>
                      <a:pt x="494" y="3997"/>
                    </a:lnTo>
                    <a:lnTo>
                      <a:pt x="494" y="4013"/>
                    </a:lnTo>
                    <a:lnTo>
                      <a:pt x="493" y="4030"/>
                    </a:lnTo>
                    <a:lnTo>
                      <a:pt x="491" y="4051"/>
                    </a:lnTo>
                    <a:lnTo>
                      <a:pt x="487" y="4075"/>
                    </a:lnTo>
                    <a:lnTo>
                      <a:pt x="482" y="4097"/>
                    </a:lnTo>
                    <a:lnTo>
                      <a:pt x="477" y="4116"/>
                    </a:lnTo>
                    <a:lnTo>
                      <a:pt x="473" y="4123"/>
                    </a:lnTo>
                    <a:lnTo>
                      <a:pt x="470" y="4130"/>
                    </a:lnTo>
                    <a:lnTo>
                      <a:pt x="467" y="4135"/>
                    </a:lnTo>
                    <a:lnTo>
                      <a:pt x="463" y="4140"/>
                    </a:lnTo>
                    <a:lnTo>
                      <a:pt x="459" y="4145"/>
                    </a:lnTo>
                    <a:lnTo>
                      <a:pt x="455" y="4148"/>
                    </a:lnTo>
                    <a:lnTo>
                      <a:pt x="451" y="4150"/>
                    </a:lnTo>
                    <a:lnTo>
                      <a:pt x="448" y="4152"/>
                    </a:lnTo>
                    <a:lnTo>
                      <a:pt x="439" y="4154"/>
                    </a:lnTo>
                    <a:lnTo>
                      <a:pt x="430" y="4156"/>
                    </a:lnTo>
                    <a:lnTo>
                      <a:pt x="423" y="4154"/>
                    </a:lnTo>
                    <a:lnTo>
                      <a:pt x="415" y="4151"/>
                    </a:lnTo>
                    <a:lnTo>
                      <a:pt x="409" y="4149"/>
                    </a:lnTo>
                    <a:lnTo>
                      <a:pt x="403" y="4145"/>
                    </a:lnTo>
                    <a:lnTo>
                      <a:pt x="395" y="4139"/>
                    </a:lnTo>
                    <a:lnTo>
                      <a:pt x="391" y="4136"/>
                    </a:lnTo>
                    <a:lnTo>
                      <a:pt x="365" y="4134"/>
                    </a:lnTo>
                    <a:lnTo>
                      <a:pt x="339" y="4132"/>
                    </a:lnTo>
                    <a:lnTo>
                      <a:pt x="315" y="4132"/>
                    </a:lnTo>
                    <a:lnTo>
                      <a:pt x="290" y="4133"/>
                    </a:lnTo>
                    <a:lnTo>
                      <a:pt x="239" y="4137"/>
                    </a:lnTo>
                    <a:lnTo>
                      <a:pt x="190" y="4143"/>
                    </a:lnTo>
                    <a:lnTo>
                      <a:pt x="141" y="4150"/>
                    </a:lnTo>
                    <a:lnTo>
                      <a:pt x="93" y="4157"/>
                    </a:lnTo>
                    <a:lnTo>
                      <a:pt x="69" y="4159"/>
                    </a:lnTo>
                    <a:lnTo>
                      <a:pt x="46" y="4161"/>
                    </a:lnTo>
                    <a:lnTo>
                      <a:pt x="23" y="4163"/>
                    </a:lnTo>
                    <a:lnTo>
                      <a:pt x="0" y="4163"/>
                    </a:lnTo>
                    <a:lnTo>
                      <a:pt x="53" y="4163"/>
                    </a:lnTo>
                    <a:lnTo>
                      <a:pt x="102" y="4161"/>
                    </a:lnTo>
                    <a:lnTo>
                      <a:pt x="146" y="4156"/>
                    </a:lnTo>
                    <a:lnTo>
                      <a:pt x="186" y="4147"/>
                    </a:lnTo>
                    <a:lnTo>
                      <a:pt x="222" y="4136"/>
                    </a:lnTo>
                    <a:lnTo>
                      <a:pt x="254" y="4124"/>
                    </a:lnTo>
                    <a:lnTo>
                      <a:pt x="283" y="4109"/>
                    </a:lnTo>
                    <a:lnTo>
                      <a:pt x="309" y="4092"/>
                    </a:lnTo>
                    <a:lnTo>
                      <a:pt x="332" y="4072"/>
                    </a:lnTo>
                    <a:lnTo>
                      <a:pt x="351" y="4051"/>
                    </a:lnTo>
                    <a:lnTo>
                      <a:pt x="369" y="4028"/>
                    </a:lnTo>
                    <a:lnTo>
                      <a:pt x="384" y="4002"/>
                    </a:lnTo>
                    <a:lnTo>
                      <a:pt x="398" y="3976"/>
                    </a:lnTo>
                    <a:lnTo>
                      <a:pt x="409" y="3947"/>
                    </a:lnTo>
                    <a:lnTo>
                      <a:pt x="418" y="3918"/>
                    </a:lnTo>
                    <a:lnTo>
                      <a:pt x="427" y="3887"/>
                    </a:lnTo>
                    <a:lnTo>
                      <a:pt x="435" y="3854"/>
                    </a:lnTo>
                    <a:lnTo>
                      <a:pt x="441" y="3820"/>
                    </a:lnTo>
                    <a:lnTo>
                      <a:pt x="448" y="3785"/>
                    </a:lnTo>
                    <a:lnTo>
                      <a:pt x="453" y="3748"/>
                    </a:lnTo>
                    <a:lnTo>
                      <a:pt x="464" y="3674"/>
                    </a:lnTo>
                    <a:lnTo>
                      <a:pt x="477" y="3596"/>
                    </a:lnTo>
                    <a:lnTo>
                      <a:pt x="484" y="3556"/>
                    </a:lnTo>
                    <a:lnTo>
                      <a:pt x="493" y="3515"/>
                    </a:lnTo>
                    <a:lnTo>
                      <a:pt x="503" y="3475"/>
                    </a:lnTo>
                    <a:lnTo>
                      <a:pt x="515" y="3434"/>
                    </a:lnTo>
                    <a:lnTo>
                      <a:pt x="527" y="3392"/>
                    </a:lnTo>
                    <a:lnTo>
                      <a:pt x="544" y="3351"/>
                    </a:lnTo>
                    <a:lnTo>
                      <a:pt x="561" y="3310"/>
                    </a:lnTo>
                    <a:lnTo>
                      <a:pt x="581" y="3269"/>
                    </a:lnTo>
                    <a:lnTo>
                      <a:pt x="593" y="3243"/>
                    </a:lnTo>
                    <a:lnTo>
                      <a:pt x="605" y="3216"/>
                    </a:lnTo>
                    <a:lnTo>
                      <a:pt x="616" y="3188"/>
                    </a:lnTo>
                    <a:lnTo>
                      <a:pt x="627" y="3159"/>
                    </a:lnTo>
                    <a:lnTo>
                      <a:pt x="635" y="3128"/>
                    </a:lnTo>
                    <a:lnTo>
                      <a:pt x="643" y="3098"/>
                    </a:lnTo>
                    <a:lnTo>
                      <a:pt x="651" y="3068"/>
                    </a:lnTo>
                    <a:lnTo>
                      <a:pt x="655" y="3038"/>
                    </a:lnTo>
                    <a:lnTo>
                      <a:pt x="659" y="3009"/>
                    </a:lnTo>
                    <a:lnTo>
                      <a:pt x="660" y="2979"/>
                    </a:lnTo>
                    <a:lnTo>
                      <a:pt x="660" y="2952"/>
                    </a:lnTo>
                    <a:lnTo>
                      <a:pt x="658" y="2925"/>
                    </a:lnTo>
                    <a:lnTo>
                      <a:pt x="656" y="2914"/>
                    </a:lnTo>
                    <a:lnTo>
                      <a:pt x="654" y="2901"/>
                    </a:lnTo>
                    <a:lnTo>
                      <a:pt x="651" y="2890"/>
                    </a:lnTo>
                    <a:lnTo>
                      <a:pt x="647" y="2879"/>
                    </a:lnTo>
                    <a:lnTo>
                      <a:pt x="643" y="2868"/>
                    </a:lnTo>
                    <a:lnTo>
                      <a:pt x="638" y="2858"/>
                    </a:lnTo>
                    <a:lnTo>
                      <a:pt x="632" y="2849"/>
                    </a:lnTo>
                    <a:lnTo>
                      <a:pt x="626" y="2841"/>
                    </a:lnTo>
                    <a:lnTo>
                      <a:pt x="623" y="2836"/>
                    </a:lnTo>
                    <a:lnTo>
                      <a:pt x="620" y="2830"/>
                    </a:lnTo>
                    <a:lnTo>
                      <a:pt x="620" y="2825"/>
                    </a:lnTo>
                    <a:lnTo>
                      <a:pt x="621" y="2820"/>
                    </a:lnTo>
                    <a:lnTo>
                      <a:pt x="627" y="2810"/>
                    </a:lnTo>
                    <a:lnTo>
                      <a:pt x="633" y="2799"/>
                    </a:lnTo>
                    <a:lnTo>
                      <a:pt x="641" y="2789"/>
                    </a:lnTo>
                    <a:lnTo>
                      <a:pt x="646" y="2779"/>
                    </a:lnTo>
                    <a:lnTo>
                      <a:pt x="648" y="2772"/>
                    </a:lnTo>
                    <a:lnTo>
                      <a:pt x="648" y="2767"/>
                    </a:lnTo>
                    <a:lnTo>
                      <a:pt x="647" y="2760"/>
                    </a:lnTo>
                    <a:lnTo>
                      <a:pt x="645" y="2754"/>
                    </a:lnTo>
                    <a:lnTo>
                      <a:pt x="655" y="2749"/>
                    </a:lnTo>
                    <a:lnTo>
                      <a:pt x="664" y="2745"/>
                    </a:lnTo>
                    <a:lnTo>
                      <a:pt x="671" y="2740"/>
                    </a:lnTo>
                    <a:lnTo>
                      <a:pt x="679" y="2734"/>
                    </a:lnTo>
                    <a:lnTo>
                      <a:pt x="693" y="2722"/>
                    </a:lnTo>
                    <a:lnTo>
                      <a:pt x="706" y="2710"/>
                    </a:lnTo>
                    <a:lnTo>
                      <a:pt x="717" y="2696"/>
                    </a:lnTo>
                    <a:lnTo>
                      <a:pt x="726" y="2681"/>
                    </a:lnTo>
                    <a:lnTo>
                      <a:pt x="735" y="2666"/>
                    </a:lnTo>
                    <a:lnTo>
                      <a:pt x="744" y="2651"/>
                    </a:lnTo>
                    <a:lnTo>
                      <a:pt x="760" y="2619"/>
                    </a:lnTo>
                    <a:lnTo>
                      <a:pt x="778" y="2586"/>
                    </a:lnTo>
                    <a:lnTo>
                      <a:pt x="788" y="2570"/>
                    </a:lnTo>
                    <a:lnTo>
                      <a:pt x="798" y="2555"/>
                    </a:lnTo>
                    <a:lnTo>
                      <a:pt x="810" y="2541"/>
                    </a:lnTo>
                    <a:lnTo>
                      <a:pt x="823" y="2527"/>
                    </a:lnTo>
                    <a:lnTo>
                      <a:pt x="829" y="2521"/>
                    </a:lnTo>
                    <a:lnTo>
                      <a:pt x="832" y="2517"/>
                    </a:lnTo>
                    <a:lnTo>
                      <a:pt x="835" y="2512"/>
                    </a:lnTo>
                    <a:lnTo>
                      <a:pt x="838" y="2506"/>
                    </a:lnTo>
                    <a:lnTo>
                      <a:pt x="839" y="2502"/>
                    </a:lnTo>
                    <a:lnTo>
                      <a:pt x="839" y="2497"/>
                    </a:lnTo>
                    <a:lnTo>
                      <a:pt x="839" y="2492"/>
                    </a:lnTo>
                    <a:lnTo>
                      <a:pt x="838" y="2487"/>
                    </a:lnTo>
                    <a:lnTo>
                      <a:pt x="833" y="2477"/>
                    </a:lnTo>
                    <a:lnTo>
                      <a:pt x="827" y="2467"/>
                    </a:lnTo>
                    <a:lnTo>
                      <a:pt x="819" y="2458"/>
                    </a:lnTo>
                    <a:lnTo>
                      <a:pt x="810" y="2448"/>
                    </a:lnTo>
                    <a:lnTo>
                      <a:pt x="792" y="2428"/>
                    </a:lnTo>
                    <a:lnTo>
                      <a:pt x="776" y="2407"/>
                    </a:lnTo>
                    <a:lnTo>
                      <a:pt x="769" y="2396"/>
                    </a:lnTo>
                    <a:lnTo>
                      <a:pt x="765" y="2384"/>
                    </a:lnTo>
                    <a:lnTo>
                      <a:pt x="764" y="2379"/>
                    </a:lnTo>
                    <a:lnTo>
                      <a:pt x="763" y="2374"/>
                    </a:lnTo>
                    <a:lnTo>
                      <a:pt x="763" y="2367"/>
                    </a:lnTo>
                    <a:lnTo>
                      <a:pt x="764" y="2362"/>
                    </a:lnTo>
                    <a:lnTo>
                      <a:pt x="771" y="2337"/>
                    </a:lnTo>
                    <a:lnTo>
                      <a:pt x="779" y="2311"/>
                    </a:lnTo>
                    <a:lnTo>
                      <a:pt x="790" y="2284"/>
                    </a:lnTo>
                    <a:lnTo>
                      <a:pt x="802" y="2256"/>
                    </a:lnTo>
                    <a:lnTo>
                      <a:pt x="815" y="2227"/>
                    </a:lnTo>
                    <a:lnTo>
                      <a:pt x="828" y="2197"/>
                    </a:lnTo>
                    <a:lnTo>
                      <a:pt x="840" y="2167"/>
                    </a:lnTo>
                    <a:lnTo>
                      <a:pt x="850" y="2139"/>
                    </a:lnTo>
                    <a:lnTo>
                      <a:pt x="855" y="2124"/>
                    </a:lnTo>
                    <a:lnTo>
                      <a:pt x="859" y="2110"/>
                    </a:lnTo>
                    <a:lnTo>
                      <a:pt x="862" y="2097"/>
                    </a:lnTo>
                    <a:lnTo>
                      <a:pt x="865" y="2083"/>
                    </a:lnTo>
                    <a:lnTo>
                      <a:pt x="866" y="2070"/>
                    </a:lnTo>
                    <a:lnTo>
                      <a:pt x="867" y="2057"/>
                    </a:lnTo>
                    <a:lnTo>
                      <a:pt x="867" y="2045"/>
                    </a:lnTo>
                    <a:lnTo>
                      <a:pt x="865" y="2033"/>
                    </a:lnTo>
                    <a:lnTo>
                      <a:pt x="862" y="2021"/>
                    </a:lnTo>
                    <a:lnTo>
                      <a:pt x="858" y="2011"/>
                    </a:lnTo>
                    <a:lnTo>
                      <a:pt x="853" y="2001"/>
                    </a:lnTo>
                    <a:lnTo>
                      <a:pt x="845" y="1991"/>
                    </a:lnTo>
                    <a:lnTo>
                      <a:pt x="836" y="1983"/>
                    </a:lnTo>
                    <a:lnTo>
                      <a:pt x="827" y="1975"/>
                    </a:lnTo>
                    <a:lnTo>
                      <a:pt x="815" y="1967"/>
                    </a:lnTo>
                    <a:lnTo>
                      <a:pt x="801" y="1961"/>
                    </a:lnTo>
                    <a:lnTo>
                      <a:pt x="786" y="1956"/>
                    </a:lnTo>
                    <a:lnTo>
                      <a:pt x="769" y="1951"/>
                    </a:lnTo>
                    <a:lnTo>
                      <a:pt x="753" y="1947"/>
                    </a:lnTo>
                    <a:lnTo>
                      <a:pt x="737" y="1944"/>
                    </a:lnTo>
                    <a:lnTo>
                      <a:pt x="706" y="1939"/>
                    </a:lnTo>
                    <a:lnTo>
                      <a:pt x="678" y="1933"/>
                    </a:lnTo>
                    <a:lnTo>
                      <a:pt x="666" y="1930"/>
                    </a:lnTo>
                    <a:lnTo>
                      <a:pt x="656" y="1925"/>
                    </a:lnTo>
                    <a:lnTo>
                      <a:pt x="653" y="1923"/>
                    </a:lnTo>
                    <a:lnTo>
                      <a:pt x="648" y="1921"/>
                    </a:lnTo>
                    <a:lnTo>
                      <a:pt x="646" y="1918"/>
                    </a:lnTo>
                    <a:lnTo>
                      <a:pt x="644" y="1915"/>
                    </a:lnTo>
                    <a:lnTo>
                      <a:pt x="643" y="1911"/>
                    </a:lnTo>
                    <a:lnTo>
                      <a:pt x="642" y="1907"/>
                    </a:lnTo>
                    <a:lnTo>
                      <a:pt x="643" y="1903"/>
                    </a:lnTo>
                    <a:lnTo>
                      <a:pt x="644" y="1898"/>
                    </a:lnTo>
                    <a:lnTo>
                      <a:pt x="646" y="1893"/>
                    </a:lnTo>
                    <a:lnTo>
                      <a:pt x="648" y="1888"/>
                    </a:lnTo>
                    <a:lnTo>
                      <a:pt x="653" y="1881"/>
                    </a:lnTo>
                    <a:lnTo>
                      <a:pt x="658" y="1875"/>
                    </a:lnTo>
                    <a:lnTo>
                      <a:pt x="671" y="1858"/>
                    </a:lnTo>
                    <a:lnTo>
                      <a:pt x="685" y="1843"/>
                    </a:lnTo>
                    <a:lnTo>
                      <a:pt x="700" y="1828"/>
                    </a:lnTo>
                    <a:lnTo>
                      <a:pt x="714" y="1813"/>
                    </a:lnTo>
                    <a:lnTo>
                      <a:pt x="746" y="1785"/>
                    </a:lnTo>
                    <a:lnTo>
                      <a:pt x="778" y="1756"/>
                    </a:lnTo>
                    <a:lnTo>
                      <a:pt x="809" y="1727"/>
                    </a:lnTo>
                    <a:lnTo>
                      <a:pt x="841" y="1696"/>
                    </a:lnTo>
                    <a:lnTo>
                      <a:pt x="856" y="1680"/>
                    </a:lnTo>
                    <a:lnTo>
                      <a:pt x="870" y="1663"/>
                    </a:lnTo>
                    <a:lnTo>
                      <a:pt x="884" y="1646"/>
                    </a:lnTo>
                    <a:lnTo>
                      <a:pt x="898" y="1627"/>
                    </a:lnTo>
                    <a:lnTo>
                      <a:pt x="902" y="1619"/>
                    </a:lnTo>
                    <a:lnTo>
                      <a:pt x="906" y="1609"/>
                    </a:lnTo>
                    <a:lnTo>
                      <a:pt x="908" y="1597"/>
                    </a:lnTo>
                    <a:lnTo>
                      <a:pt x="909" y="1585"/>
                    </a:lnTo>
                    <a:lnTo>
                      <a:pt x="908" y="1573"/>
                    </a:lnTo>
                    <a:lnTo>
                      <a:pt x="906" y="1562"/>
                    </a:lnTo>
                    <a:lnTo>
                      <a:pt x="902" y="1553"/>
                    </a:lnTo>
                    <a:lnTo>
                      <a:pt x="898" y="1545"/>
                    </a:lnTo>
                    <a:lnTo>
                      <a:pt x="888" y="1534"/>
                    </a:lnTo>
                    <a:lnTo>
                      <a:pt x="881" y="1524"/>
                    </a:lnTo>
                    <a:lnTo>
                      <a:pt x="874" y="1512"/>
                    </a:lnTo>
                    <a:lnTo>
                      <a:pt x="870" y="1501"/>
                    </a:lnTo>
                    <a:lnTo>
                      <a:pt x="867" y="1490"/>
                    </a:lnTo>
                    <a:lnTo>
                      <a:pt x="865" y="1479"/>
                    </a:lnTo>
                    <a:lnTo>
                      <a:pt x="863" y="1467"/>
                    </a:lnTo>
                    <a:lnTo>
                      <a:pt x="863" y="1457"/>
                    </a:lnTo>
                    <a:lnTo>
                      <a:pt x="865" y="1446"/>
                    </a:lnTo>
                    <a:lnTo>
                      <a:pt x="867" y="1435"/>
                    </a:lnTo>
                    <a:lnTo>
                      <a:pt x="870" y="1424"/>
                    </a:lnTo>
                    <a:lnTo>
                      <a:pt x="873" y="1412"/>
                    </a:lnTo>
                    <a:lnTo>
                      <a:pt x="883" y="1391"/>
                    </a:lnTo>
                    <a:lnTo>
                      <a:pt x="895" y="1368"/>
                    </a:lnTo>
                    <a:lnTo>
                      <a:pt x="924" y="1324"/>
                    </a:lnTo>
                    <a:lnTo>
                      <a:pt x="955" y="1279"/>
                    </a:lnTo>
                    <a:lnTo>
                      <a:pt x="971" y="1257"/>
                    </a:lnTo>
                    <a:lnTo>
                      <a:pt x="986" y="1235"/>
                    </a:lnTo>
                    <a:lnTo>
                      <a:pt x="998" y="1213"/>
                    </a:lnTo>
                    <a:lnTo>
                      <a:pt x="1009" y="1190"/>
                    </a:lnTo>
                    <a:lnTo>
                      <a:pt x="1003" y="1189"/>
                    </a:lnTo>
                    <a:lnTo>
                      <a:pt x="996" y="1187"/>
                    </a:lnTo>
                    <a:lnTo>
                      <a:pt x="991" y="1184"/>
                    </a:lnTo>
                    <a:lnTo>
                      <a:pt x="984" y="1182"/>
                    </a:lnTo>
                    <a:lnTo>
                      <a:pt x="971" y="1175"/>
                    </a:lnTo>
                    <a:lnTo>
                      <a:pt x="960" y="1166"/>
                    </a:lnTo>
                    <a:lnTo>
                      <a:pt x="947" y="1155"/>
                    </a:lnTo>
                    <a:lnTo>
                      <a:pt x="934" y="1143"/>
                    </a:lnTo>
                    <a:lnTo>
                      <a:pt x="922" y="1130"/>
                    </a:lnTo>
                    <a:lnTo>
                      <a:pt x="910" y="1116"/>
                    </a:lnTo>
                    <a:lnTo>
                      <a:pt x="888" y="1088"/>
                    </a:lnTo>
                    <a:lnTo>
                      <a:pt x="870" y="1060"/>
                    </a:lnTo>
                    <a:lnTo>
                      <a:pt x="854" y="1034"/>
                    </a:lnTo>
                    <a:lnTo>
                      <a:pt x="843" y="1014"/>
                    </a:lnTo>
                    <a:lnTo>
                      <a:pt x="835" y="994"/>
                    </a:lnTo>
                    <a:lnTo>
                      <a:pt x="829" y="975"/>
                    </a:lnTo>
                    <a:lnTo>
                      <a:pt x="827" y="957"/>
                    </a:lnTo>
                    <a:lnTo>
                      <a:pt x="827" y="939"/>
                    </a:lnTo>
                    <a:lnTo>
                      <a:pt x="829" y="923"/>
                    </a:lnTo>
                    <a:lnTo>
                      <a:pt x="833" y="907"/>
                    </a:lnTo>
                    <a:lnTo>
                      <a:pt x="840" y="892"/>
                    </a:lnTo>
                    <a:lnTo>
                      <a:pt x="847" y="877"/>
                    </a:lnTo>
                    <a:lnTo>
                      <a:pt x="857" y="863"/>
                    </a:lnTo>
                    <a:lnTo>
                      <a:pt x="869" y="850"/>
                    </a:lnTo>
                    <a:lnTo>
                      <a:pt x="881" y="837"/>
                    </a:lnTo>
                    <a:lnTo>
                      <a:pt x="894" y="824"/>
                    </a:lnTo>
                    <a:lnTo>
                      <a:pt x="923" y="799"/>
                    </a:lnTo>
                    <a:lnTo>
                      <a:pt x="954" y="776"/>
                    </a:lnTo>
                    <a:lnTo>
                      <a:pt x="986" y="752"/>
                    </a:lnTo>
                    <a:lnTo>
                      <a:pt x="1016" y="730"/>
                    </a:lnTo>
                    <a:lnTo>
                      <a:pt x="1030" y="718"/>
                    </a:lnTo>
                    <a:lnTo>
                      <a:pt x="1043" y="706"/>
                    </a:lnTo>
                    <a:lnTo>
                      <a:pt x="1056" y="693"/>
                    </a:lnTo>
                    <a:lnTo>
                      <a:pt x="1067" y="681"/>
                    </a:lnTo>
                    <a:lnTo>
                      <a:pt x="1075" y="668"/>
                    </a:lnTo>
                    <a:lnTo>
                      <a:pt x="1084" y="654"/>
                    </a:lnTo>
                    <a:lnTo>
                      <a:pt x="1089" y="640"/>
                    </a:lnTo>
                    <a:lnTo>
                      <a:pt x="1094" y="626"/>
                    </a:lnTo>
                    <a:lnTo>
                      <a:pt x="1096" y="611"/>
                    </a:lnTo>
                    <a:lnTo>
                      <a:pt x="1095" y="596"/>
                    </a:lnTo>
                    <a:lnTo>
                      <a:pt x="1091" y="579"/>
                    </a:lnTo>
                    <a:lnTo>
                      <a:pt x="1086" y="561"/>
                    </a:lnTo>
                    <a:lnTo>
                      <a:pt x="1079" y="550"/>
                    </a:lnTo>
                    <a:lnTo>
                      <a:pt x="1073" y="540"/>
                    </a:lnTo>
                    <a:lnTo>
                      <a:pt x="1065" y="530"/>
                    </a:lnTo>
                    <a:lnTo>
                      <a:pt x="1058" y="519"/>
                    </a:lnTo>
                    <a:lnTo>
                      <a:pt x="1050" y="509"/>
                    </a:lnTo>
                    <a:lnTo>
                      <a:pt x="1044" y="500"/>
                    </a:lnTo>
                    <a:lnTo>
                      <a:pt x="1036" y="489"/>
                    </a:lnTo>
                    <a:lnTo>
                      <a:pt x="1031" y="478"/>
                    </a:lnTo>
                    <a:lnTo>
                      <a:pt x="1027" y="468"/>
                    </a:lnTo>
                    <a:lnTo>
                      <a:pt x="1023" y="457"/>
                    </a:lnTo>
                    <a:lnTo>
                      <a:pt x="1022" y="451"/>
                    </a:lnTo>
                    <a:lnTo>
                      <a:pt x="1022" y="446"/>
                    </a:lnTo>
                    <a:lnTo>
                      <a:pt x="1022" y="439"/>
                    </a:lnTo>
                    <a:lnTo>
                      <a:pt x="1023" y="434"/>
                    </a:lnTo>
                    <a:lnTo>
                      <a:pt x="1024" y="427"/>
                    </a:lnTo>
                    <a:lnTo>
                      <a:pt x="1027" y="421"/>
                    </a:lnTo>
                    <a:lnTo>
                      <a:pt x="1030" y="414"/>
                    </a:lnTo>
                    <a:lnTo>
                      <a:pt x="1033" y="408"/>
                    </a:lnTo>
                    <a:lnTo>
                      <a:pt x="1037" y="400"/>
                    </a:lnTo>
                    <a:lnTo>
                      <a:pt x="1043" y="394"/>
                    </a:lnTo>
                    <a:lnTo>
                      <a:pt x="1049" y="386"/>
                    </a:lnTo>
                    <a:lnTo>
                      <a:pt x="1056" y="379"/>
                    </a:lnTo>
                    <a:lnTo>
                      <a:pt x="1068" y="367"/>
                    </a:lnTo>
                    <a:lnTo>
                      <a:pt x="1077" y="355"/>
                    </a:lnTo>
                    <a:lnTo>
                      <a:pt x="1085" y="343"/>
                    </a:lnTo>
                    <a:lnTo>
                      <a:pt x="1091" y="332"/>
                    </a:lnTo>
                    <a:lnTo>
                      <a:pt x="1095" y="323"/>
                    </a:lnTo>
                    <a:lnTo>
                      <a:pt x="1098" y="313"/>
                    </a:lnTo>
                    <a:lnTo>
                      <a:pt x="1099" y="303"/>
                    </a:lnTo>
                    <a:lnTo>
                      <a:pt x="1099" y="295"/>
                    </a:lnTo>
                    <a:lnTo>
                      <a:pt x="1098" y="286"/>
                    </a:lnTo>
                    <a:lnTo>
                      <a:pt x="1096" y="277"/>
                    </a:lnTo>
                    <a:lnTo>
                      <a:pt x="1092" y="270"/>
                    </a:lnTo>
                    <a:lnTo>
                      <a:pt x="1089" y="262"/>
                    </a:lnTo>
                    <a:lnTo>
                      <a:pt x="1082" y="248"/>
                    </a:lnTo>
                    <a:lnTo>
                      <a:pt x="1073" y="235"/>
                    </a:lnTo>
                    <a:lnTo>
                      <a:pt x="1065" y="223"/>
                    </a:lnTo>
                    <a:lnTo>
                      <a:pt x="1060" y="212"/>
                    </a:lnTo>
                    <a:lnTo>
                      <a:pt x="1059" y="207"/>
                    </a:lnTo>
                    <a:lnTo>
                      <a:pt x="1058" y="202"/>
                    </a:lnTo>
                    <a:lnTo>
                      <a:pt x="1059" y="197"/>
                    </a:lnTo>
                    <a:lnTo>
                      <a:pt x="1061" y="192"/>
                    </a:lnTo>
                    <a:lnTo>
                      <a:pt x="1064" y="188"/>
                    </a:lnTo>
                    <a:lnTo>
                      <a:pt x="1070" y="183"/>
                    </a:lnTo>
                    <a:lnTo>
                      <a:pt x="1076" y="178"/>
                    </a:lnTo>
                    <a:lnTo>
                      <a:pt x="1085" y="174"/>
                    </a:lnTo>
                    <a:lnTo>
                      <a:pt x="1096" y="169"/>
                    </a:lnTo>
                    <a:lnTo>
                      <a:pt x="1109" y="165"/>
                    </a:lnTo>
                    <a:lnTo>
                      <a:pt x="1125" y="161"/>
                    </a:lnTo>
                    <a:lnTo>
                      <a:pt x="1142" y="156"/>
                    </a:lnTo>
                    <a:lnTo>
                      <a:pt x="1155" y="153"/>
                    </a:lnTo>
                    <a:lnTo>
                      <a:pt x="1168" y="149"/>
                    </a:lnTo>
                    <a:lnTo>
                      <a:pt x="1180" y="143"/>
                    </a:lnTo>
                    <a:lnTo>
                      <a:pt x="1192" y="137"/>
                    </a:lnTo>
                    <a:lnTo>
                      <a:pt x="1215" y="123"/>
                    </a:lnTo>
                    <a:lnTo>
                      <a:pt x="1235" y="108"/>
                    </a:lnTo>
                    <a:lnTo>
                      <a:pt x="1257" y="93"/>
                    </a:lnTo>
                    <a:lnTo>
                      <a:pt x="1278" y="79"/>
                    </a:lnTo>
                    <a:lnTo>
                      <a:pt x="1289" y="72"/>
                    </a:lnTo>
                    <a:lnTo>
                      <a:pt x="1300" y="66"/>
                    </a:lnTo>
                    <a:lnTo>
                      <a:pt x="1311" y="61"/>
                    </a:lnTo>
                    <a:lnTo>
                      <a:pt x="1323" y="57"/>
                    </a:lnTo>
                    <a:lnTo>
                      <a:pt x="1337" y="54"/>
                    </a:lnTo>
                    <a:lnTo>
                      <a:pt x="1351" y="49"/>
                    </a:lnTo>
                    <a:lnTo>
                      <a:pt x="1364" y="44"/>
                    </a:lnTo>
                    <a:lnTo>
                      <a:pt x="1378" y="39"/>
                    </a:lnTo>
                    <a:lnTo>
                      <a:pt x="1404" y="27"/>
                    </a:lnTo>
                    <a:lnTo>
                      <a:pt x="1431" y="16"/>
                    </a:lnTo>
                    <a:lnTo>
                      <a:pt x="1444" y="10"/>
                    </a:lnTo>
                    <a:lnTo>
                      <a:pt x="1458" y="6"/>
                    </a:lnTo>
                    <a:lnTo>
                      <a:pt x="1471" y="3"/>
                    </a:lnTo>
                    <a:lnTo>
                      <a:pt x="1485" y="1"/>
                    </a:lnTo>
                    <a:lnTo>
                      <a:pt x="1499" y="0"/>
                    </a:lnTo>
                    <a:lnTo>
                      <a:pt x="1513" y="0"/>
                    </a:lnTo>
                    <a:lnTo>
                      <a:pt x="1528" y="2"/>
                    </a:lnTo>
                    <a:lnTo>
                      <a:pt x="1543" y="5"/>
                    </a:lnTo>
                    <a:lnTo>
                      <a:pt x="1575" y="16"/>
                    </a:lnTo>
                    <a:lnTo>
                      <a:pt x="1608" y="27"/>
                    </a:lnTo>
                    <a:lnTo>
                      <a:pt x="1640" y="37"/>
                    </a:lnTo>
                    <a:lnTo>
                      <a:pt x="1671" y="49"/>
                    </a:lnTo>
                    <a:lnTo>
                      <a:pt x="1703" y="62"/>
                    </a:lnTo>
                    <a:lnTo>
                      <a:pt x="1734" y="75"/>
                    </a:lnTo>
                    <a:lnTo>
                      <a:pt x="1764" y="89"/>
                    </a:lnTo>
                    <a:lnTo>
                      <a:pt x="1795" y="103"/>
                    </a:lnTo>
                    <a:lnTo>
                      <a:pt x="1825" y="117"/>
                    </a:lnTo>
                    <a:lnTo>
                      <a:pt x="1854" y="133"/>
                    </a:lnTo>
                    <a:lnTo>
                      <a:pt x="1884" y="148"/>
                    </a:lnTo>
                    <a:lnTo>
                      <a:pt x="1912" y="164"/>
                    </a:lnTo>
                    <a:lnTo>
                      <a:pt x="1942" y="181"/>
                    </a:lnTo>
                    <a:lnTo>
                      <a:pt x="1970" y="197"/>
                    </a:lnTo>
                    <a:lnTo>
                      <a:pt x="1998" y="216"/>
                    </a:lnTo>
                    <a:lnTo>
                      <a:pt x="2025" y="233"/>
                    </a:lnTo>
                    <a:lnTo>
                      <a:pt x="2053" y="251"/>
                    </a:lnTo>
                    <a:lnTo>
                      <a:pt x="2079" y="271"/>
                    </a:lnTo>
                    <a:lnTo>
                      <a:pt x="2106" y="290"/>
                    </a:lnTo>
                    <a:lnTo>
                      <a:pt x="2132" y="310"/>
                    </a:lnTo>
                    <a:lnTo>
                      <a:pt x="2158" y="330"/>
                    </a:lnTo>
                    <a:lnTo>
                      <a:pt x="2182" y="351"/>
                    </a:lnTo>
                    <a:lnTo>
                      <a:pt x="2207" y="372"/>
                    </a:lnTo>
                    <a:lnTo>
                      <a:pt x="2231" y="394"/>
                    </a:lnTo>
                    <a:lnTo>
                      <a:pt x="2256" y="415"/>
                    </a:lnTo>
                    <a:lnTo>
                      <a:pt x="2279" y="438"/>
                    </a:lnTo>
                    <a:lnTo>
                      <a:pt x="2302" y="461"/>
                    </a:lnTo>
                    <a:lnTo>
                      <a:pt x="2325" y="485"/>
                    </a:lnTo>
                    <a:lnTo>
                      <a:pt x="2347" y="508"/>
                    </a:lnTo>
                    <a:lnTo>
                      <a:pt x="2368" y="532"/>
                    </a:lnTo>
                    <a:lnTo>
                      <a:pt x="2390" y="557"/>
                    </a:lnTo>
                    <a:lnTo>
                      <a:pt x="2410" y="582"/>
                    </a:lnTo>
                    <a:lnTo>
                      <a:pt x="2323" y="593"/>
                    </a:lnTo>
                    <a:lnTo>
                      <a:pt x="2220" y="603"/>
                    </a:lnTo>
                    <a:lnTo>
                      <a:pt x="2166" y="609"/>
                    </a:lnTo>
                    <a:lnTo>
                      <a:pt x="2112" y="615"/>
                    </a:lnTo>
                    <a:lnTo>
                      <a:pt x="2057" y="624"/>
                    </a:lnTo>
                    <a:lnTo>
                      <a:pt x="2004" y="633"/>
                    </a:lnTo>
                    <a:lnTo>
                      <a:pt x="1978" y="638"/>
                    </a:lnTo>
                    <a:lnTo>
                      <a:pt x="1953" y="643"/>
                    </a:lnTo>
                    <a:lnTo>
                      <a:pt x="1929" y="649"/>
                    </a:lnTo>
                    <a:lnTo>
                      <a:pt x="1905" y="655"/>
                    </a:lnTo>
                    <a:lnTo>
                      <a:pt x="1882" y="662"/>
                    </a:lnTo>
                    <a:lnTo>
                      <a:pt x="1861" y="668"/>
                    </a:lnTo>
                    <a:lnTo>
                      <a:pt x="1840" y="677"/>
                    </a:lnTo>
                    <a:lnTo>
                      <a:pt x="1822" y="684"/>
                    </a:lnTo>
                    <a:lnTo>
                      <a:pt x="1803" y="694"/>
                    </a:lnTo>
                    <a:lnTo>
                      <a:pt x="1787" y="703"/>
                    </a:lnTo>
                    <a:lnTo>
                      <a:pt x="1773" y="714"/>
                    </a:lnTo>
                    <a:lnTo>
                      <a:pt x="1761" y="724"/>
                    </a:lnTo>
                    <a:lnTo>
                      <a:pt x="1750" y="735"/>
                    </a:lnTo>
                    <a:lnTo>
                      <a:pt x="1742" y="748"/>
                    </a:lnTo>
                    <a:lnTo>
                      <a:pt x="1735" y="761"/>
                    </a:lnTo>
                    <a:lnTo>
                      <a:pt x="1731" y="774"/>
                    </a:lnTo>
                    <a:lnTo>
                      <a:pt x="1729" y="785"/>
                    </a:lnTo>
                    <a:lnTo>
                      <a:pt x="1729" y="796"/>
                    </a:lnTo>
                    <a:lnTo>
                      <a:pt x="1729" y="806"/>
                    </a:lnTo>
                    <a:lnTo>
                      <a:pt x="1730" y="817"/>
                    </a:lnTo>
                    <a:lnTo>
                      <a:pt x="1732" y="828"/>
                    </a:lnTo>
                    <a:lnTo>
                      <a:pt x="1735" y="839"/>
                    </a:lnTo>
                    <a:lnTo>
                      <a:pt x="1738" y="849"/>
                    </a:lnTo>
                    <a:lnTo>
                      <a:pt x="1744" y="859"/>
                    </a:lnTo>
                    <a:lnTo>
                      <a:pt x="1749" y="870"/>
                    </a:lnTo>
                    <a:lnTo>
                      <a:pt x="1755" y="881"/>
                    </a:lnTo>
                    <a:lnTo>
                      <a:pt x="1761" y="891"/>
                    </a:lnTo>
                    <a:lnTo>
                      <a:pt x="1769" y="901"/>
                    </a:lnTo>
                    <a:lnTo>
                      <a:pt x="1785" y="922"/>
                    </a:lnTo>
                    <a:lnTo>
                      <a:pt x="1803" y="943"/>
                    </a:lnTo>
                    <a:lnTo>
                      <a:pt x="1824" y="963"/>
                    </a:lnTo>
                    <a:lnTo>
                      <a:pt x="1844" y="982"/>
                    </a:lnTo>
                    <a:lnTo>
                      <a:pt x="1867" y="1002"/>
                    </a:lnTo>
                    <a:lnTo>
                      <a:pt x="1889" y="1020"/>
                    </a:lnTo>
                    <a:lnTo>
                      <a:pt x="1935" y="1057"/>
                    </a:lnTo>
                    <a:lnTo>
                      <a:pt x="1978" y="1090"/>
                    </a:lnTo>
                    <a:close/>
                  </a:path>
                </a:pathLst>
              </a:custGeom>
              <a:solidFill>
                <a:srgbClr val="5579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5300640" y="3730680"/>
                <a:ext cx="765000" cy="1343160"/>
              </a:xfrm>
              <a:custGeom>
                <a:avLst/>
                <a:gdLst/>
                <a:ahLst/>
                <a:rect l="l" t="t" r="r" b="b"/>
                <a:pathLst>
                  <a:path w="2410" h="4230">
                    <a:moveTo>
                      <a:pt x="1800" y="4230"/>
                    </a:moveTo>
                    <a:lnTo>
                      <a:pt x="1791" y="4224"/>
                    </a:lnTo>
                    <a:lnTo>
                      <a:pt x="1783" y="4215"/>
                    </a:lnTo>
                    <a:lnTo>
                      <a:pt x="1775" y="4206"/>
                    </a:lnTo>
                    <a:lnTo>
                      <a:pt x="1768" y="4197"/>
                    </a:lnTo>
                    <a:lnTo>
                      <a:pt x="1761" y="4186"/>
                    </a:lnTo>
                    <a:lnTo>
                      <a:pt x="1756" y="4175"/>
                    </a:lnTo>
                    <a:lnTo>
                      <a:pt x="1750" y="4163"/>
                    </a:lnTo>
                    <a:lnTo>
                      <a:pt x="1746" y="4150"/>
                    </a:lnTo>
                    <a:lnTo>
                      <a:pt x="1742" y="4137"/>
                    </a:lnTo>
                    <a:lnTo>
                      <a:pt x="1738" y="4123"/>
                    </a:lnTo>
                    <a:lnTo>
                      <a:pt x="1735" y="4109"/>
                    </a:lnTo>
                    <a:lnTo>
                      <a:pt x="1732" y="4094"/>
                    </a:lnTo>
                    <a:lnTo>
                      <a:pt x="1729" y="4064"/>
                    </a:lnTo>
                    <a:lnTo>
                      <a:pt x="1727" y="4033"/>
                    </a:lnTo>
                    <a:lnTo>
                      <a:pt x="1727" y="4002"/>
                    </a:lnTo>
                    <a:lnTo>
                      <a:pt x="1728" y="3972"/>
                    </a:lnTo>
                    <a:lnTo>
                      <a:pt x="1730" y="3943"/>
                    </a:lnTo>
                    <a:lnTo>
                      <a:pt x="1734" y="3915"/>
                    </a:lnTo>
                    <a:lnTo>
                      <a:pt x="1738" y="3889"/>
                    </a:lnTo>
                    <a:lnTo>
                      <a:pt x="1744" y="3866"/>
                    </a:lnTo>
                    <a:lnTo>
                      <a:pt x="1749" y="3846"/>
                    </a:lnTo>
                    <a:lnTo>
                      <a:pt x="1756" y="3829"/>
                    </a:lnTo>
                    <a:lnTo>
                      <a:pt x="1761" y="3814"/>
                    </a:lnTo>
                    <a:lnTo>
                      <a:pt x="1763" y="3799"/>
                    </a:lnTo>
                    <a:lnTo>
                      <a:pt x="1765" y="3783"/>
                    </a:lnTo>
                    <a:lnTo>
                      <a:pt x="1765" y="3767"/>
                    </a:lnTo>
                    <a:lnTo>
                      <a:pt x="1763" y="3751"/>
                    </a:lnTo>
                    <a:lnTo>
                      <a:pt x="1760" y="3732"/>
                    </a:lnTo>
                    <a:lnTo>
                      <a:pt x="1756" y="3714"/>
                    </a:lnTo>
                    <a:lnTo>
                      <a:pt x="1751" y="3693"/>
                    </a:lnTo>
                    <a:lnTo>
                      <a:pt x="1738" y="3650"/>
                    </a:lnTo>
                    <a:lnTo>
                      <a:pt x="1722" y="3601"/>
                    </a:lnTo>
                    <a:lnTo>
                      <a:pt x="1706" y="3546"/>
                    </a:lnTo>
                    <a:lnTo>
                      <a:pt x="1689" y="3484"/>
                    </a:lnTo>
                    <a:lnTo>
                      <a:pt x="1686" y="3466"/>
                    </a:lnTo>
                    <a:lnTo>
                      <a:pt x="1682" y="3448"/>
                    </a:lnTo>
                    <a:lnTo>
                      <a:pt x="1680" y="3430"/>
                    </a:lnTo>
                    <a:lnTo>
                      <a:pt x="1679" y="3410"/>
                    </a:lnTo>
                    <a:lnTo>
                      <a:pt x="1678" y="3390"/>
                    </a:lnTo>
                    <a:lnTo>
                      <a:pt x="1678" y="3368"/>
                    </a:lnTo>
                    <a:lnTo>
                      <a:pt x="1679" y="3348"/>
                    </a:lnTo>
                    <a:lnTo>
                      <a:pt x="1680" y="3325"/>
                    </a:lnTo>
                    <a:lnTo>
                      <a:pt x="1684" y="3280"/>
                    </a:lnTo>
                    <a:lnTo>
                      <a:pt x="1690" y="3232"/>
                    </a:lnTo>
                    <a:lnTo>
                      <a:pt x="1696" y="3184"/>
                    </a:lnTo>
                    <a:lnTo>
                      <a:pt x="1704" y="3135"/>
                    </a:lnTo>
                    <a:lnTo>
                      <a:pt x="1720" y="3036"/>
                    </a:lnTo>
                    <a:lnTo>
                      <a:pt x="1734" y="2938"/>
                    </a:lnTo>
                    <a:lnTo>
                      <a:pt x="1740" y="2891"/>
                    </a:lnTo>
                    <a:lnTo>
                      <a:pt x="1743" y="2845"/>
                    </a:lnTo>
                    <a:lnTo>
                      <a:pt x="1744" y="2824"/>
                    </a:lnTo>
                    <a:lnTo>
                      <a:pt x="1744" y="2802"/>
                    </a:lnTo>
                    <a:lnTo>
                      <a:pt x="1744" y="2782"/>
                    </a:lnTo>
                    <a:lnTo>
                      <a:pt x="1743" y="2761"/>
                    </a:lnTo>
                    <a:lnTo>
                      <a:pt x="1743" y="2742"/>
                    </a:lnTo>
                    <a:lnTo>
                      <a:pt x="1743" y="2720"/>
                    </a:lnTo>
                    <a:lnTo>
                      <a:pt x="1744" y="2699"/>
                    </a:lnTo>
                    <a:lnTo>
                      <a:pt x="1745" y="2676"/>
                    </a:lnTo>
                    <a:lnTo>
                      <a:pt x="1750" y="2629"/>
                    </a:lnTo>
                    <a:lnTo>
                      <a:pt x="1757" y="2582"/>
                    </a:lnTo>
                    <a:lnTo>
                      <a:pt x="1765" y="2534"/>
                    </a:lnTo>
                    <a:lnTo>
                      <a:pt x="1775" y="2486"/>
                    </a:lnTo>
                    <a:lnTo>
                      <a:pt x="1786" y="2437"/>
                    </a:lnTo>
                    <a:lnTo>
                      <a:pt x="1798" y="2391"/>
                    </a:lnTo>
                    <a:lnTo>
                      <a:pt x="1810" y="2347"/>
                    </a:lnTo>
                    <a:lnTo>
                      <a:pt x="1822" y="2303"/>
                    </a:lnTo>
                    <a:lnTo>
                      <a:pt x="1834" y="2264"/>
                    </a:lnTo>
                    <a:lnTo>
                      <a:pt x="1845" y="2229"/>
                    </a:lnTo>
                    <a:lnTo>
                      <a:pt x="1864" y="2173"/>
                    </a:lnTo>
                    <a:lnTo>
                      <a:pt x="1877" y="2139"/>
                    </a:lnTo>
                    <a:lnTo>
                      <a:pt x="1881" y="2127"/>
                    </a:lnTo>
                    <a:lnTo>
                      <a:pt x="1883" y="2113"/>
                    </a:lnTo>
                    <a:lnTo>
                      <a:pt x="1885" y="2098"/>
                    </a:lnTo>
                    <a:lnTo>
                      <a:pt x="1888" y="2081"/>
                    </a:lnTo>
                    <a:lnTo>
                      <a:pt x="1889" y="2064"/>
                    </a:lnTo>
                    <a:lnTo>
                      <a:pt x="1889" y="2043"/>
                    </a:lnTo>
                    <a:lnTo>
                      <a:pt x="1888" y="2023"/>
                    </a:lnTo>
                    <a:lnTo>
                      <a:pt x="1885" y="2001"/>
                    </a:lnTo>
                    <a:lnTo>
                      <a:pt x="1883" y="1978"/>
                    </a:lnTo>
                    <a:lnTo>
                      <a:pt x="1880" y="1954"/>
                    </a:lnTo>
                    <a:lnTo>
                      <a:pt x="1877" y="1930"/>
                    </a:lnTo>
                    <a:lnTo>
                      <a:pt x="1871" y="1906"/>
                    </a:lnTo>
                    <a:lnTo>
                      <a:pt x="1866" y="1881"/>
                    </a:lnTo>
                    <a:lnTo>
                      <a:pt x="1859" y="1855"/>
                    </a:lnTo>
                    <a:lnTo>
                      <a:pt x="1853" y="1830"/>
                    </a:lnTo>
                    <a:lnTo>
                      <a:pt x="1844" y="1805"/>
                    </a:lnTo>
                    <a:lnTo>
                      <a:pt x="1836" y="1781"/>
                    </a:lnTo>
                    <a:lnTo>
                      <a:pt x="1825" y="1756"/>
                    </a:lnTo>
                    <a:lnTo>
                      <a:pt x="1814" y="1731"/>
                    </a:lnTo>
                    <a:lnTo>
                      <a:pt x="1801" y="1706"/>
                    </a:lnTo>
                    <a:lnTo>
                      <a:pt x="1776" y="1655"/>
                    </a:lnTo>
                    <a:lnTo>
                      <a:pt x="1750" y="1605"/>
                    </a:lnTo>
                    <a:lnTo>
                      <a:pt x="1737" y="1578"/>
                    </a:lnTo>
                    <a:lnTo>
                      <a:pt x="1727" y="1551"/>
                    </a:lnTo>
                    <a:lnTo>
                      <a:pt x="1716" y="1522"/>
                    </a:lnTo>
                    <a:lnTo>
                      <a:pt x="1707" y="1494"/>
                    </a:lnTo>
                    <a:lnTo>
                      <a:pt x="1700" y="1465"/>
                    </a:lnTo>
                    <a:lnTo>
                      <a:pt x="1694" y="1434"/>
                    </a:lnTo>
                    <a:lnTo>
                      <a:pt x="1692" y="1419"/>
                    </a:lnTo>
                    <a:lnTo>
                      <a:pt x="1690" y="1403"/>
                    </a:lnTo>
                    <a:lnTo>
                      <a:pt x="1689" y="1386"/>
                    </a:lnTo>
                    <a:lnTo>
                      <a:pt x="1689" y="1370"/>
                    </a:lnTo>
                    <a:lnTo>
                      <a:pt x="1689" y="1354"/>
                    </a:lnTo>
                    <a:lnTo>
                      <a:pt x="1688" y="1337"/>
                    </a:lnTo>
                    <a:lnTo>
                      <a:pt x="1686" y="1321"/>
                    </a:lnTo>
                    <a:lnTo>
                      <a:pt x="1683" y="1304"/>
                    </a:lnTo>
                    <a:lnTo>
                      <a:pt x="1677" y="1272"/>
                    </a:lnTo>
                    <a:lnTo>
                      <a:pt x="1668" y="1241"/>
                    </a:lnTo>
                    <a:lnTo>
                      <a:pt x="1659" y="1209"/>
                    </a:lnTo>
                    <a:lnTo>
                      <a:pt x="1647" y="1178"/>
                    </a:lnTo>
                    <a:lnTo>
                      <a:pt x="1634" y="1148"/>
                    </a:lnTo>
                    <a:lnTo>
                      <a:pt x="1621" y="1119"/>
                    </a:lnTo>
                    <a:lnTo>
                      <a:pt x="1592" y="1061"/>
                    </a:lnTo>
                    <a:lnTo>
                      <a:pt x="1561" y="1008"/>
                    </a:lnTo>
                    <a:lnTo>
                      <a:pt x="1534" y="960"/>
                    </a:lnTo>
                    <a:lnTo>
                      <a:pt x="1511" y="916"/>
                    </a:lnTo>
                    <a:lnTo>
                      <a:pt x="1502" y="895"/>
                    </a:lnTo>
                    <a:lnTo>
                      <a:pt x="1494" y="876"/>
                    </a:lnTo>
                    <a:lnTo>
                      <a:pt x="1489" y="858"/>
                    </a:lnTo>
                    <a:lnTo>
                      <a:pt x="1485" y="841"/>
                    </a:lnTo>
                    <a:lnTo>
                      <a:pt x="1482" y="825"/>
                    </a:lnTo>
                    <a:lnTo>
                      <a:pt x="1480" y="810"/>
                    </a:lnTo>
                    <a:lnTo>
                      <a:pt x="1480" y="795"/>
                    </a:lnTo>
                    <a:lnTo>
                      <a:pt x="1480" y="781"/>
                    </a:lnTo>
                    <a:lnTo>
                      <a:pt x="1482" y="754"/>
                    </a:lnTo>
                    <a:lnTo>
                      <a:pt x="1484" y="727"/>
                    </a:lnTo>
                    <a:lnTo>
                      <a:pt x="1482" y="712"/>
                    </a:lnTo>
                    <a:lnTo>
                      <a:pt x="1481" y="700"/>
                    </a:lnTo>
                    <a:lnTo>
                      <a:pt x="1479" y="685"/>
                    </a:lnTo>
                    <a:lnTo>
                      <a:pt x="1476" y="670"/>
                    </a:lnTo>
                    <a:lnTo>
                      <a:pt x="1473" y="657"/>
                    </a:lnTo>
                    <a:lnTo>
                      <a:pt x="1469" y="648"/>
                    </a:lnTo>
                    <a:lnTo>
                      <a:pt x="1466" y="641"/>
                    </a:lnTo>
                    <a:lnTo>
                      <a:pt x="1463" y="638"/>
                    </a:lnTo>
                    <a:lnTo>
                      <a:pt x="1461" y="637"/>
                    </a:lnTo>
                    <a:lnTo>
                      <a:pt x="1459" y="638"/>
                    </a:lnTo>
                    <a:lnTo>
                      <a:pt x="1456" y="639"/>
                    </a:lnTo>
                    <a:lnTo>
                      <a:pt x="1454" y="642"/>
                    </a:lnTo>
                    <a:lnTo>
                      <a:pt x="1449" y="650"/>
                    </a:lnTo>
                    <a:lnTo>
                      <a:pt x="1442" y="662"/>
                    </a:lnTo>
                    <a:lnTo>
                      <a:pt x="1423" y="698"/>
                    </a:lnTo>
                    <a:lnTo>
                      <a:pt x="1394" y="755"/>
                    </a:lnTo>
                    <a:lnTo>
                      <a:pt x="1375" y="790"/>
                    </a:lnTo>
                    <a:lnTo>
                      <a:pt x="1353" y="830"/>
                    </a:lnTo>
                    <a:lnTo>
                      <a:pt x="1328" y="877"/>
                    </a:lnTo>
                    <a:lnTo>
                      <a:pt x="1299" y="927"/>
                    </a:lnTo>
                    <a:lnTo>
                      <a:pt x="1283" y="955"/>
                    </a:lnTo>
                    <a:lnTo>
                      <a:pt x="1267" y="987"/>
                    </a:lnTo>
                    <a:lnTo>
                      <a:pt x="1251" y="1020"/>
                    </a:lnTo>
                    <a:lnTo>
                      <a:pt x="1236" y="1056"/>
                    </a:lnTo>
                    <a:lnTo>
                      <a:pt x="1220" y="1094"/>
                    </a:lnTo>
                    <a:lnTo>
                      <a:pt x="1205" y="1134"/>
                    </a:lnTo>
                    <a:lnTo>
                      <a:pt x="1190" y="1175"/>
                    </a:lnTo>
                    <a:lnTo>
                      <a:pt x="1173" y="1218"/>
                    </a:lnTo>
                    <a:lnTo>
                      <a:pt x="1144" y="1308"/>
                    </a:lnTo>
                    <a:lnTo>
                      <a:pt x="1114" y="1403"/>
                    </a:lnTo>
                    <a:lnTo>
                      <a:pt x="1086" y="1500"/>
                    </a:lnTo>
                    <a:lnTo>
                      <a:pt x="1059" y="1599"/>
                    </a:lnTo>
                    <a:lnTo>
                      <a:pt x="1033" y="1700"/>
                    </a:lnTo>
                    <a:lnTo>
                      <a:pt x="1009" y="1798"/>
                    </a:lnTo>
                    <a:lnTo>
                      <a:pt x="987" y="1895"/>
                    </a:lnTo>
                    <a:lnTo>
                      <a:pt x="966" y="1989"/>
                    </a:lnTo>
                    <a:lnTo>
                      <a:pt x="948" y="2079"/>
                    </a:lnTo>
                    <a:lnTo>
                      <a:pt x="933" y="2161"/>
                    </a:lnTo>
                    <a:lnTo>
                      <a:pt x="920" y="2237"/>
                    </a:lnTo>
                    <a:lnTo>
                      <a:pt x="910" y="2304"/>
                    </a:lnTo>
                    <a:lnTo>
                      <a:pt x="906" y="2336"/>
                    </a:lnTo>
                    <a:lnTo>
                      <a:pt x="900" y="2367"/>
                    </a:lnTo>
                    <a:lnTo>
                      <a:pt x="894" y="2399"/>
                    </a:lnTo>
                    <a:lnTo>
                      <a:pt x="887" y="2431"/>
                    </a:lnTo>
                    <a:lnTo>
                      <a:pt x="871" y="2494"/>
                    </a:lnTo>
                    <a:lnTo>
                      <a:pt x="853" y="2557"/>
                    </a:lnTo>
                    <a:lnTo>
                      <a:pt x="833" y="2620"/>
                    </a:lnTo>
                    <a:lnTo>
                      <a:pt x="813" y="2681"/>
                    </a:lnTo>
                    <a:lnTo>
                      <a:pt x="791" y="2742"/>
                    </a:lnTo>
                    <a:lnTo>
                      <a:pt x="769" y="2801"/>
                    </a:lnTo>
                    <a:lnTo>
                      <a:pt x="728" y="2912"/>
                    </a:lnTo>
                    <a:lnTo>
                      <a:pt x="692" y="3014"/>
                    </a:lnTo>
                    <a:lnTo>
                      <a:pt x="678" y="3059"/>
                    </a:lnTo>
                    <a:lnTo>
                      <a:pt x="666" y="3100"/>
                    </a:lnTo>
                    <a:lnTo>
                      <a:pt x="661" y="3120"/>
                    </a:lnTo>
                    <a:lnTo>
                      <a:pt x="657" y="3138"/>
                    </a:lnTo>
                    <a:lnTo>
                      <a:pt x="655" y="3155"/>
                    </a:lnTo>
                    <a:lnTo>
                      <a:pt x="653" y="3172"/>
                    </a:lnTo>
                    <a:lnTo>
                      <a:pt x="650" y="3206"/>
                    </a:lnTo>
                    <a:lnTo>
                      <a:pt x="645" y="3244"/>
                    </a:lnTo>
                    <a:lnTo>
                      <a:pt x="638" y="3286"/>
                    </a:lnTo>
                    <a:lnTo>
                      <a:pt x="629" y="3331"/>
                    </a:lnTo>
                    <a:lnTo>
                      <a:pt x="619" y="3379"/>
                    </a:lnTo>
                    <a:lnTo>
                      <a:pt x="608" y="3428"/>
                    </a:lnTo>
                    <a:lnTo>
                      <a:pt x="597" y="3477"/>
                    </a:lnTo>
                    <a:lnTo>
                      <a:pt x="585" y="3527"/>
                    </a:lnTo>
                    <a:lnTo>
                      <a:pt x="559" y="3623"/>
                    </a:lnTo>
                    <a:lnTo>
                      <a:pt x="535" y="3712"/>
                    </a:lnTo>
                    <a:lnTo>
                      <a:pt x="513" y="3786"/>
                    </a:lnTo>
                    <a:lnTo>
                      <a:pt x="497" y="3839"/>
                    </a:lnTo>
                    <a:lnTo>
                      <a:pt x="492" y="3859"/>
                    </a:lnTo>
                    <a:lnTo>
                      <a:pt x="489" y="3876"/>
                    </a:lnTo>
                    <a:lnTo>
                      <a:pt x="486" y="3891"/>
                    </a:lnTo>
                    <a:lnTo>
                      <a:pt x="485" y="3904"/>
                    </a:lnTo>
                    <a:lnTo>
                      <a:pt x="485" y="3916"/>
                    </a:lnTo>
                    <a:lnTo>
                      <a:pt x="485" y="3928"/>
                    </a:lnTo>
                    <a:lnTo>
                      <a:pt x="487" y="3938"/>
                    </a:lnTo>
                    <a:lnTo>
                      <a:pt x="489" y="3948"/>
                    </a:lnTo>
                    <a:lnTo>
                      <a:pt x="492" y="3971"/>
                    </a:lnTo>
                    <a:lnTo>
                      <a:pt x="494" y="3997"/>
                    </a:lnTo>
                    <a:lnTo>
                      <a:pt x="494" y="4013"/>
                    </a:lnTo>
                    <a:lnTo>
                      <a:pt x="493" y="4030"/>
                    </a:lnTo>
                    <a:lnTo>
                      <a:pt x="491" y="4051"/>
                    </a:lnTo>
                    <a:lnTo>
                      <a:pt x="487" y="4075"/>
                    </a:lnTo>
                    <a:lnTo>
                      <a:pt x="482" y="4097"/>
                    </a:lnTo>
                    <a:lnTo>
                      <a:pt x="477" y="4116"/>
                    </a:lnTo>
                    <a:lnTo>
                      <a:pt x="473" y="4123"/>
                    </a:lnTo>
                    <a:lnTo>
                      <a:pt x="470" y="4130"/>
                    </a:lnTo>
                    <a:lnTo>
                      <a:pt x="467" y="4135"/>
                    </a:lnTo>
                    <a:lnTo>
                      <a:pt x="463" y="4140"/>
                    </a:lnTo>
                    <a:lnTo>
                      <a:pt x="459" y="4145"/>
                    </a:lnTo>
                    <a:lnTo>
                      <a:pt x="455" y="4148"/>
                    </a:lnTo>
                    <a:lnTo>
                      <a:pt x="451" y="4150"/>
                    </a:lnTo>
                    <a:lnTo>
                      <a:pt x="448" y="4152"/>
                    </a:lnTo>
                    <a:lnTo>
                      <a:pt x="439" y="4154"/>
                    </a:lnTo>
                    <a:lnTo>
                      <a:pt x="430" y="4156"/>
                    </a:lnTo>
                    <a:lnTo>
                      <a:pt x="423" y="4154"/>
                    </a:lnTo>
                    <a:lnTo>
                      <a:pt x="415" y="4151"/>
                    </a:lnTo>
                    <a:lnTo>
                      <a:pt x="409" y="4149"/>
                    </a:lnTo>
                    <a:lnTo>
                      <a:pt x="403" y="4145"/>
                    </a:lnTo>
                    <a:lnTo>
                      <a:pt x="395" y="4139"/>
                    </a:lnTo>
                    <a:lnTo>
                      <a:pt x="391" y="4136"/>
                    </a:lnTo>
                    <a:lnTo>
                      <a:pt x="365" y="4134"/>
                    </a:lnTo>
                    <a:lnTo>
                      <a:pt x="339" y="4133"/>
                    </a:lnTo>
                    <a:lnTo>
                      <a:pt x="315" y="4133"/>
                    </a:lnTo>
                    <a:lnTo>
                      <a:pt x="290" y="4134"/>
                    </a:lnTo>
                    <a:lnTo>
                      <a:pt x="239" y="4138"/>
                    </a:lnTo>
                    <a:lnTo>
                      <a:pt x="190" y="4145"/>
                    </a:lnTo>
                    <a:lnTo>
                      <a:pt x="141" y="4152"/>
                    </a:lnTo>
                    <a:lnTo>
                      <a:pt x="93" y="4159"/>
                    </a:lnTo>
                    <a:lnTo>
                      <a:pt x="69" y="4161"/>
                    </a:lnTo>
                    <a:lnTo>
                      <a:pt x="46" y="4163"/>
                    </a:lnTo>
                    <a:lnTo>
                      <a:pt x="23" y="4163"/>
                    </a:lnTo>
                    <a:lnTo>
                      <a:pt x="0" y="4163"/>
                    </a:lnTo>
                    <a:lnTo>
                      <a:pt x="58" y="4165"/>
                    </a:lnTo>
                    <a:lnTo>
                      <a:pt x="109" y="4164"/>
                    </a:lnTo>
                    <a:lnTo>
                      <a:pt x="157" y="4161"/>
                    </a:lnTo>
                    <a:lnTo>
                      <a:pt x="200" y="4154"/>
                    </a:lnTo>
                    <a:lnTo>
                      <a:pt x="238" y="4146"/>
                    </a:lnTo>
                    <a:lnTo>
                      <a:pt x="273" y="4135"/>
                    </a:lnTo>
                    <a:lnTo>
                      <a:pt x="303" y="4121"/>
                    </a:lnTo>
                    <a:lnTo>
                      <a:pt x="330" y="4106"/>
                    </a:lnTo>
                    <a:lnTo>
                      <a:pt x="354" y="4087"/>
                    </a:lnTo>
                    <a:lnTo>
                      <a:pt x="374" y="4068"/>
                    </a:lnTo>
                    <a:lnTo>
                      <a:pt x="391" y="4046"/>
                    </a:lnTo>
                    <a:lnTo>
                      <a:pt x="408" y="4023"/>
                    </a:lnTo>
                    <a:lnTo>
                      <a:pt x="421" y="3997"/>
                    </a:lnTo>
                    <a:lnTo>
                      <a:pt x="431" y="3970"/>
                    </a:lnTo>
                    <a:lnTo>
                      <a:pt x="441" y="3941"/>
                    </a:lnTo>
                    <a:lnTo>
                      <a:pt x="449" y="3910"/>
                    </a:lnTo>
                    <a:lnTo>
                      <a:pt x="455" y="3879"/>
                    </a:lnTo>
                    <a:lnTo>
                      <a:pt x="462" y="3846"/>
                    </a:lnTo>
                    <a:lnTo>
                      <a:pt x="467" y="3811"/>
                    </a:lnTo>
                    <a:lnTo>
                      <a:pt x="471" y="3775"/>
                    </a:lnTo>
                    <a:lnTo>
                      <a:pt x="481" y="3700"/>
                    </a:lnTo>
                    <a:lnTo>
                      <a:pt x="493" y="3622"/>
                    </a:lnTo>
                    <a:lnTo>
                      <a:pt x="500" y="3581"/>
                    </a:lnTo>
                    <a:lnTo>
                      <a:pt x="508" y="3540"/>
                    </a:lnTo>
                    <a:lnTo>
                      <a:pt x="518" y="3498"/>
                    </a:lnTo>
                    <a:lnTo>
                      <a:pt x="530" y="3456"/>
                    </a:lnTo>
                    <a:lnTo>
                      <a:pt x="543" y="3414"/>
                    </a:lnTo>
                    <a:lnTo>
                      <a:pt x="559" y="3370"/>
                    </a:lnTo>
                    <a:lnTo>
                      <a:pt x="577" y="3327"/>
                    </a:lnTo>
                    <a:lnTo>
                      <a:pt x="599" y="3283"/>
                    </a:lnTo>
                    <a:lnTo>
                      <a:pt x="612" y="3258"/>
                    </a:lnTo>
                    <a:lnTo>
                      <a:pt x="624" y="3230"/>
                    </a:lnTo>
                    <a:lnTo>
                      <a:pt x="637" y="3201"/>
                    </a:lnTo>
                    <a:lnTo>
                      <a:pt x="650" y="3169"/>
                    </a:lnTo>
                    <a:lnTo>
                      <a:pt x="661" y="3137"/>
                    </a:lnTo>
                    <a:lnTo>
                      <a:pt x="672" y="3105"/>
                    </a:lnTo>
                    <a:lnTo>
                      <a:pt x="682" y="3072"/>
                    </a:lnTo>
                    <a:lnTo>
                      <a:pt x="690" y="3039"/>
                    </a:lnTo>
                    <a:lnTo>
                      <a:pt x="697" y="3006"/>
                    </a:lnTo>
                    <a:lnTo>
                      <a:pt x="701" y="2975"/>
                    </a:lnTo>
                    <a:lnTo>
                      <a:pt x="704" y="2959"/>
                    </a:lnTo>
                    <a:lnTo>
                      <a:pt x="705" y="2945"/>
                    </a:lnTo>
                    <a:lnTo>
                      <a:pt x="705" y="2930"/>
                    </a:lnTo>
                    <a:lnTo>
                      <a:pt x="705" y="2916"/>
                    </a:lnTo>
                    <a:lnTo>
                      <a:pt x="705" y="2903"/>
                    </a:lnTo>
                    <a:lnTo>
                      <a:pt x="702" y="2890"/>
                    </a:lnTo>
                    <a:lnTo>
                      <a:pt x="700" y="2877"/>
                    </a:lnTo>
                    <a:lnTo>
                      <a:pt x="697" y="2865"/>
                    </a:lnTo>
                    <a:lnTo>
                      <a:pt x="694" y="2854"/>
                    </a:lnTo>
                    <a:lnTo>
                      <a:pt x="690" y="2844"/>
                    </a:lnTo>
                    <a:lnTo>
                      <a:pt x="684" y="2835"/>
                    </a:lnTo>
                    <a:lnTo>
                      <a:pt x="678" y="2826"/>
                    </a:lnTo>
                    <a:lnTo>
                      <a:pt x="674" y="2821"/>
                    </a:lnTo>
                    <a:lnTo>
                      <a:pt x="673" y="2815"/>
                    </a:lnTo>
                    <a:lnTo>
                      <a:pt x="672" y="2810"/>
                    </a:lnTo>
                    <a:lnTo>
                      <a:pt x="673" y="2804"/>
                    </a:lnTo>
                    <a:lnTo>
                      <a:pt x="679" y="2795"/>
                    </a:lnTo>
                    <a:lnTo>
                      <a:pt x="685" y="2785"/>
                    </a:lnTo>
                    <a:lnTo>
                      <a:pt x="693" y="2774"/>
                    </a:lnTo>
                    <a:lnTo>
                      <a:pt x="698" y="2763"/>
                    </a:lnTo>
                    <a:lnTo>
                      <a:pt x="700" y="2758"/>
                    </a:lnTo>
                    <a:lnTo>
                      <a:pt x="700" y="2752"/>
                    </a:lnTo>
                    <a:lnTo>
                      <a:pt x="700" y="2746"/>
                    </a:lnTo>
                    <a:lnTo>
                      <a:pt x="697" y="2740"/>
                    </a:lnTo>
                    <a:lnTo>
                      <a:pt x="707" y="2735"/>
                    </a:lnTo>
                    <a:lnTo>
                      <a:pt x="715" y="2730"/>
                    </a:lnTo>
                    <a:lnTo>
                      <a:pt x="723" y="2726"/>
                    </a:lnTo>
                    <a:lnTo>
                      <a:pt x="731" y="2720"/>
                    </a:lnTo>
                    <a:lnTo>
                      <a:pt x="745" y="2708"/>
                    </a:lnTo>
                    <a:lnTo>
                      <a:pt x="756" y="2695"/>
                    </a:lnTo>
                    <a:lnTo>
                      <a:pt x="767" y="2681"/>
                    </a:lnTo>
                    <a:lnTo>
                      <a:pt x="777" y="2667"/>
                    </a:lnTo>
                    <a:lnTo>
                      <a:pt x="786" y="2651"/>
                    </a:lnTo>
                    <a:lnTo>
                      <a:pt x="794" y="2636"/>
                    </a:lnTo>
                    <a:lnTo>
                      <a:pt x="810" y="2604"/>
                    </a:lnTo>
                    <a:lnTo>
                      <a:pt x="828" y="2571"/>
                    </a:lnTo>
                    <a:lnTo>
                      <a:pt x="838" y="2556"/>
                    </a:lnTo>
                    <a:lnTo>
                      <a:pt x="847" y="2541"/>
                    </a:lnTo>
                    <a:lnTo>
                      <a:pt x="859" y="2526"/>
                    </a:lnTo>
                    <a:lnTo>
                      <a:pt x="873" y="2512"/>
                    </a:lnTo>
                    <a:lnTo>
                      <a:pt x="877" y="2507"/>
                    </a:lnTo>
                    <a:lnTo>
                      <a:pt x="882" y="2502"/>
                    </a:lnTo>
                    <a:lnTo>
                      <a:pt x="884" y="2497"/>
                    </a:lnTo>
                    <a:lnTo>
                      <a:pt x="886" y="2492"/>
                    </a:lnTo>
                    <a:lnTo>
                      <a:pt x="887" y="2487"/>
                    </a:lnTo>
                    <a:lnTo>
                      <a:pt x="887" y="2483"/>
                    </a:lnTo>
                    <a:lnTo>
                      <a:pt x="886" y="2477"/>
                    </a:lnTo>
                    <a:lnTo>
                      <a:pt x="884" y="2473"/>
                    </a:lnTo>
                    <a:lnTo>
                      <a:pt x="879" y="2463"/>
                    </a:lnTo>
                    <a:lnTo>
                      <a:pt x="872" y="2455"/>
                    </a:lnTo>
                    <a:lnTo>
                      <a:pt x="862" y="2445"/>
                    </a:lnTo>
                    <a:lnTo>
                      <a:pt x="853" y="2435"/>
                    </a:lnTo>
                    <a:lnTo>
                      <a:pt x="831" y="2416"/>
                    </a:lnTo>
                    <a:lnTo>
                      <a:pt x="812" y="2396"/>
                    </a:lnTo>
                    <a:lnTo>
                      <a:pt x="804" y="2385"/>
                    </a:lnTo>
                    <a:lnTo>
                      <a:pt x="799" y="2375"/>
                    </a:lnTo>
                    <a:lnTo>
                      <a:pt x="796" y="2369"/>
                    </a:lnTo>
                    <a:lnTo>
                      <a:pt x="795" y="2363"/>
                    </a:lnTo>
                    <a:lnTo>
                      <a:pt x="795" y="2357"/>
                    </a:lnTo>
                    <a:lnTo>
                      <a:pt x="796" y="2351"/>
                    </a:lnTo>
                    <a:lnTo>
                      <a:pt x="800" y="2339"/>
                    </a:lnTo>
                    <a:lnTo>
                      <a:pt x="803" y="2327"/>
                    </a:lnTo>
                    <a:lnTo>
                      <a:pt x="808" y="2314"/>
                    </a:lnTo>
                    <a:lnTo>
                      <a:pt x="813" y="2301"/>
                    </a:lnTo>
                    <a:lnTo>
                      <a:pt x="826" y="2273"/>
                    </a:lnTo>
                    <a:lnTo>
                      <a:pt x="840" y="2245"/>
                    </a:lnTo>
                    <a:lnTo>
                      <a:pt x="854" y="2215"/>
                    </a:lnTo>
                    <a:lnTo>
                      <a:pt x="869" y="2185"/>
                    </a:lnTo>
                    <a:lnTo>
                      <a:pt x="883" y="2155"/>
                    </a:lnTo>
                    <a:lnTo>
                      <a:pt x="896" y="2125"/>
                    </a:lnTo>
                    <a:lnTo>
                      <a:pt x="901" y="2110"/>
                    </a:lnTo>
                    <a:lnTo>
                      <a:pt x="906" y="2096"/>
                    </a:lnTo>
                    <a:lnTo>
                      <a:pt x="910" y="2082"/>
                    </a:lnTo>
                    <a:lnTo>
                      <a:pt x="913" y="2068"/>
                    </a:lnTo>
                    <a:lnTo>
                      <a:pt x="916" y="2055"/>
                    </a:lnTo>
                    <a:lnTo>
                      <a:pt x="917" y="2042"/>
                    </a:lnTo>
                    <a:lnTo>
                      <a:pt x="917" y="2029"/>
                    </a:lnTo>
                    <a:lnTo>
                      <a:pt x="917" y="2017"/>
                    </a:lnTo>
                    <a:lnTo>
                      <a:pt x="915" y="2005"/>
                    </a:lnTo>
                    <a:lnTo>
                      <a:pt x="911" y="1994"/>
                    </a:lnTo>
                    <a:lnTo>
                      <a:pt x="907" y="1984"/>
                    </a:lnTo>
                    <a:lnTo>
                      <a:pt x="900" y="1974"/>
                    </a:lnTo>
                    <a:lnTo>
                      <a:pt x="892" y="1965"/>
                    </a:lnTo>
                    <a:lnTo>
                      <a:pt x="882" y="1958"/>
                    </a:lnTo>
                    <a:lnTo>
                      <a:pt x="870" y="1950"/>
                    </a:lnTo>
                    <a:lnTo>
                      <a:pt x="856" y="1944"/>
                    </a:lnTo>
                    <a:lnTo>
                      <a:pt x="841" y="1938"/>
                    </a:lnTo>
                    <a:lnTo>
                      <a:pt x="825" y="1934"/>
                    </a:lnTo>
                    <a:lnTo>
                      <a:pt x="807" y="1932"/>
                    </a:lnTo>
                    <a:lnTo>
                      <a:pt x="791" y="1930"/>
                    </a:lnTo>
                    <a:lnTo>
                      <a:pt x="758" y="1926"/>
                    </a:lnTo>
                    <a:lnTo>
                      <a:pt x="727" y="1924"/>
                    </a:lnTo>
                    <a:lnTo>
                      <a:pt x="714" y="1922"/>
                    </a:lnTo>
                    <a:lnTo>
                      <a:pt x="702" y="1920"/>
                    </a:lnTo>
                    <a:lnTo>
                      <a:pt x="698" y="1918"/>
                    </a:lnTo>
                    <a:lnTo>
                      <a:pt x="694" y="1916"/>
                    </a:lnTo>
                    <a:lnTo>
                      <a:pt x="691" y="1913"/>
                    </a:lnTo>
                    <a:lnTo>
                      <a:pt x="688" y="1911"/>
                    </a:lnTo>
                    <a:lnTo>
                      <a:pt x="686" y="1908"/>
                    </a:lnTo>
                    <a:lnTo>
                      <a:pt x="685" y="1904"/>
                    </a:lnTo>
                    <a:lnTo>
                      <a:pt x="685" y="1900"/>
                    </a:lnTo>
                    <a:lnTo>
                      <a:pt x="686" y="1895"/>
                    </a:lnTo>
                    <a:lnTo>
                      <a:pt x="688" y="1891"/>
                    </a:lnTo>
                    <a:lnTo>
                      <a:pt x="691" y="1885"/>
                    </a:lnTo>
                    <a:lnTo>
                      <a:pt x="695" y="1879"/>
                    </a:lnTo>
                    <a:lnTo>
                      <a:pt x="700" y="1871"/>
                    </a:lnTo>
                    <a:lnTo>
                      <a:pt x="713" y="1856"/>
                    </a:lnTo>
                    <a:lnTo>
                      <a:pt x="728" y="1840"/>
                    </a:lnTo>
                    <a:lnTo>
                      <a:pt x="742" y="1825"/>
                    </a:lnTo>
                    <a:lnTo>
                      <a:pt x="758" y="1811"/>
                    </a:lnTo>
                    <a:lnTo>
                      <a:pt x="788" y="1782"/>
                    </a:lnTo>
                    <a:lnTo>
                      <a:pt x="819" y="1753"/>
                    </a:lnTo>
                    <a:lnTo>
                      <a:pt x="850" y="1723"/>
                    </a:lnTo>
                    <a:lnTo>
                      <a:pt x="881" y="1693"/>
                    </a:lnTo>
                    <a:lnTo>
                      <a:pt x="896" y="1677"/>
                    </a:lnTo>
                    <a:lnTo>
                      <a:pt x="910" y="1660"/>
                    </a:lnTo>
                    <a:lnTo>
                      <a:pt x="924" y="1642"/>
                    </a:lnTo>
                    <a:lnTo>
                      <a:pt x="937" y="1625"/>
                    </a:lnTo>
                    <a:lnTo>
                      <a:pt x="942" y="1615"/>
                    </a:lnTo>
                    <a:lnTo>
                      <a:pt x="946" y="1605"/>
                    </a:lnTo>
                    <a:lnTo>
                      <a:pt x="948" y="1594"/>
                    </a:lnTo>
                    <a:lnTo>
                      <a:pt x="949" y="1582"/>
                    </a:lnTo>
                    <a:lnTo>
                      <a:pt x="948" y="1571"/>
                    </a:lnTo>
                    <a:lnTo>
                      <a:pt x="946" y="1560"/>
                    </a:lnTo>
                    <a:lnTo>
                      <a:pt x="942" y="1551"/>
                    </a:lnTo>
                    <a:lnTo>
                      <a:pt x="937" y="1543"/>
                    </a:lnTo>
                    <a:lnTo>
                      <a:pt x="928" y="1532"/>
                    </a:lnTo>
                    <a:lnTo>
                      <a:pt x="921" y="1520"/>
                    </a:lnTo>
                    <a:lnTo>
                      <a:pt x="915" y="1510"/>
                    </a:lnTo>
                    <a:lnTo>
                      <a:pt x="911" y="1499"/>
                    </a:lnTo>
                    <a:lnTo>
                      <a:pt x="908" y="1487"/>
                    </a:lnTo>
                    <a:lnTo>
                      <a:pt x="907" y="1476"/>
                    </a:lnTo>
                    <a:lnTo>
                      <a:pt x="907" y="1465"/>
                    </a:lnTo>
                    <a:lnTo>
                      <a:pt x="907" y="1453"/>
                    </a:lnTo>
                    <a:lnTo>
                      <a:pt x="909" y="1443"/>
                    </a:lnTo>
                    <a:lnTo>
                      <a:pt x="912" y="1431"/>
                    </a:lnTo>
                    <a:lnTo>
                      <a:pt x="916" y="1420"/>
                    </a:lnTo>
                    <a:lnTo>
                      <a:pt x="922" y="1409"/>
                    </a:lnTo>
                    <a:lnTo>
                      <a:pt x="934" y="1386"/>
                    </a:lnTo>
                    <a:lnTo>
                      <a:pt x="948" y="1364"/>
                    </a:lnTo>
                    <a:lnTo>
                      <a:pt x="982" y="1318"/>
                    </a:lnTo>
                    <a:lnTo>
                      <a:pt x="1018" y="1273"/>
                    </a:lnTo>
                    <a:lnTo>
                      <a:pt x="1035" y="1250"/>
                    </a:lnTo>
                    <a:lnTo>
                      <a:pt x="1051" y="1228"/>
                    </a:lnTo>
                    <a:lnTo>
                      <a:pt x="1058" y="1216"/>
                    </a:lnTo>
                    <a:lnTo>
                      <a:pt x="1064" y="1205"/>
                    </a:lnTo>
                    <a:lnTo>
                      <a:pt x="1071" y="1193"/>
                    </a:lnTo>
                    <a:lnTo>
                      <a:pt x="1076" y="1182"/>
                    </a:lnTo>
                    <a:lnTo>
                      <a:pt x="1070" y="1181"/>
                    </a:lnTo>
                    <a:lnTo>
                      <a:pt x="1063" y="1179"/>
                    </a:lnTo>
                    <a:lnTo>
                      <a:pt x="1057" y="1177"/>
                    </a:lnTo>
                    <a:lnTo>
                      <a:pt x="1051" y="1174"/>
                    </a:lnTo>
                    <a:lnTo>
                      <a:pt x="1038" y="1165"/>
                    </a:lnTo>
                    <a:lnTo>
                      <a:pt x="1025" y="1155"/>
                    </a:lnTo>
                    <a:lnTo>
                      <a:pt x="1014" y="1143"/>
                    </a:lnTo>
                    <a:lnTo>
                      <a:pt x="1001" y="1129"/>
                    </a:lnTo>
                    <a:lnTo>
                      <a:pt x="989" y="1115"/>
                    </a:lnTo>
                    <a:lnTo>
                      <a:pt x="977" y="1099"/>
                    </a:lnTo>
                    <a:lnTo>
                      <a:pt x="955" y="1068"/>
                    </a:lnTo>
                    <a:lnTo>
                      <a:pt x="936" y="1036"/>
                    </a:lnTo>
                    <a:lnTo>
                      <a:pt x="921" y="1008"/>
                    </a:lnTo>
                    <a:lnTo>
                      <a:pt x="910" y="987"/>
                    </a:lnTo>
                    <a:lnTo>
                      <a:pt x="901" y="966"/>
                    </a:lnTo>
                    <a:lnTo>
                      <a:pt x="896" y="948"/>
                    </a:lnTo>
                    <a:lnTo>
                      <a:pt x="894" y="930"/>
                    </a:lnTo>
                    <a:lnTo>
                      <a:pt x="894" y="912"/>
                    </a:lnTo>
                    <a:lnTo>
                      <a:pt x="896" y="896"/>
                    </a:lnTo>
                    <a:lnTo>
                      <a:pt x="900" y="881"/>
                    </a:lnTo>
                    <a:lnTo>
                      <a:pt x="907" y="867"/>
                    </a:lnTo>
                    <a:lnTo>
                      <a:pt x="914" y="853"/>
                    </a:lnTo>
                    <a:lnTo>
                      <a:pt x="924" y="839"/>
                    </a:lnTo>
                    <a:lnTo>
                      <a:pt x="936" y="826"/>
                    </a:lnTo>
                    <a:lnTo>
                      <a:pt x="948" y="814"/>
                    </a:lnTo>
                    <a:lnTo>
                      <a:pt x="962" y="802"/>
                    </a:lnTo>
                    <a:lnTo>
                      <a:pt x="991" y="779"/>
                    </a:lnTo>
                    <a:lnTo>
                      <a:pt x="1022" y="757"/>
                    </a:lnTo>
                    <a:lnTo>
                      <a:pt x="1054" y="736"/>
                    </a:lnTo>
                    <a:lnTo>
                      <a:pt x="1084" y="714"/>
                    </a:lnTo>
                    <a:lnTo>
                      <a:pt x="1098" y="703"/>
                    </a:lnTo>
                    <a:lnTo>
                      <a:pt x="1112" y="692"/>
                    </a:lnTo>
                    <a:lnTo>
                      <a:pt x="1124" y="680"/>
                    </a:lnTo>
                    <a:lnTo>
                      <a:pt x="1135" y="668"/>
                    </a:lnTo>
                    <a:lnTo>
                      <a:pt x="1144" y="655"/>
                    </a:lnTo>
                    <a:lnTo>
                      <a:pt x="1153" y="643"/>
                    </a:lnTo>
                    <a:lnTo>
                      <a:pt x="1158" y="629"/>
                    </a:lnTo>
                    <a:lnTo>
                      <a:pt x="1163" y="615"/>
                    </a:lnTo>
                    <a:lnTo>
                      <a:pt x="1165" y="601"/>
                    </a:lnTo>
                    <a:lnTo>
                      <a:pt x="1164" y="585"/>
                    </a:lnTo>
                    <a:lnTo>
                      <a:pt x="1161" y="569"/>
                    </a:lnTo>
                    <a:lnTo>
                      <a:pt x="1155" y="552"/>
                    </a:lnTo>
                    <a:lnTo>
                      <a:pt x="1144" y="530"/>
                    </a:lnTo>
                    <a:lnTo>
                      <a:pt x="1131" y="509"/>
                    </a:lnTo>
                    <a:lnTo>
                      <a:pt x="1126" y="500"/>
                    </a:lnTo>
                    <a:lnTo>
                      <a:pt x="1121" y="490"/>
                    </a:lnTo>
                    <a:lnTo>
                      <a:pt x="1115" y="480"/>
                    </a:lnTo>
                    <a:lnTo>
                      <a:pt x="1111" y="471"/>
                    </a:lnTo>
                    <a:lnTo>
                      <a:pt x="1109" y="461"/>
                    </a:lnTo>
                    <a:lnTo>
                      <a:pt x="1108" y="450"/>
                    </a:lnTo>
                    <a:lnTo>
                      <a:pt x="1108" y="439"/>
                    </a:lnTo>
                    <a:lnTo>
                      <a:pt x="1111" y="428"/>
                    </a:lnTo>
                    <a:lnTo>
                      <a:pt x="1116" y="417"/>
                    </a:lnTo>
                    <a:lnTo>
                      <a:pt x="1124" y="404"/>
                    </a:lnTo>
                    <a:lnTo>
                      <a:pt x="1133" y="391"/>
                    </a:lnTo>
                    <a:lnTo>
                      <a:pt x="1148" y="377"/>
                    </a:lnTo>
                    <a:lnTo>
                      <a:pt x="1158" y="364"/>
                    </a:lnTo>
                    <a:lnTo>
                      <a:pt x="1167" y="353"/>
                    </a:lnTo>
                    <a:lnTo>
                      <a:pt x="1173" y="341"/>
                    </a:lnTo>
                    <a:lnTo>
                      <a:pt x="1178" y="330"/>
                    </a:lnTo>
                    <a:lnTo>
                      <a:pt x="1180" y="320"/>
                    </a:lnTo>
                    <a:lnTo>
                      <a:pt x="1180" y="311"/>
                    </a:lnTo>
                    <a:lnTo>
                      <a:pt x="1178" y="301"/>
                    </a:lnTo>
                    <a:lnTo>
                      <a:pt x="1175" y="292"/>
                    </a:lnTo>
                    <a:lnTo>
                      <a:pt x="1170" y="284"/>
                    </a:lnTo>
                    <a:lnTo>
                      <a:pt x="1165" y="276"/>
                    </a:lnTo>
                    <a:lnTo>
                      <a:pt x="1158" y="268"/>
                    </a:lnTo>
                    <a:lnTo>
                      <a:pt x="1151" y="260"/>
                    </a:lnTo>
                    <a:lnTo>
                      <a:pt x="1135" y="247"/>
                    </a:lnTo>
                    <a:lnTo>
                      <a:pt x="1118" y="234"/>
                    </a:lnTo>
                    <a:lnTo>
                      <a:pt x="1102" y="222"/>
                    </a:lnTo>
                    <a:lnTo>
                      <a:pt x="1088" y="211"/>
                    </a:lnTo>
                    <a:lnTo>
                      <a:pt x="1083" y="206"/>
                    </a:lnTo>
                    <a:lnTo>
                      <a:pt x="1079" y="202"/>
                    </a:lnTo>
                    <a:lnTo>
                      <a:pt x="1076" y="196"/>
                    </a:lnTo>
                    <a:lnTo>
                      <a:pt x="1075" y="192"/>
                    </a:lnTo>
                    <a:lnTo>
                      <a:pt x="1075" y="188"/>
                    </a:lnTo>
                    <a:lnTo>
                      <a:pt x="1077" y="182"/>
                    </a:lnTo>
                    <a:lnTo>
                      <a:pt x="1082" y="178"/>
                    </a:lnTo>
                    <a:lnTo>
                      <a:pt x="1088" y="174"/>
                    </a:lnTo>
                    <a:lnTo>
                      <a:pt x="1098" y="169"/>
                    </a:lnTo>
                    <a:lnTo>
                      <a:pt x="1110" y="165"/>
                    </a:lnTo>
                    <a:lnTo>
                      <a:pt x="1125" y="161"/>
                    </a:lnTo>
                    <a:lnTo>
                      <a:pt x="1142" y="156"/>
                    </a:lnTo>
                    <a:lnTo>
                      <a:pt x="1155" y="153"/>
                    </a:lnTo>
                    <a:lnTo>
                      <a:pt x="1168" y="149"/>
                    </a:lnTo>
                    <a:lnTo>
                      <a:pt x="1180" y="143"/>
                    </a:lnTo>
                    <a:lnTo>
                      <a:pt x="1192" y="137"/>
                    </a:lnTo>
                    <a:lnTo>
                      <a:pt x="1215" y="123"/>
                    </a:lnTo>
                    <a:lnTo>
                      <a:pt x="1235" y="108"/>
                    </a:lnTo>
                    <a:lnTo>
                      <a:pt x="1257" y="93"/>
                    </a:lnTo>
                    <a:lnTo>
                      <a:pt x="1278" y="79"/>
                    </a:lnTo>
                    <a:lnTo>
                      <a:pt x="1289" y="72"/>
                    </a:lnTo>
                    <a:lnTo>
                      <a:pt x="1300" y="66"/>
                    </a:lnTo>
                    <a:lnTo>
                      <a:pt x="1311" y="61"/>
                    </a:lnTo>
                    <a:lnTo>
                      <a:pt x="1323" y="57"/>
                    </a:lnTo>
                    <a:lnTo>
                      <a:pt x="1337" y="54"/>
                    </a:lnTo>
                    <a:lnTo>
                      <a:pt x="1351" y="49"/>
                    </a:lnTo>
                    <a:lnTo>
                      <a:pt x="1364" y="44"/>
                    </a:lnTo>
                    <a:lnTo>
                      <a:pt x="1378" y="39"/>
                    </a:lnTo>
                    <a:lnTo>
                      <a:pt x="1404" y="27"/>
                    </a:lnTo>
                    <a:lnTo>
                      <a:pt x="1431" y="16"/>
                    </a:lnTo>
                    <a:lnTo>
                      <a:pt x="1444" y="10"/>
                    </a:lnTo>
                    <a:lnTo>
                      <a:pt x="1458" y="6"/>
                    </a:lnTo>
                    <a:lnTo>
                      <a:pt x="1471" y="3"/>
                    </a:lnTo>
                    <a:lnTo>
                      <a:pt x="1485" y="1"/>
                    </a:lnTo>
                    <a:lnTo>
                      <a:pt x="1499" y="0"/>
                    </a:lnTo>
                    <a:lnTo>
                      <a:pt x="1513" y="0"/>
                    </a:lnTo>
                    <a:lnTo>
                      <a:pt x="1528" y="2"/>
                    </a:lnTo>
                    <a:lnTo>
                      <a:pt x="1543" y="5"/>
                    </a:lnTo>
                    <a:lnTo>
                      <a:pt x="1575" y="16"/>
                    </a:lnTo>
                    <a:lnTo>
                      <a:pt x="1608" y="27"/>
                    </a:lnTo>
                    <a:lnTo>
                      <a:pt x="1640" y="37"/>
                    </a:lnTo>
                    <a:lnTo>
                      <a:pt x="1671" y="49"/>
                    </a:lnTo>
                    <a:lnTo>
                      <a:pt x="1703" y="62"/>
                    </a:lnTo>
                    <a:lnTo>
                      <a:pt x="1734" y="75"/>
                    </a:lnTo>
                    <a:lnTo>
                      <a:pt x="1764" y="89"/>
                    </a:lnTo>
                    <a:lnTo>
                      <a:pt x="1795" y="103"/>
                    </a:lnTo>
                    <a:lnTo>
                      <a:pt x="1825" y="117"/>
                    </a:lnTo>
                    <a:lnTo>
                      <a:pt x="1854" y="133"/>
                    </a:lnTo>
                    <a:lnTo>
                      <a:pt x="1884" y="148"/>
                    </a:lnTo>
                    <a:lnTo>
                      <a:pt x="1912" y="164"/>
                    </a:lnTo>
                    <a:lnTo>
                      <a:pt x="1942" y="181"/>
                    </a:lnTo>
                    <a:lnTo>
                      <a:pt x="1970" y="197"/>
                    </a:lnTo>
                    <a:lnTo>
                      <a:pt x="1998" y="216"/>
                    </a:lnTo>
                    <a:lnTo>
                      <a:pt x="2025" y="233"/>
                    </a:lnTo>
                    <a:lnTo>
                      <a:pt x="2053" y="251"/>
                    </a:lnTo>
                    <a:lnTo>
                      <a:pt x="2079" y="271"/>
                    </a:lnTo>
                    <a:lnTo>
                      <a:pt x="2106" y="290"/>
                    </a:lnTo>
                    <a:lnTo>
                      <a:pt x="2132" y="310"/>
                    </a:lnTo>
                    <a:lnTo>
                      <a:pt x="2158" y="330"/>
                    </a:lnTo>
                    <a:lnTo>
                      <a:pt x="2182" y="351"/>
                    </a:lnTo>
                    <a:lnTo>
                      <a:pt x="2207" y="372"/>
                    </a:lnTo>
                    <a:lnTo>
                      <a:pt x="2231" y="394"/>
                    </a:lnTo>
                    <a:lnTo>
                      <a:pt x="2256" y="415"/>
                    </a:lnTo>
                    <a:lnTo>
                      <a:pt x="2279" y="438"/>
                    </a:lnTo>
                    <a:lnTo>
                      <a:pt x="2302" y="461"/>
                    </a:lnTo>
                    <a:lnTo>
                      <a:pt x="2325" y="485"/>
                    </a:lnTo>
                    <a:lnTo>
                      <a:pt x="2347" y="508"/>
                    </a:lnTo>
                    <a:lnTo>
                      <a:pt x="2368" y="532"/>
                    </a:lnTo>
                    <a:lnTo>
                      <a:pt x="2390" y="557"/>
                    </a:lnTo>
                    <a:lnTo>
                      <a:pt x="2410" y="582"/>
                    </a:lnTo>
                    <a:lnTo>
                      <a:pt x="2317" y="593"/>
                    </a:lnTo>
                    <a:lnTo>
                      <a:pt x="2207" y="604"/>
                    </a:lnTo>
                    <a:lnTo>
                      <a:pt x="2149" y="610"/>
                    </a:lnTo>
                    <a:lnTo>
                      <a:pt x="2090" y="617"/>
                    </a:lnTo>
                    <a:lnTo>
                      <a:pt x="2030" y="625"/>
                    </a:lnTo>
                    <a:lnTo>
                      <a:pt x="1972" y="634"/>
                    </a:lnTo>
                    <a:lnTo>
                      <a:pt x="1944" y="639"/>
                    </a:lnTo>
                    <a:lnTo>
                      <a:pt x="1916" y="644"/>
                    </a:lnTo>
                    <a:lnTo>
                      <a:pt x="1889" y="650"/>
                    </a:lnTo>
                    <a:lnTo>
                      <a:pt x="1864" y="656"/>
                    </a:lnTo>
                    <a:lnTo>
                      <a:pt x="1839" y="663"/>
                    </a:lnTo>
                    <a:lnTo>
                      <a:pt x="1815" y="670"/>
                    </a:lnTo>
                    <a:lnTo>
                      <a:pt x="1792" y="678"/>
                    </a:lnTo>
                    <a:lnTo>
                      <a:pt x="1772" y="687"/>
                    </a:lnTo>
                    <a:lnTo>
                      <a:pt x="1752" y="695"/>
                    </a:lnTo>
                    <a:lnTo>
                      <a:pt x="1735" y="705"/>
                    </a:lnTo>
                    <a:lnTo>
                      <a:pt x="1719" y="715"/>
                    </a:lnTo>
                    <a:lnTo>
                      <a:pt x="1706" y="725"/>
                    </a:lnTo>
                    <a:lnTo>
                      <a:pt x="1694" y="737"/>
                    </a:lnTo>
                    <a:lnTo>
                      <a:pt x="1686" y="749"/>
                    </a:lnTo>
                    <a:lnTo>
                      <a:pt x="1678" y="763"/>
                    </a:lnTo>
                    <a:lnTo>
                      <a:pt x="1674" y="777"/>
                    </a:lnTo>
                    <a:lnTo>
                      <a:pt x="1673" y="787"/>
                    </a:lnTo>
                    <a:lnTo>
                      <a:pt x="1671" y="798"/>
                    </a:lnTo>
                    <a:lnTo>
                      <a:pt x="1671" y="809"/>
                    </a:lnTo>
                    <a:lnTo>
                      <a:pt x="1673" y="819"/>
                    </a:lnTo>
                    <a:lnTo>
                      <a:pt x="1675" y="830"/>
                    </a:lnTo>
                    <a:lnTo>
                      <a:pt x="1678" y="841"/>
                    </a:lnTo>
                    <a:lnTo>
                      <a:pt x="1682" y="852"/>
                    </a:lnTo>
                    <a:lnTo>
                      <a:pt x="1687" y="863"/>
                    </a:lnTo>
                    <a:lnTo>
                      <a:pt x="1692" y="873"/>
                    </a:lnTo>
                    <a:lnTo>
                      <a:pt x="1698" y="883"/>
                    </a:lnTo>
                    <a:lnTo>
                      <a:pt x="1705" y="894"/>
                    </a:lnTo>
                    <a:lnTo>
                      <a:pt x="1713" y="905"/>
                    </a:lnTo>
                    <a:lnTo>
                      <a:pt x="1729" y="925"/>
                    </a:lnTo>
                    <a:lnTo>
                      <a:pt x="1747" y="946"/>
                    </a:lnTo>
                    <a:lnTo>
                      <a:pt x="1767" y="966"/>
                    </a:lnTo>
                    <a:lnTo>
                      <a:pt x="1788" y="986"/>
                    </a:lnTo>
                    <a:lnTo>
                      <a:pt x="1810" y="1005"/>
                    </a:lnTo>
                    <a:lnTo>
                      <a:pt x="1832" y="1025"/>
                    </a:lnTo>
                    <a:lnTo>
                      <a:pt x="1878" y="1060"/>
                    </a:lnTo>
                    <a:lnTo>
                      <a:pt x="1921" y="1093"/>
                    </a:lnTo>
                    <a:lnTo>
                      <a:pt x="1900" y="1106"/>
                    </a:lnTo>
                    <a:lnTo>
                      <a:pt x="1883" y="1117"/>
                    </a:lnTo>
                    <a:lnTo>
                      <a:pt x="1866" y="1128"/>
                    </a:lnTo>
                    <a:lnTo>
                      <a:pt x="1852" y="1140"/>
                    </a:lnTo>
                    <a:lnTo>
                      <a:pt x="1839" y="1151"/>
                    </a:lnTo>
                    <a:lnTo>
                      <a:pt x="1828" y="1162"/>
                    </a:lnTo>
                    <a:lnTo>
                      <a:pt x="1818" y="1174"/>
                    </a:lnTo>
                    <a:lnTo>
                      <a:pt x="1811" y="1186"/>
                    </a:lnTo>
                    <a:lnTo>
                      <a:pt x="1804" y="1198"/>
                    </a:lnTo>
                    <a:lnTo>
                      <a:pt x="1799" y="1211"/>
                    </a:lnTo>
                    <a:lnTo>
                      <a:pt x="1796" y="1225"/>
                    </a:lnTo>
                    <a:lnTo>
                      <a:pt x="1792" y="1241"/>
                    </a:lnTo>
                    <a:lnTo>
                      <a:pt x="1791" y="1257"/>
                    </a:lnTo>
                    <a:lnTo>
                      <a:pt x="1790" y="1274"/>
                    </a:lnTo>
                    <a:lnTo>
                      <a:pt x="1791" y="1292"/>
                    </a:lnTo>
                    <a:lnTo>
                      <a:pt x="1792" y="1313"/>
                    </a:lnTo>
                    <a:lnTo>
                      <a:pt x="1794" y="1322"/>
                    </a:lnTo>
                    <a:lnTo>
                      <a:pt x="1796" y="1330"/>
                    </a:lnTo>
                    <a:lnTo>
                      <a:pt x="1798" y="1339"/>
                    </a:lnTo>
                    <a:lnTo>
                      <a:pt x="1801" y="1349"/>
                    </a:lnTo>
                    <a:lnTo>
                      <a:pt x="1810" y="1368"/>
                    </a:lnTo>
                    <a:lnTo>
                      <a:pt x="1819" y="1390"/>
                    </a:lnTo>
                    <a:lnTo>
                      <a:pt x="1831" y="1412"/>
                    </a:lnTo>
                    <a:lnTo>
                      <a:pt x="1845" y="1435"/>
                    </a:lnTo>
                    <a:lnTo>
                      <a:pt x="1861" y="1458"/>
                    </a:lnTo>
                    <a:lnTo>
                      <a:pt x="1877" y="1481"/>
                    </a:lnTo>
                    <a:lnTo>
                      <a:pt x="1894" y="1505"/>
                    </a:lnTo>
                    <a:lnTo>
                      <a:pt x="1911" y="1527"/>
                    </a:lnTo>
                    <a:lnTo>
                      <a:pt x="1930" y="1549"/>
                    </a:lnTo>
                    <a:lnTo>
                      <a:pt x="1947" y="1570"/>
                    </a:lnTo>
                    <a:lnTo>
                      <a:pt x="1964" y="1589"/>
                    </a:lnTo>
                    <a:lnTo>
                      <a:pt x="1982" y="1608"/>
                    </a:lnTo>
                    <a:lnTo>
                      <a:pt x="1998" y="1623"/>
                    </a:lnTo>
                    <a:lnTo>
                      <a:pt x="2013" y="1637"/>
                    </a:lnTo>
                    <a:lnTo>
                      <a:pt x="2024" y="1647"/>
                    </a:lnTo>
                    <a:lnTo>
                      <a:pt x="2034" y="1655"/>
                    </a:lnTo>
                    <a:lnTo>
                      <a:pt x="2045" y="1663"/>
                    </a:lnTo>
                    <a:lnTo>
                      <a:pt x="2056" y="1669"/>
                    </a:lnTo>
                    <a:lnTo>
                      <a:pt x="2075" y="1680"/>
                    </a:lnTo>
                    <a:lnTo>
                      <a:pt x="2094" y="1689"/>
                    </a:lnTo>
                    <a:lnTo>
                      <a:pt x="2127" y="1702"/>
                    </a:lnTo>
                    <a:lnTo>
                      <a:pt x="2153" y="1710"/>
                    </a:lnTo>
                    <a:lnTo>
                      <a:pt x="2165" y="1715"/>
                    </a:lnTo>
                    <a:lnTo>
                      <a:pt x="2174" y="1720"/>
                    </a:lnTo>
                    <a:lnTo>
                      <a:pt x="2178" y="1723"/>
                    </a:lnTo>
                    <a:lnTo>
                      <a:pt x="2181" y="1727"/>
                    </a:lnTo>
                    <a:lnTo>
                      <a:pt x="2185" y="1731"/>
                    </a:lnTo>
                    <a:lnTo>
                      <a:pt x="2188" y="1735"/>
                    </a:lnTo>
                    <a:lnTo>
                      <a:pt x="2190" y="1741"/>
                    </a:lnTo>
                    <a:lnTo>
                      <a:pt x="2191" y="1746"/>
                    </a:lnTo>
                    <a:lnTo>
                      <a:pt x="2192" y="1754"/>
                    </a:lnTo>
                    <a:lnTo>
                      <a:pt x="2193" y="1760"/>
                    </a:lnTo>
                    <a:lnTo>
                      <a:pt x="2193" y="1778"/>
                    </a:lnTo>
                    <a:lnTo>
                      <a:pt x="2191" y="1800"/>
                    </a:lnTo>
                    <a:lnTo>
                      <a:pt x="2189" y="1808"/>
                    </a:lnTo>
                    <a:lnTo>
                      <a:pt x="2187" y="1815"/>
                    </a:lnTo>
                    <a:lnTo>
                      <a:pt x="2184" y="1821"/>
                    </a:lnTo>
                    <a:lnTo>
                      <a:pt x="2179" y="1826"/>
                    </a:lnTo>
                    <a:lnTo>
                      <a:pt x="2175" y="1830"/>
                    </a:lnTo>
                    <a:lnTo>
                      <a:pt x="2169" y="1834"/>
                    </a:lnTo>
                    <a:lnTo>
                      <a:pt x="2163" y="1837"/>
                    </a:lnTo>
                    <a:lnTo>
                      <a:pt x="2157" y="1839"/>
                    </a:lnTo>
                    <a:lnTo>
                      <a:pt x="2142" y="1841"/>
                    </a:lnTo>
                    <a:lnTo>
                      <a:pt x="2125" y="1842"/>
                    </a:lnTo>
                    <a:lnTo>
                      <a:pt x="2108" y="1843"/>
                    </a:lnTo>
                    <a:lnTo>
                      <a:pt x="2088" y="1843"/>
                    </a:lnTo>
                    <a:lnTo>
                      <a:pt x="2068" y="1843"/>
                    </a:lnTo>
                    <a:lnTo>
                      <a:pt x="2047" y="1844"/>
                    </a:lnTo>
                    <a:lnTo>
                      <a:pt x="2026" y="1846"/>
                    </a:lnTo>
                    <a:lnTo>
                      <a:pt x="2004" y="1852"/>
                    </a:lnTo>
                    <a:lnTo>
                      <a:pt x="1993" y="1855"/>
                    </a:lnTo>
                    <a:lnTo>
                      <a:pt x="1983" y="1859"/>
                    </a:lnTo>
                    <a:lnTo>
                      <a:pt x="1972" y="1864"/>
                    </a:lnTo>
                    <a:lnTo>
                      <a:pt x="1961" y="1870"/>
                    </a:lnTo>
                    <a:lnTo>
                      <a:pt x="1951" y="1877"/>
                    </a:lnTo>
                    <a:lnTo>
                      <a:pt x="1940" y="1884"/>
                    </a:lnTo>
                    <a:lnTo>
                      <a:pt x="1931" y="1894"/>
                    </a:lnTo>
                    <a:lnTo>
                      <a:pt x="1921" y="1904"/>
                    </a:lnTo>
                    <a:lnTo>
                      <a:pt x="1930" y="1912"/>
                    </a:lnTo>
                    <a:lnTo>
                      <a:pt x="1938" y="1921"/>
                    </a:lnTo>
                    <a:lnTo>
                      <a:pt x="1947" y="1932"/>
                    </a:lnTo>
                    <a:lnTo>
                      <a:pt x="1955" y="1943"/>
                    </a:lnTo>
                    <a:lnTo>
                      <a:pt x="1972" y="1967"/>
                    </a:lnTo>
                    <a:lnTo>
                      <a:pt x="1987" y="1994"/>
                    </a:lnTo>
                    <a:lnTo>
                      <a:pt x="2003" y="2023"/>
                    </a:lnTo>
                    <a:lnTo>
                      <a:pt x="2017" y="2050"/>
                    </a:lnTo>
                    <a:lnTo>
                      <a:pt x="2030" y="2074"/>
                    </a:lnTo>
                    <a:lnTo>
                      <a:pt x="2042" y="2097"/>
                    </a:lnTo>
                    <a:lnTo>
                      <a:pt x="2046" y="2100"/>
                    </a:lnTo>
                    <a:lnTo>
                      <a:pt x="2051" y="2105"/>
                    </a:lnTo>
                    <a:lnTo>
                      <a:pt x="2058" y="2108"/>
                    </a:lnTo>
                    <a:lnTo>
                      <a:pt x="2066" y="2111"/>
                    </a:lnTo>
                    <a:lnTo>
                      <a:pt x="2084" y="2116"/>
                    </a:lnTo>
                    <a:lnTo>
                      <a:pt x="2104" y="2122"/>
                    </a:lnTo>
                    <a:lnTo>
                      <a:pt x="2121" y="2126"/>
                    </a:lnTo>
                    <a:lnTo>
                      <a:pt x="2133" y="2129"/>
                    </a:lnTo>
                    <a:lnTo>
                      <a:pt x="2136" y="2131"/>
                    </a:lnTo>
                    <a:lnTo>
                      <a:pt x="2137" y="2132"/>
                    </a:lnTo>
                    <a:lnTo>
                      <a:pt x="2136" y="2133"/>
                    </a:lnTo>
                    <a:lnTo>
                      <a:pt x="2132" y="2134"/>
                    </a:lnTo>
                    <a:lnTo>
                      <a:pt x="2106" y="2138"/>
                    </a:lnTo>
                    <a:lnTo>
                      <a:pt x="2080" y="2141"/>
                    </a:lnTo>
                    <a:lnTo>
                      <a:pt x="2053" y="2143"/>
                    </a:lnTo>
                    <a:lnTo>
                      <a:pt x="2027" y="2146"/>
                    </a:lnTo>
                    <a:lnTo>
                      <a:pt x="2000" y="2147"/>
                    </a:lnTo>
                    <a:lnTo>
                      <a:pt x="1973" y="2148"/>
                    </a:lnTo>
                    <a:lnTo>
                      <a:pt x="1947" y="2149"/>
                    </a:lnTo>
                    <a:lnTo>
                      <a:pt x="1921" y="2149"/>
                    </a:lnTo>
                    <a:lnTo>
                      <a:pt x="1924" y="2167"/>
                    </a:lnTo>
                    <a:lnTo>
                      <a:pt x="1929" y="2185"/>
                    </a:lnTo>
                    <a:lnTo>
                      <a:pt x="1935" y="2200"/>
                    </a:lnTo>
                    <a:lnTo>
                      <a:pt x="1942" y="2213"/>
                    </a:lnTo>
                    <a:lnTo>
                      <a:pt x="1950" y="2224"/>
                    </a:lnTo>
                    <a:lnTo>
                      <a:pt x="1960" y="2235"/>
                    </a:lnTo>
                    <a:lnTo>
                      <a:pt x="1970" y="2244"/>
                    </a:lnTo>
                    <a:lnTo>
                      <a:pt x="1980" y="2251"/>
                    </a:lnTo>
                    <a:lnTo>
                      <a:pt x="1992" y="2259"/>
                    </a:lnTo>
                    <a:lnTo>
                      <a:pt x="2005" y="2264"/>
                    </a:lnTo>
                    <a:lnTo>
                      <a:pt x="2017" y="2270"/>
                    </a:lnTo>
                    <a:lnTo>
                      <a:pt x="2030" y="2274"/>
                    </a:lnTo>
                    <a:lnTo>
                      <a:pt x="2057" y="2282"/>
                    </a:lnTo>
                    <a:lnTo>
                      <a:pt x="2083" y="2288"/>
                    </a:lnTo>
                    <a:lnTo>
                      <a:pt x="2107" y="2296"/>
                    </a:lnTo>
                    <a:lnTo>
                      <a:pt x="2128" y="2303"/>
                    </a:lnTo>
                    <a:lnTo>
                      <a:pt x="2138" y="2309"/>
                    </a:lnTo>
                    <a:lnTo>
                      <a:pt x="2147" y="2314"/>
                    </a:lnTo>
                    <a:lnTo>
                      <a:pt x="2154" y="2321"/>
                    </a:lnTo>
                    <a:lnTo>
                      <a:pt x="2161" y="2328"/>
                    </a:lnTo>
                    <a:lnTo>
                      <a:pt x="2166" y="2336"/>
                    </a:lnTo>
                    <a:lnTo>
                      <a:pt x="2169" y="2345"/>
                    </a:lnTo>
                    <a:lnTo>
                      <a:pt x="2172" y="2357"/>
                    </a:lnTo>
                    <a:lnTo>
                      <a:pt x="2172" y="2369"/>
                    </a:lnTo>
                    <a:lnTo>
                      <a:pt x="2169" y="2384"/>
                    </a:lnTo>
                    <a:lnTo>
                      <a:pt x="2165" y="2399"/>
                    </a:lnTo>
                    <a:lnTo>
                      <a:pt x="2160" y="2418"/>
                    </a:lnTo>
                    <a:lnTo>
                      <a:pt x="2151" y="2438"/>
                    </a:lnTo>
                    <a:lnTo>
                      <a:pt x="2145" y="2451"/>
                    </a:lnTo>
                    <a:lnTo>
                      <a:pt x="2138" y="2462"/>
                    </a:lnTo>
                    <a:lnTo>
                      <a:pt x="2133" y="2471"/>
                    </a:lnTo>
                    <a:lnTo>
                      <a:pt x="2126" y="2477"/>
                    </a:lnTo>
                    <a:lnTo>
                      <a:pt x="2120" y="2483"/>
                    </a:lnTo>
                    <a:lnTo>
                      <a:pt x="2113" y="2487"/>
                    </a:lnTo>
                    <a:lnTo>
                      <a:pt x="2107" y="2489"/>
                    </a:lnTo>
                    <a:lnTo>
                      <a:pt x="2100" y="2491"/>
                    </a:lnTo>
                    <a:lnTo>
                      <a:pt x="2086" y="2492"/>
                    </a:lnTo>
                    <a:lnTo>
                      <a:pt x="2071" y="2492"/>
                    </a:lnTo>
                    <a:lnTo>
                      <a:pt x="2054" y="2492"/>
                    </a:lnTo>
                    <a:lnTo>
                      <a:pt x="2036" y="2494"/>
                    </a:lnTo>
                    <a:lnTo>
                      <a:pt x="2030" y="2497"/>
                    </a:lnTo>
                    <a:lnTo>
                      <a:pt x="2026" y="2499"/>
                    </a:lnTo>
                    <a:lnTo>
                      <a:pt x="2021" y="2501"/>
                    </a:lnTo>
                    <a:lnTo>
                      <a:pt x="2019" y="2504"/>
                    </a:lnTo>
                    <a:lnTo>
                      <a:pt x="2017" y="2507"/>
                    </a:lnTo>
                    <a:lnTo>
                      <a:pt x="2016" y="2512"/>
                    </a:lnTo>
                    <a:lnTo>
                      <a:pt x="2016" y="2517"/>
                    </a:lnTo>
                    <a:lnTo>
                      <a:pt x="2016" y="2521"/>
                    </a:lnTo>
                    <a:lnTo>
                      <a:pt x="2018" y="2533"/>
                    </a:lnTo>
                    <a:lnTo>
                      <a:pt x="2023" y="2545"/>
                    </a:lnTo>
                    <a:lnTo>
                      <a:pt x="2027" y="2558"/>
                    </a:lnTo>
                    <a:lnTo>
                      <a:pt x="2033" y="2571"/>
                    </a:lnTo>
                    <a:lnTo>
                      <a:pt x="2045" y="2597"/>
                    </a:lnTo>
                    <a:lnTo>
                      <a:pt x="2055" y="2622"/>
                    </a:lnTo>
                    <a:lnTo>
                      <a:pt x="2057" y="2632"/>
                    </a:lnTo>
                    <a:lnTo>
                      <a:pt x="2057" y="2641"/>
                    </a:lnTo>
                    <a:lnTo>
                      <a:pt x="2056" y="2645"/>
                    </a:lnTo>
                    <a:lnTo>
                      <a:pt x="2055" y="2648"/>
                    </a:lnTo>
                    <a:lnTo>
                      <a:pt x="2053" y="2651"/>
                    </a:lnTo>
                    <a:lnTo>
                      <a:pt x="2050" y="2653"/>
                    </a:lnTo>
                    <a:lnTo>
                      <a:pt x="2030" y="2663"/>
                    </a:lnTo>
                    <a:lnTo>
                      <a:pt x="2012" y="2671"/>
                    </a:lnTo>
                    <a:lnTo>
                      <a:pt x="1993" y="2676"/>
                    </a:lnTo>
                    <a:lnTo>
                      <a:pt x="1975" y="2679"/>
                    </a:lnTo>
                    <a:lnTo>
                      <a:pt x="1956" y="2680"/>
                    </a:lnTo>
                    <a:lnTo>
                      <a:pt x="1936" y="2680"/>
                    </a:lnTo>
                    <a:lnTo>
                      <a:pt x="1913" y="2677"/>
                    </a:lnTo>
                    <a:lnTo>
                      <a:pt x="1890" y="2673"/>
                    </a:lnTo>
                    <a:lnTo>
                      <a:pt x="1892" y="2682"/>
                    </a:lnTo>
                    <a:lnTo>
                      <a:pt x="1894" y="2692"/>
                    </a:lnTo>
                    <a:lnTo>
                      <a:pt x="1895" y="2701"/>
                    </a:lnTo>
                    <a:lnTo>
                      <a:pt x="1895" y="2709"/>
                    </a:lnTo>
                    <a:lnTo>
                      <a:pt x="1895" y="2718"/>
                    </a:lnTo>
                    <a:lnTo>
                      <a:pt x="1894" y="2727"/>
                    </a:lnTo>
                    <a:lnTo>
                      <a:pt x="1892" y="2735"/>
                    </a:lnTo>
                    <a:lnTo>
                      <a:pt x="1890" y="2744"/>
                    </a:lnTo>
                    <a:lnTo>
                      <a:pt x="1883" y="2759"/>
                    </a:lnTo>
                    <a:lnTo>
                      <a:pt x="1877" y="2775"/>
                    </a:lnTo>
                    <a:lnTo>
                      <a:pt x="1868" y="2789"/>
                    </a:lnTo>
                    <a:lnTo>
                      <a:pt x="1861" y="2804"/>
                    </a:lnTo>
                    <a:lnTo>
                      <a:pt x="1853" y="2818"/>
                    </a:lnTo>
                    <a:lnTo>
                      <a:pt x="1846" y="2833"/>
                    </a:lnTo>
                    <a:lnTo>
                      <a:pt x="1844" y="2839"/>
                    </a:lnTo>
                    <a:lnTo>
                      <a:pt x="1842" y="2847"/>
                    </a:lnTo>
                    <a:lnTo>
                      <a:pt x="1841" y="2853"/>
                    </a:lnTo>
                    <a:lnTo>
                      <a:pt x="1840" y="2861"/>
                    </a:lnTo>
                    <a:lnTo>
                      <a:pt x="1840" y="2867"/>
                    </a:lnTo>
                    <a:lnTo>
                      <a:pt x="1841" y="2875"/>
                    </a:lnTo>
                    <a:lnTo>
                      <a:pt x="1842" y="2881"/>
                    </a:lnTo>
                    <a:lnTo>
                      <a:pt x="1845" y="2889"/>
                    </a:lnTo>
                    <a:lnTo>
                      <a:pt x="1849" y="2895"/>
                    </a:lnTo>
                    <a:lnTo>
                      <a:pt x="1854" y="2903"/>
                    </a:lnTo>
                    <a:lnTo>
                      <a:pt x="1859" y="2910"/>
                    </a:lnTo>
                    <a:lnTo>
                      <a:pt x="1867" y="2918"/>
                    </a:lnTo>
                    <a:lnTo>
                      <a:pt x="1861" y="2920"/>
                    </a:lnTo>
                    <a:lnTo>
                      <a:pt x="1855" y="2923"/>
                    </a:lnTo>
                    <a:lnTo>
                      <a:pt x="1851" y="2926"/>
                    </a:lnTo>
                    <a:lnTo>
                      <a:pt x="1849" y="2932"/>
                    </a:lnTo>
                    <a:lnTo>
                      <a:pt x="1848" y="2936"/>
                    </a:lnTo>
                    <a:lnTo>
                      <a:pt x="1848" y="2943"/>
                    </a:lnTo>
                    <a:lnTo>
                      <a:pt x="1849" y="2949"/>
                    </a:lnTo>
                    <a:lnTo>
                      <a:pt x="1850" y="2956"/>
                    </a:lnTo>
                    <a:lnTo>
                      <a:pt x="1856" y="2971"/>
                    </a:lnTo>
                    <a:lnTo>
                      <a:pt x="1865" y="2987"/>
                    </a:lnTo>
                    <a:lnTo>
                      <a:pt x="1877" y="3004"/>
                    </a:lnTo>
                    <a:lnTo>
                      <a:pt x="1889" y="3023"/>
                    </a:lnTo>
                    <a:lnTo>
                      <a:pt x="1916" y="3061"/>
                    </a:lnTo>
                    <a:lnTo>
                      <a:pt x="1940" y="3099"/>
                    </a:lnTo>
                    <a:lnTo>
                      <a:pt x="1950" y="3117"/>
                    </a:lnTo>
                    <a:lnTo>
                      <a:pt x="1957" y="3133"/>
                    </a:lnTo>
                    <a:lnTo>
                      <a:pt x="1960" y="3141"/>
                    </a:lnTo>
                    <a:lnTo>
                      <a:pt x="1961" y="3149"/>
                    </a:lnTo>
                    <a:lnTo>
                      <a:pt x="1961" y="3155"/>
                    </a:lnTo>
                    <a:lnTo>
                      <a:pt x="1961" y="3162"/>
                    </a:lnTo>
                    <a:lnTo>
                      <a:pt x="1962" y="3166"/>
                    </a:lnTo>
                    <a:lnTo>
                      <a:pt x="1966" y="3173"/>
                    </a:lnTo>
                    <a:lnTo>
                      <a:pt x="1974" y="3182"/>
                    </a:lnTo>
                    <a:lnTo>
                      <a:pt x="1985" y="3193"/>
                    </a:lnTo>
                    <a:lnTo>
                      <a:pt x="2011" y="3219"/>
                    </a:lnTo>
                    <a:lnTo>
                      <a:pt x="2042" y="3247"/>
                    </a:lnTo>
                    <a:lnTo>
                      <a:pt x="2074" y="3274"/>
                    </a:lnTo>
                    <a:lnTo>
                      <a:pt x="2105" y="3298"/>
                    </a:lnTo>
                    <a:lnTo>
                      <a:pt x="2119" y="3307"/>
                    </a:lnTo>
                    <a:lnTo>
                      <a:pt x="2130" y="3313"/>
                    </a:lnTo>
                    <a:lnTo>
                      <a:pt x="2138" y="3317"/>
                    </a:lnTo>
                    <a:lnTo>
                      <a:pt x="2144" y="3317"/>
                    </a:lnTo>
                    <a:lnTo>
                      <a:pt x="2112" y="3315"/>
                    </a:lnTo>
                    <a:lnTo>
                      <a:pt x="2063" y="3313"/>
                    </a:lnTo>
                    <a:lnTo>
                      <a:pt x="2001" y="3311"/>
                    </a:lnTo>
                    <a:lnTo>
                      <a:pt x="1933" y="3310"/>
                    </a:lnTo>
                    <a:lnTo>
                      <a:pt x="1865" y="3307"/>
                    </a:lnTo>
                    <a:lnTo>
                      <a:pt x="1802" y="3304"/>
                    </a:lnTo>
                    <a:lnTo>
                      <a:pt x="1775" y="3302"/>
                    </a:lnTo>
                    <a:lnTo>
                      <a:pt x="1752" y="3300"/>
                    </a:lnTo>
                    <a:lnTo>
                      <a:pt x="1734" y="3298"/>
                    </a:lnTo>
                    <a:lnTo>
                      <a:pt x="1721" y="3296"/>
                    </a:lnTo>
                    <a:lnTo>
                      <a:pt x="1721" y="3317"/>
                    </a:lnTo>
                    <a:lnTo>
                      <a:pt x="1723" y="3339"/>
                    </a:lnTo>
                    <a:lnTo>
                      <a:pt x="1727" y="3361"/>
                    </a:lnTo>
                    <a:lnTo>
                      <a:pt x="1732" y="3381"/>
                    </a:lnTo>
                    <a:lnTo>
                      <a:pt x="1738" y="3401"/>
                    </a:lnTo>
                    <a:lnTo>
                      <a:pt x="1746" y="3420"/>
                    </a:lnTo>
                    <a:lnTo>
                      <a:pt x="1755" y="3439"/>
                    </a:lnTo>
                    <a:lnTo>
                      <a:pt x="1764" y="3458"/>
                    </a:lnTo>
                    <a:lnTo>
                      <a:pt x="1775" y="3476"/>
                    </a:lnTo>
                    <a:lnTo>
                      <a:pt x="1788" y="3493"/>
                    </a:lnTo>
                    <a:lnTo>
                      <a:pt x="1801" y="3510"/>
                    </a:lnTo>
                    <a:lnTo>
                      <a:pt x="1814" y="3526"/>
                    </a:lnTo>
                    <a:lnTo>
                      <a:pt x="1829" y="3542"/>
                    </a:lnTo>
                    <a:lnTo>
                      <a:pt x="1844" y="3556"/>
                    </a:lnTo>
                    <a:lnTo>
                      <a:pt x="1861" y="3571"/>
                    </a:lnTo>
                    <a:lnTo>
                      <a:pt x="1877" y="3585"/>
                    </a:lnTo>
                    <a:lnTo>
                      <a:pt x="1862" y="3587"/>
                    </a:lnTo>
                    <a:lnTo>
                      <a:pt x="1848" y="3591"/>
                    </a:lnTo>
                    <a:lnTo>
                      <a:pt x="1841" y="3593"/>
                    </a:lnTo>
                    <a:lnTo>
                      <a:pt x="1836" y="3595"/>
                    </a:lnTo>
                    <a:lnTo>
                      <a:pt x="1829" y="3598"/>
                    </a:lnTo>
                    <a:lnTo>
                      <a:pt x="1824" y="3601"/>
                    </a:lnTo>
                    <a:lnTo>
                      <a:pt x="1819" y="3606"/>
                    </a:lnTo>
                    <a:lnTo>
                      <a:pt x="1816" y="3610"/>
                    </a:lnTo>
                    <a:lnTo>
                      <a:pt x="1813" y="3616"/>
                    </a:lnTo>
                    <a:lnTo>
                      <a:pt x="1811" y="3621"/>
                    </a:lnTo>
                    <a:lnTo>
                      <a:pt x="1810" y="3627"/>
                    </a:lnTo>
                    <a:lnTo>
                      <a:pt x="1810" y="3635"/>
                    </a:lnTo>
                    <a:lnTo>
                      <a:pt x="1811" y="3643"/>
                    </a:lnTo>
                    <a:lnTo>
                      <a:pt x="1813" y="3651"/>
                    </a:lnTo>
                    <a:lnTo>
                      <a:pt x="1818" y="3678"/>
                    </a:lnTo>
                    <a:lnTo>
                      <a:pt x="1825" y="3719"/>
                    </a:lnTo>
                    <a:lnTo>
                      <a:pt x="1831" y="3770"/>
                    </a:lnTo>
                    <a:lnTo>
                      <a:pt x="1839" y="3826"/>
                    </a:lnTo>
                    <a:lnTo>
                      <a:pt x="1848" y="3881"/>
                    </a:lnTo>
                    <a:lnTo>
                      <a:pt x="1857" y="3930"/>
                    </a:lnTo>
                    <a:lnTo>
                      <a:pt x="1863" y="3951"/>
                    </a:lnTo>
                    <a:lnTo>
                      <a:pt x="1868" y="3970"/>
                    </a:lnTo>
                    <a:lnTo>
                      <a:pt x="1870" y="3976"/>
                    </a:lnTo>
                    <a:lnTo>
                      <a:pt x="1873" y="3983"/>
                    </a:lnTo>
                    <a:lnTo>
                      <a:pt x="1877" y="3988"/>
                    </a:lnTo>
                    <a:lnTo>
                      <a:pt x="1879" y="3992"/>
                    </a:lnTo>
                    <a:lnTo>
                      <a:pt x="1889" y="4003"/>
                    </a:lnTo>
                    <a:lnTo>
                      <a:pt x="1898" y="4012"/>
                    </a:lnTo>
                    <a:lnTo>
                      <a:pt x="1906" y="4018"/>
                    </a:lnTo>
                    <a:lnTo>
                      <a:pt x="1915" y="4024"/>
                    </a:lnTo>
                    <a:lnTo>
                      <a:pt x="1929" y="4030"/>
                    </a:lnTo>
                    <a:lnTo>
                      <a:pt x="1942" y="4036"/>
                    </a:lnTo>
                    <a:lnTo>
                      <a:pt x="1948" y="4038"/>
                    </a:lnTo>
                    <a:lnTo>
                      <a:pt x="1955" y="4041"/>
                    </a:lnTo>
                    <a:lnTo>
                      <a:pt x="1961" y="4044"/>
                    </a:lnTo>
                    <a:lnTo>
                      <a:pt x="1969" y="4050"/>
                    </a:lnTo>
                    <a:lnTo>
                      <a:pt x="1975" y="4055"/>
                    </a:lnTo>
                    <a:lnTo>
                      <a:pt x="1984" y="4063"/>
                    </a:lnTo>
                    <a:lnTo>
                      <a:pt x="1991" y="4072"/>
                    </a:lnTo>
                    <a:lnTo>
                      <a:pt x="2000" y="4084"/>
                    </a:lnTo>
                    <a:lnTo>
                      <a:pt x="2009" y="4083"/>
                    </a:lnTo>
                    <a:lnTo>
                      <a:pt x="2029" y="4080"/>
                    </a:lnTo>
                    <a:lnTo>
                      <a:pt x="2056" y="4077"/>
                    </a:lnTo>
                    <a:lnTo>
                      <a:pt x="2081" y="4075"/>
                    </a:lnTo>
                    <a:lnTo>
                      <a:pt x="2092" y="4075"/>
                    </a:lnTo>
                    <a:lnTo>
                      <a:pt x="2099" y="4076"/>
                    </a:lnTo>
                    <a:lnTo>
                      <a:pt x="2101" y="4076"/>
                    </a:lnTo>
                    <a:lnTo>
                      <a:pt x="2104" y="4077"/>
                    </a:lnTo>
                    <a:lnTo>
                      <a:pt x="2105" y="4079"/>
                    </a:lnTo>
                    <a:lnTo>
                      <a:pt x="2104" y="4080"/>
                    </a:lnTo>
                    <a:lnTo>
                      <a:pt x="2098" y="4084"/>
                    </a:lnTo>
                    <a:lnTo>
                      <a:pt x="2087" y="4090"/>
                    </a:lnTo>
                    <a:lnTo>
                      <a:pt x="2070" y="4097"/>
                    </a:lnTo>
                    <a:lnTo>
                      <a:pt x="2045" y="4106"/>
                    </a:lnTo>
                    <a:lnTo>
                      <a:pt x="2016" y="4117"/>
                    </a:lnTo>
                    <a:lnTo>
                      <a:pt x="1990" y="4127"/>
                    </a:lnTo>
                    <a:lnTo>
                      <a:pt x="1964" y="4139"/>
                    </a:lnTo>
                    <a:lnTo>
                      <a:pt x="1940" y="4150"/>
                    </a:lnTo>
                    <a:lnTo>
                      <a:pt x="1899" y="4171"/>
                    </a:lnTo>
                    <a:lnTo>
                      <a:pt x="1864" y="4189"/>
                    </a:lnTo>
                    <a:lnTo>
                      <a:pt x="1837" y="4206"/>
                    </a:lnTo>
                    <a:lnTo>
                      <a:pt x="1816" y="4218"/>
                    </a:lnTo>
                    <a:lnTo>
                      <a:pt x="1804" y="4227"/>
                    </a:lnTo>
                    <a:lnTo>
                      <a:pt x="1800" y="4230"/>
                    </a:lnTo>
                    <a:close/>
                  </a:path>
                </a:pathLst>
              </a:custGeom>
              <a:solidFill>
                <a:srgbClr val="5476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5261040" y="3741840"/>
                <a:ext cx="179280" cy="635040"/>
              </a:xfrm>
              <a:custGeom>
                <a:avLst/>
                <a:gdLst/>
                <a:ahLst/>
                <a:rect l="l" t="t" r="r" b="b"/>
                <a:pathLst>
                  <a:path w="564" h="2001">
                    <a:moveTo>
                      <a:pt x="297" y="0"/>
                    </a:moveTo>
                    <a:lnTo>
                      <a:pt x="288" y="52"/>
                    </a:lnTo>
                    <a:lnTo>
                      <a:pt x="280" y="99"/>
                    </a:lnTo>
                    <a:lnTo>
                      <a:pt x="273" y="139"/>
                    </a:lnTo>
                    <a:lnTo>
                      <a:pt x="267" y="173"/>
                    </a:lnTo>
                    <a:lnTo>
                      <a:pt x="261" y="199"/>
                    </a:lnTo>
                    <a:lnTo>
                      <a:pt x="258" y="220"/>
                    </a:lnTo>
                    <a:lnTo>
                      <a:pt x="256" y="232"/>
                    </a:lnTo>
                    <a:lnTo>
                      <a:pt x="255" y="236"/>
                    </a:lnTo>
                    <a:lnTo>
                      <a:pt x="239" y="310"/>
                    </a:lnTo>
                    <a:lnTo>
                      <a:pt x="224" y="378"/>
                    </a:lnTo>
                    <a:lnTo>
                      <a:pt x="211" y="442"/>
                    </a:lnTo>
                    <a:lnTo>
                      <a:pt x="199" y="504"/>
                    </a:lnTo>
                    <a:lnTo>
                      <a:pt x="193" y="534"/>
                    </a:lnTo>
                    <a:lnTo>
                      <a:pt x="189" y="564"/>
                    </a:lnTo>
                    <a:lnTo>
                      <a:pt x="186" y="594"/>
                    </a:lnTo>
                    <a:lnTo>
                      <a:pt x="183" y="625"/>
                    </a:lnTo>
                    <a:lnTo>
                      <a:pt x="179" y="656"/>
                    </a:lnTo>
                    <a:lnTo>
                      <a:pt x="177" y="688"/>
                    </a:lnTo>
                    <a:lnTo>
                      <a:pt x="176" y="722"/>
                    </a:lnTo>
                    <a:lnTo>
                      <a:pt x="176" y="758"/>
                    </a:lnTo>
                    <a:lnTo>
                      <a:pt x="175" y="792"/>
                    </a:lnTo>
                    <a:lnTo>
                      <a:pt x="174" y="827"/>
                    </a:lnTo>
                    <a:lnTo>
                      <a:pt x="171" y="861"/>
                    </a:lnTo>
                    <a:lnTo>
                      <a:pt x="168" y="896"/>
                    </a:lnTo>
                    <a:lnTo>
                      <a:pt x="158" y="964"/>
                    </a:lnTo>
                    <a:lnTo>
                      <a:pt x="146" y="1032"/>
                    </a:lnTo>
                    <a:lnTo>
                      <a:pt x="134" y="1098"/>
                    </a:lnTo>
                    <a:lnTo>
                      <a:pt x="121" y="1163"/>
                    </a:lnTo>
                    <a:lnTo>
                      <a:pt x="109" y="1227"/>
                    </a:lnTo>
                    <a:lnTo>
                      <a:pt x="99" y="1291"/>
                    </a:lnTo>
                    <a:lnTo>
                      <a:pt x="96" y="1320"/>
                    </a:lnTo>
                    <a:lnTo>
                      <a:pt x="95" y="1346"/>
                    </a:lnTo>
                    <a:lnTo>
                      <a:pt x="95" y="1369"/>
                    </a:lnTo>
                    <a:lnTo>
                      <a:pt x="96" y="1390"/>
                    </a:lnTo>
                    <a:lnTo>
                      <a:pt x="101" y="1428"/>
                    </a:lnTo>
                    <a:lnTo>
                      <a:pt x="105" y="1465"/>
                    </a:lnTo>
                    <a:lnTo>
                      <a:pt x="107" y="1484"/>
                    </a:lnTo>
                    <a:lnTo>
                      <a:pt x="108" y="1505"/>
                    </a:lnTo>
                    <a:lnTo>
                      <a:pt x="107" y="1527"/>
                    </a:lnTo>
                    <a:lnTo>
                      <a:pt x="106" y="1552"/>
                    </a:lnTo>
                    <a:lnTo>
                      <a:pt x="103" y="1581"/>
                    </a:lnTo>
                    <a:lnTo>
                      <a:pt x="96" y="1612"/>
                    </a:lnTo>
                    <a:lnTo>
                      <a:pt x="89" y="1647"/>
                    </a:lnTo>
                    <a:lnTo>
                      <a:pt x="77" y="1689"/>
                    </a:lnTo>
                    <a:lnTo>
                      <a:pt x="68" y="1723"/>
                    </a:lnTo>
                    <a:lnTo>
                      <a:pt x="58" y="1760"/>
                    </a:lnTo>
                    <a:lnTo>
                      <a:pt x="49" y="1798"/>
                    </a:lnTo>
                    <a:lnTo>
                      <a:pt x="39" y="1836"/>
                    </a:lnTo>
                    <a:lnTo>
                      <a:pt x="29" y="1876"/>
                    </a:lnTo>
                    <a:lnTo>
                      <a:pt x="20" y="1917"/>
                    </a:lnTo>
                    <a:lnTo>
                      <a:pt x="10" y="1959"/>
                    </a:lnTo>
                    <a:lnTo>
                      <a:pt x="0" y="2001"/>
                    </a:lnTo>
                    <a:lnTo>
                      <a:pt x="4" y="1984"/>
                    </a:lnTo>
                    <a:lnTo>
                      <a:pt x="9" y="1969"/>
                    </a:lnTo>
                    <a:lnTo>
                      <a:pt x="14" y="1954"/>
                    </a:lnTo>
                    <a:lnTo>
                      <a:pt x="20" y="1941"/>
                    </a:lnTo>
                    <a:lnTo>
                      <a:pt x="25" y="1928"/>
                    </a:lnTo>
                    <a:lnTo>
                      <a:pt x="31" y="1916"/>
                    </a:lnTo>
                    <a:lnTo>
                      <a:pt x="38" y="1906"/>
                    </a:lnTo>
                    <a:lnTo>
                      <a:pt x="45" y="1895"/>
                    </a:lnTo>
                    <a:lnTo>
                      <a:pt x="53" y="1885"/>
                    </a:lnTo>
                    <a:lnTo>
                      <a:pt x="61" y="1875"/>
                    </a:lnTo>
                    <a:lnTo>
                      <a:pt x="69" y="1867"/>
                    </a:lnTo>
                    <a:lnTo>
                      <a:pt x="77" y="1859"/>
                    </a:lnTo>
                    <a:lnTo>
                      <a:pt x="95" y="1844"/>
                    </a:lnTo>
                    <a:lnTo>
                      <a:pt x="113" y="1830"/>
                    </a:lnTo>
                    <a:lnTo>
                      <a:pt x="151" y="1805"/>
                    </a:lnTo>
                    <a:lnTo>
                      <a:pt x="192" y="1781"/>
                    </a:lnTo>
                    <a:lnTo>
                      <a:pt x="212" y="1770"/>
                    </a:lnTo>
                    <a:lnTo>
                      <a:pt x="231" y="1757"/>
                    </a:lnTo>
                    <a:lnTo>
                      <a:pt x="251" y="1741"/>
                    </a:lnTo>
                    <a:lnTo>
                      <a:pt x="270" y="1726"/>
                    </a:lnTo>
                    <a:lnTo>
                      <a:pt x="280" y="1717"/>
                    </a:lnTo>
                    <a:lnTo>
                      <a:pt x="288" y="1706"/>
                    </a:lnTo>
                    <a:lnTo>
                      <a:pt x="295" y="1696"/>
                    </a:lnTo>
                    <a:lnTo>
                      <a:pt x="301" y="1684"/>
                    </a:lnTo>
                    <a:lnTo>
                      <a:pt x="306" y="1672"/>
                    </a:lnTo>
                    <a:lnTo>
                      <a:pt x="310" y="1660"/>
                    </a:lnTo>
                    <a:lnTo>
                      <a:pt x="313" y="1647"/>
                    </a:lnTo>
                    <a:lnTo>
                      <a:pt x="316" y="1635"/>
                    </a:lnTo>
                    <a:lnTo>
                      <a:pt x="317" y="1622"/>
                    </a:lnTo>
                    <a:lnTo>
                      <a:pt x="317" y="1608"/>
                    </a:lnTo>
                    <a:lnTo>
                      <a:pt x="317" y="1593"/>
                    </a:lnTo>
                    <a:lnTo>
                      <a:pt x="317" y="1579"/>
                    </a:lnTo>
                    <a:lnTo>
                      <a:pt x="314" y="1550"/>
                    </a:lnTo>
                    <a:lnTo>
                      <a:pt x="311" y="1520"/>
                    </a:lnTo>
                    <a:lnTo>
                      <a:pt x="307" y="1490"/>
                    </a:lnTo>
                    <a:lnTo>
                      <a:pt x="304" y="1460"/>
                    </a:lnTo>
                    <a:lnTo>
                      <a:pt x="300" y="1428"/>
                    </a:lnTo>
                    <a:lnTo>
                      <a:pt x="299" y="1398"/>
                    </a:lnTo>
                    <a:lnTo>
                      <a:pt x="299" y="1383"/>
                    </a:lnTo>
                    <a:lnTo>
                      <a:pt x="300" y="1368"/>
                    </a:lnTo>
                    <a:lnTo>
                      <a:pt x="301" y="1354"/>
                    </a:lnTo>
                    <a:lnTo>
                      <a:pt x="304" y="1339"/>
                    </a:lnTo>
                    <a:lnTo>
                      <a:pt x="307" y="1325"/>
                    </a:lnTo>
                    <a:lnTo>
                      <a:pt x="311" y="1311"/>
                    </a:lnTo>
                    <a:lnTo>
                      <a:pt x="316" y="1296"/>
                    </a:lnTo>
                    <a:lnTo>
                      <a:pt x="322" y="1284"/>
                    </a:lnTo>
                    <a:lnTo>
                      <a:pt x="332" y="1263"/>
                    </a:lnTo>
                    <a:lnTo>
                      <a:pt x="340" y="1244"/>
                    </a:lnTo>
                    <a:lnTo>
                      <a:pt x="347" y="1223"/>
                    </a:lnTo>
                    <a:lnTo>
                      <a:pt x="353" y="1201"/>
                    </a:lnTo>
                    <a:lnTo>
                      <a:pt x="360" y="1181"/>
                    </a:lnTo>
                    <a:lnTo>
                      <a:pt x="364" y="1159"/>
                    </a:lnTo>
                    <a:lnTo>
                      <a:pt x="368" y="1139"/>
                    </a:lnTo>
                    <a:lnTo>
                      <a:pt x="373" y="1117"/>
                    </a:lnTo>
                    <a:lnTo>
                      <a:pt x="379" y="1074"/>
                    </a:lnTo>
                    <a:lnTo>
                      <a:pt x="385" y="1031"/>
                    </a:lnTo>
                    <a:lnTo>
                      <a:pt x="391" y="988"/>
                    </a:lnTo>
                    <a:lnTo>
                      <a:pt x="399" y="944"/>
                    </a:lnTo>
                    <a:lnTo>
                      <a:pt x="411" y="947"/>
                    </a:lnTo>
                    <a:lnTo>
                      <a:pt x="420" y="948"/>
                    </a:lnTo>
                    <a:lnTo>
                      <a:pt x="430" y="945"/>
                    </a:lnTo>
                    <a:lnTo>
                      <a:pt x="439" y="942"/>
                    </a:lnTo>
                    <a:lnTo>
                      <a:pt x="447" y="938"/>
                    </a:lnTo>
                    <a:lnTo>
                      <a:pt x="455" y="931"/>
                    </a:lnTo>
                    <a:lnTo>
                      <a:pt x="462" y="925"/>
                    </a:lnTo>
                    <a:lnTo>
                      <a:pt x="469" y="917"/>
                    </a:lnTo>
                    <a:lnTo>
                      <a:pt x="482" y="902"/>
                    </a:lnTo>
                    <a:lnTo>
                      <a:pt x="494" y="886"/>
                    </a:lnTo>
                    <a:lnTo>
                      <a:pt x="500" y="879"/>
                    </a:lnTo>
                    <a:lnTo>
                      <a:pt x="508" y="872"/>
                    </a:lnTo>
                    <a:lnTo>
                      <a:pt x="514" y="866"/>
                    </a:lnTo>
                    <a:lnTo>
                      <a:pt x="522" y="861"/>
                    </a:lnTo>
                    <a:lnTo>
                      <a:pt x="529" y="857"/>
                    </a:lnTo>
                    <a:lnTo>
                      <a:pt x="535" y="852"/>
                    </a:lnTo>
                    <a:lnTo>
                      <a:pt x="540" y="847"/>
                    </a:lnTo>
                    <a:lnTo>
                      <a:pt x="546" y="841"/>
                    </a:lnTo>
                    <a:lnTo>
                      <a:pt x="549" y="835"/>
                    </a:lnTo>
                    <a:lnTo>
                      <a:pt x="553" y="829"/>
                    </a:lnTo>
                    <a:lnTo>
                      <a:pt x="555" y="821"/>
                    </a:lnTo>
                    <a:lnTo>
                      <a:pt x="559" y="814"/>
                    </a:lnTo>
                    <a:lnTo>
                      <a:pt x="562" y="799"/>
                    </a:lnTo>
                    <a:lnTo>
                      <a:pt x="564" y="781"/>
                    </a:lnTo>
                    <a:lnTo>
                      <a:pt x="564" y="764"/>
                    </a:lnTo>
                    <a:lnTo>
                      <a:pt x="563" y="746"/>
                    </a:lnTo>
                    <a:lnTo>
                      <a:pt x="560" y="707"/>
                    </a:lnTo>
                    <a:lnTo>
                      <a:pt x="556" y="666"/>
                    </a:lnTo>
                    <a:lnTo>
                      <a:pt x="554" y="646"/>
                    </a:lnTo>
                    <a:lnTo>
                      <a:pt x="553" y="627"/>
                    </a:lnTo>
                    <a:lnTo>
                      <a:pt x="553" y="607"/>
                    </a:lnTo>
                    <a:lnTo>
                      <a:pt x="554" y="589"/>
                    </a:lnTo>
                    <a:lnTo>
                      <a:pt x="297" y="0"/>
                    </a:lnTo>
                    <a:close/>
                  </a:path>
                </a:pathLst>
              </a:custGeom>
              <a:solidFill>
                <a:srgbClr val="5b8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5261040" y="3741840"/>
                <a:ext cx="176040" cy="635040"/>
              </a:xfrm>
              <a:custGeom>
                <a:avLst/>
                <a:gdLst/>
                <a:ahLst/>
                <a:rect l="l" t="t" r="r" b="b"/>
                <a:pathLst>
                  <a:path w="554" h="2001">
                    <a:moveTo>
                      <a:pt x="247" y="1706"/>
                    </a:moveTo>
                    <a:lnTo>
                      <a:pt x="229" y="1722"/>
                    </a:lnTo>
                    <a:lnTo>
                      <a:pt x="211" y="1737"/>
                    </a:lnTo>
                    <a:lnTo>
                      <a:pt x="191" y="1751"/>
                    </a:lnTo>
                    <a:lnTo>
                      <a:pt x="173" y="1765"/>
                    </a:lnTo>
                    <a:lnTo>
                      <a:pt x="155" y="1778"/>
                    </a:lnTo>
                    <a:lnTo>
                      <a:pt x="136" y="1791"/>
                    </a:lnTo>
                    <a:lnTo>
                      <a:pt x="119" y="1805"/>
                    </a:lnTo>
                    <a:lnTo>
                      <a:pt x="102" y="1820"/>
                    </a:lnTo>
                    <a:lnTo>
                      <a:pt x="85" y="1835"/>
                    </a:lnTo>
                    <a:lnTo>
                      <a:pt x="70" y="1853"/>
                    </a:lnTo>
                    <a:lnTo>
                      <a:pt x="55" y="1871"/>
                    </a:lnTo>
                    <a:lnTo>
                      <a:pt x="42" y="1892"/>
                    </a:lnTo>
                    <a:lnTo>
                      <a:pt x="36" y="1903"/>
                    </a:lnTo>
                    <a:lnTo>
                      <a:pt x="29" y="1915"/>
                    </a:lnTo>
                    <a:lnTo>
                      <a:pt x="24" y="1927"/>
                    </a:lnTo>
                    <a:lnTo>
                      <a:pt x="18" y="1940"/>
                    </a:lnTo>
                    <a:lnTo>
                      <a:pt x="13" y="1954"/>
                    </a:lnTo>
                    <a:lnTo>
                      <a:pt x="9" y="1968"/>
                    </a:lnTo>
                    <a:lnTo>
                      <a:pt x="4" y="1984"/>
                    </a:lnTo>
                    <a:lnTo>
                      <a:pt x="0" y="2001"/>
                    </a:lnTo>
                    <a:lnTo>
                      <a:pt x="10" y="1959"/>
                    </a:lnTo>
                    <a:lnTo>
                      <a:pt x="20" y="1917"/>
                    </a:lnTo>
                    <a:lnTo>
                      <a:pt x="29" y="1876"/>
                    </a:lnTo>
                    <a:lnTo>
                      <a:pt x="39" y="1836"/>
                    </a:lnTo>
                    <a:lnTo>
                      <a:pt x="49" y="1798"/>
                    </a:lnTo>
                    <a:lnTo>
                      <a:pt x="58" y="1760"/>
                    </a:lnTo>
                    <a:lnTo>
                      <a:pt x="68" y="1723"/>
                    </a:lnTo>
                    <a:lnTo>
                      <a:pt x="77" y="1689"/>
                    </a:lnTo>
                    <a:lnTo>
                      <a:pt x="89" y="1647"/>
                    </a:lnTo>
                    <a:lnTo>
                      <a:pt x="96" y="1612"/>
                    </a:lnTo>
                    <a:lnTo>
                      <a:pt x="103" y="1581"/>
                    </a:lnTo>
                    <a:lnTo>
                      <a:pt x="106" y="1552"/>
                    </a:lnTo>
                    <a:lnTo>
                      <a:pt x="107" y="1527"/>
                    </a:lnTo>
                    <a:lnTo>
                      <a:pt x="108" y="1505"/>
                    </a:lnTo>
                    <a:lnTo>
                      <a:pt x="107" y="1484"/>
                    </a:lnTo>
                    <a:lnTo>
                      <a:pt x="105" y="1465"/>
                    </a:lnTo>
                    <a:lnTo>
                      <a:pt x="101" y="1428"/>
                    </a:lnTo>
                    <a:lnTo>
                      <a:pt x="96" y="1390"/>
                    </a:lnTo>
                    <a:lnTo>
                      <a:pt x="95" y="1369"/>
                    </a:lnTo>
                    <a:lnTo>
                      <a:pt x="95" y="1346"/>
                    </a:lnTo>
                    <a:lnTo>
                      <a:pt x="96" y="1320"/>
                    </a:lnTo>
                    <a:lnTo>
                      <a:pt x="99" y="1291"/>
                    </a:lnTo>
                    <a:lnTo>
                      <a:pt x="109" y="1227"/>
                    </a:lnTo>
                    <a:lnTo>
                      <a:pt x="121" y="1163"/>
                    </a:lnTo>
                    <a:lnTo>
                      <a:pt x="134" y="1098"/>
                    </a:lnTo>
                    <a:lnTo>
                      <a:pt x="146" y="1032"/>
                    </a:lnTo>
                    <a:lnTo>
                      <a:pt x="158" y="964"/>
                    </a:lnTo>
                    <a:lnTo>
                      <a:pt x="168" y="896"/>
                    </a:lnTo>
                    <a:lnTo>
                      <a:pt x="171" y="861"/>
                    </a:lnTo>
                    <a:lnTo>
                      <a:pt x="174" y="827"/>
                    </a:lnTo>
                    <a:lnTo>
                      <a:pt x="175" y="792"/>
                    </a:lnTo>
                    <a:lnTo>
                      <a:pt x="176" y="758"/>
                    </a:lnTo>
                    <a:lnTo>
                      <a:pt x="176" y="722"/>
                    </a:lnTo>
                    <a:lnTo>
                      <a:pt x="177" y="688"/>
                    </a:lnTo>
                    <a:lnTo>
                      <a:pt x="179" y="656"/>
                    </a:lnTo>
                    <a:lnTo>
                      <a:pt x="183" y="625"/>
                    </a:lnTo>
                    <a:lnTo>
                      <a:pt x="186" y="594"/>
                    </a:lnTo>
                    <a:lnTo>
                      <a:pt x="189" y="564"/>
                    </a:lnTo>
                    <a:lnTo>
                      <a:pt x="193" y="534"/>
                    </a:lnTo>
                    <a:lnTo>
                      <a:pt x="199" y="504"/>
                    </a:lnTo>
                    <a:lnTo>
                      <a:pt x="211" y="442"/>
                    </a:lnTo>
                    <a:lnTo>
                      <a:pt x="224" y="378"/>
                    </a:lnTo>
                    <a:lnTo>
                      <a:pt x="239" y="310"/>
                    </a:lnTo>
                    <a:lnTo>
                      <a:pt x="255" y="236"/>
                    </a:lnTo>
                    <a:lnTo>
                      <a:pt x="256" y="232"/>
                    </a:lnTo>
                    <a:lnTo>
                      <a:pt x="258" y="220"/>
                    </a:lnTo>
                    <a:lnTo>
                      <a:pt x="261" y="199"/>
                    </a:lnTo>
                    <a:lnTo>
                      <a:pt x="267" y="173"/>
                    </a:lnTo>
                    <a:lnTo>
                      <a:pt x="273" y="139"/>
                    </a:lnTo>
                    <a:lnTo>
                      <a:pt x="280" y="99"/>
                    </a:lnTo>
                    <a:lnTo>
                      <a:pt x="288" y="52"/>
                    </a:lnTo>
                    <a:lnTo>
                      <a:pt x="297" y="0"/>
                    </a:lnTo>
                    <a:lnTo>
                      <a:pt x="554" y="589"/>
                    </a:lnTo>
                    <a:lnTo>
                      <a:pt x="551" y="624"/>
                    </a:lnTo>
                    <a:lnTo>
                      <a:pt x="549" y="657"/>
                    </a:lnTo>
                    <a:lnTo>
                      <a:pt x="548" y="673"/>
                    </a:lnTo>
                    <a:lnTo>
                      <a:pt x="546" y="688"/>
                    </a:lnTo>
                    <a:lnTo>
                      <a:pt x="543" y="702"/>
                    </a:lnTo>
                    <a:lnTo>
                      <a:pt x="541" y="717"/>
                    </a:lnTo>
                    <a:lnTo>
                      <a:pt x="538" y="729"/>
                    </a:lnTo>
                    <a:lnTo>
                      <a:pt x="533" y="742"/>
                    </a:lnTo>
                    <a:lnTo>
                      <a:pt x="527" y="754"/>
                    </a:lnTo>
                    <a:lnTo>
                      <a:pt x="521" y="765"/>
                    </a:lnTo>
                    <a:lnTo>
                      <a:pt x="512" y="776"/>
                    </a:lnTo>
                    <a:lnTo>
                      <a:pt x="502" y="785"/>
                    </a:lnTo>
                    <a:lnTo>
                      <a:pt x="492" y="793"/>
                    </a:lnTo>
                    <a:lnTo>
                      <a:pt x="478" y="802"/>
                    </a:lnTo>
                    <a:lnTo>
                      <a:pt x="470" y="807"/>
                    </a:lnTo>
                    <a:lnTo>
                      <a:pt x="463" y="815"/>
                    </a:lnTo>
                    <a:lnTo>
                      <a:pt x="457" y="823"/>
                    </a:lnTo>
                    <a:lnTo>
                      <a:pt x="452" y="834"/>
                    </a:lnTo>
                    <a:lnTo>
                      <a:pt x="441" y="858"/>
                    </a:lnTo>
                    <a:lnTo>
                      <a:pt x="430" y="882"/>
                    </a:lnTo>
                    <a:lnTo>
                      <a:pt x="425" y="894"/>
                    </a:lnTo>
                    <a:lnTo>
                      <a:pt x="419" y="906"/>
                    </a:lnTo>
                    <a:lnTo>
                      <a:pt x="413" y="915"/>
                    </a:lnTo>
                    <a:lnTo>
                      <a:pt x="405" y="924"/>
                    </a:lnTo>
                    <a:lnTo>
                      <a:pt x="401" y="927"/>
                    </a:lnTo>
                    <a:lnTo>
                      <a:pt x="397" y="930"/>
                    </a:lnTo>
                    <a:lnTo>
                      <a:pt x="392" y="933"/>
                    </a:lnTo>
                    <a:lnTo>
                      <a:pt x="388" y="935"/>
                    </a:lnTo>
                    <a:lnTo>
                      <a:pt x="384" y="936"/>
                    </a:lnTo>
                    <a:lnTo>
                      <a:pt x="378" y="936"/>
                    </a:lnTo>
                    <a:lnTo>
                      <a:pt x="373" y="936"/>
                    </a:lnTo>
                    <a:lnTo>
                      <a:pt x="366" y="935"/>
                    </a:lnTo>
                    <a:lnTo>
                      <a:pt x="359" y="978"/>
                    </a:lnTo>
                    <a:lnTo>
                      <a:pt x="353" y="1022"/>
                    </a:lnTo>
                    <a:lnTo>
                      <a:pt x="348" y="1066"/>
                    </a:lnTo>
                    <a:lnTo>
                      <a:pt x="341" y="1113"/>
                    </a:lnTo>
                    <a:lnTo>
                      <a:pt x="337" y="1136"/>
                    </a:lnTo>
                    <a:lnTo>
                      <a:pt x="333" y="1157"/>
                    </a:lnTo>
                    <a:lnTo>
                      <a:pt x="328" y="1180"/>
                    </a:lnTo>
                    <a:lnTo>
                      <a:pt x="323" y="1203"/>
                    </a:lnTo>
                    <a:lnTo>
                      <a:pt x="317" y="1224"/>
                    </a:lnTo>
                    <a:lnTo>
                      <a:pt x="309" y="1245"/>
                    </a:lnTo>
                    <a:lnTo>
                      <a:pt x="300" y="1266"/>
                    </a:lnTo>
                    <a:lnTo>
                      <a:pt x="290" y="1286"/>
                    </a:lnTo>
                    <a:lnTo>
                      <a:pt x="284" y="1300"/>
                    </a:lnTo>
                    <a:lnTo>
                      <a:pt x="279" y="1313"/>
                    </a:lnTo>
                    <a:lnTo>
                      <a:pt x="276" y="1327"/>
                    </a:lnTo>
                    <a:lnTo>
                      <a:pt x="272" y="1341"/>
                    </a:lnTo>
                    <a:lnTo>
                      <a:pt x="271" y="1355"/>
                    </a:lnTo>
                    <a:lnTo>
                      <a:pt x="270" y="1369"/>
                    </a:lnTo>
                    <a:lnTo>
                      <a:pt x="269" y="1383"/>
                    </a:lnTo>
                    <a:lnTo>
                      <a:pt x="270" y="1397"/>
                    </a:lnTo>
                    <a:lnTo>
                      <a:pt x="272" y="1426"/>
                    </a:lnTo>
                    <a:lnTo>
                      <a:pt x="276" y="1455"/>
                    </a:lnTo>
                    <a:lnTo>
                      <a:pt x="280" y="1483"/>
                    </a:lnTo>
                    <a:lnTo>
                      <a:pt x="284" y="1511"/>
                    </a:lnTo>
                    <a:lnTo>
                      <a:pt x="288" y="1539"/>
                    </a:lnTo>
                    <a:lnTo>
                      <a:pt x="292" y="1566"/>
                    </a:lnTo>
                    <a:lnTo>
                      <a:pt x="293" y="1581"/>
                    </a:lnTo>
                    <a:lnTo>
                      <a:pt x="293" y="1593"/>
                    </a:lnTo>
                    <a:lnTo>
                      <a:pt x="293" y="1606"/>
                    </a:lnTo>
                    <a:lnTo>
                      <a:pt x="292" y="1618"/>
                    </a:lnTo>
                    <a:lnTo>
                      <a:pt x="290" y="1631"/>
                    </a:lnTo>
                    <a:lnTo>
                      <a:pt x="287" y="1643"/>
                    </a:lnTo>
                    <a:lnTo>
                      <a:pt x="283" y="1654"/>
                    </a:lnTo>
                    <a:lnTo>
                      <a:pt x="279" y="1666"/>
                    </a:lnTo>
                    <a:lnTo>
                      <a:pt x="273" y="1677"/>
                    </a:lnTo>
                    <a:lnTo>
                      <a:pt x="266" y="1686"/>
                    </a:lnTo>
                    <a:lnTo>
                      <a:pt x="257" y="1697"/>
                    </a:lnTo>
                    <a:lnTo>
                      <a:pt x="247" y="1706"/>
                    </a:lnTo>
                    <a:close/>
                  </a:path>
                </a:pathLst>
              </a:custGeom>
              <a:solidFill>
                <a:srgbClr val="5982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5261040" y="3741840"/>
                <a:ext cx="176040" cy="635040"/>
              </a:xfrm>
              <a:custGeom>
                <a:avLst/>
                <a:gdLst/>
                <a:ahLst/>
                <a:rect l="l" t="t" r="r" b="b"/>
                <a:pathLst>
                  <a:path w="554" h="2001">
                    <a:moveTo>
                      <a:pt x="226" y="1686"/>
                    </a:moveTo>
                    <a:lnTo>
                      <a:pt x="189" y="1718"/>
                    </a:lnTo>
                    <a:lnTo>
                      <a:pt x="155" y="1748"/>
                    </a:lnTo>
                    <a:lnTo>
                      <a:pt x="137" y="1763"/>
                    </a:lnTo>
                    <a:lnTo>
                      <a:pt x="121" y="1778"/>
                    </a:lnTo>
                    <a:lnTo>
                      <a:pt x="106" y="1793"/>
                    </a:lnTo>
                    <a:lnTo>
                      <a:pt x="91" y="1811"/>
                    </a:lnTo>
                    <a:lnTo>
                      <a:pt x="77" y="1828"/>
                    </a:lnTo>
                    <a:lnTo>
                      <a:pt x="63" y="1846"/>
                    </a:lnTo>
                    <a:lnTo>
                      <a:pt x="51" y="1867"/>
                    </a:lnTo>
                    <a:lnTo>
                      <a:pt x="39" y="1888"/>
                    </a:lnTo>
                    <a:lnTo>
                      <a:pt x="27" y="1913"/>
                    </a:lnTo>
                    <a:lnTo>
                      <a:pt x="17" y="1939"/>
                    </a:lnTo>
                    <a:lnTo>
                      <a:pt x="9" y="1968"/>
                    </a:lnTo>
                    <a:lnTo>
                      <a:pt x="0" y="2001"/>
                    </a:lnTo>
                    <a:lnTo>
                      <a:pt x="10" y="1959"/>
                    </a:lnTo>
                    <a:lnTo>
                      <a:pt x="20" y="1917"/>
                    </a:lnTo>
                    <a:lnTo>
                      <a:pt x="29" y="1876"/>
                    </a:lnTo>
                    <a:lnTo>
                      <a:pt x="39" y="1836"/>
                    </a:lnTo>
                    <a:lnTo>
                      <a:pt x="49" y="1798"/>
                    </a:lnTo>
                    <a:lnTo>
                      <a:pt x="58" y="1760"/>
                    </a:lnTo>
                    <a:lnTo>
                      <a:pt x="68" y="1723"/>
                    </a:lnTo>
                    <a:lnTo>
                      <a:pt x="77" y="1689"/>
                    </a:lnTo>
                    <a:lnTo>
                      <a:pt x="89" y="1647"/>
                    </a:lnTo>
                    <a:lnTo>
                      <a:pt x="96" y="1612"/>
                    </a:lnTo>
                    <a:lnTo>
                      <a:pt x="103" y="1581"/>
                    </a:lnTo>
                    <a:lnTo>
                      <a:pt x="106" y="1552"/>
                    </a:lnTo>
                    <a:lnTo>
                      <a:pt x="107" y="1527"/>
                    </a:lnTo>
                    <a:lnTo>
                      <a:pt x="108" y="1505"/>
                    </a:lnTo>
                    <a:lnTo>
                      <a:pt x="107" y="1484"/>
                    </a:lnTo>
                    <a:lnTo>
                      <a:pt x="105" y="1465"/>
                    </a:lnTo>
                    <a:lnTo>
                      <a:pt x="101" y="1428"/>
                    </a:lnTo>
                    <a:lnTo>
                      <a:pt x="96" y="1390"/>
                    </a:lnTo>
                    <a:lnTo>
                      <a:pt x="95" y="1369"/>
                    </a:lnTo>
                    <a:lnTo>
                      <a:pt x="95" y="1346"/>
                    </a:lnTo>
                    <a:lnTo>
                      <a:pt x="96" y="1320"/>
                    </a:lnTo>
                    <a:lnTo>
                      <a:pt x="99" y="1291"/>
                    </a:lnTo>
                    <a:lnTo>
                      <a:pt x="109" y="1227"/>
                    </a:lnTo>
                    <a:lnTo>
                      <a:pt x="121" y="1163"/>
                    </a:lnTo>
                    <a:lnTo>
                      <a:pt x="134" y="1098"/>
                    </a:lnTo>
                    <a:lnTo>
                      <a:pt x="146" y="1032"/>
                    </a:lnTo>
                    <a:lnTo>
                      <a:pt x="158" y="964"/>
                    </a:lnTo>
                    <a:lnTo>
                      <a:pt x="168" y="896"/>
                    </a:lnTo>
                    <a:lnTo>
                      <a:pt x="171" y="861"/>
                    </a:lnTo>
                    <a:lnTo>
                      <a:pt x="174" y="827"/>
                    </a:lnTo>
                    <a:lnTo>
                      <a:pt x="175" y="792"/>
                    </a:lnTo>
                    <a:lnTo>
                      <a:pt x="176" y="758"/>
                    </a:lnTo>
                    <a:lnTo>
                      <a:pt x="176" y="722"/>
                    </a:lnTo>
                    <a:lnTo>
                      <a:pt x="177" y="688"/>
                    </a:lnTo>
                    <a:lnTo>
                      <a:pt x="179" y="656"/>
                    </a:lnTo>
                    <a:lnTo>
                      <a:pt x="183" y="625"/>
                    </a:lnTo>
                    <a:lnTo>
                      <a:pt x="186" y="594"/>
                    </a:lnTo>
                    <a:lnTo>
                      <a:pt x="189" y="564"/>
                    </a:lnTo>
                    <a:lnTo>
                      <a:pt x="193" y="534"/>
                    </a:lnTo>
                    <a:lnTo>
                      <a:pt x="199" y="504"/>
                    </a:lnTo>
                    <a:lnTo>
                      <a:pt x="211" y="442"/>
                    </a:lnTo>
                    <a:lnTo>
                      <a:pt x="224" y="378"/>
                    </a:lnTo>
                    <a:lnTo>
                      <a:pt x="239" y="310"/>
                    </a:lnTo>
                    <a:lnTo>
                      <a:pt x="255" y="236"/>
                    </a:lnTo>
                    <a:lnTo>
                      <a:pt x="256" y="232"/>
                    </a:lnTo>
                    <a:lnTo>
                      <a:pt x="258" y="220"/>
                    </a:lnTo>
                    <a:lnTo>
                      <a:pt x="261" y="199"/>
                    </a:lnTo>
                    <a:lnTo>
                      <a:pt x="267" y="173"/>
                    </a:lnTo>
                    <a:lnTo>
                      <a:pt x="273" y="139"/>
                    </a:lnTo>
                    <a:lnTo>
                      <a:pt x="280" y="99"/>
                    </a:lnTo>
                    <a:lnTo>
                      <a:pt x="288" y="52"/>
                    </a:lnTo>
                    <a:lnTo>
                      <a:pt x="297" y="0"/>
                    </a:lnTo>
                    <a:lnTo>
                      <a:pt x="554" y="589"/>
                    </a:lnTo>
                    <a:lnTo>
                      <a:pt x="552" y="606"/>
                    </a:lnTo>
                    <a:lnTo>
                      <a:pt x="550" y="621"/>
                    </a:lnTo>
                    <a:lnTo>
                      <a:pt x="546" y="636"/>
                    </a:lnTo>
                    <a:lnTo>
                      <a:pt x="542" y="648"/>
                    </a:lnTo>
                    <a:lnTo>
                      <a:pt x="537" y="660"/>
                    </a:lnTo>
                    <a:lnTo>
                      <a:pt x="532" y="670"/>
                    </a:lnTo>
                    <a:lnTo>
                      <a:pt x="526" y="680"/>
                    </a:lnTo>
                    <a:lnTo>
                      <a:pt x="519" y="688"/>
                    </a:lnTo>
                    <a:lnTo>
                      <a:pt x="511" y="696"/>
                    </a:lnTo>
                    <a:lnTo>
                      <a:pt x="502" y="704"/>
                    </a:lnTo>
                    <a:lnTo>
                      <a:pt x="494" y="710"/>
                    </a:lnTo>
                    <a:lnTo>
                      <a:pt x="483" y="718"/>
                    </a:lnTo>
                    <a:lnTo>
                      <a:pt x="460" y="731"/>
                    </a:lnTo>
                    <a:lnTo>
                      <a:pt x="433" y="745"/>
                    </a:lnTo>
                    <a:lnTo>
                      <a:pt x="429" y="747"/>
                    </a:lnTo>
                    <a:lnTo>
                      <a:pt x="426" y="751"/>
                    </a:lnTo>
                    <a:lnTo>
                      <a:pt x="422" y="754"/>
                    </a:lnTo>
                    <a:lnTo>
                      <a:pt x="419" y="760"/>
                    </a:lnTo>
                    <a:lnTo>
                      <a:pt x="414" y="771"/>
                    </a:lnTo>
                    <a:lnTo>
                      <a:pt x="408" y="785"/>
                    </a:lnTo>
                    <a:lnTo>
                      <a:pt x="400" y="816"/>
                    </a:lnTo>
                    <a:lnTo>
                      <a:pt x="391" y="848"/>
                    </a:lnTo>
                    <a:lnTo>
                      <a:pt x="386" y="864"/>
                    </a:lnTo>
                    <a:lnTo>
                      <a:pt x="381" y="880"/>
                    </a:lnTo>
                    <a:lnTo>
                      <a:pt x="375" y="894"/>
                    </a:lnTo>
                    <a:lnTo>
                      <a:pt x="368" y="906"/>
                    </a:lnTo>
                    <a:lnTo>
                      <a:pt x="365" y="910"/>
                    </a:lnTo>
                    <a:lnTo>
                      <a:pt x="362" y="914"/>
                    </a:lnTo>
                    <a:lnTo>
                      <a:pt x="358" y="918"/>
                    </a:lnTo>
                    <a:lnTo>
                      <a:pt x="353" y="921"/>
                    </a:lnTo>
                    <a:lnTo>
                      <a:pt x="348" y="923"/>
                    </a:lnTo>
                    <a:lnTo>
                      <a:pt x="344" y="924"/>
                    </a:lnTo>
                    <a:lnTo>
                      <a:pt x="338" y="924"/>
                    </a:lnTo>
                    <a:lnTo>
                      <a:pt x="332" y="923"/>
                    </a:lnTo>
                    <a:lnTo>
                      <a:pt x="324" y="967"/>
                    </a:lnTo>
                    <a:lnTo>
                      <a:pt x="319" y="1012"/>
                    </a:lnTo>
                    <a:lnTo>
                      <a:pt x="313" y="1060"/>
                    </a:lnTo>
                    <a:lnTo>
                      <a:pt x="308" y="1109"/>
                    </a:lnTo>
                    <a:lnTo>
                      <a:pt x="305" y="1132"/>
                    </a:lnTo>
                    <a:lnTo>
                      <a:pt x="300" y="1156"/>
                    </a:lnTo>
                    <a:lnTo>
                      <a:pt x="296" y="1180"/>
                    </a:lnTo>
                    <a:lnTo>
                      <a:pt x="292" y="1203"/>
                    </a:lnTo>
                    <a:lnTo>
                      <a:pt x="285" y="1225"/>
                    </a:lnTo>
                    <a:lnTo>
                      <a:pt x="278" y="1247"/>
                    </a:lnTo>
                    <a:lnTo>
                      <a:pt x="270" y="1268"/>
                    </a:lnTo>
                    <a:lnTo>
                      <a:pt x="260" y="1289"/>
                    </a:lnTo>
                    <a:lnTo>
                      <a:pt x="254" y="1302"/>
                    </a:lnTo>
                    <a:lnTo>
                      <a:pt x="250" y="1315"/>
                    </a:lnTo>
                    <a:lnTo>
                      <a:pt x="245" y="1328"/>
                    </a:lnTo>
                    <a:lnTo>
                      <a:pt x="243" y="1341"/>
                    </a:lnTo>
                    <a:lnTo>
                      <a:pt x="241" y="1355"/>
                    </a:lnTo>
                    <a:lnTo>
                      <a:pt x="240" y="1368"/>
                    </a:lnTo>
                    <a:lnTo>
                      <a:pt x="240" y="1382"/>
                    </a:lnTo>
                    <a:lnTo>
                      <a:pt x="240" y="1395"/>
                    </a:lnTo>
                    <a:lnTo>
                      <a:pt x="243" y="1422"/>
                    </a:lnTo>
                    <a:lnTo>
                      <a:pt x="247" y="1449"/>
                    </a:lnTo>
                    <a:lnTo>
                      <a:pt x="252" y="1476"/>
                    </a:lnTo>
                    <a:lnTo>
                      <a:pt x="258" y="1503"/>
                    </a:lnTo>
                    <a:lnTo>
                      <a:pt x="263" y="1529"/>
                    </a:lnTo>
                    <a:lnTo>
                      <a:pt x="267" y="1554"/>
                    </a:lnTo>
                    <a:lnTo>
                      <a:pt x="268" y="1566"/>
                    </a:lnTo>
                    <a:lnTo>
                      <a:pt x="268" y="1578"/>
                    </a:lnTo>
                    <a:lnTo>
                      <a:pt x="269" y="1590"/>
                    </a:lnTo>
                    <a:lnTo>
                      <a:pt x="268" y="1602"/>
                    </a:lnTo>
                    <a:lnTo>
                      <a:pt x="266" y="1614"/>
                    </a:lnTo>
                    <a:lnTo>
                      <a:pt x="264" y="1625"/>
                    </a:lnTo>
                    <a:lnTo>
                      <a:pt x="260" y="1636"/>
                    </a:lnTo>
                    <a:lnTo>
                      <a:pt x="256" y="1646"/>
                    </a:lnTo>
                    <a:lnTo>
                      <a:pt x="251" y="1657"/>
                    </a:lnTo>
                    <a:lnTo>
                      <a:pt x="243" y="1667"/>
                    </a:lnTo>
                    <a:lnTo>
                      <a:pt x="236" y="1677"/>
                    </a:lnTo>
                    <a:lnTo>
                      <a:pt x="226" y="1686"/>
                    </a:lnTo>
                    <a:close/>
                  </a:path>
                </a:pathLst>
              </a:custGeom>
              <a:solidFill>
                <a:srgbClr val="5981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5261040" y="3741840"/>
                <a:ext cx="176040" cy="635040"/>
              </a:xfrm>
              <a:custGeom>
                <a:avLst/>
                <a:gdLst/>
                <a:ahLst/>
                <a:rect l="l" t="t" r="r" b="b"/>
                <a:pathLst>
                  <a:path w="554" h="2001">
                    <a:moveTo>
                      <a:pt x="203" y="1667"/>
                    </a:moveTo>
                    <a:lnTo>
                      <a:pt x="168" y="1699"/>
                    </a:lnTo>
                    <a:lnTo>
                      <a:pt x="135" y="1732"/>
                    </a:lnTo>
                    <a:lnTo>
                      <a:pt x="120" y="1748"/>
                    </a:lnTo>
                    <a:lnTo>
                      <a:pt x="106" y="1764"/>
                    </a:lnTo>
                    <a:lnTo>
                      <a:pt x="93" y="1781"/>
                    </a:lnTo>
                    <a:lnTo>
                      <a:pt x="80" y="1800"/>
                    </a:lnTo>
                    <a:lnTo>
                      <a:pt x="67" y="1819"/>
                    </a:lnTo>
                    <a:lnTo>
                      <a:pt x="56" y="1840"/>
                    </a:lnTo>
                    <a:lnTo>
                      <a:pt x="45" y="1862"/>
                    </a:lnTo>
                    <a:lnTo>
                      <a:pt x="35" y="1886"/>
                    </a:lnTo>
                    <a:lnTo>
                      <a:pt x="26" y="1911"/>
                    </a:lnTo>
                    <a:lnTo>
                      <a:pt x="16" y="1939"/>
                    </a:lnTo>
                    <a:lnTo>
                      <a:pt x="9" y="1968"/>
                    </a:lnTo>
                    <a:lnTo>
                      <a:pt x="0" y="2001"/>
                    </a:lnTo>
                    <a:lnTo>
                      <a:pt x="10" y="1959"/>
                    </a:lnTo>
                    <a:lnTo>
                      <a:pt x="20" y="1917"/>
                    </a:lnTo>
                    <a:lnTo>
                      <a:pt x="29" y="1876"/>
                    </a:lnTo>
                    <a:lnTo>
                      <a:pt x="39" y="1836"/>
                    </a:lnTo>
                    <a:lnTo>
                      <a:pt x="49" y="1798"/>
                    </a:lnTo>
                    <a:lnTo>
                      <a:pt x="58" y="1760"/>
                    </a:lnTo>
                    <a:lnTo>
                      <a:pt x="68" y="1723"/>
                    </a:lnTo>
                    <a:lnTo>
                      <a:pt x="77" y="1689"/>
                    </a:lnTo>
                    <a:lnTo>
                      <a:pt x="89" y="1647"/>
                    </a:lnTo>
                    <a:lnTo>
                      <a:pt x="96" y="1612"/>
                    </a:lnTo>
                    <a:lnTo>
                      <a:pt x="103" y="1581"/>
                    </a:lnTo>
                    <a:lnTo>
                      <a:pt x="106" y="1552"/>
                    </a:lnTo>
                    <a:lnTo>
                      <a:pt x="107" y="1527"/>
                    </a:lnTo>
                    <a:lnTo>
                      <a:pt x="108" y="1505"/>
                    </a:lnTo>
                    <a:lnTo>
                      <a:pt x="107" y="1484"/>
                    </a:lnTo>
                    <a:lnTo>
                      <a:pt x="105" y="1465"/>
                    </a:lnTo>
                    <a:lnTo>
                      <a:pt x="101" y="1428"/>
                    </a:lnTo>
                    <a:lnTo>
                      <a:pt x="96" y="1390"/>
                    </a:lnTo>
                    <a:lnTo>
                      <a:pt x="95" y="1369"/>
                    </a:lnTo>
                    <a:lnTo>
                      <a:pt x="95" y="1346"/>
                    </a:lnTo>
                    <a:lnTo>
                      <a:pt x="96" y="1320"/>
                    </a:lnTo>
                    <a:lnTo>
                      <a:pt x="99" y="1291"/>
                    </a:lnTo>
                    <a:lnTo>
                      <a:pt x="109" y="1227"/>
                    </a:lnTo>
                    <a:lnTo>
                      <a:pt x="121" y="1163"/>
                    </a:lnTo>
                    <a:lnTo>
                      <a:pt x="134" y="1098"/>
                    </a:lnTo>
                    <a:lnTo>
                      <a:pt x="146" y="1032"/>
                    </a:lnTo>
                    <a:lnTo>
                      <a:pt x="158" y="964"/>
                    </a:lnTo>
                    <a:lnTo>
                      <a:pt x="168" y="896"/>
                    </a:lnTo>
                    <a:lnTo>
                      <a:pt x="171" y="861"/>
                    </a:lnTo>
                    <a:lnTo>
                      <a:pt x="174" y="827"/>
                    </a:lnTo>
                    <a:lnTo>
                      <a:pt x="175" y="792"/>
                    </a:lnTo>
                    <a:lnTo>
                      <a:pt x="176" y="758"/>
                    </a:lnTo>
                    <a:lnTo>
                      <a:pt x="176" y="722"/>
                    </a:lnTo>
                    <a:lnTo>
                      <a:pt x="177" y="688"/>
                    </a:lnTo>
                    <a:lnTo>
                      <a:pt x="179" y="656"/>
                    </a:lnTo>
                    <a:lnTo>
                      <a:pt x="183" y="625"/>
                    </a:lnTo>
                    <a:lnTo>
                      <a:pt x="186" y="594"/>
                    </a:lnTo>
                    <a:lnTo>
                      <a:pt x="189" y="564"/>
                    </a:lnTo>
                    <a:lnTo>
                      <a:pt x="193" y="534"/>
                    </a:lnTo>
                    <a:lnTo>
                      <a:pt x="199" y="504"/>
                    </a:lnTo>
                    <a:lnTo>
                      <a:pt x="211" y="442"/>
                    </a:lnTo>
                    <a:lnTo>
                      <a:pt x="224" y="378"/>
                    </a:lnTo>
                    <a:lnTo>
                      <a:pt x="239" y="310"/>
                    </a:lnTo>
                    <a:lnTo>
                      <a:pt x="255" y="236"/>
                    </a:lnTo>
                    <a:lnTo>
                      <a:pt x="256" y="232"/>
                    </a:lnTo>
                    <a:lnTo>
                      <a:pt x="258" y="220"/>
                    </a:lnTo>
                    <a:lnTo>
                      <a:pt x="261" y="199"/>
                    </a:lnTo>
                    <a:lnTo>
                      <a:pt x="267" y="173"/>
                    </a:lnTo>
                    <a:lnTo>
                      <a:pt x="273" y="139"/>
                    </a:lnTo>
                    <a:lnTo>
                      <a:pt x="280" y="99"/>
                    </a:lnTo>
                    <a:lnTo>
                      <a:pt x="288" y="52"/>
                    </a:lnTo>
                    <a:lnTo>
                      <a:pt x="297" y="0"/>
                    </a:lnTo>
                    <a:lnTo>
                      <a:pt x="554" y="589"/>
                    </a:lnTo>
                    <a:lnTo>
                      <a:pt x="552" y="605"/>
                    </a:lnTo>
                    <a:lnTo>
                      <a:pt x="548" y="619"/>
                    </a:lnTo>
                    <a:lnTo>
                      <a:pt x="545" y="625"/>
                    </a:lnTo>
                    <a:lnTo>
                      <a:pt x="542" y="630"/>
                    </a:lnTo>
                    <a:lnTo>
                      <a:pt x="539" y="636"/>
                    </a:lnTo>
                    <a:lnTo>
                      <a:pt x="535" y="639"/>
                    </a:lnTo>
                    <a:lnTo>
                      <a:pt x="527" y="646"/>
                    </a:lnTo>
                    <a:lnTo>
                      <a:pt x="518" y="652"/>
                    </a:lnTo>
                    <a:lnTo>
                      <a:pt x="508" y="655"/>
                    </a:lnTo>
                    <a:lnTo>
                      <a:pt x="497" y="658"/>
                    </a:lnTo>
                    <a:lnTo>
                      <a:pt x="472" y="663"/>
                    </a:lnTo>
                    <a:lnTo>
                      <a:pt x="445" y="667"/>
                    </a:lnTo>
                    <a:lnTo>
                      <a:pt x="432" y="670"/>
                    </a:lnTo>
                    <a:lnTo>
                      <a:pt x="417" y="673"/>
                    </a:lnTo>
                    <a:lnTo>
                      <a:pt x="403" y="679"/>
                    </a:lnTo>
                    <a:lnTo>
                      <a:pt x="389" y="685"/>
                    </a:lnTo>
                    <a:lnTo>
                      <a:pt x="385" y="688"/>
                    </a:lnTo>
                    <a:lnTo>
                      <a:pt x="381" y="692"/>
                    </a:lnTo>
                    <a:lnTo>
                      <a:pt x="378" y="697"/>
                    </a:lnTo>
                    <a:lnTo>
                      <a:pt x="376" y="702"/>
                    </a:lnTo>
                    <a:lnTo>
                      <a:pt x="371" y="717"/>
                    </a:lnTo>
                    <a:lnTo>
                      <a:pt x="366" y="734"/>
                    </a:lnTo>
                    <a:lnTo>
                      <a:pt x="359" y="772"/>
                    </a:lnTo>
                    <a:lnTo>
                      <a:pt x="352" y="814"/>
                    </a:lnTo>
                    <a:lnTo>
                      <a:pt x="349" y="834"/>
                    </a:lnTo>
                    <a:lnTo>
                      <a:pt x="345" y="854"/>
                    </a:lnTo>
                    <a:lnTo>
                      <a:pt x="340" y="872"/>
                    </a:lnTo>
                    <a:lnTo>
                      <a:pt x="335" y="887"/>
                    </a:lnTo>
                    <a:lnTo>
                      <a:pt x="332" y="894"/>
                    </a:lnTo>
                    <a:lnTo>
                      <a:pt x="328" y="899"/>
                    </a:lnTo>
                    <a:lnTo>
                      <a:pt x="324" y="904"/>
                    </a:lnTo>
                    <a:lnTo>
                      <a:pt x="320" y="909"/>
                    </a:lnTo>
                    <a:lnTo>
                      <a:pt x="316" y="911"/>
                    </a:lnTo>
                    <a:lnTo>
                      <a:pt x="311" y="913"/>
                    </a:lnTo>
                    <a:lnTo>
                      <a:pt x="306" y="913"/>
                    </a:lnTo>
                    <a:lnTo>
                      <a:pt x="299" y="913"/>
                    </a:lnTo>
                    <a:lnTo>
                      <a:pt x="293" y="956"/>
                    </a:lnTo>
                    <a:lnTo>
                      <a:pt x="287" y="1004"/>
                    </a:lnTo>
                    <a:lnTo>
                      <a:pt x="282" y="1052"/>
                    </a:lnTo>
                    <a:lnTo>
                      <a:pt x="277" y="1103"/>
                    </a:lnTo>
                    <a:lnTo>
                      <a:pt x="273" y="1128"/>
                    </a:lnTo>
                    <a:lnTo>
                      <a:pt x="270" y="1153"/>
                    </a:lnTo>
                    <a:lnTo>
                      <a:pt x="266" y="1178"/>
                    </a:lnTo>
                    <a:lnTo>
                      <a:pt x="260" y="1201"/>
                    </a:lnTo>
                    <a:lnTo>
                      <a:pt x="254" y="1225"/>
                    </a:lnTo>
                    <a:lnTo>
                      <a:pt x="246" y="1248"/>
                    </a:lnTo>
                    <a:lnTo>
                      <a:pt x="238" y="1271"/>
                    </a:lnTo>
                    <a:lnTo>
                      <a:pt x="228" y="1291"/>
                    </a:lnTo>
                    <a:lnTo>
                      <a:pt x="222" y="1304"/>
                    </a:lnTo>
                    <a:lnTo>
                      <a:pt x="217" y="1317"/>
                    </a:lnTo>
                    <a:lnTo>
                      <a:pt x="214" y="1330"/>
                    </a:lnTo>
                    <a:lnTo>
                      <a:pt x="211" y="1343"/>
                    </a:lnTo>
                    <a:lnTo>
                      <a:pt x="210" y="1356"/>
                    </a:lnTo>
                    <a:lnTo>
                      <a:pt x="209" y="1369"/>
                    </a:lnTo>
                    <a:lnTo>
                      <a:pt x="209" y="1382"/>
                    </a:lnTo>
                    <a:lnTo>
                      <a:pt x="210" y="1394"/>
                    </a:lnTo>
                    <a:lnTo>
                      <a:pt x="213" y="1420"/>
                    </a:lnTo>
                    <a:lnTo>
                      <a:pt x="218" y="1444"/>
                    </a:lnTo>
                    <a:lnTo>
                      <a:pt x="224" y="1469"/>
                    </a:lnTo>
                    <a:lnTo>
                      <a:pt x="230" y="1494"/>
                    </a:lnTo>
                    <a:lnTo>
                      <a:pt x="237" y="1518"/>
                    </a:lnTo>
                    <a:lnTo>
                      <a:pt x="241" y="1541"/>
                    </a:lnTo>
                    <a:lnTo>
                      <a:pt x="243" y="1552"/>
                    </a:lnTo>
                    <a:lnTo>
                      <a:pt x="244" y="1563"/>
                    </a:lnTo>
                    <a:lnTo>
                      <a:pt x="244" y="1575"/>
                    </a:lnTo>
                    <a:lnTo>
                      <a:pt x="244" y="1586"/>
                    </a:lnTo>
                    <a:lnTo>
                      <a:pt x="243" y="1597"/>
                    </a:lnTo>
                    <a:lnTo>
                      <a:pt x="241" y="1608"/>
                    </a:lnTo>
                    <a:lnTo>
                      <a:pt x="238" y="1617"/>
                    </a:lnTo>
                    <a:lnTo>
                      <a:pt x="233" y="1628"/>
                    </a:lnTo>
                    <a:lnTo>
                      <a:pt x="228" y="1638"/>
                    </a:lnTo>
                    <a:lnTo>
                      <a:pt x="222" y="1647"/>
                    </a:lnTo>
                    <a:lnTo>
                      <a:pt x="213" y="1657"/>
                    </a:lnTo>
                    <a:lnTo>
                      <a:pt x="203" y="1667"/>
                    </a:lnTo>
                    <a:close/>
                  </a:path>
                </a:pathLst>
              </a:custGeom>
              <a:solidFill>
                <a:srgbClr val="57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5261040" y="3741840"/>
                <a:ext cx="176040" cy="635040"/>
              </a:xfrm>
              <a:custGeom>
                <a:avLst/>
                <a:gdLst/>
                <a:ahLst/>
                <a:rect l="l" t="t" r="r" b="b"/>
                <a:pathLst>
                  <a:path w="554" h="2001">
                    <a:moveTo>
                      <a:pt x="182" y="1646"/>
                    </a:moveTo>
                    <a:lnTo>
                      <a:pt x="163" y="1664"/>
                    </a:lnTo>
                    <a:lnTo>
                      <a:pt x="147" y="1680"/>
                    </a:lnTo>
                    <a:lnTo>
                      <a:pt x="131" y="1697"/>
                    </a:lnTo>
                    <a:lnTo>
                      <a:pt x="117" y="1714"/>
                    </a:lnTo>
                    <a:lnTo>
                      <a:pt x="104" y="1733"/>
                    </a:lnTo>
                    <a:lnTo>
                      <a:pt x="91" y="1751"/>
                    </a:lnTo>
                    <a:lnTo>
                      <a:pt x="79" y="1771"/>
                    </a:lnTo>
                    <a:lnTo>
                      <a:pt x="68" y="1790"/>
                    </a:lnTo>
                    <a:lnTo>
                      <a:pt x="58" y="1812"/>
                    </a:lnTo>
                    <a:lnTo>
                      <a:pt x="49" y="1834"/>
                    </a:lnTo>
                    <a:lnTo>
                      <a:pt x="40" y="1857"/>
                    </a:lnTo>
                    <a:lnTo>
                      <a:pt x="31" y="1883"/>
                    </a:lnTo>
                    <a:lnTo>
                      <a:pt x="24" y="1909"/>
                    </a:lnTo>
                    <a:lnTo>
                      <a:pt x="15" y="1938"/>
                    </a:lnTo>
                    <a:lnTo>
                      <a:pt x="8" y="1968"/>
                    </a:lnTo>
                    <a:lnTo>
                      <a:pt x="0" y="2001"/>
                    </a:lnTo>
                    <a:lnTo>
                      <a:pt x="10" y="1959"/>
                    </a:lnTo>
                    <a:lnTo>
                      <a:pt x="20" y="1917"/>
                    </a:lnTo>
                    <a:lnTo>
                      <a:pt x="29" y="1876"/>
                    </a:lnTo>
                    <a:lnTo>
                      <a:pt x="39" y="1836"/>
                    </a:lnTo>
                    <a:lnTo>
                      <a:pt x="49" y="1798"/>
                    </a:lnTo>
                    <a:lnTo>
                      <a:pt x="58" y="1760"/>
                    </a:lnTo>
                    <a:lnTo>
                      <a:pt x="68" y="1723"/>
                    </a:lnTo>
                    <a:lnTo>
                      <a:pt x="77" y="1689"/>
                    </a:lnTo>
                    <a:lnTo>
                      <a:pt x="89" y="1647"/>
                    </a:lnTo>
                    <a:lnTo>
                      <a:pt x="96" y="1612"/>
                    </a:lnTo>
                    <a:lnTo>
                      <a:pt x="103" y="1581"/>
                    </a:lnTo>
                    <a:lnTo>
                      <a:pt x="106" y="1552"/>
                    </a:lnTo>
                    <a:lnTo>
                      <a:pt x="107" y="1527"/>
                    </a:lnTo>
                    <a:lnTo>
                      <a:pt x="108" y="1505"/>
                    </a:lnTo>
                    <a:lnTo>
                      <a:pt x="107" y="1484"/>
                    </a:lnTo>
                    <a:lnTo>
                      <a:pt x="105" y="1465"/>
                    </a:lnTo>
                    <a:lnTo>
                      <a:pt x="101" y="1428"/>
                    </a:lnTo>
                    <a:lnTo>
                      <a:pt x="96" y="1390"/>
                    </a:lnTo>
                    <a:lnTo>
                      <a:pt x="95" y="1369"/>
                    </a:lnTo>
                    <a:lnTo>
                      <a:pt x="95" y="1346"/>
                    </a:lnTo>
                    <a:lnTo>
                      <a:pt x="96" y="1320"/>
                    </a:lnTo>
                    <a:lnTo>
                      <a:pt x="99" y="1291"/>
                    </a:lnTo>
                    <a:lnTo>
                      <a:pt x="109" y="1227"/>
                    </a:lnTo>
                    <a:lnTo>
                      <a:pt x="121" y="1163"/>
                    </a:lnTo>
                    <a:lnTo>
                      <a:pt x="134" y="1098"/>
                    </a:lnTo>
                    <a:lnTo>
                      <a:pt x="146" y="1032"/>
                    </a:lnTo>
                    <a:lnTo>
                      <a:pt x="158" y="964"/>
                    </a:lnTo>
                    <a:lnTo>
                      <a:pt x="168" y="896"/>
                    </a:lnTo>
                    <a:lnTo>
                      <a:pt x="171" y="861"/>
                    </a:lnTo>
                    <a:lnTo>
                      <a:pt x="174" y="827"/>
                    </a:lnTo>
                    <a:lnTo>
                      <a:pt x="175" y="792"/>
                    </a:lnTo>
                    <a:lnTo>
                      <a:pt x="176" y="758"/>
                    </a:lnTo>
                    <a:lnTo>
                      <a:pt x="176" y="722"/>
                    </a:lnTo>
                    <a:lnTo>
                      <a:pt x="177" y="688"/>
                    </a:lnTo>
                    <a:lnTo>
                      <a:pt x="179" y="656"/>
                    </a:lnTo>
                    <a:lnTo>
                      <a:pt x="183" y="625"/>
                    </a:lnTo>
                    <a:lnTo>
                      <a:pt x="186" y="594"/>
                    </a:lnTo>
                    <a:lnTo>
                      <a:pt x="189" y="564"/>
                    </a:lnTo>
                    <a:lnTo>
                      <a:pt x="193" y="534"/>
                    </a:lnTo>
                    <a:lnTo>
                      <a:pt x="199" y="504"/>
                    </a:lnTo>
                    <a:lnTo>
                      <a:pt x="211" y="442"/>
                    </a:lnTo>
                    <a:lnTo>
                      <a:pt x="224" y="378"/>
                    </a:lnTo>
                    <a:lnTo>
                      <a:pt x="239" y="310"/>
                    </a:lnTo>
                    <a:lnTo>
                      <a:pt x="255" y="236"/>
                    </a:lnTo>
                    <a:lnTo>
                      <a:pt x="256" y="232"/>
                    </a:lnTo>
                    <a:lnTo>
                      <a:pt x="258" y="220"/>
                    </a:lnTo>
                    <a:lnTo>
                      <a:pt x="261" y="199"/>
                    </a:lnTo>
                    <a:lnTo>
                      <a:pt x="267" y="173"/>
                    </a:lnTo>
                    <a:lnTo>
                      <a:pt x="273" y="139"/>
                    </a:lnTo>
                    <a:lnTo>
                      <a:pt x="280" y="99"/>
                    </a:lnTo>
                    <a:lnTo>
                      <a:pt x="288" y="52"/>
                    </a:lnTo>
                    <a:lnTo>
                      <a:pt x="297" y="0"/>
                    </a:lnTo>
                    <a:lnTo>
                      <a:pt x="554" y="589"/>
                    </a:lnTo>
                    <a:lnTo>
                      <a:pt x="553" y="598"/>
                    </a:lnTo>
                    <a:lnTo>
                      <a:pt x="551" y="605"/>
                    </a:lnTo>
                    <a:lnTo>
                      <a:pt x="549" y="612"/>
                    </a:lnTo>
                    <a:lnTo>
                      <a:pt x="546" y="617"/>
                    </a:lnTo>
                    <a:lnTo>
                      <a:pt x="542" y="621"/>
                    </a:lnTo>
                    <a:lnTo>
                      <a:pt x="538" y="625"/>
                    </a:lnTo>
                    <a:lnTo>
                      <a:pt x="534" y="628"/>
                    </a:lnTo>
                    <a:lnTo>
                      <a:pt x="528" y="630"/>
                    </a:lnTo>
                    <a:lnTo>
                      <a:pt x="523" y="632"/>
                    </a:lnTo>
                    <a:lnTo>
                      <a:pt x="516" y="633"/>
                    </a:lnTo>
                    <a:lnTo>
                      <a:pt x="510" y="633"/>
                    </a:lnTo>
                    <a:lnTo>
                      <a:pt x="503" y="633"/>
                    </a:lnTo>
                    <a:lnTo>
                      <a:pt x="489" y="632"/>
                    </a:lnTo>
                    <a:lnTo>
                      <a:pt x="474" y="630"/>
                    </a:lnTo>
                    <a:lnTo>
                      <a:pt x="442" y="624"/>
                    </a:lnTo>
                    <a:lnTo>
                      <a:pt x="408" y="619"/>
                    </a:lnTo>
                    <a:lnTo>
                      <a:pt x="391" y="618"/>
                    </a:lnTo>
                    <a:lnTo>
                      <a:pt x="375" y="619"/>
                    </a:lnTo>
                    <a:lnTo>
                      <a:pt x="367" y="620"/>
                    </a:lnTo>
                    <a:lnTo>
                      <a:pt x="359" y="623"/>
                    </a:lnTo>
                    <a:lnTo>
                      <a:pt x="351" y="625"/>
                    </a:lnTo>
                    <a:lnTo>
                      <a:pt x="345" y="629"/>
                    </a:lnTo>
                    <a:lnTo>
                      <a:pt x="340" y="631"/>
                    </a:lnTo>
                    <a:lnTo>
                      <a:pt x="337" y="636"/>
                    </a:lnTo>
                    <a:lnTo>
                      <a:pt x="334" y="641"/>
                    </a:lnTo>
                    <a:lnTo>
                      <a:pt x="332" y="647"/>
                    </a:lnTo>
                    <a:lnTo>
                      <a:pt x="327" y="664"/>
                    </a:lnTo>
                    <a:lnTo>
                      <a:pt x="323" y="683"/>
                    </a:lnTo>
                    <a:lnTo>
                      <a:pt x="318" y="728"/>
                    </a:lnTo>
                    <a:lnTo>
                      <a:pt x="313" y="779"/>
                    </a:lnTo>
                    <a:lnTo>
                      <a:pt x="310" y="804"/>
                    </a:lnTo>
                    <a:lnTo>
                      <a:pt x="307" y="828"/>
                    </a:lnTo>
                    <a:lnTo>
                      <a:pt x="304" y="849"/>
                    </a:lnTo>
                    <a:lnTo>
                      <a:pt x="298" y="869"/>
                    </a:lnTo>
                    <a:lnTo>
                      <a:pt x="296" y="876"/>
                    </a:lnTo>
                    <a:lnTo>
                      <a:pt x="293" y="884"/>
                    </a:lnTo>
                    <a:lnTo>
                      <a:pt x="290" y="889"/>
                    </a:lnTo>
                    <a:lnTo>
                      <a:pt x="285" y="895"/>
                    </a:lnTo>
                    <a:lnTo>
                      <a:pt x="281" y="898"/>
                    </a:lnTo>
                    <a:lnTo>
                      <a:pt x="277" y="900"/>
                    </a:lnTo>
                    <a:lnTo>
                      <a:pt x="271" y="901"/>
                    </a:lnTo>
                    <a:lnTo>
                      <a:pt x="265" y="900"/>
                    </a:lnTo>
                    <a:lnTo>
                      <a:pt x="261" y="923"/>
                    </a:lnTo>
                    <a:lnTo>
                      <a:pt x="258" y="945"/>
                    </a:lnTo>
                    <a:lnTo>
                      <a:pt x="255" y="969"/>
                    </a:lnTo>
                    <a:lnTo>
                      <a:pt x="253" y="994"/>
                    </a:lnTo>
                    <a:lnTo>
                      <a:pt x="249" y="1046"/>
                    </a:lnTo>
                    <a:lnTo>
                      <a:pt x="244" y="1099"/>
                    </a:lnTo>
                    <a:lnTo>
                      <a:pt x="241" y="1125"/>
                    </a:lnTo>
                    <a:lnTo>
                      <a:pt x="238" y="1152"/>
                    </a:lnTo>
                    <a:lnTo>
                      <a:pt x="233" y="1177"/>
                    </a:lnTo>
                    <a:lnTo>
                      <a:pt x="229" y="1203"/>
                    </a:lnTo>
                    <a:lnTo>
                      <a:pt x="223" y="1226"/>
                    </a:lnTo>
                    <a:lnTo>
                      <a:pt x="216" y="1250"/>
                    </a:lnTo>
                    <a:lnTo>
                      <a:pt x="207" y="1273"/>
                    </a:lnTo>
                    <a:lnTo>
                      <a:pt x="199" y="1293"/>
                    </a:lnTo>
                    <a:lnTo>
                      <a:pt x="192" y="1306"/>
                    </a:lnTo>
                    <a:lnTo>
                      <a:pt x="188" y="1319"/>
                    </a:lnTo>
                    <a:lnTo>
                      <a:pt x="184" y="1332"/>
                    </a:lnTo>
                    <a:lnTo>
                      <a:pt x="182" y="1344"/>
                    </a:lnTo>
                    <a:lnTo>
                      <a:pt x="180" y="1357"/>
                    </a:lnTo>
                    <a:lnTo>
                      <a:pt x="179" y="1369"/>
                    </a:lnTo>
                    <a:lnTo>
                      <a:pt x="180" y="1381"/>
                    </a:lnTo>
                    <a:lnTo>
                      <a:pt x="182" y="1394"/>
                    </a:lnTo>
                    <a:lnTo>
                      <a:pt x="185" y="1416"/>
                    </a:lnTo>
                    <a:lnTo>
                      <a:pt x="191" y="1440"/>
                    </a:lnTo>
                    <a:lnTo>
                      <a:pt x="198" y="1463"/>
                    </a:lnTo>
                    <a:lnTo>
                      <a:pt x="204" y="1485"/>
                    </a:lnTo>
                    <a:lnTo>
                      <a:pt x="211" y="1507"/>
                    </a:lnTo>
                    <a:lnTo>
                      <a:pt x="216" y="1528"/>
                    </a:lnTo>
                    <a:lnTo>
                      <a:pt x="218" y="1538"/>
                    </a:lnTo>
                    <a:lnTo>
                      <a:pt x="220" y="1549"/>
                    </a:lnTo>
                    <a:lnTo>
                      <a:pt x="220" y="1559"/>
                    </a:lnTo>
                    <a:lnTo>
                      <a:pt x="220" y="1570"/>
                    </a:lnTo>
                    <a:lnTo>
                      <a:pt x="219" y="1579"/>
                    </a:lnTo>
                    <a:lnTo>
                      <a:pt x="218" y="1589"/>
                    </a:lnTo>
                    <a:lnTo>
                      <a:pt x="215" y="1599"/>
                    </a:lnTo>
                    <a:lnTo>
                      <a:pt x="211" y="1609"/>
                    </a:lnTo>
                    <a:lnTo>
                      <a:pt x="205" y="1618"/>
                    </a:lnTo>
                    <a:lnTo>
                      <a:pt x="199" y="1628"/>
                    </a:lnTo>
                    <a:lnTo>
                      <a:pt x="190" y="1638"/>
                    </a:lnTo>
                    <a:lnTo>
                      <a:pt x="182" y="1646"/>
                    </a:lnTo>
                    <a:close/>
                  </a:path>
                </a:pathLst>
              </a:custGeom>
              <a:solidFill>
                <a:srgbClr val="577c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5261040" y="3741840"/>
                <a:ext cx="176040" cy="635040"/>
              </a:xfrm>
              <a:custGeom>
                <a:avLst/>
                <a:gdLst/>
                <a:ahLst/>
                <a:rect l="l" t="t" r="r" b="b"/>
                <a:pathLst>
                  <a:path w="554" h="2001">
                    <a:moveTo>
                      <a:pt x="297" y="0"/>
                    </a:moveTo>
                    <a:lnTo>
                      <a:pt x="288" y="52"/>
                    </a:lnTo>
                    <a:lnTo>
                      <a:pt x="280" y="99"/>
                    </a:lnTo>
                    <a:lnTo>
                      <a:pt x="273" y="139"/>
                    </a:lnTo>
                    <a:lnTo>
                      <a:pt x="267" y="173"/>
                    </a:lnTo>
                    <a:lnTo>
                      <a:pt x="261" y="199"/>
                    </a:lnTo>
                    <a:lnTo>
                      <a:pt x="258" y="220"/>
                    </a:lnTo>
                    <a:lnTo>
                      <a:pt x="256" y="232"/>
                    </a:lnTo>
                    <a:lnTo>
                      <a:pt x="255" y="236"/>
                    </a:lnTo>
                    <a:lnTo>
                      <a:pt x="239" y="310"/>
                    </a:lnTo>
                    <a:lnTo>
                      <a:pt x="224" y="378"/>
                    </a:lnTo>
                    <a:lnTo>
                      <a:pt x="211" y="442"/>
                    </a:lnTo>
                    <a:lnTo>
                      <a:pt x="199" y="504"/>
                    </a:lnTo>
                    <a:lnTo>
                      <a:pt x="193" y="534"/>
                    </a:lnTo>
                    <a:lnTo>
                      <a:pt x="189" y="564"/>
                    </a:lnTo>
                    <a:lnTo>
                      <a:pt x="186" y="594"/>
                    </a:lnTo>
                    <a:lnTo>
                      <a:pt x="183" y="625"/>
                    </a:lnTo>
                    <a:lnTo>
                      <a:pt x="179" y="656"/>
                    </a:lnTo>
                    <a:lnTo>
                      <a:pt x="177" y="688"/>
                    </a:lnTo>
                    <a:lnTo>
                      <a:pt x="176" y="722"/>
                    </a:lnTo>
                    <a:lnTo>
                      <a:pt x="176" y="758"/>
                    </a:lnTo>
                    <a:lnTo>
                      <a:pt x="175" y="792"/>
                    </a:lnTo>
                    <a:lnTo>
                      <a:pt x="174" y="827"/>
                    </a:lnTo>
                    <a:lnTo>
                      <a:pt x="171" y="861"/>
                    </a:lnTo>
                    <a:lnTo>
                      <a:pt x="168" y="896"/>
                    </a:lnTo>
                    <a:lnTo>
                      <a:pt x="158" y="964"/>
                    </a:lnTo>
                    <a:lnTo>
                      <a:pt x="146" y="1032"/>
                    </a:lnTo>
                    <a:lnTo>
                      <a:pt x="134" y="1098"/>
                    </a:lnTo>
                    <a:lnTo>
                      <a:pt x="121" y="1163"/>
                    </a:lnTo>
                    <a:lnTo>
                      <a:pt x="109" y="1227"/>
                    </a:lnTo>
                    <a:lnTo>
                      <a:pt x="99" y="1291"/>
                    </a:lnTo>
                    <a:lnTo>
                      <a:pt x="96" y="1320"/>
                    </a:lnTo>
                    <a:lnTo>
                      <a:pt x="95" y="1346"/>
                    </a:lnTo>
                    <a:lnTo>
                      <a:pt x="95" y="1369"/>
                    </a:lnTo>
                    <a:lnTo>
                      <a:pt x="96" y="1390"/>
                    </a:lnTo>
                    <a:lnTo>
                      <a:pt x="101" y="1428"/>
                    </a:lnTo>
                    <a:lnTo>
                      <a:pt x="105" y="1465"/>
                    </a:lnTo>
                    <a:lnTo>
                      <a:pt x="107" y="1484"/>
                    </a:lnTo>
                    <a:lnTo>
                      <a:pt x="108" y="1505"/>
                    </a:lnTo>
                    <a:lnTo>
                      <a:pt x="107" y="1527"/>
                    </a:lnTo>
                    <a:lnTo>
                      <a:pt x="106" y="1552"/>
                    </a:lnTo>
                    <a:lnTo>
                      <a:pt x="103" y="1581"/>
                    </a:lnTo>
                    <a:lnTo>
                      <a:pt x="96" y="1612"/>
                    </a:lnTo>
                    <a:lnTo>
                      <a:pt x="89" y="1647"/>
                    </a:lnTo>
                    <a:lnTo>
                      <a:pt x="77" y="1689"/>
                    </a:lnTo>
                    <a:lnTo>
                      <a:pt x="68" y="1723"/>
                    </a:lnTo>
                    <a:lnTo>
                      <a:pt x="58" y="1760"/>
                    </a:lnTo>
                    <a:lnTo>
                      <a:pt x="49" y="1798"/>
                    </a:lnTo>
                    <a:lnTo>
                      <a:pt x="39" y="1836"/>
                    </a:lnTo>
                    <a:lnTo>
                      <a:pt x="29" y="1876"/>
                    </a:lnTo>
                    <a:lnTo>
                      <a:pt x="20" y="1917"/>
                    </a:lnTo>
                    <a:lnTo>
                      <a:pt x="10" y="1959"/>
                    </a:lnTo>
                    <a:lnTo>
                      <a:pt x="0" y="2001"/>
                    </a:lnTo>
                    <a:lnTo>
                      <a:pt x="15" y="1937"/>
                    </a:lnTo>
                    <a:lnTo>
                      <a:pt x="28" y="1880"/>
                    </a:lnTo>
                    <a:lnTo>
                      <a:pt x="35" y="1853"/>
                    </a:lnTo>
                    <a:lnTo>
                      <a:pt x="42" y="1828"/>
                    </a:lnTo>
                    <a:lnTo>
                      <a:pt x="50" y="1803"/>
                    </a:lnTo>
                    <a:lnTo>
                      <a:pt x="57" y="1780"/>
                    </a:lnTo>
                    <a:lnTo>
                      <a:pt x="66" y="1759"/>
                    </a:lnTo>
                    <a:lnTo>
                      <a:pt x="76" y="1737"/>
                    </a:lnTo>
                    <a:lnTo>
                      <a:pt x="86" y="1718"/>
                    </a:lnTo>
                    <a:lnTo>
                      <a:pt x="98" y="1698"/>
                    </a:lnTo>
                    <a:lnTo>
                      <a:pt x="111" y="1680"/>
                    </a:lnTo>
                    <a:lnTo>
                      <a:pt x="125" y="1662"/>
                    </a:lnTo>
                    <a:lnTo>
                      <a:pt x="142" y="1644"/>
                    </a:lnTo>
                    <a:lnTo>
                      <a:pt x="159" y="1627"/>
                    </a:lnTo>
                    <a:lnTo>
                      <a:pt x="169" y="1617"/>
                    </a:lnTo>
                    <a:lnTo>
                      <a:pt x="176" y="1609"/>
                    </a:lnTo>
                    <a:lnTo>
                      <a:pt x="183" y="1599"/>
                    </a:lnTo>
                    <a:lnTo>
                      <a:pt x="188" y="1589"/>
                    </a:lnTo>
                    <a:lnTo>
                      <a:pt x="192" y="1581"/>
                    </a:lnTo>
                    <a:lnTo>
                      <a:pt x="195" y="1571"/>
                    </a:lnTo>
                    <a:lnTo>
                      <a:pt x="197" y="1561"/>
                    </a:lnTo>
                    <a:lnTo>
                      <a:pt x="197" y="1552"/>
                    </a:lnTo>
                    <a:lnTo>
                      <a:pt x="197" y="1543"/>
                    </a:lnTo>
                    <a:lnTo>
                      <a:pt x="196" y="1533"/>
                    </a:lnTo>
                    <a:lnTo>
                      <a:pt x="193" y="1524"/>
                    </a:lnTo>
                    <a:lnTo>
                      <a:pt x="191" y="1515"/>
                    </a:lnTo>
                    <a:lnTo>
                      <a:pt x="185" y="1495"/>
                    </a:lnTo>
                    <a:lnTo>
                      <a:pt x="177" y="1476"/>
                    </a:lnTo>
                    <a:lnTo>
                      <a:pt x="170" y="1455"/>
                    </a:lnTo>
                    <a:lnTo>
                      <a:pt x="162" y="1435"/>
                    </a:lnTo>
                    <a:lnTo>
                      <a:pt x="156" y="1414"/>
                    </a:lnTo>
                    <a:lnTo>
                      <a:pt x="150" y="1392"/>
                    </a:lnTo>
                    <a:lnTo>
                      <a:pt x="149" y="1381"/>
                    </a:lnTo>
                    <a:lnTo>
                      <a:pt x="148" y="1369"/>
                    </a:lnTo>
                    <a:lnTo>
                      <a:pt x="149" y="1358"/>
                    </a:lnTo>
                    <a:lnTo>
                      <a:pt x="150" y="1346"/>
                    </a:lnTo>
                    <a:lnTo>
                      <a:pt x="152" y="1333"/>
                    </a:lnTo>
                    <a:lnTo>
                      <a:pt x="156" y="1321"/>
                    </a:lnTo>
                    <a:lnTo>
                      <a:pt x="160" y="1308"/>
                    </a:lnTo>
                    <a:lnTo>
                      <a:pt x="166" y="1295"/>
                    </a:lnTo>
                    <a:lnTo>
                      <a:pt x="176" y="1275"/>
                    </a:lnTo>
                    <a:lnTo>
                      <a:pt x="184" y="1252"/>
                    </a:lnTo>
                    <a:lnTo>
                      <a:pt x="190" y="1227"/>
                    </a:lnTo>
                    <a:lnTo>
                      <a:pt x="197" y="1203"/>
                    </a:lnTo>
                    <a:lnTo>
                      <a:pt x="201" y="1177"/>
                    </a:lnTo>
                    <a:lnTo>
                      <a:pt x="205" y="1150"/>
                    </a:lnTo>
                    <a:lnTo>
                      <a:pt x="209" y="1122"/>
                    </a:lnTo>
                    <a:lnTo>
                      <a:pt x="212" y="1095"/>
                    </a:lnTo>
                    <a:lnTo>
                      <a:pt x="216" y="1039"/>
                    </a:lnTo>
                    <a:lnTo>
                      <a:pt x="220" y="985"/>
                    </a:lnTo>
                    <a:lnTo>
                      <a:pt x="224" y="960"/>
                    </a:lnTo>
                    <a:lnTo>
                      <a:pt x="226" y="936"/>
                    </a:lnTo>
                    <a:lnTo>
                      <a:pt x="229" y="912"/>
                    </a:lnTo>
                    <a:lnTo>
                      <a:pt x="233" y="890"/>
                    </a:lnTo>
                    <a:lnTo>
                      <a:pt x="239" y="891"/>
                    </a:lnTo>
                    <a:lnTo>
                      <a:pt x="244" y="889"/>
                    </a:lnTo>
                    <a:lnTo>
                      <a:pt x="249" y="887"/>
                    </a:lnTo>
                    <a:lnTo>
                      <a:pt x="253" y="882"/>
                    </a:lnTo>
                    <a:lnTo>
                      <a:pt x="256" y="876"/>
                    </a:lnTo>
                    <a:lnTo>
                      <a:pt x="259" y="869"/>
                    </a:lnTo>
                    <a:lnTo>
                      <a:pt x="263" y="860"/>
                    </a:lnTo>
                    <a:lnTo>
                      <a:pt x="265" y="850"/>
                    </a:lnTo>
                    <a:lnTo>
                      <a:pt x="268" y="828"/>
                    </a:lnTo>
                    <a:lnTo>
                      <a:pt x="271" y="802"/>
                    </a:lnTo>
                    <a:lnTo>
                      <a:pt x="273" y="774"/>
                    </a:lnTo>
                    <a:lnTo>
                      <a:pt x="274" y="745"/>
                    </a:lnTo>
                    <a:lnTo>
                      <a:pt x="277" y="686"/>
                    </a:lnTo>
                    <a:lnTo>
                      <a:pt x="281" y="633"/>
                    </a:lnTo>
                    <a:lnTo>
                      <a:pt x="283" y="611"/>
                    </a:lnTo>
                    <a:lnTo>
                      <a:pt x="287" y="592"/>
                    </a:lnTo>
                    <a:lnTo>
                      <a:pt x="290" y="585"/>
                    </a:lnTo>
                    <a:lnTo>
                      <a:pt x="293" y="579"/>
                    </a:lnTo>
                    <a:lnTo>
                      <a:pt x="296" y="575"/>
                    </a:lnTo>
                    <a:lnTo>
                      <a:pt x="299" y="572"/>
                    </a:lnTo>
                    <a:lnTo>
                      <a:pt x="307" y="569"/>
                    </a:lnTo>
                    <a:lnTo>
                      <a:pt x="316" y="566"/>
                    </a:lnTo>
                    <a:lnTo>
                      <a:pt x="323" y="565"/>
                    </a:lnTo>
                    <a:lnTo>
                      <a:pt x="333" y="565"/>
                    </a:lnTo>
                    <a:lnTo>
                      <a:pt x="341" y="565"/>
                    </a:lnTo>
                    <a:lnTo>
                      <a:pt x="351" y="566"/>
                    </a:lnTo>
                    <a:lnTo>
                      <a:pt x="361" y="569"/>
                    </a:lnTo>
                    <a:lnTo>
                      <a:pt x="371" y="571"/>
                    </a:lnTo>
                    <a:lnTo>
                      <a:pt x="391" y="577"/>
                    </a:lnTo>
                    <a:lnTo>
                      <a:pt x="412" y="585"/>
                    </a:lnTo>
                    <a:lnTo>
                      <a:pt x="432" y="593"/>
                    </a:lnTo>
                    <a:lnTo>
                      <a:pt x="452" y="602"/>
                    </a:lnTo>
                    <a:lnTo>
                      <a:pt x="471" y="610"/>
                    </a:lnTo>
                    <a:lnTo>
                      <a:pt x="489" y="615"/>
                    </a:lnTo>
                    <a:lnTo>
                      <a:pt x="498" y="618"/>
                    </a:lnTo>
                    <a:lnTo>
                      <a:pt x="507" y="619"/>
                    </a:lnTo>
                    <a:lnTo>
                      <a:pt x="514" y="620"/>
                    </a:lnTo>
                    <a:lnTo>
                      <a:pt x="521" y="621"/>
                    </a:lnTo>
                    <a:lnTo>
                      <a:pt x="528" y="621"/>
                    </a:lnTo>
                    <a:lnTo>
                      <a:pt x="534" y="619"/>
                    </a:lnTo>
                    <a:lnTo>
                      <a:pt x="539" y="617"/>
                    </a:lnTo>
                    <a:lnTo>
                      <a:pt x="543" y="614"/>
                    </a:lnTo>
                    <a:lnTo>
                      <a:pt x="548" y="610"/>
                    </a:lnTo>
                    <a:lnTo>
                      <a:pt x="551" y="604"/>
                    </a:lnTo>
                    <a:lnTo>
                      <a:pt x="553" y="598"/>
                    </a:lnTo>
                    <a:lnTo>
                      <a:pt x="554" y="589"/>
                    </a:lnTo>
                    <a:lnTo>
                      <a:pt x="297" y="0"/>
                    </a:lnTo>
                    <a:close/>
                  </a:path>
                </a:pathLst>
              </a:custGeom>
              <a:solidFill>
                <a:srgbClr val="567a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5183280" y="3670200"/>
                <a:ext cx="1017360" cy="1419480"/>
              </a:xfrm>
              <a:custGeom>
                <a:avLst/>
                <a:gdLst/>
                <a:ahLst/>
                <a:rect l="l" t="t" r="r" b="b"/>
                <a:pathLst>
                  <a:path w="3204" h="4470">
                    <a:moveTo>
                      <a:pt x="553" y="186"/>
                    </a:moveTo>
                    <a:lnTo>
                      <a:pt x="542" y="245"/>
                    </a:lnTo>
                    <a:lnTo>
                      <a:pt x="532" y="299"/>
                    </a:lnTo>
                    <a:lnTo>
                      <a:pt x="524" y="345"/>
                    </a:lnTo>
                    <a:lnTo>
                      <a:pt x="517" y="385"/>
                    </a:lnTo>
                    <a:lnTo>
                      <a:pt x="511" y="417"/>
                    </a:lnTo>
                    <a:lnTo>
                      <a:pt x="507" y="440"/>
                    </a:lnTo>
                    <a:lnTo>
                      <a:pt x="504" y="455"/>
                    </a:lnTo>
                    <a:lnTo>
                      <a:pt x="503" y="460"/>
                    </a:lnTo>
                    <a:lnTo>
                      <a:pt x="487" y="534"/>
                    </a:lnTo>
                    <a:lnTo>
                      <a:pt x="472" y="602"/>
                    </a:lnTo>
                    <a:lnTo>
                      <a:pt x="459" y="666"/>
                    </a:lnTo>
                    <a:lnTo>
                      <a:pt x="447" y="728"/>
                    </a:lnTo>
                    <a:lnTo>
                      <a:pt x="441" y="758"/>
                    </a:lnTo>
                    <a:lnTo>
                      <a:pt x="437" y="788"/>
                    </a:lnTo>
                    <a:lnTo>
                      <a:pt x="434" y="818"/>
                    </a:lnTo>
                    <a:lnTo>
                      <a:pt x="431" y="849"/>
                    </a:lnTo>
                    <a:lnTo>
                      <a:pt x="427" y="880"/>
                    </a:lnTo>
                    <a:lnTo>
                      <a:pt x="425" y="912"/>
                    </a:lnTo>
                    <a:lnTo>
                      <a:pt x="424" y="946"/>
                    </a:lnTo>
                    <a:lnTo>
                      <a:pt x="424" y="982"/>
                    </a:lnTo>
                    <a:lnTo>
                      <a:pt x="423" y="1016"/>
                    </a:lnTo>
                    <a:lnTo>
                      <a:pt x="422" y="1051"/>
                    </a:lnTo>
                    <a:lnTo>
                      <a:pt x="419" y="1085"/>
                    </a:lnTo>
                    <a:lnTo>
                      <a:pt x="416" y="1120"/>
                    </a:lnTo>
                    <a:lnTo>
                      <a:pt x="406" y="1188"/>
                    </a:lnTo>
                    <a:lnTo>
                      <a:pt x="394" y="1256"/>
                    </a:lnTo>
                    <a:lnTo>
                      <a:pt x="382" y="1322"/>
                    </a:lnTo>
                    <a:lnTo>
                      <a:pt x="369" y="1387"/>
                    </a:lnTo>
                    <a:lnTo>
                      <a:pt x="357" y="1451"/>
                    </a:lnTo>
                    <a:lnTo>
                      <a:pt x="347" y="1515"/>
                    </a:lnTo>
                    <a:lnTo>
                      <a:pt x="344" y="1544"/>
                    </a:lnTo>
                    <a:lnTo>
                      <a:pt x="343" y="1570"/>
                    </a:lnTo>
                    <a:lnTo>
                      <a:pt x="343" y="1593"/>
                    </a:lnTo>
                    <a:lnTo>
                      <a:pt x="344" y="1614"/>
                    </a:lnTo>
                    <a:lnTo>
                      <a:pt x="349" y="1652"/>
                    </a:lnTo>
                    <a:lnTo>
                      <a:pt x="353" y="1689"/>
                    </a:lnTo>
                    <a:lnTo>
                      <a:pt x="355" y="1708"/>
                    </a:lnTo>
                    <a:lnTo>
                      <a:pt x="356" y="1729"/>
                    </a:lnTo>
                    <a:lnTo>
                      <a:pt x="355" y="1751"/>
                    </a:lnTo>
                    <a:lnTo>
                      <a:pt x="354" y="1776"/>
                    </a:lnTo>
                    <a:lnTo>
                      <a:pt x="351" y="1805"/>
                    </a:lnTo>
                    <a:lnTo>
                      <a:pt x="344" y="1836"/>
                    </a:lnTo>
                    <a:lnTo>
                      <a:pt x="337" y="1871"/>
                    </a:lnTo>
                    <a:lnTo>
                      <a:pt x="325" y="1913"/>
                    </a:lnTo>
                    <a:lnTo>
                      <a:pt x="300" y="2006"/>
                    </a:lnTo>
                    <a:lnTo>
                      <a:pt x="274" y="2110"/>
                    </a:lnTo>
                    <a:lnTo>
                      <a:pt x="248" y="2218"/>
                    </a:lnTo>
                    <a:lnTo>
                      <a:pt x="224" y="2327"/>
                    </a:lnTo>
                    <a:lnTo>
                      <a:pt x="203" y="2432"/>
                    </a:lnTo>
                    <a:lnTo>
                      <a:pt x="183" y="2529"/>
                    </a:lnTo>
                    <a:lnTo>
                      <a:pt x="168" y="2613"/>
                    </a:lnTo>
                    <a:lnTo>
                      <a:pt x="157" y="2681"/>
                    </a:lnTo>
                    <a:lnTo>
                      <a:pt x="154" y="2712"/>
                    </a:lnTo>
                    <a:lnTo>
                      <a:pt x="152" y="2742"/>
                    </a:lnTo>
                    <a:lnTo>
                      <a:pt x="151" y="2774"/>
                    </a:lnTo>
                    <a:lnTo>
                      <a:pt x="151" y="2807"/>
                    </a:lnTo>
                    <a:lnTo>
                      <a:pt x="153" y="2875"/>
                    </a:lnTo>
                    <a:lnTo>
                      <a:pt x="156" y="2947"/>
                    </a:lnTo>
                    <a:lnTo>
                      <a:pt x="157" y="2985"/>
                    </a:lnTo>
                    <a:lnTo>
                      <a:pt x="158" y="3023"/>
                    </a:lnTo>
                    <a:lnTo>
                      <a:pt x="159" y="3062"/>
                    </a:lnTo>
                    <a:lnTo>
                      <a:pt x="159" y="3102"/>
                    </a:lnTo>
                    <a:lnTo>
                      <a:pt x="158" y="3143"/>
                    </a:lnTo>
                    <a:lnTo>
                      <a:pt x="156" y="3185"/>
                    </a:lnTo>
                    <a:lnTo>
                      <a:pt x="152" y="3227"/>
                    </a:lnTo>
                    <a:lnTo>
                      <a:pt x="148" y="3270"/>
                    </a:lnTo>
                    <a:lnTo>
                      <a:pt x="136" y="3353"/>
                    </a:lnTo>
                    <a:lnTo>
                      <a:pt x="126" y="3427"/>
                    </a:lnTo>
                    <a:lnTo>
                      <a:pt x="118" y="3489"/>
                    </a:lnTo>
                    <a:lnTo>
                      <a:pt x="112" y="3542"/>
                    </a:lnTo>
                    <a:lnTo>
                      <a:pt x="108" y="3583"/>
                    </a:lnTo>
                    <a:lnTo>
                      <a:pt x="104" y="3614"/>
                    </a:lnTo>
                    <a:lnTo>
                      <a:pt x="103" y="3632"/>
                    </a:lnTo>
                    <a:lnTo>
                      <a:pt x="102" y="3638"/>
                    </a:lnTo>
                    <a:lnTo>
                      <a:pt x="98" y="3648"/>
                    </a:lnTo>
                    <a:lnTo>
                      <a:pt x="86" y="3676"/>
                    </a:lnTo>
                    <a:lnTo>
                      <a:pt x="70" y="3717"/>
                    </a:lnTo>
                    <a:lnTo>
                      <a:pt x="53" y="3767"/>
                    </a:lnTo>
                    <a:lnTo>
                      <a:pt x="45" y="3794"/>
                    </a:lnTo>
                    <a:lnTo>
                      <a:pt x="37" y="3822"/>
                    </a:lnTo>
                    <a:lnTo>
                      <a:pt x="32" y="3850"/>
                    </a:lnTo>
                    <a:lnTo>
                      <a:pt x="28" y="3877"/>
                    </a:lnTo>
                    <a:lnTo>
                      <a:pt x="27" y="3890"/>
                    </a:lnTo>
                    <a:lnTo>
                      <a:pt x="26" y="3904"/>
                    </a:lnTo>
                    <a:lnTo>
                      <a:pt x="26" y="3916"/>
                    </a:lnTo>
                    <a:lnTo>
                      <a:pt x="26" y="3929"/>
                    </a:lnTo>
                    <a:lnTo>
                      <a:pt x="28" y="3941"/>
                    </a:lnTo>
                    <a:lnTo>
                      <a:pt x="30" y="3952"/>
                    </a:lnTo>
                    <a:lnTo>
                      <a:pt x="32" y="3962"/>
                    </a:lnTo>
                    <a:lnTo>
                      <a:pt x="36" y="3972"/>
                    </a:lnTo>
                    <a:lnTo>
                      <a:pt x="44" y="3989"/>
                    </a:lnTo>
                    <a:lnTo>
                      <a:pt x="49" y="4006"/>
                    </a:lnTo>
                    <a:lnTo>
                      <a:pt x="54" y="4020"/>
                    </a:lnTo>
                    <a:lnTo>
                      <a:pt x="56" y="4033"/>
                    </a:lnTo>
                    <a:lnTo>
                      <a:pt x="57" y="4046"/>
                    </a:lnTo>
                    <a:lnTo>
                      <a:pt x="57" y="4057"/>
                    </a:lnTo>
                    <a:lnTo>
                      <a:pt x="56" y="4068"/>
                    </a:lnTo>
                    <a:lnTo>
                      <a:pt x="54" y="4080"/>
                    </a:lnTo>
                    <a:lnTo>
                      <a:pt x="47" y="4104"/>
                    </a:lnTo>
                    <a:lnTo>
                      <a:pt x="37" y="4131"/>
                    </a:lnTo>
                    <a:lnTo>
                      <a:pt x="26" y="4163"/>
                    </a:lnTo>
                    <a:lnTo>
                      <a:pt x="14" y="4204"/>
                    </a:lnTo>
                    <a:lnTo>
                      <a:pt x="8" y="4227"/>
                    </a:lnTo>
                    <a:lnTo>
                      <a:pt x="4" y="4250"/>
                    </a:lnTo>
                    <a:lnTo>
                      <a:pt x="2" y="4271"/>
                    </a:lnTo>
                    <a:lnTo>
                      <a:pt x="0" y="4293"/>
                    </a:lnTo>
                    <a:lnTo>
                      <a:pt x="0" y="4312"/>
                    </a:lnTo>
                    <a:lnTo>
                      <a:pt x="0" y="4332"/>
                    </a:lnTo>
                    <a:lnTo>
                      <a:pt x="2" y="4349"/>
                    </a:lnTo>
                    <a:lnTo>
                      <a:pt x="3" y="4365"/>
                    </a:lnTo>
                    <a:lnTo>
                      <a:pt x="8" y="4394"/>
                    </a:lnTo>
                    <a:lnTo>
                      <a:pt x="13" y="4416"/>
                    </a:lnTo>
                    <a:lnTo>
                      <a:pt x="17" y="4429"/>
                    </a:lnTo>
                    <a:lnTo>
                      <a:pt x="19" y="4434"/>
                    </a:lnTo>
                    <a:lnTo>
                      <a:pt x="19" y="4436"/>
                    </a:lnTo>
                    <a:lnTo>
                      <a:pt x="19" y="4441"/>
                    </a:lnTo>
                    <a:lnTo>
                      <a:pt x="19" y="4447"/>
                    </a:lnTo>
                    <a:lnTo>
                      <a:pt x="20" y="4455"/>
                    </a:lnTo>
                    <a:lnTo>
                      <a:pt x="21" y="4462"/>
                    </a:lnTo>
                    <a:lnTo>
                      <a:pt x="23" y="4468"/>
                    </a:lnTo>
                    <a:lnTo>
                      <a:pt x="26" y="4469"/>
                    </a:lnTo>
                    <a:lnTo>
                      <a:pt x="28" y="4470"/>
                    </a:lnTo>
                    <a:lnTo>
                      <a:pt x="31" y="4470"/>
                    </a:lnTo>
                    <a:lnTo>
                      <a:pt x="33" y="4469"/>
                    </a:lnTo>
                    <a:lnTo>
                      <a:pt x="51" y="4459"/>
                    </a:lnTo>
                    <a:lnTo>
                      <a:pt x="75" y="4448"/>
                    </a:lnTo>
                    <a:lnTo>
                      <a:pt x="103" y="4435"/>
                    </a:lnTo>
                    <a:lnTo>
                      <a:pt x="137" y="4422"/>
                    </a:lnTo>
                    <a:lnTo>
                      <a:pt x="175" y="4407"/>
                    </a:lnTo>
                    <a:lnTo>
                      <a:pt x="216" y="4393"/>
                    </a:lnTo>
                    <a:lnTo>
                      <a:pt x="260" y="4379"/>
                    </a:lnTo>
                    <a:lnTo>
                      <a:pt x="309" y="4365"/>
                    </a:lnTo>
                    <a:lnTo>
                      <a:pt x="359" y="4352"/>
                    </a:lnTo>
                    <a:lnTo>
                      <a:pt x="412" y="4341"/>
                    </a:lnTo>
                    <a:lnTo>
                      <a:pt x="439" y="4336"/>
                    </a:lnTo>
                    <a:lnTo>
                      <a:pt x="467" y="4332"/>
                    </a:lnTo>
                    <a:lnTo>
                      <a:pt x="497" y="4327"/>
                    </a:lnTo>
                    <a:lnTo>
                      <a:pt x="525" y="4324"/>
                    </a:lnTo>
                    <a:lnTo>
                      <a:pt x="554" y="4321"/>
                    </a:lnTo>
                    <a:lnTo>
                      <a:pt x="583" y="4319"/>
                    </a:lnTo>
                    <a:lnTo>
                      <a:pt x="613" y="4318"/>
                    </a:lnTo>
                    <a:lnTo>
                      <a:pt x="642" y="4317"/>
                    </a:lnTo>
                    <a:lnTo>
                      <a:pt x="673" y="4317"/>
                    </a:lnTo>
                    <a:lnTo>
                      <a:pt x="703" y="4318"/>
                    </a:lnTo>
                    <a:lnTo>
                      <a:pt x="733" y="4320"/>
                    </a:lnTo>
                    <a:lnTo>
                      <a:pt x="763" y="4323"/>
                    </a:lnTo>
                    <a:lnTo>
                      <a:pt x="767" y="4326"/>
                    </a:lnTo>
                    <a:lnTo>
                      <a:pt x="775" y="4332"/>
                    </a:lnTo>
                    <a:lnTo>
                      <a:pt x="781" y="4336"/>
                    </a:lnTo>
                    <a:lnTo>
                      <a:pt x="787" y="4338"/>
                    </a:lnTo>
                    <a:lnTo>
                      <a:pt x="795" y="4341"/>
                    </a:lnTo>
                    <a:lnTo>
                      <a:pt x="802" y="4343"/>
                    </a:lnTo>
                    <a:lnTo>
                      <a:pt x="811" y="4341"/>
                    </a:lnTo>
                    <a:lnTo>
                      <a:pt x="820" y="4339"/>
                    </a:lnTo>
                    <a:lnTo>
                      <a:pt x="823" y="4337"/>
                    </a:lnTo>
                    <a:lnTo>
                      <a:pt x="827" y="4335"/>
                    </a:lnTo>
                    <a:lnTo>
                      <a:pt x="831" y="4332"/>
                    </a:lnTo>
                    <a:lnTo>
                      <a:pt x="835" y="4327"/>
                    </a:lnTo>
                    <a:lnTo>
                      <a:pt x="839" y="4322"/>
                    </a:lnTo>
                    <a:lnTo>
                      <a:pt x="842" y="4317"/>
                    </a:lnTo>
                    <a:lnTo>
                      <a:pt x="845" y="4310"/>
                    </a:lnTo>
                    <a:lnTo>
                      <a:pt x="849" y="4303"/>
                    </a:lnTo>
                    <a:lnTo>
                      <a:pt x="854" y="4284"/>
                    </a:lnTo>
                    <a:lnTo>
                      <a:pt x="859" y="4262"/>
                    </a:lnTo>
                    <a:lnTo>
                      <a:pt x="863" y="4238"/>
                    </a:lnTo>
                    <a:lnTo>
                      <a:pt x="865" y="4217"/>
                    </a:lnTo>
                    <a:lnTo>
                      <a:pt x="866" y="4200"/>
                    </a:lnTo>
                    <a:lnTo>
                      <a:pt x="866" y="4184"/>
                    </a:lnTo>
                    <a:lnTo>
                      <a:pt x="864" y="4158"/>
                    </a:lnTo>
                    <a:lnTo>
                      <a:pt x="861" y="4135"/>
                    </a:lnTo>
                    <a:lnTo>
                      <a:pt x="859" y="4125"/>
                    </a:lnTo>
                    <a:lnTo>
                      <a:pt x="857" y="4115"/>
                    </a:lnTo>
                    <a:lnTo>
                      <a:pt x="857" y="4103"/>
                    </a:lnTo>
                    <a:lnTo>
                      <a:pt x="857" y="4091"/>
                    </a:lnTo>
                    <a:lnTo>
                      <a:pt x="858" y="4078"/>
                    </a:lnTo>
                    <a:lnTo>
                      <a:pt x="861" y="4063"/>
                    </a:lnTo>
                    <a:lnTo>
                      <a:pt x="864" y="4046"/>
                    </a:lnTo>
                    <a:lnTo>
                      <a:pt x="869" y="4026"/>
                    </a:lnTo>
                    <a:lnTo>
                      <a:pt x="885" y="3973"/>
                    </a:lnTo>
                    <a:lnTo>
                      <a:pt x="907" y="3899"/>
                    </a:lnTo>
                    <a:lnTo>
                      <a:pt x="931" y="3810"/>
                    </a:lnTo>
                    <a:lnTo>
                      <a:pt x="957" y="3714"/>
                    </a:lnTo>
                    <a:lnTo>
                      <a:pt x="969" y="3664"/>
                    </a:lnTo>
                    <a:lnTo>
                      <a:pt x="980" y="3615"/>
                    </a:lnTo>
                    <a:lnTo>
                      <a:pt x="991" y="3566"/>
                    </a:lnTo>
                    <a:lnTo>
                      <a:pt x="1001" y="3518"/>
                    </a:lnTo>
                    <a:lnTo>
                      <a:pt x="1010" y="3473"/>
                    </a:lnTo>
                    <a:lnTo>
                      <a:pt x="1017" y="3431"/>
                    </a:lnTo>
                    <a:lnTo>
                      <a:pt x="1022" y="3393"/>
                    </a:lnTo>
                    <a:lnTo>
                      <a:pt x="1025" y="3359"/>
                    </a:lnTo>
                    <a:lnTo>
                      <a:pt x="1027" y="3342"/>
                    </a:lnTo>
                    <a:lnTo>
                      <a:pt x="1029" y="3325"/>
                    </a:lnTo>
                    <a:lnTo>
                      <a:pt x="1033" y="3307"/>
                    </a:lnTo>
                    <a:lnTo>
                      <a:pt x="1038" y="3287"/>
                    </a:lnTo>
                    <a:lnTo>
                      <a:pt x="1050" y="3246"/>
                    </a:lnTo>
                    <a:lnTo>
                      <a:pt x="1064" y="3201"/>
                    </a:lnTo>
                    <a:lnTo>
                      <a:pt x="1100" y="3099"/>
                    </a:lnTo>
                    <a:lnTo>
                      <a:pt x="1141" y="2988"/>
                    </a:lnTo>
                    <a:lnTo>
                      <a:pt x="1163" y="2929"/>
                    </a:lnTo>
                    <a:lnTo>
                      <a:pt x="1185" y="2868"/>
                    </a:lnTo>
                    <a:lnTo>
                      <a:pt x="1205" y="2807"/>
                    </a:lnTo>
                    <a:lnTo>
                      <a:pt x="1225" y="2744"/>
                    </a:lnTo>
                    <a:lnTo>
                      <a:pt x="1243" y="2681"/>
                    </a:lnTo>
                    <a:lnTo>
                      <a:pt x="1259" y="2618"/>
                    </a:lnTo>
                    <a:lnTo>
                      <a:pt x="1266" y="2586"/>
                    </a:lnTo>
                    <a:lnTo>
                      <a:pt x="1272" y="2554"/>
                    </a:lnTo>
                    <a:lnTo>
                      <a:pt x="1278" y="2523"/>
                    </a:lnTo>
                    <a:lnTo>
                      <a:pt x="1282" y="2491"/>
                    </a:lnTo>
                    <a:lnTo>
                      <a:pt x="1292" y="2424"/>
                    </a:lnTo>
                    <a:lnTo>
                      <a:pt x="1305" y="2348"/>
                    </a:lnTo>
                    <a:lnTo>
                      <a:pt x="1320" y="2266"/>
                    </a:lnTo>
                    <a:lnTo>
                      <a:pt x="1338" y="2176"/>
                    </a:lnTo>
                    <a:lnTo>
                      <a:pt x="1359" y="2082"/>
                    </a:lnTo>
                    <a:lnTo>
                      <a:pt x="1381" y="1985"/>
                    </a:lnTo>
                    <a:lnTo>
                      <a:pt x="1405" y="1887"/>
                    </a:lnTo>
                    <a:lnTo>
                      <a:pt x="1431" y="1786"/>
                    </a:lnTo>
                    <a:lnTo>
                      <a:pt x="1458" y="1687"/>
                    </a:lnTo>
                    <a:lnTo>
                      <a:pt x="1486" y="1590"/>
                    </a:lnTo>
                    <a:lnTo>
                      <a:pt x="1516" y="1495"/>
                    </a:lnTo>
                    <a:lnTo>
                      <a:pt x="1545" y="1405"/>
                    </a:lnTo>
                    <a:lnTo>
                      <a:pt x="1562" y="1362"/>
                    </a:lnTo>
                    <a:lnTo>
                      <a:pt x="1577" y="1321"/>
                    </a:lnTo>
                    <a:lnTo>
                      <a:pt x="1592" y="1281"/>
                    </a:lnTo>
                    <a:lnTo>
                      <a:pt x="1608" y="1243"/>
                    </a:lnTo>
                    <a:lnTo>
                      <a:pt x="1623" y="1207"/>
                    </a:lnTo>
                    <a:lnTo>
                      <a:pt x="1639" y="1174"/>
                    </a:lnTo>
                    <a:lnTo>
                      <a:pt x="1655" y="1142"/>
                    </a:lnTo>
                    <a:lnTo>
                      <a:pt x="1671" y="1114"/>
                    </a:lnTo>
                    <a:lnTo>
                      <a:pt x="1700" y="1064"/>
                    </a:lnTo>
                    <a:lnTo>
                      <a:pt x="1725" y="1017"/>
                    </a:lnTo>
                    <a:lnTo>
                      <a:pt x="1747" y="977"/>
                    </a:lnTo>
                    <a:lnTo>
                      <a:pt x="1766" y="942"/>
                    </a:lnTo>
                    <a:lnTo>
                      <a:pt x="1795" y="885"/>
                    </a:lnTo>
                    <a:lnTo>
                      <a:pt x="1814" y="849"/>
                    </a:lnTo>
                    <a:lnTo>
                      <a:pt x="1821" y="837"/>
                    </a:lnTo>
                    <a:lnTo>
                      <a:pt x="1826" y="829"/>
                    </a:lnTo>
                    <a:lnTo>
                      <a:pt x="1828" y="826"/>
                    </a:lnTo>
                    <a:lnTo>
                      <a:pt x="1831" y="825"/>
                    </a:lnTo>
                    <a:lnTo>
                      <a:pt x="1833" y="824"/>
                    </a:lnTo>
                    <a:lnTo>
                      <a:pt x="1835" y="825"/>
                    </a:lnTo>
                    <a:lnTo>
                      <a:pt x="1838" y="828"/>
                    </a:lnTo>
                    <a:lnTo>
                      <a:pt x="1841" y="835"/>
                    </a:lnTo>
                    <a:lnTo>
                      <a:pt x="1845" y="844"/>
                    </a:lnTo>
                    <a:lnTo>
                      <a:pt x="1848" y="857"/>
                    </a:lnTo>
                    <a:lnTo>
                      <a:pt x="1851" y="872"/>
                    </a:lnTo>
                    <a:lnTo>
                      <a:pt x="1853" y="887"/>
                    </a:lnTo>
                    <a:lnTo>
                      <a:pt x="1854" y="899"/>
                    </a:lnTo>
                    <a:lnTo>
                      <a:pt x="1856" y="914"/>
                    </a:lnTo>
                    <a:lnTo>
                      <a:pt x="1854" y="941"/>
                    </a:lnTo>
                    <a:lnTo>
                      <a:pt x="1852" y="968"/>
                    </a:lnTo>
                    <a:lnTo>
                      <a:pt x="1852" y="982"/>
                    </a:lnTo>
                    <a:lnTo>
                      <a:pt x="1852" y="997"/>
                    </a:lnTo>
                    <a:lnTo>
                      <a:pt x="1854" y="1012"/>
                    </a:lnTo>
                    <a:lnTo>
                      <a:pt x="1857" y="1028"/>
                    </a:lnTo>
                    <a:lnTo>
                      <a:pt x="1861" y="1045"/>
                    </a:lnTo>
                    <a:lnTo>
                      <a:pt x="1866" y="1063"/>
                    </a:lnTo>
                    <a:lnTo>
                      <a:pt x="1874" y="1082"/>
                    </a:lnTo>
                    <a:lnTo>
                      <a:pt x="1883" y="1103"/>
                    </a:lnTo>
                    <a:lnTo>
                      <a:pt x="1906" y="1147"/>
                    </a:lnTo>
                    <a:lnTo>
                      <a:pt x="1933" y="1195"/>
                    </a:lnTo>
                    <a:lnTo>
                      <a:pt x="1964" y="1248"/>
                    </a:lnTo>
                    <a:lnTo>
                      <a:pt x="1993" y="1306"/>
                    </a:lnTo>
                    <a:lnTo>
                      <a:pt x="2006" y="1335"/>
                    </a:lnTo>
                    <a:lnTo>
                      <a:pt x="2019" y="1365"/>
                    </a:lnTo>
                    <a:lnTo>
                      <a:pt x="2031" y="1396"/>
                    </a:lnTo>
                    <a:lnTo>
                      <a:pt x="2040" y="1428"/>
                    </a:lnTo>
                    <a:lnTo>
                      <a:pt x="2049" y="1459"/>
                    </a:lnTo>
                    <a:lnTo>
                      <a:pt x="2055" y="1491"/>
                    </a:lnTo>
                    <a:lnTo>
                      <a:pt x="2058" y="1508"/>
                    </a:lnTo>
                    <a:lnTo>
                      <a:pt x="2060" y="1524"/>
                    </a:lnTo>
                    <a:lnTo>
                      <a:pt x="2061" y="1541"/>
                    </a:lnTo>
                    <a:lnTo>
                      <a:pt x="2061" y="1557"/>
                    </a:lnTo>
                    <a:lnTo>
                      <a:pt x="2061" y="1573"/>
                    </a:lnTo>
                    <a:lnTo>
                      <a:pt x="2062" y="1590"/>
                    </a:lnTo>
                    <a:lnTo>
                      <a:pt x="2064" y="1606"/>
                    </a:lnTo>
                    <a:lnTo>
                      <a:pt x="2066" y="1621"/>
                    </a:lnTo>
                    <a:lnTo>
                      <a:pt x="2072" y="1652"/>
                    </a:lnTo>
                    <a:lnTo>
                      <a:pt x="2079" y="1681"/>
                    </a:lnTo>
                    <a:lnTo>
                      <a:pt x="2088" y="1709"/>
                    </a:lnTo>
                    <a:lnTo>
                      <a:pt x="2099" y="1738"/>
                    </a:lnTo>
                    <a:lnTo>
                      <a:pt x="2109" y="1765"/>
                    </a:lnTo>
                    <a:lnTo>
                      <a:pt x="2122" y="1792"/>
                    </a:lnTo>
                    <a:lnTo>
                      <a:pt x="2148" y="1842"/>
                    </a:lnTo>
                    <a:lnTo>
                      <a:pt x="2173" y="1893"/>
                    </a:lnTo>
                    <a:lnTo>
                      <a:pt x="2186" y="1918"/>
                    </a:lnTo>
                    <a:lnTo>
                      <a:pt x="2197" y="1943"/>
                    </a:lnTo>
                    <a:lnTo>
                      <a:pt x="2208" y="1968"/>
                    </a:lnTo>
                    <a:lnTo>
                      <a:pt x="2216" y="1992"/>
                    </a:lnTo>
                    <a:lnTo>
                      <a:pt x="2225" y="2017"/>
                    </a:lnTo>
                    <a:lnTo>
                      <a:pt x="2231" y="2042"/>
                    </a:lnTo>
                    <a:lnTo>
                      <a:pt x="2238" y="2068"/>
                    </a:lnTo>
                    <a:lnTo>
                      <a:pt x="2243" y="2093"/>
                    </a:lnTo>
                    <a:lnTo>
                      <a:pt x="2249" y="2117"/>
                    </a:lnTo>
                    <a:lnTo>
                      <a:pt x="2252" y="2141"/>
                    </a:lnTo>
                    <a:lnTo>
                      <a:pt x="2255" y="2165"/>
                    </a:lnTo>
                    <a:lnTo>
                      <a:pt x="2257" y="2188"/>
                    </a:lnTo>
                    <a:lnTo>
                      <a:pt x="2260" y="2210"/>
                    </a:lnTo>
                    <a:lnTo>
                      <a:pt x="2261" y="2230"/>
                    </a:lnTo>
                    <a:lnTo>
                      <a:pt x="2261" y="2251"/>
                    </a:lnTo>
                    <a:lnTo>
                      <a:pt x="2260" y="2268"/>
                    </a:lnTo>
                    <a:lnTo>
                      <a:pt x="2257" y="2285"/>
                    </a:lnTo>
                    <a:lnTo>
                      <a:pt x="2255" y="2300"/>
                    </a:lnTo>
                    <a:lnTo>
                      <a:pt x="2253" y="2314"/>
                    </a:lnTo>
                    <a:lnTo>
                      <a:pt x="2249" y="2326"/>
                    </a:lnTo>
                    <a:lnTo>
                      <a:pt x="2236" y="2360"/>
                    </a:lnTo>
                    <a:lnTo>
                      <a:pt x="2217" y="2416"/>
                    </a:lnTo>
                    <a:lnTo>
                      <a:pt x="2206" y="2451"/>
                    </a:lnTo>
                    <a:lnTo>
                      <a:pt x="2194" y="2490"/>
                    </a:lnTo>
                    <a:lnTo>
                      <a:pt x="2182" y="2534"/>
                    </a:lnTo>
                    <a:lnTo>
                      <a:pt x="2170" y="2578"/>
                    </a:lnTo>
                    <a:lnTo>
                      <a:pt x="2158" y="2624"/>
                    </a:lnTo>
                    <a:lnTo>
                      <a:pt x="2147" y="2673"/>
                    </a:lnTo>
                    <a:lnTo>
                      <a:pt x="2137" y="2721"/>
                    </a:lnTo>
                    <a:lnTo>
                      <a:pt x="2129" y="2769"/>
                    </a:lnTo>
                    <a:lnTo>
                      <a:pt x="2122" y="2816"/>
                    </a:lnTo>
                    <a:lnTo>
                      <a:pt x="2117" y="2863"/>
                    </a:lnTo>
                    <a:lnTo>
                      <a:pt x="2116" y="2886"/>
                    </a:lnTo>
                    <a:lnTo>
                      <a:pt x="2115" y="2907"/>
                    </a:lnTo>
                    <a:lnTo>
                      <a:pt x="2115" y="2929"/>
                    </a:lnTo>
                    <a:lnTo>
                      <a:pt x="2115" y="2948"/>
                    </a:lnTo>
                    <a:lnTo>
                      <a:pt x="2116" y="2969"/>
                    </a:lnTo>
                    <a:lnTo>
                      <a:pt x="2116" y="2989"/>
                    </a:lnTo>
                    <a:lnTo>
                      <a:pt x="2116" y="3011"/>
                    </a:lnTo>
                    <a:lnTo>
                      <a:pt x="2115" y="3032"/>
                    </a:lnTo>
                    <a:lnTo>
                      <a:pt x="2112" y="3078"/>
                    </a:lnTo>
                    <a:lnTo>
                      <a:pt x="2106" y="3125"/>
                    </a:lnTo>
                    <a:lnTo>
                      <a:pt x="2092" y="3223"/>
                    </a:lnTo>
                    <a:lnTo>
                      <a:pt x="2076" y="3322"/>
                    </a:lnTo>
                    <a:lnTo>
                      <a:pt x="2068" y="3371"/>
                    </a:lnTo>
                    <a:lnTo>
                      <a:pt x="2062" y="3419"/>
                    </a:lnTo>
                    <a:lnTo>
                      <a:pt x="2056" y="3467"/>
                    </a:lnTo>
                    <a:lnTo>
                      <a:pt x="2052" y="3512"/>
                    </a:lnTo>
                    <a:lnTo>
                      <a:pt x="2051" y="3535"/>
                    </a:lnTo>
                    <a:lnTo>
                      <a:pt x="2050" y="3555"/>
                    </a:lnTo>
                    <a:lnTo>
                      <a:pt x="2050" y="3577"/>
                    </a:lnTo>
                    <a:lnTo>
                      <a:pt x="2051" y="3597"/>
                    </a:lnTo>
                    <a:lnTo>
                      <a:pt x="2052" y="3617"/>
                    </a:lnTo>
                    <a:lnTo>
                      <a:pt x="2054" y="3635"/>
                    </a:lnTo>
                    <a:lnTo>
                      <a:pt x="2058" y="3653"/>
                    </a:lnTo>
                    <a:lnTo>
                      <a:pt x="2061" y="3671"/>
                    </a:lnTo>
                    <a:lnTo>
                      <a:pt x="2078" y="3733"/>
                    </a:lnTo>
                    <a:lnTo>
                      <a:pt x="2094" y="3788"/>
                    </a:lnTo>
                    <a:lnTo>
                      <a:pt x="2110" y="3837"/>
                    </a:lnTo>
                    <a:lnTo>
                      <a:pt x="2123" y="3880"/>
                    </a:lnTo>
                    <a:lnTo>
                      <a:pt x="2128" y="3901"/>
                    </a:lnTo>
                    <a:lnTo>
                      <a:pt x="2132" y="3919"/>
                    </a:lnTo>
                    <a:lnTo>
                      <a:pt x="2135" y="3938"/>
                    </a:lnTo>
                    <a:lnTo>
                      <a:pt x="2137" y="3954"/>
                    </a:lnTo>
                    <a:lnTo>
                      <a:pt x="2137" y="3970"/>
                    </a:lnTo>
                    <a:lnTo>
                      <a:pt x="2135" y="3986"/>
                    </a:lnTo>
                    <a:lnTo>
                      <a:pt x="2133" y="4001"/>
                    </a:lnTo>
                    <a:lnTo>
                      <a:pt x="2128" y="4016"/>
                    </a:lnTo>
                    <a:lnTo>
                      <a:pt x="2121" y="4033"/>
                    </a:lnTo>
                    <a:lnTo>
                      <a:pt x="2116" y="4053"/>
                    </a:lnTo>
                    <a:lnTo>
                      <a:pt x="2110" y="4076"/>
                    </a:lnTo>
                    <a:lnTo>
                      <a:pt x="2106" y="4102"/>
                    </a:lnTo>
                    <a:lnTo>
                      <a:pt x="2102" y="4130"/>
                    </a:lnTo>
                    <a:lnTo>
                      <a:pt x="2100" y="4159"/>
                    </a:lnTo>
                    <a:lnTo>
                      <a:pt x="2099" y="4189"/>
                    </a:lnTo>
                    <a:lnTo>
                      <a:pt x="2099" y="4220"/>
                    </a:lnTo>
                    <a:lnTo>
                      <a:pt x="2101" y="4251"/>
                    </a:lnTo>
                    <a:lnTo>
                      <a:pt x="2104" y="4281"/>
                    </a:lnTo>
                    <a:lnTo>
                      <a:pt x="2107" y="4296"/>
                    </a:lnTo>
                    <a:lnTo>
                      <a:pt x="2110" y="4310"/>
                    </a:lnTo>
                    <a:lnTo>
                      <a:pt x="2114" y="4324"/>
                    </a:lnTo>
                    <a:lnTo>
                      <a:pt x="2118" y="4337"/>
                    </a:lnTo>
                    <a:lnTo>
                      <a:pt x="2122" y="4350"/>
                    </a:lnTo>
                    <a:lnTo>
                      <a:pt x="2128" y="4362"/>
                    </a:lnTo>
                    <a:lnTo>
                      <a:pt x="2133" y="4373"/>
                    </a:lnTo>
                    <a:lnTo>
                      <a:pt x="2140" y="4384"/>
                    </a:lnTo>
                    <a:lnTo>
                      <a:pt x="2147" y="4393"/>
                    </a:lnTo>
                    <a:lnTo>
                      <a:pt x="2155" y="4402"/>
                    </a:lnTo>
                    <a:lnTo>
                      <a:pt x="2163" y="4411"/>
                    </a:lnTo>
                    <a:lnTo>
                      <a:pt x="2172" y="4417"/>
                    </a:lnTo>
                    <a:lnTo>
                      <a:pt x="2193" y="4407"/>
                    </a:lnTo>
                    <a:lnTo>
                      <a:pt x="2248" y="4384"/>
                    </a:lnTo>
                    <a:lnTo>
                      <a:pt x="2285" y="4368"/>
                    </a:lnTo>
                    <a:lnTo>
                      <a:pt x="2330" y="4351"/>
                    </a:lnTo>
                    <a:lnTo>
                      <a:pt x="2378" y="4334"/>
                    </a:lnTo>
                    <a:lnTo>
                      <a:pt x="2431" y="4317"/>
                    </a:lnTo>
                    <a:lnTo>
                      <a:pt x="2459" y="4309"/>
                    </a:lnTo>
                    <a:lnTo>
                      <a:pt x="2487" y="4300"/>
                    </a:lnTo>
                    <a:lnTo>
                      <a:pt x="2517" y="4294"/>
                    </a:lnTo>
                    <a:lnTo>
                      <a:pt x="2546" y="4286"/>
                    </a:lnTo>
                    <a:lnTo>
                      <a:pt x="2575" y="4280"/>
                    </a:lnTo>
                    <a:lnTo>
                      <a:pt x="2605" y="4274"/>
                    </a:lnTo>
                    <a:lnTo>
                      <a:pt x="2634" y="4270"/>
                    </a:lnTo>
                    <a:lnTo>
                      <a:pt x="2665" y="4267"/>
                    </a:lnTo>
                    <a:lnTo>
                      <a:pt x="2694" y="4264"/>
                    </a:lnTo>
                    <a:lnTo>
                      <a:pt x="2723" y="4263"/>
                    </a:lnTo>
                    <a:lnTo>
                      <a:pt x="2752" y="4263"/>
                    </a:lnTo>
                    <a:lnTo>
                      <a:pt x="2780" y="4264"/>
                    </a:lnTo>
                    <a:lnTo>
                      <a:pt x="2807" y="4266"/>
                    </a:lnTo>
                    <a:lnTo>
                      <a:pt x="2834" y="4270"/>
                    </a:lnTo>
                    <a:lnTo>
                      <a:pt x="2859" y="4276"/>
                    </a:lnTo>
                    <a:lnTo>
                      <a:pt x="2884" y="4283"/>
                    </a:lnTo>
                    <a:lnTo>
                      <a:pt x="2891" y="4215"/>
                    </a:lnTo>
                    <a:lnTo>
                      <a:pt x="2910" y="4036"/>
                    </a:lnTo>
                    <a:lnTo>
                      <a:pt x="2938" y="3778"/>
                    </a:lnTo>
                    <a:lnTo>
                      <a:pt x="2971" y="3476"/>
                    </a:lnTo>
                    <a:lnTo>
                      <a:pt x="2990" y="3321"/>
                    </a:lnTo>
                    <a:lnTo>
                      <a:pt x="3009" y="3167"/>
                    </a:lnTo>
                    <a:lnTo>
                      <a:pt x="3029" y="3020"/>
                    </a:lnTo>
                    <a:lnTo>
                      <a:pt x="3048" y="2885"/>
                    </a:lnTo>
                    <a:lnTo>
                      <a:pt x="3058" y="2822"/>
                    </a:lnTo>
                    <a:lnTo>
                      <a:pt x="3066" y="2764"/>
                    </a:lnTo>
                    <a:lnTo>
                      <a:pt x="3076" y="2710"/>
                    </a:lnTo>
                    <a:lnTo>
                      <a:pt x="3085" y="2662"/>
                    </a:lnTo>
                    <a:lnTo>
                      <a:pt x="3093" y="2620"/>
                    </a:lnTo>
                    <a:lnTo>
                      <a:pt x="3101" y="2584"/>
                    </a:lnTo>
                    <a:lnTo>
                      <a:pt x="3110" y="2556"/>
                    </a:lnTo>
                    <a:lnTo>
                      <a:pt x="3116" y="2536"/>
                    </a:lnTo>
                    <a:lnTo>
                      <a:pt x="3143" y="2477"/>
                    </a:lnTo>
                    <a:lnTo>
                      <a:pt x="3166" y="2432"/>
                    </a:lnTo>
                    <a:lnTo>
                      <a:pt x="3175" y="2413"/>
                    </a:lnTo>
                    <a:lnTo>
                      <a:pt x="3182" y="2394"/>
                    </a:lnTo>
                    <a:lnTo>
                      <a:pt x="3189" y="2376"/>
                    </a:lnTo>
                    <a:lnTo>
                      <a:pt x="3194" y="2356"/>
                    </a:lnTo>
                    <a:lnTo>
                      <a:pt x="3198" y="2337"/>
                    </a:lnTo>
                    <a:lnTo>
                      <a:pt x="3202" y="2315"/>
                    </a:lnTo>
                    <a:lnTo>
                      <a:pt x="3204" y="2291"/>
                    </a:lnTo>
                    <a:lnTo>
                      <a:pt x="3204" y="2262"/>
                    </a:lnTo>
                    <a:lnTo>
                      <a:pt x="3204" y="2231"/>
                    </a:lnTo>
                    <a:lnTo>
                      <a:pt x="3202" y="2194"/>
                    </a:lnTo>
                    <a:lnTo>
                      <a:pt x="3199" y="2152"/>
                    </a:lnTo>
                    <a:lnTo>
                      <a:pt x="3196" y="2104"/>
                    </a:lnTo>
                    <a:lnTo>
                      <a:pt x="3191" y="2049"/>
                    </a:lnTo>
                    <a:lnTo>
                      <a:pt x="3184" y="1991"/>
                    </a:lnTo>
                    <a:lnTo>
                      <a:pt x="3177" y="1932"/>
                    </a:lnTo>
                    <a:lnTo>
                      <a:pt x="3169" y="1870"/>
                    </a:lnTo>
                    <a:lnTo>
                      <a:pt x="3151" y="1748"/>
                    </a:lnTo>
                    <a:lnTo>
                      <a:pt x="3131" y="1632"/>
                    </a:lnTo>
                    <a:lnTo>
                      <a:pt x="3114" y="1528"/>
                    </a:lnTo>
                    <a:lnTo>
                      <a:pt x="3099" y="1445"/>
                    </a:lnTo>
                    <a:lnTo>
                      <a:pt x="3088" y="1389"/>
                    </a:lnTo>
                    <a:lnTo>
                      <a:pt x="3085" y="1369"/>
                    </a:lnTo>
                    <a:lnTo>
                      <a:pt x="2751" y="669"/>
                    </a:lnTo>
                    <a:lnTo>
                      <a:pt x="2748" y="655"/>
                    </a:lnTo>
                    <a:lnTo>
                      <a:pt x="2738" y="617"/>
                    </a:lnTo>
                    <a:lnTo>
                      <a:pt x="2723" y="555"/>
                    </a:lnTo>
                    <a:lnTo>
                      <a:pt x="2700" y="473"/>
                    </a:lnTo>
                    <a:lnTo>
                      <a:pt x="2686" y="425"/>
                    </a:lnTo>
                    <a:lnTo>
                      <a:pt x="2670" y="374"/>
                    </a:lnTo>
                    <a:lnTo>
                      <a:pt x="2653" y="318"/>
                    </a:lnTo>
                    <a:lnTo>
                      <a:pt x="2634" y="260"/>
                    </a:lnTo>
                    <a:lnTo>
                      <a:pt x="2613" y="199"/>
                    </a:lnTo>
                    <a:lnTo>
                      <a:pt x="2590" y="134"/>
                    </a:lnTo>
                    <a:lnTo>
                      <a:pt x="2565" y="68"/>
                    </a:lnTo>
                    <a:lnTo>
                      <a:pt x="2538" y="0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5634000" y="4432320"/>
                <a:ext cx="987480" cy="66600"/>
              </a:xfrm>
              <a:custGeom>
                <a:avLst/>
                <a:gdLst/>
                <a:ahLst/>
                <a:rect l="l" t="t" r="r" b="b"/>
                <a:pathLst>
                  <a:path w="3111" h="211">
                    <a:moveTo>
                      <a:pt x="3111" y="161"/>
                    </a:moveTo>
                    <a:lnTo>
                      <a:pt x="0" y="211"/>
                    </a:lnTo>
                    <a:lnTo>
                      <a:pt x="0" y="50"/>
                    </a:lnTo>
                    <a:lnTo>
                      <a:pt x="3111" y="0"/>
                    </a:lnTo>
                    <a:lnTo>
                      <a:pt x="3111" y="161"/>
                    </a:lnTo>
                    <a:close/>
                  </a:path>
                </a:pathLst>
              </a:custGeom>
              <a:solidFill>
                <a:srgbClr val="a0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548400" y="44370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30" h="57">
                    <a:moveTo>
                      <a:pt x="0" y="57"/>
                    </a:moveTo>
                    <a:lnTo>
                      <a:pt x="8" y="56"/>
                    </a:lnTo>
                    <a:lnTo>
                      <a:pt x="13" y="55"/>
                    </a:lnTo>
                    <a:lnTo>
                      <a:pt x="18" y="52"/>
                    </a:lnTo>
                    <a:lnTo>
                      <a:pt x="22" y="47"/>
                    </a:lnTo>
                    <a:lnTo>
                      <a:pt x="25" y="43"/>
                    </a:lnTo>
                    <a:lnTo>
                      <a:pt x="27" y="39"/>
                    </a:lnTo>
                    <a:lnTo>
                      <a:pt x="28" y="33"/>
                    </a:lnTo>
                    <a:lnTo>
                      <a:pt x="30" y="28"/>
                    </a:lnTo>
                    <a:lnTo>
                      <a:pt x="28" y="22"/>
                    </a:lnTo>
                    <a:lnTo>
                      <a:pt x="27" y="17"/>
                    </a:lnTo>
                    <a:lnTo>
                      <a:pt x="25" y="13"/>
                    </a:lnTo>
                    <a:lnTo>
                      <a:pt x="22" y="8"/>
                    </a:lnTo>
                    <a:lnTo>
                      <a:pt x="18" y="5"/>
                    </a:lnTo>
                    <a:lnTo>
                      <a:pt x="12" y="2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57"/>
                    </a:lnTo>
                    <a:close/>
                  </a:path>
                </a:pathLst>
              </a:custGeom>
              <a:solidFill>
                <a:srgbClr val="a0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5688000" y="4437000"/>
                <a:ext cx="860400" cy="32040"/>
              </a:xfrm>
              <a:custGeom>
                <a:avLst/>
                <a:gdLst/>
                <a:ahLst/>
                <a:rect l="l" t="t" r="r" b="b"/>
                <a:pathLst>
                  <a:path w="2712" h="99">
                    <a:moveTo>
                      <a:pt x="1" y="99"/>
                    </a:moveTo>
                    <a:lnTo>
                      <a:pt x="2712" y="57"/>
                    </a:lnTo>
                    <a:lnTo>
                      <a:pt x="2712" y="0"/>
                    </a:lnTo>
                    <a:lnTo>
                      <a:pt x="0" y="42"/>
                    </a:lnTo>
                    <a:lnTo>
                      <a:pt x="1" y="99"/>
                    </a:lnTo>
                    <a:close/>
                  </a:path>
                </a:pathLst>
              </a:custGeom>
              <a:solidFill>
                <a:srgbClr val="a0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5678640" y="4451400"/>
                <a:ext cx="9360" cy="17640"/>
              </a:xfrm>
              <a:custGeom>
                <a:avLst/>
                <a:gdLst/>
                <a:ahLst/>
                <a:rect l="l" t="t" r="r" b="b"/>
                <a:pathLst>
                  <a:path w="29" h="57">
                    <a:moveTo>
                      <a:pt x="28" y="0"/>
                    </a:moveTo>
                    <a:lnTo>
                      <a:pt x="21" y="0"/>
                    </a:lnTo>
                    <a:lnTo>
                      <a:pt x="15" y="2"/>
                    </a:lnTo>
                    <a:lnTo>
                      <a:pt x="11" y="5"/>
                    </a:lnTo>
                    <a:lnTo>
                      <a:pt x="6" y="9"/>
                    </a:lnTo>
                    <a:lnTo>
                      <a:pt x="3" y="13"/>
                    </a:lnTo>
                    <a:lnTo>
                      <a:pt x="1" y="18"/>
                    </a:lnTo>
                    <a:lnTo>
                      <a:pt x="0" y="24"/>
                    </a:lnTo>
                    <a:lnTo>
                      <a:pt x="0" y="29"/>
                    </a:lnTo>
                    <a:lnTo>
                      <a:pt x="0" y="34"/>
                    </a:lnTo>
                    <a:lnTo>
                      <a:pt x="1" y="39"/>
                    </a:lnTo>
                    <a:lnTo>
                      <a:pt x="4" y="44"/>
                    </a:lnTo>
                    <a:lnTo>
                      <a:pt x="7" y="49"/>
                    </a:lnTo>
                    <a:lnTo>
                      <a:pt x="11" y="52"/>
                    </a:lnTo>
                    <a:lnTo>
                      <a:pt x="16" y="55"/>
                    </a:lnTo>
                    <a:lnTo>
                      <a:pt x="21" y="56"/>
                    </a:lnTo>
                    <a:lnTo>
                      <a:pt x="29" y="57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a0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6534000" y="4438800"/>
                <a:ext cx="7920" cy="15840"/>
              </a:xfrm>
              <a:custGeom>
                <a:avLst/>
                <a:gdLst/>
                <a:ahLst/>
                <a:rect l="l" t="t" r="r" b="b"/>
                <a:pathLst>
                  <a:path w="26" h="51">
                    <a:moveTo>
                      <a:pt x="1" y="51"/>
                    </a:moveTo>
                    <a:lnTo>
                      <a:pt x="6" y="51"/>
                    </a:lnTo>
                    <a:lnTo>
                      <a:pt x="12" y="49"/>
                    </a:lnTo>
                    <a:lnTo>
                      <a:pt x="16" y="46"/>
                    </a:lnTo>
                    <a:lnTo>
                      <a:pt x="20" y="43"/>
                    </a:lnTo>
                    <a:lnTo>
                      <a:pt x="23" y="39"/>
                    </a:lnTo>
                    <a:lnTo>
                      <a:pt x="25" y="35"/>
                    </a:lnTo>
                    <a:lnTo>
                      <a:pt x="26" y="30"/>
                    </a:lnTo>
                    <a:lnTo>
                      <a:pt x="26" y="25"/>
                    </a:lnTo>
                    <a:lnTo>
                      <a:pt x="26" y="21"/>
                    </a:lnTo>
                    <a:lnTo>
                      <a:pt x="25" y="15"/>
                    </a:lnTo>
                    <a:lnTo>
                      <a:pt x="23" y="11"/>
                    </a:lnTo>
                    <a:lnTo>
                      <a:pt x="19" y="8"/>
                    </a:lnTo>
                    <a:lnTo>
                      <a:pt x="16" y="4"/>
                    </a:lnTo>
                    <a:lnTo>
                      <a:pt x="12" y="1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1" y="51"/>
                    </a:lnTo>
                    <a:close/>
                  </a:path>
                </a:pathLst>
              </a:custGeom>
              <a:solidFill>
                <a:srgbClr val="aeae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5702400" y="4438800"/>
                <a:ext cx="831600" cy="30240"/>
              </a:xfrm>
              <a:custGeom>
                <a:avLst/>
                <a:gdLst/>
                <a:ahLst/>
                <a:rect l="l" t="t" r="r" b="b"/>
                <a:pathLst>
                  <a:path w="2620" h="93">
                    <a:moveTo>
                      <a:pt x="1" y="93"/>
                    </a:moveTo>
                    <a:lnTo>
                      <a:pt x="2620" y="51"/>
                    </a:lnTo>
                    <a:lnTo>
                      <a:pt x="2619" y="0"/>
                    </a:lnTo>
                    <a:lnTo>
                      <a:pt x="0" y="41"/>
                    </a:lnTo>
                    <a:lnTo>
                      <a:pt x="1" y="93"/>
                    </a:lnTo>
                    <a:close/>
                  </a:path>
                </a:pathLst>
              </a:custGeom>
              <a:solidFill>
                <a:srgbClr val="aeae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5694480" y="4451400"/>
                <a:ext cx="7920" cy="17640"/>
              </a:xfrm>
              <a:custGeom>
                <a:avLst/>
                <a:gdLst/>
                <a:ahLst/>
                <a:rect l="l" t="t" r="r" b="b"/>
                <a:pathLst>
                  <a:path w="26" h="52">
                    <a:moveTo>
                      <a:pt x="25" y="0"/>
                    </a:moveTo>
                    <a:lnTo>
                      <a:pt x="20" y="1"/>
                    </a:lnTo>
                    <a:lnTo>
                      <a:pt x="14" y="3"/>
                    </a:lnTo>
                    <a:lnTo>
                      <a:pt x="10" y="5"/>
                    </a:lnTo>
                    <a:lnTo>
                      <a:pt x="7" y="9"/>
                    </a:lnTo>
                    <a:lnTo>
                      <a:pt x="4" y="13"/>
                    </a:lnTo>
                    <a:lnTo>
                      <a:pt x="2" y="17"/>
                    </a:lnTo>
                    <a:lnTo>
                      <a:pt x="0" y="22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2" y="37"/>
                    </a:lnTo>
                    <a:lnTo>
                      <a:pt x="4" y="41"/>
                    </a:lnTo>
                    <a:lnTo>
                      <a:pt x="7" y="44"/>
                    </a:lnTo>
                    <a:lnTo>
                      <a:pt x="10" y="48"/>
                    </a:lnTo>
                    <a:lnTo>
                      <a:pt x="16" y="50"/>
                    </a:lnTo>
                    <a:lnTo>
                      <a:pt x="21" y="52"/>
                    </a:lnTo>
                    <a:lnTo>
                      <a:pt x="26" y="52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aeae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6518160" y="4438800"/>
                <a:ext cx="7920" cy="15840"/>
              </a:xfrm>
              <a:custGeom>
                <a:avLst/>
                <a:gdLst/>
                <a:ahLst/>
                <a:rect l="l" t="t" r="r" b="b"/>
                <a:pathLst>
                  <a:path w="24" h="47">
                    <a:moveTo>
                      <a:pt x="1" y="47"/>
                    </a:moveTo>
                    <a:lnTo>
                      <a:pt x="7" y="46"/>
                    </a:lnTo>
                    <a:lnTo>
                      <a:pt x="11" y="44"/>
                    </a:lnTo>
                    <a:lnTo>
                      <a:pt x="15" y="42"/>
                    </a:lnTo>
                    <a:lnTo>
                      <a:pt x="19" y="39"/>
                    </a:lnTo>
                    <a:lnTo>
                      <a:pt x="21" y="36"/>
                    </a:lnTo>
                    <a:lnTo>
                      <a:pt x="23" y="32"/>
                    </a:lnTo>
                    <a:lnTo>
                      <a:pt x="24" y="27"/>
                    </a:lnTo>
                    <a:lnTo>
                      <a:pt x="24" y="23"/>
                    </a:lnTo>
                    <a:lnTo>
                      <a:pt x="24" y="19"/>
                    </a:lnTo>
                    <a:lnTo>
                      <a:pt x="23" y="14"/>
                    </a:lnTo>
                    <a:lnTo>
                      <a:pt x="21" y="11"/>
                    </a:lnTo>
                    <a:lnTo>
                      <a:pt x="17" y="8"/>
                    </a:lnTo>
                    <a:lnTo>
                      <a:pt x="14" y="5"/>
                    </a:lnTo>
                    <a:lnTo>
                      <a:pt x="11" y="2"/>
                    </a:lnTo>
                    <a:lnTo>
                      <a:pt x="6" y="1"/>
                    </a:lnTo>
                    <a:lnTo>
                      <a:pt x="0" y="0"/>
                    </a:lnTo>
                    <a:lnTo>
                      <a:pt x="1" y="47"/>
                    </a:lnTo>
                    <a:close/>
                  </a:path>
                </a:pathLst>
              </a:custGeom>
              <a:solidFill>
                <a:srgbClr val="bfbf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5716440" y="4438800"/>
                <a:ext cx="801720" cy="28440"/>
              </a:xfrm>
              <a:custGeom>
                <a:avLst/>
                <a:gdLst/>
                <a:ahLst/>
                <a:rect l="l" t="t" r="r" b="b"/>
                <a:pathLst>
                  <a:path w="2524" h="89">
                    <a:moveTo>
                      <a:pt x="0" y="89"/>
                    </a:moveTo>
                    <a:lnTo>
                      <a:pt x="2524" y="47"/>
                    </a:lnTo>
                    <a:lnTo>
                      <a:pt x="2523" y="0"/>
                    </a:lnTo>
                    <a:lnTo>
                      <a:pt x="0" y="42"/>
                    </a:lnTo>
                    <a:lnTo>
                      <a:pt x="0" y="89"/>
                    </a:lnTo>
                    <a:close/>
                  </a:path>
                </a:pathLst>
              </a:custGeom>
              <a:solidFill>
                <a:srgbClr val="bfbf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5710320" y="4452840"/>
                <a:ext cx="6120" cy="14400"/>
              </a:xfrm>
              <a:custGeom>
                <a:avLst/>
                <a:gdLst/>
                <a:ahLst/>
                <a:rect l="l" t="t" r="r" b="b"/>
                <a:pathLst>
                  <a:path w="23" h="47">
                    <a:moveTo>
                      <a:pt x="23" y="0"/>
                    </a:moveTo>
                    <a:lnTo>
                      <a:pt x="17" y="1"/>
                    </a:lnTo>
                    <a:lnTo>
                      <a:pt x="12" y="2"/>
                    </a:lnTo>
                    <a:lnTo>
                      <a:pt x="9" y="5"/>
                    </a:lnTo>
                    <a:lnTo>
                      <a:pt x="5" y="8"/>
                    </a:lnTo>
                    <a:lnTo>
                      <a:pt x="2" y="11"/>
                    </a:lnTo>
                    <a:lnTo>
                      <a:pt x="1" y="15"/>
                    </a:lnTo>
                    <a:lnTo>
                      <a:pt x="0" y="20"/>
                    </a:lnTo>
                    <a:lnTo>
                      <a:pt x="0" y="24"/>
                    </a:lnTo>
                    <a:lnTo>
                      <a:pt x="0" y="28"/>
                    </a:lnTo>
                    <a:lnTo>
                      <a:pt x="1" y="32"/>
                    </a:lnTo>
                    <a:lnTo>
                      <a:pt x="3" y="36"/>
                    </a:lnTo>
                    <a:lnTo>
                      <a:pt x="5" y="39"/>
                    </a:lnTo>
                    <a:lnTo>
                      <a:pt x="9" y="42"/>
                    </a:lnTo>
                    <a:lnTo>
                      <a:pt x="13" y="45"/>
                    </a:lnTo>
                    <a:lnTo>
                      <a:pt x="17" y="46"/>
                    </a:lnTo>
                    <a:lnTo>
                      <a:pt x="23" y="47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bfbf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6504120" y="4442040"/>
                <a:ext cx="6120" cy="10800"/>
              </a:xfrm>
              <a:custGeom>
                <a:avLst/>
                <a:gdLst/>
                <a:ahLst/>
                <a:rect l="l" t="t" r="r" b="b"/>
                <a:pathLst>
                  <a:path w="19" h="37">
                    <a:moveTo>
                      <a:pt x="1" y="37"/>
                    </a:moveTo>
                    <a:lnTo>
                      <a:pt x="5" y="37"/>
                    </a:lnTo>
                    <a:lnTo>
                      <a:pt x="8" y="36"/>
                    </a:lnTo>
                    <a:lnTo>
                      <a:pt x="12" y="34"/>
                    </a:lnTo>
                    <a:lnTo>
                      <a:pt x="15" y="32"/>
                    </a:lnTo>
                    <a:lnTo>
                      <a:pt x="17" y="29"/>
                    </a:lnTo>
                    <a:lnTo>
                      <a:pt x="18" y="26"/>
                    </a:lnTo>
                    <a:lnTo>
                      <a:pt x="19" y="22"/>
                    </a:lnTo>
                    <a:lnTo>
                      <a:pt x="19" y="18"/>
                    </a:lnTo>
                    <a:lnTo>
                      <a:pt x="19" y="15"/>
                    </a:lnTo>
                    <a:lnTo>
                      <a:pt x="18" y="12"/>
                    </a:lnTo>
                    <a:lnTo>
                      <a:pt x="16" y="8"/>
                    </a:lnTo>
                    <a:lnTo>
                      <a:pt x="14" y="5"/>
                    </a:lnTo>
                    <a:lnTo>
                      <a:pt x="12" y="3"/>
                    </a:lnTo>
                    <a:lnTo>
                      <a:pt x="8" y="1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1" y="37"/>
                    </a:lnTo>
                    <a:close/>
                  </a:path>
                </a:pathLst>
              </a:custGeom>
              <a:solidFill>
                <a:srgbClr val="d1d0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5730840" y="4442040"/>
                <a:ext cx="773280" cy="23760"/>
              </a:xfrm>
              <a:custGeom>
                <a:avLst/>
                <a:gdLst/>
                <a:ahLst/>
                <a:rect l="l" t="t" r="r" b="b"/>
                <a:pathLst>
                  <a:path w="2434" h="77">
                    <a:moveTo>
                      <a:pt x="0" y="77"/>
                    </a:moveTo>
                    <a:lnTo>
                      <a:pt x="2434" y="37"/>
                    </a:lnTo>
                    <a:lnTo>
                      <a:pt x="2433" y="0"/>
                    </a:lnTo>
                    <a:lnTo>
                      <a:pt x="0" y="40"/>
                    </a:lnTo>
                    <a:lnTo>
                      <a:pt x="0" y="77"/>
                    </a:lnTo>
                    <a:close/>
                  </a:path>
                </a:pathLst>
              </a:custGeom>
              <a:solidFill>
                <a:srgbClr val="d1d0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5724360" y="4454640"/>
                <a:ext cx="6480" cy="11160"/>
              </a:xfrm>
              <a:custGeom>
                <a:avLst/>
                <a:gdLst/>
                <a:ahLst/>
                <a:rect l="l" t="t" r="r" b="b"/>
                <a:pathLst>
                  <a:path w="19" h="37">
                    <a:moveTo>
                      <a:pt x="19" y="0"/>
                    </a:moveTo>
                    <a:lnTo>
                      <a:pt x="15" y="0"/>
                    </a:lnTo>
                    <a:lnTo>
                      <a:pt x="10" y="1"/>
                    </a:lnTo>
                    <a:lnTo>
                      <a:pt x="7" y="3"/>
                    </a:lnTo>
                    <a:lnTo>
                      <a:pt x="5" y="5"/>
                    </a:lnTo>
                    <a:lnTo>
                      <a:pt x="3" y="8"/>
                    </a:lnTo>
                    <a:lnTo>
                      <a:pt x="1" y="12"/>
                    </a:lnTo>
                    <a:lnTo>
                      <a:pt x="1" y="15"/>
                    </a:lnTo>
                    <a:lnTo>
                      <a:pt x="0" y="19"/>
                    </a:lnTo>
                    <a:lnTo>
                      <a:pt x="1" y="22"/>
                    </a:lnTo>
                    <a:lnTo>
                      <a:pt x="2" y="26"/>
                    </a:lnTo>
                    <a:lnTo>
                      <a:pt x="3" y="29"/>
                    </a:lnTo>
                    <a:lnTo>
                      <a:pt x="5" y="32"/>
                    </a:lnTo>
                    <a:lnTo>
                      <a:pt x="8" y="34"/>
                    </a:lnTo>
                    <a:lnTo>
                      <a:pt x="11" y="36"/>
                    </a:lnTo>
                    <a:lnTo>
                      <a:pt x="15" y="37"/>
                    </a:lnTo>
                    <a:lnTo>
                      <a:pt x="19" y="37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d1d0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6487920" y="4442040"/>
                <a:ext cx="5040" cy="10800"/>
              </a:xfrm>
              <a:custGeom>
                <a:avLst/>
                <a:gdLst/>
                <a:ahLst/>
                <a:rect l="l" t="t" r="r" b="b"/>
                <a:pathLst>
                  <a:path w="17" h="32">
                    <a:moveTo>
                      <a:pt x="1" y="32"/>
                    </a:moveTo>
                    <a:lnTo>
                      <a:pt x="4" y="31"/>
                    </a:lnTo>
                    <a:lnTo>
                      <a:pt x="8" y="30"/>
                    </a:lnTo>
                    <a:lnTo>
                      <a:pt x="11" y="29"/>
                    </a:lnTo>
                    <a:lnTo>
                      <a:pt x="13" y="27"/>
                    </a:lnTo>
                    <a:lnTo>
                      <a:pt x="15" y="25"/>
                    </a:lnTo>
                    <a:lnTo>
                      <a:pt x="16" y="22"/>
                    </a:lnTo>
                    <a:lnTo>
                      <a:pt x="16" y="18"/>
                    </a:lnTo>
                    <a:lnTo>
                      <a:pt x="17" y="16"/>
                    </a:lnTo>
                    <a:lnTo>
                      <a:pt x="15" y="10"/>
                    </a:lnTo>
                    <a:lnTo>
                      <a:pt x="13" y="4"/>
                    </a:lnTo>
                    <a:lnTo>
                      <a:pt x="10" y="2"/>
                    </a:lnTo>
                    <a:lnTo>
                      <a:pt x="8" y="1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1" y="32"/>
                    </a:lnTo>
                    <a:close/>
                  </a:path>
                </a:pathLst>
              </a:custGeom>
              <a:solidFill>
                <a:srgbClr val="e8e8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5745240" y="4442040"/>
                <a:ext cx="742680" cy="21960"/>
              </a:xfrm>
              <a:custGeom>
                <a:avLst/>
                <a:gdLst/>
                <a:ahLst/>
                <a:rect l="l" t="t" r="r" b="b"/>
                <a:pathLst>
                  <a:path w="2340" h="69">
                    <a:moveTo>
                      <a:pt x="1" y="69"/>
                    </a:moveTo>
                    <a:lnTo>
                      <a:pt x="2340" y="32"/>
                    </a:lnTo>
                    <a:lnTo>
                      <a:pt x="2339" y="0"/>
                    </a:lnTo>
                    <a:lnTo>
                      <a:pt x="0" y="37"/>
                    </a:lnTo>
                    <a:lnTo>
                      <a:pt x="1" y="69"/>
                    </a:lnTo>
                    <a:close/>
                  </a:path>
                </a:pathLst>
              </a:custGeom>
              <a:solidFill>
                <a:srgbClr val="e8e8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5740200" y="4454640"/>
                <a:ext cx="5040" cy="9360"/>
              </a:xfrm>
              <a:custGeom>
                <a:avLst/>
                <a:gdLst/>
                <a:ahLst/>
                <a:rect l="l" t="t" r="r" b="b"/>
                <a:pathLst>
                  <a:path w="17" h="32">
                    <a:moveTo>
                      <a:pt x="16" y="0"/>
                    </a:moveTo>
                    <a:lnTo>
                      <a:pt x="13" y="0"/>
                    </a:lnTo>
                    <a:lnTo>
                      <a:pt x="10" y="1"/>
                    </a:lnTo>
                    <a:lnTo>
                      <a:pt x="7" y="3"/>
                    </a:lnTo>
                    <a:lnTo>
                      <a:pt x="4" y="5"/>
                    </a:lnTo>
                    <a:lnTo>
                      <a:pt x="2" y="7"/>
                    </a:lnTo>
                    <a:lnTo>
                      <a:pt x="1" y="10"/>
                    </a:lnTo>
                    <a:lnTo>
                      <a:pt x="0" y="14"/>
                    </a:lnTo>
                    <a:lnTo>
                      <a:pt x="0" y="16"/>
                    </a:lnTo>
                    <a:lnTo>
                      <a:pt x="1" y="19"/>
                    </a:lnTo>
                    <a:lnTo>
                      <a:pt x="1" y="22"/>
                    </a:lnTo>
                    <a:lnTo>
                      <a:pt x="3" y="24"/>
                    </a:lnTo>
                    <a:lnTo>
                      <a:pt x="4" y="28"/>
                    </a:lnTo>
                    <a:lnTo>
                      <a:pt x="7" y="30"/>
                    </a:lnTo>
                    <a:lnTo>
                      <a:pt x="10" y="31"/>
                    </a:lnTo>
                    <a:lnTo>
                      <a:pt x="13" y="32"/>
                    </a:lnTo>
                    <a:lnTo>
                      <a:pt x="17" y="32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e8e8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6472080" y="4443480"/>
                <a:ext cx="5040" cy="7920"/>
              </a:xfrm>
              <a:custGeom>
                <a:avLst/>
                <a:gdLst/>
                <a:ahLst/>
                <a:rect l="l" t="t" r="r" b="b"/>
                <a:pathLst>
                  <a:path w="14" h="27">
                    <a:moveTo>
                      <a:pt x="1" y="27"/>
                    </a:moveTo>
                    <a:lnTo>
                      <a:pt x="5" y="27"/>
                    </a:lnTo>
                    <a:lnTo>
                      <a:pt x="7" y="26"/>
                    </a:lnTo>
                    <a:lnTo>
                      <a:pt x="9" y="25"/>
                    </a:lnTo>
                    <a:lnTo>
                      <a:pt x="11" y="23"/>
                    </a:lnTo>
                    <a:lnTo>
                      <a:pt x="13" y="18"/>
                    </a:lnTo>
                    <a:lnTo>
                      <a:pt x="14" y="14"/>
                    </a:lnTo>
                    <a:lnTo>
                      <a:pt x="13" y="9"/>
                    </a:lnTo>
                    <a:lnTo>
                      <a:pt x="11" y="4"/>
                    </a:lnTo>
                    <a:lnTo>
                      <a:pt x="9" y="3"/>
                    </a:lnTo>
                    <a:lnTo>
                      <a:pt x="7" y="1"/>
                    </a:lnTo>
                    <a:lnTo>
                      <a:pt x="4" y="1"/>
                    </a:lnTo>
                    <a:lnTo>
                      <a:pt x="0" y="0"/>
                    </a:lnTo>
                    <a:lnTo>
                      <a:pt x="1" y="2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5759280" y="4443480"/>
                <a:ext cx="712800" cy="20520"/>
              </a:xfrm>
              <a:custGeom>
                <a:avLst/>
                <a:gdLst/>
                <a:ahLst/>
                <a:rect l="l" t="t" r="r" b="b"/>
                <a:pathLst>
                  <a:path w="2245" h="64">
                    <a:moveTo>
                      <a:pt x="1" y="64"/>
                    </a:moveTo>
                    <a:lnTo>
                      <a:pt x="2245" y="27"/>
                    </a:lnTo>
                    <a:lnTo>
                      <a:pt x="2244" y="0"/>
                    </a:lnTo>
                    <a:lnTo>
                      <a:pt x="0" y="38"/>
                    </a:lnTo>
                    <a:lnTo>
                      <a:pt x="1" y="6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5754600" y="4454640"/>
                <a:ext cx="4680" cy="9360"/>
              </a:xfrm>
              <a:custGeom>
                <a:avLst/>
                <a:gdLst/>
                <a:ahLst/>
                <a:rect l="l" t="t" r="r" b="b"/>
                <a:pathLst>
                  <a:path w="14" h="26">
                    <a:moveTo>
                      <a:pt x="13" y="0"/>
                    </a:moveTo>
                    <a:lnTo>
                      <a:pt x="9" y="0"/>
                    </a:lnTo>
                    <a:lnTo>
                      <a:pt x="7" y="1"/>
                    </a:lnTo>
                    <a:lnTo>
                      <a:pt x="5" y="2"/>
                    </a:lnTo>
                    <a:lnTo>
                      <a:pt x="3" y="4"/>
                    </a:lnTo>
                    <a:lnTo>
                      <a:pt x="1" y="9"/>
                    </a:lnTo>
                    <a:lnTo>
                      <a:pt x="0" y="13"/>
                    </a:lnTo>
                    <a:lnTo>
                      <a:pt x="1" y="18"/>
                    </a:lnTo>
                    <a:lnTo>
                      <a:pt x="3" y="23"/>
                    </a:lnTo>
                    <a:lnTo>
                      <a:pt x="5" y="24"/>
                    </a:lnTo>
                    <a:lnTo>
                      <a:pt x="7" y="25"/>
                    </a:lnTo>
                    <a:lnTo>
                      <a:pt x="10" y="26"/>
                    </a:lnTo>
                    <a:lnTo>
                      <a:pt x="14" y="26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5634000" y="4469040"/>
                <a:ext cx="987480" cy="29880"/>
              </a:xfrm>
              <a:custGeom>
                <a:avLst/>
                <a:gdLst/>
                <a:ahLst/>
                <a:rect l="l" t="t" r="r" b="b"/>
                <a:pathLst>
                  <a:path w="3111" h="92">
                    <a:moveTo>
                      <a:pt x="3111" y="42"/>
                    </a:moveTo>
                    <a:lnTo>
                      <a:pt x="0" y="92"/>
                    </a:lnTo>
                    <a:lnTo>
                      <a:pt x="0" y="50"/>
                    </a:lnTo>
                    <a:lnTo>
                      <a:pt x="3111" y="0"/>
                    </a:lnTo>
                    <a:lnTo>
                      <a:pt x="3111" y="42"/>
                    </a:lnTo>
                    <a:close/>
                  </a:path>
                </a:pathLst>
              </a:custGeom>
              <a:solidFill>
                <a:srgbClr val="838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5634000" y="4432320"/>
                <a:ext cx="987480" cy="66600"/>
              </a:xfrm>
              <a:custGeom>
                <a:avLst/>
                <a:gdLst/>
                <a:ahLst/>
                <a:rect l="l" t="t" r="r" b="b"/>
                <a:pathLst>
                  <a:path w="3111" h="211">
                    <a:moveTo>
                      <a:pt x="3111" y="161"/>
                    </a:moveTo>
                    <a:lnTo>
                      <a:pt x="0" y="211"/>
                    </a:lnTo>
                    <a:lnTo>
                      <a:pt x="0" y="50"/>
                    </a:lnTo>
                    <a:lnTo>
                      <a:pt x="3111" y="0"/>
                    </a:lnTo>
                    <a:lnTo>
                      <a:pt x="3111" y="161"/>
                    </a:lnTo>
                  </a:path>
                </a:pathLst>
              </a:custGeom>
              <a:noFill/>
              <a:ln w="14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6597720" y="4552920"/>
                <a:ext cx="798480" cy="300240"/>
              </a:xfrm>
              <a:custGeom>
                <a:avLst/>
                <a:gdLst/>
                <a:ahLst/>
                <a:rect l="l" t="t" r="r" b="b"/>
                <a:pathLst>
                  <a:path w="2516" h="943">
                    <a:moveTo>
                      <a:pt x="33" y="149"/>
                    </a:moveTo>
                    <a:lnTo>
                      <a:pt x="30" y="147"/>
                    </a:lnTo>
                    <a:lnTo>
                      <a:pt x="25" y="140"/>
                    </a:lnTo>
                    <a:lnTo>
                      <a:pt x="16" y="129"/>
                    </a:lnTo>
                    <a:lnTo>
                      <a:pt x="8" y="116"/>
                    </a:lnTo>
                    <a:lnTo>
                      <a:pt x="5" y="108"/>
                    </a:lnTo>
                    <a:lnTo>
                      <a:pt x="2" y="99"/>
                    </a:lnTo>
                    <a:lnTo>
                      <a:pt x="0" y="90"/>
                    </a:lnTo>
                    <a:lnTo>
                      <a:pt x="0" y="80"/>
                    </a:lnTo>
                    <a:lnTo>
                      <a:pt x="0" y="70"/>
                    </a:lnTo>
                    <a:lnTo>
                      <a:pt x="3" y="58"/>
                    </a:lnTo>
                    <a:lnTo>
                      <a:pt x="6" y="47"/>
                    </a:lnTo>
                    <a:lnTo>
                      <a:pt x="13" y="35"/>
                    </a:lnTo>
                    <a:lnTo>
                      <a:pt x="20" y="26"/>
                    </a:lnTo>
                    <a:lnTo>
                      <a:pt x="28" y="18"/>
                    </a:lnTo>
                    <a:lnTo>
                      <a:pt x="36" y="12"/>
                    </a:lnTo>
                    <a:lnTo>
                      <a:pt x="45" y="7"/>
                    </a:lnTo>
                    <a:lnTo>
                      <a:pt x="54" y="4"/>
                    </a:lnTo>
                    <a:lnTo>
                      <a:pt x="62" y="2"/>
                    </a:lnTo>
                    <a:lnTo>
                      <a:pt x="71" y="1"/>
                    </a:lnTo>
                    <a:lnTo>
                      <a:pt x="79" y="0"/>
                    </a:lnTo>
                    <a:lnTo>
                      <a:pt x="94" y="2"/>
                    </a:lnTo>
                    <a:lnTo>
                      <a:pt x="106" y="4"/>
                    </a:lnTo>
                    <a:lnTo>
                      <a:pt x="114" y="7"/>
                    </a:lnTo>
                    <a:lnTo>
                      <a:pt x="116" y="8"/>
                    </a:lnTo>
                    <a:lnTo>
                      <a:pt x="2516" y="707"/>
                    </a:lnTo>
                    <a:lnTo>
                      <a:pt x="2516" y="943"/>
                    </a:lnTo>
                    <a:lnTo>
                      <a:pt x="33" y="149"/>
                    </a:lnTo>
                    <a:close/>
                  </a:path>
                </a:pathLst>
              </a:custGeom>
              <a:solidFill>
                <a:srgbClr val="a0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7377120" y="4781520"/>
                <a:ext cx="14400" cy="20880"/>
              </a:xfrm>
              <a:custGeom>
                <a:avLst/>
                <a:gdLst/>
                <a:ahLst/>
                <a:rect l="l" t="t" r="r" b="b"/>
                <a:pathLst>
                  <a:path w="45" h="67">
                    <a:moveTo>
                      <a:pt x="0" y="66"/>
                    </a:moveTo>
                    <a:lnTo>
                      <a:pt x="8" y="67"/>
                    </a:lnTo>
                    <a:lnTo>
                      <a:pt x="15" y="67"/>
                    </a:lnTo>
                    <a:lnTo>
                      <a:pt x="22" y="66"/>
                    </a:lnTo>
                    <a:lnTo>
                      <a:pt x="27" y="63"/>
                    </a:lnTo>
                    <a:lnTo>
                      <a:pt x="33" y="58"/>
                    </a:lnTo>
                    <a:lnTo>
                      <a:pt x="37" y="54"/>
                    </a:lnTo>
                    <a:lnTo>
                      <a:pt x="40" y="48"/>
                    </a:lnTo>
                    <a:lnTo>
                      <a:pt x="42" y="42"/>
                    </a:lnTo>
                    <a:lnTo>
                      <a:pt x="45" y="36"/>
                    </a:lnTo>
                    <a:lnTo>
                      <a:pt x="45" y="30"/>
                    </a:lnTo>
                    <a:lnTo>
                      <a:pt x="43" y="24"/>
                    </a:lnTo>
                    <a:lnTo>
                      <a:pt x="41" y="17"/>
                    </a:lnTo>
                    <a:lnTo>
                      <a:pt x="38" y="12"/>
                    </a:lnTo>
                    <a:lnTo>
                      <a:pt x="33" y="6"/>
                    </a:lnTo>
                    <a:lnTo>
                      <a:pt x="27" y="2"/>
                    </a:lnTo>
                    <a:lnTo>
                      <a:pt x="20" y="0"/>
                    </a:lnTo>
                    <a:lnTo>
                      <a:pt x="0" y="66"/>
                    </a:lnTo>
                    <a:close/>
                  </a:path>
                </a:pathLst>
              </a:custGeom>
              <a:solidFill>
                <a:srgbClr val="aeae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6626160" y="4556160"/>
                <a:ext cx="757440" cy="246240"/>
              </a:xfrm>
              <a:custGeom>
                <a:avLst/>
                <a:gdLst/>
                <a:ahLst/>
                <a:rect l="l" t="t" r="r" b="b"/>
                <a:pathLst>
                  <a:path w="2387" h="774">
                    <a:moveTo>
                      <a:pt x="0" y="66"/>
                    </a:moveTo>
                    <a:lnTo>
                      <a:pt x="2367" y="774"/>
                    </a:lnTo>
                    <a:lnTo>
                      <a:pt x="2387" y="708"/>
                    </a:lnTo>
                    <a:lnTo>
                      <a:pt x="21" y="0"/>
                    </a:lnTo>
                    <a:lnTo>
                      <a:pt x="0" y="66"/>
                    </a:lnTo>
                    <a:close/>
                  </a:path>
                </a:pathLst>
              </a:custGeom>
              <a:solidFill>
                <a:srgbClr val="aeae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6618240" y="4556160"/>
                <a:ext cx="14400" cy="20520"/>
              </a:xfrm>
              <a:custGeom>
                <a:avLst/>
                <a:gdLst/>
                <a:ahLst/>
                <a:rect l="l" t="t" r="r" b="b"/>
                <a:pathLst>
                  <a:path w="45" h="67">
                    <a:moveTo>
                      <a:pt x="45" y="1"/>
                    </a:moveTo>
                    <a:lnTo>
                      <a:pt x="36" y="0"/>
                    </a:lnTo>
                    <a:lnTo>
                      <a:pt x="29" y="0"/>
                    </a:lnTo>
                    <a:lnTo>
                      <a:pt x="22" y="1"/>
                    </a:lnTo>
                    <a:lnTo>
                      <a:pt x="17" y="5"/>
                    </a:lnTo>
                    <a:lnTo>
                      <a:pt x="11" y="8"/>
                    </a:lnTo>
                    <a:lnTo>
                      <a:pt x="7" y="13"/>
                    </a:lnTo>
                    <a:lnTo>
                      <a:pt x="4" y="19"/>
                    </a:lnTo>
                    <a:lnTo>
                      <a:pt x="2" y="25"/>
                    </a:lnTo>
                    <a:lnTo>
                      <a:pt x="1" y="31"/>
                    </a:lnTo>
                    <a:lnTo>
                      <a:pt x="0" y="37"/>
                    </a:lnTo>
                    <a:lnTo>
                      <a:pt x="1" y="44"/>
                    </a:lnTo>
                    <a:lnTo>
                      <a:pt x="3" y="50"/>
                    </a:lnTo>
                    <a:lnTo>
                      <a:pt x="6" y="55"/>
                    </a:lnTo>
                    <a:lnTo>
                      <a:pt x="11" y="61"/>
                    </a:lnTo>
                    <a:lnTo>
                      <a:pt x="17" y="64"/>
                    </a:lnTo>
                    <a:lnTo>
                      <a:pt x="24" y="67"/>
                    </a:lnTo>
                    <a:lnTo>
                      <a:pt x="45" y="1"/>
                    </a:lnTo>
                    <a:close/>
                  </a:path>
                </a:pathLst>
              </a:custGeom>
              <a:solidFill>
                <a:srgbClr val="aeae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7369200" y="4776840"/>
                <a:ext cx="11160" cy="19080"/>
              </a:xfrm>
              <a:custGeom>
                <a:avLst/>
                <a:gdLst/>
                <a:ahLst/>
                <a:rect l="l" t="t" r="r" b="b"/>
                <a:pathLst>
                  <a:path w="38" h="58">
                    <a:moveTo>
                      <a:pt x="0" y="57"/>
                    </a:moveTo>
                    <a:lnTo>
                      <a:pt x="7" y="58"/>
                    </a:lnTo>
                    <a:lnTo>
                      <a:pt x="13" y="58"/>
                    </a:lnTo>
                    <a:lnTo>
                      <a:pt x="19" y="57"/>
                    </a:lnTo>
                    <a:lnTo>
                      <a:pt x="24" y="54"/>
                    </a:lnTo>
                    <a:lnTo>
                      <a:pt x="28" y="51"/>
                    </a:lnTo>
                    <a:lnTo>
                      <a:pt x="31" y="47"/>
                    </a:lnTo>
                    <a:lnTo>
                      <a:pt x="35" y="42"/>
                    </a:lnTo>
                    <a:lnTo>
                      <a:pt x="37" y="37"/>
                    </a:lnTo>
                    <a:lnTo>
                      <a:pt x="38" y="31"/>
                    </a:lnTo>
                    <a:lnTo>
                      <a:pt x="38" y="26"/>
                    </a:lnTo>
                    <a:lnTo>
                      <a:pt x="37" y="21"/>
                    </a:lnTo>
                    <a:lnTo>
                      <a:pt x="35" y="15"/>
                    </a:lnTo>
                    <a:lnTo>
                      <a:pt x="33" y="11"/>
                    </a:lnTo>
                    <a:lnTo>
                      <a:pt x="28" y="7"/>
                    </a:lnTo>
                    <a:lnTo>
                      <a:pt x="23" y="3"/>
                    </a:lnTo>
                    <a:lnTo>
                      <a:pt x="16" y="0"/>
                    </a:lnTo>
                    <a:lnTo>
                      <a:pt x="0" y="57"/>
                    </a:lnTo>
                    <a:close/>
                  </a:path>
                </a:pathLst>
              </a:custGeom>
              <a:solidFill>
                <a:srgbClr val="bfbf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6635880" y="4562640"/>
                <a:ext cx="738000" cy="233280"/>
              </a:xfrm>
              <a:custGeom>
                <a:avLst/>
                <a:gdLst/>
                <a:ahLst/>
                <a:rect l="l" t="t" r="r" b="b"/>
                <a:pathLst>
                  <a:path w="2325" h="734">
                    <a:moveTo>
                      <a:pt x="0" y="57"/>
                    </a:moveTo>
                    <a:lnTo>
                      <a:pt x="2309" y="734"/>
                    </a:lnTo>
                    <a:lnTo>
                      <a:pt x="2325" y="677"/>
                    </a:lnTo>
                    <a:lnTo>
                      <a:pt x="16" y="0"/>
                    </a:lnTo>
                    <a:lnTo>
                      <a:pt x="0" y="57"/>
                    </a:lnTo>
                    <a:close/>
                  </a:path>
                </a:pathLst>
              </a:custGeom>
              <a:solidFill>
                <a:srgbClr val="bfbf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6627960" y="4562640"/>
                <a:ext cx="12600" cy="17280"/>
              </a:xfrm>
              <a:custGeom>
                <a:avLst/>
                <a:gdLst/>
                <a:ahLst/>
                <a:rect l="l" t="t" r="r" b="b"/>
                <a:pathLst>
                  <a:path w="38" h="58">
                    <a:moveTo>
                      <a:pt x="38" y="1"/>
                    </a:moveTo>
                    <a:lnTo>
                      <a:pt x="31" y="0"/>
                    </a:lnTo>
                    <a:lnTo>
                      <a:pt x="25" y="0"/>
                    </a:lnTo>
                    <a:lnTo>
                      <a:pt x="19" y="1"/>
                    </a:lnTo>
                    <a:lnTo>
                      <a:pt x="14" y="3"/>
                    </a:lnTo>
                    <a:lnTo>
                      <a:pt x="10" y="7"/>
                    </a:lnTo>
                    <a:lnTo>
                      <a:pt x="6" y="11"/>
                    </a:lnTo>
                    <a:lnTo>
                      <a:pt x="3" y="16"/>
                    </a:lnTo>
                    <a:lnTo>
                      <a:pt x="1" y="21"/>
                    </a:lnTo>
                    <a:lnTo>
                      <a:pt x="0" y="27"/>
                    </a:lnTo>
                    <a:lnTo>
                      <a:pt x="0" y="32"/>
                    </a:lnTo>
                    <a:lnTo>
                      <a:pt x="1" y="38"/>
                    </a:lnTo>
                    <a:lnTo>
                      <a:pt x="3" y="43"/>
                    </a:lnTo>
                    <a:lnTo>
                      <a:pt x="5" y="47"/>
                    </a:lnTo>
                    <a:lnTo>
                      <a:pt x="10" y="52"/>
                    </a:lnTo>
                    <a:lnTo>
                      <a:pt x="15" y="55"/>
                    </a:lnTo>
                    <a:lnTo>
                      <a:pt x="22" y="58"/>
                    </a:lnTo>
                    <a:lnTo>
                      <a:pt x="38" y="1"/>
                    </a:lnTo>
                    <a:close/>
                  </a:path>
                </a:pathLst>
              </a:custGeom>
              <a:solidFill>
                <a:srgbClr val="bfbf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7359480" y="4773600"/>
                <a:ext cx="11160" cy="15840"/>
              </a:xfrm>
              <a:custGeom>
                <a:avLst/>
                <a:gdLst/>
                <a:ahLst/>
                <a:rect l="l" t="t" r="r" b="b"/>
                <a:pathLst>
                  <a:path w="33" h="51">
                    <a:moveTo>
                      <a:pt x="0" y="50"/>
                    </a:moveTo>
                    <a:lnTo>
                      <a:pt x="6" y="51"/>
                    </a:lnTo>
                    <a:lnTo>
                      <a:pt x="11" y="51"/>
                    </a:lnTo>
                    <a:lnTo>
                      <a:pt x="16" y="49"/>
                    </a:lnTo>
                    <a:lnTo>
                      <a:pt x="21" y="47"/>
                    </a:lnTo>
                    <a:lnTo>
                      <a:pt x="24" y="45"/>
                    </a:lnTo>
                    <a:lnTo>
                      <a:pt x="27" y="40"/>
                    </a:lnTo>
                    <a:lnTo>
                      <a:pt x="29" y="36"/>
                    </a:lnTo>
                    <a:lnTo>
                      <a:pt x="32" y="32"/>
                    </a:lnTo>
                    <a:lnTo>
                      <a:pt x="33" y="27"/>
                    </a:lnTo>
                    <a:lnTo>
                      <a:pt x="33" y="22"/>
                    </a:lnTo>
                    <a:lnTo>
                      <a:pt x="32" y="18"/>
                    </a:lnTo>
                    <a:lnTo>
                      <a:pt x="30" y="13"/>
                    </a:lnTo>
                    <a:lnTo>
                      <a:pt x="27" y="9"/>
                    </a:lnTo>
                    <a:lnTo>
                      <a:pt x="24" y="6"/>
                    </a:lnTo>
                    <a:lnTo>
                      <a:pt x="20" y="2"/>
                    </a:lnTo>
                    <a:lnTo>
                      <a:pt x="14" y="0"/>
                    </a:lnTo>
                    <a:lnTo>
                      <a:pt x="0" y="50"/>
                    </a:lnTo>
                    <a:close/>
                  </a:path>
                </a:pathLst>
              </a:custGeom>
              <a:solidFill>
                <a:srgbClr val="d1d0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6643800" y="4567320"/>
                <a:ext cx="720720" cy="222120"/>
              </a:xfrm>
              <a:custGeom>
                <a:avLst/>
                <a:gdLst/>
                <a:ahLst/>
                <a:rect l="l" t="t" r="r" b="b"/>
                <a:pathLst>
                  <a:path w="2272" h="700">
                    <a:moveTo>
                      <a:pt x="0" y="50"/>
                    </a:moveTo>
                    <a:lnTo>
                      <a:pt x="2258" y="700"/>
                    </a:lnTo>
                    <a:lnTo>
                      <a:pt x="2272" y="650"/>
                    </a:lnTo>
                    <a:lnTo>
                      <a:pt x="15" y="0"/>
                    </a:lnTo>
                    <a:lnTo>
                      <a:pt x="0" y="50"/>
                    </a:lnTo>
                    <a:close/>
                  </a:path>
                </a:pathLst>
              </a:custGeom>
              <a:solidFill>
                <a:srgbClr val="d1d0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6637320" y="4567320"/>
                <a:ext cx="11160" cy="15840"/>
              </a:xfrm>
              <a:custGeom>
                <a:avLst/>
                <a:gdLst/>
                <a:ahLst/>
                <a:rect l="l" t="t" r="r" b="b"/>
                <a:pathLst>
                  <a:path w="33" h="51">
                    <a:moveTo>
                      <a:pt x="33" y="1"/>
                    </a:moveTo>
                    <a:lnTo>
                      <a:pt x="27" y="0"/>
                    </a:lnTo>
                    <a:lnTo>
                      <a:pt x="21" y="0"/>
                    </a:lnTo>
                    <a:lnTo>
                      <a:pt x="16" y="1"/>
                    </a:lnTo>
                    <a:lnTo>
                      <a:pt x="12" y="3"/>
                    </a:lnTo>
                    <a:lnTo>
                      <a:pt x="8" y="7"/>
                    </a:lnTo>
                    <a:lnTo>
                      <a:pt x="4" y="10"/>
                    </a:lnTo>
                    <a:lnTo>
                      <a:pt x="2" y="14"/>
                    </a:lnTo>
                    <a:lnTo>
                      <a:pt x="1" y="18"/>
                    </a:lnTo>
                    <a:lnTo>
                      <a:pt x="0" y="24"/>
                    </a:lnTo>
                    <a:lnTo>
                      <a:pt x="0" y="28"/>
                    </a:lnTo>
                    <a:lnTo>
                      <a:pt x="0" y="34"/>
                    </a:lnTo>
                    <a:lnTo>
                      <a:pt x="2" y="38"/>
                    </a:lnTo>
                    <a:lnTo>
                      <a:pt x="4" y="42"/>
                    </a:lnTo>
                    <a:lnTo>
                      <a:pt x="8" y="45"/>
                    </a:lnTo>
                    <a:lnTo>
                      <a:pt x="13" y="49"/>
                    </a:lnTo>
                    <a:lnTo>
                      <a:pt x="18" y="51"/>
                    </a:lnTo>
                    <a:lnTo>
                      <a:pt x="33" y="1"/>
                    </a:lnTo>
                    <a:close/>
                  </a:path>
                </a:pathLst>
              </a:custGeom>
              <a:solidFill>
                <a:srgbClr val="d1d0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7351560" y="477036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26" h="43">
                    <a:moveTo>
                      <a:pt x="0" y="42"/>
                    </a:moveTo>
                    <a:lnTo>
                      <a:pt x="5" y="43"/>
                    </a:lnTo>
                    <a:lnTo>
                      <a:pt x="9" y="42"/>
                    </a:lnTo>
                    <a:lnTo>
                      <a:pt x="13" y="42"/>
                    </a:lnTo>
                    <a:lnTo>
                      <a:pt x="17" y="39"/>
                    </a:lnTo>
                    <a:lnTo>
                      <a:pt x="20" y="37"/>
                    </a:lnTo>
                    <a:lnTo>
                      <a:pt x="23" y="34"/>
                    </a:lnTo>
                    <a:lnTo>
                      <a:pt x="24" y="31"/>
                    </a:lnTo>
                    <a:lnTo>
                      <a:pt x="26" y="26"/>
                    </a:lnTo>
                    <a:lnTo>
                      <a:pt x="26" y="23"/>
                    </a:lnTo>
                    <a:lnTo>
                      <a:pt x="26" y="19"/>
                    </a:lnTo>
                    <a:lnTo>
                      <a:pt x="26" y="15"/>
                    </a:lnTo>
                    <a:lnTo>
                      <a:pt x="25" y="11"/>
                    </a:lnTo>
                    <a:lnTo>
                      <a:pt x="23" y="8"/>
                    </a:lnTo>
                    <a:lnTo>
                      <a:pt x="20" y="5"/>
                    </a:lnTo>
                    <a:lnTo>
                      <a:pt x="15" y="3"/>
                    </a:lnTo>
                    <a:lnTo>
                      <a:pt x="11" y="0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e8e8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6653160" y="4573800"/>
                <a:ext cx="701640" cy="209520"/>
              </a:xfrm>
              <a:custGeom>
                <a:avLst/>
                <a:gdLst/>
                <a:ahLst/>
                <a:rect l="l" t="t" r="r" b="b"/>
                <a:pathLst>
                  <a:path w="2214" h="661">
                    <a:moveTo>
                      <a:pt x="0" y="40"/>
                    </a:moveTo>
                    <a:lnTo>
                      <a:pt x="2203" y="661"/>
                    </a:lnTo>
                    <a:lnTo>
                      <a:pt x="2214" y="619"/>
                    </a:lnTo>
                    <a:lnTo>
                      <a:pt x="11" y="0"/>
                    </a:lnTo>
                    <a:lnTo>
                      <a:pt x="0" y="40"/>
                    </a:lnTo>
                    <a:close/>
                  </a:path>
                </a:pathLst>
              </a:custGeom>
              <a:solidFill>
                <a:srgbClr val="e8e8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6646680" y="4573800"/>
                <a:ext cx="9720" cy="12600"/>
              </a:xfrm>
              <a:custGeom>
                <a:avLst/>
                <a:gdLst/>
                <a:ahLst/>
                <a:rect l="l" t="t" r="r" b="b"/>
                <a:pathLst>
                  <a:path w="27" h="42">
                    <a:moveTo>
                      <a:pt x="27" y="2"/>
                    </a:moveTo>
                    <a:lnTo>
                      <a:pt x="22" y="0"/>
                    </a:lnTo>
                    <a:lnTo>
                      <a:pt x="18" y="0"/>
                    </a:lnTo>
                    <a:lnTo>
                      <a:pt x="14" y="2"/>
                    </a:lnTo>
                    <a:lnTo>
                      <a:pt x="10" y="4"/>
                    </a:lnTo>
                    <a:lnTo>
                      <a:pt x="7" y="6"/>
                    </a:lnTo>
                    <a:lnTo>
                      <a:pt x="5" y="9"/>
                    </a:lnTo>
                    <a:lnTo>
                      <a:pt x="3" y="12"/>
                    </a:lnTo>
                    <a:lnTo>
                      <a:pt x="2" y="16"/>
                    </a:lnTo>
                    <a:lnTo>
                      <a:pt x="0" y="20"/>
                    </a:lnTo>
                    <a:lnTo>
                      <a:pt x="0" y="24"/>
                    </a:lnTo>
                    <a:lnTo>
                      <a:pt x="2" y="27"/>
                    </a:lnTo>
                    <a:lnTo>
                      <a:pt x="3" y="32"/>
                    </a:lnTo>
                    <a:lnTo>
                      <a:pt x="5" y="35"/>
                    </a:lnTo>
                    <a:lnTo>
                      <a:pt x="8" y="37"/>
                    </a:lnTo>
                    <a:lnTo>
                      <a:pt x="11" y="40"/>
                    </a:lnTo>
                    <a:lnTo>
                      <a:pt x="16" y="42"/>
                    </a:lnTo>
                    <a:lnTo>
                      <a:pt x="27" y="2"/>
                    </a:lnTo>
                    <a:close/>
                  </a:path>
                </a:pathLst>
              </a:custGeom>
              <a:solidFill>
                <a:srgbClr val="e8e8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7342200" y="4767480"/>
                <a:ext cx="7920" cy="9360"/>
              </a:xfrm>
              <a:custGeom>
                <a:avLst/>
                <a:gdLst/>
                <a:ahLst/>
                <a:rect l="l" t="t" r="r" b="b"/>
                <a:pathLst>
                  <a:path w="22" h="33">
                    <a:moveTo>
                      <a:pt x="0" y="32"/>
                    </a:moveTo>
                    <a:lnTo>
                      <a:pt x="4" y="33"/>
                    </a:lnTo>
                    <a:lnTo>
                      <a:pt x="8" y="33"/>
                    </a:lnTo>
                    <a:lnTo>
                      <a:pt x="11" y="32"/>
                    </a:lnTo>
                    <a:lnTo>
                      <a:pt x="14" y="31"/>
                    </a:lnTo>
                    <a:lnTo>
                      <a:pt x="16" y="29"/>
                    </a:lnTo>
                    <a:lnTo>
                      <a:pt x="19" y="27"/>
                    </a:lnTo>
                    <a:lnTo>
                      <a:pt x="21" y="23"/>
                    </a:lnTo>
                    <a:lnTo>
                      <a:pt x="22" y="20"/>
                    </a:lnTo>
                    <a:lnTo>
                      <a:pt x="22" y="17"/>
                    </a:lnTo>
                    <a:lnTo>
                      <a:pt x="22" y="14"/>
                    </a:lnTo>
                    <a:lnTo>
                      <a:pt x="22" y="10"/>
                    </a:lnTo>
                    <a:lnTo>
                      <a:pt x="21" y="8"/>
                    </a:lnTo>
                    <a:lnTo>
                      <a:pt x="19" y="5"/>
                    </a:lnTo>
                    <a:lnTo>
                      <a:pt x="16" y="3"/>
                    </a:lnTo>
                    <a:lnTo>
                      <a:pt x="13" y="1"/>
                    </a:lnTo>
                    <a:lnTo>
                      <a:pt x="10" y="0"/>
                    </a:lnTo>
                    <a:lnTo>
                      <a:pt x="0" y="3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6661080" y="4579920"/>
                <a:ext cx="684360" cy="196920"/>
              </a:xfrm>
              <a:custGeom>
                <a:avLst/>
                <a:gdLst/>
                <a:ahLst/>
                <a:rect l="l" t="t" r="r" b="b"/>
                <a:pathLst>
                  <a:path w="2159" h="621">
                    <a:moveTo>
                      <a:pt x="0" y="33"/>
                    </a:moveTo>
                    <a:lnTo>
                      <a:pt x="2149" y="621"/>
                    </a:lnTo>
                    <a:lnTo>
                      <a:pt x="2159" y="589"/>
                    </a:lnTo>
                    <a:lnTo>
                      <a:pt x="10" y="0"/>
                    </a:lnTo>
                    <a:lnTo>
                      <a:pt x="0" y="3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6656400" y="457992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21" h="34">
                    <a:moveTo>
                      <a:pt x="21" y="1"/>
                    </a:moveTo>
                    <a:lnTo>
                      <a:pt x="17" y="0"/>
                    </a:lnTo>
                    <a:lnTo>
                      <a:pt x="14" y="0"/>
                    </a:lnTo>
                    <a:lnTo>
                      <a:pt x="10" y="1"/>
                    </a:lnTo>
                    <a:lnTo>
                      <a:pt x="7" y="3"/>
                    </a:lnTo>
                    <a:lnTo>
                      <a:pt x="5" y="4"/>
                    </a:lnTo>
                    <a:lnTo>
                      <a:pt x="3" y="7"/>
                    </a:lnTo>
                    <a:lnTo>
                      <a:pt x="1" y="10"/>
                    </a:lnTo>
                    <a:lnTo>
                      <a:pt x="0" y="13"/>
                    </a:lnTo>
                    <a:lnTo>
                      <a:pt x="0" y="16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1" y="26"/>
                    </a:lnTo>
                    <a:lnTo>
                      <a:pt x="3" y="28"/>
                    </a:lnTo>
                    <a:lnTo>
                      <a:pt x="5" y="30"/>
                    </a:lnTo>
                    <a:lnTo>
                      <a:pt x="8" y="32"/>
                    </a:lnTo>
                    <a:lnTo>
                      <a:pt x="11" y="34"/>
                    </a:lnTo>
                    <a:lnTo>
                      <a:pt x="21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6597720" y="4576680"/>
                <a:ext cx="798480" cy="276480"/>
              </a:xfrm>
              <a:custGeom>
                <a:avLst/>
                <a:gdLst/>
                <a:ahLst/>
                <a:rect l="l" t="t" r="r" b="b"/>
                <a:pathLst>
                  <a:path w="2516" h="869">
                    <a:moveTo>
                      <a:pt x="2516" y="789"/>
                    </a:moveTo>
                    <a:lnTo>
                      <a:pt x="2516" y="869"/>
                    </a:lnTo>
                    <a:lnTo>
                      <a:pt x="33" y="75"/>
                    </a:lnTo>
                    <a:lnTo>
                      <a:pt x="31" y="74"/>
                    </a:lnTo>
                    <a:lnTo>
                      <a:pt x="27" y="69"/>
                    </a:lnTo>
                    <a:lnTo>
                      <a:pt x="21" y="63"/>
                    </a:lnTo>
                    <a:lnTo>
                      <a:pt x="15" y="54"/>
                    </a:lnTo>
                    <a:lnTo>
                      <a:pt x="8" y="43"/>
                    </a:lnTo>
                    <a:lnTo>
                      <a:pt x="4" y="31"/>
                    </a:lnTo>
                    <a:lnTo>
                      <a:pt x="2" y="24"/>
                    </a:lnTo>
                    <a:lnTo>
                      <a:pt x="1" y="16"/>
                    </a:lnTo>
                    <a:lnTo>
                      <a:pt x="0" y="9"/>
                    </a:lnTo>
                    <a:lnTo>
                      <a:pt x="1" y="0"/>
                    </a:lnTo>
                    <a:lnTo>
                      <a:pt x="2516" y="789"/>
                    </a:lnTo>
                    <a:close/>
                  </a:path>
                </a:pathLst>
              </a:custGeom>
              <a:solidFill>
                <a:srgbClr val="7b79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6597720" y="4552920"/>
                <a:ext cx="798480" cy="300240"/>
              </a:xfrm>
              <a:custGeom>
                <a:avLst/>
                <a:gdLst/>
                <a:ahLst/>
                <a:rect l="l" t="t" r="r" b="b"/>
                <a:pathLst>
                  <a:path w="2516" h="943">
                    <a:moveTo>
                      <a:pt x="33" y="149"/>
                    </a:moveTo>
                    <a:lnTo>
                      <a:pt x="30" y="147"/>
                    </a:lnTo>
                    <a:lnTo>
                      <a:pt x="25" y="140"/>
                    </a:lnTo>
                    <a:lnTo>
                      <a:pt x="16" y="129"/>
                    </a:lnTo>
                    <a:lnTo>
                      <a:pt x="8" y="116"/>
                    </a:lnTo>
                    <a:lnTo>
                      <a:pt x="5" y="108"/>
                    </a:lnTo>
                    <a:lnTo>
                      <a:pt x="2" y="99"/>
                    </a:lnTo>
                    <a:lnTo>
                      <a:pt x="0" y="90"/>
                    </a:lnTo>
                    <a:lnTo>
                      <a:pt x="0" y="80"/>
                    </a:lnTo>
                    <a:lnTo>
                      <a:pt x="0" y="70"/>
                    </a:lnTo>
                    <a:lnTo>
                      <a:pt x="3" y="58"/>
                    </a:lnTo>
                    <a:lnTo>
                      <a:pt x="6" y="47"/>
                    </a:lnTo>
                    <a:lnTo>
                      <a:pt x="13" y="35"/>
                    </a:lnTo>
                    <a:lnTo>
                      <a:pt x="20" y="26"/>
                    </a:lnTo>
                    <a:lnTo>
                      <a:pt x="28" y="18"/>
                    </a:lnTo>
                    <a:lnTo>
                      <a:pt x="36" y="12"/>
                    </a:lnTo>
                    <a:lnTo>
                      <a:pt x="45" y="7"/>
                    </a:lnTo>
                    <a:lnTo>
                      <a:pt x="54" y="4"/>
                    </a:lnTo>
                    <a:lnTo>
                      <a:pt x="62" y="2"/>
                    </a:lnTo>
                    <a:lnTo>
                      <a:pt x="71" y="1"/>
                    </a:lnTo>
                    <a:lnTo>
                      <a:pt x="79" y="0"/>
                    </a:lnTo>
                    <a:lnTo>
                      <a:pt x="94" y="2"/>
                    </a:lnTo>
                    <a:lnTo>
                      <a:pt x="106" y="4"/>
                    </a:lnTo>
                    <a:lnTo>
                      <a:pt x="114" y="7"/>
                    </a:lnTo>
                    <a:lnTo>
                      <a:pt x="116" y="8"/>
                    </a:lnTo>
                    <a:lnTo>
                      <a:pt x="2516" y="707"/>
                    </a:lnTo>
                    <a:lnTo>
                      <a:pt x="2516" y="943"/>
                    </a:lnTo>
                    <a:lnTo>
                      <a:pt x="33" y="149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6135840" y="4630680"/>
                <a:ext cx="1314360" cy="103320"/>
              </a:xfrm>
              <a:custGeom>
                <a:avLst/>
                <a:gdLst/>
                <a:ahLst/>
                <a:rect l="l" t="t" r="r" b="b"/>
                <a:pathLst>
                  <a:path w="4140" h="324">
                    <a:moveTo>
                      <a:pt x="4140" y="213"/>
                    </a:moveTo>
                    <a:lnTo>
                      <a:pt x="0" y="324"/>
                    </a:lnTo>
                    <a:lnTo>
                      <a:pt x="0" y="111"/>
                    </a:lnTo>
                    <a:lnTo>
                      <a:pt x="4140" y="0"/>
                    </a:lnTo>
                    <a:lnTo>
                      <a:pt x="4140" y="213"/>
                    </a:lnTo>
                    <a:close/>
                  </a:path>
                </a:pathLst>
              </a:custGeom>
              <a:solidFill>
                <a:srgbClr val="a0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7354800" y="4638600"/>
                <a:ext cx="12600" cy="25560"/>
              </a:xfrm>
              <a:custGeom>
                <a:avLst/>
                <a:gdLst/>
                <a:ahLst/>
                <a:rect l="l" t="t" r="r" b="b"/>
                <a:pathLst>
                  <a:path w="40" h="77">
                    <a:moveTo>
                      <a:pt x="2" y="77"/>
                    </a:moveTo>
                    <a:lnTo>
                      <a:pt x="11" y="75"/>
                    </a:lnTo>
                    <a:lnTo>
                      <a:pt x="19" y="73"/>
                    </a:lnTo>
                    <a:lnTo>
                      <a:pt x="26" y="69"/>
                    </a:lnTo>
                    <a:lnTo>
                      <a:pt x="30" y="64"/>
                    </a:lnTo>
                    <a:lnTo>
                      <a:pt x="34" y="58"/>
                    </a:lnTo>
                    <a:lnTo>
                      <a:pt x="38" y="52"/>
                    </a:lnTo>
                    <a:lnTo>
                      <a:pt x="39" y="44"/>
                    </a:lnTo>
                    <a:lnTo>
                      <a:pt x="40" y="38"/>
                    </a:lnTo>
                    <a:lnTo>
                      <a:pt x="39" y="30"/>
                    </a:lnTo>
                    <a:lnTo>
                      <a:pt x="37" y="24"/>
                    </a:lnTo>
                    <a:lnTo>
                      <a:pt x="33" y="17"/>
                    </a:lnTo>
                    <a:lnTo>
                      <a:pt x="29" y="12"/>
                    </a:lnTo>
                    <a:lnTo>
                      <a:pt x="24" y="6"/>
                    </a:lnTo>
                    <a:lnTo>
                      <a:pt x="17" y="3"/>
                    </a:lnTo>
                    <a:lnTo>
                      <a:pt x="10" y="1"/>
                    </a:lnTo>
                    <a:lnTo>
                      <a:pt x="0" y="0"/>
                    </a:lnTo>
                    <a:lnTo>
                      <a:pt x="2" y="77"/>
                    </a:lnTo>
                    <a:close/>
                  </a:path>
                </a:pathLst>
              </a:custGeom>
              <a:solidFill>
                <a:srgbClr val="a0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6207120" y="4638600"/>
                <a:ext cx="1147680" cy="57240"/>
              </a:xfrm>
              <a:custGeom>
                <a:avLst/>
                <a:gdLst/>
                <a:ahLst/>
                <a:rect l="l" t="t" r="r" b="b"/>
                <a:pathLst>
                  <a:path w="3615" h="176">
                    <a:moveTo>
                      <a:pt x="3" y="176"/>
                    </a:moveTo>
                    <a:lnTo>
                      <a:pt x="3615" y="77"/>
                    </a:lnTo>
                    <a:lnTo>
                      <a:pt x="3613" y="0"/>
                    </a:lnTo>
                    <a:lnTo>
                      <a:pt x="0" y="99"/>
                    </a:lnTo>
                    <a:lnTo>
                      <a:pt x="3" y="176"/>
                    </a:lnTo>
                    <a:close/>
                  </a:path>
                </a:pathLst>
              </a:custGeom>
              <a:solidFill>
                <a:srgbClr val="a0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6195960" y="4670640"/>
                <a:ext cx="12600" cy="25200"/>
              </a:xfrm>
              <a:custGeom>
                <a:avLst/>
                <a:gdLst/>
                <a:ahLst/>
                <a:rect l="l" t="t" r="r" b="b"/>
                <a:pathLst>
                  <a:path w="39" h="77">
                    <a:moveTo>
                      <a:pt x="36" y="0"/>
                    </a:moveTo>
                    <a:lnTo>
                      <a:pt x="28" y="1"/>
                    </a:lnTo>
                    <a:lnTo>
                      <a:pt x="20" y="3"/>
                    </a:lnTo>
                    <a:lnTo>
                      <a:pt x="14" y="8"/>
                    </a:lnTo>
                    <a:lnTo>
                      <a:pt x="8" y="13"/>
                    </a:lnTo>
                    <a:lnTo>
                      <a:pt x="4" y="19"/>
                    </a:lnTo>
                    <a:lnTo>
                      <a:pt x="2" y="25"/>
                    </a:lnTo>
                    <a:lnTo>
                      <a:pt x="0" y="33"/>
                    </a:lnTo>
                    <a:lnTo>
                      <a:pt x="0" y="39"/>
                    </a:lnTo>
                    <a:lnTo>
                      <a:pt x="1" y="47"/>
                    </a:lnTo>
                    <a:lnTo>
                      <a:pt x="3" y="53"/>
                    </a:lnTo>
                    <a:lnTo>
                      <a:pt x="5" y="60"/>
                    </a:lnTo>
                    <a:lnTo>
                      <a:pt x="10" y="65"/>
                    </a:lnTo>
                    <a:lnTo>
                      <a:pt x="16" y="70"/>
                    </a:lnTo>
                    <a:lnTo>
                      <a:pt x="22" y="74"/>
                    </a:lnTo>
                    <a:lnTo>
                      <a:pt x="30" y="76"/>
                    </a:lnTo>
                    <a:lnTo>
                      <a:pt x="39" y="77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a0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7334280" y="4641840"/>
                <a:ext cx="11160" cy="20880"/>
              </a:xfrm>
              <a:custGeom>
                <a:avLst/>
                <a:gdLst/>
                <a:ahLst/>
                <a:rect l="l" t="t" r="r" b="b"/>
                <a:pathLst>
                  <a:path w="36" h="69">
                    <a:moveTo>
                      <a:pt x="1" y="69"/>
                    </a:moveTo>
                    <a:lnTo>
                      <a:pt x="10" y="68"/>
                    </a:lnTo>
                    <a:lnTo>
                      <a:pt x="16" y="66"/>
                    </a:lnTo>
                    <a:lnTo>
                      <a:pt x="23" y="63"/>
                    </a:lnTo>
                    <a:lnTo>
                      <a:pt x="27" y="58"/>
                    </a:lnTo>
                    <a:lnTo>
                      <a:pt x="30" y="53"/>
                    </a:lnTo>
                    <a:lnTo>
                      <a:pt x="34" y="47"/>
                    </a:lnTo>
                    <a:lnTo>
                      <a:pt x="35" y="40"/>
                    </a:lnTo>
                    <a:lnTo>
                      <a:pt x="36" y="34"/>
                    </a:lnTo>
                    <a:lnTo>
                      <a:pt x="35" y="27"/>
                    </a:lnTo>
                    <a:lnTo>
                      <a:pt x="32" y="22"/>
                    </a:lnTo>
                    <a:lnTo>
                      <a:pt x="30" y="15"/>
                    </a:lnTo>
                    <a:lnTo>
                      <a:pt x="26" y="11"/>
                    </a:lnTo>
                    <a:lnTo>
                      <a:pt x="21" y="7"/>
                    </a:lnTo>
                    <a:lnTo>
                      <a:pt x="15" y="4"/>
                    </a:lnTo>
                    <a:lnTo>
                      <a:pt x="8" y="1"/>
                    </a:lnTo>
                    <a:lnTo>
                      <a:pt x="0" y="0"/>
                    </a:lnTo>
                    <a:lnTo>
                      <a:pt x="1" y="69"/>
                    </a:lnTo>
                    <a:close/>
                  </a:path>
                </a:pathLst>
              </a:custGeom>
              <a:solidFill>
                <a:srgbClr val="aeae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6226200" y="4641840"/>
                <a:ext cx="1108080" cy="50760"/>
              </a:xfrm>
              <a:custGeom>
                <a:avLst/>
                <a:gdLst/>
                <a:ahLst/>
                <a:rect l="l" t="t" r="r" b="b"/>
                <a:pathLst>
                  <a:path w="3489" h="163">
                    <a:moveTo>
                      <a:pt x="1" y="163"/>
                    </a:moveTo>
                    <a:lnTo>
                      <a:pt x="3489" y="69"/>
                    </a:lnTo>
                    <a:lnTo>
                      <a:pt x="3488" y="0"/>
                    </a:lnTo>
                    <a:lnTo>
                      <a:pt x="0" y="94"/>
                    </a:lnTo>
                    <a:lnTo>
                      <a:pt x="1" y="163"/>
                    </a:lnTo>
                    <a:close/>
                  </a:path>
                </a:pathLst>
              </a:custGeom>
              <a:solidFill>
                <a:srgbClr val="aeae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6215040" y="4670640"/>
                <a:ext cx="11160" cy="21960"/>
              </a:xfrm>
              <a:custGeom>
                <a:avLst/>
                <a:gdLst/>
                <a:ahLst/>
                <a:rect l="l" t="t" r="r" b="b"/>
                <a:pathLst>
                  <a:path w="36" h="69">
                    <a:moveTo>
                      <a:pt x="35" y="0"/>
                    </a:moveTo>
                    <a:lnTo>
                      <a:pt x="26" y="1"/>
                    </a:lnTo>
                    <a:lnTo>
                      <a:pt x="20" y="4"/>
                    </a:lnTo>
                    <a:lnTo>
                      <a:pt x="13" y="8"/>
                    </a:lnTo>
                    <a:lnTo>
                      <a:pt x="9" y="12"/>
                    </a:lnTo>
                    <a:lnTo>
                      <a:pt x="6" y="18"/>
                    </a:lnTo>
                    <a:lnTo>
                      <a:pt x="2" y="23"/>
                    </a:lnTo>
                    <a:lnTo>
                      <a:pt x="1" y="29"/>
                    </a:lnTo>
                    <a:lnTo>
                      <a:pt x="0" y="36"/>
                    </a:lnTo>
                    <a:lnTo>
                      <a:pt x="1" y="42"/>
                    </a:lnTo>
                    <a:lnTo>
                      <a:pt x="4" y="48"/>
                    </a:lnTo>
                    <a:lnTo>
                      <a:pt x="6" y="54"/>
                    </a:lnTo>
                    <a:lnTo>
                      <a:pt x="10" y="60"/>
                    </a:lnTo>
                    <a:lnTo>
                      <a:pt x="15" y="64"/>
                    </a:lnTo>
                    <a:lnTo>
                      <a:pt x="21" y="67"/>
                    </a:lnTo>
                    <a:lnTo>
                      <a:pt x="28" y="68"/>
                    </a:lnTo>
                    <a:lnTo>
                      <a:pt x="36" y="69"/>
                    </a:lnTo>
                    <a:lnTo>
                      <a:pt x="35" y="0"/>
                    </a:lnTo>
                    <a:close/>
                  </a:path>
                </a:pathLst>
              </a:custGeom>
              <a:solidFill>
                <a:srgbClr val="aeae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7313760" y="464364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31" h="59">
                    <a:moveTo>
                      <a:pt x="1" y="59"/>
                    </a:moveTo>
                    <a:lnTo>
                      <a:pt x="8" y="58"/>
                    </a:lnTo>
                    <a:lnTo>
                      <a:pt x="14" y="56"/>
                    </a:lnTo>
                    <a:lnTo>
                      <a:pt x="19" y="53"/>
                    </a:lnTo>
                    <a:lnTo>
                      <a:pt x="23" y="48"/>
                    </a:lnTo>
                    <a:lnTo>
                      <a:pt x="26" y="44"/>
                    </a:lnTo>
                    <a:lnTo>
                      <a:pt x="28" y="40"/>
                    </a:lnTo>
                    <a:lnTo>
                      <a:pt x="29" y="34"/>
                    </a:lnTo>
                    <a:lnTo>
                      <a:pt x="31" y="28"/>
                    </a:lnTo>
                    <a:lnTo>
                      <a:pt x="29" y="22"/>
                    </a:lnTo>
                    <a:lnTo>
                      <a:pt x="28" y="17"/>
                    </a:lnTo>
                    <a:lnTo>
                      <a:pt x="25" y="13"/>
                    </a:lnTo>
                    <a:lnTo>
                      <a:pt x="22" y="8"/>
                    </a:lnTo>
                    <a:lnTo>
                      <a:pt x="18" y="4"/>
                    </a:lnTo>
                    <a:lnTo>
                      <a:pt x="13" y="2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1" y="59"/>
                    </a:lnTo>
                    <a:close/>
                  </a:path>
                </a:pathLst>
              </a:custGeom>
              <a:solidFill>
                <a:srgbClr val="bfbf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6245280" y="4643640"/>
                <a:ext cx="1068480" cy="47520"/>
              </a:xfrm>
              <a:custGeom>
                <a:avLst/>
                <a:gdLst/>
                <a:ahLst/>
                <a:rect l="l" t="t" r="r" b="b"/>
                <a:pathLst>
                  <a:path w="3364" h="150">
                    <a:moveTo>
                      <a:pt x="2" y="150"/>
                    </a:moveTo>
                    <a:lnTo>
                      <a:pt x="3364" y="59"/>
                    </a:lnTo>
                    <a:lnTo>
                      <a:pt x="3363" y="0"/>
                    </a:lnTo>
                    <a:lnTo>
                      <a:pt x="0" y="90"/>
                    </a:lnTo>
                    <a:lnTo>
                      <a:pt x="2" y="150"/>
                    </a:lnTo>
                    <a:close/>
                  </a:path>
                </a:pathLst>
              </a:custGeom>
              <a:solidFill>
                <a:srgbClr val="bfbf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6237360" y="467208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31" h="60">
                    <a:moveTo>
                      <a:pt x="29" y="0"/>
                    </a:moveTo>
                    <a:lnTo>
                      <a:pt x="22" y="2"/>
                    </a:lnTo>
                    <a:lnTo>
                      <a:pt x="16" y="4"/>
                    </a:lnTo>
                    <a:lnTo>
                      <a:pt x="11" y="7"/>
                    </a:lnTo>
                    <a:lnTo>
                      <a:pt x="8" y="10"/>
                    </a:lnTo>
                    <a:lnTo>
                      <a:pt x="5" y="16"/>
                    </a:lnTo>
                    <a:lnTo>
                      <a:pt x="2" y="20"/>
                    </a:lnTo>
                    <a:lnTo>
                      <a:pt x="0" y="25"/>
                    </a:lnTo>
                    <a:lnTo>
                      <a:pt x="0" y="31"/>
                    </a:lnTo>
                    <a:lnTo>
                      <a:pt x="1" y="37"/>
                    </a:lnTo>
                    <a:lnTo>
                      <a:pt x="2" y="41"/>
                    </a:lnTo>
                    <a:lnTo>
                      <a:pt x="5" y="47"/>
                    </a:lnTo>
                    <a:lnTo>
                      <a:pt x="8" y="51"/>
                    </a:lnTo>
                    <a:lnTo>
                      <a:pt x="12" y="56"/>
                    </a:lnTo>
                    <a:lnTo>
                      <a:pt x="18" y="58"/>
                    </a:lnTo>
                    <a:lnTo>
                      <a:pt x="24" y="60"/>
                    </a:lnTo>
                    <a:lnTo>
                      <a:pt x="31" y="6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bfbf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7292880" y="4645080"/>
                <a:ext cx="9720" cy="15840"/>
              </a:xfrm>
              <a:custGeom>
                <a:avLst/>
                <a:gdLst/>
                <a:ahLst/>
                <a:rect l="l" t="t" r="r" b="b"/>
                <a:pathLst>
                  <a:path w="27" h="52">
                    <a:moveTo>
                      <a:pt x="1" y="52"/>
                    </a:moveTo>
                    <a:lnTo>
                      <a:pt x="7" y="52"/>
                    </a:lnTo>
                    <a:lnTo>
                      <a:pt x="12" y="50"/>
                    </a:lnTo>
                    <a:lnTo>
                      <a:pt x="17" y="47"/>
                    </a:lnTo>
                    <a:lnTo>
                      <a:pt x="20" y="43"/>
                    </a:lnTo>
                    <a:lnTo>
                      <a:pt x="23" y="40"/>
                    </a:lnTo>
                    <a:lnTo>
                      <a:pt x="24" y="36"/>
                    </a:lnTo>
                    <a:lnTo>
                      <a:pt x="25" y="30"/>
                    </a:lnTo>
                    <a:lnTo>
                      <a:pt x="27" y="26"/>
                    </a:lnTo>
                    <a:lnTo>
                      <a:pt x="25" y="21"/>
                    </a:lnTo>
                    <a:lnTo>
                      <a:pt x="24" y="16"/>
                    </a:lnTo>
                    <a:lnTo>
                      <a:pt x="22" y="12"/>
                    </a:lnTo>
                    <a:lnTo>
                      <a:pt x="19" y="8"/>
                    </a:lnTo>
                    <a:lnTo>
                      <a:pt x="16" y="6"/>
                    </a:lnTo>
                    <a:lnTo>
                      <a:pt x="11" y="2"/>
                    </a:lnTo>
                    <a:lnTo>
                      <a:pt x="6" y="1"/>
                    </a:lnTo>
                    <a:lnTo>
                      <a:pt x="0" y="0"/>
                    </a:lnTo>
                    <a:lnTo>
                      <a:pt x="1" y="52"/>
                    </a:lnTo>
                    <a:close/>
                  </a:path>
                </a:pathLst>
              </a:custGeom>
              <a:solidFill>
                <a:srgbClr val="d1d0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6264360" y="4645080"/>
                <a:ext cx="1028520" cy="44640"/>
              </a:xfrm>
              <a:custGeom>
                <a:avLst/>
                <a:gdLst/>
                <a:ahLst/>
                <a:rect l="l" t="t" r="r" b="b"/>
                <a:pathLst>
                  <a:path w="3240" h="142">
                    <a:moveTo>
                      <a:pt x="1" y="142"/>
                    </a:moveTo>
                    <a:lnTo>
                      <a:pt x="3240" y="52"/>
                    </a:lnTo>
                    <a:lnTo>
                      <a:pt x="3239" y="0"/>
                    </a:lnTo>
                    <a:lnTo>
                      <a:pt x="0" y="90"/>
                    </a:lnTo>
                    <a:lnTo>
                      <a:pt x="1" y="142"/>
                    </a:lnTo>
                    <a:close/>
                  </a:path>
                </a:pathLst>
              </a:custGeom>
              <a:solidFill>
                <a:srgbClr val="d1d0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6256440" y="4673520"/>
                <a:ext cx="9360" cy="16200"/>
              </a:xfrm>
              <a:custGeom>
                <a:avLst/>
                <a:gdLst/>
                <a:ahLst/>
                <a:rect l="l" t="t" r="r" b="b"/>
                <a:pathLst>
                  <a:path w="26" h="52">
                    <a:moveTo>
                      <a:pt x="25" y="0"/>
                    </a:moveTo>
                    <a:lnTo>
                      <a:pt x="18" y="1"/>
                    </a:lnTo>
                    <a:lnTo>
                      <a:pt x="13" y="2"/>
                    </a:lnTo>
                    <a:lnTo>
                      <a:pt x="9" y="5"/>
                    </a:lnTo>
                    <a:lnTo>
                      <a:pt x="5" y="8"/>
                    </a:lnTo>
                    <a:lnTo>
                      <a:pt x="3" y="13"/>
                    </a:lnTo>
                    <a:lnTo>
                      <a:pt x="1" y="17"/>
                    </a:lnTo>
                    <a:lnTo>
                      <a:pt x="0" y="21"/>
                    </a:lnTo>
                    <a:lnTo>
                      <a:pt x="0" y="26"/>
                    </a:lnTo>
                    <a:lnTo>
                      <a:pt x="0" y="31"/>
                    </a:lnTo>
                    <a:lnTo>
                      <a:pt x="1" y="35"/>
                    </a:lnTo>
                    <a:lnTo>
                      <a:pt x="3" y="40"/>
                    </a:lnTo>
                    <a:lnTo>
                      <a:pt x="6" y="44"/>
                    </a:lnTo>
                    <a:lnTo>
                      <a:pt x="10" y="47"/>
                    </a:lnTo>
                    <a:lnTo>
                      <a:pt x="15" y="49"/>
                    </a:lnTo>
                    <a:lnTo>
                      <a:pt x="21" y="51"/>
                    </a:lnTo>
                    <a:lnTo>
                      <a:pt x="26" y="52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d1d0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7272360" y="46465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21" h="42">
                    <a:moveTo>
                      <a:pt x="1" y="42"/>
                    </a:moveTo>
                    <a:lnTo>
                      <a:pt x="5" y="42"/>
                    </a:lnTo>
                    <a:lnTo>
                      <a:pt x="9" y="40"/>
                    </a:lnTo>
                    <a:lnTo>
                      <a:pt x="13" y="37"/>
                    </a:lnTo>
                    <a:lnTo>
                      <a:pt x="16" y="35"/>
                    </a:lnTo>
                    <a:lnTo>
                      <a:pt x="18" y="32"/>
                    </a:lnTo>
                    <a:lnTo>
                      <a:pt x="20" y="28"/>
                    </a:lnTo>
                    <a:lnTo>
                      <a:pt x="20" y="25"/>
                    </a:lnTo>
                    <a:lnTo>
                      <a:pt x="21" y="20"/>
                    </a:lnTo>
                    <a:lnTo>
                      <a:pt x="20" y="17"/>
                    </a:lnTo>
                    <a:lnTo>
                      <a:pt x="19" y="13"/>
                    </a:lnTo>
                    <a:lnTo>
                      <a:pt x="18" y="9"/>
                    </a:lnTo>
                    <a:lnTo>
                      <a:pt x="15" y="6"/>
                    </a:lnTo>
                    <a:lnTo>
                      <a:pt x="13" y="4"/>
                    </a:lnTo>
                    <a:lnTo>
                      <a:pt x="8" y="2"/>
                    </a:lnTo>
                    <a:lnTo>
                      <a:pt x="4" y="1"/>
                    </a:lnTo>
                    <a:lnTo>
                      <a:pt x="0" y="0"/>
                    </a:lnTo>
                    <a:lnTo>
                      <a:pt x="1" y="42"/>
                    </a:lnTo>
                    <a:close/>
                  </a:path>
                </a:pathLst>
              </a:custGeom>
              <a:solidFill>
                <a:srgbClr val="e8e8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6283440" y="4646520"/>
                <a:ext cx="990360" cy="41400"/>
              </a:xfrm>
              <a:custGeom>
                <a:avLst/>
                <a:gdLst/>
                <a:ahLst/>
                <a:rect l="l" t="t" r="r" b="b"/>
                <a:pathLst>
                  <a:path w="3117" h="126">
                    <a:moveTo>
                      <a:pt x="1" y="126"/>
                    </a:moveTo>
                    <a:lnTo>
                      <a:pt x="3117" y="42"/>
                    </a:lnTo>
                    <a:lnTo>
                      <a:pt x="3116" y="0"/>
                    </a:lnTo>
                    <a:lnTo>
                      <a:pt x="0" y="84"/>
                    </a:lnTo>
                    <a:lnTo>
                      <a:pt x="1" y="126"/>
                    </a:lnTo>
                    <a:close/>
                  </a:path>
                </a:pathLst>
              </a:custGeom>
              <a:solidFill>
                <a:srgbClr val="e8e8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6276960" y="4673520"/>
                <a:ext cx="6480" cy="14400"/>
              </a:xfrm>
              <a:custGeom>
                <a:avLst/>
                <a:gdLst/>
                <a:ahLst/>
                <a:rect l="l" t="t" r="r" b="b"/>
                <a:pathLst>
                  <a:path w="21" h="42">
                    <a:moveTo>
                      <a:pt x="20" y="0"/>
                    </a:moveTo>
                    <a:lnTo>
                      <a:pt x="15" y="1"/>
                    </a:lnTo>
                    <a:lnTo>
                      <a:pt x="11" y="2"/>
                    </a:lnTo>
                    <a:lnTo>
                      <a:pt x="7" y="4"/>
                    </a:lnTo>
                    <a:lnTo>
                      <a:pt x="4" y="6"/>
                    </a:lnTo>
                    <a:lnTo>
                      <a:pt x="2" y="10"/>
                    </a:lnTo>
                    <a:lnTo>
                      <a:pt x="1" y="14"/>
                    </a:lnTo>
                    <a:lnTo>
                      <a:pt x="0" y="17"/>
                    </a:lnTo>
                    <a:lnTo>
                      <a:pt x="0" y="22"/>
                    </a:lnTo>
                    <a:lnTo>
                      <a:pt x="0" y="26"/>
                    </a:lnTo>
                    <a:lnTo>
                      <a:pt x="1" y="29"/>
                    </a:lnTo>
                    <a:lnTo>
                      <a:pt x="3" y="32"/>
                    </a:lnTo>
                    <a:lnTo>
                      <a:pt x="5" y="36"/>
                    </a:lnTo>
                    <a:lnTo>
                      <a:pt x="8" y="39"/>
                    </a:lnTo>
                    <a:lnTo>
                      <a:pt x="12" y="40"/>
                    </a:lnTo>
                    <a:lnTo>
                      <a:pt x="16" y="42"/>
                    </a:lnTo>
                    <a:lnTo>
                      <a:pt x="21" y="42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e8e8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7251840" y="4649760"/>
                <a:ext cx="4680" cy="11160"/>
              </a:xfrm>
              <a:custGeom>
                <a:avLst/>
                <a:gdLst/>
                <a:ahLst/>
                <a:rect l="l" t="t" r="r" b="b"/>
                <a:pathLst>
                  <a:path w="17" h="35">
                    <a:moveTo>
                      <a:pt x="1" y="35"/>
                    </a:moveTo>
                    <a:lnTo>
                      <a:pt x="4" y="34"/>
                    </a:lnTo>
                    <a:lnTo>
                      <a:pt x="8" y="33"/>
                    </a:lnTo>
                    <a:lnTo>
                      <a:pt x="11" y="31"/>
                    </a:lnTo>
                    <a:lnTo>
                      <a:pt x="14" y="29"/>
                    </a:lnTo>
                    <a:lnTo>
                      <a:pt x="15" y="26"/>
                    </a:lnTo>
                    <a:lnTo>
                      <a:pt x="16" y="23"/>
                    </a:lnTo>
                    <a:lnTo>
                      <a:pt x="17" y="21"/>
                    </a:lnTo>
                    <a:lnTo>
                      <a:pt x="17" y="17"/>
                    </a:lnTo>
                    <a:lnTo>
                      <a:pt x="17" y="14"/>
                    </a:lnTo>
                    <a:lnTo>
                      <a:pt x="16" y="11"/>
                    </a:lnTo>
                    <a:lnTo>
                      <a:pt x="15" y="8"/>
                    </a:lnTo>
                    <a:lnTo>
                      <a:pt x="13" y="6"/>
                    </a:lnTo>
                    <a:lnTo>
                      <a:pt x="11" y="3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1" y="3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6303960" y="4649760"/>
                <a:ext cx="947880" cy="34920"/>
              </a:xfrm>
              <a:custGeom>
                <a:avLst/>
                <a:gdLst/>
                <a:ahLst/>
                <a:rect l="l" t="t" r="r" b="b"/>
                <a:pathLst>
                  <a:path w="2988" h="114">
                    <a:moveTo>
                      <a:pt x="1" y="114"/>
                    </a:moveTo>
                    <a:lnTo>
                      <a:pt x="2988" y="35"/>
                    </a:lnTo>
                    <a:lnTo>
                      <a:pt x="2987" y="0"/>
                    </a:lnTo>
                    <a:lnTo>
                      <a:pt x="0" y="79"/>
                    </a:lnTo>
                    <a:lnTo>
                      <a:pt x="1" y="11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6297480" y="4673520"/>
                <a:ext cx="6480" cy="11160"/>
              </a:xfrm>
              <a:custGeom>
                <a:avLst/>
                <a:gdLst/>
                <a:ahLst/>
                <a:rect l="l" t="t" r="r" b="b"/>
                <a:pathLst>
                  <a:path w="17" h="35">
                    <a:moveTo>
                      <a:pt x="16" y="0"/>
                    </a:moveTo>
                    <a:lnTo>
                      <a:pt x="13" y="1"/>
                    </a:lnTo>
                    <a:lnTo>
                      <a:pt x="8" y="2"/>
                    </a:lnTo>
                    <a:lnTo>
                      <a:pt x="6" y="3"/>
                    </a:lnTo>
                    <a:lnTo>
                      <a:pt x="3" y="6"/>
                    </a:lnTo>
                    <a:lnTo>
                      <a:pt x="2" y="9"/>
                    </a:lnTo>
                    <a:lnTo>
                      <a:pt x="1" y="12"/>
                    </a:lnTo>
                    <a:lnTo>
                      <a:pt x="0" y="15"/>
                    </a:lnTo>
                    <a:lnTo>
                      <a:pt x="0" y="18"/>
                    </a:lnTo>
                    <a:lnTo>
                      <a:pt x="0" y="22"/>
                    </a:lnTo>
                    <a:lnTo>
                      <a:pt x="1" y="24"/>
                    </a:lnTo>
                    <a:lnTo>
                      <a:pt x="2" y="27"/>
                    </a:lnTo>
                    <a:lnTo>
                      <a:pt x="4" y="29"/>
                    </a:lnTo>
                    <a:lnTo>
                      <a:pt x="6" y="31"/>
                    </a:lnTo>
                    <a:lnTo>
                      <a:pt x="9" y="33"/>
                    </a:lnTo>
                    <a:lnTo>
                      <a:pt x="13" y="35"/>
                    </a:lnTo>
                    <a:lnTo>
                      <a:pt x="17" y="35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6135840" y="4680000"/>
                <a:ext cx="1314360" cy="54000"/>
              </a:xfrm>
              <a:custGeom>
                <a:avLst/>
                <a:gdLst/>
                <a:ahLst/>
                <a:rect l="l" t="t" r="r" b="b"/>
                <a:pathLst>
                  <a:path w="4140" h="169">
                    <a:moveTo>
                      <a:pt x="4140" y="58"/>
                    </a:moveTo>
                    <a:lnTo>
                      <a:pt x="0" y="169"/>
                    </a:lnTo>
                    <a:lnTo>
                      <a:pt x="0" y="112"/>
                    </a:lnTo>
                    <a:lnTo>
                      <a:pt x="4140" y="0"/>
                    </a:lnTo>
                    <a:lnTo>
                      <a:pt x="4140" y="58"/>
                    </a:lnTo>
                    <a:close/>
                  </a:path>
                </a:pathLst>
              </a:custGeom>
              <a:solidFill>
                <a:srgbClr val="838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6135840" y="4630680"/>
                <a:ext cx="1314360" cy="103320"/>
              </a:xfrm>
              <a:custGeom>
                <a:avLst/>
                <a:gdLst/>
                <a:ahLst/>
                <a:rect l="l" t="t" r="r" b="b"/>
                <a:pathLst>
                  <a:path w="4140" h="324">
                    <a:moveTo>
                      <a:pt x="4140" y="213"/>
                    </a:moveTo>
                    <a:lnTo>
                      <a:pt x="0" y="324"/>
                    </a:lnTo>
                    <a:lnTo>
                      <a:pt x="0" y="111"/>
                    </a:lnTo>
                    <a:lnTo>
                      <a:pt x="4140" y="0"/>
                    </a:lnTo>
                    <a:lnTo>
                      <a:pt x="4140" y="213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7283520" y="5235480"/>
                <a:ext cx="260280" cy="486000"/>
              </a:xfrm>
              <a:custGeom>
                <a:avLst/>
                <a:gdLst/>
                <a:ahLst/>
                <a:rect l="l" t="t" r="r" b="b"/>
                <a:pathLst>
                  <a:path w="823" h="1530">
                    <a:moveTo>
                      <a:pt x="60" y="1194"/>
                    </a:moveTo>
                    <a:lnTo>
                      <a:pt x="71" y="1230"/>
                    </a:lnTo>
                    <a:lnTo>
                      <a:pt x="84" y="1266"/>
                    </a:lnTo>
                    <a:lnTo>
                      <a:pt x="98" y="1299"/>
                    </a:lnTo>
                    <a:lnTo>
                      <a:pt x="114" y="1331"/>
                    </a:lnTo>
                    <a:lnTo>
                      <a:pt x="129" y="1360"/>
                    </a:lnTo>
                    <a:lnTo>
                      <a:pt x="145" y="1388"/>
                    </a:lnTo>
                    <a:lnTo>
                      <a:pt x="162" y="1413"/>
                    </a:lnTo>
                    <a:lnTo>
                      <a:pt x="179" y="1437"/>
                    </a:lnTo>
                    <a:lnTo>
                      <a:pt x="198" y="1457"/>
                    </a:lnTo>
                    <a:lnTo>
                      <a:pt x="217" y="1475"/>
                    </a:lnTo>
                    <a:lnTo>
                      <a:pt x="227" y="1484"/>
                    </a:lnTo>
                    <a:lnTo>
                      <a:pt x="237" y="1492"/>
                    </a:lnTo>
                    <a:lnTo>
                      <a:pt x="246" y="1498"/>
                    </a:lnTo>
                    <a:lnTo>
                      <a:pt x="257" y="1505"/>
                    </a:lnTo>
                    <a:lnTo>
                      <a:pt x="267" y="1510"/>
                    </a:lnTo>
                    <a:lnTo>
                      <a:pt x="278" y="1515"/>
                    </a:lnTo>
                    <a:lnTo>
                      <a:pt x="288" y="1520"/>
                    </a:lnTo>
                    <a:lnTo>
                      <a:pt x="298" y="1523"/>
                    </a:lnTo>
                    <a:lnTo>
                      <a:pt x="309" y="1526"/>
                    </a:lnTo>
                    <a:lnTo>
                      <a:pt x="320" y="1528"/>
                    </a:lnTo>
                    <a:lnTo>
                      <a:pt x="331" y="1529"/>
                    </a:lnTo>
                    <a:lnTo>
                      <a:pt x="342" y="1530"/>
                    </a:lnTo>
                    <a:lnTo>
                      <a:pt x="347" y="1530"/>
                    </a:lnTo>
                    <a:lnTo>
                      <a:pt x="359" y="1530"/>
                    </a:lnTo>
                    <a:lnTo>
                      <a:pt x="375" y="1530"/>
                    </a:lnTo>
                    <a:lnTo>
                      <a:pt x="394" y="1530"/>
                    </a:lnTo>
                    <a:lnTo>
                      <a:pt x="413" y="1530"/>
                    </a:lnTo>
                    <a:lnTo>
                      <a:pt x="429" y="1530"/>
                    </a:lnTo>
                    <a:lnTo>
                      <a:pt x="441" y="1530"/>
                    </a:lnTo>
                    <a:lnTo>
                      <a:pt x="445" y="1530"/>
                    </a:lnTo>
                    <a:lnTo>
                      <a:pt x="463" y="1529"/>
                    </a:lnTo>
                    <a:lnTo>
                      <a:pt x="481" y="1526"/>
                    </a:lnTo>
                    <a:lnTo>
                      <a:pt x="498" y="1521"/>
                    </a:lnTo>
                    <a:lnTo>
                      <a:pt x="517" y="1514"/>
                    </a:lnTo>
                    <a:lnTo>
                      <a:pt x="534" y="1506"/>
                    </a:lnTo>
                    <a:lnTo>
                      <a:pt x="551" y="1496"/>
                    </a:lnTo>
                    <a:lnTo>
                      <a:pt x="567" y="1484"/>
                    </a:lnTo>
                    <a:lnTo>
                      <a:pt x="585" y="1470"/>
                    </a:lnTo>
                    <a:lnTo>
                      <a:pt x="601" y="1455"/>
                    </a:lnTo>
                    <a:lnTo>
                      <a:pt x="617" y="1438"/>
                    </a:lnTo>
                    <a:lnTo>
                      <a:pt x="633" y="1419"/>
                    </a:lnTo>
                    <a:lnTo>
                      <a:pt x="648" y="1399"/>
                    </a:lnTo>
                    <a:lnTo>
                      <a:pt x="663" y="1378"/>
                    </a:lnTo>
                    <a:lnTo>
                      <a:pt x="678" y="1354"/>
                    </a:lnTo>
                    <a:lnTo>
                      <a:pt x="693" y="1331"/>
                    </a:lnTo>
                    <a:lnTo>
                      <a:pt x="706" y="1306"/>
                    </a:lnTo>
                    <a:lnTo>
                      <a:pt x="719" y="1279"/>
                    </a:lnTo>
                    <a:lnTo>
                      <a:pt x="732" y="1251"/>
                    </a:lnTo>
                    <a:lnTo>
                      <a:pt x="742" y="1222"/>
                    </a:lnTo>
                    <a:lnTo>
                      <a:pt x="754" y="1192"/>
                    </a:lnTo>
                    <a:lnTo>
                      <a:pt x="764" y="1161"/>
                    </a:lnTo>
                    <a:lnTo>
                      <a:pt x="774" y="1129"/>
                    </a:lnTo>
                    <a:lnTo>
                      <a:pt x="783" y="1096"/>
                    </a:lnTo>
                    <a:lnTo>
                      <a:pt x="791" y="1062"/>
                    </a:lnTo>
                    <a:lnTo>
                      <a:pt x="798" y="1027"/>
                    </a:lnTo>
                    <a:lnTo>
                      <a:pt x="805" y="992"/>
                    </a:lnTo>
                    <a:lnTo>
                      <a:pt x="810" y="955"/>
                    </a:lnTo>
                    <a:lnTo>
                      <a:pt x="815" y="918"/>
                    </a:lnTo>
                    <a:lnTo>
                      <a:pt x="819" y="880"/>
                    </a:lnTo>
                    <a:lnTo>
                      <a:pt x="821" y="843"/>
                    </a:lnTo>
                    <a:lnTo>
                      <a:pt x="823" y="804"/>
                    </a:lnTo>
                    <a:lnTo>
                      <a:pt x="823" y="764"/>
                    </a:lnTo>
                    <a:lnTo>
                      <a:pt x="823" y="725"/>
                    </a:lnTo>
                    <a:lnTo>
                      <a:pt x="821" y="686"/>
                    </a:lnTo>
                    <a:lnTo>
                      <a:pt x="819" y="647"/>
                    </a:lnTo>
                    <a:lnTo>
                      <a:pt x="815" y="609"/>
                    </a:lnTo>
                    <a:lnTo>
                      <a:pt x="810" y="573"/>
                    </a:lnTo>
                    <a:lnTo>
                      <a:pt x="805" y="537"/>
                    </a:lnTo>
                    <a:lnTo>
                      <a:pt x="798" y="501"/>
                    </a:lnTo>
                    <a:lnTo>
                      <a:pt x="791" y="467"/>
                    </a:lnTo>
                    <a:lnTo>
                      <a:pt x="783" y="432"/>
                    </a:lnTo>
                    <a:lnTo>
                      <a:pt x="774" y="400"/>
                    </a:lnTo>
                    <a:lnTo>
                      <a:pt x="764" y="367"/>
                    </a:lnTo>
                    <a:lnTo>
                      <a:pt x="754" y="336"/>
                    </a:lnTo>
                    <a:lnTo>
                      <a:pt x="742" y="307"/>
                    </a:lnTo>
                    <a:lnTo>
                      <a:pt x="732" y="278"/>
                    </a:lnTo>
                    <a:lnTo>
                      <a:pt x="719" y="250"/>
                    </a:lnTo>
                    <a:lnTo>
                      <a:pt x="706" y="224"/>
                    </a:lnTo>
                    <a:lnTo>
                      <a:pt x="693" y="198"/>
                    </a:lnTo>
                    <a:lnTo>
                      <a:pt x="678" y="174"/>
                    </a:lnTo>
                    <a:lnTo>
                      <a:pt x="663" y="151"/>
                    </a:lnTo>
                    <a:lnTo>
                      <a:pt x="648" y="130"/>
                    </a:lnTo>
                    <a:lnTo>
                      <a:pt x="633" y="110"/>
                    </a:lnTo>
                    <a:lnTo>
                      <a:pt x="617" y="92"/>
                    </a:lnTo>
                    <a:lnTo>
                      <a:pt x="601" y="76"/>
                    </a:lnTo>
                    <a:lnTo>
                      <a:pt x="585" y="60"/>
                    </a:lnTo>
                    <a:lnTo>
                      <a:pt x="567" y="47"/>
                    </a:lnTo>
                    <a:lnTo>
                      <a:pt x="551" y="35"/>
                    </a:lnTo>
                    <a:lnTo>
                      <a:pt x="534" y="24"/>
                    </a:lnTo>
                    <a:lnTo>
                      <a:pt x="517" y="15"/>
                    </a:lnTo>
                    <a:lnTo>
                      <a:pt x="498" y="9"/>
                    </a:lnTo>
                    <a:lnTo>
                      <a:pt x="481" y="4"/>
                    </a:lnTo>
                    <a:lnTo>
                      <a:pt x="463" y="1"/>
                    </a:lnTo>
                    <a:lnTo>
                      <a:pt x="445" y="0"/>
                    </a:lnTo>
                    <a:lnTo>
                      <a:pt x="441" y="0"/>
                    </a:lnTo>
                    <a:lnTo>
                      <a:pt x="429" y="0"/>
                    </a:lnTo>
                    <a:lnTo>
                      <a:pt x="413" y="0"/>
                    </a:lnTo>
                    <a:lnTo>
                      <a:pt x="394" y="0"/>
                    </a:lnTo>
                    <a:lnTo>
                      <a:pt x="375" y="0"/>
                    </a:lnTo>
                    <a:lnTo>
                      <a:pt x="359" y="0"/>
                    </a:lnTo>
                    <a:lnTo>
                      <a:pt x="347" y="0"/>
                    </a:lnTo>
                    <a:lnTo>
                      <a:pt x="342" y="0"/>
                    </a:lnTo>
                    <a:lnTo>
                      <a:pt x="324" y="1"/>
                    </a:lnTo>
                    <a:lnTo>
                      <a:pt x="307" y="4"/>
                    </a:lnTo>
                    <a:lnTo>
                      <a:pt x="290" y="10"/>
                    </a:lnTo>
                    <a:lnTo>
                      <a:pt x="272" y="16"/>
                    </a:lnTo>
                    <a:lnTo>
                      <a:pt x="256" y="25"/>
                    </a:lnTo>
                    <a:lnTo>
                      <a:pt x="240" y="36"/>
                    </a:lnTo>
                    <a:lnTo>
                      <a:pt x="224" y="48"/>
                    </a:lnTo>
                    <a:lnTo>
                      <a:pt x="209" y="62"/>
                    </a:lnTo>
                    <a:lnTo>
                      <a:pt x="194" y="77"/>
                    </a:lnTo>
                    <a:lnTo>
                      <a:pt x="178" y="94"/>
                    </a:lnTo>
                    <a:lnTo>
                      <a:pt x="164" y="112"/>
                    </a:lnTo>
                    <a:lnTo>
                      <a:pt x="150" y="132"/>
                    </a:lnTo>
                    <a:lnTo>
                      <a:pt x="137" y="153"/>
                    </a:lnTo>
                    <a:lnTo>
                      <a:pt x="124" y="176"/>
                    </a:lnTo>
                    <a:lnTo>
                      <a:pt x="113" y="200"/>
                    </a:lnTo>
                    <a:lnTo>
                      <a:pt x="101" y="225"/>
                    </a:lnTo>
                    <a:lnTo>
                      <a:pt x="89" y="252"/>
                    </a:lnTo>
                    <a:lnTo>
                      <a:pt x="78" y="280"/>
                    </a:lnTo>
                    <a:lnTo>
                      <a:pt x="68" y="308"/>
                    </a:lnTo>
                    <a:lnTo>
                      <a:pt x="59" y="338"/>
                    </a:lnTo>
                    <a:lnTo>
                      <a:pt x="50" y="369"/>
                    </a:lnTo>
                    <a:lnTo>
                      <a:pt x="41" y="401"/>
                    </a:lnTo>
                    <a:lnTo>
                      <a:pt x="34" y="434"/>
                    </a:lnTo>
                    <a:lnTo>
                      <a:pt x="27" y="468"/>
                    </a:lnTo>
                    <a:lnTo>
                      <a:pt x="21" y="502"/>
                    </a:lnTo>
                    <a:lnTo>
                      <a:pt x="15" y="538"/>
                    </a:lnTo>
                    <a:lnTo>
                      <a:pt x="11" y="574"/>
                    </a:lnTo>
                    <a:lnTo>
                      <a:pt x="7" y="610"/>
                    </a:lnTo>
                    <a:lnTo>
                      <a:pt x="4" y="648"/>
                    </a:lnTo>
                    <a:lnTo>
                      <a:pt x="2" y="686"/>
                    </a:lnTo>
                    <a:lnTo>
                      <a:pt x="0" y="725"/>
                    </a:lnTo>
                    <a:lnTo>
                      <a:pt x="0" y="764"/>
                    </a:lnTo>
                    <a:lnTo>
                      <a:pt x="1" y="823"/>
                    </a:lnTo>
                    <a:lnTo>
                      <a:pt x="4" y="881"/>
                    </a:lnTo>
                    <a:lnTo>
                      <a:pt x="9" y="939"/>
                    </a:lnTo>
                    <a:lnTo>
                      <a:pt x="16" y="994"/>
                    </a:lnTo>
                    <a:lnTo>
                      <a:pt x="24" y="1047"/>
                    </a:lnTo>
                    <a:lnTo>
                      <a:pt x="35" y="1098"/>
                    </a:lnTo>
                    <a:lnTo>
                      <a:pt x="47" y="1147"/>
                    </a:lnTo>
                    <a:lnTo>
                      <a:pt x="60" y="1194"/>
                    </a:lnTo>
                    <a:close/>
                  </a:path>
                </a:pathLst>
              </a:custGeom>
              <a:solidFill>
                <a:srgbClr val="3e43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7286760" y="5246640"/>
                <a:ext cx="209520" cy="465120"/>
              </a:xfrm>
              <a:custGeom>
                <a:avLst/>
                <a:gdLst/>
                <a:ahLst/>
                <a:rect l="l" t="t" r="r" b="b"/>
                <a:pathLst>
                  <a:path w="660" h="1463">
                    <a:moveTo>
                      <a:pt x="57" y="1143"/>
                    </a:moveTo>
                    <a:lnTo>
                      <a:pt x="69" y="1179"/>
                    </a:lnTo>
                    <a:lnTo>
                      <a:pt x="81" y="1212"/>
                    </a:lnTo>
                    <a:lnTo>
                      <a:pt x="95" y="1245"/>
                    </a:lnTo>
                    <a:lnTo>
                      <a:pt x="109" y="1275"/>
                    </a:lnTo>
                    <a:lnTo>
                      <a:pt x="124" y="1303"/>
                    </a:lnTo>
                    <a:lnTo>
                      <a:pt x="140" y="1329"/>
                    </a:lnTo>
                    <a:lnTo>
                      <a:pt x="157" y="1354"/>
                    </a:lnTo>
                    <a:lnTo>
                      <a:pt x="174" y="1375"/>
                    </a:lnTo>
                    <a:lnTo>
                      <a:pt x="192" y="1395"/>
                    </a:lnTo>
                    <a:lnTo>
                      <a:pt x="211" y="1412"/>
                    </a:lnTo>
                    <a:lnTo>
                      <a:pt x="220" y="1420"/>
                    </a:lnTo>
                    <a:lnTo>
                      <a:pt x="230" y="1427"/>
                    </a:lnTo>
                    <a:lnTo>
                      <a:pt x="240" y="1434"/>
                    </a:lnTo>
                    <a:lnTo>
                      <a:pt x="250" y="1440"/>
                    </a:lnTo>
                    <a:lnTo>
                      <a:pt x="259" y="1445"/>
                    </a:lnTo>
                    <a:lnTo>
                      <a:pt x="269" y="1450"/>
                    </a:lnTo>
                    <a:lnTo>
                      <a:pt x="280" y="1453"/>
                    </a:lnTo>
                    <a:lnTo>
                      <a:pt x="290" y="1456"/>
                    </a:lnTo>
                    <a:lnTo>
                      <a:pt x="300" y="1460"/>
                    </a:lnTo>
                    <a:lnTo>
                      <a:pt x="310" y="1461"/>
                    </a:lnTo>
                    <a:lnTo>
                      <a:pt x="321" y="1462"/>
                    </a:lnTo>
                    <a:lnTo>
                      <a:pt x="332" y="1463"/>
                    </a:lnTo>
                    <a:lnTo>
                      <a:pt x="349" y="1462"/>
                    </a:lnTo>
                    <a:lnTo>
                      <a:pt x="365" y="1459"/>
                    </a:lnTo>
                    <a:lnTo>
                      <a:pt x="381" y="1454"/>
                    </a:lnTo>
                    <a:lnTo>
                      <a:pt x="398" y="1448"/>
                    </a:lnTo>
                    <a:lnTo>
                      <a:pt x="414" y="1439"/>
                    </a:lnTo>
                    <a:lnTo>
                      <a:pt x="429" y="1429"/>
                    </a:lnTo>
                    <a:lnTo>
                      <a:pt x="444" y="1419"/>
                    </a:lnTo>
                    <a:lnTo>
                      <a:pt x="459" y="1406"/>
                    </a:lnTo>
                    <a:lnTo>
                      <a:pt x="474" y="1391"/>
                    </a:lnTo>
                    <a:lnTo>
                      <a:pt x="488" y="1374"/>
                    </a:lnTo>
                    <a:lnTo>
                      <a:pt x="501" y="1357"/>
                    </a:lnTo>
                    <a:lnTo>
                      <a:pt x="515" y="1338"/>
                    </a:lnTo>
                    <a:lnTo>
                      <a:pt x="528" y="1317"/>
                    </a:lnTo>
                    <a:lnTo>
                      <a:pt x="540" y="1296"/>
                    </a:lnTo>
                    <a:lnTo>
                      <a:pt x="552" y="1273"/>
                    </a:lnTo>
                    <a:lnTo>
                      <a:pt x="564" y="1249"/>
                    </a:lnTo>
                    <a:lnTo>
                      <a:pt x="575" y="1223"/>
                    </a:lnTo>
                    <a:lnTo>
                      <a:pt x="586" y="1197"/>
                    </a:lnTo>
                    <a:lnTo>
                      <a:pt x="595" y="1169"/>
                    </a:lnTo>
                    <a:lnTo>
                      <a:pt x="604" y="1140"/>
                    </a:lnTo>
                    <a:lnTo>
                      <a:pt x="613" y="1111"/>
                    </a:lnTo>
                    <a:lnTo>
                      <a:pt x="620" y="1081"/>
                    </a:lnTo>
                    <a:lnTo>
                      <a:pt x="628" y="1048"/>
                    </a:lnTo>
                    <a:lnTo>
                      <a:pt x="634" y="1016"/>
                    </a:lnTo>
                    <a:lnTo>
                      <a:pt x="641" y="983"/>
                    </a:lnTo>
                    <a:lnTo>
                      <a:pt x="646" y="949"/>
                    </a:lnTo>
                    <a:lnTo>
                      <a:pt x="650" y="914"/>
                    </a:lnTo>
                    <a:lnTo>
                      <a:pt x="654" y="879"/>
                    </a:lnTo>
                    <a:lnTo>
                      <a:pt x="657" y="843"/>
                    </a:lnTo>
                    <a:lnTo>
                      <a:pt x="659" y="806"/>
                    </a:lnTo>
                    <a:lnTo>
                      <a:pt x="660" y="768"/>
                    </a:lnTo>
                    <a:lnTo>
                      <a:pt x="660" y="731"/>
                    </a:lnTo>
                    <a:lnTo>
                      <a:pt x="660" y="693"/>
                    </a:lnTo>
                    <a:lnTo>
                      <a:pt x="659" y="656"/>
                    </a:lnTo>
                    <a:lnTo>
                      <a:pt x="657" y="619"/>
                    </a:lnTo>
                    <a:lnTo>
                      <a:pt x="654" y="584"/>
                    </a:lnTo>
                    <a:lnTo>
                      <a:pt x="650" y="548"/>
                    </a:lnTo>
                    <a:lnTo>
                      <a:pt x="646" y="514"/>
                    </a:lnTo>
                    <a:lnTo>
                      <a:pt x="641" y="480"/>
                    </a:lnTo>
                    <a:lnTo>
                      <a:pt x="634" y="447"/>
                    </a:lnTo>
                    <a:lnTo>
                      <a:pt x="628" y="414"/>
                    </a:lnTo>
                    <a:lnTo>
                      <a:pt x="620" y="383"/>
                    </a:lnTo>
                    <a:lnTo>
                      <a:pt x="613" y="352"/>
                    </a:lnTo>
                    <a:lnTo>
                      <a:pt x="604" y="322"/>
                    </a:lnTo>
                    <a:lnTo>
                      <a:pt x="595" y="293"/>
                    </a:lnTo>
                    <a:lnTo>
                      <a:pt x="586" y="266"/>
                    </a:lnTo>
                    <a:lnTo>
                      <a:pt x="575" y="239"/>
                    </a:lnTo>
                    <a:lnTo>
                      <a:pt x="564" y="213"/>
                    </a:lnTo>
                    <a:lnTo>
                      <a:pt x="552" y="190"/>
                    </a:lnTo>
                    <a:lnTo>
                      <a:pt x="540" y="167"/>
                    </a:lnTo>
                    <a:lnTo>
                      <a:pt x="528" y="145"/>
                    </a:lnTo>
                    <a:lnTo>
                      <a:pt x="515" y="125"/>
                    </a:lnTo>
                    <a:lnTo>
                      <a:pt x="501" y="105"/>
                    </a:lnTo>
                    <a:lnTo>
                      <a:pt x="488" y="88"/>
                    </a:lnTo>
                    <a:lnTo>
                      <a:pt x="474" y="72"/>
                    </a:lnTo>
                    <a:lnTo>
                      <a:pt x="459" y="57"/>
                    </a:lnTo>
                    <a:lnTo>
                      <a:pt x="444" y="44"/>
                    </a:lnTo>
                    <a:lnTo>
                      <a:pt x="429" y="32"/>
                    </a:lnTo>
                    <a:lnTo>
                      <a:pt x="414" y="22"/>
                    </a:lnTo>
                    <a:lnTo>
                      <a:pt x="398" y="14"/>
                    </a:lnTo>
                    <a:lnTo>
                      <a:pt x="381" y="8"/>
                    </a:lnTo>
                    <a:lnTo>
                      <a:pt x="365" y="3"/>
                    </a:lnTo>
                    <a:lnTo>
                      <a:pt x="349" y="1"/>
                    </a:lnTo>
                    <a:lnTo>
                      <a:pt x="332" y="0"/>
                    </a:lnTo>
                    <a:lnTo>
                      <a:pt x="314" y="1"/>
                    </a:lnTo>
                    <a:lnTo>
                      <a:pt x="298" y="3"/>
                    </a:lnTo>
                    <a:lnTo>
                      <a:pt x="281" y="8"/>
                    </a:lnTo>
                    <a:lnTo>
                      <a:pt x="265" y="14"/>
                    </a:lnTo>
                    <a:lnTo>
                      <a:pt x="249" y="22"/>
                    </a:lnTo>
                    <a:lnTo>
                      <a:pt x="233" y="32"/>
                    </a:lnTo>
                    <a:lnTo>
                      <a:pt x="218" y="44"/>
                    </a:lnTo>
                    <a:lnTo>
                      <a:pt x="203" y="57"/>
                    </a:lnTo>
                    <a:lnTo>
                      <a:pt x="188" y="72"/>
                    </a:lnTo>
                    <a:lnTo>
                      <a:pt x="174" y="88"/>
                    </a:lnTo>
                    <a:lnTo>
                      <a:pt x="160" y="105"/>
                    </a:lnTo>
                    <a:lnTo>
                      <a:pt x="147" y="125"/>
                    </a:lnTo>
                    <a:lnTo>
                      <a:pt x="134" y="145"/>
                    </a:lnTo>
                    <a:lnTo>
                      <a:pt x="121" y="167"/>
                    </a:lnTo>
                    <a:lnTo>
                      <a:pt x="109" y="190"/>
                    </a:lnTo>
                    <a:lnTo>
                      <a:pt x="97" y="213"/>
                    </a:lnTo>
                    <a:lnTo>
                      <a:pt x="86" y="239"/>
                    </a:lnTo>
                    <a:lnTo>
                      <a:pt x="76" y="266"/>
                    </a:lnTo>
                    <a:lnTo>
                      <a:pt x="66" y="293"/>
                    </a:lnTo>
                    <a:lnTo>
                      <a:pt x="57" y="322"/>
                    </a:lnTo>
                    <a:lnTo>
                      <a:pt x="49" y="352"/>
                    </a:lnTo>
                    <a:lnTo>
                      <a:pt x="40" y="383"/>
                    </a:lnTo>
                    <a:lnTo>
                      <a:pt x="34" y="414"/>
                    </a:lnTo>
                    <a:lnTo>
                      <a:pt x="26" y="447"/>
                    </a:lnTo>
                    <a:lnTo>
                      <a:pt x="21" y="480"/>
                    </a:lnTo>
                    <a:lnTo>
                      <a:pt x="15" y="514"/>
                    </a:lnTo>
                    <a:lnTo>
                      <a:pt x="11" y="548"/>
                    </a:lnTo>
                    <a:lnTo>
                      <a:pt x="8" y="584"/>
                    </a:lnTo>
                    <a:lnTo>
                      <a:pt x="4" y="619"/>
                    </a:lnTo>
                    <a:lnTo>
                      <a:pt x="2" y="656"/>
                    </a:lnTo>
                    <a:lnTo>
                      <a:pt x="1" y="693"/>
                    </a:lnTo>
                    <a:lnTo>
                      <a:pt x="0" y="731"/>
                    </a:lnTo>
                    <a:lnTo>
                      <a:pt x="1" y="788"/>
                    </a:lnTo>
                    <a:lnTo>
                      <a:pt x="4" y="843"/>
                    </a:lnTo>
                    <a:lnTo>
                      <a:pt x="10" y="897"/>
                    </a:lnTo>
                    <a:lnTo>
                      <a:pt x="16" y="950"/>
                    </a:lnTo>
                    <a:lnTo>
                      <a:pt x="24" y="1002"/>
                    </a:lnTo>
                    <a:lnTo>
                      <a:pt x="34" y="1050"/>
                    </a:lnTo>
                    <a:lnTo>
                      <a:pt x="45" y="1098"/>
                    </a:lnTo>
                    <a:lnTo>
                      <a:pt x="57" y="1143"/>
                    </a:lnTo>
                    <a:close/>
                  </a:path>
                </a:pathLst>
              </a:custGeom>
              <a:solidFill>
                <a:srgbClr val="969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7286760" y="5246640"/>
                <a:ext cx="209520" cy="465120"/>
              </a:xfrm>
              <a:custGeom>
                <a:avLst/>
                <a:gdLst/>
                <a:ahLst/>
                <a:rect l="l" t="t" r="r" b="b"/>
                <a:pathLst>
                  <a:path w="660" h="1463">
                    <a:moveTo>
                      <a:pt x="57" y="1143"/>
                    </a:moveTo>
                    <a:lnTo>
                      <a:pt x="69" y="1179"/>
                    </a:lnTo>
                    <a:lnTo>
                      <a:pt x="81" y="1212"/>
                    </a:lnTo>
                    <a:lnTo>
                      <a:pt x="95" y="1245"/>
                    </a:lnTo>
                    <a:lnTo>
                      <a:pt x="109" y="1275"/>
                    </a:lnTo>
                    <a:lnTo>
                      <a:pt x="124" y="1303"/>
                    </a:lnTo>
                    <a:lnTo>
                      <a:pt x="140" y="1329"/>
                    </a:lnTo>
                    <a:lnTo>
                      <a:pt x="157" y="1354"/>
                    </a:lnTo>
                    <a:lnTo>
                      <a:pt x="174" y="1375"/>
                    </a:lnTo>
                    <a:lnTo>
                      <a:pt x="192" y="1395"/>
                    </a:lnTo>
                    <a:lnTo>
                      <a:pt x="211" y="1412"/>
                    </a:lnTo>
                    <a:lnTo>
                      <a:pt x="220" y="1420"/>
                    </a:lnTo>
                    <a:lnTo>
                      <a:pt x="230" y="1427"/>
                    </a:lnTo>
                    <a:lnTo>
                      <a:pt x="240" y="1434"/>
                    </a:lnTo>
                    <a:lnTo>
                      <a:pt x="250" y="1440"/>
                    </a:lnTo>
                    <a:lnTo>
                      <a:pt x="259" y="1445"/>
                    </a:lnTo>
                    <a:lnTo>
                      <a:pt x="269" y="1450"/>
                    </a:lnTo>
                    <a:lnTo>
                      <a:pt x="280" y="1453"/>
                    </a:lnTo>
                    <a:lnTo>
                      <a:pt x="290" y="1456"/>
                    </a:lnTo>
                    <a:lnTo>
                      <a:pt x="300" y="1460"/>
                    </a:lnTo>
                    <a:lnTo>
                      <a:pt x="310" y="1461"/>
                    </a:lnTo>
                    <a:lnTo>
                      <a:pt x="321" y="1462"/>
                    </a:lnTo>
                    <a:lnTo>
                      <a:pt x="332" y="1463"/>
                    </a:lnTo>
                    <a:lnTo>
                      <a:pt x="349" y="1462"/>
                    </a:lnTo>
                    <a:lnTo>
                      <a:pt x="365" y="1459"/>
                    </a:lnTo>
                    <a:lnTo>
                      <a:pt x="381" y="1454"/>
                    </a:lnTo>
                    <a:lnTo>
                      <a:pt x="398" y="1448"/>
                    </a:lnTo>
                    <a:lnTo>
                      <a:pt x="414" y="1439"/>
                    </a:lnTo>
                    <a:lnTo>
                      <a:pt x="429" y="1429"/>
                    </a:lnTo>
                    <a:lnTo>
                      <a:pt x="444" y="1419"/>
                    </a:lnTo>
                    <a:lnTo>
                      <a:pt x="459" y="1406"/>
                    </a:lnTo>
                    <a:lnTo>
                      <a:pt x="474" y="1391"/>
                    </a:lnTo>
                    <a:lnTo>
                      <a:pt x="488" y="1374"/>
                    </a:lnTo>
                    <a:lnTo>
                      <a:pt x="501" y="1357"/>
                    </a:lnTo>
                    <a:lnTo>
                      <a:pt x="515" y="1338"/>
                    </a:lnTo>
                    <a:lnTo>
                      <a:pt x="528" y="1317"/>
                    </a:lnTo>
                    <a:lnTo>
                      <a:pt x="540" y="1296"/>
                    </a:lnTo>
                    <a:lnTo>
                      <a:pt x="552" y="1273"/>
                    </a:lnTo>
                    <a:lnTo>
                      <a:pt x="564" y="1249"/>
                    </a:lnTo>
                    <a:lnTo>
                      <a:pt x="575" y="1223"/>
                    </a:lnTo>
                    <a:lnTo>
                      <a:pt x="586" y="1197"/>
                    </a:lnTo>
                    <a:lnTo>
                      <a:pt x="595" y="1169"/>
                    </a:lnTo>
                    <a:lnTo>
                      <a:pt x="604" y="1140"/>
                    </a:lnTo>
                    <a:lnTo>
                      <a:pt x="613" y="1111"/>
                    </a:lnTo>
                    <a:lnTo>
                      <a:pt x="620" y="1081"/>
                    </a:lnTo>
                    <a:lnTo>
                      <a:pt x="628" y="1048"/>
                    </a:lnTo>
                    <a:lnTo>
                      <a:pt x="634" y="1016"/>
                    </a:lnTo>
                    <a:lnTo>
                      <a:pt x="641" y="983"/>
                    </a:lnTo>
                    <a:lnTo>
                      <a:pt x="646" y="949"/>
                    </a:lnTo>
                    <a:lnTo>
                      <a:pt x="650" y="914"/>
                    </a:lnTo>
                    <a:lnTo>
                      <a:pt x="654" y="879"/>
                    </a:lnTo>
                    <a:lnTo>
                      <a:pt x="657" y="843"/>
                    </a:lnTo>
                    <a:lnTo>
                      <a:pt x="659" y="806"/>
                    </a:lnTo>
                    <a:lnTo>
                      <a:pt x="660" y="768"/>
                    </a:lnTo>
                    <a:lnTo>
                      <a:pt x="660" y="731"/>
                    </a:lnTo>
                    <a:lnTo>
                      <a:pt x="660" y="693"/>
                    </a:lnTo>
                    <a:lnTo>
                      <a:pt x="659" y="656"/>
                    </a:lnTo>
                    <a:lnTo>
                      <a:pt x="657" y="619"/>
                    </a:lnTo>
                    <a:lnTo>
                      <a:pt x="654" y="584"/>
                    </a:lnTo>
                    <a:lnTo>
                      <a:pt x="650" y="548"/>
                    </a:lnTo>
                    <a:lnTo>
                      <a:pt x="646" y="514"/>
                    </a:lnTo>
                    <a:lnTo>
                      <a:pt x="641" y="480"/>
                    </a:lnTo>
                    <a:lnTo>
                      <a:pt x="634" y="447"/>
                    </a:lnTo>
                    <a:lnTo>
                      <a:pt x="628" y="414"/>
                    </a:lnTo>
                    <a:lnTo>
                      <a:pt x="620" y="383"/>
                    </a:lnTo>
                    <a:lnTo>
                      <a:pt x="613" y="352"/>
                    </a:lnTo>
                    <a:lnTo>
                      <a:pt x="604" y="322"/>
                    </a:lnTo>
                    <a:lnTo>
                      <a:pt x="595" y="293"/>
                    </a:lnTo>
                    <a:lnTo>
                      <a:pt x="586" y="266"/>
                    </a:lnTo>
                    <a:lnTo>
                      <a:pt x="575" y="239"/>
                    </a:lnTo>
                    <a:lnTo>
                      <a:pt x="564" y="213"/>
                    </a:lnTo>
                    <a:lnTo>
                      <a:pt x="552" y="190"/>
                    </a:lnTo>
                    <a:lnTo>
                      <a:pt x="540" y="167"/>
                    </a:lnTo>
                    <a:lnTo>
                      <a:pt x="528" y="145"/>
                    </a:lnTo>
                    <a:lnTo>
                      <a:pt x="515" y="125"/>
                    </a:lnTo>
                    <a:lnTo>
                      <a:pt x="501" y="105"/>
                    </a:lnTo>
                    <a:lnTo>
                      <a:pt x="488" y="88"/>
                    </a:lnTo>
                    <a:lnTo>
                      <a:pt x="474" y="72"/>
                    </a:lnTo>
                    <a:lnTo>
                      <a:pt x="459" y="57"/>
                    </a:lnTo>
                    <a:lnTo>
                      <a:pt x="444" y="44"/>
                    </a:lnTo>
                    <a:lnTo>
                      <a:pt x="429" y="32"/>
                    </a:lnTo>
                    <a:lnTo>
                      <a:pt x="414" y="22"/>
                    </a:lnTo>
                    <a:lnTo>
                      <a:pt x="398" y="14"/>
                    </a:lnTo>
                    <a:lnTo>
                      <a:pt x="381" y="8"/>
                    </a:lnTo>
                    <a:lnTo>
                      <a:pt x="365" y="3"/>
                    </a:lnTo>
                    <a:lnTo>
                      <a:pt x="349" y="1"/>
                    </a:lnTo>
                    <a:lnTo>
                      <a:pt x="332" y="0"/>
                    </a:lnTo>
                    <a:lnTo>
                      <a:pt x="314" y="1"/>
                    </a:lnTo>
                    <a:lnTo>
                      <a:pt x="298" y="3"/>
                    </a:lnTo>
                    <a:lnTo>
                      <a:pt x="281" y="8"/>
                    </a:lnTo>
                    <a:lnTo>
                      <a:pt x="265" y="14"/>
                    </a:lnTo>
                    <a:lnTo>
                      <a:pt x="249" y="22"/>
                    </a:lnTo>
                    <a:lnTo>
                      <a:pt x="233" y="32"/>
                    </a:lnTo>
                    <a:lnTo>
                      <a:pt x="218" y="44"/>
                    </a:lnTo>
                    <a:lnTo>
                      <a:pt x="203" y="57"/>
                    </a:lnTo>
                    <a:lnTo>
                      <a:pt x="188" y="72"/>
                    </a:lnTo>
                    <a:lnTo>
                      <a:pt x="174" y="88"/>
                    </a:lnTo>
                    <a:lnTo>
                      <a:pt x="160" y="105"/>
                    </a:lnTo>
                    <a:lnTo>
                      <a:pt x="147" y="125"/>
                    </a:lnTo>
                    <a:lnTo>
                      <a:pt x="134" y="145"/>
                    </a:lnTo>
                    <a:lnTo>
                      <a:pt x="121" y="167"/>
                    </a:lnTo>
                    <a:lnTo>
                      <a:pt x="109" y="190"/>
                    </a:lnTo>
                    <a:lnTo>
                      <a:pt x="97" y="213"/>
                    </a:lnTo>
                    <a:lnTo>
                      <a:pt x="86" y="239"/>
                    </a:lnTo>
                    <a:lnTo>
                      <a:pt x="76" y="266"/>
                    </a:lnTo>
                    <a:lnTo>
                      <a:pt x="66" y="293"/>
                    </a:lnTo>
                    <a:lnTo>
                      <a:pt x="57" y="322"/>
                    </a:lnTo>
                    <a:lnTo>
                      <a:pt x="49" y="352"/>
                    </a:lnTo>
                    <a:lnTo>
                      <a:pt x="40" y="383"/>
                    </a:lnTo>
                    <a:lnTo>
                      <a:pt x="34" y="414"/>
                    </a:lnTo>
                    <a:lnTo>
                      <a:pt x="26" y="447"/>
                    </a:lnTo>
                    <a:lnTo>
                      <a:pt x="21" y="480"/>
                    </a:lnTo>
                    <a:lnTo>
                      <a:pt x="15" y="514"/>
                    </a:lnTo>
                    <a:lnTo>
                      <a:pt x="11" y="548"/>
                    </a:lnTo>
                    <a:lnTo>
                      <a:pt x="8" y="584"/>
                    </a:lnTo>
                    <a:lnTo>
                      <a:pt x="4" y="619"/>
                    </a:lnTo>
                    <a:lnTo>
                      <a:pt x="2" y="656"/>
                    </a:lnTo>
                    <a:lnTo>
                      <a:pt x="1" y="693"/>
                    </a:lnTo>
                    <a:lnTo>
                      <a:pt x="0" y="731"/>
                    </a:lnTo>
                    <a:lnTo>
                      <a:pt x="1" y="788"/>
                    </a:lnTo>
                    <a:lnTo>
                      <a:pt x="4" y="843"/>
                    </a:lnTo>
                    <a:lnTo>
                      <a:pt x="10" y="897"/>
                    </a:lnTo>
                    <a:lnTo>
                      <a:pt x="16" y="950"/>
                    </a:lnTo>
                    <a:lnTo>
                      <a:pt x="24" y="1002"/>
                    </a:lnTo>
                    <a:lnTo>
                      <a:pt x="34" y="1050"/>
                    </a:lnTo>
                    <a:lnTo>
                      <a:pt x="45" y="1098"/>
                    </a:lnTo>
                    <a:lnTo>
                      <a:pt x="57" y="1143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7318440" y="5496120"/>
                <a:ext cx="142920" cy="207720"/>
              </a:xfrm>
              <a:custGeom>
                <a:avLst/>
                <a:gdLst/>
                <a:ahLst/>
                <a:rect l="l" t="t" r="r" b="b"/>
                <a:pathLst>
                  <a:path w="453" h="657">
                    <a:moveTo>
                      <a:pt x="173" y="0"/>
                    </a:moveTo>
                    <a:lnTo>
                      <a:pt x="182" y="11"/>
                    </a:lnTo>
                    <a:lnTo>
                      <a:pt x="207" y="45"/>
                    </a:lnTo>
                    <a:lnTo>
                      <a:pt x="242" y="91"/>
                    </a:lnTo>
                    <a:lnTo>
                      <a:pt x="284" y="146"/>
                    </a:lnTo>
                    <a:lnTo>
                      <a:pt x="330" y="205"/>
                    </a:lnTo>
                    <a:lnTo>
                      <a:pt x="372" y="259"/>
                    </a:lnTo>
                    <a:lnTo>
                      <a:pt x="391" y="282"/>
                    </a:lnTo>
                    <a:lnTo>
                      <a:pt x="409" y="303"/>
                    </a:lnTo>
                    <a:lnTo>
                      <a:pt x="424" y="319"/>
                    </a:lnTo>
                    <a:lnTo>
                      <a:pt x="435" y="331"/>
                    </a:lnTo>
                    <a:lnTo>
                      <a:pt x="439" y="336"/>
                    </a:lnTo>
                    <a:lnTo>
                      <a:pt x="443" y="342"/>
                    </a:lnTo>
                    <a:lnTo>
                      <a:pt x="446" y="348"/>
                    </a:lnTo>
                    <a:lnTo>
                      <a:pt x="449" y="356"/>
                    </a:lnTo>
                    <a:lnTo>
                      <a:pt x="451" y="363"/>
                    </a:lnTo>
                    <a:lnTo>
                      <a:pt x="452" y="371"/>
                    </a:lnTo>
                    <a:lnTo>
                      <a:pt x="453" y="380"/>
                    </a:lnTo>
                    <a:lnTo>
                      <a:pt x="453" y="388"/>
                    </a:lnTo>
                    <a:lnTo>
                      <a:pt x="452" y="408"/>
                    </a:lnTo>
                    <a:lnTo>
                      <a:pt x="449" y="427"/>
                    </a:lnTo>
                    <a:lnTo>
                      <a:pt x="443" y="448"/>
                    </a:lnTo>
                    <a:lnTo>
                      <a:pt x="437" y="469"/>
                    </a:lnTo>
                    <a:lnTo>
                      <a:pt x="429" y="491"/>
                    </a:lnTo>
                    <a:lnTo>
                      <a:pt x="419" y="511"/>
                    </a:lnTo>
                    <a:lnTo>
                      <a:pt x="409" y="532"/>
                    </a:lnTo>
                    <a:lnTo>
                      <a:pt x="396" y="552"/>
                    </a:lnTo>
                    <a:lnTo>
                      <a:pt x="383" y="571"/>
                    </a:lnTo>
                    <a:lnTo>
                      <a:pt x="369" y="587"/>
                    </a:lnTo>
                    <a:lnTo>
                      <a:pt x="355" y="602"/>
                    </a:lnTo>
                    <a:lnTo>
                      <a:pt x="338" y="615"/>
                    </a:lnTo>
                    <a:lnTo>
                      <a:pt x="322" y="626"/>
                    </a:lnTo>
                    <a:lnTo>
                      <a:pt x="306" y="637"/>
                    </a:lnTo>
                    <a:lnTo>
                      <a:pt x="296" y="641"/>
                    </a:lnTo>
                    <a:lnTo>
                      <a:pt x="288" y="645"/>
                    </a:lnTo>
                    <a:lnTo>
                      <a:pt x="278" y="649"/>
                    </a:lnTo>
                    <a:lnTo>
                      <a:pt x="268" y="652"/>
                    </a:lnTo>
                    <a:lnTo>
                      <a:pt x="258" y="654"/>
                    </a:lnTo>
                    <a:lnTo>
                      <a:pt x="249" y="656"/>
                    </a:lnTo>
                    <a:lnTo>
                      <a:pt x="239" y="657"/>
                    </a:lnTo>
                    <a:lnTo>
                      <a:pt x="228" y="657"/>
                    </a:lnTo>
                    <a:lnTo>
                      <a:pt x="217" y="657"/>
                    </a:lnTo>
                    <a:lnTo>
                      <a:pt x="207" y="655"/>
                    </a:lnTo>
                    <a:lnTo>
                      <a:pt x="196" y="653"/>
                    </a:lnTo>
                    <a:lnTo>
                      <a:pt x="185" y="650"/>
                    </a:lnTo>
                    <a:lnTo>
                      <a:pt x="174" y="646"/>
                    </a:lnTo>
                    <a:lnTo>
                      <a:pt x="162" y="641"/>
                    </a:lnTo>
                    <a:lnTo>
                      <a:pt x="152" y="635"/>
                    </a:lnTo>
                    <a:lnTo>
                      <a:pt x="140" y="627"/>
                    </a:lnTo>
                    <a:lnTo>
                      <a:pt x="129" y="618"/>
                    </a:lnTo>
                    <a:lnTo>
                      <a:pt x="117" y="609"/>
                    </a:lnTo>
                    <a:lnTo>
                      <a:pt x="105" y="597"/>
                    </a:lnTo>
                    <a:lnTo>
                      <a:pt x="93" y="584"/>
                    </a:lnTo>
                    <a:lnTo>
                      <a:pt x="81" y="570"/>
                    </a:lnTo>
                    <a:lnTo>
                      <a:pt x="70" y="555"/>
                    </a:lnTo>
                    <a:lnTo>
                      <a:pt x="59" y="537"/>
                    </a:lnTo>
                    <a:lnTo>
                      <a:pt x="47" y="519"/>
                    </a:lnTo>
                    <a:lnTo>
                      <a:pt x="35" y="498"/>
                    </a:lnTo>
                    <a:lnTo>
                      <a:pt x="23" y="477"/>
                    </a:lnTo>
                    <a:lnTo>
                      <a:pt x="11" y="453"/>
                    </a:lnTo>
                    <a:lnTo>
                      <a:pt x="0" y="427"/>
                    </a:lnTo>
                    <a:lnTo>
                      <a:pt x="2" y="411"/>
                    </a:lnTo>
                    <a:lnTo>
                      <a:pt x="10" y="370"/>
                    </a:lnTo>
                    <a:lnTo>
                      <a:pt x="21" y="311"/>
                    </a:lnTo>
                    <a:lnTo>
                      <a:pt x="34" y="241"/>
                    </a:lnTo>
                    <a:lnTo>
                      <a:pt x="46" y="172"/>
                    </a:lnTo>
                    <a:lnTo>
                      <a:pt x="56" y="111"/>
                    </a:lnTo>
                    <a:lnTo>
                      <a:pt x="64" y="65"/>
                    </a:lnTo>
                    <a:lnTo>
                      <a:pt x="66" y="44"/>
                    </a:lnTo>
                    <a:lnTo>
                      <a:pt x="68" y="41"/>
                    </a:lnTo>
                    <a:lnTo>
                      <a:pt x="72" y="37"/>
                    </a:lnTo>
                    <a:lnTo>
                      <a:pt x="77" y="34"/>
                    </a:lnTo>
                    <a:lnTo>
                      <a:pt x="83" y="30"/>
                    </a:lnTo>
                    <a:lnTo>
                      <a:pt x="101" y="22"/>
                    </a:lnTo>
                    <a:lnTo>
                      <a:pt x="120" y="16"/>
                    </a:lnTo>
                    <a:lnTo>
                      <a:pt x="140" y="9"/>
                    </a:lnTo>
                    <a:lnTo>
                      <a:pt x="156" y="4"/>
                    </a:lnTo>
                    <a:lnTo>
                      <a:pt x="169" y="1"/>
                    </a:lnTo>
                    <a:lnTo>
                      <a:pt x="173" y="0"/>
                    </a:lnTo>
                    <a:close/>
                  </a:path>
                </a:pathLst>
              </a:custGeom>
              <a:solidFill>
                <a:srgbClr val="969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7380360" y="5254560"/>
                <a:ext cx="82440" cy="208080"/>
              </a:xfrm>
              <a:custGeom>
                <a:avLst/>
                <a:gdLst/>
                <a:ahLst/>
                <a:rect l="l" t="t" r="r" b="b"/>
                <a:pathLst>
                  <a:path w="260" h="656">
                    <a:moveTo>
                      <a:pt x="15" y="656"/>
                    </a:moveTo>
                    <a:lnTo>
                      <a:pt x="260" y="234"/>
                    </a:lnTo>
                    <a:lnTo>
                      <a:pt x="257" y="225"/>
                    </a:lnTo>
                    <a:lnTo>
                      <a:pt x="248" y="201"/>
                    </a:lnTo>
                    <a:lnTo>
                      <a:pt x="242" y="185"/>
                    </a:lnTo>
                    <a:lnTo>
                      <a:pt x="234" y="168"/>
                    </a:lnTo>
                    <a:lnTo>
                      <a:pt x="225" y="148"/>
                    </a:lnTo>
                    <a:lnTo>
                      <a:pt x="214" y="128"/>
                    </a:lnTo>
                    <a:lnTo>
                      <a:pt x="202" y="107"/>
                    </a:lnTo>
                    <a:lnTo>
                      <a:pt x="188" y="87"/>
                    </a:lnTo>
                    <a:lnTo>
                      <a:pt x="173" y="67"/>
                    </a:lnTo>
                    <a:lnTo>
                      <a:pt x="155" y="49"/>
                    </a:lnTo>
                    <a:lnTo>
                      <a:pt x="147" y="40"/>
                    </a:lnTo>
                    <a:lnTo>
                      <a:pt x="138" y="33"/>
                    </a:lnTo>
                    <a:lnTo>
                      <a:pt x="128" y="25"/>
                    </a:lnTo>
                    <a:lnTo>
                      <a:pt x="119" y="19"/>
                    </a:lnTo>
                    <a:lnTo>
                      <a:pt x="108" y="13"/>
                    </a:lnTo>
                    <a:lnTo>
                      <a:pt x="97" y="8"/>
                    </a:lnTo>
                    <a:lnTo>
                      <a:pt x="86" y="5"/>
                    </a:lnTo>
                    <a:lnTo>
                      <a:pt x="74" y="2"/>
                    </a:lnTo>
                    <a:lnTo>
                      <a:pt x="64" y="0"/>
                    </a:lnTo>
                    <a:lnTo>
                      <a:pt x="54" y="4"/>
                    </a:lnTo>
                    <a:lnTo>
                      <a:pt x="45" y="11"/>
                    </a:lnTo>
                    <a:lnTo>
                      <a:pt x="38" y="21"/>
                    </a:lnTo>
                    <a:lnTo>
                      <a:pt x="30" y="34"/>
                    </a:lnTo>
                    <a:lnTo>
                      <a:pt x="25" y="51"/>
                    </a:lnTo>
                    <a:lnTo>
                      <a:pt x="19" y="70"/>
                    </a:lnTo>
                    <a:lnTo>
                      <a:pt x="14" y="91"/>
                    </a:lnTo>
                    <a:lnTo>
                      <a:pt x="11" y="115"/>
                    </a:lnTo>
                    <a:lnTo>
                      <a:pt x="7" y="140"/>
                    </a:lnTo>
                    <a:lnTo>
                      <a:pt x="5" y="167"/>
                    </a:lnTo>
                    <a:lnTo>
                      <a:pt x="3" y="196"/>
                    </a:lnTo>
                    <a:lnTo>
                      <a:pt x="0" y="255"/>
                    </a:lnTo>
                    <a:lnTo>
                      <a:pt x="0" y="318"/>
                    </a:lnTo>
                    <a:lnTo>
                      <a:pt x="1" y="381"/>
                    </a:lnTo>
                    <a:lnTo>
                      <a:pt x="2" y="441"/>
                    </a:lnTo>
                    <a:lnTo>
                      <a:pt x="5" y="498"/>
                    </a:lnTo>
                    <a:lnTo>
                      <a:pt x="7" y="550"/>
                    </a:lnTo>
                    <a:lnTo>
                      <a:pt x="13" y="627"/>
                    </a:lnTo>
                    <a:lnTo>
                      <a:pt x="15" y="656"/>
                    </a:lnTo>
                    <a:close/>
                  </a:path>
                </a:pathLst>
              </a:custGeom>
              <a:solidFill>
                <a:srgbClr val="969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7375320" y="5408640"/>
                <a:ext cx="111240" cy="109440"/>
              </a:xfrm>
              <a:custGeom>
                <a:avLst/>
                <a:gdLst/>
                <a:ahLst/>
                <a:rect l="l" t="t" r="r" b="b"/>
                <a:pathLst>
                  <a:path w="351" h="346">
                    <a:moveTo>
                      <a:pt x="17" y="188"/>
                    </a:moveTo>
                    <a:lnTo>
                      <a:pt x="26" y="182"/>
                    </a:lnTo>
                    <a:lnTo>
                      <a:pt x="50" y="165"/>
                    </a:lnTo>
                    <a:lnTo>
                      <a:pt x="83" y="140"/>
                    </a:lnTo>
                    <a:lnTo>
                      <a:pt x="124" y="109"/>
                    </a:lnTo>
                    <a:lnTo>
                      <a:pt x="168" y="78"/>
                    </a:lnTo>
                    <a:lnTo>
                      <a:pt x="211" y="48"/>
                    </a:lnTo>
                    <a:lnTo>
                      <a:pt x="247" y="23"/>
                    </a:lnTo>
                    <a:lnTo>
                      <a:pt x="274" y="6"/>
                    </a:lnTo>
                    <a:lnTo>
                      <a:pt x="280" y="3"/>
                    </a:lnTo>
                    <a:lnTo>
                      <a:pt x="284" y="1"/>
                    </a:lnTo>
                    <a:lnTo>
                      <a:pt x="289" y="0"/>
                    </a:lnTo>
                    <a:lnTo>
                      <a:pt x="294" y="0"/>
                    </a:lnTo>
                    <a:lnTo>
                      <a:pt x="298" y="0"/>
                    </a:lnTo>
                    <a:lnTo>
                      <a:pt x="302" y="1"/>
                    </a:lnTo>
                    <a:lnTo>
                      <a:pt x="306" y="4"/>
                    </a:lnTo>
                    <a:lnTo>
                      <a:pt x="310" y="7"/>
                    </a:lnTo>
                    <a:lnTo>
                      <a:pt x="317" y="14"/>
                    </a:lnTo>
                    <a:lnTo>
                      <a:pt x="324" y="24"/>
                    </a:lnTo>
                    <a:lnTo>
                      <a:pt x="329" y="37"/>
                    </a:lnTo>
                    <a:lnTo>
                      <a:pt x="335" y="51"/>
                    </a:lnTo>
                    <a:lnTo>
                      <a:pt x="339" y="67"/>
                    </a:lnTo>
                    <a:lnTo>
                      <a:pt x="343" y="85"/>
                    </a:lnTo>
                    <a:lnTo>
                      <a:pt x="347" y="103"/>
                    </a:lnTo>
                    <a:lnTo>
                      <a:pt x="349" y="122"/>
                    </a:lnTo>
                    <a:lnTo>
                      <a:pt x="350" y="143"/>
                    </a:lnTo>
                    <a:lnTo>
                      <a:pt x="351" y="165"/>
                    </a:lnTo>
                    <a:lnTo>
                      <a:pt x="351" y="185"/>
                    </a:lnTo>
                    <a:lnTo>
                      <a:pt x="351" y="206"/>
                    </a:lnTo>
                    <a:lnTo>
                      <a:pt x="349" y="246"/>
                    </a:lnTo>
                    <a:lnTo>
                      <a:pt x="347" y="280"/>
                    </a:lnTo>
                    <a:lnTo>
                      <a:pt x="343" y="295"/>
                    </a:lnTo>
                    <a:lnTo>
                      <a:pt x="340" y="309"/>
                    </a:lnTo>
                    <a:lnTo>
                      <a:pt x="338" y="315"/>
                    </a:lnTo>
                    <a:lnTo>
                      <a:pt x="336" y="321"/>
                    </a:lnTo>
                    <a:lnTo>
                      <a:pt x="333" y="325"/>
                    </a:lnTo>
                    <a:lnTo>
                      <a:pt x="329" y="330"/>
                    </a:lnTo>
                    <a:lnTo>
                      <a:pt x="325" y="334"/>
                    </a:lnTo>
                    <a:lnTo>
                      <a:pt x="321" y="337"/>
                    </a:lnTo>
                    <a:lnTo>
                      <a:pt x="315" y="341"/>
                    </a:lnTo>
                    <a:lnTo>
                      <a:pt x="310" y="343"/>
                    </a:lnTo>
                    <a:lnTo>
                      <a:pt x="304" y="345"/>
                    </a:lnTo>
                    <a:lnTo>
                      <a:pt x="298" y="346"/>
                    </a:lnTo>
                    <a:lnTo>
                      <a:pt x="290" y="346"/>
                    </a:lnTo>
                    <a:lnTo>
                      <a:pt x="283" y="346"/>
                    </a:lnTo>
                    <a:lnTo>
                      <a:pt x="274" y="345"/>
                    </a:lnTo>
                    <a:lnTo>
                      <a:pt x="265" y="343"/>
                    </a:lnTo>
                    <a:lnTo>
                      <a:pt x="254" y="341"/>
                    </a:lnTo>
                    <a:lnTo>
                      <a:pt x="243" y="337"/>
                    </a:lnTo>
                    <a:lnTo>
                      <a:pt x="218" y="329"/>
                    </a:lnTo>
                    <a:lnTo>
                      <a:pt x="190" y="317"/>
                    </a:lnTo>
                    <a:lnTo>
                      <a:pt x="136" y="293"/>
                    </a:lnTo>
                    <a:lnTo>
                      <a:pt x="93" y="274"/>
                    </a:lnTo>
                    <a:lnTo>
                      <a:pt x="59" y="260"/>
                    </a:lnTo>
                    <a:lnTo>
                      <a:pt x="34" y="250"/>
                    </a:lnTo>
                    <a:lnTo>
                      <a:pt x="18" y="243"/>
                    </a:lnTo>
                    <a:lnTo>
                      <a:pt x="7" y="240"/>
                    </a:lnTo>
                    <a:lnTo>
                      <a:pt x="1" y="238"/>
                    </a:lnTo>
                    <a:lnTo>
                      <a:pt x="0" y="238"/>
                    </a:lnTo>
                    <a:lnTo>
                      <a:pt x="17" y="188"/>
                    </a:lnTo>
                    <a:close/>
                  </a:path>
                </a:pathLst>
              </a:custGeom>
              <a:solidFill>
                <a:srgbClr val="969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7324560" y="5496120"/>
                <a:ext cx="128880" cy="206280"/>
              </a:xfrm>
              <a:custGeom>
                <a:avLst/>
                <a:gdLst/>
                <a:ahLst/>
                <a:rect l="l" t="t" r="r" b="b"/>
                <a:pathLst>
                  <a:path w="405" h="648">
                    <a:moveTo>
                      <a:pt x="386" y="351"/>
                    </a:moveTo>
                    <a:lnTo>
                      <a:pt x="390" y="356"/>
                    </a:lnTo>
                    <a:lnTo>
                      <a:pt x="394" y="361"/>
                    </a:lnTo>
                    <a:lnTo>
                      <a:pt x="397" y="368"/>
                    </a:lnTo>
                    <a:lnTo>
                      <a:pt x="401" y="374"/>
                    </a:lnTo>
                    <a:lnTo>
                      <a:pt x="403" y="382"/>
                    </a:lnTo>
                    <a:lnTo>
                      <a:pt x="404" y="390"/>
                    </a:lnTo>
                    <a:lnTo>
                      <a:pt x="405" y="397"/>
                    </a:lnTo>
                    <a:lnTo>
                      <a:pt x="405" y="406"/>
                    </a:lnTo>
                    <a:lnTo>
                      <a:pt x="405" y="423"/>
                    </a:lnTo>
                    <a:lnTo>
                      <a:pt x="402" y="442"/>
                    </a:lnTo>
                    <a:lnTo>
                      <a:pt x="397" y="462"/>
                    </a:lnTo>
                    <a:lnTo>
                      <a:pt x="392" y="481"/>
                    </a:lnTo>
                    <a:lnTo>
                      <a:pt x="384" y="502"/>
                    </a:lnTo>
                    <a:lnTo>
                      <a:pt x="376" y="521"/>
                    </a:lnTo>
                    <a:lnTo>
                      <a:pt x="366" y="540"/>
                    </a:lnTo>
                    <a:lnTo>
                      <a:pt x="354" y="558"/>
                    </a:lnTo>
                    <a:lnTo>
                      <a:pt x="342" y="575"/>
                    </a:lnTo>
                    <a:lnTo>
                      <a:pt x="329" y="590"/>
                    </a:lnTo>
                    <a:lnTo>
                      <a:pt x="316" y="604"/>
                    </a:lnTo>
                    <a:lnTo>
                      <a:pt x="301" y="615"/>
                    </a:lnTo>
                    <a:lnTo>
                      <a:pt x="287" y="625"/>
                    </a:lnTo>
                    <a:lnTo>
                      <a:pt x="272" y="633"/>
                    </a:lnTo>
                    <a:lnTo>
                      <a:pt x="255" y="640"/>
                    </a:lnTo>
                    <a:lnTo>
                      <a:pt x="238" y="644"/>
                    </a:lnTo>
                    <a:lnTo>
                      <a:pt x="229" y="647"/>
                    </a:lnTo>
                    <a:lnTo>
                      <a:pt x="220" y="647"/>
                    </a:lnTo>
                    <a:lnTo>
                      <a:pt x="211" y="648"/>
                    </a:lnTo>
                    <a:lnTo>
                      <a:pt x="201" y="647"/>
                    </a:lnTo>
                    <a:lnTo>
                      <a:pt x="191" y="647"/>
                    </a:lnTo>
                    <a:lnTo>
                      <a:pt x="181" y="644"/>
                    </a:lnTo>
                    <a:lnTo>
                      <a:pt x="172" y="641"/>
                    </a:lnTo>
                    <a:lnTo>
                      <a:pt x="162" y="638"/>
                    </a:lnTo>
                    <a:lnTo>
                      <a:pt x="152" y="634"/>
                    </a:lnTo>
                    <a:lnTo>
                      <a:pt x="142" y="628"/>
                    </a:lnTo>
                    <a:lnTo>
                      <a:pt x="132" y="623"/>
                    </a:lnTo>
                    <a:lnTo>
                      <a:pt x="122" y="615"/>
                    </a:lnTo>
                    <a:lnTo>
                      <a:pt x="111" y="607"/>
                    </a:lnTo>
                    <a:lnTo>
                      <a:pt x="101" y="597"/>
                    </a:lnTo>
                    <a:lnTo>
                      <a:pt x="91" y="587"/>
                    </a:lnTo>
                    <a:lnTo>
                      <a:pt x="81" y="575"/>
                    </a:lnTo>
                    <a:lnTo>
                      <a:pt x="70" y="562"/>
                    </a:lnTo>
                    <a:lnTo>
                      <a:pt x="60" y="547"/>
                    </a:lnTo>
                    <a:lnTo>
                      <a:pt x="50" y="532"/>
                    </a:lnTo>
                    <a:lnTo>
                      <a:pt x="40" y="515"/>
                    </a:lnTo>
                    <a:lnTo>
                      <a:pt x="30" y="496"/>
                    </a:lnTo>
                    <a:lnTo>
                      <a:pt x="19" y="477"/>
                    </a:lnTo>
                    <a:lnTo>
                      <a:pt x="10" y="455"/>
                    </a:lnTo>
                    <a:lnTo>
                      <a:pt x="0" y="433"/>
                    </a:lnTo>
                    <a:lnTo>
                      <a:pt x="2" y="417"/>
                    </a:lnTo>
                    <a:lnTo>
                      <a:pt x="9" y="373"/>
                    </a:lnTo>
                    <a:lnTo>
                      <a:pt x="18" y="313"/>
                    </a:lnTo>
                    <a:lnTo>
                      <a:pt x="29" y="243"/>
                    </a:lnTo>
                    <a:lnTo>
                      <a:pt x="39" y="171"/>
                    </a:lnTo>
                    <a:lnTo>
                      <a:pt x="48" y="109"/>
                    </a:lnTo>
                    <a:lnTo>
                      <a:pt x="55" y="61"/>
                    </a:lnTo>
                    <a:lnTo>
                      <a:pt x="57" y="40"/>
                    </a:lnTo>
                    <a:lnTo>
                      <a:pt x="58" y="36"/>
                    </a:lnTo>
                    <a:lnTo>
                      <a:pt x="60" y="33"/>
                    </a:lnTo>
                    <a:lnTo>
                      <a:pt x="65" y="30"/>
                    </a:lnTo>
                    <a:lnTo>
                      <a:pt x="70" y="27"/>
                    </a:lnTo>
                    <a:lnTo>
                      <a:pt x="84" y="19"/>
                    </a:lnTo>
                    <a:lnTo>
                      <a:pt x="100" y="14"/>
                    </a:lnTo>
                    <a:lnTo>
                      <a:pt x="117" y="8"/>
                    </a:lnTo>
                    <a:lnTo>
                      <a:pt x="130" y="4"/>
                    </a:lnTo>
                    <a:lnTo>
                      <a:pt x="140" y="1"/>
                    </a:lnTo>
                    <a:lnTo>
                      <a:pt x="144" y="0"/>
                    </a:lnTo>
                    <a:lnTo>
                      <a:pt x="152" y="13"/>
                    </a:lnTo>
                    <a:lnTo>
                      <a:pt x="175" y="48"/>
                    </a:lnTo>
                    <a:lnTo>
                      <a:pt x="207" y="98"/>
                    </a:lnTo>
                    <a:lnTo>
                      <a:pt x="246" y="156"/>
                    </a:lnTo>
                    <a:lnTo>
                      <a:pt x="287" y="218"/>
                    </a:lnTo>
                    <a:lnTo>
                      <a:pt x="327" y="274"/>
                    </a:lnTo>
                    <a:lnTo>
                      <a:pt x="346" y="300"/>
                    </a:lnTo>
                    <a:lnTo>
                      <a:pt x="361" y="322"/>
                    </a:lnTo>
                    <a:lnTo>
                      <a:pt x="375" y="339"/>
                    </a:lnTo>
                    <a:lnTo>
                      <a:pt x="386" y="351"/>
                    </a:lnTo>
                    <a:close/>
                  </a:path>
                </a:pathLst>
              </a:custGeom>
              <a:solidFill>
                <a:srgbClr val="9e9d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7332480" y="5497560"/>
                <a:ext cx="113040" cy="201600"/>
              </a:xfrm>
              <a:custGeom>
                <a:avLst/>
                <a:gdLst/>
                <a:ahLst/>
                <a:rect l="l" t="t" r="r" b="b"/>
                <a:pathLst>
                  <a:path w="357" h="635">
                    <a:moveTo>
                      <a:pt x="338" y="366"/>
                    </a:moveTo>
                    <a:lnTo>
                      <a:pt x="342" y="371"/>
                    </a:lnTo>
                    <a:lnTo>
                      <a:pt x="346" y="376"/>
                    </a:lnTo>
                    <a:lnTo>
                      <a:pt x="350" y="382"/>
                    </a:lnTo>
                    <a:lnTo>
                      <a:pt x="352" y="389"/>
                    </a:lnTo>
                    <a:lnTo>
                      <a:pt x="354" y="395"/>
                    </a:lnTo>
                    <a:lnTo>
                      <a:pt x="355" y="403"/>
                    </a:lnTo>
                    <a:lnTo>
                      <a:pt x="356" y="410"/>
                    </a:lnTo>
                    <a:lnTo>
                      <a:pt x="357" y="419"/>
                    </a:lnTo>
                    <a:lnTo>
                      <a:pt x="356" y="435"/>
                    </a:lnTo>
                    <a:lnTo>
                      <a:pt x="354" y="454"/>
                    </a:lnTo>
                    <a:lnTo>
                      <a:pt x="350" y="472"/>
                    </a:lnTo>
                    <a:lnTo>
                      <a:pt x="344" y="490"/>
                    </a:lnTo>
                    <a:lnTo>
                      <a:pt x="338" y="509"/>
                    </a:lnTo>
                    <a:lnTo>
                      <a:pt x="330" y="527"/>
                    </a:lnTo>
                    <a:lnTo>
                      <a:pt x="320" y="544"/>
                    </a:lnTo>
                    <a:lnTo>
                      <a:pt x="311" y="561"/>
                    </a:lnTo>
                    <a:lnTo>
                      <a:pt x="300" y="576"/>
                    </a:lnTo>
                    <a:lnTo>
                      <a:pt x="288" y="590"/>
                    </a:lnTo>
                    <a:lnTo>
                      <a:pt x="276" y="602"/>
                    </a:lnTo>
                    <a:lnTo>
                      <a:pt x="264" y="610"/>
                    </a:lnTo>
                    <a:lnTo>
                      <a:pt x="251" y="619"/>
                    </a:lnTo>
                    <a:lnTo>
                      <a:pt x="237" y="625"/>
                    </a:lnTo>
                    <a:lnTo>
                      <a:pt x="222" y="630"/>
                    </a:lnTo>
                    <a:lnTo>
                      <a:pt x="207" y="633"/>
                    </a:lnTo>
                    <a:lnTo>
                      <a:pt x="198" y="634"/>
                    </a:lnTo>
                    <a:lnTo>
                      <a:pt x="191" y="635"/>
                    </a:lnTo>
                    <a:lnTo>
                      <a:pt x="182" y="634"/>
                    </a:lnTo>
                    <a:lnTo>
                      <a:pt x="173" y="634"/>
                    </a:lnTo>
                    <a:lnTo>
                      <a:pt x="165" y="632"/>
                    </a:lnTo>
                    <a:lnTo>
                      <a:pt x="156" y="630"/>
                    </a:lnTo>
                    <a:lnTo>
                      <a:pt x="148" y="626"/>
                    </a:lnTo>
                    <a:lnTo>
                      <a:pt x="138" y="623"/>
                    </a:lnTo>
                    <a:lnTo>
                      <a:pt x="129" y="619"/>
                    </a:lnTo>
                    <a:lnTo>
                      <a:pt x="121" y="614"/>
                    </a:lnTo>
                    <a:lnTo>
                      <a:pt x="111" y="608"/>
                    </a:lnTo>
                    <a:lnTo>
                      <a:pt x="102" y="601"/>
                    </a:lnTo>
                    <a:lnTo>
                      <a:pt x="92" y="593"/>
                    </a:lnTo>
                    <a:lnTo>
                      <a:pt x="84" y="584"/>
                    </a:lnTo>
                    <a:lnTo>
                      <a:pt x="75" y="575"/>
                    </a:lnTo>
                    <a:lnTo>
                      <a:pt x="67" y="564"/>
                    </a:lnTo>
                    <a:lnTo>
                      <a:pt x="57" y="552"/>
                    </a:lnTo>
                    <a:lnTo>
                      <a:pt x="48" y="539"/>
                    </a:lnTo>
                    <a:lnTo>
                      <a:pt x="40" y="525"/>
                    </a:lnTo>
                    <a:lnTo>
                      <a:pt x="32" y="510"/>
                    </a:lnTo>
                    <a:lnTo>
                      <a:pt x="23" y="494"/>
                    </a:lnTo>
                    <a:lnTo>
                      <a:pt x="15" y="476"/>
                    </a:lnTo>
                    <a:lnTo>
                      <a:pt x="7" y="458"/>
                    </a:lnTo>
                    <a:lnTo>
                      <a:pt x="0" y="437"/>
                    </a:lnTo>
                    <a:lnTo>
                      <a:pt x="2" y="421"/>
                    </a:lnTo>
                    <a:lnTo>
                      <a:pt x="6" y="377"/>
                    </a:lnTo>
                    <a:lnTo>
                      <a:pt x="14" y="314"/>
                    </a:lnTo>
                    <a:lnTo>
                      <a:pt x="21" y="242"/>
                    </a:lnTo>
                    <a:lnTo>
                      <a:pt x="30" y="169"/>
                    </a:lnTo>
                    <a:lnTo>
                      <a:pt x="37" y="104"/>
                    </a:lnTo>
                    <a:lnTo>
                      <a:pt x="42" y="56"/>
                    </a:lnTo>
                    <a:lnTo>
                      <a:pt x="44" y="35"/>
                    </a:lnTo>
                    <a:lnTo>
                      <a:pt x="45" y="31"/>
                    </a:lnTo>
                    <a:lnTo>
                      <a:pt x="47" y="28"/>
                    </a:lnTo>
                    <a:lnTo>
                      <a:pt x="50" y="25"/>
                    </a:lnTo>
                    <a:lnTo>
                      <a:pt x="55" y="22"/>
                    </a:lnTo>
                    <a:lnTo>
                      <a:pt x="67" y="16"/>
                    </a:lnTo>
                    <a:lnTo>
                      <a:pt x="80" y="11"/>
                    </a:lnTo>
                    <a:lnTo>
                      <a:pt x="92" y="7"/>
                    </a:lnTo>
                    <a:lnTo>
                      <a:pt x="104" y="3"/>
                    </a:lnTo>
                    <a:lnTo>
                      <a:pt x="113" y="1"/>
                    </a:lnTo>
                    <a:lnTo>
                      <a:pt x="115" y="0"/>
                    </a:lnTo>
                    <a:lnTo>
                      <a:pt x="123" y="14"/>
                    </a:lnTo>
                    <a:lnTo>
                      <a:pt x="143" y="50"/>
                    </a:lnTo>
                    <a:lnTo>
                      <a:pt x="172" y="103"/>
                    </a:lnTo>
                    <a:lnTo>
                      <a:pt x="208" y="163"/>
                    </a:lnTo>
                    <a:lnTo>
                      <a:pt x="246" y="227"/>
                    </a:lnTo>
                    <a:lnTo>
                      <a:pt x="283" y="287"/>
                    </a:lnTo>
                    <a:lnTo>
                      <a:pt x="299" y="313"/>
                    </a:lnTo>
                    <a:lnTo>
                      <a:pt x="314" y="335"/>
                    </a:lnTo>
                    <a:lnTo>
                      <a:pt x="328" y="353"/>
                    </a:lnTo>
                    <a:lnTo>
                      <a:pt x="338" y="366"/>
                    </a:lnTo>
                    <a:close/>
                  </a:path>
                </a:pathLst>
              </a:custGeom>
              <a:solidFill>
                <a:srgbClr val="a4a3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7338960" y="5499000"/>
                <a:ext cx="98280" cy="198720"/>
              </a:xfrm>
              <a:custGeom>
                <a:avLst/>
                <a:gdLst/>
                <a:ahLst/>
                <a:rect l="l" t="t" r="r" b="b"/>
                <a:pathLst>
                  <a:path w="311" h="623">
                    <a:moveTo>
                      <a:pt x="292" y="381"/>
                    </a:moveTo>
                    <a:lnTo>
                      <a:pt x="297" y="386"/>
                    </a:lnTo>
                    <a:lnTo>
                      <a:pt x="300" y="391"/>
                    </a:lnTo>
                    <a:lnTo>
                      <a:pt x="304" y="397"/>
                    </a:lnTo>
                    <a:lnTo>
                      <a:pt x="306" y="403"/>
                    </a:lnTo>
                    <a:lnTo>
                      <a:pt x="308" y="410"/>
                    </a:lnTo>
                    <a:lnTo>
                      <a:pt x="310" y="416"/>
                    </a:lnTo>
                    <a:lnTo>
                      <a:pt x="311" y="424"/>
                    </a:lnTo>
                    <a:lnTo>
                      <a:pt x="311" y="431"/>
                    </a:lnTo>
                    <a:lnTo>
                      <a:pt x="311" y="448"/>
                    </a:lnTo>
                    <a:lnTo>
                      <a:pt x="309" y="464"/>
                    </a:lnTo>
                    <a:lnTo>
                      <a:pt x="306" y="481"/>
                    </a:lnTo>
                    <a:lnTo>
                      <a:pt x="300" y="498"/>
                    </a:lnTo>
                    <a:lnTo>
                      <a:pt x="294" y="516"/>
                    </a:lnTo>
                    <a:lnTo>
                      <a:pt x="286" y="532"/>
                    </a:lnTo>
                    <a:lnTo>
                      <a:pt x="279" y="548"/>
                    </a:lnTo>
                    <a:lnTo>
                      <a:pt x="269" y="563"/>
                    </a:lnTo>
                    <a:lnTo>
                      <a:pt x="259" y="577"/>
                    </a:lnTo>
                    <a:lnTo>
                      <a:pt x="249" y="589"/>
                    </a:lnTo>
                    <a:lnTo>
                      <a:pt x="237" y="600"/>
                    </a:lnTo>
                    <a:lnTo>
                      <a:pt x="226" y="609"/>
                    </a:lnTo>
                    <a:lnTo>
                      <a:pt x="215" y="614"/>
                    </a:lnTo>
                    <a:lnTo>
                      <a:pt x="203" y="618"/>
                    </a:lnTo>
                    <a:lnTo>
                      <a:pt x="190" y="621"/>
                    </a:lnTo>
                    <a:lnTo>
                      <a:pt x="176" y="623"/>
                    </a:lnTo>
                    <a:lnTo>
                      <a:pt x="162" y="623"/>
                    </a:lnTo>
                    <a:lnTo>
                      <a:pt x="147" y="619"/>
                    </a:lnTo>
                    <a:lnTo>
                      <a:pt x="140" y="618"/>
                    </a:lnTo>
                    <a:lnTo>
                      <a:pt x="132" y="615"/>
                    </a:lnTo>
                    <a:lnTo>
                      <a:pt x="123" y="612"/>
                    </a:lnTo>
                    <a:lnTo>
                      <a:pt x="116" y="607"/>
                    </a:lnTo>
                    <a:lnTo>
                      <a:pt x="108" y="603"/>
                    </a:lnTo>
                    <a:lnTo>
                      <a:pt x="101" y="598"/>
                    </a:lnTo>
                    <a:lnTo>
                      <a:pt x="92" y="592"/>
                    </a:lnTo>
                    <a:lnTo>
                      <a:pt x="84" y="586"/>
                    </a:lnTo>
                    <a:lnTo>
                      <a:pt x="77" y="578"/>
                    </a:lnTo>
                    <a:lnTo>
                      <a:pt x="69" y="570"/>
                    </a:lnTo>
                    <a:lnTo>
                      <a:pt x="62" y="561"/>
                    </a:lnTo>
                    <a:lnTo>
                      <a:pt x="54" y="551"/>
                    </a:lnTo>
                    <a:lnTo>
                      <a:pt x="47" y="540"/>
                    </a:lnTo>
                    <a:lnTo>
                      <a:pt x="40" y="530"/>
                    </a:lnTo>
                    <a:lnTo>
                      <a:pt x="33" y="518"/>
                    </a:lnTo>
                    <a:lnTo>
                      <a:pt x="26" y="505"/>
                    </a:lnTo>
                    <a:lnTo>
                      <a:pt x="20" y="491"/>
                    </a:lnTo>
                    <a:lnTo>
                      <a:pt x="13" y="476"/>
                    </a:lnTo>
                    <a:lnTo>
                      <a:pt x="7" y="459"/>
                    </a:lnTo>
                    <a:lnTo>
                      <a:pt x="0" y="442"/>
                    </a:lnTo>
                    <a:lnTo>
                      <a:pt x="2" y="425"/>
                    </a:lnTo>
                    <a:lnTo>
                      <a:pt x="6" y="380"/>
                    </a:lnTo>
                    <a:lnTo>
                      <a:pt x="12" y="316"/>
                    </a:lnTo>
                    <a:lnTo>
                      <a:pt x="17" y="241"/>
                    </a:lnTo>
                    <a:lnTo>
                      <a:pt x="24" y="167"/>
                    </a:lnTo>
                    <a:lnTo>
                      <a:pt x="29" y="100"/>
                    </a:lnTo>
                    <a:lnTo>
                      <a:pt x="34" y="50"/>
                    </a:lnTo>
                    <a:lnTo>
                      <a:pt x="35" y="27"/>
                    </a:lnTo>
                    <a:lnTo>
                      <a:pt x="36" y="24"/>
                    </a:lnTo>
                    <a:lnTo>
                      <a:pt x="38" y="21"/>
                    </a:lnTo>
                    <a:lnTo>
                      <a:pt x="40" y="19"/>
                    </a:lnTo>
                    <a:lnTo>
                      <a:pt x="43" y="16"/>
                    </a:lnTo>
                    <a:lnTo>
                      <a:pt x="52" y="11"/>
                    </a:lnTo>
                    <a:lnTo>
                      <a:pt x="61" y="7"/>
                    </a:lnTo>
                    <a:lnTo>
                      <a:pt x="70" y="4"/>
                    </a:lnTo>
                    <a:lnTo>
                      <a:pt x="79" y="2"/>
                    </a:lnTo>
                    <a:lnTo>
                      <a:pt x="84" y="0"/>
                    </a:lnTo>
                    <a:lnTo>
                      <a:pt x="88" y="0"/>
                    </a:lnTo>
                    <a:lnTo>
                      <a:pt x="94" y="15"/>
                    </a:lnTo>
                    <a:lnTo>
                      <a:pt x="111" y="52"/>
                    </a:lnTo>
                    <a:lnTo>
                      <a:pt x="138" y="107"/>
                    </a:lnTo>
                    <a:lnTo>
                      <a:pt x="170" y="172"/>
                    </a:lnTo>
                    <a:lnTo>
                      <a:pt x="204" y="238"/>
                    </a:lnTo>
                    <a:lnTo>
                      <a:pt x="239" y="301"/>
                    </a:lnTo>
                    <a:lnTo>
                      <a:pt x="254" y="328"/>
                    </a:lnTo>
                    <a:lnTo>
                      <a:pt x="269" y="350"/>
                    </a:lnTo>
                    <a:lnTo>
                      <a:pt x="281" y="369"/>
                    </a:lnTo>
                    <a:lnTo>
                      <a:pt x="292" y="381"/>
                    </a:lnTo>
                    <a:close/>
                  </a:path>
                </a:pathLst>
              </a:custGeom>
              <a:solidFill>
                <a:srgbClr val="acab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7345440" y="5500800"/>
                <a:ext cx="83880" cy="193680"/>
              </a:xfrm>
              <a:custGeom>
                <a:avLst/>
                <a:gdLst/>
                <a:ahLst/>
                <a:rect l="l" t="t" r="r" b="b"/>
                <a:pathLst>
                  <a:path w="262" h="612">
                    <a:moveTo>
                      <a:pt x="242" y="395"/>
                    </a:moveTo>
                    <a:lnTo>
                      <a:pt x="246" y="400"/>
                    </a:lnTo>
                    <a:lnTo>
                      <a:pt x="250" y="406"/>
                    </a:lnTo>
                    <a:lnTo>
                      <a:pt x="254" y="411"/>
                    </a:lnTo>
                    <a:lnTo>
                      <a:pt x="256" y="418"/>
                    </a:lnTo>
                    <a:lnTo>
                      <a:pt x="260" y="431"/>
                    </a:lnTo>
                    <a:lnTo>
                      <a:pt x="262" y="445"/>
                    </a:lnTo>
                    <a:lnTo>
                      <a:pt x="262" y="460"/>
                    </a:lnTo>
                    <a:lnTo>
                      <a:pt x="260" y="475"/>
                    </a:lnTo>
                    <a:lnTo>
                      <a:pt x="257" y="491"/>
                    </a:lnTo>
                    <a:lnTo>
                      <a:pt x="253" y="506"/>
                    </a:lnTo>
                    <a:lnTo>
                      <a:pt x="247" y="523"/>
                    </a:lnTo>
                    <a:lnTo>
                      <a:pt x="241" y="538"/>
                    </a:lnTo>
                    <a:lnTo>
                      <a:pt x="233" y="552"/>
                    </a:lnTo>
                    <a:lnTo>
                      <a:pt x="226" y="565"/>
                    </a:lnTo>
                    <a:lnTo>
                      <a:pt x="216" y="578"/>
                    </a:lnTo>
                    <a:lnTo>
                      <a:pt x="207" y="587"/>
                    </a:lnTo>
                    <a:lnTo>
                      <a:pt x="198" y="596"/>
                    </a:lnTo>
                    <a:lnTo>
                      <a:pt x="188" y="604"/>
                    </a:lnTo>
                    <a:lnTo>
                      <a:pt x="179" y="608"/>
                    </a:lnTo>
                    <a:lnTo>
                      <a:pt x="168" y="611"/>
                    </a:lnTo>
                    <a:lnTo>
                      <a:pt x="158" y="612"/>
                    </a:lnTo>
                    <a:lnTo>
                      <a:pt x="146" y="612"/>
                    </a:lnTo>
                    <a:lnTo>
                      <a:pt x="133" y="610"/>
                    </a:lnTo>
                    <a:lnTo>
                      <a:pt x="120" y="606"/>
                    </a:lnTo>
                    <a:lnTo>
                      <a:pt x="107" y="600"/>
                    </a:lnTo>
                    <a:lnTo>
                      <a:pt x="93" y="593"/>
                    </a:lnTo>
                    <a:lnTo>
                      <a:pt x="80" y="583"/>
                    </a:lnTo>
                    <a:lnTo>
                      <a:pt x="66" y="571"/>
                    </a:lnTo>
                    <a:lnTo>
                      <a:pt x="53" y="556"/>
                    </a:lnTo>
                    <a:lnTo>
                      <a:pt x="41" y="539"/>
                    </a:lnTo>
                    <a:lnTo>
                      <a:pt x="29" y="519"/>
                    </a:lnTo>
                    <a:lnTo>
                      <a:pt x="18" y="498"/>
                    </a:lnTo>
                    <a:lnTo>
                      <a:pt x="9" y="473"/>
                    </a:lnTo>
                    <a:lnTo>
                      <a:pt x="0" y="445"/>
                    </a:lnTo>
                    <a:lnTo>
                      <a:pt x="1" y="427"/>
                    </a:lnTo>
                    <a:lnTo>
                      <a:pt x="3" y="381"/>
                    </a:lnTo>
                    <a:lnTo>
                      <a:pt x="7" y="315"/>
                    </a:lnTo>
                    <a:lnTo>
                      <a:pt x="11" y="240"/>
                    </a:lnTo>
                    <a:lnTo>
                      <a:pt x="15" y="163"/>
                    </a:lnTo>
                    <a:lnTo>
                      <a:pt x="18" y="95"/>
                    </a:lnTo>
                    <a:lnTo>
                      <a:pt x="21" y="45"/>
                    </a:lnTo>
                    <a:lnTo>
                      <a:pt x="23" y="22"/>
                    </a:lnTo>
                    <a:lnTo>
                      <a:pt x="23" y="19"/>
                    </a:lnTo>
                    <a:lnTo>
                      <a:pt x="24" y="16"/>
                    </a:lnTo>
                    <a:lnTo>
                      <a:pt x="26" y="14"/>
                    </a:lnTo>
                    <a:lnTo>
                      <a:pt x="28" y="12"/>
                    </a:lnTo>
                    <a:lnTo>
                      <a:pt x="33" y="7"/>
                    </a:lnTo>
                    <a:lnTo>
                      <a:pt x="40" y="5"/>
                    </a:lnTo>
                    <a:lnTo>
                      <a:pt x="46" y="3"/>
                    </a:lnTo>
                    <a:lnTo>
                      <a:pt x="52" y="1"/>
                    </a:lnTo>
                    <a:lnTo>
                      <a:pt x="55" y="0"/>
                    </a:lnTo>
                    <a:lnTo>
                      <a:pt x="57" y="0"/>
                    </a:lnTo>
                    <a:lnTo>
                      <a:pt x="63" y="15"/>
                    </a:lnTo>
                    <a:lnTo>
                      <a:pt x="79" y="55"/>
                    </a:lnTo>
                    <a:lnTo>
                      <a:pt x="102" y="112"/>
                    </a:lnTo>
                    <a:lnTo>
                      <a:pt x="131" y="179"/>
                    </a:lnTo>
                    <a:lnTo>
                      <a:pt x="162" y="248"/>
                    </a:lnTo>
                    <a:lnTo>
                      <a:pt x="192" y="313"/>
                    </a:lnTo>
                    <a:lnTo>
                      <a:pt x="206" y="341"/>
                    </a:lnTo>
                    <a:lnTo>
                      <a:pt x="220" y="365"/>
                    </a:lnTo>
                    <a:lnTo>
                      <a:pt x="232" y="383"/>
                    </a:lnTo>
                    <a:lnTo>
                      <a:pt x="242" y="395"/>
                    </a:lnTo>
                    <a:close/>
                  </a:path>
                </a:pathLst>
              </a:custGeom>
              <a:solidFill>
                <a:srgbClr val="b5b5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7353360" y="5502240"/>
                <a:ext cx="68040" cy="192240"/>
              </a:xfrm>
              <a:custGeom>
                <a:avLst/>
                <a:gdLst/>
                <a:ahLst/>
                <a:rect l="l" t="t" r="r" b="b"/>
                <a:pathLst>
                  <a:path w="215" h="603">
                    <a:moveTo>
                      <a:pt x="27" y="0"/>
                    </a:moveTo>
                    <a:lnTo>
                      <a:pt x="32" y="15"/>
                    </a:lnTo>
                    <a:lnTo>
                      <a:pt x="46" y="57"/>
                    </a:lnTo>
                    <a:lnTo>
                      <a:pt x="67" y="117"/>
                    </a:lnTo>
                    <a:lnTo>
                      <a:pt x="91" y="187"/>
                    </a:lnTo>
                    <a:lnTo>
                      <a:pt x="105" y="223"/>
                    </a:lnTo>
                    <a:lnTo>
                      <a:pt x="119" y="258"/>
                    </a:lnTo>
                    <a:lnTo>
                      <a:pt x="134" y="293"/>
                    </a:lnTo>
                    <a:lnTo>
                      <a:pt x="148" y="325"/>
                    </a:lnTo>
                    <a:lnTo>
                      <a:pt x="161" y="354"/>
                    </a:lnTo>
                    <a:lnTo>
                      <a:pt x="173" y="378"/>
                    </a:lnTo>
                    <a:lnTo>
                      <a:pt x="179" y="389"/>
                    </a:lnTo>
                    <a:lnTo>
                      <a:pt x="184" y="398"/>
                    </a:lnTo>
                    <a:lnTo>
                      <a:pt x="190" y="405"/>
                    </a:lnTo>
                    <a:lnTo>
                      <a:pt x="194" y="411"/>
                    </a:lnTo>
                    <a:lnTo>
                      <a:pt x="198" y="415"/>
                    </a:lnTo>
                    <a:lnTo>
                      <a:pt x="203" y="420"/>
                    </a:lnTo>
                    <a:lnTo>
                      <a:pt x="206" y="426"/>
                    </a:lnTo>
                    <a:lnTo>
                      <a:pt x="208" y="431"/>
                    </a:lnTo>
                    <a:lnTo>
                      <a:pt x="212" y="444"/>
                    </a:lnTo>
                    <a:lnTo>
                      <a:pt x="215" y="457"/>
                    </a:lnTo>
                    <a:lnTo>
                      <a:pt x="215" y="471"/>
                    </a:lnTo>
                    <a:lnTo>
                      <a:pt x="213" y="485"/>
                    </a:lnTo>
                    <a:lnTo>
                      <a:pt x="211" y="500"/>
                    </a:lnTo>
                    <a:lnTo>
                      <a:pt x="207" y="514"/>
                    </a:lnTo>
                    <a:lnTo>
                      <a:pt x="203" y="528"/>
                    </a:lnTo>
                    <a:lnTo>
                      <a:pt x="196" y="542"/>
                    </a:lnTo>
                    <a:lnTo>
                      <a:pt x="190" y="554"/>
                    </a:lnTo>
                    <a:lnTo>
                      <a:pt x="182" y="566"/>
                    </a:lnTo>
                    <a:lnTo>
                      <a:pt x="175" y="577"/>
                    </a:lnTo>
                    <a:lnTo>
                      <a:pt x="167" y="586"/>
                    </a:lnTo>
                    <a:lnTo>
                      <a:pt x="158" y="593"/>
                    </a:lnTo>
                    <a:lnTo>
                      <a:pt x="150" y="599"/>
                    </a:lnTo>
                    <a:lnTo>
                      <a:pt x="142" y="601"/>
                    </a:lnTo>
                    <a:lnTo>
                      <a:pt x="134" y="603"/>
                    </a:lnTo>
                    <a:lnTo>
                      <a:pt x="124" y="602"/>
                    </a:lnTo>
                    <a:lnTo>
                      <a:pt x="114" y="601"/>
                    </a:lnTo>
                    <a:lnTo>
                      <a:pt x="103" y="597"/>
                    </a:lnTo>
                    <a:lnTo>
                      <a:pt x="91" y="592"/>
                    </a:lnTo>
                    <a:lnTo>
                      <a:pt x="81" y="586"/>
                    </a:lnTo>
                    <a:lnTo>
                      <a:pt x="69" y="577"/>
                    </a:lnTo>
                    <a:lnTo>
                      <a:pt x="58" y="567"/>
                    </a:lnTo>
                    <a:lnTo>
                      <a:pt x="47" y="555"/>
                    </a:lnTo>
                    <a:lnTo>
                      <a:pt x="36" y="542"/>
                    </a:lnTo>
                    <a:lnTo>
                      <a:pt x="27" y="527"/>
                    </a:lnTo>
                    <a:lnTo>
                      <a:pt x="18" y="510"/>
                    </a:lnTo>
                    <a:lnTo>
                      <a:pt x="10" y="492"/>
                    </a:lnTo>
                    <a:lnTo>
                      <a:pt x="4" y="472"/>
                    </a:lnTo>
                    <a:lnTo>
                      <a:pt x="0" y="449"/>
                    </a:lnTo>
                    <a:lnTo>
                      <a:pt x="0" y="432"/>
                    </a:lnTo>
                    <a:lnTo>
                      <a:pt x="1" y="385"/>
                    </a:lnTo>
                    <a:lnTo>
                      <a:pt x="3" y="317"/>
                    </a:lnTo>
                    <a:lnTo>
                      <a:pt x="5" y="239"/>
                    </a:lnTo>
                    <a:lnTo>
                      <a:pt x="7" y="160"/>
                    </a:lnTo>
                    <a:lnTo>
                      <a:pt x="9" y="90"/>
                    </a:lnTo>
                    <a:lnTo>
                      <a:pt x="11" y="38"/>
                    </a:lnTo>
                    <a:lnTo>
                      <a:pt x="11" y="15"/>
                    </a:lnTo>
                    <a:lnTo>
                      <a:pt x="13" y="10"/>
                    </a:lnTo>
                    <a:lnTo>
                      <a:pt x="14" y="7"/>
                    </a:lnTo>
                    <a:lnTo>
                      <a:pt x="16" y="3"/>
                    </a:lnTo>
                    <a:lnTo>
                      <a:pt x="19" y="2"/>
                    </a:lnTo>
                    <a:lnTo>
                      <a:pt x="21" y="1"/>
                    </a:lnTo>
                    <a:lnTo>
                      <a:pt x="24" y="0"/>
                    </a:lnTo>
                    <a:lnTo>
                      <a:pt x="25" y="0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bdbd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7377120" y="5423040"/>
                <a:ext cx="108000" cy="87120"/>
              </a:xfrm>
              <a:custGeom>
                <a:avLst/>
                <a:gdLst/>
                <a:ahLst/>
                <a:rect l="l" t="t" r="r" b="b"/>
                <a:pathLst>
                  <a:path w="339" h="273">
                    <a:moveTo>
                      <a:pt x="185" y="251"/>
                    </a:moveTo>
                    <a:lnTo>
                      <a:pt x="132" y="232"/>
                    </a:lnTo>
                    <a:lnTo>
                      <a:pt x="90" y="217"/>
                    </a:lnTo>
                    <a:lnTo>
                      <a:pt x="58" y="205"/>
                    </a:lnTo>
                    <a:lnTo>
                      <a:pt x="33" y="197"/>
                    </a:lnTo>
                    <a:lnTo>
                      <a:pt x="16" y="192"/>
                    </a:lnTo>
                    <a:lnTo>
                      <a:pt x="7" y="189"/>
                    </a:lnTo>
                    <a:lnTo>
                      <a:pt x="1" y="188"/>
                    </a:lnTo>
                    <a:lnTo>
                      <a:pt x="0" y="188"/>
                    </a:lnTo>
                    <a:lnTo>
                      <a:pt x="14" y="146"/>
                    </a:lnTo>
                    <a:lnTo>
                      <a:pt x="22" y="140"/>
                    </a:lnTo>
                    <a:lnTo>
                      <a:pt x="42" y="127"/>
                    </a:lnTo>
                    <a:lnTo>
                      <a:pt x="73" y="108"/>
                    </a:lnTo>
                    <a:lnTo>
                      <a:pt x="108" y="85"/>
                    </a:lnTo>
                    <a:lnTo>
                      <a:pt x="147" y="61"/>
                    </a:lnTo>
                    <a:lnTo>
                      <a:pt x="187" y="38"/>
                    </a:lnTo>
                    <a:lnTo>
                      <a:pt x="223" y="18"/>
                    </a:lnTo>
                    <a:lnTo>
                      <a:pt x="252" y="4"/>
                    </a:lnTo>
                    <a:lnTo>
                      <a:pt x="257" y="2"/>
                    </a:lnTo>
                    <a:lnTo>
                      <a:pt x="262" y="1"/>
                    </a:lnTo>
                    <a:lnTo>
                      <a:pt x="267" y="0"/>
                    </a:lnTo>
                    <a:lnTo>
                      <a:pt x="271" y="0"/>
                    </a:lnTo>
                    <a:lnTo>
                      <a:pt x="276" y="0"/>
                    </a:lnTo>
                    <a:lnTo>
                      <a:pt x="280" y="1"/>
                    </a:lnTo>
                    <a:lnTo>
                      <a:pt x="285" y="2"/>
                    </a:lnTo>
                    <a:lnTo>
                      <a:pt x="289" y="4"/>
                    </a:lnTo>
                    <a:lnTo>
                      <a:pt x="297" y="9"/>
                    </a:lnTo>
                    <a:lnTo>
                      <a:pt x="305" y="17"/>
                    </a:lnTo>
                    <a:lnTo>
                      <a:pt x="311" y="27"/>
                    </a:lnTo>
                    <a:lnTo>
                      <a:pt x="318" y="38"/>
                    </a:lnTo>
                    <a:lnTo>
                      <a:pt x="323" y="49"/>
                    </a:lnTo>
                    <a:lnTo>
                      <a:pt x="328" y="63"/>
                    </a:lnTo>
                    <a:lnTo>
                      <a:pt x="332" y="77"/>
                    </a:lnTo>
                    <a:lnTo>
                      <a:pt x="335" y="94"/>
                    </a:lnTo>
                    <a:lnTo>
                      <a:pt x="337" y="109"/>
                    </a:lnTo>
                    <a:lnTo>
                      <a:pt x="338" y="126"/>
                    </a:lnTo>
                    <a:lnTo>
                      <a:pt x="339" y="143"/>
                    </a:lnTo>
                    <a:lnTo>
                      <a:pt x="338" y="160"/>
                    </a:lnTo>
                    <a:lnTo>
                      <a:pt x="338" y="177"/>
                    </a:lnTo>
                    <a:lnTo>
                      <a:pt x="337" y="192"/>
                    </a:lnTo>
                    <a:lnTo>
                      <a:pt x="335" y="207"/>
                    </a:lnTo>
                    <a:lnTo>
                      <a:pt x="333" y="220"/>
                    </a:lnTo>
                    <a:lnTo>
                      <a:pt x="330" y="233"/>
                    </a:lnTo>
                    <a:lnTo>
                      <a:pt x="325" y="244"/>
                    </a:lnTo>
                    <a:lnTo>
                      <a:pt x="320" y="252"/>
                    </a:lnTo>
                    <a:lnTo>
                      <a:pt x="312" y="260"/>
                    </a:lnTo>
                    <a:lnTo>
                      <a:pt x="309" y="263"/>
                    </a:lnTo>
                    <a:lnTo>
                      <a:pt x="304" y="266"/>
                    </a:lnTo>
                    <a:lnTo>
                      <a:pt x="299" y="269"/>
                    </a:lnTo>
                    <a:lnTo>
                      <a:pt x="294" y="271"/>
                    </a:lnTo>
                    <a:lnTo>
                      <a:pt x="288" y="272"/>
                    </a:lnTo>
                    <a:lnTo>
                      <a:pt x="281" y="273"/>
                    </a:lnTo>
                    <a:lnTo>
                      <a:pt x="275" y="273"/>
                    </a:lnTo>
                    <a:lnTo>
                      <a:pt x="267" y="273"/>
                    </a:lnTo>
                    <a:lnTo>
                      <a:pt x="251" y="271"/>
                    </a:lnTo>
                    <a:lnTo>
                      <a:pt x="231" y="266"/>
                    </a:lnTo>
                    <a:lnTo>
                      <a:pt x="210" y="260"/>
                    </a:lnTo>
                    <a:lnTo>
                      <a:pt x="185" y="251"/>
                    </a:lnTo>
                    <a:close/>
                  </a:path>
                </a:pathLst>
              </a:custGeom>
              <a:solidFill>
                <a:srgbClr val="8e8d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7378560" y="5437440"/>
                <a:ext cx="104760" cy="64800"/>
              </a:xfrm>
              <a:custGeom>
                <a:avLst/>
                <a:gdLst/>
                <a:ahLst/>
                <a:rect l="l" t="t" r="r" b="b"/>
                <a:pathLst>
                  <a:path w="329" h="202">
                    <a:moveTo>
                      <a:pt x="183" y="187"/>
                    </a:moveTo>
                    <a:lnTo>
                      <a:pt x="130" y="171"/>
                    </a:lnTo>
                    <a:lnTo>
                      <a:pt x="88" y="160"/>
                    </a:lnTo>
                    <a:lnTo>
                      <a:pt x="57" y="151"/>
                    </a:lnTo>
                    <a:lnTo>
                      <a:pt x="33" y="146"/>
                    </a:lnTo>
                    <a:lnTo>
                      <a:pt x="17" y="143"/>
                    </a:lnTo>
                    <a:lnTo>
                      <a:pt x="6" y="140"/>
                    </a:lnTo>
                    <a:lnTo>
                      <a:pt x="2" y="139"/>
                    </a:lnTo>
                    <a:lnTo>
                      <a:pt x="0" y="139"/>
                    </a:lnTo>
                    <a:lnTo>
                      <a:pt x="9" y="105"/>
                    </a:lnTo>
                    <a:lnTo>
                      <a:pt x="16" y="102"/>
                    </a:lnTo>
                    <a:lnTo>
                      <a:pt x="33" y="92"/>
                    </a:lnTo>
                    <a:lnTo>
                      <a:pt x="59" y="79"/>
                    </a:lnTo>
                    <a:lnTo>
                      <a:pt x="91" y="63"/>
                    </a:lnTo>
                    <a:lnTo>
                      <a:pt x="127" y="45"/>
                    </a:lnTo>
                    <a:lnTo>
                      <a:pt x="164" y="29"/>
                    </a:lnTo>
                    <a:lnTo>
                      <a:pt x="182" y="22"/>
                    </a:lnTo>
                    <a:lnTo>
                      <a:pt x="199" y="14"/>
                    </a:lnTo>
                    <a:lnTo>
                      <a:pt x="217" y="9"/>
                    </a:lnTo>
                    <a:lnTo>
                      <a:pt x="232" y="3"/>
                    </a:lnTo>
                    <a:lnTo>
                      <a:pt x="242" y="1"/>
                    </a:lnTo>
                    <a:lnTo>
                      <a:pt x="251" y="0"/>
                    </a:lnTo>
                    <a:lnTo>
                      <a:pt x="260" y="1"/>
                    </a:lnTo>
                    <a:lnTo>
                      <a:pt x="270" y="3"/>
                    </a:lnTo>
                    <a:lnTo>
                      <a:pt x="277" y="7"/>
                    </a:lnTo>
                    <a:lnTo>
                      <a:pt x="286" y="12"/>
                    </a:lnTo>
                    <a:lnTo>
                      <a:pt x="293" y="18"/>
                    </a:lnTo>
                    <a:lnTo>
                      <a:pt x="300" y="26"/>
                    </a:lnTo>
                    <a:lnTo>
                      <a:pt x="306" y="35"/>
                    </a:lnTo>
                    <a:lnTo>
                      <a:pt x="312" y="44"/>
                    </a:lnTo>
                    <a:lnTo>
                      <a:pt x="317" y="55"/>
                    </a:lnTo>
                    <a:lnTo>
                      <a:pt x="320" y="67"/>
                    </a:lnTo>
                    <a:lnTo>
                      <a:pt x="324" y="79"/>
                    </a:lnTo>
                    <a:lnTo>
                      <a:pt x="327" y="91"/>
                    </a:lnTo>
                    <a:lnTo>
                      <a:pt x="328" y="104"/>
                    </a:lnTo>
                    <a:lnTo>
                      <a:pt x="329" y="118"/>
                    </a:lnTo>
                    <a:lnTo>
                      <a:pt x="328" y="130"/>
                    </a:lnTo>
                    <a:lnTo>
                      <a:pt x="326" y="142"/>
                    </a:lnTo>
                    <a:lnTo>
                      <a:pt x="324" y="153"/>
                    </a:lnTo>
                    <a:lnTo>
                      <a:pt x="320" y="163"/>
                    </a:lnTo>
                    <a:lnTo>
                      <a:pt x="316" y="172"/>
                    </a:lnTo>
                    <a:lnTo>
                      <a:pt x="312" y="180"/>
                    </a:lnTo>
                    <a:lnTo>
                      <a:pt x="305" y="187"/>
                    </a:lnTo>
                    <a:lnTo>
                      <a:pt x="298" y="192"/>
                    </a:lnTo>
                    <a:lnTo>
                      <a:pt x="288" y="198"/>
                    </a:lnTo>
                    <a:lnTo>
                      <a:pt x="278" y="200"/>
                    </a:lnTo>
                    <a:lnTo>
                      <a:pt x="266" y="202"/>
                    </a:lnTo>
                    <a:lnTo>
                      <a:pt x="253" y="202"/>
                    </a:lnTo>
                    <a:lnTo>
                      <a:pt x="238" y="201"/>
                    </a:lnTo>
                    <a:lnTo>
                      <a:pt x="221" y="198"/>
                    </a:lnTo>
                    <a:lnTo>
                      <a:pt x="203" y="193"/>
                    </a:lnTo>
                    <a:lnTo>
                      <a:pt x="183" y="187"/>
                    </a:lnTo>
                    <a:close/>
                  </a:path>
                </a:pathLst>
              </a:custGeom>
              <a:solidFill>
                <a:srgbClr val="89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7380360" y="5451480"/>
                <a:ext cx="100080" cy="41400"/>
              </a:xfrm>
              <a:custGeom>
                <a:avLst/>
                <a:gdLst/>
                <a:ahLst/>
                <a:rect l="l" t="t" r="r" b="b"/>
                <a:pathLst>
                  <a:path w="319" h="131">
                    <a:moveTo>
                      <a:pt x="183" y="121"/>
                    </a:moveTo>
                    <a:lnTo>
                      <a:pt x="132" y="112"/>
                    </a:lnTo>
                    <a:lnTo>
                      <a:pt x="89" y="103"/>
                    </a:lnTo>
                    <a:lnTo>
                      <a:pt x="58" y="98"/>
                    </a:lnTo>
                    <a:lnTo>
                      <a:pt x="34" y="93"/>
                    </a:lnTo>
                    <a:lnTo>
                      <a:pt x="18" y="91"/>
                    </a:lnTo>
                    <a:lnTo>
                      <a:pt x="7" y="90"/>
                    </a:lnTo>
                    <a:lnTo>
                      <a:pt x="2" y="90"/>
                    </a:lnTo>
                    <a:lnTo>
                      <a:pt x="0" y="90"/>
                    </a:lnTo>
                    <a:lnTo>
                      <a:pt x="11" y="65"/>
                    </a:lnTo>
                    <a:lnTo>
                      <a:pt x="15" y="63"/>
                    </a:lnTo>
                    <a:lnTo>
                      <a:pt x="29" y="58"/>
                    </a:lnTo>
                    <a:lnTo>
                      <a:pt x="51" y="49"/>
                    </a:lnTo>
                    <a:lnTo>
                      <a:pt x="78" y="39"/>
                    </a:lnTo>
                    <a:lnTo>
                      <a:pt x="109" y="30"/>
                    </a:lnTo>
                    <a:lnTo>
                      <a:pt x="143" y="19"/>
                    </a:lnTo>
                    <a:lnTo>
                      <a:pt x="179" y="10"/>
                    </a:lnTo>
                    <a:lnTo>
                      <a:pt x="216" y="4"/>
                    </a:lnTo>
                    <a:lnTo>
                      <a:pt x="224" y="2"/>
                    </a:lnTo>
                    <a:lnTo>
                      <a:pt x="234" y="0"/>
                    </a:lnTo>
                    <a:lnTo>
                      <a:pt x="243" y="0"/>
                    </a:lnTo>
                    <a:lnTo>
                      <a:pt x="253" y="2"/>
                    </a:lnTo>
                    <a:lnTo>
                      <a:pt x="261" y="4"/>
                    </a:lnTo>
                    <a:lnTo>
                      <a:pt x="270" y="6"/>
                    </a:lnTo>
                    <a:lnTo>
                      <a:pt x="278" y="9"/>
                    </a:lnTo>
                    <a:lnTo>
                      <a:pt x="286" y="13"/>
                    </a:lnTo>
                    <a:lnTo>
                      <a:pt x="292" y="19"/>
                    </a:lnTo>
                    <a:lnTo>
                      <a:pt x="299" y="24"/>
                    </a:lnTo>
                    <a:lnTo>
                      <a:pt x="305" y="31"/>
                    </a:lnTo>
                    <a:lnTo>
                      <a:pt x="310" y="38"/>
                    </a:lnTo>
                    <a:lnTo>
                      <a:pt x="314" y="46"/>
                    </a:lnTo>
                    <a:lnTo>
                      <a:pt x="316" y="54"/>
                    </a:lnTo>
                    <a:lnTo>
                      <a:pt x="318" y="63"/>
                    </a:lnTo>
                    <a:lnTo>
                      <a:pt x="319" y="73"/>
                    </a:lnTo>
                    <a:lnTo>
                      <a:pt x="318" y="81"/>
                    </a:lnTo>
                    <a:lnTo>
                      <a:pt x="316" y="90"/>
                    </a:lnTo>
                    <a:lnTo>
                      <a:pt x="313" y="98"/>
                    </a:lnTo>
                    <a:lnTo>
                      <a:pt x="309" y="104"/>
                    </a:lnTo>
                    <a:lnTo>
                      <a:pt x="304" y="111"/>
                    </a:lnTo>
                    <a:lnTo>
                      <a:pt x="298" y="116"/>
                    </a:lnTo>
                    <a:lnTo>
                      <a:pt x="290" y="121"/>
                    </a:lnTo>
                    <a:lnTo>
                      <a:pt x="283" y="125"/>
                    </a:lnTo>
                    <a:lnTo>
                      <a:pt x="274" y="128"/>
                    </a:lnTo>
                    <a:lnTo>
                      <a:pt x="263" y="130"/>
                    </a:lnTo>
                    <a:lnTo>
                      <a:pt x="253" y="131"/>
                    </a:lnTo>
                    <a:lnTo>
                      <a:pt x="241" y="131"/>
                    </a:lnTo>
                    <a:lnTo>
                      <a:pt x="228" y="131"/>
                    </a:lnTo>
                    <a:lnTo>
                      <a:pt x="214" y="129"/>
                    </a:lnTo>
                    <a:lnTo>
                      <a:pt x="199" y="126"/>
                    </a:lnTo>
                    <a:lnTo>
                      <a:pt x="183" y="121"/>
                    </a:lnTo>
                    <a:close/>
                  </a:path>
                </a:pathLst>
              </a:custGeom>
              <a:solidFill>
                <a:srgbClr val="82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7381800" y="5465880"/>
                <a:ext cx="96840" cy="19080"/>
              </a:xfrm>
              <a:custGeom>
                <a:avLst/>
                <a:gdLst/>
                <a:ahLst/>
                <a:rect l="l" t="t" r="r" b="b"/>
                <a:pathLst>
                  <a:path w="307" h="60">
                    <a:moveTo>
                      <a:pt x="6" y="25"/>
                    </a:moveTo>
                    <a:lnTo>
                      <a:pt x="9" y="25"/>
                    </a:lnTo>
                    <a:lnTo>
                      <a:pt x="20" y="22"/>
                    </a:lnTo>
                    <a:lnTo>
                      <a:pt x="37" y="20"/>
                    </a:lnTo>
                    <a:lnTo>
                      <a:pt x="61" y="18"/>
                    </a:lnTo>
                    <a:lnTo>
                      <a:pt x="89" y="14"/>
                    </a:lnTo>
                    <a:lnTo>
                      <a:pt x="121" y="11"/>
                    </a:lnTo>
                    <a:lnTo>
                      <a:pt x="157" y="6"/>
                    </a:lnTo>
                    <a:lnTo>
                      <a:pt x="196" y="3"/>
                    </a:lnTo>
                    <a:lnTo>
                      <a:pt x="214" y="1"/>
                    </a:lnTo>
                    <a:lnTo>
                      <a:pt x="232" y="0"/>
                    </a:lnTo>
                    <a:lnTo>
                      <a:pt x="251" y="0"/>
                    </a:lnTo>
                    <a:lnTo>
                      <a:pt x="268" y="2"/>
                    </a:lnTo>
                    <a:lnTo>
                      <a:pt x="276" y="3"/>
                    </a:lnTo>
                    <a:lnTo>
                      <a:pt x="283" y="5"/>
                    </a:lnTo>
                    <a:lnTo>
                      <a:pt x="290" y="8"/>
                    </a:lnTo>
                    <a:lnTo>
                      <a:pt x="295" y="12"/>
                    </a:lnTo>
                    <a:lnTo>
                      <a:pt x="299" y="15"/>
                    </a:lnTo>
                    <a:lnTo>
                      <a:pt x="304" y="19"/>
                    </a:lnTo>
                    <a:lnTo>
                      <a:pt x="306" y="25"/>
                    </a:lnTo>
                    <a:lnTo>
                      <a:pt x="307" y="30"/>
                    </a:lnTo>
                    <a:lnTo>
                      <a:pt x="306" y="34"/>
                    </a:lnTo>
                    <a:lnTo>
                      <a:pt x="304" y="40"/>
                    </a:lnTo>
                    <a:lnTo>
                      <a:pt x="300" y="43"/>
                    </a:lnTo>
                    <a:lnTo>
                      <a:pt x="296" y="47"/>
                    </a:lnTo>
                    <a:lnTo>
                      <a:pt x="290" y="49"/>
                    </a:lnTo>
                    <a:lnTo>
                      <a:pt x="283" y="53"/>
                    </a:lnTo>
                    <a:lnTo>
                      <a:pt x="276" y="55"/>
                    </a:lnTo>
                    <a:lnTo>
                      <a:pt x="267" y="57"/>
                    </a:lnTo>
                    <a:lnTo>
                      <a:pt x="248" y="59"/>
                    </a:lnTo>
                    <a:lnTo>
                      <a:pt x="226" y="60"/>
                    </a:lnTo>
                    <a:lnTo>
                      <a:pt x="202" y="59"/>
                    </a:lnTo>
                    <a:lnTo>
                      <a:pt x="178" y="57"/>
                    </a:lnTo>
                    <a:lnTo>
                      <a:pt x="128" y="50"/>
                    </a:lnTo>
                    <a:lnTo>
                      <a:pt x="88" y="46"/>
                    </a:lnTo>
                    <a:lnTo>
                      <a:pt x="56" y="43"/>
                    </a:lnTo>
                    <a:lnTo>
                      <a:pt x="34" y="41"/>
                    </a:lnTo>
                    <a:lnTo>
                      <a:pt x="17" y="40"/>
                    </a:lnTo>
                    <a:lnTo>
                      <a:pt x="7" y="40"/>
                    </a:lnTo>
                    <a:lnTo>
                      <a:pt x="1" y="40"/>
                    </a:lnTo>
                    <a:lnTo>
                      <a:pt x="0" y="40"/>
                    </a:lnTo>
                    <a:lnTo>
                      <a:pt x="6" y="25"/>
                    </a:lnTo>
                    <a:close/>
                  </a:path>
                </a:pathLst>
              </a:custGeom>
              <a:solidFill>
                <a:srgbClr val="7b79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7380360" y="5256360"/>
                <a:ext cx="73080" cy="206280"/>
              </a:xfrm>
              <a:custGeom>
                <a:avLst/>
                <a:gdLst/>
                <a:ahLst/>
                <a:rect l="l" t="t" r="r" b="b"/>
                <a:pathLst>
                  <a:path w="233" h="650">
                    <a:moveTo>
                      <a:pt x="233" y="193"/>
                    </a:moveTo>
                    <a:lnTo>
                      <a:pt x="17" y="650"/>
                    </a:lnTo>
                    <a:lnTo>
                      <a:pt x="15" y="621"/>
                    </a:lnTo>
                    <a:lnTo>
                      <a:pt x="9" y="545"/>
                    </a:lnTo>
                    <a:lnTo>
                      <a:pt x="6" y="494"/>
                    </a:lnTo>
                    <a:lnTo>
                      <a:pt x="3" y="437"/>
                    </a:lnTo>
                    <a:lnTo>
                      <a:pt x="1" y="377"/>
                    </a:lnTo>
                    <a:lnTo>
                      <a:pt x="0" y="315"/>
                    </a:lnTo>
                    <a:lnTo>
                      <a:pt x="0" y="254"/>
                    </a:lnTo>
                    <a:lnTo>
                      <a:pt x="2" y="194"/>
                    </a:lnTo>
                    <a:lnTo>
                      <a:pt x="3" y="166"/>
                    </a:lnTo>
                    <a:lnTo>
                      <a:pt x="5" y="139"/>
                    </a:lnTo>
                    <a:lnTo>
                      <a:pt x="8" y="114"/>
                    </a:lnTo>
                    <a:lnTo>
                      <a:pt x="13" y="91"/>
                    </a:lnTo>
                    <a:lnTo>
                      <a:pt x="17" y="69"/>
                    </a:lnTo>
                    <a:lnTo>
                      <a:pt x="22" y="51"/>
                    </a:lnTo>
                    <a:lnTo>
                      <a:pt x="28" y="34"/>
                    </a:lnTo>
                    <a:lnTo>
                      <a:pt x="34" y="20"/>
                    </a:lnTo>
                    <a:lnTo>
                      <a:pt x="43" y="11"/>
                    </a:lnTo>
                    <a:lnTo>
                      <a:pt x="52" y="3"/>
                    </a:lnTo>
                    <a:lnTo>
                      <a:pt x="61" y="0"/>
                    </a:lnTo>
                    <a:lnTo>
                      <a:pt x="72" y="0"/>
                    </a:lnTo>
                    <a:lnTo>
                      <a:pt x="83" y="3"/>
                    </a:lnTo>
                    <a:lnTo>
                      <a:pt x="94" y="7"/>
                    </a:lnTo>
                    <a:lnTo>
                      <a:pt x="105" y="12"/>
                    </a:lnTo>
                    <a:lnTo>
                      <a:pt x="114" y="16"/>
                    </a:lnTo>
                    <a:lnTo>
                      <a:pt x="124" y="23"/>
                    </a:lnTo>
                    <a:lnTo>
                      <a:pt x="133" y="28"/>
                    </a:lnTo>
                    <a:lnTo>
                      <a:pt x="141" y="34"/>
                    </a:lnTo>
                    <a:lnTo>
                      <a:pt x="149" y="42"/>
                    </a:lnTo>
                    <a:lnTo>
                      <a:pt x="164" y="57"/>
                    </a:lnTo>
                    <a:lnTo>
                      <a:pt x="177" y="73"/>
                    </a:lnTo>
                    <a:lnTo>
                      <a:pt x="189" y="89"/>
                    </a:lnTo>
                    <a:lnTo>
                      <a:pt x="199" y="107"/>
                    </a:lnTo>
                    <a:lnTo>
                      <a:pt x="207" y="123"/>
                    </a:lnTo>
                    <a:lnTo>
                      <a:pt x="215" y="139"/>
                    </a:lnTo>
                    <a:lnTo>
                      <a:pt x="220" y="154"/>
                    </a:lnTo>
                    <a:lnTo>
                      <a:pt x="224" y="167"/>
                    </a:lnTo>
                    <a:lnTo>
                      <a:pt x="231" y="186"/>
                    </a:lnTo>
                    <a:lnTo>
                      <a:pt x="233" y="193"/>
                    </a:lnTo>
                    <a:close/>
                  </a:path>
                </a:pathLst>
              </a:custGeom>
              <a:solidFill>
                <a:srgbClr val="8c8b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7378560" y="5257800"/>
                <a:ext cx="66960" cy="204840"/>
              </a:xfrm>
              <a:custGeom>
                <a:avLst/>
                <a:gdLst/>
                <a:ahLst/>
                <a:rect l="l" t="t" r="r" b="b"/>
                <a:pathLst>
                  <a:path w="210" h="645">
                    <a:moveTo>
                      <a:pt x="210" y="154"/>
                    </a:moveTo>
                    <a:lnTo>
                      <a:pt x="22" y="645"/>
                    </a:lnTo>
                    <a:lnTo>
                      <a:pt x="20" y="617"/>
                    </a:lnTo>
                    <a:lnTo>
                      <a:pt x="13" y="540"/>
                    </a:lnTo>
                    <a:lnTo>
                      <a:pt x="9" y="491"/>
                    </a:lnTo>
                    <a:lnTo>
                      <a:pt x="6" y="434"/>
                    </a:lnTo>
                    <a:lnTo>
                      <a:pt x="3" y="374"/>
                    </a:lnTo>
                    <a:lnTo>
                      <a:pt x="0" y="312"/>
                    </a:lnTo>
                    <a:lnTo>
                      <a:pt x="0" y="252"/>
                    </a:lnTo>
                    <a:lnTo>
                      <a:pt x="1" y="192"/>
                    </a:lnTo>
                    <a:lnTo>
                      <a:pt x="4" y="164"/>
                    </a:lnTo>
                    <a:lnTo>
                      <a:pt x="6" y="137"/>
                    </a:lnTo>
                    <a:lnTo>
                      <a:pt x="9" y="113"/>
                    </a:lnTo>
                    <a:lnTo>
                      <a:pt x="12" y="90"/>
                    </a:lnTo>
                    <a:lnTo>
                      <a:pt x="17" y="68"/>
                    </a:lnTo>
                    <a:lnTo>
                      <a:pt x="22" y="50"/>
                    </a:lnTo>
                    <a:lnTo>
                      <a:pt x="27" y="34"/>
                    </a:lnTo>
                    <a:lnTo>
                      <a:pt x="34" y="20"/>
                    </a:lnTo>
                    <a:lnTo>
                      <a:pt x="43" y="10"/>
                    </a:lnTo>
                    <a:lnTo>
                      <a:pt x="51" y="3"/>
                    </a:lnTo>
                    <a:lnTo>
                      <a:pt x="61" y="0"/>
                    </a:lnTo>
                    <a:lnTo>
                      <a:pt x="72" y="0"/>
                    </a:lnTo>
                    <a:lnTo>
                      <a:pt x="83" y="3"/>
                    </a:lnTo>
                    <a:lnTo>
                      <a:pt x="93" y="7"/>
                    </a:lnTo>
                    <a:lnTo>
                      <a:pt x="103" y="10"/>
                    </a:lnTo>
                    <a:lnTo>
                      <a:pt x="113" y="14"/>
                    </a:lnTo>
                    <a:lnTo>
                      <a:pt x="121" y="20"/>
                    </a:lnTo>
                    <a:lnTo>
                      <a:pt x="130" y="24"/>
                    </a:lnTo>
                    <a:lnTo>
                      <a:pt x="138" y="29"/>
                    </a:lnTo>
                    <a:lnTo>
                      <a:pt x="145" y="36"/>
                    </a:lnTo>
                    <a:lnTo>
                      <a:pt x="158" y="48"/>
                    </a:lnTo>
                    <a:lnTo>
                      <a:pt x="169" y="61"/>
                    </a:lnTo>
                    <a:lnTo>
                      <a:pt x="179" y="74"/>
                    </a:lnTo>
                    <a:lnTo>
                      <a:pt x="186" y="87"/>
                    </a:lnTo>
                    <a:lnTo>
                      <a:pt x="193" y="100"/>
                    </a:lnTo>
                    <a:lnTo>
                      <a:pt x="198" y="113"/>
                    </a:lnTo>
                    <a:lnTo>
                      <a:pt x="202" y="123"/>
                    </a:lnTo>
                    <a:lnTo>
                      <a:pt x="206" y="133"/>
                    </a:lnTo>
                    <a:lnTo>
                      <a:pt x="209" y="148"/>
                    </a:lnTo>
                    <a:lnTo>
                      <a:pt x="210" y="154"/>
                    </a:lnTo>
                    <a:close/>
                  </a:path>
                </a:pathLst>
              </a:custGeom>
              <a:solidFill>
                <a:srgbClr val="838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7377120" y="5259600"/>
                <a:ext cx="58680" cy="203040"/>
              </a:xfrm>
              <a:custGeom>
                <a:avLst/>
                <a:gdLst/>
                <a:ahLst/>
                <a:rect l="l" t="t" r="r" b="b"/>
                <a:pathLst>
                  <a:path w="186" h="640">
                    <a:moveTo>
                      <a:pt x="186" y="114"/>
                    </a:moveTo>
                    <a:lnTo>
                      <a:pt x="25" y="640"/>
                    </a:lnTo>
                    <a:lnTo>
                      <a:pt x="23" y="612"/>
                    </a:lnTo>
                    <a:lnTo>
                      <a:pt x="15" y="536"/>
                    </a:lnTo>
                    <a:lnTo>
                      <a:pt x="11" y="487"/>
                    </a:lnTo>
                    <a:lnTo>
                      <a:pt x="7" y="430"/>
                    </a:lnTo>
                    <a:lnTo>
                      <a:pt x="3" y="371"/>
                    </a:lnTo>
                    <a:lnTo>
                      <a:pt x="1" y="311"/>
                    </a:lnTo>
                    <a:lnTo>
                      <a:pt x="0" y="249"/>
                    </a:lnTo>
                    <a:lnTo>
                      <a:pt x="1" y="191"/>
                    </a:lnTo>
                    <a:lnTo>
                      <a:pt x="3" y="163"/>
                    </a:lnTo>
                    <a:lnTo>
                      <a:pt x="4" y="137"/>
                    </a:lnTo>
                    <a:lnTo>
                      <a:pt x="8" y="112"/>
                    </a:lnTo>
                    <a:lnTo>
                      <a:pt x="11" y="89"/>
                    </a:lnTo>
                    <a:lnTo>
                      <a:pt x="15" y="68"/>
                    </a:lnTo>
                    <a:lnTo>
                      <a:pt x="20" y="49"/>
                    </a:lnTo>
                    <a:lnTo>
                      <a:pt x="26" y="33"/>
                    </a:lnTo>
                    <a:lnTo>
                      <a:pt x="33" y="20"/>
                    </a:lnTo>
                    <a:lnTo>
                      <a:pt x="40" y="9"/>
                    </a:lnTo>
                    <a:lnTo>
                      <a:pt x="49" y="3"/>
                    </a:lnTo>
                    <a:lnTo>
                      <a:pt x="59" y="0"/>
                    </a:lnTo>
                    <a:lnTo>
                      <a:pt x="70" y="1"/>
                    </a:lnTo>
                    <a:lnTo>
                      <a:pt x="91" y="6"/>
                    </a:lnTo>
                    <a:lnTo>
                      <a:pt x="109" y="14"/>
                    </a:lnTo>
                    <a:lnTo>
                      <a:pt x="125" y="21"/>
                    </a:lnTo>
                    <a:lnTo>
                      <a:pt x="140" y="31"/>
                    </a:lnTo>
                    <a:lnTo>
                      <a:pt x="150" y="40"/>
                    </a:lnTo>
                    <a:lnTo>
                      <a:pt x="160" y="49"/>
                    </a:lnTo>
                    <a:lnTo>
                      <a:pt x="168" y="59"/>
                    </a:lnTo>
                    <a:lnTo>
                      <a:pt x="173" y="69"/>
                    </a:lnTo>
                    <a:lnTo>
                      <a:pt x="178" y="77"/>
                    </a:lnTo>
                    <a:lnTo>
                      <a:pt x="182" y="86"/>
                    </a:lnTo>
                    <a:lnTo>
                      <a:pt x="184" y="94"/>
                    </a:lnTo>
                    <a:lnTo>
                      <a:pt x="185" y="100"/>
                    </a:lnTo>
                    <a:lnTo>
                      <a:pt x="186" y="110"/>
                    </a:lnTo>
                    <a:lnTo>
                      <a:pt x="186" y="114"/>
                    </a:lnTo>
                    <a:close/>
                  </a:path>
                </a:pathLst>
              </a:custGeom>
              <a:solidFill>
                <a:srgbClr val="7b79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7375320" y="5262480"/>
                <a:ext cx="52560" cy="200160"/>
              </a:xfrm>
              <a:custGeom>
                <a:avLst/>
                <a:gdLst/>
                <a:ahLst/>
                <a:rect l="l" t="t" r="r" b="b"/>
                <a:pathLst>
                  <a:path w="164" h="633">
                    <a:moveTo>
                      <a:pt x="28" y="633"/>
                    </a:moveTo>
                    <a:lnTo>
                      <a:pt x="162" y="72"/>
                    </a:lnTo>
                    <a:lnTo>
                      <a:pt x="163" y="70"/>
                    </a:lnTo>
                    <a:lnTo>
                      <a:pt x="164" y="65"/>
                    </a:lnTo>
                    <a:lnTo>
                      <a:pt x="164" y="61"/>
                    </a:lnTo>
                    <a:lnTo>
                      <a:pt x="164" y="56"/>
                    </a:lnTo>
                    <a:lnTo>
                      <a:pt x="163" y="52"/>
                    </a:lnTo>
                    <a:lnTo>
                      <a:pt x="160" y="47"/>
                    </a:lnTo>
                    <a:lnTo>
                      <a:pt x="157" y="41"/>
                    </a:lnTo>
                    <a:lnTo>
                      <a:pt x="150" y="36"/>
                    </a:lnTo>
                    <a:lnTo>
                      <a:pt x="143" y="29"/>
                    </a:lnTo>
                    <a:lnTo>
                      <a:pt x="133" y="23"/>
                    </a:lnTo>
                    <a:lnTo>
                      <a:pt x="121" y="17"/>
                    </a:lnTo>
                    <a:lnTo>
                      <a:pt x="105" y="12"/>
                    </a:lnTo>
                    <a:lnTo>
                      <a:pt x="87" y="6"/>
                    </a:lnTo>
                    <a:lnTo>
                      <a:pt x="66" y="0"/>
                    </a:lnTo>
                    <a:lnTo>
                      <a:pt x="55" y="0"/>
                    </a:lnTo>
                    <a:lnTo>
                      <a:pt x="45" y="3"/>
                    </a:lnTo>
                    <a:lnTo>
                      <a:pt x="37" y="10"/>
                    </a:lnTo>
                    <a:lnTo>
                      <a:pt x="29" y="20"/>
                    </a:lnTo>
                    <a:lnTo>
                      <a:pt x="23" y="33"/>
                    </a:lnTo>
                    <a:lnTo>
                      <a:pt x="17" y="48"/>
                    </a:lnTo>
                    <a:lnTo>
                      <a:pt x="13" y="66"/>
                    </a:lnTo>
                    <a:lnTo>
                      <a:pt x="9" y="87"/>
                    </a:lnTo>
                    <a:lnTo>
                      <a:pt x="5" y="109"/>
                    </a:lnTo>
                    <a:lnTo>
                      <a:pt x="3" y="134"/>
                    </a:lnTo>
                    <a:lnTo>
                      <a:pt x="2" y="160"/>
                    </a:lnTo>
                    <a:lnTo>
                      <a:pt x="1" y="188"/>
                    </a:lnTo>
                    <a:lnTo>
                      <a:pt x="0" y="245"/>
                    </a:lnTo>
                    <a:lnTo>
                      <a:pt x="2" y="306"/>
                    </a:lnTo>
                    <a:lnTo>
                      <a:pt x="4" y="366"/>
                    </a:lnTo>
                    <a:lnTo>
                      <a:pt x="9" y="426"/>
                    </a:lnTo>
                    <a:lnTo>
                      <a:pt x="13" y="481"/>
                    </a:lnTo>
                    <a:lnTo>
                      <a:pt x="17" y="530"/>
                    </a:lnTo>
                    <a:lnTo>
                      <a:pt x="25" y="605"/>
                    </a:lnTo>
                    <a:lnTo>
                      <a:pt x="28" y="633"/>
                    </a:lnTo>
                    <a:close/>
                  </a:path>
                </a:pathLst>
              </a:custGeom>
              <a:solidFill>
                <a:srgbClr val="7170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7327800" y="5176800"/>
                <a:ext cx="231840" cy="349200"/>
              </a:xfrm>
              <a:custGeom>
                <a:avLst/>
                <a:gdLst/>
                <a:ahLst/>
                <a:rect l="l" t="t" r="r" b="b"/>
                <a:pathLst>
                  <a:path w="731" h="1101">
                    <a:moveTo>
                      <a:pt x="41" y="0"/>
                    </a:moveTo>
                    <a:lnTo>
                      <a:pt x="496" y="0"/>
                    </a:lnTo>
                    <a:lnTo>
                      <a:pt x="721" y="121"/>
                    </a:lnTo>
                    <a:lnTo>
                      <a:pt x="723" y="143"/>
                    </a:lnTo>
                    <a:lnTo>
                      <a:pt x="727" y="202"/>
                    </a:lnTo>
                    <a:lnTo>
                      <a:pt x="729" y="243"/>
                    </a:lnTo>
                    <a:lnTo>
                      <a:pt x="731" y="291"/>
                    </a:lnTo>
                    <a:lnTo>
                      <a:pt x="731" y="344"/>
                    </a:lnTo>
                    <a:lnTo>
                      <a:pt x="731" y="401"/>
                    </a:lnTo>
                    <a:lnTo>
                      <a:pt x="729" y="462"/>
                    </a:lnTo>
                    <a:lnTo>
                      <a:pt x="725" y="524"/>
                    </a:lnTo>
                    <a:lnTo>
                      <a:pt x="722" y="557"/>
                    </a:lnTo>
                    <a:lnTo>
                      <a:pt x="719" y="589"/>
                    </a:lnTo>
                    <a:lnTo>
                      <a:pt x="715" y="621"/>
                    </a:lnTo>
                    <a:lnTo>
                      <a:pt x="711" y="654"/>
                    </a:lnTo>
                    <a:lnTo>
                      <a:pt x="705" y="686"/>
                    </a:lnTo>
                    <a:lnTo>
                      <a:pt x="699" y="717"/>
                    </a:lnTo>
                    <a:lnTo>
                      <a:pt x="692" y="749"/>
                    </a:lnTo>
                    <a:lnTo>
                      <a:pt x="685" y="780"/>
                    </a:lnTo>
                    <a:lnTo>
                      <a:pt x="676" y="810"/>
                    </a:lnTo>
                    <a:lnTo>
                      <a:pt x="666" y="840"/>
                    </a:lnTo>
                    <a:lnTo>
                      <a:pt x="655" y="868"/>
                    </a:lnTo>
                    <a:lnTo>
                      <a:pt x="645" y="896"/>
                    </a:lnTo>
                    <a:lnTo>
                      <a:pt x="501" y="416"/>
                    </a:lnTo>
                    <a:lnTo>
                      <a:pt x="501" y="171"/>
                    </a:lnTo>
                    <a:lnTo>
                      <a:pt x="259" y="181"/>
                    </a:lnTo>
                    <a:lnTo>
                      <a:pt x="259" y="183"/>
                    </a:lnTo>
                    <a:lnTo>
                      <a:pt x="259" y="186"/>
                    </a:lnTo>
                    <a:lnTo>
                      <a:pt x="260" y="193"/>
                    </a:lnTo>
                    <a:lnTo>
                      <a:pt x="260" y="202"/>
                    </a:lnTo>
                    <a:lnTo>
                      <a:pt x="261" y="213"/>
                    </a:lnTo>
                    <a:lnTo>
                      <a:pt x="261" y="226"/>
                    </a:lnTo>
                    <a:lnTo>
                      <a:pt x="260" y="241"/>
                    </a:lnTo>
                    <a:lnTo>
                      <a:pt x="259" y="257"/>
                    </a:lnTo>
                    <a:lnTo>
                      <a:pt x="257" y="280"/>
                    </a:lnTo>
                    <a:lnTo>
                      <a:pt x="256" y="310"/>
                    </a:lnTo>
                    <a:lnTo>
                      <a:pt x="255" y="349"/>
                    </a:lnTo>
                    <a:lnTo>
                      <a:pt x="254" y="395"/>
                    </a:lnTo>
                    <a:lnTo>
                      <a:pt x="251" y="445"/>
                    </a:lnTo>
                    <a:lnTo>
                      <a:pt x="249" y="501"/>
                    </a:lnTo>
                    <a:lnTo>
                      <a:pt x="246" y="561"/>
                    </a:lnTo>
                    <a:lnTo>
                      <a:pt x="242" y="624"/>
                    </a:lnTo>
                    <a:lnTo>
                      <a:pt x="236" y="687"/>
                    </a:lnTo>
                    <a:lnTo>
                      <a:pt x="229" y="753"/>
                    </a:lnTo>
                    <a:lnTo>
                      <a:pt x="223" y="786"/>
                    </a:lnTo>
                    <a:lnTo>
                      <a:pt x="218" y="817"/>
                    </a:lnTo>
                    <a:lnTo>
                      <a:pt x="213" y="849"/>
                    </a:lnTo>
                    <a:lnTo>
                      <a:pt x="206" y="881"/>
                    </a:lnTo>
                    <a:lnTo>
                      <a:pt x="198" y="912"/>
                    </a:lnTo>
                    <a:lnTo>
                      <a:pt x="191" y="942"/>
                    </a:lnTo>
                    <a:lnTo>
                      <a:pt x="182" y="971"/>
                    </a:lnTo>
                    <a:lnTo>
                      <a:pt x="173" y="999"/>
                    </a:lnTo>
                    <a:lnTo>
                      <a:pt x="162" y="1026"/>
                    </a:lnTo>
                    <a:lnTo>
                      <a:pt x="151" y="1052"/>
                    </a:lnTo>
                    <a:lnTo>
                      <a:pt x="138" y="1077"/>
                    </a:lnTo>
                    <a:lnTo>
                      <a:pt x="125" y="1101"/>
                    </a:lnTo>
                    <a:lnTo>
                      <a:pt x="2" y="1061"/>
                    </a:lnTo>
                    <a:lnTo>
                      <a:pt x="1" y="1057"/>
                    </a:lnTo>
                    <a:lnTo>
                      <a:pt x="1" y="1045"/>
                    </a:lnTo>
                    <a:lnTo>
                      <a:pt x="0" y="1022"/>
                    </a:lnTo>
                    <a:lnTo>
                      <a:pt x="0" y="990"/>
                    </a:lnTo>
                    <a:lnTo>
                      <a:pt x="1" y="945"/>
                    </a:lnTo>
                    <a:lnTo>
                      <a:pt x="4" y="888"/>
                    </a:lnTo>
                    <a:lnTo>
                      <a:pt x="8" y="818"/>
                    </a:lnTo>
                    <a:lnTo>
                      <a:pt x="16" y="733"/>
                    </a:lnTo>
                    <a:lnTo>
                      <a:pt x="25" y="651"/>
                    </a:lnTo>
                    <a:lnTo>
                      <a:pt x="31" y="580"/>
                    </a:lnTo>
                    <a:lnTo>
                      <a:pt x="35" y="518"/>
                    </a:lnTo>
                    <a:lnTo>
                      <a:pt x="37" y="460"/>
                    </a:lnTo>
                    <a:lnTo>
                      <a:pt x="40" y="404"/>
                    </a:lnTo>
                    <a:lnTo>
                      <a:pt x="41" y="346"/>
                    </a:lnTo>
                    <a:lnTo>
                      <a:pt x="41" y="282"/>
                    </a:lnTo>
                    <a:lnTo>
                      <a:pt x="41" y="211"/>
                    </a:lnTo>
                    <a:lnTo>
                      <a:pt x="41" y="143"/>
                    </a:lnTo>
                    <a:lnTo>
                      <a:pt x="41" y="91"/>
                    </a:lnTo>
                    <a:lnTo>
                      <a:pt x="41" y="54"/>
                    </a:lnTo>
                    <a:lnTo>
                      <a:pt x="41" y="28"/>
                    </a:lnTo>
                    <a:lnTo>
                      <a:pt x="41" y="13"/>
                    </a:lnTo>
                    <a:lnTo>
                      <a:pt x="41" y="5"/>
                    </a:lnTo>
                    <a:lnTo>
                      <a:pt x="41" y="1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b5b5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7486560" y="5230800"/>
                <a:ext cx="65160" cy="217440"/>
              </a:xfrm>
              <a:custGeom>
                <a:avLst/>
                <a:gdLst/>
                <a:ahLst/>
                <a:rect l="l" t="t" r="r" b="b"/>
                <a:pathLst>
                  <a:path w="202" h="683">
                    <a:moveTo>
                      <a:pt x="0" y="0"/>
                    </a:moveTo>
                    <a:lnTo>
                      <a:pt x="188" y="0"/>
                    </a:lnTo>
                    <a:lnTo>
                      <a:pt x="190" y="15"/>
                    </a:lnTo>
                    <a:lnTo>
                      <a:pt x="194" y="57"/>
                    </a:lnTo>
                    <a:lnTo>
                      <a:pt x="197" y="87"/>
                    </a:lnTo>
                    <a:lnTo>
                      <a:pt x="199" y="123"/>
                    </a:lnTo>
                    <a:lnTo>
                      <a:pt x="201" y="163"/>
                    </a:lnTo>
                    <a:lnTo>
                      <a:pt x="202" y="208"/>
                    </a:lnTo>
                    <a:lnTo>
                      <a:pt x="201" y="258"/>
                    </a:lnTo>
                    <a:lnTo>
                      <a:pt x="199" y="311"/>
                    </a:lnTo>
                    <a:lnTo>
                      <a:pt x="195" y="367"/>
                    </a:lnTo>
                    <a:lnTo>
                      <a:pt x="190" y="427"/>
                    </a:lnTo>
                    <a:lnTo>
                      <a:pt x="186" y="457"/>
                    </a:lnTo>
                    <a:lnTo>
                      <a:pt x="181" y="488"/>
                    </a:lnTo>
                    <a:lnTo>
                      <a:pt x="177" y="519"/>
                    </a:lnTo>
                    <a:lnTo>
                      <a:pt x="172" y="552"/>
                    </a:lnTo>
                    <a:lnTo>
                      <a:pt x="165" y="584"/>
                    </a:lnTo>
                    <a:lnTo>
                      <a:pt x="158" y="617"/>
                    </a:lnTo>
                    <a:lnTo>
                      <a:pt x="150" y="649"/>
                    </a:lnTo>
                    <a:lnTo>
                      <a:pt x="140" y="683"/>
                    </a:lnTo>
                    <a:lnTo>
                      <a:pt x="0" y="24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170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7327800" y="5176800"/>
                <a:ext cx="73080" cy="349200"/>
              </a:xfrm>
              <a:custGeom>
                <a:avLst/>
                <a:gdLst/>
                <a:ahLst/>
                <a:rect l="l" t="t" r="r" b="b"/>
                <a:pathLst>
                  <a:path w="228" h="1101">
                    <a:moveTo>
                      <a:pt x="88" y="1101"/>
                    </a:moveTo>
                    <a:lnTo>
                      <a:pt x="2" y="1061"/>
                    </a:lnTo>
                    <a:lnTo>
                      <a:pt x="1" y="1057"/>
                    </a:lnTo>
                    <a:lnTo>
                      <a:pt x="1" y="1045"/>
                    </a:lnTo>
                    <a:lnTo>
                      <a:pt x="0" y="1022"/>
                    </a:lnTo>
                    <a:lnTo>
                      <a:pt x="0" y="990"/>
                    </a:lnTo>
                    <a:lnTo>
                      <a:pt x="1" y="945"/>
                    </a:lnTo>
                    <a:lnTo>
                      <a:pt x="4" y="888"/>
                    </a:lnTo>
                    <a:lnTo>
                      <a:pt x="8" y="818"/>
                    </a:lnTo>
                    <a:lnTo>
                      <a:pt x="16" y="733"/>
                    </a:lnTo>
                    <a:lnTo>
                      <a:pt x="25" y="651"/>
                    </a:lnTo>
                    <a:lnTo>
                      <a:pt x="31" y="580"/>
                    </a:lnTo>
                    <a:lnTo>
                      <a:pt x="35" y="518"/>
                    </a:lnTo>
                    <a:lnTo>
                      <a:pt x="37" y="460"/>
                    </a:lnTo>
                    <a:lnTo>
                      <a:pt x="40" y="404"/>
                    </a:lnTo>
                    <a:lnTo>
                      <a:pt x="41" y="346"/>
                    </a:lnTo>
                    <a:lnTo>
                      <a:pt x="41" y="282"/>
                    </a:lnTo>
                    <a:lnTo>
                      <a:pt x="41" y="211"/>
                    </a:lnTo>
                    <a:lnTo>
                      <a:pt x="41" y="143"/>
                    </a:lnTo>
                    <a:lnTo>
                      <a:pt x="41" y="91"/>
                    </a:lnTo>
                    <a:lnTo>
                      <a:pt x="41" y="54"/>
                    </a:lnTo>
                    <a:lnTo>
                      <a:pt x="41" y="28"/>
                    </a:lnTo>
                    <a:lnTo>
                      <a:pt x="41" y="13"/>
                    </a:lnTo>
                    <a:lnTo>
                      <a:pt x="41" y="5"/>
                    </a:lnTo>
                    <a:lnTo>
                      <a:pt x="41" y="1"/>
                    </a:lnTo>
                    <a:lnTo>
                      <a:pt x="41" y="0"/>
                    </a:lnTo>
                    <a:lnTo>
                      <a:pt x="227" y="127"/>
                    </a:lnTo>
                    <a:lnTo>
                      <a:pt x="227" y="143"/>
                    </a:lnTo>
                    <a:lnTo>
                      <a:pt x="228" y="186"/>
                    </a:lnTo>
                    <a:lnTo>
                      <a:pt x="228" y="251"/>
                    </a:lnTo>
                    <a:lnTo>
                      <a:pt x="228" y="331"/>
                    </a:lnTo>
                    <a:lnTo>
                      <a:pt x="225" y="419"/>
                    </a:lnTo>
                    <a:lnTo>
                      <a:pt x="222" y="511"/>
                    </a:lnTo>
                    <a:lnTo>
                      <a:pt x="220" y="557"/>
                    </a:lnTo>
                    <a:lnTo>
                      <a:pt x="217" y="600"/>
                    </a:lnTo>
                    <a:lnTo>
                      <a:pt x="214" y="641"/>
                    </a:lnTo>
                    <a:lnTo>
                      <a:pt x="209" y="678"/>
                    </a:lnTo>
                    <a:lnTo>
                      <a:pt x="200" y="746"/>
                    </a:lnTo>
                    <a:lnTo>
                      <a:pt x="190" y="807"/>
                    </a:lnTo>
                    <a:lnTo>
                      <a:pt x="180" y="862"/>
                    </a:lnTo>
                    <a:lnTo>
                      <a:pt x="170" y="912"/>
                    </a:lnTo>
                    <a:lnTo>
                      <a:pt x="165" y="935"/>
                    </a:lnTo>
                    <a:lnTo>
                      <a:pt x="158" y="957"/>
                    </a:lnTo>
                    <a:lnTo>
                      <a:pt x="153" y="979"/>
                    </a:lnTo>
                    <a:lnTo>
                      <a:pt x="146" y="998"/>
                    </a:lnTo>
                    <a:lnTo>
                      <a:pt x="139" y="1019"/>
                    </a:lnTo>
                    <a:lnTo>
                      <a:pt x="130" y="1037"/>
                    </a:lnTo>
                    <a:lnTo>
                      <a:pt x="122" y="1056"/>
                    </a:lnTo>
                    <a:lnTo>
                      <a:pt x="113" y="1074"/>
                    </a:lnTo>
                    <a:lnTo>
                      <a:pt x="88" y="1101"/>
                    </a:lnTo>
                    <a:close/>
                  </a:path>
                </a:pathLst>
              </a:custGeom>
              <a:solidFill>
                <a:srgbClr val="969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7327800" y="5176800"/>
                <a:ext cx="231840" cy="349200"/>
              </a:xfrm>
              <a:custGeom>
                <a:avLst/>
                <a:gdLst/>
                <a:ahLst/>
                <a:rect l="l" t="t" r="r" b="b"/>
                <a:pathLst>
                  <a:path w="731" h="1101">
                    <a:moveTo>
                      <a:pt x="41" y="0"/>
                    </a:moveTo>
                    <a:lnTo>
                      <a:pt x="496" y="0"/>
                    </a:lnTo>
                    <a:lnTo>
                      <a:pt x="721" y="121"/>
                    </a:lnTo>
                    <a:lnTo>
                      <a:pt x="723" y="143"/>
                    </a:lnTo>
                    <a:lnTo>
                      <a:pt x="727" y="202"/>
                    </a:lnTo>
                    <a:lnTo>
                      <a:pt x="729" y="243"/>
                    </a:lnTo>
                    <a:lnTo>
                      <a:pt x="731" y="291"/>
                    </a:lnTo>
                    <a:lnTo>
                      <a:pt x="731" y="344"/>
                    </a:lnTo>
                    <a:lnTo>
                      <a:pt x="731" y="401"/>
                    </a:lnTo>
                    <a:lnTo>
                      <a:pt x="729" y="462"/>
                    </a:lnTo>
                    <a:lnTo>
                      <a:pt x="725" y="524"/>
                    </a:lnTo>
                    <a:lnTo>
                      <a:pt x="722" y="557"/>
                    </a:lnTo>
                    <a:lnTo>
                      <a:pt x="719" y="589"/>
                    </a:lnTo>
                    <a:lnTo>
                      <a:pt x="715" y="621"/>
                    </a:lnTo>
                    <a:lnTo>
                      <a:pt x="711" y="654"/>
                    </a:lnTo>
                    <a:lnTo>
                      <a:pt x="705" y="686"/>
                    </a:lnTo>
                    <a:lnTo>
                      <a:pt x="699" y="717"/>
                    </a:lnTo>
                    <a:lnTo>
                      <a:pt x="692" y="749"/>
                    </a:lnTo>
                    <a:lnTo>
                      <a:pt x="685" y="780"/>
                    </a:lnTo>
                    <a:lnTo>
                      <a:pt x="676" y="810"/>
                    </a:lnTo>
                    <a:lnTo>
                      <a:pt x="666" y="840"/>
                    </a:lnTo>
                    <a:lnTo>
                      <a:pt x="655" y="868"/>
                    </a:lnTo>
                    <a:lnTo>
                      <a:pt x="645" y="896"/>
                    </a:lnTo>
                    <a:lnTo>
                      <a:pt x="501" y="416"/>
                    </a:lnTo>
                    <a:lnTo>
                      <a:pt x="501" y="171"/>
                    </a:lnTo>
                    <a:lnTo>
                      <a:pt x="259" y="181"/>
                    </a:lnTo>
                    <a:lnTo>
                      <a:pt x="259" y="183"/>
                    </a:lnTo>
                    <a:lnTo>
                      <a:pt x="259" y="186"/>
                    </a:lnTo>
                    <a:lnTo>
                      <a:pt x="260" y="193"/>
                    </a:lnTo>
                    <a:lnTo>
                      <a:pt x="260" y="202"/>
                    </a:lnTo>
                    <a:lnTo>
                      <a:pt x="261" y="213"/>
                    </a:lnTo>
                    <a:lnTo>
                      <a:pt x="261" y="226"/>
                    </a:lnTo>
                    <a:lnTo>
                      <a:pt x="260" y="241"/>
                    </a:lnTo>
                    <a:lnTo>
                      <a:pt x="259" y="257"/>
                    </a:lnTo>
                    <a:lnTo>
                      <a:pt x="257" y="280"/>
                    </a:lnTo>
                    <a:lnTo>
                      <a:pt x="256" y="310"/>
                    </a:lnTo>
                    <a:lnTo>
                      <a:pt x="255" y="349"/>
                    </a:lnTo>
                    <a:lnTo>
                      <a:pt x="254" y="395"/>
                    </a:lnTo>
                    <a:lnTo>
                      <a:pt x="251" y="445"/>
                    </a:lnTo>
                    <a:lnTo>
                      <a:pt x="249" y="501"/>
                    </a:lnTo>
                    <a:lnTo>
                      <a:pt x="246" y="561"/>
                    </a:lnTo>
                    <a:lnTo>
                      <a:pt x="242" y="624"/>
                    </a:lnTo>
                    <a:lnTo>
                      <a:pt x="236" y="687"/>
                    </a:lnTo>
                    <a:lnTo>
                      <a:pt x="229" y="753"/>
                    </a:lnTo>
                    <a:lnTo>
                      <a:pt x="223" y="786"/>
                    </a:lnTo>
                    <a:lnTo>
                      <a:pt x="218" y="817"/>
                    </a:lnTo>
                    <a:lnTo>
                      <a:pt x="213" y="849"/>
                    </a:lnTo>
                    <a:lnTo>
                      <a:pt x="206" y="881"/>
                    </a:lnTo>
                    <a:lnTo>
                      <a:pt x="198" y="912"/>
                    </a:lnTo>
                    <a:lnTo>
                      <a:pt x="191" y="942"/>
                    </a:lnTo>
                    <a:lnTo>
                      <a:pt x="182" y="971"/>
                    </a:lnTo>
                    <a:lnTo>
                      <a:pt x="173" y="999"/>
                    </a:lnTo>
                    <a:lnTo>
                      <a:pt x="162" y="1026"/>
                    </a:lnTo>
                    <a:lnTo>
                      <a:pt x="151" y="1052"/>
                    </a:lnTo>
                    <a:lnTo>
                      <a:pt x="138" y="1077"/>
                    </a:lnTo>
                    <a:lnTo>
                      <a:pt x="125" y="1101"/>
                    </a:lnTo>
                    <a:lnTo>
                      <a:pt x="90" y="1101"/>
                    </a:lnTo>
                    <a:lnTo>
                      <a:pt x="2" y="1061"/>
                    </a:lnTo>
                    <a:lnTo>
                      <a:pt x="1" y="1057"/>
                    </a:lnTo>
                    <a:lnTo>
                      <a:pt x="1" y="1045"/>
                    </a:lnTo>
                    <a:lnTo>
                      <a:pt x="0" y="1022"/>
                    </a:lnTo>
                    <a:lnTo>
                      <a:pt x="0" y="990"/>
                    </a:lnTo>
                    <a:lnTo>
                      <a:pt x="1" y="945"/>
                    </a:lnTo>
                    <a:lnTo>
                      <a:pt x="4" y="888"/>
                    </a:lnTo>
                    <a:lnTo>
                      <a:pt x="8" y="818"/>
                    </a:lnTo>
                    <a:lnTo>
                      <a:pt x="16" y="733"/>
                    </a:lnTo>
                    <a:lnTo>
                      <a:pt x="25" y="651"/>
                    </a:lnTo>
                    <a:lnTo>
                      <a:pt x="31" y="580"/>
                    </a:lnTo>
                    <a:lnTo>
                      <a:pt x="35" y="518"/>
                    </a:lnTo>
                    <a:lnTo>
                      <a:pt x="37" y="460"/>
                    </a:lnTo>
                    <a:lnTo>
                      <a:pt x="40" y="404"/>
                    </a:lnTo>
                    <a:lnTo>
                      <a:pt x="41" y="346"/>
                    </a:lnTo>
                    <a:lnTo>
                      <a:pt x="41" y="282"/>
                    </a:lnTo>
                    <a:lnTo>
                      <a:pt x="41" y="211"/>
                    </a:lnTo>
                    <a:lnTo>
                      <a:pt x="41" y="143"/>
                    </a:lnTo>
                    <a:lnTo>
                      <a:pt x="41" y="91"/>
                    </a:lnTo>
                    <a:lnTo>
                      <a:pt x="41" y="54"/>
                    </a:lnTo>
                    <a:lnTo>
                      <a:pt x="41" y="28"/>
                    </a:lnTo>
                    <a:lnTo>
                      <a:pt x="41" y="13"/>
                    </a:lnTo>
                    <a:lnTo>
                      <a:pt x="41" y="5"/>
                    </a:lnTo>
                    <a:lnTo>
                      <a:pt x="41" y="1"/>
                    </a:lnTo>
                    <a:lnTo>
                      <a:pt x="41" y="0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7319880" y="5470560"/>
                <a:ext cx="31680" cy="39600"/>
              </a:xfrm>
              <a:custGeom>
                <a:avLst/>
                <a:gdLst/>
                <a:ahLst/>
                <a:rect l="l" t="t" r="r" b="b"/>
                <a:pathLst>
                  <a:path w="101" h="124">
                    <a:moveTo>
                      <a:pt x="7" y="84"/>
                    </a:moveTo>
                    <a:lnTo>
                      <a:pt x="82" y="124"/>
                    </a:lnTo>
                    <a:lnTo>
                      <a:pt x="83" y="121"/>
                    </a:lnTo>
                    <a:lnTo>
                      <a:pt x="88" y="113"/>
                    </a:lnTo>
                    <a:lnTo>
                      <a:pt x="94" y="102"/>
                    </a:lnTo>
                    <a:lnTo>
                      <a:pt x="98" y="87"/>
                    </a:lnTo>
                    <a:lnTo>
                      <a:pt x="100" y="78"/>
                    </a:lnTo>
                    <a:lnTo>
                      <a:pt x="101" y="69"/>
                    </a:lnTo>
                    <a:lnTo>
                      <a:pt x="101" y="58"/>
                    </a:lnTo>
                    <a:lnTo>
                      <a:pt x="100" y="47"/>
                    </a:lnTo>
                    <a:lnTo>
                      <a:pt x="98" y="37"/>
                    </a:lnTo>
                    <a:lnTo>
                      <a:pt x="95" y="25"/>
                    </a:lnTo>
                    <a:lnTo>
                      <a:pt x="89" y="13"/>
                    </a:lnTo>
                    <a:lnTo>
                      <a:pt x="82" y="0"/>
                    </a:lnTo>
                    <a:lnTo>
                      <a:pt x="7" y="38"/>
                    </a:lnTo>
                    <a:lnTo>
                      <a:pt x="7" y="38"/>
                    </a:lnTo>
                    <a:lnTo>
                      <a:pt x="6" y="38"/>
                    </a:lnTo>
                    <a:lnTo>
                      <a:pt x="5" y="39"/>
                    </a:lnTo>
                    <a:lnTo>
                      <a:pt x="4" y="41"/>
                    </a:lnTo>
                    <a:lnTo>
                      <a:pt x="2" y="44"/>
                    </a:lnTo>
                    <a:lnTo>
                      <a:pt x="1" y="48"/>
                    </a:lnTo>
                    <a:lnTo>
                      <a:pt x="0" y="55"/>
                    </a:lnTo>
                    <a:lnTo>
                      <a:pt x="0" y="61"/>
                    </a:lnTo>
                    <a:lnTo>
                      <a:pt x="0" y="69"/>
                    </a:lnTo>
                    <a:lnTo>
                      <a:pt x="1" y="73"/>
                    </a:lnTo>
                    <a:lnTo>
                      <a:pt x="2" y="78"/>
                    </a:lnTo>
                    <a:lnTo>
                      <a:pt x="4" y="81"/>
                    </a:lnTo>
                    <a:lnTo>
                      <a:pt x="5" y="82"/>
                    </a:lnTo>
                    <a:lnTo>
                      <a:pt x="6" y="83"/>
                    </a:lnTo>
                    <a:lnTo>
                      <a:pt x="7" y="84"/>
                    </a:lnTo>
                    <a:lnTo>
                      <a:pt x="7" y="84"/>
                    </a:lnTo>
                    <a:close/>
                  </a:path>
                </a:pathLst>
              </a:custGeom>
              <a:solidFill>
                <a:srgbClr val="b5b5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7319880" y="5470560"/>
                <a:ext cx="31680" cy="39600"/>
              </a:xfrm>
              <a:custGeom>
                <a:avLst/>
                <a:gdLst/>
                <a:ahLst/>
                <a:rect l="l" t="t" r="r" b="b"/>
                <a:pathLst>
                  <a:path w="101" h="124">
                    <a:moveTo>
                      <a:pt x="7" y="84"/>
                    </a:moveTo>
                    <a:lnTo>
                      <a:pt x="82" y="124"/>
                    </a:lnTo>
                    <a:lnTo>
                      <a:pt x="83" y="121"/>
                    </a:lnTo>
                    <a:lnTo>
                      <a:pt x="88" y="113"/>
                    </a:lnTo>
                    <a:lnTo>
                      <a:pt x="94" y="102"/>
                    </a:lnTo>
                    <a:lnTo>
                      <a:pt x="98" y="87"/>
                    </a:lnTo>
                    <a:lnTo>
                      <a:pt x="100" y="78"/>
                    </a:lnTo>
                    <a:lnTo>
                      <a:pt x="101" y="69"/>
                    </a:lnTo>
                    <a:lnTo>
                      <a:pt x="101" y="58"/>
                    </a:lnTo>
                    <a:lnTo>
                      <a:pt x="100" y="47"/>
                    </a:lnTo>
                    <a:lnTo>
                      <a:pt x="98" y="37"/>
                    </a:lnTo>
                    <a:lnTo>
                      <a:pt x="95" y="25"/>
                    </a:lnTo>
                    <a:lnTo>
                      <a:pt x="89" y="13"/>
                    </a:lnTo>
                    <a:lnTo>
                      <a:pt x="82" y="0"/>
                    </a:lnTo>
                    <a:lnTo>
                      <a:pt x="7" y="38"/>
                    </a:lnTo>
                    <a:lnTo>
                      <a:pt x="7" y="38"/>
                    </a:lnTo>
                    <a:lnTo>
                      <a:pt x="6" y="38"/>
                    </a:lnTo>
                    <a:lnTo>
                      <a:pt x="5" y="39"/>
                    </a:lnTo>
                    <a:lnTo>
                      <a:pt x="4" y="41"/>
                    </a:lnTo>
                    <a:lnTo>
                      <a:pt x="2" y="44"/>
                    </a:lnTo>
                    <a:lnTo>
                      <a:pt x="1" y="48"/>
                    </a:lnTo>
                    <a:lnTo>
                      <a:pt x="0" y="55"/>
                    </a:lnTo>
                    <a:lnTo>
                      <a:pt x="0" y="61"/>
                    </a:lnTo>
                    <a:lnTo>
                      <a:pt x="0" y="69"/>
                    </a:lnTo>
                    <a:lnTo>
                      <a:pt x="1" y="73"/>
                    </a:lnTo>
                    <a:lnTo>
                      <a:pt x="2" y="78"/>
                    </a:lnTo>
                    <a:lnTo>
                      <a:pt x="4" y="81"/>
                    </a:lnTo>
                    <a:lnTo>
                      <a:pt x="5" y="82"/>
                    </a:lnTo>
                    <a:lnTo>
                      <a:pt x="6" y="83"/>
                    </a:lnTo>
                    <a:lnTo>
                      <a:pt x="7" y="84"/>
                    </a:lnTo>
                    <a:lnTo>
                      <a:pt x="7" y="84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7326360" y="5475240"/>
                <a:ext cx="20520" cy="11160"/>
              </a:xfrm>
              <a:custGeom>
                <a:avLst/>
                <a:gdLst/>
                <a:ahLst/>
                <a:rect l="l" t="t" r="r" b="b"/>
                <a:pathLst>
                  <a:path w="66" h="32">
                    <a:moveTo>
                      <a:pt x="0" y="25"/>
                    </a:moveTo>
                    <a:lnTo>
                      <a:pt x="58" y="0"/>
                    </a:lnTo>
                    <a:lnTo>
                      <a:pt x="66" y="15"/>
                    </a:lnTo>
                    <a:lnTo>
                      <a:pt x="2" y="32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dbdb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7326360" y="5492880"/>
                <a:ext cx="20520" cy="12600"/>
              </a:xfrm>
              <a:custGeom>
                <a:avLst/>
                <a:gdLst/>
                <a:ahLst/>
                <a:rect l="l" t="t" r="r" b="b"/>
                <a:pathLst>
                  <a:path w="69" h="42">
                    <a:moveTo>
                      <a:pt x="0" y="10"/>
                    </a:moveTo>
                    <a:lnTo>
                      <a:pt x="56" y="42"/>
                    </a:lnTo>
                    <a:lnTo>
                      <a:pt x="69" y="17"/>
                    </a:lnTo>
                    <a:lnTo>
                      <a:pt x="2" y="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908f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7461360" y="5248440"/>
                <a:ext cx="82440" cy="272880"/>
              </a:xfrm>
              <a:custGeom>
                <a:avLst/>
                <a:gdLst/>
                <a:ahLst/>
                <a:rect l="l" t="t" r="r" b="b"/>
                <a:pathLst>
                  <a:path w="264" h="858">
                    <a:moveTo>
                      <a:pt x="0" y="0"/>
                    </a:moveTo>
                    <a:lnTo>
                      <a:pt x="14" y="10"/>
                    </a:lnTo>
                    <a:lnTo>
                      <a:pt x="27" y="22"/>
                    </a:lnTo>
                    <a:lnTo>
                      <a:pt x="40" y="34"/>
                    </a:lnTo>
                    <a:lnTo>
                      <a:pt x="53" y="47"/>
                    </a:lnTo>
                    <a:lnTo>
                      <a:pt x="66" y="61"/>
                    </a:lnTo>
                    <a:lnTo>
                      <a:pt x="79" y="76"/>
                    </a:lnTo>
                    <a:lnTo>
                      <a:pt x="90" y="92"/>
                    </a:lnTo>
                    <a:lnTo>
                      <a:pt x="102" y="109"/>
                    </a:lnTo>
                    <a:lnTo>
                      <a:pt x="114" y="128"/>
                    </a:lnTo>
                    <a:lnTo>
                      <a:pt x="126" y="146"/>
                    </a:lnTo>
                    <a:lnTo>
                      <a:pt x="137" y="165"/>
                    </a:lnTo>
                    <a:lnTo>
                      <a:pt x="148" y="186"/>
                    </a:lnTo>
                    <a:lnTo>
                      <a:pt x="158" y="206"/>
                    </a:lnTo>
                    <a:lnTo>
                      <a:pt x="168" y="229"/>
                    </a:lnTo>
                    <a:lnTo>
                      <a:pt x="178" y="252"/>
                    </a:lnTo>
                    <a:lnTo>
                      <a:pt x="187" y="274"/>
                    </a:lnTo>
                    <a:lnTo>
                      <a:pt x="195" y="298"/>
                    </a:lnTo>
                    <a:lnTo>
                      <a:pt x="204" y="323"/>
                    </a:lnTo>
                    <a:lnTo>
                      <a:pt x="211" y="349"/>
                    </a:lnTo>
                    <a:lnTo>
                      <a:pt x="219" y="375"/>
                    </a:lnTo>
                    <a:lnTo>
                      <a:pt x="227" y="401"/>
                    </a:lnTo>
                    <a:lnTo>
                      <a:pt x="232" y="428"/>
                    </a:lnTo>
                    <a:lnTo>
                      <a:pt x="238" y="456"/>
                    </a:lnTo>
                    <a:lnTo>
                      <a:pt x="244" y="484"/>
                    </a:lnTo>
                    <a:lnTo>
                      <a:pt x="248" y="512"/>
                    </a:lnTo>
                    <a:lnTo>
                      <a:pt x="252" y="541"/>
                    </a:lnTo>
                    <a:lnTo>
                      <a:pt x="256" y="570"/>
                    </a:lnTo>
                    <a:lnTo>
                      <a:pt x="259" y="601"/>
                    </a:lnTo>
                    <a:lnTo>
                      <a:pt x="261" y="631"/>
                    </a:lnTo>
                    <a:lnTo>
                      <a:pt x="263" y="661"/>
                    </a:lnTo>
                    <a:lnTo>
                      <a:pt x="264" y="692"/>
                    </a:lnTo>
                    <a:lnTo>
                      <a:pt x="264" y="724"/>
                    </a:lnTo>
                    <a:lnTo>
                      <a:pt x="264" y="741"/>
                    </a:lnTo>
                    <a:lnTo>
                      <a:pt x="264" y="758"/>
                    </a:lnTo>
                    <a:lnTo>
                      <a:pt x="263" y="776"/>
                    </a:lnTo>
                    <a:lnTo>
                      <a:pt x="262" y="793"/>
                    </a:lnTo>
                    <a:lnTo>
                      <a:pt x="261" y="809"/>
                    </a:lnTo>
                    <a:lnTo>
                      <a:pt x="260" y="825"/>
                    </a:lnTo>
                    <a:lnTo>
                      <a:pt x="259" y="841"/>
                    </a:lnTo>
                    <a:lnTo>
                      <a:pt x="257" y="858"/>
                    </a:lnTo>
                    <a:lnTo>
                      <a:pt x="111" y="413"/>
                    </a:lnTo>
                    <a:lnTo>
                      <a:pt x="17" y="10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e43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7354800" y="5180040"/>
                <a:ext cx="192240" cy="36720"/>
              </a:xfrm>
              <a:custGeom>
                <a:avLst/>
                <a:gdLst/>
                <a:ahLst/>
                <a:rect l="l" t="t" r="r" b="b"/>
                <a:pathLst>
                  <a:path w="608" h="115">
                    <a:moveTo>
                      <a:pt x="0" y="0"/>
                    </a:moveTo>
                    <a:lnTo>
                      <a:pt x="171" y="115"/>
                    </a:lnTo>
                    <a:lnTo>
                      <a:pt x="608" y="111"/>
                    </a:lnTo>
                    <a:lnTo>
                      <a:pt x="40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bdb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 flipV="1">
                <a:off x="7402320" y="5218200"/>
                <a:ext cx="150840" cy="144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7319880" y="5483160"/>
                <a:ext cx="9720" cy="14400"/>
              </a:xfrm>
              <a:custGeom>
                <a:avLst/>
                <a:gdLst/>
                <a:ahLst/>
                <a:rect l="l" t="t" r="r" b="b"/>
                <a:pathLst>
                  <a:path w="28" h="44">
                    <a:moveTo>
                      <a:pt x="15" y="44"/>
                    </a:moveTo>
                    <a:lnTo>
                      <a:pt x="16" y="44"/>
                    </a:lnTo>
                    <a:lnTo>
                      <a:pt x="17" y="44"/>
                    </a:lnTo>
                    <a:lnTo>
                      <a:pt x="18" y="43"/>
                    </a:lnTo>
                    <a:lnTo>
                      <a:pt x="18" y="43"/>
                    </a:lnTo>
                    <a:lnTo>
                      <a:pt x="19" y="43"/>
                    </a:lnTo>
                    <a:lnTo>
                      <a:pt x="19" y="42"/>
                    </a:lnTo>
                    <a:lnTo>
                      <a:pt x="20" y="42"/>
                    </a:lnTo>
                    <a:lnTo>
                      <a:pt x="20" y="42"/>
                    </a:lnTo>
                    <a:lnTo>
                      <a:pt x="21" y="40"/>
                    </a:lnTo>
                    <a:lnTo>
                      <a:pt x="24" y="38"/>
                    </a:lnTo>
                    <a:lnTo>
                      <a:pt x="25" y="35"/>
                    </a:lnTo>
                    <a:lnTo>
                      <a:pt x="26" y="32"/>
                    </a:lnTo>
                    <a:lnTo>
                      <a:pt x="27" y="30"/>
                    </a:lnTo>
                    <a:lnTo>
                      <a:pt x="27" y="28"/>
                    </a:lnTo>
                    <a:lnTo>
                      <a:pt x="28" y="25"/>
                    </a:lnTo>
                    <a:lnTo>
                      <a:pt x="28" y="21"/>
                    </a:lnTo>
                    <a:lnTo>
                      <a:pt x="27" y="17"/>
                    </a:lnTo>
                    <a:lnTo>
                      <a:pt x="27" y="13"/>
                    </a:lnTo>
                    <a:lnTo>
                      <a:pt x="26" y="10"/>
                    </a:lnTo>
                    <a:lnTo>
                      <a:pt x="25" y="6"/>
                    </a:lnTo>
                    <a:lnTo>
                      <a:pt x="22" y="3"/>
                    </a:lnTo>
                    <a:lnTo>
                      <a:pt x="20" y="1"/>
                    </a:lnTo>
                    <a:lnTo>
                      <a:pt x="18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9" y="1"/>
                    </a:lnTo>
                    <a:lnTo>
                      <a:pt x="7" y="3"/>
                    </a:lnTo>
                    <a:lnTo>
                      <a:pt x="5" y="6"/>
                    </a:lnTo>
                    <a:lnTo>
                      <a:pt x="3" y="10"/>
                    </a:lnTo>
                    <a:lnTo>
                      <a:pt x="2" y="13"/>
                    </a:lnTo>
                    <a:lnTo>
                      <a:pt x="1" y="17"/>
                    </a:lnTo>
                    <a:lnTo>
                      <a:pt x="0" y="21"/>
                    </a:lnTo>
                    <a:lnTo>
                      <a:pt x="1" y="27"/>
                    </a:lnTo>
                    <a:lnTo>
                      <a:pt x="2" y="31"/>
                    </a:lnTo>
                    <a:lnTo>
                      <a:pt x="3" y="34"/>
                    </a:lnTo>
                    <a:lnTo>
                      <a:pt x="5" y="38"/>
                    </a:lnTo>
                    <a:lnTo>
                      <a:pt x="7" y="41"/>
                    </a:lnTo>
                    <a:lnTo>
                      <a:pt x="9" y="42"/>
                    </a:lnTo>
                    <a:lnTo>
                      <a:pt x="13" y="44"/>
                    </a:lnTo>
                    <a:lnTo>
                      <a:pt x="15" y="44"/>
                    </a:lnTo>
                    <a:close/>
                  </a:path>
                </a:pathLst>
              </a:custGeom>
              <a:solidFill>
                <a:srgbClr val="605d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6570720" y="3783240"/>
                <a:ext cx="911160" cy="1427040"/>
              </a:xfrm>
              <a:custGeom>
                <a:avLst/>
                <a:gdLst/>
                <a:ahLst/>
                <a:rect l="l" t="t" r="r" b="b"/>
                <a:pathLst>
                  <a:path w="2868" h="4497">
                    <a:moveTo>
                      <a:pt x="210" y="550"/>
                    </a:moveTo>
                    <a:lnTo>
                      <a:pt x="210" y="465"/>
                    </a:lnTo>
                    <a:lnTo>
                      <a:pt x="210" y="432"/>
                    </a:lnTo>
                    <a:lnTo>
                      <a:pt x="211" y="401"/>
                    </a:lnTo>
                    <a:lnTo>
                      <a:pt x="212" y="374"/>
                    </a:lnTo>
                    <a:lnTo>
                      <a:pt x="215" y="350"/>
                    </a:lnTo>
                    <a:lnTo>
                      <a:pt x="219" y="311"/>
                    </a:lnTo>
                    <a:lnTo>
                      <a:pt x="223" y="283"/>
                    </a:lnTo>
                    <a:lnTo>
                      <a:pt x="229" y="263"/>
                    </a:lnTo>
                    <a:lnTo>
                      <a:pt x="233" y="252"/>
                    </a:lnTo>
                    <a:lnTo>
                      <a:pt x="236" y="245"/>
                    </a:lnTo>
                    <a:lnTo>
                      <a:pt x="237" y="243"/>
                    </a:lnTo>
                    <a:lnTo>
                      <a:pt x="243" y="234"/>
                    </a:lnTo>
                    <a:lnTo>
                      <a:pt x="250" y="226"/>
                    </a:lnTo>
                    <a:lnTo>
                      <a:pt x="257" y="218"/>
                    </a:lnTo>
                    <a:lnTo>
                      <a:pt x="265" y="211"/>
                    </a:lnTo>
                    <a:lnTo>
                      <a:pt x="273" y="204"/>
                    </a:lnTo>
                    <a:lnTo>
                      <a:pt x="281" y="198"/>
                    </a:lnTo>
                    <a:lnTo>
                      <a:pt x="291" y="192"/>
                    </a:lnTo>
                    <a:lnTo>
                      <a:pt x="301" y="188"/>
                    </a:lnTo>
                    <a:lnTo>
                      <a:pt x="320" y="180"/>
                    </a:lnTo>
                    <a:lnTo>
                      <a:pt x="341" y="174"/>
                    </a:lnTo>
                    <a:lnTo>
                      <a:pt x="363" y="169"/>
                    </a:lnTo>
                    <a:lnTo>
                      <a:pt x="384" y="167"/>
                    </a:lnTo>
                    <a:lnTo>
                      <a:pt x="405" y="166"/>
                    </a:lnTo>
                    <a:lnTo>
                      <a:pt x="426" y="166"/>
                    </a:lnTo>
                    <a:lnTo>
                      <a:pt x="446" y="167"/>
                    </a:lnTo>
                    <a:lnTo>
                      <a:pt x="465" y="168"/>
                    </a:lnTo>
                    <a:lnTo>
                      <a:pt x="498" y="173"/>
                    </a:lnTo>
                    <a:lnTo>
                      <a:pt x="521" y="177"/>
                    </a:lnTo>
                    <a:lnTo>
                      <a:pt x="548" y="179"/>
                    </a:lnTo>
                    <a:lnTo>
                      <a:pt x="610" y="184"/>
                    </a:lnTo>
                    <a:lnTo>
                      <a:pt x="698" y="189"/>
                    </a:lnTo>
                    <a:lnTo>
                      <a:pt x="812" y="194"/>
                    </a:lnTo>
                    <a:lnTo>
                      <a:pt x="1090" y="208"/>
                    </a:lnTo>
                    <a:lnTo>
                      <a:pt x="1405" y="223"/>
                    </a:lnTo>
                    <a:lnTo>
                      <a:pt x="1721" y="239"/>
                    </a:lnTo>
                    <a:lnTo>
                      <a:pt x="1999" y="253"/>
                    </a:lnTo>
                    <a:lnTo>
                      <a:pt x="2111" y="259"/>
                    </a:lnTo>
                    <a:lnTo>
                      <a:pt x="2201" y="265"/>
                    </a:lnTo>
                    <a:lnTo>
                      <a:pt x="2235" y="267"/>
                    </a:lnTo>
                    <a:lnTo>
                      <a:pt x="2262" y="269"/>
                    </a:lnTo>
                    <a:lnTo>
                      <a:pt x="2280" y="271"/>
                    </a:lnTo>
                    <a:lnTo>
                      <a:pt x="2289" y="273"/>
                    </a:lnTo>
                    <a:lnTo>
                      <a:pt x="2308" y="277"/>
                    </a:lnTo>
                    <a:lnTo>
                      <a:pt x="2326" y="282"/>
                    </a:lnTo>
                    <a:lnTo>
                      <a:pt x="2335" y="284"/>
                    </a:lnTo>
                    <a:lnTo>
                      <a:pt x="2345" y="287"/>
                    </a:lnTo>
                    <a:lnTo>
                      <a:pt x="2355" y="292"/>
                    </a:lnTo>
                    <a:lnTo>
                      <a:pt x="2365" y="296"/>
                    </a:lnTo>
                    <a:lnTo>
                      <a:pt x="2376" y="301"/>
                    </a:lnTo>
                    <a:lnTo>
                      <a:pt x="2389" y="309"/>
                    </a:lnTo>
                    <a:lnTo>
                      <a:pt x="2402" y="317"/>
                    </a:lnTo>
                    <a:lnTo>
                      <a:pt x="2416" y="328"/>
                    </a:lnTo>
                    <a:lnTo>
                      <a:pt x="2432" y="341"/>
                    </a:lnTo>
                    <a:lnTo>
                      <a:pt x="2450" y="356"/>
                    </a:lnTo>
                    <a:lnTo>
                      <a:pt x="2469" y="374"/>
                    </a:lnTo>
                    <a:lnTo>
                      <a:pt x="2490" y="394"/>
                    </a:lnTo>
                    <a:lnTo>
                      <a:pt x="2500" y="406"/>
                    </a:lnTo>
                    <a:lnTo>
                      <a:pt x="2510" y="418"/>
                    </a:lnTo>
                    <a:lnTo>
                      <a:pt x="2520" y="430"/>
                    </a:lnTo>
                    <a:lnTo>
                      <a:pt x="2528" y="444"/>
                    </a:lnTo>
                    <a:lnTo>
                      <a:pt x="2536" y="457"/>
                    </a:lnTo>
                    <a:lnTo>
                      <a:pt x="2544" y="472"/>
                    </a:lnTo>
                    <a:lnTo>
                      <a:pt x="2550" y="486"/>
                    </a:lnTo>
                    <a:lnTo>
                      <a:pt x="2557" y="501"/>
                    </a:lnTo>
                    <a:lnTo>
                      <a:pt x="2567" y="531"/>
                    </a:lnTo>
                    <a:lnTo>
                      <a:pt x="2577" y="562"/>
                    </a:lnTo>
                    <a:lnTo>
                      <a:pt x="2584" y="592"/>
                    </a:lnTo>
                    <a:lnTo>
                      <a:pt x="2589" y="622"/>
                    </a:lnTo>
                    <a:lnTo>
                      <a:pt x="2593" y="650"/>
                    </a:lnTo>
                    <a:lnTo>
                      <a:pt x="2597" y="677"/>
                    </a:lnTo>
                    <a:lnTo>
                      <a:pt x="2599" y="701"/>
                    </a:lnTo>
                    <a:lnTo>
                      <a:pt x="2600" y="721"/>
                    </a:lnTo>
                    <a:lnTo>
                      <a:pt x="2601" y="752"/>
                    </a:lnTo>
                    <a:lnTo>
                      <a:pt x="2601" y="762"/>
                    </a:lnTo>
                    <a:lnTo>
                      <a:pt x="2601" y="4408"/>
                    </a:lnTo>
                    <a:lnTo>
                      <a:pt x="2601" y="4413"/>
                    </a:lnTo>
                    <a:lnTo>
                      <a:pt x="2602" y="4423"/>
                    </a:lnTo>
                    <a:lnTo>
                      <a:pt x="2604" y="4429"/>
                    </a:lnTo>
                    <a:lnTo>
                      <a:pt x="2606" y="4437"/>
                    </a:lnTo>
                    <a:lnTo>
                      <a:pt x="2611" y="4445"/>
                    </a:lnTo>
                    <a:lnTo>
                      <a:pt x="2616" y="4453"/>
                    </a:lnTo>
                    <a:lnTo>
                      <a:pt x="2624" y="4461"/>
                    </a:lnTo>
                    <a:lnTo>
                      <a:pt x="2633" y="4469"/>
                    </a:lnTo>
                    <a:lnTo>
                      <a:pt x="2644" y="4477"/>
                    </a:lnTo>
                    <a:lnTo>
                      <a:pt x="2658" y="4484"/>
                    </a:lnTo>
                    <a:lnTo>
                      <a:pt x="2674" y="4489"/>
                    </a:lnTo>
                    <a:lnTo>
                      <a:pt x="2694" y="4494"/>
                    </a:lnTo>
                    <a:lnTo>
                      <a:pt x="2716" y="4496"/>
                    </a:lnTo>
                    <a:lnTo>
                      <a:pt x="2741" y="4497"/>
                    </a:lnTo>
                    <a:lnTo>
                      <a:pt x="2766" y="4496"/>
                    </a:lnTo>
                    <a:lnTo>
                      <a:pt x="2788" y="4494"/>
                    </a:lnTo>
                    <a:lnTo>
                      <a:pt x="2806" y="4489"/>
                    </a:lnTo>
                    <a:lnTo>
                      <a:pt x="2821" y="4484"/>
                    </a:lnTo>
                    <a:lnTo>
                      <a:pt x="2834" y="4477"/>
                    </a:lnTo>
                    <a:lnTo>
                      <a:pt x="2844" y="4469"/>
                    </a:lnTo>
                    <a:lnTo>
                      <a:pt x="2853" y="4461"/>
                    </a:lnTo>
                    <a:lnTo>
                      <a:pt x="2858" y="4453"/>
                    </a:lnTo>
                    <a:lnTo>
                      <a:pt x="2862" y="4445"/>
                    </a:lnTo>
                    <a:lnTo>
                      <a:pt x="2865" y="4437"/>
                    </a:lnTo>
                    <a:lnTo>
                      <a:pt x="2868" y="4429"/>
                    </a:lnTo>
                    <a:lnTo>
                      <a:pt x="2868" y="4423"/>
                    </a:lnTo>
                    <a:lnTo>
                      <a:pt x="2868" y="4413"/>
                    </a:lnTo>
                    <a:lnTo>
                      <a:pt x="2868" y="4408"/>
                    </a:lnTo>
                    <a:lnTo>
                      <a:pt x="2868" y="762"/>
                    </a:lnTo>
                    <a:lnTo>
                      <a:pt x="2868" y="757"/>
                    </a:lnTo>
                    <a:lnTo>
                      <a:pt x="2868" y="742"/>
                    </a:lnTo>
                    <a:lnTo>
                      <a:pt x="2868" y="717"/>
                    </a:lnTo>
                    <a:lnTo>
                      <a:pt x="2867" y="685"/>
                    </a:lnTo>
                    <a:lnTo>
                      <a:pt x="2863" y="646"/>
                    </a:lnTo>
                    <a:lnTo>
                      <a:pt x="2857" y="600"/>
                    </a:lnTo>
                    <a:lnTo>
                      <a:pt x="2854" y="576"/>
                    </a:lnTo>
                    <a:lnTo>
                      <a:pt x="2848" y="550"/>
                    </a:lnTo>
                    <a:lnTo>
                      <a:pt x="2843" y="523"/>
                    </a:lnTo>
                    <a:lnTo>
                      <a:pt x="2835" y="496"/>
                    </a:lnTo>
                    <a:lnTo>
                      <a:pt x="2828" y="468"/>
                    </a:lnTo>
                    <a:lnTo>
                      <a:pt x="2820" y="442"/>
                    </a:lnTo>
                    <a:lnTo>
                      <a:pt x="2811" y="417"/>
                    </a:lnTo>
                    <a:lnTo>
                      <a:pt x="2803" y="393"/>
                    </a:lnTo>
                    <a:lnTo>
                      <a:pt x="2794" y="371"/>
                    </a:lnTo>
                    <a:lnTo>
                      <a:pt x="2786" y="351"/>
                    </a:lnTo>
                    <a:lnTo>
                      <a:pt x="2776" y="330"/>
                    </a:lnTo>
                    <a:lnTo>
                      <a:pt x="2766" y="313"/>
                    </a:lnTo>
                    <a:lnTo>
                      <a:pt x="2756" y="296"/>
                    </a:lnTo>
                    <a:lnTo>
                      <a:pt x="2747" y="280"/>
                    </a:lnTo>
                    <a:lnTo>
                      <a:pt x="2737" y="266"/>
                    </a:lnTo>
                    <a:lnTo>
                      <a:pt x="2726" y="253"/>
                    </a:lnTo>
                    <a:lnTo>
                      <a:pt x="2716" y="241"/>
                    </a:lnTo>
                    <a:lnTo>
                      <a:pt x="2706" y="230"/>
                    </a:lnTo>
                    <a:lnTo>
                      <a:pt x="2695" y="220"/>
                    </a:lnTo>
                    <a:lnTo>
                      <a:pt x="2685" y="212"/>
                    </a:lnTo>
                    <a:lnTo>
                      <a:pt x="2662" y="198"/>
                    </a:lnTo>
                    <a:lnTo>
                      <a:pt x="2634" y="186"/>
                    </a:lnTo>
                    <a:lnTo>
                      <a:pt x="2601" y="174"/>
                    </a:lnTo>
                    <a:lnTo>
                      <a:pt x="2562" y="163"/>
                    </a:lnTo>
                    <a:lnTo>
                      <a:pt x="2518" y="152"/>
                    </a:lnTo>
                    <a:lnTo>
                      <a:pt x="2470" y="144"/>
                    </a:lnTo>
                    <a:lnTo>
                      <a:pt x="2417" y="135"/>
                    </a:lnTo>
                    <a:lnTo>
                      <a:pt x="2361" y="126"/>
                    </a:lnTo>
                    <a:lnTo>
                      <a:pt x="2301" y="119"/>
                    </a:lnTo>
                    <a:lnTo>
                      <a:pt x="2238" y="112"/>
                    </a:lnTo>
                    <a:lnTo>
                      <a:pt x="2171" y="106"/>
                    </a:lnTo>
                    <a:lnTo>
                      <a:pt x="2103" y="100"/>
                    </a:lnTo>
                    <a:lnTo>
                      <a:pt x="1958" y="90"/>
                    </a:lnTo>
                    <a:lnTo>
                      <a:pt x="1807" y="81"/>
                    </a:lnTo>
                    <a:lnTo>
                      <a:pt x="1496" y="66"/>
                    </a:lnTo>
                    <a:lnTo>
                      <a:pt x="1189" y="52"/>
                    </a:lnTo>
                    <a:lnTo>
                      <a:pt x="1044" y="44"/>
                    </a:lnTo>
                    <a:lnTo>
                      <a:pt x="908" y="37"/>
                    </a:lnTo>
                    <a:lnTo>
                      <a:pt x="843" y="33"/>
                    </a:lnTo>
                    <a:lnTo>
                      <a:pt x="783" y="28"/>
                    </a:lnTo>
                    <a:lnTo>
                      <a:pt x="725" y="24"/>
                    </a:lnTo>
                    <a:lnTo>
                      <a:pt x="673" y="18"/>
                    </a:lnTo>
                    <a:lnTo>
                      <a:pt x="595" y="11"/>
                    </a:lnTo>
                    <a:lnTo>
                      <a:pt x="526" y="5"/>
                    </a:lnTo>
                    <a:lnTo>
                      <a:pt x="464" y="2"/>
                    </a:lnTo>
                    <a:lnTo>
                      <a:pt x="410" y="1"/>
                    </a:lnTo>
                    <a:lnTo>
                      <a:pt x="361" y="0"/>
                    </a:lnTo>
                    <a:lnTo>
                      <a:pt x="319" y="2"/>
                    </a:lnTo>
                    <a:lnTo>
                      <a:pt x="281" y="4"/>
                    </a:lnTo>
                    <a:lnTo>
                      <a:pt x="249" y="7"/>
                    </a:lnTo>
                    <a:lnTo>
                      <a:pt x="220" y="13"/>
                    </a:lnTo>
                    <a:lnTo>
                      <a:pt x="195" y="19"/>
                    </a:lnTo>
                    <a:lnTo>
                      <a:pt x="173" y="26"/>
                    </a:lnTo>
                    <a:lnTo>
                      <a:pt x="153" y="33"/>
                    </a:lnTo>
                    <a:lnTo>
                      <a:pt x="136" y="41"/>
                    </a:lnTo>
                    <a:lnTo>
                      <a:pt x="119" y="50"/>
                    </a:lnTo>
                    <a:lnTo>
                      <a:pt x="104" y="58"/>
                    </a:lnTo>
                    <a:lnTo>
                      <a:pt x="88" y="68"/>
                    </a:lnTo>
                    <a:lnTo>
                      <a:pt x="81" y="73"/>
                    </a:lnTo>
                    <a:lnTo>
                      <a:pt x="74" y="79"/>
                    </a:lnTo>
                    <a:lnTo>
                      <a:pt x="67" y="86"/>
                    </a:lnTo>
                    <a:lnTo>
                      <a:pt x="61" y="94"/>
                    </a:lnTo>
                    <a:lnTo>
                      <a:pt x="55" y="103"/>
                    </a:lnTo>
                    <a:lnTo>
                      <a:pt x="49" y="111"/>
                    </a:lnTo>
                    <a:lnTo>
                      <a:pt x="44" y="121"/>
                    </a:lnTo>
                    <a:lnTo>
                      <a:pt x="40" y="131"/>
                    </a:lnTo>
                    <a:lnTo>
                      <a:pt x="31" y="152"/>
                    </a:lnTo>
                    <a:lnTo>
                      <a:pt x="23" y="175"/>
                    </a:lnTo>
                    <a:lnTo>
                      <a:pt x="18" y="198"/>
                    </a:lnTo>
                    <a:lnTo>
                      <a:pt x="12" y="221"/>
                    </a:lnTo>
                    <a:lnTo>
                      <a:pt x="6" y="266"/>
                    </a:lnTo>
                    <a:lnTo>
                      <a:pt x="2" y="302"/>
                    </a:lnTo>
                    <a:lnTo>
                      <a:pt x="0" y="328"/>
                    </a:lnTo>
                    <a:lnTo>
                      <a:pt x="0" y="337"/>
                    </a:lnTo>
                    <a:lnTo>
                      <a:pt x="0" y="528"/>
                    </a:lnTo>
                    <a:lnTo>
                      <a:pt x="210" y="550"/>
                    </a:lnTo>
                    <a:close/>
                  </a:path>
                </a:pathLst>
              </a:custGeom>
              <a:solidFill>
                <a:srgbClr val="a0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6475320" y="4921200"/>
                <a:ext cx="216000" cy="398520"/>
              </a:xfrm>
              <a:custGeom>
                <a:avLst/>
                <a:gdLst/>
                <a:ahLst/>
                <a:rect l="l" t="t" r="r" b="b"/>
                <a:pathLst>
                  <a:path w="678" h="1258">
                    <a:moveTo>
                      <a:pt x="50" y="980"/>
                    </a:moveTo>
                    <a:lnTo>
                      <a:pt x="60" y="1011"/>
                    </a:lnTo>
                    <a:lnTo>
                      <a:pt x="71" y="1040"/>
                    </a:lnTo>
                    <a:lnTo>
                      <a:pt x="81" y="1068"/>
                    </a:lnTo>
                    <a:lnTo>
                      <a:pt x="93" y="1094"/>
                    </a:lnTo>
                    <a:lnTo>
                      <a:pt x="106" y="1117"/>
                    </a:lnTo>
                    <a:lnTo>
                      <a:pt x="120" y="1140"/>
                    </a:lnTo>
                    <a:lnTo>
                      <a:pt x="134" y="1162"/>
                    </a:lnTo>
                    <a:lnTo>
                      <a:pt x="148" y="1180"/>
                    </a:lnTo>
                    <a:lnTo>
                      <a:pt x="163" y="1197"/>
                    </a:lnTo>
                    <a:lnTo>
                      <a:pt x="180" y="1212"/>
                    </a:lnTo>
                    <a:lnTo>
                      <a:pt x="196" y="1225"/>
                    </a:lnTo>
                    <a:lnTo>
                      <a:pt x="212" y="1236"/>
                    </a:lnTo>
                    <a:lnTo>
                      <a:pt x="221" y="1242"/>
                    </a:lnTo>
                    <a:lnTo>
                      <a:pt x="229" y="1245"/>
                    </a:lnTo>
                    <a:lnTo>
                      <a:pt x="238" y="1249"/>
                    </a:lnTo>
                    <a:lnTo>
                      <a:pt x="247" y="1251"/>
                    </a:lnTo>
                    <a:lnTo>
                      <a:pt x="255" y="1254"/>
                    </a:lnTo>
                    <a:lnTo>
                      <a:pt x="264" y="1256"/>
                    </a:lnTo>
                    <a:lnTo>
                      <a:pt x="274" y="1257"/>
                    </a:lnTo>
                    <a:lnTo>
                      <a:pt x="282" y="1258"/>
                    </a:lnTo>
                    <a:lnTo>
                      <a:pt x="285" y="1258"/>
                    </a:lnTo>
                    <a:lnTo>
                      <a:pt x="295" y="1258"/>
                    </a:lnTo>
                    <a:lnTo>
                      <a:pt x="309" y="1258"/>
                    </a:lnTo>
                    <a:lnTo>
                      <a:pt x="324" y="1258"/>
                    </a:lnTo>
                    <a:lnTo>
                      <a:pt x="340" y="1258"/>
                    </a:lnTo>
                    <a:lnTo>
                      <a:pt x="354" y="1258"/>
                    </a:lnTo>
                    <a:lnTo>
                      <a:pt x="363" y="1258"/>
                    </a:lnTo>
                    <a:lnTo>
                      <a:pt x="367" y="1258"/>
                    </a:lnTo>
                    <a:lnTo>
                      <a:pt x="382" y="1257"/>
                    </a:lnTo>
                    <a:lnTo>
                      <a:pt x="396" y="1254"/>
                    </a:lnTo>
                    <a:lnTo>
                      <a:pt x="411" y="1250"/>
                    </a:lnTo>
                    <a:lnTo>
                      <a:pt x="425" y="1245"/>
                    </a:lnTo>
                    <a:lnTo>
                      <a:pt x="440" y="1237"/>
                    </a:lnTo>
                    <a:lnTo>
                      <a:pt x="454" y="1230"/>
                    </a:lnTo>
                    <a:lnTo>
                      <a:pt x="468" y="1219"/>
                    </a:lnTo>
                    <a:lnTo>
                      <a:pt x="482" y="1208"/>
                    </a:lnTo>
                    <a:lnTo>
                      <a:pt x="495" y="1195"/>
                    </a:lnTo>
                    <a:lnTo>
                      <a:pt x="509" y="1181"/>
                    </a:lnTo>
                    <a:lnTo>
                      <a:pt x="522" y="1166"/>
                    </a:lnTo>
                    <a:lnTo>
                      <a:pt x="534" y="1150"/>
                    </a:lnTo>
                    <a:lnTo>
                      <a:pt x="547" y="1132"/>
                    </a:lnTo>
                    <a:lnTo>
                      <a:pt x="559" y="1114"/>
                    </a:lnTo>
                    <a:lnTo>
                      <a:pt x="571" y="1094"/>
                    </a:lnTo>
                    <a:lnTo>
                      <a:pt x="581" y="1073"/>
                    </a:lnTo>
                    <a:lnTo>
                      <a:pt x="592" y="1051"/>
                    </a:lnTo>
                    <a:lnTo>
                      <a:pt x="602" y="1029"/>
                    </a:lnTo>
                    <a:lnTo>
                      <a:pt x="612" y="1005"/>
                    </a:lnTo>
                    <a:lnTo>
                      <a:pt x="621" y="980"/>
                    </a:lnTo>
                    <a:lnTo>
                      <a:pt x="630" y="954"/>
                    </a:lnTo>
                    <a:lnTo>
                      <a:pt x="638" y="928"/>
                    </a:lnTo>
                    <a:lnTo>
                      <a:pt x="645" y="900"/>
                    </a:lnTo>
                    <a:lnTo>
                      <a:pt x="652" y="873"/>
                    </a:lnTo>
                    <a:lnTo>
                      <a:pt x="657" y="844"/>
                    </a:lnTo>
                    <a:lnTo>
                      <a:pt x="663" y="815"/>
                    </a:lnTo>
                    <a:lnTo>
                      <a:pt x="667" y="785"/>
                    </a:lnTo>
                    <a:lnTo>
                      <a:pt x="671" y="754"/>
                    </a:lnTo>
                    <a:lnTo>
                      <a:pt x="674" y="723"/>
                    </a:lnTo>
                    <a:lnTo>
                      <a:pt x="677" y="692"/>
                    </a:lnTo>
                    <a:lnTo>
                      <a:pt x="678" y="659"/>
                    </a:lnTo>
                    <a:lnTo>
                      <a:pt x="678" y="627"/>
                    </a:lnTo>
                    <a:lnTo>
                      <a:pt x="678" y="595"/>
                    </a:lnTo>
                    <a:lnTo>
                      <a:pt x="677" y="563"/>
                    </a:lnTo>
                    <a:lnTo>
                      <a:pt x="674" y="532"/>
                    </a:lnTo>
                    <a:lnTo>
                      <a:pt x="671" y="501"/>
                    </a:lnTo>
                    <a:lnTo>
                      <a:pt x="667" y="470"/>
                    </a:lnTo>
                    <a:lnTo>
                      <a:pt x="663" y="441"/>
                    </a:lnTo>
                    <a:lnTo>
                      <a:pt x="657" y="412"/>
                    </a:lnTo>
                    <a:lnTo>
                      <a:pt x="652" y="383"/>
                    </a:lnTo>
                    <a:lnTo>
                      <a:pt x="645" y="355"/>
                    </a:lnTo>
                    <a:lnTo>
                      <a:pt x="638" y="328"/>
                    </a:lnTo>
                    <a:lnTo>
                      <a:pt x="630" y="302"/>
                    </a:lnTo>
                    <a:lnTo>
                      <a:pt x="621" y="276"/>
                    </a:lnTo>
                    <a:lnTo>
                      <a:pt x="612" y="252"/>
                    </a:lnTo>
                    <a:lnTo>
                      <a:pt x="602" y="228"/>
                    </a:lnTo>
                    <a:lnTo>
                      <a:pt x="592" y="206"/>
                    </a:lnTo>
                    <a:lnTo>
                      <a:pt x="581" y="183"/>
                    </a:lnTo>
                    <a:lnTo>
                      <a:pt x="571" y="163"/>
                    </a:lnTo>
                    <a:lnTo>
                      <a:pt x="559" y="143"/>
                    </a:lnTo>
                    <a:lnTo>
                      <a:pt x="547" y="125"/>
                    </a:lnTo>
                    <a:lnTo>
                      <a:pt x="534" y="106"/>
                    </a:lnTo>
                    <a:lnTo>
                      <a:pt x="522" y="90"/>
                    </a:lnTo>
                    <a:lnTo>
                      <a:pt x="509" y="75"/>
                    </a:lnTo>
                    <a:lnTo>
                      <a:pt x="495" y="61"/>
                    </a:lnTo>
                    <a:lnTo>
                      <a:pt x="482" y="49"/>
                    </a:lnTo>
                    <a:lnTo>
                      <a:pt x="468" y="37"/>
                    </a:lnTo>
                    <a:lnTo>
                      <a:pt x="454" y="28"/>
                    </a:lnTo>
                    <a:lnTo>
                      <a:pt x="440" y="19"/>
                    </a:lnTo>
                    <a:lnTo>
                      <a:pt x="425" y="12"/>
                    </a:lnTo>
                    <a:lnTo>
                      <a:pt x="411" y="7"/>
                    </a:lnTo>
                    <a:lnTo>
                      <a:pt x="396" y="3"/>
                    </a:lnTo>
                    <a:lnTo>
                      <a:pt x="382" y="1"/>
                    </a:lnTo>
                    <a:lnTo>
                      <a:pt x="367" y="0"/>
                    </a:lnTo>
                    <a:lnTo>
                      <a:pt x="363" y="0"/>
                    </a:lnTo>
                    <a:lnTo>
                      <a:pt x="354" y="0"/>
                    </a:lnTo>
                    <a:lnTo>
                      <a:pt x="340" y="0"/>
                    </a:lnTo>
                    <a:lnTo>
                      <a:pt x="324" y="0"/>
                    </a:lnTo>
                    <a:lnTo>
                      <a:pt x="309" y="0"/>
                    </a:lnTo>
                    <a:lnTo>
                      <a:pt x="295" y="0"/>
                    </a:lnTo>
                    <a:lnTo>
                      <a:pt x="285" y="0"/>
                    </a:lnTo>
                    <a:lnTo>
                      <a:pt x="282" y="0"/>
                    </a:lnTo>
                    <a:lnTo>
                      <a:pt x="268" y="1"/>
                    </a:lnTo>
                    <a:lnTo>
                      <a:pt x="253" y="3"/>
                    </a:lnTo>
                    <a:lnTo>
                      <a:pt x="239" y="7"/>
                    </a:lnTo>
                    <a:lnTo>
                      <a:pt x="225" y="12"/>
                    </a:lnTo>
                    <a:lnTo>
                      <a:pt x="212" y="20"/>
                    </a:lnTo>
                    <a:lnTo>
                      <a:pt x="198" y="29"/>
                    </a:lnTo>
                    <a:lnTo>
                      <a:pt x="185" y="38"/>
                    </a:lnTo>
                    <a:lnTo>
                      <a:pt x="172" y="50"/>
                    </a:lnTo>
                    <a:lnTo>
                      <a:pt x="160" y="62"/>
                    </a:lnTo>
                    <a:lnTo>
                      <a:pt x="148" y="76"/>
                    </a:lnTo>
                    <a:lnTo>
                      <a:pt x="136" y="91"/>
                    </a:lnTo>
                    <a:lnTo>
                      <a:pt x="125" y="108"/>
                    </a:lnTo>
                    <a:lnTo>
                      <a:pt x="114" y="126"/>
                    </a:lnTo>
                    <a:lnTo>
                      <a:pt x="103" y="144"/>
                    </a:lnTo>
                    <a:lnTo>
                      <a:pt x="93" y="164"/>
                    </a:lnTo>
                    <a:lnTo>
                      <a:pt x="83" y="184"/>
                    </a:lnTo>
                    <a:lnTo>
                      <a:pt x="74" y="206"/>
                    </a:lnTo>
                    <a:lnTo>
                      <a:pt x="65" y="228"/>
                    </a:lnTo>
                    <a:lnTo>
                      <a:pt x="56" y="252"/>
                    </a:lnTo>
                    <a:lnTo>
                      <a:pt x="49" y="277"/>
                    </a:lnTo>
                    <a:lnTo>
                      <a:pt x="41" y="303"/>
                    </a:lnTo>
                    <a:lnTo>
                      <a:pt x="35" y="329"/>
                    </a:lnTo>
                    <a:lnTo>
                      <a:pt x="28" y="356"/>
                    </a:lnTo>
                    <a:lnTo>
                      <a:pt x="23" y="384"/>
                    </a:lnTo>
                    <a:lnTo>
                      <a:pt x="18" y="412"/>
                    </a:lnTo>
                    <a:lnTo>
                      <a:pt x="13" y="441"/>
                    </a:lnTo>
                    <a:lnTo>
                      <a:pt x="9" y="470"/>
                    </a:lnTo>
                    <a:lnTo>
                      <a:pt x="6" y="501"/>
                    </a:lnTo>
                    <a:lnTo>
                      <a:pt x="4" y="532"/>
                    </a:lnTo>
                    <a:lnTo>
                      <a:pt x="1" y="563"/>
                    </a:lnTo>
                    <a:lnTo>
                      <a:pt x="0" y="595"/>
                    </a:lnTo>
                    <a:lnTo>
                      <a:pt x="0" y="627"/>
                    </a:lnTo>
                    <a:lnTo>
                      <a:pt x="1" y="676"/>
                    </a:lnTo>
                    <a:lnTo>
                      <a:pt x="4" y="724"/>
                    </a:lnTo>
                    <a:lnTo>
                      <a:pt x="8" y="771"/>
                    </a:lnTo>
                    <a:lnTo>
                      <a:pt x="13" y="816"/>
                    </a:lnTo>
                    <a:lnTo>
                      <a:pt x="20" y="860"/>
                    </a:lnTo>
                    <a:lnTo>
                      <a:pt x="28" y="902"/>
                    </a:lnTo>
                    <a:lnTo>
                      <a:pt x="38" y="942"/>
                    </a:lnTo>
                    <a:lnTo>
                      <a:pt x="50" y="980"/>
                    </a:lnTo>
                    <a:close/>
                  </a:path>
                </a:pathLst>
              </a:custGeom>
              <a:solidFill>
                <a:srgbClr val="3e43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6478560" y="4929120"/>
                <a:ext cx="173160" cy="382680"/>
              </a:xfrm>
              <a:custGeom>
                <a:avLst/>
                <a:gdLst/>
                <a:ahLst/>
                <a:rect l="l" t="t" r="r" b="b"/>
                <a:pathLst>
                  <a:path w="544" h="1204">
                    <a:moveTo>
                      <a:pt x="48" y="939"/>
                    </a:moveTo>
                    <a:lnTo>
                      <a:pt x="57" y="968"/>
                    </a:lnTo>
                    <a:lnTo>
                      <a:pt x="67" y="995"/>
                    </a:lnTo>
                    <a:lnTo>
                      <a:pt x="79" y="1022"/>
                    </a:lnTo>
                    <a:lnTo>
                      <a:pt x="90" y="1047"/>
                    </a:lnTo>
                    <a:lnTo>
                      <a:pt x="103" y="1070"/>
                    </a:lnTo>
                    <a:lnTo>
                      <a:pt x="116" y="1092"/>
                    </a:lnTo>
                    <a:lnTo>
                      <a:pt x="129" y="1112"/>
                    </a:lnTo>
                    <a:lnTo>
                      <a:pt x="143" y="1130"/>
                    </a:lnTo>
                    <a:lnTo>
                      <a:pt x="158" y="1146"/>
                    </a:lnTo>
                    <a:lnTo>
                      <a:pt x="173" y="1162"/>
                    </a:lnTo>
                    <a:lnTo>
                      <a:pt x="188" y="1173"/>
                    </a:lnTo>
                    <a:lnTo>
                      <a:pt x="204" y="1184"/>
                    </a:lnTo>
                    <a:lnTo>
                      <a:pt x="213" y="1189"/>
                    </a:lnTo>
                    <a:lnTo>
                      <a:pt x="220" y="1193"/>
                    </a:lnTo>
                    <a:lnTo>
                      <a:pt x="229" y="1196"/>
                    </a:lnTo>
                    <a:lnTo>
                      <a:pt x="238" y="1198"/>
                    </a:lnTo>
                    <a:lnTo>
                      <a:pt x="246" y="1200"/>
                    </a:lnTo>
                    <a:lnTo>
                      <a:pt x="255" y="1202"/>
                    </a:lnTo>
                    <a:lnTo>
                      <a:pt x="264" y="1203"/>
                    </a:lnTo>
                    <a:lnTo>
                      <a:pt x="272" y="1204"/>
                    </a:lnTo>
                    <a:lnTo>
                      <a:pt x="286" y="1203"/>
                    </a:lnTo>
                    <a:lnTo>
                      <a:pt x="300" y="1200"/>
                    </a:lnTo>
                    <a:lnTo>
                      <a:pt x="314" y="1196"/>
                    </a:lnTo>
                    <a:lnTo>
                      <a:pt x="327" y="1191"/>
                    </a:lnTo>
                    <a:lnTo>
                      <a:pt x="340" y="1184"/>
                    </a:lnTo>
                    <a:lnTo>
                      <a:pt x="353" y="1177"/>
                    </a:lnTo>
                    <a:lnTo>
                      <a:pt x="366" y="1167"/>
                    </a:lnTo>
                    <a:lnTo>
                      <a:pt x="378" y="1156"/>
                    </a:lnTo>
                    <a:lnTo>
                      <a:pt x="390" y="1144"/>
                    </a:lnTo>
                    <a:lnTo>
                      <a:pt x="402" y="1130"/>
                    </a:lnTo>
                    <a:lnTo>
                      <a:pt x="414" y="1116"/>
                    </a:lnTo>
                    <a:lnTo>
                      <a:pt x="425" y="1100"/>
                    </a:lnTo>
                    <a:lnTo>
                      <a:pt x="435" y="1084"/>
                    </a:lnTo>
                    <a:lnTo>
                      <a:pt x="445" y="1065"/>
                    </a:lnTo>
                    <a:lnTo>
                      <a:pt x="456" y="1047"/>
                    </a:lnTo>
                    <a:lnTo>
                      <a:pt x="465" y="1027"/>
                    </a:lnTo>
                    <a:lnTo>
                      <a:pt x="474" y="1006"/>
                    </a:lnTo>
                    <a:lnTo>
                      <a:pt x="482" y="984"/>
                    </a:lnTo>
                    <a:lnTo>
                      <a:pt x="490" y="962"/>
                    </a:lnTo>
                    <a:lnTo>
                      <a:pt x="498" y="938"/>
                    </a:lnTo>
                    <a:lnTo>
                      <a:pt x="505" y="913"/>
                    </a:lnTo>
                    <a:lnTo>
                      <a:pt x="512" y="888"/>
                    </a:lnTo>
                    <a:lnTo>
                      <a:pt x="517" y="862"/>
                    </a:lnTo>
                    <a:lnTo>
                      <a:pt x="523" y="835"/>
                    </a:lnTo>
                    <a:lnTo>
                      <a:pt x="528" y="807"/>
                    </a:lnTo>
                    <a:lnTo>
                      <a:pt x="533" y="779"/>
                    </a:lnTo>
                    <a:lnTo>
                      <a:pt x="536" y="751"/>
                    </a:lnTo>
                    <a:lnTo>
                      <a:pt x="539" y="722"/>
                    </a:lnTo>
                    <a:lnTo>
                      <a:pt x="541" y="692"/>
                    </a:lnTo>
                    <a:lnTo>
                      <a:pt x="543" y="662"/>
                    </a:lnTo>
                    <a:lnTo>
                      <a:pt x="543" y="631"/>
                    </a:lnTo>
                    <a:lnTo>
                      <a:pt x="544" y="600"/>
                    </a:lnTo>
                    <a:lnTo>
                      <a:pt x="543" y="570"/>
                    </a:lnTo>
                    <a:lnTo>
                      <a:pt x="543" y="538"/>
                    </a:lnTo>
                    <a:lnTo>
                      <a:pt x="541" y="509"/>
                    </a:lnTo>
                    <a:lnTo>
                      <a:pt x="539" y="479"/>
                    </a:lnTo>
                    <a:lnTo>
                      <a:pt x="536" y="450"/>
                    </a:lnTo>
                    <a:lnTo>
                      <a:pt x="533" y="422"/>
                    </a:lnTo>
                    <a:lnTo>
                      <a:pt x="528" y="394"/>
                    </a:lnTo>
                    <a:lnTo>
                      <a:pt x="523" y="367"/>
                    </a:lnTo>
                    <a:lnTo>
                      <a:pt x="517" y="340"/>
                    </a:lnTo>
                    <a:lnTo>
                      <a:pt x="512" y="314"/>
                    </a:lnTo>
                    <a:lnTo>
                      <a:pt x="505" y="289"/>
                    </a:lnTo>
                    <a:lnTo>
                      <a:pt x="498" y="264"/>
                    </a:lnTo>
                    <a:lnTo>
                      <a:pt x="490" y="241"/>
                    </a:lnTo>
                    <a:lnTo>
                      <a:pt x="482" y="219"/>
                    </a:lnTo>
                    <a:lnTo>
                      <a:pt x="474" y="196"/>
                    </a:lnTo>
                    <a:lnTo>
                      <a:pt x="465" y="176"/>
                    </a:lnTo>
                    <a:lnTo>
                      <a:pt x="456" y="156"/>
                    </a:lnTo>
                    <a:lnTo>
                      <a:pt x="445" y="137"/>
                    </a:lnTo>
                    <a:lnTo>
                      <a:pt x="435" y="119"/>
                    </a:lnTo>
                    <a:lnTo>
                      <a:pt x="425" y="102"/>
                    </a:lnTo>
                    <a:lnTo>
                      <a:pt x="414" y="87"/>
                    </a:lnTo>
                    <a:lnTo>
                      <a:pt x="402" y="72"/>
                    </a:lnTo>
                    <a:lnTo>
                      <a:pt x="390" y="59"/>
                    </a:lnTo>
                    <a:lnTo>
                      <a:pt x="378" y="47"/>
                    </a:lnTo>
                    <a:lnTo>
                      <a:pt x="366" y="36"/>
                    </a:lnTo>
                    <a:lnTo>
                      <a:pt x="353" y="27"/>
                    </a:lnTo>
                    <a:lnTo>
                      <a:pt x="340" y="19"/>
                    </a:lnTo>
                    <a:lnTo>
                      <a:pt x="327" y="11"/>
                    </a:lnTo>
                    <a:lnTo>
                      <a:pt x="314" y="6"/>
                    </a:lnTo>
                    <a:lnTo>
                      <a:pt x="300" y="3"/>
                    </a:lnTo>
                    <a:lnTo>
                      <a:pt x="286" y="1"/>
                    </a:lnTo>
                    <a:lnTo>
                      <a:pt x="272" y="0"/>
                    </a:lnTo>
                    <a:lnTo>
                      <a:pt x="258" y="1"/>
                    </a:lnTo>
                    <a:lnTo>
                      <a:pt x="244" y="3"/>
                    </a:lnTo>
                    <a:lnTo>
                      <a:pt x="231" y="6"/>
                    </a:lnTo>
                    <a:lnTo>
                      <a:pt x="217" y="11"/>
                    </a:lnTo>
                    <a:lnTo>
                      <a:pt x="204" y="19"/>
                    </a:lnTo>
                    <a:lnTo>
                      <a:pt x="191" y="27"/>
                    </a:lnTo>
                    <a:lnTo>
                      <a:pt x="178" y="36"/>
                    </a:lnTo>
                    <a:lnTo>
                      <a:pt x="166" y="47"/>
                    </a:lnTo>
                    <a:lnTo>
                      <a:pt x="155" y="59"/>
                    </a:lnTo>
                    <a:lnTo>
                      <a:pt x="143" y="72"/>
                    </a:lnTo>
                    <a:lnTo>
                      <a:pt x="131" y="87"/>
                    </a:lnTo>
                    <a:lnTo>
                      <a:pt x="120" y="102"/>
                    </a:lnTo>
                    <a:lnTo>
                      <a:pt x="109" y="119"/>
                    </a:lnTo>
                    <a:lnTo>
                      <a:pt x="99" y="137"/>
                    </a:lnTo>
                    <a:lnTo>
                      <a:pt x="90" y="156"/>
                    </a:lnTo>
                    <a:lnTo>
                      <a:pt x="80" y="176"/>
                    </a:lnTo>
                    <a:lnTo>
                      <a:pt x="70" y="196"/>
                    </a:lnTo>
                    <a:lnTo>
                      <a:pt x="63" y="219"/>
                    </a:lnTo>
                    <a:lnTo>
                      <a:pt x="54" y="241"/>
                    </a:lnTo>
                    <a:lnTo>
                      <a:pt x="46" y="264"/>
                    </a:lnTo>
                    <a:lnTo>
                      <a:pt x="40" y="289"/>
                    </a:lnTo>
                    <a:lnTo>
                      <a:pt x="34" y="314"/>
                    </a:lnTo>
                    <a:lnTo>
                      <a:pt x="27" y="340"/>
                    </a:lnTo>
                    <a:lnTo>
                      <a:pt x="22" y="367"/>
                    </a:lnTo>
                    <a:lnTo>
                      <a:pt x="16" y="394"/>
                    </a:lnTo>
                    <a:lnTo>
                      <a:pt x="13" y="422"/>
                    </a:lnTo>
                    <a:lnTo>
                      <a:pt x="9" y="450"/>
                    </a:lnTo>
                    <a:lnTo>
                      <a:pt x="5" y="479"/>
                    </a:lnTo>
                    <a:lnTo>
                      <a:pt x="3" y="509"/>
                    </a:lnTo>
                    <a:lnTo>
                      <a:pt x="2" y="538"/>
                    </a:lnTo>
                    <a:lnTo>
                      <a:pt x="1" y="570"/>
                    </a:lnTo>
                    <a:lnTo>
                      <a:pt x="0" y="600"/>
                    </a:lnTo>
                    <a:lnTo>
                      <a:pt x="1" y="648"/>
                    </a:lnTo>
                    <a:lnTo>
                      <a:pt x="3" y="693"/>
                    </a:lnTo>
                    <a:lnTo>
                      <a:pt x="8" y="737"/>
                    </a:lnTo>
                    <a:lnTo>
                      <a:pt x="13" y="780"/>
                    </a:lnTo>
                    <a:lnTo>
                      <a:pt x="19" y="822"/>
                    </a:lnTo>
                    <a:lnTo>
                      <a:pt x="27" y="864"/>
                    </a:lnTo>
                    <a:lnTo>
                      <a:pt x="37" y="901"/>
                    </a:lnTo>
                    <a:lnTo>
                      <a:pt x="48" y="939"/>
                    </a:lnTo>
                    <a:close/>
                  </a:path>
                </a:pathLst>
              </a:custGeom>
              <a:solidFill>
                <a:srgbClr val="969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6478560" y="4929120"/>
                <a:ext cx="173160" cy="382680"/>
              </a:xfrm>
              <a:custGeom>
                <a:avLst/>
                <a:gdLst/>
                <a:ahLst/>
                <a:rect l="l" t="t" r="r" b="b"/>
                <a:pathLst>
                  <a:path w="544" h="1204">
                    <a:moveTo>
                      <a:pt x="48" y="939"/>
                    </a:moveTo>
                    <a:lnTo>
                      <a:pt x="57" y="968"/>
                    </a:lnTo>
                    <a:lnTo>
                      <a:pt x="67" y="995"/>
                    </a:lnTo>
                    <a:lnTo>
                      <a:pt x="79" y="1022"/>
                    </a:lnTo>
                    <a:lnTo>
                      <a:pt x="90" y="1047"/>
                    </a:lnTo>
                    <a:lnTo>
                      <a:pt x="103" y="1070"/>
                    </a:lnTo>
                    <a:lnTo>
                      <a:pt x="116" y="1092"/>
                    </a:lnTo>
                    <a:lnTo>
                      <a:pt x="129" y="1112"/>
                    </a:lnTo>
                    <a:lnTo>
                      <a:pt x="143" y="1130"/>
                    </a:lnTo>
                    <a:lnTo>
                      <a:pt x="158" y="1146"/>
                    </a:lnTo>
                    <a:lnTo>
                      <a:pt x="173" y="1162"/>
                    </a:lnTo>
                    <a:lnTo>
                      <a:pt x="188" y="1173"/>
                    </a:lnTo>
                    <a:lnTo>
                      <a:pt x="204" y="1184"/>
                    </a:lnTo>
                    <a:lnTo>
                      <a:pt x="213" y="1189"/>
                    </a:lnTo>
                    <a:lnTo>
                      <a:pt x="220" y="1193"/>
                    </a:lnTo>
                    <a:lnTo>
                      <a:pt x="229" y="1196"/>
                    </a:lnTo>
                    <a:lnTo>
                      <a:pt x="238" y="1198"/>
                    </a:lnTo>
                    <a:lnTo>
                      <a:pt x="246" y="1200"/>
                    </a:lnTo>
                    <a:lnTo>
                      <a:pt x="255" y="1202"/>
                    </a:lnTo>
                    <a:lnTo>
                      <a:pt x="264" y="1203"/>
                    </a:lnTo>
                    <a:lnTo>
                      <a:pt x="272" y="1204"/>
                    </a:lnTo>
                    <a:lnTo>
                      <a:pt x="286" y="1203"/>
                    </a:lnTo>
                    <a:lnTo>
                      <a:pt x="300" y="1200"/>
                    </a:lnTo>
                    <a:lnTo>
                      <a:pt x="314" y="1196"/>
                    </a:lnTo>
                    <a:lnTo>
                      <a:pt x="327" y="1191"/>
                    </a:lnTo>
                    <a:lnTo>
                      <a:pt x="340" y="1184"/>
                    </a:lnTo>
                    <a:lnTo>
                      <a:pt x="353" y="1177"/>
                    </a:lnTo>
                    <a:lnTo>
                      <a:pt x="366" y="1167"/>
                    </a:lnTo>
                    <a:lnTo>
                      <a:pt x="378" y="1156"/>
                    </a:lnTo>
                    <a:lnTo>
                      <a:pt x="390" y="1144"/>
                    </a:lnTo>
                    <a:lnTo>
                      <a:pt x="402" y="1130"/>
                    </a:lnTo>
                    <a:lnTo>
                      <a:pt x="414" y="1116"/>
                    </a:lnTo>
                    <a:lnTo>
                      <a:pt x="425" y="1100"/>
                    </a:lnTo>
                    <a:lnTo>
                      <a:pt x="435" y="1084"/>
                    </a:lnTo>
                    <a:lnTo>
                      <a:pt x="445" y="1065"/>
                    </a:lnTo>
                    <a:lnTo>
                      <a:pt x="456" y="1047"/>
                    </a:lnTo>
                    <a:lnTo>
                      <a:pt x="465" y="1027"/>
                    </a:lnTo>
                    <a:lnTo>
                      <a:pt x="474" y="1006"/>
                    </a:lnTo>
                    <a:lnTo>
                      <a:pt x="482" y="984"/>
                    </a:lnTo>
                    <a:lnTo>
                      <a:pt x="490" y="962"/>
                    </a:lnTo>
                    <a:lnTo>
                      <a:pt x="498" y="938"/>
                    </a:lnTo>
                    <a:lnTo>
                      <a:pt x="505" y="913"/>
                    </a:lnTo>
                    <a:lnTo>
                      <a:pt x="512" y="888"/>
                    </a:lnTo>
                    <a:lnTo>
                      <a:pt x="517" y="862"/>
                    </a:lnTo>
                    <a:lnTo>
                      <a:pt x="523" y="835"/>
                    </a:lnTo>
                    <a:lnTo>
                      <a:pt x="528" y="807"/>
                    </a:lnTo>
                    <a:lnTo>
                      <a:pt x="533" y="779"/>
                    </a:lnTo>
                    <a:lnTo>
                      <a:pt x="536" y="751"/>
                    </a:lnTo>
                    <a:lnTo>
                      <a:pt x="539" y="722"/>
                    </a:lnTo>
                    <a:lnTo>
                      <a:pt x="541" y="692"/>
                    </a:lnTo>
                    <a:lnTo>
                      <a:pt x="543" y="662"/>
                    </a:lnTo>
                    <a:lnTo>
                      <a:pt x="543" y="631"/>
                    </a:lnTo>
                    <a:lnTo>
                      <a:pt x="544" y="600"/>
                    </a:lnTo>
                    <a:lnTo>
                      <a:pt x="543" y="570"/>
                    </a:lnTo>
                    <a:lnTo>
                      <a:pt x="543" y="538"/>
                    </a:lnTo>
                    <a:lnTo>
                      <a:pt x="541" y="509"/>
                    </a:lnTo>
                    <a:lnTo>
                      <a:pt x="539" y="479"/>
                    </a:lnTo>
                    <a:lnTo>
                      <a:pt x="536" y="450"/>
                    </a:lnTo>
                    <a:lnTo>
                      <a:pt x="533" y="422"/>
                    </a:lnTo>
                    <a:lnTo>
                      <a:pt x="528" y="394"/>
                    </a:lnTo>
                    <a:lnTo>
                      <a:pt x="523" y="367"/>
                    </a:lnTo>
                    <a:lnTo>
                      <a:pt x="517" y="340"/>
                    </a:lnTo>
                    <a:lnTo>
                      <a:pt x="512" y="314"/>
                    </a:lnTo>
                    <a:lnTo>
                      <a:pt x="505" y="289"/>
                    </a:lnTo>
                    <a:lnTo>
                      <a:pt x="498" y="264"/>
                    </a:lnTo>
                    <a:lnTo>
                      <a:pt x="490" y="241"/>
                    </a:lnTo>
                    <a:lnTo>
                      <a:pt x="482" y="219"/>
                    </a:lnTo>
                    <a:lnTo>
                      <a:pt x="474" y="196"/>
                    </a:lnTo>
                    <a:lnTo>
                      <a:pt x="465" y="176"/>
                    </a:lnTo>
                    <a:lnTo>
                      <a:pt x="456" y="156"/>
                    </a:lnTo>
                    <a:lnTo>
                      <a:pt x="445" y="137"/>
                    </a:lnTo>
                    <a:lnTo>
                      <a:pt x="435" y="119"/>
                    </a:lnTo>
                    <a:lnTo>
                      <a:pt x="425" y="102"/>
                    </a:lnTo>
                    <a:lnTo>
                      <a:pt x="414" y="87"/>
                    </a:lnTo>
                    <a:lnTo>
                      <a:pt x="402" y="72"/>
                    </a:lnTo>
                    <a:lnTo>
                      <a:pt x="390" y="59"/>
                    </a:lnTo>
                    <a:lnTo>
                      <a:pt x="378" y="47"/>
                    </a:lnTo>
                    <a:lnTo>
                      <a:pt x="366" y="36"/>
                    </a:lnTo>
                    <a:lnTo>
                      <a:pt x="353" y="27"/>
                    </a:lnTo>
                    <a:lnTo>
                      <a:pt x="340" y="19"/>
                    </a:lnTo>
                    <a:lnTo>
                      <a:pt x="327" y="11"/>
                    </a:lnTo>
                    <a:lnTo>
                      <a:pt x="314" y="6"/>
                    </a:lnTo>
                    <a:lnTo>
                      <a:pt x="300" y="3"/>
                    </a:lnTo>
                    <a:lnTo>
                      <a:pt x="286" y="1"/>
                    </a:lnTo>
                    <a:lnTo>
                      <a:pt x="272" y="0"/>
                    </a:lnTo>
                    <a:lnTo>
                      <a:pt x="258" y="1"/>
                    </a:lnTo>
                    <a:lnTo>
                      <a:pt x="244" y="3"/>
                    </a:lnTo>
                    <a:lnTo>
                      <a:pt x="231" y="6"/>
                    </a:lnTo>
                    <a:lnTo>
                      <a:pt x="217" y="11"/>
                    </a:lnTo>
                    <a:lnTo>
                      <a:pt x="204" y="19"/>
                    </a:lnTo>
                    <a:lnTo>
                      <a:pt x="191" y="27"/>
                    </a:lnTo>
                    <a:lnTo>
                      <a:pt x="178" y="36"/>
                    </a:lnTo>
                    <a:lnTo>
                      <a:pt x="166" y="47"/>
                    </a:lnTo>
                    <a:lnTo>
                      <a:pt x="155" y="59"/>
                    </a:lnTo>
                    <a:lnTo>
                      <a:pt x="143" y="72"/>
                    </a:lnTo>
                    <a:lnTo>
                      <a:pt x="131" y="87"/>
                    </a:lnTo>
                    <a:lnTo>
                      <a:pt x="120" y="102"/>
                    </a:lnTo>
                    <a:lnTo>
                      <a:pt x="109" y="119"/>
                    </a:lnTo>
                    <a:lnTo>
                      <a:pt x="99" y="137"/>
                    </a:lnTo>
                    <a:lnTo>
                      <a:pt x="90" y="156"/>
                    </a:lnTo>
                    <a:lnTo>
                      <a:pt x="80" y="176"/>
                    </a:lnTo>
                    <a:lnTo>
                      <a:pt x="70" y="196"/>
                    </a:lnTo>
                    <a:lnTo>
                      <a:pt x="63" y="219"/>
                    </a:lnTo>
                    <a:lnTo>
                      <a:pt x="54" y="241"/>
                    </a:lnTo>
                    <a:lnTo>
                      <a:pt x="46" y="264"/>
                    </a:lnTo>
                    <a:lnTo>
                      <a:pt x="40" y="289"/>
                    </a:lnTo>
                    <a:lnTo>
                      <a:pt x="34" y="314"/>
                    </a:lnTo>
                    <a:lnTo>
                      <a:pt x="27" y="340"/>
                    </a:lnTo>
                    <a:lnTo>
                      <a:pt x="22" y="367"/>
                    </a:lnTo>
                    <a:lnTo>
                      <a:pt x="16" y="394"/>
                    </a:lnTo>
                    <a:lnTo>
                      <a:pt x="13" y="422"/>
                    </a:lnTo>
                    <a:lnTo>
                      <a:pt x="9" y="450"/>
                    </a:lnTo>
                    <a:lnTo>
                      <a:pt x="5" y="479"/>
                    </a:lnTo>
                    <a:lnTo>
                      <a:pt x="3" y="509"/>
                    </a:lnTo>
                    <a:lnTo>
                      <a:pt x="2" y="538"/>
                    </a:lnTo>
                    <a:lnTo>
                      <a:pt x="1" y="570"/>
                    </a:lnTo>
                    <a:lnTo>
                      <a:pt x="0" y="600"/>
                    </a:lnTo>
                    <a:lnTo>
                      <a:pt x="1" y="648"/>
                    </a:lnTo>
                    <a:lnTo>
                      <a:pt x="3" y="693"/>
                    </a:lnTo>
                    <a:lnTo>
                      <a:pt x="8" y="737"/>
                    </a:lnTo>
                    <a:lnTo>
                      <a:pt x="13" y="780"/>
                    </a:lnTo>
                    <a:lnTo>
                      <a:pt x="19" y="822"/>
                    </a:lnTo>
                    <a:lnTo>
                      <a:pt x="27" y="864"/>
                    </a:lnTo>
                    <a:lnTo>
                      <a:pt x="37" y="901"/>
                    </a:lnTo>
                    <a:lnTo>
                      <a:pt x="48" y="939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6504120" y="5133960"/>
                <a:ext cx="118800" cy="171360"/>
              </a:xfrm>
              <a:custGeom>
                <a:avLst/>
                <a:gdLst/>
                <a:ahLst/>
                <a:rect l="l" t="t" r="r" b="b"/>
                <a:pathLst>
                  <a:path w="372" h="542">
                    <a:moveTo>
                      <a:pt x="143" y="0"/>
                    </a:moveTo>
                    <a:lnTo>
                      <a:pt x="150" y="10"/>
                    </a:lnTo>
                    <a:lnTo>
                      <a:pt x="171" y="37"/>
                    </a:lnTo>
                    <a:lnTo>
                      <a:pt x="200" y="76"/>
                    </a:lnTo>
                    <a:lnTo>
                      <a:pt x="234" y="122"/>
                    </a:lnTo>
                    <a:lnTo>
                      <a:pt x="271" y="170"/>
                    </a:lnTo>
                    <a:lnTo>
                      <a:pt x="307" y="214"/>
                    </a:lnTo>
                    <a:lnTo>
                      <a:pt x="337" y="251"/>
                    </a:lnTo>
                    <a:lnTo>
                      <a:pt x="358" y="274"/>
                    </a:lnTo>
                    <a:lnTo>
                      <a:pt x="362" y="279"/>
                    </a:lnTo>
                    <a:lnTo>
                      <a:pt x="364" y="283"/>
                    </a:lnTo>
                    <a:lnTo>
                      <a:pt x="367" y="288"/>
                    </a:lnTo>
                    <a:lnTo>
                      <a:pt x="368" y="295"/>
                    </a:lnTo>
                    <a:lnTo>
                      <a:pt x="372" y="308"/>
                    </a:lnTo>
                    <a:lnTo>
                      <a:pt x="372" y="322"/>
                    </a:lnTo>
                    <a:lnTo>
                      <a:pt x="372" y="337"/>
                    </a:lnTo>
                    <a:lnTo>
                      <a:pt x="368" y="353"/>
                    </a:lnTo>
                    <a:lnTo>
                      <a:pt x="364" y="371"/>
                    </a:lnTo>
                    <a:lnTo>
                      <a:pt x="360" y="388"/>
                    </a:lnTo>
                    <a:lnTo>
                      <a:pt x="352" y="405"/>
                    </a:lnTo>
                    <a:lnTo>
                      <a:pt x="345" y="422"/>
                    </a:lnTo>
                    <a:lnTo>
                      <a:pt x="336" y="440"/>
                    </a:lnTo>
                    <a:lnTo>
                      <a:pt x="326" y="456"/>
                    </a:lnTo>
                    <a:lnTo>
                      <a:pt x="315" y="471"/>
                    </a:lnTo>
                    <a:lnTo>
                      <a:pt x="304" y="484"/>
                    </a:lnTo>
                    <a:lnTo>
                      <a:pt x="292" y="497"/>
                    </a:lnTo>
                    <a:lnTo>
                      <a:pt x="279" y="507"/>
                    </a:lnTo>
                    <a:lnTo>
                      <a:pt x="266" y="516"/>
                    </a:lnTo>
                    <a:lnTo>
                      <a:pt x="252" y="525"/>
                    </a:lnTo>
                    <a:lnTo>
                      <a:pt x="237" y="531"/>
                    </a:lnTo>
                    <a:lnTo>
                      <a:pt x="221" y="538"/>
                    </a:lnTo>
                    <a:lnTo>
                      <a:pt x="213" y="540"/>
                    </a:lnTo>
                    <a:lnTo>
                      <a:pt x="205" y="541"/>
                    </a:lnTo>
                    <a:lnTo>
                      <a:pt x="197" y="542"/>
                    </a:lnTo>
                    <a:lnTo>
                      <a:pt x="188" y="542"/>
                    </a:lnTo>
                    <a:lnTo>
                      <a:pt x="179" y="542"/>
                    </a:lnTo>
                    <a:lnTo>
                      <a:pt x="171" y="541"/>
                    </a:lnTo>
                    <a:lnTo>
                      <a:pt x="161" y="539"/>
                    </a:lnTo>
                    <a:lnTo>
                      <a:pt x="152" y="537"/>
                    </a:lnTo>
                    <a:lnTo>
                      <a:pt x="143" y="534"/>
                    </a:lnTo>
                    <a:lnTo>
                      <a:pt x="134" y="529"/>
                    </a:lnTo>
                    <a:lnTo>
                      <a:pt x="124" y="524"/>
                    </a:lnTo>
                    <a:lnTo>
                      <a:pt x="114" y="517"/>
                    </a:lnTo>
                    <a:lnTo>
                      <a:pt x="105" y="510"/>
                    </a:lnTo>
                    <a:lnTo>
                      <a:pt x="96" y="502"/>
                    </a:lnTo>
                    <a:lnTo>
                      <a:pt x="86" y="493"/>
                    </a:lnTo>
                    <a:lnTo>
                      <a:pt x="77" y="482"/>
                    </a:lnTo>
                    <a:lnTo>
                      <a:pt x="67" y="470"/>
                    </a:lnTo>
                    <a:lnTo>
                      <a:pt x="57" y="457"/>
                    </a:lnTo>
                    <a:lnTo>
                      <a:pt x="47" y="443"/>
                    </a:lnTo>
                    <a:lnTo>
                      <a:pt x="38" y="428"/>
                    </a:lnTo>
                    <a:lnTo>
                      <a:pt x="28" y="411"/>
                    </a:lnTo>
                    <a:lnTo>
                      <a:pt x="18" y="392"/>
                    </a:lnTo>
                    <a:lnTo>
                      <a:pt x="9" y="373"/>
                    </a:lnTo>
                    <a:lnTo>
                      <a:pt x="0" y="351"/>
                    </a:lnTo>
                    <a:lnTo>
                      <a:pt x="2" y="338"/>
                    </a:lnTo>
                    <a:lnTo>
                      <a:pt x="9" y="304"/>
                    </a:lnTo>
                    <a:lnTo>
                      <a:pt x="17" y="255"/>
                    </a:lnTo>
                    <a:lnTo>
                      <a:pt x="28" y="199"/>
                    </a:lnTo>
                    <a:lnTo>
                      <a:pt x="39" y="142"/>
                    </a:lnTo>
                    <a:lnTo>
                      <a:pt x="47" y="92"/>
                    </a:lnTo>
                    <a:lnTo>
                      <a:pt x="54" y="54"/>
                    </a:lnTo>
                    <a:lnTo>
                      <a:pt x="56" y="37"/>
                    </a:lnTo>
                    <a:lnTo>
                      <a:pt x="57" y="35"/>
                    </a:lnTo>
                    <a:lnTo>
                      <a:pt x="60" y="31"/>
                    </a:lnTo>
                    <a:lnTo>
                      <a:pt x="65" y="28"/>
                    </a:lnTo>
                    <a:lnTo>
                      <a:pt x="70" y="25"/>
                    </a:lnTo>
                    <a:lnTo>
                      <a:pt x="84" y="20"/>
                    </a:lnTo>
                    <a:lnTo>
                      <a:pt x="99" y="13"/>
                    </a:lnTo>
                    <a:lnTo>
                      <a:pt x="116" y="8"/>
                    </a:lnTo>
                    <a:lnTo>
                      <a:pt x="130" y="4"/>
                    </a:lnTo>
                    <a:lnTo>
                      <a:pt x="139" y="1"/>
                    </a:lnTo>
                    <a:lnTo>
                      <a:pt x="143" y="0"/>
                    </a:lnTo>
                    <a:close/>
                  </a:path>
                </a:pathLst>
              </a:custGeom>
              <a:solidFill>
                <a:srgbClr val="969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6556320" y="4935600"/>
                <a:ext cx="66600" cy="171360"/>
              </a:xfrm>
              <a:custGeom>
                <a:avLst/>
                <a:gdLst/>
                <a:ahLst/>
                <a:rect l="l" t="t" r="r" b="b"/>
                <a:pathLst>
                  <a:path w="213" h="539">
                    <a:moveTo>
                      <a:pt x="13" y="539"/>
                    </a:moveTo>
                    <a:lnTo>
                      <a:pt x="213" y="193"/>
                    </a:lnTo>
                    <a:lnTo>
                      <a:pt x="211" y="186"/>
                    </a:lnTo>
                    <a:lnTo>
                      <a:pt x="204" y="166"/>
                    </a:lnTo>
                    <a:lnTo>
                      <a:pt x="199" y="153"/>
                    </a:lnTo>
                    <a:lnTo>
                      <a:pt x="192" y="138"/>
                    </a:lnTo>
                    <a:lnTo>
                      <a:pt x="185" y="122"/>
                    </a:lnTo>
                    <a:lnTo>
                      <a:pt x="176" y="105"/>
                    </a:lnTo>
                    <a:lnTo>
                      <a:pt x="166" y="89"/>
                    </a:lnTo>
                    <a:lnTo>
                      <a:pt x="154" y="71"/>
                    </a:lnTo>
                    <a:lnTo>
                      <a:pt x="143" y="55"/>
                    </a:lnTo>
                    <a:lnTo>
                      <a:pt x="129" y="40"/>
                    </a:lnTo>
                    <a:lnTo>
                      <a:pt x="121" y="32"/>
                    </a:lnTo>
                    <a:lnTo>
                      <a:pt x="115" y="26"/>
                    </a:lnTo>
                    <a:lnTo>
                      <a:pt x="106" y="20"/>
                    </a:lnTo>
                    <a:lnTo>
                      <a:pt x="98" y="15"/>
                    </a:lnTo>
                    <a:lnTo>
                      <a:pt x="90" y="11"/>
                    </a:lnTo>
                    <a:lnTo>
                      <a:pt x="81" y="6"/>
                    </a:lnTo>
                    <a:lnTo>
                      <a:pt x="71" y="3"/>
                    </a:lnTo>
                    <a:lnTo>
                      <a:pt x="63" y="0"/>
                    </a:lnTo>
                    <a:lnTo>
                      <a:pt x="53" y="0"/>
                    </a:lnTo>
                    <a:lnTo>
                      <a:pt x="45" y="3"/>
                    </a:lnTo>
                    <a:lnTo>
                      <a:pt x="38" y="9"/>
                    </a:lnTo>
                    <a:lnTo>
                      <a:pt x="31" y="17"/>
                    </a:lnTo>
                    <a:lnTo>
                      <a:pt x="25" y="28"/>
                    </a:lnTo>
                    <a:lnTo>
                      <a:pt x="21" y="42"/>
                    </a:lnTo>
                    <a:lnTo>
                      <a:pt x="16" y="57"/>
                    </a:lnTo>
                    <a:lnTo>
                      <a:pt x="12" y="76"/>
                    </a:lnTo>
                    <a:lnTo>
                      <a:pt x="9" y="95"/>
                    </a:lnTo>
                    <a:lnTo>
                      <a:pt x="6" y="116"/>
                    </a:lnTo>
                    <a:lnTo>
                      <a:pt x="4" y="138"/>
                    </a:lnTo>
                    <a:lnTo>
                      <a:pt x="2" y="161"/>
                    </a:lnTo>
                    <a:lnTo>
                      <a:pt x="0" y="211"/>
                    </a:lnTo>
                    <a:lnTo>
                      <a:pt x="0" y="261"/>
                    </a:lnTo>
                    <a:lnTo>
                      <a:pt x="0" y="313"/>
                    </a:lnTo>
                    <a:lnTo>
                      <a:pt x="2" y="363"/>
                    </a:lnTo>
                    <a:lnTo>
                      <a:pt x="4" y="409"/>
                    </a:lnTo>
                    <a:lnTo>
                      <a:pt x="6" y="451"/>
                    </a:lnTo>
                    <a:lnTo>
                      <a:pt x="11" y="515"/>
                    </a:lnTo>
                    <a:lnTo>
                      <a:pt x="13" y="539"/>
                    </a:lnTo>
                    <a:close/>
                  </a:path>
                </a:pathLst>
              </a:custGeom>
              <a:solidFill>
                <a:srgbClr val="969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6551640" y="5062680"/>
                <a:ext cx="92160" cy="90360"/>
              </a:xfrm>
              <a:custGeom>
                <a:avLst/>
                <a:gdLst/>
                <a:ahLst/>
                <a:rect l="l" t="t" r="r" b="b"/>
                <a:pathLst>
                  <a:path w="290" h="286">
                    <a:moveTo>
                      <a:pt x="15" y="156"/>
                    </a:moveTo>
                    <a:lnTo>
                      <a:pt x="23" y="151"/>
                    </a:lnTo>
                    <a:lnTo>
                      <a:pt x="41" y="137"/>
                    </a:lnTo>
                    <a:lnTo>
                      <a:pt x="70" y="115"/>
                    </a:lnTo>
                    <a:lnTo>
                      <a:pt x="104" y="91"/>
                    </a:lnTo>
                    <a:lnTo>
                      <a:pt x="139" y="65"/>
                    </a:lnTo>
                    <a:lnTo>
                      <a:pt x="174" y="40"/>
                    </a:lnTo>
                    <a:lnTo>
                      <a:pt x="203" y="20"/>
                    </a:lnTo>
                    <a:lnTo>
                      <a:pt x="225" y="5"/>
                    </a:lnTo>
                    <a:lnTo>
                      <a:pt x="229" y="3"/>
                    </a:lnTo>
                    <a:lnTo>
                      <a:pt x="233" y="2"/>
                    </a:lnTo>
                    <a:lnTo>
                      <a:pt x="238" y="0"/>
                    </a:lnTo>
                    <a:lnTo>
                      <a:pt x="242" y="0"/>
                    </a:lnTo>
                    <a:lnTo>
                      <a:pt x="245" y="2"/>
                    </a:lnTo>
                    <a:lnTo>
                      <a:pt x="249" y="3"/>
                    </a:lnTo>
                    <a:lnTo>
                      <a:pt x="253" y="5"/>
                    </a:lnTo>
                    <a:lnTo>
                      <a:pt x="256" y="7"/>
                    </a:lnTo>
                    <a:lnTo>
                      <a:pt x="262" y="13"/>
                    </a:lnTo>
                    <a:lnTo>
                      <a:pt x="268" y="22"/>
                    </a:lnTo>
                    <a:lnTo>
                      <a:pt x="272" y="32"/>
                    </a:lnTo>
                    <a:lnTo>
                      <a:pt x="277" y="44"/>
                    </a:lnTo>
                    <a:lnTo>
                      <a:pt x="281" y="57"/>
                    </a:lnTo>
                    <a:lnTo>
                      <a:pt x="284" y="71"/>
                    </a:lnTo>
                    <a:lnTo>
                      <a:pt x="286" y="87"/>
                    </a:lnTo>
                    <a:lnTo>
                      <a:pt x="289" y="103"/>
                    </a:lnTo>
                    <a:lnTo>
                      <a:pt x="290" y="119"/>
                    </a:lnTo>
                    <a:lnTo>
                      <a:pt x="290" y="137"/>
                    </a:lnTo>
                    <a:lnTo>
                      <a:pt x="290" y="154"/>
                    </a:lnTo>
                    <a:lnTo>
                      <a:pt x="290" y="171"/>
                    </a:lnTo>
                    <a:lnTo>
                      <a:pt x="287" y="204"/>
                    </a:lnTo>
                    <a:lnTo>
                      <a:pt x="285" y="232"/>
                    </a:lnTo>
                    <a:lnTo>
                      <a:pt x="283" y="245"/>
                    </a:lnTo>
                    <a:lnTo>
                      <a:pt x="280" y="255"/>
                    </a:lnTo>
                    <a:lnTo>
                      <a:pt x="277" y="265"/>
                    </a:lnTo>
                    <a:lnTo>
                      <a:pt x="271" y="273"/>
                    </a:lnTo>
                    <a:lnTo>
                      <a:pt x="268" y="277"/>
                    </a:lnTo>
                    <a:lnTo>
                      <a:pt x="264" y="279"/>
                    </a:lnTo>
                    <a:lnTo>
                      <a:pt x="260" y="281"/>
                    </a:lnTo>
                    <a:lnTo>
                      <a:pt x="256" y="283"/>
                    </a:lnTo>
                    <a:lnTo>
                      <a:pt x="251" y="285"/>
                    </a:lnTo>
                    <a:lnTo>
                      <a:pt x="245" y="286"/>
                    </a:lnTo>
                    <a:lnTo>
                      <a:pt x="239" y="286"/>
                    </a:lnTo>
                    <a:lnTo>
                      <a:pt x="232" y="286"/>
                    </a:lnTo>
                    <a:lnTo>
                      <a:pt x="217" y="283"/>
                    </a:lnTo>
                    <a:lnTo>
                      <a:pt x="200" y="279"/>
                    </a:lnTo>
                    <a:lnTo>
                      <a:pt x="179" y="272"/>
                    </a:lnTo>
                    <a:lnTo>
                      <a:pt x="156" y="262"/>
                    </a:lnTo>
                    <a:lnTo>
                      <a:pt x="111" y="242"/>
                    </a:lnTo>
                    <a:lnTo>
                      <a:pt x="77" y="227"/>
                    </a:lnTo>
                    <a:lnTo>
                      <a:pt x="49" y="215"/>
                    </a:lnTo>
                    <a:lnTo>
                      <a:pt x="29" y="208"/>
                    </a:lnTo>
                    <a:lnTo>
                      <a:pt x="15" y="202"/>
                    </a:lnTo>
                    <a:lnTo>
                      <a:pt x="7" y="199"/>
                    </a:lnTo>
                    <a:lnTo>
                      <a:pt x="1" y="198"/>
                    </a:lnTo>
                    <a:lnTo>
                      <a:pt x="0" y="198"/>
                    </a:lnTo>
                    <a:lnTo>
                      <a:pt x="15" y="156"/>
                    </a:lnTo>
                    <a:close/>
                  </a:path>
                </a:pathLst>
              </a:custGeom>
              <a:solidFill>
                <a:srgbClr val="969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6510240" y="5133960"/>
                <a:ext cx="106560" cy="169920"/>
              </a:xfrm>
              <a:custGeom>
                <a:avLst/>
                <a:gdLst/>
                <a:ahLst/>
                <a:rect l="l" t="t" r="r" b="b"/>
                <a:pathLst>
                  <a:path w="332" h="533">
                    <a:moveTo>
                      <a:pt x="317" y="290"/>
                    </a:moveTo>
                    <a:lnTo>
                      <a:pt x="320" y="294"/>
                    </a:lnTo>
                    <a:lnTo>
                      <a:pt x="323" y="298"/>
                    </a:lnTo>
                    <a:lnTo>
                      <a:pt x="327" y="304"/>
                    </a:lnTo>
                    <a:lnTo>
                      <a:pt x="329" y="309"/>
                    </a:lnTo>
                    <a:lnTo>
                      <a:pt x="331" y="321"/>
                    </a:lnTo>
                    <a:lnTo>
                      <a:pt x="332" y="334"/>
                    </a:lnTo>
                    <a:lnTo>
                      <a:pt x="332" y="349"/>
                    </a:lnTo>
                    <a:lnTo>
                      <a:pt x="330" y="364"/>
                    </a:lnTo>
                    <a:lnTo>
                      <a:pt x="326" y="380"/>
                    </a:lnTo>
                    <a:lnTo>
                      <a:pt x="321" y="397"/>
                    </a:lnTo>
                    <a:lnTo>
                      <a:pt x="315" y="413"/>
                    </a:lnTo>
                    <a:lnTo>
                      <a:pt x="307" y="429"/>
                    </a:lnTo>
                    <a:lnTo>
                      <a:pt x="300" y="445"/>
                    </a:lnTo>
                    <a:lnTo>
                      <a:pt x="290" y="460"/>
                    </a:lnTo>
                    <a:lnTo>
                      <a:pt x="280" y="474"/>
                    </a:lnTo>
                    <a:lnTo>
                      <a:pt x="269" y="487"/>
                    </a:lnTo>
                    <a:lnTo>
                      <a:pt x="259" y="498"/>
                    </a:lnTo>
                    <a:lnTo>
                      <a:pt x="248" y="508"/>
                    </a:lnTo>
                    <a:lnTo>
                      <a:pt x="236" y="515"/>
                    </a:lnTo>
                    <a:lnTo>
                      <a:pt x="223" y="522"/>
                    </a:lnTo>
                    <a:lnTo>
                      <a:pt x="209" y="527"/>
                    </a:lnTo>
                    <a:lnTo>
                      <a:pt x="195" y="531"/>
                    </a:lnTo>
                    <a:lnTo>
                      <a:pt x="180" y="533"/>
                    </a:lnTo>
                    <a:lnTo>
                      <a:pt x="165" y="533"/>
                    </a:lnTo>
                    <a:lnTo>
                      <a:pt x="156" y="532"/>
                    </a:lnTo>
                    <a:lnTo>
                      <a:pt x="148" y="531"/>
                    </a:lnTo>
                    <a:lnTo>
                      <a:pt x="141" y="528"/>
                    </a:lnTo>
                    <a:lnTo>
                      <a:pt x="132" y="525"/>
                    </a:lnTo>
                    <a:lnTo>
                      <a:pt x="124" y="522"/>
                    </a:lnTo>
                    <a:lnTo>
                      <a:pt x="116" y="518"/>
                    </a:lnTo>
                    <a:lnTo>
                      <a:pt x="107" y="512"/>
                    </a:lnTo>
                    <a:lnTo>
                      <a:pt x="99" y="507"/>
                    </a:lnTo>
                    <a:lnTo>
                      <a:pt x="91" y="500"/>
                    </a:lnTo>
                    <a:lnTo>
                      <a:pt x="83" y="492"/>
                    </a:lnTo>
                    <a:lnTo>
                      <a:pt x="74" y="483"/>
                    </a:lnTo>
                    <a:lnTo>
                      <a:pt x="65" y="473"/>
                    </a:lnTo>
                    <a:lnTo>
                      <a:pt x="58" y="463"/>
                    </a:lnTo>
                    <a:lnTo>
                      <a:pt x="49" y="452"/>
                    </a:lnTo>
                    <a:lnTo>
                      <a:pt x="40" y="439"/>
                    </a:lnTo>
                    <a:lnTo>
                      <a:pt x="33" y="425"/>
                    </a:lnTo>
                    <a:lnTo>
                      <a:pt x="24" y="410"/>
                    </a:lnTo>
                    <a:lnTo>
                      <a:pt x="17" y="393"/>
                    </a:lnTo>
                    <a:lnTo>
                      <a:pt x="8" y="375"/>
                    </a:lnTo>
                    <a:lnTo>
                      <a:pt x="0" y="357"/>
                    </a:lnTo>
                    <a:lnTo>
                      <a:pt x="3" y="344"/>
                    </a:lnTo>
                    <a:lnTo>
                      <a:pt x="7" y="308"/>
                    </a:lnTo>
                    <a:lnTo>
                      <a:pt x="14" y="258"/>
                    </a:lnTo>
                    <a:lnTo>
                      <a:pt x="22" y="200"/>
                    </a:lnTo>
                    <a:lnTo>
                      <a:pt x="31" y="142"/>
                    </a:lnTo>
                    <a:lnTo>
                      <a:pt x="38" y="90"/>
                    </a:lnTo>
                    <a:lnTo>
                      <a:pt x="43" y="51"/>
                    </a:lnTo>
                    <a:lnTo>
                      <a:pt x="45" y="33"/>
                    </a:lnTo>
                    <a:lnTo>
                      <a:pt x="46" y="31"/>
                    </a:lnTo>
                    <a:lnTo>
                      <a:pt x="48" y="28"/>
                    </a:lnTo>
                    <a:lnTo>
                      <a:pt x="51" y="25"/>
                    </a:lnTo>
                    <a:lnTo>
                      <a:pt x="57" y="23"/>
                    </a:lnTo>
                    <a:lnTo>
                      <a:pt x="68" y="18"/>
                    </a:lnTo>
                    <a:lnTo>
                      <a:pt x="81" y="12"/>
                    </a:lnTo>
                    <a:lnTo>
                      <a:pt x="95" y="8"/>
                    </a:lnTo>
                    <a:lnTo>
                      <a:pt x="107" y="4"/>
                    </a:lnTo>
                    <a:lnTo>
                      <a:pt x="116" y="1"/>
                    </a:lnTo>
                    <a:lnTo>
                      <a:pt x="119" y="0"/>
                    </a:lnTo>
                    <a:lnTo>
                      <a:pt x="126" y="11"/>
                    </a:lnTo>
                    <a:lnTo>
                      <a:pt x="144" y="40"/>
                    </a:lnTo>
                    <a:lnTo>
                      <a:pt x="171" y="81"/>
                    </a:lnTo>
                    <a:lnTo>
                      <a:pt x="203" y="130"/>
                    </a:lnTo>
                    <a:lnTo>
                      <a:pt x="237" y="180"/>
                    </a:lnTo>
                    <a:lnTo>
                      <a:pt x="269" y="227"/>
                    </a:lnTo>
                    <a:lnTo>
                      <a:pt x="296" y="265"/>
                    </a:lnTo>
                    <a:lnTo>
                      <a:pt x="317" y="290"/>
                    </a:lnTo>
                    <a:close/>
                  </a:path>
                </a:pathLst>
              </a:custGeom>
              <a:solidFill>
                <a:srgbClr val="9e9d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6516720" y="5135760"/>
                <a:ext cx="93600" cy="164880"/>
              </a:xfrm>
              <a:custGeom>
                <a:avLst/>
                <a:gdLst/>
                <a:ahLst/>
                <a:rect l="l" t="t" r="r" b="b"/>
                <a:pathLst>
                  <a:path w="294" h="521">
                    <a:moveTo>
                      <a:pt x="278" y="299"/>
                    </a:moveTo>
                    <a:lnTo>
                      <a:pt x="283" y="303"/>
                    </a:lnTo>
                    <a:lnTo>
                      <a:pt x="285" y="307"/>
                    </a:lnTo>
                    <a:lnTo>
                      <a:pt x="288" y="313"/>
                    </a:lnTo>
                    <a:lnTo>
                      <a:pt x="290" y="318"/>
                    </a:lnTo>
                    <a:lnTo>
                      <a:pt x="292" y="330"/>
                    </a:lnTo>
                    <a:lnTo>
                      <a:pt x="294" y="343"/>
                    </a:lnTo>
                    <a:lnTo>
                      <a:pt x="294" y="357"/>
                    </a:lnTo>
                    <a:lnTo>
                      <a:pt x="291" y="371"/>
                    </a:lnTo>
                    <a:lnTo>
                      <a:pt x="288" y="386"/>
                    </a:lnTo>
                    <a:lnTo>
                      <a:pt x="284" y="401"/>
                    </a:lnTo>
                    <a:lnTo>
                      <a:pt x="278" y="418"/>
                    </a:lnTo>
                    <a:lnTo>
                      <a:pt x="272" y="432"/>
                    </a:lnTo>
                    <a:lnTo>
                      <a:pt x="264" y="447"/>
                    </a:lnTo>
                    <a:lnTo>
                      <a:pt x="257" y="460"/>
                    </a:lnTo>
                    <a:lnTo>
                      <a:pt x="247" y="473"/>
                    </a:lnTo>
                    <a:lnTo>
                      <a:pt x="237" y="484"/>
                    </a:lnTo>
                    <a:lnTo>
                      <a:pt x="228" y="493"/>
                    </a:lnTo>
                    <a:lnTo>
                      <a:pt x="217" y="502"/>
                    </a:lnTo>
                    <a:lnTo>
                      <a:pt x="206" y="508"/>
                    </a:lnTo>
                    <a:lnTo>
                      <a:pt x="195" y="514"/>
                    </a:lnTo>
                    <a:lnTo>
                      <a:pt x="182" y="517"/>
                    </a:lnTo>
                    <a:lnTo>
                      <a:pt x="170" y="520"/>
                    </a:lnTo>
                    <a:lnTo>
                      <a:pt x="156" y="521"/>
                    </a:lnTo>
                    <a:lnTo>
                      <a:pt x="142" y="520"/>
                    </a:lnTo>
                    <a:lnTo>
                      <a:pt x="136" y="519"/>
                    </a:lnTo>
                    <a:lnTo>
                      <a:pt x="128" y="517"/>
                    </a:lnTo>
                    <a:lnTo>
                      <a:pt x="121" y="515"/>
                    </a:lnTo>
                    <a:lnTo>
                      <a:pt x="114" y="512"/>
                    </a:lnTo>
                    <a:lnTo>
                      <a:pt x="107" y="507"/>
                    </a:lnTo>
                    <a:lnTo>
                      <a:pt x="99" y="503"/>
                    </a:lnTo>
                    <a:lnTo>
                      <a:pt x="92" y="499"/>
                    </a:lnTo>
                    <a:lnTo>
                      <a:pt x="84" y="492"/>
                    </a:lnTo>
                    <a:lnTo>
                      <a:pt x="77" y="486"/>
                    </a:lnTo>
                    <a:lnTo>
                      <a:pt x="70" y="479"/>
                    </a:lnTo>
                    <a:lnTo>
                      <a:pt x="62" y="471"/>
                    </a:lnTo>
                    <a:lnTo>
                      <a:pt x="55" y="462"/>
                    </a:lnTo>
                    <a:lnTo>
                      <a:pt x="48" y="452"/>
                    </a:lnTo>
                    <a:lnTo>
                      <a:pt x="41" y="441"/>
                    </a:lnTo>
                    <a:lnTo>
                      <a:pt x="33" y="430"/>
                    </a:lnTo>
                    <a:lnTo>
                      <a:pt x="27" y="418"/>
                    </a:lnTo>
                    <a:lnTo>
                      <a:pt x="13" y="390"/>
                    </a:lnTo>
                    <a:lnTo>
                      <a:pt x="0" y="358"/>
                    </a:lnTo>
                    <a:lnTo>
                      <a:pt x="1" y="344"/>
                    </a:lnTo>
                    <a:lnTo>
                      <a:pt x="5" y="309"/>
                    </a:lnTo>
                    <a:lnTo>
                      <a:pt x="12" y="257"/>
                    </a:lnTo>
                    <a:lnTo>
                      <a:pt x="18" y="197"/>
                    </a:lnTo>
                    <a:lnTo>
                      <a:pt x="25" y="137"/>
                    </a:lnTo>
                    <a:lnTo>
                      <a:pt x="31" y="84"/>
                    </a:lnTo>
                    <a:lnTo>
                      <a:pt x="35" y="45"/>
                    </a:lnTo>
                    <a:lnTo>
                      <a:pt x="36" y="27"/>
                    </a:lnTo>
                    <a:lnTo>
                      <a:pt x="38" y="25"/>
                    </a:lnTo>
                    <a:lnTo>
                      <a:pt x="39" y="21"/>
                    </a:lnTo>
                    <a:lnTo>
                      <a:pt x="42" y="19"/>
                    </a:lnTo>
                    <a:lnTo>
                      <a:pt x="45" y="16"/>
                    </a:lnTo>
                    <a:lnTo>
                      <a:pt x="55" y="12"/>
                    </a:lnTo>
                    <a:lnTo>
                      <a:pt x="66" y="7"/>
                    </a:lnTo>
                    <a:lnTo>
                      <a:pt x="75" y="4"/>
                    </a:lnTo>
                    <a:lnTo>
                      <a:pt x="85" y="2"/>
                    </a:lnTo>
                    <a:lnTo>
                      <a:pt x="92" y="0"/>
                    </a:lnTo>
                    <a:lnTo>
                      <a:pt x="94" y="0"/>
                    </a:lnTo>
                    <a:lnTo>
                      <a:pt x="100" y="10"/>
                    </a:lnTo>
                    <a:lnTo>
                      <a:pt x="116" y="41"/>
                    </a:lnTo>
                    <a:lnTo>
                      <a:pt x="141" y="84"/>
                    </a:lnTo>
                    <a:lnTo>
                      <a:pt x="170" y="135"/>
                    </a:lnTo>
                    <a:lnTo>
                      <a:pt x="202" y="187"/>
                    </a:lnTo>
                    <a:lnTo>
                      <a:pt x="232" y="235"/>
                    </a:lnTo>
                    <a:lnTo>
                      <a:pt x="246" y="257"/>
                    </a:lnTo>
                    <a:lnTo>
                      <a:pt x="259" y="274"/>
                    </a:lnTo>
                    <a:lnTo>
                      <a:pt x="270" y="289"/>
                    </a:lnTo>
                    <a:lnTo>
                      <a:pt x="278" y="299"/>
                    </a:lnTo>
                    <a:close/>
                  </a:path>
                </a:pathLst>
              </a:custGeom>
              <a:solidFill>
                <a:srgbClr val="a4a3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6522840" y="5137200"/>
                <a:ext cx="79560" cy="162000"/>
              </a:xfrm>
              <a:custGeom>
                <a:avLst/>
                <a:gdLst/>
                <a:ahLst/>
                <a:rect l="l" t="t" r="r" b="b"/>
                <a:pathLst>
                  <a:path w="254" h="512">
                    <a:moveTo>
                      <a:pt x="238" y="314"/>
                    </a:moveTo>
                    <a:lnTo>
                      <a:pt x="241" y="318"/>
                    </a:lnTo>
                    <a:lnTo>
                      <a:pt x="244" y="323"/>
                    </a:lnTo>
                    <a:lnTo>
                      <a:pt x="248" y="328"/>
                    </a:lnTo>
                    <a:lnTo>
                      <a:pt x="250" y="332"/>
                    </a:lnTo>
                    <a:lnTo>
                      <a:pt x="253" y="344"/>
                    </a:lnTo>
                    <a:lnTo>
                      <a:pt x="254" y="356"/>
                    </a:lnTo>
                    <a:lnTo>
                      <a:pt x="254" y="369"/>
                    </a:lnTo>
                    <a:lnTo>
                      <a:pt x="253" y="383"/>
                    </a:lnTo>
                    <a:lnTo>
                      <a:pt x="250" y="397"/>
                    </a:lnTo>
                    <a:lnTo>
                      <a:pt x="246" y="411"/>
                    </a:lnTo>
                    <a:lnTo>
                      <a:pt x="241" y="425"/>
                    </a:lnTo>
                    <a:lnTo>
                      <a:pt x="235" y="438"/>
                    </a:lnTo>
                    <a:lnTo>
                      <a:pt x="228" y="451"/>
                    </a:lnTo>
                    <a:lnTo>
                      <a:pt x="221" y="464"/>
                    </a:lnTo>
                    <a:lnTo>
                      <a:pt x="213" y="475"/>
                    </a:lnTo>
                    <a:lnTo>
                      <a:pt x="204" y="485"/>
                    </a:lnTo>
                    <a:lnTo>
                      <a:pt x="195" y="493"/>
                    </a:lnTo>
                    <a:lnTo>
                      <a:pt x="186" y="500"/>
                    </a:lnTo>
                    <a:lnTo>
                      <a:pt x="176" y="504"/>
                    </a:lnTo>
                    <a:lnTo>
                      <a:pt x="166" y="509"/>
                    </a:lnTo>
                    <a:lnTo>
                      <a:pt x="156" y="511"/>
                    </a:lnTo>
                    <a:lnTo>
                      <a:pt x="144" y="512"/>
                    </a:lnTo>
                    <a:lnTo>
                      <a:pt x="132" y="512"/>
                    </a:lnTo>
                    <a:lnTo>
                      <a:pt x="119" y="510"/>
                    </a:lnTo>
                    <a:lnTo>
                      <a:pt x="107" y="506"/>
                    </a:lnTo>
                    <a:lnTo>
                      <a:pt x="94" y="500"/>
                    </a:lnTo>
                    <a:lnTo>
                      <a:pt x="81" y="492"/>
                    </a:lnTo>
                    <a:lnTo>
                      <a:pt x="68" y="482"/>
                    </a:lnTo>
                    <a:lnTo>
                      <a:pt x="55" y="469"/>
                    </a:lnTo>
                    <a:lnTo>
                      <a:pt x="43" y="453"/>
                    </a:lnTo>
                    <a:lnTo>
                      <a:pt x="31" y="435"/>
                    </a:lnTo>
                    <a:lnTo>
                      <a:pt x="21" y="415"/>
                    </a:lnTo>
                    <a:lnTo>
                      <a:pt x="10" y="391"/>
                    </a:lnTo>
                    <a:lnTo>
                      <a:pt x="0" y="364"/>
                    </a:lnTo>
                    <a:lnTo>
                      <a:pt x="1" y="350"/>
                    </a:lnTo>
                    <a:lnTo>
                      <a:pt x="4" y="312"/>
                    </a:lnTo>
                    <a:lnTo>
                      <a:pt x="9" y="260"/>
                    </a:lnTo>
                    <a:lnTo>
                      <a:pt x="14" y="199"/>
                    </a:lnTo>
                    <a:lnTo>
                      <a:pt x="19" y="137"/>
                    </a:lnTo>
                    <a:lnTo>
                      <a:pt x="23" y="83"/>
                    </a:lnTo>
                    <a:lnTo>
                      <a:pt x="26" y="43"/>
                    </a:lnTo>
                    <a:lnTo>
                      <a:pt x="27" y="25"/>
                    </a:lnTo>
                    <a:lnTo>
                      <a:pt x="28" y="23"/>
                    </a:lnTo>
                    <a:lnTo>
                      <a:pt x="29" y="19"/>
                    </a:lnTo>
                    <a:lnTo>
                      <a:pt x="31" y="17"/>
                    </a:lnTo>
                    <a:lnTo>
                      <a:pt x="34" y="15"/>
                    </a:lnTo>
                    <a:lnTo>
                      <a:pt x="41" y="11"/>
                    </a:lnTo>
                    <a:lnTo>
                      <a:pt x="49" y="7"/>
                    </a:lnTo>
                    <a:lnTo>
                      <a:pt x="56" y="4"/>
                    </a:lnTo>
                    <a:lnTo>
                      <a:pt x="63" y="2"/>
                    </a:lnTo>
                    <a:lnTo>
                      <a:pt x="68" y="1"/>
                    </a:lnTo>
                    <a:lnTo>
                      <a:pt x="69" y="0"/>
                    </a:lnTo>
                    <a:lnTo>
                      <a:pt x="75" y="12"/>
                    </a:lnTo>
                    <a:lnTo>
                      <a:pt x="90" y="43"/>
                    </a:lnTo>
                    <a:lnTo>
                      <a:pt x="112" y="88"/>
                    </a:lnTo>
                    <a:lnTo>
                      <a:pt x="138" y="141"/>
                    </a:lnTo>
                    <a:lnTo>
                      <a:pt x="168" y="196"/>
                    </a:lnTo>
                    <a:lnTo>
                      <a:pt x="195" y="247"/>
                    </a:lnTo>
                    <a:lnTo>
                      <a:pt x="208" y="270"/>
                    </a:lnTo>
                    <a:lnTo>
                      <a:pt x="219" y="288"/>
                    </a:lnTo>
                    <a:lnTo>
                      <a:pt x="229" y="303"/>
                    </a:lnTo>
                    <a:lnTo>
                      <a:pt x="238" y="314"/>
                    </a:lnTo>
                    <a:close/>
                  </a:path>
                </a:pathLst>
              </a:custGeom>
              <a:solidFill>
                <a:srgbClr val="acab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6527880" y="5138640"/>
                <a:ext cx="68040" cy="160560"/>
              </a:xfrm>
              <a:custGeom>
                <a:avLst/>
                <a:gdLst/>
                <a:ahLst/>
                <a:rect l="l" t="t" r="r" b="b"/>
                <a:pathLst>
                  <a:path w="216" h="505">
                    <a:moveTo>
                      <a:pt x="201" y="326"/>
                    </a:moveTo>
                    <a:lnTo>
                      <a:pt x="205" y="331"/>
                    </a:lnTo>
                    <a:lnTo>
                      <a:pt x="208" y="335"/>
                    </a:lnTo>
                    <a:lnTo>
                      <a:pt x="210" y="339"/>
                    </a:lnTo>
                    <a:lnTo>
                      <a:pt x="212" y="344"/>
                    </a:lnTo>
                    <a:lnTo>
                      <a:pt x="215" y="354"/>
                    </a:lnTo>
                    <a:lnTo>
                      <a:pt x="216" y="366"/>
                    </a:lnTo>
                    <a:lnTo>
                      <a:pt x="216" y="378"/>
                    </a:lnTo>
                    <a:lnTo>
                      <a:pt x="215" y="391"/>
                    </a:lnTo>
                    <a:lnTo>
                      <a:pt x="213" y="404"/>
                    </a:lnTo>
                    <a:lnTo>
                      <a:pt x="209" y="417"/>
                    </a:lnTo>
                    <a:lnTo>
                      <a:pt x="205" y="430"/>
                    </a:lnTo>
                    <a:lnTo>
                      <a:pt x="199" y="443"/>
                    </a:lnTo>
                    <a:lnTo>
                      <a:pt x="194" y="454"/>
                    </a:lnTo>
                    <a:lnTo>
                      <a:pt x="186" y="466"/>
                    </a:lnTo>
                    <a:lnTo>
                      <a:pt x="180" y="475"/>
                    </a:lnTo>
                    <a:lnTo>
                      <a:pt x="172" y="484"/>
                    </a:lnTo>
                    <a:lnTo>
                      <a:pt x="165" y="492"/>
                    </a:lnTo>
                    <a:lnTo>
                      <a:pt x="156" y="497"/>
                    </a:lnTo>
                    <a:lnTo>
                      <a:pt x="148" y="500"/>
                    </a:lnTo>
                    <a:lnTo>
                      <a:pt x="140" y="502"/>
                    </a:lnTo>
                    <a:lnTo>
                      <a:pt x="130" y="505"/>
                    </a:lnTo>
                    <a:lnTo>
                      <a:pt x="120" y="504"/>
                    </a:lnTo>
                    <a:lnTo>
                      <a:pt x="110" y="502"/>
                    </a:lnTo>
                    <a:lnTo>
                      <a:pt x="99" y="499"/>
                    </a:lnTo>
                    <a:lnTo>
                      <a:pt x="88" y="495"/>
                    </a:lnTo>
                    <a:lnTo>
                      <a:pt x="77" y="488"/>
                    </a:lnTo>
                    <a:lnTo>
                      <a:pt x="65" y="480"/>
                    </a:lnTo>
                    <a:lnTo>
                      <a:pt x="54" y="470"/>
                    </a:lnTo>
                    <a:lnTo>
                      <a:pt x="44" y="458"/>
                    </a:lnTo>
                    <a:lnTo>
                      <a:pt x="34" y="444"/>
                    </a:lnTo>
                    <a:lnTo>
                      <a:pt x="24" y="428"/>
                    </a:lnTo>
                    <a:lnTo>
                      <a:pt x="16" y="410"/>
                    </a:lnTo>
                    <a:lnTo>
                      <a:pt x="8" y="389"/>
                    </a:lnTo>
                    <a:lnTo>
                      <a:pt x="0" y="366"/>
                    </a:lnTo>
                    <a:lnTo>
                      <a:pt x="2" y="351"/>
                    </a:lnTo>
                    <a:lnTo>
                      <a:pt x="4" y="313"/>
                    </a:lnTo>
                    <a:lnTo>
                      <a:pt x="6" y="259"/>
                    </a:lnTo>
                    <a:lnTo>
                      <a:pt x="9" y="197"/>
                    </a:lnTo>
                    <a:lnTo>
                      <a:pt x="12" y="134"/>
                    </a:lnTo>
                    <a:lnTo>
                      <a:pt x="16" y="78"/>
                    </a:lnTo>
                    <a:lnTo>
                      <a:pt x="18" y="37"/>
                    </a:lnTo>
                    <a:lnTo>
                      <a:pt x="18" y="18"/>
                    </a:lnTo>
                    <a:lnTo>
                      <a:pt x="19" y="13"/>
                    </a:lnTo>
                    <a:lnTo>
                      <a:pt x="22" y="10"/>
                    </a:lnTo>
                    <a:lnTo>
                      <a:pt x="27" y="7"/>
                    </a:lnTo>
                    <a:lnTo>
                      <a:pt x="33" y="5"/>
                    </a:lnTo>
                    <a:lnTo>
                      <a:pt x="38" y="2"/>
                    </a:lnTo>
                    <a:lnTo>
                      <a:pt x="43" y="1"/>
                    </a:lnTo>
                    <a:lnTo>
                      <a:pt x="46" y="0"/>
                    </a:lnTo>
                    <a:lnTo>
                      <a:pt x="48" y="0"/>
                    </a:lnTo>
                    <a:lnTo>
                      <a:pt x="52" y="12"/>
                    </a:lnTo>
                    <a:lnTo>
                      <a:pt x="65" y="46"/>
                    </a:lnTo>
                    <a:lnTo>
                      <a:pt x="85" y="92"/>
                    </a:lnTo>
                    <a:lnTo>
                      <a:pt x="108" y="147"/>
                    </a:lnTo>
                    <a:lnTo>
                      <a:pt x="134" y="204"/>
                    </a:lnTo>
                    <a:lnTo>
                      <a:pt x="159" y="257"/>
                    </a:lnTo>
                    <a:lnTo>
                      <a:pt x="171" y="281"/>
                    </a:lnTo>
                    <a:lnTo>
                      <a:pt x="182" y="300"/>
                    </a:lnTo>
                    <a:lnTo>
                      <a:pt x="193" y="316"/>
                    </a:lnTo>
                    <a:lnTo>
                      <a:pt x="201" y="326"/>
                    </a:lnTo>
                    <a:close/>
                  </a:path>
                </a:pathLst>
              </a:custGeom>
              <a:solidFill>
                <a:srgbClr val="b5b5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6534000" y="5138640"/>
                <a:ext cx="55800" cy="158760"/>
              </a:xfrm>
              <a:custGeom>
                <a:avLst/>
                <a:gdLst/>
                <a:ahLst/>
                <a:rect l="l" t="t" r="r" b="b"/>
                <a:pathLst>
                  <a:path w="178" h="498">
                    <a:moveTo>
                      <a:pt x="25" y="0"/>
                    </a:moveTo>
                    <a:lnTo>
                      <a:pt x="29" y="13"/>
                    </a:lnTo>
                    <a:lnTo>
                      <a:pt x="41" y="48"/>
                    </a:lnTo>
                    <a:lnTo>
                      <a:pt x="57" y="98"/>
                    </a:lnTo>
                    <a:lnTo>
                      <a:pt x="77" y="155"/>
                    </a:lnTo>
                    <a:lnTo>
                      <a:pt x="100" y="214"/>
                    </a:lnTo>
                    <a:lnTo>
                      <a:pt x="123" y="269"/>
                    </a:lnTo>
                    <a:lnTo>
                      <a:pt x="134" y="293"/>
                    </a:lnTo>
                    <a:lnTo>
                      <a:pt x="143" y="314"/>
                    </a:lnTo>
                    <a:lnTo>
                      <a:pt x="153" y="329"/>
                    </a:lnTo>
                    <a:lnTo>
                      <a:pt x="161" y="340"/>
                    </a:lnTo>
                    <a:lnTo>
                      <a:pt x="167" y="348"/>
                    </a:lnTo>
                    <a:lnTo>
                      <a:pt x="173" y="357"/>
                    </a:lnTo>
                    <a:lnTo>
                      <a:pt x="176" y="368"/>
                    </a:lnTo>
                    <a:lnTo>
                      <a:pt x="178" y="378"/>
                    </a:lnTo>
                    <a:lnTo>
                      <a:pt x="178" y="390"/>
                    </a:lnTo>
                    <a:lnTo>
                      <a:pt x="177" y="402"/>
                    </a:lnTo>
                    <a:lnTo>
                      <a:pt x="175" y="414"/>
                    </a:lnTo>
                    <a:lnTo>
                      <a:pt x="171" y="426"/>
                    </a:lnTo>
                    <a:lnTo>
                      <a:pt x="167" y="438"/>
                    </a:lnTo>
                    <a:lnTo>
                      <a:pt x="163" y="449"/>
                    </a:lnTo>
                    <a:lnTo>
                      <a:pt x="157" y="459"/>
                    </a:lnTo>
                    <a:lnTo>
                      <a:pt x="151" y="469"/>
                    </a:lnTo>
                    <a:lnTo>
                      <a:pt x="144" y="478"/>
                    </a:lnTo>
                    <a:lnTo>
                      <a:pt x="138" y="485"/>
                    </a:lnTo>
                    <a:lnTo>
                      <a:pt x="130" y="491"/>
                    </a:lnTo>
                    <a:lnTo>
                      <a:pt x="124" y="495"/>
                    </a:lnTo>
                    <a:lnTo>
                      <a:pt x="117" y="497"/>
                    </a:lnTo>
                    <a:lnTo>
                      <a:pt x="111" y="498"/>
                    </a:lnTo>
                    <a:lnTo>
                      <a:pt x="102" y="497"/>
                    </a:lnTo>
                    <a:lnTo>
                      <a:pt x="95" y="496"/>
                    </a:lnTo>
                    <a:lnTo>
                      <a:pt x="86" y="493"/>
                    </a:lnTo>
                    <a:lnTo>
                      <a:pt x="76" y="489"/>
                    </a:lnTo>
                    <a:lnTo>
                      <a:pt x="68" y="483"/>
                    </a:lnTo>
                    <a:lnTo>
                      <a:pt x="58" y="477"/>
                    </a:lnTo>
                    <a:lnTo>
                      <a:pt x="48" y="468"/>
                    </a:lnTo>
                    <a:lnTo>
                      <a:pt x="40" y="458"/>
                    </a:lnTo>
                    <a:lnTo>
                      <a:pt x="31" y="448"/>
                    </a:lnTo>
                    <a:lnTo>
                      <a:pt x="23" y="436"/>
                    </a:lnTo>
                    <a:lnTo>
                      <a:pt x="16" y="422"/>
                    </a:lnTo>
                    <a:lnTo>
                      <a:pt x="9" y="406"/>
                    </a:lnTo>
                    <a:lnTo>
                      <a:pt x="4" y="389"/>
                    </a:lnTo>
                    <a:lnTo>
                      <a:pt x="0" y="371"/>
                    </a:lnTo>
                    <a:lnTo>
                      <a:pt x="1" y="357"/>
                    </a:lnTo>
                    <a:lnTo>
                      <a:pt x="2" y="318"/>
                    </a:lnTo>
                    <a:lnTo>
                      <a:pt x="3" y="262"/>
                    </a:lnTo>
                    <a:lnTo>
                      <a:pt x="5" y="198"/>
                    </a:lnTo>
                    <a:lnTo>
                      <a:pt x="6" y="133"/>
                    </a:lnTo>
                    <a:lnTo>
                      <a:pt x="8" y="76"/>
                    </a:lnTo>
                    <a:lnTo>
                      <a:pt x="9" y="34"/>
                    </a:lnTo>
                    <a:lnTo>
                      <a:pt x="9" y="16"/>
                    </a:lnTo>
                    <a:lnTo>
                      <a:pt x="11" y="10"/>
                    </a:lnTo>
                    <a:lnTo>
                      <a:pt x="13" y="7"/>
                    </a:lnTo>
                    <a:lnTo>
                      <a:pt x="15" y="4"/>
                    </a:lnTo>
                    <a:lnTo>
                      <a:pt x="17" y="3"/>
                    </a:lnTo>
                    <a:lnTo>
                      <a:pt x="20" y="1"/>
                    </a:lnTo>
                    <a:lnTo>
                      <a:pt x="22" y="0"/>
                    </a:lnTo>
                    <a:lnTo>
                      <a:pt x="23" y="0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bdbd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6554880" y="5073840"/>
                <a:ext cx="87120" cy="71280"/>
              </a:xfrm>
              <a:custGeom>
                <a:avLst/>
                <a:gdLst/>
                <a:ahLst/>
                <a:rect l="l" t="t" r="r" b="b"/>
                <a:pathLst>
                  <a:path w="278" h="226">
                    <a:moveTo>
                      <a:pt x="153" y="207"/>
                    </a:moveTo>
                    <a:lnTo>
                      <a:pt x="109" y="190"/>
                    </a:lnTo>
                    <a:lnTo>
                      <a:pt x="73" y="178"/>
                    </a:lnTo>
                    <a:lnTo>
                      <a:pt x="46" y="169"/>
                    </a:lnTo>
                    <a:lnTo>
                      <a:pt x="27" y="162"/>
                    </a:lnTo>
                    <a:lnTo>
                      <a:pt x="14" y="158"/>
                    </a:lnTo>
                    <a:lnTo>
                      <a:pt x="5" y="156"/>
                    </a:lnTo>
                    <a:lnTo>
                      <a:pt x="1" y="156"/>
                    </a:lnTo>
                    <a:lnTo>
                      <a:pt x="0" y="155"/>
                    </a:lnTo>
                    <a:lnTo>
                      <a:pt x="9" y="120"/>
                    </a:lnTo>
                    <a:lnTo>
                      <a:pt x="16" y="117"/>
                    </a:lnTo>
                    <a:lnTo>
                      <a:pt x="32" y="105"/>
                    </a:lnTo>
                    <a:lnTo>
                      <a:pt x="57" y="90"/>
                    </a:lnTo>
                    <a:lnTo>
                      <a:pt x="87" y="70"/>
                    </a:lnTo>
                    <a:lnTo>
                      <a:pt x="119" y="51"/>
                    </a:lnTo>
                    <a:lnTo>
                      <a:pt x="152" y="32"/>
                    </a:lnTo>
                    <a:lnTo>
                      <a:pt x="182" y="15"/>
                    </a:lnTo>
                    <a:lnTo>
                      <a:pt x="207" y="5"/>
                    </a:lnTo>
                    <a:lnTo>
                      <a:pt x="216" y="1"/>
                    </a:lnTo>
                    <a:lnTo>
                      <a:pt x="223" y="0"/>
                    </a:lnTo>
                    <a:lnTo>
                      <a:pt x="231" y="1"/>
                    </a:lnTo>
                    <a:lnTo>
                      <a:pt x="237" y="5"/>
                    </a:lnTo>
                    <a:lnTo>
                      <a:pt x="244" y="9"/>
                    </a:lnTo>
                    <a:lnTo>
                      <a:pt x="250" y="15"/>
                    </a:lnTo>
                    <a:lnTo>
                      <a:pt x="256" y="23"/>
                    </a:lnTo>
                    <a:lnTo>
                      <a:pt x="260" y="33"/>
                    </a:lnTo>
                    <a:lnTo>
                      <a:pt x="265" y="42"/>
                    </a:lnTo>
                    <a:lnTo>
                      <a:pt x="269" y="53"/>
                    </a:lnTo>
                    <a:lnTo>
                      <a:pt x="272" y="66"/>
                    </a:lnTo>
                    <a:lnTo>
                      <a:pt x="275" y="78"/>
                    </a:lnTo>
                    <a:lnTo>
                      <a:pt x="277" y="92"/>
                    </a:lnTo>
                    <a:lnTo>
                      <a:pt x="278" y="105"/>
                    </a:lnTo>
                    <a:lnTo>
                      <a:pt x="278" y="119"/>
                    </a:lnTo>
                    <a:lnTo>
                      <a:pt x="278" y="133"/>
                    </a:lnTo>
                    <a:lnTo>
                      <a:pt x="276" y="159"/>
                    </a:lnTo>
                    <a:lnTo>
                      <a:pt x="273" y="183"/>
                    </a:lnTo>
                    <a:lnTo>
                      <a:pt x="270" y="193"/>
                    </a:lnTo>
                    <a:lnTo>
                      <a:pt x="266" y="201"/>
                    </a:lnTo>
                    <a:lnTo>
                      <a:pt x="261" y="209"/>
                    </a:lnTo>
                    <a:lnTo>
                      <a:pt x="256" y="215"/>
                    </a:lnTo>
                    <a:lnTo>
                      <a:pt x="248" y="221"/>
                    </a:lnTo>
                    <a:lnTo>
                      <a:pt x="240" y="224"/>
                    </a:lnTo>
                    <a:lnTo>
                      <a:pt x="230" y="226"/>
                    </a:lnTo>
                    <a:lnTo>
                      <a:pt x="219" y="226"/>
                    </a:lnTo>
                    <a:lnTo>
                      <a:pt x="205" y="224"/>
                    </a:lnTo>
                    <a:lnTo>
                      <a:pt x="190" y="221"/>
                    </a:lnTo>
                    <a:lnTo>
                      <a:pt x="172" y="215"/>
                    </a:lnTo>
                    <a:lnTo>
                      <a:pt x="153" y="207"/>
                    </a:lnTo>
                    <a:close/>
                  </a:path>
                </a:pathLst>
              </a:custGeom>
              <a:solidFill>
                <a:srgbClr val="8e8d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6554880" y="5086440"/>
                <a:ext cx="85680" cy="52200"/>
              </a:xfrm>
              <a:custGeom>
                <a:avLst/>
                <a:gdLst/>
                <a:ahLst/>
                <a:rect l="l" t="t" r="r" b="b"/>
                <a:pathLst>
                  <a:path w="269" h="166">
                    <a:moveTo>
                      <a:pt x="151" y="155"/>
                    </a:moveTo>
                    <a:lnTo>
                      <a:pt x="108" y="142"/>
                    </a:lnTo>
                    <a:lnTo>
                      <a:pt x="74" y="132"/>
                    </a:lnTo>
                    <a:lnTo>
                      <a:pt x="47" y="124"/>
                    </a:lnTo>
                    <a:lnTo>
                      <a:pt x="28" y="120"/>
                    </a:lnTo>
                    <a:lnTo>
                      <a:pt x="14" y="117"/>
                    </a:lnTo>
                    <a:lnTo>
                      <a:pt x="5" y="116"/>
                    </a:lnTo>
                    <a:lnTo>
                      <a:pt x="1" y="115"/>
                    </a:lnTo>
                    <a:lnTo>
                      <a:pt x="0" y="115"/>
                    </a:lnTo>
                    <a:lnTo>
                      <a:pt x="9" y="88"/>
                    </a:lnTo>
                    <a:lnTo>
                      <a:pt x="15" y="84"/>
                    </a:lnTo>
                    <a:lnTo>
                      <a:pt x="29" y="77"/>
                    </a:lnTo>
                    <a:lnTo>
                      <a:pt x="49" y="65"/>
                    </a:lnTo>
                    <a:lnTo>
                      <a:pt x="76" y="52"/>
                    </a:lnTo>
                    <a:lnTo>
                      <a:pt x="106" y="38"/>
                    </a:lnTo>
                    <a:lnTo>
                      <a:pt x="136" y="24"/>
                    </a:lnTo>
                    <a:lnTo>
                      <a:pt x="165" y="12"/>
                    </a:lnTo>
                    <a:lnTo>
                      <a:pt x="193" y="3"/>
                    </a:lnTo>
                    <a:lnTo>
                      <a:pt x="201" y="1"/>
                    </a:lnTo>
                    <a:lnTo>
                      <a:pt x="208" y="0"/>
                    </a:lnTo>
                    <a:lnTo>
                      <a:pt x="216" y="0"/>
                    </a:lnTo>
                    <a:lnTo>
                      <a:pt x="222" y="2"/>
                    </a:lnTo>
                    <a:lnTo>
                      <a:pt x="230" y="5"/>
                    </a:lnTo>
                    <a:lnTo>
                      <a:pt x="236" y="10"/>
                    </a:lnTo>
                    <a:lnTo>
                      <a:pt x="242" y="15"/>
                    </a:lnTo>
                    <a:lnTo>
                      <a:pt x="247" y="22"/>
                    </a:lnTo>
                    <a:lnTo>
                      <a:pt x="252" y="29"/>
                    </a:lnTo>
                    <a:lnTo>
                      <a:pt x="257" y="37"/>
                    </a:lnTo>
                    <a:lnTo>
                      <a:pt x="261" y="45"/>
                    </a:lnTo>
                    <a:lnTo>
                      <a:pt x="264" y="55"/>
                    </a:lnTo>
                    <a:lnTo>
                      <a:pt x="267" y="65"/>
                    </a:lnTo>
                    <a:lnTo>
                      <a:pt x="269" y="76"/>
                    </a:lnTo>
                    <a:lnTo>
                      <a:pt x="269" y="86"/>
                    </a:lnTo>
                    <a:lnTo>
                      <a:pt x="269" y="97"/>
                    </a:lnTo>
                    <a:lnTo>
                      <a:pt x="269" y="108"/>
                    </a:lnTo>
                    <a:lnTo>
                      <a:pt x="268" y="118"/>
                    </a:lnTo>
                    <a:lnTo>
                      <a:pt x="267" y="126"/>
                    </a:lnTo>
                    <a:lnTo>
                      <a:pt x="264" y="135"/>
                    </a:lnTo>
                    <a:lnTo>
                      <a:pt x="261" y="143"/>
                    </a:lnTo>
                    <a:lnTo>
                      <a:pt x="257" y="149"/>
                    </a:lnTo>
                    <a:lnTo>
                      <a:pt x="251" y="155"/>
                    </a:lnTo>
                    <a:lnTo>
                      <a:pt x="245" y="159"/>
                    </a:lnTo>
                    <a:lnTo>
                      <a:pt x="237" y="163"/>
                    </a:lnTo>
                    <a:lnTo>
                      <a:pt x="230" y="165"/>
                    </a:lnTo>
                    <a:lnTo>
                      <a:pt x="220" y="166"/>
                    </a:lnTo>
                    <a:lnTo>
                      <a:pt x="208" y="166"/>
                    </a:lnTo>
                    <a:lnTo>
                      <a:pt x="196" y="165"/>
                    </a:lnTo>
                    <a:lnTo>
                      <a:pt x="182" y="163"/>
                    </a:lnTo>
                    <a:lnTo>
                      <a:pt x="167" y="160"/>
                    </a:lnTo>
                    <a:lnTo>
                      <a:pt x="151" y="155"/>
                    </a:lnTo>
                    <a:close/>
                  </a:path>
                </a:pathLst>
              </a:custGeom>
              <a:solidFill>
                <a:srgbClr val="89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6556320" y="5097600"/>
                <a:ext cx="82440" cy="34920"/>
              </a:xfrm>
              <a:custGeom>
                <a:avLst/>
                <a:gdLst/>
                <a:ahLst/>
                <a:rect l="l" t="t" r="r" b="b"/>
                <a:pathLst>
                  <a:path w="259" h="109">
                    <a:moveTo>
                      <a:pt x="148" y="101"/>
                    </a:moveTo>
                    <a:lnTo>
                      <a:pt x="105" y="92"/>
                    </a:lnTo>
                    <a:lnTo>
                      <a:pt x="71" y="85"/>
                    </a:lnTo>
                    <a:lnTo>
                      <a:pt x="45" y="81"/>
                    </a:lnTo>
                    <a:lnTo>
                      <a:pt x="26" y="79"/>
                    </a:lnTo>
                    <a:lnTo>
                      <a:pt x="13" y="76"/>
                    </a:lnTo>
                    <a:lnTo>
                      <a:pt x="5" y="76"/>
                    </a:lnTo>
                    <a:lnTo>
                      <a:pt x="1" y="76"/>
                    </a:lnTo>
                    <a:lnTo>
                      <a:pt x="0" y="76"/>
                    </a:lnTo>
                    <a:lnTo>
                      <a:pt x="4" y="54"/>
                    </a:lnTo>
                    <a:lnTo>
                      <a:pt x="9" y="53"/>
                    </a:lnTo>
                    <a:lnTo>
                      <a:pt x="21" y="48"/>
                    </a:lnTo>
                    <a:lnTo>
                      <a:pt x="38" y="42"/>
                    </a:lnTo>
                    <a:lnTo>
                      <a:pt x="62" y="33"/>
                    </a:lnTo>
                    <a:lnTo>
                      <a:pt x="88" y="25"/>
                    </a:lnTo>
                    <a:lnTo>
                      <a:pt x="116" y="16"/>
                    </a:lnTo>
                    <a:lnTo>
                      <a:pt x="146" y="8"/>
                    </a:lnTo>
                    <a:lnTo>
                      <a:pt x="175" y="2"/>
                    </a:lnTo>
                    <a:lnTo>
                      <a:pt x="183" y="1"/>
                    </a:lnTo>
                    <a:lnTo>
                      <a:pt x="190" y="0"/>
                    </a:lnTo>
                    <a:lnTo>
                      <a:pt x="198" y="0"/>
                    </a:lnTo>
                    <a:lnTo>
                      <a:pt x="205" y="1"/>
                    </a:lnTo>
                    <a:lnTo>
                      <a:pt x="212" y="3"/>
                    </a:lnTo>
                    <a:lnTo>
                      <a:pt x="219" y="5"/>
                    </a:lnTo>
                    <a:lnTo>
                      <a:pt x="226" y="8"/>
                    </a:lnTo>
                    <a:lnTo>
                      <a:pt x="232" y="13"/>
                    </a:lnTo>
                    <a:lnTo>
                      <a:pt x="238" y="17"/>
                    </a:lnTo>
                    <a:lnTo>
                      <a:pt x="243" y="21"/>
                    </a:lnTo>
                    <a:lnTo>
                      <a:pt x="247" y="27"/>
                    </a:lnTo>
                    <a:lnTo>
                      <a:pt x="252" y="33"/>
                    </a:lnTo>
                    <a:lnTo>
                      <a:pt x="255" y="40"/>
                    </a:lnTo>
                    <a:lnTo>
                      <a:pt x="257" y="46"/>
                    </a:lnTo>
                    <a:lnTo>
                      <a:pt x="258" y="54"/>
                    </a:lnTo>
                    <a:lnTo>
                      <a:pt x="259" y="61"/>
                    </a:lnTo>
                    <a:lnTo>
                      <a:pt x="258" y="69"/>
                    </a:lnTo>
                    <a:lnTo>
                      <a:pt x="257" y="75"/>
                    </a:lnTo>
                    <a:lnTo>
                      <a:pt x="255" y="82"/>
                    </a:lnTo>
                    <a:lnTo>
                      <a:pt x="252" y="87"/>
                    </a:lnTo>
                    <a:lnTo>
                      <a:pt x="247" y="92"/>
                    </a:lnTo>
                    <a:lnTo>
                      <a:pt x="243" y="97"/>
                    </a:lnTo>
                    <a:lnTo>
                      <a:pt x="237" y="100"/>
                    </a:lnTo>
                    <a:lnTo>
                      <a:pt x="230" y="103"/>
                    </a:lnTo>
                    <a:lnTo>
                      <a:pt x="223" y="106"/>
                    </a:lnTo>
                    <a:lnTo>
                      <a:pt x="215" y="108"/>
                    </a:lnTo>
                    <a:lnTo>
                      <a:pt x="205" y="109"/>
                    </a:lnTo>
                    <a:lnTo>
                      <a:pt x="196" y="109"/>
                    </a:lnTo>
                    <a:lnTo>
                      <a:pt x="185" y="108"/>
                    </a:lnTo>
                    <a:lnTo>
                      <a:pt x="173" y="107"/>
                    </a:lnTo>
                    <a:lnTo>
                      <a:pt x="161" y="104"/>
                    </a:lnTo>
                    <a:lnTo>
                      <a:pt x="148" y="101"/>
                    </a:lnTo>
                    <a:close/>
                  </a:path>
                </a:pathLst>
              </a:custGeom>
              <a:solidFill>
                <a:srgbClr val="82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6556320" y="5110200"/>
                <a:ext cx="81000" cy="15840"/>
              </a:xfrm>
              <a:custGeom>
                <a:avLst/>
                <a:gdLst/>
                <a:ahLst/>
                <a:rect l="l" t="t" r="r" b="b"/>
                <a:pathLst>
                  <a:path w="252" h="50">
                    <a:moveTo>
                      <a:pt x="5" y="21"/>
                    </a:moveTo>
                    <a:lnTo>
                      <a:pt x="8" y="20"/>
                    </a:lnTo>
                    <a:lnTo>
                      <a:pt x="18" y="19"/>
                    </a:lnTo>
                    <a:lnTo>
                      <a:pt x="32" y="17"/>
                    </a:lnTo>
                    <a:lnTo>
                      <a:pt x="50" y="15"/>
                    </a:lnTo>
                    <a:lnTo>
                      <a:pt x="74" y="11"/>
                    </a:lnTo>
                    <a:lnTo>
                      <a:pt x="100" y="8"/>
                    </a:lnTo>
                    <a:lnTo>
                      <a:pt x="129" y="5"/>
                    </a:lnTo>
                    <a:lnTo>
                      <a:pt x="161" y="1"/>
                    </a:lnTo>
                    <a:lnTo>
                      <a:pt x="176" y="1"/>
                    </a:lnTo>
                    <a:lnTo>
                      <a:pt x="191" y="0"/>
                    </a:lnTo>
                    <a:lnTo>
                      <a:pt x="207" y="1"/>
                    </a:lnTo>
                    <a:lnTo>
                      <a:pt x="221" y="2"/>
                    </a:lnTo>
                    <a:lnTo>
                      <a:pt x="227" y="3"/>
                    </a:lnTo>
                    <a:lnTo>
                      <a:pt x="233" y="5"/>
                    </a:lnTo>
                    <a:lnTo>
                      <a:pt x="238" y="7"/>
                    </a:lnTo>
                    <a:lnTo>
                      <a:pt x="242" y="9"/>
                    </a:lnTo>
                    <a:lnTo>
                      <a:pt x="247" y="11"/>
                    </a:lnTo>
                    <a:lnTo>
                      <a:pt x="250" y="15"/>
                    </a:lnTo>
                    <a:lnTo>
                      <a:pt x="251" y="19"/>
                    </a:lnTo>
                    <a:lnTo>
                      <a:pt x="252" y="23"/>
                    </a:lnTo>
                    <a:lnTo>
                      <a:pt x="252" y="28"/>
                    </a:lnTo>
                    <a:lnTo>
                      <a:pt x="250" y="32"/>
                    </a:lnTo>
                    <a:lnTo>
                      <a:pt x="248" y="35"/>
                    </a:lnTo>
                    <a:lnTo>
                      <a:pt x="243" y="38"/>
                    </a:lnTo>
                    <a:lnTo>
                      <a:pt x="239" y="42"/>
                    </a:lnTo>
                    <a:lnTo>
                      <a:pt x="233" y="44"/>
                    </a:lnTo>
                    <a:lnTo>
                      <a:pt x="227" y="46"/>
                    </a:lnTo>
                    <a:lnTo>
                      <a:pt x="220" y="48"/>
                    </a:lnTo>
                    <a:lnTo>
                      <a:pt x="203" y="50"/>
                    </a:lnTo>
                    <a:lnTo>
                      <a:pt x="186" y="50"/>
                    </a:lnTo>
                    <a:lnTo>
                      <a:pt x="167" y="50"/>
                    </a:lnTo>
                    <a:lnTo>
                      <a:pt x="146" y="48"/>
                    </a:lnTo>
                    <a:lnTo>
                      <a:pt x="104" y="43"/>
                    </a:lnTo>
                    <a:lnTo>
                      <a:pt x="72" y="38"/>
                    </a:lnTo>
                    <a:lnTo>
                      <a:pt x="46" y="36"/>
                    </a:lnTo>
                    <a:lnTo>
                      <a:pt x="26" y="34"/>
                    </a:lnTo>
                    <a:lnTo>
                      <a:pt x="13" y="33"/>
                    </a:lnTo>
                    <a:lnTo>
                      <a:pt x="6" y="33"/>
                    </a:lnTo>
                    <a:lnTo>
                      <a:pt x="1" y="33"/>
                    </a:lnTo>
                    <a:lnTo>
                      <a:pt x="0" y="33"/>
                    </a:lnTo>
                    <a:lnTo>
                      <a:pt x="5" y="21"/>
                    </a:lnTo>
                    <a:close/>
                  </a:path>
                </a:pathLst>
              </a:custGeom>
              <a:solidFill>
                <a:srgbClr val="7b79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6554880" y="4937040"/>
                <a:ext cx="61920" cy="169920"/>
              </a:xfrm>
              <a:custGeom>
                <a:avLst/>
                <a:gdLst/>
                <a:ahLst/>
                <a:rect l="l" t="t" r="r" b="b"/>
                <a:pathLst>
                  <a:path w="193" h="534">
                    <a:moveTo>
                      <a:pt x="193" y="158"/>
                    </a:moveTo>
                    <a:lnTo>
                      <a:pt x="15" y="534"/>
                    </a:lnTo>
                    <a:lnTo>
                      <a:pt x="13" y="510"/>
                    </a:lnTo>
                    <a:lnTo>
                      <a:pt x="8" y="447"/>
                    </a:lnTo>
                    <a:lnTo>
                      <a:pt x="5" y="405"/>
                    </a:lnTo>
                    <a:lnTo>
                      <a:pt x="3" y="359"/>
                    </a:lnTo>
                    <a:lnTo>
                      <a:pt x="1" y="310"/>
                    </a:lnTo>
                    <a:lnTo>
                      <a:pt x="0" y="258"/>
                    </a:lnTo>
                    <a:lnTo>
                      <a:pt x="0" y="208"/>
                    </a:lnTo>
                    <a:lnTo>
                      <a:pt x="2" y="159"/>
                    </a:lnTo>
                    <a:lnTo>
                      <a:pt x="3" y="136"/>
                    </a:lnTo>
                    <a:lnTo>
                      <a:pt x="5" y="114"/>
                    </a:lnTo>
                    <a:lnTo>
                      <a:pt x="7" y="93"/>
                    </a:lnTo>
                    <a:lnTo>
                      <a:pt x="11" y="74"/>
                    </a:lnTo>
                    <a:lnTo>
                      <a:pt x="14" y="57"/>
                    </a:lnTo>
                    <a:lnTo>
                      <a:pt x="18" y="41"/>
                    </a:lnTo>
                    <a:lnTo>
                      <a:pt x="24" y="27"/>
                    </a:lnTo>
                    <a:lnTo>
                      <a:pt x="29" y="17"/>
                    </a:lnTo>
                    <a:lnTo>
                      <a:pt x="35" y="8"/>
                    </a:lnTo>
                    <a:lnTo>
                      <a:pt x="43" y="3"/>
                    </a:lnTo>
                    <a:lnTo>
                      <a:pt x="51" y="0"/>
                    </a:lnTo>
                    <a:lnTo>
                      <a:pt x="59" y="0"/>
                    </a:lnTo>
                    <a:lnTo>
                      <a:pt x="69" y="3"/>
                    </a:lnTo>
                    <a:lnTo>
                      <a:pt x="78" y="6"/>
                    </a:lnTo>
                    <a:lnTo>
                      <a:pt x="86" y="9"/>
                    </a:lnTo>
                    <a:lnTo>
                      <a:pt x="94" y="13"/>
                    </a:lnTo>
                    <a:lnTo>
                      <a:pt x="109" y="23"/>
                    </a:lnTo>
                    <a:lnTo>
                      <a:pt x="123" y="34"/>
                    </a:lnTo>
                    <a:lnTo>
                      <a:pt x="135" y="47"/>
                    </a:lnTo>
                    <a:lnTo>
                      <a:pt x="147" y="60"/>
                    </a:lnTo>
                    <a:lnTo>
                      <a:pt x="155" y="74"/>
                    </a:lnTo>
                    <a:lnTo>
                      <a:pt x="164" y="88"/>
                    </a:lnTo>
                    <a:lnTo>
                      <a:pt x="172" y="101"/>
                    </a:lnTo>
                    <a:lnTo>
                      <a:pt x="177" y="114"/>
                    </a:lnTo>
                    <a:lnTo>
                      <a:pt x="182" y="127"/>
                    </a:lnTo>
                    <a:lnTo>
                      <a:pt x="187" y="136"/>
                    </a:lnTo>
                    <a:lnTo>
                      <a:pt x="191" y="153"/>
                    </a:lnTo>
                    <a:lnTo>
                      <a:pt x="193" y="158"/>
                    </a:lnTo>
                    <a:close/>
                  </a:path>
                </a:pathLst>
              </a:custGeom>
              <a:solidFill>
                <a:srgbClr val="8c8b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6554880" y="4938840"/>
                <a:ext cx="55440" cy="168120"/>
              </a:xfrm>
              <a:custGeom>
                <a:avLst/>
                <a:gdLst/>
                <a:ahLst/>
                <a:rect l="l" t="t" r="r" b="b"/>
                <a:pathLst>
                  <a:path w="173" h="529">
                    <a:moveTo>
                      <a:pt x="173" y="126"/>
                    </a:moveTo>
                    <a:lnTo>
                      <a:pt x="17" y="529"/>
                    </a:lnTo>
                    <a:lnTo>
                      <a:pt x="15" y="505"/>
                    </a:lnTo>
                    <a:lnTo>
                      <a:pt x="9" y="444"/>
                    </a:lnTo>
                    <a:lnTo>
                      <a:pt x="6" y="403"/>
                    </a:lnTo>
                    <a:lnTo>
                      <a:pt x="3" y="356"/>
                    </a:lnTo>
                    <a:lnTo>
                      <a:pt x="1" y="306"/>
                    </a:lnTo>
                    <a:lnTo>
                      <a:pt x="0" y="257"/>
                    </a:lnTo>
                    <a:lnTo>
                      <a:pt x="0" y="206"/>
                    </a:lnTo>
                    <a:lnTo>
                      <a:pt x="1" y="157"/>
                    </a:lnTo>
                    <a:lnTo>
                      <a:pt x="2" y="135"/>
                    </a:lnTo>
                    <a:lnTo>
                      <a:pt x="4" y="113"/>
                    </a:lnTo>
                    <a:lnTo>
                      <a:pt x="6" y="93"/>
                    </a:lnTo>
                    <a:lnTo>
                      <a:pt x="8" y="73"/>
                    </a:lnTo>
                    <a:lnTo>
                      <a:pt x="12" y="56"/>
                    </a:lnTo>
                    <a:lnTo>
                      <a:pt x="16" y="41"/>
                    </a:lnTo>
                    <a:lnTo>
                      <a:pt x="21" y="28"/>
                    </a:lnTo>
                    <a:lnTo>
                      <a:pt x="27" y="17"/>
                    </a:lnTo>
                    <a:lnTo>
                      <a:pt x="33" y="8"/>
                    </a:lnTo>
                    <a:lnTo>
                      <a:pt x="40" y="3"/>
                    </a:lnTo>
                    <a:lnTo>
                      <a:pt x="47" y="0"/>
                    </a:lnTo>
                    <a:lnTo>
                      <a:pt x="57" y="0"/>
                    </a:lnTo>
                    <a:lnTo>
                      <a:pt x="74" y="5"/>
                    </a:lnTo>
                    <a:lnTo>
                      <a:pt x="90" y="12"/>
                    </a:lnTo>
                    <a:lnTo>
                      <a:pt x="104" y="20"/>
                    </a:lnTo>
                    <a:lnTo>
                      <a:pt x="117" y="29"/>
                    </a:lnTo>
                    <a:lnTo>
                      <a:pt x="128" y="40"/>
                    </a:lnTo>
                    <a:lnTo>
                      <a:pt x="138" y="49"/>
                    </a:lnTo>
                    <a:lnTo>
                      <a:pt x="146" y="61"/>
                    </a:lnTo>
                    <a:lnTo>
                      <a:pt x="153" y="72"/>
                    </a:lnTo>
                    <a:lnTo>
                      <a:pt x="158" y="82"/>
                    </a:lnTo>
                    <a:lnTo>
                      <a:pt x="163" y="93"/>
                    </a:lnTo>
                    <a:lnTo>
                      <a:pt x="166" y="101"/>
                    </a:lnTo>
                    <a:lnTo>
                      <a:pt x="169" y="110"/>
                    </a:lnTo>
                    <a:lnTo>
                      <a:pt x="171" y="122"/>
                    </a:lnTo>
                    <a:lnTo>
                      <a:pt x="173" y="126"/>
                    </a:lnTo>
                    <a:close/>
                  </a:path>
                </a:pathLst>
              </a:custGeom>
              <a:solidFill>
                <a:srgbClr val="838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6553080" y="4940280"/>
                <a:ext cx="49320" cy="166680"/>
              </a:xfrm>
              <a:custGeom>
                <a:avLst/>
                <a:gdLst/>
                <a:ahLst/>
                <a:rect l="l" t="t" r="r" b="b"/>
                <a:pathLst>
                  <a:path w="152" h="525">
                    <a:moveTo>
                      <a:pt x="152" y="93"/>
                    </a:moveTo>
                    <a:lnTo>
                      <a:pt x="21" y="525"/>
                    </a:lnTo>
                    <a:lnTo>
                      <a:pt x="19" y="501"/>
                    </a:lnTo>
                    <a:lnTo>
                      <a:pt x="12" y="440"/>
                    </a:lnTo>
                    <a:lnTo>
                      <a:pt x="9" y="399"/>
                    </a:lnTo>
                    <a:lnTo>
                      <a:pt x="6" y="353"/>
                    </a:lnTo>
                    <a:lnTo>
                      <a:pt x="4" y="305"/>
                    </a:lnTo>
                    <a:lnTo>
                      <a:pt x="2" y="254"/>
                    </a:lnTo>
                    <a:lnTo>
                      <a:pt x="0" y="204"/>
                    </a:lnTo>
                    <a:lnTo>
                      <a:pt x="2" y="157"/>
                    </a:lnTo>
                    <a:lnTo>
                      <a:pt x="3" y="134"/>
                    </a:lnTo>
                    <a:lnTo>
                      <a:pt x="5" y="111"/>
                    </a:lnTo>
                    <a:lnTo>
                      <a:pt x="7" y="92"/>
                    </a:lnTo>
                    <a:lnTo>
                      <a:pt x="9" y="72"/>
                    </a:lnTo>
                    <a:lnTo>
                      <a:pt x="13" y="55"/>
                    </a:lnTo>
                    <a:lnTo>
                      <a:pt x="17" y="40"/>
                    </a:lnTo>
                    <a:lnTo>
                      <a:pt x="22" y="27"/>
                    </a:lnTo>
                    <a:lnTo>
                      <a:pt x="27" y="16"/>
                    </a:lnTo>
                    <a:lnTo>
                      <a:pt x="34" y="9"/>
                    </a:lnTo>
                    <a:lnTo>
                      <a:pt x="40" y="3"/>
                    </a:lnTo>
                    <a:lnTo>
                      <a:pt x="49" y="0"/>
                    </a:lnTo>
                    <a:lnTo>
                      <a:pt x="58" y="1"/>
                    </a:lnTo>
                    <a:lnTo>
                      <a:pt x="75" y="5"/>
                    </a:lnTo>
                    <a:lnTo>
                      <a:pt x="90" y="12"/>
                    </a:lnTo>
                    <a:lnTo>
                      <a:pt x="103" y="18"/>
                    </a:lnTo>
                    <a:lnTo>
                      <a:pt x="115" y="25"/>
                    </a:lnTo>
                    <a:lnTo>
                      <a:pt x="124" y="32"/>
                    </a:lnTo>
                    <a:lnTo>
                      <a:pt x="131" y="40"/>
                    </a:lnTo>
                    <a:lnTo>
                      <a:pt x="138" y="48"/>
                    </a:lnTo>
                    <a:lnTo>
                      <a:pt x="142" y="55"/>
                    </a:lnTo>
                    <a:lnTo>
                      <a:pt x="146" y="63"/>
                    </a:lnTo>
                    <a:lnTo>
                      <a:pt x="148" y="69"/>
                    </a:lnTo>
                    <a:lnTo>
                      <a:pt x="151" y="76"/>
                    </a:lnTo>
                    <a:lnTo>
                      <a:pt x="152" y="81"/>
                    </a:lnTo>
                    <a:lnTo>
                      <a:pt x="152" y="90"/>
                    </a:lnTo>
                    <a:lnTo>
                      <a:pt x="152" y="93"/>
                    </a:lnTo>
                    <a:close/>
                  </a:path>
                </a:pathLst>
              </a:custGeom>
              <a:solidFill>
                <a:srgbClr val="7b79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6553080" y="4940280"/>
                <a:ext cx="42840" cy="166680"/>
              </a:xfrm>
              <a:custGeom>
                <a:avLst/>
                <a:gdLst/>
                <a:ahLst/>
                <a:rect l="l" t="t" r="r" b="b"/>
                <a:pathLst>
                  <a:path w="134" h="522">
                    <a:moveTo>
                      <a:pt x="23" y="522"/>
                    </a:moveTo>
                    <a:lnTo>
                      <a:pt x="132" y="63"/>
                    </a:lnTo>
                    <a:lnTo>
                      <a:pt x="132" y="61"/>
                    </a:lnTo>
                    <a:lnTo>
                      <a:pt x="134" y="56"/>
                    </a:lnTo>
                    <a:lnTo>
                      <a:pt x="134" y="53"/>
                    </a:lnTo>
                    <a:lnTo>
                      <a:pt x="133" y="50"/>
                    </a:lnTo>
                    <a:lnTo>
                      <a:pt x="132" y="46"/>
                    </a:lnTo>
                    <a:lnTo>
                      <a:pt x="131" y="41"/>
                    </a:lnTo>
                    <a:lnTo>
                      <a:pt x="128" y="36"/>
                    </a:lnTo>
                    <a:lnTo>
                      <a:pt x="122" y="32"/>
                    </a:lnTo>
                    <a:lnTo>
                      <a:pt x="117" y="26"/>
                    </a:lnTo>
                    <a:lnTo>
                      <a:pt x="108" y="21"/>
                    </a:lnTo>
                    <a:lnTo>
                      <a:pt x="99" y="15"/>
                    </a:lnTo>
                    <a:lnTo>
                      <a:pt x="87" y="10"/>
                    </a:lnTo>
                    <a:lnTo>
                      <a:pt x="73" y="6"/>
                    </a:lnTo>
                    <a:lnTo>
                      <a:pt x="55" y="0"/>
                    </a:lnTo>
                    <a:lnTo>
                      <a:pt x="46" y="0"/>
                    </a:lnTo>
                    <a:lnTo>
                      <a:pt x="38" y="2"/>
                    </a:lnTo>
                    <a:lnTo>
                      <a:pt x="31" y="9"/>
                    </a:lnTo>
                    <a:lnTo>
                      <a:pt x="25" y="16"/>
                    </a:lnTo>
                    <a:lnTo>
                      <a:pt x="19" y="27"/>
                    </a:lnTo>
                    <a:lnTo>
                      <a:pt x="14" y="40"/>
                    </a:lnTo>
                    <a:lnTo>
                      <a:pt x="11" y="55"/>
                    </a:lnTo>
                    <a:lnTo>
                      <a:pt x="8" y="73"/>
                    </a:lnTo>
                    <a:lnTo>
                      <a:pt x="5" y="91"/>
                    </a:lnTo>
                    <a:lnTo>
                      <a:pt x="2" y="111"/>
                    </a:lnTo>
                    <a:lnTo>
                      <a:pt x="1" y="133"/>
                    </a:lnTo>
                    <a:lnTo>
                      <a:pt x="0" y="156"/>
                    </a:lnTo>
                    <a:lnTo>
                      <a:pt x="0" y="203"/>
                    </a:lnTo>
                    <a:lnTo>
                      <a:pt x="1" y="253"/>
                    </a:lnTo>
                    <a:lnTo>
                      <a:pt x="4" y="303"/>
                    </a:lnTo>
                    <a:lnTo>
                      <a:pt x="7" y="351"/>
                    </a:lnTo>
                    <a:lnTo>
                      <a:pt x="10" y="397"/>
                    </a:lnTo>
                    <a:lnTo>
                      <a:pt x="13" y="438"/>
                    </a:lnTo>
                    <a:lnTo>
                      <a:pt x="20" y="499"/>
                    </a:lnTo>
                    <a:lnTo>
                      <a:pt x="23" y="522"/>
                    </a:lnTo>
                    <a:close/>
                  </a:path>
                </a:pathLst>
              </a:custGeom>
              <a:solidFill>
                <a:srgbClr val="7170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6513480" y="4872240"/>
                <a:ext cx="190440" cy="287280"/>
              </a:xfrm>
              <a:custGeom>
                <a:avLst/>
                <a:gdLst/>
                <a:ahLst/>
                <a:rect l="l" t="t" r="r" b="b"/>
                <a:pathLst>
                  <a:path w="602" h="905">
                    <a:moveTo>
                      <a:pt x="35" y="0"/>
                    </a:moveTo>
                    <a:lnTo>
                      <a:pt x="407" y="0"/>
                    </a:lnTo>
                    <a:lnTo>
                      <a:pt x="593" y="102"/>
                    </a:lnTo>
                    <a:lnTo>
                      <a:pt x="595" y="119"/>
                    </a:lnTo>
                    <a:lnTo>
                      <a:pt x="598" y="168"/>
                    </a:lnTo>
                    <a:lnTo>
                      <a:pt x="601" y="201"/>
                    </a:lnTo>
                    <a:lnTo>
                      <a:pt x="602" y="240"/>
                    </a:lnTo>
                    <a:lnTo>
                      <a:pt x="602" y="283"/>
                    </a:lnTo>
                    <a:lnTo>
                      <a:pt x="602" y="330"/>
                    </a:lnTo>
                    <a:lnTo>
                      <a:pt x="601" y="380"/>
                    </a:lnTo>
                    <a:lnTo>
                      <a:pt x="597" y="431"/>
                    </a:lnTo>
                    <a:lnTo>
                      <a:pt x="593" y="484"/>
                    </a:lnTo>
                    <a:lnTo>
                      <a:pt x="585" y="537"/>
                    </a:lnTo>
                    <a:lnTo>
                      <a:pt x="581" y="564"/>
                    </a:lnTo>
                    <a:lnTo>
                      <a:pt x="577" y="590"/>
                    </a:lnTo>
                    <a:lnTo>
                      <a:pt x="570" y="616"/>
                    </a:lnTo>
                    <a:lnTo>
                      <a:pt x="564" y="642"/>
                    </a:lnTo>
                    <a:lnTo>
                      <a:pt x="557" y="667"/>
                    </a:lnTo>
                    <a:lnTo>
                      <a:pt x="550" y="690"/>
                    </a:lnTo>
                    <a:lnTo>
                      <a:pt x="541" y="714"/>
                    </a:lnTo>
                    <a:lnTo>
                      <a:pt x="531" y="737"/>
                    </a:lnTo>
                    <a:lnTo>
                      <a:pt x="413" y="341"/>
                    </a:lnTo>
                    <a:lnTo>
                      <a:pt x="413" y="138"/>
                    </a:lnTo>
                    <a:lnTo>
                      <a:pt x="213" y="148"/>
                    </a:lnTo>
                    <a:lnTo>
                      <a:pt x="213" y="149"/>
                    </a:lnTo>
                    <a:lnTo>
                      <a:pt x="213" y="152"/>
                    </a:lnTo>
                    <a:lnTo>
                      <a:pt x="214" y="158"/>
                    </a:lnTo>
                    <a:lnTo>
                      <a:pt x="214" y="165"/>
                    </a:lnTo>
                    <a:lnTo>
                      <a:pt x="215" y="174"/>
                    </a:lnTo>
                    <a:lnTo>
                      <a:pt x="214" y="185"/>
                    </a:lnTo>
                    <a:lnTo>
                      <a:pt x="214" y="197"/>
                    </a:lnTo>
                    <a:lnTo>
                      <a:pt x="213" y="210"/>
                    </a:lnTo>
                    <a:lnTo>
                      <a:pt x="210" y="254"/>
                    </a:lnTo>
                    <a:lnTo>
                      <a:pt x="207" y="323"/>
                    </a:lnTo>
                    <a:lnTo>
                      <a:pt x="206" y="365"/>
                    </a:lnTo>
                    <a:lnTo>
                      <a:pt x="205" y="412"/>
                    </a:lnTo>
                    <a:lnTo>
                      <a:pt x="202" y="460"/>
                    </a:lnTo>
                    <a:lnTo>
                      <a:pt x="199" y="512"/>
                    </a:lnTo>
                    <a:lnTo>
                      <a:pt x="193" y="565"/>
                    </a:lnTo>
                    <a:lnTo>
                      <a:pt x="188" y="618"/>
                    </a:lnTo>
                    <a:lnTo>
                      <a:pt x="184" y="645"/>
                    </a:lnTo>
                    <a:lnTo>
                      <a:pt x="179" y="672"/>
                    </a:lnTo>
                    <a:lnTo>
                      <a:pt x="175" y="698"/>
                    </a:lnTo>
                    <a:lnTo>
                      <a:pt x="170" y="724"/>
                    </a:lnTo>
                    <a:lnTo>
                      <a:pt x="163" y="749"/>
                    </a:lnTo>
                    <a:lnTo>
                      <a:pt x="157" y="773"/>
                    </a:lnTo>
                    <a:lnTo>
                      <a:pt x="150" y="798"/>
                    </a:lnTo>
                    <a:lnTo>
                      <a:pt x="141" y="821"/>
                    </a:lnTo>
                    <a:lnTo>
                      <a:pt x="133" y="844"/>
                    </a:lnTo>
                    <a:lnTo>
                      <a:pt x="124" y="865"/>
                    </a:lnTo>
                    <a:lnTo>
                      <a:pt x="114" y="886"/>
                    </a:lnTo>
                    <a:lnTo>
                      <a:pt x="104" y="905"/>
                    </a:lnTo>
                    <a:lnTo>
                      <a:pt x="2" y="873"/>
                    </a:lnTo>
                    <a:lnTo>
                      <a:pt x="2" y="870"/>
                    </a:lnTo>
                    <a:lnTo>
                      <a:pt x="1" y="859"/>
                    </a:lnTo>
                    <a:lnTo>
                      <a:pt x="0" y="840"/>
                    </a:lnTo>
                    <a:lnTo>
                      <a:pt x="0" y="813"/>
                    </a:lnTo>
                    <a:lnTo>
                      <a:pt x="1" y="777"/>
                    </a:lnTo>
                    <a:lnTo>
                      <a:pt x="3" y="730"/>
                    </a:lnTo>
                    <a:lnTo>
                      <a:pt x="8" y="671"/>
                    </a:lnTo>
                    <a:lnTo>
                      <a:pt x="14" y="601"/>
                    </a:lnTo>
                    <a:lnTo>
                      <a:pt x="20" y="534"/>
                    </a:lnTo>
                    <a:lnTo>
                      <a:pt x="26" y="476"/>
                    </a:lnTo>
                    <a:lnTo>
                      <a:pt x="29" y="425"/>
                    </a:lnTo>
                    <a:lnTo>
                      <a:pt x="31" y="378"/>
                    </a:lnTo>
                    <a:lnTo>
                      <a:pt x="33" y="332"/>
                    </a:lnTo>
                    <a:lnTo>
                      <a:pt x="33" y="284"/>
                    </a:lnTo>
                    <a:lnTo>
                      <a:pt x="35" y="232"/>
                    </a:lnTo>
                    <a:lnTo>
                      <a:pt x="35" y="173"/>
                    </a:lnTo>
                    <a:lnTo>
                      <a:pt x="35" y="118"/>
                    </a:lnTo>
                    <a:lnTo>
                      <a:pt x="35" y="75"/>
                    </a:lnTo>
                    <a:lnTo>
                      <a:pt x="35" y="44"/>
                    </a:lnTo>
                    <a:lnTo>
                      <a:pt x="35" y="24"/>
                    </a:lnTo>
                    <a:lnTo>
                      <a:pt x="35" y="11"/>
                    </a:lnTo>
                    <a:lnTo>
                      <a:pt x="35" y="3"/>
                    </a:lnTo>
                    <a:lnTo>
                      <a:pt x="35" y="0"/>
                    </a:lnTo>
                    <a:lnTo>
                      <a:pt x="35" y="0"/>
                    </a:lnTo>
                    <a:close/>
                  </a:path>
                </a:pathLst>
              </a:custGeom>
              <a:solidFill>
                <a:srgbClr val="b5b5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6643800" y="4916520"/>
                <a:ext cx="54000" cy="177840"/>
              </a:xfrm>
              <a:custGeom>
                <a:avLst/>
                <a:gdLst/>
                <a:ahLst/>
                <a:rect l="l" t="t" r="r" b="b"/>
                <a:pathLst>
                  <a:path w="166" h="564">
                    <a:moveTo>
                      <a:pt x="0" y="0"/>
                    </a:moveTo>
                    <a:lnTo>
                      <a:pt x="155" y="0"/>
                    </a:lnTo>
                    <a:lnTo>
                      <a:pt x="157" y="12"/>
                    </a:lnTo>
                    <a:lnTo>
                      <a:pt x="161" y="48"/>
                    </a:lnTo>
                    <a:lnTo>
                      <a:pt x="163" y="73"/>
                    </a:lnTo>
                    <a:lnTo>
                      <a:pt x="164" y="102"/>
                    </a:lnTo>
                    <a:lnTo>
                      <a:pt x="166" y="135"/>
                    </a:lnTo>
                    <a:lnTo>
                      <a:pt x="166" y="173"/>
                    </a:lnTo>
                    <a:lnTo>
                      <a:pt x="166" y="214"/>
                    </a:lnTo>
                    <a:lnTo>
                      <a:pt x="164" y="257"/>
                    </a:lnTo>
                    <a:lnTo>
                      <a:pt x="161" y="304"/>
                    </a:lnTo>
                    <a:lnTo>
                      <a:pt x="156" y="352"/>
                    </a:lnTo>
                    <a:lnTo>
                      <a:pt x="150" y="404"/>
                    </a:lnTo>
                    <a:lnTo>
                      <a:pt x="141" y="456"/>
                    </a:lnTo>
                    <a:lnTo>
                      <a:pt x="136" y="483"/>
                    </a:lnTo>
                    <a:lnTo>
                      <a:pt x="129" y="510"/>
                    </a:lnTo>
                    <a:lnTo>
                      <a:pt x="123" y="537"/>
                    </a:lnTo>
                    <a:lnTo>
                      <a:pt x="115" y="564"/>
                    </a:lnTo>
                    <a:lnTo>
                      <a:pt x="0" y="20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170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6513480" y="4872240"/>
                <a:ext cx="60480" cy="287280"/>
              </a:xfrm>
              <a:custGeom>
                <a:avLst/>
                <a:gdLst/>
                <a:ahLst/>
                <a:rect l="l" t="t" r="r" b="b"/>
                <a:pathLst>
                  <a:path w="189" h="905">
                    <a:moveTo>
                      <a:pt x="73" y="905"/>
                    </a:moveTo>
                    <a:lnTo>
                      <a:pt x="2" y="873"/>
                    </a:lnTo>
                    <a:lnTo>
                      <a:pt x="2" y="870"/>
                    </a:lnTo>
                    <a:lnTo>
                      <a:pt x="1" y="859"/>
                    </a:lnTo>
                    <a:lnTo>
                      <a:pt x="0" y="840"/>
                    </a:lnTo>
                    <a:lnTo>
                      <a:pt x="0" y="813"/>
                    </a:lnTo>
                    <a:lnTo>
                      <a:pt x="1" y="777"/>
                    </a:lnTo>
                    <a:lnTo>
                      <a:pt x="3" y="730"/>
                    </a:lnTo>
                    <a:lnTo>
                      <a:pt x="8" y="671"/>
                    </a:lnTo>
                    <a:lnTo>
                      <a:pt x="14" y="601"/>
                    </a:lnTo>
                    <a:lnTo>
                      <a:pt x="20" y="534"/>
                    </a:lnTo>
                    <a:lnTo>
                      <a:pt x="26" y="476"/>
                    </a:lnTo>
                    <a:lnTo>
                      <a:pt x="29" y="425"/>
                    </a:lnTo>
                    <a:lnTo>
                      <a:pt x="31" y="378"/>
                    </a:lnTo>
                    <a:lnTo>
                      <a:pt x="33" y="332"/>
                    </a:lnTo>
                    <a:lnTo>
                      <a:pt x="33" y="284"/>
                    </a:lnTo>
                    <a:lnTo>
                      <a:pt x="35" y="232"/>
                    </a:lnTo>
                    <a:lnTo>
                      <a:pt x="35" y="173"/>
                    </a:lnTo>
                    <a:lnTo>
                      <a:pt x="35" y="118"/>
                    </a:lnTo>
                    <a:lnTo>
                      <a:pt x="35" y="75"/>
                    </a:lnTo>
                    <a:lnTo>
                      <a:pt x="35" y="44"/>
                    </a:lnTo>
                    <a:lnTo>
                      <a:pt x="35" y="24"/>
                    </a:lnTo>
                    <a:lnTo>
                      <a:pt x="35" y="11"/>
                    </a:lnTo>
                    <a:lnTo>
                      <a:pt x="35" y="3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188" y="104"/>
                    </a:lnTo>
                    <a:lnTo>
                      <a:pt x="188" y="117"/>
                    </a:lnTo>
                    <a:lnTo>
                      <a:pt x="188" y="152"/>
                    </a:lnTo>
                    <a:lnTo>
                      <a:pt x="189" y="206"/>
                    </a:lnTo>
                    <a:lnTo>
                      <a:pt x="188" y="272"/>
                    </a:lnTo>
                    <a:lnTo>
                      <a:pt x="187" y="346"/>
                    </a:lnTo>
                    <a:lnTo>
                      <a:pt x="185" y="421"/>
                    </a:lnTo>
                    <a:lnTo>
                      <a:pt x="183" y="458"/>
                    </a:lnTo>
                    <a:lnTo>
                      <a:pt x="179" y="494"/>
                    </a:lnTo>
                    <a:lnTo>
                      <a:pt x="176" y="527"/>
                    </a:lnTo>
                    <a:lnTo>
                      <a:pt x="173" y="559"/>
                    </a:lnTo>
                    <a:lnTo>
                      <a:pt x="164" y="615"/>
                    </a:lnTo>
                    <a:lnTo>
                      <a:pt x="157" y="664"/>
                    </a:lnTo>
                    <a:lnTo>
                      <a:pt x="149" y="710"/>
                    </a:lnTo>
                    <a:lnTo>
                      <a:pt x="140" y="751"/>
                    </a:lnTo>
                    <a:lnTo>
                      <a:pt x="131" y="787"/>
                    </a:lnTo>
                    <a:lnTo>
                      <a:pt x="121" y="822"/>
                    </a:lnTo>
                    <a:lnTo>
                      <a:pt x="114" y="837"/>
                    </a:lnTo>
                    <a:lnTo>
                      <a:pt x="108" y="853"/>
                    </a:lnTo>
                    <a:lnTo>
                      <a:pt x="102" y="868"/>
                    </a:lnTo>
                    <a:lnTo>
                      <a:pt x="94" y="883"/>
                    </a:lnTo>
                    <a:lnTo>
                      <a:pt x="73" y="905"/>
                    </a:lnTo>
                    <a:close/>
                  </a:path>
                </a:pathLst>
              </a:custGeom>
              <a:solidFill>
                <a:srgbClr val="969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6513480" y="4872240"/>
                <a:ext cx="190440" cy="287280"/>
              </a:xfrm>
              <a:custGeom>
                <a:avLst/>
                <a:gdLst/>
                <a:ahLst/>
                <a:rect l="l" t="t" r="r" b="b"/>
                <a:pathLst>
                  <a:path w="602" h="905">
                    <a:moveTo>
                      <a:pt x="35" y="0"/>
                    </a:moveTo>
                    <a:lnTo>
                      <a:pt x="407" y="0"/>
                    </a:lnTo>
                    <a:lnTo>
                      <a:pt x="593" y="102"/>
                    </a:lnTo>
                    <a:lnTo>
                      <a:pt x="595" y="119"/>
                    </a:lnTo>
                    <a:lnTo>
                      <a:pt x="598" y="168"/>
                    </a:lnTo>
                    <a:lnTo>
                      <a:pt x="601" y="201"/>
                    </a:lnTo>
                    <a:lnTo>
                      <a:pt x="602" y="240"/>
                    </a:lnTo>
                    <a:lnTo>
                      <a:pt x="602" y="283"/>
                    </a:lnTo>
                    <a:lnTo>
                      <a:pt x="602" y="330"/>
                    </a:lnTo>
                    <a:lnTo>
                      <a:pt x="601" y="380"/>
                    </a:lnTo>
                    <a:lnTo>
                      <a:pt x="597" y="431"/>
                    </a:lnTo>
                    <a:lnTo>
                      <a:pt x="593" y="484"/>
                    </a:lnTo>
                    <a:lnTo>
                      <a:pt x="585" y="537"/>
                    </a:lnTo>
                    <a:lnTo>
                      <a:pt x="581" y="564"/>
                    </a:lnTo>
                    <a:lnTo>
                      <a:pt x="577" y="590"/>
                    </a:lnTo>
                    <a:lnTo>
                      <a:pt x="570" y="616"/>
                    </a:lnTo>
                    <a:lnTo>
                      <a:pt x="564" y="642"/>
                    </a:lnTo>
                    <a:lnTo>
                      <a:pt x="557" y="667"/>
                    </a:lnTo>
                    <a:lnTo>
                      <a:pt x="550" y="690"/>
                    </a:lnTo>
                    <a:lnTo>
                      <a:pt x="541" y="714"/>
                    </a:lnTo>
                    <a:lnTo>
                      <a:pt x="531" y="737"/>
                    </a:lnTo>
                    <a:lnTo>
                      <a:pt x="413" y="341"/>
                    </a:lnTo>
                    <a:lnTo>
                      <a:pt x="413" y="138"/>
                    </a:lnTo>
                    <a:lnTo>
                      <a:pt x="213" y="148"/>
                    </a:lnTo>
                    <a:lnTo>
                      <a:pt x="213" y="149"/>
                    </a:lnTo>
                    <a:lnTo>
                      <a:pt x="213" y="152"/>
                    </a:lnTo>
                    <a:lnTo>
                      <a:pt x="214" y="158"/>
                    </a:lnTo>
                    <a:lnTo>
                      <a:pt x="214" y="165"/>
                    </a:lnTo>
                    <a:lnTo>
                      <a:pt x="215" y="174"/>
                    </a:lnTo>
                    <a:lnTo>
                      <a:pt x="214" y="185"/>
                    </a:lnTo>
                    <a:lnTo>
                      <a:pt x="214" y="197"/>
                    </a:lnTo>
                    <a:lnTo>
                      <a:pt x="213" y="210"/>
                    </a:lnTo>
                    <a:lnTo>
                      <a:pt x="210" y="254"/>
                    </a:lnTo>
                    <a:lnTo>
                      <a:pt x="207" y="323"/>
                    </a:lnTo>
                    <a:lnTo>
                      <a:pt x="206" y="365"/>
                    </a:lnTo>
                    <a:lnTo>
                      <a:pt x="205" y="412"/>
                    </a:lnTo>
                    <a:lnTo>
                      <a:pt x="202" y="460"/>
                    </a:lnTo>
                    <a:lnTo>
                      <a:pt x="199" y="512"/>
                    </a:lnTo>
                    <a:lnTo>
                      <a:pt x="193" y="565"/>
                    </a:lnTo>
                    <a:lnTo>
                      <a:pt x="188" y="618"/>
                    </a:lnTo>
                    <a:lnTo>
                      <a:pt x="184" y="645"/>
                    </a:lnTo>
                    <a:lnTo>
                      <a:pt x="179" y="672"/>
                    </a:lnTo>
                    <a:lnTo>
                      <a:pt x="175" y="698"/>
                    </a:lnTo>
                    <a:lnTo>
                      <a:pt x="170" y="724"/>
                    </a:lnTo>
                    <a:lnTo>
                      <a:pt x="163" y="749"/>
                    </a:lnTo>
                    <a:lnTo>
                      <a:pt x="157" y="773"/>
                    </a:lnTo>
                    <a:lnTo>
                      <a:pt x="150" y="798"/>
                    </a:lnTo>
                    <a:lnTo>
                      <a:pt x="141" y="821"/>
                    </a:lnTo>
                    <a:lnTo>
                      <a:pt x="133" y="844"/>
                    </a:lnTo>
                    <a:lnTo>
                      <a:pt x="124" y="865"/>
                    </a:lnTo>
                    <a:lnTo>
                      <a:pt x="114" y="886"/>
                    </a:lnTo>
                    <a:lnTo>
                      <a:pt x="104" y="905"/>
                    </a:lnTo>
                    <a:lnTo>
                      <a:pt x="73" y="905"/>
                    </a:lnTo>
                    <a:lnTo>
                      <a:pt x="2" y="873"/>
                    </a:lnTo>
                    <a:lnTo>
                      <a:pt x="2" y="870"/>
                    </a:lnTo>
                    <a:lnTo>
                      <a:pt x="1" y="859"/>
                    </a:lnTo>
                    <a:lnTo>
                      <a:pt x="0" y="840"/>
                    </a:lnTo>
                    <a:lnTo>
                      <a:pt x="0" y="813"/>
                    </a:lnTo>
                    <a:lnTo>
                      <a:pt x="1" y="777"/>
                    </a:lnTo>
                    <a:lnTo>
                      <a:pt x="3" y="730"/>
                    </a:lnTo>
                    <a:lnTo>
                      <a:pt x="8" y="671"/>
                    </a:lnTo>
                    <a:lnTo>
                      <a:pt x="14" y="601"/>
                    </a:lnTo>
                    <a:lnTo>
                      <a:pt x="20" y="534"/>
                    </a:lnTo>
                    <a:lnTo>
                      <a:pt x="26" y="476"/>
                    </a:lnTo>
                    <a:lnTo>
                      <a:pt x="29" y="425"/>
                    </a:lnTo>
                    <a:lnTo>
                      <a:pt x="31" y="378"/>
                    </a:lnTo>
                    <a:lnTo>
                      <a:pt x="33" y="332"/>
                    </a:lnTo>
                    <a:lnTo>
                      <a:pt x="33" y="284"/>
                    </a:lnTo>
                    <a:lnTo>
                      <a:pt x="35" y="232"/>
                    </a:lnTo>
                    <a:lnTo>
                      <a:pt x="35" y="173"/>
                    </a:lnTo>
                    <a:lnTo>
                      <a:pt x="35" y="118"/>
                    </a:lnTo>
                    <a:lnTo>
                      <a:pt x="35" y="75"/>
                    </a:lnTo>
                    <a:lnTo>
                      <a:pt x="35" y="44"/>
                    </a:lnTo>
                    <a:lnTo>
                      <a:pt x="35" y="24"/>
                    </a:lnTo>
                    <a:lnTo>
                      <a:pt x="35" y="11"/>
                    </a:lnTo>
                    <a:lnTo>
                      <a:pt x="35" y="3"/>
                    </a:lnTo>
                    <a:lnTo>
                      <a:pt x="35" y="0"/>
                    </a:lnTo>
                    <a:lnTo>
                      <a:pt x="35" y="0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6505560" y="5113440"/>
                <a:ext cx="27000" cy="31680"/>
              </a:xfrm>
              <a:custGeom>
                <a:avLst/>
                <a:gdLst/>
                <a:ahLst/>
                <a:rect l="l" t="t" r="r" b="b"/>
                <a:pathLst>
                  <a:path w="83" h="98">
                    <a:moveTo>
                      <a:pt x="6" y="69"/>
                    </a:moveTo>
                    <a:lnTo>
                      <a:pt x="67" y="98"/>
                    </a:lnTo>
                    <a:lnTo>
                      <a:pt x="68" y="97"/>
                    </a:lnTo>
                    <a:lnTo>
                      <a:pt x="73" y="90"/>
                    </a:lnTo>
                    <a:lnTo>
                      <a:pt x="77" y="82"/>
                    </a:lnTo>
                    <a:lnTo>
                      <a:pt x="81" y="70"/>
                    </a:lnTo>
                    <a:lnTo>
                      <a:pt x="82" y="62"/>
                    </a:lnTo>
                    <a:lnTo>
                      <a:pt x="83" y="55"/>
                    </a:lnTo>
                    <a:lnTo>
                      <a:pt x="83" y="46"/>
                    </a:lnTo>
                    <a:lnTo>
                      <a:pt x="82" y="37"/>
                    </a:lnTo>
                    <a:lnTo>
                      <a:pt x="81" y="29"/>
                    </a:lnTo>
                    <a:lnTo>
                      <a:pt x="78" y="19"/>
                    </a:lnTo>
                    <a:lnTo>
                      <a:pt x="74" y="9"/>
                    </a:lnTo>
                    <a:lnTo>
                      <a:pt x="67" y="0"/>
                    </a:lnTo>
                    <a:lnTo>
                      <a:pt x="6" y="29"/>
                    </a:lnTo>
                    <a:lnTo>
                      <a:pt x="5" y="29"/>
                    </a:lnTo>
                    <a:lnTo>
                      <a:pt x="5" y="30"/>
                    </a:lnTo>
                    <a:lnTo>
                      <a:pt x="4" y="31"/>
                    </a:lnTo>
                    <a:lnTo>
                      <a:pt x="2" y="32"/>
                    </a:lnTo>
                    <a:lnTo>
                      <a:pt x="2" y="35"/>
                    </a:lnTo>
                    <a:lnTo>
                      <a:pt x="1" y="38"/>
                    </a:lnTo>
                    <a:lnTo>
                      <a:pt x="0" y="43"/>
                    </a:lnTo>
                    <a:lnTo>
                      <a:pt x="0" y="49"/>
                    </a:lnTo>
                    <a:lnTo>
                      <a:pt x="0" y="55"/>
                    </a:lnTo>
                    <a:lnTo>
                      <a:pt x="1" y="59"/>
                    </a:lnTo>
                    <a:lnTo>
                      <a:pt x="2" y="62"/>
                    </a:lnTo>
                    <a:lnTo>
                      <a:pt x="2" y="65"/>
                    </a:lnTo>
                    <a:lnTo>
                      <a:pt x="4" y="67"/>
                    </a:lnTo>
                    <a:lnTo>
                      <a:pt x="5" y="68"/>
                    </a:lnTo>
                    <a:lnTo>
                      <a:pt x="5" y="69"/>
                    </a:lnTo>
                    <a:lnTo>
                      <a:pt x="6" y="69"/>
                    </a:lnTo>
                    <a:close/>
                  </a:path>
                </a:pathLst>
              </a:custGeom>
              <a:solidFill>
                <a:srgbClr val="b5b5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2" name=""/>
            <p:cNvGrpSpPr/>
            <p:nvPr/>
          </p:nvGrpSpPr>
          <p:grpSpPr>
            <a:xfrm>
              <a:off x="5518080" y="3094200"/>
              <a:ext cx="2203560" cy="2685960"/>
              <a:chOff x="5518080" y="3094200"/>
              <a:chExt cx="2203560" cy="2685960"/>
            </a:xfrm>
          </p:grpSpPr>
          <p:sp>
            <p:nvSpPr>
              <p:cNvPr id="513" name=""/>
              <p:cNvSpPr/>
              <p:nvPr/>
            </p:nvSpPr>
            <p:spPr>
              <a:xfrm>
                <a:off x="6505560" y="5113440"/>
                <a:ext cx="27000" cy="31680"/>
              </a:xfrm>
              <a:custGeom>
                <a:avLst/>
                <a:gdLst/>
                <a:ahLst/>
                <a:rect l="l" t="t" r="r" b="b"/>
                <a:pathLst>
                  <a:path w="83" h="98">
                    <a:moveTo>
                      <a:pt x="6" y="69"/>
                    </a:moveTo>
                    <a:lnTo>
                      <a:pt x="67" y="98"/>
                    </a:lnTo>
                    <a:lnTo>
                      <a:pt x="68" y="97"/>
                    </a:lnTo>
                    <a:lnTo>
                      <a:pt x="73" y="90"/>
                    </a:lnTo>
                    <a:lnTo>
                      <a:pt x="77" y="82"/>
                    </a:lnTo>
                    <a:lnTo>
                      <a:pt x="81" y="70"/>
                    </a:lnTo>
                    <a:lnTo>
                      <a:pt x="82" y="62"/>
                    </a:lnTo>
                    <a:lnTo>
                      <a:pt x="83" y="55"/>
                    </a:lnTo>
                    <a:lnTo>
                      <a:pt x="83" y="46"/>
                    </a:lnTo>
                    <a:lnTo>
                      <a:pt x="82" y="37"/>
                    </a:lnTo>
                    <a:lnTo>
                      <a:pt x="81" y="29"/>
                    </a:lnTo>
                    <a:lnTo>
                      <a:pt x="78" y="19"/>
                    </a:lnTo>
                    <a:lnTo>
                      <a:pt x="74" y="9"/>
                    </a:lnTo>
                    <a:lnTo>
                      <a:pt x="67" y="0"/>
                    </a:lnTo>
                    <a:lnTo>
                      <a:pt x="6" y="29"/>
                    </a:lnTo>
                    <a:lnTo>
                      <a:pt x="5" y="29"/>
                    </a:lnTo>
                    <a:lnTo>
                      <a:pt x="5" y="30"/>
                    </a:lnTo>
                    <a:lnTo>
                      <a:pt x="4" y="31"/>
                    </a:lnTo>
                    <a:lnTo>
                      <a:pt x="2" y="32"/>
                    </a:lnTo>
                    <a:lnTo>
                      <a:pt x="2" y="35"/>
                    </a:lnTo>
                    <a:lnTo>
                      <a:pt x="1" y="38"/>
                    </a:lnTo>
                    <a:lnTo>
                      <a:pt x="0" y="43"/>
                    </a:lnTo>
                    <a:lnTo>
                      <a:pt x="0" y="49"/>
                    </a:lnTo>
                    <a:lnTo>
                      <a:pt x="0" y="55"/>
                    </a:lnTo>
                    <a:lnTo>
                      <a:pt x="1" y="59"/>
                    </a:lnTo>
                    <a:lnTo>
                      <a:pt x="2" y="62"/>
                    </a:lnTo>
                    <a:lnTo>
                      <a:pt x="2" y="65"/>
                    </a:lnTo>
                    <a:lnTo>
                      <a:pt x="4" y="67"/>
                    </a:lnTo>
                    <a:lnTo>
                      <a:pt x="5" y="68"/>
                    </a:lnTo>
                    <a:lnTo>
                      <a:pt x="5" y="69"/>
                    </a:lnTo>
                    <a:lnTo>
                      <a:pt x="6" y="69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6512040" y="5116680"/>
                <a:ext cx="17280" cy="9360"/>
              </a:xfrm>
              <a:custGeom>
                <a:avLst/>
                <a:gdLst/>
                <a:ahLst/>
                <a:rect l="l" t="t" r="r" b="b"/>
                <a:pathLst>
                  <a:path w="54" h="27">
                    <a:moveTo>
                      <a:pt x="0" y="23"/>
                    </a:moveTo>
                    <a:lnTo>
                      <a:pt x="47" y="0"/>
                    </a:lnTo>
                    <a:lnTo>
                      <a:pt x="54" y="12"/>
                    </a:lnTo>
                    <a:lnTo>
                      <a:pt x="2" y="27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dbdb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6510240" y="5132520"/>
                <a:ext cx="19080" cy="11160"/>
              </a:xfrm>
              <a:custGeom>
                <a:avLst/>
                <a:gdLst/>
                <a:ahLst/>
                <a:rect l="l" t="t" r="r" b="b"/>
                <a:pathLst>
                  <a:path w="60" h="34">
                    <a:moveTo>
                      <a:pt x="0" y="6"/>
                    </a:moveTo>
                    <a:lnTo>
                      <a:pt x="50" y="34"/>
                    </a:lnTo>
                    <a:lnTo>
                      <a:pt x="60" y="12"/>
                    </a:lnTo>
                    <a:lnTo>
                      <a:pt x="3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908f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6621480" y="4930920"/>
                <a:ext cx="69840" cy="223920"/>
              </a:xfrm>
              <a:custGeom>
                <a:avLst/>
                <a:gdLst/>
                <a:ahLst/>
                <a:rect l="l" t="t" r="r" b="b"/>
                <a:pathLst>
                  <a:path w="218" h="706">
                    <a:moveTo>
                      <a:pt x="0" y="0"/>
                    </a:moveTo>
                    <a:lnTo>
                      <a:pt x="11" y="7"/>
                    </a:lnTo>
                    <a:lnTo>
                      <a:pt x="22" y="17"/>
                    </a:lnTo>
                    <a:lnTo>
                      <a:pt x="33" y="27"/>
                    </a:lnTo>
                    <a:lnTo>
                      <a:pt x="44" y="38"/>
                    </a:lnTo>
                    <a:lnTo>
                      <a:pt x="55" y="50"/>
                    </a:lnTo>
                    <a:lnTo>
                      <a:pt x="64" y="61"/>
                    </a:lnTo>
                    <a:lnTo>
                      <a:pt x="75" y="76"/>
                    </a:lnTo>
                    <a:lnTo>
                      <a:pt x="85" y="90"/>
                    </a:lnTo>
                    <a:lnTo>
                      <a:pt x="94" y="104"/>
                    </a:lnTo>
                    <a:lnTo>
                      <a:pt x="103" y="119"/>
                    </a:lnTo>
                    <a:lnTo>
                      <a:pt x="113" y="135"/>
                    </a:lnTo>
                    <a:lnTo>
                      <a:pt x="121" y="152"/>
                    </a:lnTo>
                    <a:lnTo>
                      <a:pt x="138" y="187"/>
                    </a:lnTo>
                    <a:lnTo>
                      <a:pt x="154" y="225"/>
                    </a:lnTo>
                    <a:lnTo>
                      <a:pt x="168" y="266"/>
                    </a:lnTo>
                    <a:lnTo>
                      <a:pt x="180" y="308"/>
                    </a:lnTo>
                    <a:lnTo>
                      <a:pt x="192" y="351"/>
                    </a:lnTo>
                    <a:lnTo>
                      <a:pt x="200" y="397"/>
                    </a:lnTo>
                    <a:lnTo>
                      <a:pt x="208" y="445"/>
                    </a:lnTo>
                    <a:lnTo>
                      <a:pt x="213" y="493"/>
                    </a:lnTo>
                    <a:lnTo>
                      <a:pt x="215" y="518"/>
                    </a:lnTo>
                    <a:lnTo>
                      <a:pt x="217" y="544"/>
                    </a:lnTo>
                    <a:lnTo>
                      <a:pt x="218" y="569"/>
                    </a:lnTo>
                    <a:lnTo>
                      <a:pt x="218" y="595"/>
                    </a:lnTo>
                    <a:lnTo>
                      <a:pt x="218" y="609"/>
                    </a:lnTo>
                    <a:lnTo>
                      <a:pt x="218" y="623"/>
                    </a:lnTo>
                    <a:lnTo>
                      <a:pt x="217" y="637"/>
                    </a:lnTo>
                    <a:lnTo>
                      <a:pt x="217" y="651"/>
                    </a:lnTo>
                    <a:lnTo>
                      <a:pt x="215" y="665"/>
                    </a:lnTo>
                    <a:lnTo>
                      <a:pt x="214" y="678"/>
                    </a:lnTo>
                    <a:lnTo>
                      <a:pt x="214" y="692"/>
                    </a:lnTo>
                    <a:lnTo>
                      <a:pt x="213" y="706"/>
                    </a:lnTo>
                    <a:lnTo>
                      <a:pt x="92" y="338"/>
                    </a:lnTo>
                    <a:lnTo>
                      <a:pt x="16" y="8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e43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6535800" y="4875120"/>
                <a:ext cx="156960" cy="28800"/>
              </a:xfrm>
              <a:custGeom>
                <a:avLst/>
                <a:gdLst/>
                <a:ahLst/>
                <a:rect l="l" t="t" r="r" b="b"/>
                <a:pathLst>
                  <a:path w="499" h="94">
                    <a:moveTo>
                      <a:pt x="0" y="0"/>
                    </a:moveTo>
                    <a:lnTo>
                      <a:pt x="141" y="94"/>
                    </a:lnTo>
                    <a:lnTo>
                      <a:pt x="499" y="90"/>
                    </a:lnTo>
                    <a:lnTo>
                      <a:pt x="33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bdb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 flipV="1">
                <a:off x="6575400" y="4905000"/>
                <a:ext cx="123840" cy="180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6507000" y="5124600"/>
                <a:ext cx="6480" cy="11160"/>
              </a:xfrm>
              <a:custGeom>
                <a:avLst/>
                <a:gdLst/>
                <a:ahLst/>
                <a:rect l="l" t="t" r="r" b="b"/>
                <a:pathLst>
                  <a:path w="23" h="35">
                    <a:moveTo>
                      <a:pt x="11" y="35"/>
                    </a:moveTo>
                    <a:lnTo>
                      <a:pt x="11" y="35"/>
                    </a:lnTo>
                    <a:lnTo>
                      <a:pt x="12" y="35"/>
                    </a:lnTo>
                    <a:lnTo>
                      <a:pt x="13" y="35"/>
                    </a:lnTo>
                    <a:lnTo>
                      <a:pt x="14" y="35"/>
                    </a:lnTo>
                    <a:lnTo>
                      <a:pt x="16" y="35"/>
                    </a:lnTo>
                    <a:lnTo>
                      <a:pt x="17" y="35"/>
                    </a:lnTo>
                    <a:lnTo>
                      <a:pt x="18" y="35"/>
                    </a:lnTo>
                    <a:lnTo>
                      <a:pt x="18" y="35"/>
                    </a:lnTo>
                    <a:lnTo>
                      <a:pt x="19" y="32"/>
                    </a:lnTo>
                    <a:lnTo>
                      <a:pt x="20" y="30"/>
                    </a:lnTo>
                    <a:lnTo>
                      <a:pt x="21" y="28"/>
                    </a:lnTo>
                    <a:lnTo>
                      <a:pt x="22" y="27"/>
                    </a:lnTo>
                    <a:lnTo>
                      <a:pt x="22" y="25"/>
                    </a:lnTo>
                    <a:lnTo>
                      <a:pt x="23" y="22"/>
                    </a:lnTo>
                    <a:lnTo>
                      <a:pt x="23" y="19"/>
                    </a:lnTo>
                    <a:lnTo>
                      <a:pt x="23" y="17"/>
                    </a:lnTo>
                    <a:lnTo>
                      <a:pt x="23" y="13"/>
                    </a:lnTo>
                    <a:lnTo>
                      <a:pt x="22" y="10"/>
                    </a:lnTo>
                    <a:lnTo>
                      <a:pt x="21" y="8"/>
                    </a:lnTo>
                    <a:lnTo>
                      <a:pt x="20" y="4"/>
                    </a:lnTo>
                    <a:lnTo>
                      <a:pt x="18" y="2"/>
                    </a:lnTo>
                    <a:lnTo>
                      <a:pt x="16" y="1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7" y="1"/>
                    </a:lnTo>
                    <a:lnTo>
                      <a:pt x="6" y="2"/>
                    </a:lnTo>
                    <a:lnTo>
                      <a:pt x="4" y="4"/>
                    </a:lnTo>
                    <a:lnTo>
                      <a:pt x="3" y="8"/>
                    </a:lnTo>
                    <a:lnTo>
                      <a:pt x="2" y="10"/>
                    </a:lnTo>
                    <a:lnTo>
                      <a:pt x="2" y="13"/>
                    </a:lnTo>
                    <a:lnTo>
                      <a:pt x="0" y="17"/>
                    </a:lnTo>
                    <a:lnTo>
                      <a:pt x="2" y="20"/>
                    </a:lnTo>
                    <a:lnTo>
                      <a:pt x="2" y="24"/>
                    </a:lnTo>
                    <a:lnTo>
                      <a:pt x="3" y="27"/>
                    </a:lnTo>
                    <a:lnTo>
                      <a:pt x="4" y="29"/>
                    </a:lnTo>
                    <a:lnTo>
                      <a:pt x="6" y="31"/>
                    </a:lnTo>
                    <a:lnTo>
                      <a:pt x="7" y="32"/>
                    </a:lnTo>
                    <a:lnTo>
                      <a:pt x="9" y="33"/>
                    </a:lnTo>
                    <a:lnTo>
                      <a:pt x="11" y="35"/>
                    </a:lnTo>
                    <a:close/>
                  </a:path>
                </a:pathLst>
              </a:custGeom>
              <a:solidFill>
                <a:srgbClr val="605d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6570720" y="4721400"/>
                <a:ext cx="66600" cy="176040"/>
              </a:xfrm>
              <a:custGeom>
                <a:avLst/>
                <a:gdLst/>
                <a:ahLst/>
                <a:rect l="l" t="t" r="r" b="b"/>
                <a:pathLst>
                  <a:path w="210" h="555">
                    <a:moveTo>
                      <a:pt x="0" y="4"/>
                    </a:moveTo>
                    <a:lnTo>
                      <a:pt x="0" y="486"/>
                    </a:lnTo>
                    <a:lnTo>
                      <a:pt x="0" y="489"/>
                    </a:lnTo>
                    <a:lnTo>
                      <a:pt x="1" y="497"/>
                    </a:lnTo>
                    <a:lnTo>
                      <a:pt x="2" y="502"/>
                    </a:lnTo>
                    <a:lnTo>
                      <a:pt x="4" y="509"/>
                    </a:lnTo>
                    <a:lnTo>
                      <a:pt x="7" y="514"/>
                    </a:lnTo>
                    <a:lnTo>
                      <a:pt x="11" y="521"/>
                    </a:lnTo>
                    <a:lnTo>
                      <a:pt x="17" y="527"/>
                    </a:lnTo>
                    <a:lnTo>
                      <a:pt x="24" y="534"/>
                    </a:lnTo>
                    <a:lnTo>
                      <a:pt x="33" y="540"/>
                    </a:lnTo>
                    <a:lnTo>
                      <a:pt x="44" y="544"/>
                    </a:lnTo>
                    <a:lnTo>
                      <a:pt x="56" y="550"/>
                    </a:lnTo>
                    <a:lnTo>
                      <a:pt x="71" y="553"/>
                    </a:lnTo>
                    <a:lnTo>
                      <a:pt x="88" y="555"/>
                    </a:lnTo>
                    <a:lnTo>
                      <a:pt x="109" y="555"/>
                    </a:lnTo>
                    <a:lnTo>
                      <a:pt x="128" y="555"/>
                    </a:lnTo>
                    <a:lnTo>
                      <a:pt x="145" y="553"/>
                    </a:lnTo>
                    <a:lnTo>
                      <a:pt x="160" y="549"/>
                    </a:lnTo>
                    <a:lnTo>
                      <a:pt x="172" y="544"/>
                    </a:lnTo>
                    <a:lnTo>
                      <a:pt x="182" y="539"/>
                    </a:lnTo>
                    <a:lnTo>
                      <a:pt x="191" y="532"/>
                    </a:lnTo>
                    <a:lnTo>
                      <a:pt x="197" y="526"/>
                    </a:lnTo>
                    <a:lnTo>
                      <a:pt x="202" y="520"/>
                    </a:lnTo>
                    <a:lnTo>
                      <a:pt x="205" y="513"/>
                    </a:lnTo>
                    <a:lnTo>
                      <a:pt x="208" y="507"/>
                    </a:lnTo>
                    <a:lnTo>
                      <a:pt x="209" y="501"/>
                    </a:lnTo>
                    <a:lnTo>
                      <a:pt x="210" y="495"/>
                    </a:lnTo>
                    <a:lnTo>
                      <a:pt x="210" y="487"/>
                    </a:lnTo>
                    <a:lnTo>
                      <a:pt x="210" y="484"/>
                    </a:lnTo>
                    <a:lnTo>
                      <a:pt x="210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8c8b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6570720" y="3822840"/>
                <a:ext cx="838080" cy="1380960"/>
              </a:xfrm>
              <a:custGeom>
                <a:avLst/>
                <a:gdLst/>
                <a:ahLst/>
                <a:rect l="l" t="t" r="r" b="b"/>
                <a:pathLst>
                  <a:path w="2640" h="4349">
                    <a:moveTo>
                      <a:pt x="210" y="2481"/>
                    </a:moveTo>
                    <a:lnTo>
                      <a:pt x="210" y="2614"/>
                    </a:lnTo>
                    <a:lnTo>
                      <a:pt x="0" y="2621"/>
                    </a:lnTo>
                    <a:lnTo>
                      <a:pt x="0" y="211"/>
                    </a:lnTo>
                    <a:lnTo>
                      <a:pt x="6" y="223"/>
                    </a:lnTo>
                    <a:lnTo>
                      <a:pt x="14" y="232"/>
                    </a:lnTo>
                    <a:lnTo>
                      <a:pt x="21" y="240"/>
                    </a:lnTo>
                    <a:lnTo>
                      <a:pt x="29" y="247"/>
                    </a:lnTo>
                    <a:lnTo>
                      <a:pt x="37" y="251"/>
                    </a:lnTo>
                    <a:lnTo>
                      <a:pt x="46" y="255"/>
                    </a:lnTo>
                    <a:lnTo>
                      <a:pt x="56" y="256"/>
                    </a:lnTo>
                    <a:lnTo>
                      <a:pt x="64" y="257"/>
                    </a:lnTo>
                    <a:lnTo>
                      <a:pt x="73" y="257"/>
                    </a:lnTo>
                    <a:lnTo>
                      <a:pt x="83" y="257"/>
                    </a:lnTo>
                    <a:lnTo>
                      <a:pt x="91" y="255"/>
                    </a:lnTo>
                    <a:lnTo>
                      <a:pt x="99" y="253"/>
                    </a:lnTo>
                    <a:lnTo>
                      <a:pt x="114" y="248"/>
                    </a:lnTo>
                    <a:lnTo>
                      <a:pt x="126" y="241"/>
                    </a:lnTo>
                    <a:lnTo>
                      <a:pt x="131" y="237"/>
                    </a:lnTo>
                    <a:lnTo>
                      <a:pt x="137" y="230"/>
                    </a:lnTo>
                    <a:lnTo>
                      <a:pt x="143" y="223"/>
                    </a:lnTo>
                    <a:lnTo>
                      <a:pt x="149" y="213"/>
                    </a:lnTo>
                    <a:lnTo>
                      <a:pt x="162" y="189"/>
                    </a:lnTo>
                    <a:lnTo>
                      <a:pt x="175" y="162"/>
                    </a:lnTo>
                    <a:lnTo>
                      <a:pt x="190" y="133"/>
                    </a:lnTo>
                    <a:lnTo>
                      <a:pt x="206" y="104"/>
                    </a:lnTo>
                    <a:lnTo>
                      <a:pt x="215" y="90"/>
                    </a:lnTo>
                    <a:lnTo>
                      <a:pt x="224" y="76"/>
                    </a:lnTo>
                    <a:lnTo>
                      <a:pt x="234" y="63"/>
                    </a:lnTo>
                    <a:lnTo>
                      <a:pt x="245" y="51"/>
                    </a:lnTo>
                    <a:lnTo>
                      <a:pt x="250" y="46"/>
                    </a:lnTo>
                    <a:lnTo>
                      <a:pt x="256" y="40"/>
                    </a:lnTo>
                    <a:lnTo>
                      <a:pt x="262" y="36"/>
                    </a:lnTo>
                    <a:lnTo>
                      <a:pt x="269" y="32"/>
                    </a:lnTo>
                    <a:lnTo>
                      <a:pt x="284" y="24"/>
                    </a:lnTo>
                    <a:lnTo>
                      <a:pt x="299" y="18"/>
                    </a:lnTo>
                    <a:lnTo>
                      <a:pt x="316" y="12"/>
                    </a:lnTo>
                    <a:lnTo>
                      <a:pt x="333" y="8"/>
                    </a:lnTo>
                    <a:lnTo>
                      <a:pt x="352" y="5"/>
                    </a:lnTo>
                    <a:lnTo>
                      <a:pt x="370" y="2"/>
                    </a:lnTo>
                    <a:lnTo>
                      <a:pt x="387" y="1"/>
                    </a:lnTo>
                    <a:lnTo>
                      <a:pt x="405" y="0"/>
                    </a:lnTo>
                    <a:lnTo>
                      <a:pt x="421" y="0"/>
                    </a:lnTo>
                    <a:lnTo>
                      <a:pt x="437" y="0"/>
                    </a:lnTo>
                    <a:lnTo>
                      <a:pt x="463" y="2"/>
                    </a:lnTo>
                    <a:lnTo>
                      <a:pt x="481" y="6"/>
                    </a:lnTo>
                    <a:lnTo>
                      <a:pt x="496" y="9"/>
                    </a:lnTo>
                    <a:lnTo>
                      <a:pt x="523" y="12"/>
                    </a:lnTo>
                    <a:lnTo>
                      <a:pt x="562" y="15"/>
                    </a:lnTo>
                    <a:lnTo>
                      <a:pt x="611" y="20"/>
                    </a:lnTo>
                    <a:lnTo>
                      <a:pt x="729" y="27"/>
                    </a:lnTo>
                    <a:lnTo>
                      <a:pt x="863" y="36"/>
                    </a:lnTo>
                    <a:lnTo>
                      <a:pt x="1000" y="43"/>
                    </a:lnTo>
                    <a:lnTo>
                      <a:pt x="1124" y="51"/>
                    </a:lnTo>
                    <a:lnTo>
                      <a:pt x="1223" y="55"/>
                    </a:lnTo>
                    <a:lnTo>
                      <a:pt x="1283" y="59"/>
                    </a:lnTo>
                    <a:lnTo>
                      <a:pt x="1497" y="65"/>
                    </a:lnTo>
                    <a:lnTo>
                      <a:pt x="1682" y="72"/>
                    </a:lnTo>
                    <a:lnTo>
                      <a:pt x="1840" y="79"/>
                    </a:lnTo>
                    <a:lnTo>
                      <a:pt x="1975" y="88"/>
                    </a:lnTo>
                    <a:lnTo>
                      <a:pt x="2088" y="96"/>
                    </a:lnTo>
                    <a:lnTo>
                      <a:pt x="2180" y="105"/>
                    </a:lnTo>
                    <a:lnTo>
                      <a:pt x="2253" y="114"/>
                    </a:lnTo>
                    <a:lnTo>
                      <a:pt x="2310" y="122"/>
                    </a:lnTo>
                    <a:lnTo>
                      <a:pt x="2352" y="130"/>
                    </a:lnTo>
                    <a:lnTo>
                      <a:pt x="2384" y="137"/>
                    </a:lnTo>
                    <a:lnTo>
                      <a:pt x="2404" y="144"/>
                    </a:lnTo>
                    <a:lnTo>
                      <a:pt x="2416" y="150"/>
                    </a:lnTo>
                    <a:lnTo>
                      <a:pt x="2419" y="153"/>
                    </a:lnTo>
                    <a:lnTo>
                      <a:pt x="2421" y="155"/>
                    </a:lnTo>
                    <a:lnTo>
                      <a:pt x="2423" y="157"/>
                    </a:lnTo>
                    <a:lnTo>
                      <a:pt x="2424" y="159"/>
                    </a:lnTo>
                    <a:lnTo>
                      <a:pt x="2424" y="161"/>
                    </a:lnTo>
                    <a:lnTo>
                      <a:pt x="2423" y="162"/>
                    </a:lnTo>
                    <a:lnTo>
                      <a:pt x="2443" y="172"/>
                    </a:lnTo>
                    <a:lnTo>
                      <a:pt x="2461" y="184"/>
                    </a:lnTo>
                    <a:lnTo>
                      <a:pt x="2480" y="197"/>
                    </a:lnTo>
                    <a:lnTo>
                      <a:pt x="2496" y="211"/>
                    </a:lnTo>
                    <a:lnTo>
                      <a:pt x="2511" y="226"/>
                    </a:lnTo>
                    <a:lnTo>
                      <a:pt x="2525" y="242"/>
                    </a:lnTo>
                    <a:lnTo>
                      <a:pt x="2538" y="259"/>
                    </a:lnTo>
                    <a:lnTo>
                      <a:pt x="2550" y="277"/>
                    </a:lnTo>
                    <a:lnTo>
                      <a:pt x="2562" y="295"/>
                    </a:lnTo>
                    <a:lnTo>
                      <a:pt x="2572" y="315"/>
                    </a:lnTo>
                    <a:lnTo>
                      <a:pt x="2581" y="333"/>
                    </a:lnTo>
                    <a:lnTo>
                      <a:pt x="2589" y="352"/>
                    </a:lnTo>
                    <a:lnTo>
                      <a:pt x="2597" y="373"/>
                    </a:lnTo>
                    <a:lnTo>
                      <a:pt x="2603" y="392"/>
                    </a:lnTo>
                    <a:lnTo>
                      <a:pt x="2609" y="412"/>
                    </a:lnTo>
                    <a:lnTo>
                      <a:pt x="2615" y="431"/>
                    </a:lnTo>
                    <a:lnTo>
                      <a:pt x="2624" y="469"/>
                    </a:lnTo>
                    <a:lnTo>
                      <a:pt x="2630" y="505"/>
                    </a:lnTo>
                    <a:lnTo>
                      <a:pt x="2634" y="537"/>
                    </a:lnTo>
                    <a:lnTo>
                      <a:pt x="2638" y="566"/>
                    </a:lnTo>
                    <a:lnTo>
                      <a:pt x="2640" y="608"/>
                    </a:lnTo>
                    <a:lnTo>
                      <a:pt x="2640" y="625"/>
                    </a:lnTo>
                    <a:lnTo>
                      <a:pt x="2640" y="4349"/>
                    </a:lnTo>
                    <a:lnTo>
                      <a:pt x="2633" y="4344"/>
                    </a:lnTo>
                    <a:lnTo>
                      <a:pt x="2627" y="4339"/>
                    </a:lnTo>
                    <a:lnTo>
                      <a:pt x="2621" y="4333"/>
                    </a:lnTo>
                    <a:lnTo>
                      <a:pt x="2616" y="4328"/>
                    </a:lnTo>
                    <a:lnTo>
                      <a:pt x="2609" y="4316"/>
                    </a:lnTo>
                    <a:lnTo>
                      <a:pt x="2605" y="4305"/>
                    </a:lnTo>
                    <a:lnTo>
                      <a:pt x="2602" y="4297"/>
                    </a:lnTo>
                    <a:lnTo>
                      <a:pt x="2601" y="4289"/>
                    </a:lnTo>
                    <a:lnTo>
                      <a:pt x="2601" y="4285"/>
                    </a:lnTo>
                    <a:lnTo>
                      <a:pt x="2601" y="4282"/>
                    </a:lnTo>
                    <a:lnTo>
                      <a:pt x="2601" y="636"/>
                    </a:lnTo>
                    <a:lnTo>
                      <a:pt x="2601" y="626"/>
                    </a:lnTo>
                    <a:lnTo>
                      <a:pt x="2599" y="596"/>
                    </a:lnTo>
                    <a:lnTo>
                      <a:pt x="2598" y="576"/>
                    </a:lnTo>
                    <a:lnTo>
                      <a:pt x="2595" y="552"/>
                    </a:lnTo>
                    <a:lnTo>
                      <a:pt x="2592" y="526"/>
                    </a:lnTo>
                    <a:lnTo>
                      <a:pt x="2588" y="498"/>
                    </a:lnTo>
                    <a:lnTo>
                      <a:pt x="2581" y="468"/>
                    </a:lnTo>
                    <a:lnTo>
                      <a:pt x="2575" y="438"/>
                    </a:lnTo>
                    <a:lnTo>
                      <a:pt x="2565" y="407"/>
                    </a:lnTo>
                    <a:lnTo>
                      <a:pt x="2554" y="377"/>
                    </a:lnTo>
                    <a:lnTo>
                      <a:pt x="2549" y="362"/>
                    </a:lnTo>
                    <a:lnTo>
                      <a:pt x="2541" y="347"/>
                    </a:lnTo>
                    <a:lnTo>
                      <a:pt x="2535" y="333"/>
                    </a:lnTo>
                    <a:lnTo>
                      <a:pt x="2526" y="319"/>
                    </a:lnTo>
                    <a:lnTo>
                      <a:pt x="2519" y="305"/>
                    </a:lnTo>
                    <a:lnTo>
                      <a:pt x="2509" y="292"/>
                    </a:lnTo>
                    <a:lnTo>
                      <a:pt x="2499" y="280"/>
                    </a:lnTo>
                    <a:lnTo>
                      <a:pt x="2490" y="268"/>
                    </a:lnTo>
                    <a:lnTo>
                      <a:pt x="2473" y="252"/>
                    </a:lnTo>
                    <a:lnTo>
                      <a:pt x="2459" y="237"/>
                    </a:lnTo>
                    <a:lnTo>
                      <a:pt x="2444" y="224"/>
                    </a:lnTo>
                    <a:lnTo>
                      <a:pt x="2430" y="211"/>
                    </a:lnTo>
                    <a:lnTo>
                      <a:pt x="2416" y="200"/>
                    </a:lnTo>
                    <a:lnTo>
                      <a:pt x="2402" y="190"/>
                    </a:lnTo>
                    <a:lnTo>
                      <a:pt x="2387" y="182"/>
                    </a:lnTo>
                    <a:lnTo>
                      <a:pt x="2372" y="173"/>
                    </a:lnTo>
                    <a:lnTo>
                      <a:pt x="2356" y="167"/>
                    </a:lnTo>
                    <a:lnTo>
                      <a:pt x="2339" y="160"/>
                    </a:lnTo>
                    <a:lnTo>
                      <a:pt x="2321" y="155"/>
                    </a:lnTo>
                    <a:lnTo>
                      <a:pt x="2301" y="150"/>
                    </a:lnTo>
                    <a:lnTo>
                      <a:pt x="2280" y="146"/>
                    </a:lnTo>
                    <a:lnTo>
                      <a:pt x="2256" y="143"/>
                    </a:lnTo>
                    <a:lnTo>
                      <a:pt x="2231" y="140"/>
                    </a:lnTo>
                    <a:lnTo>
                      <a:pt x="2203" y="137"/>
                    </a:lnTo>
                    <a:lnTo>
                      <a:pt x="2141" y="133"/>
                    </a:lnTo>
                    <a:lnTo>
                      <a:pt x="2066" y="130"/>
                    </a:lnTo>
                    <a:lnTo>
                      <a:pt x="1978" y="127"/>
                    </a:lnTo>
                    <a:lnTo>
                      <a:pt x="1875" y="122"/>
                    </a:lnTo>
                    <a:lnTo>
                      <a:pt x="1755" y="118"/>
                    </a:lnTo>
                    <a:lnTo>
                      <a:pt x="1617" y="112"/>
                    </a:lnTo>
                    <a:lnTo>
                      <a:pt x="1458" y="102"/>
                    </a:lnTo>
                    <a:lnTo>
                      <a:pt x="1277" y="90"/>
                    </a:lnTo>
                    <a:lnTo>
                      <a:pt x="1232" y="89"/>
                    </a:lnTo>
                    <a:lnTo>
                      <a:pt x="1145" y="85"/>
                    </a:lnTo>
                    <a:lnTo>
                      <a:pt x="1029" y="80"/>
                    </a:lnTo>
                    <a:lnTo>
                      <a:pt x="898" y="74"/>
                    </a:lnTo>
                    <a:lnTo>
                      <a:pt x="769" y="68"/>
                    </a:lnTo>
                    <a:lnTo>
                      <a:pt x="653" y="62"/>
                    </a:lnTo>
                    <a:lnTo>
                      <a:pt x="604" y="59"/>
                    </a:lnTo>
                    <a:lnTo>
                      <a:pt x="566" y="55"/>
                    </a:lnTo>
                    <a:lnTo>
                      <a:pt x="538" y="53"/>
                    </a:lnTo>
                    <a:lnTo>
                      <a:pt x="521" y="51"/>
                    </a:lnTo>
                    <a:lnTo>
                      <a:pt x="498" y="47"/>
                    </a:lnTo>
                    <a:lnTo>
                      <a:pt x="465" y="42"/>
                    </a:lnTo>
                    <a:lnTo>
                      <a:pt x="446" y="41"/>
                    </a:lnTo>
                    <a:lnTo>
                      <a:pt x="426" y="40"/>
                    </a:lnTo>
                    <a:lnTo>
                      <a:pt x="405" y="40"/>
                    </a:lnTo>
                    <a:lnTo>
                      <a:pt x="384" y="41"/>
                    </a:lnTo>
                    <a:lnTo>
                      <a:pt x="363" y="43"/>
                    </a:lnTo>
                    <a:lnTo>
                      <a:pt x="341" y="48"/>
                    </a:lnTo>
                    <a:lnTo>
                      <a:pt x="320" y="54"/>
                    </a:lnTo>
                    <a:lnTo>
                      <a:pt x="301" y="62"/>
                    </a:lnTo>
                    <a:lnTo>
                      <a:pt x="291" y="66"/>
                    </a:lnTo>
                    <a:lnTo>
                      <a:pt x="281" y="72"/>
                    </a:lnTo>
                    <a:lnTo>
                      <a:pt x="273" y="78"/>
                    </a:lnTo>
                    <a:lnTo>
                      <a:pt x="265" y="85"/>
                    </a:lnTo>
                    <a:lnTo>
                      <a:pt x="257" y="92"/>
                    </a:lnTo>
                    <a:lnTo>
                      <a:pt x="250" y="100"/>
                    </a:lnTo>
                    <a:lnTo>
                      <a:pt x="243" y="108"/>
                    </a:lnTo>
                    <a:lnTo>
                      <a:pt x="237" y="117"/>
                    </a:lnTo>
                    <a:lnTo>
                      <a:pt x="236" y="119"/>
                    </a:lnTo>
                    <a:lnTo>
                      <a:pt x="233" y="126"/>
                    </a:lnTo>
                    <a:lnTo>
                      <a:pt x="229" y="137"/>
                    </a:lnTo>
                    <a:lnTo>
                      <a:pt x="223" y="157"/>
                    </a:lnTo>
                    <a:lnTo>
                      <a:pt x="219" y="185"/>
                    </a:lnTo>
                    <a:lnTo>
                      <a:pt x="215" y="224"/>
                    </a:lnTo>
                    <a:lnTo>
                      <a:pt x="212" y="248"/>
                    </a:lnTo>
                    <a:lnTo>
                      <a:pt x="211" y="275"/>
                    </a:lnTo>
                    <a:lnTo>
                      <a:pt x="210" y="306"/>
                    </a:lnTo>
                    <a:lnTo>
                      <a:pt x="210" y="339"/>
                    </a:lnTo>
                    <a:lnTo>
                      <a:pt x="210" y="2313"/>
                    </a:lnTo>
                    <a:lnTo>
                      <a:pt x="207" y="2311"/>
                    </a:lnTo>
                    <a:lnTo>
                      <a:pt x="200" y="2309"/>
                    </a:lnTo>
                    <a:lnTo>
                      <a:pt x="190" y="2306"/>
                    </a:lnTo>
                    <a:lnTo>
                      <a:pt x="176" y="2304"/>
                    </a:lnTo>
                    <a:lnTo>
                      <a:pt x="169" y="2303"/>
                    </a:lnTo>
                    <a:lnTo>
                      <a:pt x="162" y="2302"/>
                    </a:lnTo>
                    <a:lnTo>
                      <a:pt x="154" y="2302"/>
                    </a:lnTo>
                    <a:lnTo>
                      <a:pt x="146" y="2303"/>
                    </a:lnTo>
                    <a:lnTo>
                      <a:pt x="139" y="2305"/>
                    </a:lnTo>
                    <a:lnTo>
                      <a:pt x="131" y="2307"/>
                    </a:lnTo>
                    <a:lnTo>
                      <a:pt x="125" y="2310"/>
                    </a:lnTo>
                    <a:lnTo>
                      <a:pt x="118" y="2315"/>
                    </a:lnTo>
                    <a:lnTo>
                      <a:pt x="108" y="2326"/>
                    </a:lnTo>
                    <a:lnTo>
                      <a:pt x="99" y="2335"/>
                    </a:lnTo>
                    <a:lnTo>
                      <a:pt x="92" y="2345"/>
                    </a:lnTo>
                    <a:lnTo>
                      <a:pt x="87" y="2356"/>
                    </a:lnTo>
                    <a:lnTo>
                      <a:pt x="84" y="2368"/>
                    </a:lnTo>
                    <a:lnTo>
                      <a:pt x="83" y="2380"/>
                    </a:lnTo>
                    <a:lnTo>
                      <a:pt x="84" y="2392"/>
                    </a:lnTo>
                    <a:lnTo>
                      <a:pt x="86" y="2407"/>
                    </a:lnTo>
                    <a:lnTo>
                      <a:pt x="87" y="2408"/>
                    </a:lnTo>
                    <a:lnTo>
                      <a:pt x="88" y="2411"/>
                    </a:lnTo>
                    <a:lnTo>
                      <a:pt x="89" y="2416"/>
                    </a:lnTo>
                    <a:lnTo>
                      <a:pt x="92" y="2422"/>
                    </a:lnTo>
                    <a:lnTo>
                      <a:pt x="97" y="2429"/>
                    </a:lnTo>
                    <a:lnTo>
                      <a:pt x="102" y="2437"/>
                    </a:lnTo>
                    <a:lnTo>
                      <a:pt x="109" y="2444"/>
                    </a:lnTo>
                    <a:lnTo>
                      <a:pt x="116" y="2451"/>
                    </a:lnTo>
                    <a:lnTo>
                      <a:pt x="210" y="2481"/>
                    </a:lnTo>
                    <a:close/>
                  </a:path>
                </a:pathLst>
              </a:custGeom>
              <a:solidFill>
                <a:srgbClr val="8c8b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7353360" y="3826080"/>
                <a:ext cx="128520" cy="1373040"/>
              </a:xfrm>
              <a:custGeom>
                <a:avLst/>
                <a:gdLst/>
                <a:ahLst/>
                <a:rect l="l" t="t" r="r" b="b"/>
                <a:pathLst>
                  <a:path w="404" h="4323">
                    <a:moveTo>
                      <a:pt x="140" y="33"/>
                    </a:moveTo>
                    <a:lnTo>
                      <a:pt x="155" y="38"/>
                    </a:lnTo>
                    <a:lnTo>
                      <a:pt x="168" y="43"/>
                    </a:lnTo>
                    <a:lnTo>
                      <a:pt x="180" y="49"/>
                    </a:lnTo>
                    <a:lnTo>
                      <a:pt x="191" y="54"/>
                    </a:lnTo>
                    <a:lnTo>
                      <a:pt x="201" y="60"/>
                    </a:lnTo>
                    <a:lnTo>
                      <a:pt x="208" y="64"/>
                    </a:lnTo>
                    <a:lnTo>
                      <a:pt x="215" y="68"/>
                    </a:lnTo>
                    <a:lnTo>
                      <a:pt x="220" y="73"/>
                    </a:lnTo>
                    <a:lnTo>
                      <a:pt x="230" y="81"/>
                    </a:lnTo>
                    <a:lnTo>
                      <a:pt x="241" y="91"/>
                    </a:lnTo>
                    <a:lnTo>
                      <a:pt x="251" y="101"/>
                    </a:lnTo>
                    <a:lnTo>
                      <a:pt x="261" y="113"/>
                    </a:lnTo>
                    <a:lnTo>
                      <a:pt x="272" y="124"/>
                    </a:lnTo>
                    <a:lnTo>
                      <a:pt x="282" y="138"/>
                    </a:lnTo>
                    <a:lnTo>
                      <a:pt x="291" y="153"/>
                    </a:lnTo>
                    <a:lnTo>
                      <a:pt x="301" y="169"/>
                    </a:lnTo>
                    <a:lnTo>
                      <a:pt x="311" y="185"/>
                    </a:lnTo>
                    <a:lnTo>
                      <a:pt x="321" y="203"/>
                    </a:lnTo>
                    <a:lnTo>
                      <a:pt x="329" y="224"/>
                    </a:lnTo>
                    <a:lnTo>
                      <a:pt x="338" y="244"/>
                    </a:lnTo>
                    <a:lnTo>
                      <a:pt x="346" y="267"/>
                    </a:lnTo>
                    <a:lnTo>
                      <a:pt x="355" y="291"/>
                    </a:lnTo>
                    <a:lnTo>
                      <a:pt x="363" y="317"/>
                    </a:lnTo>
                    <a:lnTo>
                      <a:pt x="370" y="344"/>
                    </a:lnTo>
                    <a:lnTo>
                      <a:pt x="378" y="372"/>
                    </a:lnTo>
                    <a:lnTo>
                      <a:pt x="383" y="399"/>
                    </a:lnTo>
                    <a:lnTo>
                      <a:pt x="389" y="425"/>
                    </a:lnTo>
                    <a:lnTo>
                      <a:pt x="392" y="450"/>
                    </a:lnTo>
                    <a:lnTo>
                      <a:pt x="398" y="495"/>
                    </a:lnTo>
                    <a:lnTo>
                      <a:pt x="402" y="534"/>
                    </a:lnTo>
                    <a:lnTo>
                      <a:pt x="403" y="566"/>
                    </a:lnTo>
                    <a:lnTo>
                      <a:pt x="403" y="591"/>
                    </a:lnTo>
                    <a:lnTo>
                      <a:pt x="403" y="606"/>
                    </a:lnTo>
                    <a:lnTo>
                      <a:pt x="403" y="612"/>
                    </a:lnTo>
                    <a:lnTo>
                      <a:pt x="403" y="4260"/>
                    </a:lnTo>
                    <a:lnTo>
                      <a:pt x="403" y="4261"/>
                    </a:lnTo>
                    <a:lnTo>
                      <a:pt x="404" y="4266"/>
                    </a:lnTo>
                    <a:lnTo>
                      <a:pt x="403" y="4273"/>
                    </a:lnTo>
                    <a:lnTo>
                      <a:pt x="402" y="4281"/>
                    </a:lnTo>
                    <a:lnTo>
                      <a:pt x="399" y="4291"/>
                    </a:lnTo>
                    <a:lnTo>
                      <a:pt x="394" y="4302"/>
                    </a:lnTo>
                    <a:lnTo>
                      <a:pt x="391" y="4308"/>
                    </a:lnTo>
                    <a:lnTo>
                      <a:pt x="386" y="4314"/>
                    </a:lnTo>
                    <a:lnTo>
                      <a:pt x="381" y="4319"/>
                    </a:lnTo>
                    <a:lnTo>
                      <a:pt x="376" y="4323"/>
                    </a:lnTo>
                    <a:lnTo>
                      <a:pt x="370" y="4260"/>
                    </a:lnTo>
                    <a:lnTo>
                      <a:pt x="370" y="612"/>
                    </a:lnTo>
                    <a:lnTo>
                      <a:pt x="370" y="606"/>
                    </a:lnTo>
                    <a:lnTo>
                      <a:pt x="370" y="591"/>
                    </a:lnTo>
                    <a:lnTo>
                      <a:pt x="370" y="566"/>
                    </a:lnTo>
                    <a:lnTo>
                      <a:pt x="368" y="534"/>
                    </a:lnTo>
                    <a:lnTo>
                      <a:pt x="364" y="495"/>
                    </a:lnTo>
                    <a:lnTo>
                      <a:pt x="358" y="450"/>
                    </a:lnTo>
                    <a:lnTo>
                      <a:pt x="354" y="425"/>
                    </a:lnTo>
                    <a:lnTo>
                      <a:pt x="349" y="399"/>
                    </a:lnTo>
                    <a:lnTo>
                      <a:pt x="343" y="372"/>
                    </a:lnTo>
                    <a:lnTo>
                      <a:pt x="336" y="344"/>
                    </a:lnTo>
                    <a:lnTo>
                      <a:pt x="328" y="317"/>
                    </a:lnTo>
                    <a:lnTo>
                      <a:pt x="321" y="291"/>
                    </a:lnTo>
                    <a:lnTo>
                      <a:pt x="312" y="267"/>
                    </a:lnTo>
                    <a:lnTo>
                      <a:pt x="303" y="244"/>
                    </a:lnTo>
                    <a:lnTo>
                      <a:pt x="294" y="224"/>
                    </a:lnTo>
                    <a:lnTo>
                      <a:pt x="284" y="203"/>
                    </a:lnTo>
                    <a:lnTo>
                      <a:pt x="273" y="185"/>
                    </a:lnTo>
                    <a:lnTo>
                      <a:pt x="263" y="169"/>
                    </a:lnTo>
                    <a:lnTo>
                      <a:pt x="252" y="153"/>
                    </a:lnTo>
                    <a:lnTo>
                      <a:pt x="242" y="138"/>
                    </a:lnTo>
                    <a:lnTo>
                      <a:pt x="230" y="124"/>
                    </a:lnTo>
                    <a:lnTo>
                      <a:pt x="219" y="113"/>
                    </a:lnTo>
                    <a:lnTo>
                      <a:pt x="208" y="101"/>
                    </a:lnTo>
                    <a:lnTo>
                      <a:pt x="197" y="91"/>
                    </a:lnTo>
                    <a:lnTo>
                      <a:pt x="186" y="81"/>
                    </a:lnTo>
                    <a:lnTo>
                      <a:pt x="175" y="73"/>
                    </a:lnTo>
                    <a:lnTo>
                      <a:pt x="170" y="68"/>
                    </a:lnTo>
                    <a:lnTo>
                      <a:pt x="165" y="64"/>
                    </a:lnTo>
                    <a:lnTo>
                      <a:pt x="157" y="59"/>
                    </a:lnTo>
                    <a:lnTo>
                      <a:pt x="149" y="53"/>
                    </a:lnTo>
                    <a:lnTo>
                      <a:pt x="139" y="48"/>
                    </a:lnTo>
                    <a:lnTo>
                      <a:pt x="127" y="41"/>
                    </a:lnTo>
                    <a:lnTo>
                      <a:pt x="113" y="36"/>
                    </a:lnTo>
                    <a:lnTo>
                      <a:pt x="98" y="30"/>
                    </a:lnTo>
                    <a:lnTo>
                      <a:pt x="0" y="0"/>
                    </a:lnTo>
                    <a:lnTo>
                      <a:pt x="140" y="33"/>
                    </a:lnTo>
                    <a:close/>
                  </a:path>
                </a:pathLst>
              </a:custGeom>
              <a:solidFill>
                <a:srgbClr val="8c8b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7427880" y="4002120"/>
                <a:ext cx="23760" cy="11160"/>
              </a:xfrm>
              <a:custGeom>
                <a:avLst/>
                <a:gdLst/>
                <a:ahLst/>
                <a:rect l="l" t="t" r="r" b="b"/>
                <a:pathLst>
                  <a:path w="77" h="38">
                    <a:moveTo>
                      <a:pt x="77" y="38"/>
                    </a:moveTo>
                    <a:lnTo>
                      <a:pt x="76" y="29"/>
                    </a:lnTo>
                    <a:lnTo>
                      <a:pt x="73" y="22"/>
                    </a:lnTo>
                    <a:lnTo>
                      <a:pt x="69" y="14"/>
                    </a:lnTo>
                    <a:lnTo>
                      <a:pt x="65" y="9"/>
                    </a:lnTo>
                    <a:lnTo>
                      <a:pt x="58" y="5"/>
                    </a:lnTo>
                    <a:lnTo>
                      <a:pt x="52" y="2"/>
                    </a:lnTo>
                    <a:lnTo>
                      <a:pt x="45" y="0"/>
                    </a:lnTo>
                    <a:lnTo>
                      <a:pt x="38" y="0"/>
                    </a:lnTo>
                    <a:lnTo>
                      <a:pt x="31" y="0"/>
                    </a:lnTo>
                    <a:lnTo>
                      <a:pt x="24" y="2"/>
                    </a:lnTo>
                    <a:lnTo>
                      <a:pt x="17" y="5"/>
                    </a:lnTo>
                    <a:lnTo>
                      <a:pt x="12" y="9"/>
                    </a:lnTo>
                    <a:lnTo>
                      <a:pt x="6" y="14"/>
                    </a:lnTo>
                    <a:lnTo>
                      <a:pt x="3" y="22"/>
                    </a:lnTo>
                    <a:lnTo>
                      <a:pt x="1" y="29"/>
                    </a:lnTo>
                    <a:lnTo>
                      <a:pt x="0" y="38"/>
                    </a:lnTo>
                    <a:lnTo>
                      <a:pt x="77" y="38"/>
                    </a:lnTo>
                    <a:close/>
                  </a:path>
                </a:pathLst>
              </a:custGeom>
              <a:solidFill>
                <a:srgbClr val="a0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7427880" y="4013280"/>
                <a:ext cx="23760" cy="1147680"/>
              </a:xfrm>
              <a:prstGeom prst="rect">
                <a:avLst/>
              </a:prstGeom>
              <a:solidFill>
                <a:srgbClr val="a0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7427880" y="5160960"/>
                <a:ext cx="23760" cy="12600"/>
              </a:xfrm>
              <a:custGeom>
                <a:avLst/>
                <a:gdLst/>
                <a:ahLst/>
                <a:rect l="l" t="t" r="r" b="b"/>
                <a:pathLst>
                  <a:path w="77" h="38">
                    <a:moveTo>
                      <a:pt x="0" y="0"/>
                    </a:moveTo>
                    <a:lnTo>
                      <a:pt x="1" y="9"/>
                    </a:lnTo>
                    <a:lnTo>
                      <a:pt x="3" y="17"/>
                    </a:lnTo>
                    <a:lnTo>
                      <a:pt x="6" y="23"/>
                    </a:lnTo>
                    <a:lnTo>
                      <a:pt x="12" y="29"/>
                    </a:lnTo>
                    <a:lnTo>
                      <a:pt x="17" y="33"/>
                    </a:lnTo>
                    <a:lnTo>
                      <a:pt x="24" y="36"/>
                    </a:lnTo>
                    <a:lnTo>
                      <a:pt x="31" y="37"/>
                    </a:lnTo>
                    <a:lnTo>
                      <a:pt x="38" y="38"/>
                    </a:lnTo>
                    <a:lnTo>
                      <a:pt x="45" y="37"/>
                    </a:lnTo>
                    <a:lnTo>
                      <a:pt x="52" y="36"/>
                    </a:lnTo>
                    <a:lnTo>
                      <a:pt x="58" y="33"/>
                    </a:lnTo>
                    <a:lnTo>
                      <a:pt x="65" y="29"/>
                    </a:lnTo>
                    <a:lnTo>
                      <a:pt x="69" y="23"/>
                    </a:lnTo>
                    <a:lnTo>
                      <a:pt x="73" y="17"/>
                    </a:lnTo>
                    <a:lnTo>
                      <a:pt x="76" y="9"/>
                    </a:lnTo>
                    <a:lnTo>
                      <a:pt x="7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0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7427880" y="4022640"/>
                <a:ext cx="22320" cy="11160"/>
              </a:xfrm>
              <a:custGeom>
                <a:avLst/>
                <a:gdLst/>
                <a:ahLst/>
                <a:rect l="l" t="t" r="r" b="b"/>
                <a:pathLst>
                  <a:path w="69" h="35">
                    <a:moveTo>
                      <a:pt x="69" y="35"/>
                    </a:moveTo>
                    <a:lnTo>
                      <a:pt x="69" y="26"/>
                    </a:lnTo>
                    <a:lnTo>
                      <a:pt x="67" y="20"/>
                    </a:lnTo>
                    <a:lnTo>
                      <a:pt x="63" y="13"/>
                    </a:lnTo>
                    <a:lnTo>
                      <a:pt x="58" y="9"/>
                    </a:lnTo>
                    <a:lnTo>
                      <a:pt x="54" y="4"/>
                    </a:lnTo>
                    <a:lnTo>
                      <a:pt x="48" y="2"/>
                    </a:lnTo>
                    <a:lnTo>
                      <a:pt x="41" y="0"/>
                    </a:lnTo>
                    <a:lnTo>
                      <a:pt x="35" y="0"/>
                    </a:lnTo>
                    <a:lnTo>
                      <a:pt x="28" y="0"/>
                    </a:lnTo>
                    <a:lnTo>
                      <a:pt x="23" y="2"/>
                    </a:lnTo>
                    <a:lnTo>
                      <a:pt x="16" y="4"/>
                    </a:lnTo>
                    <a:lnTo>
                      <a:pt x="11" y="9"/>
                    </a:lnTo>
                    <a:lnTo>
                      <a:pt x="7" y="13"/>
                    </a:lnTo>
                    <a:lnTo>
                      <a:pt x="3" y="20"/>
                    </a:lnTo>
                    <a:lnTo>
                      <a:pt x="1" y="26"/>
                    </a:lnTo>
                    <a:lnTo>
                      <a:pt x="0" y="35"/>
                    </a:lnTo>
                    <a:lnTo>
                      <a:pt x="69" y="35"/>
                    </a:lnTo>
                    <a:close/>
                  </a:path>
                </a:pathLst>
              </a:custGeom>
              <a:solidFill>
                <a:srgbClr val="aeae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7427880" y="4033800"/>
                <a:ext cx="22320" cy="1108080"/>
              </a:xfrm>
              <a:prstGeom prst="rect">
                <a:avLst/>
              </a:prstGeom>
              <a:solidFill>
                <a:srgbClr val="aeae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7427880" y="5141880"/>
                <a:ext cx="22320" cy="11160"/>
              </a:xfrm>
              <a:custGeom>
                <a:avLst/>
                <a:gdLst/>
                <a:ahLst/>
                <a:rect l="l" t="t" r="r" b="b"/>
                <a:pathLst>
                  <a:path w="69" h="35">
                    <a:moveTo>
                      <a:pt x="0" y="0"/>
                    </a:moveTo>
                    <a:lnTo>
                      <a:pt x="1" y="9"/>
                    </a:lnTo>
                    <a:lnTo>
                      <a:pt x="3" y="15"/>
                    </a:lnTo>
                    <a:lnTo>
                      <a:pt x="7" y="22"/>
                    </a:lnTo>
                    <a:lnTo>
                      <a:pt x="11" y="26"/>
                    </a:lnTo>
                    <a:lnTo>
                      <a:pt x="16" y="30"/>
                    </a:lnTo>
                    <a:lnTo>
                      <a:pt x="23" y="33"/>
                    </a:lnTo>
                    <a:lnTo>
                      <a:pt x="28" y="35"/>
                    </a:lnTo>
                    <a:lnTo>
                      <a:pt x="35" y="35"/>
                    </a:lnTo>
                    <a:lnTo>
                      <a:pt x="41" y="35"/>
                    </a:lnTo>
                    <a:lnTo>
                      <a:pt x="48" y="33"/>
                    </a:lnTo>
                    <a:lnTo>
                      <a:pt x="54" y="30"/>
                    </a:lnTo>
                    <a:lnTo>
                      <a:pt x="58" y="26"/>
                    </a:lnTo>
                    <a:lnTo>
                      <a:pt x="63" y="22"/>
                    </a:lnTo>
                    <a:lnTo>
                      <a:pt x="67" y="15"/>
                    </a:lnTo>
                    <a:lnTo>
                      <a:pt x="69" y="9"/>
                    </a:lnTo>
                    <a:lnTo>
                      <a:pt x="6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eae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7429320" y="4044960"/>
                <a:ext cx="19080" cy="9720"/>
              </a:xfrm>
              <a:custGeom>
                <a:avLst/>
                <a:gdLst/>
                <a:ahLst/>
                <a:rect l="l" t="t" r="r" b="b"/>
                <a:pathLst>
                  <a:path w="59" h="29">
                    <a:moveTo>
                      <a:pt x="59" y="29"/>
                    </a:moveTo>
                    <a:lnTo>
                      <a:pt x="58" y="23"/>
                    </a:lnTo>
                    <a:lnTo>
                      <a:pt x="57" y="16"/>
                    </a:lnTo>
                    <a:lnTo>
                      <a:pt x="54" y="11"/>
                    </a:lnTo>
                    <a:lnTo>
                      <a:pt x="49" y="7"/>
                    </a:lnTo>
                    <a:lnTo>
                      <a:pt x="45" y="3"/>
                    </a:lnTo>
                    <a:lnTo>
                      <a:pt x="40" y="1"/>
                    </a:lnTo>
                    <a:lnTo>
                      <a:pt x="35" y="0"/>
                    </a:lnTo>
                    <a:lnTo>
                      <a:pt x="29" y="0"/>
                    </a:lnTo>
                    <a:lnTo>
                      <a:pt x="23" y="0"/>
                    </a:lnTo>
                    <a:lnTo>
                      <a:pt x="18" y="1"/>
                    </a:lnTo>
                    <a:lnTo>
                      <a:pt x="14" y="3"/>
                    </a:lnTo>
                    <a:lnTo>
                      <a:pt x="8" y="7"/>
                    </a:lnTo>
                    <a:lnTo>
                      <a:pt x="5" y="11"/>
                    </a:lnTo>
                    <a:lnTo>
                      <a:pt x="2" y="16"/>
                    </a:lnTo>
                    <a:lnTo>
                      <a:pt x="0" y="23"/>
                    </a:lnTo>
                    <a:lnTo>
                      <a:pt x="0" y="29"/>
                    </a:lnTo>
                    <a:lnTo>
                      <a:pt x="59" y="29"/>
                    </a:lnTo>
                    <a:close/>
                  </a:path>
                </a:pathLst>
              </a:custGeom>
              <a:solidFill>
                <a:srgbClr val="bfbf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7429320" y="4054680"/>
                <a:ext cx="19080" cy="1068120"/>
              </a:xfrm>
              <a:prstGeom prst="rect">
                <a:avLst/>
              </a:prstGeom>
              <a:solidFill>
                <a:srgbClr val="bfbf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7429320" y="5122800"/>
                <a:ext cx="19080" cy="9720"/>
              </a:xfrm>
              <a:custGeom>
                <a:avLst/>
                <a:gdLst/>
                <a:ahLst/>
                <a:rect l="l" t="t" r="r" b="b"/>
                <a:pathLst>
                  <a:path w="59" h="30">
                    <a:moveTo>
                      <a:pt x="0" y="0"/>
                    </a:moveTo>
                    <a:lnTo>
                      <a:pt x="0" y="7"/>
                    </a:lnTo>
                    <a:lnTo>
                      <a:pt x="2" y="13"/>
                    </a:lnTo>
                    <a:lnTo>
                      <a:pt x="5" y="18"/>
                    </a:lnTo>
                    <a:lnTo>
                      <a:pt x="8" y="22"/>
                    </a:lnTo>
                    <a:lnTo>
                      <a:pt x="14" y="26"/>
                    </a:lnTo>
                    <a:lnTo>
                      <a:pt x="18" y="28"/>
                    </a:lnTo>
                    <a:lnTo>
                      <a:pt x="23" y="29"/>
                    </a:lnTo>
                    <a:lnTo>
                      <a:pt x="29" y="30"/>
                    </a:lnTo>
                    <a:lnTo>
                      <a:pt x="35" y="29"/>
                    </a:lnTo>
                    <a:lnTo>
                      <a:pt x="40" y="28"/>
                    </a:lnTo>
                    <a:lnTo>
                      <a:pt x="45" y="26"/>
                    </a:lnTo>
                    <a:lnTo>
                      <a:pt x="49" y="22"/>
                    </a:lnTo>
                    <a:lnTo>
                      <a:pt x="54" y="18"/>
                    </a:lnTo>
                    <a:lnTo>
                      <a:pt x="57" y="13"/>
                    </a:lnTo>
                    <a:lnTo>
                      <a:pt x="58" y="7"/>
                    </a:lnTo>
                    <a:lnTo>
                      <a:pt x="5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fbf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7431120" y="4067280"/>
                <a:ext cx="15840" cy="7920"/>
              </a:xfrm>
              <a:custGeom>
                <a:avLst/>
                <a:gdLst/>
                <a:ahLst/>
                <a:rect l="l" t="t" r="r" b="b"/>
                <a:pathLst>
                  <a:path w="52" h="26">
                    <a:moveTo>
                      <a:pt x="52" y="26"/>
                    </a:moveTo>
                    <a:lnTo>
                      <a:pt x="52" y="20"/>
                    </a:lnTo>
                    <a:lnTo>
                      <a:pt x="49" y="14"/>
                    </a:lnTo>
                    <a:lnTo>
                      <a:pt x="47" y="10"/>
                    </a:lnTo>
                    <a:lnTo>
                      <a:pt x="44" y="7"/>
                    </a:lnTo>
                    <a:lnTo>
                      <a:pt x="40" y="3"/>
                    </a:lnTo>
                    <a:lnTo>
                      <a:pt x="35" y="1"/>
                    </a:lnTo>
                    <a:lnTo>
                      <a:pt x="31" y="0"/>
                    </a:lnTo>
                    <a:lnTo>
                      <a:pt x="26" y="0"/>
                    </a:lnTo>
                    <a:lnTo>
                      <a:pt x="21" y="0"/>
                    </a:lnTo>
                    <a:lnTo>
                      <a:pt x="17" y="1"/>
                    </a:lnTo>
                    <a:lnTo>
                      <a:pt x="13" y="3"/>
                    </a:lnTo>
                    <a:lnTo>
                      <a:pt x="8" y="7"/>
                    </a:lnTo>
                    <a:lnTo>
                      <a:pt x="5" y="10"/>
                    </a:lnTo>
                    <a:lnTo>
                      <a:pt x="2" y="14"/>
                    </a:lnTo>
                    <a:lnTo>
                      <a:pt x="1" y="20"/>
                    </a:lnTo>
                    <a:lnTo>
                      <a:pt x="0" y="26"/>
                    </a:lnTo>
                    <a:lnTo>
                      <a:pt x="52" y="26"/>
                    </a:lnTo>
                    <a:close/>
                  </a:path>
                </a:pathLst>
              </a:custGeom>
              <a:solidFill>
                <a:srgbClr val="d1d0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7431120" y="4075200"/>
                <a:ext cx="15840" cy="1028520"/>
              </a:xfrm>
              <a:prstGeom prst="rect">
                <a:avLst/>
              </a:prstGeom>
              <a:solidFill>
                <a:srgbClr val="d1d0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7431120" y="5103720"/>
                <a:ext cx="15840" cy="8280"/>
              </a:xfrm>
              <a:custGeom>
                <a:avLst/>
                <a:gdLst/>
                <a:ahLst/>
                <a:rect l="l" t="t" r="r" b="b"/>
                <a:pathLst>
                  <a:path w="52" h="26">
                    <a:moveTo>
                      <a:pt x="0" y="0"/>
                    </a:moveTo>
                    <a:lnTo>
                      <a:pt x="1" y="7"/>
                    </a:lnTo>
                    <a:lnTo>
                      <a:pt x="2" y="12"/>
                    </a:lnTo>
                    <a:lnTo>
                      <a:pt x="5" y="16"/>
                    </a:lnTo>
                    <a:lnTo>
                      <a:pt x="8" y="20"/>
                    </a:lnTo>
                    <a:lnTo>
                      <a:pt x="13" y="23"/>
                    </a:lnTo>
                    <a:lnTo>
                      <a:pt x="17" y="25"/>
                    </a:lnTo>
                    <a:lnTo>
                      <a:pt x="21" y="26"/>
                    </a:lnTo>
                    <a:lnTo>
                      <a:pt x="26" y="26"/>
                    </a:lnTo>
                    <a:lnTo>
                      <a:pt x="31" y="26"/>
                    </a:lnTo>
                    <a:lnTo>
                      <a:pt x="35" y="25"/>
                    </a:lnTo>
                    <a:lnTo>
                      <a:pt x="40" y="23"/>
                    </a:lnTo>
                    <a:lnTo>
                      <a:pt x="44" y="20"/>
                    </a:lnTo>
                    <a:lnTo>
                      <a:pt x="47" y="16"/>
                    </a:lnTo>
                    <a:lnTo>
                      <a:pt x="49" y="12"/>
                    </a:lnTo>
                    <a:lnTo>
                      <a:pt x="52" y="7"/>
                    </a:lnTo>
                    <a:lnTo>
                      <a:pt x="5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1d0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7432560" y="4087800"/>
                <a:ext cx="12960" cy="7920"/>
              </a:xfrm>
              <a:custGeom>
                <a:avLst/>
                <a:gdLst/>
                <a:ahLst/>
                <a:rect l="l" t="t" r="r" b="b"/>
                <a:pathLst>
                  <a:path w="42" h="21">
                    <a:moveTo>
                      <a:pt x="42" y="21"/>
                    </a:moveTo>
                    <a:lnTo>
                      <a:pt x="41" y="17"/>
                    </a:lnTo>
                    <a:lnTo>
                      <a:pt x="40" y="12"/>
                    </a:lnTo>
                    <a:lnTo>
                      <a:pt x="38" y="8"/>
                    </a:lnTo>
                    <a:lnTo>
                      <a:pt x="36" y="5"/>
                    </a:lnTo>
                    <a:lnTo>
                      <a:pt x="33" y="3"/>
                    </a:lnTo>
                    <a:lnTo>
                      <a:pt x="29" y="1"/>
                    </a:lnTo>
                    <a:lnTo>
                      <a:pt x="25" y="0"/>
                    </a:lnTo>
                    <a:lnTo>
                      <a:pt x="21" y="0"/>
                    </a:lnTo>
                    <a:lnTo>
                      <a:pt x="17" y="0"/>
                    </a:lnTo>
                    <a:lnTo>
                      <a:pt x="13" y="1"/>
                    </a:lnTo>
                    <a:lnTo>
                      <a:pt x="10" y="3"/>
                    </a:lnTo>
                    <a:lnTo>
                      <a:pt x="7" y="5"/>
                    </a:lnTo>
                    <a:lnTo>
                      <a:pt x="3" y="8"/>
                    </a:lnTo>
                    <a:lnTo>
                      <a:pt x="2" y="12"/>
                    </a:lnTo>
                    <a:lnTo>
                      <a:pt x="0" y="17"/>
                    </a:lnTo>
                    <a:lnTo>
                      <a:pt x="0" y="21"/>
                    </a:lnTo>
                    <a:lnTo>
                      <a:pt x="42" y="21"/>
                    </a:lnTo>
                    <a:close/>
                  </a:path>
                </a:pathLst>
              </a:custGeom>
              <a:solidFill>
                <a:srgbClr val="e8e8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7432560" y="4095720"/>
                <a:ext cx="12960" cy="989280"/>
              </a:xfrm>
              <a:prstGeom prst="rect">
                <a:avLst/>
              </a:prstGeom>
              <a:solidFill>
                <a:srgbClr val="e8e8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7432560" y="5085000"/>
                <a:ext cx="12960" cy="6120"/>
              </a:xfrm>
              <a:custGeom>
                <a:avLst/>
                <a:gdLst/>
                <a:ahLst/>
                <a:rect l="l" t="t" r="r" b="b"/>
                <a:pathLst>
                  <a:path w="42" h="21">
                    <a:moveTo>
                      <a:pt x="0" y="0"/>
                    </a:moveTo>
                    <a:lnTo>
                      <a:pt x="0" y="5"/>
                    </a:lnTo>
                    <a:lnTo>
                      <a:pt x="2" y="9"/>
                    </a:lnTo>
                    <a:lnTo>
                      <a:pt x="3" y="13"/>
                    </a:lnTo>
                    <a:lnTo>
                      <a:pt x="7" y="16"/>
                    </a:lnTo>
                    <a:lnTo>
                      <a:pt x="10" y="18"/>
                    </a:lnTo>
                    <a:lnTo>
                      <a:pt x="13" y="20"/>
                    </a:lnTo>
                    <a:lnTo>
                      <a:pt x="17" y="20"/>
                    </a:lnTo>
                    <a:lnTo>
                      <a:pt x="21" y="21"/>
                    </a:lnTo>
                    <a:lnTo>
                      <a:pt x="25" y="20"/>
                    </a:lnTo>
                    <a:lnTo>
                      <a:pt x="29" y="20"/>
                    </a:lnTo>
                    <a:lnTo>
                      <a:pt x="33" y="18"/>
                    </a:lnTo>
                    <a:lnTo>
                      <a:pt x="36" y="16"/>
                    </a:lnTo>
                    <a:lnTo>
                      <a:pt x="38" y="13"/>
                    </a:lnTo>
                    <a:lnTo>
                      <a:pt x="40" y="9"/>
                    </a:lnTo>
                    <a:lnTo>
                      <a:pt x="41" y="5"/>
                    </a:lnTo>
                    <a:lnTo>
                      <a:pt x="4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8e8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6570720" y="3889440"/>
                <a:ext cx="17280" cy="765360"/>
              </a:xfrm>
              <a:custGeom>
                <a:avLst/>
                <a:gdLst/>
                <a:ahLst/>
                <a:rect l="l" t="t" r="r" b="b"/>
                <a:pathLst>
                  <a:path w="54" h="2410">
                    <a:moveTo>
                      <a:pt x="54" y="2410"/>
                    </a:moveTo>
                    <a:lnTo>
                      <a:pt x="0" y="2410"/>
                    </a:lnTo>
                    <a:lnTo>
                      <a:pt x="0" y="0"/>
                    </a:lnTo>
                    <a:lnTo>
                      <a:pt x="3" y="6"/>
                    </a:lnTo>
                    <a:lnTo>
                      <a:pt x="6" y="12"/>
                    </a:lnTo>
                    <a:lnTo>
                      <a:pt x="10" y="17"/>
                    </a:lnTo>
                    <a:lnTo>
                      <a:pt x="16" y="21"/>
                    </a:lnTo>
                    <a:lnTo>
                      <a:pt x="22" y="26"/>
                    </a:lnTo>
                    <a:lnTo>
                      <a:pt x="30" y="29"/>
                    </a:lnTo>
                    <a:lnTo>
                      <a:pt x="40" y="32"/>
                    </a:lnTo>
                    <a:lnTo>
                      <a:pt x="51" y="36"/>
                    </a:lnTo>
                    <a:lnTo>
                      <a:pt x="54" y="2410"/>
                    </a:lnTo>
                    <a:close/>
                  </a:path>
                </a:pathLst>
              </a:custGeom>
              <a:solidFill>
                <a:srgbClr val="6967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6570720" y="4722840"/>
                <a:ext cx="15840" cy="171360"/>
              </a:xfrm>
              <a:custGeom>
                <a:avLst/>
                <a:gdLst/>
                <a:ahLst/>
                <a:rect l="l" t="t" r="r" b="b"/>
                <a:pathLst>
                  <a:path w="47" h="541">
                    <a:moveTo>
                      <a:pt x="47" y="541"/>
                    </a:moveTo>
                    <a:lnTo>
                      <a:pt x="38" y="539"/>
                    </a:lnTo>
                    <a:lnTo>
                      <a:pt x="32" y="536"/>
                    </a:lnTo>
                    <a:lnTo>
                      <a:pt x="25" y="532"/>
                    </a:lnTo>
                    <a:lnTo>
                      <a:pt x="20" y="527"/>
                    </a:lnTo>
                    <a:lnTo>
                      <a:pt x="16" y="523"/>
                    </a:lnTo>
                    <a:lnTo>
                      <a:pt x="12" y="518"/>
                    </a:lnTo>
                    <a:lnTo>
                      <a:pt x="9" y="512"/>
                    </a:lnTo>
                    <a:lnTo>
                      <a:pt x="6" y="508"/>
                    </a:lnTo>
                    <a:lnTo>
                      <a:pt x="3" y="498"/>
                    </a:lnTo>
                    <a:lnTo>
                      <a:pt x="1" y="490"/>
                    </a:lnTo>
                    <a:lnTo>
                      <a:pt x="0" y="484"/>
                    </a:lnTo>
                    <a:lnTo>
                      <a:pt x="0" y="482"/>
                    </a:lnTo>
                    <a:lnTo>
                      <a:pt x="0" y="0"/>
                    </a:lnTo>
                    <a:lnTo>
                      <a:pt x="47" y="0"/>
                    </a:lnTo>
                    <a:lnTo>
                      <a:pt x="47" y="541"/>
                    </a:lnTo>
                    <a:close/>
                  </a:path>
                </a:pathLst>
              </a:custGeom>
              <a:solidFill>
                <a:srgbClr val="6967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6570720" y="3783240"/>
                <a:ext cx="911160" cy="1427040"/>
              </a:xfrm>
              <a:custGeom>
                <a:avLst/>
                <a:gdLst/>
                <a:ahLst/>
                <a:rect l="l" t="t" r="r" b="b"/>
                <a:pathLst>
                  <a:path w="2868" h="4497">
                    <a:moveTo>
                      <a:pt x="210" y="2439"/>
                    </a:moveTo>
                    <a:lnTo>
                      <a:pt x="210" y="465"/>
                    </a:lnTo>
                    <a:lnTo>
                      <a:pt x="210" y="432"/>
                    </a:lnTo>
                    <a:lnTo>
                      <a:pt x="211" y="401"/>
                    </a:lnTo>
                    <a:lnTo>
                      <a:pt x="212" y="374"/>
                    </a:lnTo>
                    <a:lnTo>
                      <a:pt x="215" y="350"/>
                    </a:lnTo>
                    <a:lnTo>
                      <a:pt x="219" y="311"/>
                    </a:lnTo>
                    <a:lnTo>
                      <a:pt x="223" y="283"/>
                    </a:lnTo>
                    <a:lnTo>
                      <a:pt x="229" y="263"/>
                    </a:lnTo>
                    <a:lnTo>
                      <a:pt x="233" y="252"/>
                    </a:lnTo>
                    <a:lnTo>
                      <a:pt x="236" y="245"/>
                    </a:lnTo>
                    <a:lnTo>
                      <a:pt x="237" y="243"/>
                    </a:lnTo>
                    <a:lnTo>
                      <a:pt x="243" y="234"/>
                    </a:lnTo>
                    <a:lnTo>
                      <a:pt x="250" y="226"/>
                    </a:lnTo>
                    <a:lnTo>
                      <a:pt x="257" y="218"/>
                    </a:lnTo>
                    <a:lnTo>
                      <a:pt x="265" y="211"/>
                    </a:lnTo>
                    <a:lnTo>
                      <a:pt x="273" y="204"/>
                    </a:lnTo>
                    <a:lnTo>
                      <a:pt x="281" y="198"/>
                    </a:lnTo>
                    <a:lnTo>
                      <a:pt x="291" y="192"/>
                    </a:lnTo>
                    <a:lnTo>
                      <a:pt x="301" y="188"/>
                    </a:lnTo>
                    <a:lnTo>
                      <a:pt x="320" y="180"/>
                    </a:lnTo>
                    <a:lnTo>
                      <a:pt x="341" y="174"/>
                    </a:lnTo>
                    <a:lnTo>
                      <a:pt x="363" y="169"/>
                    </a:lnTo>
                    <a:lnTo>
                      <a:pt x="384" y="167"/>
                    </a:lnTo>
                    <a:lnTo>
                      <a:pt x="405" y="166"/>
                    </a:lnTo>
                    <a:lnTo>
                      <a:pt x="426" y="166"/>
                    </a:lnTo>
                    <a:lnTo>
                      <a:pt x="446" y="167"/>
                    </a:lnTo>
                    <a:lnTo>
                      <a:pt x="465" y="168"/>
                    </a:lnTo>
                    <a:lnTo>
                      <a:pt x="498" y="173"/>
                    </a:lnTo>
                    <a:lnTo>
                      <a:pt x="521" y="177"/>
                    </a:lnTo>
                    <a:lnTo>
                      <a:pt x="548" y="179"/>
                    </a:lnTo>
                    <a:lnTo>
                      <a:pt x="610" y="184"/>
                    </a:lnTo>
                    <a:lnTo>
                      <a:pt x="698" y="189"/>
                    </a:lnTo>
                    <a:lnTo>
                      <a:pt x="812" y="194"/>
                    </a:lnTo>
                    <a:lnTo>
                      <a:pt x="1090" y="208"/>
                    </a:lnTo>
                    <a:lnTo>
                      <a:pt x="1405" y="223"/>
                    </a:lnTo>
                    <a:lnTo>
                      <a:pt x="1721" y="239"/>
                    </a:lnTo>
                    <a:lnTo>
                      <a:pt x="1999" y="253"/>
                    </a:lnTo>
                    <a:lnTo>
                      <a:pt x="2111" y="259"/>
                    </a:lnTo>
                    <a:lnTo>
                      <a:pt x="2201" y="265"/>
                    </a:lnTo>
                    <a:lnTo>
                      <a:pt x="2235" y="267"/>
                    </a:lnTo>
                    <a:lnTo>
                      <a:pt x="2262" y="269"/>
                    </a:lnTo>
                    <a:lnTo>
                      <a:pt x="2280" y="271"/>
                    </a:lnTo>
                    <a:lnTo>
                      <a:pt x="2289" y="273"/>
                    </a:lnTo>
                    <a:lnTo>
                      <a:pt x="2308" y="277"/>
                    </a:lnTo>
                    <a:lnTo>
                      <a:pt x="2326" y="282"/>
                    </a:lnTo>
                    <a:lnTo>
                      <a:pt x="2335" y="284"/>
                    </a:lnTo>
                    <a:lnTo>
                      <a:pt x="2345" y="287"/>
                    </a:lnTo>
                    <a:lnTo>
                      <a:pt x="2355" y="292"/>
                    </a:lnTo>
                    <a:lnTo>
                      <a:pt x="2365" y="296"/>
                    </a:lnTo>
                    <a:lnTo>
                      <a:pt x="2376" y="301"/>
                    </a:lnTo>
                    <a:lnTo>
                      <a:pt x="2389" y="309"/>
                    </a:lnTo>
                    <a:lnTo>
                      <a:pt x="2402" y="317"/>
                    </a:lnTo>
                    <a:lnTo>
                      <a:pt x="2416" y="328"/>
                    </a:lnTo>
                    <a:lnTo>
                      <a:pt x="2432" y="341"/>
                    </a:lnTo>
                    <a:lnTo>
                      <a:pt x="2450" y="356"/>
                    </a:lnTo>
                    <a:lnTo>
                      <a:pt x="2469" y="374"/>
                    </a:lnTo>
                    <a:lnTo>
                      <a:pt x="2490" y="394"/>
                    </a:lnTo>
                    <a:lnTo>
                      <a:pt x="2500" y="406"/>
                    </a:lnTo>
                    <a:lnTo>
                      <a:pt x="2510" y="418"/>
                    </a:lnTo>
                    <a:lnTo>
                      <a:pt x="2520" y="430"/>
                    </a:lnTo>
                    <a:lnTo>
                      <a:pt x="2528" y="444"/>
                    </a:lnTo>
                    <a:lnTo>
                      <a:pt x="2536" y="457"/>
                    </a:lnTo>
                    <a:lnTo>
                      <a:pt x="2544" y="472"/>
                    </a:lnTo>
                    <a:lnTo>
                      <a:pt x="2550" y="486"/>
                    </a:lnTo>
                    <a:lnTo>
                      <a:pt x="2557" y="501"/>
                    </a:lnTo>
                    <a:lnTo>
                      <a:pt x="2567" y="531"/>
                    </a:lnTo>
                    <a:lnTo>
                      <a:pt x="2577" y="562"/>
                    </a:lnTo>
                    <a:lnTo>
                      <a:pt x="2584" y="592"/>
                    </a:lnTo>
                    <a:lnTo>
                      <a:pt x="2589" y="622"/>
                    </a:lnTo>
                    <a:lnTo>
                      <a:pt x="2593" y="650"/>
                    </a:lnTo>
                    <a:lnTo>
                      <a:pt x="2597" y="677"/>
                    </a:lnTo>
                    <a:lnTo>
                      <a:pt x="2599" y="701"/>
                    </a:lnTo>
                    <a:lnTo>
                      <a:pt x="2600" y="721"/>
                    </a:lnTo>
                    <a:lnTo>
                      <a:pt x="2601" y="752"/>
                    </a:lnTo>
                    <a:lnTo>
                      <a:pt x="2601" y="762"/>
                    </a:lnTo>
                    <a:lnTo>
                      <a:pt x="2601" y="4408"/>
                    </a:lnTo>
                    <a:lnTo>
                      <a:pt x="2601" y="4413"/>
                    </a:lnTo>
                    <a:lnTo>
                      <a:pt x="2602" y="4423"/>
                    </a:lnTo>
                    <a:lnTo>
                      <a:pt x="2604" y="4429"/>
                    </a:lnTo>
                    <a:lnTo>
                      <a:pt x="2606" y="4437"/>
                    </a:lnTo>
                    <a:lnTo>
                      <a:pt x="2611" y="4445"/>
                    </a:lnTo>
                    <a:lnTo>
                      <a:pt x="2616" y="4453"/>
                    </a:lnTo>
                    <a:lnTo>
                      <a:pt x="2624" y="4461"/>
                    </a:lnTo>
                    <a:lnTo>
                      <a:pt x="2633" y="4469"/>
                    </a:lnTo>
                    <a:lnTo>
                      <a:pt x="2644" y="4477"/>
                    </a:lnTo>
                    <a:lnTo>
                      <a:pt x="2658" y="4484"/>
                    </a:lnTo>
                    <a:lnTo>
                      <a:pt x="2674" y="4489"/>
                    </a:lnTo>
                    <a:lnTo>
                      <a:pt x="2694" y="4494"/>
                    </a:lnTo>
                    <a:lnTo>
                      <a:pt x="2716" y="4496"/>
                    </a:lnTo>
                    <a:lnTo>
                      <a:pt x="2741" y="4497"/>
                    </a:lnTo>
                    <a:lnTo>
                      <a:pt x="2766" y="4496"/>
                    </a:lnTo>
                    <a:lnTo>
                      <a:pt x="2788" y="4494"/>
                    </a:lnTo>
                    <a:lnTo>
                      <a:pt x="2806" y="4489"/>
                    </a:lnTo>
                    <a:lnTo>
                      <a:pt x="2821" y="4484"/>
                    </a:lnTo>
                    <a:lnTo>
                      <a:pt x="2834" y="4477"/>
                    </a:lnTo>
                    <a:lnTo>
                      <a:pt x="2844" y="4469"/>
                    </a:lnTo>
                    <a:lnTo>
                      <a:pt x="2853" y="4461"/>
                    </a:lnTo>
                    <a:lnTo>
                      <a:pt x="2858" y="4453"/>
                    </a:lnTo>
                    <a:lnTo>
                      <a:pt x="2862" y="4445"/>
                    </a:lnTo>
                    <a:lnTo>
                      <a:pt x="2865" y="4437"/>
                    </a:lnTo>
                    <a:lnTo>
                      <a:pt x="2868" y="4429"/>
                    </a:lnTo>
                    <a:lnTo>
                      <a:pt x="2868" y="4423"/>
                    </a:lnTo>
                    <a:lnTo>
                      <a:pt x="2868" y="4413"/>
                    </a:lnTo>
                    <a:lnTo>
                      <a:pt x="2868" y="4408"/>
                    </a:lnTo>
                    <a:lnTo>
                      <a:pt x="2868" y="762"/>
                    </a:lnTo>
                    <a:lnTo>
                      <a:pt x="2868" y="757"/>
                    </a:lnTo>
                    <a:lnTo>
                      <a:pt x="2868" y="742"/>
                    </a:lnTo>
                    <a:lnTo>
                      <a:pt x="2868" y="717"/>
                    </a:lnTo>
                    <a:lnTo>
                      <a:pt x="2867" y="685"/>
                    </a:lnTo>
                    <a:lnTo>
                      <a:pt x="2863" y="646"/>
                    </a:lnTo>
                    <a:lnTo>
                      <a:pt x="2857" y="600"/>
                    </a:lnTo>
                    <a:lnTo>
                      <a:pt x="2854" y="576"/>
                    </a:lnTo>
                    <a:lnTo>
                      <a:pt x="2848" y="550"/>
                    </a:lnTo>
                    <a:lnTo>
                      <a:pt x="2843" y="523"/>
                    </a:lnTo>
                    <a:lnTo>
                      <a:pt x="2835" y="496"/>
                    </a:lnTo>
                    <a:lnTo>
                      <a:pt x="2828" y="468"/>
                    </a:lnTo>
                    <a:lnTo>
                      <a:pt x="2820" y="442"/>
                    </a:lnTo>
                    <a:lnTo>
                      <a:pt x="2811" y="417"/>
                    </a:lnTo>
                    <a:lnTo>
                      <a:pt x="2803" y="393"/>
                    </a:lnTo>
                    <a:lnTo>
                      <a:pt x="2794" y="371"/>
                    </a:lnTo>
                    <a:lnTo>
                      <a:pt x="2786" y="351"/>
                    </a:lnTo>
                    <a:lnTo>
                      <a:pt x="2776" y="330"/>
                    </a:lnTo>
                    <a:lnTo>
                      <a:pt x="2766" y="313"/>
                    </a:lnTo>
                    <a:lnTo>
                      <a:pt x="2756" y="296"/>
                    </a:lnTo>
                    <a:lnTo>
                      <a:pt x="2747" y="280"/>
                    </a:lnTo>
                    <a:lnTo>
                      <a:pt x="2737" y="266"/>
                    </a:lnTo>
                    <a:lnTo>
                      <a:pt x="2726" y="253"/>
                    </a:lnTo>
                    <a:lnTo>
                      <a:pt x="2716" y="241"/>
                    </a:lnTo>
                    <a:lnTo>
                      <a:pt x="2706" y="230"/>
                    </a:lnTo>
                    <a:lnTo>
                      <a:pt x="2695" y="220"/>
                    </a:lnTo>
                    <a:lnTo>
                      <a:pt x="2685" y="212"/>
                    </a:lnTo>
                    <a:lnTo>
                      <a:pt x="2662" y="198"/>
                    </a:lnTo>
                    <a:lnTo>
                      <a:pt x="2634" y="186"/>
                    </a:lnTo>
                    <a:lnTo>
                      <a:pt x="2601" y="174"/>
                    </a:lnTo>
                    <a:lnTo>
                      <a:pt x="2562" y="163"/>
                    </a:lnTo>
                    <a:lnTo>
                      <a:pt x="2518" y="152"/>
                    </a:lnTo>
                    <a:lnTo>
                      <a:pt x="2470" y="144"/>
                    </a:lnTo>
                    <a:lnTo>
                      <a:pt x="2417" y="135"/>
                    </a:lnTo>
                    <a:lnTo>
                      <a:pt x="2361" y="126"/>
                    </a:lnTo>
                    <a:lnTo>
                      <a:pt x="2301" y="119"/>
                    </a:lnTo>
                    <a:lnTo>
                      <a:pt x="2238" y="112"/>
                    </a:lnTo>
                    <a:lnTo>
                      <a:pt x="2171" y="106"/>
                    </a:lnTo>
                    <a:lnTo>
                      <a:pt x="2103" y="100"/>
                    </a:lnTo>
                    <a:lnTo>
                      <a:pt x="1958" y="90"/>
                    </a:lnTo>
                    <a:lnTo>
                      <a:pt x="1807" y="81"/>
                    </a:lnTo>
                    <a:lnTo>
                      <a:pt x="1496" y="66"/>
                    </a:lnTo>
                    <a:lnTo>
                      <a:pt x="1189" y="52"/>
                    </a:lnTo>
                    <a:lnTo>
                      <a:pt x="1044" y="44"/>
                    </a:lnTo>
                    <a:lnTo>
                      <a:pt x="908" y="37"/>
                    </a:lnTo>
                    <a:lnTo>
                      <a:pt x="843" y="33"/>
                    </a:lnTo>
                    <a:lnTo>
                      <a:pt x="783" y="28"/>
                    </a:lnTo>
                    <a:lnTo>
                      <a:pt x="725" y="24"/>
                    </a:lnTo>
                    <a:lnTo>
                      <a:pt x="673" y="18"/>
                    </a:lnTo>
                    <a:lnTo>
                      <a:pt x="595" y="11"/>
                    </a:lnTo>
                    <a:lnTo>
                      <a:pt x="526" y="5"/>
                    </a:lnTo>
                    <a:lnTo>
                      <a:pt x="464" y="2"/>
                    </a:lnTo>
                    <a:lnTo>
                      <a:pt x="410" y="1"/>
                    </a:lnTo>
                    <a:lnTo>
                      <a:pt x="361" y="0"/>
                    </a:lnTo>
                    <a:lnTo>
                      <a:pt x="319" y="2"/>
                    </a:lnTo>
                    <a:lnTo>
                      <a:pt x="281" y="4"/>
                    </a:lnTo>
                    <a:lnTo>
                      <a:pt x="249" y="7"/>
                    </a:lnTo>
                    <a:lnTo>
                      <a:pt x="220" y="13"/>
                    </a:lnTo>
                    <a:lnTo>
                      <a:pt x="195" y="19"/>
                    </a:lnTo>
                    <a:lnTo>
                      <a:pt x="173" y="26"/>
                    </a:lnTo>
                    <a:lnTo>
                      <a:pt x="153" y="33"/>
                    </a:lnTo>
                    <a:lnTo>
                      <a:pt x="136" y="41"/>
                    </a:lnTo>
                    <a:lnTo>
                      <a:pt x="119" y="50"/>
                    </a:lnTo>
                    <a:lnTo>
                      <a:pt x="104" y="58"/>
                    </a:lnTo>
                    <a:lnTo>
                      <a:pt x="88" y="68"/>
                    </a:lnTo>
                    <a:lnTo>
                      <a:pt x="81" y="73"/>
                    </a:lnTo>
                    <a:lnTo>
                      <a:pt x="74" y="79"/>
                    </a:lnTo>
                    <a:lnTo>
                      <a:pt x="67" y="86"/>
                    </a:lnTo>
                    <a:lnTo>
                      <a:pt x="61" y="94"/>
                    </a:lnTo>
                    <a:lnTo>
                      <a:pt x="55" y="103"/>
                    </a:lnTo>
                    <a:lnTo>
                      <a:pt x="49" y="111"/>
                    </a:lnTo>
                    <a:lnTo>
                      <a:pt x="44" y="121"/>
                    </a:lnTo>
                    <a:lnTo>
                      <a:pt x="40" y="131"/>
                    </a:lnTo>
                    <a:lnTo>
                      <a:pt x="31" y="152"/>
                    </a:lnTo>
                    <a:lnTo>
                      <a:pt x="23" y="175"/>
                    </a:lnTo>
                    <a:lnTo>
                      <a:pt x="18" y="198"/>
                    </a:lnTo>
                    <a:lnTo>
                      <a:pt x="12" y="221"/>
                    </a:lnTo>
                    <a:lnTo>
                      <a:pt x="6" y="266"/>
                    </a:lnTo>
                    <a:lnTo>
                      <a:pt x="2" y="302"/>
                    </a:lnTo>
                    <a:lnTo>
                      <a:pt x="0" y="328"/>
                    </a:lnTo>
                    <a:lnTo>
                      <a:pt x="0" y="337"/>
                    </a:lnTo>
                    <a:lnTo>
                      <a:pt x="0" y="2747"/>
                    </a:lnTo>
                    <a:lnTo>
                      <a:pt x="210" y="2742"/>
                    </a:lnTo>
                    <a:lnTo>
                      <a:pt x="210" y="2607"/>
                    </a:lnTo>
                    <a:lnTo>
                      <a:pt x="116" y="2577"/>
                    </a:lnTo>
                    <a:lnTo>
                      <a:pt x="114" y="2575"/>
                    </a:lnTo>
                    <a:lnTo>
                      <a:pt x="109" y="2570"/>
                    </a:lnTo>
                    <a:lnTo>
                      <a:pt x="101" y="2562"/>
                    </a:lnTo>
                    <a:lnTo>
                      <a:pt x="94" y="2551"/>
                    </a:lnTo>
                    <a:lnTo>
                      <a:pt x="90" y="2544"/>
                    </a:lnTo>
                    <a:lnTo>
                      <a:pt x="87" y="2538"/>
                    </a:lnTo>
                    <a:lnTo>
                      <a:pt x="84" y="2530"/>
                    </a:lnTo>
                    <a:lnTo>
                      <a:pt x="83" y="2522"/>
                    </a:lnTo>
                    <a:lnTo>
                      <a:pt x="82" y="2513"/>
                    </a:lnTo>
                    <a:lnTo>
                      <a:pt x="82" y="2503"/>
                    </a:lnTo>
                    <a:lnTo>
                      <a:pt x="83" y="2494"/>
                    </a:lnTo>
                    <a:lnTo>
                      <a:pt x="86" y="2483"/>
                    </a:lnTo>
                    <a:lnTo>
                      <a:pt x="90" y="2473"/>
                    </a:lnTo>
                    <a:lnTo>
                      <a:pt x="95" y="2464"/>
                    </a:lnTo>
                    <a:lnTo>
                      <a:pt x="100" y="2458"/>
                    </a:lnTo>
                    <a:lnTo>
                      <a:pt x="104" y="2452"/>
                    </a:lnTo>
                    <a:lnTo>
                      <a:pt x="111" y="2446"/>
                    </a:lnTo>
                    <a:lnTo>
                      <a:pt x="116" y="2441"/>
                    </a:lnTo>
                    <a:lnTo>
                      <a:pt x="122" y="2437"/>
                    </a:lnTo>
                    <a:lnTo>
                      <a:pt x="128" y="2434"/>
                    </a:lnTo>
                    <a:lnTo>
                      <a:pt x="140" y="2430"/>
                    </a:lnTo>
                    <a:lnTo>
                      <a:pt x="151" y="2429"/>
                    </a:lnTo>
                    <a:lnTo>
                      <a:pt x="160" y="2428"/>
                    </a:lnTo>
                    <a:lnTo>
                      <a:pt x="168" y="2429"/>
                    </a:lnTo>
                    <a:lnTo>
                      <a:pt x="173" y="2430"/>
                    </a:lnTo>
                    <a:lnTo>
                      <a:pt x="181" y="2431"/>
                    </a:lnTo>
                    <a:lnTo>
                      <a:pt x="188" y="2433"/>
                    </a:lnTo>
                    <a:lnTo>
                      <a:pt x="194" y="2434"/>
                    </a:lnTo>
                    <a:lnTo>
                      <a:pt x="200" y="2436"/>
                    </a:lnTo>
                    <a:lnTo>
                      <a:pt x="205" y="2437"/>
                    </a:lnTo>
                    <a:lnTo>
                      <a:pt x="208" y="2439"/>
                    </a:lnTo>
                    <a:lnTo>
                      <a:pt x="210" y="2439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6570720" y="4721400"/>
                <a:ext cx="66600" cy="176040"/>
              </a:xfrm>
              <a:custGeom>
                <a:avLst/>
                <a:gdLst/>
                <a:ahLst/>
                <a:rect l="l" t="t" r="r" b="b"/>
                <a:pathLst>
                  <a:path w="210" h="555">
                    <a:moveTo>
                      <a:pt x="0" y="4"/>
                    </a:moveTo>
                    <a:lnTo>
                      <a:pt x="0" y="486"/>
                    </a:lnTo>
                    <a:lnTo>
                      <a:pt x="0" y="489"/>
                    </a:lnTo>
                    <a:lnTo>
                      <a:pt x="1" y="497"/>
                    </a:lnTo>
                    <a:lnTo>
                      <a:pt x="2" y="502"/>
                    </a:lnTo>
                    <a:lnTo>
                      <a:pt x="4" y="509"/>
                    </a:lnTo>
                    <a:lnTo>
                      <a:pt x="7" y="514"/>
                    </a:lnTo>
                    <a:lnTo>
                      <a:pt x="11" y="521"/>
                    </a:lnTo>
                    <a:lnTo>
                      <a:pt x="17" y="527"/>
                    </a:lnTo>
                    <a:lnTo>
                      <a:pt x="24" y="534"/>
                    </a:lnTo>
                    <a:lnTo>
                      <a:pt x="33" y="540"/>
                    </a:lnTo>
                    <a:lnTo>
                      <a:pt x="44" y="544"/>
                    </a:lnTo>
                    <a:lnTo>
                      <a:pt x="56" y="550"/>
                    </a:lnTo>
                    <a:lnTo>
                      <a:pt x="71" y="553"/>
                    </a:lnTo>
                    <a:lnTo>
                      <a:pt x="88" y="555"/>
                    </a:lnTo>
                    <a:lnTo>
                      <a:pt x="109" y="555"/>
                    </a:lnTo>
                    <a:lnTo>
                      <a:pt x="128" y="555"/>
                    </a:lnTo>
                    <a:lnTo>
                      <a:pt x="145" y="553"/>
                    </a:lnTo>
                    <a:lnTo>
                      <a:pt x="160" y="549"/>
                    </a:lnTo>
                    <a:lnTo>
                      <a:pt x="172" y="544"/>
                    </a:lnTo>
                    <a:lnTo>
                      <a:pt x="182" y="539"/>
                    </a:lnTo>
                    <a:lnTo>
                      <a:pt x="191" y="532"/>
                    </a:lnTo>
                    <a:lnTo>
                      <a:pt x="197" y="526"/>
                    </a:lnTo>
                    <a:lnTo>
                      <a:pt x="202" y="520"/>
                    </a:lnTo>
                    <a:lnTo>
                      <a:pt x="205" y="513"/>
                    </a:lnTo>
                    <a:lnTo>
                      <a:pt x="208" y="507"/>
                    </a:lnTo>
                    <a:lnTo>
                      <a:pt x="209" y="501"/>
                    </a:lnTo>
                    <a:lnTo>
                      <a:pt x="210" y="495"/>
                    </a:lnTo>
                    <a:lnTo>
                      <a:pt x="210" y="487"/>
                    </a:lnTo>
                    <a:lnTo>
                      <a:pt x="210" y="484"/>
                    </a:lnTo>
                    <a:lnTo>
                      <a:pt x="210" y="0"/>
                    </a:lnTo>
                    <a:lnTo>
                      <a:pt x="0" y="4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5695920" y="3830760"/>
                <a:ext cx="1633680" cy="123840"/>
              </a:xfrm>
              <a:custGeom>
                <a:avLst/>
                <a:gdLst/>
                <a:ahLst/>
                <a:rect l="l" t="t" r="r" b="b"/>
                <a:pathLst>
                  <a:path w="5147" h="390">
                    <a:moveTo>
                      <a:pt x="5147" y="22"/>
                    </a:moveTo>
                    <a:lnTo>
                      <a:pt x="5147" y="30"/>
                    </a:lnTo>
                    <a:lnTo>
                      <a:pt x="5144" y="52"/>
                    </a:lnTo>
                    <a:lnTo>
                      <a:pt x="5142" y="67"/>
                    </a:lnTo>
                    <a:lnTo>
                      <a:pt x="5136" y="83"/>
                    </a:lnTo>
                    <a:lnTo>
                      <a:pt x="5131" y="102"/>
                    </a:lnTo>
                    <a:lnTo>
                      <a:pt x="5122" y="120"/>
                    </a:lnTo>
                    <a:lnTo>
                      <a:pt x="5117" y="130"/>
                    </a:lnTo>
                    <a:lnTo>
                      <a:pt x="5112" y="138"/>
                    </a:lnTo>
                    <a:lnTo>
                      <a:pt x="5105" y="148"/>
                    </a:lnTo>
                    <a:lnTo>
                      <a:pt x="5099" y="158"/>
                    </a:lnTo>
                    <a:lnTo>
                      <a:pt x="5091" y="166"/>
                    </a:lnTo>
                    <a:lnTo>
                      <a:pt x="5082" y="175"/>
                    </a:lnTo>
                    <a:lnTo>
                      <a:pt x="5073" y="184"/>
                    </a:lnTo>
                    <a:lnTo>
                      <a:pt x="5063" y="192"/>
                    </a:lnTo>
                    <a:lnTo>
                      <a:pt x="5052" y="200"/>
                    </a:lnTo>
                    <a:lnTo>
                      <a:pt x="5040" y="206"/>
                    </a:lnTo>
                    <a:lnTo>
                      <a:pt x="5027" y="213"/>
                    </a:lnTo>
                    <a:lnTo>
                      <a:pt x="5013" y="219"/>
                    </a:lnTo>
                    <a:lnTo>
                      <a:pt x="4998" y="224"/>
                    </a:lnTo>
                    <a:lnTo>
                      <a:pt x="4982" y="228"/>
                    </a:lnTo>
                    <a:lnTo>
                      <a:pt x="4966" y="232"/>
                    </a:lnTo>
                    <a:lnTo>
                      <a:pt x="4947" y="234"/>
                    </a:lnTo>
                    <a:lnTo>
                      <a:pt x="4875" y="240"/>
                    </a:lnTo>
                    <a:lnTo>
                      <a:pt x="4738" y="247"/>
                    </a:lnTo>
                    <a:lnTo>
                      <a:pt x="4548" y="257"/>
                    </a:lnTo>
                    <a:lnTo>
                      <a:pt x="4312" y="268"/>
                    </a:lnTo>
                    <a:lnTo>
                      <a:pt x="3744" y="294"/>
                    </a:lnTo>
                    <a:lnTo>
                      <a:pt x="3111" y="321"/>
                    </a:lnTo>
                    <a:lnTo>
                      <a:pt x="2485" y="347"/>
                    </a:lnTo>
                    <a:lnTo>
                      <a:pt x="1946" y="369"/>
                    </a:lnTo>
                    <a:lnTo>
                      <a:pt x="1567" y="385"/>
                    </a:lnTo>
                    <a:lnTo>
                      <a:pt x="1423" y="390"/>
                    </a:lnTo>
                    <a:lnTo>
                      <a:pt x="0" y="12"/>
                    </a:lnTo>
                    <a:lnTo>
                      <a:pt x="779" y="0"/>
                    </a:lnTo>
                    <a:lnTo>
                      <a:pt x="5147" y="22"/>
                    </a:lnTo>
                    <a:close/>
                  </a:path>
                </a:pathLst>
              </a:custGeom>
              <a:solidFill>
                <a:srgbClr val="8c8b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5695920" y="3830760"/>
                <a:ext cx="1633680" cy="123840"/>
              </a:xfrm>
              <a:custGeom>
                <a:avLst/>
                <a:gdLst/>
                <a:ahLst/>
                <a:rect l="l" t="t" r="r" b="b"/>
                <a:pathLst>
                  <a:path w="5147" h="390">
                    <a:moveTo>
                      <a:pt x="5147" y="22"/>
                    </a:moveTo>
                    <a:lnTo>
                      <a:pt x="5147" y="30"/>
                    </a:lnTo>
                    <a:lnTo>
                      <a:pt x="5144" y="52"/>
                    </a:lnTo>
                    <a:lnTo>
                      <a:pt x="5142" y="67"/>
                    </a:lnTo>
                    <a:lnTo>
                      <a:pt x="5136" y="83"/>
                    </a:lnTo>
                    <a:lnTo>
                      <a:pt x="5131" y="102"/>
                    </a:lnTo>
                    <a:lnTo>
                      <a:pt x="5122" y="120"/>
                    </a:lnTo>
                    <a:lnTo>
                      <a:pt x="5117" y="130"/>
                    </a:lnTo>
                    <a:lnTo>
                      <a:pt x="5112" y="138"/>
                    </a:lnTo>
                    <a:lnTo>
                      <a:pt x="5105" y="148"/>
                    </a:lnTo>
                    <a:lnTo>
                      <a:pt x="5099" y="158"/>
                    </a:lnTo>
                    <a:lnTo>
                      <a:pt x="5091" y="166"/>
                    </a:lnTo>
                    <a:lnTo>
                      <a:pt x="5082" y="175"/>
                    </a:lnTo>
                    <a:lnTo>
                      <a:pt x="5073" y="184"/>
                    </a:lnTo>
                    <a:lnTo>
                      <a:pt x="5063" y="192"/>
                    </a:lnTo>
                    <a:lnTo>
                      <a:pt x="5052" y="200"/>
                    </a:lnTo>
                    <a:lnTo>
                      <a:pt x="5040" y="206"/>
                    </a:lnTo>
                    <a:lnTo>
                      <a:pt x="5027" y="213"/>
                    </a:lnTo>
                    <a:lnTo>
                      <a:pt x="5013" y="219"/>
                    </a:lnTo>
                    <a:lnTo>
                      <a:pt x="4998" y="224"/>
                    </a:lnTo>
                    <a:lnTo>
                      <a:pt x="4982" y="228"/>
                    </a:lnTo>
                    <a:lnTo>
                      <a:pt x="4966" y="232"/>
                    </a:lnTo>
                    <a:lnTo>
                      <a:pt x="4947" y="234"/>
                    </a:lnTo>
                    <a:lnTo>
                      <a:pt x="4875" y="240"/>
                    </a:lnTo>
                    <a:lnTo>
                      <a:pt x="4738" y="247"/>
                    </a:lnTo>
                    <a:lnTo>
                      <a:pt x="4548" y="257"/>
                    </a:lnTo>
                    <a:lnTo>
                      <a:pt x="4312" y="268"/>
                    </a:lnTo>
                    <a:lnTo>
                      <a:pt x="3744" y="294"/>
                    </a:lnTo>
                    <a:lnTo>
                      <a:pt x="3111" y="321"/>
                    </a:lnTo>
                    <a:lnTo>
                      <a:pt x="2485" y="347"/>
                    </a:lnTo>
                    <a:lnTo>
                      <a:pt x="1946" y="369"/>
                    </a:lnTo>
                    <a:lnTo>
                      <a:pt x="1567" y="385"/>
                    </a:lnTo>
                    <a:lnTo>
                      <a:pt x="1423" y="390"/>
                    </a:lnTo>
                    <a:lnTo>
                      <a:pt x="0" y="12"/>
                    </a:lnTo>
                    <a:lnTo>
                      <a:pt x="779" y="0"/>
                    </a:lnTo>
                    <a:lnTo>
                      <a:pt x="5147" y="22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6068880" y="5297400"/>
                <a:ext cx="157320" cy="482760"/>
              </a:xfrm>
              <a:custGeom>
                <a:avLst/>
                <a:gdLst/>
                <a:ahLst/>
                <a:rect l="l" t="t" r="r" b="b"/>
                <a:pathLst>
                  <a:path w="494" h="1521">
                    <a:moveTo>
                      <a:pt x="35" y="1335"/>
                    </a:moveTo>
                    <a:lnTo>
                      <a:pt x="41" y="1357"/>
                    </a:lnTo>
                    <a:lnTo>
                      <a:pt x="48" y="1376"/>
                    </a:lnTo>
                    <a:lnTo>
                      <a:pt x="55" y="1395"/>
                    </a:lnTo>
                    <a:lnTo>
                      <a:pt x="63" y="1412"/>
                    </a:lnTo>
                    <a:lnTo>
                      <a:pt x="70" y="1428"/>
                    </a:lnTo>
                    <a:lnTo>
                      <a:pt x="78" y="1443"/>
                    </a:lnTo>
                    <a:lnTo>
                      <a:pt x="86" y="1457"/>
                    </a:lnTo>
                    <a:lnTo>
                      <a:pt x="94" y="1470"/>
                    </a:lnTo>
                    <a:lnTo>
                      <a:pt x="103" y="1481"/>
                    </a:lnTo>
                    <a:lnTo>
                      <a:pt x="110" y="1491"/>
                    </a:lnTo>
                    <a:lnTo>
                      <a:pt x="119" y="1499"/>
                    </a:lnTo>
                    <a:lnTo>
                      <a:pt x="128" y="1507"/>
                    </a:lnTo>
                    <a:lnTo>
                      <a:pt x="136" y="1512"/>
                    </a:lnTo>
                    <a:lnTo>
                      <a:pt x="145" y="1517"/>
                    </a:lnTo>
                    <a:lnTo>
                      <a:pt x="154" y="1520"/>
                    </a:lnTo>
                    <a:lnTo>
                      <a:pt x="163" y="1521"/>
                    </a:lnTo>
                    <a:lnTo>
                      <a:pt x="169" y="1521"/>
                    </a:lnTo>
                    <a:lnTo>
                      <a:pt x="184" y="1521"/>
                    </a:lnTo>
                    <a:lnTo>
                      <a:pt x="204" y="1521"/>
                    </a:lnTo>
                    <a:lnTo>
                      <a:pt x="228" y="1521"/>
                    </a:lnTo>
                    <a:lnTo>
                      <a:pt x="252" y="1521"/>
                    </a:lnTo>
                    <a:lnTo>
                      <a:pt x="271" y="1521"/>
                    </a:lnTo>
                    <a:lnTo>
                      <a:pt x="286" y="1521"/>
                    </a:lnTo>
                    <a:lnTo>
                      <a:pt x="292" y="1521"/>
                    </a:lnTo>
                    <a:lnTo>
                      <a:pt x="302" y="1520"/>
                    </a:lnTo>
                    <a:lnTo>
                      <a:pt x="312" y="1517"/>
                    </a:lnTo>
                    <a:lnTo>
                      <a:pt x="322" y="1512"/>
                    </a:lnTo>
                    <a:lnTo>
                      <a:pt x="332" y="1506"/>
                    </a:lnTo>
                    <a:lnTo>
                      <a:pt x="342" y="1497"/>
                    </a:lnTo>
                    <a:lnTo>
                      <a:pt x="351" y="1486"/>
                    </a:lnTo>
                    <a:lnTo>
                      <a:pt x="361" y="1475"/>
                    </a:lnTo>
                    <a:lnTo>
                      <a:pt x="370" y="1462"/>
                    </a:lnTo>
                    <a:lnTo>
                      <a:pt x="379" y="1446"/>
                    </a:lnTo>
                    <a:lnTo>
                      <a:pt x="388" y="1429"/>
                    </a:lnTo>
                    <a:lnTo>
                      <a:pt x="397" y="1411"/>
                    </a:lnTo>
                    <a:lnTo>
                      <a:pt x="404" y="1391"/>
                    </a:lnTo>
                    <a:lnTo>
                      <a:pt x="413" y="1370"/>
                    </a:lnTo>
                    <a:lnTo>
                      <a:pt x="420" y="1347"/>
                    </a:lnTo>
                    <a:lnTo>
                      <a:pt x="428" y="1323"/>
                    </a:lnTo>
                    <a:lnTo>
                      <a:pt x="434" y="1299"/>
                    </a:lnTo>
                    <a:lnTo>
                      <a:pt x="441" y="1272"/>
                    </a:lnTo>
                    <a:lnTo>
                      <a:pt x="447" y="1245"/>
                    </a:lnTo>
                    <a:lnTo>
                      <a:pt x="454" y="1215"/>
                    </a:lnTo>
                    <a:lnTo>
                      <a:pt x="459" y="1186"/>
                    </a:lnTo>
                    <a:lnTo>
                      <a:pt x="470" y="1124"/>
                    </a:lnTo>
                    <a:lnTo>
                      <a:pt x="478" y="1057"/>
                    </a:lnTo>
                    <a:lnTo>
                      <a:pt x="485" y="987"/>
                    </a:lnTo>
                    <a:lnTo>
                      <a:pt x="490" y="915"/>
                    </a:lnTo>
                    <a:lnTo>
                      <a:pt x="493" y="840"/>
                    </a:lnTo>
                    <a:lnTo>
                      <a:pt x="494" y="762"/>
                    </a:lnTo>
                    <a:lnTo>
                      <a:pt x="493" y="684"/>
                    </a:lnTo>
                    <a:lnTo>
                      <a:pt x="490" y="608"/>
                    </a:lnTo>
                    <a:lnTo>
                      <a:pt x="485" y="536"/>
                    </a:lnTo>
                    <a:lnTo>
                      <a:pt x="478" y="466"/>
                    </a:lnTo>
                    <a:lnTo>
                      <a:pt x="470" y="399"/>
                    </a:lnTo>
                    <a:lnTo>
                      <a:pt x="459" y="336"/>
                    </a:lnTo>
                    <a:lnTo>
                      <a:pt x="454" y="307"/>
                    </a:lnTo>
                    <a:lnTo>
                      <a:pt x="447" y="278"/>
                    </a:lnTo>
                    <a:lnTo>
                      <a:pt x="441" y="250"/>
                    </a:lnTo>
                    <a:lnTo>
                      <a:pt x="434" y="224"/>
                    </a:lnTo>
                    <a:lnTo>
                      <a:pt x="428" y="199"/>
                    </a:lnTo>
                    <a:lnTo>
                      <a:pt x="420" y="174"/>
                    </a:lnTo>
                    <a:lnTo>
                      <a:pt x="413" y="153"/>
                    </a:lnTo>
                    <a:lnTo>
                      <a:pt x="404" y="131"/>
                    </a:lnTo>
                    <a:lnTo>
                      <a:pt x="397" y="112"/>
                    </a:lnTo>
                    <a:lnTo>
                      <a:pt x="388" y="93"/>
                    </a:lnTo>
                    <a:lnTo>
                      <a:pt x="379" y="76"/>
                    </a:lnTo>
                    <a:lnTo>
                      <a:pt x="370" y="61"/>
                    </a:lnTo>
                    <a:lnTo>
                      <a:pt x="361" y="47"/>
                    </a:lnTo>
                    <a:lnTo>
                      <a:pt x="351" y="35"/>
                    </a:lnTo>
                    <a:lnTo>
                      <a:pt x="342" y="25"/>
                    </a:lnTo>
                    <a:lnTo>
                      <a:pt x="332" y="17"/>
                    </a:lnTo>
                    <a:lnTo>
                      <a:pt x="322" y="10"/>
                    </a:lnTo>
                    <a:lnTo>
                      <a:pt x="312" y="5"/>
                    </a:lnTo>
                    <a:lnTo>
                      <a:pt x="302" y="1"/>
                    </a:lnTo>
                    <a:lnTo>
                      <a:pt x="292" y="0"/>
                    </a:lnTo>
                    <a:lnTo>
                      <a:pt x="285" y="0"/>
                    </a:lnTo>
                    <a:lnTo>
                      <a:pt x="270" y="0"/>
                    </a:lnTo>
                    <a:lnTo>
                      <a:pt x="250" y="0"/>
                    </a:lnTo>
                    <a:lnTo>
                      <a:pt x="225" y="0"/>
                    </a:lnTo>
                    <a:lnTo>
                      <a:pt x="200" y="0"/>
                    </a:lnTo>
                    <a:lnTo>
                      <a:pt x="178" y="0"/>
                    </a:lnTo>
                    <a:lnTo>
                      <a:pt x="163" y="0"/>
                    </a:lnTo>
                    <a:lnTo>
                      <a:pt x="158" y="0"/>
                    </a:lnTo>
                    <a:lnTo>
                      <a:pt x="152" y="1"/>
                    </a:lnTo>
                    <a:lnTo>
                      <a:pt x="146" y="3"/>
                    </a:lnTo>
                    <a:lnTo>
                      <a:pt x="141" y="5"/>
                    </a:lnTo>
                    <a:lnTo>
                      <a:pt x="135" y="7"/>
                    </a:lnTo>
                    <a:lnTo>
                      <a:pt x="124" y="14"/>
                    </a:lnTo>
                    <a:lnTo>
                      <a:pt x="114" y="23"/>
                    </a:lnTo>
                    <a:lnTo>
                      <a:pt x="103" y="34"/>
                    </a:lnTo>
                    <a:lnTo>
                      <a:pt x="92" y="47"/>
                    </a:lnTo>
                    <a:lnTo>
                      <a:pt x="82" y="62"/>
                    </a:lnTo>
                    <a:lnTo>
                      <a:pt x="73" y="79"/>
                    </a:lnTo>
                    <a:lnTo>
                      <a:pt x="63" y="98"/>
                    </a:lnTo>
                    <a:lnTo>
                      <a:pt x="53" y="118"/>
                    </a:lnTo>
                    <a:lnTo>
                      <a:pt x="44" y="141"/>
                    </a:lnTo>
                    <a:lnTo>
                      <a:pt x="36" y="166"/>
                    </a:lnTo>
                    <a:lnTo>
                      <a:pt x="27" y="192"/>
                    </a:lnTo>
                    <a:lnTo>
                      <a:pt x="20" y="219"/>
                    </a:lnTo>
                    <a:lnTo>
                      <a:pt x="12" y="248"/>
                    </a:lnTo>
                    <a:lnTo>
                      <a:pt x="5" y="278"/>
                    </a:lnTo>
                    <a:lnTo>
                      <a:pt x="2" y="290"/>
                    </a:lnTo>
                    <a:lnTo>
                      <a:pt x="1" y="303"/>
                    </a:lnTo>
                    <a:lnTo>
                      <a:pt x="0" y="316"/>
                    </a:lnTo>
                    <a:lnTo>
                      <a:pt x="0" y="330"/>
                    </a:lnTo>
                    <a:lnTo>
                      <a:pt x="2" y="357"/>
                    </a:lnTo>
                    <a:lnTo>
                      <a:pt x="7" y="384"/>
                    </a:lnTo>
                    <a:lnTo>
                      <a:pt x="13" y="412"/>
                    </a:lnTo>
                    <a:lnTo>
                      <a:pt x="20" y="441"/>
                    </a:lnTo>
                    <a:lnTo>
                      <a:pt x="28" y="471"/>
                    </a:lnTo>
                    <a:lnTo>
                      <a:pt x="38" y="501"/>
                    </a:lnTo>
                    <a:lnTo>
                      <a:pt x="48" y="532"/>
                    </a:lnTo>
                    <a:lnTo>
                      <a:pt x="56" y="564"/>
                    </a:lnTo>
                    <a:lnTo>
                      <a:pt x="66" y="595"/>
                    </a:lnTo>
                    <a:lnTo>
                      <a:pt x="74" y="628"/>
                    </a:lnTo>
                    <a:lnTo>
                      <a:pt x="81" y="661"/>
                    </a:lnTo>
                    <a:lnTo>
                      <a:pt x="87" y="695"/>
                    </a:lnTo>
                    <a:lnTo>
                      <a:pt x="89" y="711"/>
                    </a:lnTo>
                    <a:lnTo>
                      <a:pt x="90" y="728"/>
                    </a:lnTo>
                    <a:lnTo>
                      <a:pt x="91" y="746"/>
                    </a:lnTo>
                    <a:lnTo>
                      <a:pt x="91" y="762"/>
                    </a:lnTo>
                    <a:lnTo>
                      <a:pt x="90" y="805"/>
                    </a:lnTo>
                    <a:lnTo>
                      <a:pt x="87" y="846"/>
                    </a:lnTo>
                    <a:lnTo>
                      <a:pt x="82" y="888"/>
                    </a:lnTo>
                    <a:lnTo>
                      <a:pt x="77" y="928"/>
                    </a:lnTo>
                    <a:lnTo>
                      <a:pt x="62" y="1007"/>
                    </a:lnTo>
                    <a:lnTo>
                      <a:pt x="47" y="1083"/>
                    </a:lnTo>
                    <a:lnTo>
                      <a:pt x="40" y="1118"/>
                    </a:lnTo>
                    <a:lnTo>
                      <a:pt x="34" y="1154"/>
                    </a:lnTo>
                    <a:lnTo>
                      <a:pt x="29" y="1187"/>
                    </a:lnTo>
                    <a:lnTo>
                      <a:pt x="25" y="1220"/>
                    </a:lnTo>
                    <a:lnTo>
                      <a:pt x="24" y="1236"/>
                    </a:lnTo>
                    <a:lnTo>
                      <a:pt x="24" y="1251"/>
                    </a:lnTo>
                    <a:lnTo>
                      <a:pt x="24" y="1266"/>
                    </a:lnTo>
                    <a:lnTo>
                      <a:pt x="25" y="1280"/>
                    </a:lnTo>
                    <a:lnTo>
                      <a:pt x="26" y="1295"/>
                    </a:lnTo>
                    <a:lnTo>
                      <a:pt x="28" y="1309"/>
                    </a:lnTo>
                    <a:lnTo>
                      <a:pt x="30" y="1322"/>
                    </a:lnTo>
                    <a:lnTo>
                      <a:pt x="35" y="1335"/>
                    </a:lnTo>
                    <a:close/>
                  </a:path>
                </a:pathLst>
              </a:custGeom>
              <a:solidFill>
                <a:srgbClr val="3e43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6057720" y="5310360"/>
                <a:ext cx="120960" cy="457200"/>
              </a:xfrm>
              <a:custGeom>
                <a:avLst/>
                <a:gdLst/>
                <a:ahLst/>
                <a:rect l="l" t="t" r="r" b="b"/>
                <a:pathLst>
                  <a:path w="382" h="1439">
                    <a:moveTo>
                      <a:pt x="190" y="1439"/>
                    </a:moveTo>
                    <a:lnTo>
                      <a:pt x="198" y="1439"/>
                    </a:lnTo>
                    <a:lnTo>
                      <a:pt x="206" y="1437"/>
                    </a:lnTo>
                    <a:lnTo>
                      <a:pt x="213" y="1435"/>
                    </a:lnTo>
                    <a:lnTo>
                      <a:pt x="220" y="1431"/>
                    </a:lnTo>
                    <a:lnTo>
                      <a:pt x="227" y="1427"/>
                    </a:lnTo>
                    <a:lnTo>
                      <a:pt x="234" y="1421"/>
                    </a:lnTo>
                    <a:lnTo>
                      <a:pt x="241" y="1414"/>
                    </a:lnTo>
                    <a:lnTo>
                      <a:pt x="248" y="1408"/>
                    </a:lnTo>
                    <a:lnTo>
                      <a:pt x="254" y="1399"/>
                    </a:lnTo>
                    <a:lnTo>
                      <a:pt x="261" y="1389"/>
                    </a:lnTo>
                    <a:lnTo>
                      <a:pt x="267" y="1380"/>
                    </a:lnTo>
                    <a:lnTo>
                      <a:pt x="274" y="1369"/>
                    </a:lnTo>
                    <a:lnTo>
                      <a:pt x="286" y="1344"/>
                    </a:lnTo>
                    <a:lnTo>
                      <a:pt x="297" y="1317"/>
                    </a:lnTo>
                    <a:lnTo>
                      <a:pt x="308" y="1286"/>
                    </a:lnTo>
                    <a:lnTo>
                      <a:pt x="319" y="1253"/>
                    </a:lnTo>
                    <a:lnTo>
                      <a:pt x="329" y="1217"/>
                    </a:lnTo>
                    <a:lnTo>
                      <a:pt x="337" y="1178"/>
                    </a:lnTo>
                    <a:lnTo>
                      <a:pt x="346" y="1137"/>
                    </a:lnTo>
                    <a:lnTo>
                      <a:pt x="354" y="1092"/>
                    </a:lnTo>
                    <a:lnTo>
                      <a:pt x="360" y="1047"/>
                    </a:lnTo>
                    <a:lnTo>
                      <a:pt x="367" y="999"/>
                    </a:lnTo>
                    <a:lnTo>
                      <a:pt x="370" y="967"/>
                    </a:lnTo>
                    <a:lnTo>
                      <a:pt x="372" y="934"/>
                    </a:lnTo>
                    <a:lnTo>
                      <a:pt x="374" y="899"/>
                    </a:lnTo>
                    <a:lnTo>
                      <a:pt x="376" y="864"/>
                    </a:lnTo>
                    <a:lnTo>
                      <a:pt x="378" y="829"/>
                    </a:lnTo>
                    <a:lnTo>
                      <a:pt x="381" y="793"/>
                    </a:lnTo>
                    <a:lnTo>
                      <a:pt x="381" y="756"/>
                    </a:lnTo>
                    <a:lnTo>
                      <a:pt x="382" y="720"/>
                    </a:lnTo>
                    <a:lnTo>
                      <a:pt x="381" y="646"/>
                    </a:lnTo>
                    <a:lnTo>
                      <a:pt x="377" y="575"/>
                    </a:lnTo>
                    <a:lnTo>
                      <a:pt x="373" y="506"/>
                    </a:lnTo>
                    <a:lnTo>
                      <a:pt x="367" y="440"/>
                    </a:lnTo>
                    <a:lnTo>
                      <a:pt x="358" y="377"/>
                    </a:lnTo>
                    <a:lnTo>
                      <a:pt x="348" y="318"/>
                    </a:lnTo>
                    <a:lnTo>
                      <a:pt x="343" y="290"/>
                    </a:lnTo>
                    <a:lnTo>
                      <a:pt x="337" y="262"/>
                    </a:lnTo>
                    <a:lnTo>
                      <a:pt x="331" y="236"/>
                    </a:lnTo>
                    <a:lnTo>
                      <a:pt x="326" y="211"/>
                    </a:lnTo>
                    <a:lnTo>
                      <a:pt x="318" y="187"/>
                    </a:lnTo>
                    <a:lnTo>
                      <a:pt x="311" y="165"/>
                    </a:lnTo>
                    <a:lnTo>
                      <a:pt x="304" y="143"/>
                    </a:lnTo>
                    <a:lnTo>
                      <a:pt x="296" y="124"/>
                    </a:lnTo>
                    <a:lnTo>
                      <a:pt x="289" y="105"/>
                    </a:lnTo>
                    <a:lnTo>
                      <a:pt x="281" y="88"/>
                    </a:lnTo>
                    <a:lnTo>
                      <a:pt x="273" y="72"/>
                    </a:lnTo>
                    <a:lnTo>
                      <a:pt x="265" y="58"/>
                    </a:lnTo>
                    <a:lnTo>
                      <a:pt x="256" y="45"/>
                    </a:lnTo>
                    <a:lnTo>
                      <a:pt x="247" y="33"/>
                    </a:lnTo>
                    <a:lnTo>
                      <a:pt x="238" y="23"/>
                    </a:lnTo>
                    <a:lnTo>
                      <a:pt x="229" y="16"/>
                    </a:lnTo>
                    <a:lnTo>
                      <a:pt x="220" y="9"/>
                    </a:lnTo>
                    <a:lnTo>
                      <a:pt x="210" y="5"/>
                    </a:lnTo>
                    <a:lnTo>
                      <a:pt x="200" y="2"/>
                    </a:lnTo>
                    <a:lnTo>
                      <a:pt x="190" y="0"/>
                    </a:lnTo>
                    <a:lnTo>
                      <a:pt x="181" y="2"/>
                    </a:lnTo>
                    <a:lnTo>
                      <a:pt x="171" y="5"/>
                    </a:lnTo>
                    <a:lnTo>
                      <a:pt x="161" y="9"/>
                    </a:lnTo>
                    <a:lnTo>
                      <a:pt x="153" y="16"/>
                    </a:lnTo>
                    <a:lnTo>
                      <a:pt x="143" y="23"/>
                    </a:lnTo>
                    <a:lnTo>
                      <a:pt x="134" y="33"/>
                    </a:lnTo>
                    <a:lnTo>
                      <a:pt x="125" y="45"/>
                    </a:lnTo>
                    <a:lnTo>
                      <a:pt x="116" y="58"/>
                    </a:lnTo>
                    <a:lnTo>
                      <a:pt x="108" y="72"/>
                    </a:lnTo>
                    <a:lnTo>
                      <a:pt x="100" y="88"/>
                    </a:lnTo>
                    <a:lnTo>
                      <a:pt x="92" y="105"/>
                    </a:lnTo>
                    <a:lnTo>
                      <a:pt x="84" y="124"/>
                    </a:lnTo>
                    <a:lnTo>
                      <a:pt x="77" y="143"/>
                    </a:lnTo>
                    <a:lnTo>
                      <a:pt x="70" y="165"/>
                    </a:lnTo>
                    <a:lnTo>
                      <a:pt x="63" y="187"/>
                    </a:lnTo>
                    <a:lnTo>
                      <a:pt x="55" y="211"/>
                    </a:lnTo>
                    <a:lnTo>
                      <a:pt x="50" y="236"/>
                    </a:lnTo>
                    <a:lnTo>
                      <a:pt x="44" y="262"/>
                    </a:lnTo>
                    <a:lnTo>
                      <a:pt x="38" y="290"/>
                    </a:lnTo>
                    <a:lnTo>
                      <a:pt x="33" y="318"/>
                    </a:lnTo>
                    <a:lnTo>
                      <a:pt x="23" y="377"/>
                    </a:lnTo>
                    <a:lnTo>
                      <a:pt x="15" y="440"/>
                    </a:lnTo>
                    <a:lnTo>
                      <a:pt x="9" y="506"/>
                    </a:lnTo>
                    <a:lnTo>
                      <a:pt x="5" y="575"/>
                    </a:lnTo>
                    <a:lnTo>
                      <a:pt x="1" y="646"/>
                    </a:lnTo>
                    <a:lnTo>
                      <a:pt x="0" y="720"/>
                    </a:lnTo>
                    <a:lnTo>
                      <a:pt x="1" y="794"/>
                    </a:lnTo>
                    <a:lnTo>
                      <a:pt x="5" y="866"/>
                    </a:lnTo>
                    <a:lnTo>
                      <a:pt x="9" y="935"/>
                    </a:lnTo>
                    <a:lnTo>
                      <a:pt x="15" y="1001"/>
                    </a:lnTo>
                    <a:lnTo>
                      <a:pt x="23" y="1063"/>
                    </a:lnTo>
                    <a:lnTo>
                      <a:pt x="33" y="1123"/>
                    </a:lnTo>
                    <a:lnTo>
                      <a:pt x="38" y="1151"/>
                    </a:lnTo>
                    <a:lnTo>
                      <a:pt x="44" y="1178"/>
                    </a:lnTo>
                    <a:lnTo>
                      <a:pt x="50" y="1204"/>
                    </a:lnTo>
                    <a:lnTo>
                      <a:pt x="55" y="1230"/>
                    </a:lnTo>
                    <a:lnTo>
                      <a:pt x="63" y="1253"/>
                    </a:lnTo>
                    <a:lnTo>
                      <a:pt x="70" y="1276"/>
                    </a:lnTo>
                    <a:lnTo>
                      <a:pt x="77" y="1296"/>
                    </a:lnTo>
                    <a:lnTo>
                      <a:pt x="84" y="1317"/>
                    </a:lnTo>
                    <a:lnTo>
                      <a:pt x="92" y="1335"/>
                    </a:lnTo>
                    <a:lnTo>
                      <a:pt x="100" y="1353"/>
                    </a:lnTo>
                    <a:lnTo>
                      <a:pt x="108" y="1369"/>
                    </a:lnTo>
                    <a:lnTo>
                      <a:pt x="116" y="1383"/>
                    </a:lnTo>
                    <a:lnTo>
                      <a:pt x="125" y="1396"/>
                    </a:lnTo>
                    <a:lnTo>
                      <a:pt x="134" y="1408"/>
                    </a:lnTo>
                    <a:lnTo>
                      <a:pt x="143" y="1416"/>
                    </a:lnTo>
                    <a:lnTo>
                      <a:pt x="153" y="1425"/>
                    </a:lnTo>
                    <a:lnTo>
                      <a:pt x="161" y="1431"/>
                    </a:lnTo>
                    <a:lnTo>
                      <a:pt x="171" y="1436"/>
                    </a:lnTo>
                    <a:lnTo>
                      <a:pt x="181" y="1439"/>
                    </a:lnTo>
                    <a:lnTo>
                      <a:pt x="190" y="1439"/>
                    </a:lnTo>
                    <a:close/>
                  </a:path>
                </a:pathLst>
              </a:custGeom>
              <a:solidFill>
                <a:srgbClr val="969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6057720" y="5310360"/>
                <a:ext cx="120960" cy="457200"/>
              </a:xfrm>
              <a:custGeom>
                <a:avLst/>
                <a:gdLst/>
                <a:ahLst/>
                <a:rect l="l" t="t" r="r" b="b"/>
                <a:pathLst>
                  <a:path w="382" h="1439">
                    <a:moveTo>
                      <a:pt x="190" y="1439"/>
                    </a:moveTo>
                    <a:lnTo>
                      <a:pt x="198" y="1439"/>
                    </a:lnTo>
                    <a:lnTo>
                      <a:pt x="206" y="1437"/>
                    </a:lnTo>
                    <a:lnTo>
                      <a:pt x="213" y="1435"/>
                    </a:lnTo>
                    <a:lnTo>
                      <a:pt x="220" y="1431"/>
                    </a:lnTo>
                    <a:lnTo>
                      <a:pt x="227" y="1427"/>
                    </a:lnTo>
                    <a:lnTo>
                      <a:pt x="234" y="1421"/>
                    </a:lnTo>
                    <a:lnTo>
                      <a:pt x="241" y="1414"/>
                    </a:lnTo>
                    <a:lnTo>
                      <a:pt x="248" y="1408"/>
                    </a:lnTo>
                    <a:lnTo>
                      <a:pt x="254" y="1399"/>
                    </a:lnTo>
                    <a:lnTo>
                      <a:pt x="261" y="1389"/>
                    </a:lnTo>
                    <a:lnTo>
                      <a:pt x="267" y="1380"/>
                    </a:lnTo>
                    <a:lnTo>
                      <a:pt x="274" y="1369"/>
                    </a:lnTo>
                    <a:lnTo>
                      <a:pt x="286" y="1344"/>
                    </a:lnTo>
                    <a:lnTo>
                      <a:pt x="297" y="1317"/>
                    </a:lnTo>
                    <a:lnTo>
                      <a:pt x="308" y="1286"/>
                    </a:lnTo>
                    <a:lnTo>
                      <a:pt x="319" y="1253"/>
                    </a:lnTo>
                    <a:lnTo>
                      <a:pt x="329" y="1217"/>
                    </a:lnTo>
                    <a:lnTo>
                      <a:pt x="337" y="1178"/>
                    </a:lnTo>
                    <a:lnTo>
                      <a:pt x="346" y="1137"/>
                    </a:lnTo>
                    <a:lnTo>
                      <a:pt x="354" y="1092"/>
                    </a:lnTo>
                    <a:lnTo>
                      <a:pt x="360" y="1047"/>
                    </a:lnTo>
                    <a:lnTo>
                      <a:pt x="367" y="999"/>
                    </a:lnTo>
                    <a:lnTo>
                      <a:pt x="370" y="967"/>
                    </a:lnTo>
                    <a:lnTo>
                      <a:pt x="372" y="934"/>
                    </a:lnTo>
                    <a:lnTo>
                      <a:pt x="374" y="899"/>
                    </a:lnTo>
                    <a:lnTo>
                      <a:pt x="376" y="864"/>
                    </a:lnTo>
                    <a:lnTo>
                      <a:pt x="378" y="829"/>
                    </a:lnTo>
                    <a:lnTo>
                      <a:pt x="381" y="793"/>
                    </a:lnTo>
                    <a:lnTo>
                      <a:pt x="381" y="756"/>
                    </a:lnTo>
                    <a:lnTo>
                      <a:pt x="382" y="720"/>
                    </a:lnTo>
                    <a:lnTo>
                      <a:pt x="381" y="646"/>
                    </a:lnTo>
                    <a:lnTo>
                      <a:pt x="377" y="575"/>
                    </a:lnTo>
                    <a:lnTo>
                      <a:pt x="373" y="506"/>
                    </a:lnTo>
                    <a:lnTo>
                      <a:pt x="367" y="440"/>
                    </a:lnTo>
                    <a:lnTo>
                      <a:pt x="358" y="377"/>
                    </a:lnTo>
                    <a:lnTo>
                      <a:pt x="348" y="318"/>
                    </a:lnTo>
                    <a:lnTo>
                      <a:pt x="343" y="290"/>
                    </a:lnTo>
                    <a:lnTo>
                      <a:pt x="337" y="262"/>
                    </a:lnTo>
                    <a:lnTo>
                      <a:pt x="331" y="236"/>
                    </a:lnTo>
                    <a:lnTo>
                      <a:pt x="326" y="211"/>
                    </a:lnTo>
                    <a:lnTo>
                      <a:pt x="318" y="187"/>
                    </a:lnTo>
                    <a:lnTo>
                      <a:pt x="311" y="165"/>
                    </a:lnTo>
                    <a:lnTo>
                      <a:pt x="304" y="143"/>
                    </a:lnTo>
                    <a:lnTo>
                      <a:pt x="296" y="124"/>
                    </a:lnTo>
                    <a:lnTo>
                      <a:pt x="289" y="105"/>
                    </a:lnTo>
                    <a:lnTo>
                      <a:pt x="281" y="88"/>
                    </a:lnTo>
                    <a:lnTo>
                      <a:pt x="273" y="72"/>
                    </a:lnTo>
                    <a:lnTo>
                      <a:pt x="265" y="58"/>
                    </a:lnTo>
                    <a:lnTo>
                      <a:pt x="256" y="45"/>
                    </a:lnTo>
                    <a:lnTo>
                      <a:pt x="247" y="33"/>
                    </a:lnTo>
                    <a:lnTo>
                      <a:pt x="238" y="23"/>
                    </a:lnTo>
                    <a:lnTo>
                      <a:pt x="229" y="16"/>
                    </a:lnTo>
                    <a:lnTo>
                      <a:pt x="220" y="9"/>
                    </a:lnTo>
                    <a:lnTo>
                      <a:pt x="210" y="5"/>
                    </a:lnTo>
                    <a:lnTo>
                      <a:pt x="200" y="2"/>
                    </a:lnTo>
                    <a:lnTo>
                      <a:pt x="190" y="0"/>
                    </a:lnTo>
                    <a:lnTo>
                      <a:pt x="181" y="2"/>
                    </a:lnTo>
                    <a:lnTo>
                      <a:pt x="171" y="5"/>
                    </a:lnTo>
                    <a:lnTo>
                      <a:pt x="161" y="9"/>
                    </a:lnTo>
                    <a:lnTo>
                      <a:pt x="153" y="16"/>
                    </a:lnTo>
                    <a:lnTo>
                      <a:pt x="143" y="23"/>
                    </a:lnTo>
                    <a:lnTo>
                      <a:pt x="134" y="33"/>
                    </a:lnTo>
                    <a:lnTo>
                      <a:pt x="125" y="45"/>
                    </a:lnTo>
                    <a:lnTo>
                      <a:pt x="116" y="58"/>
                    </a:lnTo>
                    <a:lnTo>
                      <a:pt x="108" y="72"/>
                    </a:lnTo>
                    <a:lnTo>
                      <a:pt x="100" y="88"/>
                    </a:lnTo>
                    <a:lnTo>
                      <a:pt x="92" y="105"/>
                    </a:lnTo>
                    <a:lnTo>
                      <a:pt x="84" y="124"/>
                    </a:lnTo>
                    <a:lnTo>
                      <a:pt x="77" y="143"/>
                    </a:lnTo>
                    <a:lnTo>
                      <a:pt x="70" y="165"/>
                    </a:lnTo>
                    <a:lnTo>
                      <a:pt x="63" y="187"/>
                    </a:lnTo>
                    <a:lnTo>
                      <a:pt x="55" y="211"/>
                    </a:lnTo>
                    <a:lnTo>
                      <a:pt x="50" y="236"/>
                    </a:lnTo>
                    <a:lnTo>
                      <a:pt x="44" y="262"/>
                    </a:lnTo>
                    <a:lnTo>
                      <a:pt x="38" y="290"/>
                    </a:lnTo>
                    <a:lnTo>
                      <a:pt x="33" y="318"/>
                    </a:lnTo>
                    <a:lnTo>
                      <a:pt x="23" y="377"/>
                    </a:lnTo>
                    <a:lnTo>
                      <a:pt x="15" y="440"/>
                    </a:lnTo>
                    <a:lnTo>
                      <a:pt x="9" y="506"/>
                    </a:lnTo>
                    <a:lnTo>
                      <a:pt x="5" y="575"/>
                    </a:lnTo>
                    <a:lnTo>
                      <a:pt x="1" y="646"/>
                    </a:lnTo>
                    <a:lnTo>
                      <a:pt x="0" y="720"/>
                    </a:lnTo>
                    <a:lnTo>
                      <a:pt x="1" y="794"/>
                    </a:lnTo>
                    <a:lnTo>
                      <a:pt x="5" y="866"/>
                    </a:lnTo>
                    <a:lnTo>
                      <a:pt x="9" y="935"/>
                    </a:lnTo>
                    <a:lnTo>
                      <a:pt x="15" y="1001"/>
                    </a:lnTo>
                    <a:lnTo>
                      <a:pt x="23" y="1063"/>
                    </a:lnTo>
                    <a:lnTo>
                      <a:pt x="33" y="1123"/>
                    </a:lnTo>
                    <a:lnTo>
                      <a:pt x="38" y="1151"/>
                    </a:lnTo>
                    <a:lnTo>
                      <a:pt x="44" y="1178"/>
                    </a:lnTo>
                    <a:lnTo>
                      <a:pt x="50" y="1204"/>
                    </a:lnTo>
                    <a:lnTo>
                      <a:pt x="55" y="1230"/>
                    </a:lnTo>
                    <a:lnTo>
                      <a:pt x="63" y="1253"/>
                    </a:lnTo>
                    <a:lnTo>
                      <a:pt x="70" y="1276"/>
                    </a:lnTo>
                    <a:lnTo>
                      <a:pt x="77" y="1296"/>
                    </a:lnTo>
                    <a:lnTo>
                      <a:pt x="84" y="1317"/>
                    </a:lnTo>
                    <a:lnTo>
                      <a:pt x="92" y="1335"/>
                    </a:lnTo>
                    <a:lnTo>
                      <a:pt x="100" y="1353"/>
                    </a:lnTo>
                    <a:lnTo>
                      <a:pt x="108" y="1369"/>
                    </a:lnTo>
                    <a:lnTo>
                      <a:pt x="116" y="1383"/>
                    </a:lnTo>
                    <a:lnTo>
                      <a:pt x="125" y="1396"/>
                    </a:lnTo>
                    <a:lnTo>
                      <a:pt x="134" y="1408"/>
                    </a:lnTo>
                    <a:lnTo>
                      <a:pt x="143" y="1416"/>
                    </a:lnTo>
                    <a:lnTo>
                      <a:pt x="153" y="1425"/>
                    </a:lnTo>
                    <a:lnTo>
                      <a:pt x="161" y="1431"/>
                    </a:lnTo>
                    <a:lnTo>
                      <a:pt x="171" y="1436"/>
                    </a:lnTo>
                    <a:lnTo>
                      <a:pt x="181" y="1439"/>
                    </a:lnTo>
                    <a:lnTo>
                      <a:pt x="190" y="1439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6040440" y="5334120"/>
                <a:ext cx="57240" cy="380880"/>
              </a:xfrm>
              <a:custGeom>
                <a:avLst/>
                <a:gdLst/>
                <a:ahLst/>
                <a:rect l="l" t="t" r="r" b="b"/>
                <a:pathLst>
                  <a:path w="183" h="1201">
                    <a:moveTo>
                      <a:pt x="135" y="1201"/>
                    </a:moveTo>
                    <a:lnTo>
                      <a:pt x="0" y="697"/>
                    </a:lnTo>
                    <a:lnTo>
                      <a:pt x="0" y="581"/>
                    </a:lnTo>
                    <a:lnTo>
                      <a:pt x="183" y="0"/>
                    </a:lnTo>
                    <a:lnTo>
                      <a:pt x="135" y="1201"/>
                    </a:lnTo>
                    <a:close/>
                  </a:path>
                </a:pathLst>
              </a:custGeom>
              <a:solidFill>
                <a:srgbClr val="969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6048360" y="5537160"/>
                <a:ext cx="101520" cy="217440"/>
              </a:xfrm>
              <a:custGeom>
                <a:avLst/>
                <a:gdLst/>
                <a:ahLst/>
                <a:rect l="l" t="t" r="r" b="b"/>
                <a:pathLst>
                  <a:path w="321" h="689">
                    <a:moveTo>
                      <a:pt x="321" y="510"/>
                    </a:moveTo>
                    <a:lnTo>
                      <a:pt x="315" y="537"/>
                    </a:lnTo>
                    <a:lnTo>
                      <a:pt x="307" y="562"/>
                    </a:lnTo>
                    <a:lnTo>
                      <a:pt x="301" y="583"/>
                    </a:lnTo>
                    <a:lnTo>
                      <a:pt x="292" y="604"/>
                    </a:lnTo>
                    <a:lnTo>
                      <a:pt x="284" y="621"/>
                    </a:lnTo>
                    <a:lnTo>
                      <a:pt x="276" y="637"/>
                    </a:lnTo>
                    <a:lnTo>
                      <a:pt x="267" y="650"/>
                    </a:lnTo>
                    <a:lnTo>
                      <a:pt x="259" y="661"/>
                    </a:lnTo>
                    <a:lnTo>
                      <a:pt x="251" y="671"/>
                    </a:lnTo>
                    <a:lnTo>
                      <a:pt x="242" y="678"/>
                    </a:lnTo>
                    <a:lnTo>
                      <a:pt x="234" y="684"/>
                    </a:lnTo>
                    <a:lnTo>
                      <a:pt x="225" y="687"/>
                    </a:lnTo>
                    <a:lnTo>
                      <a:pt x="216" y="689"/>
                    </a:lnTo>
                    <a:lnTo>
                      <a:pt x="209" y="689"/>
                    </a:lnTo>
                    <a:lnTo>
                      <a:pt x="200" y="688"/>
                    </a:lnTo>
                    <a:lnTo>
                      <a:pt x="192" y="685"/>
                    </a:lnTo>
                    <a:lnTo>
                      <a:pt x="185" y="682"/>
                    </a:lnTo>
                    <a:lnTo>
                      <a:pt x="177" y="675"/>
                    </a:lnTo>
                    <a:lnTo>
                      <a:pt x="170" y="668"/>
                    </a:lnTo>
                    <a:lnTo>
                      <a:pt x="162" y="659"/>
                    </a:lnTo>
                    <a:lnTo>
                      <a:pt x="149" y="640"/>
                    </a:lnTo>
                    <a:lnTo>
                      <a:pt x="137" y="618"/>
                    </a:lnTo>
                    <a:lnTo>
                      <a:pt x="128" y="599"/>
                    </a:lnTo>
                    <a:lnTo>
                      <a:pt x="120" y="581"/>
                    </a:lnTo>
                    <a:lnTo>
                      <a:pt x="116" y="568"/>
                    </a:lnTo>
                    <a:lnTo>
                      <a:pt x="114" y="564"/>
                    </a:lnTo>
                    <a:lnTo>
                      <a:pt x="0" y="63"/>
                    </a:lnTo>
                    <a:lnTo>
                      <a:pt x="0" y="0"/>
                    </a:lnTo>
                    <a:lnTo>
                      <a:pt x="321" y="510"/>
                    </a:lnTo>
                    <a:close/>
                  </a:path>
                </a:pathLst>
              </a:custGeom>
              <a:solidFill>
                <a:srgbClr val="9e9d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6048360" y="5538960"/>
                <a:ext cx="96840" cy="214200"/>
              </a:xfrm>
              <a:custGeom>
                <a:avLst/>
                <a:gdLst/>
                <a:ahLst/>
                <a:rect l="l" t="t" r="r" b="b"/>
                <a:pathLst>
                  <a:path w="307" h="676">
                    <a:moveTo>
                      <a:pt x="307" y="534"/>
                    </a:moveTo>
                    <a:lnTo>
                      <a:pt x="301" y="555"/>
                    </a:lnTo>
                    <a:lnTo>
                      <a:pt x="295" y="574"/>
                    </a:lnTo>
                    <a:lnTo>
                      <a:pt x="289" y="592"/>
                    </a:lnTo>
                    <a:lnTo>
                      <a:pt x="282" y="607"/>
                    </a:lnTo>
                    <a:lnTo>
                      <a:pt x="276" y="621"/>
                    </a:lnTo>
                    <a:lnTo>
                      <a:pt x="268" y="634"/>
                    </a:lnTo>
                    <a:lnTo>
                      <a:pt x="262" y="645"/>
                    </a:lnTo>
                    <a:lnTo>
                      <a:pt x="254" y="653"/>
                    </a:lnTo>
                    <a:lnTo>
                      <a:pt x="247" y="661"/>
                    </a:lnTo>
                    <a:lnTo>
                      <a:pt x="239" y="667"/>
                    </a:lnTo>
                    <a:lnTo>
                      <a:pt x="231" y="672"/>
                    </a:lnTo>
                    <a:lnTo>
                      <a:pt x="224" y="675"/>
                    </a:lnTo>
                    <a:lnTo>
                      <a:pt x="216" y="676"/>
                    </a:lnTo>
                    <a:lnTo>
                      <a:pt x="209" y="676"/>
                    </a:lnTo>
                    <a:lnTo>
                      <a:pt x="201" y="675"/>
                    </a:lnTo>
                    <a:lnTo>
                      <a:pt x="192" y="673"/>
                    </a:lnTo>
                    <a:lnTo>
                      <a:pt x="185" y="668"/>
                    </a:lnTo>
                    <a:lnTo>
                      <a:pt x="178" y="663"/>
                    </a:lnTo>
                    <a:lnTo>
                      <a:pt x="171" y="655"/>
                    </a:lnTo>
                    <a:lnTo>
                      <a:pt x="164" y="647"/>
                    </a:lnTo>
                    <a:lnTo>
                      <a:pt x="151" y="628"/>
                    </a:lnTo>
                    <a:lnTo>
                      <a:pt x="140" y="608"/>
                    </a:lnTo>
                    <a:lnTo>
                      <a:pt x="130" y="588"/>
                    </a:lnTo>
                    <a:lnTo>
                      <a:pt x="122" y="572"/>
                    </a:lnTo>
                    <a:lnTo>
                      <a:pt x="118" y="560"/>
                    </a:lnTo>
                    <a:lnTo>
                      <a:pt x="116" y="556"/>
                    </a:lnTo>
                    <a:lnTo>
                      <a:pt x="0" y="52"/>
                    </a:lnTo>
                    <a:lnTo>
                      <a:pt x="0" y="0"/>
                    </a:lnTo>
                    <a:lnTo>
                      <a:pt x="307" y="534"/>
                    </a:lnTo>
                    <a:close/>
                  </a:path>
                </a:pathLst>
              </a:custGeom>
              <a:solidFill>
                <a:srgbClr val="a8a7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6048360" y="5542200"/>
                <a:ext cx="92160" cy="210960"/>
              </a:xfrm>
              <a:custGeom>
                <a:avLst/>
                <a:gdLst/>
                <a:ahLst/>
                <a:rect l="l" t="t" r="r" b="b"/>
                <a:pathLst>
                  <a:path w="292" h="661">
                    <a:moveTo>
                      <a:pt x="292" y="553"/>
                    </a:moveTo>
                    <a:lnTo>
                      <a:pt x="282" y="582"/>
                    </a:lnTo>
                    <a:lnTo>
                      <a:pt x="272" y="607"/>
                    </a:lnTo>
                    <a:lnTo>
                      <a:pt x="267" y="617"/>
                    </a:lnTo>
                    <a:lnTo>
                      <a:pt x="262" y="627"/>
                    </a:lnTo>
                    <a:lnTo>
                      <a:pt x="256" y="636"/>
                    </a:lnTo>
                    <a:lnTo>
                      <a:pt x="250" y="642"/>
                    </a:lnTo>
                    <a:lnTo>
                      <a:pt x="244" y="649"/>
                    </a:lnTo>
                    <a:lnTo>
                      <a:pt x="238" y="653"/>
                    </a:lnTo>
                    <a:lnTo>
                      <a:pt x="231" y="657"/>
                    </a:lnTo>
                    <a:lnTo>
                      <a:pt x="225" y="659"/>
                    </a:lnTo>
                    <a:lnTo>
                      <a:pt x="217" y="661"/>
                    </a:lnTo>
                    <a:lnTo>
                      <a:pt x="211" y="661"/>
                    </a:lnTo>
                    <a:lnTo>
                      <a:pt x="203" y="659"/>
                    </a:lnTo>
                    <a:lnTo>
                      <a:pt x="196" y="656"/>
                    </a:lnTo>
                    <a:lnTo>
                      <a:pt x="187" y="653"/>
                    </a:lnTo>
                    <a:lnTo>
                      <a:pt x="180" y="646"/>
                    </a:lnTo>
                    <a:lnTo>
                      <a:pt x="173" y="640"/>
                    </a:lnTo>
                    <a:lnTo>
                      <a:pt x="165" y="631"/>
                    </a:lnTo>
                    <a:lnTo>
                      <a:pt x="154" y="614"/>
                    </a:lnTo>
                    <a:lnTo>
                      <a:pt x="143" y="595"/>
                    </a:lnTo>
                    <a:lnTo>
                      <a:pt x="133" y="576"/>
                    </a:lnTo>
                    <a:lnTo>
                      <a:pt x="127" y="560"/>
                    </a:lnTo>
                    <a:lnTo>
                      <a:pt x="122" y="549"/>
                    </a:lnTo>
                    <a:lnTo>
                      <a:pt x="121" y="545"/>
                    </a:lnTo>
                    <a:lnTo>
                      <a:pt x="0" y="38"/>
                    </a:lnTo>
                    <a:lnTo>
                      <a:pt x="0" y="0"/>
                    </a:lnTo>
                    <a:lnTo>
                      <a:pt x="292" y="553"/>
                    </a:lnTo>
                    <a:close/>
                  </a:path>
                </a:pathLst>
              </a:custGeom>
              <a:solidFill>
                <a:srgbClr val="b0b0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6048360" y="5545080"/>
                <a:ext cx="87480" cy="206640"/>
              </a:xfrm>
              <a:custGeom>
                <a:avLst/>
                <a:gdLst/>
                <a:ahLst/>
                <a:rect l="l" t="t" r="r" b="b"/>
                <a:pathLst>
                  <a:path w="277" h="650">
                    <a:moveTo>
                      <a:pt x="277" y="577"/>
                    </a:moveTo>
                    <a:lnTo>
                      <a:pt x="269" y="595"/>
                    </a:lnTo>
                    <a:lnTo>
                      <a:pt x="262" y="611"/>
                    </a:lnTo>
                    <a:lnTo>
                      <a:pt x="254" y="625"/>
                    </a:lnTo>
                    <a:lnTo>
                      <a:pt x="244" y="637"/>
                    </a:lnTo>
                    <a:lnTo>
                      <a:pt x="240" y="642"/>
                    </a:lnTo>
                    <a:lnTo>
                      <a:pt x="235" y="645"/>
                    </a:lnTo>
                    <a:lnTo>
                      <a:pt x="229" y="648"/>
                    </a:lnTo>
                    <a:lnTo>
                      <a:pt x="224" y="649"/>
                    </a:lnTo>
                    <a:lnTo>
                      <a:pt x="218" y="650"/>
                    </a:lnTo>
                    <a:lnTo>
                      <a:pt x="212" y="650"/>
                    </a:lnTo>
                    <a:lnTo>
                      <a:pt x="205" y="648"/>
                    </a:lnTo>
                    <a:lnTo>
                      <a:pt x="198" y="646"/>
                    </a:lnTo>
                    <a:lnTo>
                      <a:pt x="190" y="642"/>
                    </a:lnTo>
                    <a:lnTo>
                      <a:pt x="183" y="636"/>
                    </a:lnTo>
                    <a:lnTo>
                      <a:pt x="175" y="630"/>
                    </a:lnTo>
                    <a:lnTo>
                      <a:pt x="169" y="622"/>
                    </a:lnTo>
                    <a:lnTo>
                      <a:pt x="157" y="605"/>
                    </a:lnTo>
                    <a:lnTo>
                      <a:pt x="146" y="586"/>
                    </a:lnTo>
                    <a:lnTo>
                      <a:pt x="137" y="568"/>
                    </a:lnTo>
                    <a:lnTo>
                      <a:pt x="131" y="553"/>
                    </a:lnTo>
                    <a:lnTo>
                      <a:pt x="128" y="543"/>
                    </a:lnTo>
                    <a:lnTo>
                      <a:pt x="127" y="539"/>
                    </a:lnTo>
                    <a:lnTo>
                      <a:pt x="0" y="30"/>
                    </a:lnTo>
                    <a:lnTo>
                      <a:pt x="0" y="0"/>
                    </a:lnTo>
                    <a:lnTo>
                      <a:pt x="277" y="577"/>
                    </a:lnTo>
                    <a:close/>
                  </a:path>
                </a:pathLst>
              </a:custGeom>
              <a:solidFill>
                <a:srgbClr val="bdbd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6048360" y="5546880"/>
                <a:ext cx="82440" cy="203040"/>
              </a:xfrm>
              <a:custGeom>
                <a:avLst/>
                <a:gdLst/>
                <a:ahLst/>
                <a:rect l="l" t="t" r="r" b="b"/>
                <a:pathLst>
                  <a:path w="262" h="638">
                    <a:moveTo>
                      <a:pt x="0" y="0"/>
                    </a:moveTo>
                    <a:lnTo>
                      <a:pt x="0" y="22"/>
                    </a:lnTo>
                    <a:lnTo>
                      <a:pt x="131" y="531"/>
                    </a:lnTo>
                    <a:lnTo>
                      <a:pt x="132" y="535"/>
                    </a:lnTo>
                    <a:lnTo>
                      <a:pt x="136" y="545"/>
                    </a:lnTo>
                    <a:lnTo>
                      <a:pt x="142" y="559"/>
                    </a:lnTo>
                    <a:lnTo>
                      <a:pt x="149" y="575"/>
                    </a:lnTo>
                    <a:lnTo>
                      <a:pt x="159" y="593"/>
                    </a:lnTo>
                    <a:lnTo>
                      <a:pt x="171" y="610"/>
                    </a:lnTo>
                    <a:lnTo>
                      <a:pt x="177" y="617"/>
                    </a:lnTo>
                    <a:lnTo>
                      <a:pt x="184" y="624"/>
                    </a:lnTo>
                    <a:lnTo>
                      <a:pt x="190" y="628"/>
                    </a:lnTo>
                    <a:lnTo>
                      <a:pt x="198" y="632"/>
                    </a:lnTo>
                    <a:lnTo>
                      <a:pt x="205" y="636"/>
                    </a:lnTo>
                    <a:lnTo>
                      <a:pt x="212" y="637"/>
                    </a:lnTo>
                    <a:lnTo>
                      <a:pt x="218" y="638"/>
                    </a:lnTo>
                    <a:lnTo>
                      <a:pt x="224" y="637"/>
                    </a:lnTo>
                    <a:lnTo>
                      <a:pt x="229" y="637"/>
                    </a:lnTo>
                    <a:lnTo>
                      <a:pt x="234" y="635"/>
                    </a:lnTo>
                    <a:lnTo>
                      <a:pt x="238" y="632"/>
                    </a:lnTo>
                    <a:lnTo>
                      <a:pt x="241" y="629"/>
                    </a:lnTo>
                    <a:lnTo>
                      <a:pt x="248" y="623"/>
                    </a:lnTo>
                    <a:lnTo>
                      <a:pt x="253" y="614"/>
                    </a:lnTo>
                    <a:lnTo>
                      <a:pt x="257" y="605"/>
                    </a:lnTo>
                    <a:lnTo>
                      <a:pt x="262" y="59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7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6048360" y="5316480"/>
                <a:ext cx="106200" cy="223920"/>
              </a:xfrm>
              <a:custGeom>
                <a:avLst/>
                <a:gdLst/>
                <a:ahLst/>
                <a:rect l="l" t="t" r="r" b="b"/>
                <a:pathLst>
                  <a:path w="336" h="703">
                    <a:moveTo>
                      <a:pt x="0" y="703"/>
                    </a:moveTo>
                    <a:lnTo>
                      <a:pt x="0" y="634"/>
                    </a:lnTo>
                    <a:lnTo>
                      <a:pt x="108" y="132"/>
                    </a:lnTo>
                    <a:lnTo>
                      <a:pt x="110" y="127"/>
                    </a:lnTo>
                    <a:lnTo>
                      <a:pt x="116" y="114"/>
                    </a:lnTo>
                    <a:lnTo>
                      <a:pt x="123" y="96"/>
                    </a:lnTo>
                    <a:lnTo>
                      <a:pt x="134" y="73"/>
                    </a:lnTo>
                    <a:lnTo>
                      <a:pt x="146" y="52"/>
                    </a:lnTo>
                    <a:lnTo>
                      <a:pt x="160" y="30"/>
                    </a:lnTo>
                    <a:lnTo>
                      <a:pt x="168" y="22"/>
                    </a:lnTo>
                    <a:lnTo>
                      <a:pt x="175" y="14"/>
                    </a:lnTo>
                    <a:lnTo>
                      <a:pt x="183" y="7"/>
                    </a:lnTo>
                    <a:lnTo>
                      <a:pt x="190" y="3"/>
                    </a:lnTo>
                    <a:lnTo>
                      <a:pt x="198" y="1"/>
                    </a:lnTo>
                    <a:lnTo>
                      <a:pt x="207" y="0"/>
                    </a:lnTo>
                    <a:lnTo>
                      <a:pt x="215" y="1"/>
                    </a:lnTo>
                    <a:lnTo>
                      <a:pt x="224" y="3"/>
                    </a:lnTo>
                    <a:lnTo>
                      <a:pt x="234" y="7"/>
                    </a:lnTo>
                    <a:lnTo>
                      <a:pt x="243" y="14"/>
                    </a:lnTo>
                    <a:lnTo>
                      <a:pt x="253" y="23"/>
                    </a:lnTo>
                    <a:lnTo>
                      <a:pt x="263" y="34"/>
                    </a:lnTo>
                    <a:lnTo>
                      <a:pt x="272" y="47"/>
                    </a:lnTo>
                    <a:lnTo>
                      <a:pt x="282" y="63"/>
                    </a:lnTo>
                    <a:lnTo>
                      <a:pt x="292" y="81"/>
                    </a:lnTo>
                    <a:lnTo>
                      <a:pt x="302" y="101"/>
                    </a:lnTo>
                    <a:lnTo>
                      <a:pt x="310" y="125"/>
                    </a:lnTo>
                    <a:lnTo>
                      <a:pt x="320" y="152"/>
                    </a:lnTo>
                    <a:lnTo>
                      <a:pt x="329" y="181"/>
                    </a:lnTo>
                    <a:lnTo>
                      <a:pt x="336" y="213"/>
                    </a:lnTo>
                    <a:lnTo>
                      <a:pt x="0" y="703"/>
                    </a:lnTo>
                    <a:close/>
                  </a:path>
                </a:pathLst>
              </a:custGeom>
              <a:solidFill>
                <a:srgbClr val="969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6048360" y="5318280"/>
                <a:ext cx="101520" cy="218880"/>
              </a:xfrm>
              <a:custGeom>
                <a:avLst/>
                <a:gdLst/>
                <a:ahLst/>
                <a:rect l="l" t="t" r="r" b="b"/>
                <a:pathLst>
                  <a:path w="321" h="691">
                    <a:moveTo>
                      <a:pt x="321" y="180"/>
                    </a:moveTo>
                    <a:lnTo>
                      <a:pt x="0" y="691"/>
                    </a:lnTo>
                    <a:lnTo>
                      <a:pt x="0" y="630"/>
                    </a:lnTo>
                    <a:lnTo>
                      <a:pt x="114" y="128"/>
                    </a:lnTo>
                    <a:lnTo>
                      <a:pt x="116" y="123"/>
                    </a:lnTo>
                    <a:lnTo>
                      <a:pt x="120" y="110"/>
                    </a:lnTo>
                    <a:lnTo>
                      <a:pt x="128" y="93"/>
                    </a:lnTo>
                    <a:lnTo>
                      <a:pt x="137" y="73"/>
                    </a:lnTo>
                    <a:lnTo>
                      <a:pt x="149" y="51"/>
                    </a:lnTo>
                    <a:lnTo>
                      <a:pt x="162" y="30"/>
                    </a:lnTo>
                    <a:lnTo>
                      <a:pt x="170" y="22"/>
                    </a:lnTo>
                    <a:lnTo>
                      <a:pt x="177" y="14"/>
                    </a:lnTo>
                    <a:lnTo>
                      <a:pt x="185" y="8"/>
                    </a:lnTo>
                    <a:lnTo>
                      <a:pt x="192" y="5"/>
                    </a:lnTo>
                    <a:lnTo>
                      <a:pt x="200" y="1"/>
                    </a:lnTo>
                    <a:lnTo>
                      <a:pt x="209" y="0"/>
                    </a:lnTo>
                    <a:lnTo>
                      <a:pt x="216" y="1"/>
                    </a:lnTo>
                    <a:lnTo>
                      <a:pt x="225" y="3"/>
                    </a:lnTo>
                    <a:lnTo>
                      <a:pt x="234" y="7"/>
                    </a:lnTo>
                    <a:lnTo>
                      <a:pt x="242" y="13"/>
                    </a:lnTo>
                    <a:lnTo>
                      <a:pt x="251" y="21"/>
                    </a:lnTo>
                    <a:lnTo>
                      <a:pt x="259" y="29"/>
                    </a:lnTo>
                    <a:lnTo>
                      <a:pt x="267" y="41"/>
                    </a:lnTo>
                    <a:lnTo>
                      <a:pt x="276" y="54"/>
                    </a:lnTo>
                    <a:lnTo>
                      <a:pt x="284" y="69"/>
                    </a:lnTo>
                    <a:lnTo>
                      <a:pt x="292" y="87"/>
                    </a:lnTo>
                    <a:lnTo>
                      <a:pt x="301" y="107"/>
                    </a:lnTo>
                    <a:lnTo>
                      <a:pt x="307" y="129"/>
                    </a:lnTo>
                    <a:lnTo>
                      <a:pt x="315" y="153"/>
                    </a:lnTo>
                    <a:lnTo>
                      <a:pt x="321" y="180"/>
                    </a:lnTo>
                    <a:close/>
                  </a:path>
                </a:pathLst>
              </a:custGeom>
              <a:solidFill>
                <a:srgbClr val="8e8d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6048360" y="5319720"/>
                <a:ext cx="96840" cy="214200"/>
              </a:xfrm>
              <a:custGeom>
                <a:avLst/>
                <a:gdLst/>
                <a:ahLst/>
                <a:rect l="l" t="t" r="r" b="b"/>
                <a:pathLst>
                  <a:path w="307" h="676">
                    <a:moveTo>
                      <a:pt x="307" y="144"/>
                    </a:moveTo>
                    <a:lnTo>
                      <a:pt x="0" y="676"/>
                    </a:lnTo>
                    <a:lnTo>
                      <a:pt x="0" y="626"/>
                    </a:lnTo>
                    <a:lnTo>
                      <a:pt x="116" y="122"/>
                    </a:lnTo>
                    <a:lnTo>
                      <a:pt x="118" y="117"/>
                    </a:lnTo>
                    <a:lnTo>
                      <a:pt x="122" y="105"/>
                    </a:lnTo>
                    <a:lnTo>
                      <a:pt x="130" y="88"/>
                    </a:lnTo>
                    <a:lnTo>
                      <a:pt x="140" y="69"/>
                    </a:lnTo>
                    <a:lnTo>
                      <a:pt x="151" y="48"/>
                    </a:lnTo>
                    <a:lnTo>
                      <a:pt x="164" y="29"/>
                    </a:lnTo>
                    <a:lnTo>
                      <a:pt x="171" y="20"/>
                    </a:lnTo>
                    <a:lnTo>
                      <a:pt x="178" y="13"/>
                    </a:lnTo>
                    <a:lnTo>
                      <a:pt x="185" y="7"/>
                    </a:lnTo>
                    <a:lnTo>
                      <a:pt x="192" y="3"/>
                    </a:lnTo>
                    <a:lnTo>
                      <a:pt x="201" y="1"/>
                    </a:lnTo>
                    <a:lnTo>
                      <a:pt x="209" y="0"/>
                    </a:lnTo>
                    <a:lnTo>
                      <a:pt x="216" y="0"/>
                    </a:lnTo>
                    <a:lnTo>
                      <a:pt x="224" y="2"/>
                    </a:lnTo>
                    <a:lnTo>
                      <a:pt x="231" y="5"/>
                    </a:lnTo>
                    <a:lnTo>
                      <a:pt x="239" y="9"/>
                    </a:lnTo>
                    <a:lnTo>
                      <a:pt x="247" y="16"/>
                    </a:lnTo>
                    <a:lnTo>
                      <a:pt x="254" y="23"/>
                    </a:lnTo>
                    <a:lnTo>
                      <a:pt x="262" y="33"/>
                    </a:lnTo>
                    <a:lnTo>
                      <a:pt x="268" y="44"/>
                    </a:lnTo>
                    <a:lnTo>
                      <a:pt x="276" y="56"/>
                    </a:lnTo>
                    <a:lnTo>
                      <a:pt x="282" y="71"/>
                    </a:lnTo>
                    <a:lnTo>
                      <a:pt x="289" y="86"/>
                    </a:lnTo>
                    <a:lnTo>
                      <a:pt x="295" y="103"/>
                    </a:lnTo>
                    <a:lnTo>
                      <a:pt x="301" y="123"/>
                    </a:lnTo>
                    <a:lnTo>
                      <a:pt x="307" y="144"/>
                    </a:lnTo>
                    <a:close/>
                  </a:path>
                </a:pathLst>
              </a:custGeom>
              <a:solidFill>
                <a:srgbClr val="878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6048360" y="5321520"/>
                <a:ext cx="92160" cy="210960"/>
              </a:xfrm>
              <a:custGeom>
                <a:avLst/>
                <a:gdLst/>
                <a:ahLst/>
                <a:rect l="l" t="t" r="r" b="b"/>
                <a:pathLst>
                  <a:path w="292" h="664">
                    <a:moveTo>
                      <a:pt x="292" y="110"/>
                    </a:moveTo>
                    <a:lnTo>
                      <a:pt x="0" y="664"/>
                    </a:lnTo>
                    <a:lnTo>
                      <a:pt x="0" y="624"/>
                    </a:lnTo>
                    <a:lnTo>
                      <a:pt x="121" y="118"/>
                    </a:lnTo>
                    <a:lnTo>
                      <a:pt x="122" y="113"/>
                    </a:lnTo>
                    <a:lnTo>
                      <a:pt x="127" y="103"/>
                    </a:lnTo>
                    <a:lnTo>
                      <a:pt x="133" y="86"/>
                    </a:lnTo>
                    <a:lnTo>
                      <a:pt x="143" y="68"/>
                    </a:lnTo>
                    <a:lnTo>
                      <a:pt x="154" y="49"/>
                    </a:lnTo>
                    <a:lnTo>
                      <a:pt x="165" y="30"/>
                    </a:lnTo>
                    <a:lnTo>
                      <a:pt x="173" y="22"/>
                    </a:lnTo>
                    <a:lnTo>
                      <a:pt x="180" y="14"/>
                    </a:lnTo>
                    <a:lnTo>
                      <a:pt x="187" y="9"/>
                    </a:lnTo>
                    <a:lnTo>
                      <a:pt x="196" y="4"/>
                    </a:lnTo>
                    <a:lnTo>
                      <a:pt x="203" y="1"/>
                    </a:lnTo>
                    <a:lnTo>
                      <a:pt x="211" y="0"/>
                    </a:lnTo>
                    <a:lnTo>
                      <a:pt x="217" y="0"/>
                    </a:lnTo>
                    <a:lnTo>
                      <a:pt x="225" y="1"/>
                    </a:lnTo>
                    <a:lnTo>
                      <a:pt x="231" y="4"/>
                    </a:lnTo>
                    <a:lnTo>
                      <a:pt x="238" y="8"/>
                    </a:lnTo>
                    <a:lnTo>
                      <a:pt x="244" y="13"/>
                    </a:lnTo>
                    <a:lnTo>
                      <a:pt x="250" y="19"/>
                    </a:lnTo>
                    <a:lnTo>
                      <a:pt x="256" y="27"/>
                    </a:lnTo>
                    <a:lnTo>
                      <a:pt x="262" y="36"/>
                    </a:lnTo>
                    <a:lnTo>
                      <a:pt x="267" y="45"/>
                    </a:lnTo>
                    <a:lnTo>
                      <a:pt x="272" y="56"/>
                    </a:lnTo>
                    <a:lnTo>
                      <a:pt x="282" y="81"/>
                    </a:lnTo>
                    <a:lnTo>
                      <a:pt x="292" y="110"/>
                    </a:lnTo>
                    <a:close/>
                  </a:path>
                </a:pathLst>
              </a:custGeom>
              <a:solidFill>
                <a:srgbClr val="7f7e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6048360" y="5322960"/>
                <a:ext cx="87480" cy="206280"/>
              </a:xfrm>
              <a:custGeom>
                <a:avLst/>
                <a:gdLst/>
                <a:ahLst/>
                <a:rect l="l" t="t" r="r" b="b"/>
                <a:pathLst>
                  <a:path w="277" h="651">
                    <a:moveTo>
                      <a:pt x="277" y="75"/>
                    </a:moveTo>
                    <a:lnTo>
                      <a:pt x="0" y="651"/>
                    </a:lnTo>
                    <a:lnTo>
                      <a:pt x="0" y="618"/>
                    </a:lnTo>
                    <a:lnTo>
                      <a:pt x="127" y="112"/>
                    </a:lnTo>
                    <a:lnTo>
                      <a:pt x="128" y="107"/>
                    </a:lnTo>
                    <a:lnTo>
                      <a:pt x="131" y="98"/>
                    </a:lnTo>
                    <a:lnTo>
                      <a:pt x="137" y="83"/>
                    </a:lnTo>
                    <a:lnTo>
                      <a:pt x="146" y="65"/>
                    </a:lnTo>
                    <a:lnTo>
                      <a:pt x="157" y="47"/>
                    </a:lnTo>
                    <a:lnTo>
                      <a:pt x="169" y="30"/>
                    </a:lnTo>
                    <a:lnTo>
                      <a:pt x="175" y="22"/>
                    </a:lnTo>
                    <a:lnTo>
                      <a:pt x="183" y="14"/>
                    </a:lnTo>
                    <a:lnTo>
                      <a:pt x="190" y="9"/>
                    </a:lnTo>
                    <a:lnTo>
                      <a:pt x="198" y="6"/>
                    </a:lnTo>
                    <a:lnTo>
                      <a:pt x="205" y="3"/>
                    </a:lnTo>
                    <a:lnTo>
                      <a:pt x="212" y="2"/>
                    </a:lnTo>
                    <a:lnTo>
                      <a:pt x="218" y="0"/>
                    </a:lnTo>
                    <a:lnTo>
                      <a:pt x="224" y="2"/>
                    </a:lnTo>
                    <a:lnTo>
                      <a:pt x="229" y="4"/>
                    </a:lnTo>
                    <a:lnTo>
                      <a:pt x="235" y="6"/>
                    </a:lnTo>
                    <a:lnTo>
                      <a:pt x="240" y="9"/>
                    </a:lnTo>
                    <a:lnTo>
                      <a:pt x="244" y="14"/>
                    </a:lnTo>
                    <a:lnTo>
                      <a:pt x="254" y="25"/>
                    </a:lnTo>
                    <a:lnTo>
                      <a:pt x="262" y="39"/>
                    </a:lnTo>
                    <a:lnTo>
                      <a:pt x="269" y="56"/>
                    </a:lnTo>
                    <a:lnTo>
                      <a:pt x="277" y="75"/>
                    </a:lnTo>
                    <a:close/>
                  </a:path>
                </a:pathLst>
              </a:custGeom>
              <a:solidFill>
                <a:srgbClr val="787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6048360" y="5324400"/>
                <a:ext cx="82440" cy="201600"/>
              </a:xfrm>
              <a:custGeom>
                <a:avLst/>
                <a:gdLst/>
                <a:ahLst/>
                <a:rect l="l" t="t" r="r" b="b"/>
                <a:pathLst>
                  <a:path w="262" h="635">
                    <a:moveTo>
                      <a:pt x="0" y="635"/>
                    </a:moveTo>
                    <a:lnTo>
                      <a:pt x="0" y="614"/>
                    </a:lnTo>
                    <a:lnTo>
                      <a:pt x="131" y="106"/>
                    </a:lnTo>
                    <a:lnTo>
                      <a:pt x="132" y="102"/>
                    </a:lnTo>
                    <a:lnTo>
                      <a:pt x="136" y="93"/>
                    </a:lnTo>
                    <a:lnTo>
                      <a:pt x="142" y="78"/>
                    </a:lnTo>
                    <a:lnTo>
                      <a:pt x="149" y="61"/>
                    </a:lnTo>
                    <a:lnTo>
                      <a:pt x="159" y="44"/>
                    </a:lnTo>
                    <a:lnTo>
                      <a:pt x="171" y="28"/>
                    </a:lnTo>
                    <a:lnTo>
                      <a:pt x="177" y="20"/>
                    </a:lnTo>
                    <a:lnTo>
                      <a:pt x="184" y="14"/>
                    </a:lnTo>
                    <a:lnTo>
                      <a:pt x="190" y="8"/>
                    </a:lnTo>
                    <a:lnTo>
                      <a:pt x="198" y="4"/>
                    </a:lnTo>
                    <a:lnTo>
                      <a:pt x="205" y="2"/>
                    </a:lnTo>
                    <a:lnTo>
                      <a:pt x="212" y="0"/>
                    </a:lnTo>
                    <a:lnTo>
                      <a:pt x="218" y="0"/>
                    </a:lnTo>
                    <a:lnTo>
                      <a:pt x="224" y="0"/>
                    </a:lnTo>
                    <a:lnTo>
                      <a:pt x="229" y="1"/>
                    </a:lnTo>
                    <a:lnTo>
                      <a:pt x="234" y="2"/>
                    </a:lnTo>
                    <a:lnTo>
                      <a:pt x="238" y="5"/>
                    </a:lnTo>
                    <a:lnTo>
                      <a:pt x="241" y="7"/>
                    </a:lnTo>
                    <a:lnTo>
                      <a:pt x="248" y="15"/>
                    </a:lnTo>
                    <a:lnTo>
                      <a:pt x="253" y="23"/>
                    </a:lnTo>
                    <a:lnTo>
                      <a:pt x="257" y="31"/>
                    </a:lnTo>
                    <a:lnTo>
                      <a:pt x="262" y="39"/>
                    </a:lnTo>
                    <a:lnTo>
                      <a:pt x="0" y="635"/>
                    </a:lnTo>
                    <a:close/>
                  </a:path>
                </a:pathLst>
              </a:custGeom>
              <a:solidFill>
                <a:srgbClr val="7170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6054840" y="5532480"/>
                <a:ext cx="109440" cy="131760"/>
              </a:xfrm>
              <a:custGeom>
                <a:avLst/>
                <a:gdLst/>
                <a:ahLst/>
                <a:rect l="l" t="t" r="r" b="b"/>
                <a:pathLst>
                  <a:path w="343" h="415">
                    <a:moveTo>
                      <a:pt x="0" y="42"/>
                    </a:moveTo>
                    <a:lnTo>
                      <a:pt x="10" y="54"/>
                    </a:lnTo>
                    <a:lnTo>
                      <a:pt x="33" y="85"/>
                    </a:lnTo>
                    <a:lnTo>
                      <a:pt x="69" y="132"/>
                    </a:lnTo>
                    <a:lnTo>
                      <a:pt x="111" y="187"/>
                    </a:lnTo>
                    <a:lnTo>
                      <a:pt x="156" y="244"/>
                    </a:lnTo>
                    <a:lnTo>
                      <a:pt x="199" y="298"/>
                    </a:lnTo>
                    <a:lnTo>
                      <a:pt x="234" y="345"/>
                    </a:lnTo>
                    <a:lnTo>
                      <a:pt x="260" y="376"/>
                    </a:lnTo>
                    <a:lnTo>
                      <a:pt x="269" y="386"/>
                    </a:lnTo>
                    <a:lnTo>
                      <a:pt x="276" y="394"/>
                    </a:lnTo>
                    <a:lnTo>
                      <a:pt x="284" y="402"/>
                    </a:lnTo>
                    <a:lnTo>
                      <a:pt x="291" y="407"/>
                    </a:lnTo>
                    <a:lnTo>
                      <a:pt x="298" y="412"/>
                    </a:lnTo>
                    <a:lnTo>
                      <a:pt x="304" y="414"/>
                    </a:lnTo>
                    <a:lnTo>
                      <a:pt x="310" y="415"/>
                    </a:lnTo>
                    <a:lnTo>
                      <a:pt x="315" y="414"/>
                    </a:lnTo>
                    <a:lnTo>
                      <a:pt x="320" y="413"/>
                    </a:lnTo>
                    <a:lnTo>
                      <a:pt x="324" y="408"/>
                    </a:lnTo>
                    <a:lnTo>
                      <a:pt x="328" y="404"/>
                    </a:lnTo>
                    <a:lnTo>
                      <a:pt x="331" y="398"/>
                    </a:lnTo>
                    <a:lnTo>
                      <a:pt x="334" y="390"/>
                    </a:lnTo>
                    <a:lnTo>
                      <a:pt x="336" y="380"/>
                    </a:lnTo>
                    <a:lnTo>
                      <a:pt x="338" y="371"/>
                    </a:lnTo>
                    <a:lnTo>
                      <a:pt x="339" y="359"/>
                    </a:lnTo>
                    <a:lnTo>
                      <a:pt x="341" y="334"/>
                    </a:lnTo>
                    <a:lnTo>
                      <a:pt x="343" y="310"/>
                    </a:lnTo>
                    <a:lnTo>
                      <a:pt x="343" y="289"/>
                    </a:lnTo>
                    <a:lnTo>
                      <a:pt x="342" y="268"/>
                    </a:lnTo>
                    <a:lnTo>
                      <a:pt x="341" y="258"/>
                    </a:lnTo>
                    <a:lnTo>
                      <a:pt x="339" y="249"/>
                    </a:lnTo>
                    <a:lnTo>
                      <a:pt x="336" y="239"/>
                    </a:lnTo>
                    <a:lnTo>
                      <a:pt x="331" y="230"/>
                    </a:lnTo>
                    <a:lnTo>
                      <a:pt x="326" y="222"/>
                    </a:lnTo>
                    <a:lnTo>
                      <a:pt x="320" y="213"/>
                    </a:lnTo>
                    <a:lnTo>
                      <a:pt x="311" y="205"/>
                    </a:lnTo>
                    <a:lnTo>
                      <a:pt x="302" y="198"/>
                    </a:lnTo>
                    <a:lnTo>
                      <a:pt x="273" y="177"/>
                    </a:lnTo>
                    <a:lnTo>
                      <a:pt x="232" y="149"/>
                    </a:lnTo>
                    <a:lnTo>
                      <a:pt x="185" y="117"/>
                    </a:lnTo>
                    <a:lnTo>
                      <a:pt x="133" y="83"/>
                    </a:lnTo>
                    <a:lnTo>
                      <a:pt x="85" y="51"/>
                    </a:lnTo>
                    <a:lnTo>
                      <a:pt x="44" y="25"/>
                    </a:lnTo>
                    <a:lnTo>
                      <a:pt x="16" y="7"/>
                    </a:lnTo>
                    <a:lnTo>
                      <a:pt x="5" y="0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969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6054840" y="5532480"/>
                <a:ext cx="106200" cy="119160"/>
              </a:xfrm>
              <a:custGeom>
                <a:avLst/>
                <a:gdLst/>
                <a:ahLst/>
                <a:rect l="l" t="t" r="r" b="b"/>
                <a:pathLst>
                  <a:path w="334" h="374">
                    <a:moveTo>
                      <a:pt x="240" y="326"/>
                    </a:moveTo>
                    <a:lnTo>
                      <a:pt x="215" y="298"/>
                    </a:lnTo>
                    <a:lnTo>
                      <a:pt x="180" y="257"/>
                    </a:lnTo>
                    <a:lnTo>
                      <a:pt x="141" y="210"/>
                    </a:lnTo>
                    <a:lnTo>
                      <a:pt x="100" y="161"/>
                    </a:lnTo>
                    <a:lnTo>
                      <a:pt x="62" y="114"/>
                    </a:lnTo>
                    <a:lnTo>
                      <a:pt x="30" y="75"/>
                    </a:lnTo>
                    <a:lnTo>
                      <a:pt x="8" y="48"/>
                    </a:lnTo>
                    <a:lnTo>
                      <a:pt x="0" y="37"/>
                    </a:lnTo>
                    <a:lnTo>
                      <a:pt x="5" y="0"/>
                    </a:lnTo>
                    <a:lnTo>
                      <a:pt x="15" y="7"/>
                    </a:lnTo>
                    <a:lnTo>
                      <a:pt x="42" y="25"/>
                    </a:lnTo>
                    <a:lnTo>
                      <a:pt x="81" y="52"/>
                    </a:lnTo>
                    <a:lnTo>
                      <a:pt x="127" y="83"/>
                    </a:lnTo>
                    <a:lnTo>
                      <a:pt x="176" y="117"/>
                    </a:lnTo>
                    <a:lnTo>
                      <a:pt x="222" y="149"/>
                    </a:lnTo>
                    <a:lnTo>
                      <a:pt x="261" y="177"/>
                    </a:lnTo>
                    <a:lnTo>
                      <a:pt x="289" y="198"/>
                    </a:lnTo>
                    <a:lnTo>
                      <a:pt x="299" y="206"/>
                    </a:lnTo>
                    <a:lnTo>
                      <a:pt x="307" y="213"/>
                    </a:lnTo>
                    <a:lnTo>
                      <a:pt x="314" y="221"/>
                    </a:lnTo>
                    <a:lnTo>
                      <a:pt x="320" y="228"/>
                    </a:lnTo>
                    <a:lnTo>
                      <a:pt x="324" y="237"/>
                    </a:lnTo>
                    <a:lnTo>
                      <a:pt x="327" y="244"/>
                    </a:lnTo>
                    <a:lnTo>
                      <a:pt x="330" y="252"/>
                    </a:lnTo>
                    <a:lnTo>
                      <a:pt x="331" y="261"/>
                    </a:lnTo>
                    <a:lnTo>
                      <a:pt x="334" y="278"/>
                    </a:lnTo>
                    <a:lnTo>
                      <a:pt x="334" y="296"/>
                    </a:lnTo>
                    <a:lnTo>
                      <a:pt x="333" y="316"/>
                    </a:lnTo>
                    <a:lnTo>
                      <a:pt x="331" y="336"/>
                    </a:lnTo>
                    <a:lnTo>
                      <a:pt x="330" y="346"/>
                    </a:lnTo>
                    <a:lnTo>
                      <a:pt x="328" y="355"/>
                    </a:lnTo>
                    <a:lnTo>
                      <a:pt x="325" y="362"/>
                    </a:lnTo>
                    <a:lnTo>
                      <a:pt x="322" y="366"/>
                    </a:lnTo>
                    <a:lnTo>
                      <a:pt x="318" y="371"/>
                    </a:lnTo>
                    <a:lnTo>
                      <a:pt x="313" y="373"/>
                    </a:lnTo>
                    <a:lnTo>
                      <a:pt x="308" y="374"/>
                    </a:lnTo>
                    <a:lnTo>
                      <a:pt x="302" y="374"/>
                    </a:lnTo>
                    <a:lnTo>
                      <a:pt x="296" y="373"/>
                    </a:lnTo>
                    <a:lnTo>
                      <a:pt x="289" y="370"/>
                    </a:lnTo>
                    <a:lnTo>
                      <a:pt x="282" y="365"/>
                    </a:lnTo>
                    <a:lnTo>
                      <a:pt x="274" y="360"/>
                    </a:lnTo>
                    <a:lnTo>
                      <a:pt x="267" y="353"/>
                    </a:lnTo>
                    <a:lnTo>
                      <a:pt x="258" y="346"/>
                    </a:lnTo>
                    <a:lnTo>
                      <a:pt x="249" y="337"/>
                    </a:lnTo>
                    <a:lnTo>
                      <a:pt x="240" y="326"/>
                    </a:lnTo>
                    <a:close/>
                  </a:path>
                </a:pathLst>
              </a:custGeom>
              <a:solidFill>
                <a:srgbClr val="9c9b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6054840" y="5533920"/>
                <a:ext cx="102960" cy="106560"/>
              </a:xfrm>
              <a:custGeom>
                <a:avLst/>
                <a:gdLst/>
                <a:ahLst/>
                <a:rect l="l" t="t" r="r" b="b"/>
                <a:pathLst>
                  <a:path w="324" h="333">
                    <a:moveTo>
                      <a:pt x="220" y="274"/>
                    </a:moveTo>
                    <a:lnTo>
                      <a:pt x="194" y="247"/>
                    </a:lnTo>
                    <a:lnTo>
                      <a:pt x="162" y="211"/>
                    </a:lnTo>
                    <a:lnTo>
                      <a:pt x="125" y="170"/>
                    </a:lnTo>
                    <a:lnTo>
                      <a:pt x="88" y="129"/>
                    </a:lnTo>
                    <a:lnTo>
                      <a:pt x="55" y="89"/>
                    </a:lnTo>
                    <a:lnTo>
                      <a:pt x="27" y="57"/>
                    </a:lnTo>
                    <a:lnTo>
                      <a:pt x="7" y="34"/>
                    </a:lnTo>
                    <a:lnTo>
                      <a:pt x="0" y="27"/>
                    </a:lnTo>
                    <a:lnTo>
                      <a:pt x="5" y="0"/>
                    </a:lnTo>
                    <a:lnTo>
                      <a:pt x="15" y="6"/>
                    </a:lnTo>
                    <a:lnTo>
                      <a:pt x="40" y="23"/>
                    </a:lnTo>
                    <a:lnTo>
                      <a:pt x="77" y="49"/>
                    </a:lnTo>
                    <a:lnTo>
                      <a:pt x="121" y="81"/>
                    </a:lnTo>
                    <a:lnTo>
                      <a:pt x="167" y="114"/>
                    </a:lnTo>
                    <a:lnTo>
                      <a:pt x="212" y="146"/>
                    </a:lnTo>
                    <a:lnTo>
                      <a:pt x="249" y="173"/>
                    </a:lnTo>
                    <a:lnTo>
                      <a:pt x="277" y="192"/>
                    </a:lnTo>
                    <a:lnTo>
                      <a:pt x="287" y="200"/>
                    </a:lnTo>
                    <a:lnTo>
                      <a:pt x="295" y="207"/>
                    </a:lnTo>
                    <a:lnTo>
                      <a:pt x="301" y="215"/>
                    </a:lnTo>
                    <a:lnTo>
                      <a:pt x="308" y="221"/>
                    </a:lnTo>
                    <a:lnTo>
                      <a:pt x="312" y="229"/>
                    </a:lnTo>
                    <a:lnTo>
                      <a:pt x="315" y="235"/>
                    </a:lnTo>
                    <a:lnTo>
                      <a:pt x="318" y="242"/>
                    </a:lnTo>
                    <a:lnTo>
                      <a:pt x="321" y="249"/>
                    </a:lnTo>
                    <a:lnTo>
                      <a:pt x="323" y="263"/>
                    </a:lnTo>
                    <a:lnTo>
                      <a:pt x="324" y="278"/>
                    </a:lnTo>
                    <a:lnTo>
                      <a:pt x="323" y="295"/>
                    </a:lnTo>
                    <a:lnTo>
                      <a:pt x="322" y="313"/>
                    </a:lnTo>
                    <a:lnTo>
                      <a:pt x="321" y="320"/>
                    </a:lnTo>
                    <a:lnTo>
                      <a:pt x="318" y="326"/>
                    </a:lnTo>
                    <a:lnTo>
                      <a:pt x="316" y="330"/>
                    </a:lnTo>
                    <a:lnTo>
                      <a:pt x="312" y="332"/>
                    </a:lnTo>
                    <a:lnTo>
                      <a:pt x="308" y="333"/>
                    </a:lnTo>
                    <a:lnTo>
                      <a:pt x="302" y="333"/>
                    </a:lnTo>
                    <a:lnTo>
                      <a:pt x="296" y="332"/>
                    </a:lnTo>
                    <a:lnTo>
                      <a:pt x="289" y="329"/>
                    </a:lnTo>
                    <a:lnTo>
                      <a:pt x="282" y="326"/>
                    </a:lnTo>
                    <a:lnTo>
                      <a:pt x="274" y="322"/>
                    </a:lnTo>
                    <a:lnTo>
                      <a:pt x="267" y="315"/>
                    </a:lnTo>
                    <a:lnTo>
                      <a:pt x="258" y="309"/>
                    </a:lnTo>
                    <a:lnTo>
                      <a:pt x="240" y="292"/>
                    </a:lnTo>
                    <a:lnTo>
                      <a:pt x="220" y="274"/>
                    </a:lnTo>
                    <a:close/>
                  </a:path>
                </a:pathLst>
              </a:custGeom>
              <a:solidFill>
                <a:srgbClr val="a2a1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6054840" y="5535720"/>
                <a:ext cx="99720" cy="95040"/>
              </a:xfrm>
              <a:custGeom>
                <a:avLst/>
                <a:gdLst/>
                <a:ahLst/>
                <a:rect l="l" t="t" r="r" b="b"/>
                <a:pathLst>
                  <a:path w="314" h="302">
                    <a:moveTo>
                      <a:pt x="203" y="227"/>
                    </a:moveTo>
                    <a:lnTo>
                      <a:pt x="176" y="201"/>
                    </a:lnTo>
                    <a:lnTo>
                      <a:pt x="145" y="169"/>
                    </a:lnTo>
                    <a:lnTo>
                      <a:pt x="111" y="136"/>
                    </a:lnTo>
                    <a:lnTo>
                      <a:pt x="78" y="101"/>
                    </a:lnTo>
                    <a:lnTo>
                      <a:pt x="47" y="70"/>
                    </a:lnTo>
                    <a:lnTo>
                      <a:pt x="22" y="44"/>
                    </a:lnTo>
                    <a:lnTo>
                      <a:pt x="6" y="26"/>
                    </a:lnTo>
                    <a:lnTo>
                      <a:pt x="0" y="19"/>
                    </a:lnTo>
                    <a:lnTo>
                      <a:pt x="5" y="0"/>
                    </a:lnTo>
                    <a:lnTo>
                      <a:pt x="14" y="6"/>
                    </a:lnTo>
                    <a:lnTo>
                      <a:pt x="38" y="25"/>
                    </a:lnTo>
                    <a:lnTo>
                      <a:pt x="73" y="51"/>
                    </a:lnTo>
                    <a:lnTo>
                      <a:pt x="114" y="81"/>
                    </a:lnTo>
                    <a:lnTo>
                      <a:pt x="159" y="114"/>
                    </a:lnTo>
                    <a:lnTo>
                      <a:pt x="201" y="146"/>
                    </a:lnTo>
                    <a:lnTo>
                      <a:pt x="237" y="173"/>
                    </a:lnTo>
                    <a:lnTo>
                      <a:pt x="264" y="192"/>
                    </a:lnTo>
                    <a:lnTo>
                      <a:pt x="282" y="207"/>
                    </a:lnTo>
                    <a:lnTo>
                      <a:pt x="295" y="220"/>
                    </a:lnTo>
                    <a:lnTo>
                      <a:pt x="299" y="226"/>
                    </a:lnTo>
                    <a:lnTo>
                      <a:pt x="303" y="231"/>
                    </a:lnTo>
                    <a:lnTo>
                      <a:pt x="307" y="236"/>
                    </a:lnTo>
                    <a:lnTo>
                      <a:pt x="309" y="242"/>
                    </a:lnTo>
                    <a:lnTo>
                      <a:pt x="312" y="253"/>
                    </a:lnTo>
                    <a:lnTo>
                      <a:pt x="314" y="264"/>
                    </a:lnTo>
                    <a:lnTo>
                      <a:pt x="314" y="276"/>
                    </a:lnTo>
                    <a:lnTo>
                      <a:pt x="314" y="291"/>
                    </a:lnTo>
                    <a:lnTo>
                      <a:pt x="313" y="297"/>
                    </a:lnTo>
                    <a:lnTo>
                      <a:pt x="311" y="300"/>
                    </a:lnTo>
                    <a:lnTo>
                      <a:pt x="308" y="301"/>
                    </a:lnTo>
                    <a:lnTo>
                      <a:pt x="303" y="302"/>
                    </a:lnTo>
                    <a:lnTo>
                      <a:pt x="298" y="301"/>
                    </a:lnTo>
                    <a:lnTo>
                      <a:pt x="291" y="298"/>
                    </a:lnTo>
                    <a:lnTo>
                      <a:pt x="285" y="295"/>
                    </a:lnTo>
                    <a:lnTo>
                      <a:pt x="277" y="290"/>
                    </a:lnTo>
                    <a:lnTo>
                      <a:pt x="260" y="277"/>
                    </a:lnTo>
                    <a:lnTo>
                      <a:pt x="242" y="262"/>
                    </a:lnTo>
                    <a:lnTo>
                      <a:pt x="222" y="245"/>
                    </a:lnTo>
                    <a:lnTo>
                      <a:pt x="203" y="227"/>
                    </a:lnTo>
                    <a:close/>
                  </a:path>
                </a:pathLst>
              </a:custGeom>
              <a:solidFill>
                <a:srgbClr val="a8a7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6054840" y="5537160"/>
                <a:ext cx="96840" cy="85680"/>
              </a:xfrm>
              <a:custGeom>
                <a:avLst/>
                <a:gdLst/>
                <a:ahLst/>
                <a:rect l="l" t="t" r="r" b="b"/>
                <a:pathLst>
                  <a:path w="304" h="272">
                    <a:moveTo>
                      <a:pt x="0" y="11"/>
                    </a:moveTo>
                    <a:lnTo>
                      <a:pt x="5" y="15"/>
                    </a:lnTo>
                    <a:lnTo>
                      <a:pt x="19" y="28"/>
                    </a:lnTo>
                    <a:lnTo>
                      <a:pt x="40" y="48"/>
                    </a:lnTo>
                    <a:lnTo>
                      <a:pt x="66" y="71"/>
                    </a:lnTo>
                    <a:lnTo>
                      <a:pt x="95" y="97"/>
                    </a:lnTo>
                    <a:lnTo>
                      <a:pt x="125" y="125"/>
                    </a:lnTo>
                    <a:lnTo>
                      <a:pt x="155" y="152"/>
                    </a:lnTo>
                    <a:lnTo>
                      <a:pt x="183" y="176"/>
                    </a:lnTo>
                    <a:lnTo>
                      <a:pt x="204" y="195"/>
                    </a:lnTo>
                    <a:lnTo>
                      <a:pt x="226" y="213"/>
                    </a:lnTo>
                    <a:lnTo>
                      <a:pt x="245" y="231"/>
                    </a:lnTo>
                    <a:lnTo>
                      <a:pt x="264" y="248"/>
                    </a:lnTo>
                    <a:lnTo>
                      <a:pt x="281" y="260"/>
                    </a:lnTo>
                    <a:lnTo>
                      <a:pt x="293" y="269"/>
                    </a:lnTo>
                    <a:lnTo>
                      <a:pt x="298" y="271"/>
                    </a:lnTo>
                    <a:lnTo>
                      <a:pt x="301" y="272"/>
                    </a:lnTo>
                    <a:lnTo>
                      <a:pt x="302" y="271"/>
                    </a:lnTo>
                    <a:lnTo>
                      <a:pt x="303" y="271"/>
                    </a:lnTo>
                    <a:lnTo>
                      <a:pt x="304" y="269"/>
                    </a:lnTo>
                    <a:lnTo>
                      <a:pt x="304" y="268"/>
                    </a:lnTo>
                    <a:lnTo>
                      <a:pt x="304" y="257"/>
                    </a:lnTo>
                    <a:lnTo>
                      <a:pt x="303" y="249"/>
                    </a:lnTo>
                    <a:lnTo>
                      <a:pt x="301" y="240"/>
                    </a:lnTo>
                    <a:lnTo>
                      <a:pt x="298" y="233"/>
                    </a:lnTo>
                    <a:lnTo>
                      <a:pt x="291" y="225"/>
                    </a:lnTo>
                    <a:lnTo>
                      <a:pt x="282" y="216"/>
                    </a:lnTo>
                    <a:lnTo>
                      <a:pt x="268" y="205"/>
                    </a:lnTo>
                    <a:lnTo>
                      <a:pt x="250" y="191"/>
                    </a:lnTo>
                    <a:lnTo>
                      <a:pt x="225" y="172"/>
                    </a:lnTo>
                    <a:lnTo>
                      <a:pt x="190" y="145"/>
                    </a:lnTo>
                    <a:lnTo>
                      <a:pt x="150" y="114"/>
                    </a:lnTo>
                    <a:lnTo>
                      <a:pt x="108" y="81"/>
                    </a:lnTo>
                    <a:lnTo>
                      <a:pt x="69" y="51"/>
                    </a:lnTo>
                    <a:lnTo>
                      <a:pt x="37" y="25"/>
                    </a:lnTo>
                    <a:lnTo>
                      <a:pt x="14" y="8"/>
                    </a:lnTo>
                    <a:lnTo>
                      <a:pt x="5" y="0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aeae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 flipH="1" flipV="1">
                <a:off x="6040080" y="5559120"/>
                <a:ext cx="28440" cy="112680"/>
              </a:xfrm>
              <a:prstGeom prst="line">
                <a:avLst/>
              </a:prstGeom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6030720" y="5222880"/>
                <a:ext cx="209880" cy="346320"/>
              </a:xfrm>
              <a:custGeom>
                <a:avLst/>
                <a:gdLst/>
                <a:ahLst/>
                <a:rect l="l" t="t" r="r" b="b"/>
                <a:pathLst>
                  <a:path w="661" h="1090">
                    <a:moveTo>
                      <a:pt x="42" y="0"/>
                    </a:moveTo>
                    <a:lnTo>
                      <a:pt x="499" y="0"/>
                    </a:lnTo>
                    <a:lnTo>
                      <a:pt x="650" y="111"/>
                    </a:lnTo>
                    <a:lnTo>
                      <a:pt x="652" y="133"/>
                    </a:lnTo>
                    <a:lnTo>
                      <a:pt x="657" y="192"/>
                    </a:lnTo>
                    <a:lnTo>
                      <a:pt x="659" y="233"/>
                    </a:lnTo>
                    <a:lnTo>
                      <a:pt x="660" y="281"/>
                    </a:lnTo>
                    <a:lnTo>
                      <a:pt x="661" y="334"/>
                    </a:lnTo>
                    <a:lnTo>
                      <a:pt x="660" y="391"/>
                    </a:lnTo>
                    <a:lnTo>
                      <a:pt x="658" y="451"/>
                    </a:lnTo>
                    <a:lnTo>
                      <a:pt x="655" y="514"/>
                    </a:lnTo>
                    <a:lnTo>
                      <a:pt x="651" y="546"/>
                    </a:lnTo>
                    <a:lnTo>
                      <a:pt x="648" y="579"/>
                    </a:lnTo>
                    <a:lnTo>
                      <a:pt x="645" y="611"/>
                    </a:lnTo>
                    <a:lnTo>
                      <a:pt x="639" y="643"/>
                    </a:lnTo>
                    <a:lnTo>
                      <a:pt x="634" y="675"/>
                    </a:lnTo>
                    <a:lnTo>
                      <a:pt x="629" y="707"/>
                    </a:lnTo>
                    <a:lnTo>
                      <a:pt x="621" y="739"/>
                    </a:lnTo>
                    <a:lnTo>
                      <a:pt x="614" y="769"/>
                    </a:lnTo>
                    <a:lnTo>
                      <a:pt x="605" y="799"/>
                    </a:lnTo>
                    <a:lnTo>
                      <a:pt x="596" y="829"/>
                    </a:lnTo>
                    <a:lnTo>
                      <a:pt x="585" y="858"/>
                    </a:lnTo>
                    <a:lnTo>
                      <a:pt x="574" y="885"/>
                    </a:lnTo>
                    <a:lnTo>
                      <a:pt x="504" y="416"/>
                    </a:lnTo>
                    <a:lnTo>
                      <a:pt x="504" y="171"/>
                    </a:lnTo>
                    <a:lnTo>
                      <a:pt x="188" y="171"/>
                    </a:lnTo>
                    <a:lnTo>
                      <a:pt x="188" y="172"/>
                    </a:lnTo>
                    <a:lnTo>
                      <a:pt x="189" y="176"/>
                    </a:lnTo>
                    <a:lnTo>
                      <a:pt x="190" y="183"/>
                    </a:lnTo>
                    <a:lnTo>
                      <a:pt x="191" y="191"/>
                    </a:lnTo>
                    <a:lnTo>
                      <a:pt x="191" y="202"/>
                    </a:lnTo>
                    <a:lnTo>
                      <a:pt x="191" y="215"/>
                    </a:lnTo>
                    <a:lnTo>
                      <a:pt x="190" y="230"/>
                    </a:lnTo>
                    <a:lnTo>
                      <a:pt x="188" y="247"/>
                    </a:lnTo>
                    <a:lnTo>
                      <a:pt x="186" y="269"/>
                    </a:lnTo>
                    <a:lnTo>
                      <a:pt x="185" y="300"/>
                    </a:lnTo>
                    <a:lnTo>
                      <a:pt x="184" y="338"/>
                    </a:lnTo>
                    <a:lnTo>
                      <a:pt x="183" y="383"/>
                    </a:lnTo>
                    <a:lnTo>
                      <a:pt x="181" y="435"/>
                    </a:lnTo>
                    <a:lnTo>
                      <a:pt x="179" y="491"/>
                    </a:lnTo>
                    <a:lnTo>
                      <a:pt x="176" y="551"/>
                    </a:lnTo>
                    <a:lnTo>
                      <a:pt x="172" y="613"/>
                    </a:lnTo>
                    <a:lnTo>
                      <a:pt x="165" y="677"/>
                    </a:lnTo>
                    <a:lnTo>
                      <a:pt x="158" y="742"/>
                    </a:lnTo>
                    <a:lnTo>
                      <a:pt x="153" y="774"/>
                    </a:lnTo>
                    <a:lnTo>
                      <a:pt x="148" y="807"/>
                    </a:lnTo>
                    <a:lnTo>
                      <a:pt x="141" y="839"/>
                    </a:lnTo>
                    <a:lnTo>
                      <a:pt x="135" y="870"/>
                    </a:lnTo>
                    <a:lnTo>
                      <a:pt x="127" y="901"/>
                    </a:lnTo>
                    <a:lnTo>
                      <a:pt x="120" y="931"/>
                    </a:lnTo>
                    <a:lnTo>
                      <a:pt x="111" y="960"/>
                    </a:lnTo>
                    <a:lnTo>
                      <a:pt x="101" y="989"/>
                    </a:lnTo>
                    <a:lnTo>
                      <a:pt x="91" y="1016"/>
                    </a:lnTo>
                    <a:lnTo>
                      <a:pt x="80" y="1042"/>
                    </a:lnTo>
                    <a:lnTo>
                      <a:pt x="68" y="1067"/>
                    </a:lnTo>
                    <a:lnTo>
                      <a:pt x="54" y="1090"/>
                    </a:lnTo>
                    <a:lnTo>
                      <a:pt x="0" y="1090"/>
                    </a:lnTo>
                    <a:lnTo>
                      <a:pt x="0" y="1084"/>
                    </a:lnTo>
                    <a:lnTo>
                      <a:pt x="0" y="1067"/>
                    </a:lnTo>
                    <a:lnTo>
                      <a:pt x="0" y="1039"/>
                    </a:lnTo>
                    <a:lnTo>
                      <a:pt x="1" y="999"/>
                    </a:lnTo>
                    <a:lnTo>
                      <a:pt x="3" y="948"/>
                    </a:lnTo>
                    <a:lnTo>
                      <a:pt x="6" y="887"/>
                    </a:lnTo>
                    <a:lnTo>
                      <a:pt x="12" y="814"/>
                    </a:lnTo>
                    <a:lnTo>
                      <a:pt x="19" y="731"/>
                    </a:lnTo>
                    <a:lnTo>
                      <a:pt x="27" y="651"/>
                    </a:lnTo>
                    <a:lnTo>
                      <a:pt x="32" y="581"/>
                    </a:lnTo>
                    <a:lnTo>
                      <a:pt x="37" y="518"/>
                    </a:lnTo>
                    <a:lnTo>
                      <a:pt x="39" y="461"/>
                    </a:lnTo>
                    <a:lnTo>
                      <a:pt x="41" y="405"/>
                    </a:lnTo>
                    <a:lnTo>
                      <a:pt x="42" y="347"/>
                    </a:lnTo>
                    <a:lnTo>
                      <a:pt x="42" y="284"/>
                    </a:lnTo>
                    <a:lnTo>
                      <a:pt x="42" y="213"/>
                    </a:lnTo>
                    <a:lnTo>
                      <a:pt x="42" y="145"/>
                    </a:lnTo>
                    <a:lnTo>
                      <a:pt x="42" y="93"/>
                    </a:lnTo>
                    <a:lnTo>
                      <a:pt x="42" y="55"/>
                    </a:lnTo>
                    <a:lnTo>
                      <a:pt x="42" y="29"/>
                    </a:lnTo>
                    <a:lnTo>
                      <a:pt x="42" y="13"/>
                    </a:lnTo>
                    <a:lnTo>
                      <a:pt x="42" y="4"/>
                    </a:lnTo>
                    <a:lnTo>
                      <a:pt x="42" y="1"/>
                    </a:lnTo>
                    <a:lnTo>
                      <a:pt x="42" y="0"/>
                    </a:lnTo>
                    <a:close/>
                  </a:path>
                </a:pathLst>
              </a:custGeom>
              <a:solidFill>
                <a:srgbClr val="b5b5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6189480" y="5276880"/>
                <a:ext cx="41400" cy="212760"/>
              </a:xfrm>
              <a:custGeom>
                <a:avLst/>
                <a:gdLst/>
                <a:ahLst/>
                <a:rect l="l" t="t" r="r" b="b"/>
                <a:pathLst>
                  <a:path w="126" h="671">
                    <a:moveTo>
                      <a:pt x="0" y="0"/>
                    </a:moveTo>
                    <a:lnTo>
                      <a:pt x="110" y="0"/>
                    </a:lnTo>
                    <a:lnTo>
                      <a:pt x="112" y="14"/>
                    </a:lnTo>
                    <a:lnTo>
                      <a:pt x="117" y="55"/>
                    </a:lnTo>
                    <a:lnTo>
                      <a:pt x="119" y="84"/>
                    </a:lnTo>
                    <a:lnTo>
                      <a:pt x="123" y="120"/>
                    </a:lnTo>
                    <a:lnTo>
                      <a:pt x="124" y="158"/>
                    </a:lnTo>
                    <a:lnTo>
                      <a:pt x="126" y="203"/>
                    </a:lnTo>
                    <a:lnTo>
                      <a:pt x="126" y="251"/>
                    </a:lnTo>
                    <a:lnTo>
                      <a:pt x="124" y="304"/>
                    </a:lnTo>
                    <a:lnTo>
                      <a:pt x="120" y="359"/>
                    </a:lnTo>
                    <a:lnTo>
                      <a:pt x="116" y="418"/>
                    </a:lnTo>
                    <a:lnTo>
                      <a:pt x="112" y="448"/>
                    </a:lnTo>
                    <a:lnTo>
                      <a:pt x="107" y="478"/>
                    </a:lnTo>
                    <a:lnTo>
                      <a:pt x="103" y="509"/>
                    </a:lnTo>
                    <a:lnTo>
                      <a:pt x="98" y="542"/>
                    </a:lnTo>
                    <a:lnTo>
                      <a:pt x="91" y="573"/>
                    </a:lnTo>
                    <a:lnTo>
                      <a:pt x="84" y="607"/>
                    </a:lnTo>
                    <a:lnTo>
                      <a:pt x="76" y="639"/>
                    </a:lnTo>
                    <a:lnTo>
                      <a:pt x="67" y="671"/>
                    </a:lnTo>
                    <a:lnTo>
                      <a:pt x="0" y="24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38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6030720" y="5222880"/>
                <a:ext cx="49320" cy="346320"/>
              </a:xfrm>
              <a:custGeom>
                <a:avLst/>
                <a:gdLst/>
                <a:ahLst/>
                <a:rect l="l" t="t" r="r" b="b"/>
                <a:pathLst>
                  <a:path w="158" h="1090">
                    <a:moveTo>
                      <a:pt x="19" y="1090"/>
                    </a:moveTo>
                    <a:lnTo>
                      <a:pt x="0" y="1090"/>
                    </a:lnTo>
                    <a:lnTo>
                      <a:pt x="0" y="1084"/>
                    </a:lnTo>
                    <a:lnTo>
                      <a:pt x="0" y="1067"/>
                    </a:lnTo>
                    <a:lnTo>
                      <a:pt x="0" y="1039"/>
                    </a:lnTo>
                    <a:lnTo>
                      <a:pt x="1" y="999"/>
                    </a:lnTo>
                    <a:lnTo>
                      <a:pt x="3" y="948"/>
                    </a:lnTo>
                    <a:lnTo>
                      <a:pt x="6" y="887"/>
                    </a:lnTo>
                    <a:lnTo>
                      <a:pt x="12" y="814"/>
                    </a:lnTo>
                    <a:lnTo>
                      <a:pt x="19" y="731"/>
                    </a:lnTo>
                    <a:lnTo>
                      <a:pt x="27" y="651"/>
                    </a:lnTo>
                    <a:lnTo>
                      <a:pt x="32" y="581"/>
                    </a:lnTo>
                    <a:lnTo>
                      <a:pt x="37" y="518"/>
                    </a:lnTo>
                    <a:lnTo>
                      <a:pt x="39" y="461"/>
                    </a:lnTo>
                    <a:lnTo>
                      <a:pt x="41" y="405"/>
                    </a:lnTo>
                    <a:lnTo>
                      <a:pt x="42" y="347"/>
                    </a:lnTo>
                    <a:lnTo>
                      <a:pt x="42" y="284"/>
                    </a:lnTo>
                    <a:lnTo>
                      <a:pt x="42" y="213"/>
                    </a:lnTo>
                    <a:lnTo>
                      <a:pt x="42" y="145"/>
                    </a:lnTo>
                    <a:lnTo>
                      <a:pt x="42" y="93"/>
                    </a:lnTo>
                    <a:lnTo>
                      <a:pt x="42" y="55"/>
                    </a:lnTo>
                    <a:lnTo>
                      <a:pt x="42" y="29"/>
                    </a:lnTo>
                    <a:lnTo>
                      <a:pt x="42" y="13"/>
                    </a:lnTo>
                    <a:lnTo>
                      <a:pt x="42" y="4"/>
                    </a:lnTo>
                    <a:lnTo>
                      <a:pt x="42" y="1"/>
                    </a:lnTo>
                    <a:lnTo>
                      <a:pt x="42" y="0"/>
                    </a:lnTo>
                    <a:lnTo>
                      <a:pt x="156" y="117"/>
                    </a:lnTo>
                    <a:lnTo>
                      <a:pt x="157" y="132"/>
                    </a:lnTo>
                    <a:lnTo>
                      <a:pt x="157" y="176"/>
                    </a:lnTo>
                    <a:lnTo>
                      <a:pt x="158" y="241"/>
                    </a:lnTo>
                    <a:lnTo>
                      <a:pt x="158" y="321"/>
                    </a:lnTo>
                    <a:lnTo>
                      <a:pt x="156" y="409"/>
                    </a:lnTo>
                    <a:lnTo>
                      <a:pt x="152" y="501"/>
                    </a:lnTo>
                    <a:lnTo>
                      <a:pt x="150" y="545"/>
                    </a:lnTo>
                    <a:lnTo>
                      <a:pt x="147" y="589"/>
                    </a:lnTo>
                    <a:lnTo>
                      <a:pt x="144" y="630"/>
                    </a:lnTo>
                    <a:lnTo>
                      <a:pt x="138" y="667"/>
                    </a:lnTo>
                    <a:lnTo>
                      <a:pt x="129" y="735"/>
                    </a:lnTo>
                    <a:lnTo>
                      <a:pt x="119" y="796"/>
                    </a:lnTo>
                    <a:lnTo>
                      <a:pt x="110" y="851"/>
                    </a:lnTo>
                    <a:lnTo>
                      <a:pt x="99" y="902"/>
                    </a:lnTo>
                    <a:lnTo>
                      <a:pt x="94" y="924"/>
                    </a:lnTo>
                    <a:lnTo>
                      <a:pt x="89" y="947"/>
                    </a:lnTo>
                    <a:lnTo>
                      <a:pt x="82" y="968"/>
                    </a:lnTo>
                    <a:lnTo>
                      <a:pt x="76" y="988"/>
                    </a:lnTo>
                    <a:lnTo>
                      <a:pt x="68" y="1008"/>
                    </a:lnTo>
                    <a:lnTo>
                      <a:pt x="60" y="1027"/>
                    </a:lnTo>
                    <a:lnTo>
                      <a:pt x="52" y="1045"/>
                    </a:lnTo>
                    <a:lnTo>
                      <a:pt x="42" y="1063"/>
                    </a:lnTo>
                    <a:lnTo>
                      <a:pt x="19" y="1090"/>
                    </a:lnTo>
                    <a:close/>
                  </a:path>
                </a:pathLst>
              </a:custGeom>
              <a:solidFill>
                <a:srgbClr val="969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6051600" y="5226120"/>
                <a:ext cx="179280" cy="31680"/>
              </a:xfrm>
              <a:custGeom>
                <a:avLst/>
                <a:gdLst/>
                <a:ahLst/>
                <a:rect l="l" t="t" r="r" b="b"/>
                <a:pathLst>
                  <a:path w="564" h="101">
                    <a:moveTo>
                      <a:pt x="0" y="0"/>
                    </a:moveTo>
                    <a:lnTo>
                      <a:pt x="107" y="101"/>
                    </a:lnTo>
                    <a:lnTo>
                      <a:pt x="564" y="101"/>
                    </a:lnTo>
                    <a:lnTo>
                      <a:pt x="42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1d0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6030720" y="5222880"/>
                <a:ext cx="209880" cy="346320"/>
              </a:xfrm>
              <a:custGeom>
                <a:avLst/>
                <a:gdLst/>
                <a:ahLst/>
                <a:rect l="l" t="t" r="r" b="b"/>
                <a:pathLst>
                  <a:path w="661" h="1090">
                    <a:moveTo>
                      <a:pt x="42" y="0"/>
                    </a:moveTo>
                    <a:lnTo>
                      <a:pt x="499" y="0"/>
                    </a:lnTo>
                    <a:lnTo>
                      <a:pt x="650" y="111"/>
                    </a:lnTo>
                    <a:lnTo>
                      <a:pt x="652" y="133"/>
                    </a:lnTo>
                    <a:lnTo>
                      <a:pt x="657" y="192"/>
                    </a:lnTo>
                    <a:lnTo>
                      <a:pt x="659" y="233"/>
                    </a:lnTo>
                    <a:lnTo>
                      <a:pt x="660" y="281"/>
                    </a:lnTo>
                    <a:lnTo>
                      <a:pt x="661" y="334"/>
                    </a:lnTo>
                    <a:lnTo>
                      <a:pt x="660" y="391"/>
                    </a:lnTo>
                    <a:lnTo>
                      <a:pt x="658" y="451"/>
                    </a:lnTo>
                    <a:lnTo>
                      <a:pt x="655" y="514"/>
                    </a:lnTo>
                    <a:lnTo>
                      <a:pt x="651" y="546"/>
                    </a:lnTo>
                    <a:lnTo>
                      <a:pt x="648" y="579"/>
                    </a:lnTo>
                    <a:lnTo>
                      <a:pt x="645" y="611"/>
                    </a:lnTo>
                    <a:lnTo>
                      <a:pt x="639" y="643"/>
                    </a:lnTo>
                    <a:lnTo>
                      <a:pt x="634" y="675"/>
                    </a:lnTo>
                    <a:lnTo>
                      <a:pt x="629" y="707"/>
                    </a:lnTo>
                    <a:lnTo>
                      <a:pt x="621" y="739"/>
                    </a:lnTo>
                    <a:lnTo>
                      <a:pt x="614" y="769"/>
                    </a:lnTo>
                    <a:lnTo>
                      <a:pt x="605" y="799"/>
                    </a:lnTo>
                    <a:lnTo>
                      <a:pt x="596" y="829"/>
                    </a:lnTo>
                    <a:lnTo>
                      <a:pt x="585" y="858"/>
                    </a:lnTo>
                    <a:lnTo>
                      <a:pt x="574" y="885"/>
                    </a:lnTo>
                    <a:lnTo>
                      <a:pt x="504" y="416"/>
                    </a:lnTo>
                    <a:lnTo>
                      <a:pt x="504" y="171"/>
                    </a:lnTo>
                    <a:lnTo>
                      <a:pt x="188" y="171"/>
                    </a:lnTo>
                    <a:lnTo>
                      <a:pt x="188" y="172"/>
                    </a:lnTo>
                    <a:lnTo>
                      <a:pt x="189" y="176"/>
                    </a:lnTo>
                    <a:lnTo>
                      <a:pt x="190" y="183"/>
                    </a:lnTo>
                    <a:lnTo>
                      <a:pt x="191" y="191"/>
                    </a:lnTo>
                    <a:lnTo>
                      <a:pt x="191" y="202"/>
                    </a:lnTo>
                    <a:lnTo>
                      <a:pt x="191" y="215"/>
                    </a:lnTo>
                    <a:lnTo>
                      <a:pt x="190" y="230"/>
                    </a:lnTo>
                    <a:lnTo>
                      <a:pt x="188" y="247"/>
                    </a:lnTo>
                    <a:lnTo>
                      <a:pt x="186" y="269"/>
                    </a:lnTo>
                    <a:lnTo>
                      <a:pt x="185" y="300"/>
                    </a:lnTo>
                    <a:lnTo>
                      <a:pt x="184" y="338"/>
                    </a:lnTo>
                    <a:lnTo>
                      <a:pt x="183" y="383"/>
                    </a:lnTo>
                    <a:lnTo>
                      <a:pt x="181" y="435"/>
                    </a:lnTo>
                    <a:lnTo>
                      <a:pt x="179" y="491"/>
                    </a:lnTo>
                    <a:lnTo>
                      <a:pt x="176" y="551"/>
                    </a:lnTo>
                    <a:lnTo>
                      <a:pt x="172" y="613"/>
                    </a:lnTo>
                    <a:lnTo>
                      <a:pt x="165" y="677"/>
                    </a:lnTo>
                    <a:lnTo>
                      <a:pt x="158" y="742"/>
                    </a:lnTo>
                    <a:lnTo>
                      <a:pt x="153" y="774"/>
                    </a:lnTo>
                    <a:lnTo>
                      <a:pt x="148" y="807"/>
                    </a:lnTo>
                    <a:lnTo>
                      <a:pt x="141" y="839"/>
                    </a:lnTo>
                    <a:lnTo>
                      <a:pt x="135" y="870"/>
                    </a:lnTo>
                    <a:lnTo>
                      <a:pt x="127" y="901"/>
                    </a:lnTo>
                    <a:lnTo>
                      <a:pt x="120" y="931"/>
                    </a:lnTo>
                    <a:lnTo>
                      <a:pt x="111" y="960"/>
                    </a:lnTo>
                    <a:lnTo>
                      <a:pt x="101" y="989"/>
                    </a:lnTo>
                    <a:lnTo>
                      <a:pt x="91" y="1016"/>
                    </a:lnTo>
                    <a:lnTo>
                      <a:pt x="80" y="1042"/>
                    </a:lnTo>
                    <a:lnTo>
                      <a:pt x="68" y="1067"/>
                    </a:lnTo>
                    <a:lnTo>
                      <a:pt x="54" y="1090"/>
                    </a:lnTo>
                    <a:lnTo>
                      <a:pt x="0" y="1090"/>
                    </a:lnTo>
                    <a:lnTo>
                      <a:pt x="0" y="1084"/>
                    </a:lnTo>
                    <a:lnTo>
                      <a:pt x="0" y="1067"/>
                    </a:lnTo>
                    <a:lnTo>
                      <a:pt x="0" y="1039"/>
                    </a:lnTo>
                    <a:lnTo>
                      <a:pt x="1" y="999"/>
                    </a:lnTo>
                    <a:lnTo>
                      <a:pt x="3" y="948"/>
                    </a:lnTo>
                    <a:lnTo>
                      <a:pt x="6" y="887"/>
                    </a:lnTo>
                    <a:lnTo>
                      <a:pt x="12" y="814"/>
                    </a:lnTo>
                    <a:lnTo>
                      <a:pt x="19" y="731"/>
                    </a:lnTo>
                    <a:lnTo>
                      <a:pt x="27" y="651"/>
                    </a:lnTo>
                    <a:lnTo>
                      <a:pt x="32" y="581"/>
                    </a:lnTo>
                    <a:lnTo>
                      <a:pt x="37" y="518"/>
                    </a:lnTo>
                    <a:lnTo>
                      <a:pt x="39" y="461"/>
                    </a:lnTo>
                    <a:lnTo>
                      <a:pt x="41" y="405"/>
                    </a:lnTo>
                    <a:lnTo>
                      <a:pt x="42" y="347"/>
                    </a:lnTo>
                    <a:lnTo>
                      <a:pt x="42" y="284"/>
                    </a:lnTo>
                    <a:lnTo>
                      <a:pt x="42" y="213"/>
                    </a:lnTo>
                    <a:lnTo>
                      <a:pt x="42" y="145"/>
                    </a:lnTo>
                    <a:lnTo>
                      <a:pt x="42" y="93"/>
                    </a:lnTo>
                    <a:lnTo>
                      <a:pt x="42" y="55"/>
                    </a:lnTo>
                    <a:lnTo>
                      <a:pt x="42" y="29"/>
                    </a:lnTo>
                    <a:lnTo>
                      <a:pt x="42" y="13"/>
                    </a:lnTo>
                    <a:lnTo>
                      <a:pt x="42" y="4"/>
                    </a:lnTo>
                    <a:lnTo>
                      <a:pt x="42" y="1"/>
                    </a:lnTo>
                    <a:lnTo>
                      <a:pt x="42" y="0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6006960" y="5516640"/>
                <a:ext cx="33480" cy="39600"/>
              </a:xfrm>
              <a:custGeom>
                <a:avLst/>
                <a:gdLst/>
                <a:ahLst/>
                <a:rect l="l" t="t" r="r" b="b"/>
                <a:pathLst>
                  <a:path w="102" h="124">
                    <a:moveTo>
                      <a:pt x="7" y="87"/>
                    </a:moveTo>
                    <a:lnTo>
                      <a:pt x="81" y="124"/>
                    </a:lnTo>
                    <a:lnTo>
                      <a:pt x="83" y="121"/>
                    </a:lnTo>
                    <a:lnTo>
                      <a:pt x="87" y="115"/>
                    </a:lnTo>
                    <a:lnTo>
                      <a:pt x="94" y="103"/>
                    </a:lnTo>
                    <a:lnTo>
                      <a:pt x="99" y="88"/>
                    </a:lnTo>
                    <a:lnTo>
                      <a:pt x="100" y="79"/>
                    </a:lnTo>
                    <a:lnTo>
                      <a:pt x="101" y="70"/>
                    </a:lnTo>
                    <a:lnTo>
                      <a:pt x="102" y="60"/>
                    </a:lnTo>
                    <a:lnTo>
                      <a:pt x="101" y="49"/>
                    </a:lnTo>
                    <a:lnTo>
                      <a:pt x="98" y="37"/>
                    </a:lnTo>
                    <a:lnTo>
                      <a:pt x="95" y="25"/>
                    </a:lnTo>
                    <a:lnTo>
                      <a:pt x="88" y="13"/>
                    </a:lnTo>
                    <a:lnTo>
                      <a:pt x="81" y="0"/>
                    </a:lnTo>
                    <a:lnTo>
                      <a:pt x="7" y="40"/>
                    </a:lnTo>
                    <a:lnTo>
                      <a:pt x="6" y="40"/>
                    </a:lnTo>
                    <a:lnTo>
                      <a:pt x="6" y="40"/>
                    </a:lnTo>
                    <a:lnTo>
                      <a:pt x="4" y="42"/>
                    </a:lnTo>
                    <a:lnTo>
                      <a:pt x="3" y="44"/>
                    </a:lnTo>
                    <a:lnTo>
                      <a:pt x="2" y="47"/>
                    </a:lnTo>
                    <a:lnTo>
                      <a:pt x="1" y="50"/>
                    </a:lnTo>
                    <a:lnTo>
                      <a:pt x="0" y="56"/>
                    </a:lnTo>
                    <a:lnTo>
                      <a:pt x="0" y="62"/>
                    </a:lnTo>
                    <a:lnTo>
                      <a:pt x="0" y="69"/>
                    </a:lnTo>
                    <a:lnTo>
                      <a:pt x="1" y="75"/>
                    </a:lnTo>
                    <a:lnTo>
                      <a:pt x="2" y="79"/>
                    </a:lnTo>
                    <a:lnTo>
                      <a:pt x="3" y="83"/>
                    </a:lnTo>
                    <a:lnTo>
                      <a:pt x="4" y="85"/>
                    </a:lnTo>
                    <a:lnTo>
                      <a:pt x="6" y="86"/>
                    </a:lnTo>
                    <a:lnTo>
                      <a:pt x="6" y="87"/>
                    </a:lnTo>
                    <a:lnTo>
                      <a:pt x="7" y="87"/>
                    </a:lnTo>
                    <a:close/>
                  </a:path>
                </a:pathLst>
              </a:custGeom>
              <a:solidFill>
                <a:srgbClr val="b5b5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6006960" y="5516640"/>
                <a:ext cx="33480" cy="39600"/>
              </a:xfrm>
              <a:custGeom>
                <a:avLst/>
                <a:gdLst/>
                <a:ahLst/>
                <a:rect l="l" t="t" r="r" b="b"/>
                <a:pathLst>
                  <a:path w="102" h="124">
                    <a:moveTo>
                      <a:pt x="7" y="87"/>
                    </a:moveTo>
                    <a:lnTo>
                      <a:pt x="81" y="124"/>
                    </a:lnTo>
                    <a:lnTo>
                      <a:pt x="83" y="121"/>
                    </a:lnTo>
                    <a:lnTo>
                      <a:pt x="87" y="115"/>
                    </a:lnTo>
                    <a:lnTo>
                      <a:pt x="94" y="103"/>
                    </a:lnTo>
                    <a:lnTo>
                      <a:pt x="99" y="88"/>
                    </a:lnTo>
                    <a:lnTo>
                      <a:pt x="100" y="79"/>
                    </a:lnTo>
                    <a:lnTo>
                      <a:pt x="101" y="70"/>
                    </a:lnTo>
                    <a:lnTo>
                      <a:pt x="102" y="60"/>
                    </a:lnTo>
                    <a:lnTo>
                      <a:pt x="101" y="49"/>
                    </a:lnTo>
                    <a:lnTo>
                      <a:pt x="98" y="37"/>
                    </a:lnTo>
                    <a:lnTo>
                      <a:pt x="95" y="25"/>
                    </a:lnTo>
                    <a:lnTo>
                      <a:pt x="88" y="13"/>
                    </a:lnTo>
                    <a:lnTo>
                      <a:pt x="81" y="0"/>
                    </a:lnTo>
                    <a:lnTo>
                      <a:pt x="7" y="40"/>
                    </a:lnTo>
                    <a:lnTo>
                      <a:pt x="6" y="40"/>
                    </a:lnTo>
                    <a:lnTo>
                      <a:pt x="6" y="40"/>
                    </a:lnTo>
                    <a:lnTo>
                      <a:pt x="4" y="42"/>
                    </a:lnTo>
                    <a:lnTo>
                      <a:pt x="3" y="44"/>
                    </a:lnTo>
                    <a:lnTo>
                      <a:pt x="2" y="47"/>
                    </a:lnTo>
                    <a:lnTo>
                      <a:pt x="1" y="50"/>
                    </a:lnTo>
                    <a:lnTo>
                      <a:pt x="0" y="56"/>
                    </a:lnTo>
                    <a:lnTo>
                      <a:pt x="0" y="62"/>
                    </a:lnTo>
                    <a:lnTo>
                      <a:pt x="0" y="69"/>
                    </a:lnTo>
                    <a:lnTo>
                      <a:pt x="1" y="75"/>
                    </a:lnTo>
                    <a:lnTo>
                      <a:pt x="2" y="79"/>
                    </a:lnTo>
                    <a:lnTo>
                      <a:pt x="3" y="83"/>
                    </a:lnTo>
                    <a:lnTo>
                      <a:pt x="4" y="85"/>
                    </a:lnTo>
                    <a:lnTo>
                      <a:pt x="6" y="86"/>
                    </a:lnTo>
                    <a:lnTo>
                      <a:pt x="6" y="87"/>
                    </a:lnTo>
                    <a:lnTo>
                      <a:pt x="7" y="87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6010200" y="552924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6" h="45">
                    <a:moveTo>
                      <a:pt x="0" y="0"/>
                    </a:moveTo>
                    <a:lnTo>
                      <a:pt x="0" y="0"/>
                    </a:lnTo>
                    <a:lnTo>
                      <a:pt x="1" y="3"/>
                    </a:lnTo>
                    <a:lnTo>
                      <a:pt x="3" y="6"/>
                    </a:lnTo>
                    <a:lnTo>
                      <a:pt x="5" y="11"/>
                    </a:lnTo>
                    <a:lnTo>
                      <a:pt x="6" y="18"/>
                    </a:lnTo>
                    <a:lnTo>
                      <a:pt x="5" y="25"/>
                    </a:lnTo>
                    <a:lnTo>
                      <a:pt x="3" y="34"/>
                    </a:lnTo>
                    <a:lnTo>
                      <a:pt x="0" y="4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5b5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6010200" y="552924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6" h="45">
                    <a:moveTo>
                      <a:pt x="0" y="0"/>
                    </a:moveTo>
                    <a:lnTo>
                      <a:pt x="0" y="0"/>
                    </a:lnTo>
                    <a:lnTo>
                      <a:pt x="1" y="3"/>
                    </a:lnTo>
                    <a:lnTo>
                      <a:pt x="3" y="6"/>
                    </a:lnTo>
                    <a:lnTo>
                      <a:pt x="5" y="11"/>
                    </a:lnTo>
                    <a:lnTo>
                      <a:pt x="6" y="18"/>
                    </a:lnTo>
                    <a:lnTo>
                      <a:pt x="5" y="25"/>
                    </a:lnTo>
                    <a:lnTo>
                      <a:pt x="3" y="34"/>
                    </a:lnTo>
                    <a:lnTo>
                      <a:pt x="0" y="45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6119640" y="5297400"/>
                <a:ext cx="106560" cy="317520"/>
              </a:xfrm>
              <a:custGeom>
                <a:avLst/>
                <a:gdLst/>
                <a:ahLst/>
                <a:rect l="l" t="t" r="r" b="b"/>
                <a:pathLst>
                  <a:path w="336" h="1002">
                    <a:moveTo>
                      <a:pt x="0" y="0"/>
                    </a:moveTo>
                    <a:lnTo>
                      <a:pt x="5" y="0"/>
                    </a:lnTo>
                    <a:lnTo>
                      <a:pt x="20" y="0"/>
                    </a:lnTo>
                    <a:lnTo>
                      <a:pt x="42" y="0"/>
                    </a:lnTo>
                    <a:lnTo>
                      <a:pt x="67" y="0"/>
                    </a:lnTo>
                    <a:lnTo>
                      <a:pt x="92" y="0"/>
                    </a:lnTo>
                    <a:lnTo>
                      <a:pt x="112" y="0"/>
                    </a:lnTo>
                    <a:lnTo>
                      <a:pt x="127" y="0"/>
                    </a:lnTo>
                    <a:lnTo>
                      <a:pt x="134" y="0"/>
                    </a:lnTo>
                    <a:lnTo>
                      <a:pt x="144" y="1"/>
                    </a:lnTo>
                    <a:lnTo>
                      <a:pt x="154" y="5"/>
                    </a:lnTo>
                    <a:lnTo>
                      <a:pt x="164" y="10"/>
                    </a:lnTo>
                    <a:lnTo>
                      <a:pt x="174" y="17"/>
                    </a:lnTo>
                    <a:lnTo>
                      <a:pt x="184" y="25"/>
                    </a:lnTo>
                    <a:lnTo>
                      <a:pt x="193" y="35"/>
                    </a:lnTo>
                    <a:lnTo>
                      <a:pt x="203" y="47"/>
                    </a:lnTo>
                    <a:lnTo>
                      <a:pt x="212" y="61"/>
                    </a:lnTo>
                    <a:lnTo>
                      <a:pt x="221" y="76"/>
                    </a:lnTo>
                    <a:lnTo>
                      <a:pt x="230" y="93"/>
                    </a:lnTo>
                    <a:lnTo>
                      <a:pt x="239" y="112"/>
                    </a:lnTo>
                    <a:lnTo>
                      <a:pt x="246" y="131"/>
                    </a:lnTo>
                    <a:lnTo>
                      <a:pt x="255" y="153"/>
                    </a:lnTo>
                    <a:lnTo>
                      <a:pt x="262" y="174"/>
                    </a:lnTo>
                    <a:lnTo>
                      <a:pt x="270" y="199"/>
                    </a:lnTo>
                    <a:lnTo>
                      <a:pt x="276" y="224"/>
                    </a:lnTo>
                    <a:lnTo>
                      <a:pt x="283" y="250"/>
                    </a:lnTo>
                    <a:lnTo>
                      <a:pt x="289" y="278"/>
                    </a:lnTo>
                    <a:lnTo>
                      <a:pt x="296" y="307"/>
                    </a:lnTo>
                    <a:lnTo>
                      <a:pt x="301" y="336"/>
                    </a:lnTo>
                    <a:lnTo>
                      <a:pt x="312" y="399"/>
                    </a:lnTo>
                    <a:lnTo>
                      <a:pt x="320" y="466"/>
                    </a:lnTo>
                    <a:lnTo>
                      <a:pt x="327" y="536"/>
                    </a:lnTo>
                    <a:lnTo>
                      <a:pt x="332" y="608"/>
                    </a:lnTo>
                    <a:lnTo>
                      <a:pt x="335" y="684"/>
                    </a:lnTo>
                    <a:lnTo>
                      <a:pt x="336" y="762"/>
                    </a:lnTo>
                    <a:lnTo>
                      <a:pt x="336" y="793"/>
                    </a:lnTo>
                    <a:lnTo>
                      <a:pt x="336" y="824"/>
                    </a:lnTo>
                    <a:lnTo>
                      <a:pt x="335" y="855"/>
                    </a:lnTo>
                    <a:lnTo>
                      <a:pt x="333" y="885"/>
                    </a:lnTo>
                    <a:lnTo>
                      <a:pt x="332" y="914"/>
                    </a:lnTo>
                    <a:lnTo>
                      <a:pt x="330" y="944"/>
                    </a:lnTo>
                    <a:lnTo>
                      <a:pt x="328" y="973"/>
                    </a:lnTo>
                    <a:lnTo>
                      <a:pt x="326" y="1002"/>
                    </a:lnTo>
                    <a:lnTo>
                      <a:pt x="141" y="13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e43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6086520" y="5259600"/>
                <a:ext cx="145800" cy="144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6167520" y="5349960"/>
                <a:ext cx="55440" cy="200160"/>
              </a:xfrm>
              <a:custGeom>
                <a:avLst/>
                <a:gdLst/>
                <a:ahLst/>
                <a:rect l="l" t="t" r="r" b="b"/>
                <a:pathLst>
                  <a:path w="174" h="629">
                    <a:moveTo>
                      <a:pt x="5" y="97"/>
                    </a:moveTo>
                    <a:lnTo>
                      <a:pt x="8" y="109"/>
                    </a:lnTo>
                    <a:lnTo>
                      <a:pt x="13" y="141"/>
                    </a:lnTo>
                    <a:lnTo>
                      <a:pt x="21" y="191"/>
                    </a:lnTo>
                    <a:lnTo>
                      <a:pt x="29" y="252"/>
                    </a:lnTo>
                    <a:lnTo>
                      <a:pt x="38" y="322"/>
                    </a:lnTo>
                    <a:lnTo>
                      <a:pt x="45" y="395"/>
                    </a:lnTo>
                    <a:lnTo>
                      <a:pt x="49" y="431"/>
                    </a:lnTo>
                    <a:lnTo>
                      <a:pt x="51" y="467"/>
                    </a:lnTo>
                    <a:lnTo>
                      <a:pt x="52" y="502"/>
                    </a:lnTo>
                    <a:lnTo>
                      <a:pt x="53" y="534"/>
                    </a:lnTo>
                    <a:lnTo>
                      <a:pt x="53" y="551"/>
                    </a:lnTo>
                    <a:lnTo>
                      <a:pt x="54" y="564"/>
                    </a:lnTo>
                    <a:lnTo>
                      <a:pt x="55" y="576"/>
                    </a:lnTo>
                    <a:lnTo>
                      <a:pt x="58" y="587"/>
                    </a:lnTo>
                    <a:lnTo>
                      <a:pt x="61" y="596"/>
                    </a:lnTo>
                    <a:lnTo>
                      <a:pt x="64" y="605"/>
                    </a:lnTo>
                    <a:lnTo>
                      <a:pt x="67" y="612"/>
                    </a:lnTo>
                    <a:lnTo>
                      <a:pt x="71" y="618"/>
                    </a:lnTo>
                    <a:lnTo>
                      <a:pt x="76" y="622"/>
                    </a:lnTo>
                    <a:lnTo>
                      <a:pt x="81" y="625"/>
                    </a:lnTo>
                    <a:lnTo>
                      <a:pt x="85" y="628"/>
                    </a:lnTo>
                    <a:lnTo>
                      <a:pt x="91" y="629"/>
                    </a:lnTo>
                    <a:lnTo>
                      <a:pt x="96" y="629"/>
                    </a:lnTo>
                    <a:lnTo>
                      <a:pt x="102" y="629"/>
                    </a:lnTo>
                    <a:lnTo>
                      <a:pt x="108" y="628"/>
                    </a:lnTo>
                    <a:lnTo>
                      <a:pt x="113" y="626"/>
                    </a:lnTo>
                    <a:lnTo>
                      <a:pt x="119" y="623"/>
                    </a:lnTo>
                    <a:lnTo>
                      <a:pt x="124" y="620"/>
                    </a:lnTo>
                    <a:lnTo>
                      <a:pt x="130" y="615"/>
                    </a:lnTo>
                    <a:lnTo>
                      <a:pt x="135" y="610"/>
                    </a:lnTo>
                    <a:lnTo>
                      <a:pt x="146" y="599"/>
                    </a:lnTo>
                    <a:lnTo>
                      <a:pt x="155" y="586"/>
                    </a:lnTo>
                    <a:lnTo>
                      <a:pt x="163" y="571"/>
                    </a:lnTo>
                    <a:lnTo>
                      <a:pt x="169" y="556"/>
                    </a:lnTo>
                    <a:lnTo>
                      <a:pt x="171" y="547"/>
                    </a:lnTo>
                    <a:lnTo>
                      <a:pt x="173" y="539"/>
                    </a:lnTo>
                    <a:lnTo>
                      <a:pt x="174" y="531"/>
                    </a:lnTo>
                    <a:lnTo>
                      <a:pt x="174" y="522"/>
                    </a:lnTo>
                    <a:lnTo>
                      <a:pt x="173" y="484"/>
                    </a:lnTo>
                    <a:lnTo>
                      <a:pt x="172" y="436"/>
                    </a:lnTo>
                    <a:lnTo>
                      <a:pt x="169" y="380"/>
                    </a:lnTo>
                    <a:lnTo>
                      <a:pt x="164" y="321"/>
                    </a:lnTo>
                    <a:lnTo>
                      <a:pt x="161" y="289"/>
                    </a:lnTo>
                    <a:lnTo>
                      <a:pt x="158" y="259"/>
                    </a:lnTo>
                    <a:lnTo>
                      <a:pt x="153" y="229"/>
                    </a:lnTo>
                    <a:lnTo>
                      <a:pt x="149" y="198"/>
                    </a:lnTo>
                    <a:lnTo>
                      <a:pt x="144" y="169"/>
                    </a:lnTo>
                    <a:lnTo>
                      <a:pt x="138" y="142"/>
                    </a:lnTo>
                    <a:lnTo>
                      <a:pt x="132" y="116"/>
                    </a:lnTo>
                    <a:lnTo>
                      <a:pt x="124" y="93"/>
                    </a:lnTo>
                    <a:lnTo>
                      <a:pt x="121" y="82"/>
                    </a:lnTo>
                    <a:lnTo>
                      <a:pt x="117" y="71"/>
                    </a:lnTo>
                    <a:lnTo>
                      <a:pt x="112" y="61"/>
                    </a:lnTo>
                    <a:lnTo>
                      <a:pt x="107" y="53"/>
                    </a:lnTo>
                    <a:lnTo>
                      <a:pt x="103" y="45"/>
                    </a:lnTo>
                    <a:lnTo>
                      <a:pt x="97" y="38"/>
                    </a:lnTo>
                    <a:lnTo>
                      <a:pt x="92" y="30"/>
                    </a:lnTo>
                    <a:lnTo>
                      <a:pt x="85" y="24"/>
                    </a:lnTo>
                    <a:lnTo>
                      <a:pt x="80" y="18"/>
                    </a:lnTo>
                    <a:lnTo>
                      <a:pt x="74" y="14"/>
                    </a:lnTo>
                    <a:lnTo>
                      <a:pt x="68" y="9"/>
                    </a:lnTo>
                    <a:lnTo>
                      <a:pt x="62" y="6"/>
                    </a:lnTo>
                    <a:lnTo>
                      <a:pt x="56" y="3"/>
                    </a:lnTo>
                    <a:lnTo>
                      <a:pt x="51" y="1"/>
                    </a:lnTo>
                    <a:lnTo>
                      <a:pt x="44" y="0"/>
                    </a:lnTo>
                    <a:lnTo>
                      <a:pt x="39" y="0"/>
                    </a:lnTo>
                    <a:lnTo>
                      <a:pt x="34" y="0"/>
                    </a:lnTo>
                    <a:lnTo>
                      <a:pt x="28" y="1"/>
                    </a:lnTo>
                    <a:lnTo>
                      <a:pt x="24" y="2"/>
                    </a:lnTo>
                    <a:lnTo>
                      <a:pt x="20" y="5"/>
                    </a:lnTo>
                    <a:lnTo>
                      <a:pt x="15" y="8"/>
                    </a:lnTo>
                    <a:lnTo>
                      <a:pt x="12" y="12"/>
                    </a:lnTo>
                    <a:lnTo>
                      <a:pt x="9" y="17"/>
                    </a:lnTo>
                    <a:lnTo>
                      <a:pt x="5" y="22"/>
                    </a:lnTo>
                    <a:lnTo>
                      <a:pt x="3" y="29"/>
                    </a:lnTo>
                    <a:lnTo>
                      <a:pt x="1" y="36"/>
                    </a:lnTo>
                    <a:lnTo>
                      <a:pt x="0" y="44"/>
                    </a:lnTo>
                    <a:lnTo>
                      <a:pt x="0" y="53"/>
                    </a:lnTo>
                    <a:lnTo>
                      <a:pt x="0" y="63"/>
                    </a:lnTo>
                    <a:lnTo>
                      <a:pt x="1" y="73"/>
                    </a:lnTo>
                    <a:lnTo>
                      <a:pt x="3" y="85"/>
                    </a:lnTo>
                    <a:lnTo>
                      <a:pt x="5" y="97"/>
                    </a:lnTo>
                    <a:close/>
                  </a:path>
                </a:pathLst>
              </a:custGeom>
              <a:solidFill>
                <a:srgbClr val="3e43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6170760" y="5359320"/>
                <a:ext cx="50760" cy="174600"/>
              </a:xfrm>
              <a:custGeom>
                <a:avLst/>
                <a:gdLst/>
                <a:ahLst/>
                <a:rect l="l" t="t" r="r" b="b"/>
                <a:pathLst>
                  <a:path w="158" h="553">
                    <a:moveTo>
                      <a:pt x="46" y="469"/>
                    </a:moveTo>
                    <a:lnTo>
                      <a:pt x="46" y="440"/>
                    </a:lnTo>
                    <a:lnTo>
                      <a:pt x="45" y="410"/>
                    </a:lnTo>
                    <a:lnTo>
                      <a:pt x="43" y="379"/>
                    </a:lnTo>
                    <a:lnTo>
                      <a:pt x="40" y="346"/>
                    </a:lnTo>
                    <a:lnTo>
                      <a:pt x="33" y="283"/>
                    </a:lnTo>
                    <a:lnTo>
                      <a:pt x="26" y="221"/>
                    </a:lnTo>
                    <a:lnTo>
                      <a:pt x="18" y="167"/>
                    </a:lnTo>
                    <a:lnTo>
                      <a:pt x="11" y="123"/>
                    </a:lnTo>
                    <a:lnTo>
                      <a:pt x="6" y="94"/>
                    </a:lnTo>
                    <a:lnTo>
                      <a:pt x="4" y="84"/>
                    </a:lnTo>
                    <a:lnTo>
                      <a:pt x="2" y="73"/>
                    </a:lnTo>
                    <a:lnTo>
                      <a:pt x="1" y="63"/>
                    </a:lnTo>
                    <a:lnTo>
                      <a:pt x="0" y="55"/>
                    </a:lnTo>
                    <a:lnTo>
                      <a:pt x="0" y="46"/>
                    </a:lnTo>
                    <a:lnTo>
                      <a:pt x="0" y="39"/>
                    </a:lnTo>
                    <a:lnTo>
                      <a:pt x="1" y="31"/>
                    </a:lnTo>
                    <a:lnTo>
                      <a:pt x="2" y="26"/>
                    </a:lnTo>
                    <a:lnTo>
                      <a:pt x="4" y="20"/>
                    </a:lnTo>
                    <a:lnTo>
                      <a:pt x="6" y="15"/>
                    </a:lnTo>
                    <a:lnTo>
                      <a:pt x="10" y="10"/>
                    </a:lnTo>
                    <a:lnTo>
                      <a:pt x="13" y="7"/>
                    </a:lnTo>
                    <a:lnTo>
                      <a:pt x="17" y="4"/>
                    </a:lnTo>
                    <a:lnTo>
                      <a:pt x="21" y="2"/>
                    </a:lnTo>
                    <a:lnTo>
                      <a:pt x="26" y="1"/>
                    </a:lnTo>
                    <a:lnTo>
                      <a:pt x="30" y="0"/>
                    </a:lnTo>
                    <a:lnTo>
                      <a:pt x="34" y="0"/>
                    </a:lnTo>
                    <a:lnTo>
                      <a:pt x="40" y="1"/>
                    </a:lnTo>
                    <a:lnTo>
                      <a:pt x="45" y="2"/>
                    </a:lnTo>
                    <a:lnTo>
                      <a:pt x="51" y="3"/>
                    </a:lnTo>
                    <a:lnTo>
                      <a:pt x="56" y="6"/>
                    </a:lnTo>
                    <a:lnTo>
                      <a:pt x="67" y="13"/>
                    </a:lnTo>
                    <a:lnTo>
                      <a:pt x="78" y="21"/>
                    </a:lnTo>
                    <a:lnTo>
                      <a:pt x="88" y="33"/>
                    </a:lnTo>
                    <a:lnTo>
                      <a:pt x="97" y="47"/>
                    </a:lnTo>
                    <a:lnTo>
                      <a:pt x="106" y="62"/>
                    </a:lnTo>
                    <a:lnTo>
                      <a:pt x="113" y="81"/>
                    </a:lnTo>
                    <a:lnTo>
                      <a:pt x="120" y="102"/>
                    </a:lnTo>
                    <a:lnTo>
                      <a:pt x="125" y="125"/>
                    </a:lnTo>
                    <a:lnTo>
                      <a:pt x="131" y="149"/>
                    </a:lnTo>
                    <a:lnTo>
                      <a:pt x="135" y="175"/>
                    </a:lnTo>
                    <a:lnTo>
                      <a:pt x="142" y="228"/>
                    </a:lnTo>
                    <a:lnTo>
                      <a:pt x="149" y="282"/>
                    </a:lnTo>
                    <a:lnTo>
                      <a:pt x="153" y="334"/>
                    </a:lnTo>
                    <a:lnTo>
                      <a:pt x="155" y="383"/>
                    </a:lnTo>
                    <a:lnTo>
                      <a:pt x="158" y="425"/>
                    </a:lnTo>
                    <a:lnTo>
                      <a:pt x="158" y="460"/>
                    </a:lnTo>
                    <a:lnTo>
                      <a:pt x="158" y="466"/>
                    </a:lnTo>
                    <a:lnTo>
                      <a:pt x="156" y="474"/>
                    </a:lnTo>
                    <a:lnTo>
                      <a:pt x="155" y="481"/>
                    </a:lnTo>
                    <a:lnTo>
                      <a:pt x="153" y="488"/>
                    </a:lnTo>
                    <a:lnTo>
                      <a:pt x="148" y="502"/>
                    </a:lnTo>
                    <a:lnTo>
                      <a:pt x="140" y="515"/>
                    </a:lnTo>
                    <a:lnTo>
                      <a:pt x="132" y="526"/>
                    </a:lnTo>
                    <a:lnTo>
                      <a:pt x="123" y="536"/>
                    </a:lnTo>
                    <a:lnTo>
                      <a:pt x="112" y="544"/>
                    </a:lnTo>
                    <a:lnTo>
                      <a:pt x="102" y="549"/>
                    </a:lnTo>
                    <a:lnTo>
                      <a:pt x="97" y="552"/>
                    </a:lnTo>
                    <a:lnTo>
                      <a:pt x="92" y="553"/>
                    </a:lnTo>
                    <a:lnTo>
                      <a:pt x="86" y="553"/>
                    </a:lnTo>
                    <a:lnTo>
                      <a:pt x="82" y="553"/>
                    </a:lnTo>
                    <a:lnTo>
                      <a:pt x="77" y="552"/>
                    </a:lnTo>
                    <a:lnTo>
                      <a:pt x="72" y="549"/>
                    </a:lnTo>
                    <a:lnTo>
                      <a:pt x="68" y="546"/>
                    </a:lnTo>
                    <a:lnTo>
                      <a:pt x="64" y="542"/>
                    </a:lnTo>
                    <a:lnTo>
                      <a:pt x="60" y="538"/>
                    </a:lnTo>
                    <a:lnTo>
                      <a:pt x="57" y="531"/>
                    </a:lnTo>
                    <a:lnTo>
                      <a:pt x="54" y="523"/>
                    </a:lnTo>
                    <a:lnTo>
                      <a:pt x="52" y="515"/>
                    </a:lnTo>
                    <a:lnTo>
                      <a:pt x="50" y="506"/>
                    </a:lnTo>
                    <a:lnTo>
                      <a:pt x="47" y="495"/>
                    </a:lnTo>
                    <a:lnTo>
                      <a:pt x="47" y="482"/>
                    </a:lnTo>
                    <a:lnTo>
                      <a:pt x="46" y="469"/>
                    </a:lnTo>
                    <a:close/>
                  </a:path>
                </a:pathLst>
              </a:custGeom>
              <a:solidFill>
                <a:srgbClr val="4247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6175440" y="5367240"/>
                <a:ext cx="44280" cy="150840"/>
              </a:xfrm>
              <a:custGeom>
                <a:avLst/>
                <a:gdLst/>
                <a:ahLst/>
                <a:rect l="l" t="t" r="r" b="b"/>
                <a:pathLst>
                  <a:path w="141" h="477">
                    <a:moveTo>
                      <a:pt x="42" y="405"/>
                    </a:moveTo>
                    <a:lnTo>
                      <a:pt x="42" y="380"/>
                    </a:lnTo>
                    <a:lnTo>
                      <a:pt x="41" y="354"/>
                    </a:lnTo>
                    <a:lnTo>
                      <a:pt x="39" y="327"/>
                    </a:lnTo>
                    <a:lnTo>
                      <a:pt x="36" y="299"/>
                    </a:lnTo>
                    <a:lnTo>
                      <a:pt x="30" y="244"/>
                    </a:lnTo>
                    <a:lnTo>
                      <a:pt x="24" y="191"/>
                    </a:lnTo>
                    <a:lnTo>
                      <a:pt x="17" y="144"/>
                    </a:lnTo>
                    <a:lnTo>
                      <a:pt x="11" y="108"/>
                    </a:lnTo>
                    <a:lnTo>
                      <a:pt x="6" y="83"/>
                    </a:lnTo>
                    <a:lnTo>
                      <a:pt x="5" y="73"/>
                    </a:lnTo>
                    <a:lnTo>
                      <a:pt x="3" y="64"/>
                    </a:lnTo>
                    <a:lnTo>
                      <a:pt x="1" y="56"/>
                    </a:lnTo>
                    <a:lnTo>
                      <a:pt x="1" y="48"/>
                    </a:lnTo>
                    <a:lnTo>
                      <a:pt x="0" y="41"/>
                    </a:lnTo>
                    <a:lnTo>
                      <a:pt x="1" y="34"/>
                    </a:lnTo>
                    <a:lnTo>
                      <a:pt x="1" y="28"/>
                    </a:lnTo>
                    <a:lnTo>
                      <a:pt x="3" y="22"/>
                    </a:lnTo>
                    <a:lnTo>
                      <a:pt x="4" y="18"/>
                    </a:lnTo>
                    <a:lnTo>
                      <a:pt x="6" y="14"/>
                    </a:lnTo>
                    <a:lnTo>
                      <a:pt x="9" y="9"/>
                    </a:lnTo>
                    <a:lnTo>
                      <a:pt x="13" y="7"/>
                    </a:lnTo>
                    <a:lnTo>
                      <a:pt x="16" y="4"/>
                    </a:lnTo>
                    <a:lnTo>
                      <a:pt x="19" y="2"/>
                    </a:lnTo>
                    <a:lnTo>
                      <a:pt x="24" y="1"/>
                    </a:lnTo>
                    <a:lnTo>
                      <a:pt x="28" y="1"/>
                    </a:lnTo>
                    <a:lnTo>
                      <a:pt x="32" y="0"/>
                    </a:lnTo>
                    <a:lnTo>
                      <a:pt x="41" y="2"/>
                    </a:lnTo>
                    <a:lnTo>
                      <a:pt x="51" y="5"/>
                    </a:lnTo>
                    <a:lnTo>
                      <a:pt x="60" y="10"/>
                    </a:lnTo>
                    <a:lnTo>
                      <a:pt x="70" y="19"/>
                    </a:lnTo>
                    <a:lnTo>
                      <a:pt x="79" y="29"/>
                    </a:lnTo>
                    <a:lnTo>
                      <a:pt x="87" y="41"/>
                    </a:lnTo>
                    <a:lnTo>
                      <a:pt x="95" y="55"/>
                    </a:lnTo>
                    <a:lnTo>
                      <a:pt x="101" y="71"/>
                    </a:lnTo>
                    <a:lnTo>
                      <a:pt x="107" y="89"/>
                    </a:lnTo>
                    <a:lnTo>
                      <a:pt x="112" y="109"/>
                    </a:lnTo>
                    <a:lnTo>
                      <a:pt x="116" y="129"/>
                    </a:lnTo>
                    <a:lnTo>
                      <a:pt x="120" y="151"/>
                    </a:lnTo>
                    <a:lnTo>
                      <a:pt x="127" y="197"/>
                    </a:lnTo>
                    <a:lnTo>
                      <a:pt x="133" y="244"/>
                    </a:lnTo>
                    <a:lnTo>
                      <a:pt x="136" y="289"/>
                    </a:lnTo>
                    <a:lnTo>
                      <a:pt x="139" y="331"/>
                    </a:lnTo>
                    <a:lnTo>
                      <a:pt x="140" y="368"/>
                    </a:lnTo>
                    <a:lnTo>
                      <a:pt x="141" y="397"/>
                    </a:lnTo>
                    <a:lnTo>
                      <a:pt x="140" y="410"/>
                    </a:lnTo>
                    <a:lnTo>
                      <a:pt x="137" y="422"/>
                    </a:lnTo>
                    <a:lnTo>
                      <a:pt x="132" y="434"/>
                    </a:lnTo>
                    <a:lnTo>
                      <a:pt x="125" y="444"/>
                    </a:lnTo>
                    <a:lnTo>
                      <a:pt x="117" y="454"/>
                    </a:lnTo>
                    <a:lnTo>
                      <a:pt x="110" y="463"/>
                    </a:lnTo>
                    <a:lnTo>
                      <a:pt x="100" y="469"/>
                    </a:lnTo>
                    <a:lnTo>
                      <a:pt x="92" y="475"/>
                    </a:lnTo>
                    <a:lnTo>
                      <a:pt x="87" y="476"/>
                    </a:lnTo>
                    <a:lnTo>
                      <a:pt x="82" y="477"/>
                    </a:lnTo>
                    <a:lnTo>
                      <a:pt x="78" y="477"/>
                    </a:lnTo>
                    <a:lnTo>
                      <a:pt x="73" y="477"/>
                    </a:lnTo>
                    <a:lnTo>
                      <a:pt x="69" y="476"/>
                    </a:lnTo>
                    <a:lnTo>
                      <a:pt x="65" y="474"/>
                    </a:lnTo>
                    <a:lnTo>
                      <a:pt x="61" y="470"/>
                    </a:lnTo>
                    <a:lnTo>
                      <a:pt x="57" y="467"/>
                    </a:lnTo>
                    <a:lnTo>
                      <a:pt x="54" y="463"/>
                    </a:lnTo>
                    <a:lnTo>
                      <a:pt x="52" y="457"/>
                    </a:lnTo>
                    <a:lnTo>
                      <a:pt x="48" y="451"/>
                    </a:lnTo>
                    <a:lnTo>
                      <a:pt x="46" y="444"/>
                    </a:lnTo>
                    <a:lnTo>
                      <a:pt x="44" y="436"/>
                    </a:lnTo>
                    <a:lnTo>
                      <a:pt x="43" y="426"/>
                    </a:lnTo>
                    <a:lnTo>
                      <a:pt x="42" y="416"/>
                    </a:lnTo>
                    <a:lnTo>
                      <a:pt x="42" y="405"/>
                    </a:lnTo>
                    <a:close/>
                  </a:path>
                </a:pathLst>
              </a:custGeom>
              <a:solidFill>
                <a:srgbClr val="464b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6178680" y="5375520"/>
                <a:ext cx="39600" cy="126720"/>
              </a:xfrm>
              <a:custGeom>
                <a:avLst/>
                <a:gdLst/>
                <a:ahLst/>
                <a:rect l="l" t="t" r="r" b="b"/>
                <a:pathLst>
                  <a:path w="125" h="401">
                    <a:moveTo>
                      <a:pt x="38" y="343"/>
                    </a:moveTo>
                    <a:lnTo>
                      <a:pt x="38" y="321"/>
                    </a:lnTo>
                    <a:lnTo>
                      <a:pt x="37" y="300"/>
                    </a:lnTo>
                    <a:lnTo>
                      <a:pt x="35" y="277"/>
                    </a:lnTo>
                    <a:lnTo>
                      <a:pt x="33" y="253"/>
                    </a:lnTo>
                    <a:lnTo>
                      <a:pt x="28" y="207"/>
                    </a:lnTo>
                    <a:lnTo>
                      <a:pt x="21" y="162"/>
                    </a:lnTo>
                    <a:lnTo>
                      <a:pt x="15" y="124"/>
                    </a:lnTo>
                    <a:lnTo>
                      <a:pt x="9" y="91"/>
                    </a:lnTo>
                    <a:lnTo>
                      <a:pt x="5" y="71"/>
                    </a:lnTo>
                    <a:lnTo>
                      <a:pt x="4" y="63"/>
                    </a:lnTo>
                    <a:lnTo>
                      <a:pt x="1" y="48"/>
                    </a:lnTo>
                    <a:lnTo>
                      <a:pt x="0" y="35"/>
                    </a:lnTo>
                    <a:lnTo>
                      <a:pt x="2" y="24"/>
                    </a:lnTo>
                    <a:lnTo>
                      <a:pt x="4" y="16"/>
                    </a:lnTo>
                    <a:lnTo>
                      <a:pt x="6" y="12"/>
                    </a:lnTo>
                    <a:lnTo>
                      <a:pt x="8" y="9"/>
                    </a:lnTo>
                    <a:lnTo>
                      <a:pt x="11" y="7"/>
                    </a:lnTo>
                    <a:lnTo>
                      <a:pt x="15" y="5"/>
                    </a:lnTo>
                    <a:lnTo>
                      <a:pt x="21" y="2"/>
                    </a:lnTo>
                    <a:lnTo>
                      <a:pt x="29" y="0"/>
                    </a:lnTo>
                    <a:lnTo>
                      <a:pt x="36" y="3"/>
                    </a:lnTo>
                    <a:lnTo>
                      <a:pt x="45" y="5"/>
                    </a:lnTo>
                    <a:lnTo>
                      <a:pt x="54" y="10"/>
                    </a:lnTo>
                    <a:lnTo>
                      <a:pt x="62" y="17"/>
                    </a:lnTo>
                    <a:lnTo>
                      <a:pt x="71" y="25"/>
                    </a:lnTo>
                    <a:lnTo>
                      <a:pt x="78" y="35"/>
                    </a:lnTo>
                    <a:lnTo>
                      <a:pt x="85" y="47"/>
                    </a:lnTo>
                    <a:lnTo>
                      <a:pt x="90" y="61"/>
                    </a:lnTo>
                    <a:lnTo>
                      <a:pt x="96" y="76"/>
                    </a:lnTo>
                    <a:lnTo>
                      <a:pt x="100" y="92"/>
                    </a:lnTo>
                    <a:lnTo>
                      <a:pt x="103" y="110"/>
                    </a:lnTo>
                    <a:lnTo>
                      <a:pt x="108" y="128"/>
                    </a:lnTo>
                    <a:lnTo>
                      <a:pt x="113" y="167"/>
                    </a:lnTo>
                    <a:lnTo>
                      <a:pt x="118" y="206"/>
                    </a:lnTo>
                    <a:lnTo>
                      <a:pt x="122" y="243"/>
                    </a:lnTo>
                    <a:lnTo>
                      <a:pt x="124" y="279"/>
                    </a:lnTo>
                    <a:lnTo>
                      <a:pt x="125" y="310"/>
                    </a:lnTo>
                    <a:lnTo>
                      <a:pt x="125" y="335"/>
                    </a:lnTo>
                    <a:lnTo>
                      <a:pt x="124" y="345"/>
                    </a:lnTo>
                    <a:lnTo>
                      <a:pt x="122" y="356"/>
                    </a:lnTo>
                    <a:lnTo>
                      <a:pt x="117" y="365"/>
                    </a:lnTo>
                    <a:lnTo>
                      <a:pt x="112" y="374"/>
                    </a:lnTo>
                    <a:lnTo>
                      <a:pt x="105" y="383"/>
                    </a:lnTo>
                    <a:lnTo>
                      <a:pt x="98" y="389"/>
                    </a:lnTo>
                    <a:lnTo>
                      <a:pt x="90" y="395"/>
                    </a:lnTo>
                    <a:lnTo>
                      <a:pt x="82" y="399"/>
                    </a:lnTo>
                    <a:lnTo>
                      <a:pt x="74" y="401"/>
                    </a:lnTo>
                    <a:lnTo>
                      <a:pt x="65" y="401"/>
                    </a:lnTo>
                    <a:lnTo>
                      <a:pt x="62" y="400"/>
                    </a:lnTo>
                    <a:lnTo>
                      <a:pt x="59" y="399"/>
                    </a:lnTo>
                    <a:lnTo>
                      <a:pt x="55" y="397"/>
                    </a:lnTo>
                    <a:lnTo>
                      <a:pt x="52" y="394"/>
                    </a:lnTo>
                    <a:lnTo>
                      <a:pt x="49" y="390"/>
                    </a:lnTo>
                    <a:lnTo>
                      <a:pt x="46" y="386"/>
                    </a:lnTo>
                    <a:lnTo>
                      <a:pt x="44" y="381"/>
                    </a:lnTo>
                    <a:lnTo>
                      <a:pt x="42" y="375"/>
                    </a:lnTo>
                    <a:lnTo>
                      <a:pt x="41" y="369"/>
                    </a:lnTo>
                    <a:lnTo>
                      <a:pt x="40" y="361"/>
                    </a:lnTo>
                    <a:lnTo>
                      <a:pt x="38" y="353"/>
                    </a:lnTo>
                    <a:lnTo>
                      <a:pt x="38" y="343"/>
                    </a:lnTo>
                    <a:close/>
                  </a:path>
                </a:pathLst>
              </a:custGeom>
              <a:solidFill>
                <a:srgbClr val="4a4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6181560" y="5383440"/>
                <a:ext cx="34920" cy="102960"/>
              </a:xfrm>
              <a:custGeom>
                <a:avLst/>
                <a:gdLst/>
                <a:ahLst/>
                <a:rect l="l" t="t" r="r" b="b"/>
                <a:pathLst>
                  <a:path w="108" h="324">
                    <a:moveTo>
                      <a:pt x="31" y="276"/>
                    </a:moveTo>
                    <a:lnTo>
                      <a:pt x="30" y="241"/>
                    </a:lnTo>
                    <a:lnTo>
                      <a:pt x="27" y="205"/>
                    </a:lnTo>
                    <a:lnTo>
                      <a:pt x="22" y="167"/>
                    </a:lnTo>
                    <a:lnTo>
                      <a:pt x="17" y="131"/>
                    </a:lnTo>
                    <a:lnTo>
                      <a:pt x="11" y="100"/>
                    </a:lnTo>
                    <a:lnTo>
                      <a:pt x="7" y="74"/>
                    </a:lnTo>
                    <a:lnTo>
                      <a:pt x="5" y="58"/>
                    </a:lnTo>
                    <a:lnTo>
                      <a:pt x="3" y="51"/>
                    </a:lnTo>
                    <a:lnTo>
                      <a:pt x="1" y="39"/>
                    </a:lnTo>
                    <a:lnTo>
                      <a:pt x="0" y="29"/>
                    </a:lnTo>
                    <a:lnTo>
                      <a:pt x="0" y="20"/>
                    </a:lnTo>
                    <a:lnTo>
                      <a:pt x="2" y="13"/>
                    </a:lnTo>
                    <a:lnTo>
                      <a:pt x="6" y="8"/>
                    </a:lnTo>
                    <a:lnTo>
                      <a:pt x="10" y="4"/>
                    </a:lnTo>
                    <a:lnTo>
                      <a:pt x="16" y="2"/>
                    </a:lnTo>
                    <a:lnTo>
                      <a:pt x="22" y="0"/>
                    </a:lnTo>
                    <a:lnTo>
                      <a:pt x="30" y="2"/>
                    </a:lnTo>
                    <a:lnTo>
                      <a:pt x="37" y="4"/>
                    </a:lnTo>
                    <a:lnTo>
                      <a:pt x="45" y="8"/>
                    </a:lnTo>
                    <a:lnTo>
                      <a:pt x="52" y="13"/>
                    </a:lnTo>
                    <a:lnTo>
                      <a:pt x="59" y="20"/>
                    </a:lnTo>
                    <a:lnTo>
                      <a:pt x="66" y="29"/>
                    </a:lnTo>
                    <a:lnTo>
                      <a:pt x="72" y="38"/>
                    </a:lnTo>
                    <a:lnTo>
                      <a:pt x="77" y="49"/>
                    </a:lnTo>
                    <a:lnTo>
                      <a:pt x="85" y="74"/>
                    </a:lnTo>
                    <a:lnTo>
                      <a:pt x="91" y="103"/>
                    </a:lnTo>
                    <a:lnTo>
                      <a:pt x="97" y="133"/>
                    </a:lnTo>
                    <a:lnTo>
                      <a:pt x="101" y="166"/>
                    </a:lnTo>
                    <a:lnTo>
                      <a:pt x="103" y="196"/>
                    </a:lnTo>
                    <a:lnTo>
                      <a:pt x="105" y="224"/>
                    </a:lnTo>
                    <a:lnTo>
                      <a:pt x="106" y="249"/>
                    </a:lnTo>
                    <a:lnTo>
                      <a:pt x="108" y="268"/>
                    </a:lnTo>
                    <a:lnTo>
                      <a:pt x="106" y="277"/>
                    </a:lnTo>
                    <a:lnTo>
                      <a:pt x="104" y="286"/>
                    </a:lnTo>
                    <a:lnTo>
                      <a:pt x="100" y="294"/>
                    </a:lnTo>
                    <a:lnTo>
                      <a:pt x="95" y="302"/>
                    </a:lnTo>
                    <a:lnTo>
                      <a:pt x="89" y="308"/>
                    </a:lnTo>
                    <a:lnTo>
                      <a:pt x="83" y="315"/>
                    </a:lnTo>
                    <a:lnTo>
                      <a:pt x="76" y="319"/>
                    </a:lnTo>
                    <a:lnTo>
                      <a:pt x="69" y="322"/>
                    </a:lnTo>
                    <a:lnTo>
                      <a:pt x="61" y="324"/>
                    </a:lnTo>
                    <a:lnTo>
                      <a:pt x="55" y="324"/>
                    </a:lnTo>
                    <a:lnTo>
                      <a:pt x="51" y="323"/>
                    </a:lnTo>
                    <a:lnTo>
                      <a:pt x="48" y="322"/>
                    </a:lnTo>
                    <a:lnTo>
                      <a:pt x="45" y="320"/>
                    </a:lnTo>
                    <a:lnTo>
                      <a:pt x="43" y="318"/>
                    </a:lnTo>
                    <a:lnTo>
                      <a:pt x="39" y="315"/>
                    </a:lnTo>
                    <a:lnTo>
                      <a:pt x="37" y="311"/>
                    </a:lnTo>
                    <a:lnTo>
                      <a:pt x="35" y="307"/>
                    </a:lnTo>
                    <a:lnTo>
                      <a:pt x="34" y="303"/>
                    </a:lnTo>
                    <a:lnTo>
                      <a:pt x="31" y="291"/>
                    </a:lnTo>
                    <a:lnTo>
                      <a:pt x="31" y="276"/>
                    </a:lnTo>
                    <a:close/>
                  </a:path>
                </a:pathLst>
              </a:custGeom>
              <a:solidFill>
                <a:srgbClr val="4e53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6184800" y="5391360"/>
                <a:ext cx="30240" cy="79200"/>
              </a:xfrm>
              <a:custGeom>
                <a:avLst/>
                <a:gdLst/>
                <a:ahLst/>
                <a:rect l="l" t="t" r="r" b="b"/>
                <a:pathLst>
                  <a:path w="92" h="248">
                    <a:moveTo>
                      <a:pt x="27" y="211"/>
                    </a:moveTo>
                    <a:lnTo>
                      <a:pt x="26" y="184"/>
                    </a:lnTo>
                    <a:lnTo>
                      <a:pt x="24" y="156"/>
                    </a:lnTo>
                    <a:lnTo>
                      <a:pt x="20" y="127"/>
                    </a:lnTo>
                    <a:lnTo>
                      <a:pt x="15" y="99"/>
                    </a:lnTo>
                    <a:lnTo>
                      <a:pt x="11" y="75"/>
                    </a:lnTo>
                    <a:lnTo>
                      <a:pt x="7" y="55"/>
                    </a:lnTo>
                    <a:lnTo>
                      <a:pt x="5" y="42"/>
                    </a:lnTo>
                    <a:lnTo>
                      <a:pt x="4" y="37"/>
                    </a:lnTo>
                    <a:lnTo>
                      <a:pt x="0" y="28"/>
                    </a:lnTo>
                    <a:lnTo>
                      <a:pt x="0" y="21"/>
                    </a:lnTo>
                    <a:lnTo>
                      <a:pt x="0" y="14"/>
                    </a:lnTo>
                    <a:lnTo>
                      <a:pt x="2" y="9"/>
                    </a:lnTo>
                    <a:lnTo>
                      <a:pt x="6" y="5"/>
                    </a:lnTo>
                    <a:lnTo>
                      <a:pt x="10" y="3"/>
                    </a:lnTo>
                    <a:lnTo>
                      <a:pt x="14" y="0"/>
                    </a:lnTo>
                    <a:lnTo>
                      <a:pt x="21" y="0"/>
                    </a:lnTo>
                    <a:lnTo>
                      <a:pt x="26" y="1"/>
                    </a:lnTo>
                    <a:lnTo>
                      <a:pt x="33" y="4"/>
                    </a:lnTo>
                    <a:lnTo>
                      <a:pt x="39" y="6"/>
                    </a:lnTo>
                    <a:lnTo>
                      <a:pt x="46" y="10"/>
                    </a:lnTo>
                    <a:lnTo>
                      <a:pt x="52" y="15"/>
                    </a:lnTo>
                    <a:lnTo>
                      <a:pt x="58" y="22"/>
                    </a:lnTo>
                    <a:lnTo>
                      <a:pt x="63" y="30"/>
                    </a:lnTo>
                    <a:lnTo>
                      <a:pt x="67" y="37"/>
                    </a:lnTo>
                    <a:lnTo>
                      <a:pt x="74" y="57"/>
                    </a:lnTo>
                    <a:lnTo>
                      <a:pt x="79" y="79"/>
                    </a:lnTo>
                    <a:lnTo>
                      <a:pt x="83" y="102"/>
                    </a:lnTo>
                    <a:lnTo>
                      <a:pt x="87" y="127"/>
                    </a:lnTo>
                    <a:lnTo>
                      <a:pt x="90" y="149"/>
                    </a:lnTo>
                    <a:lnTo>
                      <a:pt x="91" y="171"/>
                    </a:lnTo>
                    <a:lnTo>
                      <a:pt x="92" y="190"/>
                    </a:lnTo>
                    <a:lnTo>
                      <a:pt x="92" y="206"/>
                    </a:lnTo>
                    <a:lnTo>
                      <a:pt x="91" y="212"/>
                    </a:lnTo>
                    <a:lnTo>
                      <a:pt x="89" y="219"/>
                    </a:lnTo>
                    <a:lnTo>
                      <a:pt x="86" y="225"/>
                    </a:lnTo>
                    <a:lnTo>
                      <a:pt x="82" y="230"/>
                    </a:lnTo>
                    <a:lnTo>
                      <a:pt x="77" y="236"/>
                    </a:lnTo>
                    <a:lnTo>
                      <a:pt x="72" y="240"/>
                    </a:lnTo>
                    <a:lnTo>
                      <a:pt x="66" y="243"/>
                    </a:lnTo>
                    <a:lnTo>
                      <a:pt x="60" y="247"/>
                    </a:lnTo>
                    <a:lnTo>
                      <a:pt x="54" y="248"/>
                    </a:lnTo>
                    <a:lnTo>
                      <a:pt x="48" y="248"/>
                    </a:lnTo>
                    <a:lnTo>
                      <a:pt x="42" y="246"/>
                    </a:lnTo>
                    <a:lnTo>
                      <a:pt x="38" y="242"/>
                    </a:lnTo>
                    <a:lnTo>
                      <a:pt x="34" y="238"/>
                    </a:lnTo>
                    <a:lnTo>
                      <a:pt x="31" y="230"/>
                    </a:lnTo>
                    <a:lnTo>
                      <a:pt x="28" y="222"/>
                    </a:lnTo>
                    <a:lnTo>
                      <a:pt x="27" y="211"/>
                    </a:lnTo>
                    <a:close/>
                  </a:path>
                </a:pathLst>
              </a:custGeom>
              <a:solidFill>
                <a:srgbClr val="5257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6189480" y="5399280"/>
                <a:ext cx="24120" cy="55440"/>
              </a:xfrm>
              <a:custGeom>
                <a:avLst/>
                <a:gdLst/>
                <a:ahLst/>
                <a:rect l="l" t="t" r="r" b="b"/>
                <a:pathLst>
                  <a:path w="76" h="172">
                    <a:moveTo>
                      <a:pt x="2" y="26"/>
                    </a:moveTo>
                    <a:lnTo>
                      <a:pt x="3" y="29"/>
                    </a:lnTo>
                    <a:lnTo>
                      <a:pt x="6" y="39"/>
                    </a:lnTo>
                    <a:lnTo>
                      <a:pt x="9" y="52"/>
                    </a:lnTo>
                    <a:lnTo>
                      <a:pt x="13" y="69"/>
                    </a:lnTo>
                    <a:lnTo>
                      <a:pt x="17" y="88"/>
                    </a:lnTo>
                    <a:lnTo>
                      <a:pt x="21" y="107"/>
                    </a:lnTo>
                    <a:lnTo>
                      <a:pt x="23" y="127"/>
                    </a:lnTo>
                    <a:lnTo>
                      <a:pt x="24" y="145"/>
                    </a:lnTo>
                    <a:lnTo>
                      <a:pt x="25" y="153"/>
                    </a:lnTo>
                    <a:lnTo>
                      <a:pt x="26" y="159"/>
                    </a:lnTo>
                    <a:lnTo>
                      <a:pt x="29" y="164"/>
                    </a:lnTo>
                    <a:lnTo>
                      <a:pt x="33" y="168"/>
                    </a:lnTo>
                    <a:lnTo>
                      <a:pt x="36" y="170"/>
                    </a:lnTo>
                    <a:lnTo>
                      <a:pt x="41" y="171"/>
                    </a:lnTo>
                    <a:lnTo>
                      <a:pt x="45" y="172"/>
                    </a:lnTo>
                    <a:lnTo>
                      <a:pt x="50" y="171"/>
                    </a:lnTo>
                    <a:lnTo>
                      <a:pt x="55" y="169"/>
                    </a:lnTo>
                    <a:lnTo>
                      <a:pt x="60" y="167"/>
                    </a:lnTo>
                    <a:lnTo>
                      <a:pt x="64" y="163"/>
                    </a:lnTo>
                    <a:lnTo>
                      <a:pt x="68" y="160"/>
                    </a:lnTo>
                    <a:lnTo>
                      <a:pt x="71" y="156"/>
                    </a:lnTo>
                    <a:lnTo>
                      <a:pt x="74" y="151"/>
                    </a:lnTo>
                    <a:lnTo>
                      <a:pt x="76" y="147"/>
                    </a:lnTo>
                    <a:lnTo>
                      <a:pt x="76" y="143"/>
                    </a:lnTo>
                    <a:lnTo>
                      <a:pt x="76" y="132"/>
                    </a:lnTo>
                    <a:lnTo>
                      <a:pt x="75" y="118"/>
                    </a:lnTo>
                    <a:lnTo>
                      <a:pt x="74" y="103"/>
                    </a:lnTo>
                    <a:lnTo>
                      <a:pt x="71" y="88"/>
                    </a:lnTo>
                    <a:lnTo>
                      <a:pt x="69" y="70"/>
                    </a:lnTo>
                    <a:lnTo>
                      <a:pt x="66" y="54"/>
                    </a:lnTo>
                    <a:lnTo>
                      <a:pt x="62" y="39"/>
                    </a:lnTo>
                    <a:lnTo>
                      <a:pt x="56" y="26"/>
                    </a:lnTo>
                    <a:lnTo>
                      <a:pt x="53" y="21"/>
                    </a:lnTo>
                    <a:lnTo>
                      <a:pt x="49" y="15"/>
                    </a:lnTo>
                    <a:lnTo>
                      <a:pt x="44" y="11"/>
                    </a:lnTo>
                    <a:lnTo>
                      <a:pt x="39" y="8"/>
                    </a:lnTo>
                    <a:lnTo>
                      <a:pt x="34" y="5"/>
                    </a:lnTo>
                    <a:lnTo>
                      <a:pt x="28" y="2"/>
                    </a:lnTo>
                    <a:lnTo>
                      <a:pt x="23" y="1"/>
                    </a:lnTo>
                    <a:lnTo>
                      <a:pt x="18" y="0"/>
                    </a:lnTo>
                    <a:lnTo>
                      <a:pt x="13" y="0"/>
                    </a:lnTo>
                    <a:lnTo>
                      <a:pt x="9" y="1"/>
                    </a:lnTo>
                    <a:lnTo>
                      <a:pt x="6" y="4"/>
                    </a:lnTo>
                    <a:lnTo>
                      <a:pt x="3" y="6"/>
                    </a:lnTo>
                    <a:lnTo>
                      <a:pt x="1" y="10"/>
                    </a:lnTo>
                    <a:lnTo>
                      <a:pt x="0" y="14"/>
                    </a:lnTo>
                    <a:lnTo>
                      <a:pt x="0" y="20"/>
                    </a:lnTo>
                    <a:lnTo>
                      <a:pt x="2" y="26"/>
                    </a:lnTo>
                    <a:close/>
                  </a:path>
                </a:pathLst>
              </a:custGeom>
              <a:solidFill>
                <a:srgbClr val="565c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6014880" y="5521320"/>
                <a:ext cx="20880" cy="9720"/>
              </a:xfrm>
              <a:custGeom>
                <a:avLst/>
                <a:gdLst/>
                <a:ahLst/>
                <a:rect l="l" t="t" r="r" b="b"/>
                <a:pathLst>
                  <a:path w="65" h="31">
                    <a:moveTo>
                      <a:pt x="0" y="27"/>
                    </a:moveTo>
                    <a:lnTo>
                      <a:pt x="58" y="0"/>
                    </a:lnTo>
                    <a:lnTo>
                      <a:pt x="65" y="14"/>
                    </a:lnTo>
                    <a:lnTo>
                      <a:pt x="3" y="31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dbdb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6013440" y="5538960"/>
                <a:ext cx="22320" cy="12600"/>
              </a:xfrm>
              <a:custGeom>
                <a:avLst/>
                <a:gdLst/>
                <a:ahLst/>
                <a:rect l="l" t="t" r="r" b="b"/>
                <a:pathLst>
                  <a:path w="71" h="40">
                    <a:moveTo>
                      <a:pt x="0" y="11"/>
                    </a:moveTo>
                    <a:lnTo>
                      <a:pt x="60" y="40"/>
                    </a:lnTo>
                    <a:lnTo>
                      <a:pt x="71" y="15"/>
                    </a:lnTo>
                    <a:lnTo>
                      <a:pt x="2" y="0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908f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5570640" y="4946760"/>
                <a:ext cx="129960" cy="401760"/>
              </a:xfrm>
              <a:custGeom>
                <a:avLst/>
                <a:gdLst/>
                <a:ahLst/>
                <a:rect l="l" t="t" r="r" b="b"/>
                <a:pathLst>
                  <a:path w="410" h="1267">
                    <a:moveTo>
                      <a:pt x="28" y="1112"/>
                    </a:moveTo>
                    <a:lnTo>
                      <a:pt x="39" y="1146"/>
                    </a:lnTo>
                    <a:lnTo>
                      <a:pt x="51" y="1177"/>
                    </a:lnTo>
                    <a:lnTo>
                      <a:pt x="58" y="1191"/>
                    </a:lnTo>
                    <a:lnTo>
                      <a:pt x="63" y="1204"/>
                    </a:lnTo>
                    <a:lnTo>
                      <a:pt x="70" y="1215"/>
                    </a:lnTo>
                    <a:lnTo>
                      <a:pt x="76" y="1225"/>
                    </a:lnTo>
                    <a:lnTo>
                      <a:pt x="84" y="1235"/>
                    </a:lnTo>
                    <a:lnTo>
                      <a:pt x="90" y="1243"/>
                    </a:lnTo>
                    <a:lnTo>
                      <a:pt x="98" y="1250"/>
                    </a:lnTo>
                    <a:lnTo>
                      <a:pt x="105" y="1257"/>
                    </a:lnTo>
                    <a:lnTo>
                      <a:pt x="112" y="1261"/>
                    </a:lnTo>
                    <a:lnTo>
                      <a:pt x="119" y="1264"/>
                    </a:lnTo>
                    <a:lnTo>
                      <a:pt x="128" y="1266"/>
                    </a:lnTo>
                    <a:lnTo>
                      <a:pt x="135" y="1267"/>
                    </a:lnTo>
                    <a:lnTo>
                      <a:pt x="140" y="1267"/>
                    </a:lnTo>
                    <a:lnTo>
                      <a:pt x="152" y="1267"/>
                    </a:lnTo>
                    <a:lnTo>
                      <a:pt x="169" y="1267"/>
                    </a:lnTo>
                    <a:lnTo>
                      <a:pt x="188" y="1267"/>
                    </a:lnTo>
                    <a:lnTo>
                      <a:pt x="209" y="1267"/>
                    </a:lnTo>
                    <a:lnTo>
                      <a:pt x="226" y="1267"/>
                    </a:lnTo>
                    <a:lnTo>
                      <a:pt x="239" y="1267"/>
                    </a:lnTo>
                    <a:lnTo>
                      <a:pt x="245" y="1267"/>
                    </a:lnTo>
                    <a:lnTo>
                      <a:pt x="252" y="1267"/>
                    </a:lnTo>
                    <a:lnTo>
                      <a:pt x="261" y="1264"/>
                    </a:lnTo>
                    <a:lnTo>
                      <a:pt x="269" y="1261"/>
                    </a:lnTo>
                    <a:lnTo>
                      <a:pt x="277" y="1256"/>
                    </a:lnTo>
                    <a:lnTo>
                      <a:pt x="286" y="1248"/>
                    </a:lnTo>
                    <a:lnTo>
                      <a:pt x="293" y="1239"/>
                    </a:lnTo>
                    <a:lnTo>
                      <a:pt x="301" y="1230"/>
                    </a:lnTo>
                    <a:lnTo>
                      <a:pt x="308" y="1218"/>
                    </a:lnTo>
                    <a:lnTo>
                      <a:pt x="316" y="1206"/>
                    </a:lnTo>
                    <a:lnTo>
                      <a:pt x="323" y="1192"/>
                    </a:lnTo>
                    <a:lnTo>
                      <a:pt x="330" y="1176"/>
                    </a:lnTo>
                    <a:lnTo>
                      <a:pt x="336" y="1159"/>
                    </a:lnTo>
                    <a:lnTo>
                      <a:pt x="343" y="1142"/>
                    </a:lnTo>
                    <a:lnTo>
                      <a:pt x="349" y="1123"/>
                    </a:lnTo>
                    <a:lnTo>
                      <a:pt x="356" y="1103"/>
                    </a:lnTo>
                    <a:lnTo>
                      <a:pt x="361" y="1082"/>
                    </a:lnTo>
                    <a:lnTo>
                      <a:pt x="372" y="1037"/>
                    </a:lnTo>
                    <a:lnTo>
                      <a:pt x="382" y="988"/>
                    </a:lnTo>
                    <a:lnTo>
                      <a:pt x="389" y="936"/>
                    </a:lnTo>
                    <a:lnTo>
                      <a:pt x="397" y="880"/>
                    </a:lnTo>
                    <a:lnTo>
                      <a:pt x="402" y="821"/>
                    </a:lnTo>
                    <a:lnTo>
                      <a:pt x="407" y="761"/>
                    </a:lnTo>
                    <a:lnTo>
                      <a:pt x="409" y="697"/>
                    </a:lnTo>
                    <a:lnTo>
                      <a:pt x="410" y="632"/>
                    </a:lnTo>
                    <a:lnTo>
                      <a:pt x="409" y="569"/>
                    </a:lnTo>
                    <a:lnTo>
                      <a:pt x="407" y="505"/>
                    </a:lnTo>
                    <a:lnTo>
                      <a:pt x="402" y="444"/>
                    </a:lnTo>
                    <a:lnTo>
                      <a:pt x="397" y="387"/>
                    </a:lnTo>
                    <a:lnTo>
                      <a:pt x="389" y="331"/>
                    </a:lnTo>
                    <a:lnTo>
                      <a:pt x="382" y="279"/>
                    </a:lnTo>
                    <a:lnTo>
                      <a:pt x="372" y="231"/>
                    </a:lnTo>
                    <a:lnTo>
                      <a:pt x="361" y="185"/>
                    </a:lnTo>
                    <a:lnTo>
                      <a:pt x="356" y="165"/>
                    </a:lnTo>
                    <a:lnTo>
                      <a:pt x="349" y="144"/>
                    </a:lnTo>
                    <a:lnTo>
                      <a:pt x="343" y="126"/>
                    </a:lnTo>
                    <a:lnTo>
                      <a:pt x="336" y="109"/>
                    </a:lnTo>
                    <a:lnTo>
                      <a:pt x="330" y="91"/>
                    </a:lnTo>
                    <a:lnTo>
                      <a:pt x="323" y="76"/>
                    </a:lnTo>
                    <a:lnTo>
                      <a:pt x="316" y="62"/>
                    </a:lnTo>
                    <a:lnTo>
                      <a:pt x="308" y="50"/>
                    </a:lnTo>
                    <a:lnTo>
                      <a:pt x="301" y="38"/>
                    </a:lnTo>
                    <a:lnTo>
                      <a:pt x="293" y="29"/>
                    </a:lnTo>
                    <a:lnTo>
                      <a:pt x="286" y="20"/>
                    </a:lnTo>
                    <a:lnTo>
                      <a:pt x="277" y="12"/>
                    </a:lnTo>
                    <a:lnTo>
                      <a:pt x="269" y="7"/>
                    </a:lnTo>
                    <a:lnTo>
                      <a:pt x="261" y="3"/>
                    </a:lnTo>
                    <a:lnTo>
                      <a:pt x="252" y="1"/>
                    </a:lnTo>
                    <a:lnTo>
                      <a:pt x="245" y="0"/>
                    </a:lnTo>
                    <a:lnTo>
                      <a:pt x="238" y="0"/>
                    </a:lnTo>
                    <a:lnTo>
                      <a:pt x="225" y="0"/>
                    </a:lnTo>
                    <a:lnTo>
                      <a:pt x="207" y="0"/>
                    </a:lnTo>
                    <a:lnTo>
                      <a:pt x="186" y="0"/>
                    </a:lnTo>
                    <a:lnTo>
                      <a:pt x="166" y="0"/>
                    </a:lnTo>
                    <a:lnTo>
                      <a:pt x="147" y="0"/>
                    </a:lnTo>
                    <a:lnTo>
                      <a:pt x="135" y="0"/>
                    </a:lnTo>
                    <a:lnTo>
                      <a:pt x="130" y="0"/>
                    </a:lnTo>
                    <a:lnTo>
                      <a:pt x="120" y="2"/>
                    </a:lnTo>
                    <a:lnTo>
                      <a:pt x="112" y="5"/>
                    </a:lnTo>
                    <a:lnTo>
                      <a:pt x="102" y="10"/>
                    </a:lnTo>
                    <a:lnTo>
                      <a:pt x="93" y="18"/>
                    </a:lnTo>
                    <a:lnTo>
                      <a:pt x="84" y="27"/>
                    </a:lnTo>
                    <a:lnTo>
                      <a:pt x="75" y="37"/>
                    </a:lnTo>
                    <a:lnTo>
                      <a:pt x="67" y="50"/>
                    </a:lnTo>
                    <a:lnTo>
                      <a:pt x="59" y="64"/>
                    </a:lnTo>
                    <a:lnTo>
                      <a:pt x="51" y="79"/>
                    </a:lnTo>
                    <a:lnTo>
                      <a:pt x="44" y="97"/>
                    </a:lnTo>
                    <a:lnTo>
                      <a:pt x="36" y="116"/>
                    </a:lnTo>
                    <a:lnTo>
                      <a:pt x="30" y="136"/>
                    </a:lnTo>
                    <a:lnTo>
                      <a:pt x="22" y="157"/>
                    </a:lnTo>
                    <a:lnTo>
                      <a:pt x="16" y="180"/>
                    </a:lnTo>
                    <a:lnTo>
                      <a:pt x="10" y="205"/>
                    </a:lnTo>
                    <a:lnTo>
                      <a:pt x="5" y="230"/>
                    </a:lnTo>
                    <a:lnTo>
                      <a:pt x="3" y="240"/>
                    </a:lnTo>
                    <a:lnTo>
                      <a:pt x="1" y="251"/>
                    </a:lnTo>
                    <a:lnTo>
                      <a:pt x="0" y="262"/>
                    </a:lnTo>
                    <a:lnTo>
                      <a:pt x="0" y="273"/>
                    </a:lnTo>
                    <a:lnTo>
                      <a:pt x="1" y="295"/>
                    </a:lnTo>
                    <a:lnTo>
                      <a:pt x="5" y="318"/>
                    </a:lnTo>
                    <a:lnTo>
                      <a:pt x="10" y="342"/>
                    </a:lnTo>
                    <a:lnTo>
                      <a:pt x="16" y="366"/>
                    </a:lnTo>
                    <a:lnTo>
                      <a:pt x="23" y="390"/>
                    </a:lnTo>
                    <a:lnTo>
                      <a:pt x="31" y="415"/>
                    </a:lnTo>
                    <a:lnTo>
                      <a:pt x="47" y="467"/>
                    </a:lnTo>
                    <a:lnTo>
                      <a:pt x="61" y="521"/>
                    </a:lnTo>
                    <a:lnTo>
                      <a:pt x="67" y="548"/>
                    </a:lnTo>
                    <a:lnTo>
                      <a:pt x="72" y="576"/>
                    </a:lnTo>
                    <a:lnTo>
                      <a:pt x="75" y="604"/>
                    </a:lnTo>
                    <a:lnTo>
                      <a:pt x="76" y="632"/>
                    </a:lnTo>
                    <a:lnTo>
                      <a:pt x="75" y="669"/>
                    </a:lnTo>
                    <a:lnTo>
                      <a:pt x="73" y="704"/>
                    </a:lnTo>
                    <a:lnTo>
                      <a:pt x="68" y="738"/>
                    </a:lnTo>
                    <a:lnTo>
                      <a:pt x="63" y="773"/>
                    </a:lnTo>
                    <a:lnTo>
                      <a:pt x="51" y="839"/>
                    </a:lnTo>
                    <a:lnTo>
                      <a:pt x="38" y="901"/>
                    </a:lnTo>
                    <a:lnTo>
                      <a:pt x="33" y="932"/>
                    </a:lnTo>
                    <a:lnTo>
                      <a:pt x="27" y="961"/>
                    </a:lnTo>
                    <a:lnTo>
                      <a:pt x="23" y="989"/>
                    </a:lnTo>
                    <a:lnTo>
                      <a:pt x="21" y="1016"/>
                    </a:lnTo>
                    <a:lnTo>
                      <a:pt x="20" y="1042"/>
                    </a:lnTo>
                    <a:lnTo>
                      <a:pt x="20" y="1067"/>
                    </a:lnTo>
                    <a:lnTo>
                      <a:pt x="22" y="1078"/>
                    </a:lnTo>
                    <a:lnTo>
                      <a:pt x="23" y="1090"/>
                    </a:lnTo>
                    <a:lnTo>
                      <a:pt x="26" y="1101"/>
                    </a:lnTo>
                    <a:lnTo>
                      <a:pt x="28" y="1112"/>
                    </a:lnTo>
                    <a:close/>
                  </a:path>
                </a:pathLst>
              </a:custGeom>
              <a:solidFill>
                <a:srgbClr val="3e43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5559480" y="4956120"/>
                <a:ext cx="101520" cy="382680"/>
              </a:xfrm>
              <a:custGeom>
                <a:avLst/>
                <a:gdLst/>
                <a:ahLst/>
                <a:rect l="l" t="t" r="r" b="b"/>
                <a:pathLst>
                  <a:path w="316" h="1204">
                    <a:moveTo>
                      <a:pt x="159" y="1204"/>
                    </a:moveTo>
                    <a:lnTo>
                      <a:pt x="164" y="1203"/>
                    </a:lnTo>
                    <a:lnTo>
                      <a:pt x="171" y="1202"/>
                    </a:lnTo>
                    <a:lnTo>
                      <a:pt x="177" y="1200"/>
                    </a:lnTo>
                    <a:lnTo>
                      <a:pt x="182" y="1197"/>
                    </a:lnTo>
                    <a:lnTo>
                      <a:pt x="189" y="1193"/>
                    </a:lnTo>
                    <a:lnTo>
                      <a:pt x="194" y="1188"/>
                    </a:lnTo>
                    <a:lnTo>
                      <a:pt x="201" y="1183"/>
                    </a:lnTo>
                    <a:lnTo>
                      <a:pt x="206" y="1176"/>
                    </a:lnTo>
                    <a:lnTo>
                      <a:pt x="217" y="1162"/>
                    </a:lnTo>
                    <a:lnTo>
                      <a:pt x="228" y="1144"/>
                    </a:lnTo>
                    <a:lnTo>
                      <a:pt x="239" y="1123"/>
                    </a:lnTo>
                    <a:lnTo>
                      <a:pt x="248" y="1100"/>
                    </a:lnTo>
                    <a:lnTo>
                      <a:pt x="257" y="1075"/>
                    </a:lnTo>
                    <a:lnTo>
                      <a:pt x="266" y="1046"/>
                    </a:lnTo>
                    <a:lnTo>
                      <a:pt x="274" y="1016"/>
                    </a:lnTo>
                    <a:lnTo>
                      <a:pt x="282" y="984"/>
                    </a:lnTo>
                    <a:lnTo>
                      <a:pt x="288" y="949"/>
                    </a:lnTo>
                    <a:lnTo>
                      <a:pt x="295" y="914"/>
                    </a:lnTo>
                    <a:lnTo>
                      <a:pt x="299" y="875"/>
                    </a:lnTo>
                    <a:lnTo>
                      <a:pt x="305" y="836"/>
                    </a:lnTo>
                    <a:lnTo>
                      <a:pt x="308" y="809"/>
                    </a:lnTo>
                    <a:lnTo>
                      <a:pt x="310" y="781"/>
                    </a:lnTo>
                    <a:lnTo>
                      <a:pt x="312" y="752"/>
                    </a:lnTo>
                    <a:lnTo>
                      <a:pt x="314" y="722"/>
                    </a:lnTo>
                    <a:lnTo>
                      <a:pt x="315" y="693"/>
                    </a:lnTo>
                    <a:lnTo>
                      <a:pt x="316" y="663"/>
                    </a:lnTo>
                    <a:lnTo>
                      <a:pt x="316" y="632"/>
                    </a:lnTo>
                    <a:lnTo>
                      <a:pt x="316" y="600"/>
                    </a:lnTo>
                    <a:lnTo>
                      <a:pt x="315" y="540"/>
                    </a:lnTo>
                    <a:lnTo>
                      <a:pt x="313" y="479"/>
                    </a:lnTo>
                    <a:lnTo>
                      <a:pt x="310" y="422"/>
                    </a:lnTo>
                    <a:lnTo>
                      <a:pt x="305" y="367"/>
                    </a:lnTo>
                    <a:lnTo>
                      <a:pt x="298" y="314"/>
                    </a:lnTo>
                    <a:lnTo>
                      <a:pt x="290" y="266"/>
                    </a:lnTo>
                    <a:lnTo>
                      <a:pt x="281" y="219"/>
                    </a:lnTo>
                    <a:lnTo>
                      <a:pt x="271" y="176"/>
                    </a:lnTo>
                    <a:lnTo>
                      <a:pt x="266" y="157"/>
                    </a:lnTo>
                    <a:lnTo>
                      <a:pt x="259" y="137"/>
                    </a:lnTo>
                    <a:lnTo>
                      <a:pt x="254" y="120"/>
                    </a:lnTo>
                    <a:lnTo>
                      <a:pt x="247" y="103"/>
                    </a:lnTo>
                    <a:lnTo>
                      <a:pt x="241" y="87"/>
                    </a:lnTo>
                    <a:lnTo>
                      <a:pt x="234" y="72"/>
                    </a:lnTo>
                    <a:lnTo>
                      <a:pt x="228" y="59"/>
                    </a:lnTo>
                    <a:lnTo>
                      <a:pt x="220" y="47"/>
                    </a:lnTo>
                    <a:lnTo>
                      <a:pt x="214" y="37"/>
                    </a:lnTo>
                    <a:lnTo>
                      <a:pt x="206" y="27"/>
                    </a:lnTo>
                    <a:lnTo>
                      <a:pt x="199" y="19"/>
                    </a:lnTo>
                    <a:lnTo>
                      <a:pt x="191" y="12"/>
                    </a:lnTo>
                    <a:lnTo>
                      <a:pt x="182" y="7"/>
                    </a:lnTo>
                    <a:lnTo>
                      <a:pt x="175" y="3"/>
                    </a:lnTo>
                    <a:lnTo>
                      <a:pt x="166" y="1"/>
                    </a:lnTo>
                    <a:lnTo>
                      <a:pt x="159" y="0"/>
                    </a:lnTo>
                    <a:lnTo>
                      <a:pt x="150" y="1"/>
                    </a:lnTo>
                    <a:lnTo>
                      <a:pt x="142" y="3"/>
                    </a:lnTo>
                    <a:lnTo>
                      <a:pt x="135" y="7"/>
                    </a:lnTo>
                    <a:lnTo>
                      <a:pt x="126" y="12"/>
                    </a:lnTo>
                    <a:lnTo>
                      <a:pt x="119" y="19"/>
                    </a:lnTo>
                    <a:lnTo>
                      <a:pt x="111" y="27"/>
                    </a:lnTo>
                    <a:lnTo>
                      <a:pt x="105" y="37"/>
                    </a:lnTo>
                    <a:lnTo>
                      <a:pt x="97" y="47"/>
                    </a:lnTo>
                    <a:lnTo>
                      <a:pt x="91" y="59"/>
                    </a:lnTo>
                    <a:lnTo>
                      <a:pt x="83" y="72"/>
                    </a:lnTo>
                    <a:lnTo>
                      <a:pt x="77" y="87"/>
                    </a:lnTo>
                    <a:lnTo>
                      <a:pt x="70" y="103"/>
                    </a:lnTo>
                    <a:lnTo>
                      <a:pt x="64" y="120"/>
                    </a:lnTo>
                    <a:lnTo>
                      <a:pt x="58" y="137"/>
                    </a:lnTo>
                    <a:lnTo>
                      <a:pt x="52" y="157"/>
                    </a:lnTo>
                    <a:lnTo>
                      <a:pt x="46" y="176"/>
                    </a:lnTo>
                    <a:lnTo>
                      <a:pt x="37" y="219"/>
                    </a:lnTo>
                    <a:lnTo>
                      <a:pt x="27" y="266"/>
                    </a:lnTo>
                    <a:lnTo>
                      <a:pt x="19" y="314"/>
                    </a:lnTo>
                    <a:lnTo>
                      <a:pt x="13" y="367"/>
                    </a:lnTo>
                    <a:lnTo>
                      <a:pt x="7" y="422"/>
                    </a:lnTo>
                    <a:lnTo>
                      <a:pt x="3" y="479"/>
                    </a:lnTo>
                    <a:lnTo>
                      <a:pt x="1" y="540"/>
                    </a:lnTo>
                    <a:lnTo>
                      <a:pt x="0" y="600"/>
                    </a:lnTo>
                    <a:lnTo>
                      <a:pt x="1" y="662"/>
                    </a:lnTo>
                    <a:lnTo>
                      <a:pt x="3" y="722"/>
                    </a:lnTo>
                    <a:lnTo>
                      <a:pt x="7" y="781"/>
                    </a:lnTo>
                    <a:lnTo>
                      <a:pt x="13" y="836"/>
                    </a:lnTo>
                    <a:lnTo>
                      <a:pt x="19" y="889"/>
                    </a:lnTo>
                    <a:lnTo>
                      <a:pt x="27" y="938"/>
                    </a:lnTo>
                    <a:lnTo>
                      <a:pt x="37" y="985"/>
                    </a:lnTo>
                    <a:lnTo>
                      <a:pt x="46" y="1027"/>
                    </a:lnTo>
                    <a:lnTo>
                      <a:pt x="52" y="1048"/>
                    </a:lnTo>
                    <a:lnTo>
                      <a:pt x="58" y="1066"/>
                    </a:lnTo>
                    <a:lnTo>
                      <a:pt x="64" y="1084"/>
                    </a:lnTo>
                    <a:lnTo>
                      <a:pt x="70" y="1102"/>
                    </a:lnTo>
                    <a:lnTo>
                      <a:pt x="77" y="1117"/>
                    </a:lnTo>
                    <a:lnTo>
                      <a:pt x="83" y="1131"/>
                    </a:lnTo>
                    <a:lnTo>
                      <a:pt x="91" y="1145"/>
                    </a:lnTo>
                    <a:lnTo>
                      <a:pt x="97" y="1157"/>
                    </a:lnTo>
                    <a:lnTo>
                      <a:pt x="105" y="1167"/>
                    </a:lnTo>
                    <a:lnTo>
                      <a:pt x="111" y="1177"/>
                    </a:lnTo>
                    <a:lnTo>
                      <a:pt x="119" y="1185"/>
                    </a:lnTo>
                    <a:lnTo>
                      <a:pt x="126" y="1191"/>
                    </a:lnTo>
                    <a:lnTo>
                      <a:pt x="135" y="1197"/>
                    </a:lnTo>
                    <a:lnTo>
                      <a:pt x="142" y="1201"/>
                    </a:lnTo>
                    <a:lnTo>
                      <a:pt x="150" y="1203"/>
                    </a:lnTo>
                    <a:lnTo>
                      <a:pt x="159" y="1204"/>
                    </a:lnTo>
                    <a:close/>
                  </a:path>
                </a:pathLst>
              </a:custGeom>
              <a:solidFill>
                <a:srgbClr val="969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5559480" y="4956120"/>
                <a:ext cx="101520" cy="382680"/>
              </a:xfrm>
              <a:custGeom>
                <a:avLst/>
                <a:gdLst/>
                <a:ahLst/>
                <a:rect l="l" t="t" r="r" b="b"/>
                <a:pathLst>
                  <a:path w="316" h="1204">
                    <a:moveTo>
                      <a:pt x="159" y="1204"/>
                    </a:moveTo>
                    <a:lnTo>
                      <a:pt x="164" y="1203"/>
                    </a:lnTo>
                    <a:lnTo>
                      <a:pt x="171" y="1202"/>
                    </a:lnTo>
                    <a:lnTo>
                      <a:pt x="177" y="1200"/>
                    </a:lnTo>
                    <a:lnTo>
                      <a:pt x="182" y="1197"/>
                    </a:lnTo>
                    <a:lnTo>
                      <a:pt x="189" y="1193"/>
                    </a:lnTo>
                    <a:lnTo>
                      <a:pt x="194" y="1188"/>
                    </a:lnTo>
                    <a:lnTo>
                      <a:pt x="201" y="1183"/>
                    </a:lnTo>
                    <a:lnTo>
                      <a:pt x="206" y="1176"/>
                    </a:lnTo>
                    <a:lnTo>
                      <a:pt x="217" y="1162"/>
                    </a:lnTo>
                    <a:lnTo>
                      <a:pt x="228" y="1144"/>
                    </a:lnTo>
                    <a:lnTo>
                      <a:pt x="239" y="1123"/>
                    </a:lnTo>
                    <a:lnTo>
                      <a:pt x="248" y="1100"/>
                    </a:lnTo>
                    <a:lnTo>
                      <a:pt x="257" y="1075"/>
                    </a:lnTo>
                    <a:lnTo>
                      <a:pt x="266" y="1046"/>
                    </a:lnTo>
                    <a:lnTo>
                      <a:pt x="274" y="1016"/>
                    </a:lnTo>
                    <a:lnTo>
                      <a:pt x="282" y="984"/>
                    </a:lnTo>
                    <a:lnTo>
                      <a:pt x="288" y="949"/>
                    </a:lnTo>
                    <a:lnTo>
                      <a:pt x="295" y="914"/>
                    </a:lnTo>
                    <a:lnTo>
                      <a:pt x="299" y="875"/>
                    </a:lnTo>
                    <a:lnTo>
                      <a:pt x="305" y="836"/>
                    </a:lnTo>
                    <a:lnTo>
                      <a:pt x="308" y="809"/>
                    </a:lnTo>
                    <a:lnTo>
                      <a:pt x="310" y="781"/>
                    </a:lnTo>
                    <a:lnTo>
                      <a:pt x="312" y="752"/>
                    </a:lnTo>
                    <a:lnTo>
                      <a:pt x="314" y="722"/>
                    </a:lnTo>
                    <a:lnTo>
                      <a:pt x="315" y="693"/>
                    </a:lnTo>
                    <a:lnTo>
                      <a:pt x="316" y="663"/>
                    </a:lnTo>
                    <a:lnTo>
                      <a:pt x="316" y="632"/>
                    </a:lnTo>
                    <a:lnTo>
                      <a:pt x="316" y="600"/>
                    </a:lnTo>
                    <a:lnTo>
                      <a:pt x="315" y="540"/>
                    </a:lnTo>
                    <a:lnTo>
                      <a:pt x="313" y="479"/>
                    </a:lnTo>
                    <a:lnTo>
                      <a:pt x="310" y="422"/>
                    </a:lnTo>
                    <a:lnTo>
                      <a:pt x="305" y="367"/>
                    </a:lnTo>
                    <a:lnTo>
                      <a:pt x="298" y="314"/>
                    </a:lnTo>
                    <a:lnTo>
                      <a:pt x="290" y="266"/>
                    </a:lnTo>
                    <a:lnTo>
                      <a:pt x="281" y="219"/>
                    </a:lnTo>
                    <a:lnTo>
                      <a:pt x="271" y="176"/>
                    </a:lnTo>
                    <a:lnTo>
                      <a:pt x="266" y="157"/>
                    </a:lnTo>
                    <a:lnTo>
                      <a:pt x="259" y="137"/>
                    </a:lnTo>
                    <a:lnTo>
                      <a:pt x="254" y="120"/>
                    </a:lnTo>
                    <a:lnTo>
                      <a:pt x="247" y="103"/>
                    </a:lnTo>
                    <a:lnTo>
                      <a:pt x="241" y="87"/>
                    </a:lnTo>
                    <a:lnTo>
                      <a:pt x="234" y="72"/>
                    </a:lnTo>
                    <a:lnTo>
                      <a:pt x="228" y="59"/>
                    </a:lnTo>
                    <a:lnTo>
                      <a:pt x="220" y="47"/>
                    </a:lnTo>
                    <a:lnTo>
                      <a:pt x="214" y="37"/>
                    </a:lnTo>
                    <a:lnTo>
                      <a:pt x="206" y="27"/>
                    </a:lnTo>
                    <a:lnTo>
                      <a:pt x="199" y="19"/>
                    </a:lnTo>
                    <a:lnTo>
                      <a:pt x="191" y="12"/>
                    </a:lnTo>
                    <a:lnTo>
                      <a:pt x="182" y="7"/>
                    </a:lnTo>
                    <a:lnTo>
                      <a:pt x="175" y="3"/>
                    </a:lnTo>
                    <a:lnTo>
                      <a:pt x="166" y="1"/>
                    </a:lnTo>
                    <a:lnTo>
                      <a:pt x="159" y="0"/>
                    </a:lnTo>
                    <a:lnTo>
                      <a:pt x="150" y="1"/>
                    </a:lnTo>
                    <a:lnTo>
                      <a:pt x="142" y="3"/>
                    </a:lnTo>
                    <a:lnTo>
                      <a:pt x="135" y="7"/>
                    </a:lnTo>
                    <a:lnTo>
                      <a:pt x="126" y="12"/>
                    </a:lnTo>
                    <a:lnTo>
                      <a:pt x="119" y="19"/>
                    </a:lnTo>
                    <a:lnTo>
                      <a:pt x="111" y="27"/>
                    </a:lnTo>
                    <a:lnTo>
                      <a:pt x="105" y="37"/>
                    </a:lnTo>
                    <a:lnTo>
                      <a:pt x="97" y="47"/>
                    </a:lnTo>
                    <a:lnTo>
                      <a:pt x="91" y="59"/>
                    </a:lnTo>
                    <a:lnTo>
                      <a:pt x="83" y="72"/>
                    </a:lnTo>
                    <a:lnTo>
                      <a:pt x="77" y="87"/>
                    </a:lnTo>
                    <a:lnTo>
                      <a:pt x="70" y="103"/>
                    </a:lnTo>
                    <a:lnTo>
                      <a:pt x="64" y="120"/>
                    </a:lnTo>
                    <a:lnTo>
                      <a:pt x="58" y="137"/>
                    </a:lnTo>
                    <a:lnTo>
                      <a:pt x="52" y="157"/>
                    </a:lnTo>
                    <a:lnTo>
                      <a:pt x="46" y="176"/>
                    </a:lnTo>
                    <a:lnTo>
                      <a:pt x="37" y="219"/>
                    </a:lnTo>
                    <a:lnTo>
                      <a:pt x="27" y="266"/>
                    </a:lnTo>
                    <a:lnTo>
                      <a:pt x="19" y="314"/>
                    </a:lnTo>
                    <a:lnTo>
                      <a:pt x="13" y="367"/>
                    </a:lnTo>
                    <a:lnTo>
                      <a:pt x="7" y="422"/>
                    </a:lnTo>
                    <a:lnTo>
                      <a:pt x="3" y="479"/>
                    </a:lnTo>
                    <a:lnTo>
                      <a:pt x="1" y="540"/>
                    </a:lnTo>
                    <a:lnTo>
                      <a:pt x="0" y="600"/>
                    </a:lnTo>
                    <a:lnTo>
                      <a:pt x="1" y="662"/>
                    </a:lnTo>
                    <a:lnTo>
                      <a:pt x="3" y="722"/>
                    </a:lnTo>
                    <a:lnTo>
                      <a:pt x="7" y="781"/>
                    </a:lnTo>
                    <a:lnTo>
                      <a:pt x="13" y="836"/>
                    </a:lnTo>
                    <a:lnTo>
                      <a:pt x="19" y="889"/>
                    </a:lnTo>
                    <a:lnTo>
                      <a:pt x="27" y="938"/>
                    </a:lnTo>
                    <a:lnTo>
                      <a:pt x="37" y="985"/>
                    </a:lnTo>
                    <a:lnTo>
                      <a:pt x="46" y="1027"/>
                    </a:lnTo>
                    <a:lnTo>
                      <a:pt x="52" y="1048"/>
                    </a:lnTo>
                    <a:lnTo>
                      <a:pt x="58" y="1066"/>
                    </a:lnTo>
                    <a:lnTo>
                      <a:pt x="64" y="1084"/>
                    </a:lnTo>
                    <a:lnTo>
                      <a:pt x="70" y="1102"/>
                    </a:lnTo>
                    <a:lnTo>
                      <a:pt x="77" y="1117"/>
                    </a:lnTo>
                    <a:lnTo>
                      <a:pt x="83" y="1131"/>
                    </a:lnTo>
                    <a:lnTo>
                      <a:pt x="91" y="1145"/>
                    </a:lnTo>
                    <a:lnTo>
                      <a:pt x="97" y="1157"/>
                    </a:lnTo>
                    <a:lnTo>
                      <a:pt x="105" y="1167"/>
                    </a:lnTo>
                    <a:lnTo>
                      <a:pt x="111" y="1177"/>
                    </a:lnTo>
                    <a:lnTo>
                      <a:pt x="119" y="1185"/>
                    </a:lnTo>
                    <a:lnTo>
                      <a:pt x="126" y="1191"/>
                    </a:lnTo>
                    <a:lnTo>
                      <a:pt x="135" y="1197"/>
                    </a:lnTo>
                    <a:lnTo>
                      <a:pt x="142" y="1201"/>
                    </a:lnTo>
                    <a:lnTo>
                      <a:pt x="150" y="1203"/>
                    </a:lnTo>
                    <a:lnTo>
                      <a:pt x="159" y="1204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5545080" y="4977000"/>
                <a:ext cx="47520" cy="318960"/>
              </a:xfrm>
              <a:custGeom>
                <a:avLst/>
                <a:gdLst/>
                <a:ahLst/>
                <a:rect l="l" t="t" r="r" b="b"/>
                <a:pathLst>
                  <a:path w="151" h="1001">
                    <a:moveTo>
                      <a:pt x="114" y="1001"/>
                    </a:moveTo>
                    <a:lnTo>
                      <a:pt x="0" y="580"/>
                    </a:lnTo>
                    <a:lnTo>
                      <a:pt x="0" y="484"/>
                    </a:lnTo>
                    <a:lnTo>
                      <a:pt x="151" y="0"/>
                    </a:lnTo>
                    <a:lnTo>
                      <a:pt x="114" y="1001"/>
                    </a:lnTo>
                    <a:close/>
                  </a:path>
                </a:pathLst>
              </a:custGeom>
              <a:solidFill>
                <a:srgbClr val="969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5551560" y="5146920"/>
                <a:ext cx="85680" cy="182520"/>
              </a:xfrm>
              <a:custGeom>
                <a:avLst/>
                <a:gdLst/>
                <a:ahLst/>
                <a:rect l="l" t="t" r="r" b="b"/>
                <a:pathLst>
                  <a:path w="270" h="577">
                    <a:moveTo>
                      <a:pt x="270" y="428"/>
                    </a:moveTo>
                    <a:lnTo>
                      <a:pt x="264" y="449"/>
                    </a:lnTo>
                    <a:lnTo>
                      <a:pt x="258" y="470"/>
                    </a:lnTo>
                    <a:lnTo>
                      <a:pt x="252" y="488"/>
                    </a:lnTo>
                    <a:lnTo>
                      <a:pt x="245" y="504"/>
                    </a:lnTo>
                    <a:lnTo>
                      <a:pt x="239" y="518"/>
                    </a:lnTo>
                    <a:lnTo>
                      <a:pt x="231" y="531"/>
                    </a:lnTo>
                    <a:lnTo>
                      <a:pt x="225" y="543"/>
                    </a:lnTo>
                    <a:lnTo>
                      <a:pt x="217" y="552"/>
                    </a:lnTo>
                    <a:lnTo>
                      <a:pt x="210" y="560"/>
                    </a:lnTo>
                    <a:lnTo>
                      <a:pt x="203" y="566"/>
                    </a:lnTo>
                    <a:lnTo>
                      <a:pt x="196" y="571"/>
                    </a:lnTo>
                    <a:lnTo>
                      <a:pt x="188" y="574"/>
                    </a:lnTo>
                    <a:lnTo>
                      <a:pt x="182" y="576"/>
                    </a:lnTo>
                    <a:lnTo>
                      <a:pt x="174" y="577"/>
                    </a:lnTo>
                    <a:lnTo>
                      <a:pt x="167" y="576"/>
                    </a:lnTo>
                    <a:lnTo>
                      <a:pt x="161" y="574"/>
                    </a:lnTo>
                    <a:lnTo>
                      <a:pt x="155" y="569"/>
                    </a:lnTo>
                    <a:lnTo>
                      <a:pt x="148" y="565"/>
                    </a:lnTo>
                    <a:lnTo>
                      <a:pt x="142" y="558"/>
                    </a:lnTo>
                    <a:lnTo>
                      <a:pt x="136" y="551"/>
                    </a:lnTo>
                    <a:lnTo>
                      <a:pt x="124" y="534"/>
                    </a:lnTo>
                    <a:lnTo>
                      <a:pt x="115" y="515"/>
                    </a:lnTo>
                    <a:lnTo>
                      <a:pt x="106" y="498"/>
                    </a:lnTo>
                    <a:lnTo>
                      <a:pt x="99" y="484"/>
                    </a:lnTo>
                    <a:lnTo>
                      <a:pt x="96" y="473"/>
                    </a:lnTo>
                    <a:lnTo>
                      <a:pt x="94" y="470"/>
                    </a:lnTo>
                    <a:lnTo>
                      <a:pt x="0" y="52"/>
                    </a:lnTo>
                    <a:lnTo>
                      <a:pt x="0" y="0"/>
                    </a:lnTo>
                    <a:lnTo>
                      <a:pt x="270" y="428"/>
                    </a:lnTo>
                    <a:close/>
                  </a:path>
                </a:pathLst>
              </a:custGeom>
              <a:solidFill>
                <a:srgbClr val="9e9d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5551560" y="5148360"/>
                <a:ext cx="82440" cy="179280"/>
              </a:xfrm>
              <a:custGeom>
                <a:avLst/>
                <a:gdLst/>
                <a:ahLst/>
                <a:rect l="l" t="t" r="r" b="b"/>
                <a:pathLst>
                  <a:path w="257" h="563">
                    <a:moveTo>
                      <a:pt x="257" y="445"/>
                    </a:moveTo>
                    <a:lnTo>
                      <a:pt x="253" y="462"/>
                    </a:lnTo>
                    <a:lnTo>
                      <a:pt x="247" y="477"/>
                    </a:lnTo>
                    <a:lnTo>
                      <a:pt x="241" y="492"/>
                    </a:lnTo>
                    <a:lnTo>
                      <a:pt x="236" y="505"/>
                    </a:lnTo>
                    <a:lnTo>
                      <a:pt x="230" y="517"/>
                    </a:lnTo>
                    <a:lnTo>
                      <a:pt x="224" y="527"/>
                    </a:lnTo>
                    <a:lnTo>
                      <a:pt x="218" y="536"/>
                    </a:lnTo>
                    <a:lnTo>
                      <a:pt x="212" y="544"/>
                    </a:lnTo>
                    <a:lnTo>
                      <a:pt x="206" y="550"/>
                    </a:lnTo>
                    <a:lnTo>
                      <a:pt x="200" y="556"/>
                    </a:lnTo>
                    <a:lnTo>
                      <a:pt x="193" y="559"/>
                    </a:lnTo>
                    <a:lnTo>
                      <a:pt x="187" y="562"/>
                    </a:lnTo>
                    <a:lnTo>
                      <a:pt x="180" y="563"/>
                    </a:lnTo>
                    <a:lnTo>
                      <a:pt x="174" y="563"/>
                    </a:lnTo>
                    <a:lnTo>
                      <a:pt x="167" y="562"/>
                    </a:lnTo>
                    <a:lnTo>
                      <a:pt x="161" y="560"/>
                    </a:lnTo>
                    <a:lnTo>
                      <a:pt x="156" y="557"/>
                    </a:lnTo>
                    <a:lnTo>
                      <a:pt x="149" y="552"/>
                    </a:lnTo>
                    <a:lnTo>
                      <a:pt x="144" y="546"/>
                    </a:lnTo>
                    <a:lnTo>
                      <a:pt x="138" y="539"/>
                    </a:lnTo>
                    <a:lnTo>
                      <a:pt x="128" y="522"/>
                    </a:lnTo>
                    <a:lnTo>
                      <a:pt x="118" y="505"/>
                    </a:lnTo>
                    <a:lnTo>
                      <a:pt x="110" y="489"/>
                    </a:lnTo>
                    <a:lnTo>
                      <a:pt x="105" y="475"/>
                    </a:lnTo>
                    <a:lnTo>
                      <a:pt x="101" y="465"/>
                    </a:lnTo>
                    <a:lnTo>
                      <a:pt x="99" y="462"/>
                    </a:lnTo>
                    <a:lnTo>
                      <a:pt x="0" y="41"/>
                    </a:lnTo>
                    <a:lnTo>
                      <a:pt x="0" y="0"/>
                    </a:lnTo>
                    <a:lnTo>
                      <a:pt x="257" y="445"/>
                    </a:lnTo>
                    <a:close/>
                  </a:path>
                </a:pathLst>
              </a:custGeom>
              <a:solidFill>
                <a:srgbClr val="a8a7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5551560" y="5149800"/>
                <a:ext cx="77760" cy="176400"/>
              </a:xfrm>
              <a:custGeom>
                <a:avLst/>
                <a:gdLst/>
                <a:ahLst/>
                <a:rect l="l" t="t" r="r" b="b"/>
                <a:pathLst>
                  <a:path w="245" h="553">
                    <a:moveTo>
                      <a:pt x="245" y="462"/>
                    </a:moveTo>
                    <a:lnTo>
                      <a:pt x="237" y="487"/>
                    </a:lnTo>
                    <a:lnTo>
                      <a:pt x="228" y="508"/>
                    </a:lnTo>
                    <a:lnTo>
                      <a:pt x="224" y="516"/>
                    </a:lnTo>
                    <a:lnTo>
                      <a:pt x="218" y="525"/>
                    </a:lnTo>
                    <a:lnTo>
                      <a:pt x="214" y="531"/>
                    </a:lnTo>
                    <a:lnTo>
                      <a:pt x="209" y="538"/>
                    </a:lnTo>
                    <a:lnTo>
                      <a:pt x="204" y="542"/>
                    </a:lnTo>
                    <a:lnTo>
                      <a:pt x="199" y="547"/>
                    </a:lnTo>
                    <a:lnTo>
                      <a:pt x="193" y="550"/>
                    </a:lnTo>
                    <a:lnTo>
                      <a:pt x="188" y="552"/>
                    </a:lnTo>
                    <a:lnTo>
                      <a:pt x="182" y="553"/>
                    </a:lnTo>
                    <a:lnTo>
                      <a:pt x="176" y="553"/>
                    </a:lnTo>
                    <a:lnTo>
                      <a:pt x="170" y="552"/>
                    </a:lnTo>
                    <a:lnTo>
                      <a:pt x="163" y="550"/>
                    </a:lnTo>
                    <a:lnTo>
                      <a:pt x="157" y="546"/>
                    </a:lnTo>
                    <a:lnTo>
                      <a:pt x="151" y="541"/>
                    </a:lnTo>
                    <a:lnTo>
                      <a:pt x="145" y="535"/>
                    </a:lnTo>
                    <a:lnTo>
                      <a:pt x="139" y="528"/>
                    </a:lnTo>
                    <a:lnTo>
                      <a:pt x="129" y="513"/>
                    </a:lnTo>
                    <a:lnTo>
                      <a:pt x="120" y="497"/>
                    </a:lnTo>
                    <a:lnTo>
                      <a:pt x="112" y="481"/>
                    </a:lnTo>
                    <a:lnTo>
                      <a:pt x="107" y="468"/>
                    </a:lnTo>
                    <a:lnTo>
                      <a:pt x="103" y="459"/>
                    </a:lnTo>
                    <a:lnTo>
                      <a:pt x="102" y="456"/>
                    </a:lnTo>
                    <a:lnTo>
                      <a:pt x="0" y="33"/>
                    </a:lnTo>
                    <a:lnTo>
                      <a:pt x="0" y="0"/>
                    </a:lnTo>
                    <a:lnTo>
                      <a:pt x="245" y="462"/>
                    </a:lnTo>
                    <a:close/>
                  </a:path>
                </a:pathLst>
              </a:custGeom>
              <a:solidFill>
                <a:srgbClr val="b0b0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5551560" y="5153040"/>
                <a:ext cx="74520" cy="171360"/>
              </a:xfrm>
              <a:custGeom>
                <a:avLst/>
                <a:gdLst/>
                <a:ahLst/>
                <a:rect l="l" t="t" r="r" b="b"/>
                <a:pathLst>
                  <a:path w="232" h="542">
                    <a:moveTo>
                      <a:pt x="232" y="479"/>
                    </a:moveTo>
                    <a:lnTo>
                      <a:pt x="226" y="495"/>
                    </a:lnTo>
                    <a:lnTo>
                      <a:pt x="219" y="509"/>
                    </a:lnTo>
                    <a:lnTo>
                      <a:pt x="213" y="521"/>
                    </a:lnTo>
                    <a:lnTo>
                      <a:pt x="205" y="531"/>
                    </a:lnTo>
                    <a:lnTo>
                      <a:pt x="201" y="534"/>
                    </a:lnTo>
                    <a:lnTo>
                      <a:pt x="197" y="538"/>
                    </a:lnTo>
                    <a:lnTo>
                      <a:pt x="192" y="540"/>
                    </a:lnTo>
                    <a:lnTo>
                      <a:pt x="188" y="541"/>
                    </a:lnTo>
                    <a:lnTo>
                      <a:pt x="183" y="542"/>
                    </a:lnTo>
                    <a:lnTo>
                      <a:pt x="177" y="542"/>
                    </a:lnTo>
                    <a:lnTo>
                      <a:pt x="172" y="541"/>
                    </a:lnTo>
                    <a:lnTo>
                      <a:pt x="166" y="539"/>
                    </a:lnTo>
                    <a:lnTo>
                      <a:pt x="160" y="535"/>
                    </a:lnTo>
                    <a:lnTo>
                      <a:pt x="153" y="531"/>
                    </a:lnTo>
                    <a:lnTo>
                      <a:pt x="148" y="525"/>
                    </a:lnTo>
                    <a:lnTo>
                      <a:pt x="143" y="518"/>
                    </a:lnTo>
                    <a:lnTo>
                      <a:pt x="132" y="503"/>
                    </a:lnTo>
                    <a:lnTo>
                      <a:pt x="123" y="488"/>
                    </a:lnTo>
                    <a:lnTo>
                      <a:pt x="117" y="473"/>
                    </a:lnTo>
                    <a:lnTo>
                      <a:pt x="111" y="460"/>
                    </a:lnTo>
                    <a:lnTo>
                      <a:pt x="108" y="451"/>
                    </a:lnTo>
                    <a:lnTo>
                      <a:pt x="107" y="448"/>
                    </a:lnTo>
                    <a:lnTo>
                      <a:pt x="0" y="25"/>
                    </a:lnTo>
                    <a:lnTo>
                      <a:pt x="0" y="0"/>
                    </a:lnTo>
                    <a:lnTo>
                      <a:pt x="232" y="479"/>
                    </a:lnTo>
                    <a:close/>
                  </a:path>
                </a:pathLst>
              </a:custGeom>
              <a:solidFill>
                <a:srgbClr val="bdbd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5551560" y="5154840"/>
                <a:ext cx="69840" cy="169560"/>
              </a:xfrm>
              <a:custGeom>
                <a:avLst/>
                <a:gdLst/>
                <a:ahLst/>
                <a:rect l="l" t="t" r="r" b="b"/>
                <a:pathLst>
                  <a:path w="220" h="534">
                    <a:moveTo>
                      <a:pt x="0" y="0"/>
                    </a:moveTo>
                    <a:lnTo>
                      <a:pt x="0" y="17"/>
                    </a:lnTo>
                    <a:lnTo>
                      <a:pt x="109" y="443"/>
                    </a:lnTo>
                    <a:lnTo>
                      <a:pt x="110" y="445"/>
                    </a:lnTo>
                    <a:lnTo>
                      <a:pt x="113" y="454"/>
                    </a:lnTo>
                    <a:lnTo>
                      <a:pt x="118" y="466"/>
                    </a:lnTo>
                    <a:lnTo>
                      <a:pt x="124" y="480"/>
                    </a:lnTo>
                    <a:lnTo>
                      <a:pt x="133" y="495"/>
                    </a:lnTo>
                    <a:lnTo>
                      <a:pt x="143" y="509"/>
                    </a:lnTo>
                    <a:lnTo>
                      <a:pt x="148" y="515"/>
                    </a:lnTo>
                    <a:lnTo>
                      <a:pt x="153" y="521"/>
                    </a:lnTo>
                    <a:lnTo>
                      <a:pt x="160" y="526"/>
                    </a:lnTo>
                    <a:lnTo>
                      <a:pt x="166" y="529"/>
                    </a:lnTo>
                    <a:lnTo>
                      <a:pt x="172" y="531"/>
                    </a:lnTo>
                    <a:lnTo>
                      <a:pt x="178" y="533"/>
                    </a:lnTo>
                    <a:lnTo>
                      <a:pt x="183" y="534"/>
                    </a:lnTo>
                    <a:lnTo>
                      <a:pt x="187" y="533"/>
                    </a:lnTo>
                    <a:lnTo>
                      <a:pt x="191" y="533"/>
                    </a:lnTo>
                    <a:lnTo>
                      <a:pt x="196" y="530"/>
                    </a:lnTo>
                    <a:lnTo>
                      <a:pt x="199" y="528"/>
                    </a:lnTo>
                    <a:lnTo>
                      <a:pt x="202" y="526"/>
                    </a:lnTo>
                    <a:lnTo>
                      <a:pt x="206" y="521"/>
                    </a:lnTo>
                    <a:lnTo>
                      <a:pt x="212" y="513"/>
                    </a:lnTo>
                    <a:lnTo>
                      <a:pt x="216" y="507"/>
                    </a:lnTo>
                    <a:lnTo>
                      <a:pt x="220" y="49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7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5551560" y="4962600"/>
                <a:ext cx="90360" cy="185760"/>
              </a:xfrm>
              <a:custGeom>
                <a:avLst/>
                <a:gdLst/>
                <a:ahLst/>
                <a:rect l="l" t="t" r="r" b="b"/>
                <a:pathLst>
                  <a:path w="282" h="587">
                    <a:moveTo>
                      <a:pt x="0" y="587"/>
                    </a:moveTo>
                    <a:lnTo>
                      <a:pt x="0" y="529"/>
                    </a:lnTo>
                    <a:lnTo>
                      <a:pt x="92" y="111"/>
                    </a:lnTo>
                    <a:lnTo>
                      <a:pt x="93" y="107"/>
                    </a:lnTo>
                    <a:lnTo>
                      <a:pt x="97" y="96"/>
                    </a:lnTo>
                    <a:lnTo>
                      <a:pt x="104" y="81"/>
                    </a:lnTo>
                    <a:lnTo>
                      <a:pt x="112" y="63"/>
                    </a:lnTo>
                    <a:lnTo>
                      <a:pt x="122" y="43"/>
                    </a:lnTo>
                    <a:lnTo>
                      <a:pt x="134" y="26"/>
                    </a:lnTo>
                    <a:lnTo>
                      <a:pt x="139" y="19"/>
                    </a:lnTo>
                    <a:lnTo>
                      <a:pt x="146" y="12"/>
                    </a:lnTo>
                    <a:lnTo>
                      <a:pt x="152" y="7"/>
                    </a:lnTo>
                    <a:lnTo>
                      <a:pt x="159" y="2"/>
                    </a:lnTo>
                    <a:lnTo>
                      <a:pt x="165" y="0"/>
                    </a:lnTo>
                    <a:lnTo>
                      <a:pt x="173" y="0"/>
                    </a:lnTo>
                    <a:lnTo>
                      <a:pt x="179" y="0"/>
                    </a:lnTo>
                    <a:lnTo>
                      <a:pt x="188" y="2"/>
                    </a:lnTo>
                    <a:lnTo>
                      <a:pt x="196" y="7"/>
                    </a:lnTo>
                    <a:lnTo>
                      <a:pt x="204" y="12"/>
                    </a:lnTo>
                    <a:lnTo>
                      <a:pt x="212" y="20"/>
                    </a:lnTo>
                    <a:lnTo>
                      <a:pt x="220" y="28"/>
                    </a:lnTo>
                    <a:lnTo>
                      <a:pt x="229" y="39"/>
                    </a:lnTo>
                    <a:lnTo>
                      <a:pt x="237" y="53"/>
                    </a:lnTo>
                    <a:lnTo>
                      <a:pt x="245" y="68"/>
                    </a:lnTo>
                    <a:lnTo>
                      <a:pt x="253" y="86"/>
                    </a:lnTo>
                    <a:lnTo>
                      <a:pt x="261" y="105"/>
                    </a:lnTo>
                    <a:lnTo>
                      <a:pt x="268" y="127"/>
                    </a:lnTo>
                    <a:lnTo>
                      <a:pt x="276" y="151"/>
                    </a:lnTo>
                    <a:lnTo>
                      <a:pt x="282" y="178"/>
                    </a:lnTo>
                    <a:lnTo>
                      <a:pt x="0" y="587"/>
                    </a:lnTo>
                    <a:close/>
                  </a:path>
                </a:pathLst>
              </a:custGeom>
              <a:solidFill>
                <a:srgbClr val="969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5551560" y="4964040"/>
                <a:ext cx="85680" cy="182880"/>
              </a:xfrm>
              <a:custGeom>
                <a:avLst/>
                <a:gdLst/>
                <a:ahLst/>
                <a:rect l="l" t="t" r="r" b="b"/>
                <a:pathLst>
                  <a:path w="270" h="576">
                    <a:moveTo>
                      <a:pt x="270" y="149"/>
                    </a:moveTo>
                    <a:lnTo>
                      <a:pt x="0" y="576"/>
                    </a:lnTo>
                    <a:lnTo>
                      <a:pt x="0" y="524"/>
                    </a:lnTo>
                    <a:lnTo>
                      <a:pt x="94" y="106"/>
                    </a:lnTo>
                    <a:lnTo>
                      <a:pt x="96" y="103"/>
                    </a:lnTo>
                    <a:lnTo>
                      <a:pt x="99" y="92"/>
                    </a:lnTo>
                    <a:lnTo>
                      <a:pt x="106" y="77"/>
                    </a:lnTo>
                    <a:lnTo>
                      <a:pt x="115" y="60"/>
                    </a:lnTo>
                    <a:lnTo>
                      <a:pt x="124" y="42"/>
                    </a:lnTo>
                    <a:lnTo>
                      <a:pt x="136" y="25"/>
                    </a:lnTo>
                    <a:lnTo>
                      <a:pt x="142" y="18"/>
                    </a:lnTo>
                    <a:lnTo>
                      <a:pt x="148" y="11"/>
                    </a:lnTo>
                    <a:lnTo>
                      <a:pt x="155" y="6"/>
                    </a:lnTo>
                    <a:lnTo>
                      <a:pt x="161" y="3"/>
                    </a:lnTo>
                    <a:lnTo>
                      <a:pt x="167" y="1"/>
                    </a:lnTo>
                    <a:lnTo>
                      <a:pt x="174" y="0"/>
                    </a:lnTo>
                    <a:lnTo>
                      <a:pt x="182" y="1"/>
                    </a:lnTo>
                    <a:lnTo>
                      <a:pt x="188" y="2"/>
                    </a:lnTo>
                    <a:lnTo>
                      <a:pt x="196" y="5"/>
                    </a:lnTo>
                    <a:lnTo>
                      <a:pt x="203" y="10"/>
                    </a:lnTo>
                    <a:lnTo>
                      <a:pt x="210" y="16"/>
                    </a:lnTo>
                    <a:lnTo>
                      <a:pt x="217" y="23"/>
                    </a:lnTo>
                    <a:lnTo>
                      <a:pt x="225" y="33"/>
                    </a:lnTo>
                    <a:lnTo>
                      <a:pt x="231" y="44"/>
                    </a:lnTo>
                    <a:lnTo>
                      <a:pt x="239" y="57"/>
                    </a:lnTo>
                    <a:lnTo>
                      <a:pt x="245" y="72"/>
                    </a:lnTo>
                    <a:lnTo>
                      <a:pt x="252" y="88"/>
                    </a:lnTo>
                    <a:lnTo>
                      <a:pt x="258" y="106"/>
                    </a:lnTo>
                    <a:lnTo>
                      <a:pt x="264" y="127"/>
                    </a:lnTo>
                    <a:lnTo>
                      <a:pt x="270" y="149"/>
                    </a:lnTo>
                    <a:close/>
                  </a:path>
                </a:pathLst>
              </a:custGeom>
              <a:solidFill>
                <a:srgbClr val="8e8d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5551560" y="4965840"/>
                <a:ext cx="82440" cy="179280"/>
              </a:xfrm>
              <a:custGeom>
                <a:avLst/>
                <a:gdLst/>
                <a:ahLst/>
                <a:rect l="l" t="t" r="r" b="b"/>
                <a:pathLst>
                  <a:path w="257" h="564">
                    <a:moveTo>
                      <a:pt x="257" y="119"/>
                    </a:moveTo>
                    <a:lnTo>
                      <a:pt x="0" y="564"/>
                    </a:lnTo>
                    <a:lnTo>
                      <a:pt x="0" y="522"/>
                    </a:lnTo>
                    <a:lnTo>
                      <a:pt x="99" y="101"/>
                    </a:lnTo>
                    <a:lnTo>
                      <a:pt x="101" y="98"/>
                    </a:lnTo>
                    <a:lnTo>
                      <a:pt x="105" y="88"/>
                    </a:lnTo>
                    <a:lnTo>
                      <a:pt x="110" y="74"/>
                    </a:lnTo>
                    <a:lnTo>
                      <a:pt x="118" y="58"/>
                    </a:lnTo>
                    <a:lnTo>
                      <a:pt x="128" y="41"/>
                    </a:lnTo>
                    <a:lnTo>
                      <a:pt x="138" y="25"/>
                    </a:lnTo>
                    <a:lnTo>
                      <a:pt x="144" y="17"/>
                    </a:lnTo>
                    <a:lnTo>
                      <a:pt x="149" y="11"/>
                    </a:lnTo>
                    <a:lnTo>
                      <a:pt x="156" y="6"/>
                    </a:lnTo>
                    <a:lnTo>
                      <a:pt x="161" y="3"/>
                    </a:lnTo>
                    <a:lnTo>
                      <a:pt x="167" y="1"/>
                    </a:lnTo>
                    <a:lnTo>
                      <a:pt x="174" y="0"/>
                    </a:lnTo>
                    <a:lnTo>
                      <a:pt x="180" y="0"/>
                    </a:lnTo>
                    <a:lnTo>
                      <a:pt x="187" y="1"/>
                    </a:lnTo>
                    <a:lnTo>
                      <a:pt x="193" y="3"/>
                    </a:lnTo>
                    <a:lnTo>
                      <a:pt x="200" y="7"/>
                    </a:lnTo>
                    <a:lnTo>
                      <a:pt x="206" y="13"/>
                    </a:lnTo>
                    <a:lnTo>
                      <a:pt x="212" y="19"/>
                    </a:lnTo>
                    <a:lnTo>
                      <a:pt x="218" y="27"/>
                    </a:lnTo>
                    <a:lnTo>
                      <a:pt x="224" y="36"/>
                    </a:lnTo>
                    <a:lnTo>
                      <a:pt x="230" y="46"/>
                    </a:lnTo>
                    <a:lnTo>
                      <a:pt x="236" y="58"/>
                    </a:lnTo>
                    <a:lnTo>
                      <a:pt x="241" y="71"/>
                    </a:lnTo>
                    <a:lnTo>
                      <a:pt x="247" y="85"/>
                    </a:lnTo>
                    <a:lnTo>
                      <a:pt x="253" y="101"/>
                    </a:lnTo>
                    <a:lnTo>
                      <a:pt x="257" y="119"/>
                    </a:lnTo>
                    <a:close/>
                  </a:path>
                </a:pathLst>
              </a:custGeom>
              <a:solidFill>
                <a:srgbClr val="878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5551560" y="4967280"/>
                <a:ext cx="77760" cy="174600"/>
              </a:xfrm>
              <a:custGeom>
                <a:avLst/>
                <a:gdLst/>
                <a:ahLst/>
                <a:rect l="l" t="t" r="r" b="b"/>
                <a:pathLst>
                  <a:path w="245" h="552">
                    <a:moveTo>
                      <a:pt x="245" y="90"/>
                    </a:moveTo>
                    <a:lnTo>
                      <a:pt x="0" y="552"/>
                    </a:lnTo>
                    <a:lnTo>
                      <a:pt x="0" y="518"/>
                    </a:lnTo>
                    <a:lnTo>
                      <a:pt x="102" y="97"/>
                    </a:lnTo>
                    <a:lnTo>
                      <a:pt x="103" y="94"/>
                    </a:lnTo>
                    <a:lnTo>
                      <a:pt x="107" y="84"/>
                    </a:lnTo>
                    <a:lnTo>
                      <a:pt x="112" y="72"/>
                    </a:lnTo>
                    <a:lnTo>
                      <a:pt x="120" y="55"/>
                    </a:lnTo>
                    <a:lnTo>
                      <a:pt x="129" y="39"/>
                    </a:lnTo>
                    <a:lnTo>
                      <a:pt x="139" y="24"/>
                    </a:lnTo>
                    <a:lnTo>
                      <a:pt x="145" y="16"/>
                    </a:lnTo>
                    <a:lnTo>
                      <a:pt x="151" y="11"/>
                    </a:lnTo>
                    <a:lnTo>
                      <a:pt x="157" y="7"/>
                    </a:lnTo>
                    <a:lnTo>
                      <a:pt x="163" y="3"/>
                    </a:lnTo>
                    <a:lnTo>
                      <a:pt x="170" y="1"/>
                    </a:lnTo>
                    <a:lnTo>
                      <a:pt x="176" y="0"/>
                    </a:lnTo>
                    <a:lnTo>
                      <a:pt x="182" y="0"/>
                    </a:lnTo>
                    <a:lnTo>
                      <a:pt x="188" y="1"/>
                    </a:lnTo>
                    <a:lnTo>
                      <a:pt x="193" y="2"/>
                    </a:lnTo>
                    <a:lnTo>
                      <a:pt x="199" y="6"/>
                    </a:lnTo>
                    <a:lnTo>
                      <a:pt x="204" y="10"/>
                    </a:lnTo>
                    <a:lnTo>
                      <a:pt x="209" y="14"/>
                    </a:lnTo>
                    <a:lnTo>
                      <a:pt x="214" y="21"/>
                    </a:lnTo>
                    <a:lnTo>
                      <a:pt x="218" y="27"/>
                    </a:lnTo>
                    <a:lnTo>
                      <a:pt x="224" y="36"/>
                    </a:lnTo>
                    <a:lnTo>
                      <a:pt x="228" y="45"/>
                    </a:lnTo>
                    <a:lnTo>
                      <a:pt x="237" y="65"/>
                    </a:lnTo>
                    <a:lnTo>
                      <a:pt x="245" y="90"/>
                    </a:lnTo>
                    <a:close/>
                  </a:path>
                </a:pathLst>
              </a:custGeom>
              <a:solidFill>
                <a:srgbClr val="7f7e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5551560" y="4967280"/>
                <a:ext cx="74520" cy="173160"/>
              </a:xfrm>
              <a:custGeom>
                <a:avLst/>
                <a:gdLst/>
                <a:ahLst/>
                <a:rect l="l" t="t" r="r" b="b"/>
                <a:pathLst>
                  <a:path w="232" h="543">
                    <a:moveTo>
                      <a:pt x="232" y="63"/>
                    </a:moveTo>
                    <a:lnTo>
                      <a:pt x="0" y="543"/>
                    </a:lnTo>
                    <a:lnTo>
                      <a:pt x="0" y="519"/>
                    </a:lnTo>
                    <a:lnTo>
                      <a:pt x="107" y="95"/>
                    </a:lnTo>
                    <a:lnTo>
                      <a:pt x="108" y="92"/>
                    </a:lnTo>
                    <a:lnTo>
                      <a:pt x="111" y="84"/>
                    </a:lnTo>
                    <a:lnTo>
                      <a:pt x="117" y="71"/>
                    </a:lnTo>
                    <a:lnTo>
                      <a:pt x="123" y="55"/>
                    </a:lnTo>
                    <a:lnTo>
                      <a:pt x="132" y="39"/>
                    </a:lnTo>
                    <a:lnTo>
                      <a:pt x="143" y="24"/>
                    </a:lnTo>
                    <a:lnTo>
                      <a:pt x="148" y="18"/>
                    </a:lnTo>
                    <a:lnTo>
                      <a:pt x="153" y="12"/>
                    </a:lnTo>
                    <a:lnTo>
                      <a:pt x="160" y="8"/>
                    </a:lnTo>
                    <a:lnTo>
                      <a:pt x="166" y="4"/>
                    </a:lnTo>
                    <a:lnTo>
                      <a:pt x="172" y="1"/>
                    </a:lnTo>
                    <a:lnTo>
                      <a:pt x="177" y="0"/>
                    </a:lnTo>
                    <a:lnTo>
                      <a:pt x="183" y="0"/>
                    </a:lnTo>
                    <a:lnTo>
                      <a:pt x="188" y="0"/>
                    </a:lnTo>
                    <a:lnTo>
                      <a:pt x="192" y="3"/>
                    </a:lnTo>
                    <a:lnTo>
                      <a:pt x="197" y="5"/>
                    </a:lnTo>
                    <a:lnTo>
                      <a:pt x="201" y="8"/>
                    </a:lnTo>
                    <a:lnTo>
                      <a:pt x="205" y="11"/>
                    </a:lnTo>
                    <a:lnTo>
                      <a:pt x="213" y="21"/>
                    </a:lnTo>
                    <a:lnTo>
                      <a:pt x="219" y="33"/>
                    </a:lnTo>
                    <a:lnTo>
                      <a:pt x="226" y="48"/>
                    </a:lnTo>
                    <a:lnTo>
                      <a:pt x="232" y="63"/>
                    </a:lnTo>
                    <a:close/>
                  </a:path>
                </a:pathLst>
              </a:custGeom>
              <a:solidFill>
                <a:srgbClr val="787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5551560" y="4969080"/>
                <a:ext cx="69840" cy="169560"/>
              </a:xfrm>
              <a:custGeom>
                <a:avLst/>
                <a:gdLst/>
                <a:ahLst/>
                <a:rect l="l" t="t" r="r" b="b"/>
                <a:pathLst>
                  <a:path w="220" h="533">
                    <a:moveTo>
                      <a:pt x="0" y="533"/>
                    </a:moveTo>
                    <a:lnTo>
                      <a:pt x="0" y="516"/>
                    </a:lnTo>
                    <a:lnTo>
                      <a:pt x="109" y="90"/>
                    </a:lnTo>
                    <a:lnTo>
                      <a:pt x="110" y="87"/>
                    </a:lnTo>
                    <a:lnTo>
                      <a:pt x="113" y="80"/>
                    </a:lnTo>
                    <a:lnTo>
                      <a:pt x="118" y="67"/>
                    </a:lnTo>
                    <a:lnTo>
                      <a:pt x="124" y="53"/>
                    </a:lnTo>
                    <a:lnTo>
                      <a:pt x="133" y="38"/>
                    </a:lnTo>
                    <a:lnTo>
                      <a:pt x="143" y="23"/>
                    </a:lnTo>
                    <a:lnTo>
                      <a:pt x="148" y="18"/>
                    </a:lnTo>
                    <a:lnTo>
                      <a:pt x="153" y="12"/>
                    </a:lnTo>
                    <a:lnTo>
                      <a:pt x="160" y="7"/>
                    </a:lnTo>
                    <a:lnTo>
                      <a:pt x="166" y="4"/>
                    </a:lnTo>
                    <a:lnTo>
                      <a:pt x="172" y="2"/>
                    </a:lnTo>
                    <a:lnTo>
                      <a:pt x="178" y="1"/>
                    </a:lnTo>
                    <a:lnTo>
                      <a:pt x="183" y="0"/>
                    </a:lnTo>
                    <a:lnTo>
                      <a:pt x="187" y="0"/>
                    </a:lnTo>
                    <a:lnTo>
                      <a:pt x="191" y="1"/>
                    </a:lnTo>
                    <a:lnTo>
                      <a:pt x="196" y="2"/>
                    </a:lnTo>
                    <a:lnTo>
                      <a:pt x="199" y="4"/>
                    </a:lnTo>
                    <a:lnTo>
                      <a:pt x="202" y="7"/>
                    </a:lnTo>
                    <a:lnTo>
                      <a:pt x="206" y="13"/>
                    </a:lnTo>
                    <a:lnTo>
                      <a:pt x="212" y="20"/>
                    </a:lnTo>
                    <a:lnTo>
                      <a:pt x="216" y="27"/>
                    </a:lnTo>
                    <a:lnTo>
                      <a:pt x="220" y="33"/>
                    </a:lnTo>
                    <a:lnTo>
                      <a:pt x="0" y="533"/>
                    </a:lnTo>
                    <a:close/>
                  </a:path>
                </a:pathLst>
              </a:custGeom>
              <a:solidFill>
                <a:srgbClr val="7170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5559480" y="5141880"/>
                <a:ext cx="90360" cy="109800"/>
              </a:xfrm>
              <a:custGeom>
                <a:avLst/>
                <a:gdLst/>
                <a:ahLst/>
                <a:rect l="l" t="t" r="r" b="b"/>
                <a:pathLst>
                  <a:path w="286" h="347">
                    <a:moveTo>
                      <a:pt x="0" y="38"/>
                    </a:moveTo>
                    <a:lnTo>
                      <a:pt x="7" y="48"/>
                    </a:lnTo>
                    <a:lnTo>
                      <a:pt x="28" y="74"/>
                    </a:lnTo>
                    <a:lnTo>
                      <a:pt x="57" y="112"/>
                    </a:lnTo>
                    <a:lnTo>
                      <a:pt x="91" y="158"/>
                    </a:lnTo>
                    <a:lnTo>
                      <a:pt x="129" y="205"/>
                    </a:lnTo>
                    <a:lnTo>
                      <a:pt x="164" y="251"/>
                    </a:lnTo>
                    <a:lnTo>
                      <a:pt x="194" y="288"/>
                    </a:lnTo>
                    <a:lnTo>
                      <a:pt x="215" y="314"/>
                    </a:lnTo>
                    <a:lnTo>
                      <a:pt x="221" y="323"/>
                    </a:lnTo>
                    <a:lnTo>
                      <a:pt x="229" y="331"/>
                    </a:lnTo>
                    <a:lnTo>
                      <a:pt x="235" y="336"/>
                    </a:lnTo>
                    <a:lnTo>
                      <a:pt x="240" y="341"/>
                    </a:lnTo>
                    <a:lnTo>
                      <a:pt x="246" y="345"/>
                    </a:lnTo>
                    <a:lnTo>
                      <a:pt x="251" y="347"/>
                    </a:lnTo>
                    <a:lnTo>
                      <a:pt x="257" y="347"/>
                    </a:lnTo>
                    <a:lnTo>
                      <a:pt x="261" y="347"/>
                    </a:lnTo>
                    <a:lnTo>
                      <a:pt x="264" y="345"/>
                    </a:lnTo>
                    <a:lnTo>
                      <a:pt x="269" y="342"/>
                    </a:lnTo>
                    <a:lnTo>
                      <a:pt x="272" y="338"/>
                    </a:lnTo>
                    <a:lnTo>
                      <a:pt x="274" y="333"/>
                    </a:lnTo>
                    <a:lnTo>
                      <a:pt x="276" y="326"/>
                    </a:lnTo>
                    <a:lnTo>
                      <a:pt x="278" y="319"/>
                    </a:lnTo>
                    <a:lnTo>
                      <a:pt x="279" y="310"/>
                    </a:lnTo>
                    <a:lnTo>
                      <a:pt x="282" y="299"/>
                    </a:lnTo>
                    <a:lnTo>
                      <a:pt x="283" y="280"/>
                    </a:lnTo>
                    <a:lnTo>
                      <a:pt x="285" y="260"/>
                    </a:lnTo>
                    <a:lnTo>
                      <a:pt x="286" y="242"/>
                    </a:lnTo>
                    <a:lnTo>
                      <a:pt x="285" y="225"/>
                    </a:lnTo>
                    <a:lnTo>
                      <a:pt x="284" y="216"/>
                    </a:lnTo>
                    <a:lnTo>
                      <a:pt x="282" y="209"/>
                    </a:lnTo>
                    <a:lnTo>
                      <a:pt x="279" y="200"/>
                    </a:lnTo>
                    <a:lnTo>
                      <a:pt x="275" y="192"/>
                    </a:lnTo>
                    <a:lnTo>
                      <a:pt x="271" y="186"/>
                    </a:lnTo>
                    <a:lnTo>
                      <a:pt x="265" y="178"/>
                    </a:lnTo>
                    <a:lnTo>
                      <a:pt x="259" y="172"/>
                    </a:lnTo>
                    <a:lnTo>
                      <a:pt x="251" y="166"/>
                    </a:lnTo>
                    <a:lnTo>
                      <a:pt x="228" y="149"/>
                    </a:lnTo>
                    <a:lnTo>
                      <a:pt x="193" y="125"/>
                    </a:lnTo>
                    <a:lnTo>
                      <a:pt x="152" y="98"/>
                    </a:lnTo>
                    <a:lnTo>
                      <a:pt x="109" y="70"/>
                    </a:lnTo>
                    <a:lnTo>
                      <a:pt x="69" y="43"/>
                    </a:lnTo>
                    <a:lnTo>
                      <a:pt x="34" y="22"/>
                    </a:lnTo>
                    <a:lnTo>
                      <a:pt x="10" y="7"/>
                    </a:lnTo>
                    <a:lnTo>
                      <a:pt x="2" y="0"/>
                    </a:lnTo>
                    <a:lnTo>
                      <a:pt x="0" y="38"/>
                    </a:lnTo>
                    <a:close/>
                  </a:path>
                </a:pathLst>
              </a:custGeom>
              <a:solidFill>
                <a:srgbClr val="969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5559480" y="5143680"/>
                <a:ext cx="87120" cy="98280"/>
              </a:xfrm>
              <a:custGeom>
                <a:avLst/>
                <a:gdLst/>
                <a:ahLst/>
                <a:rect l="l" t="t" r="r" b="b"/>
                <a:pathLst>
                  <a:path w="276" h="311">
                    <a:moveTo>
                      <a:pt x="199" y="271"/>
                    </a:moveTo>
                    <a:lnTo>
                      <a:pt x="178" y="248"/>
                    </a:lnTo>
                    <a:lnTo>
                      <a:pt x="150" y="214"/>
                    </a:lnTo>
                    <a:lnTo>
                      <a:pt x="116" y="174"/>
                    </a:lnTo>
                    <a:lnTo>
                      <a:pt x="83" y="133"/>
                    </a:lnTo>
                    <a:lnTo>
                      <a:pt x="50" y="94"/>
                    </a:lnTo>
                    <a:lnTo>
                      <a:pt x="24" y="61"/>
                    </a:lnTo>
                    <a:lnTo>
                      <a:pt x="6" y="38"/>
                    </a:lnTo>
                    <a:lnTo>
                      <a:pt x="0" y="30"/>
                    </a:lnTo>
                    <a:lnTo>
                      <a:pt x="2" y="0"/>
                    </a:lnTo>
                    <a:lnTo>
                      <a:pt x="10" y="6"/>
                    </a:lnTo>
                    <a:lnTo>
                      <a:pt x="32" y="21"/>
                    </a:lnTo>
                    <a:lnTo>
                      <a:pt x="65" y="44"/>
                    </a:lnTo>
                    <a:lnTo>
                      <a:pt x="103" y="69"/>
                    </a:lnTo>
                    <a:lnTo>
                      <a:pt x="144" y="98"/>
                    </a:lnTo>
                    <a:lnTo>
                      <a:pt x="183" y="123"/>
                    </a:lnTo>
                    <a:lnTo>
                      <a:pt x="216" y="147"/>
                    </a:lnTo>
                    <a:lnTo>
                      <a:pt x="239" y="163"/>
                    </a:lnTo>
                    <a:lnTo>
                      <a:pt x="247" y="170"/>
                    </a:lnTo>
                    <a:lnTo>
                      <a:pt x="253" y="176"/>
                    </a:lnTo>
                    <a:lnTo>
                      <a:pt x="259" y="183"/>
                    </a:lnTo>
                    <a:lnTo>
                      <a:pt x="264" y="189"/>
                    </a:lnTo>
                    <a:lnTo>
                      <a:pt x="267" y="196"/>
                    </a:lnTo>
                    <a:lnTo>
                      <a:pt x="271" y="202"/>
                    </a:lnTo>
                    <a:lnTo>
                      <a:pt x="273" y="210"/>
                    </a:lnTo>
                    <a:lnTo>
                      <a:pt x="275" y="216"/>
                    </a:lnTo>
                    <a:lnTo>
                      <a:pt x="276" y="231"/>
                    </a:lnTo>
                    <a:lnTo>
                      <a:pt x="276" y="248"/>
                    </a:lnTo>
                    <a:lnTo>
                      <a:pt x="275" y="264"/>
                    </a:lnTo>
                    <a:lnTo>
                      <a:pt x="274" y="281"/>
                    </a:lnTo>
                    <a:lnTo>
                      <a:pt x="273" y="290"/>
                    </a:lnTo>
                    <a:lnTo>
                      <a:pt x="272" y="296"/>
                    </a:lnTo>
                    <a:lnTo>
                      <a:pt x="270" y="302"/>
                    </a:lnTo>
                    <a:lnTo>
                      <a:pt x="266" y="306"/>
                    </a:lnTo>
                    <a:lnTo>
                      <a:pt x="263" y="308"/>
                    </a:lnTo>
                    <a:lnTo>
                      <a:pt x="260" y="310"/>
                    </a:lnTo>
                    <a:lnTo>
                      <a:pt x="256" y="311"/>
                    </a:lnTo>
                    <a:lnTo>
                      <a:pt x="250" y="311"/>
                    </a:lnTo>
                    <a:lnTo>
                      <a:pt x="245" y="309"/>
                    </a:lnTo>
                    <a:lnTo>
                      <a:pt x="239" y="307"/>
                    </a:lnTo>
                    <a:lnTo>
                      <a:pt x="234" y="304"/>
                    </a:lnTo>
                    <a:lnTo>
                      <a:pt x="228" y="300"/>
                    </a:lnTo>
                    <a:lnTo>
                      <a:pt x="213" y="288"/>
                    </a:lnTo>
                    <a:lnTo>
                      <a:pt x="199" y="271"/>
                    </a:lnTo>
                    <a:close/>
                  </a:path>
                </a:pathLst>
              </a:custGeom>
              <a:solidFill>
                <a:srgbClr val="9c9b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5559480" y="5143680"/>
                <a:ext cx="83880" cy="88920"/>
              </a:xfrm>
              <a:custGeom>
                <a:avLst/>
                <a:gdLst/>
                <a:ahLst/>
                <a:rect l="l" t="t" r="r" b="b"/>
                <a:pathLst>
                  <a:path w="267" h="280">
                    <a:moveTo>
                      <a:pt x="182" y="232"/>
                    </a:moveTo>
                    <a:lnTo>
                      <a:pt x="161" y="209"/>
                    </a:lnTo>
                    <a:lnTo>
                      <a:pt x="134" y="179"/>
                    </a:lnTo>
                    <a:lnTo>
                      <a:pt x="103" y="144"/>
                    </a:lnTo>
                    <a:lnTo>
                      <a:pt x="73" y="110"/>
                    </a:lnTo>
                    <a:lnTo>
                      <a:pt x="45" y="77"/>
                    </a:lnTo>
                    <a:lnTo>
                      <a:pt x="21" y="49"/>
                    </a:lnTo>
                    <a:lnTo>
                      <a:pt x="5" y="31"/>
                    </a:lnTo>
                    <a:lnTo>
                      <a:pt x="0" y="24"/>
                    </a:lnTo>
                    <a:lnTo>
                      <a:pt x="2" y="0"/>
                    </a:lnTo>
                    <a:lnTo>
                      <a:pt x="9" y="5"/>
                    </a:lnTo>
                    <a:lnTo>
                      <a:pt x="31" y="20"/>
                    </a:lnTo>
                    <a:lnTo>
                      <a:pt x="62" y="43"/>
                    </a:lnTo>
                    <a:lnTo>
                      <a:pt x="99" y="69"/>
                    </a:lnTo>
                    <a:lnTo>
                      <a:pt x="138" y="97"/>
                    </a:lnTo>
                    <a:lnTo>
                      <a:pt x="175" y="124"/>
                    </a:lnTo>
                    <a:lnTo>
                      <a:pt x="207" y="146"/>
                    </a:lnTo>
                    <a:lnTo>
                      <a:pt x="229" y="163"/>
                    </a:lnTo>
                    <a:lnTo>
                      <a:pt x="237" y="169"/>
                    </a:lnTo>
                    <a:lnTo>
                      <a:pt x="244" y="174"/>
                    </a:lnTo>
                    <a:lnTo>
                      <a:pt x="249" y="181"/>
                    </a:lnTo>
                    <a:lnTo>
                      <a:pt x="255" y="186"/>
                    </a:lnTo>
                    <a:lnTo>
                      <a:pt x="258" y="193"/>
                    </a:lnTo>
                    <a:lnTo>
                      <a:pt x="261" y="198"/>
                    </a:lnTo>
                    <a:lnTo>
                      <a:pt x="263" y="204"/>
                    </a:lnTo>
                    <a:lnTo>
                      <a:pt x="265" y="209"/>
                    </a:lnTo>
                    <a:lnTo>
                      <a:pt x="267" y="221"/>
                    </a:lnTo>
                    <a:lnTo>
                      <a:pt x="267" y="233"/>
                    </a:lnTo>
                    <a:lnTo>
                      <a:pt x="267" y="247"/>
                    </a:lnTo>
                    <a:lnTo>
                      <a:pt x="266" y="261"/>
                    </a:lnTo>
                    <a:lnTo>
                      <a:pt x="265" y="267"/>
                    </a:lnTo>
                    <a:lnTo>
                      <a:pt x="263" y="273"/>
                    </a:lnTo>
                    <a:lnTo>
                      <a:pt x="261" y="276"/>
                    </a:lnTo>
                    <a:lnTo>
                      <a:pt x="258" y="278"/>
                    </a:lnTo>
                    <a:lnTo>
                      <a:pt x="255" y="280"/>
                    </a:lnTo>
                    <a:lnTo>
                      <a:pt x="250" y="280"/>
                    </a:lnTo>
                    <a:lnTo>
                      <a:pt x="246" y="279"/>
                    </a:lnTo>
                    <a:lnTo>
                      <a:pt x="239" y="277"/>
                    </a:lnTo>
                    <a:lnTo>
                      <a:pt x="228" y="271"/>
                    </a:lnTo>
                    <a:lnTo>
                      <a:pt x="213" y="260"/>
                    </a:lnTo>
                    <a:lnTo>
                      <a:pt x="198" y="247"/>
                    </a:lnTo>
                    <a:lnTo>
                      <a:pt x="182" y="232"/>
                    </a:lnTo>
                    <a:close/>
                  </a:path>
                </a:pathLst>
              </a:custGeom>
              <a:solidFill>
                <a:srgbClr val="a2a1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5559480" y="5145120"/>
                <a:ext cx="82440" cy="79560"/>
              </a:xfrm>
              <a:custGeom>
                <a:avLst/>
                <a:gdLst/>
                <a:ahLst/>
                <a:rect l="l" t="t" r="r" b="b"/>
                <a:pathLst>
                  <a:path w="260" h="251">
                    <a:moveTo>
                      <a:pt x="167" y="188"/>
                    </a:moveTo>
                    <a:lnTo>
                      <a:pt x="144" y="166"/>
                    </a:lnTo>
                    <a:lnTo>
                      <a:pt x="118" y="140"/>
                    </a:lnTo>
                    <a:lnTo>
                      <a:pt x="90" y="112"/>
                    </a:lnTo>
                    <a:lnTo>
                      <a:pt x="63" y="83"/>
                    </a:lnTo>
                    <a:lnTo>
                      <a:pt x="38" y="57"/>
                    </a:lnTo>
                    <a:lnTo>
                      <a:pt x="18" y="35"/>
                    </a:lnTo>
                    <a:lnTo>
                      <a:pt x="4" y="20"/>
                    </a:lnTo>
                    <a:lnTo>
                      <a:pt x="0" y="15"/>
                    </a:lnTo>
                    <a:lnTo>
                      <a:pt x="2" y="0"/>
                    </a:lnTo>
                    <a:lnTo>
                      <a:pt x="9" y="6"/>
                    </a:lnTo>
                    <a:lnTo>
                      <a:pt x="29" y="20"/>
                    </a:lnTo>
                    <a:lnTo>
                      <a:pt x="58" y="43"/>
                    </a:lnTo>
                    <a:lnTo>
                      <a:pt x="92" y="69"/>
                    </a:lnTo>
                    <a:lnTo>
                      <a:pt x="129" y="96"/>
                    </a:lnTo>
                    <a:lnTo>
                      <a:pt x="166" y="122"/>
                    </a:lnTo>
                    <a:lnTo>
                      <a:pt x="196" y="145"/>
                    </a:lnTo>
                    <a:lnTo>
                      <a:pt x="219" y="161"/>
                    </a:lnTo>
                    <a:lnTo>
                      <a:pt x="234" y="173"/>
                    </a:lnTo>
                    <a:lnTo>
                      <a:pt x="245" y="182"/>
                    </a:lnTo>
                    <a:lnTo>
                      <a:pt x="252" y="192"/>
                    </a:lnTo>
                    <a:lnTo>
                      <a:pt x="257" y="201"/>
                    </a:lnTo>
                    <a:lnTo>
                      <a:pt x="259" y="210"/>
                    </a:lnTo>
                    <a:lnTo>
                      <a:pt x="260" y="220"/>
                    </a:lnTo>
                    <a:lnTo>
                      <a:pt x="260" y="231"/>
                    </a:lnTo>
                    <a:lnTo>
                      <a:pt x="259" y="243"/>
                    </a:lnTo>
                    <a:lnTo>
                      <a:pt x="258" y="247"/>
                    </a:lnTo>
                    <a:lnTo>
                      <a:pt x="257" y="249"/>
                    </a:lnTo>
                    <a:lnTo>
                      <a:pt x="255" y="251"/>
                    </a:lnTo>
                    <a:lnTo>
                      <a:pt x="251" y="251"/>
                    </a:lnTo>
                    <a:lnTo>
                      <a:pt x="247" y="250"/>
                    </a:lnTo>
                    <a:lnTo>
                      <a:pt x="242" y="248"/>
                    </a:lnTo>
                    <a:lnTo>
                      <a:pt x="236" y="245"/>
                    </a:lnTo>
                    <a:lnTo>
                      <a:pt x="230" y="242"/>
                    </a:lnTo>
                    <a:lnTo>
                      <a:pt x="216" y="231"/>
                    </a:lnTo>
                    <a:lnTo>
                      <a:pt x="201" y="218"/>
                    </a:lnTo>
                    <a:lnTo>
                      <a:pt x="184" y="204"/>
                    </a:lnTo>
                    <a:lnTo>
                      <a:pt x="167" y="188"/>
                    </a:lnTo>
                    <a:close/>
                  </a:path>
                </a:pathLst>
              </a:custGeom>
              <a:solidFill>
                <a:srgbClr val="a8a7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5559480" y="5146920"/>
                <a:ext cx="79200" cy="71280"/>
              </a:xfrm>
              <a:custGeom>
                <a:avLst/>
                <a:gdLst/>
                <a:ahLst/>
                <a:rect l="l" t="t" r="r" b="b"/>
                <a:pathLst>
                  <a:path w="252" h="226">
                    <a:moveTo>
                      <a:pt x="0" y="10"/>
                    </a:moveTo>
                    <a:lnTo>
                      <a:pt x="3" y="13"/>
                    </a:lnTo>
                    <a:lnTo>
                      <a:pt x="15" y="24"/>
                    </a:lnTo>
                    <a:lnTo>
                      <a:pt x="32" y="40"/>
                    </a:lnTo>
                    <a:lnTo>
                      <a:pt x="54" y="61"/>
                    </a:lnTo>
                    <a:lnTo>
                      <a:pt x="77" y="82"/>
                    </a:lnTo>
                    <a:lnTo>
                      <a:pt x="102" y="105"/>
                    </a:lnTo>
                    <a:lnTo>
                      <a:pt x="127" y="126"/>
                    </a:lnTo>
                    <a:lnTo>
                      <a:pt x="150" y="146"/>
                    </a:lnTo>
                    <a:lnTo>
                      <a:pt x="168" y="161"/>
                    </a:lnTo>
                    <a:lnTo>
                      <a:pt x="185" y="177"/>
                    </a:lnTo>
                    <a:lnTo>
                      <a:pt x="203" y="192"/>
                    </a:lnTo>
                    <a:lnTo>
                      <a:pt x="218" y="206"/>
                    </a:lnTo>
                    <a:lnTo>
                      <a:pt x="232" y="217"/>
                    </a:lnTo>
                    <a:lnTo>
                      <a:pt x="243" y="224"/>
                    </a:lnTo>
                    <a:lnTo>
                      <a:pt x="246" y="226"/>
                    </a:lnTo>
                    <a:lnTo>
                      <a:pt x="249" y="226"/>
                    </a:lnTo>
                    <a:lnTo>
                      <a:pt x="250" y="225"/>
                    </a:lnTo>
                    <a:lnTo>
                      <a:pt x="251" y="223"/>
                    </a:lnTo>
                    <a:lnTo>
                      <a:pt x="252" y="213"/>
                    </a:lnTo>
                    <a:lnTo>
                      <a:pt x="252" y="205"/>
                    </a:lnTo>
                    <a:lnTo>
                      <a:pt x="251" y="199"/>
                    </a:lnTo>
                    <a:lnTo>
                      <a:pt x="248" y="193"/>
                    </a:lnTo>
                    <a:lnTo>
                      <a:pt x="243" y="187"/>
                    </a:lnTo>
                    <a:lnTo>
                      <a:pt x="234" y="179"/>
                    </a:lnTo>
                    <a:lnTo>
                      <a:pt x="222" y="171"/>
                    </a:lnTo>
                    <a:lnTo>
                      <a:pt x="207" y="160"/>
                    </a:lnTo>
                    <a:lnTo>
                      <a:pt x="185" y="144"/>
                    </a:lnTo>
                    <a:lnTo>
                      <a:pt x="156" y="121"/>
                    </a:lnTo>
                    <a:lnTo>
                      <a:pt x="123" y="94"/>
                    </a:lnTo>
                    <a:lnTo>
                      <a:pt x="87" y="67"/>
                    </a:lnTo>
                    <a:lnTo>
                      <a:pt x="55" y="41"/>
                    </a:lnTo>
                    <a:lnTo>
                      <a:pt x="28" y="20"/>
                    </a:lnTo>
                    <a:lnTo>
                      <a:pt x="8" y="5"/>
                    </a:lnTo>
                    <a:lnTo>
                      <a:pt x="2" y="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aeae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flipH="1" flipV="1">
                <a:off x="5545080" y="5163840"/>
                <a:ext cx="23760" cy="95400"/>
              </a:xfrm>
              <a:prstGeom prst="line">
                <a:avLst/>
              </a:prstGeom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5537160" y="4883400"/>
                <a:ext cx="176400" cy="288720"/>
              </a:xfrm>
              <a:custGeom>
                <a:avLst/>
                <a:gdLst/>
                <a:ahLst/>
                <a:rect l="l" t="t" r="r" b="b"/>
                <a:pathLst>
                  <a:path w="553" h="910">
                    <a:moveTo>
                      <a:pt x="35" y="0"/>
                    </a:moveTo>
                    <a:lnTo>
                      <a:pt x="415" y="0"/>
                    </a:lnTo>
                    <a:lnTo>
                      <a:pt x="544" y="94"/>
                    </a:lnTo>
                    <a:lnTo>
                      <a:pt x="546" y="112"/>
                    </a:lnTo>
                    <a:lnTo>
                      <a:pt x="549" y="161"/>
                    </a:lnTo>
                    <a:lnTo>
                      <a:pt x="550" y="195"/>
                    </a:lnTo>
                    <a:lnTo>
                      <a:pt x="552" y="235"/>
                    </a:lnTo>
                    <a:lnTo>
                      <a:pt x="553" y="280"/>
                    </a:lnTo>
                    <a:lnTo>
                      <a:pt x="552" y="327"/>
                    </a:lnTo>
                    <a:lnTo>
                      <a:pt x="550" y="377"/>
                    </a:lnTo>
                    <a:lnTo>
                      <a:pt x="547" y="430"/>
                    </a:lnTo>
                    <a:lnTo>
                      <a:pt x="542" y="484"/>
                    </a:lnTo>
                    <a:lnTo>
                      <a:pt x="535" y="538"/>
                    </a:lnTo>
                    <a:lnTo>
                      <a:pt x="531" y="564"/>
                    </a:lnTo>
                    <a:lnTo>
                      <a:pt x="526" y="591"/>
                    </a:lnTo>
                    <a:lnTo>
                      <a:pt x="520" y="617"/>
                    </a:lnTo>
                    <a:lnTo>
                      <a:pt x="514" y="642"/>
                    </a:lnTo>
                    <a:lnTo>
                      <a:pt x="506" y="668"/>
                    </a:lnTo>
                    <a:lnTo>
                      <a:pt x="499" y="692"/>
                    </a:lnTo>
                    <a:lnTo>
                      <a:pt x="490" y="716"/>
                    </a:lnTo>
                    <a:lnTo>
                      <a:pt x="480" y="740"/>
                    </a:lnTo>
                    <a:lnTo>
                      <a:pt x="421" y="349"/>
                    </a:lnTo>
                    <a:lnTo>
                      <a:pt x="421" y="144"/>
                    </a:lnTo>
                    <a:lnTo>
                      <a:pt x="156" y="144"/>
                    </a:lnTo>
                    <a:lnTo>
                      <a:pt x="156" y="145"/>
                    </a:lnTo>
                    <a:lnTo>
                      <a:pt x="157" y="148"/>
                    </a:lnTo>
                    <a:lnTo>
                      <a:pt x="157" y="153"/>
                    </a:lnTo>
                    <a:lnTo>
                      <a:pt x="158" y="161"/>
                    </a:lnTo>
                    <a:lnTo>
                      <a:pt x="158" y="169"/>
                    </a:lnTo>
                    <a:lnTo>
                      <a:pt x="158" y="180"/>
                    </a:lnTo>
                    <a:lnTo>
                      <a:pt x="157" y="192"/>
                    </a:lnTo>
                    <a:lnTo>
                      <a:pt x="156" y="205"/>
                    </a:lnTo>
                    <a:lnTo>
                      <a:pt x="154" y="250"/>
                    </a:lnTo>
                    <a:lnTo>
                      <a:pt x="153" y="321"/>
                    </a:lnTo>
                    <a:lnTo>
                      <a:pt x="152" y="364"/>
                    </a:lnTo>
                    <a:lnTo>
                      <a:pt x="150" y="410"/>
                    </a:lnTo>
                    <a:lnTo>
                      <a:pt x="146" y="460"/>
                    </a:lnTo>
                    <a:lnTo>
                      <a:pt x="143" y="512"/>
                    </a:lnTo>
                    <a:lnTo>
                      <a:pt x="138" y="566"/>
                    </a:lnTo>
                    <a:lnTo>
                      <a:pt x="131" y="620"/>
                    </a:lnTo>
                    <a:lnTo>
                      <a:pt x="127" y="647"/>
                    </a:lnTo>
                    <a:lnTo>
                      <a:pt x="123" y="674"/>
                    </a:lnTo>
                    <a:lnTo>
                      <a:pt x="118" y="700"/>
                    </a:lnTo>
                    <a:lnTo>
                      <a:pt x="112" y="727"/>
                    </a:lnTo>
                    <a:lnTo>
                      <a:pt x="106" y="753"/>
                    </a:lnTo>
                    <a:lnTo>
                      <a:pt x="100" y="777"/>
                    </a:lnTo>
                    <a:lnTo>
                      <a:pt x="92" y="801"/>
                    </a:lnTo>
                    <a:lnTo>
                      <a:pt x="84" y="825"/>
                    </a:lnTo>
                    <a:lnTo>
                      <a:pt x="75" y="848"/>
                    </a:lnTo>
                    <a:lnTo>
                      <a:pt x="66" y="869"/>
                    </a:lnTo>
                    <a:lnTo>
                      <a:pt x="56" y="891"/>
                    </a:lnTo>
                    <a:lnTo>
                      <a:pt x="45" y="910"/>
                    </a:lnTo>
                    <a:lnTo>
                      <a:pt x="1" y="910"/>
                    </a:lnTo>
                    <a:lnTo>
                      <a:pt x="1" y="905"/>
                    </a:lnTo>
                    <a:lnTo>
                      <a:pt x="0" y="891"/>
                    </a:lnTo>
                    <a:lnTo>
                      <a:pt x="0" y="867"/>
                    </a:lnTo>
                    <a:lnTo>
                      <a:pt x="1" y="835"/>
                    </a:lnTo>
                    <a:lnTo>
                      <a:pt x="2" y="793"/>
                    </a:lnTo>
                    <a:lnTo>
                      <a:pt x="5" y="741"/>
                    </a:lnTo>
                    <a:lnTo>
                      <a:pt x="9" y="680"/>
                    </a:lnTo>
                    <a:lnTo>
                      <a:pt x="16" y="611"/>
                    </a:lnTo>
                    <a:lnTo>
                      <a:pt x="22" y="543"/>
                    </a:lnTo>
                    <a:lnTo>
                      <a:pt x="27" y="485"/>
                    </a:lnTo>
                    <a:lnTo>
                      <a:pt x="30" y="433"/>
                    </a:lnTo>
                    <a:lnTo>
                      <a:pt x="33" y="385"/>
                    </a:lnTo>
                    <a:lnTo>
                      <a:pt x="34" y="339"/>
                    </a:lnTo>
                    <a:lnTo>
                      <a:pt x="35" y="290"/>
                    </a:lnTo>
                    <a:lnTo>
                      <a:pt x="35" y="237"/>
                    </a:lnTo>
                    <a:lnTo>
                      <a:pt x="35" y="178"/>
                    </a:lnTo>
                    <a:lnTo>
                      <a:pt x="35" y="121"/>
                    </a:lnTo>
                    <a:lnTo>
                      <a:pt x="35" y="78"/>
                    </a:lnTo>
                    <a:lnTo>
                      <a:pt x="35" y="46"/>
                    </a:lnTo>
                    <a:lnTo>
                      <a:pt x="35" y="25"/>
                    </a:lnTo>
                    <a:lnTo>
                      <a:pt x="35" y="11"/>
                    </a:lnTo>
                    <a:lnTo>
                      <a:pt x="35" y="3"/>
                    </a:lnTo>
                    <a:lnTo>
                      <a:pt x="35" y="1"/>
                    </a:lnTo>
                    <a:lnTo>
                      <a:pt x="35" y="0"/>
                    </a:lnTo>
                    <a:close/>
                  </a:path>
                </a:pathLst>
              </a:custGeom>
              <a:solidFill>
                <a:srgbClr val="b5b5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5670360" y="4929120"/>
                <a:ext cx="33480" cy="177840"/>
              </a:xfrm>
              <a:custGeom>
                <a:avLst/>
                <a:gdLst/>
                <a:ahLst/>
                <a:rect l="l" t="t" r="r" b="b"/>
                <a:pathLst>
                  <a:path w="106" h="561">
                    <a:moveTo>
                      <a:pt x="0" y="0"/>
                    </a:moveTo>
                    <a:lnTo>
                      <a:pt x="92" y="0"/>
                    </a:lnTo>
                    <a:lnTo>
                      <a:pt x="93" y="11"/>
                    </a:lnTo>
                    <a:lnTo>
                      <a:pt x="98" y="46"/>
                    </a:lnTo>
                    <a:lnTo>
                      <a:pt x="100" y="70"/>
                    </a:lnTo>
                    <a:lnTo>
                      <a:pt x="102" y="99"/>
                    </a:lnTo>
                    <a:lnTo>
                      <a:pt x="105" y="132"/>
                    </a:lnTo>
                    <a:lnTo>
                      <a:pt x="106" y="169"/>
                    </a:lnTo>
                    <a:lnTo>
                      <a:pt x="106" y="209"/>
                    </a:lnTo>
                    <a:lnTo>
                      <a:pt x="105" y="252"/>
                    </a:lnTo>
                    <a:lnTo>
                      <a:pt x="101" y="299"/>
                    </a:lnTo>
                    <a:lnTo>
                      <a:pt x="97" y="348"/>
                    </a:lnTo>
                    <a:lnTo>
                      <a:pt x="91" y="399"/>
                    </a:lnTo>
                    <a:lnTo>
                      <a:pt x="82" y="451"/>
                    </a:lnTo>
                    <a:lnTo>
                      <a:pt x="77" y="478"/>
                    </a:lnTo>
                    <a:lnTo>
                      <a:pt x="71" y="505"/>
                    </a:lnTo>
                    <a:lnTo>
                      <a:pt x="64" y="533"/>
                    </a:lnTo>
                    <a:lnTo>
                      <a:pt x="57" y="561"/>
                    </a:lnTo>
                    <a:lnTo>
                      <a:pt x="0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38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5537160" y="4883400"/>
                <a:ext cx="41400" cy="288720"/>
              </a:xfrm>
              <a:custGeom>
                <a:avLst/>
                <a:gdLst/>
                <a:ahLst/>
                <a:rect l="l" t="t" r="r" b="b"/>
                <a:pathLst>
                  <a:path w="132" h="910">
                    <a:moveTo>
                      <a:pt x="16" y="910"/>
                    </a:moveTo>
                    <a:lnTo>
                      <a:pt x="1" y="910"/>
                    </a:lnTo>
                    <a:lnTo>
                      <a:pt x="1" y="905"/>
                    </a:lnTo>
                    <a:lnTo>
                      <a:pt x="0" y="891"/>
                    </a:lnTo>
                    <a:lnTo>
                      <a:pt x="0" y="867"/>
                    </a:lnTo>
                    <a:lnTo>
                      <a:pt x="1" y="835"/>
                    </a:lnTo>
                    <a:lnTo>
                      <a:pt x="2" y="793"/>
                    </a:lnTo>
                    <a:lnTo>
                      <a:pt x="5" y="741"/>
                    </a:lnTo>
                    <a:lnTo>
                      <a:pt x="9" y="680"/>
                    </a:lnTo>
                    <a:lnTo>
                      <a:pt x="16" y="611"/>
                    </a:lnTo>
                    <a:lnTo>
                      <a:pt x="22" y="543"/>
                    </a:lnTo>
                    <a:lnTo>
                      <a:pt x="27" y="485"/>
                    </a:lnTo>
                    <a:lnTo>
                      <a:pt x="30" y="433"/>
                    </a:lnTo>
                    <a:lnTo>
                      <a:pt x="33" y="385"/>
                    </a:lnTo>
                    <a:lnTo>
                      <a:pt x="34" y="339"/>
                    </a:lnTo>
                    <a:lnTo>
                      <a:pt x="35" y="290"/>
                    </a:lnTo>
                    <a:lnTo>
                      <a:pt x="35" y="237"/>
                    </a:lnTo>
                    <a:lnTo>
                      <a:pt x="35" y="178"/>
                    </a:lnTo>
                    <a:lnTo>
                      <a:pt x="35" y="121"/>
                    </a:lnTo>
                    <a:lnTo>
                      <a:pt x="35" y="78"/>
                    </a:lnTo>
                    <a:lnTo>
                      <a:pt x="35" y="46"/>
                    </a:lnTo>
                    <a:lnTo>
                      <a:pt x="35" y="25"/>
                    </a:lnTo>
                    <a:lnTo>
                      <a:pt x="35" y="11"/>
                    </a:lnTo>
                    <a:lnTo>
                      <a:pt x="35" y="3"/>
                    </a:lnTo>
                    <a:lnTo>
                      <a:pt x="35" y="1"/>
                    </a:lnTo>
                    <a:lnTo>
                      <a:pt x="35" y="0"/>
                    </a:lnTo>
                    <a:lnTo>
                      <a:pt x="131" y="97"/>
                    </a:lnTo>
                    <a:lnTo>
                      <a:pt x="131" y="110"/>
                    </a:lnTo>
                    <a:lnTo>
                      <a:pt x="132" y="146"/>
                    </a:lnTo>
                    <a:lnTo>
                      <a:pt x="132" y="201"/>
                    </a:lnTo>
                    <a:lnTo>
                      <a:pt x="132" y="268"/>
                    </a:lnTo>
                    <a:lnTo>
                      <a:pt x="131" y="342"/>
                    </a:lnTo>
                    <a:lnTo>
                      <a:pt x="128" y="419"/>
                    </a:lnTo>
                    <a:lnTo>
                      <a:pt x="126" y="457"/>
                    </a:lnTo>
                    <a:lnTo>
                      <a:pt x="124" y="492"/>
                    </a:lnTo>
                    <a:lnTo>
                      <a:pt x="121" y="527"/>
                    </a:lnTo>
                    <a:lnTo>
                      <a:pt x="116" y="559"/>
                    </a:lnTo>
                    <a:lnTo>
                      <a:pt x="109" y="615"/>
                    </a:lnTo>
                    <a:lnTo>
                      <a:pt x="101" y="666"/>
                    </a:lnTo>
                    <a:lnTo>
                      <a:pt x="92" y="713"/>
                    </a:lnTo>
                    <a:lnTo>
                      <a:pt x="84" y="754"/>
                    </a:lnTo>
                    <a:lnTo>
                      <a:pt x="79" y="773"/>
                    </a:lnTo>
                    <a:lnTo>
                      <a:pt x="74" y="792"/>
                    </a:lnTo>
                    <a:lnTo>
                      <a:pt x="69" y="809"/>
                    </a:lnTo>
                    <a:lnTo>
                      <a:pt x="63" y="826"/>
                    </a:lnTo>
                    <a:lnTo>
                      <a:pt x="57" y="842"/>
                    </a:lnTo>
                    <a:lnTo>
                      <a:pt x="50" y="857"/>
                    </a:lnTo>
                    <a:lnTo>
                      <a:pt x="43" y="873"/>
                    </a:lnTo>
                    <a:lnTo>
                      <a:pt x="35" y="888"/>
                    </a:lnTo>
                    <a:lnTo>
                      <a:pt x="16" y="910"/>
                    </a:lnTo>
                    <a:close/>
                  </a:path>
                </a:pathLst>
              </a:custGeom>
              <a:solidFill>
                <a:srgbClr val="969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5554800" y="4884840"/>
                <a:ext cx="150480" cy="28440"/>
              </a:xfrm>
              <a:custGeom>
                <a:avLst/>
                <a:gdLst/>
                <a:ahLst/>
                <a:rect l="l" t="t" r="r" b="b"/>
                <a:pathLst>
                  <a:path w="473" h="87">
                    <a:moveTo>
                      <a:pt x="0" y="0"/>
                    </a:moveTo>
                    <a:lnTo>
                      <a:pt x="92" y="87"/>
                    </a:lnTo>
                    <a:lnTo>
                      <a:pt x="473" y="87"/>
                    </a:lnTo>
                    <a:lnTo>
                      <a:pt x="35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1d0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5537160" y="4883400"/>
                <a:ext cx="176400" cy="288720"/>
              </a:xfrm>
              <a:custGeom>
                <a:avLst/>
                <a:gdLst/>
                <a:ahLst/>
                <a:rect l="l" t="t" r="r" b="b"/>
                <a:pathLst>
                  <a:path w="553" h="910">
                    <a:moveTo>
                      <a:pt x="35" y="0"/>
                    </a:moveTo>
                    <a:lnTo>
                      <a:pt x="415" y="0"/>
                    </a:lnTo>
                    <a:lnTo>
                      <a:pt x="544" y="94"/>
                    </a:lnTo>
                    <a:lnTo>
                      <a:pt x="546" y="112"/>
                    </a:lnTo>
                    <a:lnTo>
                      <a:pt x="549" y="161"/>
                    </a:lnTo>
                    <a:lnTo>
                      <a:pt x="550" y="195"/>
                    </a:lnTo>
                    <a:lnTo>
                      <a:pt x="552" y="235"/>
                    </a:lnTo>
                    <a:lnTo>
                      <a:pt x="553" y="280"/>
                    </a:lnTo>
                    <a:lnTo>
                      <a:pt x="552" y="327"/>
                    </a:lnTo>
                    <a:lnTo>
                      <a:pt x="550" y="377"/>
                    </a:lnTo>
                    <a:lnTo>
                      <a:pt x="547" y="430"/>
                    </a:lnTo>
                    <a:lnTo>
                      <a:pt x="542" y="484"/>
                    </a:lnTo>
                    <a:lnTo>
                      <a:pt x="535" y="538"/>
                    </a:lnTo>
                    <a:lnTo>
                      <a:pt x="531" y="564"/>
                    </a:lnTo>
                    <a:lnTo>
                      <a:pt x="526" y="591"/>
                    </a:lnTo>
                    <a:lnTo>
                      <a:pt x="520" y="617"/>
                    </a:lnTo>
                    <a:lnTo>
                      <a:pt x="514" y="642"/>
                    </a:lnTo>
                    <a:lnTo>
                      <a:pt x="506" y="668"/>
                    </a:lnTo>
                    <a:lnTo>
                      <a:pt x="499" y="692"/>
                    </a:lnTo>
                    <a:lnTo>
                      <a:pt x="490" y="716"/>
                    </a:lnTo>
                    <a:lnTo>
                      <a:pt x="480" y="740"/>
                    </a:lnTo>
                    <a:lnTo>
                      <a:pt x="421" y="349"/>
                    </a:lnTo>
                    <a:lnTo>
                      <a:pt x="421" y="144"/>
                    </a:lnTo>
                    <a:lnTo>
                      <a:pt x="156" y="144"/>
                    </a:lnTo>
                    <a:lnTo>
                      <a:pt x="156" y="145"/>
                    </a:lnTo>
                    <a:lnTo>
                      <a:pt x="157" y="148"/>
                    </a:lnTo>
                    <a:lnTo>
                      <a:pt x="157" y="153"/>
                    </a:lnTo>
                    <a:lnTo>
                      <a:pt x="158" y="161"/>
                    </a:lnTo>
                    <a:lnTo>
                      <a:pt x="158" y="169"/>
                    </a:lnTo>
                    <a:lnTo>
                      <a:pt x="158" y="180"/>
                    </a:lnTo>
                    <a:lnTo>
                      <a:pt x="157" y="192"/>
                    </a:lnTo>
                    <a:lnTo>
                      <a:pt x="156" y="205"/>
                    </a:lnTo>
                    <a:lnTo>
                      <a:pt x="154" y="250"/>
                    </a:lnTo>
                    <a:lnTo>
                      <a:pt x="153" y="321"/>
                    </a:lnTo>
                    <a:lnTo>
                      <a:pt x="152" y="364"/>
                    </a:lnTo>
                    <a:lnTo>
                      <a:pt x="150" y="410"/>
                    </a:lnTo>
                    <a:lnTo>
                      <a:pt x="146" y="460"/>
                    </a:lnTo>
                    <a:lnTo>
                      <a:pt x="143" y="512"/>
                    </a:lnTo>
                    <a:lnTo>
                      <a:pt x="138" y="566"/>
                    </a:lnTo>
                    <a:lnTo>
                      <a:pt x="131" y="620"/>
                    </a:lnTo>
                    <a:lnTo>
                      <a:pt x="127" y="647"/>
                    </a:lnTo>
                    <a:lnTo>
                      <a:pt x="123" y="674"/>
                    </a:lnTo>
                    <a:lnTo>
                      <a:pt x="118" y="700"/>
                    </a:lnTo>
                    <a:lnTo>
                      <a:pt x="112" y="727"/>
                    </a:lnTo>
                    <a:lnTo>
                      <a:pt x="106" y="753"/>
                    </a:lnTo>
                    <a:lnTo>
                      <a:pt x="100" y="777"/>
                    </a:lnTo>
                    <a:lnTo>
                      <a:pt x="92" y="801"/>
                    </a:lnTo>
                    <a:lnTo>
                      <a:pt x="84" y="825"/>
                    </a:lnTo>
                    <a:lnTo>
                      <a:pt x="75" y="848"/>
                    </a:lnTo>
                    <a:lnTo>
                      <a:pt x="66" y="869"/>
                    </a:lnTo>
                    <a:lnTo>
                      <a:pt x="56" y="891"/>
                    </a:lnTo>
                    <a:lnTo>
                      <a:pt x="45" y="910"/>
                    </a:lnTo>
                    <a:lnTo>
                      <a:pt x="1" y="910"/>
                    </a:lnTo>
                    <a:lnTo>
                      <a:pt x="1" y="905"/>
                    </a:lnTo>
                    <a:lnTo>
                      <a:pt x="0" y="891"/>
                    </a:lnTo>
                    <a:lnTo>
                      <a:pt x="0" y="867"/>
                    </a:lnTo>
                    <a:lnTo>
                      <a:pt x="1" y="835"/>
                    </a:lnTo>
                    <a:lnTo>
                      <a:pt x="2" y="793"/>
                    </a:lnTo>
                    <a:lnTo>
                      <a:pt x="5" y="741"/>
                    </a:lnTo>
                    <a:lnTo>
                      <a:pt x="9" y="680"/>
                    </a:lnTo>
                    <a:lnTo>
                      <a:pt x="16" y="611"/>
                    </a:lnTo>
                    <a:lnTo>
                      <a:pt x="22" y="543"/>
                    </a:lnTo>
                    <a:lnTo>
                      <a:pt x="27" y="485"/>
                    </a:lnTo>
                    <a:lnTo>
                      <a:pt x="30" y="433"/>
                    </a:lnTo>
                    <a:lnTo>
                      <a:pt x="33" y="385"/>
                    </a:lnTo>
                    <a:lnTo>
                      <a:pt x="34" y="339"/>
                    </a:lnTo>
                    <a:lnTo>
                      <a:pt x="35" y="290"/>
                    </a:lnTo>
                    <a:lnTo>
                      <a:pt x="35" y="237"/>
                    </a:lnTo>
                    <a:lnTo>
                      <a:pt x="35" y="178"/>
                    </a:lnTo>
                    <a:lnTo>
                      <a:pt x="35" y="121"/>
                    </a:lnTo>
                    <a:lnTo>
                      <a:pt x="35" y="78"/>
                    </a:lnTo>
                    <a:lnTo>
                      <a:pt x="35" y="46"/>
                    </a:lnTo>
                    <a:lnTo>
                      <a:pt x="35" y="25"/>
                    </a:lnTo>
                    <a:lnTo>
                      <a:pt x="35" y="11"/>
                    </a:lnTo>
                    <a:lnTo>
                      <a:pt x="35" y="3"/>
                    </a:lnTo>
                    <a:lnTo>
                      <a:pt x="35" y="1"/>
                    </a:lnTo>
                    <a:lnTo>
                      <a:pt x="35" y="0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5518080" y="5129280"/>
                <a:ext cx="27000" cy="31680"/>
              </a:xfrm>
              <a:custGeom>
                <a:avLst/>
                <a:gdLst/>
                <a:ahLst/>
                <a:rect l="l" t="t" r="r" b="b"/>
                <a:pathLst>
                  <a:path w="84" h="101">
                    <a:moveTo>
                      <a:pt x="5" y="69"/>
                    </a:moveTo>
                    <a:lnTo>
                      <a:pt x="67" y="101"/>
                    </a:lnTo>
                    <a:lnTo>
                      <a:pt x="68" y="100"/>
                    </a:lnTo>
                    <a:lnTo>
                      <a:pt x="73" y="93"/>
                    </a:lnTo>
                    <a:lnTo>
                      <a:pt x="77" y="83"/>
                    </a:lnTo>
                    <a:lnTo>
                      <a:pt x="81" y="70"/>
                    </a:lnTo>
                    <a:lnTo>
                      <a:pt x="83" y="64"/>
                    </a:lnTo>
                    <a:lnTo>
                      <a:pt x="84" y="55"/>
                    </a:lnTo>
                    <a:lnTo>
                      <a:pt x="84" y="48"/>
                    </a:lnTo>
                    <a:lnTo>
                      <a:pt x="83" y="39"/>
                    </a:lnTo>
                    <a:lnTo>
                      <a:pt x="81" y="29"/>
                    </a:lnTo>
                    <a:lnTo>
                      <a:pt x="78" y="20"/>
                    </a:lnTo>
                    <a:lnTo>
                      <a:pt x="74" y="10"/>
                    </a:lnTo>
                    <a:lnTo>
                      <a:pt x="67" y="0"/>
                    </a:lnTo>
                    <a:lnTo>
                      <a:pt x="5" y="32"/>
                    </a:lnTo>
                    <a:lnTo>
                      <a:pt x="5" y="33"/>
                    </a:lnTo>
                    <a:lnTo>
                      <a:pt x="5" y="33"/>
                    </a:lnTo>
                    <a:lnTo>
                      <a:pt x="3" y="34"/>
                    </a:lnTo>
                    <a:lnTo>
                      <a:pt x="2" y="35"/>
                    </a:lnTo>
                    <a:lnTo>
                      <a:pt x="1" y="37"/>
                    </a:lnTo>
                    <a:lnTo>
                      <a:pt x="1" y="40"/>
                    </a:lnTo>
                    <a:lnTo>
                      <a:pt x="0" y="45"/>
                    </a:lnTo>
                    <a:lnTo>
                      <a:pt x="0" y="49"/>
                    </a:lnTo>
                    <a:lnTo>
                      <a:pt x="0" y="55"/>
                    </a:lnTo>
                    <a:lnTo>
                      <a:pt x="1" y="60"/>
                    </a:lnTo>
                    <a:lnTo>
                      <a:pt x="1" y="63"/>
                    </a:lnTo>
                    <a:lnTo>
                      <a:pt x="2" y="66"/>
                    </a:lnTo>
                    <a:lnTo>
                      <a:pt x="3" y="67"/>
                    </a:lnTo>
                    <a:lnTo>
                      <a:pt x="5" y="68"/>
                    </a:lnTo>
                    <a:lnTo>
                      <a:pt x="5" y="69"/>
                    </a:lnTo>
                    <a:lnTo>
                      <a:pt x="5" y="69"/>
                    </a:lnTo>
                    <a:close/>
                  </a:path>
                </a:pathLst>
              </a:custGeom>
              <a:solidFill>
                <a:srgbClr val="b5b5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5518080" y="5129280"/>
                <a:ext cx="27000" cy="31680"/>
              </a:xfrm>
              <a:custGeom>
                <a:avLst/>
                <a:gdLst/>
                <a:ahLst/>
                <a:rect l="l" t="t" r="r" b="b"/>
                <a:pathLst>
                  <a:path w="84" h="101">
                    <a:moveTo>
                      <a:pt x="5" y="69"/>
                    </a:moveTo>
                    <a:lnTo>
                      <a:pt x="67" y="101"/>
                    </a:lnTo>
                    <a:lnTo>
                      <a:pt x="68" y="100"/>
                    </a:lnTo>
                    <a:lnTo>
                      <a:pt x="73" y="93"/>
                    </a:lnTo>
                    <a:lnTo>
                      <a:pt x="77" y="83"/>
                    </a:lnTo>
                    <a:lnTo>
                      <a:pt x="81" y="70"/>
                    </a:lnTo>
                    <a:lnTo>
                      <a:pt x="83" y="64"/>
                    </a:lnTo>
                    <a:lnTo>
                      <a:pt x="84" y="55"/>
                    </a:lnTo>
                    <a:lnTo>
                      <a:pt x="84" y="48"/>
                    </a:lnTo>
                    <a:lnTo>
                      <a:pt x="83" y="39"/>
                    </a:lnTo>
                    <a:lnTo>
                      <a:pt x="81" y="29"/>
                    </a:lnTo>
                    <a:lnTo>
                      <a:pt x="78" y="20"/>
                    </a:lnTo>
                    <a:lnTo>
                      <a:pt x="74" y="10"/>
                    </a:lnTo>
                    <a:lnTo>
                      <a:pt x="67" y="0"/>
                    </a:lnTo>
                    <a:lnTo>
                      <a:pt x="5" y="32"/>
                    </a:lnTo>
                    <a:lnTo>
                      <a:pt x="5" y="33"/>
                    </a:lnTo>
                    <a:lnTo>
                      <a:pt x="5" y="33"/>
                    </a:lnTo>
                    <a:lnTo>
                      <a:pt x="3" y="34"/>
                    </a:lnTo>
                    <a:lnTo>
                      <a:pt x="2" y="35"/>
                    </a:lnTo>
                    <a:lnTo>
                      <a:pt x="1" y="37"/>
                    </a:lnTo>
                    <a:lnTo>
                      <a:pt x="1" y="40"/>
                    </a:lnTo>
                    <a:lnTo>
                      <a:pt x="0" y="45"/>
                    </a:lnTo>
                    <a:lnTo>
                      <a:pt x="0" y="49"/>
                    </a:lnTo>
                    <a:lnTo>
                      <a:pt x="0" y="55"/>
                    </a:lnTo>
                    <a:lnTo>
                      <a:pt x="1" y="60"/>
                    </a:lnTo>
                    <a:lnTo>
                      <a:pt x="1" y="63"/>
                    </a:lnTo>
                    <a:lnTo>
                      <a:pt x="2" y="66"/>
                    </a:lnTo>
                    <a:lnTo>
                      <a:pt x="3" y="67"/>
                    </a:lnTo>
                    <a:lnTo>
                      <a:pt x="5" y="68"/>
                    </a:lnTo>
                    <a:lnTo>
                      <a:pt x="5" y="69"/>
                    </a:lnTo>
                    <a:lnTo>
                      <a:pt x="5" y="69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5519880" y="5140440"/>
                <a:ext cx="1440" cy="11160"/>
              </a:xfrm>
              <a:custGeom>
                <a:avLst/>
                <a:gdLst/>
                <a:ahLst/>
                <a:rect l="l" t="t" r="r" b="b"/>
                <a:pathLst>
                  <a:path w="4" h="37">
                    <a:moveTo>
                      <a:pt x="0" y="0"/>
                    </a:moveTo>
                    <a:lnTo>
                      <a:pt x="1" y="1"/>
                    </a:lnTo>
                    <a:lnTo>
                      <a:pt x="2" y="3"/>
                    </a:lnTo>
                    <a:lnTo>
                      <a:pt x="3" y="5"/>
                    </a:lnTo>
                    <a:lnTo>
                      <a:pt x="4" y="9"/>
                    </a:lnTo>
                    <a:lnTo>
                      <a:pt x="4" y="15"/>
                    </a:lnTo>
                    <a:lnTo>
                      <a:pt x="4" y="21"/>
                    </a:lnTo>
                    <a:lnTo>
                      <a:pt x="3" y="29"/>
                    </a:lnTo>
                    <a:lnTo>
                      <a:pt x="0" y="3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5b5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5519880" y="5140440"/>
                <a:ext cx="1440" cy="11160"/>
              </a:xfrm>
              <a:custGeom>
                <a:avLst/>
                <a:gdLst/>
                <a:ahLst/>
                <a:rect l="l" t="t" r="r" b="b"/>
                <a:pathLst>
                  <a:path w="4" h="37">
                    <a:moveTo>
                      <a:pt x="0" y="0"/>
                    </a:moveTo>
                    <a:lnTo>
                      <a:pt x="1" y="1"/>
                    </a:lnTo>
                    <a:lnTo>
                      <a:pt x="2" y="3"/>
                    </a:lnTo>
                    <a:lnTo>
                      <a:pt x="3" y="5"/>
                    </a:lnTo>
                    <a:lnTo>
                      <a:pt x="4" y="9"/>
                    </a:lnTo>
                    <a:lnTo>
                      <a:pt x="4" y="15"/>
                    </a:lnTo>
                    <a:lnTo>
                      <a:pt x="4" y="21"/>
                    </a:lnTo>
                    <a:lnTo>
                      <a:pt x="3" y="29"/>
                    </a:lnTo>
                    <a:lnTo>
                      <a:pt x="0" y="37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5611680" y="4946760"/>
                <a:ext cx="88920" cy="264960"/>
              </a:xfrm>
              <a:custGeom>
                <a:avLst/>
                <a:gdLst/>
                <a:ahLst/>
                <a:rect l="l" t="t" r="r" b="b"/>
                <a:pathLst>
                  <a:path w="280" h="835">
                    <a:moveTo>
                      <a:pt x="0" y="0"/>
                    </a:moveTo>
                    <a:lnTo>
                      <a:pt x="5" y="0"/>
                    </a:lnTo>
                    <a:lnTo>
                      <a:pt x="17" y="0"/>
                    </a:lnTo>
                    <a:lnTo>
                      <a:pt x="36" y="0"/>
                    </a:lnTo>
                    <a:lnTo>
                      <a:pt x="56" y="0"/>
                    </a:lnTo>
                    <a:lnTo>
                      <a:pt x="77" y="0"/>
                    </a:lnTo>
                    <a:lnTo>
                      <a:pt x="95" y="0"/>
                    </a:lnTo>
                    <a:lnTo>
                      <a:pt x="108" y="0"/>
                    </a:lnTo>
                    <a:lnTo>
                      <a:pt x="115" y="0"/>
                    </a:lnTo>
                    <a:lnTo>
                      <a:pt x="122" y="1"/>
                    </a:lnTo>
                    <a:lnTo>
                      <a:pt x="131" y="3"/>
                    </a:lnTo>
                    <a:lnTo>
                      <a:pt x="139" y="7"/>
                    </a:lnTo>
                    <a:lnTo>
                      <a:pt x="147" y="12"/>
                    </a:lnTo>
                    <a:lnTo>
                      <a:pt x="156" y="20"/>
                    </a:lnTo>
                    <a:lnTo>
                      <a:pt x="163" y="29"/>
                    </a:lnTo>
                    <a:lnTo>
                      <a:pt x="171" y="38"/>
                    </a:lnTo>
                    <a:lnTo>
                      <a:pt x="178" y="50"/>
                    </a:lnTo>
                    <a:lnTo>
                      <a:pt x="186" y="62"/>
                    </a:lnTo>
                    <a:lnTo>
                      <a:pt x="193" y="76"/>
                    </a:lnTo>
                    <a:lnTo>
                      <a:pt x="200" y="91"/>
                    </a:lnTo>
                    <a:lnTo>
                      <a:pt x="206" y="109"/>
                    </a:lnTo>
                    <a:lnTo>
                      <a:pt x="213" y="126"/>
                    </a:lnTo>
                    <a:lnTo>
                      <a:pt x="219" y="144"/>
                    </a:lnTo>
                    <a:lnTo>
                      <a:pt x="226" y="165"/>
                    </a:lnTo>
                    <a:lnTo>
                      <a:pt x="231" y="185"/>
                    </a:lnTo>
                    <a:lnTo>
                      <a:pt x="242" y="231"/>
                    </a:lnTo>
                    <a:lnTo>
                      <a:pt x="252" y="279"/>
                    </a:lnTo>
                    <a:lnTo>
                      <a:pt x="259" y="331"/>
                    </a:lnTo>
                    <a:lnTo>
                      <a:pt x="267" y="387"/>
                    </a:lnTo>
                    <a:lnTo>
                      <a:pt x="272" y="444"/>
                    </a:lnTo>
                    <a:lnTo>
                      <a:pt x="277" y="505"/>
                    </a:lnTo>
                    <a:lnTo>
                      <a:pt x="279" y="569"/>
                    </a:lnTo>
                    <a:lnTo>
                      <a:pt x="280" y="632"/>
                    </a:lnTo>
                    <a:lnTo>
                      <a:pt x="280" y="659"/>
                    </a:lnTo>
                    <a:lnTo>
                      <a:pt x="279" y="685"/>
                    </a:lnTo>
                    <a:lnTo>
                      <a:pt x="279" y="711"/>
                    </a:lnTo>
                    <a:lnTo>
                      <a:pt x="278" y="737"/>
                    </a:lnTo>
                    <a:lnTo>
                      <a:pt x="277" y="762"/>
                    </a:lnTo>
                    <a:lnTo>
                      <a:pt x="275" y="787"/>
                    </a:lnTo>
                    <a:lnTo>
                      <a:pt x="274" y="812"/>
                    </a:lnTo>
                    <a:lnTo>
                      <a:pt x="272" y="835"/>
                    </a:lnTo>
                    <a:lnTo>
                      <a:pt x="119" y="11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e43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5584680" y="4915080"/>
                <a:ext cx="120600" cy="144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5651640" y="4991040"/>
                <a:ext cx="45720" cy="166680"/>
              </a:xfrm>
              <a:custGeom>
                <a:avLst/>
                <a:gdLst/>
                <a:ahLst/>
                <a:rect l="l" t="t" r="r" b="b"/>
                <a:pathLst>
                  <a:path w="147" h="526">
                    <a:moveTo>
                      <a:pt x="4" y="80"/>
                    </a:moveTo>
                    <a:lnTo>
                      <a:pt x="6" y="89"/>
                    </a:lnTo>
                    <a:lnTo>
                      <a:pt x="10" y="116"/>
                    </a:lnTo>
                    <a:lnTo>
                      <a:pt x="17" y="159"/>
                    </a:lnTo>
                    <a:lnTo>
                      <a:pt x="24" y="210"/>
                    </a:lnTo>
                    <a:lnTo>
                      <a:pt x="31" y="269"/>
                    </a:lnTo>
                    <a:lnTo>
                      <a:pt x="37" y="330"/>
                    </a:lnTo>
                    <a:lnTo>
                      <a:pt x="39" y="360"/>
                    </a:lnTo>
                    <a:lnTo>
                      <a:pt x="41" y="391"/>
                    </a:lnTo>
                    <a:lnTo>
                      <a:pt x="42" y="420"/>
                    </a:lnTo>
                    <a:lnTo>
                      <a:pt x="44" y="448"/>
                    </a:lnTo>
                    <a:lnTo>
                      <a:pt x="44" y="460"/>
                    </a:lnTo>
                    <a:lnTo>
                      <a:pt x="45" y="472"/>
                    </a:lnTo>
                    <a:lnTo>
                      <a:pt x="46" y="481"/>
                    </a:lnTo>
                    <a:lnTo>
                      <a:pt x="48" y="491"/>
                    </a:lnTo>
                    <a:lnTo>
                      <a:pt x="50" y="499"/>
                    </a:lnTo>
                    <a:lnTo>
                      <a:pt x="53" y="505"/>
                    </a:lnTo>
                    <a:lnTo>
                      <a:pt x="57" y="511"/>
                    </a:lnTo>
                    <a:lnTo>
                      <a:pt x="60" y="516"/>
                    </a:lnTo>
                    <a:lnTo>
                      <a:pt x="63" y="519"/>
                    </a:lnTo>
                    <a:lnTo>
                      <a:pt x="67" y="522"/>
                    </a:lnTo>
                    <a:lnTo>
                      <a:pt x="72" y="525"/>
                    </a:lnTo>
                    <a:lnTo>
                      <a:pt x="76" y="526"/>
                    </a:lnTo>
                    <a:lnTo>
                      <a:pt x="81" y="526"/>
                    </a:lnTo>
                    <a:lnTo>
                      <a:pt x="86" y="526"/>
                    </a:lnTo>
                    <a:lnTo>
                      <a:pt x="90" y="525"/>
                    </a:lnTo>
                    <a:lnTo>
                      <a:pt x="95" y="522"/>
                    </a:lnTo>
                    <a:lnTo>
                      <a:pt x="105" y="517"/>
                    </a:lnTo>
                    <a:lnTo>
                      <a:pt x="115" y="510"/>
                    </a:lnTo>
                    <a:lnTo>
                      <a:pt x="123" y="500"/>
                    </a:lnTo>
                    <a:lnTo>
                      <a:pt x="131" y="489"/>
                    </a:lnTo>
                    <a:lnTo>
                      <a:pt x="138" y="477"/>
                    </a:lnTo>
                    <a:lnTo>
                      <a:pt x="143" y="464"/>
                    </a:lnTo>
                    <a:lnTo>
                      <a:pt x="146" y="451"/>
                    </a:lnTo>
                    <a:lnTo>
                      <a:pt x="147" y="438"/>
                    </a:lnTo>
                    <a:lnTo>
                      <a:pt x="147" y="405"/>
                    </a:lnTo>
                    <a:lnTo>
                      <a:pt x="145" y="365"/>
                    </a:lnTo>
                    <a:lnTo>
                      <a:pt x="143" y="317"/>
                    </a:lnTo>
                    <a:lnTo>
                      <a:pt x="139" y="268"/>
                    </a:lnTo>
                    <a:lnTo>
                      <a:pt x="132" y="216"/>
                    </a:lnTo>
                    <a:lnTo>
                      <a:pt x="126" y="166"/>
                    </a:lnTo>
                    <a:lnTo>
                      <a:pt x="121" y="141"/>
                    </a:lnTo>
                    <a:lnTo>
                      <a:pt x="116" y="119"/>
                    </a:lnTo>
                    <a:lnTo>
                      <a:pt x="111" y="97"/>
                    </a:lnTo>
                    <a:lnTo>
                      <a:pt x="105" y="76"/>
                    </a:lnTo>
                    <a:lnTo>
                      <a:pt x="99" y="59"/>
                    </a:lnTo>
                    <a:lnTo>
                      <a:pt x="91" y="44"/>
                    </a:lnTo>
                    <a:lnTo>
                      <a:pt x="81" y="31"/>
                    </a:lnTo>
                    <a:lnTo>
                      <a:pt x="73" y="20"/>
                    </a:lnTo>
                    <a:lnTo>
                      <a:pt x="63" y="12"/>
                    </a:lnTo>
                    <a:lnTo>
                      <a:pt x="52" y="5"/>
                    </a:lnTo>
                    <a:lnTo>
                      <a:pt x="48" y="3"/>
                    </a:lnTo>
                    <a:lnTo>
                      <a:pt x="42" y="1"/>
                    </a:lnTo>
                    <a:lnTo>
                      <a:pt x="38" y="0"/>
                    </a:lnTo>
                    <a:lnTo>
                      <a:pt x="33" y="0"/>
                    </a:lnTo>
                    <a:lnTo>
                      <a:pt x="28" y="0"/>
                    </a:lnTo>
                    <a:lnTo>
                      <a:pt x="24" y="1"/>
                    </a:lnTo>
                    <a:lnTo>
                      <a:pt x="21" y="2"/>
                    </a:lnTo>
                    <a:lnTo>
                      <a:pt x="17" y="4"/>
                    </a:lnTo>
                    <a:lnTo>
                      <a:pt x="13" y="6"/>
                    </a:lnTo>
                    <a:lnTo>
                      <a:pt x="10" y="9"/>
                    </a:lnTo>
                    <a:lnTo>
                      <a:pt x="7" y="14"/>
                    </a:lnTo>
                    <a:lnTo>
                      <a:pt x="5" y="18"/>
                    </a:lnTo>
                    <a:lnTo>
                      <a:pt x="2" y="24"/>
                    </a:lnTo>
                    <a:lnTo>
                      <a:pt x="1" y="29"/>
                    </a:lnTo>
                    <a:lnTo>
                      <a:pt x="0" y="36"/>
                    </a:lnTo>
                    <a:lnTo>
                      <a:pt x="0" y="43"/>
                    </a:lnTo>
                    <a:lnTo>
                      <a:pt x="0" y="52"/>
                    </a:lnTo>
                    <a:lnTo>
                      <a:pt x="0" y="60"/>
                    </a:lnTo>
                    <a:lnTo>
                      <a:pt x="1" y="69"/>
                    </a:lnTo>
                    <a:lnTo>
                      <a:pt x="4" y="80"/>
                    </a:lnTo>
                    <a:close/>
                  </a:path>
                </a:pathLst>
              </a:custGeom>
              <a:solidFill>
                <a:srgbClr val="3e43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5654520" y="4997520"/>
                <a:ext cx="41400" cy="146160"/>
              </a:xfrm>
              <a:custGeom>
                <a:avLst/>
                <a:gdLst/>
                <a:ahLst/>
                <a:rect l="l" t="t" r="r" b="b"/>
                <a:pathLst>
                  <a:path w="133" h="463">
                    <a:moveTo>
                      <a:pt x="42" y="392"/>
                    </a:moveTo>
                    <a:lnTo>
                      <a:pt x="41" y="369"/>
                    </a:lnTo>
                    <a:lnTo>
                      <a:pt x="40" y="343"/>
                    </a:lnTo>
                    <a:lnTo>
                      <a:pt x="39" y="317"/>
                    </a:lnTo>
                    <a:lnTo>
                      <a:pt x="36" y="290"/>
                    </a:lnTo>
                    <a:lnTo>
                      <a:pt x="30" y="236"/>
                    </a:lnTo>
                    <a:lnTo>
                      <a:pt x="24" y="185"/>
                    </a:lnTo>
                    <a:lnTo>
                      <a:pt x="16" y="140"/>
                    </a:lnTo>
                    <a:lnTo>
                      <a:pt x="11" y="104"/>
                    </a:lnTo>
                    <a:lnTo>
                      <a:pt x="6" y="79"/>
                    </a:lnTo>
                    <a:lnTo>
                      <a:pt x="4" y="71"/>
                    </a:lnTo>
                    <a:lnTo>
                      <a:pt x="1" y="53"/>
                    </a:lnTo>
                    <a:lnTo>
                      <a:pt x="0" y="39"/>
                    </a:lnTo>
                    <a:lnTo>
                      <a:pt x="1" y="33"/>
                    </a:lnTo>
                    <a:lnTo>
                      <a:pt x="1" y="26"/>
                    </a:lnTo>
                    <a:lnTo>
                      <a:pt x="3" y="21"/>
                    </a:lnTo>
                    <a:lnTo>
                      <a:pt x="4" y="17"/>
                    </a:lnTo>
                    <a:lnTo>
                      <a:pt x="6" y="12"/>
                    </a:lnTo>
                    <a:lnTo>
                      <a:pt x="9" y="9"/>
                    </a:lnTo>
                    <a:lnTo>
                      <a:pt x="12" y="6"/>
                    </a:lnTo>
                    <a:lnTo>
                      <a:pt x="15" y="4"/>
                    </a:lnTo>
                    <a:lnTo>
                      <a:pt x="18" y="3"/>
                    </a:lnTo>
                    <a:lnTo>
                      <a:pt x="22" y="0"/>
                    </a:lnTo>
                    <a:lnTo>
                      <a:pt x="26" y="0"/>
                    </a:lnTo>
                    <a:lnTo>
                      <a:pt x="30" y="0"/>
                    </a:lnTo>
                    <a:lnTo>
                      <a:pt x="39" y="1"/>
                    </a:lnTo>
                    <a:lnTo>
                      <a:pt x="48" y="5"/>
                    </a:lnTo>
                    <a:lnTo>
                      <a:pt x="57" y="11"/>
                    </a:lnTo>
                    <a:lnTo>
                      <a:pt x="66" y="19"/>
                    </a:lnTo>
                    <a:lnTo>
                      <a:pt x="75" y="28"/>
                    </a:lnTo>
                    <a:lnTo>
                      <a:pt x="83" y="39"/>
                    </a:lnTo>
                    <a:lnTo>
                      <a:pt x="90" y="53"/>
                    </a:lnTo>
                    <a:lnTo>
                      <a:pt x="96" y="68"/>
                    </a:lnTo>
                    <a:lnTo>
                      <a:pt x="102" y="86"/>
                    </a:lnTo>
                    <a:lnTo>
                      <a:pt x="106" y="105"/>
                    </a:lnTo>
                    <a:lnTo>
                      <a:pt x="110" y="125"/>
                    </a:lnTo>
                    <a:lnTo>
                      <a:pt x="114" y="146"/>
                    </a:lnTo>
                    <a:lnTo>
                      <a:pt x="121" y="190"/>
                    </a:lnTo>
                    <a:lnTo>
                      <a:pt x="126" y="236"/>
                    </a:lnTo>
                    <a:lnTo>
                      <a:pt x="130" y="280"/>
                    </a:lnTo>
                    <a:lnTo>
                      <a:pt x="132" y="321"/>
                    </a:lnTo>
                    <a:lnTo>
                      <a:pt x="133" y="357"/>
                    </a:lnTo>
                    <a:lnTo>
                      <a:pt x="133" y="385"/>
                    </a:lnTo>
                    <a:lnTo>
                      <a:pt x="132" y="397"/>
                    </a:lnTo>
                    <a:lnTo>
                      <a:pt x="130" y="409"/>
                    </a:lnTo>
                    <a:lnTo>
                      <a:pt x="125" y="420"/>
                    </a:lnTo>
                    <a:lnTo>
                      <a:pt x="119" y="430"/>
                    </a:lnTo>
                    <a:lnTo>
                      <a:pt x="112" y="440"/>
                    </a:lnTo>
                    <a:lnTo>
                      <a:pt x="105" y="449"/>
                    </a:lnTo>
                    <a:lnTo>
                      <a:pt x="96" y="455"/>
                    </a:lnTo>
                    <a:lnTo>
                      <a:pt x="87" y="459"/>
                    </a:lnTo>
                    <a:lnTo>
                      <a:pt x="83" y="462"/>
                    </a:lnTo>
                    <a:lnTo>
                      <a:pt x="79" y="463"/>
                    </a:lnTo>
                    <a:lnTo>
                      <a:pt x="75" y="463"/>
                    </a:lnTo>
                    <a:lnTo>
                      <a:pt x="71" y="463"/>
                    </a:lnTo>
                    <a:lnTo>
                      <a:pt x="67" y="462"/>
                    </a:lnTo>
                    <a:lnTo>
                      <a:pt x="63" y="459"/>
                    </a:lnTo>
                    <a:lnTo>
                      <a:pt x="59" y="456"/>
                    </a:lnTo>
                    <a:lnTo>
                      <a:pt x="56" y="453"/>
                    </a:lnTo>
                    <a:lnTo>
                      <a:pt x="53" y="449"/>
                    </a:lnTo>
                    <a:lnTo>
                      <a:pt x="51" y="444"/>
                    </a:lnTo>
                    <a:lnTo>
                      <a:pt x="48" y="438"/>
                    </a:lnTo>
                    <a:lnTo>
                      <a:pt x="45" y="430"/>
                    </a:lnTo>
                    <a:lnTo>
                      <a:pt x="44" y="423"/>
                    </a:lnTo>
                    <a:lnTo>
                      <a:pt x="43" y="414"/>
                    </a:lnTo>
                    <a:lnTo>
                      <a:pt x="42" y="403"/>
                    </a:lnTo>
                    <a:lnTo>
                      <a:pt x="42" y="392"/>
                    </a:lnTo>
                    <a:close/>
                  </a:path>
                </a:pathLst>
              </a:custGeom>
              <a:solidFill>
                <a:srgbClr val="4247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5657760" y="5004000"/>
                <a:ext cx="38160" cy="126720"/>
              </a:xfrm>
              <a:custGeom>
                <a:avLst/>
                <a:gdLst/>
                <a:ahLst/>
                <a:rect l="l" t="t" r="r" b="b"/>
                <a:pathLst>
                  <a:path w="118" h="397">
                    <a:moveTo>
                      <a:pt x="35" y="337"/>
                    </a:moveTo>
                    <a:lnTo>
                      <a:pt x="34" y="295"/>
                    </a:lnTo>
                    <a:lnTo>
                      <a:pt x="31" y="248"/>
                    </a:lnTo>
                    <a:lnTo>
                      <a:pt x="26" y="203"/>
                    </a:lnTo>
                    <a:lnTo>
                      <a:pt x="19" y="159"/>
                    </a:lnTo>
                    <a:lnTo>
                      <a:pt x="14" y="120"/>
                    </a:lnTo>
                    <a:lnTo>
                      <a:pt x="8" y="89"/>
                    </a:lnTo>
                    <a:lnTo>
                      <a:pt x="5" y="68"/>
                    </a:lnTo>
                    <a:lnTo>
                      <a:pt x="4" y="61"/>
                    </a:lnTo>
                    <a:lnTo>
                      <a:pt x="1" y="45"/>
                    </a:lnTo>
                    <a:lnTo>
                      <a:pt x="0" y="32"/>
                    </a:lnTo>
                    <a:lnTo>
                      <a:pt x="1" y="23"/>
                    </a:lnTo>
                    <a:lnTo>
                      <a:pt x="3" y="14"/>
                    </a:lnTo>
                    <a:lnTo>
                      <a:pt x="5" y="11"/>
                    </a:lnTo>
                    <a:lnTo>
                      <a:pt x="7" y="8"/>
                    </a:lnTo>
                    <a:lnTo>
                      <a:pt x="9" y="5"/>
                    </a:lnTo>
                    <a:lnTo>
                      <a:pt x="13" y="3"/>
                    </a:lnTo>
                    <a:lnTo>
                      <a:pt x="19" y="0"/>
                    </a:lnTo>
                    <a:lnTo>
                      <a:pt x="26" y="0"/>
                    </a:lnTo>
                    <a:lnTo>
                      <a:pt x="33" y="1"/>
                    </a:lnTo>
                    <a:lnTo>
                      <a:pt x="42" y="3"/>
                    </a:lnTo>
                    <a:lnTo>
                      <a:pt x="49" y="9"/>
                    </a:lnTo>
                    <a:lnTo>
                      <a:pt x="58" y="15"/>
                    </a:lnTo>
                    <a:lnTo>
                      <a:pt x="66" y="23"/>
                    </a:lnTo>
                    <a:lnTo>
                      <a:pt x="73" y="34"/>
                    </a:lnTo>
                    <a:lnTo>
                      <a:pt x="80" y="44"/>
                    </a:lnTo>
                    <a:lnTo>
                      <a:pt x="85" y="57"/>
                    </a:lnTo>
                    <a:lnTo>
                      <a:pt x="89" y="72"/>
                    </a:lnTo>
                    <a:lnTo>
                      <a:pt x="94" y="90"/>
                    </a:lnTo>
                    <a:lnTo>
                      <a:pt x="97" y="107"/>
                    </a:lnTo>
                    <a:lnTo>
                      <a:pt x="100" y="125"/>
                    </a:lnTo>
                    <a:lnTo>
                      <a:pt x="107" y="163"/>
                    </a:lnTo>
                    <a:lnTo>
                      <a:pt x="111" y="202"/>
                    </a:lnTo>
                    <a:lnTo>
                      <a:pt x="113" y="240"/>
                    </a:lnTo>
                    <a:lnTo>
                      <a:pt x="115" y="275"/>
                    </a:lnTo>
                    <a:lnTo>
                      <a:pt x="118" y="306"/>
                    </a:lnTo>
                    <a:lnTo>
                      <a:pt x="118" y="329"/>
                    </a:lnTo>
                    <a:lnTo>
                      <a:pt x="116" y="340"/>
                    </a:lnTo>
                    <a:lnTo>
                      <a:pt x="114" y="351"/>
                    </a:lnTo>
                    <a:lnTo>
                      <a:pt x="110" y="361"/>
                    </a:lnTo>
                    <a:lnTo>
                      <a:pt x="105" y="370"/>
                    </a:lnTo>
                    <a:lnTo>
                      <a:pt x="98" y="378"/>
                    </a:lnTo>
                    <a:lnTo>
                      <a:pt x="92" y="386"/>
                    </a:lnTo>
                    <a:lnTo>
                      <a:pt x="84" y="391"/>
                    </a:lnTo>
                    <a:lnTo>
                      <a:pt x="76" y="395"/>
                    </a:lnTo>
                    <a:lnTo>
                      <a:pt x="69" y="397"/>
                    </a:lnTo>
                    <a:lnTo>
                      <a:pt x="61" y="397"/>
                    </a:lnTo>
                    <a:lnTo>
                      <a:pt x="58" y="396"/>
                    </a:lnTo>
                    <a:lnTo>
                      <a:pt x="55" y="395"/>
                    </a:lnTo>
                    <a:lnTo>
                      <a:pt x="52" y="393"/>
                    </a:lnTo>
                    <a:lnTo>
                      <a:pt x="48" y="390"/>
                    </a:lnTo>
                    <a:lnTo>
                      <a:pt x="46" y="386"/>
                    </a:lnTo>
                    <a:lnTo>
                      <a:pt x="43" y="381"/>
                    </a:lnTo>
                    <a:lnTo>
                      <a:pt x="41" y="376"/>
                    </a:lnTo>
                    <a:lnTo>
                      <a:pt x="40" y="370"/>
                    </a:lnTo>
                    <a:lnTo>
                      <a:pt x="37" y="355"/>
                    </a:lnTo>
                    <a:lnTo>
                      <a:pt x="35" y="337"/>
                    </a:lnTo>
                    <a:close/>
                  </a:path>
                </a:pathLst>
              </a:custGeom>
              <a:solidFill>
                <a:srgbClr val="464b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5661000" y="5011920"/>
                <a:ext cx="33480" cy="104760"/>
              </a:xfrm>
              <a:custGeom>
                <a:avLst/>
                <a:gdLst/>
                <a:ahLst/>
                <a:rect l="l" t="t" r="r" b="b"/>
                <a:pathLst>
                  <a:path w="106" h="333">
                    <a:moveTo>
                      <a:pt x="32" y="284"/>
                    </a:moveTo>
                    <a:lnTo>
                      <a:pt x="31" y="248"/>
                    </a:lnTo>
                    <a:lnTo>
                      <a:pt x="28" y="210"/>
                    </a:lnTo>
                    <a:lnTo>
                      <a:pt x="23" y="171"/>
                    </a:lnTo>
                    <a:lnTo>
                      <a:pt x="18" y="135"/>
                    </a:lnTo>
                    <a:lnTo>
                      <a:pt x="13" y="101"/>
                    </a:lnTo>
                    <a:lnTo>
                      <a:pt x="9" y="75"/>
                    </a:lnTo>
                    <a:lnTo>
                      <a:pt x="6" y="58"/>
                    </a:lnTo>
                    <a:lnTo>
                      <a:pt x="5" y="51"/>
                    </a:lnTo>
                    <a:lnTo>
                      <a:pt x="2" y="40"/>
                    </a:lnTo>
                    <a:lnTo>
                      <a:pt x="0" y="29"/>
                    </a:lnTo>
                    <a:lnTo>
                      <a:pt x="2" y="19"/>
                    </a:lnTo>
                    <a:lnTo>
                      <a:pt x="4" y="11"/>
                    </a:lnTo>
                    <a:lnTo>
                      <a:pt x="7" y="6"/>
                    </a:lnTo>
                    <a:lnTo>
                      <a:pt x="12" y="3"/>
                    </a:lnTo>
                    <a:lnTo>
                      <a:pt x="18" y="0"/>
                    </a:lnTo>
                    <a:lnTo>
                      <a:pt x="23" y="0"/>
                    </a:lnTo>
                    <a:lnTo>
                      <a:pt x="31" y="1"/>
                    </a:lnTo>
                    <a:lnTo>
                      <a:pt x="37" y="3"/>
                    </a:lnTo>
                    <a:lnTo>
                      <a:pt x="45" y="7"/>
                    </a:lnTo>
                    <a:lnTo>
                      <a:pt x="52" y="13"/>
                    </a:lnTo>
                    <a:lnTo>
                      <a:pt x="59" y="19"/>
                    </a:lnTo>
                    <a:lnTo>
                      <a:pt x="65" y="28"/>
                    </a:lnTo>
                    <a:lnTo>
                      <a:pt x="71" y="37"/>
                    </a:lnTo>
                    <a:lnTo>
                      <a:pt x="76" y="49"/>
                    </a:lnTo>
                    <a:lnTo>
                      <a:pt x="84" y="75"/>
                    </a:lnTo>
                    <a:lnTo>
                      <a:pt x="90" y="105"/>
                    </a:lnTo>
                    <a:lnTo>
                      <a:pt x="96" y="138"/>
                    </a:lnTo>
                    <a:lnTo>
                      <a:pt x="100" y="170"/>
                    </a:lnTo>
                    <a:lnTo>
                      <a:pt x="102" y="203"/>
                    </a:lnTo>
                    <a:lnTo>
                      <a:pt x="104" y="232"/>
                    </a:lnTo>
                    <a:lnTo>
                      <a:pt x="105" y="258"/>
                    </a:lnTo>
                    <a:lnTo>
                      <a:pt x="106" y="279"/>
                    </a:lnTo>
                    <a:lnTo>
                      <a:pt x="105" y="287"/>
                    </a:lnTo>
                    <a:lnTo>
                      <a:pt x="103" y="295"/>
                    </a:lnTo>
                    <a:lnTo>
                      <a:pt x="99" y="303"/>
                    </a:lnTo>
                    <a:lnTo>
                      <a:pt x="94" y="311"/>
                    </a:lnTo>
                    <a:lnTo>
                      <a:pt x="89" y="318"/>
                    </a:lnTo>
                    <a:lnTo>
                      <a:pt x="83" y="324"/>
                    </a:lnTo>
                    <a:lnTo>
                      <a:pt x="76" y="328"/>
                    </a:lnTo>
                    <a:lnTo>
                      <a:pt x="69" y="331"/>
                    </a:lnTo>
                    <a:lnTo>
                      <a:pt x="62" y="333"/>
                    </a:lnTo>
                    <a:lnTo>
                      <a:pt x="56" y="333"/>
                    </a:lnTo>
                    <a:lnTo>
                      <a:pt x="52" y="332"/>
                    </a:lnTo>
                    <a:lnTo>
                      <a:pt x="49" y="331"/>
                    </a:lnTo>
                    <a:lnTo>
                      <a:pt x="46" y="329"/>
                    </a:lnTo>
                    <a:lnTo>
                      <a:pt x="44" y="327"/>
                    </a:lnTo>
                    <a:lnTo>
                      <a:pt x="40" y="324"/>
                    </a:lnTo>
                    <a:lnTo>
                      <a:pt x="38" y="320"/>
                    </a:lnTo>
                    <a:lnTo>
                      <a:pt x="36" y="316"/>
                    </a:lnTo>
                    <a:lnTo>
                      <a:pt x="35" y="311"/>
                    </a:lnTo>
                    <a:lnTo>
                      <a:pt x="33" y="299"/>
                    </a:lnTo>
                    <a:lnTo>
                      <a:pt x="32" y="284"/>
                    </a:lnTo>
                    <a:close/>
                  </a:path>
                </a:pathLst>
              </a:custGeom>
              <a:solidFill>
                <a:srgbClr val="4a4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5664240" y="5018040"/>
                <a:ext cx="28440" cy="85680"/>
              </a:xfrm>
              <a:custGeom>
                <a:avLst/>
                <a:gdLst/>
                <a:ahLst/>
                <a:rect l="l" t="t" r="r" b="b"/>
                <a:pathLst>
                  <a:path w="92" h="270">
                    <a:moveTo>
                      <a:pt x="27" y="230"/>
                    </a:moveTo>
                    <a:lnTo>
                      <a:pt x="27" y="201"/>
                    </a:lnTo>
                    <a:lnTo>
                      <a:pt x="24" y="170"/>
                    </a:lnTo>
                    <a:lnTo>
                      <a:pt x="20" y="138"/>
                    </a:lnTo>
                    <a:lnTo>
                      <a:pt x="15" y="109"/>
                    </a:lnTo>
                    <a:lnTo>
                      <a:pt x="11" y="82"/>
                    </a:lnTo>
                    <a:lnTo>
                      <a:pt x="7" y="62"/>
                    </a:lnTo>
                    <a:lnTo>
                      <a:pt x="4" y="48"/>
                    </a:lnTo>
                    <a:lnTo>
                      <a:pt x="3" y="43"/>
                    </a:lnTo>
                    <a:lnTo>
                      <a:pt x="1" y="33"/>
                    </a:lnTo>
                    <a:lnTo>
                      <a:pt x="0" y="24"/>
                    </a:lnTo>
                    <a:lnTo>
                      <a:pt x="1" y="16"/>
                    </a:lnTo>
                    <a:lnTo>
                      <a:pt x="4" y="10"/>
                    </a:lnTo>
                    <a:lnTo>
                      <a:pt x="8" y="6"/>
                    </a:lnTo>
                    <a:lnTo>
                      <a:pt x="12" y="2"/>
                    </a:lnTo>
                    <a:lnTo>
                      <a:pt x="16" y="0"/>
                    </a:lnTo>
                    <a:lnTo>
                      <a:pt x="22" y="0"/>
                    </a:lnTo>
                    <a:lnTo>
                      <a:pt x="28" y="1"/>
                    </a:lnTo>
                    <a:lnTo>
                      <a:pt x="35" y="2"/>
                    </a:lnTo>
                    <a:lnTo>
                      <a:pt x="40" y="6"/>
                    </a:lnTo>
                    <a:lnTo>
                      <a:pt x="47" y="11"/>
                    </a:lnTo>
                    <a:lnTo>
                      <a:pt x="53" y="16"/>
                    </a:lnTo>
                    <a:lnTo>
                      <a:pt x="58" y="23"/>
                    </a:lnTo>
                    <a:lnTo>
                      <a:pt x="63" y="31"/>
                    </a:lnTo>
                    <a:lnTo>
                      <a:pt x="67" y="40"/>
                    </a:lnTo>
                    <a:lnTo>
                      <a:pt x="74" y="62"/>
                    </a:lnTo>
                    <a:lnTo>
                      <a:pt x="79" y="87"/>
                    </a:lnTo>
                    <a:lnTo>
                      <a:pt x="83" y="112"/>
                    </a:lnTo>
                    <a:lnTo>
                      <a:pt x="87" y="138"/>
                    </a:lnTo>
                    <a:lnTo>
                      <a:pt x="90" y="164"/>
                    </a:lnTo>
                    <a:lnTo>
                      <a:pt x="91" y="188"/>
                    </a:lnTo>
                    <a:lnTo>
                      <a:pt x="92" y="210"/>
                    </a:lnTo>
                    <a:lnTo>
                      <a:pt x="92" y="226"/>
                    </a:lnTo>
                    <a:lnTo>
                      <a:pt x="91" y="232"/>
                    </a:lnTo>
                    <a:lnTo>
                      <a:pt x="89" y="240"/>
                    </a:lnTo>
                    <a:lnTo>
                      <a:pt x="87" y="246"/>
                    </a:lnTo>
                    <a:lnTo>
                      <a:pt x="82" y="252"/>
                    </a:lnTo>
                    <a:lnTo>
                      <a:pt x="77" y="258"/>
                    </a:lnTo>
                    <a:lnTo>
                      <a:pt x="71" y="263"/>
                    </a:lnTo>
                    <a:lnTo>
                      <a:pt x="66" y="266"/>
                    </a:lnTo>
                    <a:lnTo>
                      <a:pt x="60" y="269"/>
                    </a:lnTo>
                    <a:lnTo>
                      <a:pt x="54" y="270"/>
                    </a:lnTo>
                    <a:lnTo>
                      <a:pt x="48" y="270"/>
                    </a:lnTo>
                    <a:lnTo>
                      <a:pt x="42" y="269"/>
                    </a:lnTo>
                    <a:lnTo>
                      <a:pt x="38" y="266"/>
                    </a:lnTo>
                    <a:lnTo>
                      <a:pt x="34" y="260"/>
                    </a:lnTo>
                    <a:lnTo>
                      <a:pt x="30" y="253"/>
                    </a:lnTo>
                    <a:lnTo>
                      <a:pt x="28" y="243"/>
                    </a:lnTo>
                    <a:lnTo>
                      <a:pt x="27" y="230"/>
                    </a:lnTo>
                    <a:close/>
                  </a:path>
                </a:pathLst>
              </a:custGeom>
              <a:solidFill>
                <a:srgbClr val="4e53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5667480" y="5024520"/>
                <a:ext cx="23760" cy="66600"/>
              </a:xfrm>
              <a:custGeom>
                <a:avLst/>
                <a:gdLst/>
                <a:ahLst/>
                <a:rect l="l" t="t" r="r" b="b"/>
                <a:pathLst>
                  <a:path w="77" h="207">
                    <a:moveTo>
                      <a:pt x="23" y="177"/>
                    </a:moveTo>
                    <a:lnTo>
                      <a:pt x="21" y="154"/>
                    </a:lnTo>
                    <a:lnTo>
                      <a:pt x="19" y="129"/>
                    </a:lnTo>
                    <a:lnTo>
                      <a:pt x="16" y="106"/>
                    </a:lnTo>
                    <a:lnTo>
                      <a:pt x="13" y="82"/>
                    </a:lnTo>
                    <a:lnTo>
                      <a:pt x="10" y="62"/>
                    </a:lnTo>
                    <a:lnTo>
                      <a:pt x="6" y="45"/>
                    </a:lnTo>
                    <a:lnTo>
                      <a:pt x="4" y="34"/>
                    </a:lnTo>
                    <a:lnTo>
                      <a:pt x="3" y="31"/>
                    </a:lnTo>
                    <a:lnTo>
                      <a:pt x="1" y="24"/>
                    </a:lnTo>
                    <a:lnTo>
                      <a:pt x="0" y="17"/>
                    </a:lnTo>
                    <a:lnTo>
                      <a:pt x="1" y="12"/>
                    </a:lnTo>
                    <a:lnTo>
                      <a:pt x="3" y="7"/>
                    </a:lnTo>
                    <a:lnTo>
                      <a:pt x="5" y="4"/>
                    </a:lnTo>
                    <a:lnTo>
                      <a:pt x="9" y="2"/>
                    </a:lnTo>
                    <a:lnTo>
                      <a:pt x="13" y="1"/>
                    </a:lnTo>
                    <a:lnTo>
                      <a:pt x="17" y="0"/>
                    </a:lnTo>
                    <a:lnTo>
                      <a:pt x="23" y="1"/>
                    </a:lnTo>
                    <a:lnTo>
                      <a:pt x="28" y="2"/>
                    </a:lnTo>
                    <a:lnTo>
                      <a:pt x="33" y="5"/>
                    </a:lnTo>
                    <a:lnTo>
                      <a:pt x="39" y="8"/>
                    </a:lnTo>
                    <a:lnTo>
                      <a:pt x="43" y="13"/>
                    </a:lnTo>
                    <a:lnTo>
                      <a:pt x="47" y="18"/>
                    </a:lnTo>
                    <a:lnTo>
                      <a:pt x="52" y="24"/>
                    </a:lnTo>
                    <a:lnTo>
                      <a:pt x="55" y="31"/>
                    </a:lnTo>
                    <a:lnTo>
                      <a:pt x="60" y="47"/>
                    </a:lnTo>
                    <a:lnTo>
                      <a:pt x="66" y="66"/>
                    </a:lnTo>
                    <a:lnTo>
                      <a:pt x="69" y="85"/>
                    </a:lnTo>
                    <a:lnTo>
                      <a:pt x="72" y="105"/>
                    </a:lnTo>
                    <a:lnTo>
                      <a:pt x="74" y="124"/>
                    </a:lnTo>
                    <a:lnTo>
                      <a:pt x="75" y="142"/>
                    </a:lnTo>
                    <a:lnTo>
                      <a:pt x="77" y="159"/>
                    </a:lnTo>
                    <a:lnTo>
                      <a:pt x="77" y="171"/>
                    </a:lnTo>
                    <a:lnTo>
                      <a:pt x="77" y="177"/>
                    </a:lnTo>
                    <a:lnTo>
                      <a:pt x="74" y="182"/>
                    </a:lnTo>
                    <a:lnTo>
                      <a:pt x="72" y="188"/>
                    </a:lnTo>
                    <a:lnTo>
                      <a:pt x="69" y="193"/>
                    </a:lnTo>
                    <a:lnTo>
                      <a:pt x="65" y="197"/>
                    </a:lnTo>
                    <a:lnTo>
                      <a:pt x="59" y="201"/>
                    </a:lnTo>
                    <a:lnTo>
                      <a:pt x="55" y="204"/>
                    </a:lnTo>
                    <a:lnTo>
                      <a:pt x="50" y="206"/>
                    </a:lnTo>
                    <a:lnTo>
                      <a:pt x="45" y="207"/>
                    </a:lnTo>
                    <a:lnTo>
                      <a:pt x="40" y="207"/>
                    </a:lnTo>
                    <a:lnTo>
                      <a:pt x="36" y="206"/>
                    </a:lnTo>
                    <a:lnTo>
                      <a:pt x="31" y="203"/>
                    </a:lnTo>
                    <a:lnTo>
                      <a:pt x="28" y="198"/>
                    </a:lnTo>
                    <a:lnTo>
                      <a:pt x="25" y="193"/>
                    </a:lnTo>
                    <a:lnTo>
                      <a:pt x="24" y="186"/>
                    </a:lnTo>
                    <a:lnTo>
                      <a:pt x="23" y="177"/>
                    </a:lnTo>
                    <a:close/>
                  </a:path>
                </a:pathLst>
              </a:custGeom>
              <a:solidFill>
                <a:srgbClr val="5257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5670360" y="5031000"/>
                <a:ext cx="19080" cy="45720"/>
              </a:xfrm>
              <a:custGeom>
                <a:avLst/>
                <a:gdLst/>
                <a:ahLst/>
                <a:rect l="l" t="t" r="r" b="b"/>
                <a:pathLst>
                  <a:path w="63" h="143">
                    <a:moveTo>
                      <a:pt x="2" y="22"/>
                    </a:moveTo>
                    <a:lnTo>
                      <a:pt x="3" y="25"/>
                    </a:lnTo>
                    <a:lnTo>
                      <a:pt x="4" y="33"/>
                    </a:lnTo>
                    <a:lnTo>
                      <a:pt x="7" y="44"/>
                    </a:lnTo>
                    <a:lnTo>
                      <a:pt x="10" y="58"/>
                    </a:lnTo>
                    <a:lnTo>
                      <a:pt x="14" y="74"/>
                    </a:lnTo>
                    <a:lnTo>
                      <a:pt x="16" y="90"/>
                    </a:lnTo>
                    <a:lnTo>
                      <a:pt x="18" y="106"/>
                    </a:lnTo>
                    <a:lnTo>
                      <a:pt x="19" y="121"/>
                    </a:lnTo>
                    <a:lnTo>
                      <a:pt x="19" y="128"/>
                    </a:lnTo>
                    <a:lnTo>
                      <a:pt x="21" y="133"/>
                    </a:lnTo>
                    <a:lnTo>
                      <a:pt x="23" y="138"/>
                    </a:lnTo>
                    <a:lnTo>
                      <a:pt x="26" y="140"/>
                    </a:lnTo>
                    <a:lnTo>
                      <a:pt x="29" y="142"/>
                    </a:lnTo>
                    <a:lnTo>
                      <a:pt x="33" y="143"/>
                    </a:lnTo>
                    <a:lnTo>
                      <a:pt x="37" y="143"/>
                    </a:lnTo>
                    <a:lnTo>
                      <a:pt x="42" y="142"/>
                    </a:lnTo>
                    <a:lnTo>
                      <a:pt x="45" y="141"/>
                    </a:lnTo>
                    <a:lnTo>
                      <a:pt x="49" y="139"/>
                    </a:lnTo>
                    <a:lnTo>
                      <a:pt x="54" y="135"/>
                    </a:lnTo>
                    <a:lnTo>
                      <a:pt x="57" y="133"/>
                    </a:lnTo>
                    <a:lnTo>
                      <a:pt x="59" y="130"/>
                    </a:lnTo>
                    <a:lnTo>
                      <a:pt x="61" y="126"/>
                    </a:lnTo>
                    <a:lnTo>
                      <a:pt x="63" y="122"/>
                    </a:lnTo>
                    <a:lnTo>
                      <a:pt x="63" y="118"/>
                    </a:lnTo>
                    <a:lnTo>
                      <a:pt x="63" y="109"/>
                    </a:lnTo>
                    <a:lnTo>
                      <a:pt x="62" y="99"/>
                    </a:lnTo>
                    <a:lnTo>
                      <a:pt x="61" y="87"/>
                    </a:lnTo>
                    <a:lnTo>
                      <a:pt x="59" y="73"/>
                    </a:lnTo>
                    <a:lnTo>
                      <a:pt x="57" y="60"/>
                    </a:lnTo>
                    <a:lnTo>
                      <a:pt x="53" y="46"/>
                    </a:lnTo>
                    <a:lnTo>
                      <a:pt x="49" y="33"/>
                    </a:lnTo>
                    <a:lnTo>
                      <a:pt x="44" y="22"/>
                    </a:lnTo>
                    <a:lnTo>
                      <a:pt x="41" y="18"/>
                    </a:lnTo>
                    <a:lnTo>
                      <a:pt x="37" y="13"/>
                    </a:lnTo>
                    <a:lnTo>
                      <a:pt x="34" y="9"/>
                    </a:lnTo>
                    <a:lnTo>
                      <a:pt x="30" y="7"/>
                    </a:lnTo>
                    <a:lnTo>
                      <a:pt x="26" y="4"/>
                    </a:lnTo>
                    <a:lnTo>
                      <a:pt x="21" y="3"/>
                    </a:lnTo>
                    <a:lnTo>
                      <a:pt x="18" y="1"/>
                    </a:lnTo>
                    <a:lnTo>
                      <a:pt x="14" y="0"/>
                    </a:lnTo>
                    <a:lnTo>
                      <a:pt x="9" y="1"/>
                    </a:lnTo>
                    <a:lnTo>
                      <a:pt x="6" y="1"/>
                    </a:lnTo>
                    <a:lnTo>
                      <a:pt x="4" y="4"/>
                    </a:lnTo>
                    <a:lnTo>
                      <a:pt x="2" y="6"/>
                    </a:lnTo>
                    <a:lnTo>
                      <a:pt x="0" y="9"/>
                    </a:lnTo>
                    <a:lnTo>
                      <a:pt x="0" y="12"/>
                    </a:lnTo>
                    <a:lnTo>
                      <a:pt x="0" y="17"/>
                    </a:lnTo>
                    <a:lnTo>
                      <a:pt x="2" y="22"/>
                    </a:lnTo>
                    <a:close/>
                  </a:path>
                </a:pathLst>
              </a:custGeom>
              <a:solidFill>
                <a:srgbClr val="565c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5524560" y="5133960"/>
                <a:ext cx="15840" cy="7920"/>
              </a:xfrm>
              <a:custGeom>
                <a:avLst/>
                <a:gdLst/>
                <a:ahLst/>
                <a:rect l="l" t="t" r="r" b="b"/>
                <a:pathLst>
                  <a:path w="54" h="27">
                    <a:moveTo>
                      <a:pt x="0" y="23"/>
                    </a:moveTo>
                    <a:lnTo>
                      <a:pt x="50" y="0"/>
                    </a:lnTo>
                    <a:lnTo>
                      <a:pt x="54" y="13"/>
                    </a:lnTo>
                    <a:lnTo>
                      <a:pt x="3" y="27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dbdb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5522760" y="5146920"/>
                <a:ext cx="19080" cy="10800"/>
              </a:xfrm>
              <a:custGeom>
                <a:avLst/>
                <a:gdLst/>
                <a:ahLst/>
                <a:rect l="l" t="t" r="r" b="b"/>
                <a:pathLst>
                  <a:path w="60" h="35">
                    <a:moveTo>
                      <a:pt x="0" y="10"/>
                    </a:moveTo>
                    <a:lnTo>
                      <a:pt x="49" y="35"/>
                    </a:lnTo>
                    <a:lnTo>
                      <a:pt x="60" y="16"/>
                    </a:lnTo>
                    <a:lnTo>
                      <a:pt x="2" y="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908f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5597640" y="3772080"/>
                <a:ext cx="579240" cy="1473120"/>
              </a:xfrm>
              <a:custGeom>
                <a:avLst/>
                <a:gdLst/>
                <a:ahLst/>
                <a:rect l="l" t="t" r="r" b="b"/>
                <a:pathLst>
                  <a:path w="1824" h="4639">
                    <a:moveTo>
                      <a:pt x="1824" y="905"/>
                    </a:moveTo>
                    <a:lnTo>
                      <a:pt x="1824" y="4551"/>
                    </a:lnTo>
                    <a:lnTo>
                      <a:pt x="1824" y="4555"/>
                    </a:lnTo>
                    <a:lnTo>
                      <a:pt x="1824" y="4565"/>
                    </a:lnTo>
                    <a:lnTo>
                      <a:pt x="1823" y="4571"/>
                    </a:lnTo>
                    <a:lnTo>
                      <a:pt x="1821" y="4579"/>
                    </a:lnTo>
                    <a:lnTo>
                      <a:pt x="1818" y="4586"/>
                    </a:lnTo>
                    <a:lnTo>
                      <a:pt x="1813" y="4595"/>
                    </a:lnTo>
                    <a:lnTo>
                      <a:pt x="1807" y="4604"/>
                    </a:lnTo>
                    <a:lnTo>
                      <a:pt x="1799" y="4611"/>
                    </a:lnTo>
                    <a:lnTo>
                      <a:pt x="1788" y="4619"/>
                    </a:lnTo>
                    <a:lnTo>
                      <a:pt x="1776" y="4626"/>
                    </a:lnTo>
                    <a:lnTo>
                      <a:pt x="1760" y="4632"/>
                    </a:lnTo>
                    <a:lnTo>
                      <a:pt x="1742" y="4636"/>
                    </a:lnTo>
                    <a:lnTo>
                      <a:pt x="1720" y="4638"/>
                    </a:lnTo>
                    <a:lnTo>
                      <a:pt x="1696" y="4639"/>
                    </a:lnTo>
                    <a:lnTo>
                      <a:pt x="1670" y="4638"/>
                    </a:lnTo>
                    <a:lnTo>
                      <a:pt x="1648" y="4636"/>
                    </a:lnTo>
                    <a:lnTo>
                      <a:pt x="1629" y="4632"/>
                    </a:lnTo>
                    <a:lnTo>
                      <a:pt x="1612" y="4626"/>
                    </a:lnTo>
                    <a:lnTo>
                      <a:pt x="1598" y="4619"/>
                    </a:lnTo>
                    <a:lnTo>
                      <a:pt x="1588" y="4611"/>
                    </a:lnTo>
                    <a:lnTo>
                      <a:pt x="1579" y="4604"/>
                    </a:lnTo>
                    <a:lnTo>
                      <a:pt x="1571" y="4595"/>
                    </a:lnTo>
                    <a:lnTo>
                      <a:pt x="1566" y="4586"/>
                    </a:lnTo>
                    <a:lnTo>
                      <a:pt x="1563" y="4579"/>
                    </a:lnTo>
                    <a:lnTo>
                      <a:pt x="1559" y="4571"/>
                    </a:lnTo>
                    <a:lnTo>
                      <a:pt x="1558" y="4565"/>
                    </a:lnTo>
                    <a:lnTo>
                      <a:pt x="1557" y="4555"/>
                    </a:lnTo>
                    <a:lnTo>
                      <a:pt x="1557" y="4551"/>
                    </a:lnTo>
                    <a:lnTo>
                      <a:pt x="1557" y="905"/>
                    </a:lnTo>
                    <a:lnTo>
                      <a:pt x="1557" y="894"/>
                    </a:lnTo>
                    <a:lnTo>
                      <a:pt x="1556" y="864"/>
                    </a:lnTo>
                    <a:lnTo>
                      <a:pt x="1554" y="843"/>
                    </a:lnTo>
                    <a:lnTo>
                      <a:pt x="1552" y="819"/>
                    </a:lnTo>
                    <a:lnTo>
                      <a:pt x="1550" y="792"/>
                    </a:lnTo>
                    <a:lnTo>
                      <a:pt x="1545" y="764"/>
                    </a:lnTo>
                    <a:lnTo>
                      <a:pt x="1539" y="734"/>
                    </a:lnTo>
                    <a:lnTo>
                      <a:pt x="1532" y="704"/>
                    </a:lnTo>
                    <a:lnTo>
                      <a:pt x="1523" y="674"/>
                    </a:lnTo>
                    <a:lnTo>
                      <a:pt x="1512" y="643"/>
                    </a:lnTo>
                    <a:lnTo>
                      <a:pt x="1505" y="628"/>
                    </a:lnTo>
                    <a:lnTo>
                      <a:pt x="1499" y="614"/>
                    </a:lnTo>
                    <a:lnTo>
                      <a:pt x="1491" y="599"/>
                    </a:lnTo>
                    <a:lnTo>
                      <a:pt x="1484" y="586"/>
                    </a:lnTo>
                    <a:lnTo>
                      <a:pt x="1475" y="572"/>
                    </a:lnTo>
                    <a:lnTo>
                      <a:pt x="1467" y="560"/>
                    </a:lnTo>
                    <a:lnTo>
                      <a:pt x="1456" y="548"/>
                    </a:lnTo>
                    <a:lnTo>
                      <a:pt x="1446" y="536"/>
                    </a:lnTo>
                    <a:lnTo>
                      <a:pt x="1424" y="516"/>
                    </a:lnTo>
                    <a:lnTo>
                      <a:pt x="1405" y="499"/>
                    </a:lnTo>
                    <a:lnTo>
                      <a:pt x="1388" y="483"/>
                    </a:lnTo>
                    <a:lnTo>
                      <a:pt x="1372" y="470"/>
                    </a:lnTo>
                    <a:lnTo>
                      <a:pt x="1356" y="460"/>
                    </a:lnTo>
                    <a:lnTo>
                      <a:pt x="1343" y="451"/>
                    </a:lnTo>
                    <a:lnTo>
                      <a:pt x="1330" y="443"/>
                    </a:lnTo>
                    <a:lnTo>
                      <a:pt x="1320" y="438"/>
                    </a:lnTo>
                    <a:lnTo>
                      <a:pt x="1299" y="429"/>
                    </a:lnTo>
                    <a:lnTo>
                      <a:pt x="1281" y="424"/>
                    </a:lnTo>
                    <a:lnTo>
                      <a:pt x="1263" y="420"/>
                    </a:lnTo>
                    <a:lnTo>
                      <a:pt x="1245" y="415"/>
                    </a:lnTo>
                    <a:lnTo>
                      <a:pt x="1202" y="402"/>
                    </a:lnTo>
                    <a:lnTo>
                      <a:pt x="1118" y="378"/>
                    </a:lnTo>
                    <a:lnTo>
                      <a:pt x="1006" y="345"/>
                    </a:lnTo>
                    <a:lnTo>
                      <a:pt x="882" y="310"/>
                    </a:lnTo>
                    <a:lnTo>
                      <a:pt x="758" y="274"/>
                    </a:lnTo>
                    <a:lnTo>
                      <a:pt x="648" y="243"/>
                    </a:lnTo>
                    <a:lnTo>
                      <a:pt x="565" y="220"/>
                    </a:lnTo>
                    <a:lnTo>
                      <a:pt x="521" y="208"/>
                    </a:lnTo>
                    <a:lnTo>
                      <a:pt x="498" y="204"/>
                    </a:lnTo>
                    <a:lnTo>
                      <a:pt x="464" y="199"/>
                    </a:lnTo>
                    <a:lnTo>
                      <a:pt x="446" y="198"/>
                    </a:lnTo>
                    <a:lnTo>
                      <a:pt x="425" y="197"/>
                    </a:lnTo>
                    <a:lnTo>
                      <a:pt x="405" y="197"/>
                    </a:lnTo>
                    <a:lnTo>
                      <a:pt x="383" y="198"/>
                    </a:lnTo>
                    <a:lnTo>
                      <a:pt x="363" y="200"/>
                    </a:lnTo>
                    <a:lnTo>
                      <a:pt x="341" y="205"/>
                    </a:lnTo>
                    <a:lnTo>
                      <a:pt x="320" y="211"/>
                    </a:lnTo>
                    <a:lnTo>
                      <a:pt x="300" y="219"/>
                    </a:lnTo>
                    <a:lnTo>
                      <a:pt x="291" y="223"/>
                    </a:lnTo>
                    <a:lnTo>
                      <a:pt x="282" y="229"/>
                    </a:lnTo>
                    <a:lnTo>
                      <a:pt x="273" y="235"/>
                    </a:lnTo>
                    <a:lnTo>
                      <a:pt x="264" y="242"/>
                    </a:lnTo>
                    <a:lnTo>
                      <a:pt x="257" y="249"/>
                    </a:lnTo>
                    <a:lnTo>
                      <a:pt x="249" y="257"/>
                    </a:lnTo>
                    <a:lnTo>
                      <a:pt x="243" y="265"/>
                    </a:lnTo>
                    <a:lnTo>
                      <a:pt x="236" y="274"/>
                    </a:lnTo>
                    <a:lnTo>
                      <a:pt x="235" y="276"/>
                    </a:lnTo>
                    <a:lnTo>
                      <a:pt x="233" y="283"/>
                    </a:lnTo>
                    <a:lnTo>
                      <a:pt x="229" y="294"/>
                    </a:lnTo>
                    <a:lnTo>
                      <a:pt x="223" y="314"/>
                    </a:lnTo>
                    <a:lnTo>
                      <a:pt x="218" y="342"/>
                    </a:lnTo>
                    <a:lnTo>
                      <a:pt x="213" y="381"/>
                    </a:lnTo>
                    <a:lnTo>
                      <a:pt x="212" y="405"/>
                    </a:lnTo>
                    <a:lnTo>
                      <a:pt x="210" y="432"/>
                    </a:lnTo>
                    <a:lnTo>
                      <a:pt x="210" y="463"/>
                    </a:lnTo>
                    <a:lnTo>
                      <a:pt x="209" y="496"/>
                    </a:lnTo>
                    <a:lnTo>
                      <a:pt x="209" y="3496"/>
                    </a:lnTo>
                    <a:lnTo>
                      <a:pt x="210" y="3499"/>
                    </a:lnTo>
                    <a:lnTo>
                      <a:pt x="210" y="3506"/>
                    </a:lnTo>
                    <a:lnTo>
                      <a:pt x="209" y="3512"/>
                    </a:lnTo>
                    <a:lnTo>
                      <a:pt x="208" y="3518"/>
                    </a:lnTo>
                    <a:lnTo>
                      <a:pt x="206" y="3525"/>
                    </a:lnTo>
                    <a:lnTo>
                      <a:pt x="203" y="3531"/>
                    </a:lnTo>
                    <a:lnTo>
                      <a:pt x="197" y="3538"/>
                    </a:lnTo>
                    <a:lnTo>
                      <a:pt x="191" y="3544"/>
                    </a:lnTo>
                    <a:lnTo>
                      <a:pt x="183" y="3551"/>
                    </a:lnTo>
                    <a:lnTo>
                      <a:pt x="173" y="3556"/>
                    </a:lnTo>
                    <a:lnTo>
                      <a:pt x="161" y="3560"/>
                    </a:lnTo>
                    <a:lnTo>
                      <a:pt x="145" y="3564"/>
                    </a:lnTo>
                    <a:lnTo>
                      <a:pt x="128" y="3566"/>
                    </a:lnTo>
                    <a:lnTo>
                      <a:pt x="108" y="3567"/>
                    </a:lnTo>
                    <a:lnTo>
                      <a:pt x="88" y="3566"/>
                    </a:lnTo>
                    <a:lnTo>
                      <a:pt x="71" y="3564"/>
                    </a:lnTo>
                    <a:lnTo>
                      <a:pt x="56" y="3560"/>
                    </a:lnTo>
                    <a:lnTo>
                      <a:pt x="43" y="3556"/>
                    </a:lnTo>
                    <a:lnTo>
                      <a:pt x="32" y="3551"/>
                    </a:lnTo>
                    <a:lnTo>
                      <a:pt x="23" y="3545"/>
                    </a:lnTo>
                    <a:lnTo>
                      <a:pt x="17" y="3539"/>
                    </a:lnTo>
                    <a:lnTo>
                      <a:pt x="11" y="3532"/>
                    </a:lnTo>
                    <a:lnTo>
                      <a:pt x="7" y="3526"/>
                    </a:lnTo>
                    <a:lnTo>
                      <a:pt x="4" y="3519"/>
                    </a:lnTo>
                    <a:lnTo>
                      <a:pt x="2" y="3514"/>
                    </a:lnTo>
                    <a:lnTo>
                      <a:pt x="1" y="3509"/>
                    </a:lnTo>
                    <a:lnTo>
                      <a:pt x="0" y="3501"/>
                    </a:lnTo>
                    <a:lnTo>
                      <a:pt x="0" y="3498"/>
                    </a:lnTo>
                    <a:lnTo>
                      <a:pt x="0" y="368"/>
                    </a:lnTo>
                    <a:lnTo>
                      <a:pt x="0" y="359"/>
                    </a:lnTo>
                    <a:lnTo>
                      <a:pt x="2" y="333"/>
                    </a:lnTo>
                    <a:lnTo>
                      <a:pt x="5" y="297"/>
                    </a:lnTo>
                    <a:lnTo>
                      <a:pt x="13" y="252"/>
                    </a:lnTo>
                    <a:lnTo>
                      <a:pt x="17" y="229"/>
                    </a:lnTo>
                    <a:lnTo>
                      <a:pt x="23" y="206"/>
                    </a:lnTo>
                    <a:lnTo>
                      <a:pt x="31" y="183"/>
                    </a:lnTo>
                    <a:lnTo>
                      <a:pt x="38" y="162"/>
                    </a:lnTo>
                    <a:lnTo>
                      <a:pt x="44" y="152"/>
                    </a:lnTo>
                    <a:lnTo>
                      <a:pt x="49" y="142"/>
                    </a:lnTo>
                    <a:lnTo>
                      <a:pt x="55" y="134"/>
                    </a:lnTo>
                    <a:lnTo>
                      <a:pt x="60" y="125"/>
                    </a:lnTo>
                    <a:lnTo>
                      <a:pt x="67" y="117"/>
                    </a:lnTo>
                    <a:lnTo>
                      <a:pt x="73" y="110"/>
                    </a:lnTo>
                    <a:lnTo>
                      <a:pt x="81" y="104"/>
                    </a:lnTo>
                    <a:lnTo>
                      <a:pt x="88" y="99"/>
                    </a:lnTo>
                    <a:lnTo>
                      <a:pt x="119" y="77"/>
                    </a:lnTo>
                    <a:lnTo>
                      <a:pt x="155" y="54"/>
                    </a:lnTo>
                    <a:lnTo>
                      <a:pt x="176" y="42"/>
                    </a:lnTo>
                    <a:lnTo>
                      <a:pt x="198" y="31"/>
                    </a:lnTo>
                    <a:lnTo>
                      <a:pt x="211" y="26"/>
                    </a:lnTo>
                    <a:lnTo>
                      <a:pt x="224" y="21"/>
                    </a:lnTo>
                    <a:lnTo>
                      <a:pt x="238" y="16"/>
                    </a:lnTo>
                    <a:lnTo>
                      <a:pt x="255" y="13"/>
                    </a:lnTo>
                    <a:lnTo>
                      <a:pt x="270" y="8"/>
                    </a:lnTo>
                    <a:lnTo>
                      <a:pt x="287" y="5"/>
                    </a:lnTo>
                    <a:lnTo>
                      <a:pt x="305" y="3"/>
                    </a:lnTo>
                    <a:lnTo>
                      <a:pt x="325" y="1"/>
                    </a:lnTo>
                    <a:lnTo>
                      <a:pt x="345" y="0"/>
                    </a:lnTo>
                    <a:lnTo>
                      <a:pt x="368" y="0"/>
                    </a:lnTo>
                    <a:lnTo>
                      <a:pt x="391" y="0"/>
                    </a:lnTo>
                    <a:lnTo>
                      <a:pt x="415" y="2"/>
                    </a:lnTo>
                    <a:lnTo>
                      <a:pt x="442" y="4"/>
                    </a:lnTo>
                    <a:lnTo>
                      <a:pt x="469" y="7"/>
                    </a:lnTo>
                    <a:lnTo>
                      <a:pt x="499" y="11"/>
                    </a:lnTo>
                    <a:lnTo>
                      <a:pt x="530" y="16"/>
                    </a:lnTo>
                    <a:lnTo>
                      <a:pt x="562" y="22"/>
                    </a:lnTo>
                    <a:lnTo>
                      <a:pt x="597" y="31"/>
                    </a:lnTo>
                    <a:lnTo>
                      <a:pt x="634" y="40"/>
                    </a:lnTo>
                    <a:lnTo>
                      <a:pt x="671" y="49"/>
                    </a:lnTo>
                    <a:lnTo>
                      <a:pt x="831" y="94"/>
                    </a:lnTo>
                    <a:lnTo>
                      <a:pt x="991" y="139"/>
                    </a:lnTo>
                    <a:lnTo>
                      <a:pt x="1147" y="184"/>
                    </a:lnTo>
                    <a:lnTo>
                      <a:pt x="1292" y="227"/>
                    </a:lnTo>
                    <a:lnTo>
                      <a:pt x="1357" y="248"/>
                    </a:lnTo>
                    <a:lnTo>
                      <a:pt x="1419" y="267"/>
                    </a:lnTo>
                    <a:lnTo>
                      <a:pt x="1474" y="286"/>
                    </a:lnTo>
                    <a:lnTo>
                      <a:pt x="1524" y="303"/>
                    </a:lnTo>
                    <a:lnTo>
                      <a:pt x="1565" y="318"/>
                    </a:lnTo>
                    <a:lnTo>
                      <a:pt x="1598" y="332"/>
                    </a:lnTo>
                    <a:lnTo>
                      <a:pt x="1612" y="339"/>
                    </a:lnTo>
                    <a:lnTo>
                      <a:pt x="1623" y="344"/>
                    </a:lnTo>
                    <a:lnTo>
                      <a:pt x="1632" y="350"/>
                    </a:lnTo>
                    <a:lnTo>
                      <a:pt x="1638" y="354"/>
                    </a:lnTo>
                    <a:lnTo>
                      <a:pt x="1649" y="362"/>
                    </a:lnTo>
                    <a:lnTo>
                      <a:pt x="1660" y="372"/>
                    </a:lnTo>
                    <a:lnTo>
                      <a:pt x="1670" y="383"/>
                    </a:lnTo>
                    <a:lnTo>
                      <a:pt x="1680" y="396"/>
                    </a:lnTo>
                    <a:lnTo>
                      <a:pt x="1691" y="409"/>
                    </a:lnTo>
                    <a:lnTo>
                      <a:pt x="1701" y="423"/>
                    </a:lnTo>
                    <a:lnTo>
                      <a:pt x="1711" y="439"/>
                    </a:lnTo>
                    <a:lnTo>
                      <a:pt x="1720" y="455"/>
                    </a:lnTo>
                    <a:lnTo>
                      <a:pt x="1730" y="474"/>
                    </a:lnTo>
                    <a:lnTo>
                      <a:pt x="1739" y="493"/>
                    </a:lnTo>
                    <a:lnTo>
                      <a:pt x="1749" y="514"/>
                    </a:lnTo>
                    <a:lnTo>
                      <a:pt x="1757" y="536"/>
                    </a:lnTo>
                    <a:lnTo>
                      <a:pt x="1766" y="559"/>
                    </a:lnTo>
                    <a:lnTo>
                      <a:pt x="1773" y="584"/>
                    </a:lnTo>
                    <a:lnTo>
                      <a:pt x="1782" y="610"/>
                    </a:lnTo>
                    <a:lnTo>
                      <a:pt x="1790" y="638"/>
                    </a:lnTo>
                    <a:lnTo>
                      <a:pt x="1796" y="665"/>
                    </a:lnTo>
                    <a:lnTo>
                      <a:pt x="1803" y="692"/>
                    </a:lnTo>
                    <a:lnTo>
                      <a:pt x="1807" y="718"/>
                    </a:lnTo>
                    <a:lnTo>
                      <a:pt x="1811" y="742"/>
                    </a:lnTo>
                    <a:lnTo>
                      <a:pt x="1818" y="788"/>
                    </a:lnTo>
                    <a:lnTo>
                      <a:pt x="1822" y="827"/>
                    </a:lnTo>
                    <a:lnTo>
                      <a:pt x="1823" y="859"/>
                    </a:lnTo>
                    <a:lnTo>
                      <a:pt x="1824" y="884"/>
                    </a:lnTo>
                    <a:lnTo>
                      <a:pt x="1824" y="899"/>
                    </a:lnTo>
                    <a:lnTo>
                      <a:pt x="1824" y="905"/>
                    </a:lnTo>
                    <a:close/>
                  </a:path>
                </a:pathLst>
              </a:custGeom>
              <a:solidFill>
                <a:srgbClr val="a0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5597640" y="3822840"/>
                <a:ext cx="506160" cy="1415880"/>
              </a:xfrm>
              <a:custGeom>
                <a:avLst/>
                <a:gdLst/>
                <a:ahLst/>
                <a:rect l="l" t="t" r="r" b="b"/>
                <a:pathLst>
                  <a:path w="1594" h="4461">
                    <a:moveTo>
                      <a:pt x="0" y="211"/>
                    </a:moveTo>
                    <a:lnTo>
                      <a:pt x="0" y="3341"/>
                    </a:lnTo>
                    <a:lnTo>
                      <a:pt x="0" y="3344"/>
                    </a:lnTo>
                    <a:lnTo>
                      <a:pt x="1" y="3352"/>
                    </a:lnTo>
                    <a:lnTo>
                      <a:pt x="2" y="3357"/>
                    </a:lnTo>
                    <a:lnTo>
                      <a:pt x="4" y="3362"/>
                    </a:lnTo>
                    <a:lnTo>
                      <a:pt x="7" y="3369"/>
                    </a:lnTo>
                    <a:lnTo>
                      <a:pt x="11" y="3375"/>
                    </a:lnTo>
                    <a:lnTo>
                      <a:pt x="17" y="3382"/>
                    </a:lnTo>
                    <a:lnTo>
                      <a:pt x="23" y="3388"/>
                    </a:lnTo>
                    <a:lnTo>
                      <a:pt x="32" y="3394"/>
                    </a:lnTo>
                    <a:lnTo>
                      <a:pt x="43" y="3399"/>
                    </a:lnTo>
                    <a:lnTo>
                      <a:pt x="56" y="3403"/>
                    </a:lnTo>
                    <a:lnTo>
                      <a:pt x="71" y="3407"/>
                    </a:lnTo>
                    <a:lnTo>
                      <a:pt x="88" y="3409"/>
                    </a:lnTo>
                    <a:lnTo>
                      <a:pt x="108" y="3410"/>
                    </a:lnTo>
                    <a:lnTo>
                      <a:pt x="128" y="3409"/>
                    </a:lnTo>
                    <a:lnTo>
                      <a:pt x="145" y="3407"/>
                    </a:lnTo>
                    <a:lnTo>
                      <a:pt x="161" y="3403"/>
                    </a:lnTo>
                    <a:lnTo>
                      <a:pt x="173" y="3399"/>
                    </a:lnTo>
                    <a:lnTo>
                      <a:pt x="183" y="3394"/>
                    </a:lnTo>
                    <a:lnTo>
                      <a:pt x="191" y="3387"/>
                    </a:lnTo>
                    <a:lnTo>
                      <a:pt x="197" y="3381"/>
                    </a:lnTo>
                    <a:lnTo>
                      <a:pt x="203" y="3374"/>
                    </a:lnTo>
                    <a:lnTo>
                      <a:pt x="206" y="3368"/>
                    </a:lnTo>
                    <a:lnTo>
                      <a:pt x="208" y="3361"/>
                    </a:lnTo>
                    <a:lnTo>
                      <a:pt x="209" y="3355"/>
                    </a:lnTo>
                    <a:lnTo>
                      <a:pt x="210" y="3349"/>
                    </a:lnTo>
                    <a:lnTo>
                      <a:pt x="210" y="3342"/>
                    </a:lnTo>
                    <a:lnTo>
                      <a:pt x="209" y="3339"/>
                    </a:lnTo>
                    <a:lnTo>
                      <a:pt x="209" y="339"/>
                    </a:lnTo>
                    <a:lnTo>
                      <a:pt x="210" y="306"/>
                    </a:lnTo>
                    <a:lnTo>
                      <a:pt x="210" y="275"/>
                    </a:lnTo>
                    <a:lnTo>
                      <a:pt x="212" y="248"/>
                    </a:lnTo>
                    <a:lnTo>
                      <a:pt x="213" y="224"/>
                    </a:lnTo>
                    <a:lnTo>
                      <a:pt x="218" y="185"/>
                    </a:lnTo>
                    <a:lnTo>
                      <a:pt x="223" y="157"/>
                    </a:lnTo>
                    <a:lnTo>
                      <a:pt x="229" y="137"/>
                    </a:lnTo>
                    <a:lnTo>
                      <a:pt x="233" y="126"/>
                    </a:lnTo>
                    <a:lnTo>
                      <a:pt x="235" y="119"/>
                    </a:lnTo>
                    <a:lnTo>
                      <a:pt x="236" y="117"/>
                    </a:lnTo>
                    <a:lnTo>
                      <a:pt x="243" y="108"/>
                    </a:lnTo>
                    <a:lnTo>
                      <a:pt x="249" y="100"/>
                    </a:lnTo>
                    <a:lnTo>
                      <a:pt x="257" y="92"/>
                    </a:lnTo>
                    <a:lnTo>
                      <a:pt x="264" y="85"/>
                    </a:lnTo>
                    <a:lnTo>
                      <a:pt x="273" y="78"/>
                    </a:lnTo>
                    <a:lnTo>
                      <a:pt x="282" y="72"/>
                    </a:lnTo>
                    <a:lnTo>
                      <a:pt x="291" y="66"/>
                    </a:lnTo>
                    <a:lnTo>
                      <a:pt x="300" y="62"/>
                    </a:lnTo>
                    <a:lnTo>
                      <a:pt x="320" y="54"/>
                    </a:lnTo>
                    <a:lnTo>
                      <a:pt x="341" y="48"/>
                    </a:lnTo>
                    <a:lnTo>
                      <a:pt x="363" y="43"/>
                    </a:lnTo>
                    <a:lnTo>
                      <a:pt x="383" y="41"/>
                    </a:lnTo>
                    <a:lnTo>
                      <a:pt x="405" y="40"/>
                    </a:lnTo>
                    <a:lnTo>
                      <a:pt x="425" y="40"/>
                    </a:lnTo>
                    <a:lnTo>
                      <a:pt x="446" y="41"/>
                    </a:lnTo>
                    <a:lnTo>
                      <a:pt x="464" y="42"/>
                    </a:lnTo>
                    <a:lnTo>
                      <a:pt x="498" y="47"/>
                    </a:lnTo>
                    <a:lnTo>
                      <a:pt x="521" y="51"/>
                    </a:lnTo>
                    <a:lnTo>
                      <a:pt x="565" y="63"/>
                    </a:lnTo>
                    <a:lnTo>
                      <a:pt x="648" y="86"/>
                    </a:lnTo>
                    <a:lnTo>
                      <a:pt x="758" y="117"/>
                    </a:lnTo>
                    <a:lnTo>
                      <a:pt x="882" y="153"/>
                    </a:lnTo>
                    <a:lnTo>
                      <a:pt x="1006" y="188"/>
                    </a:lnTo>
                    <a:lnTo>
                      <a:pt x="1118" y="221"/>
                    </a:lnTo>
                    <a:lnTo>
                      <a:pt x="1202" y="245"/>
                    </a:lnTo>
                    <a:lnTo>
                      <a:pt x="1245" y="258"/>
                    </a:lnTo>
                    <a:lnTo>
                      <a:pt x="1263" y="263"/>
                    </a:lnTo>
                    <a:lnTo>
                      <a:pt x="1281" y="267"/>
                    </a:lnTo>
                    <a:lnTo>
                      <a:pt x="1299" y="272"/>
                    </a:lnTo>
                    <a:lnTo>
                      <a:pt x="1320" y="281"/>
                    </a:lnTo>
                    <a:lnTo>
                      <a:pt x="1330" y="286"/>
                    </a:lnTo>
                    <a:lnTo>
                      <a:pt x="1343" y="294"/>
                    </a:lnTo>
                    <a:lnTo>
                      <a:pt x="1356" y="303"/>
                    </a:lnTo>
                    <a:lnTo>
                      <a:pt x="1372" y="313"/>
                    </a:lnTo>
                    <a:lnTo>
                      <a:pt x="1388" y="326"/>
                    </a:lnTo>
                    <a:lnTo>
                      <a:pt x="1405" y="342"/>
                    </a:lnTo>
                    <a:lnTo>
                      <a:pt x="1424" y="359"/>
                    </a:lnTo>
                    <a:lnTo>
                      <a:pt x="1446" y="379"/>
                    </a:lnTo>
                    <a:lnTo>
                      <a:pt x="1456" y="391"/>
                    </a:lnTo>
                    <a:lnTo>
                      <a:pt x="1467" y="403"/>
                    </a:lnTo>
                    <a:lnTo>
                      <a:pt x="1475" y="415"/>
                    </a:lnTo>
                    <a:lnTo>
                      <a:pt x="1484" y="429"/>
                    </a:lnTo>
                    <a:lnTo>
                      <a:pt x="1491" y="442"/>
                    </a:lnTo>
                    <a:lnTo>
                      <a:pt x="1499" y="457"/>
                    </a:lnTo>
                    <a:lnTo>
                      <a:pt x="1505" y="471"/>
                    </a:lnTo>
                    <a:lnTo>
                      <a:pt x="1512" y="486"/>
                    </a:lnTo>
                    <a:lnTo>
                      <a:pt x="1523" y="517"/>
                    </a:lnTo>
                    <a:lnTo>
                      <a:pt x="1532" y="547"/>
                    </a:lnTo>
                    <a:lnTo>
                      <a:pt x="1539" y="577"/>
                    </a:lnTo>
                    <a:lnTo>
                      <a:pt x="1545" y="607"/>
                    </a:lnTo>
                    <a:lnTo>
                      <a:pt x="1550" y="635"/>
                    </a:lnTo>
                    <a:lnTo>
                      <a:pt x="1552" y="662"/>
                    </a:lnTo>
                    <a:lnTo>
                      <a:pt x="1554" y="686"/>
                    </a:lnTo>
                    <a:lnTo>
                      <a:pt x="1556" y="707"/>
                    </a:lnTo>
                    <a:lnTo>
                      <a:pt x="1557" y="737"/>
                    </a:lnTo>
                    <a:lnTo>
                      <a:pt x="1557" y="748"/>
                    </a:lnTo>
                    <a:lnTo>
                      <a:pt x="1557" y="4394"/>
                    </a:lnTo>
                    <a:lnTo>
                      <a:pt x="1557" y="4396"/>
                    </a:lnTo>
                    <a:lnTo>
                      <a:pt x="1557" y="4400"/>
                    </a:lnTo>
                    <a:lnTo>
                      <a:pt x="1558" y="4408"/>
                    </a:lnTo>
                    <a:lnTo>
                      <a:pt x="1561" y="4416"/>
                    </a:lnTo>
                    <a:lnTo>
                      <a:pt x="1565" y="4427"/>
                    </a:lnTo>
                    <a:lnTo>
                      <a:pt x="1571" y="4439"/>
                    </a:lnTo>
                    <a:lnTo>
                      <a:pt x="1576" y="4444"/>
                    </a:lnTo>
                    <a:lnTo>
                      <a:pt x="1581" y="4450"/>
                    </a:lnTo>
                    <a:lnTo>
                      <a:pt x="1588" y="4455"/>
                    </a:lnTo>
                    <a:lnTo>
                      <a:pt x="1594" y="4461"/>
                    </a:lnTo>
                    <a:lnTo>
                      <a:pt x="1594" y="736"/>
                    </a:lnTo>
                    <a:lnTo>
                      <a:pt x="1594" y="720"/>
                    </a:lnTo>
                    <a:lnTo>
                      <a:pt x="1592" y="677"/>
                    </a:lnTo>
                    <a:lnTo>
                      <a:pt x="1589" y="648"/>
                    </a:lnTo>
                    <a:lnTo>
                      <a:pt x="1584" y="616"/>
                    </a:lnTo>
                    <a:lnTo>
                      <a:pt x="1579" y="580"/>
                    </a:lnTo>
                    <a:lnTo>
                      <a:pt x="1570" y="542"/>
                    </a:lnTo>
                    <a:lnTo>
                      <a:pt x="1565" y="523"/>
                    </a:lnTo>
                    <a:lnTo>
                      <a:pt x="1558" y="504"/>
                    </a:lnTo>
                    <a:lnTo>
                      <a:pt x="1552" y="484"/>
                    </a:lnTo>
                    <a:lnTo>
                      <a:pt x="1544" y="464"/>
                    </a:lnTo>
                    <a:lnTo>
                      <a:pt x="1537" y="444"/>
                    </a:lnTo>
                    <a:lnTo>
                      <a:pt x="1527" y="426"/>
                    </a:lnTo>
                    <a:lnTo>
                      <a:pt x="1517" y="406"/>
                    </a:lnTo>
                    <a:lnTo>
                      <a:pt x="1507" y="388"/>
                    </a:lnTo>
                    <a:lnTo>
                      <a:pt x="1495" y="371"/>
                    </a:lnTo>
                    <a:lnTo>
                      <a:pt x="1482" y="353"/>
                    </a:lnTo>
                    <a:lnTo>
                      <a:pt x="1468" y="337"/>
                    </a:lnTo>
                    <a:lnTo>
                      <a:pt x="1453" y="322"/>
                    </a:lnTo>
                    <a:lnTo>
                      <a:pt x="1435" y="308"/>
                    </a:lnTo>
                    <a:lnTo>
                      <a:pt x="1418" y="295"/>
                    </a:lnTo>
                    <a:lnTo>
                      <a:pt x="1400" y="283"/>
                    </a:lnTo>
                    <a:lnTo>
                      <a:pt x="1379" y="274"/>
                    </a:lnTo>
                    <a:lnTo>
                      <a:pt x="1377" y="272"/>
                    </a:lnTo>
                    <a:lnTo>
                      <a:pt x="1372" y="269"/>
                    </a:lnTo>
                    <a:lnTo>
                      <a:pt x="1362" y="265"/>
                    </a:lnTo>
                    <a:lnTo>
                      <a:pt x="1348" y="258"/>
                    </a:lnTo>
                    <a:lnTo>
                      <a:pt x="1330" y="251"/>
                    </a:lnTo>
                    <a:lnTo>
                      <a:pt x="1308" y="243"/>
                    </a:lnTo>
                    <a:lnTo>
                      <a:pt x="1282" y="234"/>
                    </a:lnTo>
                    <a:lnTo>
                      <a:pt x="1251" y="224"/>
                    </a:lnTo>
                    <a:lnTo>
                      <a:pt x="1193" y="208"/>
                    </a:lnTo>
                    <a:lnTo>
                      <a:pt x="1098" y="180"/>
                    </a:lnTo>
                    <a:lnTo>
                      <a:pt x="978" y="146"/>
                    </a:lnTo>
                    <a:lnTo>
                      <a:pt x="848" y="109"/>
                    </a:lnTo>
                    <a:lnTo>
                      <a:pt x="719" y="74"/>
                    </a:lnTo>
                    <a:lnTo>
                      <a:pt x="606" y="41"/>
                    </a:lnTo>
                    <a:lnTo>
                      <a:pt x="522" y="18"/>
                    </a:lnTo>
                    <a:lnTo>
                      <a:pt x="481" y="6"/>
                    </a:lnTo>
                    <a:lnTo>
                      <a:pt x="463" y="2"/>
                    </a:lnTo>
                    <a:lnTo>
                      <a:pt x="436" y="0"/>
                    </a:lnTo>
                    <a:lnTo>
                      <a:pt x="421" y="0"/>
                    </a:lnTo>
                    <a:lnTo>
                      <a:pt x="405" y="0"/>
                    </a:lnTo>
                    <a:lnTo>
                      <a:pt x="387" y="1"/>
                    </a:lnTo>
                    <a:lnTo>
                      <a:pt x="369" y="2"/>
                    </a:lnTo>
                    <a:lnTo>
                      <a:pt x="352" y="5"/>
                    </a:lnTo>
                    <a:lnTo>
                      <a:pt x="333" y="8"/>
                    </a:lnTo>
                    <a:lnTo>
                      <a:pt x="316" y="12"/>
                    </a:lnTo>
                    <a:lnTo>
                      <a:pt x="299" y="18"/>
                    </a:lnTo>
                    <a:lnTo>
                      <a:pt x="283" y="24"/>
                    </a:lnTo>
                    <a:lnTo>
                      <a:pt x="269" y="32"/>
                    </a:lnTo>
                    <a:lnTo>
                      <a:pt x="262" y="36"/>
                    </a:lnTo>
                    <a:lnTo>
                      <a:pt x="256" y="40"/>
                    </a:lnTo>
                    <a:lnTo>
                      <a:pt x="249" y="46"/>
                    </a:lnTo>
                    <a:lnTo>
                      <a:pt x="244" y="51"/>
                    </a:lnTo>
                    <a:lnTo>
                      <a:pt x="234" y="63"/>
                    </a:lnTo>
                    <a:lnTo>
                      <a:pt x="224" y="76"/>
                    </a:lnTo>
                    <a:lnTo>
                      <a:pt x="215" y="90"/>
                    </a:lnTo>
                    <a:lnTo>
                      <a:pt x="206" y="104"/>
                    </a:lnTo>
                    <a:lnTo>
                      <a:pt x="190" y="133"/>
                    </a:lnTo>
                    <a:lnTo>
                      <a:pt x="175" y="162"/>
                    </a:lnTo>
                    <a:lnTo>
                      <a:pt x="161" y="189"/>
                    </a:lnTo>
                    <a:lnTo>
                      <a:pt x="149" y="213"/>
                    </a:lnTo>
                    <a:lnTo>
                      <a:pt x="142" y="223"/>
                    </a:lnTo>
                    <a:lnTo>
                      <a:pt x="137" y="230"/>
                    </a:lnTo>
                    <a:lnTo>
                      <a:pt x="131" y="237"/>
                    </a:lnTo>
                    <a:lnTo>
                      <a:pt x="126" y="241"/>
                    </a:lnTo>
                    <a:lnTo>
                      <a:pt x="113" y="248"/>
                    </a:lnTo>
                    <a:lnTo>
                      <a:pt x="99" y="253"/>
                    </a:lnTo>
                    <a:lnTo>
                      <a:pt x="90" y="255"/>
                    </a:lnTo>
                    <a:lnTo>
                      <a:pt x="82" y="257"/>
                    </a:lnTo>
                    <a:lnTo>
                      <a:pt x="73" y="257"/>
                    </a:lnTo>
                    <a:lnTo>
                      <a:pt x="64" y="257"/>
                    </a:lnTo>
                    <a:lnTo>
                      <a:pt x="55" y="256"/>
                    </a:lnTo>
                    <a:lnTo>
                      <a:pt x="46" y="255"/>
                    </a:lnTo>
                    <a:lnTo>
                      <a:pt x="37" y="251"/>
                    </a:lnTo>
                    <a:lnTo>
                      <a:pt x="29" y="247"/>
                    </a:lnTo>
                    <a:lnTo>
                      <a:pt x="20" y="240"/>
                    </a:lnTo>
                    <a:lnTo>
                      <a:pt x="13" y="232"/>
                    </a:lnTo>
                    <a:lnTo>
                      <a:pt x="6" y="223"/>
                    </a:lnTo>
                    <a:lnTo>
                      <a:pt x="0" y="211"/>
                    </a:lnTo>
                    <a:close/>
                  </a:path>
                </a:pathLst>
              </a:custGeom>
              <a:solidFill>
                <a:srgbClr val="8c8b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6048360" y="3857760"/>
                <a:ext cx="128520" cy="1379520"/>
              </a:xfrm>
              <a:custGeom>
                <a:avLst/>
                <a:gdLst/>
                <a:ahLst/>
                <a:rect l="l" t="t" r="r" b="b"/>
                <a:pathLst>
                  <a:path w="401" h="4347">
                    <a:moveTo>
                      <a:pt x="136" y="49"/>
                    </a:moveTo>
                    <a:lnTo>
                      <a:pt x="152" y="54"/>
                    </a:lnTo>
                    <a:lnTo>
                      <a:pt x="166" y="60"/>
                    </a:lnTo>
                    <a:lnTo>
                      <a:pt x="178" y="65"/>
                    </a:lnTo>
                    <a:lnTo>
                      <a:pt x="188" y="70"/>
                    </a:lnTo>
                    <a:lnTo>
                      <a:pt x="197" y="74"/>
                    </a:lnTo>
                    <a:lnTo>
                      <a:pt x="205" y="78"/>
                    </a:lnTo>
                    <a:lnTo>
                      <a:pt x="211" y="83"/>
                    </a:lnTo>
                    <a:lnTo>
                      <a:pt x="215" y="87"/>
                    </a:lnTo>
                    <a:lnTo>
                      <a:pt x="226" y="95"/>
                    </a:lnTo>
                    <a:lnTo>
                      <a:pt x="237" y="105"/>
                    </a:lnTo>
                    <a:lnTo>
                      <a:pt x="247" y="116"/>
                    </a:lnTo>
                    <a:lnTo>
                      <a:pt x="257" y="129"/>
                    </a:lnTo>
                    <a:lnTo>
                      <a:pt x="268" y="142"/>
                    </a:lnTo>
                    <a:lnTo>
                      <a:pt x="278" y="156"/>
                    </a:lnTo>
                    <a:lnTo>
                      <a:pt x="288" y="172"/>
                    </a:lnTo>
                    <a:lnTo>
                      <a:pt x="297" y="188"/>
                    </a:lnTo>
                    <a:lnTo>
                      <a:pt x="307" y="207"/>
                    </a:lnTo>
                    <a:lnTo>
                      <a:pt x="316" y="226"/>
                    </a:lnTo>
                    <a:lnTo>
                      <a:pt x="326" y="247"/>
                    </a:lnTo>
                    <a:lnTo>
                      <a:pt x="334" y="269"/>
                    </a:lnTo>
                    <a:lnTo>
                      <a:pt x="343" y="292"/>
                    </a:lnTo>
                    <a:lnTo>
                      <a:pt x="350" y="317"/>
                    </a:lnTo>
                    <a:lnTo>
                      <a:pt x="359" y="343"/>
                    </a:lnTo>
                    <a:lnTo>
                      <a:pt x="367" y="371"/>
                    </a:lnTo>
                    <a:lnTo>
                      <a:pt x="373" y="398"/>
                    </a:lnTo>
                    <a:lnTo>
                      <a:pt x="380" y="425"/>
                    </a:lnTo>
                    <a:lnTo>
                      <a:pt x="384" y="451"/>
                    </a:lnTo>
                    <a:lnTo>
                      <a:pt x="388" y="475"/>
                    </a:lnTo>
                    <a:lnTo>
                      <a:pt x="395" y="521"/>
                    </a:lnTo>
                    <a:lnTo>
                      <a:pt x="399" y="560"/>
                    </a:lnTo>
                    <a:lnTo>
                      <a:pt x="400" y="592"/>
                    </a:lnTo>
                    <a:lnTo>
                      <a:pt x="401" y="617"/>
                    </a:lnTo>
                    <a:lnTo>
                      <a:pt x="401" y="632"/>
                    </a:lnTo>
                    <a:lnTo>
                      <a:pt x="401" y="638"/>
                    </a:lnTo>
                    <a:lnTo>
                      <a:pt x="401" y="4284"/>
                    </a:lnTo>
                    <a:lnTo>
                      <a:pt x="401" y="4286"/>
                    </a:lnTo>
                    <a:lnTo>
                      <a:pt x="401" y="4290"/>
                    </a:lnTo>
                    <a:lnTo>
                      <a:pt x="401" y="4297"/>
                    </a:lnTo>
                    <a:lnTo>
                      <a:pt x="399" y="4305"/>
                    </a:lnTo>
                    <a:lnTo>
                      <a:pt x="397" y="4316"/>
                    </a:lnTo>
                    <a:lnTo>
                      <a:pt x="391" y="4327"/>
                    </a:lnTo>
                    <a:lnTo>
                      <a:pt x="388" y="4332"/>
                    </a:lnTo>
                    <a:lnTo>
                      <a:pt x="384" y="4338"/>
                    </a:lnTo>
                    <a:lnTo>
                      <a:pt x="380" y="4343"/>
                    </a:lnTo>
                    <a:lnTo>
                      <a:pt x="374" y="4347"/>
                    </a:lnTo>
                    <a:lnTo>
                      <a:pt x="367" y="4284"/>
                    </a:lnTo>
                    <a:lnTo>
                      <a:pt x="367" y="638"/>
                    </a:lnTo>
                    <a:lnTo>
                      <a:pt x="367" y="632"/>
                    </a:lnTo>
                    <a:lnTo>
                      <a:pt x="367" y="617"/>
                    </a:lnTo>
                    <a:lnTo>
                      <a:pt x="365" y="592"/>
                    </a:lnTo>
                    <a:lnTo>
                      <a:pt x="364" y="560"/>
                    </a:lnTo>
                    <a:lnTo>
                      <a:pt x="361" y="521"/>
                    </a:lnTo>
                    <a:lnTo>
                      <a:pt x="355" y="475"/>
                    </a:lnTo>
                    <a:lnTo>
                      <a:pt x="351" y="451"/>
                    </a:lnTo>
                    <a:lnTo>
                      <a:pt x="346" y="425"/>
                    </a:lnTo>
                    <a:lnTo>
                      <a:pt x="341" y="398"/>
                    </a:lnTo>
                    <a:lnTo>
                      <a:pt x="334" y="371"/>
                    </a:lnTo>
                    <a:lnTo>
                      <a:pt x="327" y="343"/>
                    </a:lnTo>
                    <a:lnTo>
                      <a:pt x="319" y="317"/>
                    </a:lnTo>
                    <a:lnTo>
                      <a:pt x="310" y="292"/>
                    </a:lnTo>
                    <a:lnTo>
                      <a:pt x="302" y="269"/>
                    </a:lnTo>
                    <a:lnTo>
                      <a:pt x="293" y="247"/>
                    </a:lnTo>
                    <a:lnTo>
                      <a:pt x="283" y="226"/>
                    </a:lnTo>
                    <a:lnTo>
                      <a:pt x="274" y="207"/>
                    </a:lnTo>
                    <a:lnTo>
                      <a:pt x="264" y="188"/>
                    </a:lnTo>
                    <a:lnTo>
                      <a:pt x="254" y="172"/>
                    </a:lnTo>
                    <a:lnTo>
                      <a:pt x="245" y="156"/>
                    </a:lnTo>
                    <a:lnTo>
                      <a:pt x="235" y="142"/>
                    </a:lnTo>
                    <a:lnTo>
                      <a:pt x="224" y="129"/>
                    </a:lnTo>
                    <a:lnTo>
                      <a:pt x="214" y="116"/>
                    </a:lnTo>
                    <a:lnTo>
                      <a:pt x="203" y="105"/>
                    </a:lnTo>
                    <a:lnTo>
                      <a:pt x="194" y="95"/>
                    </a:lnTo>
                    <a:lnTo>
                      <a:pt x="183" y="87"/>
                    </a:lnTo>
                    <a:lnTo>
                      <a:pt x="179" y="83"/>
                    </a:lnTo>
                    <a:lnTo>
                      <a:pt x="171" y="78"/>
                    </a:lnTo>
                    <a:lnTo>
                      <a:pt x="163" y="74"/>
                    </a:lnTo>
                    <a:lnTo>
                      <a:pt x="154" y="70"/>
                    </a:lnTo>
                    <a:lnTo>
                      <a:pt x="143" y="65"/>
                    </a:lnTo>
                    <a:lnTo>
                      <a:pt x="131" y="60"/>
                    </a:lnTo>
                    <a:lnTo>
                      <a:pt x="118" y="54"/>
                    </a:lnTo>
                    <a:lnTo>
                      <a:pt x="104" y="49"/>
                    </a:lnTo>
                    <a:lnTo>
                      <a:pt x="0" y="0"/>
                    </a:lnTo>
                    <a:lnTo>
                      <a:pt x="136" y="49"/>
                    </a:lnTo>
                    <a:close/>
                  </a:path>
                </a:pathLst>
              </a:custGeom>
              <a:solidFill>
                <a:srgbClr val="8c8b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6121440" y="4051440"/>
                <a:ext cx="25200" cy="11160"/>
              </a:xfrm>
              <a:custGeom>
                <a:avLst/>
                <a:gdLst/>
                <a:ahLst/>
                <a:rect l="l" t="t" r="r" b="b"/>
                <a:pathLst>
                  <a:path w="77" h="37">
                    <a:moveTo>
                      <a:pt x="77" y="37"/>
                    </a:moveTo>
                    <a:lnTo>
                      <a:pt x="76" y="29"/>
                    </a:lnTo>
                    <a:lnTo>
                      <a:pt x="74" y="21"/>
                    </a:lnTo>
                    <a:lnTo>
                      <a:pt x="70" y="15"/>
                    </a:lnTo>
                    <a:lnTo>
                      <a:pt x="65" y="9"/>
                    </a:lnTo>
                    <a:lnTo>
                      <a:pt x="59" y="5"/>
                    </a:lnTo>
                    <a:lnTo>
                      <a:pt x="52" y="2"/>
                    </a:lnTo>
                    <a:lnTo>
                      <a:pt x="46" y="0"/>
                    </a:lnTo>
                    <a:lnTo>
                      <a:pt x="38" y="0"/>
                    </a:lnTo>
                    <a:lnTo>
                      <a:pt x="32" y="0"/>
                    </a:lnTo>
                    <a:lnTo>
                      <a:pt x="24" y="2"/>
                    </a:lnTo>
                    <a:lnTo>
                      <a:pt x="18" y="5"/>
                    </a:lnTo>
                    <a:lnTo>
                      <a:pt x="12" y="9"/>
                    </a:lnTo>
                    <a:lnTo>
                      <a:pt x="7" y="15"/>
                    </a:lnTo>
                    <a:lnTo>
                      <a:pt x="4" y="21"/>
                    </a:lnTo>
                    <a:lnTo>
                      <a:pt x="1" y="29"/>
                    </a:lnTo>
                    <a:lnTo>
                      <a:pt x="0" y="37"/>
                    </a:lnTo>
                    <a:lnTo>
                      <a:pt x="77" y="37"/>
                    </a:lnTo>
                    <a:close/>
                  </a:path>
                </a:pathLst>
              </a:custGeom>
              <a:solidFill>
                <a:srgbClr val="a0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6121440" y="4062600"/>
                <a:ext cx="25200" cy="1147680"/>
              </a:xfrm>
              <a:prstGeom prst="rect">
                <a:avLst/>
              </a:prstGeom>
              <a:solidFill>
                <a:srgbClr val="a0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6121440" y="5210280"/>
                <a:ext cx="25200" cy="12600"/>
              </a:xfrm>
              <a:custGeom>
                <a:avLst/>
                <a:gdLst/>
                <a:ahLst/>
                <a:rect l="l" t="t" r="r" b="b"/>
                <a:pathLst>
                  <a:path w="77" h="39">
                    <a:moveTo>
                      <a:pt x="0" y="0"/>
                    </a:moveTo>
                    <a:lnTo>
                      <a:pt x="1" y="10"/>
                    </a:lnTo>
                    <a:lnTo>
                      <a:pt x="4" y="17"/>
                    </a:lnTo>
                    <a:lnTo>
                      <a:pt x="7" y="24"/>
                    </a:lnTo>
                    <a:lnTo>
                      <a:pt x="12" y="29"/>
                    </a:lnTo>
                    <a:lnTo>
                      <a:pt x="18" y="34"/>
                    </a:lnTo>
                    <a:lnTo>
                      <a:pt x="24" y="37"/>
                    </a:lnTo>
                    <a:lnTo>
                      <a:pt x="32" y="38"/>
                    </a:lnTo>
                    <a:lnTo>
                      <a:pt x="38" y="39"/>
                    </a:lnTo>
                    <a:lnTo>
                      <a:pt x="46" y="38"/>
                    </a:lnTo>
                    <a:lnTo>
                      <a:pt x="52" y="37"/>
                    </a:lnTo>
                    <a:lnTo>
                      <a:pt x="59" y="34"/>
                    </a:lnTo>
                    <a:lnTo>
                      <a:pt x="65" y="29"/>
                    </a:lnTo>
                    <a:lnTo>
                      <a:pt x="70" y="24"/>
                    </a:lnTo>
                    <a:lnTo>
                      <a:pt x="74" y="17"/>
                    </a:lnTo>
                    <a:lnTo>
                      <a:pt x="76" y="10"/>
                    </a:lnTo>
                    <a:lnTo>
                      <a:pt x="7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0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6122880" y="4071960"/>
                <a:ext cx="22320" cy="11160"/>
              </a:xfrm>
              <a:custGeom>
                <a:avLst/>
                <a:gdLst/>
                <a:ahLst/>
                <a:rect l="l" t="t" r="r" b="b"/>
                <a:pathLst>
                  <a:path w="69" h="34">
                    <a:moveTo>
                      <a:pt x="69" y="34"/>
                    </a:moveTo>
                    <a:lnTo>
                      <a:pt x="69" y="26"/>
                    </a:lnTo>
                    <a:lnTo>
                      <a:pt x="66" y="19"/>
                    </a:lnTo>
                    <a:lnTo>
                      <a:pt x="62" y="13"/>
                    </a:lnTo>
                    <a:lnTo>
                      <a:pt x="58" y="8"/>
                    </a:lnTo>
                    <a:lnTo>
                      <a:pt x="53" y="4"/>
                    </a:lnTo>
                    <a:lnTo>
                      <a:pt x="47" y="2"/>
                    </a:lnTo>
                    <a:lnTo>
                      <a:pt x="41" y="0"/>
                    </a:lnTo>
                    <a:lnTo>
                      <a:pt x="34" y="0"/>
                    </a:lnTo>
                    <a:lnTo>
                      <a:pt x="28" y="0"/>
                    </a:lnTo>
                    <a:lnTo>
                      <a:pt x="22" y="2"/>
                    </a:lnTo>
                    <a:lnTo>
                      <a:pt x="16" y="4"/>
                    </a:lnTo>
                    <a:lnTo>
                      <a:pt x="10" y="8"/>
                    </a:lnTo>
                    <a:lnTo>
                      <a:pt x="6" y="13"/>
                    </a:lnTo>
                    <a:lnTo>
                      <a:pt x="3" y="19"/>
                    </a:lnTo>
                    <a:lnTo>
                      <a:pt x="1" y="26"/>
                    </a:lnTo>
                    <a:lnTo>
                      <a:pt x="0" y="34"/>
                    </a:lnTo>
                    <a:lnTo>
                      <a:pt x="69" y="34"/>
                    </a:lnTo>
                    <a:close/>
                  </a:path>
                </a:pathLst>
              </a:custGeom>
              <a:solidFill>
                <a:srgbClr val="aeae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6122880" y="4083120"/>
                <a:ext cx="22320" cy="1108080"/>
              </a:xfrm>
              <a:prstGeom prst="rect">
                <a:avLst/>
              </a:prstGeom>
              <a:solidFill>
                <a:srgbClr val="aeae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6122880" y="5191200"/>
                <a:ext cx="22320" cy="11160"/>
              </a:xfrm>
              <a:custGeom>
                <a:avLst/>
                <a:gdLst/>
                <a:ahLst/>
                <a:rect l="l" t="t" r="r" b="b"/>
                <a:pathLst>
                  <a:path w="69" h="34">
                    <a:moveTo>
                      <a:pt x="0" y="0"/>
                    </a:moveTo>
                    <a:lnTo>
                      <a:pt x="1" y="8"/>
                    </a:lnTo>
                    <a:lnTo>
                      <a:pt x="3" y="15"/>
                    </a:lnTo>
                    <a:lnTo>
                      <a:pt x="6" y="21"/>
                    </a:lnTo>
                    <a:lnTo>
                      <a:pt x="10" y="26"/>
                    </a:lnTo>
                    <a:lnTo>
                      <a:pt x="16" y="30"/>
                    </a:lnTo>
                    <a:lnTo>
                      <a:pt x="22" y="32"/>
                    </a:lnTo>
                    <a:lnTo>
                      <a:pt x="28" y="34"/>
                    </a:lnTo>
                    <a:lnTo>
                      <a:pt x="34" y="34"/>
                    </a:lnTo>
                    <a:lnTo>
                      <a:pt x="41" y="34"/>
                    </a:lnTo>
                    <a:lnTo>
                      <a:pt x="47" y="32"/>
                    </a:lnTo>
                    <a:lnTo>
                      <a:pt x="53" y="30"/>
                    </a:lnTo>
                    <a:lnTo>
                      <a:pt x="58" y="26"/>
                    </a:lnTo>
                    <a:lnTo>
                      <a:pt x="62" y="21"/>
                    </a:lnTo>
                    <a:lnTo>
                      <a:pt x="66" y="15"/>
                    </a:lnTo>
                    <a:lnTo>
                      <a:pt x="69" y="8"/>
                    </a:lnTo>
                    <a:lnTo>
                      <a:pt x="6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eae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6124680" y="4094280"/>
                <a:ext cx="19080" cy="9360"/>
              </a:xfrm>
              <a:custGeom>
                <a:avLst/>
                <a:gdLst/>
                <a:ahLst/>
                <a:rect l="l" t="t" r="r" b="b"/>
                <a:pathLst>
                  <a:path w="59" h="29">
                    <a:moveTo>
                      <a:pt x="59" y="29"/>
                    </a:moveTo>
                    <a:lnTo>
                      <a:pt x="58" y="22"/>
                    </a:lnTo>
                    <a:lnTo>
                      <a:pt x="56" y="16"/>
                    </a:lnTo>
                    <a:lnTo>
                      <a:pt x="54" y="12"/>
                    </a:lnTo>
                    <a:lnTo>
                      <a:pt x="50" y="7"/>
                    </a:lnTo>
                    <a:lnTo>
                      <a:pt x="45" y="4"/>
                    </a:lnTo>
                    <a:lnTo>
                      <a:pt x="40" y="1"/>
                    </a:lnTo>
                    <a:lnTo>
                      <a:pt x="35" y="0"/>
                    </a:lnTo>
                    <a:lnTo>
                      <a:pt x="29" y="0"/>
                    </a:lnTo>
                    <a:lnTo>
                      <a:pt x="24" y="0"/>
                    </a:lnTo>
                    <a:lnTo>
                      <a:pt x="18" y="1"/>
                    </a:lnTo>
                    <a:lnTo>
                      <a:pt x="13" y="4"/>
                    </a:lnTo>
                    <a:lnTo>
                      <a:pt x="9" y="7"/>
                    </a:lnTo>
                    <a:lnTo>
                      <a:pt x="5" y="12"/>
                    </a:lnTo>
                    <a:lnTo>
                      <a:pt x="2" y="16"/>
                    </a:lnTo>
                    <a:lnTo>
                      <a:pt x="0" y="22"/>
                    </a:lnTo>
                    <a:lnTo>
                      <a:pt x="0" y="29"/>
                    </a:lnTo>
                    <a:lnTo>
                      <a:pt x="59" y="29"/>
                    </a:lnTo>
                    <a:close/>
                  </a:path>
                </a:pathLst>
              </a:custGeom>
              <a:solidFill>
                <a:srgbClr val="bfbf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6124680" y="4103640"/>
                <a:ext cx="19080" cy="1068480"/>
              </a:xfrm>
              <a:prstGeom prst="rect">
                <a:avLst/>
              </a:prstGeom>
              <a:solidFill>
                <a:srgbClr val="bfbf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6124680" y="5172120"/>
                <a:ext cx="19080" cy="9720"/>
              </a:xfrm>
              <a:custGeom>
                <a:avLst/>
                <a:gdLst/>
                <a:ahLst/>
                <a:rect l="l" t="t" r="r" b="b"/>
                <a:pathLst>
                  <a:path w="59" h="29">
                    <a:moveTo>
                      <a:pt x="0" y="0"/>
                    </a:moveTo>
                    <a:lnTo>
                      <a:pt x="0" y="7"/>
                    </a:lnTo>
                    <a:lnTo>
                      <a:pt x="2" y="13"/>
                    </a:lnTo>
                    <a:lnTo>
                      <a:pt x="5" y="18"/>
                    </a:lnTo>
                    <a:lnTo>
                      <a:pt x="9" y="22"/>
                    </a:lnTo>
                    <a:lnTo>
                      <a:pt x="13" y="25"/>
                    </a:lnTo>
                    <a:lnTo>
                      <a:pt x="18" y="27"/>
                    </a:lnTo>
                    <a:lnTo>
                      <a:pt x="24" y="29"/>
                    </a:lnTo>
                    <a:lnTo>
                      <a:pt x="29" y="29"/>
                    </a:lnTo>
                    <a:lnTo>
                      <a:pt x="35" y="29"/>
                    </a:lnTo>
                    <a:lnTo>
                      <a:pt x="40" y="27"/>
                    </a:lnTo>
                    <a:lnTo>
                      <a:pt x="45" y="25"/>
                    </a:lnTo>
                    <a:lnTo>
                      <a:pt x="50" y="22"/>
                    </a:lnTo>
                    <a:lnTo>
                      <a:pt x="54" y="18"/>
                    </a:lnTo>
                    <a:lnTo>
                      <a:pt x="56" y="13"/>
                    </a:lnTo>
                    <a:lnTo>
                      <a:pt x="58" y="7"/>
                    </a:lnTo>
                    <a:lnTo>
                      <a:pt x="5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fbf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6126120" y="4116600"/>
                <a:ext cx="15840" cy="7920"/>
              </a:xfrm>
              <a:custGeom>
                <a:avLst/>
                <a:gdLst/>
                <a:ahLst/>
                <a:rect l="l" t="t" r="r" b="b"/>
                <a:pathLst>
                  <a:path w="52" h="26">
                    <a:moveTo>
                      <a:pt x="52" y="26"/>
                    </a:moveTo>
                    <a:lnTo>
                      <a:pt x="52" y="19"/>
                    </a:lnTo>
                    <a:lnTo>
                      <a:pt x="50" y="14"/>
                    </a:lnTo>
                    <a:lnTo>
                      <a:pt x="48" y="9"/>
                    </a:lnTo>
                    <a:lnTo>
                      <a:pt x="45" y="6"/>
                    </a:lnTo>
                    <a:lnTo>
                      <a:pt x="40" y="3"/>
                    </a:lnTo>
                    <a:lnTo>
                      <a:pt x="36" y="1"/>
                    </a:lnTo>
                    <a:lnTo>
                      <a:pt x="32" y="0"/>
                    </a:lnTo>
                    <a:lnTo>
                      <a:pt x="26" y="0"/>
                    </a:lnTo>
                    <a:lnTo>
                      <a:pt x="22" y="0"/>
                    </a:lnTo>
                    <a:lnTo>
                      <a:pt x="16" y="1"/>
                    </a:lnTo>
                    <a:lnTo>
                      <a:pt x="12" y="3"/>
                    </a:lnTo>
                    <a:lnTo>
                      <a:pt x="9" y="6"/>
                    </a:lnTo>
                    <a:lnTo>
                      <a:pt x="6" y="9"/>
                    </a:lnTo>
                    <a:lnTo>
                      <a:pt x="2" y="14"/>
                    </a:lnTo>
                    <a:lnTo>
                      <a:pt x="1" y="19"/>
                    </a:lnTo>
                    <a:lnTo>
                      <a:pt x="0" y="26"/>
                    </a:lnTo>
                    <a:lnTo>
                      <a:pt x="52" y="26"/>
                    </a:lnTo>
                    <a:close/>
                  </a:path>
                </a:pathLst>
              </a:custGeom>
              <a:solidFill>
                <a:srgbClr val="d1d0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6126120" y="4124520"/>
                <a:ext cx="15840" cy="1028520"/>
              </a:xfrm>
              <a:prstGeom prst="rect">
                <a:avLst/>
              </a:prstGeom>
              <a:solidFill>
                <a:srgbClr val="d1d0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6126120" y="5153040"/>
                <a:ext cx="15840" cy="7920"/>
              </a:xfrm>
              <a:custGeom>
                <a:avLst/>
                <a:gdLst/>
                <a:ahLst/>
                <a:rect l="l" t="t" r="r" b="b"/>
                <a:pathLst>
                  <a:path w="52" h="26">
                    <a:moveTo>
                      <a:pt x="0" y="0"/>
                    </a:moveTo>
                    <a:lnTo>
                      <a:pt x="1" y="6"/>
                    </a:lnTo>
                    <a:lnTo>
                      <a:pt x="2" y="12"/>
                    </a:lnTo>
                    <a:lnTo>
                      <a:pt x="6" y="16"/>
                    </a:lnTo>
                    <a:lnTo>
                      <a:pt x="9" y="19"/>
                    </a:lnTo>
                    <a:lnTo>
                      <a:pt x="12" y="22"/>
                    </a:lnTo>
                    <a:lnTo>
                      <a:pt x="16" y="25"/>
                    </a:lnTo>
                    <a:lnTo>
                      <a:pt x="22" y="26"/>
                    </a:lnTo>
                    <a:lnTo>
                      <a:pt x="26" y="26"/>
                    </a:lnTo>
                    <a:lnTo>
                      <a:pt x="32" y="26"/>
                    </a:lnTo>
                    <a:lnTo>
                      <a:pt x="36" y="25"/>
                    </a:lnTo>
                    <a:lnTo>
                      <a:pt x="40" y="22"/>
                    </a:lnTo>
                    <a:lnTo>
                      <a:pt x="45" y="19"/>
                    </a:lnTo>
                    <a:lnTo>
                      <a:pt x="48" y="16"/>
                    </a:lnTo>
                    <a:lnTo>
                      <a:pt x="50" y="12"/>
                    </a:lnTo>
                    <a:lnTo>
                      <a:pt x="52" y="6"/>
                    </a:lnTo>
                    <a:lnTo>
                      <a:pt x="5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1d0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6127560" y="4138560"/>
                <a:ext cx="12960" cy="6480"/>
              </a:xfrm>
              <a:custGeom>
                <a:avLst/>
                <a:gdLst/>
                <a:ahLst/>
                <a:rect l="l" t="t" r="r" b="b"/>
                <a:pathLst>
                  <a:path w="42" h="20">
                    <a:moveTo>
                      <a:pt x="42" y="20"/>
                    </a:moveTo>
                    <a:lnTo>
                      <a:pt x="41" y="16"/>
                    </a:lnTo>
                    <a:lnTo>
                      <a:pt x="40" y="12"/>
                    </a:lnTo>
                    <a:lnTo>
                      <a:pt x="37" y="7"/>
                    </a:lnTo>
                    <a:lnTo>
                      <a:pt x="35" y="5"/>
                    </a:lnTo>
                    <a:lnTo>
                      <a:pt x="32" y="3"/>
                    </a:lnTo>
                    <a:lnTo>
                      <a:pt x="28" y="1"/>
                    </a:lnTo>
                    <a:lnTo>
                      <a:pt x="25" y="0"/>
                    </a:lnTo>
                    <a:lnTo>
                      <a:pt x="20" y="0"/>
                    </a:lnTo>
                    <a:lnTo>
                      <a:pt x="17" y="0"/>
                    </a:lnTo>
                    <a:lnTo>
                      <a:pt x="13" y="1"/>
                    </a:lnTo>
                    <a:lnTo>
                      <a:pt x="9" y="3"/>
                    </a:lnTo>
                    <a:lnTo>
                      <a:pt x="6" y="5"/>
                    </a:lnTo>
                    <a:lnTo>
                      <a:pt x="3" y="7"/>
                    </a:lnTo>
                    <a:lnTo>
                      <a:pt x="1" y="12"/>
                    </a:lnTo>
                    <a:lnTo>
                      <a:pt x="0" y="16"/>
                    </a:lnTo>
                    <a:lnTo>
                      <a:pt x="0" y="20"/>
                    </a:lnTo>
                    <a:lnTo>
                      <a:pt x="42" y="20"/>
                    </a:lnTo>
                    <a:close/>
                  </a:path>
                </a:pathLst>
              </a:custGeom>
              <a:solidFill>
                <a:srgbClr val="e8e8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6127560" y="4145040"/>
                <a:ext cx="12960" cy="988920"/>
              </a:xfrm>
              <a:prstGeom prst="rect">
                <a:avLst/>
              </a:prstGeom>
              <a:solidFill>
                <a:srgbClr val="e8e8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6127560" y="5133960"/>
                <a:ext cx="12960" cy="6480"/>
              </a:xfrm>
              <a:custGeom>
                <a:avLst/>
                <a:gdLst/>
                <a:ahLst/>
                <a:rect l="l" t="t" r="r" b="b"/>
                <a:pathLst>
                  <a:path w="42" h="22">
                    <a:moveTo>
                      <a:pt x="0" y="0"/>
                    </a:moveTo>
                    <a:lnTo>
                      <a:pt x="0" y="6"/>
                    </a:lnTo>
                    <a:lnTo>
                      <a:pt x="1" y="10"/>
                    </a:lnTo>
                    <a:lnTo>
                      <a:pt x="3" y="13"/>
                    </a:lnTo>
                    <a:lnTo>
                      <a:pt x="6" y="16"/>
                    </a:lnTo>
                    <a:lnTo>
                      <a:pt x="9" y="19"/>
                    </a:lnTo>
                    <a:lnTo>
                      <a:pt x="13" y="21"/>
                    </a:lnTo>
                    <a:lnTo>
                      <a:pt x="17" y="22"/>
                    </a:lnTo>
                    <a:lnTo>
                      <a:pt x="20" y="22"/>
                    </a:lnTo>
                    <a:lnTo>
                      <a:pt x="25" y="22"/>
                    </a:lnTo>
                    <a:lnTo>
                      <a:pt x="28" y="21"/>
                    </a:lnTo>
                    <a:lnTo>
                      <a:pt x="32" y="19"/>
                    </a:lnTo>
                    <a:lnTo>
                      <a:pt x="35" y="16"/>
                    </a:lnTo>
                    <a:lnTo>
                      <a:pt x="37" y="13"/>
                    </a:lnTo>
                    <a:lnTo>
                      <a:pt x="40" y="10"/>
                    </a:lnTo>
                    <a:lnTo>
                      <a:pt x="41" y="6"/>
                    </a:lnTo>
                    <a:lnTo>
                      <a:pt x="4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8e8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6127560" y="4159440"/>
                <a:ext cx="11160" cy="6120"/>
              </a:xfrm>
              <a:custGeom>
                <a:avLst/>
                <a:gdLst/>
                <a:ahLst/>
                <a:rect l="l" t="t" r="r" b="b"/>
                <a:pathLst>
                  <a:path w="34" h="17">
                    <a:moveTo>
                      <a:pt x="34" y="17"/>
                    </a:moveTo>
                    <a:lnTo>
                      <a:pt x="34" y="13"/>
                    </a:lnTo>
                    <a:lnTo>
                      <a:pt x="33" y="10"/>
                    </a:lnTo>
                    <a:lnTo>
                      <a:pt x="31" y="6"/>
                    </a:lnTo>
                    <a:lnTo>
                      <a:pt x="29" y="4"/>
                    </a:lnTo>
                    <a:lnTo>
                      <a:pt x="27" y="2"/>
                    </a:lnTo>
                    <a:lnTo>
                      <a:pt x="24" y="1"/>
                    </a:lnTo>
                    <a:lnTo>
                      <a:pt x="20" y="0"/>
                    </a:lnTo>
                    <a:lnTo>
                      <a:pt x="17" y="0"/>
                    </a:lnTo>
                    <a:lnTo>
                      <a:pt x="14" y="0"/>
                    </a:lnTo>
                    <a:lnTo>
                      <a:pt x="11" y="1"/>
                    </a:lnTo>
                    <a:lnTo>
                      <a:pt x="9" y="2"/>
                    </a:lnTo>
                    <a:lnTo>
                      <a:pt x="5" y="4"/>
                    </a:lnTo>
                    <a:lnTo>
                      <a:pt x="3" y="6"/>
                    </a:lnTo>
                    <a:lnTo>
                      <a:pt x="2" y="10"/>
                    </a:lnTo>
                    <a:lnTo>
                      <a:pt x="1" y="13"/>
                    </a:lnTo>
                    <a:lnTo>
                      <a:pt x="0" y="17"/>
                    </a:lnTo>
                    <a:lnTo>
                      <a:pt x="34" y="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6127560" y="4165560"/>
                <a:ext cx="11160" cy="949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6127560" y="5114880"/>
                <a:ext cx="11160" cy="6480"/>
              </a:xfrm>
              <a:custGeom>
                <a:avLst/>
                <a:gdLst/>
                <a:ahLst/>
                <a:rect l="l" t="t" r="r" b="b"/>
                <a:pathLst>
                  <a:path w="34" h="17">
                    <a:moveTo>
                      <a:pt x="0" y="0"/>
                    </a:moveTo>
                    <a:lnTo>
                      <a:pt x="1" y="4"/>
                    </a:lnTo>
                    <a:lnTo>
                      <a:pt x="2" y="7"/>
                    </a:lnTo>
                    <a:lnTo>
                      <a:pt x="3" y="11"/>
                    </a:lnTo>
                    <a:lnTo>
                      <a:pt x="5" y="13"/>
                    </a:lnTo>
                    <a:lnTo>
                      <a:pt x="9" y="15"/>
                    </a:lnTo>
                    <a:lnTo>
                      <a:pt x="11" y="16"/>
                    </a:lnTo>
                    <a:lnTo>
                      <a:pt x="14" y="17"/>
                    </a:lnTo>
                    <a:lnTo>
                      <a:pt x="17" y="17"/>
                    </a:lnTo>
                    <a:lnTo>
                      <a:pt x="20" y="17"/>
                    </a:lnTo>
                    <a:lnTo>
                      <a:pt x="24" y="16"/>
                    </a:lnTo>
                    <a:lnTo>
                      <a:pt x="27" y="15"/>
                    </a:lnTo>
                    <a:lnTo>
                      <a:pt x="29" y="13"/>
                    </a:lnTo>
                    <a:lnTo>
                      <a:pt x="31" y="11"/>
                    </a:lnTo>
                    <a:lnTo>
                      <a:pt x="33" y="7"/>
                    </a:lnTo>
                    <a:lnTo>
                      <a:pt x="34" y="4"/>
                    </a:lnTo>
                    <a:lnTo>
                      <a:pt x="3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7434360" y="4111560"/>
                <a:ext cx="11160" cy="5040"/>
              </a:xfrm>
              <a:custGeom>
                <a:avLst/>
                <a:gdLst/>
                <a:ahLst/>
                <a:rect l="l" t="t" r="r" b="b"/>
                <a:pathLst>
                  <a:path w="35" h="17">
                    <a:moveTo>
                      <a:pt x="35" y="17"/>
                    </a:moveTo>
                    <a:lnTo>
                      <a:pt x="35" y="13"/>
                    </a:lnTo>
                    <a:lnTo>
                      <a:pt x="34" y="9"/>
                    </a:lnTo>
                    <a:lnTo>
                      <a:pt x="32" y="6"/>
                    </a:lnTo>
                    <a:lnTo>
                      <a:pt x="30" y="4"/>
                    </a:lnTo>
                    <a:lnTo>
                      <a:pt x="27" y="2"/>
                    </a:lnTo>
                    <a:lnTo>
                      <a:pt x="24" y="1"/>
                    </a:lnTo>
                    <a:lnTo>
                      <a:pt x="21" y="0"/>
                    </a:lnTo>
                    <a:lnTo>
                      <a:pt x="18" y="0"/>
                    </a:lnTo>
                    <a:lnTo>
                      <a:pt x="14" y="0"/>
                    </a:lnTo>
                    <a:lnTo>
                      <a:pt x="12" y="1"/>
                    </a:lnTo>
                    <a:lnTo>
                      <a:pt x="9" y="2"/>
                    </a:lnTo>
                    <a:lnTo>
                      <a:pt x="6" y="4"/>
                    </a:lnTo>
                    <a:lnTo>
                      <a:pt x="4" y="6"/>
                    </a:lnTo>
                    <a:lnTo>
                      <a:pt x="3" y="9"/>
                    </a:lnTo>
                    <a:lnTo>
                      <a:pt x="1" y="13"/>
                    </a:lnTo>
                    <a:lnTo>
                      <a:pt x="0" y="17"/>
                    </a:lnTo>
                    <a:lnTo>
                      <a:pt x="35" y="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7434360" y="4116600"/>
                <a:ext cx="11160" cy="949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7434360" y="5065920"/>
                <a:ext cx="11160" cy="6120"/>
              </a:xfrm>
              <a:custGeom>
                <a:avLst/>
                <a:gdLst/>
                <a:ahLst/>
                <a:rect l="l" t="t" r="r" b="b"/>
                <a:pathLst>
                  <a:path w="35" h="18">
                    <a:moveTo>
                      <a:pt x="0" y="0"/>
                    </a:moveTo>
                    <a:lnTo>
                      <a:pt x="1" y="5"/>
                    </a:lnTo>
                    <a:lnTo>
                      <a:pt x="3" y="8"/>
                    </a:lnTo>
                    <a:lnTo>
                      <a:pt x="4" y="11"/>
                    </a:lnTo>
                    <a:lnTo>
                      <a:pt x="6" y="13"/>
                    </a:lnTo>
                    <a:lnTo>
                      <a:pt x="9" y="15"/>
                    </a:lnTo>
                    <a:lnTo>
                      <a:pt x="12" y="17"/>
                    </a:lnTo>
                    <a:lnTo>
                      <a:pt x="14" y="18"/>
                    </a:lnTo>
                    <a:lnTo>
                      <a:pt x="18" y="18"/>
                    </a:lnTo>
                    <a:lnTo>
                      <a:pt x="21" y="18"/>
                    </a:lnTo>
                    <a:lnTo>
                      <a:pt x="24" y="17"/>
                    </a:lnTo>
                    <a:lnTo>
                      <a:pt x="27" y="15"/>
                    </a:lnTo>
                    <a:lnTo>
                      <a:pt x="30" y="13"/>
                    </a:lnTo>
                    <a:lnTo>
                      <a:pt x="32" y="11"/>
                    </a:lnTo>
                    <a:lnTo>
                      <a:pt x="34" y="8"/>
                    </a:lnTo>
                    <a:lnTo>
                      <a:pt x="35" y="5"/>
                    </a:lnTo>
                    <a:lnTo>
                      <a:pt x="3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5597640" y="3889440"/>
                <a:ext cx="15840" cy="1012680"/>
              </a:xfrm>
              <a:custGeom>
                <a:avLst/>
                <a:gdLst/>
                <a:ahLst/>
                <a:rect l="l" t="t" r="r" b="b"/>
                <a:pathLst>
                  <a:path w="51" h="3191">
                    <a:moveTo>
                      <a:pt x="51" y="3191"/>
                    </a:moveTo>
                    <a:lnTo>
                      <a:pt x="42" y="3188"/>
                    </a:lnTo>
                    <a:lnTo>
                      <a:pt x="33" y="3184"/>
                    </a:lnTo>
                    <a:lnTo>
                      <a:pt x="27" y="3179"/>
                    </a:lnTo>
                    <a:lnTo>
                      <a:pt x="20" y="3175"/>
                    </a:lnTo>
                    <a:lnTo>
                      <a:pt x="15" y="3170"/>
                    </a:lnTo>
                    <a:lnTo>
                      <a:pt x="10" y="3164"/>
                    </a:lnTo>
                    <a:lnTo>
                      <a:pt x="7" y="3159"/>
                    </a:lnTo>
                    <a:lnTo>
                      <a:pt x="5" y="3155"/>
                    </a:lnTo>
                    <a:lnTo>
                      <a:pt x="2" y="3145"/>
                    </a:lnTo>
                    <a:lnTo>
                      <a:pt x="0" y="3137"/>
                    </a:lnTo>
                    <a:lnTo>
                      <a:pt x="0" y="3132"/>
                    </a:lnTo>
                    <a:lnTo>
                      <a:pt x="0" y="3130"/>
                    </a:lnTo>
                    <a:lnTo>
                      <a:pt x="0" y="0"/>
                    </a:lnTo>
                    <a:lnTo>
                      <a:pt x="2" y="6"/>
                    </a:lnTo>
                    <a:lnTo>
                      <a:pt x="5" y="12"/>
                    </a:lnTo>
                    <a:lnTo>
                      <a:pt x="8" y="17"/>
                    </a:lnTo>
                    <a:lnTo>
                      <a:pt x="13" y="21"/>
                    </a:lnTo>
                    <a:lnTo>
                      <a:pt x="16" y="26"/>
                    </a:lnTo>
                    <a:lnTo>
                      <a:pt x="20" y="29"/>
                    </a:lnTo>
                    <a:lnTo>
                      <a:pt x="24" y="32"/>
                    </a:lnTo>
                    <a:lnTo>
                      <a:pt x="29" y="36"/>
                    </a:lnTo>
                    <a:lnTo>
                      <a:pt x="29" y="3128"/>
                    </a:lnTo>
                    <a:lnTo>
                      <a:pt x="51" y="3191"/>
                    </a:lnTo>
                    <a:close/>
                  </a:path>
                </a:pathLst>
              </a:custGeom>
              <a:solidFill>
                <a:srgbClr val="6967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5597640" y="3772080"/>
                <a:ext cx="579240" cy="1473120"/>
              </a:xfrm>
              <a:custGeom>
                <a:avLst/>
                <a:gdLst/>
                <a:ahLst/>
                <a:rect l="l" t="t" r="r" b="b"/>
                <a:pathLst>
                  <a:path w="1824" h="4639">
                    <a:moveTo>
                      <a:pt x="1824" y="905"/>
                    </a:moveTo>
                    <a:lnTo>
                      <a:pt x="1824" y="4551"/>
                    </a:lnTo>
                    <a:lnTo>
                      <a:pt x="1824" y="4555"/>
                    </a:lnTo>
                    <a:lnTo>
                      <a:pt x="1824" y="4565"/>
                    </a:lnTo>
                    <a:lnTo>
                      <a:pt x="1823" y="4571"/>
                    </a:lnTo>
                    <a:lnTo>
                      <a:pt x="1821" y="4579"/>
                    </a:lnTo>
                    <a:lnTo>
                      <a:pt x="1818" y="4586"/>
                    </a:lnTo>
                    <a:lnTo>
                      <a:pt x="1813" y="4595"/>
                    </a:lnTo>
                    <a:lnTo>
                      <a:pt x="1807" y="4604"/>
                    </a:lnTo>
                    <a:lnTo>
                      <a:pt x="1799" y="4611"/>
                    </a:lnTo>
                    <a:lnTo>
                      <a:pt x="1788" y="4619"/>
                    </a:lnTo>
                    <a:lnTo>
                      <a:pt x="1776" y="4626"/>
                    </a:lnTo>
                    <a:lnTo>
                      <a:pt x="1760" y="4632"/>
                    </a:lnTo>
                    <a:lnTo>
                      <a:pt x="1742" y="4636"/>
                    </a:lnTo>
                    <a:lnTo>
                      <a:pt x="1720" y="4638"/>
                    </a:lnTo>
                    <a:lnTo>
                      <a:pt x="1696" y="4639"/>
                    </a:lnTo>
                    <a:lnTo>
                      <a:pt x="1670" y="4638"/>
                    </a:lnTo>
                    <a:lnTo>
                      <a:pt x="1648" y="4636"/>
                    </a:lnTo>
                    <a:lnTo>
                      <a:pt x="1629" y="4632"/>
                    </a:lnTo>
                    <a:lnTo>
                      <a:pt x="1612" y="4626"/>
                    </a:lnTo>
                    <a:lnTo>
                      <a:pt x="1598" y="4619"/>
                    </a:lnTo>
                    <a:lnTo>
                      <a:pt x="1588" y="4611"/>
                    </a:lnTo>
                    <a:lnTo>
                      <a:pt x="1579" y="4604"/>
                    </a:lnTo>
                    <a:lnTo>
                      <a:pt x="1571" y="4595"/>
                    </a:lnTo>
                    <a:lnTo>
                      <a:pt x="1566" y="4586"/>
                    </a:lnTo>
                    <a:lnTo>
                      <a:pt x="1563" y="4579"/>
                    </a:lnTo>
                    <a:lnTo>
                      <a:pt x="1559" y="4571"/>
                    </a:lnTo>
                    <a:lnTo>
                      <a:pt x="1558" y="4565"/>
                    </a:lnTo>
                    <a:lnTo>
                      <a:pt x="1557" y="4555"/>
                    </a:lnTo>
                    <a:lnTo>
                      <a:pt x="1557" y="4551"/>
                    </a:lnTo>
                    <a:lnTo>
                      <a:pt x="1557" y="905"/>
                    </a:lnTo>
                    <a:lnTo>
                      <a:pt x="1557" y="894"/>
                    </a:lnTo>
                    <a:lnTo>
                      <a:pt x="1556" y="864"/>
                    </a:lnTo>
                    <a:lnTo>
                      <a:pt x="1554" y="843"/>
                    </a:lnTo>
                    <a:lnTo>
                      <a:pt x="1552" y="819"/>
                    </a:lnTo>
                    <a:lnTo>
                      <a:pt x="1550" y="792"/>
                    </a:lnTo>
                    <a:lnTo>
                      <a:pt x="1545" y="764"/>
                    </a:lnTo>
                    <a:lnTo>
                      <a:pt x="1539" y="734"/>
                    </a:lnTo>
                    <a:lnTo>
                      <a:pt x="1532" y="704"/>
                    </a:lnTo>
                    <a:lnTo>
                      <a:pt x="1523" y="674"/>
                    </a:lnTo>
                    <a:lnTo>
                      <a:pt x="1512" y="643"/>
                    </a:lnTo>
                    <a:lnTo>
                      <a:pt x="1505" y="628"/>
                    </a:lnTo>
                    <a:lnTo>
                      <a:pt x="1499" y="614"/>
                    </a:lnTo>
                    <a:lnTo>
                      <a:pt x="1491" y="599"/>
                    </a:lnTo>
                    <a:lnTo>
                      <a:pt x="1484" y="586"/>
                    </a:lnTo>
                    <a:lnTo>
                      <a:pt x="1475" y="572"/>
                    </a:lnTo>
                    <a:lnTo>
                      <a:pt x="1467" y="560"/>
                    </a:lnTo>
                    <a:lnTo>
                      <a:pt x="1456" y="548"/>
                    </a:lnTo>
                    <a:lnTo>
                      <a:pt x="1446" y="536"/>
                    </a:lnTo>
                    <a:lnTo>
                      <a:pt x="1424" y="516"/>
                    </a:lnTo>
                    <a:lnTo>
                      <a:pt x="1405" y="499"/>
                    </a:lnTo>
                    <a:lnTo>
                      <a:pt x="1388" y="483"/>
                    </a:lnTo>
                    <a:lnTo>
                      <a:pt x="1372" y="470"/>
                    </a:lnTo>
                    <a:lnTo>
                      <a:pt x="1356" y="460"/>
                    </a:lnTo>
                    <a:lnTo>
                      <a:pt x="1343" y="451"/>
                    </a:lnTo>
                    <a:lnTo>
                      <a:pt x="1330" y="443"/>
                    </a:lnTo>
                    <a:lnTo>
                      <a:pt x="1320" y="438"/>
                    </a:lnTo>
                    <a:lnTo>
                      <a:pt x="1299" y="429"/>
                    </a:lnTo>
                    <a:lnTo>
                      <a:pt x="1281" y="424"/>
                    </a:lnTo>
                    <a:lnTo>
                      <a:pt x="1263" y="420"/>
                    </a:lnTo>
                    <a:lnTo>
                      <a:pt x="1245" y="415"/>
                    </a:lnTo>
                    <a:lnTo>
                      <a:pt x="1202" y="402"/>
                    </a:lnTo>
                    <a:lnTo>
                      <a:pt x="1118" y="378"/>
                    </a:lnTo>
                    <a:lnTo>
                      <a:pt x="1006" y="345"/>
                    </a:lnTo>
                    <a:lnTo>
                      <a:pt x="882" y="310"/>
                    </a:lnTo>
                    <a:lnTo>
                      <a:pt x="758" y="274"/>
                    </a:lnTo>
                    <a:lnTo>
                      <a:pt x="648" y="243"/>
                    </a:lnTo>
                    <a:lnTo>
                      <a:pt x="565" y="220"/>
                    </a:lnTo>
                    <a:lnTo>
                      <a:pt x="521" y="208"/>
                    </a:lnTo>
                    <a:lnTo>
                      <a:pt x="498" y="204"/>
                    </a:lnTo>
                    <a:lnTo>
                      <a:pt x="464" y="199"/>
                    </a:lnTo>
                    <a:lnTo>
                      <a:pt x="446" y="198"/>
                    </a:lnTo>
                    <a:lnTo>
                      <a:pt x="425" y="197"/>
                    </a:lnTo>
                    <a:lnTo>
                      <a:pt x="405" y="197"/>
                    </a:lnTo>
                    <a:lnTo>
                      <a:pt x="383" y="198"/>
                    </a:lnTo>
                    <a:lnTo>
                      <a:pt x="363" y="200"/>
                    </a:lnTo>
                    <a:lnTo>
                      <a:pt x="341" y="205"/>
                    </a:lnTo>
                    <a:lnTo>
                      <a:pt x="320" y="211"/>
                    </a:lnTo>
                    <a:lnTo>
                      <a:pt x="300" y="219"/>
                    </a:lnTo>
                    <a:lnTo>
                      <a:pt x="291" y="223"/>
                    </a:lnTo>
                    <a:lnTo>
                      <a:pt x="282" y="229"/>
                    </a:lnTo>
                    <a:lnTo>
                      <a:pt x="273" y="235"/>
                    </a:lnTo>
                    <a:lnTo>
                      <a:pt x="264" y="242"/>
                    </a:lnTo>
                    <a:lnTo>
                      <a:pt x="257" y="249"/>
                    </a:lnTo>
                    <a:lnTo>
                      <a:pt x="249" y="257"/>
                    </a:lnTo>
                    <a:lnTo>
                      <a:pt x="243" y="265"/>
                    </a:lnTo>
                    <a:lnTo>
                      <a:pt x="236" y="274"/>
                    </a:lnTo>
                    <a:lnTo>
                      <a:pt x="235" y="276"/>
                    </a:lnTo>
                    <a:lnTo>
                      <a:pt x="233" y="283"/>
                    </a:lnTo>
                    <a:lnTo>
                      <a:pt x="229" y="294"/>
                    </a:lnTo>
                    <a:lnTo>
                      <a:pt x="223" y="314"/>
                    </a:lnTo>
                    <a:lnTo>
                      <a:pt x="218" y="342"/>
                    </a:lnTo>
                    <a:lnTo>
                      <a:pt x="213" y="381"/>
                    </a:lnTo>
                    <a:lnTo>
                      <a:pt x="212" y="405"/>
                    </a:lnTo>
                    <a:lnTo>
                      <a:pt x="210" y="432"/>
                    </a:lnTo>
                    <a:lnTo>
                      <a:pt x="210" y="463"/>
                    </a:lnTo>
                    <a:lnTo>
                      <a:pt x="209" y="496"/>
                    </a:lnTo>
                    <a:lnTo>
                      <a:pt x="209" y="3496"/>
                    </a:lnTo>
                    <a:lnTo>
                      <a:pt x="210" y="3499"/>
                    </a:lnTo>
                    <a:lnTo>
                      <a:pt x="210" y="3506"/>
                    </a:lnTo>
                    <a:lnTo>
                      <a:pt x="209" y="3512"/>
                    </a:lnTo>
                    <a:lnTo>
                      <a:pt x="208" y="3518"/>
                    </a:lnTo>
                    <a:lnTo>
                      <a:pt x="206" y="3525"/>
                    </a:lnTo>
                    <a:lnTo>
                      <a:pt x="203" y="3531"/>
                    </a:lnTo>
                    <a:lnTo>
                      <a:pt x="197" y="3538"/>
                    </a:lnTo>
                    <a:lnTo>
                      <a:pt x="191" y="3544"/>
                    </a:lnTo>
                    <a:lnTo>
                      <a:pt x="183" y="3551"/>
                    </a:lnTo>
                    <a:lnTo>
                      <a:pt x="173" y="3556"/>
                    </a:lnTo>
                    <a:lnTo>
                      <a:pt x="161" y="3560"/>
                    </a:lnTo>
                    <a:lnTo>
                      <a:pt x="145" y="3564"/>
                    </a:lnTo>
                    <a:lnTo>
                      <a:pt x="128" y="3566"/>
                    </a:lnTo>
                    <a:lnTo>
                      <a:pt x="108" y="3567"/>
                    </a:lnTo>
                    <a:lnTo>
                      <a:pt x="88" y="3566"/>
                    </a:lnTo>
                    <a:lnTo>
                      <a:pt x="71" y="3564"/>
                    </a:lnTo>
                    <a:lnTo>
                      <a:pt x="56" y="3560"/>
                    </a:lnTo>
                    <a:lnTo>
                      <a:pt x="43" y="3556"/>
                    </a:lnTo>
                    <a:lnTo>
                      <a:pt x="32" y="3551"/>
                    </a:lnTo>
                    <a:lnTo>
                      <a:pt x="23" y="3545"/>
                    </a:lnTo>
                    <a:lnTo>
                      <a:pt x="17" y="3539"/>
                    </a:lnTo>
                    <a:lnTo>
                      <a:pt x="11" y="3532"/>
                    </a:lnTo>
                    <a:lnTo>
                      <a:pt x="7" y="3526"/>
                    </a:lnTo>
                    <a:lnTo>
                      <a:pt x="4" y="3519"/>
                    </a:lnTo>
                    <a:lnTo>
                      <a:pt x="2" y="3514"/>
                    </a:lnTo>
                    <a:lnTo>
                      <a:pt x="1" y="3509"/>
                    </a:lnTo>
                    <a:lnTo>
                      <a:pt x="0" y="3501"/>
                    </a:lnTo>
                    <a:lnTo>
                      <a:pt x="0" y="3498"/>
                    </a:lnTo>
                    <a:lnTo>
                      <a:pt x="0" y="368"/>
                    </a:lnTo>
                    <a:lnTo>
                      <a:pt x="0" y="359"/>
                    </a:lnTo>
                    <a:lnTo>
                      <a:pt x="2" y="333"/>
                    </a:lnTo>
                    <a:lnTo>
                      <a:pt x="5" y="297"/>
                    </a:lnTo>
                    <a:lnTo>
                      <a:pt x="13" y="252"/>
                    </a:lnTo>
                    <a:lnTo>
                      <a:pt x="17" y="229"/>
                    </a:lnTo>
                    <a:lnTo>
                      <a:pt x="23" y="206"/>
                    </a:lnTo>
                    <a:lnTo>
                      <a:pt x="31" y="183"/>
                    </a:lnTo>
                    <a:lnTo>
                      <a:pt x="38" y="162"/>
                    </a:lnTo>
                    <a:lnTo>
                      <a:pt x="44" y="152"/>
                    </a:lnTo>
                    <a:lnTo>
                      <a:pt x="49" y="142"/>
                    </a:lnTo>
                    <a:lnTo>
                      <a:pt x="55" y="134"/>
                    </a:lnTo>
                    <a:lnTo>
                      <a:pt x="60" y="125"/>
                    </a:lnTo>
                    <a:lnTo>
                      <a:pt x="67" y="117"/>
                    </a:lnTo>
                    <a:lnTo>
                      <a:pt x="73" y="110"/>
                    </a:lnTo>
                    <a:lnTo>
                      <a:pt x="81" y="104"/>
                    </a:lnTo>
                    <a:lnTo>
                      <a:pt x="88" y="99"/>
                    </a:lnTo>
                    <a:lnTo>
                      <a:pt x="119" y="77"/>
                    </a:lnTo>
                    <a:lnTo>
                      <a:pt x="155" y="54"/>
                    </a:lnTo>
                    <a:lnTo>
                      <a:pt x="176" y="42"/>
                    </a:lnTo>
                    <a:lnTo>
                      <a:pt x="198" y="31"/>
                    </a:lnTo>
                    <a:lnTo>
                      <a:pt x="211" y="26"/>
                    </a:lnTo>
                    <a:lnTo>
                      <a:pt x="224" y="21"/>
                    </a:lnTo>
                    <a:lnTo>
                      <a:pt x="238" y="16"/>
                    </a:lnTo>
                    <a:lnTo>
                      <a:pt x="255" y="13"/>
                    </a:lnTo>
                    <a:lnTo>
                      <a:pt x="270" y="8"/>
                    </a:lnTo>
                    <a:lnTo>
                      <a:pt x="287" y="5"/>
                    </a:lnTo>
                    <a:lnTo>
                      <a:pt x="305" y="3"/>
                    </a:lnTo>
                    <a:lnTo>
                      <a:pt x="325" y="1"/>
                    </a:lnTo>
                    <a:lnTo>
                      <a:pt x="345" y="0"/>
                    </a:lnTo>
                    <a:lnTo>
                      <a:pt x="368" y="0"/>
                    </a:lnTo>
                    <a:lnTo>
                      <a:pt x="391" y="0"/>
                    </a:lnTo>
                    <a:lnTo>
                      <a:pt x="415" y="2"/>
                    </a:lnTo>
                    <a:lnTo>
                      <a:pt x="442" y="4"/>
                    </a:lnTo>
                    <a:lnTo>
                      <a:pt x="469" y="7"/>
                    </a:lnTo>
                    <a:lnTo>
                      <a:pt x="499" y="11"/>
                    </a:lnTo>
                    <a:lnTo>
                      <a:pt x="530" y="16"/>
                    </a:lnTo>
                    <a:lnTo>
                      <a:pt x="562" y="22"/>
                    </a:lnTo>
                    <a:lnTo>
                      <a:pt x="597" y="31"/>
                    </a:lnTo>
                    <a:lnTo>
                      <a:pt x="634" y="40"/>
                    </a:lnTo>
                    <a:lnTo>
                      <a:pt x="671" y="49"/>
                    </a:lnTo>
                    <a:lnTo>
                      <a:pt x="831" y="94"/>
                    </a:lnTo>
                    <a:lnTo>
                      <a:pt x="991" y="139"/>
                    </a:lnTo>
                    <a:lnTo>
                      <a:pt x="1147" y="184"/>
                    </a:lnTo>
                    <a:lnTo>
                      <a:pt x="1292" y="227"/>
                    </a:lnTo>
                    <a:lnTo>
                      <a:pt x="1357" y="248"/>
                    </a:lnTo>
                    <a:lnTo>
                      <a:pt x="1419" y="267"/>
                    </a:lnTo>
                    <a:lnTo>
                      <a:pt x="1474" y="286"/>
                    </a:lnTo>
                    <a:lnTo>
                      <a:pt x="1524" y="303"/>
                    </a:lnTo>
                    <a:lnTo>
                      <a:pt x="1565" y="318"/>
                    </a:lnTo>
                    <a:lnTo>
                      <a:pt x="1598" y="332"/>
                    </a:lnTo>
                    <a:lnTo>
                      <a:pt x="1612" y="339"/>
                    </a:lnTo>
                    <a:lnTo>
                      <a:pt x="1623" y="344"/>
                    </a:lnTo>
                    <a:lnTo>
                      <a:pt x="1632" y="350"/>
                    </a:lnTo>
                    <a:lnTo>
                      <a:pt x="1638" y="354"/>
                    </a:lnTo>
                    <a:lnTo>
                      <a:pt x="1649" y="362"/>
                    </a:lnTo>
                    <a:lnTo>
                      <a:pt x="1660" y="372"/>
                    </a:lnTo>
                    <a:lnTo>
                      <a:pt x="1670" y="383"/>
                    </a:lnTo>
                    <a:lnTo>
                      <a:pt x="1680" y="396"/>
                    </a:lnTo>
                    <a:lnTo>
                      <a:pt x="1691" y="409"/>
                    </a:lnTo>
                    <a:lnTo>
                      <a:pt x="1701" y="423"/>
                    </a:lnTo>
                    <a:lnTo>
                      <a:pt x="1711" y="439"/>
                    </a:lnTo>
                    <a:lnTo>
                      <a:pt x="1720" y="455"/>
                    </a:lnTo>
                    <a:lnTo>
                      <a:pt x="1730" y="474"/>
                    </a:lnTo>
                    <a:lnTo>
                      <a:pt x="1739" y="493"/>
                    </a:lnTo>
                    <a:lnTo>
                      <a:pt x="1749" y="514"/>
                    </a:lnTo>
                    <a:lnTo>
                      <a:pt x="1757" y="536"/>
                    </a:lnTo>
                    <a:lnTo>
                      <a:pt x="1766" y="559"/>
                    </a:lnTo>
                    <a:lnTo>
                      <a:pt x="1773" y="584"/>
                    </a:lnTo>
                    <a:lnTo>
                      <a:pt x="1782" y="610"/>
                    </a:lnTo>
                    <a:lnTo>
                      <a:pt x="1790" y="638"/>
                    </a:lnTo>
                    <a:lnTo>
                      <a:pt x="1796" y="665"/>
                    </a:lnTo>
                    <a:lnTo>
                      <a:pt x="1803" y="692"/>
                    </a:lnTo>
                    <a:lnTo>
                      <a:pt x="1807" y="718"/>
                    </a:lnTo>
                    <a:lnTo>
                      <a:pt x="1811" y="742"/>
                    </a:lnTo>
                    <a:lnTo>
                      <a:pt x="1818" y="788"/>
                    </a:lnTo>
                    <a:lnTo>
                      <a:pt x="1822" y="827"/>
                    </a:lnTo>
                    <a:lnTo>
                      <a:pt x="1823" y="859"/>
                    </a:lnTo>
                    <a:lnTo>
                      <a:pt x="1824" y="884"/>
                    </a:lnTo>
                    <a:lnTo>
                      <a:pt x="1824" y="899"/>
                    </a:lnTo>
                    <a:lnTo>
                      <a:pt x="1824" y="905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5533920" y="3651480"/>
                <a:ext cx="2187720" cy="245880"/>
              </a:xfrm>
              <a:custGeom>
                <a:avLst/>
                <a:gdLst/>
                <a:ahLst/>
                <a:rect l="l" t="t" r="r" b="b"/>
                <a:pathLst>
                  <a:path w="6893" h="776">
                    <a:moveTo>
                      <a:pt x="6893" y="156"/>
                    </a:moveTo>
                    <a:lnTo>
                      <a:pt x="6893" y="576"/>
                    </a:lnTo>
                    <a:lnTo>
                      <a:pt x="1647" y="776"/>
                    </a:lnTo>
                    <a:lnTo>
                      <a:pt x="0" y="344"/>
                    </a:lnTo>
                    <a:lnTo>
                      <a:pt x="0" y="0"/>
                    </a:lnTo>
                    <a:lnTo>
                      <a:pt x="1647" y="311"/>
                    </a:lnTo>
                    <a:lnTo>
                      <a:pt x="6893" y="156"/>
                    </a:lnTo>
                    <a:close/>
                  </a:path>
                </a:pathLst>
              </a:custGeom>
              <a:solidFill>
                <a:srgbClr val="b5b5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5533920" y="3651480"/>
                <a:ext cx="522360" cy="245880"/>
              </a:xfrm>
              <a:custGeom>
                <a:avLst/>
                <a:gdLst/>
                <a:ahLst/>
                <a:rect l="l" t="t" r="r" b="b"/>
                <a:pathLst>
                  <a:path w="1647" h="776">
                    <a:moveTo>
                      <a:pt x="1647" y="776"/>
                    </a:moveTo>
                    <a:lnTo>
                      <a:pt x="0" y="344"/>
                    </a:lnTo>
                    <a:lnTo>
                      <a:pt x="0" y="0"/>
                    </a:lnTo>
                    <a:lnTo>
                      <a:pt x="1647" y="311"/>
                    </a:lnTo>
                    <a:lnTo>
                      <a:pt x="1647" y="776"/>
                    </a:lnTo>
                    <a:close/>
                  </a:path>
                </a:pathLst>
              </a:custGeom>
              <a:solidFill>
                <a:srgbClr val="8c8b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6850080" y="3705120"/>
                <a:ext cx="706320" cy="158760"/>
              </a:xfrm>
              <a:custGeom>
                <a:avLst/>
                <a:gdLst/>
                <a:ahLst/>
                <a:rect l="l" t="t" r="r" b="b"/>
                <a:pathLst>
                  <a:path w="2224" h="499">
                    <a:moveTo>
                      <a:pt x="2224" y="0"/>
                    </a:moveTo>
                    <a:lnTo>
                      <a:pt x="0" y="57"/>
                    </a:lnTo>
                    <a:lnTo>
                      <a:pt x="0" y="499"/>
                    </a:lnTo>
                    <a:lnTo>
                      <a:pt x="2224" y="420"/>
                    </a:lnTo>
                    <a:lnTo>
                      <a:pt x="2224" y="0"/>
                    </a:lnTo>
                    <a:close/>
                  </a:path>
                </a:pathLst>
              </a:custGeom>
              <a:solidFill>
                <a:srgbClr val="b5b5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6880320" y="3705120"/>
                <a:ext cx="650880" cy="158760"/>
              </a:xfrm>
              <a:custGeom>
                <a:avLst/>
                <a:gdLst/>
                <a:ahLst/>
                <a:rect l="l" t="t" r="r" b="b"/>
                <a:pathLst>
                  <a:path w="2053" h="497">
                    <a:moveTo>
                      <a:pt x="0" y="64"/>
                    </a:moveTo>
                    <a:lnTo>
                      <a:pt x="2053" y="0"/>
                    </a:lnTo>
                    <a:lnTo>
                      <a:pt x="2053" y="420"/>
                    </a:lnTo>
                    <a:lnTo>
                      <a:pt x="0" y="497"/>
                    </a:lnTo>
                    <a:lnTo>
                      <a:pt x="0" y="64"/>
                    </a:lnTo>
                    <a:close/>
                  </a:path>
                </a:pathLst>
              </a:custGeom>
              <a:solidFill>
                <a:srgbClr val="baba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6908760" y="3705120"/>
                <a:ext cx="598680" cy="157320"/>
              </a:xfrm>
              <a:custGeom>
                <a:avLst/>
                <a:gdLst/>
                <a:ahLst/>
                <a:rect l="l" t="t" r="r" b="b"/>
                <a:pathLst>
                  <a:path w="1886" h="491">
                    <a:moveTo>
                      <a:pt x="0" y="62"/>
                    </a:moveTo>
                    <a:lnTo>
                      <a:pt x="1886" y="0"/>
                    </a:lnTo>
                    <a:lnTo>
                      <a:pt x="1886" y="420"/>
                    </a:lnTo>
                    <a:lnTo>
                      <a:pt x="0" y="491"/>
                    </a:lnTo>
                    <a:lnTo>
                      <a:pt x="0" y="62"/>
                    </a:lnTo>
                    <a:close/>
                  </a:path>
                </a:pathLst>
              </a:custGeom>
              <a:solidFill>
                <a:srgbClr val="bfbf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6939000" y="3706920"/>
                <a:ext cx="544320" cy="154080"/>
              </a:xfrm>
              <a:custGeom>
                <a:avLst/>
                <a:gdLst/>
                <a:ahLst/>
                <a:rect l="l" t="t" r="r" b="b"/>
                <a:pathLst>
                  <a:path w="1716" h="487">
                    <a:moveTo>
                      <a:pt x="0" y="57"/>
                    </a:moveTo>
                    <a:lnTo>
                      <a:pt x="1716" y="0"/>
                    </a:lnTo>
                    <a:lnTo>
                      <a:pt x="1716" y="420"/>
                    </a:lnTo>
                    <a:lnTo>
                      <a:pt x="0" y="487"/>
                    </a:lnTo>
                    <a:lnTo>
                      <a:pt x="0" y="57"/>
                    </a:lnTo>
                    <a:close/>
                  </a:path>
                </a:pathLst>
              </a:custGeom>
              <a:solidFill>
                <a:srgbClr val="c5c4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6967440" y="3706920"/>
                <a:ext cx="492120" cy="152280"/>
              </a:xfrm>
              <a:custGeom>
                <a:avLst/>
                <a:gdLst/>
                <a:ahLst/>
                <a:rect l="l" t="t" r="r" b="b"/>
                <a:pathLst>
                  <a:path w="1546" h="482">
                    <a:moveTo>
                      <a:pt x="0" y="62"/>
                    </a:moveTo>
                    <a:lnTo>
                      <a:pt x="1546" y="0"/>
                    </a:lnTo>
                    <a:lnTo>
                      <a:pt x="1546" y="416"/>
                    </a:lnTo>
                    <a:lnTo>
                      <a:pt x="0" y="482"/>
                    </a:lnTo>
                    <a:lnTo>
                      <a:pt x="0" y="62"/>
                    </a:lnTo>
                    <a:close/>
                  </a:path>
                </a:pathLst>
              </a:custGeom>
              <a:solidFill>
                <a:srgbClr val="cac9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6997680" y="3708360"/>
                <a:ext cx="436680" cy="150840"/>
              </a:xfrm>
              <a:custGeom>
                <a:avLst/>
                <a:gdLst/>
                <a:ahLst/>
                <a:rect l="l" t="t" r="r" b="b"/>
                <a:pathLst>
                  <a:path w="1376" h="474">
                    <a:moveTo>
                      <a:pt x="0" y="54"/>
                    </a:moveTo>
                    <a:lnTo>
                      <a:pt x="1376" y="0"/>
                    </a:lnTo>
                    <a:lnTo>
                      <a:pt x="1376" y="414"/>
                    </a:lnTo>
                    <a:lnTo>
                      <a:pt x="0" y="474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cf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7027920" y="3708360"/>
                <a:ext cx="382680" cy="149400"/>
              </a:xfrm>
              <a:custGeom>
                <a:avLst/>
                <a:gdLst/>
                <a:ahLst/>
                <a:rect l="l" t="t" r="r" b="b"/>
                <a:pathLst>
                  <a:path w="1207" h="469">
                    <a:moveTo>
                      <a:pt x="0" y="54"/>
                    </a:moveTo>
                    <a:lnTo>
                      <a:pt x="1207" y="0"/>
                    </a:lnTo>
                    <a:lnTo>
                      <a:pt x="1207" y="412"/>
                    </a:lnTo>
                    <a:lnTo>
                      <a:pt x="0" y="469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d5d4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7056360" y="3708360"/>
                <a:ext cx="330120" cy="147600"/>
              </a:xfrm>
              <a:custGeom>
                <a:avLst/>
                <a:gdLst/>
                <a:ahLst/>
                <a:rect l="l" t="t" r="r" b="b"/>
                <a:pathLst>
                  <a:path w="1036" h="464">
                    <a:moveTo>
                      <a:pt x="0" y="49"/>
                    </a:moveTo>
                    <a:lnTo>
                      <a:pt x="1036" y="0"/>
                    </a:lnTo>
                    <a:lnTo>
                      <a:pt x="1036" y="410"/>
                    </a:lnTo>
                    <a:lnTo>
                      <a:pt x="0" y="464"/>
                    </a:lnTo>
                    <a:lnTo>
                      <a:pt x="0" y="49"/>
                    </a:lnTo>
                    <a:close/>
                  </a:path>
                </a:pathLst>
              </a:custGeom>
              <a:solidFill>
                <a:srgbClr val="dbdb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7086600" y="3708360"/>
                <a:ext cx="274680" cy="146160"/>
              </a:xfrm>
              <a:custGeom>
                <a:avLst/>
                <a:gdLst/>
                <a:ahLst/>
                <a:rect l="l" t="t" r="r" b="b"/>
                <a:pathLst>
                  <a:path w="866" h="460">
                    <a:moveTo>
                      <a:pt x="0" y="52"/>
                    </a:moveTo>
                    <a:lnTo>
                      <a:pt x="866" y="0"/>
                    </a:lnTo>
                    <a:lnTo>
                      <a:pt x="866" y="410"/>
                    </a:lnTo>
                    <a:lnTo>
                      <a:pt x="0" y="460"/>
                    </a:lnTo>
                    <a:lnTo>
                      <a:pt x="0" y="52"/>
                    </a:lnTo>
                    <a:close/>
                  </a:path>
                </a:pathLst>
              </a:custGeom>
              <a:solidFill>
                <a:srgbClr val="e2e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7116840" y="3708360"/>
                <a:ext cx="220680" cy="146160"/>
              </a:xfrm>
              <a:custGeom>
                <a:avLst/>
                <a:gdLst/>
                <a:ahLst/>
                <a:rect l="l" t="t" r="r" b="b"/>
                <a:pathLst>
                  <a:path w="695" h="459">
                    <a:moveTo>
                      <a:pt x="695" y="0"/>
                    </a:moveTo>
                    <a:lnTo>
                      <a:pt x="0" y="54"/>
                    </a:lnTo>
                    <a:lnTo>
                      <a:pt x="0" y="459"/>
                    </a:lnTo>
                    <a:lnTo>
                      <a:pt x="695" y="412"/>
                    </a:lnTo>
                    <a:lnTo>
                      <a:pt x="695" y="0"/>
                    </a:lnTo>
                    <a:close/>
                  </a:path>
                </a:pathLst>
              </a:custGeom>
              <a:solidFill>
                <a:srgbClr val="e8e8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flipV="1">
                <a:off x="6059520" y="3807000"/>
                <a:ext cx="1662120" cy="55440"/>
              </a:xfrm>
              <a:prstGeom prst="line">
                <a:avLst/>
              </a:prstGeom>
              <a:ln w="4680">
                <a:solidFill>
                  <a:srgbClr val="8c8b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flipV="1">
                <a:off x="6059520" y="3731760"/>
                <a:ext cx="1662120" cy="55800"/>
              </a:xfrm>
              <a:prstGeom prst="line">
                <a:avLst/>
              </a:prstGeom>
              <a:ln w="4680">
                <a:solidFill>
                  <a:srgbClr val="8c8b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flipH="1" flipV="1">
                <a:off x="5535720" y="3676320"/>
                <a:ext cx="519120" cy="112680"/>
              </a:xfrm>
              <a:prstGeom prst="line">
                <a:avLst/>
              </a:prstGeom>
              <a:ln w="4680">
                <a:solidFill>
                  <a:srgbClr val="6967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flipH="1" flipV="1">
                <a:off x="5535720" y="3735000"/>
                <a:ext cx="519120" cy="127080"/>
              </a:xfrm>
              <a:prstGeom prst="line">
                <a:avLst/>
              </a:prstGeom>
              <a:ln w="4680">
                <a:solidFill>
                  <a:srgbClr val="6967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5533920" y="3651480"/>
                <a:ext cx="2187720" cy="245880"/>
              </a:xfrm>
              <a:custGeom>
                <a:avLst/>
                <a:gdLst/>
                <a:ahLst/>
                <a:rect l="l" t="t" r="r" b="b"/>
                <a:pathLst>
                  <a:path w="6893" h="776">
                    <a:moveTo>
                      <a:pt x="6893" y="156"/>
                    </a:moveTo>
                    <a:lnTo>
                      <a:pt x="6893" y="576"/>
                    </a:lnTo>
                    <a:lnTo>
                      <a:pt x="1647" y="776"/>
                    </a:lnTo>
                    <a:lnTo>
                      <a:pt x="0" y="344"/>
                    </a:lnTo>
                    <a:lnTo>
                      <a:pt x="0" y="0"/>
                    </a:lnTo>
                    <a:lnTo>
                      <a:pt x="1647" y="311"/>
                    </a:lnTo>
                    <a:lnTo>
                      <a:pt x="6893" y="156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5605560" y="4578480"/>
                <a:ext cx="485640" cy="309600"/>
              </a:xfrm>
              <a:custGeom>
                <a:avLst/>
                <a:gdLst/>
                <a:ahLst/>
                <a:rect l="l" t="t" r="r" b="b"/>
                <a:pathLst>
                  <a:path w="1527" h="975">
                    <a:moveTo>
                      <a:pt x="34" y="149"/>
                    </a:moveTo>
                    <a:lnTo>
                      <a:pt x="32" y="146"/>
                    </a:lnTo>
                    <a:lnTo>
                      <a:pt x="26" y="140"/>
                    </a:lnTo>
                    <a:lnTo>
                      <a:pt x="17" y="130"/>
                    </a:lnTo>
                    <a:lnTo>
                      <a:pt x="8" y="116"/>
                    </a:lnTo>
                    <a:lnTo>
                      <a:pt x="5" y="108"/>
                    </a:lnTo>
                    <a:lnTo>
                      <a:pt x="2" y="99"/>
                    </a:lnTo>
                    <a:lnTo>
                      <a:pt x="1" y="89"/>
                    </a:lnTo>
                    <a:lnTo>
                      <a:pt x="0" y="80"/>
                    </a:lnTo>
                    <a:lnTo>
                      <a:pt x="1" y="69"/>
                    </a:lnTo>
                    <a:lnTo>
                      <a:pt x="3" y="57"/>
                    </a:lnTo>
                    <a:lnTo>
                      <a:pt x="7" y="45"/>
                    </a:lnTo>
                    <a:lnTo>
                      <a:pt x="15" y="33"/>
                    </a:lnTo>
                    <a:lnTo>
                      <a:pt x="21" y="23"/>
                    </a:lnTo>
                    <a:lnTo>
                      <a:pt x="30" y="16"/>
                    </a:lnTo>
                    <a:lnTo>
                      <a:pt x="37" y="10"/>
                    </a:lnTo>
                    <a:lnTo>
                      <a:pt x="46" y="6"/>
                    </a:lnTo>
                    <a:lnTo>
                      <a:pt x="55" y="3"/>
                    </a:lnTo>
                    <a:lnTo>
                      <a:pt x="62" y="1"/>
                    </a:lnTo>
                    <a:lnTo>
                      <a:pt x="71" y="1"/>
                    </a:lnTo>
                    <a:lnTo>
                      <a:pt x="78" y="0"/>
                    </a:lnTo>
                    <a:lnTo>
                      <a:pt x="94" y="2"/>
                    </a:lnTo>
                    <a:lnTo>
                      <a:pt x="105" y="4"/>
                    </a:lnTo>
                    <a:lnTo>
                      <a:pt x="113" y="7"/>
                    </a:lnTo>
                    <a:lnTo>
                      <a:pt x="116" y="8"/>
                    </a:lnTo>
                    <a:lnTo>
                      <a:pt x="1527" y="739"/>
                    </a:lnTo>
                    <a:lnTo>
                      <a:pt x="1527" y="975"/>
                    </a:lnTo>
                    <a:lnTo>
                      <a:pt x="34" y="149"/>
                    </a:lnTo>
                    <a:close/>
                  </a:path>
                </a:pathLst>
              </a:custGeom>
              <a:solidFill>
                <a:srgbClr val="a0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6068880" y="4816440"/>
                <a:ext cx="15840" cy="20880"/>
              </a:xfrm>
              <a:custGeom>
                <a:avLst/>
                <a:gdLst/>
                <a:ahLst/>
                <a:rect l="l" t="t" r="r" b="b"/>
                <a:pathLst>
                  <a:path w="52" h="66">
                    <a:moveTo>
                      <a:pt x="0" y="61"/>
                    </a:moveTo>
                    <a:lnTo>
                      <a:pt x="8" y="64"/>
                    </a:lnTo>
                    <a:lnTo>
                      <a:pt x="15" y="66"/>
                    </a:lnTo>
                    <a:lnTo>
                      <a:pt x="22" y="65"/>
                    </a:lnTo>
                    <a:lnTo>
                      <a:pt x="28" y="64"/>
                    </a:lnTo>
                    <a:lnTo>
                      <a:pt x="34" y="61"/>
                    </a:lnTo>
                    <a:lnTo>
                      <a:pt x="39" y="58"/>
                    </a:lnTo>
                    <a:lnTo>
                      <a:pt x="43" y="52"/>
                    </a:lnTo>
                    <a:lnTo>
                      <a:pt x="46" y="47"/>
                    </a:lnTo>
                    <a:lnTo>
                      <a:pt x="50" y="41"/>
                    </a:lnTo>
                    <a:lnTo>
                      <a:pt x="51" y="35"/>
                    </a:lnTo>
                    <a:lnTo>
                      <a:pt x="52" y="28"/>
                    </a:lnTo>
                    <a:lnTo>
                      <a:pt x="51" y="22"/>
                    </a:lnTo>
                    <a:lnTo>
                      <a:pt x="49" y="16"/>
                    </a:lnTo>
                    <a:lnTo>
                      <a:pt x="44" y="10"/>
                    </a:lnTo>
                    <a:lnTo>
                      <a:pt x="40" y="5"/>
                    </a:lnTo>
                    <a:lnTo>
                      <a:pt x="32" y="0"/>
                    </a:lnTo>
                    <a:lnTo>
                      <a:pt x="0" y="61"/>
                    </a:lnTo>
                    <a:close/>
                  </a:path>
                </a:pathLst>
              </a:custGeom>
              <a:solidFill>
                <a:srgbClr val="aeae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5632560" y="4583160"/>
                <a:ext cx="446040" cy="252360"/>
              </a:xfrm>
              <a:custGeom>
                <a:avLst/>
                <a:gdLst/>
                <a:ahLst/>
                <a:rect l="l" t="t" r="r" b="b"/>
                <a:pathLst>
                  <a:path w="1406" h="799">
                    <a:moveTo>
                      <a:pt x="0" y="60"/>
                    </a:moveTo>
                    <a:lnTo>
                      <a:pt x="1374" y="799"/>
                    </a:lnTo>
                    <a:lnTo>
                      <a:pt x="1406" y="738"/>
                    </a:lnTo>
                    <a:lnTo>
                      <a:pt x="32" y="0"/>
                    </a:lnTo>
                    <a:lnTo>
                      <a:pt x="0" y="60"/>
                    </a:lnTo>
                    <a:close/>
                  </a:path>
                </a:pathLst>
              </a:custGeom>
              <a:solidFill>
                <a:srgbClr val="aeae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5627520" y="4581720"/>
                <a:ext cx="15840" cy="20520"/>
              </a:xfrm>
              <a:custGeom>
                <a:avLst/>
                <a:gdLst/>
                <a:ahLst/>
                <a:rect l="l" t="t" r="r" b="b"/>
                <a:pathLst>
                  <a:path w="50" h="65">
                    <a:moveTo>
                      <a:pt x="50" y="5"/>
                    </a:moveTo>
                    <a:lnTo>
                      <a:pt x="43" y="1"/>
                    </a:lnTo>
                    <a:lnTo>
                      <a:pt x="35" y="0"/>
                    </a:lnTo>
                    <a:lnTo>
                      <a:pt x="29" y="0"/>
                    </a:lnTo>
                    <a:lnTo>
                      <a:pt x="22" y="1"/>
                    </a:lnTo>
                    <a:lnTo>
                      <a:pt x="17" y="5"/>
                    </a:lnTo>
                    <a:lnTo>
                      <a:pt x="11" y="8"/>
                    </a:lnTo>
                    <a:lnTo>
                      <a:pt x="7" y="13"/>
                    </a:lnTo>
                    <a:lnTo>
                      <a:pt x="4" y="19"/>
                    </a:lnTo>
                    <a:lnTo>
                      <a:pt x="1" y="24"/>
                    </a:lnTo>
                    <a:lnTo>
                      <a:pt x="0" y="30"/>
                    </a:lnTo>
                    <a:lnTo>
                      <a:pt x="0" y="37"/>
                    </a:lnTo>
                    <a:lnTo>
                      <a:pt x="0" y="43"/>
                    </a:lnTo>
                    <a:lnTo>
                      <a:pt x="2" y="50"/>
                    </a:lnTo>
                    <a:lnTo>
                      <a:pt x="6" y="55"/>
                    </a:lnTo>
                    <a:lnTo>
                      <a:pt x="10" y="61"/>
                    </a:lnTo>
                    <a:lnTo>
                      <a:pt x="18" y="65"/>
                    </a:lnTo>
                    <a:lnTo>
                      <a:pt x="50" y="5"/>
                    </a:lnTo>
                    <a:close/>
                  </a:path>
                </a:pathLst>
              </a:custGeom>
              <a:solidFill>
                <a:srgbClr val="aeae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6060960" y="4813200"/>
                <a:ext cx="12960" cy="17640"/>
              </a:xfrm>
              <a:custGeom>
                <a:avLst/>
                <a:gdLst/>
                <a:ahLst/>
                <a:rect l="l" t="t" r="r" b="b"/>
                <a:pathLst>
                  <a:path w="44" h="57">
                    <a:moveTo>
                      <a:pt x="0" y="53"/>
                    </a:moveTo>
                    <a:lnTo>
                      <a:pt x="6" y="56"/>
                    </a:lnTo>
                    <a:lnTo>
                      <a:pt x="13" y="57"/>
                    </a:lnTo>
                    <a:lnTo>
                      <a:pt x="18" y="57"/>
                    </a:lnTo>
                    <a:lnTo>
                      <a:pt x="24" y="56"/>
                    </a:lnTo>
                    <a:lnTo>
                      <a:pt x="29" y="53"/>
                    </a:lnTo>
                    <a:lnTo>
                      <a:pt x="34" y="50"/>
                    </a:lnTo>
                    <a:lnTo>
                      <a:pt x="37" y="46"/>
                    </a:lnTo>
                    <a:lnTo>
                      <a:pt x="40" y="40"/>
                    </a:lnTo>
                    <a:lnTo>
                      <a:pt x="42" y="36"/>
                    </a:lnTo>
                    <a:lnTo>
                      <a:pt x="43" y="31"/>
                    </a:lnTo>
                    <a:lnTo>
                      <a:pt x="44" y="25"/>
                    </a:lnTo>
                    <a:lnTo>
                      <a:pt x="43" y="20"/>
                    </a:lnTo>
                    <a:lnTo>
                      <a:pt x="41" y="15"/>
                    </a:lnTo>
                    <a:lnTo>
                      <a:pt x="38" y="9"/>
                    </a:lnTo>
                    <a:lnTo>
                      <a:pt x="34" y="5"/>
                    </a:lnTo>
                    <a:lnTo>
                      <a:pt x="28" y="0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bfbf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5641920" y="4587840"/>
                <a:ext cx="426960" cy="243000"/>
              </a:xfrm>
              <a:custGeom>
                <a:avLst/>
                <a:gdLst/>
                <a:ahLst/>
                <a:rect l="l" t="t" r="r" b="b"/>
                <a:pathLst>
                  <a:path w="1348" h="764">
                    <a:moveTo>
                      <a:pt x="0" y="53"/>
                    </a:moveTo>
                    <a:lnTo>
                      <a:pt x="1320" y="764"/>
                    </a:lnTo>
                    <a:lnTo>
                      <a:pt x="1348" y="711"/>
                    </a:lnTo>
                    <a:lnTo>
                      <a:pt x="28" y="0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bfbf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5635440" y="4586400"/>
                <a:ext cx="14400" cy="17280"/>
              </a:xfrm>
              <a:custGeom>
                <a:avLst/>
                <a:gdLst/>
                <a:ahLst/>
                <a:rect l="l" t="t" r="r" b="b"/>
                <a:pathLst>
                  <a:path w="44" h="58">
                    <a:moveTo>
                      <a:pt x="44" y="5"/>
                    </a:moveTo>
                    <a:lnTo>
                      <a:pt x="38" y="3"/>
                    </a:lnTo>
                    <a:lnTo>
                      <a:pt x="31" y="0"/>
                    </a:lnTo>
                    <a:lnTo>
                      <a:pt x="26" y="2"/>
                    </a:lnTo>
                    <a:lnTo>
                      <a:pt x="19" y="3"/>
                    </a:lnTo>
                    <a:lnTo>
                      <a:pt x="15" y="5"/>
                    </a:lnTo>
                    <a:lnTo>
                      <a:pt x="11" y="8"/>
                    </a:lnTo>
                    <a:lnTo>
                      <a:pt x="6" y="12"/>
                    </a:lnTo>
                    <a:lnTo>
                      <a:pt x="3" y="17"/>
                    </a:lnTo>
                    <a:lnTo>
                      <a:pt x="1" y="22"/>
                    </a:lnTo>
                    <a:lnTo>
                      <a:pt x="0" y="27"/>
                    </a:lnTo>
                    <a:lnTo>
                      <a:pt x="0" y="33"/>
                    </a:lnTo>
                    <a:lnTo>
                      <a:pt x="1" y="38"/>
                    </a:lnTo>
                    <a:lnTo>
                      <a:pt x="2" y="44"/>
                    </a:lnTo>
                    <a:lnTo>
                      <a:pt x="5" y="49"/>
                    </a:lnTo>
                    <a:lnTo>
                      <a:pt x="9" y="53"/>
                    </a:lnTo>
                    <a:lnTo>
                      <a:pt x="16" y="58"/>
                    </a:lnTo>
                    <a:lnTo>
                      <a:pt x="44" y="5"/>
                    </a:lnTo>
                    <a:close/>
                  </a:path>
                </a:pathLst>
              </a:custGeom>
              <a:solidFill>
                <a:srgbClr val="bfbf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6051600" y="4810320"/>
                <a:ext cx="12600" cy="15840"/>
              </a:xfrm>
              <a:custGeom>
                <a:avLst/>
                <a:gdLst/>
                <a:ahLst/>
                <a:rect l="l" t="t" r="r" b="b"/>
                <a:pathLst>
                  <a:path w="39" h="48">
                    <a:moveTo>
                      <a:pt x="0" y="45"/>
                    </a:moveTo>
                    <a:lnTo>
                      <a:pt x="7" y="47"/>
                    </a:lnTo>
                    <a:lnTo>
                      <a:pt x="12" y="48"/>
                    </a:lnTo>
                    <a:lnTo>
                      <a:pt x="16" y="48"/>
                    </a:lnTo>
                    <a:lnTo>
                      <a:pt x="22" y="47"/>
                    </a:lnTo>
                    <a:lnTo>
                      <a:pt x="26" y="45"/>
                    </a:lnTo>
                    <a:lnTo>
                      <a:pt x="29" y="42"/>
                    </a:lnTo>
                    <a:lnTo>
                      <a:pt x="32" y="39"/>
                    </a:lnTo>
                    <a:lnTo>
                      <a:pt x="36" y="34"/>
                    </a:lnTo>
                    <a:lnTo>
                      <a:pt x="38" y="30"/>
                    </a:lnTo>
                    <a:lnTo>
                      <a:pt x="39" y="26"/>
                    </a:lnTo>
                    <a:lnTo>
                      <a:pt x="39" y="20"/>
                    </a:lnTo>
                    <a:lnTo>
                      <a:pt x="38" y="16"/>
                    </a:lnTo>
                    <a:lnTo>
                      <a:pt x="37" y="10"/>
                    </a:lnTo>
                    <a:lnTo>
                      <a:pt x="34" y="6"/>
                    </a:lnTo>
                    <a:lnTo>
                      <a:pt x="30" y="3"/>
                    </a:lnTo>
                    <a:lnTo>
                      <a:pt x="25" y="0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d1d0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5649840" y="4592880"/>
                <a:ext cx="409680" cy="231480"/>
              </a:xfrm>
              <a:custGeom>
                <a:avLst/>
                <a:gdLst/>
                <a:ahLst/>
                <a:rect l="l" t="t" r="r" b="b"/>
                <a:pathLst>
                  <a:path w="1290" h="728">
                    <a:moveTo>
                      <a:pt x="0" y="45"/>
                    </a:moveTo>
                    <a:lnTo>
                      <a:pt x="1265" y="728"/>
                    </a:lnTo>
                    <a:lnTo>
                      <a:pt x="1290" y="683"/>
                    </a:lnTo>
                    <a:lnTo>
                      <a:pt x="24" y="0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d1d0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5646600" y="4592880"/>
                <a:ext cx="11160" cy="14040"/>
              </a:xfrm>
              <a:custGeom>
                <a:avLst/>
                <a:gdLst/>
                <a:ahLst/>
                <a:rect l="l" t="t" r="r" b="b"/>
                <a:pathLst>
                  <a:path w="38" h="48">
                    <a:moveTo>
                      <a:pt x="38" y="3"/>
                    </a:moveTo>
                    <a:lnTo>
                      <a:pt x="32" y="1"/>
                    </a:lnTo>
                    <a:lnTo>
                      <a:pt x="27" y="0"/>
                    </a:lnTo>
                    <a:lnTo>
                      <a:pt x="22" y="0"/>
                    </a:lnTo>
                    <a:lnTo>
                      <a:pt x="17" y="1"/>
                    </a:lnTo>
                    <a:lnTo>
                      <a:pt x="13" y="3"/>
                    </a:lnTo>
                    <a:lnTo>
                      <a:pt x="9" y="6"/>
                    </a:lnTo>
                    <a:lnTo>
                      <a:pt x="5" y="10"/>
                    </a:lnTo>
                    <a:lnTo>
                      <a:pt x="3" y="14"/>
                    </a:lnTo>
                    <a:lnTo>
                      <a:pt x="1" y="18"/>
                    </a:lnTo>
                    <a:lnTo>
                      <a:pt x="0" y="23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2" y="37"/>
                    </a:lnTo>
                    <a:lnTo>
                      <a:pt x="4" y="41"/>
                    </a:lnTo>
                    <a:lnTo>
                      <a:pt x="9" y="45"/>
                    </a:lnTo>
                    <a:lnTo>
                      <a:pt x="14" y="48"/>
                    </a:lnTo>
                    <a:lnTo>
                      <a:pt x="38" y="3"/>
                    </a:lnTo>
                    <a:close/>
                  </a:path>
                </a:pathLst>
              </a:custGeom>
              <a:solidFill>
                <a:srgbClr val="d1d0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6043680" y="4807080"/>
                <a:ext cx="11160" cy="12600"/>
              </a:xfrm>
              <a:custGeom>
                <a:avLst/>
                <a:gdLst/>
                <a:ahLst/>
                <a:rect l="l" t="t" r="r" b="b"/>
                <a:pathLst>
                  <a:path w="32" h="40">
                    <a:moveTo>
                      <a:pt x="0" y="37"/>
                    </a:moveTo>
                    <a:lnTo>
                      <a:pt x="5" y="39"/>
                    </a:lnTo>
                    <a:lnTo>
                      <a:pt x="10" y="40"/>
                    </a:lnTo>
                    <a:lnTo>
                      <a:pt x="13" y="40"/>
                    </a:lnTo>
                    <a:lnTo>
                      <a:pt x="18" y="39"/>
                    </a:lnTo>
                    <a:lnTo>
                      <a:pt x="21" y="37"/>
                    </a:lnTo>
                    <a:lnTo>
                      <a:pt x="24" y="34"/>
                    </a:lnTo>
                    <a:lnTo>
                      <a:pt x="27" y="31"/>
                    </a:lnTo>
                    <a:lnTo>
                      <a:pt x="29" y="28"/>
                    </a:lnTo>
                    <a:lnTo>
                      <a:pt x="30" y="25"/>
                    </a:lnTo>
                    <a:lnTo>
                      <a:pt x="32" y="20"/>
                    </a:lnTo>
                    <a:lnTo>
                      <a:pt x="32" y="17"/>
                    </a:lnTo>
                    <a:lnTo>
                      <a:pt x="32" y="13"/>
                    </a:lnTo>
                    <a:lnTo>
                      <a:pt x="29" y="10"/>
                    </a:lnTo>
                    <a:lnTo>
                      <a:pt x="27" y="5"/>
                    </a:lnTo>
                    <a:lnTo>
                      <a:pt x="25" y="2"/>
                    </a:lnTo>
                    <a:lnTo>
                      <a:pt x="21" y="0"/>
                    </a:lnTo>
                    <a:lnTo>
                      <a:pt x="0" y="37"/>
                    </a:lnTo>
                    <a:close/>
                  </a:path>
                </a:pathLst>
              </a:custGeom>
              <a:solidFill>
                <a:srgbClr val="e8e8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5659560" y="4599000"/>
                <a:ext cx="392040" cy="219240"/>
              </a:xfrm>
              <a:custGeom>
                <a:avLst/>
                <a:gdLst/>
                <a:ahLst/>
                <a:rect l="l" t="t" r="r" b="b"/>
                <a:pathLst>
                  <a:path w="1235" h="689">
                    <a:moveTo>
                      <a:pt x="0" y="36"/>
                    </a:moveTo>
                    <a:lnTo>
                      <a:pt x="1214" y="689"/>
                    </a:lnTo>
                    <a:lnTo>
                      <a:pt x="1235" y="652"/>
                    </a:lnTo>
                    <a:lnTo>
                      <a:pt x="21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e8e8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5654520" y="4599000"/>
                <a:ext cx="11160" cy="12600"/>
              </a:xfrm>
              <a:custGeom>
                <a:avLst/>
                <a:gdLst/>
                <a:ahLst/>
                <a:rect l="l" t="t" r="r" b="b"/>
                <a:pathLst>
                  <a:path w="32" h="40">
                    <a:moveTo>
                      <a:pt x="32" y="4"/>
                    </a:moveTo>
                    <a:lnTo>
                      <a:pt x="27" y="1"/>
                    </a:lnTo>
                    <a:lnTo>
                      <a:pt x="23" y="0"/>
                    </a:lnTo>
                    <a:lnTo>
                      <a:pt x="19" y="0"/>
                    </a:lnTo>
                    <a:lnTo>
                      <a:pt x="14" y="1"/>
                    </a:lnTo>
                    <a:lnTo>
                      <a:pt x="11" y="4"/>
                    </a:lnTo>
                    <a:lnTo>
                      <a:pt x="8" y="6"/>
                    </a:lnTo>
                    <a:lnTo>
                      <a:pt x="6" y="8"/>
                    </a:lnTo>
                    <a:lnTo>
                      <a:pt x="3" y="12"/>
                    </a:lnTo>
                    <a:lnTo>
                      <a:pt x="1" y="15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27"/>
                    </a:lnTo>
                    <a:lnTo>
                      <a:pt x="2" y="31"/>
                    </a:lnTo>
                    <a:lnTo>
                      <a:pt x="5" y="34"/>
                    </a:lnTo>
                    <a:lnTo>
                      <a:pt x="8" y="37"/>
                    </a:lnTo>
                    <a:lnTo>
                      <a:pt x="11" y="40"/>
                    </a:lnTo>
                    <a:lnTo>
                      <a:pt x="32" y="4"/>
                    </a:lnTo>
                    <a:close/>
                  </a:path>
                </a:pathLst>
              </a:custGeom>
              <a:solidFill>
                <a:srgbClr val="e8e8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6035760" y="4802400"/>
                <a:ext cx="7920" cy="9360"/>
              </a:xfrm>
              <a:custGeom>
                <a:avLst/>
                <a:gdLst/>
                <a:ahLst/>
                <a:rect l="l" t="t" r="r" b="b"/>
                <a:pathLst>
                  <a:path w="26" h="32">
                    <a:moveTo>
                      <a:pt x="0" y="30"/>
                    </a:moveTo>
                    <a:lnTo>
                      <a:pt x="4" y="32"/>
                    </a:lnTo>
                    <a:lnTo>
                      <a:pt x="8" y="32"/>
                    </a:lnTo>
                    <a:lnTo>
                      <a:pt x="11" y="32"/>
                    </a:lnTo>
                    <a:lnTo>
                      <a:pt x="14" y="31"/>
                    </a:lnTo>
                    <a:lnTo>
                      <a:pt x="17" y="30"/>
                    </a:lnTo>
                    <a:lnTo>
                      <a:pt x="20" y="28"/>
                    </a:lnTo>
                    <a:lnTo>
                      <a:pt x="22" y="26"/>
                    </a:lnTo>
                    <a:lnTo>
                      <a:pt x="24" y="24"/>
                    </a:lnTo>
                    <a:lnTo>
                      <a:pt x="25" y="20"/>
                    </a:lnTo>
                    <a:lnTo>
                      <a:pt x="26" y="17"/>
                    </a:lnTo>
                    <a:lnTo>
                      <a:pt x="26" y="14"/>
                    </a:lnTo>
                    <a:lnTo>
                      <a:pt x="26" y="11"/>
                    </a:lnTo>
                    <a:lnTo>
                      <a:pt x="25" y="7"/>
                    </a:lnTo>
                    <a:lnTo>
                      <a:pt x="23" y="4"/>
                    </a:lnTo>
                    <a:lnTo>
                      <a:pt x="21" y="2"/>
                    </a:lnTo>
                    <a:lnTo>
                      <a:pt x="17" y="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5667480" y="4603680"/>
                <a:ext cx="372960" cy="208080"/>
              </a:xfrm>
              <a:custGeom>
                <a:avLst/>
                <a:gdLst/>
                <a:ahLst/>
                <a:rect l="l" t="t" r="r" b="b"/>
                <a:pathLst>
                  <a:path w="1174" h="653">
                    <a:moveTo>
                      <a:pt x="0" y="30"/>
                    </a:moveTo>
                    <a:lnTo>
                      <a:pt x="1157" y="653"/>
                    </a:lnTo>
                    <a:lnTo>
                      <a:pt x="1174" y="623"/>
                    </a:lnTo>
                    <a:lnTo>
                      <a:pt x="16" y="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5665680" y="460368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24" h="32">
                    <a:moveTo>
                      <a:pt x="24" y="2"/>
                    </a:moveTo>
                    <a:lnTo>
                      <a:pt x="21" y="1"/>
                    </a:lnTo>
                    <a:lnTo>
                      <a:pt x="18" y="0"/>
                    </a:lnTo>
                    <a:lnTo>
                      <a:pt x="15" y="0"/>
                    </a:lnTo>
                    <a:lnTo>
                      <a:pt x="11" y="1"/>
                    </a:lnTo>
                    <a:lnTo>
                      <a:pt x="8" y="2"/>
                    </a:lnTo>
                    <a:lnTo>
                      <a:pt x="6" y="4"/>
                    </a:lnTo>
                    <a:lnTo>
                      <a:pt x="3" y="6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0" y="15"/>
                    </a:lnTo>
                    <a:lnTo>
                      <a:pt x="0" y="18"/>
                    </a:lnTo>
                    <a:lnTo>
                      <a:pt x="0" y="21"/>
                    </a:lnTo>
                    <a:lnTo>
                      <a:pt x="1" y="24"/>
                    </a:lnTo>
                    <a:lnTo>
                      <a:pt x="3" y="28"/>
                    </a:lnTo>
                    <a:lnTo>
                      <a:pt x="5" y="30"/>
                    </a:lnTo>
                    <a:lnTo>
                      <a:pt x="8" y="32"/>
                    </a:lnTo>
                    <a:lnTo>
                      <a:pt x="24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5605560" y="4600800"/>
                <a:ext cx="485640" cy="287280"/>
              </a:xfrm>
              <a:custGeom>
                <a:avLst/>
                <a:gdLst/>
                <a:ahLst/>
                <a:rect l="l" t="t" r="r" b="b"/>
                <a:pathLst>
                  <a:path w="1527" h="903">
                    <a:moveTo>
                      <a:pt x="1527" y="823"/>
                    </a:moveTo>
                    <a:lnTo>
                      <a:pt x="1527" y="903"/>
                    </a:lnTo>
                    <a:lnTo>
                      <a:pt x="34" y="77"/>
                    </a:lnTo>
                    <a:lnTo>
                      <a:pt x="33" y="76"/>
                    </a:lnTo>
                    <a:lnTo>
                      <a:pt x="29" y="71"/>
                    </a:lnTo>
                    <a:lnTo>
                      <a:pt x="22" y="65"/>
                    </a:lnTo>
                    <a:lnTo>
                      <a:pt x="16" y="55"/>
                    </a:lnTo>
                    <a:lnTo>
                      <a:pt x="9" y="44"/>
                    </a:lnTo>
                    <a:lnTo>
                      <a:pt x="4" y="31"/>
                    </a:lnTo>
                    <a:lnTo>
                      <a:pt x="2" y="24"/>
                    </a:lnTo>
                    <a:lnTo>
                      <a:pt x="1" y="16"/>
                    </a:lnTo>
                    <a:lnTo>
                      <a:pt x="0" y="9"/>
                    </a:lnTo>
                    <a:lnTo>
                      <a:pt x="0" y="0"/>
                    </a:lnTo>
                    <a:lnTo>
                      <a:pt x="1527" y="823"/>
                    </a:lnTo>
                    <a:close/>
                  </a:path>
                </a:pathLst>
              </a:custGeom>
              <a:solidFill>
                <a:srgbClr val="7b79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5605560" y="4578480"/>
                <a:ext cx="485640" cy="309600"/>
              </a:xfrm>
              <a:custGeom>
                <a:avLst/>
                <a:gdLst/>
                <a:ahLst/>
                <a:rect l="l" t="t" r="r" b="b"/>
                <a:pathLst>
                  <a:path w="1527" h="975">
                    <a:moveTo>
                      <a:pt x="34" y="149"/>
                    </a:moveTo>
                    <a:lnTo>
                      <a:pt x="32" y="146"/>
                    </a:lnTo>
                    <a:lnTo>
                      <a:pt x="26" y="140"/>
                    </a:lnTo>
                    <a:lnTo>
                      <a:pt x="17" y="130"/>
                    </a:lnTo>
                    <a:lnTo>
                      <a:pt x="8" y="116"/>
                    </a:lnTo>
                    <a:lnTo>
                      <a:pt x="5" y="108"/>
                    </a:lnTo>
                    <a:lnTo>
                      <a:pt x="2" y="99"/>
                    </a:lnTo>
                    <a:lnTo>
                      <a:pt x="1" y="89"/>
                    </a:lnTo>
                    <a:lnTo>
                      <a:pt x="0" y="80"/>
                    </a:lnTo>
                    <a:lnTo>
                      <a:pt x="1" y="69"/>
                    </a:lnTo>
                    <a:lnTo>
                      <a:pt x="3" y="57"/>
                    </a:lnTo>
                    <a:lnTo>
                      <a:pt x="7" y="45"/>
                    </a:lnTo>
                    <a:lnTo>
                      <a:pt x="15" y="33"/>
                    </a:lnTo>
                    <a:lnTo>
                      <a:pt x="21" y="23"/>
                    </a:lnTo>
                    <a:lnTo>
                      <a:pt x="30" y="16"/>
                    </a:lnTo>
                    <a:lnTo>
                      <a:pt x="37" y="10"/>
                    </a:lnTo>
                    <a:lnTo>
                      <a:pt x="46" y="6"/>
                    </a:lnTo>
                    <a:lnTo>
                      <a:pt x="55" y="3"/>
                    </a:lnTo>
                    <a:lnTo>
                      <a:pt x="62" y="1"/>
                    </a:lnTo>
                    <a:lnTo>
                      <a:pt x="71" y="1"/>
                    </a:lnTo>
                    <a:lnTo>
                      <a:pt x="78" y="0"/>
                    </a:lnTo>
                    <a:lnTo>
                      <a:pt x="94" y="2"/>
                    </a:lnTo>
                    <a:lnTo>
                      <a:pt x="105" y="4"/>
                    </a:lnTo>
                    <a:lnTo>
                      <a:pt x="113" y="7"/>
                    </a:lnTo>
                    <a:lnTo>
                      <a:pt x="116" y="8"/>
                    </a:lnTo>
                    <a:lnTo>
                      <a:pt x="1527" y="739"/>
                    </a:lnTo>
                    <a:lnTo>
                      <a:pt x="1527" y="975"/>
                    </a:lnTo>
                    <a:lnTo>
                      <a:pt x="34" y="149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5875200" y="3138480"/>
                <a:ext cx="135000" cy="130320"/>
              </a:xfrm>
              <a:custGeom>
                <a:avLst/>
                <a:gdLst/>
                <a:ahLst/>
                <a:rect l="l" t="t" r="r" b="b"/>
                <a:pathLst>
                  <a:path w="423" h="410">
                    <a:moveTo>
                      <a:pt x="423" y="0"/>
                    </a:moveTo>
                    <a:lnTo>
                      <a:pt x="415" y="2"/>
                    </a:lnTo>
                    <a:lnTo>
                      <a:pt x="406" y="2"/>
                    </a:lnTo>
                    <a:lnTo>
                      <a:pt x="397" y="3"/>
                    </a:lnTo>
                    <a:lnTo>
                      <a:pt x="389" y="2"/>
                    </a:lnTo>
                    <a:lnTo>
                      <a:pt x="380" y="2"/>
                    </a:lnTo>
                    <a:lnTo>
                      <a:pt x="371" y="2"/>
                    </a:lnTo>
                    <a:lnTo>
                      <a:pt x="363" y="2"/>
                    </a:lnTo>
                    <a:lnTo>
                      <a:pt x="354" y="3"/>
                    </a:lnTo>
                    <a:lnTo>
                      <a:pt x="341" y="4"/>
                    </a:lnTo>
                    <a:lnTo>
                      <a:pt x="328" y="7"/>
                    </a:lnTo>
                    <a:lnTo>
                      <a:pt x="316" y="11"/>
                    </a:lnTo>
                    <a:lnTo>
                      <a:pt x="303" y="15"/>
                    </a:lnTo>
                    <a:lnTo>
                      <a:pt x="291" y="19"/>
                    </a:lnTo>
                    <a:lnTo>
                      <a:pt x="278" y="23"/>
                    </a:lnTo>
                    <a:lnTo>
                      <a:pt x="265" y="27"/>
                    </a:lnTo>
                    <a:lnTo>
                      <a:pt x="253" y="30"/>
                    </a:lnTo>
                    <a:lnTo>
                      <a:pt x="246" y="32"/>
                    </a:lnTo>
                    <a:lnTo>
                      <a:pt x="240" y="34"/>
                    </a:lnTo>
                    <a:lnTo>
                      <a:pt x="233" y="38"/>
                    </a:lnTo>
                    <a:lnTo>
                      <a:pt x="226" y="41"/>
                    </a:lnTo>
                    <a:lnTo>
                      <a:pt x="219" y="44"/>
                    </a:lnTo>
                    <a:lnTo>
                      <a:pt x="213" y="47"/>
                    </a:lnTo>
                    <a:lnTo>
                      <a:pt x="205" y="51"/>
                    </a:lnTo>
                    <a:lnTo>
                      <a:pt x="197" y="53"/>
                    </a:lnTo>
                    <a:lnTo>
                      <a:pt x="201" y="50"/>
                    </a:lnTo>
                    <a:lnTo>
                      <a:pt x="204" y="48"/>
                    </a:lnTo>
                    <a:lnTo>
                      <a:pt x="208" y="47"/>
                    </a:lnTo>
                    <a:lnTo>
                      <a:pt x="211" y="46"/>
                    </a:lnTo>
                    <a:lnTo>
                      <a:pt x="216" y="45"/>
                    </a:lnTo>
                    <a:lnTo>
                      <a:pt x="220" y="45"/>
                    </a:lnTo>
                    <a:lnTo>
                      <a:pt x="223" y="44"/>
                    </a:lnTo>
                    <a:lnTo>
                      <a:pt x="228" y="42"/>
                    </a:lnTo>
                    <a:lnTo>
                      <a:pt x="237" y="40"/>
                    </a:lnTo>
                    <a:lnTo>
                      <a:pt x="246" y="39"/>
                    </a:lnTo>
                    <a:lnTo>
                      <a:pt x="256" y="39"/>
                    </a:lnTo>
                    <a:lnTo>
                      <a:pt x="267" y="39"/>
                    </a:lnTo>
                    <a:lnTo>
                      <a:pt x="276" y="40"/>
                    </a:lnTo>
                    <a:lnTo>
                      <a:pt x="286" y="40"/>
                    </a:lnTo>
                    <a:lnTo>
                      <a:pt x="297" y="41"/>
                    </a:lnTo>
                    <a:lnTo>
                      <a:pt x="307" y="42"/>
                    </a:lnTo>
                    <a:lnTo>
                      <a:pt x="292" y="45"/>
                    </a:lnTo>
                    <a:lnTo>
                      <a:pt x="280" y="48"/>
                    </a:lnTo>
                    <a:lnTo>
                      <a:pt x="265" y="51"/>
                    </a:lnTo>
                    <a:lnTo>
                      <a:pt x="251" y="54"/>
                    </a:lnTo>
                    <a:lnTo>
                      <a:pt x="238" y="56"/>
                    </a:lnTo>
                    <a:lnTo>
                      <a:pt x="224" y="59"/>
                    </a:lnTo>
                    <a:lnTo>
                      <a:pt x="210" y="61"/>
                    </a:lnTo>
                    <a:lnTo>
                      <a:pt x="195" y="65"/>
                    </a:lnTo>
                    <a:lnTo>
                      <a:pt x="181" y="68"/>
                    </a:lnTo>
                    <a:lnTo>
                      <a:pt x="167" y="73"/>
                    </a:lnTo>
                    <a:lnTo>
                      <a:pt x="154" y="79"/>
                    </a:lnTo>
                    <a:lnTo>
                      <a:pt x="141" y="85"/>
                    </a:lnTo>
                    <a:lnTo>
                      <a:pt x="129" y="93"/>
                    </a:lnTo>
                    <a:lnTo>
                      <a:pt x="117" y="101"/>
                    </a:lnTo>
                    <a:lnTo>
                      <a:pt x="107" y="110"/>
                    </a:lnTo>
                    <a:lnTo>
                      <a:pt x="97" y="119"/>
                    </a:lnTo>
                    <a:lnTo>
                      <a:pt x="99" y="116"/>
                    </a:lnTo>
                    <a:lnTo>
                      <a:pt x="102" y="114"/>
                    </a:lnTo>
                    <a:lnTo>
                      <a:pt x="105" y="113"/>
                    </a:lnTo>
                    <a:lnTo>
                      <a:pt x="108" y="112"/>
                    </a:lnTo>
                    <a:lnTo>
                      <a:pt x="111" y="111"/>
                    </a:lnTo>
                    <a:lnTo>
                      <a:pt x="114" y="111"/>
                    </a:lnTo>
                    <a:lnTo>
                      <a:pt x="117" y="110"/>
                    </a:lnTo>
                    <a:lnTo>
                      <a:pt x="121" y="109"/>
                    </a:lnTo>
                    <a:lnTo>
                      <a:pt x="111" y="119"/>
                    </a:lnTo>
                    <a:lnTo>
                      <a:pt x="100" y="128"/>
                    </a:lnTo>
                    <a:lnTo>
                      <a:pt x="89" y="137"/>
                    </a:lnTo>
                    <a:lnTo>
                      <a:pt x="78" y="146"/>
                    </a:lnTo>
                    <a:lnTo>
                      <a:pt x="66" y="154"/>
                    </a:lnTo>
                    <a:lnTo>
                      <a:pt x="55" y="164"/>
                    </a:lnTo>
                    <a:lnTo>
                      <a:pt x="45" y="175"/>
                    </a:lnTo>
                    <a:lnTo>
                      <a:pt x="38" y="186"/>
                    </a:lnTo>
                    <a:lnTo>
                      <a:pt x="42" y="179"/>
                    </a:lnTo>
                    <a:lnTo>
                      <a:pt x="48" y="173"/>
                    </a:lnTo>
                    <a:lnTo>
                      <a:pt x="56" y="168"/>
                    </a:lnTo>
                    <a:lnTo>
                      <a:pt x="65" y="164"/>
                    </a:lnTo>
                    <a:lnTo>
                      <a:pt x="73" y="161"/>
                    </a:lnTo>
                    <a:lnTo>
                      <a:pt x="82" y="158"/>
                    </a:lnTo>
                    <a:lnTo>
                      <a:pt x="90" y="155"/>
                    </a:lnTo>
                    <a:lnTo>
                      <a:pt x="99" y="153"/>
                    </a:lnTo>
                    <a:lnTo>
                      <a:pt x="105" y="151"/>
                    </a:lnTo>
                    <a:lnTo>
                      <a:pt x="110" y="149"/>
                    </a:lnTo>
                    <a:lnTo>
                      <a:pt x="115" y="147"/>
                    </a:lnTo>
                    <a:lnTo>
                      <a:pt x="122" y="145"/>
                    </a:lnTo>
                    <a:lnTo>
                      <a:pt x="127" y="142"/>
                    </a:lnTo>
                    <a:lnTo>
                      <a:pt x="134" y="140"/>
                    </a:lnTo>
                    <a:lnTo>
                      <a:pt x="139" y="139"/>
                    </a:lnTo>
                    <a:lnTo>
                      <a:pt x="146" y="139"/>
                    </a:lnTo>
                    <a:lnTo>
                      <a:pt x="136" y="142"/>
                    </a:lnTo>
                    <a:lnTo>
                      <a:pt x="127" y="148"/>
                    </a:lnTo>
                    <a:lnTo>
                      <a:pt x="119" y="152"/>
                    </a:lnTo>
                    <a:lnTo>
                      <a:pt x="111" y="159"/>
                    </a:lnTo>
                    <a:lnTo>
                      <a:pt x="98" y="170"/>
                    </a:lnTo>
                    <a:lnTo>
                      <a:pt x="86" y="185"/>
                    </a:lnTo>
                    <a:lnTo>
                      <a:pt x="74" y="200"/>
                    </a:lnTo>
                    <a:lnTo>
                      <a:pt x="65" y="215"/>
                    </a:lnTo>
                    <a:lnTo>
                      <a:pt x="54" y="230"/>
                    </a:lnTo>
                    <a:lnTo>
                      <a:pt x="42" y="245"/>
                    </a:lnTo>
                    <a:lnTo>
                      <a:pt x="40" y="248"/>
                    </a:lnTo>
                    <a:lnTo>
                      <a:pt x="36" y="250"/>
                    </a:lnTo>
                    <a:lnTo>
                      <a:pt x="33" y="254"/>
                    </a:lnTo>
                    <a:lnTo>
                      <a:pt x="30" y="256"/>
                    </a:lnTo>
                    <a:lnTo>
                      <a:pt x="28" y="259"/>
                    </a:lnTo>
                    <a:lnTo>
                      <a:pt x="26" y="261"/>
                    </a:lnTo>
                    <a:lnTo>
                      <a:pt x="24" y="264"/>
                    </a:lnTo>
                    <a:lnTo>
                      <a:pt x="22" y="268"/>
                    </a:lnTo>
                    <a:lnTo>
                      <a:pt x="22" y="269"/>
                    </a:lnTo>
                    <a:lnTo>
                      <a:pt x="22" y="270"/>
                    </a:lnTo>
                    <a:lnTo>
                      <a:pt x="24" y="270"/>
                    </a:lnTo>
                    <a:lnTo>
                      <a:pt x="26" y="269"/>
                    </a:lnTo>
                    <a:lnTo>
                      <a:pt x="28" y="269"/>
                    </a:lnTo>
                    <a:lnTo>
                      <a:pt x="29" y="268"/>
                    </a:lnTo>
                    <a:lnTo>
                      <a:pt x="31" y="268"/>
                    </a:lnTo>
                    <a:lnTo>
                      <a:pt x="32" y="268"/>
                    </a:lnTo>
                    <a:lnTo>
                      <a:pt x="44" y="261"/>
                    </a:lnTo>
                    <a:lnTo>
                      <a:pt x="56" y="255"/>
                    </a:lnTo>
                    <a:lnTo>
                      <a:pt x="67" y="248"/>
                    </a:lnTo>
                    <a:lnTo>
                      <a:pt x="78" y="242"/>
                    </a:lnTo>
                    <a:lnTo>
                      <a:pt x="88" y="236"/>
                    </a:lnTo>
                    <a:lnTo>
                      <a:pt x="99" y="231"/>
                    </a:lnTo>
                    <a:lnTo>
                      <a:pt x="110" y="226"/>
                    </a:lnTo>
                    <a:lnTo>
                      <a:pt x="121" y="220"/>
                    </a:lnTo>
                    <a:lnTo>
                      <a:pt x="112" y="224"/>
                    </a:lnTo>
                    <a:lnTo>
                      <a:pt x="105" y="230"/>
                    </a:lnTo>
                    <a:lnTo>
                      <a:pt x="98" y="235"/>
                    </a:lnTo>
                    <a:lnTo>
                      <a:pt x="92" y="242"/>
                    </a:lnTo>
                    <a:lnTo>
                      <a:pt x="86" y="248"/>
                    </a:lnTo>
                    <a:lnTo>
                      <a:pt x="80" y="255"/>
                    </a:lnTo>
                    <a:lnTo>
                      <a:pt x="74" y="262"/>
                    </a:lnTo>
                    <a:lnTo>
                      <a:pt x="69" y="270"/>
                    </a:lnTo>
                    <a:lnTo>
                      <a:pt x="72" y="268"/>
                    </a:lnTo>
                    <a:lnTo>
                      <a:pt x="74" y="267"/>
                    </a:lnTo>
                    <a:lnTo>
                      <a:pt x="76" y="264"/>
                    </a:lnTo>
                    <a:lnTo>
                      <a:pt x="78" y="262"/>
                    </a:lnTo>
                    <a:lnTo>
                      <a:pt x="80" y="261"/>
                    </a:lnTo>
                    <a:lnTo>
                      <a:pt x="82" y="260"/>
                    </a:lnTo>
                    <a:lnTo>
                      <a:pt x="84" y="258"/>
                    </a:lnTo>
                    <a:lnTo>
                      <a:pt x="86" y="257"/>
                    </a:lnTo>
                    <a:lnTo>
                      <a:pt x="87" y="259"/>
                    </a:lnTo>
                    <a:lnTo>
                      <a:pt x="87" y="261"/>
                    </a:lnTo>
                    <a:lnTo>
                      <a:pt x="87" y="262"/>
                    </a:lnTo>
                    <a:lnTo>
                      <a:pt x="87" y="263"/>
                    </a:lnTo>
                    <a:lnTo>
                      <a:pt x="86" y="264"/>
                    </a:lnTo>
                    <a:lnTo>
                      <a:pt x="86" y="266"/>
                    </a:lnTo>
                    <a:lnTo>
                      <a:pt x="85" y="267"/>
                    </a:lnTo>
                    <a:lnTo>
                      <a:pt x="84" y="268"/>
                    </a:lnTo>
                    <a:lnTo>
                      <a:pt x="78" y="270"/>
                    </a:lnTo>
                    <a:lnTo>
                      <a:pt x="72" y="273"/>
                    </a:lnTo>
                    <a:lnTo>
                      <a:pt x="68" y="277"/>
                    </a:lnTo>
                    <a:lnTo>
                      <a:pt x="63" y="282"/>
                    </a:lnTo>
                    <a:lnTo>
                      <a:pt x="55" y="290"/>
                    </a:lnTo>
                    <a:lnTo>
                      <a:pt x="48" y="300"/>
                    </a:lnTo>
                    <a:lnTo>
                      <a:pt x="43" y="310"/>
                    </a:lnTo>
                    <a:lnTo>
                      <a:pt x="38" y="321"/>
                    </a:lnTo>
                    <a:lnTo>
                      <a:pt x="31" y="331"/>
                    </a:lnTo>
                    <a:lnTo>
                      <a:pt x="25" y="341"/>
                    </a:lnTo>
                    <a:lnTo>
                      <a:pt x="24" y="342"/>
                    </a:lnTo>
                    <a:lnTo>
                      <a:pt x="21" y="343"/>
                    </a:lnTo>
                    <a:lnTo>
                      <a:pt x="19" y="343"/>
                    </a:lnTo>
                    <a:lnTo>
                      <a:pt x="17" y="344"/>
                    </a:lnTo>
                    <a:lnTo>
                      <a:pt x="15" y="345"/>
                    </a:lnTo>
                    <a:lnTo>
                      <a:pt x="13" y="345"/>
                    </a:lnTo>
                    <a:lnTo>
                      <a:pt x="12" y="348"/>
                    </a:lnTo>
                    <a:lnTo>
                      <a:pt x="9" y="349"/>
                    </a:lnTo>
                    <a:lnTo>
                      <a:pt x="18" y="345"/>
                    </a:lnTo>
                    <a:lnTo>
                      <a:pt x="27" y="341"/>
                    </a:lnTo>
                    <a:lnTo>
                      <a:pt x="34" y="337"/>
                    </a:lnTo>
                    <a:lnTo>
                      <a:pt x="43" y="331"/>
                    </a:lnTo>
                    <a:lnTo>
                      <a:pt x="51" y="327"/>
                    </a:lnTo>
                    <a:lnTo>
                      <a:pt x="59" y="322"/>
                    </a:lnTo>
                    <a:lnTo>
                      <a:pt x="67" y="315"/>
                    </a:lnTo>
                    <a:lnTo>
                      <a:pt x="74" y="310"/>
                    </a:lnTo>
                    <a:lnTo>
                      <a:pt x="69" y="315"/>
                    </a:lnTo>
                    <a:lnTo>
                      <a:pt x="62" y="321"/>
                    </a:lnTo>
                    <a:lnTo>
                      <a:pt x="56" y="325"/>
                    </a:lnTo>
                    <a:lnTo>
                      <a:pt x="49" y="330"/>
                    </a:lnTo>
                    <a:lnTo>
                      <a:pt x="44" y="336"/>
                    </a:lnTo>
                    <a:lnTo>
                      <a:pt x="38" y="341"/>
                    </a:lnTo>
                    <a:lnTo>
                      <a:pt x="32" y="348"/>
                    </a:lnTo>
                    <a:lnTo>
                      <a:pt x="27" y="354"/>
                    </a:lnTo>
                    <a:lnTo>
                      <a:pt x="26" y="356"/>
                    </a:lnTo>
                    <a:lnTo>
                      <a:pt x="24" y="359"/>
                    </a:lnTo>
                    <a:lnTo>
                      <a:pt x="22" y="362"/>
                    </a:lnTo>
                    <a:lnTo>
                      <a:pt x="20" y="365"/>
                    </a:lnTo>
                    <a:lnTo>
                      <a:pt x="19" y="368"/>
                    </a:lnTo>
                    <a:lnTo>
                      <a:pt x="17" y="370"/>
                    </a:lnTo>
                    <a:lnTo>
                      <a:pt x="15" y="374"/>
                    </a:lnTo>
                    <a:lnTo>
                      <a:pt x="13" y="376"/>
                    </a:lnTo>
                    <a:lnTo>
                      <a:pt x="0" y="410"/>
                    </a:lnTo>
                    <a:lnTo>
                      <a:pt x="11" y="408"/>
                    </a:lnTo>
                    <a:lnTo>
                      <a:pt x="38" y="399"/>
                    </a:lnTo>
                    <a:lnTo>
                      <a:pt x="76" y="388"/>
                    </a:lnTo>
                    <a:lnTo>
                      <a:pt x="122" y="374"/>
                    </a:lnTo>
                    <a:lnTo>
                      <a:pt x="168" y="358"/>
                    </a:lnTo>
                    <a:lnTo>
                      <a:pt x="211" y="343"/>
                    </a:lnTo>
                    <a:lnTo>
                      <a:pt x="231" y="336"/>
                    </a:lnTo>
                    <a:lnTo>
                      <a:pt x="246" y="329"/>
                    </a:lnTo>
                    <a:lnTo>
                      <a:pt x="259" y="324"/>
                    </a:lnTo>
                    <a:lnTo>
                      <a:pt x="267" y="320"/>
                    </a:lnTo>
                    <a:lnTo>
                      <a:pt x="271" y="316"/>
                    </a:lnTo>
                    <a:lnTo>
                      <a:pt x="274" y="312"/>
                    </a:lnTo>
                    <a:lnTo>
                      <a:pt x="278" y="307"/>
                    </a:lnTo>
                    <a:lnTo>
                      <a:pt x="284" y="299"/>
                    </a:lnTo>
                    <a:lnTo>
                      <a:pt x="295" y="282"/>
                    </a:lnTo>
                    <a:lnTo>
                      <a:pt x="305" y="260"/>
                    </a:lnTo>
                    <a:lnTo>
                      <a:pt x="331" y="208"/>
                    </a:lnTo>
                    <a:lnTo>
                      <a:pt x="358" y="151"/>
                    </a:lnTo>
                    <a:lnTo>
                      <a:pt x="382" y="95"/>
                    </a:lnTo>
                    <a:lnTo>
                      <a:pt x="404" y="47"/>
                    </a:lnTo>
                    <a:lnTo>
                      <a:pt x="418" y="13"/>
                    </a:lnTo>
                    <a:lnTo>
                      <a:pt x="423" y="0"/>
                    </a:lnTo>
                    <a:close/>
                  </a:path>
                </a:pathLst>
              </a:custGeom>
              <a:solidFill>
                <a:srgbClr val="7163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5875200" y="3138480"/>
                <a:ext cx="135000" cy="130320"/>
              </a:xfrm>
              <a:custGeom>
                <a:avLst/>
                <a:gdLst/>
                <a:ahLst/>
                <a:rect l="l" t="t" r="r" b="b"/>
                <a:pathLst>
                  <a:path w="423" h="410">
                    <a:moveTo>
                      <a:pt x="423" y="0"/>
                    </a:moveTo>
                    <a:lnTo>
                      <a:pt x="415" y="2"/>
                    </a:lnTo>
                    <a:lnTo>
                      <a:pt x="406" y="2"/>
                    </a:lnTo>
                    <a:lnTo>
                      <a:pt x="397" y="3"/>
                    </a:lnTo>
                    <a:lnTo>
                      <a:pt x="389" y="2"/>
                    </a:lnTo>
                    <a:lnTo>
                      <a:pt x="380" y="2"/>
                    </a:lnTo>
                    <a:lnTo>
                      <a:pt x="371" y="2"/>
                    </a:lnTo>
                    <a:lnTo>
                      <a:pt x="363" y="2"/>
                    </a:lnTo>
                    <a:lnTo>
                      <a:pt x="354" y="3"/>
                    </a:lnTo>
                    <a:lnTo>
                      <a:pt x="341" y="4"/>
                    </a:lnTo>
                    <a:lnTo>
                      <a:pt x="328" y="7"/>
                    </a:lnTo>
                    <a:lnTo>
                      <a:pt x="316" y="11"/>
                    </a:lnTo>
                    <a:lnTo>
                      <a:pt x="303" y="15"/>
                    </a:lnTo>
                    <a:lnTo>
                      <a:pt x="291" y="19"/>
                    </a:lnTo>
                    <a:lnTo>
                      <a:pt x="278" y="23"/>
                    </a:lnTo>
                    <a:lnTo>
                      <a:pt x="265" y="27"/>
                    </a:lnTo>
                    <a:lnTo>
                      <a:pt x="253" y="30"/>
                    </a:lnTo>
                    <a:lnTo>
                      <a:pt x="246" y="32"/>
                    </a:lnTo>
                    <a:lnTo>
                      <a:pt x="240" y="34"/>
                    </a:lnTo>
                    <a:lnTo>
                      <a:pt x="233" y="38"/>
                    </a:lnTo>
                    <a:lnTo>
                      <a:pt x="226" y="41"/>
                    </a:lnTo>
                    <a:lnTo>
                      <a:pt x="219" y="44"/>
                    </a:lnTo>
                    <a:lnTo>
                      <a:pt x="213" y="47"/>
                    </a:lnTo>
                    <a:lnTo>
                      <a:pt x="205" y="51"/>
                    </a:lnTo>
                    <a:lnTo>
                      <a:pt x="197" y="53"/>
                    </a:lnTo>
                    <a:lnTo>
                      <a:pt x="201" y="50"/>
                    </a:lnTo>
                    <a:lnTo>
                      <a:pt x="204" y="48"/>
                    </a:lnTo>
                    <a:lnTo>
                      <a:pt x="208" y="47"/>
                    </a:lnTo>
                    <a:lnTo>
                      <a:pt x="211" y="46"/>
                    </a:lnTo>
                    <a:lnTo>
                      <a:pt x="216" y="45"/>
                    </a:lnTo>
                    <a:lnTo>
                      <a:pt x="220" y="45"/>
                    </a:lnTo>
                    <a:lnTo>
                      <a:pt x="223" y="44"/>
                    </a:lnTo>
                    <a:lnTo>
                      <a:pt x="228" y="42"/>
                    </a:lnTo>
                    <a:lnTo>
                      <a:pt x="237" y="40"/>
                    </a:lnTo>
                    <a:lnTo>
                      <a:pt x="246" y="39"/>
                    </a:lnTo>
                    <a:lnTo>
                      <a:pt x="256" y="39"/>
                    </a:lnTo>
                    <a:lnTo>
                      <a:pt x="267" y="39"/>
                    </a:lnTo>
                    <a:lnTo>
                      <a:pt x="276" y="40"/>
                    </a:lnTo>
                    <a:lnTo>
                      <a:pt x="286" y="40"/>
                    </a:lnTo>
                    <a:lnTo>
                      <a:pt x="297" y="41"/>
                    </a:lnTo>
                    <a:lnTo>
                      <a:pt x="307" y="42"/>
                    </a:lnTo>
                    <a:lnTo>
                      <a:pt x="292" y="45"/>
                    </a:lnTo>
                    <a:lnTo>
                      <a:pt x="280" y="48"/>
                    </a:lnTo>
                    <a:lnTo>
                      <a:pt x="265" y="51"/>
                    </a:lnTo>
                    <a:lnTo>
                      <a:pt x="251" y="54"/>
                    </a:lnTo>
                    <a:lnTo>
                      <a:pt x="238" y="56"/>
                    </a:lnTo>
                    <a:lnTo>
                      <a:pt x="224" y="59"/>
                    </a:lnTo>
                    <a:lnTo>
                      <a:pt x="210" y="61"/>
                    </a:lnTo>
                    <a:lnTo>
                      <a:pt x="195" y="65"/>
                    </a:lnTo>
                    <a:lnTo>
                      <a:pt x="181" y="68"/>
                    </a:lnTo>
                    <a:lnTo>
                      <a:pt x="167" y="73"/>
                    </a:lnTo>
                    <a:lnTo>
                      <a:pt x="154" y="79"/>
                    </a:lnTo>
                    <a:lnTo>
                      <a:pt x="141" y="85"/>
                    </a:lnTo>
                    <a:lnTo>
                      <a:pt x="129" y="93"/>
                    </a:lnTo>
                    <a:lnTo>
                      <a:pt x="117" y="101"/>
                    </a:lnTo>
                    <a:lnTo>
                      <a:pt x="107" y="110"/>
                    </a:lnTo>
                    <a:lnTo>
                      <a:pt x="97" y="119"/>
                    </a:lnTo>
                    <a:lnTo>
                      <a:pt x="99" y="116"/>
                    </a:lnTo>
                    <a:lnTo>
                      <a:pt x="102" y="114"/>
                    </a:lnTo>
                    <a:lnTo>
                      <a:pt x="105" y="113"/>
                    </a:lnTo>
                    <a:lnTo>
                      <a:pt x="108" y="112"/>
                    </a:lnTo>
                    <a:lnTo>
                      <a:pt x="111" y="111"/>
                    </a:lnTo>
                    <a:lnTo>
                      <a:pt x="114" y="111"/>
                    </a:lnTo>
                    <a:lnTo>
                      <a:pt x="117" y="110"/>
                    </a:lnTo>
                    <a:lnTo>
                      <a:pt x="121" y="109"/>
                    </a:lnTo>
                    <a:lnTo>
                      <a:pt x="111" y="119"/>
                    </a:lnTo>
                    <a:lnTo>
                      <a:pt x="100" y="128"/>
                    </a:lnTo>
                    <a:lnTo>
                      <a:pt x="89" y="137"/>
                    </a:lnTo>
                    <a:lnTo>
                      <a:pt x="78" y="146"/>
                    </a:lnTo>
                    <a:lnTo>
                      <a:pt x="66" y="154"/>
                    </a:lnTo>
                    <a:lnTo>
                      <a:pt x="55" y="164"/>
                    </a:lnTo>
                    <a:lnTo>
                      <a:pt x="45" y="175"/>
                    </a:lnTo>
                    <a:lnTo>
                      <a:pt x="38" y="186"/>
                    </a:lnTo>
                    <a:lnTo>
                      <a:pt x="42" y="179"/>
                    </a:lnTo>
                    <a:lnTo>
                      <a:pt x="48" y="173"/>
                    </a:lnTo>
                    <a:lnTo>
                      <a:pt x="56" y="168"/>
                    </a:lnTo>
                    <a:lnTo>
                      <a:pt x="65" y="164"/>
                    </a:lnTo>
                    <a:lnTo>
                      <a:pt x="73" y="161"/>
                    </a:lnTo>
                    <a:lnTo>
                      <a:pt x="82" y="158"/>
                    </a:lnTo>
                    <a:lnTo>
                      <a:pt x="90" y="155"/>
                    </a:lnTo>
                    <a:lnTo>
                      <a:pt x="99" y="153"/>
                    </a:lnTo>
                    <a:lnTo>
                      <a:pt x="105" y="151"/>
                    </a:lnTo>
                    <a:lnTo>
                      <a:pt x="110" y="149"/>
                    </a:lnTo>
                    <a:lnTo>
                      <a:pt x="115" y="147"/>
                    </a:lnTo>
                    <a:lnTo>
                      <a:pt x="122" y="145"/>
                    </a:lnTo>
                    <a:lnTo>
                      <a:pt x="127" y="142"/>
                    </a:lnTo>
                    <a:lnTo>
                      <a:pt x="134" y="140"/>
                    </a:lnTo>
                    <a:lnTo>
                      <a:pt x="139" y="139"/>
                    </a:lnTo>
                    <a:lnTo>
                      <a:pt x="146" y="139"/>
                    </a:lnTo>
                    <a:lnTo>
                      <a:pt x="136" y="142"/>
                    </a:lnTo>
                    <a:lnTo>
                      <a:pt x="127" y="148"/>
                    </a:lnTo>
                    <a:lnTo>
                      <a:pt x="119" y="152"/>
                    </a:lnTo>
                    <a:lnTo>
                      <a:pt x="111" y="159"/>
                    </a:lnTo>
                    <a:lnTo>
                      <a:pt x="98" y="170"/>
                    </a:lnTo>
                    <a:lnTo>
                      <a:pt x="86" y="185"/>
                    </a:lnTo>
                    <a:lnTo>
                      <a:pt x="74" y="200"/>
                    </a:lnTo>
                    <a:lnTo>
                      <a:pt x="65" y="215"/>
                    </a:lnTo>
                    <a:lnTo>
                      <a:pt x="54" y="230"/>
                    </a:lnTo>
                    <a:lnTo>
                      <a:pt x="42" y="245"/>
                    </a:lnTo>
                    <a:lnTo>
                      <a:pt x="40" y="248"/>
                    </a:lnTo>
                    <a:lnTo>
                      <a:pt x="36" y="250"/>
                    </a:lnTo>
                    <a:lnTo>
                      <a:pt x="33" y="254"/>
                    </a:lnTo>
                    <a:lnTo>
                      <a:pt x="30" y="256"/>
                    </a:lnTo>
                    <a:lnTo>
                      <a:pt x="28" y="259"/>
                    </a:lnTo>
                    <a:lnTo>
                      <a:pt x="26" y="261"/>
                    </a:lnTo>
                    <a:lnTo>
                      <a:pt x="24" y="264"/>
                    </a:lnTo>
                    <a:lnTo>
                      <a:pt x="22" y="268"/>
                    </a:lnTo>
                    <a:lnTo>
                      <a:pt x="22" y="269"/>
                    </a:lnTo>
                    <a:lnTo>
                      <a:pt x="22" y="270"/>
                    </a:lnTo>
                    <a:lnTo>
                      <a:pt x="24" y="270"/>
                    </a:lnTo>
                    <a:lnTo>
                      <a:pt x="26" y="269"/>
                    </a:lnTo>
                    <a:lnTo>
                      <a:pt x="28" y="269"/>
                    </a:lnTo>
                    <a:lnTo>
                      <a:pt x="29" y="268"/>
                    </a:lnTo>
                    <a:lnTo>
                      <a:pt x="31" y="268"/>
                    </a:lnTo>
                    <a:lnTo>
                      <a:pt x="32" y="268"/>
                    </a:lnTo>
                    <a:lnTo>
                      <a:pt x="44" y="261"/>
                    </a:lnTo>
                    <a:lnTo>
                      <a:pt x="56" y="255"/>
                    </a:lnTo>
                    <a:lnTo>
                      <a:pt x="67" y="248"/>
                    </a:lnTo>
                    <a:lnTo>
                      <a:pt x="78" y="242"/>
                    </a:lnTo>
                    <a:lnTo>
                      <a:pt x="88" y="236"/>
                    </a:lnTo>
                    <a:lnTo>
                      <a:pt x="99" y="231"/>
                    </a:lnTo>
                    <a:lnTo>
                      <a:pt x="110" y="226"/>
                    </a:lnTo>
                    <a:lnTo>
                      <a:pt x="121" y="220"/>
                    </a:lnTo>
                    <a:lnTo>
                      <a:pt x="112" y="224"/>
                    </a:lnTo>
                    <a:lnTo>
                      <a:pt x="105" y="230"/>
                    </a:lnTo>
                    <a:lnTo>
                      <a:pt x="98" y="235"/>
                    </a:lnTo>
                    <a:lnTo>
                      <a:pt x="92" y="242"/>
                    </a:lnTo>
                    <a:lnTo>
                      <a:pt x="86" y="248"/>
                    </a:lnTo>
                    <a:lnTo>
                      <a:pt x="80" y="255"/>
                    </a:lnTo>
                    <a:lnTo>
                      <a:pt x="74" y="262"/>
                    </a:lnTo>
                    <a:lnTo>
                      <a:pt x="69" y="270"/>
                    </a:lnTo>
                    <a:lnTo>
                      <a:pt x="72" y="268"/>
                    </a:lnTo>
                    <a:lnTo>
                      <a:pt x="74" y="267"/>
                    </a:lnTo>
                    <a:lnTo>
                      <a:pt x="76" y="264"/>
                    </a:lnTo>
                    <a:lnTo>
                      <a:pt x="78" y="262"/>
                    </a:lnTo>
                    <a:lnTo>
                      <a:pt x="80" y="261"/>
                    </a:lnTo>
                    <a:lnTo>
                      <a:pt x="82" y="260"/>
                    </a:lnTo>
                    <a:lnTo>
                      <a:pt x="84" y="258"/>
                    </a:lnTo>
                    <a:lnTo>
                      <a:pt x="86" y="257"/>
                    </a:lnTo>
                    <a:lnTo>
                      <a:pt x="87" y="259"/>
                    </a:lnTo>
                    <a:lnTo>
                      <a:pt x="87" y="261"/>
                    </a:lnTo>
                    <a:lnTo>
                      <a:pt x="87" y="262"/>
                    </a:lnTo>
                    <a:lnTo>
                      <a:pt x="87" y="263"/>
                    </a:lnTo>
                    <a:lnTo>
                      <a:pt x="86" y="264"/>
                    </a:lnTo>
                    <a:lnTo>
                      <a:pt x="86" y="266"/>
                    </a:lnTo>
                    <a:lnTo>
                      <a:pt x="85" y="267"/>
                    </a:lnTo>
                    <a:lnTo>
                      <a:pt x="84" y="268"/>
                    </a:lnTo>
                    <a:lnTo>
                      <a:pt x="78" y="270"/>
                    </a:lnTo>
                    <a:lnTo>
                      <a:pt x="72" y="273"/>
                    </a:lnTo>
                    <a:lnTo>
                      <a:pt x="68" y="277"/>
                    </a:lnTo>
                    <a:lnTo>
                      <a:pt x="63" y="282"/>
                    </a:lnTo>
                    <a:lnTo>
                      <a:pt x="55" y="290"/>
                    </a:lnTo>
                    <a:lnTo>
                      <a:pt x="48" y="300"/>
                    </a:lnTo>
                    <a:lnTo>
                      <a:pt x="43" y="310"/>
                    </a:lnTo>
                    <a:lnTo>
                      <a:pt x="38" y="321"/>
                    </a:lnTo>
                    <a:lnTo>
                      <a:pt x="31" y="331"/>
                    </a:lnTo>
                    <a:lnTo>
                      <a:pt x="25" y="341"/>
                    </a:lnTo>
                    <a:lnTo>
                      <a:pt x="24" y="342"/>
                    </a:lnTo>
                    <a:lnTo>
                      <a:pt x="21" y="343"/>
                    </a:lnTo>
                    <a:lnTo>
                      <a:pt x="19" y="343"/>
                    </a:lnTo>
                    <a:lnTo>
                      <a:pt x="17" y="344"/>
                    </a:lnTo>
                    <a:lnTo>
                      <a:pt x="15" y="345"/>
                    </a:lnTo>
                    <a:lnTo>
                      <a:pt x="13" y="345"/>
                    </a:lnTo>
                    <a:lnTo>
                      <a:pt x="12" y="348"/>
                    </a:lnTo>
                    <a:lnTo>
                      <a:pt x="9" y="349"/>
                    </a:lnTo>
                    <a:lnTo>
                      <a:pt x="18" y="345"/>
                    </a:lnTo>
                    <a:lnTo>
                      <a:pt x="27" y="341"/>
                    </a:lnTo>
                    <a:lnTo>
                      <a:pt x="34" y="337"/>
                    </a:lnTo>
                    <a:lnTo>
                      <a:pt x="43" y="331"/>
                    </a:lnTo>
                    <a:lnTo>
                      <a:pt x="51" y="327"/>
                    </a:lnTo>
                    <a:lnTo>
                      <a:pt x="59" y="322"/>
                    </a:lnTo>
                    <a:lnTo>
                      <a:pt x="67" y="315"/>
                    </a:lnTo>
                    <a:lnTo>
                      <a:pt x="74" y="310"/>
                    </a:lnTo>
                    <a:lnTo>
                      <a:pt x="69" y="315"/>
                    </a:lnTo>
                    <a:lnTo>
                      <a:pt x="62" y="321"/>
                    </a:lnTo>
                    <a:lnTo>
                      <a:pt x="56" y="325"/>
                    </a:lnTo>
                    <a:lnTo>
                      <a:pt x="49" y="330"/>
                    </a:lnTo>
                    <a:lnTo>
                      <a:pt x="44" y="336"/>
                    </a:lnTo>
                    <a:lnTo>
                      <a:pt x="38" y="341"/>
                    </a:lnTo>
                    <a:lnTo>
                      <a:pt x="32" y="348"/>
                    </a:lnTo>
                    <a:lnTo>
                      <a:pt x="27" y="354"/>
                    </a:lnTo>
                    <a:lnTo>
                      <a:pt x="26" y="356"/>
                    </a:lnTo>
                    <a:lnTo>
                      <a:pt x="24" y="359"/>
                    </a:lnTo>
                    <a:lnTo>
                      <a:pt x="22" y="362"/>
                    </a:lnTo>
                    <a:lnTo>
                      <a:pt x="20" y="365"/>
                    </a:lnTo>
                    <a:lnTo>
                      <a:pt x="19" y="368"/>
                    </a:lnTo>
                    <a:lnTo>
                      <a:pt x="17" y="370"/>
                    </a:lnTo>
                    <a:lnTo>
                      <a:pt x="15" y="374"/>
                    </a:lnTo>
                    <a:lnTo>
                      <a:pt x="13" y="376"/>
                    </a:lnTo>
                    <a:lnTo>
                      <a:pt x="0" y="410"/>
                    </a:lnTo>
                    <a:lnTo>
                      <a:pt x="11" y="408"/>
                    </a:lnTo>
                    <a:lnTo>
                      <a:pt x="38" y="399"/>
                    </a:lnTo>
                    <a:lnTo>
                      <a:pt x="76" y="388"/>
                    </a:lnTo>
                    <a:lnTo>
                      <a:pt x="122" y="374"/>
                    </a:lnTo>
                    <a:lnTo>
                      <a:pt x="168" y="358"/>
                    </a:lnTo>
                    <a:lnTo>
                      <a:pt x="211" y="343"/>
                    </a:lnTo>
                    <a:lnTo>
                      <a:pt x="231" y="336"/>
                    </a:lnTo>
                    <a:lnTo>
                      <a:pt x="246" y="329"/>
                    </a:lnTo>
                    <a:lnTo>
                      <a:pt x="259" y="324"/>
                    </a:lnTo>
                    <a:lnTo>
                      <a:pt x="267" y="320"/>
                    </a:lnTo>
                    <a:lnTo>
                      <a:pt x="271" y="316"/>
                    </a:lnTo>
                    <a:lnTo>
                      <a:pt x="274" y="312"/>
                    </a:lnTo>
                    <a:lnTo>
                      <a:pt x="278" y="307"/>
                    </a:lnTo>
                    <a:lnTo>
                      <a:pt x="284" y="299"/>
                    </a:lnTo>
                    <a:lnTo>
                      <a:pt x="295" y="282"/>
                    </a:lnTo>
                    <a:lnTo>
                      <a:pt x="305" y="260"/>
                    </a:lnTo>
                    <a:lnTo>
                      <a:pt x="331" y="208"/>
                    </a:lnTo>
                    <a:lnTo>
                      <a:pt x="358" y="151"/>
                    </a:lnTo>
                    <a:lnTo>
                      <a:pt x="382" y="95"/>
                    </a:lnTo>
                    <a:lnTo>
                      <a:pt x="404" y="47"/>
                    </a:lnTo>
                    <a:lnTo>
                      <a:pt x="418" y="13"/>
                    </a:lnTo>
                    <a:lnTo>
                      <a:pt x="423" y="0"/>
                    </a:lnTo>
                  </a:path>
                </a:pathLst>
              </a:custGeom>
              <a:noFill/>
              <a:ln w="14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5951520" y="3124440"/>
                <a:ext cx="106200" cy="101520"/>
              </a:xfrm>
              <a:custGeom>
                <a:avLst/>
                <a:gdLst/>
                <a:ahLst/>
                <a:rect l="l" t="t" r="r" b="b"/>
                <a:pathLst>
                  <a:path w="335" h="321">
                    <a:moveTo>
                      <a:pt x="335" y="0"/>
                    </a:moveTo>
                    <a:lnTo>
                      <a:pt x="330" y="1"/>
                    </a:lnTo>
                    <a:lnTo>
                      <a:pt x="315" y="6"/>
                    </a:lnTo>
                    <a:lnTo>
                      <a:pt x="292" y="11"/>
                    </a:lnTo>
                    <a:lnTo>
                      <a:pt x="264" y="19"/>
                    </a:lnTo>
                    <a:lnTo>
                      <a:pt x="233" y="30"/>
                    </a:lnTo>
                    <a:lnTo>
                      <a:pt x="201" y="41"/>
                    </a:lnTo>
                    <a:lnTo>
                      <a:pt x="185" y="48"/>
                    </a:lnTo>
                    <a:lnTo>
                      <a:pt x="170" y="54"/>
                    </a:lnTo>
                    <a:lnTo>
                      <a:pt x="156" y="62"/>
                    </a:lnTo>
                    <a:lnTo>
                      <a:pt x="143" y="70"/>
                    </a:lnTo>
                    <a:lnTo>
                      <a:pt x="125" y="81"/>
                    </a:lnTo>
                    <a:lnTo>
                      <a:pt x="109" y="94"/>
                    </a:lnTo>
                    <a:lnTo>
                      <a:pt x="93" y="109"/>
                    </a:lnTo>
                    <a:lnTo>
                      <a:pt x="78" y="125"/>
                    </a:lnTo>
                    <a:lnTo>
                      <a:pt x="65" y="142"/>
                    </a:lnTo>
                    <a:lnTo>
                      <a:pt x="52" y="158"/>
                    </a:lnTo>
                    <a:lnTo>
                      <a:pt x="42" y="176"/>
                    </a:lnTo>
                    <a:lnTo>
                      <a:pt x="32" y="194"/>
                    </a:lnTo>
                    <a:lnTo>
                      <a:pt x="23" y="212"/>
                    </a:lnTo>
                    <a:lnTo>
                      <a:pt x="16" y="229"/>
                    </a:lnTo>
                    <a:lnTo>
                      <a:pt x="9" y="247"/>
                    </a:lnTo>
                    <a:lnTo>
                      <a:pt x="5" y="264"/>
                    </a:lnTo>
                    <a:lnTo>
                      <a:pt x="2" y="280"/>
                    </a:lnTo>
                    <a:lnTo>
                      <a:pt x="0" y="295"/>
                    </a:lnTo>
                    <a:lnTo>
                      <a:pt x="0" y="309"/>
                    </a:lnTo>
                    <a:lnTo>
                      <a:pt x="2" y="321"/>
                    </a:lnTo>
                    <a:lnTo>
                      <a:pt x="202" y="104"/>
                    </a:lnTo>
                    <a:lnTo>
                      <a:pt x="308" y="58"/>
                    </a:lnTo>
                    <a:lnTo>
                      <a:pt x="335" y="0"/>
                    </a:lnTo>
                    <a:close/>
                  </a:path>
                </a:pathLst>
              </a:custGeom>
              <a:solidFill>
                <a:srgbClr val="ca93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5975280" y="3121200"/>
                <a:ext cx="84240" cy="44280"/>
              </a:xfrm>
              <a:custGeom>
                <a:avLst/>
                <a:gdLst/>
                <a:ahLst/>
                <a:rect l="l" t="t" r="r" b="b"/>
                <a:pathLst>
                  <a:path w="267" h="142">
                    <a:moveTo>
                      <a:pt x="247" y="27"/>
                    </a:moveTo>
                    <a:lnTo>
                      <a:pt x="267" y="0"/>
                    </a:lnTo>
                    <a:lnTo>
                      <a:pt x="260" y="1"/>
                    </a:lnTo>
                    <a:lnTo>
                      <a:pt x="244" y="5"/>
                    </a:lnTo>
                    <a:lnTo>
                      <a:pt x="219" y="12"/>
                    </a:lnTo>
                    <a:lnTo>
                      <a:pt x="189" y="22"/>
                    </a:lnTo>
                    <a:lnTo>
                      <a:pt x="156" y="33"/>
                    </a:lnTo>
                    <a:lnTo>
                      <a:pt x="122" y="47"/>
                    </a:lnTo>
                    <a:lnTo>
                      <a:pt x="106" y="55"/>
                    </a:lnTo>
                    <a:lnTo>
                      <a:pt x="90" y="62"/>
                    </a:lnTo>
                    <a:lnTo>
                      <a:pt x="75" y="70"/>
                    </a:lnTo>
                    <a:lnTo>
                      <a:pt x="62" y="78"/>
                    </a:lnTo>
                    <a:lnTo>
                      <a:pt x="55" y="84"/>
                    </a:lnTo>
                    <a:lnTo>
                      <a:pt x="48" y="89"/>
                    </a:lnTo>
                    <a:lnTo>
                      <a:pt x="40" y="97"/>
                    </a:lnTo>
                    <a:lnTo>
                      <a:pt x="33" y="104"/>
                    </a:lnTo>
                    <a:lnTo>
                      <a:pt x="25" y="113"/>
                    </a:lnTo>
                    <a:lnTo>
                      <a:pt x="16" y="123"/>
                    </a:lnTo>
                    <a:lnTo>
                      <a:pt x="9" y="132"/>
                    </a:lnTo>
                    <a:lnTo>
                      <a:pt x="0" y="142"/>
                    </a:lnTo>
                    <a:lnTo>
                      <a:pt x="3" y="141"/>
                    </a:lnTo>
                    <a:lnTo>
                      <a:pt x="14" y="137"/>
                    </a:lnTo>
                    <a:lnTo>
                      <a:pt x="34" y="129"/>
                    </a:lnTo>
                    <a:lnTo>
                      <a:pt x="60" y="117"/>
                    </a:lnTo>
                    <a:lnTo>
                      <a:pt x="94" y="102"/>
                    </a:lnTo>
                    <a:lnTo>
                      <a:pt x="136" y="82"/>
                    </a:lnTo>
                    <a:lnTo>
                      <a:pt x="188" y="57"/>
                    </a:lnTo>
                    <a:lnTo>
                      <a:pt x="247" y="27"/>
                    </a:lnTo>
                    <a:close/>
                  </a:path>
                </a:pathLst>
              </a:custGeom>
              <a:solidFill>
                <a:srgbClr val="ca93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5978520" y="3121200"/>
                <a:ext cx="81000" cy="41040"/>
              </a:xfrm>
              <a:custGeom>
                <a:avLst/>
                <a:gdLst/>
                <a:ahLst/>
                <a:rect l="l" t="t" r="r" b="b"/>
                <a:pathLst>
                  <a:path w="257" h="130">
                    <a:moveTo>
                      <a:pt x="0" y="130"/>
                    </a:moveTo>
                    <a:lnTo>
                      <a:pt x="7" y="122"/>
                    </a:lnTo>
                    <a:lnTo>
                      <a:pt x="14" y="114"/>
                    </a:lnTo>
                    <a:lnTo>
                      <a:pt x="21" y="106"/>
                    </a:lnTo>
                    <a:lnTo>
                      <a:pt x="28" y="99"/>
                    </a:lnTo>
                    <a:lnTo>
                      <a:pt x="34" y="93"/>
                    </a:lnTo>
                    <a:lnTo>
                      <a:pt x="41" y="87"/>
                    </a:lnTo>
                    <a:lnTo>
                      <a:pt x="47" y="83"/>
                    </a:lnTo>
                    <a:lnTo>
                      <a:pt x="54" y="78"/>
                    </a:lnTo>
                    <a:lnTo>
                      <a:pt x="68" y="70"/>
                    </a:lnTo>
                    <a:lnTo>
                      <a:pt x="82" y="62"/>
                    </a:lnTo>
                    <a:lnTo>
                      <a:pt x="98" y="55"/>
                    </a:lnTo>
                    <a:lnTo>
                      <a:pt x="114" y="47"/>
                    </a:lnTo>
                    <a:lnTo>
                      <a:pt x="148" y="33"/>
                    </a:lnTo>
                    <a:lnTo>
                      <a:pt x="180" y="22"/>
                    </a:lnTo>
                    <a:lnTo>
                      <a:pt x="210" y="12"/>
                    </a:lnTo>
                    <a:lnTo>
                      <a:pt x="234" y="5"/>
                    </a:lnTo>
                    <a:lnTo>
                      <a:pt x="252" y="1"/>
                    </a:lnTo>
                    <a:lnTo>
                      <a:pt x="257" y="0"/>
                    </a:lnTo>
                    <a:lnTo>
                      <a:pt x="240" y="21"/>
                    </a:lnTo>
                    <a:lnTo>
                      <a:pt x="181" y="48"/>
                    </a:lnTo>
                    <a:lnTo>
                      <a:pt x="132" y="71"/>
                    </a:lnTo>
                    <a:lnTo>
                      <a:pt x="89" y="89"/>
                    </a:lnTo>
                    <a:lnTo>
                      <a:pt x="57" y="104"/>
                    </a:lnTo>
                    <a:lnTo>
                      <a:pt x="31" y="116"/>
                    </a:lnTo>
                    <a:lnTo>
                      <a:pt x="14" y="124"/>
                    </a:lnTo>
                    <a:lnTo>
                      <a:pt x="3" y="128"/>
                    </a:lnTo>
                    <a:lnTo>
                      <a:pt x="0" y="130"/>
                    </a:lnTo>
                    <a:close/>
                  </a:path>
                </a:pathLst>
              </a:custGeom>
              <a:solidFill>
                <a:srgbClr val="d39a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5983200" y="3121200"/>
                <a:ext cx="76320" cy="38160"/>
              </a:xfrm>
              <a:custGeom>
                <a:avLst/>
                <a:gdLst/>
                <a:ahLst/>
                <a:rect l="l" t="t" r="r" b="b"/>
                <a:pathLst>
                  <a:path w="244" h="120">
                    <a:moveTo>
                      <a:pt x="0" y="120"/>
                    </a:moveTo>
                    <a:lnTo>
                      <a:pt x="5" y="114"/>
                    </a:lnTo>
                    <a:lnTo>
                      <a:pt x="11" y="108"/>
                    </a:lnTo>
                    <a:lnTo>
                      <a:pt x="16" y="101"/>
                    </a:lnTo>
                    <a:lnTo>
                      <a:pt x="21" y="95"/>
                    </a:lnTo>
                    <a:lnTo>
                      <a:pt x="27" y="89"/>
                    </a:lnTo>
                    <a:lnTo>
                      <a:pt x="32" y="85"/>
                    </a:lnTo>
                    <a:lnTo>
                      <a:pt x="39" y="79"/>
                    </a:lnTo>
                    <a:lnTo>
                      <a:pt x="44" y="75"/>
                    </a:lnTo>
                    <a:lnTo>
                      <a:pt x="57" y="68"/>
                    </a:lnTo>
                    <a:lnTo>
                      <a:pt x="71" y="60"/>
                    </a:lnTo>
                    <a:lnTo>
                      <a:pt x="87" y="52"/>
                    </a:lnTo>
                    <a:lnTo>
                      <a:pt x="103" y="46"/>
                    </a:lnTo>
                    <a:lnTo>
                      <a:pt x="137" y="33"/>
                    </a:lnTo>
                    <a:lnTo>
                      <a:pt x="169" y="21"/>
                    </a:lnTo>
                    <a:lnTo>
                      <a:pt x="199" y="12"/>
                    </a:lnTo>
                    <a:lnTo>
                      <a:pt x="222" y="5"/>
                    </a:lnTo>
                    <a:lnTo>
                      <a:pt x="239" y="1"/>
                    </a:lnTo>
                    <a:lnTo>
                      <a:pt x="244" y="0"/>
                    </a:lnTo>
                    <a:lnTo>
                      <a:pt x="232" y="17"/>
                    </a:lnTo>
                    <a:lnTo>
                      <a:pt x="174" y="39"/>
                    </a:lnTo>
                    <a:lnTo>
                      <a:pt x="124" y="60"/>
                    </a:lnTo>
                    <a:lnTo>
                      <a:pt x="84" y="77"/>
                    </a:lnTo>
                    <a:lnTo>
                      <a:pt x="53" y="92"/>
                    </a:lnTo>
                    <a:lnTo>
                      <a:pt x="29" y="104"/>
                    </a:lnTo>
                    <a:lnTo>
                      <a:pt x="12" y="113"/>
                    </a:lnTo>
                    <a:lnTo>
                      <a:pt x="2" y="118"/>
                    </a:lnTo>
                    <a:lnTo>
                      <a:pt x="0" y="120"/>
                    </a:lnTo>
                    <a:close/>
                  </a:path>
                </a:pathLst>
              </a:custGeom>
              <a:solidFill>
                <a:srgbClr val="dca0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5986440" y="3121200"/>
                <a:ext cx="73080" cy="34920"/>
              </a:xfrm>
              <a:custGeom>
                <a:avLst/>
                <a:gdLst/>
                <a:ahLst/>
                <a:rect l="l" t="t" r="r" b="b"/>
                <a:pathLst>
                  <a:path w="234" h="111">
                    <a:moveTo>
                      <a:pt x="0" y="111"/>
                    </a:moveTo>
                    <a:lnTo>
                      <a:pt x="4" y="104"/>
                    </a:lnTo>
                    <a:lnTo>
                      <a:pt x="8" y="99"/>
                    </a:lnTo>
                    <a:lnTo>
                      <a:pt x="14" y="93"/>
                    </a:lnTo>
                    <a:lnTo>
                      <a:pt x="18" y="89"/>
                    </a:lnTo>
                    <a:lnTo>
                      <a:pt x="22" y="84"/>
                    </a:lnTo>
                    <a:lnTo>
                      <a:pt x="27" y="81"/>
                    </a:lnTo>
                    <a:lnTo>
                      <a:pt x="32" y="76"/>
                    </a:lnTo>
                    <a:lnTo>
                      <a:pt x="36" y="73"/>
                    </a:lnTo>
                    <a:lnTo>
                      <a:pt x="50" y="65"/>
                    </a:lnTo>
                    <a:lnTo>
                      <a:pt x="64" y="59"/>
                    </a:lnTo>
                    <a:lnTo>
                      <a:pt x="81" y="51"/>
                    </a:lnTo>
                    <a:lnTo>
                      <a:pt x="97" y="45"/>
                    </a:lnTo>
                    <a:lnTo>
                      <a:pt x="129" y="32"/>
                    </a:lnTo>
                    <a:lnTo>
                      <a:pt x="162" y="21"/>
                    </a:lnTo>
                    <a:lnTo>
                      <a:pt x="190" y="12"/>
                    </a:lnTo>
                    <a:lnTo>
                      <a:pt x="213" y="5"/>
                    </a:lnTo>
                    <a:lnTo>
                      <a:pt x="229" y="1"/>
                    </a:lnTo>
                    <a:lnTo>
                      <a:pt x="234" y="0"/>
                    </a:lnTo>
                    <a:lnTo>
                      <a:pt x="224" y="11"/>
                    </a:lnTo>
                    <a:lnTo>
                      <a:pt x="167" y="31"/>
                    </a:lnTo>
                    <a:lnTo>
                      <a:pt x="119" y="50"/>
                    </a:lnTo>
                    <a:lnTo>
                      <a:pt x="81" y="66"/>
                    </a:lnTo>
                    <a:lnTo>
                      <a:pt x="49" y="82"/>
                    </a:lnTo>
                    <a:lnTo>
                      <a:pt x="27" y="93"/>
                    </a:lnTo>
                    <a:lnTo>
                      <a:pt x="11" y="102"/>
                    </a:lnTo>
                    <a:lnTo>
                      <a:pt x="2" y="109"/>
                    </a:lnTo>
                    <a:lnTo>
                      <a:pt x="0" y="111"/>
                    </a:lnTo>
                    <a:close/>
                  </a:path>
                </a:pathLst>
              </a:custGeom>
              <a:solidFill>
                <a:srgbClr val="e3a6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5987880" y="3121200"/>
                <a:ext cx="71640" cy="31680"/>
              </a:xfrm>
              <a:custGeom>
                <a:avLst/>
                <a:gdLst/>
                <a:ahLst/>
                <a:rect l="l" t="t" r="r" b="b"/>
                <a:pathLst>
                  <a:path w="225" h="100">
                    <a:moveTo>
                      <a:pt x="217" y="6"/>
                    </a:moveTo>
                    <a:lnTo>
                      <a:pt x="225" y="0"/>
                    </a:lnTo>
                    <a:lnTo>
                      <a:pt x="220" y="1"/>
                    </a:lnTo>
                    <a:lnTo>
                      <a:pt x="204" y="5"/>
                    </a:lnTo>
                    <a:lnTo>
                      <a:pt x="182" y="11"/>
                    </a:lnTo>
                    <a:lnTo>
                      <a:pt x="154" y="20"/>
                    </a:lnTo>
                    <a:lnTo>
                      <a:pt x="122" y="31"/>
                    </a:lnTo>
                    <a:lnTo>
                      <a:pt x="90" y="43"/>
                    </a:lnTo>
                    <a:lnTo>
                      <a:pt x="74" y="49"/>
                    </a:lnTo>
                    <a:lnTo>
                      <a:pt x="57" y="57"/>
                    </a:lnTo>
                    <a:lnTo>
                      <a:pt x="43" y="63"/>
                    </a:lnTo>
                    <a:lnTo>
                      <a:pt x="29" y="71"/>
                    </a:lnTo>
                    <a:lnTo>
                      <a:pt x="25" y="74"/>
                    </a:lnTo>
                    <a:lnTo>
                      <a:pt x="21" y="77"/>
                    </a:lnTo>
                    <a:lnTo>
                      <a:pt x="18" y="81"/>
                    </a:lnTo>
                    <a:lnTo>
                      <a:pt x="14" y="85"/>
                    </a:lnTo>
                    <a:lnTo>
                      <a:pt x="11" y="88"/>
                    </a:lnTo>
                    <a:lnTo>
                      <a:pt x="7" y="92"/>
                    </a:lnTo>
                    <a:lnTo>
                      <a:pt x="3" y="97"/>
                    </a:lnTo>
                    <a:lnTo>
                      <a:pt x="0" y="100"/>
                    </a:lnTo>
                    <a:lnTo>
                      <a:pt x="2" y="98"/>
                    </a:lnTo>
                    <a:lnTo>
                      <a:pt x="11" y="91"/>
                    </a:lnTo>
                    <a:lnTo>
                      <a:pt x="26" y="82"/>
                    </a:lnTo>
                    <a:lnTo>
                      <a:pt x="48" y="69"/>
                    </a:lnTo>
                    <a:lnTo>
                      <a:pt x="62" y="62"/>
                    </a:lnTo>
                    <a:lnTo>
                      <a:pt x="77" y="55"/>
                    </a:lnTo>
                    <a:lnTo>
                      <a:pt x="95" y="47"/>
                    </a:lnTo>
                    <a:lnTo>
                      <a:pt x="115" y="38"/>
                    </a:lnTo>
                    <a:lnTo>
                      <a:pt x="137" y="31"/>
                    </a:lnTo>
                    <a:lnTo>
                      <a:pt x="161" y="22"/>
                    </a:lnTo>
                    <a:lnTo>
                      <a:pt x="188" y="15"/>
                    </a:lnTo>
                    <a:lnTo>
                      <a:pt x="217" y="6"/>
                    </a:lnTo>
                    <a:close/>
                  </a:path>
                </a:pathLst>
              </a:custGeom>
              <a:solidFill>
                <a:srgbClr val="ecad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5951520" y="3094200"/>
                <a:ext cx="201600" cy="169920"/>
              </a:xfrm>
              <a:custGeom>
                <a:avLst/>
                <a:gdLst/>
                <a:ahLst/>
                <a:rect l="l" t="t" r="r" b="b"/>
                <a:pathLst>
                  <a:path w="636" h="536">
                    <a:moveTo>
                      <a:pt x="0" y="494"/>
                    </a:moveTo>
                    <a:lnTo>
                      <a:pt x="0" y="487"/>
                    </a:lnTo>
                    <a:lnTo>
                      <a:pt x="1" y="468"/>
                    </a:lnTo>
                    <a:lnTo>
                      <a:pt x="3" y="440"/>
                    </a:lnTo>
                    <a:lnTo>
                      <a:pt x="6" y="406"/>
                    </a:lnTo>
                    <a:lnTo>
                      <a:pt x="8" y="388"/>
                    </a:lnTo>
                    <a:lnTo>
                      <a:pt x="11" y="370"/>
                    </a:lnTo>
                    <a:lnTo>
                      <a:pt x="14" y="352"/>
                    </a:lnTo>
                    <a:lnTo>
                      <a:pt x="19" y="335"/>
                    </a:lnTo>
                    <a:lnTo>
                      <a:pt x="24" y="319"/>
                    </a:lnTo>
                    <a:lnTo>
                      <a:pt x="31" y="304"/>
                    </a:lnTo>
                    <a:lnTo>
                      <a:pt x="37" y="290"/>
                    </a:lnTo>
                    <a:lnTo>
                      <a:pt x="45" y="279"/>
                    </a:lnTo>
                    <a:lnTo>
                      <a:pt x="60" y="264"/>
                    </a:lnTo>
                    <a:lnTo>
                      <a:pt x="76" y="250"/>
                    </a:lnTo>
                    <a:lnTo>
                      <a:pt x="94" y="237"/>
                    </a:lnTo>
                    <a:lnTo>
                      <a:pt x="114" y="225"/>
                    </a:lnTo>
                    <a:lnTo>
                      <a:pt x="134" y="213"/>
                    </a:lnTo>
                    <a:lnTo>
                      <a:pt x="154" y="202"/>
                    </a:lnTo>
                    <a:lnTo>
                      <a:pt x="174" y="193"/>
                    </a:lnTo>
                    <a:lnTo>
                      <a:pt x="195" y="184"/>
                    </a:lnTo>
                    <a:lnTo>
                      <a:pt x="233" y="169"/>
                    </a:lnTo>
                    <a:lnTo>
                      <a:pt x="265" y="155"/>
                    </a:lnTo>
                    <a:lnTo>
                      <a:pt x="278" y="149"/>
                    </a:lnTo>
                    <a:lnTo>
                      <a:pt x="289" y="143"/>
                    </a:lnTo>
                    <a:lnTo>
                      <a:pt x="297" y="139"/>
                    </a:lnTo>
                    <a:lnTo>
                      <a:pt x="302" y="133"/>
                    </a:lnTo>
                    <a:lnTo>
                      <a:pt x="309" y="123"/>
                    </a:lnTo>
                    <a:lnTo>
                      <a:pt x="319" y="112"/>
                    </a:lnTo>
                    <a:lnTo>
                      <a:pt x="331" y="100"/>
                    </a:lnTo>
                    <a:lnTo>
                      <a:pt x="343" y="87"/>
                    </a:lnTo>
                    <a:lnTo>
                      <a:pt x="354" y="73"/>
                    </a:lnTo>
                    <a:lnTo>
                      <a:pt x="364" y="59"/>
                    </a:lnTo>
                    <a:lnTo>
                      <a:pt x="374" y="46"/>
                    </a:lnTo>
                    <a:lnTo>
                      <a:pt x="381" y="32"/>
                    </a:lnTo>
                    <a:lnTo>
                      <a:pt x="386" y="23"/>
                    </a:lnTo>
                    <a:lnTo>
                      <a:pt x="391" y="15"/>
                    </a:lnTo>
                    <a:lnTo>
                      <a:pt x="398" y="10"/>
                    </a:lnTo>
                    <a:lnTo>
                      <a:pt x="404" y="6"/>
                    </a:lnTo>
                    <a:lnTo>
                      <a:pt x="411" y="2"/>
                    </a:lnTo>
                    <a:lnTo>
                      <a:pt x="418" y="1"/>
                    </a:lnTo>
                    <a:lnTo>
                      <a:pt x="426" y="0"/>
                    </a:lnTo>
                    <a:lnTo>
                      <a:pt x="434" y="0"/>
                    </a:lnTo>
                    <a:lnTo>
                      <a:pt x="441" y="1"/>
                    </a:lnTo>
                    <a:lnTo>
                      <a:pt x="449" y="5"/>
                    </a:lnTo>
                    <a:lnTo>
                      <a:pt x="456" y="9"/>
                    </a:lnTo>
                    <a:lnTo>
                      <a:pt x="463" y="14"/>
                    </a:lnTo>
                    <a:lnTo>
                      <a:pt x="469" y="21"/>
                    </a:lnTo>
                    <a:lnTo>
                      <a:pt x="474" y="26"/>
                    </a:lnTo>
                    <a:lnTo>
                      <a:pt x="478" y="31"/>
                    </a:lnTo>
                    <a:lnTo>
                      <a:pt x="480" y="35"/>
                    </a:lnTo>
                    <a:lnTo>
                      <a:pt x="482" y="39"/>
                    </a:lnTo>
                    <a:lnTo>
                      <a:pt x="485" y="47"/>
                    </a:lnTo>
                    <a:lnTo>
                      <a:pt x="492" y="55"/>
                    </a:lnTo>
                    <a:lnTo>
                      <a:pt x="501" y="64"/>
                    </a:lnTo>
                    <a:lnTo>
                      <a:pt x="506" y="68"/>
                    </a:lnTo>
                    <a:lnTo>
                      <a:pt x="511" y="73"/>
                    </a:lnTo>
                    <a:lnTo>
                      <a:pt x="518" y="76"/>
                    </a:lnTo>
                    <a:lnTo>
                      <a:pt x="525" y="80"/>
                    </a:lnTo>
                    <a:lnTo>
                      <a:pt x="533" y="83"/>
                    </a:lnTo>
                    <a:lnTo>
                      <a:pt x="542" y="86"/>
                    </a:lnTo>
                    <a:lnTo>
                      <a:pt x="551" y="88"/>
                    </a:lnTo>
                    <a:lnTo>
                      <a:pt x="562" y="89"/>
                    </a:lnTo>
                    <a:lnTo>
                      <a:pt x="570" y="91"/>
                    </a:lnTo>
                    <a:lnTo>
                      <a:pt x="578" y="93"/>
                    </a:lnTo>
                    <a:lnTo>
                      <a:pt x="588" y="96"/>
                    </a:lnTo>
                    <a:lnTo>
                      <a:pt x="597" y="101"/>
                    </a:lnTo>
                    <a:lnTo>
                      <a:pt x="606" y="105"/>
                    </a:lnTo>
                    <a:lnTo>
                      <a:pt x="615" y="110"/>
                    </a:lnTo>
                    <a:lnTo>
                      <a:pt x="624" y="115"/>
                    </a:lnTo>
                    <a:lnTo>
                      <a:pt x="631" y="119"/>
                    </a:lnTo>
                    <a:lnTo>
                      <a:pt x="633" y="121"/>
                    </a:lnTo>
                    <a:lnTo>
                      <a:pt x="636" y="127"/>
                    </a:lnTo>
                    <a:lnTo>
                      <a:pt x="636" y="132"/>
                    </a:lnTo>
                    <a:lnTo>
                      <a:pt x="636" y="139"/>
                    </a:lnTo>
                    <a:lnTo>
                      <a:pt x="633" y="154"/>
                    </a:lnTo>
                    <a:lnTo>
                      <a:pt x="630" y="170"/>
                    </a:lnTo>
                    <a:lnTo>
                      <a:pt x="625" y="186"/>
                    </a:lnTo>
                    <a:lnTo>
                      <a:pt x="620" y="200"/>
                    </a:lnTo>
                    <a:lnTo>
                      <a:pt x="617" y="209"/>
                    </a:lnTo>
                    <a:lnTo>
                      <a:pt x="616" y="213"/>
                    </a:lnTo>
                    <a:lnTo>
                      <a:pt x="58" y="536"/>
                    </a:lnTo>
                    <a:lnTo>
                      <a:pt x="0" y="494"/>
                    </a:lnTo>
                    <a:close/>
                  </a:path>
                </a:pathLst>
              </a:custGeom>
              <a:solidFill>
                <a:srgbClr val="e7a9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6065640" y="3095640"/>
                <a:ext cx="49320" cy="38160"/>
              </a:xfrm>
              <a:custGeom>
                <a:avLst/>
                <a:gdLst/>
                <a:ahLst/>
                <a:rect l="l" t="t" r="r" b="b"/>
                <a:pathLst>
                  <a:path w="156" h="121">
                    <a:moveTo>
                      <a:pt x="50" y="5"/>
                    </a:moveTo>
                    <a:lnTo>
                      <a:pt x="49" y="6"/>
                    </a:lnTo>
                    <a:lnTo>
                      <a:pt x="46" y="10"/>
                    </a:lnTo>
                    <a:lnTo>
                      <a:pt x="40" y="16"/>
                    </a:lnTo>
                    <a:lnTo>
                      <a:pt x="34" y="22"/>
                    </a:lnTo>
                    <a:lnTo>
                      <a:pt x="27" y="31"/>
                    </a:lnTo>
                    <a:lnTo>
                      <a:pt x="22" y="41"/>
                    </a:lnTo>
                    <a:lnTo>
                      <a:pt x="16" y="49"/>
                    </a:lnTo>
                    <a:lnTo>
                      <a:pt x="13" y="59"/>
                    </a:lnTo>
                    <a:lnTo>
                      <a:pt x="8" y="71"/>
                    </a:lnTo>
                    <a:lnTo>
                      <a:pt x="5" y="83"/>
                    </a:lnTo>
                    <a:lnTo>
                      <a:pt x="1" y="94"/>
                    </a:lnTo>
                    <a:lnTo>
                      <a:pt x="0" y="103"/>
                    </a:lnTo>
                    <a:lnTo>
                      <a:pt x="0" y="108"/>
                    </a:lnTo>
                    <a:lnTo>
                      <a:pt x="0" y="112"/>
                    </a:lnTo>
                    <a:lnTo>
                      <a:pt x="1" y="115"/>
                    </a:lnTo>
                    <a:lnTo>
                      <a:pt x="3" y="117"/>
                    </a:lnTo>
                    <a:lnTo>
                      <a:pt x="7" y="119"/>
                    </a:lnTo>
                    <a:lnTo>
                      <a:pt x="10" y="121"/>
                    </a:lnTo>
                    <a:lnTo>
                      <a:pt x="14" y="119"/>
                    </a:lnTo>
                    <a:lnTo>
                      <a:pt x="20" y="118"/>
                    </a:lnTo>
                    <a:lnTo>
                      <a:pt x="25" y="116"/>
                    </a:lnTo>
                    <a:lnTo>
                      <a:pt x="30" y="113"/>
                    </a:lnTo>
                    <a:lnTo>
                      <a:pt x="36" y="110"/>
                    </a:lnTo>
                    <a:lnTo>
                      <a:pt x="43" y="107"/>
                    </a:lnTo>
                    <a:lnTo>
                      <a:pt x="53" y="102"/>
                    </a:lnTo>
                    <a:lnTo>
                      <a:pt x="66" y="97"/>
                    </a:lnTo>
                    <a:lnTo>
                      <a:pt x="83" y="91"/>
                    </a:lnTo>
                    <a:lnTo>
                      <a:pt x="107" y="86"/>
                    </a:lnTo>
                    <a:lnTo>
                      <a:pt x="117" y="84"/>
                    </a:lnTo>
                    <a:lnTo>
                      <a:pt x="126" y="83"/>
                    </a:lnTo>
                    <a:lnTo>
                      <a:pt x="133" y="83"/>
                    </a:lnTo>
                    <a:lnTo>
                      <a:pt x="141" y="82"/>
                    </a:lnTo>
                    <a:lnTo>
                      <a:pt x="146" y="82"/>
                    </a:lnTo>
                    <a:lnTo>
                      <a:pt x="151" y="83"/>
                    </a:lnTo>
                    <a:lnTo>
                      <a:pt x="155" y="82"/>
                    </a:lnTo>
                    <a:lnTo>
                      <a:pt x="156" y="82"/>
                    </a:lnTo>
                    <a:lnTo>
                      <a:pt x="156" y="78"/>
                    </a:lnTo>
                    <a:lnTo>
                      <a:pt x="154" y="74"/>
                    </a:lnTo>
                    <a:lnTo>
                      <a:pt x="149" y="70"/>
                    </a:lnTo>
                    <a:lnTo>
                      <a:pt x="144" y="65"/>
                    </a:lnTo>
                    <a:lnTo>
                      <a:pt x="140" y="62"/>
                    </a:lnTo>
                    <a:lnTo>
                      <a:pt x="134" y="59"/>
                    </a:lnTo>
                    <a:lnTo>
                      <a:pt x="131" y="56"/>
                    </a:lnTo>
                    <a:lnTo>
                      <a:pt x="129" y="55"/>
                    </a:lnTo>
                    <a:lnTo>
                      <a:pt x="127" y="51"/>
                    </a:lnTo>
                    <a:lnTo>
                      <a:pt x="126" y="47"/>
                    </a:lnTo>
                    <a:lnTo>
                      <a:pt x="123" y="42"/>
                    </a:lnTo>
                    <a:lnTo>
                      <a:pt x="121" y="36"/>
                    </a:lnTo>
                    <a:lnTo>
                      <a:pt x="118" y="31"/>
                    </a:lnTo>
                    <a:lnTo>
                      <a:pt x="116" y="27"/>
                    </a:lnTo>
                    <a:lnTo>
                      <a:pt x="113" y="21"/>
                    </a:lnTo>
                    <a:lnTo>
                      <a:pt x="109" y="17"/>
                    </a:lnTo>
                    <a:lnTo>
                      <a:pt x="104" y="13"/>
                    </a:lnTo>
                    <a:lnTo>
                      <a:pt x="99" y="8"/>
                    </a:lnTo>
                    <a:lnTo>
                      <a:pt x="92" y="5"/>
                    </a:lnTo>
                    <a:lnTo>
                      <a:pt x="86" y="2"/>
                    </a:lnTo>
                    <a:lnTo>
                      <a:pt x="77" y="0"/>
                    </a:lnTo>
                    <a:lnTo>
                      <a:pt x="68" y="0"/>
                    </a:lnTo>
                    <a:lnTo>
                      <a:pt x="60" y="2"/>
                    </a:lnTo>
                    <a:lnTo>
                      <a:pt x="50" y="5"/>
                    </a:lnTo>
                    <a:close/>
                  </a:path>
                </a:pathLst>
              </a:custGeom>
              <a:solidFill>
                <a:srgbClr val="e7a9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6068880" y="3095640"/>
                <a:ext cx="42840" cy="34920"/>
              </a:xfrm>
              <a:custGeom>
                <a:avLst/>
                <a:gdLst/>
                <a:ahLst/>
                <a:rect l="l" t="t" r="r" b="b"/>
                <a:pathLst>
                  <a:path w="138" h="112">
                    <a:moveTo>
                      <a:pt x="20" y="110"/>
                    </a:moveTo>
                    <a:lnTo>
                      <a:pt x="15" y="111"/>
                    </a:lnTo>
                    <a:lnTo>
                      <a:pt x="11" y="112"/>
                    </a:lnTo>
                    <a:lnTo>
                      <a:pt x="8" y="111"/>
                    </a:lnTo>
                    <a:lnTo>
                      <a:pt x="4" y="110"/>
                    </a:lnTo>
                    <a:lnTo>
                      <a:pt x="2" y="108"/>
                    </a:lnTo>
                    <a:lnTo>
                      <a:pt x="1" y="104"/>
                    </a:lnTo>
                    <a:lnTo>
                      <a:pt x="1" y="101"/>
                    </a:lnTo>
                    <a:lnTo>
                      <a:pt x="0" y="97"/>
                    </a:lnTo>
                    <a:lnTo>
                      <a:pt x="1" y="88"/>
                    </a:lnTo>
                    <a:lnTo>
                      <a:pt x="3" y="79"/>
                    </a:lnTo>
                    <a:lnTo>
                      <a:pt x="6" y="68"/>
                    </a:lnTo>
                    <a:lnTo>
                      <a:pt x="10" y="58"/>
                    </a:lnTo>
                    <a:lnTo>
                      <a:pt x="14" y="49"/>
                    </a:lnTo>
                    <a:lnTo>
                      <a:pt x="18" y="41"/>
                    </a:lnTo>
                    <a:lnTo>
                      <a:pt x="23" y="32"/>
                    </a:lnTo>
                    <a:lnTo>
                      <a:pt x="28" y="25"/>
                    </a:lnTo>
                    <a:lnTo>
                      <a:pt x="33" y="17"/>
                    </a:lnTo>
                    <a:lnTo>
                      <a:pt x="39" y="12"/>
                    </a:lnTo>
                    <a:lnTo>
                      <a:pt x="42" y="6"/>
                    </a:lnTo>
                    <a:lnTo>
                      <a:pt x="44" y="4"/>
                    </a:lnTo>
                    <a:lnTo>
                      <a:pt x="50" y="2"/>
                    </a:lnTo>
                    <a:lnTo>
                      <a:pt x="54" y="1"/>
                    </a:lnTo>
                    <a:lnTo>
                      <a:pt x="59" y="0"/>
                    </a:lnTo>
                    <a:lnTo>
                      <a:pt x="64" y="0"/>
                    </a:lnTo>
                    <a:lnTo>
                      <a:pt x="71" y="1"/>
                    </a:lnTo>
                    <a:lnTo>
                      <a:pt x="79" y="4"/>
                    </a:lnTo>
                    <a:lnTo>
                      <a:pt x="85" y="7"/>
                    </a:lnTo>
                    <a:lnTo>
                      <a:pt x="91" y="12"/>
                    </a:lnTo>
                    <a:lnTo>
                      <a:pt x="95" y="16"/>
                    </a:lnTo>
                    <a:lnTo>
                      <a:pt x="99" y="19"/>
                    </a:lnTo>
                    <a:lnTo>
                      <a:pt x="103" y="22"/>
                    </a:lnTo>
                    <a:lnTo>
                      <a:pt x="106" y="27"/>
                    </a:lnTo>
                    <a:lnTo>
                      <a:pt x="108" y="32"/>
                    </a:lnTo>
                    <a:lnTo>
                      <a:pt x="111" y="36"/>
                    </a:lnTo>
                    <a:lnTo>
                      <a:pt x="113" y="42"/>
                    </a:lnTo>
                    <a:lnTo>
                      <a:pt x="116" y="46"/>
                    </a:lnTo>
                    <a:lnTo>
                      <a:pt x="117" y="50"/>
                    </a:lnTo>
                    <a:lnTo>
                      <a:pt x="119" y="54"/>
                    </a:lnTo>
                    <a:lnTo>
                      <a:pt x="120" y="56"/>
                    </a:lnTo>
                    <a:lnTo>
                      <a:pt x="122" y="58"/>
                    </a:lnTo>
                    <a:lnTo>
                      <a:pt x="126" y="62"/>
                    </a:lnTo>
                    <a:lnTo>
                      <a:pt x="130" y="66"/>
                    </a:lnTo>
                    <a:lnTo>
                      <a:pt x="134" y="69"/>
                    </a:lnTo>
                    <a:lnTo>
                      <a:pt x="137" y="73"/>
                    </a:lnTo>
                    <a:lnTo>
                      <a:pt x="138" y="75"/>
                    </a:lnTo>
                    <a:lnTo>
                      <a:pt x="138" y="79"/>
                    </a:lnTo>
                    <a:lnTo>
                      <a:pt x="137" y="80"/>
                    </a:lnTo>
                    <a:lnTo>
                      <a:pt x="134" y="81"/>
                    </a:lnTo>
                    <a:lnTo>
                      <a:pt x="131" y="81"/>
                    </a:lnTo>
                    <a:lnTo>
                      <a:pt x="125" y="81"/>
                    </a:lnTo>
                    <a:lnTo>
                      <a:pt x="119" y="81"/>
                    </a:lnTo>
                    <a:lnTo>
                      <a:pt x="112" y="81"/>
                    </a:lnTo>
                    <a:lnTo>
                      <a:pt x="105" y="82"/>
                    </a:lnTo>
                    <a:lnTo>
                      <a:pt x="97" y="83"/>
                    </a:lnTo>
                    <a:lnTo>
                      <a:pt x="78" y="88"/>
                    </a:lnTo>
                    <a:lnTo>
                      <a:pt x="63" y="93"/>
                    </a:lnTo>
                    <a:lnTo>
                      <a:pt x="51" y="97"/>
                    </a:lnTo>
                    <a:lnTo>
                      <a:pt x="42" y="100"/>
                    </a:lnTo>
                    <a:lnTo>
                      <a:pt x="35" y="103"/>
                    </a:lnTo>
                    <a:lnTo>
                      <a:pt x="29" y="106"/>
                    </a:lnTo>
                    <a:lnTo>
                      <a:pt x="25" y="108"/>
                    </a:lnTo>
                    <a:lnTo>
                      <a:pt x="20" y="110"/>
                    </a:lnTo>
                    <a:close/>
                  </a:path>
                </a:pathLst>
              </a:custGeom>
              <a:solidFill>
                <a:srgbClr val="d89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6072120" y="3095640"/>
                <a:ext cx="38160" cy="33480"/>
              </a:xfrm>
              <a:custGeom>
                <a:avLst/>
                <a:gdLst/>
                <a:ahLst/>
                <a:rect l="l" t="t" r="r" b="b"/>
                <a:pathLst>
                  <a:path w="122" h="101">
                    <a:moveTo>
                      <a:pt x="17" y="100"/>
                    </a:moveTo>
                    <a:lnTo>
                      <a:pt x="13" y="101"/>
                    </a:lnTo>
                    <a:lnTo>
                      <a:pt x="9" y="101"/>
                    </a:lnTo>
                    <a:lnTo>
                      <a:pt x="6" y="101"/>
                    </a:lnTo>
                    <a:lnTo>
                      <a:pt x="4" y="100"/>
                    </a:lnTo>
                    <a:lnTo>
                      <a:pt x="2" y="98"/>
                    </a:lnTo>
                    <a:lnTo>
                      <a:pt x="1" y="96"/>
                    </a:lnTo>
                    <a:lnTo>
                      <a:pt x="0" y="93"/>
                    </a:lnTo>
                    <a:lnTo>
                      <a:pt x="0" y="89"/>
                    </a:lnTo>
                    <a:lnTo>
                      <a:pt x="0" y="82"/>
                    </a:lnTo>
                    <a:lnTo>
                      <a:pt x="2" y="72"/>
                    </a:lnTo>
                    <a:lnTo>
                      <a:pt x="4" y="64"/>
                    </a:lnTo>
                    <a:lnTo>
                      <a:pt x="7" y="54"/>
                    </a:lnTo>
                    <a:lnTo>
                      <a:pt x="10" y="47"/>
                    </a:lnTo>
                    <a:lnTo>
                      <a:pt x="15" y="40"/>
                    </a:lnTo>
                    <a:lnTo>
                      <a:pt x="18" y="31"/>
                    </a:lnTo>
                    <a:lnTo>
                      <a:pt x="22" y="24"/>
                    </a:lnTo>
                    <a:lnTo>
                      <a:pt x="27" y="17"/>
                    </a:lnTo>
                    <a:lnTo>
                      <a:pt x="32" y="11"/>
                    </a:lnTo>
                    <a:lnTo>
                      <a:pt x="35" y="5"/>
                    </a:lnTo>
                    <a:lnTo>
                      <a:pt x="40" y="2"/>
                    </a:lnTo>
                    <a:lnTo>
                      <a:pt x="44" y="0"/>
                    </a:lnTo>
                    <a:lnTo>
                      <a:pt x="48" y="0"/>
                    </a:lnTo>
                    <a:lnTo>
                      <a:pt x="53" y="0"/>
                    </a:lnTo>
                    <a:lnTo>
                      <a:pt x="57" y="0"/>
                    </a:lnTo>
                    <a:lnTo>
                      <a:pt x="64" y="2"/>
                    </a:lnTo>
                    <a:lnTo>
                      <a:pt x="72" y="5"/>
                    </a:lnTo>
                    <a:lnTo>
                      <a:pt x="77" y="10"/>
                    </a:lnTo>
                    <a:lnTo>
                      <a:pt x="83" y="14"/>
                    </a:lnTo>
                    <a:lnTo>
                      <a:pt x="86" y="18"/>
                    </a:lnTo>
                    <a:lnTo>
                      <a:pt x="89" y="21"/>
                    </a:lnTo>
                    <a:lnTo>
                      <a:pt x="93" y="26"/>
                    </a:lnTo>
                    <a:lnTo>
                      <a:pt x="96" y="30"/>
                    </a:lnTo>
                    <a:lnTo>
                      <a:pt x="98" y="34"/>
                    </a:lnTo>
                    <a:lnTo>
                      <a:pt x="101" y="39"/>
                    </a:lnTo>
                    <a:lnTo>
                      <a:pt x="103" y="43"/>
                    </a:lnTo>
                    <a:lnTo>
                      <a:pt x="106" y="47"/>
                    </a:lnTo>
                    <a:lnTo>
                      <a:pt x="107" y="51"/>
                    </a:lnTo>
                    <a:lnTo>
                      <a:pt x="109" y="54"/>
                    </a:lnTo>
                    <a:lnTo>
                      <a:pt x="110" y="55"/>
                    </a:lnTo>
                    <a:lnTo>
                      <a:pt x="111" y="57"/>
                    </a:lnTo>
                    <a:lnTo>
                      <a:pt x="113" y="60"/>
                    </a:lnTo>
                    <a:lnTo>
                      <a:pt x="116" y="62"/>
                    </a:lnTo>
                    <a:lnTo>
                      <a:pt x="118" y="66"/>
                    </a:lnTo>
                    <a:lnTo>
                      <a:pt x="121" y="69"/>
                    </a:lnTo>
                    <a:lnTo>
                      <a:pt x="122" y="71"/>
                    </a:lnTo>
                    <a:lnTo>
                      <a:pt x="122" y="73"/>
                    </a:lnTo>
                    <a:lnTo>
                      <a:pt x="120" y="75"/>
                    </a:lnTo>
                    <a:lnTo>
                      <a:pt x="117" y="75"/>
                    </a:lnTo>
                    <a:lnTo>
                      <a:pt x="114" y="77"/>
                    </a:lnTo>
                    <a:lnTo>
                      <a:pt x="110" y="77"/>
                    </a:lnTo>
                    <a:lnTo>
                      <a:pt x="104" y="77"/>
                    </a:lnTo>
                    <a:lnTo>
                      <a:pt x="99" y="78"/>
                    </a:lnTo>
                    <a:lnTo>
                      <a:pt x="93" y="79"/>
                    </a:lnTo>
                    <a:lnTo>
                      <a:pt x="87" y="81"/>
                    </a:lnTo>
                    <a:lnTo>
                      <a:pt x="71" y="85"/>
                    </a:lnTo>
                    <a:lnTo>
                      <a:pt x="59" y="88"/>
                    </a:lnTo>
                    <a:lnTo>
                      <a:pt x="48" y="92"/>
                    </a:lnTo>
                    <a:lnTo>
                      <a:pt x="40" y="94"/>
                    </a:lnTo>
                    <a:lnTo>
                      <a:pt x="33" y="96"/>
                    </a:lnTo>
                    <a:lnTo>
                      <a:pt x="28" y="97"/>
                    </a:lnTo>
                    <a:lnTo>
                      <a:pt x="22" y="99"/>
                    </a:lnTo>
                    <a:lnTo>
                      <a:pt x="17" y="100"/>
                    </a:lnTo>
                    <a:close/>
                  </a:path>
                </a:pathLst>
              </a:custGeom>
              <a:solidFill>
                <a:srgbClr val="c894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6075360" y="3095640"/>
                <a:ext cx="33480" cy="30240"/>
              </a:xfrm>
              <a:custGeom>
                <a:avLst/>
                <a:gdLst/>
                <a:ahLst/>
                <a:rect l="l" t="t" r="r" b="b"/>
                <a:pathLst>
                  <a:path w="104" h="95">
                    <a:moveTo>
                      <a:pt x="15" y="94"/>
                    </a:moveTo>
                    <a:lnTo>
                      <a:pt x="11" y="94"/>
                    </a:lnTo>
                    <a:lnTo>
                      <a:pt x="9" y="95"/>
                    </a:lnTo>
                    <a:lnTo>
                      <a:pt x="7" y="94"/>
                    </a:lnTo>
                    <a:lnTo>
                      <a:pt x="5" y="93"/>
                    </a:lnTo>
                    <a:lnTo>
                      <a:pt x="3" y="89"/>
                    </a:lnTo>
                    <a:lnTo>
                      <a:pt x="0" y="84"/>
                    </a:lnTo>
                    <a:lnTo>
                      <a:pt x="0" y="77"/>
                    </a:lnTo>
                    <a:lnTo>
                      <a:pt x="0" y="69"/>
                    </a:lnTo>
                    <a:lnTo>
                      <a:pt x="3" y="61"/>
                    </a:lnTo>
                    <a:lnTo>
                      <a:pt x="5" y="54"/>
                    </a:lnTo>
                    <a:lnTo>
                      <a:pt x="8" y="47"/>
                    </a:lnTo>
                    <a:lnTo>
                      <a:pt x="10" y="41"/>
                    </a:lnTo>
                    <a:lnTo>
                      <a:pt x="13" y="33"/>
                    </a:lnTo>
                    <a:lnTo>
                      <a:pt x="17" y="26"/>
                    </a:lnTo>
                    <a:lnTo>
                      <a:pt x="21" y="18"/>
                    </a:lnTo>
                    <a:lnTo>
                      <a:pt x="25" y="12"/>
                    </a:lnTo>
                    <a:lnTo>
                      <a:pt x="30" y="6"/>
                    </a:lnTo>
                    <a:lnTo>
                      <a:pt x="35" y="2"/>
                    </a:lnTo>
                    <a:lnTo>
                      <a:pt x="38" y="1"/>
                    </a:lnTo>
                    <a:lnTo>
                      <a:pt x="43" y="0"/>
                    </a:lnTo>
                    <a:lnTo>
                      <a:pt x="47" y="0"/>
                    </a:lnTo>
                    <a:lnTo>
                      <a:pt x="50" y="1"/>
                    </a:lnTo>
                    <a:lnTo>
                      <a:pt x="58" y="3"/>
                    </a:lnTo>
                    <a:lnTo>
                      <a:pt x="64" y="7"/>
                    </a:lnTo>
                    <a:lnTo>
                      <a:pt x="70" y="13"/>
                    </a:lnTo>
                    <a:lnTo>
                      <a:pt x="74" y="17"/>
                    </a:lnTo>
                    <a:lnTo>
                      <a:pt x="77" y="21"/>
                    </a:lnTo>
                    <a:lnTo>
                      <a:pt x="79" y="24"/>
                    </a:lnTo>
                    <a:lnTo>
                      <a:pt x="81" y="28"/>
                    </a:lnTo>
                    <a:lnTo>
                      <a:pt x="85" y="32"/>
                    </a:lnTo>
                    <a:lnTo>
                      <a:pt x="87" y="35"/>
                    </a:lnTo>
                    <a:lnTo>
                      <a:pt x="90" y="40"/>
                    </a:lnTo>
                    <a:lnTo>
                      <a:pt x="92" y="44"/>
                    </a:lnTo>
                    <a:lnTo>
                      <a:pt x="94" y="48"/>
                    </a:lnTo>
                    <a:lnTo>
                      <a:pt x="97" y="53"/>
                    </a:lnTo>
                    <a:lnTo>
                      <a:pt x="99" y="56"/>
                    </a:lnTo>
                    <a:lnTo>
                      <a:pt x="99" y="57"/>
                    </a:lnTo>
                    <a:lnTo>
                      <a:pt x="100" y="59"/>
                    </a:lnTo>
                    <a:lnTo>
                      <a:pt x="101" y="61"/>
                    </a:lnTo>
                    <a:lnTo>
                      <a:pt x="102" y="64"/>
                    </a:lnTo>
                    <a:lnTo>
                      <a:pt x="103" y="66"/>
                    </a:lnTo>
                    <a:lnTo>
                      <a:pt x="104" y="68"/>
                    </a:lnTo>
                    <a:lnTo>
                      <a:pt x="104" y="70"/>
                    </a:lnTo>
                    <a:lnTo>
                      <a:pt x="104" y="71"/>
                    </a:lnTo>
                    <a:lnTo>
                      <a:pt x="102" y="72"/>
                    </a:lnTo>
                    <a:lnTo>
                      <a:pt x="100" y="73"/>
                    </a:lnTo>
                    <a:lnTo>
                      <a:pt x="97" y="74"/>
                    </a:lnTo>
                    <a:lnTo>
                      <a:pt x="93" y="74"/>
                    </a:lnTo>
                    <a:lnTo>
                      <a:pt x="89" y="75"/>
                    </a:lnTo>
                    <a:lnTo>
                      <a:pt x="85" y="75"/>
                    </a:lnTo>
                    <a:lnTo>
                      <a:pt x="80" y="77"/>
                    </a:lnTo>
                    <a:lnTo>
                      <a:pt x="77" y="79"/>
                    </a:lnTo>
                    <a:lnTo>
                      <a:pt x="64" y="83"/>
                    </a:lnTo>
                    <a:lnTo>
                      <a:pt x="54" y="86"/>
                    </a:lnTo>
                    <a:lnTo>
                      <a:pt x="45" y="87"/>
                    </a:lnTo>
                    <a:lnTo>
                      <a:pt x="37" y="88"/>
                    </a:lnTo>
                    <a:lnTo>
                      <a:pt x="31" y="89"/>
                    </a:lnTo>
                    <a:lnTo>
                      <a:pt x="25" y="89"/>
                    </a:lnTo>
                    <a:lnTo>
                      <a:pt x="20" y="92"/>
                    </a:lnTo>
                    <a:lnTo>
                      <a:pt x="15" y="94"/>
                    </a:lnTo>
                    <a:close/>
                  </a:path>
                </a:pathLst>
              </a:custGeom>
              <a:solidFill>
                <a:srgbClr val="bd8b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6078600" y="3095640"/>
                <a:ext cx="28440" cy="28800"/>
              </a:xfrm>
              <a:custGeom>
                <a:avLst/>
                <a:gdLst/>
                <a:ahLst/>
                <a:rect l="l" t="t" r="r" b="b"/>
                <a:pathLst>
                  <a:path w="89" h="86">
                    <a:moveTo>
                      <a:pt x="5" y="54"/>
                    </a:moveTo>
                    <a:lnTo>
                      <a:pt x="2" y="59"/>
                    </a:lnTo>
                    <a:lnTo>
                      <a:pt x="1" y="66"/>
                    </a:lnTo>
                    <a:lnTo>
                      <a:pt x="0" y="72"/>
                    </a:lnTo>
                    <a:lnTo>
                      <a:pt x="1" y="78"/>
                    </a:lnTo>
                    <a:lnTo>
                      <a:pt x="2" y="82"/>
                    </a:lnTo>
                    <a:lnTo>
                      <a:pt x="5" y="85"/>
                    </a:lnTo>
                    <a:lnTo>
                      <a:pt x="7" y="86"/>
                    </a:lnTo>
                    <a:lnTo>
                      <a:pt x="8" y="86"/>
                    </a:lnTo>
                    <a:lnTo>
                      <a:pt x="10" y="86"/>
                    </a:lnTo>
                    <a:lnTo>
                      <a:pt x="12" y="86"/>
                    </a:lnTo>
                    <a:lnTo>
                      <a:pt x="17" y="84"/>
                    </a:lnTo>
                    <a:lnTo>
                      <a:pt x="23" y="83"/>
                    </a:lnTo>
                    <a:lnTo>
                      <a:pt x="29" y="83"/>
                    </a:lnTo>
                    <a:lnTo>
                      <a:pt x="36" y="84"/>
                    </a:lnTo>
                    <a:lnTo>
                      <a:pt x="42" y="84"/>
                    </a:lnTo>
                    <a:lnTo>
                      <a:pt x="50" y="83"/>
                    </a:lnTo>
                    <a:lnTo>
                      <a:pt x="56" y="81"/>
                    </a:lnTo>
                    <a:lnTo>
                      <a:pt x="64" y="77"/>
                    </a:lnTo>
                    <a:lnTo>
                      <a:pt x="67" y="75"/>
                    </a:lnTo>
                    <a:lnTo>
                      <a:pt x="70" y="74"/>
                    </a:lnTo>
                    <a:lnTo>
                      <a:pt x="74" y="74"/>
                    </a:lnTo>
                    <a:lnTo>
                      <a:pt x="77" y="73"/>
                    </a:lnTo>
                    <a:lnTo>
                      <a:pt x="80" y="73"/>
                    </a:lnTo>
                    <a:lnTo>
                      <a:pt x="83" y="72"/>
                    </a:lnTo>
                    <a:lnTo>
                      <a:pt x="86" y="72"/>
                    </a:lnTo>
                    <a:lnTo>
                      <a:pt x="87" y="71"/>
                    </a:lnTo>
                    <a:lnTo>
                      <a:pt x="88" y="69"/>
                    </a:lnTo>
                    <a:lnTo>
                      <a:pt x="88" y="68"/>
                    </a:lnTo>
                    <a:lnTo>
                      <a:pt x="89" y="66"/>
                    </a:lnTo>
                    <a:lnTo>
                      <a:pt x="89" y="64"/>
                    </a:lnTo>
                    <a:lnTo>
                      <a:pt x="89" y="62"/>
                    </a:lnTo>
                    <a:lnTo>
                      <a:pt x="89" y="61"/>
                    </a:lnTo>
                    <a:lnTo>
                      <a:pt x="89" y="59"/>
                    </a:lnTo>
                    <a:lnTo>
                      <a:pt x="89" y="58"/>
                    </a:lnTo>
                    <a:lnTo>
                      <a:pt x="87" y="54"/>
                    </a:lnTo>
                    <a:lnTo>
                      <a:pt x="84" y="50"/>
                    </a:lnTo>
                    <a:lnTo>
                      <a:pt x="82" y="45"/>
                    </a:lnTo>
                    <a:lnTo>
                      <a:pt x="80" y="42"/>
                    </a:lnTo>
                    <a:lnTo>
                      <a:pt x="77" y="38"/>
                    </a:lnTo>
                    <a:lnTo>
                      <a:pt x="75" y="34"/>
                    </a:lnTo>
                    <a:lnTo>
                      <a:pt x="71" y="30"/>
                    </a:lnTo>
                    <a:lnTo>
                      <a:pt x="69" y="27"/>
                    </a:lnTo>
                    <a:lnTo>
                      <a:pt x="68" y="25"/>
                    </a:lnTo>
                    <a:lnTo>
                      <a:pt x="66" y="21"/>
                    </a:lnTo>
                    <a:lnTo>
                      <a:pt x="62" y="16"/>
                    </a:lnTo>
                    <a:lnTo>
                      <a:pt x="56" y="11"/>
                    </a:lnTo>
                    <a:lnTo>
                      <a:pt x="51" y="5"/>
                    </a:lnTo>
                    <a:lnTo>
                      <a:pt x="44" y="2"/>
                    </a:lnTo>
                    <a:lnTo>
                      <a:pt x="40" y="1"/>
                    </a:lnTo>
                    <a:lnTo>
                      <a:pt x="37" y="0"/>
                    </a:lnTo>
                    <a:lnTo>
                      <a:pt x="34" y="1"/>
                    </a:lnTo>
                    <a:lnTo>
                      <a:pt x="29" y="2"/>
                    </a:lnTo>
                    <a:lnTo>
                      <a:pt x="23" y="7"/>
                    </a:lnTo>
                    <a:lnTo>
                      <a:pt x="19" y="14"/>
                    </a:lnTo>
                    <a:lnTo>
                      <a:pt x="14" y="20"/>
                    </a:lnTo>
                    <a:lnTo>
                      <a:pt x="12" y="28"/>
                    </a:lnTo>
                    <a:lnTo>
                      <a:pt x="10" y="35"/>
                    </a:lnTo>
                    <a:lnTo>
                      <a:pt x="8" y="42"/>
                    </a:lnTo>
                    <a:lnTo>
                      <a:pt x="7" y="48"/>
                    </a:lnTo>
                    <a:lnTo>
                      <a:pt x="5" y="54"/>
                    </a:lnTo>
                    <a:close/>
                  </a:path>
                </a:pathLst>
              </a:custGeom>
              <a:solidFill>
                <a:srgbClr val="b182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6080040" y="3103560"/>
                <a:ext cx="9720" cy="15840"/>
              </a:xfrm>
              <a:custGeom>
                <a:avLst/>
                <a:gdLst/>
                <a:ahLst/>
                <a:rect l="l" t="t" r="r" b="b"/>
                <a:pathLst>
                  <a:path w="28" h="53">
                    <a:moveTo>
                      <a:pt x="17" y="3"/>
                    </a:moveTo>
                    <a:lnTo>
                      <a:pt x="17" y="3"/>
                    </a:lnTo>
                    <a:lnTo>
                      <a:pt x="17" y="3"/>
                    </a:lnTo>
                    <a:lnTo>
                      <a:pt x="18" y="2"/>
                    </a:lnTo>
                    <a:lnTo>
                      <a:pt x="19" y="2"/>
                    </a:lnTo>
                    <a:lnTo>
                      <a:pt x="20" y="0"/>
                    </a:lnTo>
                    <a:lnTo>
                      <a:pt x="21" y="2"/>
                    </a:lnTo>
                    <a:lnTo>
                      <a:pt x="24" y="2"/>
                    </a:lnTo>
                    <a:lnTo>
                      <a:pt x="25" y="3"/>
                    </a:lnTo>
                    <a:lnTo>
                      <a:pt x="25" y="5"/>
                    </a:lnTo>
                    <a:lnTo>
                      <a:pt x="26" y="6"/>
                    </a:lnTo>
                    <a:lnTo>
                      <a:pt x="26" y="9"/>
                    </a:lnTo>
                    <a:lnTo>
                      <a:pt x="27" y="11"/>
                    </a:lnTo>
                    <a:lnTo>
                      <a:pt x="27" y="14"/>
                    </a:lnTo>
                    <a:lnTo>
                      <a:pt x="27" y="18"/>
                    </a:lnTo>
                    <a:lnTo>
                      <a:pt x="27" y="22"/>
                    </a:lnTo>
                    <a:lnTo>
                      <a:pt x="27" y="25"/>
                    </a:lnTo>
                    <a:lnTo>
                      <a:pt x="27" y="30"/>
                    </a:lnTo>
                    <a:lnTo>
                      <a:pt x="28" y="33"/>
                    </a:lnTo>
                    <a:lnTo>
                      <a:pt x="28" y="37"/>
                    </a:lnTo>
                    <a:lnTo>
                      <a:pt x="27" y="40"/>
                    </a:lnTo>
                    <a:lnTo>
                      <a:pt x="26" y="44"/>
                    </a:lnTo>
                    <a:lnTo>
                      <a:pt x="25" y="46"/>
                    </a:lnTo>
                    <a:lnTo>
                      <a:pt x="24" y="47"/>
                    </a:lnTo>
                    <a:lnTo>
                      <a:pt x="21" y="48"/>
                    </a:lnTo>
                    <a:lnTo>
                      <a:pt x="20" y="49"/>
                    </a:lnTo>
                    <a:lnTo>
                      <a:pt x="18" y="50"/>
                    </a:lnTo>
                    <a:lnTo>
                      <a:pt x="15" y="51"/>
                    </a:lnTo>
                    <a:lnTo>
                      <a:pt x="12" y="52"/>
                    </a:lnTo>
                    <a:lnTo>
                      <a:pt x="8" y="53"/>
                    </a:lnTo>
                    <a:lnTo>
                      <a:pt x="5" y="53"/>
                    </a:lnTo>
                    <a:lnTo>
                      <a:pt x="3" y="52"/>
                    </a:lnTo>
                    <a:lnTo>
                      <a:pt x="2" y="50"/>
                    </a:lnTo>
                    <a:lnTo>
                      <a:pt x="1" y="47"/>
                    </a:lnTo>
                    <a:lnTo>
                      <a:pt x="0" y="44"/>
                    </a:lnTo>
                    <a:lnTo>
                      <a:pt x="1" y="40"/>
                    </a:lnTo>
                    <a:lnTo>
                      <a:pt x="1" y="38"/>
                    </a:lnTo>
                    <a:lnTo>
                      <a:pt x="2" y="37"/>
                    </a:lnTo>
                    <a:lnTo>
                      <a:pt x="3" y="35"/>
                    </a:lnTo>
                    <a:lnTo>
                      <a:pt x="4" y="34"/>
                    </a:lnTo>
                    <a:lnTo>
                      <a:pt x="4" y="33"/>
                    </a:lnTo>
                    <a:lnTo>
                      <a:pt x="4" y="31"/>
                    </a:lnTo>
                    <a:lnTo>
                      <a:pt x="5" y="29"/>
                    </a:lnTo>
                    <a:lnTo>
                      <a:pt x="6" y="25"/>
                    </a:lnTo>
                    <a:lnTo>
                      <a:pt x="6" y="23"/>
                    </a:lnTo>
                    <a:lnTo>
                      <a:pt x="7" y="20"/>
                    </a:lnTo>
                    <a:lnTo>
                      <a:pt x="8" y="18"/>
                    </a:lnTo>
                    <a:lnTo>
                      <a:pt x="9" y="16"/>
                    </a:lnTo>
                    <a:lnTo>
                      <a:pt x="9" y="13"/>
                    </a:lnTo>
                    <a:lnTo>
                      <a:pt x="11" y="11"/>
                    </a:lnTo>
                    <a:lnTo>
                      <a:pt x="12" y="9"/>
                    </a:lnTo>
                    <a:lnTo>
                      <a:pt x="13" y="8"/>
                    </a:lnTo>
                    <a:lnTo>
                      <a:pt x="14" y="6"/>
                    </a:lnTo>
                    <a:lnTo>
                      <a:pt x="15" y="5"/>
                    </a:lnTo>
                    <a:lnTo>
                      <a:pt x="16" y="4"/>
                    </a:lnTo>
                    <a:lnTo>
                      <a:pt x="16" y="4"/>
                    </a:lnTo>
                    <a:lnTo>
                      <a:pt x="17" y="3"/>
                    </a:lnTo>
                    <a:close/>
                  </a:path>
                </a:pathLst>
              </a:custGeom>
              <a:solidFill>
                <a:srgbClr val="805f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6095880" y="3133800"/>
                <a:ext cx="49320" cy="30240"/>
              </a:xfrm>
              <a:custGeom>
                <a:avLst/>
                <a:gdLst/>
                <a:ahLst/>
                <a:rect l="l" t="t" r="r" b="b"/>
                <a:pathLst>
                  <a:path w="157" h="92">
                    <a:moveTo>
                      <a:pt x="117" y="1"/>
                    </a:moveTo>
                    <a:lnTo>
                      <a:pt x="115" y="1"/>
                    </a:lnTo>
                    <a:lnTo>
                      <a:pt x="108" y="1"/>
                    </a:lnTo>
                    <a:lnTo>
                      <a:pt x="100" y="2"/>
                    </a:lnTo>
                    <a:lnTo>
                      <a:pt x="88" y="3"/>
                    </a:lnTo>
                    <a:lnTo>
                      <a:pt x="76" y="5"/>
                    </a:lnTo>
                    <a:lnTo>
                      <a:pt x="62" y="8"/>
                    </a:lnTo>
                    <a:lnTo>
                      <a:pt x="49" y="14"/>
                    </a:lnTo>
                    <a:lnTo>
                      <a:pt x="37" y="20"/>
                    </a:lnTo>
                    <a:lnTo>
                      <a:pt x="27" y="29"/>
                    </a:lnTo>
                    <a:lnTo>
                      <a:pt x="17" y="38"/>
                    </a:lnTo>
                    <a:lnTo>
                      <a:pt x="10" y="48"/>
                    </a:lnTo>
                    <a:lnTo>
                      <a:pt x="3" y="58"/>
                    </a:lnTo>
                    <a:lnTo>
                      <a:pt x="1" y="63"/>
                    </a:lnTo>
                    <a:lnTo>
                      <a:pt x="0" y="68"/>
                    </a:lnTo>
                    <a:lnTo>
                      <a:pt x="0" y="72"/>
                    </a:lnTo>
                    <a:lnTo>
                      <a:pt x="0" y="76"/>
                    </a:lnTo>
                    <a:lnTo>
                      <a:pt x="1" y="80"/>
                    </a:lnTo>
                    <a:lnTo>
                      <a:pt x="5" y="83"/>
                    </a:lnTo>
                    <a:lnTo>
                      <a:pt x="8" y="85"/>
                    </a:lnTo>
                    <a:lnTo>
                      <a:pt x="13" y="87"/>
                    </a:lnTo>
                    <a:lnTo>
                      <a:pt x="24" y="89"/>
                    </a:lnTo>
                    <a:lnTo>
                      <a:pt x="35" y="90"/>
                    </a:lnTo>
                    <a:lnTo>
                      <a:pt x="46" y="92"/>
                    </a:lnTo>
                    <a:lnTo>
                      <a:pt x="55" y="92"/>
                    </a:lnTo>
                    <a:lnTo>
                      <a:pt x="66" y="90"/>
                    </a:lnTo>
                    <a:lnTo>
                      <a:pt x="76" y="88"/>
                    </a:lnTo>
                    <a:lnTo>
                      <a:pt x="87" y="85"/>
                    </a:lnTo>
                    <a:lnTo>
                      <a:pt x="96" y="82"/>
                    </a:lnTo>
                    <a:lnTo>
                      <a:pt x="105" y="79"/>
                    </a:lnTo>
                    <a:lnTo>
                      <a:pt x="113" y="75"/>
                    </a:lnTo>
                    <a:lnTo>
                      <a:pt x="119" y="73"/>
                    </a:lnTo>
                    <a:lnTo>
                      <a:pt x="124" y="70"/>
                    </a:lnTo>
                    <a:lnTo>
                      <a:pt x="129" y="68"/>
                    </a:lnTo>
                    <a:lnTo>
                      <a:pt x="133" y="66"/>
                    </a:lnTo>
                    <a:lnTo>
                      <a:pt x="138" y="65"/>
                    </a:lnTo>
                    <a:lnTo>
                      <a:pt x="144" y="62"/>
                    </a:lnTo>
                    <a:lnTo>
                      <a:pt x="147" y="60"/>
                    </a:lnTo>
                    <a:lnTo>
                      <a:pt x="149" y="58"/>
                    </a:lnTo>
                    <a:lnTo>
                      <a:pt x="153" y="54"/>
                    </a:lnTo>
                    <a:lnTo>
                      <a:pt x="154" y="49"/>
                    </a:lnTo>
                    <a:lnTo>
                      <a:pt x="156" y="44"/>
                    </a:lnTo>
                    <a:lnTo>
                      <a:pt x="157" y="38"/>
                    </a:lnTo>
                    <a:lnTo>
                      <a:pt x="157" y="32"/>
                    </a:lnTo>
                    <a:lnTo>
                      <a:pt x="156" y="26"/>
                    </a:lnTo>
                    <a:lnTo>
                      <a:pt x="155" y="20"/>
                    </a:lnTo>
                    <a:lnTo>
                      <a:pt x="153" y="15"/>
                    </a:lnTo>
                    <a:lnTo>
                      <a:pt x="149" y="9"/>
                    </a:lnTo>
                    <a:lnTo>
                      <a:pt x="145" y="5"/>
                    </a:lnTo>
                    <a:lnTo>
                      <a:pt x="140" y="2"/>
                    </a:lnTo>
                    <a:lnTo>
                      <a:pt x="133" y="0"/>
                    </a:lnTo>
                    <a:lnTo>
                      <a:pt x="126" y="0"/>
                    </a:lnTo>
                    <a:lnTo>
                      <a:pt x="117" y="1"/>
                    </a:lnTo>
                    <a:close/>
                  </a:path>
                </a:pathLst>
              </a:custGeom>
              <a:solidFill>
                <a:srgbClr val="e7a9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6099120" y="3135240"/>
                <a:ext cx="44640" cy="25560"/>
              </a:xfrm>
              <a:custGeom>
                <a:avLst/>
                <a:gdLst/>
                <a:ahLst/>
                <a:rect l="l" t="t" r="r" b="b"/>
                <a:pathLst>
                  <a:path w="136" h="81">
                    <a:moveTo>
                      <a:pt x="34" y="18"/>
                    </a:moveTo>
                    <a:lnTo>
                      <a:pt x="43" y="13"/>
                    </a:lnTo>
                    <a:lnTo>
                      <a:pt x="55" y="9"/>
                    </a:lnTo>
                    <a:lnTo>
                      <a:pt x="67" y="5"/>
                    </a:lnTo>
                    <a:lnTo>
                      <a:pt x="78" y="3"/>
                    </a:lnTo>
                    <a:lnTo>
                      <a:pt x="89" y="2"/>
                    </a:lnTo>
                    <a:lnTo>
                      <a:pt x="97" y="1"/>
                    </a:lnTo>
                    <a:lnTo>
                      <a:pt x="103" y="1"/>
                    </a:lnTo>
                    <a:lnTo>
                      <a:pt x="105" y="1"/>
                    </a:lnTo>
                    <a:lnTo>
                      <a:pt x="113" y="0"/>
                    </a:lnTo>
                    <a:lnTo>
                      <a:pt x="118" y="0"/>
                    </a:lnTo>
                    <a:lnTo>
                      <a:pt x="123" y="2"/>
                    </a:lnTo>
                    <a:lnTo>
                      <a:pt x="128" y="5"/>
                    </a:lnTo>
                    <a:lnTo>
                      <a:pt x="131" y="9"/>
                    </a:lnTo>
                    <a:lnTo>
                      <a:pt x="134" y="13"/>
                    </a:lnTo>
                    <a:lnTo>
                      <a:pt x="135" y="18"/>
                    </a:lnTo>
                    <a:lnTo>
                      <a:pt x="136" y="24"/>
                    </a:lnTo>
                    <a:lnTo>
                      <a:pt x="136" y="36"/>
                    </a:lnTo>
                    <a:lnTo>
                      <a:pt x="135" y="45"/>
                    </a:lnTo>
                    <a:lnTo>
                      <a:pt x="133" y="50"/>
                    </a:lnTo>
                    <a:lnTo>
                      <a:pt x="132" y="54"/>
                    </a:lnTo>
                    <a:lnTo>
                      <a:pt x="130" y="56"/>
                    </a:lnTo>
                    <a:lnTo>
                      <a:pt x="128" y="58"/>
                    </a:lnTo>
                    <a:lnTo>
                      <a:pt x="122" y="59"/>
                    </a:lnTo>
                    <a:lnTo>
                      <a:pt x="117" y="60"/>
                    </a:lnTo>
                    <a:lnTo>
                      <a:pt x="113" y="61"/>
                    </a:lnTo>
                    <a:lnTo>
                      <a:pt x="108" y="64"/>
                    </a:lnTo>
                    <a:lnTo>
                      <a:pt x="103" y="66"/>
                    </a:lnTo>
                    <a:lnTo>
                      <a:pt x="99" y="68"/>
                    </a:lnTo>
                    <a:lnTo>
                      <a:pt x="92" y="70"/>
                    </a:lnTo>
                    <a:lnTo>
                      <a:pt x="86" y="72"/>
                    </a:lnTo>
                    <a:lnTo>
                      <a:pt x="77" y="75"/>
                    </a:lnTo>
                    <a:lnTo>
                      <a:pt x="67" y="79"/>
                    </a:lnTo>
                    <a:lnTo>
                      <a:pt x="59" y="80"/>
                    </a:lnTo>
                    <a:lnTo>
                      <a:pt x="49" y="81"/>
                    </a:lnTo>
                    <a:lnTo>
                      <a:pt x="39" y="80"/>
                    </a:lnTo>
                    <a:lnTo>
                      <a:pt x="29" y="79"/>
                    </a:lnTo>
                    <a:lnTo>
                      <a:pt x="21" y="78"/>
                    </a:lnTo>
                    <a:lnTo>
                      <a:pt x="11" y="75"/>
                    </a:lnTo>
                    <a:lnTo>
                      <a:pt x="7" y="73"/>
                    </a:lnTo>
                    <a:lnTo>
                      <a:pt x="3" y="72"/>
                    </a:lnTo>
                    <a:lnTo>
                      <a:pt x="1" y="69"/>
                    </a:lnTo>
                    <a:lnTo>
                      <a:pt x="0" y="66"/>
                    </a:lnTo>
                    <a:lnTo>
                      <a:pt x="0" y="63"/>
                    </a:lnTo>
                    <a:lnTo>
                      <a:pt x="0" y="59"/>
                    </a:lnTo>
                    <a:lnTo>
                      <a:pt x="1" y="55"/>
                    </a:lnTo>
                    <a:lnTo>
                      <a:pt x="3" y="51"/>
                    </a:lnTo>
                    <a:lnTo>
                      <a:pt x="9" y="42"/>
                    </a:lnTo>
                    <a:lnTo>
                      <a:pt x="15" y="32"/>
                    </a:lnTo>
                    <a:lnTo>
                      <a:pt x="24" y="25"/>
                    </a:lnTo>
                    <a:lnTo>
                      <a:pt x="34" y="18"/>
                    </a:lnTo>
                    <a:close/>
                  </a:path>
                </a:pathLst>
              </a:custGeom>
              <a:solidFill>
                <a:srgbClr val="eaaf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6103800" y="3135240"/>
                <a:ext cx="38160" cy="22320"/>
              </a:xfrm>
              <a:custGeom>
                <a:avLst/>
                <a:gdLst/>
                <a:ahLst/>
                <a:rect l="l" t="t" r="r" b="b"/>
                <a:pathLst>
                  <a:path w="119" h="70">
                    <a:moveTo>
                      <a:pt x="30" y="13"/>
                    </a:moveTo>
                    <a:lnTo>
                      <a:pt x="38" y="9"/>
                    </a:lnTo>
                    <a:lnTo>
                      <a:pt x="48" y="6"/>
                    </a:lnTo>
                    <a:lnTo>
                      <a:pt x="59" y="3"/>
                    </a:lnTo>
                    <a:lnTo>
                      <a:pt x="68" y="2"/>
                    </a:lnTo>
                    <a:lnTo>
                      <a:pt x="78" y="1"/>
                    </a:lnTo>
                    <a:lnTo>
                      <a:pt x="86" y="0"/>
                    </a:lnTo>
                    <a:lnTo>
                      <a:pt x="90" y="0"/>
                    </a:lnTo>
                    <a:lnTo>
                      <a:pt x="92" y="0"/>
                    </a:lnTo>
                    <a:lnTo>
                      <a:pt x="99" y="0"/>
                    </a:lnTo>
                    <a:lnTo>
                      <a:pt x="104" y="0"/>
                    </a:lnTo>
                    <a:lnTo>
                      <a:pt x="108" y="2"/>
                    </a:lnTo>
                    <a:lnTo>
                      <a:pt x="113" y="6"/>
                    </a:lnTo>
                    <a:lnTo>
                      <a:pt x="115" y="9"/>
                    </a:lnTo>
                    <a:lnTo>
                      <a:pt x="117" y="13"/>
                    </a:lnTo>
                    <a:lnTo>
                      <a:pt x="118" y="17"/>
                    </a:lnTo>
                    <a:lnTo>
                      <a:pt x="119" y="23"/>
                    </a:lnTo>
                    <a:lnTo>
                      <a:pt x="119" y="33"/>
                    </a:lnTo>
                    <a:lnTo>
                      <a:pt x="117" y="42"/>
                    </a:lnTo>
                    <a:lnTo>
                      <a:pt x="116" y="45"/>
                    </a:lnTo>
                    <a:lnTo>
                      <a:pt x="114" y="49"/>
                    </a:lnTo>
                    <a:lnTo>
                      <a:pt x="111" y="51"/>
                    </a:lnTo>
                    <a:lnTo>
                      <a:pt x="109" y="52"/>
                    </a:lnTo>
                    <a:lnTo>
                      <a:pt x="105" y="53"/>
                    </a:lnTo>
                    <a:lnTo>
                      <a:pt x="101" y="54"/>
                    </a:lnTo>
                    <a:lnTo>
                      <a:pt x="97" y="55"/>
                    </a:lnTo>
                    <a:lnTo>
                      <a:pt x="93" y="56"/>
                    </a:lnTo>
                    <a:lnTo>
                      <a:pt x="90" y="58"/>
                    </a:lnTo>
                    <a:lnTo>
                      <a:pt x="84" y="60"/>
                    </a:lnTo>
                    <a:lnTo>
                      <a:pt x="79" y="62"/>
                    </a:lnTo>
                    <a:lnTo>
                      <a:pt x="73" y="65"/>
                    </a:lnTo>
                    <a:lnTo>
                      <a:pt x="65" y="67"/>
                    </a:lnTo>
                    <a:lnTo>
                      <a:pt x="57" y="69"/>
                    </a:lnTo>
                    <a:lnTo>
                      <a:pt x="50" y="70"/>
                    </a:lnTo>
                    <a:lnTo>
                      <a:pt x="42" y="70"/>
                    </a:lnTo>
                    <a:lnTo>
                      <a:pt x="34" y="70"/>
                    </a:lnTo>
                    <a:lnTo>
                      <a:pt x="25" y="69"/>
                    </a:lnTo>
                    <a:lnTo>
                      <a:pt x="16" y="67"/>
                    </a:lnTo>
                    <a:lnTo>
                      <a:pt x="8" y="65"/>
                    </a:lnTo>
                    <a:lnTo>
                      <a:pt x="5" y="63"/>
                    </a:lnTo>
                    <a:lnTo>
                      <a:pt x="2" y="61"/>
                    </a:lnTo>
                    <a:lnTo>
                      <a:pt x="0" y="58"/>
                    </a:lnTo>
                    <a:lnTo>
                      <a:pt x="0" y="55"/>
                    </a:lnTo>
                    <a:lnTo>
                      <a:pt x="0" y="52"/>
                    </a:lnTo>
                    <a:lnTo>
                      <a:pt x="0" y="49"/>
                    </a:lnTo>
                    <a:lnTo>
                      <a:pt x="1" y="45"/>
                    </a:lnTo>
                    <a:lnTo>
                      <a:pt x="3" y="41"/>
                    </a:lnTo>
                    <a:lnTo>
                      <a:pt x="8" y="34"/>
                    </a:lnTo>
                    <a:lnTo>
                      <a:pt x="14" y="26"/>
                    </a:lnTo>
                    <a:lnTo>
                      <a:pt x="22" y="18"/>
                    </a:lnTo>
                    <a:lnTo>
                      <a:pt x="30" y="13"/>
                    </a:lnTo>
                    <a:close/>
                  </a:path>
                </a:pathLst>
              </a:custGeom>
              <a:solidFill>
                <a:srgbClr val="edb38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6108840" y="3135240"/>
                <a:ext cx="31680" cy="20880"/>
              </a:xfrm>
              <a:custGeom>
                <a:avLst/>
                <a:gdLst/>
                <a:ahLst/>
                <a:rect l="l" t="t" r="r" b="b"/>
                <a:pathLst>
                  <a:path w="99" h="63">
                    <a:moveTo>
                      <a:pt x="26" y="13"/>
                    </a:moveTo>
                    <a:lnTo>
                      <a:pt x="34" y="9"/>
                    </a:lnTo>
                    <a:lnTo>
                      <a:pt x="41" y="6"/>
                    </a:lnTo>
                    <a:lnTo>
                      <a:pt x="50" y="3"/>
                    </a:lnTo>
                    <a:lnTo>
                      <a:pt x="59" y="2"/>
                    </a:lnTo>
                    <a:lnTo>
                      <a:pt x="66" y="1"/>
                    </a:lnTo>
                    <a:lnTo>
                      <a:pt x="73" y="0"/>
                    </a:lnTo>
                    <a:lnTo>
                      <a:pt x="77" y="0"/>
                    </a:lnTo>
                    <a:lnTo>
                      <a:pt x="78" y="0"/>
                    </a:lnTo>
                    <a:lnTo>
                      <a:pt x="83" y="0"/>
                    </a:lnTo>
                    <a:lnTo>
                      <a:pt x="88" y="1"/>
                    </a:lnTo>
                    <a:lnTo>
                      <a:pt x="91" y="3"/>
                    </a:lnTo>
                    <a:lnTo>
                      <a:pt x="94" y="6"/>
                    </a:lnTo>
                    <a:lnTo>
                      <a:pt x="96" y="9"/>
                    </a:lnTo>
                    <a:lnTo>
                      <a:pt x="97" y="13"/>
                    </a:lnTo>
                    <a:lnTo>
                      <a:pt x="99" y="17"/>
                    </a:lnTo>
                    <a:lnTo>
                      <a:pt x="99" y="23"/>
                    </a:lnTo>
                    <a:lnTo>
                      <a:pt x="99" y="31"/>
                    </a:lnTo>
                    <a:lnTo>
                      <a:pt x="96" y="40"/>
                    </a:lnTo>
                    <a:lnTo>
                      <a:pt x="95" y="44"/>
                    </a:lnTo>
                    <a:lnTo>
                      <a:pt x="94" y="47"/>
                    </a:lnTo>
                    <a:lnTo>
                      <a:pt x="92" y="49"/>
                    </a:lnTo>
                    <a:lnTo>
                      <a:pt x="90" y="50"/>
                    </a:lnTo>
                    <a:lnTo>
                      <a:pt x="87" y="51"/>
                    </a:lnTo>
                    <a:lnTo>
                      <a:pt x="83" y="52"/>
                    </a:lnTo>
                    <a:lnTo>
                      <a:pt x="80" y="53"/>
                    </a:lnTo>
                    <a:lnTo>
                      <a:pt x="77" y="54"/>
                    </a:lnTo>
                    <a:lnTo>
                      <a:pt x="74" y="55"/>
                    </a:lnTo>
                    <a:lnTo>
                      <a:pt x="70" y="56"/>
                    </a:lnTo>
                    <a:lnTo>
                      <a:pt x="66" y="58"/>
                    </a:lnTo>
                    <a:lnTo>
                      <a:pt x="61" y="60"/>
                    </a:lnTo>
                    <a:lnTo>
                      <a:pt x="54" y="62"/>
                    </a:lnTo>
                    <a:lnTo>
                      <a:pt x="49" y="62"/>
                    </a:lnTo>
                    <a:lnTo>
                      <a:pt x="41" y="63"/>
                    </a:lnTo>
                    <a:lnTo>
                      <a:pt x="35" y="62"/>
                    </a:lnTo>
                    <a:lnTo>
                      <a:pt x="27" y="61"/>
                    </a:lnTo>
                    <a:lnTo>
                      <a:pt x="20" y="60"/>
                    </a:lnTo>
                    <a:lnTo>
                      <a:pt x="13" y="57"/>
                    </a:lnTo>
                    <a:lnTo>
                      <a:pt x="7" y="55"/>
                    </a:lnTo>
                    <a:lnTo>
                      <a:pt x="3" y="54"/>
                    </a:lnTo>
                    <a:lnTo>
                      <a:pt x="2" y="52"/>
                    </a:lnTo>
                    <a:lnTo>
                      <a:pt x="1" y="50"/>
                    </a:lnTo>
                    <a:lnTo>
                      <a:pt x="0" y="48"/>
                    </a:lnTo>
                    <a:lnTo>
                      <a:pt x="1" y="42"/>
                    </a:lnTo>
                    <a:lnTo>
                      <a:pt x="5" y="37"/>
                    </a:lnTo>
                    <a:lnTo>
                      <a:pt x="8" y="30"/>
                    </a:lnTo>
                    <a:lnTo>
                      <a:pt x="13" y="24"/>
                    </a:lnTo>
                    <a:lnTo>
                      <a:pt x="20" y="18"/>
                    </a:lnTo>
                    <a:lnTo>
                      <a:pt x="26" y="13"/>
                    </a:lnTo>
                    <a:close/>
                  </a:path>
                </a:pathLst>
              </a:custGeom>
              <a:solidFill>
                <a:srgbClr val="eeb7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6113520" y="3137040"/>
                <a:ext cx="23760" cy="15840"/>
              </a:xfrm>
              <a:custGeom>
                <a:avLst/>
                <a:gdLst/>
                <a:ahLst/>
                <a:rect l="l" t="t" r="r" b="b"/>
                <a:pathLst>
                  <a:path w="79" h="53">
                    <a:moveTo>
                      <a:pt x="20" y="11"/>
                    </a:moveTo>
                    <a:lnTo>
                      <a:pt x="25" y="8"/>
                    </a:lnTo>
                    <a:lnTo>
                      <a:pt x="33" y="5"/>
                    </a:lnTo>
                    <a:lnTo>
                      <a:pt x="40" y="4"/>
                    </a:lnTo>
                    <a:lnTo>
                      <a:pt x="48" y="2"/>
                    </a:lnTo>
                    <a:lnTo>
                      <a:pt x="54" y="1"/>
                    </a:lnTo>
                    <a:lnTo>
                      <a:pt x="59" y="1"/>
                    </a:lnTo>
                    <a:lnTo>
                      <a:pt x="63" y="1"/>
                    </a:lnTo>
                    <a:lnTo>
                      <a:pt x="64" y="1"/>
                    </a:lnTo>
                    <a:lnTo>
                      <a:pt x="68" y="0"/>
                    </a:lnTo>
                    <a:lnTo>
                      <a:pt x="71" y="1"/>
                    </a:lnTo>
                    <a:lnTo>
                      <a:pt x="74" y="2"/>
                    </a:lnTo>
                    <a:lnTo>
                      <a:pt x="76" y="6"/>
                    </a:lnTo>
                    <a:lnTo>
                      <a:pt x="78" y="12"/>
                    </a:lnTo>
                    <a:lnTo>
                      <a:pt x="79" y="21"/>
                    </a:lnTo>
                    <a:lnTo>
                      <a:pt x="78" y="29"/>
                    </a:lnTo>
                    <a:lnTo>
                      <a:pt x="77" y="37"/>
                    </a:lnTo>
                    <a:lnTo>
                      <a:pt x="74" y="42"/>
                    </a:lnTo>
                    <a:lnTo>
                      <a:pt x="72" y="46"/>
                    </a:lnTo>
                    <a:lnTo>
                      <a:pt x="68" y="46"/>
                    </a:lnTo>
                    <a:lnTo>
                      <a:pt x="66" y="46"/>
                    </a:lnTo>
                    <a:lnTo>
                      <a:pt x="64" y="47"/>
                    </a:lnTo>
                    <a:lnTo>
                      <a:pt x="62" y="47"/>
                    </a:lnTo>
                    <a:lnTo>
                      <a:pt x="60" y="48"/>
                    </a:lnTo>
                    <a:lnTo>
                      <a:pt x="56" y="50"/>
                    </a:lnTo>
                    <a:lnTo>
                      <a:pt x="53" y="51"/>
                    </a:lnTo>
                    <a:lnTo>
                      <a:pt x="49" y="53"/>
                    </a:lnTo>
                    <a:lnTo>
                      <a:pt x="45" y="53"/>
                    </a:lnTo>
                    <a:lnTo>
                      <a:pt x="40" y="53"/>
                    </a:lnTo>
                    <a:lnTo>
                      <a:pt x="34" y="53"/>
                    </a:lnTo>
                    <a:lnTo>
                      <a:pt x="27" y="52"/>
                    </a:lnTo>
                    <a:lnTo>
                      <a:pt x="22" y="51"/>
                    </a:lnTo>
                    <a:lnTo>
                      <a:pt x="15" y="49"/>
                    </a:lnTo>
                    <a:lnTo>
                      <a:pt x="10" y="47"/>
                    </a:lnTo>
                    <a:lnTo>
                      <a:pt x="5" y="42"/>
                    </a:lnTo>
                    <a:lnTo>
                      <a:pt x="2" y="41"/>
                    </a:lnTo>
                    <a:lnTo>
                      <a:pt x="1" y="40"/>
                    </a:lnTo>
                    <a:lnTo>
                      <a:pt x="0" y="39"/>
                    </a:lnTo>
                    <a:lnTo>
                      <a:pt x="0" y="37"/>
                    </a:lnTo>
                    <a:lnTo>
                      <a:pt x="0" y="33"/>
                    </a:lnTo>
                    <a:lnTo>
                      <a:pt x="2" y="27"/>
                    </a:lnTo>
                    <a:lnTo>
                      <a:pt x="6" y="23"/>
                    </a:lnTo>
                    <a:lnTo>
                      <a:pt x="10" y="19"/>
                    </a:lnTo>
                    <a:lnTo>
                      <a:pt x="14" y="14"/>
                    </a:lnTo>
                    <a:lnTo>
                      <a:pt x="20" y="11"/>
                    </a:lnTo>
                    <a:close/>
                  </a:path>
                </a:pathLst>
              </a:custGeom>
              <a:solidFill>
                <a:srgbClr val="f1bb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6116760" y="3138480"/>
                <a:ext cx="19080" cy="12960"/>
              </a:xfrm>
              <a:custGeom>
                <a:avLst/>
                <a:gdLst/>
                <a:ahLst/>
                <a:rect l="l" t="t" r="r" b="b"/>
                <a:pathLst>
                  <a:path w="61" h="43">
                    <a:moveTo>
                      <a:pt x="51" y="0"/>
                    </a:moveTo>
                    <a:lnTo>
                      <a:pt x="50" y="0"/>
                    </a:lnTo>
                    <a:lnTo>
                      <a:pt x="47" y="0"/>
                    </a:lnTo>
                    <a:lnTo>
                      <a:pt x="42" y="0"/>
                    </a:lnTo>
                    <a:lnTo>
                      <a:pt x="37" y="0"/>
                    </a:lnTo>
                    <a:lnTo>
                      <a:pt x="32" y="1"/>
                    </a:lnTo>
                    <a:lnTo>
                      <a:pt x="26" y="2"/>
                    </a:lnTo>
                    <a:lnTo>
                      <a:pt x="21" y="3"/>
                    </a:lnTo>
                    <a:lnTo>
                      <a:pt x="16" y="4"/>
                    </a:lnTo>
                    <a:lnTo>
                      <a:pt x="13" y="7"/>
                    </a:lnTo>
                    <a:lnTo>
                      <a:pt x="10" y="11"/>
                    </a:lnTo>
                    <a:lnTo>
                      <a:pt x="7" y="15"/>
                    </a:lnTo>
                    <a:lnTo>
                      <a:pt x="5" y="19"/>
                    </a:lnTo>
                    <a:lnTo>
                      <a:pt x="2" y="22"/>
                    </a:lnTo>
                    <a:lnTo>
                      <a:pt x="0" y="27"/>
                    </a:lnTo>
                    <a:lnTo>
                      <a:pt x="0" y="30"/>
                    </a:lnTo>
                    <a:lnTo>
                      <a:pt x="1" y="32"/>
                    </a:lnTo>
                    <a:lnTo>
                      <a:pt x="6" y="34"/>
                    </a:lnTo>
                    <a:lnTo>
                      <a:pt x="10" y="37"/>
                    </a:lnTo>
                    <a:lnTo>
                      <a:pt x="15" y="39"/>
                    </a:lnTo>
                    <a:lnTo>
                      <a:pt x="21" y="41"/>
                    </a:lnTo>
                    <a:lnTo>
                      <a:pt x="26" y="43"/>
                    </a:lnTo>
                    <a:lnTo>
                      <a:pt x="32" y="43"/>
                    </a:lnTo>
                    <a:lnTo>
                      <a:pt x="35" y="43"/>
                    </a:lnTo>
                    <a:lnTo>
                      <a:pt x="39" y="42"/>
                    </a:lnTo>
                    <a:lnTo>
                      <a:pt x="41" y="41"/>
                    </a:lnTo>
                    <a:lnTo>
                      <a:pt x="43" y="39"/>
                    </a:lnTo>
                    <a:lnTo>
                      <a:pt x="46" y="39"/>
                    </a:lnTo>
                    <a:lnTo>
                      <a:pt x="47" y="39"/>
                    </a:lnTo>
                    <a:lnTo>
                      <a:pt x="49" y="39"/>
                    </a:lnTo>
                    <a:lnTo>
                      <a:pt x="50" y="39"/>
                    </a:lnTo>
                    <a:lnTo>
                      <a:pt x="52" y="38"/>
                    </a:lnTo>
                    <a:lnTo>
                      <a:pt x="53" y="38"/>
                    </a:lnTo>
                    <a:lnTo>
                      <a:pt x="55" y="36"/>
                    </a:lnTo>
                    <a:lnTo>
                      <a:pt x="58" y="31"/>
                    </a:lnTo>
                    <a:lnTo>
                      <a:pt x="60" y="24"/>
                    </a:lnTo>
                    <a:lnTo>
                      <a:pt x="61" y="17"/>
                    </a:lnTo>
                    <a:lnTo>
                      <a:pt x="61" y="10"/>
                    </a:lnTo>
                    <a:lnTo>
                      <a:pt x="60" y="4"/>
                    </a:lnTo>
                    <a:lnTo>
                      <a:pt x="59" y="2"/>
                    </a:lnTo>
                    <a:lnTo>
                      <a:pt x="56" y="1"/>
                    </a:lnTo>
                    <a:lnTo>
                      <a:pt x="54" y="0"/>
                    </a:lnTo>
                    <a:lnTo>
                      <a:pt x="51" y="0"/>
                    </a:lnTo>
                    <a:close/>
                  </a:path>
                </a:pathLst>
              </a:custGeom>
              <a:solidFill>
                <a:srgbClr val="f5c2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6060960" y="3122640"/>
                <a:ext cx="82800" cy="30240"/>
              </a:xfrm>
              <a:custGeom>
                <a:avLst/>
                <a:gdLst/>
                <a:ahLst/>
                <a:rect l="l" t="t" r="r" b="b"/>
                <a:pathLst>
                  <a:path w="259" h="94">
                    <a:moveTo>
                      <a:pt x="0" y="94"/>
                    </a:moveTo>
                    <a:lnTo>
                      <a:pt x="2" y="92"/>
                    </a:lnTo>
                    <a:lnTo>
                      <a:pt x="7" y="83"/>
                    </a:lnTo>
                    <a:lnTo>
                      <a:pt x="15" y="71"/>
                    </a:lnTo>
                    <a:lnTo>
                      <a:pt x="26" y="57"/>
                    </a:lnTo>
                    <a:lnTo>
                      <a:pt x="33" y="50"/>
                    </a:lnTo>
                    <a:lnTo>
                      <a:pt x="39" y="43"/>
                    </a:lnTo>
                    <a:lnTo>
                      <a:pt x="48" y="36"/>
                    </a:lnTo>
                    <a:lnTo>
                      <a:pt x="56" y="29"/>
                    </a:lnTo>
                    <a:lnTo>
                      <a:pt x="65" y="23"/>
                    </a:lnTo>
                    <a:lnTo>
                      <a:pt x="75" y="16"/>
                    </a:lnTo>
                    <a:lnTo>
                      <a:pt x="85" y="12"/>
                    </a:lnTo>
                    <a:lnTo>
                      <a:pt x="97" y="8"/>
                    </a:lnTo>
                    <a:lnTo>
                      <a:pt x="120" y="3"/>
                    </a:lnTo>
                    <a:lnTo>
                      <a:pt x="142" y="1"/>
                    </a:lnTo>
                    <a:lnTo>
                      <a:pt x="162" y="0"/>
                    </a:lnTo>
                    <a:lnTo>
                      <a:pt x="182" y="0"/>
                    </a:lnTo>
                    <a:lnTo>
                      <a:pt x="199" y="1"/>
                    </a:lnTo>
                    <a:lnTo>
                      <a:pt x="215" y="3"/>
                    </a:lnTo>
                    <a:lnTo>
                      <a:pt x="231" y="6"/>
                    </a:lnTo>
                    <a:lnTo>
                      <a:pt x="245" y="11"/>
                    </a:lnTo>
                    <a:lnTo>
                      <a:pt x="255" y="14"/>
                    </a:lnTo>
                    <a:lnTo>
                      <a:pt x="259" y="17"/>
                    </a:lnTo>
                    <a:lnTo>
                      <a:pt x="257" y="18"/>
                    </a:lnTo>
                    <a:lnTo>
                      <a:pt x="253" y="19"/>
                    </a:lnTo>
                    <a:lnTo>
                      <a:pt x="246" y="21"/>
                    </a:lnTo>
                    <a:lnTo>
                      <a:pt x="240" y="21"/>
                    </a:lnTo>
                    <a:lnTo>
                      <a:pt x="235" y="21"/>
                    </a:lnTo>
                    <a:lnTo>
                      <a:pt x="233" y="21"/>
                    </a:lnTo>
                    <a:lnTo>
                      <a:pt x="229" y="21"/>
                    </a:lnTo>
                    <a:lnTo>
                      <a:pt x="219" y="21"/>
                    </a:lnTo>
                    <a:lnTo>
                      <a:pt x="204" y="22"/>
                    </a:lnTo>
                    <a:lnTo>
                      <a:pt x="187" y="23"/>
                    </a:lnTo>
                    <a:lnTo>
                      <a:pt x="168" y="25"/>
                    </a:lnTo>
                    <a:lnTo>
                      <a:pt x="147" y="27"/>
                    </a:lnTo>
                    <a:lnTo>
                      <a:pt x="130" y="31"/>
                    </a:lnTo>
                    <a:lnTo>
                      <a:pt x="115" y="35"/>
                    </a:lnTo>
                    <a:lnTo>
                      <a:pt x="101" y="41"/>
                    </a:lnTo>
                    <a:lnTo>
                      <a:pt x="83" y="50"/>
                    </a:lnTo>
                    <a:lnTo>
                      <a:pt x="64" y="59"/>
                    </a:lnTo>
                    <a:lnTo>
                      <a:pt x="45" y="69"/>
                    </a:lnTo>
                    <a:lnTo>
                      <a:pt x="28" y="79"/>
                    </a:lnTo>
                    <a:lnTo>
                      <a:pt x="14" y="86"/>
                    </a:lnTo>
                    <a:lnTo>
                      <a:pt x="4" y="92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d298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6064200" y="3122640"/>
                <a:ext cx="74520" cy="27000"/>
              </a:xfrm>
              <a:custGeom>
                <a:avLst/>
                <a:gdLst/>
                <a:ahLst/>
                <a:rect l="l" t="t" r="r" b="b"/>
                <a:pathLst>
                  <a:path w="233" h="84">
                    <a:moveTo>
                      <a:pt x="210" y="19"/>
                    </a:moveTo>
                    <a:lnTo>
                      <a:pt x="206" y="19"/>
                    </a:lnTo>
                    <a:lnTo>
                      <a:pt x="197" y="19"/>
                    </a:lnTo>
                    <a:lnTo>
                      <a:pt x="184" y="20"/>
                    </a:lnTo>
                    <a:lnTo>
                      <a:pt x="169" y="21"/>
                    </a:lnTo>
                    <a:lnTo>
                      <a:pt x="151" y="23"/>
                    </a:lnTo>
                    <a:lnTo>
                      <a:pt x="135" y="25"/>
                    </a:lnTo>
                    <a:lnTo>
                      <a:pt x="119" y="29"/>
                    </a:lnTo>
                    <a:lnTo>
                      <a:pt x="106" y="33"/>
                    </a:lnTo>
                    <a:lnTo>
                      <a:pt x="92" y="38"/>
                    </a:lnTo>
                    <a:lnTo>
                      <a:pt x="76" y="46"/>
                    </a:lnTo>
                    <a:lnTo>
                      <a:pt x="58" y="54"/>
                    </a:lnTo>
                    <a:lnTo>
                      <a:pt x="41" y="63"/>
                    </a:lnTo>
                    <a:lnTo>
                      <a:pt x="25" y="71"/>
                    </a:lnTo>
                    <a:lnTo>
                      <a:pt x="12" y="78"/>
                    </a:lnTo>
                    <a:lnTo>
                      <a:pt x="3" y="83"/>
                    </a:lnTo>
                    <a:lnTo>
                      <a:pt x="0" y="84"/>
                    </a:lnTo>
                    <a:lnTo>
                      <a:pt x="1" y="82"/>
                    </a:lnTo>
                    <a:lnTo>
                      <a:pt x="5" y="75"/>
                    </a:lnTo>
                    <a:lnTo>
                      <a:pt x="13" y="65"/>
                    </a:lnTo>
                    <a:lnTo>
                      <a:pt x="23" y="52"/>
                    </a:lnTo>
                    <a:lnTo>
                      <a:pt x="28" y="46"/>
                    </a:lnTo>
                    <a:lnTo>
                      <a:pt x="36" y="39"/>
                    </a:lnTo>
                    <a:lnTo>
                      <a:pt x="43" y="33"/>
                    </a:lnTo>
                    <a:lnTo>
                      <a:pt x="51" y="26"/>
                    </a:lnTo>
                    <a:lnTo>
                      <a:pt x="59" y="21"/>
                    </a:lnTo>
                    <a:lnTo>
                      <a:pt x="69" y="16"/>
                    </a:lnTo>
                    <a:lnTo>
                      <a:pt x="80" y="12"/>
                    </a:lnTo>
                    <a:lnTo>
                      <a:pt x="92" y="9"/>
                    </a:lnTo>
                    <a:lnTo>
                      <a:pt x="112" y="3"/>
                    </a:lnTo>
                    <a:lnTo>
                      <a:pt x="133" y="1"/>
                    </a:lnTo>
                    <a:lnTo>
                      <a:pt x="151" y="0"/>
                    </a:lnTo>
                    <a:lnTo>
                      <a:pt x="169" y="1"/>
                    </a:lnTo>
                    <a:lnTo>
                      <a:pt x="185" y="2"/>
                    </a:lnTo>
                    <a:lnTo>
                      <a:pt x="199" y="6"/>
                    </a:lnTo>
                    <a:lnTo>
                      <a:pt x="212" y="8"/>
                    </a:lnTo>
                    <a:lnTo>
                      <a:pt x="223" y="11"/>
                    </a:lnTo>
                    <a:lnTo>
                      <a:pt x="230" y="13"/>
                    </a:lnTo>
                    <a:lnTo>
                      <a:pt x="233" y="15"/>
                    </a:lnTo>
                    <a:lnTo>
                      <a:pt x="232" y="16"/>
                    </a:lnTo>
                    <a:lnTo>
                      <a:pt x="228" y="17"/>
                    </a:lnTo>
                    <a:lnTo>
                      <a:pt x="223" y="17"/>
                    </a:lnTo>
                    <a:lnTo>
                      <a:pt x="217" y="19"/>
                    </a:lnTo>
                    <a:lnTo>
                      <a:pt x="213" y="19"/>
                    </a:lnTo>
                    <a:lnTo>
                      <a:pt x="210" y="19"/>
                    </a:lnTo>
                    <a:close/>
                  </a:path>
                </a:pathLst>
              </a:custGeom>
              <a:solidFill>
                <a:srgbClr val="bc8a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6068880" y="3124440"/>
                <a:ext cx="65160" cy="23760"/>
              </a:xfrm>
              <a:custGeom>
                <a:avLst/>
                <a:gdLst/>
                <a:ahLst/>
                <a:rect l="l" t="t" r="r" b="b"/>
                <a:pathLst>
                  <a:path w="208" h="74">
                    <a:moveTo>
                      <a:pt x="191" y="15"/>
                    </a:moveTo>
                    <a:lnTo>
                      <a:pt x="186" y="15"/>
                    </a:lnTo>
                    <a:lnTo>
                      <a:pt x="177" y="16"/>
                    </a:lnTo>
                    <a:lnTo>
                      <a:pt x="165" y="17"/>
                    </a:lnTo>
                    <a:lnTo>
                      <a:pt x="151" y="18"/>
                    </a:lnTo>
                    <a:lnTo>
                      <a:pt x="136" y="20"/>
                    </a:lnTo>
                    <a:lnTo>
                      <a:pt x="122" y="21"/>
                    </a:lnTo>
                    <a:lnTo>
                      <a:pt x="108" y="24"/>
                    </a:lnTo>
                    <a:lnTo>
                      <a:pt x="97" y="26"/>
                    </a:lnTo>
                    <a:lnTo>
                      <a:pt x="84" y="32"/>
                    </a:lnTo>
                    <a:lnTo>
                      <a:pt x="69" y="38"/>
                    </a:lnTo>
                    <a:lnTo>
                      <a:pt x="53" y="46"/>
                    </a:lnTo>
                    <a:lnTo>
                      <a:pt x="38" y="53"/>
                    </a:lnTo>
                    <a:lnTo>
                      <a:pt x="23" y="61"/>
                    </a:lnTo>
                    <a:lnTo>
                      <a:pt x="11" y="67"/>
                    </a:lnTo>
                    <a:lnTo>
                      <a:pt x="3" y="72"/>
                    </a:lnTo>
                    <a:lnTo>
                      <a:pt x="0" y="74"/>
                    </a:lnTo>
                    <a:lnTo>
                      <a:pt x="1" y="72"/>
                    </a:lnTo>
                    <a:lnTo>
                      <a:pt x="5" y="65"/>
                    </a:lnTo>
                    <a:lnTo>
                      <a:pt x="12" y="57"/>
                    </a:lnTo>
                    <a:lnTo>
                      <a:pt x="20" y="46"/>
                    </a:lnTo>
                    <a:lnTo>
                      <a:pt x="32" y="34"/>
                    </a:lnTo>
                    <a:lnTo>
                      <a:pt x="47" y="23"/>
                    </a:lnTo>
                    <a:lnTo>
                      <a:pt x="55" y="19"/>
                    </a:lnTo>
                    <a:lnTo>
                      <a:pt x="65" y="13"/>
                    </a:lnTo>
                    <a:lnTo>
                      <a:pt x="74" y="10"/>
                    </a:lnTo>
                    <a:lnTo>
                      <a:pt x="84" y="7"/>
                    </a:lnTo>
                    <a:lnTo>
                      <a:pt x="106" y="3"/>
                    </a:lnTo>
                    <a:lnTo>
                      <a:pt x="125" y="0"/>
                    </a:lnTo>
                    <a:lnTo>
                      <a:pt x="143" y="0"/>
                    </a:lnTo>
                    <a:lnTo>
                      <a:pt x="159" y="0"/>
                    </a:lnTo>
                    <a:lnTo>
                      <a:pt x="173" y="2"/>
                    </a:lnTo>
                    <a:lnTo>
                      <a:pt x="185" y="4"/>
                    </a:lnTo>
                    <a:lnTo>
                      <a:pt x="194" y="7"/>
                    </a:lnTo>
                    <a:lnTo>
                      <a:pt x="203" y="9"/>
                    </a:lnTo>
                    <a:lnTo>
                      <a:pt x="207" y="11"/>
                    </a:lnTo>
                    <a:lnTo>
                      <a:pt x="208" y="12"/>
                    </a:lnTo>
                    <a:lnTo>
                      <a:pt x="207" y="13"/>
                    </a:lnTo>
                    <a:lnTo>
                      <a:pt x="204" y="13"/>
                    </a:lnTo>
                    <a:lnTo>
                      <a:pt x="200" y="13"/>
                    </a:lnTo>
                    <a:lnTo>
                      <a:pt x="197" y="15"/>
                    </a:lnTo>
                    <a:lnTo>
                      <a:pt x="192" y="15"/>
                    </a:lnTo>
                    <a:lnTo>
                      <a:pt x="191" y="15"/>
                    </a:lnTo>
                    <a:close/>
                  </a:path>
                </a:pathLst>
              </a:custGeom>
              <a:solidFill>
                <a:srgbClr val="ab7e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6072120" y="3125880"/>
                <a:ext cx="58680" cy="19080"/>
              </a:xfrm>
              <a:custGeom>
                <a:avLst/>
                <a:gdLst/>
                <a:ahLst/>
                <a:rect l="l" t="t" r="r" b="b"/>
                <a:pathLst>
                  <a:path w="187" h="60">
                    <a:moveTo>
                      <a:pt x="174" y="8"/>
                    </a:moveTo>
                    <a:lnTo>
                      <a:pt x="167" y="9"/>
                    </a:lnTo>
                    <a:lnTo>
                      <a:pt x="158" y="12"/>
                    </a:lnTo>
                    <a:lnTo>
                      <a:pt x="147" y="13"/>
                    </a:lnTo>
                    <a:lnTo>
                      <a:pt x="135" y="15"/>
                    </a:lnTo>
                    <a:lnTo>
                      <a:pt x="122" y="16"/>
                    </a:lnTo>
                    <a:lnTo>
                      <a:pt x="110" y="18"/>
                    </a:lnTo>
                    <a:lnTo>
                      <a:pt x="99" y="21"/>
                    </a:lnTo>
                    <a:lnTo>
                      <a:pt x="89" y="23"/>
                    </a:lnTo>
                    <a:lnTo>
                      <a:pt x="79" y="28"/>
                    </a:lnTo>
                    <a:lnTo>
                      <a:pt x="64" y="32"/>
                    </a:lnTo>
                    <a:lnTo>
                      <a:pt x="50" y="39"/>
                    </a:lnTo>
                    <a:lnTo>
                      <a:pt x="35" y="45"/>
                    </a:lnTo>
                    <a:lnTo>
                      <a:pt x="21" y="50"/>
                    </a:lnTo>
                    <a:lnTo>
                      <a:pt x="10" y="56"/>
                    </a:lnTo>
                    <a:lnTo>
                      <a:pt x="3" y="59"/>
                    </a:lnTo>
                    <a:lnTo>
                      <a:pt x="0" y="60"/>
                    </a:lnTo>
                    <a:lnTo>
                      <a:pt x="2" y="59"/>
                    </a:lnTo>
                    <a:lnTo>
                      <a:pt x="5" y="54"/>
                    </a:lnTo>
                    <a:lnTo>
                      <a:pt x="10" y="47"/>
                    </a:lnTo>
                    <a:lnTo>
                      <a:pt x="19" y="39"/>
                    </a:lnTo>
                    <a:lnTo>
                      <a:pt x="31" y="29"/>
                    </a:lnTo>
                    <a:lnTo>
                      <a:pt x="45" y="20"/>
                    </a:lnTo>
                    <a:lnTo>
                      <a:pt x="53" y="16"/>
                    </a:lnTo>
                    <a:lnTo>
                      <a:pt x="62" y="13"/>
                    </a:lnTo>
                    <a:lnTo>
                      <a:pt x="71" y="9"/>
                    </a:lnTo>
                    <a:lnTo>
                      <a:pt x="82" y="6"/>
                    </a:lnTo>
                    <a:lnTo>
                      <a:pt x="101" y="3"/>
                    </a:lnTo>
                    <a:lnTo>
                      <a:pt x="120" y="1"/>
                    </a:lnTo>
                    <a:lnTo>
                      <a:pt x="135" y="0"/>
                    </a:lnTo>
                    <a:lnTo>
                      <a:pt x="149" y="1"/>
                    </a:lnTo>
                    <a:lnTo>
                      <a:pt x="161" y="2"/>
                    </a:lnTo>
                    <a:lnTo>
                      <a:pt x="170" y="4"/>
                    </a:lnTo>
                    <a:lnTo>
                      <a:pt x="178" y="5"/>
                    </a:lnTo>
                    <a:lnTo>
                      <a:pt x="183" y="6"/>
                    </a:lnTo>
                    <a:lnTo>
                      <a:pt x="185" y="7"/>
                    </a:lnTo>
                    <a:lnTo>
                      <a:pt x="187" y="7"/>
                    </a:lnTo>
                    <a:lnTo>
                      <a:pt x="185" y="8"/>
                    </a:lnTo>
                    <a:lnTo>
                      <a:pt x="183" y="8"/>
                    </a:lnTo>
                    <a:lnTo>
                      <a:pt x="181" y="8"/>
                    </a:lnTo>
                    <a:lnTo>
                      <a:pt x="178" y="8"/>
                    </a:lnTo>
                    <a:lnTo>
                      <a:pt x="176" y="8"/>
                    </a:lnTo>
                    <a:lnTo>
                      <a:pt x="174" y="8"/>
                    </a:lnTo>
                    <a:close/>
                  </a:path>
                </a:pathLst>
              </a:custGeom>
              <a:solidFill>
                <a:srgbClr val="9a7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6075360" y="3127320"/>
                <a:ext cx="52200" cy="15840"/>
              </a:xfrm>
              <a:custGeom>
                <a:avLst/>
                <a:gdLst/>
                <a:ahLst/>
                <a:rect l="l" t="t" r="r" b="b"/>
                <a:pathLst>
                  <a:path w="163" h="50">
                    <a:moveTo>
                      <a:pt x="0" y="50"/>
                    </a:moveTo>
                    <a:lnTo>
                      <a:pt x="1" y="47"/>
                    </a:lnTo>
                    <a:lnTo>
                      <a:pt x="4" y="44"/>
                    </a:lnTo>
                    <a:lnTo>
                      <a:pt x="8" y="39"/>
                    </a:lnTo>
                    <a:lnTo>
                      <a:pt x="16" y="31"/>
                    </a:lnTo>
                    <a:lnTo>
                      <a:pt x="27" y="24"/>
                    </a:lnTo>
                    <a:lnTo>
                      <a:pt x="40" y="17"/>
                    </a:lnTo>
                    <a:lnTo>
                      <a:pt x="47" y="13"/>
                    </a:lnTo>
                    <a:lnTo>
                      <a:pt x="55" y="10"/>
                    </a:lnTo>
                    <a:lnTo>
                      <a:pt x="63" y="8"/>
                    </a:lnTo>
                    <a:lnTo>
                      <a:pt x="74" y="4"/>
                    </a:lnTo>
                    <a:lnTo>
                      <a:pt x="94" y="2"/>
                    </a:lnTo>
                    <a:lnTo>
                      <a:pt x="111" y="1"/>
                    </a:lnTo>
                    <a:lnTo>
                      <a:pt x="126" y="0"/>
                    </a:lnTo>
                    <a:lnTo>
                      <a:pt x="139" y="1"/>
                    </a:lnTo>
                    <a:lnTo>
                      <a:pt x="149" y="2"/>
                    </a:lnTo>
                    <a:lnTo>
                      <a:pt x="156" y="3"/>
                    </a:lnTo>
                    <a:lnTo>
                      <a:pt x="161" y="4"/>
                    </a:lnTo>
                    <a:lnTo>
                      <a:pt x="163" y="4"/>
                    </a:lnTo>
                    <a:lnTo>
                      <a:pt x="163" y="4"/>
                    </a:lnTo>
                    <a:lnTo>
                      <a:pt x="162" y="4"/>
                    </a:lnTo>
                    <a:lnTo>
                      <a:pt x="161" y="4"/>
                    </a:lnTo>
                    <a:lnTo>
                      <a:pt x="160" y="4"/>
                    </a:lnTo>
                    <a:lnTo>
                      <a:pt x="158" y="4"/>
                    </a:lnTo>
                    <a:lnTo>
                      <a:pt x="156" y="4"/>
                    </a:lnTo>
                    <a:lnTo>
                      <a:pt x="154" y="4"/>
                    </a:lnTo>
                    <a:lnTo>
                      <a:pt x="153" y="4"/>
                    </a:lnTo>
                    <a:lnTo>
                      <a:pt x="145" y="5"/>
                    </a:lnTo>
                    <a:lnTo>
                      <a:pt x="137" y="8"/>
                    </a:lnTo>
                    <a:lnTo>
                      <a:pt x="127" y="9"/>
                    </a:lnTo>
                    <a:lnTo>
                      <a:pt x="117" y="10"/>
                    </a:lnTo>
                    <a:lnTo>
                      <a:pt x="107" y="12"/>
                    </a:lnTo>
                    <a:lnTo>
                      <a:pt x="97" y="13"/>
                    </a:lnTo>
                    <a:lnTo>
                      <a:pt x="88" y="15"/>
                    </a:lnTo>
                    <a:lnTo>
                      <a:pt x="81" y="17"/>
                    </a:lnTo>
                    <a:lnTo>
                      <a:pt x="71" y="20"/>
                    </a:lnTo>
                    <a:lnTo>
                      <a:pt x="58" y="25"/>
                    </a:lnTo>
                    <a:lnTo>
                      <a:pt x="44" y="30"/>
                    </a:lnTo>
                    <a:lnTo>
                      <a:pt x="31" y="36"/>
                    </a:lnTo>
                    <a:lnTo>
                      <a:pt x="19" y="41"/>
                    </a:lnTo>
                    <a:lnTo>
                      <a:pt x="8" y="45"/>
                    </a:lnTo>
                    <a:lnTo>
                      <a:pt x="2" y="49"/>
                    </a:lnTo>
                    <a:lnTo>
                      <a:pt x="0" y="50"/>
                    </a:lnTo>
                    <a:close/>
                  </a:path>
                </a:pathLst>
              </a:custGeom>
              <a:solidFill>
                <a:srgbClr val="8965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3" name=""/>
            <p:cNvGrpSpPr/>
            <p:nvPr/>
          </p:nvGrpSpPr>
          <p:grpSpPr>
            <a:xfrm>
              <a:off x="5197320" y="2695680"/>
              <a:ext cx="2575080" cy="1303200"/>
              <a:chOff x="5197320" y="2695680"/>
              <a:chExt cx="2575080" cy="1303200"/>
            </a:xfrm>
          </p:grpSpPr>
          <p:sp>
            <p:nvSpPr>
              <p:cNvPr id="714" name=""/>
              <p:cNvSpPr/>
              <p:nvPr/>
            </p:nvSpPr>
            <p:spPr>
              <a:xfrm>
                <a:off x="6059520" y="3127320"/>
                <a:ext cx="79200" cy="27000"/>
              </a:xfrm>
              <a:custGeom>
                <a:avLst/>
                <a:gdLst/>
                <a:ahLst/>
                <a:rect l="l" t="t" r="r" b="b"/>
                <a:pathLst>
                  <a:path w="249" h="87">
                    <a:moveTo>
                      <a:pt x="242" y="13"/>
                    </a:moveTo>
                    <a:lnTo>
                      <a:pt x="239" y="12"/>
                    </a:lnTo>
                    <a:lnTo>
                      <a:pt x="231" y="12"/>
                    </a:lnTo>
                    <a:lnTo>
                      <a:pt x="219" y="11"/>
                    </a:lnTo>
                    <a:lnTo>
                      <a:pt x="203" y="11"/>
                    </a:lnTo>
                    <a:lnTo>
                      <a:pt x="184" y="12"/>
                    </a:lnTo>
                    <a:lnTo>
                      <a:pt x="165" y="14"/>
                    </a:lnTo>
                    <a:lnTo>
                      <a:pt x="143" y="18"/>
                    </a:lnTo>
                    <a:lnTo>
                      <a:pt x="123" y="25"/>
                    </a:lnTo>
                    <a:lnTo>
                      <a:pt x="105" y="31"/>
                    </a:lnTo>
                    <a:lnTo>
                      <a:pt x="87" y="39"/>
                    </a:lnTo>
                    <a:lnTo>
                      <a:pt x="71" y="47"/>
                    </a:lnTo>
                    <a:lnTo>
                      <a:pt x="55" y="55"/>
                    </a:lnTo>
                    <a:lnTo>
                      <a:pt x="40" y="63"/>
                    </a:lnTo>
                    <a:lnTo>
                      <a:pt x="26" y="71"/>
                    </a:lnTo>
                    <a:lnTo>
                      <a:pt x="12" y="79"/>
                    </a:lnTo>
                    <a:lnTo>
                      <a:pt x="0" y="87"/>
                    </a:lnTo>
                    <a:lnTo>
                      <a:pt x="2" y="85"/>
                    </a:lnTo>
                    <a:lnTo>
                      <a:pt x="7" y="80"/>
                    </a:lnTo>
                    <a:lnTo>
                      <a:pt x="16" y="72"/>
                    </a:lnTo>
                    <a:lnTo>
                      <a:pt x="28" y="63"/>
                    </a:lnTo>
                    <a:lnTo>
                      <a:pt x="42" y="53"/>
                    </a:lnTo>
                    <a:lnTo>
                      <a:pt x="57" y="42"/>
                    </a:lnTo>
                    <a:lnTo>
                      <a:pt x="73" y="31"/>
                    </a:lnTo>
                    <a:lnTo>
                      <a:pt x="92" y="23"/>
                    </a:lnTo>
                    <a:lnTo>
                      <a:pt x="103" y="17"/>
                    </a:lnTo>
                    <a:lnTo>
                      <a:pt x="118" y="12"/>
                    </a:lnTo>
                    <a:lnTo>
                      <a:pt x="130" y="9"/>
                    </a:lnTo>
                    <a:lnTo>
                      <a:pt x="143" y="6"/>
                    </a:lnTo>
                    <a:lnTo>
                      <a:pt x="170" y="2"/>
                    </a:lnTo>
                    <a:lnTo>
                      <a:pt x="195" y="0"/>
                    </a:lnTo>
                    <a:lnTo>
                      <a:pt x="217" y="0"/>
                    </a:lnTo>
                    <a:lnTo>
                      <a:pt x="234" y="1"/>
                    </a:lnTo>
                    <a:lnTo>
                      <a:pt x="245" y="2"/>
                    </a:lnTo>
                    <a:lnTo>
                      <a:pt x="249" y="2"/>
                    </a:lnTo>
                    <a:lnTo>
                      <a:pt x="242" y="13"/>
                    </a:lnTo>
                    <a:close/>
                  </a:path>
                </a:pathLst>
              </a:custGeom>
              <a:solidFill>
                <a:srgbClr val="ca93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6105600" y="3032280"/>
                <a:ext cx="693720" cy="206280"/>
              </a:xfrm>
              <a:custGeom>
                <a:avLst/>
                <a:gdLst/>
                <a:ahLst/>
                <a:rect l="l" t="t" r="r" b="b"/>
                <a:pathLst>
                  <a:path w="2183" h="648">
                    <a:moveTo>
                      <a:pt x="0" y="369"/>
                    </a:moveTo>
                    <a:lnTo>
                      <a:pt x="1" y="362"/>
                    </a:lnTo>
                    <a:lnTo>
                      <a:pt x="6" y="342"/>
                    </a:lnTo>
                    <a:lnTo>
                      <a:pt x="13" y="313"/>
                    </a:lnTo>
                    <a:lnTo>
                      <a:pt x="21" y="279"/>
                    </a:lnTo>
                    <a:lnTo>
                      <a:pt x="32" y="242"/>
                    </a:lnTo>
                    <a:lnTo>
                      <a:pt x="43" y="207"/>
                    </a:lnTo>
                    <a:lnTo>
                      <a:pt x="49" y="191"/>
                    </a:lnTo>
                    <a:lnTo>
                      <a:pt x="55" y="177"/>
                    </a:lnTo>
                    <a:lnTo>
                      <a:pt x="60" y="166"/>
                    </a:lnTo>
                    <a:lnTo>
                      <a:pt x="67" y="156"/>
                    </a:lnTo>
                    <a:lnTo>
                      <a:pt x="72" y="150"/>
                    </a:lnTo>
                    <a:lnTo>
                      <a:pt x="78" y="142"/>
                    </a:lnTo>
                    <a:lnTo>
                      <a:pt x="86" y="136"/>
                    </a:lnTo>
                    <a:lnTo>
                      <a:pt x="95" y="129"/>
                    </a:lnTo>
                    <a:lnTo>
                      <a:pt x="113" y="118"/>
                    </a:lnTo>
                    <a:lnTo>
                      <a:pt x="135" y="106"/>
                    </a:lnTo>
                    <a:lnTo>
                      <a:pt x="157" y="95"/>
                    </a:lnTo>
                    <a:lnTo>
                      <a:pt x="182" y="85"/>
                    </a:lnTo>
                    <a:lnTo>
                      <a:pt x="207" y="77"/>
                    </a:lnTo>
                    <a:lnTo>
                      <a:pt x="232" y="68"/>
                    </a:lnTo>
                    <a:lnTo>
                      <a:pt x="256" y="60"/>
                    </a:lnTo>
                    <a:lnTo>
                      <a:pt x="276" y="54"/>
                    </a:lnTo>
                    <a:lnTo>
                      <a:pt x="295" y="48"/>
                    </a:lnTo>
                    <a:lnTo>
                      <a:pt x="312" y="43"/>
                    </a:lnTo>
                    <a:lnTo>
                      <a:pt x="327" y="38"/>
                    </a:lnTo>
                    <a:lnTo>
                      <a:pt x="340" y="32"/>
                    </a:lnTo>
                    <a:lnTo>
                      <a:pt x="353" y="26"/>
                    </a:lnTo>
                    <a:lnTo>
                      <a:pt x="366" y="18"/>
                    </a:lnTo>
                    <a:lnTo>
                      <a:pt x="379" y="11"/>
                    </a:lnTo>
                    <a:lnTo>
                      <a:pt x="393" y="5"/>
                    </a:lnTo>
                    <a:lnTo>
                      <a:pt x="408" y="2"/>
                    </a:lnTo>
                    <a:lnTo>
                      <a:pt x="424" y="0"/>
                    </a:lnTo>
                    <a:lnTo>
                      <a:pt x="443" y="0"/>
                    </a:lnTo>
                    <a:lnTo>
                      <a:pt x="464" y="1"/>
                    </a:lnTo>
                    <a:lnTo>
                      <a:pt x="488" y="3"/>
                    </a:lnTo>
                    <a:lnTo>
                      <a:pt x="516" y="6"/>
                    </a:lnTo>
                    <a:lnTo>
                      <a:pt x="553" y="11"/>
                    </a:lnTo>
                    <a:lnTo>
                      <a:pt x="600" y="14"/>
                    </a:lnTo>
                    <a:lnTo>
                      <a:pt x="656" y="17"/>
                    </a:lnTo>
                    <a:lnTo>
                      <a:pt x="716" y="20"/>
                    </a:lnTo>
                    <a:lnTo>
                      <a:pt x="776" y="25"/>
                    </a:lnTo>
                    <a:lnTo>
                      <a:pt x="834" y="30"/>
                    </a:lnTo>
                    <a:lnTo>
                      <a:pt x="860" y="33"/>
                    </a:lnTo>
                    <a:lnTo>
                      <a:pt x="883" y="37"/>
                    </a:lnTo>
                    <a:lnTo>
                      <a:pt x="904" y="41"/>
                    </a:lnTo>
                    <a:lnTo>
                      <a:pt x="922" y="45"/>
                    </a:lnTo>
                    <a:lnTo>
                      <a:pt x="937" y="52"/>
                    </a:lnTo>
                    <a:lnTo>
                      <a:pt x="953" y="58"/>
                    </a:lnTo>
                    <a:lnTo>
                      <a:pt x="970" y="66"/>
                    </a:lnTo>
                    <a:lnTo>
                      <a:pt x="987" y="73"/>
                    </a:lnTo>
                    <a:lnTo>
                      <a:pt x="1023" y="92"/>
                    </a:lnTo>
                    <a:lnTo>
                      <a:pt x="1064" y="110"/>
                    </a:lnTo>
                    <a:lnTo>
                      <a:pt x="1086" y="120"/>
                    </a:lnTo>
                    <a:lnTo>
                      <a:pt x="1110" y="129"/>
                    </a:lnTo>
                    <a:lnTo>
                      <a:pt x="1135" y="139"/>
                    </a:lnTo>
                    <a:lnTo>
                      <a:pt x="1162" y="149"/>
                    </a:lnTo>
                    <a:lnTo>
                      <a:pt x="1190" y="158"/>
                    </a:lnTo>
                    <a:lnTo>
                      <a:pt x="1220" y="165"/>
                    </a:lnTo>
                    <a:lnTo>
                      <a:pt x="1253" y="173"/>
                    </a:lnTo>
                    <a:lnTo>
                      <a:pt x="1287" y="179"/>
                    </a:lnTo>
                    <a:lnTo>
                      <a:pt x="1328" y="187"/>
                    </a:lnTo>
                    <a:lnTo>
                      <a:pt x="1378" y="196"/>
                    </a:lnTo>
                    <a:lnTo>
                      <a:pt x="1435" y="208"/>
                    </a:lnTo>
                    <a:lnTo>
                      <a:pt x="1499" y="222"/>
                    </a:lnTo>
                    <a:lnTo>
                      <a:pt x="1567" y="239"/>
                    </a:lnTo>
                    <a:lnTo>
                      <a:pt x="1638" y="258"/>
                    </a:lnTo>
                    <a:lnTo>
                      <a:pt x="1675" y="268"/>
                    </a:lnTo>
                    <a:lnTo>
                      <a:pt x="1711" y="279"/>
                    </a:lnTo>
                    <a:lnTo>
                      <a:pt x="1747" y="290"/>
                    </a:lnTo>
                    <a:lnTo>
                      <a:pt x="1784" y="302"/>
                    </a:lnTo>
                    <a:lnTo>
                      <a:pt x="1820" y="314"/>
                    </a:lnTo>
                    <a:lnTo>
                      <a:pt x="1856" y="327"/>
                    </a:lnTo>
                    <a:lnTo>
                      <a:pt x="1890" y="341"/>
                    </a:lnTo>
                    <a:lnTo>
                      <a:pt x="1924" y="355"/>
                    </a:lnTo>
                    <a:lnTo>
                      <a:pt x="1956" y="370"/>
                    </a:lnTo>
                    <a:lnTo>
                      <a:pt x="1987" y="385"/>
                    </a:lnTo>
                    <a:lnTo>
                      <a:pt x="2018" y="402"/>
                    </a:lnTo>
                    <a:lnTo>
                      <a:pt x="2046" y="419"/>
                    </a:lnTo>
                    <a:lnTo>
                      <a:pt x="2072" y="436"/>
                    </a:lnTo>
                    <a:lnTo>
                      <a:pt x="2095" y="453"/>
                    </a:lnTo>
                    <a:lnTo>
                      <a:pt x="2117" y="473"/>
                    </a:lnTo>
                    <a:lnTo>
                      <a:pt x="2135" y="491"/>
                    </a:lnTo>
                    <a:lnTo>
                      <a:pt x="2152" y="512"/>
                    </a:lnTo>
                    <a:lnTo>
                      <a:pt x="2166" y="532"/>
                    </a:lnTo>
                    <a:lnTo>
                      <a:pt x="2175" y="553"/>
                    </a:lnTo>
                    <a:lnTo>
                      <a:pt x="2183" y="574"/>
                    </a:lnTo>
                    <a:lnTo>
                      <a:pt x="2181" y="595"/>
                    </a:lnTo>
                    <a:lnTo>
                      <a:pt x="2167" y="611"/>
                    </a:lnTo>
                    <a:lnTo>
                      <a:pt x="2141" y="624"/>
                    </a:lnTo>
                    <a:lnTo>
                      <a:pt x="2104" y="635"/>
                    </a:lnTo>
                    <a:lnTo>
                      <a:pt x="2058" y="641"/>
                    </a:lnTo>
                    <a:lnTo>
                      <a:pt x="2001" y="646"/>
                    </a:lnTo>
                    <a:lnTo>
                      <a:pt x="1937" y="648"/>
                    </a:lnTo>
                    <a:lnTo>
                      <a:pt x="1864" y="648"/>
                    </a:lnTo>
                    <a:lnTo>
                      <a:pt x="1785" y="645"/>
                    </a:lnTo>
                    <a:lnTo>
                      <a:pt x="1700" y="640"/>
                    </a:lnTo>
                    <a:lnTo>
                      <a:pt x="1610" y="634"/>
                    </a:lnTo>
                    <a:lnTo>
                      <a:pt x="1515" y="626"/>
                    </a:lnTo>
                    <a:lnTo>
                      <a:pt x="1418" y="617"/>
                    </a:lnTo>
                    <a:lnTo>
                      <a:pt x="1318" y="606"/>
                    </a:lnTo>
                    <a:lnTo>
                      <a:pt x="1215" y="594"/>
                    </a:lnTo>
                    <a:lnTo>
                      <a:pt x="1111" y="581"/>
                    </a:lnTo>
                    <a:lnTo>
                      <a:pt x="905" y="554"/>
                    </a:lnTo>
                    <a:lnTo>
                      <a:pt x="705" y="526"/>
                    </a:lnTo>
                    <a:lnTo>
                      <a:pt x="517" y="498"/>
                    </a:lnTo>
                    <a:lnTo>
                      <a:pt x="349" y="472"/>
                    </a:lnTo>
                    <a:lnTo>
                      <a:pt x="96" y="431"/>
                    </a:lnTo>
                    <a:lnTo>
                      <a:pt x="0" y="414"/>
                    </a:lnTo>
                    <a:lnTo>
                      <a:pt x="0" y="369"/>
                    </a:lnTo>
                    <a:close/>
                  </a:path>
                </a:pathLst>
              </a:custGeom>
              <a:solidFill>
                <a:srgbClr val="e7a9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6105600" y="3032280"/>
                <a:ext cx="693720" cy="206280"/>
              </a:xfrm>
              <a:custGeom>
                <a:avLst/>
                <a:gdLst/>
                <a:ahLst/>
                <a:rect l="l" t="t" r="r" b="b"/>
                <a:pathLst>
                  <a:path w="2183" h="648">
                    <a:moveTo>
                      <a:pt x="0" y="369"/>
                    </a:moveTo>
                    <a:lnTo>
                      <a:pt x="1" y="362"/>
                    </a:lnTo>
                    <a:lnTo>
                      <a:pt x="6" y="342"/>
                    </a:lnTo>
                    <a:lnTo>
                      <a:pt x="13" y="313"/>
                    </a:lnTo>
                    <a:lnTo>
                      <a:pt x="21" y="279"/>
                    </a:lnTo>
                    <a:lnTo>
                      <a:pt x="32" y="242"/>
                    </a:lnTo>
                    <a:lnTo>
                      <a:pt x="43" y="207"/>
                    </a:lnTo>
                    <a:lnTo>
                      <a:pt x="49" y="191"/>
                    </a:lnTo>
                    <a:lnTo>
                      <a:pt x="55" y="177"/>
                    </a:lnTo>
                    <a:lnTo>
                      <a:pt x="60" y="166"/>
                    </a:lnTo>
                    <a:lnTo>
                      <a:pt x="67" y="156"/>
                    </a:lnTo>
                    <a:lnTo>
                      <a:pt x="72" y="150"/>
                    </a:lnTo>
                    <a:lnTo>
                      <a:pt x="78" y="142"/>
                    </a:lnTo>
                    <a:lnTo>
                      <a:pt x="86" y="136"/>
                    </a:lnTo>
                    <a:lnTo>
                      <a:pt x="95" y="129"/>
                    </a:lnTo>
                    <a:lnTo>
                      <a:pt x="113" y="118"/>
                    </a:lnTo>
                    <a:lnTo>
                      <a:pt x="135" y="106"/>
                    </a:lnTo>
                    <a:lnTo>
                      <a:pt x="157" y="95"/>
                    </a:lnTo>
                    <a:lnTo>
                      <a:pt x="182" y="85"/>
                    </a:lnTo>
                    <a:lnTo>
                      <a:pt x="207" y="77"/>
                    </a:lnTo>
                    <a:lnTo>
                      <a:pt x="232" y="68"/>
                    </a:lnTo>
                    <a:lnTo>
                      <a:pt x="256" y="60"/>
                    </a:lnTo>
                    <a:lnTo>
                      <a:pt x="276" y="54"/>
                    </a:lnTo>
                    <a:lnTo>
                      <a:pt x="295" y="48"/>
                    </a:lnTo>
                    <a:lnTo>
                      <a:pt x="312" y="43"/>
                    </a:lnTo>
                    <a:lnTo>
                      <a:pt x="327" y="38"/>
                    </a:lnTo>
                    <a:lnTo>
                      <a:pt x="340" y="32"/>
                    </a:lnTo>
                    <a:lnTo>
                      <a:pt x="353" y="26"/>
                    </a:lnTo>
                    <a:lnTo>
                      <a:pt x="366" y="18"/>
                    </a:lnTo>
                    <a:lnTo>
                      <a:pt x="379" y="11"/>
                    </a:lnTo>
                    <a:lnTo>
                      <a:pt x="393" y="5"/>
                    </a:lnTo>
                    <a:lnTo>
                      <a:pt x="408" y="2"/>
                    </a:lnTo>
                    <a:lnTo>
                      <a:pt x="424" y="0"/>
                    </a:lnTo>
                    <a:lnTo>
                      <a:pt x="443" y="0"/>
                    </a:lnTo>
                    <a:lnTo>
                      <a:pt x="464" y="1"/>
                    </a:lnTo>
                    <a:lnTo>
                      <a:pt x="488" y="3"/>
                    </a:lnTo>
                    <a:lnTo>
                      <a:pt x="516" y="6"/>
                    </a:lnTo>
                    <a:lnTo>
                      <a:pt x="553" y="11"/>
                    </a:lnTo>
                    <a:lnTo>
                      <a:pt x="600" y="14"/>
                    </a:lnTo>
                    <a:lnTo>
                      <a:pt x="656" y="17"/>
                    </a:lnTo>
                    <a:lnTo>
                      <a:pt x="716" y="20"/>
                    </a:lnTo>
                    <a:lnTo>
                      <a:pt x="776" y="25"/>
                    </a:lnTo>
                    <a:lnTo>
                      <a:pt x="834" y="30"/>
                    </a:lnTo>
                    <a:lnTo>
                      <a:pt x="860" y="33"/>
                    </a:lnTo>
                    <a:lnTo>
                      <a:pt x="883" y="37"/>
                    </a:lnTo>
                    <a:lnTo>
                      <a:pt x="904" y="41"/>
                    </a:lnTo>
                    <a:lnTo>
                      <a:pt x="922" y="45"/>
                    </a:lnTo>
                    <a:lnTo>
                      <a:pt x="937" y="52"/>
                    </a:lnTo>
                    <a:lnTo>
                      <a:pt x="953" y="58"/>
                    </a:lnTo>
                    <a:lnTo>
                      <a:pt x="970" y="66"/>
                    </a:lnTo>
                    <a:lnTo>
                      <a:pt x="987" y="73"/>
                    </a:lnTo>
                    <a:lnTo>
                      <a:pt x="1023" y="92"/>
                    </a:lnTo>
                    <a:lnTo>
                      <a:pt x="1064" y="110"/>
                    </a:lnTo>
                    <a:lnTo>
                      <a:pt x="1086" y="120"/>
                    </a:lnTo>
                    <a:lnTo>
                      <a:pt x="1110" y="129"/>
                    </a:lnTo>
                    <a:lnTo>
                      <a:pt x="1135" y="139"/>
                    </a:lnTo>
                    <a:lnTo>
                      <a:pt x="1162" y="149"/>
                    </a:lnTo>
                    <a:lnTo>
                      <a:pt x="1190" y="158"/>
                    </a:lnTo>
                    <a:lnTo>
                      <a:pt x="1220" y="165"/>
                    </a:lnTo>
                    <a:lnTo>
                      <a:pt x="1253" y="173"/>
                    </a:lnTo>
                    <a:lnTo>
                      <a:pt x="1287" y="179"/>
                    </a:lnTo>
                    <a:lnTo>
                      <a:pt x="1328" y="187"/>
                    </a:lnTo>
                    <a:lnTo>
                      <a:pt x="1378" y="196"/>
                    </a:lnTo>
                    <a:lnTo>
                      <a:pt x="1435" y="208"/>
                    </a:lnTo>
                    <a:lnTo>
                      <a:pt x="1499" y="222"/>
                    </a:lnTo>
                    <a:lnTo>
                      <a:pt x="1567" y="239"/>
                    </a:lnTo>
                    <a:lnTo>
                      <a:pt x="1638" y="258"/>
                    </a:lnTo>
                    <a:lnTo>
                      <a:pt x="1675" y="268"/>
                    </a:lnTo>
                    <a:lnTo>
                      <a:pt x="1711" y="279"/>
                    </a:lnTo>
                    <a:lnTo>
                      <a:pt x="1747" y="290"/>
                    </a:lnTo>
                    <a:lnTo>
                      <a:pt x="1784" y="302"/>
                    </a:lnTo>
                    <a:lnTo>
                      <a:pt x="1820" y="314"/>
                    </a:lnTo>
                    <a:lnTo>
                      <a:pt x="1856" y="327"/>
                    </a:lnTo>
                    <a:lnTo>
                      <a:pt x="1890" y="341"/>
                    </a:lnTo>
                    <a:lnTo>
                      <a:pt x="1924" y="355"/>
                    </a:lnTo>
                    <a:lnTo>
                      <a:pt x="1956" y="370"/>
                    </a:lnTo>
                    <a:lnTo>
                      <a:pt x="1987" y="385"/>
                    </a:lnTo>
                    <a:lnTo>
                      <a:pt x="2018" y="402"/>
                    </a:lnTo>
                    <a:lnTo>
                      <a:pt x="2046" y="419"/>
                    </a:lnTo>
                    <a:lnTo>
                      <a:pt x="2072" y="436"/>
                    </a:lnTo>
                    <a:lnTo>
                      <a:pt x="2095" y="453"/>
                    </a:lnTo>
                    <a:lnTo>
                      <a:pt x="2117" y="473"/>
                    </a:lnTo>
                    <a:lnTo>
                      <a:pt x="2135" y="491"/>
                    </a:lnTo>
                    <a:lnTo>
                      <a:pt x="2152" y="512"/>
                    </a:lnTo>
                    <a:lnTo>
                      <a:pt x="2166" y="532"/>
                    </a:lnTo>
                    <a:lnTo>
                      <a:pt x="2175" y="553"/>
                    </a:lnTo>
                    <a:lnTo>
                      <a:pt x="2183" y="574"/>
                    </a:lnTo>
                    <a:lnTo>
                      <a:pt x="2181" y="595"/>
                    </a:lnTo>
                    <a:lnTo>
                      <a:pt x="2167" y="611"/>
                    </a:lnTo>
                    <a:lnTo>
                      <a:pt x="2141" y="624"/>
                    </a:lnTo>
                    <a:lnTo>
                      <a:pt x="2104" y="635"/>
                    </a:lnTo>
                    <a:lnTo>
                      <a:pt x="2058" y="641"/>
                    </a:lnTo>
                    <a:lnTo>
                      <a:pt x="2001" y="646"/>
                    </a:lnTo>
                    <a:lnTo>
                      <a:pt x="1937" y="648"/>
                    </a:lnTo>
                    <a:lnTo>
                      <a:pt x="1864" y="648"/>
                    </a:lnTo>
                    <a:lnTo>
                      <a:pt x="1785" y="645"/>
                    </a:lnTo>
                    <a:lnTo>
                      <a:pt x="1700" y="640"/>
                    </a:lnTo>
                    <a:lnTo>
                      <a:pt x="1610" y="634"/>
                    </a:lnTo>
                    <a:lnTo>
                      <a:pt x="1515" y="626"/>
                    </a:lnTo>
                    <a:lnTo>
                      <a:pt x="1418" y="617"/>
                    </a:lnTo>
                    <a:lnTo>
                      <a:pt x="1318" y="606"/>
                    </a:lnTo>
                    <a:lnTo>
                      <a:pt x="1215" y="594"/>
                    </a:lnTo>
                    <a:lnTo>
                      <a:pt x="1111" y="581"/>
                    </a:lnTo>
                    <a:lnTo>
                      <a:pt x="905" y="554"/>
                    </a:lnTo>
                    <a:lnTo>
                      <a:pt x="705" y="526"/>
                    </a:lnTo>
                    <a:lnTo>
                      <a:pt x="517" y="498"/>
                    </a:lnTo>
                    <a:lnTo>
                      <a:pt x="349" y="472"/>
                    </a:lnTo>
                    <a:lnTo>
                      <a:pt x="96" y="431"/>
                    </a:lnTo>
                    <a:lnTo>
                      <a:pt x="0" y="414"/>
                    </a:lnTo>
                    <a:lnTo>
                      <a:pt x="0" y="369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6105600" y="3065400"/>
                <a:ext cx="520560" cy="166680"/>
              </a:xfrm>
              <a:custGeom>
                <a:avLst/>
                <a:gdLst/>
                <a:ahLst/>
                <a:rect l="l" t="t" r="r" b="b"/>
                <a:pathLst>
                  <a:path w="1637" h="525">
                    <a:moveTo>
                      <a:pt x="1582" y="525"/>
                    </a:moveTo>
                    <a:lnTo>
                      <a:pt x="1458" y="513"/>
                    </a:lnTo>
                    <a:lnTo>
                      <a:pt x="1328" y="500"/>
                    </a:lnTo>
                    <a:lnTo>
                      <a:pt x="1197" y="485"/>
                    </a:lnTo>
                    <a:lnTo>
                      <a:pt x="1063" y="467"/>
                    </a:lnTo>
                    <a:lnTo>
                      <a:pt x="929" y="450"/>
                    </a:lnTo>
                    <a:lnTo>
                      <a:pt x="798" y="432"/>
                    </a:lnTo>
                    <a:lnTo>
                      <a:pt x="670" y="413"/>
                    </a:lnTo>
                    <a:lnTo>
                      <a:pt x="548" y="395"/>
                    </a:lnTo>
                    <a:lnTo>
                      <a:pt x="330" y="362"/>
                    </a:lnTo>
                    <a:lnTo>
                      <a:pt x="156" y="334"/>
                    </a:lnTo>
                    <a:lnTo>
                      <a:pt x="41" y="314"/>
                    </a:lnTo>
                    <a:lnTo>
                      <a:pt x="0" y="307"/>
                    </a:lnTo>
                    <a:lnTo>
                      <a:pt x="0" y="262"/>
                    </a:lnTo>
                    <a:lnTo>
                      <a:pt x="1" y="255"/>
                    </a:lnTo>
                    <a:lnTo>
                      <a:pt x="6" y="235"/>
                    </a:lnTo>
                    <a:lnTo>
                      <a:pt x="13" y="206"/>
                    </a:lnTo>
                    <a:lnTo>
                      <a:pt x="21" y="172"/>
                    </a:lnTo>
                    <a:lnTo>
                      <a:pt x="32" y="135"/>
                    </a:lnTo>
                    <a:lnTo>
                      <a:pt x="43" y="100"/>
                    </a:lnTo>
                    <a:lnTo>
                      <a:pt x="49" y="84"/>
                    </a:lnTo>
                    <a:lnTo>
                      <a:pt x="55" y="70"/>
                    </a:lnTo>
                    <a:lnTo>
                      <a:pt x="60" y="59"/>
                    </a:lnTo>
                    <a:lnTo>
                      <a:pt x="67" y="49"/>
                    </a:lnTo>
                    <a:lnTo>
                      <a:pt x="68" y="51"/>
                    </a:lnTo>
                    <a:lnTo>
                      <a:pt x="70" y="52"/>
                    </a:lnTo>
                    <a:lnTo>
                      <a:pt x="74" y="53"/>
                    </a:lnTo>
                    <a:lnTo>
                      <a:pt x="81" y="54"/>
                    </a:lnTo>
                    <a:lnTo>
                      <a:pt x="89" y="55"/>
                    </a:lnTo>
                    <a:lnTo>
                      <a:pt x="100" y="54"/>
                    </a:lnTo>
                    <a:lnTo>
                      <a:pt x="112" y="52"/>
                    </a:lnTo>
                    <a:lnTo>
                      <a:pt x="126" y="47"/>
                    </a:lnTo>
                    <a:lnTo>
                      <a:pt x="141" y="42"/>
                    </a:lnTo>
                    <a:lnTo>
                      <a:pt x="166" y="33"/>
                    </a:lnTo>
                    <a:lnTo>
                      <a:pt x="196" y="25"/>
                    </a:lnTo>
                    <a:lnTo>
                      <a:pt x="229" y="16"/>
                    </a:lnTo>
                    <a:lnTo>
                      <a:pt x="261" y="8"/>
                    </a:lnTo>
                    <a:lnTo>
                      <a:pt x="290" y="3"/>
                    </a:lnTo>
                    <a:lnTo>
                      <a:pt x="302" y="1"/>
                    </a:lnTo>
                    <a:lnTo>
                      <a:pt x="312" y="0"/>
                    </a:lnTo>
                    <a:lnTo>
                      <a:pt x="319" y="0"/>
                    </a:lnTo>
                    <a:lnTo>
                      <a:pt x="324" y="1"/>
                    </a:lnTo>
                    <a:lnTo>
                      <a:pt x="324" y="2"/>
                    </a:lnTo>
                    <a:lnTo>
                      <a:pt x="320" y="4"/>
                    </a:lnTo>
                    <a:lnTo>
                      <a:pt x="316" y="7"/>
                    </a:lnTo>
                    <a:lnTo>
                      <a:pt x="309" y="12"/>
                    </a:lnTo>
                    <a:lnTo>
                      <a:pt x="291" y="21"/>
                    </a:lnTo>
                    <a:lnTo>
                      <a:pt x="271" y="32"/>
                    </a:lnTo>
                    <a:lnTo>
                      <a:pt x="249" y="42"/>
                    </a:lnTo>
                    <a:lnTo>
                      <a:pt x="231" y="52"/>
                    </a:lnTo>
                    <a:lnTo>
                      <a:pt x="217" y="57"/>
                    </a:lnTo>
                    <a:lnTo>
                      <a:pt x="212" y="60"/>
                    </a:lnTo>
                    <a:lnTo>
                      <a:pt x="210" y="61"/>
                    </a:lnTo>
                    <a:lnTo>
                      <a:pt x="205" y="64"/>
                    </a:lnTo>
                    <a:lnTo>
                      <a:pt x="198" y="68"/>
                    </a:lnTo>
                    <a:lnTo>
                      <a:pt x="192" y="73"/>
                    </a:lnTo>
                    <a:lnTo>
                      <a:pt x="189" y="76"/>
                    </a:lnTo>
                    <a:lnTo>
                      <a:pt x="186" y="79"/>
                    </a:lnTo>
                    <a:lnTo>
                      <a:pt x="184" y="82"/>
                    </a:lnTo>
                    <a:lnTo>
                      <a:pt x="184" y="85"/>
                    </a:lnTo>
                    <a:lnTo>
                      <a:pt x="184" y="87"/>
                    </a:lnTo>
                    <a:lnTo>
                      <a:pt x="185" y="91"/>
                    </a:lnTo>
                    <a:lnTo>
                      <a:pt x="188" y="93"/>
                    </a:lnTo>
                    <a:lnTo>
                      <a:pt x="192" y="95"/>
                    </a:lnTo>
                    <a:lnTo>
                      <a:pt x="199" y="96"/>
                    </a:lnTo>
                    <a:lnTo>
                      <a:pt x="208" y="96"/>
                    </a:lnTo>
                    <a:lnTo>
                      <a:pt x="219" y="94"/>
                    </a:lnTo>
                    <a:lnTo>
                      <a:pt x="231" y="91"/>
                    </a:lnTo>
                    <a:lnTo>
                      <a:pt x="259" y="82"/>
                    </a:lnTo>
                    <a:lnTo>
                      <a:pt x="290" y="69"/>
                    </a:lnTo>
                    <a:lnTo>
                      <a:pt x="323" y="55"/>
                    </a:lnTo>
                    <a:lnTo>
                      <a:pt x="353" y="41"/>
                    </a:lnTo>
                    <a:lnTo>
                      <a:pt x="380" y="28"/>
                    </a:lnTo>
                    <a:lnTo>
                      <a:pt x="400" y="18"/>
                    </a:lnTo>
                    <a:lnTo>
                      <a:pt x="408" y="14"/>
                    </a:lnTo>
                    <a:lnTo>
                      <a:pt x="416" y="13"/>
                    </a:lnTo>
                    <a:lnTo>
                      <a:pt x="423" y="12"/>
                    </a:lnTo>
                    <a:lnTo>
                      <a:pt x="431" y="12"/>
                    </a:lnTo>
                    <a:lnTo>
                      <a:pt x="436" y="14"/>
                    </a:lnTo>
                    <a:lnTo>
                      <a:pt x="441" y="16"/>
                    </a:lnTo>
                    <a:lnTo>
                      <a:pt x="447" y="19"/>
                    </a:lnTo>
                    <a:lnTo>
                      <a:pt x="450" y="24"/>
                    </a:lnTo>
                    <a:lnTo>
                      <a:pt x="453" y="28"/>
                    </a:lnTo>
                    <a:lnTo>
                      <a:pt x="454" y="32"/>
                    </a:lnTo>
                    <a:lnTo>
                      <a:pt x="455" y="38"/>
                    </a:lnTo>
                    <a:lnTo>
                      <a:pt x="454" y="43"/>
                    </a:lnTo>
                    <a:lnTo>
                      <a:pt x="452" y="48"/>
                    </a:lnTo>
                    <a:lnTo>
                      <a:pt x="449" y="53"/>
                    </a:lnTo>
                    <a:lnTo>
                      <a:pt x="444" y="58"/>
                    </a:lnTo>
                    <a:lnTo>
                      <a:pt x="437" y="62"/>
                    </a:lnTo>
                    <a:lnTo>
                      <a:pt x="431" y="67"/>
                    </a:lnTo>
                    <a:lnTo>
                      <a:pt x="426" y="71"/>
                    </a:lnTo>
                    <a:lnTo>
                      <a:pt x="422" y="76"/>
                    </a:lnTo>
                    <a:lnTo>
                      <a:pt x="420" y="81"/>
                    </a:lnTo>
                    <a:lnTo>
                      <a:pt x="419" y="86"/>
                    </a:lnTo>
                    <a:lnTo>
                      <a:pt x="419" y="91"/>
                    </a:lnTo>
                    <a:lnTo>
                      <a:pt x="420" y="95"/>
                    </a:lnTo>
                    <a:lnTo>
                      <a:pt x="422" y="99"/>
                    </a:lnTo>
                    <a:lnTo>
                      <a:pt x="425" y="103"/>
                    </a:lnTo>
                    <a:lnTo>
                      <a:pt x="430" y="108"/>
                    </a:lnTo>
                    <a:lnTo>
                      <a:pt x="434" y="111"/>
                    </a:lnTo>
                    <a:lnTo>
                      <a:pt x="440" y="113"/>
                    </a:lnTo>
                    <a:lnTo>
                      <a:pt x="447" y="115"/>
                    </a:lnTo>
                    <a:lnTo>
                      <a:pt x="454" y="116"/>
                    </a:lnTo>
                    <a:lnTo>
                      <a:pt x="463" y="118"/>
                    </a:lnTo>
                    <a:lnTo>
                      <a:pt x="472" y="116"/>
                    </a:lnTo>
                    <a:lnTo>
                      <a:pt x="475" y="115"/>
                    </a:lnTo>
                    <a:lnTo>
                      <a:pt x="485" y="113"/>
                    </a:lnTo>
                    <a:lnTo>
                      <a:pt x="498" y="111"/>
                    </a:lnTo>
                    <a:lnTo>
                      <a:pt x="514" y="108"/>
                    </a:lnTo>
                    <a:lnTo>
                      <a:pt x="531" y="107"/>
                    </a:lnTo>
                    <a:lnTo>
                      <a:pt x="548" y="107"/>
                    </a:lnTo>
                    <a:lnTo>
                      <a:pt x="557" y="109"/>
                    </a:lnTo>
                    <a:lnTo>
                      <a:pt x="565" y="110"/>
                    </a:lnTo>
                    <a:lnTo>
                      <a:pt x="572" y="113"/>
                    </a:lnTo>
                    <a:lnTo>
                      <a:pt x="578" y="116"/>
                    </a:lnTo>
                    <a:lnTo>
                      <a:pt x="585" y="121"/>
                    </a:lnTo>
                    <a:lnTo>
                      <a:pt x="595" y="124"/>
                    </a:lnTo>
                    <a:lnTo>
                      <a:pt x="608" y="128"/>
                    </a:lnTo>
                    <a:lnTo>
                      <a:pt x="624" y="130"/>
                    </a:lnTo>
                    <a:lnTo>
                      <a:pt x="641" y="134"/>
                    </a:lnTo>
                    <a:lnTo>
                      <a:pt x="662" y="136"/>
                    </a:lnTo>
                    <a:lnTo>
                      <a:pt x="682" y="137"/>
                    </a:lnTo>
                    <a:lnTo>
                      <a:pt x="705" y="138"/>
                    </a:lnTo>
                    <a:lnTo>
                      <a:pt x="728" y="139"/>
                    </a:lnTo>
                    <a:lnTo>
                      <a:pt x="751" y="139"/>
                    </a:lnTo>
                    <a:lnTo>
                      <a:pt x="775" y="138"/>
                    </a:lnTo>
                    <a:lnTo>
                      <a:pt x="799" y="137"/>
                    </a:lnTo>
                    <a:lnTo>
                      <a:pt x="822" y="134"/>
                    </a:lnTo>
                    <a:lnTo>
                      <a:pt x="843" y="130"/>
                    </a:lnTo>
                    <a:lnTo>
                      <a:pt x="864" y="126"/>
                    </a:lnTo>
                    <a:lnTo>
                      <a:pt x="882" y="122"/>
                    </a:lnTo>
                    <a:lnTo>
                      <a:pt x="892" y="120"/>
                    </a:lnTo>
                    <a:lnTo>
                      <a:pt x="903" y="118"/>
                    </a:lnTo>
                    <a:lnTo>
                      <a:pt x="914" y="115"/>
                    </a:lnTo>
                    <a:lnTo>
                      <a:pt x="926" y="114"/>
                    </a:lnTo>
                    <a:lnTo>
                      <a:pt x="956" y="113"/>
                    </a:lnTo>
                    <a:lnTo>
                      <a:pt x="989" y="113"/>
                    </a:lnTo>
                    <a:lnTo>
                      <a:pt x="1025" y="114"/>
                    </a:lnTo>
                    <a:lnTo>
                      <a:pt x="1064" y="118"/>
                    </a:lnTo>
                    <a:lnTo>
                      <a:pt x="1105" y="123"/>
                    </a:lnTo>
                    <a:lnTo>
                      <a:pt x="1149" y="129"/>
                    </a:lnTo>
                    <a:lnTo>
                      <a:pt x="1193" y="137"/>
                    </a:lnTo>
                    <a:lnTo>
                      <a:pt x="1240" y="147"/>
                    </a:lnTo>
                    <a:lnTo>
                      <a:pt x="1286" y="157"/>
                    </a:lnTo>
                    <a:lnTo>
                      <a:pt x="1334" y="170"/>
                    </a:lnTo>
                    <a:lnTo>
                      <a:pt x="1380" y="186"/>
                    </a:lnTo>
                    <a:lnTo>
                      <a:pt x="1427" y="202"/>
                    </a:lnTo>
                    <a:lnTo>
                      <a:pt x="1449" y="210"/>
                    </a:lnTo>
                    <a:lnTo>
                      <a:pt x="1472" y="220"/>
                    </a:lnTo>
                    <a:lnTo>
                      <a:pt x="1494" y="230"/>
                    </a:lnTo>
                    <a:lnTo>
                      <a:pt x="1515" y="241"/>
                    </a:lnTo>
                    <a:lnTo>
                      <a:pt x="1536" y="250"/>
                    </a:lnTo>
                    <a:lnTo>
                      <a:pt x="1553" y="262"/>
                    </a:lnTo>
                    <a:lnTo>
                      <a:pt x="1569" y="273"/>
                    </a:lnTo>
                    <a:lnTo>
                      <a:pt x="1583" y="284"/>
                    </a:lnTo>
                    <a:lnTo>
                      <a:pt x="1595" y="296"/>
                    </a:lnTo>
                    <a:lnTo>
                      <a:pt x="1606" y="308"/>
                    </a:lnTo>
                    <a:lnTo>
                      <a:pt x="1615" y="319"/>
                    </a:lnTo>
                    <a:lnTo>
                      <a:pt x="1621" y="331"/>
                    </a:lnTo>
                    <a:lnTo>
                      <a:pt x="1628" y="343"/>
                    </a:lnTo>
                    <a:lnTo>
                      <a:pt x="1631" y="355"/>
                    </a:lnTo>
                    <a:lnTo>
                      <a:pt x="1634" y="367"/>
                    </a:lnTo>
                    <a:lnTo>
                      <a:pt x="1636" y="379"/>
                    </a:lnTo>
                    <a:lnTo>
                      <a:pt x="1637" y="391"/>
                    </a:lnTo>
                    <a:lnTo>
                      <a:pt x="1636" y="402"/>
                    </a:lnTo>
                    <a:lnTo>
                      <a:pt x="1635" y="413"/>
                    </a:lnTo>
                    <a:lnTo>
                      <a:pt x="1634" y="424"/>
                    </a:lnTo>
                    <a:lnTo>
                      <a:pt x="1631" y="435"/>
                    </a:lnTo>
                    <a:lnTo>
                      <a:pt x="1629" y="445"/>
                    </a:lnTo>
                    <a:lnTo>
                      <a:pt x="1624" y="454"/>
                    </a:lnTo>
                    <a:lnTo>
                      <a:pt x="1621" y="464"/>
                    </a:lnTo>
                    <a:lnTo>
                      <a:pt x="1612" y="481"/>
                    </a:lnTo>
                    <a:lnTo>
                      <a:pt x="1604" y="496"/>
                    </a:lnTo>
                    <a:lnTo>
                      <a:pt x="1589" y="517"/>
                    </a:lnTo>
                    <a:lnTo>
                      <a:pt x="1582" y="525"/>
                    </a:lnTo>
                    <a:close/>
                  </a:path>
                </a:pathLst>
              </a:custGeom>
              <a:solidFill>
                <a:srgbClr val="e7a9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6105600" y="3071880"/>
                <a:ext cx="514080" cy="160200"/>
              </a:xfrm>
              <a:custGeom>
                <a:avLst/>
                <a:gdLst/>
                <a:ahLst/>
                <a:rect l="l" t="t" r="r" b="b"/>
                <a:pathLst>
                  <a:path w="1621" h="508">
                    <a:moveTo>
                      <a:pt x="578" y="109"/>
                    </a:moveTo>
                    <a:lnTo>
                      <a:pt x="585" y="113"/>
                    </a:lnTo>
                    <a:lnTo>
                      <a:pt x="595" y="117"/>
                    </a:lnTo>
                    <a:lnTo>
                      <a:pt x="609" y="120"/>
                    </a:lnTo>
                    <a:lnTo>
                      <a:pt x="624" y="123"/>
                    </a:lnTo>
                    <a:lnTo>
                      <a:pt x="642" y="125"/>
                    </a:lnTo>
                    <a:lnTo>
                      <a:pt x="662" y="128"/>
                    </a:lnTo>
                    <a:lnTo>
                      <a:pt x="683" y="129"/>
                    </a:lnTo>
                    <a:lnTo>
                      <a:pt x="706" y="130"/>
                    </a:lnTo>
                    <a:lnTo>
                      <a:pt x="730" y="130"/>
                    </a:lnTo>
                    <a:lnTo>
                      <a:pt x="754" y="129"/>
                    </a:lnTo>
                    <a:lnTo>
                      <a:pt x="777" y="128"/>
                    </a:lnTo>
                    <a:lnTo>
                      <a:pt x="801" y="126"/>
                    </a:lnTo>
                    <a:lnTo>
                      <a:pt x="824" y="124"/>
                    </a:lnTo>
                    <a:lnTo>
                      <a:pt x="845" y="121"/>
                    </a:lnTo>
                    <a:lnTo>
                      <a:pt x="866" y="117"/>
                    </a:lnTo>
                    <a:lnTo>
                      <a:pt x="884" y="112"/>
                    </a:lnTo>
                    <a:lnTo>
                      <a:pt x="894" y="109"/>
                    </a:lnTo>
                    <a:lnTo>
                      <a:pt x="904" y="107"/>
                    </a:lnTo>
                    <a:lnTo>
                      <a:pt x="916" y="106"/>
                    </a:lnTo>
                    <a:lnTo>
                      <a:pt x="928" y="104"/>
                    </a:lnTo>
                    <a:lnTo>
                      <a:pt x="956" y="103"/>
                    </a:lnTo>
                    <a:lnTo>
                      <a:pt x="986" y="103"/>
                    </a:lnTo>
                    <a:lnTo>
                      <a:pt x="1019" y="104"/>
                    </a:lnTo>
                    <a:lnTo>
                      <a:pt x="1056" y="107"/>
                    </a:lnTo>
                    <a:lnTo>
                      <a:pt x="1095" y="112"/>
                    </a:lnTo>
                    <a:lnTo>
                      <a:pt x="1135" y="119"/>
                    </a:lnTo>
                    <a:lnTo>
                      <a:pt x="1177" y="126"/>
                    </a:lnTo>
                    <a:lnTo>
                      <a:pt x="1220" y="136"/>
                    </a:lnTo>
                    <a:lnTo>
                      <a:pt x="1265" y="148"/>
                    </a:lnTo>
                    <a:lnTo>
                      <a:pt x="1310" y="161"/>
                    </a:lnTo>
                    <a:lnTo>
                      <a:pt x="1355" y="176"/>
                    </a:lnTo>
                    <a:lnTo>
                      <a:pt x="1400" y="192"/>
                    </a:lnTo>
                    <a:lnTo>
                      <a:pt x="1444" y="211"/>
                    </a:lnTo>
                    <a:lnTo>
                      <a:pt x="1488" y="230"/>
                    </a:lnTo>
                    <a:lnTo>
                      <a:pt x="1508" y="241"/>
                    </a:lnTo>
                    <a:lnTo>
                      <a:pt x="1526" y="252"/>
                    </a:lnTo>
                    <a:lnTo>
                      <a:pt x="1542" y="264"/>
                    </a:lnTo>
                    <a:lnTo>
                      <a:pt x="1557" y="274"/>
                    </a:lnTo>
                    <a:lnTo>
                      <a:pt x="1570" y="286"/>
                    </a:lnTo>
                    <a:lnTo>
                      <a:pt x="1581" y="297"/>
                    </a:lnTo>
                    <a:lnTo>
                      <a:pt x="1591" y="309"/>
                    </a:lnTo>
                    <a:lnTo>
                      <a:pt x="1598" y="321"/>
                    </a:lnTo>
                    <a:lnTo>
                      <a:pt x="1605" y="333"/>
                    </a:lnTo>
                    <a:lnTo>
                      <a:pt x="1610" y="345"/>
                    </a:lnTo>
                    <a:lnTo>
                      <a:pt x="1615" y="355"/>
                    </a:lnTo>
                    <a:lnTo>
                      <a:pt x="1618" y="367"/>
                    </a:lnTo>
                    <a:lnTo>
                      <a:pt x="1620" y="378"/>
                    </a:lnTo>
                    <a:lnTo>
                      <a:pt x="1620" y="390"/>
                    </a:lnTo>
                    <a:lnTo>
                      <a:pt x="1621" y="401"/>
                    </a:lnTo>
                    <a:lnTo>
                      <a:pt x="1620" y="410"/>
                    </a:lnTo>
                    <a:lnTo>
                      <a:pt x="1619" y="421"/>
                    </a:lnTo>
                    <a:lnTo>
                      <a:pt x="1617" y="431"/>
                    </a:lnTo>
                    <a:lnTo>
                      <a:pt x="1615" y="441"/>
                    </a:lnTo>
                    <a:lnTo>
                      <a:pt x="1612" y="449"/>
                    </a:lnTo>
                    <a:lnTo>
                      <a:pt x="1606" y="466"/>
                    </a:lnTo>
                    <a:lnTo>
                      <a:pt x="1599" y="480"/>
                    </a:lnTo>
                    <a:lnTo>
                      <a:pt x="1588" y="500"/>
                    </a:lnTo>
                    <a:lnTo>
                      <a:pt x="1582" y="508"/>
                    </a:lnTo>
                    <a:lnTo>
                      <a:pt x="1458" y="496"/>
                    </a:lnTo>
                    <a:lnTo>
                      <a:pt x="1328" y="483"/>
                    </a:lnTo>
                    <a:lnTo>
                      <a:pt x="1197" y="468"/>
                    </a:lnTo>
                    <a:lnTo>
                      <a:pt x="1063" y="450"/>
                    </a:lnTo>
                    <a:lnTo>
                      <a:pt x="929" y="433"/>
                    </a:lnTo>
                    <a:lnTo>
                      <a:pt x="798" y="415"/>
                    </a:lnTo>
                    <a:lnTo>
                      <a:pt x="670" y="396"/>
                    </a:lnTo>
                    <a:lnTo>
                      <a:pt x="548" y="378"/>
                    </a:lnTo>
                    <a:lnTo>
                      <a:pt x="330" y="345"/>
                    </a:lnTo>
                    <a:lnTo>
                      <a:pt x="156" y="317"/>
                    </a:lnTo>
                    <a:lnTo>
                      <a:pt x="41" y="297"/>
                    </a:lnTo>
                    <a:lnTo>
                      <a:pt x="0" y="290"/>
                    </a:lnTo>
                    <a:lnTo>
                      <a:pt x="0" y="245"/>
                    </a:lnTo>
                    <a:lnTo>
                      <a:pt x="1" y="239"/>
                    </a:lnTo>
                    <a:lnTo>
                      <a:pt x="5" y="219"/>
                    </a:lnTo>
                    <a:lnTo>
                      <a:pt x="11" y="191"/>
                    </a:lnTo>
                    <a:lnTo>
                      <a:pt x="20" y="158"/>
                    </a:lnTo>
                    <a:lnTo>
                      <a:pt x="30" y="123"/>
                    </a:lnTo>
                    <a:lnTo>
                      <a:pt x="41" y="90"/>
                    </a:lnTo>
                    <a:lnTo>
                      <a:pt x="45" y="76"/>
                    </a:lnTo>
                    <a:lnTo>
                      <a:pt x="50" y="62"/>
                    </a:lnTo>
                    <a:lnTo>
                      <a:pt x="56" y="51"/>
                    </a:lnTo>
                    <a:lnTo>
                      <a:pt x="61" y="43"/>
                    </a:lnTo>
                    <a:lnTo>
                      <a:pt x="62" y="43"/>
                    </a:lnTo>
                    <a:lnTo>
                      <a:pt x="64" y="44"/>
                    </a:lnTo>
                    <a:lnTo>
                      <a:pt x="69" y="45"/>
                    </a:lnTo>
                    <a:lnTo>
                      <a:pt x="75" y="48"/>
                    </a:lnTo>
                    <a:lnTo>
                      <a:pt x="83" y="48"/>
                    </a:lnTo>
                    <a:lnTo>
                      <a:pt x="93" y="47"/>
                    </a:lnTo>
                    <a:lnTo>
                      <a:pt x="104" y="44"/>
                    </a:lnTo>
                    <a:lnTo>
                      <a:pt x="118" y="40"/>
                    </a:lnTo>
                    <a:lnTo>
                      <a:pt x="131" y="36"/>
                    </a:lnTo>
                    <a:lnTo>
                      <a:pt x="151" y="29"/>
                    </a:lnTo>
                    <a:lnTo>
                      <a:pt x="176" y="22"/>
                    </a:lnTo>
                    <a:lnTo>
                      <a:pt x="203" y="15"/>
                    </a:lnTo>
                    <a:lnTo>
                      <a:pt x="229" y="9"/>
                    </a:lnTo>
                    <a:lnTo>
                      <a:pt x="252" y="3"/>
                    </a:lnTo>
                    <a:lnTo>
                      <a:pt x="262" y="2"/>
                    </a:lnTo>
                    <a:lnTo>
                      <a:pt x="271" y="1"/>
                    </a:lnTo>
                    <a:lnTo>
                      <a:pt x="277" y="0"/>
                    </a:lnTo>
                    <a:lnTo>
                      <a:pt x="282" y="1"/>
                    </a:lnTo>
                    <a:lnTo>
                      <a:pt x="282" y="1"/>
                    </a:lnTo>
                    <a:lnTo>
                      <a:pt x="280" y="3"/>
                    </a:lnTo>
                    <a:lnTo>
                      <a:pt x="277" y="5"/>
                    </a:lnTo>
                    <a:lnTo>
                      <a:pt x="272" y="9"/>
                    </a:lnTo>
                    <a:lnTo>
                      <a:pt x="259" y="16"/>
                    </a:lnTo>
                    <a:lnTo>
                      <a:pt x="243" y="25"/>
                    </a:lnTo>
                    <a:lnTo>
                      <a:pt x="226" y="34"/>
                    </a:lnTo>
                    <a:lnTo>
                      <a:pt x="211" y="41"/>
                    </a:lnTo>
                    <a:lnTo>
                      <a:pt x="202" y="45"/>
                    </a:lnTo>
                    <a:lnTo>
                      <a:pt x="197" y="48"/>
                    </a:lnTo>
                    <a:lnTo>
                      <a:pt x="196" y="49"/>
                    </a:lnTo>
                    <a:lnTo>
                      <a:pt x="192" y="52"/>
                    </a:lnTo>
                    <a:lnTo>
                      <a:pt x="188" y="57"/>
                    </a:lnTo>
                    <a:lnTo>
                      <a:pt x="182" y="63"/>
                    </a:lnTo>
                    <a:lnTo>
                      <a:pt x="180" y="66"/>
                    </a:lnTo>
                    <a:lnTo>
                      <a:pt x="179" y="69"/>
                    </a:lnTo>
                    <a:lnTo>
                      <a:pt x="179" y="71"/>
                    </a:lnTo>
                    <a:lnTo>
                      <a:pt x="179" y="75"/>
                    </a:lnTo>
                    <a:lnTo>
                      <a:pt x="180" y="78"/>
                    </a:lnTo>
                    <a:lnTo>
                      <a:pt x="181" y="80"/>
                    </a:lnTo>
                    <a:lnTo>
                      <a:pt x="185" y="83"/>
                    </a:lnTo>
                    <a:lnTo>
                      <a:pt x="190" y="84"/>
                    </a:lnTo>
                    <a:lnTo>
                      <a:pt x="196" y="86"/>
                    </a:lnTo>
                    <a:lnTo>
                      <a:pt x="204" y="86"/>
                    </a:lnTo>
                    <a:lnTo>
                      <a:pt x="214" y="85"/>
                    </a:lnTo>
                    <a:lnTo>
                      <a:pt x="224" y="83"/>
                    </a:lnTo>
                    <a:lnTo>
                      <a:pt x="249" y="76"/>
                    </a:lnTo>
                    <a:lnTo>
                      <a:pt x="277" y="65"/>
                    </a:lnTo>
                    <a:lnTo>
                      <a:pt x="307" y="52"/>
                    </a:lnTo>
                    <a:lnTo>
                      <a:pt x="339" y="38"/>
                    </a:lnTo>
                    <a:lnTo>
                      <a:pt x="368" y="24"/>
                    </a:lnTo>
                    <a:lnTo>
                      <a:pt x="395" y="11"/>
                    </a:lnTo>
                    <a:lnTo>
                      <a:pt x="404" y="8"/>
                    </a:lnTo>
                    <a:lnTo>
                      <a:pt x="410" y="5"/>
                    </a:lnTo>
                    <a:lnTo>
                      <a:pt x="418" y="4"/>
                    </a:lnTo>
                    <a:lnTo>
                      <a:pt x="424" y="5"/>
                    </a:lnTo>
                    <a:lnTo>
                      <a:pt x="430" y="7"/>
                    </a:lnTo>
                    <a:lnTo>
                      <a:pt x="434" y="9"/>
                    </a:lnTo>
                    <a:lnTo>
                      <a:pt x="437" y="12"/>
                    </a:lnTo>
                    <a:lnTo>
                      <a:pt x="440" y="16"/>
                    </a:lnTo>
                    <a:lnTo>
                      <a:pt x="441" y="21"/>
                    </a:lnTo>
                    <a:lnTo>
                      <a:pt x="443" y="25"/>
                    </a:lnTo>
                    <a:lnTo>
                      <a:pt x="443" y="30"/>
                    </a:lnTo>
                    <a:lnTo>
                      <a:pt x="441" y="36"/>
                    </a:lnTo>
                    <a:lnTo>
                      <a:pt x="438" y="41"/>
                    </a:lnTo>
                    <a:lnTo>
                      <a:pt x="434" y="45"/>
                    </a:lnTo>
                    <a:lnTo>
                      <a:pt x="428" y="51"/>
                    </a:lnTo>
                    <a:lnTo>
                      <a:pt x="422" y="55"/>
                    </a:lnTo>
                    <a:lnTo>
                      <a:pt x="416" y="59"/>
                    </a:lnTo>
                    <a:lnTo>
                      <a:pt x="410" y="64"/>
                    </a:lnTo>
                    <a:lnTo>
                      <a:pt x="407" y="68"/>
                    </a:lnTo>
                    <a:lnTo>
                      <a:pt x="405" y="74"/>
                    </a:lnTo>
                    <a:lnTo>
                      <a:pt x="404" y="78"/>
                    </a:lnTo>
                    <a:lnTo>
                      <a:pt x="404" y="82"/>
                    </a:lnTo>
                    <a:lnTo>
                      <a:pt x="406" y="86"/>
                    </a:lnTo>
                    <a:lnTo>
                      <a:pt x="408" y="91"/>
                    </a:lnTo>
                    <a:lnTo>
                      <a:pt x="411" y="95"/>
                    </a:lnTo>
                    <a:lnTo>
                      <a:pt x="416" y="98"/>
                    </a:lnTo>
                    <a:lnTo>
                      <a:pt x="421" y="101"/>
                    </a:lnTo>
                    <a:lnTo>
                      <a:pt x="427" y="103"/>
                    </a:lnTo>
                    <a:lnTo>
                      <a:pt x="434" y="105"/>
                    </a:lnTo>
                    <a:lnTo>
                      <a:pt x="441" y="106"/>
                    </a:lnTo>
                    <a:lnTo>
                      <a:pt x="449" y="106"/>
                    </a:lnTo>
                    <a:lnTo>
                      <a:pt x="457" y="105"/>
                    </a:lnTo>
                    <a:lnTo>
                      <a:pt x="461" y="104"/>
                    </a:lnTo>
                    <a:lnTo>
                      <a:pt x="472" y="103"/>
                    </a:lnTo>
                    <a:lnTo>
                      <a:pt x="488" y="101"/>
                    </a:lnTo>
                    <a:lnTo>
                      <a:pt x="506" y="98"/>
                    </a:lnTo>
                    <a:lnTo>
                      <a:pt x="527" y="98"/>
                    </a:lnTo>
                    <a:lnTo>
                      <a:pt x="546" y="99"/>
                    </a:lnTo>
                    <a:lnTo>
                      <a:pt x="556" y="101"/>
                    </a:lnTo>
                    <a:lnTo>
                      <a:pt x="565" y="103"/>
                    </a:lnTo>
                    <a:lnTo>
                      <a:pt x="572" y="106"/>
                    </a:lnTo>
                    <a:lnTo>
                      <a:pt x="578" y="109"/>
                    </a:lnTo>
                    <a:close/>
                  </a:path>
                </a:pathLst>
              </a:custGeom>
              <a:solidFill>
                <a:srgbClr val="dea3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6105600" y="3076560"/>
                <a:ext cx="509400" cy="155520"/>
              </a:xfrm>
              <a:custGeom>
                <a:avLst/>
                <a:gdLst/>
                <a:ahLst/>
                <a:rect l="l" t="t" r="r" b="b"/>
                <a:pathLst>
                  <a:path w="1606" h="492">
                    <a:moveTo>
                      <a:pt x="578" y="101"/>
                    </a:moveTo>
                    <a:lnTo>
                      <a:pt x="585" y="105"/>
                    </a:lnTo>
                    <a:lnTo>
                      <a:pt x="595" y="108"/>
                    </a:lnTo>
                    <a:lnTo>
                      <a:pt x="609" y="112"/>
                    </a:lnTo>
                    <a:lnTo>
                      <a:pt x="625" y="114"/>
                    </a:lnTo>
                    <a:lnTo>
                      <a:pt x="642" y="116"/>
                    </a:lnTo>
                    <a:lnTo>
                      <a:pt x="663" y="118"/>
                    </a:lnTo>
                    <a:lnTo>
                      <a:pt x="684" y="119"/>
                    </a:lnTo>
                    <a:lnTo>
                      <a:pt x="708" y="119"/>
                    </a:lnTo>
                    <a:lnTo>
                      <a:pt x="732" y="119"/>
                    </a:lnTo>
                    <a:lnTo>
                      <a:pt x="756" y="119"/>
                    </a:lnTo>
                    <a:lnTo>
                      <a:pt x="780" y="117"/>
                    </a:lnTo>
                    <a:lnTo>
                      <a:pt x="804" y="116"/>
                    </a:lnTo>
                    <a:lnTo>
                      <a:pt x="827" y="113"/>
                    </a:lnTo>
                    <a:lnTo>
                      <a:pt x="850" y="109"/>
                    </a:lnTo>
                    <a:lnTo>
                      <a:pt x="870" y="106"/>
                    </a:lnTo>
                    <a:lnTo>
                      <a:pt x="890" y="101"/>
                    </a:lnTo>
                    <a:lnTo>
                      <a:pt x="908" y="96"/>
                    </a:lnTo>
                    <a:lnTo>
                      <a:pt x="931" y="94"/>
                    </a:lnTo>
                    <a:lnTo>
                      <a:pt x="957" y="92"/>
                    </a:lnTo>
                    <a:lnTo>
                      <a:pt x="985" y="93"/>
                    </a:lnTo>
                    <a:lnTo>
                      <a:pt x="1016" y="94"/>
                    </a:lnTo>
                    <a:lnTo>
                      <a:pt x="1050" y="97"/>
                    </a:lnTo>
                    <a:lnTo>
                      <a:pt x="1085" y="103"/>
                    </a:lnTo>
                    <a:lnTo>
                      <a:pt x="1123" y="109"/>
                    </a:lnTo>
                    <a:lnTo>
                      <a:pt x="1162" y="118"/>
                    </a:lnTo>
                    <a:lnTo>
                      <a:pt x="1202" y="128"/>
                    </a:lnTo>
                    <a:lnTo>
                      <a:pt x="1244" y="140"/>
                    </a:lnTo>
                    <a:lnTo>
                      <a:pt x="1286" y="153"/>
                    </a:lnTo>
                    <a:lnTo>
                      <a:pt x="1329" y="168"/>
                    </a:lnTo>
                    <a:lnTo>
                      <a:pt x="1373" y="184"/>
                    </a:lnTo>
                    <a:lnTo>
                      <a:pt x="1416" y="202"/>
                    </a:lnTo>
                    <a:lnTo>
                      <a:pt x="1458" y="222"/>
                    </a:lnTo>
                    <a:lnTo>
                      <a:pt x="1478" y="232"/>
                    </a:lnTo>
                    <a:lnTo>
                      <a:pt x="1498" y="243"/>
                    </a:lnTo>
                    <a:lnTo>
                      <a:pt x="1514" y="254"/>
                    </a:lnTo>
                    <a:lnTo>
                      <a:pt x="1529" y="266"/>
                    </a:lnTo>
                    <a:lnTo>
                      <a:pt x="1543" y="277"/>
                    </a:lnTo>
                    <a:lnTo>
                      <a:pt x="1555" y="289"/>
                    </a:lnTo>
                    <a:lnTo>
                      <a:pt x="1565" y="299"/>
                    </a:lnTo>
                    <a:lnTo>
                      <a:pt x="1575" y="311"/>
                    </a:lnTo>
                    <a:lnTo>
                      <a:pt x="1582" y="322"/>
                    </a:lnTo>
                    <a:lnTo>
                      <a:pt x="1589" y="334"/>
                    </a:lnTo>
                    <a:lnTo>
                      <a:pt x="1594" y="345"/>
                    </a:lnTo>
                    <a:lnTo>
                      <a:pt x="1598" y="357"/>
                    </a:lnTo>
                    <a:lnTo>
                      <a:pt x="1602" y="367"/>
                    </a:lnTo>
                    <a:lnTo>
                      <a:pt x="1604" y="378"/>
                    </a:lnTo>
                    <a:lnTo>
                      <a:pt x="1606" y="388"/>
                    </a:lnTo>
                    <a:lnTo>
                      <a:pt x="1606" y="399"/>
                    </a:lnTo>
                    <a:lnTo>
                      <a:pt x="1606" y="418"/>
                    </a:lnTo>
                    <a:lnTo>
                      <a:pt x="1604" y="436"/>
                    </a:lnTo>
                    <a:lnTo>
                      <a:pt x="1599" y="452"/>
                    </a:lnTo>
                    <a:lnTo>
                      <a:pt x="1595" y="465"/>
                    </a:lnTo>
                    <a:lnTo>
                      <a:pt x="1585" y="484"/>
                    </a:lnTo>
                    <a:lnTo>
                      <a:pt x="1582" y="492"/>
                    </a:lnTo>
                    <a:lnTo>
                      <a:pt x="1458" y="480"/>
                    </a:lnTo>
                    <a:lnTo>
                      <a:pt x="1328" y="467"/>
                    </a:lnTo>
                    <a:lnTo>
                      <a:pt x="1197" y="452"/>
                    </a:lnTo>
                    <a:lnTo>
                      <a:pt x="1063" y="434"/>
                    </a:lnTo>
                    <a:lnTo>
                      <a:pt x="929" y="417"/>
                    </a:lnTo>
                    <a:lnTo>
                      <a:pt x="798" y="399"/>
                    </a:lnTo>
                    <a:lnTo>
                      <a:pt x="670" y="380"/>
                    </a:lnTo>
                    <a:lnTo>
                      <a:pt x="548" y="362"/>
                    </a:lnTo>
                    <a:lnTo>
                      <a:pt x="330" y="329"/>
                    </a:lnTo>
                    <a:lnTo>
                      <a:pt x="156" y="301"/>
                    </a:lnTo>
                    <a:lnTo>
                      <a:pt x="41" y="281"/>
                    </a:lnTo>
                    <a:lnTo>
                      <a:pt x="0" y="274"/>
                    </a:lnTo>
                    <a:lnTo>
                      <a:pt x="0" y="229"/>
                    </a:lnTo>
                    <a:lnTo>
                      <a:pt x="1" y="223"/>
                    </a:lnTo>
                    <a:lnTo>
                      <a:pt x="5" y="204"/>
                    </a:lnTo>
                    <a:lnTo>
                      <a:pt x="11" y="178"/>
                    </a:lnTo>
                    <a:lnTo>
                      <a:pt x="19" y="147"/>
                    </a:lnTo>
                    <a:lnTo>
                      <a:pt x="28" y="114"/>
                    </a:lnTo>
                    <a:lnTo>
                      <a:pt x="38" y="81"/>
                    </a:lnTo>
                    <a:lnTo>
                      <a:pt x="43" y="67"/>
                    </a:lnTo>
                    <a:lnTo>
                      <a:pt x="48" y="54"/>
                    </a:lnTo>
                    <a:lnTo>
                      <a:pt x="54" y="42"/>
                    </a:lnTo>
                    <a:lnTo>
                      <a:pt x="59" y="34"/>
                    </a:lnTo>
                    <a:lnTo>
                      <a:pt x="59" y="35"/>
                    </a:lnTo>
                    <a:lnTo>
                      <a:pt x="61" y="36"/>
                    </a:lnTo>
                    <a:lnTo>
                      <a:pt x="66" y="38"/>
                    </a:lnTo>
                    <a:lnTo>
                      <a:pt x="71" y="40"/>
                    </a:lnTo>
                    <a:lnTo>
                      <a:pt x="78" y="40"/>
                    </a:lnTo>
                    <a:lnTo>
                      <a:pt x="88" y="40"/>
                    </a:lnTo>
                    <a:lnTo>
                      <a:pt x="99" y="38"/>
                    </a:lnTo>
                    <a:lnTo>
                      <a:pt x="113" y="34"/>
                    </a:lnTo>
                    <a:lnTo>
                      <a:pt x="123" y="31"/>
                    </a:lnTo>
                    <a:lnTo>
                      <a:pt x="139" y="26"/>
                    </a:lnTo>
                    <a:lnTo>
                      <a:pt x="157" y="20"/>
                    </a:lnTo>
                    <a:lnTo>
                      <a:pt x="178" y="14"/>
                    </a:lnTo>
                    <a:lnTo>
                      <a:pt x="198" y="9"/>
                    </a:lnTo>
                    <a:lnTo>
                      <a:pt x="217" y="5"/>
                    </a:lnTo>
                    <a:lnTo>
                      <a:pt x="231" y="2"/>
                    </a:lnTo>
                    <a:lnTo>
                      <a:pt x="239" y="2"/>
                    </a:lnTo>
                    <a:lnTo>
                      <a:pt x="241" y="2"/>
                    </a:lnTo>
                    <a:lnTo>
                      <a:pt x="239" y="4"/>
                    </a:lnTo>
                    <a:lnTo>
                      <a:pt x="237" y="6"/>
                    </a:lnTo>
                    <a:lnTo>
                      <a:pt x="234" y="8"/>
                    </a:lnTo>
                    <a:lnTo>
                      <a:pt x="225" y="14"/>
                    </a:lnTo>
                    <a:lnTo>
                      <a:pt x="215" y="21"/>
                    </a:lnTo>
                    <a:lnTo>
                      <a:pt x="203" y="27"/>
                    </a:lnTo>
                    <a:lnTo>
                      <a:pt x="193" y="34"/>
                    </a:lnTo>
                    <a:lnTo>
                      <a:pt x="185" y="37"/>
                    </a:lnTo>
                    <a:lnTo>
                      <a:pt x="182" y="39"/>
                    </a:lnTo>
                    <a:lnTo>
                      <a:pt x="181" y="40"/>
                    </a:lnTo>
                    <a:lnTo>
                      <a:pt x="179" y="43"/>
                    </a:lnTo>
                    <a:lnTo>
                      <a:pt x="176" y="48"/>
                    </a:lnTo>
                    <a:lnTo>
                      <a:pt x="174" y="53"/>
                    </a:lnTo>
                    <a:lnTo>
                      <a:pt x="172" y="56"/>
                    </a:lnTo>
                    <a:lnTo>
                      <a:pt x="172" y="59"/>
                    </a:lnTo>
                    <a:lnTo>
                      <a:pt x="172" y="62"/>
                    </a:lnTo>
                    <a:lnTo>
                      <a:pt x="174" y="65"/>
                    </a:lnTo>
                    <a:lnTo>
                      <a:pt x="175" y="68"/>
                    </a:lnTo>
                    <a:lnTo>
                      <a:pt x="177" y="72"/>
                    </a:lnTo>
                    <a:lnTo>
                      <a:pt x="180" y="74"/>
                    </a:lnTo>
                    <a:lnTo>
                      <a:pt x="185" y="76"/>
                    </a:lnTo>
                    <a:lnTo>
                      <a:pt x="191" y="78"/>
                    </a:lnTo>
                    <a:lnTo>
                      <a:pt x="198" y="78"/>
                    </a:lnTo>
                    <a:lnTo>
                      <a:pt x="206" y="77"/>
                    </a:lnTo>
                    <a:lnTo>
                      <a:pt x="216" y="76"/>
                    </a:lnTo>
                    <a:lnTo>
                      <a:pt x="238" y="69"/>
                    </a:lnTo>
                    <a:lnTo>
                      <a:pt x="264" y="61"/>
                    </a:lnTo>
                    <a:lnTo>
                      <a:pt x="293" y="50"/>
                    </a:lnTo>
                    <a:lnTo>
                      <a:pt x="325" y="37"/>
                    </a:lnTo>
                    <a:lnTo>
                      <a:pt x="357" y="23"/>
                    </a:lnTo>
                    <a:lnTo>
                      <a:pt x="390" y="7"/>
                    </a:lnTo>
                    <a:lnTo>
                      <a:pt x="398" y="4"/>
                    </a:lnTo>
                    <a:lnTo>
                      <a:pt x="405" y="1"/>
                    </a:lnTo>
                    <a:lnTo>
                      <a:pt x="411" y="0"/>
                    </a:lnTo>
                    <a:lnTo>
                      <a:pt x="418" y="1"/>
                    </a:lnTo>
                    <a:lnTo>
                      <a:pt x="422" y="2"/>
                    </a:lnTo>
                    <a:lnTo>
                      <a:pt x="425" y="5"/>
                    </a:lnTo>
                    <a:lnTo>
                      <a:pt x="428" y="8"/>
                    </a:lnTo>
                    <a:lnTo>
                      <a:pt x="431" y="11"/>
                    </a:lnTo>
                    <a:lnTo>
                      <a:pt x="431" y="15"/>
                    </a:lnTo>
                    <a:lnTo>
                      <a:pt x="431" y="20"/>
                    </a:lnTo>
                    <a:lnTo>
                      <a:pt x="430" y="25"/>
                    </a:lnTo>
                    <a:lnTo>
                      <a:pt x="427" y="29"/>
                    </a:lnTo>
                    <a:lnTo>
                      <a:pt x="424" y="35"/>
                    </a:lnTo>
                    <a:lnTo>
                      <a:pt x="420" y="40"/>
                    </a:lnTo>
                    <a:lnTo>
                      <a:pt x="414" y="45"/>
                    </a:lnTo>
                    <a:lnTo>
                      <a:pt x="407" y="49"/>
                    </a:lnTo>
                    <a:lnTo>
                      <a:pt x="400" y="53"/>
                    </a:lnTo>
                    <a:lnTo>
                      <a:pt x="396" y="58"/>
                    </a:lnTo>
                    <a:lnTo>
                      <a:pt x="393" y="62"/>
                    </a:lnTo>
                    <a:lnTo>
                      <a:pt x="391" y="66"/>
                    </a:lnTo>
                    <a:lnTo>
                      <a:pt x="390" y="70"/>
                    </a:lnTo>
                    <a:lnTo>
                      <a:pt x="391" y="75"/>
                    </a:lnTo>
                    <a:lnTo>
                      <a:pt x="392" y="79"/>
                    </a:lnTo>
                    <a:lnTo>
                      <a:pt x="395" y="82"/>
                    </a:lnTo>
                    <a:lnTo>
                      <a:pt x="398" y="86"/>
                    </a:lnTo>
                    <a:lnTo>
                      <a:pt x="403" y="89"/>
                    </a:lnTo>
                    <a:lnTo>
                      <a:pt x="408" y="92"/>
                    </a:lnTo>
                    <a:lnTo>
                      <a:pt x="413" y="94"/>
                    </a:lnTo>
                    <a:lnTo>
                      <a:pt x="420" y="95"/>
                    </a:lnTo>
                    <a:lnTo>
                      <a:pt x="426" y="96"/>
                    </a:lnTo>
                    <a:lnTo>
                      <a:pt x="433" y="96"/>
                    </a:lnTo>
                    <a:lnTo>
                      <a:pt x="439" y="96"/>
                    </a:lnTo>
                    <a:lnTo>
                      <a:pt x="445" y="95"/>
                    </a:lnTo>
                    <a:lnTo>
                      <a:pt x="457" y="93"/>
                    </a:lnTo>
                    <a:lnTo>
                      <a:pt x="476" y="92"/>
                    </a:lnTo>
                    <a:lnTo>
                      <a:pt x="498" y="90"/>
                    </a:lnTo>
                    <a:lnTo>
                      <a:pt x="521" y="90"/>
                    </a:lnTo>
                    <a:lnTo>
                      <a:pt x="544" y="91"/>
                    </a:lnTo>
                    <a:lnTo>
                      <a:pt x="554" y="92"/>
                    </a:lnTo>
                    <a:lnTo>
                      <a:pt x="564" y="94"/>
                    </a:lnTo>
                    <a:lnTo>
                      <a:pt x="571" y="97"/>
                    </a:lnTo>
                    <a:lnTo>
                      <a:pt x="578" y="101"/>
                    </a:lnTo>
                    <a:close/>
                  </a:path>
                </a:pathLst>
              </a:custGeom>
              <a:solidFill>
                <a:srgbClr val="d89e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6105600" y="3079800"/>
                <a:ext cx="506160" cy="152280"/>
              </a:xfrm>
              <a:custGeom>
                <a:avLst/>
                <a:gdLst/>
                <a:ahLst/>
                <a:rect l="l" t="t" r="r" b="b"/>
                <a:pathLst>
                  <a:path w="1594" h="481">
                    <a:moveTo>
                      <a:pt x="578" y="97"/>
                    </a:moveTo>
                    <a:lnTo>
                      <a:pt x="585" y="102"/>
                    </a:lnTo>
                    <a:lnTo>
                      <a:pt x="595" y="105"/>
                    </a:lnTo>
                    <a:lnTo>
                      <a:pt x="609" y="108"/>
                    </a:lnTo>
                    <a:lnTo>
                      <a:pt x="625" y="110"/>
                    </a:lnTo>
                    <a:lnTo>
                      <a:pt x="643" y="112"/>
                    </a:lnTo>
                    <a:lnTo>
                      <a:pt x="664" y="113"/>
                    </a:lnTo>
                    <a:lnTo>
                      <a:pt x="686" y="115"/>
                    </a:lnTo>
                    <a:lnTo>
                      <a:pt x="709" y="115"/>
                    </a:lnTo>
                    <a:lnTo>
                      <a:pt x="733" y="115"/>
                    </a:lnTo>
                    <a:lnTo>
                      <a:pt x="758" y="113"/>
                    </a:lnTo>
                    <a:lnTo>
                      <a:pt x="782" y="112"/>
                    </a:lnTo>
                    <a:lnTo>
                      <a:pt x="807" y="110"/>
                    </a:lnTo>
                    <a:lnTo>
                      <a:pt x="829" y="107"/>
                    </a:lnTo>
                    <a:lnTo>
                      <a:pt x="852" y="104"/>
                    </a:lnTo>
                    <a:lnTo>
                      <a:pt x="872" y="99"/>
                    </a:lnTo>
                    <a:lnTo>
                      <a:pt x="892" y="95"/>
                    </a:lnTo>
                    <a:lnTo>
                      <a:pt x="910" y="91"/>
                    </a:lnTo>
                    <a:lnTo>
                      <a:pt x="932" y="88"/>
                    </a:lnTo>
                    <a:lnTo>
                      <a:pt x="957" y="86"/>
                    </a:lnTo>
                    <a:lnTo>
                      <a:pt x="983" y="88"/>
                    </a:lnTo>
                    <a:lnTo>
                      <a:pt x="1012" y="90"/>
                    </a:lnTo>
                    <a:lnTo>
                      <a:pt x="1043" y="93"/>
                    </a:lnTo>
                    <a:lnTo>
                      <a:pt x="1076" y="99"/>
                    </a:lnTo>
                    <a:lnTo>
                      <a:pt x="1110" y="106"/>
                    </a:lnTo>
                    <a:lnTo>
                      <a:pt x="1147" y="115"/>
                    </a:lnTo>
                    <a:lnTo>
                      <a:pt x="1185" y="125"/>
                    </a:lnTo>
                    <a:lnTo>
                      <a:pt x="1224" y="137"/>
                    </a:lnTo>
                    <a:lnTo>
                      <a:pt x="1264" y="150"/>
                    </a:lnTo>
                    <a:lnTo>
                      <a:pt x="1305" y="165"/>
                    </a:lnTo>
                    <a:lnTo>
                      <a:pt x="1347" y="183"/>
                    </a:lnTo>
                    <a:lnTo>
                      <a:pt x="1389" y="201"/>
                    </a:lnTo>
                    <a:lnTo>
                      <a:pt x="1431" y="220"/>
                    </a:lnTo>
                    <a:lnTo>
                      <a:pt x="1451" y="231"/>
                    </a:lnTo>
                    <a:lnTo>
                      <a:pt x="1470" y="242"/>
                    </a:lnTo>
                    <a:lnTo>
                      <a:pt x="1487" y="253"/>
                    </a:lnTo>
                    <a:lnTo>
                      <a:pt x="1502" y="264"/>
                    </a:lnTo>
                    <a:lnTo>
                      <a:pt x="1516" y="275"/>
                    </a:lnTo>
                    <a:lnTo>
                      <a:pt x="1529" y="286"/>
                    </a:lnTo>
                    <a:lnTo>
                      <a:pt x="1540" y="297"/>
                    </a:lnTo>
                    <a:lnTo>
                      <a:pt x="1551" y="308"/>
                    </a:lnTo>
                    <a:lnTo>
                      <a:pt x="1560" y="320"/>
                    </a:lnTo>
                    <a:lnTo>
                      <a:pt x="1567" y="331"/>
                    </a:lnTo>
                    <a:lnTo>
                      <a:pt x="1574" y="341"/>
                    </a:lnTo>
                    <a:lnTo>
                      <a:pt x="1579" y="352"/>
                    </a:lnTo>
                    <a:lnTo>
                      <a:pt x="1583" y="363"/>
                    </a:lnTo>
                    <a:lnTo>
                      <a:pt x="1587" y="373"/>
                    </a:lnTo>
                    <a:lnTo>
                      <a:pt x="1590" y="382"/>
                    </a:lnTo>
                    <a:lnTo>
                      <a:pt x="1592" y="392"/>
                    </a:lnTo>
                    <a:lnTo>
                      <a:pt x="1594" y="410"/>
                    </a:lnTo>
                    <a:lnTo>
                      <a:pt x="1594" y="428"/>
                    </a:lnTo>
                    <a:lnTo>
                      <a:pt x="1593" y="443"/>
                    </a:lnTo>
                    <a:lnTo>
                      <a:pt x="1590" y="456"/>
                    </a:lnTo>
                    <a:lnTo>
                      <a:pt x="1584" y="474"/>
                    </a:lnTo>
                    <a:lnTo>
                      <a:pt x="1582" y="481"/>
                    </a:lnTo>
                    <a:lnTo>
                      <a:pt x="1458" y="469"/>
                    </a:lnTo>
                    <a:lnTo>
                      <a:pt x="1328" y="456"/>
                    </a:lnTo>
                    <a:lnTo>
                      <a:pt x="1197" y="441"/>
                    </a:lnTo>
                    <a:lnTo>
                      <a:pt x="1063" y="423"/>
                    </a:lnTo>
                    <a:lnTo>
                      <a:pt x="929" y="406"/>
                    </a:lnTo>
                    <a:lnTo>
                      <a:pt x="798" y="388"/>
                    </a:lnTo>
                    <a:lnTo>
                      <a:pt x="670" y="369"/>
                    </a:lnTo>
                    <a:lnTo>
                      <a:pt x="548" y="351"/>
                    </a:lnTo>
                    <a:lnTo>
                      <a:pt x="330" y="318"/>
                    </a:lnTo>
                    <a:lnTo>
                      <a:pt x="156" y="290"/>
                    </a:lnTo>
                    <a:lnTo>
                      <a:pt x="41" y="270"/>
                    </a:lnTo>
                    <a:lnTo>
                      <a:pt x="0" y="263"/>
                    </a:lnTo>
                    <a:lnTo>
                      <a:pt x="0" y="218"/>
                    </a:lnTo>
                    <a:lnTo>
                      <a:pt x="1" y="212"/>
                    </a:lnTo>
                    <a:lnTo>
                      <a:pt x="5" y="194"/>
                    </a:lnTo>
                    <a:lnTo>
                      <a:pt x="10" y="170"/>
                    </a:lnTo>
                    <a:lnTo>
                      <a:pt x="18" y="139"/>
                    </a:lnTo>
                    <a:lnTo>
                      <a:pt x="27" y="107"/>
                    </a:lnTo>
                    <a:lnTo>
                      <a:pt x="36" y="77"/>
                    </a:lnTo>
                    <a:lnTo>
                      <a:pt x="41" y="63"/>
                    </a:lnTo>
                    <a:lnTo>
                      <a:pt x="46" y="50"/>
                    </a:lnTo>
                    <a:lnTo>
                      <a:pt x="51" y="39"/>
                    </a:lnTo>
                    <a:lnTo>
                      <a:pt x="57" y="30"/>
                    </a:lnTo>
                    <a:lnTo>
                      <a:pt x="57" y="31"/>
                    </a:lnTo>
                    <a:lnTo>
                      <a:pt x="59" y="34"/>
                    </a:lnTo>
                    <a:lnTo>
                      <a:pt x="61" y="36"/>
                    </a:lnTo>
                    <a:lnTo>
                      <a:pt x="67" y="38"/>
                    </a:lnTo>
                    <a:lnTo>
                      <a:pt x="73" y="39"/>
                    </a:lnTo>
                    <a:lnTo>
                      <a:pt x="83" y="39"/>
                    </a:lnTo>
                    <a:lnTo>
                      <a:pt x="94" y="37"/>
                    </a:lnTo>
                    <a:lnTo>
                      <a:pt x="109" y="34"/>
                    </a:lnTo>
                    <a:lnTo>
                      <a:pt x="115" y="30"/>
                    </a:lnTo>
                    <a:lnTo>
                      <a:pt x="126" y="27"/>
                    </a:lnTo>
                    <a:lnTo>
                      <a:pt x="139" y="23"/>
                    </a:lnTo>
                    <a:lnTo>
                      <a:pt x="153" y="18"/>
                    </a:lnTo>
                    <a:lnTo>
                      <a:pt x="167" y="15"/>
                    </a:lnTo>
                    <a:lnTo>
                      <a:pt x="180" y="12"/>
                    </a:lnTo>
                    <a:lnTo>
                      <a:pt x="191" y="9"/>
                    </a:lnTo>
                    <a:lnTo>
                      <a:pt x="197" y="9"/>
                    </a:lnTo>
                    <a:lnTo>
                      <a:pt x="199" y="9"/>
                    </a:lnTo>
                    <a:lnTo>
                      <a:pt x="199" y="10"/>
                    </a:lnTo>
                    <a:lnTo>
                      <a:pt x="199" y="11"/>
                    </a:lnTo>
                    <a:lnTo>
                      <a:pt x="198" y="12"/>
                    </a:lnTo>
                    <a:lnTo>
                      <a:pt x="194" y="16"/>
                    </a:lnTo>
                    <a:lnTo>
                      <a:pt x="189" y="21"/>
                    </a:lnTo>
                    <a:lnTo>
                      <a:pt x="182" y="25"/>
                    </a:lnTo>
                    <a:lnTo>
                      <a:pt x="176" y="29"/>
                    </a:lnTo>
                    <a:lnTo>
                      <a:pt x="171" y="32"/>
                    </a:lnTo>
                    <a:lnTo>
                      <a:pt x="170" y="34"/>
                    </a:lnTo>
                    <a:lnTo>
                      <a:pt x="169" y="35"/>
                    </a:lnTo>
                    <a:lnTo>
                      <a:pt x="168" y="38"/>
                    </a:lnTo>
                    <a:lnTo>
                      <a:pt x="166" y="42"/>
                    </a:lnTo>
                    <a:lnTo>
                      <a:pt x="165" y="49"/>
                    </a:lnTo>
                    <a:lnTo>
                      <a:pt x="165" y="55"/>
                    </a:lnTo>
                    <a:lnTo>
                      <a:pt x="167" y="62"/>
                    </a:lnTo>
                    <a:lnTo>
                      <a:pt x="169" y="65"/>
                    </a:lnTo>
                    <a:lnTo>
                      <a:pt x="171" y="67"/>
                    </a:lnTo>
                    <a:lnTo>
                      <a:pt x="176" y="70"/>
                    </a:lnTo>
                    <a:lnTo>
                      <a:pt x="180" y="72"/>
                    </a:lnTo>
                    <a:lnTo>
                      <a:pt x="185" y="75"/>
                    </a:lnTo>
                    <a:lnTo>
                      <a:pt x="193" y="75"/>
                    </a:lnTo>
                    <a:lnTo>
                      <a:pt x="201" y="75"/>
                    </a:lnTo>
                    <a:lnTo>
                      <a:pt x="209" y="74"/>
                    </a:lnTo>
                    <a:lnTo>
                      <a:pt x="230" y="69"/>
                    </a:lnTo>
                    <a:lnTo>
                      <a:pt x="253" y="63"/>
                    </a:lnTo>
                    <a:lnTo>
                      <a:pt x="280" y="52"/>
                    </a:lnTo>
                    <a:lnTo>
                      <a:pt x="313" y="40"/>
                    </a:lnTo>
                    <a:lnTo>
                      <a:pt x="347" y="24"/>
                    </a:lnTo>
                    <a:lnTo>
                      <a:pt x="387" y="5"/>
                    </a:lnTo>
                    <a:lnTo>
                      <a:pt x="395" y="3"/>
                    </a:lnTo>
                    <a:lnTo>
                      <a:pt x="403" y="1"/>
                    </a:lnTo>
                    <a:lnTo>
                      <a:pt x="408" y="0"/>
                    </a:lnTo>
                    <a:lnTo>
                      <a:pt x="412" y="1"/>
                    </a:lnTo>
                    <a:lnTo>
                      <a:pt x="417" y="2"/>
                    </a:lnTo>
                    <a:lnTo>
                      <a:pt x="419" y="4"/>
                    </a:lnTo>
                    <a:lnTo>
                      <a:pt x="421" y="8"/>
                    </a:lnTo>
                    <a:lnTo>
                      <a:pt x="422" y="11"/>
                    </a:lnTo>
                    <a:lnTo>
                      <a:pt x="421" y="15"/>
                    </a:lnTo>
                    <a:lnTo>
                      <a:pt x="420" y="20"/>
                    </a:lnTo>
                    <a:lnTo>
                      <a:pt x="418" y="24"/>
                    </a:lnTo>
                    <a:lnTo>
                      <a:pt x="414" y="29"/>
                    </a:lnTo>
                    <a:lnTo>
                      <a:pt x="410" y="34"/>
                    </a:lnTo>
                    <a:lnTo>
                      <a:pt x="406" y="39"/>
                    </a:lnTo>
                    <a:lnTo>
                      <a:pt x="399" y="43"/>
                    </a:lnTo>
                    <a:lnTo>
                      <a:pt x="393" y="48"/>
                    </a:lnTo>
                    <a:lnTo>
                      <a:pt x="386" y="52"/>
                    </a:lnTo>
                    <a:lnTo>
                      <a:pt x="381" y="56"/>
                    </a:lnTo>
                    <a:lnTo>
                      <a:pt x="378" y="61"/>
                    </a:lnTo>
                    <a:lnTo>
                      <a:pt x="377" y="65"/>
                    </a:lnTo>
                    <a:lnTo>
                      <a:pt x="376" y="68"/>
                    </a:lnTo>
                    <a:lnTo>
                      <a:pt x="377" y="72"/>
                    </a:lnTo>
                    <a:lnTo>
                      <a:pt x="379" y="76"/>
                    </a:lnTo>
                    <a:lnTo>
                      <a:pt x="382" y="79"/>
                    </a:lnTo>
                    <a:lnTo>
                      <a:pt x="385" y="82"/>
                    </a:lnTo>
                    <a:lnTo>
                      <a:pt x="390" y="84"/>
                    </a:lnTo>
                    <a:lnTo>
                      <a:pt x="395" y="86"/>
                    </a:lnTo>
                    <a:lnTo>
                      <a:pt x="400" y="89"/>
                    </a:lnTo>
                    <a:lnTo>
                      <a:pt x="407" y="90"/>
                    </a:lnTo>
                    <a:lnTo>
                      <a:pt x="412" y="91"/>
                    </a:lnTo>
                    <a:lnTo>
                      <a:pt x="419" y="91"/>
                    </a:lnTo>
                    <a:lnTo>
                      <a:pt x="425" y="90"/>
                    </a:lnTo>
                    <a:lnTo>
                      <a:pt x="430" y="90"/>
                    </a:lnTo>
                    <a:lnTo>
                      <a:pt x="445" y="88"/>
                    </a:lnTo>
                    <a:lnTo>
                      <a:pt x="465" y="86"/>
                    </a:lnTo>
                    <a:lnTo>
                      <a:pt x="490" y="85"/>
                    </a:lnTo>
                    <a:lnTo>
                      <a:pt x="516" y="85"/>
                    </a:lnTo>
                    <a:lnTo>
                      <a:pt x="542" y="86"/>
                    </a:lnTo>
                    <a:lnTo>
                      <a:pt x="553" y="89"/>
                    </a:lnTo>
                    <a:lnTo>
                      <a:pt x="562" y="91"/>
                    </a:lnTo>
                    <a:lnTo>
                      <a:pt x="571" y="94"/>
                    </a:lnTo>
                    <a:lnTo>
                      <a:pt x="578" y="97"/>
                    </a:lnTo>
                    <a:close/>
                  </a:path>
                </a:pathLst>
              </a:custGeom>
              <a:solidFill>
                <a:srgbClr val="d39a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6105600" y="3084480"/>
                <a:ext cx="504720" cy="147600"/>
              </a:xfrm>
              <a:custGeom>
                <a:avLst/>
                <a:gdLst/>
                <a:ahLst/>
                <a:rect l="l" t="t" r="r" b="b"/>
                <a:pathLst>
                  <a:path w="1587" h="469">
                    <a:moveTo>
                      <a:pt x="1582" y="469"/>
                    </a:moveTo>
                    <a:lnTo>
                      <a:pt x="1458" y="457"/>
                    </a:lnTo>
                    <a:lnTo>
                      <a:pt x="1328" y="444"/>
                    </a:lnTo>
                    <a:lnTo>
                      <a:pt x="1197" y="429"/>
                    </a:lnTo>
                    <a:lnTo>
                      <a:pt x="1063" y="411"/>
                    </a:lnTo>
                    <a:lnTo>
                      <a:pt x="929" y="394"/>
                    </a:lnTo>
                    <a:lnTo>
                      <a:pt x="798" y="376"/>
                    </a:lnTo>
                    <a:lnTo>
                      <a:pt x="670" y="357"/>
                    </a:lnTo>
                    <a:lnTo>
                      <a:pt x="548" y="339"/>
                    </a:lnTo>
                    <a:lnTo>
                      <a:pt x="330" y="306"/>
                    </a:lnTo>
                    <a:lnTo>
                      <a:pt x="156" y="278"/>
                    </a:lnTo>
                    <a:lnTo>
                      <a:pt x="41" y="258"/>
                    </a:lnTo>
                    <a:lnTo>
                      <a:pt x="0" y="251"/>
                    </a:lnTo>
                    <a:lnTo>
                      <a:pt x="0" y="206"/>
                    </a:lnTo>
                    <a:lnTo>
                      <a:pt x="1" y="201"/>
                    </a:lnTo>
                    <a:lnTo>
                      <a:pt x="4" y="184"/>
                    </a:lnTo>
                    <a:lnTo>
                      <a:pt x="9" y="160"/>
                    </a:lnTo>
                    <a:lnTo>
                      <a:pt x="17" y="132"/>
                    </a:lnTo>
                    <a:lnTo>
                      <a:pt x="24" y="101"/>
                    </a:lnTo>
                    <a:lnTo>
                      <a:pt x="34" y="72"/>
                    </a:lnTo>
                    <a:lnTo>
                      <a:pt x="38" y="58"/>
                    </a:lnTo>
                    <a:lnTo>
                      <a:pt x="44" y="46"/>
                    </a:lnTo>
                    <a:lnTo>
                      <a:pt x="48" y="37"/>
                    </a:lnTo>
                    <a:lnTo>
                      <a:pt x="54" y="28"/>
                    </a:lnTo>
                    <a:lnTo>
                      <a:pt x="55" y="29"/>
                    </a:lnTo>
                    <a:lnTo>
                      <a:pt x="56" y="31"/>
                    </a:lnTo>
                    <a:lnTo>
                      <a:pt x="58" y="33"/>
                    </a:lnTo>
                    <a:lnTo>
                      <a:pt x="62" y="36"/>
                    </a:lnTo>
                    <a:lnTo>
                      <a:pt x="69" y="37"/>
                    </a:lnTo>
                    <a:lnTo>
                      <a:pt x="76" y="37"/>
                    </a:lnTo>
                    <a:lnTo>
                      <a:pt x="87" y="36"/>
                    </a:lnTo>
                    <a:lnTo>
                      <a:pt x="101" y="31"/>
                    </a:lnTo>
                    <a:lnTo>
                      <a:pt x="105" y="29"/>
                    </a:lnTo>
                    <a:lnTo>
                      <a:pt x="112" y="28"/>
                    </a:lnTo>
                    <a:lnTo>
                      <a:pt x="120" y="25"/>
                    </a:lnTo>
                    <a:lnTo>
                      <a:pt x="128" y="23"/>
                    </a:lnTo>
                    <a:lnTo>
                      <a:pt x="137" y="19"/>
                    </a:lnTo>
                    <a:lnTo>
                      <a:pt x="144" y="17"/>
                    </a:lnTo>
                    <a:lnTo>
                      <a:pt x="151" y="15"/>
                    </a:lnTo>
                    <a:lnTo>
                      <a:pt x="155" y="14"/>
                    </a:lnTo>
                    <a:lnTo>
                      <a:pt x="158" y="14"/>
                    </a:lnTo>
                    <a:lnTo>
                      <a:pt x="161" y="15"/>
                    </a:lnTo>
                    <a:lnTo>
                      <a:pt x="161" y="17"/>
                    </a:lnTo>
                    <a:lnTo>
                      <a:pt x="159" y="20"/>
                    </a:lnTo>
                    <a:lnTo>
                      <a:pt x="158" y="23"/>
                    </a:lnTo>
                    <a:lnTo>
                      <a:pt x="157" y="26"/>
                    </a:lnTo>
                    <a:lnTo>
                      <a:pt x="156" y="28"/>
                    </a:lnTo>
                    <a:lnTo>
                      <a:pt x="155" y="28"/>
                    </a:lnTo>
                    <a:lnTo>
                      <a:pt x="155" y="30"/>
                    </a:lnTo>
                    <a:lnTo>
                      <a:pt x="154" y="32"/>
                    </a:lnTo>
                    <a:lnTo>
                      <a:pt x="154" y="38"/>
                    </a:lnTo>
                    <a:lnTo>
                      <a:pt x="155" y="43"/>
                    </a:lnTo>
                    <a:lnTo>
                      <a:pt x="157" y="50"/>
                    </a:lnTo>
                    <a:lnTo>
                      <a:pt x="162" y="56"/>
                    </a:lnTo>
                    <a:lnTo>
                      <a:pt x="165" y="58"/>
                    </a:lnTo>
                    <a:lnTo>
                      <a:pt x="168" y="62"/>
                    </a:lnTo>
                    <a:lnTo>
                      <a:pt x="172" y="64"/>
                    </a:lnTo>
                    <a:lnTo>
                      <a:pt x="178" y="66"/>
                    </a:lnTo>
                    <a:lnTo>
                      <a:pt x="183" y="68"/>
                    </a:lnTo>
                    <a:lnTo>
                      <a:pt x="189" y="69"/>
                    </a:lnTo>
                    <a:lnTo>
                      <a:pt x="195" y="70"/>
                    </a:lnTo>
                    <a:lnTo>
                      <a:pt x="203" y="70"/>
                    </a:lnTo>
                    <a:lnTo>
                      <a:pt x="210" y="69"/>
                    </a:lnTo>
                    <a:lnTo>
                      <a:pt x="219" y="68"/>
                    </a:lnTo>
                    <a:lnTo>
                      <a:pt x="229" y="66"/>
                    </a:lnTo>
                    <a:lnTo>
                      <a:pt x="241" y="63"/>
                    </a:lnTo>
                    <a:lnTo>
                      <a:pt x="266" y="54"/>
                    </a:lnTo>
                    <a:lnTo>
                      <a:pt x="298" y="42"/>
                    </a:lnTo>
                    <a:lnTo>
                      <a:pt x="337" y="26"/>
                    </a:lnTo>
                    <a:lnTo>
                      <a:pt x="383" y="6"/>
                    </a:lnTo>
                    <a:lnTo>
                      <a:pt x="391" y="3"/>
                    </a:lnTo>
                    <a:lnTo>
                      <a:pt x="397" y="1"/>
                    </a:lnTo>
                    <a:lnTo>
                      <a:pt x="401" y="0"/>
                    </a:lnTo>
                    <a:lnTo>
                      <a:pt x="406" y="0"/>
                    </a:lnTo>
                    <a:lnTo>
                      <a:pt x="409" y="1"/>
                    </a:lnTo>
                    <a:lnTo>
                      <a:pt x="410" y="2"/>
                    </a:lnTo>
                    <a:lnTo>
                      <a:pt x="411" y="5"/>
                    </a:lnTo>
                    <a:lnTo>
                      <a:pt x="411" y="9"/>
                    </a:lnTo>
                    <a:lnTo>
                      <a:pt x="409" y="12"/>
                    </a:lnTo>
                    <a:lnTo>
                      <a:pt x="407" y="16"/>
                    </a:lnTo>
                    <a:lnTo>
                      <a:pt x="405" y="20"/>
                    </a:lnTo>
                    <a:lnTo>
                      <a:pt x="400" y="25"/>
                    </a:lnTo>
                    <a:lnTo>
                      <a:pt x="391" y="35"/>
                    </a:lnTo>
                    <a:lnTo>
                      <a:pt x="378" y="43"/>
                    </a:lnTo>
                    <a:lnTo>
                      <a:pt x="371" y="47"/>
                    </a:lnTo>
                    <a:lnTo>
                      <a:pt x="367" y="52"/>
                    </a:lnTo>
                    <a:lnTo>
                      <a:pt x="364" y="56"/>
                    </a:lnTo>
                    <a:lnTo>
                      <a:pt x="363" y="59"/>
                    </a:lnTo>
                    <a:lnTo>
                      <a:pt x="363" y="64"/>
                    </a:lnTo>
                    <a:lnTo>
                      <a:pt x="364" y="67"/>
                    </a:lnTo>
                    <a:lnTo>
                      <a:pt x="366" y="70"/>
                    </a:lnTo>
                    <a:lnTo>
                      <a:pt x="369" y="73"/>
                    </a:lnTo>
                    <a:lnTo>
                      <a:pt x="372" y="76"/>
                    </a:lnTo>
                    <a:lnTo>
                      <a:pt x="378" y="79"/>
                    </a:lnTo>
                    <a:lnTo>
                      <a:pt x="382" y="80"/>
                    </a:lnTo>
                    <a:lnTo>
                      <a:pt x="387" y="82"/>
                    </a:lnTo>
                    <a:lnTo>
                      <a:pt x="394" y="83"/>
                    </a:lnTo>
                    <a:lnTo>
                      <a:pt x="399" y="83"/>
                    </a:lnTo>
                    <a:lnTo>
                      <a:pt x="405" y="83"/>
                    </a:lnTo>
                    <a:lnTo>
                      <a:pt x="410" y="83"/>
                    </a:lnTo>
                    <a:lnTo>
                      <a:pt x="416" y="82"/>
                    </a:lnTo>
                    <a:lnTo>
                      <a:pt x="432" y="82"/>
                    </a:lnTo>
                    <a:lnTo>
                      <a:pt x="455" y="81"/>
                    </a:lnTo>
                    <a:lnTo>
                      <a:pt x="482" y="81"/>
                    </a:lnTo>
                    <a:lnTo>
                      <a:pt x="512" y="82"/>
                    </a:lnTo>
                    <a:lnTo>
                      <a:pt x="540" y="84"/>
                    </a:lnTo>
                    <a:lnTo>
                      <a:pt x="552" y="86"/>
                    </a:lnTo>
                    <a:lnTo>
                      <a:pt x="562" y="89"/>
                    </a:lnTo>
                    <a:lnTo>
                      <a:pt x="571" y="92"/>
                    </a:lnTo>
                    <a:lnTo>
                      <a:pt x="578" y="95"/>
                    </a:lnTo>
                    <a:lnTo>
                      <a:pt x="585" y="99"/>
                    </a:lnTo>
                    <a:lnTo>
                      <a:pt x="596" y="103"/>
                    </a:lnTo>
                    <a:lnTo>
                      <a:pt x="609" y="106"/>
                    </a:lnTo>
                    <a:lnTo>
                      <a:pt x="626" y="108"/>
                    </a:lnTo>
                    <a:lnTo>
                      <a:pt x="645" y="109"/>
                    </a:lnTo>
                    <a:lnTo>
                      <a:pt x="665" y="110"/>
                    </a:lnTo>
                    <a:lnTo>
                      <a:pt x="688" y="111"/>
                    </a:lnTo>
                    <a:lnTo>
                      <a:pt x="712" y="111"/>
                    </a:lnTo>
                    <a:lnTo>
                      <a:pt x="735" y="110"/>
                    </a:lnTo>
                    <a:lnTo>
                      <a:pt x="760" y="109"/>
                    </a:lnTo>
                    <a:lnTo>
                      <a:pt x="785" y="107"/>
                    </a:lnTo>
                    <a:lnTo>
                      <a:pt x="809" y="105"/>
                    </a:lnTo>
                    <a:lnTo>
                      <a:pt x="832" y="101"/>
                    </a:lnTo>
                    <a:lnTo>
                      <a:pt x="855" y="97"/>
                    </a:lnTo>
                    <a:lnTo>
                      <a:pt x="876" y="93"/>
                    </a:lnTo>
                    <a:lnTo>
                      <a:pt x="894" y="87"/>
                    </a:lnTo>
                    <a:lnTo>
                      <a:pt x="912" y="83"/>
                    </a:lnTo>
                    <a:lnTo>
                      <a:pt x="933" y="81"/>
                    </a:lnTo>
                    <a:lnTo>
                      <a:pt x="956" y="80"/>
                    </a:lnTo>
                    <a:lnTo>
                      <a:pt x="980" y="81"/>
                    </a:lnTo>
                    <a:lnTo>
                      <a:pt x="1007" y="83"/>
                    </a:lnTo>
                    <a:lnTo>
                      <a:pt x="1036" y="87"/>
                    </a:lnTo>
                    <a:lnTo>
                      <a:pt x="1066" y="93"/>
                    </a:lnTo>
                    <a:lnTo>
                      <a:pt x="1098" y="100"/>
                    </a:lnTo>
                    <a:lnTo>
                      <a:pt x="1132" y="109"/>
                    </a:lnTo>
                    <a:lnTo>
                      <a:pt x="1166" y="120"/>
                    </a:lnTo>
                    <a:lnTo>
                      <a:pt x="1203" y="132"/>
                    </a:lnTo>
                    <a:lnTo>
                      <a:pt x="1241" y="146"/>
                    </a:lnTo>
                    <a:lnTo>
                      <a:pt x="1280" y="161"/>
                    </a:lnTo>
                    <a:lnTo>
                      <a:pt x="1321" y="178"/>
                    </a:lnTo>
                    <a:lnTo>
                      <a:pt x="1362" y="197"/>
                    </a:lnTo>
                    <a:lnTo>
                      <a:pt x="1404" y="216"/>
                    </a:lnTo>
                    <a:lnTo>
                      <a:pt x="1424" y="227"/>
                    </a:lnTo>
                    <a:lnTo>
                      <a:pt x="1443" y="238"/>
                    </a:lnTo>
                    <a:lnTo>
                      <a:pt x="1461" y="248"/>
                    </a:lnTo>
                    <a:lnTo>
                      <a:pt x="1476" y="259"/>
                    </a:lnTo>
                    <a:lnTo>
                      <a:pt x="1491" y="270"/>
                    </a:lnTo>
                    <a:lnTo>
                      <a:pt x="1504" y="281"/>
                    </a:lnTo>
                    <a:lnTo>
                      <a:pt x="1516" y="292"/>
                    </a:lnTo>
                    <a:lnTo>
                      <a:pt x="1527" y="302"/>
                    </a:lnTo>
                    <a:lnTo>
                      <a:pt x="1537" y="313"/>
                    </a:lnTo>
                    <a:lnTo>
                      <a:pt x="1545" y="324"/>
                    </a:lnTo>
                    <a:lnTo>
                      <a:pt x="1553" y="335"/>
                    </a:lnTo>
                    <a:lnTo>
                      <a:pt x="1561" y="344"/>
                    </a:lnTo>
                    <a:lnTo>
                      <a:pt x="1566" y="355"/>
                    </a:lnTo>
                    <a:lnTo>
                      <a:pt x="1570" y="365"/>
                    </a:lnTo>
                    <a:lnTo>
                      <a:pt x="1575" y="375"/>
                    </a:lnTo>
                    <a:lnTo>
                      <a:pt x="1578" y="384"/>
                    </a:lnTo>
                    <a:lnTo>
                      <a:pt x="1583" y="402"/>
                    </a:lnTo>
                    <a:lnTo>
                      <a:pt x="1585" y="418"/>
                    </a:lnTo>
                    <a:lnTo>
                      <a:pt x="1587" y="432"/>
                    </a:lnTo>
                    <a:lnTo>
                      <a:pt x="1585" y="445"/>
                    </a:lnTo>
                    <a:lnTo>
                      <a:pt x="1583" y="462"/>
                    </a:lnTo>
                    <a:lnTo>
                      <a:pt x="1582" y="469"/>
                    </a:lnTo>
                    <a:close/>
                  </a:path>
                </a:pathLst>
              </a:custGeom>
              <a:solidFill>
                <a:srgbClr val="ca93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6113520" y="3087720"/>
                <a:ext cx="47520" cy="69840"/>
              </a:xfrm>
              <a:custGeom>
                <a:avLst/>
                <a:gdLst/>
                <a:ahLst/>
                <a:rect l="l" t="t" r="r" b="b"/>
                <a:pathLst>
                  <a:path w="148" h="219">
                    <a:moveTo>
                      <a:pt x="148" y="0"/>
                    </a:moveTo>
                    <a:lnTo>
                      <a:pt x="147" y="1"/>
                    </a:lnTo>
                    <a:lnTo>
                      <a:pt x="144" y="6"/>
                    </a:lnTo>
                    <a:lnTo>
                      <a:pt x="139" y="14"/>
                    </a:lnTo>
                    <a:lnTo>
                      <a:pt x="132" y="24"/>
                    </a:lnTo>
                    <a:lnTo>
                      <a:pt x="125" y="35"/>
                    </a:lnTo>
                    <a:lnTo>
                      <a:pt x="117" y="46"/>
                    </a:lnTo>
                    <a:lnTo>
                      <a:pt x="111" y="58"/>
                    </a:lnTo>
                    <a:lnTo>
                      <a:pt x="104" y="69"/>
                    </a:lnTo>
                    <a:lnTo>
                      <a:pt x="99" y="82"/>
                    </a:lnTo>
                    <a:lnTo>
                      <a:pt x="92" y="100"/>
                    </a:lnTo>
                    <a:lnTo>
                      <a:pt x="86" y="122"/>
                    </a:lnTo>
                    <a:lnTo>
                      <a:pt x="79" y="145"/>
                    </a:lnTo>
                    <a:lnTo>
                      <a:pt x="74" y="165"/>
                    </a:lnTo>
                    <a:lnTo>
                      <a:pt x="69" y="184"/>
                    </a:lnTo>
                    <a:lnTo>
                      <a:pt x="65" y="195"/>
                    </a:lnTo>
                    <a:lnTo>
                      <a:pt x="64" y="200"/>
                    </a:lnTo>
                    <a:lnTo>
                      <a:pt x="0" y="219"/>
                    </a:lnTo>
                    <a:lnTo>
                      <a:pt x="2" y="216"/>
                    </a:lnTo>
                    <a:lnTo>
                      <a:pt x="5" y="204"/>
                    </a:lnTo>
                    <a:lnTo>
                      <a:pt x="10" y="187"/>
                    </a:lnTo>
                    <a:lnTo>
                      <a:pt x="17" y="166"/>
                    </a:lnTo>
                    <a:lnTo>
                      <a:pt x="24" y="143"/>
                    </a:lnTo>
                    <a:lnTo>
                      <a:pt x="33" y="119"/>
                    </a:lnTo>
                    <a:lnTo>
                      <a:pt x="40" y="95"/>
                    </a:lnTo>
                    <a:lnTo>
                      <a:pt x="47" y="73"/>
                    </a:lnTo>
                    <a:lnTo>
                      <a:pt x="50" y="65"/>
                    </a:lnTo>
                    <a:lnTo>
                      <a:pt x="54" y="57"/>
                    </a:lnTo>
                    <a:lnTo>
                      <a:pt x="59" y="50"/>
                    </a:lnTo>
                    <a:lnTo>
                      <a:pt x="64" y="43"/>
                    </a:lnTo>
                    <a:lnTo>
                      <a:pt x="69" y="37"/>
                    </a:lnTo>
                    <a:lnTo>
                      <a:pt x="74" y="32"/>
                    </a:lnTo>
                    <a:lnTo>
                      <a:pt x="80" y="27"/>
                    </a:lnTo>
                    <a:lnTo>
                      <a:pt x="87" y="23"/>
                    </a:lnTo>
                    <a:lnTo>
                      <a:pt x="100" y="15"/>
                    </a:lnTo>
                    <a:lnTo>
                      <a:pt x="115" y="10"/>
                    </a:lnTo>
                    <a:lnTo>
                      <a:pt x="131" y="4"/>
                    </a:lnTo>
                    <a:lnTo>
                      <a:pt x="148" y="0"/>
                    </a:lnTo>
                    <a:close/>
                  </a:path>
                </a:pathLst>
              </a:custGeom>
              <a:solidFill>
                <a:srgbClr val="ca93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6153120" y="3087720"/>
                <a:ext cx="84240" cy="58680"/>
              </a:xfrm>
              <a:custGeom>
                <a:avLst/>
                <a:gdLst/>
                <a:ahLst/>
                <a:rect l="l" t="t" r="r" b="b"/>
                <a:pathLst>
                  <a:path w="266" h="188">
                    <a:moveTo>
                      <a:pt x="64" y="180"/>
                    </a:moveTo>
                    <a:lnTo>
                      <a:pt x="67" y="177"/>
                    </a:lnTo>
                    <a:lnTo>
                      <a:pt x="73" y="167"/>
                    </a:lnTo>
                    <a:lnTo>
                      <a:pt x="84" y="153"/>
                    </a:lnTo>
                    <a:lnTo>
                      <a:pt x="96" y="138"/>
                    </a:lnTo>
                    <a:lnTo>
                      <a:pt x="108" y="122"/>
                    </a:lnTo>
                    <a:lnTo>
                      <a:pt x="120" y="107"/>
                    </a:lnTo>
                    <a:lnTo>
                      <a:pt x="129" y="95"/>
                    </a:lnTo>
                    <a:lnTo>
                      <a:pt x="136" y="89"/>
                    </a:lnTo>
                    <a:lnTo>
                      <a:pt x="142" y="86"/>
                    </a:lnTo>
                    <a:lnTo>
                      <a:pt x="149" y="82"/>
                    </a:lnTo>
                    <a:lnTo>
                      <a:pt x="156" y="76"/>
                    </a:lnTo>
                    <a:lnTo>
                      <a:pt x="166" y="71"/>
                    </a:lnTo>
                    <a:lnTo>
                      <a:pt x="176" y="65"/>
                    </a:lnTo>
                    <a:lnTo>
                      <a:pt x="186" y="58"/>
                    </a:lnTo>
                    <a:lnTo>
                      <a:pt x="199" y="51"/>
                    </a:lnTo>
                    <a:lnTo>
                      <a:pt x="212" y="42"/>
                    </a:lnTo>
                    <a:lnTo>
                      <a:pt x="224" y="34"/>
                    </a:lnTo>
                    <a:lnTo>
                      <a:pt x="235" y="27"/>
                    </a:lnTo>
                    <a:lnTo>
                      <a:pt x="245" y="19"/>
                    </a:lnTo>
                    <a:lnTo>
                      <a:pt x="252" y="13"/>
                    </a:lnTo>
                    <a:lnTo>
                      <a:pt x="259" y="7"/>
                    </a:lnTo>
                    <a:lnTo>
                      <a:pt x="263" y="4"/>
                    </a:lnTo>
                    <a:lnTo>
                      <a:pt x="266" y="1"/>
                    </a:lnTo>
                    <a:lnTo>
                      <a:pt x="266" y="0"/>
                    </a:lnTo>
                    <a:lnTo>
                      <a:pt x="266" y="0"/>
                    </a:lnTo>
                    <a:lnTo>
                      <a:pt x="264" y="0"/>
                    </a:lnTo>
                    <a:lnTo>
                      <a:pt x="261" y="0"/>
                    </a:lnTo>
                    <a:lnTo>
                      <a:pt x="255" y="0"/>
                    </a:lnTo>
                    <a:lnTo>
                      <a:pt x="246" y="2"/>
                    </a:lnTo>
                    <a:lnTo>
                      <a:pt x="233" y="5"/>
                    </a:lnTo>
                    <a:lnTo>
                      <a:pt x="217" y="12"/>
                    </a:lnTo>
                    <a:lnTo>
                      <a:pt x="195" y="20"/>
                    </a:lnTo>
                    <a:lnTo>
                      <a:pt x="171" y="29"/>
                    </a:lnTo>
                    <a:lnTo>
                      <a:pt x="151" y="35"/>
                    </a:lnTo>
                    <a:lnTo>
                      <a:pt x="130" y="42"/>
                    </a:lnTo>
                    <a:lnTo>
                      <a:pt x="113" y="46"/>
                    </a:lnTo>
                    <a:lnTo>
                      <a:pt x="97" y="52"/>
                    </a:lnTo>
                    <a:lnTo>
                      <a:pt x="84" y="58"/>
                    </a:lnTo>
                    <a:lnTo>
                      <a:pt x="78" y="62"/>
                    </a:lnTo>
                    <a:lnTo>
                      <a:pt x="73" y="67"/>
                    </a:lnTo>
                    <a:lnTo>
                      <a:pt x="68" y="71"/>
                    </a:lnTo>
                    <a:lnTo>
                      <a:pt x="64" y="76"/>
                    </a:lnTo>
                    <a:lnTo>
                      <a:pt x="56" y="92"/>
                    </a:lnTo>
                    <a:lnTo>
                      <a:pt x="46" y="109"/>
                    </a:lnTo>
                    <a:lnTo>
                      <a:pt x="35" y="127"/>
                    </a:lnTo>
                    <a:lnTo>
                      <a:pt x="24" y="146"/>
                    </a:lnTo>
                    <a:lnTo>
                      <a:pt x="15" y="162"/>
                    </a:lnTo>
                    <a:lnTo>
                      <a:pt x="7" y="176"/>
                    </a:lnTo>
                    <a:lnTo>
                      <a:pt x="2" y="184"/>
                    </a:lnTo>
                    <a:lnTo>
                      <a:pt x="0" y="188"/>
                    </a:lnTo>
                    <a:lnTo>
                      <a:pt x="64" y="180"/>
                    </a:lnTo>
                    <a:close/>
                  </a:path>
                </a:pathLst>
              </a:custGeom>
              <a:solidFill>
                <a:srgbClr val="ca93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6200640" y="3121200"/>
                <a:ext cx="93600" cy="28440"/>
              </a:xfrm>
              <a:custGeom>
                <a:avLst/>
                <a:gdLst/>
                <a:ahLst/>
                <a:rect l="l" t="t" r="r" b="b"/>
                <a:pathLst>
                  <a:path w="297" h="92">
                    <a:moveTo>
                      <a:pt x="0" y="71"/>
                    </a:moveTo>
                    <a:lnTo>
                      <a:pt x="3" y="69"/>
                    </a:lnTo>
                    <a:lnTo>
                      <a:pt x="14" y="61"/>
                    </a:lnTo>
                    <a:lnTo>
                      <a:pt x="30" y="52"/>
                    </a:lnTo>
                    <a:lnTo>
                      <a:pt x="51" y="41"/>
                    </a:lnTo>
                    <a:lnTo>
                      <a:pt x="74" y="29"/>
                    </a:lnTo>
                    <a:lnTo>
                      <a:pt x="99" y="18"/>
                    </a:lnTo>
                    <a:lnTo>
                      <a:pt x="112" y="12"/>
                    </a:lnTo>
                    <a:lnTo>
                      <a:pt x="125" y="8"/>
                    </a:lnTo>
                    <a:lnTo>
                      <a:pt x="138" y="4"/>
                    </a:lnTo>
                    <a:lnTo>
                      <a:pt x="150" y="2"/>
                    </a:lnTo>
                    <a:lnTo>
                      <a:pt x="158" y="0"/>
                    </a:lnTo>
                    <a:lnTo>
                      <a:pt x="165" y="0"/>
                    </a:lnTo>
                    <a:lnTo>
                      <a:pt x="173" y="0"/>
                    </a:lnTo>
                    <a:lnTo>
                      <a:pt x="180" y="0"/>
                    </a:lnTo>
                    <a:lnTo>
                      <a:pt x="195" y="2"/>
                    </a:lnTo>
                    <a:lnTo>
                      <a:pt x="209" y="6"/>
                    </a:lnTo>
                    <a:lnTo>
                      <a:pt x="225" y="10"/>
                    </a:lnTo>
                    <a:lnTo>
                      <a:pt x="240" y="16"/>
                    </a:lnTo>
                    <a:lnTo>
                      <a:pt x="255" y="20"/>
                    </a:lnTo>
                    <a:lnTo>
                      <a:pt x="269" y="23"/>
                    </a:lnTo>
                    <a:lnTo>
                      <a:pt x="276" y="25"/>
                    </a:lnTo>
                    <a:lnTo>
                      <a:pt x="283" y="27"/>
                    </a:lnTo>
                    <a:lnTo>
                      <a:pt x="287" y="29"/>
                    </a:lnTo>
                    <a:lnTo>
                      <a:pt x="292" y="32"/>
                    </a:lnTo>
                    <a:lnTo>
                      <a:pt x="295" y="35"/>
                    </a:lnTo>
                    <a:lnTo>
                      <a:pt x="297" y="38"/>
                    </a:lnTo>
                    <a:lnTo>
                      <a:pt x="297" y="42"/>
                    </a:lnTo>
                    <a:lnTo>
                      <a:pt x="296" y="46"/>
                    </a:lnTo>
                    <a:lnTo>
                      <a:pt x="294" y="49"/>
                    </a:lnTo>
                    <a:lnTo>
                      <a:pt x="289" y="54"/>
                    </a:lnTo>
                    <a:lnTo>
                      <a:pt x="283" y="57"/>
                    </a:lnTo>
                    <a:lnTo>
                      <a:pt x="274" y="61"/>
                    </a:lnTo>
                    <a:lnTo>
                      <a:pt x="265" y="64"/>
                    </a:lnTo>
                    <a:lnTo>
                      <a:pt x="252" y="68"/>
                    </a:lnTo>
                    <a:lnTo>
                      <a:pt x="236" y="71"/>
                    </a:lnTo>
                    <a:lnTo>
                      <a:pt x="219" y="73"/>
                    </a:lnTo>
                    <a:lnTo>
                      <a:pt x="181" y="77"/>
                    </a:lnTo>
                    <a:lnTo>
                      <a:pt x="144" y="81"/>
                    </a:lnTo>
                    <a:lnTo>
                      <a:pt x="108" y="84"/>
                    </a:lnTo>
                    <a:lnTo>
                      <a:pt x="75" y="87"/>
                    </a:lnTo>
                    <a:lnTo>
                      <a:pt x="47" y="89"/>
                    </a:lnTo>
                    <a:lnTo>
                      <a:pt x="26" y="91"/>
                    </a:lnTo>
                    <a:lnTo>
                      <a:pt x="12" y="92"/>
                    </a:lnTo>
                    <a:lnTo>
                      <a:pt x="7" y="92"/>
                    </a:lnTo>
                    <a:lnTo>
                      <a:pt x="0" y="71"/>
                    </a:lnTo>
                    <a:close/>
                  </a:path>
                </a:pathLst>
              </a:custGeom>
              <a:solidFill>
                <a:srgbClr val="ca93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6116760" y="3090960"/>
                <a:ext cx="41040" cy="66600"/>
              </a:xfrm>
              <a:custGeom>
                <a:avLst/>
                <a:gdLst/>
                <a:ahLst/>
                <a:rect l="l" t="t" r="r" b="b"/>
                <a:pathLst>
                  <a:path w="131" h="209">
                    <a:moveTo>
                      <a:pt x="42" y="78"/>
                    </a:moveTo>
                    <a:lnTo>
                      <a:pt x="46" y="70"/>
                    </a:lnTo>
                    <a:lnTo>
                      <a:pt x="49" y="61"/>
                    </a:lnTo>
                    <a:lnTo>
                      <a:pt x="53" y="54"/>
                    </a:lnTo>
                    <a:lnTo>
                      <a:pt x="57" y="47"/>
                    </a:lnTo>
                    <a:lnTo>
                      <a:pt x="62" y="41"/>
                    </a:lnTo>
                    <a:lnTo>
                      <a:pt x="67" y="35"/>
                    </a:lnTo>
                    <a:lnTo>
                      <a:pt x="71" y="30"/>
                    </a:lnTo>
                    <a:lnTo>
                      <a:pt x="77" y="25"/>
                    </a:lnTo>
                    <a:lnTo>
                      <a:pt x="89" y="18"/>
                    </a:lnTo>
                    <a:lnTo>
                      <a:pt x="102" y="10"/>
                    </a:lnTo>
                    <a:lnTo>
                      <a:pt x="116" y="5"/>
                    </a:lnTo>
                    <a:lnTo>
                      <a:pt x="131" y="0"/>
                    </a:lnTo>
                    <a:lnTo>
                      <a:pt x="130" y="1"/>
                    </a:lnTo>
                    <a:lnTo>
                      <a:pt x="128" y="5"/>
                    </a:lnTo>
                    <a:lnTo>
                      <a:pt x="123" y="11"/>
                    </a:lnTo>
                    <a:lnTo>
                      <a:pt x="118" y="20"/>
                    </a:lnTo>
                    <a:lnTo>
                      <a:pt x="113" y="30"/>
                    </a:lnTo>
                    <a:lnTo>
                      <a:pt x="106" y="40"/>
                    </a:lnTo>
                    <a:lnTo>
                      <a:pt x="100" y="50"/>
                    </a:lnTo>
                    <a:lnTo>
                      <a:pt x="94" y="61"/>
                    </a:lnTo>
                    <a:lnTo>
                      <a:pt x="89" y="74"/>
                    </a:lnTo>
                    <a:lnTo>
                      <a:pt x="82" y="92"/>
                    </a:lnTo>
                    <a:lnTo>
                      <a:pt x="76" y="114"/>
                    </a:lnTo>
                    <a:lnTo>
                      <a:pt x="69" y="137"/>
                    </a:lnTo>
                    <a:lnTo>
                      <a:pt x="64" y="157"/>
                    </a:lnTo>
                    <a:lnTo>
                      <a:pt x="59" y="176"/>
                    </a:lnTo>
                    <a:lnTo>
                      <a:pt x="55" y="187"/>
                    </a:lnTo>
                    <a:lnTo>
                      <a:pt x="54" y="192"/>
                    </a:lnTo>
                    <a:lnTo>
                      <a:pt x="0" y="209"/>
                    </a:lnTo>
                    <a:lnTo>
                      <a:pt x="1" y="206"/>
                    </a:lnTo>
                    <a:lnTo>
                      <a:pt x="4" y="196"/>
                    </a:lnTo>
                    <a:lnTo>
                      <a:pt x="10" y="181"/>
                    </a:lnTo>
                    <a:lnTo>
                      <a:pt x="15" y="163"/>
                    </a:lnTo>
                    <a:lnTo>
                      <a:pt x="22" y="141"/>
                    </a:lnTo>
                    <a:lnTo>
                      <a:pt x="29" y="119"/>
                    </a:lnTo>
                    <a:lnTo>
                      <a:pt x="36" y="98"/>
                    </a:lnTo>
                    <a:lnTo>
                      <a:pt x="42" y="78"/>
                    </a:lnTo>
                    <a:close/>
                  </a:path>
                </a:pathLst>
              </a:custGeom>
              <a:solidFill>
                <a:srgbClr val="c38f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6119640" y="3094200"/>
                <a:ext cx="36720" cy="61920"/>
              </a:xfrm>
              <a:custGeom>
                <a:avLst/>
                <a:gdLst/>
                <a:ahLst/>
                <a:rect l="l" t="t" r="r" b="b"/>
                <a:pathLst>
                  <a:path w="113" h="196">
                    <a:moveTo>
                      <a:pt x="40" y="79"/>
                    </a:moveTo>
                    <a:lnTo>
                      <a:pt x="46" y="62"/>
                    </a:lnTo>
                    <a:lnTo>
                      <a:pt x="53" y="48"/>
                    </a:lnTo>
                    <a:lnTo>
                      <a:pt x="60" y="36"/>
                    </a:lnTo>
                    <a:lnTo>
                      <a:pt x="69" y="25"/>
                    </a:lnTo>
                    <a:lnTo>
                      <a:pt x="79" y="18"/>
                    </a:lnTo>
                    <a:lnTo>
                      <a:pt x="88" y="11"/>
                    </a:lnTo>
                    <a:lnTo>
                      <a:pt x="100" y="5"/>
                    </a:lnTo>
                    <a:lnTo>
                      <a:pt x="113" y="0"/>
                    </a:lnTo>
                    <a:lnTo>
                      <a:pt x="113" y="1"/>
                    </a:lnTo>
                    <a:lnTo>
                      <a:pt x="111" y="5"/>
                    </a:lnTo>
                    <a:lnTo>
                      <a:pt x="108" y="9"/>
                    </a:lnTo>
                    <a:lnTo>
                      <a:pt x="105" y="15"/>
                    </a:lnTo>
                    <a:lnTo>
                      <a:pt x="100" y="24"/>
                    </a:lnTo>
                    <a:lnTo>
                      <a:pt x="95" y="33"/>
                    </a:lnTo>
                    <a:lnTo>
                      <a:pt x="90" y="41"/>
                    </a:lnTo>
                    <a:lnTo>
                      <a:pt x="84" y="52"/>
                    </a:lnTo>
                    <a:lnTo>
                      <a:pt x="79" y="65"/>
                    </a:lnTo>
                    <a:lnTo>
                      <a:pt x="72" y="83"/>
                    </a:lnTo>
                    <a:lnTo>
                      <a:pt x="66" y="105"/>
                    </a:lnTo>
                    <a:lnTo>
                      <a:pt x="59" y="128"/>
                    </a:lnTo>
                    <a:lnTo>
                      <a:pt x="54" y="148"/>
                    </a:lnTo>
                    <a:lnTo>
                      <a:pt x="49" y="167"/>
                    </a:lnTo>
                    <a:lnTo>
                      <a:pt x="45" y="178"/>
                    </a:lnTo>
                    <a:lnTo>
                      <a:pt x="44" y="183"/>
                    </a:lnTo>
                    <a:lnTo>
                      <a:pt x="0" y="196"/>
                    </a:lnTo>
                    <a:lnTo>
                      <a:pt x="1" y="193"/>
                    </a:lnTo>
                    <a:lnTo>
                      <a:pt x="4" y="184"/>
                    </a:lnTo>
                    <a:lnTo>
                      <a:pt x="7" y="172"/>
                    </a:lnTo>
                    <a:lnTo>
                      <a:pt x="13" y="157"/>
                    </a:lnTo>
                    <a:lnTo>
                      <a:pt x="19" y="139"/>
                    </a:lnTo>
                    <a:lnTo>
                      <a:pt x="26" y="119"/>
                    </a:lnTo>
                    <a:lnTo>
                      <a:pt x="32" y="99"/>
                    </a:lnTo>
                    <a:lnTo>
                      <a:pt x="40" y="79"/>
                    </a:lnTo>
                    <a:close/>
                  </a:path>
                </a:pathLst>
              </a:custGeom>
              <a:solidFill>
                <a:srgbClr val="bc89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6122880" y="3095640"/>
                <a:ext cx="30240" cy="58680"/>
              </a:xfrm>
              <a:custGeom>
                <a:avLst/>
                <a:gdLst/>
                <a:ahLst/>
                <a:rect l="l" t="t" r="r" b="b"/>
                <a:pathLst>
                  <a:path w="94" h="185">
                    <a:moveTo>
                      <a:pt x="34" y="83"/>
                    </a:moveTo>
                    <a:lnTo>
                      <a:pt x="41" y="66"/>
                    </a:lnTo>
                    <a:lnTo>
                      <a:pt x="47" y="52"/>
                    </a:lnTo>
                    <a:lnTo>
                      <a:pt x="53" y="39"/>
                    </a:lnTo>
                    <a:lnTo>
                      <a:pt x="59" y="28"/>
                    </a:lnTo>
                    <a:lnTo>
                      <a:pt x="67" y="19"/>
                    </a:lnTo>
                    <a:lnTo>
                      <a:pt x="74" y="12"/>
                    </a:lnTo>
                    <a:lnTo>
                      <a:pt x="84" y="5"/>
                    </a:lnTo>
                    <a:lnTo>
                      <a:pt x="94" y="0"/>
                    </a:lnTo>
                    <a:lnTo>
                      <a:pt x="94" y="0"/>
                    </a:lnTo>
                    <a:lnTo>
                      <a:pt x="93" y="2"/>
                    </a:lnTo>
                    <a:lnTo>
                      <a:pt x="91" y="6"/>
                    </a:lnTo>
                    <a:lnTo>
                      <a:pt x="89" y="12"/>
                    </a:lnTo>
                    <a:lnTo>
                      <a:pt x="87" y="18"/>
                    </a:lnTo>
                    <a:lnTo>
                      <a:pt x="84" y="26"/>
                    </a:lnTo>
                    <a:lnTo>
                      <a:pt x="80" y="34"/>
                    </a:lnTo>
                    <a:lnTo>
                      <a:pt x="74" y="44"/>
                    </a:lnTo>
                    <a:lnTo>
                      <a:pt x="69" y="57"/>
                    </a:lnTo>
                    <a:lnTo>
                      <a:pt x="62" y="75"/>
                    </a:lnTo>
                    <a:lnTo>
                      <a:pt x="56" y="97"/>
                    </a:lnTo>
                    <a:lnTo>
                      <a:pt x="49" y="120"/>
                    </a:lnTo>
                    <a:lnTo>
                      <a:pt x="44" y="140"/>
                    </a:lnTo>
                    <a:lnTo>
                      <a:pt x="39" y="159"/>
                    </a:lnTo>
                    <a:lnTo>
                      <a:pt x="35" y="170"/>
                    </a:lnTo>
                    <a:lnTo>
                      <a:pt x="34" y="175"/>
                    </a:lnTo>
                    <a:lnTo>
                      <a:pt x="0" y="185"/>
                    </a:lnTo>
                    <a:lnTo>
                      <a:pt x="1" y="182"/>
                    </a:lnTo>
                    <a:lnTo>
                      <a:pt x="3" y="176"/>
                    </a:lnTo>
                    <a:lnTo>
                      <a:pt x="7" y="166"/>
                    </a:lnTo>
                    <a:lnTo>
                      <a:pt x="12" y="152"/>
                    </a:lnTo>
                    <a:lnTo>
                      <a:pt x="17" y="137"/>
                    </a:lnTo>
                    <a:lnTo>
                      <a:pt x="22" y="120"/>
                    </a:lnTo>
                    <a:lnTo>
                      <a:pt x="29" y="102"/>
                    </a:lnTo>
                    <a:lnTo>
                      <a:pt x="34" y="83"/>
                    </a:lnTo>
                    <a:close/>
                  </a:path>
                </a:pathLst>
              </a:custGeom>
              <a:solidFill>
                <a:srgbClr val="b886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6127560" y="3098880"/>
                <a:ext cx="22320" cy="54000"/>
              </a:xfrm>
              <a:custGeom>
                <a:avLst/>
                <a:gdLst/>
                <a:ahLst/>
                <a:rect l="l" t="t" r="r" b="b"/>
                <a:pathLst>
                  <a:path w="73" h="170">
                    <a:moveTo>
                      <a:pt x="73" y="0"/>
                    </a:moveTo>
                    <a:lnTo>
                      <a:pt x="73" y="0"/>
                    </a:lnTo>
                    <a:lnTo>
                      <a:pt x="73" y="1"/>
                    </a:lnTo>
                    <a:lnTo>
                      <a:pt x="73" y="3"/>
                    </a:lnTo>
                    <a:lnTo>
                      <a:pt x="73" y="6"/>
                    </a:lnTo>
                    <a:lnTo>
                      <a:pt x="72" y="11"/>
                    </a:lnTo>
                    <a:lnTo>
                      <a:pt x="69" y="17"/>
                    </a:lnTo>
                    <a:lnTo>
                      <a:pt x="65" y="24"/>
                    </a:lnTo>
                    <a:lnTo>
                      <a:pt x="61" y="34"/>
                    </a:lnTo>
                    <a:lnTo>
                      <a:pt x="56" y="47"/>
                    </a:lnTo>
                    <a:lnTo>
                      <a:pt x="49" y="65"/>
                    </a:lnTo>
                    <a:lnTo>
                      <a:pt x="43" y="87"/>
                    </a:lnTo>
                    <a:lnTo>
                      <a:pt x="36" y="110"/>
                    </a:lnTo>
                    <a:lnTo>
                      <a:pt x="31" y="130"/>
                    </a:lnTo>
                    <a:lnTo>
                      <a:pt x="26" y="149"/>
                    </a:lnTo>
                    <a:lnTo>
                      <a:pt x="22" y="160"/>
                    </a:lnTo>
                    <a:lnTo>
                      <a:pt x="21" y="165"/>
                    </a:lnTo>
                    <a:lnTo>
                      <a:pt x="0" y="170"/>
                    </a:lnTo>
                    <a:lnTo>
                      <a:pt x="0" y="168"/>
                    </a:lnTo>
                    <a:lnTo>
                      <a:pt x="2" y="164"/>
                    </a:lnTo>
                    <a:lnTo>
                      <a:pt x="4" y="156"/>
                    </a:lnTo>
                    <a:lnTo>
                      <a:pt x="7" y="146"/>
                    </a:lnTo>
                    <a:lnTo>
                      <a:pt x="11" y="133"/>
                    </a:lnTo>
                    <a:lnTo>
                      <a:pt x="17" y="118"/>
                    </a:lnTo>
                    <a:lnTo>
                      <a:pt x="22" y="102"/>
                    </a:lnTo>
                    <a:lnTo>
                      <a:pt x="29" y="84"/>
                    </a:lnTo>
                    <a:lnTo>
                      <a:pt x="35" y="67"/>
                    </a:lnTo>
                    <a:lnTo>
                      <a:pt x="40" y="51"/>
                    </a:lnTo>
                    <a:lnTo>
                      <a:pt x="44" y="38"/>
                    </a:lnTo>
                    <a:lnTo>
                      <a:pt x="48" y="29"/>
                    </a:lnTo>
                    <a:lnTo>
                      <a:pt x="53" y="19"/>
                    </a:lnTo>
                    <a:lnTo>
                      <a:pt x="58" y="11"/>
                    </a:lnTo>
                    <a:lnTo>
                      <a:pt x="65" y="5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b180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6156360" y="3089520"/>
                <a:ext cx="77760" cy="56880"/>
              </a:xfrm>
              <a:custGeom>
                <a:avLst/>
                <a:gdLst/>
                <a:ahLst/>
                <a:rect l="l" t="t" r="r" b="b"/>
                <a:pathLst>
                  <a:path w="242" h="180">
                    <a:moveTo>
                      <a:pt x="61" y="78"/>
                    </a:moveTo>
                    <a:lnTo>
                      <a:pt x="64" y="73"/>
                    </a:lnTo>
                    <a:lnTo>
                      <a:pt x="69" y="68"/>
                    </a:lnTo>
                    <a:lnTo>
                      <a:pt x="73" y="64"/>
                    </a:lnTo>
                    <a:lnTo>
                      <a:pt x="78" y="60"/>
                    </a:lnTo>
                    <a:lnTo>
                      <a:pt x="89" y="53"/>
                    </a:lnTo>
                    <a:lnTo>
                      <a:pt x="102" y="48"/>
                    </a:lnTo>
                    <a:lnTo>
                      <a:pt x="117" y="43"/>
                    </a:lnTo>
                    <a:lnTo>
                      <a:pt x="135" y="37"/>
                    </a:lnTo>
                    <a:lnTo>
                      <a:pt x="153" y="30"/>
                    </a:lnTo>
                    <a:lnTo>
                      <a:pt x="172" y="22"/>
                    </a:lnTo>
                    <a:lnTo>
                      <a:pt x="194" y="12"/>
                    </a:lnTo>
                    <a:lnTo>
                      <a:pt x="210" y="6"/>
                    </a:lnTo>
                    <a:lnTo>
                      <a:pt x="222" y="3"/>
                    </a:lnTo>
                    <a:lnTo>
                      <a:pt x="231" y="0"/>
                    </a:lnTo>
                    <a:lnTo>
                      <a:pt x="236" y="0"/>
                    </a:lnTo>
                    <a:lnTo>
                      <a:pt x="239" y="1"/>
                    </a:lnTo>
                    <a:lnTo>
                      <a:pt x="242" y="1"/>
                    </a:lnTo>
                    <a:lnTo>
                      <a:pt x="242" y="3"/>
                    </a:lnTo>
                    <a:lnTo>
                      <a:pt x="242" y="3"/>
                    </a:lnTo>
                    <a:lnTo>
                      <a:pt x="239" y="4"/>
                    </a:lnTo>
                    <a:lnTo>
                      <a:pt x="237" y="7"/>
                    </a:lnTo>
                    <a:lnTo>
                      <a:pt x="233" y="10"/>
                    </a:lnTo>
                    <a:lnTo>
                      <a:pt x="228" y="14"/>
                    </a:lnTo>
                    <a:lnTo>
                      <a:pt x="221" y="20"/>
                    </a:lnTo>
                    <a:lnTo>
                      <a:pt x="211" y="26"/>
                    </a:lnTo>
                    <a:lnTo>
                      <a:pt x="199" y="34"/>
                    </a:lnTo>
                    <a:lnTo>
                      <a:pt x="186" y="43"/>
                    </a:lnTo>
                    <a:lnTo>
                      <a:pt x="173" y="50"/>
                    </a:lnTo>
                    <a:lnTo>
                      <a:pt x="163" y="57"/>
                    </a:lnTo>
                    <a:lnTo>
                      <a:pt x="153" y="63"/>
                    </a:lnTo>
                    <a:lnTo>
                      <a:pt x="143" y="68"/>
                    </a:lnTo>
                    <a:lnTo>
                      <a:pt x="136" y="74"/>
                    </a:lnTo>
                    <a:lnTo>
                      <a:pt x="129" y="78"/>
                    </a:lnTo>
                    <a:lnTo>
                      <a:pt x="123" y="81"/>
                    </a:lnTo>
                    <a:lnTo>
                      <a:pt x="116" y="87"/>
                    </a:lnTo>
                    <a:lnTo>
                      <a:pt x="107" y="99"/>
                    </a:lnTo>
                    <a:lnTo>
                      <a:pt x="95" y="114"/>
                    </a:lnTo>
                    <a:lnTo>
                      <a:pt x="83" y="130"/>
                    </a:lnTo>
                    <a:lnTo>
                      <a:pt x="71" y="145"/>
                    </a:lnTo>
                    <a:lnTo>
                      <a:pt x="60" y="159"/>
                    </a:lnTo>
                    <a:lnTo>
                      <a:pt x="54" y="169"/>
                    </a:lnTo>
                    <a:lnTo>
                      <a:pt x="51" y="172"/>
                    </a:lnTo>
                    <a:lnTo>
                      <a:pt x="0" y="180"/>
                    </a:lnTo>
                    <a:lnTo>
                      <a:pt x="1" y="178"/>
                    </a:lnTo>
                    <a:lnTo>
                      <a:pt x="6" y="169"/>
                    </a:lnTo>
                    <a:lnTo>
                      <a:pt x="14" y="157"/>
                    </a:lnTo>
                    <a:lnTo>
                      <a:pt x="22" y="142"/>
                    </a:lnTo>
                    <a:lnTo>
                      <a:pt x="33" y="126"/>
                    </a:lnTo>
                    <a:lnTo>
                      <a:pt x="43" y="109"/>
                    </a:lnTo>
                    <a:lnTo>
                      <a:pt x="53" y="93"/>
                    </a:lnTo>
                    <a:lnTo>
                      <a:pt x="61" y="78"/>
                    </a:lnTo>
                    <a:close/>
                  </a:path>
                </a:pathLst>
              </a:custGeom>
              <a:solidFill>
                <a:srgbClr val="c38f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6159600" y="3092400"/>
                <a:ext cx="69840" cy="54000"/>
              </a:xfrm>
              <a:custGeom>
                <a:avLst/>
                <a:gdLst/>
                <a:ahLst/>
                <a:rect l="l" t="t" r="r" b="b"/>
                <a:pathLst>
                  <a:path w="221" h="171">
                    <a:moveTo>
                      <a:pt x="60" y="80"/>
                    </a:moveTo>
                    <a:lnTo>
                      <a:pt x="63" y="73"/>
                    </a:lnTo>
                    <a:lnTo>
                      <a:pt x="67" y="68"/>
                    </a:lnTo>
                    <a:lnTo>
                      <a:pt x="72" y="64"/>
                    </a:lnTo>
                    <a:lnTo>
                      <a:pt x="76" y="59"/>
                    </a:lnTo>
                    <a:lnTo>
                      <a:pt x="87" y="53"/>
                    </a:lnTo>
                    <a:lnTo>
                      <a:pt x="98" y="48"/>
                    </a:lnTo>
                    <a:lnTo>
                      <a:pt x="109" y="43"/>
                    </a:lnTo>
                    <a:lnTo>
                      <a:pt x="123" y="38"/>
                    </a:lnTo>
                    <a:lnTo>
                      <a:pt x="139" y="32"/>
                    </a:lnTo>
                    <a:lnTo>
                      <a:pt x="156" y="25"/>
                    </a:lnTo>
                    <a:lnTo>
                      <a:pt x="176" y="15"/>
                    </a:lnTo>
                    <a:lnTo>
                      <a:pt x="191" y="8"/>
                    </a:lnTo>
                    <a:lnTo>
                      <a:pt x="203" y="3"/>
                    </a:lnTo>
                    <a:lnTo>
                      <a:pt x="211" y="1"/>
                    </a:lnTo>
                    <a:lnTo>
                      <a:pt x="216" y="0"/>
                    </a:lnTo>
                    <a:lnTo>
                      <a:pt x="219" y="0"/>
                    </a:lnTo>
                    <a:lnTo>
                      <a:pt x="220" y="0"/>
                    </a:lnTo>
                    <a:lnTo>
                      <a:pt x="220" y="0"/>
                    </a:lnTo>
                    <a:lnTo>
                      <a:pt x="221" y="1"/>
                    </a:lnTo>
                    <a:lnTo>
                      <a:pt x="221" y="1"/>
                    </a:lnTo>
                    <a:lnTo>
                      <a:pt x="220" y="2"/>
                    </a:lnTo>
                    <a:lnTo>
                      <a:pt x="219" y="4"/>
                    </a:lnTo>
                    <a:lnTo>
                      <a:pt x="215" y="8"/>
                    </a:lnTo>
                    <a:lnTo>
                      <a:pt x="210" y="12"/>
                    </a:lnTo>
                    <a:lnTo>
                      <a:pt x="201" y="17"/>
                    </a:lnTo>
                    <a:lnTo>
                      <a:pt x="190" y="25"/>
                    </a:lnTo>
                    <a:lnTo>
                      <a:pt x="177" y="34"/>
                    </a:lnTo>
                    <a:lnTo>
                      <a:pt x="164" y="41"/>
                    </a:lnTo>
                    <a:lnTo>
                      <a:pt x="154" y="48"/>
                    </a:lnTo>
                    <a:lnTo>
                      <a:pt x="144" y="54"/>
                    </a:lnTo>
                    <a:lnTo>
                      <a:pt x="134" y="59"/>
                    </a:lnTo>
                    <a:lnTo>
                      <a:pt x="127" y="65"/>
                    </a:lnTo>
                    <a:lnTo>
                      <a:pt x="120" y="69"/>
                    </a:lnTo>
                    <a:lnTo>
                      <a:pt x="114" y="72"/>
                    </a:lnTo>
                    <a:lnTo>
                      <a:pt x="107" y="78"/>
                    </a:lnTo>
                    <a:lnTo>
                      <a:pt x="98" y="90"/>
                    </a:lnTo>
                    <a:lnTo>
                      <a:pt x="86" y="105"/>
                    </a:lnTo>
                    <a:lnTo>
                      <a:pt x="74" y="121"/>
                    </a:lnTo>
                    <a:lnTo>
                      <a:pt x="62" y="136"/>
                    </a:lnTo>
                    <a:lnTo>
                      <a:pt x="51" y="150"/>
                    </a:lnTo>
                    <a:lnTo>
                      <a:pt x="45" y="160"/>
                    </a:lnTo>
                    <a:lnTo>
                      <a:pt x="42" y="163"/>
                    </a:lnTo>
                    <a:lnTo>
                      <a:pt x="0" y="171"/>
                    </a:lnTo>
                    <a:lnTo>
                      <a:pt x="1" y="169"/>
                    </a:lnTo>
                    <a:lnTo>
                      <a:pt x="7" y="161"/>
                    </a:lnTo>
                    <a:lnTo>
                      <a:pt x="13" y="150"/>
                    </a:lnTo>
                    <a:lnTo>
                      <a:pt x="22" y="137"/>
                    </a:lnTo>
                    <a:lnTo>
                      <a:pt x="32" y="123"/>
                    </a:lnTo>
                    <a:lnTo>
                      <a:pt x="41" y="107"/>
                    </a:lnTo>
                    <a:lnTo>
                      <a:pt x="51" y="93"/>
                    </a:lnTo>
                    <a:lnTo>
                      <a:pt x="60" y="80"/>
                    </a:lnTo>
                    <a:close/>
                  </a:path>
                </a:pathLst>
              </a:custGeom>
              <a:solidFill>
                <a:srgbClr val="bc89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6162480" y="3095640"/>
                <a:ext cx="63720" cy="50760"/>
              </a:xfrm>
              <a:custGeom>
                <a:avLst/>
                <a:gdLst/>
                <a:ahLst/>
                <a:rect l="l" t="t" r="r" b="b"/>
                <a:pathLst>
                  <a:path w="201" h="162">
                    <a:moveTo>
                      <a:pt x="57" y="79"/>
                    </a:moveTo>
                    <a:lnTo>
                      <a:pt x="65" y="68"/>
                    </a:lnTo>
                    <a:lnTo>
                      <a:pt x="72" y="59"/>
                    </a:lnTo>
                    <a:lnTo>
                      <a:pt x="81" y="53"/>
                    </a:lnTo>
                    <a:lnTo>
                      <a:pt x="90" y="47"/>
                    </a:lnTo>
                    <a:lnTo>
                      <a:pt x="99" y="43"/>
                    </a:lnTo>
                    <a:lnTo>
                      <a:pt x="110" y="39"/>
                    </a:lnTo>
                    <a:lnTo>
                      <a:pt x="123" y="33"/>
                    </a:lnTo>
                    <a:lnTo>
                      <a:pt x="136" y="26"/>
                    </a:lnTo>
                    <a:lnTo>
                      <a:pt x="157" y="16"/>
                    </a:lnTo>
                    <a:lnTo>
                      <a:pt x="172" y="8"/>
                    </a:lnTo>
                    <a:lnTo>
                      <a:pt x="181" y="4"/>
                    </a:lnTo>
                    <a:lnTo>
                      <a:pt x="189" y="2"/>
                    </a:lnTo>
                    <a:lnTo>
                      <a:pt x="192" y="1"/>
                    </a:lnTo>
                    <a:lnTo>
                      <a:pt x="194" y="1"/>
                    </a:lnTo>
                    <a:lnTo>
                      <a:pt x="196" y="1"/>
                    </a:lnTo>
                    <a:lnTo>
                      <a:pt x="196" y="2"/>
                    </a:lnTo>
                    <a:lnTo>
                      <a:pt x="196" y="1"/>
                    </a:lnTo>
                    <a:lnTo>
                      <a:pt x="198" y="1"/>
                    </a:lnTo>
                    <a:lnTo>
                      <a:pt x="200" y="0"/>
                    </a:lnTo>
                    <a:lnTo>
                      <a:pt x="201" y="1"/>
                    </a:lnTo>
                    <a:lnTo>
                      <a:pt x="200" y="2"/>
                    </a:lnTo>
                    <a:lnTo>
                      <a:pt x="198" y="4"/>
                    </a:lnTo>
                    <a:lnTo>
                      <a:pt x="191" y="9"/>
                    </a:lnTo>
                    <a:lnTo>
                      <a:pt x="180" y="16"/>
                    </a:lnTo>
                    <a:lnTo>
                      <a:pt x="167" y="25"/>
                    </a:lnTo>
                    <a:lnTo>
                      <a:pt x="154" y="32"/>
                    </a:lnTo>
                    <a:lnTo>
                      <a:pt x="144" y="39"/>
                    </a:lnTo>
                    <a:lnTo>
                      <a:pt x="134" y="45"/>
                    </a:lnTo>
                    <a:lnTo>
                      <a:pt x="124" y="50"/>
                    </a:lnTo>
                    <a:lnTo>
                      <a:pt x="117" y="56"/>
                    </a:lnTo>
                    <a:lnTo>
                      <a:pt x="110" y="60"/>
                    </a:lnTo>
                    <a:lnTo>
                      <a:pt x="104" y="63"/>
                    </a:lnTo>
                    <a:lnTo>
                      <a:pt x="97" y="69"/>
                    </a:lnTo>
                    <a:lnTo>
                      <a:pt x="88" y="81"/>
                    </a:lnTo>
                    <a:lnTo>
                      <a:pt x="76" y="96"/>
                    </a:lnTo>
                    <a:lnTo>
                      <a:pt x="64" y="112"/>
                    </a:lnTo>
                    <a:lnTo>
                      <a:pt x="52" y="127"/>
                    </a:lnTo>
                    <a:lnTo>
                      <a:pt x="41" y="141"/>
                    </a:lnTo>
                    <a:lnTo>
                      <a:pt x="35" y="151"/>
                    </a:lnTo>
                    <a:lnTo>
                      <a:pt x="32" y="154"/>
                    </a:lnTo>
                    <a:lnTo>
                      <a:pt x="0" y="162"/>
                    </a:lnTo>
                    <a:lnTo>
                      <a:pt x="1" y="160"/>
                    </a:lnTo>
                    <a:lnTo>
                      <a:pt x="6" y="154"/>
                    </a:lnTo>
                    <a:lnTo>
                      <a:pt x="13" y="144"/>
                    </a:lnTo>
                    <a:lnTo>
                      <a:pt x="21" y="133"/>
                    </a:lnTo>
                    <a:lnTo>
                      <a:pt x="30" y="120"/>
                    </a:lnTo>
                    <a:lnTo>
                      <a:pt x="40" y="106"/>
                    </a:lnTo>
                    <a:lnTo>
                      <a:pt x="49" y="91"/>
                    </a:lnTo>
                    <a:lnTo>
                      <a:pt x="57" y="79"/>
                    </a:lnTo>
                    <a:close/>
                  </a:path>
                </a:pathLst>
              </a:custGeom>
              <a:solidFill>
                <a:srgbClr val="b886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165720" y="3097440"/>
                <a:ext cx="60480" cy="48960"/>
              </a:xfrm>
              <a:custGeom>
                <a:avLst/>
                <a:gdLst/>
                <a:ahLst/>
                <a:rect l="l" t="t" r="r" b="b"/>
                <a:pathLst>
                  <a:path w="187" h="155">
                    <a:moveTo>
                      <a:pt x="22" y="149"/>
                    </a:moveTo>
                    <a:lnTo>
                      <a:pt x="25" y="146"/>
                    </a:lnTo>
                    <a:lnTo>
                      <a:pt x="31" y="136"/>
                    </a:lnTo>
                    <a:lnTo>
                      <a:pt x="42" y="122"/>
                    </a:lnTo>
                    <a:lnTo>
                      <a:pt x="54" y="107"/>
                    </a:lnTo>
                    <a:lnTo>
                      <a:pt x="66" y="91"/>
                    </a:lnTo>
                    <a:lnTo>
                      <a:pt x="78" y="76"/>
                    </a:lnTo>
                    <a:lnTo>
                      <a:pt x="87" y="64"/>
                    </a:lnTo>
                    <a:lnTo>
                      <a:pt x="94" y="58"/>
                    </a:lnTo>
                    <a:lnTo>
                      <a:pt x="100" y="55"/>
                    </a:lnTo>
                    <a:lnTo>
                      <a:pt x="107" y="51"/>
                    </a:lnTo>
                    <a:lnTo>
                      <a:pt x="114" y="45"/>
                    </a:lnTo>
                    <a:lnTo>
                      <a:pt x="124" y="40"/>
                    </a:lnTo>
                    <a:lnTo>
                      <a:pt x="134" y="34"/>
                    </a:lnTo>
                    <a:lnTo>
                      <a:pt x="144" y="27"/>
                    </a:lnTo>
                    <a:lnTo>
                      <a:pt x="157" y="20"/>
                    </a:lnTo>
                    <a:lnTo>
                      <a:pt x="170" y="11"/>
                    </a:lnTo>
                    <a:lnTo>
                      <a:pt x="180" y="4"/>
                    </a:lnTo>
                    <a:lnTo>
                      <a:pt x="186" y="1"/>
                    </a:lnTo>
                    <a:lnTo>
                      <a:pt x="187" y="0"/>
                    </a:lnTo>
                    <a:lnTo>
                      <a:pt x="187" y="0"/>
                    </a:lnTo>
                    <a:lnTo>
                      <a:pt x="186" y="0"/>
                    </a:lnTo>
                    <a:lnTo>
                      <a:pt x="184" y="0"/>
                    </a:lnTo>
                    <a:lnTo>
                      <a:pt x="181" y="2"/>
                    </a:lnTo>
                    <a:lnTo>
                      <a:pt x="177" y="4"/>
                    </a:lnTo>
                    <a:lnTo>
                      <a:pt x="175" y="5"/>
                    </a:lnTo>
                    <a:lnTo>
                      <a:pt x="173" y="7"/>
                    </a:lnTo>
                    <a:lnTo>
                      <a:pt x="173" y="5"/>
                    </a:lnTo>
                    <a:lnTo>
                      <a:pt x="173" y="5"/>
                    </a:lnTo>
                    <a:lnTo>
                      <a:pt x="171" y="5"/>
                    </a:lnTo>
                    <a:lnTo>
                      <a:pt x="167" y="5"/>
                    </a:lnTo>
                    <a:lnTo>
                      <a:pt x="161" y="9"/>
                    </a:lnTo>
                    <a:lnTo>
                      <a:pt x="151" y="13"/>
                    </a:lnTo>
                    <a:lnTo>
                      <a:pt x="136" y="22"/>
                    </a:lnTo>
                    <a:lnTo>
                      <a:pt x="116" y="34"/>
                    </a:lnTo>
                    <a:lnTo>
                      <a:pt x="107" y="39"/>
                    </a:lnTo>
                    <a:lnTo>
                      <a:pt x="98" y="44"/>
                    </a:lnTo>
                    <a:lnTo>
                      <a:pt x="90" y="49"/>
                    </a:lnTo>
                    <a:lnTo>
                      <a:pt x="84" y="53"/>
                    </a:lnTo>
                    <a:lnTo>
                      <a:pt x="78" y="57"/>
                    </a:lnTo>
                    <a:lnTo>
                      <a:pt x="70" y="64"/>
                    </a:lnTo>
                    <a:lnTo>
                      <a:pt x="63" y="72"/>
                    </a:lnTo>
                    <a:lnTo>
                      <a:pt x="57" y="83"/>
                    </a:lnTo>
                    <a:lnTo>
                      <a:pt x="48" y="96"/>
                    </a:lnTo>
                    <a:lnTo>
                      <a:pt x="40" y="109"/>
                    </a:lnTo>
                    <a:lnTo>
                      <a:pt x="30" y="121"/>
                    </a:lnTo>
                    <a:lnTo>
                      <a:pt x="21" y="132"/>
                    </a:lnTo>
                    <a:lnTo>
                      <a:pt x="13" y="140"/>
                    </a:lnTo>
                    <a:lnTo>
                      <a:pt x="6" y="148"/>
                    </a:lnTo>
                    <a:lnTo>
                      <a:pt x="2" y="153"/>
                    </a:lnTo>
                    <a:lnTo>
                      <a:pt x="0" y="155"/>
                    </a:lnTo>
                    <a:lnTo>
                      <a:pt x="22" y="149"/>
                    </a:lnTo>
                    <a:close/>
                  </a:path>
                </a:pathLst>
              </a:custGeom>
              <a:solidFill>
                <a:srgbClr val="b180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6202440" y="3122640"/>
                <a:ext cx="91800" cy="27000"/>
              </a:xfrm>
              <a:custGeom>
                <a:avLst/>
                <a:gdLst/>
                <a:ahLst/>
                <a:rect l="l" t="t" r="r" b="b"/>
                <a:pathLst>
                  <a:path w="287" h="85">
                    <a:moveTo>
                      <a:pt x="146" y="2"/>
                    </a:moveTo>
                    <a:lnTo>
                      <a:pt x="153" y="1"/>
                    </a:lnTo>
                    <a:lnTo>
                      <a:pt x="160" y="0"/>
                    </a:lnTo>
                    <a:lnTo>
                      <a:pt x="168" y="0"/>
                    </a:lnTo>
                    <a:lnTo>
                      <a:pt x="174" y="1"/>
                    </a:lnTo>
                    <a:lnTo>
                      <a:pt x="188" y="3"/>
                    </a:lnTo>
                    <a:lnTo>
                      <a:pt x="201" y="8"/>
                    </a:lnTo>
                    <a:lnTo>
                      <a:pt x="215" y="11"/>
                    </a:lnTo>
                    <a:lnTo>
                      <a:pt x="228" y="15"/>
                    </a:lnTo>
                    <a:lnTo>
                      <a:pt x="242" y="20"/>
                    </a:lnTo>
                    <a:lnTo>
                      <a:pt x="258" y="22"/>
                    </a:lnTo>
                    <a:lnTo>
                      <a:pt x="264" y="23"/>
                    </a:lnTo>
                    <a:lnTo>
                      <a:pt x="270" y="25"/>
                    </a:lnTo>
                    <a:lnTo>
                      <a:pt x="275" y="27"/>
                    </a:lnTo>
                    <a:lnTo>
                      <a:pt x="280" y="29"/>
                    </a:lnTo>
                    <a:lnTo>
                      <a:pt x="283" y="31"/>
                    </a:lnTo>
                    <a:lnTo>
                      <a:pt x="286" y="35"/>
                    </a:lnTo>
                    <a:lnTo>
                      <a:pt x="287" y="38"/>
                    </a:lnTo>
                    <a:lnTo>
                      <a:pt x="286" y="41"/>
                    </a:lnTo>
                    <a:lnTo>
                      <a:pt x="283" y="44"/>
                    </a:lnTo>
                    <a:lnTo>
                      <a:pt x="280" y="48"/>
                    </a:lnTo>
                    <a:lnTo>
                      <a:pt x="275" y="51"/>
                    </a:lnTo>
                    <a:lnTo>
                      <a:pt x="266" y="55"/>
                    </a:lnTo>
                    <a:lnTo>
                      <a:pt x="256" y="58"/>
                    </a:lnTo>
                    <a:lnTo>
                      <a:pt x="245" y="61"/>
                    </a:lnTo>
                    <a:lnTo>
                      <a:pt x="229" y="64"/>
                    </a:lnTo>
                    <a:lnTo>
                      <a:pt x="212" y="66"/>
                    </a:lnTo>
                    <a:lnTo>
                      <a:pt x="174" y="70"/>
                    </a:lnTo>
                    <a:lnTo>
                      <a:pt x="137" y="74"/>
                    </a:lnTo>
                    <a:lnTo>
                      <a:pt x="101" y="77"/>
                    </a:lnTo>
                    <a:lnTo>
                      <a:pt x="68" y="80"/>
                    </a:lnTo>
                    <a:lnTo>
                      <a:pt x="40" y="82"/>
                    </a:lnTo>
                    <a:lnTo>
                      <a:pt x="19" y="84"/>
                    </a:lnTo>
                    <a:lnTo>
                      <a:pt x="5" y="85"/>
                    </a:lnTo>
                    <a:lnTo>
                      <a:pt x="0" y="85"/>
                    </a:lnTo>
                    <a:lnTo>
                      <a:pt x="5" y="64"/>
                    </a:lnTo>
                    <a:lnTo>
                      <a:pt x="8" y="62"/>
                    </a:lnTo>
                    <a:lnTo>
                      <a:pt x="18" y="56"/>
                    </a:lnTo>
                    <a:lnTo>
                      <a:pt x="33" y="48"/>
                    </a:lnTo>
                    <a:lnTo>
                      <a:pt x="51" y="38"/>
                    </a:lnTo>
                    <a:lnTo>
                      <a:pt x="73" y="27"/>
                    </a:lnTo>
                    <a:lnTo>
                      <a:pt x="97" y="16"/>
                    </a:lnTo>
                    <a:lnTo>
                      <a:pt x="110" y="12"/>
                    </a:lnTo>
                    <a:lnTo>
                      <a:pt x="121" y="8"/>
                    </a:lnTo>
                    <a:lnTo>
                      <a:pt x="133" y="4"/>
                    </a:lnTo>
                    <a:lnTo>
                      <a:pt x="146" y="2"/>
                    </a:lnTo>
                    <a:close/>
                  </a:path>
                </a:pathLst>
              </a:custGeom>
              <a:solidFill>
                <a:srgbClr val="c18e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6202440" y="3125880"/>
                <a:ext cx="90360" cy="23760"/>
              </a:xfrm>
              <a:custGeom>
                <a:avLst/>
                <a:gdLst/>
                <a:ahLst/>
                <a:rect l="l" t="t" r="r" b="b"/>
                <a:pathLst>
                  <a:path w="283" h="77">
                    <a:moveTo>
                      <a:pt x="146" y="2"/>
                    </a:moveTo>
                    <a:lnTo>
                      <a:pt x="160" y="0"/>
                    </a:lnTo>
                    <a:lnTo>
                      <a:pt x="174" y="1"/>
                    </a:lnTo>
                    <a:lnTo>
                      <a:pt x="187" y="2"/>
                    </a:lnTo>
                    <a:lnTo>
                      <a:pt x="199" y="5"/>
                    </a:lnTo>
                    <a:lnTo>
                      <a:pt x="211" y="9"/>
                    </a:lnTo>
                    <a:lnTo>
                      <a:pt x="223" y="13"/>
                    </a:lnTo>
                    <a:lnTo>
                      <a:pt x="236" y="16"/>
                    </a:lnTo>
                    <a:lnTo>
                      <a:pt x="250" y="19"/>
                    </a:lnTo>
                    <a:lnTo>
                      <a:pt x="264" y="21"/>
                    </a:lnTo>
                    <a:lnTo>
                      <a:pt x="275" y="26"/>
                    </a:lnTo>
                    <a:lnTo>
                      <a:pt x="279" y="28"/>
                    </a:lnTo>
                    <a:lnTo>
                      <a:pt x="281" y="30"/>
                    </a:lnTo>
                    <a:lnTo>
                      <a:pt x="283" y="33"/>
                    </a:lnTo>
                    <a:lnTo>
                      <a:pt x="283" y="35"/>
                    </a:lnTo>
                    <a:lnTo>
                      <a:pt x="281" y="39"/>
                    </a:lnTo>
                    <a:lnTo>
                      <a:pt x="278" y="42"/>
                    </a:lnTo>
                    <a:lnTo>
                      <a:pt x="273" y="45"/>
                    </a:lnTo>
                    <a:lnTo>
                      <a:pt x="266" y="47"/>
                    </a:lnTo>
                    <a:lnTo>
                      <a:pt x="256" y="50"/>
                    </a:lnTo>
                    <a:lnTo>
                      <a:pt x="245" y="54"/>
                    </a:lnTo>
                    <a:lnTo>
                      <a:pt x="229" y="56"/>
                    </a:lnTo>
                    <a:lnTo>
                      <a:pt x="212" y="58"/>
                    </a:lnTo>
                    <a:lnTo>
                      <a:pt x="174" y="62"/>
                    </a:lnTo>
                    <a:lnTo>
                      <a:pt x="137" y="66"/>
                    </a:lnTo>
                    <a:lnTo>
                      <a:pt x="101" y="69"/>
                    </a:lnTo>
                    <a:lnTo>
                      <a:pt x="68" y="72"/>
                    </a:lnTo>
                    <a:lnTo>
                      <a:pt x="40" y="74"/>
                    </a:lnTo>
                    <a:lnTo>
                      <a:pt x="19" y="76"/>
                    </a:lnTo>
                    <a:lnTo>
                      <a:pt x="5" y="77"/>
                    </a:lnTo>
                    <a:lnTo>
                      <a:pt x="0" y="77"/>
                    </a:lnTo>
                    <a:lnTo>
                      <a:pt x="14" y="58"/>
                    </a:lnTo>
                    <a:lnTo>
                      <a:pt x="18" y="56"/>
                    </a:lnTo>
                    <a:lnTo>
                      <a:pt x="26" y="51"/>
                    </a:lnTo>
                    <a:lnTo>
                      <a:pt x="40" y="44"/>
                    </a:lnTo>
                    <a:lnTo>
                      <a:pt x="58" y="35"/>
                    </a:lnTo>
                    <a:lnTo>
                      <a:pt x="77" y="26"/>
                    </a:lnTo>
                    <a:lnTo>
                      <a:pt x="100" y="17"/>
                    </a:lnTo>
                    <a:lnTo>
                      <a:pt x="122" y="8"/>
                    </a:lnTo>
                    <a:lnTo>
                      <a:pt x="146" y="2"/>
                    </a:lnTo>
                    <a:close/>
                  </a:path>
                </a:pathLst>
              </a:custGeom>
              <a:solidFill>
                <a:srgbClr val="ba87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6202440" y="3127320"/>
                <a:ext cx="88920" cy="22320"/>
              </a:xfrm>
              <a:custGeom>
                <a:avLst/>
                <a:gdLst/>
                <a:ahLst/>
                <a:rect l="l" t="t" r="r" b="b"/>
                <a:pathLst>
                  <a:path w="279" h="69">
                    <a:moveTo>
                      <a:pt x="27" y="50"/>
                    </a:moveTo>
                    <a:lnTo>
                      <a:pt x="30" y="49"/>
                    </a:lnTo>
                    <a:lnTo>
                      <a:pt x="37" y="45"/>
                    </a:lnTo>
                    <a:lnTo>
                      <a:pt x="49" y="38"/>
                    </a:lnTo>
                    <a:lnTo>
                      <a:pt x="64" y="32"/>
                    </a:lnTo>
                    <a:lnTo>
                      <a:pt x="81" y="23"/>
                    </a:lnTo>
                    <a:lnTo>
                      <a:pt x="102" y="15"/>
                    </a:lnTo>
                    <a:lnTo>
                      <a:pt x="125" y="9"/>
                    </a:lnTo>
                    <a:lnTo>
                      <a:pt x="148" y="4"/>
                    </a:lnTo>
                    <a:lnTo>
                      <a:pt x="162" y="0"/>
                    </a:lnTo>
                    <a:lnTo>
                      <a:pt x="175" y="0"/>
                    </a:lnTo>
                    <a:lnTo>
                      <a:pt x="187" y="1"/>
                    </a:lnTo>
                    <a:lnTo>
                      <a:pt x="197" y="4"/>
                    </a:lnTo>
                    <a:lnTo>
                      <a:pt x="208" y="7"/>
                    </a:lnTo>
                    <a:lnTo>
                      <a:pt x="218" y="10"/>
                    </a:lnTo>
                    <a:lnTo>
                      <a:pt x="229" y="13"/>
                    </a:lnTo>
                    <a:lnTo>
                      <a:pt x="242" y="15"/>
                    </a:lnTo>
                    <a:lnTo>
                      <a:pt x="256" y="19"/>
                    </a:lnTo>
                    <a:lnTo>
                      <a:pt x="268" y="22"/>
                    </a:lnTo>
                    <a:lnTo>
                      <a:pt x="273" y="24"/>
                    </a:lnTo>
                    <a:lnTo>
                      <a:pt x="276" y="26"/>
                    </a:lnTo>
                    <a:lnTo>
                      <a:pt x="279" y="28"/>
                    </a:lnTo>
                    <a:lnTo>
                      <a:pt x="279" y="31"/>
                    </a:lnTo>
                    <a:lnTo>
                      <a:pt x="279" y="34"/>
                    </a:lnTo>
                    <a:lnTo>
                      <a:pt x="276" y="36"/>
                    </a:lnTo>
                    <a:lnTo>
                      <a:pt x="272" y="38"/>
                    </a:lnTo>
                    <a:lnTo>
                      <a:pt x="265" y="40"/>
                    </a:lnTo>
                    <a:lnTo>
                      <a:pt x="243" y="46"/>
                    </a:lnTo>
                    <a:lnTo>
                      <a:pt x="212" y="50"/>
                    </a:lnTo>
                    <a:lnTo>
                      <a:pt x="174" y="54"/>
                    </a:lnTo>
                    <a:lnTo>
                      <a:pt x="137" y="58"/>
                    </a:lnTo>
                    <a:lnTo>
                      <a:pt x="101" y="61"/>
                    </a:lnTo>
                    <a:lnTo>
                      <a:pt x="68" y="64"/>
                    </a:lnTo>
                    <a:lnTo>
                      <a:pt x="40" y="66"/>
                    </a:lnTo>
                    <a:lnTo>
                      <a:pt x="19" y="68"/>
                    </a:lnTo>
                    <a:lnTo>
                      <a:pt x="5" y="69"/>
                    </a:lnTo>
                    <a:lnTo>
                      <a:pt x="0" y="69"/>
                    </a:lnTo>
                    <a:lnTo>
                      <a:pt x="27" y="50"/>
                    </a:lnTo>
                    <a:close/>
                  </a:path>
                </a:pathLst>
              </a:custGeom>
              <a:solidFill>
                <a:srgbClr val="b180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5951520" y="3141720"/>
                <a:ext cx="179280" cy="122400"/>
              </a:xfrm>
              <a:custGeom>
                <a:avLst/>
                <a:gdLst/>
                <a:ahLst/>
                <a:rect l="l" t="t" r="r" b="b"/>
                <a:pathLst>
                  <a:path w="565" h="386">
                    <a:moveTo>
                      <a:pt x="455" y="35"/>
                    </a:moveTo>
                    <a:lnTo>
                      <a:pt x="453" y="40"/>
                    </a:lnTo>
                    <a:lnTo>
                      <a:pt x="452" y="45"/>
                    </a:lnTo>
                    <a:lnTo>
                      <a:pt x="452" y="49"/>
                    </a:lnTo>
                    <a:lnTo>
                      <a:pt x="454" y="52"/>
                    </a:lnTo>
                    <a:lnTo>
                      <a:pt x="457" y="57"/>
                    </a:lnTo>
                    <a:lnTo>
                      <a:pt x="462" y="59"/>
                    </a:lnTo>
                    <a:lnTo>
                      <a:pt x="467" y="62"/>
                    </a:lnTo>
                    <a:lnTo>
                      <a:pt x="474" y="64"/>
                    </a:lnTo>
                    <a:lnTo>
                      <a:pt x="491" y="68"/>
                    </a:lnTo>
                    <a:lnTo>
                      <a:pt x="511" y="72"/>
                    </a:lnTo>
                    <a:lnTo>
                      <a:pt x="536" y="74"/>
                    </a:lnTo>
                    <a:lnTo>
                      <a:pt x="564" y="75"/>
                    </a:lnTo>
                    <a:lnTo>
                      <a:pt x="565" y="75"/>
                    </a:lnTo>
                    <a:lnTo>
                      <a:pt x="565" y="77"/>
                    </a:lnTo>
                    <a:lnTo>
                      <a:pt x="564" y="78"/>
                    </a:lnTo>
                    <a:lnTo>
                      <a:pt x="561" y="81"/>
                    </a:lnTo>
                    <a:lnTo>
                      <a:pt x="554" y="88"/>
                    </a:lnTo>
                    <a:lnTo>
                      <a:pt x="544" y="94"/>
                    </a:lnTo>
                    <a:lnTo>
                      <a:pt x="534" y="102"/>
                    </a:lnTo>
                    <a:lnTo>
                      <a:pt x="524" y="108"/>
                    </a:lnTo>
                    <a:lnTo>
                      <a:pt x="517" y="113"/>
                    </a:lnTo>
                    <a:lnTo>
                      <a:pt x="515" y="115"/>
                    </a:lnTo>
                    <a:lnTo>
                      <a:pt x="58" y="386"/>
                    </a:lnTo>
                    <a:lnTo>
                      <a:pt x="0" y="344"/>
                    </a:lnTo>
                    <a:lnTo>
                      <a:pt x="0" y="337"/>
                    </a:lnTo>
                    <a:lnTo>
                      <a:pt x="1" y="318"/>
                    </a:lnTo>
                    <a:lnTo>
                      <a:pt x="3" y="290"/>
                    </a:lnTo>
                    <a:lnTo>
                      <a:pt x="6" y="256"/>
                    </a:lnTo>
                    <a:lnTo>
                      <a:pt x="8" y="238"/>
                    </a:lnTo>
                    <a:lnTo>
                      <a:pt x="11" y="220"/>
                    </a:lnTo>
                    <a:lnTo>
                      <a:pt x="14" y="202"/>
                    </a:lnTo>
                    <a:lnTo>
                      <a:pt x="19" y="185"/>
                    </a:lnTo>
                    <a:lnTo>
                      <a:pt x="24" y="169"/>
                    </a:lnTo>
                    <a:lnTo>
                      <a:pt x="31" y="154"/>
                    </a:lnTo>
                    <a:lnTo>
                      <a:pt x="37" y="140"/>
                    </a:lnTo>
                    <a:lnTo>
                      <a:pt x="45" y="129"/>
                    </a:lnTo>
                    <a:lnTo>
                      <a:pt x="58" y="116"/>
                    </a:lnTo>
                    <a:lnTo>
                      <a:pt x="73" y="103"/>
                    </a:lnTo>
                    <a:lnTo>
                      <a:pt x="88" y="91"/>
                    </a:lnTo>
                    <a:lnTo>
                      <a:pt x="105" y="79"/>
                    </a:lnTo>
                    <a:lnTo>
                      <a:pt x="122" y="70"/>
                    </a:lnTo>
                    <a:lnTo>
                      <a:pt x="140" y="60"/>
                    </a:lnTo>
                    <a:lnTo>
                      <a:pt x="158" y="51"/>
                    </a:lnTo>
                    <a:lnTo>
                      <a:pt x="175" y="43"/>
                    </a:lnTo>
                    <a:lnTo>
                      <a:pt x="173" y="45"/>
                    </a:lnTo>
                    <a:lnTo>
                      <a:pt x="167" y="51"/>
                    </a:lnTo>
                    <a:lnTo>
                      <a:pt x="159" y="60"/>
                    </a:lnTo>
                    <a:lnTo>
                      <a:pt x="154" y="70"/>
                    </a:lnTo>
                    <a:lnTo>
                      <a:pt x="152" y="75"/>
                    </a:lnTo>
                    <a:lnTo>
                      <a:pt x="152" y="79"/>
                    </a:lnTo>
                    <a:lnTo>
                      <a:pt x="154" y="84"/>
                    </a:lnTo>
                    <a:lnTo>
                      <a:pt x="158" y="87"/>
                    </a:lnTo>
                    <a:lnTo>
                      <a:pt x="165" y="89"/>
                    </a:lnTo>
                    <a:lnTo>
                      <a:pt x="174" y="90"/>
                    </a:lnTo>
                    <a:lnTo>
                      <a:pt x="187" y="91"/>
                    </a:lnTo>
                    <a:lnTo>
                      <a:pt x="203" y="90"/>
                    </a:lnTo>
                    <a:lnTo>
                      <a:pt x="221" y="87"/>
                    </a:lnTo>
                    <a:lnTo>
                      <a:pt x="236" y="82"/>
                    </a:lnTo>
                    <a:lnTo>
                      <a:pt x="251" y="77"/>
                    </a:lnTo>
                    <a:lnTo>
                      <a:pt x="264" y="70"/>
                    </a:lnTo>
                    <a:lnTo>
                      <a:pt x="276" y="62"/>
                    </a:lnTo>
                    <a:lnTo>
                      <a:pt x="286" y="54"/>
                    </a:lnTo>
                    <a:lnTo>
                      <a:pt x="295" y="46"/>
                    </a:lnTo>
                    <a:lnTo>
                      <a:pt x="303" y="37"/>
                    </a:lnTo>
                    <a:lnTo>
                      <a:pt x="315" y="21"/>
                    </a:lnTo>
                    <a:lnTo>
                      <a:pt x="323" y="8"/>
                    </a:lnTo>
                    <a:lnTo>
                      <a:pt x="327" y="0"/>
                    </a:lnTo>
                    <a:lnTo>
                      <a:pt x="327" y="0"/>
                    </a:lnTo>
                    <a:lnTo>
                      <a:pt x="323" y="13"/>
                    </a:lnTo>
                    <a:lnTo>
                      <a:pt x="321" y="27"/>
                    </a:lnTo>
                    <a:lnTo>
                      <a:pt x="321" y="35"/>
                    </a:lnTo>
                    <a:lnTo>
                      <a:pt x="321" y="41"/>
                    </a:lnTo>
                    <a:lnTo>
                      <a:pt x="322" y="48"/>
                    </a:lnTo>
                    <a:lnTo>
                      <a:pt x="323" y="53"/>
                    </a:lnTo>
                    <a:lnTo>
                      <a:pt x="326" y="59"/>
                    </a:lnTo>
                    <a:lnTo>
                      <a:pt x="328" y="63"/>
                    </a:lnTo>
                    <a:lnTo>
                      <a:pt x="331" y="66"/>
                    </a:lnTo>
                    <a:lnTo>
                      <a:pt x="335" y="67"/>
                    </a:lnTo>
                    <a:lnTo>
                      <a:pt x="341" y="68"/>
                    </a:lnTo>
                    <a:lnTo>
                      <a:pt x="346" y="67"/>
                    </a:lnTo>
                    <a:lnTo>
                      <a:pt x="351" y="64"/>
                    </a:lnTo>
                    <a:lnTo>
                      <a:pt x="359" y="60"/>
                    </a:lnTo>
                    <a:lnTo>
                      <a:pt x="368" y="53"/>
                    </a:lnTo>
                    <a:lnTo>
                      <a:pt x="377" y="47"/>
                    </a:lnTo>
                    <a:lnTo>
                      <a:pt x="387" y="41"/>
                    </a:lnTo>
                    <a:lnTo>
                      <a:pt x="396" y="36"/>
                    </a:lnTo>
                    <a:lnTo>
                      <a:pt x="406" y="33"/>
                    </a:lnTo>
                    <a:lnTo>
                      <a:pt x="414" y="28"/>
                    </a:lnTo>
                    <a:lnTo>
                      <a:pt x="423" y="26"/>
                    </a:lnTo>
                    <a:lnTo>
                      <a:pt x="431" y="24"/>
                    </a:lnTo>
                    <a:lnTo>
                      <a:pt x="438" y="23"/>
                    </a:lnTo>
                    <a:lnTo>
                      <a:pt x="444" y="23"/>
                    </a:lnTo>
                    <a:lnTo>
                      <a:pt x="450" y="23"/>
                    </a:lnTo>
                    <a:lnTo>
                      <a:pt x="454" y="24"/>
                    </a:lnTo>
                    <a:lnTo>
                      <a:pt x="457" y="26"/>
                    </a:lnTo>
                    <a:lnTo>
                      <a:pt x="458" y="28"/>
                    </a:lnTo>
                    <a:lnTo>
                      <a:pt x="457" y="32"/>
                    </a:lnTo>
                    <a:lnTo>
                      <a:pt x="455" y="35"/>
                    </a:lnTo>
                    <a:close/>
                  </a:path>
                </a:pathLst>
              </a:custGeom>
              <a:solidFill>
                <a:srgbClr val="e7a9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5952960" y="3146400"/>
                <a:ext cx="174600" cy="114480"/>
              </a:xfrm>
              <a:custGeom>
                <a:avLst/>
                <a:gdLst/>
                <a:ahLst/>
                <a:rect l="l" t="t" r="r" b="b"/>
                <a:pathLst>
                  <a:path w="553" h="360">
                    <a:moveTo>
                      <a:pt x="312" y="0"/>
                    </a:moveTo>
                    <a:lnTo>
                      <a:pt x="310" y="12"/>
                    </a:lnTo>
                    <a:lnTo>
                      <a:pt x="310" y="25"/>
                    </a:lnTo>
                    <a:lnTo>
                      <a:pt x="311" y="31"/>
                    </a:lnTo>
                    <a:lnTo>
                      <a:pt x="312" y="36"/>
                    </a:lnTo>
                    <a:lnTo>
                      <a:pt x="313" y="42"/>
                    </a:lnTo>
                    <a:lnTo>
                      <a:pt x="316" y="47"/>
                    </a:lnTo>
                    <a:lnTo>
                      <a:pt x="318" y="52"/>
                    </a:lnTo>
                    <a:lnTo>
                      <a:pt x="323" y="56"/>
                    </a:lnTo>
                    <a:lnTo>
                      <a:pt x="327" y="58"/>
                    </a:lnTo>
                    <a:lnTo>
                      <a:pt x="331" y="59"/>
                    </a:lnTo>
                    <a:lnTo>
                      <a:pt x="338" y="60"/>
                    </a:lnTo>
                    <a:lnTo>
                      <a:pt x="343" y="59"/>
                    </a:lnTo>
                    <a:lnTo>
                      <a:pt x="351" y="56"/>
                    </a:lnTo>
                    <a:lnTo>
                      <a:pt x="358" y="52"/>
                    </a:lnTo>
                    <a:lnTo>
                      <a:pt x="367" y="46"/>
                    </a:lnTo>
                    <a:lnTo>
                      <a:pt x="376" y="41"/>
                    </a:lnTo>
                    <a:lnTo>
                      <a:pt x="383" y="36"/>
                    </a:lnTo>
                    <a:lnTo>
                      <a:pt x="392" y="32"/>
                    </a:lnTo>
                    <a:lnTo>
                      <a:pt x="408" y="27"/>
                    </a:lnTo>
                    <a:lnTo>
                      <a:pt x="423" y="22"/>
                    </a:lnTo>
                    <a:lnTo>
                      <a:pt x="430" y="21"/>
                    </a:lnTo>
                    <a:lnTo>
                      <a:pt x="435" y="21"/>
                    </a:lnTo>
                    <a:lnTo>
                      <a:pt x="440" y="21"/>
                    </a:lnTo>
                    <a:lnTo>
                      <a:pt x="444" y="22"/>
                    </a:lnTo>
                    <a:lnTo>
                      <a:pt x="447" y="23"/>
                    </a:lnTo>
                    <a:lnTo>
                      <a:pt x="448" y="26"/>
                    </a:lnTo>
                    <a:lnTo>
                      <a:pt x="449" y="29"/>
                    </a:lnTo>
                    <a:lnTo>
                      <a:pt x="448" y="32"/>
                    </a:lnTo>
                    <a:lnTo>
                      <a:pt x="447" y="36"/>
                    </a:lnTo>
                    <a:lnTo>
                      <a:pt x="447" y="40"/>
                    </a:lnTo>
                    <a:lnTo>
                      <a:pt x="448" y="43"/>
                    </a:lnTo>
                    <a:lnTo>
                      <a:pt x="450" y="46"/>
                    </a:lnTo>
                    <a:lnTo>
                      <a:pt x="455" y="48"/>
                    </a:lnTo>
                    <a:lnTo>
                      <a:pt x="459" y="50"/>
                    </a:lnTo>
                    <a:lnTo>
                      <a:pt x="464" y="53"/>
                    </a:lnTo>
                    <a:lnTo>
                      <a:pt x="471" y="55"/>
                    </a:lnTo>
                    <a:lnTo>
                      <a:pt x="487" y="57"/>
                    </a:lnTo>
                    <a:lnTo>
                      <a:pt x="506" y="59"/>
                    </a:lnTo>
                    <a:lnTo>
                      <a:pt x="528" y="61"/>
                    </a:lnTo>
                    <a:lnTo>
                      <a:pt x="552" y="62"/>
                    </a:lnTo>
                    <a:lnTo>
                      <a:pt x="553" y="62"/>
                    </a:lnTo>
                    <a:lnTo>
                      <a:pt x="551" y="64"/>
                    </a:lnTo>
                    <a:lnTo>
                      <a:pt x="545" y="69"/>
                    </a:lnTo>
                    <a:lnTo>
                      <a:pt x="539" y="73"/>
                    </a:lnTo>
                    <a:lnTo>
                      <a:pt x="519" y="85"/>
                    </a:lnTo>
                    <a:lnTo>
                      <a:pt x="497" y="98"/>
                    </a:lnTo>
                    <a:lnTo>
                      <a:pt x="474" y="111"/>
                    </a:lnTo>
                    <a:lnTo>
                      <a:pt x="453" y="123"/>
                    </a:lnTo>
                    <a:lnTo>
                      <a:pt x="438" y="130"/>
                    </a:lnTo>
                    <a:lnTo>
                      <a:pt x="433" y="134"/>
                    </a:lnTo>
                    <a:lnTo>
                      <a:pt x="45" y="360"/>
                    </a:lnTo>
                    <a:lnTo>
                      <a:pt x="43" y="358"/>
                    </a:lnTo>
                    <a:lnTo>
                      <a:pt x="38" y="352"/>
                    </a:lnTo>
                    <a:lnTo>
                      <a:pt x="30" y="342"/>
                    </a:lnTo>
                    <a:lnTo>
                      <a:pt x="20" y="331"/>
                    </a:lnTo>
                    <a:lnTo>
                      <a:pt x="13" y="319"/>
                    </a:lnTo>
                    <a:lnTo>
                      <a:pt x="5" y="309"/>
                    </a:lnTo>
                    <a:lnTo>
                      <a:pt x="3" y="304"/>
                    </a:lnTo>
                    <a:lnTo>
                      <a:pt x="1" y="300"/>
                    </a:lnTo>
                    <a:lnTo>
                      <a:pt x="0" y="297"/>
                    </a:lnTo>
                    <a:lnTo>
                      <a:pt x="1" y="295"/>
                    </a:lnTo>
                    <a:lnTo>
                      <a:pt x="2" y="287"/>
                    </a:lnTo>
                    <a:lnTo>
                      <a:pt x="3" y="269"/>
                    </a:lnTo>
                    <a:lnTo>
                      <a:pt x="6" y="245"/>
                    </a:lnTo>
                    <a:lnTo>
                      <a:pt x="9" y="215"/>
                    </a:lnTo>
                    <a:lnTo>
                      <a:pt x="13" y="199"/>
                    </a:lnTo>
                    <a:lnTo>
                      <a:pt x="16" y="184"/>
                    </a:lnTo>
                    <a:lnTo>
                      <a:pt x="19" y="168"/>
                    </a:lnTo>
                    <a:lnTo>
                      <a:pt x="23" y="154"/>
                    </a:lnTo>
                    <a:lnTo>
                      <a:pt x="29" y="140"/>
                    </a:lnTo>
                    <a:lnTo>
                      <a:pt x="34" y="127"/>
                    </a:lnTo>
                    <a:lnTo>
                      <a:pt x="41" y="115"/>
                    </a:lnTo>
                    <a:lnTo>
                      <a:pt x="47" y="107"/>
                    </a:lnTo>
                    <a:lnTo>
                      <a:pt x="59" y="95"/>
                    </a:lnTo>
                    <a:lnTo>
                      <a:pt x="73" y="83"/>
                    </a:lnTo>
                    <a:lnTo>
                      <a:pt x="88" y="71"/>
                    </a:lnTo>
                    <a:lnTo>
                      <a:pt x="103" y="60"/>
                    </a:lnTo>
                    <a:lnTo>
                      <a:pt x="120" y="50"/>
                    </a:lnTo>
                    <a:lnTo>
                      <a:pt x="136" y="42"/>
                    </a:lnTo>
                    <a:lnTo>
                      <a:pt x="151" y="33"/>
                    </a:lnTo>
                    <a:lnTo>
                      <a:pt x="166" y="28"/>
                    </a:lnTo>
                    <a:lnTo>
                      <a:pt x="162" y="31"/>
                    </a:lnTo>
                    <a:lnTo>
                      <a:pt x="155" y="39"/>
                    </a:lnTo>
                    <a:lnTo>
                      <a:pt x="147" y="47"/>
                    </a:lnTo>
                    <a:lnTo>
                      <a:pt x="141" y="57"/>
                    </a:lnTo>
                    <a:lnTo>
                      <a:pt x="140" y="61"/>
                    </a:lnTo>
                    <a:lnTo>
                      <a:pt x="139" y="66"/>
                    </a:lnTo>
                    <a:lnTo>
                      <a:pt x="141" y="70"/>
                    </a:lnTo>
                    <a:lnTo>
                      <a:pt x="144" y="73"/>
                    </a:lnTo>
                    <a:lnTo>
                      <a:pt x="150" y="75"/>
                    </a:lnTo>
                    <a:lnTo>
                      <a:pt x="159" y="76"/>
                    </a:lnTo>
                    <a:lnTo>
                      <a:pt x="169" y="77"/>
                    </a:lnTo>
                    <a:lnTo>
                      <a:pt x="183" y="76"/>
                    </a:lnTo>
                    <a:lnTo>
                      <a:pt x="200" y="75"/>
                    </a:lnTo>
                    <a:lnTo>
                      <a:pt x="214" y="72"/>
                    </a:lnTo>
                    <a:lnTo>
                      <a:pt x="228" y="68"/>
                    </a:lnTo>
                    <a:lnTo>
                      <a:pt x="241" y="62"/>
                    </a:lnTo>
                    <a:lnTo>
                      <a:pt x="253" y="56"/>
                    </a:lnTo>
                    <a:lnTo>
                      <a:pt x="263" y="48"/>
                    </a:lnTo>
                    <a:lnTo>
                      <a:pt x="273" y="42"/>
                    </a:lnTo>
                    <a:lnTo>
                      <a:pt x="282" y="34"/>
                    </a:lnTo>
                    <a:lnTo>
                      <a:pt x="296" y="19"/>
                    </a:lnTo>
                    <a:lnTo>
                      <a:pt x="307" y="7"/>
                    </a:lnTo>
                    <a:lnTo>
                      <a:pt x="311" y="1"/>
                    </a:lnTo>
                    <a:lnTo>
                      <a:pt x="312" y="0"/>
                    </a:lnTo>
                    <a:close/>
                  </a:path>
                </a:pathLst>
              </a:custGeom>
              <a:solidFill>
                <a:srgbClr val="e3a6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952960" y="3152880"/>
                <a:ext cx="171720" cy="108000"/>
              </a:xfrm>
              <a:custGeom>
                <a:avLst/>
                <a:gdLst/>
                <a:ahLst/>
                <a:rect l="l" t="t" r="r" b="b"/>
                <a:pathLst>
                  <a:path w="542" h="337">
                    <a:moveTo>
                      <a:pt x="302" y="1"/>
                    </a:moveTo>
                    <a:lnTo>
                      <a:pt x="301" y="6"/>
                    </a:lnTo>
                    <a:lnTo>
                      <a:pt x="301" y="11"/>
                    </a:lnTo>
                    <a:lnTo>
                      <a:pt x="301" y="17"/>
                    </a:lnTo>
                    <a:lnTo>
                      <a:pt x="302" y="23"/>
                    </a:lnTo>
                    <a:lnTo>
                      <a:pt x="303" y="28"/>
                    </a:lnTo>
                    <a:lnTo>
                      <a:pt x="306" y="33"/>
                    </a:lnTo>
                    <a:lnTo>
                      <a:pt x="309" y="38"/>
                    </a:lnTo>
                    <a:lnTo>
                      <a:pt x="312" y="41"/>
                    </a:lnTo>
                    <a:lnTo>
                      <a:pt x="315" y="45"/>
                    </a:lnTo>
                    <a:lnTo>
                      <a:pt x="321" y="49"/>
                    </a:lnTo>
                    <a:lnTo>
                      <a:pt x="326" y="50"/>
                    </a:lnTo>
                    <a:lnTo>
                      <a:pt x="332" y="52"/>
                    </a:lnTo>
                    <a:lnTo>
                      <a:pt x="338" y="52"/>
                    </a:lnTo>
                    <a:lnTo>
                      <a:pt x="346" y="51"/>
                    </a:lnTo>
                    <a:lnTo>
                      <a:pt x="353" y="49"/>
                    </a:lnTo>
                    <a:lnTo>
                      <a:pt x="362" y="45"/>
                    </a:lnTo>
                    <a:lnTo>
                      <a:pt x="376" y="36"/>
                    </a:lnTo>
                    <a:lnTo>
                      <a:pt x="391" y="29"/>
                    </a:lnTo>
                    <a:lnTo>
                      <a:pt x="405" y="24"/>
                    </a:lnTo>
                    <a:lnTo>
                      <a:pt x="418" y="21"/>
                    </a:lnTo>
                    <a:lnTo>
                      <a:pt x="429" y="20"/>
                    </a:lnTo>
                    <a:lnTo>
                      <a:pt x="437" y="21"/>
                    </a:lnTo>
                    <a:lnTo>
                      <a:pt x="440" y="22"/>
                    </a:lnTo>
                    <a:lnTo>
                      <a:pt x="441" y="24"/>
                    </a:lnTo>
                    <a:lnTo>
                      <a:pt x="442" y="25"/>
                    </a:lnTo>
                    <a:lnTo>
                      <a:pt x="441" y="28"/>
                    </a:lnTo>
                    <a:lnTo>
                      <a:pt x="442" y="31"/>
                    </a:lnTo>
                    <a:lnTo>
                      <a:pt x="443" y="34"/>
                    </a:lnTo>
                    <a:lnTo>
                      <a:pt x="446" y="36"/>
                    </a:lnTo>
                    <a:lnTo>
                      <a:pt x="449" y="38"/>
                    </a:lnTo>
                    <a:lnTo>
                      <a:pt x="459" y="42"/>
                    </a:lnTo>
                    <a:lnTo>
                      <a:pt x="471" y="44"/>
                    </a:lnTo>
                    <a:lnTo>
                      <a:pt x="486" y="47"/>
                    </a:lnTo>
                    <a:lnTo>
                      <a:pt x="503" y="48"/>
                    </a:lnTo>
                    <a:lnTo>
                      <a:pt x="523" y="48"/>
                    </a:lnTo>
                    <a:lnTo>
                      <a:pt x="542" y="48"/>
                    </a:lnTo>
                    <a:lnTo>
                      <a:pt x="537" y="52"/>
                    </a:lnTo>
                    <a:lnTo>
                      <a:pt x="516" y="65"/>
                    </a:lnTo>
                    <a:lnTo>
                      <a:pt x="486" y="81"/>
                    </a:lnTo>
                    <a:lnTo>
                      <a:pt x="450" y="101"/>
                    </a:lnTo>
                    <a:lnTo>
                      <a:pt x="415" y="120"/>
                    </a:lnTo>
                    <a:lnTo>
                      <a:pt x="383" y="137"/>
                    </a:lnTo>
                    <a:lnTo>
                      <a:pt x="361" y="149"/>
                    </a:lnTo>
                    <a:lnTo>
                      <a:pt x="352" y="155"/>
                    </a:lnTo>
                    <a:lnTo>
                      <a:pt x="36" y="337"/>
                    </a:lnTo>
                    <a:lnTo>
                      <a:pt x="33" y="334"/>
                    </a:lnTo>
                    <a:lnTo>
                      <a:pt x="29" y="325"/>
                    </a:lnTo>
                    <a:lnTo>
                      <a:pt x="24" y="312"/>
                    </a:lnTo>
                    <a:lnTo>
                      <a:pt x="16" y="298"/>
                    </a:lnTo>
                    <a:lnTo>
                      <a:pt x="10" y="282"/>
                    </a:lnTo>
                    <a:lnTo>
                      <a:pt x="4" y="267"/>
                    </a:lnTo>
                    <a:lnTo>
                      <a:pt x="2" y="260"/>
                    </a:lnTo>
                    <a:lnTo>
                      <a:pt x="1" y="254"/>
                    </a:lnTo>
                    <a:lnTo>
                      <a:pt x="0" y="250"/>
                    </a:lnTo>
                    <a:lnTo>
                      <a:pt x="1" y="245"/>
                    </a:lnTo>
                    <a:lnTo>
                      <a:pt x="3" y="237"/>
                    </a:lnTo>
                    <a:lnTo>
                      <a:pt x="6" y="219"/>
                    </a:lnTo>
                    <a:lnTo>
                      <a:pt x="11" y="198"/>
                    </a:lnTo>
                    <a:lnTo>
                      <a:pt x="17" y="172"/>
                    </a:lnTo>
                    <a:lnTo>
                      <a:pt x="24" y="145"/>
                    </a:lnTo>
                    <a:lnTo>
                      <a:pt x="32" y="120"/>
                    </a:lnTo>
                    <a:lnTo>
                      <a:pt x="38" y="108"/>
                    </a:lnTo>
                    <a:lnTo>
                      <a:pt x="43" y="97"/>
                    </a:lnTo>
                    <a:lnTo>
                      <a:pt x="48" y="88"/>
                    </a:lnTo>
                    <a:lnTo>
                      <a:pt x="55" y="80"/>
                    </a:lnTo>
                    <a:lnTo>
                      <a:pt x="65" y="69"/>
                    </a:lnTo>
                    <a:lnTo>
                      <a:pt x="77" y="60"/>
                    </a:lnTo>
                    <a:lnTo>
                      <a:pt x="91" y="50"/>
                    </a:lnTo>
                    <a:lnTo>
                      <a:pt x="106" y="40"/>
                    </a:lnTo>
                    <a:lnTo>
                      <a:pt x="120" y="30"/>
                    </a:lnTo>
                    <a:lnTo>
                      <a:pt x="135" y="23"/>
                    </a:lnTo>
                    <a:lnTo>
                      <a:pt x="148" y="16"/>
                    </a:lnTo>
                    <a:lnTo>
                      <a:pt x="159" y="11"/>
                    </a:lnTo>
                    <a:lnTo>
                      <a:pt x="153" y="16"/>
                    </a:lnTo>
                    <a:lnTo>
                      <a:pt x="145" y="24"/>
                    </a:lnTo>
                    <a:lnTo>
                      <a:pt x="136" y="33"/>
                    </a:lnTo>
                    <a:lnTo>
                      <a:pt x="131" y="42"/>
                    </a:lnTo>
                    <a:lnTo>
                      <a:pt x="128" y="48"/>
                    </a:lnTo>
                    <a:lnTo>
                      <a:pt x="128" y="52"/>
                    </a:lnTo>
                    <a:lnTo>
                      <a:pt x="130" y="55"/>
                    </a:lnTo>
                    <a:lnTo>
                      <a:pt x="133" y="60"/>
                    </a:lnTo>
                    <a:lnTo>
                      <a:pt x="137" y="62"/>
                    </a:lnTo>
                    <a:lnTo>
                      <a:pt x="145" y="64"/>
                    </a:lnTo>
                    <a:lnTo>
                      <a:pt x="154" y="65"/>
                    </a:lnTo>
                    <a:lnTo>
                      <a:pt x="166" y="65"/>
                    </a:lnTo>
                    <a:lnTo>
                      <a:pt x="180" y="64"/>
                    </a:lnTo>
                    <a:lnTo>
                      <a:pt x="194" y="62"/>
                    </a:lnTo>
                    <a:lnTo>
                      <a:pt x="207" y="58"/>
                    </a:lnTo>
                    <a:lnTo>
                      <a:pt x="220" y="54"/>
                    </a:lnTo>
                    <a:lnTo>
                      <a:pt x="232" y="49"/>
                    </a:lnTo>
                    <a:lnTo>
                      <a:pt x="243" y="42"/>
                    </a:lnTo>
                    <a:lnTo>
                      <a:pt x="254" y="36"/>
                    </a:lnTo>
                    <a:lnTo>
                      <a:pt x="263" y="29"/>
                    </a:lnTo>
                    <a:lnTo>
                      <a:pt x="280" y="16"/>
                    </a:lnTo>
                    <a:lnTo>
                      <a:pt x="292" y="7"/>
                    </a:lnTo>
                    <a:lnTo>
                      <a:pt x="297" y="3"/>
                    </a:lnTo>
                    <a:lnTo>
                      <a:pt x="300" y="1"/>
                    </a:lnTo>
                    <a:lnTo>
                      <a:pt x="301" y="0"/>
                    </a:lnTo>
                    <a:lnTo>
                      <a:pt x="302" y="1"/>
                    </a:lnTo>
                    <a:close/>
                  </a:path>
                </a:pathLst>
              </a:custGeom>
              <a:solidFill>
                <a:srgbClr val="dea3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5954760" y="3157560"/>
                <a:ext cx="168120" cy="101520"/>
              </a:xfrm>
              <a:custGeom>
                <a:avLst/>
                <a:gdLst/>
                <a:ahLst/>
                <a:rect l="l" t="t" r="r" b="b"/>
                <a:pathLst>
                  <a:path w="531" h="319">
                    <a:moveTo>
                      <a:pt x="289" y="8"/>
                    </a:moveTo>
                    <a:lnTo>
                      <a:pt x="288" y="12"/>
                    </a:lnTo>
                    <a:lnTo>
                      <a:pt x="289" y="16"/>
                    </a:lnTo>
                    <a:lnTo>
                      <a:pt x="290" y="21"/>
                    </a:lnTo>
                    <a:lnTo>
                      <a:pt x="291" y="25"/>
                    </a:lnTo>
                    <a:lnTo>
                      <a:pt x="294" y="29"/>
                    </a:lnTo>
                    <a:lnTo>
                      <a:pt x="297" y="34"/>
                    </a:lnTo>
                    <a:lnTo>
                      <a:pt x="301" y="37"/>
                    </a:lnTo>
                    <a:lnTo>
                      <a:pt x="305" y="41"/>
                    </a:lnTo>
                    <a:lnTo>
                      <a:pt x="310" y="43"/>
                    </a:lnTo>
                    <a:lnTo>
                      <a:pt x="317" y="45"/>
                    </a:lnTo>
                    <a:lnTo>
                      <a:pt x="322" y="48"/>
                    </a:lnTo>
                    <a:lnTo>
                      <a:pt x="330" y="49"/>
                    </a:lnTo>
                    <a:lnTo>
                      <a:pt x="337" y="49"/>
                    </a:lnTo>
                    <a:lnTo>
                      <a:pt x="345" y="48"/>
                    </a:lnTo>
                    <a:lnTo>
                      <a:pt x="353" y="45"/>
                    </a:lnTo>
                    <a:lnTo>
                      <a:pt x="363" y="42"/>
                    </a:lnTo>
                    <a:lnTo>
                      <a:pt x="375" y="36"/>
                    </a:lnTo>
                    <a:lnTo>
                      <a:pt x="388" y="30"/>
                    </a:lnTo>
                    <a:lnTo>
                      <a:pt x="400" y="26"/>
                    </a:lnTo>
                    <a:lnTo>
                      <a:pt x="411" y="24"/>
                    </a:lnTo>
                    <a:lnTo>
                      <a:pt x="420" y="23"/>
                    </a:lnTo>
                    <a:lnTo>
                      <a:pt x="428" y="24"/>
                    </a:lnTo>
                    <a:lnTo>
                      <a:pt x="430" y="25"/>
                    </a:lnTo>
                    <a:lnTo>
                      <a:pt x="431" y="26"/>
                    </a:lnTo>
                    <a:lnTo>
                      <a:pt x="432" y="28"/>
                    </a:lnTo>
                    <a:lnTo>
                      <a:pt x="432" y="30"/>
                    </a:lnTo>
                    <a:lnTo>
                      <a:pt x="434" y="32"/>
                    </a:lnTo>
                    <a:lnTo>
                      <a:pt x="438" y="34"/>
                    </a:lnTo>
                    <a:lnTo>
                      <a:pt x="441" y="36"/>
                    </a:lnTo>
                    <a:lnTo>
                      <a:pt x="445" y="37"/>
                    </a:lnTo>
                    <a:lnTo>
                      <a:pt x="456" y="39"/>
                    </a:lnTo>
                    <a:lnTo>
                      <a:pt x="468" y="40"/>
                    </a:lnTo>
                    <a:lnTo>
                      <a:pt x="483" y="40"/>
                    </a:lnTo>
                    <a:lnTo>
                      <a:pt x="498" y="41"/>
                    </a:lnTo>
                    <a:lnTo>
                      <a:pt x="514" y="41"/>
                    </a:lnTo>
                    <a:lnTo>
                      <a:pt x="531" y="42"/>
                    </a:lnTo>
                    <a:lnTo>
                      <a:pt x="523" y="49"/>
                    </a:lnTo>
                    <a:lnTo>
                      <a:pt x="495" y="64"/>
                    </a:lnTo>
                    <a:lnTo>
                      <a:pt x="453" y="86"/>
                    </a:lnTo>
                    <a:lnTo>
                      <a:pt x="404" y="111"/>
                    </a:lnTo>
                    <a:lnTo>
                      <a:pt x="356" y="137"/>
                    </a:lnTo>
                    <a:lnTo>
                      <a:pt x="313" y="159"/>
                    </a:lnTo>
                    <a:lnTo>
                      <a:pt x="283" y="175"/>
                    </a:lnTo>
                    <a:lnTo>
                      <a:pt x="271" y="180"/>
                    </a:lnTo>
                    <a:lnTo>
                      <a:pt x="22" y="319"/>
                    </a:lnTo>
                    <a:lnTo>
                      <a:pt x="21" y="315"/>
                    </a:lnTo>
                    <a:lnTo>
                      <a:pt x="17" y="305"/>
                    </a:lnTo>
                    <a:lnTo>
                      <a:pt x="13" y="288"/>
                    </a:lnTo>
                    <a:lnTo>
                      <a:pt x="8" y="270"/>
                    </a:lnTo>
                    <a:lnTo>
                      <a:pt x="3" y="250"/>
                    </a:lnTo>
                    <a:lnTo>
                      <a:pt x="0" y="230"/>
                    </a:lnTo>
                    <a:lnTo>
                      <a:pt x="0" y="221"/>
                    </a:lnTo>
                    <a:lnTo>
                      <a:pt x="0" y="213"/>
                    </a:lnTo>
                    <a:lnTo>
                      <a:pt x="0" y="206"/>
                    </a:lnTo>
                    <a:lnTo>
                      <a:pt x="1" y="200"/>
                    </a:lnTo>
                    <a:lnTo>
                      <a:pt x="5" y="190"/>
                    </a:lnTo>
                    <a:lnTo>
                      <a:pt x="9" y="175"/>
                    </a:lnTo>
                    <a:lnTo>
                      <a:pt x="14" y="156"/>
                    </a:lnTo>
                    <a:lnTo>
                      <a:pt x="21" y="135"/>
                    </a:lnTo>
                    <a:lnTo>
                      <a:pt x="29" y="113"/>
                    </a:lnTo>
                    <a:lnTo>
                      <a:pt x="38" y="93"/>
                    </a:lnTo>
                    <a:lnTo>
                      <a:pt x="42" y="84"/>
                    </a:lnTo>
                    <a:lnTo>
                      <a:pt x="48" y="76"/>
                    </a:lnTo>
                    <a:lnTo>
                      <a:pt x="53" y="68"/>
                    </a:lnTo>
                    <a:lnTo>
                      <a:pt x="59" y="62"/>
                    </a:lnTo>
                    <a:lnTo>
                      <a:pt x="67" y="53"/>
                    </a:lnTo>
                    <a:lnTo>
                      <a:pt x="79" y="44"/>
                    </a:lnTo>
                    <a:lnTo>
                      <a:pt x="92" y="35"/>
                    </a:lnTo>
                    <a:lnTo>
                      <a:pt x="106" y="26"/>
                    </a:lnTo>
                    <a:lnTo>
                      <a:pt x="119" y="17"/>
                    </a:lnTo>
                    <a:lnTo>
                      <a:pt x="132" y="10"/>
                    </a:lnTo>
                    <a:lnTo>
                      <a:pt x="144" y="4"/>
                    </a:lnTo>
                    <a:lnTo>
                      <a:pt x="153" y="0"/>
                    </a:lnTo>
                    <a:lnTo>
                      <a:pt x="144" y="7"/>
                    </a:lnTo>
                    <a:lnTo>
                      <a:pt x="134" y="15"/>
                    </a:lnTo>
                    <a:lnTo>
                      <a:pt x="124" y="25"/>
                    </a:lnTo>
                    <a:lnTo>
                      <a:pt x="119" y="35"/>
                    </a:lnTo>
                    <a:lnTo>
                      <a:pt x="117" y="39"/>
                    </a:lnTo>
                    <a:lnTo>
                      <a:pt x="116" y="43"/>
                    </a:lnTo>
                    <a:lnTo>
                      <a:pt x="117" y="47"/>
                    </a:lnTo>
                    <a:lnTo>
                      <a:pt x="119" y="50"/>
                    </a:lnTo>
                    <a:lnTo>
                      <a:pt x="123" y="53"/>
                    </a:lnTo>
                    <a:lnTo>
                      <a:pt x="129" y="55"/>
                    </a:lnTo>
                    <a:lnTo>
                      <a:pt x="137" y="56"/>
                    </a:lnTo>
                    <a:lnTo>
                      <a:pt x="147" y="57"/>
                    </a:lnTo>
                    <a:lnTo>
                      <a:pt x="160" y="57"/>
                    </a:lnTo>
                    <a:lnTo>
                      <a:pt x="173" y="56"/>
                    </a:lnTo>
                    <a:lnTo>
                      <a:pt x="185" y="53"/>
                    </a:lnTo>
                    <a:lnTo>
                      <a:pt x="198" y="50"/>
                    </a:lnTo>
                    <a:lnTo>
                      <a:pt x="210" y="45"/>
                    </a:lnTo>
                    <a:lnTo>
                      <a:pt x="222" y="41"/>
                    </a:lnTo>
                    <a:lnTo>
                      <a:pt x="232" y="36"/>
                    </a:lnTo>
                    <a:lnTo>
                      <a:pt x="243" y="30"/>
                    </a:lnTo>
                    <a:lnTo>
                      <a:pt x="262" y="21"/>
                    </a:lnTo>
                    <a:lnTo>
                      <a:pt x="276" y="12"/>
                    </a:lnTo>
                    <a:lnTo>
                      <a:pt x="281" y="9"/>
                    </a:lnTo>
                    <a:lnTo>
                      <a:pt x="285" y="7"/>
                    </a:lnTo>
                    <a:lnTo>
                      <a:pt x="288" y="7"/>
                    </a:lnTo>
                    <a:lnTo>
                      <a:pt x="289" y="8"/>
                    </a:lnTo>
                    <a:close/>
                  </a:path>
                </a:pathLst>
              </a:custGeom>
              <a:solidFill>
                <a:srgbClr val="d89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5954760" y="3157560"/>
                <a:ext cx="164880" cy="98640"/>
              </a:xfrm>
              <a:custGeom>
                <a:avLst/>
                <a:gdLst/>
                <a:ahLst/>
                <a:rect l="l" t="t" r="r" b="b"/>
                <a:pathLst>
                  <a:path w="523" h="309">
                    <a:moveTo>
                      <a:pt x="279" y="25"/>
                    </a:moveTo>
                    <a:lnTo>
                      <a:pt x="279" y="29"/>
                    </a:lnTo>
                    <a:lnTo>
                      <a:pt x="280" y="33"/>
                    </a:lnTo>
                    <a:lnTo>
                      <a:pt x="281" y="36"/>
                    </a:lnTo>
                    <a:lnTo>
                      <a:pt x="284" y="40"/>
                    </a:lnTo>
                    <a:lnTo>
                      <a:pt x="288" y="43"/>
                    </a:lnTo>
                    <a:lnTo>
                      <a:pt x="292" y="46"/>
                    </a:lnTo>
                    <a:lnTo>
                      <a:pt x="297" y="49"/>
                    </a:lnTo>
                    <a:lnTo>
                      <a:pt x="303" y="51"/>
                    </a:lnTo>
                    <a:lnTo>
                      <a:pt x="309" y="53"/>
                    </a:lnTo>
                    <a:lnTo>
                      <a:pt x="316" y="54"/>
                    </a:lnTo>
                    <a:lnTo>
                      <a:pt x="323" y="55"/>
                    </a:lnTo>
                    <a:lnTo>
                      <a:pt x="332" y="56"/>
                    </a:lnTo>
                    <a:lnTo>
                      <a:pt x="340" y="56"/>
                    </a:lnTo>
                    <a:lnTo>
                      <a:pt x="349" y="55"/>
                    </a:lnTo>
                    <a:lnTo>
                      <a:pt x="358" y="54"/>
                    </a:lnTo>
                    <a:lnTo>
                      <a:pt x="368" y="52"/>
                    </a:lnTo>
                    <a:lnTo>
                      <a:pt x="378" y="47"/>
                    </a:lnTo>
                    <a:lnTo>
                      <a:pt x="388" y="42"/>
                    </a:lnTo>
                    <a:lnTo>
                      <a:pt x="399" y="39"/>
                    </a:lnTo>
                    <a:lnTo>
                      <a:pt x="407" y="37"/>
                    </a:lnTo>
                    <a:lnTo>
                      <a:pt x="415" y="37"/>
                    </a:lnTo>
                    <a:lnTo>
                      <a:pt x="422" y="38"/>
                    </a:lnTo>
                    <a:lnTo>
                      <a:pt x="424" y="38"/>
                    </a:lnTo>
                    <a:lnTo>
                      <a:pt x="426" y="39"/>
                    </a:lnTo>
                    <a:lnTo>
                      <a:pt x="427" y="41"/>
                    </a:lnTo>
                    <a:lnTo>
                      <a:pt x="427" y="42"/>
                    </a:lnTo>
                    <a:lnTo>
                      <a:pt x="436" y="45"/>
                    </a:lnTo>
                    <a:lnTo>
                      <a:pt x="446" y="47"/>
                    </a:lnTo>
                    <a:lnTo>
                      <a:pt x="458" y="47"/>
                    </a:lnTo>
                    <a:lnTo>
                      <a:pt x="470" y="47"/>
                    </a:lnTo>
                    <a:lnTo>
                      <a:pt x="484" y="47"/>
                    </a:lnTo>
                    <a:lnTo>
                      <a:pt x="497" y="46"/>
                    </a:lnTo>
                    <a:lnTo>
                      <a:pt x="511" y="46"/>
                    </a:lnTo>
                    <a:lnTo>
                      <a:pt x="523" y="46"/>
                    </a:lnTo>
                    <a:lnTo>
                      <a:pt x="511" y="52"/>
                    </a:lnTo>
                    <a:lnTo>
                      <a:pt x="474" y="72"/>
                    </a:lnTo>
                    <a:lnTo>
                      <a:pt x="422" y="100"/>
                    </a:lnTo>
                    <a:lnTo>
                      <a:pt x="361" y="131"/>
                    </a:lnTo>
                    <a:lnTo>
                      <a:pt x="298" y="162"/>
                    </a:lnTo>
                    <a:lnTo>
                      <a:pt x="245" y="189"/>
                    </a:lnTo>
                    <a:lnTo>
                      <a:pt x="207" y="209"/>
                    </a:lnTo>
                    <a:lnTo>
                      <a:pt x="192" y="215"/>
                    </a:lnTo>
                    <a:lnTo>
                      <a:pt x="14" y="309"/>
                    </a:lnTo>
                    <a:lnTo>
                      <a:pt x="13" y="305"/>
                    </a:lnTo>
                    <a:lnTo>
                      <a:pt x="11" y="293"/>
                    </a:lnTo>
                    <a:lnTo>
                      <a:pt x="8" y="275"/>
                    </a:lnTo>
                    <a:lnTo>
                      <a:pt x="5" y="252"/>
                    </a:lnTo>
                    <a:lnTo>
                      <a:pt x="2" y="228"/>
                    </a:lnTo>
                    <a:lnTo>
                      <a:pt x="0" y="205"/>
                    </a:lnTo>
                    <a:lnTo>
                      <a:pt x="0" y="195"/>
                    </a:lnTo>
                    <a:lnTo>
                      <a:pt x="1" y="185"/>
                    </a:lnTo>
                    <a:lnTo>
                      <a:pt x="2" y="176"/>
                    </a:lnTo>
                    <a:lnTo>
                      <a:pt x="5" y="169"/>
                    </a:lnTo>
                    <a:lnTo>
                      <a:pt x="9" y="157"/>
                    </a:lnTo>
                    <a:lnTo>
                      <a:pt x="15" y="142"/>
                    </a:lnTo>
                    <a:lnTo>
                      <a:pt x="22" y="126"/>
                    </a:lnTo>
                    <a:lnTo>
                      <a:pt x="30" y="109"/>
                    </a:lnTo>
                    <a:lnTo>
                      <a:pt x="39" y="92"/>
                    </a:lnTo>
                    <a:lnTo>
                      <a:pt x="49" y="76"/>
                    </a:lnTo>
                    <a:lnTo>
                      <a:pt x="57" y="63"/>
                    </a:lnTo>
                    <a:lnTo>
                      <a:pt x="66" y="52"/>
                    </a:lnTo>
                    <a:lnTo>
                      <a:pt x="74" y="46"/>
                    </a:lnTo>
                    <a:lnTo>
                      <a:pt x="83" y="37"/>
                    </a:lnTo>
                    <a:lnTo>
                      <a:pt x="95" y="29"/>
                    </a:lnTo>
                    <a:lnTo>
                      <a:pt x="108" y="21"/>
                    </a:lnTo>
                    <a:lnTo>
                      <a:pt x="120" y="13"/>
                    </a:lnTo>
                    <a:lnTo>
                      <a:pt x="132" y="8"/>
                    </a:lnTo>
                    <a:lnTo>
                      <a:pt x="141" y="2"/>
                    </a:lnTo>
                    <a:lnTo>
                      <a:pt x="147" y="0"/>
                    </a:lnTo>
                    <a:lnTo>
                      <a:pt x="136" y="10"/>
                    </a:lnTo>
                    <a:lnTo>
                      <a:pt x="126" y="19"/>
                    </a:lnTo>
                    <a:lnTo>
                      <a:pt x="117" y="28"/>
                    </a:lnTo>
                    <a:lnTo>
                      <a:pt x="110" y="38"/>
                    </a:lnTo>
                    <a:lnTo>
                      <a:pt x="108" y="42"/>
                    </a:lnTo>
                    <a:lnTo>
                      <a:pt x="108" y="46"/>
                    </a:lnTo>
                    <a:lnTo>
                      <a:pt x="108" y="50"/>
                    </a:lnTo>
                    <a:lnTo>
                      <a:pt x="110" y="53"/>
                    </a:lnTo>
                    <a:lnTo>
                      <a:pt x="114" y="55"/>
                    </a:lnTo>
                    <a:lnTo>
                      <a:pt x="118" y="57"/>
                    </a:lnTo>
                    <a:lnTo>
                      <a:pt x="124" y="60"/>
                    </a:lnTo>
                    <a:lnTo>
                      <a:pt x="133" y="60"/>
                    </a:lnTo>
                    <a:lnTo>
                      <a:pt x="144" y="61"/>
                    </a:lnTo>
                    <a:lnTo>
                      <a:pt x="156" y="61"/>
                    </a:lnTo>
                    <a:lnTo>
                      <a:pt x="168" y="60"/>
                    </a:lnTo>
                    <a:lnTo>
                      <a:pt x="180" y="57"/>
                    </a:lnTo>
                    <a:lnTo>
                      <a:pt x="204" y="51"/>
                    </a:lnTo>
                    <a:lnTo>
                      <a:pt x="227" y="42"/>
                    </a:lnTo>
                    <a:lnTo>
                      <a:pt x="248" y="35"/>
                    </a:lnTo>
                    <a:lnTo>
                      <a:pt x="264" y="28"/>
                    </a:lnTo>
                    <a:lnTo>
                      <a:pt x="270" y="26"/>
                    </a:lnTo>
                    <a:lnTo>
                      <a:pt x="275" y="24"/>
                    </a:lnTo>
                    <a:lnTo>
                      <a:pt x="278" y="24"/>
                    </a:lnTo>
                    <a:lnTo>
                      <a:pt x="279" y="25"/>
                    </a:lnTo>
                    <a:close/>
                  </a:path>
                </a:pathLst>
              </a:custGeom>
              <a:solidFill>
                <a:srgbClr val="d59c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5954760" y="3159360"/>
                <a:ext cx="164880" cy="95040"/>
              </a:xfrm>
              <a:custGeom>
                <a:avLst/>
                <a:gdLst/>
                <a:ahLst/>
                <a:rect l="l" t="t" r="r" b="b"/>
                <a:pathLst>
                  <a:path w="519" h="302">
                    <a:moveTo>
                      <a:pt x="269" y="43"/>
                    </a:moveTo>
                    <a:lnTo>
                      <a:pt x="270" y="46"/>
                    </a:lnTo>
                    <a:lnTo>
                      <a:pt x="271" y="48"/>
                    </a:lnTo>
                    <a:lnTo>
                      <a:pt x="275" y="51"/>
                    </a:lnTo>
                    <a:lnTo>
                      <a:pt x="279" y="53"/>
                    </a:lnTo>
                    <a:lnTo>
                      <a:pt x="289" y="58"/>
                    </a:lnTo>
                    <a:lnTo>
                      <a:pt x="302" y="61"/>
                    </a:lnTo>
                    <a:lnTo>
                      <a:pt x="317" y="63"/>
                    </a:lnTo>
                    <a:lnTo>
                      <a:pt x="334" y="64"/>
                    </a:lnTo>
                    <a:lnTo>
                      <a:pt x="352" y="64"/>
                    </a:lnTo>
                    <a:lnTo>
                      <a:pt x="373" y="62"/>
                    </a:lnTo>
                    <a:lnTo>
                      <a:pt x="380" y="58"/>
                    </a:lnTo>
                    <a:lnTo>
                      <a:pt x="388" y="54"/>
                    </a:lnTo>
                    <a:lnTo>
                      <a:pt x="397" y="52"/>
                    </a:lnTo>
                    <a:lnTo>
                      <a:pt x="404" y="50"/>
                    </a:lnTo>
                    <a:lnTo>
                      <a:pt x="411" y="50"/>
                    </a:lnTo>
                    <a:lnTo>
                      <a:pt x="416" y="50"/>
                    </a:lnTo>
                    <a:lnTo>
                      <a:pt x="420" y="50"/>
                    </a:lnTo>
                    <a:lnTo>
                      <a:pt x="423" y="52"/>
                    </a:lnTo>
                    <a:lnTo>
                      <a:pt x="433" y="53"/>
                    </a:lnTo>
                    <a:lnTo>
                      <a:pt x="446" y="53"/>
                    </a:lnTo>
                    <a:lnTo>
                      <a:pt x="459" y="52"/>
                    </a:lnTo>
                    <a:lnTo>
                      <a:pt x="473" y="51"/>
                    </a:lnTo>
                    <a:lnTo>
                      <a:pt x="486" y="50"/>
                    </a:lnTo>
                    <a:lnTo>
                      <a:pt x="498" y="49"/>
                    </a:lnTo>
                    <a:lnTo>
                      <a:pt x="509" y="48"/>
                    </a:lnTo>
                    <a:lnTo>
                      <a:pt x="519" y="47"/>
                    </a:lnTo>
                    <a:lnTo>
                      <a:pt x="501" y="56"/>
                    </a:lnTo>
                    <a:lnTo>
                      <a:pt x="456" y="79"/>
                    </a:lnTo>
                    <a:lnTo>
                      <a:pt x="392" y="112"/>
                    </a:lnTo>
                    <a:lnTo>
                      <a:pt x="318" y="150"/>
                    </a:lnTo>
                    <a:lnTo>
                      <a:pt x="243" y="187"/>
                    </a:lnTo>
                    <a:lnTo>
                      <a:pt x="178" y="220"/>
                    </a:lnTo>
                    <a:lnTo>
                      <a:pt x="133" y="243"/>
                    </a:lnTo>
                    <a:lnTo>
                      <a:pt x="116" y="252"/>
                    </a:lnTo>
                    <a:lnTo>
                      <a:pt x="7" y="302"/>
                    </a:lnTo>
                    <a:lnTo>
                      <a:pt x="6" y="296"/>
                    </a:lnTo>
                    <a:lnTo>
                      <a:pt x="5" y="281"/>
                    </a:lnTo>
                    <a:lnTo>
                      <a:pt x="2" y="261"/>
                    </a:lnTo>
                    <a:lnTo>
                      <a:pt x="1" y="235"/>
                    </a:lnTo>
                    <a:lnTo>
                      <a:pt x="0" y="207"/>
                    </a:lnTo>
                    <a:lnTo>
                      <a:pt x="0" y="179"/>
                    </a:lnTo>
                    <a:lnTo>
                      <a:pt x="1" y="166"/>
                    </a:lnTo>
                    <a:lnTo>
                      <a:pt x="2" y="154"/>
                    </a:lnTo>
                    <a:lnTo>
                      <a:pt x="5" y="143"/>
                    </a:lnTo>
                    <a:lnTo>
                      <a:pt x="7" y="133"/>
                    </a:lnTo>
                    <a:lnTo>
                      <a:pt x="12" y="121"/>
                    </a:lnTo>
                    <a:lnTo>
                      <a:pt x="20" y="108"/>
                    </a:lnTo>
                    <a:lnTo>
                      <a:pt x="28" y="96"/>
                    </a:lnTo>
                    <a:lnTo>
                      <a:pt x="38" y="83"/>
                    </a:lnTo>
                    <a:lnTo>
                      <a:pt x="49" y="71"/>
                    </a:lnTo>
                    <a:lnTo>
                      <a:pt x="59" y="59"/>
                    </a:lnTo>
                    <a:lnTo>
                      <a:pt x="68" y="50"/>
                    </a:lnTo>
                    <a:lnTo>
                      <a:pt x="76" y="43"/>
                    </a:lnTo>
                    <a:lnTo>
                      <a:pt x="81" y="37"/>
                    </a:lnTo>
                    <a:lnTo>
                      <a:pt x="89" y="31"/>
                    </a:lnTo>
                    <a:lnTo>
                      <a:pt x="100" y="24"/>
                    </a:lnTo>
                    <a:lnTo>
                      <a:pt x="111" y="17"/>
                    </a:lnTo>
                    <a:lnTo>
                      <a:pt x="122" y="10"/>
                    </a:lnTo>
                    <a:lnTo>
                      <a:pt x="132" y="4"/>
                    </a:lnTo>
                    <a:lnTo>
                      <a:pt x="140" y="0"/>
                    </a:lnTo>
                    <a:lnTo>
                      <a:pt x="143" y="0"/>
                    </a:lnTo>
                    <a:lnTo>
                      <a:pt x="130" y="10"/>
                    </a:lnTo>
                    <a:lnTo>
                      <a:pt x="118" y="21"/>
                    </a:lnTo>
                    <a:lnTo>
                      <a:pt x="108" y="31"/>
                    </a:lnTo>
                    <a:lnTo>
                      <a:pt x="103" y="39"/>
                    </a:lnTo>
                    <a:lnTo>
                      <a:pt x="101" y="44"/>
                    </a:lnTo>
                    <a:lnTo>
                      <a:pt x="100" y="47"/>
                    </a:lnTo>
                    <a:lnTo>
                      <a:pt x="100" y="51"/>
                    </a:lnTo>
                    <a:lnTo>
                      <a:pt x="101" y="54"/>
                    </a:lnTo>
                    <a:lnTo>
                      <a:pt x="103" y="57"/>
                    </a:lnTo>
                    <a:lnTo>
                      <a:pt x="107" y="59"/>
                    </a:lnTo>
                    <a:lnTo>
                      <a:pt x="111" y="61"/>
                    </a:lnTo>
                    <a:lnTo>
                      <a:pt x="118" y="62"/>
                    </a:lnTo>
                    <a:lnTo>
                      <a:pt x="128" y="64"/>
                    </a:lnTo>
                    <a:lnTo>
                      <a:pt x="137" y="65"/>
                    </a:lnTo>
                    <a:lnTo>
                      <a:pt x="149" y="65"/>
                    </a:lnTo>
                    <a:lnTo>
                      <a:pt x="161" y="64"/>
                    </a:lnTo>
                    <a:lnTo>
                      <a:pt x="186" y="60"/>
                    </a:lnTo>
                    <a:lnTo>
                      <a:pt x="210" y="53"/>
                    </a:lnTo>
                    <a:lnTo>
                      <a:pt x="232" y="48"/>
                    </a:lnTo>
                    <a:lnTo>
                      <a:pt x="251" y="44"/>
                    </a:lnTo>
                    <a:lnTo>
                      <a:pt x="258" y="42"/>
                    </a:lnTo>
                    <a:lnTo>
                      <a:pt x="264" y="40"/>
                    </a:lnTo>
                    <a:lnTo>
                      <a:pt x="267" y="40"/>
                    </a:lnTo>
                    <a:lnTo>
                      <a:pt x="269" y="43"/>
                    </a:lnTo>
                    <a:close/>
                  </a:path>
                </a:pathLst>
              </a:custGeom>
              <a:solidFill>
                <a:srgbClr val="cf98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5954760" y="3159360"/>
                <a:ext cx="162000" cy="93600"/>
              </a:xfrm>
              <a:custGeom>
                <a:avLst/>
                <a:gdLst/>
                <a:ahLst/>
                <a:rect l="l" t="t" r="r" b="b"/>
                <a:pathLst>
                  <a:path w="512" h="292">
                    <a:moveTo>
                      <a:pt x="259" y="58"/>
                    </a:moveTo>
                    <a:lnTo>
                      <a:pt x="262" y="60"/>
                    </a:lnTo>
                    <a:lnTo>
                      <a:pt x="264" y="62"/>
                    </a:lnTo>
                    <a:lnTo>
                      <a:pt x="268" y="64"/>
                    </a:lnTo>
                    <a:lnTo>
                      <a:pt x="272" y="67"/>
                    </a:lnTo>
                    <a:lnTo>
                      <a:pt x="284" y="69"/>
                    </a:lnTo>
                    <a:lnTo>
                      <a:pt x="298" y="71"/>
                    </a:lnTo>
                    <a:lnTo>
                      <a:pt x="317" y="72"/>
                    </a:lnTo>
                    <a:lnTo>
                      <a:pt x="336" y="72"/>
                    </a:lnTo>
                    <a:lnTo>
                      <a:pt x="357" y="71"/>
                    </a:lnTo>
                    <a:lnTo>
                      <a:pt x="378" y="70"/>
                    </a:lnTo>
                    <a:lnTo>
                      <a:pt x="385" y="68"/>
                    </a:lnTo>
                    <a:lnTo>
                      <a:pt x="390" y="67"/>
                    </a:lnTo>
                    <a:lnTo>
                      <a:pt x="396" y="65"/>
                    </a:lnTo>
                    <a:lnTo>
                      <a:pt x="401" y="64"/>
                    </a:lnTo>
                    <a:lnTo>
                      <a:pt x="406" y="64"/>
                    </a:lnTo>
                    <a:lnTo>
                      <a:pt x="411" y="64"/>
                    </a:lnTo>
                    <a:lnTo>
                      <a:pt x="415" y="64"/>
                    </a:lnTo>
                    <a:lnTo>
                      <a:pt x="418" y="64"/>
                    </a:lnTo>
                    <a:lnTo>
                      <a:pt x="433" y="64"/>
                    </a:lnTo>
                    <a:lnTo>
                      <a:pt x="447" y="62"/>
                    </a:lnTo>
                    <a:lnTo>
                      <a:pt x="462" y="60"/>
                    </a:lnTo>
                    <a:lnTo>
                      <a:pt x="475" y="58"/>
                    </a:lnTo>
                    <a:lnTo>
                      <a:pt x="487" y="56"/>
                    </a:lnTo>
                    <a:lnTo>
                      <a:pt x="498" y="54"/>
                    </a:lnTo>
                    <a:lnTo>
                      <a:pt x="506" y="52"/>
                    </a:lnTo>
                    <a:lnTo>
                      <a:pt x="512" y="52"/>
                    </a:lnTo>
                    <a:lnTo>
                      <a:pt x="495" y="62"/>
                    </a:lnTo>
                    <a:lnTo>
                      <a:pt x="450" y="87"/>
                    </a:lnTo>
                    <a:lnTo>
                      <a:pt x="385" y="122"/>
                    </a:lnTo>
                    <a:lnTo>
                      <a:pt x="310" y="163"/>
                    </a:lnTo>
                    <a:lnTo>
                      <a:pt x="236" y="203"/>
                    </a:lnTo>
                    <a:lnTo>
                      <a:pt x="171" y="238"/>
                    </a:lnTo>
                    <a:lnTo>
                      <a:pt x="124" y="263"/>
                    </a:lnTo>
                    <a:lnTo>
                      <a:pt x="107" y="273"/>
                    </a:lnTo>
                    <a:lnTo>
                      <a:pt x="0" y="292"/>
                    </a:lnTo>
                    <a:lnTo>
                      <a:pt x="0" y="287"/>
                    </a:lnTo>
                    <a:lnTo>
                      <a:pt x="1" y="271"/>
                    </a:lnTo>
                    <a:lnTo>
                      <a:pt x="2" y="247"/>
                    </a:lnTo>
                    <a:lnTo>
                      <a:pt x="3" y="219"/>
                    </a:lnTo>
                    <a:lnTo>
                      <a:pt x="7" y="189"/>
                    </a:lnTo>
                    <a:lnTo>
                      <a:pt x="10" y="157"/>
                    </a:lnTo>
                    <a:lnTo>
                      <a:pt x="12" y="143"/>
                    </a:lnTo>
                    <a:lnTo>
                      <a:pt x="14" y="130"/>
                    </a:lnTo>
                    <a:lnTo>
                      <a:pt x="17" y="117"/>
                    </a:lnTo>
                    <a:lnTo>
                      <a:pt x="20" y="106"/>
                    </a:lnTo>
                    <a:lnTo>
                      <a:pt x="26" y="92"/>
                    </a:lnTo>
                    <a:lnTo>
                      <a:pt x="35" y="81"/>
                    </a:lnTo>
                    <a:lnTo>
                      <a:pt x="43" y="69"/>
                    </a:lnTo>
                    <a:lnTo>
                      <a:pt x="53" y="59"/>
                    </a:lnTo>
                    <a:lnTo>
                      <a:pt x="63" y="50"/>
                    </a:lnTo>
                    <a:lnTo>
                      <a:pt x="71" y="44"/>
                    </a:lnTo>
                    <a:lnTo>
                      <a:pt x="79" y="38"/>
                    </a:lnTo>
                    <a:lnTo>
                      <a:pt x="84" y="35"/>
                    </a:lnTo>
                    <a:lnTo>
                      <a:pt x="89" y="31"/>
                    </a:lnTo>
                    <a:lnTo>
                      <a:pt x="96" y="25"/>
                    </a:lnTo>
                    <a:lnTo>
                      <a:pt x="106" y="19"/>
                    </a:lnTo>
                    <a:lnTo>
                      <a:pt x="116" y="13"/>
                    </a:lnTo>
                    <a:lnTo>
                      <a:pt x="127" y="6"/>
                    </a:lnTo>
                    <a:lnTo>
                      <a:pt x="134" y="2"/>
                    </a:lnTo>
                    <a:lnTo>
                      <a:pt x="138" y="0"/>
                    </a:lnTo>
                    <a:lnTo>
                      <a:pt x="138" y="1"/>
                    </a:lnTo>
                    <a:lnTo>
                      <a:pt x="123" y="13"/>
                    </a:lnTo>
                    <a:lnTo>
                      <a:pt x="110" y="23"/>
                    </a:lnTo>
                    <a:lnTo>
                      <a:pt x="101" y="34"/>
                    </a:lnTo>
                    <a:lnTo>
                      <a:pt x="94" y="43"/>
                    </a:lnTo>
                    <a:lnTo>
                      <a:pt x="92" y="47"/>
                    </a:lnTo>
                    <a:lnTo>
                      <a:pt x="91" y="51"/>
                    </a:lnTo>
                    <a:lnTo>
                      <a:pt x="90" y="55"/>
                    </a:lnTo>
                    <a:lnTo>
                      <a:pt x="91" y="58"/>
                    </a:lnTo>
                    <a:lnTo>
                      <a:pt x="92" y="61"/>
                    </a:lnTo>
                    <a:lnTo>
                      <a:pt x="94" y="63"/>
                    </a:lnTo>
                    <a:lnTo>
                      <a:pt x="97" y="65"/>
                    </a:lnTo>
                    <a:lnTo>
                      <a:pt x="102" y="68"/>
                    </a:lnTo>
                    <a:lnTo>
                      <a:pt x="110" y="70"/>
                    </a:lnTo>
                    <a:lnTo>
                      <a:pt x="120" y="72"/>
                    </a:lnTo>
                    <a:lnTo>
                      <a:pt x="131" y="72"/>
                    </a:lnTo>
                    <a:lnTo>
                      <a:pt x="143" y="72"/>
                    </a:lnTo>
                    <a:lnTo>
                      <a:pt x="169" y="70"/>
                    </a:lnTo>
                    <a:lnTo>
                      <a:pt x="195" y="67"/>
                    </a:lnTo>
                    <a:lnTo>
                      <a:pt x="219" y="62"/>
                    </a:lnTo>
                    <a:lnTo>
                      <a:pt x="240" y="58"/>
                    </a:lnTo>
                    <a:lnTo>
                      <a:pt x="248" y="57"/>
                    </a:lnTo>
                    <a:lnTo>
                      <a:pt x="254" y="57"/>
                    </a:lnTo>
                    <a:lnTo>
                      <a:pt x="258" y="57"/>
                    </a:lnTo>
                    <a:lnTo>
                      <a:pt x="259" y="58"/>
                    </a:lnTo>
                    <a:close/>
                  </a:path>
                </a:pathLst>
              </a:custGeom>
              <a:solidFill>
                <a:srgbClr val="cd97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5951520" y="3159360"/>
                <a:ext cx="163440" cy="104760"/>
              </a:xfrm>
              <a:custGeom>
                <a:avLst/>
                <a:gdLst/>
                <a:ahLst/>
                <a:rect l="l" t="t" r="r" b="b"/>
                <a:pathLst>
                  <a:path w="515" h="328">
                    <a:moveTo>
                      <a:pt x="423" y="78"/>
                    </a:moveTo>
                    <a:lnTo>
                      <a:pt x="441" y="76"/>
                    </a:lnTo>
                    <a:lnTo>
                      <a:pt x="458" y="73"/>
                    </a:lnTo>
                    <a:lnTo>
                      <a:pt x="474" y="70"/>
                    </a:lnTo>
                    <a:lnTo>
                      <a:pt x="488" y="66"/>
                    </a:lnTo>
                    <a:lnTo>
                      <a:pt x="498" y="62"/>
                    </a:lnTo>
                    <a:lnTo>
                      <a:pt x="507" y="59"/>
                    </a:lnTo>
                    <a:lnTo>
                      <a:pt x="512" y="57"/>
                    </a:lnTo>
                    <a:lnTo>
                      <a:pt x="515" y="57"/>
                    </a:lnTo>
                    <a:lnTo>
                      <a:pt x="58" y="328"/>
                    </a:lnTo>
                    <a:lnTo>
                      <a:pt x="0" y="286"/>
                    </a:lnTo>
                    <a:lnTo>
                      <a:pt x="0" y="279"/>
                    </a:lnTo>
                    <a:lnTo>
                      <a:pt x="1" y="260"/>
                    </a:lnTo>
                    <a:lnTo>
                      <a:pt x="3" y="232"/>
                    </a:lnTo>
                    <a:lnTo>
                      <a:pt x="6" y="198"/>
                    </a:lnTo>
                    <a:lnTo>
                      <a:pt x="8" y="180"/>
                    </a:lnTo>
                    <a:lnTo>
                      <a:pt x="11" y="162"/>
                    </a:lnTo>
                    <a:lnTo>
                      <a:pt x="14" y="144"/>
                    </a:lnTo>
                    <a:lnTo>
                      <a:pt x="19" y="127"/>
                    </a:lnTo>
                    <a:lnTo>
                      <a:pt x="24" y="111"/>
                    </a:lnTo>
                    <a:lnTo>
                      <a:pt x="31" y="96"/>
                    </a:lnTo>
                    <a:lnTo>
                      <a:pt x="37" y="82"/>
                    </a:lnTo>
                    <a:lnTo>
                      <a:pt x="45" y="71"/>
                    </a:lnTo>
                    <a:lnTo>
                      <a:pt x="57" y="59"/>
                    </a:lnTo>
                    <a:lnTo>
                      <a:pt x="66" y="49"/>
                    </a:lnTo>
                    <a:lnTo>
                      <a:pt x="75" y="42"/>
                    </a:lnTo>
                    <a:lnTo>
                      <a:pt x="83" y="36"/>
                    </a:lnTo>
                    <a:lnTo>
                      <a:pt x="89" y="32"/>
                    </a:lnTo>
                    <a:lnTo>
                      <a:pt x="94" y="30"/>
                    </a:lnTo>
                    <a:lnTo>
                      <a:pt x="99" y="28"/>
                    </a:lnTo>
                    <a:lnTo>
                      <a:pt x="102" y="27"/>
                    </a:lnTo>
                    <a:lnTo>
                      <a:pt x="104" y="26"/>
                    </a:lnTo>
                    <a:lnTo>
                      <a:pt x="111" y="21"/>
                    </a:lnTo>
                    <a:lnTo>
                      <a:pt x="119" y="16"/>
                    </a:lnTo>
                    <a:lnTo>
                      <a:pt x="129" y="9"/>
                    </a:lnTo>
                    <a:lnTo>
                      <a:pt x="138" y="4"/>
                    </a:lnTo>
                    <a:lnTo>
                      <a:pt x="144" y="1"/>
                    </a:lnTo>
                    <a:lnTo>
                      <a:pt x="146" y="0"/>
                    </a:lnTo>
                    <a:lnTo>
                      <a:pt x="147" y="0"/>
                    </a:lnTo>
                    <a:lnTo>
                      <a:pt x="146" y="1"/>
                    </a:lnTo>
                    <a:lnTo>
                      <a:pt x="144" y="2"/>
                    </a:lnTo>
                    <a:lnTo>
                      <a:pt x="130" y="13"/>
                    </a:lnTo>
                    <a:lnTo>
                      <a:pt x="118" y="22"/>
                    </a:lnTo>
                    <a:lnTo>
                      <a:pt x="110" y="32"/>
                    </a:lnTo>
                    <a:lnTo>
                      <a:pt x="102" y="40"/>
                    </a:lnTo>
                    <a:lnTo>
                      <a:pt x="98" y="47"/>
                    </a:lnTo>
                    <a:lnTo>
                      <a:pt x="94" y="53"/>
                    </a:lnTo>
                    <a:lnTo>
                      <a:pt x="93" y="59"/>
                    </a:lnTo>
                    <a:lnTo>
                      <a:pt x="93" y="63"/>
                    </a:lnTo>
                    <a:lnTo>
                      <a:pt x="95" y="68"/>
                    </a:lnTo>
                    <a:lnTo>
                      <a:pt x="99" y="71"/>
                    </a:lnTo>
                    <a:lnTo>
                      <a:pt x="103" y="74"/>
                    </a:lnTo>
                    <a:lnTo>
                      <a:pt x="108" y="76"/>
                    </a:lnTo>
                    <a:lnTo>
                      <a:pt x="122" y="80"/>
                    </a:lnTo>
                    <a:lnTo>
                      <a:pt x="140" y="81"/>
                    </a:lnTo>
                    <a:lnTo>
                      <a:pt x="159" y="81"/>
                    </a:lnTo>
                    <a:lnTo>
                      <a:pt x="180" y="81"/>
                    </a:lnTo>
                    <a:lnTo>
                      <a:pt x="199" y="80"/>
                    </a:lnTo>
                    <a:lnTo>
                      <a:pt x="219" y="77"/>
                    </a:lnTo>
                    <a:lnTo>
                      <a:pt x="235" y="76"/>
                    </a:lnTo>
                    <a:lnTo>
                      <a:pt x="249" y="75"/>
                    </a:lnTo>
                    <a:lnTo>
                      <a:pt x="259" y="75"/>
                    </a:lnTo>
                    <a:lnTo>
                      <a:pt x="263" y="76"/>
                    </a:lnTo>
                    <a:lnTo>
                      <a:pt x="264" y="78"/>
                    </a:lnTo>
                    <a:lnTo>
                      <a:pt x="267" y="80"/>
                    </a:lnTo>
                    <a:lnTo>
                      <a:pt x="272" y="82"/>
                    </a:lnTo>
                    <a:lnTo>
                      <a:pt x="276" y="82"/>
                    </a:lnTo>
                    <a:lnTo>
                      <a:pt x="290" y="83"/>
                    </a:lnTo>
                    <a:lnTo>
                      <a:pt x="306" y="83"/>
                    </a:lnTo>
                    <a:lnTo>
                      <a:pt x="327" y="83"/>
                    </a:lnTo>
                    <a:lnTo>
                      <a:pt x="347" y="82"/>
                    </a:lnTo>
                    <a:lnTo>
                      <a:pt x="370" y="82"/>
                    </a:lnTo>
                    <a:lnTo>
                      <a:pt x="394" y="81"/>
                    </a:lnTo>
                    <a:lnTo>
                      <a:pt x="397" y="81"/>
                    </a:lnTo>
                    <a:lnTo>
                      <a:pt x="401" y="81"/>
                    </a:lnTo>
                    <a:lnTo>
                      <a:pt x="404" y="81"/>
                    </a:lnTo>
                    <a:lnTo>
                      <a:pt x="409" y="81"/>
                    </a:lnTo>
                    <a:lnTo>
                      <a:pt x="412" y="81"/>
                    </a:lnTo>
                    <a:lnTo>
                      <a:pt x="415" y="81"/>
                    </a:lnTo>
                    <a:lnTo>
                      <a:pt x="420" y="80"/>
                    </a:lnTo>
                    <a:lnTo>
                      <a:pt x="423" y="78"/>
                    </a:lnTo>
                    <a:close/>
                  </a:path>
                </a:pathLst>
              </a:custGeom>
              <a:solidFill>
                <a:srgbClr val="c892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5364000" y="2805120"/>
                <a:ext cx="163800" cy="712800"/>
              </a:xfrm>
              <a:custGeom>
                <a:avLst/>
                <a:gdLst/>
                <a:ahLst/>
                <a:rect l="l" t="t" r="r" b="b"/>
                <a:pathLst>
                  <a:path w="515" h="2247">
                    <a:moveTo>
                      <a:pt x="177" y="0"/>
                    </a:moveTo>
                    <a:lnTo>
                      <a:pt x="175" y="15"/>
                    </a:lnTo>
                    <a:lnTo>
                      <a:pt x="171" y="54"/>
                    </a:lnTo>
                    <a:lnTo>
                      <a:pt x="164" y="111"/>
                    </a:lnTo>
                    <a:lnTo>
                      <a:pt x="156" y="179"/>
                    </a:lnTo>
                    <a:lnTo>
                      <a:pt x="146" y="253"/>
                    </a:lnTo>
                    <a:lnTo>
                      <a:pt x="134" y="324"/>
                    </a:lnTo>
                    <a:lnTo>
                      <a:pt x="129" y="356"/>
                    </a:lnTo>
                    <a:lnTo>
                      <a:pt x="122" y="385"/>
                    </a:lnTo>
                    <a:lnTo>
                      <a:pt x="117" y="411"/>
                    </a:lnTo>
                    <a:lnTo>
                      <a:pt x="110" y="433"/>
                    </a:lnTo>
                    <a:lnTo>
                      <a:pt x="97" y="470"/>
                    </a:lnTo>
                    <a:lnTo>
                      <a:pt x="86" y="503"/>
                    </a:lnTo>
                    <a:lnTo>
                      <a:pt x="76" y="533"/>
                    </a:lnTo>
                    <a:lnTo>
                      <a:pt x="65" y="560"/>
                    </a:lnTo>
                    <a:lnTo>
                      <a:pt x="54" y="585"/>
                    </a:lnTo>
                    <a:lnTo>
                      <a:pt x="44" y="608"/>
                    </a:lnTo>
                    <a:lnTo>
                      <a:pt x="32" y="627"/>
                    </a:lnTo>
                    <a:lnTo>
                      <a:pt x="22" y="646"/>
                    </a:lnTo>
                    <a:lnTo>
                      <a:pt x="15" y="654"/>
                    </a:lnTo>
                    <a:lnTo>
                      <a:pt x="11" y="665"/>
                    </a:lnTo>
                    <a:lnTo>
                      <a:pt x="7" y="678"/>
                    </a:lnTo>
                    <a:lnTo>
                      <a:pt x="3" y="691"/>
                    </a:lnTo>
                    <a:lnTo>
                      <a:pt x="1" y="705"/>
                    </a:lnTo>
                    <a:lnTo>
                      <a:pt x="0" y="720"/>
                    </a:lnTo>
                    <a:lnTo>
                      <a:pt x="0" y="735"/>
                    </a:lnTo>
                    <a:lnTo>
                      <a:pt x="0" y="750"/>
                    </a:lnTo>
                    <a:lnTo>
                      <a:pt x="1" y="766"/>
                    </a:lnTo>
                    <a:lnTo>
                      <a:pt x="2" y="782"/>
                    </a:lnTo>
                    <a:lnTo>
                      <a:pt x="4" y="796"/>
                    </a:lnTo>
                    <a:lnTo>
                      <a:pt x="7" y="810"/>
                    </a:lnTo>
                    <a:lnTo>
                      <a:pt x="10" y="824"/>
                    </a:lnTo>
                    <a:lnTo>
                      <a:pt x="13" y="836"/>
                    </a:lnTo>
                    <a:lnTo>
                      <a:pt x="17" y="847"/>
                    </a:lnTo>
                    <a:lnTo>
                      <a:pt x="22" y="855"/>
                    </a:lnTo>
                    <a:lnTo>
                      <a:pt x="26" y="868"/>
                    </a:lnTo>
                    <a:lnTo>
                      <a:pt x="32" y="887"/>
                    </a:lnTo>
                    <a:lnTo>
                      <a:pt x="41" y="912"/>
                    </a:lnTo>
                    <a:lnTo>
                      <a:pt x="50" y="943"/>
                    </a:lnTo>
                    <a:lnTo>
                      <a:pt x="70" y="1018"/>
                    </a:lnTo>
                    <a:lnTo>
                      <a:pt x="92" y="1106"/>
                    </a:lnTo>
                    <a:lnTo>
                      <a:pt x="103" y="1152"/>
                    </a:lnTo>
                    <a:lnTo>
                      <a:pt x="113" y="1200"/>
                    </a:lnTo>
                    <a:lnTo>
                      <a:pt x="123" y="1247"/>
                    </a:lnTo>
                    <a:lnTo>
                      <a:pt x="132" y="1294"/>
                    </a:lnTo>
                    <a:lnTo>
                      <a:pt x="139" y="1339"/>
                    </a:lnTo>
                    <a:lnTo>
                      <a:pt x="146" y="1381"/>
                    </a:lnTo>
                    <a:lnTo>
                      <a:pt x="151" y="1421"/>
                    </a:lnTo>
                    <a:lnTo>
                      <a:pt x="155" y="1457"/>
                    </a:lnTo>
                    <a:lnTo>
                      <a:pt x="158" y="1532"/>
                    </a:lnTo>
                    <a:lnTo>
                      <a:pt x="162" y="1624"/>
                    </a:lnTo>
                    <a:lnTo>
                      <a:pt x="165" y="1674"/>
                    </a:lnTo>
                    <a:lnTo>
                      <a:pt x="169" y="1726"/>
                    </a:lnTo>
                    <a:lnTo>
                      <a:pt x="173" y="1779"/>
                    </a:lnTo>
                    <a:lnTo>
                      <a:pt x="179" y="1832"/>
                    </a:lnTo>
                    <a:lnTo>
                      <a:pt x="186" y="1884"/>
                    </a:lnTo>
                    <a:lnTo>
                      <a:pt x="195" y="1936"/>
                    </a:lnTo>
                    <a:lnTo>
                      <a:pt x="199" y="1962"/>
                    </a:lnTo>
                    <a:lnTo>
                      <a:pt x="204" y="1987"/>
                    </a:lnTo>
                    <a:lnTo>
                      <a:pt x="211" y="2011"/>
                    </a:lnTo>
                    <a:lnTo>
                      <a:pt x="217" y="2035"/>
                    </a:lnTo>
                    <a:lnTo>
                      <a:pt x="224" y="2058"/>
                    </a:lnTo>
                    <a:lnTo>
                      <a:pt x="231" y="2080"/>
                    </a:lnTo>
                    <a:lnTo>
                      <a:pt x="239" y="2102"/>
                    </a:lnTo>
                    <a:lnTo>
                      <a:pt x="247" y="2121"/>
                    </a:lnTo>
                    <a:lnTo>
                      <a:pt x="257" y="2140"/>
                    </a:lnTo>
                    <a:lnTo>
                      <a:pt x="267" y="2159"/>
                    </a:lnTo>
                    <a:lnTo>
                      <a:pt x="277" y="2175"/>
                    </a:lnTo>
                    <a:lnTo>
                      <a:pt x="288" y="2190"/>
                    </a:lnTo>
                    <a:lnTo>
                      <a:pt x="298" y="2191"/>
                    </a:lnTo>
                    <a:lnTo>
                      <a:pt x="324" y="2195"/>
                    </a:lnTo>
                    <a:lnTo>
                      <a:pt x="360" y="2201"/>
                    </a:lnTo>
                    <a:lnTo>
                      <a:pt x="402" y="2208"/>
                    </a:lnTo>
                    <a:lnTo>
                      <a:pt x="444" y="2217"/>
                    </a:lnTo>
                    <a:lnTo>
                      <a:pt x="480" y="2227"/>
                    </a:lnTo>
                    <a:lnTo>
                      <a:pt x="495" y="2232"/>
                    </a:lnTo>
                    <a:lnTo>
                      <a:pt x="506" y="2237"/>
                    </a:lnTo>
                    <a:lnTo>
                      <a:pt x="510" y="2240"/>
                    </a:lnTo>
                    <a:lnTo>
                      <a:pt x="513" y="2242"/>
                    </a:lnTo>
                    <a:lnTo>
                      <a:pt x="515" y="2245"/>
                    </a:lnTo>
                    <a:lnTo>
                      <a:pt x="515" y="2247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5484960" y="3200400"/>
                <a:ext cx="536400" cy="354240"/>
              </a:xfrm>
              <a:custGeom>
                <a:avLst/>
                <a:gdLst/>
                <a:ahLst/>
                <a:rect l="l" t="t" r="r" b="b"/>
                <a:pathLst>
                  <a:path w="1689" h="1117">
                    <a:moveTo>
                      <a:pt x="1689" y="0"/>
                    </a:moveTo>
                    <a:lnTo>
                      <a:pt x="1677" y="7"/>
                    </a:lnTo>
                    <a:lnTo>
                      <a:pt x="1647" y="23"/>
                    </a:lnTo>
                    <a:lnTo>
                      <a:pt x="1601" y="47"/>
                    </a:lnTo>
                    <a:lnTo>
                      <a:pt x="1547" y="74"/>
                    </a:lnTo>
                    <a:lnTo>
                      <a:pt x="1490" y="102"/>
                    </a:lnTo>
                    <a:lnTo>
                      <a:pt x="1434" y="127"/>
                    </a:lnTo>
                    <a:lnTo>
                      <a:pt x="1408" y="137"/>
                    </a:lnTo>
                    <a:lnTo>
                      <a:pt x="1384" y="146"/>
                    </a:lnTo>
                    <a:lnTo>
                      <a:pt x="1364" y="152"/>
                    </a:lnTo>
                    <a:lnTo>
                      <a:pt x="1347" y="156"/>
                    </a:lnTo>
                    <a:lnTo>
                      <a:pt x="1319" y="160"/>
                    </a:lnTo>
                    <a:lnTo>
                      <a:pt x="1294" y="165"/>
                    </a:lnTo>
                    <a:lnTo>
                      <a:pt x="1272" y="171"/>
                    </a:lnTo>
                    <a:lnTo>
                      <a:pt x="1251" y="175"/>
                    </a:lnTo>
                    <a:lnTo>
                      <a:pt x="1236" y="181"/>
                    </a:lnTo>
                    <a:lnTo>
                      <a:pt x="1224" y="185"/>
                    </a:lnTo>
                    <a:lnTo>
                      <a:pt x="1217" y="187"/>
                    </a:lnTo>
                    <a:lnTo>
                      <a:pt x="1213" y="188"/>
                    </a:lnTo>
                    <a:lnTo>
                      <a:pt x="1213" y="189"/>
                    </a:lnTo>
                    <a:lnTo>
                      <a:pt x="1212" y="190"/>
                    </a:lnTo>
                    <a:lnTo>
                      <a:pt x="1210" y="193"/>
                    </a:lnTo>
                    <a:lnTo>
                      <a:pt x="1206" y="197"/>
                    </a:lnTo>
                    <a:lnTo>
                      <a:pt x="1199" y="201"/>
                    </a:lnTo>
                    <a:lnTo>
                      <a:pt x="1191" y="204"/>
                    </a:lnTo>
                    <a:lnTo>
                      <a:pt x="1179" y="208"/>
                    </a:lnTo>
                    <a:lnTo>
                      <a:pt x="1164" y="211"/>
                    </a:lnTo>
                    <a:lnTo>
                      <a:pt x="1146" y="214"/>
                    </a:lnTo>
                    <a:lnTo>
                      <a:pt x="1129" y="220"/>
                    </a:lnTo>
                    <a:lnTo>
                      <a:pt x="1113" y="228"/>
                    </a:lnTo>
                    <a:lnTo>
                      <a:pt x="1098" y="237"/>
                    </a:lnTo>
                    <a:lnTo>
                      <a:pt x="1092" y="241"/>
                    </a:lnTo>
                    <a:lnTo>
                      <a:pt x="1087" y="245"/>
                    </a:lnTo>
                    <a:lnTo>
                      <a:pt x="1083" y="250"/>
                    </a:lnTo>
                    <a:lnTo>
                      <a:pt x="1081" y="254"/>
                    </a:lnTo>
                    <a:lnTo>
                      <a:pt x="1080" y="258"/>
                    </a:lnTo>
                    <a:lnTo>
                      <a:pt x="1081" y="262"/>
                    </a:lnTo>
                    <a:lnTo>
                      <a:pt x="1083" y="265"/>
                    </a:lnTo>
                    <a:lnTo>
                      <a:pt x="1088" y="267"/>
                    </a:lnTo>
                    <a:lnTo>
                      <a:pt x="1084" y="267"/>
                    </a:lnTo>
                    <a:lnTo>
                      <a:pt x="1074" y="268"/>
                    </a:lnTo>
                    <a:lnTo>
                      <a:pt x="1059" y="269"/>
                    </a:lnTo>
                    <a:lnTo>
                      <a:pt x="1038" y="272"/>
                    </a:lnTo>
                    <a:lnTo>
                      <a:pt x="1015" y="278"/>
                    </a:lnTo>
                    <a:lnTo>
                      <a:pt x="989" y="286"/>
                    </a:lnTo>
                    <a:lnTo>
                      <a:pt x="975" y="291"/>
                    </a:lnTo>
                    <a:lnTo>
                      <a:pt x="961" y="297"/>
                    </a:lnTo>
                    <a:lnTo>
                      <a:pt x="947" y="304"/>
                    </a:lnTo>
                    <a:lnTo>
                      <a:pt x="932" y="311"/>
                    </a:lnTo>
                    <a:lnTo>
                      <a:pt x="917" y="320"/>
                    </a:lnTo>
                    <a:lnTo>
                      <a:pt x="906" y="328"/>
                    </a:lnTo>
                    <a:lnTo>
                      <a:pt x="895" y="337"/>
                    </a:lnTo>
                    <a:lnTo>
                      <a:pt x="885" y="346"/>
                    </a:lnTo>
                    <a:lnTo>
                      <a:pt x="869" y="363"/>
                    </a:lnTo>
                    <a:lnTo>
                      <a:pt x="855" y="379"/>
                    </a:lnTo>
                    <a:lnTo>
                      <a:pt x="841" y="395"/>
                    </a:lnTo>
                    <a:lnTo>
                      <a:pt x="826" y="412"/>
                    </a:lnTo>
                    <a:lnTo>
                      <a:pt x="817" y="419"/>
                    </a:lnTo>
                    <a:lnTo>
                      <a:pt x="808" y="427"/>
                    </a:lnTo>
                    <a:lnTo>
                      <a:pt x="798" y="433"/>
                    </a:lnTo>
                    <a:lnTo>
                      <a:pt x="786" y="440"/>
                    </a:lnTo>
                    <a:lnTo>
                      <a:pt x="771" y="448"/>
                    </a:lnTo>
                    <a:lnTo>
                      <a:pt x="751" y="462"/>
                    </a:lnTo>
                    <a:lnTo>
                      <a:pt x="727" y="479"/>
                    </a:lnTo>
                    <a:lnTo>
                      <a:pt x="700" y="499"/>
                    </a:lnTo>
                    <a:lnTo>
                      <a:pt x="639" y="549"/>
                    </a:lnTo>
                    <a:lnTo>
                      <a:pt x="573" y="603"/>
                    </a:lnTo>
                    <a:lnTo>
                      <a:pt x="507" y="658"/>
                    </a:lnTo>
                    <a:lnTo>
                      <a:pt x="446" y="710"/>
                    </a:lnTo>
                    <a:lnTo>
                      <a:pt x="397" y="752"/>
                    </a:lnTo>
                    <a:lnTo>
                      <a:pt x="363" y="779"/>
                    </a:lnTo>
                    <a:lnTo>
                      <a:pt x="334" y="804"/>
                    </a:lnTo>
                    <a:lnTo>
                      <a:pt x="296" y="840"/>
                    </a:lnTo>
                    <a:lnTo>
                      <a:pt x="253" y="884"/>
                    </a:lnTo>
                    <a:lnTo>
                      <a:pt x="204" y="930"/>
                    </a:lnTo>
                    <a:lnTo>
                      <a:pt x="156" y="975"/>
                    </a:lnTo>
                    <a:lnTo>
                      <a:pt x="108" y="1018"/>
                    </a:lnTo>
                    <a:lnTo>
                      <a:pt x="86" y="1035"/>
                    </a:lnTo>
                    <a:lnTo>
                      <a:pt x="65" y="1051"/>
                    </a:lnTo>
                    <a:lnTo>
                      <a:pt x="47" y="1064"/>
                    </a:lnTo>
                    <a:lnTo>
                      <a:pt x="29" y="1073"/>
                    </a:lnTo>
                    <a:lnTo>
                      <a:pt x="17" y="1080"/>
                    </a:lnTo>
                    <a:lnTo>
                      <a:pt x="7" y="1087"/>
                    </a:lnTo>
                    <a:lnTo>
                      <a:pt x="4" y="1089"/>
                    </a:lnTo>
                    <a:lnTo>
                      <a:pt x="1" y="1092"/>
                    </a:lnTo>
                    <a:lnTo>
                      <a:pt x="0" y="1094"/>
                    </a:lnTo>
                    <a:lnTo>
                      <a:pt x="0" y="1096"/>
                    </a:lnTo>
                    <a:lnTo>
                      <a:pt x="0" y="1099"/>
                    </a:lnTo>
                    <a:lnTo>
                      <a:pt x="1" y="1101"/>
                    </a:lnTo>
                    <a:lnTo>
                      <a:pt x="2" y="1103"/>
                    </a:lnTo>
                    <a:lnTo>
                      <a:pt x="5" y="1104"/>
                    </a:lnTo>
                    <a:lnTo>
                      <a:pt x="11" y="1107"/>
                    </a:lnTo>
                    <a:lnTo>
                      <a:pt x="18" y="1110"/>
                    </a:lnTo>
                    <a:lnTo>
                      <a:pt x="34" y="1114"/>
                    </a:lnTo>
                    <a:lnTo>
                      <a:pt x="51" y="1116"/>
                    </a:lnTo>
                    <a:lnTo>
                      <a:pt x="64" y="1117"/>
                    </a:lnTo>
                    <a:lnTo>
                      <a:pt x="69" y="1117"/>
                    </a:lnTo>
                    <a:lnTo>
                      <a:pt x="536" y="922"/>
                    </a:lnTo>
                    <a:lnTo>
                      <a:pt x="1426" y="432"/>
                    </a:lnTo>
                    <a:lnTo>
                      <a:pt x="1689" y="0"/>
                    </a:lnTo>
                    <a:close/>
                  </a:path>
                </a:pathLst>
              </a:custGeom>
              <a:solidFill>
                <a:srgbClr val="9dca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5484960" y="3392640"/>
                <a:ext cx="260280" cy="162000"/>
              </a:xfrm>
              <a:custGeom>
                <a:avLst/>
                <a:gdLst/>
                <a:ahLst/>
                <a:rect l="l" t="t" r="r" b="b"/>
                <a:pathLst>
                  <a:path w="820" h="511">
                    <a:moveTo>
                      <a:pt x="820" y="160"/>
                    </a:moveTo>
                    <a:lnTo>
                      <a:pt x="536" y="316"/>
                    </a:lnTo>
                    <a:lnTo>
                      <a:pt x="69" y="511"/>
                    </a:lnTo>
                    <a:lnTo>
                      <a:pt x="64" y="511"/>
                    </a:lnTo>
                    <a:lnTo>
                      <a:pt x="51" y="510"/>
                    </a:lnTo>
                    <a:lnTo>
                      <a:pt x="34" y="508"/>
                    </a:lnTo>
                    <a:lnTo>
                      <a:pt x="18" y="504"/>
                    </a:lnTo>
                    <a:lnTo>
                      <a:pt x="11" y="501"/>
                    </a:lnTo>
                    <a:lnTo>
                      <a:pt x="5" y="498"/>
                    </a:lnTo>
                    <a:lnTo>
                      <a:pt x="2" y="497"/>
                    </a:lnTo>
                    <a:lnTo>
                      <a:pt x="1" y="495"/>
                    </a:lnTo>
                    <a:lnTo>
                      <a:pt x="0" y="493"/>
                    </a:lnTo>
                    <a:lnTo>
                      <a:pt x="0" y="490"/>
                    </a:lnTo>
                    <a:lnTo>
                      <a:pt x="0" y="488"/>
                    </a:lnTo>
                    <a:lnTo>
                      <a:pt x="1" y="486"/>
                    </a:lnTo>
                    <a:lnTo>
                      <a:pt x="4" y="483"/>
                    </a:lnTo>
                    <a:lnTo>
                      <a:pt x="7" y="481"/>
                    </a:lnTo>
                    <a:lnTo>
                      <a:pt x="17" y="474"/>
                    </a:lnTo>
                    <a:lnTo>
                      <a:pt x="29" y="467"/>
                    </a:lnTo>
                    <a:lnTo>
                      <a:pt x="47" y="458"/>
                    </a:lnTo>
                    <a:lnTo>
                      <a:pt x="65" y="445"/>
                    </a:lnTo>
                    <a:lnTo>
                      <a:pt x="86" y="429"/>
                    </a:lnTo>
                    <a:lnTo>
                      <a:pt x="108" y="412"/>
                    </a:lnTo>
                    <a:lnTo>
                      <a:pt x="156" y="369"/>
                    </a:lnTo>
                    <a:lnTo>
                      <a:pt x="204" y="324"/>
                    </a:lnTo>
                    <a:lnTo>
                      <a:pt x="253" y="278"/>
                    </a:lnTo>
                    <a:lnTo>
                      <a:pt x="296" y="234"/>
                    </a:lnTo>
                    <a:lnTo>
                      <a:pt x="334" y="198"/>
                    </a:lnTo>
                    <a:lnTo>
                      <a:pt x="363" y="173"/>
                    </a:lnTo>
                    <a:lnTo>
                      <a:pt x="373" y="164"/>
                    </a:lnTo>
                    <a:lnTo>
                      <a:pt x="401" y="142"/>
                    </a:lnTo>
                    <a:lnTo>
                      <a:pt x="421" y="126"/>
                    </a:lnTo>
                    <a:lnTo>
                      <a:pt x="442" y="110"/>
                    </a:lnTo>
                    <a:lnTo>
                      <a:pt x="467" y="93"/>
                    </a:lnTo>
                    <a:lnTo>
                      <a:pt x="493" y="75"/>
                    </a:lnTo>
                    <a:lnTo>
                      <a:pt x="519" y="57"/>
                    </a:lnTo>
                    <a:lnTo>
                      <a:pt x="547" y="41"/>
                    </a:lnTo>
                    <a:lnTo>
                      <a:pt x="574" y="27"/>
                    </a:lnTo>
                    <a:lnTo>
                      <a:pt x="601" y="15"/>
                    </a:lnTo>
                    <a:lnTo>
                      <a:pt x="614" y="11"/>
                    </a:lnTo>
                    <a:lnTo>
                      <a:pt x="627" y="7"/>
                    </a:lnTo>
                    <a:lnTo>
                      <a:pt x="639" y="3"/>
                    </a:lnTo>
                    <a:lnTo>
                      <a:pt x="651" y="1"/>
                    </a:lnTo>
                    <a:lnTo>
                      <a:pt x="663" y="0"/>
                    </a:lnTo>
                    <a:lnTo>
                      <a:pt x="673" y="0"/>
                    </a:lnTo>
                    <a:lnTo>
                      <a:pt x="683" y="2"/>
                    </a:lnTo>
                    <a:lnTo>
                      <a:pt x="692" y="4"/>
                    </a:lnTo>
                    <a:lnTo>
                      <a:pt x="709" y="13"/>
                    </a:lnTo>
                    <a:lnTo>
                      <a:pt x="724" y="23"/>
                    </a:lnTo>
                    <a:lnTo>
                      <a:pt x="739" y="34"/>
                    </a:lnTo>
                    <a:lnTo>
                      <a:pt x="752" y="45"/>
                    </a:lnTo>
                    <a:lnTo>
                      <a:pt x="763" y="58"/>
                    </a:lnTo>
                    <a:lnTo>
                      <a:pt x="774" y="71"/>
                    </a:lnTo>
                    <a:lnTo>
                      <a:pt x="784" y="84"/>
                    </a:lnTo>
                    <a:lnTo>
                      <a:pt x="791" y="97"/>
                    </a:lnTo>
                    <a:lnTo>
                      <a:pt x="805" y="122"/>
                    </a:lnTo>
                    <a:lnTo>
                      <a:pt x="814" y="142"/>
                    </a:lnTo>
                    <a:lnTo>
                      <a:pt x="819" y="156"/>
                    </a:lnTo>
                    <a:lnTo>
                      <a:pt x="820" y="160"/>
                    </a:lnTo>
                    <a:close/>
                  </a:path>
                </a:pathLst>
              </a:custGeom>
              <a:solidFill>
                <a:srgbClr val="9dca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5484960" y="3405240"/>
                <a:ext cx="260280" cy="149400"/>
              </a:xfrm>
              <a:custGeom>
                <a:avLst/>
                <a:gdLst/>
                <a:ahLst/>
                <a:rect l="l" t="t" r="r" b="b"/>
                <a:pathLst>
                  <a:path w="820" h="472">
                    <a:moveTo>
                      <a:pt x="358" y="146"/>
                    </a:moveTo>
                    <a:lnTo>
                      <a:pt x="368" y="138"/>
                    </a:lnTo>
                    <a:lnTo>
                      <a:pt x="392" y="119"/>
                    </a:lnTo>
                    <a:lnTo>
                      <a:pt x="410" y="106"/>
                    </a:lnTo>
                    <a:lnTo>
                      <a:pt x="429" y="91"/>
                    </a:lnTo>
                    <a:lnTo>
                      <a:pt x="452" y="76"/>
                    </a:lnTo>
                    <a:lnTo>
                      <a:pt x="475" y="60"/>
                    </a:lnTo>
                    <a:lnTo>
                      <a:pt x="499" y="46"/>
                    </a:lnTo>
                    <a:lnTo>
                      <a:pt x="525" y="32"/>
                    </a:lnTo>
                    <a:lnTo>
                      <a:pt x="550" y="20"/>
                    </a:lnTo>
                    <a:lnTo>
                      <a:pt x="575" y="11"/>
                    </a:lnTo>
                    <a:lnTo>
                      <a:pt x="587" y="6"/>
                    </a:lnTo>
                    <a:lnTo>
                      <a:pt x="600" y="3"/>
                    </a:lnTo>
                    <a:lnTo>
                      <a:pt x="611" y="1"/>
                    </a:lnTo>
                    <a:lnTo>
                      <a:pt x="623" y="0"/>
                    </a:lnTo>
                    <a:lnTo>
                      <a:pt x="633" y="0"/>
                    </a:lnTo>
                    <a:lnTo>
                      <a:pt x="643" y="0"/>
                    </a:lnTo>
                    <a:lnTo>
                      <a:pt x="653" y="2"/>
                    </a:lnTo>
                    <a:lnTo>
                      <a:pt x="663" y="5"/>
                    </a:lnTo>
                    <a:lnTo>
                      <a:pt x="680" y="13"/>
                    </a:lnTo>
                    <a:lnTo>
                      <a:pt x="696" y="20"/>
                    </a:lnTo>
                    <a:lnTo>
                      <a:pt x="712" y="30"/>
                    </a:lnTo>
                    <a:lnTo>
                      <a:pt x="726" y="39"/>
                    </a:lnTo>
                    <a:lnTo>
                      <a:pt x="753" y="58"/>
                    </a:lnTo>
                    <a:lnTo>
                      <a:pt x="777" y="78"/>
                    </a:lnTo>
                    <a:lnTo>
                      <a:pt x="795" y="94"/>
                    </a:lnTo>
                    <a:lnTo>
                      <a:pt x="809" y="108"/>
                    </a:lnTo>
                    <a:lnTo>
                      <a:pt x="818" y="118"/>
                    </a:lnTo>
                    <a:lnTo>
                      <a:pt x="820" y="121"/>
                    </a:lnTo>
                    <a:lnTo>
                      <a:pt x="536" y="277"/>
                    </a:lnTo>
                    <a:lnTo>
                      <a:pt x="69" y="472"/>
                    </a:lnTo>
                    <a:lnTo>
                      <a:pt x="64" y="472"/>
                    </a:lnTo>
                    <a:lnTo>
                      <a:pt x="51" y="471"/>
                    </a:lnTo>
                    <a:lnTo>
                      <a:pt x="34" y="469"/>
                    </a:lnTo>
                    <a:lnTo>
                      <a:pt x="18" y="465"/>
                    </a:lnTo>
                    <a:lnTo>
                      <a:pt x="11" y="462"/>
                    </a:lnTo>
                    <a:lnTo>
                      <a:pt x="5" y="459"/>
                    </a:lnTo>
                    <a:lnTo>
                      <a:pt x="2" y="458"/>
                    </a:lnTo>
                    <a:lnTo>
                      <a:pt x="1" y="456"/>
                    </a:lnTo>
                    <a:lnTo>
                      <a:pt x="0" y="454"/>
                    </a:lnTo>
                    <a:lnTo>
                      <a:pt x="0" y="451"/>
                    </a:lnTo>
                    <a:lnTo>
                      <a:pt x="0" y="449"/>
                    </a:lnTo>
                    <a:lnTo>
                      <a:pt x="1" y="447"/>
                    </a:lnTo>
                    <a:lnTo>
                      <a:pt x="4" y="444"/>
                    </a:lnTo>
                    <a:lnTo>
                      <a:pt x="7" y="442"/>
                    </a:lnTo>
                    <a:lnTo>
                      <a:pt x="17" y="435"/>
                    </a:lnTo>
                    <a:lnTo>
                      <a:pt x="29" y="428"/>
                    </a:lnTo>
                    <a:lnTo>
                      <a:pt x="47" y="419"/>
                    </a:lnTo>
                    <a:lnTo>
                      <a:pt x="65" y="406"/>
                    </a:lnTo>
                    <a:lnTo>
                      <a:pt x="86" y="392"/>
                    </a:lnTo>
                    <a:lnTo>
                      <a:pt x="108" y="374"/>
                    </a:lnTo>
                    <a:lnTo>
                      <a:pt x="155" y="335"/>
                    </a:lnTo>
                    <a:lnTo>
                      <a:pt x="203" y="290"/>
                    </a:lnTo>
                    <a:lnTo>
                      <a:pt x="250" y="246"/>
                    </a:lnTo>
                    <a:lnTo>
                      <a:pt x="294" y="205"/>
                    </a:lnTo>
                    <a:lnTo>
                      <a:pt x="331" y="171"/>
                    </a:lnTo>
                    <a:lnTo>
                      <a:pt x="358" y="146"/>
                    </a:lnTo>
                    <a:close/>
                  </a:path>
                </a:pathLst>
              </a:custGeom>
              <a:solidFill>
                <a:srgbClr val="91c0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5484960" y="3416400"/>
                <a:ext cx="260280" cy="138240"/>
              </a:xfrm>
              <a:custGeom>
                <a:avLst/>
                <a:gdLst/>
                <a:ahLst/>
                <a:rect l="l" t="t" r="r" b="b"/>
                <a:pathLst>
                  <a:path w="820" h="436">
                    <a:moveTo>
                      <a:pt x="356" y="123"/>
                    </a:moveTo>
                    <a:lnTo>
                      <a:pt x="363" y="116"/>
                    </a:lnTo>
                    <a:lnTo>
                      <a:pt x="386" y="99"/>
                    </a:lnTo>
                    <a:lnTo>
                      <a:pt x="401" y="87"/>
                    </a:lnTo>
                    <a:lnTo>
                      <a:pt x="418" y="75"/>
                    </a:lnTo>
                    <a:lnTo>
                      <a:pt x="437" y="62"/>
                    </a:lnTo>
                    <a:lnTo>
                      <a:pt x="458" y="49"/>
                    </a:lnTo>
                    <a:lnTo>
                      <a:pt x="480" y="37"/>
                    </a:lnTo>
                    <a:lnTo>
                      <a:pt x="503" y="25"/>
                    </a:lnTo>
                    <a:lnTo>
                      <a:pt x="525" y="16"/>
                    </a:lnTo>
                    <a:lnTo>
                      <a:pt x="549" y="8"/>
                    </a:lnTo>
                    <a:lnTo>
                      <a:pt x="560" y="5"/>
                    </a:lnTo>
                    <a:lnTo>
                      <a:pt x="572" y="3"/>
                    </a:lnTo>
                    <a:lnTo>
                      <a:pt x="583" y="1"/>
                    </a:lnTo>
                    <a:lnTo>
                      <a:pt x="593" y="0"/>
                    </a:lnTo>
                    <a:lnTo>
                      <a:pt x="603" y="0"/>
                    </a:lnTo>
                    <a:lnTo>
                      <a:pt x="614" y="1"/>
                    </a:lnTo>
                    <a:lnTo>
                      <a:pt x="624" y="3"/>
                    </a:lnTo>
                    <a:lnTo>
                      <a:pt x="632" y="6"/>
                    </a:lnTo>
                    <a:lnTo>
                      <a:pt x="668" y="21"/>
                    </a:lnTo>
                    <a:lnTo>
                      <a:pt x="701" y="35"/>
                    </a:lnTo>
                    <a:lnTo>
                      <a:pt x="734" y="49"/>
                    </a:lnTo>
                    <a:lnTo>
                      <a:pt x="762" y="61"/>
                    </a:lnTo>
                    <a:lnTo>
                      <a:pt x="786" y="71"/>
                    </a:lnTo>
                    <a:lnTo>
                      <a:pt x="804" y="78"/>
                    </a:lnTo>
                    <a:lnTo>
                      <a:pt x="816" y="84"/>
                    </a:lnTo>
                    <a:lnTo>
                      <a:pt x="820" y="85"/>
                    </a:lnTo>
                    <a:lnTo>
                      <a:pt x="536" y="241"/>
                    </a:lnTo>
                    <a:lnTo>
                      <a:pt x="69" y="436"/>
                    </a:lnTo>
                    <a:lnTo>
                      <a:pt x="64" y="436"/>
                    </a:lnTo>
                    <a:lnTo>
                      <a:pt x="51" y="435"/>
                    </a:lnTo>
                    <a:lnTo>
                      <a:pt x="34" y="433"/>
                    </a:lnTo>
                    <a:lnTo>
                      <a:pt x="18" y="429"/>
                    </a:lnTo>
                    <a:lnTo>
                      <a:pt x="11" y="426"/>
                    </a:lnTo>
                    <a:lnTo>
                      <a:pt x="5" y="423"/>
                    </a:lnTo>
                    <a:lnTo>
                      <a:pt x="2" y="422"/>
                    </a:lnTo>
                    <a:lnTo>
                      <a:pt x="1" y="420"/>
                    </a:lnTo>
                    <a:lnTo>
                      <a:pt x="0" y="418"/>
                    </a:lnTo>
                    <a:lnTo>
                      <a:pt x="0" y="415"/>
                    </a:lnTo>
                    <a:lnTo>
                      <a:pt x="0" y="413"/>
                    </a:lnTo>
                    <a:lnTo>
                      <a:pt x="1" y="411"/>
                    </a:lnTo>
                    <a:lnTo>
                      <a:pt x="4" y="408"/>
                    </a:lnTo>
                    <a:lnTo>
                      <a:pt x="7" y="406"/>
                    </a:lnTo>
                    <a:lnTo>
                      <a:pt x="17" y="399"/>
                    </a:lnTo>
                    <a:lnTo>
                      <a:pt x="29" y="392"/>
                    </a:lnTo>
                    <a:lnTo>
                      <a:pt x="47" y="383"/>
                    </a:lnTo>
                    <a:lnTo>
                      <a:pt x="65" y="371"/>
                    </a:lnTo>
                    <a:lnTo>
                      <a:pt x="86" y="357"/>
                    </a:lnTo>
                    <a:lnTo>
                      <a:pt x="107" y="340"/>
                    </a:lnTo>
                    <a:lnTo>
                      <a:pt x="154" y="302"/>
                    </a:lnTo>
                    <a:lnTo>
                      <a:pt x="201" y="261"/>
                    </a:lnTo>
                    <a:lnTo>
                      <a:pt x="248" y="219"/>
                    </a:lnTo>
                    <a:lnTo>
                      <a:pt x="291" y="180"/>
                    </a:lnTo>
                    <a:lnTo>
                      <a:pt x="328" y="146"/>
                    </a:lnTo>
                    <a:lnTo>
                      <a:pt x="356" y="123"/>
                    </a:lnTo>
                    <a:close/>
                  </a:path>
                </a:pathLst>
              </a:custGeom>
              <a:solidFill>
                <a:srgbClr val="84b3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5484960" y="3427560"/>
                <a:ext cx="260280" cy="127080"/>
              </a:xfrm>
              <a:custGeom>
                <a:avLst/>
                <a:gdLst/>
                <a:ahLst/>
                <a:rect l="l" t="t" r="r" b="b"/>
                <a:pathLst>
                  <a:path w="820" h="400">
                    <a:moveTo>
                      <a:pt x="350" y="99"/>
                    </a:moveTo>
                    <a:lnTo>
                      <a:pt x="358" y="93"/>
                    </a:lnTo>
                    <a:lnTo>
                      <a:pt x="376" y="79"/>
                    </a:lnTo>
                    <a:lnTo>
                      <a:pt x="390" y="70"/>
                    </a:lnTo>
                    <a:lnTo>
                      <a:pt x="405" y="60"/>
                    </a:lnTo>
                    <a:lnTo>
                      <a:pt x="423" y="50"/>
                    </a:lnTo>
                    <a:lnTo>
                      <a:pt x="441" y="39"/>
                    </a:lnTo>
                    <a:lnTo>
                      <a:pt x="461" y="29"/>
                    </a:lnTo>
                    <a:lnTo>
                      <a:pt x="481" y="20"/>
                    </a:lnTo>
                    <a:lnTo>
                      <a:pt x="502" y="12"/>
                    </a:lnTo>
                    <a:lnTo>
                      <a:pt x="523" y="6"/>
                    </a:lnTo>
                    <a:lnTo>
                      <a:pt x="534" y="4"/>
                    </a:lnTo>
                    <a:lnTo>
                      <a:pt x="544" y="2"/>
                    </a:lnTo>
                    <a:lnTo>
                      <a:pt x="554" y="1"/>
                    </a:lnTo>
                    <a:lnTo>
                      <a:pt x="564" y="0"/>
                    </a:lnTo>
                    <a:lnTo>
                      <a:pt x="575" y="1"/>
                    </a:lnTo>
                    <a:lnTo>
                      <a:pt x="585" y="2"/>
                    </a:lnTo>
                    <a:lnTo>
                      <a:pt x="593" y="5"/>
                    </a:lnTo>
                    <a:lnTo>
                      <a:pt x="603" y="8"/>
                    </a:lnTo>
                    <a:lnTo>
                      <a:pt x="621" y="14"/>
                    </a:lnTo>
                    <a:lnTo>
                      <a:pt x="640" y="21"/>
                    </a:lnTo>
                    <a:lnTo>
                      <a:pt x="658" y="26"/>
                    </a:lnTo>
                    <a:lnTo>
                      <a:pt x="677" y="31"/>
                    </a:lnTo>
                    <a:lnTo>
                      <a:pt x="713" y="38"/>
                    </a:lnTo>
                    <a:lnTo>
                      <a:pt x="747" y="43"/>
                    </a:lnTo>
                    <a:lnTo>
                      <a:pt x="777" y="47"/>
                    </a:lnTo>
                    <a:lnTo>
                      <a:pt x="800" y="49"/>
                    </a:lnTo>
                    <a:lnTo>
                      <a:pt x="815" y="49"/>
                    </a:lnTo>
                    <a:lnTo>
                      <a:pt x="820" y="49"/>
                    </a:lnTo>
                    <a:lnTo>
                      <a:pt x="536" y="205"/>
                    </a:lnTo>
                    <a:lnTo>
                      <a:pt x="69" y="400"/>
                    </a:lnTo>
                    <a:lnTo>
                      <a:pt x="64" y="400"/>
                    </a:lnTo>
                    <a:lnTo>
                      <a:pt x="51" y="399"/>
                    </a:lnTo>
                    <a:lnTo>
                      <a:pt x="34" y="397"/>
                    </a:lnTo>
                    <a:lnTo>
                      <a:pt x="18" y="393"/>
                    </a:lnTo>
                    <a:lnTo>
                      <a:pt x="11" y="390"/>
                    </a:lnTo>
                    <a:lnTo>
                      <a:pt x="5" y="387"/>
                    </a:lnTo>
                    <a:lnTo>
                      <a:pt x="2" y="386"/>
                    </a:lnTo>
                    <a:lnTo>
                      <a:pt x="1" y="384"/>
                    </a:lnTo>
                    <a:lnTo>
                      <a:pt x="0" y="382"/>
                    </a:lnTo>
                    <a:lnTo>
                      <a:pt x="0" y="379"/>
                    </a:lnTo>
                    <a:lnTo>
                      <a:pt x="0" y="377"/>
                    </a:lnTo>
                    <a:lnTo>
                      <a:pt x="1" y="375"/>
                    </a:lnTo>
                    <a:lnTo>
                      <a:pt x="4" y="372"/>
                    </a:lnTo>
                    <a:lnTo>
                      <a:pt x="7" y="370"/>
                    </a:lnTo>
                    <a:lnTo>
                      <a:pt x="17" y="363"/>
                    </a:lnTo>
                    <a:lnTo>
                      <a:pt x="29" y="356"/>
                    </a:lnTo>
                    <a:lnTo>
                      <a:pt x="46" y="347"/>
                    </a:lnTo>
                    <a:lnTo>
                      <a:pt x="65" y="335"/>
                    </a:lnTo>
                    <a:lnTo>
                      <a:pt x="85" y="322"/>
                    </a:lnTo>
                    <a:lnTo>
                      <a:pt x="106" y="306"/>
                    </a:lnTo>
                    <a:lnTo>
                      <a:pt x="152" y="270"/>
                    </a:lnTo>
                    <a:lnTo>
                      <a:pt x="198" y="231"/>
                    </a:lnTo>
                    <a:lnTo>
                      <a:pt x="244" y="191"/>
                    </a:lnTo>
                    <a:lnTo>
                      <a:pt x="287" y="155"/>
                    </a:lnTo>
                    <a:lnTo>
                      <a:pt x="322" y="122"/>
                    </a:lnTo>
                    <a:lnTo>
                      <a:pt x="350" y="99"/>
                    </a:lnTo>
                    <a:close/>
                  </a:path>
                </a:pathLst>
              </a:custGeom>
              <a:solidFill>
                <a:srgbClr val="7baa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5484960" y="3440160"/>
                <a:ext cx="260280" cy="114480"/>
              </a:xfrm>
              <a:custGeom>
                <a:avLst/>
                <a:gdLst/>
                <a:ahLst/>
                <a:rect l="l" t="t" r="r" b="b"/>
                <a:pathLst>
                  <a:path w="820" h="362">
                    <a:moveTo>
                      <a:pt x="346" y="74"/>
                    </a:moveTo>
                    <a:lnTo>
                      <a:pt x="351" y="69"/>
                    </a:lnTo>
                    <a:lnTo>
                      <a:pt x="368" y="57"/>
                    </a:lnTo>
                    <a:lnTo>
                      <a:pt x="379" y="51"/>
                    </a:lnTo>
                    <a:lnTo>
                      <a:pt x="392" y="42"/>
                    </a:lnTo>
                    <a:lnTo>
                      <a:pt x="408" y="35"/>
                    </a:lnTo>
                    <a:lnTo>
                      <a:pt x="423" y="26"/>
                    </a:lnTo>
                    <a:lnTo>
                      <a:pt x="440" y="18"/>
                    </a:lnTo>
                    <a:lnTo>
                      <a:pt x="458" y="12"/>
                    </a:lnTo>
                    <a:lnTo>
                      <a:pt x="477" y="7"/>
                    </a:lnTo>
                    <a:lnTo>
                      <a:pt x="496" y="2"/>
                    </a:lnTo>
                    <a:lnTo>
                      <a:pt x="506" y="1"/>
                    </a:lnTo>
                    <a:lnTo>
                      <a:pt x="516" y="0"/>
                    </a:lnTo>
                    <a:lnTo>
                      <a:pt x="524" y="0"/>
                    </a:lnTo>
                    <a:lnTo>
                      <a:pt x="534" y="0"/>
                    </a:lnTo>
                    <a:lnTo>
                      <a:pt x="544" y="1"/>
                    </a:lnTo>
                    <a:lnTo>
                      <a:pt x="553" y="3"/>
                    </a:lnTo>
                    <a:lnTo>
                      <a:pt x="562" y="5"/>
                    </a:lnTo>
                    <a:lnTo>
                      <a:pt x="571" y="9"/>
                    </a:lnTo>
                    <a:lnTo>
                      <a:pt x="589" y="15"/>
                    </a:lnTo>
                    <a:lnTo>
                      <a:pt x="610" y="20"/>
                    </a:lnTo>
                    <a:lnTo>
                      <a:pt x="630" y="23"/>
                    </a:lnTo>
                    <a:lnTo>
                      <a:pt x="651" y="25"/>
                    </a:lnTo>
                    <a:lnTo>
                      <a:pt x="671" y="26"/>
                    </a:lnTo>
                    <a:lnTo>
                      <a:pt x="693" y="26"/>
                    </a:lnTo>
                    <a:lnTo>
                      <a:pt x="712" y="25"/>
                    </a:lnTo>
                    <a:lnTo>
                      <a:pt x="732" y="24"/>
                    </a:lnTo>
                    <a:lnTo>
                      <a:pt x="767" y="21"/>
                    </a:lnTo>
                    <a:lnTo>
                      <a:pt x="795" y="16"/>
                    </a:lnTo>
                    <a:lnTo>
                      <a:pt x="814" y="13"/>
                    </a:lnTo>
                    <a:lnTo>
                      <a:pt x="820" y="11"/>
                    </a:lnTo>
                    <a:lnTo>
                      <a:pt x="536" y="167"/>
                    </a:lnTo>
                    <a:lnTo>
                      <a:pt x="69" y="362"/>
                    </a:lnTo>
                    <a:lnTo>
                      <a:pt x="64" y="362"/>
                    </a:lnTo>
                    <a:lnTo>
                      <a:pt x="51" y="361"/>
                    </a:lnTo>
                    <a:lnTo>
                      <a:pt x="34" y="359"/>
                    </a:lnTo>
                    <a:lnTo>
                      <a:pt x="18" y="355"/>
                    </a:lnTo>
                    <a:lnTo>
                      <a:pt x="11" y="352"/>
                    </a:lnTo>
                    <a:lnTo>
                      <a:pt x="5" y="349"/>
                    </a:lnTo>
                    <a:lnTo>
                      <a:pt x="2" y="348"/>
                    </a:lnTo>
                    <a:lnTo>
                      <a:pt x="1" y="346"/>
                    </a:lnTo>
                    <a:lnTo>
                      <a:pt x="0" y="344"/>
                    </a:lnTo>
                    <a:lnTo>
                      <a:pt x="0" y="341"/>
                    </a:lnTo>
                    <a:lnTo>
                      <a:pt x="0" y="339"/>
                    </a:lnTo>
                    <a:lnTo>
                      <a:pt x="1" y="337"/>
                    </a:lnTo>
                    <a:lnTo>
                      <a:pt x="4" y="334"/>
                    </a:lnTo>
                    <a:lnTo>
                      <a:pt x="7" y="332"/>
                    </a:lnTo>
                    <a:lnTo>
                      <a:pt x="17" y="325"/>
                    </a:lnTo>
                    <a:lnTo>
                      <a:pt x="29" y="318"/>
                    </a:lnTo>
                    <a:lnTo>
                      <a:pt x="46" y="309"/>
                    </a:lnTo>
                    <a:lnTo>
                      <a:pt x="65" y="298"/>
                    </a:lnTo>
                    <a:lnTo>
                      <a:pt x="85" y="285"/>
                    </a:lnTo>
                    <a:lnTo>
                      <a:pt x="106" y="270"/>
                    </a:lnTo>
                    <a:lnTo>
                      <a:pt x="150" y="237"/>
                    </a:lnTo>
                    <a:lnTo>
                      <a:pt x="196" y="199"/>
                    </a:lnTo>
                    <a:lnTo>
                      <a:pt x="241" y="162"/>
                    </a:lnTo>
                    <a:lnTo>
                      <a:pt x="282" y="126"/>
                    </a:lnTo>
                    <a:lnTo>
                      <a:pt x="318" y="96"/>
                    </a:lnTo>
                    <a:lnTo>
                      <a:pt x="346" y="74"/>
                    </a:lnTo>
                    <a:close/>
                  </a:path>
                </a:pathLst>
              </a:custGeom>
              <a:solidFill>
                <a:srgbClr val="73a3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5484960" y="3443400"/>
                <a:ext cx="260280" cy="111240"/>
              </a:xfrm>
              <a:custGeom>
                <a:avLst/>
                <a:gdLst/>
                <a:ahLst/>
                <a:rect l="l" t="t" r="r" b="b"/>
                <a:pathLst>
                  <a:path w="820" h="351">
                    <a:moveTo>
                      <a:pt x="820" y="0"/>
                    </a:moveTo>
                    <a:lnTo>
                      <a:pt x="536" y="156"/>
                    </a:lnTo>
                    <a:lnTo>
                      <a:pt x="69" y="351"/>
                    </a:lnTo>
                    <a:lnTo>
                      <a:pt x="64" y="351"/>
                    </a:lnTo>
                    <a:lnTo>
                      <a:pt x="51" y="350"/>
                    </a:lnTo>
                    <a:lnTo>
                      <a:pt x="34" y="348"/>
                    </a:lnTo>
                    <a:lnTo>
                      <a:pt x="18" y="344"/>
                    </a:lnTo>
                    <a:lnTo>
                      <a:pt x="11" y="341"/>
                    </a:lnTo>
                    <a:lnTo>
                      <a:pt x="5" y="338"/>
                    </a:lnTo>
                    <a:lnTo>
                      <a:pt x="2" y="337"/>
                    </a:lnTo>
                    <a:lnTo>
                      <a:pt x="1" y="335"/>
                    </a:lnTo>
                    <a:lnTo>
                      <a:pt x="0" y="333"/>
                    </a:lnTo>
                    <a:lnTo>
                      <a:pt x="0" y="330"/>
                    </a:lnTo>
                    <a:lnTo>
                      <a:pt x="0" y="328"/>
                    </a:lnTo>
                    <a:lnTo>
                      <a:pt x="1" y="326"/>
                    </a:lnTo>
                    <a:lnTo>
                      <a:pt x="4" y="323"/>
                    </a:lnTo>
                    <a:lnTo>
                      <a:pt x="7" y="321"/>
                    </a:lnTo>
                    <a:lnTo>
                      <a:pt x="17" y="314"/>
                    </a:lnTo>
                    <a:lnTo>
                      <a:pt x="29" y="307"/>
                    </a:lnTo>
                    <a:lnTo>
                      <a:pt x="46" y="298"/>
                    </a:lnTo>
                    <a:lnTo>
                      <a:pt x="64" y="287"/>
                    </a:lnTo>
                    <a:lnTo>
                      <a:pt x="85" y="275"/>
                    </a:lnTo>
                    <a:lnTo>
                      <a:pt x="105" y="261"/>
                    </a:lnTo>
                    <a:lnTo>
                      <a:pt x="148" y="229"/>
                    </a:lnTo>
                    <a:lnTo>
                      <a:pt x="194" y="194"/>
                    </a:lnTo>
                    <a:lnTo>
                      <a:pt x="237" y="160"/>
                    </a:lnTo>
                    <a:lnTo>
                      <a:pt x="278" y="126"/>
                    </a:lnTo>
                    <a:lnTo>
                      <a:pt x="314" y="97"/>
                    </a:lnTo>
                    <a:lnTo>
                      <a:pt x="341" y="74"/>
                    </a:lnTo>
                    <a:lnTo>
                      <a:pt x="346" y="71"/>
                    </a:lnTo>
                    <a:lnTo>
                      <a:pt x="359" y="63"/>
                    </a:lnTo>
                    <a:lnTo>
                      <a:pt x="379" y="52"/>
                    </a:lnTo>
                    <a:lnTo>
                      <a:pt x="405" y="40"/>
                    </a:lnTo>
                    <a:lnTo>
                      <a:pt x="421" y="34"/>
                    </a:lnTo>
                    <a:lnTo>
                      <a:pt x="437" y="30"/>
                    </a:lnTo>
                    <a:lnTo>
                      <a:pt x="453" y="27"/>
                    </a:lnTo>
                    <a:lnTo>
                      <a:pt x="470" y="25"/>
                    </a:lnTo>
                    <a:lnTo>
                      <a:pt x="488" y="24"/>
                    </a:lnTo>
                    <a:lnTo>
                      <a:pt x="506" y="26"/>
                    </a:lnTo>
                    <a:lnTo>
                      <a:pt x="515" y="27"/>
                    </a:lnTo>
                    <a:lnTo>
                      <a:pt x="523" y="29"/>
                    </a:lnTo>
                    <a:lnTo>
                      <a:pt x="533" y="31"/>
                    </a:lnTo>
                    <a:lnTo>
                      <a:pt x="542" y="36"/>
                    </a:lnTo>
                    <a:lnTo>
                      <a:pt x="550" y="39"/>
                    </a:lnTo>
                    <a:lnTo>
                      <a:pt x="560" y="41"/>
                    </a:lnTo>
                    <a:lnTo>
                      <a:pt x="570" y="43"/>
                    </a:lnTo>
                    <a:lnTo>
                      <a:pt x="580" y="45"/>
                    </a:lnTo>
                    <a:lnTo>
                      <a:pt x="602" y="46"/>
                    </a:lnTo>
                    <a:lnTo>
                      <a:pt x="625" y="46"/>
                    </a:lnTo>
                    <a:lnTo>
                      <a:pt x="647" y="44"/>
                    </a:lnTo>
                    <a:lnTo>
                      <a:pt x="671" y="41"/>
                    </a:lnTo>
                    <a:lnTo>
                      <a:pt x="694" y="38"/>
                    </a:lnTo>
                    <a:lnTo>
                      <a:pt x="717" y="32"/>
                    </a:lnTo>
                    <a:lnTo>
                      <a:pt x="757" y="21"/>
                    </a:lnTo>
                    <a:lnTo>
                      <a:pt x="790" y="12"/>
                    </a:lnTo>
                    <a:lnTo>
                      <a:pt x="813" y="3"/>
                    </a:lnTo>
                    <a:lnTo>
                      <a:pt x="820" y="0"/>
                    </a:lnTo>
                    <a:close/>
                  </a:path>
                </a:pathLst>
              </a:custGeom>
              <a:solidFill>
                <a:srgbClr val="6a9a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5727600" y="3357720"/>
                <a:ext cx="141480" cy="50760"/>
              </a:xfrm>
              <a:custGeom>
                <a:avLst/>
                <a:gdLst/>
                <a:ahLst/>
                <a:rect l="l" t="t" r="r" b="b"/>
                <a:pathLst>
                  <a:path w="445" h="160">
                    <a:moveTo>
                      <a:pt x="0" y="160"/>
                    </a:moveTo>
                    <a:lnTo>
                      <a:pt x="5" y="152"/>
                    </a:lnTo>
                    <a:lnTo>
                      <a:pt x="23" y="130"/>
                    </a:lnTo>
                    <a:lnTo>
                      <a:pt x="36" y="116"/>
                    </a:lnTo>
                    <a:lnTo>
                      <a:pt x="52" y="101"/>
                    </a:lnTo>
                    <a:lnTo>
                      <a:pt x="70" y="85"/>
                    </a:lnTo>
                    <a:lnTo>
                      <a:pt x="91" y="69"/>
                    </a:lnTo>
                    <a:lnTo>
                      <a:pt x="103" y="60"/>
                    </a:lnTo>
                    <a:lnTo>
                      <a:pt x="115" y="53"/>
                    </a:lnTo>
                    <a:lnTo>
                      <a:pt x="128" y="45"/>
                    </a:lnTo>
                    <a:lnTo>
                      <a:pt x="141" y="38"/>
                    </a:lnTo>
                    <a:lnTo>
                      <a:pt x="155" y="30"/>
                    </a:lnTo>
                    <a:lnTo>
                      <a:pt x="170" y="25"/>
                    </a:lnTo>
                    <a:lnTo>
                      <a:pt x="185" y="18"/>
                    </a:lnTo>
                    <a:lnTo>
                      <a:pt x="200" y="13"/>
                    </a:lnTo>
                    <a:lnTo>
                      <a:pt x="216" y="8"/>
                    </a:lnTo>
                    <a:lnTo>
                      <a:pt x="233" y="5"/>
                    </a:lnTo>
                    <a:lnTo>
                      <a:pt x="251" y="2"/>
                    </a:lnTo>
                    <a:lnTo>
                      <a:pt x="269" y="1"/>
                    </a:lnTo>
                    <a:lnTo>
                      <a:pt x="287" y="0"/>
                    </a:lnTo>
                    <a:lnTo>
                      <a:pt x="306" y="0"/>
                    </a:lnTo>
                    <a:lnTo>
                      <a:pt x="325" y="2"/>
                    </a:lnTo>
                    <a:lnTo>
                      <a:pt x="346" y="4"/>
                    </a:lnTo>
                    <a:lnTo>
                      <a:pt x="445" y="21"/>
                    </a:lnTo>
                    <a:lnTo>
                      <a:pt x="382" y="101"/>
                    </a:lnTo>
                    <a:lnTo>
                      <a:pt x="0" y="160"/>
                    </a:lnTo>
                    <a:close/>
                  </a:path>
                </a:pathLst>
              </a:custGeom>
              <a:solidFill>
                <a:srgbClr val="9dca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5730840" y="3362400"/>
                <a:ext cx="135000" cy="47520"/>
              </a:xfrm>
              <a:custGeom>
                <a:avLst/>
                <a:gdLst/>
                <a:ahLst/>
                <a:rect l="l" t="t" r="r" b="b"/>
                <a:pathLst>
                  <a:path w="423" h="147">
                    <a:moveTo>
                      <a:pt x="341" y="5"/>
                    </a:moveTo>
                    <a:lnTo>
                      <a:pt x="423" y="18"/>
                    </a:lnTo>
                    <a:lnTo>
                      <a:pt x="370" y="85"/>
                    </a:lnTo>
                    <a:lnTo>
                      <a:pt x="0" y="147"/>
                    </a:lnTo>
                    <a:lnTo>
                      <a:pt x="5" y="139"/>
                    </a:lnTo>
                    <a:lnTo>
                      <a:pt x="23" y="119"/>
                    </a:lnTo>
                    <a:lnTo>
                      <a:pt x="36" y="106"/>
                    </a:lnTo>
                    <a:lnTo>
                      <a:pt x="51" y="92"/>
                    </a:lnTo>
                    <a:lnTo>
                      <a:pt x="69" y="77"/>
                    </a:lnTo>
                    <a:lnTo>
                      <a:pt x="90" y="62"/>
                    </a:lnTo>
                    <a:lnTo>
                      <a:pt x="100" y="54"/>
                    </a:lnTo>
                    <a:lnTo>
                      <a:pt x="112" y="46"/>
                    </a:lnTo>
                    <a:lnTo>
                      <a:pt x="124" y="40"/>
                    </a:lnTo>
                    <a:lnTo>
                      <a:pt x="138" y="32"/>
                    </a:lnTo>
                    <a:lnTo>
                      <a:pt x="151" y="27"/>
                    </a:lnTo>
                    <a:lnTo>
                      <a:pt x="165" y="21"/>
                    </a:lnTo>
                    <a:lnTo>
                      <a:pt x="180" y="16"/>
                    </a:lnTo>
                    <a:lnTo>
                      <a:pt x="197" y="11"/>
                    </a:lnTo>
                    <a:lnTo>
                      <a:pt x="213" y="8"/>
                    </a:lnTo>
                    <a:lnTo>
                      <a:pt x="229" y="4"/>
                    </a:lnTo>
                    <a:lnTo>
                      <a:pt x="246" y="2"/>
                    </a:lnTo>
                    <a:lnTo>
                      <a:pt x="265" y="0"/>
                    </a:lnTo>
                    <a:lnTo>
                      <a:pt x="283" y="0"/>
                    </a:lnTo>
                    <a:lnTo>
                      <a:pt x="301" y="1"/>
                    </a:lnTo>
                    <a:lnTo>
                      <a:pt x="321" y="2"/>
                    </a:lnTo>
                    <a:lnTo>
                      <a:pt x="341" y="5"/>
                    </a:lnTo>
                    <a:close/>
                  </a:path>
                </a:pathLst>
              </a:custGeom>
              <a:solidFill>
                <a:srgbClr val="87b6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5735520" y="3368880"/>
                <a:ext cx="125640" cy="41040"/>
              </a:xfrm>
              <a:custGeom>
                <a:avLst/>
                <a:gdLst/>
                <a:ahLst/>
                <a:rect l="l" t="t" r="r" b="b"/>
                <a:pathLst>
                  <a:path w="395" h="132">
                    <a:moveTo>
                      <a:pt x="334" y="6"/>
                    </a:moveTo>
                    <a:lnTo>
                      <a:pt x="395" y="15"/>
                    </a:lnTo>
                    <a:lnTo>
                      <a:pt x="355" y="68"/>
                    </a:lnTo>
                    <a:lnTo>
                      <a:pt x="0" y="132"/>
                    </a:lnTo>
                    <a:lnTo>
                      <a:pt x="5" y="126"/>
                    </a:lnTo>
                    <a:lnTo>
                      <a:pt x="22" y="107"/>
                    </a:lnTo>
                    <a:lnTo>
                      <a:pt x="34" y="95"/>
                    </a:lnTo>
                    <a:lnTo>
                      <a:pt x="49" y="81"/>
                    </a:lnTo>
                    <a:lnTo>
                      <a:pt x="65" y="68"/>
                    </a:lnTo>
                    <a:lnTo>
                      <a:pt x="85" y="54"/>
                    </a:lnTo>
                    <a:lnTo>
                      <a:pt x="108" y="41"/>
                    </a:lnTo>
                    <a:lnTo>
                      <a:pt x="133" y="28"/>
                    </a:lnTo>
                    <a:lnTo>
                      <a:pt x="146" y="23"/>
                    </a:lnTo>
                    <a:lnTo>
                      <a:pt x="160" y="18"/>
                    </a:lnTo>
                    <a:lnTo>
                      <a:pt x="174" y="13"/>
                    </a:lnTo>
                    <a:lnTo>
                      <a:pt x="190" y="9"/>
                    </a:lnTo>
                    <a:lnTo>
                      <a:pt x="205" y="6"/>
                    </a:lnTo>
                    <a:lnTo>
                      <a:pt x="223" y="4"/>
                    </a:lnTo>
                    <a:lnTo>
                      <a:pt x="239" y="1"/>
                    </a:lnTo>
                    <a:lnTo>
                      <a:pt x="257" y="0"/>
                    </a:lnTo>
                    <a:lnTo>
                      <a:pt x="276" y="0"/>
                    </a:lnTo>
                    <a:lnTo>
                      <a:pt x="294" y="1"/>
                    </a:lnTo>
                    <a:lnTo>
                      <a:pt x="313" y="2"/>
                    </a:lnTo>
                    <a:lnTo>
                      <a:pt x="334" y="6"/>
                    </a:lnTo>
                    <a:close/>
                  </a:path>
                </a:pathLst>
              </a:custGeom>
              <a:solidFill>
                <a:srgbClr val="79a8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5740200" y="3373560"/>
                <a:ext cx="117720" cy="36360"/>
              </a:xfrm>
              <a:custGeom>
                <a:avLst/>
                <a:gdLst/>
                <a:ahLst/>
                <a:rect l="l" t="t" r="r" b="b"/>
                <a:pathLst>
                  <a:path w="374" h="118">
                    <a:moveTo>
                      <a:pt x="0" y="118"/>
                    </a:moveTo>
                    <a:lnTo>
                      <a:pt x="5" y="112"/>
                    </a:lnTo>
                    <a:lnTo>
                      <a:pt x="22" y="96"/>
                    </a:lnTo>
                    <a:lnTo>
                      <a:pt x="32" y="85"/>
                    </a:lnTo>
                    <a:lnTo>
                      <a:pt x="47" y="73"/>
                    </a:lnTo>
                    <a:lnTo>
                      <a:pt x="64" y="61"/>
                    </a:lnTo>
                    <a:lnTo>
                      <a:pt x="83" y="48"/>
                    </a:lnTo>
                    <a:lnTo>
                      <a:pt x="105" y="36"/>
                    </a:lnTo>
                    <a:lnTo>
                      <a:pt x="130" y="25"/>
                    </a:lnTo>
                    <a:lnTo>
                      <a:pt x="143" y="20"/>
                    </a:lnTo>
                    <a:lnTo>
                      <a:pt x="157" y="16"/>
                    </a:lnTo>
                    <a:lnTo>
                      <a:pt x="171" y="11"/>
                    </a:lnTo>
                    <a:lnTo>
                      <a:pt x="186" y="8"/>
                    </a:lnTo>
                    <a:lnTo>
                      <a:pt x="202" y="5"/>
                    </a:lnTo>
                    <a:lnTo>
                      <a:pt x="218" y="3"/>
                    </a:lnTo>
                    <a:lnTo>
                      <a:pt x="235" y="2"/>
                    </a:lnTo>
                    <a:lnTo>
                      <a:pt x="253" y="0"/>
                    </a:lnTo>
                    <a:lnTo>
                      <a:pt x="271" y="0"/>
                    </a:lnTo>
                    <a:lnTo>
                      <a:pt x="289" y="2"/>
                    </a:lnTo>
                    <a:lnTo>
                      <a:pt x="309" y="4"/>
                    </a:lnTo>
                    <a:lnTo>
                      <a:pt x="329" y="7"/>
                    </a:lnTo>
                    <a:lnTo>
                      <a:pt x="374" y="12"/>
                    </a:lnTo>
                    <a:lnTo>
                      <a:pt x="343" y="52"/>
                    </a:lnTo>
                    <a:lnTo>
                      <a:pt x="0" y="118"/>
                    </a:lnTo>
                    <a:close/>
                  </a:path>
                </a:pathLst>
              </a:custGeom>
              <a:solidFill>
                <a:srgbClr val="6a9a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5667480" y="3376800"/>
                <a:ext cx="193680" cy="137880"/>
              </a:xfrm>
              <a:custGeom>
                <a:avLst/>
                <a:gdLst/>
                <a:ahLst/>
                <a:rect l="l" t="t" r="r" b="b"/>
                <a:pathLst>
                  <a:path w="608" h="435">
                    <a:moveTo>
                      <a:pt x="0" y="233"/>
                    </a:moveTo>
                    <a:lnTo>
                      <a:pt x="9" y="228"/>
                    </a:lnTo>
                    <a:lnTo>
                      <a:pt x="31" y="213"/>
                    </a:lnTo>
                    <a:lnTo>
                      <a:pt x="65" y="192"/>
                    </a:lnTo>
                    <a:lnTo>
                      <a:pt x="107" y="165"/>
                    </a:lnTo>
                    <a:lnTo>
                      <a:pt x="152" y="137"/>
                    </a:lnTo>
                    <a:lnTo>
                      <a:pt x="199" y="108"/>
                    </a:lnTo>
                    <a:lnTo>
                      <a:pt x="242" y="81"/>
                    </a:lnTo>
                    <a:lnTo>
                      <a:pt x="279" y="57"/>
                    </a:lnTo>
                    <a:lnTo>
                      <a:pt x="296" y="49"/>
                    </a:lnTo>
                    <a:lnTo>
                      <a:pt x="313" y="39"/>
                    </a:lnTo>
                    <a:lnTo>
                      <a:pt x="331" y="31"/>
                    </a:lnTo>
                    <a:lnTo>
                      <a:pt x="349" y="24"/>
                    </a:lnTo>
                    <a:lnTo>
                      <a:pt x="368" y="17"/>
                    </a:lnTo>
                    <a:lnTo>
                      <a:pt x="388" y="12"/>
                    </a:lnTo>
                    <a:lnTo>
                      <a:pt x="408" y="7"/>
                    </a:lnTo>
                    <a:lnTo>
                      <a:pt x="429" y="3"/>
                    </a:lnTo>
                    <a:lnTo>
                      <a:pt x="449" y="1"/>
                    </a:lnTo>
                    <a:lnTo>
                      <a:pt x="471" y="0"/>
                    </a:lnTo>
                    <a:lnTo>
                      <a:pt x="494" y="0"/>
                    </a:lnTo>
                    <a:lnTo>
                      <a:pt x="515" y="2"/>
                    </a:lnTo>
                    <a:lnTo>
                      <a:pt x="538" y="6"/>
                    </a:lnTo>
                    <a:lnTo>
                      <a:pt x="561" y="11"/>
                    </a:lnTo>
                    <a:lnTo>
                      <a:pt x="585" y="17"/>
                    </a:lnTo>
                    <a:lnTo>
                      <a:pt x="608" y="26"/>
                    </a:lnTo>
                    <a:lnTo>
                      <a:pt x="405" y="435"/>
                    </a:lnTo>
                    <a:lnTo>
                      <a:pt x="0" y="233"/>
                    </a:lnTo>
                    <a:close/>
                  </a:path>
                </a:pathLst>
              </a:custGeom>
              <a:solidFill>
                <a:srgbClr val="ca93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5746680" y="3375000"/>
                <a:ext cx="114480" cy="139680"/>
              </a:xfrm>
              <a:custGeom>
                <a:avLst/>
                <a:gdLst/>
                <a:ahLst/>
                <a:rect l="l" t="t" r="r" b="b"/>
                <a:pathLst>
                  <a:path w="358" h="439">
                    <a:moveTo>
                      <a:pt x="170" y="176"/>
                    </a:moveTo>
                    <a:lnTo>
                      <a:pt x="183" y="160"/>
                    </a:lnTo>
                    <a:lnTo>
                      <a:pt x="194" y="143"/>
                    </a:lnTo>
                    <a:lnTo>
                      <a:pt x="205" y="127"/>
                    </a:lnTo>
                    <a:lnTo>
                      <a:pt x="214" y="111"/>
                    </a:lnTo>
                    <a:lnTo>
                      <a:pt x="221" y="96"/>
                    </a:lnTo>
                    <a:lnTo>
                      <a:pt x="229" y="82"/>
                    </a:lnTo>
                    <a:lnTo>
                      <a:pt x="234" y="68"/>
                    </a:lnTo>
                    <a:lnTo>
                      <a:pt x="239" y="55"/>
                    </a:lnTo>
                    <a:lnTo>
                      <a:pt x="247" y="32"/>
                    </a:lnTo>
                    <a:lnTo>
                      <a:pt x="251" y="15"/>
                    </a:lnTo>
                    <a:lnTo>
                      <a:pt x="254" y="4"/>
                    </a:lnTo>
                    <a:lnTo>
                      <a:pt x="255" y="0"/>
                    </a:lnTo>
                    <a:lnTo>
                      <a:pt x="269" y="3"/>
                    </a:lnTo>
                    <a:lnTo>
                      <a:pt x="283" y="5"/>
                    </a:lnTo>
                    <a:lnTo>
                      <a:pt x="296" y="8"/>
                    </a:lnTo>
                    <a:lnTo>
                      <a:pt x="308" y="12"/>
                    </a:lnTo>
                    <a:lnTo>
                      <a:pt x="320" y="16"/>
                    </a:lnTo>
                    <a:lnTo>
                      <a:pt x="332" y="19"/>
                    </a:lnTo>
                    <a:lnTo>
                      <a:pt x="345" y="25"/>
                    </a:lnTo>
                    <a:lnTo>
                      <a:pt x="358" y="30"/>
                    </a:lnTo>
                    <a:lnTo>
                      <a:pt x="155" y="439"/>
                    </a:lnTo>
                    <a:lnTo>
                      <a:pt x="0" y="364"/>
                    </a:lnTo>
                    <a:lnTo>
                      <a:pt x="0" y="359"/>
                    </a:lnTo>
                    <a:lnTo>
                      <a:pt x="0" y="351"/>
                    </a:lnTo>
                    <a:lnTo>
                      <a:pt x="0" y="339"/>
                    </a:lnTo>
                    <a:lnTo>
                      <a:pt x="1" y="325"/>
                    </a:lnTo>
                    <a:lnTo>
                      <a:pt x="3" y="311"/>
                    </a:lnTo>
                    <a:lnTo>
                      <a:pt x="7" y="299"/>
                    </a:lnTo>
                    <a:lnTo>
                      <a:pt x="9" y="294"/>
                    </a:lnTo>
                    <a:lnTo>
                      <a:pt x="13" y="290"/>
                    </a:lnTo>
                    <a:lnTo>
                      <a:pt x="16" y="287"/>
                    </a:lnTo>
                    <a:lnTo>
                      <a:pt x="19" y="287"/>
                    </a:lnTo>
                    <a:lnTo>
                      <a:pt x="29" y="285"/>
                    </a:lnTo>
                    <a:lnTo>
                      <a:pt x="42" y="282"/>
                    </a:lnTo>
                    <a:lnTo>
                      <a:pt x="58" y="274"/>
                    </a:lnTo>
                    <a:lnTo>
                      <a:pt x="76" y="263"/>
                    </a:lnTo>
                    <a:lnTo>
                      <a:pt x="86" y="257"/>
                    </a:lnTo>
                    <a:lnTo>
                      <a:pt x="97" y="248"/>
                    </a:lnTo>
                    <a:lnTo>
                      <a:pt x="108" y="240"/>
                    </a:lnTo>
                    <a:lnTo>
                      <a:pt x="120" y="229"/>
                    </a:lnTo>
                    <a:lnTo>
                      <a:pt x="131" y="218"/>
                    </a:lnTo>
                    <a:lnTo>
                      <a:pt x="144" y="205"/>
                    </a:lnTo>
                    <a:lnTo>
                      <a:pt x="157" y="191"/>
                    </a:lnTo>
                    <a:lnTo>
                      <a:pt x="170" y="176"/>
                    </a:lnTo>
                    <a:close/>
                  </a:path>
                </a:pathLst>
              </a:custGeom>
              <a:solidFill>
                <a:srgbClr val="c590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5746680" y="3376800"/>
                <a:ext cx="114480" cy="137880"/>
              </a:xfrm>
              <a:custGeom>
                <a:avLst/>
                <a:gdLst/>
                <a:ahLst/>
                <a:rect l="l" t="t" r="r" b="b"/>
                <a:pathLst>
                  <a:path w="358" h="434">
                    <a:moveTo>
                      <a:pt x="180" y="188"/>
                    </a:moveTo>
                    <a:lnTo>
                      <a:pt x="193" y="171"/>
                    </a:lnTo>
                    <a:lnTo>
                      <a:pt x="204" y="155"/>
                    </a:lnTo>
                    <a:lnTo>
                      <a:pt x="215" y="138"/>
                    </a:lnTo>
                    <a:lnTo>
                      <a:pt x="223" y="122"/>
                    </a:lnTo>
                    <a:lnTo>
                      <a:pt x="231" y="106"/>
                    </a:lnTo>
                    <a:lnTo>
                      <a:pt x="238" y="90"/>
                    </a:lnTo>
                    <a:lnTo>
                      <a:pt x="244" y="76"/>
                    </a:lnTo>
                    <a:lnTo>
                      <a:pt x="249" y="62"/>
                    </a:lnTo>
                    <a:lnTo>
                      <a:pt x="257" y="37"/>
                    </a:lnTo>
                    <a:lnTo>
                      <a:pt x="261" y="17"/>
                    </a:lnTo>
                    <a:lnTo>
                      <a:pt x="263" y="5"/>
                    </a:lnTo>
                    <a:lnTo>
                      <a:pt x="264" y="0"/>
                    </a:lnTo>
                    <a:lnTo>
                      <a:pt x="278" y="2"/>
                    </a:lnTo>
                    <a:lnTo>
                      <a:pt x="291" y="5"/>
                    </a:lnTo>
                    <a:lnTo>
                      <a:pt x="303" y="7"/>
                    </a:lnTo>
                    <a:lnTo>
                      <a:pt x="314" y="10"/>
                    </a:lnTo>
                    <a:lnTo>
                      <a:pt x="324" y="12"/>
                    </a:lnTo>
                    <a:lnTo>
                      <a:pt x="335" y="15"/>
                    </a:lnTo>
                    <a:lnTo>
                      <a:pt x="345" y="20"/>
                    </a:lnTo>
                    <a:lnTo>
                      <a:pt x="358" y="25"/>
                    </a:lnTo>
                    <a:lnTo>
                      <a:pt x="155" y="434"/>
                    </a:lnTo>
                    <a:lnTo>
                      <a:pt x="0" y="359"/>
                    </a:lnTo>
                    <a:lnTo>
                      <a:pt x="0" y="356"/>
                    </a:lnTo>
                    <a:lnTo>
                      <a:pt x="2" y="347"/>
                    </a:lnTo>
                    <a:lnTo>
                      <a:pt x="4" y="336"/>
                    </a:lnTo>
                    <a:lnTo>
                      <a:pt x="7" y="323"/>
                    </a:lnTo>
                    <a:lnTo>
                      <a:pt x="12" y="311"/>
                    </a:lnTo>
                    <a:lnTo>
                      <a:pt x="17" y="299"/>
                    </a:lnTo>
                    <a:lnTo>
                      <a:pt x="20" y="295"/>
                    </a:lnTo>
                    <a:lnTo>
                      <a:pt x="23" y="292"/>
                    </a:lnTo>
                    <a:lnTo>
                      <a:pt x="28" y="290"/>
                    </a:lnTo>
                    <a:lnTo>
                      <a:pt x="32" y="289"/>
                    </a:lnTo>
                    <a:lnTo>
                      <a:pt x="42" y="289"/>
                    </a:lnTo>
                    <a:lnTo>
                      <a:pt x="54" y="285"/>
                    </a:lnTo>
                    <a:lnTo>
                      <a:pt x="70" y="280"/>
                    </a:lnTo>
                    <a:lnTo>
                      <a:pt x="87" y="271"/>
                    </a:lnTo>
                    <a:lnTo>
                      <a:pt x="97" y="265"/>
                    </a:lnTo>
                    <a:lnTo>
                      <a:pt x="108" y="257"/>
                    </a:lnTo>
                    <a:lnTo>
                      <a:pt x="118" y="250"/>
                    </a:lnTo>
                    <a:lnTo>
                      <a:pt x="129" y="240"/>
                    </a:lnTo>
                    <a:lnTo>
                      <a:pt x="141" y="229"/>
                    </a:lnTo>
                    <a:lnTo>
                      <a:pt x="154" y="217"/>
                    </a:lnTo>
                    <a:lnTo>
                      <a:pt x="167" y="203"/>
                    </a:lnTo>
                    <a:lnTo>
                      <a:pt x="180" y="188"/>
                    </a:lnTo>
                    <a:close/>
                  </a:path>
                </a:pathLst>
              </a:custGeom>
              <a:solidFill>
                <a:srgbClr val="c18e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5746680" y="3376800"/>
                <a:ext cx="114480" cy="137880"/>
              </a:xfrm>
              <a:custGeom>
                <a:avLst/>
                <a:gdLst/>
                <a:ahLst/>
                <a:rect l="l" t="t" r="r" b="b"/>
                <a:pathLst>
                  <a:path w="358" h="432">
                    <a:moveTo>
                      <a:pt x="190" y="206"/>
                    </a:moveTo>
                    <a:lnTo>
                      <a:pt x="203" y="189"/>
                    </a:lnTo>
                    <a:lnTo>
                      <a:pt x="215" y="172"/>
                    </a:lnTo>
                    <a:lnTo>
                      <a:pt x="224" y="155"/>
                    </a:lnTo>
                    <a:lnTo>
                      <a:pt x="234" y="136"/>
                    </a:lnTo>
                    <a:lnTo>
                      <a:pt x="242" y="119"/>
                    </a:lnTo>
                    <a:lnTo>
                      <a:pt x="249" y="103"/>
                    </a:lnTo>
                    <a:lnTo>
                      <a:pt x="255" y="86"/>
                    </a:lnTo>
                    <a:lnTo>
                      <a:pt x="260" y="71"/>
                    </a:lnTo>
                    <a:lnTo>
                      <a:pt x="268" y="42"/>
                    </a:lnTo>
                    <a:lnTo>
                      <a:pt x="273" y="20"/>
                    </a:lnTo>
                    <a:lnTo>
                      <a:pt x="276" y="6"/>
                    </a:lnTo>
                    <a:lnTo>
                      <a:pt x="276" y="0"/>
                    </a:lnTo>
                    <a:lnTo>
                      <a:pt x="290" y="4"/>
                    </a:lnTo>
                    <a:lnTo>
                      <a:pt x="302" y="6"/>
                    </a:lnTo>
                    <a:lnTo>
                      <a:pt x="312" y="8"/>
                    </a:lnTo>
                    <a:lnTo>
                      <a:pt x="320" y="10"/>
                    </a:lnTo>
                    <a:lnTo>
                      <a:pt x="329" y="12"/>
                    </a:lnTo>
                    <a:lnTo>
                      <a:pt x="338" y="15"/>
                    </a:lnTo>
                    <a:lnTo>
                      <a:pt x="347" y="19"/>
                    </a:lnTo>
                    <a:lnTo>
                      <a:pt x="358" y="23"/>
                    </a:lnTo>
                    <a:lnTo>
                      <a:pt x="155" y="432"/>
                    </a:lnTo>
                    <a:lnTo>
                      <a:pt x="0" y="357"/>
                    </a:lnTo>
                    <a:lnTo>
                      <a:pt x="1" y="354"/>
                    </a:lnTo>
                    <a:lnTo>
                      <a:pt x="3" y="347"/>
                    </a:lnTo>
                    <a:lnTo>
                      <a:pt x="8" y="337"/>
                    </a:lnTo>
                    <a:lnTo>
                      <a:pt x="14" y="327"/>
                    </a:lnTo>
                    <a:lnTo>
                      <a:pt x="20" y="316"/>
                    </a:lnTo>
                    <a:lnTo>
                      <a:pt x="28" y="306"/>
                    </a:lnTo>
                    <a:lnTo>
                      <a:pt x="32" y="303"/>
                    </a:lnTo>
                    <a:lnTo>
                      <a:pt x="35" y="300"/>
                    </a:lnTo>
                    <a:lnTo>
                      <a:pt x="40" y="297"/>
                    </a:lnTo>
                    <a:lnTo>
                      <a:pt x="44" y="297"/>
                    </a:lnTo>
                    <a:lnTo>
                      <a:pt x="54" y="296"/>
                    </a:lnTo>
                    <a:lnTo>
                      <a:pt x="67" y="294"/>
                    </a:lnTo>
                    <a:lnTo>
                      <a:pt x="81" y="290"/>
                    </a:lnTo>
                    <a:lnTo>
                      <a:pt x="98" y="282"/>
                    </a:lnTo>
                    <a:lnTo>
                      <a:pt x="108" y="278"/>
                    </a:lnTo>
                    <a:lnTo>
                      <a:pt x="118" y="271"/>
                    </a:lnTo>
                    <a:lnTo>
                      <a:pt x="129" y="264"/>
                    </a:lnTo>
                    <a:lnTo>
                      <a:pt x="140" y="255"/>
                    </a:lnTo>
                    <a:lnTo>
                      <a:pt x="152" y="246"/>
                    </a:lnTo>
                    <a:lnTo>
                      <a:pt x="164" y="234"/>
                    </a:lnTo>
                    <a:lnTo>
                      <a:pt x="177" y="221"/>
                    </a:lnTo>
                    <a:lnTo>
                      <a:pt x="190" y="206"/>
                    </a:lnTo>
                    <a:close/>
                  </a:path>
                </a:pathLst>
              </a:custGeom>
              <a:solidFill>
                <a:srgbClr val="bc89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5746680" y="3378240"/>
                <a:ext cx="114480" cy="136440"/>
              </a:xfrm>
              <a:custGeom>
                <a:avLst/>
                <a:gdLst/>
                <a:ahLst/>
                <a:rect l="l" t="t" r="r" b="b"/>
                <a:pathLst>
                  <a:path w="358" h="427">
                    <a:moveTo>
                      <a:pt x="0" y="352"/>
                    </a:moveTo>
                    <a:lnTo>
                      <a:pt x="155" y="427"/>
                    </a:lnTo>
                    <a:lnTo>
                      <a:pt x="358" y="18"/>
                    </a:lnTo>
                    <a:lnTo>
                      <a:pt x="347" y="14"/>
                    </a:lnTo>
                    <a:lnTo>
                      <a:pt x="340" y="10"/>
                    </a:lnTo>
                    <a:lnTo>
                      <a:pt x="333" y="9"/>
                    </a:lnTo>
                    <a:lnTo>
                      <a:pt x="327" y="8"/>
                    </a:lnTo>
                    <a:lnTo>
                      <a:pt x="320" y="7"/>
                    </a:lnTo>
                    <a:lnTo>
                      <a:pt x="312" y="5"/>
                    </a:lnTo>
                    <a:lnTo>
                      <a:pt x="301" y="3"/>
                    </a:lnTo>
                    <a:lnTo>
                      <a:pt x="286" y="0"/>
                    </a:lnTo>
                    <a:lnTo>
                      <a:pt x="286" y="6"/>
                    </a:lnTo>
                    <a:lnTo>
                      <a:pt x="283" y="22"/>
                    </a:lnTo>
                    <a:lnTo>
                      <a:pt x="278" y="46"/>
                    </a:lnTo>
                    <a:lnTo>
                      <a:pt x="270" y="76"/>
                    </a:lnTo>
                    <a:lnTo>
                      <a:pt x="264" y="94"/>
                    </a:lnTo>
                    <a:lnTo>
                      <a:pt x="259" y="111"/>
                    </a:lnTo>
                    <a:lnTo>
                      <a:pt x="251" y="129"/>
                    </a:lnTo>
                    <a:lnTo>
                      <a:pt x="244" y="148"/>
                    </a:lnTo>
                    <a:lnTo>
                      <a:pt x="234" y="166"/>
                    </a:lnTo>
                    <a:lnTo>
                      <a:pt x="224" y="183"/>
                    </a:lnTo>
                    <a:lnTo>
                      <a:pt x="212" y="201"/>
                    </a:lnTo>
                    <a:lnTo>
                      <a:pt x="199" y="218"/>
                    </a:lnTo>
                    <a:lnTo>
                      <a:pt x="187" y="233"/>
                    </a:lnTo>
                    <a:lnTo>
                      <a:pt x="174" y="246"/>
                    </a:lnTo>
                    <a:lnTo>
                      <a:pt x="162" y="258"/>
                    </a:lnTo>
                    <a:lnTo>
                      <a:pt x="150" y="268"/>
                    </a:lnTo>
                    <a:lnTo>
                      <a:pt x="139" y="275"/>
                    </a:lnTo>
                    <a:lnTo>
                      <a:pt x="128" y="283"/>
                    </a:lnTo>
                    <a:lnTo>
                      <a:pt x="117" y="288"/>
                    </a:lnTo>
                    <a:lnTo>
                      <a:pt x="109" y="292"/>
                    </a:lnTo>
                    <a:lnTo>
                      <a:pt x="99" y="296"/>
                    </a:lnTo>
                    <a:lnTo>
                      <a:pt x="91" y="298"/>
                    </a:lnTo>
                    <a:lnTo>
                      <a:pt x="83" y="300"/>
                    </a:lnTo>
                    <a:lnTo>
                      <a:pt x="76" y="301"/>
                    </a:lnTo>
                    <a:lnTo>
                      <a:pt x="63" y="302"/>
                    </a:lnTo>
                    <a:lnTo>
                      <a:pt x="54" y="302"/>
                    </a:lnTo>
                    <a:lnTo>
                      <a:pt x="49" y="302"/>
                    </a:lnTo>
                    <a:lnTo>
                      <a:pt x="45" y="304"/>
                    </a:lnTo>
                    <a:lnTo>
                      <a:pt x="41" y="306"/>
                    </a:lnTo>
                    <a:lnTo>
                      <a:pt x="36" y="310"/>
                    </a:lnTo>
                    <a:lnTo>
                      <a:pt x="27" y="317"/>
                    </a:lnTo>
                    <a:lnTo>
                      <a:pt x="18" y="327"/>
                    </a:lnTo>
                    <a:lnTo>
                      <a:pt x="10" y="336"/>
                    </a:lnTo>
                    <a:lnTo>
                      <a:pt x="5" y="343"/>
                    </a:lnTo>
                    <a:lnTo>
                      <a:pt x="1" y="350"/>
                    </a:lnTo>
                    <a:lnTo>
                      <a:pt x="0" y="352"/>
                    </a:lnTo>
                    <a:close/>
                  </a:path>
                </a:pathLst>
              </a:custGeom>
              <a:solidFill>
                <a:srgbClr val="b887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5667480" y="3386160"/>
                <a:ext cx="117360" cy="85680"/>
              </a:xfrm>
              <a:custGeom>
                <a:avLst/>
                <a:gdLst/>
                <a:ahLst/>
                <a:rect l="l" t="t" r="r" b="b"/>
                <a:pathLst>
                  <a:path w="368" h="273">
                    <a:moveTo>
                      <a:pt x="205" y="169"/>
                    </a:moveTo>
                    <a:lnTo>
                      <a:pt x="205" y="177"/>
                    </a:lnTo>
                    <a:lnTo>
                      <a:pt x="203" y="186"/>
                    </a:lnTo>
                    <a:lnTo>
                      <a:pt x="200" y="195"/>
                    </a:lnTo>
                    <a:lnTo>
                      <a:pt x="197" y="203"/>
                    </a:lnTo>
                    <a:lnTo>
                      <a:pt x="191" y="212"/>
                    </a:lnTo>
                    <a:lnTo>
                      <a:pt x="185" y="221"/>
                    </a:lnTo>
                    <a:lnTo>
                      <a:pt x="179" y="229"/>
                    </a:lnTo>
                    <a:lnTo>
                      <a:pt x="172" y="237"/>
                    </a:lnTo>
                    <a:lnTo>
                      <a:pt x="159" y="251"/>
                    </a:lnTo>
                    <a:lnTo>
                      <a:pt x="147" y="263"/>
                    </a:lnTo>
                    <a:lnTo>
                      <a:pt x="139" y="269"/>
                    </a:lnTo>
                    <a:lnTo>
                      <a:pt x="136" y="273"/>
                    </a:lnTo>
                    <a:lnTo>
                      <a:pt x="0" y="203"/>
                    </a:lnTo>
                    <a:lnTo>
                      <a:pt x="9" y="198"/>
                    </a:lnTo>
                    <a:lnTo>
                      <a:pt x="31" y="183"/>
                    </a:lnTo>
                    <a:lnTo>
                      <a:pt x="65" y="162"/>
                    </a:lnTo>
                    <a:lnTo>
                      <a:pt x="107" y="135"/>
                    </a:lnTo>
                    <a:lnTo>
                      <a:pt x="152" y="107"/>
                    </a:lnTo>
                    <a:lnTo>
                      <a:pt x="199" y="78"/>
                    </a:lnTo>
                    <a:lnTo>
                      <a:pt x="242" y="51"/>
                    </a:lnTo>
                    <a:lnTo>
                      <a:pt x="279" y="27"/>
                    </a:lnTo>
                    <a:lnTo>
                      <a:pt x="290" y="22"/>
                    </a:lnTo>
                    <a:lnTo>
                      <a:pt x="300" y="17"/>
                    </a:lnTo>
                    <a:lnTo>
                      <a:pt x="311" y="12"/>
                    </a:lnTo>
                    <a:lnTo>
                      <a:pt x="322" y="9"/>
                    </a:lnTo>
                    <a:lnTo>
                      <a:pt x="333" y="7"/>
                    </a:lnTo>
                    <a:lnTo>
                      <a:pt x="344" y="5"/>
                    </a:lnTo>
                    <a:lnTo>
                      <a:pt x="356" y="3"/>
                    </a:lnTo>
                    <a:lnTo>
                      <a:pt x="368" y="0"/>
                    </a:lnTo>
                    <a:lnTo>
                      <a:pt x="361" y="6"/>
                    </a:lnTo>
                    <a:lnTo>
                      <a:pt x="343" y="21"/>
                    </a:lnTo>
                    <a:lnTo>
                      <a:pt x="316" y="41"/>
                    </a:lnTo>
                    <a:lnTo>
                      <a:pt x="285" y="67"/>
                    </a:lnTo>
                    <a:lnTo>
                      <a:pt x="269" y="81"/>
                    </a:lnTo>
                    <a:lnTo>
                      <a:pt x="254" y="95"/>
                    </a:lnTo>
                    <a:lnTo>
                      <a:pt x="241" y="109"/>
                    </a:lnTo>
                    <a:lnTo>
                      <a:pt x="228" y="123"/>
                    </a:lnTo>
                    <a:lnTo>
                      <a:pt x="218" y="136"/>
                    </a:lnTo>
                    <a:lnTo>
                      <a:pt x="211" y="148"/>
                    </a:lnTo>
                    <a:lnTo>
                      <a:pt x="208" y="154"/>
                    </a:lnTo>
                    <a:lnTo>
                      <a:pt x="206" y="159"/>
                    </a:lnTo>
                    <a:lnTo>
                      <a:pt x="205" y="165"/>
                    </a:lnTo>
                    <a:lnTo>
                      <a:pt x="205" y="169"/>
                    </a:lnTo>
                    <a:close/>
                  </a:path>
                </a:pathLst>
              </a:custGeom>
              <a:solidFill>
                <a:srgbClr val="c590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5667480" y="3386160"/>
                <a:ext cx="110880" cy="84240"/>
              </a:xfrm>
              <a:custGeom>
                <a:avLst/>
                <a:gdLst/>
                <a:ahLst/>
                <a:rect l="l" t="t" r="r" b="b"/>
                <a:pathLst>
                  <a:path w="351" h="262">
                    <a:moveTo>
                      <a:pt x="178" y="163"/>
                    </a:moveTo>
                    <a:lnTo>
                      <a:pt x="178" y="171"/>
                    </a:lnTo>
                    <a:lnTo>
                      <a:pt x="176" y="180"/>
                    </a:lnTo>
                    <a:lnTo>
                      <a:pt x="174" y="189"/>
                    </a:lnTo>
                    <a:lnTo>
                      <a:pt x="171" y="197"/>
                    </a:lnTo>
                    <a:lnTo>
                      <a:pt x="165" y="206"/>
                    </a:lnTo>
                    <a:lnTo>
                      <a:pt x="160" y="214"/>
                    </a:lnTo>
                    <a:lnTo>
                      <a:pt x="155" y="222"/>
                    </a:lnTo>
                    <a:lnTo>
                      <a:pt x="149" y="230"/>
                    </a:lnTo>
                    <a:lnTo>
                      <a:pt x="137" y="243"/>
                    </a:lnTo>
                    <a:lnTo>
                      <a:pt x="126" y="252"/>
                    </a:lnTo>
                    <a:lnTo>
                      <a:pt x="119" y="260"/>
                    </a:lnTo>
                    <a:lnTo>
                      <a:pt x="116" y="262"/>
                    </a:lnTo>
                    <a:lnTo>
                      <a:pt x="0" y="200"/>
                    </a:lnTo>
                    <a:lnTo>
                      <a:pt x="9" y="195"/>
                    </a:lnTo>
                    <a:lnTo>
                      <a:pt x="31" y="180"/>
                    </a:lnTo>
                    <a:lnTo>
                      <a:pt x="65" y="159"/>
                    </a:lnTo>
                    <a:lnTo>
                      <a:pt x="107" y="132"/>
                    </a:lnTo>
                    <a:lnTo>
                      <a:pt x="152" y="104"/>
                    </a:lnTo>
                    <a:lnTo>
                      <a:pt x="199" y="75"/>
                    </a:lnTo>
                    <a:lnTo>
                      <a:pt x="242" y="48"/>
                    </a:lnTo>
                    <a:lnTo>
                      <a:pt x="279" y="24"/>
                    </a:lnTo>
                    <a:lnTo>
                      <a:pt x="290" y="19"/>
                    </a:lnTo>
                    <a:lnTo>
                      <a:pt x="299" y="15"/>
                    </a:lnTo>
                    <a:lnTo>
                      <a:pt x="308" y="11"/>
                    </a:lnTo>
                    <a:lnTo>
                      <a:pt x="316" y="8"/>
                    </a:lnTo>
                    <a:lnTo>
                      <a:pt x="324" y="6"/>
                    </a:lnTo>
                    <a:lnTo>
                      <a:pt x="333" y="5"/>
                    </a:lnTo>
                    <a:lnTo>
                      <a:pt x="341" y="3"/>
                    </a:lnTo>
                    <a:lnTo>
                      <a:pt x="351" y="0"/>
                    </a:lnTo>
                    <a:lnTo>
                      <a:pt x="344" y="5"/>
                    </a:lnTo>
                    <a:lnTo>
                      <a:pt x="323" y="19"/>
                    </a:lnTo>
                    <a:lnTo>
                      <a:pt x="294" y="39"/>
                    </a:lnTo>
                    <a:lnTo>
                      <a:pt x="262" y="64"/>
                    </a:lnTo>
                    <a:lnTo>
                      <a:pt x="245" y="78"/>
                    </a:lnTo>
                    <a:lnTo>
                      <a:pt x="229" y="92"/>
                    </a:lnTo>
                    <a:lnTo>
                      <a:pt x="215" y="105"/>
                    </a:lnTo>
                    <a:lnTo>
                      <a:pt x="202" y="118"/>
                    </a:lnTo>
                    <a:lnTo>
                      <a:pt x="191" y="131"/>
                    </a:lnTo>
                    <a:lnTo>
                      <a:pt x="183" y="143"/>
                    </a:lnTo>
                    <a:lnTo>
                      <a:pt x="181" y="149"/>
                    </a:lnTo>
                    <a:lnTo>
                      <a:pt x="178" y="154"/>
                    </a:lnTo>
                    <a:lnTo>
                      <a:pt x="177" y="158"/>
                    </a:lnTo>
                    <a:lnTo>
                      <a:pt x="178" y="163"/>
                    </a:lnTo>
                    <a:close/>
                  </a:path>
                </a:pathLst>
              </a:custGeom>
              <a:solidFill>
                <a:srgbClr val="c18e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5667480" y="3387960"/>
                <a:ext cx="104760" cy="79200"/>
              </a:xfrm>
              <a:custGeom>
                <a:avLst/>
                <a:gdLst/>
                <a:ahLst/>
                <a:rect l="l" t="t" r="r" b="b"/>
                <a:pathLst>
                  <a:path w="331" h="247">
                    <a:moveTo>
                      <a:pt x="161" y="161"/>
                    </a:moveTo>
                    <a:lnTo>
                      <a:pt x="161" y="168"/>
                    </a:lnTo>
                    <a:lnTo>
                      <a:pt x="159" y="177"/>
                    </a:lnTo>
                    <a:lnTo>
                      <a:pt x="157" y="185"/>
                    </a:lnTo>
                    <a:lnTo>
                      <a:pt x="154" y="193"/>
                    </a:lnTo>
                    <a:lnTo>
                      <a:pt x="148" y="201"/>
                    </a:lnTo>
                    <a:lnTo>
                      <a:pt x="143" y="207"/>
                    </a:lnTo>
                    <a:lnTo>
                      <a:pt x="137" y="214"/>
                    </a:lnTo>
                    <a:lnTo>
                      <a:pt x="132" y="220"/>
                    </a:lnTo>
                    <a:lnTo>
                      <a:pt x="120" y="231"/>
                    </a:lnTo>
                    <a:lnTo>
                      <a:pt x="109" y="240"/>
                    </a:lnTo>
                    <a:lnTo>
                      <a:pt x="102" y="245"/>
                    </a:lnTo>
                    <a:lnTo>
                      <a:pt x="98" y="247"/>
                    </a:lnTo>
                    <a:lnTo>
                      <a:pt x="0" y="195"/>
                    </a:lnTo>
                    <a:lnTo>
                      <a:pt x="9" y="190"/>
                    </a:lnTo>
                    <a:lnTo>
                      <a:pt x="31" y="175"/>
                    </a:lnTo>
                    <a:lnTo>
                      <a:pt x="65" y="154"/>
                    </a:lnTo>
                    <a:lnTo>
                      <a:pt x="107" y="127"/>
                    </a:lnTo>
                    <a:lnTo>
                      <a:pt x="152" y="99"/>
                    </a:lnTo>
                    <a:lnTo>
                      <a:pt x="199" y="70"/>
                    </a:lnTo>
                    <a:lnTo>
                      <a:pt x="242" y="43"/>
                    </a:lnTo>
                    <a:lnTo>
                      <a:pt x="279" y="19"/>
                    </a:lnTo>
                    <a:lnTo>
                      <a:pt x="290" y="14"/>
                    </a:lnTo>
                    <a:lnTo>
                      <a:pt x="297" y="10"/>
                    </a:lnTo>
                    <a:lnTo>
                      <a:pt x="304" y="7"/>
                    </a:lnTo>
                    <a:lnTo>
                      <a:pt x="310" y="5"/>
                    </a:lnTo>
                    <a:lnTo>
                      <a:pt x="314" y="4"/>
                    </a:lnTo>
                    <a:lnTo>
                      <a:pt x="320" y="3"/>
                    </a:lnTo>
                    <a:lnTo>
                      <a:pt x="325" y="1"/>
                    </a:lnTo>
                    <a:lnTo>
                      <a:pt x="331" y="0"/>
                    </a:lnTo>
                    <a:lnTo>
                      <a:pt x="323" y="5"/>
                    </a:lnTo>
                    <a:lnTo>
                      <a:pt x="304" y="18"/>
                    </a:lnTo>
                    <a:lnTo>
                      <a:pt x="276" y="39"/>
                    </a:lnTo>
                    <a:lnTo>
                      <a:pt x="244" y="64"/>
                    </a:lnTo>
                    <a:lnTo>
                      <a:pt x="228" y="77"/>
                    </a:lnTo>
                    <a:lnTo>
                      <a:pt x="212" y="91"/>
                    </a:lnTo>
                    <a:lnTo>
                      <a:pt x="198" y="104"/>
                    </a:lnTo>
                    <a:lnTo>
                      <a:pt x="185" y="117"/>
                    </a:lnTo>
                    <a:lnTo>
                      <a:pt x="174" y="130"/>
                    </a:lnTo>
                    <a:lnTo>
                      <a:pt x="166" y="141"/>
                    </a:lnTo>
                    <a:lnTo>
                      <a:pt x="163" y="147"/>
                    </a:lnTo>
                    <a:lnTo>
                      <a:pt x="162" y="151"/>
                    </a:lnTo>
                    <a:lnTo>
                      <a:pt x="161" y="157"/>
                    </a:lnTo>
                    <a:lnTo>
                      <a:pt x="161" y="161"/>
                    </a:lnTo>
                    <a:close/>
                  </a:path>
                </a:pathLst>
              </a:custGeom>
              <a:solidFill>
                <a:srgbClr val="bc89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5667480" y="3389400"/>
                <a:ext cx="99720" cy="74520"/>
              </a:xfrm>
              <a:custGeom>
                <a:avLst/>
                <a:gdLst/>
                <a:ahLst/>
                <a:rect l="l" t="t" r="r" b="b"/>
                <a:pathLst>
                  <a:path w="313" h="236">
                    <a:moveTo>
                      <a:pt x="79" y="236"/>
                    </a:moveTo>
                    <a:lnTo>
                      <a:pt x="0" y="193"/>
                    </a:lnTo>
                    <a:lnTo>
                      <a:pt x="9" y="188"/>
                    </a:lnTo>
                    <a:lnTo>
                      <a:pt x="31" y="173"/>
                    </a:lnTo>
                    <a:lnTo>
                      <a:pt x="65" y="152"/>
                    </a:lnTo>
                    <a:lnTo>
                      <a:pt x="107" y="125"/>
                    </a:lnTo>
                    <a:lnTo>
                      <a:pt x="152" y="97"/>
                    </a:lnTo>
                    <a:lnTo>
                      <a:pt x="199" y="68"/>
                    </a:lnTo>
                    <a:lnTo>
                      <a:pt x="242" y="41"/>
                    </a:lnTo>
                    <a:lnTo>
                      <a:pt x="279" y="17"/>
                    </a:lnTo>
                    <a:lnTo>
                      <a:pt x="289" y="12"/>
                    </a:lnTo>
                    <a:lnTo>
                      <a:pt x="296" y="9"/>
                    </a:lnTo>
                    <a:lnTo>
                      <a:pt x="300" y="7"/>
                    </a:lnTo>
                    <a:lnTo>
                      <a:pt x="304" y="5"/>
                    </a:lnTo>
                    <a:lnTo>
                      <a:pt x="306" y="4"/>
                    </a:lnTo>
                    <a:lnTo>
                      <a:pt x="308" y="3"/>
                    </a:lnTo>
                    <a:lnTo>
                      <a:pt x="311" y="2"/>
                    </a:lnTo>
                    <a:lnTo>
                      <a:pt x="313" y="0"/>
                    </a:lnTo>
                    <a:lnTo>
                      <a:pt x="306" y="5"/>
                    </a:lnTo>
                    <a:lnTo>
                      <a:pt x="284" y="20"/>
                    </a:lnTo>
                    <a:lnTo>
                      <a:pt x="255" y="40"/>
                    </a:lnTo>
                    <a:lnTo>
                      <a:pt x="220" y="65"/>
                    </a:lnTo>
                    <a:lnTo>
                      <a:pt x="203" y="79"/>
                    </a:lnTo>
                    <a:lnTo>
                      <a:pt x="187" y="92"/>
                    </a:lnTo>
                    <a:lnTo>
                      <a:pt x="172" y="106"/>
                    </a:lnTo>
                    <a:lnTo>
                      <a:pt x="159" y="119"/>
                    </a:lnTo>
                    <a:lnTo>
                      <a:pt x="147" y="132"/>
                    </a:lnTo>
                    <a:lnTo>
                      <a:pt x="139" y="144"/>
                    </a:lnTo>
                    <a:lnTo>
                      <a:pt x="136" y="149"/>
                    </a:lnTo>
                    <a:lnTo>
                      <a:pt x="134" y="155"/>
                    </a:lnTo>
                    <a:lnTo>
                      <a:pt x="133" y="159"/>
                    </a:lnTo>
                    <a:lnTo>
                      <a:pt x="133" y="163"/>
                    </a:lnTo>
                    <a:lnTo>
                      <a:pt x="134" y="172"/>
                    </a:lnTo>
                    <a:lnTo>
                      <a:pt x="132" y="179"/>
                    </a:lnTo>
                    <a:lnTo>
                      <a:pt x="130" y="187"/>
                    </a:lnTo>
                    <a:lnTo>
                      <a:pt x="126" y="193"/>
                    </a:lnTo>
                    <a:lnTo>
                      <a:pt x="123" y="200"/>
                    </a:lnTo>
                    <a:lnTo>
                      <a:pt x="118" y="205"/>
                    </a:lnTo>
                    <a:lnTo>
                      <a:pt x="114" y="211"/>
                    </a:lnTo>
                    <a:lnTo>
                      <a:pt x="108" y="216"/>
                    </a:lnTo>
                    <a:lnTo>
                      <a:pt x="97" y="225"/>
                    </a:lnTo>
                    <a:lnTo>
                      <a:pt x="89" y="230"/>
                    </a:lnTo>
                    <a:lnTo>
                      <a:pt x="81" y="234"/>
                    </a:lnTo>
                    <a:lnTo>
                      <a:pt x="79" y="236"/>
                    </a:lnTo>
                    <a:close/>
                  </a:path>
                </a:pathLst>
              </a:custGeom>
              <a:solidFill>
                <a:srgbClr val="b887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5748480" y="3273480"/>
                <a:ext cx="187200" cy="84240"/>
              </a:xfrm>
              <a:custGeom>
                <a:avLst/>
                <a:gdLst/>
                <a:ahLst/>
                <a:rect l="l" t="t" r="r" b="b"/>
                <a:pathLst>
                  <a:path w="590" h="266">
                    <a:moveTo>
                      <a:pt x="514" y="70"/>
                    </a:moveTo>
                    <a:lnTo>
                      <a:pt x="508" y="74"/>
                    </a:lnTo>
                    <a:lnTo>
                      <a:pt x="488" y="81"/>
                    </a:lnTo>
                    <a:lnTo>
                      <a:pt x="459" y="92"/>
                    </a:lnTo>
                    <a:lnTo>
                      <a:pt x="425" y="105"/>
                    </a:lnTo>
                    <a:lnTo>
                      <a:pt x="389" y="119"/>
                    </a:lnTo>
                    <a:lnTo>
                      <a:pt x="353" y="132"/>
                    </a:lnTo>
                    <a:lnTo>
                      <a:pt x="321" y="143"/>
                    </a:lnTo>
                    <a:lnTo>
                      <a:pt x="297" y="149"/>
                    </a:lnTo>
                    <a:lnTo>
                      <a:pt x="277" y="153"/>
                    </a:lnTo>
                    <a:lnTo>
                      <a:pt x="256" y="159"/>
                    </a:lnTo>
                    <a:lnTo>
                      <a:pt x="231" y="166"/>
                    </a:lnTo>
                    <a:lnTo>
                      <a:pt x="204" y="175"/>
                    </a:lnTo>
                    <a:lnTo>
                      <a:pt x="173" y="188"/>
                    </a:lnTo>
                    <a:lnTo>
                      <a:pt x="137" y="204"/>
                    </a:lnTo>
                    <a:lnTo>
                      <a:pt x="97" y="224"/>
                    </a:lnTo>
                    <a:lnTo>
                      <a:pt x="52" y="249"/>
                    </a:lnTo>
                    <a:lnTo>
                      <a:pt x="41" y="254"/>
                    </a:lnTo>
                    <a:lnTo>
                      <a:pt x="31" y="259"/>
                    </a:lnTo>
                    <a:lnTo>
                      <a:pt x="22" y="263"/>
                    </a:lnTo>
                    <a:lnTo>
                      <a:pt x="16" y="265"/>
                    </a:lnTo>
                    <a:lnTo>
                      <a:pt x="11" y="266"/>
                    </a:lnTo>
                    <a:lnTo>
                      <a:pt x="6" y="266"/>
                    </a:lnTo>
                    <a:lnTo>
                      <a:pt x="3" y="265"/>
                    </a:lnTo>
                    <a:lnTo>
                      <a:pt x="1" y="263"/>
                    </a:lnTo>
                    <a:lnTo>
                      <a:pt x="0" y="259"/>
                    </a:lnTo>
                    <a:lnTo>
                      <a:pt x="1" y="255"/>
                    </a:lnTo>
                    <a:lnTo>
                      <a:pt x="2" y="250"/>
                    </a:lnTo>
                    <a:lnTo>
                      <a:pt x="5" y="244"/>
                    </a:lnTo>
                    <a:lnTo>
                      <a:pt x="14" y="230"/>
                    </a:lnTo>
                    <a:lnTo>
                      <a:pt x="26" y="215"/>
                    </a:lnTo>
                    <a:lnTo>
                      <a:pt x="42" y="198"/>
                    </a:lnTo>
                    <a:lnTo>
                      <a:pt x="61" y="178"/>
                    </a:lnTo>
                    <a:lnTo>
                      <a:pt x="85" y="159"/>
                    </a:lnTo>
                    <a:lnTo>
                      <a:pt x="110" y="139"/>
                    </a:lnTo>
                    <a:lnTo>
                      <a:pt x="139" y="120"/>
                    </a:lnTo>
                    <a:lnTo>
                      <a:pt x="169" y="103"/>
                    </a:lnTo>
                    <a:lnTo>
                      <a:pt x="186" y="93"/>
                    </a:lnTo>
                    <a:lnTo>
                      <a:pt x="203" y="85"/>
                    </a:lnTo>
                    <a:lnTo>
                      <a:pt x="220" y="78"/>
                    </a:lnTo>
                    <a:lnTo>
                      <a:pt x="237" y="70"/>
                    </a:lnTo>
                    <a:lnTo>
                      <a:pt x="272" y="57"/>
                    </a:lnTo>
                    <a:lnTo>
                      <a:pt x="306" y="47"/>
                    </a:lnTo>
                    <a:lnTo>
                      <a:pt x="338" y="36"/>
                    </a:lnTo>
                    <a:lnTo>
                      <a:pt x="368" y="27"/>
                    </a:lnTo>
                    <a:lnTo>
                      <a:pt x="397" y="21"/>
                    </a:lnTo>
                    <a:lnTo>
                      <a:pt x="424" y="14"/>
                    </a:lnTo>
                    <a:lnTo>
                      <a:pt x="450" y="9"/>
                    </a:lnTo>
                    <a:lnTo>
                      <a:pt x="474" y="6"/>
                    </a:lnTo>
                    <a:lnTo>
                      <a:pt x="496" y="2"/>
                    </a:lnTo>
                    <a:lnTo>
                      <a:pt x="515" y="1"/>
                    </a:lnTo>
                    <a:lnTo>
                      <a:pt x="533" y="0"/>
                    </a:lnTo>
                    <a:lnTo>
                      <a:pt x="549" y="1"/>
                    </a:lnTo>
                    <a:lnTo>
                      <a:pt x="562" y="2"/>
                    </a:lnTo>
                    <a:lnTo>
                      <a:pt x="572" y="4"/>
                    </a:lnTo>
                    <a:lnTo>
                      <a:pt x="581" y="7"/>
                    </a:lnTo>
                    <a:lnTo>
                      <a:pt x="586" y="11"/>
                    </a:lnTo>
                    <a:lnTo>
                      <a:pt x="587" y="13"/>
                    </a:lnTo>
                    <a:lnTo>
                      <a:pt x="589" y="15"/>
                    </a:lnTo>
                    <a:lnTo>
                      <a:pt x="590" y="17"/>
                    </a:lnTo>
                    <a:lnTo>
                      <a:pt x="590" y="20"/>
                    </a:lnTo>
                    <a:lnTo>
                      <a:pt x="587" y="25"/>
                    </a:lnTo>
                    <a:lnTo>
                      <a:pt x="584" y="29"/>
                    </a:lnTo>
                    <a:lnTo>
                      <a:pt x="579" y="35"/>
                    </a:lnTo>
                    <a:lnTo>
                      <a:pt x="573" y="39"/>
                    </a:lnTo>
                    <a:lnTo>
                      <a:pt x="566" y="44"/>
                    </a:lnTo>
                    <a:lnTo>
                      <a:pt x="558" y="49"/>
                    </a:lnTo>
                    <a:lnTo>
                      <a:pt x="543" y="57"/>
                    </a:lnTo>
                    <a:lnTo>
                      <a:pt x="529" y="64"/>
                    </a:lnTo>
                    <a:lnTo>
                      <a:pt x="518" y="68"/>
                    </a:lnTo>
                    <a:lnTo>
                      <a:pt x="514" y="70"/>
                    </a:lnTo>
                    <a:close/>
                  </a:path>
                </a:pathLst>
              </a:custGeom>
              <a:solidFill>
                <a:srgbClr val="9dca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5767200" y="3273480"/>
                <a:ext cx="166680" cy="74520"/>
              </a:xfrm>
              <a:custGeom>
                <a:avLst/>
                <a:gdLst/>
                <a:ahLst/>
                <a:rect l="l" t="t" r="r" b="b"/>
                <a:pathLst>
                  <a:path w="524" h="235">
                    <a:moveTo>
                      <a:pt x="47" y="221"/>
                    </a:moveTo>
                    <a:lnTo>
                      <a:pt x="37" y="226"/>
                    </a:lnTo>
                    <a:lnTo>
                      <a:pt x="29" y="229"/>
                    </a:lnTo>
                    <a:lnTo>
                      <a:pt x="21" y="233"/>
                    </a:lnTo>
                    <a:lnTo>
                      <a:pt x="15" y="234"/>
                    </a:lnTo>
                    <a:lnTo>
                      <a:pt x="9" y="235"/>
                    </a:lnTo>
                    <a:lnTo>
                      <a:pt x="5" y="235"/>
                    </a:lnTo>
                    <a:lnTo>
                      <a:pt x="3" y="233"/>
                    </a:lnTo>
                    <a:lnTo>
                      <a:pt x="0" y="230"/>
                    </a:lnTo>
                    <a:lnTo>
                      <a:pt x="0" y="228"/>
                    </a:lnTo>
                    <a:lnTo>
                      <a:pt x="0" y="224"/>
                    </a:lnTo>
                    <a:lnTo>
                      <a:pt x="2" y="220"/>
                    </a:lnTo>
                    <a:lnTo>
                      <a:pt x="4" y="214"/>
                    </a:lnTo>
                    <a:lnTo>
                      <a:pt x="11" y="202"/>
                    </a:lnTo>
                    <a:lnTo>
                      <a:pt x="23" y="188"/>
                    </a:lnTo>
                    <a:lnTo>
                      <a:pt x="37" y="173"/>
                    </a:lnTo>
                    <a:lnTo>
                      <a:pt x="54" y="157"/>
                    </a:lnTo>
                    <a:lnTo>
                      <a:pt x="75" y="140"/>
                    </a:lnTo>
                    <a:lnTo>
                      <a:pt x="98" y="122"/>
                    </a:lnTo>
                    <a:lnTo>
                      <a:pt x="123" y="106"/>
                    </a:lnTo>
                    <a:lnTo>
                      <a:pt x="150" y="90"/>
                    </a:lnTo>
                    <a:lnTo>
                      <a:pt x="165" y="82"/>
                    </a:lnTo>
                    <a:lnTo>
                      <a:pt x="179" y="75"/>
                    </a:lnTo>
                    <a:lnTo>
                      <a:pt x="195" y="68"/>
                    </a:lnTo>
                    <a:lnTo>
                      <a:pt x="210" y="62"/>
                    </a:lnTo>
                    <a:lnTo>
                      <a:pt x="241" y="51"/>
                    </a:lnTo>
                    <a:lnTo>
                      <a:pt x="271" y="40"/>
                    </a:lnTo>
                    <a:lnTo>
                      <a:pt x="300" y="32"/>
                    </a:lnTo>
                    <a:lnTo>
                      <a:pt x="327" y="24"/>
                    </a:lnTo>
                    <a:lnTo>
                      <a:pt x="353" y="18"/>
                    </a:lnTo>
                    <a:lnTo>
                      <a:pt x="377" y="12"/>
                    </a:lnTo>
                    <a:lnTo>
                      <a:pt x="400" y="8"/>
                    </a:lnTo>
                    <a:lnTo>
                      <a:pt x="422" y="5"/>
                    </a:lnTo>
                    <a:lnTo>
                      <a:pt x="441" y="3"/>
                    </a:lnTo>
                    <a:lnTo>
                      <a:pt x="458" y="1"/>
                    </a:lnTo>
                    <a:lnTo>
                      <a:pt x="475" y="0"/>
                    </a:lnTo>
                    <a:lnTo>
                      <a:pt x="488" y="1"/>
                    </a:lnTo>
                    <a:lnTo>
                      <a:pt x="500" y="3"/>
                    </a:lnTo>
                    <a:lnTo>
                      <a:pt x="509" y="5"/>
                    </a:lnTo>
                    <a:lnTo>
                      <a:pt x="517" y="7"/>
                    </a:lnTo>
                    <a:lnTo>
                      <a:pt x="521" y="10"/>
                    </a:lnTo>
                    <a:lnTo>
                      <a:pt x="524" y="14"/>
                    </a:lnTo>
                    <a:lnTo>
                      <a:pt x="524" y="19"/>
                    </a:lnTo>
                    <a:lnTo>
                      <a:pt x="523" y="23"/>
                    </a:lnTo>
                    <a:lnTo>
                      <a:pt x="520" y="27"/>
                    </a:lnTo>
                    <a:lnTo>
                      <a:pt x="516" y="32"/>
                    </a:lnTo>
                    <a:lnTo>
                      <a:pt x="510" y="36"/>
                    </a:lnTo>
                    <a:lnTo>
                      <a:pt x="504" y="40"/>
                    </a:lnTo>
                    <a:lnTo>
                      <a:pt x="496" y="45"/>
                    </a:lnTo>
                    <a:lnTo>
                      <a:pt x="482" y="53"/>
                    </a:lnTo>
                    <a:lnTo>
                      <a:pt x="470" y="59"/>
                    </a:lnTo>
                    <a:lnTo>
                      <a:pt x="461" y="63"/>
                    </a:lnTo>
                    <a:lnTo>
                      <a:pt x="457" y="65"/>
                    </a:lnTo>
                    <a:lnTo>
                      <a:pt x="451" y="67"/>
                    </a:lnTo>
                    <a:lnTo>
                      <a:pt x="434" y="74"/>
                    </a:lnTo>
                    <a:lnTo>
                      <a:pt x="408" y="84"/>
                    </a:lnTo>
                    <a:lnTo>
                      <a:pt x="377" y="94"/>
                    </a:lnTo>
                    <a:lnTo>
                      <a:pt x="345" y="106"/>
                    </a:lnTo>
                    <a:lnTo>
                      <a:pt x="314" y="117"/>
                    </a:lnTo>
                    <a:lnTo>
                      <a:pt x="286" y="126"/>
                    </a:lnTo>
                    <a:lnTo>
                      <a:pt x="264" y="131"/>
                    </a:lnTo>
                    <a:lnTo>
                      <a:pt x="247" y="135"/>
                    </a:lnTo>
                    <a:lnTo>
                      <a:pt x="227" y="141"/>
                    </a:lnTo>
                    <a:lnTo>
                      <a:pt x="206" y="147"/>
                    </a:lnTo>
                    <a:lnTo>
                      <a:pt x="182" y="156"/>
                    </a:lnTo>
                    <a:lnTo>
                      <a:pt x="154" y="167"/>
                    </a:lnTo>
                    <a:lnTo>
                      <a:pt x="123" y="181"/>
                    </a:lnTo>
                    <a:lnTo>
                      <a:pt x="87" y="199"/>
                    </a:lnTo>
                    <a:lnTo>
                      <a:pt x="47" y="221"/>
                    </a:lnTo>
                    <a:close/>
                  </a:path>
                </a:pathLst>
              </a:custGeom>
              <a:solidFill>
                <a:srgbClr val="94c3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5786280" y="3274920"/>
                <a:ext cx="146160" cy="65160"/>
              </a:xfrm>
              <a:custGeom>
                <a:avLst/>
                <a:gdLst/>
                <a:ahLst/>
                <a:rect l="l" t="t" r="r" b="b"/>
                <a:pathLst>
                  <a:path w="459" h="201">
                    <a:moveTo>
                      <a:pt x="41" y="189"/>
                    </a:moveTo>
                    <a:lnTo>
                      <a:pt x="25" y="196"/>
                    </a:lnTo>
                    <a:lnTo>
                      <a:pt x="12" y="201"/>
                    </a:lnTo>
                    <a:lnTo>
                      <a:pt x="7" y="201"/>
                    </a:lnTo>
                    <a:lnTo>
                      <a:pt x="4" y="201"/>
                    </a:lnTo>
                    <a:lnTo>
                      <a:pt x="2" y="199"/>
                    </a:lnTo>
                    <a:lnTo>
                      <a:pt x="0" y="197"/>
                    </a:lnTo>
                    <a:lnTo>
                      <a:pt x="0" y="194"/>
                    </a:lnTo>
                    <a:lnTo>
                      <a:pt x="0" y="191"/>
                    </a:lnTo>
                    <a:lnTo>
                      <a:pt x="1" y="188"/>
                    </a:lnTo>
                    <a:lnTo>
                      <a:pt x="3" y="182"/>
                    </a:lnTo>
                    <a:lnTo>
                      <a:pt x="10" y="172"/>
                    </a:lnTo>
                    <a:lnTo>
                      <a:pt x="19" y="160"/>
                    </a:lnTo>
                    <a:lnTo>
                      <a:pt x="32" y="147"/>
                    </a:lnTo>
                    <a:lnTo>
                      <a:pt x="47" y="131"/>
                    </a:lnTo>
                    <a:lnTo>
                      <a:pt x="65" y="117"/>
                    </a:lnTo>
                    <a:lnTo>
                      <a:pt x="85" y="102"/>
                    </a:lnTo>
                    <a:lnTo>
                      <a:pt x="108" y="87"/>
                    </a:lnTo>
                    <a:lnTo>
                      <a:pt x="132" y="73"/>
                    </a:lnTo>
                    <a:lnTo>
                      <a:pt x="158" y="61"/>
                    </a:lnTo>
                    <a:lnTo>
                      <a:pt x="185" y="49"/>
                    </a:lnTo>
                    <a:lnTo>
                      <a:pt x="212" y="41"/>
                    </a:lnTo>
                    <a:lnTo>
                      <a:pt x="239" y="32"/>
                    </a:lnTo>
                    <a:lnTo>
                      <a:pt x="263" y="26"/>
                    </a:lnTo>
                    <a:lnTo>
                      <a:pt x="287" y="19"/>
                    </a:lnTo>
                    <a:lnTo>
                      <a:pt x="310" y="14"/>
                    </a:lnTo>
                    <a:lnTo>
                      <a:pt x="332" y="9"/>
                    </a:lnTo>
                    <a:lnTo>
                      <a:pt x="351" y="6"/>
                    </a:lnTo>
                    <a:lnTo>
                      <a:pt x="369" y="3"/>
                    </a:lnTo>
                    <a:lnTo>
                      <a:pt x="387" y="1"/>
                    </a:lnTo>
                    <a:lnTo>
                      <a:pt x="402" y="0"/>
                    </a:lnTo>
                    <a:lnTo>
                      <a:pt x="416" y="0"/>
                    </a:lnTo>
                    <a:lnTo>
                      <a:pt x="428" y="0"/>
                    </a:lnTo>
                    <a:lnTo>
                      <a:pt x="437" y="1"/>
                    </a:lnTo>
                    <a:lnTo>
                      <a:pt x="446" y="3"/>
                    </a:lnTo>
                    <a:lnTo>
                      <a:pt x="453" y="5"/>
                    </a:lnTo>
                    <a:lnTo>
                      <a:pt x="457" y="8"/>
                    </a:lnTo>
                    <a:lnTo>
                      <a:pt x="459" y="12"/>
                    </a:lnTo>
                    <a:lnTo>
                      <a:pt x="459" y="15"/>
                    </a:lnTo>
                    <a:lnTo>
                      <a:pt x="458" y="19"/>
                    </a:lnTo>
                    <a:lnTo>
                      <a:pt x="455" y="22"/>
                    </a:lnTo>
                    <a:lnTo>
                      <a:pt x="446" y="30"/>
                    </a:lnTo>
                    <a:lnTo>
                      <a:pt x="434" y="37"/>
                    </a:lnTo>
                    <a:lnTo>
                      <a:pt x="422" y="45"/>
                    </a:lnTo>
                    <a:lnTo>
                      <a:pt x="411" y="49"/>
                    </a:lnTo>
                    <a:lnTo>
                      <a:pt x="403" y="54"/>
                    </a:lnTo>
                    <a:lnTo>
                      <a:pt x="400" y="55"/>
                    </a:lnTo>
                    <a:lnTo>
                      <a:pt x="394" y="57"/>
                    </a:lnTo>
                    <a:lnTo>
                      <a:pt x="379" y="62"/>
                    </a:lnTo>
                    <a:lnTo>
                      <a:pt x="357" y="71"/>
                    </a:lnTo>
                    <a:lnTo>
                      <a:pt x="330" y="81"/>
                    </a:lnTo>
                    <a:lnTo>
                      <a:pt x="302" y="90"/>
                    </a:lnTo>
                    <a:lnTo>
                      <a:pt x="274" y="100"/>
                    </a:lnTo>
                    <a:lnTo>
                      <a:pt x="250" y="107"/>
                    </a:lnTo>
                    <a:lnTo>
                      <a:pt x="231" y="112"/>
                    </a:lnTo>
                    <a:lnTo>
                      <a:pt x="216" y="115"/>
                    </a:lnTo>
                    <a:lnTo>
                      <a:pt x="199" y="118"/>
                    </a:lnTo>
                    <a:lnTo>
                      <a:pt x="180" y="124"/>
                    </a:lnTo>
                    <a:lnTo>
                      <a:pt x="159" y="131"/>
                    </a:lnTo>
                    <a:lnTo>
                      <a:pt x="135" y="141"/>
                    </a:lnTo>
                    <a:lnTo>
                      <a:pt x="107" y="153"/>
                    </a:lnTo>
                    <a:lnTo>
                      <a:pt x="77" y="169"/>
                    </a:lnTo>
                    <a:lnTo>
                      <a:pt x="41" y="189"/>
                    </a:lnTo>
                    <a:close/>
                  </a:path>
                </a:pathLst>
              </a:custGeom>
              <a:solidFill>
                <a:srgbClr val="8bb9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5805360" y="3276720"/>
                <a:ext cx="125640" cy="54000"/>
              </a:xfrm>
              <a:custGeom>
                <a:avLst/>
                <a:gdLst/>
                <a:ahLst/>
                <a:rect l="l" t="t" r="r" b="b"/>
                <a:pathLst>
                  <a:path w="396" h="168">
                    <a:moveTo>
                      <a:pt x="36" y="158"/>
                    </a:moveTo>
                    <a:lnTo>
                      <a:pt x="21" y="164"/>
                    </a:lnTo>
                    <a:lnTo>
                      <a:pt x="11" y="167"/>
                    </a:lnTo>
                    <a:lnTo>
                      <a:pt x="7" y="168"/>
                    </a:lnTo>
                    <a:lnTo>
                      <a:pt x="4" y="167"/>
                    </a:lnTo>
                    <a:lnTo>
                      <a:pt x="1" y="166"/>
                    </a:lnTo>
                    <a:lnTo>
                      <a:pt x="0" y="165"/>
                    </a:lnTo>
                    <a:lnTo>
                      <a:pt x="0" y="163"/>
                    </a:lnTo>
                    <a:lnTo>
                      <a:pt x="0" y="160"/>
                    </a:lnTo>
                    <a:lnTo>
                      <a:pt x="1" y="157"/>
                    </a:lnTo>
                    <a:lnTo>
                      <a:pt x="4" y="152"/>
                    </a:lnTo>
                    <a:lnTo>
                      <a:pt x="9" y="144"/>
                    </a:lnTo>
                    <a:lnTo>
                      <a:pt x="18" y="134"/>
                    </a:lnTo>
                    <a:lnTo>
                      <a:pt x="28" y="122"/>
                    </a:lnTo>
                    <a:lnTo>
                      <a:pt x="41" y="110"/>
                    </a:lnTo>
                    <a:lnTo>
                      <a:pt x="58" y="97"/>
                    </a:lnTo>
                    <a:lnTo>
                      <a:pt x="75" y="85"/>
                    </a:lnTo>
                    <a:lnTo>
                      <a:pt x="93" y="73"/>
                    </a:lnTo>
                    <a:lnTo>
                      <a:pt x="114" y="61"/>
                    </a:lnTo>
                    <a:lnTo>
                      <a:pt x="136" y="51"/>
                    </a:lnTo>
                    <a:lnTo>
                      <a:pt x="159" y="42"/>
                    </a:lnTo>
                    <a:lnTo>
                      <a:pt x="183" y="34"/>
                    </a:lnTo>
                    <a:lnTo>
                      <a:pt x="206" y="27"/>
                    </a:lnTo>
                    <a:lnTo>
                      <a:pt x="227" y="20"/>
                    </a:lnTo>
                    <a:lnTo>
                      <a:pt x="248" y="16"/>
                    </a:lnTo>
                    <a:lnTo>
                      <a:pt x="287" y="7"/>
                    </a:lnTo>
                    <a:lnTo>
                      <a:pt x="319" y="2"/>
                    </a:lnTo>
                    <a:lnTo>
                      <a:pt x="334" y="1"/>
                    </a:lnTo>
                    <a:lnTo>
                      <a:pt x="347" y="0"/>
                    </a:lnTo>
                    <a:lnTo>
                      <a:pt x="359" y="0"/>
                    </a:lnTo>
                    <a:lnTo>
                      <a:pt x="369" y="0"/>
                    </a:lnTo>
                    <a:lnTo>
                      <a:pt x="377" y="1"/>
                    </a:lnTo>
                    <a:lnTo>
                      <a:pt x="385" y="3"/>
                    </a:lnTo>
                    <a:lnTo>
                      <a:pt x="390" y="4"/>
                    </a:lnTo>
                    <a:lnTo>
                      <a:pt x="394" y="7"/>
                    </a:lnTo>
                    <a:lnTo>
                      <a:pt x="396" y="11"/>
                    </a:lnTo>
                    <a:lnTo>
                      <a:pt x="396" y="13"/>
                    </a:lnTo>
                    <a:lnTo>
                      <a:pt x="395" y="16"/>
                    </a:lnTo>
                    <a:lnTo>
                      <a:pt x="393" y="19"/>
                    </a:lnTo>
                    <a:lnTo>
                      <a:pt x="385" y="26"/>
                    </a:lnTo>
                    <a:lnTo>
                      <a:pt x="375" y="32"/>
                    </a:lnTo>
                    <a:lnTo>
                      <a:pt x="364" y="38"/>
                    </a:lnTo>
                    <a:lnTo>
                      <a:pt x="355" y="43"/>
                    </a:lnTo>
                    <a:lnTo>
                      <a:pt x="347" y="45"/>
                    </a:lnTo>
                    <a:lnTo>
                      <a:pt x="345" y="46"/>
                    </a:lnTo>
                    <a:lnTo>
                      <a:pt x="340" y="49"/>
                    </a:lnTo>
                    <a:lnTo>
                      <a:pt x="327" y="54"/>
                    </a:lnTo>
                    <a:lnTo>
                      <a:pt x="307" y="60"/>
                    </a:lnTo>
                    <a:lnTo>
                      <a:pt x="284" y="68"/>
                    </a:lnTo>
                    <a:lnTo>
                      <a:pt x="260" y="77"/>
                    </a:lnTo>
                    <a:lnTo>
                      <a:pt x="236" y="84"/>
                    </a:lnTo>
                    <a:lnTo>
                      <a:pt x="215" y="91"/>
                    </a:lnTo>
                    <a:lnTo>
                      <a:pt x="199" y="94"/>
                    </a:lnTo>
                    <a:lnTo>
                      <a:pt x="186" y="97"/>
                    </a:lnTo>
                    <a:lnTo>
                      <a:pt x="172" y="100"/>
                    </a:lnTo>
                    <a:lnTo>
                      <a:pt x="156" y="105"/>
                    </a:lnTo>
                    <a:lnTo>
                      <a:pt x="138" y="111"/>
                    </a:lnTo>
                    <a:lnTo>
                      <a:pt x="117" y="119"/>
                    </a:lnTo>
                    <a:lnTo>
                      <a:pt x="93" y="130"/>
                    </a:lnTo>
                    <a:lnTo>
                      <a:pt x="66" y="142"/>
                    </a:lnTo>
                    <a:lnTo>
                      <a:pt x="36" y="158"/>
                    </a:lnTo>
                    <a:close/>
                  </a:path>
                </a:pathLst>
              </a:custGeom>
              <a:solidFill>
                <a:srgbClr val="84b3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5824440" y="3278160"/>
                <a:ext cx="104760" cy="42840"/>
              </a:xfrm>
              <a:custGeom>
                <a:avLst/>
                <a:gdLst/>
                <a:ahLst/>
                <a:rect l="l" t="t" r="r" b="b"/>
                <a:pathLst>
                  <a:path w="330" h="136">
                    <a:moveTo>
                      <a:pt x="29" y="128"/>
                    </a:moveTo>
                    <a:lnTo>
                      <a:pt x="17" y="133"/>
                    </a:lnTo>
                    <a:lnTo>
                      <a:pt x="9" y="136"/>
                    </a:lnTo>
                    <a:lnTo>
                      <a:pt x="5" y="136"/>
                    </a:lnTo>
                    <a:lnTo>
                      <a:pt x="3" y="136"/>
                    </a:lnTo>
                    <a:lnTo>
                      <a:pt x="1" y="135"/>
                    </a:lnTo>
                    <a:lnTo>
                      <a:pt x="0" y="134"/>
                    </a:lnTo>
                    <a:lnTo>
                      <a:pt x="1" y="130"/>
                    </a:lnTo>
                    <a:lnTo>
                      <a:pt x="3" y="123"/>
                    </a:lnTo>
                    <a:lnTo>
                      <a:pt x="9" y="117"/>
                    </a:lnTo>
                    <a:lnTo>
                      <a:pt x="15" y="108"/>
                    </a:lnTo>
                    <a:lnTo>
                      <a:pt x="25" y="98"/>
                    </a:lnTo>
                    <a:lnTo>
                      <a:pt x="36" y="89"/>
                    </a:lnTo>
                    <a:lnTo>
                      <a:pt x="50" y="79"/>
                    </a:lnTo>
                    <a:lnTo>
                      <a:pt x="64" y="68"/>
                    </a:lnTo>
                    <a:lnTo>
                      <a:pt x="80" y="58"/>
                    </a:lnTo>
                    <a:lnTo>
                      <a:pt x="97" y="50"/>
                    </a:lnTo>
                    <a:lnTo>
                      <a:pt x="115" y="41"/>
                    </a:lnTo>
                    <a:lnTo>
                      <a:pt x="135" y="34"/>
                    </a:lnTo>
                    <a:lnTo>
                      <a:pt x="173" y="22"/>
                    </a:lnTo>
                    <a:lnTo>
                      <a:pt x="208" y="12"/>
                    </a:lnTo>
                    <a:lnTo>
                      <a:pt x="240" y="6"/>
                    </a:lnTo>
                    <a:lnTo>
                      <a:pt x="267" y="2"/>
                    </a:lnTo>
                    <a:lnTo>
                      <a:pt x="290" y="0"/>
                    </a:lnTo>
                    <a:lnTo>
                      <a:pt x="309" y="0"/>
                    </a:lnTo>
                    <a:lnTo>
                      <a:pt x="315" y="1"/>
                    </a:lnTo>
                    <a:lnTo>
                      <a:pt x="322" y="3"/>
                    </a:lnTo>
                    <a:lnTo>
                      <a:pt x="325" y="4"/>
                    </a:lnTo>
                    <a:lnTo>
                      <a:pt x="328" y="7"/>
                    </a:lnTo>
                    <a:lnTo>
                      <a:pt x="329" y="9"/>
                    </a:lnTo>
                    <a:lnTo>
                      <a:pt x="330" y="12"/>
                    </a:lnTo>
                    <a:lnTo>
                      <a:pt x="329" y="14"/>
                    </a:lnTo>
                    <a:lnTo>
                      <a:pt x="327" y="17"/>
                    </a:lnTo>
                    <a:lnTo>
                      <a:pt x="321" y="23"/>
                    </a:lnTo>
                    <a:lnTo>
                      <a:pt x="313" y="27"/>
                    </a:lnTo>
                    <a:lnTo>
                      <a:pt x="305" y="31"/>
                    </a:lnTo>
                    <a:lnTo>
                      <a:pt x="297" y="36"/>
                    </a:lnTo>
                    <a:lnTo>
                      <a:pt x="290" y="38"/>
                    </a:lnTo>
                    <a:lnTo>
                      <a:pt x="288" y="39"/>
                    </a:lnTo>
                    <a:lnTo>
                      <a:pt x="284" y="40"/>
                    </a:lnTo>
                    <a:lnTo>
                      <a:pt x="273" y="44"/>
                    </a:lnTo>
                    <a:lnTo>
                      <a:pt x="257" y="50"/>
                    </a:lnTo>
                    <a:lnTo>
                      <a:pt x="239" y="55"/>
                    </a:lnTo>
                    <a:lnTo>
                      <a:pt x="218" y="62"/>
                    </a:lnTo>
                    <a:lnTo>
                      <a:pt x="198" y="68"/>
                    </a:lnTo>
                    <a:lnTo>
                      <a:pt x="180" y="73"/>
                    </a:lnTo>
                    <a:lnTo>
                      <a:pt x="167" y="76"/>
                    </a:lnTo>
                    <a:lnTo>
                      <a:pt x="155" y="79"/>
                    </a:lnTo>
                    <a:lnTo>
                      <a:pt x="144" y="82"/>
                    </a:lnTo>
                    <a:lnTo>
                      <a:pt x="129" y="85"/>
                    </a:lnTo>
                    <a:lnTo>
                      <a:pt x="114" y="91"/>
                    </a:lnTo>
                    <a:lnTo>
                      <a:pt x="96" y="97"/>
                    </a:lnTo>
                    <a:lnTo>
                      <a:pt x="77" y="105"/>
                    </a:lnTo>
                    <a:lnTo>
                      <a:pt x="54" y="116"/>
                    </a:lnTo>
                    <a:lnTo>
                      <a:pt x="29" y="128"/>
                    </a:lnTo>
                    <a:close/>
                  </a:path>
                </a:pathLst>
              </a:custGeom>
              <a:solidFill>
                <a:srgbClr val="7baa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5843520" y="3278160"/>
                <a:ext cx="85680" cy="33480"/>
              </a:xfrm>
              <a:custGeom>
                <a:avLst/>
                <a:gdLst/>
                <a:ahLst/>
                <a:rect l="l" t="t" r="r" b="b"/>
                <a:pathLst>
                  <a:path w="267" h="104">
                    <a:moveTo>
                      <a:pt x="23" y="98"/>
                    </a:moveTo>
                    <a:lnTo>
                      <a:pt x="14" y="102"/>
                    </a:lnTo>
                    <a:lnTo>
                      <a:pt x="7" y="104"/>
                    </a:lnTo>
                    <a:lnTo>
                      <a:pt x="5" y="104"/>
                    </a:lnTo>
                    <a:lnTo>
                      <a:pt x="3" y="104"/>
                    </a:lnTo>
                    <a:lnTo>
                      <a:pt x="1" y="104"/>
                    </a:lnTo>
                    <a:lnTo>
                      <a:pt x="0" y="102"/>
                    </a:lnTo>
                    <a:lnTo>
                      <a:pt x="0" y="99"/>
                    </a:lnTo>
                    <a:lnTo>
                      <a:pt x="3" y="94"/>
                    </a:lnTo>
                    <a:lnTo>
                      <a:pt x="7" y="89"/>
                    </a:lnTo>
                    <a:lnTo>
                      <a:pt x="13" y="82"/>
                    </a:lnTo>
                    <a:lnTo>
                      <a:pt x="21" y="75"/>
                    </a:lnTo>
                    <a:lnTo>
                      <a:pt x="30" y="66"/>
                    </a:lnTo>
                    <a:lnTo>
                      <a:pt x="40" y="59"/>
                    </a:lnTo>
                    <a:lnTo>
                      <a:pt x="52" y="51"/>
                    </a:lnTo>
                    <a:lnTo>
                      <a:pt x="65" y="43"/>
                    </a:lnTo>
                    <a:lnTo>
                      <a:pt x="79" y="36"/>
                    </a:lnTo>
                    <a:lnTo>
                      <a:pt x="94" y="30"/>
                    </a:lnTo>
                    <a:lnTo>
                      <a:pt x="109" y="23"/>
                    </a:lnTo>
                    <a:lnTo>
                      <a:pt x="141" y="14"/>
                    </a:lnTo>
                    <a:lnTo>
                      <a:pt x="168" y="8"/>
                    </a:lnTo>
                    <a:lnTo>
                      <a:pt x="194" y="4"/>
                    </a:lnTo>
                    <a:lnTo>
                      <a:pt x="215" y="1"/>
                    </a:lnTo>
                    <a:lnTo>
                      <a:pt x="234" y="0"/>
                    </a:lnTo>
                    <a:lnTo>
                      <a:pt x="249" y="1"/>
                    </a:lnTo>
                    <a:lnTo>
                      <a:pt x="255" y="1"/>
                    </a:lnTo>
                    <a:lnTo>
                      <a:pt x="260" y="3"/>
                    </a:lnTo>
                    <a:lnTo>
                      <a:pt x="263" y="5"/>
                    </a:lnTo>
                    <a:lnTo>
                      <a:pt x="266" y="6"/>
                    </a:lnTo>
                    <a:lnTo>
                      <a:pt x="267" y="8"/>
                    </a:lnTo>
                    <a:lnTo>
                      <a:pt x="267" y="10"/>
                    </a:lnTo>
                    <a:lnTo>
                      <a:pt x="266" y="12"/>
                    </a:lnTo>
                    <a:lnTo>
                      <a:pt x="264" y="14"/>
                    </a:lnTo>
                    <a:lnTo>
                      <a:pt x="259" y="19"/>
                    </a:lnTo>
                    <a:lnTo>
                      <a:pt x="252" y="22"/>
                    </a:lnTo>
                    <a:lnTo>
                      <a:pt x="245" y="25"/>
                    </a:lnTo>
                    <a:lnTo>
                      <a:pt x="238" y="28"/>
                    </a:lnTo>
                    <a:lnTo>
                      <a:pt x="233" y="31"/>
                    </a:lnTo>
                    <a:lnTo>
                      <a:pt x="232" y="31"/>
                    </a:lnTo>
                    <a:lnTo>
                      <a:pt x="228" y="32"/>
                    </a:lnTo>
                    <a:lnTo>
                      <a:pt x="220" y="35"/>
                    </a:lnTo>
                    <a:lnTo>
                      <a:pt x="207" y="39"/>
                    </a:lnTo>
                    <a:lnTo>
                      <a:pt x="192" y="44"/>
                    </a:lnTo>
                    <a:lnTo>
                      <a:pt x="175" y="49"/>
                    </a:lnTo>
                    <a:lnTo>
                      <a:pt x="159" y="54"/>
                    </a:lnTo>
                    <a:lnTo>
                      <a:pt x="145" y="58"/>
                    </a:lnTo>
                    <a:lnTo>
                      <a:pt x="134" y="61"/>
                    </a:lnTo>
                    <a:lnTo>
                      <a:pt x="126" y="62"/>
                    </a:lnTo>
                    <a:lnTo>
                      <a:pt x="116" y="63"/>
                    </a:lnTo>
                    <a:lnTo>
                      <a:pt x="105" y="65"/>
                    </a:lnTo>
                    <a:lnTo>
                      <a:pt x="93" y="68"/>
                    </a:lnTo>
                    <a:lnTo>
                      <a:pt x="79" y="74"/>
                    </a:lnTo>
                    <a:lnTo>
                      <a:pt x="63" y="79"/>
                    </a:lnTo>
                    <a:lnTo>
                      <a:pt x="45" y="88"/>
                    </a:lnTo>
                    <a:lnTo>
                      <a:pt x="23" y="98"/>
                    </a:lnTo>
                    <a:close/>
                  </a:path>
                </a:pathLst>
              </a:custGeom>
              <a:solidFill>
                <a:srgbClr val="76a5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5864040" y="3279960"/>
                <a:ext cx="63720" cy="21960"/>
              </a:xfrm>
              <a:custGeom>
                <a:avLst/>
                <a:gdLst/>
                <a:ahLst/>
                <a:rect l="l" t="t" r="r" b="b"/>
                <a:pathLst>
                  <a:path w="199" h="71">
                    <a:moveTo>
                      <a:pt x="17" y="67"/>
                    </a:moveTo>
                    <a:lnTo>
                      <a:pt x="10" y="70"/>
                    </a:lnTo>
                    <a:lnTo>
                      <a:pt x="4" y="71"/>
                    </a:lnTo>
                    <a:lnTo>
                      <a:pt x="1" y="71"/>
                    </a:lnTo>
                    <a:lnTo>
                      <a:pt x="0" y="69"/>
                    </a:lnTo>
                    <a:lnTo>
                      <a:pt x="0" y="67"/>
                    </a:lnTo>
                    <a:lnTo>
                      <a:pt x="1" y="63"/>
                    </a:lnTo>
                    <a:lnTo>
                      <a:pt x="4" y="59"/>
                    </a:lnTo>
                    <a:lnTo>
                      <a:pt x="9" y="55"/>
                    </a:lnTo>
                    <a:lnTo>
                      <a:pt x="14" y="49"/>
                    </a:lnTo>
                    <a:lnTo>
                      <a:pt x="22" y="44"/>
                    </a:lnTo>
                    <a:lnTo>
                      <a:pt x="29" y="39"/>
                    </a:lnTo>
                    <a:lnTo>
                      <a:pt x="38" y="33"/>
                    </a:lnTo>
                    <a:lnTo>
                      <a:pt x="48" y="28"/>
                    </a:lnTo>
                    <a:lnTo>
                      <a:pt x="58" y="22"/>
                    </a:lnTo>
                    <a:lnTo>
                      <a:pt x="70" y="18"/>
                    </a:lnTo>
                    <a:lnTo>
                      <a:pt x="81" y="15"/>
                    </a:lnTo>
                    <a:lnTo>
                      <a:pt x="105" y="8"/>
                    </a:lnTo>
                    <a:lnTo>
                      <a:pt x="126" y="4"/>
                    </a:lnTo>
                    <a:lnTo>
                      <a:pt x="145" y="1"/>
                    </a:lnTo>
                    <a:lnTo>
                      <a:pt x="162" y="0"/>
                    </a:lnTo>
                    <a:lnTo>
                      <a:pt x="176" y="0"/>
                    </a:lnTo>
                    <a:lnTo>
                      <a:pt x="187" y="1"/>
                    </a:lnTo>
                    <a:lnTo>
                      <a:pt x="194" y="2"/>
                    </a:lnTo>
                    <a:lnTo>
                      <a:pt x="198" y="5"/>
                    </a:lnTo>
                    <a:lnTo>
                      <a:pt x="199" y="6"/>
                    </a:lnTo>
                    <a:lnTo>
                      <a:pt x="199" y="7"/>
                    </a:lnTo>
                    <a:lnTo>
                      <a:pt x="198" y="9"/>
                    </a:lnTo>
                    <a:lnTo>
                      <a:pt x="197" y="10"/>
                    </a:lnTo>
                    <a:lnTo>
                      <a:pt x="193" y="14"/>
                    </a:lnTo>
                    <a:lnTo>
                      <a:pt x="188" y="16"/>
                    </a:lnTo>
                    <a:lnTo>
                      <a:pt x="183" y="18"/>
                    </a:lnTo>
                    <a:lnTo>
                      <a:pt x="178" y="20"/>
                    </a:lnTo>
                    <a:lnTo>
                      <a:pt x="174" y="21"/>
                    </a:lnTo>
                    <a:lnTo>
                      <a:pt x="173" y="22"/>
                    </a:lnTo>
                    <a:lnTo>
                      <a:pt x="171" y="22"/>
                    </a:lnTo>
                    <a:lnTo>
                      <a:pt x="164" y="24"/>
                    </a:lnTo>
                    <a:lnTo>
                      <a:pt x="154" y="28"/>
                    </a:lnTo>
                    <a:lnTo>
                      <a:pt x="143" y="31"/>
                    </a:lnTo>
                    <a:lnTo>
                      <a:pt x="130" y="34"/>
                    </a:lnTo>
                    <a:lnTo>
                      <a:pt x="118" y="37"/>
                    </a:lnTo>
                    <a:lnTo>
                      <a:pt x="107" y="41"/>
                    </a:lnTo>
                    <a:lnTo>
                      <a:pt x="98" y="42"/>
                    </a:lnTo>
                    <a:lnTo>
                      <a:pt x="92" y="43"/>
                    </a:lnTo>
                    <a:lnTo>
                      <a:pt x="84" y="44"/>
                    </a:lnTo>
                    <a:lnTo>
                      <a:pt x="77" y="45"/>
                    </a:lnTo>
                    <a:lnTo>
                      <a:pt x="67" y="47"/>
                    </a:lnTo>
                    <a:lnTo>
                      <a:pt x="57" y="50"/>
                    </a:lnTo>
                    <a:lnTo>
                      <a:pt x="45" y="55"/>
                    </a:lnTo>
                    <a:lnTo>
                      <a:pt x="32" y="60"/>
                    </a:lnTo>
                    <a:lnTo>
                      <a:pt x="17" y="67"/>
                    </a:lnTo>
                    <a:close/>
                  </a:path>
                </a:pathLst>
              </a:custGeom>
              <a:solidFill>
                <a:srgbClr val="709e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5883120" y="3281400"/>
                <a:ext cx="42840" cy="11160"/>
              </a:xfrm>
              <a:custGeom>
                <a:avLst/>
                <a:gdLst/>
                <a:ahLst/>
                <a:rect l="l" t="t" r="r" b="b"/>
                <a:pathLst>
                  <a:path w="137" h="39">
                    <a:moveTo>
                      <a:pt x="119" y="14"/>
                    </a:moveTo>
                    <a:lnTo>
                      <a:pt x="117" y="15"/>
                    </a:lnTo>
                    <a:lnTo>
                      <a:pt x="113" y="16"/>
                    </a:lnTo>
                    <a:lnTo>
                      <a:pt x="106" y="17"/>
                    </a:lnTo>
                    <a:lnTo>
                      <a:pt x="98" y="19"/>
                    </a:lnTo>
                    <a:lnTo>
                      <a:pt x="89" y="20"/>
                    </a:lnTo>
                    <a:lnTo>
                      <a:pt x="81" y="23"/>
                    </a:lnTo>
                    <a:lnTo>
                      <a:pt x="75" y="24"/>
                    </a:lnTo>
                    <a:lnTo>
                      <a:pt x="70" y="24"/>
                    </a:lnTo>
                    <a:lnTo>
                      <a:pt x="65" y="24"/>
                    </a:lnTo>
                    <a:lnTo>
                      <a:pt x="60" y="25"/>
                    </a:lnTo>
                    <a:lnTo>
                      <a:pt x="53" y="26"/>
                    </a:lnTo>
                    <a:lnTo>
                      <a:pt x="48" y="27"/>
                    </a:lnTo>
                    <a:lnTo>
                      <a:pt x="40" y="28"/>
                    </a:lnTo>
                    <a:lnTo>
                      <a:pt x="33" y="30"/>
                    </a:lnTo>
                    <a:lnTo>
                      <a:pt x="23" y="33"/>
                    </a:lnTo>
                    <a:lnTo>
                      <a:pt x="12" y="37"/>
                    </a:lnTo>
                    <a:lnTo>
                      <a:pt x="7" y="38"/>
                    </a:lnTo>
                    <a:lnTo>
                      <a:pt x="4" y="39"/>
                    </a:lnTo>
                    <a:lnTo>
                      <a:pt x="2" y="39"/>
                    </a:lnTo>
                    <a:lnTo>
                      <a:pt x="0" y="38"/>
                    </a:lnTo>
                    <a:lnTo>
                      <a:pt x="0" y="37"/>
                    </a:lnTo>
                    <a:lnTo>
                      <a:pt x="2" y="34"/>
                    </a:lnTo>
                    <a:lnTo>
                      <a:pt x="4" y="31"/>
                    </a:lnTo>
                    <a:lnTo>
                      <a:pt x="7" y="29"/>
                    </a:lnTo>
                    <a:lnTo>
                      <a:pt x="17" y="21"/>
                    </a:lnTo>
                    <a:lnTo>
                      <a:pt x="27" y="15"/>
                    </a:lnTo>
                    <a:lnTo>
                      <a:pt x="41" y="9"/>
                    </a:lnTo>
                    <a:lnTo>
                      <a:pt x="58" y="4"/>
                    </a:lnTo>
                    <a:lnTo>
                      <a:pt x="73" y="2"/>
                    </a:lnTo>
                    <a:lnTo>
                      <a:pt x="88" y="0"/>
                    </a:lnTo>
                    <a:lnTo>
                      <a:pt x="101" y="0"/>
                    </a:lnTo>
                    <a:lnTo>
                      <a:pt x="112" y="0"/>
                    </a:lnTo>
                    <a:lnTo>
                      <a:pt x="120" y="0"/>
                    </a:lnTo>
                    <a:lnTo>
                      <a:pt x="128" y="1"/>
                    </a:lnTo>
                    <a:lnTo>
                      <a:pt x="133" y="2"/>
                    </a:lnTo>
                    <a:lnTo>
                      <a:pt x="137" y="4"/>
                    </a:lnTo>
                    <a:lnTo>
                      <a:pt x="137" y="6"/>
                    </a:lnTo>
                    <a:lnTo>
                      <a:pt x="134" y="7"/>
                    </a:lnTo>
                    <a:lnTo>
                      <a:pt x="132" y="10"/>
                    </a:lnTo>
                    <a:lnTo>
                      <a:pt x="129" y="11"/>
                    </a:lnTo>
                    <a:lnTo>
                      <a:pt x="125" y="12"/>
                    </a:lnTo>
                    <a:lnTo>
                      <a:pt x="123" y="13"/>
                    </a:lnTo>
                    <a:lnTo>
                      <a:pt x="120" y="14"/>
                    </a:lnTo>
                    <a:lnTo>
                      <a:pt x="119" y="14"/>
                    </a:lnTo>
                    <a:close/>
                  </a:path>
                </a:pathLst>
              </a:custGeom>
              <a:solidFill>
                <a:srgbClr val="6a9a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5761080" y="3117960"/>
                <a:ext cx="2009880" cy="615960"/>
              </a:xfrm>
              <a:custGeom>
                <a:avLst/>
                <a:gdLst/>
                <a:ahLst/>
                <a:rect l="l" t="t" r="r" b="b"/>
                <a:pathLst>
                  <a:path w="6328" h="1942">
                    <a:moveTo>
                      <a:pt x="45" y="1350"/>
                    </a:moveTo>
                    <a:lnTo>
                      <a:pt x="50" y="1334"/>
                    </a:lnTo>
                    <a:lnTo>
                      <a:pt x="63" y="1288"/>
                    </a:lnTo>
                    <a:lnTo>
                      <a:pt x="74" y="1257"/>
                    </a:lnTo>
                    <a:lnTo>
                      <a:pt x="87" y="1219"/>
                    </a:lnTo>
                    <a:lnTo>
                      <a:pt x="102" y="1177"/>
                    </a:lnTo>
                    <a:lnTo>
                      <a:pt x="120" y="1130"/>
                    </a:lnTo>
                    <a:lnTo>
                      <a:pt x="142" y="1080"/>
                    </a:lnTo>
                    <a:lnTo>
                      <a:pt x="165" y="1026"/>
                    </a:lnTo>
                    <a:lnTo>
                      <a:pt x="191" y="970"/>
                    </a:lnTo>
                    <a:lnTo>
                      <a:pt x="222" y="911"/>
                    </a:lnTo>
                    <a:lnTo>
                      <a:pt x="238" y="881"/>
                    </a:lnTo>
                    <a:lnTo>
                      <a:pt x="254" y="851"/>
                    </a:lnTo>
                    <a:lnTo>
                      <a:pt x="271" y="821"/>
                    </a:lnTo>
                    <a:lnTo>
                      <a:pt x="290" y="790"/>
                    </a:lnTo>
                    <a:lnTo>
                      <a:pt x="309" y="759"/>
                    </a:lnTo>
                    <a:lnTo>
                      <a:pt x="328" y="729"/>
                    </a:lnTo>
                    <a:lnTo>
                      <a:pt x="350" y="698"/>
                    </a:lnTo>
                    <a:lnTo>
                      <a:pt x="372" y="667"/>
                    </a:lnTo>
                    <a:lnTo>
                      <a:pt x="392" y="639"/>
                    </a:lnTo>
                    <a:lnTo>
                      <a:pt x="414" y="611"/>
                    </a:lnTo>
                    <a:lnTo>
                      <a:pt x="435" y="583"/>
                    </a:lnTo>
                    <a:lnTo>
                      <a:pt x="458" y="556"/>
                    </a:lnTo>
                    <a:lnTo>
                      <a:pt x="481" y="529"/>
                    </a:lnTo>
                    <a:lnTo>
                      <a:pt x="504" y="503"/>
                    </a:lnTo>
                    <a:lnTo>
                      <a:pt x="527" y="478"/>
                    </a:lnTo>
                    <a:lnTo>
                      <a:pt x="551" y="453"/>
                    </a:lnTo>
                    <a:lnTo>
                      <a:pt x="576" y="428"/>
                    </a:lnTo>
                    <a:lnTo>
                      <a:pt x="601" y="406"/>
                    </a:lnTo>
                    <a:lnTo>
                      <a:pt x="627" y="383"/>
                    </a:lnTo>
                    <a:lnTo>
                      <a:pt x="653" y="360"/>
                    </a:lnTo>
                    <a:lnTo>
                      <a:pt x="679" y="339"/>
                    </a:lnTo>
                    <a:lnTo>
                      <a:pt x="706" y="318"/>
                    </a:lnTo>
                    <a:lnTo>
                      <a:pt x="733" y="299"/>
                    </a:lnTo>
                    <a:lnTo>
                      <a:pt x="761" y="279"/>
                    </a:lnTo>
                    <a:lnTo>
                      <a:pt x="789" y="261"/>
                    </a:lnTo>
                    <a:lnTo>
                      <a:pt x="818" y="243"/>
                    </a:lnTo>
                    <a:lnTo>
                      <a:pt x="848" y="227"/>
                    </a:lnTo>
                    <a:lnTo>
                      <a:pt x="877" y="210"/>
                    </a:lnTo>
                    <a:lnTo>
                      <a:pt x="909" y="195"/>
                    </a:lnTo>
                    <a:lnTo>
                      <a:pt x="940" y="181"/>
                    </a:lnTo>
                    <a:lnTo>
                      <a:pt x="971" y="167"/>
                    </a:lnTo>
                    <a:lnTo>
                      <a:pt x="1004" y="155"/>
                    </a:lnTo>
                    <a:lnTo>
                      <a:pt x="1036" y="143"/>
                    </a:lnTo>
                    <a:lnTo>
                      <a:pt x="1070" y="133"/>
                    </a:lnTo>
                    <a:lnTo>
                      <a:pt x="1104" y="123"/>
                    </a:lnTo>
                    <a:lnTo>
                      <a:pt x="1139" y="114"/>
                    </a:lnTo>
                    <a:lnTo>
                      <a:pt x="1174" y="107"/>
                    </a:lnTo>
                    <a:lnTo>
                      <a:pt x="1210" y="99"/>
                    </a:lnTo>
                    <a:lnTo>
                      <a:pt x="1247" y="94"/>
                    </a:lnTo>
                    <a:lnTo>
                      <a:pt x="1283" y="89"/>
                    </a:lnTo>
                    <a:lnTo>
                      <a:pt x="1433" y="72"/>
                    </a:lnTo>
                    <a:lnTo>
                      <a:pt x="1575" y="56"/>
                    </a:lnTo>
                    <a:lnTo>
                      <a:pt x="1708" y="42"/>
                    </a:lnTo>
                    <a:lnTo>
                      <a:pt x="1827" y="28"/>
                    </a:lnTo>
                    <a:lnTo>
                      <a:pt x="1927" y="17"/>
                    </a:lnTo>
                    <a:lnTo>
                      <a:pt x="2003" y="7"/>
                    </a:lnTo>
                    <a:lnTo>
                      <a:pt x="2053" y="2"/>
                    </a:lnTo>
                    <a:lnTo>
                      <a:pt x="2070" y="0"/>
                    </a:lnTo>
                    <a:lnTo>
                      <a:pt x="2079" y="1"/>
                    </a:lnTo>
                    <a:lnTo>
                      <a:pt x="2103" y="3"/>
                    </a:lnTo>
                    <a:lnTo>
                      <a:pt x="2140" y="6"/>
                    </a:lnTo>
                    <a:lnTo>
                      <a:pt x="2187" y="11"/>
                    </a:lnTo>
                    <a:lnTo>
                      <a:pt x="2239" y="16"/>
                    </a:lnTo>
                    <a:lnTo>
                      <a:pt x="2296" y="25"/>
                    </a:lnTo>
                    <a:lnTo>
                      <a:pt x="2324" y="29"/>
                    </a:lnTo>
                    <a:lnTo>
                      <a:pt x="2351" y="33"/>
                    </a:lnTo>
                    <a:lnTo>
                      <a:pt x="2378" y="39"/>
                    </a:lnTo>
                    <a:lnTo>
                      <a:pt x="2404" y="45"/>
                    </a:lnTo>
                    <a:lnTo>
                      <a:pt x="2431" y="53"/>
                    </a:lnTo>
                    <a:lnTo>
                      <a:pt x="2461" y="61"/>
                    </a:lnTo>
                    <a:lnTo>
                      <a:pt x="2496" y="73"/>
                    </a:lnTo>
                    <a:lnTo>
                      <a:pt x="2532" y="86"/>
                    </a:lnTo>
                    <a:lnTo>
                      <a:pt x="2611" y="114"/>
                    </a:lnTo>
                    <a:lnTo>
                      <a:pt x="2695" y="144"/>
                    </a:lnTo>
                    <a:lnTo>
                      <a:pt x="2781" y="174"/>
                    </a:lnTo>
                    <a:lnTo>
                      <a:pt x="2864" y="201"/>
                    </a:lnTo>
                    <a:lnTo>
                      <a:pt x="2903" y="212"/>
                    </a:lnTo>
                    <a:lnTo>
                      <a:pt x="2940" y="222"/>
                    </a:lnTo>
                    <a:lnTo>
                      <a:pt x="2974" y="230"/>
                    </a:lnTo>
                    <a:lnTo>
                      <a:pt x="3004" y="235"/>
                    </a:lnTo>
                    <a:lnTo>
                      <a:pt x="3072" y="244"/>
                    </a:lnTo>
                    <a:lnTo>
                      <a:pt x="3157" y="255"/>
                    </a:lnTo>
                    <a:lnTo>
                      <a:pt x="3204" y="261"/>
                    </a:lnTo>
                    <a:lnTo>
                      <a:pt x="3254" y="269"/>
                    </a:lnTo>
                    <a:lnTo>
                      <a:pt x="3307" y="276"/>
                    </a:lnTo>
                    <a:lnTo>
                      <a:pt x="3362" y="286"/>
                    </a:lnTo>
                    <a:lnTo>
                      <a:pt x="3418" y="297"/>
                    </a:lnTo>
                    <a:lnTo>
                      <a:pt x="3475" y="309"/>
                    </a:lnTo>
                    <a:lnTo>
                      <a:pt x="3535" y="322"/>
                    </a:lnTo>
                    <a:lnTo>
                      <a:pt x="3594" y="336"/>
                    </a:lnTo>
                    <a:lnTo>
                      <a:pt x="3654" y="353"/>
                    </a:lnTo>
                    <a:lnTo>
                      <a:pt x="3712" y="370"/>
                    </a:lnTo>
                    <a:lnTo>
                      <a:pt x="3741" y="381"/>
                    </a:lnTo>
                    <a:lnTo>
                      <a:pt x="3770" y="391"/>
                    </a:lnTo>
                    <a:lnTo>
                      <a:pt x="3799" y="401"/>
                    </a:lnTo>
                    <a:lnTo>
                      <a:pt x="3827" y="413"/>
                    </a:lnTo>
                    <a:lnTo>
                      <a:pt x="3835" y="410"/>
                    </a:lnTo>
                    <a:lnTo>
                      <a:pt x="3856" y="404"/>
                    </a:lnTo>
                    <a:lnTo>
                      <a:pt x="3886" y="393"/>
                    </a:lnTo>
                    <a:lnTo>
                      <a:pt x="3924" y="379"/>
                    </a:lnTo>
                    <a:lnTo>
                      <a:pt x="3966" y="364"/>
                    </a:lnTo>
                    <a:lnTo>
                      <a:pt x="4010" y="346"/>
                    </a:lnTo>
                    <a:lnTo>
                      <a:pt x="4054" y="329"/>
                    </a:lnTo>
                    <a:lnTo>
                      <a:pt x="4095" y="312"/>
                    </a:lnTo>
                    <a:lnTo>
                      <a:pt x="4114" y="303"/>
                    </a:lnTo>
                    <a:lnTo>
                      <a:pt x="4132" y="297"/>
                    </a:lnTo>
                    <a:lnTo>
                      <a:pt x="4150" y="291"/>
                    </a:lnTo>
                    <a:lnTo>
                      <a:pt x="4169" y="286"/>
                    </a:lnTo>
                    <a:lnTo>
                      <a:pt x="4188" y="282"/>
                    </a:lnTo>
                    <a:lnTo>
                      <a:pt x="4209" y="278"/>
                    </a:lnTo>
                    <a:lnTo>
                      <a:pt x="4230" y="276"/>
                    </a:lnTo>
                    <a:lnTo>
                      <a:pt x="4252" y="274"/>
                    </a:lnTo>
                    <a:lnTo>
                      <a:pt x="4276" y="273"/>
                    </a:lnTo>
                    <a:lnTo>
                      <a:pt x="4302" y="273"/>
                    </a:lnTo>
                    <a:lnTo>
                      <a:pt x="4328" y="273"/>
                    </a:lnTo>
                    <a:lnTo>
                      <a:pt x="4357" y="273"/>
                    </a:lnTo>
                    <a:lnTo>
                      <a:pt x="4422" y="275"/>
                    </a:lnTo>
                    <a:lnTo>
                      <a:pt x="4495" y="279"/>
                    </a:lnTo>
                    <a:lnTo>
                      <a:pt x="4573" y="283"/>
                    </a:lnTo>
                    <a:lnTo>
                      <a:pt x="4646" y="286"/>
                    </a:lnTo>
                    <a:lnTo>
                      <a:pt x="4715" y="290"/>
                    </a:lnTo>
                    <a:lnTo>
                      <a:pt x="4779" y="296"/>
                    </a:lnTo>
                    <a:lnTo>
                      <a:pt x="4809" y="299"/>
                    </a:lnTo>
                    <a:lnTo>
                      <a:pt x="4838" y="303"/>
                    </a:lnTo>
                    <a:lnTo>
                      <a:pt x="4865" y="308"/>
                    </a:lnTo>
                    <a:lnTo>
                      <a:pt x="4890" y="313"/>
                    </a:lnTo>
                    <a:lnTo>
                      <a:pt x="4913" y="319"/>
                    </a:lnTo>
                    <a:lnTo>
                      <a:pt x="4935" y="327"/>
                    </a:lnTo>
                    <a:lnTo>
                      <a:pt x="4955" y="337"/>
                    </a:lnTo>
                    <a:lnTo>
                      <a:pt x="4973" y="346"/>
                    </a:lnTo>
                    <a:lnTo>
                      <a:pt x="5013" y="372"/>
                    </a:lnTo>
                    <a:lnTo>
                      <a:pt x="5063" y="408"/>
                    </a:lnTo>
                    <a:lnTo>
                      <a:pt x="5125" y="452"/>
                    </a:lnTo>
                    <a:lnTo>
                      <a:pt x="5196" y="502"/>
                    </a:lnTo>
                    <a:lnTo>
                      <a:pt x="5277" y="557"/>
                    </a:lnTo>
                    <a:lnTo>
                      <a:pt x="5366" y="615"/>
                    </a:lnTo>
                    <a:lnTo>
                      <a:pt x="5413" y="646"/>
                    </a:lnTo>
                    <a:lnTo>
                      <a:pt x="5462" y="675"/>
                    </a:lnTo>
                    <a:lnTo>
                      <a:pt x="5512" y="705"/>
                    </a:lnTo>
                    <a:lnTo>
                      <a:pt x="5563" y="734"/>
                    </a:lnTo>
                    <a:lnTo>
                      <a:pt x="5615" y="762"/>
                    </a:lnTo>
                    <a:lnTo>
                      <a:pt x="5665" y="789"/>
                    </a:lnTo>
                    <a:lnTo>
                      <a:pt x="5714" y="814"/>
                    </a:lnTo>
                    <a:lnTo>
                      <a:pt x="5761" y="837"/>
                    </a:lnTo>
                    <a:lnTo>
                      <a:pt x="5852" y="881"/>
                    </a:lnTo>
                    <a:lnTo>
                      <a:pt x="5934" y="923"/>
                    </a:lnTo>
                    <a:lnTo>
                      <a:pt x="5973" y="945"/>
                    </a:lnTo>
                    <a:lnTo>
                      <a:pt x="6009" y="965"/>
                    </a:lnTo>
                    <a:lnTo>
                      <a:pt x="6041" y="987"/>
                    </a:lnTo>
                    <a:lnTo>
                      <a:pt x="6072" y="1010"/>
                    </a:lnTo>
                    <a:lnTo>
                      <a:pt x="6086" y="1021"/>
                    </a:lnTo>
                    <a:lnTo>
                      <a:pt x="6099" y="1033"/>
                    </a:lnTo>
                    <a:lnTo>
                      <a:pt x="6112" y="1045"/>
                    </a:lnTo>
                    <a:lnTo>
                      <a:pt x="6124" y="1058"/>
                    </a:lnTo>
                    <a:lnTo>
                      <a:pt x="6136" y="1071"/>
                    </a:lnTo>
                    <a:lnTo>
                      <a:pt x="6146" y="1084"/>
                    </a:lnTo>
                    <a:lnTo>
                      <a:pt x="6155" y="1098"/>
                    </a:lnTo>
                    <a:lnTo>
                      <a:pt x="6164" y="1112"/>
                    </a:lnTo>
                    <a:lnTo>
                      <a:pt x="6180" y="1141"/>
                    </a:lnTo>
                    <a:lnTo>
                      <a:pt x="6195" y="1169"/>
                    </a:lnTo>
                    <a:lnTo>
                      <a:pt x="6209" y="1196"/>
                    </a:lnTo>
                    <a:lnTo>
                      <a:pt x="6222" y="1223"/>
                    </a:lnTo>
                    <a:lnTo>
                      <a:pt x="6233" y="1248"/>
                    </a:lnTo>
                    <a:lnTo>
                      <a:pt x="6244" y="1273"/>
                    </a:lnTo>
                    <a:lnTo>
                      <a:pt x="6253" y="1297"/>
                    </a:lnTo>
                    <a:lnTo>
                      <a:pt x="6260" y="1321"/>
                    </a:lnTo>
                    <a:lnTo>
                      <a:pt x="6266" y="1342"/>
                    </a:lnTo>
                    <a:lnTo>
                      <a:pt x="6271" y="1363"/>
                    </a:lnTo>
                    <a:lnTo>
                      <a:pt x="6273" y="1383"/>
                    </a:lnTo>
                    <a:lnTo>
                      <a:pt x="6275" y="1403"/>
                    </a:lnTo>
                    <a:lnTo>
                      <a:pt x="6274" y="1420"/>
                    </a:lnTo>
                    <a:lnTo>
                      <a:pt x="6272" y="1437"/>
                    </a:lnTo>
                    <a:lnTo>
                      <a:pt x="6269" y="1453"/>
                    </a:lnTo>
                    <a:lnTo>
                      <a:pt x="6264" y="1469"/>
                    </a:lnTo>
                    <a:lnTo>
                      <a:pt x="6258" y="1483"/>
                    </a:lnTo>
                    <a:lnTo>
                      <a:pt x="6256" y="1497"/>
                    </a:lnTo>
                    <a:lnTo>
                      <a:pt x="6255" y="1511"/>
                    </a:lnTo>
                    <a:lnTo>
                      <a:pt x="6255" y="1524"/>
                    </a:lnTo>
                    <a:lnTo>
                      <a:pt x="6258" y="1538"/>
                    </a:lnTo>
                    <a:lnTo>
                      <a:pt x="6261" y="1550"/>
                    </a:lnTo>
                    <a:lnTo>
                      <a:pt x="6266" y="1562"/>
                    </a:lnTo>
                    <a:lnTo>
                      <a:pt x="6271" y="1575"/>
                    </a:lnTo>
                    <a:lnTo>
                      <a:pt x="6284" y="1602"/>
                    </a:lnTo>
                    <a:lnTo>
                      <a:pt x="6297" y="1629"/>
                    </a:lnTo>
                    <a:lnTo>
                      <a:pt x="6303" y="1645"/>
                    </a:lnTo>
                    <a:lnTo>
                      <a:pt x="6310" y="1659"/>
                    </a:lnTo>
                    <a:lnTo>
                      <a:pt x="6315" y="1675"/>
                    </a:lnTo>
                    <a:lnTo>
                      <a:pt x="6320" y="1691"/>
                    </a:lnTo>
                    <a:lnTo>
                      <a:pt x="6324" y="1707"/>
                    </a:lnTo>
                    <a:lnTo>
                      <a:pt x="6326" y="1721"/>
                    </a:lnTo>
                    <a:lnTo>
                      <a:pt x="6327" y="1734"/>
                    </a:lnTo>
                    <a:lnTo>
                      <a:pt x="6328" y="1746"/>
                    </a:lnTo>
                    <a:lnTo>
                      <a:pt x="6327" y="1756"/>
                    </a:lnTo>
                    <a:lnTo>
                      <a:pt x="6324" y="1766"/>
                    </a:lnTo>
                    <a:lnTo>
                      <a:pt x="6321" y="1773"/>
                    </a:lnTo>
                    <a:lnTo>
                      <a:pt x="6315" y="1780"/>
                    </a:lnTo>
                    <a:lnTo>
                      <a:pt x="6309" y="1786"/>
                    </a:lnTo>
                    <a:lnTo>
                      <a:pt x="6301" y="1790"/>
                    </a:lnTo>
                    <a:lnTo>
                      <a:pt x="6292" y="1795"/>
                    </a:lnTo>
                    <a:lnTo>
                      <a:pt x="6281" y="1797"/>
                    </a:lnTo>
                    <a:lnTo>
                      <a:pt x="6268" y="1799"/>
                    </a:lnTo>
                    <a:lnTo>
                      <a:pt x="6253" y="1801"/>
                    </a:lnTo>
                    <a:lnTo>
                      <a:pt x="6236" y="1802"/>
                    </a:lnTo>
                    <a:lnTo>
                      <a:pt x="6219" y="1802"/>
                    </a:lnTo>
                    <a:lnTo>
                      <a:pt x="6217" y="1803"/>
                    </a:lnTo>
                    <a:lnTo>
                      <a:pt x="6213" y="1805"/>
                    </a:lnTo>
                    <a:lnTo>
                      <a:pt x="6207" y="1810"/>
                    </a:lnTo>
                    <a:lnTo>
                      <a:pt x="6199" y="1814"/>
                    </a:lnTo>
                    <a:lnTo>
                      <a:pt x="6190" y="1818"/>
                    </a:lnTo>
                    <a:lnTo>
                      <a:pt x="6180" y="1823"/>
                    </a:lnTo>
                    <a:lnTo>
                      <a:pt x="6170" y="1827"/>
                    </a:lnTo>
                    <a:lnTo>
                      <a:pt x="6160" y="1829"/>
                    </a:lnTo>
                    <a:lnTo>
                      <a:pt x="6147" y="1831"/>
                    </a:lnTo>
                    <a:lnTo>
                      <a:pt x="6131" y="1831"/>
                    </a:lnTo>
                    <a:lnTo>
                      <a:pt x="6112" y="1830"/>
                    </a:lnTo>
                    <a:lnTo>
                      <a:pt x="6093" y="1829"/>
                    </a:lnTo>
                    <a:lnTo>
                      <a:pt x="6072" y="1827"/>
                    </a:lnTo>
                    <a:lnTo>
                      <a:pt x="6053" y="1824"/>
                    </a:lnTo>
                    <a:lnTo>
                      <a:pt x="6034" y="1822"/>
                    </a:lnTo>
                    <a:lnTo>
                      <a:pt x="6018" y="1820"/>
                    </a:lnTo>
                    <a:lnTo>
                      <a:pt x="6004" y="1818"/>
                    </a:lnTo>
                    <a:lnTo>
                      <a:pt x="5988" y="1818"/>
                    </a:lnTo>
                    <a:lnTo>
                      <a:pt x="5973" y="1820"/>
                    </a:lnTo>
                    <a:lnTo>
                      <a:pt x="5957" y="1822"/>
                    </a:lnTo>
                    <a:lnTo>
                      <a:pt x="5942" y="1825"/>
                    </a:lnTo>
                    <a:lnTo>
                      <a:pt x="5926" y="1828"/>
                    </a:lnTo>
                    <a:lnTo>
                      <a:pt x="5913" y="1832"/>
                    </a:lnTo>
                    <a:lnTo>
                      <a:pt x="5903" y="1837"/>
                    </a:lnTo>
                    <a:lnTo>
                      <a:pt x="5889" y="1840"/>
                    </a:lnTo>
                    <a:lnTo>
                      <a:pt x="5869" y="1842"/>
                    </a:lnTo>
                    <a:lnTo>
                      <a:pt x="5844" y="1843"/>
                    </a:lnTo>
                    <a:lnTo>
                      <a:pt x="5817" y="1844"/>
                    </a:lnTo>
                    <a:lnTo>
                      <a:pt x="5788" y="1843"/>
                    </a:lnTo>
                    <a:lnTo>
                      <a:pt x="5760" y="1842"/>
                    </a:lnTo>
                    <a:lnTo>
                      <a:pt x="5732" y="1840"/>
                    </a:lnTo>
                    <a:lnTo>
                      <a:pt x="5707" y="1837"/>
                    </a:lnTo>
                    <a:lnTo>
                      <a:pt x="5684" y="1831"/>
                    </a:lnTo>
                    <a:lnTo>
                      <a:pt x="5663" y="1826"/>
                    </a:lnTo>
                    <a:lnTo>
                      <a:pt x="5641" y="1821"/>
                    </a:lnTo>
                    <a:lnTo>
                      <a:pt x="5619" y="1816"/>
                    </a:lnTo>
                    <a:lnTo>
                      <a:pt x="5608" y="1815"/>
                    </a:lnTo>
                    <a:lnTo>
                      <a:pt x="5597" y="1814"/>
                    </a:lnTo>
                    <a:lnTo>
                      <a:pt x="5585" y="1814"/>
                    </a:lnTo>
                    <a:lnTo>
                      <a:pt x="5574" y="1815"/>
                    </a:lnTo>
                    <a:lnTo>
                      <a:pt x="5563" y="1817"/>
                    </a:lnTo>
                    <a:lnTo>
                      <a:pt x="5552" y="1820"/>
                    </a:lnTo>
                    <a:lnTo>
                      <a:pt x="5541" y="1824"/>
                    </a:lnTo>
                    <a:lnTo>
                      <a:pt x="5529" y="1829"/>
                    </a:lnTo>
                    <a:lnTo>
                      <a:pt x="5522" y="1832"/>
                    </a:lnTo>
                    <a:lnTo>
                      <a:pt x="5514" y="1835"/>
                    </a:lnTo>
                    <a:lnTo>
                      <a:pt x="5504" y="1838"/>
                    </a:lnTo>
                    <a:lnTo>
                      <a:pt x="5492" y="1840"/>
                    </a:lnTo>
                    <a:lnTo>
                      <a:pt x="5466" y="1843"/>
                    </a:lnTo>
                    <a:lnTo>
                      <a:pt x="5434" y="1845"/>
                    </a:lnTo>
                    <a:lnTo>
                      <a:pt x="5399" y="1848"/>
                    </a:lnTo>
                    <a:lnTo>
                      <a:pt x="5361" y="1849"/>
                    </a:lnTo>
                    <a:lnTo>
                      <a:pt x="5324" y="1849"/>
                    </a:lnTo>
                    <a:lnTo>
                      <a:pt x="5284" y="1849"/>
                    </a:lnTo>
                    <a:lnTo>
                      <a:pt x="5209" y="1847"/>
                    </a:lnTo>
                    <a:lnTo>
                      <a:pt x="5145" y="1844"/>
                    </a:lnTo>
                    <a:lnTo>
                      <a:pt x="5100" y="1842"/>
                    </a:lnTo>
                    <a:lnTo>
                      <a:pt x="5084" y="1841"/>
                    </a:lnTo>
                    <a:lnTo>
                      <a:pt x="5078" y="1843"/>
                    </a:lnTo>
                    <a:lnTo>
                      <a:pt x="5065" y="1847"/>
                    </a:lnTo>
                    <a:lnTo>
                      <a:pt x="5046" y="1851"/>
                    </a:lnTo>
                    <a:lnTo>
                      <a:pt x="5023" y="1854"/>
                    </a:lnTo>
                    <a:lnTo>
                      <a:pt x="5011" y="1856"/>
                    </a:lnTo>
                    <a:lnTo>
                      <a:pt x="4999" y="1857"/>
                    </a:lnTo>
                    <a:lnTo>
                      <a:pt x="4988" y="1857"/>
                    </a:lnTo>
                    <a:lnTo>
                      <a:pt x="4977" y="1857"/>
                    </a:lnTo>
                    <a:lnTo>
                      <a:pt x="4966" y="1856"/>
                    </a:lnTo>
                    <a:lnTo>
                      <a:pt x="4957" y="1854"/>
                    </a:lnTo>
                    <a:lnTo>
                      <a:pt x="4951" y="1851"/>
                    </a:lnTo>
                    <a:lnTo>
                      <a:pt x="4946" y="1847"/>
                    </a:lnTo>
                    <a:lnTo>
                      <a:pt x="4930" y="1850"/>
                    </a:lnTo>
                    <a:lnTo>
                      <a:pt x="4889" y="1856"/>
                    </a:lnTo>
                    <a:lnTo>
                      <a:pt x="4860" y="1861"/>
                    </a:lnTo>
                    <a:lnTo>
                      <a:pt x="4828" y="1865"/>
                    </a:lnTo>
                    <a:lnTo>
                      <a:pt x="4791" y="1868"/>
                    </a:lnTo>
                    <a:lnTo>
                      <a:pt x="4751" y="1872"/>
                    </a:lnTo>
                    <a:lnTo>
                      <a:pt x="4709" y="1876"/>
                    </a:lnTo>
                    <a:lnTo>
                      <a:pt x="4665" y="1877"/>
                    </a:lnTo>
                    <a:lnTo>
                      <a:pt x="4620" y="1878"/>
                    </a:lnTo>
                    <a:lnTo>
                      <a:pt x="4575" y="1877"/>
                    </a:lnTo>
                    <a:lnTo>
                      <a:pt x="4552" y="1876"/>
                    </a:lnTo>
                    <a:lnTo>
                      <a:pt x="4531" y="1874"/>
                    </a:lnTo>
                    <a:lnTo>
                      <a:pt x="4508" y="1871"/>
                    </a:lnTo>
                    <a:lnTo>
                      <a:pt x="4488" y="1869"/>
                    </a:lnTo>
                    <a:lnTo>
                      <a:pt x="4466" y="1866"/>
                    </a:lnTo>
                    <a:lnTo>
                      <a:pt x="4445" y="1862"/>
                    </a:lnTo>
                    <a:lnTo>
                      <a:pt x="4426" y="1857"/>
                    </a:lnTo>
                    <a:lnTo>
                      <a:pt x="4407" y="1852"/>
                    </a:lnTo>
                    <a:lnTo>
                      <a:pt x="4390" y="1852"/>
                    </a:lnTo>
                    <a:lnTo>
                      <a:pt x="4348" y="1852"/>
                    </a:lnTo>
                    <a:lnTo>
                      <a:pt x="4287" y="1852"/>
                    </a:lnTo>
                    <a:lnTo>
                      <a:pt x="4211" y="1852"/>
                    </a:lnTo>
                    <a:lnTo>
                      <a:pt x="4129" y="1853"/>
                    </a:lnTo>
                    <a:lnTo>
                      <a:pt x="4048" y="1855"/>
                    </a:lnTo>
                    <a:lnTo>
                      <a:pt x="3973" y="1856"/>
                    </a:lnTo>
                    <a:lnTo>
                      <a:pt x="3912" y="1858"/>
                    </a:lnTo>
                    <a:lnTo>
                      <a:pt x="3886" y="1861"/>
                    </a:lnTo>
                    <a:lnTo>
                      <a:pt x="3860" y="1863"/>
                    </a:lnTo>
                    <a:lnTo>
                      <a:pt x="3835" y="1866"/>
                    </a:lnTo>
                    <a:lnTo>
                      <a:pt x="3809" y="1869"/>
                    </a:lnTo>
                    <a:lnTo>
                      <a:pt x="3758" y="1877"/>
                    </a:lnTo>
                    <a:lnTo>
                      <a:pt x="3707" y="1884"/>
                    </a:lnTo>
                    <a:lnTo>
                      <a:pt x="3679" y="1888"/>
                    </a:lnTo>
                    <a:lnTo>
                      <a:pt x="3651" y="1890"/>
                    </a:lnTo>
                    <a:lnTo>
                      <a:pt x="3622" y="1891"/>
                    </a:lnTo>
                    <a:lnTo>
                      <a:pt x="3593" y="1892"/>
                    </a:lnTo>
                    <a:lnTo>
                      <a:pt x="3562" y="1892"/>
                    </a:lnTo>
                    <a:lnTo>
                      <a:pt x="3529" y="1890"/>
                    </a:lnTo>
                    <a:lnTo>
                      <a:pt x="3495" y="1886"/>
                    </a:lnTo>
                    <a:lnTo>
                      <a:pt x="3459" y="1881"/>
                    </a:lnTo>
                    <a:lnTo>
                      <a:pt x="3425" y="1876"/>
                    </a:lnTo>
                    <a:lnTo>
                      <a:pt x="3393" y="1870"/>
                    </a:lnTo>
                    <a:lnTo>
                      <a:pt x="3364" y="1867"/>
                    </a:lnTo>
                    <a:lnTo>
                      <a:pt x="3338" y="1864"/>
                    </a:lnTo>
                    <a:lnTo>
                      <a:pt x="3314" y="1863"/>
                    </a:lnTo>
                    <a:lnTo>
                      <a:pt x="3293" y="1862"/>
                    </a:lnTo>
                    <a:lnTo>
                      <a:pt x="3273" y="1862"/>
                    </a:lnTo>
                    <a:lnTo>
                      <a:pt x="3256" y="1862"/>
                    </a:lnTo>
                    <a:lnTo>
                      <a:pt x="3241" y="1863"/>
                    </a:lnTo>
                    <a:lnTo>
                      <a:pt x="3228" y="1865"/>
                    </a:lnTo>
                    <a:lnTo>
                      <a:pt x="3216" y="1867"/>
                    </a:lnTo>
                    <a:lnTo>
                      <a:pt x="3206" y="1869"/>
                    </a:lnTo>
                    <a:lnTo>
                      <a:pt x="3198" y="1871"/>
                    </a:lnTo>
                    <a:lnTo>
                      <a:pt x="3190" y="1875"/>
                    </a:lnTo>
                    <a:lnTo>
                      <a:pt x="3184" y="1878"/>
                    </a:lnTo>
                    <a:lnTo>
                      <a:pt x="3177" y="1881"/>
                    </a:lnTo>
                    <a:lnTo>
                      <a:pt x="3171" y="1883"/>
                    </a:lnTo>
                    <a:lnTo>
                      <a:pt x="3162" y="1884"/>
                    </a:lnTo>
                    <a:lnTo>
                      <a:pt x="3152" y="1884"/>
                    </a:lnTo>
                    <a:lnTo>
                      <a:pt x="3139" y="1883"/>
                    </a:lnTo>
                    <a:lnTo>
                      <a:pt x="3112" y="1878"/>
                    </a:lnTo>
                    <a:lnTo>
                      <a:pt x="3083" y="1871"/>
                    </a:lnTo>
                    <a:lnTo>
                      <a:pt x="3055" y="1865"/>
                    </a:lnTo>
                    <a:lnTo>
                      <a:pt x="3032" y="1858"/>
                    </a:lnTo>
                    <a:lnTo>
                      <a:pt x="3015" y="1853"/>
                    </a:lnTo>
                    <a:lnTo>
                      <a:pt x="3010" y="1852"/>
                    </a:lnTo>
                    <a:lnTo>
                      <a:pt x="3003" y="1855"/>
                    </a:lnTo>
                    <a:lnTo>
                      <a:pt x="2986" y="1863"/>
                    </a:lnTo>
                    <a:lnTo>
                      <a:pt x="2962" y="1874"/>
                    </a:lnTo>
                    <a:lnTo>
                      <a:pt x="2933" y="1884"/>
                    </a:lnTo>
                    <a:lnTo>
                      <a:pt x="2917" y="1889"/>
                    </a:lnTo>
                    <a:lnTo>
                      <a:pt x="2902" y="1892"/>
                    </a:lnTo>
                    <a:lnTo>
                      <a:pt x="2887" y="1894"/>
                    </a:lnTo>
                    <a:lnTo>
                      <a:pt x="2871" y="1894"/>
                    </a:lnTo>
                    <a:lnTo>
                      <a:pt x="2865" y="1894"/>
                    </a:lnTo>
                    <a:lnTo>
                      <a:pt x="2858" y="1893"/>
                    </a:lnTo>
                    <a:lnTo>
                      <a:pt x="2852" y="1891"/>
                    </a:lnTo>
                    <a:lnTo>
                      <a:pt x="2846" y="1889"/>
                    </a:lnTo>
                    <a:lnTo>
                      <a:pt x="2840" y="1886"/>
                    </a:lnTo>
                    <a:lnTo>
                      <a:pt x="2835" y="1883"/>
                    </a:lnTo>
                    <a:lnTo>
                      <a:pt x="2830" y="1879"/>
                    </a:lnTo>
                    <a:lnTo>
                      <a:pt x="2826" y="1874"/>
                    </a:lnTo>
                    <a:lnTo>
                      <a:pt x="2823" y="1872"/>
                    </a:lnTo>
                    <a:lnTo>
                      <a:pt x="2813" y="1869"/>
                    </a:lnTo>
                    <a:lnTo>
                      <a:pt x="2800" y="1865"/>
                    </a:lnTo>
                    <a:lnTo>
                      <a:pt x="2784" y="1861"/>
                    </a:lnTo>
                    <a:lnTo>
                      <a:pt x="2768" y="1857"/>
                    </a:lnTo>
                    <a:lnTo>
                      <a:pt x="2754" y="1856"/>
                    </a:lnTo>
                    <a:lnTo>
                      <a:pt x="2747" y="1856"/>
                    </a:lnTo>
                    <a:lnTo>
                      <a:pt x="2743" y="1858"/>
                    </a:lnTo>
                    <a:lnTo>
                      <a:pt x="2740" y="1861"/>
                    </a:lnTo>
                    <a:lnTo>
                      <a:pt x="2738" y="1864"/>
                    </a:lnTo>
                    <a:lnTo>
                      <a:pt x="2736" y="1866"/>
                    </a:lnTo>
                    <a:lnTo>
                      <a:pt x="2735" y="1868"/>
                    </a:lnTo>
                    <a:lnTo>
                      <a:pt x="2732" y="1870"/>
                    </a:lnTo>
                    <a:lnTo>
                      <a:pt x="2729" y="1872"/>
                    </a:lnTo>
                    <a:lnTo>
                      <a:pt x="2720" y="1876"/>
                    </a:lnTo>
                    <a:lnTo>
                      <a:pt x="2709" y="1879"/>
                    </a:lnTo>
                    <a:lnTo>
                      <a:pt x="2696" y="1883"/>
                    </a:lnTo>
                    <a:lnTo>
                      <a:pt x="2680" y="1886"/>
                    </a:lnTo>
                    <a:lnTo>
                      <a:pt x="2663" y="1890"/>
                    </a:lnTo>
                    <a:lnTo>
                      <a:pt x="2645" y="1892"/>
                    </a:lnTo>
                    <a:lnTo>
                      <a:pt x="2604" y="1897"/>
                    </a:lnTo>
                    <a:lnTo>
                      <a:pt x="2560" y="1901"/>
                    </a:lnTo>
                    <a:lnTo>
                      <a:pt x="2517" y="1903"/>
                    </a:lnTo>
                    <a:lnTo>
                      <a:pt x="2475" y="1904"/>
                    </a:lnTo>
                    <a:lnTo>
                      <a:pt x="2430" y="1903"/>
                    </a:lnTo>
                    <a:lnTo>
                      <a:pt x="2375" y="1899"/>
                    </a:lnTo>
                    <a:lnTo>
                      <a:pt x="2312" y="1895"/>
                    </a:lnTo>
                    <a:lnTo>
                      <a:pt x="2246" y="1892"/>
                    </a:lnTo>
                    <a:lnTo>
                      <a:pt x="2180" y="1889"/>
                    </a:lnTo>
                    <a:lnTo>
                      <a:pt x="2117" y="1888"/>
                    </a:lnTo>
                    <a:lnTo>
                      <a:pt x="2089" y="1889"/>
                    </a:lnTo>
                    <a:lnTo>
                      <a:pt x="2062" y="1890"/>
                    </a:lnTo>
                    <a:lnTo>
                      <a:pt x="2039" y="1893"/>
                    </a:lnTo>
                    <a:lnTo>
                      <a:pt x="2018" y="1896"/>
                    </a:lnTo>
                    <a:lnTo>
                      <a:pt x="1977" y="1904"/>
                    </a:lnTo>
                    <a:lnTo>
                      <a:pt x="1933" y="1910"/>
                    </a:lnTo>
                    <a:lnTo>
                      <a:pt x="1888" y="1915"/>
                    </a:lnTo>
                    <a:lnTo>
                      <a:pt x="1845" y="1918"/>
                    </a:lnTo>
                    <a:lnTo>
                      <a:pt x="1804" y="1919"/>
                    </a:lnTo>
                    <a:lnTo>
                      <a:pt x="1767" y="1919"/>
                    </a:lnTo>
                    <a:lnTo>
                      <a:pt x="1751" y="1918"/>
                    </a:lnTo>
                    <a:lnTo>
                      <a:pt x="1736" y="1917"/>
                    </a:lnTo>
                    <a:lnTo>
                      <a:pt x="1723" y="1916"/>
                    </a:lnTo>
                    <a:lnTo>
                      <a:pt x="1711" y="1913"/>
                    </a:lnTo>
                    <a:lnTo>
                      <a:pt x="1692" y="1910"/>
                    </a:lnTo>
                    <a:lnTo>
                      <a:pt x="1673" y="1910"/>
                    </a:lnTo>
                    <a:lnTo>
                      <a:pt x="1657" y="1911"/>
                    </a:lnTo>
                    <a:lnTo>
                      <a:pt x="1643" y="1913"/>
                    </a:lnTo>
                    <a:lnTo>
                      <a:pt x="1631" y="1916"/>
                    </a:lnTo>
                    <a:lnTo>
                      <a:pt x="1622" y="1919"/>
                    </a:lnTo>
                    <a:lnTo>
                      <a:pt x="1612" y="1922"/>
                    </a:lnTo>
                    <a:lnTo>
                      <a:pt x="1605" y="1925"/>
                    </a:lnTo>
                    <a:lnTo>
                      <a:pt x="1592" y="1928"/>
                    </a:lnTo>
                    <a:lnTo>
                      <a:pt x="1570" y="1930"/>
                    </a:lnTo>
                    <a:lnTo>
                      <a:pt x="1538" y="1932"/>
                    </a:lnTo>
                    <a:lnTo>
                      <a:pt x="1501" y="1932"/>
                    </a:lnTo>
                    <a:lnTo>
                      <a:pt x="1458" y="1932"/>
                    </a:lnTo>
                    <a:lnTo>
                      <a:pt x="1413" y="1930"/>
                    </a:lnTo>
                    <a:lnTo>
                      <a:pt x="1389" y="1928"/>
                    </a:lnTo>
                    <a:lnTo>
                      <a:pt x="1367" y="1925"/>
                    </a:lnTo>
                    <a:lnTo>
                      <a:pt x="1343" y="1922"/>
                    </a:lnTo>
                    <a:lnTo>
                      <a:pt x="1321" y="1918"/>
                    </a:lnTo>
                    <a:lnTo>
                      <a:pt x="1279" y="1910"/>
                    </a:lnTo>
                    <a:lnTo>
                      <a:pt x="1242" y="1905"/>
                    </a:lnTo>
                    <a:lnTo>
                      <a:pt x="1209" y="1902"/>
                    </a:lnTo>
                    <a:lnTo>
                      <a:pt x="1178" y="1899"/>
                    </a:lnTo>
                    <a:lnTo>
                      <a:pt x="1164" y="1899"/>
                    </a:lnTo>
                    <a:lnTo>
                      <a:pt x="1150" y="1901"/>
                    </a:lnTo>
                    <a:lnTo>
                      <a:pt x="1137" y="1902"/>
                    </a:lnTo>
                    <a:lnTo>
                      <a:pt x="1124" y="1904"/>
                    </a:lnTo>
                    <a:lnTo>
                      <a:pt x="1112" y="1906"/>
                    </a:lnTo>
                    <a:lnTo>
                      <a:pt x="1100" y="1909"/>
                    </a:lnTo>
                    <a:lnTo>
                      <a:pt x="1088" y="1913"/>
                    </a:lnTo>
                    <a:lnTo>
                      <a:pt x="1076" y="1918"/>
                    </a:lnTo>
                    <a:lnTo>
                      <a:pt x="1063" y="1923"/>
                    </a:lnTo>
                    <a:lnTo>
                      <a:pt x="1048" y="1929"/>
                    </a:lnTo>
                    <a:lnTo>
                      <a:pt x="1030" y="1932"/>
                    </a:lnTo>
                    <a:lnTo>
                      <a:pt x="1009" y="1935"/>
                    </a:lnTo>
                    <a:lnTo>
                      <a:pt x="987" y="1938"/>
                    </a:lnTo>
                    <a:lnTo>
                      <a:pt x="964" y="1939"/>
                    </a:lnTo>
                    <a:lnTo>
                      <a:pt x="938" y="1940"/>
                    </a:lnTo>
                    <a:lnTo>
                      <a:pt x="912" y="1942"/>
                    </a:lnTo>
                    <a:lnTo>
                      <a:pt x="885" y="1940"/>
                    </a:lnTo>
                    <a:lnTo>
                      <a:pt x="858" y="1939"/>
                    </a:lnTo>
                    <a:lnTo>
                      <a:pt x="831" y="1936"/>
                    </a:lnTo>
                    <a:lnTo>
                      <a:pt x="804" y="1933"/>
                    </a:lnTo>
                    <a:lnTo>
                      <a:pt x="778" y="1929"/>
                    </a:lnTo>
                    <a:lnTo>
                      <a:pt x="752" y="1923"/>
                    </a:lnTo>
                    <a:lnTo>
                      <a:pt x="728" y="1916"/>
                    </a:lnTo>
                    <a:lnTo>
                      <a:pt x="706" y="1908"/>
                    </a:lnTo>
                    <a:lnTo>
                      <a:pt x="664" y="1893"/>
                    </a:lnTo>
                    <a:lnTo>
                      <a:pt x="632" y="1881"/>
                    </a:lnTo>
                    <a:lnTo>
                      <a:pt x="605" y="1871"/>
                    </a:lnTo>
                    <a:lnTo>
                      <a:pt x="586" y="1863"/>
                    </a:lnTo>
                    <a:lnTo>
                      <a:pt x="570" y="1857"/>
                    </a:lnTo>
                    <a:lnTo>
                      <a:pt x="561" y="1854"/>
                    </a:lnTo>
                    <a:lnTo>
                      <a:pt x="556" y="1852"/>
                    </a:lnTo>
                    <a:lnTo>
                      <a:pt x="554" y="1852"/>
                    </a:lnTo>
                    <a:lnTo>
                      <a:pt x="552" y="1853"/>
                    </a:lnTo>
                    <a:lnTo>
                      <a:pt x="545" y="1857"/>
                    </a:lnTo>
                    <a:lnTo>
                      <a:pt x="534" y="1862"/>
                    </a:lnTo>
                    <a:lnTo>
                      <a:pt x="521" y="1866"/>
                    </a:lnTo>
                    <a:lnTo>
                      <a:pt x="513" y="1867"/>
                    </a:lnTo>
                    <a:lnTo>
                      <a:pt x="507" y="1868"/>
                    </a:lnTo>
                    <a:lnTo>
                      <a:pt x="499" y="1867"/>
                    </a:lnTo>
                    <a:lnTo>
                      <a:pt x="493" y="1866"/>
                    </a:lnTo>
                    <a:lnTo>
                      <a:pt x="486" y="1864"/>
                    </a:lnTo>
                    <a:lnTo>
                      <a:pt x="481" y="1859"/>
                    </a:lnTo>
                    <a:lnTo>
                      <a:pt x="475" y="1854"/>
                    </a:lnTo>
                    <a:lnTo>
                      <a:pt x="470" y="1847"/>
                    </a:lnTo>
                    <a:lnTo>
                      <a:pt x="462" y="1828"/>
                    </a:lnTo>
                    <a:lnTo>
                      <a:pt x="455" y="1807"/>
                    </a:lnTo>
                    <a:lnTo>
                      <a:pt x="448" y="1783"/>
                    </a:lnTo>
                    <a:lnTo>
                      <a:pt x="442" y="1761"/>
                    </a:lnTo>
                    <a:lnTo>
                      <a:pt x="438" y="1741"/>
                    </a:lnTo>
                    <a:lnTo>
                      <a:pt x="433" y="1723"/>
                    </a:lnTo>
                    <a:lnTo>
                      <a:pt x="431" y="1713"/>
                    </a:lnTo>
                    <a:lnTo>
                      <a:pt x="431" y="1708"/>
                    </a:lnTo>
                    <a:lnTo>
                      <a:pt x="428" y="1707"/>
                    </a:lnTo>
                    <a:lnTo>
                      <a:pt x="419" y="1704"/>
                    </a:lnTo>
                    <a:lnTo>
                      <a:pt x="406" y="1701"/>
                    </a:lnTo>
                    <a:lnTo>
                      <a:pt x="390" y="1696"/>
                    </a:lnTo>
                    <a:lnTo>
                      <a:pt x="371" y="1693"/>
                    </a:lnTo>
                    <a:lnTo>
                      <a:pt x="349" y="1691"/>
                    </a:lnTo>
                    <a:lnTo>
                      <a:pt x="338" y="1691"/>
                    </a:lnTo>
                    <a:lnTo>
                      <a:pt x="327" y="1692"/>
                    </a:lnTo>
                    <a:lnTo>
                      <a:pt x="316" y="1693"/>
                    </a:lnTo>
                    <a:lnTo>
                      <a:pt x="305" y="1695"/>
                    </a:lnTo>
                    <a:lnTo>
                      <a:pt x="292" y="1699"/>
                    </a:lnTo>
                    <a:lnTo>
                      <a:pt x="274" y="1702"/>
                    </a:lnTo>
                    <a:lnTo>
                      <a:pt x="255" y="1703"/>
                    </a:lnTo>
                    <a:lnTo>
                      <a:pt x="233" y="1705"/>
                    </a:lnTo>
                    <a:lnTo>
                      <a:pt x="211" y="1705"/>
                    </a:lnTo>
                    <a:lnTo>
                      <a:pt x="187" y="1705"/>
                    </a:lnTo>
                    <a:lnTo>
                      <a:pt x="162" y="1704"/>
                    </a:lnTo>
                    <a:lnTo>
                      <a:pt x="137" y="1702"/>
                    </a:lnTo>
                    <a:lnTo>
                      <a:pt x="112" y="1697"/>
                    </a:lnTo>
                    <a:lnTo>
                      <a:pt x="90" y="1693"/>
                    </a:lnTo>
                    <a:lnTo>
                      <a:pt x="68" y="1688"/>
                    </a:lnTo>
                    <a:lnTo>
                      <a:pt x="49" y="1680"/>
                    </a:lnTo>
                    <a:lnTo>
                      <a:pt x="40" y="1676"/>
                    </a:lnTo>
                    <a:lnTo>
                      <a:pt x="31" y="1672"/>
                    </a:lnTo>
                    <a:lnTo>
                      <a:pt x="25" y="1667"/>
                    </a:lnTo>
                    <a:lnTo>
                      <a:pt x="18" y="1662"/>
                    </a:lnTo>
                    <a:lnTo>
                      <a:pt x="13" y="1656"/>
                    </a:lnTo>
                    <a:lnTo>
                      <a:pt x="9" y="1650"/>
                    </a:lnTo>
                    <a:lnTo>
                      <a:pt x="5" y="1643"/>
                    </a:lnTo>
                    <a:lnTo>
                      <a:pt x="3" y="1636"/>
                    </a:lnTo>
                    <a:lnTo>
                      <a:pt x="0" y="1620"/>
                    </a:lnTo>
                    <a:lnTo>
                      <a:pt x="0" y="1601"/>
                    </a:lnTo>
                    <a:lnTo>
                      <a:pt x="0" y="1581"/>
                    </a:lnTo>
                    <a:lnTo>
                      <a:pt x="2" y="1558"/>
                    </a:lnTo>
                    <a:lnTo>
                      <a:pt x="5" y="1534"/>
                    </a:lnTo>
                    <a:lnTo>
                      <a:pt x="9" y="1511"/>
                    </a:lnTo>
                    <a:lnTo>
                      <a:pt x="13" y="1487"/>
                    </a:lnTo>
                    <a:lnTo>
                      <a:pt x="17" y="1463"/>
                    </a:lnTo>
                    <a:lnTo>
                      <a:pt x="27" y="1420"/>
                    </a:lnTo>
                    <a:lnTo>
                      <a:pt x="36" y="1383"/>
                    </a:lnTo>
                    <a:lnTo>
                      <a:pt x="42" y="1358"/>
                    </a:lnTo>
                    <a:lnTo>
                      <a:pt x="45" y="1350"/>
                    </a:lnTo>
                    <a:close/>
                  </a:path>
                </a:pathLst>
              </a:custGeom>
              <a:solidFill>
                <a:srgbClr val="9dca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5761080" y="3117960"/>
                <a:ext cx="2009880" cy="615960"/>
              </a:xfrm>
              <a:custGeom>
                <a:avLst/>
                <a:gdLst/>
                <a:ahLst/>
                <a:rect l="l" t="t" r="r" b="b"/>
                <a:pathLst>
                  <a:path w="6328" h="1942">
                    <a:moveTo>
                      <a:pt x="45" y="1350"/>
                    </a:moveTo>
                    <a:lnTo>
                      <a:pt x="50" y="1334"/>
                    </a:lnTo>
                    <a:lnTo>
                      <a:pt x="63" y="1288"/>
                    </a:lnTo>
                    <a:lnTo>
                      <a:pt x="74" y="1257"/>
                    </a:lnTo>
                    <a:lnTo>
                      <a:pt x="87" y="1219"/>
                    </a:lnTo>
                    <a:lnTo>
                      <a:pt x="102" y="1177"/>
                    </a:lnTo>
                    <a:lnTo>
                      <a:pt x="120" y="1130"/>
                    </a:lnTo>
                    <a:lnTo>
                      <a:pt x="142" y="1080"/>
                    </a:lnTo>
                    <a:lnTo>
                      <a:pt x="165" y="1026"/>
                    </a:lnTo>
                    <a:lnTo>
                      <a:pt x="191" y="970"/>
                    </a:lnTo>
                    <a:lnTo>
                      <a:pt x="222" y="911"/>
                    </a:lnTo>
                    <a:lnTo>
                      <a:pt x="238" y="881"/>
                    </a:lnTo>
                    <a:lnTo>
                      <a:pt x="254" y="851"/>
                    </a:lnTo>
                    <a:lnTo>
                      <a:pt x="271" y="821"/>
                    </a:lnTo>
                    <a:lnTo>
                      <a:pt x="290" y="790"/>
                    </a:lnTo>
                    <a:lnTo>
                      <a:pt x="309" y="759"/>
                    </a:lnTo>
                    <a:lnTo>
                      <a:pt x="328" y="729"/>
                    </a:lnTo>
                    <a:lnTo>
                      <a:pt x="350" y="698"/>
                    </a:lnTo>
                    <a:lnTo>
                      <a:pt x="372" y="667"/>
                    </a:lnTo>
                    <a:lnTo>
                      <a:pt x="392" y="639"/>
                    </a:lnTo>
                    <a:lnTo>
                      <a:pt x="414" y="611"/>
                    </a:lnTo>
                    <a:lnTo>
                      <a:pt x="435" y="583"/>
                    </a:lnTo>
                    <a:lnTo>
                      <a:pt x="458" y="556"/>
                    </a:lnTo>
                    <a:lnTo>
                      <a:pt x="481" y="529"/>
                    </a:lnTo>
                    <a:lnTo>
                      <a:pt x="504" y="503"/>
                    </a:lnTo>
                    <a:lnTo>
                      <a:pt x="527" y="478"/>
                    </a:lnTo>
                    <a:lnTo>
                      <a:pt x="551" y="453"/>
                    </a:lnTo>
                    <a:lnTo>
                      <a:pt x="576" y="428"/>
                    </a:lnTo>
                    <a:lnTo>
                      <a:pt x="601" y="406"/>
                    </a:lnTo>
                    <a:lnTo>
                      <a:pt x="627" y="383"/>
                    </a:lnTo>
                    <a:lnTo>
                      <a:pt x="653" y="360"/>
                    </a:lnTo>
                    <a:lnTo>
                      <a:pt x="679" y="339"/>
                    </a:lnTo>
                    <a:lnTo>
                      <a:pt x="706" y="318"/>
                    </a:lnTo>
                    <a:lnTo>
                      <a:pt x="733" y="299"/>
                    </a:lnTo>
                    <a:lnTo>
                      <a:pt x="761" y="279"/>
                    </a:lnTo>
                    <a:lnTo>
                      <a:pt x="789" y="261"/>
                    </a:lnTo>
                    <a:lnTo>
                      <a:pt x="818" y="243"/>
                    </a:lnTo>
                    <a:lnTo>
                      <a:pt x="848" y="227"/>
                    </a:lnTo>
                    <a:lnTo>
                      <a:pt x="877" y="210"/>
                    </a:lnTo>
                    <a:lnTo>
                      <a:pt x="909" y="195"/>
                    </a:lnTo>
                    <a:lnTo>
                      <a:pt x="940" y="181"/>
                    </a:lnTo>
                    <a:lnTo>
                      <a:pt x="971" y="167"/>
                    </a:lnTo>
                    <a:lnTo>
                      <a:pt x="1004" y="155"/>
                    </a:lnTo>
                    <a:lnTo>
                      <a:pt x="1036" y="143"/>
                    </a:lnTo>
                    <a:lnTo>
                      <a:pt x="1070" y="133"/>
                    </a:lnTo>
                    <a:lnTo>
                      <a:pt x="1104" y="123"/>
                    </a:lnTo>
                    <a:lnTo>
                      <a:pt x="1139" y="114"/>
                    </a:lnTo>
                    <a:lnTo>
                      <a:pt x="1174" y="107"/>
                    </a:lnTo>
                    <a:lnTo>
                      <a:pt x="1210" y="99"/>
                    </a:lnTo>
                    <a:lnTo>
                      <a:pt x="1247" y="94"/>
                    </a:lnTo>
                    <a:lnTo>
                      <a:pt x="1283" y="89"/>
                    </a:lnTo>
                    <a:lnTo>
                      <a:pt x="1433" y="72"/>
                    </a:lnTo>
                    <a:lnTo>
                      <a:pt x="1575" y="56"/>
                    </a:lnTo>
                    <a:lnTo>
                      <a:pt x="1708" y="42"/>
                    </a:lnTo>
                    <a:lnTo>
                      <a:pt x="1827" y="28"/>
                    </a:lnTo>
                    <a:lnTo>
                      <a:pt x="1927" y="17"/>
                    </a:lnTo>
                    <a:lnTo>
                      <a:pt x="2003" y="7"/>
                    </a:lnTo>
                    <a:lnTo>
                      <a:pt x="2053" y="2"/>
                    </a:lnTo>
                    <a:lnTo>
                      <a:pt x="2070" y="0"/>
                    </a:lnTo>
                    <a:lnTo>
                      <a:pt x="2079" y="1"/>
                    </a:lnTo>
                    <a:lnTo>
                      <a:pt x="2103" y="3"/>
                    </a:lnTo>
                    <a:lnTo>
                      <a:pt x="2140" y="6"/>
                    </a:lnTo>
                    <a:lnTo>
                      <a:pt x="2187" y="11"/>
                    </a:lnTo>
                    <a:lnTo>
                      <a:pt x="2239" y="16"/>
                    </a:lnTo>
                    <a:lnTo>
                      <a:pt x="2296" y="25"/>
                    </a:lnTo>
                    <a:lnTo>
                      <a:pt x="2324" y="29"/>
                    </a:lnTo>
                    <a:lnTo>
                      <a:pt x="2351" y="33"/>
                    </a:lnTo>
                    <a:lnTo>
                      <a:pt x="2378" y="39"/>
                    </a:lnTo>
                    <a:lnTo>
                      <a:pt x="2404" y="45"/>
                    </a:lnTo>
                    <a:lnTo>
                      <a:pt x="2431" y="53"/>
                    </a:lnTo>
                    <a:lnTo>
                      <a:pt x="2461" y="61"/>
                    </a:lnTo>
                    <a:lnTo>
                      <a:pt x="2496" y="73"/>
                    </a:lnTo>
                    <a:lnTo>
                      <a:pt x="2532" y="86"/>
                    </a:lnTo>
                    <a:lnTo>
                      <a:pt x="2611" y="114"/>
                    </a:lnTo>
                    <a:lnTo>
                      <a:pt x="2695" y="144"/>
                    </a:lnTo>
                    <a:lnTo>
                      <a:pt x="2781" y="174"/>
                    </a:lnTo>
                    <a:lnTo>
                      <a:pt x="2864" y="201"/>
                    </a:lnTo>
                    <a:lnTo>
                      <a:pt x="2903" y="212"/>
                    </a:lnTo>
                    <a:lnTo>
                      <a:pt x="2940" y="222"/>
                    </a:lnTo>
                    <a:lnTo>
                      <a:pt x="2974" y="230"/>
                    </a:lnTo>
                    <a:lnTo>
                      <a:pt x="3004" y="235"/>
                    </a:lnTo>
                    <a:lnTo>
                      <a:pt x="3072" y="244"/>
                    </a:lnTo>
                    <a:lnTo>
                      <a:pt x="3157" y="255"/>
                    </a:lnTo>
                    <a:lnTo>
                      <a:pt x="3204" y="261"/>
                    </a:lnTo>
                    <a:lnTo>
                      <a:pt x="3254" y="269"/>
                    </a:lnTo>
                    <a:lnTo>
                      <a:pt x="3307" y="276"/>
                    </a:lnTo>
                    <a:lnTo>
                      <a:pt x="3362" y="286"/>
                    </a:lnTo>
                    <a:lnTo>
                      <a:pt x="3418" y="297"/>
                    </a:lnTo>
                    <a:lnTo>
                      <a:pt x="3475" y="309"/>
                    </a:lnTo>
                    <a:lnTo>
                      <a:pt x="3535" y="322"/>
                    </a:lnTo>
                    <a:lnTo>
                      <a:pt x="3594" y="336"/>
                    </a:lnTo>
                    <a:lnTo>
                      <a:pt x="3654" y="353"/>
                    </a:lnTo>
                    <a:lnTo>
                      <a:pt x="3712" y="370"/>
                    </a:lnTo>
                    <a:lnTo>
                      <a:pt x="3741" y="381"/>
                    </a:lnTo>
                    <a:lnTo>
                      <a:pt x="3770" y="391"/>
                    </a:lnTo>
                    <a:lnTo>
                      <a:pt x="3799" y="401"/>
                    </a:lnTo>
                    <a:lnTo>
                      <a:pt x="3827" y="413"/>
                    </a:lnTo>
                    <a:lnTo>
                      <a:pt x="3835" y="410"/>
                    </a:lnTo>
                    <a:lnTo>
                      <a:pt x="3856" y="404"/>
                    </a:lnTo>
                    <a:lnTo>
                      <a:pt x="3886" y="393"/>
                    </a:lnTo>
                    <a:lnTo>
                      <a:pt x="3924" y="379"/>
                    </a:lnTo>
                    <a:lnTo>
                      <a:pt x="3966" y="364"/>
                    </a:lnTo>
                    <a:lnTo>
                      <a:pt x="4010" y="346"/>
                    </a:lnTo>
                    <a:lnTo>
                      <a:pt x="4054" y="329"/>
                    </a:lnTo>
                    <a:lnTo>
                      <a:pt x="4095" y="312"/>
                    </a:lnTo>
                    <a:lnTo>
                      <a:pt x="4114" y="303"/>
                    </a:lnTo>
                    <a:lnTo>
                      <a:pt x="4132" y="297"/>
                    </a:lnTo>
                    <a:lnTo>
                      <a:pt x="4150" y="291"/>
                    </a:lnTo>
                    <a:lnTo>
                      <a:pt x="4169" y="286"/>
                    </a:lnTo>
                    <a:lnTo>
                      <a:pt x="4188" y="282"/>
                    </a:lnTo>
                    <a:lnTo>
                      <a:pt x="4209" y="278"/>
                    </a:lnTo>
                    <a:lnTo>
                      <a:pt x="4230" y="276"/>
                    </a:lnTo>
                    <a:lnTo>
                      <a:pt x="4252" y="274"/>
                    </a:lnTo>
                    <a:lnTo>
                      <a:pt x="4276" y="273"/>
                    </a:lnTo>
                    <a:lnTo>
                      <a:pt x="4302" y="273"/>
                    </a:lnTo>
                    <a:lnTo>
                      <a:pt x="4328" y="273"/>
                    </a:lnTo>
                    <a:lnTo>
                      <a:pt x="4357" y="273"/>
                    </a:lnTo>
                    <a:lnTo>
                      <a:pt x="4422" y="275"/>
                    </a:lnTo>
                    <a:lnTo>
                      <a:pt x="4495" y="279"/>
                    </a:lnTo>
                    <a:lnTo>
                      <a:pt x="4573" y="283"/>
                    </a:lnTo>
                    <a:lnTo>
                      <a:pt x="4646" y="286"/>
                    </a:lnTo>
                    <a:lnTo>
                      <a:pt x="4715" y="290"/>
                    </a:lnTo>
                    <a:lnTo>
                      <a:pt x="4779" y="296"/>
                    </a:lnTo>
                    <a:lnTo>
                      <a:pt x="4809" y="299"/>
                    </a:lnTo>
                    <a:lnTo>
                      <a:pt x="4838" y="303"/>
                    </a:lnTo>
                    <a:lnTo>
                      <a:pt x="4865" y="308"/>
                    </a:lnTo>
                    <a:lnTo>
                      <a:pt x="4890" y="313"/>
                    </a:lnTo>
                    <a:lnTo>
                      <a:pt x="4913" y="319"/>
                    </a:lnTo>
                    <a:lnTo>
                      <a:pt x="4935" y="327"/>
                    </a:lnTo>
                    <a:lnTo>
                      <a:pt x="4955" y="337"/>
                    </a:lnTo>
                    <a:lnTo>
                      <a:pt x="4973" y="346"/>
                    </a:lnTo>
                    <a:lnTo>
                      <a:pt x="5013" y="372"/>
                    </a:lnTo>
                    <a:lnTo>
                      <a:pt x="5063" y="408"/>
                    </a:lnTo>
                    <a:lnTo>
                      <a:pt x="5125" y="452"/>
                    </a:lnTo>
                    <a:lnTo>
                      <a:pt x="5196" y="502"/>
                    </a:lnTo>
                    <a:lnTo>
                      <a:pt x="5277" y="557"/>
                    </a:lnTo>
                    <a:lnTo>
                      <a:pt x="5366" y="615"/>
                    </a:lnTo>
                    <a:lnTo>
                      <a:pt x="5413" y="646"/>
                    </a:lnTo>
                    <a:lnTo>
                      <a:pt x="5462" y="675"/>
                    </a:lnTo>
                    <a:lnTo>
                      <a:pt x="5512" y="705"/>
                    </a:lnTo>
                    <a:lnTo>
                      <a:pt x="5563" y="734"/>
                    </a:lnTo>
                    <a:lnTo>
                      <a:pt x="5615" y="762"/>
                    </a:lnTo>
                    <a:lnTo>
                      <a:pt x="5665" y="789"/>
                    </a:lnTo>
                    <a:lnTo>
                      <a:pt x="5714" y="814"/>
                    </a:lnTo>
                    <a:lnTo>
                      <a:pt x="5761" y="837"/>
                    </a:lnTo>
                    <a:lnTo>
                      <a:pt x="5852" y="881"/>
                    </a:lnTo>
                    <a:lnTo>
                      <a:pt x="5934" y="923"/>
                    </a:lnTo>
                    <a:lnTo>
                      <a:pt x="5973" y="945"/>
                    </a:lnTo>
                    <a:lnTo>
                      <a:pt x="6009" y="965"/>
                    </a:lnTo>
                    <a:lnTo>
                      <a:pt x="6041" y="987"/>
                    </a:lnTo>
                    <a:lnTo>
                      <a:pt x="6072" y="1010"/>
                    </a:lnTo>
                    <a:lnTo>
                      <a:pt x="6086" y="1021"/>
                    </a:lnTo>
                    <a:lnTo>
                      <a:pt x="6099" y="1033"/>
                    </a:lnTo>
                    <a:lnTo>
                      <a:pt x="6112" y="1045"/>
                    </a:lnTo>
                    <a:lnTo>
                      <a:pt x="6124" y="1058"/>
                    </a:lnTo>
                    <a:lnTo>
                      <a:pt x="6136" y="1071"/>
                    </a:lnTo>
                    <a:lnTo>
                      <a:pt x="6146" y="1084"/>
                    </a:lnTo>
                    <a:lnTo>
                      <a:pt x="6155" y="1098"/>
                    </a:lnTo>
                    <a:lnTo>
                      <a:pt x="6164" y="1112"/>
                    </a:lnTo>
                    <a:lnTo>
                      <a:pt x="6180" y="1141"/>
                    </a:lnTo>
                    <a:lnTo>
                      <a:pt x="6195" y="1169"/>
                    </a:lnTo>
                    <a:lnTo>
                      <a:pt x="6209" y="1196"/>
                    </a:lnTo>
                    <a:lnTo>
                      <a:pt x="6222" y="1223"/>
                    </a:lnTo>
                    <a:lnTo>
                      <a:pt x="6233" y="1248"/>
                    </a:lnTo>
                    <a:lnTo>
                      <a:pt x="6244" y="1273"/>
                    </a:lnTo>
                    <a:lnTo>
                      <a:pt x="6253" y="1297"/>
                    </a:lnTo>
                    <a:lnTo>
                      <a:pt x="6260" y="1321"/>
                    </a:lnTo>
                    <a:lnTo>
                      <a:pt x="6266" y="1342"/>
                    </a:lnTo>
                    <a:lnTo>
                      <a:pt x="6271" y="1363"/>
                    </a:lnTo>
                    <a:lnTo>
                      <a:pt x="6273" y="1383"/>
                    </a:lnTo>
                    <a:lnTo>
                      <a:pt x="6275" y="1403"/>
                    </a:lnTo>
                    <a:lnTo>
                      <a:pt x="6274" y="1420"/>
                    </a:lnTo>
                    <a:lnTo>
                      <a:pt x="6272" y="1437"/>
                    </a:lnTo>
                    <a:lnTo>
                      <a:pt x="6269" y="1453"/>
                    </a:lnTo>
                    <a:lnTo>
                      <a:pt x="6264" y="1469"/>
                    </a:lnTo>
                    <a:lnTo>
                      <a:pt x="6258" y="1483"/>
                    </a:lnTo>
                    <a:lnTo>
                      <a:pt x="6256" y="1497"/>
                    </a:lnTo>
                    <a:lnTo>
                      <a:pt x="6255" y="1511"/>
                    </a:lnTo>
                    <a:lnTo>
                      <a:pt x="6255" y="1524"/>
                    </a:lnTo>
                    <a:lnTo>
                      <a:pt x="6258" y="1538"/>
                    </a:lnTo>
                    <a:lnTo>
                      <a:pt x="6261" y="1550"/>
                    </a:lnTo>
                    <a:lnTo>
                      <a:pt x="6266" y="1562"/>
                    </a:lnTo>
                    <a:lnTo>
                      <a:pt x="6271" y="1575"/>
                    </a:lnTo>
                    <a:lnTo>
                      <a:pt x="6284" y="1602"/>
                    </a:lnTo>
                    <a:lnTo>
                      <a:pt x="6297" y="1629"/>
                    </a:lnTo>
                    <a:lnTo>
                      <a:pt x="6303" y="1645"/>
                    </a:lnTo>
                    <a:lnTo>
                      <a:pt x="6310" y="1659"/>
                    </a:lnTo>
                    <a:lnTo>
                      <a:pt x="6315" y="1675"/>
                    </a:lnTo>
                    <a:lnTo>
                      <a:pt x="6320" y="1691"/>
                    </a:lnTo>
                    <a:lnTo>
                      <a:pt x="6324" y="1707"/>
                    </a:lnTo>
                    <a:lnTo>
                      <a:pt x="6326" y="1721"/>
                    </a:lnTo>
                    <a:lnTo>
                      <a:pt x="6327" y="1734"/>
                    </a:lnTo>
                    <a:lnTo>
                      <a:pt x="6328" y="1746"/>
                    </a:lnTo>
                    <a:lnTo>
                      <a:pt x="6327" y="1756"/>
                    </a:lnTo>
                    <a:lnTo>
                      <a:pt x="6324" y="1766"/>
                    </a:lnTo>
                    <a:lnTo>
                      <a:pt x="6321" y="1773"/>
                    </a:lnTo>
                    <a:lnTo>
                      <a:pt x="6315" y="1780"/>
                    </a:lnTo>
                    <a:lnTo>
                      <a:pt x="6309" y="1786"/>
                    </a:lnTo>
                    <a:lnTo>
                      <a:pt x="6301" y="1790"/>
                    </a:lnTo>
                    <a:lnTo>
                      <a:pt x="6292" y="1795"/>
                    </a:lnTo>
                    <a:lnTo>
                      <a:pt x="6281" y="1797"/>
                    </a:lnTo>
                    <a:lnTo>
                      <a:pt x="6268" y="1799"/>
                    </a:lnTo>
                    <a:lnTo>
                      <a:pt x="6253" y="1801"/>
                    </a:lnTo>
                    <a:lnTo>
                      <a:pt x="6236" y="1802"/>
                    </a:lnTo>
                    <a:lnTo>
                      <a:pt x="6219" y="1802"/>
                    </a:lnTo>
                    <a:lnTo>
                      <a:pt x="6217" y="1803"/>
                    </a:lnTo>
                    <a:lnTo>
                      <a:pt x="6213" y="1805"/>
                    </a:lnTo>
                    <a:lnTo>
                      <a:pt x="6207" y="1810"/>
                    </a:lnTo>
                    <a:lnTo>
                      <a:pt x="6199" y="1814"/>
                    </a:lnTo>
                    <a:lnTo>
                      <a:pt x="6190" y="1818"/>
                    </a:lnTo>
                    <a:lnTo>
                      <a:pt x="6180" y="1823"/>
                    </a:lnTo>
                    <a:lnTo>
                      <a:pt x="6170" y="1827"/>
                    </a:lnTo>
                    <a:lnTo>
                      <a:pt x="6160" y="1829"/>
                    </a:lnTo>
                    <a:lnTo>
                      <a:pt x="6147" y="1831"/>
                    </a:lnTo>
                    <a:lnTo>
                      <a:pt x="6131" y="1831"/>
                    </a:lnTo>
                    <a:lnTo>
                      <a:pt x="6112" y="1830"/>
                    </a:lnTo>
                    <a:lnTo>
                      <a:pt x="6093" y="1829"/>
                    </a:lnTo>
                    <a:lnTo>
                      <a:pt x="6072" y="1827"/>
                    </a:lnTo>
                    <a:lnTo>
                      <a:pt x="6053" y="1824"/>
                    </a:lnTo>
                    <a:lnTo>
                      <a:pt x="6034" y="1822"/>
                    </a:lnTo>
                    <a:lnTo>
                      <a:pt x="6018" y="1820"/>
                    </a:lnTo>
                    <a:lnTo>
                      <a:pt x="6004" y="1818"/>
                    </a:lnTo>
                    <a:lnTo>
                      <a:pt x="5988" y="1818"/>
                    </a:lnTo>
                    <a:lnTo>
                      <a:pt x="5973" y="1820"/>
                    </a:lnTo>
                    <a:lnTo>
                      <a:pt x="5957" y="1822"/>
                    </a:lnTo>
                    <a:lnTo>
                      <a:pt x="5942" y="1825"/>
                    </a:lnTo>
                    <a:lnTo>
                      <a:pt x="5926" y="1828"/>
                    </a:lnTo>
                    <a:lnTo>
                      <a:pt x="5913" y="1832"/>
                    </a:lnTo>
                    <a:lnTo>
                      <a:pt x="5903" y="1837"/>
                    </a:lnTo>
                    <a:lnTo>
                      <a:pt x="5889" y="1840"/>
                    </a:lnTo>
                    <a:lnTo>
                      <a:pt x="5869" y="1842"/>
                    </a:lnTo>
                    <a:lnTo>
                      <a:pt x="5844" y="1843"/>
                    </a:lnTo>
                    <a:lnTo>
                      <a:pt x="5817" y="1844"/>
                    </a:lnTo>
                    <a:lnTo>
                      <a:pt x="5788" y="1843"/>
                    </a:lnTo>
                    <a:lnTo>
                      <a:pt x="5760" y="1842"/>
                    </a:lnTo>
                    <a:lnTo>
                      <a:pt x="5732" y="1840"/>
                    </a:lnTo>
                    <a:lnTo>
                      <a:pt x="5707" y="1837"/>
                    </a:lnTo>
                    <a:lnTo>
                      <a:pt x="5684" y="1831"/>
                    </a:lnTo>
                    <a:lnTo>
                      <a:pt x="5663" y="1826"/>
                    </a:lnTo>
                    <a:lnTo>
                      <a:pt x="5641" y="1821"/>
                    </a:lnTo>
                    <a:lnTo>
                      <a:pt x="5619" y="1816"/>
                    </a:lnTo>
                    <a:lnTo>
                      <a:pt x="5608" y="1815"/>
                    </a:lnTo>
                    <a:lnTo>
                      <a:pt x="5597" y="1814"/>
                    </a:lnTo>
                    <a:lnTo>
                      <a:pt x="5585" y="1814"/>
                    </a:lnTo>
                    <a:lnTo>
                      <a:pt x="5574" y="1815"/>
                    </a:lnTo>
                    <a:lnTo>
                      <a:pt x="5563" y="1817"/>
                    </a:lnTo>
                    <a:lnTo>
                      <a:pt x="5552" y="1820"/>
                    </a:lnTo>
                    <a:lnTo>
                      <a:pt x="5541" y="1824"/>
                    </a:lnTo>
                    <a:lnTo>
                      <a:pt x="5529" y="1829"/>
                    </a:lnTo>
                    <a:lnTo>
                      <a:pt x="5522" y="1832"/>
                    </a:lnTo>
                    <a:lnTo>
                      <a:pt x="5514" y="1835"/>
                    </a:lnTo>
                    <a:lnTo>
                      <a:pt x="5504" y="1838"/>
                    </a:lnTo>
                    <a:lnTo>
                      <a:pt x="5492" y="1840"/>
                    </a:lnTo>
                    <a:lnTo>
                      <a:pt x="5466" y="1843"/>
                    </a:lnTo>
                    <a:lnTo>
                      <a:pt x="5434" y="1845"/>
                    </a:lnTo>
                    <a:lnTo>
                      <a:pt x="5399" y="1848"/>
                    </a:lnTo>
                    <a:lnTo>
                      <a:pt x="5361" y="1849"/>
                    </a:lnTo>
                    <a:lnTo>
                      <a:pt x="5324" y="1849"/>
                    </a:lnTo>
                    <a:lnTo>
                      <a:pt x="5284" y="1849"/>
                    </a:lnTo>
                    <a:lnTo>
                      <a:pt x="5209" y="1847"/>
                    </a:lnTo>
                    <a:lnTo>
                      <a:pt x="5145" y="1844"/>
                    </a:lnTo>
                    <a:lnTo>
                      <a:pt x="5100" y="1842"/>
                    </a:lnTo>
                    <a:lnTo>
                      <a:pt x="5084" y="1841"/>
                    </a:lnTo>
                    <a:lnTo>
                      <a:pt x="5078" y="1843"/>
                    </a:lnTo>
                    <a:lnTo>
                      <a:pt x="5065" y="1847"/>
                    </a:lnTo>
                    <a:lnTo>
                      <a:pt x="5046" y="1851"/>
                    </a:lnTo>
                    <a:lnTo>
                      <a:pt x="5023" y="1854"/>
                    </a:lnTo>
                    <a:lnTo>
                      <a:pt x="5011" y="1856"/>
                    </a:lnTo>
                    <a:lnTo>
                      <a:pt x="4999" y="1857"/>
                    </a:lnTo>
                    <a:lnTo>
                      <a:pt x="4988" y="1857"/>
                    </a:lnTo>
                    <a:lnTo>
                      <a:pt x="4977" y="1857"/>
                    </a:lnTo>
                    <a:lnTo>
                      <a:pt x="4966" y="1856"/>
                    </a:lnTo>
                    <a:lnTo>
                      <a:pt x="4957" y="1854"/>
                    </a:lnTo>
                    <a:lnTo>
                      <a:pt x="4951" y="1851"/>
                    </a:lnTo>
                    <a:lnTo>
                      <a:pt x="4946" y="1847"/>
                    </a:lnTo>
                    <a:lnTo>
                      <a:pt x="4930" y="1850"/>
                    </a:lnTo>
                    <a:lnTo>
                      <a:pt x="4889" y="1856"/>
                    </a:lnTo>
                    <a:lnTo>
                      <a:pt x="4860" y="1861"/>
                    </a:lnTo>
                    <a:lnTo>
                      <a:pt x="4828" y="1865"/>
                    </a:lnTo>
                    <a:lnTo>
                      <a:pt x="4791" y="1868"/>
                    </a:lnTo>
                    <a:lnTo>
                      <a:pt x="4751" y="1872"/>
                    </a:lnTo>
                    <a:lnTo>
                      <a:pt x="4709" y="1876"/>
                    </a:lnTo>
                    <a:lnTo>
                      <a:pt x="4665" y="1877"/>
                    </a:lnTo>
                    <a:lnTo>
                      <a:pt x="4620" y="1878"/>
                    </a:lnTo>
                    <a:lnTo>
                      <a:pt x="4575" y="1877"/>
                    </a:lnTo>
                    <a:lnTo>
                      <a:pt x="4552" y="1876"/>
                    </a:lnTo>
                    <a:lnTo>
                      <a:pt x="4531" y="1874"/>
                    </a:lnTo>
                    <a:lnTo>
                      <a:pt x="4508" y="1871"/>
                    </a:lnTo>
                    <a:lnTo>
                      <a:pt x="4488" y="1869"/>
                    </a:lnTo>
                    <a:lnTo>
                      <a:pt x="4466" y="1866"/>
                    </a:lnTo>
                    <a:lnTo>
                      <a:pt x="4445" y="1862"/>
                    </a:lnTo>
                    <a:lnTo>
                      <a:pt x="4426" y="1857"/>
                    </a:lnTo>
                    <a:lnTo>
                      <a:pt x="4407" y="1852"/>
                    </a:lnTo>
                    <a:lnTo>
                      <a:pt x="4390" y="1852"/>
                    </a:lnTo>
                    <a:lnTo>
                      <a:pt x="4348" y="1852"/>
                    </a:lnTo>
                    <a:lnTo>
                      <a:pt x="4287" y="1852"/>
                    </a:lnTo>
                    <a:lnTo>
                      <a:pt x="4211" y="1852"/>
                    </a:lnTo>
                    <a:lnTo>
                      <a:pt x="4129" y="1853"/>
                    </a:lnTo>
                    <a:lnTo>
                      <a:pt x="4048" y="1855"/>
                    </a:lnTo>
                    <a:lnTo>
                      <a:pt x="3973" y="1856"/>
                    </a:lnTo>
                    <a:lnTo>
                      <a:pt x="3912" y="1858"/>
                    </a:lnTo>
                    <a:lnTo>
                      <a:pt x="3886" y="1861"/>
                    </a:lnTo>
                    <a:lnTo>
                      <a:pt x="3860" y="1863"/>
                    </a:lnTo>
                    <a:lnTo>
                      <a:pt x="3835" y="1866"/>
                    </a:lnTo>
                    <a:lnTo>
                      <a:pt x="3809" y="1869"/>
                    </a:lnTo>
                    <a:lnTo>
                      <a:pt x="3758" y="1877"/>
                    </a:lnTo>
                    <a:lnTo>
                      <a:pt x="3707" y="1884"/>
                    </a:lnTo>
                    <a:lnTo>
                      <a:pt x="3679" y="1888"/>
                    </a:lnTo>
                    <a:lnTo>
                      <a:pt x="3651" y="1890"/>
                    </a:lnTo>
                    <a:lnTo>
                      <a:pt x="3622" y="1891"/>
                    </a:lnTo>
                    <a:lnTo>
                      <a:pt x="3593" y="1892"/>
                    </a:lnTo>
                    <a:lnTo>
                      <a:pt x="3562" y="1892"/>
                    </a:lnTo>
                    <a:lnTo>
                      <a:pt x="3529" y="1890"/>
                    </a:lnTo>
                    <a:lnTo>
                      <a:pt x="3495" y="1886"/>
                    </a:lnTo>
                    <a:lnTo>
                      <a:pt x="3459" y="1881"/>
                    </a:lnTo>
                    <a:lnTo>
                      <a:pt x="3425" y="1876"/>
                    </a:lnTo>
                    <a:lnTo>
                      <a:pt x="3393" y="1870"/>
                    </a:lnTo>
                    <a:lnTo>
                      <a:pt x="3364" y="1867"/>
                    </a:lnTo>
                    <a:lnTo>
                      <a:pt x="3338" y="1864"/>
                    </a:lnTo>
                    <a:lnTo>
                      <a:pt x="3314" y="1863"/>
                    </a:lnTo>
                    <a:lnTo>
                      <a:pt x="3293" y="1862"/>
                    </a:lnTo>
                    <a:lnTo>
                      <a:pt x="3273" y="1862"/>
                    </a:lnTo>
                    <a:lnTo>
                      <a:pt x="3256" y="1862"/>
                    </a:lnTo>
                    <a:lnTo>
                      <a:pt x="3241" y="1863"/>
                    </a:lnTo>
                    <a:lnTo>
                      <a:pt x="3228" y="1865"/>
                    </a:lnTo>
                    <a:lnTo>
                      <a:pt x="3216" y="1867"/>
                    </a:lnTo>
                    <a:lnTo>
                      <a:pt x="3206" y="1869"/>
                    </a:lnTo>
                    <a:lnTo>
                      <a:pt x="3198" y="1871"/>
                    </a:lnTo>
                    <a:lnTo>
                      <a:pt x="3190" y="1875"/>
                    </a:lnTo>
                    <a:lnTo>
                      <a:pt x="3184" y="1878"/>
                    </a:lnTo>
                    <a:lnTo>
                      <a:pt x="3177" y="1881"/>
                    </a:lnTo>
                    <a:lnTo>
                      <a:pt x="3171" y="1883"/>
                    </a:lnTo>
                    <a:lnTo>
                      <a:pt x="3162" y="1884"/>
                    </a:lnTo>
                    <a:lnTo>
                      <a:pt x="3152" y="1884"/>
                    </a:lnTo>
                    <a:lnTo>
                      <a:pt x="3139" y="1883"/>
                    </a:lnTo>
                    <a:lnTo>
                      <a:pt x="3112" y="1878"/>
                    </a:lnTo>
                    <a:lnTo>
                      <a:pt x="3083" y="1871"/>
                    </a:lnTo>
                    <a:lnTo>
                      <a:pt x="3055" y="1865"/>
                    </a:lnTo>
                    <a:lnTo>
                      <a:pt x="3032" y="1858"/>
                    </a:lnTo>
                    <a:lnTo>
                      <a:pt x="3015" y="1853"/>
                    </a:lnTo>
                    <a:lnTo>
                      <a:pt x="3010" y="1852"/>
                    </a:lnTo>
                    <a:lnTo>
                      <a:pt x="3003" y="1855"/>
                    </a:lnTo>
                    <a:lnTo>
                      <a:pt x="2986" y="1863"/>
                    </a:lnTo>
                    <a:lnTo>
                      <a:pt x="2962" y="1874"/>
                    </a:lnTo>
                    <a:lnTo>
                      <a:pt x="2933" y="1884"/>
                    </a:lnTo>
                    <a:lnTo>
                      <a:pt x="2917" y="1889"/>
                    </a:lnTo>
                    <a:lnTo>
                      <a:pt x="2902" y="1892"/>
                    </a:lnTo>
                    <a:lnTo>
                      <a:pt x="2887" y="1894"/>
                    </a:lnTo>
                    <a:lnTo>
                      <a:pt x="2871" y="1894"/>
                    </a:lnTo>
                    <a:lnTo>
                      <a:pt x="2865" y="1894"/>
                    </a:lnTo>
                    <a:lnTo>
                      <a:pt x="2858" y="1893"/>
                    </a:lnTo>
                    <a:lnTo>
                      <a:pt x="2852" y="1891"/>
                    </a:lnTo>
                    <a:lnTo>
                      <a:pt x="2846" y="1889"/>
                    </a:lnTo>
                    <a:lnTo>
                      <a:pt x="2840" y="1886"/>
                    </a:lnTo>
                    <a:lnTo>
                      <a:pt x="2835" y="1883"/>
                    </a:lnTo>
                    <a:lnTo>
                      <a:pt x="2830" y="1879"/>
                    </a:lnTo>
                    <a:lnTo>
                      <a:pt x="2826" y="1874"/>
                    </a:lnTo>
                    <a:lnTo>
                      <a:pt x="2823" y="1872"/>
                    </a:lnTo>
                    <a:lnTo>
                      <a:pt x="2813" y="1869"/>
                    </a:lnTo>
                    <a:lnTo>
                      <a:pt x="2800" y="1865"/>
                    </a:lnTo>
                    <a:lnTo>
                      <a:pt x="2784" y="1861"/>
                    </a:lnTo>
                    <a:lnTo>
                      <a:pt x="2768" y="1857"/>
                    </a:lnTo>
                    <a:lnTo>
                      <a:pt x="2754" y="1856"/>
                    </a:lnTo>
                    <a:lnTo>
                      <a:pt x="2747" y="1856"/>
                    </a:lnTo>
                    <a:lnTo>
                      <a:pt x="2743" y="1858"/>
                    </a:lnTo>
                    <a:lnTo>
                      <a:pt x="2740" y="1861"/>
                    </a:lnTo>
                    <a:lnTo>
                      <a:pt x="2738" y="1864"/>
                    </a:lnTo>
                    <a:lnTo>
                      <a:pt x="2736" y="1866"/>
                    </a:lnTo>
                    <a:lnTo>
                      <a:pt x="2735" y="1868"/>
                    </a:lnTo>
                    <a:lnTo>
                      <a:pt x="2732" y="1870"/>
                    </a:lnTo>
                    <a:lnTo>
                      <a:pt x="2729" y="1872"/>
                    </a:lnTo>
                    <a:lnTo>
                      <a:pt x="2720" y="1876"/>
                    </a:lnTo>
                    <a:lnTo>
                      <a:pt x="2709" y="1879"/>
                    </a:lnTo>
                    <a:lnTo>
                      <a:pt x="2696" y="1883"/>
                    </a:lnTo>
                    <a:lnTo>
                      <a:pt x="2680" y="1886"/>
                    </a:lnTo>
                    <a:lnTo>
                      <a:pt x="2663" y="1890"/>
                    </a:lnTo>
                    <a:lnTo>
                      <a:pt x="2645" y="1892"/>
                    </a:lnTo>
                    <a:lnTo>
                      <a:pt x="2604" y="1897"/>
                    </a:lnTo>
                    <a:lnTo>
                      <a:pt x="2560" y="1901"/>
                    </a:lnTo>
                    <a:lnTo>
                      <a:pt x="2517" y="1903"/>
                    </a:lnTo>
                    <a:lnTo>
                      <a:pt x="2475" y="1904"/>
                    </a:lnTo>
                    <a:lnTo>
                      <a:pt x="2430" y="1903"/>
                    </a:lnTo>
                    <a:lnTo>
                      <a:pt x="2375" y="1899"/>
                    </a:lnTo>
                    <a:lnTo>
                      <a:pt x="2312" y="1895"/>
                    </a:lnTo>
                    <a:lnTo>
                      <a:pt x="2246" y="1892"/>
                    </a:lnTo>
                    <a:lnTo>
                      <a:pt x="2180" y="1889"/>
                    </a:lnTo>
                    <a:lnTo>
                      <a:pt x="2117" y="1888"/>
                    </a:lnTo>
                    <a:lnTo>
                      <a:pt x="2089" y="1889"/>
                    </a:lnTo>
                    <a:lnTo>
                      <a:pt x="2062" y="1890"/>
                    </a:lnTo>
                    <a:lnTo>
                      <a:pt x="2039" y="1893"/>
                    </a:lnTo>
                    <a:lnTo>
                      <a:pt x="2018" y="1896"/>
                    </a:lnTo>
                    <a:lnTo>
                      <a:pt x="1977" y="1904"/>
                    </a:lnTo>
                    <a:lnTo>
                      <a:pt x="1933" y="1910"/>
                    </a:lnTo>
                    <a:lnTo>
                      <a:pt x="1888" y="1915"/>
                    </a:lnTo>
                    <a:lnTo>
                      <a:pt x="1845" y="1918"/>
                    </a:lnTo>
                    <a:lnTo>
                      <a:pt x="1804" y="1919"/>
                    </a:lnTo>
                    <a:lnTo>
                      <a:pt x="1767" y="1919"/>
                    </a:lnTo>
                    <a:lnTo>
                      <a:pt x="1751" y="1918"/>
                    </a:lnTo>
                    <a:lnTo>
                      <a:pt x="1736" y="1917"/>
                    </a:lnTo>
                    <a:lnTo>
                      <a:pt x="1723" y="1916"/>
                    </a:lnTo>
                    <a:lnTo>
                      <a:pt x="1711" y="1913"/>
                    </a:lnTo>
                    <a:lnTo>
                      <a:pt x="1692" y="1910"/>
                    </a:lnTo>
                    <a:lnTo>
                      <a:pt x="1673" y="1910"/>
                    </a:lnTo>
                    <a:lnTo>
                      <a:pt x="1657" y="1911"/>
                    </a:lnTo>
                    <a:lnTo>
                      <a:pt x="1643" y="1913"/>
                    </a:lnTo>
                    <a:lnTo>
                      <a:pt x="1631" y="1916"/>
                    </a:lnTo>
                    <a:lnTo>
                      <a:pt x="1622" y="1919"/>
                    </a:lnTo>
                    <a:lnTo>
                      <a:pt x="1612" y="1922"/>
                    </a:lnTo>
                    <a:lnTo>
                      <a:pt x="1605" y="1925"/>
                    </a:lnTo>
                    <a:lnTo>
                      <a:pt x="1592" y="1928"/>
                    </a:lnTo>
                    <a:lnTo>
                      <a:pt x="1570" y="1930"/>
                    </a:lnTo>
                    <a:lnTo>
                      <a:pt x="1538" y="1932"/>
                    </a:lnTo>
                    <a:lnTo>
                      <a:pt x="1501" y="1932"/>
                    </a:lnTo>
                    <a:lnTo>
                      <a:pt x="1458" y="1932"/>
                    </a:lnTo>
                    <a:lnTo>
                      <a:pt x="1413" y="1930"/>
                    </a:lnTo>
                    <a:lnTo>
                      <a:pt x="1389" y="1928"/>
                    </a:lnTo>
                    <a:lnTo>
                      <a:pt x="1367" y="1925"/>
                    </a:lnTo>
                    <a:lnTo>
                      <a:pt x="1343" y="1922"/>
                    </a:lnTo>
                    <a:lnTo>
                      <a:pt x="1321" y="1918"/>
                    </a:lnTo>
                    <a:lnTo>
                      <a:pt x="1279" y="1910"/>
                    </a:lnTo>
                    <a:lnTo>
                      <a:pt x="1242" y="1905"/>
                    </a:lnTo>
                    <a:lnTo>
                      <a:pt x="1209" y="1902"/>
                    </a:lnTo>
                    <a:lnTo>
                      <a:pt x="1178" y="1899"/>
                    </a:lnTo>
                    <a:lnTo>
                      <a:pt x="1164" y="1899"/>
                    </a:lnTo>
                    <a:lnTo>
                      <a:pt x="1150" y="1901"/>
                    </a:lnTo>
                    <a:lnTo>
                      <a:pt x="1137" y="1902"/>
                    </a:lnTo>
                    <a:lnTo>
                      <a:pt x="1124" y="1904"/>
                    </a:lnTo>
                    <a:lnTo>
                      <a:pt x="1112" y="1906"/>
                    </a:lnTo>
                    <a:lnTo>
                      <a:pt x="1100" y="1909"/>
                    </a:lnTo>
                    <a:lnTo>
                      <a:pt x="1088" y="1913"/>
                    </a:lnTo>
                    <a:lnTo>
                      <a:pt x="1076" y="1918"/>
                    </a:lnTo>
                    <a:lnTo>
                      <a:pt x="1063" y="1923"/>
                    </a:lnTo>
                    <a:lnTo>
                      <a:pt x="1048" y="1929"/>
                    </a:lnTo>
                    <a:lnTo>
                      <a:pt x="1030" y="1932"/>
                    </a:lnTo>
                    <a:lnTo>
                      <a:pt x="1009" y="1935"/>
                    </a:lnTo>
                    <a:lnTo>
                      <a:pt x="987" y="1938"/>
                    </a:lnTo>
                    <a:lnTo>
                      <a:pt x="964" y="1939"/>
                    </a:lnTo>
                    <a:lnTo>
                      <a:pt x="938" y="1940"/>
                    </a:lnTo>
                    <a:lnTo>
                      <a:pt x="912" y="1942"/>
                    </a:lnTo>
                    <a:lnTo>
                      <a:pt x="885" y="1940"/>
                    </a:lnTo>
                    <a:lnTo>
                      <a:pt x="858" y="1939"/>
                    </a:lnTo>
                    <a:lnTo>
                      <a:pt x="831" y="1936"/>
                    </a:lnTo>
                    <a:lnTo>
                      <a:pt x="804" y="1933"/>
                    </a:lnTo>
                    <a:lnTo>
                      <a:pt x="778" y="1929"/>
                    </a:lnTo>
                    <a:lnTo>
                      <a:pt x="752" y="1923"/>
                    </a:lnTo>
                    <a:lnTo>
                      <a:pt x="728" y="1916"/>
                    </a:lnTo>
                    <a:lnTo>
                      <a:pt x="706" y="1908"/>
                    </a:lnTo>
                    <a:lnTo>
                      <a:pt x="664" y="1893"/>
                    </a:lnTo>
                    <a:lnTo>
                      <a:pt x="632" y="1881"/>
                    </a:lnTo>
                    <a:lnTo>
                      <a:pt x="605" y="1871"/>
                    </a:lnTo>
                    <a:lnTo>
                      <a:pt x="586" y="1863"/>
                    </a:lnTo>
                    <a:lnTo>
                      <a:pt x="570" y="1857"/>
                    </a:lnTo>
                    <a:lnTo>
                      <a:pt x="561" y="1854"/>
                    </a:lnTo>
                    <a:lnTo>
                      <a:pt x="556" y="1852"/>
                    </a:lnTo>
                    <a:lnTo>
                      <a:pt x="554" y="1852"/>
                    </a:lnTo>
                    <a:lnTo>
                      <a:pt x="552" y="1853"/>
                    </a:lnTo>
                    <a:lnTo>
                      <a:pt x="545" y="1857"/>
                    </a:lnTo>
                    <a:lnTo>
                      <a:pt x="534" y="1862"/>
                    </a:lnTo>
                    <a:lnTo>
                      <a:pt x="521" y="1866"/>
                    </a:lnTo>
                    <a:lnTo>
                      <a:pt x="513" y="1867"/>
                    </a:lnTo>
                    <a:lnTo>
                      <a:pt x="507" y="1868"/>
                    </a:lnTo>
                    <a:lnTo>
                      <a:pt x="499" y="1867"/>
                    </a:lnTo>
                    <a:lnTo>
                      <a:pt x="493" y="1866"/>
                    </a:lnTo>
                    <a:lnTo>
                      <a:pt x="486" y="1864"/>
                    </a:lnTo>
                    <a:lnTo>
                      <a:pt x="481" y="1859"/>
                    </a:lnTo>
                    <a:lnTo>
                      <a:pt x="475" y="1854"/>
                    </a:lnTo>
                    <a:lnTo>
                      <a:pt x="470" y="1847"/>
                    </a:lnTo>
                    <a:lnTo>
                      <a:pt x="462" y="1828"/>
                    </a:lnTo>
                    <a:lnTo>
                      <a:pt x="455" y="1807"/>
                    </a:lnTo>
                    <a:lnTo>
                      <a:pt x="448" y="1783"/>
                    </a:lnTo>
                    <a:lnTo>
                      <a:pt x="442" y="1761"/>
                    </a:lnTo>
                    <a:lnTo>
                      <a:pt x="438" y="1741"/>
                    </a:lnTo>
                    <a:lnTo>
                      <a:pt x="433" y="1723"/>
                    </a:lnTo>
                    <a:lnTo>
                      <a:pt x="431" y="1713"/>
                    </a:lnTo>
                    <a:lnTo>
                      <a:pt x="431" y="1708"/>
                    </a:lnTo>
                    <a:lnTo>
                      <a:pt x="428" y="1707"/>
                    </a:lnTo>
                    <a:lnTo>
                      <a:pt x="419" y="1704"/>
                    </a:lnTo>
                    <a:lnTo>
                      <a:pt x="406" y="1701"/>
                    </a:lnTo>
                    <a:lnTo>
                      <a:pt x="390" y="1696"/>
                    </a:lnTo>
                    <a:lnTo>
                      <a:pt x="371" y="1693"/>
                    </a:lnTo>
                    <a:lnTo>
                      <a:pt x="349" y="1691"/>
                    </a:lnTo>
                    <a:lnTo>
                      <a:pt x="338" y="1691"/>
                    </a:lnTo>
                    <a:lnTo>
                      <a:pt x="327" y="1692"/>
                    </a:lnTo>
                    <a:lnTo>
                      <a:pt x="316" y="1693"/>
                    </a:lnTo>
                    <a:lnTo>
                      <a:pt x="305" y="1695"/>
                    </a:lnTo>
                    <a:lnTo>
                      <a:pt x="292" y="1699"/>
                    </a:lnTo>
                    <a:lnTo>
                      <a:pt x="274" y="1702"/>
                    </a:lnTo>
                    <a:lnTo>
                      <a:pt x="255" y="1703"/>
                    </a:lnTo>
                    <a:lnTo>
                      <a:pt x="233" y="1705"/>
                    </a:lnTo>
                    <a:lnTo>
                      <a:pt x="211" y="1705"/>
                    </a:lnTo>
                    <a:lnTo>
                      <a:pt x="187" y="1705"/>
                    </a:lnTo>
                    <a:lnTo>
                      <a:pt x="162" y="1704"/>
                    </a:lnTo>
                    <a:lnTo>
                      <a:pt x="137" y="1702"/>
                    </a:lnTo>
                    <a:lnTo>
                      <a:pt x="112" y="1697"/>
                    </a:lnTo>
                    <a:lnTo>
                      <a:pt x="90" y="1693"/>
                    </a:lnTo>
                    <a:lnTo>
                      <a:pt x="68" y="1688"/>
                    </a:lnTo>
                    <a:lnTo>
                      <a:pt x="49" y="1680"/>
                    </a:lnTo>
                    <a:lnTo>
                      <a:pt x="40" y="1676"/>
                    </a:lnTo>
                    <a:lnTo>
                      <a:pt x="31" y="1672"/>
                    </a:lnTo>
                    <a:lnTo>
                      <a:pt x="25" y="1667"/>
                    </a:lnTo>
                    <a:lnTo>
                      <a:pt x="18" y="1662"/>
                    </a:lnTo>
                    <a:lnTo>
                      <a:pt x="13" y="1656"/>
                    </a:lnTo>
                    <a:lnTo>
                      <a:pt x="9" y="1650"/>
                    </a:lnTo>
                    <a:lnTo>
                      <a:pt x="5" y="1643"/>
                    </a:lnTo>
                    <a:lnTo>
                      <a:pt x="3" y="1636"/>
                    </a:lnTo>
                    <a:lnTo>
                      <a:pt x="0" y="1620"/>
                    </a:lnTo>
                    <a:lnTo>
                      <a:pt x="0" y="1601"/>
                    </a:lnTo>
                    <a:lnTo>
                      <a:pt x="0" y="1581"/>
                    </a:lnTo>
                    <a:lnTo>
                      <a:pt x="2" y="1558"/>
                    </a:lnTo>
                    <a:lnTo>
                      <a:pt x="5" y="1534"/>
                    </a:lnTo>
                    <a:lnTo>
                      <a:pt x="9" y="1511"/>
                    </a:lnTo>
                    <a:lnTo>
                      <a:pt x="13" y="1487"/>
                    </a:lnTo>
                    <a:lnTo>
                      <a:pt x="17" y="1463"/>
                    </a:lnTo>
                    <a:lnTo>
                      <a:pt x="27" y="1420"/>
                    </a:lnTo>
                    <a:lnTo>
                      <a:pt x="36" y="1383"/>
                    </a:lnTo>
                    <a:lnTo>
                      <a:pt x="42" y="1358"/>
                    </a:lnTo>
                    <a:lnTo>
                      <a:pt x="45" y="1350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5898960" y="3221280"/>
                <a:ext cx="1873440" cy="512640"/>
              </a:xfrm>
              <a:custGeom>
                <a:avLst/>
                <a:gdLst/>
                <a:ahLst/>
                <a:rect l="l" t="t" r="r" b="b"/>
                <a:pathLst>
                  <a:path w="5902" h="1613">
                    <a:moveTo>
                      <a:pt x="5434" y="912"/>
                    </a:moveTo>
                    <a:lnTo>
                      <a:pt x="5438" y="919"/>
                    </a:lnTo>
                    <a:lnTo>
                      <a:pt x="5441" y="926"/>
                    </a:lnTo>
                    <a:lnTo>
                      <a:pt x="5445" y="933"/>
                    </a:lnTo>
                    <a:lnTo>
                      <a:pt x="5447" y="941"/>
                    </a:lnTo>
                    <a:lnTo>
                      <a:pt x="5450" y="957"/>
                    </a:lnTo>
                    <a:lnTo>
                      <a:pt x="5452" y="973"/>
                    </a:lnTo>
                    <a:lnTo>
                      <a:pt x="5452" y="989"/>
                    </a:lnTo>
                    <a:lnTo>
                      <a:pt x="5452" y="1008"/>
                    </a:lnTo>
                    <a:lnTo>
                      <a:pt x="5451" y="1025"/>
                    </a:lnTo>
                    <a:lnTo>
                      <a:pt x="5450" y="1043"/>
                    </a:lnTo>
                    <a:lnTo>
                      <a:pt x="5448" y="1062"/>
                    </a:lnTo>
                    <a:lnTo>
                      <a:pt x="5447" y="1080"/>
                    </a:lnTo>
                    <a:lnTo>
                      <a:pt x="5447" y="1098"/>
                    </a:lnTo>
                    <a:lnTo>
                      <a:pt x="5448" y="1116"/>
                    </a:lnTo>
                    <a:lnTo>
                      <a:pt x="5450" y="1134"/>
                    </a:lnTo>
                    <a:lnTo>
                      <a:pt x="5454" y="1151"/>
                    </a:lnTo>
                    <a:lnTo>
                      <a:pt x="5457" y="1159"/>
                    </a:lnTo>
                    <a:lnTo>
                      <a:pt x="5460" y="1168"/>
                    </a:lnTo>
                    <a:lnTo>
                      <a:pt x="5464" y="1176"/>
                    </a:lnTo>
                    <a:lnTo>
                      <a:pt x="5468" y="1184"/>
                    </a:lnTo>
                    <a:lnTo>
                      <a:pt x="5474" y="1191"/>
                    </a:lnTo>
                    <a:lnTo>
                      <a:pt x="5479" y="1197"/>
                    </a:lnTo>
                    <a:lnTo>
                      <a:pt x="5486" y="1201"/>
                    </a:lnTo>
                    <a:lnTo>
                      <a:pt x="5492" y="1204"/>
                    </a:lnTo>
                    <a:lnTo>
                      <a:pt x="5499" y="1206"/>
                    </a:lnTo>
                    <a:lnTo>
                      <a:pt x="5506" y="1208"/>
                    </a:lnTo>
                    <a:lnTo>
                      <a:pt x="5514" y="1209"/>
                    </a:lnTo>
                    <a:lnTo>
                      <a:pt x="5522" y="1208"/>
                    </a:lnTo>
                    <a:lnTo>
                      <a:pt x="5531" y="1206"/>
                    </a:lnTo>
                    <a:lnTo>
                      <a:pt x="5540" y="1204"/>
                    </a:lnTo>
                    <a:lnTo>
                      <a:pt x="5548" y="1201"/>
                    </a:lnTo>
                    <a:lnTo>
                      <a:pt x="5558" y="1198"/>
                    </a:lnTo>
                    <a:lnTo>
                      <a:pt x="5576" y="1190"/>
                    </a:lnTo>
                    <a:lnTo>
                      <a:pt x="5595" y="1182"/>
                    </a:lnTo>
                    <a:lnTo>
                      <a:pt x="5600" y="1179"/>
                    </a:lnTo>
                    <a:lnTo>
                      <a:pt x="5607" y="1177"/>
                    </a:lnTo>
                    <a:lnTo>
                      <a:pt x="5612" y="1176"/>
                    </a:lnTo>
                    <a:lnTo>
                      <a:pt x="5618" y="1175"/>
                    </a:lnTo>
                    <a:lnTo>
                      <a:pt x="5624" y="1176"/>
                    </a:lnTo>
                    <a:lnTo>
                      <a:pt x="5629" y="1176"/>
                    </a:lnTo>
                    <a:lnTo>
                      <a:pt x="5635" y="1178"/>
                    </a:lnTo>
                    <a:lnTo>
                      <a:pt x="5640" y="1179"/>
                    </a:lnTo>
                    <a:lnTo>
                      <a:pt x="5645" y="1183"/>
                    </a:lnTo>
                    <a:lnTo>
                      <a:pt x="5650" y="1185"/>
                    </a:lnTo>
                    <a:lnTo>
                      <a:pt x="5653" y="1189"/>
                    </a:lnTo>
                    <a:lnTo>
                      <a:pt x="5657" y="1192"/>
                    </a:lnTo>
                    <a:lnTo>
                      <a:pt x="5661" y="1198"/>
                    </a:lnTo>
                    <a:lnTo>
                      <a:pt x="5663" y="1202"/>
                    </a:lnTo>
                    <a:lnTo>
                      <a:pt x="5665" y="1208"/>
                    </a:lnTo>
                    <a:lnTo>
                      <a:pt x="5666" y="1214"/>
                    </a:lnTo>
                    <a:lnTo>
                      <a:pt x="5672" y="1236"/>
                    </a:lnTo>
                    <a:lnTo>
                      <a:pt x="5678" y="1257"/>
                    </a:lnTo>
                    <a:lnTo>
                      <a:pt x="5681" y="1267"/>
                    </a:lnTo>
                    <a:lnTo>
                      <a:pt x="5686" y="1278"/>
                    </a:lnTo>
                    <a:lnTo>
                      <a:pt x="5691" y="1287"/>
                    </a:lnTo>
                    <a:lnTo>
                      <a:pt x="5696" y="1296"/>
                    </a:lnTo>
                    <a:lnTo>
                      <a:pt x="5703" y="1304"/>
                    </a:lnTo>
                    <a:lnTo>
                      <a:pt x="5709" y="1310"/>
                    </a:lnTo>
                    <a:lnTo>
                      <a:pt x="5718" y="1317"/>
                    </a:lnTo>
                    <a:lnTo>
                      <a:pt x="5727" y="1321"/>
                    </a:lnTo>
                    <a:lnTo>
                      <a:pt x="5736" y="1323"/>
                    </a:lnTo>
                    <a:lnTo>
                      <a:pt x="5747" y="1325"/>
                    </a:lnTo>
                    <a:lnTo>
                      <a:pt x="5759" y="1324"/>
                    </a:lnTo>
                    <a:lnTo>
                      <a:pt x="5773" y="1322"/>
                    </a:lnTo>
                    <a:lnTo>
                      <a:pt x="5780" y="1321"/>
                    </a:lnTo>
                    <a:lnTo>
                      <a:pt x="5787" y="1322"/>
                    </a:lnTo>
                    <a:lnTo>
                      <a:pt x="5795" y="1323"/>
                    </a:lnTo>
                    <a:lnTo>
                      <a:pt x="5802" y="1325"/>
                    </a:lnTo>
                    <a:lnTo>
                      <a:pt x="5818" y="1331"/>
                    </a:lnTo>
                    <a:lnTo>
                      <a:pt x="5835" y="1339"/>
                    </a:lnTo>
                    <a:lnTo>
                      <a:pt x="5850" y="1349"/>
                    </a:lnTo>
                    <a:lnTo>
                      <a:pt x="5866" y="1360"/>
                    </a:lnTo>
                    <a:lnTo>
                      <a:pt x="5880" y="1370"/>
                    </a:lnTo>
                    <a:lnTo>
                      <a:pt x="5894" y="1379"/>
                    </a:lnTo>
                    <a:lnTo>
                      <a:pt x="5894" y="1377"/>
                    </a:lnTo>
                    <a:lnTo>
                      <a:pt x="5894" y="1376"/>
                    </a:lnTo>
                    <a:lnTo>
                      <a:pt x="5894" y="1374"/>
                    </a:lnTo>
                    <a:lnTo>
                      <a:pt x="5893" y="1373"/>
                    </a:lnTo>
                    <a:lnTo>
                      <a:pt x="5893" y="1371"/>
                    </a:lnTo>
                    <a:lnTo>
                      <a:pt x="5892" y="1368"/>
                    </a:lnTo>
                    <a:lnTo>
                      <a:pt x="5891" y="1365"/>
                    </a:lnTo>
                    <a:lnTo>
                      <a:pt x="5889" y="1362"/>
                    </a:lnTo>
                    <a:lnTo>
                      <a:pt x="5893" y="1368"/>
                    </a:lnTo>
                    <a:lnTo>
                      <a:pt x="5897" y="1375"/>
                    </a:lnTo>
                    <a:lnTo>
                      <a:pt x="5899" y="1381"/>
                    </a:lnTo>
                    <a:lnTo>
                      <a:pt x="5901" y="1388"/>
                    </a:lnTo>
                    <a:lnTo>
                      <a:pt x="5902" y="1394"/>
                    </a:lnTo>
                    <a:lnTo>
                      <a:pt x="5902" y="1400"/>
                    </a:lnTo>
                    <a:lnTo>
                      <a:pt x="5902" y="1405"/>
                    </a:lnTo>
                    <a:lnTo>
                      <a:pt x="5899" y="1411"/>
                    </a:lnTo>
                    <a:lnTo>
                      <a:pt x="5898" y="1416"/>
                    </a:lnTo>
                    <a:lnTo>
                      <a:pt x="5895" y="1420"/>
                    </a:lnTo>
                    <a:lnTo>
                      <a:pt x="5892" y="1426"/>
                    </a:lnTo>
                    <a:lnTo>
                      <a:pt x="5889" y="1430"/>
                    </a:lnTo>
                    <a:lnTo>
                      <a:pt x="5880" y="1438"/>
                    </a:lnTo>
                    <a:lnTo>
                      <a:pt x="5870" y="1445"/>
                    </a:lnTo>
                    <a:lnTo>
                      <a:pt x="5860" y="1452"/>
                    </a:lnTo>
                    <a:lnTo>
                      <a:pt x="5849" y="1457"/>
                    </a:lnTo>
                    <a:lnTo>
                      <a:pt x="5837" y="1462"/>
                    </a:lnTo>
                    <a:lnTo>
                      <a:pt x="5825" y="1466"/>
                    </a:lnTo>
                    <a:lnTo>
                      <a:pt x="5814" y="1469"/>
                    </a:lnTo>
                    <a:lnTo>
                      <a:pt x="5804" y="1471"/>
                    </a:lnTo>
                    <a:lnTo>
                      <a:pt x="5795" y="1472"/>
                    </a:lnTo>
                    <a:lnTo>
                      <a:pt x="5788" y="1473"/>
                    </a:lnTo>
                    <a:lnTo>
                      <a:pt x="5786" y="1474"/>
                    </a:lnTo>
                    <a:lnTo>
                      <a:pt x="5782" y="1476"/>
                    </a:lnTo>
                    <a:lnTo>
                      <a:pt x="5776" y="1481"/>
                    </a:lnTo>
                    <a:lnTo>
                      <a:pt x="5768" y="1485"/>
                    </a:lnTo>
                    <a:lnTo>
                      <a:pt x="5759" y="1489"/>
                    </a:lnTo>
                    <a:lnTo>
                      <a:pt x="5749" y="1494"/>
                    </a:lnTo>
                    <a:lnTo>
                      <a:pt x="5739" y="1498"/>
                    </a:lnTo>
                    <a:lnTo>
                      <a:pt x="5729" y="1500"/>
                    </a:lnTo>
                    <a:lnTo>
                      <a:pt x="5716" y="1502"/>
                    </a:lnTo>
                    <a:lnTo>
                      <a:pt x="5700" y="1502"/>
                    </a:lnTo>
                    <a:lnTo>
                      <a:pt x="5681" y="1501"/>
                    </a:lnTo>
                    <a:lnTo>
                      <a:pt x="5662" y="1500"/>
                    </a:lnTo>
                    <a:lnTo>
                      <a:pt x="5641" y="1498"/>
                    </a:lnTo>
                    <a:lnTo>
                      <a:pt x="5622" y="1495"/>
                    </a:lnTo>
                    <a:lnTo>
                      <a:pt x="5603" y="1493"/>
                    </a:lnTo>
                    <a:lnTo>
                      <a:pt x="5587" y="1491"/>
                    </a:lnTo>
                    <a:lnTo>
                      <a:pt x="5573" y="1489"/>
                    </a:lnTo>
                    <a:lnTo>
                      <a:pt x="5557" y="1489"/>
                    </a:lnTo>
                    <a:lnTo>
                      <a:pt x="5542" y="1491"/>
                    </a:lnTo>
                    <a:lnTo>
                      <a:pt x="5526" y="1493"/>
                    </a:lnTo>
                    <a:lnTo>
                      <a:pt x="5511" y="1496"/>
                    </a:lnTo>
                    <a:lnTo>
                      <a:pt x="5495" y="1499"/>
                    </a:lnTo>
                    <a:lnTo>
                      <a:pt x="5482" y="1503"/>
                    </a:lnTo>
                    <a:lnTo>
                      <a:pt x="5472" y="1508"/>
                    </a:lnTo>
                    <a:lnTo>
                      <a:pt x="5458" y="1511"/>
                    </a:lnTo>
                    <a:lnTo>
                      <a:pt x="5438" y="1513"/>
                    </a:lnTo>
                    <a:lnTo>
                      <a:pt x="5413" y="1514"/>
                    </a:lnTo>
                    <a:lnTo>
                      <a:pt x="5386" y="1515"/>
                    </a:lnTo>
                    <a:lnTo>
                      <a:pt x="5357" y="1514"/>
                    </a:lnTo>
                    <a:lnTo>
                      <a:pt x="5329" y="1513"/>
                    </a:lnTo>
                    <a:lnTo>
                      <a:pt x="5301" y="1511"/>
                    </a:lnTo>
                    <a:lnTo>
                      <a:pt x="5276" y="1508"/>
                    </a:lnTo>
                    <a:lnTo>
                      <a:pt x="5253" y="1502"/>
                    </a:lnTo>
                    <a:lnTo>
                      <a:pt x="5232" y="1497"/>
                    </a:lnTo>
                    <a:lnTo>
                      <a:pt x="5210" y="1492"/>
                    </a:lnTo>
                    <a:lnTo>
                      <a:pt x="5188" y="1487"/>
                    </a:lnTo>
                    <a:lnTo>
                      <a:pt x="5177" y="1486"/>
                    </a:lnTo>
                    <a:lnTo>
                      <a:pt x="5166" y="1485"/>
                    </a:lnTo>
                    <a:lnTo>
                      <a:pt x="5154" y="1485"/>
                    </a:lnTo>
                    <a:lnTo>
                      <a:pt x="5143" y="1486"/>
                    </a:lnTo>
                    <a:lnTo>
                      <a:pt x="5132" y="1488"/>
                    </a:lnTo>
                    <a:lnTo>
                      <a:pt x="5121" y="1491"/>
                    </a:lnTo>
                    <a:lnTo>
                      <a:pt x="5110" y="1495"/>
                    </a:lnTo>
                    <a:lnTo>
                      <a:pt x="5098" y="1500"/>
                    </a:lnTo>
                    <a:lnTo>
                      <a:pt x="5091" y="1503"/>
                    </a:lnTo>
                    <a:lnTo>
                      <a:pt x="5083" y="1506"/>
                    </a:lnTo>
                    <a:lnTo>
                      <a:pt x="5073" y="1509"/>
                    </a:lnTo>
                    <a:lnTo>
                      <a:pt x="5061" y="1511"/>
                    </a:lnTo>
                    <a:lnTo>
                      <a:pt x="5035" y="1514"/>
                    </a:lnTo>
                    <a:lnTo>
                      <a:pt x="5003" y="1516"/>
                    </a:lnTo>
                    <a:lnTo>
                      <a:pt x="4968" y="1519"/>
                    </a:lnTo>
                    <a:lnTo>
                      <a:pt x="4930" y="1520"/>
                    </a:lnTo>
                    <a:lnTo>
                      <a:pt x="4893" y="1520"/>
                    </a:lnTo>
                    <a:lnTo>
                      <a:pt x="4853" y="1520"/>
                    </a:lnTo>
                    <a:lnTo>
                      <a:pt x="4778" y="1518"/>
                    </a:lnTo>
                    <a:lnTo>
                      <a:pt x="4714" y="1515"/>
                    </a:lnTo>
                    <a:lnTo>
                      <a:pt x="4669" y="1513"/>
                    </a:lnTo>
                    <a:lnTo>
                      <a:pt x="4653" y="1512"/>
                    </a:lnTo>
                    <a:lnTo>
                      <a:pt x="4647" y="1514"/>
                    </a:lnTo>
                    <a:lnTo>
                      <a:pt x="4634" y="1518"/>
                    </a:lnTo>
                    <a:lnTo>
                      <a:pt x="4615" y="1522"/>
                    </a:lnTo>
                    <a:lnTo>
                      <a:pt x="4592" y="1525"/>
                    </a:lnTo>
                    <a:lnTo>
                      <a:pt x="4580" y="1527"/>
                    </a:lnTo>
                    <a:lnTo>
                      <a:pt x="4568" y="1528"/>
                    </a:lnTo>
                    <a:lnTo>
                      <a:pt x="4557" y="1528"/>
                    </a:lnTo>
                    <a:lnTo>
                      <a:pt x="4546" y="1528"/>
                    </a:lnTo>
                    <a:lnTo>
                      <a:pt x="4535" y="1527"/>
                    </a:lnTo>
                    <a:lnTo>
                      <a:pt x="4526" y="1525"/>
                    </a:lnTo>
                    <a:lnTo>
                      <a:pt x="4520" y="1522"/>
                    </a:lnTo>
                    <a:lnTo>
                      <a:pt x="4515" y="1518"/>
                    </a:lnTo>
                    <a:lnTo>
                      <a:pt x="4499" y="1521"/>
                    </a:lnTo>
                    <a:lnTo>
                      <a:pt x="4458" y="1527"/>
                    </a:lnTo>
                    <a:lnTo>
                      <a:pt x="4429" y="1532"/>
                    </a:lnTo>
                    <a:lnTo>
                      <a:pt x="4397" y="1536"/>
                    </a:lnTo>
                    <a:lnTo>
                      <a:pt x="4360" y="1539"/>
                    </a:lnTo>
                    <a:lnTo>
                      <a:pt x="4320" y="1543"/>
                    </a:lnTo>
                    <a:lnTo>
                      <a:pt x="4278" y="1547"/>
                    </a:lnTo>
                    <a:lnTo>
                      <a:pt x="4234" y="1548"/>
                    </a:lnTo>
                    <a:lnTo>
                      <a:pt x="4189" y="1549"/>
                    </a:lnTo>
                    <a:lnTo>
                      <a:pt x="4144" y="1548"/>
                    </a:lnTo>
                    <a:lnTo>
                      <a:pt x="4121" y="1547"/>
                    </a:lnTo>
                    <a:lnTo>
                      <a:pt x="4100" y="1545"/>
                    </a:lnTo>
                    <a:lnTo>
                      <a:pt x="4077" y="1542"/>
                    </a:lnTo>
                    <a:lnTo>
                      <a:pt x="4057" y="1540"/>
                    </a:lnTo>
                    <a:lnTo>
                      <a:pt x="4035" y="1537"/>
                    </a:lnTo>
                    <a:lnTo>
                      <a:pt x="4014" y="1533"/>
                    </a:lnTo>
                    <a:lnTo>
                      <a:pt x="3995" y="1528"/>
                    </a:lnTo>
                    <a:lnTo>
                      <a:pt x="3976" y="1523"/>
                    </a:lnTo>
                    <a:lnTo>
                      <a:pt x="3959" y="1523"/>
                    </a:lnTo>
                    <a:lnTo>
                      <a:pt x="3917" y="1523"/>
                    </a:lnTo>
                    <a:lnTo>
                      <a:pt x="3856" y="1523"/>
                    </a:lnTo>
                    <a:lnTo>
                      <a:pt x="3780" y="1523"/>
                    </a:lnTo>
                    <a:lnTo>
                      <a:pt x="3698" y="1524"/>
                    </a:lnTo>
                    <a:lnTo>
                      <a:pt x="3617" y="1526"/>
                    </a:lnTo>
                    <a:lnTo>
                      <a:pt x="3542" y="1527"/>
                    </a:lnTo>
                    <a:lnTo>
                      <a:pt x="3481" y="1529"/>
                    </a:lnTo>
                    <a:lnTo>
                      <a:pt x="3455" y="1532"/>
                    </a:lnTo>
                    <a:lnTo>
                      <a:pt x="3429" y="1534"/>
                    </a:lnTo>
                    <a:lnTo>
                      <a:pt x="3404" y="1537"/>
                    </a:lnTo>
                    <a:lnTo>
                      <a:pt x="3378" y="1540"/>
                    </a:lnTo>
                    <a:lnTo>
                      <a:pt x="3327" y="1548"/>
                    </a:lnTo>
                    <a:lnTo>
                      <a:pt x="3276" y="1555"/>
                    </a:lnTo>
                    <a:lnTo>
                      <a:pt x="3248" y="1559"/>
                    </a:lnTo>
                    <a:lnTo>
                      <a:pt x="3220" y="1561"/>
                    </a:lnTo>
                    <a:lnTo>
                      <a:pt x="3191" y="1562"/>
                    </a:lnTo>
                    <a:lnTo>
                      <a:pt x="3162" y="1563"/>
                    </a:lnTo>
                    <a:lnTo>
                      <a:pt x="3131" y="1563"/>
                    </a:lnTo>
                    <a:lnTo>
                      <a:pt x="3098" y="1561"/>
                    </a:lnTo>
                    <a:lnTo>
                      <a:pt x="3064" y="1557"/>
                    </a:lnTo>
                    <a:lnTo>
                      <a:pt x="3028" y="1552"/>
                    </a:lnTo>
                    <a:lnTo>
                      <a:pt x="2994" y="1547"/>
                    </a:lnTo>
                    <a:lnTo>
                      <a:pt x="2962" y="1541"/>
                    </a:lnTo>
                    <a:lnTo>
                      <a:pt x="2933" y="1538"/>
                    </a:lnTo>
                    <a:lnTo>
                      <a:pt x="2907" y="1535"/>
                    </a:lnTo>
                    <a:lnTo>
                      <a:pt x="2883" y="1534"/>
                    </a:lnTo>
                    <a:lnTo>
                      <a:pt x="2862" y="1533"/>
                    </a:lnTo>
                    <a:lnTo>
                      <a:pt x="2842" y="1533"/>
                    </a:lnTo>
                    <a:lnTo>
                      <a:pt x="2825" y="1533"/>
                    </a:lnTo>
                    <a:lnTo>
                      <a:pt x="2810" y="1534"/>
                    </a:lnTo>
                    <a:lnTo>
                      <a:pt x="2797" y="1536"/>
                    </a:lnTo>
                    <a:lnTo>
                      <a:pt x="2785" y="1538"/>
                    </a:lnTo>
                    <a:lnTo>
                      <a:pt x="2775" y="1540"/>
                    </a:lnTo>
                    <a:lnTo>
                      <a:pt x="2767" y="1542"/>
                    </a:lnTo>
                    <a:lnTo>
                      <a:pt x="2759" y="1546"/>
                    </a:lnTo>
                    <a:lnTo>
                      <a:pt x="2753" y="1549"/>
                    </a:lnTo>
                    <a:lnTo>
                      <a:pt x="2746" y="1552"/>
                    </a:lnTo>
                    <a:lnTo>
                      <a:pt x="2740" y="1554"/>
                    </a:lnTo>
                    <a:lnTo>
                      <a:pt x="2731" y="1555"/>
                    </a:lnTo>
                    <a:lnTo>
                      <a:pt x="2721" y="1555"/>
                    </a:lnTo>
                    <a:lnTo>
                      <a:pt x="2708" y="1554"/>
                    </a:lnTo>
                    <a:lnTo>
                      <a:pt x="2681" y="1549"/>
                    </a:lnTo>
                    <a:lnTo>
                      <a:pt x="2652" y="1542"/>
                    </a:lnTo>
                    <a:lnTo>
                      <a:pt x="2624" y="1536"/>
                    </a:lnTo>
                    <a:lnTo>
                      <a:pt x="2601" y="1529"/>
                    </a:lnTo>
                    <a:lnTo>
                      <a:pt x="2584" y="1524"/>
                    </a:lnTo>
                    <a:lnTo>
                      <a:pt x="2579" y="1523"/>
                    </a:lnTo>
                    <a:lnTo>
                      <a:pt x="2572" y="1526"/>
                    </a:lnTo>
                    <a:lnTo>
                      <a:pt x="2555" y="1534"/>
                    </a:lnTo>
                    <a:lnTo>
                      <a:pt x="2531" y="1545"/>
                    </a:lnTo>
                    <a:lnTo>
                      <a:pt x="2502" y="1555"/>
                    </a:lnTo>
                    <a:lnTo>
                      <a:pt x="2486" y="1560"/>
                    </a:lnTo>
                    <a:lnTo>
                      <a:pt x="2471" y="1563"/>
                    </a:lnTo>
                    <a:lnTo>
                      <a:pt x="2456" y="1565"/>
                    </a:lnTo>
                    <a:lnTo>
                      <a:pt x="2440" y="1565"/>
                    </a:lnTo>
                    <a:lnTo>
                      <a:pt x="2434" y="1565"/>
                    </a:lnTo>
                    <a:lnTo>
                      <a:pt x="2427" y="1564"/>
                    </a:lnTo>
                    <a:lnTo>
                      <a:pt x="2421" y="1562"/>
                    </a:lnTo>
                    <a:lnTo>
                      <a:pt x="2415" y="1560"/>
                    </a:lnTo>
                    <a:lnTo>
                      <a:pt x="2409" y="1557"/>
                    </a:lnTo>
                    <a:lnTo>
                      <a:pt x="2404" y="1554"/>
                    </a:lnTo>
                    <a:lnTo>
                      <a:pt x="2399" y="1550"/>
                    </a:lnTo>
                    <a:lnTo>
                      <a:pt x="2395" y="1545"/>
                    </a:lnTo>
                    <a:lnTo>
                      <a:pt x="2392" y="1543"/>
                    </a:lnTo>
                    <a:lnTo>
                      <a:pt x="2382" y="1540"/>
                    </a:lnTo>
                    <a:lnTo>
                      <a:pt x="2369" y="1536"/>
                    </a:lnTo>
                    <a:lnTo>
                      <a:pt x="2353" y="1532"/>
                    </a:lnTo>
                    <a:lnTo>
                      <a:pt x="2337" y="1528"/>
                    </a:lnTo>
                    <a:lnTo>
                      <a:pt x="2323" y="1527"/>
                    </a:lnTo>
                    <a:lnTo>
                      <a:pt x="2316" y="1527"/>
                    </a:lnTo>
                    <a:lnTo>
                      <a:pt x="2312" y="1529"/>
                    </a:lnTo>
                    <a:lnTo>
                      <a:pt x="2309" y="1532"/>
                    </a:lnTo>
                    <a:lnTo>
                      <a:pt x="2307" y="1535"/>
                    </a:lnTo>
                    <a:lnTo>
                      <a:pt x="2305" y="1537"/>
                    </a:lnTo>
                    <a:lnTo>
                      <a:pt x="2304" y="1539"/>
                    </a:lnTo>
                    <a:lnTo>
                      <a:pt x="2301" y="1541"/>
                    </a:lnTo>
                    <a:lnTo>
                      <a:pt x="2298" y="1543"/>
                    </a:lnTo>
                    <a:lnTo>
                      <a:pt x="2289" y="1547"/>
                    </a:lnTo>
                    <a:lnTo>
                      <a:pt x="2278" y="1550"/>
                    </a:lnTo>
                    <a:lnTo>
                      <a:pt x="2265" y="1554"/>
                    </a:lnTo>
                    <a:lnTo>
                      <a:pt x="2249" y="1557"/>
                    </a:lnTo>
                    <a:lnTo>
                      <a:pt x="2232" y="1561"/>
                    </a:lnTo>
                    <a:lnTo>
                      <a:pt x="2214" y="1563"/>
                    </a:lnTo>
                    <a:lnTo>
                      <a:pt x="2173" y="1568"/>
                    </a:lnTo>
                    <a:lnTo>
                      <a:pt x="2129" y="1572"/>
                    </a:lnTo>
                    <a:lnTo>
                      <a:pt x="2086" y="1574"/>
                    </a:lnTo>
                    <a:lnTo>
                      <a:pt x="2044" y="1575"/>
                    </a:lnTo>
                    <a:lnTo>
                      <a:pt x="1999" y="1574"/>
                    </a:lnTo>
                    <a:lnTo>
                      <a:pt x="1944" y="1570"/>
                    </a:lnTo>
                    <a:lnTo>
                      <a:pt x="1881" y="1566"/>
                    </a:lnTo>
                    <a:lnTo>
                      <a:pt x="1815" y="1563"/>
                    </a:lnTo>
                    <a:lnTo>
                      <a:pt x="1749" y="1560"/>
                    </a:lnTo>
                    <a:lnTo>
                      <a:pt x="1686" y="1559"/>
                    </a:lnTo>
                    <a:lnTo>
                      <a:pt x="1658" y="1560"/>
                    </a:lnTo>
                    <a:lnTo>
                      <a:pt x="1631" y="1561"/>
                    </a:lnTo>
                    <a:lnTo>
                      <a:pt x="1608" y="1564"/>
                    </a:lnTo>
                    <a:lnTo>
                      <a:pt x="1587" y="1567"/>
                    </a:lnTo>
                    <a:lnTo>
                      <a:pt x="1546" y="1575"/>
                    </a:lnTo>
                    <a:lnTo>
                      <a:pt x="1502" y="1581"/>
                    </a:lnTo>
                    <a:lnTo>
                      <a:pt x="1457" y="1586"/>
                    </a:lnTo>
                    <a:lnTo>
                      <a:pt x="1414" y="1589"/>
                    </a:lnTo>
                    <a:lnTo>
                      <a:pt x="1373" y="1590"/>
                    </a:lnTo>
                    <a:lnTo>
                      <a:pt x="1336" y="1590"/>
                    </a:lnTo>
                    <a:lnTo>
                      <a:pt x="1320" y="1589"/>
                    </a:lnTo>
                    <a:lnTo>
                      <a:pt x="1305" y="1588"/>
                    </a:lnTo>
                    <a:lnTo>
                      <a:pt x="1292" y="1587"/>
                    </a:lnTo>
                    <a:lnTo>
                      <a:pt x="1280" y="1584"/>
                    </a:lnTo>
                    <a:lnTo>
                      <a:pt x="1261" y="1581"/>
                    </a:lnTo>
                    <a:lnTo>
                      <a:pt x="1242" y="1581"/>
                    </a:lnTo>
                    <a:lnTo>
                      <a:pt x="1226" y="1582"/>
                    </a:lnTo>
                    <a:lnTo>
                      <a:pt x="1212" y="1584"/>
                    </a:lnTo>
                    <a:lnTo>
                      <a:pt x="1200" y="1587"/>
                    </a:lnTo>
                    <a:lnTo>
                      <a:pt x="1191" y="1590"/>
                    </a:lnTo>
                    <a:lnTo>
                      <a:pt x="1181" y="1593"/>
                    </a:lnTo>
                    <a:lnTo>
                      <a:pt x="1174" y="1596"/>
                    </a:lnTo>
                    <a:lnTo>
                      <a:pt x="1161" y="1599"/>
                    </a:lnTo>
                    <a:lnTo>
                      <a:pt x="1139" y="1601"/>
                    </a:lnTo>
                    <a:lnTo>
                      <a:pt x="1107" y="1603"/>
                    </a:lnTo>
                    <a:lnTo>
                      <a:pt x="1070" y="1603"/>
                    </a:lnTo>
                    <a:lnTo>
                      <a:pt x="1027" y="1603"/>
                    </a:lnTo>
                    <a:lnTo>
                      <a:pt x="982" y="1601"/>
                    </a:lnTo>
                    <a:lnTo>
                      <a:pt x="958" y="1599"/>
                    </a:lnTo>
                    <a:lnTo>
                      <a:pt x="936" y="1596"/>
                    </a:lnTo>
                    <a:lnTo>
                      <a:pt x="912" y="1593"/>
                    </a:lnTo>
                    <a:lnTo>
                      <a:pt x="890" y="1589"/>
                    </a:lnTo>
                    <a:lnTo>
                      <a:pt x="848" y="1581"/>
                    </a:lnTo>
                    <a:lnTo>
                      <a:pt x="811" y="1576"/>
                    </a:lnTo>
                    <a:lnTo>
                      <a:pt x="778" y="1573"/>
                    </a:lnTo>
                    <a:lnTo>
                      <a:pt x="747" y="1570"/>
                    </a:lnTo>
                    <a:lnTo>
                      <a:pt x="733" y="1570"/>
                    </a:lnTo>
                    <a:lnTo>
                      <a:pt x="719" y="1572"/>
                    </a:lnTo>
                    <a:lnTo>
                      <a:pt x="706" y="1573"/>
                    </a:lnTo>
                    <a:lnTo>
                      <a:pt x="693" y="1575"/>
                    </a:lnTo>
                    <a:lnTo>
                      <a:pt x="681" y="1577"/>
                    </a:lnTo>
                    <a:lnTo>
                      <a:pt x="669" y="1580"/>
                    </a:lnTo>
                    <a:lnTo>
                      <a:pt x="657" y="1584"/>
                    </a:lnTo>
                    <a:lnTo>
                      <a:pt x="645" y="1589"/>
                    </a:lnTo>
                    <a:lnTo>
                      <a:pt x="632" y="1594"/>
                    </a:lnTo>
                    <a:lnTo>
                      <a:pt x="617" y="1600"/>
                    </a:lnTo>
                    <a:lnTo>
                      <a:pt x="599" y="1603"/>
                    </a:lnTo>
                    <a:lnTo>
                      <a:pt x="578" y="1606"/>
                    </a:lnTo>
                    <a:lnTo>
                      <a:pt x="556" y="1609"/>
                    </a:lnTo>
                    <a:lnTo>
                      <a:pt x="533" y="1610"/>
                    </a:lnTo>
                    <a:lnTo>
                      <a:pt x="507" y="1611"/>
                    </a:lnTo>
                    <a:lnTo>
                      <a:pt x="481" y="1613"/>
                    </a:lnTo>
                    <a:lnTo>
                      <a:pt x="454" y="1611"/>
                    </a:lnTo>
                    <a:lnTo>
                      <a:pt x="427" y="1610"/>
                    </a:lnTo>
                    <a:lnTo>
                      <a:pt x="400" y="1607"/>
                    </a:lnTo>
                    <a:lnTo>
                      <a:pt x="373" y="1604"/>
                    </a:lnTo>
                    <a:lnTo>
                      <a:pt x="347" y="1600"/>
                    </a:lnTo>
                    <a:lnTo>
                      <a:pt x="321" y="1594"/>
                    </a:lnTo>
                    <a:lnTo>
                      <a:pt x="297" y="1587"/>
                    </a:lnTo>
                    <a:lnTo>
                      <a:pt x="275" y="1579"/>
                    </a:lnTo>
                    <a:lnTo>
                      <a:pt x="233" y="1564"/>
                    </a:lnTo>
                    <a:lnTo>
                      <a:pt x="201" y="1552"/>
                    </a:lnTo>
                    <a:lnTo>
                      <a:pt x="174" y="1542"/>
                    </a:lnTo>
                    <a:lnTo>
                      <a:pt x="155" y="1534"/>
                    </a:lnTo>
                    <a:lnTo>
                      <a:pt x="139" y="1528"/>
                    </a:lnTo>
                    <a:lnTo>
                      <a:pt x="130" y="1525"/>
                    </a:lnTo>
                    <a:lnTo>
                      <a:pt x="125" y="1523"/>
                    </a:lnTo>
                    <a:lnTo>
                      <a:pt x="123" y="1523"/>
                    </a:lnTo>
                    <a:lnTo>
                      <a:pt x="121" y="1524"/>
                    </a:lnTo>
                    <a:lnTo>
                      <a:pt x="114" y="1528"/>
                    </a:lnTo>
                    <a:lnTo>
                      <a:pt x="103" y="1533"/>
                    </a:lnTo>
                    <a:lnTo>
                      <a:pt x="90" y="1537"/>
                    </a:lnTo>
                    <a:lnTo>
                      <a:pt x="82" y="1538"/>
                    </a:lnTo>
                    <a:lnTo>
                      <a:pt x="76" y="1539"/>
                    </a:lnTo>
                    <a:lnTo>
                      <a:pt x="68" y="1538"/>
                    </a:lnTo>
                    <a:lnTo>
                      <a:pt x="62" y="1537"/>
                    </a:lnTo>
                    <a:lnTo>
                      <a:pt x="55" y="1535"/>
                    </a:lnTo>
                    <a:lnTo>
                      <a:pt x="50" y="1530"/>
                    </a:lnTo>
                    <a:lnTo>
                      <a:pt x="44" y="1525"/>
                    </a:lnTo>
                    <a:lnTo>
                      <a:pt x="39" y="1518"/>
                    </a:lnTo>
                    <a:lnTo>
                      <a:pt x="31" y="1499"/>
                    </a:lnTo>
                    <a:lnTo>
                      <a:pt x="24" y="1478"/>
                    </a:lnTo>
                    <a:lnTo>
                      <a:pt x="17" y="1454"/>
                    </a:lnTo>
                    <a:lnTo>
                      <a:pt x="11" y="1432"/>
                    </a:lnTo>
                    <a:lnTo>
                      <a:pt x="7" y="1412"/>
                    </a:lnTo>
                    <a:lnTo>
                      <a:pt x="2" y="1394"/>
                    </a:lnTo>
                    <a:lnTo>
                      <a:pt x="0" y="1384"/>
                    </a:lnTo>
                    <a:lnTo>
                      <a:pt x="0" y="1379"/>
                    </a:lnTo>
                    <a:lnTo>
                      <a:pt x="28" y="1397"/>
                    </a:lnTo>
                    <a:lnTo>
                      <a:pt x="55" y="1414"/>
                    </a:lnTo>
                    <a:lnTo>
                      <a:pt x="82" y="1430"/>
                    </a:lnTo>
                    <a:lnTo>
                      <a:pt x="108" y="1445"/>
                    </a:lnTo>
                    <a:lnTo>
                      <a:pt x="121" y="1451"/>
                    </a:lnTo>
                    <a:lnTo>
                      <a:pt x="134" y="1456"/>
                    </a:lnTo>
                    <a:lnTo>
                      <a:pt x="146" y="1460"/>
                    </a:lnTo>
                    <a:lnTo>
                      <a:pt x="159" y="1462"/>
                    </a:lnTo>
                    <a:lnTo>
                      <a:pt x="171" y="1464"/>
                    </a:lnTo>
                    <a:lnTo>
                      <a:pt x="183" y="1464"/>
                    </a:lnTo>
                    <a:lnTo>
                      <a:pt x="196" y="1462"/>
                    </a:lnTo>
                    <a:lnTo>
                      <a:pt x="208" y="1458"/>
                    </a:lnTo>
                    <a:lnTo>
                      <a:pt x="219" y="1453"/>
                    </a:lnTo>
                    <a:lnTo>
                      <a:pt x="230" y="1445"/>
                    </a:lnTo>
                    <a:lnTo>
                      <a:pt x="241" y="1438"/>
                    </a:lnTo>
                    <a:lnTo>
                      <a:pt x="252" y="1428"/>
                    </a:lnTo>
                    <a:lnTo>
                      <a:pt x="272" y="1407"/>
                    </a:lnTo>
                    <a:lnTo>
                      <a:pt x="291" y="1387"/>
                    </a:lnTo>
                    <a:lnTo>
                      <a:pt x="308" y="1367"/>
                    </a:lnTo>
                    <a:lnTo>
                      <a:pt x="322" y="1352"/>
                    </a:lnTo>
                    <a:lnTo>
                      <a:pt x="330" y="1347"/>
                    </a:lnTo>
                    <a:lnTo>
                      <a:pt x="335" y="1344"/>
                    </a:lnTo>
                    <a:lnTo>
                      <a:pt x="338" y="1344"/>
                    </a:lnTo>
                    <a:lnTo>
                      <a:pt x="340" y="1344"/>
                    </a:lnTo>
                    <a:lnTo>
                      <a:pt x="344" y="1344"/>
                    </a:lnTo>
                    <a:lnTo>
                      <a:pt x="346" y="1345"/>
                    </a:lnTo>
                    <a:lnTo>
                      <a:pt x="349" y="1338"/>
                    </a:lnTo>
                    <a:lnTo>
                      <a:pt x="352" y="1333"/>
                    </a:lnTo>
                    <a:lnTo>
                      <a:pt x="358" y="1326"/>
                    </a:lnTo>
                    <a:lnTo>
                      <a:pt x="363" y="1322"/>
                    </a:lnTo>
                    <a:lnTo>
                      <a:pt x="370" y="1317"/>
                    </a:lnTo>
                    <a:lnTo>
                      <a:pt x="377" y="1312"/>
                    </a:lnTo>
                    <a:lnTo>
                      <a:pt x="385" y="1308"/>
                    </a:lnTo>
                    <a:lnTo>
                      <a:pt x="393" y="1305"/>
                    </a:lnTo>
                    <a:lnTo>
                      <a:pt x="413" y="1298"/>
                    </a:lnTo>
                    <a:lnTo>
                      <a:pt x="434" y="1294"/>
                    </a:lnTo>
                    <a:lnTo>
                      <a:pt x="458" y="1291"/>
                    </a:lnTo>
                    <a:lnTo>
                      <a:pt x="483" y="1289"/>
                    </a:lnTo>
                    <a:lnTo>
                      <a:pt x="508" y="1289"/>
                    </a:lnTo>
                    <a:lnTo>
                      <a:pt x="535" y="1290"/>
                    </a:lnTo>
                    <a:lnTo>
                      <a:pt x="561" y="1292"/>
                    </a:lnTo>
                    <a:lnTo>
                      <a:pt x="587" y="1296"/>
                    </a:lnTo>
                    <a:lnTo>
                      <a:pt x="613" y="1302"/>
                    </a:lnTo>
                    <a:lnTo>
                      <a:pt x="637" y="1309"/>
                    </a:lnTo>
                    <a:lnTo>
                      <a:pt x="660" y="1318"/>
                    </a:lnTo>
                    <a:lnTo>
                      <a:pt x="682" y="1327"/>
                    </a:lnTo>
                    <a:lnTo>
                      <a:pt x="688" y="1330"/>
                    </a:lnTo>
                    <a:lnTo>
                      <a:pt x="696" y="1331"/>
                    </a:lnTo>
                    <a:lnTo>
                      <a:pt x="704" y="1331"/>
                    </a:lnTo>
                    <a:lnTo>
                      <a:pt x="714" y="1331"/>
                    </a:lnTo>
                    <a:lnTo>
                      <a:pt x="738" y="1327"/>
                    </a:lnTo>
                    <a:lnTo>
                      <a:pt x="765" y="1322"/>
                    </a:lnTo>
                    <a:lnTo>
                      <a:pt x="829" y="1306"/>
                    </a:lnTo>
                    <a:lnTo>
                      <a:pt x="900" y="1286"/>
                    </a:lnTo>
                    <a:lnTo>
                      <a:pt x="936" y="1277"/>
                    </a:lnTo>
                    <a:lnTo>
                      <a:pt x="971" y="1267"/>
                    </a:lnTo>
                    <a:lnTo>
                      <a:pt x="1005" y="1258"/>
                    </a:lnTo>
                    <a:lnTo>
                      <a:pt x="1037" y="1252"/>
                    </a:lnTo>
                    <a:lnTo>
                      <a:pt x="1066" y="1248"/>
                    </a:lnTo>
                    <a:lnTo>
                      <a:pt x="1091" y="1245"/>
                    </a:lnTo>
                    <a:lnTo>
                      <a:pt x="1102" y="1245"/>
                    </a:lnTo>
                    <a:lnTo>
                      <a:pt x="1112" y="1246"/>
                    </a:lnTo>
                    <a:lnTo>
                      <a:pt x="1120" y="1248"/>
                    </a:lnTo>
                    <a:lnTo>
                      <a:pt x="1127" y="1251"/>
                    </a:lnTo>
                    <a:lnTo>
                      <a:pt x="1131" y="1252"/>
                    </a:lnTo>
                    <a:lnTo>
                      <a:pt x="1135" y="1253"/>
                    </a:lnTo>
                    <a:lnTo>
                      <a:pt x="1141" y="1253"/>
                    </a:lnTo>
                    <a:lnTo>
                      <a:pt x="1147" y="1252"/>
                    </a:lnTo>
                    <a:lnTo>
                      <a:pt x="1164" y="1250"/>
                    </a:lnTo>
                    <a:lnTo>
                      <a:pt x="1182" y="1244"/>
                    </a:lnTo>
                    <a:lnTo>
                      <a:pt x="1224" y="1230"/>
                    </a:lnTo>
                    <a:lnTo>
                      <a:pt x="1273" y="1214"/>
                    </a:lnTo>
                    <a:lnTo>
                      <a:pt x="1299" y="1205"/>
                    </a:lnTo>
                    <a:lnTo>
                      <a:pt x="1323" y="1198"/>
                    </a:lnTo>
                    <a:lnTo>
                      <a:pt x="1348" y="1191"/>
                    </a:lnTo>
                    <a:lnTo>
                      <a:pt x="1372" y="1186"/>
                    </a:lnTo>
                    <a:lnTo>
                      <a:pt x="1395" y="1182"/>
                    </a:lnTo>
                    <a:lnTo>
                      <a:pt x="1415" y="1181"/>
                    </a:lnTo>
                    <a:lnTo>
                      <a:pt x="1424" y="1181"/>
                    </a:lnTo>
                    <a:lnTo>
                      <a:pt x="1434" y="1182"/>
                    </a:lnTo>
                    <a:lnTo>
                      <a:pt x="1441" y="1184"/>
                    </a:lnTo>
                    <a:lnTo>
                      <a:pt x="1449" y="1186"/>
                    </a:lnTo>
                    <a:lnTo>
                      <a:pt x="1462" y="1183"/>
                    </a:lnTo>
                    <a:lnTo>
                      <a:pt x="1498" y="1172"/>
                    </a:lnTo>
                    <a:lnTo>
                      <a:pt x="1555" y="1155"/>
                    </a:lnTo>
                    <a:lnTo>
                      <a:pt x="1626" y="1130"/>
                    </a:lnTo>
                    <a:lnTo>
                      <a:pt x="1667" y="1116"/>
                    </a:lnTo>
                    <a:lnTo>
                      <a:pt x="1710" y="1100"/>
                    </a:lnTo>
                    <a:lnTo>
                      <a:pt x="1756" y="1082"/>
                    </a:lnTo>
                    <a:lnTo>
                      <a:pt x="1802" y="1063"/>
                    </a:lnTo>
                    <a:lnTo>
                      <a:pt x="1850" y="1043"/>
                    </a:lnTo>
                    <a:lnTo>
                      <a:pt x="1898" y="1021"/>
                    </a:lnTo>
                    <a:lnTo>
                      <a:pt x="1947" y="998"/>
                    </a:lnTo>
                    <a:lnTo>
                      <a:pt x="1995" y="974"/>
                    </a:lnTo>
                    <a:lnTo>
                      <a:pt x="2047" y="945"/>
                    </a:lnTo>
                    <a:lnTo>
                      <a:pt x="2108" y="909"/>
                    </a:lnTo>
                    <a:lnTo>
                      <a:pt x="2174" y="870"/>
                    </a:lnTo>
                    <a:lnTo>
                      <a:pt x="2245" y="824"/>
                    </a:lnTo>
                    <a:lnTo>
                      <a:pt x="2319" y="774"/>
                    </a:lnTo>
                    <a:lnTo>
                      <a:pt x="2397" y="724"/>
                    </a:lnTo>
                    <a:lnTo>
                      <a:pt x="2476" y="671"/>
                    </a:lnTo>
                    <a:lnTo>
                      <a:pt x="2554" y="617"/>
                    </a:lnTo>
                    <a:lnTo>
                      <a:pt x="2706" y="513"/>
                    </a:lnTo>
                    <a:lnTo>
                      <a:pt x="2842" y="419"/>
                    </a:lnTo>
                    <a:lnTo>
                      <a:pt x="2954" y="344"/>
                    </a:lnTo>
                    <a:lnTo>
                      <a:pt x="3028" y="294"/>
                    </a:lnTo>
                    <a:lnTo>
                      <a:pt x="3042" y="286"/>
                    </a:lnTo>
                    <a:lnTo>
                      <a:pt x="3054" y="280"/>
                    </a:lnTo>
                    <a:lnTo>
                      <a:pt x="3067" y="273"/>
                    </a:lnTo>
                    <a:lnTo>
                      <a:pt x="3079" y="268"/>
                    </a:lnTo>
                    <a:lnTo>
                      <a:pt x="3100" y="260"/>
                    </a:lnTo>
                    <a:lnTo>
                      <a:pt x="3121" y="255"/>
                    </a:lnTo>
                    <a:lnTo>
                      <a:pt x="3142" y="251"/>
                    </a:lnTo>
                    <a:lnTo>
                      <a:pt x="3161" y="249"/>
                    </a:lnTo>
                    <a:lnTo>
                      <a:pt x="3180" y="247"/>
                    </a:lnTo>
                    <a:lnTo>
                      <a:pt x="3200" y="245"/>
                    </a:lnTo>
                    <a:lnTo>
                      <a:pt x="3220" y="244"/>
                    </a:lnTo>
                    <a:lnTo>
                      <a:pt x="3243" y="241"/>
                    </a:lnTo>
                    <a:lnTo>
                      <a:pt x="3267" y="237"/>
                    </a:lnTo>
                    <a:lnTo>
                      <a:pt x="3293" y="230"/>
                    </a:lnTo>
                    <a:lnTo>
                      <a:pt x="3322" y="222"/>
                    </a:lnTo>
                    <a:lnTo>
                      <a:pt x="3354" y="210"/>
                    </a:lnTo>
                    <a:lnTo>
                      <a:pt x="3372" y="202"/>
                    </a:lnTo>
                    <a:lnTo>
                      <a:pt x="3389" y="193"/>
                    </a:lnTo>
                    <a:lnTo>
                      <a:pt x="3408" y="184"/>
                    </a:lnTo>
                    <a:lnTo>
                      <a:pt x="3429" y="173"/>
                    </a:lnTo>
                    <a:lnTo>
                      <a:pt x="3470" y="150"/>
                    </a:lnTo>
                    <a:lnTo>
                      <a:pt x="3511" y="130"/>
                    </a:lnTo>
                    <a:lnTo>
                      <a:pt x="3552" y="109"/>
                    </a:lnTo>
                    <a:lnTo>
                      <a:pt x="3592" y="91"/>
                    </a:lnTo>
                    <a:lnTo>
                      <a:pt x="3632" y="75"/>
                    </a:lnTo>
                    <a:lnTo>
                      <a:pt x="3673" y="60"/>
                    </a:lnTo>
                    <a:lnTo>
                      <a:pt x="3714" y="45"/>
                    </a:lnTo>
                    <a:lnTo>
                      <a:pt x="3756" y="35"/>
                    </a:lnTo>
                    <a:lnTo>
                      <a:pt x="3799" y="24"/>
                    </a:lnTo>
                    <a:lnTo>
                      <a:pt x="3843" y="15"/>
                    </a:lnTo>
                    <a:lnTo>
                      <a:pt x="3888" y="9"/>
                    </a:lnTo>
                    <a:lnTo>
                      <a:pt x="3934" y="4"/>
                    </a:lnTo>
                    <a:lnTo>
                      <a:pt x="3983" y="1"/>
                    </a:lnTo>
                    <a:lnTo>
                      <a:pt x="4034" y="0"/>
                    </a:lnTo>
                    <a:lnTo>
                      <a:pt x="4086" y="1"/>
                    </a:lnTo>
                    <a:lnTo>
                      <a:pt x="4141" y="4"/>
                    </a:lnTo>
                    <a:lnTo>
                      <a:pt x="4195" y="9"/>
                    </a:lnTo>
                    <a:lnTo>
                      <a:pt x="4245" y="14"/>
                    </a:lnTo>
                    <a:lnTo>
                      <a:pt x="4291" y="21"/>
                    </a:lnTo>
                    <a:lnTo>
                      <a:pt x="4332" y="27"/>
                    </a:lnTo>
                    <a:lnTo>
                      <a:pt x="4370" y="36"/>
                    </a:lnTo>
                    <a:lnTo>
                      <a:pt x="4404" y="44"/>
                    </a:lnTo>
                    <a:lnTo>
                      <a:pt x="4421" y="50"/>
                    </a:lnTo>
                    <a:lnTo>
                      <a:pt x="4436" y="55"/>
                    </a:lnTo>
                    <a:lnTo>
                      <a:pt x="4451" y="62"/>
                    </a:lnTo>
                    <a:lnTo>
                      <a:pt x="4464" y="67"/>
                    </a:lnTo>
                    <a:lnTo>
                      <a:pt x="4478" y="75"/>
                    </a:lnTo>
                    <a:lnTo>
                      <a:pt x="4490" y="81"/>
                    </a:lnTo>
                    <a:lnTo>
                      <a:pt x="4503" y="89"/>
                    </a:lnTo>
                    <a:lnTo>
                      <a:pt x="4513" y="97"/>
                    </a:lnTo>
                    <a:lnTo>
                      <a:pt x="4524" y="106"/>
                    </a:lnTo>
                    <a:lnTo>
                      <a:pt x="4535" y="116"/>
                    </a:lnTo>
                    <a:lnTo>
                      <a:pt x="4545" y="125"/>
                    </a:lnTo>
                    <a:lnTo>
                      <a:pt x="4555" y="135"/>
                    </a:lnTo>
                    <a:lnTo>
                      <a:pt x="4564" y="146"/>
                    </a:lnTo>
                    <a:lnTo>
                      <a:pt x="4573" y="158"/>
                    </a:lnTo>
                    <a:lnTo>
                      <a:pt x="4582" y="170"/>
                    </a:lnTo>
                    <a:lnTo>
                      <a:pt x="4590" y="183"/>
                    </a:lnTo>
                    <a:lnTo>
                      <a:pt x="4605" y="210"/>
                    </a:lnTo>
                    <a:lnTo>
                      <a:pt x="4620" y="240"/>
                    </a:lnTo>
                    <a:lnTo>
                      <a:pt x="4628" y="255"/>
                    </a:lnTo>
                    <a:lnTo>
                      <a:pt x="4636" y="269"/>
                    </a:lnTo>
                    <a:lnTo>
                      <a:pt x="4644" y="283"/>
                    </a:lnTo>
                    <a:lnTo>
                      <a:pt x="4653" y="296"/>
                    </a:lnTo>
                    <a:lnTo>
                      <a:pt x="4661" y="308"/>
                    </a:lnTo>
                    <a:lnTo>
                      <a:pt x="4671" y="320"/>
                    </a:lnTo>
                    <a:lnTo>
                      <a:pt x="4680" y="331"/>
                    </a:lnTo>
                    <a:lnTo>
                      <a:pt x="4691" y="342"/>
                    </a:lnTo>
                    <a:lnTo>
                      <a:pt x="4711" y="363"/>
                    </a:lnTo>
                    <a:lnTo>
                      <a:pt x="4733" y="382"/>
                    </a:lnTo>
                    <a:lnTo>
                      <a:pt x="4757" y="402"/>
                    </a:lnTo>
                    <a:lnTo>
                      <a:pt x="4780" y="420"/>
                    </a:lnTo>
                    <a:lnTo>
                      <a:pt x="4805" y="440"/>
                    </a:lnTo>
                    <a:lnTo>
                      <a:pt x="4831" y="460"/>
                    </a:lnTo>
                    <a:lnTo>
                      <a:pt x="4858" y="483"/>
                    </a:lnTo>
                    <a:lnTo>
                      <a:pt x="4885" y="506"/>
                    </a:lnTo>
                    <a:lnTo>
                      <a:pt x="4913" y="531"/>
                    </a:lnTo>
                    <a:lnTo>
                      <a:pt x="4941" y="561"/>
                    </a:lnTo>
                    <a:lnTo>
                      <a:pt x="4969" y="592"/>
                    </a:lnTo>
                    <a:lnTo>
                      <a:pt x="4999" y="628"/>
                    </a:lnTo>
                    <a:lnTo>
                      <a:pt x="5014" y="646"/>
                    </a:lnTo>
                    <a:lnTo>
                      <a:pt x="5028" y="662"/>
                    </a:lnTo>
                    <a:lnTo>
                      <a:pt x="5043" y="676"/>
                    </a:lnTo>
                    <a:lnTo>
                      <a:pt x="5058" y="689"/>
                    </a:lnTo>
                    <a:lnTo>
                      <a:pt x="5072" y="701"/>
                    </a:lnTo>
                    <a:lnTo>
                      <a:pt x="5087" y="712"/>
                    </a:lnTo>
                    <a:lnTo>
                      <a:pt x="5101" y="722"/>
                    </a:lnTo>
                    <a:lnTo>
                      <a:pt x="5115" y="730"/>
                    </a:lnTo>
                    <a:lnTo>
                      <a:pt x="5130" y="738"/>
                    </a:lnTo>
                    <a:lnTo>
                      <a:pt x="5144" y="744"/>
                    </a:lnTo>
                    <a:lnTo>
                      <a:pt x="5158" y="750"/>
                    </a:lnTo>
                    <a:lnTo>
                      <a:pt x="5174" y="755"/>
                    </a:lnTo>
                    <a:lnTo>
                      <a:pt x="5202" y="765"/>
                    </a:lnTo>
                    <a:lnTo>
                      <a:pt x="5230" y="773"/>
                    </a:lnTo>
                    <a:lnTo>
                      <a:pt x="5257" y="782"/>
                    </a:lnTo>
                    <a:lnTo>
                      <a:pt x="5284" y="791"/>
                    </a:lnTo>
                    <a:lnTo>
                      <a:pt x="5298" y="796"/>
                    </a:lnTo>
                    <a:lnTo>
                      <a:pt x="5311" y="803"/>
                    </a:lnTo>
                    <a:lnTo>
                      <a:pt x="5324" y="808"/>
                    </a:lnTo>
                    <a:lnTo>
                      <a:pt x="5337" y="816"/>
                    </a:lnTo>
                    <a:lnTo>
                      <a:pt x="5350" y="823"/>
                    </a:lnTo>
                    <a:lnTo>
                      <a:pt x="5363" y="832"/>
                    </a:lnTo>
                    <a:lnTo>
                      <a:pt x="5374" y="843"/>
                    </a:lnTo>
                    <a:lnTo>
                      <a:pt x="5387" y="853"/>
                    </a:lnTo>
                    <a:lnTo>
                      <a:pt x="5399" y="866"/>
                    </a:lnTo>
                    <a:lnTo>
                      <a:pt x="5411" y="879"/>
                    </a:lnTo>
                    <a:lnTo>
                      <a:pt x="5423" y="895"/>
                    </a:lnTo>
                    <a:lnTo>
                      <a:pt x="5434" y="912"/>
                    </a:lnTo>
                    <a:close/>
                  </a:path>
                </a:pathLst>
              </a:custGeom>
              <a:solidFill>
                <a:srgbClr val="9dca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5900760" y="3227400"/>
                <a:ext cx="1870200" cy="504720"/>
              </a:xfrm>
              <a:custGeom>
                <a:avLst/>
                <a:gdLst/>
                <a:ahLst/>
                <a:rect l="l" t="t" r="r" b="b"/>
                <a:pathLst>
                  <a:path w="5887" h="1588">
                    <a:moveTo>
                      <a:pt x="1984" y="1028"/>
                    </a:moveTo>
                    <a:lnTo>
                      <a:pt x="2031" y="1003"/>
                    </a:lnTo>
                    <a:lnTo>
                      <a:pt x="2086" y="970"/>
                    </a:lnTo>
                    <a:lnTo>
                      <a:pt x="2147" y="933"/>
                    </a:lnTo>
                    <a:lnTo>
                      <a:pt x="2216" y="890"/>
                    </a:lnTo>
                    <a:lnTo>
                      <a:pt x="2289" y="843"/>
                    </a:lnTo>
                    <a:lnTo>
                      <a:pt x="2365" y="793"/>
                    </a:lnTo>
                    <a:lnTo>
                      <a:pt x="2443" y="740"/>
                    </a:lnTo>
                    <a:lnTo>
                      <a:pt x="2522" y="686"/>
                    </a:lnTo>
                    <a:lnTo>
                      <a:pt x="2601" y="632"/>
                    </a:lnTo>
                    <a:lnTo>
                      <a:pt x="2678" y="578"/>
                    </a:lnTo>
                    <a:lnTo>
                      <a:pt x="2750" y="525"/>
                    </a:lnTo>
                    <a:lnTo>
                      <a:pt x="2818" y="475"/>
                    </a:lnTo>
                    <a:lnTo>
                      <a:pt x="2881" y="427"/>
                    </a:lnTo>
                    <a:lnTo>
                      <a:pt x="2936" y="383"/>
                    </a:lnTo>
                    <a:lnTo>
                      <a:pt x="2960" y="362"/>
                    </a:lnTo>
                    <a:lnTo>
                      <a:pt x="2982" y="344"/>
                    </a:lnTo>
                    <a:lnTo>
                      <a:pt x="3002" y="327"/>
                    </a:lnTo>
                    <a:lnTo>
                      <a:pt x="3018" y="310"/>
                    </a:lnTo>
                    <a:lnTo>
                      <a:pt x="3041" y="297"/>
                    </a:lnTo>
                    <a:lnTo>
                      <a:pt x="3060" y="288"/>
                    </a:lnTo>
                    <a:lnTo>
                      <a:pt x="3080" y="280"/>
                    </a:lnTo>
                    <a:lnTo>
                      <a:pt x="3098" y="275"/>
                    </a:lnTo>
                    <a:lnTo>
                      <a:pt x="3116" y="270"/>
                    </a:lnTo>
                    <a:lnTo>
                      <a:pt x="3134" y="266"/>
                    </a:lnTo>
                    <a:lnTo>
                      <a:pt x="3152" y="264"/>
                    </a:lnTo>
                    <a:lnTo>
                      <a:pt x="3171" y="261"/>
                    </a:lnTo>
                    <a:lnTo>
                      <a:pt x="3192" y="259"/>
                    </a:lnTo>
                    <a:lnTo>
                      <a:pt x="3215" y="254"/>
                    </a:lnTo>
                    <a:lnTo>
                      <a:pt x="3238" y="249"/>
                    </a:lnTo>
                    <a:lnTo>
                      <a:pt x="3265" y="242"/>
                    </a:lnTo>
                    <a:lnTo>
                      <a:pt x="3296" y="234"/>
                    </a:lnTo>
                    <a:lnTo>
                      <a:pt x="3329" y="222"/>
                    </a:lnTo>
                    <a:lnTo>
                      <a:pt x="3367" y="208"/>
                    </a:lnTo>
                    <a:lnTo>
                      <a:pt x="3409" y="189"/>
                    </a:lnTo>
                    <a:lnTo>
                      <a:pt x="3445" y="170"/>
                    </a:lnTo>
                    <a:lnTo>
                      <a:pt x="3481" y="151"/>
                    </a:lnTo>
                    <a:lnTo>
                      <a:pt x="3518" y="132"/>
                    </a:lnTo>
                    <a:lnTo>
                      <a:pt x="3557" y="113"/>
                    </a:lnTo>
                    <a:lnTo>
                      <a:pt x="3596" y="96"/>
                    </a:lnTo>
                    <a:lnTo>
                      <a:pt x="3636" y="78"/>
                    </a:lnTo>
                    <a:lnTo>
                      <a:pt x="3678" y="63"/>
                    </a:lnTo>
                    <a:lnTo>
                      <a:pt x="3720" y="49"/>
                    </a:lnTo>
                    <a:lnTo>
                      <a:pt x="3764" y="36"/>
                    </a:lnTo>
                    <a:lnTo>
                      <a:pt x="3811" y="24"/>
                    </a:lnTo>
                    <a:lnTo>
                      <a:pt x="3834" y="20"/>
                    </a:lnTo>
                    <a:lnTo>
                      <a:pt x="3857" y="16"/>
                    </a:lnTo>
                    <a:lnTo>
                      <a:pt x="3882" y="11"/>
                    </a:lnTo>
                    <a:lnTo>
                      <a:pt x="3907" y="8"/>
                    </a:lnTo>
                    <a:lnTo>
                      <a:pt x="3932" y="5"/>
                    </a:lnTo>
                    <a:lnTo>
                      <a:pt x="3958" y="3"/>
                    </a:lnTo>
                    <a:lnTo>
                      <a:pt x="3984" y="2"/>
                    </a:lnTo>
                    <a:lnTo>
                      <a:pt x="4011" y="0"/>
                    </a:lnTo>
                    <a:lnTo>
                      <a:pt x="4038" y="0"/>
                    </a:lnTo>
                    <a:lnTo>
                      <a:pt x="4066" y="0"/>
                    </a:lnTo>
                    <a:lnTo>
                      <a:pt x="4094" y="3"/>
                    </a:lnTo>
                    <a:lnTo>
                      <a:pt x="4123" y="4"/>
                    </a:lnTo>
                    <a:lnTo>
                      <a:pt x="4170" y="8"/>
                    </a:lnTo>
                    <a:lnTo>
                      <a:pt x="4214" y="12"/>
                    </a:lnTo>
                    <a:lnTo>
                      <a:pt x="4255" y="17"/>
                    </a:lnTo>
                    <a:lnTo>
                      <a:pt x="4294" y="23"/>
                    </a:lnTo>
                    <a:lnTo>
                      <a:pt x="4330" y="30"/>
                    </a:lnTo>
                    <a:lnTo>
                      <a:pt x="4364" y="38"/>
                    </a:lnTo>
                    <a:lnTo>
                      <a:pt x="4380" y="43"/>
                    </a:lnTo>
                    <a:lnTo>
                      <a:pt x="4395" y="47"/>
                    </a:lnTo>
                    <a:lnTo>
                      <a:pt x="4410" y="52"/>
                    </a:lnTo>
                    <a:lnTo>
                      <a:pt x="4426" y="59"/>
                    </a:lnTo>
                    <a:lnTo>
                      <a:pt x="4440" y="65"/>
                    </a:lnTo>
                    <a:lnTo>
                      <a:pt x="4454" y="72"/>
                    </a:lnTo>
                    <a:lnTo>
                      <a:pt x="4467" y="79"/>
                    </a:lnTo>
                    <a:lnTo>
                      <a:pt x="4480" y="87"/>
                    </a:lnTo>
                    <a:lnTo>
                      <a:pt x="4491" y="94"/>
                    </a:lnTo>
                    <a:lnTo>
                      <a:pt x="4503" y="104"/>
                    </a:lnTo>
                    <a:lnTo>
                      <a:pt x="4515" y="114"/>
                    </a:lnTo>
                    <a:lnTo>
                      <a:pt x="4526" y="124"/>
                    </a:lnTo>
                    <a:lnTo>
                      <a:pt x="4538" y="134"/>
                    </a:lnTo>
                    <a:lnTo>
                      <a:pt x="4548" y="146"/>
                    </a:lnTo>
                    <a:lnTo>
                      <a:pt x="4558" y="158"/>
                    </a:lnTo>
                    <a:lnTo>
                      <a:pt x="4568" y="171"/>
                    </a:lnTo>
                    <a:lnTo>
                      <a:pt x="4578" y="185"/>
                    </a:lnTo>
                    <a:lnTo>
                      <a:pt x="4588" y="200"/>
                    </a:lnTo>
                    <a:lnTo>
                      <a:pt x="4596" y="215"/>
                    </a:lnTo>
                    <a:lnTo>
                      <a:pt x="4605" y="232"/>
                    </a:lnTo>
                    <a:lnTo>
                      <a:pt x="4611" y="245"/>
                    </a:lnTo>
                    <a:lnTo>
                      <a:pt x="4619" y="258"/>
                    </a:lnTo>
                    <a:lnTo>
                      <a:pt x="4626" y="270"/>
                    </a:lnTo>
                    <a:lnTo>
                      <a:pt x="4635" y="282"/>
                    </a:lnTo>
                    <a:lnTo>
                      <a:pt x="4652" y="306"/>
                    </a:lnTo>
                    <a:lnTo>
                      <a:pt x="4672" y="329"/>
                    </a:lnTo>
                    <a:lnTo>
                      <a:pt x="4693" y="350"/>
                    </a:lnTo>
                    <a:lnTo>
                      <a:pt x="4716" y="373"/>
                    </a:lnTo>
                    <a:lnTo>
                      <a:pt x="4740" y="395"/>
                    </a:lnTo>
                    <a:lnTo>
                      <a:pt x="4765" y="416"/>
                    </a:lnTo>
                    <a:lnTo>
                      <a:pt x="4818" y="462"/>
                    </a:lnTo>
                    <a:lnTo>
                      <a:pt x="4873" y="510"/>
                    </a:lnTo>
                    <a:lnTo>
                      <a:pt x="4900" y="537"/>
                    </a:lnTo>
                    <a:lnTo>
                      <a:pt x="4928" y="565"/>
                    </a:lnTo>
                    <a:lnTo>
                      <a:pt x="4956" y="594"/>
                    </a:lnTo>
                    <a:lnTo>
                      <a:pt x="4984" y="627"/>
                    </a:lnTo>
                    <a:lnTo>
                      <a:pt x="4996" y="642"/>
                    </a:lnTo>
                    <a:lnTo>
                      <a:pt x="5009" y="657"/>
                    </a:lnTo>
                    <a:lnTo>
                      <a:pt x="5022" y="670"/>
                    </a:lnTo>
                    <a:lnTo>
                      <a:pt x="5035" y="681"/>
                    </a:lnTo>
                    <a:lnTo>
                      <a:pt x="5048" y="692"/>
                    </a:lnTo>
                    <a:lnTo>
                      <a:pt x="5062" y="701"/>
                    </a:lnTo>
                    <a:lnTo>
                      <a:pt x="5075" y="710"/>
                    </a:lnTo>
                    <a:lnTo>
                      <a:pt x="5088" y="719"/>
                    </a:lnTo>
                    <a:lnTo>
                      <a:pt x="5115" y="733"/>
                    </a:lnTo>
                    <a:lnTo>
                      <a:pt x="5142" y="745"/>
                    </a:lnTo>
                    <a:lnTo>
                      <a:pt x="5169" y="754"/>
                    </a:lnTo>
                    <a:lnTo>
                      <a:pt x="5196" y="765"/>
                    </a:lnTo>
                    <a:lnTo>
                      <a:pt x="5222" y="775"/>
                    </a:lnTo>
                    <a:lnTo>
                      <a:pt x="5248" y="786"/>
                    </a:lnTo>
                    <a:lnTo>
                      <a:pt x="5261" y="792"/>
                    </a:lnTo>
                    <a:lnTo>
                      <a:pt x="5274" y="799"/>
                    </a:lnTo>
                    <a:lnTo>
                      <a:pt x="5285" y="806"/>
                    </a:lnTo>
                    <a:lnTo>
                      <a:pt x="5297" y="814"/>
                    </a:lnTo>
                    <a:lnTo>
                      <a:pt x="5309" y="822"/>
                    </a:lnTo>
                    <a:lnTo>
                      <a:pt x="5321" y="832"/>
                    </a:lnTo>
                    <a:lnTo>
                      <a:pt x="5332" y="843"/>
                    </a:lnTo>
                    <a:lnTo>
                      <a:pt x="5344" y="855"/>
                    </a:lnTo>
                    <a:lnTo>
                      <a:pt x="5354" y="868"/>
                    </a:lnTo>
                    <a:lnTo>
                      <a:pt x="5364" y="882"/>
                    </a:lnTo>
                    <a:lnTo>
                      <a:pt x="5374" y="897"/>
                    </a:lnTo>
                    <a:lnTo>
                      <a:pt x="5384" y="914"/>
                    </a:lnTo>
                    <a:lnTo>
                      <a:pt x="5390" y="930"/>
                    </a:lnTo>
                    <a:lnTo>
                      <a:pt x="5395" y="948"/>
                    </a:lnTo>
                    <a:lnTo>
                      <a:pt x="5398" y="965"/>
                    </a:lnTo>
                    <a:lnTo>
                      <a:pt x="5400" y="983"/>
                    </a:lnTo>
                    <a:lnTo>
                      <a:pt x="5402" y="1020"/>
                    </a:lnTo>
                    <a:lnTo>
                      <a:pt x="5402" y="1058"/>
                    </a:lnTo>
                    <a:lnTo>
                      <a:pt x="5402" y="1076"/>
                    </a:lnTo>
                    <a:lnTo>
                      <a:pt x="5403" y="1095"/>
                    </a:lnTo>
                    <a:lnTo>
                      <a:pt x="5404" y="1112"/>
                    </a:lnTo>
                    <a:lnTo>
                      <a:pt x="5406" y="1129"/>
                    </a:lnTo>
                    <a:lnTo>
                      <a:pt x="5409" y="1146"/>
                    </a:lnTo>
                    <a:lnTo>
                      <a:pt x="5413" y="1161"/>
                    </a:lnTo>
                    <a:lnTo>
                      <a:pt x="5418" y="1177"/>
                    </a:lnTo>
                    <a:lnTo>
                      <a:pt x="5426" y="1191"/>
                    </a:lnTo>
                    <a:lnTo>
                      <a:pt x="5431" y="1198"/>
                    </a:lnTo>
                    <a:lnTo>
                      <a:pt x="5438" y="1205"/>
                    </a:lnTo>
                    <a:lnTo>
                      <a:pt x="5444" y="1209"/>
                    </a:lnTo>
                    <a:lnTo>
                      <a:pt x="5451" y="1213"/>
                    </a:lnTo>
                    <a:lnTo>
                      <a:pt x="5457" y="1215"/>
                    </a:lnTo>
                    <a:lnTo>
                      <a:pt x="5464" y="1218"/>
                    </a:lnTo>
                    <a:lnTo>
                      <a:pt x="5471" y="1219"/>
                    </a:lnTo>
                    <a:lnTo>
                      <a:pt x="5478" y="1219"/>
                    </a:lnTo>
                    <a:lnTo>
                      <a:pt x="5493" y="1217"/>
                    </a:lnTo>
                    <a:lnTo>
                      <a:pt x="5509" y="1213"/>
                    </a:lnTo>
                    <a:lnTo>
                      <a:pt x="5526" y="1209"/>
                    </a:lnTo>
                    <a:lnTo>
                      <a:pt x="5545" y="1206"/>
                    </a:lnTo>
                    <a:lnTo>
                      <a:pt x="5557" y="1203"/>
                    </a:lnTo>
                    <a:lnTo>
                      <a:pt x="5570" y="1200"/>
                    </a:lnTo>
                    <a:lnTo>
                      <a:pt x="5584" y="1198"/>
                    </a:lnTo>
                    <a:lnTo>
                      <a:pt x="5599" y="1197"/>
                    </a:lnTo>
                    <a:lnTo>
                      <a:pt x="5613" y="1198"/>
                    </a:lnTo>
                    <a:lnTo>
                      <a:pt x="5626" y="1200"/>
                    </a:lnTo>
                    <a:lnTo>
                      <a:pt x="5631" y="1203"/>
                    </a:lnTo>
                    <a:lnTo>
                      <a:pt x="5637" y="1205"/>
                    </a:lnTo>
                    <a:lnTo>
                      <a:pt x="5641" y="1209"/>
                    </a:lnTo>
                    <a:lnTo>
                      <a:pt x="5644" y="1213"/>
                    </a:lnTo>
                    <a:lnTo>
                      <a:pt x="5649" y="1231"/>
                    </a:lnTo>
                    <a:lnTo>
                      <a:pt x="5656" y="1249"/>
                    </a:lnTo>
                    <a:lnTo>
                      <a:pt x="5660" y="1258"/>
                    </a:lnTo>
                    <a:lnTo>
                      <a:pt x="5665" y="1266"/>
                    </a:lnTo>
                    <a:lnTo>
                      <a:pt x="5669" y="1275"/>
                    </a:lnTo>
                    <a:lnTo>
                      <a:pt x="5674" y="1282"/>
                    </a:lnTo>
                    <a:lnTo>
                      <a:pt x="5681" y="1290"/>
                    </a:lnTo>
                    <a:lnTo>
                      <a:pt x="5687" y="1296"/>
                    </a:lnTo>
                    <a:lnTo>
                      <a:pt x="5694" y="1302"/>
                    </a:lnTo>
                    <a:lnTo>
                      <a:pt x="5702" y="1306"/>
                    </a:lnTo>
                    <a:lnTo>
                      <a:pt x="5711" y="1309"/>
                    </a:lnTo>
                    <a:lnTo>
                      <a:pt x="5721" y="1312"/>
                    </a:lnTo>
                    <a:lnTo>
                      <a:pt x="5731" y="1313"/>
                    </a:lnTo>
                    <a:lnTo>
                      <a:pt x="5742" y="1312"/>
                    </a:lnTo>
                    <a:lnTo>
                      <a:pt x="5749" y="1313"/>
                    </a:lnTo>
                    <a:lnTo>
                      <a:pt x="5756" y="1315"/>
                    </a:lnTo>
                    <a:lnTo>
                      <a:pt x="5763" y="1317"/>
                    </a:lnTo>
                    <a:lnTo>
                      <a:pt x="5769" y="1320"/>
                    </a:lnTo>
                    <a:lnTo>
                      <a:pt x="5785" y="1329"/>
                    </a:lnTo>
                    <a:lnTo>
                      <a:pt x="5800" y="1339"/>
                    </a:lnTo>
                    <a:lnTo>
                      <a:pt x="5815" y="1348"/>
                    </a:lnTo>
                    <a:lnTo>
                      <a:pt x="5830" y="1359"/>
                    </a:lnTo>
                    <a:lnTo>
                      <a:pt x="5845" y="1369"/>
                    </a:lnTo>
                    <a:lnTo>
                      <a:pt x="5861" y="1376"/>
                    </a:lnTo>
                    <a:lnTo>
                      <a:pt x="5863" y="1374"/>
                    </a:lnTo>
                    <a:lnTo>
                      <a:pt x="5866" y="1372"/>
                    </a:lnTo>
                    <a:lnTo>
                      <a:pt x="5868" y="1370"/>
                    </a:lnTo>
                    <a:lnTo>
                      <a:pt x="5871" y="1368"/>
                    </a:lnTo>
                    <a:lnTo>
                      <a:pt x="5873" y="1365"/>
                    </a:lnTo>
                    <a:lnTo>
                      <a:pt x="5874" y="1362"/>
                    </a:lnTo>
                    <a:lnTo>
                      <a:pt x="5875" y="1360"/>
                    </a:lnTo>
                    <a:lnTo>
                      <a:pt x="5876" y="1359"/>
                    </a:lnTo>
                    <a:lnTo>
                      <a:pt x="5880" y="1365"/>
                    </a:lnTo>
                    <a:lnTo>
                      <a:pt x="5883" y="1370"/>
                    </a:lnTo>
                    <a:lnTo>
                      <a:pt x="5885" y="1375"/>
                    </a:lnTo>
                    <a:lnTo>
                      <a:pt x="5887" y="1381"/>
                    </a:lnTo>
                    <a:lnTo>
                      <a:pt x="5887" y="1386"/>
                    </a:lnTo>
                    <a:lnTo>
                      <a:pt x="5887" y="1392"/>
                    </a:lnTo>
                    <a:lnTo>
                      <a:pt x="5887" y="1396"/>
                    </a:lnTo>
                    <a:lnTo>
                      <a:pt x="5885" y="1400"/>
                    </a:lnTo>
                    <a:lnTo>
                      <a:pt x="5881" y="1409"/>
                    </a:lnTo>
                    <a:lnTo>
                      <a:pt x="5874" y="1416"/>
                    </a:lnTo>
                    <a:lnTo>
                      <a:pt x="5867" y="1424"/>
                    </a:lnTo>
                    <a:lnTo>
                      <a:pt x="5858" y="1429"/>
                    </a:lnTo>
                    <a:lnTo>
                      <a:pt x="5847" y="1435"/>
                    </a:lnTo>
                    <a:lnTo>
                      <a:pt x="5836" y="1440"/>
                    </a:lnTo>
                    <a:lnTo>
                      <a:pt x="5826" y="1443"/>
                    </a:lnTo>
                    <a:lnTo>
                      <a:pt x="5815" y="1447"/>
                    </a:lnTo>
                    <a:lnTo>
                      <a:pt x="5795" y="1451"/>
                    </a:lnTo>
                    <a:lnTo>
                      <a:pt x="5780" y="1453"/>
                    </a:lnTo>
                    <a:lnTo>
                      <a:pt x="5779" y="1453"/>
                    </a:lnTo>
                    <a:lnTo>
                      <a:pt x="5777" y="1456"/>
                    </a:lnTo>
                    <a:lnTo>
                      <a:pt x="5773" y="1460"/>
                    </a:lnTo>
                    <a:lnTo>
                      <a:pt x="5766" y="1464"/>
                    </a:lnTo>
                    <a:lnTo>
                      <a:pt x="5758" y="1469"/>
                    </a:lnTo>
                    <a:lnTo>
                      <a:pt x="5749" y="1474"/>
                    </a:lnTo>
                    <a:lnTo>
                      <a:pt x="5738" y="1477"/>
                    </a:lnTo>
                    <a:lnTo>
                      <a:pt x="5727" y="1480"/>
                    </a:lnTo>
                    <a:lnTo>
                      <a:pt x="5716" y="1481"/>
                    </a:lnTo>
                    <a:lnTo>
                      <a:pt x="5702" y="1481"/>
                    </a:lnTo>
                    <a:lnTo>
                      <a:pt x="5686" y="1481"/>
                    </a:lnTo>
                    <a:lnTo>
                      <a:pt x="5668" y="1480"/>
                    </a:lnTo>
                    <a:lnTo>
                      <a:pt x="5649" y="1478"/>
                    </a:lnTo>
                    <a:lnTo>
                      <a:pt x="5631" y="1477"/>
                    </a:lnTo>
                    <a:lnTo>
                      <a:pt x="5614" y="1475"/>
                    </a:lnTo>
                    <a:lnTo>
                      <a:pt x="5599" y="1473"/>
                    </a:lnTo>
                    <a:lnTo>
                      <a:pt x="5585" y="1471"/>
                    </a:lnTo>
                    <a:lnTo>
                      <a:pt x="5570" y="1473"/>
                    </a:lnTo>
                    <a:lnTo>
                      <a:pt x="5553" y="1474"/>
                    </a:lnTo>
                    <a:lnTo>
                      <a:pt x="5537" y="1475"/>
                    </a:lnTo>
                    <a:lnTo>
                      <a:pt x="5521" y="1478"/>
                    </a:lnTo>
                    <a:lnTo>
                      <a:pt x="5506" y="1480"/>
                    </a:lnTo>
                    <a:lnTo>
                      <a:pt x="5493" y="1483"/>
                    </a:lnTo>
                    <a:lnTo>
                      <a:pt x="5481" y="1488"/>
                    </a:lnTo>
                    <a:lnTo>
                      <a:pt x="5466" y="1490"/>
                    </a:lnTo>
                    <a:lnTo>
                      <a:pt x="5447" y="1492"/>
                    </a:lnTo>
                    <a:lnTo>
                      <a:pt x="5424" y="1493"/>
                    </a:lnTo>
                    <a:lnTo>
                      <a:pt x="5398" y="1494"/>
                    </a:lnTo>
                    <a:lnTo>
                      <a:pt x="5372" y="1494"/>
                    </a:lnTo>
                    <a:lnTo>
                      <a:pt x="5345" y="1493"/>
                    </a:lnTo>
                    <a:lnTo>
                      <a:pt x="5320" y="1492"/>
                    </a:lnTo>
                    <a:lnTo>
                      <a:pt x="5297" y="1490"/>
                    </a:lnTo>
                    <a:lnTo>
                      <a:pt x="5276" y="1485"/>
                    </a:lnTo>
                    <a:lnTo>
                      <a:pt x="5254" y="1481"/>
                    </a:lnTo>
                    <a:lnTo>
                      <a:pt x="5231" y="1477"/>
                    </a:lnTo>
                    <a:lnTo>
                      <a:pt x="5209" y="1474"/>
                    </a:lnTo>
                    <a:lnTo>
                      <a:pt x="5197" y="1473"/>
                    </a:lnTo>
                    <a:lnTo>
                      <a:pt x="5185" y="1471"/>
                    </a:lnTo>
                    <a:lnTo>
                      <a:pt x="5174" y="1471"/>
                    </a:lnTo>
                    <a:lnTo>
                      <a:pt x="5162" y="1473"/>
                    </a:lnTo>
                    <a:lnTo>
                      <a:pt x="5150" y="1475"/>
                    </a:lnTo>
                    <a:lnTo>
                      <a:pt x="5140" y="1477"/>
                    </a:lnTo>
                    <a:lnTo>
                      <a:pt x="5128" y="1480"/>
                    </a:lnTo>
                    <a:lnTo>
                      <a:pt x="5117" y="1484"/>
                    </a:lnTo>
                    <a:lnTo>
                      <a:pt x="5110" y="1488"/>
                    </a:lnTo>
                    <a:lnTo>
                      <a:pt x="5103" y="1489"/>
                    </a:lnTo>
                    <a:lnTo>
                      <a:pt x="5093" y="1491"/>
                    </a:lnTo>
                    <a:lnTo>
                      <a:pt x="5082" y="1493"/>
                    </a:lnTo>
                    <a:lnTo>
                      <a:pt x="5058" y="1495"/>
                    </a:lnTo>
                    <a:lnTo>
                      <a:pt x="5028" y="1496"/>
                    </a:lnTo>
                    <a:lnTo>
                      <a:pt x="4964" y="1497"/>
                    </a:lnTo>
                    <a:lnTo>
                      <a:pt x="4893" y="1496"/>
                    </a:lnTo>
                    <a:lnTo>
                      <a:pt x="4826" y="1495"/>
                    </a:lnTo>
                    <a:lnTo>
                      <a:pt x="4768" y="1493"/>
                    </a:lnTo>
                    <a:lnTo>
                      <a:pt x="4727" y="1492"/>
                    </a:lnTo>
                    <a:lnTo>
                      <a:pt x="4710" y="1492"/>
                    </a:lnTo>
                    <a:lnTo>
                      <a:pt x="4700" y="1495"/>
                    </a:lnTo>
                    <a:lnTo>
                      <a:pt x="4680" y="1498"/>
                    </a:lnTo>
                    <a:lnTo>
                      <a:pt x="4653" y="1503"/>
                    </a:lnTo>
                    <a:lnTo>
                      <a:pt x="4622" y="1506"/>
                    </a:lnTo>
                    <a:lnTo>
                      <a:pt x="4591" y="1508"/>
                    </a:lnTo>
                    <a:lnTo>
                      <a:pt x="4562" y="1508"/>
                    </a:lnTo>
                    <a:lnTo>
                      <a:pt x="4550" y="1507"/>
                    </a:lnTo>
                    <a:lnTo>
                      <a:pt x="4539" y="1506"/>
                    </a:lnTo>
                    <a:lnTo>
                      <a:pt x="4531" y="1503"/>
                    </a:lnTo>
                    <a:lnTo>
                      <a:pt x="4526" y="1500"/>
                    </a:lnTo>
                    <a:lnTo>
                      <a:pt x="4513" y="1502"/>
                    </a:lnTo>
                    <a:lnTo>
                      <a:pt x="4475" y="1508"/>
                    </a:lnTo>
                    <a:lnTo>
                      <a:pt x="4420" y="1516"/>
                    </a:lnTo>
                    <a:lnTo>
                      <a:pt x="4351" y="1523"/>
                    </a:lnTo>
                    <a:lnTo>
                      <a:pt x="4313" y="1527"/>
                    </a:lnTo>
                    <a:lnTo>
                      <a:pt x="4273" y="1528"/>
                    </a:lnTo>
                    <a:lnTo>
                      <a:pt x="4233" y="1529"/>
                    </a:lnTo>
                    <a:lnTo>
                      <a:pt x="4193" y="1528"/>
                    </a:lnTo>
                    <a:lnTo>
                      <a:pt x="4153" y="1525"/>
                    </a:lnTo>
                    <a:lnTo>
                      <a:pt x="4116" y="1521"/>
                    </a:lnTo>
                    <a:lnTo>
                      <a:pt x="4096" y="1518"/>
                    </a:lnTo>
                    <a:lnTo>
                      <a:pt x="4079" y="1514"/>
                    </a:lnTo>
                    <a:lnTo>
                      <a:pt x="4060" y="1509"/>
                    </a:lnTo>
                    <a:lnTo>
                      <a:pt x="4044" y="1505"/>
                    </a:lnTo>
                    <a:lnTo>
                      <a:pt x="4029" y="1505"/>
                    </a:lnTo>
                    <a:lnTo>
                      <a:pt x="3987" y="1506"/>
                    </a:lnTo>
                    <a:lnTo>
                      <a:pt x="3924" y="1507"/>
                    </a:lnTo>
                    <a:lnTo>
                      <a:pt x="3849" y="1509"/>
                    </a:lnTo>
                    <a:lnTo>
                      <a:pt x="3767" y="1510"/>
                    </a:lnTo>
                    <a:lnTo>
                      <a:pt x="3683" y="1510"/>
                    </a:lnTo>
                    <a:lnTo>
                      <a:pt x="3607" y="1510"/>
                    </a:lnTo>
                    <a:lnTo>
                      <a:pt x="3542" y="1509"/>
                    </a:lnTo>
                    <a:lnTo>
                      <a:pt x="3497" y="1512"/>
                    </a:lnTo>
                    <a:lnTo>
                      <a:pt x="3447" y="1519"/>
                    </a:lnTo>
                    <a:lnTo>
                      <a:pt x="3395" y="1525"/>
                    </a:lnTo>
                    <a:lnTo>
                      <a:pt x="3340" y="1532"/>
                    </a:lnTo>
                    <a:lnTo>
                      <a:pt x="3311" y="1535"/>
                    </a:lnTo>
                    <a:lnTo>
                      <a:pt x="3282" y="1537"/>
                    </a:lnTo>
                    <a:lnTo>
                      <a:pt x="3251" y="1538"/>
                    </a:lnTo>
                    <a:lnTo>
                      <a:pt x="3220" y="1539"/>
                    </a:lnTo>
                    <a:lnTo>
                      <a:pt x="3188" y="1538"/>
                    </a:lnTo>
                    <a:lnTo>
                      <a:pt x="3155" y="1537"/>
                    </a:lnTo>
                    <a:lnTo>
                      <a:pt x="3122" y="1534"/>
                    </a:lnTo>
                    <a:lnTo>
                      <a:pt x="3087" y="1529"/>
                    </a:lnTo>
                    <a:lnTo>
                      <a:pt x="3054" y="1524"/>
                    </a:lnTo>
                    <a:lnTo>
                      <a:pt x="3022" y="1521"/>
                    </a:lnTo>
                    <a:lnTo>
                      <a:pt x="2993" y="1519"/>
                    </a:lnTo>
                    <a:lnTo>
                      <a:pt x="2967" y="1517"/>
                    </a:lnTo>
                    <a:lnTo>
                      <a:pt x="2942" y="1517"/>
                    </a:lnTo>
                    <a:lnTo>
                      <a:pt x="2921" y="1516"/>
                    </a:lnTo>
                    <a:lnTo>
                      <a:pt x="2900" y="1517"/>
                    </a:lnTo>
                    <a:lnTo>
                      <a:pt x="2882" y="1518"/>
                    </a:lnTo>
                    <a:lnTo>
                      <a:pt x="2849" y="1521"/>
                    </a:lnTo>
                    <a:lnTo>
                      <a:pt x="2822" y="1525"/>
                    </a:lnTo>
                    <a:lnTo>
                      <a:pt x="2799" y="1530"/>
                    </a:lnTo>
                    <a:lnTo>
                      <a:pt x="2778" y="1534"/>
                    </a:lnTo>
                    <a:lnTo>
                      <a:pt x="2767" y="1535"/>
                    </a:lnTo>
                    <a:lnTo>
                      <a:pt x="2755" y="1535"/>
                    </a:lnTo>
                    <a:lnTo>
                      <a:pt x="2742" y="1534"/>
                    </a:lnTo>
                    <a:lnTo>
                      <a:pt x="2728" y="1533"/>
                    </a:lnTo>
                    <a:lnTo>
                      <a:pt x="2699" y="1529"/>
                    </a:lnTo>
                    <a:lnTo>
                      <a:pt x="2669" y="1523"/>
                    </a:lnTo>
                    <a:lnTo>
                      <a:pt x="2642" y="1518"/>
                    </a:lnTo>
                    <a:lnTo>
                      <a:pt x="2618" y="1514"/>
                    </a:lnTo>
                    <a:lnTo>
                      <a:pt x="2602" y="1510"/>
                    </a:lnTo>
                    <a:lnTo>
                      <a:pt x="2596" y="1509"/>
                    </a:lnTo>
                    <a:lnTo>
                      <a:pt x="2587" y="1512"/>
                    </a:lnTo>
                    <a:lnTo>
                      <a:pt x="2570" y="1519"/>
                    </a:lnTo>
                    <a:lnTo>
                      <a:pt x="2545" y="1528"/>
                    </a:lnTo>
                    <a:lnTo>
                      <a:pt x="2516" y="1535"/>
                    </a:lnTo>
                    <a:lnTo>
                      <a:pt x="2499" y="1538"/>
                    </a:lnTo>
                    <a:lnTo>
                      <a:pt x="2484" y="1541"/>
                    </a:lnTo>
                    <a:lnTo>
                      <a:pt x="2470" y="1542"/>
                    </a:lnTo>
                    <a:lnTo>
                      <a:pt x="2456" y="1542"/>
                    </a:lnTo>
                    <a:lnTo>
                      <a:pt x="2443" y="1541"/>
                    </a:lnTo>
                    <a:lnTo>
                      <a:pt x="2431" y="1537"/>
                    </a:lnTo>
                    <a:lnTo>
                      <a:pt x="2426" y="1535"/>
                    </a:lnTo>
                    <a:lnTo>
                      <a:pt x="2422" y="1532"/>
                    </a:lnTo>
                    <a:lnTo>
                      <a:pt x="2418" y="1529"/>
                    </a:lnTo>
                    <a:lnTo>
                      <a:pt x="2415" y="1524"/>
                    </a:lnTo>
                    <a:lnTo>
                      <a:pt x="2411" y="1523"/>
                    </a:lnTo>
                    <a:lnTo>
                      <a:pt x="2400" y="1522"/>
                    </a:lnTo>
                    <a:lnTo>
                      <a:pt x="2385" y="1519"/>
                    </a:lnTo>
                    <a:lnTo>
                      <a:pt x="2367" y="1517"/>
                    </a:lnTo>
                    <a:lnTo>
                      <a:pt x="2348" y="1515"/>
                    </a:lnTo>
                    <a:lnTo>
                      <a:pt x="2331" y="1514"/>
                    </a:lnTo>
                    <a:lnTo>
                      <a:pt x="2324" y="1514"/>
                    </a:lnTo>
                    <a:lnTo>
                      <a:pt x="2318" y="1515"/>
                    </a:lnTo>
                    <a:lnTo>
                      <a:pt x="2314" y="1516"/>
                    </a:lnTo>
                    <a:lnTo>
                      <a:pt x="2310" y="1517"/>
                    </a:lnTo>
                    <a:lnTo>
                      <a:pt x="2308" y="1520"/>
                    </a:lnTo>
                    <a:lnTo>
                      <a:pt x="2303" y="1524"/>
                    </a:lnTo>
                    <a:lnTo>
                      <a:pt x="2295" y="1527"/>
                    </a:lnTo>
                    <a:lnTo>
                      <a:pt x="2284" y="1530"/>
                    </a:lnTo>
                    <a:lnTo>
                      <a:pt x="2257" y="1535"/>
                    </a:lnTo>
                    <a:lnTo>
                      <a:pt x="2225" y="1539"/>
                    </a:lnTo>
                    <a:lnTo>
                      <a:pt x="2187" y="1543"/>
                    </a:lnTo>
                    <a:lnTo>
                      <a:pt x="2148" y="1546"/>
                    </a:lnTo>
                    <a:lnTo>
                      <a:pt x="2109" y="1548"/>
                    </a:lnTo>
                    <a:lnTo>
                      <a:pt x="2074" y="1549"/>
                    </a:lnTo>
                    <a:lnTo>
                      <a:pt x="2033" y="1549"/>
                    </a:lnTo>
                    <a:lnTo>
                      <a:pt x="1982" y="1549"/>
                    </a:lnTo>
                    <a:lnTo>
                      <a:pt x="1925" y="1547"/>
                    </a:lnTo>
                    <a:lnTo>
                      <a:pt x="1863" y="1545"/>
                    </a:lnTo>
                    <a:lnTo>
                      <a:pt x="1800" y="1544"/>
                    </a:lnTo>
                    <a:lnTo>
                      <a:pt x="1740" y="1544"/>
                    </a:lnTo>
                    <a:lnTo>
                      <a:pt x="1712" y="1544"/>
                    </a:lnTo>
                    <a:lnTo>
                      <a:pt x="1686" y="1546"/>
                    </a:lnTo>
                    <a:lnTo>
                      <a:pt x="1662" y="1548"/>
                    </a:lnTo>
                    <a:lnTo>
                      <a:pt x="1641" y="1551"/>
                    </a:lnTo>
                    <a:lnTo>
                      <a:pt x="1601" y="1557"/>
                    </a:lnTo>
                    <a:lnTo>
                      <a:pt x="1556" y="1562"/>
                    </a:lnTo>
                    <a:lnTo>
                      <a:pt x="1510" y="1565"/>
                    </a:lnTo>
                    <a:lnTo>
                      <a:pt x="1465" y="1566"/>
                    </a:lnTo>
                    <a:lnTo>
                      <a:pt x="1420" y="1568"/>
                    </a:lnTo>
                    <a:lnTo>
                      <a:pt x="1379" y="1568"/>
                    </a:lnTo>
                    <a:lnTo>
                      <a:pt x="1345" y="1566"/>
                    </a:lnTo>
                    <a:lnTo>
                      <a:pt x="1317" y="1564"/>
                    </a:lnTo>
                    <a:lnTo>
                      <a:pt x="1294" y="1563"/>
                    </a:lnTo>
                    <a:lnTo>
                      <a:pt x="1272" y="1563"/>
                    </a:lnTo>
                    <a:lnTo>
                      <a:pt x="1252" y="1565"/>
                    </a:lnTo>
                    <a:lnTo>
                      <a:pt x="1233" y="1568"/>
                    </a:lnTo>
                    <a:lnTo>
                      <a:pt x="1217" y="1570"/>
                    </a:lnTo>
                    <a:lnTo>
                      <a:pt x="1202" y="1573"/>
                    </a:lnTo>
                    <a:lnTo>
                      <a:pt x="1190" y="1575"/>
                    </a:lnTo>
                    <a:lnTo>
                      <a:pt x="1182" y="1576"/>
                    </a:lnTo>
                    <a:lnTo>
                      <a:pt x="1167" y="1577"/>
                    </a:lnTo>
                    <a:lnTo>
                      <a:pt x="1146" y="1579"/>
                    </a:lnTo>
                    <a:lnTo>
                      <a:pt x="1117" y="1582"/>
                    </a:lnTo>
                    <a:lnTo>
                      <a:pt x="1082" y="1583"/>
                    </a:lnTo>
                    <a:lnTo>
                      <a:pt x="1044" y="1583"/>
                    </a:lnTo>
                    <a:lnTo>
                      <a:pt x="1003" y="1582"/>
                    </a:lnTo>
                    <a:lnTo>
                      <a:pt x="984" y="1581"/>
                    </a:lnTo>
                    <a:lnTo>
                      <a:pt x="963" y="1578"/>
                    </a:lnTo>
                    <a:lnTo>
                      <a:pt x="943" y="1576"/>
                    </a:lnTo>
                    <a:lnTo>
                      <a:pt x="923" y="1574"/>
                    </a:lnTo>
                    <a:lnTo>
                      <a:pt x="886" y="1568"/>
                    </a:lnTo>
                    <a:lnTo>
                      <a:pt x="850" y="1562"/>
                    </a:lnTo>
                    <a:lnTo>
                      <a:pt x="816" y="1559"/>
                    </a:lnTo>
                    <a:lnTo>
                      <a:pt x="785" y="1558"/>
                    </a:lnTo>
                    <a:lnTo>
                      <a:pt x="755" y="1558"/>
                    </a:lnTo>
                    <a:lnTo>
                      <a:pt x="727" y="1560"/>
                    </a:lnTo>
                    <a:lnTo>
                      <a:pt x="713" y="1562"/>
                    </a:lnTo>
                    <a:lnTo>
                      <a:pt x="700" y="1565"/>
                    </a:lnTo>
                    <a:lnTo>
                      <a:pt x="687" y="1568"/>
                    </a:lnTo>
                    <a:lnTo>
                      <a:pt x="674" y="1571"/>
                    </a:lnTo>
                    <a:lnTo>
                      <a:pt x="660" y="1575"/>
                    </a:lnTo>
                    <a:lnTo>
                      <a:pt x="644" y="1578"/>
                    </a:lnTo>
                    <a:lnTo>
                      <a:pt x="625" y="1582"/>
                    </a:lnTo>
                    <a:lnTo>
                      <a:pt x="605" y="1584"/>
                    </a:lnTo>
                    <a:lnTo>
                      <a:pt x="583" y="1586"/>
                    </a:lnTo>
                    <a:lnTo>
                      <a:pt x="559" y="1587"/>
                    </a:lnTo>
                    <a:lnTo>
                      <a:pt x="536" y="1588"/>
                    </a:lnTo>
                    <a:lnTo>
                      <a:pt x="511" y="1588"/>
                    </a:lnTo>
                    <a:lnTo>
                      <a:pt x="486" y="1587"/>
                    </a:lnTo>
                    <a:lnTo>
                      <a:pt x="460" y="1586"/>
                    </a:lnTo>
                    <a:lnTo>
                      <a:pt x="435" y="1584"/>
                    </a:lnTo>
                    <a:lnTo>
                      <a:pt x="410" y="1581"/>
                    </a:lnTo>
                    <a:lnTo>
                      <a:pt x="385" y="1577"/>
                    </a:lnTo>
                    <a:lnTo>
                      <a:pt x="362" y="1573"/>
                    </a:lnTo>
                    <a:lnTo>
                      <a:pt x="339" y="1568"/>
                    </a:lnTo>
                    <a:lnTo>
                      <a:pt x="318" y="1561"/>
                    </a:lnTo>
                    <a:lnTo>
                      <a:pt x="279" y="1550"/>
                    </a:lnTo>
                    <a:lnTo>
                      <a:pt x="246" y="1542"/>
                    </a:lnTo>
                    <a:lnTo>
                      <a:pt x="217" y="1534"/>
                    </a:lnTo>
                    <a:lnTo>
                      <a:pt x="193" y="1528"/>
                    </a:lnTo>
                    <a:lnTo>
                      <a:pt x="173" y="1523"/>
                    </a:lnTo>
                    <a:lnTo>
                      <a:pt x="156" y="1519"/>
                    </a:lnTo>
                    <a:lnTo>
                      <a:pt x="146" y="1517"/>
                    </a:lnTo>
                    <a:lnTo>
                      <a:pt x="138" y="1515"/>
                    </a:lnTo>
                    <a:lnTo>
                      <a:pt x="134" y="1514"/>
                    </a:lnTo>
                    <a:lnTo>
                      <a:pt x="129" y="1514"/>
                    </a:lnTo>
                    <a:lnTo>
                      <a:pt x="124" y="1514"/>
                    </a:lnTo>
                    <a:lnTo>
                      <a:pt x="119" y="1515"/>
                    </a:lnTo>
                    <a:lnTo>
                      <a:pt x="106" y="1517"/>
                    </a:lnTo>
                    <a:lnTo>
                      <a:pt x="92" y="1519"/>
                    </a:lnTo>
                    <a:lnTo>
                      <a:pt x="84" y="1520"/>
                    </a:lnTo>
                    <a:lnTo>
                      <a:pt x="77" y="1520"/>
                    </a:lnTo>
                    <a:lnTo>
                      <a:pt x="71" y="1519"/>
                    </a:lnTo>
                    <a:lnTo>
                      <a:pt x="65" y="1518"/>
                    </a:lnTo>
                    <a:lnTo>
                      <a:pt x="58" y="1515"/>
                    </a:lnTo>
                    <a:lnTo>
                      <a:pt x="53" y="1511"/>
                    </a:lnTo>
                    <a:lnTo>
                      <a:pt x="48" y="1506"/>
                    </a:lnTo>
                    <a:lnTo>
                      <a:pt x="44" y="1500"/>
                    </a:lnTo>
                    <a:lnTo>
                      <a:pt x="36" y="1484"/>
                    </a:lnTo>
                    <a:lnTo>
                      <a:pt x="29" y="1466"/>
                    </a:lnTo>
                    <a:lnTo>
                      <a:pt x="21" y="1447"/>
                    </a:lnTo>
                    <a:lnTo>
                      <a:pt x="15" y="1428"/>
                    </a:lnTo>
                    <a:lnTo>
                      <a:pt x="9" y="1411"/>
                    </a:lnTo>
                    <a:lnTo>
                      <a:pt x="4" y="1396"/>
                    </a:lnTo>
                    <a:lnTo>
                      <a:pt x="1" y="1386"/>
                    </a:lnTo>
                    <a:lnTo>
                      <a:pt x="0" y="1381"/>
                    </a:lnTo>
                    <a:lnTo>
                      <a:pt x="21" y="1393"/>
                    </a:lnTo>
                    <a:lnTo>
                      <a:pt x="43" y="1404"/>
                    </a:lnTo>
                    <a:lnTo>
                      <a:pt x="65" y="1415"/>
                    </a:lnTo>
                    <a:lnTo>
                      <a:pt x="86" y="1425"/>
                    </a:lnTo>
                    <a:lnTo>
                      <a:pt x="97" y="1428"/>
                    </a:lnTo>
                    <a:lnTo>
                      <a:pt x="108" y="1431"/>
                    </a:lnTo>
                    <a:lnTo>
                      <a:pt x="119" y="1434"/>
                    </a:lnTo>
                    <a:lnTo>
                      <a:pt x="128" y="1435"/>
                    </a:lnTo>
                    <a:lnTo>
                      <a:pt x="139" y="1435"/>
                    </a:lnTo>
                    <a:lnTo>
                      <a:pt x="149" y="1434"/>
                    </a:lnTo>
                    <a:lnTo>
                      <a:pt x="160" y="1431"/>
                    </a:lnTo>
                    <a:lnTo>
                      <a:pt x="169" y="1428"/>
                    </a:lnTo>
                    <a:lnTo>
                      <a:pt x="181" y="1425"/>
                    </a:lnTo>
                    <a:lnTo>
                      <a:pt x="193" y="1421"/>
                    </a:lnTo>
                    <a:lnTo>
                      <a:pt x="205" y="1415"/>
                    </a:lnTo>
                    <a:lnTo>
                      <a:pt x="216" y="1409"/>
                    </a:lnTo>
                    <a:lnTo>
                      <a:pt x="237" y="1395"/>
                    </a:lnTo>
                    <a:lnTo>
                      <a:pt x="257" y="1381"/>
                    </a:lnTo>
                    <a:lnTo>
                      <a:pt x="275" y="1368"/>
                    </a:lnTo>
                    <a:lnTo>
                      <a:pt x="292" y="1358"/>
                    </a:lnTo>
                    <a:lnTo>
                      <a:pt x="300" y="1356"/>
                    </a:lnTo>
                    <a:lnTo>
                      <a:pt x="308" y="1354"/>
                    </a:lnTo>
                    <a:lnTo>
                      <a:pt x="314" y="1354"/>
                    </a:lnTo>
                    <a:lnTo>
                      <a:pt x="321" y="1356"/>
                    </a:lnTo>
                    <a:lnTo>
                      <a:pt x="333" y="1347"/>
                    </a:lnTo>
                    <a:lnTo>
                      <a:pt x="350" y="1340"/>
                    </a:lnTo>
                    <a:lnTo>
                      <a:pt x="368" y="1332"/>
                    </a:lnTo>
                    <a:lnTo>
                      <a:pt x="388" y="1327"/>
                    </a:lnTo>
                    <a:lnTo>
                      <a:pt x="409" y="1321"/>
                    </a:lnTo>
                    <a:lnTo>
                      <a:pt x="431" y="1317"/>
                    </a:lnTo>
                    <a:lnTo>
                      <a:pt x="454" y="1315"/>
                    </a:lnTo>
                    <a:lnTo>
                      <a:pt x="479" y="1313"/>
                    </a:lnTo>
                    <a:lnTo>
                      <a:pt x="503" y="1313"/>
                    </a:lnTo>
                    <a:lnTo>
                      <a:pt x="528" y="1313"/>
                    </a:lnTo>
                    <a:lnTo>
                      <a:pt x="552" y="1315"/>
                    </a:lnTo>
                    <a:lnTo>
                      <a:pt x="575" y="1318"/>
                    </a:lnTo>
                    <a:lnTo>
                      <a:pt x="598" y="1322"/>
                    </a:lnTo>
                    <a:lnTo>
                      <a:pt x="621" y="1328"/>
                    </a:lnTo>
                    <a:lnTo>
                      <a:pt x="640" y="1335"/>
                    </a:lnTo>
                    <a:lnTo>
                      <a:pt x="660" y="1344"/>
                    </a:lnTo>
                    <a:lnTo>
                      <a:pt x="665" y="1345"/>
                    </a:lnTo>
                    <a:lnTo>
                      <a:pt x="672" y="1345"/>
                    </a:lnTo>
                    <a:lnTo>
                      <a:pt x="679" y="1344"/>
                    </a:lnTo>
                    <a:lnTo>
                      <a:pt x="688" y="1343"/>
                    </a:lnTo>
                    <a:lnTo>
                      <a:pt x="708" y="1339"/>
                    </a:lnTo>
                    <a:lnTo>
                      <a:pt x="732" y="1331"/>
                    </a:lnTo>
                    <a:lnTo>
                      <a:pt x="786" y="1314"/>
                    </a:lnTo>
                    <a:lnTo>
                      <a:pt x="847" y="1292"/>
                    </a:lnTo>
                    <a:lnTo>
                      <a:pt x="877" y="1282"/>
                    </a:lnTo>
                    <a:lnTo>
                      <a:pt x="907" y="1273"/>
                    </a:lnTo>
                    <a:lnTo>
                      <a:pt x="937" y="1265"/>
                    </a:lnTo>
                    <a:lnTo>
                      <a:pt x="964" y="1259"/>
                    </a:lnTo>
                    <a:lnTo>
                      <a:pt x="978" y="1255"/>
                    </a:lnTo>
                    <a:lnTo>
                      <a:pt x="990" y="1254"/>
                    </a:lnTo>
                    <a:lnTo>
                      <a:pt x="1003" y="1253"/>
                    </a:lnTo>
                    <a:lnTo>
                      <a:pt x="1014" y="1252"/>
                    </a:lnTo>
                    <a:lnTo>
                      <a:pt x="1025" y="1253"/>
                    </a:lnTo>
                    <a:lnTo>
                      <a:pt x="1034" y="1254"/>
                    </a:lnTo>
                    <a:lnTo>
                      <a:pt x="1042" y="1257"/>
                    </a:lnTo>
                    <a:lnTo>
                      <a:pt x="1050" y="1260"/>
                    </a:lnTo>
                    <a:lnTo>
                      <a:pt x="1054" y="1261"/>
                    </a:lnTo>
                    <a:lnTo>
                      <a:pt x="1059" y="1262"/>
                    </a:lnTo>
                    <a:lnTo>
                      <a:pt x="1066" y="1263"/>
                    </a:lnTo>
                    <a:lnTo>
                      <a:pt x="1072" y="1262"/>
                    </a:lnTo>
                    <a:lnTo>
                      <a:pt x="1090" y="1261"/>
                    </a:lnTo>
                    <a:lnTo>
                      <a:pt x="1110" y="1257"/>
                    </a:lnTo>
                    <a:lnTo>
                      <a:pt x="1158" y="1247"/>
                    </a:lnTo>
                    <a:lnTo>
                      <a:pt x="1212" y="1234"/>
                    </a:lnTo>
                    <a:lnTo>
                      <a:pt x="1239" y="1227"/>
                    </a:lnTo>
                    <a:lnTo>
                      <a:pt x="1267" y="1222"/>
                    </a:lnTo>
                    <a:lnTo>
                      <a:pt x="1294" y="1217"/>
                    </a:lnTo>
                    <a:lnTo>
                      <a:pt x="1319" y="1212"/>
                    </a:lnTo>
                    <a:lnTo>
                      <a:pt x="1342" y="1210"/>
                    </a:lnTo>
                    <a:lnTo>
                      <a:pt x="1364" y="1209"/>
                    </a:lnTo>
                    <a:lnTo>
                      <a:pt x="1374" y="1210"/>
                    </a:lnTo>
                    <a:lnTo>
                      <a:pt x="1384" y="1211"/>
                    </a:lnTo>
                    <a:lnTo>
                      <a:pt x="1391" y="1213"/>
                    </a:lnTo>
                    <a:lnTo>
                      <a:pt x="1399" y="1215"/>
                    </a:lnTo>
                    <a:lnTo>
                      <a:pt x="1406" y="1213"/>
                    </a:lnTo>
                    <a:lnTo>
                      <a:pt x="1421" y="1208"/>
                    </a:lnTo>
                    <a:lnTo>
                      <a:pt x="1444" y="1198"/>
                    </a:lnTo>
                    <a:lnTo>
                      <a:pt x="1473" y="1186"/>
                    </a:lnTo>
                    <a:lnTo>
                      <a:pt x="1507" y="1172"/>
                    </a:lnTo>
                    <a:lnTo>
                      <a:pt x="1544" y="1157"/>
                    </a:lnTo>
                    <a:lnTo>
                      <a:pt x="1586" y="1142"/>
                    </a:lnTo>
                    <a:lnTo>
                      <a:pt x="1629" y="1129"/>
                    </a:lnTo>
                    <a:lnTo>
                      <a:pt x="1667" y="1120"/>
                    </a:lnTo>
                    <a:lnTo>
                      <a:pt x="1704" y="1113"/>
                    </a:lnTo>
                    <a:lnTo>
                      <a:pt x="1742" y="1104"/>
                    </a:lnTo>
                    <a:lnTo>
                      <a:pt x="1782" y="1095"/>
                    </a:lnTo>
                    <a:lnTo>
                      <a:pt x="1825" y="1083"/>
                    </a:lnTo>
                    <a:lnTo>
                      <a:pt x="1873" y="1069"/>
                    </a:lnTo>
                    <a:lnTo>
                      <a:pt x="1925" y="1050"/>
                    </a:lnTo>
                    <a:lnTo>
                      <a:pt x="1984" y="1028"/>
                    </a:lnTo>
                    <a:close/>
                  </a:path>
                </a:pathLst>
              </a:custGeom>
              <a:solidFill>
                <a:srgbClr val="98c4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5902200" y="3233880"/>
                <a:ext cx="1866960" cy="496800"/>
              </a:xfrm>
              <a:custGeom>
                <a:avLst/>
                <a:gdLst/>
                <a:ahLst/>
                <a:rect l="l" t="t" r="r" b="b"/>
                <a:pathLst>
                  <a:path w="5878" h="1565">
                    <a:moveTo>
                      <a:pt x="1980" y="1084"/>
                    </a:moveTo>
                    <a:lnTo>
                      <a:pt x="2020" y="1061"/>
                    </a:lnTo>
                    <a:lnTo>
                      <a:pt x="2070" y="1033"/>
                    </a:lnTo>
                    <a:lnTo>
                      <a:pt x="2128" y="998"/>
                    </a:lnTo>
                    <a:lnTo>
                      <a:pt x="2193" y="958"/>
                    </a:lnTo>
                    <a:lnTo>
                      <a:pt x="2264" y="912"/>
                    </a:lnTo>
                    <a:lnTo>
                      <a:pt x="2339" y="863"/>
                    </a:lnTo>
                    <a:lnTo>
                      <a:pt x="2417" y="811"/>
                    </a:lnTo>
                    <a:lnTo>
                      <a:pt x="2497" y="757"/>
                    </a:lnTo>
                    <a:lnTo>
                      <a:pt x="2575" y="701"/>
                    </a:lnTo>
                    <a:lnTo>
                      <a:pt x="2653" y="643"/>
                    </a:lnTo>
                    <a:lnTo>
                      <a:pt x="2728" y="586"/>
                    </a:lnTo>
                    <a:lnTo>
                      <a:pt x="2799" y="530"/>
                    </a:lnTo>
                    <a:lnTo>
                      <a:pt x="2832" y="502"/>
                    </a:lnTo>
                    <a:lnTo>
                      <a:pt x="2864" y="475"/>
                    </a:lnTo>
                    <a:lnTo>
                      <a:pt x="2894" y="448"/>
                    </a:lnTo>
                    <a:lnTo>
                      <a:pt x="2922" y="422"/>
                    </a:lnTo>
                    <a:lnTo>
                      <a:pt x="2948" y="397"/>
                    </a:lnTo>
                    <a:lnTo>
                      <a:pt x="2972" y="373"/>
                    </a:lnTo>
                    <a:lnTo>
                      <a:pt x="2993" y="350"/>
                    </a:lnTo>
                    <a:lnTo>
                      <a:pt x="3012" y="327"/>
                    </a:lnTo>
                    <a:lnTo>
                      <a:pt x="3030" y="316"/>
                    </a:lnTo>
                    <a:lnTo>
                      <a:pt x="3047" y="308"/>
                    </a:lnTo>
                    <a:lnTo>
                      <a:pt x="3064" y="301"/>
                    </a:lnTo>
                    <a:lnTo>
                      <a:pt x="3080" y="295"/>
                    </a:lnTo>
                    <a:lnTo>
                      <a:pt x="3112" y="286"/>
                    </a:lnTo>
                    <a:lnTo>
                      <a:pt x="3148" y="278"/>
                    </a:lnTo>
                    <a:lnTo>
                      <a:pt x="3190" y="269"/>
                    </a:lnTo>
                    <a:lnTo>
                      <a:pt x="3243" y="256"/>
                    </a:lnTo>
                    <a:lnTo>
                      <a:pt x="3274" y="247"/>
                    </a:lnTo>
                    <a:lnTo>
                      <a:pt x="3309" y="236"/>
                    </a:lnTo>
                    <a:lnTo>
                      <a:pt x="3349" y="224"/>
                    </a:lnTo>
                    <a:lnTo>
                      <a:pt x="3392" y="208"/>
                    </a:lnTo>
                    <a:lnTo>
                      <a:pt x="3455" y="174"/>
                    </a:lnTo>
                    <a:lnTo>
                      <a:pt x="3525" y="136"/>
                    </a:lnTo>
                    <a:lnTo>
                      <a:pt x="3564" y="117"/>
                    </a:lnTo>
                    <a:lnTo>
                      <a:pt x="3603" y="98"/>
                    </a:lnTo>
                    <a:lnTo>
                      <a:pt x="3645" y="81"/>
                    </a:lnTo>
                    <a:lnTo>
                      <a:pt x="3688" y="63"/>
                    </a:lnTo>
                    <a:lnTo>
                      <a:pt x="3711" y="55"/>
                    </a:lnTo>
                    <a:lnTo>
                      <a:pt x="3733" y="47"/>
                    </a:lnTo>
                    <a:lnTo>
                      <a:pt x="3757" y="41"/>
                    </a:lnTo>
                    <a:lnTo>
                      <a:pt x="3781" y="33"/>
                    </a:lnTo>
                    <a:lnTo>
                      <a:pt x="3806" y="27"/>
                    </a:lnTo>
                    <a:lnTo>
                      <a:pt x="3831" y="21"/>
                    </a:lnTo>
                    <a:lnTo>
                      <a:pt x="3855" y="16"/>
                    </a:lnTo>
                    <a:lnTo>
                      <a:pt x="3881" y="12"/>
                    </a:lnTo>
                    <a:lnTo>
                      <a:pt x="3908" y="8"/>
                    </a:lnTo>
                    <a:lnTo>
                      <a:pt x="3935" y="5"/>
                    </a:lnTo>
                    <a:lnTo>
                      <a:pt x="3962" y="3"/>
                    </a:lnTo>
                    <a:lnTo>
                      <a:pt x="3991" y="1"/>
                    </a:lnTo>
                    <a:lnTo>
                      <a:pt x="4019" y="0"/>
                    </a:lnTo>
                    <a:lnTo>
                      <a:pt x="4048" y="0"/>
                    </a:lnTo>
                    <a:lnTo>
                      <a:pt x="4077" y="1"/>
                    </a:lnTo>
                    <a:lnTo>
                      <a:pt x="4107" y="3"/>
                    </a:lnTo>
                    <a:lnTo>
                      <a:pt x="4146" y="6"/>
                    </a:lnTo>
                    <a:lnTo>
                      <a:pt x="4185" y="11"/>
                    </a:lnTo>
                    <a:lnTo>
                      <a:pt x="4223" y="14"/>
                    </a:lnTo>
                    <a:lnTo>
                      <a:pt x="4258" y="19"/>
                    </a:lnTo>
                    <a:lnTo>
                      <a:pt x="4293" y="25"/>
                    </a:lnTo>
                    <a:lnTo>
                      <a:pt x="4326" y="31"/>
                    </a:lnTo>
                    <a:lnTo>
                      <a:pt x="4359" y="40"/>
                    </a:lnTo>
                    <a:lnTo>
                      <a:pt x="4390" y="49"/>
                    </a:lnTo>
                    <a:lnTo>
                      <a:pt x="4405" y="56"/>
                    </a:lnTo>
                    <a:lnTo>
                      <a:pt x="4420" y="62"/>
                    </a:lnTo>
                    <a:lnTo>
                      <a:pt x="4435" y="69"/>
                    </a:lnTo>
                    <a:lnTo>
                      <a:pt x="4450" y="76"/>
                    </a:lnTo>
                    <a:lnTo>
                      <a:pt x="4464" y="85"/>
                    </a:lnTo>
                    <a:lnTo>
                      <a:pt x="4477" y="94"/>
                    </a:lnTo>
                    <a:lnTo>
                      <a:pt x="4490" y="103"/>
                    </a:lnTo>
                    <a:lnTo>
                      <a:pt x="4504" y="113"/>
                    </a:lnTo>
                    <a:lnTo>
                      <a:pt x="4516" y="124"/>
                    </a:lnTo>
                    <a:lnTo>
                      <a:pt x="4528" y="136"/>
                    </a:lnTo>
                    <a:lnTo>
                      <a:pt x="4540" y="149"/>
                    </a:lnTo>
                    <a:lnTo>
                      <a:pt x="4552" y="163"/>
                    </a:lnTo>
                    <a:lnTo>
                      <a:pt x="4564" y="177"/>
                    </a:lnTo>
                    <a:lnTo>
                      <a:pt x="4575" y="192"/>
                    </a:lnTo>
                    <a:lnTo>
                      <a:pt x="4586" y="208"/>
                    </a:lnTo>
                    <a:lnTo>
                      <a:pt x="4597" y="225"/>
                    </a:lnTo>
                    <a:lnTo>
                      <a:pt x="4602" y="237"/>
                    </a:lnTo>
                    <a:lnTo>
                      <a:pt x="4608" y="248"/>
                    </a:lnTo>
                    <a:lnTo>
                      <a:pt x="4615" y="259"/>
                    </a:lnTo>
                    <a:lnTo>
                      <a:pt x="4622" y="271"/>
                    </a:lnTo>
                    <a:lnTo>
                      <a:pt x="4640" y="294"/>
                    </a:lnTo>
                    <a:lnTo>
                      <a:pt x="4658" y="316"/>
                    </a:lnTo>
                    <a:lnTo>
                      <a:pt x="4680" y="340"/>
                    </a:lnTo>
                    <a:lnTo>
                      <a:pt x="4702" y="364"/>
                    </a:lnTo>
                    <a:lnTo>
                      <a:pt x="4727" y="387"/>
                    </a:lnTo>
                    <a:lnTo>
                      <a:pt x="4753" y="412"/>
                    </a:lnTo>
                    <a:lnTo>
                      <a:pt x="4807" y="462"/>
                    </a:lnTo>
                    <a:lnTo>
                      <a:pt x="4863" y="515"/>
                    </a:lnTo>
                    <a:lnTo>
                      <a:pt x="4893" y="542"/>
                    </a:lnTo>
                    <a:lnTo>
                      <a:pt x="4921" y="569"/>
                    </a:lnTo>
                    <a:lnTo>
                      <a:pt x="4948" y="597"/>
                    </a:lnTo>
                    <a:lnTo>
                      <a:pt x="4975" y="626"/>
                    </a:lnTo>
                    <a:lnTo>
                      <a:pt x="4985" y="639"/>
                    </a:lnTo>
                    <a:lnTo>
                      <a:pt x="4996" y="651"/>
                    </a:lnTo>
                    <a:lnTo>
                      <a:pt x="5007" y="662"/>
                    </a:lnTo>
                    <a:lnTo>
                      <a:pt x="5019" y="673"/>
                    </a:lnTo>
                    <a:lnTo>
                      <a:pt x="5031" y="681"/>
                    </a:lnTo>
                    <a:lnTo>
                      <a:pt x="5043" y="690"/>
                    </a:lnTo>
                    <a:lnTo>
                      <a:pt x="5055" y="699"/>
                    </a:lnTo>
                    <a:lnTo>
                      <a:pt x="5068" y="706"/>
                    </a:lnTo>
                    <a:lnTo>
                      <a:pt x="5092" y="720"/>
                    </a:lnTo>
                    <a:lnTo>
                      <a:pt x="5117" y="732"/>
                    </a:lnTo>
                    <a:lnTo>
                      <a:pt x="5143" y="744"/>
                    </a:lnTo>
                    <a:lnTo>
                      <a:pt x="5169" y="755"/>
                    </a:lnTo>
                    <a:lnTo>
                      <a:pt x="5194" y="768"/>
                    </a:lnTo>
                    <a:lnTo>
                      <a:pt x="5218" y="781"/>
                    </a:lnTo>
                    <a:lnTo>
                      <a:pt x="5231" y="787"/>
                    </a:lnTo>
                    <a:lnTo>
                      <a:pt x="5241" y="796"/>
                    </a:lnTo>
                    <a:lnTo>
                      <a:pt x="5253" y="803"/>
                    </a:lnTo>
                    <a:lnTo>
                      <a:pt x="5264" y="812"/>
                    </a:lnTo>
                    <a:lnTo>
                      <a:pt x="5275" y="822"/>
                    </a:lnTo>
                    <a:lnTo>
                      <a:pt x="5286" y="832"/>
                    </a:lnTo>
                    <a:lnTo>
                      <a:pt x="5297" y="843"/>
                    </a:lnTo>
                    <a:lnTo>
                      <a:pt x="5306" y="856"/>
                    </a:lnTo>
                    <a:lnTo>
                      <a:pt x="5315" y="869"/>
                    </a:lnTo>
                    <a:lnTo>
                      <a:pt x="5325" y="883"/>
                    </a:lnTo>
                    <a:lnTo>
                      <a:pt x="5332" y="898"/>
                    </a:lnTo>
                    <a:lnTo>
                      <a:pt x="5341" y="916"/>
                    </a:lnTo>
                    <a:lnTo>
                      <a:pt x="5345" y="935"/>
                    </a:lnTo>
                    <a:lnTo>
                      <a:pt x="5348" y="954"/>
                    </a:lnTo>
                    <a:lnTo>
                      <a:pt x="5351" y="974"/>
                    </a:lnTo>
                    <a:lnTo>
                      <a:pt x="5354" y="994"/>
                    </a:lnTo>
                    <a:lnTo>
                      <a:pt x="5357" y="1033"/>
                    </a:lnTo>
                    <a:lnTo>
                      <a:pt x="5360" y="1072"/>
                    </a:lnTo>
                    <a:lnTo>
                      <a:pt x="5365" y="1109"/>
                    </a:lnTo>
                    <a:lnTo>
                      <a:pt x="5370" y="1142"/>
                    </a:lnTo>
                    <a:lnTo>
                      <a:pt x="5373" y="1158"/>
                    </a:lnTo>
                    <a:lnTo>
                      <a:pt x="5379" y="1173"/>
                    </a:lnTo>
                    <a:lnTo>
                      <a:pt x="5384" y="1186"/>
                    </a:lnTo>
                    <a:lnTo>
                      <a:pt x="5389" y="1197"/>
                    </a:lnTo>
                    <a:lnTo>
                      <a:pt x="5396" y="1206"/>
                    </a:lnTo>
                    <a:lnTo>
                      <a:pt x="5401" y="1213"/>
                    </a:lnTo>
                    <a:lnTo>
                      <a:pt x="5408" y="1218"/>
                    </a:lnTo>
                    <a:lnTo>
                      <a:pt x="5413" y="1222"/>
                    </a:lnTo>
                    <a:lnTo>
                      <a:pt x="5419" y="1226"/>
                    </a:lnTo>
                    <a:lnTo>
                      <a:pt x="5425" y="1228"/>
                    </a:lnTo>
                    <a:lnTo>
                      <a:pt x="5431" y="1229"/>
                    </a:lnTo>
                    <a:lnTo>
                      <a:pt x="5437" y="1230"/>
                    </a:lnTo>
                    <a:lnTo>
                      <a:pt x="5449" y="1230"/>
                    </a:lnTo>
                    <a:lnTo>
                      <a:pt x="5463" y="1229"/>
                    </a:lnTo>
                    <a:lnTo>
                      <a:pt x="5479" y="1229"/>
                    </a:lnTo>
                    <a:lnTo>
                      <a:pt x="5496" y="1230"/>
                    </a:lnTo>
                    <a:lnTo>
                      <a:pt x="5508" y="1228"/>
                    </a:lnTo>
                    <a:lnTo>
                      <a:pt x="5525" y="1224"/>
                    </a:lnTo>
                    <a:lnTo>
                      <a:pt x="5543" y="1220"/>
                    </a:lnTo>
                    <a:lnTo>
                      <a:pt x="5562" y="1215"/>
                    </a:lnTo>
                    <a:lnTo>
                      <a:pt x="5581" y="1212"/>
                    </a:lnTo>
                    <a:lnTo>
                      <a:pt x="5598" y="1208"/>
                    </a:lnTo>
                    <a:lnTo>
                      <a:pt x="5606" y="1208"/>
                    </a:lnTo>
                    <a:lnTo>
                      <a:pt x="5612" y="1208"/>
                    </a:lnTo>
                    <a:lnTo>
                      <a:pt x="5618" y="1209"/>
                    </a:lnTo>
                    <a:lnTo>
                      <a:pt x="5623" y="1213"/>
                    </a:lnTo>
                    <a:lnTo>
                      <a:pt x="5629" y="1227"/>
                    </a:lnTo>
                    <a:lnTo>
                      <a:pt x="5637" y="1242"/>
                    </a:lnTo>
                    <a:lnTo>
                      <a:pt x="5645" y="1257"/>
                    </a:lnTo>
                    <a:lnTo>
                      <a:pt x="5655" y="1271"/>
                    </a:lnTo>
                    <a:lnTo>
                      <a:pt x="5661" y="1277"/>
                    </a:lnTo>
                    <a:lnTo>
                      <a:pt x="5667" y="1283"/>
                    </a:lnTo>
                    <a:lnTo>
                      <a:pt x="5674" y="1288"/>
                    </a:lnTo>
                    <a:lnTo>
                      <a:pt x="5681" y="1293"/>
                    </a:lnTo>
                    <a:lnTo>
                      <a:pt x="5689" y="1296"/>
                    </a:lnTo>
                    <a:lnTo>
                      <a:pt x="5697" y="1299"/>
                    </a:lnTo>
                    <a:lnTo>
                      <a:pt x="5706" y="1300"/>
                    </a:lnTo>
                    <a:lnTo>
                      <a:pt x="5717" y="1301"/>
                    </a:lnTo>
                    <a:lnTo>
                      <a:pt x="5722" y="1303"/>
                    </a:lnTo>
                    <a:lnTo>
                      <a:pt x="5729" y="1307"/>
                    </a:lnTo>
                    <a:lnTo>
                      <a:pt x="5735" y="1311"/>
                    </a:lnTo>
                    <a:lnTo>
                      <a:pt x="5742" y="1315"/>
                    </a:lnTo>
                    <a:lnTo>
                      <a:pt x="5755" y="1325"/>
                    </a:lnTo>
                    <a:lnTo>
                      <a:pt x="5769" y="1336"/>
                    </a:lnTo>
                    <a:lnTo>
                      <a:pt x="5784" y="1347"/>
                    </a:lnTo>
                    <a:lnTo>
                      <a:pt x="5799" y="1356"/>
                    </a:lnTo>
                    <a:lnTo>
                      <a:pt x="5808" y="1362"/>
                    </a:lnTo>
                    <a:lnTo>
                      <a:pt x="5815" y="1365"/>
                    </a:lnTo>
                    <a:lnTo>
                      <a:pt x="5824" y="1368"/>
                    </a:lnTo>
                    <a:lnTo>
                      <a:pt x="5832" y="1370"/>
                    </a:lnTo>
                    <a:lnTo>
                      <a:pt x="5837" y="1368"/>
                    </a:lnTo>
                    <a:lnTo>
                      <a:pt x="5841" y="1366"/>
                    </a:lnTo>
                    <a:lnTo>
                      <a:pt x="5846" y="1364"/>
                    </a:lnTo>
                    <a:lnTo>
                      <a:pt x="5852" y="1362"/>
                    </a:lnTo>
                    <a:lnTo>
                      <a:pt x="5857" y="1359"/>
                    </a:lnTo>
                    <a:lnTo>
                      <a:pt x="5863" y="1358"/>
                    </a:lnTo>
                    <a:lnTo>
                      <a:pt x="5866" y="1356"/>
                    </a:lnTo>
                    <a:lnTo>
                      <a:pt x="5869" y="1355"/>
                    </a:lnTo>
                    <a:lnTo>
                      <a:pt x="5872" y="1361"/>
                    </a:lnTo>
                    <a:lnTo>
                      <a:pt x="5875" y="1365"/>
                    </a:lnTo>
                    <a:lnTo>
                      <a:pt x="5877" y="1369"/>
                    </a:lnTo>
                    <a:lnTo>
                      <a:pt x="5878" y="1374"/>
                    </a:lnTo>
                    <a:lnTo>
                      <a:pt x="5878" y="1378"/>
                    </a:lnTo>
                    <a:lnTo>
                      <a:pt x="5877" y="1382"/>
                    </a:lnTo>
                    <a:lnTo>
                      <a:pt x="5876" y="1385"/>
                    </a:lnTo>
                    <a:lnTo>
                      <a:pt x="5875" y="1390"/>
                    </a:lnTo>
                    <a:lnTo>
                      <a:pt x="5870" y="1396"/>
                    </a:lnTo>
                    <a:lnTo>
                      <a:pt x="5864" y="1403"/>
                    </a:lnTo>
                    <a:lnTo>
                      <a:pt x="5855" y="1408"/>
                    </a:lnTo>
                    <a:lnTo>
                      <a:pt x="5846" y="1413"/>
                    </a:lnTo>
                    <a:lnTo>
                      <a:pt x="5837" y="1418"/>
                    </a:lnTo>
                    <a:lnTo>
                      <a:pt x="5827" y="1421"/>
                    </a:lnTo>
                    <a:lnTo>
                      <a:pt x="5817" y="1425"/>
                    </a:lnTo>
                    <a:lnTo>
                      <a:pt x="5808" y="1428"/>
                    </a:lnTo>
                    <a:lnTo>
                      <a:pt x="5789" y="1431"/>
                    </a:lnTo>
                    <a:lnTo>
                      <a:pt x="5776" y="1432"/>
                    </a:lnTo>
                    <a:lnTo>
                      <a:pt x="5777" y="1432"/>
                    </a:lnTo>
                    <a:lnTo>
                      <a:pt x="5777" y="1433"/>
                    </a:lnTo>
                    <a:lnTo>
                      <a:pt x="5777" y="1434"/>
                    </a:lnTo>
                    <a:lnTo>
                      <a:pt x="5776" y="1436"/>
                    </a:lnTo>
                    <a:lnTo>
                      <a:pt x="5773" y="1439"/>
                    </a:lnTo>
                    <a:lnTo>
                      <a:pt x="5769" y="1444"/>
                    </a:lnTo>
                    <a:lnTo>
                      <a:pt x="5762" y="1448"/>
                    </a:lnTo>
                    <a:lnTo>
                      <a:pt x="5754" y="1452"/>
                    </a:lnTo>
                    <a:lnTo>
                      <a:pt x="5744" y="1456"/>
                    </a:lnTo>
                    <a:lnTo>
                      <a:pt x="5734" y="1457"/>
                    </a:lnTo>
                    <a:lnTo>
                      <a:pt x="5724" y="1459"/>
                    </a:lnTo>
                    <a:lnTo>
                      <a:pt x="5712" y="1459"/>
                    </a:lnTo>
                    <a:lnTo>
                      <a:pt x="5697" y="1460"/>
                    </a:lnTo>
                    <a:lnTo>
                      <a:pt x="5681" y="1460"/>
                    </a:lnTo>
                    <a:lnTo>
                      <a:pt x="5664" y="1459"/>
                    </a:lnTo>
                    <a:lnTo>
                      <a:pt x="5647" y="1459"/>
                    </a:lnTo>
                    <a:lnTo>
                      <a:pt x="5630" y="1458"/>
                    </a:lnTo>
                    <a:lnTo>
                      <a:pt x="5615" y="1457"/>
                    </a:lnTo>
                    <a:lnTo>
                      <a:pt x="5601" y="1457"/>
                    </a:lnTo>
                    <a:lnTo>
                      <a:pt x="5586" y="1457"/>
                    </a:lnTo>
                    <a:lnTo>
                      <a:pt x="5569" y="1457"/>
                    </a:lnTo>
                    <a:lnTo>
                      <a:pt x="5553" y="1458"/>
                    </a:lnTo>
                    <a:lnTo>
                      <a:pt x="5536" y="1460"/>
                    </a:lnTo>
                    <a:lnTo>
                      <a:pt x="5520" y="1462"/>
                    </a:lnTo>
                    <a:lnTo>
                      <a:pt x="5506" y="1464"/>
                    </a:lnTo>
                    <a:lnTo>
                      <a:pt x="5494" y="1466"/>
                    </a:lnTo>
                    <a:lnTo>
                      <a:pt x="5479" y="1469"/>
                    </a:lnTo>
                    <a:lnTo>
                      <a:pt x="5461" y="1471"/>
                    </a:lnTo>
                    <a:lnTo>
                      <a:pt x="5438" y="1472"/>
                    </a:lnTo>
                    <a:lnTo>
                      <a:pt x="5414" y="1473"/>
                    </a:lnTo>
                    <a:lnTo>
                      <a:pt x="5389" y="1474"/>
                    </a:lnTo>
                    <a:lnTo>
                      <a:pt x="5366" y="1474"/>
                    </a:lnTo>
                    <a:lnTo>
                      <a:pt x="5342" y="1473"/>
                    </a:lnTo>
                    <a:lnTo>
                      <a:pt x="5320" y="1472"/>
                    </a:lnTo>
                    <a:lnTo>
                      <a:pt x="5301" y="1470"/>
                    </a:lnTo>
                    <a:lnTo>
                      <a:pt x="5279" y="1466"/>
                    </a:lnTo>
                    <a:lnTo>
                      <a:pt x="5257" y="1463"/>
                    </a:lnTo>
                    <a:lnTo>
                      <a:pt x="5233" y="1460"/>
                    </a:lnTo>
                    <a:lnTo>
                      <a:pt x="5209" y="1459"/>
                    </a:lnTo>
                    <a:lnTo>
                      <a:pt x="5185" y="1459"/>
                    </a:lnTo>
                    <a:lnTo>
                      <a:pt x="5173" y="1460"/>
                    </a:lnTo>
                    <a:lnTo>
                      <a:pt x="5162" y="1461"/>
                    </a:lnTo>
                    <a:lnTo>
                      <a:pt x="5150" y="1463"/>
                    </a:lnTo>
                    <a:lnTo>
                      <a:pt x="5138" y="1466"/>
                    </a:lnTo>
                    <a:lnTo>
                      <a:pt x="5124" y="1470"/>
                    </a:lnTo>
                    <a:lnTo>
                      <a:pt x="5105" y="1472"/>
                    </a:lnTo>
                    <a:lnTo>
                      <a:pt x="5083" y="1474"/>
                    </a:lnTo>
                    <a:lnTo>
                      <a:pt x="5057" y="1475"/>
                    </a:lnTo>
                    <a:lnTo>
                      <a:pt x="4998" y="1475"/>
                    </a:lnTo>
                    <a:lnTo>
                      <a:pt x="4937" y="1474"/>
                    </a:lnTo>
                    <a:lnTo>
                      <a:pt x="4877" y="1473"/>
                    </a:lnTo>
                    <a:lnTo>
                      <a:pt x="4826" y="1472"/>
                    </a:lnTo>
                    <a:lnTo>
                      <a:pt x="4805" y="1472"/>
                    </a:lnTo>
                    <a:lnTo>
                      <a:pt x="4788" y="1472"/>
                    </a:lnTo>
                    <a:lnTo>
                      <a:pt x="4776" y="1473"/>
                    </a:lnTo>
                    <a:lnTo>
                      <a:pt x="4769" y="1474"/>
                    </a:lnTo>
                    <a:lnTo>
                      <a:pt x="4755" y="1477"/>
                    </a:lnTo>
                    <a:lnTo>
                      <a:pt x="4729" y="1480"/>
                    </a:lnTo>
                    <a:lnTo>
                      <a:pt x="4695" y="1484"/>
                    </a:lnTo>
                    <a:lnTo>
                      <a:pt x="4656" y="1487"/>
                    </a:lnTo>
                    <a:lnTo>
                      <a:pt x="4617" y="1488"/>
                    </a:lnTo>
                    <a:lnTo>
                      <a:pt x="4583" y="1488"/>
                    </a:lnTo>
                    <a:lnTo>
                      <a:pt x="4567" y="1487"/>
                    </a:lnTo>
                    <a:lnTo>
                      <a:pt x="4556" y="1485"/>
                    </a:lnTo>
                    <a:lnTo>
                      <a:pt x="4547" y="1483"/>
                    </a:lnTo>
                    <a:lnTo>
                      <a:pt x="4541" y="1479"/>
                    </a:lnTo>
                    <a:lnTo>
                      <a:pt x="4530" y="1482"/>
                    </a:lnTo>
                    <a:lnTo>
                      <a:pt x="4497" y="1488"/>
                    </a:lnTo>
                    <a:lnTo>
                      <a:pt x="4447" y="1496"/>
                    </a:lnTo>
                    <a:lnTo>
                      <a:pt x="4386" y="1502"/>
                    </a:lnTo>
                    <a:lnTo>
                      <a:pt x="4352" y="1505"/>
                    </a:lnTo>
                    <a:lnTo>
                      <a:pt x="4318" y="1507"/>
                    </a:lnTo>
                    <a:lnTo>
                      <a:pt x="4282" y="1507"/>
                    </a:lnTo>
                    <a:lnTo>
                      <a:pt x="4247" y="1507"/>
                    </a:lnTo>
                    <a:lnTo>
                      <a:pt x="4212" y="1505"/>
                    </a:lnTo>
                    <a:lnTo>
                      <a:pt x="4178" y="1501"/>
                    </a:lnTo>
                    <a:lnTo>
                      <a:pt x="4162" y="1499"/>
                    </a:lnTo>
                    <a:lnTo>
                      <a:pt x="4146" y="1494"/>
                    </a:lnTo>
                    <a:lnTo>
                      <a:pt x="4131" y="1491"/>
                    </a:lnTo>
                    <a:lnTo>
                      <a:pt x="4117" y="1487"/>
                    </a:lnTo>
                    <a:lnTo>
                      <a:pt x="4102" y="1487"/>
                    </a:lnTo>
                    <a:lnTo>
                      <a:pt x="4060" y="1489"/>
                    </a:lnTo>
                    <a:lnTo>
                      <a:pt x="3997" y="1491"/>
                    </a:lnTo>
                    <a:lnTo>
                      <a:pt x="3921" y="1493"/>
                    </a:lnTo>
                    <a:lnTo>
                      <a:pt x="3838" y="1496"/>
                    </a:lnTo>
                    <a:lnTo>
                      <a:pt x="3755" y="1496"/>
                    </a:lnTo>
                    <a:lnTo>
                      <a:pt x="3714" y="1496"/>
                    </a:lnTo>
                    <a:lnTo>
                      <a:pt x="3676" y="1494"/>
                    </a:lnTo>
                    <a:lnTo>
                      <a:pt x="3642" y="1493"/>
                    </a:lnTo>
                    <a:lnTo>
                      <a:pt x="3610" y="1491"/>
                    </a:lnTo>
                    <a:lnTo>
                      <a:pt x="3569" y="1494"/>
                    </a:lnTo>
                    <a:lnTo>
                      <a:pt x="3521" y="1500"/>
                    </a:lnTo>
                    <a:lnTo>
                      <a:pt x="3467" y="1505"/>
                    </a:lnTo>
                    <a:lnTo>
                      <a:pt x="3408" y="1511"/>
                    </a:lnTo>
                    <a:lnTo>
                      <a:pt x="3378" y="1513"/>
                    </a:lnTo>
                    <a:lnTo>
                      <a:pt x="3346" y="1514"/>
                    </a:lnTo>
                    <a:lnTo>
                      <a:pt x="3313" y="1516"/>
                    </a:lnTo>
                    <a:lnTo>
                      <a:pt x="3281" y="1516"/>
                    </a:lnTo>
                    <a:lnTo>
                      <a:pt x="3247" y="1516"/>
                    </a:lnTo>
                    <a:lnTo>
                      <a:pt x="3215" y="1515"/>
                    </a:lnTo>
                    <a:lnTo>
                      <a:pt x="3181" y="1512"/>
                    </a:lnTo>
                    <a:lnTo>
                      <a:pt x="3148" y="1509"/>
                    </a:lnTo>
                    <a:lnTo>
                      <a:pt x="3114" y="1505"/>
                    </a:lnTo>
                    <a:lnTo>
                      <a:pt x="3084" y="1503"/>
                    </a:lnTo>
                    <a:lnTo>
                      <a:pt x="3056" y="1501"/>
                    </a:lnTo>
                    <a:lnTo>
                      <a:pt x="3030" y="1500"/>
                    </a:lnTo>
                    <a:lnTo>
                      <a:pt x="3005" y="1500"/>
                    </a:lnTo>
                    <a:lnTo>
                      <a:pt x="2983" y="1501"/>
                    </a:lnTo>
                    <a:lnTo>
                      <a:pt x="2962" y="1502"/>
                    </a:lnTo>
                    <a:lnTo>
                      <a:pt x="2942" y="1503"/>
                    </a:lnTo>
                    <a:lnTo>
                      <a:pt x="2906" y="1506"/>
                    </a:lnTo>
                    <a:lnTo>
                      <a:pt x="2874" y="1511"/>
                    </a:lnTo>
                    <a:lnTo>
                      <a:pt x="2844" y="1514"/>
                    </a:lnTo>
                    <a:lnTo>
                      <a:pt x="2816" y="1516"/>
                    </a:lnTo>
                    <a:lnTo>
                      <a:pt x="2786" y="1516"/>
                    </a:lnTo>
                    <a:lnTo>
                      <a:pt x="2754" y="1514"/>
                    </a:lnTo>
                    <a:lnTo>
                      <a:pt x="2721" y="1510"/>
                    </a:lnTo>
                    <a:lnTo>
                      <a:pt x="2690" y="1505"/>
                    </a:lnTo>
                    <a:lnTo>
                      <a:pt x="2663" y="1501"/>
                    </a:lnTo>
                    <a:lnTo>
                      <a:pt x="2639" y="1498"/>
                    </a:lnTo>
                    <a:lnTo>
                      <a:pt x="2624" y="1496"/>
                    </a:lnTo>
                    <a:lnTo>
                      <a:pt x="2616" y="1497"/>
                    </a:lnTo>
                    <a:lnTo>
                      <a:pt x="2607" y="1499"/>
                    </a:lnTo>
                    <a:lnTo>
                      <a:pt x="2587" y="1504"/>
                    </a:lnTo>
                    <a:lnTo>
                      <a:pt x="2561" y="1511"/>
                    </a:lnTo>
                    <a:lnTo>
                      <a:pt x="2532" y="1516"/>
                    </a:lnTo>
                    <a:lnTo>
                      <a:pt x="2517" y="1518"/>
                    </a:lnTo>
                    <a:lnTo>
                      <a:pt x="2502" y="1519"/>
                    </a:lnTo>
                    <a:lnTo>
                      <a:pt x="2488" y="1520"/>
                    </a:lnTo>
                    <a:lnTo>
                      <a:pt x="2474" y="1519"/>
                    </a:lnTo>
                    <a:lnTo>
                      <a:pt x="2461" y="1518"/>
                    </a:lnTo>
                    <a:lnTo>
                      <a:pt x="2450" y="1515"/>
                    </a:lnTo>
                    <a:lnTo>
                      <a:pt x="2446" y="1513"/>
                    </a:lnTo>
                    <a:lnTo>
                      <a:pt x="2441" y="1511"/>
                    </a:lnTo>
                    <a:lnTo>
                      <a:pt x="2438" y="1507"/>
                    </a:lnTo>
                    <a:lnTo>
                      <a:pt x="2435" y="1504"/>
                    </a:lnTo>
                    <a:lnTo>
                      <a:pt x="2431" y="1504"/>
                    </a:lnTo>
                    <a:lnTo>
                      <a:pt x="2420" y="1503"/>
                    </a:lnTo>
                    <a:lnTo>
                      <a:pt x="2403" y="1503"/>
                    </a:lnTo>
                    <a:lnTo>
                      <a:pt x="2383" y="1502"/>
                    </a:lnTo>
                    <a:lnTo>
                      <a:pt x="2363" y="1502"/>
                    </a:lnTo>
                    <a:lnTo>
                      <a:pt x="2343" y="1502"/>
                    </a:lnTo>
                    <a:lnTo>
                      <a:pt x="2328" y="1501"/>
                    </a:lnTo>
                    <a:lnTo>
                      <a:pt x="2319" y="1501"/>
                    </a:lnTo>
                    <a:lnTo>
                      <a:pt x="2317" y="1504"/>
                    </a:lnTo>
                    <a:lnTo>
                      <a:pt x="2313" y="1507"/>
                    </a:lnTo>
                    <a:lnTo>
                      <a:pt x="2305" y="1510"/>
                    </a:lnTo>
                    <a:lnTo>
                      <a:pt x="2297" y="1512"/>
                    </a:lnTo>
                    <a:lnTo>
                      <a:pt x="2272" y="1515"/>
                    </a:lnTo>
                    <a:lnTo>
                      <a:pt x="2242" y="1518"/>
                    </a:lnTo>
                    <a:lnTo>
                      <a:pt x="2208" y="1520"/>
                    </a:lnTo>
                    <a:lnTo>
                      <a:pt x="2174" y="1523"/>
                    </a:lnTo>
                    <a:lnTo>
                      <a:pt x="2140" y="1525"/>
                    </a:lnTo>
                    <a:lnTo>
                      <a:pt x="2109" y="1526"/>
                    </a:lnTo>
                    <a:lnTo>
                      <a:pt x="2073" y="1528"/>
                    </a:lnTo>
                    <a:lnTo>
                      <a:pt x="2028" y="1528"/>
                    </a:lnTo>
                    <a:lnTo>
                      <a:pt x="1974" y="1528"/>
                    </a:lnTo>
                    <a:lnTo>
                      <a:pt x="1916" y="1527"/>
                    </a:lnTo>
                    <a:lnTo>
                      <a:pt x="1858" y="1527"/>
                    </a:lnTo>
                    <a:lnTo>
                      <a:pt x="1801" y="1527"/>
                    </a:lnTo>
                    <a:lnTo>
                      <a:pt x="1774" y="1528"/>
                    </a:lnTo>
                    <a:lnTo>
                      <a:pt x="1748" y="1529"/>
                    </a:lnTo>
                    <a:lnTo>
                      <a:pt x="1725" y="1531"/>
                    </a:lnTo>
                    <a:lnTo>
                      <a:pt x="1704" y="1533"/>
                    </a:lnTo>
                    <a:lnTo>
                      <a:pt x="1661" y="1539"/>
                    </a:lnTo>
                    <a:lnTo>
                      <a:pt x="1615" y="1542"/>
                    </a:lnTo>
                    <a:lnTo>
                      <a:pt x="1566" y="1544"/>
                    </a:lnTo>
                    <a:lnTo>
                      <a:pt x="1517" y="1545"/>
                    </a:lnTo>
                    <a:lnTo>
                      <a:pt x="1468" y="1545"/>
                    </a:lnTo>
                    <a:lnTo>
                      <a:pt x="1424" y="1545"/>
                    </a:lnTo>
                    <a:lnTo>
                      <a:pt x="1386" y="1544"/>
                    </a:lnTo>
                    <a:lnTo>
                      <a:pt x="1355" y="1543"/>
                    </a:lnTo>
                    <a:lnTo>
                      <a:pt x="1330" y="1544"/>
                    </a:lnTo>
                    <a:lnTo>
                      <a:pt x="1305" y="1545"/>
                    </a:lnTo>
                    <a:lnTo>
                      <a:pt x="1281" y="1547"/>
                    </a:lnTo>
                    <a:lnTo>
                      <a:pt x="1259" y="1550"/>
                    </a:lnTo>
                    <a:lnTo>
                      <a:pt x="1238" y="1552"/>
                    </a:lnTo>
                    <a:lnTo>
                      <a:pt x="1220" y="1554"/>
                    </a:lnTo>
                    <a:lnTo>
                      <a:pt x="1205" y="1555"/>
                    </a:lnTo>
                    <a:lnTo>
                      <a:pt x="1192" y="1556"/>
                    </a:lnTo>
                    <a:lnTo>
                      <a:pt x="1178" y="1557"/>
                    </a:lnTo>
                    <a:lnTo>
                      <a:pt x="1157" y="1559"/>
                    </a:lnTo>
                    <a:lnTo>
                      <a:pt x="1130" y="1560"/>
                    </a:lnTo>
                    <a:lnTo>
                      <a:pt x="1099" y="1563"/>
                    </a:lnTo>
                    <a:lnTo>
                      <a:pt x="1065" y="1563"/>
                    </a:lnTo>
                    <a:lnTo>
                      <a:pt x="1030" y="1563"/>
                    </a:lnTo>
                    <a:lnTo>
                      <a:pt x="1011" y="1561"/>
                    </a:lnTo>
                    <a:lnTo>
                      <a:pt x="994" y="1560"/>
                    </a:lnTo>
                    <a:lnTo>
                      <a:pt x="977" y="1558"/>
                    </a:lnTo>
                    <a:lnTo>
                      <a:pt x="959" y="1556"/>
                    </a:lnTo>
                    <a:lnTo>
                      <a:pt x="926" y="1551"/>
                    </a:lnTo>
                    <a:lnTo>
                      <a:pt x="892" y="1547"/>
                    </a:lnTo>
                    <a:lnTo>
                      <a:pt x="860" y="1545"/>
                    </a:lnTo>
                    <a:lnTo>
                      <a:pt x="827" y="1544"/>
                    </a:lnTo>
                    <a:lnTo>
                      <a:pt x="795" y="1544"/>
                    </a:lnTo>
                    <a:lnTo>
                      <a:pt x="765" y="1546"/>
                    </a:lnTo>
                    <a:lnTo>
                      <a:pt x="734" y="1550"/>
                    </a:lnTo>
                    <a:lnTo>
                      <a:pt x="704" y="1553"/>
                    </a:lnTo>
                    <a:lnTo>
                      <a:pt x="672" y="1558"/>
                    </a:lnTo>
                    <a:lnTo>
                      <a:pt x="633" y="1561"/>
                    </a:lnTo>
                    <a:lnTo>
                      <a:pt x="590" y="1564"/>
                    </a:lnTo>
                    <a:lnTo>
                      <a:pt x="544" y="1565"/>
                    </a:lnTo>
                    <a:lnTo>
                      <a:pt x="499" y="1563"/>
                    </a:lnTo>
                    <a:lnTo>
                      <a:pt x="453" y="1559"/>
                    </a:lnTo>
                    <a:lnTo>
                      <a:pt x="430" y="1557"/>
                    </a:lnTo>
                    <a:lnTo>
                      <a:pt x="408" y="1554"/>
                    </a:lnTo>
                    <a:lnTo>
                      <a:pt x="388" y="1551"/>
                    </a:lnTo>
                    <a:lnTo>
                      <a:pt x="368" y="1546"/>
                    </a:lnTo>
                    <a:lnTo>
                      <a:pt x="332" y="1538"/>
                    </a:lnTo>
                    <a:lnTo>
                      <a:pt x="297" y="1530"/>
                    </a:lnTo>
                    <a:lnTo>
                      <a:pt x="265" y="1525"/>
                    </a:lnTo>
                    <a:lnTo>
                      <a:pt x="236" y="1520"/>
                    </a:lnTo>
                    <a:lnTo>
                      <a:pt x="210" y="1516"/>
                    </a:lnTo>
                    <a:lnTo>
                      <a:pt x="187" y="1512"/>
                    </a:lnTo>
                    <a:lnTo>
                      <a:pt x="169" y="1509"/>
                    </a:lnTo>
                    <a:lnTo>
                      <a:pt x="153" y="1504"/>
                    </a:lnTo>
                    <a:lnTo>
                      <a:pt x="147" y="1502"/>
                    </a:lnTo>
                    <a:lnTo>
                      <a:pt x="140" y="1501"/>
                    </a:lnTo>
                    <a:lnTo>
                      <a:pt x="133" y="1500"/>
                    </a:lnTo>
                    <a:lnTo>
                      <a:pt x="126" y="1500"/>
                    </a:lnTo>
                    <a:lnTo>
                      <a:pt x="111" y="1501"/>
                    </a:lnTo>
                    <a:lnTo>
                      <a:pt x="96" y="1501"/>
                    </a:lnTo>
                    <a:lnTo>
                      <a:pt x="89" y="1501"/>
                    </a:lnTo>
                    <a:lnTo>
                      <a:pt x="82" y="1501"/>
                    </a:lnTo>
                    <a:lnTo>
                      <a:pt x="76" y="1500"/>
                    </a:lnTo>
                    <a:lnTo>
                      <a:pt x="69" y="1499"/>
                    </a:lnTo>
                    <a:lnTo>
                      <a:pt x="64" y="1497"/>
                    </a:lnTo>
                    <a:lnTo>
                      <a:pt x="59" y="1493"/>
                    </a:lnTo>
                    <a:lnTo>
                      <a:pt x="55" y="1489"/>
                    </a:lnTo>
                    <a:lnTo>
                      <a:pt x="52" y="1484"/>
                    </a:lnTo>
                    <a:lnTo>
                      <a:pt x="45" y="1471"/>
                    </a:lnTo>
                    <a:lnTo>
                      <a:pt x="38" y="1457"/>
                    </a:lnTo>
                    <a:lnTo>
                      <a:pt x="29" y="1442"/>
                    </a:lnTo>
                    <a:lnTo>
                      <a:pt x="22" y="1426"/>
                    </a:lnTo>
                    <a:lnTo>
                      <a:pt x="14" y="1411"/>
                    </a:lnTo>
                    <a:lnTo>
                      <a:pt x="8" y="1399"/>
                    </a:lnTo>
                    <a:lnTo>
                      <a:pt x="3" y="1390"/>
                    </a:lnTo>
                    <a:lnTo>
                      <a:pt x="0" y="1382"/>
                    </a:lnTo>
                    <a:lnTo>
                      <a:pt x="17" y="1390"/>
                    </a:lnTo>
                    <a:lnTo>
                      <a:pt x="35" y="1396"/>
                    </a:lnTo>
                    <a:lnTo>
                      <a:pt x="52" y="1402"/>
                    </a:lnTo>
                    <a:lnTo>
                      <a:pt x="69" y="1405"/>
                    </a:lnTo>
                    <a:lnTo>
                      <a:pt x="85" y="1407"/>
                    </a:lnTo>
                    <a:lnTo>
                      <a:pt x="103" y="1407"/>
                    </a:lnTo>
                    <a:lnTo>
                      <a:pt x="111" y="1407"/>
                    </a:lnTo>
                    <a:lnTo>
                      <a:pt x="120" y="1405"/>
                    </a:lnTo>
                    <a:lnTo>
                      <a:pt x="127" y="1403"/>
                    </a:lnTo>
                    <a:lnTo>
                      <a:pt x="136" y="1401"/>
                    </a:lnTo>
                    <a:lnTo>
                      <a:pt x="148" y="1398"/>
                    </a:lnTo>
                    <a:lnTo>
                      <a:pt x="161" y="1396"/>
                    </a:lnTo>
                    <a:lnTo>
                      <a:pt x="173" y="1394"/>
                    </a:lnTo>
                    <a:lnTo>
                      <a:pt x="185" y="1391"/>
                    </a:lnTo>
                    <a:lnTo>
                      <a:pt x="207" y="1383"/>
                    </a:lnTo>
                    <a:lnTo>
                      <a:pt x="229" y="1376"/>
                    </a:lnTo>
                    <a:lnTo>
                      <a:pt x="248" y="1369"/>
                    </a:lnTo>
                    <a:lnTo>
                      <a:pt x="267" y="1365"/>
                    </a:lnTo>
                    <a:lnTo>
                      <a:pt x="274" y="1364"/>
                    </a:lnTo>
                    <a:lnTo>
                      <a:pt x="283" y="1364"/>
                    </a:lnTo>
                    <a:lnTo>
                      <a:pt x="290" y="1365"/>
                    </a:lnTo>
                    <a:lnTo>
                      <a:pt x="297" y="1368"/>
                    </a:lnTo>
                    <a:lnTo>
                      <a:pt x="318" y="1363"/>
                    </a:lnTo>
                    <a:lnTo>
                      <a:pt x="339" y="1357"/>
                    </a:lnTo>
                    <a:lnTo>
                      <a:pt x="362" y="1353"/>
                    </a:lnTo>
                    <a:lnTo>
                      <a:pt x="385" y="1349"/>
                    </a:lnTo>
                    <a:lnTo>
                      <a:pt x="408" y="1344"/>
                    </a:lnTo>
                    <a:lnTo>
                      <a:pt x="432" y="1341"/>
                    </a:lnTo>
                    <a:lnTo>
                      <a:pt x="456" y="1339"/>
                    </a:lnTo>
                    <a:lnTo>
                      <a:pt x="480" y="1337"/>
                    </a:lnTo>
                    <a:lnTo>
                      <a:pt x="503" y="1337"/>
                    </a:lnTo>
                    <a:lnTo>
                      <a:pt x="526" y="1337"/>
                    </a:lnTo>
                    <a:lnTo>
                      <a:pt x="548" y="1338"/>
                    </a:lnTo>
                    <a:lnTo>
                      <a:pt x="569" y="1340"/>
                    </a:lnTo>
                    <a:lnTo>
                      <a:pt x="590" y="1343"/>
                    </a:lnTo>
                    <a:lnTo>
                      <a:pt x="608" y="1348"/>
                    </a:lnTo>
                    <a:lnTo>
                      <a:pt x="625" y="1353"/>
                    </a:lnTo>
                    <a:lnTo>
                      <a:pt x="641" y="1361"/>
                    </a:lnTo>
                    <a:lnTo>
                      <a:pt x="651" y="1359"/>
                    </a:lnTo>
                    <a:lnTo>
                      <a:pt x="665" y="1355"/>
                    </a:lnTo>
                    <a:lnTo>
                      <a:pt x="682" y="1349"/>
                    </a:lnTo>
                    <a:lnTo>
                      <a:pt x="702" y="1340"/>
                    </a:lnTo>
                    <a:lnTo>
                      <a:pt x="746" y="1321"/>
                    </a:lnTo>
                    <a:lnTo>
                      <a:pt x="796" y="1299"/>
                    </a:lnTo>
                    <a:lnTo>
                      <a:pt x="822" y="1288"/>
                    </a:lnTo>
                    <a:lnTo>
                      <a:pt x="848" y="1280"/>
                    </a:lnTo>
                    <a:lnTo>
                      <a:pt x="873" y="1272"/>
                    </a:lnTo>
                    <a:lnTo>
                      <a:pt x="898" y="1266"/>
                    </a:lnTo>
                    <a:lnTo>
                      <a:pt x="909" y="1263"/>
                    </a:lnTo>
                    <a:lnTo>
                      <a:pt x="920" y="1262"/>
                    </a:lnTo>
                    <a:lnTo>
                      <a:pt x="931" y="1261"/>
                    </a:lnTo>
                    <a:lnTo>
                      <a:pt x="941" y="1261"/>
                    </a:lnTo>
                    <a:lnTo>
                      <a:pt x="952" y="1261"/>
                    </a:lnTo>
                    <a:lnTo>
                      <a:pt x="960" y="1263"/>
                    </a:lnTo>
                    <a:lnTo>
                      <a:pt x="969" y="1266"/>
                    </a:lnTo>
                    <a:lnTo>
                      <a:pt x="977" y="1269"/>
                    </a:lnTo>
                    <a:lnTo>
                      <a:pt x="981" y="1271"/>
                    </a:lnTo>
                    <a:lnTo>
                      <a:pt x="986" y="1272"/>
                    </a:lnTo>
                    <a:lnTo>
                      <a:pt x="994" y="1273"/>
                    </a:lnTo>
                    <a:lnTo>
                      <a:pt x="1001" y="1273"/>
                    </a:lnTo>
                    <a:lnTo>
                      <a:pt x="1020" y="1272"/>
                    </a:lnTo>
                    <a:lnTo>
                      <a:pt x="1042" y="1270"/>
                    </a:lnTo>
                    <a:lnTo>
                      <a:pt x="1095" y="1263"/>
                    </a:lnTo>
                    <a:lnTo>
                      <a:pt x="1154" y="1254"/>
                    </a:lnTo>
                    <a:lnTo>
                      <a:pt x="1184" y="1249"/>
                    </a:lnTo>
                    <a:lnTo>
                      <a:pt x="1214" y="1245"/>
                    </a:lnTo>
                    <a:lnTo>
                      <a:pt x="1243" y="1242"/>
                    </a:lnTo>
                    <a:lnTo>
                      <a:pt x="1271" y="1240"/>
                    </a:lnTo>
                    <a:lnTo>
                      <a:pt x="1296" y="1239"/>
                    </a:lnTo>
                    <a:lnTo>
                      <a:pt x="1320" y="1240"/>
                    </a:lnTo>
                    <a:lnTo>
                      <a:pt x="1330" y="1241"/>
                    </a:lnTo>
                    <a:lnTo>
                      <a:pt x="1340" y="1242"/>
                    </a:lnTo>
                    <a:lnTo>
                      <a:pt x="1348" y="1244"/>
                    </a:lnTo>
                    <a:lnTo>
                      <a:pt x="1355" y="1247"/>
                    </a:lnTo>
                    <a:lnTo>
                      <a:pt x="1358" y="1247"/>
                    </a:lnTo>
                    <a:lnTo>
                      <a:pt x="1364" y="1245"/>
                    </a:lnTo>
                    <a:lnTo>
                      <a:pt x="1372" y="1241"/>
                    </a:lnTo>
                    <a:lnTo>
                      <a:pt x="1382" y="1236"/>
                    </a:lnTo>
                    <a:lnTo>
                      <a:pt x="1408" y="1222"/>
                    </a:lnTo>
                    <a:lnTo>
                      <a:pt x="1440" y="1206"/>
                    </a:lnTo>
                    <a:lnTo>
                      <a:pt x="1477" y="1188"/>
                    </a:lnTo>
                    <a:lnTo>
                      <a:pt x="1517" y="1170"/>
                    </a:lnTo>
                    <a:lnTo>
                      <a:pt x="1537" y="1162"/>
                    </a:lnTo>
                    <a:lnTo>
                      <a:pt x="1559" y="1154"/>
                    </a:lnTo>
                    <a:lnTo>
                      <a:pt x="1579" y="1148"/>
                    </a:lnTo>
                    <a:lnTo>
                      <a:pt x="1600" y="1142"/>
                    </a:lnTo>
                    <a:lnTo>
                      <a:pt x="1638" y="1140"/>
                    </a:lnTo>
                    <a:lnTo>
                      <a:pt x="1672" y="1139"/>
                    </a:lnTo>
                    <a:lnTo>
                      <a:pt x="1708" y="1139"/>
                    </a:lnTo>
                    <a:lnTo>
                      <a:pt x="1746" y="1136"/>
                    </a:lnTo>
                    <a:lnTo>
                      <a:pt x="1766" y="1135"/>
                    </a:lnTo>
                    <a:lnTo>
                      <a:pt x="1789" y="1132"/>
                    </a:lnTo>
                    <a:lnTo>
                      <a:pt x="1814" y="1127"/>
                    </a:lnTo>
                    <a:lnTo>
                      <a:pt x="1841" y="1122"/>
                    </a:lnTo>
                    <a:lnTo>
                      <a:pt x="1871" y="1114"/>
                    </a:lnTo>
                    <a:lnTo>
                      <a:pt x="1903" y="1107"/>
                    </a:lnTo>
                    <a:lnTo>
                      <a:pt x="1940" y="1096"/>
                    </a:lnTo>
                    <a:lnTo>
                      <a:pt x="1980" y="1084"/>
                    </a:lnTo>
                    <a:close/>
                  </a:path>
                </a:pathLst>
              </a:custGeom>
              <a:solidFill>
                <a:srgbClr val="8fbd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5904000" y="3238560"/>
                <a:ext cx="1861920" cy="488880"/>
              </a:xfrm>
              <a:custGeom>
                <a:avLst/>
                <a:gdLst/>
                <a:ahLst/>
                <a:rect l="l" t="t" r="r" b="b"/>
                <a:pathLst>
                  <a:path w="5865" h="1541">
                    <a:moveTo>
                      <a:pt x="1973" y="1137"/>
                    </a:moveTo>
                    <a:lnTo>
                      <a:pt x="2006" y="1119"/>
                    </a:lnTo>
                    <a:lnTo>
                      <a:pt x="2051" y="1094"/>
                    </a:lnTo>
                    <a:lnTo>
                      <a:pt x="2105" y="1062"/>
                    </a:lnTo>
                    <a:lnTo>
                      <a:pt x="2167" y="1024"/>
                    </a:lnTo>
                    <a:lnTo>
                      <a:pt x="2235" y="981"/>
                    </a:lnTo>
                    <a:lnTo>
                      <a:pt x="2310" y="933"/>
                    </a:lnTo>
                    <a:lnTo>
                      <a:pt x="2388" y="881"/>
                    </a:lnTo>
                    <a:lnTo>
                      <a:pt x="2468" y="826"/>
                    </a:lnTo>
                    <a:lnTo>
                      <a:pt x="2548" y="768"/>
                    </a:lnTo>
                    <a:lnTo>
                      <a:pt x="2628" y="709"/>
                    </a:lnTo>
                    <a:lnTo>
                      <a:pt x="2667" y="678"/>
                    </a:lnTo>
                    <a:lnTo>
                      <a:pt x="2704" y="648"/>
                    </a:lnTo>
                    <a:lnTo>
                      <a:pt x="2742" y="617"/>
                    </a:lnTo>
                    <a:lnTo>
                      <a:pt x="2778" y="587"/>
                    </a:lnTo>
                    <a:lnTo>
                      <a:pt x="2812" y="555"/>
                    </a:lnTo>
                    <a:lnTo>
                      <a:pt x="2846" y="525"/>
                    </a:lnTo>
                    <a:lnTo>
                      <a:pt x="2878" y="494"/>
                    </a:lnTo>
                    <a:lnTo>
                      <a:pt x="2907" y="463"/>
                    </a:lnTo>
                    <a:lnTo>
                      <a:pt x="2936" y="433"/>
                    </a:lnTo>
                    <a:lnTo>
                      <a:pt x="2960" y="404"/>
                    </a:lnTo>
                    <a:lnTo>
                      <a:pt x="2984" y="375"/>
                    </a:lnTo>
                    <a:lnTo>
                      <a:pt x="3004" y="347"/>
                    </a:lnTo>
                    <a:lnTo>
                      <a:pt x="3019" y="337"/>
                    </a:lnTo>
                    <a:lnTo>
                      <a:pt x="3033" y="330"/>
                    </a:lnTo>
                    <a:lnTo>
                      <a:pt x="3047" y="322"/>
                    </a:lnTo>
                    <a:lnTo>
                      <a:pt x="3060" y="315"/>
                    </a:lnTo>
                    <a:lnTo>
                      <a:pt x="3074" y="310"/>
                    </a:lnTo>
                    <a:lnTo>
                      <a:pt x="3089" y="305"/>
                    </a:lnTo>
                    <a:lnTo>
                      <a:pt x="3105" y="299"/>
                    </a:lnTo>
                    <a:lnTo>
                      <a:pt x="3122" y="294"/>
                    </a:lnTo>
                    <a:lnTo>
                      <a:pt x="3165" y="282"/>
                    </a:lnTo>
                    <a:lnTo>
                      <a:pt x="3219" y="268"/>
                    </a:lnTo>
                    <a:lnTo>
                      <a:pt x="3288" y="251"/>
                    </a:lnTo>
                    <a:lnTo>
                      <a:pt x="3375" y="228"/>
                    </a:lnTo>
                    <a:lnTo>
                      <a:pt x="3428" y="197"/>
                    </a:lnTo>
                    <a:lnTo>
                      <a:pt x="3493" y="159"/>
                    </a:lnTo>
                    <a:lnTo>
                      <a:pt x="3530" y="138"/>
                    </a:lnTo>
                    <a:lnTo>
                      <a:pt x="3570" y="118"/>
                    </a:lnTo>
                    <a:lnTo>
                      <a:pt x="3611" y="97"/>
                    </a:lnTo>
                    <a:lnTo>
                      <a:pt x="3656" y="78"/>
                    </a:lnTo>
                    <a:lnTo>
                      <a:pt x="3679" y="68"/>
                    </a:lnTo>
                    <a:lnTo>
                      <a:pt x="3702" y="60"/>
                    </a:lnTo>
                    <a:lnTo>
                      <a:pt x="3726" y="51"/>
                    </a:lnTo>
                    <a:lnTo>
                      <a:pt x="3751" y="42"/>
                    </a:lnTo>
                    <a:lnTo>
                      <a:pt x="3777" y="35"/>
                    </a:lnTo>
                    <a:lnTo>
                      <a:pt x="3803" y="28"/>
                    </a:lnTo>
                    <a:lnTo>
                      <a:pt x="3830" y="22"/>
                    </a:lnTo>
                    <a:lnTo>
                      <a:pt x="3857" y="15"/>
                    </a:lnTo>
                    <a:lnTo>
                      <a:pt x="3884" y="11"/>
                    </a:lnTo>
                    <a:lnTo>
                      <a:pt x="3912" y="7"/>
                    </a:lnTo>
                    <a:lnTo>
                      <a:pt x="3941" y="3"/>
                    </a:lnTo>
                    <a:lnTo>
                      <a:pt x="3970" y="1"/>
                    </a:lnTo>
                    <a:lnTo>
                      <a:pt x="4000" y="0"/>
                    </a:lnTo>
                    <a:lnTo>
                      <a:pt x="4030" y="0"/>
                    </a:lnTo>
                    <a:lnTo>
                      <a:pt x="4061" y="0"/>
                    </a:lnTo>
                    <a:lnTo>
                      <a:pt x="4091" y="2"/>
                    </a:lnTo>
                    <a:lnTo>
                      <a:pt x="4157" y="8"/>
                    </a:lnTo>
                    <a:lnTo>
                      <a:pt x="4223" y="14"/>
                    </a:lnTo>
                    <a:lnTo>
                      <a:pt x="4257" y="18"/>
                    </a:lnTo>
                    <a:lnTo>
                      <a:pt x="4289" y="25"/>
                    </a:lnTo>
                    <a:lnTo>
                      <a:pt x="4323" y="31"/>
                    </a:lnTo>
                    <a:lnTo>
                      <a:pt x="4355" y="41"/>
                    </a:lnTo>
                    <a:lnTo>
                      <a:pt x="4370" y="47"/>
                    </a:lnTo>
                    <a:lnTo>
                      <a:pt x="4386" y="52"/>
                    </a:lnTo>
                    <a:lnTo>
                      <a:pt x="4403" y="58"/>
                    </a:lnTo>
                    <a:lnTo>
                      <a:pt x="4418" y="66"/>
                    </a:lnTo>
                    <a:lnTo>
                      <a:pt x="4433" y="74"/>
                    </a:lnTo>
                    <a:lnTo>
                      <a:pt x="4448" y="82"/>
                    </a:lnTo>
                    <a:lnTo>
                      <a:pt x="4463" y="92"/>
                    </a:lnTo>
                    <a:lnTo>
                      <a:pt x="4478" y="102"/>
                    </a:lnTo>
                    <a:lnTo>
                      <a:pt x="4492" y="112"/>
                    </a:lnTo>
                    <a:lnTo>
                      <a:pt x="4506" y="124"/>
                    </a:lnTo>
                    <a:lnTo>
                      <a:pt x="4520" y="137"/>
                    </a:lnTo>
                    <a:lnTo>
                      <a:pt x="4533" y="151"/>
                    </a:lnTo>
                    <a:lnTo>
                      <a:pt x="4546" y="166"/>
                    </a:lnTo>
                    <a:lnTo>
                      <a:pt x="4559" y="183"/>
                    </a:lnTo>
                    <a:lnTo>
                      <a:pt x="4572" y="200"/>
                    </a:lnTo>
                    <a:lnTo>
                      <a:pt x="4584" y="218"/>
                    </a:lnTo>
                    <a:lnTo>
                      <a:pt x="4594" y="237"/>
                    </a:lnTo>
                    <a:lnTo>
                      <a:pt x="4608" y="257"/>
                    </a:lnTo>
                    <a:lnTo>
                      <a:pt x="4624" y="280"/>
                    </a:lnTo>
                    <a:lnTo>
                      <a:pt x="4643" y="304"/>
                    </a:lnTo>
                    <a:lnTo>
                      <a:pt x="4665" y="328"/>
                    </a:lnTo>
                    <a:lnTo>
                      <a:pt x="4689" y="354"/>
                    </a:lnTo>
                    <a:lnTo>
                      <a:pt x="4714" y="380"/>
                    </a:lnTo>
                    <a:lnTo>
                      <a:pt x="4741" y="407"/>
                    </a:lnTo>
                    <a:lnTo>
                      <a:pt x="4797" y="463"/>
                    </a:lnTo>
                    <a:lnTo>
                      <a:pt x="4854" y="520"/>
                    </a:lnTo>
                    <a:lnTo>
                      <a:pt x="4910" y="574"/>
                    </a:lnTo>
                    <a:lnTo>
                      <a:pt x="4962" y="625"/>
                    </a:lnTo>
                    <a:lnTo>
                      <a:pt x="4971" y="636"/>
                    </a:lnTo>
                    <a:lnTo>
                      <a:pt x="4979" y="646"/>
                    </a:lnTo>
                    <a:lnTo>
                      <a:pt x="4989" y="656"/>
                    </a:lnTo>
                    <a:lnTo>
                      <a:pt x="5000" y="664"/>
                    </a:lnTo>
                    <a:lnTo>
                      <a:pt x="5020" y="679"/>
                    </a:lnTo>
                    <a:lnTo>
                      <a:pt x="5043" y="695"/>
                    </a:lnTo>
                    <a:lnTo>
                      <a:pt x="5090" y="720"/>
                    </a:lnTo>
                    <a:lnTo>
                      <a:pt x="5138" y="745"/>
                    </a:lnTo>
                    <a:lnTo>
                      <a:pt x="5162" y="759"/>
                    </a:lnTo>
                    <a:lnTo>
                      <a:pt x="5185" y="774"/>
                    </a:lnTo>
                    <a:lnTo>
                      <a:pt x="5197" y="782"/>
                    </a:lnTo>
                    <a:lnTo>
                      <a:pt x="5207" y="791"/>
                    </a:lnTo>
                    <a:lnTo>
                      <a:pt x="5218" y="800"/>
                    </a:lnTo>
                    <a:lnTo>
                      <a:pt x="5228" y="810"/>
                    </a:lnTo>
                    <a:lnTo>
                      <a:pt x="5238" y="820"/>
                    </a:lnTo>
                    <a:lnTo>
                      <a:pt x="5247" y="832"/>
                    </a:lnTo>
                    <a:lnTo>
                      <a:pt x="5257" y="844"/>
                    </a:lnTo>
                    <a:lnTo>
                      <a:pt x="5266" y="857"/>
                    </a:lnTo>
                    <a:lnTo>
                      <a:pt x="5273" y="870"/>
                    </a:lnTo>
                    <a:lnTo>
                      <a:pt x="5281" y="885"/>
                    </a:lnTo>
                    <a:lnTo>
                      <a:pt x="5287" y="901"/>
                    </a:lnTo>
                    <a:lnTo>
                      <a:pt x="5294" y="917"/>
                    </a:lnTo>
                    <a:lnTo>
                      <a:pt x="5300" y="961"/>
                    </a:lnTo>
                    <a:lnTo>
                      <a:pt x="5306" y="1005"/>
                    </a:lnTo>
                    <a:lnTo>
                      <a:pt x="5311" y="1047"/>
                    </a:lnTo>
                    <a:lnTo>
                      <a:pt x="5317" y="1087"/>
                    </a:lnTo>
                    <a:lnTo>
                      <a:pt x="5324" y="1123"/>
                    </a:lnTo>
                    <a:lnTo>
                      <a:pt x="5332" y="1156"/>
                    </a:lnTo>
                    <a:lnTo>
                      <a:pt x="5336" y="1170"/>
                    </a:lnTo>
                    <a:lnTo>
                      <a:pt x="5340" y="1183"/>
                    </a:lnTo>
                    <a:lnTo>
                      <a:pt x="5345" y="1195"/>
                    </a:lnTo>
                    <a:lnTo>
                      <a:pt x="5350" y="1204"/>
                    </a:lnTo>
                    <a:lnTo>
                      <a:pt x="5357" y="1213"/>
                    </a:lnTo>
                    <a:lnTo>
                      <a:pt x="5363" y="1221"/>
                    </a:lnTo>
                    <a:lnTo>
                      <a:pt x="5368" y="1226"/>
                    </a:lnTo>
                    <a:lnTo>
                      <a:pt x="5374" y="1230"/>
                    </a:lnTo>
                    <a:lnTo>
                      <a:pt x="5379" y="1235"/>
                    </a:lnTo>
                    <a:lnTo>
                      <a:pt x="5384" y="1237"/>
                    </a:lnTo>
                    <a:lnTo>
                      <a:pt x="5389" y="1239"/>
                    </a:lnTo>
                    <a:lnTo>
                      <a:pt x="5394" y="1240"/>
                    </a:lnTo>
                    <a:lnTo>
                      <a:pt x="5404" y="1242"/>
                    </a:lnTo>
                    <a:lnTo>
                      <a:pt x="5416" y="1243"/>
                    </a:lnTo>
                    <a:lnTo>
                      <a:pt x="5430" y="1248"/>
                    </a:lnTo>
                    <a:lnTo>
                      <a:pt x="5447" y="1253"/>
                    </a:lnTo>
                    <a:lnTo>
                      <a:pt x="5454" y="1254"/>
                    </a:lnTo>
                    <a:lnTo>
                      <a:pt x="5461" y="1254"/>
                    </a:lnTo>
                    <a:lnTo>
                      <a:pt x="5470" y="1252"/>
                    </a:lnTo>
                    <a:lnTo>
                      <a:pt x="5480" y="1249"/>
                    </a:lnTo>
                    <a:lnTo>
                      <a:pt x="5502" y="1241"/>
                    </a:lnTo>
                    <a:lnTo>
                      <a:pt x="5525" y="1232"/>
                    </a:lnTo>
                    <a:lnTo>
                      <a:pt x="5549" y="1224"/>
                    </a:lnTo>
                    <a:lnTo>
                      <a:pt x="5570" y="1216"/>
                    </a:lnTo>
                    <a:lnTo>
                      <a:pt x="5579" y="1213"/>
                    </a:lnTo>
                    <a:lnTo>
                      <a:pt x="5588" y="1212"/>
                    </a:lnTo>
                    <a:lnTo>
                      <a:pt x="5595" y="1211"/>
                    </a:lnTo>
                    <a:lnTo>
                      <a:pt x="5601" y="1212"/>
                    </a:lnTo>
                    <a:lnTo>
                      <a:pt x="5608" y="1223"/>
                    </a:lnTo>
                    <a:lnTo>
                      <a:pt x="5617" y="1235"/>
                    </a:lnTo>
                    <a:lnTo>
                      <a:pt x="5626" y="1246"/>
                    </a:lnTo>
                    <a:lnTo>
                      <a:pt x="5636" y="1258"/>
                    </a:lnTo>
                    <a:lnTo>
                      <a:pt x="5648" y="1269"/>
                    </a:lnTo>
                    <a:lnTo>
                      <a:pt x="5661" y="1278"/>
                    </a:lnTo>
                    <a:lnTo>
                      <a:pt x="5669" y="1281"/>
                    </a:lnTo>
                    <a:lnTo>
                      <a:pt x="5676" y="1284"/>
                    </a:lnTo>
                    <a:lnTo>
                      <a:pt x="5684" y="1286"/>
                    </a:lnTo>
                    <a:lnTo>
                      <a:pt x="5691" y="1289"/>
                    </a:lnTo>
                    <a:lnTo>
                      <a:pt x="5702" y="1297"/>
                    </a:lnTo>
                    <a:lnTo>
                      <a:pt x="5713" y="1308"/>
                    </a:lnTo>
                    <a:lnTo>
                      <a:pt x="5725" y="1321"/>
                    </a:lnTo>
                    <a:lnTo>
                      <a:pt x="5737" y="1333"/>
                    </a:lnTo>
                    <a:lnTo>
                      <a:pt x="5743" y="1339"/>
                    </a:lnTo>
                    <a:lnTo>
                      <a:pt x="5751" y="1345"/>
                    </a:lnTo>
                    <a:lnTo>
                      <a:pt x="5757" y="1350"/>
                    </a:lnTo>
                    <a:lnTo>
                      <a:pt x="5766" y="1356"/>
                    </a:lnTo>
                    <a:lnTo>
                      <a:pt x="5773" y="1360"/>
                    </a:lnTo>
                    <a:lnTo>
                      <a:pt x="5782" y="1363"/>
                    </a:lnTo>
                    <a:lnTo>
                      <a:pt x="5791" y="1365"/>
                    </a:lnTo>
                    <a:lnTo>
                      <a:pt x="5800" y="1367"/>
                    </a:lnTo>
                    <a:lnTo>
                      <a:pt x="5807" y="1365"/>
                    </a:lnTo>
                    <a:lnTo>
                      <a:pt x="5816" y="1362"/>
                    </a:lnTo>
                    <a:lnTo>
                      <a:pt x="5823" y="1360"/>
                    </a:lnTo>
                    <a:lnTo>
                      <a:pt x="5832" y="1357"/>
                    </a:lnTo>
                    <a:lnTo>
                      <a:pt x="5840" y="1354"/>
                    </a:lnTo>
                    <a:lnTo>
                      <a:pt x="5848" y="1353"/>
                    </a:lnTo>
                    <a:lnTo>
                      <a:pt x="5854" y="1352"/>
                    </a:lnTo>
                    <a:lnTo>
                      <a:pt x="5860" y="1352"/>
                    </a:lnTo>
                    <a:lnTo>
                      <a:pt x="5862" y="1357"/>
                    </a:lnTo>
                    <a:lnTo>
                      <a:pt x="5864" y="1360"/>
                    </a:lnTo>
                    <a:lnTo>
                      <a:pt x="5865" y="1363"/>
                    </a:lnTo>
                    <a:lnTo>
                      <a:pt x="5865" y="1367"/>
                    </a:lnTo>
                    <a:lnTo>
                      <a:pt x="5864" y="1374"/>
                    </a:lnTo>
                    <a:lnTo>
                      <a:pt x="5862" y="1379"/>
                    </a:lnTo>
                    <a:lnTo>
                      <a:pt x="5858" y="1385"/>
                    </a:lnTo>
                    <a:lnTo>
                      <a:pt x="5851" y="1389"/>
                    </a:lnTo>
                    <a:lnTo>
                      <a:pt x="5844" y="1393"/>
                    </a:lnTo>
                    <a:lnTo>
                      <a:pt x="5836" y="1398"/>
                    </a:lnTo>
                    <a:lnTo>
                      <a:pt x="5818" y="1403"/>
                    </a:lnTo>
                    <a:lnTo>
                      <a:pt x="5799" y="1407"/>
                    </a:lnTo>
                    <a:lnTo>
                      <a:pt x="5783" y="1410"/>
                    </a:lnTo>
                    <a:lnTo>
                      <a:pt x="5771" y="1410"/>
                    </a:lnTo>
                    <a:lnTo>
                      <a:pt x="5772" y="1411"/>
                    </a:lnTo>
                    <a:lnTo>
                      <a:pt x="5773" y="1412"/>
                    </a:lnTo>
                    <a:lnTo>
                      <a:pt x="5773" y="1413"/>
                    </a:lnTo>
                    <a:lnTo>
                      <a:pt x="5773" y="1415"/>
                    </a:lnTo>
                    <a:lnTo>
                      <a:pt x="5772" y="1418"/>
                    </a:lnTo>
                    <a:lnTo>
                      <a:pt x="5768" y="1422"/>
                    </a:lnTo>
                    <a:lnTo>
                      <a:pt x="5763" y="1427"/>
                    </a:lnTo>
                    <a:lnTo>
                      <a:pt x="5755" y="1431"/>
                    </a:lnTo>
                    <a:lnTo>
                      <a:pt x="5746" y="1434"/>
                    </a:lnTo>
                    <a:lnTo>
                      <a:pt x="5736" y="1437"/>
                    </a:lnTo>
                    <a:lnTo>
                      <a:pt x="5729" y="1438"/>
                    </a:lnTo>
                    <a:lnTo>
                      <a:pt x="5718" y="1439"/>
                    </a:lnTo>
                    <a:lnTo>
                      <a:pt x="5705" y="1439"/>
                    </a:lnTo>
                    <a:lnTo>
                      <a:pt x="5690" y="1440"/>
                    </a:lnTo>
                    <a:lnTo>
                      <a:pt x="5675" y="1441"/>
                    </a:lnTo>
                    <a:lnTo>
                      <a:pt x="5659" y="1441"/>
                    </a:lnTo>
                    <a:lnTo>
                      <a:pt x="5644" y="1441"/>
                    </a:lnTo>
                    <a:lnTo>
                      <a:pt x="5630" y="1441"/>
                    </a:lnTo>
                    <a:lnTo>
                      <a:pt x="5617" y="1441"/>
                    </a:lnTo>
                    <a:lnTo>
                      <a:pt x="5602" y="1441"/>
                    </a:lnTo>
                    <a:lnTo>
                      <a:pt x="5584" y="1441"/>
                    </a:lnTo>
                    <a:lnTo>
                      <a:pt x="5568" y="1441"/>
                    </a:lnTo>
                    <a:lnTo>
                      <a:pt x="5550" y="1442"/>
                    </a:lnTo>
                    <a:lnTo>
                      <a:pt x="5534" y="1443"/>
                    </a:lnTo>
                    <a:lnTo>
                      <a:pt x="5517" y="1444"/>
                    </a:lnTo>
                    <a:lnTo>
                      <a:pt x="5503" y="1446"/>
                    </a:lnTo>
                    <a:lnTo>
                      <a:pt x="5489" y="1447"/>
                    </a:lnTo>
                    <a:lnTo>
                      <a:pt x="5472" y="1448"/>
                    </a:lnTo>
                    <a:lnTo>
                      <a:pt x="5451" y="1449"/>
                    </a:lnTo>
                    <a:lnTo>
                      <a:pt x="5429" y="1451"/>
                    </a:lnTo>
                    <a:lnTo>
                      <a:pt x="5406" y="1452"/>
                    </a:lnTo>
                    <a:lnTo>
                      <a:pt x="5383" y="1453"/>
                    </a:lnTo>
                    <a:lnTo>
                      <a:pt x="5362" y="1454"/>
                    </a:lnTo>
                    <a:lnTo>
                      <a:pt x="5343" y="1454"/>
                    </a:lnTo>
                    <a:lnTo>
                      <a:pt x="5324" y="1453"/>
                    </a:lnTo>
                    <a:lnTo>
                      <a:pt x="5302" y="1451"/>
                    </a:lnTo>
                    <a:lnTo>
                      <a:pt x="5280" y="1447"/>
                    </a:lnTo>
                    <a:lnTo>
                      <a:pt x="5256" y="1445"/>
                    </a:lnTo>
                    <a:lnTo>
                      <a:pt x="5231" y="1444"/>
                    </a:lnTo>
                    <a:lnTo>
                      <a:pt x="5206" y="1444"/>
                    </a:lnTo>
                    <a:lnTo>
                      <a:pt x="5181" y="1445"/>
                    </a:lnTo>
                    <a:lnTo>
                      <a:pt x="5158" y="1448"/>
                    </a:lnTo>
                    <a:lnTo>
                      <a:pt x="5144" y="1451"/>
                    </a:lnTo>
                    <a:lnTo>
                      <a:pt x="5126" y="1453"/>
                    </a:lnTo>
                    <a:lnTo>
                      <a:pt x="5107" y="1454"/>
                    </a:lnTo>
                    <a:lnTo>
                      <a:pt x="5083" y="1454"/>
                    </a:lnTo>
                    <a:lnTo>
                      <a:pt x="5032" y="1453"/>
                    </a:lnTo>
                    <a:lnTo>
                      <a:pt x="4979" y="1452"/>
                    </a:lnTo>
                    <a:lnTo>
                      <a:pt x="4928" y="1449"/>
                    </a:lnTo>
                    <a:lnTo>
                      <a:pt x="4882" y="1448"/>
                    </a:lnTo>
                    <a:lnTo>
                      <a:pt x="4863" y="1449"/>
                    </a:lnTo>
                    <a:lnTo>
                      <a:pt x="4848" y="1449"/>
                    </a:lnTo>
                    <a:lnTo>
                      <a:pt x="4836" y="1452"/>
                    </a:lnTo>
                    <a:lnTo>
                      <a:pt x="4829" y="1454"/>
                    </a:lnTo>
                    <a:lnTo>
                      <a:pt x="4822" y="1456"/>
                    </a:lnTo>
                    <a:lnTo>
                      <a:pt x="4810" y="1459"/>
                    </a:lnTo>
                    <a:lnTo>
                      <a:pt x="4795" y="1461"/>
                    </a:lnTo>
                    <a:lnTo>
                      <a:pt x="4776" y="1464"/>
                    </a:lnTo>
                    <a:lnTo>
                      <a:pt x="4734" y="1467"/>
                    </a:lnTo>
                    <a:lnTo>
                      <a:pt x="4687" y="1469"/>
                    </a:lnTo>
                    <a:lnTo>
                      <a:pt x="4641" y="1470"/>
                    </a:lnTo>
                    <a:lnTo>
                      <a:pt x="4600" y="1469"/>
                    </a:lnTo>
                    <a:lnTo>
                      <a:pt x="4584" y="1468"/>
                    </a:lnTo>
                    <a:lnTo>
                      <a:pt x="4571" y="1467"/>
                    </a:lnTo>
                    <a:lnTo>
                      <a:pt x="4566" y="1466"/>
                    </a:lnTo>
                    <a:lnTo>
                      <a:pt x="4561" y="1464"/>
                    </a:lnTo>
                    <a:lnTo>
                      <a:pt x="4558" y="1462"/>
                    </a:lnTo>
                    <a:lnTo>
                      <a:pt x="4557" y="1461"/>
                    </a:lnTo>
                    <a:lnTo>
                      <a:pt x="4546" y="1464"/>
                    </a:lnTo>
                    <a:lnTo>
                      <a:pt x="4517" y="1469"/>
                    </a:lnTo>
                    <a:lnTo>
                      <a:pt x="4474" y="1475"/>
                    </a:lnTo>
                    <a:lnTo>
                      <a:pt x="4420" y="1481"/>
                    </a:lnTo>
                    <a:lnTo>
                      <a:pt x="4391" y="1484"/>
                    </a:lnTo>
                    <a:lnTo>
                      <a:pt x="4360" y="1485"/>
                    </a:lnTo>
                    <a:lnTo>
                      <a:pt x="4330" y="1486"/>
                    </a:lnTo>
                    <a:lnTo>
                      <a:pt x="4299" y="1485"/>
                    </a:lnTo>
                    <a:lnTo>
                      <a:pt x="4270" y="1483"/>
                    </a:lnTo>
                    <a:lnTo>
                      <a:pt x="4240" y="1480"/>
                    </a:lnTo>
                    <a:lnTo>
                      <a:pt x="4226" y="1476"/>
                    </a:lnTo>
                    <a:lnTo>
                      <a:pt x="4213" y="1473"/>
                    </a:lnTo>
                    <a:lnTo>
                      <a:pt x="4200" y="1470"/>
                    </a:lnTo>
                    <a:lnTo>
                      <a:pt x="4189" y="1466"/>
                    </a:lnTo>
                    <a:lnTo>
                      <a:pt x="4173" y="1467"/>
                    </a:lnTo>
                    <a:lnTo>
                      <a:pt x="4131" y="1470"/>
                    </a:lnTo>
                    <a:lnTo>
                      <a:pt x="4070" y="1474"/>
                    </a:lnTo>
                    <a:lnTo>
                      <a:pt x="3994" y="1478"/>
                    </a:lnTo>
                    <a:lnTo>
                      <a:pt x="3910" y="1481"/>
                    </a:lnTo>
                    <a:lnTo>
                      <a:pt x="3826" y="1482"/>
                    </a:lnTo>
                    <a:lnTo>
                      <a:pt x="3785" y="1481"/>
                    </a:lnTo>
                    <a:lnTo>
                      <a:pt x="3746" y="1480"/>
                    </a:lnTo>
                    <a:lnTo>
                      <a:pt x="3709" y="1478"/>
                    </a:lnTo>
                    <a:lnTo>
                      <a:pt x="3677" y="1473"/>
                    </a:lnTo>
                    <a:lnTo>
                      <a:pt x="3640" y="1475"/>
                    </a:lnTo>
                    <a:lnTo>
                      <a:pt x="3592" y="1479"/>
                    </a:lnTo>
                    <a:lnTo>
                      <a:pt x="3537" y="1483"/>
                    </a:lnTo>
                    <a:lnTo>
                      <a:pt x="3475" y="1487"/>
                    </a:lnTo>
                    <a:lnTo>
                      <a:pt x="3409" y="1491"/>
                    </a:lnTo>
                    <a:lnTo>
                      <a:pt x="3341" y="1493"/>
                    </a:lnTo>
                    <a:lnTo>
                      <a:pt x="3306" y="1493"/>
                    </a:lnTo>
                    <a:lnTo>
                      <a:pt x="3273" y="1492"/>
                    </a:lnTo>
                    <a:lnTo>
                      <a:pt x="3239" y="1491"/>
                    </a:lnTo>
                    <a:lnTo>
                      <a:pt x="3207" y="1488"/>
                    </a:lnTo>
                    <a:lnTo>
                      <a:pt x="3175" y="1485"/>
                    </a:lnTo>
                    <a:lnTo>
                      <a:pt x="3146" y="1484"/>
                    </a:lnTo>
                    <a:lnTo>
                      <a:pt x="3118" y="1483"/>
                    </a:lnTo>
                    <a:lnTo>
                      <a:pt x="3092" y="1483"/>
                    </a:lnTo>
                    <a:lnTo>
                      <a:pt x="3045" y="1485"/>
                    </a:lnTo>
                    <a:lnTo>
                      <a:pt x="3001" y="1488"/>
                    </a:lnTo>
                    <a:lnTo>
                      <a:pt x="2961" y="1493"/>
                    </a:lnTo>
                    <a:lnTo>
                      <a:pt x="2924" y="1496"/>
                    </a:lnTo>
                    <a:lnTo>
                      <a:pt x="2905" y="1498"/>
                    </a:lnTo>
                    <a:lnTo>
                      <a:pt x="2887" y="1498"/>
                    </a:lnTo>
                    <a:lnTo>
                      <a:pt x="2870" y="1499"/>
                    </a:lnTo>
                    <a:lnTo>
                      <a:pt x="2851" y="1498"/>
                    </a:lnTo>
                    <a:lnTo>
                      <a:pt x="2813" y="1496"/>
                    </a:lnTo>
                    <a:lnTo>
                      <a:pt x="2777" y="1493"/>
                    </a:lnTo>
                    <a:lnTo>
                      <a:pt x="2742" y="1488"/>
                    </a:lnTo>
                    <a:lnTo>
                      <a:pt x="2710" y="1485"/>
                    </a:lnTo>
                    <a:lnTo>
                      <a:pt x="2682" y="1482"/>
                    </a:lnTo>
                    <a:lnTo>
                      <a:pt x="2659" y="1480"/>
                    </a:lnTo>
                    <a:lnTo>
                      <a:pt x="2649" y="1480"/>
                    </a:lnTo>
                    <a:lnTo>
                      <a:pt x="2642" y="1480"/>
                    </a:lnTo>
                    <a:lnTo>
                      <a:pt x="2636" y="1480"/>
                    </a:lnTo>
                    <a:lnTo>
                      <a:pt x="2633" y="1481"/>
                    </a:lnTo>
                    <a:lnTo>
                      <a:pt x="2623" y="1484"/>
                    </a:lnTo>
                    <a:lnTo>
                      <a:pt x="2604" y="1488"/>
                    </a:lnTo>
                    <a:lnTo>
                      <a:pt x="2578" y="1493"/>
                    </a:lnTo>
                    <a:lnTo>
                      <a:pt x="2549" y="1496"/>
                    </a:lnTo>
                    <a:lnTo>
                      <a:pt x="2535" y="1497"/>
                    </a:lnTo>
                    <a:lnTo>
                      <a:pt x="2520" y="1497"/>
                    </a:lnTo>
                    <a:lnTo>
                      <a:pt x="2506" y="1497"/>
                    </a:lnTo>
                    <a:lnTo>
                      <a:pt x="2493" y="1496"/>
                    </a:lnTo>
                    <a:lnTo>
                      <a:pt x="2481" y="1494"/>
                    </a:lnTo>
                    <a:lnTo>
                      <a:pt x="2471" y="1491"/>
                    </a:lnTo>
                    <a:lnTo>
                      <a:pt x="2467" y="1488"/>
                    </a:lnTo>
                    <a:lnTo>
                      <a:pt x="2463" y="1486"/>
                    </a:lnTo>
                    <a:lnTo>
                      <a:pt x="2460" y="1484"/>
                    </a:lnTo>
                    <a:lnTo>
                      <a:pt x="2458" y="1481"/>
                    </a:lnTo>
                    <a:lnTo>
                      <a:pt x="2453" y="1482"/>
                    </a:lnTo>
                    <a:lnTo>
                      <a:pt x="2440" y="1483"/>
                    </a:lnTo>
                    <a:lnTo>
                      <a:pt x="2421" y="1485"/>
                    </a:lnTo>
                    <a:lnTo>
                      <a:pt x="2400" y="1487"/>
                    </a:lnTo>
                    <a:lnTo>
                      <a:pt x="2377" y="1488"/>
                    </a:lnTo>
                    <a:lnTo>
                      <a:pt x="2355" y="1489"/>
                    </a:lnTo>
                    <a:lnTo>
                      <a:pt x="2346" y="1489"/>
                    </a:lnTo>
                    <a:lnTo>
                      <a:pt x="2338" y="1488"/>
                    </a:lnTo>
                    <a:lnTo>
                      <a:pt x="2332" y="1487"/>
                    </a:lnTo>
                    <a:lnTo>
                      <a:pt x="2326" y="1486"/>
                    </a:lnTo>
                    <a:lnTo>
                      <a:pt x="2325" y="1488"/>
                    </a:lnTo>
                    <a:lnTo>
                      <a:pt x="2321" y="1489"/>
                    </a:lnTo>
                    <a:lnTo>
                      <a:pt x="2314" y="1492"/>
                    </a:lnTo>
                    <a:lnTo>
                      <a:pt x="2306" y="1493"/>
                    </a:lnTo>
                    <a:lnTo>
                      <a:pt x="2283" y="1494"/>
                    </a:lnTo>
                    <a:lnTo>
                      <a:pt x="2256" y="1496"/>
                    </a:lnTo>
                    <a:lnTo>
                      <a:pt x="2227" y="1497"/>
                    </a:lnTo>
                    <a:lnTo>
                      <a:pt x="2196" y="1498"/>
                    </a:lnTo>
                    <a:lnTo>
                      <a:pt x="2166" y="1500"/>
                    </a:lnTo>
                    <a:lnTo>
                      <a:pt x="2142" y="1503"/>
                    </a:lnTo>
                    <a:lnTo>
                      <a:pt x="2111" y="1506"/>
                    </a:lnTo>
                    <a:lnTo>
                      <a:pt x="2070" y="1508"/>
                    </a:lnTo>
                    <a:lnTo>
                      <a:pt x="2022" y="1508"/>
                    </a:lnTo>
                    <a:lnTo>
                      <a:pt x="1968" y="1509"/>
                    </a:lnTo>
                    <a:lnTo>
                      <a:pt x="1912" y="1509"/>
                    </a:lnTo>
                    <a:lnTo>
                      <a:pt x="1858" y="1510"/>
                    </a:lnTo>
                    <a:lnTo>
                      <a:pt x="1809" y="1512"/>
                    </a:lnTo>
                    <a:lnTo>
                      <a:pt x="1766" y="1515"/>
                    </a:lnTo>
                    <a:lnTo>
                      <a:pt x="1722" y="1520"/>
                    </a:lnTo>
                    <a:lnTo>
                      <a:pt x="1674" y="1522"/>
                    </a:lnTo>
                    <a:lnTo>
                      <a:pt x="1622" y="1523"/>
                    </a:lnTo>
                    <a:lnTo>
                      <a:pt x="1569" y="1523"/>
                    </a:lnTo>
                    <a:lnTo>
                      <a:pt x="1517" y="1523"/>
                    </a:lnTo>
                    <a:lnTo>
                      <a:pt x="1470" y="1523"/>
                    </a:lnTo>
                    <a:lnTo>
                      <a:pt x="1429" y="1522"/>
                    </a:lnTo>
                    <a:lnTo>
                      <a:pt x="1394" y="1523"/>
                    </a:lnTo>
                    <a:lnTo>
                      <a:pt x="1366" y="1524"/>
                    </a:lnTo>
                    <a:lnTo>
                      <a:pt x="1337" y="1526"/>
                    </a:lnTo>
                    <a:lnTo>
                      <a:pt x="1309" y="1528"/>
                    </a:lnTo>
                    <a:lnTo>
                      <a:pt x="1283" y="1532"/>
                    </a:lnTo>
                    <a:lnTo>
                      <a:pt x="1258" y="1534"/>
                    </a:lnTo>
                    <a:lnTo>
                      <a:pt x="1235" y="1536"/>
                    </a:lnTo>
                    <a:lnTo>
                      <a:pt x="1217" y="1537"/>
                    </a:lnTo>
                    <a:lnTo>
                      <a:pt x="1202" y="1538"/>
                    </a:lnTo>
                    <a:lnTo>
                      <a:pt x="1187" y="1537"/>
                    </a:lnTo>
                    <a:lnTo>
                      <a:pt x="1166" y="1538"/>
                    </a:lnTo>
                    <a:lnTo>
                      <a:pt x="1141" y="1539"/>
                    </a:lnTo>
                    <a:lnTo>
                      <a:pt x="1114" y="1540"/>
                    </a:lnTo>
                    <a:lnTo>
                      <a:pt x="1084" y="1541"/>
                    </a:lnTo>
                    <a:lnTo>
                      <a:pt x="1055" y="1541"/>
                    </a:lnTo>
                    <a:lnTo>
                      <a:pt x="1025" y="1540"/>
                    </a:lnTo>
                    <a:lnTo>
                      <a:pt x="996" y="1538"/>
                    </a:lnTo>
                    <a:lnTo>
                      <a:pt x="967" y="1535"/>
                    </a:lnTo>
                    <a:lnTo>
                      <a:pt x="936" y="1533"/>
                    </a:lnTo>
                    <a:lnTo>
                      <a:pt x="904" y="1532"/>
                    </a:lnTo>
                    <a:lnTo>
                      <a:pt x="869" y="1530"/>
                    </a:lnTo>
                    <a:lnTo>
                      <a:pt x="834" y="1532"/>
                    </a:lnTo>
                    <a:lnTo>
                      <a:pt x="800" y="1533"/>
                    </a:lnTo>
                    <a:lnTo>
                      <a:pt x="766" y="1534"/>
                    </a:lnTo>
                    <a:lnTo>
                      <a:pt x="734" y="1535"/>
                    </a:lnTo>
                    <a:lnTo>
                      <a:pt x="699" y="1538"/>
                    </a:lnTo>
                    <a:lnTo>
                      <a:pt x="662" y="1539"/>
                    </a:lnTo>
                    <a:lnTo>
                      <a:pt x="620" y="1540"/>
                    </a:lnTo>
                    <a:lnTo>
                      <a:pt x="577" y="1540"/>
                    </a:lnTo>
                    <a:lnTo>
                      <a:pt x="535" y="1539"/>
                    </a:lnTo>
                    <a:lnTo>
                      <a:pt x="493" y="1537"/>
                    </a:lnTo>
                    <a:lnTo>
                      <a:pt x="453" y="1535"/>
                    </a:lnTo>
                    <a:lnTo>
                      <a:pt x="415" y="1530"/>
                    </a:lnTo>
                    <a:lnTo>
                      <a:pt x="381" y="1525"/>
                    </a:lnTo>
                    <a:lnTo>
                      <a:pt x="345" y="1521"/>
                    </a:lnTo>
                    <a:lnTo>
                      <a:pt x="310" y="1518"/>
                    </a:lnTo>
                    <a:lnTo>
                      <a:pt x="277" y="1513"/>
                    </a:lnTo>
                    <a:lnTo>
                      <a:pt x="246" y="1510"/>
                    </a:lnTo>
                    <a:lnTo>
                      <a:pt x="216" y="1506"/>
                    </a:lnTo>
                    <a:lnTo>
                      <a:pt x="203" y="1502"/>
                    </a:lnTo>
                    <a:lnTo>
                      <a:pt x="192" y="1500"/>
                    </a:lnTo>
                    <a:lnTo>
                      <a:pt x="181" y="1497"/>
                    </a:lnTo>
                    <a:lnTo>
                      <a:pt x="171" y="1493"/>
                    </a:lnTo>
                    <a:lnTo>
                      <a:pt x="161" y="1489"/>
                    </a:lnTo>
                    <a:lnTo>
                      <a:pt x="152" y="1487"/>
                    </a:lnTo>
                    <a:lnTo>
                      <a:pt x="143" y="1485"/>
                    </a:lnTo>
                    <a:lnTo>
                      <a:pt x="134" y="1484"/>
                    </a:lnTo>
                    <a:lnTo>
                      <a:pt x="117" y="1483"/>
                    </a:lnTo>
                    <a:lnTo>
                      <a:pt x="101" y="1482"/>
                    </a:lnTo>
                    <a:lnTo>
                      <a:pt x="87" y="1481"/>
                    </a:lnTo>
                    <a:lnTo>
                      <a:pt x="75" y="1478"/>
                    </a:lnTo>
                    <a:lnTo>
                      <a:pt x="70" y="1476"/>
                    </a:lnTo>
                    <a:lnTo>
                      <a:pt x="65" y="1473"/>
                    </a:lnTo>
                    <a:lnTo>
                      <a:pt x="62" y="1470"/>
                    </a:lnTo>
                    <a:lnTo>
                      <a:pt x="60" y="1466"/>
                    </a:lnTo>
                    <a:lnTo>
                      <a:pt x="53" y="1456"/>
                    </a:lnTo>
                    <a:lnTo>
                      <a:pt x="45" y="1445"/>
                    </a:lnTo>
                    <a:lnTo>
                      <a:pt x="37" y="1434"/>
                    </a:lnTo>
                    <a:lnTo>
                      <a:pt x="27" y="1424"/>
                    </a:lnTo>
                    <a:lnTo>
                      <a:pt x="19" y="1413"/>
                    </a:lnTo>
                    <a:lnTo>
                      <a:pt x="11" y="1402"/>
                    </a:lnTo>
                    <a:lnTo>
                      <a:pt x="5" y="1392"/>
                    </a:lnTo>
                    <a:lnTo>
                      <a:pt x="0" y="1385"/>
                    </a:lnTo>
                    <a:lnTo>
                      <a:pt x="12" y="1387"/>
                    </a:lnTo>
                    <a:lnTo>
                      <a:pt x="25" y="1387"/>
                    </a:lnTo>
                    <a:lnTo>
                      <a:pt x="37" y="1387"/>
                    </a:lnTo>
                    <a:lnTo>
                      <a:pt x="50" y="1386"/>
                    </a:lnTo>
                    <a:lnTo>
                      <a:pt x="62" y="1383"/>
                    </a:lnTo>
                    <a:lnTo>
                      <a:pt x="75" y="1379"/>
                    </a:lnTo>
                    <a:lnTo>
                      <a:pt x="88" y="1375"/>
                    </a:lnTo>
                    <a:lnTo>
                      <a:pt x="101" y="1370"/>
                    </a:lnTo>
                    <a:lnTo>
                      <a:pt x="127" y="1371"/>
                    </a:lnTo>
                    <a:lnTo>
                      <a:pt x="151" y="1371"/>
                    </a:lnTo>
                    <a:lnTo>
                      <a:pt x="174" y="1371"/>
                    </a:lnTo>
                    <a:lnTo>
                      <a:pt x="197" y="1370"/>
                    </a:lnTo>
                    <a:lnTo>
                      <a:pt x="219" y="1370"/>
                    </a:lnTo>
                    <a:lnTo>
                      <a:pt x="239" y="1371"/>
                    </a:lnTo>
                    <a:lnTo>
                      <a:pt x="249" y="1372"/>
                    </a:lnTo>
                    <a:lnTo>
                      <a:pt x="258" y="1373"/>
                    </a:lnTo>
                    <a:lnTo>
                      <a:pt x="266" y="1375"/>
                    </a:lnTo>
                    <a:lnTo>
                      <a:pt x="275" y="1377"/>
                    </a:lnTo>
                    <a:lnTo>
                      <a:pt x="329" y="1374"/>
                    </a:lnTo>
                    <a:lnTo>
                      <a:pt x="382" y="1370"/>
                    </a:lnTo>
                    <a:lnTo>
                      <a:pt x="433" y="1365"/>
                    </a:lnTo>
                    <a:lnTo>
                      <a:pt x="480" y="1362"/>
                    </a:lnTo>
                    <a:lnTo>
                      <a:pt x="503" y="1361"/>
                    </a:lnTo>
                    <a:lnTo>
                      <a:pt x="523" y="1361"/>
                    </a:lnTo>
                    <a:lnTo>
                      <a:pt x="544" y="1361"/>
                    </a:lnTo>
                    <a:lnTo>
                      <a:pt x="562" y="1362"/>
                    </a:lnTo>
                    <a:lnTo>
                      <a:pt x="579" y="1364"/>
                    </a:lnTo>
                    <a:lnTo>
                      <a:pt x="595" y="1367"/>
                    </a:lnTo>
                    <a:lnTo>
                      <a:pt x="609" y="1372"/>
                    </a:lnTo>
                    <a:lnTo>
                      <a:pt x="620" y="1377"/>
                    </a:lnTo>
                    <a:lnTo>
                      <a:pt x="630" y="1373"/>
                    </a:lnTo>
                    <a:lnTo>
                      <a:pt x="641" y="1366"/>
                    </a:lnTo>
                    <a:lnTo>
                      <a:pt x="655" y="1359"/>
                    </a:lnTo>
                    <a:lnTo>
                      <a:pt x="670" y="1349"/>
                    </a:lnTo>
                    <a:lnTo>
                      <a:pt x="706" y="1327"/>
                    </a:lnTo>
                    <a:lnTo>
                      <a:pt x="745" y="1306"/>
                    </a:lnTo>
                    <a:lnTo>
                      <a:pt x="765" y="1295"/>
                    </a:lnTo>
                    <a:lnTo>
                      <a:pt x="786" y="1286"/>
                    </a:lnTo>
                    <a:lnTo>
                      <a:pt x="806" y="1279"/>
                    </a:lnTo>
                    <a:lnTo>
                      <a:pt x="827" y="1272"/>
                    </a:lnTo>
                    <a:lnTo>
                      <a:pt x="837" y="1271"/>
                    </a:lnTo>
                    <a:lnTo>
                      <a:pt x="846" y="1269"/>
                    </a:lnTo>
                    <a:lnTo>
                      <a:pt x="856" y="1269"/>
                    </a:lnTo>
                    <a:lnTo>
                      <a:pt x="866" y="1269"/>
                    </a:lnTo>
                    <a:lnTo>
                      <a:pt x="874" y="1270"/>
                    </a:lnTo>
                    <a:lnTo>
                      <a:pt x="883" y="1271"/>
                    </a:lnTo>
                    <a:lnTo>
                      <a:pt x="892" y="1275"/>
                    </a:lnTo>
                    <a:lnTo>
                      <a:pt x="900" y="1278"/>
                    </a:lnTo>
                    <a:lnTo>
                      <a:pt x="905" y="1280"/>
                    </a:lnTo>
                    <a:lnTo>
                      <a:pt x="911" y="1281"/>
                    </a:lnTo>
                    <a:lnTo>
                      <a:pt x="919" y="1282"/>
                    </a:lnTo>
                    <a:lnTo>
                      <a:pt x="927" y="1283"/>
                    </a:lnTo>
                    <a:lnTo>
                      <a:pt x="948" y="1283"/>
                    </a:lnTo>
                    <a:lnTo>
                      <a:pt x="973" y="1283"/>
                    </a:lnTo>
                    <a:lnTo>
                      <a:pt x="1030" y="1280"/>
                    </a:lnTo>
                    <a:lnTo>
                      <a:pt x="1094" y="1275"/>
                    </a:lnTo>
                    <a:lnTo>
                      <a:pt x="1160" y="1270"/>
                    </a:lnTo>
                    <a:lnTo>
                      <a:pt x="1220" y="1268"/>
                    </a:lnTo>
                    <a:lnTo>
                      <a:pt x="1247" y="1268"/>
                    </a:lnTo>
                    <a:lnTo>
                      <a:pt x="1272" y="1270"/>
                    </a:lnTo>
                    <a:lnTo>
                      <a:pt x="1283" y="1271"/>
                    </a:lnTo>
                    <a:lnTo>
                      <a:pt x="1292" y="1273"/>
                    </a:lnTo>
                    <a:lnTo>
                      <a:pt x="1301" y="1276"/>
                    </a:lnTo>
                    <a:lnTo>
                      <a:pt x="1308" y="1278"/>
                    </a:lnTo>
                    <a:lnTo>
                      <a:pt x="1312" y="1278"/>
                    </a:lnTo>
                    <a:lnTo>
                      <a:pt x="1319" y="1276"/>
                    </a:lnTo>
                    <a:lnTo>
                      <a:pt x="1329" y="1271"/>
                    </a:lnTo>
                    <a:lnTo>
                      <a:pt x="1341" y="1264"/>
                    </a:lnTo>
                    <a:lnTo>
                      <a:pt x="1370" y="1246"/>
                    </a:lnTo>
                    <a:lnTo>
                      <a:pt x="1406" y="1225"/>
                    </a:lnTo>
                    <a:lnTo>
                      <a:pt x="1425" y="1214"/>
                    </a:lnTo>
                    <a:lnTo>
                      <a:pt x="1446" y="1203"/>
                    </a:lnTo>
                    <a:lnTo>
                      <a:pt x="1466" y="1192"/>
                    </a:lnTo>
                    <a:lnTo>
                      <a:pt x="1487" y="1183"/>
                    </a:lnTo>
                    <a:lnTo>
                      <a:pt x="1508" y="1173"/>
                    </a:lnTo>
                    <a:lnTo>
                      <a:pt x="1530" y="1167"/>
                    </a:lnTo>
                    <a:lnTo>
                      <a:pt x="1551" y="1160"/>
                    </a:lnTo>
                    <a:lnTo>
                      <a:pt x="1570" y="1157"/>
                    </a:lnTo>
                    <a:lnTo>
                      <a:pt x="1589" y="1158"/>
                    </a:lnTo>
                    <a:lnTo>
                      <a:pt x="1607" y="1160"/>
                    </a:lnTo>
                    <a:lnTo>
                      <a:pt x="1623" y="1163"/>
                    </a:lnTo>
                    <a:lnTo>
                      <a:pt x="1639" y="1167"/>
                    </a:lnTo>
                    <a:lnTo>
                      <a:pt x="1655" y="1170"/>
                    </a:lnTo>
                    <a:lnTo>
                      <a:pt x="1671" y="1173"/>
                    </a:lnTo>
                    <a:lnTo>
                      <a:pt x="1688" y="1175"/>
                    </a:lnTo>
                    <a:lnTo>
                      <a:pt x="1706" y="1177"/>
                    </a:lnTo>
                    <a:lnTo>
                      <a:pt x="1727" y="1179"/>
                    </a:lnTo>
                    <a:lnTo>
                      <a:pt x="1750" y="1179"/>
                    </a:lnTo>
                    <a:lnTo>
                      <a:pt x="1776" y="1177"/>
                    </a:lnTo>
                    <a:lnTo>
                      <a:pt x="1807" y="1174"/>
                    </a:lnTo>
                    <a:lnTo>
                      <a:pt x="1840" y="1169"/>
                    </a:lnTo>
                    <a:lnTo>
                      <a:pt x="1879" y="1161"/>
                    </a:lnTo>
                    <a:lnTo>
                      <a:pt x="1923" y="1150"/>
                    </a:lnTo>
                    <a:lnTo>
                      <a:pt x="1973" y="1137"/>
                    </a:lnTo>
                    <a:close/>
                  </a:path>
                </a:pathLst>
              </a:custGeom>
              <a:solidFill>
                <a:srgbClr val="8ab7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905440" y="3243240"/>
                <a:ext cx="1859040" cy="484200"/>
              </a:xfrm>
              <a:custGeom>
                <a:avLst/>
                <a:gdLst/>
                <a:ahLst/>
                <a:rect l="l" t="t" r="r" b="b"/>
                <a:pathLst>
                  <a:path w="5854" h="1525">
                    <a:moveTo>
                      <a:pt x="1966" y="1196"/>
                    </a:moveTo>
                    <a:lnTo>
                      <a:pt x="1993" y="1181"/>
                    </a:lnTo>
                    <a:lnTo>
                      <a:pt x="2033" y="1159"/>
                    </a:lnTo>
                    <a:lnTo>
                      <a:pt x="2082" y="1130"/>
                    </a:lnTo>
                    <a:lnTo>
                      <a:pt x="2142" y="1094"/>
                    </a:lnTo>
                    <a:lnTo>
                      <a:pt x="2209" y="1053"/>
                    </a:lnTo>
                    <a:lnTo>
                      <a:pt x="2282" y="1006"/>
                    </a:lnTo>
                    <a:lnTo>
                      <a:pt x="2359" y="955"/>
                    </a:lnTo>
                    <a:lnTo>
                      <a:pt x="2439" y="899"/>
                    </a:lnTo>
                    <a:lnTo>
                      <a:pt x="2480" y="870"/>
                    </a:lnTo>
                    <a:lnTo>
                      <a:pt x="2520" y="839"/>
                    </a:lnTo>
                    <a:lnTo>
                      <a:pt x="2561" y="808"/>
                    </a:lnTo>
                    <a:lnTo>
                      <a:pt x="2601" y="777"/>
                    </a:lnTo>
                    <a:lnTo>
                      <a:pt x="2641" y="744"/>
                    </a:lnTo>
                    <a:lnTo>
                      <a:pt x="2681" y="711"/>
                    </a:lnTo>
                    <a:lnTo>
                      <a:pt x="2719" y="679"/>
                    </a:lnTo>
                    <a:lnTo>
                      <a:pt x="2757" y="644"/>
                    </a:lnTo>
                    <a:lnTo>
                      <a:pt x="2792" y="609"/>
                    </a:lnTo>
                    <a:lnTo>
                      <a:pt x="2827" y="575"/>
                    </a:lnTo>
                    <a:lnTo>
                      <a:pt x="2860" y="540"/>
                    </a:lnTo>
                    <a:lnTo>
                      <a:pt x="2892" y="506"/>
                    </a:lnTo>
                    <a:lnTo>
                      <a:pt x="2921" y="470"/>
                    </a:lnTo>
                    <a:lnTo>
                      <a:pt x="2948" y="436"/>
                    </a:lnTo>
                    <a:lnTo>
                      <a:pt x="2972" y="400"/>
                    </a:lnTo>
                    <a:lnTo>
                      <a:pt x="2994" y="365"/>
                    </a:lnTo>
                    <a:lnTo>
                      <a:pt x="3016" y="350"/>
                    </a:lnTo>
                    <a:lnTo>
                      <a:pt x="3039" y="337"/>
                    </a:lnTo>
                    <a:lnTo>
                      <a:pt x="3050" y="331"/>
                    </a:lnTo>
                    <a:lnTo>
                      <a:pt x="3063" y="324"/>
                    </a:lnTo>
                    <a:lnTo>
                      <a:pt x="3078" y="318"/>
                    </a:lnTo>
                    <a:lnTo>
                      <a:pt x="3096" y="311"/>
                    </a:lnTo>
                    <a:lnTo>
                      <a:pt x="3115" y="305"/>
                    </a:lnTo>
                    <a:lnTo>
                      <a:pt x="3138" y="298"/>
                    </a:lnTo>
                    <a:lnTo>
                      <a:pt x="3164" y="291"/>
                    </a:lnTo>
                    <a:lnTo>
                      <a:pt x="3194" y="283"/>
                    </a:lnTo>
                    <a:lnTo>
                      <a:pt x="3265" y="267"/>
                    </a:lnTo>
                    <a:lnTo>
                      <a:pt x="3357" y="249"/>
                    </a:lnTo>
                    <a:lnTo>
                      <a:pt x="3402" y="222"/>
                    </a:lnTo>
                    <a:lnTo>
                      <a:pt x="3461" y="184"/>
                    </a:lnTo>
                    <a:lnTo>
                      <a:pt x="3497" y="162"/>
                    </a:lnTo>
                    <a:lnTo>
                      <a:pt x="3535" y="140"/>
                    </a:lnTo>
                    <a:lnTo>
                      <a:pt x="3578" y="117"/>
                    </a:lnTo>
                    <a:lnTo>
                      <a:pt x="3622" y="94"/>
                    </a:lnTo>
                    <a:lnTo>
                      <a:pt x="3646" y="83"/>
                    </a:lnTo>
                    <a:lnTo>
                      <a:pt x="3670" y="73"/>
                    </a:lnTo>
                    <a:lnTo>
                      <a:pt x="3695" y="62"/>
                    </a:lnTo>
                    <a:lnTo>
                      <a:pt x="3721" y="52"/>
                    </a:lnTo>
                    <a:lnTo>
                      <a:pt x="3748" y="44"/>
                    </a:lnTo>
                    <a:lnTo>
                      <a:pt x="3775" y="35"/>
                    </a:lnTo>
                    <a:lnTo>
                      <a:pt x="3802" y="27"/>
                    </a:lnTo>
                    <a:lnTo>
                      <a:pt x="3830" y="21"/>
                    </a:lnTo>
                    <a:lnTo>
                      <a:pt x="3860" y="14"/>
                    </a:lnTo>
                    <a:lnTo>
                      <a:pt x="3889" y="9"/>
                    </a:lnTo>
                    <a:lnTo>
                      <a:pt x="3919" y="6"/>
                    </a:lnTo>
                    <a:lnTo>
                      <a:pt x="3949" y="2"/>
                    </a:lnTo>
                    <a:lnTo>
                      <a:pt x="3979" y="0"/>
                    </a:lnTo>
                    <a:lnTo>
                      <a:pt x="4011" y="0"/>
                    </a:lnTo>
                    <a:lnTo>
                      <a:pt x="4042" y="1"/>
                    </a:lnTo>
                    <a:lnTo>
                      <a:pt x="4075" y="4"/>
                    </a:lnTo>
                    <a:lnTo>
                      <a:pt x="4127" y="7"/>
                    </a:lnTo>
                    <a:lnTo>
                      <a:pt x="4187" y="11"/>
                    </a:lnTo>
                    <a:lnTo>
                      <a:pt x="4218" y="14"/>
                    </a:lnTo>
                    <a:lnTo>
                      <a:pt x="4252" y="19"/>
                    </a:lnTo>
                    <a:lnTo>
                      <a:pt x="4285" y="25"/>
                    </a:lnTo>
                    <a:lnTo>
                      <a:pt x="4319" y="33"/>
                    </a:lnTo>
                    <a:lnTo>
                      <a:pt x="4336" y="38"/>
                    </a:lnTo>
                    <a:lnTo>
                      <a:pt x="4353" y="44"/>
                    </a:lnTo>
                    <a:lnTo>
                      <a:pt x="4369" y="50"/>
                    </a:lnTo>
                    <a:lnTo>
                      <a:pt x="4387" y="56"/>
                    </a:lnTo>
                    <a:lnTo>
                      <a:pt x="4404" y="65"/>
                    </a:lnTo>
                    <a:lnTo>
                      <a:pt x="4420" y="73"/>
                    </a:lnTo>
                    <a:lnTo>
                      <a:pt x="4437" y="82"/>
                    </a:lnTo>
                    <a:lnTo>
                      <a:pt x="4454" y="93"/>
                    </a:lnTo>
                    <a:lnTo>
                      <a:pt x="4470" y="104"/>
                    </a:lnTo>
                    <a:lnTo>
                      <a:pt x="4486" y="117"/>
                    </a:lnTo>
                    <a:lnTo>
                      <a:pt x="4501" y="130"/>
                    </a:lnTo>
                    <a:lnTo>
                      <a:pt x="4516" y="144"/>
                    </a:lnTo>
                    <a:lnTo>
                      <a:pt x="4531" y="160"/>
                    </a:lnTo>
                    <a:lnTo>
                      <a:pt x="4547" y="176"/>
                    </a:lnTo>
                    <a:lnTo>
                      <a:pt x="4561" y="195"/>
                    </a:lnTo>
                    <a:lnTo>
                      <a:pt x="4574" y="214"/>
                    </a:lnTo>
                    <a:lnTo>
                      <a:pt x="4582" y="229"/>
                    </a:lnTo>
                    <a:lnTo>
                      <a:pt x="4594" y="248"/>
                    </a:lnTo>
                    <a:lnTo>
                      <a:pt x="4610" y="269"/>
                    </a:lnTo>
                    <a:lnTo>
                      <a:pt x="4629" y="293"/>
                    </a:lnTo>
                    <a:lnTo>
                      <a:pt x="4650" y="319"/>
                    </a:lnTo>
                    <a:lnTo>
                      <a:pt x="4674" y="347"/>
                    </a:lnTo>
                    <a:lnTo>
                      <a:pt x="4700" y="376"/>
                    </a:lnTo>
                    <a:lnTo>
                      <a:pt x="4728" y="405"/>
                    </a:lnTo>
                    <a:lnTo>
                      <a:pt x="4785" y="466"/>
                    </a:lnTo>
                    <a:lnTo>
                      <a:pt x="4845" y="525"/>
                    </a:lnTo>
                    <a:lnTo>
                      <a:pt x="4901" y="580"/>
                    </a:lnTo>
                    <a:lnTo>
                      <a:pt x="4953" y="627"/>
                    </a:lnTo>
                    <a:lnTo>
                      <a:pt x="4959" y="635"/>
                    </a:lnTo>
                    <a:lnTo>
                      <a:pt x="4966" y="643"/>
                    </a:lnTo>
                    <a:lnTo>
                      <a:pt x="4974" y="649"/>
                    </a:lnTo>
                    <a:lnTo>
                      <a:pt x="4982" y="657"/>
                    </a:lnTo>
                    <a:lnTo>
                      <a:pt x="5000" y="671"/>
                    </a:lnTo>
                    <a:lnTo>
                      <a:pt x="5021" y="684"/>
                    </a:lnTo>
                    <a:lnTo>
                      <a:pt x="5064" y="710"/>
                    </a:lnTo>
                    <a:lnTo>
                      <a:pt x="5109" y="738"/>
                    </a:lnTo>
                    <a:lnTo>
                      <a:pt x="5132" y="753"/>
                    </a:lnTo>
                    <a:lnTo>
                      <a:pt x="5154" y="770"/>
                    </a:lnTo>
                    <a:lnTo>
                      <a:pt x="5165" y="780"/>
                    </a:lnTo>
                    <a:lnTo>
                      <a:pt x="5174" y="789"/>
                    </a:lnTo>
                    <a:lnTo>
                      <a:pt x="5184" y="800"/>
                    </a:lnTo>
                    <a:lnTo>
                      <a:pt x="5194" y="810"/>
                    </a:lnTo>
                    <a:lnTo>
                      <a:pt x="5202" y="821"/>
                    </a:lnTo>
                    <a:lnTo>
                      <a:pt x="5210" y="833"/>
                    </a:lnTo>
                    <a:lnTo>
                      <a:pt x="5219" y="846"/>
                    </a:lnTo>
                    <a:lnTo>
                      <a:pt x="5225" y="860"/>
                    </a:lnTo>
                    <a:lnTo>
                      <a:pt x="5231" y="874"/>
                    </a:lnTo>
                    <a:lnTo>
                      <a:pt x="5237" y="888"/>
                    </a:lnTo>
                    <a:lnTo>
                      <a:pt x="5242" y="904"/>
                    </a:lnTo>
                    <a:lnTo>
                      <a:pt x="5247" y="922"/>
                    </a:lnTo>
                    <a:lnTo>
                      <a:pt x="5248" y="945"/>
                    </a:lnTo>
                    <a:lnTo>
                      <a:pt x="5251" y="970"/>
                    </a:lnTo>
                    <a:lnTo>
                      <a:pt x="5253" y="994"/>
                    </a:lnTo>
                    <a:lnTo>
                      <a:pt x="5257" y="1017"/>
                    </a:lnTo>
                    <a:lnTo>
                      <a:pt x="5265" y="1061"/>
                    </a:lnTo>
                    <a:lnTo>
                      <a:pt x="5275" y="1102"/>
                    </a:lnTo>
                    <a:lnTo>
                      <a:pt x="5284" y="1139"/>
                    </a:lnTo>
                    <a:lnTo>
                      <a:pt x="5294" y="1170"/>
                    </a:lnTo>
                    <a:lnTo>
                      <a:pt x="5304" y="1195"/>
                    </a:lnTo>
                    <a:lnTo>
                      <a:pt x="5314" y="1213"/>
                    </a:lnTo>
                    <a:lnTo>
                      <a:pt x="5327" y="1230"/>
                    </a:lnTo>
                    <a:lnTo>
                      <a:pt x="5336" y="1242"/>
                    </a:lnTo>
                    <a:lnTo>
                      <a:pt x="5344" y="1249"/>
                    </a:lnTo>
                    <a:lnTo>
                      <a:pt x="5351" y="1253"/>
                    </a:lnTo>
                    <a:lnTo>
                      <a:pt x="5360" y="1257"/>
                    </a:lnTo>
                    <a:lnTo>
                      <a:pt x="5370" y="1262"/>
                    </a:lnTo>
                    <a:lnTo>
                      <a:pt x="5383" y="1268"/>
                    </a:lnTo>
                    <a:lnTo>
                      <a:pt x="5400" y="1279"/>
                    </a:lnTo>
                    <a:lnTo>
                      <a:pt x="5405" y="1281"/>
                    </a:lnTo>
                    <a:lnTo>
                      <a:pt x="5414" y="1281"/>
                    </a:lnTo>
                    <a:lnTo>
                      <a:pt x="5424" y="1279"/>
                    </a:lnTo>
                    <a:lnTo>
                      <a:pt x="5435" y="1276"/>
                    </a:lnTo>
                    <a:lnTo>
                      <a:pt x="5460" y="1265"/>
                    </a:lnTo>
                    <a:lnTo>
                      <a:pt x="5488" y="1253"/>
                    </a:lnTo>
                    <a:lnTo>
                      <a:pt x="5516" y="1239"/>
                    </a:lnTo>
                    <a:lnTo>
                      <a:pt x="5542" y="1226"/>
                    </a:lnTo>
                    <a:lnTo>
                      <a:pt x="5552" y="1221"/>
                    </a:lnTo>
                    <a:lnTo>
                      <a:pt x="5563" y="1216"/>
                    </a:lnTo>
                    <a:lnTo>
                      <a:pt x="5571" y="1214"/>
                    </a:lnTo>
                    <a:lnTo>
                      <a:pt x="5578" y="1213"/>
                    </a:lnTo>
                    <a:lnTo>
                      <a:pt x="5587" y="1220"/>
                    </a:lnTo>
                    <a:lnTo>
                      <a:pt x="5596" y="1228"/>
                    </a:lnTo>
                    <a:lnTo>
                      <a:pt x="5606" y="1238"/>
                    </a:lnTo>
                    <a:lnTo>
                      <a:pt x="5616" y="1248"/>
                    </a:lnTo>
                    <a:lnTo>
                      <a:pt x="5628" y="1257"/>
                    </a:lnTo>
                    <a:lnTo>
                      <a:pt x="5640" y="1266"/>
                    </a:lnTo>
                    <a:lnTo>
                      <a:pt x="5652" y="1274"/>
                    </a:lnTo>
                    <a:lnTo>
                      <a:pt x="5665" y="1279"/>
                    </a:lnTo>
                    <a:lnTo>
                      <a:pt x="5673" y="1292"/>
                    </a:lnTo>
                    <a:lnTo>
                      <a:pt x="5683" y="1306"/>
                    </a:lnTo>
                    <a:lnTo>
                      <a:pt x="5694" y="1320"/>
                    </a:lnTo>
                    <a:lnTo>
                      <a:pt x="5706" y="1334"/>
                    </a:lnTo>
                    <a:lnTo>
                      <a:pt x="5712" y="1341"/>
                    </a:lnTo>
                    <a:lnTo>
                      <a:pt x="5719" y="1346"/>
                    </a:lnTo>
                    <a:lnTo>
                      <a:pt x="5726" y="1351"/>
                    </a:lnTo>
                    <a:lnTo>
                      <a:pt x="5734" y="1357"/>
                    </a:lnTo>
                    <a:lnTo>
                      <a:pt x="5741" y="1360"/>
                    </a:lnTo>
                    <a:lnTo>
                      <a:pt x="5751" y="1363"/>
                    </a:lnTo>
                    <a:lnTo>
                      <a:pt x="5761" y="1365"/>
                    </a:lnTo>
                    <a:lnTo>
                      <a:pt x="5771" y="1367"/>
                    </a:lnTo>
                    <a:lnTo>
                      <a:pt x="5779" y="1363"/>
                    </a:lnTo>
                    <a:lnTo>
                      <a:pt x="5790" y="1360"/>
                    </a:lnTo>
                    <a:lnTo>
                      <a:pt x="5801" y="1356"/>
                    </a:lnTo>
                    <a:lnTo>
                      <a:pt x="5812" y="1354"/>
                    </a:lnTo>
                    <a:lnTo>
                      <a:pt x="5823" y="1351"/>
                    </a:lnTo>
                    <a:lnTo>
                      <a:pt x="5833" y="1350"/>
                    </a:lnTo>
                    <a:lnTo>
                      <a:pt x="5838" y="1350"/>
                    </a:lnTo>
                    <a:lnTo>
                      <a:pt x="5842" y="1351"/>
                    </a:lnTo>
                    <a:lnTo>
                      <a:pt x="5846" y="1352"/>
                    </a:lnTo>
                    <a:lnTo>
                      <a:pt x="5849" y="1354"/>
                    </a:lnTo>
                    <a:lnTo>
                      <a:pt x="5853" y="1359"/>
                    </a:lnTo>
                    <a:lnTo>
                      <a:pt x="5854" y="1364"/>
                    </a:lnTo>
                    <a:lnTo>
                      <a:pt x="5853" y="1369"/>
                    </a:lnTo>
                    <a:lnTo>
                      <a:pt x="5850" y="1372"/>
                    </a:lnTo>
                    <a:lnTo>
                      <a:pt x="5846" y="1376"/>
                    </a:lnTo>
                    <a:lnTo>
                      <a:pt x="5840" y="1379"/>
                    </a:lnTo>
                    <a:lnTo>
                      <a:pt x="5833" y="1382"/>
                    </a:lnTo>
                    <a:lnTo>
                      <a:pt x="5826" y="1384"/>
                    </a:lnTo>
                    <a:lnTo>
                      <a:pt x="5808" y="1388"/>
                    </a:lnTo>
                    <a:lnTo>
                      <a:pt x="5792" y="1390"/>
                    </a:lnTo>
                    <a:lnTo>
                      <a:pt x="5777" y="1391"/>
                    </a:lnTo>
                    <a:lnTo>
                      <a:pt x="5766" y="1390"/>
                    </a:lnTo>
                    <a:lnTo>
                      <a:pt x="5769" y="1394"/>
                    </a:lnTo>
                    <a:lnTo>
                      <a:pt x="5772" y="1397"/>
                    </a:lnTo>
                    <a:lnTo>
                      <a:pt x="5772" y="1400"/>
                    </a:lnTo>
                    <a:lnTo>
                      <a:pt x="5769" y="1404"/>
                    </a:lnTo>
                    <a:lnTo>
                      <a:pt x="5765" y="1408"/>
                    </a:lnTo>
                    <a:lnTo>
                      <a:pt x="5759" y="1411"/>
                    </a:lnTo>
                    <a:lnTo>
                      <a:pt x="5751" y="1414"/>
                    </a:lnTo>
                    <a:lnTo>
                      <a:pt x="5741" y="1415"/>
                    </a:lnTo>
                    <a:lnTo>
                      <a:pt x="5735" y="1416"/>
                    </a:lnTo>
                    <a:lnTo>
                      <a:pt x="5725" y="1418"/>
                    </a:lnTo>
                    <a:lnTo>
                      <a:pt x="5714" y="1419"/>
                    </a:lnTo>
                    <a:lnTo>
                      <a:pt x="5701" y="1422"/>
                    </a:lnTo>
                    <a:lnTo>
                      <a:pt x="5687" y="1423"/>
                    </a:lnTo>
                    <a:lnTo>
                      <a:pt x="5672" y="1424"/>
                    </a:lnTo>
                    <a:lnTo>
                      <a:pt x="5658" y="1425"/>
                    </a:lnTo>
                    <a:lnTo>
                      <a:pt x="5644" y="1425"/>
                    </a:lnTo>
                    <a:lnTo>
                      <a:pt x="5631" y="1426"/>
                    </a:lnTo>
                    <a:lnTo>
                      <a:pt x="5616" y="1426"/>
                    </a:lnTo>
                    <a:lnTo>
                      <a:pt x="5599" y="1427"/>
                    </a:lnTo>
                    <a:lnTo>
                      <a:pt x="5581" y="1427"/>
                    </a:lnTo>
                    <a:lnTo>
                      <a:pt x="5563" y="1427"/>
                    </a:lnTo>
                    <a:lnTo>
                      <a:pt x="5546" y="1427"/>
                    </a:lnTo>
                    <a:lnTo>
                      <a:pt x="5530" y="1427"/>
                    </a:lnTo>
                    <a:lnTo>
                      <a:pt x="5516" y="1428"/>
                    </a:lnTo>
                    <a:lnTo>
                      <a:pt x="5502" y="1428"/>
                    </a:lnTo>
                    <a:lnTo>
                      <a:pt x="5483" y="1429"/>
                    </a:lnTo>
                    <a:lnTo>
                      <a:pt x="5464" y="1430"/>
                    </a:lnTo>
                    <a:lnTo>
                      <a:pt x="5443" y="1431"/>
                    </a:lnTo>
                    <a:lnTo>
                      <a:pt x="5423" y="1433"/>
                    </a:lnTo>
                    <a:lnTo>
                      <a:pt x="5401" y="1435"/>
                    </a:lnTo>
                    <a:lnTo>
                      <a:pt x="5383" y="1437"/>
                    </a:lnTo>
                    <a:lnTo>
                      <a:pt x="5365" y="1438"/>
                    </a:lnTo>
                    <a:lnTo>
                      <a:pt x="5347" y="1437"/>
                    </a:lnTo>
                    <a:lnTo>
                      <a:pt x="5327" y="1436"/>
                    </a:lnTo>
                    <a:lnTo>
                      <a:pt x="5304" y="1435"/>
                    </a:lnTo>
                    <a:lnTo>
                      <a:pt x="5279" y="1432"/>
                    </a:lnTo>
                    <a:lnTo>
                      <a:pt x="5253" y="1431"/>
                    </a:lnTo>
                    <a:lnTo>
                      <a:pt x="5228" y="1431"/>
                    </a:lnTo>
                    <a:lnTo>
                      <a:pt x="5203" y="1432"/>
                    </a:lnTo>
                    <a:lnTo>
                      <a:pt x="5180" y="1436"/>
                    </a:lnTo>
                    <a:lnTo>
                      <a:pt x="5167" y="1437"/>
                    </a:lnTo>
                    <a:lnTo>
                      <a:pt x="5150" y="1437"/>
                    </a:lnTo>
                    <a:lnTo>
                      <a:pt x="5132" y="1437"/>
                    </a:lnTo>
                    <a:lnTo>
                      <a:pt x="5113" y="1436"/>
                    </a:lnTo>
                    <a:lnTo>
                      <a:pt x="5068" y="1433"/>
                    </a:lnTo>
                    <a:lnTo>
                      <a:pt x="5022" y="1431"/>
                    </a:lnTo>
                    <a:lnTo>
                      <a:pt x="4978" y="1429"/>
                    </a:lnTo>
                    <a:lnTo>
                      <a:pt x="4938" y="1429"/>
                    </a:lnTo>
                    <a:lnTo>
                      <a:pt x="4920" y="1429"/>
                    </a:lnTo>
                    <a:lnTo>
                      <a:pt x="4905" y="1430"/>
                    </a:lnTo>
                    <a:lnTo>
                      <a:pt x="4893" y="1432"/>
                    </a:lnTo>
                    <a:lnTo>
                      <a:pt x="4886" y="1436"/>
                    </a:lnTo>
                    <a:lnTo>
                      <a:pt x="4876" y="1439"/>
                    </a:lnTo>
                    <a:lnTo>
                      <a:pt x="4862" y="1442"/>
                    </a:lnTo>
                    <a:lnTo>
                      <a:pt x="4845" y="1444"/>
                    </a:lnTo>
                    <a:lnTo>
                      <a:pt x="4823" y="1446"/>
                    </a:lnTo>
                    <a:lnTo>
                      <a:pt x="4773" y="1451"/>
                    </a:lnTo>
                    <a:lnTo>
                      <a:pt x="4719" y="1452"/>
                    </a:lnTo>
                    <a:lnTo>
                      <a:pt x="4666" y="1453"/>
                    </a:lnTo>
                    <a:lnTo>
                      <a:pt x="4620" y="1452"/>
                    </a:lnTo>
                    <a:lnTo>
                      <a:pt x="4602" y="1451"/>
                    </a:lnTo>
                    <a:lnTo>
                      <a:pt x="4587" y="1449"/>
                    </a:lnTo>
                    <a:lnTo>
                      <a:pt x="4576" y="1448"/>
                    </a:lnTo>
                    <a:lnTo>
                      <a:pt x="4571" y="1445"/>
                    </a:lnTo>
                    <a:lnTo>
                      <a:pt x="4562" y="1448"/>
                    </a:lnTo>
                    <a:lnTo>
                      <a:pt x="4537" y="1452"/>
                    </a:lnTo>
                    <a:lnTo>
                      <a:pt x="4499" y="1457"/>
                    </a:lnTo>
                    <a:lnTo>
                      <a:pt x="4453" y="1464"/>
                    </a:lnTo>
                    <a:lnTo>
                      <a:pt x="4428" y="1466"/>
                    </a:lnTo>
                    <a:lnTo>
                      <a:pt x="4403" y="1467"/>
                    </a:lnTo>
                    <a:lnTo>
                      <a:pt x="4377" y="1468"/>
                    </a:lnTo>
                    <a:lnTo>
                      <a:pt x="4351" y="1467"/>
                    </a:lnTo>
                    <a:lnTo>
                      <a:pt x="4327" y="1465"/>
                    </a:lnTo>
                    <a:lnTo>
                      <a:pt x="4304" y="1462"/>
                    </a:lnTo>
                    <a:lnTo>
                      <a:pt x="4293" y="1459"/>
                    </a:lnTo>
                    <a:lnTo>
                      <a:pt x="4282" y="1457"/>
                    </a:lnTo>
                    <a:lnTo>
                      <a:pt x="4272" y="1454"/>
                    </a:lnTo>
                    <a:lnTo>
                      <a:pt x="4262" y="1450"/>
                    </a:lnTo>
                    <a:lnTo>
                      <a:pt x="4247" y="1452"/>
                    </a:lnTo>
                    <a:lnTo>
                      <a:pt x="4205" y="1455"/>
                    </a:lnTo>
                    <a:lnTo>
                      <a:pt x="4144" y="1460"/>
                    </a:lnTo>
                    <a:lnTo>
                      <a:pt x="4067" y="1465"/>
                    </a:lnTo>
                    <a:lnTo>
                      <a:pt x="4026" y="1466"/>
                    </a:lnTo>
                    <a:lnTo>
                      <a:pt x="3983" y="1468"/>
                    </a:lnTo>
                    <a:lnTo>
                      <a:pt x="3939" y="1468"/>
                    </a:lnTo>
                    <a:lnTo>
                      <a:pt x="3896" y="1468"/>
                    </a:lnTo>
                    <a:lnTo>
                      <a:pt x="3854" y="1467"/>
                    </a:lnTo>
                    <a:lnTo>
                      <a:pt x="3813" y="1464"/>
                    </a:lnTo>
                    <a:lnTo>
                      <a:pt x="3775" y="1460"/>
                    </a:lnTo>
                    <a:lnTo>
                      <a:pt x="3741" y="1455"/>
                    </a:lnTo>
                    <a:lnTo>
                      <a:pt x="3710" y="1457"/>
                    </a:lnTo>
                    <a:lnTo>
                      <a:pt x="3664" y="1459"/>
                    </a:lnTo>
                    <a:lnTo>
                      <a:pt x="3608" y="1464"/>
                    </a:lnTo>
                    <a:lnTo>
                      <a:pt x="3542" y="1467"/>
                    </a:lnTo>
                    <a:lnTo>
                      <a:pt x="3473" y="1469"/>
                    </a:lnTo>
                    <a:lnTo>
                      <a:pt x="3400" y="1471"/>
                    </a:lnTo>
                    <a:lnTo>
                      <a:pt x="3366" y="1471"/>
                    </a:lnTo>
                    <a:lnTo>
                      <a:pt x="3331" y="1470"/>
                    </a:lnTo>
                    <a:lnTo>
                      <a:pt x="3298" y="1469"/>
                    </a:lnTo>
                    <a:lnTo>
                      <a:pt x="3266" y="1467"/>
                    </a:lnTo>
                    <a:lnTo>
                      <a:pt x="3236" y="1466"/>
                    </a:lnTo>
                    <a:lnTo>
                      <a:pt x="3208" y="1466"/>
                    </a:lnTo>
                    <a:lnTo>
                      <a:pt x="3181" y="1466"/>
                    </a:lnTo>
                    <a:lnTo>
                      <a:pt x="3155" y="1467"/>
                    </a:lnTo>
                    <a:lnTo>
                      <a:pt x="3107" y="1470"/>
                    </a:lnTo>
                    <a:lnTo>
                      <a:pt x="3061" y="1475"/>
                    </a:lnTo>
                    <a:lnTo>
                      <a:pt x="3017" y="1479"/>
                    </a:lnTo>
                    <a:lnTo>
                      <a:pt x="2974" y="1483"/>
                    </a:lnTo>
                    <a:lnTo>
                      <a:pt x="2952" y="1483"/>
                    </a:lnTo>
                    <a:lnTo>
                      <a:pt x="2931" y="1484"/>
                    </a:lnTo>
                    <a:lnTo>
                      <a:pt x="2908" y="1483"/>
                    </a:lnTo>
                    <a:lnTo>
                      <a:pt x="2885" y="1482"/>
                    </a:lnTo>
                    <a:lnTo>
                      <a:pt x="2841" y="1478"/>
                    </a:lnTo>
                    <a:lnTo>
                      <a:pt x="2800" y="1473"/>
                    </a:lnTo>
                    <a:lnTo>
                      <a:pt x="2762" y="1470"/>
                    </a:lnTo>
                    <a:lnTo>
                      <a:pt x="2730" y="1468"/>
                    </a:lnTo>
                    <a:lnTo>
                      <a:pt x="2701" y="1466"/>
                    </a:lnTo>
                    <a:lnTo>
                      <a:pt x="2679" y="1466"/>
                    </a:lnTo>
                    <a:lnTo>
                      <a:pt x="2669" y="1466"/>
                    </a:lnTo>
                    <a:lnTo>
                      <a:pt x="2663" y="1467"/>
                    </a:lnTo>
                    <a:lnTo>
                      <a:pt x="2656" y="1468"/>
                    </a:lnTo>
                    <a:lnTo>
                      <a:pt x="2653" y="1470"/>
                    </a:lnTo>
                    <a:lnTo>
                      <a:pt x="2649" y="1471"/>
                    </a:lnTo>
                    <a:lnTo>
                      <a:pt x="2641" y="1473"/>
                    </a:lnTo>
                    <a:lnTo>
                      <a:pt x="2631" y="1475"/>
                    </a:lnTo>
                    <a:lnTo>
                      <a:pt x="2620" y="1477"/>
                    </a:lnTo>
                    <a:lnTo>
                      <a:pt x="2595" y="1479"/>
                    </a:lnTo>
                    <a:lnTo>
                      <a:pt x="2565" y="1479"/>
                    </a:lnTo>
                    <a:lnTo>
                      <a:pt x="2550" y="1479"/>
                    </a:lnTo>
                    <a:lnTo>
                      <a:pt x="2536" y="1478"/>
                    </a:lnTo>
                    <a:lnTo>
                      <a:pt x="2522" y="1477"/>
                    </a:lnTo>
                    <a:lnTo>
                      <a:pt x="2509" y="1476"/>
                    </a:lnTo>
                    <a:lnTo>
                      <a:pt x="2498" y="1473"/>
                    </a:lnTo>
                    <a:lnTo>
                      <a:pt x="2489" y="1470"/>
                    </a:lnTo>
                    <a:lnTo>
                      <a:pt x="2482" y="1467"/>
                    </a:lnTo>
                    <a:lnTo>
                      <a:pt x="2478" y="1463"/>
                    </a:lnTo>
                    <a:lnTo>
                      <a:pt x="2472" y="1464"/>
                    </a:lnTo>
                    <a:lnTo>
                      <a:pt x="2458" y="1467"/>
                    </a:lnTo>
                    <a:lnTo>
                      <a:pt x="2439" y="1470"/>
                    </a:lnTo>
                    <a:lnTo>
                      <a:pt x="2416" y="1475"/>
                    </a:lnTo>
                    <a:lnTo>
                      <a:pt x="2391" y="1478"/>
                    </a:lnTo>
                    <a:lnTo>
                      <a:pt x="2369" y="1478"/>
                    </a:lnTo>
                    <a:lnTo>
                      <a:pt x="2359" y="1478"/>
                    </a:lnTo>
                    <a:lnTo>
                      <a:pt x="2349" y="1476"/>
                    </a:lnTo>
                    <a:lnTo>
                      <a:pt x="2342" y="1473"/>
                    </a:lnTo>
                    <a:lnTo>
                      <a:pt x="2336" y="1470"/>
                    </a:lnTo>
                    <a:lnTo>
                      <a:pt x="2334" y="1471"/>
                    </a:lnTo>
                    <a:lnTo>
                      <a:pt x="2331" y="1472"/>
                    </a:lnTo>
                    <a:lnTo>
                      <a:pt x="2324" y="1473"/>
                    </a:lnTo>
                    <a:lnTo>
                      <a:pt x="2317" y="1473"/>
                    </a:lnTo>
                    <a:lnTo>
                      <a:pt x="2296" y="1475"/>
                    </a:lnTo>
                    <a:lnTo>
                      <a:pt x="2272" y="1475"/>
                    </a:lnTo>
                    <a:lnTo>
                      <a:pt x="2245" y="1475"/>
                    </a:lnTo>
                    <a:lnTo>
                      <a:pt x="2219" y="1476"/>
                    </a:lnTo>
                    <a:lnTo>
                      <a:pt x="2206" y="1477"/>
                    </a:lnTo>
                    <a:lnTo>
                      <a:pt x="2194" y="1478"/>
                    </a:lnTo>
                    <a:lnTo>
                      <a:pt x="2183" y="1480"/>
                    </a:lnTo>
                    <a:lnTo>
                      <a:pt x="2173" y="1482"/>
                    </a:lnTo>
                    <a:lnTo>
                      <a:pt x="2162" y="1484"/>
                    </a:lnTo>
                    <a:lnTo>
                      <a:pt x="2148" y="1486"/>
                    </a:lnTo>
                    <a:lnTo>
                      <a:pt x="2132" y="1487"/>
                    </a:lnTo>
                    <a:lnTo>
                      <a:pt x="2113" y="1489"/>
                    </a:lnTo>
                    <a:lnTo>
                      <a:pt x="2070" y="1491"/>
                    </a:lnTo>
                    <a:lnTo>
                      <a:pt x="2020" y="1493"/>
                    </a:lnTo>
                    <a:lnTo>
                      <a:pt x="1969" y="1495"/>
                    </a:lnTo>
                    <a:lnTo>
                      <a:pt x="1917" y="1496"/>
                    </a:lnTo>
                    <a:lnTo>
                      <a:pt x="1869" y="1498"/>
                    </a:lnTo>
                    <a:lnTo>
                      <a:pt x="1824" y="1502"/>
                    </a:lnTo>
                    <a:lnTo>
                      <a:pt x="1781" y="1504"/>
                    </a:lnTo>
                    <a:lnTo>
                      <a:pt x="1731" y="1505"/>
                    </a:lnTo>
                    <a:lnTo>
                      <a:pt x="1677" y="1504"/>
                    </a:lnTo>
                    <a:lnTo>
                      <a:pt x="1622" y="1504"/>
                    </a:lnTo>
                    <a:lnTo>
                      <a:pt x="1567" y="1503"/>
                    </a:lnTo>
                    <a:lnTo>
                      <a:pt x="1516" y="1502"/>
                    </a:lnTo>
                    <a:lnTo>
                      <a:pt x="1471" y="1503"/>
                    </a:lnTo>
                    <a:lnTo>
                      <a:pt x="1434" y="1505"/>
                    </a:lnTo>
                    <a:lnTo>
                      <a:pt x="1401" y="1507"/>
                    </a:lnTo>
                    <a:lnTo>
                      <a:pt x="1368" y="1510"/>
                    </a:lnTo>
                    <a:lnTo>
                      <a:pt x="1336" y="1513"/>
                    </a:lnTo>
                    <a:lnTo>
                      <a:pt x="1306" y="1517"/>
                    </a:lnTo>
                    <a:lnTo>
                      <a:pt x="1277" y="1519"/>
                    </a:lnTo>
                    <a:lnTo>
                      <a:pt x="1252" y="1520"/>
                    </a:lnTo>
                    <a:lnTo>
                      <a:pt x="1230" y="1520"/>
                    </a:lnTo>
                    <a:lnTo>
                      <a:pt x="1214" y="1519"/>
                    </a:lnTo>
                    <a:lnTo>
                      <a:pt x="1197" y="1518"/>
                    </a:lnTo>
                    <a:lnTo>
                      <a:pt x="1177" y="1519"/>
                    </a:lnTo>
                    <a:lnTo>
                      <a:pt x="1155" y="1520"/>
                    </a:lnTo>
                    <a:lnTo>
                      <a:pt x="1130" y="1522"/>
                    </a:lnTo>
                    <a:lnTo>
                      <a:pt x="1105" y="1523"/>
                    </a:lnTo>
                    <a:lnTo>
                      <a:pt x="1079" y="1525"/>
                    </a:lnTo>
                    <a:lnTo>
                      <a:pt x="1054" y="1525"/>
                    </a:lnTo>
                    <a:lnTo>
                      <a:pt x="1031" y="1524"/>
                    </a:lnTo>
                    <a:lnTo>
                      <a:pt x="1007" y="1522"/>
                    </a:lnTo>
                    <a:lnTo>
                      <a:pt x="977" y="1521"/>
                    </a:lnTo>
                    <a:lnTo>
                      <a:pt x="945" y="1520"/>
                    </a:lnTo>
                    <a:lnTo>
                      <a:pt x="910" y="1520"/>
                    </a:lnTo>
                    <a:lnTo>
                      <a:pt x="874" y="1520"/>
                    </a:lnTo>
                    <a:lnTo>
                      <a:pt x="837" y="1520"/>
                    </a:lnTo>
                    <a:lnTo>
                      <a:pt x="800" y="1520"/>
                    </a:lnTo>
                    <a:lnTo>
                      <a:pt x="763" y="1519"/>
                    </a:lnTo>
                    <a:lnTo>
                      <a:pt x="728" y="1519"/>
                    </a:lnTo>
                    <a:lnTo>
                      <a:pt x="689" y="1519"/>
                    </a:lnTo>
                    <a:lnTo>
                      <a:pt x="650" y="1519"/>
                    </a:lnTo>
                    <a:lnTo>
                      <a:pt x="611" y="1519"/>
                    </a:lnTo>
                    <a:lnTo>
                      <a:pt x="571" y="1518"/>
                    </a:lnTo>
                    <a:lnTo>
                      <a:pt x="533" y="1517"/>
                    </a:lnTo>
                    <a:lnTo>
                      <a:pt x="498" y="1516"/>
                    </a:lnTo>
                    <a:lnTo>
                      <a:pt x="465" y="1514"/>
                    </a:lnTo>
                    <a:lnTo>
                      <a:pt x="431" y="1513"/>
                    </a:lnTo>
                    <a:lnTo>
                      <a:pt x="394" y="1512"/>
                    </a:lnTo>
                    <a:lnTo>
                      <a:pt x="356" y="1510"/>
                    </a:lnTo>
                    <a:lnTo>
                      <a:pt x="318" y="1508"/>
                    </a:lnTo>
                    <a:lnTo>
                      <a:pt x="282" y="1505"/>
                    </a:lnTo>
                    <a:lnTo>
                      <a:pt x="247" y="1499"/>
                    </a:lnTo>
                    <a:lnTo>
                      <a:pt x="231" y="1496"/>
                    </a:lnTo>
                    <a:lnTo>
                      <a:pt x="216" y="1493"/>
                    </a:lnTo>
                    <a:lnTo>
                      <a:pt x="201" y="1489"/>
                    </a:lnTo>
                    <a:lnTo>
                      <a:pt x="188" y="1484"/>
                    </a:lnTo>
                    <a:lnTo>
                      <a:pt x="164" y="1477"/>
                    </a:lnTo>
                    <a:lnTo>
                      <a:pt x="142" y="1471"/>
                    </a:lnTo>
                    <a:lnTo>
                      <a:pt x="122" y="1468"/>
                    </a:lnTo>
                    <a:lnTo>
                      <a:pt x="105" y="1466"/>
                    </a:lnTo>
                    <a:lnTo>
                      <a:pt x="90" y="1463"/>
                    </a:lnTo>
                    <a:lnTo>
                      <a:pt x="79" y="1460"/>
                    </a:lnTo>
                    <a:lnTo>
                      <a:pt x="73" y="1458"/>
                    </a:lnTo>
                    <a:lnTo>
                      <a:pt x="70" y="1456"/>
                    </a:lnTo>
                    <a:lnTo>
                      <a:pt x="67" y="1453"/>
                    </a:lnTo>
                    <a:lnTo>
                      <a:pt x="65" y="1450"/>
                    </a:lnTo>
                    <a:lnTo>
                      <a:pt x="60" y="1443"/>
                    </a:lnTo>
                    <a:lnTo>
                      <a:pt x="53" y="1437"/>
                    </a:lnTo>
                    <a:lnTo>
                      <a:pt x="45" y="1429"/>
                    </a:lnTo>
                    <a:lnTo>
                      <a:pt x="35" y="1422"/>
                    </a:lnTo>
                    <a:lnTo>
                      <a:pt x="25" y="1414"/>
                    </a:lnTo>
                    <a:lnTo>
                      <a:pt x="15" y="1405"/>
                    </a:lnTo>
                    <a:lnTo>
                      <a:pt x="6" y="1397"/>
                    </a:lnTo>
                    <a:lnTo>
                      <a:pt x="0" y="1388"/>
                    </a:lnTo>
                    <a:lnTo>
                      <a:pt x="7" y="1385"/>
                    </a:lnTo>
                    <a:lnTo>
                      <a:pt x="15" y="1381"/>
                    </a:lnTo>
                    <a:lnTo>
                      <a:pt x="22" y="1374"/>
                    </a:lnTo>
                    <a:lnTo>
                      <a:pt x="31" y="1368"/>
                    </a:lnTo>
                    <a:lnTo>
                      <a:pt x="39" y="1361"/>
                    </a:lnTo>
                    <a:lnTo>
                      <a:pt x="47" y="1355"/>
                    </a:lnTo>
                    <a:lnTo>
                      <a:pt x="57" y="1348"/>
                    </a:lnTo>
                    <a:lnTo>
                      <a:pt x="67" y="1344"/>
                    </a:lnTo>
                    <a:lnTo>
                      <a:pt x="93" y="1349"/>
                    </a:lnTo>
                    <a:lnTo>
                      <a:pt x="117" y="1355"/>
                    </a:lnTo>
                    <a:lnTo>
                      <a:pt x="142" y="1360"/>
                    </a:lnTo>
                    <a:lnTo>
                      <a:pt x="167" y="1367"/>
                    </a:lnTo>
                    <a:lnTo>
                      <a:pt x="190" y="1372"/>
                    </a:lnTo>
                    <a:lnTo>
                      <a:pt x="213" y="1378"/>
                    </a:lnTo>
                    <a:lnTo>
                      <a:pt x="233" y="1384"/>
                    </a:lnTo>
                    <a:lnTo>
                      <a:pt x="253" y="1390"/>
                    </a:lnTo>
                    <a:lnTo>
                      <a:pt x="286" y="1392"/>
                    </a:lnTo>
                    <a:lnTo>
                      <a:pt x="318" y="1395"/>
                    </a:lnTo>
                    <a:lnTo>
                      <a:pt x="350" y="1395"/>
                    </a:lnTo>
                    <a:lnTo>
                      <a:pt x="379" y="1395"/>
                    </a:lnTo>
                    <a:lnTo>
                      <a:pt x="432" y="1392"/>
                    </a:lnTo>
                    <a:lnTo>
                      <a:pt x="479" y="1389"/>
                    </a:lnTo>
                    <a:lnTo>
                      <a:pt x="519" y="1387"/>
                    </a:lnTo>
                    <a:lnTo>
                      <a:pt x="554" y="1387"/>
                    </a:lnTo>
                    <a:lnTo>
                      <a:pt x="568" y="1387"/>
                    </a:lnTo>
                    <a:lnTo>
                      <a:pt x="581" y="1389"/>
                    </a:lnTo>
                    <a:lnTo>
                      <a:pt x="592" y="1391"/>
                    </a:lnTo>
                    <a:lnTo>
                      <a:pt x="600" y="1396"/>
                    </a:lnTo>
                    <a:lnTo>
                      <a:pt x="618" y="1381"/>
                    </a:lnTo>
                    <a:lnTo>
                      <a:pt x="639" y="1360"/>
                    </a:lnTo>
                    <a:lnTo>
                      <a:pt x="652" y="1348"/>
                    </a:lnTo>
                    <a:lnTo>
                      <a:pt x="665" y="1336"/>
                    </a:lnTo>
                    <a:lnTo>
                      <a:pt x="679" y="1324"/>
                    </a:lnTo>
                    <a:lnTo>
                      <a:pt x="694" y="1313"/>
                    </a:lnTo>
                    <a:lnTo>
                      <a:pt x="709" y="1302"/>
                    </a:lnTo>
                    <a:lnTo>
                      <a:pt x="725" y="1293"/>
                    </a:lnTo>
                    <a:lnTo>
                      <a:pt x="741" y="1286"/>
                    </a:lnTo>
                    <a:lnTo>
                      <a:pt x="758" y="1280"/>
                    </a:lnTo>
                    <a:lnTo>
                      <a:pt x="766" y="1278"/>
                    </a:lnTo>
                    <a:lnTo>
                      <a:pt x="774" y="1277"/>
                    </a:lnTo>
                    <a:lnTo>
                      <a:pt x="783" y="1277"/>
                    </a:lnTo>
                    <a:lnTo>
                      <a:pt x="792" y="1277"/>
                    </a:lnTo>
                    <a:lnTo>
                      <a:pt x="800" y="1278"/>
                    </a:lnTo>
                    <a:lnTo>
                      <a:pt x="809" y="1280"/>
                    </a:lnTo>
                    <a:lnTo>
                      <a:pt x="817" y="1283"/>
                    </a:lnTo>
                    <a:lnTo>
                      <a:pt x="826" y="1287"/>
                    </a:lnTo>
                    <a:lnTo>
                      <a:pt x="830" y="1289"/>
                    </a:lnTo>
                    <a:lnTo>
                      <a:pt x="838" y="1291"/>
                    </a:lnTo>
                    <a:lnTo>
                      <a:pt x="846" y="1292"/>
                    </a:lnTo>
                    <a:lnTo>
                      <a:pt x="855" y="1294"/>
                    </a:lnTo>
                    <a:lnTo>
                      <a:pt x="877" y="1295"/>
                    </a:lnTo>
                    <a:lnTo>
                      <a:pt x="904" y="1296"/>
                    </a:lnTo>
                    <a:lnTo>
                      <a:pt x="965" y="1296"/>
                    </a:lnTo>
                    <a:lnTo>
                      <a:pt x="1035" y="1295"/>
                    </a:lnTo>
                    <a:lnTo>
                      <a:pt x="1105" y="1295"/>
                    </a:lnTo>
                    <a:lnTo>
                      <a:pt x="1171" y="1296"/>
                    </a:lnTo>
                    <a:lnTo>
                      <a:pt x="1199" y="1298"/>
                    </a:lnTo>
                    <a:lnTo>
                      <a:pt x="1225" y="1302"/>
                    </a:lnTo>
                    <a:lnTo>
                      <a:pt x="1236" y="1304"/>
                    </a:lnTo>
                    <a:lnTo>
                      <a:pt x="1245" y="1306"/>
                    </a:lnTo>
                    <a:lnTo>
                      <a:pt x="1254" y="1308"/>
                    </a:lnTo>
                    <a:lnTo>
                      <a:pt x="1260" y="1311"/>
                    </a:lnTo>
                    <a:lnTo>
                      <a:pt x="1264" y="1313"/>
                    </a:lnTo>
                    <a:lnTo>
                      <a:pt x="1267" y="1311"/>
                    </a:lnTo>
                    <a:lnTo>
                      <a:pt x="1270" y="1310"/>
                    </a:lnTo>
                    <a:lnTo>
                      <a:pt x="1276" y="1308"/>
                    </a:lnTo>
                    <a:lnTo>
                      <a:pt x="1286" y="1303"/>
                    </a:lnTo>
                    <a:lnTo>
                      <a:pt x="1300" y="1294"/>
                    </a:lnTo>
                    <a:lnTo>
                      <a:pt x="1333" y="1273"/>
                    </a:lnTo>
                    <a:lnTo>
                      <a:pt x="1372" y="1247"/>
                    </a:lnTo>
                    <a:lnTo>
                      <a:pt x="1392" y="1234"/>
                    </a:lnTo>
                    <a:lnTo>
                      <a:pt x="1414" y="1221"/>
                    </a:lnTo>
                    <a:lnTo>
                      <a:pt x="1435" y="1209"/>
                    </a:lnTo>
                    <a:lnTo>
                      <a:pt x="1457" y="1197"/>
                    </a:lnTo>
                    <a:lnTo>
                      <a:pt x="1479" y="1187"/>
                    </a:lnTo>
                    <a:lnTo>
                      <a:pt x="1499" y="1181"/>
                    </a:lnTo>
                    <a:lnTo>
                      <a:pt x="1509" y="1178"/>
                    </a:lnTo>
                    <a:lnTo>
                      <a:pt x="1519" y="1175"/>
                    </a:lnTo>
                    <a:lnTo>
                      <a:pt x="1528" y="1174"/>
                    </a:lnTo>
                    <a:lnTo>
                      <a:pt x="1538" y="1173"/>
                    </a:lnTo>
                    <a:lnTo>
                      <a:pt x="1557" y="1178"/>
                    </a:lnTo>
                    <a:lnTo>
                      <a:pt x="1575" y="1183"/>
                    </a:lnTo>
                    <a:lnTo>
                      <a:pt x="1591" y="1189"/>
                    </a:lnTo>
                    <a:lnTo>
                      <a:pt x="1605" y="1196"/>
                    </a:lnTo>
                    <a:lnTo>
                      <a:pt x="1620" y="1203"/>
                    </a:lnTo>
                    <a:lnTo>
                      <a:pt x="1634" y="1210"/>
                    </a:lnTo>
                    <a:lnTo>
                      <a:pt x="1650" y="1216"/>
                    </a:lnTo>
                    <a:lnTo>
                      <a:pt x="1669" y="1222"/>
                    </a:lnTo>
                    <a:lnTo>
                      <a:pt x="1688" y="1227"/>
                    </a:lnTo>
                    <a:lnTo>
                      <a:pt x="1712" y="1229"/>
                    </a:lnTo>
                    <a:lnTo>
                      <a:pt x="1726" y="1230"/>
                    </a:lnTo>
                    <a:lnTo>
                      <a:pt x="1740" y="1232"/>
                    </a:lnTo>
                    <a:lnTo>
                      <a:pt x="1756" y="1230"/>
                    </a:lnTo>
                    <a:lnTo>
                      <a:pt x="1772" y="1229"/>
                    </a:lnTo>
                    <a:lnTo>
                      <a:pt x="1791" y="1228"/>
                    </a:lnTo>
                    <a:lnTo>
                      <a:pt x="1811" y="1226"/>
                    </a:lnTo>
                    <a:lnTo>
                      <a:pt x="1832" y="1223"/>
                    </a:lnTo>
                    <a:lnTo>
                      <a:pt x="1856" y="1220"/>
                    </a:lnTo>
                    <a:lnTo>
                      <a:pt x="1906" y="1209"/>
                    </a:lnTo>
                    <a:lnTo>
                      <a:pt x="1966" y="1196"/>
                    </a:lnTo>
                    <a:close/>
                  </a:path>
                </a:pathLst>
              </a:custGeom>
              <a:solidFill>
                <a:srgbClr val="82ae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5907240" y="3249720"/>
                <a:ext cx="1855440" cy="477720"/>
              </a:xfrm>
              <a:custGeom>
                <a:avLst/>
                <a:gdLst/>
                <a:ahLst/>
                <a:rect l="l" t="t" r="r" b="b"/>
                <a:pathLst>
                  <a:path w="5842" h="1504">
                    <a:moveTo>
                      <a:pt x="1959" y="1247"/>
                    </a:moveTo>
                    <a:lnTo>
                      <a:pt x="1979" y="1236"/>
                    </a:lnTo>
                    <a:lnTo>
                      <a:pt x="2014" y="1217"/>
                    </a:lnTo>
                    <a:lnTo>
                      <a:pt x="2059" y="1191"/>
                    </a:lnTo>
                    <a:lnTo>
                      <a:pt x="2115" y="1159"/>
                    </a:lnTo>
                    <a:lnTo>
                      <a:pt x="2180" y="1119"/>
                    </a:lnTo>
                    <a:lnTo>
                      <a:pt x="2252" y="1073"/>
                    </a:lnTo>
                    <a:lnTo>
                      <a:pt x="2289" y="1048"/>
                    </a:lnTo>
                    <a:lnTo>
                      <a:pt x="2328" y="1023"/>
                    </a:lnTo>
                    <a:lnTo>
                      <a:pt x="2368" y="996"/>
                    </a:lnTo>
                    <a:lnTo>
                      <a:pt x="2408" y="966"/>
                    </a:lnTo>
                    <a:lnTo>
                      <a:pt x="2449" y="936"/>
                    </a:lnTo>
                    <a:lnTo>
                      <a:pt x="2490" y="905"/>
                    </a:lnTo>
                    <a:lnTo>
                      <a:pt x="2532" y="873"/>
                    </a:lnTo>
                    <a:lnTo>
                      <a:pt x="2573" y="840"/>
                    </a:lnTo>
                    <a:lnTo>
                      <a:pt x="2615" y="805"/>
                    </a:lnTo>
                    <a:lnTo>
                      <a:pt x="2655" y="771"/>
                    </a:lnTo>
                    <a:lnTo>
                      <a:pt x="2694" y="734"/>
                    </a:lnTo>
                    <a:lnTo>
                      <a:pt x="2733" y="697"/>
                    </a:lnTo>
                    <a:lnTo>
                      <a:pt x="2771" y="660"/>
                    </a:lnTo>
                    <a:lnTo>
                      <a:pt x="2807" y="622"/>
                    </a:lnTo>
                    <a:lnTo>
                      <a:pt x="2841" y="583"/>
                    </a:lnTo>
                    <a:lnTo>
                      <a:pt x="2875" y="543"/>
                    </a:lnTo>
                    <a:lnTo>
                      <a:pt x="2905" y="503"/>
                    </a:lnTo>
                    <a:lnTo>
                      <a:pt x="2934" y="462"/>
                    </a:lnTo>
                    <a:lnTo>
                      <a:pt x="2961" y="421"/>
                    </a:lnTo>
                    <a:lnTo>
                      <a:pt x="2985" y="380"/>
                    </a:lnTo>
                    <a:lnTo>
                      <a:pt x="3000" y="369"/>
                    </a:lnTo>
                    <a:lnTo>
                      <a:pt x="3017" y="356"/>
                    </a:lnTo>
                    <a:lnTo>
                      <a:pt x="3027" y="350"/>
                    </a:lnTo>
                    <a:lnTo>
                      <a:pt x="3039" y="342"/>
                    </a:lnTo>
                    <a:lnTo>
                      <a:pt x="3053" y="335"/>
                    </a:lnTo>
                    <a:lnTo>
                      <a:pt x="3069" y="326"/>
                    </a:lnTo>
                    <a:lnTo>
                      <a:pt x="3089" y="318"/>
                    </a:lnTo>
                    <a:lnTo>
                      <a:pt x="3111" y="311"/>
                    </a:lnTo>
                    <a:lnTo>
                      <a:pt x="3137" y="302"/>
                    </a:lnTo>
                    <a:lnTo>
                      <a:pt x="3168" y="295"/>
                    </a:lnTo>
                    <a:lnTo>
                      <a:pt x="3202" y="287"/>
                    </a:lnTo>
                    <a:lnTo>
                      <a:pt x="3242" y="279"/>
                    </a:lnTo>
                    <a:lnTo>
                      <a:pt x="3288" y="273"/>
                    </a:lnTo>
                    <a:lnTo>
                      <a:pt x="3338" y="265"/>
                    </a:lnTo>
                    <a:lnTo>
                      <a:pt x="3372" y="243"/>
                    </a:lnTo>
                    <a:lnTo>
                      <a:pt x="3427" y="204"/>
                    </a:lnTo>
                    <a:lnTo>
                      <a:pt x="3460" y="180"/>
                    </a:lnTo>
                    <a:lnTo>
                      <a:pt x="3499" y="156"/>
                    </a:lnTo>
                    <a:lnTo>
                      <a:pt x="3541" y="132"/>
                    </a:lnTo>
                    <a:lnTo>
                      <a:pt x="3588" y="106"/>
                    </a:lnTo>
                    <a:lnTo>
                      <a:pt x="3612" y="94"/>
                    </a:lnTo>
                    <a:lnTo>
                      <a:pt x="3638" y="82"/>
                    </a:lnTo>
                    <a:lnTo>
                      <a:pt x="3663" y="71"/>
                    </a:lnTo>
                    <a:lnTo>
                      <a:pt x="3689" y="59"/>
                    </a:lnTo>
                    <a:lnTo>
                      <a:pt x="3718" y="49"/>
                    </a:lnTo>
                    <a:lnTo>
                      <a:pt x="3746" y="40"/>
                    </a:lnTo>
                    <a:lnTo>
                      <a:pt x="3775" y="31"/>
                    </a:lnTo>
                    <a:lnTo>
                      <a:pt x="3804" y="22"/>
                    </a:lnTo>
                    <a:lnTo>
                      <a:pt x="3834" y="16"/>
                    </a:lnTo>
                    <a:lnTo>
                      <a:pt x="3864" y="11"/>
                    </a:lnTo>
                    <a:lnTo>
                      <a:pt x="3896" y="5"/>
                    </a:lnTo>
                    <a:lnTo>
                      <a:pt x="3927" y="2"/>
                    </a:lnTo>
                    <a:lnTo>
                      <a:pt x="3959" y="0"/>
                    </a:lnTo>
                    <a:lnTo>
                      <a:pt x="3992" y="0"/>
                    </a:lnTo>
                    <a:lnTo>
                      <a:pt x="4024" y="1"/>
                    </a:lnTo>
                    <a:lnTo>
                      <a:pt x="4058" y="4"/>
                    </a:lnTo>
                    <a:lnTo>
                      <a:pt x="4098" y="5"/>
                    </a:lnTo>
                    <a:lnTo>
                      <a:pt x="4151" y="6"/>
                    </a:lnTo>
                    <a:lnTo>
                      <a:pt x="4181" y="7"/>
                    </a:lnTo>
                    <a:lnTo>
                      <a:pt x="4212" y="11"/>
                    </a:lnTo>
                    <a:lnTo>
                      <a:pt x="4247" y="16"/>
                    </a:lnTo>
                    <a:lnTo>
                      <a:pt x="4281" y="22"/>
                    </a:lnTo>
                    <a:lnTo>
                      <a:pt x="4300" y="27"/>
                    </a:lnTo>
                    <a:lnTo>
                      <a:pt x="4318" y="32"/>
                    </a:lnTo>
                    <a:lnTo>
                      <a:pt x="4335" y="38"/>
                    </a:lnTo>
                    <a:lnTo>
                      <a:pt x="4354" y="44"/>
                    </a:lnTo>
                    <a:lnTo>
                      <a:pt x="4372" y="52"/>
                    </a:lnTo>
                    <a:lnTo>
                      <a:pt x="4391" y="60"/>
                    </a:lnTo>
                    <a:lnTo>
                      <a:pt x="4409" y="69"/>
                    </a:lnTo>
                    <a:lnTo>
                      <a:pt x="4426" y="80"/>
                    </a:lnTo>
                    <a:lnTo>
                      <a:pt x="4445" y="90"/>
                    </a:lnTo>
                    <a:lnTo>
                      <a:pt x="4462" y="103"/>
                    </a:lnTo>
                    <a:lnTo>
                      <a:pt x="4479" y="117"/>
                    </a:lnTo>
                    <a:lnTo>
                      <a:pt x="4496" y="132"/>
                    </a:lnTo>
                    <a:lnTo>
                      <a:pt x="4513" y="148"/>
                    </a:lnTo>
                    <a:lnTo>
                      <a:pt x="4529" y="165"/>
                    </a:lnTo>
                    <a:lnTo>
                      <a:pt x="4544" y="183"/>
                    </a:lnTo>
                    <a:lnTo>
                      <a:pt x="4559" y="204"/>
                    </a:lnTo>
                    <a:lnTo>
                      <a:pt x="4567" y="216"/>
                    </a:lnTo>
                    <a:lnTo>
                      <a:pt x="4577" y="232"/>
                    </a:lnTo>
                    <a:lnTo>
                      <a:pt x="4593" y="252"/>
                    </a:lnTo>
                    <a:lnTo>
                      <a:pt x="4612" y="277"/>
                    </a:lnTo>
                    <a:lnTo>
                      <a:pt x="4658" y="335"/>
                    </a:lnTo>
                    <a:lnTo>
                      <a:pt x="4714" y="398"/>
                    </a:lnTo>
                    <a:lnTo>
                      <a:pt x="4743" y="432"/>
                    </a:lnTo>
                    <a:lnTo>
                      <a:pt x="4773" y="464"/>
                    </a:lnTo>
                    <a:lnTo>
                      <a:pt x="4803" y="497"/>
                    </a:lnTo>
                    <a:lnTo>
                      <a:pt x="4832" y="528"/>
                    </a:lnTo>
                    <a:lnTo>
                      <a:pt x="4862" y="556"/>
                    </a:lnTo>
                    <a:lnTo>
                      <a:pt x="4890" y="583"/>
                    </a:lnTo>
                    <a:lnTo>
                      <a:pt x="4914" y="606"/>
                    </a:lnTo>
                    <a:lnTo>
                      <a:pt x="4938" y="624"/>
                    </a:lnTo>
                    <a:lnTo>
                      <a:pt x="4948" y="636"/>
                    </a:lnTo>
                    <a:lnTo>
                      <a:pt x="4961" y="647"/>
                    </a:lnTo>
                    <a:lnTo>
                      <a:pt x="4977" y="659"/>
                    </a:lnTo>
                    <a:lnTo>
                      <a:pt x="4994" y="670"/>
                    </a:lnTo>
                    <a:lnTo>
                      <a:pt x="5034" y="696"/>
                    </a:lnTo>
                    <a:lnTo>
                      <a:pt x="5076" y="727"/>
                    </a:lnTo>
                    <a:lnTo>
                      <a:pt x="5098" y="745"/>
                    </a:lnTo>
                    <a:lnTo>
                      <a:pt x="5119" y="763"/>
                    </a:lnTo>
                    <a:lnTo>
                      <a:pt x="5128" y="773"/>
                    </a:lnTo>
                    <a:lnTo>
                      <a:pt x="5137" y="784"/>
                    </a:lnTo>
                    <a:lnTo>
                      <a:pt x="5147" y="795"/>
                    </a:lnTo>
                    <a:lnTo>
                      <a:pt x="5154" y="807"/>
                    </a:lnTo>
                    <a:lnTo>
                      <a:pt x="5163" y="818"/>
                    </a:lnTo>
                    <a:lnTo>
                      <a:pt x="5170" y="831"/>
                    </a:lnTo>
                    <a:lnTo>
                      <a:pt x="5177" y="844"/>
                    </a:lnTo>
                    <a:lnTo>
                      <a:pt x="5182" y="858"/>
                    </a:lnTo>
                    <a:lnTo>
                      <a:pt x="5188" y="873"/>
                    </a:lnTo>
                    <a:lnTo>
                      <a:pt x="5192" y="889"/>
                    </a:lnTo>
                    <a:lnTo>
                      <a:pt x="5195" y="905"/>
                    </a:lnTo>
                    <a:lnTo>
                      <a:pt x="5197" y="921"/>
                    </a:lnTo>
                    <a:lnTo>
                      <a:pt x="5197" y="948"/>
                    </a:lnTo>
                    <a:lnTo>
                      <a:pt x="5200" y="975"/>
                    </a:lnTo>
                    <a:lnTo>
                      <a:pt x="5202" y="1001"/>
                    </a:lnTo>
                    <a:lnTo>
                      <a:pt x="5206" y="1026"/>
                    </a:lnTo>
                    <a:lnTo>
                      <a:pt x="5210" y="1051"/>
                    </a:lnTo>
                    <a:lnTo>
                      <a:pt x="5216" y="1073"/>
                    </a:lnTo>
                    <a:lnTo>
                      <a:pt x="5222" y="1095"/>
                    </a:lnTo>
                    <a:lnTo>
                      <a:pt x="5228" y="1115"/>
                    </a:lnTo>
                    <a:lnTo>
                      <a:pt x="5241" y="1152"/>
                    </a:lnTo>
                    <a:lnTo>
                      <a:pt x="5254" y="1181"/>
                    </a:lnTo>
                    <a:lnTo>
                      <a:pt x="5264" y="1204"/>
                    </a:lnTo>
                    <a:lnTo>
                      <a:pt x="5272" y="1217"/>
                    </a:lnTo>
                    <a:lnTo>
                      <a:pt x="5286" y="1236"/>
                    </a:lnTo>
                    <a:lnTo>
                      <a:pt x="5295" y="1248"/>
                    </a:lnTo>
                    <a:lnTo>
                      <a:pt x="5302" y="1256"/>
                    </a:lnTo>
                    <a:lnTo>
                      <a:pt x="5308" y="1261"/>
                    </a:lnTo>
                    <a:lnTo>
                      <a:pt x="5313" y="1267"/>
                    </a:lnTo>
                    <a:lnTo>
                      <a:pt x="5321" y="1273"/>
                    </a:lnTo>
                    <a:lnTo>
                      <a:pt x="5331" y="1283"/>
                    </a:lnTo>
                    <a:lnTo>
                      <a:pt x="5349" y="1299"/>
                    </a:lnTo>
                    <a:lnTo>
                      <a:pt x="5351" y="1301"/>
                    </a:lnTo>
                    <a:lnTo>
                      <a:pt x="5355" y="1302"/>
                    </a:lnTo>
                    <a:lnTo>
                      <a:pt x="5358" y="1303"/>
                    </a:lnTo>
                    <a:lnTo>
                      <a:pt x="5364" y="1302"/>
                    </a:lnTo>
                    <a:lnTo>
                      <a:pt x="5375" y="1301"/>
                    </a:lnTo>
                    <a:lnTo>
                      <a:pt x="5387" y="1297"/>
                    </a:lnTo>
                    <a:lnTo>
                      <a:pt x="5401" y="1291"/>
                    </a:lnTo>
                    <a:lnTo>
                      <a:pt x="5416" y="1285"/>
                    </a:lnTo>
                    <a:lnTo>
                      <a:pt x="5432" y="1276"/>
                    </a:lnTo>
                    <a:lnTo>
                      <a:pt x="5448" y="1268"/>
                    </a:lnTo>
                    <a:lnTo>
                      <a:pt x="5482" y="1249"/>
                    </a:lnTo>
                    <a:lnTo>
                      <a:pt x="5512" y="1233"/>
                    </a:lnTo>
                    <a:lnTo>
                      <a:pt x="5526" y="1226"/>
                    </a:lnTo>
                    <a:lnTo>
                      <a:pt x="5538" y="1219"/>
                    </a:lnTo>
                    <a:lnTo>
                      <a:pt x="5547" y="1215"/>
                    </a:lnTo>
                    <a:lnTo>
                      <a:pt x="5556" y="1213"/>
                    </a:lnTo>
                    <a:lnTo>
                      <a:pt x="5566" y="1216"/>
                    </a:lnTo>
                    <a:lnTo>
                      <a:pt x="5576" y="1220"/>
                    </a:lnTo>
                    <a:lnTo>
                      <a:pt x="5585" y="1227"/>
                    </a:lnTo>
                    <a:lnTo>
                      <a:pt x="5596" y="1234"/>
                    </a:lnTo>
                    <a:lnTo>
                      <a:pt x="5606" y="1242"/>
                    </a:lnTo>
                    <a:lnTo>
                      <a:pt x="5617" y="1249"/>
                    </a:lnTo>
                    <a:lnTo>
                      <a:pt x="5627" y="1258"/>
                    </a:lnTo>
                    <a:lnTo>
                      <a:pt x="5637" y="1264"/>
                    </a:lnTo>
                    <a:lnTo>
                      <a:pt x="5645" y="1281"/>
                    </a:lnTo>
                    <a:lnTo>
                      <a:pt x="5652" y="1297"/>
                    </a:lnTo>
                    <a:lnTo>
                      <a:pt x="5661" y="1314"/>
                    </a:lnTo>
                    <a:lnTo>
                      <a:pt x="5672" y="1329"/>
                    </a:lnTo>
                    <a:lnTo>
                      <a:pt x="5677" y="1337"/>
                    </a:lnTo>
                    <a:lnTo>
                      <a:pt x="5684" y="1343"/>
                    </a:lnTo>
                    <a:lnTo>
                      <a:pt x="5691" y="1349"/>
                    </a:lnTo>
                    <a:lnTo>
                      <a:pt x="5699" y="1353"/>
                    </a:lnTo>
                    <a:lnTo>
                      <a:pt x="5707" y="1357"/>
                    </a:lnTo>
                    <a:lnTo>
                      <a:pt x="5717" y="1359"/>
                    </a:lnTo>
                    <a:lnTo>
                      <a:pt x="5728" y="1361"/>
                    </a:lnTo>
                    <a:lnTo>
                      <a:pt x="5739" y="1361"/>
                    </a:lnTo>
                    <a:lnTo>
                      <a:pt x="5751" y="1357"/>
                    </a:lnTo>
                    <a:lnTo>
                      <a:pt x="5764" y="1354"/>
                    </a:lnTo>
                    <a:lnTo>
                      <a:pt x="5778" y="1351"/>
                    </a:lnTo>
                    <a:lnTo>
                      <a:pt x="5792" y="1348"/>
                    </a:lnTo>
                    <a:lnTo>
                      <a:pt x="5806" y="1345"/>
                    </a:lnTo>
                    <a:lnTo>
                      <a:pt x="5819" y="1344"/>
                    </a:lnTo>
                    <a:lnTo>
                      <a:pt x="5825" y="1344"/>
                    </a:lnTo>
                    <a:lnTo>
                      <a:pt x="5831" y="1345"/>
                    </a:lnTo>
                    <a:lnTo>
                      <a:pt x="5836" y="1347"/>
                    </a:lnTo>
                    <a:lnTo>
                      <a:pt x="5840" y="1349"/>
                    </a:lnTo>
                    <a:lnTo>
                      <a:pt x="5842" y="1352"/>
                    </a:lnTo>
                    <a:lnTo>
                      <a:pt x="5841" y="1354"/>
                    </a:lnTo>
                    <a:lnTo>
                      <a:pt x="5840" y="1357"/>
                    </a:lnTo>
                    <a:lnTo>
                      <a:pt x="5836" y="1359"/>
                    </a:lnTo>
                    <a:lnTo>
                      <a:pt x="5825" y="1363"/>
                    </a:lnTo>
                    <a:lnTo>
                      <a:pt x="5811" y="1366"/>
                    </a:lnTo>
                    <a:lnTo>
                      <a:pt x="5796" y="1368"/>
                    </a:lnTo>
                    <a:lnTo>
                      <a:pt x="5781" y="1368"/>
                    </a:lnTo>
                    <a:lnTo>
                      <a:pt x="5768" y="1369"/>
                    </a:lnTo>
                    <a:lnTo>
                      <a:pt x="5759" y="1368"/>
                    </a:lnTo>
                    <a:lnTo>
                      <a:pt x="5764" y="1370"/>
                    </a:lnTo>
                    <a:lnTo>
                      <a:pt x="5767" y="1374"/>
                    </a:lnTo>
                    <a:lnTo>
                      <a:pt x="5768" y="1378"/>
                    </a:lnTo>
                    <a:lnTo>
                      <a:pt x="5768" y="1381"/>
                    </a:lnTo>
                    <a:lnTo>
                      <a:pt x="5765" y="1384"/>
                    </a:lnTo>
                    <a:lnTo>
                      <a:pt x="5759" y="1388"/>
                    </a:lnTo>
                    <a:lnTo>
                      <a:pt x="5752" y="1390"/>
                    </a:lnTo>
                    <a:lnTo>
                      <a:pt x="5741" y="1391"/>
                    </a:lnTo>
                    <a:lnTo>
                      <a:pt x="5737" y="1392"/>
                    </a:lnTo>
                    <a:lnTo>
                      <a:pt x="5730" y="1394"/>
                    </a:lnTo>
                    <a:lnTo>
                      <a:pt x="5720" y="1396"/>
                    </a:lnTo>
                    <a:lnTo>
                      <a:pt x="5708" y="1399"/>
                    </a:lnTo>
                    <a:lnTo>
                      <a:pt x="5697" y="1402"/>
                    </a:lnTo>
                    <a:lnTo>
                      <a:pt x="5684" y="1405"/>
                    </a:lnTo>
                    <a:lnTo>
                      <a:pt x="5672" y="1406"/>
                    </a:lnTo>
                    <a:lnTo>
                      <a:pt x="5660" y="1408"/>
                    </a:lnTo>
                    <a:lnTo>
                      <a:pt x="5646" y="1408"/>
                    </a:lnTo>
                    <a:lnTo>
                      <a:pt x="5631" y="1408"/>
                    </a:lnTo>
                    <a:lnTo>
                      <a:pt x="5612" y="1408"/>
                    </a:lnTo>
                    <a:lnTo>
                      <a:pt x="5594" y="1407"/>
                    </a:lnTo>
                    <a:lnTo>
                      <a:pt x="5576" y="1407"/>
                    </a:lnTo>
                    <a:lnTo>
                      <a:pt x="5557" y="1406"/>
                    </a:lnTo>
                    <a:lnTo>
                      <a:pt x="5541" y="1406"/>
                    </a:lnTo>
                    <a:lnTo>
                      <a:pt x="5526" y="1405"/>
                    </a:lnTo>
                    <a:lnTo>
                      <a:pt x="5511" y="1405"/>
                    </a:lnTo>
                    <a:lnTo>
                      <a:pt x="5495" y="1406"/>
                    </a:lnTo>
                    <a:lnTo>
                      <a:pt x="5476" y="1407"/>
                    </a:lnTo>
                    <a:lnTo>
                      <a:pt x="5457" y="1409"/>
                    </a:lnTo>
                    <a:lnTo>
                      <a:pt x="5438" y="1411"/>
                    </a:lnTo>
                    <a:lnTo>
                      <a:pt x="5420" y="1413"/>
                    </a:lnTo>
                    <a:lnTo>
                      <a:pt x="5403" y="1416"/>
                    </a:lnTo>
                    <a:lnTo>
                      <a:pt x="5388" y="1418"/>
                    </a:lnTo>
                    <a:lnTo>
                      <a:pt x="5371" y="1419"/>
                    </a:lnTo>
                    <a:lnTo>
                      <a:pt x="5351" y="1419"/>
                    </a:lnTo>
                    <a:lnTo>
                      <a:pt x="5327" y="1419"/>
                    </a:lnTo>
                    <a:lnTo>
                      <a:pt x="5302" y="1418"/>
                    </a:lnTo>
                    <a:lnTo>
                      <a:pt x="5275" y="1417"/>
                    </a:lnTo>
                    <a:lnTo>
                      <a:pt x="5248" y="1416"/>
                    </a:lnTo>
                    <a:lnTo>
                      <a:pt x="5222" y="1415"/>
                    </a:lnTo>
                    <a:lnTo>
                      <a:pt x="5197" y="1416"/>
                    </a:lnTo>
                    <a:lnTo>
                      <a:pt x="5170" y="1415"/>
                    </a:lnTo>
                    <a:lnTo>
                      <a:pt x="5138" y="1412"/>
                    </a:lnTo>
                    <a:lnTo>
                      <a:pt x="5101" y="1410"/>
                    </a:lnTo>
                    <a:lnTo>
                      <a:pt x="5064" y="1407"/>
                    </a:lnTo>
                    <a:lnTo>
                      <a:pt x="5027" y="1405"/>
                    </a:lnTo>
                    <a:lnTo>
                      <a:pt x="4992" y="1405"/>
                    </a:lnTo>
                    <a:lnTo>
                      <a:pt x="4977" y="1406"/>
                    </a:lnTo>
                    <a:lnTo>
                      <a:pt x="4964" y="1408"/>
                    </a:lnTo>
                    <a:lnTo>
                      <a:pt x="4952" y="1411"/>
                    </a:lnTo>
                    <a:lnTo>
                      <a:pt x="4943" y="1416"/>
                    </a:lnTo>
                    <a:lnTo>
                      <a:pt x="4932" y="1419"/>
                    </a:lnTo>
                    <a:lnTo>
                      <a:pt x="4914" y="1422"/>
                    </a:lnTo>
                    <a:lnTo>
                      <a:pt x="4894" y="1425"/>
                    </a:lnTo>
                    <a:lnTo>
                      <a:pt x="4869" y="1428"/>
                    </a:lnTo>
                    <a:lnTo>
                      <a:pt x="4812" y="1430"/>
                    </a:lnTo>
                    <a:lnTo>
                      <a:pt x="4749" y="1431"/>
                    </a:lnTo>
                    <a:lnTo>
                      <a:pt x="4690" y="1431"/>
                    </a:lnTo>
                    <a:lnTo>
                      <a:pt x="4637" y="1429"/>
                    </a:lnTo>
                    <a:lnTo>
                      <a:pt x="4616" y="1428"/>
                    </a:lnTo>
                    <a:lnTo>
                      <a:pt x="4600" y="1426"/>
                    </a:lnTo>
                    <a:lnTo>
                      <a:pt x="4589" y="1424"/>
                    </a:lnTo>
                    <a:lnTo>
                      <a:pt x="4584" y="1422"/>
                    </a:lnTo>
                    <a:lnTo>
                      <a:pt x="4576" y="1424"/>
                    </a:lnTo>
                    <a:lnTo>
                      <a:pt x="4555" y="1429"/>
                    </a:lnTo>
                    <a:lnTo>
                      <a:pt x="4523" y="1435"/>
                    </a:lnTo>
                    <a:lnTo>
                      <a:pt x="4486" y="1440"/>
                    </a:lnTo>
                    <a:lnTo>
                      <a:pt x="4464" y="1443"/>
                    </a:lnTo>
                    <a:lnTo>
                      <a:pt x="4443" y="1444"/>
                    </a:lnTo>
                    <a:lnTo>
                      <a:pt x="4422" y="1445"/>
                    </a:lnTo>
                    <a:lnTo>
                      <a:pt x="4401" y="1445"/>
                    </a:lnTo>
                    <a:lnTo>
                      <a:pt x="4382" y="1443"/>
                    </a:lnTo>
                    <a:lnTo>
                      <a:pt x="4364" y="1440"/>
                    </a:lnTo>
                    <a:lnTo>
                      <a:pt x="4355" y="1438"/>
                    </a:lnTo>
                    <a:lnTo>
                      <a:pt x="4346" y="1436"/>
                    </a:lnTo>
                    <a:lnTo>
                      <a:pt x="4339" y="1433"/>
                    </a:lnTo>
                    <a:lnTo>
                      <a:pt x="4332" y="1430"/>
                    </a:lnTo>
                    <a:lnTo>
                      <a:pt x="4317" y="1432"/>
                    </a:lnTo>
                    <a:lnTo>
                      <a:pt x="4276" y="1437"/>
                    </a:lnTo>
                    <a:lnTo>
                      <a:pt x="4213" y="1443"/>
                    </a:lnTo>
                    <a:lnTo>
                      <a:pt x="4138" y="1448"/>
                    </a:lnTo>
                    <a:lnTo>
                      <a:pt x="4096" y="1450"/>
                    </a:lnTo>
                    <a:lnTo>
                      <a:pt x="4052" y="1452"/>
                    </a:lnTo>
                    <a:lnTo>
                      <a:pt x="4009" y="1452"/>
                    </a:lnTo>
                    <a:lnTo>
                      <a:pt x="3965" y="1452"/>
                    </a:lnTo>
                    <a:lnTo>
                      <a:pt x="3922" y="1450"/>
                    </a:lnTo>
                    <a:lnTo>
                      <a:pt x="3881" y="1447"/>
                    </a:lnTo>
                    <a:lnTo>
                      <a:pt x="3861" y="1445"/>
                    </a:lnTo>
                    <a:lnTo>
                      <a:pt x="3842" y="1442"/>
                    </a:lnTo>
                    <a:lnTo>
                      <a:pt x="3823" y="1438"/>
                    </a:lnTo>
                    <a:lnTo>
                      <a:pt x="3805" y="1435"/>
                    </a:lnTo>
                    <a:lnTo>
                      <a:pt x="3780" y="1436"/>
                    </a:lnTo>
                    <a:lnTo>
                      <a:pt x="3735" y="1438"/>
                    </a:lnTo>
                    <a:lnTo>
                      <a:pt x="3676" y="1440"/>
                    </a:lnTo>
                    <a:lnTo>
                      <a:pt x="3607" y="1443"/>
                    </a:lnTo>
                    <a:lnTo>
                      <a:pt x="3533" y="1445"/>
                    </a:lnTo>
                    <a:lnTo>
                      <a:pt x="3458" y="1446"/>
                    </a:lnTo>
                    <a:lnTo>
                      <a:pt x="3387" y="1446"/>
                    </a:lnTo>
                    <a:lnTo>
                      <a:pt x="3323" y="1445"/>
                    </a:lnTo>
                    <a:lnTo>
                      <a:pt x="3295" y="1445"/>
                    </a:lnTo>
                    <a:lnTo>
                      <a:pt x="3267" y="1445"/>
                    </a:lnTo>
                    <a:lnTo>
                      <a:pt x="3241" y="1446"/>
                    </a:lnTo>
                    <a:lnTo>
                      <a:pt x="3215" y="1448"/>
                    </a:lnTo>
                    <a:lnTo>
                      <a:pt x="3165" y="1452"/>
                    </a:lnTo>
                    <a:lnTo>
                      <a:pt x="3118" y="1458"/>
                    </a:lnTo>
                    <a:lnTo>
                      <a:pt x="3070" y="1463"/>
                    </a:lnTo>
                    <a:lnTo>
                      <a:pt x="3023" y="1466"/>
                    </a:lnTo>
                    <a:lnTo>
                      <a:pt x="2998" y="1466"/>
                    </a:lnTo>
                    <a:lnTo>
                      <a:pt x="2973" y="1466"/>
                    </a:lnTo>
                    <a:lnTo>
                      <a:pt x="2947" y="1464"/>
                    </a:lnTo>
                    <a:lnTo>
                      <a:pt x="2920" y="1462"/>
                    </a:lnTo>
                    <a:lnTo>
                      <a:pt x="2867" y="1456"/>
                    </a:lnTo>
                    <a:lnTo>
                      <a:pt x="2822" y="1451"/>
                    </a:lnTo>
                    <a:lnTo>
                      <a:pt x="2781" y="1448"/>
                    </a:lnTo>
                    <a:lnTo>
                      <a:pt x="2747" y="1446"/>
                    </a:lnTo>
                    <a:lnTo>
                      <a:pt x="2718" y="1446"/>
                    </a:lnTo>
                    <a:lnTo>
                      <a:pt x="2696" y="1447"/>
                    </a:lnTo>
                    <a:lnTo>
                      <a:pt x="2679" y="1449"/>
                    </a:lnTo>
                    <a:lnTo>
                      <a:pt x="2669" y="1452"/>
                    </a:lnTo>
                    <a:lnTo>
                      <a:pt x="2663" y="1455"/>
                    </a:lnTo>
                    <a:lnTo>
                      <a:pt x="2656" y="1456"/>
                    </a:lnTo>
                    <a:lnTo>
                      <a:pt x="2646" y="1457"/>
                    </a:lnTo>
                    <a:lnTo>
                      <a:pt x="2635" y="1458"/>
                    </a:lnTo>
                    <a:lnTo>
                      <a:pt x="2609" y="1458"/>
                    </a:lnTo>
                    <a:lnTo>
                      <a:pt x="2580" y="1457"/>
                    </a:lnTo>
                    <a:lnTo>
                      <a:pt x="2552" y="1453"/>
                    </a:lnTo>
                    <a:lnTo>
                      <a:pt x="2527" y="1450"/>
                    </a:lnTo>
                    <a:lnTo>
                      <a:pt x="2516" y="1448"/>
                    </a:lnTo>
                    <a:lnTo>
                      <a:pt x="2508" y="1445"/>
                    </a:lnTo>
                    <a:lnTo>
                      <a:pt x="2501" y="1443"/>
                    </a:lnTo>
                    <a:lnTo>
                      <a:pt x="2498" y="1439"/>
                    </a:lnTo>
                    <a:lnTo>
                      <a:pt x="2492" y="1442"/>
                    </a:lnTo>
                    <a:lnTo>
                      <a:pt x="2477" y="1447"/>
                    </a:lnTo>
                    <a:lnTo>
                      <a:pt x="2456" y="1453"/>
                    </a:lnTo>
                    <a:lnTo>
                      <a:pt x="2431" y="1459"/>
                    </a:lnTo>
                    <a:lnTo>
                      <a:pt x="2418" y="1462"/>
                    </a:lnTo>
                    <a:lnTo>
                      <a:pt x="2404" y="1463"/>
                    </a:lnTo>
                    <a:lnTo>
                      <a:pt x="2391" y="1464"/>
                    </a:lnTo>
                    <a:lnTo>
                      <a:pt x="2379" y="1465"/>
                    </a:lnTo>
                    <a:lnTo>
                      <a:pt x="2367" y="1464"/>
                    </a:lnTo>
                    <a:lnTo>
                      <a:pt x="2357" y="1462"/>
                    </a:lnTo>
                    <a:lnTo>
                      <a:pt x="2352" y="1460"/>
                    </a:lnTo>
                    <a:lnTo>
                      <a:pt x="2349" y="1458"/>
                    </a:lnTo>
                    <a:lnTo>
                      <a:pt x="2344" y="1456"/>
                    </a:lnTo>
                    <a:lnTo>
                      <a:pt x="2342" y="1452"/>
                    </a:lnTo>
                    <a:lnTo>
                      <a:pt x="2340" y="1453"/>
                    </a:lnTo>
                    <a:lnTo>
                      <a:pt x="2337" y="1453"/>
                    </a:lnTo>
                    <a:lnTo>
                      <a:pt x="2332" y="1455"/>
                    </a:lnTo>
                    <a:lnTo>
                      <a:pt x="2324" y="1453"/>
                    </a:lnTo>
                    <a:lnTo>
                      <a:pt x="2306" y="1452"/>
                    </a:lnTo>
                    <a:lnTo>
                      <a:pt x="2285" y="1450"/>
                    </a:lnTo>
                    <a:lnTo>
                      <a:pt x="2261" y="1449"/>
                    </a:lnTo>
                    <a:lnTo>
                      <a:pt x="2240" y="1449"/>
                    </a:lnTo>
                    <a:lnTo>
                      <a:pt x="2229" y="1450"/>
                    </a:lnTo>
                    <a:lnTo>
                      <a:pt x="2219" y="1450"/>
                    </a:lnTo>
                    <a:lnTo>
                      <a:pt x="2211" y="1452"/>
                    </a:lnTo>
                    <a:lnTo>
                      <a:pt x="2203" y="1455"/>
                    </a:lnTo>
                    <a:lnTo>
                      <a:pt x="2195" y="1458"/>
                    </a:lnTo>
                    <a:lnTo>
                      <a:pt x="2184" y="1461"/>
                    </a:lnTo>
                    <a:lnTo>
                      <a:pt x="2171" y="1463"/>
                    </a:lnTo>
                    <a:lnTo>
                      <a:pt x="2154" y="1465"/>
                    </a:lnTo>
                    <a:lnTo>
                      <a:pt x="2115" y="1469"/>
                    </a:lnTo>
                    <a:lnTo>
                      <a:pt x="2071" y="1472"/>
                    </a:lnTo>
                    <a:lnTo>
                      <a:pt x="2023" y="1475"/>
                    </a:lnTo>
                    <a:lnTo>
                      <a:pt x="1974" y="1477"/>
                    </a:lnTo>
                    <a:lnTo>
                      <a:pt x="1927" y="1479"/>
                    </a:lnTo>
                    <a:lnTo>
                      <a:pt x="1884" y="1482"/>
                    </a:lnTo>
                    <a:lnTo>
                      <a:pt x="1840" y="1484"/>
                    </a:lnTo>
                    <a:lnTo>
                      <a:pt x="1787" y="1484"/>
                    </a:lnTo>
                    <a:lnTo>
                      <a:pt x="1731" y="1482"/>
                    </a:lnTo>
                    <a:lnTo>
                      <a:pt x="1671" y="1480"/>
                    </a:lnTo>
                    <a:lnTo>
                      <a:pt x="1613" y="1478"/>
                    </a:lnTo>
                    <a:lnTo>
                      <a:pt x="1558" y="1478"/>
                    </a:lnTo>
                    <a:lnTo>
                      <a:pt x="1532" y="1478"/>
                    </a:lnTo>
                    <a:lnTo>
                      <a:pt x="1508" y="1478"/>
                    </a:lnTo>
                    <a:lnTo>
                      <a:pt x="1488" y="1480"/>
                    </a:lnTo>
                    <a:lnTo>
                      <a:pt x="1469" y="1482"/>
                    </a:lnTo>
                    <a:lnTo>
                      <a:pt x="1434" y="1487"/>
                    </a:lnTo>
                    <a:lnTo>
                      <a:pt x="1398" y="1490"/>
                    </a:lnTo>
                    <a:lnTo>
                      <a:pt x="1363" y="1494"/>
                    </a:lnTo>
                    <a:lnTo>
                      <a:pt x="1328" y="1497"/>
                    </a:lnTo>
                    <a:lnTo>
                      <a:pt x="1296" y="1499"/>
                    </a:lnTo>
                    <a:lnTo>
                      <a:pt x="1266" y="1499"/>
                    </a:lnTo>
                    <a:lnTo>
                      <a:pt x="1242" y="1499"/>
                    </a:lnTo>
                    <a:lnTo>
                      <a:pt x="1222" y="1497"/>
                    </a:lnTo>
                    <a:lnTo>
                      <a:pt x="1204" y="1496"/>
                    </a:lnTo>
                    <a:lnTo>
                      <a:pt x="1185" y="1497"/>
                    </a:lnTo>
                    <a:lnTo>
                      <a:pt x="1165" y="1498"/>
                    </a:lnTo>
                    <a:lnTo>
                      <a:pt x="1143" y="1500"/>
                    </a:lnTo>
                    <a:lnTo>
                      <a:pt x="1123" y="1502"/>
                    </a:lnTo>
                    <a:lnTo>
                      <a:pt x="1102" y="1503"/>
                    </a:lnTo>
                    <a:lnTo>
                      <a:pt x="1082" y="1504"/>
                    </a:lnTo>
                    <a:lnTo>
                      <a:pt x="1063" y="1504"/>
                    </a:lnTo>
                    <a:lnTo>
                      <a:pt x="1043" y="1504"/>
                    </a:lnTo>
                    <a:lnTo>
                      <a:pt x="1017" y="1504"/>
                    </a:lnTo>
                    <a:lnTo>
                      <a:pt x="984" y="1504"/>
                    </a:lnTo>
                    <a:lnTo>
                      <a:pt x="949" y="1504"/>
                    </a:lnTo>
                    <a:lnTo>
                      <a:pt x="911" y="1504"/>
                    </a:lnTo>
                    <a:lnTo>
                      <a:pt x="871" y="1504"/>
                    </a:lnTo>
                    <a:lnTo>
                      <a:pt x="831" y="1502"/>
                    </a:lnTo>
                    <a:lnTo>
                      <a:pt x="791" y="1499"/>
                    </a:lnTo>
                    <a:lnTo>
                      <a:pt x="753" y="1497"/>
                    </a:lnTo>
                    <a:lnTo>
                      <a:pt x="715" y="1494"/>
                    </a:lnTo>
                    <a:lnTo>
                      <a:pt x="678" y="1493"/>
                    </a:lnTo>
                    <a:lnTo>
                      <a:pt x="641" y="1492"/>
                    </a:lnTo>
                    <a:lnTo>
                      <a:pt x="606" y="1492"/>
                    </a:lnTo>
                    <a:lnTo>
                      <a:pt x="572" y="1493"/>
                    </a:lnTo>
                    <a:lnTo>
                      <a:pt x="539" y="1494"/>
                    </a:lnTo>
                    <a:lnTo>
                      <a:pt x="510" y="1497"/>
                    </a:lnTo>
                    <a:lnTo>
                      <a:pt x="478" y="1499"/>
                    </a:lnTo>
                    <a:lnTo>
                      <a:pt x="441" y="1501"/>
                    </a:lnTo>
                    <a:lnTo>
                      <a:pt x="400" y="1501"/>
                    </a:lnTo>
                    <a:lnTo>
                      <a:pt x="358" y="1499"/>
                    </a:lnTo>
                    <a:lnTo>
                      <a:pt x="336" y="1498"/>
                    </a:lnTo>
                    <a:lnTo>
                      <a:pt x="315" y="1496"/>
                    </a:lnTo>
                    <a:lnTo>
                      <a:pt x="294" y="1493"/>
                    </a:lnTo>
                    <a:lnTo>
                      <a:pt x="274" y="1490"/>
                    </a:lnTo>
                    <a:lnTo>
                      <a:pt x="254" y="1487"/>
                    </a:lnTo>
                    <a:lnTo>
                      <a:pt x="235" y="1483"/>
                    </a:lnTo>
                    <a:lnTo>
                      <a:pt x="217" y="1477"/>
                    </a:lnTo>
                    <a:lnTo>
                      <a:pt x="200" y="1472"/>
                    </a:lnTo>
                    <a:lnTo>
                      <a:pt x="172" y="1462"/>
                    </a:lnTo>
                    <a:lnTo>
                      <a:pt x="147" y="1456"/>
                    </a:lnTo>
                    <a:lnTo>
                      <a:pt x="126" y="1450"/>
                    </a:lnTo>
                    <a:lnTo>
                      <a:pt x="107" y="1446"/>
                    </a:lnTo>
                    <a:lnTo>
                      <a:pt x="93" y="1443"/>
                    </a:lnTo>
                    <a:lnTo>
                      <a:pt x="81" y="1439"/>
                    </a:lnTo>
                    <a:lnTo>
                      <a:pt x="77" y="1438"/>
                    </a:lnTo>
                    <a:lnTo>
                      <a:pt x="74" y="1436"/>
                    </a:lnTo>
                    <a:lnTo>
                      <a:pt x="72" y="1435"/>
                    </a:lnTo>
                    <a:lnTo>
                      <a:pt x="69" y="1433"/>
                    </a:lnTo>
                    <a:lnTo>
                      <a:pt x="68" y="1431"/>
                    </a:lnTo>
                    <a:lnTo>
                      <a:pt x="66" y="1429"/>
                    </a:lnTo>
                    <a:lnTo>
                      <a:pt x="63" y="1426"/>
                    </a:lnTo>
                    <a:lnTo>
                      <a:pt x="59" y="1425"/>
                    </a:lnTo>
                    <a:lnTo>
                      <a:pt x="50" y="1421"/>
                    </a:lnTo>
                    <a:lnTo>
                      <a:pt x="39" y="1418"/>
                    </a:lnTo>
                    <a:lnTo>
                      <a:pt x="27" y="1413"/>
                    </a:lnTo>
                    <a:lnTo>
                      <a:pt x="16" y="1407"/>
                    </a:lnTo>
                    <a:lnTo>
                      <a:pt x="12" y="1403"/>
                    </a:lnTo>
                    <a:lnTo>
                      <a:pt x="8" y="1398"/>
                    </a:lnTo>
                    <a:lnTo>
                      <a:pt x="4" y="1394"/>
                    </a:lnTo>
                    <a:lnTo>
                      <a:pt x="0" y="1388"/>
                    </a:lnTo>
                    <a:lnTo>
                      <a:pt x="2" y="1379"/>
                    </a:lnTo>
                    <a:lnTo>
                      <a:pt x="5" y="1369"/>
                    </a:lnTo>
                    <a:lnTo>
                      <a:pt x="8" y="1357"/>
                    </a:lnTo>
                    <a:lnTo>
                      <a:pt x="11" y="1345"/>
                    </a:lnTo>
                    <a:lnTo>
                      <a:pt x="14" y="1334"/>
                    </a:lnTo>
                    <a:lnTo>
                      <a:pt x="19" y="1324"/>
                    </a:lnTo>
                    <a:lnTo>
                      <a:pt x="21" y="1320"/>
                    </a:lnTo>
                    <a:lnTo>
                      <a:pt x="24" y="1316"/>
                    </a:lnTo>
                    <a:lnTo>
                      <a:pt x="27" y="1313"/>
                    </a:lnTo>
                    <a:lnTo>
                      <a:pt x="31" y="1311"/>
                    </a:lnTo>
                    <a:lnTo>
                      <a:pt x="56" y="1322"/>
                    </a:lnTo>
                    <a:lnTo>
                      <a:pt x="83" y="1334"/>
                    </a:lnTo>
                    <a:lnTo>
                      <a:pt x="109" y="1345"/>
                    </a:lnTo>
                    <a:lnTo>
                      <a:pt x="134" y="1358"/>
                    </a:lnTo>
                    <a:lnTo>
                      <a:pt x="159" y="1370"/>
                    </a:lnTo>
                    <a:lnTo>
                      <a:pt x="182" y="1381"/>
                    </a:lnTo>
                    <a:lnTo>
                      <a:pt x="204" y="1391"/>
                    </a:lnTo>
                    <a:lnTo>
                      <a:pt x="225" y="1398"/>
                    </a:lnTo>
                    <a:lnTo>
                      <a:pt x="266" y="1404"/>
                    </a:lnTo>
                    <a:lnTo>
                      <a:pt x="305" y="1408"/>
                    </a:lnTo>
                    <a:lnTo>
                      <a:pt x="341" y="1411"/>
                    </a:lnTo>
                    <a:lnTo>
                      <a:pt x="373" y="1413"/>
                    </a:lnTo>
                    <a:lnTo>
                      <a:pt x="402" y="1415"/>
                    </a:lnTo>
                    <a:lnTo>
                      <a:pt x="430" y="1415"/>
                    </a:lnTo>
                    <a:lnTo>
                      <a:pt x="455" y="1413"/>
                    </a:lnTo>
                    <a:lnTo>
                      <a:pt x="478" y="1412"/>
                    </a:lnTo>
                    <a:lnTo>
                      <a:pt x="516" y="1409"/>
                    </a:lnTo>
                    <a:lnTo>
                      <a:pt x="545" y="1407"/>
                    </a:lnTo>
                    <a:lnTo>
                      <a:pt x="556" y="1407"/>
                    </a:lnTo>
                    <a:lnTo>
                      <a:pt x="565" y="1407"/>
                    </a:lnTo>
                    <a:lnTo>
                      <a:pt x="573" y="1408"/>
                    </a:lnTo>
                    <a:lnTo>
                      <a:pt x="579" y="1410"/>
                    </a:lnTo>
                    <a:lnTo>
                      <a:pt x="592" y="1391"/>
                    </a:lnTo>
                    <a:lnTo>
                      <a:pt x="606" y="1367"/>
                    </a:lnTo>
                    <a:lnTo>
                      <a:pt x="614" y="1355"/>
                    </a:lnTo>
                    <a:lnTo>
                      <a:pt x="623" y="1342"/>
                    </a:lnTo>
                    <a:lnTo>
                      <a:pt x="631" y="1329"/>
                    </a:lnTo>
                    <a:lnTo>
                      <a:pt x="640" y="1317"/>
                    </a:lnTo>
                    <a:lnTo>
                      <a:pt x="651" y="1308"/>
                    </a:lnTo>
                    <a:lnTo>
                      <a:pt x="661" y="1298"/>
                    </a:lnTo>
                    <a:lnTo>
                      <a:pt x="667" y="1294"/>
                    </a:lnTo>
                    <a:lnTo>
                      <a:pt x="673" y="1290"/>
                    </a:lnTo>
                    <a:lnTo>
                      <a:pt x="680" y="1288"/>
                    </a:lnTo>
                    <a:lnTo>
                      <a:pt x="686" y="1285"/>
                    </a:lnTo>
                    <a:lnTo>
                      <a:pt x="693" y="1284"/>
                    </a:lnTo>
                    <a:lnTo>
                      <a:pt x="700" y="1283"/>
                    </a:lnTo>
                    <a:lnTo>
                      <a:pt x="708" y="1283"/>
                    </a:lnTo>
                    <a:lnTo>
                      <a:pt x="715" y="1283"/>
                    </a:lnTo>
                    <a:lnTo>
                      <a:pt x="723" y="1285"/>
                    </a:lnTo>
                    <a:lnTo>
                      <a:pt x="732" y="1287"/>
                    </a:lnTo>
                    <a:lnTo>
                      <a:pt x="740" y="1290"/>
                    </a:lnTo>
                    <a:lnTo>
                      <a:pt x="750" y="1294"/>
                    </a:lnTo>
                    <a:lnTo>
                      <a:pt x="755" y="1297"/>
                    </a:lnTo>
                    <a:lnTo>
                      <a:pt x="762" y="1299"/>
                    </a:lnTo>
                    <a:lnTo>
                      <a:pt x="771" y="1301"/>
                    </a:lnTo>
                    <a:lnTo>
                      <a:pt x="781" y="1302"/>
                    </a:lnTo>
                    <a:lnTo>
                      <a:pt x="805" y="1305"/>
                    </a:lnTo>
                    <a:lnTo>
                      <a:pt x="833" y="1308"/>
                    </a:lnTo>
                    <a:lnTo>
                      <a:pt x="900" y="1312"/>
                    </a:lnTo>
                    <a:lnTo>
                      <a:pt x="975" y="1315"/>
                    </a:lnTo>
                    <a:lnTo>
                      <a:pt x="1050" y="1318"/>
                    </a:lnTo>
                    <a:lnTo>
                      <a:pt x="1119" y="1323"/>
                    </a:lnTo>
                    <a:lnTo>
                      <a:pt x="1150" y="1326"/>
                    </a:lnTo>
                    <a:lnTo>
                      <a:pt x="1177" y="1330"/>
                    </a:lnTo>
                    <a:lnTo>
                      <a:pt x="1189" y="1332"/>
                    </a:lnTo>
                    <a:lnTo>
                      <a:pt x="1198" y="1335"/>
                    </a:lnTo>
                    <a:lnTo>
                      <a:pt x="1207" y="1338"/>
                    </a:lnTo>
                    <a:lnTo>
                      <a:pt x="1215" y="1341"/>
                    </a:lnTo>
                    <a:lnTo>
                      <a:pt x="1217" y="1342"/>
                    </a:lnTo>
                    <a:lnTo>
                      <a:pt x="1221" y="1341"/>
                    </a:lnTo>
                    <a:lnTo>
                      <a:pt x="1225" y="1340"/>
                    </a:lnTo>
                    <a:lnTo>
                      <a:pt x="1231" y="1338"/>
                    </a:lnTo>
                    <a:lnTo>
                      <a:pt x="1243" y="1330"/>
                    </a:lnTo>
                    <a:lnTo>
                      <a:pt x="1258" y="1321"/>
                    </a:lnTo>
                    <a:lnTo>
                      <a:pt x="1294" y="1296"/>
                    </a:lnTo>
                    <a:lnTo>
                      <a:pt x="1337" y="1266"/>
                    </a:lnTo>
                    <a:lnTo>
                      <a:pt x="1358" y="1249"/>
                    </a:lnTo>
                    <a:lnTo>
                      <a:pt x="1381" y="1234"/>
                    </a:lnTo>
                    <a:lnTo>
                      <a:pt x="1404" y="1220"/>
                    </a:lnTo>
                    <a:lnTo>
                      <a:pt x="1426" y="1208"/>
                    </a:lnTo>
                    <a:lnTo>
                      <a:pt x="1448" y="1197"/>
                    </a:lnTo>
                    <a:lnTo>
                      <a:pt x="1469" y="1190"/>
                    </a:lnTo>
                    <a:lnTo>
                      <a:pt x="1479" y="1188"/>
                    </a:lnTo>
                    <a:lnTo>
                      <a:pt x="1489" y="1186"/>
                    </a:lnTo>
                    <a:lnTo>
                      <a:pt x="1498" y="1186"/>
                    </a:lnTo>
                    <a:lnTo>
                      <a:pt x="1506" y="1186"/>
                    </a:lnTo>
                    <a:lnTo>
                      <a:pt x="1517" y="1189"/>
                    </a:lnTo>
                    <a:lnTo>
                      <a:pt x="1526" y="1192"/>
                    </a:lnTo>
                    <a:lnTo>
                      <a:pt x="1534" y="1196"/>
                    </a:lnTo>
                    <a:lnTo>
                      <a:pt x="1543" y="1201"/>
                    </a:lnTo>
                    <a:lnTo>
                      <a:pt x="1557" y="1209"/>
                    </a:lnTo>
                    <a:lnTo>
                      <a:pt x="1571" y="1220"/>
                    </a:lnTo>
                    <a:lnTo>
                      <a:pt x="1583" y="1231"/>
                    </a:lnTo>
                    <a:lnTo>
                      <a:pt x="1597" y="1242"/>
                    </a:lnTo>
                    <a:lnTo>
                      <a:pt x="1611" y="1253"/>
                    </a:lnTo>
                    <a:lnTo>
                      <a:pt x="1628" y="1261"/>
                    </a:lnTo>
                    <a:lnTo>
                      <a:pt x="1638" y="1266"/>
                    </a:lnTo>
                    <a:lnTo>
                      <a:pt x="1649" y="1270"/>
                    </a:lnTo>
                    <a:lnTo>
                      <a:pt x="1661" y="1273"/>
                    </a:lnTo>
                    <a:lnTo>
                      <a:pt x="1674" y="1275"/>
                    </a:lnTo>
                    <a:lnTo>
                      <a:pt x="1688" y="1277"/>
                    </a:lnTo>
                    <a:lnTo>
                      <a:pt x="1703" y="1280"/>
                    </a:lnTo>
                    <a:lnTo>
                      <a:pt x="1720" y="1281"/>
                    </a:lnTo>
                    <a:lnTo>
                      <a:pt x="1738" y="1281"/>
                    </a:lnTo>
                    <a:lnTo>
                      <a:pt x="1759" y="1280"/>
                    </a:lnTo>
                    <a:lnTo>
                      <a:pt x="1781" y="1277"/>
                    </a:lnTo>
                    <a:lnTo>
                      <a:pt x="1804" y="1275"/>
                    </a:lnTo>
                    <a:lnTo>
                      <a:pt x="1831" y="1272"/>
                    </a:lnTo>
                    <a:lnTo>
                      <a:pt x="1859" y="1268"/>
                    </a:lnTo>
                    <a:lnTo>
                      <a:pt x="1890" y="1262"/>
                    </a:lnTo>
                    <a:lnTo>
                      <a:pt x="1923" y="1255"/>
                    </a:lnTo>
                    <a:lnTo>
                      <a:pt x="1959" y="1247"/>
                    </a:lnTo>
                    <a:close/>
                  </a:path>
                </a:pathLst>
              </a:custGeom>
              <a:solidFill>
                <a:srgbClr val="7faa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5907240" y="3256200"/>
                <a:ext cx="1854000" cy="474480"/>
              </a:xfrm>
              <a:custGeom>
                <a:avLst/>
                <a:gdLst/>
                <a:ahLst/>
                <a:rect l="l" t="t" r="r" b="b"/>
                <a:pathLst>
                  <a:path w="5839" h="1495">
                    <a:moveTo>
                      <a:pt x="1959" y="1305"/>
                    </a:moveTo>
                    <a:lnTo>
                      <a:pt x="2003" y="1281"/>
                    </a:lnTo>
                    <a:lnTo>
                      <a:pt x="2099" y="1227"/>
                    </a:lnTo>
                    <a:lnTo>
                      <a:pt x="2162" y="1190"/>
                    </a:lnTo>
                    <a:lnTo>
                      <a:pt x="2232" y="1146"/>
                    </a:lnTo>
                    <a:lnTo>
                      <a:pt x="2269" y="1121"/>
                    </a:lnTo>
                    <a:lnTo>
                      <a:pt x="2308" y="1095"/>
                    </a:lnTo>
                    <a:lnTo>
                      <a:pt x="2347" y="1067"/>
                    </a:lnTo>
                    <a:lnTo>
                      <a:pt x="2389" y="1038"/>
                    </a:lnTo>
                    <a:lnTo>
                      <a:pt x="2430" y="1008"/>
                    </a:lnTo>
                    <a:lnTo>
                      <a:pt x="2472" y="975"/>
                    </a:lnTo>
                    <a:lnTo>
                      <a:pt x="2514" y="942"/>
                    </a:lnTo>
                    <a:lnTo>
                      <a:pt x="2556" y="907"/>
                    </a:lnTo>
                    <a:lnTo>
                      <a:pt x="2598" y="871"/>
                    </a:lnTo>
                    <a:lnTo>
                      <a:pt x="2639" y="834"/>
                    </a:lnTo>
                    <a:lnTo>
                      <a:pt x="2680" y="795"/>
                    </a:lnTo>
                    <a:lnTo>
                      <a:pt x="2720" y="755"/>
                    </a:lnTo>
                    <a:lnTo>
                      <a:pt x="2759" y="714"/>
                    </a:lnTo>
                    <a:lnTo>
                      <a:pt x="2797" y="672"/>
                    </a:lnTo>
                    <a:lnTo>
                      <a:pt x="2834" y="629"/>
                    </a:lnTo>
                    <a:lnTo>
                      <a:pt x="2868" y="584"/>
                    </a:lnTo>
                    <a:lnTo>
                      <a:pt x="2901" y="539"/>
                    </a:lnTo>
                    <a:lnTo>
                      <a:pt x="2931" y="493"/>
                    </a:lnTo>
                    <a:lnTo>
                      <a:pt x="2960" y="445"/>
                    </a:lnTo>
                    <a:lnTo>
                      <a:pt x="2985" y="397"/>
                    </a:lnTo>
                    <a:lnTo>
                      <a:pt x="2993" y="390"/>
                    </a:lnTo>
                    <a:lnTo>
                      <a:pt x="3005" y="377"/>
                    </a:lnTo>
                    <a:lnTo>
                      <a:pt x="3013" y="368"/>
                    </a:lnTo>
                    <a:lnTo>
                      <a:pt x="3024" y="361"/>
                    </a:lnTo>
                    <a:lnTo>
                      <a:pt x="3037" y="351"/>
                    </a:lnTo>
                    <a:lnTo>
                      <a:pt x="3052" y="342"/>
                    </a:lnTo>
                    <a:lnTo>
                      <a:pt x="3071" y="333"/>
                    </a:lnTo>
                    <a:lnTo>
                      <a:pt x="3094" y="324"/>
                    </a:lnTo>
                    <a:lnTo>
                      <a:pt x="3121" y="315"/>
                    </a:lnTo>
                    <a:lnTo>
                      <a:pt x="3151" y="307"/>
                    </a:lnTo>
                    <a:lnTo>
                      <a:pt x="3188" y="299"/>
                    </a:lnTo>
                    <a:lnTo>
                      <a:pt x="3229" y="293"/>
                    </a:lnTo>
                    <a:lnTo>
                      <a:pt x="3275" y="287"/>
                    </a:lnTo>
                    <a:lnTo>
                      <a:pt x="3328" y="283"/>
                    </a:lnTo>
                    <a:lnTo>
                      <a:pt x="3353" y="265"/>
                    </a:lnTo>
                    <a:lnTo>
                      <a:pt x="3402" y="227"/>
                    </a:lnTo>
                    <a:lnTo>
                      <a:pt x="3435" y="202"/>
                    </a:lnTo>
                    <a:lnTo>
                      <a:pt x="3473" y="176"/>
                    </a:lnTo>
                    <a:lnTo>
                      <a:pt x="3515" y="149"/>
                    </a:lnTo>
                    <a:lnTo>
                      <a:pt x="3563" y="121"/>
                    </a:lnTo>
                    <a:lnTo>
                      <a:pt x="3588" y="108"/>
                    </a:lnTo>
                    <a:lnTo>
                      <a:pt x="3614" y="95"/>
                    </a:lnTo>
                    <a:lnTo>
                      <a:pt x="3641" y="82"/>
                    </a:lnTo>
                    <a:lnTo>
                      <a:pt x="3668" y="69"/>
                    </a:lnTo>
                    <a:lnTo>
                      <a:pt x="3696" y="57"/>
                    </a:lnTo>
                    <a:lnTo>
                      <a:pt x="3725" y="46"/>
                    </a:lnTo>
                    <a:lnTo>
                      <a:pt x="3755" y="37"/>
                    </a:lnTo>
                    <a:lnTo>
                      <a:pt x="3785" y="28"/>
                    </a:lnTo>
                    <a:lnTo>
                      <a:pt x="3817" y="19"/>
                    </a:lnTo>
                    <a:lnTo>
                      <a:pt x="3849" y="13"/>
                    </a:lnTo>
                    <a:lnTo>
                      <a:pt x="3880" y="8"/>
                    </a:lnTo>
                    <a:lnTo>
                      <a:pt x="3914" y="3"/>
                    </a:lnTo>
                    <a:lnTo>
                      <a:pt x="3946" y="1"/>
                    </a:lnTo>
                    <a:lnTo>
                      <a:pt x="3980" y="0"/>
                    </a:lnTo>
                    <a:lnTo>
                      <a:pt x="4014" y="1"/>
                    </a:lnTo>
                    <a:lnTo>
                      <a:pt x="4048" y="4"/>
                    </a:lnTo>
                    <a:lnTo>
                      <a:pt x="4076" y="3"/>
                    </a:lnTo>
                    <a:lnTo>
                      <a:pt x="4122" y="2"/>
                    </a:lnTo>
                    <a:lnTo>
                      <a:pt x="4150" y="3"/>
                    </a:lnTo>
                    <a:lnTo>
                      <a:pt x="4183" y="5"/>
                    </a:lnTo>
                    <a:lnTo>
                      <a:pt x="4217" y="9"/>
                    </a:lnTo>
                    <a:lnTo>
                      <a:pt x="4253" y="14"/>
                    </a:lnTo>
                    <a:lnTo>
                      <a:pt x="4273" y="18"/>
                    </a:lnTo>
                    <a:lnTo>
                      <a:pt x="4292" y="23"/>
                    </a:lnTo>
                    <a:lnTo>
                      <a:pt x="4310" y="29"/>
                    </a:lnTo>
                    <a:lnTo>
                      <a:pt x="4331" y="35"/>
                    </a:lnTo>
                    <a:lnTo>
                      <a:pt x="4350" y="42"/>
                    </a:lnTo>
                    <a:lnTo>
                      <a:pt x="4370" y="51"/>
                    </a:lnTo>
                    <a:lnTo>
                      <a:pt x="4389" y="59"/>
                    </a:lnTo>
                    <a:lnTo>
                      <a:pt x="4410" y="70"/>
                    </a:lnTo>
                    <a:lnTo>
                      <a:pt x="4429" y="82"/>
                    </a:lnTo>
                    <a:lnTo>
                      <a:pt x="4448" y="94"/>
                    </a:lnTo>
                    <a:lnTo>
                      <a:pt x="4467" y="108"/>
                    </a:lnTo>
                    <a:lnTo>
                      <a:pt x="4485" y="123"/>
                    </a:lnTo>
                    <a:lnTo>
                      <a:pt x="4504" y="140"/>
                    </a:lnTo>
                    <a:lnTo>
                      <a:pt x="4521" y="159"/>
                    </a:lnTo>
                    <a:lnTo>
                      <a:pt x="4538" y="178"/>
                    </a:lnTo>
                    <a:lnTo>
                      <a:pt x="4556" y="200"/>
                    </a:lnTo>
                    <a:lnTo>
                      <a:pt x="4571" y="221"/>
                    </a:lnTo>
                    <a:lnTo>
                      <a:pt x="4604" y="266"/>
                    </a:lnTo>
                    <a:lnTo>
                      <a:pt x="4652" y="327"/>
                    </a:lnTo>
                    <a:lnTo>
                      <a:pt x="4709" y="396"/>
                    </a:lnTo>
                    <a:lnTo>
                      <a:pt x="4739" y="432"/>
                    </a:lnTo>
                    <a:lnTo>
                      <a:pt x="4771" y="469"/>
                    </a:lnTo>
                    <a:lnTo>
                      <a:pt x="4801" y="502"/>
                    </a:lnTo>
                    <a:lnTo>
                      <a:pt x="4831" y="535"/>
                    </a:lnTo>
                    <a:lnTo>
                      <a:pt x="4860" y="565"/>
                    </a:lnTo>
                    <a:lnTo>
                      <a:pt x="4887" y="591"/>
                    </a:lnTo>
                    <a:lnTo>
                      <a:pt x="4900" y="602"/>
                    </a:lnTo>
                    <a:lnTo>
                      <a:pt x="4912" y="611"/>
                    </a:lnTo>
                    <a:lnTo>
                      <a:pt x="4923" y="620"/>
                    </a:lnTo>
                    <a:lnTo>
                      <a:pt x="4934" y="628"/>
                    </a:lnTo>
                    <a:lnTo>
                      <a:pt x="4940" y="633"/>
                    </a:lnTo>
                    <a:lnTo>
                      <a:pt x="4950" y="640"/>
                    </a:lnTo>
                    <a:lnTo>
                      <a:pt x="4963" y="649"/>
                    </a:lnTo>
                    <a:lnTo>
                      <a:pt x="4978" y="660"/>
                    </a:lnTo>
                    <a:lnTo>
                      <a:pt x="4996" y="672"/>
                    </a:lnTo>
                    <a:lnTo>
                      <a:pt x="5015" y="685"/>
                    </a:lnTo>
                    <a:lnTo>
                      <a:pt x="5035" y="701"/>
                    </a:lnTo>
                    <a:lnTo>
                      <a:pt x="5056" y="718"/>
                    </a:lnTo>
                    <a:lnTo>
                      <a:pt x="5075" y="737"/>
                    </a:lnTo>
                    <a:lnTo>
                      <a:pt x="5095" y="757"/>
                    </a:lnTo>
                    <a:lnTo>
                      <a:pt x="5103" y="769"/>
                    </a:lnTo>
                    <a:lnTo>
                      <a:pt x="5112" y="781"/>
                    </a:lnTo>
                    <a:lnTo>
                      <a:pt x="5119" y="793"/>
                    </a:lnTo>
                    <a:lnTo>
                      <a:pt x="5127" y="805"/>
                    </a:lnTo>
                    <a:lnTo>
                      <a:pt x="5135" y="818"/>
                    </a:lnTo>
                    <a:lnTo>
                      <a:pt x="5140" y="832"/>
                    </a:lnTo>
                    <a:lnTo>
                      <a:pt x="5145" y="846"/>
                    </a:lnTo>
                    <a:lnTo>
                      <a:pt x="5151" y="860"/>
                    </a:lnTo>
                    <a:lnTo>
                      <a:pt x="5154" y="875"/>
                    </a:lnTo>
                    <a:lnTo>
                      <a:pt x="5156" y="891"/>
                    </a:lnTo>
                    <a:lnTo>
                      <a:pt x="5158" y="907"/>
                    </a:lnTo>
                    <a:lnTo>
                      <a:pt x="5158" y="923"/>
                    </a:lnTo>
                    <a:lnTo>
                      <a:pt x="5157" y="954"/>
                    </a:lnTo>
                    <a:lnTo>
                      <a:pt x="5158" y="983"/>
                    </a:lnTo>
                    <a:lnTo>
                      <a:pt x="5161" y="1011"/>
                    </a:lnTo>
                    <a:lnTo>
                      <a:pt x="5165" y="1038"/>
                    </a:lnTo>
                    <a:lnTo>
                      <a:pt x="5171" y="1064"/>
                    </a:lnTo>
                    <a:lnTo>
                      <a:pt x="5178" y="1088"/>
                    </a:lnTo>
                    <a:lnTo>
                      <a:pt x="5185" y="1110"/>
                    </a:lnTo>
                    <a:lnTo>
                      <a:pt x="5193" y="1131"/>
                    </a:lnTo>
                    <a:lnTo>
                      <a:pt x="5202" y="1150"/>
                    </a:lnTo>
                    <a:lnTo>
                      <a:pt x="5209" y="1168"/>
                    </a:lnTo>
                    <a:lnTo>
                      <a:pt x="5217" y="1183"/>
                    </a:lnTo>
                    <a:lnTo>
                      <a:pt x="5224" y="1196"/>
                    </a:lnTo>
                    <a:lnTo>
                      <a:pt x="5236" y="1215"/>
                    </a:lnTo>
                    <a:lnTo>
                      <a:pt x="5243" y="1225"/>
                    </a:lnTo>
                    <a:lnTo>
                      <a:pt x="5257" y="1245"/>
                    </a:lnTo>
                    <a:lnTo>
                      <a:pt x="5265" y="1258"/>
                    </a:lnTo>
                    <a:lnTo>
                      <a:pt x="5270" y="1267"/>
                    </a:lnTo>
                    <a:lnTo>
                      <a:pt x="5273" y="1273"/>
                    </a:lnTo>
                    <a:lnTo>
                      <a:pt x="5276" y="1281"/>
                    </a:lnTo>
                    <a:lnTo>
                      <a:pt x="5283" y="1290"/>
                    </a:lnTo>
                    <a:lnTo>
                      <a:pt x="5292" y="1304"/>
                    </a:lnTo>
                    <a:lnTo>
                      <a:pt x="5310" y="1324"/>
                    </a:lnTo>
                    <a:lnTo>
                      <a:pt x="5312" y="1327"/>
                    </a:lnTo>
                    <a:lnTo>
                      <a:pt x="5315" y="1328"/>
                    </a:lnTo>
                    <a:lnTo>
                      <a:pt x="5319" y="1330"/>
                    </a:lnTo>
                    <a:lnTo>
                      <a:pt x="5325" y="1330"/>
                    </a:lnTo>
                    <a:lnTo>
                      <a:pt x="5337" y="1328"/>
                    </a:lnTo>
                    <a:lnTo>
                      <a:pt x="5350" y="1324"/>
                    </a:lnTo>
                    <a:lnTo>
                      <a:pt x="5366" y="1317"/>
                    </a:lnTo>
                    <a:lnTo>
                      <a:pt x="5383" y="1309"/>
                    </a:lnTo>
                    <a:lnTo>
                      <a:pt x="5400" y="1299"/>
                    </a:lnTo>
                    <a:lnTo>
                      <a:pt x="5419" y="1287"/>
                    </a:lnTo>
                    <a:lnTo>
                      <a:pt x="5456" y="1265"/>
                    </a:lnTo>
                    <a:lnTo>
                      <a:pt x="5491" y="1242"/>
                    </a:lnTo>
                    <a:lnTo>
                      <a:pt x="5520" y="1224"/>
                    </a:lnTo>
                    <a:lnTo>
                      <a:pt x="5542" y="1213"/>
                    </a:lnTo>
                    <a:lnTo>
                      <a:pt x="5547" y="1212"/>
                    </a:lnTo>
                    <a:lnTo>
                      <a:pt x="5552" y="1212"/>
                    </a:lnTo>
                    <a:lnTo>
                      <a:pt x="5557" y="1213"/>
                    </a:lnTo>
                    <a:lnTo>
                      <a:pt x="5562" y="1214"/>
                    </a:lnTo>
                    <a:lnTo>
                      <a:pt x="5573" y="1217"/>
                    </a:lnTo>
                    <a:lnTo>
                      <a:pt x="5584" y="1223"/>
                    </a:lnTo>
                    <a:lnTo>
                      <a:pt x="5594" y="1229"/>
                    </a:lnTo>
                    <a:lnTo>
                      <a:pt x="5602" y="1237"/>
                    </a:lnTo>
                    <a:lnTo>
                      <a:pt x="5611" y="1245"/>
                    </a:lnTo>
                    <a:lnTo>
                      <a:pt x="5619" y="1255"/>
                    </a:lnTo>
                    <a:lnTo>
                      <a:pt x="5624" y="1273"/>
                    </a:lnTo>
                    <a:lnTo>
                      <a:pt x="5630" y="1293"/>
                    </a:lnTo>
                    <a:lnTo>
                      <a:pt x="5634" y="1303"/>
                    </a:lnTo>
                    <a:lnTo>
                      <a:pt x="5638" y="1312"/>
                    </a:lnTo>
                    <a:lnTo>
                      <a:pt x="5642" y="1321"/>
                    </a:lnTo>
                    <a:lnTo>
                      <a:pt x="5647" y="1330"/>
                    </a:lnTo>
                    <a:lnTo>
                      <a:pt x="5652" y="1336"/>
                    </a:lnTo>
                    <a:lnTo>
                      <a:pt x="5659" y="1344"/>
                    </a:lnTo>
                    <a:lnTo>
                      <a:pt x="5666" y="1349"/>
                    </a:lnTo>
                    <a:lnTo>
                      <a:pt x="5674" y="1353"/>
                    </a:lnTo>
                    <a:lnTo>
                      <a:pt x="5682" y="1357"/>
                    </a:lnTo>
                    <a:lnTo>
                      <a:pt x="5692" y="1359"/>
                    </a:lnTo>
                    <a:lnTo>
                      <a:pt x="5703" y="1360"/>
                    </a:lnTo>
                    <a:lnTo>
                      <a:pt x="5715" y="1359"/>
                    </a:lnTo>
                    <a:lnTo>
                      <a:pt x="5729" y="1355"/>
                    </a:lnTo>
                    <a:lnTo>
                      <a:pt x="5745" y="1351"/>
                    </a:lnTo>
                    <a:lnTo>
                      <a:pt x="5762" y="1347"/>
                    </a:lnTo>
                    <a:lnTo>
                      <a:pt x="5779" y="1344"/>
                    </a:lnTo>
                    <a:lnTo>
                      <a:pt x="5797" y="1340"/>
                    </a:lnTo>
                    <a:lnTo>
                      <a:pt x="5812" y="1340"/>
                    </a:lnTo>
                    <a:lnTo>
                      <a:pt x="5819" y="1340"/>
                    </a:lnTo>
                    <a:lnTo>
                      <a:pt x="5827" y="1341"/>
                    </a:lnTo>
                    <a:lnTo>
                      <a:pt x="5832" y="1344"/>
                    </a:lnTo>
                    <a:lnTo>
                      <a:pt x="5838" y="1347"/>
                    </a:lnTo>
                    <a:lnTo>
                      <a:pt x="5839" y="1348"/>
                    </a:lnTo>
                    <a:lnTo>
                      <a:pt x="5838" y="1349"/>
                    </a:lnTo>
                    <a:lnTo>
                      <a:pt x="5836" y="1349"/>
                    </a:lnTo>
                    <a:lnTo>
                      <a:pt x="5831" y="1350"/>
                    </a:lnTo>
                    <a:lnTo>
                      <a:pt x="5822" y="1351"/>
                    </a:lnTo>
                    <a:lnTo>
                      <a:pt x="5809" y="1351"/>
                    </a:lnTo>
                    <a:lnTo>
                      <a:pt x="5795" y="1350"/>
                    </a:lnTo>
                    <a:lnTo>
                      <a:pt x="5781" y="1349"/>
                    </a:lnTo>
                    <a:lnTo>
                      <a:pt x="5770" y="1348"/>
                    </a:lnTo>
                    <a:lnTo>
                      <a:pt x="5762" y="1347"/>
                    </a:lnTo>
                    <a:lnTo>
                      <a:pt x="5768" y="1349"/>
                    </a:lnTo>
                    <a:lnTo>
                      <a:pt x="5772" y="1353"/>
                    </a:lnTo>
                    <a:lnTo>
                      <a:pt x="5775" y="1357"/>
                    </a:lnTo>
                    <a:lnTo>
                      <a:pt x="5776" y="1361"/>
                    </a:lnTo>
                    <a:lnTo>
                      <a:pt x="5776" y="1362"/>
                    </a:lnTo>
                    <a:lnTo>
                      <a:pt x="5775" y="1364"/>
                    </a:lnTo>
                    <a:lnTo>
                      <a:pt x="5774" y="1365"/>
                    </a:lnTo>
                    <a:lnTo>
                      <a:pt x="5772" y="1367"/>
                    </a:lnTo>
                    <a:lnTo>
                      <a:pt x="5764" y="1369"/>
                    </a:lnTo>
                    <a:lnTo>
                      <a:pt x="5755" y="1371"/>
                    </a:lnTo>
                    <a:lnTo>
                      <a:pt x="5751" y="1372"/>
                    </a:lnTo>
                    <a:lnTo>
                      <a:pt x="5745" y="1374"/>
                    </a:lnTo>
                    <a:lnTo>
                      <a:pt x="5736" y="1377"/>
                    </a:lnTo>
                    <a:lnTo>
                      <a:pt x="5727" y="1380"/>
                    </a:lnTo>
                    <a:lnTo>
                      <a:pt x="5716" y="1384"/>
                    </a:lnTo>
                    <a:lnTo>
                      <a:pt x="5705" y="1388"/>
                    </a:lnTo>
                    <a:lnTo>
                      <a:pt x="5693" y="1391"/>
                    </a:lnTo>
                    <a:lnTo>
                      <a:pt x="5682" y="1393"/>
                    </a:lnTo>
                    <a:lnTo>
                      <a:pt x="5669" y="1393"/>
                    </a:lnTo>
                    <a:lnTo>
                      <a:pt x="5654" y="1393"/>
                    </a:lnTo>
                    <a:lnTo>
                      <a:pt x="5636" y="1392"/>
                    </a:lnTo>
                    <a:lnTo>
                      <a:pt x="5617" y="1391"/>
                    </a:lnTo>
                    <a:lnTo>
                      <a:pt x="5598" y="1390"/>
                    </a:lnTo>
                    <a:lnTo>
                      <a:pt x="5580" y="1389"/>
                    </a:lnTo>
                    <a:lnTo>
                      <a:pt x="5562" y="1387"/>
                    </a:lnTo>
                    <a:lnTo>
                      <a:pt x="5546" y="1386"/>
                    </a:lnTo>
                    <a:lnTo>
                      <a:pt x="5531" y="1386"/>
                    </a:lnTo>
                    <a:lnTo>
                      <a:pt x="5515" y="1386"/>
                    </a:lnTo>
                    <a:lnTo>
                      <a:pt x="5496" y="1387"/>
                    </a:lnTo>
                    <a:lnTo>
                      <a:pt x="5479" y="1389"/>
                    </a:lnTo>
                    <a:lnTo>
                      <a:pt x="5462" y="1391"/>
                    </a:lnTo>
                    <a:lnTo>
                      <a:pt x="5446" y="1394"/>
                    </a:lnTo>
                    <a:lnTo>
                      <a:pt x="5432" y="1398"/>
                    </a:lnTo>
                    <a:lnTo>
                      <a:pt x="5418" y="1401"/>
                    </a:lnTo>
                    <a:lnTo>
                      <a:pt x="5404" y="1403"/>
                    </a:lnTo>
                    <a:lnTo>
                      <a:pt x="5383" y="1404"/>
                    </a:lnTo>
                    <a:lnTo>
                      <a:pt x="5359" y="1404"/>
                    </a:lnTo>
                    <a:lnTo>
                      <a:pt x="5332" y="1404"/>
                    </a:lnTo>
                    <a:lnTo>
                      <a:pt x="5305" y="1403"/>
                    </a:lnTo>
                    <a:lnTo>
                      <a:pt x="5277" y="1402"/>
                    </a:lnTo>
                    <a:lnTo>
                      <a:pt x="5250" y="1400"/>
                    </a:lnTo>
                    <a:lnTo>
                      <a:pt x="5225" y="1399"/>
                    </a:lnTo>
                    <a:lnTo>
                      <a:pt x="5200" y="1395"/>
                    </a:lnTo>
                    <a:lnTo>
                      <a:pt x="5172" y="1391"/>
                    </a:lnTo>
                    <a:lnTo>
                      <a:pt x="5143" y="1388"/>
                    </a:lnTo>
                    <a:lnTo>
                      <a:pt x="5114" y="1384"/>
                    </a:lnTo>
                    <a:lnTo>
                      <a:pt x="5099" y="1382"/>
                    </a:lnTo>
                    <a:lnTo>
                      <a:pt x="5085" y="1382"/>
                    </a:lnTo>
                    <a:lnTo>
                      <a:pt x="5071" y="1382"/>
                    </a:lnTo>
                    <a:lnTo>
                      <a:pt x="5057" y="1382"/>
                    </a:lnTo>
                    <a:lnTo>
                      <a:pt x="5044" y="1385"/>
                    </a:lnTo>
                    <a:lnTo>
                      <a:pt x="5032" y="1387"/>
                    </a:lnTo>
                    <a:lnTo>
                      <a:pt x="5020" y="1391"/>
                    </a:lnTo>
                    <a:lnTo>
                      <a:pt x="5010" y="1395"/>
                    </a:lnTo>
                    <a:lnTo>
                      <a:pt x="5004" y="1399"/>
                    </a:lnTo>
                    <a:lnTo>
                      <a:pt x="4996" y="1401"/>
                    </a:lnTo>
                    <a:lnTo>
                      <a:pt x="4988" y="1403"/>
                    </a:lnTo>
                    <a:lnTo>
                      <a:pt x="4977" y="1405"/>
                    </a:lnTo>
                    <a:lnTo>
                      <a:pt x="4953" y="1408"/>
                    </a:lnTo>
                    <a:lnTo>
                      <a:pt x="4925" y="1411"/>
                    </a:lnTo>
                    <a:lnTo>
                      <a:pt x="4894" y="1413"/>
                    </a:lnTo>
                    <a:lnTo>
                      <a:pt x="4860" y="1413"/>
                    </a:lnTo>
                    <a:lnTo>
                      <a:pt x="4826" y="1414"/>
                    </a:lnTo>
                    <a:lnTo>
                      <a:pt x="4790" y="1414"/>
                    </a:lnTo>
                    <a:lnTo>
                      <a:pt x="4722" y="1413"/>
                    </a:lnTo>
                    <a:lnTo>
                      <a:pt x="4665" y="1411"/>
                    </a:lnTo>
                    <a:lnTo>
                      <a:pt x="4624" y="1408"/>
                    </a:lnTo>
                    <a:lnTo>
                      <a:pt x="4607" y="1405"/>
                    </a:lnTo>
                    <a:lnTo>
                      <a:pt x="4601" y="1407"/>
                    </a:lnTo>
                    <a:lnTo>
                      <a:pt x="4584" y="1412"/>
                    </a:lnTo>
                    <a:lnTo>
                      <a:pt x="4558" y="1416"/>
                    </a:lnTo>
                    <a:lnTo>
                      <a:pt x="4527" y="1421"/>
                    </a:lnTo>
                    <a:lnTo>
                      <a:pt x="4510" y="1422"/>
                    </a:lnTo>
                    <a:lnTo>
                      <a:pt x="4494" y="1425"/>
                    </a:lnTo>
                    <a:lnTo>
                      <a:pt x="4478" y="1425"/>
                    </a:lnTo>
                    <a:lnTo>
                      <a:pt x="4462" y="1425"/>
                    </a:lnTo>
                    <a:lnTo>
                      <a:pt x="4448" y="1423"/>
                    </a:lnTo>
                    <a:lnTo>
                      <a:pt x="4433" y="1420"/>
                    </a:lnTo>
                    <a:lnTo>
                      <a:pt x="4427" y="1418"/>
                    </a:lnTo>
                    <a:lnTo>
                      <a:pt x="4422" y="1416"/>
                    </a:lnTo>
                    <a:lnTo>
                      <a:pt x="4416" y="1414"/>
                    </a:lnTo>
                    <a:lnTo>
                      <a:pt x="4412" y="1411"/>
                    </a:lnTo>
                    <a:lnTo>
                      <a:pt x="4397" y="1413"/>
                    </a:lnTo>
                    <a:lnTo>
                      <a:pt x="4356" y="1419"/>
                    </a:lnTo>
                    <a:lnTo>
                      <a:pt x="4294" y="1427"/>
                    </a:lnTo>
                    <a:lnTo>
                      <a:pt x="4217" y="1433"/>
                    </a:lnTo>
                    <a:lnTo>
                      <a:pt x="4175" y="1436"/>
                    </a:lnTo>
                    <a:lnTo>
                      <a:pt x="4131" y="1439"/>
                    </a:lnTo>
                    <a:lnTo>
                      <a:pt x="4087" y="1440"/>
                    </a:lnTo>
                    <a:lnTo>
                      <a:pt x="4042" y="1439"/>
                    </a:lnTo>
                    <a:lnTo>
                      <a:pt x="3998" y="1436"/>
                    </a:lnTo>
                    <a:lnTo>
                      <a:pt x="3956" y="1432"/>
                    </a:lnTo>
                    <a:lnTo>
                      <a:pt x="3935" y="1430"/>
                    </a:lnTo>
                    <a:lnTo>
                      <a:pt x="3915" y="1427"/>
                    </a:lnTo>
                    <a:lnTo>
                      <a:pt x="3897" y="1422"/>
                    </a:lnTo>
                    <a:lnTo>
                      <a:pt x="3878" y="1418"/>
                    </a:lnTo>
                    <a:lnTo>
                      <a:pt x="3857" y="1418"/>
                    </a:lnTo>
                    <a:lnTo>
                      <a:pt x="3813" y="1419"/>
                    </a:lnTo>
                    <a:lnTo>
                      <a:pt x="3753" y="1420"/>
                    </a:lnTo>
                    <a:lnTo>
                      <a:pt x="3682" y="1421"/>
                    </a:lnTo>
                    <a:lnTo>
                      <a:pt x="3604" y="1423"/>
                    </a:lnTo>
                    <a:lnTo>
                      <a:pt x="3525" y="1425"/>
                    </a:lnTo>
                    <a:lnTo>
                      <a:pt x="3453" y="1425"/>
                    </a:lnTo>
                    <a:lnTo>
                      <a:pt x="3391" y="1426"/>
                    </a:lnTo>
                    <a:lnTo>
                      <a:pt x="3363" y="1426"/>
                    </a:lnTo>
                    <a:lnTo>
                      <a:pt x="3337" y="1427"/>
                    </a:lnTo>
                    <a:lnTo>
                      <a:pt x="3311" y="1429"/>
                    </a:lnTo>
                    <a:lnTo>
                      <a:pt x="3285" y="1432"/>
                    </a:lnTo>
                    <a:lnTo>
                      <a:pt x="3235" y="1439"/>
                    </a:lnTo>
                    <a:lnTo>
                      <a:pt x="3185" y="1445"/>
                    </a:lnTo>
                    <a:lnTo>
                      <a:pt x="3160" y="1447"/>
                    </a:lnTo>
                    <a:lnTo>
                      <a:pt x="3134" y="1449"/>
                    </a:lnTo>
                    <a:lnTo>
                      <a:pt x="3108" y="1452"/>
                    </a:lnTo>
                    <a:lnTo>
                      <a:pt x="3081" y="1453"/>
                    </a:lnTo>
                    <a:lnTo>
                      <a:pt x="3053" y="1453"/>
                    </a:lnTo>
                    <a:lnTo>
                      <a:pt x="3024" y="1452"/>
                    </a:lnTo>
                    <a:lnTo>
                      <a:pt x="2995" y="1449"/>
                    </a:lnTo>
                    <a:lnTo>
                      <a:pt x="2963" y="1445"/>
                    </a:lnTo>
                    <a:lnTo>
                      <a:pt x="2904" y="1436"/>
                    </a:lnTo>
                    <a:lnTo>
                      <a:pt x="2853" y="1431"/>
                    </a:lnTo>
                    <a:lnTo>
                      <a:pt x="2810" y="1428"/>
                    </a:lnTo>
                    <a:lnTo>
                      <a:pt x="2774" y="1427"/>
                    </a:lnTo>
                    <a:lnTo>
                      <a:pt x="2746" y="1428"/>
                    </a:lnTo>
                    <a:lnTo>
                      <a:pt x="2724" y="1431"/>
                    </a:lnTo>
                    <a:lnTo>
                      <a:pt x="2715" y="1433"/>
                    </a:lnTo>
                    <a:lnTo>
                      <a:pt x="2707" y="1435"/>
                    </a:lnTo>
                    <a:lnTo>
                      <a:pt x="2701" y="1438"/>
                    </a:lnTo>
                    <a:lnTo>
                      <a:pt x="2696" y="1440"/>
                    </a:lnTo>
                    <a:lnTo>
                      <a:pt x="2690" y="1443"/>
                    </a:lnTo>
                    <a:lnTo>
                      <a:pt x="2681" y="1444"/>
                    </a:lnTo>
                    <a:lnTo>
                      <a:pt x="2672" y="1445"/>
                    </a:lnTo>
                    <a:lnTo>
                      <a:pt x="2660" y="1444"/>
                    </a:lnTo>
                    <a:lnTo>
                      <a:pt x="2633" y="1443"/>
                    </a:lnTo>
                    <a:lnTo>
                      <a:pt x="2605" y="1439"/>
                    </a:lnTo>
                    <a:lnTo>
                      <a:pt x="2576" y="1434"/>
                    </a:lnTo>
                    <a:lnTo>
                      <a:pt x="2553" y="1429"/>
                    </a:lnTo>
                    <a:lnTo>
                      <a:pt x="2535" y="1425"/>
                    </a:lnTo>
                    <a:lnTo>
                      <a:pt x="2528" y="1420"/>
                    </a:lnTo>
                    <a:lnTo>
                      <a:pt x="2521" y="1423"/>
                    </a:lnTo>
                    <a:lnTo>
                      <a:pt x="2506" y="1429"/>
                    </a:lnTo>
                    <a:lnTo>
                      <a:pt x="2483" y="1438"/>
                    </a:lnTo>
                    <a:lnTo>
                      <a:pt x="2456" y="1446"/>
                    </a:lnTo>
                    <a:lnTo>
                      <a:pt x="2440" y="1449"/>
                    </a:lnTo>
                    <a:lnTo>
                      <a:pt x="2426" y="1452"/>
                    </a:lnTo>
                    <a:lnTo>
                      <a:pt x="2412" y="1454"/>
                    </a:lnTo>
                    <a:lnTo>
                      <a:pt x="2398" y="1454"/>
                    </a:lnTo>
                    <a:lnTo>
                      <a:pt x="2385" y="1453"/>
                    </a:lnTo>
                    <a:lnTo>
                      <a:pt x="2374" y="1449"/>
                    </a:lnTo>
                    <a:lnTo>
                      <a:pt x="2369" y="1447"/>
                    </a:lnTo>
                    <a:lnTo>
                      <a:pt x="2365" y="1445"/>
                    </a:lnTo>
                    <a:lnTo>
                      <a:pt x="2360" y="1442"/>
                    </a:lnTo>
                    <a:lnTo>
                      <a:pt x="2357" y="1438"/>
                    </a:lnTo>
                    <a:lnTo>
                      <a:pt x="2353" y="1438"/>
                    </a:lnTo>
                    <a:lnTo>
                      <a:pt x="2342" y="1435"/>
                    </a:lnTo>
                    <a:lnTo>
                      <a:pt x="2326" y="1432"/>
                    </a:lnTo>
                    <a:lnTo>
                      <a:pt x="2308" y="1429"/>
                    </a:lnTo>
                    <a:lnTo>
                      <a:pt x="2288" y="1427"/>
                    </a:lnTo>
                    <a:lnTo>
                      <a:pt x="2270" y="1426"/>
                    </a:lnTo>
                    <a:lnTo>
                      <a:pt x="2261" y="1426"/>
                    </a:lnTo>
                    <a:lnTo>
                      <a:pt x="2253" y="1428"/>
                    </a:lnTo>
                    <a:lnTo>
                      <a:pt x="2248" y="1430"/>
                    </a:lnTo>
                    <a:lnTo>
                      <a:pt x="2244" y="1433"/>
                    </a:lnTo>
                    <a:lnTo>
                      <a:pt x="2238" y="1436"/>
                    </a:lnTo>
                    <a:lnTo>
                      <a:pt x="2230" y="1440"/>
                    </a:lnTo>
                    <a:lnTo>
                      <a:pt x="2218" y="1443"/>
                    </a:lnTo>
                    <a:lnTo>
                      <a:pt x="2205" y="1446"/>
                    </a:lnTo>
                    <a:lnTo>
                      <a:pt x="2170" y="1452"/>
                    </a:lnTo>
                    <a:lnTo>
                      <a:pt x="2130" y="1456"/>
                    </a:lnTo>
                    <a:lnTo>
                      <a:pt x="2086" y="1459"/>
                    </a:lnTo>
                    <a:lnTo>
                      <a:pt x="2041" y="1461"/>
                    </a:lnTo>
                    <a:lnTo>
                      <a:pt x="1995" y="1463"/>
                    </a:lnTo>
                    <a:lnTo>
                      <a:pt x="1954" y="1465"/>
                    </a:lnTo>
                    <a:lnTo>
                      <a:pt x="1909" y="1466"/>
                    </a:lnTo>
                    <a:lnTo>
                      <a:pt x="1855" y="1465"/>
                    </a:lnTo>
                    <a:lnTo>
                      <a:pt x="1794" y="1461"/>
                    </a:lnTo>
                    <a:lnTo>
                      <a:pt x="1732" y="1459"/>
                    </a:lnTo>
                    <a:lnTo>
                      <a:pt x="1669" y="1457"/>
                    </a:lnTo>
                    <a:lnTo>
                      <a:pt x="1611" y="1456"/>
                    </a:lnTo>
                    <a:lnTo>
                      <a:pt x="1584" y="1457"/>
                    </a:lnTo>
                    <a:lnTo>
                      <a:pt x="1559" y="1458"/>
                    </a:lnTo>
                    <a:lnTo>
                      <a:pt x="1536" y="1460"/>
                    </a:lnTo>
                    <a:lnTo>
                      <a:pt x="1517" y="1462"/>
                    </a:lnTo>
                    <a:lnTo>
                      <a:pt x="1478" y="1469"/>
                    </a:lnTo>
                    <a:lnTo>
                      <a:pt x="1439" y="1473"/>
                    </a:lnTo>
                    <a:lnTo>
                      <a:pt x="1399" y="1477"/>
                    </a:lnTo>
                    <a:lnTo>
                      <a:pt x="1359" y="1481"/>
                    </a:lnTo>
                    <a:lnTo>
                      <a:pt x="1323" y="1482"/>
                    </a:lnTo>
                    <a:lnTo>
                      <a:pt x="1290" y="1483"/>
                    </a:lnTo>
                    <a:lnTo>
                      <a:pt x="1262" y="1482"/>
                    </a:lnTo>
                    <a:lnTo>
                      <a:pt x="1239" y="1480"/>
                    </a:lnTo>
                    <a:lnTo>
                      <a:pt x="1221" y="1477"/>
                    </a:lnTo>
                    <a:lnTo>
                      <a:pt x="1201" y="1476"/>
                    </a:lnTo>
                    <a:lnTo>
                      <a:pt x="1183" y="1477"/>
                    </a:lnTo>
                    <a:lnTo>
                      <a:pt x="1166" y="1480"/>
                    </a:lnTo>
                    <a:lnTo>
                      <a:pt x="1149" y="1482"/>
                    </a:lnTo>
                    <a:lnTo>
                      <a:pt x="1134" y="1485"/>
                    </a:lnTo>
                    <a:lnTo>
                      <a:pt x="1120" y="1486"/>
                    </a:lnTo>
                    <a:lnTo>
                      <a:pt x="1108" y="1487"/>
                    </a:lnTo>
                    <a:lnTo>
                      <a:pt x="1092" y="1488"/>
                    </a:lnTo>
                    <a:lnTo>
                      <a:pt x="1066" y="1489"/>
                    </a:lnTo>
                    <a:lnTo>
                      <a:pt x="1035" y="1490"/>
                    </a:lnTo>
                    <a:lnTo>
                      <a:pt x="997" y="1492"/>
                    </a:lnTo>
                    <a:lnTo>
                      <a:pt x="957" y="1492"/>
                    </a:lnTo>
                    <a:lnTo>
                      <a:pt x="914" y="1489"/>
                    </a:lnTo>
                    <a:lnTo>
                      <a:pt x="871" y="1487"/>
                    </a:lnTo>
                    <a:lnTo>
                      <a:pt x="830" y="1482"/>
                    </a:lnTo>
                    <a:lnTo>
                      <a:pt x="790" y="1477"/>
                    </a:lnTo>
                    <a:lnTo>
                      <a:pt x="752" y="1473"/>
                    </a:lnTo>
                    <a:lnTo>
                      <a:pt x="716" y="1471"/>
                    </a:lnTo>
                    <a:lnTo>
                      <a:pt x="683" y="1470"/>
                    </a:lnTo>
                    <a:lnTo>
                      <a:pt x="651" y="1471"/>
                    </a:lnTo>
                    <a:lnTo>
                      <a:pt x="622" y="1473"/>
                    </a:lnTo>
                    <a:lnTo>
                      <a:pt x="594" y="1476"/>
                    </a:lnTo>
                    <a:lnTo>
                      <a:pt x="567" y="1482"/>
                    </a:lnTo>
                    <a:lnTo>
                      <a:pt x="553" y="1485"/>
                    </a:lnTo>
                    <a:lnTo>
                      <a:pt x="537" y="1488"/>
                    </a:lnTo>
                    <a:lnTo>
                      <a:pt x="519" y="1490"/>
                    </a:lnTo>
                    <a:lnTo>
                      <a:pt x="498" y="1493"/>
                    </a:lnTo>
                    <a:lnTo>
                      <a:pt x="478" y="1494"/>
                    </a:lnTo>
                    <a:lnTo>
                      <a:pt x="455" y="1494"/>
                    </a:lnTo>
                    <a:lnTo>
                      <a:pt x="431" y="1495"/>
                    </a:lnTo>
                    <a:lnTo>
                      <a:pt x="407" y="1494"/>
                    </a:lnTo>
                    <a:lnTo>
                      <a:pt x="384" y="1493"/>
                    </a:lnTo>
                    <a:lnTo>
                      <a:pt x="359" y="1492"/>
                    </a:lnTo>
                    <a:lnTo>
                      <a:pt x="335" y="1489"/>
                    </a:lnTo>
                    <a:lnTo>
                      <a:pt x="311" y="1486"/>
                    </a:lnTo>
                    <a:lnTo>
                      <a:pt x="288" y="1482"/>
                    </a:lnTo>
                    <a:lnTo>
                      <a:pt x="266" y="1477"/>
                    </a:lnTo>
                    <a:lnTo>
                      <a:pt x="245" y="1471"/>
                    </a:lnTo>
                    <a:lnTo>
                      <a:pt x="226" y="1465"/>
                    </a:lnTo>
                    <a:lnTo>
                      <a:pt x="191" y="1452"/>
                    </a:lnTo>
                    <a:lnTo>
                      <a:pt x="161" y="1442"/>
                    </a:lnTo>
                    <a:lnTo>
                      <a:pt x="137" y="1434"/>
                    </a:lnTo>
                    <a:lnTo>
                      <a:pt x="119" y="1428"/>
                    </a:lnTo>
                    <a:lnTo>
                      <a:pt x="104" y="1423"/>
                    </a:lnTo>
                    <a:lnTo>
                      <a:pt x="94" y="1421"/>
                    </a:lnTo>
                    <a:lnTo>
                      <a:pt x="88" y="1418"/>
                    </a:lnTo>
                    <a:lnTo>
                      <a:pt x="85" y="1416"/>
                    </a:lnTo>
                    <a:lnTo>
                      <a:pt x="84" y="1415"/>
                    </a:lnTo>
                    <a:lnTo>
                      <a:pt x="82" y="1414"/>
                    </a:lnTo>
                    <a:lnTo>
                      <a:pt x="79" y="1414"/>
                    </a:lnTo>
                    <a:lnTo>
                      <a:pt x="75" y="1414"/>
                    </a:lnTo>
                    <a:lnTo>
                      <a:pt x="65" y="1414"/>
                    </a:lnTo>
                    <a:lnTo>
                      <a:pt x="53" y="1414"/>
                    </a:lnTo>
                    <a:lnTo>
                      <a:pt x="47" y="1414"/>
                    </a:lnTo>
                    <a:lnTo>
                      <a:pt x="41" y="1413"/>
                    </a:lnTo>
                    <a:lnTo>
                      <a:pt x="35" y="1412"/>
                    </a:lnTo>
                    <a:lnTo>
                      <a:pt x="28" y="1409"/>
                    </a:lnTo>
                    <a:lnTo>
                      <a:pt x="23" y="1406"/>
                    </a:lnTo>
                    <a:lnTo>
                      <a:pt x="17" y="1402"/>
                    </a:lnTo>
                    <a:lnTo>
                      <a:pt x="12" y="1398"/>
                    </a:lnTo>
                    <a:lnTo>
                      <a:pt x="9" y="1391"/>
                    </a:lnTo>
                    <a:lnTo>
                      <a:pt x="5" y="1377"/>
                    </a:lnTo>
                    <a:lnTo>
                      <a:pt x="3" y="1361"/>
                    </a:lnTo>
                    <a:lnTo>
                      <a:pt x="1" y="1344"/>
                    </a:lnTo>
                    <a:lnTo>
                      <a:pt x="0" y="1326"/>
                    </a:lnTo>
                    <a:lnTo>
                      <a:pt x="0" y="1310"/>
                    </a:lnTo>
                    <a:lnTo>
                      <a:pt x="0" y="1297"/>
                    </a:lnTo>
                    <a:lnTo>
                      <a:pt x="0" y="1291"/>
                    </a:lnTo>
                    <a:lnTo>
                      <a:pt x="1" y="1286"/>
                    </a:lnTo>
                    <a:lnTo>
                      <a:pt x="2" y="1284"/>
                    </a:lnTo>
                    <a:lnTo>
                      <a:pt x="3" y="1282"/>
                    </a:lnTo>
                    <a:lnTo>
                      <a:pt x="17" y="1290"/>
                    </a:lnTo>
                    <a:lnTo>
                      <a:pt x="31" y="1297"/>
                    </a:lnTo>
                    <a:lnTo>
                      <a:pt x="44" y="1306"/>
                    </a:lnTo>
                    <a:lnTo>
                      <a:pt x="58" y="1315"/>
                    </a:lnTo>
                    <a:lnTo>
                      <a:pt x="85" y="1335"/>
                    </a:lnTo>
                    <a:lnTo>
                      <a:pt x="112" y="1353"/>
                    </a:lnTo>
                    <a:lnTo>
                      <a:pt x="137" y="1372"/>
                    </a:lnTo>
                    <a:lnTo>
                      <a:pt x="163" y="1389"/>
                    </a:lnTo>
                    <a:lnTo>
                      <a:pt x="175" y="1395"/>
                    </a:lnTo>
                    <a:lnTo>
                      <a:pt x="187" y="1402"/>
                    </a:lnTo>
                    <a:lnTo>
                      <a:pt x="200" y="1406"/>
                    </a:lnTo>
                    <a:lnTo>
                      <a:pt x="211" y="1411"/>
                    </a:lnTo>
                    <a:lnTo>
                      <a:pt x="259" y="1420"/>
                    </a:lnTo>
                    <a:lnTo>
                      <a:pt x="303" y="1428"/>
                    </a:lnTo>
                    <a:lnTo>
                      <a:pt x="342" y="1432"/>
                    </a:lnTo>
                    <a:lnTo>
                      <a:pt x="378" y="1436"/>
                    </a:lnTo>
                    <a:lnTo>
                      <a:pt x="409" y="1439"/>
                    </a:lnTo>
                    <a:lnTo>
                      <a:pt x="438" y="1439"/>
                    </a:lnTo>
                    <a:lnTo>
                      <a:pt x="462" y="1439"/>
                    </a:lnTo>
                    <a:lnTo>
                      <a:pt x="485" y="1438"/>
                    </a:lnTo>
                    <a:lnTo>
                      <a:pt x="520" y="1433"/>
                    </a:lnTo>
                    <a:lnTo>
                      <a:pt x="543" y="1429"/>
                    </a:lnTo>
                    <a:lnTo>
                      <a:pt x="560" y="1426"/>
                    </a:lnTo>
                    <a:lnTo>
                      <a:pt x="567" y="1426"/>
                    </a:lnTo>
                    <a:lnTo>
                      <a:pt x="573" y="1415"/>
                    </a:lnTo>
                    <a:lnTo>
                      <a:pt x="576" y="1402"/>
                    </a:lnTo>
                    <a:lnTo>
                      <a:pt x="580" y="1389"/>
                    </a:lnTo>
                    <a:lnTo>
                      <a:pt x="583" y="1376"/>
                    </a:lnTo>
                    <a:lnTo>
                      <a:pt x="590" y="1349"/>
                    </a:lnTo>
                    <a:lnTo>
                      <a:pt x="597" y="1324"/>
                    </a:lnTo>
                    <a:lnTo>
                      <a:pt x="603" y="1313"/>
                    </a:lnTo>
                    <a:lnTo>
                      <a:pt x="608" y="1305"/>
                    </a:lnTo>
                    <a:lnTo>
                      <a:pt x="613" y="1300"/>
                    </a:lnTo>
                    <a:lnTo>
                      <a:pt x="616" y="1297"/>
                    </a:lnTo>
                    <a:lnTo>
                      <a:pt x="621" y="1295"/>
                    </a:lnTo>
                    <a:lnTo>
                      <a:pt x="626" y="1293"/>
                    </a:lnTo>
                    <a:lnTo>
                      <a:pt x="631" y="1292"/>
                    </a:lnTo>
                    <a:lnTo>
                      <a:pt x="636" y="1291"/>
                    </a:lnTo>
                    <a:lnTo>
                      <a:pt x="643" y="1291"/>
                    </a:lnTo>
                    <a:lnTo>
                      <a:pt x="649" y="1292"/>
                    </a:lnTo>
                    <a:lnTo>
                      <a:pt x="657" y="1294"/>
                    </a:lnTo>
                    <a:lnTo>
                      <a:pt x="665" y="1296"/>
                    </a:lnTo>
                    <a:lnTo>
                      <a:pt x="674" y="1299"/>
                    </a:lnTo>
                    <a:lnTo>
                      <a:pt x="684" y="1305"/>
                    </a:lnTo>
                    <a:lnTo>
                      <a:pt x="689" y="1307"/>
                    </a:lnTo>
                    <a:lnTo>
                      <a:pt x="697" y="1309"/>
                    </a:lnTo>
                    <a:lnTo>
                      <a:pt x="705" y="1311"/>
                    </a:lnTo>
                    <a:lnTo>
                      <a:pt x="716" y="1313"/>
                    </a:lnTo>
                    <a:lnTo>
                      <a:pt x="742" y="1318"/>
                    </a:lnTo>
                    <a:lnTo>
                      <a:pt x="772" y="1322"/>
                    </a:lnTo>
                    <a:lnTo>
                      <a:pt x="844" y="1330"/>
                    </a:lnTo>
                    <a:lnTo>
                      <a:pt x="924" y="1336"/>
                    </a:lnTo>
                    <a:lnTo>
                      <a:pt x="1004" y="1344"/>
                    </a:lnTo>
                    <a:lnTo>
                      <a:pt x="1077" y="1352"/>
                    </a:lnTo>
                    <a:lnTo>
                      <a:pt x="1109" y="1357"/>
                    </a:lnTo>
                    <a:lnTo>
                      <a:pt x="1138" y="1362"/>
                    </a:lnTo>
                    <a:lnTo>
                      <a:pt x="1149" y="1364"/>
                    </a:lnTo>
                    <a:lnTo>
                      <a:pt x="1159" y="1367"/>
                    </a:lnTo>
                    <a:lnTo>
                      <a:pt x="1168" y="1371"/>
                    </a:lnTo>
                    <a:lnTo>
                      <a:pt x="1175" y="1374"/>
                    </a:lnTo>
                    <a:lnTo>
                      <a:pt x="1179" y="1374"/>
                    </a:lnTo>
                    <a:lnTo>
                      <a:pt x="1183" y="1374"/>
                    </a:lnTo>
                    <a:lnTo>
                      <a:pt x="1188" y="1372"/>
                    </a:lnTo>
                    <a:lnTo>
                      <a:pt x="1195" y="1369"/>
                    </a:lnTo>
                    <a:lnTo>
                      <a:pt x="1209" y="1361"/>
                    </a:lnTo>
                    <a:lnTo>
                      <a:pt x="1225" y="1350"/>
                    </a:lnTo>
                    <a:lnTo>
                      <a:pt x="1265" y="1320"/>
                    </a:lnTo>
                    <a:lnTo>
                      <a:pt x="1310" y="1285"/>
                    </a:lnTo>
                    <a:lnTo>
                      <a:pt x="1334" y="1267"/>
                    </a:lnTo>
                    <a:lnTo>
                      <a:pt x="1358" y="1251"/>
                    </a:lnTo>
                    <a:lnTo>
                      <a:pt x="1381" y="1234"/>
                    </a:lnTo>
                    <a:lnTo>
                      <a:pt x="1404" y="1222"/>
                    </a:lnTo>
                    <a:lnTo>
                      <a:pt x="1415" y="1215"/>
                    </a:lnTo>
                    <a:lnTo>
                      <a:pt x="1426" y="1211"/>
                    </a:lnTo>
                    <a:lnTo>
                      <a:pt x="1437" y="1206"/>
                    </a:lnTo>
                    <a:lnTo>
                      <a:pt x="1447" y="1203"/>
                    </a:lnTo>
                    <a:lnTo>
                      <a:pt x="1456" y="1201"/>
                    </a:lnTo>
                    <a:lnTo>
                      <a:pt x="1465" y="1199"/>
                    </a:lnTo>
                    <a:lnTo>
                      <a:pt x="1474" y="1199"/>
                    </a:lnTo>
                    <a:lnTo>
                      <a:pt x="1482" y="1200"/>
                    </a:lnTo>
                    <a:lnTo>
                      <a:pt x="1493" y="1204"/>
                    </a:lnTo>
                    <a:lnTo>
                      <a:pt x="1503" y="1210"/>
                    </a:lnTo>
                    <a:lnTo>
                      <a:pt x="1511" y="1215"/>
                    </a:lnTo>
                    <a:lnTo>
                      <a:pt x="1519" y="1222"/>
                    </a:lnTo>
                    <a:lnTo>
                      <a:pt x="1533" y="1234"/>
                    </a:lnTo>
                    <a:lnTo>
                      <a:pt x="1545" y="1249"/>
                    </a:lnTo>
                    <a:lnTo>
                      <a:pt x="1556" y="1263"/>
                    </a:lnTo>
                    <a:lnTo>
                      <a:pt x="1569" y="1278"/>
                    </a:lnTo>
                    <a:lnTo>
                      <a:pt x="1575" y="1285"/>
                    </a:lnTo>
                    <a:lnTo>
                      <a:pt x="1582" y="1292"/>
                    </a:lnTo>
                    <a:lnTo>
                      <a:pt x="1589" y="1299"/>
                    </a:lnTo>
                    <a:lnTo>
                      <a:pt x="1598" y="1305"/>
                    </a:lnTo>
                    <a:lnTo>
                      <a:pt x="1607" y="1311"/>
                    </a:lnTo>
                    <a:lnTo>
                      <a:pt x="1618" y="1317"/>
                    </a:lnTo>
                    <a:lnTo>
                      <a:pt x="1630" y="1322"/>
                    </a:lnTo>
                    <a:lnTo>
                      <a:pt x="1643" y="1326"/>
                    </a:lnTo>
                    <a:lnTo>
                      <a:pt x="1658" y="1330"/>
                    </a:lnTo>
                    <a:lnTo>
                      <a:pt x="1674" y="1333"/>
                    </a:lnTo>
                    <a:lnTo>
                      <a:pt x="1693" y="1335"/>
                    </a:lnTo>
                    <a:lnTo>
                      <a:pt x="1712" y="1336"/>
                    </a:lnTo>
                    <a:lnTo>
                      <a:pt x="1735" y="1336"/>
                    </a:lnTo>
                    <a:lnTo>
                      <a:pt x="1759" y="1335"/>
                    </a:lnTo>
                    <a:lnTo>
                      <a:pt x="1786" y="1333"/>
                    </a:lnTo>
                    <a:lnTo>
                      <a:pt x="1815" y="1330"/>
                    </a:lnTo>
                    <a:lnTo>
                      <a:pt x="1847" y="1325"/>
                    </a:lnTo>
                    <a:lnTo>
                      <a:pt x="1881" y="1320"/>
                    </a:lnTo>
                    <a:lnTo>
                      <a:pt x="1919" y="1313"/>
                    </a:lnTo>
                    <a:lnTo>
                      <a:pt x="1959" y="1305"/>
                    </a:lnTo>
                    <a:close/>
                  </a:path>
                </a:pathLst>
              </a:custGeom>
              <a:solidFill>
                <a:srgbClr val="79a5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5898960" y="3260880"/>
                <a:ext cx="1860840" cy="473040"/>
              </a:xfrm>
              <a:custGeom>
                <a:avLst/>
                <a:gdLst/>
                <a:ahLst/>
                <a:rect l="l" t="t" r="r" b="b"/>
                <a:pathLst>
                  <a:path w="5862" h="1491">
                    <a:moveTo>
                      <a:pt x="5234" y="1235"/>
                    </a:moveTo>
                    <a:lnTo>
                      <a:pt x="5249" y="1255"/>
                    </a:lnTo>
                    <a:lnTo>
                      <a:pt x="5258" y="1269"/>
                    </a:lnTo>
                    <a:lnTo>
                      <a:pt x="5261" y="1279"/>
                    </a:lnTo>
                    <a:lnTo>
                      <a:pt x="5262" y="1286"/>
                    </a:lnTo>
                    <a:lnTo>
                      <a:pt x="5263" y="1295"/>
                    </a:lnTo>
                    <a:lnTo>
                      <a:pt x="5268" y="1307"/>
                    </a:lnTo>
                    <a:lnTo>
                      <a:pt x="5275" y="1324"/>
                    </a:lnTo>
                    <a:lnTo>
                      <a:pt x="5290" y="1351"/>
                    </a:lnTo>
                    <a:lnTo>
                      <a:pt x="5293" y="1354"/>
                    </a:lnTo>
                    <a:lnTo>
                      <a:pt x="5297" y="1357"/>
                    </a:lnTo>
                    <a:lnTo>
                      <a:pt x="5302" y="1358"/>
                    </a:lnTo>
                    <a:lnTo>
                      <a:pt x="5306" y="1359"/>
                    </a:lnTo>
                    <a:lnTo>
                      <a:pt x="5313" y="1358"/>
                    </a:lnTo>
                    <a:lnTo>
                      <a:pt x="5319" y="1357"/>
                    </a:lnTo>
                    <a:lnTo>
                      <a:pt x="5327" y="1354"/>
                    </a:lnTo>
                    <a:lnTo>
                      <a:pt x="5334" y="1351"/>
                    </a:lnTo>
                    <a:lnTo>
                      <a:pt x="5352" y="1344"/>
                    </a:lnTo>
                    <a:lnTo>
                      <a:pt x="5370" y="1333"/>
                    </a:lnTo>
                    <a:lnTo>
                      <a:pt x="5391" y="1321"/>
                    </a:lnTo>
                    <a:lnTo>
                      <a:pt x="5411" y="1308"/>
                    </a:lnTo>
                    <a:lnTo>
                      <a:pt x="5453" y="1280"/>
                    </a:lnTo>
                    <a:lnTo>
                      <a:pt x="5492" y="1253"/>
                    </a:lnTo>
                    <a:lnTo>
                      <a:pt x="5526" y="1230"/>
                    </a:lnTo>
                    <a:lnTo>
                      <a:pt x="5551" y="1215"/>
                    </a:lnTo>
                    <a:lnTo>
                      <a:pt x="5556" y="1213"/>
                    </a:lnTo>
                    <a:lnTo>
                      <a:pt x="5561" y="1211"/>
                    </a:lnTo>
                    <a:lnTo>
                      <a:pt x="5568" y="1210"/>
                    </a:lnTo>
                    <a:lnTo>
                      <a:pt x="5573" y="1210"/>
                    </a:lnTo>
                    <a:lnTo>
                      <a:pt x="5579" y="1210"/>
                    </a:lnTo>
                    <a:lnTo>
                      <a:pt x="5585" y="1211"/>
                    </a:lnTo>
                    <a:lnTo>
                      <a:pt x="5591" y="1212"/>
                    </a:lnTo>
                    <a:lnTo>
                      <a:pt x="5596" y="1214"/>
                    </a:lnTo>
                    <a:lnTo>
                      <a:pt x="5600" y="1216"/>
                    </a:lnTo>
                    <a:lnTo>
                      <a:pt x="5605" y="1219"/>
                    </a:lnTo>
                    <a:lnTo>
                      <a:pt x="5609" y="1223"/>
                    </a:lnTo>
                    <a:lnTo>
                      <a:pt x="5613" y="1227"/>
                    </a:lnTo>
                    <a:lnTo>
                      <a:pt x="5616" y="1231"/>
                    </a:lnTo>
                    <a:lnTo>
                      <a:pt x="5619" y="1236"/>
                    </a:lnTo>
                    <a:lnTo>
                      <a:pt x="5621" y="1241"/>
                    </a:lnTo>
                    <a:lnTo>
                      <a:pt x="5622" y="1248"/>
                    </a:lnTo>
                    <a:lnTo>
                      <a:pt x="5626" y="1269"/>
                    </a:lnTo>
                    <a:lnTo>
                      <a:pt x="5632" y="1291"/>
                    </a:lnTo>
                    <a:lnTo>
                      <a:pt x="5635" y="1302"/>
                    </a:lnTo>
                    <a:lnTo>
                      <a:pt x="5638" y="1311"/>
                    </a:lnTo>
                    <a:lnTo>
                      <a:pt x="5641" y="1321"/>
                    </a:lnTo>
                    <a:lnTo>
                      <a:pt x="5646" y="1330"/>
                    </a:lnTo>
                    <a:lnTo>
                      <a:pt x="5651" y="1337"/>
                    </a:lnTo>
                    <a:lnTo>
                      <a:pt x="5656" y="1344"/>
                    </a:lnTo>
                    <a:lnTo>
                      <a:pt x="5664" y="1350"/>
                    </a:lnTo>
                    <a:lnTo>
                      <a:pt x="5672" y="1354"/>
                    </a:lnTo>
                    <a:lnTo>
                      <a:pt x="5681" y="1358"/>
                    </a:lnTo>
                    <a:lnTo>
                      <a:pt x="5691" y="1359"/>
                    </a:lnTo>
                    <a:lnTo>
                      <a:pt x="5703" y="1359"/>
                    </a:lnTo>
                    <a:lnTo>
                      <a:pt x="5716" y="1356"/>
                    </a:lnTo>
                    <a:lnTo>
                      <a:pt x="5732" y="1352"/>
                    </a:lnTo>
                    <a:lnTo>
                      <a:pt x="5750" y="1348"/>
                    </a:lnTo>
                    <a:lnTo>
                      <a:pt x="5771" y="1344"/>
                    </a:lnTo>
                    <a:lnTo>
                      <a:pt x="5790" y="1340"/>
                    </a:lnTo>
                    <a:lnTo>
                      <a:pt x="5811" y="1337"/>
                    </a:lnTo>
                    <a:lnTo>
                      <a:pt x="5830" y="1337"/>
                    </a:lnTo>
                    <a:lnTo>
                      <a:pt x="5839" y="1338"/>
                    </a:lnTo>
                    <a:lnTo>
                      <a:pt x="5848" y="1339"/>
                    </a:lnTo>
                    <a:lnTo>
                      <a:pt x="5855" y="1343"/>
                    </a:lnTo>
                    <a:lnTo>
                      <a:pt x="5862" y="1346"/>
                    </a:lnTo>
                    <a:lnTo>
                      <a:pt x="5860" y="1344"/>
                    </a:lnTo>
                    <a:lnTo>
                      <a:pt x="5852" y="1342"/>
                    </a:lnTo>
                    <a:lnTo>
                      <a:pt x="5841" y="1339"/>
                    </a:lnTo>
                    <a:lnTo>
                      <a:pt x="5829" y="1337"/>
                    </a:lnTo>
                    <a:lnTo>
                      <a:pt x="5816" y="1335"/>
                    </a:lnTo>
                    <a:lnTo>
                      <a:pt x="5804" y="1333"/>
                    </a:lnTo>
                    <a:lnTo>
                      <a:pt x="5795" y="1331"/>
                    </a:lnTo>
                    <a:lnTo>
                      <a:pt x="5788" y="1329"/>
                    </a:lnTo>
                    <a:lnTo>
                      <a:pt x="5795" y="1332"/>
                    </a:lnTo>
                    <a:lnTo>
                      <a:pt x="5801" y="1335"/>
                    </a:lnTo>
                    <a:lnTo>
                      <a:pt x="5805" y="1339"/>
                    </a:lnTo>
                    <a:lnTo>
                      <a:pt x="5808" y="1343"/>
                    </a:lnTo>
                    <a:lnTo>
                      <a:pt x="5809" y="1345"/>
                    </a:lnTo>
                    <a:lnTo>
                      <a:pt x="5808" y="1346"/>
                    </a:lnTo>
                    <a:lnTo>
                      <a:pt x="5807" y="1347"/>
                    </a:lnTo>
                    <a:lnTo>
                      <a:pt x="5805" y="1349"/>
                    </a:lnTo>
                    <a:lnTo>
                      <a:pt x="5798" y="1350"/>
                    </a:lnTo>
                    <a:lnTo>
                      <a:pt x="5788" y="1351"/>
                    </a:lnTo>
                    <a:lnTo>
                      <a:pt x="5786" y="1352"/>
                    </a:lnTo>
                    <a:lnTo>
                      <a:pt x="5782" y="1354"/>
                    </a:lnTo>
                    <a:lnTo>
                      <a:pt x="5776" y="1359"/>
                    </a:lnTo>
                    <a:lnTo>
                      <a:pt x="5768" y="1363"/>
                    </a:lnTo>
                    <a:lnTo>
                      <a:pt x="5759" y="1367"/>
                    </a:lnTo>
                    <a:lnTo>
                      <a:pt x="5749" y="1372"/>
                    </a:lnTo>
                    <a:lnTo>
                      <a:pt x="5739" y="1376"/>
                    </a:lnTo>
                    <a:lnTo>
                      <a:pt x="5729" y="1378"/>
                    </a:lnTo>
                    <a:lnTo>
                      <a:pt x="5716" y="1380"/>
                    </a:lnTo>
                    <a:lnTo>
                      <a:pt x="5700" y="1380"/>
                    </a:lnTo>
                    <a:lnTo>
                      <a:pt x="5681" y="1379"/>
                    </a:lnTo>
                    <a:lnTo>
                      <a:pt x="5662" y="1378"/>
                    </a:lnTo>
                    <a:lnTo>
                      <a:pt x="5641" y="1376"/>
                    </a:lnTo>
                    <a:lnTo>
                      <a:pt x="5622" y="1373"/>
                    </a:lnTo>
                    <a:lnTo>
                      <a:pt x="5603" y="1371"/>
                    </a:lnTo>
                    <a:lnTo>
                      <a:pt x="5587" y="1369"/>
                    </a:lnTo>
                    <a:lnTo>
                      <a:pt x="5573" y="1367"/>
                    </a:lnTo>
                    <a:lnTo>
                      <a:pt x="5557" y="1367"/>
                    </a:lnTo>
                    <a:lnTo>
                      <a:pt x="5542" y="1369"/>
                    </a:lnTo>
                    <a:lnTo>
                      <a:pt x="5526" y="1371"/>
                    </a:lnTo>
                    <a:lnTo>
                      <a:pt x="5511" y="1374"/>
                    </a:lnTo>
                    <a:lnTo>
                      <a:pt x="5495" y="1377"/>
                    </a:lnTo>
                    <a:lnTo>
                      <a:pt x="5482" y="1381"/>
                    </a:lnTo>
                    <a:lnTo>
                      <a:pt x="5472" y="1386"/>
                    </a:lnTo>
                    <a:lnTo>
                      <a:pt x="5458" y="1389"/>
                    </a:lnTo>
                    <a:lnTo>
                      <a:pt x="5438" y="1391"/>
                    </a:lnTo>
                    <a:lnTo>
                      <a:pt x="5413" y="1392"/>
                    </a:lnTo>
                    <a:lnTo>
                      <a:pt x="5386" y="1393"/>
                    </a:lnTo>
                    <a:lnTo>
                      <a:pt x="5357" y="1392"/>
                    </a:lnTo>
                    <a:lnTo>
                      <a:pt x="5329" y="1391"/>
                    </a:lnTo>
                    <a:lnTo>
                      <a:pt x="5301" y="1389"/>
                    </a:lnTo>
                    <a:lnTo>
                      <a:pt x="5276" y="1386"/>
                    </a:lnTo>
                    <a:lnTo>
                      <a:pt x="5253" y="1380"/>
                    </a:lnTo>
                    <a:lnTo>
                      <a:pt x="5232" y="1375"/>
                    </a:lnTo>
                    <a:lnTo>
                      <a:pt x="5210" y="1370"/>
                    </a:lnTo>
                    <a:lnTo>
                      <a:pt x="5188" y="1365"/>
                    </a:lnTo>
                    <a:lnTo>
                      <a:pt x="5177" y="1364"/>
                    </a:lnTo>
                    <a:lnTo>
                      <a:pt x="5166" y="1363"/>
                    </a:lnTo>
                    <a:lnTo>
                      <a:pt x="5154" y="1363"/>
                    </a:lnTo>
                    <a:lnTo>
                      <a:pt x="5143" y="1364"/>
                    </a:lnTo>
                    <a:lnTo>
                      <a:pt x="5132" y="1366"/>
                    </a:lnTo>
                    <a:lnTo>
                      <a:pt x="5121" y="1369"/>
                    </a:lnTo>
                    <a:lnTo>
                      <a:pt x="5110" y="1373"/>
                    </a:lnTo>
                    <a:lnTo>
                      <a:pt x="5098" y="1378"/>
                    </a:lnTo>
                    <a:lnTo>
                      <a:pt x="5091" y="1381"/>
                    </a:lnTo>
                    <a:lnTo>
                      <a:pt x="5083" y="1384"/>
                    </a:lnTo>
                    <a:lnTo>
                      <a:pt x="5073" y="1387"/>
                    </a:lnTo>
                    <a:lnTo>
                      <a:pt x="5061" y="1389"/>
                    </a:lnTo>
                    <a:lnTo>
                      <a:pt x="5035" y="1392"/>
                    </a:lnTo>
                    <a:lnTo>
                      <a:pt x="5003" y="1394"/>
                    </a:lnTo>
                    <a:lnTo>
                      <a:pt x="4968" y="1397"/>
                    </a:lnTo>
                    <a:lnTo>
                      <a:pt x="4930" y="1398"/>
                    </a:lnTo>
                    <a:lnTo>
                      <a:pt x="4893" y="1398"/>
                    </a:lnTo>
                    <a:lnTo>
                      <a:pt x="4853" y="1398"/>
                    </a:lnTo>
                    <a:lnTo>
                      <a:pt x="4778" y="1396"/>
                    </a:lnTo>
                    <a:lnTo>
                      <a:pt x="4714" y="1393"/>
                    </a:lnTo>
                    <a:lnTo>
                      <a:pt x="4669" y="1391"/>
                    </a:lnTo>
                    <a:lnTo>
                      <a:pt x="4653" y="1390"/>
                    </a:lnTo>
                    <a:lnTo>
                      <a:pt x="4647" y="1392"/>
                    </a:lnTo>
                    <a:lnTo>
                      <a:pt x="4634" y="1396"/>
                    </a:lnTo>
                    <a:lnTo>
                      <a:pt x="4615" y="1400"/>
                    </a:lnTo>
                    <a:lnTo>
                      <a:pt x="4592" y="1403"/>
                    </a:lnTo>
                    <a:lnTo>
                      <a:pt x="4580" y="1405"/>
                    </a:lnTo>
                    <a:lnTo>
                      <a:pt x="4568" y="1406"/>
                    </a:lnTo>
                    <a:lnTo>
                      <a:pt x="4557" y="1406"/>
                    </a:lnTo>
                    <a:lnTo>
                      <a:pt x="4546" y="1406"/>
                    </a:lnTo>
                    <a:lnTo>
                      <a:pt x="4535" y="1405"/>
                    </a:lnTo>
                    <a:lnTo>
                      <a:pt x="4526" y="1403"/>
                    </a:lnTo>
                    <a:lnTo>
                      <a:pt x="4520" y="1400"/>
                    </a:lnTo>
                    <a:lnTo>
                      <a:pt x="4515" y="1396"/>
                    </a:lnTo>
                    <a:lnTo>
                      <a:pt x="4499" y="1399"/>
                    </a:lnTo>
                    <a:lnTo>
                      <a:pt x="4458" y="1405"/>
                    </a:lnTo>
                    <a:lnTo>
                      <a:pt x="4429" y="1410"/>
                    </a:lnTo>
                    <a:lnTo>
                      <a:pt x="4397" y="1414"/>
                    </a:lnTo>
                    <a:lnTo>
                      <a:pt x="4360" y="1417"/>
                    </a:lnTo>
                    <a:lnTo>
                      <a:pt x="4320" y="1421"/>
                    </a:lnTo>
                    <a:lnTo>
                      <a:pt x="4278" y="1425"/>
                    </a:lnTo>
                    <a:lnTo>
                      <a:pt x="4234" y="1426"/>
                    </a:lnTo>
                    <a:lnTo>
                      <a:pt x="4189" y="1427"/>
                    </a:lnTo>
                    <a:lnTo>
                      <a:pt x="4144" y="1426"/>
                    </a:lnTo>
                    <a:lnTo>
                      <a:pt x="4121" y="1425"/>
                    </a:lnTo>
                    <a:lnTo>
                      <a:pt x="4100" y="1423"/>
                    </a:lnTo>
                    <a:lnTo>
                      <a:pt x="4077" y="1420"/>
                    </a:lnTo>
                    <a:lnTo>
                      <a:pt x="4057" y="1418"/>
                    </a:lnTo>
                    <a:lnTo>
                      <a:pt x="4035" y="1415"/>
                    </a:lnTo>
                    <a:lnTo>
                      <a:pt x="4014" y="1411"/>
                    </a:lnTo>
                    <a:lnTo>
                      <a:pt x="3995" y="1406"/>
                    </a:lnTo>
                    <a:lnTo>
                      <a:pt x="3976" y="1401"/>
                    </a:lnTo>
                    <a:lnTo>
                      <a:pt x="3959" y="1401"/>
                    </a:lnTo>
                    <a:lnTo>
                      <a:pt x="3917" y="1401"/>
                    </a:lnTo>
                    <a:lnTo>
                      <a:pt x="3856" y="1401"/>
                    </a:lnTo>
                    <a:lnTo>
                      <a:pt x="3780" y="1401"/>
                    </a:lnTo>
                    <a:lnTo>
                      <a:pt x="3698" y="1402"/>
                    </a:lnTo>
                    <a:lnTo>
                      <a:pt x="3617" y="1404"/>
                    </a:lnTo>
                    <a:lnTo>
                      <a:pt x="3542" y="1405"/>
                    </a:lnTo>
                    <a:lnTo>
                      <a:pt x="3481" y="1407"/>
                    </a:lnTo>
                    <a:lnTo>
                      <a:pt x="3455" y="1410"/>
                    </a:lnTo>
                    <a:lnTo>
                      <a:pt x="3429" y="1412"/>
                    </a:lnTo>
                    <a:lnTo>
                      <a:pt x="3404" y="1415"/>
                    </a:lnTo>
                    <a:lnTo>
                      <a:pt x="3378" y="1418"/>
                    </a:lnTo>
                    <a:lnTo>
                      <a:pt x="3327" y="1426"/>
                    </a:lnTo>
                    <a:lnTo>
                      <a:pt x="3276" y="1433"/>
                    </a:lnTo>
                    <a:lnTo>
                      <a:pt x="3248" y="1437"/>
                    </a:lnTo>
                    <a:lnTo>
                      <a:pt x="3220" y="1439"/>
                    </a:lnTo>
                    <a:lnTo>
                      <a:pt x="3191" y="1440"/>
                    </a:lnTo>
                    <a:lnTo>
                      <a:pt x="3162" y="1441"/>
                    </a:lnTo>
                    <a:lnTo>
                      <a:pt x="3131" y="1441"/>
                    </a:lnTo>
                    <a:lnTo>
                      <a:pt x="3098" y="1439"/>
                    </a:lnTo>
                    <a:lnTo>
                      <a:pt x="3064" y="1435"/>
                    </a:lnTo>
                    <a:lnTo>
                      <a:pt x="3028" y="1430"/>
                    </a:lnTo>
                    <a:lnTo>
                      <a:pt x="2994" y="1425"/>
                    </a:lnTo>
                    <a:lnTo>
                      <a:pt x="2962" y="1419"/>
                    </a:lnTo>
                    <a:lnTo>
                      <a:pt x="2933" y="1416"/>
                    </a:lnTo>
                    <a:lnTo>
                      <a:pt x="2907" y="1413"/>
                    </a:lnTo>
                    <a:lnTo>
                      <a:pt x="2883" y="1412"/>
                    </a:lnTo>
                    <a:lnTo>
                      <a:pt x="2862" y="1411"/>
                    </a:lnTo>
                    <a:lnTo>
                      <a:pt x="2842" y="1411"/>
                    </a:lnTo>
                    <a:lnTo>
                      <a:pt x="2825" y="1411"/>
                    </a:lnTo>
                    <a:lnTo>
                      <a:pt x="2810" y="1412"/>
                    </a:lnTo>
                    <a:lnTo>
                      <a:pt x="2797" y="1414"/>
                    </a:lnTo>
                    <a:lnTo>
                      <a:pt x="2785" y="1416"/>
                    </a:lnTo>
                    <a:lnTo>
                      <a:pt x="2775" y="1418"/>
                    </a:lnTo>
                    <a:lnTo>
                      <a:pt x="2767" y="1420"/>
                    </a:lnTo>
                    <a:lnTo>
                      <a:pt x="2759" y="1424"/>
                    </a:lnTo>
                    <a:lnTo>
                      <a:pt x="2753" y="1427"/>
                    </a:lnTo>
                    <a:lnTo>
                      <a:pt x="2746" y="1430"/>
                    </a:lnTo>
                    <a:lnTo>
                      <a:pt x="2740" y="1432"/>
                    </a:lnTo>
                    <a:lnTo>
                      <a:pt x="2731" y="1433"/>
                    </a:lnTo>
                    <a:lnTo>
                      <a:pt x="2721" y="1433"/>
                    </a:lnTo>
                    <a:lnTo>
                      <a:pt x="2708" y="1432"/>
                    </a:lnTo>
                    <a:lnTo>
                      <a:pt x="2681" y="1427"/>
                    </a:lnTo>
                    <a:lnTo>
                      <a:pt x="2652" y="1420"/>
                    </a:lnTo>
                    <a:lnTo>
                      <a:pt x="2624" y="1414"/>
                    </a:lnTo>
                    <a:lnTo>
                      <a:pt x="2601" y="1407"/>
                    </a:lnTo>
                    <a:lnTo>
                      <a:pt x="2584" y="1402"/>
                    </a:lnTo>
                    <a:lnTo>
                      <a:pt x="2579" y="1401"/>
                    </a:lnTo>
                    <a:lnTo>
                      <a:pt x="2572" y="1404"/>
                    </a:lnTo>
                    <a:lnTo>
                      <a:pt x="2555" y="1412"/>
                    </a:lnTo>
                    <a:lnTo>
                      <a:pt x="2531" y="1423"/>
                    </a:lnTo>
                    <a:lnTo>
                      <a:pt x="2502" y="1433"/>
                    </a:lnTo>
                    <a:lnTo>
                      <a:pt x="2486" y="1438"/>
                    </a:lnTo>
                    <a:lnTo>
                      <a:pt x="2471" y="1441"/>
                    </a:lnTo>
                    <a:lnTo>
                      <a:pt x="2456" y="1443"/>
                    </a:lnTo>
                    <a:lnTo>
                      <a:pt x="2440" y="1443"/>
                    </a:lnTo>
                    <a:lnTo>
                      <a:pt x="2434" y="1443"/>
                    </a:lnTo>
                    <a:lnTo>
                      <a:pt x="2427" y="1442"/>
                    </a:lnTo>
                    <a:lnTo>
                      <a:pt x="2421" y="1440"/>
                    </a:lnTo>
                    <a:lnTo>
                      <a:pt x="2415" y="1438"/>
                    </a:lnTo>
                    <a:lnTo>
                      <a:pt x="2409" y="1435"/>
                    </a:lnTo>
                    <a:lnTo>
                      <a:pt x="2404" y="1432"/>
                    </a:lnTo>
                    <a:lnTo>
                      <a:pt x="2399" y="1428"/>
                    </a:lnTo>
                    <a:lnTo>
                      <a:pt x="2395" y="1423"/>
                    </a:lnTo>
                    <a:lnTo>
                      <a:pt x="2392" y="1421"/>
                    </a:lnTo>
                    <a:lnTo>
                      <a:pt x="2382" y="1418"/>
                    </a:lnTo>
                    <a:lnTo>
                      <a:pt x="2369" y="1414"/>
                    </a:lnTo>
                    <a:lnTo>
                      <a:pt x="2353" y="1410"/>
                    </a:lnTo>
                    <a:lnTo>
                      <a:pt x="2337" y="1406"/>
                    </a:lnTo>
                    <a:lnTo>
                      <a:pt x="2323" y="1405"/>
                    </a:lnTo>
                    <a:lnTo>
                      <a:pt x="2316" y="1405"/>
                    </a:lnTo>
                    <a:lnTo>
                      <a:pt x="2312" y="1407"/>
                    </a:lnTo>
                    <a:lnTo>
                      <a:pt x="2309" y="1410"/>
                    </a:lnTo>
                    <a:lnTo>
                      <a:pt x="2307" y="1413"/>
                    </a:lnTo>
                    <a:lnTo>
                      <a:pt x="2305" y="1415"/>
                    </a:lnTo>
                    <a:lnTo>
                      <a:pt x="2304" y="1417"/>
                    </a:lnTo>
                    <a:lnTo>
                      <a:pt x="2301" y="1419"/>
                    </a:lnTo>
                    <a:lnTo>
                      <a:pt x="2298" y="1421"/>
                    </a:lnTo>
                    <a:lnTo>
                      <a:pt x="2289" y="1425"/>
                    </a:lnTo>
                    <a:lnTo>
                      <a:pt x="2278" y="1428"/>
                    </a:lnTo>
                    <a:lnTo>
                      <a:pt x="2265" y="1432"/>
                    </a:lnTo>
                    <a:lnTo>
                      <a:pt x="2249" y="1435"/>
                    </a:lnTo>
                    <a:lnTo>
                      <a:pt x="2232" y="1439"/>
                    </a:lnTo>
                    <a:lnTo>
                      <a:pt x="2214" y="1441"/>
                    </a:lnTo>
                    <a:lnTo>
                      <a:pt x="2173" y="1446"/>
                    </a:lnTo>
                    <a:lnTo>
                      <a:pt x="2129" y="1450"/>
                    </a:lnTo>
                    <a:lnTo>
                      <a:pt x="2086" y="1452"/>
                    </a:lnTo>
                    <a:lnTo>
                      <a:pt x="2044" y="1453"/>
                    </a:lnTo>
                    <a:lnTo>
                      <a:pt x="1999" y="1452"/>
                    </a:lnTo>
                    <a:lnTo>
                      <a:pt x="1944" y="1448"/>
                    </a:lnTo>
                    <a:lnTo>
                      <a:pt x="1881" y="1444"/>
                    </a:lnTo>
                    <a:lnTo>
                      <a:pt x="1815" y="1441"/>
                    </a:lnTo>
                    <a:lnTo>
                      <a:pt x="1749" y="1438"/>
                    </a:lnTo>
                    <a:lnTo>
                      <a:pt x="1686" y="1437"/>
                    </a:lnTo>
                    <a:lnTo>
                      <a:pt x="1658" y="1438"/>
                    </a:lnTo>
                    <a:lnTo>
                      <a:pt x="1631" y="1439"/>
                    </a:lnTo>
                    <a:lnTo>
                      <a:pt x="1608" y="1442"/>
                    </a:lnTo>
                    <a:lnTo>
                      <a:pt x="1587" y="1445"/>
                    </a:lnTo>
                    <a:lnTo>
                      <a:pt x="1546" y="1453"/>
                    </a:lnTo>
                    <a:lnTo>
                      <a:pt x="1502" y="1459"/>
                    </a:lnTo>
                    <a:lnTo>
                      <a:pt x="1457" y="1464"/>
                    </a:lnTo>
                    <a:lnTo>
                      <a:pt x="1414" y="1467"/>
                    </a:lnTo>
                    <a:lnTo>
                      <a:pt x="1373" y="1468"/>
                    </a:lnTo>
                    <a:lnTo>
                      <a:pt x="1336" y="1468"/>
                    </a:lnTo>
                    <a:lnTo>
                      <a:pt x="1320" y="1467"/>
                    </a:lnTo>
                    <a:lnTo>
                      <a:pt x="1305" y="1466"/>
                    </a:lnTo>
                    <a:lnTo>
                      <a:pt x="1292" y="1465"/>
                    </a:lnTo>
                    <a:lnTo>
                      <a:pt x="1280" y="1462"/>
                    </a:lnTo>
                    <a:lnTo>
                      <a:pt x="1261" y="1459"/>
                    </a:lnTo>
                    <a:lnTo>
                      <a:pt x="1242" y="1459"/>
                    </a:lnTo>
                    <a:lnTo>
                      <a:pt x="1226" y="1460"/>
                    </a:lnTo>
                    <a:lnTo>
                      <a:pt x="1212" y="1462"/>
                    </a:lnTo>
                    <a:lnTo>
                      <a:pt x="1200" y="1465"/>
                    </a:lnTo>
                    <a:lnTo>
                      <a:pt x="1191" y="1468"/>
                    </a:lnTo>
                    <a:lnTo>
                      <a:pt x="1181" y="1471"/>
                    </a:lnTo>
                    <a:lnTo>
                      <a:pt x="1174" y="1474"/>
                    </a:lnTo>
                    <a:lnTo>
                      <a:pt x="1161" y="1477"/>
                    </a:lnTo>
                    <a:lnTo>
                      <a:pt x="1139" y="1479"/>
                    </a:lnTo>
                    <a:lnTo>
                      <a:pt x="1107" y="1481"/>
                    </a:lnTo>
                    <a:lnTo>
                      <a:pt x="1070" y="1481"/>
                    </a:lnTo>
                    <a:lnTo>
                      <a:pt x="1027" y="1481"/>
                    </a:lnTo>
                    <a:lnTo>
                      <a:pt x="982" y="1479"/>
                    </a:lnTo>
                    <a:lnTo>
                      <a:pt x="958" y="1477"/>
                    </a:lnTo>
                    <a:lnTo>
                      <a:pt x="936" y="1474"/>
                    </a:lnTo>
                    <a:lnTo>
                      <a:pt x="912" y="1471"/>
                    </a:lnTo>
                    <a:lnTo>
                      <a:pt x="890" y="1467"/>
                    </a:lnTo>
                    <a:lnTo>
                      <a:pt x="848" y="1459"/>
                    </a:lnTo>
                    <a:lnTo>
                      <a:pt x="811" y="1454"/>
                    </a:lnTo>
                    <a:lnTo>
                      <a:pt x="778" y="1451"/>
                    </a:lnTo>
                    <a:lnTo>
                      <a:pt x="747" y="1448"/>
                    </a:lnTo>
                    <a:lnTo>
                      <a:pt x="733" y="1448"/>
                    </a:lnTo>
                    <a:lnTo>
                      <a:pt x="719" y="1450"/>
                    </a:lnTo>
                    <a:lnTo>
                      <a:pt x="706" y="1451"/>
                    </a:lnTo>
                    <a:lnTo>
                      <a:pt x="693" y="1453"/>
                    </a:lnTo>
                    <a:lnTo>
                      <a:pt x="681" y="1455"/>
                    </a:lnTo>
                    <a:lnTo>
                      <a:pt x="669" y="1458"/>
                    </a:lnTo>
                    <a:lnTo>
                      <a:pt x="657" y="1462"/>
                    </a:lnTo>
                    <a:lnTo>
                      <a:pt x="645" y="1467"/>
                    </a:lnTo>
                    <a:lnTo>
                      <a:pt x="632" y="1472"/>
                    </a:lnTo>
                    <a:lnTo>
                      <a:pt x="617" y="1478"/>
                    </a:lnTo>
                    <a:lnTo>
                      <a:pt x="599" y="1481"/>
                    </a:lnTo>
                    <a:lnTo>
                      <a:pt x="578" y="1484"/>
                    </a:lnTo>
                    <a:lnTo>
                      <a:pt x="556" y="1487"/>
                    </a:lnTo>
                    <a:lnTo>
                      <a:pt x="533" y="1488"/>
                    </a:lnTo>
                    <a:lnTo>
                      <a:pt x="507" y="1489"/>
                    </a:lnTo>
                    <a:lnTo>
                      <a:pt x="481" y="1491"/>
                    </a:lnTo>
                    <a:lnTo>
                      <a:pt x="454" y="1489"/>
                    </a:lnTo>
                    <a:lnTo>
                      <a:pt x="427" y="1488"/>
                    </a:lnTo>
                    <a:lnTo>
                      <a:pt x="400" y="1485"/>
                    </a:lnTo>
                    <a:lnTo>
                      <a:pt x="373" y="1482"/>
                    </a:lnTo>
                    <a:lnTo>
                      <a:pt x="347" y="1478"/>
                    </a:lnTo>
                    <a:lnTo>
                      <a:pt x="321" y="1472"/>
                    </a:lnTo>
                    <a:lnTo>
                      <a:pt x="297" y="1465"/>
                    </a:lnTo>
                    <a:lnTo>
                      <a:pt x="275" y="1457"/>
                    </a:lnTo>
                    <a:lnTo>
                      <a:pt x="233" y="1442"/>
                    </a:lnTo>
                    <a:lnTo>
                      <a:pt x="201" y="1430"/>
                    </a:lnTo>
                    <a:lnTo>
                      <a:pt x="174" y="1420"/>
                    </a:lnTo>
                    <a:lnTo>
                      <a:pt x="155" y="1412"/>
                    </a:lnTo>
                    <a:lnTo>
                      <a:pt x="139" y="1406"/>
                    </a:lnTo>
                    <a:lnTo>
                      <a:pt x="130" y="1403"/>
                    </a:lnTo>
                    <a:lnTo>
                      <a:pt x="125" y="1401"/>
                    </a:lnTo>
                    <a:lnTo>
                      <a:pt x="123" y="1401"/>
                    </a:lnTo>
                    <a:lnTo>
                      <a:pt x="121" y="1402"/>
                    </a:lnTo>
                    <a:lnTo>
                      <a:pt x="114" y="1406"/>
                    </a:lnTo>
                    <a:lnTo>
                      <a:pt x="103" y="1411"/>
                    </a:lnTo>
                    <a:lnTo>
                      <a:pt x="90" y="1415"/>
                    </a:lnTo>
                    <a:lnTo>
                      <a:pt x="82" y="1416"/>
                    </a:lnTo>
                    <a:lnTo>
                      <a:pt x="76" y="1417"/>
                    </a:lnTo>
                    <a:lnTo>
                      <a:pt x="68" y="1416"/>
                    </a:lnTo>
                    <a:lnTo>
                      <a:pt x="62" y="1415"/>
                    </a:lnTo>
                    <a:lnTo>
                      <a:pt x="55" y="1413"/>
                    </a:lnTo>
                    <a:lnTo>
                      <a:pt x="50" y="1408"/>
                    </a:lnTo>
                    <a:lnTo>
                      <a:pt x="44" y="1403"/>
                    </a:lnTo>
                    <a:lnTo>
                      <a:pt x="39" y="1396"/>
                    </a:lnTo>
                    <a:lnTo>
                      <a:pt x="31" y="1377"/>
                    </a:lnTo>
                    <a:lnTo>
                      <a:pt x="24" y="1356"/>
                    </a:lnTo>
                    <a:lnTo>
                      <a:pt x="17" y="1332"/>
                    </a:lnTo>
                    <a:lnTo>
                      <a:pt x="11" y="1310"/>
                    </a:lnTo>
                    <a:lnTo>
                      <a:pt x="7" y="1290"/>
                    </a:lnTo>
                    <a:lnTo>
                      <a:pt x="2" y="1272"/>
                    </a:lnTo>
                    <a:lnTo>
                      <a:pt x="0" y="1262"/>
                    </a:lnTo>
                    <a:lnTo>
                      <a:pt x="0" y="1257"/>
                    </a:lnTo>
                    <a:lnTo>
                      <a:pt x="14" y="1266"/>
                    </a:lnTo>
                    <a:lnTo>
                      <a:pt x="28" y="1277"/>
                    </a:lnTo>
                    <a:lnTo>
                      <a:pt x="42" y="1288"/>
                    </a:lnTo>
                    <a:lnTo>
                      <a:pt x="57" y="1299"/>
                    </a:lnTo>
                    <a:lnTo>
                      <a:pt x="85" y="1325"/>
                    </a:lnTo>
                    <a:lnTo>
                      <a:pt x="114" y="1351"/>
                    </a:lnTo>
                    <a:lnTo>
                      <a:pt x="141" y="1376"/>
                    </a:lnTo>
                    <a:lnTo>
                      <a:pt x="168" y="1398"/>
                    </a:lnTo>
                    <a:lnTo>
                      <a:pt x="182" y="1407"/>
                    </a:lnTo>
                    <a:lnTo>
                      <a:pt x="195" y="1415"/>
                    </a:lnTo>
                    <a:lnTo>
                      <a:pt x="208" y="1421"/>
                    </a:lnTo>
                    <a:lnTo>
                      <a:pt x="219" y="1425"/>
                    </a:lnTo>
                    <a:lnTo>
                      <a:pt x="273" y="1438"/>
                    </a:lnTo>
                    <a:lnTo>
                      <a:pt x="323" y="1448"/>
                    </a:lnTo>
                    <a:lnTo>
                      <a:pt x="366" y="1456"/>
                    </a:lnTo>
                    <a:lnTo>
                      <a:pt x="405" y="1461"/>
                    </a:lnTo>
                    <a:lnTo>
                      <a:pt x="439" y="1465"/>
                    </a:lnTo>
                    <a:lnTo>
                      <a:pt x="468" y="1466"/>
                    </a:lnTo>
                    <a:lnTo>
                      <a:pt x="494" y="1466"/>
                    </a:lnTo>
                    <a:lnTo>
                      <a:pt x="515" y="1465"/>
                    </a:lnTo>
                    <a:lnTo>
                      <a:pt x="533" y="1462"/>
                    </a:lnTo>
                    <a:lnTo>
                      <a:pt x="547" y="1460"/>
                    </a:lnTo>
                    <a:lnTo>
                      <a:pt x="559" y="1457"/>
                    </a:lnTo>
                    <a:lnTo>
                      <a:pt x="567" y="1454"/>
                    </a:lnTo>
                    <a:lnTo>
                      <a:pt x="573" y="1451"/>
                    </a:lnTo>
                    <a:lnTo>
                      <a:pt x="577" y="1448"/>
                    </a:lnTo>
                    <a:lnTo>
                      <a:pt x="578" y="1446"/>
                    </a:lnTo>
                    <a:lnTo>
                      <a:pt x="578" y="1445"/>
                    </a:lnTo>
                    <a:lnTo>
                      <a:pt x="582" y="1431"/>
                    </a:lnTo>
                    <a:lnTo>
                      <a:pt x="585" y="1417"/>
                    </a:lnTo>
                    <a:lnTo>
                      <a:pt x="585" y="1403"/>
                    </a:lnTo>
                    <a:lnTo>
                      <a:pt x="583" y="1388"/>
                    </a:lnTo>
                    <a:lnTo>
                      <a:pt x="580" y="1359"/>
                    </a:lnTo>
                    <a:lnTo>
                      <a:pt x="577" y="1334"/>
                    </a:lnTo>
                    <a:lnTo>
                      <a:pt x="577" y="1323"/>
                    </a:lnTo>
                    <a:lnTo>
                      <a:pt x="578" y="1313"/>
                    </a:lnTo>
                    <a:lnTo>
                      <a:pt x="579" y="1310"/>
                    </a:lnTo>
                    <a:lnTo>
                      <a:pt x="581" y="1307"/>
                    </a:lnTo>
                    <a:lnTo>
                      <a:pt x="583" y="1305"/>
                    </a:lnTo>
                    <a:lnTo>
                      <a:pt x="587" y="1303"/>
                    </a:lnTo>
                    <a:lnTo>
                      <a:pt x="590" y="1302"/>
                    </a:lnTo>
                    <a:lnTo>
                      <a:pt x="594" y="1302"/>
                    </a:lnTo>
                    <a:lnTo>
                      <a:pt x="599" y="1302"/>
                    </a:lnTo>
                    <a:lnTo>
                      <a:pt x="605" y="1303"/>
                    </a:lnTo>
                    <a:lnTo>
                      <a:pt x="619" y="1308"/>
                    </a:lnTo>
                    <a:lnTo>
                      <a:pt x="637" y="1317"/>
                    </a:lnTo>
                    <a:lnTo>
                      <a:pt x="652" y="1322"/>
                    </a:lnTo>
                    <a:lnTo>
                      <a:pt x="673" y="1326"/>
                    </a:lnTo>
                    <a:lnTo>
                      <a:pt x="700" y="1332"/>
                    </a:lnTo>
                    <a:lnTo>
                      <a:pt x="733" y="1337"/>
                    </a:lnTo>
                    <a:lnTo>
                      <a:pt x="809" y="1348"/>
                    </a:lnTo>
                    <a:lnTo>
                      <a:pt x="895" y="1359"/>
                    </a:lnTo>
                    <a:lnTo>
                      <a:pt x="981" y="1370"/>
                    </a:lnTo>
                    <a:lnTo>
                      <a:pt x="1060" y="1381"/>
                    </a:lnTo>
                    <a:lnTo>
                      <a:pt x="1093" y="1388"/>
                    </a:lnTo>
                    <a:lnTo>
                      <a:pt x="1123" y="1394"/>
                    </a:lnTo>
                    <a:lnTo>
                      <a:pt x="1134" y="1398"/>
                    </a:lnTo>
                    <a:lnTo>
                      <a:pt x="1145" y="1401"/>
                    </a:lnTo>
                    <a:lnTo>
                      <a:pt x="1155" y="1404"/>
                    </a:lnTo>
                    <a:lnTo>
                      <a:pt x="1161" y="1407"/>
                    </a:lnTo>
                    <a:lnTo>
                      <a:pt x="1166" y="1408"/>
                    </a:lnTo>
                    <a:lnTo>
                      <a:pt x="1170" y="1408"/>
                    </a:lnTo>
                    <a:lnTo>
                      <a:pt x="1175" y="1406"/>
                    </a:lnTo>
                    <a:lnTo>
                      <a:pt x="1182" y="1403"/>
                    </a:lnTo>
                    <a:lnTo>
                      <a:pt x="1198" y="1394"/>
                    </a:lnTo>
                    <a:lnTo>
                      <a:pt x="1215" y="1381"/>
                    </a:lnTo>
                    <a:lnTo>
                      <a:pt x="1259" y="1348"/>
                    </a:lnTo>
                    <a:lnTo>
                      <a:pt x="1307" y="1308"/>
                    </a:lnTo>
                    <a:lnTo>
                      <a:pt x="1332" y="1289"/>
                    </a:lnTo>
                    <a:lnTo>
                      <a:pt x="1357" y="1269"/>
                    </a:lnTo>
                    <a:lnTo>
                      <a:pt x="1382" y="1252"/>
                    </a:lnTo>
                    <a:lnTo>
                      <a:pt x="1406" y="1237"/>
                    </a:lnTo>
                    <a:lnTo>
                      <a:pt x="1417" y="1231"/>
                    </a:lnTo>
                    <a:lnTo>
                      <a:pt x="1428" y="1226"/>
                    </a:lnTo>
                    <a:lnTo>
                      <a:pt x="1439" y="1222"/>
                    </a:lnTo>
                    <a:lnTo>
                      <a:pt x="1449" y="1218"/>
                    </a:lnTo>
                    <a:lnTo>
                      <a:pt x="1458" y="1216"/>
                    </a:lnTo>
                    <a:lnTo>
                      <a:pt x="1467" y="1215"/>
                    </a:lnTo>
                    <a:lnTo>
                      <a:pt x="1476" y="1215"/>
                    </a:lnTo>
                    <a:lnTo>
                      <a:pt x="1483" y="1217"/>
                    </a:lnTo>
                    <a:lnTo>
                      <a:pt x="1494" y="1223"/>
                    </a:lnTo>
                    <a:lnTo>
                      <a:pt x="1504" y="1229"/>
                    </a:lnTo>
                    <a:lnTo>
                      <a:pt x="1513" y="1237"/>
                    </a:lnTo>
                    <a:lnTo>
                      <a:pt x="1520" y="1243"/>
                    </a:lnTo>
                    <a:lnTo>
                      <a:pt x="1527" y="1252"/>
                    </a:lnTo>
                    <a:lnTo>
                      <a:pt x="1533" y="1261"/>
                    </a:lnTo>
                    <a:lnTo>
                      <a:pt x="1538" y="1269"/>
                    </a:lnTo>
                    <a:lnTo>
                      <a:pt x="1544" y="1278"/>
                    </a:lnTo>
                    <a:lnTo>
                      <a:pt x="1554" y="1296"/>
                    </a:lnTo>
                    <a:lnTo>
                      <a:pt x="1564" y="1315"/>
                    </a:lnTo>
                    <a:lnTo>
                      <a:pt x="1570" y="1324"/>
                    </a:lnTo>
                    <a:lnTo>
                      <a:pt x="1576" y="1333"/>
                    </a:lnTo>
                    <a:lnTo>
                      <a:pt x="1584" y="1342"/>
                    </a:lnTo>
                    <a:lnTo>
                      <a:pt x="1592" y="1349"/>
                    </a:lnTo>
                    <a:lnTo>
                      <a:pt x="1601" y="1358"/>
                    </a:lnTo>
                    <a:lnTo>
                      <a:pt x="1612" y="1364"/>
                    </a:lnTo>
                    <a:lnTo>
                      <a:pt x="1624" y="1371"/>
                    </a:lnTo>
                    <a:lnTo>
                      <a:pt x="1638" y="1377"/>
                    </a:lnTo>
                    <a:lnTo>
                      <a:pt x="1653" y="1381"/>
                    </a:lnTo>
                    <a:lnTo>
                      <a:pt x="1670" y="1386"/>
                    </a:lnTo>
                    <a:lnTo>
                      <a:pt x="1689" y="1389"/>
                    </a:lnTo>
                    <a:lnTo>
                      <a:pt x="1710" y="1391"/>
                    </a:lnTo>
                    <a:lnTo>
                      <a:pt x="1734" y="1392"/>
                    </a:lnTo>
                    <a:lnTo>
                      <a:pt x="1761" y="1392"/>
                    </a:lnTo>
                    <a:lnTo>
                      <a:pt x="1790" y="1390"/>
                    </a:lnTo>
                    <a:lnTo>
                      <a:pt x="1823" y="1388"/>
                    </a:lnTo>
                    <a:lnTo>
                      <a:pt x="1857" y="1384"/>
                    </a:lnTo>
                    <a:lnTo>
                      <a:pt x="1896" y="1377"/>
                    </a:lnTo>
                    <a:lnTo>
                      <a:pt x="1937" y="1370"/>
                    </a:lnTo>
                    <a:lnTo>
                      <a:pt x="1982" y="1361"/>
                    </a:lnTo>
                    <a:lnTo>
                      <a:pt x="2015" y="1345"/>
                    </a:lnTo>
                    <a:lnTo>
                      <a:pt x="2103" y="1296"/>
                    </a:lnTo>
                    <a:lnTo>
                      <a:pt x="2164" y="1261"/>
                    </a:lnTo>
                    <a:lnTo>
                      <a:pt x="2233" y="1218"/>
                    </a:lnTo>
                    <a:lnTo>
                      <a:pt x="2271" y="1194"/>
                    </a:lnTo>
                    <a:lnTo>
                      <a:pt x="2310" y="1168"/>
                    </a:lnTo>
                    <a:lnTo>
                      <a:pt x="2350" y="1140"/>
                    </a:lnTo>
                    <a:lnTo>
                      <a:pt x="2391" y="1110"/>
                    </a:lnTo>
                    <a:lnTo>
                      <a:pt x="2433" y="1079"/>
                    </a:lnTo>
                    <a:lnTo>
                      <a:pt x="2475" y="1046"/>
                    </a:lnTo>
                    <a:lnTo>
                      <a:pt x="2517" y="1011"/>
                    </a:lnTo>
                    <a:lnTo>
                      <a:pt x="2560" y="975"/>
                    </a:lnTo>
                    <a:lnTo>
                      <a:pt x="2604" y="938"/>
                    </a:lnTo>
                    <a:lnTo>
                      <a:pt x="2646" y="898"/>
                    </a:lnTo>
                    <a:lnTo>
                      <a:pt x="2688" y="857"/>
                    </a:lnTo>
                    <a:lnTo>
                      <a:pt x="2730" y="813"/>
                    </a:lnTo>
                    <a:lnTo>
                      <a:pt x="2770" y="769"/>
                    </a:lnTo>
                    <a:lnTo>
                      <a:pt x="2809" y="724"/>
                    </a:lnTo>
                    <a:lnTo>
                      <a:pt x="2847" y="676"/>
                    </a:lnTo>
                    <a:lnTo>
                      <a:pt x="2882" y="627"/>
                    </a:lnTo>
                    <a:lnTo>
                      <a:pt x="2917" y="577"/>
                    </a:lnTo>
                    <a:lnTo>
                      <a:pt x="2949" y="525"/>
                    </a:lnTo>
                    <a:lnTo>
                      <a:pt x="2978" y="471"/>
                    </a:lnTo>
                    <a:lnTo>
                      <a:pt x="3007" y="417"/>
                    </a:lnTo>
                    <a:lnTo>
                      <a:pt x="3008" y="412"/>
                    </a:lnTo>
                    <a:lnTo>
                      <a:pt x="3014" y="400"/>
                    </a:lnTo>
                    <a:lnTo>
                      <a:pt x="3021" y="391"/>
                    </a:lnTo>
                    <a:lnTo>
                      <a:pt x="3029" y="381"/>
                    </a:lnTo>
                    <a:lnTo>
                      <a:pt x="3041" y="372"/>
                    </a:lnTo>
                    <a:lnTo>
                      <a:pt x="3056" y="361"/>
                    </a:lnTo>
                    <a:lnTo>
                      <a:pt x="3075" y="351"/>
                    </a:lnTo>
                    <a:lnTo>
                      <a:pt x="3097" y="340"/>
                    </a:lnTo>
                    <a:lnTo>
                      <a:pt x="3110" y="336"/>
                    </a:lnTo>
                    <a:lnTo>
                      <a:pt x="3124" y="332"/>
                    </a:lnTo>
                    <a:lnTo>
                      <a:pt x="3139" y="327"/>
                    </a:lnTo>
                    <a:lnTo>
                      <a:pt x="3157" y="323"/>
                    </a:lnTo>
                    <a:lnTo>
                      <a:pt x="3174" y="319"/>
                    </a:lnTo>
                    <a:lnTo>
                      <a:pt x="3193" y="316"/>
                    </a:lnTo>
                    <a:lnTo>
                      <a:pt x="3214" y="312"/>
                    </a:lnTo>
                    <a:lnTo>
                      <a:pt x="3237" y="310"/>
                    </a:lnTo>
                    <a:lnTo>
                      <a:pt x="3259" y="308"/>
                    </a:lnTo>
                    <a:lnTo>
                      <a:pt x="3285" y="307"/>
                    </a:lnTo>
                    <a:lnTo>
                      <a:pt x="3311" y="306"/>
                    </a:lnTo>
                    <a:lnTo>
                      <a:pt x="3340" y="306"/>
                    </a:lnTo>
                    <a:lnTo>
                      <a:pt x="3355" y="291"/>
                    </a:lnTo>
                    <a:lnTo>
                      <a:pt x="3400" y="253"/>
                    </a:lnTo>
                    <a:lnTo>
                      <a:pt x="3432" y="227"/>
                    </a:lnTo>
                    <a:lnTo>
                      <a:pt x="3470" y="199"/>
                    </a:lnTo>
                    <a:lnTo>
                      <a:pt x="3490" y="185"/>
                    </a:lnTo>
                    <a:lnTo>
                      <a:pt x="3512" y="170"/>
                    </a:lnTo>
                    <a:lnTo>
                      <a:pt x="3536" y="155"/>
                    </a:lnTo>
                    <a:lnTo>
                      <a:pt x="3561" y="139"/>
                    </a:lnTo>
                    <a:lnTo>
                      <a:pt x="3586" y="124"/>
                    </a:lnTo>
                    <a:lnTo>
                      <a:pt x="3613" y="109"/>
                    </a:lnTo>
                    <a:lnTo>
                      <a:pt x="3641" y="95"/>
                    </a:lnTo>
                    <a:lnTo>
                      <a:pt x="3669" y="81"/>
                    </a:lnTo>
                    <a:lnTo>
                      <a:pt x="3699" y="68"/>
                    </a:lnTo>
                    <a:lnTo>
                      <a:pt x="3729" y="56"/>
                    </a:lnTo>
                    <a:lnTo>
                      <a:pt x="3759" y="44"/>
                    </a:lnTo>
                    <a:lnTo>
                      <a:pt x="3792" y="35"/>
                    </a:lnTo>
                    <a:lnTo>
                      <a:pt x="3824" y="25"/>
                    </a:lnTo>
                    <a:lnTo>
                      <a:pt x="3857" y="17"/>
                    </a:lnTo>
                    <a:lnTo>
                      <a:pt x="3890" y="11"/>
                    </a:lnTo>
                    <a:lnTo>
                      <a:pt x="3925" y="7"/>
                    </a:lnTo>
                    <a:lnTo>
                      <a:pt x="3959" y="3"/>
                    </a:lnTo>
                    <a:lnTo>
                      <a:pt x="3994" y="2"/>
                    </a:lnTo>
                    <a:lnTo>
                      <a:pt x="4030" y="3"/>
                    </a:lnTo>
                    <a:lnTo>
                      <a:pt x="4064" y="7"/>
                    </a:lnTo>
                    <a:lnTo>
                      <a:pt x="4078" y="4"/>
                    </a:lnTo>
                    <a:lnTo>
                      <a:pt x="4118" y="1"/>
                    </a:lnTo>
                    <a:lnTo>
                      <a:pt x="4145" y="0"/>
                    </a:lnTo>
                    <a:lnTo>
                      <a:pt x="4176" y="1"/>
                    </a:lnTo>
                    <a:lnTo>
                      <a:pt x="4211" y="3"/>
                    </a:lnTo>
                    <a:lnTo>
                      <a:pt x="4249" y="9"/>
                    </a:lnTo>
                    <a:lnTo>
                      <a:pt x="4268" y="12"/>
                    </a:lnTo>
                    <a:lnTo>
                      <a:pt x="4289" y="16"/>
                    </a:lnTo>
                    <a:lnTo>
                      <a:pt x="4309" y="22"/>
                    </a:lnTo>
                    <a:lnTo>
                      <a:pt x="4331" y="27"/>
                    </a:lnTo>
                    <a:lnTo>
                      <a:pt x="4351" y="35"/>
                    </a:lnTo>
                    <a:lnTo>
                      <a:pt x="4373" y="42"/>
                    </a:lnTo>
                    <a:lnTo>
                      <a:pt x="4395" y="51"/>
                    </a:lnTo>
                    <a:lnTo>
                      <a:pt x="4416" y="62"/>
                    </a:lnTo>
                    <a:lnTo>
                      <a:pt x="4437" y="74"/>
                    </a:lnTo>
                    <a:lnTo>
                      <a:pt x="4458" y="87"/>
                    </a:lnTo>
                    <a:lnTo>
                      <a:pt x="4479" y="101"/>
                    </a:lnTo>
                    <a:lnTo>
                      <a:pt x="4499" y="116"/>
                    </a:lnTo>
                    <a:lnTo>
                      <a:pt x="4520" y="133"/>
                    </a:lnTo>
                    <a:lnTo>
                      <a:pt x="4539" y="151"/>
                    </a:lnTo>
                    <a:lnTo>
                      <a:pt x="4558" y="172"/>
                    </a:lnTo>
                    <a:lnTo>
                      <a:pt x="4576" y="195"/>
                    </a:lnTo>
                    <a:lnTo>
                      <a:pt x="4588" y="211"/>
                    </a:lnTo>
                    <a:lnTo>
                      <a:pt x="4622" y="256"/>
                    </a:lnTo>
                    <a:lnTo>
                      <a:pt x="4669" y="320"/>
                    </a:lnTo>
                    <a:lnTo>
                      <a:pt x="4727" y="395"/>
                    </a:lnTo>
                    <a:lnTo>
                      <a:pt x="4759" y="434"/>
                    </a:lnTo>
                    <a:lnTo>
                      <a:pt x="4790" y="472"/>
                    </a:lnTo>
                    <a:lnTo>
                      <a:pt x="4821" y="509"/>
                    </a:lnTo>
                    <a:lnTo>
                      <a:pt x="4853" y="542"/>
                    </a:lnTo>
                    <a:lnTo>
                      <a:pt x="4882" y="573"/>
                    </a:lnTo>
                    <a:lnTo>
                      <a:pt x="4909" y="597"/>
                    </a:lnTo>
                    <a:lnTo>
                      <a:pt x="4922" y="608"/>
                    </a:lnTo>
                    <a:lnTo>
                      <a:pt x="4934" y="617"/>
                    </a:lnTo>
                    <a:lnTo>
                      <a:pt x="4945" y="624"/>
                    </a:lnTo>
                    <a:lnTo>
                      <a:pt x="4954" y="630"/>
                    </a:lnTo>
                    <a:lnTo>
                      <a:pt x="4964" y="635"/>
                    </a:lnTo>
                    <a:lnTo>
                      <a:pt x="4987" y="651"/>
                    </a:lnTo>
                    <a:lnTo>
                      <a:pt x="5003" y="663"/>
                    </a:lnTo>
                    <a:lnTo>
                      <a:pt x="5020" y="677"/>
                    </a:lnTo>
                    <a:lnTo>
                      <a:pt x="5039" y="694"/>
                    </a:lnTo>
                    <a:lnTo>
                      <a:pt x="5057" y="712"/>
                    </a:lnTo>
                    <a:lnTo>
                      <a:pt x="5075" y="732"/>
                    </a:lnTo>
                    <a:lnTo>
                      <a:pt x="5093" y="755"/>
                    </a:lnTo>
                    <a:lnTo>
                      <a:pt x="5101" y="768"/>
                    </a:lnTo>
                    <a:lnTo>
                      <a:pt x="5109" y="780"/>
                    </a:lnTo>
                    <a:lnTo>
                      <a:pt x="5116" y="793"/>
                    </a:lnTo>
                    <a:lnTo>
                      <a:pt x="5123" y="807"/>
                    </a:lnTo>
                    <a:lnTo>
                      <a:pt x="5128" y="821"/>
                    </a:lnTo>
                    <a:lnTo>
                      <a:pt x="5134" y="835"/>
                    </a:lnTo>
                    <a:lnTo>
                      <a:pt x="5138" y="849"/>
                    </a:lnTo>
                    <a:lnTo>
                      <a:pt x="5141" y="864"/>
                    </a:lnTo>
                    <a:lnTo>
                      <a:pt x="5143" y="880"/>
                    </a:lnTo>
                    <a:lnTo>
                      <a:pt x="5144" y="895"/>
                    </a:lnTo>
                    <a:lnTo>
                      <a:pt x="5143" y="912"/>
                    </a:lnTo>
                    <a:lnTo>
                      <a:pt x="5142" y="928"/>
                    </a:lnTo>
                    <a:lnTo>
                      <a:pt x="5141" y="945"/>
                    </a:lnTo>
                    <a:lnTo>
                      <a:pt x="5140" y="961"/>
                    </a:lnTo>
                    <a:lnTo>
                      <a:pt x="5139" y="978"/>
                    </a:lnTo>
                    <a:lnTo>
                      <a:pt x="5140" y="993"/>
                    </a:lnTo>
                    <a:lnTo>
                      <a:pt x="5141" y="1008"/>
                    </a:lnTo>
                    <a:lnTo>
                      <a:pt x="5142" y="1023"/>
                    </a:lnTo>
                    <a:lnTo>
                      <a:pt x="5144" y="1037"/>
                    </a:lnTo>
                    <a:lnTo>
                      <a:pt x="5148" y="1051"/>
                    </a:lnTo>
                    <a:lnTo>
                      <a:pt x="5154" y="1078"/>
                    </a:lnTo>
                    <a:lnTo>
                      <a:pt x="5162" y="1104"/>
                    </a:lnTo>
                    <a:lnTo>
                      <a:pt x="5170" y="1127"/>
                    </a:lnTo>
                    <a:lnTo>
                      <a:pt x="5180" y="1148"/>
                    </a:lnTo>
                    <a:lnTo>
                      <a:pt x="5190" y="1168"/>
                    </a:lnTo>
                    <a:lnTo>
                      <a:pt x="5199" y="1185"/>
                    </a:lnTo>
                    <a:lnTo>
                      <a:pt x="5208" y="1200"/>
                    </a:lnTo>
                    <a:lnTo>
                      <a:pt x="5217" y="1212"/>
                    </a:lnTo>
                    <a:lnTo>
                      <a:pt x="5229" y="1229"/>
                    </a:lnTo>
                    <a:lnTo>
                      <a:pt x="5234" y="1235"/>
                    </a:lnTo>
                    <a:close/>
                  </a:path>
                </a:pathLst>
              </a:custGeom>
              <a:solidFill>
                <a:srgbClr val="76a1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5761080" y="3183120"/>
                <a:ext cx="519120" cy="476280"/>
              </a:xfrm>
              <a:custGeom>
                <a:avLst/>
                <a:gdLst/>
                <a:ahLst/>
                <a:rect l="l" t="t" r="r" b="b"/>
                <a:pathLst>
                  <a:path w="1635" h="1501">
                    <a:moveTo>
                      <a:pt x="733" y="131"/>
                    </a:moveTo>
                    <a:lnTo>
                      <a:pt x="763" y="120"/>
                    </a:lnTo>
                    <a:lnTo>
                      <a:pt x="792" y="109"/>
                    </a:lnTo>
                    <a:lnTo>
                      <a:pt x="822" y="96"/>
                    </a:lnTo>
                    <a:lnTo>
                      <a:pt x="851" y="84"/>
                    </a:lnTo>
                    <a:lnTo>
                      <a:pt x="911" y="58"/>
                    </a:lnTo>
                    <a:lnTo>
                      <a:pt x="970" y="35"/>
                    </a:lnTo>
                    <a:lnTo>
                      <a:pt x="1000" y="25"/>
                    </a:lnTo>
                    <a:lnTo>
                      <a:pt x="1031" y="15"/>
                    </a:lnTo>
                    <a:lnTo>
                      <a:pt x="1062" y="9"/>
                    </a:lnTo>
                    <a:lnTo>
                      <a:pt x="1093" y="3"/>
                    </a:lnTo>
                    <a:lnTo>
                      <a:pt x="1108" y="2"/>
                    </a:lnTo>
                    <a:lnTo>
                      <a:pt x="1125" y="1"/>
                    </a:lnTo>
                    <a:lnTo>
                      <a:pt x="1140" y="0"/>
                    </a:lnTo>
                    <a:lnTo>
                      <a:pt x="1156" y="0"/>
                    </a:lnTo>
                    <a:lnTo>
                      <a:pt x="1172" y="1"/>
                    </a:lnTo>
                    <a:lnTo>
                      <a:pt x="1188" y="3"/>
                    </a:lnTo>
                    <a:lnTo>
                      <a:pt x="1206" y="7"/>
                    </a:lnTo>
                    <a:lnTo>
                      <a:pt x="1222" y="10"/>
                    </a:lnTo>
                    <a:lnTo>
                      <a:pt x="1228" y="12"/>
                    </a:lnTo>
                    <a:lnTo>
                      <a:pt x="1234" y="15"/>
                    </a:lnTo>
                    <a:lnTo>
                      <a:pt x="1238" y="19"/>
                    </a:lnTo>
                    <a:lnTo>
                      <a:pt x="1242" y="23"/>
                    </a:lnTo>
                    <a:lnTo>
                      <a:pt x="1247" y="26"/>
                    </a:lnTo>
                    <a:lnTo>
                      <a:pt x="1250" y="30"/>
                    </a:lnTo>
                    <a:lnTo>
                      <a:pt x="1253" y="35"/>
                    </a:lnTo>
                    <a:lnTo>
                      <a:pt x="1254" y="40"/>
                    </a:lnTo>
                    <a:lnTo>
                      <a:pt x="1256" y="44"/>
                    </a:lnTo>
                    <a:lnTo>
                      <a:pt x="1258" y="50"/>
                    </a:lnTo>
                    <a:lnTo>
                      <a:pt x="1258" y="55"/>
                    </a:lnTo>
                    <a:lnTo>
                      <a:pt x="1256" y="61"/>
                    </a:lnTo>
                    <a:lnTo>
                      <a:pt x="1255" y="66"/>
                    </a:lnTo>
                    <a:lnTo>
                      <a:pt x="1253" y="71"/>
                    </a:lnTo>
                    <a:lnTo>
                      <a:pt x="1251" y="77"/>
                    </a:lnTo>
                    <a:lnTo>
                      <a:pt x="1248" y="82"/>
                    </a:lnTo>
                    <a:lnTo>
                      <a:pt x="1243" y="88"/>
                    </a:lnTo>
                    <a:lnTo>
                      <a:pt x="1238" y="93"/>
                    </a:lnTo>
                    <a:lnTo>
                      <a:pt x="1233" y="100"/>
                    </a:lnTo>
                    <a:lnTo>
                      <a:pt x="1226" y="105"/>
                    </a:lnTo>
                    <a:lnTo>
                      <a:pt x="1219" y="110"/>
                    </a:lnTo>
                    <a:lnTo>
                      <a:pt x="1211" y="116"/>
                    </a:lnTo>
                    <a:lnTo>
                      <a:pt x="1201" y="121"/>
                    </a:lnTo>
                    <a:lnTo>
                      <a:pt x="1192" y="127"/>
                    </a:lnTo>
                    <a:lnTo>
                      <a:pt x="1169" y="136"/>
                    </a:lnTo>
                    <a:lnTo>
                      <a:pt x="1143" y="145"/>
                    </a:lnTo>
                    <a:lnTo>
                      <a:pt x="1113" y="154"/>
                    </a:lnTo>
                    <a:lnTo>
                      <a:pt x="1078" y="160"/>
                    </a:lnTo>
                    <a:lnTo>
                      <a:pt x="1061" y="163"/>
                    </a:lnTo>
                    <a:lnTo>
                      <a:pt x="1046" y="164"/>
                    </a:lnTo>
                    <a:lnTo>
                      <a:pt x="1034" y="166"/>
                    </a:lnTo>
                    <a:lnTo>
                      <a:pt x="1026" y="170"/>
                    </a:lnTo>
                    <a:lnTo>
                      <a:pt x="1024" y="171"/>
                    </a:lnTo>
                    <a:lnTo>
                      <a:pt x="1023" y="174"/>
                    </a:lnTo>
                    <a:lnTo>
                      <a:pt x="1024" y="176"/>
                    </a:lnTo>
                    <a:lnTo>
                      <a:pt x="1026" y="181"/>
                    </a:lnTo>
                    <a:lnTo>
                      <a:pt x="1036" y="189"/>
                    </a:lnTo>
                    <a:lnTo>
                      <a:pt x="1053" y="202"/>
                    </a:lnTo>
                    <a:lnTo>
                      <a:pt x="1065" y="210"/>
                    </a:lnTo>
                    <a:lnTo>
                      <a:pt x="1077" y="216"/>
                    </a:lnTo>
                    <a:lnTo>
                      <a:pt x="1089" y="222"/>
                    </a:lnTo>
                    <a:lnTo>
                      <a:pt x="1101" y="225"/>
                    </a:lnTo>
                    <a:lnTo>
                      <a:pt x="1113" y="228"/>
                    </a:lnTo>
                    <a:lnTo>
                      <a:pt x="1125" y="230"/>
                    </a:lnTo>
                    <a:lnTo>
                      <a:pt x="1137" y="231"/>
                    </a:lnTo>
                    <a:lnTo>
                      <a:pt x="1148" y="232"/>
                    </a:lnTo>
                    <a:lnTo>
                      <a:pt x="1172" y="233"/>
                    </a:lnTo>
                    <a:lnTo>
                      <a:pt x="1196" y="233"/>
                    </a:lnTo>
                    <a:lnTo>
                      <a:pt x="1220" y="235"/>
                    </a:lnTo>
                    <a:lnTo>
                      <a:pt x="1245" y="237"/>
                    </a:lnTo>
                    <a:lnTo>
                      <a:pt x="1259" y="239"/>
                    </a:lnTo>
                    <a:lnTo>
                      <a:pt x="1274" y="238"/>
                    </a:lnTo>
                    <a:lnTo>
                      <a:pt x="1289" y="236"/>
                    </a:lnTo>
                    <a:lnTo>
                      <a:pt x="1304" y="233"/>
                    </a:lnTo>
                    <a:lnTo>
                      <a:pt x="1334" y="225"/>
                    </a:lnTo>
                    <a:lnTo>
                      <a:pt x="1364" y="217"/>
                    </a:lnTo>
                    <a:lnTo>
                      <a:pt x="1380" y="214"/>
                    </a:lnTo>
                    <a:lnTo>
                      <a:pt x="1395" y="211"/>
                    </a:lnTo>
                    <a:lnTo>
                      <a:pt x="1410" y="210"/>
                    </a:lnTo>
                    <a:lnTo>
                      <a:pt x="1424" y="210"/>
                    </a:lnTo>
                    <a:lnTo>
                      <a:pt x="1430" y="211"/>
                    </a:lnTo>
                    <a:lnTo>
                      <a:pt x="1438" y="212"/>
                    </a:lnTo>
                    <a:lnTo>
                      <a:pt x="1444" y="213"/>
                    </a:lnTo>
                    <a:lnTo>
                      <a:pt x="1451" y="216"/>
                    </a:lnTo>
                    <a:lnTo>
                      <a:pt x="1457" y="218"/>
                    </a:lnTo>
                    <a:lnTo>
                      <a:pt x="1464" y="223"/>
                    </a:lnTo>
                    <a:lnTo>
                      <a:pt x="1470" y="227"/>
                    </a:lnTo>
                    <a:lnTo>
                      <a:pt x="1477" y="232"/>
                    </a:lnTo>
                    <a:lnTo>
                      <a:pt x="1463" y="243"/>
                    </a:lnTo>
                    <a:lnTo>
                      <a:pt x="1450" y="254"/>
                    </a:lnTo>
                    <a:lnTo>
                      <a:pt x="1437" y="266"/>
                    </a:lnTo>
                    <a:lnTo>
                      <a:pt x="1424" y="279"/>
                    </a:lnTo>
                    <a:lnTo>
                      <a:pt x="1410" y="291"/>
                    </a:lnTo>
                    <a:lnTo>
                      <a:pt x="1396" y="301"/>
                    </a:lnTo>
                    <a:lnTo>
                      <a:pt x="1382" y="312"/>
                    </a:lnTo>
                    <a:lnTo>
                      <a:pt x="1366" y="321"/>
                    </a:lnTo>
                    <a:lnTo>
                      <a:pt x="1398" y="325"/>
                    </a:lnTo>
                    <a:lnTo>
                      <a:pt x="1429" y="330"/>
                    </a:lnTo>
                    <a:lnTo>
                      <a:pt x="1462" y="334"/>
                    </a:lnTo>
                    <a:lnTo>
                      <a:pt x="1493" y="339"/>
                    </a:lnTo>
                    <a:lnTo>
                      <a:pt x="1525" y="346"/>
                    </a:lnTo>
                    <a:lnTo>
                      <a:pt x="1557" y="351"/>
                    </a:lnTo>
                    <a:lnTo>
                      <a:pt x="1588" y="359"/>
                    </a:lnTo>
                    <a:lnTo>
                      <a:pt x="1621" y="365"/>
                    </a:lnTo>
                    <a:lnTo>
                      <a:pt x="1625" y="367"/>
                    </a:lnTo>
                    <a:lnTo>
                      <a:pt x="1629" y="372"/>
                    </a:lnTo>
                    <a:lnTo>
                      <a:pt x="1631" y="377"/>
                    </a:lnTo>
                    <a:lnTo>
                      <a:pt x="1633" y="384"/>
                    </a:lnTo>
                    <a:lnTo>
                      <a:pt x="1635" y="391"/>
                    </a:lnTo>
                    <a:lnTo>
                      <a:pt x="1635" y="400"/>
                    </a:lnTo>
                    <a:lnTo>
                      <a:pt x="1633" y="409"/>
                    </a:lnTo>
                    <a:lnTo>
                      <a:pt x="1631" y="419"/>
                    </a:lnTo>
                    <a:lnTo>
                      <a:pt x="1629" y="429"/>
                    </a:lnTo>
                    <a:lnTo>
                      <a:pt x="1626" y="439"/>
                    </a:lnTo>
                    <a:lnTo>
                      <a:pt x="1621" y="448"/>
                    </a:lnTo>
                    <a:lnTo>
                      <a:pt x="1616" y="457"/>
                    </a:lnTo>
                    <a:lnTo>
                      <a:pt x="1610" y="466"/>
                    </a:lnTo>
                    <a:lnTo>
                      <a:pt x="1603" y="474"/>
                    </a:lnTo>
                    <a:lnTo>
                      <a:pt x="1596" y="481"/>
                    </a:lnTo>
                    <a:lnTo>
                      <a:pt x="1588" y="486"/>
                    </a:lnTo>
                    <a:lnTo>
                      <a:pt x="1555" y="510"/>
                    </a:lnTo>
                    <a:lnTo>
                      <a:pt x="1466" y="574"/>
                    </a:lnTo>
                    <a:lnTo>
                      <a:pt x="1339" y="664"/>
                    </a:lnTo>
                    <a:lnTo>
                      <a:pt x="1186" y="772"/>
                    </a:lnTo>
                    <a:lnTo>
                      <a:pt x="1026" y="887"/>
                    </a:lnTo>
                    <a:lnTo>
                      <a:pt x="875" y="995"/>
                    </a:lnTo>
                    <a:lnTo>
                      <a:pt x="748" y="1086"/>
                    </a:lnTo>
                    <a:lnTo>
                      <a:pt x="660" y="1149"/>
                    </a:lnTo>
                    <a:lnTo>
                      <a:pt x="629" y="1173"/>
                    </a:lnTo>
                    <a:lnTo>
                      <a:pt x="599" y="1200"/>
                    </a:lnTo>
                    <a:lnTo>
                      <a:pt x="568" y="1227"/>
                    </a:lnTo>
                    <a:lnTo>
                      <a:pt x="539" y="1255"/>
                    </a:lnTo>
                    <a:lnTo>
                      <a:pt x="511" y="1284"/>
                    </a:lnTo>
                    <a:lnTo>
                      <a:pt x="484" y="1313"/>
                    </a:lnTo>
                    <a:lnTo>
                      <a:pt x="459" y="1342"/>
                    </a:lnTo>
                    <a:lnTo>
                      <a:pt x="435" y="1369"/>
                    </a:lnTo>
                    <a:lnTo>
                      <a:pt x="394" y="1418"/>
                    </a:lnTo>
                    <a:lnTo>
                      <a:pt x="364" y="1458"/>
                    </a:lnTo>
                    <a:lnTo>
                      <a:pt x="344" y="1485"/>
                    </a:lnTo>
                    <a:lnTo>
                      <a:pt x="337" y="1495"/>
                    </a:lnTo>
                    <a:lnTo>
                      <a:pt x="324" y="1496"/>
                    </a:lnTo>
                    <a:lnTo>
                      <a:pt x="291" y="1499"/>
                    </a:lnTo>
                    <a:lnTo>
                      <a:pt x="243" y="1501"/>
                    </a:lnTo>
                    <a:lnTo>
                      <a:pt x="188" y="1501"/>
                    </a:lnTo>
                    <a:lnTo>
                      <a:pt x="159" y="1500"/>
                    </a:lnTo>
                    <a:lnTo>
                      <a:pt x="131" y="1498"/>
                    </a:lnTo>
                    <a:lnTo>
                      <a:pt x="104" y="1495"/>
                    </a:lnTo>
                    <a:lnTo>
                      <a:pt x="79" y="1489"/>
                    </a:lnTo>
                    <a:lnTo>
                      <a:pt x="68" y="1487"/>
                    </a:lnTo>
                    <a:lnTo>
                      <a:pt x="57" y="1483"/>
                    </a:lnTo>
                    <a:lnTo>
                      <a:pt x="48" y="1479"/>
                    </a:lnTo>
                    <a:lnTo>
                      <a:pt x="38" y="1474"/>
                    </a:lnTo>
                    <a:lnTo>
                      <a:pt x="30" y="1470"/>
                    </a:lnTo>
                    <a:lnTo>
                      <a:pt x="24" y="1464"/>
                    </a:lnTo>
                    <a:lnTo>
                      <a:pt x="20" y="1457"/>
                    </a:lnTo>
                    <a:lnTo>
                      <a:pt x="15" y="1451"/>
                    </a:lnTo>
                    <a:lnTo>
                      <a:pt x="10" y="1437"/>
                    </a:lnTo>
                    <a:lnTo>
                      <a:pt x="5" y="1423"/>
                    </a:lnTo>
                    <a:lnTo>
                      <a:pt x="2" y="1407"/>
                    </a:lnTo>
                    <a:lnTo>
                      <a:pt x="0" y="1392"/>
                    </a:lnTo>
                    <a:lnTo>
                      <a:pt x="0" y="1376"/>
                    </a:lnTo>
                    <a:lnTo>
                      <a:pt x="2" y="1358"/>
                    </a:lnTo>
                    <a:lnTo>
                      <a:pt x="5" y="1338"/>
                    </a:lnTo>
                    <a:lnTo>
                      <a:pt x="10" y="1315"/>
                    </a:lnTo>
                    <a:lnTo>
                      <a:pt x="16" y="1289"/>
                    </a:lnTo>
                    <a:lnTo>
                      <a:pt x="25" y="1258"/>
                    </a:lnTo>
                    <a:lnTo>
                      <a:pt x="35" y="1224"/>
                    </a:lnTo>
                    <a:lnTo>
                      <a:pt x="47" y="1185"/>
                    </a:lnTo>
                    <a:lnTo>
                      <a:pt x="77" y="1091"/>
                    </a:lnTo>
                    <a:lnTo>
                      <a:pt x="115" y="971"/>
                    </a:lnTo>
                    <a:lnTo>
                      <a:pt x="125" y="938"/>
                    </a:lnTo>
                    <a:lnTo>
                      <a:pt x="137" y="904"/>
                    </a:lnTo>
                    <a:lnTo>
                      <a:pt x="151" y="870"/>
                    </a:lnTo>
                    <a:lnTo>
                      <a:pt x="165" y="835"/>
                    </a:lnTo>
                    <a:lnTo>
                      <a:pt x="182" y="800"/>
                    </a:lnTo>
                    <a:lnTo>
                      <a:pt x="198" y="766"/>
                    </a:lnTo>
                    <a:lnTo>
                      <a:pt x="216" y="732"/>
                    </a:lnTo>
                    <a:lnTo>
                      <a:pt x="235" y="698"/>
                    </a:lnTo>
                    <a:lnTo>
                      <a:pt x="253" y="663"/>
                    </a:lnTo>
                    <a:lnTo>
                      <a:pt x="273" y="630"/>
                    </a:lnTo>
                    <a:lnTo>
                      <a:pt x="294" y="596"/>
                    </a:lnTo>
                    <a:lnTo>
                      <a:pt x="314" y="564"/>
                    </a:lnTo>
                    <a:lnTo>
                      <a:pt x="336" y="532"/>
                    </a:lnTo>
                    <a:lnTo>
                      <a:pt x="358" y="500"/>
                    </a:lnTo>
                    <a:lnTo>
                      <a:pt x="379" y="469"/>
                    </a:lnTo>
                    <a:lnTo>
                      <a:pt x="402" y="439"/>
                    </a:lnTo>
                    <a:lnTo>
                      <a:pt x="425" y="409"/>
                    </a:lnTo>
                    <a:lnTo>
                      <a:pt x="447" y="381"/>
                    </a:lnTo>
                    <a:lnTo>
                      <a:pt x="470" y="354"/>
                    </a:lnTo>
                    <a:lnTo>
                      <a:pt x="493" y="327"/>
                    </a:lnTo>
                    <a:lnTo>
                      <a:pt x="514" y="303"/>
                    </a:lnTo>
                    <a:lnTo>
                      <a:pt x="537" y="279"/>
                    </a:lnTo>
                    <a:lnTo>
                      <a:pt x="559" y="257"/>
                    </a:lnTo>
                    <a:lnTo>
                      <a:pt x="580" y="236"/>
                    </a:lnTo>
                    <a:lnTo>
                      <a:pt x="602" y="216"/>
                    </a:lnTo>
                    <a:lnTo>
                      <a:pt x="622" y="199"/>
                    </a:lnTo>
                    <a:lnTo>
                      <a:pt x="643" y="183"/>
                    </a:lnTo>
                    <a:lnTo>
                      <a:pt x="662" y="169"/>
                    </a:lnTo>
                    <a:lnTo>
                      <a:pt x="681" y="156"/>
                    </a:lnTo>
                    <a:lnTo>
                      <a:pt x="699" y="146"/>
                    </a:lnTo>
                    <a:lnTo>
                      <a:pt x="716" y="137"/>
                    </a:lnTo>
                    <a:lnTo>
                      <a:pt x="733" y="131"/>
                    </a:lnTo>
                    <a:close/>
                  </a:path>
                </a:pathLst>
              </a:custGeom>
              <a:solidFill>
                <a:srgbClr val="9dca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5904000" y="3287880"/>
                <a:ext cx="761760" cy="395280"/>
              </a:xfrm>
              <a:custGeom>
                <a:avLst/>
                <a:gdLst/>
                <a:ahLst/>
                <a:rect l="l" t="t" r="r" b="b"/>
                <a:pathLst>
                  <a:path w="2402" h="1241">
                    <a:moveTo>
                      <a:pt x="290" y="1152"/>
                    </a:moveTo>
                    <a:lnTo>
                      <a:pt x="308" y="1124"/>
                    </a:lnTo>
                    <a:lnTo>
                      <a:pt x="327" y="1097"/>
                    </a:lnTo>
                    <a:lnTo>
                      <a:pt x="346" y="1071"/>
                    </a:lnTo>
                    <a:lnTo>
                      <a:pt x="365" y="1045"/>
                    </a:lnTo>
                    <a:lnTo>
                      <a:pt x="386" y="1021"/>
                    </a:lnTo>
                    <a:lnTo>
                      <a:pt x="408" y="999"/>
                    </a:lnTo>
                    <a:lnTo>
                      <a:pt x="430" y="978"/>
                    </a:lnTo>
                    <a:lnTo>
                      <a:pt x="453" y="960"/>
                    </a:lnTo>
                    <a:lnTo>
                      <a:pt x="464" y="952"/>
                    </a:lnTo>
                    <a:lnTo>
                      <a:pt x="476" y="945"/>
                    </a:lnTo>
                    <a:lnTo>
                      <a:pt x="488" y="937"/>
                    </a:lnTo>
                    <a:lnTo>
                      <a:pt x="499" y="932"/>
                    </a:lnTo>
                    <a:lnTo>
                      <a:pt x="511" y="926"/>
                    </a:lnTo>
                    <a:lnTo>
                      <a:pt x="523" y="922"/>
                    </a:lnTo>
                    <a:lnTo>
                      <a:pt x="535" y="918"/>
                    </a:lnTo>
                    <a:lnTo>
                      <a:pt x="547" y="915"/>
                    </a:lnTo>
                    <a:lnTo>
                      <a:pt x="560" y="913"/>
                    </a:lnTo>
                    <a:lnTo>
                      <a:pt x="572" y="912"/>
                    </a:lnTo>
                    <a:lnTo>
                      <a:pt x="584" y="912"/>
                    </a:lnTo>
                    <a:lnTo>
                      <a:pt x="597" y="913"/>
                    </a:lnTo>
                    <a:lnTo>
                      <a:pt x="609" y="915"/>
                    </a:lnTo>
                    <a:lnTo>
                      <a:pt x="621" y="919"/>
                    </a:lnTo>
                    <a:lnTo>
                      <a:pt x="633" y="924"/>
                    </a:lnTo>
                    <a:lnTo>
                      <a:pt x="646" y="930"/>
                    </a:lnTo>
                    <a:lnTo>
                      <a:pt x="659" y="935"/>
                    </a:lnTo>
                    <a:lnTo>
                      <a:pt x="674" y="941"/>
                    </a:lnTo>
                    <a:lnTo>
                      <a:pt x="691" y="947"/>
                    </a:lnTo>
                    <a:lnTo>
                      <a:pt x="708" y="951"/>
                    </a:lnTo>
                    <a:lnTo>
                      <a:pt x="746" y="961"/>
                    </a:lnTo>
                    <a:lnTo>
                      <a:pt x="788" y="968"/>
                    </a:lnTo>
                    <a:lnTo>
                      <a:pt x="833" y="975"/>
                    </a:lnTo>
                    <a:lnTo>
                      <a:pt x="881" y="979"/>
                    </a:lnTo>
                    <a:lnTo>
                      <a:pt x="930" y="984"/>
                    </a:lnTo>
                    <a:lnTo>
                      <a:pt x="980" y="987"/>
                    </a:lnTo>
                    <a:lnTo>
                      <a:pt x="1031" y="988"/>
                    </a:lnTo>
                    <a:lnTo>
                      <a:pt x="1082" y="988"/>
                    </a:lnTo>
                    <a:lnTo>
                      <a:pt x="1130" y="988"/>
                    </a:lnTo>
                    <a:lnTo>
                      <a:pt x="1177" y="986"/>
                    </a:lnTo>
                    <a:lnTo>
                      <a:pt x="1222" y="982"/>
                    </a:lnTo>
                    <a:lnTo>
                      <a:pt x="1262" y="979"/>
                    </a:lnTo>
                    <a:lnTo>
                      <a:pt x="1299" y="975"/>
                    </a:lnTo>
                    <a:lnTo>
                      <a:pt x="1331" y="968"/>
                    </a:lnTo>
                    <a:lnTo>
                      <a:pt x="1428" y="948"/>
                    </a:lnTo>
                    <a:lnTo>
                      <a:pt x="1519" y="926"/>
                    </a:lnTo>
                    <a:lnTo>
                      <a:pt x="1603" y="903"/>
                    </a:lnTo>
                    <a:lnTo>
                      <a:pt x="1682" y="879"/>
                    </a:lnTo>
                    <a:lnTo>
                      <a:pt x="1755" y="854"/>
                    </a:lnTo>
                    <a:lnTo>
                      <a:pt x="1822" y="828"/>
                    </a:lnTo>
                    <a:lnTo>
                      <a:pt x="1883" y="802"/>
                    </a:lnTo>
                    <a:lnTo>
                      <a:pt x="1940" y="775"/>
                    </a:lnTo>
                    <a:lnTo>
                      <a:pt x="1992" y="749"/>
                    </a:lnTo>
                    <a:lnTo>
                      <a:pt x="2040" y="722"/>
                    </a:lnTo>
                    <a:lnTo>
                      <a:pt x="2082" y="695"/>
                    </a:lnTo>
                    <a:lnTo>
                      <a:pt x="2121" y="668"/>
                    </a:lnTo>
                    <a:lnTo>
                      <a:pt x="2155" y="641"/>
                    </a:lnTo>
                    <a:lnTo>
                      <a:pt x="2186" y="614"/>
                    </a:lnTo>
                    <a:lnTo>
                      <a:pt x="2213" y="588"/>
                    </a:lnTo>
                    <a:lnTo>
                      <a:pt x="2238" y="562"/>
                    </a:lnTo>
                    <a:lnTo>
                      <a:pt x="2258" y="537"/>
                    </a:lnTo>
                    <a:lnTo>
                      <a:pt x="2275" y="513"/>
                    </a:lnTo>
                    <a:lnTo>
                      <a:pt x="2291" y="490"/>
                    </a:lnTo>
                    <a:lnTo>
                      <a:pt x="2303" y="467"/>
                    </a:lnTo>
                    <a:lnTo>
                      <a:pt x="2313" y="446"/>
                    </a:lnTo>
                    <a:lnTo>
                      <a:pt x="2322" y="426"/>
                    </a:lnTo>
                    <a:lnTo>
                      <a:pt x="2328" y="407"/>
                    </a:lnTo>
                    <a:lnTo>
                      <a:pt x="2333" y="390"/>
                    </a:lnTo>
                    <a:lnTo>
                      <a:pt x="2336" y="374"/>
                    </a:lnTo>
                    <a:lnTo>
                      <a:pt x="2339" y="360"/>
                    </a:lnTo>
                    <a:lnTo>
                      <a:pt x="2340" y="348"/>
                    </a:lnTo>
                    <a:lnTo>
                      <a:pt x="2340" y="338"/>
                    </a:lnTo>
                    <a:lnTo>
                      <a:pt x="2340" y="324"/>
                    </a:lnTo>
                    <a:lnTo>
                      <a:pt x="2340" y="319"/>
                    </a:lnTo>
                    <a:lnTo>
                      <a:pt x="2311" y="332"/>
                    </a:lnTo>
                    <a:lnTo>
                      <a:pt x="2235" y="368"/>
                    </a:lnTo>
                    <a:lnTo>
                      <a:pt x="2126" y="418"/>
                    </a:lnTo>
                    <a:lnTo>
                      <a:pt x="1999" y="475"/>
                    </a:lnTo>
                    <a:lnTo>
                      <a:pt x="1933" y="504"/>
                    </a:lnTo>
                    <a:lnTo>
                      <a:pt x="1867" y="532"/>
                    </a:lnTo>
                    <a:lnTo>
                      <a:pt x="1804" y="558"/>
                    </a:lnTo>
                    <a:lnTo>
                      <a:pt x="1746" y="582"/>
                    </a:lnTo>
                    <a:lnTo>
                      <a:pt x="1694" y="601"/>
                    </a:lnTo>
                    <a:lnTo>
                      <a:pt x="1650" y="617"/>
                    </a:lnTo>
                    <a:lnTo>
                      <a:pt x="1632" y="623"/>
                    </a:lnTo>
                    <a:lnTo>
                      <a:pt x="1616" y="627"/>
                    </a:lnTo>
                    <a:lnTo>
                      <a:pt x="1603" y="629"/>
                    </a:lnTo>
                    <a:lnTo>
                      <a:pt x="1594" y="630"/>
                    </a:lnTo>
                    <a:lnTo>
                      <a:pt x="1562" y="631"/>
                    </a:lnTo>
                    <a:lnTo>
                      <a:pt x="1539" y="633"/>
                    </a:lnTo>
                    <a:lnTo>
                      <a:pt x="1531" y="633"/>
                    </a:lnTo>
                    <a:lnTo>
                      <a:pt x="1527" y="631"/>
                    </a:lnTo>
                    <a:lnTo>
                      <a:pt x="1526" y="630"/>
                    </a:lnTo>
                    <a:lnTo>
                      <a:pt x="1527" y="630"/>
                    </a:lnTo>
                    <a:lnTo>
                      <a:pt x="1528" y="629"/>
                    </a:lnTo>
                    <a:lnTo>
                      <a:pt x="1531" y="627"/>
                    </a:lnTo>
                    <a:lnTo>
                      <a:pt x="1556" y="618"/>
                    </a:lnTo>
                    <a:lnTo>
                      <a:pt x="1607" y="602"/>
                    </a:lnTo>
                    <a:lnTo>
                      <a:pt x="1687" y="577"/>
                    </a:lnTo>
                    <a:lnTo>
                      <a:pt x="1801" y="542"/>
                    </a:lnTo>
                    <a:lnTo>
                      <a:pt x="1834" y="530"/>
                    </a:lnTo>
                    <a:lnTo>
                      <a:pt x="1866" y="519"/>
                    </a:lnTo>
                    <a:lnTo>
                      <a:pt x="1898" y="506"/>
                    </a:lnTo>
                    <a:lnTo>
                      <a:pt x="1929" y="493"/>
                    </a:lnTo>
                    <a:lnTo>
                      <a:pt x="1959" y="480"/>
                    </a:lnTo>
                    <a:lnTo>
                      <a:pt x="1989" y="466"/>
                    </a:lnTo>
                    <a:lnTo>
                      <a:pt x="2017" y="451"/>
                    </a:lnTo>
                    <a:lnTo>
                      <a:pt x="2045" y="437"/>
                    </a:lnTo>
                    <a:lnTo>
                      <a:pt x="2072" y="422"/>
                    </a:lnTo>
                    <a:lnTo>
                      <a:pt x="2098" y="407"/>
                    </a:lnTo>
                    <a:lnTo>
                      <a:pt x="2123" y="392"/>
                    </a:lnTo>
                    <a:lnTo>
                      <a:pt x="2148" y="375"/>
                    </a:lnTo>
                    <a:lnTo>
                      <a:pt x="2193" y="345"/>
                    </a:lnTo>
                    <a:lnTo>
                      <a:pt x="2235" y="315"/>
                    </a:lnTo>
                    <a:lnTo>
                      <a:pt x="2272" y="287"/>
                    </a:lnTo>
                    <a:lnTo>
                      <a:pt x="2306" y="260"/>
                    </a:lnTo>
                    <a:lnTo>
                      <a:pt x="2334" y="236"/>
                    </a:lnTo>
                    <a:lnTo>
                      <a:pt x="2357" y="215"/>
                    </a:lnTo>
                    <a:lnTo>
                      <a:pt x="2391" y="184"/>
                    </a:lnTo>
                    <a:lnTo>
                      <a:pt x="2402" y="174"/>
                    </a:lnTo>
                    <a:lnTo>
                      <a:pt x="2396" y="172"/>
                    </a:lnTo>
                    <a:lnTo>
                      <a:pt x="2379" y="171"/>
                    </a:lnTo>
                    <a:lnTo>
                      <a:pt x="2366" y="170"/>
                    </a:lnTo>
                    <a:lnTo>
                      <a:pt x="2349" y="170"/>
                    </a:lnTo>
                    <a:lnTo>
                      <a:pt x="2328" y="171"/>
                    </a:lnTo>
                    <a:lnTo>
                      <a:pt x="2305" y="174"/>
                    </a:lnTo>
                    <a:lnTo>
                      <a:pt x="2276" y="176"/>
                    </a:lnTo>
                    <a:lnTo>
                      <a:pt x="2244" y="180"/>
                    </a:lnTo>
                    <a:lnTo>
                      <a:pt x="2207" y="184"/>
                    </a:lnTo>
                    <a:lnTo>
                      <a:pt x="2167" y="192"/>
                    </a:lnTo>
                    <a:lnTo>
                      <a:pt x="2122" y="201"/>
                    </a:lnTo>
                    <a:lnTo>
                      <a:pt x="2071" y="211"/>
                    </a:lnTo>
                    <a:lnTo>
                      <a:pt x="2017" y="224"/>
                    </a:lnTo>
                    <a:lnTo>
                      <a:pt x="1957" y="239"/>
                    </a:lnTo>
                    <a:lnTo>
                      <a:pt x="1835" y="273"/>
                    </a:lnTo>
                    <a:lnTo>
                      <a:pt x="1720" y="305"/>
                    </a:lnTo>
                    <a:lnTo>
                      <a:pt x="1667" y="320"/>
                    </a:lnTo>
                    <a:lnTo>
                      <a:pt x="1617" y="333"/>
                    </a:lnTo>
                    <a:lnTo>
                      <a:pt x="1571" y="345"/>
                    </a:lnTo>
                    <a:lnTo>
                      <a:pt x="1530" y="354"/>
                    </a:lnTo>
                    <a:lnTo>
                      <a:pt x="1492" y="361"/>
                    </a:lnTo>
                    <a:lnTo>
                      <a:pt x="1461" y="366"/>
                    </a:lnTo>
                    <a:lnTo>
                      <a:pt x="1447" y="367"/>
                    </a:lnTo>
                    <a:lnTo>
                      <a:pt x="1435" y="368"/>
                    </a:lnTo>
                    <a:lnTo>
                      <a:pt x="1424" y="367"/>
                    </a:lnTo>
                    <a:lnTo>
                      <a:pt x="1414" y="366"/>
                    </a:lnTo>
                    <a:lnTo>
                      <a:pt x="1407" y="364"/>
                    </a:lnTo>
                    <a:lnTo>
                      <a:pt x="1400" y="360"/>
                    </a:lnTo>
                    <a:lnTo>
                      <a:pt x="1396" y="356"/>
                    </a:lnTo>
                    <a:lnTo>
                      <a:pt x="1394" y="351"/>
                    </a:lnTo>
                    <a:lnTo>
                      <a:pt x="1393" y="345"/>
                    </a:lnTo>
                    <a:lnTo>
                      <a:pt x="1395" y="338"/>
                    </a:lnTo>
                    <a:lnTo>
                      <a:pt x="1398" y="329"/>
                    </a:lnTo>
                    <a:lnTo>
                      <a:pt x="1403" y="319"/>
                    </a:lnTo>
                    <a:lnTo>
                      <a:pt x="1410" y="309"/>
                    </a:lnTo>
                    <a:lnTo>
                      <a:pt x="1418" y="298"/>
                    </a:lnTo>
                    <a:lnTo>
                      <a:pt x="1427" y="286"/>
                    </a:lnTo>
                    <a:lnTo>
                      <a:pt x="1438" y="274"/>
                    </a:lnTo>
                    <a:lnTo>
                      <a:pt x="1463" y="251"/>
                    </a:lnTo>
                    <a:lnTo>
                      <a:pt x="1490" y="226"/>
                    </a:lnTo>
                    <a:lnTo>
                      <a:pt x="1520" y="202"/>
                    </a:lnTo>
                    <a:lnTo>
                      <a:pt x="1553" y="178"/>
                    </a:lnTo>
                    <a:lnTo>
                      <a:pt x="1586" y="154"/>
                    </a:lnTo>
                    <a:lnTo>
                      <a:pt x="1620" y="131"/>
                    </a:lnTo>
                    <a:lnTo>
                      <a:pt x="1653" y="109"/>
                    </a:lnTo>
                    <a:lnTo>
                      <a:pt x="1686" y="89"/>
                    </a:lnTo>
                    <a:lnTo>
                      <a:pt x="1716" y="70"/>
                    </a:lnTo>
                    <a:lnTo>
                      <a:pt x="1744" y="54"/>
                    </a:lnTo>
                    <a:lnTo>
                      <a:pt x="1788" y="29"/>
                    </a:lnTo>
                    <a:lnTo>
                      <a:pt x="1813" y="17"/>
                    </a:lnTo>
                    <a:lnTo>
                      <a:pt x="1815" y="16"/>
                    </a:lnTo>
                    <a:lnTo>
                      <a:pt x="1815" y="15"/>
                    </a:lnTo>
                    <a:lnTo>
                      <a:pt x="1812" y="13"/>
                    </a:lnTo>
                    <a:lnTo>
                      <a:pt x="1808" y="10"/>
                    </a:lnTo>
                    <a:lnTo>
                      <a:pt x="1792" y="6"/>
                    </a:lnTo>
                    <a:lnTo>
                      <a:pt x="1770" y="2"/>
                    </a:lnTo>
                    <a:lnTo>
                      <a:pt x="1756" y="1"/>
                    </a:lnTo>
                    <a:lnTo>
                      <a:pt x="1741" y="0"/>
                    </a:lnTo>
                    <a:lnTo>
                      <a:pt x="1723" y="0"/>
                    </a:lnTo>
                    <a:lnTo>
                      <a:pt x="1704" y="0"/>
                    </a:lnTo>
                    <a:lnTo>
                      <a:pt x="1683" y="1"/>
                    </a:lnTo>
                    <a:lnTo>
                      <a:pt x="1662" y="3"/>
                    </a:lnTo>
                    <a:lnTo>
                      <a:pt x="1638" y="6"/>
                    </a:lnTo>
                    <a:lnTo>
                      <a:pt x="1613" y="10"/>
                    </a:lnTo>
                    <a:lnTo>
                      <a:pt x="1587" y="16"/>
                    </a:lnTo>
                    <a:lnTo>
                      <a:pt x="1560" y="23"/>
                    </a:lnTo>
                    <a:lnTo>
                      <a:pt x="1531" y="32"/>
                    </a:lnTo>
                    <a:lnTo>
                      <a:pt x="1502" y="42"/>
                    </a:lnTo>
                    <a:lnTo>
                      <a:pt x="1472" y="54"/>
                    </a:lnTo>
                    <a:lnTo>
                      <a:pt x="1439" y="68"/>
                    </a:lnTo>
                    <a:lnTo>
                      <a:pt x="1407" y="83"/>
                    </a:lnTo>
                    <a:lnTo>
                      <a:pt x="1373" y="100"/>
                    </a:lnTo>
                    <a:lnTo>
                      <a:pt x="1339" y="121"/>
                    </a:lnTo>
                    <a:lnTo>
                      <a:pt x="1304" y="142"/>
                    </a:lnTo>
                    <a:lnTo>
                      <a:pt x="1269" y="167"/>
                    </a:lnTo>
                    <a:lnTo>
                      <a:pt x="1232" y="194"/>
                    </a:lnTo>
                    <a:lnTo>
                      <a:pt x="1195" y="223"/>
                    </a:lnTo>
                    <a:lnTo>
                      <a:pt x="1157" y="256"/>
                    </a:lnTo>
                    <a:lnTo>
                      <a:pt x="1119" y="290"/>
                    </a:lnTo>
                    <a:lnTo>
                      <a:pt x="1082" y="329"/>
                    </a:lnTo>
                    <a:lnTo>
                      <a:pt x="1043" y="367"/>
                    </a:lnTo>
                    <a:lnTo>
                      <a:pt x="1006" y="402"/>
                    </a:lnTo>
                    <a:lnTo>
                      <a:pt x="968" y="436"/>
                    </a:lnTo>
                    <a:lnTo>
                      <a:pt x="933" y="467"/>
                    </a:lnTo>
                    <a:lnTo>
                      <a:pt x="898" y="496"/>
                    </a:lnTo>
                    <a:lnTo>
                      <a:pt x="863" y="522"/>
                    </a:lnTo>
                    <a:lnTo>
                      <a:pt x="830" y="547"/>
                    </a:lnTo>
                    <a:lnTo>
                      <a:pt x="798" y="570"/>
                    </a:lnTo>
                    <a:lnTo>
                      <a:pt x="766" y="590"/>
                    </a:lnTo>
                    <a:lnTo>
                      <a:pt x="736" y="609"/>
                    </a:lnTo>
                    <a:lnTo>
                      <a:pt x="706" y="626"/>
                    </a:lnTo>
                    <a:lnTo>
                      <a:pt x="678" y="641"/>
                    </a:lnTo>
                    <a:lnTo>
                      <a:pt x="651" y="655"/>
                    </a:lnTo>
                    <a:lnTo>
                      <a:pt x="625" y="667"/>
                    </a:lnTo>
                    <a:lnTo>
                      <a:pt x="600" y="678"/>
                    </a:lnTo>
                    <a:lnTo>
                      <a:pt x="575" y="688"/>
                    </a:lnTo>
                    <a:lnTo>
                      <a:pt x="553" y="696"/>
                    </a:lnTo>
                    <a:lnTo>
                      <a:pt x="532" y="703"/>
                    </a:lnTo>
                    <a:lnTo>
                      <a:pt x="511" y="709"/>
                    </a:lnTo>
                    <a:lnTo>
                      <a:pt x="493" y="714"/>
                    </a:lnTo>
                    <a:lnTo>
                      <a:pt x="459" y="721"/>
                    </a:lnTo>
                    <a:lnTo>
                      <a:pt x="431" y="726"/>
                    </a:lnTo>
                    <a:lnTo>
                      <a:pt x="392" y="730"/>
                    </a:lnTo>
                    <a:lnTo>
                      <a:pt x="380" y="729"/>
                    </a:lnTo>
                    <a:lnTo>
                      <a:pt x="362" y="738"/>
                    </a:lnTo>
                    <a:lnTo>
                      <a:pt x="317" y="765"/>
                    </a:lnTo>
                    <a:lnTo>
                      <a:pt x="287" y="785"/>
                    </a:lnTo>
                    <a:lnTo>
                      <a:pt x="254" y="807"/>
                    </a:lnTo>
                    <a:lnTo>
                      <a:pt x="219" y="833"/>
                    </a:lnTo>
                    <a:lnTo>
                      <a:pt x="182" y="861"/>
                    </a:lnTo>
                    <a:lnTo>
                      <a:pt x="163" y="877"/>
                    </a:lnTo>
                    <a:lnTo>
                      <a:pt x="146" y="893"/>
                    </a:lnTo>
                    <a:lnTo>
                      <a:pt x="128" y="909"/>
                    </a:lnTo>
                    <a:lnTo>
                      <a:pt x="111" y="926"/>
                    </a:lnTo>
                    <a:lnTo>
                      <a:pt x="94" y="944"/>
                    </a:lnTo>
                    <a:lnTo>
                      <a:pt x="79" y="961"/>
                    </a:lnTo>
                    <a:lnTo>
                      <a:pt x="64" y="979"/>
                    </a:lnTo>
                    <a:lnTo>
                      <a:pt x="51" y="998"/>
                    </a:lnTo>
                    <a:lnTo>
                      <a:pt x="38" y="1016"/>
                    </a:lnTo>
                    <a:lnTo>
                      <a:pt x="27" y="1035"/>
                    </a:lnTo>
                    <a:lnTo>
                      <a:pt x="19" y="1054"/>
                    </a:lnTo>
                    <a:lnTo>
                      <a:pt x="11" y="1073"/>
                    </a:lnTo>
                    <a:lnTo>
                      <a:pt x="6" y="1093"/>
                    </a:lnTo>
                    <a:lnTo>
                      <a:pt x="1" y="1112"/>
                    </a:lnTo>
                    <a:lnTo>
                      <a:pt x="0" y="1133"/>
                    </a:lnTo>
                    <a:lnTo>
                      <a:pt x="1" y="1152"/>
                    </a:lnTo>
                    <a:lnTo>
                      <a:pt x="9" y="1160"/>
                    </a:lnTo>
                    <a:lnTo>
                      <a:pt x="29" y="1180"/>
                    </a:lnTo>
                    <a:lnTo>
                      <a:pt x="44" y="1192"/>
                    </a:lnTo>
                    <a:lnTo>
                      <a:pt x="61" y="1205"/>
                    </a:lnTo>
                    <a:lnTo>
                      <a:pt x="79" y="1217"/>
                    </a:lnTo>
                    <a:lnTo>
                      <a:pt x="100" y="1227"/>
                    </a:lnTo>
                    <a:lnTo>
                      <a:pt x="112" y="1231"/>
                    </a:lnTo>
                    <a:lnTo>
                      <a:pt x="122" y="1235"/>
                    </a:lnTo>
                    <a:lnTo>
                      <a:pt x="134" y="1238"/>
                    </a:lnTo>
                    <a:lnTo>
                      <a:pt x="145" y="1239"/>
                    </a:lnTo>
                    <a:lnTo>
                      <a:pt x="157" y="1241"/>
                    </a:lnTo>
                    <a:lnTo>
                      <a:pt x="170" y="1241"/>
                    </a:lnTo>
                    <a:lnTo>
                      <a:pt x="182" y="1239"/>
                    </a:lnTo>
                    <a:lnTo>
                      <a:pt x="194" y="1236"/>
                    </a:lnTo>
                    <a:lnTo>
                      <a:pt x="207" y="1232"/>
                    </a:lnTo>
                    <a:lnTo>
                      <a:pt x="219" y="1227"/>
                    </a:lnTo>
                    <a:lnTo>
                      <a:pt x="230" y="1219"/>
                    </a:lnTo>
                    <a:lnTo>
                      <a:pt x="243" y="1209"/>
                    </a:lnTo>
                    <a:lnTo>
                      <a:pt x="255" y="1198"/>
                    </a:lnTo>
                    <a:lnTo>
                      <a:pt x="267" y="1184"/>
                    </a:lnTo>
                    <a:lnTo>
                      <a:pt x="279" y="1169"/>
                    </a:lnTo>
                    <a:lnTo>
                      <a:pt x="290" y="1152"/>
                    </a:lnTo>
                    <a:close/>
                  </a:path>
                </a:pathLst>
              </a:custGeom>
              <a:solidFill>
                <a:srgbClr val="9dca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5761080" y="3191040"/>
                <a:ext cx="514440" cy="468360"/>
              </a:xfrm>
              <a:custGeom>
                <a:avLst/>
                <a:gdLst/>
                <a:ahLst/>
                <a:rect l="l" t="t" r="r" b="b"/>
                <a:pathLst>
                  <a:path w="1619" h="1477">
                    <a:moveTo>
                      <a:pt x="1343" y="312"/>
                    </a:moveTo>
                    <a:lnTo>
                      <a:pt x="1374" y="316"/>
                    </a:lnTo>
                    <a:lnTo>
                      <a:pt x="1407" y="321"/>
                    </a:lnTo>
                    <a:lnTo>
                      <a:pt x="1438" y="326"/>
                    </a:lnTo>
                    <a:lnTo>
                      <a:pt x="1469" y="331"/>
                    </a:lnTo>
                    <a:lnTo>
                      <a:pt x="1501" y="338"/>
                    </a:lnTo>
                    <a:lnTo>
                      <a:pt x="1532" y="344"/>
                    </a:lnTo>
                    <a:lnTo>
                      <a:pt x="1563" y="352"/>
                    </a:lnTo>
                    <a:lnTo>
                      <a:pt x="1596" y="358"/>
                    </a:lnTo>
                    <a:lnTo>
                      <a:pt x="1601" y="361"/>
                    </a:lnTo>
                    <a:lnTo>
                      <a:pt x="1605" y="364"/>
                    </a:lnTo>
                    <a:lnTo>
                      <a:pt x="1610" y="369"/>
                    </a:lnTo>
                    <a:lnTo>
                      <a:pt x="1613" y="375"/>
                    </a:lnTo>
                    <a:lnTo>
                      <a:pt x="1615" y="381"/>
                    </a:lnTo>
                    <a:lnTo>
                      <a:pt x="1617" y="388"/>
                    </a:lnTo>
                    <a:lnTo>
                      <a:pt x="1619" y="395"/>
                    </a:lnTo>
                    <a:lnTo>
                      <a:pt x="1619" y="404"/>
                    </a:lnTo>
                    <a:lnTo>
                      <a:pt x="1619" y="411"/>
                    </a:lnTo>
                    <a:lnTo>
                      <a:pt x="1617" y="420"/>
                    </a:lnTo>
                    <a:lnTo>
                      <a:pt x="1615" y="428"/>
                    </a:lnTo>
                    <a:lnTo>
                      <a:pt x="1612" y="436"/>
                    </a:lnTo>
                    <a:lnTo>
                      <a:pt x="1608" y="444"/>
                    </a:lnTo>
                    <a:lnTo>
                      <a:pt x="1602" y="450"/>
                    </a:lnTo>
                    <a:lnTo>
                      <a:pt x="1596" y="457"/>
                    </a:lnTo>
                    <a:lnTo>
                      <a:pt x="1588" y="462"/>
                    </a:lnTo>
                    <a:lnTo>
                      <a:pt x="1555" y="486"/>
                    </a:lnTo>
                    <a:lnTo>
                      <a:pt x="1466" y="550"/>
                    </a:lnTo>
                    <a:lnTo>
                      <a:pt x="1339" y="640"/>
                    </a:lnTo>
                    <a:lnTo>
                      <a:pt x="1186" y="748"/>
                    </a:lnTo>
                    <a:lnTo>
                      <a:pt x="1026" y="863"/>
                    </a:lnTo>
                    <a:lnTo>
                      <a:pt x="875" y="971"/>
                    </a:lnTo>
                    <a:lnTo>
                      <a:pt x="748" y="1062"/>
                    </a:lnTo>
                    <a:lnTo>
                      <a:pt x="660" y="1125"/>
                    </a:lnTo>
                    <a:lnTo>
                      <a:pt x="629" y="1149"/>
                    </a:lnTo>
                    <a:lnTo>
                      <a:pt x="599" y="1176"/>
                    </a:lnTo>
                    <a:lnTo>
                      <a:pt x="568" y="1203"/>
                    </a:lnTo>
                    <a:lnTo>
                      <a:pt x="539" y="1231"/>
                    </a:lnTo>
                    <a:lnTo>
                      <a:pt x="511" y="1260"/>
                    </a:lnTo>
                    <a:lnTo>
                      <a:pt x="484" y="1289"/>
                    </a:lnTo>
                    <a:lnTo>
                      <a:pt x="459" y="1318"/>
                    </a:lnTo>
                    <a:lnTo>
                      <a:pt x="435" y="1345"/>
                    </a:lnTo>
                    <a:lnTo>
                      <a:pt x="394" y="1394"/>
                    </a:lnTo>
                    <a:lnTo>
                      <a:pt x="364" y="1434"/>
                    </a:lnTo>
                    <a:lnTo>
                      <a:pt x="344" y="1461"/>
                    </a:lnTo>
                    <a:lnTo>
                      <a:pt x="337" y="1471"/>
                    </a:lnTo>
                    <a:lnTo>
                      <a:pt x="324" y="1472"/>
                    </a:lnTo>
                    <a:lnTo>
                      <a:pt x="291" y="1475"/>
                    </a:lnTo>
                    <a:lnTo>
                      <a:pt x="243" y="1477"/>
                    </a:lnTo>
                    <a:lnTo>
                      <a:pt x="188" y="1477"/>
                    </a:lnTo>
                    <a:lnTo>
                      <a:pt x="159" y="1476"/>
                    </a:lnTo>
                    <a:lnTo>
                      <a:pt x="131" y="1474"/>
                    </a:lnTo>
                    <a:lnTo>
                      <a:pt x="104" y="1471"/>
                    </a:lnTo>
                    <a:lnTo>
                      <a:pt x="79" y="1465"/>
                    </a:lnTo>
                    <a:lnTo>
                      <a:pt x="68" y="1463"/>
                    </a:lnTo>
                    <a:lnTo>
                      <a:pt x="57" y="1459"/>
                    </a:lnTo>
                    <a:lnTo>
                      <a:pt x="48" y="1455"/>
                    </a:lnTo>
                    <a:lnTo>
                      <a:pt x="38" y="1450"/>
                    </a:lnTo>
                    <a:lnTo>
                      <a:pt x="30" y="1446"/>
                    </a:lnTo>
                    <a:lnTo>
                      <a:pt x="24" y="1440"/>
                    </a:lnTo>
                    <a:lnTo>
                      <a:pt x="20" y="1433"/>
                    </a:lnTo>
                    <a:lnTo>
                      <a:pt x="15" y="1427"/>
                    </a:lnTo>
                    <a:lnTo>
                      <a:pt x="10" y="1413"/>
                    </a:lnTo>
                    <a:lnTo>
                      <a:pt x="5" y="1399"/>
                    </a:lnTo>
                    <a:lnTo>
                      <a:pt x="2" y="1383"/>
                    </a:lnTo>
                    <a:lnTo>
                      <a:pt x="0" y="1368"/>
                    </a:lnTo>
                    <a:lnTo>
                      <a:pt x="0" y="1352"/>
                    </a:lnTo>
                    <a:lnTo>
                      <a:pt x="2" y="1334"/>
                    </a:lnTo>
                    <a:lnTo>
                      <a:pt x="5" y="1314"/>
                    </a:lnTo>
                    <a:lnTo>
                      <a:pt x="10" y="1291"/>
                    </a:lnTo>
                    <a:lnTo>
                      <a:pt x="16" y="1265"/>
                    </a:lnTo>
                    <a:lnTo>
                      <a:pt x="25" y="1234"/>
                    </a:lnTo>
                    <a:lnTo>
                      <a:pt x="35" y="1200"/>
                    </a:lnTo>
                    <a:lnTo>
                      <a:pt x="47" y="1161"/>
                    </a:lnTo>
                    <a:lnTo>
                      <a:pt x="77" y="1067"/>
                    </a:lnTo>
                    <a:lnTo>
                      <a:pt x="115" y="947"/>
                    </a:lnTo>
                    <a:lnTo>
                      <a:pt x="125" y="914"/>
                    </a:lnTo>
                    <a:lnTo>
                      <a:pt x="137" y="880"/>
                    </a:lnTo>
                    <a:lnTo>
                      <a:pt x="151" y="846"/>
                    </a:lnTo>
                    <a:lnTo>
                      <a:pt x="166" y="812"/>
                    </a:lnTo>
                    <a:lnTo>
                      <a:pt x="182" y="778"/>
                    </a:lnTo>
                    <a:lnTo>
                      <a:pt x="199" y="743"/>
                    </a:lnTo>
                    <a:lnTo>
                      <a:pt x="216" y="709"/>
                    </a:lnTo>
                    <a:lnTo>
                      <a:pt x="235" y="676"/>
                    </a:lnTo>
                    <a:lnTo>
                      <a:pt x="254" y="643"/>
                    </a:lnTo>
                    <a:lnTo>
                      <a:pt x="273" y="609"/>
                    </a:lnTo>
                    <a:lnTo>
                      <a:pt x="294" y="576"/>
                    </a:lnTo>
                    <a:lnTo>
                      <a:pt x="316" y="544"/>
                    </a:lnTo>
                    <a:lnTo>
                      <a:pt x="336" y="512"/>
                    </a:lnTo>
                    <a:lnTo>
                      <a:pt x="359" y="481"/>
                    </a:lnTo>
                    <a:lnTo>
                      <a:pt x="380" y="450"/>
                    </a:lnTo>
                    <a:lnTo>
                      <a:pt x="403" y="421"/>
                    </a:lnTo>
                    <a:lnTo>
                      <a:pt x="426" y="392"/>
                    </a:lnTo>
                    <a:lnTo>
                      <a:pt x="448" y="365"/>
                    </a:lnTo>
                    <a:lnTo>
                      <a:pt x="471" y="338"/>
                    </a:lnTo>
                    <a:lnTo>
                      <a:pt x="494" y="312"/>
                    </a:lnTo>
                    <a:lnTo>
                      <a:pt x="515" y="288"/>
                    </a:lnTo>
                    <a:lnTo>
                      <a:pt x="538" y="265"/>
                    </a:lnTo>
                    <a:lnTo>
                      <a:pt x="560" y="243"/>
                    </a:lnTo>
                    <a:lnTo>
                      <a:pt x="581" y="222"/>
                    </a:lnTo>
                    <a:lnTo>
                      <a:pt x="603" y="204"/>
                    </a:lnTo>
                    <a:lnTo>
                      <a:pt x="623" y="186"/>
                    </a:lnTo>
                    <a:lnTo>
                      <a:pt x="643" y="171"/>
                    </a:lnTo>
                    <a:lnTo>
                      <a:pt x="662" y="157"/>
                    </a:lnTo>
                    <a:lnTo>
                      <a:pt x="682" y="145"/>
                    </a:lnTo>
                    <a:lnTo>
                      <a:pt x="699" y="134"/>
                    </a:lnTo>
                    <a:lnTo>
                      <a:pt x="716" y="125"/>
                    </a:lnTo>
                    <a:lnTo>
                      <a:pt x="733" y="119"/>
                    </a:lnTo>
                    <a:lnTo>
                      <a:pt x="760" y="109"/>
                    </a:lnTo>
                    <a:lnTo>
                      <a:pt x="787" y="98"/>
                    </a:lnTo>
                    <a:lnTo>
                      <a:pt x="812" y="86"/>
                    </a:lnTo>
                    <a:lnTo>
                      <a:pt x="838" y="74"/>
                    </a:lnTo>
                    <a:lnTo>
                      <a:pt x="890" y="52"/>
                    </a:lnTo>
                    <a:lnTo>
                      <a:pt x="942" y="30"/>
                    </a:lnTo>
                    <a:lnTo>
                      <a:pt x="968" y="20"/>
                    </a:lnTo>
                    <a:lnTo>
                      <a:pt x="994" y="13"/>
                    </a:lnTo>
                    <a:lnTo>
                      <a:pt x="1021" y="6"/>
                    </a:lnTo>
                    <a:lnTo>
                      <a:pt x="1047" y="2"/>
                    </a:lnTo>
                    <a:lnTo>
                      <a:pt x="1061" y="1"/>
                    </a:lnTo>
                    <a:lnTo>
                      <a:pt x="1074" y="0"/>
                    </a:lnTo>
                    <a:lnTo>
                      <a:pt x="1088" y="0"/>
                    </a:lnTo>
                    <a:lnTo>
                      <a:pt x="1101" y="0"/>
                    </a:lnTo>
                    <a:lnTo>
                      <a:pt x="1115" y="1"/>
                    </a:lnTo>
                    <a:lnTo>
                      <a:pt x="1129" y="2"/>
                    </a:lnTo>
                    <a:lnTo>
                      <a:pt x="1143" y="5"/>
                    </a:lnTo>
                    <a:lnTo>
                      <a:pt x="1158" y="7"/>
                    </a:lnTo>
                    <a:lnTo>
                      <a:pt x="1168" y="13"/>
                    </a:lnTo>
                    <a:lnTo>
                      <a:pt x="1175" y="18"/>
                    </a:lnTo>
                    <a:lnTo>
                      <a:pt x="1179" y="23"/>
                    </a:lnTo>
                    <a:lnTo>
                      <a:pt x="1182" y="26"/>
                    </a:lnTo>
                    <a:lnTo>
                      <a:pt x="1184" y="30"/>
                    </a:lnTo>
                    <a:lnTo>
                      <a:pt x="1186" y="34"/>
                    </a:lnTo>
                    <a:lnTo>
                      <a:pt x="1187" y="39"/>
                    </a:lnTo>
                    <a:lnTo>
                      <a:pt x="1188" y="43"/>
                    </a:lnTo>
                    <a:lnTo>
                      <a:pt x="1188" y="47"/>
                    </a:lnTo>
                    <a:lnTo>
                      <a:pt x="1187" y="52"/>
                    </a:lnTo>
                    <a:lnTo>
                      <a:pt x="1186" y="57"/>
                    </a:lnTo>
                    <a:lnTo>
                      <a:pt x="1185" y="61"/>
                    </a:lnTo>
                    <a:lnTo>
                      <a:pt x="1183" y="67"/>
                    </a:lnTo>
                    <a:lnTo>
                      <a:pt x="1180" y="72"/>
                    </a:lnTo>
                    <a:lnTo>
                      <a:pt x="1171" y="82"/>
                    </a:lnTo>
                    <a:lnTo>
                      <a:pt x="1160" y="92"/>
                    </a:lnTo>
                    <a:lnTo>
                      <a:pt x="1147" y="101"/>
                    </a:lnTo>
                    <a:lnTo>
                      <a:pt x="1130" y="111"/>
                    </a:lnTo>
                    <a:lnTo>
                      <a:pt x="1110" y="120"/>
                    </a:lnTo>
                    <a:lnTo>
                      <a:pt x="1087" y="128"/>
                    </a:lnTo>
                    <a:lnTo>
                      <a:pt x="1060" y="135"/>
                    </a:lnTo>
                    <a:lnTo>
                      <a:pt x="1030" y="141"/>
                    </a:lnTo>
                    <a:lnTo>
                      <a:pt x="1013" y="145"/>
                    </a:lnTo>
                    <a:lnTo>
                      <a:pt x="1002" y="149"/>
                    </a:lnTo>
                    <a:lnTo>
                      <a:pt x="997" y="150"/>
                    </a:lnTo>
                    <a:lnTo>
                      <a:pt x="994" y="152"/>
                    </a:lnTo>
                    <a:lnTo>
                      <a:pt x="992" y="154"/>
                    </a:lnTo>
                    <a:lnTo>
                      <a:pt x="991" y="158"/>
                    </a:lnTo>
                    <a:lnTo>
                      <a:pt x="992" y="160"/>
                    </a:lnTo>
                    <a:lnTo>
                      <a:pt x="993" y="163"/>
                    </a:lnTo>
                    <a:lnTo>
                      <a:pt x="995" y="167"/>
                    </a:lnTo>
                    <a:lnTo>
                      <a:pt x="999" y="171"/>
                    </a:lnTo>
                    <a:lnTo>
                      <a:pt x="1011" y="180"/>
                    </a:lnTo>
                    <a:lnTo>
                      <a:pt x="1030" y="193"/>
                    </a:lnTo>
                    <a:lnTo>
                      <a:pt x="1041" y="201"/>
                    </a:lnTo>
                    <a:lnTo>
                      <a:pt x="1053" y="207"/>
                    </a:lnTo>
                    <a:lnTo>
                      <a:pt x="1065" y="212"/>
                    </a:lnTo>
                    <a:lnTo>
                      <a:pt x="1077" y="216"/>
                    </a:lnTo>
                    <a:lnTo>
                      <a:pt x="1089" y="219"/>
                    </a:lnTo>
                    <a:lnTo>
                      <a:pt x="1102" y="221"/>
                    </a:lnTo>
                    <a:lnTo>
                      <a:pt x="1114" y="222"/>
                    </a:lnTo>
                    <a:lnTo>
                      <a:pt x="1126" y="223"/>
                    </a:lnTo>
                    <a:lnTo>
                      <a:pt x="1151" y="225"/>
                    </a:lnTo>
                    <a:lnTo>
                      <a:pt x="1174" y="225"/>
                    </a:lnTo>
                    <a:lnTo>
                      <a:pt x="1199" y="226"/>
                    </a:lnTo>
                    <a:lnTo>
                      <a:pt x="1224" y="228"/>
                    </a:lnTo>
                    <a:lnTo>
                      <a:pt x="1239" y="230"/>
                    </a:lnTo>
                    <a:lnTo>
                      <a:pt x="1253" y="230"/>
                    </a:lnTo>
                    <a:lnTo>
                      <a:pt x="1268" y="228"/>
                    </a:lnTo>
                    <a:lnTo>
                      <a:pt x="1282" y="225"/>
                    </a:lnTo>
                    <a:lnTo>
                      <a:pt x="1312" y="217"/>
                    </a:lnTo>
                    <a:lnTo>
                      <a:pt x="1341" y="208"/>
                    </a:lnTo>
                    <a:lnTo>
                      <a:pt x="1355" y="205"/>
                    </a:lnTo>
                    <a:lnTo>
                      <a:pt x="1369" y="202"/>
                    </a:lnTo>
                    <a:lnTo>
                      <a:pt x="1383" y="201"/>
                    </a:lnTo>
                    <a:lnTo>
                      <a:pt x="1397" y="201"/>
                    </a:lnTo>
                    <a:lnTo>
                      <a:pt x="1403" y="202"/>
                    </a:lnTo>
                    <a:lnTo>
                      <a:pt x="1410" y="203"/>
                    </a:lnTo>
                    <a:lnTo>
                      <a:pt x="1417" y="204"/>
                    </a:lnTo>
                    <a:lnTo>
                      <a:pt x="1424" y="206"/>
                    </a:lnTo>
                    <a:lnTo>
                      <a:pt x="1430" y="209"/>
                    </a:lnTo>
                    <a:lnTo>
                      <a:pt x="1437" y="214"/>
                    </a:lnTo>
                    <a:lnTo>
                      <a:pt x="1443" y="218"/>
                    </a:lnTo>
                    <a:lnTo>
                      <a:pt x="1450" y="222"/>
                    </a:lnTo>
                    <a:lnTo>
                      <a:pt x="1436" y="233"/>
                    </a:lnTo>
                    <a:lnTo>
                      <a:pt x="1422" y="245"/>
                    </a:lnTo>
                    <a:lnTo>
                      <a:pt x="1408" y="257"/>
                    </a:lnTo>
                    <a:lnTo>
                      <a:pt x="1395" y="269"/>
                    </a:lnTo>
                    <a:lnTo>
                      <a:pt x="1381" y="280"/>
                    </a:lnTo>
                    <a:lnTo>
                      <a:pt x="1368" y="292"/>
                    </a:lnTo>
                    <a:lnTo>
                      <a:pt x="1356" y="302"/>
                    </a:lnTo>
                    <a:lnTo>
                      <a:pt x="1343" y="312"/>
                    </a:lnTo>
                    <a:close/>
                  </a:path>
                </a:pathLst>
              </a:custGeom>
              <a:solidFill>
                <a:srgbClr val="94c3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5761080" y="3198960"/>
                <a:ext cx="511200" cy="460440"/>
              </a:xfrm>
              <a:custGeom>
                <a:avLst/>
                <a:gdLst/>
                <a:ahLst/>
                <a:rect l="l" t="t" r="r" b="b"/>
                <a:pathLst>
                  <a:path w="1610" h="1453">
                    <a:moveTo>
                      <a:pt x="1318" y="300"/>
                    </a:moveTo>
                    <a:lnTo>
                      <a:pt x="1349" y="304"/>
                    </a:lnTo>
                    <a:lnTo>
                      <a:pt x="1382" y="310"/>
                    </a:lnTo>
                    <a:lnTo>
                      <a:pt x="1413" y="315"/>
                    </a:lnTo>
                    <a:lnTo>
                      <a:pt x="1444" y="322"/>
                    </a:lnTo>
                    <a:lnTo>
                      <a:pt x="1476" y="328"/>
                    </a:lnTo>
                    <a:lnTo>
                      <a:pt x="1506" y="336"/>
                    </a:lnTo>
                    <a:lnTo>
                      <a:pt x="1537" y="342"/>
                    </a:lnTo>
                    <a:lnTo>
                      <a:pt x="1568" y="350"/>
                    </a:lnTo>
                    <a:lnTo>
                      <a:pt x="1574" y="352"/>
                    </a:lnTo>
                    <a:lnTo>
                      <a:pt x="1579" y="355"/>
                    </a:lnTo>
                    <a:lnTo>
                      <a:pt x="1586" y="358"/>
                    </a:lnTo>
                    <a:lnTo>
                      <a:pt x="1591" y="363"/>
                    </a:lnTo>
                    <a:lnTo>
                      <a:pt x="1596" y="368"/>
                    </a:lnTo>
                    <a:lnTo>
                      <a:pt x="1600" y="374"/>
                    </a:lnTo>
                    <a:lnTo>
                      <a:pt x="1604" y="380"/>
                    </a:lnTo>
                    <a:lnTo>
                      <a:pt x="1606" y="386"/>
                    </a:lnTo>
                    <a:lnTo>
                      <a:pt x="1609" y="394"/>
                    </a:lnTo>
                    <a:lnTo>
                      <a:pt x="1610" y="400"/>
                    </a:lnTo>
                    <a:lnTo>
                      <a:pt x="1610" y="408"/>
                    </a:lnTo>
                    <a:lnTo>
                      <a:pt x="1608" y="414"/>
                    </a:lnTo>
                    <a:lnTo>
                      <a:pt x="1605" y="421"/>
                    </a:lnTo>
                    <a:lnTo>
                      <a:pt x="1601" y="427"/>
                    </a:lnTo>
                    <a:lnTo>
                      <a:pt x="1596" y="433"/>
                    </a:lnTo>
                    <a:lnTo>
                      <a:pt x="1588" y="438"/>
                    </a:lnTo>
                    <a:lnTo>
                      <a:pt x="1555" y="462"/>
                    </a:lnTo>
                    <a:lnTo>
                      <a:pt x="1466" y="526"/>
                    </a:lnTo>
                    <a:lnTo>
                      <a:pt x="1339" y="616"/>
                    </a:lnTo>
                    <a:lnTo>
                      <a:pt x="1186" y="724"/>
                    </a:lnTo>
                    <a:lnTo>
                      <a:pt x="1026" y="839"/>
                    </a:lnTo>
                    <a:lnTo>
                      <a:pt x="875" y="947"/>
                    </a:lnTo>
                    <a:lnTo>
                      <a:pt x="748" y="1038"/>
                    </a:lnTo>
                    <a:lnTo>
                      <a:pt x="660" y="1101"/>
                    </a:lnTo>
                    <a:lnTo>
                      <a:pt x="629" y="1125"/>
                    </a:lnTo>
                    <a:lnTo>
                      <a:pt x="599" y="1152"/>
                    </a:lnTo>
                    <a:lnTo>
                      <a:pt x="568" y="1179"/>
                    </a:lnTo>
                    <a:lnTo>
                      <a:pt x="539" y="1207"/>
                    </a:lnTo>
                    <a:lnTo>
                      <a:pt x="511" y="1236"/>
                    </a:lnTo>
                    <a:lnTo>
                      <a:pt x="484" y="1265"/>
                    </a:lnTo>
                    <a:lnTo>
                      <a:pt x="459" y="1294"/>
                    </a:lnTo>
                    <a:lnTo>
                      <a:pt x="435" y="1321"/>
                    </a:lnTo>
                    <a:lnTo>
                      <a:pt x="394" y="1370"/>
                    </a:lnTo>
                    <a:lnTo>
                      <a:pt x="364" y="1410"/>
                    </a:lnTo>
                    <a:lnTo>
                      <a:pt x="344" y="1437"/>
                    </a:lnTo>
                    <a:lnTo>
                      <a:pt x="337" y="1447"/>
                    </a:lnTo>
                    <a:lnTo>
                      <a:pt x="324" y="1448"/>
                    </a:lnTo>
                    <a:lnTo>
                      <a:pt x="291" y="1451"/>
                    </a:lnTo>
                    <a:lnTo>
                      <a:pt x="243" y="1453"/>
                    </a:lnTo>
                    <a:lnTo>
                      <a:pt x="188" y="1453"/>
                    </a:lnTo>
                    <a:lnTo>
                      <a:pt x="159" y="1452"/>
                    </a:lnTo>
                    <a:lnTo>
                      <a:pt x="131" y="1450"/>
                    </a:lnTo>
                    <a:lnTo>
                      <a:pt x="104" y="1447"/>
                    </a:lnTo>
                    <a:lnTo>
                      <a:pt x="79" y="1441"/>
                    </a:lnTo>
                    <a:lnTo>
                      <a:pt x="68" y="1439"/>
                    </a:lnTo>
                    <a:lnTo>
                      <a:pt x="57" y="1435"/>
                    </a:lnTo>
                    <a:lnTo>
                      <a:pt x="48" y="1431"/>
                    </a:lnTo>
                    <a:lnTo>
                      <a:pt x="38" y="1426"/>
                    </a:lnTo>
                    <a:lnTo>
                      <a:pt x="30" y="1422"/>
                    </a:lnTo>
                    <a:lnTo>
                      <a:pt x="24" y="1416"/>
                    </a:lnTo>
                    <a:lnTo>
                      <a:pt x="20" y="1409"/>
                    </a:lnTo>
                    <a:lnTo>
                      <a:pt x="15" y="1403"/>
                    </a:lnTo>
                    <a:lnTo>
                      <a:pt x="10" y="1389"/>
                    </a:lnTo>
                    <a:lnTo>
                      <a:pt x="5" y="1375"/>
                    </a:lnTo>
                    <a:lnTo>
                      <a:pt x="2" y="1359"/>
                    </a:lnTo>
                    <a:lnTo>
                      <a:pt x="0" y="1344"/>
                    </a:lnTo>
                    <a:lnTo>
                      <a:pt x="0" y="1328"/>
                    </a:lnTo>
                    <a:lnTo>
                      <a:pt x="2" y="1310"/>
                    </a:lnTo>
                    <a:lnTo>
                      <a:pt x="5" y="1290"/>
                    </a:lnTo>
                    <a:lnTo>
                      <a:pt x="10" y="1267"/>
                    </a:lnTo>
                    <a:lnTo>
                      <a:pt x="16" y="1241"/>
                    </a:lnTo>
                    <a:lnTo>
                      <a:pt x="25" y="1210"/>
                    </a:lnTo>
                    <a:lnTo>
                      <a:pt x="35" y="1176"/>
                    </a:lnTo>
                    <a:lnTo>
                      <a:pt x="47" y="1137"/>
                    </a:lnTo>
                    <a:lnTo>
                      <a:pt x="77" y="1043"/>
                    </a:lnTo>
                    <a:lnTo>
                      <a:pt x="115" y="923"/>
                    </a:lnTo>
                    <a:lnTo>
                      <a:pt x="125" y="890"/>
                    </a:lnTo>
                    <a:lnTo>
                      <a:pt x="137" y="856"/>
                    </a:lnTo>
                    <a:lnTo>
                      <a:pt x="151" y="823"/>
                    </a:lnTo>
                    <a:lnTo>
                      <a:pt x="166" y="788"/>
                    </a:lnTo>
                    <a:lnTo>
                      <a:pt x="182" y="755"/>
                    </a:lnTo>
                    <a:lnTo>
                      <a:pt x="199" y="721"/>
                    </a:lnTo>
                    <a:lnTo>
                      <a:pt x="216" y="687"/>
                    </a:lnTo>
                    <a:lnTo>
                      <a:pt x="235" y="653"/>
                    </a:lnTo>
                    <a:lnTo>
                      <a:pt x="254" y="621"/>
                    </a:lnTo>
                    <a:lnTo>
                      <a:pt x="273" y="587"/>
                    </a:lnTo>
                    <a:lnTo>
                      <a:pt x="294" y="555"/>
                    </a:lnTo>
                    <a:lnTo>
                      <a:pt x="316" y="523"/>
                    </a:lnTo>
                    <a:lnTo>
                      <a:pt x="336" y="492"/>
                    </a:lnTo>
                    <a:lnTo>
                      <a:pt x="359" y="462"/>
                    </a:lnTo>
                    <a:lnTo>
                      <a:pt x="380" y="432"/>
                    </a:lnTo>
                    <a:lnTo>
                      <a:pt x="403" y="403"/>
                    </a:lnTo>
                    <a:lnTo>
                      <a:pt x="426" y="374"/>
                    </a:lnTo>
                    <a:lnTo>
                      <a:pt x="448" y="347"/>
                    </a:lnTo>
                    <a:lnTo>
                      <a:pt x="471" y="322"/>
                    </a:lnTo>
                    <a:lnTo>
                      <a:pt x="494" y="296"/>
                    </a:lnTo>
                    <a:lnTo>
                      <a:pt x="515" y="272"/>
                    </a:lnTo>
                    <a:lnTo>
                      <a:pt x="538" y="249"/>
                    </a:lnTo>
                    <a:lnTo>
                      <a:pt x="560" y="228"/>
                    </a:lnTo>
                    <a:lnTo>
                      <a:pt x="581" y="208"/>
                    </a:lnTo>
                    <a:lnTo>
                      <a:pt x="603" y="189"/>
                    </a:lnTo>
                    <a:lnTo>
                      <a:pt x="623" y="172"/>
                    </a:lnTo>
                    <a:lnTo>
                      <a:pt x="643" y="156"/>
                    </a:lnTo>
                    <a:lnTo>
                      <a:pt x="662" y="142"/>
                    </a:lnTo>
                    <a:lnTo>
                      <a:pt x="682" y="130"/>
                    </a:lnTo>
                    <a:lnTo>
                      <a:pt x="699" y="120"/>
                    </a:lnTo>
                    <a:lnTo>
                      <a:pt x="716" y="112"/>
                    </a:lnTo>
                    <a:lnTo>
                      <a:pt x="733" y="106"/>
                    </a:lnTo>
                    <a:lnTo>
                      <a:pt x="756" y="96"/>
                    </a:lnTo>
                    <a:lnTo>
                      <a:pt x="780" y="86"/>
                    </a:lnTo>
                    <a:lnTo>
                      <a:pt x="804" y="76"/>
                    </a:lnTo>
                    <a:lnTo>
                      <a:pt x="827" y="66"/>
                    </a:lnTo>
                    <a:lnTo>
                      <a:pt x="871" y="45"/>
                    </a:lnTo>
                    <a:lnTo>
                      <a:pt x="915" y="27"/>
                    </a:lnTo>
                    <a:lnTo>
                      <a:pt x="937" y="19"/>
                    </a:lnTo>
                    <a:lnTo>
                      <a:pt x="958" y="12"/>
                    </a:lnTo>
                    <a:lnTo>
                      <a:pt x="980" y="6"/>
                    </a:lnTo>
                    <a:lnTo>
                      <a:pt x="1003" y="3"/>
                    </a:lnTo>
                    <a:lnTo>
                      <a:pt x="1024" y="0"/>
                    </a:lnTo>
                    <a:lnTo>
                      <a:pt x="1047" y="0"/>
                    </a:lnTo>
                    <a:lnTo>
                      <a:pt x="1059" y="1"/>
                    </a:lnTo>
                    <a:lnTo>
                      <a:pt x="1070" y="2"/>
                    </a:lnTo>
                    <a:lnTo>
                      <a:pt x="1081" y="4"/>
                    </a:lnTo>
                    <a:lnTo>
                      <a:pt x="1093" y="6"/>
                    </a:lnTo>
                    <a:lnTo>
                      <a:pt x="1101" y="9"/>
                    </a:lnTo>
                    <a:lnTo>
                      <a:pt x="1107" y="15"/>
                    </a:lnTo>
                    <a:lnTo>
                      <a:pt x="1113" y="20"/>
                    </a:lnTo>
                    <a:lnTo>
                      <a:pt x="1116" y="27"/>
                    </a:lnTo>
                    <a:lnTo>
                      <a:pt x="1117" y="34"/>
                    </a:lnTo>
                    <a:lnTo>
                      <a:pt x="1117" y="43"/>
                    </a:lnTo>
                    <a:lnTo>
                      <a:pt x="1115" y="52"/>
                    </a:lnTo>
                    <a:lnTo>
                      <a:pt x="1111" y="61"/>
                    </a:lnTo>
                    <a:lnTo>
                      <a:pt x="1104" y="70"/>
                    </a:lnTo>
                    <a:lnTo>
                      <a:pt x="1095" y="80"/>
                    </a:lnTo>
                    <a:lnTo>
                      <a:pt x="1084" y="88"/>
                    </a:lnTo>
                    <a:lnTo>
                      <a:pt x="1070" y="97"/>
                    </a:lnTo>
                    <a:lnTo>
                      <a:pt x="1052" y="106"/>
                    </a:lnTo>
                    <a:lnTo>
                      <a:pt x="1032" y="112"/>
                    </a:lnTo>
                    <a:lnTo>
                      <a:pt x="1009" y="120"/>
                    </a:lnTo>
                    <a:lnTo>
                      <a:pt x="982" y="125"/>
                    </a:lnTo>
                    <a:lnTo>
                      <a:pt x="973" y="126"/>
                    </a:lnTo>
                    <a:lnTo>
                      <a:pt x="967" y="128"/>
                    </a:lnTo>
                    <a:lnTo>
                      <a:pt x="962" y="130"/>
                    </a:lnTo>
                    <a:lnTo>
                      <a:pt x="957" y="133"/>
                    </a:lnTo>
                    <a:lnTo>
                      <a:pt x="954" y="135"/>
                    </a:lnTo>
                    <a:lnTo>
                      <a:pt x="953" y="137"/>
                    </a:lnTo>
                    <a:lnTo>
                      <a:pt x="953" y="140"/>
                    </a:lnTo>
                    <a:lnTo>
                      <a:pt x="955" y="143"/>
                    </a:lnTo>
                    <a:lnTo>
                      <a:pt x="960" y="152"/>
                    </a:lnTo>
                    <a:lnTo>
                      <a:pt x="972" y="162"/>
                    </a:lnTo>
                    <a:lnTo>
                      <a:pt x="987" y="172"/>
                    </a:lnTo>
                    <a:lnTo>
                      <a:pt x="1007" y="187"/>
                    </a:lnTo>
                    <a:lnTo>
                      <a:pt x="1019" y="194"/>
                    </a:lnTo>
                    <a:lnTo>
                      <a:pt x="1031" y="201"/>
                    </a:lnTo>
                    <a:lnTo>
                      <a:pt x="1044" y="206"/>
                    </a:lnTo>
                    <a:lnTo>
                      <a:pt x="1056" y="209"/>
                    </a:lnTo>
                    <a:lnTo>
                      <a:pt x="1067" y="212"/>
                    </a:lnTo>
                    <a:lnTo>
                      <a:pt x="1080" y="215"/>
                    </a:lnTo>
                    <a:lnTo>
                      <a:pt x="1092" y="216"/>
                    </a:lnTo>
                    <a:lnTo>
                      <a:pt x="1104" y="217"/>
                    </a:lnTo>
                    <a:lnTo>
                      <a:pt x="1129" y="218"/>
                    </a:lnTo>
                    <a:lnTo>
                      <a:pt x="1154" y="218"/>
                    </a:lnTo>
                    <a:lnTo>
                      <a:pt x="1178" y="219"/>
                    </a:lnTo>
                    <a:lnTo>
                      <a:pt x="1202" y="221"/>
                    </a:lnTo>
                    <a:lnTo>
                      <a:pt x="1216" y="222"/>
                    </a:lnTo>
                    <a:lnTo>
                      <a:pt x="1231" y="222"/>
                    </a:lnTo>
                    <a:lnTo>
                      <a:pt x="1246" y="220"/>
                    </a:lnTo>
                    <a:lnTo>
                      <a:pt x="1260" y="217"/>
                    </a:lnTo>
                    <a:lnTo>
                      <a:pt x="1288" y="208"/>
                    </a:lnTo>
                    <a:lnTo>
                      <a:pt x="1316" y="199"/>
                    </a:lnTo>
                    <a:lnTo>
                      <a:pt x="1330" y="196"/>
                    </a:lnTo>
                    <a:lnTo>
                      <a:pt x="1344" y="193"/>
                    </a:lnTo>
                    <a:lnTo>
                      <a:pt x="1357" y="192"/>
                    </a:lnTo>
                    <a:lnTo>
                      <a:pt x="1370" y="192"/>
                    </a:lnTo>
                    <a:lnTo>
                      <a:pt x="1377" y="192"/>
                    </a:lnTo>
                    <a:lnTo>
                      <a:pt x="1384" y="193"/>
                    </a:lnTo>
                    <a:lnTo>
                      <a:pt x="1390" y="195"/>
                    </a:lnTo>
                    <a:lnTo>
                      <a:pt x="1397" y="197"/>
                    </a:lnTo>
                    <a:lnTo>
                      <a:pt x="1403" y="201"/>
                    </a:lnTo>
                    <a:lnTo>
                      <a:pt x="1410" y="204"/>
                    </a:lnTo>
                    <a:lnTo>
                      <a:pt x="1416" y="208"/>
                    </a:lnTo>
                    <a:lnTo>
                      <a:pt x="1422" y="214"/>
                    </a:lnTo>
                    <a:lnTo>
                      <a:pt x="1408" y="224"/>
                    </a:lnTo>
                    <a:lnTo>
                      <a:pt x="1393" y="235"/>
                    </a:lnTo>
                    <a:lnTo>
                      <a:pt x="1379" y="247"/>
                    </a:lnTo>
                    <a:lnTo>
                      <a:pt x="1364" y="259"/>
                    </a:lnTo>
                    <a:lnTo>
                      <a:pt x="1352" y="271"/>
                    </a:lnTo>
                    <a:lnTo>
                      <a:pt x="1340" y="282"/>
                    </a:lnTo>
                    <a:lnTo>
                      <a:pt x="1328" y="291"/>
                    </a:lnTo>
                    <a:lnTo>
                      <a:pt x="1318" y="300"/>
                    </a:lnTo>
                    <a:close/>
                  </a:path>
                </a:pathLst>
              </a:custGeom>
              <a:solidFill>
                <a:srgbClr val="8eba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5761080" y="3205080"/>
                <a:ext cx="509400" cy="454320"/>
              </a:xfrm>
              <a:custGeom>
                <a:avLst/>
                <a:gdLst/>
                <a:ahLst/>
                <a:rect l="l" t="t" r="r" b="b"/>
                <a:pathLst>
                  <a:path w="1604" h="1430">
                    <a:moveTo>
                      <a:pt x="1293" y="292"/>
                    </a:moveTo>
                    <a:lnTo>
                      <a:pt x="1326" y="296"/>
                    </a:lnTo>
                    <a:lnTo>
                      <a:pt x="1358" y="302"/>
                    </a:lnTo>
                    <a:lnTo>
                      <a:pt x="1389" y="307"/>
                    </a:lnTo>
                    <a:lnTo>
                      <a:pt x="1421" y="314"/>
                    </a:lnTo>
                    <a:lnTo>
                      <a:pt x="1451" y="321"/>
                    </a:lnTo>
                    <a:lnTo>
                      <a:pt x="1482" y="328"/>
                    </a:lnTo>
                    <a:lnTo>
                      <a:pt x="1512" y="335"/>
                    </a:lnTo>
                    <a:lnTo>
                      <a:pt x="1544" y="342"/>
                    </a:lnTo>
                    <a:lnTo>
                      <a:pt x="1557" y="346"/>
                    </a:lnTo>
                    <a:lnTo>
                      <a:pt x="1570" y="354"/>
                    </a:lnTo>
                    <a:lnTo>
                      <a:pt x="1577" y="358"/>
                    </a:lnTo>
                    <a:lnTo>
                      <a:pt x="1584" y="362"/>
                    </a:lnTo>
                    <a:lnTo>
                      <a:pt x="1589" y="367"/>
                    </a:lnTo>
                    <a:lnTo>
                      <a:pt x="1595" y="372"/>
                    </a:lnTo>
                    <a:lnTo>
                      <a:pt x="1599" y="377"/>
                    </a:lnTo>
                    <a:lnTo>
                      <a:pt x="1602" y="383"/>
                    </a:lnTo>
                    <a:lnTo>
                      <a:pt x="1603" y="388"/>
                    </a:lnTo>
                    <a:lnTo>
                      <a:pt x="1604" y="394"/>
                    </a:lnTo>
                    <a:lnTo>
                      <a:pt x="1603" y="400"/>
                    </a:lnTo>
                    <a:lnTo>
                      <a:pt x="1600" y="405"/>
                    </a:lnTo>
                    <a:lnTo>
                      <a:pt x="1595" y="411"/>
                    </a:lnTo>
                    <a:lnTo>
                      <a:pt x="1588" y="415"/>
                    </a:lnTo>
                    <a:lnTo>
                      <a:pt x="1555" y="439"/>
                    </a:lnTo>
                    <a:lnTo>
                      <a:pt x="1466" y="503"/>
                    </a:lnTo>
                    <a:lnTo>
                      <a:pt x="1339" y="593"/>
                    </a:lnTo>
                    <a:lnTo>
                      <a:pt x="1186" y="701"/>
                    </a:lnTo>
                    <a:lnTo>
                      <a:pt x="1026" y="816"/>
                    </a:lnTo>
                    <a:lnTo>
                      <a:pt x="875" y="924"/>
                    </a:lnTo>
                    <a:lnTo>
                      <a:pt x="748" y="1015"/>
                    </a:lnTo>
                    <a:lnTo>
                      <a:pt x="660" y="1078"/>
                    </a:lnTo>
                    <a:lnTo>
                      <a:pt x="629" y="1102"/>
                    </a:lnTo>
                    <a:lnTo>
                      <a:pt x="599" y="1129"/>
                    </a:lnTo>
                    <a:lnTo>
                      <a:pt x="568" y="1156"/>
                    </a:lnTo>
                    <a:lnTo>
                      <a:pt x="539" y="1184"/>
                    </a:lnTo>
                    <a:lnTo>
                      <a:pt x="511" y="1213"/>
                    </a:lnTo>
                    <a:lnTo>
                      <a:pt x="484" y="1242"/>
                    </a:lnTo>
                    <a:lnTo>
                      <a:pt x="459" y="1271"/>
                    </a:lnTo>
                    <a:lnTo>
                      <a:pt x="435" y="1298"/>
                    </a:lnTo>
                    <a:lnTo>
                      <a:pt x="394" y="1347"/>
                    </a:lnTo>
                    <a:lnTo>
                      <a:pt x="364" y="1387"/>
                    </a:lnTo>
                    <a:lnTo>
                      <a:pt x="344" y="1414"/>
                    </a:lnTo>
                    <a:lnTo>
                      <a:pt x="337" y="1424"/>
                    </a:lnTo>
                    <a:lnTo>
                      <a:pt x="324" y="1425"/>
                    </a:lnTo>
                    <a:lnTo>
                      <a:pt x="291" y="1428"/>
                    </a:lnTo>
                    <a:lnTo>
                      <a:pt x="243" y="1430"/>
                    </a:lnTo>
                    <a:lnTo>
                      <a:pt x="188" y="1430"/>
                    </a:lnTo>
                    <a:lnTo>
                      <a:pt x="159" y="1429"/>
                    </a:lnTo>
                    <a:lnTo>
                      <a:pt x="131" y="1427"/>
                    </a:lnTo>
                    <a:lnTo>
                      <a:pt x="104" y="1424"/>
                    </a:lnTo>
                    <a:lnTo>
                      <a:pt x="79" y="1418"/>
                    </a:lnTo>
                    <a:lnTo>
                      <a:pt x="68" y="1416"/>
                    </a:lnTo>
                    <a:lnTo>
                      <a:pt x="57" y="1412"/>
                    </a:lnTo>
                    <a:lnTo>
                      <a:pt x="48" y="1408"/>
                    </a:lnTo>
                    <a:lnTo>
                      <a:pt x="38" y="1403"/>
                    </a:lnTo>
                    <a:lnTo>
                      <a:pt x="30" y="1399"/>
                    </a:lnTo>
                    <a:lnTo>
                      <a:pt x="24" y="1393"/>
                    </a:lnTo>
                    <a:lnTo>
                      <a:pt x="20" y="1386"/>
                    </a:lnTo>
                    <a:lnTo>
                      <a:pt x="15" y="1380"/>
                    </a:lnTo>
                    <a:lnTo>
                      <a:pt x="10" y="1366"/>
                    </a:lnTo>
                    <a:lnTo>
                      <a:pt x="5" y="1352"/>
                    </a:lnTo>
                    <a:lnTo>
                      <a:pt x="2" y="1336"/>
                    </a:lnTo>
                    <a:lnTo>
                      <a:pt x="0" y="1321"/>
                    </a:lnTo>
                    <a:lnTo>
                      <a:pt x="0" y="1305"/>
                    </a:lnTo>
                    <a:lnTo>
                      <a:pt x="2" y="1287"/>
                    </a:lnTo>
                    <a:lnTo>
                      <a:pt x="5" y="1267"/>
                    </a:lnTo>
                    <a:lnTo>
                      <a:pt x="10" y="1244"/>
                    </a:lnTo>
                    <a:lnTo>
                      <a:pt x="16" y="1218"/>
                    </a:lnTo>
                    <a:lnTo>
                      <a:pt x="25" y="1187"/>
                    </a:lnTo>
                    <a:lnTo>
                      <a:pt x="35" y="1153"/>
                    </a:lnTo>
                    <a:lnTo>
                      <a:pt x="47" y="1114"/>
                    </a:lnTo>
                    <a:lnTo>
                      <a:pt x="77" y="1020"/>
                    </a:lnTo>
                    <a:lnTo>
                      <a:pt x="115" y="900"/>
                    </a:lnTo>
                    <a:lnTo>
                      <a:pt x="125" y="867"/>
                    </a:lnTo>
                    <a:lnTo>
                      <a:pt x="137" y="833"/>
                    </a:lnTo>
                    <a:lnTo>
                      <a:pt x="151" y="800"/>
                    </a:lnTo>
                    <a:lnTo>
                      <a:pt x="166" y="766"/>
                    </a:lnTo>
                    <a:lnTo>
                      <a:pt x="182" y="733"/>
                    </a:lnTo>
                    <a:lnTo>
                      <a:pt x="199" y="699"/>
                    </a:lnTo>
                    <a:lnTo>
                      <a:pt x="216" y="666"/>
                    </a:lnTo>
                    <a:lnTo>
                      <a:pt x="235" y="632"/>
                    </a:lnTo>
                    <a:lnTo>
                      <a:pt x="254" y="600"/>
                    </a:lnTo>
                    <a:lnTo>
                      <a:pt x="274" y="567"/>
                    </a:lnTo>
                    <a:lnTo>
                      <a:pt x="295" y="536"/>
                    </a:lnTo>
                    <a:lnTo>
                      <a:pt x="316" y="505"/>
                    </a:lnTo>
                    <a:lnTo>
                      <a:pt x="337" y="473"/>
                    </a:lnTo>
                    <a:lnTo>
                      <a:pt x="359" y="443"/>
                    </a:lnTo>
                    <a:lnTo>
                      <a:pt x="381" y="414"/>
                    </a:lnTo>
                    <a:lnTo>
                      <a:pt x="404" y="386"/>
                    </a:lnTo>
                    <a:lnTo>
                      <a:pt x="427" y="358"/>
                    </a:lnTo>
                    <a:lnTo>
                      <a:pt x="449" y="331"/>
                    </a:lnTo>
                    <a:lnTo>
                      <a:pt x="472" y="306"/>
                    </a:lnTo>
                    <a:lnTo>
                      <a:pt x="495" y="281"/>
                    </a:lnTo>
                    <a:lnTo>
                      <a:pt x="516" y="257"/>
                    </a:lnTo>
                    <a:lnTo>
                      <a:pt x="539" y="235"/>
                    </a:lnTo>
                    <a:lnTo>
                      <a:pt x="561" y="214"/>
                    </a:lnTo>
                    <a:lnTo>
                      <a:pt x="582" y="194"/>
                    </a:lnTo>
                    <a:lnTo>
                      <a:pt x="604" y="175"/>
                    </a:lnTo>
                    <a:lnTo>
                      <a:pt x="624" y="159"/>
                    </a:lnTo>
                    <a:lnTo>
                      <a:pt x="644" y="144"/>
                    </a:lnTo>
                    <a:lnTo>
                      <a:pt x="663" y="130"/>
                    </a:lnTo>
                    <a:lnTo>
                      <a:pt x="682" y="118"/>
                    </a:lnTo>
                    <a:lnTo>
                      <a:pt x="700" y="107"/>
                    </a:lnTo>
                    <a:lnTo>
                      <a:pt x="716" y="99"/>
                    </a:lnTo>
                    <a:lnTo>
                      <a:pt x="733" y="92"/>
                    </a:lnTo>
                    <a:lnTo>
                      <a:pt x="775" y="75"/>
                    </a:lnTo>
                    <a:lnTo>
                      <a:pt x="814" y="58"/>
                    </a:lnTo>
                    <a:lnTo>
                      <a:pt x="851" y="40"/>
                    </a:lnTo>
                    <a:lnTo>
                      <a:pt x="887" y="24"/>
                    </a:lnTo>
                    <a:lnTo>
                      <a:pt x="905" y="18"/>
                    </a:lnTo>
                    <a:lnTo>
                      <a:pt x="923" y="12"/>
                    </a:lnTo>
                    <a:lnTo>
                      <a:pt x="940" y="7"/>
                    </a:lnTo>
                    <a:lnTo>
                      <a:pt x="957" y="4"/>
                    </a:lnTo>
                    <a:lnTo>
                      <a:pt x="975" y="2"/>
                    </a:lnTo>
                    <a:lnTo>
                      <a:pt x="993" y="0"/>
                    </a:lnTo>
                    <a:lnTo>
                      <a:pt x="1011" y="3"/>
                    </a:lnTo>
                    <a:lnTo>
                      <a:pt x="1030" y="6"/>
                    </a:lnTo>
                    <a:lnTo>
                      <a:pt x="1035" y="8"/>
                    </a:lnTo>
                    <a:lnTo>
                      <a:pt x="1040" y="11"/>
                    </a:lnTo>
                    <a:lnTo>
                      <a:pt x="1044" y="17"/>
                    </a:lnTo>
                    <a:lnTo>
                      <a:pt x="1047" y="22"/>
                    </a:lnTo>
                    <a:lnTo>
                      <a:pt x="1048" y="29"/>
                    </a:lnTo>
                    <a:lnTo>
                      <a:pt x="1048" y="36"/>
                    </a:lnTo>
                    <a:lnTo>
                      <a:pt x="1046" y="44"/>
                    </a:lnTo>
                    <a:lnTo>
                      <a:pt x="1043" y="51"/>
                    </a:lnTo>
                    <a:lnTo>
                      <a:pt x="1036" y="60"/>
                    </a:lnTo>
                    <a:lnTo>
                      <a:pt x="1029" y="68"/>
                    </a:lnTo>
                    <a:lnTo>
                      <a:pt x="1019" y="76"/>
                    </a:lnTo>
                    <a:lnTo>
                      <a:pt x="1007" y="84"/>
                    </a:lnTo>
                    <a:lnTo>
                      <a:pt x="992" y="91"/>
                    </a:lnTo>
                    <a:lnTo>
                      <a:pt x="976" y="98"/>
                    </a:lnTo>
                    <a:lnTo>
                      <a:pt x="955" y="104"/>
                    </a:lnTo>
                    <a:lnTo>
                      <a:pt x="932" y="110"/>
                    </a:lnTo>
                    <a:lnTo>
                      <a:pt x="925" y="111"/>
                    </a:lnTo>
                    <a:lnTo>
                      <a:pt x="918" y="113"/>
                    </a:lnTo>
                    <a:lnTo>
                      <a:pt x="914" y="115"/>
                    </a:lnTo>
                    <a:lnTo>
                      <a:pt x="912" y="118"/>
                    </a:lnTo>
                    <a:lnTo>
                      <a:pt x="911" y="121"/>
                    </a:lnTo>
                    <a:lnTo>
                      <a:pt x="912" y="125"/>
                    </a:lnTo>
                    <a:lnTo>
                      <a:pt x="915" y="129"/>
                    </a:lnTo>
                    <a:lnTo>
                      <a:pt x="918" y="133"/>
                    </a:lnTo>
                    <a:lnTo>
                      <a:pt x="929" y="143"/>
                    </a:lnTo>
                    <a:lnTo>
                      <a:pt x="944" y="154"/>
                    </a:lnTo>
                    <a:lnTo>
                      <a:pt x="963" y="167"/>
                    </a:lnTo>
                    <a:lnTo>
                      <a:pt x="982" y="181"/>
                    </a:lnTo>
                    <a:lnTo>
                      <a:pt x="994" y="188"/>
                    </a:lnTo>
                    <a:lnTo>
                      <a:pt x="1007" y="195"/>
                    </a:lnTo>
                    <a:lnTo>
                      <a:pt x="1019" y="199"/>
                    </a:lnTo>
                    <a:lnTo>
                      <a:pt x="1031" y="203"/>
                    </a:lnTo>
                    <a:lnTo>
                      <a:pt x="1044" y="206"/>
                    </a:lnTo>
                    <a:lnTo>
                      <a:pt x="1056" y="208"/>
                    </a:lnTo>
                    <a:lnTo>
                      <a:pt x="1068" y="209"/>
                    </a:lnTo>
                    <a:lnTo>
                      <a:pt x="1081" y="210"/>
                    </a:lnTo>
                    <a:lnTo>
                      <a:pt x="1106" y="210"/>
                    </a:lnTo>
                    <a:lnTo>
                      <a:pt x="1131" y="210"/>
                    </a:lnTo>
                    <a:lnTo>
                      <a:pt x="1156" y="211"/>
                    </a:lnTo>
                    <a:lnTo>
                      <a:pt x="1180" y="213"/>
                    </a:lnTo>
                    <a:lnTo>
                      <a:pt x="1195" y="214"/>
                    </a:lnTo>
                    <a:lnTo>
                      <a:pt x="1209" y="214"/>
                    </a:lnTo>
                    <a:lnTo>
                      <a:pt x="1223" y="212"/>
                    </a:lnTo>
                    <a:lnTo>
                      <a:pt x="1237" y="209"/>
                    </a:lnTo>
                    <a:lnTo>
                      <a:pt x="1265" y="200"/>
                    </a:lnTo>
                    <a:lnTo>
                      <a:pt x="1292" y="192"/>
                    </a:lnTo>
                    <a:lnTo>
                      <a:pt x="1305" y="188"/>
                    </a:lnTo>
                    <a:lnTo>
                      <a:pt x="1318" y="185"/>
                    </a:lnTo>
                    <a:lnTo>
                      <a:pt x="1331" y="184"/>
                    </a:lnTo>
                    <a:lnTo>
                      <a:pt x="1344" y="183"/>
                    </a:lnTo>
                    <a:lnTo>
                      <a:pt x="1350" y="184"/>
                    </a:lnTo>
                    <a:lnTo>
                      <a:pt x="1357" y="185"/>
                    </a:lnTo>
                    <a:lnTo>
                      <a:pt x="1363" y="187"/>
                    </a:lnTo>
                    <a:lnTo>
                      <a:pt x="1370" y="189"/>
                    </a:lnTo>
                    <a:lnTo>
                      <a:pt x="1376" y="193"/>
                    </a:lnTo>
                    <a:lnTo>
                      <a:pt x="1383" y="196"/>
                    </a:lnTo>
                    <a:lnTo>
                      <a:pt x="1388" y="200"/>
                    </a:lnTo>
                    <a:lnTo>
                      <a:pt x="1395" y="206"/>
                    </a:lnTo>
                    <a:lnTo>
                      <a:pt x="1380" y="216"/>
                    </a:lnTo>
                    <a:lnTo>
                      <a:pt x="1364" y="227"/>
                    </a:lnTo>
                    <a:lnTo>
                      <a:pt x="1349" y="239"/>
                    </a:lnTo>
                    <a:lnTo>
                      <a:pt x="1335" y="251"/>
                    </a:lnTo>
                    <a:lnTo>
                      <a:pt x="1321" y="262"/>
                    </a:lnTo>
                    <a:lnTo>
                      <a:pt x="1310" y="273"/>
                    </a:lnTo>
                    <a:lnTo>
                      <a:pt x="1301" y="283"/>
                    </a:lnTo>
                    <a:lnTo>
                      <a:pt x="1293" y="292"/>
                    </a:lnTo>
                    <a:close/>
                  </a:path>
                </a:pathLst>
              </a:custGeom>
              <a:solidFill>
                <a:srgbClr val="85b2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5761080" y="3213000"/>
                <a:ext cx="509400" cy="446400"/>
              </a:xfrm>
              <a:custGeom>
                <a:avLst/>
                <a:gdLst/>
                <a:ahLst/>
                <a:rect l="l" t="t" r="r" b="b"/>
                <a:pathLst>
                  <a:path w="1601" h="1406">
                    <a:moveTo>
                      <a:pt x="1269" y="280"/>
                    </a:moveTo>
                    <a:lnTo>
                      <a:pt x="1301" y="285"/>
                    </a:lnTo>
                    <a:lnTo>
                      <a:pt x="1333" y="292"/>
                    </a:lnTo>
                    <a:lnTo>
                      <a:pt x="1364" y="298"/>
                    </a:lnTo>
                    <a:lnTo>
                      <a:pt x="1396" y="305"/>
                    </a:lnTo>
                    <a:lnTo>
                      <a:pt x="1426" y="312"/>
                    </a:lnTo>
                    <a:lnTo>
                      <a:pt x="1457" y="320"/>
                    </a:lnTo>
                    <a:lnTo>
                      <a:pt x="1488" y="327"/>
                    </a:lnTo>
                    <a:lnTo>
                      <a:pt x="1519" y="335"/>
                    </a:lnTo>
                    <a:lnTo>
                      <a:pt x="1533" y="338"/>
                    </a:lnTo>
                    <a:lnTo>
                      <a:pt x="1549" y="343"/>
                    </a:lnTo>
                    <a:lnTo>
                      <a:pt x="1566" y="349"/>
                    </a:lnTo>
                    <a:lnTo>
                      <a:pt x="1582" y="356"/>
                    </a:lnTo>
                    <a:lnTo>
                      <a:pt x="1588" y="360"/>
                    </a:lnTo>
                    <a:lnTo>
                      <a:pt x="1593" y="364"/>
                    </a:lnTo>
                    <a:lnTo>
                      <a:pt x="1598" y="368"/>
                    </a:lnTo>
                    <a:lnTo>
                      <a:pt x="1600" y="373"/>
                    </a:lnTo>
                    <a:lnTo>
                      <a:pt x="1601" y="377"/>
                    </a:lnTo>
                    <a:lnTo>
                      <a:pt x="1599" y="381"/>
                    </a:lnTo>
                    <a:lnTo>
                      <a:pt x="1595" y="387"/>
                    </a:lnTo>
                    <a:lnTo>
                      <a:pt x="1588" y="391"/>
                    </a:lnTo>
                    <a:lnTo>
                      <a:pt x="1555" y="415"/>
                    </a:lnTo>
                    <a:lnTo>
                      <a:pt x="1466" y="479"/>
                    </a:lnTo>
                    <a:lnTo>
                      <a:pt x="1339" y="569"/>
                    </a:lnTo>
                    <a:lnTo>
                      <a:pt x="1186" y="677"/>
                    </a:lnTo>
                    <a:lnTo>
                      <a:pt x="1026" y="792"/>
                    </a:lnTo>
                    <a:lnTo>
                      <a:pt x="875" y="900"/>
                    </a:lnTo>
                    <a:lnTo>
                      <a:pt x="748" y="991"/>
                    </a:lnTo>
                    <a:lnTo>
                      <a:pt x="660" y="1054"/>
                    </a:lnTo>
                    <a:lnTo>
                      <a:pt x="629" y="1078"/>
                    </a:lnTo>
                    <a:lnTo>
                      <a:pt x="599" y="1105"/>
                    </a:lnTo>
                    <a:lnTo>
                      <a:pt x="568" y="1132"/>
                    </a:lnTo>
                    <a:lnTo>
                      <a:pt x="539" y="1160"/>
                    </a:lnTo>
                    <a:lnTo>
                      <a:pt x="511" y="1189"/>
                    </a:lnTo>
                    <a:lnTo>
                      <a:pt x="484" y="1218"/>
                    </a:lnTo>
                    <a:lnTo>
                      <a:pt x="459" y="1247"/>
                    </a:lnTo>
                    <a:lnTo>
                      <a:pt x="435" y="1274"/>
                    </a:lnTo>
                    <a:lnTo>
                      <a:pt x="394" y="1323"/>
                    </a:lnTo>
                    <a:lnTo>
                      <a:pt x="364" y="1363"/>
                    </a:lnTo>
                    <a:lnTo>
                      <a:pt x="344" y="1390"/>
                    </a:lnTo>
                    <a:lnTo>
                      <a:pt x="337" y="1400"/>
                    </a:lnTo>
                    <a:lnTo>
                      <a:pt x="324" y="1401"/>
                    </a:lnTo>
                    <a:lnTo>
                      <a:pt x="291" y="1404"/>
                    </a:lnTo>
                    <a:lnTo>
                      <a:pt x="243" y="1406"/>
                    </a:lnTo>
                    <a:lnTo>
                      <a:pt x="188" y="1406"/>
                    </a:lnTo>
                    <a:lnTo>
                      <a:pt x="159" y="1405"/>
                    </a:lnTo>
                    <a:lnTo>
                      <a:pt x="131" y="1403"/>
                    </a:lnTo>
                    <a:lnTo>
                      <a:pt x="104" y="1400"/>
                    </a:lnTo>
                    <a:lnTo>
                      <a:pt x="79" y="1394"/>
                    </a:lnTo>
                    <a:lnTo>
                      <a:pt x="68" y="1392"/>
                    </a:lnTo>
                    <a:lnTo>
                      <a:pt x="57" y="1388"/>
                    </a:lnTo>
                    <a:lnTo>
                      <a:pt x="48" y="1384"/>
                    </a:lnTo>
                    <a:lnTo>
                      <a:pt x="38" y="1379"/>
                    </a:lnTo>
                    <a:lnTo>
                      <a:pt x="30" y="1375"/>
                    </a:lnTo>
                    <a:lnTo>
                      <a:pt x="24" y="1369"/>
                    </a:lnTo>
                    <a:lnTo>
                      <a:pt x="20" y="1362"/>
                    </a:lnTo>
                    <a:lnTo>
                      <a:pt x="15" y="1356"/>
                    </a:lnTo>
                    <a:lnTo>
                      <a:pt x="10" y="1342"/>
                    </a:lnTo>
                    <a:lnTo>
                      <a:pt x="5" y="1328"/>
                    </a:lnTo>
                    <a:lnTo>
                      <a:pt x="2" y="1312"/>
                    </a:lnTo>
                    <a:lnTo>
                      <a:pt x="0" y="1297"/>
                    </a:lnTo>
                    <a:lnTo>
                      <a:pt x="0" y="1281"/>
                    </a:lnTo>
                    <a:lnTo>
                      <a:pt x="2" y="1263"/>
                    </a:lnTo>
                    <a:lnTo>
                      <a:pt x="5" y="1243"/>
                    </a:lnTo>
                    <a:lnTo>
                      <a:pt x="10" y="1220"/>
                    </a:lnTo>
                    <a:lnTo>
                      <a:pt x="16" y="1194"/>
                    </a:lnTo>
                    <a:lnTo>
                      <a:pt x="25" y="1163"/>
                    </a:lnTo>
                    <a:lnTo>
                      <a:pt x="35" y="1129"/>
                    </a:lnTo>
                    <a:lnTo>
                      <a:pt x="47" y="1090"/>
                    </a:lnTo>
                    <a:lnTo>
                      <a:pt x="77" y="996"/>
                    </a:lnTo>
                    <a:lnTo>
                      <a:pt x="115" y="876"/>
                    </a:lnTo>
                    <a:lnTo>
                      <a:pt x="125" y="843"/>
                    </a:lnTo>
                    <a:lnTo>
                      <a:pt x="137" y="809"/>
                    </a:lnTo>
                    <a:lnTo>
                      <a:pt x="151" y="776"/>
                    </a:lnTo>
                    <a:lnTo>
                      <a:pt x="166" y="742"/>
                    </a:lnTo>
                    <a:lnTo>
                      <a:pt x="182" y="709"/>
                    </a:lnTo>
                    <a:lnTo>
                      <a:pt x="199" y="676"/>
                    </a:lnTo>
                    <a:lnTo>
                      <a:pt x="216" y="643"/>
                    </a:lnTo>
                    <a:lnTo>
                      <a:pt x="235" y="610"/>
                    </a:lnTo>
                    <a:lnTo>
                      <a:pt x="254" y="578"/>
                    </a:lnTo>
                    <a:lnTo>
                      <a:pt x="274" y="547"/>
                    </a:lnTo>
                    <a:lnTo>
                      <a:pt x="295" y="515"/>
                    </a:lnTo>
                    <a:lnTo>
                      <a:pt x="316" y="484"/>
                    </a:lnTo>
                    <a:lnTo>
                      <a:pt x="337" y="454"/>
                    </a:lnTo>
                    <a:lnTo>
                      <a:pt x="359" y="425"/>
                    </a:lnTo>
                    <a:lnTo>
                      <a:pt x="381" y="395"/>
                    </a:lnTo>
                    <a:lnTo>
                      <a:pt x="404" y="367"/>
                    </a:lnTo>
                    <a:lnTo>
                      <a:pt x="427" y="340"/>
                    </a:lnTo>
                    <a:lnTo>
                      <a:pt x="449" y="314"/>
                    </a:lnTo>
                    <a:lnTo>
                      <a:pt x="472" y="289"/>
                    </a:lnTo>
                    <a:lnTo>
                      <a:pt x="495" y="265"/>
                    </a:lnTo>
                    <a:lnTo>
                      <a:pt x="516" y="242"/>
                    </a:lnTo>
                    <a:lnTo>
                      <a:pt x="539" y="219"/>
                    </a:lnTo>
                    <a:lnTo>
                      <a:pt x="561" y="199"/>
                    </a:lnTo>
                    <a:lnTo>
                      <a:pt x="582" y="179"/>
                    </a:lnTo>
                    <a:lnTo>
                      <a:pt x="604" y="161"/>
                    </a:lnTo>
                    <a:lnTo>
                      <a:pt x="624" y="145"/>
                    </a:lnTo>
                    <a:lnTo>
                      <a:pt x="644" y="130"/>
                    </a:lnTo>
                    <a:lnTo>
                      <a:pt x="663" y="116"/>
                    </a:lnTo>
                    <a:lnTo>
                      <a:pt x="682" y="104"/>
                    </a:lnTo>
                    <a:lnTo>
                      <a:pt x="700" y="93"/>
                    </a:lnTo>
                    <a:lnTo>
                      <a:pt x="716" y="84"/>
                    </a:lnTo>
                    <a:lnTo>
                      <a:pt x="733" y="78"/>
                    </a:lnTo>
                    <a:lnTo>
                      <a:pt x="768" y="63"/>
                    </a:lnTo>
                    <a:lnTo>
                      <a:pt x="801" y="47"/>
                    </a:lnTo>
                    <a:lnTo>
                      <a:pt x="831" y="33"/>
                    </a:lnTo>
                    <a:lnTo>
                      <a:pt x="859" y="20"/>
                    </a:lnTo>
                    <a:lnTo>
                      <a:pt x="872" y="14"/>
                    </a:lnTo>
                    <a:lnTo>
                      <a:pt x="885" y="9"/>
                    </a:lnTo>
                    <a:lnTo>
                      <a:pt x="899" y="6"/>
                    </a:lnTo>
                    <a:lnTo>
                      <a:pt x="912" y="2"/>
                    </a:lnTo>
                    <a:lnTo>
                      <a:pt x="925" y="0"/>
                    </a:lnTo>
                    <a:lnTo>
                      <a:pt x="938" y="0"/>
                    </a:lnTo>
                    <a:lnTo>
                      <a:pt x="951" y="1"/>
                    </a:lnTo>
                    <a:lnTo>
                      <a:pt x="965" y="3"/>
                    </a:lnTo>
                    <a:lnTo>
                      <a:pt x="969" y="5"/>
                    </a:lnTo>
                    <a:lnTo>
                      <a:pt x="972" y="8"/>
                    </a:lnTo>
                    <a:lnTo>
                      <a:pt x="975" y="11"/>
                    </a:lnTo>
                    <a:lnTo>
                      <a:pt x="977" y="15"/>
                    </a:lnTo>
                    <a:lnTo>
                      <a:pt x="978" y="21"/>
                    </a:lnTo>
                    <a:lnTo>
                      <a:pt x="978" y="27"/>
                    </a:lnTo>
                    <a:lnTo>
                      <a:pt x="976" y="34"/>
                    </a:lnTo>
                    <a:lnTo>
                      <a:pt x="973" y="40"/>
                    </a:lnTo>
                    <a:lnTo>
                      <a:pt x="969" y="48"/>
                    </a:lnTo>
                    <a:lnTo>
                      <a:pt x="963" y="54"/>
                    </a:lnTo>
                    <a:lnTo>
                      <a:pt x="955" y="62"/>
                    </a:lnTo>
                    <a:lnTo>
                      <a:pt x="945" y="68"/>
                    </a:lnTo>
                    <a:lnTo>
                      <a:pt x="933" y="75"/>
                    </a:lnTo>
                    <a:lnTo>
                      <a:pt x="918" y="81"/>
                    </a:lnTo>
                    <a:lnTo>
                      <a:pt x="902" y="86"/>
                    </a:lnTo>
                    <a:lnTo>
                      <a:pt x="883" y="90"/>
                    </a:lnTo>
                    <a:lnTo>
                      <a:pt x="875" y="92"/>
                    </a:lnTo>
                    <a:lnTo>
                      <a:pt x="870" y="95"/>
                    </a:lnTo>
                    <a:lnTo>
                      <a:pt x="869" y="96"/>
                    </a:lnTo>
                    <a:lnTo>
                      <a:pt x="868" y="98"/>
                    </a:lnTo>
                    <a:lnTo>
                      <a:pt x="866" y="100"/>
                    </a:lnTo>
                    <a:lnTo>
                      <a:pt x="866" y="102"/>
                    </a:lnTo>
                    <a:lnTo>
                      <a:pt x="868" y="106"/>
                    </a:lnTo>
                    <a:lnTo>
                      <a:pt x="872" y="110"/>
                    </a:lnTo>
                    <a:lnTo>
                      <a:pt x="876" y="116"/>
                    </a:lnTo>
                    <a:lnTo>
                      <a:pt x="883" y="121"/>
                    </a:lnTo>
                    <a:lnTo>
                      <a:pt x="899" y="133"/>
                    </a:lnTo>
                    <a:lnTo>
                      <a:pt x="918" y="146"/>
                    </a:lnTo>
                    <a:lnTo>
                      <a:pt x="939" y="160"/>
                    </a:lnTo>
                    <a:lnTo>
                      <a:pt x="959" y="174"/>
                    </a:lnTo>
                    <a:lnTo>
                      <a:pt x="972" y="182"/>
                    </a:lnTo>
                    <a:lnTo>
                      <a:pt x="984" y="188"/>
                    </a:lnTo>
                    <a:lnTo>
                      <a:pt x="997" y="192"/>
                    </a:lnTo>
                    <a:lnTo>
                      <a:pt x="1009" y="197"/>
                    </a:lnTo>
                    <a:lnTo>
                      <a:pt x="1022" y="199"/>
                    </a:lnTo>
                    <a:lnTo>
                      <a:pt x="1035" y="201"/>
                    </a:lnTo>
                    <a:lnTo>
                      <a:pt x="1047" y="202"/>
                    </a:lnTo>
                    <a:lnTo>
                      <a:pt x="1060" y="202"/>
                    </a:lnTo>
                    <a:lnTo>
                      <a:pt x="1086" y="202"/>
                    </a:lnTo>
                    <a:lnTo>
                      <a:pt x="1111" y="202"/>
                    </a:lnTo>
                    <a:lnTo>
                      <a:pt x="1124" y="202"/>
                    </a:lnTo>
                    <a:lnTo>
                      <a:pt x="1135" y="203"/>
                    </a:lnTo>
                    <a:lnTo>
                      <a:pt x="1148" y="204"/>
                    </a:lnTo>
                    <a:lnTo>
                      <a:pt x="1160" y="206"/>
                    </a:lnTo>
                    <a:lnTo>
                      <a:pt x="1174" y="208"/>
                    </a:lnTo>
                    <a:lnTo>
                      <a:pt x="1188" y="206"/>
                    </a:lnTo>
                    <a:lnTo>
                      <a:pt x="1202" y="205"/>
                    </a:lnTo>
                    <a:lnTo>
                      <a:pt x="1215" y="202"/>
                    </a:lnTo>
                    <a:lnTo>
                      <a:pt x="1241" y="192"/>
                    </a:lnTo>
                    <a:lnTo>
                      <a:pt x="1267" y="184"/>
                    </a:lnTo>
                    <a:lnTo>
                      <a:pt x="1280" y="179"/>
                    </a:lnTo>
                    <a:lnTo>
                      <a:pt x="1292" y="176"/>
                    </a:lnTo>
                    <a:lnTo>
                      <a:pt x="1305" y="175"/>
                    </a:lnTo>
                    <a:lnTo>
                      <a:pt x="1317" y="175"/>
                    </a:lnTo>
                    <a:lnTo>
                      <a:pt x="1323" y="175"/>
                    </a:lnTo>
                    <a:lnTo>
                      <a:pt x="1329" y="176"/>
                    </a:lnTo>
                    <a:lnTo>
                      <a:pt x="1335" y="178"/>
                    </a:lnTo>
                    <a:lnTo>
                      <a:pt x="1341" y="181"/>
                    </a:lnTo>
                    <a:lnTo>
                      <a:pt x="1347" y="184"/>
                    </a:lnTo>
                    <a:lnTo>
                      <a:pt x="1354" y="187"/>
                    </a:lnTo>
                    <a:lnTo>
                      <a:pt x="1359" y="191"/>
                    </a:lnTo>
                    <a:lnTo>
                      <a:pt x="1366" y="197"/>
                    </a:lnTo>
                    <a:lnTo>
                      <a:pt x="1350" y="206"/>
                    </a:lnTo>
                    <a:lnTo>
                      <a:pt x="1335" y="218"/>
                    </a:lnTo>
                    <a:lnTo>
                      <a:pt x="1320" y="229"/>
                    </a:lnTo>
                    <a:lnTo>
                      <a:pt x="1306" y="240"/>
                    </a:lnTo>
                    <a:lnTo>
                      <a:pt x="1293" y="251"/>
                    </a:lnTo>
                    <a:lnTo>
                      <a:pt x="1282" y="262"/>
                    </a:lnTo>
                    <a:lnTo>
                      <a:pt x="1277" y="267"/>
                    </a:lnTo>
                    <a:lnTo>
                      <a:pt x="1274" y="271"/>
                    </a:lnTo>
                    <a:lnTo>
                      <a:pt x="1270" y="277"/>
                    </a:lnTo>
                    <a:lnTo>
                      <a:pt x="1269" y="280"/>
                    </a:lnTo>
                    <a:close/>
                  </a:path>
                </a:pathLst>
              </a:custGeom>
              <a:solidFill>
                <a:srgbClr val="7fac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5761080" y="3221280"/>
                <a:ext cx="507960" cy="438120"/>
              </a:xfrm>
              <a:custGeom>
                <a:avLst/>
                <a:gdLst/>
                <a:ahLst/>
                <a:rect l="l" t="t" r="r" b="b"/>
                <a:pathLst>
                  <a:path w="1599" h="1382">
                    <a:moveTo>
                      <a:pt x="1247" y="271"/>
                    </a:moveTo>
                    <a:lnTo>
                      <a:pt x="1278" y="275"/>
                    </a:lnTo>
                    <a:lnTo>
                      <a:pt x="1309" y="281"/>
                    </a:lnTo>
                    <a:lnTo>
                      <a:pt x="1340" y="287"/>
                    </a:lnTo>
                    <a:lnTo>
                      <a:pt x="1370" y="295"/>
                    </a:lnTo>
                    <a:lnTo>
                      <a:pt x="1401" y="302"/>
                    </a:lnTo>
                    <a:lnTo>
                      <a:pt x="1431" y="310"/>
                    </a:lnTo>
                    <a:lnTo>
                      <a:pt x="1463" y="319"/>
                    </a:lnTo>
                    <a:lnTo>
                      <a:pt x="1494" y="326"/>
                    </a:lnTo>
                    <a:lnTo>
                      <a:pt x="1509" y="328"/>
                    </a:lnTo>
                    <a:lnTo>
                      <a:pt x="1529" y="332"/>
                    </a:lnTo>
                    <a:lnTo>
                      <a:pt x="1549" y="335"/>
                    </a:lnTo>
                    <a:lnTo>
                      <a:pt x="1570" y="339"/>
                    </a:lnTo>
                    <a:lnTo>
                      <a:pt x="1578" y="341"/>
                    </a:lnTo>
                    <a:lnTo>
                      <a:pt x="1586" y="344"/>
                    </a:lnTo>
                    <a:lnTo>
                      <a:pt x="1592" y="348"/>
                    </a:lnTo>
                    <a:lnTo>
                      <a:pt x="1597" y="351"/>
                    </a:lnTo>
                    <a:lnTo>
                      <a:pt x="1598" y="352"/>
                    </a:lnTo>
                    <a:lnTo>
                      <a:pt x="1599" y="354"/>
                    </a:lnTo>
                    <a:lnTo>
                      <a:pt x="1599" y="356"/>
                    </a:lnTo>
                    <a:lnTo>
                      <a:pt x="1598" y="359"/>
                    </a:lnTo>
                    <a:lnTo>
                      <a:pt x="1595" y="363"/>
                    </a:lnTo>
                    <a:lnTo>
                      <a:pt x="1588" y="367"/>
                    </a:lnTo>
                    <a:lnTo>
                      <a:pt x="1555" y="391"/>
                    </a:lnTo>
                    <a:lnTo>
                      <a:pt x="1466" y="455"/>
                    </a:lnTo>
                    <a:lnTo>
                      <a:pt x="1339" y="545"/>
                    </a:lnTo>
                    <a:lnTo>
                      <a:pt x="1186" y="653"/>
                    </a:lnTo>
                    <a:lnTo>
                      <a:pt x="1026" y="768"/>
                    </a:lnTo>
                    <a:lnTo>
                      <a:pt x="875" y="876"/>
                    </a:lnTo>
                    <a:lnTo>
                      <a:pt x="748" y="967"/>
                    </a:lnTo>
                    <a:lnTo>
                      <a:pt x="660" y="1030"/>
                    </a:lnTo>
                    <a:lnTo>
                      <a:pt x="629" y="1054"/>
                    </a:lnTo>
                    <a:lnTo>
                      <a:pt x="599" y="1081"/>
                    </a:lnTo>
                    <a:lnTo>
                      <a:pt x="568" y="1108"/>
                    </a:lnTo>
                    <a:lnTo>
                      <a:pt x="539" y="1136"/>
                    </a:lnTo>
                    <a:lnTo>
                      <a:pt x="511" y="1165"/>
                    </a:lnTo>
                    <a:lnTo>
                      <a:pt x="484" y="1194"/>
                    </a:lnTo>
                    <a:lnTo>
                      <a:pt x="459" y="1223"/>
                    </a:lnTo>
                    <a:lnTo>
                      <a:pt x="435" y="1250"/>
                    </a:lnTo>
                    <a:lnTo>
                      <a:pt x="394" y="1299"/>
                    </a:lnTo>
                    <a:lnTo>
                      <a:pt x="364" y="1339"/>
                    </a:lnTo>
                    <a:lnTo>
                      <a:pt x="344" y="1366"/>
                    </a:lnTo>
                    <a:lnTo>
                      <a:pt x="337" y="1376"/>
                    </a:lnTo>
                    <a:lnTo>
                      <a:pt x="324" y="1377"/>
                    </a:lnTo>
                    <a:lnTo>
                      <a:pt x="291" y="1380"/>
                    </a:lnTo>
                    <a:lnTo>
                      <a:pt x="243" y="1382"/>
                    </a:lnTo>
                    <a:lnTo>
                      <a:pt x="188" y="1382"/>
                    </a:lnTo>
                    <a:lnTo>
                      <a:pt x="159" y="1381"/>
                    </a:lnTo>
                    <a:lnTo>
                      <a:pt x="131" y="1379"/>
                    </a:lnTo>
                    <a:lnTo>
                      <a:pt x="104" y="1376"/>
                    </a:lnTo>
                    <a:lnTo>
                      <a:pt x="79" y="1370"/>
                    </a:lnTo>
                    <a:lnTo>
                      <a:pt x="68" y="1368"/>
                    </a:lnTo>
                    <a:lnTo>
                      <a:pt x="57" y="1364"/>
                    </a:lnTo>
                    <a:lnTo>
                      <a:pt x="48" y="1360"/>
                    </a:lnTo>
                    <a:lnTo>
                      <a:pt x="38" y="1355"/>
                    </a:lnTo>
                    <a:lnTo>
                      <a:pt x="30" y="1351"/>
                    </a:lnTo>
                    <a:lnTo>
                      <a:pt x="24" y="1345"/>
                    </a:lnTo>
                    <a:lnTo>
                      <a:pt x="20" y="1338"/>
                    </a:lnTo>
                    <a:lnTo>
                      <a:pt x="15" y="1332"/>
                    </a:lnTo>
                    <a:lnTo>
                      <a:pt x="10" y="1318"/>
                    </a:lnTo>
                    <a:lnTo>
                      <a:pt x="5" y="1304"/>
                    </a:lnTo>
                    <a:lnTo>
                      <a:pt x="2" y="1288"/>
                    </a:lnTo>
                    <a:lnTo>
                      <a:pt x="0" y="1273"/>
                    </a:lnTo>
                    <a:lnTo>
                      <a:pt x="0" y="1257"/>
                    </a:lnTo>
                    <a:lnTo>
                      <a:pt x="2" y="1239"/>
                    </a:lnTo>
                    <a:lnTo>
                      <a:pt x="5" y="1219"/>
                    </a:lnTo>
                    <a:lnTo>
                      <a:pt x="10" y="1196"/>
                    </a:lnTo>
                    <a:lnTo>
                      <a:pt x="16" y="1170"/>
                    </a:lnTo>
                    <a:lnTo>
                      <a:pt x="25" y="1139"/>
                    </a:lnTo>
                    <a:lnTo>
                      <a:pt x="35" y="1105"/>
                    </a:lnTo>
                    <a:lnTo>
                      <a:pt x="47" y="1066"/>
                    </a:lnTo>
                    <a:lnTo>
                      <a:pt x="77" y="972"/>
                    </a:lnTo>
                    <a:lnTo>
                      <a:pt x="115" y="852"/>
                    </a:lnTo>
                    <a:lnTo>
                      <a:pt x="125" y="819"/>
                    </a:lnTo>
                    <a:lnTo>
                      <a:pt x="137" y="785"/>
                    </a:lnTo>
                    <a:lnTo>
                      <a:pt x="151" y="752"/>
                    </a:lnTo>
                    <a:lnTo>
                      <a:pt x="166" y="719"/>
                    </a:lnTo>
                    <a:lnTo>
                      <a:pt x="182" y="686"/>
                    </a:lnTo>
                    <a:lnTo>
                      <a:pt x="199" y="653"/>
                    </a:lnTo>
                    <a:lnTo>
                      <a:pt x="216" y="621"/>
                    </a:lnTo>
                    <a:lnTo>
                      <a:pt x="235" y="589"/>
                    </a:lnTo>
                    <a:lnTo>
                      <a:pt x="254" y="557"/>
                    </a:lnTo>
                    <a:lnTo>
                      <a:pt x="274" y="526"/>
                    </a:lnTo>
                    <a:lnTo>
                      <a:pt x="295" y="495"/>
                    </a:lnTo>
                    <a:lnTo>
                      <a:pt x="316" y="464"/>
                    </a:lnTo>
                    <a:lnTo>
                      <a:pt x="337" y="435"/>
                    </a:lnTo>
                    <a:lnTo>
                      <a:pt x="359" y="406"/>
                    </a:lnTo>
                    <a:lnTo>
                      <a:pt x="381" y="378"/>
                    </a:lnTo>
                    <a:lnTo>
                      <a:pt x="404" y="350"/>
                    </a:lnTo>
                    <a:lnTo>
                      <a:pt x="427" y="324"/>
                    </a:lnTo>
                    <a:lnTo>
                      <a:pt x="449" y="298"/>
                    </a:lnTo>
                    <a:lnTo>
                      <a:pt x="472" y="273"/>
                    </a:lnTo>
                    <a:lnTo>
                      <a:pt x="495" y="249"/>
                    </a:lnTo>
                    <a:lnTo>
                      <a:pt x="516" y="227"/>
                    </a:lnTo>
                    <a:lnTo>
                      <a:pt x="539" y="205"/>
                    </a:lnTo>
                    <a:lnTo>
                      <a:pt x="561" y="185"/>
                    </a:lnTo>
                    <a:lnTo>
                      <a:pt x="582" y="166"/>
                    </a:lnTo>
                    <a:lnTo>
                      <a:pt x="604" y="148"/>
                    </a:lnTo>
                    <a:lnTo>
                      <a:pt x="624" y="132"/>
                    </a:lnTo>
                    <a:lnTo>
                      <a:pt x="644" y="117"/>
                    </a:lnTo>
                    <a:lnTo>
                      <a:pt x="663" y="103"/>
                    </a:lnTo>
                    <a:lnTo>
                      <a:pt x="682" y="91"/>
                    </a:lnTo>
                    <a:lnTo>
                      <a:pt x="700" y="80"/>
                    </a:lnTo>
                    <a:lnTo>
                      <a:pt x="716" y="71"/>
                    </a:lnTo>
                    <a:lnTo>
                      <a:pt x="733" y="64"/>
                    </a:lnTo>
                    <a:lnTo>
                      <a:pt x="763" y="51"/>
                    </a:lnTo>
                    <a:lnTo>
                      <a:pt x="789" y="38"/>
                    </a:lnTo>
                    <a:lnTo>
                      <a:pt x="811" y="26"/>
                    </a:lnTo>
                    <a:lnTo>
                      <a:pt x="832" y="16"/>
                    </a:lnTo>
                    <a:lnTo>
                      <a:pt x="850" y="8"/>
                    </a:lnTo>
                    <a:lnTo>
                      <a:pt x="868" y="2"/>
                    </a:lnTo>
                    <a:lnTo>
                      <a:pt x="876" y="1"/>
                    </a:lnTo>
                    <a:lnTo>
                      <a:pt x="885" y="0"/>
                    </a:lnTo>
                    <a:lnTo>
                      <a:pt x="893" y="1"/>
                    </a:lnTo>
                    <a:lnTo>
                      <a:pt x="903" y="2"/>
                    </a:lnTo>
                    <a:lnTo>
                      <a:pt x="904" y="2"/>
                    </a:lnTo>
                    <a:lnTo>
                      <a:pt x="905" y="3"/>
                    </a:lnTo>
                    <a:lnTo>
                      <a:pt x="906" y="6"/>
                    </a:lnTo>
                    <a:lnTo>
                      <a:pt x="908" y="10"/>
                    </a:lnTo>
                    <a:lnTo>
                      <a:pt x="909" y="14"/>
                    </a:lnTo>
                    <a:lnTo>
                      <a:pt x="908" y="19"/>
                    </a:lnTo>
                    <a:lnTo>
                      <a:pt x="906" y="25"/>
                    </a:lnTo>
                    <a:lnTo>
                      <a:pt x="904" y="30"/>
                    </a:lnTo>
                    <a:lnTo>
                      <a:pt x="901" y="37"/>
                    </a:lnTo>
                    <a:lnTo>
                      <a:pt x="897" y="42"/>
                    </a:lnTo>
                    <a:lnTo>
                      <a:pt x="890" y="49"/>
                    </a:lnTo>
                    <a:lnTo>
                      <a:pt x="883" y="55"/>
                    </a:lnTo>
                    <a:lnTo>
                      <a:pt x="874" y="60"/>
                    </a:lnTo>
                    <a:lnTo>
                      <a:pt x="862" y="66"/>
                    </a:lnTo>
                    <a:lnTo>
                      <a:pt x="849" y="70"/>
                    </a:lnTo>
                    <a:lnTo>
                      <a:pt x="834" y="73"/>
                    </a:lnTo>
                    <a:lnTo>
                      <a:pt x="827" y="76"/>
                    </a:lnTo>
                    <a:lnTo>
                      <a:pt x="822" y="78"/>
                    </a:lnTo>
                    <a:lnTo>
                      <a:pt x="820" y="80"/>
                    </a:lnTo>
                    <a:lnTo>
                      <a:pt x="820" y="82"/>
                    </a:lnTo>
                    <a:lnTo>
                      <a:pt x="820" y="83"/>
                    </a:lnTo>
                    <a:lnTo>
                      <a:pt x="821" y="85"/>
                    </a:lnTo>
                    <a:lnTo>
                      <a:pt x="824" y="91"/>
                    </a:lnTo>
                    <a:lnTo>
                      <a:pt x="830" y="96"/>
                    </a:lnTo>
                    <a:lnTo>
                      <a:pt x="837" y="101"/>
                    </a:lnTo>
                    <a:lnTo>
                      <a:pt x="846" y="108"/>
                    </a:lnTo>
                    <a:lnTo>
                      <a:pt x="866" y="122"/>
                    </a:lnTo>
                    <a:lnTo>
                      <a:pt x="890" y="136"/>
                    </a:lnTo>
                    <a:lnTo>
                      <a:pt x="915" y="151"/>
                    </a:lnTo>
                    <a:lnTo>
                      <a:pt x="938" y="165"/>
                    </a:lnTo>
                    <a:lnTo>
                      <a:pt x="950" y="173"/>
                    </a:lnTo>
                    <a:lnTo>
                      <a:pt x="962" y="179"/>
                    </a:lnTo>
                    <a:lnTo>
                      <a:pt x="973" y="184"/>
                    </a:lnTo>
                    <a:lnTo>
                      <a:pt x="986" y="188"/>
                    </a:lnTo>
                    <a:lnTo>
                      <a:pt x="998" y="190"/>
                    </a:lnTo>
                    <a:lnTo>
                      <a:pt x="1011" y="192"/>
                    </a:lnTo>
                    <a:lnTo>
                      <a:pt x="1024" y="193"/>
                    </a:lnTo>
                    <a:lnTo>
                      <a:pt x="1037" y="194"/>
                    </a:lnTo>
                    <a:lnTo>
                      <a:pt x="1062" y="194"/>
                    </a:lnTo>
                    <a:lnTo>
                      <a:pt x="1088" y="194"/>
                    </a:lnTo>
                    <a:lnTo>
                      <a:pt x="1114" y="194"/>
                    </a:lnTo>
                    <a:lnTo>
                      <a:pt x="1138" y="198"/>
                    </a:lnTo>
                    <a:lnTo>
                      <a:pt x="1152" y="199"/>
                    </a:lnTo>
                    <a:lnTo>
                      <a:pt x="1166" y="198"/>
                    </a:lnTo>
                    <a:lnTo>
                      <a:pt x="1179" y="195"/>
                    </a:lnTo>
                    <a:lnTo>
                      <a:pt x="1192" y="192"/>
                    </a:lnTo>
                    <a:lnTo>
                      <a:pt x="1218" y="184"/>
                    </a:lnTo>
                    <a:lnTo>
                      <a:pt x="1241" y="175"/>
                    </a:lnTo>
                    <a:lnTo>
                      <a:pt x="1253" y="171"/>
                    </a:lnTo>
                    <a:lnTo>
                      <a:pt x="1265" y="167"/>
                    </a:lnTo>
                    <a:lnTo>
                      <a:pt x="1277" y="166"/>
                    </a:lnTo>
                    <a:lnTo>
                      <a:pt x="1290" y="165"/>
                    </a:lnTo>
                    <a:lnTo>
                      <a:pt x="1295" y="166"/>
                    </a:lnTo>
                    <a:lnTo>
                      <a:pt x="1302" y="167"/>
                    </a:lnTo>
                    <a:lnTo>
                      <a:pt x="1307" y="168"/>
                    </a:lnTo>
                    <a:lnTo>
                      <a:pt x="1314" y="172"/>
                    </a:lnTo>
                    <a:lnTo>
                      <a:pt x="1319" y="174"/>
                    </a:lnTo>
                    <a:lnTo>
                      <a:pt x="1326" y="178"/>
                    </a:lnTo>
                    <a:lnTo>
                      <a:pt x="1332" y="182"/>
                    </a:lnTo>
                    <a:lnTo>
                      <a:pt x="1339" y="187"/>
                    </a:lnTo>
                    <a:lnTo>
                      <a:pt x="1323" y="198"/>
                    </a:lnTo>
                    <a:lnTo>
                      <a:pt x="1307" y="208"/>
                    </a:lnTo>
                    <a:lnTo>
                      <a:pt x="1292" y="220"/>
                    </a:lnTo>
                    <a:lnTo>
                      <a:pt x="1277" y="231"/>
                    </a:lnTo>
                    <a:lnTo>
                      <a:pt x="1264" y="242"/>
                    </a:lnTo>
                    <a:lnTo>
                      <a:pt x="1253" y="253"/>
                    </a:lnTo>
                    <a:lnTo>
                      <a:pt x="1250" y="258"/>
                    </a:lnTo>
                    <a:lnTo>
                      <a:pt x="1248" y="262"/>
                    </a:lnTo>
                    <a:lnTo>
                      <a:pt x="1247" y="267"/>
                    </a:lnTo>
                    <a:lnTo>
                      <a:pt x="1247" y="271"/>
                    </a:lnTo>
                    <a:close/>
                  </a:path>
                </a:pathLst>
              </a:custGeom>
              <a:solidFill>
                <a:srgbClr val="7ca6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5761080" y="3229200"/>
                <a:ext cx="507960" cy="430200"/>
              </a:xfrm>
              <a:custGeom>
                <a:avLst/>
                <a:gdLst/>
                <a:ahLst/>
                <a:rect l="l" t="t" r="r" b="b"/>
                <a:pathLst>
                  <a:path w="1597" h="1358">
                    <a:moveTo>
                      <a:pt x="733" y="49"/>
                    </a:moveTo>
                    <a:lnTo>
                      <a:pt x="756" y="39"/>
                    </a:lnTo>
                    <a:lnTo>
                      <a:pt x="776" y="29"/>
                    </a:lnTo>
                    <a:lnTo>
                      <a:pt x="792" y="20"/>
                    </a:lnTo>
                    <a:lnTo>
                      <a:pt x="804" y="13"/>
                    </a:lnTo>
                    <a:lnTo>
                      <a:pt x="815" y="7"/>
                    </a:lnTo>
                    <a:lnTo>
                      <a:pt x="823" y="3"/>
                    </a:lnTo>
                    <a:lnTo>
                      <a:pt x="831" y="1"/>
                    </a:lnTo>
                    <a:lnTo>
                      <a:pt x="838" y="0"/>
                    </a:lnTo>
                    <a:lnTo>
                      <a:pt x="838" y="0"/>
                    </a:lnTo>
                    <a:lnTo>
                      <a:pt x="838" y="4"/>
                    </a:lnTo>
                    <a:lnTo>
                      <a:pt x="838" y="11"/>
                    </a:lnTo>
                    <a:lnTo>
                      <a:pt x="836" y="20"/>
                    </a:lnTo>
                    <a:lnTo>
                      <a:pt x="834" y="25"/>
                    </a:lnTo>
                    <a:lnTo>
                      <a:pt x="831" y="30"/>
                    </a:lnTo>
                    <a:lnTo>
                      <a:pt x="828" y="35"/>
                    </a:lnTo>
                    <a:lnTo>
                      <a:pt x="822" y="40"/>
                    </a:lnTo>
                    <a:lnTo>
                      <a:pt x="815" y="44"/>
                    </a:lnTo>
                    <a:lnTo>
                      <a:pt x="806" y="48"/>
                    </a:lnTo>
                    <a:lnTo>
                      <a:pt x="796" y="52"/>
                    </a:lnTo>
                    <a:lnTo>
                      <a:pt x="784" y="55"/>
                    </a:lnTo>
                    <a:lnTo>
                      <a:pt x="780" y="56"/>
                    </a:lnTo>
                    <a:lnTo>
                      <a:pt x="777" y="57"/>
                    </a:lnTo>
                    <a:lnTo>
                      <a:pt x="775" y="58"/>
                    </a:lnTo>
                    <a:lnTo>
                      <a:pt x="774" y="60"/>
                    </a:lnTo>
                    <a:lnTo>
                      <a:pt x="772" y="62"/>
                    </a:lnTo>
                    <a:lnTo>
                      <a:pt x="774" y="65"/>
                    </a:lnTo>
                    <a:lnTo>
                      <a:pt x="775" y="67"/>
                    </a:lnTo>
                    <a:lnTo>
                      <a:pt x="776" y="69"/>
                    </a:lnTo>
                    <a:lnTo>
                      <a:pt x="781" y="75"/>
                    </a:lnTo>
                    <a:lnTo>
                      <a:pt x="789" y="82"/>
                    </a:lnTo>
                    <a:lnTo>
                      <a:pt x="798" y="88"/>
                    </a:lnTo>
                    <a:lnTo>
                      <a:pt x="809" y="95"/>
                    </a:lnTo>
                    <a:lnTo>
                      <a:pt x="835" y="111"/>
                    </a:lnTo>
                    <a:lnTo>
                      <a:pt x="863" y="127"/>
                    </a:lnTo>
                    <a:lnTo>
                      <a:pt x="889" y="143"/>
                    </a:lnTo>
                    <a:lnTo>
                      <a:pt x="913" y="158"/>
                    </a:lnTo>
                    <a:lnTo>
                      <a:pt x="925" y="166"/>
                    </a:lnTo>
                    <a:lnTo>
                      <a:pt x="938" y="171"/>
                    </a:lnTo>
                    <a:lnTo>
                      <a:pt x="950" y="177"/>
                    </a:lnTo>
                    <a:lnTo>
                      <a:pt x="963" y="180"/>
                    </a:lnTo>
                    <a:lnTo>
                      <a:pt x="976" y="183"/>
                    </a:lnTo>
                    <a:lnTo>
                      <a:pt x="989" y="184"/>
                    </a:lnTo>
                    <a:lnTo>
                      <a:pt x="1002" y="185"/>
                    </a:lnTo>
                    <a:lnTo>
                      <a:pt x="1014" y="187"/>
                    </a:lnTo>
                    <a:lnTo>
                      <a:pt x="1040" y="185"/>
                    </a:lnTo>
                    <a:lnTo>
                      <a:pt x="1067" y="185"/>
                    </a:lnTo>
                    <a:lnTo>
                      <a:pt x="1092" y="185"/>
                    </a:lnTo>
                    <a:lnTo>
                      <a:pt x="1118" y="188"/>
                    </a:lnTo>
                    <a:lnTo>
                      <a:pt x="1132" y="189"/>
                    </a:lnTo>
                    <a:lnTo>
                      <a:pt x="1145" y="189"/>
                    </a:lnTo>
                    <a:lnTo>
                      <a:pt x="1158" y="187"/>
                    </a:lnTo>
                    <a:lnTo>
                      <a:pt x="1171" y="183"/>
                    </a:lnTo>
                    <a:lnTo>
                      <a:pt x="1195" y="175"/>
                    </a:lnTo>
                    <a:lnTo>
                      <a:pt x="1219" y="165"/>
                    </a:lnTo>
                    <a:lnTo>
                      <a:pt x="1229" y="162"/>
                    </a:lnTo>
                    <a:lnTo>
                      <a:pt x="1240" y="158"/>
                    </a:lnTo>
                    <a:lnTo>
                      <a:pt x="1252" y="156"/>
                    </a:lnTo>
                    <a:lnTo>
                      <a:pt x="1263" y="156"/>
                    </a:lnTo>
                    <a:lnTo>
                      <a:pt x="1275" y="158"/>
                    </a:lnTo>
                    <a:lnTo>
                      <a:pt x="1287" y="162"/>
                    </a:lnTo>
                    <a:lnTo>
                      <a:pt x="1292" y="165"/>
                    </a:lnTo>
                    <a:lnTo>
                      <a:pt x="1299" y="168"/>
                    </a:lnTo>
                    <a:lnTo>
                      <a:pt x="1305" y="173"/>
                    </a:lnTo>
                    <a:lnTo>
                      <a:pt x="1310" y="178"/>
                    </a:lnTo>
                    <a:lnTo>
                      <a:pt x="1295" y="189"/>
                    </a:lnTo>
                    <a:lnTo>
                      <a:pt x="1278" y="200"/>
                    </a:lnTo>
                    <a:lnTo>
                      <a:pt x="1262" y="210"/>
                    </a:lnTo>
                    <a:lnTo>
                      <a:pt x="1247" y="222"/>
                    </a:lnTo>
                    <a:lnTo>
                      <a:pt x="1240" y="228"/>
                    </a:lnTo>
                    <a:lnTo>
                      <a:pt x="1234" y="233"/>
                    </a:lnTo>
                    <a:lnTo>
                      <a:pt x="1229" y="238"/>
                    </a:lnTo>
                    <a:lnTo>
                      <a:pt x="1225" y="244"/>
                    </a:lnTo>
                    <a:lnTo>
                      <a:pt x="1222" y="248"/>
                    </a:lnTo>
                    <a:lnTo>
                      <a:pt x="1221" y="254"/>
                    </a:lnTo>
                    <a:lnTo>
                      <a:pt x="1221" y="258"/>
                    </a:lnTo>
                    <a:lnTo>
                      <a:pt x="1222" y="262"/>
                    </a:lnTo>
                    <a:lnTo>
                      <a:pt x="1253" y="266"/>
                    </a:lnTo>
                    <a:lnTo>
                      <a:pt x="1285" y="272"/>
                    </a:lnTo>
                    <a:lnTo>
                      <a:pt x="1315" y="279"/>
                    </a:lnTo>
                    <a:lnTo>
                      <a:pt x="1345" y="287"/>
                    </a:lnTo>
                    <a:lnTo>
                      <a:pt x="1376" y="295"/>
                    </a:lnTo>
                    <a:lnTo>
                      <a:pt x="1407" y="303"/>
                    </a:lnTo>
                    <a:lnTo>
                      <a:pt x="1438" y="311"/>
                    </a:lnTo>
                    <a:lnTo>
                      <a:pt x="1469" y="319"/>
                    </a:lnTo>
                    <a:lnTo>
                      <a:pt x="1485" y="322"/>
                    </a:lnTo>
                    <a:lnTo>
                      <a:pt x="1507" y="323"/>
                    </a:lnTo>
                    <a:lnTo>
                      <a:pt x="1533" y="323"/>
                    </a:lnTo>
                    <a:lnTo>
                      <a:pt x="1557" y="324"/>
                    </a:lnTo>
                    <a:lnTo>
                      <a:pt x="1569" y="325"/>
                    </a:lnTo>
                    <a:lnTo>
                      <a:pt x="1578" y="326"/>
                    </a:lnTo>
                    <a:lnTo>
                      <a:pt x="1587" y="327"/>
                    </a:lnTo>
                    <a:lnTo>
                      <a:pt x="1592" y="329"/>
                    </a:lnTo>
                    <a:lnTo>
                      <a:pt x="1595" y="330"/>
                    </a:lnTo>
                    <a:lnTo>
                      <a:pt x="1596" y="332"/>
                    </a:lnTo>
                    <a:lnTo>
                      <a:pt x="1597" y="333"/>
                    </a:lnTo>
                    <a:lnTo>
                      <a:pt x="1597" y="336"/>
                    </a:lnTo>
                    <a:lnTo>
                      <a:pt x="1595" y="339"/>
                    </a:lnTo>
                    <a:lnTo>
                      <a:pt x="1588" y="343"/>
                    </a:lnTo>
                    <a:lnTo>
                      <a:pt x="1555" y="367"/>
                    </a:lnTo>
                    <a:lnTo>
                      <a:pt x="1466" y="431"/>
                    </a:lnTo>
                    <a:lnTo>
                      <a:pt x="1339" y="521"/>
                    </a:lnTo>
                    <a:lnTo>
                      <a:pt x="1186" y="629"/>
                    </a:lnTo>
                    <a:lnTo>
                      <a:pt x="1026" y="744"/>
                    </a:lnTo>
                    <a:lnTo>
                      <a:pt x="875" y="852"/>
                    </a:lnTo>
                    <a:lnTo>
                      <a:pt x="748" y="943"/>
                    </a:lnTo>
                    <a:lnTo>
                      <a:pt x="660" y="1006"/>
                    </a:lnTo>
                    <a:lnTo>
                      <a:pt x="629" y="1030"/>
                    </a:lnTo>
                    <a:lnTo>
                      <a:pt x="599" y="1057"/>
                    </a:lnTo>
                    <a:lnTo>
                      <a:pt x="568" y="1084"/>
                    </a:lnTo>
                    <a:lnTo>
                      <a:pt x="539" y="1112"/>
                    </a:lnTo>
                    <a:lnTo>
                      <a:pt x="511" y="1141"/>
                    </a:lnTo>
                    <a:lnTo>
                      <a:pt x="484" y="1170"/>
                    </a:lnTo>
                    <a:lnTo>
                      <a:pt x="459" y="1199"/>
                    </a:lnTo>
                    <a:lnTo>
                      <a:pt x="435" y="1226"/>
                    </a:lnTo>
                    <a:lnTo>
                      <a:pt x="394" y="1275"/>
                    </a:lnTo>
                    <a:lnTo>
                      <a:pt x="364" y="1315"/>
                    </a:lnTo>
                    <a:lnTo>
                      <a:pt x="344" y="1342"/>
                    </a:lnTo>
                    <a:lnTo>
                      <a:pt x="337" y="1352"/>
                    </a:lnTo>
                    <a:lnTo>
                      <a:pt x="324" y="1353"/>
                    </a:lnTo>
                    <a:lnTo>
                      <a:pt x="291" y="1356"/>
                    </a:lnTo>
                    <a:lnTo>
                      <a:pt x="243" y="1358"/>
                    </a:lnTo>
                    <a:lnTo>
                      <a:pt x="188" y="1358"/>
                    </a:lnTo>
                    <a:lnTo>
                      <a:pt x="159" y="1357"/>
                    </a:lnTo>
                    <a:lnTo>
                      <a:pt x="131" y="1355"/>
                    </a:lnTo>
                    <a:lnTo>
                      <a:pt x="104" y="1352"/>
                    </a:lnTo>
                    <a:lnTo>
                      <a:pt x="79" y="1346"/>
                    </a:lnTo>
                    <a:lnTo>
                      <a:pt x="68" y="1344"/>
                    </a:lnTo>
                    <a:lnTo>
                      <a:pt x="57" y="1340"/>
                    </a:lnTo>
                    <a:lnTo>
                      <a:pt x="48" y="1336"/>
                    </a:lnTo>
                    <a:lnTo>
                      <a:pt x="38" y="1331"/>
                    </a:lnTo>
                    <a:lnTo>
                      <a:pt x="30" y="1327"/>
                    </a:lnTo>
                    <a:lnTo>
                      <a:pt x="24" y="1321"/>
                    </a:lnTo>
                    <a:lnTo>
                      <a:pt x="20" y="1314"/>
                    </a:lnTo>
                    <a:lnTo>
                      <a:pt x="15" y="1308"/>
                    </a:lnTo>
                    <a:lnTo>
                      <a:pt x="10" y="1294"/>
                    </a:lnTo>
                    <a:lnTo>
                      <a:pt x="5" y="1280"/>
                    </a:lnTo>
                    <a:lnTo>
                      <a:pt x="2" y="1264"/>
                    </a:lnTo>
                    <a:lnTo>
                      <a:pt x="0" y="1249"/>
                    </a:lnTo>
                    <a:lnTo>
                      <a:pt x="0" y="1233"/>
                    </a:lnTo>
                    <a:lnTo>
                      <a:pt x="2" y="1215"/>
                    </a:lnTo>
                    <a:lnTo>
                      <a:pt x="5" y="1195"/>
                    </a:lnTo>
                    <a:lnTo>
                      <a:pt x="10" y="1172"/>
                    </a:lnTo>
                    <a:lnTo>
                      <a:pt x="16" y="1146"/>
                    </a:lnTo>
                    <a:lnTo>
                      <a:pt x="25" y="1115"/>
                    </a:lnTo>
                    <a:lnTo>
                      <a:pt x="35" y="1081"/>
                    </a:lnTo>
                    <a:lnTo>
                      <a:pt x="47" y="1042"/>
                    </a:lnTo>
                    <a:lnTo>
                      <a:pt x="77" y="948"/>
                    </a:lnTo>
                    <a:lnTo>
                      <a:pt x="115" y="828"/>
                    </a:lnTo>
                    <a:lnTo>
                      <a:pt x="125" y="795"/>
                    </a:lnTo>
                    <a:lnTo>
                      <a:pt x="137" y="761"/>
                    </a:lnTo>
                    <a:lnTo>
                      <a:pt x="151" y="729"/>
                    </a:lnTo>
                    <a:lnTo>
                      <a:pt x="166" y="695"/>
                    </a:lnTo>
                    <a:lnTo>
                      <a:pt x="182" y="663"/>
                    </a:lnTo>
                    <a:lnTo>
                      <a:pt x="199" y="630"/>
                    </a:lnTo>
                    <a:lnTo>
                      <a:pt x="216" y="598"/>
                    </a:lnTo>
                    <a:lnTo>
                      <a:pt x="236" y="567"/>
                    </a:lnTo>
                    <a:lnTo>
                      <a:pt x="255" y="535"/>
                    </a:lnTo>
                    <a:lnTo>
                      <a:pt x="274" y="504"/>
                    </a:lnTo>
                    <a:lnTo>
                      <a:pt x="295" y="474"/>
                    </a:lnTo>
                    <a:lnTo>
                      <a:pt x="317" y="445"/>
                    </a:lnTo>
                    <a:lnTo>
                      <a:pt x="338" y="416"/>
                    </a:lnTo>
                    <a:lnTo>
                      <a:pt x="360" y="386"/>
                    </a:lnTo>
                    <a:lnTo>
                      <a:pt x="383" y="359"/>
                    </a:lnTo>
                    <a:lnTo>
                      <a:pt x="405" y="332"/>
                    </a:lnTo>
                    <a:lnTo>
                      <a:pt x="428" y="306"/>
                    </a:lnTo>
                    <a:lnTo>
                      <a:pt x="451" y="281"/>
                    </a:lnTo>
                    <a:lnTo>
                      <a:pt x="473" y="257"/>
                    </a:lnTo>
                    <a:lnTo>
                      <a:pt x="496" y="234"/>
                    </a:lnTo>
                    <a:lnTo>
                      <a:pt x="518" y="211"/>
                    </a:lnTo>
                    <a:lnTo>
                      <a:pt x="540" y="190"/>
                    </a:lnTo>
                    <a:lnTo>
                      <a:pt x="562" y="170"/>
                    </a:lnTo>
                    <a:lnTo>
                      <a:pt x="583" y="151"/>
                    </a:lnTo>
                    <a:lnTo>
                      <a:pt x="605" y="134"/>
                    </a:lnTo>
                    <a:lnTo>
                      <a:pt x="626" y="117"/>
                    </a:lnTo>
                    <a:lnTo>
                      <a:pt x="645" y="102"/>
                    </a:lnTo>
                    <a:lnTo>
                      <a:pt x="664" y="89"/>
                    </a:lnTo>
                    <a:lnTo>
                      <a:pt x="683" y="76"/>
                    </a:lnTo>
                    <a:lnTo>
                      <a:pt x="700" y="67"/>
                    </a:lnTo>
                    <a:lnTo>
                      <a:pt x="716" y="57"/>
                    </a:lnTo>
                    <a:lnTo>
                      <a:pt x="733" y="49"/>
                    </a:lnTo>
                    <a:close/>
                  </a:path>
                </a:pathLst>
              </a:custGeom>
              <a:solidFill>
                <a:srgbClr val="76a1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5904000" y="3291120"/>
                <a:ext cx="744480" cy="387360"/>
              </a:xfrm>
              <a:custGeom>
                <a:avLst/>
                <a:gdLst/>
                <a:ahLst/>
                <a:rect l="l" t="t" r="r" b="b"/>
                <a:pathLst>
                  <a:path w="2345" h="1217">
                    <a:moveTo>
                      <a:pt x="1333" y="941"/>
                    </a:moveTo>
                    <a:lnTo>
                      <a:pt x="1302" y="948"/>
                    </a:lnTo>
                    <a:lnTo>
                      <a:pt x="1264" y="952"/>
                    </a:lnTo>
                    <a:lnTo>
                      <a:pt x="1223" y="955"/>
                    </a:lnTo>
                    <a:lnTo>
                      <a:pt x="1178" y="957"/>
                    </a:lnTo>
                    <a:lnTo>
                      <a:pt x="1130" y="958"/>
                    </a:lnTo>
                    <a:lnTo>
                      <a:pt x="1081" y="958"/>
                    </a:lnTo>
                    <a:lnTo>
                      <a:pt x="1030" y="957"/>
                    </a:lnTo>
                    <a:lnTo>
                      <a:pt x="978" y="955"/>
                    </a:lnTo>
                    <a:lnTo>
                      <a:pt x="926" y="952"/>
                    </a:lnTo>
                    <a:lnTo>
                      <a:pt x="876" y="948"/>
                    </a:lnTo>
                    <a:lnTo>
                      <a:pt x="828" y="941"/>
                    </a:lnTo>
                    <a:lnTo>
                      <a:pt x="781" y="935"/>
                    </a:lnTo>
                    <a:lnTo>
                      <a:pt x="739" y="926"/>
                    </a:lnTo>
                    <a:lnTo>
                      <a:pt x="700" y="917"/>
                    </a:lnTo>
                    <a:lnTo>
                      <a:pt x="683" y="912"/>
                    </a:lnTo>
                    <a:lnTo>
                      <a:pt x="667" y="907"/>
                    </a:lnTo>
                    <a:lnTo>
                      <a:pt x="652" y="901"/>
                    </a:lnTo>
                    <a:lnTo>
                      <a:pt x="639" y="895"/>
                    </a:lnTo>
                    <a:lnTo>
                      <a:pt x="626" y="889"/>
                    </a:lnTo>
                    <a:lnTo>
                      <a:pt x="614" y="885"/>
                    </a:lnTo>
                    <a:lnTo>
                      <a:pt x="601" y="882"/>
                    </a:lnTo>
                    <a:lnTo>
                      <a:pt x="588" y="880"/>
                    </a:lnTo>
                    <a:lnTo>
                      <a:pt x="575" y="878"/>
                    </a:lnTo>
                    <a:lnTo>
                      <a:pt x="562" y="878"/>
                    </a:lnTo>
                    <a:lnTo>
                      <a:pt x="549" y="880"/>
                    </a:lnTo>
                    <a:lnTo>
                      <a:pt x="536" y="881"/>
                    </a:lnTo>
                    <a:lnTo>
                      <a:pt x="523" y="884"/>
                    </a:lnTo>
                    <a:lnTo>
                      <a:pt x="510" y="888"/>
                    </a:lnTo>
                    <a:lnTo>
                      <a:pt x="497" y="893"/>
                    </a:lnTo>
                    <a:lnTo>
                      <a:pt x="484" y="898"/>
                    </a:lnTo>
                    <a:lnTo>
                      <a:pt x="471" y="904"/>
                    </a:lnTo>
                    <a:lnTo>
                      <a:pt x="458" y="912"/>
                    </a:lnTo>
                    <a:lnTo>
                      <a:pt x="445" y="920"/>
                    </a:lnTo>
                    <a:lnTo>
                      <a:pt x="432" y="928"/>
                    </a:lnTo>
                    <a:lnTo>
                      <a:pt x="408" y="947"/>
                    </a:lnTo>
                    <a:lnTo>
                      <a:pt x="384" y="967"/>
                    </a:lnTo>
                    <a:lnTo>
                      <a:pt x="360" y="990"/>
                    </a:lnTo>
                    <a:lnTo>
                      <a:pt x="337" y="1015"/>
                    </a:lnTo>
                    <a:lnTo>
                      <a:pt x="316" y="1040"/>
                    </a:lnTo>
                    <a:lnTo>
                      <a:pt x="295" y="1067"/>
                    </a:lnTo>
                    <a:lnTo>
                      <a:pt x="276" y="1094"/>
                    </a:lnTo>
                    <a:lnTo>
                      <a:pt x="259" y="1123"/>
                    </a:lnTo>
                    <a:lnTo>
                      <a:pt x="247" y="1140"/>
                    </a:lnTo>
                    <a:lnTo>
                      <a:pt x="236" y="1155"/>
                    </a:lnTo>
                    <a:lnTo>
                      <a:pt x="224" y="1169"/>
                    </a:lnTo>
                    <a:lnTo>
                      <a:pt x="212" y="1181"/>
                    </a:lnTo>
                    <a:lnTo>
                      <a:pt x="201" y="1191"/>
                    </a:lnTo>
                    <a:lnTo>
                      <a:pt x="189" y="1198"/>
                    </a:lnTo>
                    <a:lnTo>
                      <a:pt x="179" y="1205"/>
                    </a:lnTo>
                    <a:lnTo>
                      <a:pt x="167" y="1210"/>
                    </a:lnTo>
                    <a:lnTo>
                      <a:pt x="156" y="1213"/>
                    </a:lnTo>
                    <a:lnTo>
                      <a:pt x="145" y="1215"/>
                    </a:lnTo>
                    <a:lnTo>
                      <a:pt x="134" y="1217"/>
                    </a:lnTo>
                    <a:lnTo>
                      <a:pt x="123" y="1217"/>
                    </a:lnTo>
                    <a:lnTo>
                      <a:pt x="114" y="1215"/>
                    </a:lnTo>
                    <a:lnTo>
                      <a:pt x="103" y="1213"/>
                    </a:lnTo>
                    <a:lnTo>
                      <a:pt x="93" y="1210"/>
                    </a:lnTo>
                    <a:lnTo>
                      <a:pt x="85" y="1207"/>
                    </a:lnTo>
                    <a:lnTo>
                      <a:pt x="66" y="1198"/>
                    </a:lnTo>
                    <a:lnTo>
                      <a:pt x="50" y="1188"/>
                    </a:lnTo>
                    <a:lnTo>
                      <a:pt x="36" y="1178"/>
                    </a:lnTo>
                    <a:lnTo>
                      <a:pt x="24" y="1167"/>
                    </a:lnTo>
                    <a:lnTo>
                      <a:pt x="7" y="1150"/>
                    </a:lnTo>
                    <a:lnTo>
                      <a:pt x="1" y="1142"/>
                    </a:lnTo>
                    <a:lnTo>
                      <a:pt x="0" y="1123"/>
                    </a:lnTo>
                    <a:lnTo>
                      <a:pt x="1" y="1102"/>
                    </a:lnTo>
                    <a:lnTo>
                      <a:pt x="6" y="1083"/>
                    </a:lnTo>
                    <a:lnTo>
                      <a:pt x="11" y="1063"/>
                    </a:lnTo>
                    <a:lnTo>
                      <a:pt x="19" y="1044"/>
                    </a:lnTo>
                    <a:lnTo>
                      <a:pt x="27" y="1025"/>
                    </a:lnTo>
                    <a:lnTo>
                      <a:pt x="38" y="1006"/>
                    </a:lnTo>
                    <a:lnTo>
                      <a:pt x="51" y="988"/>
                    </a:lnTo>
                    <a:lnTo>
                      <a:pt x="64" y="969"/>
                    </a:lnTo>
                    <a:lnTo>
                      <a:pt x="79" y="951"/>
                    </a:lnTo>
                    <a:lnTo>
                      <a:pt x="94" y="934"/>
                    </a:lnTo>
                    <a:lnTo>
                      <a:pt x="111" y="916"/>
                    </a:lnTo>
                    <a:lnTo>
                      <a:pt x="128" y="899"/>
                    </a:lnTo>
                    <a:lnTo>
                      <a:pt x="146" y="883"/>
                    </a:lnTo>
                    <a:lnTo>
                      <a:pt x="163" y="867"/>
                    </a:lnTo>
                    <a:lnTo>
                      <a:pt x="182" y="851"/>
                    </a:lnTo>
                    <a:lnTo>
                      <a:pt x="219" y="823"/>
                    </a:lnTo>
                    <a:lnTo>
                      <a:pt x="254" y="797"/>
                    </a:lnTo>
                    <a:lnTo>
                      <a:pt x="287" y="775"/>
                    </a:lnTo>
                    <a:lnTo>
                      <a:pt x="317" y="755"/>
                    </a:lnTo>
                    <a:lnTo>
                      <a:pt x="362" y="728"/>
                    </a:lnTo>
                    <a:lnTo>
                      <a:pt x="380" y="719"/>
                    </a:lnTo>
                    <a:lnTo>
                      <a:pt x="392" y="720"/>
                    </a:lnTo>
                    <a:lnTo>
                      <a:pt x="431" y="716"/>
                    </a:lnTo>
                    <a:lnTo>
                      <a:pt x="459" y="711"/>
                    </a:lnTo>
                    <a:lnTo>
                      <a:pt x="493" y="704"/>
                    </a:lnTo>
                    <a:lnTo>
                      <a:pt x="511" y="699"/>
                    </a:lnTo>
                    <a:lnTo>
                      <a:pt x="532" y="693"/>
                    </a:lnTo>
                    <a:lnTo>
                      <a:pt x="553" y="686"/>
                    </a:lnTo>
                    <a:lnTo>
                      <a:pt x="575" y="678"/>
                    </a:lnTo>
                    <a:lnTo>
                      <a:pt x="600" y="668"/>
                    </a:lnTo>
                    <a:lnTo>
                      <a:pt x="625" y="657"/>
                    </a:lnTo>
                    <a:lnTo>
                      <a:pt x="651" y="645"/>
                    </a:lnTo>
                    <a:lnTo>
                      <a:pt x="678" y="631"/>
                    </a:lnTo>
                    <a:lnTo>
                      <a:pt x="706" y="616"/>
                    </a:lnTo>
                    <a:lnTo>
                      <a:pt x="736" y="599"/>
                    </a:lnTo>
                    <a:lnTo>
                      <a:pt x="766" y="580"/>
                    </a:lnTo>
                    <a:lnTo>
                      <a:pt x="798" y="560"/>
                    </a:lnTo>
                    <a:lnTo>
                      <a:pt x="830" y="537"/>
                    </a:lnTo>
                    <a:lnTo>
                      <a:pt x="863" y="512"/>
                    </a:lnTo>
                    <a:lnTo>
                      <a:pt x="898" y="486"/>
                    </a:lnTo>
                    <a:lnTo>
                      <a:pt x="933" y="457"/>
                    </a:lnTo>
                    <a:lnTo>
                      <a:pt x="968" y="426"/>
                    </a:lnTo>
                    <a:lnTo>
                      <a:pt x="1006" y="392"/>
                    </a:lnTo>
                    <a:lnTo>
                      <a:pt x="1043" y="357"/>
                    </a:lnTo>
                    <a:lnTo>
                      <a:pt x="1082" y="319"/>
                    </a:lnTo>
                    <a:lnTo>
                      <a:pt x="1119" y="280"/>
                    </a:lnTo>
                    <a:lnTo>
                      <a:pt x="1157" y="246"/>
                    </a:lnTo>
                    <a:lnTo>
                      <a:pt x="1194" y="213"/>
                    </a:lnTo>
                    <a:lnTo>
                      <a:pt x="1230" y="184"/>
                    </a:lnTo>
                    <a:lnTo>
                      <a:pt x="1265" y="158"/>
                    </a:lnTo>
                    <a:lnTo>
                      <a:pt x="1299" y="133"/>
                    </a:lnTo>
                    <a:lnTo>
                      <a:pt x="1332" y="112"/>
                    </a:lnTo>
                    <a:lnTo>
                      <a:pt x="1365" y="92"/>
                    </a:lnTo>
                    <a:lnTo>
                      <a:pt x="1396" y="76"/>
                    </a:lnTo>
                    <a:lnTo>
                      <a:pt x="1427" y="61"/>
                    </a:lnTo>
                    <a:lnTo>
                      <a:pt x="1457" y="48"/>
                    </a:lnTo>
                    <a:lnTo>
                      <a:pt x="1485" y="37"/>
                    </a:lnTo>
                    <a:lnTo>
                      <a:pt x="1512" y="27"/>
                    </a:lnTo>
                    <a:lnTo>
                      <a:pt x="1538" y="20"/>
                    </a:lnTo>
                    <a:lnTo>
                      <a:pt x="1562" y="13"/>
                    </a:lnTo>
                    <a:lnTo>
                      <a:pt x="1586" y="8"/>
                    </a:lnTo>
                    <a:lnTo>
                      <a:pt x="1608" y="5"/>
                    </a:lnTo>
                    <a:lnTo>
                      <a:pt x="1629" y="3"/>
                    </a:lnTo>
                    <a:lnTo>
                      <a:pt x="1649" y="2"/>
                    </a:lnTo>
                    <a:lnTo>
                      <a:pt x="1666" y="0"/>
                    </a:lnTo>
                    <a:lnTo>
                      <a:pt x="1683" y="2"/>
                    </a:lnTo>
                    <a:lnTo>
                      <a:pt x="1697" y="3"/>
                    </a:lnTo>
                    <a:lnTo>
                      <a:pt x="1711" y="4"/>
                    </a:lnTo>
                    <a:lnTo>
                      <a:pt x="1723" y="6"/>
                    </a:lnTo>
                    <a:lnTo>
                      <a:pt x="1733" y="8"/>
                    </a:lnTo>
                    <a:lnTo>
                      <a:pt x="1742" y="11"/>
                    </a:lnTo>
                    <a:lnTo>
                      <a:pt x="1749" y="13"/>
                    </a:lnTo>
                    <a:lnTo>
                      <a:pt x="1755" y="17"/>
                    </a:lnTo>
                    <a:lnTo>
                      <a:pt x="1758" y="19"/>
                    </a:lnTo>
                    <a:lnTo>
                      <a:pt x="1759" y="21"/>
                    </a:lnTo>
                    <a:lnTo>
                      <a:pt x="1759" y="23"/>
                    </a:lnTo>
                    <a:lnTo>
                      <a:pt x="1757" y="24"/>
                    </a:lnTo>
                    <a:lnTo>
                      <a:pt x="1747" y="29"/>
                    </a:lnTo>
                    <a:lnTo>
                      <a:pt x="1733" y="36"/>
                    </a:lnTo>
                    <a:lnTo>
                      <a:pt x="1714" y="47"/>
                    </a:lnTo>
                    <a:lnTo>
                      <a:pt x="1690" y="61"/>
                    </a:lnTo>
                    <a:lnTo>
                      <a:pt x="1663" y="77"/>
                    </a:lnTo>
                    <a:lnTo>
                      <a:pt x="1634" y="97"/>
                    </a:lnTo>
                    <a:lnTo>
                      <a:pt x="1602" y="117"/>
                    </a:lnTo>
                    <a:lnTo>
                      <a:pt x="1570" y="140"/>
                    </a:lnTo>
                    <a:lnTo>
                      <a:pt x="1538" y="164"/>
                    </a:lnTo>
                    <a:lnTo>
                      <a:pt x="1505" y="188"/>
                    </a:lnTo>
                    <a:lnTo>
                      <a:pt x="1474" y="213"/>
                    </a:lnTo>
                    <a:lnTo>
                      <a:pt x="1445" y="238"/>
                    </a:lnTo>
                    <a:lnTo>
                      <a:pt x="1418" y="263"/>
                    </a:lnTo>
                    <a:lnTo>
                      <a:pt x="1394" y="287"/>
                    </a:lnTo>
                    <a:lnTo>
                      <a:pt x="1383" y="299"/>
                    </a:lnTo>
                    <a:lnTo>
                      <a:pt x="1373" y="309"/>
                    </a:lnTo>
                    <a:lnTo>
                      <a:pt x="1366" y="320"/>
                    </a:lnTo>
                    <a:lnTo>
                      <a:pt x="1358" y="331"/>
                    </a:lnTo>
                    <a:lnTo>
                      <a:pt x="1353" y="341"/>
                    </a:lnTo>
                    <a:lnTo>
                      <a:pt x="1350" y="349"/>
                    </a:lnTo>
                    <a:lnTo>
                      <a:pt x="1349" y="357"/>
                    </a:lnTo>
                    <a:lnTo>
                      <a:pt x="1350" y="363"/>
                    </a:lnTo>
                    <a:lnTo>
                      <a:pt x="1352" y="369"/>
                    </a:lnTo>
                    <a:lnTo>
                      <a:pt x="1356" y="373"/>
                    </a:lnTo>
                    <a:lnTo>
                      <a:pt x="1363" y="377"/>
                    </a:lnTo>
                    <a:lnTo>
                      <a:pt x="1370" y="380"/>
                    </a:lnTo>
                    <a:lnTo>
                      <a:pt x="1380" y="381"/>
                    </a:lnTo>
                    <a:lnTo>
                      <a:pt x="1391" y="382"/>
                    </a:lnTo>
                    <a:lnTo>
                      <a:pt x="1404" y="382"/>
                    </a:lnTo>
                    <a:lnTo>
                      <a:pt x="1418" y="381"/>
                    </a:lnTo>
                    <a:lnTo>
                      <a:pt x="1450" y="377"/>
                    </a:lnTo>
                    <a:lnTo>
                      <a:pt x="1487" y="370"/>
                    </a:lnTo>
                    <a:lnTo>
                      <a:pt x="1529" y="361"/>
                    </a:lnTo>
                    <a:lnTo>
                      <a:pt x="1575" y="350"/>
                    </a:lnTo>
                    <a:lnTo>
                      <a:pt x="1625" y="337"/>
                    </a:lnTo>
                    <a:lnTo>
                      <a:pt x="1679" y="323"/>
                    </a:lnTo>
                    <a:lnTo>
                      <a:pt x="1792" y="293"/>
                    </a:lnTo>
                    <a:lnTo>
                      <a:pt x="1915" y="260"/>
                    </a:lnTo>
                    <a:lnTo>
                      <a:pt x="1975" y="245"/>
                    </a:lnTo>
                    <a:lnTo>
                      <a:pt x="2029" y="230"/>
                    </a:lnTo>
                    <a:lnTo>
                      <a:pt x="2079" y="220"/>
                    </a:lnTo>
                    <a:lnTo>
                      <a:pt x="2123" y="211"/>
                    </a:lnTo>
                    <a:lnTo>
                      <a:pt x="2162" y="205"/>
                    </a:lnTo>
                    <a:lnTo>
                      <a:pt x="2198" y="199"/>
                    </a:lnTo>
                    <a:lnTo>
                      <a:pt x="2228" y="195"/>
                    </a:lnTo>
                    <a:lnTo>
                      <a:pt x="2255" y="193"/>
                    </a:lnTo>
                    <a:lnTo>
                      <a:pt x="2278" y="192"/>
                    </a:lnTo>
                    <a:lnTo>
                      <a:pt x="2297" y="191"/>
                    </a:lnTo>
                    <a:lnTo>
                      <a:pt x="2312" y="191"/>
                    </a:lnTo>
                    <a:lnTo>
                      <a:pt x="2325" y="191"/>
                    </a:lnTo>
                    <a:lnTo>
                      <a:pt x="2340" y="192"/>
                    </a:lnTo>
                    <a:lnTo>
                      <a:pt x="2345" y="193"/>
                    </a:lnTo>
                    <a:lnTo>
                      <a:pt x="2335" y="202"/>
                    </a:lnTo>
                    <a:lnTo>
                      <a:pt x="2306" y="228"/>
                    </a:lnTo>
                    <a:lnTo>
                      <a:pt x="2284" y="247"/>
                    </a:lnTo>
                    <a:lnTo>
                      <a:pt x="2258" y="267"/>
                    </a:lnTo>
                    <a:lnTo>
                      <a:pt x="2228" y="291"/>
                    </a:lnTo>
                    <a:lnTo>
                      <a:pt x="2193" y="316"/>
                    </a:lnTo>
                    <a:lnTo>
                      <a:pt x="2154" y="342"/>
                    </a:lnTo>
                    <a:lnTo>
                      <a:pt x="2111" y="369"/>
                    </a:lnTo>
                    <a:lnTo>
                      <a:pt x="2064" y="396"/>
                    </a:lnTo>
                    <a:lnTo>
                      <a:pt x="2013" y="423"/>
                    </a:lnTo>
                    <a:lnTo>
                      <a:pt x="1986" y="437"/>
                    </a:lnTo>
                    <a:lnTo>
                      <a:pt x="1959" y="450"/>
                    </a:lnTo>
                    <a:lnTo>
                      <a:pt x="1930" y="463"/>
                    </a:lnTo>
                    <a:lnTo>
                      <a:pt x="1901" y="476"/>
                    </a:lnTo>
                    <a:lnTo>
                      <a:pt x="1870" y="488"/>
                    </a:lnTo>
                    <a:lnTo>
                      <a:pt x="1839" y="499"/>
                    </a:lnTo>
                    <a:lnTo>
                      <a:pt x="1807" y="510"/>
                    </a:lnTo>
                    <a:lnTo>
                      <a:pt x="1774" y="521"/>
                    </a:lnTo>
                    <a:lnTo>
                      <a:pt x="1657" y="558"/>
                    </a:lnTo>
                    <a:lnTo>
                      <a:pt x="1571" y="587"/>
                    </a:lnTo>
                    <a:lnTo>
                      <a:pt x="1538" y="600"/>
                    </a:lnTo>
                    <a:lnTo>
                      <a:pt x="1512" y="610"/>
                    </a:lnTo>
                    <a:lnTo>
                      <a:pt x="1491" y="619"/>
                    </a:lnTo>
                    <a:lnTo>
                      <a:pt x="1476" y="627"/>
                    </a:lnTo>
                    <a:lnTo>
                      <a:pt x="1465" y="633"/>
                    </a:lnTo>
                    <a:lnTo>
                      <a:pt x="1461" y="638"/>
                    </a:lnTo>
                    <a:lnTo>
                      <a:pt x="1460" y="640"/>
                    </a:lnTo>
                    <a:lnTo>
                      <a:pt x="1460" y="642"/>
                    </a:lnTo>
                    <a:lnTo>
                      <a:pt x="1461" y="644"/>
                    </a:lnTo>
                    <a:lnTo>
                      <a:pt x="1463" y="645"/>
                    </a:lnTo>
                    <a:lnTo>
                      <a:pt x="1471" y="647"/>
                    </a:lnTo>
                    <a:lnTo>
                      <a:pt x="1480" y="648"/>
                    </a:lnTo>
                    <a:lnTo>
                      <a:pt x="1493" y="650"/>
                    </a:lnTo>
                    <a:lnTo>
                      <a:pt x="1509" y="650"/>
                    </a:lnTo>
                    <a:lnTo>
                      <a:pt x="1519" y="650"/>
                    </a:lnTo>
                    <a:lnTo>
                      <a:pt x="1532" y="647"/>
                    </a:lnTo>
                    <a:lnTo>
                      <a:pt x="1548" y="643"/>
                    </a:lnTo>
                    <a:lnTo>
                      <a:pt x="1567" y="639"/>
                    </a:lnTo>
                    <a:lnTo>
                      <a:pt x="1610" y="625"/>
                    </a:lnTo>
                    <a:lnTo>
                      <a:pt x="1661" y="607"/>
                    </a:lnTo>
                    <a:lnTo>
                      <a:pt x="1718" y="587"/>
                    </a:lnTo>
                    <a:lnTo>
                      <a:pt x="1780" y="564"/>
                    </a:lnTo>
                    <a:lnTo>
                      <a:pt x="1844" y="539"/>
                    </a:lnTo>
                    <a:lnTo>
                      <a:pt x="1908" y="515"/>
                    </a:lnTo>
                    <a:lnTo>
                      <a:pt x="2033" y="464"/>
                    </a:lnTo>
                    <a:lnTo>
                      <a:pt x="2139" y="421"/>
                    </a:lnTo>
                    <a:lnTo>
                      <a:pt x="2214" y="389"/>
                    </a:lnTo>
                    <a:lnTo>
                      <a:pt x="2241" y="378"/>
                    </a:lnTo>
                    <a:lnTo>
                      <a:pt x="2241" y="383"/>
                    </a:lnTo>
                    <a:lnTo>
                      <a:pt x="2240" y="395"/>
                    </a:lnTo>
                    <a:lnTo>
                      <a:pt x="2239" y="403"/>
                    </a:lnTo>
                    <a:lnTo>
                      <a:pt x="2236" y="414"/>
                    </a:lnTo>
                    <a:lnTo>
                      <a:pt x="2233" y="426"/>
                    </a:lnTo>
                    <a:lnTo>
                      <a:pt x="2229" y="440"/>
                    </a:lnTo>
                    <a:lnTo>
                      <a:pt x="2222" y="455"/>
                    </a:lnTo>
                    <a:lnTo>
                      <a:pt x="2216" y="471"/>
                    </a:lnTo>
                    <a:lnTo>
                      <a:pt x="2207" y="489"/>
                    </a:lnTo>
                    <a:lnTo>
                      <a:pt x="2197" y="507"/>
                    </a:lnTo>
                    <a:lnTo>
                      <a:pt x="2184" y="527"/>
                    </a:lnTo>
                    <a:lnTo>
                      <a:pt x="2170" y="547"/>
                    </a:lnTo>
                    <a:lnTo>
                      <a:pt x="2152" y="569"/>
                    </a:lnTo>
                    <a:lnTo>
                      <a:pt x="2133" y="590"/>
                    </a:lnTo>
                    <a:lnTo>
                      <a:pt x="2110" y="613"/>
                    </a:lnTo>
                    <a:lnTo>
                      <a:pt x="2084" y="635"/>
                    </a:lnTo>
                    <a:lnTo>
                      <a:pt x="2056" y="658"/>
                    </a:lnTo>
                    <a:lnTo>
                      <a:pt x="2025" y="682"/>
                    </a:lnTo>
                    <a:lnTo>
                      <a:pt x="1990" y="706"/>
                    </a:lnTo>
                    <a:lnTo>
                      <a:pt x="1951" y="728"/>
                    </a:lnTo>
                    <a:lnTo>
                      <a:pt x="1909" y="752"/>
                    </a:lnTo>
                    <a:lnTo>
                      <a:pt x="1864" y="776"/>
                    </a:lnTo>
                    <a:lnTo>
                      <a:pt x="1813" y="799"/>
                    </a:lnTo>
                    <a:lnTo>
                      <a:pt x="1759" y="821"/>
                    </a:lnTo>
                    <a:lnTo>
                      <a:pt x="1700" y="843"/>
                    </a:lnTo>
                    <a:lnTo>
                      <a:pt x="1637" y="864"/>
                    </a:lnTo>
                    <a:lnTo>
                      <a:pt x="1569" y="885"/>
                    </a:lnTo>
                    <a:lnTo>
                      <a:pt x="1495" y="904"/>
                    </a:lnTo>
                    <a:lnTo>
                      <a:pt x="1418" y="924"/>
                    </a:lnTo>
                    <a:lnTo>
                      <a:pt x="1333" y="941"/>
                    </a:lnTo>
                    <a:close/>
                  </a:path>
                </a:pathLst>
              </a:custGeom>
              <a:solidFill>
                <a:srgbClr val="9cc8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5904000" y="3294000"/>
                <a:ext cx="725400" cy="379440"/>
              </a:xfrm>
              <a:custGeom>
                <a:avLst/>
                <a:gdLst/>
                <a:ahLst/>
                <a:rect l="l" t="t" r="r" b="b"/>
                <a:pathLst>
                  <a:path w="2288" h="1192">
                    <a:moveTo>
                      <a:pt x="1339" y="914"/>
                    </a:moveTo>
                    <a:lnTo>
                      <a:pt x="1306" y="919"/>
                    </a:lnTo>
                    <a:lnTo>
                      <a:pt x="1269" y="924"/>
                    </a:lnTo>
                    <a:lnTo>
                      <a:pt x="1226" y="927"/>
                    </a:lnTo>
                    <a:lnTo>
                      <a:pt x="1181" y="929"/>
                    </a:lnTo>
                    <a:lnTo>
                      <a:pt x="1131" y="930"/>
                    </a:lnTo>
                    <a:lnTo>
                      <a:pt x="1081" y="930"/>
                    </a:lnTo>
                    <a:lnTo>
                      <a:pt x="1029" y="928"/>
                    </a:lnTo>
                    <a:lnTo>
                      <a:pt x="976" y="926"/>
                    </a:lnTo>
                    <a:lnTo>
                      <a:pt x="923" y="921"/>
                    </a:lnTo>
                    <a:lnTo>
                      <a:pt x="871" y="917"/>
                    </a:lnTo>
                    <a:lnTo>
                      <a:pt x="821" y="911"/>
                    </a:lnTo>
                    <a:lnTo>
                      <a:pt x="774" y="903"/>
                    </a:lnTo>
                    <a:lnTo>
                      <a:pt x="731" y="894"/>
                    </a:lnTo>
                    <a:lnTo>
                      <a:pt x="692" y="885"/>
                    </a:lnTo>
                    <a:lnTo>
                      <a:pt x="673" y="880"/>
                    </a:lnTo>
                    <a:lnTo>
                      <a:pt x="657" y="874"/>
                    </a:lnTo>
                    <a:lnTo>
                      <a:pt x="642" y="868"/>
                    </a:lnTo>
                    <a:lnTo>
                      <a:pt x="629" y="862"/>
                    </a:lnTo>
                    <a:lnTo>
                      <a:pt x="616" y="857"/>
                    </a:lnTo>
                    <a:lnTo>
                      <a:pt x="603" y="852"/>
                    </a:lnTo>
                    <a:lnTo>
                      <a:pt x="590" y="849"/>
                    </a:lnTo>
                    <a:lnTo>
                      <a:pt x="577" y="847"/>
                    </a:lnTo>
                    <a:lnTo>
                      <a:pt x="563" y="846"/>
                    </a:lnTo>
                    <a:lnTo>
                      <a:pt x="550" y="846"/>
                    </a:lnTo>
                    <a:lnTo>
                      <a:pt x="536" y="847"/>
                    </a:lnTo>
                    <a:lnTo>
                      <a:pt x="522" y="849"/>
                    </a:lnTo>
                    <a:lnTo>
                      <a:pt x="509" y="852"/>
                    </a:lnTo>
                    <a:lnTo>
                      <a:pt x="495" y="857"/>
                    </a:lnTo>
                    <a:lnTo>
                      <a:pt x="481" y="861"/>
                    </a:lnTo>
                    <a:lnTo>
                      <a:pt x="467" y="866"/>
                    </a:lnTo>
                    <a:lnTo>
                      <a:pt x="453" y="873"/>
                    </a:lnTo>
                    <a:lnTo>
                      <a:pt x="439" y="880"/>
                    </a:lnTo>
                    <a:lnTo>
                      <a:pt x="426" y="888"/>
                    </a:lnTo>
                    <a:lnTo>
                      <a:pt x="412" y="897"/>
                    </a:lnTo>
                    <a:lnTo>
                      <a:pt x="399" y="906"/>
                    </a:lnTo>
                    <a:lnTo>
                      <a:pt x="385" y="916"/>
                    </a:lnTo>
                    <a:lnTo>
                      <a:pt x="372" y="926"/>
                    </a:lnTo>
                    <a:lnTo>
                      <a:pt x="359" y="937"/>
                    </a:lnTo>
                    <a:lnTo>
                      <a:pt x="334" y="960"/>
                    </a:lnTo>
                    <a:lnTo>
                      <a:pt x="310" y="984"/>
                    </a:lnTo>
                    <a:lnTo>
                      <a:pt x="287" y="1010"/>
                    </a:lnTo>
                    <a:lnTo>
                      <a:pt x="266" y="1037"/>
                    </a:lnTo>
                    <a:lnTo>
                      <a:pt x="247" y="1065"/>
                    </a:lnTo>
                    <a:lnTo>
                      <a:pt x="228" y="1092"/>
                    </a:lnTo>
                    <a:lnTo>
                      <a:pt x="217" y="1110"/>
                    </a:lnTo>
                    <a:lnTo>
                      <a:pt x="206" y="1126"/>
                    </a:lnTo>
                    <a:lnTo>
                      <a:pt x="195" y="1140"/>
                    </a:lnTo>
                    <a:lnTo>
                      <a:pt x="183" y="1151"/>
                    </a:lnTo>
                    <a:lnTo>
                      <a:pt x="172" y="1162"/>
                    </a:lnTo>
                    <a:lnTo>
                      <a:pt x="161" y="1170"/>
                    </a:lnTo>
                    <a:lnTo>
                      <a:pt x="152" y="1177"/>
                    </a:lnTo>
                    <a:lnTo>
                      <a:pt x="141" y="1183"/>
                    </a:lnTo>
                    <a:lnTo>
                      <a:pt x="131" y="1187"/>
                    </a:lnTo>
                    <a:lnTo>
                      <a:pt x="121" y="1190"/>
                    </a:lnTo>
                    <a:lnTo>
                      <a:pt x="112" y="1192"/>
                    </a:lnTo>
                    <a:lnTo>
                      <a:pt x="102" y="1192"/>
                    </a:lnTo>
                    <a:lnTo>
                      <a:pt x="93" y="1192"/>
                    </a:lnTo>
                    <a:lnTo>
                      <a:pt x="85" y="1191"/>
                    </a:lnTo>
                    <a:lnTo>
                      <a:pt x="76" y="1189"/>
                    </a:lnTo>
                    <a:lnTo>
                      <a:pt x="68" y="1187"/>
                    </a:lnTo>
                    <a:lnTo>
                      <a:pt x="53" y="1181"/>
                    </a:lnTo>
                    <a:lnTo>
                      <a:pt x="40" y="1172"/>
                    </a:lnTo>
                    <a:lnTo>
                      <a:pt x="28" y="1163"/>
                    </a:lnTo>
                    <a:lnTo>
                      <a:pt x="19" y="1154"/>
                    </a:lnTo>
                    <a:lnTo>
                      <a:pt x="6" y="1138"/>
                    </a:lnTo>
                    <a:lnTo>
                      <a:pt x="1" y="1132"/>
                    </a:lnTo>
                    <a:lnTo>
                      <a:pt x="0" y="1113"/>
                    </a:lnTo>
                    <a:lnTo>
                      <a:pt x="1" y="1092"/>
                    </a:lnTo>
                    <a:lnTo>
                      <a:pt x="6" y="1073"/>
                    </a:lnTo>
                    <a:lnTo>
                      <a:pt x="11" y="1053"/>
                    </a:lnTo>
                    <a:lnTo>
                      <a:pt x="19" y="1034"/>
                    </a:lnTo>
                    <a:lnTo>
                      <a:pt x="27" y="1015"/>
                    </a:lnTo>
                    <a:lnTo>
                      <a:pt x="38" y="996"/>
                    </a:lnTo>
                    <a:lnTo>
                      <a:pt x="51" y="978"/>
                    </a:lnTo>
                    <a:lnTo>
                      <a:pt x="64" y="959"/>
                    </a:lnTo>
                    <a:lnTo>
                      <a:pt x="79" y="941"/>
                    </a:lnTo>
                    <a:lnTo>
                      <a:pt x="94" y="924"/>
                    </a:lnTo>
                    <a:lnTo>
                      <a:pt x="111" y="906"/>
                    </a:lnTo>
                    <a:lnTo>
                      <a:pt x="128" y="889"/>
                    </a:lnTo>
                    <a:lnTo>
                      <a:pt x="146" y="873"/>
                    </a:lnTo>
                    <a:lnTo>
                      <a:pt x="163" y="857"/>
                    </a:lnTo>
                    <a:lnTo>
                      <a:pt x="182" y="841"/>
                    </a:lnTo>
                    <a:lnTo>
                      <a:pt x="219" y="813"/>
                    </a:lnTo>
                    <a:lnTo>
                      <a:pt x="254" y="787"/>
                    </a:lnTo>
                    <a:lnTo>
                      <a:pt x="287" y="765"/>
                    </a:lnTo>
                    <a:lnTo>
                      <a:pt x="317" y="745"/>
                    </a:lnTo>
                    <a:lnTo>
                      <a:pt x="362" y="718"/>
                    </a:lnTo>
                    <a:lnTo>
                      <a:pt x="380" y="709"/>
                    </a:lnTo>
                    <a:lnTo>
                      <a:pt x="392" y="710"/>
                    </a:lnTo>
                    <a:lnTo>
                      <a:pt x="431" y="706"/>
                    </a:lnTo>
                    <a:lnTo>
                      <a:pt x="459" y="701"/>
                    </a:lnTo>
                    <a:lnTo>
                      <a:pt x="493" y="694"/>
                    </a:lnTo>
                    <a:lnTo>
                      <a:pt x="511" y="689"/>
                    </a:lnTo>
                    <a:lnTo>
                      <a:pt x="532" y="683"/>
                    </a:lnTo>
                    <a:lnTo>
                      <a:pt x="553" y="676"/>
                    </a:lnTo>
                    <a:lnTo>
                      <a:pt x="575" y="668"/>
                    </a:lnTo>
                    <a:lnTo>
                      <a:pt x="600" y="658"/>
                    </a:lnTo>
                    <a:lnTo>
                      <a:pt x="625" y="647"/>
                    </a:lnTo>
                    <a:lnTo>
                      <a:pt x="651" y="635"/>
                    </a:lnTo>
                    <a:lnTo>
                      <a:pt x="678" y="621"/>
                    </a:lnTo>
                    <a:lnTo>
                      <a:pt x="706" y="606"/>
                    </a:lnTo>
                    <a:lnTo>
                      <a:pt x="736" y="589"/>
                    </a:lnTo>
                    <a:lnTo>
                      <a:pt x="766" y="570"/>
                    </a:lnTo>
                    <a:lnTo>
                      <a:pt x="798" y="550"/>
                    </a:lnTo>
                    <a:lnTo>
                      <a:pt x="830" y="527"/>
                    </a:lnTo>
                    <a:lnTo>
                      <a:pt x="863" y="502"/>
                    </a:lnTo>
                    <a:lnTo>
                      <a:pt x="898" y="476"/>
                    </a:lnTo>
                    <a:lnTo>
                      <a:pt x="933" y="447"/>
                    </a:lnTo>
                    <a:lnTo>
                      <a:pt x="968" y="416"/>
                    </a:lnTo>
                    <a:lnTo>
                      <a:pt x="1006" y="382"/>
                    </a:lnTo>
                    <a:lnTo>
                      <a:pt x="1043" y="347"/>
                    </a:lnTo>
                    <a:lnTo>
                      <a:pt x="1082" y="309"/>
                    </a:lnTo>
                    <a:lnTo>
                      <a:pt x="1119" y="271"/>
                    </a:lnTo>
                    <a:lnTo>
                      <a:pt x="1156" y="236"/>
                    </a:lnTo>
                    <a:lnTo>
                      <a:pt x="1193" y="204"/>
                    </a:lnTo>
                    <a:lnTo>
                      <a:pt x="1228" y="175"/>
                    </a:lnTo>
                    <a:lnTo>
                      <a:pt x="1261" y="148"/>
                    </a:lnTo>
                    <a:lnTo>
                      <a:pt x="1294" y="125"/>
                    </a:lnTo>
                    <a:lnTo>
                      <a:pt x="1326" y="104"/>
                    </a:lnTo>
                    <a:lnTo>
                      <a:pt x="1356" y="85"/>
                    </a:lnTo>
                    <a:lnTo>
                      <a:pt x="1386" y="68"/>
                    </a:lnTo>
                    <a:lnTo>
                      <a:pt x="1414" y="54"/>
                    </a:lnTo>
                    <a:lnTo>
                      <a:pt x="1441" y="42"/>
                    </a:lnTo>
                    <a:lnTo>
                      <a:pt x="1467" y="31"/>
                    </a:lnTo>
                    <a:lnTo>
                      <a:pt x="1492" y="23"/>
                    </a:lnTo>
                    <a:lnTo>
                      <a:pt x="1516" y="15"/>
                    </a:lnTo>
                    <a:lnTo>
                      <a:pt x="1538" y="10"/>
                    </a:lnTo>
                    <a:lnTo>
                      <a:pt x="1559" y="6"/>
                    </a:lnTo>
                    <a:lnTo>
                      <a:pt x="1579" y="3"/>
                    </a:lnTo>
                    <a:lnTo>
                      <a:pt x="1597" y="1"/>
                    </a:lnTo>
                    <a:lnTo>
                      <a:pt x="1613" y="0"/>
                    </a:lnTo>
                    <a:lnTo>
                      <a:pt x="1629" y="1"/>
                    </a:lnTo>
                    <a:lnTo>
                      <a:pt x="1643" y="2"/>
                    </a:lnTo>
                    <a:lnTo>
                      <a:pt x="1656" y="3"/>
                    </a:lnTo>
                    <a:lnTo>
                      <a:pt x="1667" y="6"/>
                    </a:lnTo>
                    <a:lnTo>
                      <a:pt x="1677" y="9"/>
                    </a:lnTo>
                    <a:lnTo>
                      <a:pt x="1686" y="11"/>
                    </a:lnTo>
                    <a:lnTo>
                      <a:pt x="1693" y="14"/>
                    </a:lnTo>
                    <a:lnTo>
                      <a:pt x="1699" y="17"/>
                    </a:lnTo>
                    <a:lnTo>
                      <a:pt x="1702" y="21"/>
                    </a:lnTo>
                    <a:lnTo>
                      <a:pt x="1705" y="23"/>
                    </a:lnTo>
                    <a:lnTo>
                      <a:pt x="1705" y="26"/>
                    </a:lnTo>
                    <a:lnTo>
                      <a:pt x="1705" y="28"/>
                    </a:lnTo>
                    <a:lnTo>
                      <a:pt x="1702" y="29"/>
                    </a:lnTo>
                    <a:lnTo>
                      <a:pt x="1693" y="34"/>
                    </a:lnTo>
                    <a:lnTo>
                      <a:pt x="1679" y="41"/>
                    </a:lnTo>
                    <a:lnTo>
                      <a:pt x="1661" y="53"/>
                    </a:lnTo>
                    <a:lnTo>
                      <a:pt x="1638" y="67"/>
                    </a:lnTo>
                    <a:lnTo>
                      <a:pt x="1612" y="84"/>
                    </a:lnTo>
                    <a:lnTo>
                      <a:pt x="1584" y="105"/>
                    </a:lnTo>
                    <a:lnTo>
                      <a:pt x="1554" y="127"/>
                    </a:lnTo>
                    <a:lnTo>
                      <a:pt x="1522" y="149"/>
                    </a:lnTo>
                    <a:lnTo>
                      <a:pt x="1491" y="174"/>
                    </a:lnTo>
                    <a:lnTo>
                      <a:pt x="1460" y="199"/>
                    </a:lnTo>
                    <a:lnTo>
                      <a:pt x="1428" y="225"/>
                    </a:lnTo>
                    <a:lnTo>
                      <a:pt x="1400" y="251"/>
                    </a:lnTo>
                    <a:lnTo>
                      <a:pt x="1374" y="277"/>
                    </a:lnTo>
                    <a:lnTo>
                      <a:pt x="1351" y="300"/>
                    </a:lnTo>
                    <a:lnTo>
                      <a:pt x="1341" y="312"/>
                    </a:lnTo>
                    <a:lnTo>
                      <a:pt x="1331" y="324"/>
                    </a:lnTo>
                    <a:lnTo>
                      <a:pt x="1324" y="335"/>
                    </a:lnTo>
                    <a:lnTo>
                      <a:pt x="1316" y="346"/>
                    </a:lnTo>
                    <a:lnTo>
                      <a:pt x="1311" y="355"/>
                    </a:lnTo>
                    <a:lnTo>
                      <a:pt x="1307" y="364"/>
                    </a:lnTo>
                    <a:lnTo>
                      <a:pt x="1306" y="372"/>
                    </a:lnTo>
                    <a:lnTo>
                      <a:pt x="1307" y="378"/>
                    </a:lnTo>
                    <a:lnTo>
                      <a:pt x="1310" y="384"/>
                    </a:lnTo>
                    <a:lnTo>
                      <a:pt x="1315" y="388"/>
                    </a:lnTo>
                    <a:lnTo>
                      <a:pt x="1320" y="392"/>
                    </a:lnTo>
                    <a:lnTo>
                      <a:pt x="1329" y="394"/>
                    </a:lnTo>
                    <a:lnTo>
                      <a:pt x="1338" y="397"/>
                    </a:lnTo>
                    <a:lnTo>
                      <a:pt x="1350" y="397"/>
                    </a:lnTo>
                    <a:lnTo>
                      <a:pt x="1361" y="397"/>
                    </a:lnTo>
                    <a:lnTo>
                      <a:pt x="1376" y="397"/>
                    </a:lnTo>
                    <a:lnTo>
                      <a:pt x="1408" y="392"/>
                    </a:lnTo>
                    <a:lnTo>
                      <a:pt x="1446" y="387"/>
                    </a:lnTo>
                    <a:lnTo>
                      <a:pt x="1487" y="378"/>
                    </a:lnTo>
                    <a:lnTo>
                      <a:pt x="1533" y="367"/>
                    </a:lnTo>
                    <a:lnTo>
                      <a:pt x="1583" y="354"/>
                    </a:lnTo>
                    <a:lnTo>
                      <a:pt x="1637" y="340"/>
                    </a:lnTo>
                    <a:lnTo>
                      <a:pt x="1750" y="310"/>
                    </a:lnTo>
                    <a:lnTo>
                      <a:pt x="1872" y="277"/>
                    </a:lnTo>
                    <a:lnTo>
                      <a:pt x="1932" y="262"/>
                    </a:lnTo>
                    <a:lnTo>
                      <a:pt x="1986" y="249"/>
                    </a:lnTo>
                    <a:lnTo>
                      <a:pt x="2034" y="238"/>
                    </a:lnTo>
                    <a:lnTo>
                      <a:pt x="2079" y="229"/>
                    </a:lnTo>
                    <a:lnTo>
                      <a:pt x="2117" y="223"/>
                    </a:lnTo>
                    <a:lnTo>
                      <a:pt x="2151" y="217"/>
                    </a:lnTo>
                    <a:lnTo>
                      <a:pt x="2180" y="214"/>
                    </a:lnTo>
                    <a:lnTo>
                      <a:pt x="2205" y="211"/>
                    </a:lnTo>
                    <a:lnTo>
                      <a:pt x="2227" y="210"/>
                    </a:lnTo>
                    <a:lnTo>
                      <a:pt x="2245" y="210"/>
                    </a:lnTo>
                    <a:lnTo>
                      <a:pt x="2259" y="210"/>
                    </a:lnTo>
                    <a:lnTo>
                      <a:pt x="2270" y="210"/>
                    </a:lnTo>
                    <a:lnTo>
                      <a:pt x="2284" y="212"/>
                    </a:lnTo>
                    <a:lnTo>
                      <a:pt x="2288" y="212"/>
                    </a:lnTo>
                    <a:lnTo>
                      <a:pt x="2280" y="220"/>
                    </a:lnTo>
                    <a:lnTo>
                      <a:pt x="2254" y="241"/>
                    </a:lnTo>
                    <a:lnTo>
                      <a:pt x="2234" y="256"/>
                    </a:lnTo>
                    <a:lnTo>
                      <a:pt x="2211" y="273"/>
                    </a:lnTo>
                    <a:lnTo>
                      <a:pt x="2182" y="293"/>
                    </a:lnTo>
                    <a:lnTo>
                      <a:pt x="2151" y="314"/>
                    </a:lnTo>
                    <a:lnTo>
                      <a:pt x="2114" y="336"/>
                    </a:lnTo>
                    <a:lnTo>
                      <a:pt x="2074" y="360"/>
                    </a:lnTo>
                    <a:lnTo>
                      <a:pt x="2030" y="384"/>
                    </a:lnTo>
                    <a:lnTo>
                      <a:pt x="1982" y="407"/>
                    </a:lnTo>
                    <a:lnTo>
                      <a:pt x="1929" y="431"/>
                    </a:lnTo>
                    <a:lnTo>
                      <a:pt x="1872" y="455"/>
                    </a:lnTo>
                    <a:lnTo>
                      <a:pt x="1842" y="467"/>
                    </a:lnTo>
                    <a:lnTo>
                      <a:pt x="1811" y="478"/>
                    </a:lnTo>
                    <a:lnTo>
                      <a:pt x="1780" y="488"/>
                    </a:lnTo>
                    <a:lnTo>
                      <a:pt x="1746" y="499"/>
                    </a:lnTo>
                    <a:lnTo>
                      <a:pt x="1683" y="520"/>
                    </a:lnTo>
                    <a:lnTo>
                      <a:pt x="1627" y="538"/>
                    </a:lnTo>
                    <a:lnTo>
                      <a:pt x="1578" y="556"/>
                    </a:lnTo>
                    <a:lnTo>
                      <a:pt x="1534" y="573"/>
                    </a:lnTo>
                    <a:lnTo>
                      <a:pt x="1498" y="588"/>
                    </a:lnTo>
                    <a:lnTo>
                      <a:pt x="1466" y="602"/>
                    </a:lnTo>
                    <a:lnTo>
                      <a:pt x="1440" y="615"/>
                    </a:lnTo>
                    <a:lnTo>
                      <a:pt x="1420" y="627"/>
                    </a:lnTo>
                    <a:lnTo>
                      <a:pt x="1405" y="636"/>
                    </a:lnTo>
                    <a:lnTo>
                      <a:pt x="1395" y="645"/>
                    </a:lnTo>
                    <a:lnTo>
                      <a:pt x="1392" y="649"/>
                    </a:lnTo>
                    <a:lnTo>
                      <a:pt x="1390" y="652"/>
                    </a:lnTo>
                    <a:lnTo>
                      <a:pt x="1388" y="656"/>
                    </a:lnTo>
                    <a:lnTo>
                      <a:pt x="1388" y="659"/>
                    </a:lnTo>
                    <a:lnTo>
                      <a:pt x="1390" y="661"/>
                    </a:lnTo>
                    <a:lnTo>
                      <a:pt x="1392" y="663"/>
                    </a:lnTo>
                    <a:lnTo>
                      <a:pt x="1395" y="665"/>
                    </a:lnTo>
                    <a:lnTo>
                      <a:pt x="1399" y="667"/>
                    </a:lnTo>
                    <a:lnTo>
                      <a:pt x="1410" y="669"/>
                    </a:lnTo>
                    <a:lnTo>
                      <a:pt x="1425" y="670"/>
                    </a:lnTo>
                    <a:lnTo>
                      <a:pt x="1435" y="669"/>
                    </a:lnTo>
                    <a:lnTo>
                      <a:pt x="1448" y="667"/>
                    </a:lnTo>
                    <a:lnTo>
                      <a:pt x="1463" y="664"/>
                    </a:lnTo>
                    <a:lnTo>
                      <a:pt x="1481" y="660"/>
                    </a:lnTo>
                    <a:lnTo>
                      <a:pt x="1525" y="648"/>
                    </a:lnTo>
                    <a:lnTo>
                      <a:pt x="1574" y="634"/>
                    </a:lnTo>
                    <a:lnTo>
                      <a:pt x="1630" y="617"/>
                    </a:lnTo>
                    <a:lnTo>
                      <a:pt x="1691" y="597"/>
                    </a:lnTo>
                    <a:lnTo>
                      <a:pt x="1754" y="576"/>
                    </a:lnTo>
                    <a:lnTo>
                      <a:pt x="1817" y="554"/>
                    </a:lnTo>
                    <a:lnTo>
                      <a:pt x="1938" y="512"/>
                    </a:lnTo>
                    <a:lnTo>
                      <a:pt x="2043" y="475"/>
                    </a:lnTo>
                    <a:lnTo>
                      <a:pt x="2115" y="449"/>
                    </a:lnTo>
                    <a:lnTo>
                      <a:pt x="2143" y="440"/>
                    </a:lnTo>
                    <a:lnTo>
                      <a:pt x="2141" y="443"/>
                    </a:lnTo>
                    <a:lnTo>
                      <a:pt x="2139" y="454"/>
                    </a:lnTo>
                    <a:lnTo>
                      <a:pt x="2134" y="470"/>
                    </a:lnTo>
                    <a:lnTo>
                      <a:pt x="2124" y="492"/>
                    </a:lnTo>
                    <a:lnTo>
                      <a:pt x="2118" y="505"/>
                    </a:lnTo>
                    <a:lnTo>
                      <a:pt x="2110" y="519"/>
                    </a:lnTo>
                    <a:lnTo>
                      <a:pt x="2100" y="534"/>
                    </a:lnTo>
                    <a:lnTo>
                      <a:pt x="2090" y="549"/>
                    </a:lnTo>
                    <a:lnTo>
                      <a:pt x="2077" y="565"/>
                    </a:lnTo>
                    <a:lnTo>
                      <a:pt x="2063" y="582"/>
                    </a:lnTo>
                    <a:lnTo>
                      <a:pt x="2045" y="601"/>
                    </a:lnTo>
                    <a:lnTo>
                      <a:pt x="2027" y="619"/>
                    </a:lnTo>
                    <a:lnTo>
                      <a:pt x="2006" y="637"/>
                    </a:lnTo>
                    <a:lnTo>
                      <a:pt x="1983" y="657"/>
                    </a:lnTo>
                    <a:lnTo>
                      <a:pt x="1957" y="676"/>
                    </a:lnTo>
                    <a:lnTo>
                      <a:pt x="1929" y="696"/>
                    </a:lnTo>
                    <a:lnTo>
                      <a:pt x="1897" y="715"/>
                    </a:lnTo>
                    <a:lnTo>
                      <a:pt x="1864" y="736"/>
                    </a:lnTo>
                    <a:lnTo>
                      <a:pt x="1827" y="755"/>
                    </a:lnTo>
                    <a:lnTo>
                      <a:pt x="1786" y="775"/>
                    </a:lnTo>
                    <a:lnTo>
                      <a:pt x="1743" y="794"/>
                    </a:lnTo>
                    <a:lnTo>
                      <a:pt x="1696" y="812"/>
                    </a:lnTo>
                    <a:lnTo>
                      <a:pt x="1647" y="831"/>
                    </a:lnTo>
                    <a:lnTo>
                      <a:pt x="1593" y="849"/>
                    </a:lnTo>
                    <a:lnTo>
                      <a:pt x="1535" y="866"/>
                    </a:lnTo>
                    <a:lnTo>
                      <a:pt x="1474" y="884"/>
                    </a:lnTo>
                    <a:lnTo>
                      <a:pt x="1408" y="899"/>
                    </a:lnTo>
                    <a:lnTo>
                      <a:pt x="1339" y="914"/>
                    </a:lnTo>
                    <a:close/>
                  </a:path>
                </a:pathLst>
              </a:custGeom>
              <a:solidFill>
                <a:srgbClr val="97c2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5904000" y="3299040"/>
                <a:ext cx="707760" cy="369720"/>
              </a:xfrm>
              <a:custGeom>
                <a:avLst/>
                <a:gdLst/>
                <a:ahLst/>
                <a:rect l="l" t="t" r="r" b="b"/>
                <a:pathLst>
                  <a:path w="2229" h="1167">
                    <a:moveTo>
                      <a:pt x="1341" y="889"/>
                    </a:moveTo>
                    <a:lnTo>
                      <a:pt x="1309" y="894"/>
                    </a:lnTo>
                    <a:lnTo>
                      <a:pt x="1271" y="897"/>
                    </a:lnTo>
                    <a:lnTo>
                      <a:pt x="1229" y="901"/>
                    </a:lnTo>
                    <a:lnTo>
                      <a:pt x="1182" y="902"/>
                    </a:lnTo>
                    <a:lnTo>
                      <a:pt x="1132" y="902"/>
                    </a:lnTo>
                    <a:lnTo>
                      <a:pt x="1081" y="901"/>
                    </a:lnTo>
                    <a:lnTo>
                      <a:pt x="1027" y="899"/>
                    </a:lnTo>
                    <a:lnTo>
                      <a:pt x="973" y="894"/>
                    </a:lnTo>
                    <a:lnTo>
                      <a:pt x="920" y="890"/>
                    </a:lnTo>
                    <a:lnTo>
                      <a:pt x="867" y="884"/>
                    </a:lnTo>
                    <a:lnTo>
                      <a:pt x="816" y="877"/>
                    </a:lnTo>
                    <a:lnTo>
                      <a:pt x="768" y="869"/>
                    </a:lnTo>
                    <a:lnTo>
                      <a:pt x="724" y="860"/>
                    </a:lnTo>
                    <a:lnTo>
                      <a:pt x="684" y="850"/>
                    </a:lnTo>
                    <a:lnTo>
                      <a:pt x="667" y="845"/>
                    </a:lnTo>
                    <a:lnTo>
                      <a:pt x="650" y="839"/>
                    </a:lnTo>
                    <a:lnTo>
                      <a:pt x="636" y="833"/>
                    </a:lnTo>
                    <a:lnTo>
                      <a:pt x="621" y="826"/>
                    </a:lnTo>
                    <a:lnTo>
                      <a:pt x="609" y="821"/>
                    </a:lnTo>
                    <a:lnTo>
                      <a:pt x="596" y="816"/>
                    </a:lnTo>
                    <a:lnTo>
                      <a:pt x="583" y="813"/>
                    </a:lnTo>
                    <a:lnTo>
                      <a:pt x="569" y="811"/>
                    </a:lnTo>
                    <a:lnTo>
                      <a:pt x="555" y="811"/>
                    </a:lnTo>
                    <a:lnTo>
                      <a:pt x="540" y="811"/>
                    </a:lnTo>
                    <a:lnTo>
                      <a:pt x="526" y="812"/>
                    </a:lnTo>
                    <a:lnTo>
                      <a:pt x="511" y="814"/>
                    </a:lnTo>
                    <a:lnTo>
                      <a:pt x="496" y="818"/>
                    </a:lnTo>
                    <a:lnTo>
                      <a:pt x="482" y="822"/>
                    </a:lnTo>
                    <a:lnTo>
                      <a:pt x="467" y="826"/>
                    </a:lnTo>
                    <a:lnTo>
                      <a:pt x="452" y="833"/>
                    </a:lnTo>
                    <a:lnTo>
                      <a:pt x="437" y="839"/>
                    </a:lnTo>
                    <a:lnTo>
                      <a:pt x="422" y="847"/>
                    </a:lnTo>
                    <a:lnTo>
                      <a:pt x="408" y="854"/>
                    </a:lnTo>
                    <a:lnTo>
                      <a:pt x="392" y="863"/>
                    </a:lnTo>
                    <a:lnTo>
                      <a:pt x="377" y="873"/>
                    </a:lnTo>
                    <a:lnTo>
                      <a:pt x="363" y="882"/>
                    </a:lnTo>
                    <a:lnTo>
                      <a:pt x="349" y="893"/>
                    </a:lnTo>
                    <a:lnTo>
                      <a:pt x="335" y="904"/>
                    </a:lnTo>
                    <a:lnTo>
                      <a:pt x="307" y="927"/>
                    </a:lnTo>
                    <a:lnTo>
                      <a:pt x="281" y="951"/>
                    </a:lnTo>
                    <a:lnTo>
                      <a:pt x="257" y="977"/>
                    </a:lnTo>
                    <a:lnTo>
                      <a:pt x="235" y="1004"/>
                    </a:lnTo>
                    <a:lnTo>
                      <a:pt x="214" y="1031"/>
                    </a:lnTo>
                    <a:lnTo>
                      <a:pt x="196" y="1059"/>
                    </a:lnTo>
                    <a:lnTo>
                      <a:pt x="185" y="1077"/>
                    </a:lnTo>
                    <a:lnTo>
                      <a:pt x="174" y="1093"/>
                    </a:lnTo>
                    <a:lnTo>
                      <a:pt x="163" y="1107"/>
                    </a:lnTo>
                    <a:lnTo>
                      <a:pt x="153" y="1119"/>
                    </a:lnTo>
                    <a:lnTo>
                      <a:pt x="142" y="1130"/>
                    </a:lnTo>
                    <a:lnTo>
                      <a:pt x="132" y="1139"/>
                    </a:lnTo>
                    <a:lnTo>
                      <a:pt x="122" y="1147"/>
                    </a:lnTo>
                    <a:lnTo>
                      <a:pt x="114" y="1153"/>
                    </a:lnTo>
                    <a:lnTo>
                      <a:pt x="105" y="1158"/>
                    </a:lnTo>
                    <a:lnTo>
                      <a:pt x="96" y="1162"/>
                    </a:lnTo>
                    <a:lnTo>
                      <a:pt x="88" y="1165"/>
                    </a:lnTo>
                    <a:lnTo>
                      <a:pt x="80" y="1166"/>
                    </a:lnTo>
                    <a:lnTo>
                      <a:pt x="73" y="1167"/>
                    </a:lnTo>
                    <a:lnTo>
                      <a:pt x="65" y="1167"/>
                    </a:lnTo>
                    <a:lnTo>
                      <a:pt x="59" y="1166"/>
                    </a:lnTo>
                    <a:lnTo>
                      <a:pt x="52" y="1165"/>
                    </a:lnTo>
                    <a:lnTo>
                      <a:pt x="40" y="1160"/>
                    </a:lnTo>
                    <a:lnTo>
                      <a:pt x="31" y="1154"/>
                    </a:lnTo>
                    <a:lnTo>
                      <a:pt x="22" y="1147"/>
                    </a:lnTo>
                    <a:lnTo>
                      <a:pt x="14" y="1139"/>
                    </a:lnTo>
                    <a:lnTo>
                      <a:pt x="5" y="1126"/>
                    </a:lnTo>
                    <a:lnTo>
                      <a:pt x="1" y="1121"/>
                    </a:lnTo>
                    <a:lnTo>
                      <a:pt x="0" y="1102"/>
                    </a:lnTo>
                    <a:lnTo>
                      <a:pt x="1" y="1081"/>
                    </a:lnTo>
                    <a:lnTo>
                      <a:pt x="6" y="1062"/>
                    </a:lnTo>
                    <a:lnTo>
                      <a:pt x="11" y="1042"/>
                    </a:lnTo>
                    <a:lnTo>
                      <a:pt x="19" y="1023"/>
                    </a:lnTo>
                    <a:lnTo>
                      <a:pt x="27" y="1004"/>
                    </a:lnTo>
                    <a:lnTo>
                      <a:pt x="38" y="985"/>
                    </a:lnTo>
                    <a:lnTo>
                      <a:pt x="51" y="967"/>
                    </a:lnTo>
                    <a:lnTo>
                      <a:pt x="64" y="948"/>
                    </a:lnTo>
                    <a:lnTo>
                      <a:pt x="79" y="930"/>
                    </a:lnTo>
                    <a:lnTo>
                      <a:pt x="94" y="913"/>
                    </a:lnTo>
                    <a:lnTo>
                      <a:pt x="111" y="895"/>
                    </a:lnTo>
                    <a:lnTo>
                      <a:pt x="128" y="878"/>
                    </a:lnTo>
                    <a:lnTo>
                      <a:pt x="146" y="862"/>
                    </a:lnTo>
                    <a:lnTo>
                      <a:pt x="163" y="846"/>
                    </a:lnTo>
                    <a:lnTo>
                      <a:pt x="182" y="830"/>
                    </a:lnTo>
                    <a:lnTo>
                      <a:pt x="219" y="802"/>
                    </a:lnTo>
                    <a:lnTo>
                      <a:pt x="254" y="776"/>
                    </a:lnTo>
                    <a:lnTo>
                      <a:pt x="287" y="754"/>
                    </a:lnTo>
                    <a:lnTo>
                      <a:pt x="317" y="734"/>
                    </a:lnTo>
                    <a:lnTo>
                      <a:pt x="362" y="707"/>
                    </a:lnTo>
                    <a:lnTo>
                      <a:pt x="380" y="698"/>
                    </a:lnTo>
                    <a:lnTo>
                      <a:pt x="392" y="699"/>
                    </a:lnTo>
                    <a:lnTo>
                      <a:pt x="431" y="695"/>
                    </a:lnTo>
                    <a:lnTo>
                      <a:pt x="459" y="690"/>
                    </a:lnTo>
                    <a:lnTo>
                      <a:pt x="493" y="683"/>
                    </a:lnTo>
                    <a:lnTo>
                      <a:pt x="511" y="678"/>
                    </a:lnTo>
                    <a:lnTo>
                      <a:pt x="532" y="672"/>
                    </a:lnTo>
                    <a:lnTo>
                      <a:pt x="553" y="665"/>
                    </a:lnTo>
                    <a:lnTo>
                      <a:pt x="575" y="657"/>
                    </a:lnTo>
                    <a:lnTo>
                      <a:pt x="600" y="647"/>
                    </a:lnTo>
                    <a:lnTo>
                      <a:pt x="625" y="636"/>
                    </a:lnTo>
                    <a:lnTo>
                      <a:pt x="651" y="624"/>
                    </a:lnTo>
                    <a:lnTo>
                      <a:pt x="678" y="610"/>
                    </a:lnTo>
                    <a:lnTo>
                      <a:pt x="706" y="595"/>
                    </a:lnTo>
                    <a:lnTo>
                      <a:pt x="736" y="578"/>
                    </a:lnTo>
                    <a:lnTo>
                      <a:pt x="766" y="559"/>
                    </a:lnTo>
                    <a:lnTo>
                      <a:pt x="798" y="539"/>
                    </a:lnTo>
                    <a:lnTo>
                      <a:pt x="830" y="516"/>
                    </a:lnTo>
                    <a:lnTo>
                      <a:pt x="863" y="491"/>
                    </a:lnTo>
                    <a:lnTo>
                      <a:pt x="898" y="465"/>
                    </a:lnTo>
                    <a:lnTo>
                      <a:pt x="933" y="436"/>
                    </a:lnTo>
                    <a:lnTo>
                      <a:pt x="968" y="405"/>
                    </a:lnTo>
                    <a:lnTo>
                      <a:pt x="1006" y="371"/>
                    </a:lnTo>
                    <a:lnTo>
                      <a:pt x="1043" y="336"/>
                    </a:lnTo>
                    <a:lnTo>
                      <a:pt x="1082" y="298"/>
                    </a:lnTo>
                    <a:lnTo>
                      <a:pt x="1119" y="260"/>
                    </a:lnTo>
                    <a:lnTo>
                      <a:pt x="1156" y="225"/>
                    </a:lnTo>
                    <a:lnTo>
                      <a:pt x="1191" y="193"/>
                    </a:lnTo>
                    <a:lnTo>
                      <a:pt x="1225" y="164"/>
                    </a:lnTo>
                    <a:lnTo>
                      <a:pt x="1258" y="138"/>
                    </a:lnTo>
                    <a:lnTo>
                      <a:pt x="1289" y="116"/>
                    </a:lnTo>
                    <a:lnTo>
                      <a:pt x="1319" y="95"/>
                    </a:lnTo>
                    <a:lnTo>
                      <a:pt x="1349" y="77"/>
                    </a:lnTo>
                    <a:lnTo>
                      <a:pt x="1376" y="60"/>
                    </a:lnTo>
                    <a:lnTo>
                      <a:pt x="1401" y="47"/>
                    </a:lnTo>
                    <a:lnTo>
                      <a:pt x="1426" y="36"/>
                    </a:lnTo>
                    <a:lnTo>
                      <a:pt x="1450" y="26"/>
                    </a:lnTo>
                    <a:lnTo>
                      <a:pt x="1473" y="17"/>
                    </a:lnTo>
                    <a:lnTo>
                      <a:pt x="1493" y="12"/>
                    </a:lnTo>
                    <a:lnTo>
                      <a:pt x="1513" y="6"/>
                    </a:lnTo>
                    <a:lnTo>
                      <a:pt x="1531" y="3"/>
                    </a:lnTo>
                    <a:lnTo>
                      <a:pt x="1548" y="1"/>
                    </a:lnTo>
                    <a:lnTo>
                      <a:pt x="1565" y="0"/>
                    </a:lnTo>
                    <a:lnTo>
                      <a:pt x="1579" y="0"/>
                    </a:lnTo>
                    <a:lnTo>
                      <a:pt x="1592" y="1"/>
                    </a:lnTo>
                    <a:lnTo>
                      <a:pt x="1603" y="3"/>
                    </a:lnTo>
                    <a:lnTo>
                      <a:pt x="1614" y="5"/>
                    </a:lnTo>
                    <a:lnTo>
                      <a:pt x="1624" y="8"/>
                    </a:lnTo>
                    <a:lnTo>
                      <a:pt x="1632" y="11"/>
                    </a:lnTo>
                    <a:lnTo>
                      <a:pt x="1638" y="14"/>
                    </a:lnTo>
                    <a:lnTo>
                      <a:pt x="1643" y="17"/>
                    </a:lnTo>
                    <a:lnTo>
                      <a:pt x="1648" y="22"/>
                    </a:lnTo>
                    <a:lnTo>
                      <a:pt x="1650" y="25"/>
                    </a:lnTo>
                    <a:lnTo>
                      <a:pt x="1651" y="27"/>
                    </a:lnTo>
                    <a:lnTo>
                      <a:pt x="1652" y="30"/>
                    </a:lnTo>
                    <a:lnTo>
                      <a:pt x="1650" y="32"/>
                    </a:lnTo>
                    <a:lnTo>
                      <a:pt x="1648" y="33"/>
                    </a:lnTo>
                    <a:lnTo>
                      <a:pt x="1639" y="38"/>
                    </a:lnTo>
                    <a:lnTo>
                      <a:pt x="1625" y="46"/>
                    </a:lnTo>
                    <a:lnTo>
                      <a:pt x="1607" y="58"/>
                    </a:lnTo>
                    <a:lnTo>
                      <a:pt x="1585" y="73"/>
                    </a:lnTo>
                    <a:lnTo>
                      <a:pt x="1532" y="112"/>
                    </a:lnTo>
                    <a:lnTo>
                      <a:pt x="1473" y="160"/>
                    </a:lnTo>
                    <a:lnTo>
                      <a:pt x="1442" y="185"/>
                    </a:lnTo>
                    <a:lnTo>
                      <a:pt x="1411" y="211"/>
                    </a:lnTo>
                    <a:lnTo>
                      <a:pt x="1382" y="238"/>
                    </a:lnTo>
                    <a:lnTo>
                      <a:pt x="1354" y="263"/>
                    </a:lnTo>
                    <a:lnTo>
                      <a:pt x="1329" y="289"/>
                    </a:lnTo>
                    <a:lnTo>
                      <a:pt x="1306" y="314"/>
                    </a:lnTo>
                    <a:lnTo>
                      <a:pt x="1296" y="326"/>
                    </a:lnTo>
                    <a:lnTo>
                      <a:pt x="1287" y="338"/>
                    </a:lnTo>
                    <a:lnTo>
                      <a:pt x="1278" y="349"/>
                    </a:lnTo>
                    <a:lnTo>
                      <a:pt x="1272" y="360"/>
                    </a:lnTo>
                    <a:lnTo>
                      <a:pt x="1266" y="369"/>
                    </a:lnTo>
                    <a:lnTo>
                      <a:pt x="1263" y="378"/>
                    </a:lnTo>
                    <a:lnTo>
                      <a:pt x="1262" y="386"/>
                    </a:lnTo>
                    <a:lnTo>
                      <a:pt x="1263" y="392"/>
                    </a:lnTo>
                    <a:lnTo>
                      <a:pt x="1265" y="397"/>
                    </a:lnTo>
                    <a:lnTo>
                      <a:pt x="1270" y="403"/>
                    </a:lnTo>
                    <a:lnTo>
                      <a:pt x="1276" y="406"/>
                    </a:lnTo>
                    <a:lnTo>
                      <a:pt x="1284" y="409"/>
                    </a:lnTo>
                    <a:lnTo>
                      <a:pt x="1293" y="410"/>
                    </a:lnTo>
                    <a:lnTo>
                      <a:pt x="1304" y="411"/>
                    </a:lnTo>
                    <a:lnTo>
                      <a:pt x="1317" y="413"/>
                    </a:lnTo>
                    <a:lnTo>
                      <a:pt x="1331" y="411"/>
                    </a:lnTo>
                    <a:lnTo>
                      <a:pt x="1364" y="408"/>
                    </a:lnTo>
                    <a:lnTo>
                      <a:pt x="1400" y="403"/>
                    </a:lnTo>
                    <a:lnTo>
                      <a:pt x="1442" y="394"/>
                    </a:lnTo>
                    <a:lnTo>
                      <a:pt x="1489" y="384"/>
                    </a:lnTo>
                    <a:lnTo>
                      <a:pt x="1539" y="371"/>
                    </a:lnTo>
                    <a:lnTo>
                      <a:pt x="1592" y="359"/>
                    </a:lnTo>
                    <a:lnTo>
                      <a:pt x="1706" y="328"/>
                    </a:lnTo>
                    <a:lnTo>
                      <a:pt x="1828" y="295"/>
                    </a:lnTo>
                    <a:lnTo>
                      <a:pt x="1888" y="280"/>
                    </a:lnTo>
                    <a:lnTo>
                      <a:pt x="1942" y="267"/>
                    </a:lnTo>
                    <a:lnTo>
                      <a:pt x="1989" y="256"/>
                    </a:lnTo>
                    <a:lnTo>
                      <a:pt x="2031" y="247"/>
                    </a:lnTo>
                    <a:lnTo>
                      <a:pt x="2069" y="241"/>
                    </a:lnTo>
                    <a:lnTo>
                      <a:pt x="2101" y="235"/>
                    </a:lnTo>
                    <a:lnTo>
                      <a:pt x="2130" y="232"/>
                    </a:lnTo>
                    <a:lnTo>
                      <a:pt x="2153" y="230"/>
                    </a:lnTo>
                    <a:lnTo>
                      <a:pt x="2174" y="229"/>
                    </a:lnTo>
                    <a:lnTo>
                      <a:pt x="2190" y="228"/>
                    </a:lnTo>
                    <a:lnTo>
                      <a:pt x="2203" y="228"/>
                    </a:lnTo>
                    <a:lnTo>
                      <a:pt x="2213" y="229"/>
                    </a:lnTo>
                    <a:lnTo>
                      <a:pt x="2226" y="230"/>
                    </a:lnTo>
                    <a:lnTo>
                      <a:pt x="2229" y="231"/>
                    </a:lnTo>
                    <a:lnTo>
                      <a:pt x="2221" y="238"/>
                    </a:lnTo>
                    <a:lnTo>
                      <a:pt x="2199" y="254"/>
                    </a:lnTo>
                    <a:lnTo>
                      <a:pt x="2181" y="266"/>
                    </a:lnTo>
                    <a:lnTo>
                      <a:pt x="2161" y="280"/>
                    </a:lnTo>
                    <a:lnTo>
                      <a:pt x="2136" y="296"/>
                    </a:lnTo>
                    <a:lnTo>
                      <a:pt x="2106" y="313"/>
                    </a:lnTo>
                    <a:lnTo>
                      <a:pt x="2073" y="332"/>
                    </a:lnTo>
                    <a:lnTo>
                      <a:pt x="2036" y="351"/>
                    </a:lnTo>
                    <a:lnTo>
                      <a:pt x="1993" y="371"/>
                    </a:lnTo>
                    <a:lnTo>
                      <a:pt x="1947" y="393"/>
                    </a:lnTo>
                    <a:lnTo>
                      <a:pt x="1896" y="414"/>
                    </a:lnTo>
                    <a:lnTo>
                      <a:pt x="1841" y="435"/>
                    </a:lnTo>
                    <a:lnTo>
                      <a:pt x="1782" y="457"/>
                    </a:lnTo>
                    <a:lnTo>
                      <a:pt x="1717" y="478"/>
                    </a:lnTo>
                    <a:lnTo>
                      <a:pt x="1653" y="499"/>
                    </a:lnTo>
                    <a:lnTo>
                      <a:pt x="1596" y="519"/>
                    </a:lnTo>
                    <a:lnTo>
                      <a:pt x="1543" y="539"/>
                    </a:lnTo>
                    <a:lnTo>
                      <a:pt x="1497" y="558"/>
                    </a:lnTo>
                    <a:lnTo>
                      <a:pt x="1455" y="577"/>
                    </a:lnTo>
                    <a:lnTo>
                      <a:pt x="1419" y="594"/>
                    </a:lnTo>
                    <a:lnTo>
                      <a:pt x="1388" y="610"/>
                    </a:lnTo>
                    <a:lnTo>
                      <a:pt x="1363" y="625"/>
                    </a:lnTo>
                    <a:lnTo>
                      <a:pt x="1343" y="638"/>
                    </a:lnTo>
                    <a:lnTo>
                      <a:pt x="1328" y="651"/>
                    </a:lnTo>
                    <a:lnTo>
                      <a:pt x="1321" y="657"/>
                    </a:lnTo>
                    <a:lnTo>
                      <a:pt x="1317" y="662"/>
                    </a:lnTo>
                    <a:lnTo>
                      <a:pt x="1314" y="666"/>
                    </a:lnTo>
                    <a:lnTo>
                      <a:pt x="1313" y="671"/>
                    </a:lnTo>
                    <a:lnTo>
                      <a:pt x="1312" y="675"/>
                    </a:lnTo>
                    <a:lnTo>
                      <a:pt x="1313" y="678"/>
                    </a:lnTo>
                    <a:lnTo>
                      <a:pt x="1314" y="681"/>
                    </a:lnTo>
                    <a:lnTo>
                      <a:pt x="1317" y="684"/>
                    </a:lnTo>
                    <a:lnTo>
                      <a:pt x="1321" y="686"/>
                    </a:lnTo>
                    <a:lnTo>
                      <a:pt x="1327" y="687"/>
                    </a:lnTo>
                    <a:lnTo>
                      <a:pt x="1333" y="688"/>
                    </a:lnTo>
                    <a:lnTo>
                      <a:pt x="1341" y="688"/>
                    </a:lnTo>
                    <a:lnTo>
                      <a:pt x="1351" y="688"/>
                    </a:lnTo>
                    <a:lnTo>
                      <a:pt x="1364" y="686"/>
                    </a:lnTo>
                    <a:lnTo>
                      <a:pt x="1379" y="684"/>
                    </a:lnTo>
                    <a:lnTo>
                      <a:pt x="1397" y="680"/>
                    </a:lnTo>
                    <a:lnTo>
                      <a:pt x="1439" y="671"/>
                    </a:lnTo>
                    <a:lnTo>
                      <a:pt x="1488" y="659"/>
                    </a:lnTo>
                    <a:lnTo>
                      <a:pt x="1602" y="629"/>
                    </a:lnTo>
                    <a:lnTo>
                      <a:pt x="1726" y="593"/>
                    </a:lnTo>
                    <a:lnTo>
                      <a:pt x="1844" y="558"/>
                    </a:lnTo>
                    <a:lnTo>
                      <a:pt x="1946" y="528"/>
                    </a:lnTo>
                    <a:lnTo>
                      <a:pt x="2017" y="506"/>
                    </a:lnTo>
                    <a:lnTo>
                      <a:pt x="2043" y="498"/>
                    </a:lnTo>
                    <a:lnTo>
                      <a:pt x="2042" y="501"/>
                    </a:lnTo>
                    <a:lnTo>
                      <a:pt x="2038" y="510"/>
                    </a:lnTo>
                    <a:lnTo>
                      <a:pt x="2031" y="523"/>
                    </a:lnTo>
                    <a:lnTo>
                      <a:pt x="2019" y="541"/>
                    </a:lnTo>
                    <a:lnTo>
                      <a:pt x="2004" y="563"/>
                    </a:lnTo>
                    <a:lnTo>
                      <a:pt x="1983" y="589"/>
                    </a:lnTo>
                    <a:lnTo>
                      <a:pt x="1970" y="602"/>
                    </a:lnTo>
                    <a:lnTo>
                      <a:pt x="1956" y="616"/>
                    </a:lnTo>
                    <a:lnTo>
                      <a:pt x="1939" y="631"/>
                    </a:lnTo>
                    <a:lnTo>
                      <a:pt x="1922" y="646"/>
                    </a:lnTo>
                    <a:lnTo>
                      <a:pt x="1903" y="662"/>
                    </a:lnTo>
                    <a:lnTo>
                      <a:pt x="1881" y="677"/>
                    </a:lnTo>
                    <a:lnTo>
                      <a:pt x="1858" y="693"/>
                    </a:lnTo>
                    <a:lnTo>
                      <a:pt x="1832" y="710"/>
                    </a:lnTo>
                    <a:lnTo>
                      <a:pt x="1805" y="726"/>
                    </a:lnTo>
                    <a:lnTo>
                      <a:pt x="1775" y="742"/>
                    </a:lnTo>
                    <a:lnTo>
                      <a:pt x="1744" y="758"/>
                    </a:lnTo>
                    <a:lnTo>
                      <a:pt x="1709" y="774"/>
                    </a:lnTo>
                    <a:lnTo>
                      <a:pt x="1673" y="791"/>
                    </a:lnTo>
                    <a:lnTo>
                      <a:pt x="1634" y="806"/>
                    </a:lnTo>
                    <a:lnTo>
                      <a:pt x="1592" y="821"/>
                    </a:lnTo>
                    <a:lnTo>
                      <a:pt x="1547" y="836"/>
                    </a:lnTo>
                    <a:lnTo>
                      <a:pt x="1500" y="850"/>
                    </a:lnTo>
                    <a:lnTo>
                      <a:pt x="1450" y="863"/>
                    </a:lnTo>
                    <a:lnTo>
                      <a:pt x="1397" y="876"/>
                    </a:lnTo>
                    <a:lnTo>
                      <a:pt x="1341" y="889"/>
                    </a:lnTo>
                    <a:close/>
                  </a:path>
                </a:pathLst>
              </a:custGeom>
              <a:solidFill>
                <a:srgbClr val="92be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5904000" y="3301920"/>
                <a:ext cx="689040" cy="363600"/>
              </a:xfrm>
              <a:custGeom>
                <a:avLst/>
                <a:gdLst/>
                <a:ahLst/>
                <a:rect l="l" t="t" r="r" b="b"/>
                <a:pathLst>
                  <a:path w="2172" h="1146">
                    <a:moveTo>
                      <a:pt x="1346" y="862"/>
                    </a:moveTo>
                    <a:lnTo>
                      <a:pt x="1330" y="864"/>
                    </a:lnTo>
                    <a:lnTo>
                      <a:pt x="1314" y="867"/>
                    </a:lnTo>
                    <a:lnTo>
                      <a:pt x="1296" y="868"/>
                    </a:lnTo>
                    <a:lnTo>
                      <a:pt x="1275" y="870"/>
                    </a:lnTo>
                    <a:lnTo>
                      <a:pt x="1232" y="872"/>
                    </a:lnTo>
                    <a:lnTo>
                      <a:pt x="1184" y="873"/>
                    </a:lnTo>
                    <a:lnTo>
                      <a:pt x="1135" y="872"/>
                    </a:lnTo>
                    <a:lnTo>
                      <a:pt x="1082" y="871"/>
                    </a:lnTo>
                    <a:lnTo>
                      <a:pt x="1027" y="868"/>
                    </a:lnTo>
                    <a:lnTo>
                      <a:pt x="971" y="864"/>
                    </a:lnTo>
                    <a:lnTo>
                      <a:pt x="917" y="858"/>
                    </a:lnTo>
                    <a:lnTo>
                      <a:pt x="863" y="852"/>
                    </a:lnTo>
                    <a:lnTo>
                      <a:pt x="812" y="844"/>
                    </a:lnTo>
                    <a:lnTo>
                      <a:pt x="763" y="836"/>
                    </a:lnTo>
                    <a:lnTo>
                      <a:pt x="718" y="826"/>
                    </a:lnTo>
                    <a:lnTo>
                      <a:pt x="678" y="815"/>
                    </a:lnTo>
                    <a:lnTo>
                      <a:pt x="659" y="810"/>
                    </a:lnTo>
                    <a:lnTo>
                      <a:pt x="643" y="804"/>
                    </a:lnTo>
                    <a:lnTo>
                      <a:pt x="628" y="798"/>
                    </a:lnTo>
                    <a:lnTo>
                      <a:pt x="614" y="792"/>
                    </a:lnTo>
                    <a:lnTo>
                      <a:pt x="601" y="786"/>
                    </a:lnTo>
                    <a:lnTo>
                      <a:pt x="588" y="782"/>
                    </a:lnTo>
                    <a:lnTo>
                      <a:pt x="574" y="778"/>
                    </a:lnTo>
                    <a:lnTo>
                      <a:pt x="560" y="777"/>
                    </a:lnTo>
                    <a:lnTo>
                      <a:pt x="546" y="776"/>
                    </a:lnTo>
                    <a:lnTo>
                      <a:pt x="531" y="776"/>
                    </a:lnTo>
                    <a:lnTo>
                      <a:pt x="516" y="777"/>
                    </a:lnTo>
                    <a:lnTo>
                      <a:pt x="500" y="781"/>
                    </a:lnTo>
                    <a:lnTo>
                      <a:pt x="485" y="784"/>
                    </a:lnTo>
                    <a:lnTo>
                      <a:pt x="469" y="788"/>
                    </a:lnTo>
                    <a:lnTo>
                      <a:pt x="453" y="792"/>
                    </a:lnTo>
                    <a:lnTo>
                      <a:pt x="437" y="799"/>
                    </a:lnTo>
                    <a:lnTo>
                      <a:pt x="422" y="805"/>
                    </a:lnTo>
                    <a:lnTo>
                      <a:pt x="405" y="813"/>
                    </a:lnTo>
                    <a:lnTo>
                      <a:pt x="389" y="822"/>
                    </a:lnTo>
                    <a:lnTo>
                      <a:pt x="373" y="830"/>
                    </a:lnTo>
                    <a:lnTo>
                      <a:pt x="358" y="840"/>
                    </a:lnTo>
                    <a:lnTo>
                      <a:pt x="342" y="850"/>
                    </a:lnTo>
                    <a:lnTo>
                      <a:pt x="327" y="860"/>
                    </a:lnTo>
                    <a:lnTo>
                      <a:pt x="311" y="871"/>
                    </a:lnTo>
                    <a:lnTo>
                      <a:pt x="282" y="895"/>
                    </a:lnTo>
                    <a:lnTo>
                      <a:pt x="254" y="920"/>
                    </a:lnTo>
                    <a:lnTo>
                      <a:pt x="228" y="947"/>
                    </a:lnTo>
                    <a:lnTo>
                      <a:pt x="204" y="974"/>
                    </a:lnTo>
                    <a:lnTo>
                      <a:pt x="194" y="988"/>
                    </a:lnTo>
                    <a:lnTo>
                      <a:pt x="183" y="1002"/>
                    </a:lnTo>
                    <a:lnTo>
                      <a:pt x="173" y="1015"/>
                    </a:lnTo>
                    <a:lnTo>
                      <a:pt x="165" y="1029"/>
                    </a:lnTo>
                    <a:lnTo>
                      <a:pt x="153" y="1047"/>
                    </a:lnTo>
                    <a:lnTo>
                      <a:pt x="143" y="1063"/>
                    </a:lnTo>
                    <a:lnTo>
                      <a:pt x="132" y="1078"/>
                    </a:lnTo>
                    <a:lnTo>
                      <a:pt x="122" y="1090"/>
                    </a:lnTo>
                    <a:lnTo>
                      <a:pt x="113" y="1101"/>
                    </a:lnTo>
                    <a:lnTo>
                      <a:pt x="104" y="1111"/>
                    </a:lnTo>
                    <a:lnTo>
                      <a:pt x="95" y="1120"/>
                    </a:lnTo>
                    <a:lnTo>
                      <a:pt x="88" y="1126"/>
                    </a:lnTo>
                    <a:lnTo>
                      <a:pt x="80" y="1133"/>
                    </a:lnTo>
                    <a:lnTo>
                      <a:pt x="73" y="1137"/>
                    </a:lnTo>
                    <a:lnTo>
                      <a:pt x="66" y="1140"/>
                    </a:lnTo>
                    <a:lnTo>
                      <a:pt x="60" y="1143"/>
                    </a:lnTo>
                    <a:lnTo>
                      <a:pt x="53" y="1144"/>
                    </a:lnTo>
                    <a:lnTo>
                      <a:pt x="48" y="1146"/>
                    </a:lnTo>
                    <a:lnTo>
                      <a:pt x="42" y="1146"/>
                    </a:lnTo>
                    <a:lnTo>
                      <a:pt x="37" y="1146"/>
                    </a:lnTo>
                    <a:lnTo>
                      <a:pt x="28" y="1142"/>
                    </a:lnTo>
                    <a:lnTo>
                      <a:pt x="21" y="1138"/>
                    </a:lnTo>
                    <a:lnTo>
                      <a:pt x="14" y="1133"/>
                    </a:lnTo>
                    <a:lnTo>
                      <a:pt x="9" y="1126"/>
                    </a:lnTo>
                    <a:lnTo>
                      <a:pt x="4" y="1115"/>
                    </a:lnTo>
                    <a:lnTo>
                      <a:pt x="1" y="1111"/>
                    </a:lnTo>
                    <a:lnTo>
                      <a:pt x="0" y="1092"/>
                    </a:lnTo>
                    <a:lnTo>
                      <a:pt x="1" y="1071"/>
                    </a:lnTo>
                    <a:lnTo>
                      <a:pt x="6" y="1052"/>
                    </a:lnTo>
                    <a:lnTo>
                      <a:pt x="11" y="1032"/>
                    </a:lnTo>
                    <a:lnTo>
                      <a:pt x="19" y="1013"/>
                    </a:lnTo>
                    <a:lnTo>
                      <a:pt x="27" y="994"/>
                    </a:lnTo>
                    <a:lnTo>
                      <a:pt x="38" y="975"/>
                    </a:lnTo>
                    <a:lnTo>
                      <a:pt x="51" y="957"/>
                    </a:lnTo>
                    <a:lnTo>
                      <a:pt x="64" y="938"/>
                    </a:lnTo>
                    <a:lnTo>
                      <a:pt x="79" y="920"/>
                    </a:lnTo>
                    <a:lnTo>
                      <a:pt x="94" y="903"/>
                    </a:lnTo>
                    <a:lnTo>
                      <a:pt x="111" y="885"/>
                    </a:lnTo>
                    <a:lnTo>
                      <a:pt x="128" y="868"/>
                    </a:lnTo>
                    <a:lnTo>
                      <a:pt x="146" y="852"/>
                    </a:lnTo>
                    <a:lnTo>
                      <a:pt x="163" y="836"/>
                    </a:lnTo>
                    <a:lnTo>
                      <a:pt x="182" y="820"/>
                    </a:lnTo>
                    <a:lnTo>
                      <a:pt x="219" y="792"/>
                    </a:lnTo>
                    <a:lnTo>
                      <a:pt x="254" y="766"/>
                    </a:lnTo>
                    <a:lnTo>
                      <a:pt x="287" y="744"/>
                    </a:lnTo>
                    <a:lnTo>
                      <a:pt x="317" y="724"/>
                    </a:lnTo>
                    <a:lnTo>
                      <a:pt x="362" y="697"/>
                    </a:lnTo>
                    <a:lnTo>
                      <a:pt x="380" y="688"/>
                    </a:lnTo>
                    <a:lnTo>
                      <a:pt x="392" y="689"/>
                    </a:lnTo>
                    <a:lnTo>
                      <a:pt x="431" y="685"/>
                    </a:lnTo>
                    <a:lnTo>
                      <a:pt x="459" y="680"/>
                    </a:lnTo>
                    <a:lnTo>
                      <a:pt x="493" y="673"/>
                    </a:lnTo>
                    <a:lnTo>
                      <a:pt x="511" y="668"/>
                    </a:lnTo>
                    <a:lnTo>
                      <a:pt x="532" y="662"/>
                    </a:lnTo>
                    <a:lnTo>
                      <a:pt x="553" y="655"/>
                    </a:lnTo>
                    <a:lnTo>
                      <a:pt x="575" y="647"/>
                    </a:lnTo>
                    <a:lnTo>
                      <a:pt x="600" y="637"/>
                    </a:lnTo>
                    <a:lnTo>
                      <a:pt x="625" y="626"/>
                    </a:lnTo>
                    <a:lnTo>
                      <a:pt x="651" y="614"/>
                    </a:lnTo>
                    <a:lnTo>
                      <a:pt x="678" y="600"/>
                    </a:lnTo>
                    <a:lnTo>
                      <a:pt x="706" y="585"/>
                    </a:lnTo>
                    <a:lnTo>
                      <a:pt x="736" y="568"/>
                    </a:lnTo>
                    <a:lnTo>
                      <a:pt x="766" y="549"/>
                    </a:lnTo>
                    <a:lnTo>
                      <a:pt x="798" y="529"/>
                    </a:lnTo>
                    <a:lnTo>
                      <a:pt x="830" y="506"/>
                    </a:lnTo>
                    <a:lnTo>
                      <a:pt x="863" y="481"/>
                    </a:lnTo>
                    <a:lnTo>
                      <a:pt x="898" y="455"/>
                    </a:lnTo>
                    <a:lnTo>
                      <a:pt x="933" y="426"/>
                    </a:lnTo>
                    <a:lnTo>
                      <a:pt x="968" y="395"/>
                    </a:lnTo>
                    <a:lnTo>
                      <a:pt x="1006" y="361"/>
                    </a:lnTo>
                    <a:lnTo>
                      <a:pt x="1043" y="326"/>
                    </a:lnTo>
                    <a:lnTo>
                      <a:pt x="1082" y="288"/>
                    </a:lnTo>
                    <a:lnTo>
                      <a:pt x="1119" y="250"/>
                    </a:lnTo>
                    <a:lnTo>
                      <a:pt x="1155" y="216"/>
                    </a:lnTo>
                    <a:lnTo>
                      <a:pt x="1190" y="183"/>
                    </a:lnTo>
                    <a:lnTo>
                      <a:pt x="1223" y="155"/>
                    </a:lnTo>
                    <a:lnTo>
                      <a:pt x="1255" y="129"/>
                    </a:lnTo>
                    <a:lnTo>
                      <a:pt x="1284" y="107"/>
                    </a:lnTo>
                    <a:lnTo>
                      <a:pt x="1313" y="87"/>
                    </a:lnTo>
                    <a:lnTo>
                      <a:pt x="1340" y="69"/>
                    </a:lnTo>
                    <a:lnTo>
                      <a:pt x="1365" y="54"/>
                    </a:lnTo>
                    <a:lnTo>
                      <a:pt x="1390" y="41"/>
                    </a:lnTo>
                    <a:lnTo>
                      <a:pt x="1412" y="30"/>
                    </a:lnTo>
                    <a:lnTo>
                      <a:pt x="1433" y="20"/>
                    </a:lnTo>
                    <a:lnTo>
                      <a:pt x="1453" y="14"/>
                    </a:lnTo>
                    <a:lnTo>
                      <a:pt x="1472" y="7"/>
                    </a:lnTo>
                    <a:lnTo>
                      <a:pt x="1489" y="4"/>
                    </a:lnTo>
                    <a:lnTo>
                      <a:pt x="1504" y="1"/>
                    </a:lnTo>
                    <a:lnTo>
                      <a:pt x="1519" y="0"/>
                    </a:lnTo>
                    <a:lnTo>
                      <a:pt x="1532" y="0"/>
                    </a:lnTo>
                    <a:lnTo>
                      <a:pt x="1544" y="0"/>
                    </a:lnTo>
                    <a:lnTo>
                      <a:pt x="1555" y="2"/>
                    </a:lnTo>
                    <a:lnTo>
                      <a:pt x="1565" y="4"/>
                    </a:lnTo>
                    <a:lnTo>
                      <a:pt x="1573" y="7"/>
                    </a:lnTo>
                    <a:lnTo>
                      <a:pt x="1581" y="10"/>
                    </a:lnTo>
                    <a:lnTo>
                      <a:pt x="1586" y="15"/>
                    </a:lnTo>
                    <a:lnTo>
                      <a:pt x="1592" y="18"/>
                    </a:lnTo>
                    <a:lnTo>
                      <a:pt x="1596" y="22"/>
                    </a:lnTo>
                    <a:lnTo>
                      <a:pt x="1598" y="27"/>
                    </a:lnTo>
                    <a:lnTo>
                      <a:pt x="1600" y="30"/>
                    </a:lnTo>
                    <a:lnTo>
                      <a:pt x="1600" y="33"/>
                    </a:lnTo>
                    <a:lnTo>
                      <a:pt x="1600" y="36"/>
                    </a:lnTo>
                    <a:lnTo>
                      <a:pt x="1598" y="39"/>
                    </a:lnTo>
                    <a:lnTo>
                      <a:pt x="1596" y="41"/>
                    </a:lnTo>
                    <a:lnTo>
                      <a:pt x="1587" y="45"/>
                    </a:lnTo>
                    <a:lnTo>
                      <a:pt x="1573" y="54"/>
                    </a:lnTo>
                    <a:lnTo>
                      <a:pt x="1556" y="66"/>
                    </a:lnTo>
                    <a:lnTo>
                      <a:pt x="1534" y="81"/>
                    </a:lnTo>
                    <a:lnTo>
                      <a:pt x="1511" y="100"/>
                    </a:lnTo>
                    <a:lnTo>
                      <a:pt x="1484" y="121"/>
                    </a:lnTo>
                    <a:lnTo>
                      <a:pt x="1455" y="144"/>
                    </a:lnTo>
                    <a:lnTo>
                      <a:pt x="1426" y="169"/>
                    </a:lnTo>
                    <a:lnTo>
                      <a:pt x="1396" y="195"/>
                    </a:lnTo>
                    <a:lnTo>
                      <a:pt x="1367" y="222"/>
                    </a:lnTo>
                    <a:lnTo>
                      <a:pt x="1338" y="249"/>
                    </a:lnTo>
                    <a:lnTo>
                      <a:pt x="1311" y="276"/>
                    </a:lnTo>
                    <a:lnTo>
                      <a:pt x="1286" y="303"/>
                    </a:lnTo>
                    <a:lnTo>
                      <a:pt x="1263" y="328"/>
                    </a:lnTo>
                    <a:lnTo>
                      <a:pt x="1245" y="352"/>
                    </a:lnTo>
                    <a:lnTo>
                      <a:pt x="1230" y="374"/>
                    </a:lnTo>
                    <a:lnTo>
                      <a:pt x="1224" y="384"/>
                    </a:lnTo>
                    <a:lnTo>
                      <a:pt x="1221" y="393"/>
                    </a:lnTo>
                    <a:lnTo>
                      <a:pt x="1220" y="400"/>
                    </a:lnTo>
                    <a:lnTo>
                      <a:pt x="1221" y="407"/>
                    </a:lnTo>
                    <a:lnTo>
                      <a:pt x="1223" y="413"/>
                    </a:lnTo>
                    <a:lnTo>
                      <a:pt x="1228" y="418"/>
                    </a:lnTo>
                    <a:lnTo>
                      <a:pt x="1234" y="422"/>
                    </a:lnTo>
                    <a:lnTo>
                      <a:pt x="1242" y="424"/>
                    </a:lnTo>
                    <a:lnTo>
                      <a:pt x="1251" y="426"/>
                    </a:lnTo>
                    <a:lnTo>
                      <a:pt x="1262" y="427"/>
                    </a:lnTo>
                    <a:lnTo>
                      <a:pt x="1275" y="428"/>
                    </a:lnTo>
                    <a:lnTo>
                      <a:pt x="1289" y="427"/>
                    </a:lnTo>
                    <a:lnTo>
                      <a:pt x="1321" y="425"/>
                    </a:lnTo>
                    <a:lnTo>
                      <a:pt x="1358" y="420"/>
                    </a:lnTo>
                    <a:lnTo>
                      <a:pt x="1400" y="412"/>
                    </a:lnTo>
                    <a:lnTo>
                      <a:pt x="1447" y="403"/>
                    </a:lnTo>
                    <a:lnTo>
                      <a:pt x="1497" y="391"/>
                    </a:lnTo>
                    <a:lnTo>
                      <a:pt x="1551" y="378"/>
                    </a:lnTo>
                    <a:lnTo>
                      <a:pt x="1664" y="347"/>
                    </a:lnTo>
                    <a:lnTo>
                      <a:pt x="1786" y="315"/>
                    </a:lnTo>
                    <a:lnTo>
                      <a:pt x="1845" y="300"/>
                    </a:lnTo>
                    <a:lnTo>
                      <a:pt x="1898" y="287"/>
                    </a:lnTo>
                    <a:lnTo>
                      <a:pt x="1946" y="276"/>
                    </a:lnTo>
                    <a:lnTo>
                      <a:pt x="1987" y="268"/>
                    </a:lnTo>
                    <a:lnTo>
                      <a:pt x="2024" y="261"/>
                    </a:lnTo>
                    <a:lnTo>
                      <a:pt x="2055" y="256"/>
                    </a:lnTo>
                    <a:lnTo>
                      <a:pt x="2082" y="251"/>
                    </a:lnTo>
                    <a:lnTo>
                      <a:pt x="2104" y="249"/>
                    </a:lnTo>
                    <a:lnTo>
                      <a:pt x="2123" y="248"/>
                    </a:lnTo>
                    <a:lnTo>
                      <a:pt x="2138" y="247"/>
                    </a:lnTo>
                    <a:lnTo>
                      <a:pt x="2150" y="248"/>
                    </a:lnTo>
                    <a:lnTo>
                      <a:pt x="2159" y="248"/>
                    </a:lnTo>
                    <a:lnTo>
                      <a:pt x="2168" y="250"/>
                    </a:lnTo>
                    <a:lnTo>
                      <a:pt x="2172" y="250"/>
                    </a:lnTo>
                    <a:lnTo>
                      <a:pt x="2165" y="255"/>
                    </a:lnTo>
                    <a:lnTo>
                      <a:pt x="2147" y="268"/>
                    </a:lnTo>
                    <a:lnTo>
                      <a:pt x="2113" y="287"/>
                    </a:lnTo>
                    <a:lnTo>
                      <a:pt x="2065" y="313"/>
                    </a:lnTo>
                    <a:lnTo>
                      <a:pt x="2033" y="328"/>
                    </a:lnTo>
                    <a:lnTo>
                      <a:pt x="1999" y="344"/>
                    </a:lnTo>
                    <a:lnTo>
                      <a:pt x="1959" y="360"/>
                    </a:lnTo>
                    <a:lnTo>
                      <a:pt x="1916" y="379"/>
                    </a:lnTo>
                    <a:lnTo>
                      <a:pt x="1866" y="398"/>
                    </a:lnTo>
                    <a:lnTo>
                      <a:pt x="1813" y="418"/>
                    </a:lnTo>
                    <a:lnTo>
                      <a:pt x="1754" y="438"/>
                    </a:lnTo>
                    <a:lnTo>
                      <a:pt x="1690" y="459"/>
                    </a:lnTo>
                    <a:lnTo>
                      <a:pt x="1626" y="479"/>
                    </a:lnTo>
                    <a:lnTo>
                      <a:pt x="1566" y="501"/>
                    </a:lnTo>
                    <a:lnTo>
                      <a:pt x="1511" y="522"/>
                    </a:lnTo>
                    <a:lnTo>
                      <a:pt x="1461" y="544"/>
                    </a:lnTo>
                    <a:lnTo>
                      <a:pt x="1415" y="566"/>
                    </a:lnTo>
                    <a:lnTo>
                      <a:pt x="1374" y="586"/>
                    </a:lnTo>
                    <a:lnTo>
                      <a:pt x="1339" y="606"/>
                    </a:lnTo>
                    <a:lnTo>
                      <a:pt x="1309" y="625"/>
                    </a:lnTo>
                    <a:lnTo>
                      <a:pt x="1284" y="642"/>
                    </a:lnTo>
                    <a:lnTo>
                      <a:pt x="1263" y="658"/>
                    </a:lnTo>
                    <a:lnTo>
                      <a:pt x="1256" y="666"/>
                    </a:lnTo>
                    <a:lnTo>
                      <a:pt x="1249" y="673"/>
                    </a:lnTo>
                    <a:lnTo>
                      <a:pt x="1244" y="679"/>
                    </a:lnTo>
                    <a:lnTo>
                      <a:pt x="1239" y="684"/>
                    </a:lnTo>
                    <a:lnTo>
                      <a:pt x="1237" y="690"/>
                    </a:lnTo>
                    <a:lnTo>
                      <a:pt x="1236" y="694"/>
                    </a:lnTo>
                    <a:lnTo>
                      <a:pt x="1236" y="698"/>
                    </a:lnTo>
                    <a:lnTo>
                      <a:pt x="1238" y="702"/>
                    </a:lnTo>
                    <a:lnTo>
                      <a:pt x="1242" y="705"/>
                    </a:lnTo>
                    <a:lnTo>
                      <a:pt x="1246" y="706"/>
                    </a:lnTo>
                    <a:lnTo>
                      <a:pt x="1252" y="707"/>
                    </a:lnTo>
                    <a:lnTo>
                      <a:pt x="1260" y="708"/>
                    </a:lnTo>
                    <a:lnTo>
                      <a:pt x="1282" y="706"/>
                    </a:lnTo>
                    <a:lnTo>
                      <a:pt x="1315" y="702"/>
                    </a:lnTo>
                    <a:lnTo>
                      <a:pt x="1356" y="694"/>
                    </a:lnTo>
                    <a:lnTo>
                      <a:pt x="1404" y="684"/>
                    </a:lnTo>
                    <a:lnTo>
                      <a:pt x="1515" y="661"/>
                    </a:lnTo>
                    <a:lnTo>
                      <a:pt x="1636" y="634"/>
                    </a:lnTo>
                    <a:lnTo>
                      <a:pt x="1751" y="607"/>
                    </a:lnTo>
                    <a:lnTo>
                      <a:pt x="1850" y="583"/>
                    </a:lnTo>
                    <a:lnTo>
                      <a:pt x="1919" y="566"/>
                    </a:lnTo>
                    <a:lnTo>
                      <a:pt x="1945" y="559"/>
                    </a:lnTo>
                    <a:lnTo>
                      <a:pt x="1937" y="569"/>
                    </a:lnTo>
                    <a:lnTo>
                      <a:pt x="1916" y="594"/>
                    </a:lnTo>
                    <a:lnTo>
                      <a:pt x="1898" y="611"/>
                    </a:lnTo>
                    <a:lnTo>
                      <a:pt x="1877" y="630"/>
                    </a:lnTo>
                    <a:lnTo>
                      <a:pt x="1850" y="652"/>
                    </a:lnTo>
                    <a:lnTo>
                      <a:pt x="1817" y="675"/>
                    </a:lnTo>
                    <a:lnTo>
                      <a:pt x="1800" y="688"/>
                    </a:lnTo>
                    <a:lnTo>
                      <a:pt x="1781" y="700"/>
                    </a:lnTo>
                    <a:lnTo>
                      <a:pt x="1760" y="712"/>
                    </a:lnTo>
                    <a:lnTo>
                      <a:pt x="1737" y="724"/>
                    </a:lnTo>
                    <a:lnTo>
                      <a:pt x="1714" y="737"/>
                    </a:lnTo>
                    <a:lnTo>
                      <a:pt x="1689" y="749"/>
                    </a:lnTo>
                    <a:lnTo>
                      <a:pt x="1662" y="762"/>
                    </a:lnTo>
                    <a:lnTo>
                      <a:pt x="1634" y="774"/>
                    </a:lnTo>
                    <a:lnTo>
                      <a:pt x="1603" y="787"/>
                    </a:lnTo>
                    <a:lnTo>
                      <a:pt x="1572" y="799"/>
                    </a:lnTo>
                    <a:lnTo>
                      <a:pt x="1539" y="810"/>
                    </a:lnTo>
                    <a:lnTo>
                      <a:pt x="1504" y="822"/>
                    </a:lnTo>
                    <a:lnTo>
                      <a:pt x="1467" y="832"/>
                    </a:lnTo>
                    <a:lnTo>
                      <a:pt x="1428" y="842"/>
                    </a:lnTo>
                    <a:lnTo>
                      <a:pt x="1388" y="852"/>
                    </a:lnTo>
                    <a:lnTo>
                      <a:pt x="1346" y="862"/>
                    </a:lnTo>
                    <a:close/>
                  </a:path>
                </a:pathLst>
              </a:custGeom>
              <a:solidFill>
                <a:srgbClr val="8eba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5904000" y="3303720"/>
                <a:ext cx="671400" cy="358560"/>
              </a:xfrm>
              <a:custGeom>
                <a:avLst/>
                <a:gdLst/>
                <a:ahLst/>
                <a:rect l="l" t="t" r="r" b="b"/>
                <a:pathLst>
                  <a:path w="2115" h="1127">
                    <a:moveTo>
                      <a:pt x="1349" y="836"/>
                    </a:moveTo>
                    <a:lnTo>
                      <a:pt x="1333" y="838"/>
                    </a:lnTo>
                    <a:lnTo>
                      <a:pt x="1316" y="841"/>
                    </a:lnTo>
                    <a:lnTo>
                      <a:pt x="1298" y="843"/>
                    </a:lnTo>
                    <a:lnTo>
                      <a:pt x="1277" y="845"/>
                    </a:lnTo>
                    <a:lnTo>
                      <a:pt x="1233" y="846"/>
                    </a:lnTo>
                    <a:lnTo>
                      <a:pt x="1185" y="847"/>
                    </a:lnTo>
                    <a:lnTo>
                      <a:pt x="1134" y="846"/>
                    </a:lnTo>
                    <a:lnTo>
                      <a:pt x="1080" y="844"/>
                    </a:lnTo>
                    <a:lnTo>
                      <a:pt x="1024" y="839"/>
                    </a:lnTo>
                    <a:lnTo>
                      <a:pt x="968" y="835"/>
                    </a:lnTo>
                    <a:lnTo>
                      <a:pt x="912" y="829"/>
                    </a:lnTo>
                    <a:lnTo>
                      <a:pt x="857" y="821"/>
                    </a:lnTo>
                    <a:lnTo>
                      <a:pt x="805" y="814"/>
                    </a:lnTo>
                    <a:lnTo>
                      <a:pt x="755" y="804"/>
                    </a:lnTo>
                    <a:lnTo>
                      <a:pt x="709" y="794"/>
                    </a:lnTo>
                    <a:lnTo>
                      <a:pt x="668" y="783"/>
                    </a:lnTo>
                    <a:lnTo>
                      <a:pt x="650" y="777"/>
                    </a:lnTo>
                    <a:lnTo>
                      <a:pt x="633" y="771"/>
                    </a:lnTo>
                    <a:lnTo>
                      <a:pt x="618" y="765"/>
                    </a:lnTo>
                    <a:lnTo>
                      <a:pt x="604" y="760"/>
                    </a:lnTo>
                    <a:lnTo>
                      <a:pt x="591" y="754"/>
                    </a:lnTo>
                    <a:lnTo>
                      <a:pt x="578" y="750"/>
                    </a:lnTo>
                    <a:lnTo>
                      <a:pt x="564" y="747"/>
                    </a:lnTo>
                    <a:lnTo>
                      <a:pt x="549" y="744"/>
                    </a:lnTo>
                    <a:lnTo>
                      <a:pt x="534" y="743"/>
                    </a:lnTo>
                    <a:lnTo>
                      <a:pt x="519" y="744"/>
                    </a:lnTo>
                    <a:lnTo>
                      <a:pt x="503" y="746"/>
                    </a:lnTo>
                    <a:lnTo>
                      <a:pt x="488" y="748"/>
                    </a:lnTo>
                    <a:lnTo>
                      <a:pt x="470" y="752"/>
                    </a:lnTo>
                    <a:lnTo>
                      <a:pt x="454" y="756"/>
                    </a:lnTo>
                    <a:lnTo>
                      <a:pt x="437" y="762"/>
                    </a:lnTo>
                    <a:lnTo>
                      <a:pt x="421" y="767"/>
                    </a:lnTo>
                    <a:lnTo>
                      <a:pt x="403" y="775"/>
                    </a:lnTo>
                    <a:lnTo>
                      <a:pt x="386" y="782"/>
                    </a:lnTo>
                    <a:lnTo>
                      <a:pt x="370" y="791"/>
                    </a:lnTo>
                    <a:lnTo>
                      <a:pt x="352" y="800"/>
                    </a:lnTo>
                    <a:lnTo>
                      <a:pt x="335" y="809"/>
                    </a:lnTo>
                    <a:lnTo>
                      <a:pt x="319" y="820"/>
                    </a:lnTo>
                    <a:lnTo>
                      <a:pt x="303" y="831"/>
                    </a:lnTo>
                    <a:lnTo>
                      <a:pt x="287" y="842"/>
                    </a:lnTo>
                    <a:lnTo>
                      <a:pt x="270" y="854"/>
                    </a:lnTo>
                    <a:lnTo>
                      <a:pt x="255" y="866"/>
                    </a:lnTo>
                    <a:lnTo>
                      <a:pt x="240" y="878"/>
                    </a:lnTo>
                    <a:lnTo>
                      <a:pt x="226" y="891"/>
                    </a:lnTo>
                    <a:lnTo>
                      <a:pt x="212" y="905"/>
                    </a:lnTo>
                    <a:lnTo>
                      <a:pt x="198" y="918"/>
                    </a:lnTo>
                    <a:lnTo>
                      <a:pt x="185" y="932"/>
                    </a:lnTo>
                    <a:lnTo>
                      <a:pt x="173" y="945"/>
                    </a:lnTo>
                    <a:lnTo>
                      <a:pt x="161" y="959"/>
                    </a:lnTo>
                    <a:lnTo>
                      <a:pt x="150" y="973"/>
                    </a:lnTo>
                    <a:lnTo>
                      <a:pt x="141" y="987"/>
                    </a:lnTo>
                    <a:lnTo>
                      <a:pt x="132" y="1001"/>
                    </a:lnTo>
                    <a:lnTo>
                      <a:pt x="111" y="1036"/>
                    </a:lnTo>
                    <a:lnTo>
                      <a:pt x="92" y="1063"/>
                    </a:lnTo>
                    <a:lnTo>
                      <a:pt x="75" y="1086"/>
                    </a:lnTo>
                    <a:lnTo>
                      <a:pt x="61" y="1102"/>
                    </a:lnTo>
                    <a:lnTo>
                      <a:pt x="48" y="1114"/>
                    </a:lnTo>
                    <a:lnTo>
                      <a:pt x="37" y="1121"/>
                    </a:lnTo>
                    <a:lnTo>
                      <a:pt x="33" y="1125"/>
                    </a:lnTo>
                    <a:lnTo>
                      <a:pt x="28" y="1126"/>
                    </a:lnTo>
                    <a:lnTo>
                      <a:pt x="24" y="1127"/>
                    </a:lnTo>
                    <a:lnTo>
                      <a:pt x="21" y="1127"/>
                    </a:lnTo>
                    <a:lnTo>
                      <a:pt x="15" y="1127"/>
                    </a:lnTo>
                    <a:lnTo>
                      <a:pt x="10" y="1124"/>
                    </a:lnTo>
                    <a:lnTo>
                      <a:pt x="7" y="1119"/>
                    </a:lnTo>
                    <a:lnTo>
                      <a:pt x="5" y="1115"/>
                    </a:lnTo>
                    <a:lnTo>
                      <a:pt x="1" y="1106"/>
                    </a:lnTo>
                    <a:lnTo>
                      <a:pt x="1" y="1103"/>
                    </a:lnTo>
                    <a:lnTo>
                      <a:pt x="0" y="1084"/>
                    </a:lnTo>
                    <a:lnTo>
                      <a:pt x="1" y="1063"/>
                    </a:lnTo>
                    <a:lnTo>
                      <a:pt x="6" y="1044"/>
                    </a:lnTo>
                    <a:lnTo>
                      <a:pt x="11" y="1024"/>
                    </a:lnTo>
                    <a:lnTo>
                      <a:pt x="19" y="1005"/>
                    </a:lnTo>
                    <a:lnTo>
                      <a:pt x="27" y="986"/>
                    </a:lnTo>
                    <a:lnTo>
                      <a:pt x="38" y="967"/>
                    </a:lnTo>
                    <a:lnTo>
                      <a:pt x="51" y="949"/>
                    </a:lnTo>
                    <a:lnTo>
                      <a:pt x="64" y="930"/>
                    </a:lnTo>
                    <a:lnTo>
                      <a:pt x="79" y="912"/>
                    </a:lnTo>
                    <a:lnTo>
                      <a:pt x="94" y="895"/>
                    </a:lnTo>
                    <a:lnTo>
                      <a:pt x="111" y="877"/>
                    </a:lnTo>
                    <a:lnTo>
                      <a:pt x="128" y="860"/>
                    </a:lnTo>
                    <a:lnTo>
                      <a:pt x="146" y="844"/>
                    </a:lnTo>
                    <a:lnTo>
                      <a:pt x="163" y="828"/>
                    </a:lnTo>
                    <a:lnTo>
                      <a:pt x="182" y="812"/>
                    </a:lnTo>
                    <a:lnTo>
                      <a:pt x="219" y="784"/>
                    </a:lnTo>
                    <a:lnTo>
                      <a:pt x="254" y="758"/>
                    </a:lnTo>
                    <a:lnTo>
                      <a:pt x="287" y="736"/>
                    </a:lnTo>
                    <a:lnTo>
                      <a:pt x="317" y="716"/>
                    </a:lnTo>
                    <a:lnTo>
                      <a:pt x="362" y="689"/>
                    </a:lnTo>
                    <a:lnTo>
                      <a:pt x="380" y="680"/>
                    </a:lnTo>
                    <a:lnTo>
                      <a:pt x="392" y="681"/>
                    </a:lnTo>
                    <a:lnTo>
                      <a:pt x="431" y="677"/>
                    </a:lnTo>
                    <a:lnTo>
                      <a:pt x="459" y="672"/>
                    </a:lnTo>
                    <a:lnTo>
                      <a:pt x="493" y="665"/>
                    </a:lnTo>
                    <a:lnTo>
                      <a:pt x="511" y="660"/>
                    </a:lnTo>
                    <a:lnTo>
                      <a:pt x="532" y="654"/>
                    </a:lnTo>
                    <a:lnTo>
                      <a:pt x="553" y="647"/>
                    </a:lnTo>
                    <a:lnTo>
                      <a:pt x="575" y="639"/>
                    </a:lnTo>
                    <a:lnTo>
                      <a:pt x="600" y="629"/>
                    </a:lnTo>
                    <a:lnTo>
                      <a:pt x="625" y="618"/>
                    </a:lnTo>
                    <a:lnTo>
                      <a:pt x="651" y="606"/>
                    </a:lnTo>
                    <a:lnTo>
                      <a:pt x="678" y="592"/>
                    </a:lnTo>
                    <a:lnTo>
                      <a:pt x="706" y="577"/>
                    </a:lnTo>
                    <a:lnTo>
                      <a:pt x="736" y="560"/>
                    </a:lnTo>
                    <a:lnTo>
                      <a:pt x="766" y="541"/>
                    </a:lnTo>
                    <a:lnTo>
                      <a:pt x="798" y="521"/>
                    </a:lnTo>
                    <a:lnTo>
                      <a:pt x="830" y="498"/>
                    </a:lnTo>
                    <a:lnTo>
                      <a:pt x="863" y="473"/>
                    </a:lnTo>
                    <a:lnTo>
                      <a:pt x="898" y="447"/>
                    </a:lnTo>
                    <a:lnTo>
                      <a:pt x="933" y="418"/>
                    </a:lnTo>
                    <a:lnTo>
                      <a:pt x="968" y="387"/>
                    </a:lnTo>
                    <a:lnTo>
                      <a:pt x="1006" y="353"/>
                    </a:lnTo>
                    <a:lnTo>
                      <a:pt x="1043" y="318"/>
                    </a:lnTo>
                    <a:lnTo>
                      <a:pt x="1082" y="280"/>
                    </a:lnTo>
                    <a:lnTo>
                      <a:pt x="1119" y="242"/>
                    </a:lnTo>
                    <a:lnTo>
                      <a:pt x="1155" y="208"/>
                    </a:lnTo>
                    <a:lnTo>
                      <a:pt x="1189" y="176"/>
                    </a:lnTo>
                    <a:lnTo>
                      <a:pt x="1220" y="148"/>
                    </a:lnTo>
                    <a:lnTo>
                      <a:pt x="1250" y="122"/>
                    </a:lnTo>
                    <a:lnTo>
                      <a:pt x="1279" y="101"/>
                    </a:lnTo>
                    <a:lnTo>
                      <a:pt x="1306" y="81"/>
                    </a:lnTo>
                    <a:lnTo>
                      <a:pt x="1331" y="64"/>
                    </a:lnTo>
                    <a:lnTo>
                      <a:pt x="1355" y="49"/>
                    </a:lnTo>
                    <a:lnTo>
                      <a:pt x="1377" y="37"/>
                    </a:lnTo>
                    <a:lnTo>
                      <a:pt x="1397" y="26"/>
                    </a:lnTo>
                    <a:lnTo>
                      <a:pt x="1415" y="18"/>
                    </a:lnTo>
                    <a:lnTo>
                      <a:pt x="1433" y="11"/>
                    </a:lnTo>
                    <a:lnTo>
                      <a:pt x="1449" y="7"/>
                    </a:lnTo>
                    <a:lnTo>
                      <a:pt x="1464" y="4"/>
                    </a:lnTo>
                    <a:lnTo>
                      <a:pt x="1477" y="1"/>
                    </a:lnTo>
                    <a:lnTo>
                      <a:pt x="1489" y="0"/>
                    </a:lnTo>
                    <a:lnTo>
                      <a:pt x="1500" y="1"/>
                    </a:lnTo>
                    <a:lnTo>
                      <a:pt x="1509" y="2"/>
                    </a:lnTo>
                    <a:lnTo>
                      <a:pt x="1518" y="5"/>
                    </a:lnTo>
                    <a:lnTo>
                      <a:pt x="1526" y="8"/>
                    </a:lnTo>
                    <a:lnTo>
                      <a:pt x="1531" y="12"/>
                    </a:lnTo>
                    <a:lnTo>
                      <a:pt x="1536" y="15"/>
                    </a:lnTo>
                    <a:lnTo>
                      <a:pt x="1541" y="20"/>
                    </a:lnTo>
                    <a:lnTo>
                      <a:pt x="1544" y="24"/>
                    </a:lnTo>
                    <a:lnTo>
                      <a:pt x="1546" y="28"/>
                    </a:lnTo>
                    <a:lnTo>
                      <a:pt x="1547" y="33"/>
                    </a:lnTo>
                    <a:lnTo>
                      <a:pt x="1547" y="37"/>
                    </a:lnTo>
                    <a:lnTo>
                      <a:pt x="1547" y="40"/>
                    </a:lnTo>
                    <a:lnTo>
                      <a:pt x="1546" y="44"/>
                    </a:lnTo>
                    <a:lnTo>
                      <a:pt x="1544" y="46"/>
                    </a:lnTo>
                    <a:lnTo>
                      <a:pt x="1542" y="48"/>
                    </a:lnTo>
                    <a:lnTo>
                      <a:pt x="1532" y="52"/>
                    </a:lnTo>
                    <a:lnTo>
                      <a:pt x="1519" y="61"/>
                    </a:lnTo>
                    <a:lnTo>
                      <a:pt x="1502" y="74"/>
                    </a:lnTo>
                    <a:lnTo>
                      <a:pt x="1480" y="90"/>
                    </a:lnTo>
                    <a:lnTo>
                      <a:pt x="1457" y="109"/>
                    </a:lnTo>
                    <a:lnTo>
                      <a:pt x="1431" y="131"/>
                    </a:lnTo>
                    <a:lnTo>
                      <a:pt x="1404" y="156"/>
                    </a:lnTo>
                    <a:lnTo>
                      <a:pt x="1376" y="181"/>
                    </a:lnTo>
                    <a:lnTo>
                      <a:pt x="1346" y="208"/>
                    </a:lnTo>
                    <a:lnTo>
                      <a:pt x="1318" y="235"/>
                    </a:lnTo>
                    <a:lnTo>
                      <a:pt x="1290" y="263"/>
                    </a:lnTo>
                    <a:lnTo>
                      <a:pt x="1264" y="290"/>
                    </a:lnTo>
                    <a:lnTo>
                      <a:pt x="1240" y="317"/>
                    </a:lnTo>
                    <a:lnTo>
                      <a:pt x="1219" y="343"/>
                    </a:lnTo>
                    <a:lnTo>
                      <a:pt x="1199" y="366"/>
                    </a:lnTo>
                    <a:lnTo>
                      <a:pt x="1185" y="388"/>
                    </a:lnTo>
                    <a:lnTo>
                      <a:pt x="1180" y="399"/>
                    </a:lnTo>
                    <a:lnTo>
                      <a:pt x="1177" y="407"/>
                    </a:lnTo>
                    <a:lnTo>
                      <a:pt x="1176" y="415"/>
                    </a:lnTo>
                    <a:lnTo>
                      <a:pt x="1177" y="422"/>
                    </a:lnTo>
                    <a:lnTo>
                      <a:pt x="1179" y="428"/>
                    </a:lnTo>
                    <a:lnTo>
                      <a:pt x="1183" y="432"/>
                    </a:lnTo>
                    <a:lnTo>
                      <a:pt x="1190" y="437"/>
                    </a:lnTo>
                    <a:lnTo>
                      <a:pt x="1198" y="440"/>
                    </a:lnTo>
                    <a:lnTo>
                      <a:pt x="1207" y="442"/>
                    </a:lnTo>
                    <a:lnTo>
                      <a:pt x="1219" y="443"/>
                    </a:lnTo>
                    <a:lnTo>
                      <a:pt x="1231" y="444"/>
                    </a:lnTo>
                    <a:lnTo>
                      <a:pt x="1246" y="443"/>
                    </a:lnTo>
                    <a:lnTo>
                      <a:pt x="1278" y="441"/>
                    </a:lnTo>
                    <a:lnTo>
                      <a:pt x="1315" y="437"/>
                    </a:lnTo>
                    <a:lnTo>
                      <a:pt x="1357" y="429"/>
                    </a:lnTo>
                    <a:lnTo>
                      <a:pt x="1404" y="419"/>
                    </a:lnTo>
                    <a:lnTo>
                      <a:pt x="1454" y="409"/>
                    </a:lnTo>
                    <a:lnTo>
                      <a:pt x="1507" y="396"/>
                    </a:lnTo>
                    <a:lnTo>
                      <a:pt x="1622" y="366"/>
                    </a:lnTo>
                    <a:lnTo>
                      <a:pt x="1744" y="334"/>
                    </a:lnTo>
                    <a:lnTo>
                      <a:pt x="1803" y="319"/>
                    </a:lnTo>
                    <a:lnTo>
                      <a:pt x="1856" y="306"/>
                    </a:lnTo>
                    <a:lnTo>
                      <a:pt x="1903" y="295"/>
                    </a:lnTo>
                    <a:lnTo>
                      <a:pt x="1943" y="287"/>
                    </a:lnTo>
                    <a:lnTo>
                      <a:pt x="1978" y="280"/>
                    </a:lnTo>
                    <a:lnTo>
                      <a:pt x="2009" y="276"/>
                    </a:lnTo>
                    <a:lnTo>
                      <a:pt x="2033" y="272"/>
                    </a:lnTo>
                    <a:lnTo>
                      <a:pt x="2055" y="270"/>
                    </a:lnTo>
                    <a:lnTo>
                      <a:pt x="2072" y="269"/>
                    </a:lnTo>
                    <a:lnTo>
                      <a:pt x="2085" y="268"/>
                    </a:lnTo>
                    <a:lnTo>
                      <a:pt x="2096" y="269"/>
                    </a:lnTo>
                    <a:lnTo>
                      <a:pt x="2104" y="269"/>
                    </a:lnTo>
                    <a:lnTo>
                      <a:pt x="2112" y="271"/>
                    </a:lnTo>
                    <a:lnTo>
                      <a:pt x="2115" y="272"/>
                    </a:lnTo>
                    <a:lnTo>
                      <a:pt x="2110" y="275"/>
                    </a:lnTo>
                    <a:lnTo>
                      <a:pt x="2094" y="283"/>
                    </a:lnTo>
                    <a:lnTo>
                      <a:pt x="2066" y="296"/>
                    </a:lnTo>
                    <a:lnTo>
                      <a:pt x="2023" y="315"/>
                    </a:lnTo>
                    <a:lnTo>
                      <a:pt x="1962" y="338"/>
                    </a:lnTo>
                    <a:lnTo>
                      <a:pt x="1883" y="368"/>
                    </a:lnTo>
                    <a:lnTo>
                      <a:pt x="1837" y="384"/>
                    </a:lnTo>
                    <a:lnTo>
                      <a:pt x="1784" y="401"/>
                    </a:lnTo>
                    <a:lnTo>
                      <a:pt x="1727" y="420"/>
                    </a:lnTo>
                    <a:lnTo>
                      <a:pt x="1663" y="440"/>
                    </a:lnTo>
                    <a:lnTo>
                      <a:pt x="1629" y="451"/>
                    </a:lnTo>
                    <a:lnTo>
                      <a:pt x="1598" y="461"/>
                    </a:lnTo>
                    <a:lnTo>
                      <a:pt x="1567" y="473"/>
                    </a:lnTo>
                    <a:lnTo>
                      <a:pt x="1536" y="485"/>
                    </a:lnTo>
                    <a:lnTo>
                      <a:pt x="1478" y="508"/>
                    </a:lnTo>
                    <a:lnTo>
                      <a:pt x="1425" y="533"/>
                    </a:lnTo>
                    <a:lnTo>
                      <a:pt x="1374" y="557"/>
                    </a:lnTo>
                    <a:lnTo>
                      <a:pt x="1329" y="580"/>
                    </a:lnTo>
                    <a:lnTo>
                      <a:pt x="1289" y="604"/>
                    </a:lnTo>
                    <a:lnTo>
                      <a:pt x="1253" y="627"/>
                    </a:lnTo>
                    <a:lnTo>
                      <a:pt x="1222" y="648"/>
                    </a:lnTo>
                    <a:lnTo>
                      <a:pt x="1197" y="668"/>
                    </a:lnTo>
                    <a:lnTo>
                      <a:pt x="1186" y="676"/>
                    </a:lnTo>
                    <a:lnTo>
                      <a:pt x="1178" y="685"/>
                    </a:lnTo>
                    <a:lnTo>
                      <a:pt x="1170" y="693"/>
                    </a:lnTo>
                    <a:lnTo>
                      <a:pt x="1164" y="700"/>
                    </a:lnTo>
                    <a:lnTo>
                      <a:pt x="1159" y="707"/>
                    </a:lnTo>
                    <a:lnTo>
                      <a:pt x="1157" y="712"/>
                    </a:lnTo>
                    <a:lnTo>
                      <a:pt x="1156" y="717"/>
                    </a:lnTo>
                    <a:lnTo>
                      <a:pt x="1156" y="722"/>
                    </a:lnTo>
                    <a:lnTo>
                      <a:pt x="1158" y="725"/>
                    </a:lnTo>
                    <a:lnTo>
                      <a:pt x="1163" y="727"/>
                    </a:lnTo>
                    <a:lnTo>
                      <a:pt x="1168" y="729"/>
                    </a:lnTo>
                    <a:lnTo>
                      <a:pt x="1176" y="729"/>
                    </a:lnTo>
                    <a:lnTo>
                      <a:pt x="1197" y="728"/>
                    </a:lnTo>
                    <a:lnTo>
                      <a:pt x="1230" y="725"/>
                    </a:lnTo>
                    <a:lnTo>
                      <a:pt x="1271" y="720"/>
                    </a:lnTo>
                    <a:lnTo>
                      <a:pt x="1317" y="713"/>
                    </a:lnTo>
                    <a:lnTo>
                      <a:pt x="1426" y="695"/>
                    </a:lnTo>
                    <a:lnTo>
                      <a:pt x="1544" y="675"/>
                    </a:lnTo>
                    <a:lnTo>
                      <a:pt x="1657" y="655"/>
                    </a:lnTo>
                    <a:lnTo>
                      <a:pt x="1754" y="638"/>
                    </a:lnTo>
                    <a:lnTo>
                      <a:pt x="1821" y="626"/>
                    </a:lnTo>
                    <a:lnTo>
                      <a:pt x="1845" y="621"/>
                    </a:lnTo>
                    <a:lnTo>
                      <a:pt x="1837" y="628"/>
                    </a:lnTo>
                    <a:lnTo>
                      <a:pt x="1811" y="645"/>
                    </a:lnTo>
                    <a:lnTo>
                      <a:pt x="1791" y="658"/>
                    </a:lnTo>
                    <a:lnTo>
                      <a:pt x="1769" y="672"/>
                    </a:lnTo>
                    <a:lnTo>
                      <a:pt x="1743" y="687"/>
                    </a:lnTo>
                    <a:lnTo>
                      <a:pt x="1711" y="704"/>
                    </a:lnTo>
                    <a:lnTo>
                      <a:pt x="1678" y="722"/>
                    </a:lnTo>
                    <a:lnTo>
                      <a:pt x="1640" y="740"/>
                    </a:lnTo>
                    <a:lnTo>
                      <a:pt x="1599" y="757"/>
                    </a:lnTo>
                    <a:lnTo>
                      <a:pt x="1556" y="775"/>
                    </a:lnTo>
                    <a:lnTo>
                      <a:pt x="1508" y="792"/>
                    </a:lnTo>
                    <a:lnTo>
                      <a:pt x="1458" y="808"/>
                    </a:lnTo>
                    <a:lnTo>
                      <a:pt x="1432" y="816"/>
                    </a:lnTo>
                    <a:lnTo>
                      <a:pt x="1405" y="823"/>
                    </a:lnTo>
                    <a:lnTo>
                      <a:pt x="1377" y="830"/>
                    </a:lnTo>
                    <a:lnTo>
                      <a:pt x="1349" y="836"/>
                    </a:lnTo>
                    <a:close/>
                  </a:path>
                </a:pathLst>
              </a:custGeom>
              <a:solidFill>
                <a:srgbClr val="8cb6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5904000" y="3306960"/>
                <a:ext cx="652320" cy="352440"/>
              </a:xfrm>
              <a:custGeom>
                <a:avLst/>
                <a:gdLst/>
                <a:ahLst/>
                <a:rect l="l" t="t" r="r" b="b"/>
                <a:pathLst>
                  <a:path w="2059" h="1109">
                    <a:moveTo>
                      <a:pt x="103" y="973"/>
                    </a:moveTo>
                    <a:lnTo>
                      <a:pt x="113" y="959"/>
                    </a:lnTo>
                    <a:lnTo>
                      <a:pt x="122" y="945"/>
                    </a:lnTo>
                    <a:lnTo>
                      <a:pt x="133" y="931"/>
                    </a:lnTo>
                    <a:lnTo>
                      <a:pt x="145" y="917"/>
                    </a:lnTo>
                    <a:lnTo>
                      <a:pt x="157" y="903"/>
                    </a:lnTo>
                    <a:lnTo>
                      <a:pt x="171" y="890"/>
                    </a:lnTo>
                    <a:lnTo>
                      <a:pt x="185" y="876"/>
                    </a:lnTo>
                    <a:lnTo>
                      <a:pt x="199" y="863"/>
                    </a:lnTo>
                    <a:lnTo>
                      <a:pt x="215" y="850"/>
                    </a:lnTo>
                    <a:lnTo>
                      <a:pt x="230" y="837"/>
                    </a:lnTo>
                    <a:lnTo>
                      <a:pt x="247" y="824"/>
                    </a:lnTo>
                    <a:lnTo>
                      <a:pt x="264" y="812"/>
                    </a:lnTo>
                    <a:lnTo>
                      <a:pt x="281" y="801"/>
                    </a:lnTo>
                    <a:lnTo>
                      <a:pt x="298" y="791"/>
                    </a:lnTo>
                    <a:lnTo>
                      <a:pt x="316" y="780"/>
                    </a:lnTo>
                    <a:lnTo>
                      <a:pt x="334" y="770"/>
                    </a:lnTo>
                    <a:lnTo>
                      <a:pt x="352" y="760"/>
                    </a:lnTo>
                    <a:lnTo>
                      <a:pt x="370" y="752"/>
                    </a:lnTo>
                    <a:lnTo>
                      <a:pt x="388" y="744"/>
                    </a:lnTo>
                    <a:lnTo>
                      <a:pt x="406" y="737"/>
                    </a:lnTo>
                    <a:lnTo>
                      <a:pt x="424" y="731"/>
                    </a:lnTo>
                    <a:lnTo>
                      <a:pt x="442" y="726"/>
                    </a:lnTo>
                    <a:lnTo>
                      <a:pt x="459" y="720"/>
                    </a:lnTo>
                    <a:lnTo>
                      <a:pt x="477" y="717"/>
                    </a:lnTo>
                    <a:lnTo>
                      <a:pt x="494" y="715"/>
                    </a:lnTo>
                    <a:lnTo>
                      <a:pt x="510" y="713"/>
                    </a:lnTo>
                    <a:lnTo>
                      <a:pt x="526" y="713"/>
                    </a:lnTo>
                    <a:lnTo>
                      <a:pt x="541" y="713"/>
                    </a:lnTo>
                    <a:lnTo>
                      <a:pt x="557" y="715"/>
                    </a:lnTo>
                    <a:lnTo>
                      <a:pt x="572" y="718"/>
                    </a:lnTo>
                    <a:lnTo>
                      <a:pt x="585" y="722"/>
                    </a:lnTo>
                    <a:lnTo>
                      <a:pt x="598" y="728"/>
                    </a:lnTo>
                    <a:lnTo>
                      <a:pt x="612" y="734"/>
                    </a:lnTo>
                    <a:lnTo>
                      <a:pt x="627" y="741"/>
                    </a:lnTo>
                    <a:lnTo>
                      <a:pt x="644" y="746"/>
                    </a:lnTo>
                    <a:lnTo>
                      <a:pt x="662" y="752"/>
                    </a:lnTo>
                    <a:lnTo>
                      <a:pt x="704" y="764"/>
                    </a:lnTo>
                    <a:lnTo>
                      <a:pt x="751" y="773"/>
                    </a:lnTo>
                    <a:lnTo>
                      <a:pt x="801" y="783"/>
                    </a:lnTo>
                    <a:lnTo>
                      <a:pt x="855" y="793"/>
                    </a:lnTo>
                    <a:lnTo>
                      <a:pt x="911" y="800"/>
                    </a:lnTo>
                    <a:lnTo>
                      <a:pt x="968" y="807"/>
                    </a:lnTo>
                    <a:lnTo>
                      <a:pt x="1025" y="812"/>
                    </a:lnTo>
                    <a:lnTo>
                      <a:pt x="1082" y="816"/>
                    </a:lnTo>
                    <a:lnTo>
                      <a:pt x="1137" y="820"/>
                    </a:lnTo>
                    <a:lnTo>
                      <a:pt x="1190" y="821"/>
                    </a:lnTo>
                    <a:lnTo>
                      <a:pt x="1238" y="821"/>
                    </a:lnTo>
                    <a:lnTo>
                      <a:pt x="1283" y="819"/>
                    </a:lnTo>
                    <a:lnTo>
                      <a:pt x="1303" y="818"/>
                    </a:lnTo>
                    <a:lnTo>
                      <a:pt x="1321" y="815"/>
                    </a:lnTo>
                    <a:lnTo>
                      <a:pt x="1339" y="812"/>
                    </a:lnTo>
                    <a:lnTo>
                      <a:pt x="1355" y="810"/>
                    </a:lnTo>
                    <a:lnTo>
                      <a:pt x="1384" y="802"/>
                    </a:lnTo>
                    <a:lnTo>
                      <a:pt x="1416" y="795"/>
                    </a:lnTo>
                    <a:lnTo>
                      <a:pt x="1449" y="786"/>
                    </a:lnTo>
                    <a:lnTo>
                      <a:pt x="1481" y="776"/>
                    </a:lnTo>
                    <a:lnTo>
                      <a:pt x="1547" y="756"/>
                    </a:lnTo>
                    <a:lnTo>
                      <a:pt x="1610" y="734"/>
                    </a:lnTo>
                    <a:lnTo>
                      <a:pt x="1664" y="715"/>
                    </a:lnTo>
                    <a:lnTo>
                      <a:pt x="1708" y="699"/>
                    </a:lnTo>
                    <a:lnTo>
                      <a:pt x="1737" y="688"/>
                    </a:lnTo>
                    <a:lnTo>
                      <a:pt x="1747" y="684"/>
                    </a:lnTo>
                    <a:lnTo>
                      <a:pt x="1723" y="687"/>
                    </a:lnTo>
                    <a:lnTo>
                      <a:pt x="1657" y="694"/>
                    </a:lnTo>
                    <a:lnTo>
                      <a:pt x="1563" y="704"/>
                    </a:lnTo>
                    <a:lnTo>
                      <a:pt x="1453" y="717"/>
                    </a:lnTo>
                    <a:lnTo>
                      <a:pt x="1339" y="729"/>
                    </a:lnTo>
                    <a:lnTo>
                      <a:pt x="1233" y="740"/>
                    </a:lnTo>
                    <a:lnTo>
                      <a:pt x="1186" y="744"/>
                    </a:lnTo>
                    <a:lnTo>
                      <a:pt x="1146" y="747"/>
                    </a:lnTo>
                    <a:lnTo>
                      <a:pt x="1114" y="749"/>
                    </a:lnTo>
                    <a:lnTo>
                      <a:pt x="1092" y="751"/>
                    </a:lnTo>
                    <a:lnTo>
                      <a:pt x="1085" y="749"/>
                    </a:lnTo>
                    <a:lnTo>
                      <a:pt x="1079" y="747"/>
                    </a:lnTo>
                    <a:lnTo>
                      <a:pt x="1077" y="745"/>
                    </a:lnTo>
                    <a:lnTo>
                      <a:pt x="1076" y="741"/>
                    </a:lnTo>
                    <a:lnTo>
                      <a:pt x="1076" y="735"/>
                    </a:lnTo>
                    <a:lnTo>
                      <a:pt x="1079" y="729"/>
                    </a:lnTo>
                    <a:lnTo>
                      <a:pt x="1084" y="722"/>
                    </a:lnTo>
                    <a:lnTo>
                      <a:pt x="1090" y="715"/>
                    </a:lnTo>
                    <a:lnTo>
                      <a:pt x="1098" y="706"/>
                    </a:lnTo>
                    <a:lnTo>
                      <a:pt x="1108" y="697"/>
                    </a:lnTo>
                    <a:lnTo>
                      <a:pt x="1119" y="687"/>
                    </a:lnTo>
                    <a:lnTo>
                      <a:pt x="1132" y="676"/>
                    </a:lnTo>
                    <a:lnTo>
                      <a:pt x="1163" y="652"/>
                    </a:lnTo>
                    <a:lnTo>
                      <a:pt x="1198" y="627"/>
                    </a:lnTo>
                    <a:lnTo>
                      <a:pt x="1239" y="602"/>
                    </a:lnTo>
                    <a:lnTo>
                      <a:pt x="1286" y="575"/>
                    </a:lnTo>
                    <a:lnTo>
                      <a:pt x="1335" y="548"/>
                    </a:lnTo>
                    <a:lnTo>
                      <a:pt x="1389" y="519"/>
                    </a:lnTo>
                    <a:lnTo>
                      <a:pt x="1418" y="506"/>
                    </a:lnTo>
                    <a:lnTo>
                      <a:pt x="1447" y="494"/>
                    </a:lnTo>
                    <a:lnTo>
                      <a:pt x="1477" y="481"/>
                    </a:lnTo>
                    <a:lnTo>
                      <a:pt x="1508" y="468"/>
                    </a:lnTo>
                    <a:lnTo>
                      <a:pt x="1539" y="456"/>
                    </a:lnTo>
                    <a:lnTo>
                      <a:pt x="1571" y="444"/>
                    </a:lnTo>
                    <a:lnTo>
                      <a:pt x="1603" y="432"/>
                    </a:lnTo>
                    <a:lnTo>
                      <a:pt x="1637" y="421"/>
                    </a:lnTo>
                    <a:lnTo>
                      <a:pt x="1757" y="384"/>
                    </a:lnTo>
                    <a:lnTo>
                      <a:pt x="1853" y="354"/>
                    </a:lnTo>
                    <a:lnTo>
                      <a:pt x="1926" y="332"/>
                    </a:lnTo>
                    <a:lnTo>
                      <a:pt x="1981" y="315"/>
                    </a:lnTo>
                    <a:lnTo>
                      <a:pt x="2019" y="305"/>
                    </a:lnTo>
                    <a:lnTo>
                      <a:pt x="2043" y="297"/>
                    </a:lnTo>
                    <a:lnTo>
                      <a:pt x="2056" y="294"/>
                    </a:lnTo>
                    <a:lnTo>
                      <a:pt x="2059" y="293"/>
                    </a:lnTo>
                    <a:lnTo>
                      <a:pt x="2057" y="292"/>
                    </a:lnTo>
                    <a:lnTo>
                      <a:pt x="2051" y="290"/>
                    </a:lnTo>
                    <a:lnTo>
                      <a:pt x="2044" y="289"/>
                    </a:lnTo>
                    <a:lnTo>
                      <a:pt x="2034" y="289"/>
                    </a:lnTo>
                    <a:lnTo>
                      <a:pt x="2023" y="289"/>
                    </a:lnTo>
                    <a:lnTo>
                      <a:pt x="2006" y="290"/>
                    </a:lnTo>
                    <a:lnTo>
                      <a:pt x="1987" y="293"/>
                    </a:lnTo>
                    <a:lnTo>
                      <a:pt x="1962" y="296"/>
                    </a:lnTo>
                    <a:lnTo>
                      <a:pt x="1934" y="301"/>
                    </a:lnTo>
                    <a:lnTo>
                      <a:pt x="1899" y="308"/>
                    </a:lnTo>
                    <a:lnTo>
                      <a:pt x="1859" y="316"/>
                    </a:lnTo>
                    <a:lnTo>
                      <a:pt x="1814" y="326"/>
                    </a:lnTo>
                    <a:lnTo>
                      <a:pt x="1762" y="339"/>
                    </a:lnTo>
                    <a:lnTo>
                      <a:pt x="1703" y="355"/>
                    </a:lnTo>
                    <a:lnTo>
                      <a:pt x="1581" y="387"/>
                    </a:lnTo>
                    <a:lnTo>
                      <a:pt x="1466" y="416"/>
                    </a:lnTo>
                    <a:lnTo>
                      <a:pt x="1412" y="428"/>
                    </a:lnTo>
                    <a:lnTo>
                      <a:pt x="1362" y="438"/>
                    </a:lnTo>
                    <a:lnTo>
                      <a:pt x="1316" y="448"/>
                    </a:lnTo>
                    <a:lnTo>
                      <a:pt x="1273" y="455"/>
                    </a:lnTo>
                    <a:lnTo>
                      <a:pt x="1235" y="459"/>
                    </a:lnTo>
                    <a:lnTo>
                      <a:pt x="1203" y="461"/>
                    </a:lnTo>
                    <a:lnTo>
                      <a:pt x="1189" y="461"/>
                    </a:lnTo>
                    <a:lnTo>
                      <a:pt x="1176" y="460"/>
                    </a:lnTo>
                    <a:lnTo>
                      <a:pt x="1165" y="458"/>
                    </a:lnTo>
                    <a:lnTo>
                      <a:pt x="1155" y="456"/>
                    </a:lnTo>
                    <a:lnTo>
                      <a:pt x="1146" y="452"/>
                    </a:lnTo>
                    <a:lnTo>
                      <a:pt x="1140" y="448"/>
                    </a:lnTo>
                    <a:lnTo>
                      <a:pt x="1136" y="444"/>
                    </a:lnTo>
                    <a:lnTo>
                      <a:pt x="1133" y="437"/>
                    </a:lnTo>
                    <a:lnTo>
                      <a:pt x="1132" y="431"/>
                    </a:lnTo>
                    <a:lnTo>
                      <a:pt x="1133" y="423"/>
                    </a:lnTo>
                    <a:lnTo>
                      <a:pt x="1137" y="414"/>
                    </a:lnTo>
                    <a:lnTo>
                      <a:pt x="1142" y="404"/>
                    </a:lnTo>
                    <a:lnTo>
                      <a:pt x="1156" y="382"/>
                    </a:lnTo>
                    <a:lnTo>
                      <a:pt x="1175" y="357"/>
                    </a:lnTo>
                    <a:lnTo>
                      <a:pt x="1196" y="332"/>
                    </a:lnTo>
                    <a:lnTo>
                      <a:pt x="1219" y="305"/>
                    </a:lnTo>
                    <a:lnTo>
                      <a:pt x="1245" y="276"/>
                    </a:lnTo>
                    <a:lnTo>
                      <a:pt x="1272" y="247"/>
                    </a:lnTo>
                    <a:lnTo>
                      <a:pt x="1299" y="219"/>
                    </a:lnTo>
                    <a:lnTo>
                      <a:pt x="1327" y="191"/>
                    </a:lnTo>
                    <a:lnTo>
                      <a:pt x="1381" y="140"/>
                    </a:lnTo>
                    <a:lnTo>
                      <a:pt x="1428" y="97"/>
                    </a:lnTo>
                    <a:lnTo>
                      <a:pt x="1449" y="81"/>
                    </a:lnTo>
                    <a:lnTo>
                      <a:pt x="1466" y="67"/>
                    </a:lnTo>
                    <a:lnTo>
                      <a:pt x="1479" y="58"/>
                    </a:lnTo>
                    <a:lnTo>
                      <a:pt x="1488" y="53"/>
                    </a:lnTo>
                    <a:lnTo>
                      <a:pt x="1491" y="52"/>
                    </a:lnTo>
                    <a:lnTo>
                      <a:pt x="1493" y="50"/>
                    </a:lnTo>
                    <a:lnTo>
                      <a:pt x="1495" y="46"/>
                    </a:lnTo>
                    <a:lnTo>
                      <a:pt x="1496" y="42"/>
                    </a:lnTo>
                    <a:lnTo>
                      <a:pt x="1498" y="38"/>
                    </a:lnTo>
                    <a:lnTo>
                      <a:pt x="1498" y="33"/>
                    </a:lnTo>
                    <a:lnTo>
                      <a:pt x="1498" y="28"/>
                    </a:lnTo>
                    <a:lnTo>
                      <a:pt x="1496" y="24"/>
                    </a:lnTo>
                    <a:lnTo>
                      <a:pt x="1494" y="18"/>
                    </a:lnTo>
                    <a:lnTo>
                      <a:pt x="1491" y="14"/>
                    </a:lnTo>
                    <a:lnTo>
                      <a:pt x="1487" y="10"/>
                    </a:lnTo>
                    <a:lnTo>
                      <a:pt x="1482" y="6"/>
                    </a:lnTo>
                    <a:lnTo>
                      <a:pt x="1476" y="3"/>
                    </a:lnTo>
                    <a:lnTo>
                      <a:pt x="1469" y="1"/>
                    </a:lnTo>
                    <a:lnTo>
                      <a:pt x="1461" y="0"/>
                    </a:lnTo>
                    <a:lnTo>
                      <a:pt x="1451" y="0"/>
                    </a:lnTo>
                    <a:lnTo>
                      <a:pt x="1440" y="1"/>
                    </a:lnTo>
                    <a:lnTo>
                      <a:pt x="1428" y="3"/>
                    </a:lnTo>
                    <a:lnTo>
                      <a:pt x="1414" y="8"/>
                    </a:lnTo>
                    <a:lnTo>
                      <a:pt x="1399" y="14"/>
                    </a:lnTo>
                    <a:lnTo>
                      <a:pt x="1383" y="22"/>
                    </a:lnTo>
                    <a:lnTo>
                      <a:pt x="1365" y="31"/>
                    </a:lnTo>
                    <a:lnTo>
                      <a:pt x="1345" y="43"/>
                    </a:lnTo>
                    <a:lnTo>
                      <a:pt x="1324" y="57"/>
                    </a:lnTo>
                    <a:lnTo>
                      <a:pt x="1300" y="73"/>
                    </a:lnTo>
                    <a:lnTo>
                      <a:pt x="1275" y="93"/>
                    </a:lnTo>
                    <a:lnTo>
                      <a:pt x="1248" y="114"/>
                    </a:lnTo>
                    <a:lnTo>
                      <a:pt x="1219" y="139"/>
                    </a:lnTo>
                    <a:lnTo>
                      <a:pt x="1189" y="167"/>
                    </a:lnTo>
                    <a:lnTo>
                      <a:pt x="1155" y="199"/>
                    </a:lnTo>
                    <a:lnTo>
                      <a:pt x="1119" y="233"/>
                    </a:lnTo>
                    <a:lnTo>
                      <a:pt x="1083" y="271"/>
                    </a:lnTo>
                    <a:lnTo>
                      <a:pt x="1044" y="309"/>
                    </a:lnTo>
                    <a:lnTo>
                      <a:pt x="1007" y="344"/>
                    </a:lnTo>
                    <a:lnTo>
                      <a:pt x="969" y="378"/>
                    </a:lnTo>
                    <a:lnTo>
                      <a:pt x="934" y="409"/>
                    </a:lnTo>
                    <a:lnTo>
                      <a:pt x="899" y="438"/>
                    </a:lnTo>
                    <a:lnTo>
                      <a:pt x="864" y="464"/>
                    </a:lnTo>
                    <a:lnTo>
                      <a:pt x="831" y="489"/>
                    </a:lnTo>
                    <a:lnTo>
                      <a:pt x="799" y="512"/>
                    </a:lnTo>
                    <a:lnTo>
                      <a:pt x="767" y="532"/>
                    </a:lnTo>
                    <a:lnTo>
                      <a:pt x="737" y="551"/>
                    </a:lnTo>
                    <a:lnTo>
                      <a:pt x="707" y="568"/>
                    </a:lnTo>
                    <a:lnTo>
                      <a:pt x="679" y="583"/>
                    </a:lnTo>
                    <a:lnTo>
                      <a:pt x="652" y="597"/>
                    </a:lnTo>
                    <a:lnTo>
                      <a:pt x="626" y="609"/>
                    </a:lnTo>
                    <a:lnTo>
                      <a:pt x="601" y="620"/>
                    </a:lnTo>
                    <a:lnTo>
                      <a:pt x="576" y="630"/>
                    </a:lnTo>
                    <a:lnTo>
                      <a:pt x="554" y="638"/>
                    </a:lnTo>
                    <a:lnTo>
                      <a:pt x="533" y="645"/>
                    </a:lnTo>
                    <a:lnTo>
                      <a:pt x="512" y="651"/>
                    </a:lnTo>
                    <a:lnTo>
                      <a:pt x="494" y="656"/>
                    </a:lnTo>
                    <a:lnTo>
                      <a:pt x="460" y="663"/>
                    </a:lnTo>
                    <a:lnTo>
                      <a:pt x="432" y="668"/>
                    </a:lnTo>
                    <a:lnTo>
                      <a:pt x="393" y="672"/>
                    </a:lnTo>
                    <a:lnTo>
                      <a:pt x="381" y="671"/>
                    </a:lnTo>
                    <a:lnTo>
                      <a:pt x="363" y="680"/>
                    </a:lnTo>
                    <a:lnTo>
                      <a:pt x="318" y="707"/>
                    </a:lnTo>
                    <a:lnTo>
                      <a:pt x="288" y="727"/>
                    </a:lnTo>
                    <a:lnTo>
                      <a:pt x="255" y="749"/>
                    </a:lnTo>
                    <a:lnTo>
                      <a:pt x="220" y="775"/>
                    </a:lnTo>
                    <a:lnTo>
                      <a:pt x="183" y="803"/>
                    </a:lnTo>
                    <a:lnTo>
                      <a:pt x="164" y="819"/>
                    </a:lnTo>
                    <a:lnTo>
                      <a:pt x="147" y="835"/>
                    </a:lnTo>
                    <a:lnTo>
                      <a:pt x="129" y="851"/>
                    </a:lnTo>
                    <a:lnTo>
                      <a:pt x="112" y="868"/>
                    </a:lnTo>
                    <a:lnTo>
                      <a:pt x="95" y="886"/>
                    </a:lnTo>
                    <a:lnTo>
                      <a:pt x="80" y="903"/>
                    </a:lnTo>
                    <a:lnTo>
                      <a:pt x="65" y="921"/>
                    </a:lnTo>
                    <a:lnTo>
                      <a:pt x="52" y="940"/>
                    </a:lnTo>
                    <a:lnTo>
                      <a:pt x="39" y="958"/>
                    </a:lnTo>
                    <a:lnTo>
                      <a:pt x="28" y="977"/>
                    </a:lnTo>
                    <a:lnTo>
                      <a:pt x="20" y="996"/>
                    </a:lnTo>
                    <a:lnTo>
                      <a:pt x="12" y="1015"/>
                    </a:lnTo>
                    <a:lnTo>
                      <a:pt x="7" y="1035"/>
                    </a:lnTo>
                    <a:lnTo>
                      <a:pt x="2" y="1054"/>
                    </a:lnTo>
                    <a:lnTo>
                      <a:pt x="1" y="1075"/>
                    </a:lnTo>
                    <a:lnTo>
                      <a:pt x="2" y="1094"/>
                    </a:lnTo>
                    <a:lnTo>
                      <a:pt x="1" y="1097"/>
                    </a:lnTo>
                    <a:lnTo>
                      <a:pt x="0" y="1103"/>
                    </a:lnTo>
                    <a:lnTo>
                      <a:pt x="0" y="1106"/>
                    </a:lnTo>
                    <a:lnTo>
                      <a:pt x="1" y="1108"/>
                    </a:lnTo>
                    <a:lnTo>
                      <a:pt x="3" y="1109"/>
                    </a:lnTo>
                    <a:lnTo>
                      <a:pt x="7" y="1108"/>
                    </a:lnTo>
                    <a:lnTo>
                      <a:pt x="11" y="1105"/>
                    </a:lnTo>
                    <a:lnTo>
                      <a:pt x="18" y="1099"/>
                    </a:lnTo>
                    <a:lnTo>
                      <a:pt x="25" y="1090"/>
                    </a:lnTo>
                    <a:lnTo>
                      <a:pt x="36" y="1076"/>
                    </a:lnTo>
                    <a:lnTo>
                      <a:pt x="48" y="1058"/>
                    </a:lnTo>
                    <a:lnTo>
                      <a:pt x="64" y="1036"/>
                    </a:lnTo>
                    <a:lnTo>
                      <a:pt x="82" y="1008"/>
                    </a:lnTo>
                    <a:lnTo>
                      <a:pt x="103" y="973"/>
                    </a:lnTo>
                    <a:close/>
                  </a:path>
                </a:pathLst>
              </a:custGeom>
              <a:solidFill>
                <a:srgbClr val="88b3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5981760" y="3353040"/>
                <a:ext cx="312480" cy="198360"/>
              </a:xfrm>
              <a:custGeom>
                <a:avLst/>
                <a:gdLst/>
                <a:ahLst/>
                <a:rect l="l" t="t" r="r" b="b"/>
                <a:pathLst>
                  <a:path w="984" h="629">
                    <a:moveTo>
                      <a:pt x="778" y="416"/>
                    </a:moveTo>
                    <a:lnTo>
                      <a:pt x="788" y="388"/>
                    </a:lnTo>
                    <a:lnTo>
                      <a:pt x="799" y="358"/>
                    </a:lnTo>
                    <a:lnTo>
                      <a:pt x="810" y="328"/>
                    </a:lnTo>
                    <a:lnTo>
                      <a:pt x="821" y="300"/>
                    </a:lnTo>
                    <a:lnTo>
                      <a:pt x="830" y="276"/>
                    </a:lnTo>
                    <a:lnTo>
                      <a:pt x="838" y="257"/>
                    </a:lnTo>
                    <a:lnTo>
                      <a:pt x="843" y="244"/>
                    </a:lnTo>
                    <a:lnTo>
                      <a:pt x="845" y="239"/>
                    </a:lnTo>
                    <a:lnTo>
                      <a:pt x="853" y="230"/>
                    </a:lnTo>
                    <a:lnTo>
                      <a:pt x="871" y="204"/>
                    </a:lnTo>
                    <a:lnTo>
                      <a:pt x="897" y="168"/>
                    </a:lnTo>
                    <a:lnTo>
                      <a:pt x="925" y="127"/>
                    </a:lnTo>
                    <a:lnTo>
                      <a:pt x="939" y="105"/>
                    </a:lnTo>
                    <a:lnTo>
                      <a:pt x="952" y="85"/>
                    </a:lnTo>
                    <a:lnTo>
                      <a:pt x="963" y="65"/>
                    </a:lnTo>
                    <a:lnTo>
                      <a:pt x="973" y="47"/>
                    </a:lnTo>
                    <a:lnTo>
                      <a:pt x="979" y="32"/>
                    </a:lnTo>
                    <a:lnTo>
                      <a:pt x="983" y="19"/>
                    </a:lnTo>
                    <a:lnTo>
                      <a:pt x="984" y="15"/>
                    </a:lnTo>
                    <a:lnTo>
                      <a:pt x="983" y="10"/>
                    </a:lnTo>
                    <a:lnTo>
                      <a:pt x="982" y="8"/>
                    </a:lnTo>
                    <a:lnTo>
                      <a:pt x="979" y="7"/>
                    </a:lnTo>
                    <a:lnTo>
                      <a:pt x="973" y="4"/>
                    </a:lnTo>
                    <a:lnTo>
                      <a:pt x="966" y="2"/>
                    </a:lnTo>
                    <a:lnTo>
                      <a:pt x="959" y="1"/>
                    </a:lnTo>
                    <a:lnTo>
                      <a:pt x="950" y="0"/>
                    </a:lnTo>
                    <a:lnTo>
                      <a:pt x="940" y="0"/>
                    </a:lnTo>
                    <a:lnTo>
                      <a:pt x="928" y="2"/>
                    </a:lnTo>
                    <a:lnTo>
                      <a:pt x="913" y="5"/>
                    </a:lnTo>
                    <a:lnTo>
                      <a:pt x="896" y="11"/>
                    </a:lnTo>
                    <a:lnTo>
                      <a:pt x="876" y="20"/>
                    </a:lnTo>
                    <a:lnTo>
                      <a:pt x="852" y="32"/>
                    </a:lnTo>
                    <a:lnTo>
                      <a:pt x="824" y="47"/>
                    </a:lnTo>
                    <a:lnTo>
                      <a:pt x="791" y="65"/>
                    </a:lnTo>
                    <a:lnTo>
                      <a:pt x="755" y="88"/>
                    </a:lnTo>
                    <a:lnTo>
                      <a:pt x="714" y="115"/>
                    </a:lnTo>
                    <a:lnTo>
                      <a:pt x="666" y="147"/>
                    </a:lnTo>
                    <a:lnTo>
                      <a:pt x="613" y="184"/>
                    </a:lnTo>
                    <a:lnTo>
                      <a:pt x="500" y="263"/>
                    </a:lnTo>
                    <a:lnTo>
                      <a:pt x="390" y="341"/>
                    </a:lnTo>
                    <a:lnTo>
                      <a:pt x="287" y="414"/>
                    </a:lnTo>
                    <a:lnTo>
                      <a:pt x="193" y="480"/>
                    </a:lnTo>
                    <a:lnTo>
                      <a:pt x="114" y="535"/>
                    </a:lnTo>
                    <a:lnTo>
                      <a:pt x="54" y="579"/>
                    </a:lnTo>
                    <a:lnTo>
                      <a:pt x="14" y="608"/>
                    </a:lnTo>
                    <a:lnTo>
                      <a:pt x="0" y="617"/>
                    </a:lnTo>
                    <a:lnTo>
                      <a:pt x="8" y="613"/>
                    </a:lnTo>
                    <a:lnTo>
                      <a:pt x="30" y="603"/>
                    </a:lnTo>
                    <a:lnTo>
                      <a:pt x="63" y="590"/>
                    </a:lnTo>
                    <a:lnTo>
                      <a:pt x="105" y="577"/>
                    </a:lnTo>
                    <a:lnTo>
                      <a:pt x="129" y="571"/>
                    </a:lnTo>
                    <a:lnTo>
                      <a:pt x="154" y="564"/>
                    </a:lnTo>
                    <a:lnTo>
                      <a:pt x="180" y="560"/>
                    </a:lnTo>
                    <a:lnTo>
                      <a:pt x="206" y="557"/>
                    </a:lnTo>
                    <a:lnTo>
                      <a:pt x="233" y="555"/>
                    </a:lnTo>
                    <a:lnTo>
                      <a:pt x="260" y="555"/>
                    </a:lnTo>
                    <a:lnTo>
                      <a:pt x="273" y="556"/>
                    </a:lnTo>
                    <a:lnTo>
                      <a:pt x="286" y="558"/>
                    </a:lnTo>
                    <a:lnTo>
                      <a:pt x="299" y="560"/>
                    </a:lnTo>
                    <a:lnTo>
                      <a:pt x="312" y="563"/>
                    </a:lnTo>
                    <a:lnTo>
                      <a:pt x="360" y="575"/>
                    </a:lnTo>
                    <a:lnTo>
                      <a:pt x="408" y="587"/>
                    </a:lnTo>
                    <a:lnTo>
                      <a:pt x="451" y="598"/>
                    </a:lnTo>
                    <a:lnTo>
                      <a:pt x="490" y="609"/>
                    </a:lnTo>
                    <a:lnTo>
                      <a:pt x="522" y="617"/>
                    </a:lnTo>
                    <a:lnTo>
                      <a:pt x="547" y="624"/>
                    </a:lnTo>
                    <a:lnTo>
                      <a:pt x="562" y="628"/>
                    </a:lnTo>
                    <a:lnTo>
                      <a:pt x="569" y="629"/>
                    </a:lnTo>
                    <a:lnTo>
                      <a:pt x="571" y="626"/>
                    </a:lnTo>
                    <a:lnTo>
                      <a:pt x="581" y="615"/>
                    </a:lnTo>
                    <a:lnTo>
                      <a:pt x="595" y="601"/>
                    </a:lnTo>
                    <a:lnTo>
                      <a:pt x="613" y="584"/>
                    </a:lnTo>
                    <a:lnTo>
                      <a:pt x="624" y="574"/>
                    </a:lnTo>
                    <a:lnTo>
                      <a:pt x="636" y="565"/>
                    </a:lnTo>
                    <a:lnTo>
                      <a:pt x="649" y="557"/>
                    </a:lnTo>
                    <a:lnTo>
                      <a:pt x="663" y="549"/>
                    </a:lnTo>
                    <a:lnTo>
                      <a:pt x="677" y="542"/>
                    </a:lnTo>
                    <a:lnTo>
                      <a:pt x="692" y="536"/>
                    </a:lnTo>
                    <a:lnTo>
                      <a:pt x="708" y="531"/>
                    </a:lnTo>
                    <a:lnTo>
                      <a:pt x="724" y="528"/>
                    </a:lnTo>
                    <a:lnTo>
                      <a:pt x="769" y="518"/>
                    </a:lnTo>
                    <a:lnTo>
                      <a:pt x="769" y="517"/>
                    </a:lnTo>
                    <a:lnTo>
                      <a:pt x="768" y="514"/>
                    </a:lnTo>
                    <a:lnTo>
                      <a:pt x="765" y="507"/>
                    </a:lnTo>
                    <a:lnTo>
                      <a:pt x="765" y="497"/>
                    </a:lnTo>
                    <a:lnTo>
                      <a:pt x="765" y="483"/>
                    </a:lnTo>
                    <a:lnTo>
                      <a:pt x="768" y="466"/>
                    </a:lnTo>
                    <a:lnTo>
                      <a:pt x="772" y="444"/>
                    </a:lnTo>
                    <a:lnTo>
                      <a:pt x="778" y="416"/>
                    </a:lnTo>
                    <a:close/>
                  </a:path>
                </a:pathLst>
              </a:custGeom>
              <a:solidFill>
                <a:srgbClr val="76a1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5761080" y="3344760"/>
                <a:ext cx="347760" cy="314640"/>
              </a:xfrm>
              <a:custGeom>
                <a:avLst/>
                <a:gdLst/>
                <a:ahLst/>
                <a:rect l="l" t="t" r="r" b="b"/>
                <a:pathLst>
                  <a:path w="1091" h="994">
                    <a:moveTo>
                      <a:pt x="660" y="642"/>
                    </a:moveTo>
                    <a:lnTo>
                      <a:pt x="631" y="669"/>
                    </a:lnTo>
                    <a:lnTo>
                      <a:pt x="602" y="696"/>
                    </a:lnTo>
                    <a:lnTo>
                      <a:pt x="573" y="725"/>
                    </a:lnTo>
                    <a:lnTo>
                      <a:pt x="545" y="755"/>
                    </a:lnTo>
                    <a:lnTo>
                      <a:pt x="489" y="813"/>
                    </a:lnTo>
                    <a:lnTo>
                      <a:pt x="441" y="867"/>
                    </a:lnTo>
                    <a:lnTo>
                      <a:pt x="399" y="916"/>
                    </a:lnTo>
                    <a:lnTo>
                      <a:pt x="365" y="953"/>
                    </a:lnTo>
                    <a:lnTo>
                      <a:pt x="345" y="979"/>
                    </a:lnTo>
                    <a:lnTo>
                      <a:pt x="337" y="988"/>
                    </a:lnTo>
                    <a:lnTo>
                      <a:pt x="324" y="989"/>
                    </a:lnTo>
                    <a:lnTo>
                      <a:pt x="291" y="992"/>
                    </a:lnTo>
                    <a:lnTo>
                      <a:pt x="243" y="994"/>
                    </a:lnTo>
                    <a:lnTo>
                      <a:pt x="188" y="994"/>
                    </a:lnTo>
                    <a:lnTo>
                      <a:pt x="159" y="993"/>
                    </a:lnTo>
                    <a:lnTo>
                      <a:pt x="131" y="991"/>
                    </a:lnTo>
                    <a:lnTo>
                      <a:pt x="104" y="988"/>
                    </a:lnTo>
                    <a:lnTo>
                      <a:pt x="79" y="982"/>
                    </a:lnTo>
                    <a:lnTo>
                      <a:pt x="68" y="980"/>
                    </a:lnTo>
                    <a:lnTo>
                      <a:pt x="57" y="976"/>
                    </a:lnTo>
                    <a:lnTo>
                      <a:pt x="48" y="972"/>
                    </a:lnTo>
                    <a:lnTo>
                      <a:pt x="38" y="967"/>
                    </a:lnTo>
                    <a:lnTo>
                      <a:pt x="30" y="963"/>
                    </a:lnTo>
                    <a:lnTo>
                      <a:pt x="24" y="957"/>
                    </a:lnTo>
                    <a:lnTo>
                      <a:pt x="20" y="950"/>
                    </a:lnTo>
                    <a:lnTo>
                      <a:pt x="15" y="944"/>
                    </a:lnTo>
                    <a:lnTo>
                      <a:pt x="10" y="930"/>
                    </a:lnTo>
                    <a:lnTo>
                      <a:pt x="5" y="916"/>
                    </a:lnTo>
                    <a:lnTo>
                      <a:pt x="2" y="900"/>
                    </a:lnTo>
                    <a:lnTo>
                      <a:pt x="0" y="885"/>
                    </a:lnTo>
                    <a:lnTo>
                      <a:pt x="0" y="869"/>
                    </a:lnTo>
                    <a:lnTo>
                      <a:pt x="2" y="851"/>
                    </a:lnTo>
                    <a:lnTo>
                      <a:pt x="5" y="831"/>
                    </a:lnTo>
                    <a:lnTo>
                      <a:pt x="10" y="808"/>
                    </a:lnTo>
                    <a:lnTo>
                      <a:pt x="16" y="782"/>
                    </a:lnTo>
                    <a:lnTo>
                      <a:pt x="25" y="751"/>
                    </a:lnTo>
                    <a:lnTo>
                      <a:pt x="35" y="717"/>
                    </a:lnTo>
                    <a:lnTo>
                      <a:pt x="47" y="678"/>
                    </a:lnTo>
                    <a:lnTo>
                      <a:pt x="77" y="584"/>
                    </a:lnTo>
                    <a:lnTo>
                      <a:pt x="115" y="464"/>
                    </a:lnTo>
                    <a:lnTo>
                      <a:pt x="128" y="427"/>
                    </a:lnTo>
                    <a:lnTo>
                      <a:pt x="142" y="390"/>
                    </a:lnTo>
                    <a:lnTo>
                      <a:pt x="158" y="353"/>
                    </a:lnTo>
                    <a:lnTo>
                      <a:pt x="174" y="315"/>
                    </a:lnTo>
                    <a:lnTo>
                      <a:pt x="193" y="279"/>
                    </a:lnTo>
                    <a:lnTo>
                      <a:pt x="213" y="243"/>
                    </a:lnTo>
                    <a:lnTo>
                      <a:pt x="233" y="207"/>
                    </a:lnTo>
                    <a:lnTo>
                      <a:pt x="255" y="172"/>
                    </a:lnTo>
                    <a:lnTo>
                      <a:pt x="265" y="161"/>
                    </a:lnTo>
                    <a:lnTo>
                      <a:pt x="289" y="131"/>
                    </a:lnTo>
                    <a:lnTo>
                      <a:pt x="305" y="113"/>
                    </a:lnTo>
                    <a:lnTo>
                      <a:pt x="322" y="94"/>
                    </a:lnTo>
                    <a:lnTo>
                      <a:pt x="340" y="73"/>
                    </a:lnTo>
                    <a:lnTo>
                      <a:pt x="360" y="54"/>
                    </a:lnTo>
                    <a:lnTo>
                      <a:pt x="379" y="35"/>
                    </a:lnTo>
                    <a:lnTo>
                      <a:pt x="397" y="20"/>
                    </a:lnTo>
                    <a:lnTo>
                      <a:pt x="405" y="14"/>
                    </a:lnTo>
                    <a:lnTo>
                      <a:pt x="413" y="8"/>
                    </a:lnTo>
                    <a:lnTo>
                      <a:pt x="420" y="4"/>
                    </a:lnTo>
                    <a:lnTo>
                      <a:pt x="427" y="2"/>
                    </a:lnTo>
                    <a:lnTo>
                      <a:pt x="433" y="0"/>
                    </a:lnTo>
                    <a:lnTo>
                      <a:pt x="439" y="1"/>
                    </a:lnTo>
                    <a:lnTo>
                      <a:pt x="443" y="2"/>
                    </a:lnTo>
                    <a:lnTo>
                      <a:pt x="446" y="6"/>
                    </a:lnTo>
                    <a:lnTo>
                      <a:pt x="448" y="12"/>
                    </a:lnTo>
                    <a:lnTo>
                      <a:pt x="449" y="19"/>
                    </a:lnTo>
                    <a:lnTo>
                      <a:pt x="449" y="29"/>
                    </a:lnTo>
                    <a:lnTo>
                      <a:pt x="448" y="42"/>
                    </a:lnTo>
                    <a:lnTo>
                      <a:pt x="446" y="55"/>
                    </a:lnTo>
                    <a:lnTo>
                      <a:pt x="445" y="68"/>
                    </a:lnTo>
                    <a:lnTo>
                      <a:pt x="446" y="80"/>
                    </a:lnTo>
                    <a:lnTo>
                      <a:pt x="446" y="90"/>
                    </a:lnTo>
                    <a:lnTo>
                      <a:pt x="448" y="101"/>
                    </a:lnTo>
                    <a:lnTo>
                      <a:pt x="451" y="111"/>
                    </a:lnTo>
                    <a:lnTo>
                      <a:pt x="454" y="120"/>
                    </a:lnTo>
                    <a:lnTo>
                      <a:pt x="458" y="128"/>
                    </a:lnTo>
                    <a:lnTo>
                      <a:pt x="462" y="136"/>
                    </a:lnTo>
                    <a:lnTo>
                      <a:pt x="467" y="143"/>
                    </a:lnTo>
                    <a:lnTo>
                      <a:pt x="472" y="150"/>
                    </a:lnTo>
                    <a:lnTo>
                      <a:pt x="478" y="156"/>
                    </a:lnTo>
                    <a:lnTo>
                      <a:pt x="484" y="161"/>
                    </a:lnTo>
                    <a:lnTo>
                      <a:pt x="491" y="166"/>
                    </a:lnTo>
                    <a:lnTo>
                      <a:pt x="498" y="169"/>
                    </a:lnTo>
                    <a:lnTo>
                      <a:pt x="505" y="174"/>
                    </a:lnTo>
                    <a:lnTo>
                      <a:pt x="512" y="176"/>
                    </a:lnTo>
                    <a:lnTo>
                      <a:pt x="520" y="178"/>
                    </a:lnTo>
                    <a:lnTo>
                      <a:pt x="527" y="180"/>
                    </a:lnTo>
                    <a:lnTo>
                      <a:pt x="536" y="181"/>
                    </a:lnTo>
                    <a:lnTo>
                      <a:pt x="543" y="181"/>
                    </a:lnTo>
                    <a:lnTo>
                      <a:pt x="551" y="181"/>
                    </a:lnTo>
                    <a:lnTo>
                      <a:pt x="560" y="181"/>
                    </a:lnTo>
                    <a:lnTo>
                      <a:pt x="567" y="180"/>
                    </a:lnTo>
                    <a:lnTo>
                      <a:pt x="575" y="178"/>
                    </a:lnTo>
                    <a:lnTo>
                      <a:pt x="582" y="176"/>
                    </a:lnTo>
                    <a:lnTo>
                      <a:pt x="590" y="174"/>
                    </a:lnTo>
                    <a:lnTo>
                      <a:pt x="596" y="170"/>
                    </a:lnTo>
                    <a:lnTo>
                      <a:pt x="603" y="167"/>
                    </a:lnTo>
                    <a:lnTo>
                      <a:pt x="609" y="163"/>
                    </a:lnTo>
                    <a:lnTo>
                      <a:pt x="616" y="157"/>
                    </a:lnTo>
                    <a:lnTo>
                      <a:pt x="621" y="153"/>
                    </a:lnTo>
                    <a:lnTo>
                      <a:pt x="626" y="149"/>
                    </a:lnTo>
                    <a:lnTo>
                      <a:pt x="630" y="148"/>
                    </a:lnTo>
                    <a:lnTo>
                      <a:pt x="632" y="148"/>
                    </a:lnTo>
                    <a:lnTo>
                      <a:pt x="634" y="150"/>
                    </a:lnTo>
                    <a:lnTo>
                      <a:pt x="635" y="154"/>
                    </a:lnTo>
                    <a:lnTo>
                      <a:pt x="635" y="161"/>
                    </a:lnTo>
                    <a:lnTo>
                      <a:pt x="635" y="168"/>
                    </a:lnTo>
                    <a:lnTo>
                      <a:pt x="634" y="178"/>
                    </a:lnTo>
                    <a:lnTo>
                      <a:pt x="630" y="201"/>
                    </a:lnTo>
                    <a:lnTo>
                      <a:pt x="624" y="228"/>
                    </a:lnTo>
                    <a:lnTo>
                      <a:pt x="617" y="259"/>
                    </a:lnTo>
                    <a:lnTo>
                      <a:pt x="608" y="291"/>
                    </a:lnTo>
                    <a:lnTo>
                      <a:pt x="588" y="360"/>
                    </a:lnTo>
                    <a:lnTo>
                      <a:pt x="567" y="427"/>
                    </a:lnTo>
                    <a:lnTo>
                      <a:pt x="549" y="484"/>
                    </a:lnTo>
                    <a:lnTo>
                      <a:pt x="537" y="521"/>
                    </a:lnTo>
                    <a:lnTo>
                      <a:pt x="536" y="527"/>
                    </a:lnTo>
                    <a:lnTo>
                      <a:pt x="535" y="530"/>
                    </a:lnTo>
                    <a:lnTo>
                      <a:pt x="536" y="531"/>
                    </a:lnTo>
                    <a:lnTo>
                      <a:pt x="538" y="531"/>
                    </a:lnTo>
                    <a:lnTo>
                      <a:pt x="546" y="526"/>
                    </a:lnTo>
                    <a:lnTo>
                      <a:pt x="558" y="514"/>
                    </a:lnTo>
                    <a:lnTo>
                      <a:pt x="574" y="498"/>
                    </a:lnTo>
                    <a:lnTo>
                      <a:pt x="595" y="477"/>
                    </a:lnTo>
                    <a:lnTo>
                      <a:pt x="621" y="453"/>
                    </a:lnTo>
                    <a:lnTo>
                      <a:pt x="651" y="426"/>
                    </a:lnTo>
                    <a:lnTo>
                      <a:pt x="687" y="397"/>
                    </a:lnTo>
                    <a:lnTo>
                      <a:pt x="728" y="366"/>
                    </a:lnTo>
                    <a:lnTo>
                      <a:pt x="750" y="351"/>
                    </a:lnTo>
                    <a:lnTo>
                      <a:pt x="772" y="336"/>
                    </a:lnTo>
                    <a:lnTo>
                      <a:pt x="797" y="319"/>
                    </a:lnTo>
                    <a:lnTo>
                      <a:pt x="823" y="304"/>
                    </a:lnTo>
                    <a:lnTo>
                      <a:pt x="849" y="289"/>
                    </a:lnTo>
                    <a:lnTo>
                      <a:pt x="877" y="274"/>
                    </a:lnTo>
                    <a:lnTo>
                      <a:pt x="906" y="260"/>
                    </a:lnTo>
                    <a:lnTo>
                      <a:pt x="937" y="246"/>
                    </a:lnTo>
                    <a:lnTo>
                      <a:pt x="969" y="233"/>
                    </a:lnTo>
                    <a:lnTo>
                      <a:pt x="1002" y="220"/>
                    </a:lnTo>
                    <a:lnTo>
                      <a:pt x="1036" y="208"/>
                    </a:lnTo>
                    <a:lnTo>
                      <a:pt x="1071" y="197"/>
                    </a:lnTo>
                    <a:lnTo>
                      <a:pt x="1079" y="195"/>
                    </a:lnTo>
                    <a:lnTo>
                      <a:pt x="1086" y="195"/>
                    </a:lnTo>
                    <a:lnTo>
                      <a:pt x="1089" y="197"/>
                    </a:lnTo>
                    <a:lnTo>
                      <a:pt x="1091" y="201"/>
                    </a:lnTo>
                    <a:lnTo>
                      <a:pt x="1090" y="206"/>
                    </a:lnTo>
                    <a:lnTo>
                      <a:pt x="1088" y="212"/>
                    </a:lnTo>
                    <a:lnTo>
                      <a:pt x="1084" y="220"/>
                    </a:lnTo>
                    <a:lnTo>
                      <a:pt x="1078" y="230"/>
                    </a:lnTo>
                    <a:lnTo>
                      <a:pt x="1061" y="251"/>
                    </a:lnTo>
                    <a:lnTo>
                      <a:pt x="1038" y="278"/>
                    </a:lnTo>
                    <a:lnTo>
                      <a:pt x="1011" y="309"/>
                    </a:lnTo>
                    <a:lnTo>
                      <a:pt x="979" y="342"/>
                    </a:lnTo>
                    <a:lnTo>
                      <a:pt x="943" y="378"/>
                    </a:lnTo>
                    <a:lnTo>
                      <a:pt x="905" y="415"/>
                    </a:lnTo>
                    <a:lnTo>
                      <a:pt x="865" y="454"/>
                    </a:lnTo>
                    <a:lnTo>
                      <a:pt x="823" y="493"/>
                    </a:lnTo>
                    <a:lnTo>
                      <a:pt x="740" y="571"/>
                    </a:lnTo>
                    <a:lnTo>
                      <a:pt x="660" y="642"/>
                    </a:lnTo>
                    <a:close/>
                  </a:path>
                </a:pathLst>
              </a:custGeom>
              <a:solidFill>
                <a:srgbClr val="76a1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5761080" y="3362400"/>
                <a:ext cx="330120" cy="297000"/>
              </a:xfrm>
              <a:custGeom>
                <a:avLst/>
                <a:gdLst/>
                <a:ahLst/>
                <a:rect l="l" t="t" r="r" b="b"/>
                <a:pathLst>
                  <a:path w="1038" h="939">
                    <a:moveTo>
                      <a:pt x="596" y="125"/>
                    </a:moveTo>
                    <a:lnTo>
                      <a:pt x="601" y="121"/>
                    </a:lnTo>
                    <a:lnTo>
                      <a:pt x="605" y="120"/>
                    </a:lnTo>
                    <a:lnTo>
                      <a:pt x="608" y="120"/>
                    </a:lnTo>
                    <a:lnTo>
                      <a:pt x="610" y="123"/>
                    </a:lnTo>
                    <a:lnTo>
                      <a:pt x="612" y="127"/>
                    </a:lnTo>
                    <a:lnTo>
                      <a:pt x="613" y="134"/>
                    </a:lnTo>
                    <a:lnTo>
                      <a:pt x="612" y="141"/>
                    </a:lnTo>
                    <a:lnTo>
                      <a:pt x="612" y="151"/>
                    </a:lnTo>
                    <a:lnTo>
                      <a:pt x="607" y="174"/>
                    </a:lnTo>
                    <a:lnTo>
                      <a:pt x="602" y="201"/>
                    </a:lnTo>
                    <a:lnTo>
                      <a:pt x="595" y="232"/>
                    </a:lnTo>
                    <a:lnTo>
                      <a:pt x="587" y="264"/>
                    </a:lnTo>
                    <a:lnTo>
                      <a:pt x="567" y="335"/>
                    </a:lnTo>
                    <a:lnTo>
                      <a:pt x="547" y="402"/>
                    </a:lnTo>
                    <a:lnTo>
                      <a:pt x="529" y="459"/>
                    </a:lnTo>
                    <a:lnTo>
                      <a:pt x="518" y="495"/>
                    </a:lnTo>
                    <a:lnTo>
                      <a:pt x="515" y="501"/>
                    </a:lnTo>
                    <a:lnTo>
                      <a:pt x="515" y="504"/>
                    </a:lnTo>
                    <a:lnTo>
                      <a:pt x="516" y="506"/>
                    </a:lnTo>
                    <a:lnTo>
                      <a:pt x="519" y="506"/>
                    </a:lnTo>
                    <a:lnTo>
                      <a:pt x="526" y="502"/>
                    </a:lnTo>
                    <a:lnTo>
                      <a:pt x="538" y="492"/>
                    </a:lnTo>
                    <a:lnTo>
                      <a:pt x="575" y="458"/>
                    </a:lnTo>
                    <a:lnTo>
                      <a:pt x="630" y="410"/>
                    </a:lnTo>
                    <a:lnTo>
                      <a:pt x="663" y="383"/>
                    </a:lnTo>
                    <a:lnTo>
                      <a:pt x="702" y="355"/>
                    </a:lnTo>
                    <a:lnTo>
                      <a:pt x="723" y="341"/>
                    </a:lnTo>
                    <a:lnTo>
                      <a:pt x="744" y="326"/>
                    </a:lnTo>
                    <a:lnTo>
                      <a:pt x="767" y="312"/>
                    </a:lnTo>
                    <a:lnTo>
                      <a:pt x="791" y="298"/>
                    </a:lnTo>
                    <a:lnTo>
                      <a:pt x="816" y="284"/>
                    </a:lnTo>
                    <a:lnTo>
                      <a:pt x="841" y="270"/>
                    </a:lnTo>
                    <a:lnTo>
                      <a:pt x="868" y="257"/>
                    </a:lnTo>
                    <a:lnTo>
                      <a:pt x="896" y="244"/>
                    </a:lnTo>
                    <a:lnTo>
                      <a:pt x="925" y="231"/>
                    </a:lnTo>
                    <a:lnTo>
                      <a:pt x="954" y="220"/>
                    </a:lnTo>
                    <a:lnTo>
                      <a:pt x="985" y="209"/>
                    </a:lnTo>
                    <a:lnTo>
                      <a:pt x="1017" y="200"/>
                    </a:lnTo>
                    <a:lnTo>
                      <a:pt x="1025" y="196"/>
                    </a:lnTo>
                    <a:lnTo>
                      <a:pt x="1031" y="195"/>
                    </a:lnTo>
                    <a:lnTo>
                      <a:pt x="1035" y="196"/>
                    </a:lnTo>
                    <a:lnTo>
                      <a:pt x="1038" y="198"/>
                    </a:lnTo>
                    <a:lnTo>
                      <a:pt x="1038" y="202"/>
                    </a:lnTo>
                    <a:lnTo>
                      <a:pt x="1038" y="207"/>
                    </a:lnTo>
                    <a:lnTo>
                      <a:pt x="1035" y="213"/>
                    </a:lnTo>
                    <a:lnTo>
                      <a:pt x="1031" y="220"/>
                    </a:lnTo>
                    <a:lnTo>
                      <a:pt x="1019" y="238"/>
                    </a:lnTo>
                    <a:lnTo>
                      <a:pt x="1000" y="260"/>
                    </a:lnTo>
                    <a:lnTo>
                      <a:pt x="978" y="285"/>
                    </a:lnTo>
                    <a:lnTo>
                      <a:pt x="951" y="313"/>
                    </a:lnTo>
                    <a:lnTo>
                      <a:pt x="920" y="344"/>
                    </a:lnTo>
                    <a:lnTo>
                      <a:pt x="887" y="377"/>
                    </a:lnTo>
                    <a:lnTo>
                      <a:pt x="852" y="411"/>
                    </a:lnTo>
                    <a:lnTo>
                      <a:pt x="815" y="447"/>
                    </a:lnTo>
                    <a:lnTo>
                      <a:pt x="738" y="518"/>
                    </a:lnTo>
                    <a:lnTo>
                      <a:pt x="660" y="587"/>
                    </a:lnTo>
                    <a:lnTo>
                      <a:pt x="631" y="614"/>
                    </a:lnTo>
                    <a:lnTo>
                      <a:pt x="602" y="641"/>
                    </a:lnTo>
                    <a:lnTo>
                      <a:pt x="573" y="670"/>
                    </a:lnTo>
                    <a:lnTo>
                      <a:pt x="545" y="700"/>
                    </a:lnTo>
                    <a:lnTo>
                      <a:pt x="489" y="758"/>
                    </a:lnTo>
                    <a:lnTo>
                      <a:pt x="441" y="812"/>
                    </a:lnTo>
                    <a:lnTo>
                      <a:pt x="399" y="861"/>
                    </a:lnTo>
                    <a:lnTo>
                      <a:pt x="365" y="898"/>
                    </a:lnTo>
                    <a:lnTo>
                      <a:pt x="345" y="924"/>
                    </a:lnTo>
                    <a:lnTo>
                      <a:pt x="337" y="933"/>
                    </a:lnTo>
                    <a:lnTo>
                      <a:pt x="324" y="934"/>
                    </a:lnTo>
                    <a:lnTo>
                      <a:pt x="291" y="937"/>
                    </a:lnTo>
                    <a:lnTo>
                      <a:pt x="243" y="939"/>
                    </a:lnTo>
                    <a:lnTo>
                      <a:pt x="188" y="939"/>
                    </a:lnTo>
                    <a:lnTo>
                      <a:pt x="159" y="938"/>
                    </a:lnTo>
                    <a:lnTo>
                      <a:pt x="131" y="936"/>
                    </a:lnTo>
                    <a:lnTo>
                      <a:pt x="104" y="933"/>
                    </a:lnTo>
                    <a:lnTo>
                      <a:pt x="79" y="927"/>
                    </a:lnTo>
                    <a:lnTo>
                      <a:pt x="68" y="925"/>
                    </a:lnTo>
                    <a:lnTo>
                      <a:pt x="57" y="921"/>
                    </a:lnTo>
                    <a:lnTo>
                      <a:pt x="48" y="917"/>
                    </a:lnTo>
                    <a:lnTo>
                      <a:pt x="38" y="912"/>
                    </a:lnTo>
                    <a:lnTo>
                      <a:pt x="30" y="908"/>
                    </a:lnTo>
                    <a:lnTo>
                      <a:pt x="24" y="902"/>
                    </a:lnTo>
                    <a:lnTo>
                      <a:pt x="20" y="895"/>
                    </a:lnTo>
                    <a:lnTo>
                      <a:pt x="15" y="889"/>
                    </a:lnTo>
                    <a:lnTo>
                      <a:pt x="10" y="875"/>
                    </a:lnTo>
                    <a:lnTo>
                      <a:pt x="5" y="861"/>
                    </a:lnTo>
                    <a:lnTo>
                      <a:pt x="2" y="845"/>
                    </a:lnTo>
                    <a:lnTo>
                      <a:pt x="0" y="830"/>
                    </a:lnTo>
                    <a:lnTo>
                      <a:pt x="0" y="814"/>
                    </a:lnTo>
                    <a:lnTo>
                      <a:pt x="2" y="796"/>
                    </a:lnTo>
                    <a:lnTo>
                      <a:pt x="5" y="776"/>
                    </a:lnTo>
                    <a:lnTo>
                      <a:pt x="10" y="753"/>
                    </a:lnTo>
                    <a:lnTo>
                      <a:pt x="16" y="727"/>
                    </a:lnTo>
                    <a:lnTo>
                      <a:pt x="25" y="696"/>
                    </a:lnTo>
                    <a:lnTo>
                      <a:pt x="35" y="662"/>
                    </a:lnTo>
                    <a:lnTo>
                      <a:pt x="47" y="623"/>
                    </a:lnTo>
                    <a:lnTo>
                      <a:pt x="77" y="529"/>
                    </a:lnTo>
                    <a:lnTo>
                      <a:pt x="115" y="409"/>
                    </a:lnTo>
                    <a:lnTo>
                      <a:pt x="126" y="375"/>
                    </a:lnTo>
                    <a:lnTo>
                      <a:pt x="138" y="343"/>
                    </a:lnTo>
                    <a:lnTo>
                      <a:pt x="151" y="315"/>
                    </a:lnTo>
                    <a:lnTo>
                      <a:pt x="164" y="287"/>
                    </a:lnTo>
                    <a:lnTo>
                      <a:pt x="179" y="260"/>
                    </a:lnTo>
                    <a:lnTo>
                      <a:pt x="196" y="233"/>
                    </a:lnTo>
                    <a:lnTo>
                      <a:pt x="214" y="203"/>
                    </a:lnTo>
                    <a:lnTo>
                      <a:pt x="236" y="169"/>
                    </a:lnTo>
                    <a:lnTo>
                      <a:pt x="244" y="159"/>
                    </a:lnTo>
                    <a:lnTo>
                      <a:pt x="267" y="129"/>
                    </a:lnTo>
                    <a:lnTo>
                      <a:pt x="299" y="90"/>
                    </a:lnTo>
                    <a:lnTo>
                      <a:pt x="335" y="52"/>
                    </a:lnTo>
                    <a:lnTo>
                      <a:pt x="353" y="33"/>
                    </a:lnTo>
                    <a:lnTo>
                      <a:pt x="371" y="18"/>
                    </a:lnTo>
                    <a:lnTo>
                      <a:pt x="378" y="13"/>
                    </a:lnTo>
                    <a:lnTo>
                      <a:pt x="386" y="7"/>
                    </a:lnTo>
                    <a:lnTo>
                      <a:pt x="393" y="3"/>
                    </a:lnTo>
                    <a:lnTo>
                      <a:pt x="399" y="1"/>
                    </a:lnTo>
                    <a:lnTo>
                      <a:pt x="405" y="0"/>
                    </a:lnTo>
                    <a:lnTo>
                      <a:pt x="410" y="0"/>
                    </a:lnTo>
                    <a:lnTo>
                      <a:pt x="414" y="2"/>
                    </a:lnTo>
                    <a:lnTo>
                      <a:pt x="417" y="5"/>
                    </a:lnTo>
                    <a:lnTo>
                      <a:pt x="419" y="11"/>
                    </a:lnTo>
                    <a:lnTo>
                      <a:pt x="420" y="19"/>
                    </a:lnTo>
                    <a:lnTo>
                      <a:pt x="420" y="29"/>
                    </a:lnTo>
                    <a:lnTo>
                      <a:pt x="418" y="41"/>
                    </a:lnTo>
                    <a:lnTo>
                      <a:pt x="417" y="54"/>
                    </a:lnTo>
                    <a:lnTo>
                      <a:pt x="416" y="67"/>
                    </a:lnTo>
                    <a:lnTo>
                      <a:pt x="416" y="78"/>
                    </a:lnTo>
                    <a:lnTo>
                      <a:pt x="417" y="88"/>
                    </a:lnTo>
                    <a:lnTo>
                      <a:pt x="419" y="98"/>
                    </a:lnTo>
                    <a:lnTo>
                      <a:pt x="421" y="108"/>
                    </a:lnTo>
                    <a:lnTo>
                      <a:pt x="425" y="116"/>
                    </a:lnTo>
                    <a:lnTo>
                      <a:pt x="429" y="124"/>
                    </a:lnTo>
                    <a:lnTo>
                      <a:pt x="433" y="130"/>
                    </a:lnTo>
                    <a:lnTo>
                      <a:pt x="439" y="137"/>
                    </a:lnTo>
                    <a:lnTo>
                      <a:pt x="444" y="142"/>
                    </a:lnTo>
                    <a:lnTo>
                      <a:pt x="451" y="147"/>
                    </a:lnTo>
                    <a:lnTo>
                      <a:pt x="457" y="151"/>
                    </a:lnTo>
                    <a:lnTo>
                      <a:pt x="464" y="154"/>
                    </a:lnTo>
                    <a:lnTo>
                      <a:pt x="471" y="156"/>
                    </a:lnTo>
                    <a:lnTo>
                      <a:pt x="479" y="159"/>
                    </a:lnTo>
                    <a:lnTo>
                      <a:pt x="486" y="161"/>
                    </a:lnTo>
                    <a:lnTo>
                      <a:pt x="494" y="162"/>
                    </a:lnTo>
                    <a:lnTo>
                      <a:pt x="502" y="162"/>
                    </a:lnTo>
                    <a:lnTo>
                      <a:pt x="510" y="162"/>
                    </a:lnTo>
                    <a:lnTo>
                      <a:pt x="526" y="160"/>
                    </a:lnTo>
                    <a:lnTo>
                      <a:pt x="542" y="156"/>
                    </a:lnTo>
                    <a:lnTo>
                      <a:pt x="558" y="151"/>
                    </a:lnTo>
                    <a:lnTo>
                      <a:pt x="573" y="143"/>
                    </a:lnTo>
                    <a:lnTo>
                      <a:pt x="579" y="139"/>
                    </a:lnTo>
                    <a:lnTo>
                      <a:pt x="586" y="135"/>
                    </a:lnTo>
                    <a:lnTo>
                      <a:pt x="591" y="130"/>
                    </a:lnTo>
                    <a:lnTo>
                      <a:pt x="596" y="125"/>
                    </a:lnTo>
                    <a:close/>
                  </a:path>
                </a:pathLst>
              </a:custGeom>
              <a:solidFill>
                <a:srgbClr val="759e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5761080" y="3378240"/>
                <a:ext cx="314280" cy="281160"/>
              </a:xfrm>
              <a:custGeom>
                <a:avLst/>
                <a:gdLst/>
                <a:ahLst/>
                <a:rect l="l" t="t" r="r" b="b"/>
                <a:pathLst>
                  <a:path w="986" h="885">
                    <a:moveTo>
                      <a:pt x="574" y="98"/>
                    </a:moveTo>
                    <a:lnTo>
                      <a:pt x="579" y="94"/>
                    </a:lnTo>
                    <a:lnTo>
                      <a:pt x="582" y="93"/>
                    </a:lnTo>
                    <a:lnTo>
                      <a:pt x="586" y="93"/>
                    </a:lnTo>
                    <a:lnTo>
                      <a:pt x="588" y="95"/>
                    </a:lnTo>
                    <a:lnTo>
                      <a:pt x="589" y="100"/>
                    </a:lnTo>
                    <a:lnTo>
                      <a:pt x="589" y="106"/>
                    </a:lnTo>
                    <a:lnTo>
                      <a:pt x="589" y="114"/>
                    </a:lnTo>
                    <a:lnTo>
                      <a:pt x="589" y="124"/>
                    </a:lnTo>
                    <a:lnTo>
                      <a:pt x="586" y="147"/>
                    </a:lnTo>
                    <a:lnTo>
                      <a:pt x="580" y="175"/>
                    </a:lnTo>
                    <a:lnTo>
                      <a:pt x="574" y="206"/>
                    </a:lnTo>
                    <a:lnTo>
                      <a:pt x="566" y="240"/>
                    </a:lnTo>
                    <a:lnTo>
                      <a:pt x="548" y="311"/>
                    </a:lnTo>
                    <a:lnTo>
                      <a:pt x="528" y="379"/>
                    </a:lnTo>
                    <a:lnTo>
                      <a:pt x="512" y="436"/>
                    </a:lnTo>
                    <a:lnTo>
                      <a:pt x="500" y="474"/>
                    </a:lnTo>
                    <a:lnTo>
                      <a:pt x="498" y="479"/>
                    </a:lnTo>
                    <a:lnTo>
                      <a:pt x="498" y="483"/>
                    </a:lnTo>
                    <a:lnTo>
                      <a:pt x="499" y="485"/>
                    </a:lnTo>
                    <a:lnTo>
                      <a:pt x="501" y="485"/>
                    </a:lnTo>
                    <a:lnTo>
                      <a:pt x="509" y="481"/>
                    </a:lnTo>
                    <a:lnTo>
                      <a:pt x="521" y="473"/>
                    </a:lnTo>
                    <a:lnTo>
                      <a:pt x="556" y="441"/>
                    </a:lnTo>
                    <a:lnTo>
                      <a:pt x="609" y="398"/>
                    </a:lnTo>
                    <a:lnTo>
                      <a:pt x="642" y="372"/>
                    </a:lnTo>
                    <a:lnTo>
                      <a:pt x="677" y="346"/>
                    </a:lnTo>
                    <a:lnTo>
                      <a:pt x="716" y="319"/>
                    </a:lnTo>
                    <a:lnTo>
                      <a:pt x="758" y="292"/>
                    </a:lnTo>
                    <a:lnTo>
                      <a:pt x="781" y="279"/>
                    </a:lnTo>
                    <a:lnTo>
                      <a:pt x="805" y="267"/>
                    </a:lnTo>
                    <a:lnTo>
                      <a:pt x="829" y="254"/>
                    </a:lnTo>
                    <a:lnTo>
                      <a:pt x="854" y="242"/>
                    </a:lnTo>
                    <a:lnTo>
                      <a:pt x="878" y="230"/>
                    </a:lnTo>
                    <a:lnTo>
                      <a:pt x="905" y="219"/>
                    </a:lnTo>
                    <a:lnTo>
                      <a:pt x="932" y="209"/>
                    </a:lnTo>
                    <a:lnTo>
                      <a:pt x="959" y="200"/>
                    </a:lnTo>
                    <a:lnTo>
                      <a:pt x="968" y="196"/>
                    </a:lnTo>
                    <a:lnTo>
                      <a:pt x="975" y="195"/>
                    </a:lnTo>
                    <a:lnTo>
                      <a:pt x="980" y="195"/>
                    </a:lnTo>
                    <a:lnTo>
                      <a:pt x="983" y="196"/>
                    </a:lnTo>
                    <a:lnTo>
                      <a:pt x="985" y="198"/>
                    </a:lnTo>
                    <a:lnTo>
                      <a:pt x="986" y="202"/>
                    </a:lnTo>
                    <a:lnTo>
                      <a:pt x="985" y="206"/>
                    </a:lnTo>
                    <a:lnTo>
                      <a:pt x="983" y="211"/>
                    </a:lnTo>
                    <a:lnTo>
                      <a:pt x="975" y="224"/>
                    </a:lnTo>
                    <a:lnTo>
                      <a:pt x="962" y="242"/>
                    </a:lnTo>
                    <a:lnTo>
                      <a:pt x="944" y="262"/>
                    </a:lnTo>
                    <a:lnTo>
                      <a:pt x="923" y="286"/>
                    </a:lnTo>
                    <a:lnTo>
                      <a:pt x="898" y="312"/>
                    </a:lnTo>
                    <a:lnTo>
                      <a:pt x="870" y="340"/>
                    </a:lnTo>
                    <a:lnTo>
                      <a:pt x="838" y="369"/>
                    </a:lnTo>
                    <a:lnTo>
                      <a:pt x="806" y="400"/>
                    </a:lnTo>
                    <a:lnTo>
                      <a:pt x="735" y="466"/>
                    </a:lnTo>
                    <a:lnTo>
                      <a:pt x="660" y="533"/>
                    </a:lnTo>
                    <a:lnTo>
                      <a:pt x="631" y="560"/>
                    </a:lnTo>
                    <a:lnTo>
                      <a:pt x="602" y="587"/>
                    </a:lnTo>
                    <a:lnTo>
                      <a:pt x="573" y="616"/>
                    </a:lnTo>
                    <a:lnTo>
                      <a:pt x="545" y="646"/>
                    </a:lnTo>
                    <a:lnTo>
                      <a:pt x="489" y="704"/>
                    </a:lnTo>
                    <a:lnTo>
                      <a:pt x="441" y="758"/>
                    </a:lnTo>
                    <a:lnTo>
                      <a:pt x="399" y="807"/>
                    </a:lnTo>
                    <a:lnTo>
                      <a:pt x="365" y="844"/>
                    </a:lnTo>
                    <a:lnTo>
                      <a:pt x="345" y="870"/>
                    </a:lnTo>
                    <a:lnTo>
                      <a:pt x="337" y="879"/>
                    </a:lnTo>
                    <a:lnTo>
                      <a:pt x="324" y="880"/>
                    </a:lnTo>
                    <a:lnTo>
                      <a:pt x="291" y="883"/>
                    </a:lnTo>
                    <a:lnTo>
                      <a:pt x="243" y="885"/>
                    </a:lnTo>
                    <a:lnTo>
                      <a:pt x="188" y="885"/>
                    </a:lnTo>
                    <a:lnTo>
                      <a:pt x="159" y="884"/>
                    </a:lnTo>
                    <a:lnTo>
                      <a:pt x="131" y="882"/>
                    </a:lnTo>
                    <a:lnTo>
                      <a:pt x="104" y="879"/>
                    </a:lnTo>
                    <a:lnTo>
                      <a:pt x="79" y="873"/>
                    </a:lnTo>
                    <a:lnTo>
                      <a:pt x="68" y="871"/>
                    </a:lnTo>
                    <a:lnTo>
                      <a:pt x="57" y="867"/>
                    </a:lnTo>
                    <a:lnTo>
                      <a:pt x="48" y="863"/>
                    </a:lnTo>
                    <a:lnTo>
                      <a:pt x="38" y="858"/>
                    </a:lnTo>
                    <a:lnTo>
                      <a:pt x="30" y="854"/>
                    </a:lnTo>
                    <a:lnTo>
                      <a:pt x="24" y="848"/>
                    </a:lnTo>
                    <a:lnTo>
                      <a:pt x="20" y="841"/>
                    </a:lnTo>
                    <a:lnTo>
                      <a:pt x="15" y="835"/>
                    </a:lnTo>
                    <a:lnTo>
                      <a:pt x="10" y="821"/>
                    </a:lnTo>
                    <a:lnTo>
                      <a:pt x="5" y="807"/>
                    </a:lnTo>
                    <a:lnTo>
                      <a:pt x="2" y="791"/>
                    </a:lnTo>
                    <a:lnTo>
                      <a:pt x="0" y="776"/>
                    </a:lnTo>
                    <a:lnTo>
                      <a:pt x="0" y="760"/>
                    </a:lnTo>
                    <a:lnTo>
                      <a:pt x="2" y="742"/>
                    </a:lnTo>
                    <a:lnTo>
                      <a:pt x="5" y="722"/>
                    </a:lnTo>
                    <a:lnTo>
                      <a:pt x="10" y="699"/>
                    </a:lnTo>
                    <a:lnTo>
                      <a:pt x="16" y="673"/>
                    </a:lnTo>
                    <a:lnTo>
                      <a:pt x="25" y="642"/>
                    </a:lnTo>
                    <a:lnTo>
                      <a:pt x="35" y="608"/>
                    </a:lnTo>
                    <a:lnTo>
                      <a:pt x="47" y="569"/>
                    </a:lnTo>
                    <a:lnTo>
                      <a:pt x="77" y="475"/>
                    </a:lnTo>
                    <a:lnTo>
                      <a:pt x="115" y="355"/>
                    </a:lnTo>
                    <a:lnTo>
                      <a:pt x="125" y="323"/>
                    </a:lnTo>
                    <a:lnTo>
                      <a:pt x="135" y="298"/>
                    </a:lnTo>
                    <a:lnTo>
                      <a:pt x="145" y="277"/>
                    </a:lnTo>
                    <a:lnTo>
                      <a:pt x="155" y="259"/>
                    </a:lnTo>
                    <a:lnTo>
                      <a:pt x="166" y="242"/>
                    </a:lnTo>
                    <a:lnTo>
                      <a:pt x="179" y="222"/>
                    </a:lnTo>
                    <a:lnTo>
                      <a:pt x="196" y="198"/>
                    </a:lnTo>
                    <a:lnTo>
                      <a:pt x="216" y="167"/>
                    </a:lnTo>
                    <a:lnTo>
                      <a:pt x="224" y="156"/>
                    </a:lnTo>
                    <a:lnTo>
                      <a:pt x="245" y="127"/>
                    </a:lnTo>
                    <a:lnTo>
                      <a:pt x="276" y="89"/>
                    </a:lnTo>
                    <a:lnTo>
                      <a:pt x="309" y="51"/>
                    </a:lnTo>
                    <a:lnTo>
                      <a:pt x="326" y="33"/>
                    </a:lnTo>
                    <a:lnTo>
                      <a:pt x="343" y="18"/>
                    </a:lnTo>
                    <a:lnTo>
                      <a:pt x="349" y="12"/>
                    </a:lnTo>
                    <a:lnTo>
                      <a:pt x="357" y="7"/>
                    </a:lnTo>
                    <a:lnTo>
                      <a:pt x="363" y="3"/>
                    </a:lnTo>
                    <a:lnTo>
                      <a:pt x="368" y="1"/>
                    </a:lnTo>
                    <a:lnTo>
                      <a:pt x="374" y="0"/>
                    </a:lnTo>
                    <a:lnTo>
                      <a:pt x="379" y="0"/>
                    </a:lnTo>
                    <a:lnTo>
                      <a:pt x="383" y="2"/>
                    </a:lnTo>
                    <a:lnTo>
                      <a:pt x="386" y="5"/>
                    </a:lnTo>
                    <a:lnTo>
                      <a:pt x="387" y="12"/>
                    </a:lnTo>
                    <a:lnTo>
                      <a:pt x="388" y="19"/>
                    </a:lnTo>
                    <a:lnTo>
                      <a:pt x="388" y="29"/>
                    </a:lnTo>
                    <a:lnTo>
                      <a:pt x="386" y="41"/>
                    </a:lnTo>
                    <a:lnTo>
                      <a:pt x="385" y="55"/>
                    </a:lnTo>
                    <a:lnTo>
                      <a:pt x="384" y="67"/>
                    </a:lnTo>
                    <a:lnTo>
                      <a:pt x="385" y="78"/>
                    </a:lnTo>
                    <a:lnTo>
                      <a:pt x="386" y="88"/>
                    </a:lnTo>
                    <a:lnTo>
                      <a:pt x="388" y="97"/>
                    </a:lnTo>
                    <a:lnTo>
                      <a:pt x="390" y="106"/>
                    </a:lnTo>
                    <a:lnTo>
                      <a:pt x="394" y="113"/>
                    </a:lnTo>
                    <a:lnTo>
                      <a:pt x="399" y="120"/>
                    </a:lnTo>
                    <a:lnTo>
                      <a:pt x="403" y="125"/>
                    </a:lnTo>
                    <a:lnTo>
                      <a:pt x="408" y="130"/>
                    </a:lnTo>
                    <a:lnTo>
                      <a:pt x="415" y="134"/>
                    </a:lnTo>
                    <a:lnTo>
                      <a:pt x="421" y="138"/>
                    </a:lnTo>
                    <a:lnTo>
                      <a:pt x="428" y="140"/>
                    </a:lnTo>
                    <a:lnTo>
                      <a:pt x="435" y="142"/>
                    </a:lnTo>
                    <a:lnTo>
                      <a:pt x="443" y="144"/>
                    </a:lnTo>
                    <a:lnTo>
                      <a:pt x="451" y="144"/>
                    </a:lnTo>
                    <a:lnTo>
                      <a:pt x="467" y="144"/>
                    </a:lnTo>
                    <a:lnTo>
                      <a:pt x="484" y="142"/>
                    </a:lnTo>
                    <a:lnTo>
                      <a:pt x="501" y="138"/>
                    </a:lnTo>
                    <a:lnTo>
                      <a:pt x="518" y="133"/>
                    </a:lnTo>
                    <a:lnTo>
                      <a:pt x="534" y="125"/>
                    </a:lnTo>
                    <a:lnTo>
                      <a:pt x="549" y="117"/>
                    </a:lnTo>
                    <a:lnTo>
                      <a:pt x="563" y="108"/>
                    </a:lnTo>
                    <a:lnTo>
                      <a:pt x="574" y="98"/>
                    </a:lnTo>
                    <a:close/>
                  </a:path>
                </a:pathLst>
              </a:custGeom>
              <a:solidFill>
                <a:srgbClr val="7199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5761080" y="3395880"/>
                <a:ext cx="298440" cy="263520"/>
              </a:xfrm>
              <a:custGeom>
                <a:avLst/>
                <a:gdLst/>
                <a:ahLst/>
                <a:rect l="l" t="t" r="r" b="b"/>
                <a:pathLst>
                  <a:path w="936" h="830">
                    <a:moveTo>
                      <a:pt x="549" y="70"/>
                    </a:moveTo>
                    <a:lnTo>
                      <a:pt x="554" y="66"/>
                    </a:lnTo>
                    <a:lnTo>
                      <a:pt x="558" y="65"/>
                    </a:lnTo>
                    <a:lnTo>
                      <a:pt x="561" y="65"/>
                    </a:lnTo>
                    <a:lnTo>
                      <a:pt x="563" y="68"/>
                    </a:lnTo>
                    <a:lnTo>
                      <a:pt x="564" y="72"/>
                    </a:lnTo>
                    <a:lnTo>
                      <a:pt x="565" y="79"/>
                    </a:lnTo>
                    <a:lnTo>
                      <a:pt x="565" y="86"/>
                    </a:lnTo>
                    <a:lnTo>
                      <a:pt x="565" y="96"/>
                    </a:lnTo>
                    <a:lnTo>
                      <a:pt x="562" y="120"/>
                    </a:lnTo>
                    <a:lnTo>
                      <a:pt x="558" y="148"/>
                    </a:lnTo>
                    <a:lnTo>
                      <a:pt x="551" y="180"/>
                    </a:lnTo>
                    <a:lnTo>
                      <a:pt x="543" y="215"/>
                    </a:lnTo>
                    <a:lnTo>
                      <a:pt x="526" y="286"/>
                    </a:lnTo>
                    <a:lnTo>
                      <a:pt x="508" y="355"/>
                    </a:lnTo>
                    <a:lnTo>
                      <a:pt x="492" y="413"/>
                    </a:lnTo>
                    <a:lnTo>
                      <a:pt x="480" y="451"/>
                    </a:lnTo>
                    <a:lnTo>
                      <a:pt x="479" y="457"/>
                    </a:lnTo>
                    <a:lnTo>
                      <a:pt x="479" y="460"/>
                    </a:lnTo>
                    <a:lnTo>
                      <a:pt x="480" y="462"/>
                    </a:lnTo>
                    <a:lnTo>
                      <a:pt x="482" y="463"/>
                    </a:lnTo>
                    <a:lnTo>
                      <a:pt x="485" y="462"/>
                    </a:lnTo>
                    <a:lnTo>
                      <a:pt x="489" y="460"/>
                    </a:lnTo>
                    <a:lnTo>
                      <a:pt x="495" y="457"/>
                    </a:lnTo>
                    <a:lnTo>
                      <a:pt x="501" y="452"/>
                    </a:lnTo>
                    <a:lnTo>
                      <a:pt x="537" y="424"/>
                    </a:lnTo>
                    <a:lnTo>
                      <a:pt x="588" y="383"/>
                    </a:lnTo>
                    <a:lnTo>
                      <a:pt x="618" y="361"/>
                    </a:lnTo>
                    <a:lnTo>
                      <a:pt x="651" y="336"/>
                    </a:lnTo>
                    <a:lnTo>
                      <a:pt x="688" y="311"/>
                    </a:lnTo>
                    <a:lnTo>
                      <a:pt x="727" y="286"/>
                    </a:lnTo>
                    <a:lnTo>
                      <a:pt x="748" y="274"/>
                    </a:lnTo>
                    <a:lnTo>
                      <a:pt x="769" y="262"/>
                    </a:lnTo>
                    <a:lnTo>
                      <a:pt x="791" y="250"/>
                    </a:lnTo>
                    <a:lnTo>
                      <a:pt x="812" y="240"/>
                    </a:lnTo>
                    <a:lnTo>
                      <a:pt x="835" y="229"/>
                    </a:lnTo>
                    <a:lnTo>
                      <a:pt x="858" y="219"/>
                    </a:lnTo>
                    <a:lnTo>
                      <a:pt x="882" y="209"/>
                    </a:lnTo>
                    <a:lnTo>
                      <a:pt x="905" y="202"/>
                    </a:lnTo>
                    <a:lnTo>
                      <a:pt x="914" y="197"/>
                    </a:lnTo>
                    <a:lnTo>
                      <a:pt x="920" y="195"/>
                    </a:lnTo>
                    <a:lnTo>
                      <a:pt x="926" y="194"/>
                    </a:lnTo>
                    <a:lnTo>
                      <a:pt x="930" y="194"/>
                    </a:lnTo>
                    <a:lnTo>
                      <a:pt x="933" y="194"/>
                    </a:lnTo>
                    <a:lnTo>
                      <a:pt x="935" y="196"/>
                    </a:lnTo>
                    <a:lnTo>
                      <a:pt x="936" y="199"/>
                    </a:lnTo>
                    <a:lnTo>
                      <a:pt x="935" y="202"/>
                    </a:lnTo>
                    <a:lnTo>
                      <a:pt x="930" y="212"/>
                    </a:lnTo>
                    <a:lnTo>
                      <a:pt x="922" y="223"/>
                    </a:lnTo>
                    <a:lnTo>
                      <a:pt x="910" y="239"/>
                    </a:lnTo>
                    <a:lnTo>
                      <a:pt x="893" y="257"/>
                    </a:lnTo>
                    <a:lnTo>
                      <a:pt x="874" y="278"/>
                    </a:lnTo>
                    <a:lnTo>
                      <a:pt x="851" y="301"/>
                    </a:lnTo>
                    <a:lnTo>
                      <a:pt x="825" y="327"/>
                    </a:lnTo>
                    <a:lnTo>
                      <a:pt x="796" y="354"/>
                    </a:lnTo>
                    <a:lnTo>
                      <a:pt x="733" y="413"/>
                    </a:lnTo>
                    <a:lnTo>
                      <a:pt x="660" y="478"/>
                    </a:lnTo>
                    <a:lnTo>
                      <a:pt x="631" y="505"/>
                    </a:lnTo>
                    <a:lnTo>
                      <a:pt x="602" y="532"/>
                    </a:lnTo>
                    <a:lnTo>
                      <a:pt x="573" y="561"/>
                    </a:lnTo>
                    <a:lnTo>
                      <a:pt x="545" y="591"/>
                    </a:lnTo>
                    <a:lnTo>
                      <a:pt x="489" y="649"/>
                    </a:lnTo>
                    <a:lnTo>
                      <a:pt x="441" y="703"/>
                    </a:lnTo>
                    <a:lnTo>
                      <a:pt x="399" y="752"/>
                    </a:lnTo>
                    <a:lnTo>
                      <a:pt x="365" y="789"/>
                    </a:lnTo>
                    <a:lnTo>
                      <a:pt x="345" y="815"/>
                    </a:lnTo>
                    <a:lnTo>
                      <a:pt x="337" y="824"/>
                    </a:lnTo>
                    <a:lnTo>
                      <a:pt x="324" y="825"/>
                    </a:lnTo>
                    <a:lnTo>
                      <a:pt x="291" y="828"/>
                    </a:lnTo>
                    <a:lnTo>
                      <a:pt x="243" y="830"/>
                    </a:lnTo>
                    <a:lnTo>
                      <a:pt x="188" y="830"/>
                    </a:lnTo>
                    <a:lnTo>
                      <a:pt x="159" y="829"/>
                    </a:lnTo>
                    <a:lnTo>
                      <a:pt x="131" y="827"/>
                    </a:lnTo>
                    <a:lnTo>
                      <a:pt x="104" y="824"/>
                    </a:lnTo>
                    <a:lnTo>
                      <a:pt x="79" y="818"/>
                    </a:lnTo>
                    <a:lnTo>
                      <a:pt x="68" y="816"/>
                    </a:lnTo>
                    <a:lnTo>
                      <a:pt x="57" y="812"/>
                    </a:lnTo>
                    <a:lnTo>
                      <a:pt x="48" y="808"/>
                    </a:lnTo>
                    <a:lnTo>
                      <a:pt x="38" y="803"/>
                    </a:lnTo>
                    <a:lnTo>
                      <a:pt x="30" y="799"/>
                    </a:lnTo>
                    <a:lnTo>
                      <a:pt x="24" y="793"/>
                    </a:lnTo>
                    <a:lnTo>
                      <a:pt x="20" y="786"/>
                    </a:lnTo>
                    <a:lnTo>
                      <a:pt x="15" y="780"/>
                    </a:lnTo>
                    <a:lnTo>
                      <a:pt x="10" y="766"/>
                    </a:lnTo>
                    <a:lnTo>
                      <a:pt x="5" y="752"/>
                    </a:lnTo>
                    <a:lnTo>
                      <a:pt x="2" y="736"/>
                    </a:lnTo>
                    <a:lnTo>
                      <a:pt x="0" y="721"/>
                    </a:lnTo>
                    <a:lnTo>
                      <a:pt x="0" y="705"/>
                    </a:lnTo>
                    <a:lnTo>
                      <a:pt x="2" y="687"/>
                    </a:lnTo>
                    <a:lnTo>
                      <a:pt x="5" y="667"/>
                    </a:lnTo>
                    <a:lnTo>
                      <a:pt x="10" y="644"/>
                    </a:lnTo>
                    <a:lnTo>
                      <a:pt x="16" y="618"/>
                    </a:lnTo>
                    <a:lnTo>
                      <a:pt x="25" y="587"/>
                    </a:lnTo>
                    <a:lnTo>
                      <a:pt x="35" y="553"/>
                    </a:lnTo>
                    <a:lnTo>
                      <a:pt x="47" y="514"/>
                    </a:lnTo>
                    <a:lnTo>
                      <a:pt x="77" y="420"/>
                    </a:lnTo>
                    <a:lnTo>
                      <a:pt x="115" y="300"/>
                    </a:lnTo>
                    <a:lnTo>
                      <a:pt x="124" y="270"/>
                    </a:lnTo>
                    <a:lnTo>
                      <a:pt x="133" y="250"/>
                    </a:lnTo>
                    <a:lnTo>
                      <a:pt x="139" y="239"/>
                    </a:lnTo>
                    <a:lnTo>
                      <a:pt x="146" y="230"/>
                    </a:lnTo>
                    <a:lnTo>
                      <a:pt x="153" y="222"/>
                    </a:lnTo>
                    <a:lnTo>
                      <a:pt x="163" y="212"/>
                    </a:lnTo>
                    <a:lnTo>
                      <a:pt x="177" y="193"/>
                    </a:lnTo>
                    <a:lnTo>
                      <a:pt x="196" y="164"/>
                    </a:lnTo>
                    <a:lnTo>
                      <a:pt x="203" y="153"/>
                    </a:lnTo>
                    <a:lnTo>
                      <a:pt x="224" y="125"/>
                    </a:lnTo>
                    <a:lnTo>
                      <a:pt x="253" y="87"/>
                    </a:lnTo>
                    <a:lnTo>
                      <a:pt x="284" y="48"/>
                    </a:lnTo>
                    <a:lnTo>
                      <a:pt x="300" y="32"/>
                    </a:lnTo>
                    <a:lnTo>
                      <a:pt x="316" y="17"/>
                    </a:lnTo>
                    <a:lnTo>
                      <a:pt x="322" y="12"/>
                    </a:lnTo>
                    <a:lnTo>
                      <a:pt x="330" y="6"/>
                    </a:lnTo>
                    <a:lnTo>
                      <a:pt x="335" y="3"/>
                    </a:lnTo>
                    <a:lnTo>
                      <a:pt x="340" y="1"/>
                    </a:lnTo>
                    <a:lnTo>
                      <a:pt x="346" y="0"/>
                    </a:lnTo>
                    <a:lnTo>
                      <a:pt x="350" y="0"/>
                    </a:lnTo>
                    <a:lnTo>
                      <a:pt x="353" y="2"/>
                    </a:lnTo>
                    <a:lnTo>
                      <a:pt x="357" y="6"/>
                    </a:lnTo>
                    <a:lnTo>
                      <a:pt x="358" y="13"/>
                    </a:lnTo>
                    <a:lnTo>
                      <a:pt x="359" y="20"/>
                    </a:lnTo>
                    <a:lnTo>
                      <a:pt x="358" y="30"/>
                    </a:lnTo>
                    <a:lnTo>
                      <a:pt x="357" y="43"/>
                    </a:lnTo>
                    <a:lnTo>
                      <a:pt x="356" y="56"/>
                    </a:lnTo>
                    <a:lnTo>
                      <a:pt x="354" y="68"/>
                    </a:lnTo>
                    <a:lnTo>
                      <a:pt x="354" y="79"/>
                    </a:lnTo>
                    <a:lnTo>
                      <a:pt x="357" y="87"/>
                    </a:lnTo>
                    <a:lnTo>
                      <a:pt x="359" y="96"/>
                    </a:lnTo>
                    <a:lnTo>
                      <a:pt x="361" y="104"/>
                    </a:lnTo>
                    <a:lnTo>
                      <a:pt x="365" y="110"/>
                    </a:lnTo>
                    <a:lnTo>
                      <a:pt x="370" y="115"/>
                    </a:lnTo>
                    <a:lnTo>
                      <a:pt x="374" y="120"/>
                    </a:lnTo>
                    <a:lnTo>
                      <a:pt x="380" y="124"/>
                    </a:lnTo>
                    <a:lnTo>
                      <a:pt x="386" y="127"/>
                    </a:lnTo>
                    <a:lnTo>
                      <a:pt x="393" y="129"/>
                    </a:lnTo>
                    <a:lnTo>
                      <a:pt x="400" y="131"/>
                    </a:lnTo>
                    <a:lnTo>
                      <a:pt x="407" y="132"/>
                    </a:lnTo>
                    <a:lnTo>
                      <a:pt x="415" y="132"/>
                    </a:lnTo>
                    <a:lnTo>
                      <a:pt x="424" y="131"/>
                    </a:lnTo>
                    <a:lnTo>
                      <a:pt x="440" y="128"/>
                    </a:lnTo>
                    <a:lnTo>
                      <a:pt x="457" y="123"/>
                    </a:lnTo>
                    <a:lnTo>
                      <a:pt x="475" y="116"/>
                    </a:lnTo>
                    <a:lnTo>
                      <a:pt x="492" y="109"/>
                    </a:lnTo>
                    <a:lnTo>
                      <a:pt x="509" y="100"/>
                    </a:lnTo>
                    <a:lnTo>
                      <a:pt x="524" y="91"/>
                    </a:lnTo>
                    <a:lnTo>
                      <a:pt x="538" y="81"/>
                    </a:lnTo>
                    <a:lnTo>
                      <a:pt x="549" y="70"/>
                    </a:lnTo>
                    <a:close/>
                  </a:path>
                </a:pathLst>
              </a:custGeom>
              <a:solidFill>
                <a:srgbClr val="6f9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5761080" y="3413160"/>
                <a:ext cx="282600" cy="246240"/>
              </a:xfrm>
              <a:custGeom>
                <a:avLst/>
                <a:gdLst/>
                <a:ahLst/>
                <a:rect l="l" t="t" r="r" b="b"/>
                <a:pathLst>
                  <a:path w="887" h="776">
                    <a:moveTo>
                      <a:pt x="525" y="43"/>
                    </a:moveTo>
                    <a:lnTo>
                      <a:pt x="529" y="40"/>
                    </a:lnTo>
                    <a:lnTo>
                      <a:pt x="534" y="38"/>
                    </a:lnTo>
                    <a:lnTo>
                      <a:pt x="537" y="39"/>
                    </a:lnTo>
                    <a:lnTo>
                      <a:pt x="539" y="41"/>
                    </a:lnTo>
                    <a:lnTo>
                      <a:pt x="541" y="45"/>
                    </a:lnTo>
                    <a:lnTo>
                      <a:pt x="541" y="53"/>
                    </a:lnTo>
                    <a:lnTo>
                      <a:pt x="542" y="60"/>
                    </a:lnTo>
                    <a:lnTo>
                      <a:pt x="541" y="70"/>
                    </a:lnTo>
                    <a:lnTo>
                      <a:pt x="539" y="94"/>
                    </a:lnTo>
                    <a:lnTo>
                      <a:pt x="535" y="123"/>
                    </a:lnTo>
                    <a:lnTo>
                      <a:pt x="529" y="155"/>
                    </a:lnTo>
                    <a:lnTo>
                      <a:pt x="522" y="190"/>
                    </a:lnTo>
                    <a:lnTo>
                      <a:pt x="506" y="262"/>
                    </a:lnTo>
                    <a:lnTo>
                      <a:pt x="487" y="332"/>
                    </a:lnTo>
                    <a:lnTo>
                      <a:pt x="472" y="391"/>
                    </a:lnTo>
                    <a:lnTo>
                      <a:pt x="460" y="429"/>
                    </a:lnTo>
                    <a:lnTo>
                      <a:pt x="459" y="434"/>
                    </a:lnTo>
                    <a:lnTo>
                      <a:pt x="459" y="438"/>
                    </a:lnTo>
                    <a:lnTo>
                      <a:pt x="459" y="440"/>
                    </a:lnTo>
                    <a:lnTo>
                      <a:pt x="461" y="442"/>
                    </a:lnTo>
                    <a:lnTo>
                      <a:pt x="465" y="442"/>
                    </a:lnTo>
                    <a:lnTo>
                      <a:pt x="470" y="439"/>
                    </a:lnTo>
                    <a:lnTo>
                      <a:pt x="475" y="437"/>
                    </a:lnTo>
                    <a:lnTo>
                      <a:pt x="482" y="433"/>
                    </a:lnTo>
                    <a:lnTo>
                      <a:pt x="516" y="407"/>
                    </a:lnTo>
                    <a:lnTo>
                      <a:pt x="565" y="370"/>
                    </a:lnTo>
                    <a:lnTo>
                      <a:pt x="594" y="349"/>
                    </a:lnTo>
                    <a:lnTo>
                      <a:pt x="626" y="326"/>
                    </a:lnTo>
                    <a:lnTo>
                      <a:pt x="659" y="303"/>
                    </a:lnTo>
                    <a:lnTo>
                      <a:pt x="694" y="280"/>
                    </a:lnTo>
                    <a:lnTo>
                      <a:pt x="731" y="258"/>
                    </a:lnTo>
                    <a:lnTo>
                      <a:pt x="769" y="237"/>
                    </a:lnTo>
                    <a:lnTo>
                      <a:pt x="789" y="227"/>
                    </a:lnTo>
                    <a:lnTo>
                      <a:pt x="808" y="218"/>
                    </a:lnTo>
                    <a:lnTo>
                      <a:pt x="829" y="209"/>
                    </a:lnTo>
                    <a:lnTo>
                      <a:pt x="848" y="202"/>
                    </a:lnTo>
                    <a:lnTo>
                      <a:pt x="864" y="195"/>
                    </a:lnTo>
                    <a:lnTo>
                      <a:pt x="876" y="191"/>
                    </a:lnTo>
                    <a:lnTo>
                      <a:pt x="879" y="190"/>
                    </a:lnTo>
                    <a:lnTo>
                      <a:pt x="884" y="190"/>
                    </a:lnTo>
                    <a:lnTo>
                      <a:pt x="886" y="191"/>
                    </a:lnTo>
                    <a:lnTo>
                      <a:pt x="887" y="193"/>
                    </a:lnTo>
                    <a:lnTo>
                      <a:pt x="887" y="195"/>
                    </a:lnTo>
                    <a:lnTo>
                      <a:pt x="887" y="197"/>
                    </a:lnTo>
                    <a:lnTo>
                      <a:pt x="886" y="202"/>
                    </a:lnTo>
                    <a:lnTo>
                      <a:pt x="883" y="206"/>
                    </a:lnTo>
                    <a:lnTo>
                      <a:pt x="876" y="216"/>
                    </a:lnTo>
                    <a:lnTo>
                      <a:pt x="865" y="230"/>
                    </a:lnTo>
                    <a:lnTo>
                      <a:pt x="850" y="245"/>
                    </a:lnTo>
                    <a:lnTo>
                      <a:pt x="833" y="263"/>
                    </a:lnTo>
                    <a:lnTo>
                      <a:pt x="811" y="285"/>
                    </a:lnTo>
                    <a:lnTo>
                      <a:pt x="788" y="308"/>
                    </a:lnTo>
                    <a:lnTo>
                      <a:pt x="730" y="362"/>
                    </a:lnTo>
                    <a:lnTo>
                      <a:pt x="660" y="424"/>
                    </a:lnTo>
                    <a:lnTo>
                      <a:pt x="631" y="451"/>
                    </a:lnTo>
                    <a:lnTo>
                      <a:pt x="602" y="478"/>
                    </a:lnTo>
                    <a:lnTo>
                      <a:pt x="573" y="507"/>
                    </a:lnTo>
                    <a:lnTo>
                      <a:pt x="545" y="537"/>
                    </a:lnTo>
                    <a:lnTo>
                      <a:pt x="489" y="595"/>
                    </a:lnTo>
                    <a:lnTo>
                      <a:pt x="441" y="649"/>
                    </a:lnTo>
                    <a:lnTo>
                      <a:pt x="399" y="698"/>
                    </a:lnTo>
                    <a:lnTo>
                      <a:pt x="365" y="735"/>
                    </a:lnTo>
                    <a:lnTo>
                      <a:pt x="345" y="761"/>
                    </a:lnTo>
                    <a:lnTo>
                      <a:pt x="337" y="770"/>
                    </a:lnTo>
                    <a:lnTo>
                      <a:pt x="324" y="771"/>
                    </a:lnTo>
                    <a:lnTo>
                      <a:pt x="291" y="774"/>
                    </a:lnTo>
                    <a:lnTo>
                      <a:pt x="243" y="776"/>
                    </a:lnTo>
                    <a:lnTo>
                      <a:pt x="188" y="776"/>
                    </a:lnTo>
                    <a:lnTo>
                      <a:pt x="159" y="775"/>
                    </a:lnTo>
                    <a:lnTo>
                      <a:pt x="131" y="773"/>
                    </a:lnTo>
                    <a:lnTo>
                      <a:pt x="104" y="770"/>
                    </a:lnTo>
                    <a:lnTo>
                      <a:pt x="79" y="764"/>
                    </a:lnTo>
                    <a:lnTo>
                      <a:pt x="68" y="762"/>
                    </a:lnTo>
                    <a:lnTo>
                      <a:pt x="57" y="758"/>
                    </a:lnTo>
                    <a:lnTo>
                      <a:pt x="48" y="754"/>
                    </a:lnTo>
                    <a:lnTo>
                      <a:pt x="38" y="749"/>
                    </a:lnTo>
                    <a:lnTo>
                      <a:pt x="30" y="745"/>
                    </a:lnTo>
                    <a:lnTo>
                      <a:pt x="24" y="739"/>
                    </a:lnTo>
                    <a:lnTo>
                      <a:pt x="20" y="732"/>
                    </a:lnTo>
                    <a:lnTo>
                      <a:pt x="15" y="726"/>
                    </a:lnTo>
                    <a:lnTo>
                      <a:pt x="10" y="712"/>
                    </a:lnTo>
                    <a:lnTo>
                      <a:pt x="5" y="698"/>
                    </a:lnTo>
                    <a:lnTo>
                      <a:pt x="2" y="682"/>
                    </a:lnTo>
                    <a:lnTo>
                      <a:pt x="0" y="667"/>
                    </a:lnTo>
                    <a:lnTo>
                      <a:pt x="0" y="651"/>
                    </a:lnTo>
                    <a:lnTo>
                      <a:pt x="2" y="633"/>
                    </a:lnTo>
                    <a:lnTo>
                      <a:pt x="5" y="613"/>
                    </a:lnTo>
                    <a:lnTo>
                      <a:pt x="10" y="590"/>
                    </a:lnTo>
                    <a:lnTo>
                      <a:pt x="16" y="564"/>
                    </a:lnTo>
                    <a:lnTo>
                      <a:pt x="25" y="533"/>
                    </a:lnTo>
                    <a:lnTo>
                      <a:pt x="35" y="499"/>
                    </a:lnTo>
                    <a:lnTo>
                      <a:pt x="47" y="460"/>
                    </a:lnTo>
                    <a:lnTo>
                      <a:pt x="77" y="366"/>
                    </a:lnTo>
                    <a:lnTo>
                      <a:pt x="115" y="246"/>
                    </a:lnTo>
                    <a:lnTo>
                      <a:pt x="124" y="218"/>
                    </a:lnTo>
                    <a:lnTo>
                      <a:pt x="130" y="205"/>
                    </a:lnTo>
                    <a:lnTo>
                      <a:pt x="132" y="202"/>
                    </a:lnTo>
                    <a:lnTo>
                      <a:pt x="133" y="201"/>
                    </a:lnTo>
                    <a:lnTo>
                      <a:pt x="134" y="202"/>
                    </a:lnTo>
                    <a:lnTo>
                      <a:pt x="136" y="203"/>
                    </a:lnTo>
                    <a:lnTo>
                      <a:pt x="138" y="204"/>
                    </a:lnTo>
                    <a:lnTo>
                      <a:pt x="141" y="205"/>
                    </a:lnTo>
                    <a:lnTo>
                      <a:pt x="144" y="204"/>
                    </a:lnTo>
                    <a:lnTo>
                      <a:pt x="148" y="202"/>
                    </a:lnTo>
                    <a:lnTo>
                      <a:pt x="153" y="197"/>
                    </a:lnTo>
                    <a:lnTo>
                      <a:pt x="160" y="190"/>
                    </a:lnTo>
                    <a:lnTo>
                      <a:pt x="169" y="179"/>
                    </a:lnTo>
                    <a:lnTo>
                      <a:pt x="178" y="165"/>
                    </a:lnTo>
                    <a:lnTo>
                      <a:pt x="186" y="153"/>
                    </a:lnTo>
                    <a:lnTo>
                      <a:pt x="204" y="125"/>
                    </a:lnTo>
                    <a:lnTo>
                      <a:pt x="230" y="87"/>
                    </a:lnTo>
                    <a:lnTo>
                      <a:pt x="259" y="50"/>
                    </a:lnTo>
                    <a:lnTo>
                      <a:pt x="274" y="32"/>
                    </a:lnTo>
                    <a:lnTo>
                      <a:pt x="289" y="18"/>
                    </a:lnTo>
                    <a:lnTo>
                      <a:pt x="294" y="12"/>
                    </a:lnTo>
                    <a:lnTo>
                      <a:pt x="300" y="7"/>
                    </a:lnTo>
                    <a:lnTo>
                      <a:pt x="306" y="3"/>
                    </a:lnTo>
                    <a:lnTo>
                      <a:pt x="311" y="1"/>
                    </a:lnTo>
                    <a:lnTo>
                      <a:pt x="316" y="0"/>
                    </a:lnTo>
                    <a:lnTo>
                      <a:pt x="319" y="1"/>
                    </a:lnTo>
                    <a:lnTo>
                      <a:pt x="322" y="3"/>
                    </a:lnTo>
                    <a:lnTo>
                      <a:pt x="324" y="6"/>
                    </a:lnTo>
                    <a:lnTo>
                      <a:pt x="326" y="13"/>
                    </a:lnTo>
                    <a:lnTo>
                      <a:pt x="326" y="20"/>
                    </a:lnTo>
                    <a:lnTo>
                      <a:pt x="326" y="31"/>
                    </a:lnTo>
                    <a:lnTo>
                      <a:pt x="324" y="43"/>
                    </a:lnTo>
                    <a:lnTo>
                      <a:pt x="323" y="56"/>
                    </a:lnTo>
                    <a:lnTo>
                      <a:pt x="322" y="68"/>
                    </a:lnTo>
                    <a:lnTo>
                      <a:pt x="323" y="78"/>
                    </a:lnTo>
                    <a:lnTo>
                      <a:pt x="324" y="87"/>
                    </a:lnTo>
                    <a:lnTo>
                      <a:pt x="326" y="95"/>
                    </a:lnTo>
                    <a:lnTo>
                      <a:pt x="330" y="101"/>
                    </a:lnTo>
                    <a:lnTo>
                      <a:pt x="334" y="107"/>
                    </a:lnTo>
                    <a:lnTo>
                      <a:pt x="338" y="111"/>
                    </a:lnTo>
                    <a:lnTo>
                      <a:pt x="344" y="115"/>
                    </a:lnTo>
                    <a:lnTo>
                      <a:pt x="350" y="118"/>
                    </a:lnTo>
                    <a:lnTo>
                      <a:pt x="357" y="120"/>
                    </a:lnTo>
                    <a:lnTo>
                      <a:pt x="364" y="121"/>
                    </a:lnTo>
                    <a:lnTo>
                      <a:pt x="371" y="121"/>
                    </a:lnTo>
                    <a:lnTo>
                      <a:pt x="379" y="121"/>
                    </a:lnTo>
                    <a:lnTo>
                      <a:pt x="387" y="120"/>
                    </a:lnTo>
                    <a:lnTo>
                      <a:pt x="395" y="118"/>
                    </a:lnTo>
                    <a:lnTo>
                      <a:pt x="414" y="112"/>
                    </a:lnTo>
                    <a:lnTo>
                      <a:pt x="431" y="106"/>
                    </a:lnTo>
                    <a:lnTo>
                      <a:pt x="449" y="96"/>
                    </a:lnTo>
                    <a:lnTo>
                      <a:pt x="467" y="86"/>
                    </a:lnTo>
                    <a:lnTo>
                      <a:pt x="484" y="75"/>
                    </a:lnTo>
                    <a:lnTo>
                      <a:pt x="499" y="65"/>
                    </a:lnTo>
                    <a:lnTo>
                      <a:pt x="513" y="54"/>
                    </a:lnTo>
                    <a:lnTo>
                      <a:pt x="525" y="43"/>
                    </a:lnTo>
                    <a:close/>
                  </a:path>
                </a:pathLst>
              </a:custGeom>
              <a:solidFill>
                <a:srgbClr val="6c93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5761080" y="3430800"/>
                <a:ext cx="268200" cy="228600"/>
              </a:xfrm>
              <a:custGeom>
                <a:avLst/>
                <a:gdLst/>
                <a:ahLst/>
                <a:rect l="l" t="t" r="r" b="b"/>
                <a:pathLst>
                  <a:path w="845" h="721">
                    <a:moveTo>
                      <a:pt x="502" y="16"/>
                    </a:moveTo>
                    <a:lnTo>
                      <a:pt x="507" y="12"/>
                    </a:lnTo>
                    <a:lnTo>
                      <a:pt x="511" y="10"/>
                    </a:lnTo>
                    <a:lnTo>
                      <a:pt x="514" y="11"/>
                    </a:lnTo>
                    <a:lnTo>
                      <a:pt x="516" y="13"/>
                    </a:lnTo>
                    <a:lnTo>
                      <a:pt x="518" y="18"/>
                    </a:lnTo>
                    <a:lnTo>
                      <a:pt x="519" y="25"/>
                    </a:lnTo>
                    <a:lnTo>
                      <a:pt x="520" y="33"/>
                    </a:lnTo>
                    <a:lnTo>
                      <a:pt x="520" y="43"/>
                    </a:lnTo>
                    <a:lnTo>
                      <a:pt x="518" y="68"/>
                    </a:lnTo>
                    <a:lnTo>
                      <a:pt x="513" y="97"/>
                    </a:lnTo>
                    <a:lnTo>
                      <a:pt x="508" y="130"/>
                    </a:lnTo>
                    <a:lnTo>
                      <a:pt x="501" y="164"/>
                    </a:lnTo>
                    <a:lnTo>
                      <a:pt x="486" y="239"/>
                    </a:lnTo>
                    <a:lnTo>
                      <a:pt x="469" y="309"/>
                    </a:lnTo>
                    <a:lnTo>
                      <a:pt x="454" y="368"/>
                    </a:lnTo>
                    <a:lnTo>
                      <a:pt x="443" y="406"/>
                    </a:lnTo>
                    <a:lnTo>
                      <a:pt x="442" y="411"/>
                    </a:lnTo>
                    <a:lnTo>
                      <a:pt x="442" y="416"/>
                    </a:lnTo>
                    <a:lnTo>
                      <a:pt x="443" y="418"/>
                    </a:lnTo>
                    <a:lnTo>
                      <a:pt x="445" y="420"/>
                    </a:lnTo>
                    <a:lnTo>
                      <a:pt x="448" y="420"/>
                    </a:lnTo>
                    <a:lnTo>
                      <a:pt x="453" y="419"/>
                    </a:lnTo>
                    <a:lnTo>
                      <a:pt x="458" y="416"/>
                    </a:lnTo>
                    <a:lnTo>
                      <a:pt x="465" y="412"/>
                    </a:lnTo>
                    <a:lnTo>
                      <a:pt x="480" y="403"/>
                    </a:lnTo>
                    <a:lnTo>
                      <a:pt x="499" y="390"/>
                    </a:lnTo>
                    <a:lnTo>
                      <a:pt x="521" y="375"/>
                    </a:lnTo>
                    <a:lnTo>
                      <a:pt x="546" y="356"/>
                    </a:lnTo>
                    <a:lnTo>
                      <a:pt x="601" y="316"/>
                    </a:lnTo>
                    <a:lnTo>
                      <a:pt x="663" y="275"/>
                    </a:lnTo>
                    <a:lnTo>
                      <a:pt x="696" y="255"/>
                    </a:lnTo>
                    <a:lnTo>
                      <a:pt x="728" y="235"/>
                    </a:lnTo>
                    <a:lnTo>
                      <a:pt x="762" y="218"/>
                    </a:lnTo>
                    <a:lnTo>
                      <a:pt x="794" y="204"/>
                    </a:lnTo>
                    <a:lnTo>
                      <a:pt x="810" y="195"/>
                    </a:lnTo>
                    <a:lnTo>
                      <a:pt x="823" y="189"/>
                    </a:lnTo>
                    <a:lnTo>
                      <a:pt x="833" y="186"/>
                    </a:lnTo>
                    <a:lnTo>
                      <a:pt x="841" y="184"/>
                    </a:lnTo>
                    <a:lnTo>
                      <a:pt x="843" y="184"/>
                    </a:lnTo>
                    <a:lnTo>
                      <a:pt x="844" y="185"/>
                    </a:lnTo>
                    <a:lnTo>
                      <a:pt x="845" y="186"/>
                    </a:lnTo>
                    <a:lnTo>
                      <a:pt x="845" y="187"/>
                    </a:lnTo>
                    <a:lnTo>
                      <a:pt x="843" y="193"/>
                    </a:lnTo>
                    <a:lnTo>
                      <a:pt x="837" y="201"/>
                    </a:lnTo>
                    <a:lnTo>
                      <a:pt x="828" y="212"/>
                    </a:lnTo>
                    <a:lnTo>
                      <a:pt x="815" y="226"/>
                    </a:lnTo>
                    <a:lnTo>
                      <a:pt x="798" y="242"/>
                    </a:lnTo>
                    <a:lnTo>
                      <a:pt x="779" y="261"/>
                    </a:lnTo>
                    <a:lnTo>
                      <a:pt x="727" y="309"/>
                    </a:lnTo>
                    <a:lnTo>
                      <a:pt x="660" y="369"/>
                    </a:lnTo>
                    <a:lnTo>
                      <a:pt x="631" y="396"/>
                    </a:lnTo>
                    <a:lnTo>
                      <a:pt x="602" y="423"/>
                    </a:lnTo>
                    <a:lnTo>
                      <a:pt x="573" y="452"/>
                    </a:lnTo>
                    <a:lnTo>
                      <a:pt x="545" y="482"/>
                    </a:lnTo>
                    <a:lnTo>
                      <a:pt x="489" y="540"/>
                    </a:lnTo>
                    <a:lnTo>
                      <a:pt x="441" y="594"/>
                    </a:lnTo>
                    <a:lnTo>
                      <a:pt x="399" y="643"/>
                    </a:lnTo>
                    <a:lnTo>
                      <a:pt x="365" y="680"/>
                    </a:lnTo>
                    <a:lnTo>
                      <a:pt x="345" y="706"/>
                    </a:lnTo>
                    <a:lnTo>
                      <a:pt x="337" y="715"/>
                    </a:lnTo>
                    <a:lnTo>
                      <a:pt x="324" y="716"/>
                    </a:lnTo>
                    <a:lnTo>
                      <a:pt x="291" y="719"/>
                    </a:lnTo>
                    <a:lnTo>
                      <a:pt x="243" y="721"/>
                    </a:lnTo>
                    <a:lnTo>
                      <a:pt x="188" y="721"/>
                    </a:lnTo>
                    <a:lnTo>
                      <a:pt x="159" y="720"/>
                    </a:lnTo>
                    <a:lnTo>
                      <a:pt x="131" y="718"/>
                    </a:lnTo>
                    <a:lnTo>
                      <a:pt x="104" y="715"/>
                    </a:lnTo>
                    <a:lnTo>
                      <a:pt x="79" y="709"/>
                    </a:lnTo>
                    <a:lnTo>
                      <a:pt x="68" y="707"/>
                    </a:lnTo>
                    <a:lnTo>
                      <a:pt x="57" y="703"/>
                    </a:lnTo>
                    <a:lnTo>
                      <a:pt x="48" y="699"/>
                    </a:lnTo>
                    <a:lnTo>
                      <a:pt x="38" y="694"/>
                    </a:lnTo>
                    <a:lnTo>
                      <a:pt x="30" y="690"/>
                    </a:lnTo>
                    <a:lnTo>
                      <a:pt x="24" y="684"/>
                    </a:lnTo>
                    <a:lnTo>
                      <a:pt x="20" y="677"/>
                    </a:lnTo>
                    <a:lnTo>
                      <a:pt x="15" y="671"/>
                    </a:lnTo>
                    <a:lnTo>
                      <a:pt x="10" y="657"/>
                    </a:lnTo>
                    <a:lnTo>
                      <a:pt x="5" y="643"/>
                    </a:lnTo>
                    <a:lnTo>
                      <a:pt x="2" y="627"/>
                    </a:lnTo>
                    <a:lnTo>
                      <a:pt x="0" y="612"/>
                    </a:lnTo>
                    <a:lnTo>
                      <a:pt x="0" y="596"/>
                    </a:lnTo>
                    <a:lnTo>
                      <a:pt x="2" y="578"/>
                    </a:lnTo>
                    <a:lnTo>
                      <a:pt x="5" y="558"/>
                    </a:lnTo>
                    <a:lnTo>
                      <a:pt x="10" y="535"/>
                    </a:lnTo>
                    <a:lnTo>
                      <a:pt x="16" y="509"/>
                    </a:lnTo>
                    <a:lnTo>
                      <a:pt x="25" y="478"/>
                    </a:lnTo>
                    <a:lnTo>
                      <a:pt x="35" y="444"/>
                    </a:lnTo>
                    <a:lnTo>
                      <a:pt x="47" y="405"/>
                    </a:lnTo>
                    <a:lnTo>
                      <a:pt x="77" y="311"/>
                    </a:lnTo>
                    <a:lnTo>
                      <a:pt x="115" y="191"/>
                    </a:lnTo>
                    <a:lnTo>
                      <a:pt x="123" y="165"/>
                    </a:lnTo>
                    <a:lnTo>
                      <a:pt x="126" y="158"/>
                    </a:lnTo>
                    <a:lnTo>
                      <a:pt x="126" y="163"/>
                    </a:lnTo>
                    <a:lnTo>
                      <a:pt x="126" y="175"/>
                    </a:lnTo>
                    <a:lnTo>
                      <a:pt x="126" y="180"/>
                    </a:lnTo>
                    <a:lnTo>
                      <a:pt x="128" y="186"/>
                    </a:lnTo>
                    <a:lnTo>
                      <a:pt x="128" y="188"/>
                    </a:lnTo>
                    <a:lnTo>
                      <a:pt x="129" y="190"/>
                    </a:lnTo>
                    <a:lnTo>
                      <a:pt x="130" y="191"/>
                    </a:lnTo>
                    <a:lnTo>
                      <a:pt x="131" y="192"/>
                    </a:lnTo>
                    <a:lnTo>
                      <a:pt x="133" y="192"/>
                    </a:lnTo>
                    <a:lnTo>
                      <a:pt x="135" y="191"/>
                    </a:lnTo>
                    <a:lnTo>
                      <a:pt x="138" y="189"/>
                    </a:lnTo>
                    <a:lnTo>
                      <a:pt x="142" y="186"/>
                    </a:lnTo>
                    <a:lnTo>
                      <a:pt x="149" y="176"/>
                    </a:lnTo>
                    <a:lnTo>
                      <a:pt x="159" y="162"/>
                    </a:lnTo>
                    <a:lnTo>
                      <a:pt x="165" y="150"/>
                    </a:lnTo>
                    <a:lnTo>
                      <a:pt x="183" y="123"/>
                    </a:lnTo>
                    <a:lnTo>
                      <a:pt x="206" y="86"/>
                    </a:lnTo>
                    <a:lnTo>
                      <a:pt x="233" y="49"/>
                    </a:lnTo>
                    <a:lnTo>
                      <a:pt x="247" y="31"/>
                    </a:lnTo>
                    <a:lnTo>
                      <a:pt x="259" y="17"/>
                    </a:lnTo>
                    <a:lnTo>
                      <a:pt x="266" y="12"/>
                    </a:lnTo>
                    <a:lnTo>
                      <a:pt x="271" y="6"/>
                    </a:lnTo>
                    <a:lnTo>
                      <a:pt x="277" y="3"/>
                    </a:lnTo>
                    <a:lnTo>
                      <a:pt x="281" y="1"/>
                    </a:lnTo>
                    <a:lnTo>
                      <a:pt x="285" y="0"/>
                    </a:lnTo>
                    <a:lnTo>
                      <a:pt x="289" y="1"/>
                    </a:lnTo>
                    <a:lnTo>
                      <a:pt x="291" y="3"/>
                    </a:lnTo>
                    <a:lnTo>
                      <a:pt x="293" y="6"/>
                    </a:lnTo>
                    <a:lnTo>
                      <a:pt x="294" y="13"/>
                    </a:lnTo>
                    <a:lnTo>
                      <a:pt x="294" y="20"/>
                    </a:lnTo>
                    <a:lnTo>
                      <a:pt x="294" y="30"/>
                    </a:lnTo>
                    <a:lnTo>
                      <a:pt x="292" y="43"/>
                    </a:lnTo>
                    <a:lnTo>
                      <a:pt x="291" y="56"/>
                    </a:lnTo>
                    <a:lnTo>
                      <a:pt x="291" y="67"/>
                    </a:lnTo>
                    <a:lnTo>
                      <a:pt x="291" y="78"/>
                    </a:lnTo>
                    <a:lnTo>
                      <a:pt x="293" y="86"/>
                    </a:lnTo>
                    <a:lnTo>
                      <a:pt x="295" y="93"/>
                    </a:lnTo>
                    <a:lnTo>
                      <a:pt x="298" y="99"/>
                    </a:lnTo>
                    <a:lnTo>
                      <a:pt x="303" y="104"/>
                    </a:lnTo>
                    <a:lnTo>
                      <a:pt x="308" y="108"/>
                    </a:lnTo>
                    <a:lnTo>
                      <a:pt x="313" y="110"/>
                    </a:lnTo>
                    <a:lnTo>
                      <a:pt x="320" y="112"/>
                    </a:lnTo>
                    <a:lnTo>
                      <a:pt x="326" y="113"/>
                    </a:lnTo>
                    <a:lnTo>
                      <a:pt x="334" y="112"/>
                    </a:lnTo>
                    <a:lnTo>
                      <a:pt x="341" y="112"/>
                    </a:lnTo>
                    <a:lnTo>
                      <a:pt x="350" y="110"/>
                    </a:lnTo>
                    <a:lnTo>
                      <a:pt x="359" y="108"/>
                    </a:lnTo>
                    <a:lnTo>
                      <a:pt x="367" y="105"/>
                    </a:lnTo>
                    <a:lnTo>
                      <a:pt x="386" y="96"/>
                    </a:lnTo>
                    <a:lnTo>
                      <a:pt x="405" y="86"/>
                    </a:lnTo>
                    <a:lnTo>
                      <a:pt x="424" y="76"/>
                    </a:lnTo>
                    <a:lnTo>
                      <a:pt x="443" y="64"/>
                    </a:lnTo>
                    <a:lnTo>
                      <a:pt x="460" y="51"/>
                    </a:lnTo>
                    <a:lnTo>
                      <a:pt x="476" y="39"/>
                    </a:lnTo>
                    <a:lnTo>
                      <a:pt x="491" y="27"/>
                    </a:lnTo>
                    <a:lnTo>
                      <a:pt x="502" y="16"/>
                    </a:lnTo>
                    <a:close/>
                  </a:path>
                </a:pathLst>
              </a:custGeom>
              <a:solidFill>
                <a:srgbClr val="6a90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5761080" y="3443400"/>
                <a:ext cx="257040" cy="216000"/>
              </a:xfrm>
              <a:custGeom>
                <a:avLst/>
                <a:gdLst/>
                <a:ahLst/>
                <a:rect l="l" t="t" r="r" b="b"/>
                <a:pathLst>
                  <a:path w="809" h="683">
                    <a:moveTo>
                      <a:pt x="478" y="5"/>
                    </a:moveTo>
                    <a:lnTo>
                      <a:pt x="483" y="1"/>
                    </a:lnTo>
                    <a:lnTo>
                      <a:pt x="486" y="0"/>
                    </a:lnTo>
                    <a:lnTo>
                      <a:pt x="491" y="0"/>
                    </a:lnTo>
                    <a:lnTo>
                      <a:pt x="493" y="3"/>
                    </a:lnTo>
                    <a:lnTo>
                      <a:pt x="495" y="7"/>
                    </a:lnTo>
                    <a:lnTo>
                      <a:pt x="496" y="15"/>
                    </a:lnTo>
                    <a:lnTo>
                      <a:pt x="496" y="23"/>
                    </a:lnTo>
                    <a:lnTo>
                      <a:pt x="496" y="33"/>
                    </a:lnTo>
                    <a:lnTo>
                      <a:pt x="495" y="58"/>
                    </a:lnTo>
                    <a:lnTo>
                      <a:pt x="492" y="87"/>
                    </a:lnTo>
                    <a:lnTo>
                      <a:pt x="486" y="121"/>
                    </a:lnTo>
                    <a:lnTo>
                      <a:pt x="480" y="156"/>
                    </a:lnTo>
                    <a:lnTo>
                      <a:pt x="466" y="231"/>
                    </a:lnTo>
                    <a:lnTo>
                      <a:pt x="449" y="302"/>
                    </a:lnTo>
                    <a:lnTo>
                      <a:pt x="434" y="362"/>
                    </a:lnTo>
                    <a:lnTo>
                      <a:pt x="424" y="400"/>
                    </a:lnTo>
                    <a:lnTo>
                      <a:pt x="421" y="406"/>
                    </a:lnTo>
                    <a:lnTo>
                      <a:pt x="421" y="410"/>
                    </a:lnTo>
                    <a:lnTo>
                      <a:pt x="422" y="413"/>
                    </a:lnTo>
                    <a:lnTo>
                      <a:pt x="425" y="414"/>
                    </a:lnTo>
                    <a:lnTo>
                      <a:pt x="428" y="414"/>
                    </a:lnTo>
                    <a:lnTo>
                      <a:pt x="433" y="414"/>
                    </a:lnTo>
                    <a:lnTo>
                      <a:pt x="439" y="412"/>
                    </a:lnTo>
                    <a:lnTo>
                      <a:pt x="444" y="409"/>
                    </a:lnTo>
                    <a:lnTo>
                      <a:pt x="460" y="401"/>
                    </a:lnTo>
                    <a:lnTo>
                      <a:pt x="479" y="390"/>
                    </a:lnTo>
                    <a:lnTo>
                      <a:pt x="499" y="376"/>
                    </a:lnTo>
                    <a:lnTo>
                      <a:pt x="523" y="359"/>
                    </a:lnTo>
                    <a:lnTo>
                      <a:pt x="575" y="323"/>
                    </a:lnTo>
                    <a:lnTo>
                      <a:pt x="630" y="285"/>
                    </a:lnTo>
                    <a:lnTo>
                      <a:pt x="658" y="266"/>
                    </a:lnTo>
                    <a:lnTo>
                      <a:pt x="685" y="249"/>
                    </a:lnTo>
                    <a:lnTo>
                      <a:pt x="712" y="233"/>
                    </a:lnTo>
                    <a:lnTo>
                      <a:pt x="737" y="220"/>
                    </a:lnTo>
                    <a:lnTo>
                      <a:pt x="768" y="203"/>
                    </a:lnTo>
                    <a:lnTo>
                      <a:pt x="792" y="191"/>
                    </a:lnTo>
                    <a:lnTo>
                      <a:pt x="801" y="187"/>
                    </a:lnTo>
                    <a:lnTo>
                      <a:pt x="806" y="185"/>
                    </a:lnTo>
                    <a:lnTo>
                      <a:pt x="808" y="185"/>
                    </a:lnTo>
                    <a:lnTo>
                      <a:pt x="809" y="187"/>
                    </a:lnTo>
                    <a:lnTo>
                      <a:pt x="809" y="188"/>
                    </a:lnTo>
                    <a:lnTo>
                      <a:pt x="808" y="190"/>
                    </a:lnTo>
                    <a:lnTo>
                      <a:pt x="805" y="195"/>
                    </a:lnTo>
                    <a:lnTo>
                      <a:pt x="797" y="204"/>
                    </a:lnTo>
                    <a:lnTo>
                      <a:pt x="785" y="216"/>
                    </a:lnTo>
                    <a:lnTo>
                      <a:pt x="770" y="232"/>
                    </a:lnTo>
                    <a:lnTo>
                      <a:pt x="725" y="273"/>
                    </a:lnTo>
                    <a:lnTo>
                      <a:pt x="660" y="331"/>
                    </a:lnTo>
                    <a:lnTo>
                      <a:pt x="631" y="358"/>
                    </a:lnTo>
                    <a:lnTo>
                      <a:pt x="602" y="385"/>
                    </a:lnTo>
                    <a:lnTo>
                      <a:pt x="573" y="414"/>
                    </a:lnTo>
                    <a:lnTo>
                      <a:pt x="545" y="444"/>
                    </a:lnTo>
                    <a:lnTo>
                      <a:pt x="489" y="502"/>
                    </a:lnTo>
                    <a:lnTo>
                      <a:pt x="441" y="556"/>
                    </a:lnTo>
                    <a:lnTo>
                      <a:pt x="399" y="605"/>
                    </a:lnTo>
                    <a:lnTo>
                      <a:pt x="365" y="642"/>
                    </a:lnTo>
                    <a:lnTo>
                      <a:pt x="345" y="668"/>
                    </a:lnTo>
                    <a:lnTo>
                      <a:pt x="337" y="677"/>
                    </a:lnTo>
                    <a:lnTo>
                      <a:pt x="324" y="678"/>
                    </a:lnTo>
                    <a:lnTo>
                      <a:pt x="291" y="681"/>
                    </a:lnTo>
                    <a:lnTo>
                      <a:pt x="243" y="683"/>
                    </a:lnTo>
                    <a:lnTo>
                      <a:pt x="188" y="683"/>
                    </a:lnTo>
                    <a:lnTo>
                      <a:pt x="159" y="682"/>
                    </a:lnTo>
                    <a:lnTo>
                      <a:pt x="131" y="680"/>
                    </a:lnTo>
                    <a:lnTo>
                      <a:pt x="104" y="677"/>
                    </a:lnTo>
                    <a:lnTo>
                      <a:pt x="79" y="671"/>
                    </a:lnTo>
                    <a:lnTo>
                      <a:pt x="68" y="669"/>
                    </a:lnTo>
                    <a:lnTo>
                      <a:pt x="57" y="665"/>
                    </a:lnTo>
                    <a:lnTo>
                      <a:pt x="48" y="661"/>
                    </a:lnTo>
                    <a:lnTo>
                      <a:pt x="38" y="656"/>
                    </a:lnTo>
                    <a:lnTo>
                      <a:pt x="30" y="652"/>
                    </a:lnTo>
                    <a:lnTo>
                      <a:pt x="24" y="646"/>
                    </a:lnTo>
                    <a:lnTo>
                      <a:pt x="20" y="639"/>
                    </a:lnTo>
                    <a:lnTo>
                      <a:pt x="15" y="633"/>
                    </a:lnTo>
                    <a:lnTo>
                      <a:pt x="10" y="619"/>
                    </a:lnTo>
                    <a:lnTo>
                      <a:pt x="5" y="605"/>
                    </a:lnTo>
                    <a:lnTo>
                      <a:pt x="2" y="589"/>
                    </a:lnTo>
                    <a:lnTo>
                      <a:pt x="0" y="574"/>
                    </a:lnTo>
                    <a:lnTo>
                      <a:pt x="0" y="558"/>
                    </a:lnTo>
                    <a:lnTo>
                      <a:pt x="2" y="540"/>
                    </a:lnTo>
                    <a:lnTo>
                      <a:pt x="5" y="520"/>
                    </a:lnTo>
                    <a:lnTo>
                      <a:pt x="10" y="497"/>
                    </a:lnTo>
                    <a:lnTo>
                      <a:pt x="16" y="471"/>
                    </a:lnTo>
                    <a:lnTo>
                      <a:pt x="25" y="440"/>
                    </a:lnTo>
                    <a:lnTo>
                      <a:pt x="35" y="406"/>
                    </a:lnTo>
                    <a:lnTo>
                      <a:pt x="47" y="367"/>
                    </a:lnTo>
                    <a:lnTo>
                      <a:pt x="77" y="273"/>
                    </a:lnTo>
                    <a:lnTo>
                      <a:pt x="115" y="153"/>
                    </a:lnTo>
                    <a:lnTo>
                      <a:pt x="122" y="129"/>
                    </a:lnTo>
                    <a:lnTo>
                      <a:pt x="123" y="128"/>
                    </a:lnTo>
                    <a:lnTo>
                      <a:pt x="121" y="141"/>
                    </a:lnTo>
                    <a:lnTo>
                      <a:pt x="118" y="163"/>
                    </a:lnTo>
                    <a:lnTo>
                      <a:pt x="116" y="174"/>
                    </a:lnTo>
                    <a:lnTo>
                      <a:pt x="115" y="183"/>
                    </a:lnTo>
                    <a:lnTo>
                      <a:pt x="115" y="192"/>
                    </a:lnTo>
                    <a:lnTo>
                      <a:pt x="116" y="197"/>
                    </a:lnTo>
                    <a:lnTo>
                      <a:pt x="117" y="200"/>
                    </a:lnTo>
                    <a:lnTo>
                      <a:pt x="118" y="200"/>
                    </a:lnTo>
                    <a:lnTo>
                      <a:pt x="120" y="200"/>
                    </a:lnTo>
                    <a:lnTo>
                      <a:pt x="123" y="197"/>
                    </a:lnTo>
                    <a:lnTo>
                      <a:pt x="130" y="190"/>
                    </a:lnTo>
                    <a:lnTo>
                      <a:pt x="139" y="176"/>
                    </a:lnTo>
                    <a:lnTo>
                      <a:pt x="145" y="165"/>
                    </a:lnTo>
                    <a:lnTo>
                      <a:pt x="161" y="137"/>
                    </a:lnTo>
                    <a:lnTo>
                      <a:pt x="184" y="101"/>
                    </a:lnTo>
                    <a:lnTo>
                      <a:pt x="210" y="63"/>
                    </a:lnTo>
                    <a:lnTo>
                      <a:pt x="222" y="47"/>
                    </a:lnTo>
                    <a:lnTo>
                      <a:pt x="233" y="33"/>
                    </a:lnTo>
                    <a:lnTo>
                      <a:pt x="239" y="28"/>
                    </a:lnTo>
                    <a:lnTo>
                      <a:pt x="244" y="22"/>
                    </a:lnTo>
                    <a:lnTo>
                      <a:pt x="249" y="19"/>
                    </a:lnTo>
                    <a:lnTo>
                      <a:pt x="253" y="17"/>
                    </a:lnTo>
                    <a:lnTo>
                      <a:pt x="256" y="16"/>
                    </a:lnTo>
                    <a:lnTo>
                      <a:pt x="259" y="17"/>
                    </a:lnTo>
                    <a:lnTo>
                      <a:pt x="262" y="19"/>
                    </a:lnTo>
                    <a:lnTo>
                      <a:pt x="264" y="23"/>
                    </a:lnTo>
                    <a:lnTo>
                      <a:pt x="265" y="29"/>
                    </a:lnTo>
                    <a:lnTo>
                      <a:pt x="265" y="36"/>
                    </a:lnTo>
                    <a:lnTo>
                      <a:pt x="264" y="47"/>
                    </a:lnTo>
                    <a:lnTo>
                      <a:pt x="263" y="59"/>
                    </a:lnTo>
                    <a:lnTo>
                      <a:pt x="262" y="72"/>
                    </a:lnTo>
                    <a:lnTo>
                      <a:pt x="260" y="83"/>
                    </a:lnTo>
                    <a:lnTo>
                      <a:pt x="262" y="93"/>
                    </a:lnTo>
                    <a:lnTo>
                      <a:pt x="264" y="101"/>
                    </a:lnTo>
                    <a:lnTo>
                      <a:pt x="266" y="108"/>
                    </a:lnTo>
                    <a:lnTo>
                      <a:pt x="269" y="113"/>
                    </a:lnTo>
                    <a:lnTo>
                      <a:pt x="274" y="117"/>
                    </a:lnTo>
                    <a:lnTo>
                      <a:pt x="279" y="120"/>
                    </a:lnTo>
                    <a:lnTo>
                      <a:pt x="285" y="122"/>
                    </a:lnTo>
                    <a:lnTo>
                      <a:pt x="292" y="122"/>
                    </a:lnTo>
                    <a:lnTo>
                      <a:pt x="299" y="122"/>
                    </a:lnTo>
                    <a:lnTo>
                      <a:pt x="307" y="121"/>
                    </a:lnTo>
                    <a:lnTo>
                      <a:pt x="314" y="119"/>
                    </a:lnTo>
                    <a:lnTo>
                      <a:pt x="323" y="115"/>
                    </a:lnTo>
                    <a:lnTo>
                      <a:pt x="332" y="112"/>
                    </a:lnTo>
                    <a:lnTo>
                      <a:pt x="341" y="107"/>
                    </a:lnTo>
                    <a:lnTo>
                      <a:pt x="361" y="97"/>
                    </a:lnTo>
                    <a:lnTo>
                      <a:pt x="380" y="84"/>
                    </a:lnTo>
                    <a:lnTo>
                      <a:pt x="399" y="71"/>
                    </a:lnTo>
                    <a:lnTo>
                      <a:pt x="418" y="57"/>
                    </a:lnTo>
                    <a:lnTo>
                      <a:pt x="435" y="43"/>
                    </a:lnTo>
                    <a:lnTo>
                      <a:pt x="452" y="29"/>
                    </a:lnTo>
                    <a:lnTo>
                      <a:pt x="466" y="16"/>
                    </a:lnTo>
                    <a:lnTo>
                      <a:pt x="478" y="5"/>
                    </a:lnTo>
                    <a:close/>
                  </a:path>
                </a:pathLst>
              </a:custGeom>
              <a:solidFill>
                <a:srgbClr val="678c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5761080" y="3451320"/>
                <a:ext cx="249120" cy="208080"/>
              </a:xfrm>
              <a:custGeom>
                <a:avLst/>
                <a:gdLst/>
                <a:ahLst/>
                <a:rect l="l" t="t" r="r" b="b"/>
                <a:pathLst>
                  <a:path w="781" h="656">
                    <a:moveTo>
                      <a:pt x="660" y="304"/>
                    </a:moveTo>
                    <a:lnTo>
                      <a:pt x="631" y="331"/>
                    </a:lnTo>
                    <a:lnTo>
                      <a:pt x="602" y="358"/>
                    </a:lnTo>
                    <a:lnTo>
                      <a:pt x="573" y="387"/>
                    </a:lnTo>
                    <a:lnTo>
                      <a:pt x="545" y="417"/>
                    </a:lnTo>
                    <a:lnTo>
                      <a:pt x="489" y="475"/>
                    </a:lnTo>
                    <a:lnTo>
                      <a:pt x="441" y="529"/>
                    </a:lnTo>
                    <a:lnTo>
                      <a:pt x="399" y="578"/>
                    </a:lnTo>
                    <a:lnTo>
                      <a:pt x="365" y="615"/>
                    </a:lnTo>
                    <a:lnTo>
                      <a:pt x="345" y="641"/>
                    </a:lnTo>
                    <a:lnTo>
                      <a:pt x="337" y="650"/>
                    </a:lnTo>
                    <a:lnTo>
                      <a:pt x="324" y="651"/>
                    </a:lnTo>
                    <a:lnTo>
                      <a:pt x="291" y="654"/>
                    </a:lnTo>
                    <a:lnTo>
                      <a:pt x="243" y="656"/>
                    </a:lnTo>
                    <a:lnTo>
                      <a:pt x="188" y="656"/>
                    </a:lnTo>
                    <a:lnTo>
                      <a:pt x="159" y="655"/>
                    </a:lnTo>
                    <a:lnTo>
                      <a:pt x="131" y="653"/>
                    </a:lnTo>
                    <a:lnTo>
                      <a:pt x="104" y="650"/>
                    </a:lnTo>
                    <a:lnTo>
                      <a:pt x="79" y="644"/>
                    </a:lnTo>
                    <a:lnTo>
                      <a:pt x="68" y="642"/>
                    </a:lnTo>
                    <a:lnTo>
                      <a:pt x="57" y="638"/>
                    </a:lnTo>
                    <a:lnTo>
                      <a:pt x="48" y="634"/>
                    </a:lnTo>
                    <a:lnTo>
                      <a:pt x="38" y="629"/>
                    </a:lnTo>
                    <a:lnTo>
                      <a:pt x="30" y="625"/>
                    </a:lnTo>
                    <a:lnTo>
                      <a:pt x="24" y="619"/>
                    </a:lnTo>
                    <a:lnTo>
                      <a:pt x="20" y="612"/>
                    </a:lnTo>
                    <a:lnTo>
                      <a:pt x="15" y="606"/>
                    </a:lnTo>
                    <a:lnTo>
                      <a:pt x="10" y="592"/>
                    </a:lnTo>
                    <a:lnTo>
                      <a:pt x="5" y="578"/>
                    </a:lnTo>
                    <a:lnTo>
                      <a:pt x="2" y="562"/>
                    </a:lnTo>
                    <a:lnTo>
                      <a:pt x="0" y="547"/>
                    </a:lnTo>
                    <a:lnTo>
                      <a:pt x="0" y="531"/>
                    </a:lnTo>
                    <a:lnTo>
                      <a:pt x="2" y="513"/>
                    </a:lnTo>
                    <a:lnTo>
                      <a:pt x="5" y="493"/>
                    </a:lnTo>
                    <a:lnTo>
                      <a:pt x="10" y="470"/>
                    </a:lnTo>
                    <a:lnTo>
                      <a:pt x="16" y="444"/>
                    </a:lnTo>
                    <a:lnTo>
                      <a:pt x="25" y="413"/>
                    </a:lnTo>
                    <a:lnTo>
                      <a:pt x="35" y="379"/>
                    </a:lnTo>
                    <a:lnTo>
                      <a:pt x="47" y="340"/>
                    </a:lnTo>
                    <a:lnTo>
                      <a:pt x="77" y="246"/>
                    </a:lnTo>
                    <a:lnTo>
                      <a:pt x="115" y="126"/>
                    </a:lnTo>
                    <a:lnTo>
                      <a:pt x="121" y="104"/>
                    </a:lnTo>
                    <a:lnTo>
                      <a:pt x="121" y="109"/>
                    </a:lnTo>
                    <a:lnTo>
                      <a:pt x="115" y="131"/>
                    </a:lnTo>
                    <a:lnTo>
                      <a:pt x="108" y="162"/>
                    </a:lnTo>
                    <a:lnTo>
                      <a:pt x="105" y="177"/>
                    </a:lnTo>
                    <a:lnTo>
                      <a:pt x="102" y="192"/>
                    </a:lnTo>
                    <a:lnTo>
                      <a:pt x="101" y="205"/>
                    </a:lnTo>
                    <a:lnTo>
                      <a:pt x="99" y="215"/>
                    </a:lnTo>
                    <a:lnTo>
                      <a:pt x="101" y="218"/>
                    </a:lnTo>
                    <a:lnTo>
                      <a:pt x="102" y="220"/>
                    </a:lnTo>
                    <a:lnTo>
                      <a:pt x="104" y="221"/>
                    </a:lnTo>
                    <a:lnTo>
                      <a:pt x="106" y="220"/>
                    </a:lnTo>
                    <a:lnTo>
                      <a:pt x="108" y="218"/>
                    </a:lnTo>
                    <a:lnTo>
                      <a:pt x="112" y="214"/>
                    </a:lnTo>
                    <a:lnTo>
                      <a:pt x="117" y="208"/>
                    </a:lnTo>
                    <a:lnTo>
                      <a:pt x="122" y="201"/>
                    </a:lnTo>
                    <a:lnTo>
                      <a:pt x="128" y="190"/>
                    </a:lnTo>
                    <a:lnTo>
                      <a:pt x="142" y="163"/>
                    </a:lnTo>
                    <a:lnTo>
                      <a:pt x="162" y="126"/>
                    </a:lnTo>
                    <a:lnTo>
                      <a:pt x="185" y="89"/>
                    </a:lnTo>
                    <a:lnTo>
                      <a:pt x="196" y="73"/>
                    </a:lnTo>
                    <a:lnTo>
                      <a:pt x="205" y="59"/>
                    </a:lnTo>
                    <a:lnTo>
                      <a:pt x="211" y="54"/>
                    </a:lnTo>
                    <a:lnTo>
                      <a:pt x="215" y="49"/>
                    </a:lnTo>
                    <a:lnTo>
                      <a:pt x="219" y="46"/>
                    </a:lnTo>
                    <a:lnTo>
                      <a:pt x="223" y="44"/>
                    </a:lnTo>
                    <a:lnTo>
                      <a:pt x="226" y="43"/>
                    </a:lnTo>
                    <a:lnTo>
                      <a:pt x="229" y="44"/>
                    </a:lnTo>
                    <a:lnTo>
                      <a:pt x="231" y="46"/>
                    </a:lnTo>
                    <a:lnTo>
                      <a:pt x="232" y="50"/>
                    </a:lnTo>
                    <a:lnTo>
                      <a:pt x="233" y="56"/>
                    </a:lnTo>
                    <a:lnTo>
                      <a:pt x="233" y="65"/>
                    </a:lnTo>
                    <a:lnTo>
                      <a:pt x="232" y="74"/>
                    </a:lnTo>
                    <a:lnTo>
                      <a:pt x="230" y="86"/>
                    </a:lnTo>
                    <a:lnTo>
                      <a:pt x="229" y="99"/>
                    </a:lnTo>
                    <a:lnTo>
                      <a:pt x="229" y="110"/>
                    </a:lnTo>
                    <a:lnTo>
                      <a:pt x="229" y="120"/>
                    </a:lnTo>
                    <a:lnTo>
                      <a:pt x="231" y="127"/>
                    </a:lnTo>
                    <a:lnTo>
                      <a:pt x="235" y="134"/>
                    </a:lnTo>
                    <a:lnTo>
                      <a:pt x="238" y="138"/>
                    </a:lnTo>
                    <a:lnTo>
                      <a:pt x="243" y="141"/>
                    </a:lnTo>
                    <a:lnTo>
                      <a:pt x="249" y="143"/>
                    </a:lnTo>
                    <a:lnTo>
                      <a:pt x="254" y="143"/>
                    </a:lnTo>
                    <a:lnTo>
                      <a:pt x="262" y="143"/>
                    </a:lnTo>
                    <a:lnTo>
                      <a:pt x="269" y="142"/>
                    </a:lnTo>
                    <a:lnTo>
                      <a:pt x="277" y="139"/>
                    </a:lnTo>
                    <a:lnTo>
                      <a:pt x="294" y="131"/>
                    </a:lnTo>
                    <a:lnTo>
                      <a:pt x="313" y="121"/>
                    </a:lnTo>
                    <a:lnTo>
                      <a:pt x="333" y="108"/>
                    </a:lnTo>
                    <a:lnTo>
                      <a:pt x="352" y="94"/>
                    </a:lnTo>
                    <a:lnTo>
                      <a:pt x="373" y="77"/>
                    </a:lnTo>
                    <a:lnTo>
                      <a:pt x="392" y="61"/>
                    </a:lnTo>
                    <a:lnTo>
                      <a:pt x="427" y="30"/>
                    </a:lnTo>
                    <a:lnTo>
                      <a:pt x="453" y="5"/>
                    </a:lnTo>
                    <a:lnTo>
                      <a:pt x="458" y="1"/>
                    </a:lnTo>
                    <a:lnTo>
                      <a:pt x="462" y="0"/>
                    </a:lnTo>
                    <a:lnTo>
                      <a:pt x="466" y="0"/>
                    </a:lnTo>
                    <a:lnTo>
                      <a:pt x="468" y="3"/>
                    </a:lnTo>
                    <a:lnTo>
                      <a:pt x="470" y="8"/>
                    </a:lnTo>
                    <a:lnTo>
                      <a:pt x="471" y="15"/>
                    </a:lnTo>
                    <a:lnTo>
                      <a:pt x="472" y="23"/>
                    </a:lnTo>
                    <a:lnTo>
                      <a:pt x="472" y="34"/>
                    </a:lnTo>
                    <a:lnTo>
                      <a:pt x="471" y="59"/>
                    </a:lnTo>
                    <a:lnTo>
                      <a:pt x="468" y="89"/>
                    </a:lnTo>
                    <a:lnTo>
                      <a:pt x="464" y="123"/>
                    </a:lnTo>
                    <a:lnTo>
                      <a:pt x="458" y="158"/>
                    </a:lnTo>
                    <a:lnTo>
                      <a:pt x="444" y="234"/>
                    </a:lnTo>
                    <a:lnTo>
                      <a:pt x="429" y="306"/>
                    </a:lnTo>
                    <a:lnTo>
                      <a:pt x="414" y="367"/>
                    </a:lnTo>
                    <a:lnTo>
                      <a:pt x="403" y="406"/>
                    </a:lnTo>
                    <a:lnTo>
                      <a:pt x="402" y="411"/>
                    </a:lnTo>
                    <a:lnTo>
                      <a:pt x="402" y="416"/>
                    </a:lnTo>
                    <a:lnTo>
                      <a:pt x="403" y="419"/>
                    </a:lnTo>
                    <a:lnTo>
                      <a:pt x="405" y="420"/>
                    </a:lnTo>
                    <a:lnTo>
                      <a:pt x="408" y="421"/>
                    </a:lnTo>
                    <a:lnTo>
                      <a:pt x="414" y="421"/>
                    </a:lnTo>
                    <a:lnTo>
                      <a:pt x="419" y="419"/>
                    </a:lnTo>
                    <a:lnTo>
                      <a:pt x="426" y="417"/>
                    </a:lnTo>
                    <a:lnTo>
                      <a:pt x="441" y="410"/>
                    </a:lnTo>
                    <a:lnTo>
                      <a:pt x="459" y="400"/>
                    </a:lnTo>
                    <a:lnTo>
                      <a:pt x="479" y="387"/>
                    </a:lnTo>
                    <a:lnTo>
                      <a:pt x="501" y="373"/>
                    </a:lnTo>
                    <a:lnTo>
                      <a:pt x="550" y="341"/>
                    </a:lnTo>
                    <a:lnTo>
                      <a:pt x="599" y="306"/>
                    </a:lnTo>
                    <a:lnTo>
                      <a:pt x="644" y="275"/>
                    </a:lnTo>
                    <a:lnTo>
                      <a:pt x="683" y="250"/>
                    </a:lnTo>
                    <a:lnTo>
                      <a:pt x="715" y="229"/>
                    </a:lnTo>
                    <a:lnTo>
                      <a:pt x="745" y="209"/>
                    </a:lnTo>
                    <a:lnTo>
                      <a:pt x="768" y="195"/>
                    </a:lnTo>
                    <a:lnTo>
                      <a:pt x="780" y="189"/>
                    </a:lnTo>
                    <a:lnTo>
                      <a:pt x="781" y="189"/>
                    </a:lnTo>
                    <a:lnTo>
                      <a:pt x="781" y="190"/>
                    </a:lnTo>
                    <a:lnTo>
                      <a:pt x="781" y="191"/>
                    </a:lnTo>
                    <a:lnTo>
                      <a:pt x="779" y="194"/>
                    </a:lnTo>
                    <a:lnTo>
                      <a:pt x="772" y="202"/>
                    </a:lnTo>
                    <a:lnTo>
                      <a:pt x="762" y="212"/>
                    </a:lnTo>
                    <a:lnTo>
                      <a:pt x="723" y="248"/>
                    </a:lnTo>
                    <a:lnTo>
                      <a:pt x="660" y="304"/>
                    </a:lnTo>
                    <a:close/>
                  </a:path>
                </a:pathLst>
              </a:custGeom>
              <a:solidFill>
                <a:srgbClr val="6589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5994360" y="3353040"/>
                <a:ext cx="299880" cy="198360"/>
              </a:xfrm>
              <a:custGeom>
                <a:avLst/>
                <a:gdLst/>
                <a:ahLst/>
                <a:rect l="l" t="t" r="r" b="b"/>
                <a:pathLst>
                  <a:path w="944" h="629">
                    <a:moveTo>
                      <a:pt x="684" y="372"/>
                    </a:moveTo>
                    <a:lnTo>
                      <a:pt x="684" y="336"/>
                    </a:lnTo>
                    <a:lnTo>
                      <a:pt x="687" y="302"/>
                    </a:lnTo>
                    <a:lnTo>
                      <a:pt x="689" y="271"/>
                    </a:lnTo>
                    <a:lnTo>
                      <a:pt x="693" y="241"/>
                    </a:lnTo>
                    <a:lnTo>
                      <a:pt x="697" y="214"/>
                    </a:lnTo>
                    <a:lnTo>
                      <a:pt x="702" y="190"/>
                    </a:lnTo>
                    <a:lnTo>
                      <a:pt x="706" y="168"/>
                    </a:lnTo>
                    <a:lnTo>
                      <a:pt x="711" y="147"/>
                    </a:lnTo>
                    <a:lnTo>
                      <a:pt x="721" y="115"/>
                    </a:lnTo>
                    <a:lnTo>
                      <a:pt x="730" y="92"/>
                    </a:lnTo>
                    <a:lnTo>
                      <a:pt x="736" y="78"/>
                    </a:lnTo>
                    <a:lnTo>
                      <a:pt x="738" y="73"/>
                    </a:lnTo>
                    <a:lnTo>
                      <a:pt x="765" y="58"/>
                    </a:lnTo>
                    <a:lnTo>
                      <a:pt x="789" y="44"/>
                    </a:lnTo>
                    <a:lnTo>
                      <a:pt x="810" y="32"/>
                    </a:lnTo>
                    <a:lnTo>
                      <a:pt x="829" y="23"/>
                    </a:lnTo>
                    <a:lnTo>
                      <a:pt x="845" y="16"/>
                    </a:lnTo>
                    <a:lnTo>
                      <a:pt x="860" y="9"/>
                    </a:lnTo>
                    <a:lnTo>
                      <a:pt x="873" y="5"/>
                    </a:lnTo>
                    <a:lnTo>
                      <a:pt x="885" y="2"/>
                    </a:lnTo>
                    <a:lnTo>
                      <a:pt x="895" y="1"/>
                    </a:lnTo>
                    <a:lnTo>
                      <a:pt x="904" y="0"/>
                    </a:lnTo>
                    <a:lnTo>
                      <a:pt x="911" y="0"/>
                    </a:lnTo>
                    <a:lnTo>
                      <a:pt x="918" y="0"/>
                    </a:lnTo>
                    <a:lnTo>
                      <a:pt x="930" y="3"/>
                    </a:lnTo>
                    <a:lnTo>
                      <a:pt x="939" y="7"/>
                    </a:lnTo>
                    <a:lnTo>
                      <a:pt x="942" y="8"/>
                    </a:lnTo>
                    <a:lnTo>
                      <a:pt x="943" y="10"/>
                    </a:lnTo>
                    <a:lnTo>
                      <a:pt x="944" y="15"/>
                    </a:lnTo>
                    <a:lnTo>
                      <a:pt x="943" y="19"/>
                    </a:lnTo>
                    <a:lnTo>
                      <a:pt x="939" y="32"/>
                    </a:lnTo>
                    <a:lnTo>
                      <a:pt x="933" y="47"/>
                    </a:lnTo>
                    <a:lnTo>
                      <a:pt x="923" y="65"/>
                    </a:lnTo>
                    <a:lnTo>
                      <a:pt x="912" y="85"/>
                    </a:lnTo>
                    <a:lnTo>
                      <a:pt x="899" y="105"/>
                    </a:lnTo>
                    <a:lnTo>
                      <a:pt x="885" y="127"/>
                    </a:lnTo>
                    <a:lnTo>
                      <a:pt x="857" y="168"/>
                    </a:lnTo>
                    <a:lnTo>
                      <a:pt x="831" y="204"/>
                    </a:lnTo>
                    <a:lnTo>
                      <a:pt x="813" y="230"/>
                    </a:lnTo>
                    <a:lnTo>
                      <a:pt x="805" y="239"/>
                    </a:lnTo>
                    <a:lnTo>
                      <a:pt x="803" y="244"/>
                    </a:lnTo>
                    <a:lnTo>
                      <a:pt x="798" y="257"/>
                    </a:lnTo>
                    <a:lnTo>
                      <a:pt x="790" y="276"/>
                    </a:lnTo>
                    <a:lnTo>
                      <a:pt x="781" y="300"/>
                    </a:lnTo>
                    <a:lnTo>
                      <a:pt x="770" y="328"/>
                    </a:lnTo>
                    <a:lnTo>
                      <a:pt x="759" y="358"/>
                    </a:lnTo>
                    <a:lnTo>
                      <a:pt x="748" y="388"/>
                    </a:lnTo>
                    <a:lnTo>
                      <a:pt x="738" y="416"/>
                    </a:lnTo>
                    <a:lnTo>
                      <a:pt x="721" y="510"/>
                    </a:lnTo>
                    <a:lnTo>
                      <a:pt x="716" y="513"/>
                    </a:lnTo>
                    <a:lnTo>
                      <a:pt x="698" y="518"/>
                    </a:lnTo>
                    <a:lnTo>
                      <a:pt x="675" y="527"/>
                    </a:lnTo>
                    <a:lnTo>
                      <a:pt x="646" y="538"/>
                    </a:lnTo>
                    <a:lnTo>
                      <a:pt x="629" y="546"/>
                    </a:lnTo>
                    <a:lnTo>
                      <a:pt x="613" y="555"/>
                    </a:lnTo>
                    <a:lnTo>
                      <a:pt x="597" y="564"/>
                    </a:lnTo>
                    <a:lnTo>
                      <a:pt x="582" y="575"/>
                    </a:lnTo>
                    <a:lnTo>
                      <a:pt x="567" y="587"/>
                    </a:lnTo>
                    <a:lnTo>
                      <a:pt x="553" y="600"/>
                    </a:lnTo>
                    <a:lnTo>
                      <a:pt x="540" y="614"/>
                    </a:lnTo>
                    <a:lnTo>
                      <a:pt x="529" y="629"/>
                    </a:lnTo>
                    <a:lnTo>
                      <a:pt x="515" y="624"/>
                    </a:lnTo>
                    <a:lnTo>
                      <a:pt x="478" y="610"/>
                    </a:lnTo>
                    <a:lnTo>
                      <a:pt x="451" y="600"/>
                    </a:lnTo>
                    <a:lnTo>
                      <a:pt x="421" y="590"/>
                    </a:lnTo>
                    <a:lnTo>
                      <a:pt x="386" y="582"/>
                    </a:lnTo>
                    <a:lnTo>
                      <a:pt x="350" y="573"/>
                    </a:lnTo>
                    <a:lnTo>
                      <a:pt x="329" y="569"/>
                    </a:lnTo>
                    <a:lnTo>
                      <a:pt x="310" y="565"/>
                    </a:lnTo>
                    <a:lnTo>
                      <a:pt x="288" y="563"/>
                    </a:lnTo>
                    <a:lnTo>
                      <a:pt x="266" y="560"/>
                    </a:lnTo>
                    <a:lnTo>
                      <a:pt x="245" y="559"/>
                    </a:lnTo>
                    <a:lnTo>
                      <a:pt x="223" y="558"/>
                    </a:lnTo>
                    <a:lnTo>
                      <a:pt x="200" y="557"/>
                    </a:lnTo>
                    <a:lnTo>
                      <a:pt x="178" y="558"/>
                    </a:lnTo>
                    <a:lnTo>
                      <a:pt x="155" y="559"/>
                    </a:lnTo>
                    <a:lnTo>
                      <a:pt x="132" y="561"/>
                    </a:lnTo>
                    <a:lnTo>
                      <a:pt x="110" y="564"/>
                    </a:lnTo>
                    <a:lnTo>
                      <a:pt x="87" y="569"/>
                    </a:lnTo>
                    <a:lnTo>
                      <a:pt x="65" y="575"/>
                    </a:lnTo>
                    <a:lnTo>
                      <a:pt x="43" y="582"/>
                    </a:lnTo>
                    <a:lnTo>
                      <a:pt x="21" y="590"/>
                    </a:lnTo>
                    <a:lnTo>
                      <a:pt x="0" y="600"/>
                    </a:lnTo>
                    <a:lnTo>
                      <a:pt x="7" y="596"/>
                    </a:lnTo>
                    <a:lnTo>
                      <a:pt x="29" y="585"/>
                    </a:lnTo>
                    <a:lnTo>
                      <a:pt x="45" y="578"/>
                    </a:lnTo>
                    <a:lnTo>
                      <a:pt x="63" y="571"/>
                    </a:lnTo>
                    <a:lnTo>
                      <a:pt x="85" y="563"/>
                    </a:lnTo>
                    <a:lnTo>
                      <a:pt x="109" y="556"/>
                    </a:lnTo>
                    <a:lnTo>
                      <a:pt x="133" y="549"/>
                    </a:lnTo>
                    <a:lnTo>
                      <a:pt x="162" y="543"/>
                    </a:lnTo>
                    <a:lnTo>
                      <a:pt x="190" y="538"/>
                    </a:lnTo>
                    <a:lnTo>
                      <a:pt x="221" y="535"/>
                    </a:lnTo>
                    <a:lnTo>
                      <a:pt x="236" y="534"/>
                    </a:lnTo>
                    <a:lnTo>
                      <a:pt x="252" y="534"/>
                    </a:lnTo>
                    <a:lnTo>
                      <a:pt x="269" y="534"/>
                    </a:lnTo>
                    <a:lnTo>
                      <a:pt x="285" y="535"/>
                    </a:lnTo>
                    <a:lnTo>
                      <a:pt x="301" y="536"/>
                    </a:lnTo>
                    <a:lnTo>
                      <a:pt x="317" y="538"/>
                    </a:lnTo>
                    <a:lnTo>
                      <a:pt x="333" y="542"/>
                    </a:lnTo>
                    <a:lnTo>
                      <a:pt x="351" y="545"/>
                    </a:lnTo>
                    <a:lnTo>
                      <a:pt x="382" y="554"/>
                    </a:lnTo>
                    <a:lnTo>
                      <a:pt x="409" y="559"/>
                    </a:lnTo>
                    <a:lnTo>
                      <a:pt x="433" y="564"/>
                    </a:lnTo>
                    <a:lnTo>
                      <a:pt x="453" y="568"/>
                    </a:lnTo>
                    <a:lnTo>
                      <a:pt x="472" y="570"/>
                    </a:lnTo>
                    <a:lnTo>
                      <a:pt x="487" y="571"/>
                    </a:lnTo>
                    <a:lnTo>
                      <a:pt x="501" y="571"/>
                    </a:lnTo>
                    <a:lnTo>
                      <a:pt x="513" y="569"/>
                    </a:lnTo>
                    <a:lnTo>
                      <a:pt x="525" y="567"/>
                    </a:lnTo>
                    <a:lnTo>
                      <a:pt x="534" y="562"/>
                    </a:lnTo>
                    <a:lnTo>
                      <a:pt x="545" y="558"/>
                    </a:lnTo>
                    <a:lnTo>
                      <a:pt x="555" y="551"/>
                    </a:lnTo>
                    <a:lnTo>
                      <a:pt x="577" y="537"/>
                    </a:lnTo>
                    <a:lnTo>
                      <a:pt x="606" y="518"/>
                    </a:lnTo>
                    <a:lnTo>
                      <a:pt x="620" y="508"/>
                    </a:lnTo>
                    <a:lnTo>
                      <a:pt x="633" y="498"/>
                    </a:lnTo>
                    <a:lnTo>
                      <a:pt x="643" y="489"/>
                    </a:lnTo>
                    <a:lnTo>
                      <a:pt x="653" y="479"/>
                    </a:lnTo>
                    <a:lnTo>
                      <a:pt x="661" y="470"/>
                    </a:lnTo>
                    <a:lnTo>
                      <a:pt x="667" y="462"/>
                    </a:lnTo>
                    <a:lnTo>
                      <a:pt x="673" y="454"/>
                    </a:lnTo>
                    <a:lnTo>
                      <a:pt x="676" y="446"/>
                    </a:lnTo>
                    <a:lnTo>
                      <a:pt x="679" y="437"/>
                    </a:lnTo>
                    <a:lnTo>
                      <a:pt x="681" y="428"/>
                    </a:lnTo>
                    <a:lnTo>
                      <a:pt x="683" y="420"/>
                    </a:lnTo>
                    <a:lnTo>
                      <a:pt x="683" y="411"/>
                    </a:lnTo>
                    <a:lnTo>
                      <a:pt x="684" y="393"/>
                    </a:lnTo>
                    <a:lnTo>
                      <a:pt x="684" y="372"/>
                    </a:lnTo>
                    <a:close/>
                  </a:path>
                </a:pathLst>
              </a:custGeom>
              <a:solidFill>
                <a:srgbClr val="678d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5813280" y="3251160"/>
                <a:ext cx="1162080" cy="601920"/>
              </a:xfrm>
              <a:custGeom>
                <a:avLst/>
                <a:gdLst/>
                <a:ahLst/>
                <a:rect l="l" t="t" r="r" b="b"/>
                <a:pathLst>
                  <a:path w="3660" h="1893">
                    <a:moveTo>
                      <a:pt x="0" y="1849"/>
                    </a:moveTo>
                    <a:lnTo>
                      <a:pt x="178" y="1893"/>
                    </a:lnTo>
                    <a:lnTo>
                      <a:pt x="178" y="1401"/>
                    </a:lnTo>
                    <a:lnTo>
                      <a:pt x="285" y="1245"/>
                    </a:lnTo>
                    <a:lnTo>
                      <a:pt x="284" y="1241"/>
                    </a:lnTo>
                    <a:lnTo>
                      <a:pt x="285" y="1229"/>
                    </a:lnTo>
                    <a:lnTo>
                      <a:pt x="286" y="1220"/>
                    </a:lnTo>
                    <a:lnTo>
                      <a:pt x="289" y="1210"/>
                    </a:lnTo>
                    <a:lnTo>
                      <a:pt x="292" y="1198"/>
                    </a:lnTo>
                    <a:lnTo>
                      <a:pt x="296" y="1184"/>
                    </a:lnTo>
                    <a:lnTo>
                      <a:pt x="302" y="1170"/>
                    </a:lnTo>
                    <a:lnTo>
                      <a:pt x="309" y="1154"/>
                    </a:lnTo>
                    <a:lnTo>
                      <a:pt x="319" y="1136"/>
                    </a:lnTo>
                    <a:lnTo>
                      <a:pt x="330" y="1117"/>
                    </a:lnTo>
                    <a:lnTo>
                      <a:pt x="344" y="1098"/>
                    </a:lnTo>
                    <a:lnTo>
                      <a:pt x="360" y="1078"/>
                    </a:lnTo>
                    <a:lnTo>
                      <a:pt x="379" y="1057"/>
                    </a:lnTo>
                    <a:lnTo>
                      <a:pt x="401" y="1036"/>
                    </a:lnTo>
                    <a:lnTo>
                      <a:pt x="427" y="1013"/>
                    </a:lnTo>
                    <a:lnTo>
                      <a:pt x="455" y="990"/>
                    </a:lnTo>
                    <a:lnTo>
                      <a:pt x="485" y="967"/>
                    </a:lnTo>
                    <a:lnTo>
                      <a:pt x="518" y="944"/>
                    </a:lnTo>
                    <a:lnTo>
                      <a:pt x="552" y="920"/>
                    </a:lnTo>
                    <a:lnTo>
                      <a:pt x="588" y="896"/>
                    </a:lnTo>
                    <a:lnTo>
                      <a:pt x="625" y="873"/>
                    </a:lnTo>
                    <a:lnTo>
                      <a:pt x="662" y="849"/>
                    </a:lnTo>
                    <a:lnTo>
                      <a:pt x="740" y="803"/>
                    </a:lnTo>
                    <a:lnTo>
                      <a:pt x="819" y="757"/>
                    </a:lnTo>
                    <a:lnTo>
                      <a:pt x="896" y="713"/>
                    </a:lnTo>
                    <a:lnTo>
                      <a:pt x="970" y="672"/>
                    </a:lnTo>
                    <a:lnTo>
                      <a:pt x="1047" y="629"/>
                    </a:lnTo>
                    <a:lnTo>
                      <a:pt x="1133" y="576"/>
                    </a:lnTo>
                    <a:lnTo>
                      <a:pt x="1225" y="520"/>
                    </a:lnTo>
                    <a:lnTo>
                      <a:pt x="1320" y="460"/>
                    </a:lnTo>
                    <a:lnTo>
                      <a:pt x="1413" y="403"/>
                    </a:lnTo>
                    <a:lnTo>
                      <a:pt x="1500" y="349"/>
                    </a:lnTo>
                    <a:lnTo>
                      <a:pt x="1541" y="325"/>
                    </a:lnTo>
                    <a:lnTo>
                      <a:pt x="1577" y="302"/>
                    </a:lnTo>
                    <a:lnTo>
                      <a:pt x="1612" y="283"/>
                    </a:lnTo>
                    <a:lnTo>
                      <a:pt x="1642" y="267"/>
                    </a:lnTo>
                    <a:lnTo>
                      <a:pt x="1671" y="253"/>
                    </a:lnTo>
                    <a:lnTo>
                      <a:pt x="1699" y="239"/>
                    </a:lnTo>
                    <a:lnTo>
                      <a:pt x="1730" y="226"/>
                    </a:lnTo>
                    <a:lnTo>
                      <a:pt x="1760" y="213"/>
                    </a:lnTo>
                    <a:lnTo>
                      <a:pt x="1790" y="200"/>
                    </a:lnTo>
                    <a:lnTo>
                      <a:pt x="1823" y="189"/>
                    </a:lnTo>
                    <a:lnTo>
                      <a:pt x="1854" y="179"/>
                    </a:lnTo>
                    <a:lnTo>
                      <a:pt x="1887" y="170"/>
                    </a:lnTo>
                    <a:lnTo>
                      <a:pt x="1921" y="162"/>
                    </a:lnTo>
                    <a:lnTo>
                      <a:pt x="1957" y="156"/>
                    </a:lnTo>
                    <a:lnTo>
                      <a:pt x="1992" y="150"/>
                    </a:lnTo>
                    <a:lnTo>
                      <a:pt x="2029" y="147"/>
                    </a:lnTo>
                    <a:lnTo>
                      <a:pt x="2067" y="145"/>
                    </a:lnTo>
                    <a:lnTo>
                      <a:pt x="2106" y="145"/>
                    </a:lnTo>
                    <a:lnTo>
                      <a:pt x="2146" y="147"/>
                    </a:lnTo>
                    <a:lnTo>
                      <a:pt x="2187" y="150"/>
                    </a:lnTo>
                    <a:lnTo>
                      <a:pt x="2274" y="161"/>
                    </a:lnTo>
                    <a:lnTo>
                      <a:pt x="2368" y="173"/>
                    </a:lnTo>
                    <a:lnTo>
                      <a:pt x="2469" y="184"/>
                    </a:lnTo>
                    <a:lnTo>
                      <a:pt x="2575" y="193"/>
                    </a:lnTo>
                    <a:lnTo>
                      <a:pt x="2630" y="198"/>
                    </a:lnTo>
                    <a:lnTo>
                      <a:pt x="2685" y="201"/>
                    </a:lnTo>
                    <a:lnTo>
                      <a:pt x="2740" y="204"/>
                    </a:lnTo>
                    <a:lnTo>
                      <a:pt x="2797" y="205"/>
                    </a:lnTo>
                    <a:lnTo>
                      <a:pt x="2853" y="206"/>
                    </a:lnTo>
                    <a:lnTo>
                      <a:pt x="2910" y="205"/>
                    </a:lnTo>
                    <a:lnTo>
                      <a:pt x="2968" y="203"/>
                    </a:lnTo>
                    <a:lnTo>
                      <a:pt x="3025" y="200"/>
                    </a:lnTo>
                    <a:lnTo>
                      <a:pt x="3202" y="196"/>
                    </a:lnTo>
                    <a:lnTo>
                      <a:pt x="3206" y="190"/>
                    </a:lnTo>
                    <a:lnTo>
                      <a:pt x="3216" y="179"/>
                    </a:lnTo>
                    <a:lnTo>
                      <a:pt x="3231" y="162"/>
                    </a:lnTo>
                    <a:lnTo>
                      <a:pt x="3252" y="143"/>
                    </a:lnTo>
                    <a:lnTo>
                      <a:pt x="3263" y="132"/>
                    </a:lnTo>
                    <a:lnTo>
                      <a:pt x="3276" y="122"/>
                    </a:lnTo>
                    <a:lnTo>
                      <a:pt x="3289" y="112"/>
                    </a:lnTo>
                    <a:lnTo>
                      <a:pt x="3302" y="104"/>
                    </a:lnTo>
                    <a:lnTo>
                      <a:pt x="3316" y="95"/>
                    </a:lnTo>
                    <a:lnTo>
                      <a:pt x="3330" y="89"/>
                    </a:lnTo>
                    <a:lnTo>
                      <a:pt x="3344" y="82"/>
                    </a:lnTo>
                    <a:lnTo>
                      <a:pt x="3359" y="79"/>
                    </a:lnTo>
                    <a:lnTo>
                      <a:pt x="3394" y="70"/>
                    </a:lnTo>
                    <a:lnTo>
                      <a:pt x="3439" y="59"/>
                    </a:lnTo>
                    <a:lnTo>
                      <a:pt x="3488" y="47"/>
                    </a:lnTo>
                    <a:lnTo>
                      <a:pt x="3539" y="32"/>
                    </a:lnTo>
                    <a:lnTo>
                      <a:pt x="3586" y="21"/>
                    </a:lnTo>
                    <a:lnTo>
                      <a:pt x="3623" y="10"/>
                    </a:lnTo>
                    <a:lnTo>
                      <a:pt x="3650" y="2"/>
                    </a:lnTo>
                    <a:lnTo>
                      <a:pt x="3660" y="0"/>
                    </a:lnTo>
                    <a:lnTo>
                      <a:pt x="3642" y="0"/>
                    </a:lnTo>
                    <a:lnTo>
                      <a:pt x="3593" y="1"/>
                    </a:lnTo>
                    <a:lnTo>
                      <a:pt x="3522" y="2"/>
                    </a:lnTo>
                    <a:lnTo>
                      <a:pt x="3437" y="3"/>
                    </a:lnTo>
                    <a:lnTo>
                      <a:pt x="3346" y="7"/>
                    </a:lnTo>
                    <a:lnTo>
                      <a:pt x="3258" y="9"/>
                    </a:lnTo>
                    <a:lnTo>
                      <a:pt x="3183" y="13"/>
                    </a:lnTo>
                    <a:lnTo>
                      <a:pt x="3125" y="17"/>
                    </a:lnTo>
                    <a:lnTo>
                      <a:pt x="3054" y="22"/>
                    </a:lnTo>
                    <a:lnTo>
                      <a:pt x="2937" y="28"/>
                    </a:lnTo>
                    <a:lnTo>
                      <a:pt x="2788" y="36"/>
                    </a:lnTo>
                    <a:lnTo>
                      <a:pt x="2622" y="42"/>
                    </a:lnTo>
                    <a:lnTo>
                      <a:pt x="2452" y="49"/>
                    </a:lnTo>
                    <a:lnTo>
                      <a:pt x="2293" y="54"/>
                    </a:lnTo>
                    <a:lnTo>
                      <a:pt x="2221" y="55"/>
                    </a:lnTo>
                    <a:lnTo>
                      <a:pt x="2159" y="56"/>
                    </a:lnTo>
                    <a:lnTo>
                      <a:pt x="2105" y="57"/>
                    </a:lnTo>
                    <a:lnTo>
                      <a:pt x="2062" y="56"/>
                    </a:lnTo>
                    <a:lnTo>
                      <a:pt x="1990" y="54"/>
                    </a:lnTo>
                    <a:lnTo>
                      <a:pt x="1913" y="52"/>
                    </a:lnTo>
                    <a:lnTo>
                      <a:pt x="1836" y="51"/>
                    </a:lnTo>
                    <a:lnTo>
                      <a:pt x="1758" y="52"/>
                    </a:lnTo>
                    <a:lnTo>
                      <a:pt x="1720" y="54"/>
                    </a:lnTo>
                    <a:lnTo>
                      <a:pt x="1684" y="56"/>
                    </a:lnTo>
                    <a:lnTo>
                      <a:pt x="1650" y="59"/>
                    </a:lnTo>
                    <a:lnTo>
                      <a:pt x="1616" y="64"/>
                    </a:lnTo>
                    <a:lnTo>
                      <a:pt x="1585" y="69"/>
                    </a:lnTo>
                    <a:lnTo>
                      <a:pt x="1557" y="76"/>
                    </a:lnTo>
                    <a:lnTo>
                      <a:pt x="1544" y="80"/>
                    </a:lnTo>
                    <a:lnTo>
                      <a:pt x="1531" y="84"/>
                    </a:lnTo>
                    <a:lnTo>
                      <a:pt x="1520" y="89"/>
                    </a:lnTo>
                    <a:lnTo>
                      <a:pt x="1509" y="94"/>
                    </a:lnTo>
                    <a:lnTo>
                      <a:pt x="1487" y="106"/>
                    </a:lnTo>
                    <a:lnTo>
                      <a:pt x="1462" y="122"/>
                    </a:lnTo>
                    <a:lnTo>
                      <a:pt x="1435" y="143"/>
                    </a:lnTo>
                    <a:lnTo>
                      <a:pt x="1406" y="164"/>
                    </a:lnTo>
                    <a:lnTo>
                      <a:pt x="1375" y="189"/>
                    </a:lnTo>
                    <a:lnTo>
                      <a:pt x="1343" y="215"/>
                    </a:lnTo>
                    <a:lnTo>
                      <a:pt x="1312" y="242"/>
                    </a:lnTo>
                    <a:lnTo>
                      <a:pt x="1278" y="271"/>
                    </a:lnTo>
                    <a:lnTo>
                      <a:pt x="1214" y="328"/>
                    </a:lnTo>
                    <a:lnTo>
                      <a:pt x="1153" y="383"/>
                    </a:lnTo>
                    <a:lnTo>
                      <a:pt x="1099" y="432"/>
                    </a:lnTo>
                    <a:lnTo>
                      <a:pt x="1053" y="472"/>
                    </a:lnTo>
                    <a:lnTo>
                      <a:pt x="1029" y="491"/>
                    </a:lnTo>
                    <a:lnTo>
                      <a:pt x="994" y="517"/>
                    </a:lnTo>
                    <a:lnTo>
                      <a:pt x="952" y="549"/>
                    </a:lnTo>
                    <a:lnTo>
                      <a:pt x="903" y="584"/>
                    </a:lnTo>
                    <a:lnTo>
                      <a:pt x="790" y="664"/>
                    </a:lnTo>
                    <a:lnTo>
                      <a:pt x="666" y="752"/>
                    </a:lnTo>
                    <a:lnTo>
                      <a:pt x="540" y="840"/>
                    </a:lnTo>
                    <a:lnTo>
                      <a:pt x="426" y="923"/>
                    </a:lnTo>
                    <a:lnTo>
                      <a:pt x="375" y="960"/>
                    </a:lnTo>
                    <a:lnTo>
                      <a:pt x="331" y="994"/>
                    </a:lnTo>
                    <a:lnTo>
                      <a:pt x="295" y="1023"/>
                    </a:lnTo>
                    <a:lnTo>
                      <a:pt x="268" y="1046"/>
                    </a:lnTo>
                    <a:lnTo>
                      <a:pt x="245" y="1067"/>
                    </a:lnTo>
                    <a:lnTo>
                      <a:pt x="223" y="1091"/>
                    </a:lnTo>
                    <a:lnTo>
                      <a:pt x="200" y="1116"/>
                    </a:lnTo>
                    <a:lnTo>
                      <a:pt x="177" y="1143"/>
                    </a:lnTo>
                    <a:lnTo>
                      <a:pt x="132" y="1199"/>
                    </a:lnTo>
                    <a:lnTo>
                      <a:pt x="91" y="1255"/>
                    </a:lnTo>
                    <a:lnTo>
                      <a:pt x="54" y="1305"/>
                    </a:lnTo>
                    <a:lnTo>
                      <a:pt x="26" y="1346"/>
                    </a:lnTo>
                    <a:lnTo>
                      <a:pt x="8" y="1374"/>
                    </a:lnTo>
                    <a:lnTo>
                      <a:pt x="0" y="1384"/>
                    </a:lnTo>
                    <a:lnTo>
                      <a:pt x="0" y="1849"/>
                    </a:lnTo>
                    <a:close/>
                  </a:path>
                </a:pathLst>
              </a:custGeom>
              <a:solidFill>
                <a:srgbClr val="e8e8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5813280" y="3251160"/>
                <a:ext cx="1162080" cy="601920"/>
              </a:xfrm>
              <a:custGeom>
                <a:avLst/>
                <a:gdLst/>
                <a:ahLst/>
                <a:rect l="l" t="t" r="r" b="b"/>
                <a:pathLst>
                  <a:path w="3660" h="1893">
                    <a:moveTo>
                      <a:pt x="0" y="1849"/>
                    </a:moveTo>
                    <a:lnTo>
                      <a:pt x="178" y="1893"/>
                    </a:lnTo>
                    <a:lnTo>
                      <a:pt x="178" y="1401"/>
                    </a:lnTo>
                    <a:lnTo>
                      <a:pt x="285" y="1245"/>
                    </a:lnTo>
                    <a:lnTo>
                      <a:pt x="284" y="1241"/>
                    </a:lnTo>
                    <a:lnTo>
                      <a:pt x="285" y="1229"/>
                    </a:lnTo>
                    <a:lnTo>
                      <a:pt x="286" y="1220"/>
                    </a:lnTo>
                    <a:lnTo>
                      <a:pt x="289" y="1210"/>
                    </a:lnTo>
                    <a:lnTo>
                      <a:pt x="292" y="1198"/>
                    </a:lnTo>
                    <a:lnTo>
                      <a:pt x="296" y="1184"/>
                    </a:lnTo>
                    <a:lnTo>
                      <a:pt x="302" y="1170"/>
                    </a:lnTo>
                    <a:lnTo>
                      <a:pt x="309" y="1154"/>
                    </a:lnTo>
                    <a:lnTo>
                      <a:pt x="319" y="1136"/>
                    </a:lnTo>
                    <a:lnTo>
                      <a:pt x="330" y="1117"/>
                    </a:lnTo>
                    <a:lnTo>
                      <a:pt x="344" y="1098"/>
                    </a:lnTo>
                    <a:lnTo>
                      <a:pt x="360" y="1078"/>
                    </a:lnTo>
                    <a:lnTo>
                      <a:pt x="379" y="1057"/>
                    </a:lnTo>
                    <a:lnTo>
                      <a:pt x="401" y="1036"/>
                    </a:lnTo>
                    <a:lnTo>
                      <a:pt x="427" y="1013"/>
                    </a:lnTo>
                    <a:lnTo>
                      <a:pt x="455" y="990"/>
                    </a:lnTo>
                    <a:lnTo>
                      <a:pt x="485" y="967"/>
                    </a:lnTo>
                    <a:lnTo>
                      <a:pt x="518" y="944"/>
                    </a:lnTo>
                    <a:lnTo>
                      <a:pt x="552" y="920"/>
                    </a:lnTo>
                    <a:lnTo>
                      <a:pt x="588" y="896"/>
                    </a:lnTo>
                    <a:lnTo>
                      <a:pt x="625" y="873"/>
                    </a:lnTo>
                    <a:lnTo>
                      <a:pt x="662" y="849"/>
                    </a:lnTo>
                    <a:lnTo>
                      <a:pt x="740" y="803"/>
                    </a:lnTo>
                    <a:lnTo>
                      <a:pt x="819" y="757"/>
                    </a:lnTo>
                    <a:lnTo>
                      <a:pt x="896" y="713"/>
                    </a:lnTo>
                    <a:lnTo>
                      <a:pt x="970" y="672"/>
                    </a:lnTo>
                    <a:lnTo>
                      <a:pt x="1047" y="629"/>
                    </a:lnTo>
                    <a:lnTo>
                      <a:pt x="1133" y="576"/>
                    </a:lnTo>
                    <a:lnTo>
                      <a:pt x="1225" y="520"/>
                    </a:lnTo>
                    <a:lnTo>
                      <a:pt x="1320" y="460"/>
                    </a:lnTo>
                    <a:lnTo>
                      <a:pt x="1413" y="403"/>
                    </a:lnTo>
                    <a:lnTo>
                      <a:pt x="1500" y="349"/>
                    </a:lnTo>
                    <a:lnTo>
                      <a:pt x="1541" y="325"/>
                    </a:lnTo>
                    <a:lnTo>
                      <a:pt x="1577" y="302"/>
                    </a:lnTo>
                    <a:lnTo>
                      <a:pt x="1612" y="283"/>
                    </a:lnTo>
                    <a:lnTo>
                      <a:pt x="1642" y="267"/>
                    </a:lnTo>
                    <a:lnTo>
                      <a:pt x="1671" y="253"/>
                    </a:lnTo>
                    <a:lnTo>
                      <a:pt x="1699" y="239"/>
                    </a:lnTo>
                    <a:lnTo>
                      <a:pt x="1730" y="226"/>
                    </a:lnTo>
                    <a:lnTo>
                      <a:pt x="1760" y="213"/>
                    </a:lnTo>
                    <a:lnTo>
                      <a:pt x="1790" y="200"/>
                    </a:lnTo>
                    <a:lnTo>
                      <a:pt x="1823" y="189"/>
                    </a:lnTo>
                    <a:lnTo>
                      <a:pt x="1854" y="179"/>
                    </a:lnTo>
                    <a:lnTo>
                      <a:pt x="1887" y="170"/>
                    </a:lnTo>
                    <a:lnTo>
                      <a:pt x="1921" y="162"/>
                    </a:lnTo>
                    <a:lnTo>
                      <a:pt x="1957" y="156"/>
                    </a:lnTo>
                    <a:lnTo>
                      <a:pt x="1992" y="150"/>
                    </a:lnTo>
                    <a:lnTo>
                      <a:pt x="2029" y="147"/>
                    </a:lnTo>
                    <a:lnTo>
                      <a:pt x="2067" y="145"/>
                    </a:lnTo>
                    <a:lnTo>
                      <a:pt x="2106" y="145"/>
                    </a:lnTo>
                    <a:lnTo>
                      <a:pt x="2146" y="147"/>
                    </a:lnTo>
                    <a:lnTo>
                      <a:pt x="2187" y="150"/>
                    </a:lnTo>
                    <a:lnTo>
                      <a:pt x="2274" y="161"/>
                    </a:lnTo>
                    <a:lnTo>
                      <a:pt x="2368" y="173"/>
                    </a:lnTo>
                    <a:lnTo>
                      <a:pt x="2469" y="184"/>
                    </a:lnTo>
                    <a:lnTo>
                      <a:pt x="2575" y="193"/>
                    </a:lnTo>
                    <a:lnTo>
                      <a:pt x="2630" y="198"/>
                    </a:lnTo>
                    <a:lnTo>
                      <a:pt x="2685" y="201"/>
                    </a:lnTo>
                    <a:lnTo>
                      <a:pt x="2740" y="204"/>
                    </a:lnTo>
                    <a:lnTo>
                      <a:pt x="2797" y="205"/>
                    </a:lnTo>
                    <a:lnTo>
                      <a:pt x="2853" y="206"/>
                    </a:lnTo>
                    <a:lnTo>
                      <a:pt x="2910" y="205"/>
                    </a:lnTo>
                    <a:lnTo>
                      <a:pt x="2968" y="203"/>
                    </a:lnTo>
                    <a:lnTo>
                      <a:pt x="3025" y="200"/>
                    </a:lnTo>
                    <a:lnTo>
                      <a:pt x="3202" y="196"/>
                    </a:lnTo>
                    <a:lnTo>
                      <a:pt x="3206" y="190"/>
                    </a:lnTo>
                    <a:lnTo>
                      <a:pt x="3216" y="179"/>
                    </a:lnTo>
                    <a:lnTo>
                      <a:pt x="3231" y="162"/>
                    </a:lnTo>
                    <a:lnTo>
                      <a:pt x="3252" y="143"/>
                    </a:lnTo>
                    <a:lnTo>
                      <a:pt x="3263" y="132"/>
                    </a:lnTo>
                    <a:lnTo>
                      <a:pt x="3276" y="122"/>
                    </a:lnTo>
                    <a:lnTo>
                      <a:pt x="3289" y="112"/>
                    </a:lnTo>
                    <a:lnTo>
                      <a:pt x="3302" y="104"/>
                    </a:lnTo>
                    <a:lnTo>
                      <a:pt x="3316" y="95"/>
                    </a:lnTo>
                    <a:lnTo>
                      <a:pt x="3330" y="89"/>
                    </a:lnTo>
                    <a:lnTo>
                      <a:pt x="3344" y="82"/>
                    </a:lnTo>
                    <a:lnTo>
                      <a:pt x="3359" y="79"/>
                    </a:lnTo>
                    <a:lnTo>
                      <a:pt x="3394" y="70"/>
                    </a:lnTo>
                    <a:lnTo>
                      <a:pt x="3439" y="59"/>
                    </a:lnTo>
                    <a:lnTo>
                      <a:pt x="3488" y="47"/>
                    </a:lnTo>
                    <a:lnTo>
                      <a:pt x="3539" y="32"/>
                    </a:lnTo>
                    <a:lnTo>
                      <a:pt x="3586" y="21"/>
                    </a:lnTo>
                    <a:lnTo>
                      <a:pt x="3623" y="10"/>
                    </a:lnTo>
                    <a:lnTo>
                      <a:pt x="3650" y="2"/>
                    </a:lnTo>
                    <a:lnTo>
                      <a:pt x="3660" y="0"/>
                    </a:lnTo>
                    <a:lnTo>
                      <a:pt x="3642" y="0"/>
                    </a:lnTo>
                    <a:lnTo>
                      <a:pt x="3593" y="1"/>
                    </a:lnTo>
                    <a:lnTo>
                      <a:pt x="3522" y="2"/>
                    </a:lnTo>
                    <a:lnTo>
                      <a:pt x="3437" y="3"/>
                    </a:lnTo>
                    <a:lnTo>
                      <a:pt x="3346" y="7"/>
                    </a:lnTo>
                    <a:lnTo>
                      <a:pt x="3258" y="9"/>
                    </a:lnTo>
                    <a:lnTo>
                      <a:pt x="3183" y="13"/>
                    </a:lnTo>
                    <a:lnTo>
                      <a:pt x="3125" y="17"/>
                    </a:lnTo>
                    <a:lnTo>
                      <a:pt x="3054" y="22"/>
                    </a:lnTo>
                    <a:lnTo>
                      <a:pt x="2937" y="28"/>
                    </a:lnTo>
                    <a:lnTo>
                      <a:pt x="2788" y="36"/>
                    </a:lnTo>
                    <a:lnTo>
                      <a:pt x="2622" y="42"/>
                    </a:lnTo>
                    <a:lnTo>
                      <a:pt x="2452" y="49"/>
                    </a:lnTo>
                    <a:lnTo>
                      <a:pt x="2293" y="54"/>
                    </a:lnTo>
                    <a:lnTo>
                      <a:pt x="2221" y="55"/>
                    </a:lnTo>
                    <a:lnTo>
                      <a:pt x="2159" y="56"/>
                    </a:lnTo>
                    <a:lnTo>
                      <a:pt x="2105" y="57"/>
                    </a:lnTo>
                    <a:lnTo>
                      <a:pt x="2062" y="56"/>
                    </a:lnTo>
                    <a:lnTo>
                      <a:pt x="1990" y="54"/>
                    </a:lnTo>
                    <a:lnTo>
                      <a:pt x="1913" y="52"/>
                    </a:lnTo>
                    <a:lnTo>
                      <a:pt x="1836" y="51"/>
                    </a:lnTo>
                    <a:lnTo>
                      <a:pt x="1758" y="52"/>
                    </a:lnTo>
                    <a:lnTo>
                      <a:pt x="1720" y="54"/>
                    </a:lnTo>
                    <a:lnTo>
                      <a:pt x="1684" y="56"/>
                    </a:lnTo>
                    <a:lnTo>
                      <a:pt x="1650" y="59"/>
                    </a:lnTo>
                    <a:lnTo>
                      <a:pt x="1616" y="64"/>
                    </a:lnTo>
                    <a:lnTo>
                      <a:pt x="1585" y="69"/>
                    </a:lnTo>
                    <a:lnTo>
                      <a:pt x="1557" y="76"/>
                    </a:lnTo>
                    <a:lnTo>
                      <a:pt x="1544" y="80"/>
                    </a:lnTo>
                    <a:lnTo>
                      <a:pt x="1531" y="84"/>
                    </a:lnTo>
                    <a:lnTo>
                      <a:pt x="1520" y="89"/>
                    </a:lnTo>
                    <a:lnTo>
                      <a:pt x="1509" y="94"/>
                    </a:lnTo>
                    <a:lnTo>
                      <a:pt x="1487" y="106"/>
                    </a:lnTo>
                    <a:lnTo>
                      <a:pt x="1462" y="122"/>
                    </a:lnTo>
                    <a:lnTo>
                      <a:pt x="1435" y="143"/>
                    </a:lnTo>
                    <a:lnTo>
                      <a:pt x="1406" y="164"/>
                    </a:lnTo>
                    <a:lnTo>
                      <a:pt x="1375" y="189"/>
                    </a:lnTo>
                    <a:lnTo>
                      <a:pt x="1343" y="215"/>
                    </a:lnTo>
                    <a:lnTo>
                      <a:pt x="1312" y="242"/>
                    </a:lnTo>
                    <a:lnTo>
                      <a:pt x="1278" y="271"/>
                    </a:lnTo>
                    <a:lnTo>
                      <a:pt x="1214" y="328"/>
                    </a:lnTo>
                    <a:lnTo>
                      <a:pt x="1153" y="383"/>
                    </a:lnTo>
                    <a:lnTo>
                      <a:pt x="1099" y="432"/>
                    </a:lnTo>
                    <a:lnTo>
                      <a:pt x="1053" y="472"/>
                    </a:lnTo>
                    <a:lnTo>
                      <a:pt x="1029" y="491"/>
                    </a:lnTo>
                    <a:lnTo>
                      <a:pt x="994" y="517"/>
                    </a:lnTo>
                    <a:lnTo>
                      <a:pt x="952" y="549"/>
                    </a:lnTo>
                    <a:lnTo>
                      <a:pt x="903" y="584"/>
                    </a:lnTo>
                    <a:lnTo>
                      <a:pt x="790" y="664"/>
                    </a:lnTo>
                    <a:lnTo>
                      <a:pt x="666" y="752"/>
                    </a:lnTo>
                    <a:lnTo>
                      <a:pt x="540" y="840"/>
                    </a:lnTo>
                    <a:lnTo>
                      <a:pt x="426" y="923"/>
                    </a:lnTo>
                    <a:lnTo>
                      <a:pt x="375" y="960"/>
                    </a:lnTo>
                    <a:lnTo>
                      <a:pt x="331" y="994"/>
                    </a:lnTo>
                    <a:lnTo>
                      <a:pt x="295" y="1023"/>
                    </a:lnTo>
                    <a:lnTo>
                      <a:pt x="268" y="1046"/>
                    </a:lnTo>
                    <a:lnTo>
                      <a:pt x="245" y="1067"/>
                    </a:lnTo>
                    <a:lnTo>
                      <a:pt x="223" y="1091"/>
                    </a:lnTo>
                    <a:lnTo>
                      <a:pt x="200" y="1116"/>
                    </a:lnTo>
                    <a:lnTo>
                      <a:pt x="177" y="1143"/>
                    </a:lnTo>
                    <a:lnTo>
                      <a:pt x="132" y="1199"/>
                    </a:lnTo>
                    <a:lnTo>
                      <a:pt x="91" y="1255"/>
                    </a:lnTo>
                    <a:lnTo>
                      <a:pt x="54" y="1305"/>
                    </a:lnTo>
                    <a:lnTo>
                      <a:pt x="26" y="1346"/>
                    </a:lnTo>
                    <a:lnTo>
                      <a:pt x="8" y="1374"/>
                    </a:lnTo>
                    <a:lnTo>
                      <a:pt x="0" y="1384"/>
                    </a:lnTo>
                    <a:lnTo>
                      <a:pt x="0" y="1849"/>
                    </a:lnTo>
                  </a:path>
                </a:pathLst>
              </a:custGeom>
              <a:noFill/>
              <a:ln w="3240">
                <a:solidFill>
                  <a:srgbClr val="66645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6924600" y="3292560"/>
                <a:ext cx="308160" cy="420840"/>
              </a:xfrm>
              <a:custGeom>
                <a:avLst/>
                <a:gdLst/>
                <a:ahLst/>
                <a:rect l="l" t="t" r="r" b="b"/>
                <a:pathLst>
                  <a:path w="969" h="1323">
                    <a:moveTo>
                      <a:pt x="745" y="1288"/>
                    </a:moveTo>
                    <a:lnTo>
                      <a:pt x="728" y="1288"/>
                    </a:lnTo>
                    <a:lnTo>
                      <a:pt x="686" y="1289"/>
                    </a:lnTo>
                    <a:lnTo>
                      <a:pt x="625" y="1289"/>
                    </a:lnTo>
                    <a:lnTo>
                      <a:pt x="549" y="1289"/>
                    </a:lnTo>
                    <a:lnTo>
                      <a:pt x="467" y="1290"/>
                    </a:lnTo>
                    <a:lnTo>
                      <a:pt x="386" y="1290"/>
                    </a:lnTo>
                    <a:lnTo>
                      <a:pt x="311" y="1292"/>
                    </a:lnTo>
                    <a:lnTo>
                      <a:pt x="250" y="1294"/>
                    </a:lnTo>
                    <a:lnTo>
                      <a:pt x="218" y="1296"/>
                    </a:lnTo>
                    <a:lnTo>
                      <a:pt x="188" y="1298"/>
                    </a:lnTo>
                    <a:lnTo>
                      <a:pt x="158" y="1302"/>
                    </a:lnTo>
                    <a:lnTo>
                      <a:pt x="127" y="1306"/>
                    </a:lnTo>
                    <a:lnTo>
                      <a:pt x="96" y="1311"/>
                    </a:lnTo>
                    <a:lnTo>
                      <a:pt x="65" y="1316"/>
                    </a:lnTo>
                    <a:lnTo>
                      <a:pt x="33" y="1319"/>
                    </a:lnTo>
                    <a:lnTo>
                      <a:pt x="0" y="1323"/>
                    </a:lnTo>
                    <a:lnTo>
                      <a:pt x="5" y="1317"/>
                    </a:lnTo>
                    <a:lnTo>
                      <a:pt x="20" y="1299"/>
                    </a:lnTo>
                    <a:lnTo>
                      <a:pt x="45" y="1265"/>
                    </a:lnTo>
                    <a:lnTo>
                      <a:pt x="81" y="1216"/>
                    </a:lnTo>
                    <a:lnTo>
                      <a:pt x="130" y="1148"/>
                    </a:lnTo>
                    <a:lnTo>
                      <a:pt x="191" y="1059"/>
                    </a:lnTo>
                    <a:lnTo>
                      <a:pt x="266" y="950"/>
                    </a:lnTo>
                    <a:lnTo>
                      <a:pt x="353" y="816"/>
                    </a:lnTo>
                    <a:lnTo>
                      <a:pt x="377" y="779"/>
                    </a:lnTo>
                    <a:lnTo>
                      <a:pt x="400" y="743"/>
                    </a:lnTo>
                    <a:lnTo>
                      <a:pt x="422" y="705"/>
                    </a:lnTo>
                    <a:lnTo>
                      <a:pt x="443" y="667"/>
                    </a:lnTo>
                    <a:lnTo>
                      <a:pt x="464" y="629"/>
                    </a:lnTo>
                    <a:lnTo>
                      <a:pt x="483" y="592"/>
                    </a:lnTo>
                    <a:lnTo>
                      <a:pt x="501" y="555"/>
                    </a:lnTo>
                    <a:lnTo>
                      <a:pt x="520" y="517"/>
                    </a:lnTo>
                    <a:lnTo>
                      <a:pt x="587" y="373"/>
                    </a:lnTo>
                    <a:lnTo>
                      <a:pt x="645" y="243"/>
                    </a:lnTo>
                    <a:lnTo>
                      <a:pt x="672" y="185"/>
                    </a:lnTo>
                    <a:lnTo>
                      <a:pt x="697" y="134"/>
                    </a:lnTo>
                    <a:lnTo>
                      <a:pt x="710" y="111"/>
                    </a:lnTo>
                    <a:lnTo>
                      <a:pt x="722" y="89"/>
                    </a:lnTo>
                    <a:lnTo>
                      <a:pt x="735" y="70"/>
                    </a:lnTo>
                    <a:lnTo>
                      <a:pt x="747" y="53"/>
                    </a:lnTo>
                    <a:lnTo>
                      <a:pt x="759" y="37"/>
                    </a:lnTo>
                    <a:lnTo>
                      <a:pt x="770" y="25"/>
                    </a:lnTo>
                    <a:lnTo>
                      <a:pt x="782" y="15"/>
                    </a:lnTo>
                    <a:lnTo>
                      <a:pt x="794" y="6"/>
                    </a:lnTo>
                    <a:lnTo>
                      <a:pt x="806" y="2"/>
                    </a:lnTo>
                    <a:lnTo>
                      <a:pt x="819" y="0"/>
                    </a:lnTo>
                    <a:lnTo>
                      <a:pt x="831" y="0"/>
                    </a:lnTo>
                    <a:lnTo>
                      <a:pt x="843" y="3"/>
                    </a:lnTo>
                    <a:lnTo>
                      <a:pt x="856" y="9"/>
                    </a:lnTo>
                    <a:lnTo>
                      <a:pt x="867" y="16"/>
                    </a:lnTo>
                    <a:lnTo>
                      <a:pt x="876" y="25"/>
                    </a:lnTo>
                    <a:lnTo>
                      <a:pt x="886" y="33"/>
                    </a:lnTo>
                    <a:lnTo>
                      <a:pt x="894" y="44"/>
                    </a:lnTo>
                    <a:lnTo>
                      <a:pt x="901" y="56"/>
                    </a:lnTo>
                    <a:lnTo>
                      <a:pt x="908" y="68"/>
                    </a:lnTo>
                    <a:lnTo>
                      <a:pt x="914" y="81"/>
                    </a:lnTo>
                    <a:lnTo>
                      <a:pt x="920" y="96"/>
                    </a:lnTo>
                    <a:lnTo>
                      <a:pt x="924" y="111"/>
                    </a:lnTo>
                    <a:lnTo>
                      <a:pt x="928" y="127"/>
                    </a:lnTo>
                    <a:lnTo>
                      <a:pt x="932" y="144"/>
                    </a:lnTo>
                    <a:lnTo>
                      <a:pt x="938" y="181"/>
                    </a:lnTo>
                    <a:lnTo>
                      <a:pt x="942" y="222"/>
                    </a:lnTo>
                    <a:lnTo>
                      <a:pt x="945" y="265"/>
                    </a:lnTo>
                    <a:lnTo>
                      <a:pt x="948" y="313"/>
                    </a:lnTo>
                    <a:lnTo>
                      <a:pt x="950" y="363"/>
                    </a:lnTo>
                    <a:lnTo>
                      <a:pt x="952" y="414"/>
                    </a:lnTo>
                    <a:lnTo>
                      <a:pt x="954" y="469"/>
                    </a:lnTo>
                    <a:lnTo>
                      <a:pt x="957" y="527"/>
                    </a:lnTo>
                    <a:lnTo>
                      <a:pt x="962" y="587"/>
                    </a:lnTo>
                    <a:lnTo>
                      <a:pt x="967" y="649"/>
                    </a:lnTo>
                    <a:lnTo>
                      <a:pt x="969" y="680"/>
                    </a:lnTo>
                    <a:lnTo>
                      <a:pt x="969" y="710"/>
                    </a:lnTo>
                    <a:lnTo>
                      <a:pt x="969" y="742"/>
                    </a:lnTo>
                    <a:lnTo>
                      <a:pt x="967" y="772"/>
                    </a:lnTo>
                    <a:lnTo>
                      <a:pt x="963" y="802"/>
                    </a:lnTo>
                    <a:lnTo>
                      <a:pt x="958" y="831"/>
                    </a:lnTo>
                    <a:lnTo>
                      <a:pt x="953" y="860"/>
                    </a:lnTo>
                    <a:lnTo>
                      <a:pt x="945" y="890"/>
                    </a:lnTo>
                    <a:lnTo>
                      <a:pt x="938" y="918"/>
                    </a:lnTo>
                    <a:lnTo>
                      <a:pt x="929" y="945"/>
                    </a:lnTo>
                    <a:lnTo>
                      <a:pt x="921" y="972"/>
                    </a:lnTo>
                    <a:lnTo>
                      <a:pt x="911" y="998"/>
                    </a:lnTo>
                    <a:lnTo>
                      <a:pt x="900" y="1022"/>
                    </a:lnTo>
                    <a:lnTo>
                      <a:pt x="889" y="1047"/>
                    </a:lnTo>
                    <a:lnTo>
                      <a:pt x="878" y="1071"/>
                    </a:lnTo>
                    <a:lnTo>
                      <a:pt x="868" y="1094"/>
                    </a:lnTo>
                    <a:lnTo>
                      <a:pt x="845" y="1136"/>
                    </a:lnTo>
                    <a:lnTo>
                      <a:pt x="823" y="1174"/>
                    </a:lnTo>
                    <a:lnTo>
                      <a:pt x="803" y="1207"/>
                    </a:lnTo>
                    <a:lnTo>
                      <a:pt x="783" y="1235"/>
                    </a:lnTo>
                    <a:lnTo>
                      <a:pt x="755" y="1275"/>
                    </a:lnTo>
                    <a:lnTo>
                      <a:pt x="745" y="1288"/>
                    </a:lnTo>
                    <a:close/>
                  </a:path>
                </a:pathLst>
              </a:custGeom>
              <a:solidFill>
                <a:srgbClr val="76a1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935760" y="3326040"/>
                <a:ext cx="277920" cy="385560"/>
              </a:xfrm>
              <a:custGeom>
                <a:avLst/>
                <a:gdLst/>
                <a:ahLst/>
                <a:rect l="l" t="t" r="r" b="b"/>
                <a:pathLst>
                  <a:path w="876" h="1216">
                    <a:moveTo>
                      <a:pt x="345" y="735"/>
                    </a:moveTo>
                    <a:lnTo>
                      <a:pt x="367" y="700"/>
                    </a:lnTo>
                    <a:lnTo>
                      <a:pt x="389" y="666"/>
                    </a:lnTo>
                    <a:lnTo>
                      <a:pt x="408" y="631"/>
                    </a:lnTo>
                    <a:lnTo>
                      <a:pt x="428" y="598"/>
                    </a:lnTo>
                    <a:lnTo>
                      <a:pt x="463" y="528"/>
                    </a:lnTo>
                    <a:lnTo>
                      <a:pt x="497" y="461"/>
                    </a:lnTo>
                    <a:lnTo>
                      <a:pt x="556" y="334"/>
                    </a:lnTo>
                    <a:lnTo>
                      <a:pt x="609" y="220"/>
                    </a:lnTo>
                    <a:lnTo>
                      <a:pt x="633" y="169"/>
                    </a:lnTo>
                    <a:lnTo>
                      <a:pt x="657" y="123"/>
                    </a:lnTo>
                    <a:lnTo>
                      <a:pt x="667" y="103"/>
                    </a:lnTo>
                    <a:lnTo>
                      <a:pt x="678" y="83"/>
                    </a:lnTo>
                    <a:lnTo>
                      <a:pt x="689" y="66"/>
                    </a:lnTo>
                    <a:lnTo>
                      <a:pt x="700" y="51"/>
                    </a:lnTo>
                    <a:lnTo>
                      <a:pt x="711" y="38"/>
                    </a:lnTo>
                    <a:lnTo>
                      <a:pt x="721" y="26"/>
                    </a:lnTo>
                    <a:lnTo>
                      <a:pt x="732" y="16"/>
                    </a:lnTo>
                    <a:lnTo>
                      <a:pt x="744" y="9"/>
                    </a:lnTo>
                    <a:lnTo>
                      <a:pt x="755" y="4"/>
                    </a:lnTo>
                    <a:lnTo>
                      <a:pt x="766" y="1"/>
                    </a:lnTo>
                    <a:lnTo>
                      <a:pt x="776" y="0"/>
                    </a:lnTo>
                    <a:lnTo>
                      <a:pt x="788" y="2"/>
                    </a:lnTo>
                    <a:lnTo>
                      <a:pt x="799" y="7"/>
                    </a:lnTo>
                    <a:lnTo>
                      <a:pt x="809" y="13"/>
                    </a:lnTo>
                    <a:lnTo>
                      <a:pt x="818" y="20"/>
                    </a:lnTo>
                    <a:lnTo>
                      <a:pt x="825" y="28"/>
                    </a:lnTo>
                    <a:lnTo>
                      <a:pt x="832" y="37"/>
                    </a:lnTo>
                    <a:lnTo>
                      <a:pt x="838" y="47"/>
                    </a:lnTo>
                    <a:lnTo>
                      <a:pt x="843" y="59"/>
                    </a:lnTo>
                    <a:lnTo>
                      <a:pt x="849" y="70"/>
                    </a:lnTo>
                    <a:lnTo>
                      <a:pt x="853" y="85"/>
                    </a:lnTo>
                    <a:lnTo>
                      <a:pt x="856" y="99"/>
                    </a:lnTo>
                    <a:lnTo>
                      <a:pt x="860" y="114"/>
                    </a:lnTo>
                    <a:lnTo>
                      <a:pt x="863" y="130"/>
                    </a:lnTo>
                    <a:lnTo>
                      <a:pt x="866" y="164"/>
                    </a:lnTo>
                    <a:lnTo>
                      <a:pt x="869" y="203"/>
                    </a:lnTo>
                    <a:lnTo>
                      <a:pt x="870" y="289"/>
                    </a:lnTo>
                    <a:lnTo>
                      <a:pt x="870" y="385"/>
                    </a:lnTo>
                    <a:lnTo>
                      <a:pt x="870" y="437"/>
                    </a:lnTo>
                    <a:lnTo>
                      <a:pt x="872" y="491"/>
                    </a:lnTo>
                    <a:lnTo>
                      <a:pt x="873" y="546"/>
                    </a:lnTo>
                    <a:lnTo>
                      <a:pt x="875" y="603"/>
                    </a:lnTo>
                    <a:lnTo>
                      <a:pt x="876" y="631"/>
                    </a:lnTo>
                    <a:lnTo>
                      <a:pt x="876" y="659"/>
                    </a:lnTo>
                    <a:lnTo>
                      <a:pt x="875" y="687"/>
                    </a:lnTo>
                    <a:lnTo>
                      <a:pt x="872" y="714"/>
                    </a:lnTo>
                    <a:lnTo>
                      <a:pt x="868" y="741"/>
                    </a:lnTo>
                    <a:lnTo>
                      <a:pt x="863" y="768"/>
                    </a:lnTo>
                    <a:lnTo>
                      <a:pt x="858" y="794"/>
                    </a:lnTo>
                    <a:lnTo>
                      <a:pt x="851" y="821"/>
                    </a:lnTo>
                    <a:lnTo>
                      <a:pt x="843" y="846"/>
                    </a:lnTo>
                    <a:lnTo>
                      <a:pt x="835" y="871"/>
                    </a:lnTo>
                    <a:lnTo>
                      <a:pt x="826" y="896"/>
                    </a:lnTo>
                    <a:lnTo>
                      <a:pt x="818" y="919"/>
                    </a:lnTo>
                    <a:lnTo>
                      <a:pt x="798" y="965"/>
                    </a:lnTo>
                    <a:lnTo>
                      <a:pt x="778" y="1007"/>
                    </a:lnTo>
                    <a:lnTo>
                      <a:pt x="757" y="1046"/>
                    </a:lnTo>
                    <a:lnTo>
                      <a:pt x="737" y="1081"/>
                    </a:lnTo>
                    <a:lnTo>
                      <a:pt x="717" y="1112"/>
                    </a:lnTo>
                    <a:lnTo>
                      <a:pt x="701" y="1138"/>
                    </a:lnTo>
                    <a:lnTo>
                      <a:pt x="675" y="1174"/>
                    </a:lnTo>
                    <a:lnTo>
                      <a:pt x="665" y="1186"/>
                    </a:lnTo>
                    <a:lnTo>
                      <a:pt x="651" y="1186"/>
                    </a:lnTo>
                    <a:lnTo>
                      <a:pt x="614" y="1186"/>
                    </a:lnTo>
                    <a:lnTo>
                      <a:pt x="559" y="1186"/>
                    </a:lnTo>
                    <a:lnTo>
                      <a:pt x="491" y="1186"/>
                    </a:lnTo>
                    <a:lnTo>
                      <a:pt x="418" y="1187"/>
                    </a:lnTo>
                    <a:lnTo>
                      <a:pt x="343" y="1187"/>
                    </a:lnTo>
                    <a:lnTo>
                      <a:pt x="274" y="1189"/>
                    </a:lnTo>
                    <a:lnTo>
                      <a:pt x="215" y="1192"/>
                    </a:lnTo>
                    <a:lnTo>
                      <a:pt x="188" y="1193"/>
                    </a:lnTo>
                    <a:lnTo>
                      <a:pt x="161" y="1196"/>
                    </a:lnTo>
                    <a:lnTo>
                      <a:pt x="134" y="1199"/>
                    </a:lnTo>
                    <a:lnTo>
                      <a:pt x="108" y="1203"/>
                    </a:lnTo>
                    <a:lnTo>
                      <a:pt x="81" y="1207"/>
                    </a:lnTo>
                    <a:lnTo>
                      <a:pt x="54" y="1211"/>
                    </a:lnTo>
                    <a:lnTo>
                      <a:pt x="27" y="1214"/>
                    </a:lnTo>
                    <a:lnTo>
                      <a:pt x="0" y="1216"/>
                    </a:lnTo>
                    <a:lnTo>
                      <a:pt x="5" y="1210"/>
                    </a:lnTo>
                    <a:lnTo>
                      <a:pt x="21" y="1192"/>
                    </a:lnTo>
                    <a:lnTo>
                      <a:pt x="47" y="1159"/>
                    </a:lnTo>
                    <a:lnTo>
                      <a:pt x="85" y="1111"/>
                    </a:lnTo>
                    <a:lnTo>
                      <a:pt x="134" y="1046"/>
                    </a:lnTo>
                    <a:lnTo>
                      <a:pt x="193" y="961"/>
                    </a:lnTo>
                    <a:lnTo>
                      <a:pt x="227" y="913"/>
                    </a:lnTo>
                    <a:lnTo>
                      <a:pt x="263" y="859"/>
                    </a:lnTo>
                    <a:lnTo>
                      <a:pt x="303" y="799"/>
                    </a:lnTo>
                    <a:lnTo>
                      <a:pt x="345" y="735"/>
                    </a:lnTo>
                    <a:close/>
                  </a:path>
                </a:pathLst>
              </a:custGeom>
              <a:solidFill>
                <a:srgbClr val="759f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6946920" y="3357720"/>
                <a:ext cx="252360" cy="352440"/>
              </a:xfrm>
              <a:custGeom>
                <a:avLst/>
                <a:gdLst/>
                <a:ahLst/>
                <a:rect l="l" t="t" r="r" b="b"/>
                <a:pathLst>
                  <a:path w="795" h="1109">
                    <a:moveTo>
                      <a:pt x="336" y="652"/>
                    </a:moveTo>
                    <a:lnTo>
                      <a:pt x="357" y="621"/>
                    </a:lnTo>
                    <a:lnTo>
                      <a:pt x="375" y="589"/>
                    </a:lnTo>
                    <a:lnTo>
                      <a:pt x="394" y="558"/>
                    </a:lnTo>
                    <a:lnTo>
                      <a:pt x="412" y="527"/>
                    </a:lnTo>
                    <a:lnTo>
                      <a:pt x="444" y="466"/>
                    </a:lnTo>
                    <a:lnTo>
                      <a:pt x="475" y="407"/>
                    </a:lnTo>
                    <a:lnTo>
                      <a:pt x="528" y="296"/>
                    </a:lnTo>
                    <a:lnTo>
                      <a:pt x="574" y="196"/>
                    </a:lnTo>
                    <a:lnTo>
                      <a:pt x="594" y="152"/>
                    </a:lnTo>
                    <a:lnTo>
                      <a:pt x="615" y="113"/>
                    </a:lnTo>
                    <a:lnTo>
                      <a:pt x="625" y="95"/>
                    </a:lnTo>
                    <a:lnTo>
                      <a:pt x="634" y="79"/>
                    </a:lnTo>
                    <a:lnTo>
                      <a:pt x="644" y="64"/>
                    </a:lnTo>
                    <a:lnTo>
                      <a:pt x="654" y="49"/>
                    </a:lnTo>
                    <a:lnTo>
                      <a:pt x="664" y="38"/>
                    </a:lnTo>
                    <a:lnTo>
                      <a:pt x="673" y="27"/>
                    </a:lnTo>
                    <a:lnTo>
                      <a:pt x="683" y="18"/>
                    </a:lnTo>
                    <a:lnTo>
                      <a:pt x="693" y="11"/>
                    </a:lnTo>
                    <a:lnTo>
                      <a:pt x="704" y="5"/>
                    </a:lnTo>
                    <a:lnTo>
                      <a:pt x="713" y="2"/>
                    </a:lnTo>
                    <a:lnTo>
                      <a:pt x="724" y="0"/>
                    </a:lnTo>
                    <a:lnTo>
                      <a:pt x="735" y="0"/>
                    </a:lnTo>
                    <a:lnTo>
                      <a:pt x="744" y="3"/>
                    </a:lnTo>
                    <a:lnTo>
                      <a:pt x="751" y="7"/>
                    </a:lnTo>
                    <a:lnTo>
                      <a:pt x="759" y="14"/>
                    </a:lnTo>
                    <a:lnTo>
                      <a:pt x="764" y="20"/>
                    </a:lnTo>
                    <a:lnTo>
                      <a:pt x="771" y="28"/>
                    </a:lnTo>
                    <a:lnTo>
                      <a:pt x="775" y="38"/>
                    </a:lnTo>
                    <a:lnTo>
                      <a:pt x="779" y="47"/>
                    </a:lnTo>
                    <a:lnTo>
                      <a:pt x="784" y="59"/>
                    </a:lnTo>
                    <a:lnTo>
                      <a:pt x="786" y="71"/>
                    </a:lnTo>
                    <a:lnTo>
                      <a:pt x="789" y="84"/>
                    </a:lnTo>
                    <a:lnTo>
                      <a:pt x="791" y="99"/>
                    </a:lnTo>
                    <a:lnTo>
                      <a:pt x="792" y="114"/>
                    </a:lnTo>
                    <a:lnTo>
                      <a:pt x="794" y="147"/>
                    </a:lnTo>
                    <a:lnTo>
                      <a:pt x="795" y="182"/>
                    </a:lnTo>
                    <a:lnTo>
                      <a:pt x="793" y="263"/>
                    </a:lnTo>
                    <a:lnTo>
                      <a:pt x="789" y="355"/>
                    </a:lnTo>
                    <a:lnTo>
                      <a:pt x="787" y="404"/>
                    </a:lnTo>
                    <a:lnTo>
                      <a:pt x="785" y="454"/>
                    </a:lnTo>
                    <a:lnTo>
                      <a:pt x="782" y="507"/>
                    </a:lnTo>
                    <a:lnTo>
                      <a:pt x="781" y="560"/>
                    </a:lnTo>
                    <a:lnTo>
                      <a:pt x="782" y="585"/>
                    </a:lnTo>
                    <a:lnTo>
                      <a:pt x="781" y="610"/>
                    </a:lnTo>
                    <a:lnTo>
                      <a:pt x="779" y="635"/>
                    </a:lnTo>
                    <a:lnTo>
                      <a:pt x="776" y="659"/>
                    </a:lnTo>
                    <a:lnTo>
                      <a:pt x="772" y="683"/>
                    </a:lnTo>
                    <a:lnTo>
                      <a:pt x="767" y="707"/>
                    </a:lnTo>
                    <a:lnTo>
                      <a:pt x="762" y="731"/>
                    </a:lnTo>
                    <a:lnTo>
                      <a:pt x="755" y="754"/>
                    </a:lnTo>
                    <a:lnTo>
                      <a:pt x="748" y="777"/>
                    </a:lnTo>
                    <a:lnTo>
                      <a:pt x="740" y="799"/>
                    </a:lnTo>
                    <a:lnTo>
                      <a:pt x="733" y="822"/>
                    </a:lnTo>
                    <a:lnTo>
                      <a:pt x="724" y="842"/>
                    </a:lnTo>
                    <a:lnTo>
                      <a:pt x="707" y="883"/>
                    </a:lnTo>
                    <a:lnTo>
                      <a:pt x="687" y="922"/>
                    </a:lnTo>
                    <a:lnTo>
                      <a:pt x="669" y="957"/>
                    </a:lnTo>
                    <a:lnTo>
                      <a:pt x="651" y="989"/>
                    </a:lnTo>
                    <a:lnTo>
                      <a:pt x="633" y="1016"/>
                    </a:lnTo>
                    <a:lnTo>
                      <a:pt x="618" y="1040"/>
                    </a:lnTo>
                    <a:lnTo>
                      <a:pt x="596" y="1073"/>
                    </a:lnTo>
                    <a:lnTo>
                      <a:pt x="587" y="1084"/>
                    </a:lnTo>
                    <a:lnTo>
                      <a:pt x="575" y="1084"/>
                    </a:lnTo>
                    <a:lnTo>
                      <a:pt x="543" y="1084"/>
                    </a:lnTo>
                    <a:lnTo>
                      <a:pt x="495" y="1084"/>
                    </a:lnTo>
                    <a:lnTo>
                      <a:pt x="436" y="1083"/>
                    </a:lnTo>
                    <a:lnTo>
                      <a:pt x="370" y="1084"/>
                    </a:lnTo>
                    <a:lnTo>
                      <a:pt x="303" y="1084"/>
                    </a:lnTo>
                    <a:lnTo>
                      <a:pt x="238" y="1086"/>
                    </a:lnTo>
                    <a:lnTo>
                      <a:pt x="181" y="1090"/>
                    </a:lnTo>
                    <a:lnTo>
                      <a:pt x="156" y="1091"/>
                    </a:lnTo>
                    <a:lnTo>
                      <a:pt x="132" y="1093"/>
                    </a:lnTo>
                    <a:lnTo>
                      <a:pt x="109" y="1096"/>
                    </a:lnTo>
                    <a:lnTo>
                      <a:pt x="87" y="1098"/>
                    </a:lnTo>
                    <a:lnTo>
                      <a:pt x="65" y="1101"/>
                    </a:lnTo>
                    <a:lnTo>
                      <a:pt x="44" y="1105"/>
                    </a:lnTo>
                    <a:lnTo>
                      <a:pt x="22" y="1107"/>
                    </a:lnTo>
                    <a:lnTo>
                      <a:pt x="0" y="1109"/>
                    </a:lnTo>
                    <a:lnTo>
                      <a:pt x="6" y="1104"/>
                    </a:lnTo>
                    <a:lnTo>
                      <a:pt x="23" y="1085"/>
                    </a:lnTo>
                    <a:lnTo>
                      <a:pt x="51" y="1053"/>
                    </a:lnTo>
                    <a:lnTo>
                      <a:pt x="89" y="1006"/>
                    </a:lnTo>
                    <a:lnTo>
                      <a:pt x="112" y="977"/>
                    </a:lnTo>
                    <a:lnTo>
                      <a:pt x="136" y="945"/>
                    </a:lnTo>
                    <a:lnTo>
                      <a:pt x="165" y="907"/>
                    </a:lnTo>
                    <a:lnTo>
                      <a:pt x="195" y="865"/>
                    </a:lnTo>
                    <a:lnTo>
                      <a:pt x="227" y="820"/>
                    </a:lnTo>
                    <a:lnTo>
                      <a:pt x="261" y="768"/>
                    </a:lnTo>
                    <a:lnTo>
                      <a:pt x="297" y="713"/>
                    </a:lnTo>
                    <a:lnTo>
                      <a:pt x="336" y="652"/>
                    </a:lnTo>
                    <a:close/>
                  </a:path>
                </a:pathLst>
              </a:custGeom>
              <a:solidFill>
                <a:srgbClr val="759e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6958080" y="3389400"/>
                <a:ext cx="228600" cy="318960"/>
              </a:xfrm>
              <a:custGeom>
                <a:avLst/>
                <a:gdLst/>
                <a:ahLst/>
                <a:rect l="l" t="t" r="r" b="b"/>
                <a:pathLst>
                  <a:path w="721" h="1004">
                    <a:moveTo>
                      <a:pt x="327" y="571"/>
                    </a:moveTo>
                    <a:lnTo>
                      <a:pt x="362" y="513"/>
                    </a:lnTo>
                    <a:lnTo>
                      <a:pt x="393" y="458"/>
                    </a:lnTo>
                    <a:lnTo>
                      <a:pt x="422" y="404"/>
                    </a:lnTo>
                    <a:lnTo>
                      <a:pt x="448" y="353"/>
                    </a:lnTo>
                    <a:lnTo>
                      <a:pt x="495" y="257"/>
                    </a:lnTo>
                    <a:lnTo>
                      <a:pt x="535" y="174"/>
                    </a:lnTo>
                    <a:lnTo>
                      <a:pt x="553" y="137"/>
                    </a:lnTo>
                    <a:lnTo>
                      <a:pt x="570" y="104"/>
                    </a:lnTo>
                    <a:lnTo>
                      <a:pt x="579" y="90"/>
                    </a:lnTo>
                    <a:lnTo>
                      <a:pt x="588" y="76"/>
                    </a:lnTo>
                    <a:lnTo>
                      <a:pt x="596" y="63"/>
                    </a:lnTo>
                    <a:lnTo>
                      <a:pt x="605" y="51"/>
                    </a:lnTo>
                    <a:lnTo>
                      <a:pt x="614" y="40"/>
                    </a:lnTo>
                    <a:lnTo>
                      <a:pt x="622" y="31"/>
                    </a:lnTo>
                    <a:lnTo>
                      <a:pt x="631" y="22"/>
                    </a:lnTo>
                    <a:lnTo>
                      <a:pt x="640" y="15"/>
                    </a:lnTo>
                    <a:lnTo>
                      <a:pt x="649" y="9"/>
                    </a:lnTo>
                    <a:lnTo>
                      <a:pt x="658" y="5"/>
                    </a:lnTo>
                    <a:lnTo>
                      <a:pt x="668" y="1"/>
                    </a:lnTo>
                    <a:lnTo>
                      <a:pt x="678" y="0"/>
                    </a:lnTo>
                    <a:lnTo>
                      <a:pt x="685" y="1"/>
                    </a:lnTo>
                    <a:lnTo>
                      <a:pt x="691" y="5"/>
                    </a:lnTo>
                    <a:lnTo>
                      <a:pt x="697" y="10"/>
                    </a:lnTo>
                    <a:lnTo>
                      <a:pt x="702" y="15"/>
                    </a:lnTo>
                    <a:lnTo>
                      <a:pt x="707" y="22"/>
                    </a:lnTo>
                    <a:lnTo>
                      <a:pt x="710" y="31"/>
                    </a:lnTo>
                    <a:lnTo>
                      <a:pt x="713" y="39"/>
                    </a:lnTo>
                    <a:lnTo>
                      <a:pt x="715" y="49"/>
                    </a:lnTo>
                    <a:lnTo>
                      <a:pt x="717" y="61"/>
                    </a:lnTo>
                    <a:lnTo>
                      <a:pt x="718" y="73"/>
                    </a:lnTo>
                    <a:lnTo>
                      <a:pt x="720" y="86"/>
                    </a:lnTo>
                    <a:lnTo>
                      <a:pt x="721" y="100"/>
                    </a:lnTo>
                    <a:lnTo>
                      <a:pt x="721" y="130"/>
                    </a:lnTo>
                    <a:lnTo>
                      <a:pt x="720" y="163"/>
                    </a:lnTo>
                    <a:lnTo>
                      <a:pt x="713" y="240"/>
                    </a:lnTo>
                    <a:lnTo>
                      <a:pt x="704" y="325"/>
                    </a:lnTo>
                    <a:lnTo>
                      <a:pt x="696" y="418"/>
                    </a:lnTo>
                    <a:lnTo>
                      <a:pt x="688" y="517"/>
                    </a:lnTo>
                    <a:lnTo>
                      <a:pt x="687" y="538"/>
                    </a:lnTo>
                    <a:lnTo>
                      <a:pt x="685" y="560"/>
                    </a:lnTo>
                    <a:lnTo>
                      <a:pt x="682" y="581"/>
                    </a:lnTo>
                    <a:lnTo>
                      <a:pt x="678" y="603"/>
                    </a:lnTo>
                    <a:lnTo>
                      <a:pt x="674" y="623"/>
                    </a:lnTo>
                    <a:lnTo>
                      <a:pt x="669" y="645"/>
                    </a:lnTo>
                    <a:lnTo>
                      <a:pt x="663" y="666"/>
                    </a:lnTo>
                    <a:lnTo>
                      <a:pt x="657" y="686"/>
                    </a:lnTo>
                    <a:lnTo>
                      <a:pt x="643" y="727"/>
                    </a:lnTo>
                    <a:lnTo>
                      <a:pt x="628" y="765"/>
                    </a:lnTo>
                    <a:lnTo>
                      <a:pt x="612" y="802"/>
                    </a:lnTo>
                    <a:lnTo>
                      <a:pt x="594" y="836"/>
                    </a:lnTo>
                    <a:lnTo>
                      <a:pt x="578" y="868"/>
                    </a:lnTo>
                    <a:lnTo>
                      <a:pt x="562" y="897"/>
                    </a:lnTo>
                    <a:lnTo>
                      <a:pt x="547" y="922"/>
                    </a:lnTo>
                    <a:lnTo>
                      <a:pt x="533" y="943"/>
                    </a:lnTo>
                    <a:lnTo>
                      <a:pt x="512" y="973"/>
                    </a:lnTo>
                    <a:lnTo>
                      <a:pt x="505" y="983"/>
                    </a:lnTo>
                    <a:lnTo>
                      <a:pt x="495" y="983"/>
                    </a:lnTo>
                    <a:lnTo>
                      <a:pt x="468" y="983"/>
                    </a:lnTo>
                    <a:lnTo>
                      <a:pt x="427" y="983"/>
                    </a:lnTo>
                    <a:lnTo>
                      <a:pt x="376" y="982"/>
                    </a:lnTo>
                    <a:lnTo>
                      <a:pt x="319" y="983"/>
                    </a:lnTo>
                    <a:lnTo>
                      <a:pt x="258" y="983"/>
                    </a:lnTo>
                    <a:lnTo>
                      <a:pt x="199" y="985"/>
                    </a:lnTo>
                    <a:lnTo>
                      <a:pt x="144" y="989"/>
                    </a:lnTo>
                    <a:lnTo>
                      <a:pt x="123" y="990"/>
                    </a:lnTo>
                    <a:lnTo>
                      <a:pt x="103" y="992"/>
                    </a:lnTo>
                    <a:lnTo>
                      <a:pt x="84" y="994"/>
                    </a:lnTo>
                    <a:lnTo>
                      <a:pt x="66" y="996"/>
                    </a:lnTo>
                    <a:lnTo>
                      <a:pt x="49" y="998"/>
                    </a:lnTo>
                    <a:lnTo>
                      <a:pt x="31" y="1000"/>
                    </a:lnTo>
                    <a:lnTo>
                      <a:pt x="15" y="1003"/>
                    </a:lnTo>
                    <a:lnTo>
                      <a:pt x="0" y="1004"/>
                    </a:lnTo>
                    <a:lnTo>
                      <a:pt x="7" y="997"/>
                    </a:lnTo>
                    <a:lnTo>
                      <a:pt x="25" y="979"/>
                    </a:lnTo>
                    <a:lnTo>
                      <a:pt x="53" y="947"/>
                    </a:lnTo>
                    <a:lnTo>
                      <a:pt x="92" y="903"/>
                    </a:lnTo>
                    <a:lnTo>
                      <a:pt x="114" y="875"/>
                    </a:lnTo>
                    <a:lnTo>
                      <a:pt x="138" y="844"/>
                    </a:lnTo>
                    <a:lnTo>
                      <a:pt x="165" y="808"/>
                    </a:lnTo>
                    <a:lnTo>
                      <a:pt x="195" y="769"/>
                    </a:lnTo>
                    <a:lnTo>
                      <a:pt x="225" y="725"/>
                    </a:lnTo>
                    <a:lnTo>
                      <a:pt x="257" y="679"/>
                    </a:lnTo>
                    <a:lnTo>
                      <a:pt x="292" y="627"/>
                    </a:lnTo>
                    <a:lnTo>
                      <a:pt x="327" y="571"/>
                    </a:lnTo>
                    <a:close/>
                  </a:path>
                </a:pathLst>
              </a:custGeom>
              <a:solidFill>
                <a:srgbClr val="7199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6969240" y="3421080"/>
                <a:ext cx="206280" cy="284040"/>
              </a:xfrm>
              <a:custGeom>
                <a:avLst/>
                <a:gdLst/>
                <a:ahLst/>
                <a:rect l="l" t="t" r="r" b="b"/>
                <a:pathLst>
                  <a:path w="650" h="897">
                    <a:moveTo>
                      <a:pt x="316" y="494"/>
                    </a:moveTo>
                    <a:lnTo>
                      <a:pt x="347" y="441"/>
                    </a:lnTo>
                    <a:lnTo>
                      <a:pt x="376" y="392"/>
                    </a:lnTo>
                    <a:lnTo>
                      <a:pt x="402" y="345"/>
                    </a:lnTo>
                    <a:lnTo>
                      <a:pt x="424" y="301"/>
                    </a:lnTo>
                    <a:lnTo>
                      <a:pt x="464" y="221"/>
                    </a:lnTo>
                    <a:lnTo>
                      <a:pt x="498" y="152"/>
                    </a:lnTo>
                    <a:lnTo>
                      <a:pt x="513" y="123"/>
                    </a:lnTo>
                    <a:lnTo>
                      <a:pt x="527" y="96"/>
                    </a:lnTo>
                    <a:lnTo>
                      <a:pt x="542" y="72"/>
                    </a:lnTo>
                    <a:lnTo>
                      <a:pt x="556" y="51"/>
                    </a:lnTo>
                    <a:lnTo>
                      <a:pt x="564" y="42"/>
                    </a:lnTo>
                    <a:lnTo>
                      <a:pt x="571" y="33"/>
                    </a:lnTo>
                    <a:lnTo>
                      <a:pt x="579" y="26"/>
                    </a:lnTo>
                    <a:lnTo>
                      <a:pt x="586" y="19"/>
                    </a:lnTo>
                    <a:lnTo>
                      <a:pt x="595" y="13"/>
                    </a:lnTo>
                    <a:lnTo>
                      <a:pt x="602" y="8"/>
                    </a:lnTo>
                    <a:lnTo>
                      <a:pt x="612" y="3"/>
                    </a:lnTo>
                    <a:lnTo>
                      <a:pt x="621" y="0"/>
                    </a:lnTo>
                    <a:lnTo>
                      <a:pt x="626" y="1"/>
                    </a:lnTo>
                    <a:lnTo>
                      <a:pt x="632" y="3"/>
                    </a:lnTo>
                    <a:lnTo>
                      <a:pt x="636" y="6"/>
                    </a:lnTo>
                    <a:lnTo>
                      <a:pt x="639" y="10"/>
                    </a:lnTo>
                    <a:lnTo>
                      <a:pt x="642" y="17"/>
                    </a:lnTo>
                    <a:lnTo>
                      <a:pt x="646" y="23"/>
                    </a:lnTo>
                    <a:lnTo>
                      <a:pt x="648" y="32"/>
                    </a:lnTo>
                    <a:lnTo>
                      <a:pt x="649" y="41"/>
                    </a:lnTo>
                    <a:lnTo>
                      <a:pt x="650" y="62"/>
                    </a:lnTo>
                    <a:lnTo>
                      <a:pt x="650" y="87"/>
                    </a:lnTo>
                    <a:lnTo>
                      <a:pt x="649" y="115"/>
                    </a:lnTo>
                    <a:lnTo>
                      <a:pt x="646" y="148"/>
                    </a:lnTo>
                    <a:lnTo>
                      <a:pt x="636" y="219"/>
                    </a:lnTo>
                    <a:lnTo>
                      <a:pt x="623" y="299"/>
                    </a:lnTo>
                    <a:lnTo>
                      <a:pt x="610" y="384"/>
                    </a:lnTo>
                    <a:lnTo>
                      <a:pt x="596" y="475"/>
                    </a:lnTo>
                    <a:lnTo>
                      <a:pt x="594" y="493"/>
                    </a:lnTo>
                    <a:lnTo>
                      <a:pt x="592" y="512"/>
                    </a:lnTo>
                    <a:lnTo>
                      <a:pt x="587" y="530"/>
                    </a:lnTo>
                    <a:lnTo>
                      <a:pt x="584" y="548"/>
                    </a:lnTo>
                    <a:lnTo>
                      <a:pt x="573" y="585"/>
                    </a:lnTo>
                    <a:lnTo>
                      <a:pt x="562" y="621"/>
                    </a:lnTo>
                    <a:lnTo>
                      <a:pt x="548" y="656"/>
                    </a:lnTo>
                    <a:lnTo>
                      <a:pt x="534" y="690"/>
                    </a:lnTo>
                    <a:lnTo>
                      <a:pt x="519" y="722"/>
                    </a:lnTo>
                    <a:lnTo>
                      <a:pt x="504" y="752"/>
                    </a:lnTo>
                    <a:lnTo>
                      <a:pt x="489" y="780"/>
                    </a:lnTo>
                    <a:lnTo>
                      <a:pt x="475" y="806"/>
                    </a:lnTo>
                    <a:lnTo>
                      <a:pt x="461" y="829"/>
                    </a:lnTo>
                    <a:lnTo>
                      <a:pt x="450" y="848"/>
                    </a:lnTo>
                    <a:lnTo>
                      <a:pt x="432" y="875"/>
                    </a:lnTo>
                    <a:lnTo>
                      <a:pt x="425" y="884"/>
                    </a:lnTo>
                    <a:lnTo>
                      <a:pt x="418" y="884"/>
                    </a:lnTo>
                    <a:lnTo>
                      <a:pt x="395" y="884"/>
                    </a:lnTo>
                    <a:lnTo>
                      <a:pt x="362" y="883"/>
                    </a:lnTo>
                    <a:lnTo>
                      <a:pt x="319" y="882"/>
                    </a:lnTo>
                    <a:lnTo>
                      <a:pt x="270" y="883"/>
                    </a:lnTo>
                    <a:lnTo>
                      <a:pt x="217" y="884"/>
                    </a:lnTo>
                    <a:lnTo>
                      <a:pt x="163" y="886"/>
                    </a:lnTo>
                    <a:lnTo>
                      <a:pt x="109" y="890"/>
                    </a:lnTo>
                    <a:lnTo>
                      <a:pt x="91" y="891"/>
                    </a:lnTo>
                    <a:lnTo>
                      <a:pt x="75" y="892"/>
                    </a:lnTo>
                    <a:lnTo>
                      <a:pt x="60" y="893"/>
                    </a:lnTo>
                    <a:lnTo>
                      <a:pt x="45" y="894"/>
                    </a:lnTo>
                    <a:lnTo>
                      <a:pt x="32" y="895"/>
                    </a:lnTo>
                    <a:lnTo>
                      <a:pt x="20" y="896"/>
                    </a:lnTo>
                    <a:lnTo>
                      <a:pt x="9" y="897"/>
                    </a:lnTo>
                    <a:lnTo>
                      <a:pt x="0" y="897"/>
                    </a:lnTo>
                    <a:lnTo>
                      <a:pt x="7" y="891"/>
                    </a:lnTo>
                    <a:lnTo>
                      <a:pt x="26" y="873"/>
                    </a:lnTo>
                    <a:lnTo>
                      <a:pt x="55" y="843"/>
                    </a:lnTo>
                    <a:lnTo>
                      <a:pt x="95" y="800"/>
                    </a:lnTo>
                    <a:lnTo>
                      <a:pt x="117" y="774"/>
                    </a:lnTo>
                    <a:lnTo>
                      <a:pt x="141" y="745"/>
                    </a:lnTo>
                    <a:lnTo>
                      <a:pt x="167" y="711"/>
                    </a:lnTo>
                    <a:lnTo>
                      <a:pt x="195" y="675"/>
                    </a:lnTo>
                    <a:lnTo>
                      <a:pt x="224" y="635"/>
                    </a:lnTo>
                    <a:lnTo>
                      <a:pt x="254" y="591"/>
                    </a:lnTo>
                    <a:lnTo>
                      <a:pt x="285" y="545"/>
                    </a:lnTo>
                    <a:lnTo>
                      <a:pt x="316" y="494"/>
                    </a:lnTo>
                    <a:close/>
                  </a:path>
                </a:pathLst>
              </a:custGeom>
              <a:solidFill>
                <a:srgbClr val="6f9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6980040" y="3452760"/>
                <a:ext cx="184320" cy="252360"/>
              </a:xfrm>
              <a:custGeom>
                <a:avLst/>
                <a:gdLst/>
                <a:ahLst/>
                <a:rect l="l" t="t" r="r" b="b"/>
                <a:pathLst>
                  <a:path w="582" h="793">
                    <a:moveTo>
                      <a:pt x="310" y="414"/>
                    </a:moveTo>
                    <a:lnTo>
                      <a:pt x="337" y="367"/>
                    </a:lnTo>
                    <a:lnTo>
                      <a:pt x="362" y="324"/>
                    </a:lnTo>
                    <a:lnTo>
                      <a:pt x="384" y="284"/>
                    </a:lnTo>
                    <a:lnTo>
                      <a:pt x="403" y="247"/>
                    </a:lnTo>
                    <a:lnTo>
                      <a:pt x="437" y="184"/>
                    </a:lnTo>
                    <a:lnTo>
                      <a:pt x="464" y="132"/>
                    </a:lnTo>
                    <a:lnTo>
                      <a:pt x="476" y="109"/>
                    </a:lnTo>
                    <a:lnTo>
                      <a:pt x="487" y="89"/>
                    </a:lnTo>
                    <a:lnTo>
                      <a:pt x="499" y="70"/>
                    </a:lnTo>
                    <a:lnTo>
                      <a:pt x="511" y="53"/>
                    </a:lnTo>
                    <a:lnTo>
                      <a:pt x="523" y="38"/>
                    </a:lnTo>
                    <a:lnTo>
                      <a:pt x="537" y="25"/>
                    </a:lnTo>
                    <a:lnTo>
                      <a:pt x="551" y="12"/>
                    </a:lnTo>
                    <a:lnTo>
                      <a:pt x="567" y="1"/>
                    </a:lnTo>
                    <a:lnTo>
                      <a:pt x="571" y="0"/>
                    </a:lnTo>
                    <a:lnTo>
                      <a:pt x="574" y="1"/>
                    </a:lnTo>
                    <a:lnTo>
                      <a:pt x="577" y="3"/>
                    </a:lnTo>
                    <a:lnTo>
                      <a:pt x="579" y="7"/>
                    </a:lnTo>
                    <a:lnTo>
                      <a:pt x="580" y="12"/>
                    </a:lnTo>
                    <a:lnTo>
                      <a:pt x="582" y="17"/>
                    </a:lnTo>
                    <a:lnTo>
                      <a:pt x="582" y="24"/>
                    </a:lnTo>
                    <a:lnTo>
                      <a:pt x="582" y="32"/>
                    </a:lnTo>
                    <a:lnTo>
                      <a:pt x="582" y="51"/>
                    </a:lnTo>
                    <a:lnTo>
                      <a:pt x="580" y="73"/>
                    </a:lnTo>
                    <a:lnTo>
                      <a:pt x="576" y="99"/>
                    </a:lnTo>
                    <a:lnTo>
                      <a:pt x="572" y="129"/>
                    </a:lnTo>
                    <a:lnTo>
                      <a:pt x="558" y="196"/>
                    </a:lnTo>
                    <a:lnTo>
                      <a:pt x="541" y="269"/>
                    </a:lnTo>
                    <a:lnTo>
                      <a:pt x="524" y="349"/>
                    </a:lnTo>
                    <a:lnTo>
                      <a:pt x="505" y="431"/>
                    </a:lnTo>
                    <a:lnTo>
                      <a:pt x="498" y="461"/>
                    </a:lnTo>
                    <a:lnTo>
                      <a:pt x="490" y="493"/>
                    </a:lnTo>
                    <a:lnTo>
                      <a:pt x="480" y="524"/>
                    </a:lnTo>
                    <a:lnTo>
                      <a:pt x="468" y="554"/>
                    </a:lnTo>
                    <a:lnTo>
                      <a:pt x="455" y="584"/>
                    </a:lnTo>
                    <a:lnTo>
                      <a:pt x="442" y="613"/>
                    </a:lnTo>
                    <a:lnTo>
                      <a:pt x="428" y="642"/>
                    </a:lnTo>
                    <a:lnTo>
                      <a:pt x="415" y="669"/>
                    </a:lnTo>
                    <a:lnTo>
                      <a:pt x="389" y="715"/>
                    </a:lnTo>
                    <a:lnTo>
                      <a:pt x="368" y="752"/>
                    </a:lnTo>
                    <a:lnTo>
                      <a:pt x="352" y="777"/>
                    </a:lnTo>
                    <a:lnTo>
                      <a:pt x="347" y="784"/>
                    </a:lnTo>
                    <a:lnTo>
                      <a:pt x="341" y="784"/>
                    </a:lnTo>
                    <a:lnTo>
                      <a:pt x="324" y="783"/>
                    </a:lnTo>
                    <a:lnTo>
                      <a:pt x="297" y="782"/>
                    </a:lnTo>
                    <a:lnTo>
                      <a:pt x="263" y="782"/>
                    </a:lnTo>
                    <a:lnTo>
                      <a:pt x="222" y="782"/>
                    </a:lnTo>
                    <a:lnTo>
                      <a:pt x="176" y="783"/>
                    </a:lnTo>
                    <a:lnTo>
                      <a:pt x="127" y="785"/>
                    </a:lnTo>
                    <a:lnTo>
                      <a:pt x="75" y="790"/>
                    </a:lnTo>
                    <a:lnTo>
                      <a:pt x="62" y="791"/>
                    </a:lnTo>
                    <a:lnTo>
                      <a:pt x="49" y="792"/>
                    </a:lnTo>
                    <a:lnTo>
                      <a:pt x="37" y="792"/>
                    </a:lnTo>
                    <a:lnTo>
                      <a:pt x="27" y="793"/>
                    </a:lnTo>
                    <a:lnTo>
                      <a:pt x="18" y="793"/>
                    </a:lnTo>
                    <a:lnTo>
                      <a:pt x="10" y="793"/>
                    </a:lnTo>
                    <a:lnTo>
                      <a:pt x="5" y="793"/>
                    </a:lnTo>
                    <a:lnTo>
                      <a:pt x="0" y="792"/>
                    </a:lnTo>
                    <a:lnTo>
                      <a:pt x="8" y="786"/>
                    </a:lnTo>
                    <a:lnTo>
                      <a:pt x="28" y="768"/>
                    </a:lnTo>
                    <a:lnTo>
                      <a:pt x="59" y="739"/>
                    </a:lnTo>
                    <a:lnTo>
                      <a:pt x="99" y="698"/>
                    </a:lnTo>
                    <a:lnTo>
                      <a:pt x="121" y="673"/>
                    </a:lnTo>
                    <a:lnTo>
                      <a:pt x="146" y="645"/>
                    </a:lnTo>
                    <a:lnTo>
                      <a:pt x="171" y="613"/>
                    </a:lnTo>
                    <a:lnTo>
                      <a:pt x="198" y="579"/>
                    </a:lnTo>
                    <a:lnTo>
                      <a:pt x="225" y="542"/>
                    </a:lnTo>
                    <a:lnTo>
                      <a:pt x="253" y="502"/>
                    </a:lnTo>
                    <a:lnTo>
                      <a:pt x="281" y="460"/>
                    </a:lnTo>
                    <a:lnTo>
                      <a:pt x="310" y="414"/>
                    </a:lnTo>
                    <a:close/>
                  </a:path>
                </a:pathLst>
              </a:custGeom>
              <a:solidFill>
                <a:srgbClr val="6f96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6989760" y="3484800"/>
                <a:ext cx="165240" cy="218880"/>
              </a:xfrm>
              <a:custGeom>
                <a:avLst/>
                <a:gdLst/>
                <a:ahLst/>
                <a:rect l="l" t="t" r="r" b="b"/>
                <a:pathLst>
                  <a:path w="520" h="693">
                    <a:moveTo>
                      <a:pt x="270" y="686"/>
                    </a:moveTo>
                    <a:lnTo>
                      <a:pt x="265" y="686"/>
                    </a:lnTo>
                    <a:lnTo>
                      <a:pt x="253" y="685"/>
                    </a:lnTo>
                    <a:lnTo>
                      <a:pt x="234" y="684"/>
                    </a:lnTo>
                    <a:lnTo>
                      <a:pt x="207" y="683"/>
                    </a:lnTo>
                    <a:lnTo>
                      <a:pt x="175" y="683"/>
                    </a:lnTo>
                    <a:lnTo>
                      <a:pt x="136" y="684"/>
                    </a:lnTo>
                    <a:lnTo>
                      <a:pt x="91" y="686"/>
                    </a:lnTo>
                    <a:lnTo>
                      <a:pt x="42" y="692"/>
                    </a:lnTo>
                    <a:lnTo>
                      <a:pt x="31" y="693"/>
                    </a:lnTo>
                    <a:lnTo>
                      <a:pt x="22" y="693"/>
                    </a:lnTo>
                    <a:lnTo>
                      <a:pt x="14" y="693"/>
                    </a:lnTo>
                    <a:lnTo>
                      <a:pt x="7" y="693"/>
                    </a:lnTo>
                    <a:lnTo>
                      <a:pt x="3" y="692"/>
                    </a:lnTo>
                    <a:lnTo>
                      <a:pt x="1" y="690"/>
                    </a:lnTo>
                    <a:lnTo>
                      <a:pt x="0" y="690"/>
                    </a:lnTo>
                    <a:lnTo>
                      <a:pt x="3" y="689"/>
                    </a:lnTo>
                    <a:lnTo>
                      <a:pt x="9" y="683"/>
                    </a:lnTo>
                    <a:lnTo>
                      <a:pt x="31" y="666"/>
                    </a:lnTo>
                    <a:lnTo>
                      <a:pt x="62" y="638"/>
                    </a:lnTo>
                    <a:lnTo>
                      <a:pt x="103" y="598"/>
                    </a:lnTo>
                    <a:lnTo>
                      <a:pt x="125" y="574"/>
                    </a:lnTo>
                    <a:lnTo>
                      <a:pt x="150" y="548"/>
                    </a:lnTo>
                    <a:lnTo>
                      <a:pt x="174" y="519"/>
                    </a:lnTo>
                    <a:lnTo>
                      <a:pt x="199" y="486"/>
                    </a:lnTo>
                    <a:lnTo>
                      <a:pt x="225" y="453"/>
                    </a:lnTo>
                    <a:lnTo>
                      <a:pt x="251" y="416"/>
                    </a:lnTo>
                    <a:lnTo>
                      <a:pt x="276" y="377"/>
                    </a:lnTo>
                    <a:lnTo>
                      <a:pt x="301" y="335"/>
                    </a:lnTo>
                    <a:lnTo>
                      <a:pt x="346" y="258"/>
                    </a:lnTo>
                    <a:lnTo>
                      <a:pt x="381" y="197"/>
                    </a:lnTo>
                    <a:lnTo>
                      <a:pt x="407" y="149"/>
                    </a:lnTo>
                    <a:lnTo>
                      <a:pt x="428" y="113"/>
                    </a:lnTo>
                    <a:lnTo>
                      <a:pt x="438" y="96"/>
                    </a:lnTo>
                    <a:lnTo>
                      <a:pt x="447" y="82"/>
                    </a:lnTo>
                    <a:lnTo>
                      <a:pt x="457" y="68"/>
                    </a:lnTo>
                    <a:lnTo>
                      <a:pt x="465" y="55"/>
                    </a:lnTo>
                    <a:lnTo>
                      <a:pt x="476" y="44"/>
                    </a:lnTo>
                    <a:lnTo>
                      <a:pt x="487" y="31"/>
                    </a:lnTo>
                    <a:lnTo>
                      <a:pt x="500" y="17"/>
                    </a:lnTo>
                    <a:lnTo>
                      <a:pt x="514" y="1"/>
                    </a:lnTo>
                    <a:lnTo>
                      <a:pt x="516" y="0"/>
                    </a:lnTo>
                    <a:lnTo>
                      <a:pt x="518" y="0"/>
                    </a:lnTo>
                    <a:lnTo>
                      <a:pt x="519" y="1"/>
                    </a:lnTo>
                    <a:lnTo>
                      <a:pt x="520" y="4"/>
                    </a:lnTo>
                    <a:lnTo>
                      <a:pt x="520" y="12"/>
                    </a:lnTo>
                    <a:lnTo>
                      <a:pt x="519" y="25"/>
                    </a:lnTo>
                    <a:lnTo>
                      <a:pt x="517" y="41"/>
                    </a:lnTo>
                    <a:lnTo>
                      <a:pt x="513" y="63"/>
                    </a:lnTo>
                    <a:lnTo>
                      <a:pt x="506" y="87"/>
                    </a:lnTo>
                    <a:lnTo>
                      <a:pt x="500" y="114"/>
                    </a:lnTo>
                    <a:lnTo>
                      <a:pt x="483" y="175"/>
                    </a:lnTo>
                    <a:lnTo>
                      <a:pt x="462" y="244"/>
                    </a:lnTo>
                    <a:lnTo>
                      <a:pt x="438" y="318"/>
                    </a:lnTo>
                    <a:lnTo>
                      <a:pt x="412" y="392"/>
                    </a:lnTo>
                    <a:lnTo>
                      <a:pt x="405" y="416"/>
                    </a:lnTo>
                    <a:lnTo>
                      <a:pt x="395" y="441"/>
                    </a:lnTo>
                    <a:lnTo>
                      <a:pt x="384" y="466"/>
                    </a:lnTo>
                    <a:lnTo>
                      <a:pt x="372" y="491"/>
                    </a:lnTo>
                    <a:lnTo>
                      <a:pt x="349" y="540"/>
                    </a:lnTo>
                    <a:lnTo>
                      <a:pt x="325" y="586"/>
                    </a:lnTo>
                    <a:lnTo>
                      <a:pt x="303" y="626"/>
                    </a:lnTo>
                    <a:lnTo>
                      <a:pt x="286" y="658"/>
                    </a:lnTo>
                    <a:lnTo>
                      <a:pt x="274" y="679"/>
                    </a:lnTo>
                    <a:lnTo>
                      <a:pt x="270" y="686"/>
                    </a:lnTo>
                    <a:close/>
                  </a:path>
                </a:pathLst>
              </a:custGeom>
              <a:solidFill>
                <a:srgbClr val="6d93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6197400" y="3919680"/>
                <a:ext cx="11160" cy="19080"/>
              </a:xfrm>
              <a:custGeom>
                <a:avLst/>
                <a:gdLst/>
                <a:ahLst/>
                <a:rect l="l" t="t" r="r" b="b"/>
                <a:pathLst>
                  <a:path w="32" h="59">
                    <a:moveTo>
                      <a:pt x="28" y="0"/>
                    </a:moveTo>
                    <a:lnTo>
                      <a:pt x="22" y="1"/>
                    </a:lnTo>
                    <a:lnTo>
                      <a:pt x="15" y="3"/>
                    </a:lnTo>
                    <a:lnTo>
                      <a:pt x="11" y="6"/>
                    </a:lnTo>
                    <a:lnTo>
                      <a:pt x="7" y="11"/>
                    </a:lnTo>
                    <a:lnTo>
                      <a:pt x="4" y="15"/>
                    </a:lnTo>
                    <a:lnTo>
                      <a:pt x="1" y="20"/>
                    </a:lnTo>
                    <a:lnTo>
                      <a:pt x="0" y="26"/>
                    </a:lnTo>
                    <a:lnTo>
                      <a:pt x="0" y="31"/>
                    </a:lnTo>
                    <a:lnTo>
                      <a:pt x="1" y="37"/>
                    </a:lnTo>
                    <a:lnTo>
                      <a:pt x="2" y="42"/>
                    </a:lnTo>
                    <a:lnTo>
                      <a:pt x="5" y="47"/>
                    </a:lnTo>
                    <a:lnTo>
                      <a:pt x="9" y="52"/>
                    </a:lnTo>
                    <a:lnTo>
                      <a:pt x="13" y="55"/>
                    </a:lnTo>
                    <a:lnTo>
                      <a:pt x="18" y="58"/>
                    </a:lnTo>
                    <a:lnTo>
                      <a:pt x="24" y="59"/>
                    </a:lnTo>
                    <a:lnTo>
                      <a:pt x="32" y="59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8c8b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6207120" y="3873600"/>
                <a:ext cx="1049400" cy="65160"/>
              </a:xfrm>
              <a:custGeom>
                <a:avLst/>
                <a:gdLst/>
                <a:ahLst/>
                <a:rect l="l" t="t" r="r" b="b"/>
                <a:pathLst>
                  <a:path w="3304" h="202">
                    <a:moveTo>
                      <a:pt x="3302" y="0"/>
                    </a:moveTo>
                    <a:lnTo>
                      <a:pt x="0" y="143"/>
                    </a:lnTo>
                    <a:lnTo>
                      <a:pt x="4" y="202"/>
                    </a:lnTo>
                    <a:lnTo>
                      <a:pt x="3304" y="60"/>
                    </a:lnTo>
                    <a:lnTo>
                      <a:pt x="3302" y="0"/>
                    </a:lnTo>
                    <a:close/>
                  </a:path>
                </a:pathLst>
              </a:custGeom>
              <a:solidFill>
                <a:srgbClr val="8c8b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7254720" y="3873600"/>
                <a:ext cx="9720" cy="19080"/>
              </a:xfrm>
              <a:custGeom>
                <a:avLst/>
                <a:gdLst/>
                <a:ahLst/>
                <a:rect l="l" t="t" r="r" b="b"/>
                <a:pathLst>
                  <a:path w="30" h="60">
                    <a:moveTo>
                      <a:pt x="2" y="60"/>
                    </a:moveTo>
                    <a:lnTo>
                      <a:pt x="8" y="59"/>
                    </a:lnTo>
                    <a:lnTo>
                      <a:pt x="15" y="56"/>
                    </a:lnTo>
                    <a:lnTo>
                      <a:pt x="19" y="53"/>
                    </a:lnTo>
                    <a:lnTo>
                      <a:pt x="23" y="49"/>
                    </a:lnTo>
                    <a:lnTo>
                      <a:pt x="27" y="45"/>
                    </a:lnTo>
                    <a:lnTo>
                      <a:pt x="29" y="39"/>
                    </a:lnTo>
                    <a:lnTo>
                      <a:pt x="30" y="34"/>
                    </a:lnTo>
                    <a:lnTo>
                      <a:pt x="30" y="28"/>
                    </a:lnTo>
                    <a:lnTo>
                      <a:pt x="30" y="23"/>
                    </a:lnTo>
                    <a:lnTo>
                      <a:pt x="28" y="18"/>
                    </a:lnTo>
                    <a:lnTo>
                      <a:pt x="26" y="12"/>
                    </a:lnTo>
                    <a:lnTo>
                      <a:pt x="22" y="8"/>
                    </a:lnTo>
                    <a:lnTo>
                      <a:pt x="18" y="5"/>
                    </a:lnTo>
                    <a:lnTo>
                      <a:pt x="13" y="2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2" y="60"/>
                    </a:lnTo>
                    <a:close/>
                  </a:path>
                </a:pathLst>
              </a:custGeom>
              <a:solidFill>
                <a:srgbClr val="8c8b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6227640" y="3919680"/>
                <a:ext cx="7920" cy="15840"/>
              </a:xfrm>
              <a:custGeom>
                <a:avLst/>
                <a:gdLst/>
                <a:ahLst/>
                <a:rect l="l" t="t" r="r" b="b"/>
                <a:pathLst>
                  <a:path w="27" h="52">
                    <a:moveTo>
                      <a:pt x="25" y="0"/>
                    </a:moveTo>
                    <a:lnTo>
                      <a:pt x="19" y="1"/>
                    </a:lnTo>
                    <a:lnTo>
                      <a:pt x="13" y="3"/>
                    </a:lnTo>
                    <a:lnTo>
                      <a:pt x="9" y="5"/>
                    </a:lnTo>
                    <a:lnTo>
                      <a:pt x="6" y="9"/>
                    </a:lnTo>
                    <a:lnTo>
                      <a:pt x="3" y="13"/>
                    </a:lnTo>
                    <a:lnTo>
                      <a:pt x="1" y="18"/>
                    </a:lnTo>
                    <a:lnTo>
                      <a:pt x="0" y="22"/>
                    </a:lnTo>
                    <a:lnTo>
                      <a:pt x="0" y="27"/>
                    </a:lnTo>
                    <a:lnTo>
                      <a:pt x="0" y="32"/>
                    </a:lnTo>
                    <a:lnTo>
                      <a:pt x="2" y="36"/>
                    </a:lnTo>
                    <a:lnTo>
                      <a:pt x="5" y="41"/>
                    </a:lnTo>
                    <a:lnTo>
                      <a:pt x="8" y="45"/>
                    </a:lnTo>
                    <a:lnTo>
                      <a:pt x="11" y="47"/>
                    </a:lnTo>
                    <a:lnTo>
                      <a:pt x="15" y="51"/>
                    </a:lnTo>
                    <a:lnTo>
                      <a:pt x="21" y="52"/>
                    </a:lnTo>
                    <a:lnTo>
                      <a:pt x="27" y="52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969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6235560" y="3876840"/>
                <a:ext cx="1000080" cy="58680"/>
              </a:xfrm>
              <a:custGeom>
                <a:avLst/>
                <a:gdLst/>
                <a:ahLst/>
                <a:rect l="l" t="t" r="r" b="b"/>
                <a:pathLst>
                  <a:path w="3149" h="187">
                    <a:moveTo>
                      <a:pt x="3147" y="0"/>
                    </a:moveTo>
                    <a:lnTo>
                      <a:pt x="0" y="135"/>
                    </a:lnTo>
                    <a:lnTo>
                      <a:pt x="2" y="187"/>
                    </a:lnTo>
                    <a:lnTo>
                      <a:pt x="3149" y="51"/>
                    </a:lnTo>
                    <a:lnTo>
                      <a:pt x="3147" y="0"/>
                    </a:lnTo>
                    <a:close/>
                  </a:path>
                </a:pathLst>
              </a:custGeom>
              <a:solidFill>
                <a:srgbClr val="969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7234200" y="3876840"/>
                <a:ext cx="9360" cy="15840"/>
              </a:xfrm>
              <a:custGeom>
                <a:avLst/>
                <a:gdLst/>
                <a:ahLst/>
                <a:rect l="l" t="t" r="r" b="b"/>
                <a:pathLst>
                  <a:path w="27" h="51">
                    <a:moveTo>
                      <a:pt x="2" y="51"/>
                    </a:moveTo>
                    <a:lnTo>
                      <a:pt x="8" y="51"/>
                    </a:lnTo>
                    <a:lnTo>
                      <a:pt x="14" y="48"/>
                    </a:lnTo>
                    <a:lnTo>
                      <a:pt x="18" y="45"/>
                    </a:lnTo>
                    <a:lnTo>
                      <a:pt x="21" y="42"/>
                    </a:lnTo>
                    <a:lnTo>
                      <a:pt x="24" y="38"/>
                    </a:lnTo>
                    <a:lnTo>
                      <a:pt x="26" y="33"/>
                    </a:lnTo>
                    <a:lnTo>
                      <a:pt x="27" y="29"/>
                    </a:lnTo>
                    <a:lnTo>
                      <a:pt x="27" y="24"/>
                    </a:lnTo>
                    <a:lnTo>
                      <a:pt x="27" y="19"/>
                    </a:lnTo>
                    <a:lnTo>
                      <a:pt x="25" y="15"/>
                    </a:lnTo>
                    <a:lnTo>
                      <a:pt x="23" y="11"/>
                    </a:lnTo>
                    <a:lnTo>
                      <a:pt x="20" y="6"/>
                    </a:lnTo>
                    <a:lnTo>
                      <a:pt x="16" y="3"/>
                    </a:lnTo>
                    <a:lnTo>
                      <a:pt x="12" y="1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2" y="51"/>
                    </a:lnTo>
                    <a:close/>
                  </a:path>
                </a:pathLst>
              </a:custGeom>
              <a:solidFill>
                <a:srgbClr val="969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6257880" y="3919680"/>
                <a:ext cx="6480" cy="14040"/>
              </a:xfrm>
              <a:custGeom>
                <a:avLst/>
                <a:gdLst/>
                <a:ahLst/>
                <a:rect l="l" t="t" r="r" b="b"/>
                <a:pathLst>
                  <a:path w="22" h="42">
                    <a:moveTo>
                      <a:pt x="20" y="0"/>
                    </a:moveTo>
                    <a:lnTo>
                      <a:pt x="15" y="0"/>
                    </a:lnTo>
                    <a:lnTo>
                      <a:pt x="11" y="2"/>
                    </a:lnTo>
                    <a:lnTo>
                      <a:pt x="8" y="4"/>
                    </a:lnTo>
                    <a:lnTo>
                      <a:pt x="4" y="6"/>
                    </a:lnTo>
                    <a:lnTo>
                      <a:pt x="2" y="10"/>
                    </a:lnTo>
                    <a:lnTo>
                      <a:pt x="1" y="14"/>
                    </a:lnTo>
                    <a:lnTo>
                      <a:pt x="0" y="17"/>
                    </a:lnTo>
                    <a:lnTo>
                      <a:pt x="0" y="22"/>
                    </a:lnTo>
                    <a:lnTo>
                      <a:pt x="0" y="26"/>
                    </a:lnTo>
                    <a:lnTo>
                      <a:pt x="1" y="29"/>
                    </a:lnTo>
                    <a:lnTo>
                      <a:pt x="3" y="32"/>
                    </a:lnTo>
                    <a:lnTo>
                      <a:pt x="6" y="36"/>
                    </a:lnTo>
                    <a:lnTo>
                      <a:pt x="9" y="38"/>
                    </a:lnTo>
                    <a:lnTo>
                      <a:pt x="12" y="40"/>
                    </a:lnTo>
                    <a:lnTo>
                      <a:pt x="16" y="41"/>
                    </a:lnTo>
                    <a:lnTo>
                      <a:pt x="22" y="42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a0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6264360" y="3878280"/>
                <a:ext cx="950760" cy="55440"/>
              </a:xfrm>
              <a:custGeom>
                <a:avLst/>
                <a:gdLst/>
                <a:ahLst/>
                <a:rect l="l" t="t" r="r" b="b"/>
                <a:pathLst>
                  <a:path w="2996" h="174">
                    <a:moveTo>
                      <a:pt x="2994" y="0"/>
                    </a:moveTo>
                    <a:lnTo>
                      <a:pt x="0" y="132"/>
                    </a:lnTo>
                    <a:lnTo>
                      <a:pt x="2" y="174"/>
                    </a:lnTo>
                    <a:lnTo>
                      <a:pt x="2996" y="42"/>
                    </a:lnTo>
                    <a:lnTo>
                      <a:pt x="2994" y="0"/>
                    </a:lnTo>
                    <a:close/>
                  </a:path>
                </a:pathLst>
              </a:custGeom>
              <a:solidFill>
                <a:srgbClr val="a0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7215120" y="3878280"/>
                <a:ext cx="6480" cy="12600"/>
              </a:xfrm>
              <a:custGeom>
                <a:avLst/>
                <a:gdLst/>
                <a:ahLst/>
                <a:rect l="l" t="t" r="r" b="b"/>
                <a:pathLst>
                  <a:path w="22" h="42">
                    <a:moveTo>
                      <a:pt x="2" y="42"/>
                    </a:moveTo>
                    <a:lnTo>
                      <a:pt x="7" y="42"/>
                    </a:lnTo>
                    <a:lnTo>
                      <a:pt x="11" y="40"/>
                    </a:lnTo>
                    <a:lnTo>
                      <a:pt x="14" y="38"/>
                    </a:lnTo>
                    <a:lnTo>
                      <a:pt x="17" y="35"/>
                    </a:lnTo>
                    <a:lnTo>
                      <a:pt x="20" y="32"/>
                    </a:lnTo>
                    <a:lnTo>
                      <a:pt x="21" y="28"/>
                    </a:lnTo>
                    <a:lnTo>
                      <a:pt x="22" y="25"/>
                    </a:lnTo>
                    <a:lnTo>
                      <a:pt x="22" y="21"/>
                    </a:lnTo>
                    <a:lnTo>
                      <a:pt x="22" y="16"/>
                    </a:lnTo>
                    <a:lnTo>
                      <a:pt x="21" y="13"/>
                    </a:lnTo>
                    <a:lnTo>
                      <a:pt x="18" y="10"/>
                    </a:lnTo>
                    <a:lnTo>
                      <a:pt x="16" y="7"/>
                    </a:lnTo>
                    <a:lnTo>
                      <a:pt x="13" y="3"/>
                    </a:lnTo>
                    <a:lnTo>
                      <a:pt x="10" y="2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2" y="42"/>
                    </a:lnTo>
                    <a:close/>
                  </a:path>
                </a:pathLst>
              </a:custGeom>
              <a:solidFill>
                <a:srgbClr val="a0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6286320" y="3919680"/>
                <a:ext cx="6480" cy="11160"/>
              </a:xfrm>
              <a:custGeom>
                <a:avLst/>
                <a:gdLst/>
                <a:ahLst/>
                <a:rect l="l" t="t" r="r" b="b"/>
                <a:pathLst>
                  <a:path w="17" h="33">
                    <a:moveTo>
                      <a:pt x="16" y="0"/>
                    </a:moveTo>
                    <a:lnTo>
                      <a:pt x="12" y="0"/>
                    </a:lnTo>
                    <a:lnTo>
                      <a:pt x="9" y="1"/>
                    </a:lnTo>
                    <a:lnTo>
                      <a:pt x="5" y="3"/>
                    </a:lnTo>
                    <a:lnTo>
                      <a:pt x="3" y="5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4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1" y="24"/>
                    </a:lnTo>
                    <a:lnTo>
                      <a:pt x="2" y="27"/>
                    </a:lnTo>
                    <a:lnTo>
                      <a:pt x="4" y="29"/>
                    </a:lnTo>
                    <a:lnTo>
                      <a:pt x="7" y="31"/>
                    </a:lnTo>
                    <a:lnTo>
                      <a:pt x="10" y="32"/>
                    </a:lnTo>
                    <a:lnTo>
                      <a:pt x="14" y="33"/>
                    </a:lnTo>
                    <a:lnTo>
                      <a:pt x="17" y="33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6292800" y="3880080"/>
                <a:ext cx="901800" cy="50760"/>
              </a:xfrm>
              <a:custGeom>
                <a:avLst/>
                <a:gdLst/>
                <a:ahLst/>
                <a:rect l="l" t="t" r="r" b="b"/>
                <a:pathLst>
                  <a:path w="2842" h="157">
                    <a:moveTo>
                      <a:pt x="2841" y="0"/>
                    </a:moveTo>
                    <a:lnTo>
                      <a:pt x="0" y="124"/>
                    </a:lnTo>
                    <a:lnTo>
                      <a:pt x="1" y="157"/>
                    </a:lnTo>
                    <a:lnTo>
                      <a:pt x="2842" y="34"/>
                    </a:lnTo>
                    <a:lnTo>
                      <a:pt x="2841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7194600" y="3880080"/>
                <a:ext cx="4680" cy="10800"/>
              </a:xfrm>
              <a:custGeom>
                <a:avLst/>
                <a:gdLst/>
                <a:ahLst/>
                <a:rect l="l" t="t" r="r" b="b"/>
                <a:pathLst>
                  <a:path w="18" h="34">
                    <a:moveTo>
                      <a:pt x="1" y="34"/>
                    </a:moveTo>
                    <a:lnTo>
                      <a:pt x="6" y="33"/>
                    </a:lnTo>
                    <a:lnTo>
                      <a:pt x="9" y="32"/>
                    </a:lnTo>
                    <a:lnTo>
                      <a:pt x="12" y="31"/>
                    </a:lnTo>
                    <a:lnTo>
                      <a:pt x="14" y="28"/>
                    </a:lnTo>
                    <a:lnTo>
                      <a:pt x="16" y="26"/>
                    </a:lnTo>
                    <a:lnTo>
                      <a:pt x="17" y="22"/>
                    </a:lnTo>
                    <a:lnTo>
                      <a:pt x="18" y="19"/>
                    </a:lnTo>
                    <a:lnTo>
                      <a:pt x="18" y="16"/>
                    </a:lnTo>
                    <a:lnTo>
                      <a:pt x="18" y="13"/>
                    </a:lnTo>
                    <a:lnTo>
                      <a:pt x="17" y="11"/>
                    </a:lnTo>
                    <a:lnTo>
                      <a:pt x="16" y="7"/>
                    </a:lnTo>
                    <a:lnTo>
                      <a:pt x="13" y="5"/>
                    </a:lnTo>
                    <a:lnTo>
                      <a:pt x="10" y="3"/>
                    </a:lnTo>
                    <a:lnTo>
                      <a:pt x="8" y="1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1" y="34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flipV="1">
                <a:off x="6321240" y="3886200"/>
                <a:ext cx="852480" cy="38160"/>
              </a:xfrm>
              <a:prstGeom prst="line">
                <a:avLst/>
              </a:prstGeom>
              <a:ln w="7920">
                <a:solidFill>
                  <a:srgbClr val="b5b5b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 flipV="1">
                <a:off x="6348240" y="3887640"/>
                <a:ext cx="804960" cy="34920"/>
              </a:xfrm>
              <a:prstGeom prst="line">
                <a:avLst/>
              </a:prstGeom>
              <a:ln w="4680">
                <a:solidFill>
                  <a:srgbClr val="c2c2c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5597640" y="3444840"/>
                <a:ext cx="206280" cy="195480"/>
              </a:xfrm>
              <a:custGeom>
                <a:avLst/>
                <a:gdLst/>
                <a:ahLst/>
                <a:rect l="l" t="t" r="r" b="b"/>
                <a:pathLst>
                  <a:path w="653" h="617">
                    <a:moveTo>
                      <a:pt x="0" y="175"/>
                    </a:moveTo>
                    <a:lnTo>
                      <a:pt x="3" y="170"/>
                    </a:lnTo>
                    <a:lnTo>
                      <a:pt x="14" y="153"/>
                    </a:lnTo>
                    <a:lnTo>
                      <a:pt x="31" y="131"/>
                    </a:lnTo>
                    <a:lnTo>
                      <a:pt x="54" y="104"/>
                    </a:lnTo>
                    <a:lnTo>
                      <a:pt x="67" y="90"/>
                    </a:lnTo>
                    <a:lnTo>
                      <a:pt x="81" y="76"/>
                    </a:lnTo>
                    <a:lnTo>
                      <a:pt x="97" y="62"/>
                    </a:lnTo>
                    <a:lnTo>
                      <a:pt x="113" y="49"/>
                    </a:lnTo>
                    <a:lnTo>
                      <a:pt x="130" y="38"/>
                    </a:lnTo>
                    <a:lnTo>
                      <a:pt x="149" y="28"/>
                    </a:lnTo>
                    <a:lnTo>
                      <a:pt x="158" y="24"/>
                    </a:lnTo>
                    <a:lnTo>
                      <a:pt x="168" y="21"/>
                    </a:lnTo>
                    <a:lnTo>
                      <a:pt x="178" y="17"/>
                    </a:lnTo>
                    <a:lnTo>
                      <a:pt x="188" y="14"/>
                    </a:lnTo>
                    <a:lnTo>
                      <a:pt x="226" y="8"/>
                    </a:lnTo>
                    <a:lnTo>
                      <a:pt x="264" y="2"/>
                    </a:lnTo>
                    <a:lnTo>
                      <a:pt x="284" y="0"/>
                    </a:lnTo>
                    <a:lnTo>
                      <a:pt x="302" y="0"/>
                    </a:lnTo>
                    <a:lnTo>
                      <a:pt x="320" y="0"/>
                    </a:lnTo>
                    <a:lnTo>
                      <a:pt x="338" y="1"/>
                    </a:lnTo>
                    <a:lnTo>
                      <a:pt x="355" y="3"/>
                    </a:lnTo>
                    <a:lnTo>
                      <a:pt x="372" y="7"/>
                    </a:lnTo>
                    <a:lnTo>
                      <a:pt x="390" y="11"/>
                    </a:lnTo>
                    <a:lnTo>
                      <a:pt x="407" y="16"/>
                    </a:lnTo>
                    <a:lnTo>
                      <a:pt x="423" y="24"/>
                    </a:lnTo>
                    <a:lnTo>
                      <a:pt x="439" y="33"/>
                    </a:lnTo>
                    <a:lnTo>
                      <a:pt x="455" y="42"/>
                    </a:lnTo>
                    <a:lnTo>
                      <a:pt x="472" y="54"/>
                    </a:lnTo>
                    <a:lnTo>
                      <a:pt x="502" y="78"/>
                    </a:lnTo>
                    <a:lnTo>
                      <a:pt x="529" y="101"/>
                    </a:lnTo>
                    <a:lnTo>
                      <a:pt x="554" y="121"/>
                    </a:lnTo>
                    <a:lnTo>
                      <a:pt x="575" y="142"/>
                    </a:lnTo>
                    <a:lnTo>
                      <a:pt x="595" y="160"/>
                    </a:lnTo>
                    <a:lnTo>
                      <a:pt x="612" y="178"/>
                    </a:lnTo>
                    <a:lnTo>
                      <a:pt x="619" y="187"/>
                    </a:lnTo>
                    <a:lnTo>
                      <a:pt x="626" y="197"/>
                    </a:lnTo>
                    <a:lnTo>
                      <a:pt x="632" y="205"/>
                    </a:lnTo>
                    <a:lnTo>
                      <a:pt x="637" y="215"/>
                    </a:lnTo>
                    <a:lnTo>
                      <a:pt x="642" y="225"/>
                    </a:lnTo>
                    <a:lnTo>
                      <a:pt x="647" y="238"/>
                    </a:lnTo>
                    <a:lnTo>
                      <a:pt x="650" y="252"/>
                    </a:lnTo>
                    <a:lnTo>
                      <a:pt x="652" y="267"/>
                    </a:lnTo>
                    <a:lnTo>
                      <a:pt x="653" y="283"/>
                    </a:lnTo>
                    <a:lnTo>
                      <a:pt x="653" y="300"/>
                    </a:lnTo>
                    <a:lnTo>
                      <a:pt x="653" y="319"/>
                    </a:lnTo>
                    <a:lnTo>
                      <a:pt x="651" y="337"/>
                    </a:lnTo>
                    <a:lnTo>
                      <a:pt x="649" y="357"/>
                    </a:lnTo>
                    <a:lnTo>
                      <a:pt x="646" y="376"/>
                    </a:lnTo>
                    <a:lnTo>
                      <a:pt x="642" y="394"/>
                    </a:lnTo>
                    <a:lnTo>
                      <a:pt x="637" y="413"/>
                    </a:lnTo>
                    <a:lnTo>
                      <a:pt x="632" y="430"/>
                    </a:lnTo>
                    <a:lnTo>
                      <a:pt x="625" y="447"/>
                    </a:lnTo>
                    <a:lnTo>
                      <a:pt x="617" y="462"/>
                    </a:lnTo>
                    <a:lnTo>
                      <a:pt x="610" y="476"/>
                    </a:lnTo>
                    <a:lnTo>
                      <a:pt x="601" y="490"/>
                    </a:lnTo>
                    <a:lnTo>
                      <a:pt x="592" y="502"/>
                    </a:lnTo>
                    <a:lnTo>
                      <a:pt x="582" y="513"/>
                    </a:lnTo>
                    <a:lnTo>
                      <a:pt x="571" y="524"/>
                    </a:lnTo>
                    <a:lnTo>
                      <a:pt x="559" y="535"/>
                    </a:lnTo>
                    <a:lnTo>
                      <a:pt x="547" y="543"/>
                    </a:lnTo>
                    <a:lnTo>
                      <a:pt x="534" y="553"/>
                    </a:lnTo>
                    <a:lnTo>
                      <a:pt x="521" y="561"/>
                    </a:lnTo>
                    <a:lnTo>
                      <a:pt x="493" y="577"/>
                    </a:lnTo>
                    <a:lnTo>
                      <a:pt x="464" y="590"/>
                    </a:lnTo>
                    <a:lnTo>
                      <a:pt x="433" y="603"/>
                    </a:lnTo>
                    <a:lnTo>
                      <a:pt x="400" y="616"/>
                    </a:lnTo>
                    <a:lnTo>
                      <a:pt x="391" y="617"/>
                    </a:lnTo>
                    <a:lnTo>
                      <a:pt x="381" y="616"/>
                    </a:lnTo>
                    <a:lnTo>
                      <a:pt x="369" y="612"/>
                    </a:lnTo>
                    <a:lnTo>
                      <a:pt x="357" y="606"/>
                    </a:lnTo>
                    <a:lnTo>
                      <a:pt x="344" y="598"/>
                    </a:lnTo>
                    <a:lnTo>
                      <a:pt x="330" y="588"/>
                    </a:lnTo>
                    <a:lnTo>
                      <a:pt x="315" y="576"/>
                    </a:lnTo>
                    <a:lnTo>
                      <a:pt x="300" y="562"/>
                    </a:lnTo>
                    <a:lnTo>
                      <a:pt x="284" y="546"/>
                    </a:lnTo>
                    <a:lnTo>
                      <a:pt x="267" y="528"/>
                    </a:lnTo>
                    <a:lnTo>
                      <a:pt x="251" y="511"/>
                    </a:lnTo>
                    <a:lnTo>
                      <a:pt x="234" y="492"/>
                    </a:lnTo>
                    <a:lnTo>
                      <a:pt x="200" y="450"/>
                    </a:lnTo>
                    <a:lnTo>
                      <a:pt x="166" y="408"/>
                    </a:lnTo>
                    <a:lnTo>
                      <a:pt x="134" y="365"/>
                    </a:lnTo>
                    <a:lnTo>
                      <a:pt x="102" y="324"/>
                    </a:lnTo>
                    <a:lnTo>
                      <a:pt x="74" y="284"/>
                    </a:lnTo>
                    <a:lnTo>
                      <a:pt x="49" y="249"/>
                    </a:lnTo>
                    <a:lnTo>
                      <a:pt x="13" y="196"/>
                    </a:lnTo>
                    <a:lnTo>
                      <a:pt x="0" y="175"/>
                    </a:lnTo>
                    <a:close/>
                  </a:path>
                </a:pathLst>
              </a:custGeom>
              <a:solidFill>
                <a:srgbClr val="ca93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5607000" y="3514680"/>
                <a:ext cx="198360" cy="125640"/>
              </a:xfrm>
              <a:custGeom>
                <a:avLst/>
                <a:gdLst/>
                <a:ahLst/>
                <a:rect l="l" t="t" r="r" b="b"/>
                <a:pathLst>
                  <a:path w="622" h="394">
                    <a:moveTo>
                      <a:pt x="622" y="76"/>
                    </a:moveTo>
                    <a:lnTo>
                      <a:pt x="622" y="99"/>
                    </a:lnTo>
                    <a:lnTo>
                      <a:pt x="620" y="123"/>
                    </a:lnTo>
                    <a:lnTo>
                      <a:pt x="616" y="146"/>
                    </a:lnTo>
                    <a:lnTo>
                      <a:pt x="611" y="169"/>
                    </a:lnTo>
                    <a:lnTo>
                      <a:pt x="605" y="193"/>
                    </a:lnTo>
                    <a:lnTo>
                      <a:pt x="597" y="215"/>
                    </a:lnTo>
                    <a:lnTo>
                      <a:pt x="589" y="235"/>
                    </a:lnTo>
                    <a:lnTo>
                      <a:pt x="578" y="253"/>
                    </a:lnTo>
                    <a:lnTo>
                      <a:pt x="569" y="267"/>
                    </a:lnTo>
                    <a:lnTo>
                      <a:pt x="560" y="279"/>
                    </a:lnTo>
                    <a:lnTo>
                      <a:pt x="550" y="290"/>
                    </a:lnTo>
                    <a:lnTo>
                      <a:pt x="539" y="301"/>
                    </a:lnTo>
                    <a:lnTo>
                      <a:pt x="527" y="312"/>
                    </a:lnTo>
                    <a:lnTo>
                      <a:pt x="515" y="320"/>
                    </a:lnTo>
                    <a:lnTo>
                      <a:pt x="502" y="330"/>
                    </a:lnTo>
                    <a:lnTo>
                      <a:pt x="489" y="338"/>
                    </a:lnTo>
                    <a:lnTo>
                      <a:pt x="461" y="354"/>
                    </a:lnTo>
                    <a:lnTo>
                      <a:pt x="432" y="367"/>
                    </a:lnTo>
                    <a:lnTo>
                      <a:pt x="401" y="380"/>
                    </a:lnTo>
                    <a:lnTo>
                      <a:pt x="368" y="393"/>
                    </a:lnTo>
                    <a:lnTo>
                      <a:pt x="361" y="394"/>
                    </a:lnTo>
                    <a:lnTo>
                      <a:pt x="353" y="394"/>
                    </a:lnTo>
                    <a:lnTo>
                      <a:pt x="345" y="392"/>
                    </a:lnTo>
                    <a:lnTo>
                      <a:pt x="335" y="388"/>
                    </a:lnTo>
                    <a:lnTo>
                      <a:pt x="325" y="383"/>
                    </a:lnTo>
                    <a:lnTo>
                      <a:pt x="314" y="377"/>
                    </a:lnTo>
                    <a:lnTo>
                      <a:pt x="304" y="369"/>
                    </a:lnTo>
                    <a:lnTo>
                      <a:pt x="292" y="359"/>
                    </a:lnTo>
                    <a:lnTo>
                      <a:pt x="267" y="338"/>
                    </a:lnTo>
                    <a:lnTo>
                      <a:pt x="241" y="312"/>
                    </a:lnTo>
                    <a:lnTo>
                      <a:pt x="215" y="283"/>
                    </a:lnTo>
                    <a:lnTo>
                      <a:pt x="187" y="251"/>
                    </a:lnTo>
                    <a:lnTo>
                      <a:pt x="160" y="218"/>
                    </a:lnTo>
                    <a:lnTo>
                      <a:pt x="133" y="184"/>
                    </a:lnTo>
                    <a:lnTo>
                      <a:pt x="107" y="150"/>
                    </a:lnTo>
                    <a:lnTo>
                      <a:pt x="81" y="115"/>
                    </a:lnTo>
                    <a:lnTo>
                      <a:pt x="36" y="53"/>
                    </a:lnTo>
                    <a:lnTo>
                      <a:pt x="0" y="0"/>
                    </a:lnTo>
                    <a:lnTo>
                      <a:pt x="13" y="3"/>
                    </a:lnTo>
                    <a:lnTo>
                      <a:pt x="49" y="13"/>
                    </a:lnTo>
                    <a:lnTo>
                      <a:pt x="102" y="28"/>
                    </a:lnTo>
                    <a:lnTo>
                      <a:pt x="166" y="44"/>
                    </a:lnTo>
                    <a:lnTo>
                      <a:pt x="237" y="61"/>
                    </a:lnTo>
                    <a:lnTo>
                      <a:pt x="307" y="77"/>
                    </a:lnTo>
                    <a:lnTo>
                      <a:pt x="341" y="85"/>
                    </a:lnTo>
                    <a:lnTo>
                      <a:pt x="373" y="90"/>
                    </a:lnTo>
                    <a:lnTo>
                      <a:pt x="402" y="95"/>
                    </a:lnTo>
                    <a:lnTo>
                      <a:pt x="427" y="98"/>
                    </a:lnTo>
                    <a:lnTo>
                      <a:pt x="450" y="100"/>
                    </a:lnTo>
                    <a:lnTo>
                      <a:pt x="472" y="100"/>
                    </a:lnTo>
                    <a:lnTo>
                      <a:pt x="493" y="100"/>
                    </a:lnTo>
                    <a:lnTo>
                      <a:pt x="512" y="99"/>
                    </a:lnTo>
                    <a:lnTo>
                      <a:pt x="546" y="96"/>
                    </a:lnTo>
                    <a:lnTo>
                      <a:pt x="574" y="90"/>
                    </a:lnTo>
                    <a:lnTo>
                      <a:pt x="594" y="86"/>
                    </a:lnTo>
                    <a:lnTo>
                      <a:pt x="610" y="81"/>
                    </a:lnTo>
                    <a:lnTo>
                      <a:pt x="619" y="77"/>
                    </a:lnTo>
                    <a:lnTo>
                      <a:pt x="622" y="76"/>
                    </a:lnTo>
                    <a:close/>
                  </a:path>
                </a:pathLst>
              </a:custGeom>
              <a:solidFill>
                <a:srgbClr val="ca93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5607000" y="3514680"/>
                <a:ext cx="196920" cy="125640"/>
              </a:xfrm>
              <a:custGeom>
                <a:avLst/>
                <a:gdLst/>
                <a:ahLst/>
                <a:rect l="l" t="t" r="r" b="b"/>
                <a:pathLst>
                  <a:path w="620" h="394">
                    <a:moveTo>
                      <a:pt x="427" y="118"/>
                    </a:moveTo>
                    <a:lnTo>
                      <a:pt x="450" y="119"/>
                    </a:lnTo>
                    <a:lnTo>
                      <a:pt x="472" y="121"/>
                    </a:lnTo>
                    <a:lnTo>
                      <a:pt x="493" y="121"/>
                    </a:lnTo>
                    <a:lnTo>
                      <a:pt x="512" y="119"/>
                    </a:lnTo>
                    <a:lnTo>
                      <a:pt x="529" y="117"/>
                    </a:lnTo>
                    <a:lnTo>
                      <a:pt x="544" y="115"/>
                    </a:lnTo>
                    <a:lnTo>
                      <a:pt x="560" y="112"/>
                    </a:lnTo>
                    <a:lnTo>
                      <a:pt x="571" y="109"/>
                    </a:lnTo>
                    <a:lnTo>
                      <a:pt x="593" y="102"/>
                    </a:lnTo>
                    <a:lnTo>
                      <a:pt x="608" y="97"/>
                    </a:lnTo>
                    <a:lnTo>
                      <a:pt x="617" y="92"/>
                    </a:lnTo>
                    <a:lnTo>
                      <a:pt x="620" y="90"/>
                    </a:lnTo>
                    <a:lnTo>
                      <a:pt x="619" y="110"/>
                    </a:lnTo>
                    <a:lnTo>
                      <a:pt x="618" y="130"/>
                    </a:lnTo>
                    <a:lnTo>
                      <a:pt x="615" y="152"/>
                    </a:lnTo>
                    <a:lnTo>
                      <a:pt x="610" y="173"/>
                    </a:lnTo>
                    <a:lnTo>
                      <a:pt x="604" y="195"/>
                    </a:lnTo>
                    <a:lnTo>
                      <a:pt x="597" y="216"/>
                    </a:lnTo>
                    <a:lnTo>
                      <a:pt x="589" y="235"/>
                    </a:lnTo>
                    <a:lnTo>
                      <a:pt x="578" y="253"/>
                    </a:lnTo>
                    <a:lnTo>
                      <a:pt x="569" y="267"/>
                    </a:lnTo>
                    <a:lnTo>
                      <a:pt x="560" y="279"/>
                    </a:lnTo>
                    <a:lnTo>
                      <a:pt x="550" y="290"/>
                    </a:lnTo>
                    <a:lnTo>
                      <a:pt x="539" y="301"/>
                    </a:lnTo>
                    <a:lnTo>
                      <a:pt x="527" y="312"/>
                    </a:lnTo>
                    <a:lnTo>
                      <a:pt x="515" y="320"/>
                    </a:lnTo>
                    <a:lnTo>
                      <a:pt x="502" y="330"/>
                    </a:lnTo>
                    <a:lnTo>
                      <a:pt x="489" y="338"/>
                    </a:lnTo>
                    <a:lnTo>
                      <a:pt x="461" y="354"/>
                    </a:lnTo>
                    <a:lnTo>
                      <a:pt x="432" y="367"/>
                    </a:lnTo>
                    <a:lnTo>
                      <a:pt x="401" y="380"/>
                    </a:lnTo>
                    <a:lnTo>
                      <a:pt x="368" y="393"/>
                    </a:lnTo>
                    <a:lnTo>
                      <a:pt x="361" y="394"/>
                    </a:lnTo>
                    <a:lnTo>
                      <a:pt x="353" y="394"/>
                    </a:lnTo>
                    <a:lnTo>
                      <a:pt x="345" y="392"/>
                    </a:lnTo>
                    <a:lnTo>
                      <a:pt x="335" y="388"/>
                    </a:lnTo>
                    <a:lnTo>
                      <a:pt x="325" y="383"/>
                    </a:lnTo>
                    <a:lnTo>
                      <a:pt x="314" y="377"/>
                    </a:lnTo>
                    <a:lnTo>
                      <a:pt x="304" y="369"/>
                    </a:lnTo>
                    <a:lnTo>
                      <a:pt x="292" y="359"/>
                    </a:lnTo>
                    <a:lnTo>
                      <a:pt x="267" y="338"/>
                    </a:lnTo>
                    <a:lnTo>
                      <a:pt x="241" y="312"/>
                    </a:lnTo>
                    <a:lnTo>
                      <a:pt x="215" y="283"/>
                    </a:lnTo>
                    <a:lnTo>
                      <a:pt x="187" y="251"/>
                    </a:lnTo>
                    <a:lnTo>
                      <a:pt x="160" y="218"/>
                    </a:lnTo>
                    <a:lnTo>
                      <a:pt x="133" y="184"/>
                    </a:lnTo>
                    <a:lnTo>
                      <a:pt x="107" y="150"/>
                    </a:lnTo>
                    <a:lnTo>
                      <a:pt x="81" y="115"/>
                    </a:lnTo>
                    <a:lnTo>
                      <a:pt x="36" y="53"/>
                    </a:lnTo>
                    <a:lnTo>
                      <a:pt x="0" y="0"/>
                    </a:lnTo>
                    <a:lnTo>
                      <a:pt x="13" y="4"/>
                    </a:lnTo>
                    <a:lnTo>
                      <a:pt x="49" y="17"/>
                    </a:lnTo>
                    <a:lnTo>
                      <a:pt x="100" y="34"/>
                    </a:lnTo>
                    <a:lnTo>
                      <a:pt x="165" y="55"/>
                    </a:lnTo>
                    <a:lnTo>
                      <a:pt x="235" y="76"/>
                    </a:lnTo>
                    <a:lnTo>
                      <a:pt x="306" y="96"/>
                    </a:lnTo>
                    <a:lnTo>
                      <a:pt x="340" y="103"/>
                    </a:lnTo>
                    <a:lnTo>
                      <a:pt x="372" y="110"/>
                    </a:lnTo>
                    <a:lnTo>
                      <a:pt x="401" y="115"/>
                    </a:lnTo>
                    <a:lnTo>
                      <a:pt x="427" y="118"/>
                    </a:lnTo>
                    <a:close/>
                  </a:path>
                </a:pathLst>
              </a:custGeom>
              <a:solidFill>
                <a:srgbClr val="c590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5607000" y="3514680"/>
                <a:ext cx="196920" cy="125640"/>
              </a:xfrm>
              <a:custGeom>
                <a:avLst/>
                <a:gdLst/>
                <a:ahLst/>
                <a:rect l="l" t="t" r="r" b="b"/>
                <a:pathLst>
                  <a:path w="618" h="394">
                    <a:moveTo>
                      <a:pt x="427" y="138"/>
                    </a:moveTo>
                    <a:lnTo>
                      <a:pt x="450" y="139"/>
                    </a:lnTo>
                    <a:lnTo>
                      <a:pt x="472" y="140"/>
                    </a:lnTo>
                    <a:lnTo>
                      <a:pt x="493" y="140"/>
                    </a:lnTo>
                    <a:lnTo>
                      <a:pt x="511" y="138"/>
                    </a:lnTo>
                    <a:lnTo>
                      <a:pt x="528" y="137"/>
                    </a:lnTo>
                    <a:lnTo>
                      <a:pt x="544" y="134"/>
                    </a:lnTo>
                    <a:lnTo>
                      <a:pt x="558" y="131"/>
                    </a:lnTo>
                    <a:lnTo>
                      <a:pt x="570" y="127"/>
                    </a:lnTo>
                    <a:lnTo>
                      <a:pt x="591" y="121"/>
                    </a:lnTo>
                    <a:lnTo>
                      <a:pt x="606" y="114"/>
                    </a:lnTo>
                    <a:lnTo>
                      <a:pt x="615" y="110"/>
                    </a:lnTo>
                    <a:lnTo>
                      <a:pt x="618" y="108"/>
                    </a:lnTo>
                    <a:lnTo>
                      <a:pt x="617" y="123"/>
                    </a:lnTo>
                    <a:lnTo>
                      <a:pt x="616" y="139"/>
                    </a:lnTo>
                    <a:lnTo>
                      <a:pt x="612" y="157"/>
                    </a:lnTo>
                    <a:lnTo>
                      <a:pt x="609" y="177"/>
                    </a:lnTo>
                    <a:lnTo>
                      <a:pt x="604" y="196"/>
                    </a:lnTo>
                    <a:lnTo>
                      <a:pt x="596" y="217"/>
                    </a:lnTo>
                    <a:lnTo>
                      <a:pt x="589" y="236"/>
                    </a:lnTo>
                    <a:lnTo>
                      <a:pt x="578" y="253"/>
                    </a:lnTo>
                    <a:lnTo>
                      <a:pt x="569" y="267"/>
                    </a:lnTo>
                    <a:lnTo>
                      <a:pt x="560" y="279"/>
                    </a:lnTo>
                    <a:lnTo>
                      <a:pt x="550" y="290"/>
                    </a:lnTo>
                    <a:lnTo>
                      <a:pt x="539" y="301"/>
                    </a:lnTo>
                    <a:lnTo>
                      <a:pt x="527" y="312"/>
                    </a:lnTo>
                    <a:lnTo>
                      <a:pt x="515" y="320"/>
                    </a:lnTo>
                    <a:lnTo>
                      <a:pt x="502" y="330"/>
                    </a:lnTo>
                    <a:lnTo>
                      <a:pt x="489" y="338"/>
                    </a:lnTo>
                    <a:lnTo>
                      <a:pt x="461" y="354"/>
                    </a:lnTo>
                    <a:lnTo>
                      <a:pt x="432" y="367"/>
                    </a:lnTo>
                    <a:lnTo>
                      <a:pt x="401" y="380"/>
                    </a:lnTo>
                    <a:lnTo>
                      <a:pt x="368" y="393"/>
                    </a:lnTo>
                    <a:lnTo>
                      <a:pt x="361" y="394"/>
                    </a:lnTo>
                    <a:lnTo>
                      <a:pt x="353" y="394"/>
                    </a:lnTo>
                    <a:lnTo>
                      <a:pt x="345" y="392"/>
                    </a:lnTo>
                    <a:lnTo>
                      <a:pt x="335" y="388"/>
                    </a:lnTo>
                    <a:lnTo>
                      <a:pt x="325" y="383"/>
                    </a:lnTo>
                    <a:lnTo>
                      <a:pt x="314" y="377"/>
                    </a:lnTo>
                    <a:lnTo>
                      <a:pt x="304" y="369"/>
                    </a:lnTo>
                    <a:lnTo>
                      <a:pt x="292" y="359"/>
                    </a:lnTo>
                    <a:lnTo>
                      <a:pt x="267" y="338"/>
                    </a:lnTo>
                    <a:lnTo>
                      <a:pt x="241" y="312"/>
                    </a:lnTo>
                    <a:lnTo>
                      <a:pt x="215" y="283"/>
                    </a:lnTo>
                    <a:lnTo>
                      <a:pt x="187" y="251"/>
                    </a:lnTo>
                    <a:lnTo>
                      <a:pt x="160" y="218"/>
                    </a:lnTo>
                    <a:lnTo>
                      <a:pt x="133" y="184"/>
                    </a:lnTo>
                    <a:lnTo>
                      <a:pt x="107" y="150"/>
                    </a:lnTo>
                    <a:lnTo>
                      <a:pt x="81" y="115"/>
                    </a:lnTo>
                    <a:lnTo>
                      <a:pt x="36" y="53"/>
                    </a:lnTo>
                    <a:lnTo>
                      <a:pt x="0" y="0"/>
                    </a:lnTo>
                    <a:lnTo>
                      <a:pt x="13" y="5"/>
                    </a:lnTo>
                    <a:lnTo>
                      <a:pt x="49" y="19"/>
                    </a:lnTo>
                    <a:lnTo>
                      <a:pt x="100" y="41"/>
                    </a:lnTo>
                    <a:lnTo>
                      <a:pt x="165" y="64"/>
                    </a:lnTo>
                    <a:lnTo>
                      <a:pt x="200" y="77"/>
                    </a:lnTo>
                    <a:lnTo>
                      <a:pt x="235" y="89"/>
                    </a:lnTo>
                    <a:lnTo>
                      <a:pt x="271" y="101"/>
                    </a:lnTo>
                    <a:lnTo>
                      <a:pt x="306" y="112"/>
                    </a:lnTo>
                    <a:lnTo>
                      <a:pt x="340" y="122"/>
                    </a:lnTo>
                    <a:lnTo>
                      <a:pt x="372" y="129"/>
                    </a:lnTo>
                    <a:lnTo>
                      <a:pt x="401" y="135"/>
                    </a:lnTo>
                    <a:lnTo>
                      <a:pt x="427" y="138"/>
                    </a:lnTo>
                    <a:close/>
                  </a:path>
                </a:pathLst>
              </a:custGeom>
              <a:solidFill>
                <a:srgbClr val="c18e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5607000" y="3514680"/>
                <a:ext cx="196920" cy="125640"/>
              </a:xfrm>
              <a:custGeom>
                <a:avLst/>
                <a:gdLst/>
                <a:ahLst/>
                <a:rect l="l" t="t" r="r" b="b"/>
                <a:pathLst>
                  <a:path w="618" h="394">
                    <a:moveTo>
                      <a:pt x="427" y="157"/>
                    </a:moveTo>
                    <a:lnTo>
                      <a:pt x="450" y="159"/>
                    </a:lnTo>
                    <a:lnTo>
                      <a:pt x="472" y="159"/>
                    </a:lnTo>
                    <a:lnTo>
                      <a:pt x="491" y="159"/>
                    </a:lnTo>
                    <a:lnTo>
                      <a:pt x="510" y="157"/>
                    </a:lnTo>
                    <a:lnTo>
                      <a:pt x="527" y="155"/>
                    </a:lnTo>
                    <a:lnTo>
                      <a:pt x="543" y="152"/>
                    </a:lnTo>
                    <a:lnTo>
                      <a:pt x="557" y="149"/>
                    </a:lnTo>
                    <a:lnTo>
                      <a:pt x="569" y="144"/>
                    </a:lnTo>
                    <a:lnTo>
                      <a:pt x="591" y="137"/>
                    </a:lnTo>
                    <a:lnTo>
                      <a:pt x="606" y="130"/>
                    </a:lnTo>
                    <a:lnTo>
                      <a:pt x="615" y="125"/>
                    </a:lnTo>
                    <a:lnTo>
                      <a:pt x="618" y="123"/>
                    </a:lnTo>
                    <a:lnTo>
                      <a:pt x="617" y="134"/>
                    </a:lnTo>
                    <a:lnTo>
                      <a:pt x="616" y="148"/>
                    </a:lnTo>
                    <a:lnTo>
                      <a:pt x="612" y="163"/>
                    </a:lnTo>
                    <a:lnTo>
                      <a:pt x="609" y="180"/>
                    </a:lnTo>
                    <a:lnTo>
                      <a:pt x="604" y="198"/>
                    </a:lnTo>
                    <a:lnTo>
                      <a:pt x="596" y="217"/>
                    </a:lnTo>
                    <a:lnTo>
                      <a:pt x="589" y="236"/>
                    </a:lnTo>
                    <a:lnTo>
                      <a:pt x="578" y="253"/>
                    </a:lnTo>
                    <a:lnTo>
                      <a:pt x="569" y="267"/>
                    </a:lnTo>
                    <a:lnTo>
                      <a:pt x="560" y="279"/>
                    </a:lnTo>
                    <a:lnTo>
                      <a:pt x="550" y="290"/>
                    </a:lnTo>
                    <a:lnTo>
                      <a:pt x="539" y="301"/>
                    </a:lnTo>
                    <a:lnTo>
                      <a:pt x="527" y="312"/>
                    </a:lnTo>
                    <a:lnTo>
                      <a:pt x="515" y="320"/>
                    </a:lnTo>
                    <a:lnTo>
                      <a:pt x="502" y="330"/>
                    </a:lnTo>
                    <a:lnTo>
                      <a:pt x="489" y="338"/>
                    </a:lnTo>
                    <a:lnTo>
                      <a:pt x="461" y="354"/>
                    </a:lnTo>
                    <a:lnTo>
                      <a:pt x="432" y="367"/>
                    </a:lnTo>
                    <a:lnTo>
                      <a:pt x="401" y="380"/>
                    </a:lnTo>
                    <a:lnTo>
                      <a:pt x="368" y="393"/>
                    </a:lnTo>
                    <a:lnTo>
                      <a:pt x="361" y="394"/>
                    </a:lnTo>
                    <a:lnTo>
                      <a:pt x="353" y="394"/>
                    </a:lnTo>
                    <a:lnTo>
                      <a:pt x="345" y="392"/>
                    </a:lnTo>
                    <a:lnTo>
                      <a:pt x="335" y="388"/>
                    </a:lnTo>
                    <a:lnTo>
                      <a:pt x="325" y="383"/>
                    </a:lnTo>
                    <a:lnTo>
                      <a:pt x="314" y="377"/>
                    </a:lnTo>
                    <a:lnTo>
                      <a:pt x="304" y="369"/>
                    </a:lnTo>
                    <a:lnTo>
                      <a:pt x="292" y="359"/>
                    </a:lnTo>
                    <a:lnTo>
                      <a:pt x="267" y="338"/>
                    </a:lnTo>
                    <a:lnTo>
                      <a:pt x="241" y="312"/>
                    </a:lnTo>
                    <a:lnTo>
                      <a:pt x="215" y="283"/>
                    </a:lnTo>
                    <a:lnTo>
                      <a:pt x="187" y="251"/>
                    </a:lnTo>
                    <a:lnTo>
                      <a:pt x="160" y="218"/>
                    </a:lnTo>
                    <a:lnTo>
                      <a:pt x="133" y="184"/>
                    </a:lnTo>
                    <a:lnTo>
                      <a:pt x="107" y="150"/>
                    </a:lnTo>
                    <a:lnTo>
                      <a:pt x="81" y="115"/>
                    </a:lnTo>
                    <a:lnTo>
                      <a:pt x="36" y="53"/>
                    </a:lnTo>
                    <a:lnTo>
                      <a:pt x="0" y="0"/>
                    </a:lnTo>
                    <a:lnTo>
                      <a:pt x="13" y="6"/>
                    </a:lnTo>
                    <a:lnTo>
                      <a:pt x="49" y="22"/>
                    </a:lnTo>
                    <a:lnTo>
                      <a:pt x="100" y="47"/>
                    </a:lnTo>
                    <a:lnTo>
                      <a:pt x="165" y="75"/>
                    </a:lnTo>
                    <a:lnTo>
                      <a:pt x="200" y="89"/>
                    </a:lnTo>
                    <a:lnTo>
                      <a:pt x="235" y="103"/>
                    </a:lnTo>
                    <a:lnTo>
                      <a:pt x="271" y="116"/>
                    </a:lnTo>
                    <a:lnTo>
                      <a:pt x="306" y="128"/>
                    </a:lnTo>
                    <a:lnTo>
                      <a:pt x="340" y="139"/>
                    </a:lnTo>
                    <a:lnTo>
                      <a:pt x="372" y="148"/>
                    </a:lnTo>
                    <a:lnTo>
                      <a:pt x="387" y="151"/>
                    </a:lnTo>
                    <a:lnTo>
                      <a:pt x="401" y="154"/>
                    </a:lnTo>
                    <a:lnTo>
                      <a:pt x="415" y="156"/>
                    </a:lnTo>
                    <a:lnTo>
                      <a:pt x="427" y="157"/>
                    </a:lnTo>
                    <a:close/>
                  </a:path>
                </a:pathLst>
              </a:custGeom>
              <a:solidFill>
                <a:srgbClr val="bc89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5607000" y="3514680"/>
                <a:ext cx="195120" cy="125640"/>
              </a:xfrm>
              <a:custGeom>
                <a:avLst/>
                <a:gdLst/>
                <a:ahLst/>
                <a:rect l="l" t="t" r="r" b="b"/>
                <a:pathLst>
                  <a:path w="615" h="394">
                    <a:moveTo>
                      <a:pt x="615" y="140"/>
                    </a:moveTo>
                    <a:lnTo>
                      <a:pt x="615" y="146"/>
                    </a:lnTo>
                    <a:lnTo>
                      <a:pt x="614" y="156"/>
                    </a:lnTo>
                    <a:lnTo>
                      <a:pt x="611" y="169"/>
                    </a:lnTo>
                    <a:lnTo>
                      <a:pt x="608" y="184"/>
                    </a:lnTo>
                    <a:lnTo>
                      <a:pt x="603" y="200"/>
                    </a:lnTo>
                    <a:lnTo>
                      <a:pt x="596" y="218"/>
                    </a:lnTo>
                    <a:lnTo>
                      <a:pt x="588" y="236"/>
                    </a:lnTo>
                    <a:lnTo>
                      <a:pt x="578" y="253"/>
                    </a:lnTo>
                    <a:lnTo>
                      <a:pt x="569" y="267"/>
                    </a:lnTo>
                    <a:lnTo>
                      <a:pt x="560" y="279"/>
                    </a:lnTo>
                    <a:lnTo>
                      <a:pt x="550" y="290"/>
                    </a:lnTo>
                    <a:lnTo>
                      <a:pt x="539" y="301"/>
                    </a:lnTo>
                    <a:lnTo>
                      <a:pt x="527" y="312"/>
                    </a:lnTo>
                    <a:lnTo>
                      <a:pt x="515" y="320"/>
                    </a:lnTo>
                    <a:lnTo>
                      <a:pt x="502" y="330"/>
                    </a:lnTo>
                    <a:lnTo>
                      <a:pt x="489" y="338"/>
                    </a:lnTo>
                    <a:lnTo>
                      <a:pt x="461" y="354"/>
                    </a:lnTo>
                    <a:lnTo>
                      <a:pt x="432" y="367"/>
                    </a:lnTo>
                    <a:lnTo>
                      <a:pt x="401" y="380"/>
                    </a:lnTo>
                    <a:lnTo>
                      <a:pt x="368" y="393"/>
                    </a:lnTo>
                    <a:lnTo>
                      <a:pt x="361" y="394"/>
                    </a:lnTo>
                    <a:lnTo>
                      <a:pt x="353" y="394"/>
                    </a:lnTo>
                    <a:lnTo>
                      <a:pt x="345" y="392"/>
                    </a:lnTo>
                    <a:lnTo>
                      <a:pt x="335" y="388"/>
                    </a:lnTo>
                    <a:lnTo>
                      <a:pt x="325" y="383"/>
                    </a:lnTo>
                    <a:lnTo>
                      <a:pt x="314" y="377"/>
                    </a:lnTo>
                    <a:lnTo>
                      <a:pt x="304" y="369"/>
                    </a:lnTo>
                    <a:lnTo>
                      <a:pt x="292" y="359"/>
                    </a:lnTo>
                    <a:lnTo>
                      <a:pt x="267" y="338"/>
                    </a:lnTo>
                    <a:lnTo>
                      <a:pt x="241" y="312"/>
                    </a:lnTo>
                    <a:lnTo>
                      <a:pt x="215" y="283"/>
                    </a:lnTo>
                    <a:lnTo>
                      <a:pt x="187" y="251"/>
                    </a:lnTo>
                    <a:lnTo>
                      <a:pt x="160" y="218"/>
                    </a:lnTo>
                    <a:lnTo>
                      <a:pt x="133" y="184"/>
                    </a:lnTo>
                    <a:lnTo>
                      <a:pt x="107" y="150"/>
                    </a:lnTo>
                    <a:lnTo>
                      <a:pt x="81" y="115"/>
                    </a:lnTo>
                    <a:lnTo>
                      <a:pt x="36" y="53"/>
                    </a:lnTo>
                    <a:lnTo>
                      <a:pt x="0" y="0"/>
                    </a:lnTo>
                    <a:lnTo>
                      <a:pt x="13" y="6"/>
                    </a:lnTo>
                    <a:lnTo>
                      <a:pt x="49" y="26"/>
                    </a:lnTo>
                    <a:lnTo>
                      <a:pt x="100" y="53"/>
                    </a:lnTo>
                    <a:lnTo>
                      <a:pt x="165" y="85"/>
                    </a:lnTo>
                    <a:lnTo>
                      <a:pt x="200" y="101"/>
                    </a:lnTo>
                    <a:lnTo>
                      <a:pt x="234" y="116"/>
                    </a:lnTo>
                    <a:lnTo>
                      <a:pt x="270" y="131"/>
                    </a:lnTo>
                    <a:lnTo>
                      <a:pt x="305" y="145"/>
                    </a:lnTo>
                    <a:lnTo>
                      <a:pt x="339" y="157"/>
                    </a:lnTo>
                    <a:lnTo>
                      <a:pt x="371" y="167"/>
                    </a:lnTo>
                    <a:lnTo>
                      <a:pt x="385" y="170"/>
                    </a:lnTo>
                    <a:lnTo>
                      <a:pt x="400" y="173"/>
                    </a:lnTo>
                    <a:lnTo>
                      <a:pt x="413" y="176"/>
                    </a:lnTo>
                    <a:lnTo>
                      <a:pt x="425" y="178"/>
                    </a:lnTo>
                    <a:lnTo>
                      <a:pt x="448" y="179"/>
                    </a:lnTo>
                    <a:lnTo>
                      <a:pt x="470" y="179"/>
                    </a:lnTo>
                    <a:lnTo>
                      <a:pt x="490" y="179"/>
                    </a:lnTo>
                    <a:lnTo>
                      <a:pt x="509" y="177"/>
                    </a:lnTo>
                    <a:lnTo>
                      <a:pt x="526" y="175"/>
                    </a:lnTo>
                    <a:lnTo>
                      <a:pt x="541" y="171"/>
                    </a:lnTo>
                    <a:lnTo>
                      <a:pt x="555" y="167"/>
                    </a:lnTo>
                    <a:lnTo>
                      <a:pt x="568" y="164"/>
                    </a:lnTo>
                    <a:lnTo>
                      <a:pt x="589" y="155"/>
                    </a:lnTo>
                    <a:lnTo>
                      <a:pt x="604" y="148"/>
                    </a:lnTo>
                    <a:lnTo>
                      <a:pt x="612" y="142"/>
                    </a:lnTo>
                    <a:lnTo>
                      <a:pt x="615" y="140"/>
                    </a:lnTo>
                    <a:close/>
                  </a:path>
                </a:pathLst>
              </a:custGeom>
              <a:solidFill>
                <a:srgbClr val="b887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5200560" y="2702160"/>
                <a:ext cx="222480" cy="963360"/>
              </a:xfrm>
              <a:custGeom>
                <a:avLst/>
                <a:gdLst/>
                <a:ahLst/>
                <a:rect l="l" t="t" r="r" b="b"/>
                <a:pathLst>
                  <a:path w="702" h="3036">
                    <a:moveTo>
                      <a:pt x="702" y="2934"/>
                    </a:moveTo>
                    <a:lnTo>
                      <a:pt x="669" y="2956"/>
                    </a:lnTo>
                    <a:lnTo>
                      <a:pt x="638" y="2975"/>
                    </a:lnTo>
                    <a:lnTo>
                      <a:pt x="611" y="2992"/>
                    </a:lnTo>
                    <a:lnTo>
                      <a:pt x="586" y="3007"/>
                    </a:lnTo>
                    <a:lnTo>
                      <a:pt x="567" y="3019"/>
                    </a:lnTo>
                    <a:lnTo>
                      <a:pt x="552" y="3028"/>
                    </a:lnTo>
                    <a:lnTo>
                      <a:pt x="542" y="3033"/>
                    </a:lnTo>
                    <a:lnTo>
                      <a:pt x="539" y="3036"/>
                    </a:lnTo>
                    <a:lnTo>
                      <a:pt x="539" y="3031"/>
                    </a:lnTo>
                    <a:lnTo>
                      <a:pt x="538" y="3019"/>
                    </a:lnTo>
                    <a:lnTo>
                      <a:pt x="534" y="2999"/>
                    </a:lnTo>
                    <a:lnTo>
                      <a:pt x="530" y="2970"/>
                    </a:lnTo>
                    <a:lnTo>
                      <a:pt x="522" y="2934"/>
                    </a:lnTo>
                    <a:lnTo>
                      <a:pt x="511" y="2890"/>
                    </a:lnTo>
                    <a:lnTo>
                      <a:pt x="502" y="2865"/>
                    </a:lnTo>
                    <a:lnTo>
                      <a:pt x="493" y="2838"/>
                    </a:lnTo>
                    <a:lnTo>
                      <a:pt x="484" y="2809"/>
                    </a:lnTo>
                    <a:lnTo>
                      <a:pt x="472" y="2779"/>
                    </a:lnTo>
                    <a:lnTo>
                      <a:pt x="444" y="2704"/>
                    </a:lnTo>
                    <a:lnTo>
                      <a:pt x="409" y="2609"/>
                    </a:lnTo>
                    <a:lnTo>
                      <a:pt x="372" y="2501"/>
                    </a:lnTo>
                    <a:lnTo>
                      <a:pt x="333" y="2386"/>
                    </a:lnTo>
                    <a:lnTo>
                      <a:pt x="296" y="2274"/>
                    </a:lnTo>
                    <a:lnTo>
                      <a:pt x="260" y="2169"/>
                    </a:lnTo>
                    <a:lnTo>
                      <a:pt x="229" y="2080"/>
                    </a:lnTo>
                    <a:lnTo>
                      <a:pt x="205" y="2012"/>
                    </a:lnTo>
                    <a:lnTo>
                      <a:pt x="193" y="1983"/>
                    </a:lnTo>
                    <a:lnTo>
                      <a:pt x="181" y="1947"/>
                    </a:lnTo>
                    <a:lnTo>
                      <a:pt x="169" y="1907"/>
                    </a:lnTo>
                    <a:lnTo>
                      <a:pt x="156" y="1864"/>
                    </a:lnTo>
                    <a:lnTo>
                      <a:pt x="143" y="1817"/>
                    </a:lnTo>
                    <a:lnTo>
                      <a:pt x="129" y="1769"/>
                    </a:lnTo>
                    <a:lnTo>
                      <a:pt x="116" y="1718"/>
                    </a:lnTo>
                    <a:lnTo>
                      <a:pt x="103" y="1667"/>
                    </a:lnTo>
                    <a:lnTo>
                      <a:pt x="91" y="1614"/>
                    </a:lnTo>
                    <a:lnTo>
                      <a:pt x="80" y="1562"/>
                    </a:lnTo>
                    <a:lnTo>
                      <a:pt x="70" y="1511"/>
                    </a:lnTo>
                    <a:lnTo>
                      <a:pt x="60" y="1461"/>
                    </a:lnTo>
                    <a:lnTo>
                      <a:pt x="51" y="1413"/>
                    </a:lnTo>
                    <a:lnTo>
                      <a:pt x="45" y="1368"/>
                    </a:lnTo>
                    <a:lnTo>
                      <a:pt x="40" y="1326"/>
                    </a:lnTo>
                    <a:lnTo>
                      <a:pt x="36" y="1288"/>
                    </a:lnTo>
                    <a:lnTo>
                      <a:pt x="35" y="1254"/>
                    </a:lnTo>
                    <a:lnTo>
                      <a:pt x="34" y="1222"/>
                    </a:lnTo>
                    <a:lnTo>
                      <a:pt x="34" y="1193"/>
                    </a:lnTo>
                    <a:lnTo>
                      <a:pt x="34" y="1165"/>
                    </a:lnTo>
                    <a:lnTo>
                      <a:pt x="36" y="1117"/>
                    </a:lnTo>
                    <a:lnTo>
                      <a:pt x="39" y="1079"/>
                    </a:lnTo>
                    <a:lnTo>
                      <a:pt x="42" y="1049"/>
                    </a:lnTo>
                    <a:lnTo>
                      <a:pt x="45" y="1028"/>
                    </a:lnTo>
                    <a:lnTo>
                      <a:pt x="48" y="1015"/>
                    </a:lnTo>
                    <a:lnTo>
                      <a:pt x="48" y="1011"/>
                    </a:lnTo>
                    <a:lnTo>
                      <a:pt x="48" y="1006"/>
                    </a:lnTo>
                    <a:lnTo>
                      <a:pt x="45" y="991"/>
                    </a:lnTo>
                    <a:lnTo>
                      <a:pt x="42" y="967"/>
                    </a:lnTo>
                    <a:lnTo>
                      <a:pt x="37" y="934"/>
                    </a:lnTo>
                    <a:lnTo>
                      <a:pt x="33" y="894"/>
                    </a:lnTo>
                    <a:lnTo>
                      <a:pt x="30" y="846"/>
                    </a:lnTo>
                    <a:lnTo>
                      <a:pt x="28" y="792"/>
                    </a:lnTo>
                    <a:lnTo>
                      <a:pt x="27" y="732"/>
                    </a:lnTo>
                    <a:lnTo>
                      <a:pt x="27" y="674"/>
                    </a:lnTo>
                    <a:lnTo>
                      <a:pt x="27" y="623"/>
                    </a:lnTo>
                    <a:lnTo>
                      <a:pt x="26" y="577"/>
                    </a:lnTo>
                    <a:lnTo>
                      <a:pt x="24" y="538"/>
                    </a:lnTo>
                    <a:lnTo>
                      <a:pt x="23" y="502"/>
                    </a:lnTo>
                    <a:lnTo>
                      <a:pt x="21" y="469"/>
                    </a:lnTo>
                    <a:lnTo>
                      <a:pt x="18" y="439"/>
                    </a:lnTo>
                    <a:lnTo>
                      <a:pt x="14" y="410"/>
                    </a:lnTo>
                    <a:lnTo>
                      <a:pt x="10" y="378"/>
                    </a:lnTo>
                    <a:lnTo>
                      <a:pt x="7" y="340"/>
                    </a:lnTo>
                    <a:lnTo>
                      <a:pt x="3" y="297"/>
                    </a:lnTo>
                    <a:lnTo>
                      <a:pt x="1" y="250"/>
                    </a:lnTo>
                    <a:lnTo>
                      <a:pt x="0" y="199"/>
                    </a:lnTo>
                    <a:lnTo>
                      <a:pt x="0" y="145"/>
                    </a:lnTo>
                    <a:lnTo>
                      <a:pt x="1" y="90"/>
                    </a:lnTo>
                    <a:lnTo>
                      <a:pt x="4" y="32"/>
                    </a:lnTo>
                    <a:lnTo>
                      <a:pt x="5" y="27"/>
                    </a:lnTo>
                    <a:lnTo>
                      <a:pt x="6" y="21"/>
                    </a:lnTo>
                    <a:lnTo>
                      <a:pt x="8" y="17"/>
                    </a:lnTo>
                    <a:lnTo>
                      <a:pt x="10" y="14"/>
                    </a:lnTo>
                    <a:lnTo>
                      <a:pt x="14" y="10"/>
                    </a:lnTo>
                    <a:lnTo>
                      <a:pt x="17" y="7"/>
                    </a:lnTo>
                    <a:lnTo>
                      <a:pt x="21" y="5"/>
                    </a:lnTo>
                    <a:lnTo>
                      <a:pt x="27" y="3"/>
                    </a:lnTo>
                    <a:lnTo>
                      <a:pt x="36" y="1"/>
                    </a:lnTo>
                    <a:lnTo>
                      <a:pt x="49" y="0"/>
                    </a:lnTo>
                    <a:lnTo>
                      <a:pt x="63" y="1"/>
                    </a:lnTo>
                    <a:lnTo>
                      <a:pt x="78" y="3"/>
                    </a:lnTo>
                    <a:lnTo>
                      <a:pt x="96" y="7"/>
                    </a:lnTo>
                    <a:lnTo>
                      <a:pt x="114" y="13"/>
                    </a:lnTo>
                    <a:lnTo>
                      <a:pt x="135" y="19"/>
                    </a:lnTo>
                    <a:lnTo>
                      <a:pt x="155" y="27"/>
                    </a:lnTo>
                    <a:lnTo>
                      <a:pt x="199" y="45"/>
                    </a:lnTo>
                    <a:lnTo>
                      <a:pt x="247" y="67"/>
                    </a:lnTo>
                    <a:lnTo>
                      <a:pt x="245" y="79"/>
                    </a:lnTo>
                    <a:lnTo>
                      <a:pt x="239" y="111"/>
                    </a:lnTo>
                    <a:lnTo>
                      <a:pt x="232" y="158"/>
                    </a:lnTo>
                    <a:lnTo>
                      <a:pt x="224" y="218"/>
                    </a:lnTo>
                    <a:lnTo>
                      <a:pt x="217" y="283"/>
                    </a:lnTo>
                    <a:lnTo>
                      <a:pt x="211" y="349"/>
                    </a:lnTo>
                    <a:lnTo>
                      <a:pt x="209" y="380"/>
                    </a:lnTo>
                    <a:lnTo>
                      <a:pt x="208" y="411"/>
                    </a:lnTo>
                    <a:lnTo>
                      <a:pt x="208" y="439"/>
                    </a:lnTo>
                    <a:lnTo>
                      <a:pt x="209" y="465"/>
                    </a:lnTo>
                    <a:lnTo>
                      <a:pt x="211" y="491"/>
                    </a:lnTo>
                    <a:lnTo>
                      <a:pt x="214" y="519"/>
                    </a:lnTo>
                    <a:lnTo>
                      <a:pt x="215" y="550"/>
                    </a:lnTo>
                    <a:lnTo>
                      <a:pt x="215" y="584"/>
                    </a:lnTo>
                    <a:lnTo>
                      <a:pt x="216" y="654"/>
                    </a:lnTo>
                    <a:lnTo>
                      <a:pt x="214" y="725"/>
                    </a:lnTo>
                    <a:lnTo>
                      <a:pt x="210" y="792"/>
                    </a:lnTo>
                    <a:lnTo>
                      <a:pt x="206" y="852"/>
                    </a:lnTo>
                    <a:lnTo>
                      <a:pt x="203" y="877"/>
                    </a:lnTo>
                    <a:lnTo>
                      <a:pt x="199" y="898"/>
                    </a:lnTo>
                    <a:lnTo>
                      <a:pt x="196" y="916"/>
                    </a:lnTo>
                    <a:lnTo>
                      <a:pt x="192" y="927"/>
                    </a:lnTo>
                    <a:lnTo>
                      <a:pt x="182" y="950"/>
                    </a:lnTo>
                    <a:lnTo>
                      <a:pt x="169" y="981"/>
                    </a:lnTo>
                    <a:lnTo>
                      <a:pt x="163" y="1000"/>
                    </a:lnTo>
                    <a:lnTo>
                      <a:pt x="156" y="1020"/>
                    </a:lnTo>
                    <a:lnTo>
                      <a:pt x="151" y="1042"/>
                    </a:lnTo>
                    <a:lnTo>
                      <a:pt x="147" y="1066"/>
                    </a:lnTo>
                    <a:lnTo>
                      <a:pt x="143" y="1090"/>
                    </a:lnTo>
                    <a:lnTo>
                      <a:pt x="141" y="1117"/>
                    </a:lnTo>
                    <a:lnTo>
                      <a:pt x="141" y="1144"/>
                    </a:lnTo>
                    <a:lnTo>
                      <a:pt x="143" y="1174"/>
                    </a:lnTo>
                    <a:lnTo>
                      <a:pt x="145" y="1189"/>
                    </a:lnTo>
                    <a:lnTo>
                      <a:pt x="148" y="1204"/>
                    </a:lnTo>
                    <a:lnTo>
                      <a:pt x="151" y="1219"/>
                    </a:lnTo>
                    <a:lnTo>
                      <a:pt x="154" y="1235"/>
                    </a:lnTo>
                    <a:lnTo>
                      <a:pt x="158" y="1251"/>
                    </a:lnTo>
                    <a:lnTo>
                      <a:pt x="164" y="1268"/>
                    </a:lnTo>
                    <a:lnTo>
                      <a:pt x="170" y="1284"/>
                    </a:lnTo>
                    <a:lnTo>
                      <a:pt x="177" y="1300"/>
                    </a:lnTo>
                    <a:lnTo>
                      <a:pt x="206" y="1365"/>
                    </a:lnTo>
                    <a:lnTo>
                      <a:pt x="234" y="1424"/>
                    </a:lnTo>
                    <a:lnTo>
                      <a:pt x="261" y="1480"/>
                    </a:lnTo>
                    <a:lnTo>
                      <a:pt x="287" y="1531"/>
                    </a:lnTo>
                    <a:lnTo>
                      <a:pt x="313" y="1580"/>
                    </a:lnTo>
                    <a:lnTo>
                      <a:pt x="338" y="1624"/>
                    </a:lnTo>
                    <a:lnTo>
                      <a:pt x="360" y="1666"/>
                    </a:lnTo>
                    <a:lnTo>
                      <a:pt x="382" y="1706"/>
                    </a:lnTo>
                    <a:lnTo>
                      <a:pt x="392" y="1726"/>
                    </a:lnTo>
                    <a:lnTo>
                      <a:pt x="400" y="1747"/>
                    </a:lnTo>
                    <a:lnTo>
                      <a:pt x="408" y="1771"/>
                    </a:lnTo>
                    <a:lnTo>
                      <a:pt x="414" y="1796"/>
                    </a:lnTo>
                    <a:lnTo>
                      <a:pt x="419" y="1821"/>
                    </a:lnTo>
                    <a:lnTo>
                      <a:pt x="422" y="1845"/>
                    </a:lnTo>
                    <a:lnTo>
                      <a:pt x="424" y="1869"/>
                    </a:lnTo>
                    <a:lnTo>
                      <a:pt x="425" y="1892"/>
                    </a:lnTo>
                    <a:lnTo>
                      <a:pt x="425" y="1913"/>
                    </a:lnTo>
                    <a:lnTo>
                      <a:pt x="423" y="1933"/>
                    </a:lnTo>
                    <a:lnTo>
                      <a:pt x="421" y="1942"/>
                    </a:lnTo>
                    <a:lnTo>
                      <a:pt x="419" y="1949"/>
                    </a:lnTo>
                    <a:lnTo>
                      <a:pt x="417" y="1956"/>
                    </a:lnTo>
                    <a:lnTo>
                      <a:pt x="414" y="1961"/>
                    </a:lnTo>
                    <a:lnTo>
                      <a:pt x="411" y="1966"/>
                    </a:lnTo>
                    <a:lnTo>
                      <a:pt x="408" y="1971"/>
                    </a:lnTo>
                    <a:lnTo>
                      <a:pt x="404" y="1973"/>
                    </a:lnTo>
                    <a:lnTo>
                      <a:pt x="399" y="1975"/>
                    </a:lnTo>
                    <a:lnTo>
                      <a:pt x="394" y="1975"/>
                    </a:lnTo>
                    <a:lnTo>
                      <a:pt x="390" y="1974"/>
                    </a:lnTo>
                    <a:lnTo>
                      <a:pt x="383" y="1972"/>
                    </a:lnTo>
                    <a:lnTo>
                      <a:pt x="378" y="1967"/>
                    </a:lnTo>
                    <a:lnTo>
                      <a:pt x="371" y="1963"/>
                    </a:lnTo>
                    <a:lnTo>
                      <a:pt x="366" y="1961"/>
                    </a:lnTo>
                    <a:lnTo>
                      <a:pt x="362" y="1960"/>
                    </a:lnTo>
                    <a:lnTo>
                      <a:pt x="357" y="1960"/>
                    </a:lnTo>
                    <a:lnTo>
                      <a:pt x="354" y="1961"/>
                    </a:lnTo>
                    <a:lnTo>
                      <a:pt x="351" y="1964"/>
                    </a:lnTo>
                    <a:lnTo>
                      <a:pt x="347" y="1967"/>
                    </a:lnTo>
                    <a:lnTo>
                      <a:pt x="345" y="1973"/>
                    </a:lnTo>
                    <a:lnTo>
                      <a:pt x="343" y="1978"/>
                    </a:lnTo>
                    <a:lnTo>
                      <a:pt x="342" y="1986"/>
                    </a:lnTo>
                    <a:lnTo>
                      <a:pt x="341" y="1993"/>
                    </a:lnTo>
                    <a:lnTo>
                      <a:pt x="340" y="2002"/>
                    </a:lnTo>
                    <a:lnTo>
                      <a:pt x="340" y="2020"/>
                    </a:lnTo>
                    <a:lnTo>
                      <a:pt x="341" y="2042"/>
                    </a:lnTo>
                    <a:lnTo>
                      <a:pt x="343" y="2066"/>
                    </a:lnTo>
                    <a:lnTo>
                      <a:pt x="346" y="2091"/>
                    </a:lnTo>
                    <a:lnTo>
                      <a:pt x="351" y="2116"/>
                    </a:lnTo>
                    <a:lnTo>
                      <a:pt x="356" y="2142"/>
                    </a:lnTo>
                    <a:lnTo>
                      <a:pt x="366" y="2194"/>
                    </a:lnTo>
                    <a:lnTo>
                      <a:pt x="378" y="2240"/>
                    </a:lnTo>
                    <a:lnTo>
                      <a:pt x="385" y="2266"/>
                    </a:lnTo>
                    <a:lnTo>
                      <a:pt x="399" y="2301"/>
                    </a:lnTo>
                    <a:lnTo>
                      <a:pt x="418" y="2345"/>
                    </a:lnTo>
                    <a:lnTo>
                      <a:pt x="439" y="2395"/>
                    </a:lnTo>
                    <a:lnTo>
                      <a:pt x="492" y="2509"/>
                    </a:lnTo>
                    <a:lnTo>
                      <a:pt x="549" y="2628"/>
                    </a:lnTo>
                    <a:lnTo>
                      <a:pt x="606" y="2744"/>
                    </a:lnTo>
                    <a:lnTo>
                      <a:pt x="654" y="2841"/>
                    </a:lnTo>
                    <a:lnTo>
                      <a:pt x="689" y="2909"/>
                    </a:lnTo>
                    <a:lnTo>
                      <a:pt x="702" y="2934"/>
                    </a:lnTo>
                    <a:close/>
                  </a:path>
                </a:pathLst>
              </a:custGeom>
              <a:solidFill>
                <a:srgbClr val="9a76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5284800" y="2772000"/>
                <a:ext cx="171360" cy="776160"/>
              </a:xfrm>
              <a:custGeom>
                <a:avLst/>
                <a:gdLst/>
                <a:ahLst/>
                <a:rect l="l" t="t" r="r" b="b"/>
                <a:pathLst>
                  <a:path w="539" h="2446">
                    <a:moveTo>
                      <a:pt x="539" y="2309"/>
                    </a:moveTo>
                    <a:lnTo>
                      <a:pt x="528" y="2294"/>
                    </a:lnTo>
                    <a:lnTo>
                      <a:pt x="518" y="2277"/>
                    </a:lnTo>
                    <a:lnTo>
                      <a:pt x="508" y="2260"/>
                    </a:lnTo>
                    <a:lnTo>
                      <a:pt x="498" y="2240"/>
                    </a:lnTo>
                    <a:lnTo>
                      <a:pt x="490" y="2220"/>
                    </a:lnTo>
                    <a:lnTo>
                      <a:pt x="482" y="2199"/>
                    </a:lnTo>
                    <a:lnTo>
                      <a:pt x="475" y="2176"/>
                    </a:lnTo>
                    <a:lnTo>
                      <a:pt x="468" y="2154"/>
                    </a:lnTo>
                    <a:lnTo>
                      <a:pt x="462" y="2130"/>
                    </a:lnTo>
                    <a:lnTo>
                      <a:pt x="455" y="2106"/>
                    </a:lnTo>
                    <a:lnTo>
                      <a:pt x="450" y="2081"/>
                    </a:lnTo>
                    <a:lnTo>
                      <a:pt x="446" y="2055"/>
                    </a:lnTo>
                    <a:lnTo>
                      <a:pt x="437" y="2004"/>
                    </a:lnTo>
                    <a:lnTo>
                      <a:pt x="430" y="1951"/>
                    </a:lnTo>
                    <a:lnTo>
                      <a:pt x="424" y="1898"/>
                    </a:lnTo>
                    <a:lnTo>
                      <a:pt x="420" y="1845"/>
                    </a:lnTo>
                    <a:lnTo>
                      <a:pt x="416" y="1793"/>
                    </a:lnTo>
                    <a:lnTo>
                      <a:pt x="413" y="1743"/>
                    </a:lnTo>
                    <a:lnTo>
                      <a:pt x="409" y="1651"/>
                    </a:lnTo>
                    <a:lnTo>
                      <a:pt x="406" y="1575"/>
                    </a:lnTo>
                    <a:lnTo>
                      <a:pt x="402" y="1539"/>
                    </a:lnTo>
                    <a:lnTo>
                      <a:pt x="397" y="1500"/>
                    </a:lnTo>
                    <a:lnTo>
                      <a:pt x="390" y="1457"/>
                    </a:lnTo>
                    <a:lnTo>
                      <a:pt x="383" y="1413"/>
                    </a:lnTo>
                    <a:lnTo>
                      <a:pt x="374" y="1366"/>
                    </a:lnTo>
                    <a:lnTo>
                      <a:pt x="364" y="1319"/>
                    </a:lnTo>
                    <a:lnTo>
                      <a:pt x="354" y="1271"/>
                    </a:lnTo>
                    <a:lnTo>
                      <a:pt x="343" y="1225"/>
                    </a:lnTo>
                    <a:lnTo>
                      <a:pt x="321" y="1137"/>
                    </a:lnTo>
                    <a:lnTo>
                      <a:pt x="301" y="1062"/>
                    </a:lnTo>
                    <a:lnTo>
                      <a:pt x="292" y="1032"/>
                    </a:lnTo>
                    <a:lnTo>
                      <a:pt x="283" y="1006"/>
                    </a:lnTo>
                    <a:lnTo>
                      <a:pt x="277" y="986"/>
                    </a:lnTo>
                    <a:lnTo>
                      <a:pt x="273" y="974"/>
                    </a:lnTo>
                    <a:lnTo>
                      <a:pt x="268" y="966"/>
                    </a:lnTo>
                    <a:lnTo>
                      <a:pt x="264" y="955"/>
                    </a:lnTo>
                    <a:lnTo>
                      <a:pt x="261" y="942"/>
                    </a:lnTo>
                    <a:lnTo>
                      <a:pt x="258" y="929"/>
                    </a:lnTo>
                    <a:lnTo>
                      <a:pt x="255" y="915"/>
                    </a:lnTo>
                    <a:lnTo>
                      <a:pt x="253" y="900"/>
                    </a:lnTo>
                    <a:lnTo>
                      <a:pt x="252" y="885"/>
                    </a:lnTo>
                    <a:lnTo>
                      <a:pt x="251" y="870"/>
                    </a:lnTo>
                    <a:lnTo>
                      <a:pt x="251" y="853"/>
                    </a:lnTo>
                    <a:lnTo>
                      <a:pt x="251" y="838"/>
                    </a:lnTo>
                    <a:lnTo>
                      <a:pt x="252" y="824"/>
                    </a:lnTo>
                    <a:lnTo>
                      <a:pt x="254" y="810"/>
                    </a:lnTo>
                    <a:lnTo>
                      <a:pt x="258" y="796"/>
                    </a:lnTo>
                    <a:lnTo>
                      <a:pt x="262" y="784"/>
                    </a:lnTo>
                    <a:lnTo>
                      <a:pt x="266" y="773"/>
                    </a:lnTo>
                    <a:lnTo>
                      <a:pt x="273" y="765"/>
                    </a:lnTo>
                    <a:lnTo>
                      <a:pt x="283" y="746"/>
                    </a:lnTo>
                    <a:lnTo>
                      <a:pt x="295" y="727"/>
                    </a:lnTo>
                    <a:lnTo>
                      <a:pt x="305" y="704"/>
                    </a:lnTo>
                    <a:lnTo>
                      <a:pt x="316" y="679"/>
                    </a:lnTo>
                    <a:lnTo>
                      <a:pt x="327" y="651"/>
                    </a:lnTo>
                    <a:lnTo>
                      <a:pt x="337" y="621"/>
                    </a:lnTo>
                    <a:lnTo>
                      <a:pt x="348" y="588"/>
                    </a:lnTo>
                    <a:lnTo>
                      <a:pt x="361" y="552"/>
                    </a:lnTo>
                    <a:lnTo>
                      <a:pt x="368" y="530"/>
                    </a:lnTo>
                    <a:lnTo>
                      <a:pt x="373" y="505"/>
                    </a:lnTo>
                    <a:lnTo>
                      <a:pt x="380" y="475"/>
                    </a:lnTo>
                    <a:lnTo>
                      <a:pt x="385" y="443"/>
                    </a:lnTo>
                    <a:lnTo>
                      <a:pt x="397" y="372"/>
                    </a:lnTo>
                    <a:lnTo>
                      <a:pt x="407" y="298"/>
                    </a:lnTo>
                    <a:lnTo>
                      <a:pt x="415" y="230"/>
                    </a:lnTo>
                    <a:lnTo>
                      <a:pt x="422" y="173"/>
                    </a:lnTo>
                    <a:lnTo>
                      <a:pt x="426" y="134"/>
                    </a:lnTo>
                    <a:lnTo>
                      <a:pt x="428" y="119"/>
                    </a:lnTo>
                    <a:lnTo>
                      <a:pt x="424" y="117"/>
                    </a:lnTo>
                    <a:lnTo>
                      <a:pt x="414" y="109"/>
                    </a:lnTo>
                    <a:lnTo>
                      <a:pt x="397" y="98"/>
                    </a:lnTo>
                    <a:lnTo>
                      <a:pt x="374" y="84"/>
                    </a:lnTo>
                    <a:lnTo>
                      <a:pt x="347" y="66"/>
                    </a:lnTo>
                    <a:lnTo>
                      <a:pt x="316" y="47"/>
                    </a:lnTo>
                    <a:lnTo>
                      <a:pt x="280" y="24"/>
                    </a:lnTo>
                    <a:lnTo>
                      <a:pt x="242" y="0"/>
                    </a:lnTo>
                    <a:lnTo>
                      <a:pt x="244" y="14"/>
                    </a:lnTo>
                    <a:lnTo>
                      <a:pt x="244" y="53"/>
                    </a:lnTo>
                    <a:lnTo>
                      <a:pt x="245" y="111"/>
                    </a:lnTo>
                    <a:lnTo>
                      <a:pt x="244" y="182"/>
                    </a:lnTo>
                    <a:lnTo>
                      <a:pt x="242" y="219"/>
                    </a:lnTo>
                    <a:lnTo>
                      <a:pt x="241" y="258"/>
                    </a:lnTo>
                    <a:lnTo>
                      <a:pt x="239" y="298"/>
                    </a:lnTo>
                    <a:lnTo>
                      <a:pt x="236" y="337"/>
                    </a:lnTo>
                    <a:lnTo>
                      <a:pt x="233" y="375"/>
                    </a:lnTo>
                    <a:lnTo>
                      <a:pt x="228" y="412"/>
                    </a:lnTo>
                    <a:lnTo>
                      <a:pt x="222" y="445"/>
                    </a:lnTo>
                    <a:lnTo>
                      <a:pt x="215" y="475"/>
                    </a:lnTo>
                    <a:lnTo>
                      <a:pt x="208" y="502"/>
                    </a:lnTo>
                    <a:lnTo>
                      <a:pt x="200" y="527"/>
                    </a:lnTo>
                    <a:lnTo>
                      <a:pt x="192" y="551"/>
                    </a:lnTo>
                    <a:lnTo>
                      <a:pt x="183" y="574"/>
                    </a:lnTo>
                    <a:lnTo>
                      <a:pt x="174" y="593"/>
                    </a:lnTo>
                    <a:lnTo>
                      <a:pt x="165" y="613"/>
                    </a:lnTo>
                    <a:lnTo>
                      <a:pt x="156" y="629"/>
                    </a:lnTo>
                    <a:lnTo>
                      <a:pt x="146" y="645"/>
                    </a:lnTo>
                    <a:lnTo>
                      <a:pt x="138" y="658"/>
                    </a:lnTo>
                    <a:lnTo>
                      <a:pt x="129" y="670"/>
                    </a:lnTo>
                    <a:lnTo>
                      <a:pt x="121" y="679"/>
                    </a:lnTo>
                    <a:lnTo>
                      <a:pt x="113" y="688"/>
                    </a:lnTo>
                    <a:lnTo>
                      <a:pt x="106" y="695"/>
                    </a:lnTo>
                    <a:lnTo>
                      <a:pt x="100" y="699"/>
                    </a:lnTo>
                    <a:lnTo>
                      <a:pt x="94" y="701"/>
                    </a:lnTo>
                    <a:lnTo>
                      <a:pt x="89" y="702"/>
                    </a:lnTo>
                    <a:lnTo>
                      <a:pt x="85" y="704"/>
                    </a:lnTo>
                    <a:lnTo>
                      <a:pt x="78" y="709"/>
                    </a:lnTo>
                    <a:lnTo>
                      <a:pt x="71" y="716"/>
                    </a:lnTo>
                    <a:lnTo>
                      <a:pt x="62" y="725"/>
                    </a:lnTo>
                    <a:lnTo>
                      <a:pt x="52" y="738"/>
                    </a:lnTo>
                    <a:lnTo>
                      <a:pt x="44" y="752"/>
                    </a:lnTo>
                    <a:lnTo>
                      <a:pt x="34" y="768"/>
                    </a:lnTo>
                    <a:lnTo>
                      <a:pt x="25" y="785"/>
                    </a:lnTo>
                    <a:lnTo>
                      <a:pt x="18" y="805"/>
                    </a:lnTo>
                    <a:lnTo>
                      <a:pt x="11" y="825"/>
                    </a:lnTo>
                    <a:lnTo>
                      <a:pt x="6" y="847"/>
                    </a:lnTo>
                    <a:lnTo>
                      <a:pt x="2" y="870"/>
                    </a:lnTo>
                    <a:lnTo>
                      <a:pt x="0" y="881"/>
                    </a:lnTo>
                    <a:lnTo>
                      <a:pt x="0" y="892"/>
                    </a:lnTo>
                    <a:lnTo>
                      <a:pt x="0" y="904"/>
                    </a:lnTo>
                    <a:lnTo>
                      <a:pt x="0" y="916"/>
                    </a:lnTo>
                    <a:lnTo>
                      <a:pt x="2" y="928"/>
                    </a:lnTo>
                    <a:lnTo>
                      <a:pt x="4" y="941"/>
                    </a:lnTo>
                    <a:lnTo>
                      <a:pt x="7" y="953"/>
                    </a:lnTo>
                    <a:lnTo>
                      <a:pt x="10" y="965"/>
                    </a:lnTo>
                    <a:lnTo>
                      <a:pt x="20" y="993"/>
                    </a:lnTo>
                    <a:lnTo>
                      <a:pt x="31" y="1020"/>
                    </a:lnTo>
                    <a:lnTo>
                      <a:pt x="40" y="1046"/>
                    </a:lnTo>
                    <a:lnTo>
                      <a:pt x="52" y="1070"/>
                    </a:lnTo>
                    <a:lnTo>
                      <a:pt x="63" y="1094"/>
                    </a:lnTo>
                    <a:lnTo>
                      <a:pt x="75" y="1117"/>
                    </a:lnTo>
                    <a:lnTo>
                      <a:pt x="87" y="1138"/>
                    </a:lnTo>
                    <a:lnTo>
                      <a:pt x="99" y="1159"/>
                    </a:lnTo>
                    <a:lnTo>
                      <a:pt x="124" y="1198"/>
                    </a:lnTo>
                    <a:lnTo>
                      <a:pt x="148" y="1234"/>
                    </a:lnTo>
                    <a:lnTo>
                      <a:pt x="173" y="1267"/>
                    </a:lnTo>
                    <a:lnTo>
                      <a:pt x="197" y="1299"/>
                    </a:lnTo>
                    <a:lnTo>
                      <a:pt x="221" y="1331"/>
                    </a:lnTo>
                    <a:lnTo>
                      <a:pt x="242" y="1362"/>
                    </a:lnTo>
                    <a:lnTo>
                      <a:pt x="252" y="1377"/>
                    </a:lnTo>
                    <a:lnTo>
                      <a:pt x="262" y="1393"/>
                    </a:lnTo>
                    <a:lnTo>
                      <a:pt x="272" y="1410"/>
                    </a:lnTo>
                    <a:lnTo>
                      <a:pt x="280" y="1426"/>
                    </a:lnTo>
                    <a:lnTo>
                      <a:pt x="288" y="1442"/>
                    </a:lnTo>
                    <a:lnTo>
                      <a:pt x="295" y="1459"/>
                    </a:lnTo>
                    <a:lnTo>
                      <a:pt x="302" y="1477"/>
                    </a:lnTo>
                    <a:lnTo>
                      <a:pt x="307" y="1495"/>
                    </a:lnTo>
                    <a:lnTo>
                      <a:pt x="313" y="1513"/>
                    </a:lnTo>
                    <a:lnTo>
                      <a:pt x="317" y="1534"/>
                    </a:lnTo>
                    <a:lnTo>
                      <a:pt x="319" y="1554"/>
                    </a:lnTo>
                    <a:lnTo>
                      <a:pt x="321" y="1575"/>
                    </a:lnTo>
                    <a:lnTo>
                      <a:pt x="329" y="1674"/>
                    </a:lnTo>
                    <a:lnTo>
                      <a:pt x="339" y="1792"/>
                    </a:lnTo>
                    <a:lnTo>
                      <a:pt x="349" y="1919"/>
                    </a:lnTo>
                    <a:lnTo>
                      <a:pt x="362" y="2048"/>
                    </a:lnTo>
                    <a:lnTo>
                      <a:pt x="369" y="2110"/>
                    </a:lnTo>
                    <a:lnTo>
                      <a:pt x="376" y="2170"/>
                    </a:lnTo>
                    <a:lnTo>
                      <a:pt x="383" y="2227"/>
                    </a:lnTo>
                    <a:lnTo>
                      <a:pt x="390" y="2279"/>
                    </a:lnTo>
                    <a:lnTo>
                      <a:pt x="399" y="2325"/>
                    </a:lnTo>
                    <a:lnTo>
                      <a:pt x="407" y="2364"/>
                    </a:lnTo>
                    <a:lnTo>
                      <a:pt x="411" y="2382"/>
                    </a:lnTo>
                    <a:lnTo>
                      <a:pt x="415" y="2397"/>
                    </a:lnTo>
                    <a:lnTo>
                      <a:pt x="419" y="2410"/>
                    </a:lnTo>
                    <a:lnTo>
                      <a:pt x="423" y="2420"/>
                    </a:lnTo>
                    <a:lnTo>
                      <a:pt x="427" y="2429"/>
                    </a:lnTo>
                    <a:lnTo>
                      <a:pt x="431" y="2436"/>
                    </a:lnTo>
                    <a:lnTo>
                      <a:pt x="436" y="2441"/>
                    </a:lnTo>
                    <a:lnTo>
                      <a:pt x="440" y="2444"/>
                    </a:lnTo>
                    <a:lnTo>
                      <a:pt x="444" y="2446"/>
                    </a:lnTo>
                    <a:lnTo>
                      <a:pt x="450" y="2446"/>
                    </a:lnTo>
                    <a:lnTo>
                      <a:pt x="454" y="2446"/>
                    </a:lnTo>
                    <a:lnTo>
                      <a:pt x="458" y="2445"/>
                    </a:lnTo>
                    <a:lnTo>
                      <a:pt x="464" y="2442"/>
                    </a:lnTo>
                    <a:lnTo>
                      <a:pt x="468" y="2439"/>
                    </a:lnTo>
                    <a:lnTo>
                      <a:pt x="474" y="2434"/>
                    </a:lnTo>
                    <a:lnTo>
                      <a:pt x="478" y="2429"/>
                    </a:lnTo>
                    <a:lnTo>
                      <a:pt x="488" y="2416"/>
                    </a:lnTo>
                    <a:lnTo>
                      <a:pt x="497" y="2402"/>
                    </a:lnTo>
                    <a:lnTo>
                      <a:pt x="506" y="2386"/>
                    </a:lnTo>
                    <a:lnTo>
                      <a:pt x="514" y="2371"/>
                    </a:lnTo>
                    <a:lnTo>
                      <a:pt x="521" y="2355"/>
                    </a:lnTo>
                    <a:lnTo>
                      <a:pt x="527" y="2341"/>
                    </a:lnTo>
                    <a:lnTo>
                      <a:pt x="536" y="2318"/>
                    </a:lnTo>
                    <a:lnTo>
                      <a:pt x="539" y="2309"/>
                    </a:lnTo>
                    <a:close/>
                  </a:path>
                </a:pathLst>
              </a:custGeom>
              <a:solidFill>
                <a:srgbClr val="9a76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5200560" y="2700360"/>
                <a:ext cx="214200" cy="965160"/>
              </a:xfrm>
              <a:custGeom>
                <a:avLst/>
                <a:gdLst/>
                <a:ahLst/>
                <a:rect l="l" t="t" r="r" b="b"/>
                <a:pathLst>
                  <a:path w="677" h="3038">
                    <a:moveTo>
                      <a:pt x="182" y="469"/>
                    </a:moveTo>
                    <a:lnTo>
                      <a:pt x="185" y="523"/>
                    </a:lnTo>
                    <a:lnTo>
                      <a:pt x="187" y="587"/>
                    </a:lnTo>
                    <a:lnTo>
                      <a:pt x="187" y="657"/>
                    </a:lnTo>
                    <a:lnTo>
                      <a:pt x="185" y="727"/>
                    </a:lnTo>
                    <a:lnTo>
                      <a:pt x="183" y="795"/>
                    </a:lnTo>
                    <a:lnTo>
                      <a:pt x="179" y="854"/>
                    </a:lnTo>
                    <a:lnTo>
                      <a:pt x="176" y="879"/>
                    </a:lnTo>
                    <a:lnTo>
                      <a:pt x="172" y="900"/>
                    </a:lnTo>
                    <a:lnTo>
                      <a:pt x="169" y="918"/>
                    </a:lnTo>
                    <a:lnTo>
                      <a:pt x="165" y="929"/>
                    </a:lnTo>
                    <a:lnTo>
                      <a:pt x="155" y="953"/>
                    </a:lnTo>
                    <a:lnTo>
                      <a:pt x="145" y="988"/>
                    </a:lnTo>
                    <a:lnTo>
                      <a:pt x="140" y="1007"/>
                    </a:lnTo>
                    <a:lnTo>
                      <a:pt x="136" y="1029"/>
                    </a:lnTo>
                    <a:lnTo>
                      <a:pt x="131" y="1053"/>
                    </a:lnTo>
                    <a:lnTo>
                      <a:pt x="129" y="1078"/>
                    </a:lnTo>
                    <a:lnTo>
                      <a:pt x="127" y="1105"/>
                    </a:lnTo>
                    <a:lnTo>
                      <a:pt x="127" y="1134"/>
                    </a:lnTo>
                    <a:lnTo>
                      <a:pt x="128" y="1163"/>
                    </a:lnTo>
                    <a:lnTo>
                      <a:pt x="131" y="1193"/>
                    </a:lnTo>
                    <a:lnTo>
                      <a:pt x="137" y="1224"/>
                    </a:lnTo>
                    <a:lnTo>
                      <a:pt x="144" y="1257"/>
                    </a:lnTo>
                    <a:lnTo>
                      <a:pt x="149" y="1273"/>
                    </a:lnTo>
                    <a:lnTo>
                      <a:pt x="154" y="1289"/>
                    </a:lnTo>
                    <a:lnTo>
                      <a:pt x="161" y="1305"/>
                    </a:lnTo>
                    <a:lnTo>
                      <a:pt x="167" y="1323"/>
                    </a:lnTo>
                    <a:lnTo>
                      <a:pt x="192" y="1377"/>
                    </a:lnTo>
                    <a:lnTo>
                      <a:pt x="216" y="1428"/>
                    </a:lnTo>
                    <a:lnTo>
                      <a:pt x="239" y="1477"/>
                    </a:lnTo>
                    <a:lnTo>
                      <a:pt x="263" y="1522"/>
                    </a:lnTo>
                    <a:lnTo>
                      <a:pt x="286" y="1564"/>
                    </a:lnTo>
                    <a:lnTo>
                      <a:pt x="306" y="1604"/>
                    </a:lnTo>
                    <a:lnTo>
                      <a:pt x="327" y="1641"/>
                    </a:lnTo>
                    <a:lnTo>
                      <a:pt x="345" y="1676"/>
                    </a:lnTo>
                    <a:lnTo>
                      <a:pt x="355" y="1695"/>
                    </a:lnTo>
                    <a:lnTo>
                      <a:pt x="365" y="1717"/>
                    </a:lnTo>
                    <a:lnTo>
                      <a:pt x="372" y="1739"/>
                    </a:lnTo>
                    <a:lnTo>
                      <a:pt x="379" y="1762"/>
                    </a:lnTo>
                    <a:lnTo>
                      <a:pt x="384" y="1786"/>
                    </a:lnTo>
                    <a:lnTo>
                      <a:pt x="389" y="1809"/>
                    </a:lnTo>
                    <a:lnTo>
                      <a:pt x="391" y="1830"/>
                    </a:lnTo>
                    <a:lnTo>
                      <a:pt x="393" y="1852"/>
                    </a:lnTo>
                    <a:lnTo>
                      <a:pt x="393" y="1870"/>
                    </a:lnTo>
                    <a:lnTo>
                      <a:pt x="391" y="1886"/>
                    </a:lnTo>
                    <a:lnTo>
                      <a:pt x="390" y="1894"/>
                    </a:lnTo>
                    <a:lnTo>
                      <a:pt x="389" y="1900"/>
                    </a:lnTo>
                    <a:lnTo>
                      <a:pt x="386" y="1906"/>
                    </a:lnTo>
                    <a:lnTo>
                      <a:pt x="384" y="1911"/>
                    </a:lnTo>
                    <a:lnTo>
                      <a:pt x="381" y="1914"/>
                    </a:lnTo>
                    <a:lnTo>
                      <a:pt x="378" y="1918"/>
                    </a:lnTo>
                    <a:lnTo>
                      <a:pt x="374" y="1920"/>
                    </a:lnTo>
                    <a:lnTo>
                      <a:pt x="370" y="1920"/>
                    </a:lnTo>
                    <a:lnTo>
                      <a:pt x="366" y="1920"/>
                    </a:lnTo>
                    <a:lnTo>
                      <a:pt x="362" y="1918"/>
                    </a:lnTo>
                    <a:lnTo>
                      <a:pt x="356" y="1914"/>
                    </a:lnTo>
                    <a:lnTo>
                      <a:pt x="351" y="1910"/>
                    </a:lnTo>
                    <a:lnTo>
                      <a:pt x="341" y="1901"/>
                    </a:lnTo>
                    <a:lnTo>
                      <a:pt x="332" y="1895"/>
                    </a:lnTo>
                    <a:lnTo>
                      <a:pt x="325" y="1891"/>
                    </a:lnTo>
                    <a:lnTo>
                      <a:pt x="318" y="1888"/>
                    </a:lnTo>
                    <a:lnTo>
                      <a:pt x="313" y="1888"/>
                    </a:lnTo>
                    <a:lnTo>
                      <a:pt x="309" y="1890"/>
                    </a:lnTo>
                    <a:lnTo>
                      <a:pt x="305" y="1894"/>
                    </a:lnTo>
                    <a:lnTo>
                      <a:pt x="302" y="1899"/>
                    </a:lnTo>
                    <a:lnTo>
                      <a:pt x="301" y="1907"/>
                    </a:lnTo>
                    <a:lnTo>
                      <a:pt x="300" y="1915"/>
                    </a:lnTo>
                    <a:lnTo>
                      <a:pt x="299" y="1925"/>
                    </a:lnTo>
                    <a:lnTo>
                      <a:pt x="299" y="1937"/>
                    </a:lnTo>
                    <a:lnTo>
                      <a:pt x="301" y="1963"/>
                    </a:lnTo>
                    <a:lnTo>
                      <a:pt x="305" y="1992"/>
                    </a:lnTo>
                    <a:lnTo>
                      <a:pt x="311" y="2025"/>
                    </a:lnTo>
                    <a:lnTo>
                      <a:pt x="318" y="2058"/>
                    </a:lnTo>
                    <a:lnTo>
                      <a:pt x="326" y="2093"/>
                    </a:lnTo>
                    <a:lnTo>
                      <a:pt x="334" y="2127"/>
                    </a:lnTo>
                    <a:lnTo>
                      <a:pt x="350" y="2191"/>
                    </a:lnTo>
                    <a:lnTo>
                      <a:pt x="363" y="2242"/>
                    </a:lnTo>
                    <a:lnTo>
                      <a:pt x="371" y="2268"/>
                    </a:lnTo>
                    <a:lnTo>
                      <a:pt x="384" y="2304"/>
                    </a:lnTo>
                    <a:lnTo>
                      <a:pt x="401" y="2349"/>
                    </a:lnTo>
                    <a:lnTo>
                      <a:pt x="423" y="2399"/>
                    </a:lnTo>
                    <a:lnTo>
                      <a:pt x="474" y="2515"/>
                    </a:lnTo>
                    <a:lnTo>
                      <a:pt x="530" y="2638"/>
                    </a:lnTo>
                    <a:lnTo>
                      <a:pt x="584" y="2756"/>
                    </a:lnTo>
                    <a:lnTo>
                      <a:pt x="632" y="2856"/>
                    </a:lnTo>
                    <a:lnTo>
                      <a:pt x="664" y="2925"/>
                    </a:lnTo>
                    <a:lnTo>
                      <a:pt x="677" y="2951"/>
                    </a:lnTo>
                    <a:lnTo>
                      <a:pt x="646" y="2972"/>
                    </a:lnTo>
                    <a:lnTo>
                      <a:pt x="618" y="2989"/>
                    </a:lnTo>
                    <a:lnTo>
                      <a:pt x="594" y="3004"/>
                    </a:lnTo>
                    <a:lnTo>
                      <a:pt x="574" y="3016"/>
                    </a:lnTo>
                    <a:lnTo>
                      <a:pt x="558" y="3026"/>
                    </a:lnTo>
                    <a:lnTo>
                      <a:pt x="547" y="3032"/>
                    </a:lnTo>
                    <a:lnTo>
                      <a:pt x="541" y="3036"/>
                    </a:lnTo>
                    <a:lnTo>
                      <a:pt x="539" y="3038"/>
                    </a:lnTo>
                    <a:lnTo>
                      <a:pt x="539" y="3033"/>
                    </a:lnTo>
                    <a:lnTo>
                      <a:pt x="538" y="3021"/>
                    </a:lnTo>
                    <a:lnTo>
                      <a:pt x="534" y="3001"/>
                    </a:lnTo>
                    <a:lnTo>
                      <a:pt x="530" y="2972"/>
                    </a:lnTo>
                    <a:lnTo>
                      <a:pt x="522" y="2936"/>
                    </a:lnTo>
                    <a:lnTo>
                      <a:pt x="511" y="2892"/>
                    </a:lnTo>
                    <a:lnTo>
                      <a:pt x="502" y="2867"/>
                    </a:lnTo>
                    <a:lnTo>
                      <a:pt x="493" y="2840"/>
                    </a:lnTo>
                    <a:lnTo>
                      <a:pt x="484" y="2811"/>
                    </a:lnTo>
                    <a:lnTo>
                      <a:pt x="472" y="2781"/>
                    </a:lnTo>
                    <a:lnTo>
                      <a:pt x="444" y="2706"/>
                    </a:lnTo>
                    <a:lnTo>
                      <a:pt x="409" y="2611"/>
                    </a:lnTo>
                    <a:lnTo>
                      <a:pt x="372" y="2503"/>
                    </a:lnTo>
                    <a:lnTo>
                      <a:pt x="333" y="2388"/>
                    </a:lnTo>
                    <a:lnTo>
                      <a:pt x="296" y="2276"/>
                    </a:lnTo>
                    <a:lnTo>
                      <a:pt x="260" y="2171"/>
                    </a:lnTo>
                    <a:lnTo>
                      <a:pt x="229" y="2082"/>
                    </a:lnTo>
                    <a:lnTo>
                      <a:pt x="205" y="2014"/>
                    </a:lnTo>
                    <a:lnTo>
                      <a:pt x="193" y="1985"/>
                    </a:lnTo>
                    <a:lnTo>
                      <a:pt x="181" y="1949"/>
                    </a:lnTo>
                    <a:lnTo>
                      <a:pt x="169" y="1909"/>
                    </a:lnTo>
                    <a:lnTo>
                      <a:pt x="156" y="1866"/>
                    </a:lnTo>
                    <a:lnTo>
                      <a:pt x="143" y="1819"/>
                    </a:lnTo>
                    <a:lnTo>
                      <a:pt x="129" y="1771"/>
                    </a:lnTo>
                    <a:lnTo>
                      <a:pt x="116" y="1720"/>
                    </a:lnTo>
                    <a:lnTo>
                      <a:pt x="103" y="1669"/>
                    </a:lnTo>
                    <a:lnTo>
                      <a:pt x="91" y="1616"/>
                    </a:lnTo>
                    <a:lnTo>
                      <a:pt x="80" y="1564"/>
                    </a:lnTo>
                    <a:lnTo>
                      <a:pt x="70" y="1513"/>
                    </a:lnTo>
                    <a:lnTo>
                      <a:pt x="60" y="1463"/>
                    </a:lnTo>
                    <a:lnTo>
                      <a:pt x="51" y="1415"/>
                    </a:lnTo>
                    <a:lnTo>
                      <a:pt x="45" y="1370"/>
                    </a:lnTo>
                    <a:lnTo>
                      <a:pt x="40" y="1328"/>
                    </a:lnTo>
                    <a:lnTo>
                      <a:pt x="36" y="1290"/>
                    </a:lnTo>
                    <a:lnTo>
                      <a:pt x="35" y="1256"/>
                    </a:lnTo>
                    <a:lnTo>
                      <a:pt x="34" y="1224"/>
                    </a:lnTo>
                    <a:lnTo>
                      <a:pt x="34" y="1195"/>
                    </a:lnTo>
                    <a:lnTo>
                      <a:pt x="34" y="1167"/>
                    </a:lnTo>
                    <a:lnTo>
                      <a:pt x="36" y="1119"/>
                    </a:lnTo>
                    <a:lnTo>
                      <a:pt x="39" y="1081"/>
                    </a:lnTo>
                    <a:lnTo>
                      <a:pt x="42" y="1051"/>
                    </a:lnTo>
                    <a:lnTo>
                      <a:pt x="45" y="1030"/>
                    </a:lnTo>
                    <a:lnTo>
                      <a:pt x="48" y="1017"/>
                    </a:lnTo>
                    <a:lnTo>
                      <a:pt x="48" y="1013"/>
                    </a:lnTo>
                    <a:lnTo>
                      <a:pt x="48" y="1008"/>
                    </a:lnTo>
                    <a:lnTo>
                      <a:pt x="45" y="993"/>
                    </a:lnTo>
                    <a:lnTo>
                      <a:pt x="42" y="969"/>
                    </a:lnTo>
                    <a:lnTo>
                      <a:pt x="37" y="936"/>
                    </a:lnTo>
                    <a:lnTo>
                      <a:pt x="33" y="896"/>
                    </a:lnTo>
                    <a:lnTo>
                      <a:pt x="30" y="848"/>
                    </a:lnTo>
                    <a:lnTo>
                      <a:pt x="28" y="794"/>
                    </a:lnTo>
                    <a:lnTo>
                      <a:pt x="27" y="734"/>
                    </a:lnTo>
                    <a:lnTo>
                      <a:pt x="27" y="676"/>
                    </a:lnTo>
                    <a:lnTo>
                      <a:pt x="27" y="625"/>
                    </a:lnTo>
                    <a:lnTo>
                      <a:pt x="26" y="579"/>
                    </a:lnTo>
                    <a:lnTo>
                      <a:pt x="24" y="540"/>
                    </a:lnTo>
                    <a:lnTo>
                      <a:pt x="23" y="504"/>
                    </a:lnTo>
                    <a:lnTo>
                      <a:pt x="21" y="471"/>
                    </a:lnTo>
                    <a:lnTo>
                      <a:pt x="18" y="441"/>
                    </a:lnTo>
                    <a:lnTo>
                      <a:pt x="14" y="412"/>
                    </a:lnTo>
                    <a:lnTo>
                      <a:pt x="10" y="380"/>
                    </a:lnTo>
                    <a:lnTo>
                      <a:pt x="7" y="342"/>
                    </a:lnTo>
                    <a:lnTo>
                      <a:pt x="3" y="299"/>
                    </a:lnTo>
                    <a:lnTo>
                      <a:pt x="1" y="252"/>
                    </a:lnTo>
                    <a:lnTo>
                      <a:pt x="0" y="201"/>
                    </a:lnTo>
                    <a:lnTo>
                      <a:pt x="0" y="147"/>
                    </a:lnTo>
                    <a:lnTo>
                      <a:pt x="1" y="92"/>
                    </a:lnTo>
                    <a:lnTo>
                      <a:pt x="4" y="34"/>
                    </a:lnTo>
                    <a:lnTo>
                      <a:pt x="6" y="23"/>
                    </a:lnTo>
                    <a:lnTo>
                      <a:pt x="9" y="15"/>
                    </a:lnTo>
                    <a:lnTo>
                      <a:pt x="11" y="11"/>
                    </a:lnTo>
                    <a:lnTo>
                      <a:pt x="14" y="8"/>
                    </a:lnTo>
                    <a:lnTo>
                      <a:pt x="17" y="6"/>
                    </a:lnTo>
                    <a:lnTo>
                      <a:pt x="20" y="4"/>
                    </a:lnTo>
                    <a:lnTo>
                      <a:pt x="29" y="1"/>
                    </a:lnTo>
                    <a:lnTo>
                      <a:pt x="39" y="0"/>
                    </a:lnTo>
                    <a:lnTo>
                      <a:pt x="49" y="0"/>
                    </a:lnTo>
                    <a:lnTo>
                      <a:pt x="61" y="2"/>
                    </a:lnTo>
                    <a:lnTo>
                      <a:pt x="75" y="5"/>
                    </a:lnTo>
                    <a:lnTo>
                      <a:pt x="91" y="9"/>
                    </a:lnTo>
                    <a:lnTo>
                      <a:pt x="108" y="16"/>
                    </a:lnTo>
                    <a:lnTo>
                      <a:pt x="126" y="22"/>
                    </a:lnTo>
                    <a:lnTo>
                      <a:pt x="166" y="39"/>
                    </a:lnTo>
                    <a:lnTo>
                      <a:pt x="212" y="61"/>
                    </a:lnTo>
                    <a:lnTo>
                      <a:pt x="210" y="74"/>
                    </a:lnTo>
                    <a:lnTo>
                      <a:pt x="206" y="108"/>
                    </a:lnTo>
                    <a:lnTo>
                      <a:pt x="199" y="156"/>
                    </a:lnTo>
                    <a:lnTo>
                      <a:pt x="192" y="217"/>
                    </a:lnTo>
                    <a:lnTo>
                      <a:pt x="187" y="284"/>
                    </a:lnTo>
                    <a:lnTo>
                      <a:pt x="182" y="352"/>
                    </a:lnTo>
                    <a:lnTo>
                      <a:pt x="180" y="384"/>
                    </a:lnTo>
                    <a:lnTo>
                      <a:pt x="180" y="415"/>
                    </a:lnTo>
                    <a:lnTo>
                      <a:pt x="180" y="443"/>
                    </a:lnTo>
                    <a:lnTo>
                      <a:pt x="182" y="469"/>
                    </a:lnTo>
                    <a:close/>
                  </a:path>
                </a:pathLst>
              </a:custGeom>
              <a:solidFill>
                <a:srgbClr val="936f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5200560" y="2698920"/>
                <a:ext cx="206280" cy="966600"/>
              </a:xfrm>
              <a:custGeom>
                <a:avLst/>
                <a:gdLst/>
                <a:ahLst/>
                <a:rect l="l" t="t" r="r" b="b"/>
                <a:pathLst>
                  <a:path w="654" h="3042">
                    <a:moveTo>
                      <a:pt x="155" y="473"/>
                    </a:moveTo>
                    <a:lnTo>
                      <a:pt x="158" y="528"/>
                    </a:lnTo>
                    <a:lnTo>
                      <a:pt x="159" y="593"/>
                    </a:lnTo>
                    <a:lnTo>
                      <a:pt x="159" y="663"/>
                    </a:lnTo>
                    <a:lnTo>
                      <a:pt x="158" y="734"/>
                    </a:lnTo>
                    <a:lnTo>
                      <a:pt x="155" y="802"/>
                    </a:lnTo>
                    <a:lnTo>
                      <a:pt x="151" y="860"/>
                    </a:lnTo>
                    <a:lnTo>
                      <a:pt x="149" y="886"/>
                    </a:lnTo>
                    <a:lnTo>
                      <a:pt x="145" y="906"/>
                    </a:lnTo>
                    <a:lnTo>
                      <a:pt x="142" y="924"/>
                    </a:lnTo>
                    <a:lnTo>
                      <a:pt x="138" y="936"/>
                    </a:lnTo>
                    <a:lnTo>
                      <a:pt x="134" y="946"/>
                    </a:lnTo>
                    <a:lnTo>
                      <a:pt x="129" y="960"/>
                    </a:lnTo>
                    <a:lnTo>
                      <a:pt x="125" y="977"/>
                    </a:lnTo>
                    <a:lnTo>
                      <a:pt x="121" y="995"/>
                    </a:lnTo>
                    <a:lnTo>
                      <a:pt x="117" y="1017"/>
                    </a:lnTo>
                    <a:lnTo>
                      <a:pt x="114" y="1040"/>
                    </a:lnTo>
                    <a:lnTo>
                      <a:pt x="112" y="1065"/>
                    </a:lnTo>
                    <a:lnTo>
                      <a:pt x="111" y="1092"/>
                    </a:lnTo>
                    <a:lnTo>
                      <a:pt x="111" y="1121"/>
                    </a:lnTo>
                    <a:lnTo>
                      <a:pt x="112" y="1150"/>
                    </a:lnTo>
                    <a:lnTo>
                      <a:pt x="114" y="1182"/>
                    </a:lnTo>
                    <a:lnTo>
                      <a:pt x="118" y="1213"/>
                    </a:lnTo>
                    <a:lnTo>
                      <a:pt x="125" y="1247"/>
                    </a:lnTo>
                    <a:lnTo>
                      <a:pt x="134" y="1279"/>
                    </a:lnTo>
                    <a:lnTo>
                      <a:pt x="139" y="1295"/>
                    </a:lnTo>
                    <a:lnTo>
                      <a:pt x="144" y="1312"/>
                    </a:lnTo>
                    <a:lnTo>
                      <a:pt x="151" y="1329"/>
                    </a:lnTo>
                    <a:lnTo>
                      <a:pt x="157" y="1346"/>
                    </a:lnTo>
                    <a:lnTo>
                      <a:pt x="178" y="1390"/>
                    </a:lnTo>
                    <a:lnTo>
                      <a:pt x="198" y="1433"/>
                    </a:lnTo>
                    <a:lnTo>
                      <a:pt x="219" y="1474"/>
                    </a:lnTo>
                    <a:lnTo>
                      <a:pt x="238" y="1513"/>
                    </a:lnTo>
                    <a:lnTo>
                      <a:pt x="258" y="1551"/>
                    </a:lnTo>
                    <a:lnTo>
                      <a:pt x="277" y="1586"/>
                    </a:lnTo>
                    <a:lnTo>
                      <a:pt x="295" y="1619"/>
                    </a:lnTo>
                    <a:lnTo>
                      <a:pt x="311" y="1649"/>
                    </a:lnTo>
                    <a:lnTo>
                      <a:pt x="320" y="1670"/>
                    </a:lnTo>
                    <a:lnTo>
                      <a:pt x="329" y="1690"/>
                    </a:lnTo>
                    <a:lnTo>
                      <a:pt x="338" y="1711"/>
                    </a:lnTo>
                    <a:lnTo>
                      <a:pt x="344" y="1733"/>
                    </a:lnTo>
                    <a:lnTo>
                      <a:pt x="350" y="1754"/>
                    </a:lnTo>
                    <a:lnTo>
                      <a:pt x="354" y="1775"/>
                    </a:lnTo>
                    <a:lnTo>
                      <a:pt x="357" y="1795"/>
                    </a:lnTo>
                    <a:lnTo>
                      <a:pt x="359" y="1813"/>
                    </a:lnTo>
                    <a:lnTo>
                      <a:pt x="360" y="1830"/>
                    </a:lnTo>
                    <a:lnTo>
                      <a:pt x="359" y="1844"/>
                    </a:lnTo>
                    <a:lnTo>
                      <a:pt x="358" y="1849"/>
                    </a:lnTo>
                    <a:lnTo>
                      <a:pt x="357" y="1855"/>
                    </a:lnTo>
                    <a:lnTo>
                      <a:pt x="356" y="1859"/>
                    </a:lnTo>
                    <a:lnTo>
                      <a:pt x="354" y="1863"/>
                    </a:lnTo>
                    <a:lnTo>
                      <a:pt x="352" y="1867"/>
                    </a:lnTo>
                    <a:lnTo>
                      <a:pt x="349" y="1868"/>
                    </a:lnTo>
                    <a:lnTo>
                      <a:pt x="345" y="1869"/>
                    </a:lnTo>
                    <a:lnTo>
                      <a:pt x="342" y="1869"/>
                    </a:lnTo>
                    <a:lnTo>
                      <a:pt x="338" y="1868"/>
                    </a:lnTo>
                    <a:lnTo>
                      <a:pt x="333" y="1865"/>
                    </a:lnTo>
                    <a:lnTo>
                      <a:pt x="328" y="1862"/>
                    </a:lnTo>
                    <a:lnTo>
                      <a:pt x="324" y="1858"/>
                    </a:lnTo>
                    <a:lnTo>
                      <a:pt x="310" y="1843"/>
                    </a:lnTo>
                    <a:lnTo>
                      <a:pt x="298" y="1832"/>
                    </a:lnTo>
                    <a:lnTo>
                      <a:pt x="288" y="1824"/>
                    </a:lnTo>
                    <a:lnTo>
                      <a:pt x="279" y="1820"/>
                    </a:lnTo>
                    <a:lnTo>
                      <a:pt x="273" y="1818"/>
                    </a:lnTo>
                    <a:lnTo>
                      <a:pt x="268" y="1819"/>
                    </a:lnTo>
                    <a:lnTo>
                      <a:pt x="263" y="1823"/>
                    </a:lnTo>
                    <a:lnTo>
                      <a:pt x="260" y="1830"/>
                    </a:lnTo>
                    <a:lnTo>
                      <a:pt x="258" y="1837"/>
                    </a:lnTo>
                    <a:lnTo>
                      <a:pt x="257" y="1848"/>
                    </a:lnTo>
                    <a:lnTo>
                      <a:pt x="257" y="1861"/>
                    </a:lnTo>
                    <a:lnTo>
                      <a:pt x="258" y="1875"/>
                    </a:lnTo>
                    <a:lnTo>
                      <a:pt x="262" y="1908"/>
                    </a:lnTo>
                    <a:lnTo>
                      <a:pt x="269" y="1945"/>
                    </a:lnTo>
                    <a:lnTo>
                      <a:pt x="278" y="1985"/>
                    </a:lnTo>
                    <a:lnTo>
                      <a:pt x="289" y="2029"/>
                    </a:lnTo>
                    <a:lnTo>
                      <a:pt x="301" y="2072"/>
                    </a:lnTo>
                    <a:lnTo>
                      <a:pt x="313" y="2114"/>
                    </a:lnTo>
                    <a:lnTo>
                      <a:pt x="334" y="2189"/>
                    </a:lnTo>
                    <a:lnTo>
                      <a:pt x="351" y="2246"/>
                    </a:lnTo>
                    <a:lnTo>
                      <a:pt x="358" y="2272"/>
                    </a:lnTo>
                    <a:lnTo>
                      <a:pt x="371" y="2308"/>
                    </a:lnTo>
                    <a:lnTo>
                      <a:pt x="389" y="2354"/>
                    </a:lnTo>
                    <a:lnTo>
                      <a:pt x="409" y="2405"/>
                    </a:lnTo>
                    <a:lnTo>
                      <a:pt x="459" y="2523"/>
                    </a:lnTo>
                    <a:lnTo>
                      <a:pt x="513" y="2650"/>
                    </a:lnTo>
                    <a:lnTo>
                      <a:pt x="566" y="2770"/>
                    </a:lnTo>
                    <a:lnTo>
                      <a:pt x="611" y="2872"/>
                    </a:lnTo>
                    <a:lnTo>
                      <a:pt x="642" y="2943"/>
                    </a:lnTo>
                    <a:lnTo>
                      <a:pt x="654" y="2970"/>
                    </a:lnTo>
                    <a:lnTo>
                      <a:pt x="624" y="2990"/>
                    </a:lnTo>
                    <a:lnTo>
                      <a:pt x="599" y="3006"/>
                    </a:lnTo>
                    <a:lnTo>
                      <a:pt x="579" y="3019"/>
                    </a:lnTo>
                    <a:lnTo>
                      <a:pt x="564" y="3028"/>
                    </a:lnTo>
                    <a:lnTo>
                      <a:pt x="552" y="3034"/>
                    </a:lnTo>
                    <a:lnTo>
                      <a:pt x="544" y="3038"/>
                    </a:lnTo>
                    <a:lnTo>
                      <a:pt x="540" y="3040"/>
                    </a:lnTo>
                    <a:lnTo>
                      <a:pt x="539" y="3042"/>
                    </a:lnTo>
                    <a:lnTo>
                      <a:pt x="539" y="3037"/>
                    </a:lnTo>
                    <a:lnTo>
                      <a:pt x="538" y="3025"/>
                    </a:lnTo>
                    <a:lnTo>
                      <a:pt x="534" y="3005"/>
                    </a:lnTo>
                    <a:lnTo>
                      <a:pt x="530" y="2976"/>
                    </a:lnTo>
                    <a:lnTo>
                      <a:pt x="522" y="2940"/>
                    </a:lnTo>
                    <a:lnTo>
                      <a:pt x="511" y="2896"/>
                    </a:lnTo>
                    <a:lnTo>
                      <a:pt x="502" y="2871"/>
                    </a:lnTo>
                    <a:lnTo>
                      <a:pt x="493" y="2844"/>
                    </a:lnTo>
                    <a:lnTo>
                      <a:pt x="484" y="2815"/>
                    </a:lnTo>
                    <a:lnTo>
                      <a:pt x="472" y="2785"/>
                    </a:lnTo>
                    <a:lnTo>
                      <a:pt x="444" y="2710"/>
                    </a:lnTo>
                    <a:lnTo>
                      <a:pt x="409" y="2615"/>
                    </a:lnTo>
                    <a:lnTo>
                      <a:pt x="372" y="2507"/>
                    </a:lnTo>
                    <a:lnTo>
                      <a:pt x="333" y="2392"/>
                    </a:lnTo>
                    <a:lnTo>
                      <a:pt x="296" y="2280"/>
                    </a:lnTo>
                    <a:lnTo>
                      <a:pt x="260" y="2175"/>
                    </a:lnTo>
                    <a:lnTo>
                      <a:pt x="229" y="2086"/>
                    </a:lnTo>
                    <a:lnTo>
                      <a:pt x="205" y="2018"/>
                    </a:lnTo>
                    <a:lnTo>
                      <a:pt x="193" y="1989"/>
                    </a:lnTo>
                    <a:lnTo>
                      <a:pt x="181" y="1953"/>
                    </a:lnTo>
                    <a:lnTo>
                      <a:pt x="169" y="1913"/>
                    </a:lnTo>
                    <a:lnTo>
                      <a:pt x="156" y="1870"/>
                    </a:lnTo>
                    <a:lnTo>
                      <a:pt x="143" y="1823"/>
                    </a:lnTo>
                    <a:lnTo>
                      <a:pt x="129" y="1775"/>
                    </a:lnTo>
                    <a:lnTo>
                      <a:pt x="116" y="1724"/>
                    </a:lnTo>
                    <a:lnTo>
                      <a:pt x="103" y="1673"/>
                    </a:lnTo>
                    <a:lnTo>
                      <a:pt x="91" y="1620"/>
                    </a:lnTo>
                    <a:lnTo>
                      <a:pt x="80" y="1568"/>
                    </a:lnTo>
                    <a:lnTo>
                      <a:pt x="70" y="1517"/>
                    </a:lnTo>
                    <a:lnTo>
                      <a:pt x="60" y="1467"/>
                    </a:lnTo>
                    <a:lnTo>
                      <a:pt x="51" y="1419"/>
                    </a:lnTo>
                    <a:lnTo>
                      <a:pt x="45" y="1374"/>
                    </a:lnTo>
                    <a:lnTo>
                      <a:pt x="40" y="1332"/>
                    </a:lnTo>
                    <a:lnTo>
                      <a:pt x="36" y="1294"/>
                    </a:lnTo>
                    <a:lnTo>
                      <a:pt x="35" y="1260"/>
                    </a:lnTo>
                    <a:lnTo>
                      <a:pt x="34" y="1228"/>
                    </a:lnTo>
                    <a:lnTo>
                      <a:pt x="34" y="1199"/>
                    </a:lnTo>
                    <a:lnTo>
                      <a:pt x="34" y="1171"/>
                    </a:lnTo>
                    <a:lnTo>
                      <a:pt x="36" y="1123"/>
                    </a:lnTo>
                    <a:lnTo>
                      <a:pt x="39" y="1085"/>
                    </a:lnTo>
                    <a:lnTo>
                      <a:pt x="42" y="1055"/>
                    </a:lnTo>
                    <a:lnTo>
                      <a:pt x="45" y="1034"/>
                    </a:lnTo>
                    <a:lnTo>
                      <a:pt x="48" y="1021"/>
                    </a:lnTo>
                    <a:lnTo>
                      <a:pt x="48" y="1017"/>
                    </a:lnTo>
                    <a:lnTo>
                      <a:pt x="48" y="1012"/>
                    </a:lnTo>
                    <a:lnTo>
                      <a:pt x="45" y="997"/>
                    </a:lnTo>
                    <a:lnTo>
                      <a:pt x="42" y="973"/>
                    </a:lnTo>
                    <a:lnTo>
                      <a:pt x="37" y="940"/>
                    </a:lnTo>
                    <a:lnTo>
                      <a:pt x="33" y="900"/>
                    </a:lnTo>
                    <a:lnTo>
                      <a:pt x="30" y="852"/>
                    </a:lnTo>
                    <a:lnTo>
                      <a:pt x="28" y="798"/>
                    </a:lnTo>
                    <a:lnTo>
                      <a:pt x="27" y="738"/>
                    </a:lnTo>
                    <a:lnTo>
                      <a:pt x="27" y="680"/>
                    </a:lnTo>
                    <a:lnTo>
                      <a:pt x="27" y="629"/>
                    </a:lnTo>
                    <a:lnTo>
                      <a:pt x="26" y="583"/>
                    </a:lnTo>
                    <a:lnTo>
                      <a:pt x="24" y="544"/>
                    </a:lnTo>
                    <a:lnTo>
                      <a:pt x="23" y="508"/>
                    </a:lnTo>
                    <a:lnTo>
                      <a:pt x="21" y="475"/>
                    </a:lnTo>
                    <a:lnTo>
                      <a:pt x="18" y="445"/>
                    </a:lnTo>
                    <a:lnTo>
                      <a:pt x="14" y="416"/>
                    </a:lnTo>
                    <a:lnTo>
                      <a:pt x="10" y="384"/>
                    </a:lnTo>
                    <a:lnTo>
                      <a:pt x="7" y="346"/>
                    </a:lnTo>
                    <a:lnTo>
                      <a:pt x="3" y="303"/>
                    </a:lnTo>
                    <a:lnTo>
                      <a:pt x="1" y="256"/>
                    </a:lnTo>
                    <a:lnTo>
                      <a:pt x="0" y="205"/>
                    </a:lnTo>
                    <a:lnTo>
                      <a:pt x="0" y="151"/>
                    </a:lnTo>
                    <a:lnTo>
                      <a:pt x="1" y="96"/>
                    </a:lnTo>
                    <a:lnTo>
                      <a:pt x="4" y="38"/>
                    </a:lnTo>
                    <a:lnTo>
                      <a:pt x="5" y="27"/>
                    </a:lnTo>
                    <a:lnTo>
                      <a:pt x="8" y="19"/>
                    </a:lnTo>
                    <a:lnTo>
                      <a:pt x="11" y="11"/>
                    </a:lnTo>
                    <a:lnTo>
                      <a:pt x="15" y="6"/>
                    </a:lnTo>
                    <a:lnTo>
                      <a:pt x="20" y="2"/>
                    </a:lnTo>
                    <a:lnTo>
                      <a:pt x="28" y="0"/>
                    </a:lnTo>
                    <a:lnTo>
                      <a:pt x="35" y="0"/>
                    </a:lnTo>
                    <a:lnTo>
                      <a:pt x="44" y="0"/>
                    </a:lnTo>
                    <a:lnTo>
                      <a:pt x="55" y="4"/>
                    </a:lnTo>
                    <a:lnTo>
                      <a:pt x="68" y="7"/>
                    </a:lnTo>
                    <a:lnTo>
                      <a:pt x="81" y="12"/>
                    </a:lnTo>
                    <a:lnTo>
                      <a:pt x="97" y="19"/>
                    </a:lnTo>
                    <a:lnTo>
                      <a:pt x="134" y="36"/>
                    </a:lnTo>
                    <a:lnTo>
                      <a:pt x="177" y="58"/>
                    </a:lnTo>
                    <a:lnTo>
                      <a:pt x="176" y="70"/>
                    </a:lnTo>
                    <a:lnTo>
                      <a:pt x="172" y="105"/>
                    </a:lnTo>
                    <a:lnTo>
                      <a:pt x="167" y="156"/>
                    </a:lnTo>
                    <a:lnTo>
                      <a:pt x="162" y="217"/>
                    </a:lnTo>
                    <a:lnTo>
                      <a:pt x="156" y="285"/>
                    </a:lnTo>
                    <a:lnTo>
                      <a:pt x="153" y="355"/>
                    </a:lnTo>
                    <a:lnTo>
                      <a:pt x="153" y="387"/>
                    </a:lnTo>
                    <a:lnTo>
                      <a:pt x="152" y="418"/>
                    </a:lnTo>
                    <a:lnTo>
                      <a:pt x="153" y="447"/>
                    </a:lnTo>
                    <a:lnTo>
                      <a:pt x="155" y="473"/>
                    </a:lnTo>
                    <a:close/>
                  </a:path>
                </a:pathLst>
              </a:custGeom>
              <a:solidFill>
                <a:srgbClr val="8968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5200560" y="2698920"/>
                <a:ext cx="198360" cy="966600"/>
              </a:xfrm>
              <a:custGeom>
                <a:avLst/>
                <a:gdLst/>
                <a:ahLst/>
                <a:rect l="l" t="t" r="r" b="b"/>
                <a:pathLst>
                  <a:path w="629" h="3045">
                    <a:moveTo>
                      <a:pt x="125" y="478"/>
                    </a:moveTo>
                    <a:lnTo>
                      <a:pt x="129" y="532"/>
                    </a:lnTo>
                    <a:lnTo>
                      <a:pt x="131" y="597"/>
                    </a:lnTo>
                    <a:lnTo>
                      <a:pt x="132" y="666"/>
                    </a:lnTo>
                    <a:lnTo>
                      <a:pt x="131" y="738"/>
                    </a:lnTo>
                    <a:lnTo>
                      <a:pt x="128" y="805"/>
                    </a:lnTo>
                    <a:lnTo>
                      <a:pt x="124" y="863"/>
                    </a:lnTo>
                    <a:lnTo>
                      <a:pt x="122" y="889"/>
                    </a:lnTo>
                    <a:lnTo>
                      <a:pt x="118" y="909"/>
                    </a:lnTo>
                    <a:lnTo>
                      <a:pt x="114" y="927"/>
                    </a:lnTo>
                    <a:lnTo>
                      <a:pt x="111" y="939"/>
                    </a:lnTo>
                    <a:lnTo>
                      <a:pt x="107" y="949"/>
                    </a:lnTo>
                    <a:lnTo>
                      <a:pt x="102" y="964"/>
                    </a:lnTo>
                    <a:lnTo>
                      <a:pt x="99" y="982"/>
                    </a:lnTo>
                    <a:lnTo>
                      <a:pt x="97" y="1002"/>
                    </a:lnTo>
                    <a:lnTo>
                      <a:pt x="95" y="1025"/>
                    </a:lnTo>
                    <a:lnTo>
                      <a:pt x="93" y="1051"/>
                    </a:lnTo>
                    <a:lnTo>
                      <a:pt x="93" y="1078"/>
                    </a:lnTo>
                    <a:lnTo>
                      <a:pt x="94" y="1106"/>
                    </a:lnTo>
                    <a:lnTo>
                      <a:pt x="95" y="1136"/>
                    </a:lnTo>
                    <a:lnTo>
                      <a:pt x="98" y="1168"/>
                    </a:lnTo>
                    <a:lnTo>
                      <a:pt x="102" y="1200"/>
                    </a:lnTo>
                    <a:lnTo>
                      <a:pt x="109" y="1233"/>
                    </a:lnTo>
                    <a:lnTo>
                      <a:pt x="116" y="1267"/>
                    </a:lnTo>
                    <a:lnTo>
                      <a:pt x="125" y="1301"/>
                    </a:lnTo>
                    <a:lnTo>
                      <a:pt x="137" y="1335"/>
                    </a:lnTo>
                    <a:lnTo>
                      <a:pt x="150" y="1368"/>
                    </a:lnTo>
                    <a:lnTo>
                      <a:pt x="165" y="1404"/>
                    </a:lnTo>
                    <a:lnTo>
                      <a:pt x="181" y="1439"/>
                    </a:lnTo>
                    <a:lnTo>
                      <a:pt x="197" y="1472"/>
                    </a:lnTo>
                    <a:lnTo>
                      <a:pt x="215" y="1504"/>
                    </a:lnTo>
                    <a:lnTo>
                      <a:pt x="231" y="1537"/>
                    </a:lnTo>
                    <a:lnTo>
                      <a:pt x="246" y="1566"/>
                    </a:lnTo>
                    <a:lnTo>
                      <a:pt x="262" y="1594"/>
                    </a:lnTo>
                    <a:lnTo>
                      <a:pt x="276" y="1621"/>
                    </a:lnTo>
                    <a:lnTo>
                      <a:pt x="286" y="1641"/>
                    </a:lnTo>
                    <a:lnTo>
                      <a:pt x="295" y="1660"/>
                    </a:lnTo>
                    <a:lnTo>
                      <a:pt x="302" y="1681"/>
                    </a:lnTo>
                    <a:lnTo>
                      <a:pt x="310" y="1700"/>
                    </a:lnTo>
                    <a:lnTo>
                      <a:pt x="315" y="1719"/>
                    </a:lnTo>
                    <a:lnTo>
                      <a:pt x="320" y="1739"/>
                    </a:lnTo>
                    <a:lnTo>
                      <a:pt x="324" y="1756"/>
                    </a:lnTo>
                    <a:lnTo>
                      <a:pt x="327" y="1772"/>
                    </a:lnTo>
                    <a:lnTo>
                      <a:pt x="328" y="1786"/>
                    </a:lnTo>
                    <a:lnTo>
                      <a:pt x="328" y="1798"/>
                    </a:lnTo>
                    <a:lnTo>
                      <a:pt x="328" y="1803"/>
                    </a:lnTo>
                    <a:lnTo>
                      <a:pt x="327" y="1807"/>
                    </a:lnTo>
                    <a:lnTo>
                      <a:pt x="326" y="1810"/>
                    </a:lnTo>
                    <a:lnTo>
                      <a:pt x="324" y="1813"/>
                    </a:lnTo>
                    <a:lnTo>
                      <a:pt x="323" y="1816"/>
                    </a:lnTo>
                    <a:lnTo>
                      <a:pt x="319" y="1817"/>
                    </a:lnTo>
                    <a:lnTo>
                      <a:pt x="317" y="1817"/>
                    </a:lnTo>
                    <a:lnTo>
                      <a:pt x="314" y="1816"/>
                    </a:lnTo>
                    <a:lnTo>
                      <a:pt x="310" y="1813"/>
                    </a:lnTo>
                    <a:lnTo>
                      <a:pt x="305" y="1810"/>
                    </a:lnTo>
                    <a:lnTo>
                      <a:pt x="301" y="1806"/>
                    </a:lnTo>
                    <a:lnTo>
                      <a:pt x="296" y="1801"/>
                    </a:lnTo>
                    <a:lnTo>
                      <a:pt x="279" y="1782"/>
                    </a:lnTo>
                    <a:lnTo>
                      <a:pt x="264" y="1767"/>
                    </a:lnTo>
                    <a:lnTo>
                      <a:pt x="251" y="1756"/>
                    </a:lnTo>
                    <a:lnTo>
                      <a:pt x="242" y="1749"/>
                    </a:lnTo>
                    <a:lnTo>
                      <a:pt x="233" y="1746"/>
                    </a:lnTo>
                    <a:lnTo>
                      <a:pt x="225" y="1746"/>
                    </a:lnTo>
                    <a:lnTo>
                      <a:pt x="220" y="1751"/>
                    </a:lnTo>
                    <a:lnTo>
                      <a:pt x="217" y="1757"/>
                    </a:lnTo>
                    <a:lnTo>
                      <a:pt x="215" y="1767"/>
                    </a:lnTo>
                    <a:lnTo>
                      <a:pt x="215" y="1780"/>
                    </a:lnTo>
                    <a:lnTo>
                      <a:pt x="215" y="1794"/>
                    </a:lnTo>
                    <a:lnTo>
                      <a:pt x="217" y="1811"/>
                    </a:lnTo>
                    <a:lnTo>
                      <a:pt x="219" y="1831"/>
                    </a:lnTo>
                    <a:lnTo>
                      <a:pt x="223" y="1851"/>
                    </a:lnTo>
                    <a:lnTo>
                      <a:pt x="228" y="1873"/>
                    </a:lnTo>
                    <a:lnTo>
                      <a:pt x="233" y="1895"/>
                    </a:lnTo>
                    <a:lnTo>
                      <a:pt x="246" y="1945"/>
                    </a:lnTo>
                    <a:lnTo>
                      <a:pt x="260" y="1997"/>
                    </a:lnTo>
                    <a:lnTo>
                      <a:pt x="275" y="2049"/>
                    </a:lnTo>
                    <a:lnTo>
                      <a:pt x="290" y="2098"/>
                    </a:lnTo>
                    <a:lnTo>
                      <a:pt x="318" y="2188"/>
                    </a:lnTo>
                    <a:lnTo>
                      <a:pt x="336" y="2249"/>
                    </a:lnTo>
                    <a:lnTo>
                      <a:pt x="344" y="2276"/>
                    </a:lnTo>
                    <a:lnTo>
                      <a:pt x="357" y="2312"/>
                    </a:lnTo>
                    <a:lnTo>
                      <a:pt x="373" y="2358"/>
                    </a:lnTo>
                    <a:lnTo>
                      <a:pt x="394" y="2411"/>
                    </a:lnTo>
                    <a:lnTo>
                      <a:pt x="441" y="2532"/>
                    </a:lnTo>
                    <a:lnTo>
                      <a:pt x="493" y="2660"/>
                    </a:lnTo>
                    <a:lnTo>
                      <a:pt x="544" y="2783"/>
                    </a:lnTo>
                    <a:lnTo>
                      <a:pt x="588" y="2888"/>
                    </a:lnTo>
                    <a:lnTo>
                      <a:pt x="619" y="2960"/>
                    </a:lnTo>
                    <a:lnTo>
                      <a:pt x="629" y="2987"/>
                    </a:lnTo>
                    <a:lnTo>
                      <a:pt x="600" y="3007"/>
                    </a:lnTo>
                    <a:lnTo>
                      <a:pt x="578" y="3022"/>
                    </a:lnTo>
                    <a:lnTo>
                      <a:pt x="561" y="3032"/>
                    </a:lnTo>
                    <a:lnTo>
                      <a:pt x="551" y="3038"/>
                    </a:lnTo>
                    <a:lnTo>
                      <a:pt x="544" y="3042"/>
                    </a:lnTo>
                    <a:lnTo>
                      <a:pt x="540" y="3043"/>
                    </a:lnTo>
                    <a:lnTo>
                      <a:pt x="539" y="3045"/>
                    </a:lnTo>
                    <a:lnTo>
                      <a:pt x="539" y="3045"/>
                    </a:lnTo>
                    <a:lnTo>
                      <a:pt x="539" y="3040"/>
                    </a:lnTo>
                    <a:lnTo>
                      <a:pt x="538" y="3028"/>
                    </a:lnTo>
                    <a:lnTo>
                      <a:pt x="534" y="3008"/>
                    </a:lnTo>
                    <a:lnTo>
                      <a:pt x="530" y="2979"/>
                    </a:lnTo>
                    <a:lnTo>
                      <a:pt x="522" y="2943"/>
                    </a:lnTo>
                    <a:lnTo>
                      <a:pt x="511" y="2899"/>
                    </a:lnTo>
                    <a:lnTo>
                      <a:pt x="502" y="2874"/>
                    </a:lnTo>
                    <a:lnTo>
                      <a:pt x="493" y="2847"/>
                    </a:lnTo>
                    <a:lnTo>
                      <a:pt x="484" y="2818"/>
                    </a:lnTo>
                    <a:lnTo>
                      <a:pt x="472" y="2788"/>
                    </a:lnTo>
                    <a:lnTo>
                      <a:pt x="444" y="2713"/>
                    </a:lnTo>
                    <a:lnTo>
                      <a:pt x="409" y="2618"/>
                    </a:lnTo>
                    <a:lnTo>
                      <a:pt x="372" y="2510"/>
                    </a:lnTo>
                    <a:lnTo>
                      <a:pt x="333" y="2395"/>
                    </a:lnTo>
                    <a:lnTo>
                      <a:pt x="296" y="2283"/>
                    </a:lnTo>
                    <a:lnTo>
                      <a:pt x="260" y="2178"/>
                    </a:lnTo>
                    <a:lnTo>
                      <a:pt x="229" y="2089"/>
                    </a:lnTo>
                    <a:lnTo>
                      <a:pt x="205" y="2021"/>
                    </a:lnTo>
                    <a:lnTo>
                      <a:pt x="193" y="1992"/>
                    </a:lnTo>
                    <a:lnTo>
                      <a:pt x="181" y="1956"/>
                    </a:lnTo>
                    <a:lnTo>
                      <a:pt x="169" y="1916"/>
                    </a:lnTo>
                    <a:lnTo>
                      <a:pt x="156" y="1873"/>
                    </a:lnTo>
                    <a:lnTo>
                      <a:pt x="143" y="1826"/>
                    </a:lnTo>
                    <a:lnTo>
                      <a:pt x="129" y="1778"/>
                    </a:lnTo>
                    <a:lnTo>
                      <a:pt x="116" y="1727"/>
                    </a:lnTo>
                    <a:lnTo>
                      <a:pt x="103" y="1676"/>
                    </a:lnTo>
                    <a:lnTo>
                      <a:pt x="91" y="1623"/>
                    </a:lnTo>
                    <a:lnTo>
                      <a:pt x="80" y="1571"/>
                    </a:lnTo>
                    <a:lnTo>
                      <a:pt x="70" y="1520"/>
                    </a:lnTo>
                    <a:lnTo>
                      <a:pt x="60" y="1470"/>
                    </a:lnTo>
                    <a:lnTo>
                      <a:pt x="51" y="1422"/>
                    </a:lnTo>
                    <a:lnTo>
                      <a:pt x="45" y="1377"/>
                    </a:lnTo>
                    <a:lnTo>
                      <a:pt x="40" y="1335"/>
                    </a:lnTo>
                    <a:lnTo>
                      <a:pt x="36" y="1297"/>
                    </a:lnTo>
                    <a:lnTo>
                      <a:pt x="35" y="1263"/>
                    </a:lnTo>
                    <a:lnTo>
                      <a:pt x="34" y="1231"/>
                    </a:lnTo>
                    <a:lnTo>
                      <a:pt x="34" y="1202"/>
                    </a:lnTo>
                    <a:lnTo>
                      <a:pt x="34" y="1174"/>
                    </a:lnTo>
                    <a:lnTo>
                      <a:pt x="36" y="1126"/>
                    </a:lnTo>
                    <a:lnTo>
                      <a:pt x="39" y="1088"/>
                    </a:lnTo>
                    <a:lnTo>
                      <a:pt x="42" y="1058"/>
                    </a:lnTo>
                    <a:lnTo>
                      <a:pt x="45" y="1037"/>
                    </a:lnTo>
                    <a:lnTo>
                      <a:pt x="48" y="1024"/>
                    </a:lnTo>
                    <a:lnTo>
                      <a:pt x="48" y="1020"/>
                    </a:lnTo>
                    <a:lnTo>
                      <a:pt x="48" y="1015"/>
                    </a:lnTo>
                    <a:lnTo>
                      <a:pt x="45" y="1000"/>
                    </a:lnTo>
                    <a:lnTo>
                      <a:pt x="42" y="976"/>
                    </a:lnTo>
                    <a:lnTo>
                      <a:pt x="37" y="943"/>
                    </a:lnTo>
                    <a:lnTo>
                      <a:pt x="33" y="903"/>
                    </a:lnTo>
                    <a:lnTo>
                      <a:pt x="30" y="855"/>
                    </a:lnTo>
                    <a:lnTo>
                      <a:pt x="28" y="801"/>
                    </a:lnTo>
                    <a:lnTo>
                      <a:pt x="27" y="741"/>
                    </a:lnTo>
                    <a:lnTo>
                      <a:pt x="27" y="683"/>
                    </a:lnTo>
                    <a:lnTo>
                      <a:pt x="27" y="632"/>
                    </a:lnTo>
                    <a:lnTo>
                      <a:pt x="26" y="586"/>
                    </a:lnTo>
                    <a:lnTo>
                      <a:pt x="24" y="547"/>
                    </a:lnTo>
                    <a:lnTo>
                      <a:pt x="23" y="511"/>
                    </a:lnTo>
                    <a:lnTo>
                      <a:pt x="21" y="478"/>
                    </a:lnTo>
                    <a:lnTo>
                      <a:pt x="18" y="448"/>
                    </a:lnTo>
                    <a:lnTo>
                      <a:pt x="14" y="419"/>
                    </a:lnTo>
                    <a:lnTo>
                      <a:pt x="10" y="387"/>
                    </a:lnTo>
                    <a:lnTo>
                      <a:pt x="7" y="349"/>
                    </a:lnTo>
                    <a:lnTo>
                      <a:pt x="3" y="306"/>
                    </a:lnTo>
                    <a:lnTo>
                      <a:pt x="1" y="259"/>
                    </a:lnTo>
                    <a:lnTo>
                      <a:pt x="0" y="208"/>
                    </a:lnTo>
                    <a:lnTo>
                      <a:pt x="0" y="154"/>
                    </a:lnTo>
                    <a:lnTo>
                      <a:pt x="1" y="99"/>
                    </a:lnTo>
                    <a:lnTo>
                      <a:pt x="4" y="41"/>
                    </a:lnTo>
                    <a:lnTo>
                      <a:pt x="5" y="30"/>
                    </a:lnTo>
                    <a:lnTo>
                      <a:pt x="6" y="22"/>
                    </a:lnTo>
                    <a:lnTo>
                      <a:pt x="8" y="14"/>
                    </a:lnTo>
                    <a:lnTo>
                      <a:pt x="9" y="8"/>
                    </a:lnTo>
                    <a:lnTo>
                      <a:pt x="13" y="3"/>
                    </a:lnTo>
                    <a:lnTo>
                      <a:pt x="16" y="1"/>
                    </a:lnTo>
                    <a:lnTo>
                      <a:pt x="21" y="0"/>
                    </a:lnTo>
                    <a:lnTo>
                      <a:pt x="27" y="0"/>
                    </a:lnTo>
                    <a:lnTo>
                      <a:pt x="34" y="2"/>
                    </a:lnTo>
                    <a:lnTo>
                      <a:pt x="44" y="5"/>
                    </a:lnTo>
                    <a:lnTo>
                      <a:pt x="55" y="10"/>
                    </a:lnTo>
                    <a:lnTo>
                      <a:pt x="68" y="16"/>
                    </a:lnTo>
                    <a:lnTo>
                      <a:pt x="100" y="32"/>
                    </a:lnTo>
                    <a:lnTo>
                      <a:pt x="142" y="54"/>
                    </a:lnTo>
                    <a:lnTo>
                      <a:pt x="141" y="67"/>
                    </a:lnTo>
                    <a:lnTo>
                      <a:pt x="139" y="102"/>
                    </a:lnTo>
                    <a:lnTo>
                      <a:pt x="135" y="154"/>
                    </a:lnTo>
                    <a:lnTo>
                      <a:pt x="130" y="218"/>
                    </a:lnTo>
                    <a:lnTo>
                      <a:pt x="126" y="287"/>
                    </a:lnTo>
                    <a:lnTo>
                      <a:pt x="124" y="358"/>
                    </a:lnTo>
                    <a:lnTo>
                      <a:pt x="123" y="392"/>
                    </a:lnTo>
                    <a:lnTo>
                      <a:pt x="123" y="423"/>
                    </a:lnTo>
                    <a:lnTo>
                      <a:pt x="124" y="453"/>
                    </a:lnTo>
                    <a:lnTo>
                      <a:pt x="125" y="478"/>
                    </a:lnTo>
                    <a:close/>
                  </a:path>
                </a:pathLst>
              </a:custGeom>
              <a:solidFill>
                <a:srgbClr val="8061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5200560" y="2697120"/>
                <a:ext cx="192240" cy="968400"/>
              </a:xfrm>
              <a:custGeom>
                <a:avLst/>
                <a:gdLst/>
                <a:ahLst/>
                <a:rect l="l" t="t" r="r" b="b"/>
                <a:pathLst>
                  <a:path w="608" h="3049">
                    <a:moveTo>
                      <a:pt x="98" y="481"/>
                    </a:moveTo>
                    <a:lnTo>
                      <a:pt x="100" y="507"/>
                    </a:lnTo>
                    <a:lnTo>
                      <a:pt x="102" y="537"/>
                    </a:lnTo>
                    <a:lnTo>
                      <a:pt x="103" y="568"/>
                    </a:lnTo>
                    <a:lnTo>
                      <a:pt x="103" y="601"/>
                    </a:lnTo>
                    <a:lnTo>
                      <a:pt x="104" y="672"/>
                    </a:lnTo>
                    <a:lnTo>
                      <a:pt x="102" y="743"/>
                    </a:lnTo>
                    <a:lnTo>
                      <a:pt x="99" y="810"/>
                    </a:lnTo>
                    <a:lnTo>
                      <a:pt x="95" y="869"/>
                    </a:lnTo>
                    <a:lnTo>
                      <a:pt x="91" y="894"/>
                    </a:lnTo>
                    <a:lnTo>
                      <a:pt x="88" y="916"/>
                    </a:lnTo>
                    <a:lnTo>
                      <a:pt x="85" y="932"/>
                    </a:lnTo>
                    <a:lnTo>
                      <a:pt x="81" y="944"/>
                    </a:lnTo>
                    <a:lnTo>
                      <a:pt x="77" y="956"/>
                    </a:lnTo>
                    <a:lnTo>
                      <a:pt x="74" y="970"/>
                    </a:lnTo>
                    <a:lnTo>
                      <a:pt x="72" y="988"/>
                    </a:lnTo>
                    <a:lnTo>
                      <a:pt x="70" y="1010"/>
                    </a:lnTo>
                    <a:lnTo>
                      <a:pt x="70" y="1033"/>
                    </a:lnTo>
                    <a:lnTo>
                      <a:pt x="70" y="1060"/>
                    </a:lnTo>
                    <a:lnTo>
                      <a:pt x="71" y="1088"/>
                    </a:lnTo>
                    <a:lnTo>
                      <a:pt x="73" y="1120"/>
                    </a:lnTo>
                    <a:lnTo>
                      <a:pt x="77" y="1151"/>
                    </a:lnTo>
                    <a:lnTo>
                      <a:pt x="82" y="1185"/>
                    </a:lnTo>
                    <a:lnTo>
                      <a:pt x="88" y="1219"/>
                    </a:lnTo>
                    <a:lnTo>
                      <a:pt x="96" y="1254"/>
                    </a:lnTo>
                    <a:lnTo>
                      <a:pt x="104" y="1288"/>
                    </a:lnTo>
                    <a:lnTo>
                      <a:pt x="115" y="1323"/>
                    </a:lnTo>
                    <a:lnTo>
                      <a:pt x="127" y="1357"/>
                    </a:lnTo>
                    <a:lnTo>
                      <a:pt x="140" y="1391"/>
                    </a:lnTo>
                    <a:lnTo>
                      <a:pt x="152" y="1417"/>
                    </a:lnTo>
                    <a:lnTo>
                      <a:pt x="164" y="1443"/>
                    </a:lnTo>
                    <a:lnTo>
                      <a:pt x="177" y="1470"/>
                    </a:lnTo>
                    <a:lnTo>
                      <a:pt x="190" y="1497"/>
                    </a:lnTo>
                    <a:lnTo>
                      <a:pt x="203" y="1523"/>
                    </a:lnTo>
                    <a:lnTo>
                      <a:pt x="216" y="1547"/>
                    </a:lnTo>
                    <a:lnTo>
                      <a:pt x="228" y="1571"/>
                    </a:lnTo>
                    <a:lnTo>
                      <a:pt x="239" y="1594"/>
                    </a:lnTo>
                    <a:lnTo>
                      <a:pt x="258" y="1633"/>
                    </a:lnTo>
                    <a:lnTo>
                      <a:pt x="273" y="1669"/>
                    </a:lnTo>
                    <a:lnTo>
                      <a:pt x="279" y="1687"/>
                    </a:lnTo>
                    <a:lnTo>
                      <a:pt x="286" y="1703"/>
                    </a:lnTo>
                    <a:lnTo>
                      <a:pt x="290" y="1718"/>
                    </a:lnTo>
                    <a:lnTo>
                      <a:pt x="293" y="1732"/>
                    </a:lnTo>
                    <a:lnTo>
                      <a:pt x="296" y="1743"/>
                    </a:lnTo>
                    <a:lnTo>
                      <a:pt x="297" y="1753"/>
                    </a:lnTo>
                    <a:lnTo>
                      <a:pt x="297" y="1759"/>
                    </a:lnTo>
                    <a:lnTo>
                      <a:pt x="295" y="1763"/>
                    </a:lnTo>
                    <a:lnTo>
                      <a:pt x="292" y="1765"/>
                    </a:lnTo>
                    <a:lnTo>
                      <a:pt x="290" y="1765"/>
                    </a:lnTo>
                    <a:lnTo>
                      <a:pt x="288" y="1765"/>
                    </a:lnTo>
                    <a:lnTo>
                      <a:pt x="285" y="1762"/>
                    </a:lnTo>
                    <a:lnTo>
                      <a:pt x="278" y="1757"/>
                    </a:lnTo>
                    <a:lnTo>
                      <a:pt x="269" y="1747"/>
                    </a:lnTo>
                    <a:lnTo>
                      <a:pt x="248" y="1722"/>
                    </a:lnTo>
                    <a:lnTo>
                      <a:pt x="231" y="1703"/>
                    </a:lnTo>
                    <a:lnTo>
                      <a:pt x="216" y="1689"/>
                    </a:lnTo>
                    <a:lnTo>
                      <a:pt x="203" y="1680"/>
                    </a:lnTo>
                    <a:lnTo>
                      <a:pt x="192" y="1675"/>
                    </a:lnTo>
                    <a:lnTo>
                      <a:pt x="184" y="1675"/>
                    </a:lnTo>
                    <a:lnTo>
                      <a:pt x="178" y="1679"/>
                    </a:lnTo>
                    <a:lnTo>
                      <a:pt x="175" y="1687"/>
                    </a:lnTo>
                    <a:lnTo>
                      <a:pt x="172" y="1698"/>
                    </a:lnTo>
                    <a:lnTo>
                      <a:pt x="171" y="1712"/>
                    </a:lnTo>
                    <a:lnTo>
                      <a:pt x="172" y="1729"/>
                    </a:lnTo>
                    <a:lnTo>
                      <a:pt x="176" y="1748"/>
                    </a:lnTo>
                    <a:lnTo>
                      <a:pt x="179" y="1770"/>
                    </a:lnTo>
                    <a:lnTo>
                      <a:pt x="184" y="1795"/>
                    </a:lnTo>
                    <a:lnTo>
                      <a:pt x="191" y="1820"/>
                    </a:lnTo>
                    <a:lnTo>
                      <a:pt x="197" y="1848"/>
                    </a:lnTo>
                    <a:lnTo>
                      <a:pt x="214" y="1905"/>
                    </a:lnTo>
                    <a:lnTo>
                      <a:pt x="232" y="1965"/>
                    </a:lnTo>
                    <a:lnTo>
                      <a:pt x="251" y="2026"/>
                    </a:lnTo>
                    <a:lnTo>
                      <a:pt x="270" y="2084"/>
                    </a:lnTo>
                    <a:lnTo>
                      <a:pt x="303" y="2186"/>
                    </a:lnTo>
                    <a:lnTo>
                      <a:pt x="324" y="2252"/>
                    </a:lnTo>
                    <a:lnTo>
                      <a:pt x="331" y="2279"/>
                    </a:lnTo>
                    <a:lnTo>
                      <a:pt x="343" y="2315"/>
                    </a:lnTo>
                    <a:lnTo>
                      <a:pt x="359" y="2363"/>
                    </a:lnTo>
                    <a:lnTo>
                      <a:pt x="379" y="2416"/>
                    </a:lnTo>
                    <a:lnTo>
                      <a:pt x="425" y="2539"/>
                    </a:lnTo>
                    <a:lnTo>
                      <a:pt x="476" y="2671"/>
                    </a:lnTo>
                    <a:lnTo>
                      <a:pt x="525" y="2796"/>
                    </a:lnTo>
                    <a:lnTo>
                      <a:pt x="567" y="2903"/>
                    </a:lnTo>
                    <a:lnTo>
                      <a:pt x="596" y="2977"/>
                    </a:lnTo>
                    <a:lnTo>
                      <a:pt x="608" y="3005"/>
                    </a:lnTo>
                    <a:lnTo>
                      <a:pt x="579" y="3024"/>
                    </a:lnTo>
                    <a:lnTo>
                      <a:pt x="559" y="3036"/>
                    </a:lnTo>
                    <a:lnTo>
                      <a:pt x="546" y="3043"/>
                    </a:lnTo>
                    <a:lnTo>
                      <a:pt x="540" y="3048"/>
                    </a:lnTo>
                    <a:lnTo>
                      <a:pt x="537" y="3049"/>
                    </a:lnTo>
                    <a:lnTo>
                      <a:pt x="537" y="3049"/>
                    </a:lnTo>
                    <a:lnTo>
                      <a:pt x="538" y="3048"/>
                    </a:lnTo>
                    <a:lnTo>
                      <a:pt x="539" y="3048"/>
                    </a:lnTo>
                    <a:lnTo>
                      <a:pt x="539" y="3043"/>
                    </a:lnTo>
                    <a:lnTo>
                      <a:pt x="538" y="3031"/>
                    </a:lnTo>
                    <a:lnTo>
                      <a:pt x="534" y="3011"/>
                    </a:lnTo>
                    <a:lnTo>
                      <a:pt x="530" y="2982"/>
                    </a:lnTo>
                    <a:lnTo>
                      <a:pt x="522" y="2946"/>
                    </a:lnTo>
                    <a:lnTo>
                      <a:pt x="511" y="2902"/>
                    </a:lnTo>
                    <a:lnTo>
                      <a:pt x="502" y="2877"/>
                    </a:lnTo>
                    <a:lnTo>
                      <a:pt x="493" y="2850"/>
                    </a:lnTo>
                    <a:lnTo>
                      <a:pt x="484" y="2821"/>
                    </a:lnTo>
                    <a:lnTo>
                      <a:pt x="472" y="2791"/>
                    </a:lnTo>
                    <a:lnTo>
                      <a:pt x="444" y="2716"/>
                    </a:lnTo>
                    <a:lnTo>
                      <a:pt x="409" y="2621"/>
                    </a:lnTo>
                    <a:lnTo>
                      <a:pt x="372" y="2513"/>
                    </a:lnTo>
                    <a:lnTo>
                      <a:pt x="333" y="2398"/>
                    </a:lnTo>
                    <a:lnTo>
                      <a:pt x="296" y="2286"/>
                    </a:lnTo>
                    <a:lnTo>
                      <a:pt x="260" y="2181"/>
                    </a:lnTo>
                    <a:lnTo>
                      <a:pt x="229" y="2092"/>
                    </a:lnTo>
                    <a:lnTo>
                      <a:pt x="205" y="2024"/>
                    </a:lnTo>
                    <a:lnTo>
                      <a:pt x="193" y="1995"/>
                    </a:lnTo>
                    <a:lnTo>
                      <a:pt x="181" y="1959"/>
                    </a:lnTo>
                    <a:lnTo>
                      <a:pt x="169" y="1919"/>
                    </a:lnTo>
                    <a:lnTo>
                      <a:pt x="156" y="1876"/>
                    </a:lnTo>
                    <a:lnTo>
                      <a:pt x="143" y="1829"/>
                    </a:lnTo>
                    <a:lnTo>
                      <a:pt x="129" y="1781"/>
                    </a:lnTo>
                    <a:lnTo>
                      <a:pt x="116" y="1730"/>
                    </a:lnTo>
                    <a:lnTo>
                      <a:pt x="103" y="1679"/>
                    </a:lnTo>
                    <a:lnTo>
                      <a:pt x="91" y="1626"/>
                    </a:lnTo>
                    <a:lnTo>
                      <a:pt x="80" y="1574"/>
                    </a:lnTo>
                    <a:lnTo>
                      <a:pt x="70" y="1523"/>
                    </a:lnTo>
                    <a:lnTo>
                      <a:pt x="60" y="1473"/>
                    </a:lnTo>
                    <a:lnTo>
                      <a:pt x="51" y="1425"/>
                    </a:lnTo>
                    <a:lnTo>
                      <a:pt x="45" y="1380"/>
                    </a:lnTo>
                    <a:lnTo>
                      <a:pt x="40" y="1338"/>
                    </a:lnTo>
                    <a:lnTo>
                      <a:pt x="36" y="1300"/>
                    </a:lnTo>
                    <a:lnTo>
                      <a:pt x="35" y="1266"/>
                    </a:lnTo>
                    <a:lnTo>
                      <a:pt x="34" y="1234"/>
                    </a:lnTo>
                    <a:lnTo>
                      <a:pt x="34" y="1205"/>
                    </a:lnTo>
                    <a:lnTo>
                      <a:pt x="34" y="1177"/>
                    </a:lnTo>
                    <a:lnTo>
                      <a:pt x="36" y="1129"/>
                    </a:lnTo>
                    <a:lnTo>
                      <a:pt x="39" y="1091"/>
                    </a:lnTo>
                    <a:lnTo>
                      <a:pt x="42" y="1061"/>
                    </a:lnTo>
                    <a:lnTo>
                      <a:pt x="45" y="1040"/>
                    </a:lnTo>
                    <a:lnTo>
                      <a:pt x="48" y="1027"/>
                    </a:lnTo>
                    <a:lnTo>
                      <a:pt x="48" y="1023"/>
                    </a:lnTo>
                    <a:lnTo>
                      <a:pt x="48" y="1018"/>
                    </a:lnTo>
                    <a:lnTo>
                      <a:pt x="45" y="1003"/>
                    </a:lnTo>
                    <a:lnTo>
                      <a:pt x="42" y="979"/>
                    </a:lnTo>
                    <a:lnTo>
                      <a:pt x="37" y="946"/>
                    </a:lnTo>
                    <a:lnTo>
                      <a:pt x="33" y="906"/>
                    </a:lnTo>
                    <a:lnTo>
                      <a:pt x="30" y="858"/>
                    </a:lnTo>
                    <a:lnTo>
                      <a:pt x="28" y="804"/>
                    </a:lnTo>
                    <a:lnTo>
                      <a:pt x="27" y="744"/>
                    </a:lnTo>
                    <a:lnTo>
                      <a:pt x="27" y="686"/>
                    </a:lnTo>
                    <a:lnTo>
                      <a:pt x="27" y="635"/>
                    </a:lnTo>
                    <a:lnTo>
                      <a:pt x="26" y="589"/>
                    </a:lnTo>
                    <a:lnTo>
                      <a:pt x="24" y="550"/>
                    </a:lnTo>
                    <a:lnTo>
                      <a:pt x="23" y="514"/>
                    </a:lnTo>
                    <a:lnTo>
                      <a:pt x="21" y="481"/>
                    </a:lnTo>
                    <a:lnTo>
                      <a:pt x="18" y="451"/>
                    </a:lnTo>
                    <a:lnTo>
                      <a:pt x="14" y="422"/>
                    </a:lnTo>
                    <a:lnTo>
                      <a:pt x="10" y="390"/>
                    </a:lnTo>
                    <a:lnTo>
                      <a:pt x="7" y="352"/>
                    </a:lnTo>
                    <a:lnTo>
                      <a:pt x="3" y="309"/>
                    </a:lnTo>
                    <a:lnTo>
                      <a:pt x="1" y="262"/>
                    </a:lnTo>
                    <a:lnTo>
                      <a:pt x="0" y="211"/>
                    </a:lnTo>
                    <a:lnTo>
                      <a:pt x="0" y="157"/>
                    </a:lnTo>
                    <a:lnTo>
                      <a:pt x="1" y="102"/>
                    </a:lnTo>
                    <a:lnTo>
                      <a:pt x="4" y="44"/>
                    </a:lnTo>
                    <a:lnTo>
                      <a:pt x="5" y="24"/>
                    </a:lnTo>
                    <a:lnTo>
                      <a:pt x="4" y="10"/>
                    </a:lnTo>
                    <a:lnTo>
                      <a:pt x="5" y="5"/>
                    </a:lnTo>
                    <a:lnTo>
                      <a:pt x="5" y="2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20" y="3"/>
                    </a:lnTo>
                    <a:lnTo>
                      <a:pt x="39" y="13"/>
                    </a:lnTo>
                    <a:lnTo>
                      <a:pt x="67" y="28"/>
                    </a:lnTo>
                    <a:lnTo>
                      <a:pt x="108" y="49"/>
                    </a:lnTo>
                    <a:lnTo>
                      <a:pt x="108" y="62"/>
                    </a:lnTo>
                    <a:lnTo>
                      <a:pt x="105" y="99"/>
                    </a:lnTo>
                    <a:lnTo>
                      <a:pt x="102" y="152"/>
                    </a:lnTo>
                    <a:lnTo>
                      <a:pt x="99" y="217"/>
                    </a:lnTo>
                    <a:lnTo>
                      <a:pt x="97" y="288"/>
                    </a:lnTo>
                    <a:lnTo>
                      <a:pt x="96" y="359"/>
                    </a:lnTo>
                    <a:lnTo>
                      <a:pt x="96" y="394"/>
                    </a:lnTo>
                    <a:lnTo>
                      <a:pt x="96" y="426"/>
                    </a:lnTo>
                    <a:lnTo>
                      <a:pt x="97" y="456"/>
                    </a:lnTo>
                    <a:lnTo>
                      <a:pt x="98" y="481"/>
                    </a:lnTo>
                    <a:close/>
                  </a:path>
                </a:pathLst>
              </a:custGeom>
              <a:solidFill>
                <a:srgbClr val="785a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5197320" y="2695680"/>
                <a:ext cx="189000" cy="971640"/>
              </a:xfrm>
              <a:custGeom>
                <a:avLst/>
                <a:gdLst/>
                <a:ahLst/>
                <a:rect l="l" t="t" r="r" b="b"/>
                <a:pathLst>
                  <a:path w="593" h="3060">
                    <a:moveTo>
                      <a:pt x="593" y="3022"/>
                    </a:moveTo>
                    <a:lnTo>
                      <a:pt x="565" y="3041"/>
                    </a:lnTo>
                    <a:lnTo>
                      <a:pt x="548" y="3053"/>
                    </a:lnTo>
                    <a:lnTo>
                      <a:pt x="538" y="3058"/>
                    </a:lnTo>
                    <a:lnTo>
                      <a:pt x="536" y="3060"/>
                    </a:lnTo>
                    <a:lnTo>
                      <a:pt x="537" y="3059"/>
                    </a:lnTo>
                    <a:lnTo>
                      <a:pt x="541" y="3056"/>
                    </a:lnTo>
                    <a:lnTo>
                      <a:pt x="545" y="3054"/>
                    </a:lnTo>
                    <a:lnTo>
                      <a:pt x="547" y="3053"/>
                    </a:lnTo>
                    <a:lnTo>
                      <a:pt x="547" y="3048"/>
                    </a:lnTo>
                    <a:lnTo>
                      <a:pt x="546" y="3036"/>
                    </a:lnTo>
                    <a:lnTo>
                      <a:pt x="542" y="3016"/>
                    </a:lnTo>
                    <a:lnTo>
                      <a:pt x="538" y="2987"/>
                    </a:lnTo>
                    <a:lnTo>
                      <a:pt x="530" y="2951"/>
                    </a:lnTo>
                    <a:lnTo>
                      <a:pt x="519" y="2907"/>
                    </a:lnTo>
                    <a:lnTo>
                      <a:pt x="510" y="2882"/>
                    </a:lnTo>
                    <a:lnTo>
                      <a:pt x="501" y="2855"/>
                    </a:lnTo>
                    <a:lnTo>
                      <a:pt x="492" y="2826"/>
                    </a:lnTo>
                    <a:lnTo>
                      <a:pt x="480" y="2796"/>
                    </a:lnTo>
                    <a:lnTo>
                      <a:pt x="452" y="2721"/>
                    </a:lnTo>
                    <a:lnTo>
                      <a:pt x="417" y="2626"/>
                    </a:lnTo>
                    <a:lnTo>
                      <a:pt x="380" y="2518"/>
                    </a:lnTo>
                    <a:lnTo>
                      <a:pt x="341" y="2403"/>
                    </a:lnTo>
                    <a:lnTo>
                      <a:pt x="304" y="2291"/>
                    </a:lnTo>
                    <a:lnTo>
                      <a:pt x="268" y="2186"/>
                    </a:lnTo>
                    <a:lnTo>
                      <a:pt x="237" y="2097"/>
                    </a:lnTo>
                    <a:lnTo>
                      <a:pt x="213" y="2029"/>
                    </a:lnTo>
                    <a:lnTo>
                      <a:pt x="201" y="2000"/>
                    </a:lnTo>
                    <a:lnTo>
                      <a:pt x="189" y="1964"/>
                    </a:lnTo>
                    <a:lnTo>
                      <a:pt x="177" y="1924"/>
                    </a:lnTo>
                    <a:lnTo>
                      <a:pt x="164" y="1881"/>
                    </a:lnTo>
                    <a:lnTo>
                      <a:pt x="151" y="1834"/>
                    </a:lnTo>
                    <a:lnTo>
                      <a:pt x="137" y="1786"/>
                    </a:lnTo>
                    <a:lnTo>
                      <a:pt x="124" y="1735"/>
                    </a:lnTo>
                    <a:lnTo>
                      <a:pt x="111" y="1684"/>
                    </a:lnTo>
                    <a:lnTo>
                      <a:pt x="99" y="1631"/>
                    </a:lnTo>
                    <a:lnTo>
                      <a:pt x="88" y="1579"/>
                    </a:lnTo>
                    <a:lnTo>
                      <a:pt x="78" y="1528"/>
                    </a:lnTo>
                    <a:lnTo>
                      <a:pt x="68" y="1478"/>
                    </a:lnTo>
                    <a:lnTo>
                      <a:pt x="59" y="1430"/>
                    </a:lnTo>
                    <a:lnTo>
                      <a:pt x="53" y="1385"/>
                    </a:lnTo>
                    <a:lnTo>
                      <a:pt x="48" y="1343"/>
                    </a:lnTo>
                    <a:lnTo>
                      <a:pt x="44" y="1305"/>
                    </a:lnTo>
                    <a:lnTo>
                      <a:pt x="43" y="1271"/>
                    </a:lnTo>
                    <a:lnTo>
                      <a:pt x="42" y="1239"/>
                    </a:lnTo>
                    <a:lnTo>
                      <a:pt x="42" y="1210"/>
                    </a:lnTo>
                    <a:lnTo>
                      <a:pt x="42" y="1182"/>
                    </a:lnTo>
                    <a:lnTo>
                      <a:pt x="44" y="1134"/>
                    </a:lnTo>
                    <a:lnTo>
                      <a:pt x="47" y="1096"/>
                    </a:lnTo>
                    <a:lnTo>
                      <a:pt x="50" y="1066"/>
                    </a:lnTo>
                    <a:lnTo>
                      <a:pt x="53" y="1045"/>
                    </a:lnTo>
                    <a:lnTo>
                      <a:pt x="56" y="1032"/>
                    </a:lnTo>
                    <a:lnTo>
                      <a:pt x="56" y="1028"/>
                    </a:lnTo>
                    <a:lnTo>
                      <a:pt x="56" y="1023"/>
                    </a:lnTo>
                    <a:lnTo>
                      <a:pt x="53" y="1008"/>
                    </a:lnTo>
                    <a:lnTo>
                      <a:pt x="50" y="984"/>
                    </a:lnTo>
                    <a:lnTo>
                      <a:pt x="45" y="951"/>
                    </a:lnTo>
                    <a:lnTo>
                      <a:pt x="41" y="911"/>
                    </a:lnTo>
                    <a:lnTo>
                      <a:pt x="38" y="863"/>
                    </a:lnTo>
                    <a:lnTo>
                      <a:pt x="36" y="809"/>
                    </a:lnTo>
                    <a:lnTo>
                      <a:pt x="35" y="749"/>
                    </a:lnTo>
                    <a:lnTo>
                      <a:pt x="35" y="691"/>
                    </a:lnTo>
                    <a:lnTo>
                      <a:pt x="35" y="640"/>
                    </a:lnTo>
                    <a:lnTo>
                      <a:pt x="34" y="594"/>
                    </a:lnTo>
                    <a:lnTo>
                      <a:pt x="32" y="555"/>
                    </a:lnTo>
                    <a:lnTo>
                      <a:pt x="31" y="519"/>
                    </a:lnTo>
                    <a:lnTo>
                      <a:pt x="29" y="486"/>
                    </a:lnTo>
                    <a:lnTo>
                      <a:pt x="26" y="456"/>
                    </a:lnTo>
                    <a:lnTo>
                      <a:pt x="22" y="427"/>
                    </a:lnTo>
                    <a:lnTo>
                      <a:pt x="18" y="395"/>
                    </a:lnTo>
                    <a:lnTo>
                      <a:pt x="15" y="357"/>
                    </a:lnTo>
                    <a:lnTo>
                      <a:pt x="11" y="314"/>
                    </a:lnTo>
                    <a:lnTo>
                      <a:pt x="9" y="267"/>
                    </a:lnTo>
                    <a:lnTo>
                      <a:pt x="8" y="216"/>
                    </a:lnTo>
                    <a:lnTo>
                      <a:pt x="8" y="162"/>
                    </a:lnTo>
                    <a:lnTo>
                      <a:pt x="9" y="107"/>
                    </a:lnTo>
                    <a:lnTo>
                      <a:pt x="12" y="49"/>
                    </a:lnTo>
                    <a:lnTo>
                      <a:pt x="12" y="38"/>
                    </a:lnTo>
                    <a:lnTo>
                      <a:pt x="11" y="29"/>
                    </a:lnTo>
                    <a:lnTo>
                      <a:pt x="10" y="21"/>
                    </a:lnTo>
                    <a:lnTo>
                      <a:pt x="7" y="13"/>
                    </a:lnTo>
                    <a:lnTo>
                      <a:pt x="2" y="5"/>
                    </a:lnTo>
                    <a:lnTo>
                      <a:pt x="0" y="0"/>
                    </a:lnTo>
                    <a:lnTo>
                      <a:pt x="4" y="3"/>
                    </a:lnTo>
                    <a:lnTo>
                      <a:pt x="17" y="11"/>
                    </a:lnTo>
                    <a:lnTo>
                      <a:pt x="42" y="25"/>
                    </a:lnTo>
                    <a:lnTo>
                      <a:pt x="81" y="47"/>
                    </a:lnTo>
                    <a:lnTo>
                      <a:pt x="81" y="61"/>
                    </a:lnTo>
                    <a:lnTo>
                      <a:pt x="79" y="98"/>
                    </a:lnTo>
                    <a:lnTo>
                      <a:pt x="78" y="153"/>
                    </a:lnTo>
                    <a:lnTo>
                      <a:pt x="76" y="220"/>
                    </a:lnTo>
                    <a:lnTo>
                      <a:pt x="75" y="292"/>
                    </a:lnTo>
                    <a:lnTo>
                      <a:pt x="75" y="364"/>
                    </a:lnTo>
                    <a:lnTo>
                      <a:pt x="75" y="399"/>
                    </a:lnTo>
                    <a:lnTo>
                      <a:pt x="76" y="431"/>
                    </a:lnTo>
                    <a:lnTo>
                      <a:pt x="77" y="461"/>
                    </a:lnTo>
                    <a:lnTo>
                      <a:pt x="79" y="486"/>
                    </a:lnTo>
                    <a:lnTo>
                      <a:pt x="82" y="542"/>
                    </a:lnTo>
                    <a:lnTo>
                      <a:pt x="83" y="606"/>
                    </a:lnTo>
                    <a:lnTo>
                      <a:pt x="83" y="677"/>
                    </a:lnTo>
                    <a:lnTo>
                      <a:pt x="82" y="748"/>
                    </a:lnTo>
                    <a:lnTo>
                      <a:pt x="80" y="815"/>
                    </a:lnTo>
                    <a:lnTo>
                      <a:pt x="76" y="874"/>
                    </a:lnTo>
                    <a:lnTo>
                      <a:pt x="72" y="899"/>
                    </a:lnTo>
                    <a:lnTo>
                      <a:pt x="69" y="921"/>
                    </a:lnTo>
                    <a:lnTo>
                      <a:pt x="66" y="937"/>
                    </a:lnTo>
                    <a:lnTo>
                      <a:pt x="62" y="949"/>
                    </a:lnTo>
                    <a:lnTo>
                      <a:pt x="58" y="961"/>
                    </a:lnTo>
                    <a:lnTo>
                      <a:pt x="55" y="976"/>
                    </a:lnTo>
                    <a:lnTo>
                      <a:pt x="54" y="995"/>
                    </a:lnTo>
                    <a:lnTo>
                      <a:pt x="54" y="1018"/>
                    </a:lnTo>
                    <a:lnTo>
                      <a:pt x="55" y="1044"/>
                    </a:lnTo>
                    <a:lnTo>
                      <a:pt x="56" y="1072"/>
                    </a:lnTo>
                    <a:lnTo>
                      <a:pt x="59" y="1102"/>
                    </a:lnTo>
                    <a:lnTo>
                      <a:pt x="64" y="1134"/>
                    </a:lnTo>
                    <a:lnTo>
                      <a:pt x="69" y="1168"/>
                    </a:lnTo>
                    <a:lnTo>
                      <a:pt x="76" y="1204"/>
                    </a:lnTo>
                    <a:lnTo>
                      <a:pt x="84" y="1239"/>
                    </a:lnTo>
                    <a:lnTo>
                      <a:pt x="93" y="1275"/>
                    </a:lnTo>
                    <a:lnTo>
                      <a:pt x="103" y="1312"/>
                    </a:lnTo>
                    <a:lnTo>
                      <a:pt x="115" y="1347"/>
                    </a:lnTo>
                    <a:lnTo>
                      <a:pt x="128" y="1382"/>
                    </a:lnTo>
                    <a:lnTo>
                      <a:pt x="140" y="1416"/>
                    </a:lnTo>
                    <a:lnTo>
                      <a:pt x="147" y="1433"/>
                    </a:lnTo>
                    <a:lnTo>
                      <a:pt x="156" y="1450"/>
                    </a:lnTo>
                    <a:lnTo>
                      <a:pt x="164" y="1469"/>
                    </a:lnTo>
                    <a:lnTo>
                      <a:pt x="174" y="1490"/>
                    </a:lnTo>
                    <a:lnTo>
                      <a:pt x="184" y="1510"/>
                    </a:lnTo>
                    <a:lnTo>
                      <a:pt x="195" y="1530"/>
                    </a:lnTo>
                    <a:lnTo>
                      <a:pt x="203" y="1549"/>
                    </a:lnTo>
                    <a:lnTo>
                      <a:pt x="213" y="1566"/>
                    </a:lnTo>
                    <a:lnTo>
                      <a:pt x="230" y="1604"/>
                    </a:lnTo>
                    <a:lnTo>
                      <a:pt x="246" y="1639"/>
                    </a:lnTo>
                    <a:lnTo>
                      <a:pt x="259" y="1669"/>
                    </a:lnTo>
                    <a:lnTo>
                      <a:pt x="269" y="1693"/>
                    </a:lnTo>
                    <a:lnTo>
                      <a:pt x="272" y="1703"/>
                    </a:lnTo>
                    <a:lnTo>
                      <a:pt x="274" y="1710"/>
                    </a:lnTo>
                    <a:lnTo>
                      <a:pt x="274" y="1714"/>
                    </a:lnTo>
                    <a:lnTo>
                      <a:pt x="273" y="1717"/>
                    </a:lnTo>
                    <a:lnTo>
                      <a:pt x="271" y="1717"/>
                    </a:lnTo>
                    <a:lnTo>
                      <a:pt x="267" y="1712"/>
                    </a:lnTo>
                    <a:lnTo>
                      <a:pt x="260" y="1706"/>
                    </a:lnTo>
                    <a:lnTo>
                      <a:pt x="252" y="1695"/>
                    </a:lnTo>
                    <a:lnTo>
                      <a:pt x="228" y="1666"/>
                    </a:lnTo>
                    <a:lnTo>
                      <a:pt x="206" y="1642"/>
                    </a:lnTo>
                    <a:lnTo>
                      <a:pt x="188" y="1625"/>
                    </a:lnTo>
                    <a:lnTo>
                      <a:pt x="174" y="1613"/>
                    </a:lnTo>
                    <a:lnTo>
                      <a:pt x="161" y="1606"/>
                    </a:lnTo>
                    <a:lnTo>
                      <a:pt x="152" y="1605"/>
                    </a:lnTo>
                    <a:lnTo>
                      <a:pt x="145" y="1610"/>
                    </a:lnTo>
                    <a:lnTo>
                      <a:pt x="140" y="1617"/>
                    </a:lnTo>
                    <a:lnTo>
                      <a:pt x="138" y="1629"/>
                    </a:lnTo>
                    <a:lnTo>
                      <a:pt x="137" y="1645"/>
                    </a:lnTo>
                    <a:lnTo>
                      <a:pt x="139" y="1665"/>
                    </a:lnTo>
                    <a:lnTo>
                      <a:pt x="143" y="1687"/>
                    </a:lnTo>
                    <a:lnTo>
                      <a:pt x="147" y="1712"/>
                    </a:lnTo>
                    <a:lnTo>
                      <a:pt x="153" y="1740"/>
                    </a:lnTo>
                    <a:lnTo>
                      <a:pt x="161" y="1770"/>
                    </a:lnTo>
                    <a:lnTo>
                      <a:pt x="170" y="1801"/>
                    </a:lnTo>
                    <a:lnTo>
                      <a:pt x="189" y="1867"/>
                    </a:lnTo>
                    <a:lnTo>
                      <a:pt x="211" y="1936"/>
                    </a:lnTo>
                    <a:lnTo>
                      <a:pt x="233" y="2005"/>
                    </a:lnTo>
                    <a:lnTo>
                      <a:pt x="256" y="2072"/>
                    </a:lnTo>
                    <a:lnTo>
                      <a:pt x="296" y="2186"/>
                    </a:lnTo>
                    <a:lnTo>
                      <a:pt x="319" y="2257"/>
                    </a:lnTo>
                    <a:lnTo>
                      <a:pt x="326" y="2284"/>
                    </a:lnTo>
                    <a:lnTo>
                      <a:pt x="338" y="2321"/>
                    </a:lnTo>
                    <a:lnTo>
                      <a:pt x="354" y="2369"/>
                    </a:lnTo>
                    <a:lnTo>
                      <a:pt x="373" y="2423"/>
                    </a:lnTo>
                    <a:lnTo>
                      <a:pt x="417" y="2548"/>
                    </a:lnTo>
                    <a:lnTo>
                      <a:pt x="467" y="2681"/>
                    </a:lnTo>
                    <a:lnTo>
                      <a:pt x="513" y="2810"/>
                    </a:lnTo>
                    <a:lnTo>
                      <a:pt x="554" y="2919"/>
                    </a:lnTo>
                    <a:lnTo>
                      <a:pt x="582" y="2994"/>
                    </a:lnTo>
                    <a:lnTo>
                      <a:pt x="593" y="3022"/>
                    </a:lnTo>
                    <a:close/>
                  </a:path>
                </a:pathLst>
              </a:custGeom>
              <a:solidFill>
                <a:srgbClr val="705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5200560" y="2711520"/>
                <a:ext cx="169920" cy="954000"/>
              </a:xfrm>
              <a:custGeom>
                <a:avLst/>
                <a:gdLst/>
                <a:ahLst/>
                <a:rect l="l" t="t" r="r" b="b"/>
                <a:pathLst>
                  <a:path w="539" h="3004">
                    <a:moveTo>
                      <a:pt x="539" y="3004"/>
                    </a:moveTo>
                    <a:lnTo>
                      <a:pt x="539" y="2999"/>
                    </a:lnTo>
                    <a:lnTo>
                      <a:pt x="538" y="2987"/>
                    </a:lnTo>
                    <a:lnTo>
                      <a:pt x="534" y="2967"/>
                    </a:lnTo>
                    <a:lnTo>
                      <a:pt x="530" y="2938"/>
                    </a:lnTo>
                    <a:lnTo>
                      <a:pt x="522" y="2902"/>
                    </a:lnTo>
                    <a:lnTo>
                      <a:pt x="511" y="2858"/>
                    </a:lnTo>
                    <a:lnTo>
                      <a:pt x="502" y="2833"/>
                    </a:lnTo>
                    <a:lnTo>
                      <a:pt x="493" y="2806"/>
                    </a:lnTo>
                    <a:lnTo>
                      <a:pt x="484" y="2777"/>
                    </a:lnTo>
                    <a:lnTo>
                      <a:pt x="472" y="2747"/>
                    </a:lnTo>
                    <a:lnTo>
                      <a:pt x="444" y="2672"/>
                    </a:lnTo>
                    <a:lnTo>
                      <a:pt x="409" y="2577"/>
                    </a:lnTo>
                    <a:lnTo>
                      <a:pt x="372" y="2469"/>
                    </a:lnTo>
                    <a:lnTo>
                      <a:pt x="333" y="2354"/>
                    </a:lnTo>
                    <a:lnTo>
                      <a:pt x="296" y="2242"/>
                    </a:lnTo>
                    <a:lnTo>
                      <a:pt x="260" y="2137"/>
                    </a:lnTo>
                    <a:lnTo>
                      <a:pt x="229" y="2048"/>
                    </a:lnTo>
                    <a:lnTo>
                      <a:pt x="205" y="1980"/>
                    </a:lnTo>
                    <a:lnTo>
                      <a:pt x="193" y="1951"/>
                    </a:lnTo>
                    <a:lnTo>
                      <a:pt x="181" y="1915"/>
                    </a:lnTo>
                    <a:lnTo>
                      <a:pt x="169" y="1875"/>
                    </a:lnTo>
                    <a:lnTo>
                      <a:pt x="156" y="1832"/>
                    </a:lnTo>
                    <a:lnTo>
                      <a:pt x="143" y="1785"/>
                    </a:lnTo>
                    <a:lnTo>
                      <a:pt x="129" y="1737"/>
                    </a:lnTo>
                    <a:lnTo>
                      <a:pt x="116" y="1686"/>
                    </a:lnTo>
                    <a:lnTo>
                      <a:pt x="103" y="1635"/>
                    </a:lnTo>
                    <a:lnTo>
                      <a:pt x="91" y="1582"/>
                    </a:lnTo>
                    <a:lnTo>
                      <a:pt x="80" y="1530"/>
                    </a:lnTo>
                    <a:lnTo>
                      <a:pt x="70" y="1479"/>
                    </a:lnTo>
                    <a:lnTo>
                      <a:pt x="60" y="1429"/>
                    </a:lnTo>
                    <a:lnTo>
                      <a:pt x="51" y="1381"/>
                    </a:lnTo>
                    <a:lnTo>
                      <a:pt x="45" y="1336"/>
                    </a:lnTo>
                    <a:lnTo>
                      <a:pt x="40" y="1294"/>
                    </a:lnTo>
                    <a:lnTo>
                      <a:pt x="36" y="1256"/>
                    </a:lnTo>
                    <a:lnTo>
                      <a:pt x="35" y="1222"/>
                    </a:lnTo>
                    <a:lnTo>
                      <a:pt x="34" y="1190"/>
                    </a:lnTo>
                    <a:lnTo>
                      <a:pt x="34" y="1161"/>
                    </a:lnTo>
                    <a:lnTo>
                      <a:pt x="34" y="1133"/>
                    </a:lnTo>
                    <a:lnTo>
                      <a:pt x="36" y="1085"/>
                    </a:lnTo>
                    <a:lnTo>
                      <a:pt x="39" y="1047"/>
                    </a:lnTo>
                    <a:lnTo>
                      <a:pt x="42" y="1017"/>
                    </a:lnTo>
                    <a:lnTo>
                      <a:pt x="45" y="996"/>
                    </a:lnTo>
                    <a:lnTo>
                      <a:pt x="48" y="983"/>
                    </a:lnTo>
                    <a:lnTo>
                      <a:pt x="48" y="979"/>
                    </a:lnTo>
                    <a:lnTo>
                      <a:pt x="48" y="974"/>
                    </a:lnTo>
                    <a:lnTo>
                      <a:pt x="45" y="959"/>
                    </a:lnTo>
                    <a:lnTo>
                      <a:pt x="42" y="935"/>
                    </a:lnTo>
                    <a:lnTo>
                      <a:pt x="37" y="902"/>
                    </a:lnTo>
                    <a:lnTo>
                      <a:pt x="33" y="862"/>
                    </a:lnTo>
                    <a:lnTo>
                      <a:pt x="30" y="814"/>
                    </a:lnTo>
                    <a:lnTo>
                      <a:pt x="28" y="760"/>
                    </a:lnTo>
                    <a:lnTo>
                      <a:pt x="27" y="700"/>
                    </a:lnTo>
                    <a:lnTo>
                      <a:pt x="27" y="642"/>
                    </a:lnTo>
                    <a:lnTo>
                      <a:pt x="27" y="591"/>
                    </a:lnTo>
                    <a:lnTo>
                      <a:pt x="26" y="545"/>
                    </a:lnTo>
                    <a:lnTo>
                      <a:pt x="24" y="506"/>
                    </a:lnTo>
                    <a:lnTo>
                      <a:pt x="23" y="470"/>
                    </a:lnTo>
                    <a:lnTo>
                      <a:pt x="21" y="437"/>
                    </a:lnTo>
                    <a:lnTo>
                      <a:pt x="18" y="407"/>
                    </a:lnTo>
                    <a:lnTo>
                      <a:pt x="14" y="378"/>
                    </a:lnTo>
                    <a:lnTo>
                      <a:pt x="10" y="346"/>
                    </a:lnTo>
                    <a:lnTo>
                      <a:pt x="7" y="308"/>
                    </a:lnTo>
                    <a:lnTo>
                      <a:pt x="3" y="265"/>
                    </a:lnTo>
                    <a:lnTo>
                      <a:pt x="1" y="218"/>
                    </a:lnTo>
                    <a:lnTo>
                      <a:pt x="0" y="167"/>
                    </a:lnTo>
                    <a:lnTo>
                      <a:pt x="0" y="113"/>
                    </a:lnTo>
                    <a:lnTo>
                      <a:pt x="1" y="58"/>
                    </a:lnTo>
                    <a:lnTo>
                      <a:pt x="4" y="0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5292720" y="2776680"/>
                <a:ext cx="163440" cy="766800"/>
              </a:xfrm>
              <a:custGeom>
                <a:avLst/>
                <a:gdLst/>
                <a:ahLst/>
                <a:rect l="l" t="t" r="r" b="b"/>
                <a:pathLst>
                  <a:path w="512" h="2416">
                    <a:moveTo>
                      <a:pt x="12" y="937"/>
                    </a:moveTo>
                    <a:lnTo>
                      <a:pt x="9" y="926"/>
                    </a:lnTo>
                    <a:lnTo>
                      <a:pt x="6" y="914"/>
                    </a:lnTo>
                    <a:lnTo>
                      <a:pt x="4" y="902"/>
                    </a:lnTo>
                    <a:lnTo>
                      <a:pt x="2" y="890"/>
                    </a:lnTo>
                    <a:lnTo>
                      <a:pt x="2" y="879"/>
                    </a:lnTo>
                    <a:lnTo>
                      <a:pt x="0" y="869"/>
                    </a:lnTo>
                    <a:lnTo>
                      <a:pt x="0" y="858"/>
                    </a:lnTo>
                    <a:lnTo>
                      <a:pt x="2" y="847"/>
                    </a:lnTo>
                    <a:lnTo>
                      <a:pt x="4" y="825"/>
                    </a:lnTo>
                    <a:lnTo>
                      <a:pt x="9" y="806"/>
                    </a:lnTo>
                    <a:lnTo>
                      <a:pt x="14" y="788"/>
                    </a:lnTo>
                    <a:lnTo>
                      <a:pt x="21" y="770"/>
                    </a:lnTo>
                    <a:lnTo>
                      <a:pt x="29" y="754"/>
                    </a:lnTo>
                    <a:lnTo>
                      <a:pt x="37" y="740"/>
                    </a:lnTo>
                    <a:lnTo>
                      <a:pt x="46" y="727"/>
                    </a:lnTo>
                    <a:lnTo>
                      <a:pt x="53" y="717"/>
                    </a:lnTo>
                    <a:lnTo>
                      <a:pt x="61" y="709"/>
                    </a:lnTo>
                    <a:lnTo>
                      <a:pt x="69" y="702"/>
                    </a:lnTo>
                    <a:lnTo>
                      <a:pt x="75" y="699"/>
                    </a:lnTo>
                    <a:lnTo>
                      <a:pt x="79" y="697"/>
                    </a:lnTo>
                    <a:lnTo>
                      <a:pt x="85" y="697"/>
                    </a:lnTo>
                    <a:lnTo>
                      <a:pt x="90" y="694"/>
                    </a:lnTo>
                    <a:lnTo>
                      <a:pt x="97" y="689"/>
                    </a:lnTo>
                    <a:lnTo>
                      <a:pt x="104" y="683"/>
                    </a:lnTo>
                    <a:lnTo>
                      <a:pt x="112" y="674"/>
                    </a:lnTo>
                    <a:lnTo>
                      <a:pt x="120" y="664"/>
                    </a:lnTo>
                    <a:lnTo>
                      <a:pt x="129" y="653"/>
                    </a:lnTo>
                    <a:lnTo>
                      <a:pt x="139" y="640"/>
                    </a:lnTo>
                    <a:lnTo>
                      <a:pt x="148" y="625"/>
                    </a:lnTo>
                    <a:lnTo>
                      <a:pt x="158" y="607"/>
                    </a:lnTo>
                    <a:lnTo>
                      <a:pt x="167" y="589"/>
                    </a:lnTo>
                    <a:lnTo>
                      <a:pt x="177" y="568"/>
                    </a:lnTo>
                    <a:lnTo>
                      <a:pt x="186" y="546"/>
                    </a:lnTo>
                    <a:lnTo>
                      <a:pt x="195" y="522"/>
                    </a:lnTo>
                    <a:lnTo>
                      <a:pt x="202" y="497"/>
                    </a:lnTo>
                    <a:lnTo>
                      <a:pt x="211" y="470"/>
                    </a:lnTo>
                    <a:lnTo>
                      <a:pt x="218" y="440"/>
                    </a:lnTo>
                    <a:lnTo>
                      <a:pt x="223" y="406"/>
                    </a:lnTo>
                    <a:lnTo>
                      <a:pt x="227" y="371"/>
                    </a:lnTo>
                    <a:lnTo>
                      <a:pt x="231" y="333"/>
                    </a:lnTo>
                    <a:lnTo>
                      <a:pt x="234" y="294"/>
                    </a:lnTo>
                    <a:lnTo>
                      <a:pt x="236" y="255"/>
                    </a:lnTo>
                    <a:lnTo>
                      <a:pt x="238" y="216"/>
                    </a:lnTo>
                    <a:lnTo>
                      <a:pt x="239" y="178"/>
                    </a:lnTo>
                    <a:lnTo>
                      <a:pt x="240" y="109"/>
                    </a:lnTo>
                    <a:lnTo>
                      <a:pt x="241" y="52"/>
                    </a:lnTo>
                    <a:lnTo>
                      <a:pt x="240" y="14"/>
                    </a:lnTo>
                    <a:lnTo>
                      <a:pt x="240" y="0"/>
                    </a:lnTo>
                    <a:lnTo>
                      <a:pt x="278" y="23"/>
                    </a:lnTo>
                    <a:lnTo>
                      <a:pt x="310" y="43"/>
                    </a:lnTo>
                    <a:lnTo>
                      <a:pt x="337" y="62"/>
                    </a:lnTo>
                    <a:lnTo>
                      <a:pt x="360" y="76"/>
                    </a:lnTo>
                    <a:lnTo>
                      <a:pt x="379" y="88"/>
                    </a:lnTo>
                    <a:lnTo>
                      <a:pt x="390" y="97"/>
                    </a:lnTo>
                    <a:lnTo>
                      <a:pt x="398" y="103"/>
                    </a:lnTo>
                    <a:lnTo>
                      <a:pt x="401" y="104"/>
                    </a:lnTo>
                    <a:lnTo>
                      <a:pt x="399" y="119"/>
                    </a:lnTo>
                    <a:lnTo>
                      <a:pt x="395" y="158"/>
                    </a:lnTo>
                    <a:lnTo>
                      <a:pt x="388" y="215"/>
                    </a:lnTo>
                    <a:lnTo>
                      <a:pt x="380" y="283"/>
                    </a:lnTo>
                    <a:lnTo>
                      <a:pt x="370" y="357"/>
                    </a:lnTo>
                    <a:lnTo>
                      <a:pt x="358" y="428"/>
                    </a:lnTo>
                    <a:lnTo>
                      <a:pt x="353" y="460"/>
                    </a:lnTo>
                    <a:lnTo>
                      <a:pt x="346" y="490"/>
                    </a:lnTo>
                    <a:lnTo>
                      <a:pt x="341" y="515"/>
                    </a:lnTo>
                    <a:lnTo>
                      <a:pt x="334" y="537"/>
                    </a:lnTo>
                    <a:lnTo>
                      <a:pt x="321" y="573"/>
                    </a:lnTo>
                    <a:lnTo>
                      <a:pt x="310" y="606"/>
                    </a:lnTo>
                    <a:lnTo>
                      <a:pt x="300" y="636"/>
                    </a:lnTo>
                    <a:lnTo>
                      <a:pt x="289" y="664"/>
                    </a:lnTo>
                    <a:lnTo>
                      <a:pt x="278" y="689"/>
                    </a:lnTo>
                    <a:lnTo>
                      <a:pt x="268" y="712"/>
                    </a:lnTo>
                    <a:lnTo>
                      <a:pt x="256" y="731"/>
                    </a:lnTo>
                    <a:lnTo>
                      <a:pt x="246" y="750"/>
                    </a:lnTo>
                    <a:lnTo>
                      <a:pt x="239" y="758"/>
                    </a:lnTo>
                    <a:lnTo>
                      <a:pt x="235" y="769"/>
                    </a:lnTo>
                    <a:lnTo>
                      <a:pt x="231" y="781"/>
                    </a:lnTo>
                    <a:lnTo>
                      <a:pt x="227" y="795"/>
                    </a:lnTo>
                    <a:lnTo>
                      <a:pt x="225" y="809"/>
                    </a:lnTo>
                    <a:lnTo>
                      <a:pt x="224" y="823"/>
                    </a:lnTo>
                    <a:lnTo>
                      <a:pt x="224" y="838"/>
                    </a:lnTo>
                    <a:lnTo>
                      <a:pt x="224" y="855"/>
                    </a:lnTo>
                    <a:lnTo>
                      <a:pt x="225" y="870"/>
                    </a:lnTo>
                    <a:lnTo>
                      <a:pt x="226" y="885"/>
                    </a:lnTo>
                    <a:lnTo>
                      <a:pt x="228" y="900"/>
                    </a:lnTo>
                    <a:lnTo>
                      <a:pt x="231" y="914"/>
                    </a:lnTo>
                    <a:lnTo>
                      <a:pt x="234" y="927"/>
                    </a:lnTo>
                    <a:lnTo>
                      <a:pt x="237" y="940"/>
                    </a:lnTo>
                    <a:lnTo>
                      <a:pt x="241" y="951"/>
                    </a:lnTo>
                    <a:lnTo>
                      <a:pt x="246" y="959"/>
                    </a:lnTo>
                    <a:lnTo>
                      <a:pt x="250" y="971"/>
                    </a:lnTo>
                    <a:lnTo>
                      <a:pt x="256" y="991"/>
                    </a:lnTo>
                    <a:lnTo>
                      <a:pt x="265" y="1017"/>
                    </a:lnTo>
                    <a:lnTo>
                      <a:pt x="274" y="1047"/>
                    </a:lnTo>
                    <a:lnTo>
                      <a:pt x="294" y="1122"/>
                    </a:lnTo>
                    <a:lnTo>
                      <a:pt x="316" y="1210"/>
                    </a:lnTo>
                    <a:lnTo>
                      <a:pt x="327" y="1256"/>
                    </a:lnTo>
                    <a:lnTo>
                      <a:pt x="337" y="1304"/>
                    </a:lnTo>
                    <a:lnTo>
                      <a:pt x="347" y="1351"/>
                    </a:lnTo>
                    <a:lnTo>
                      <a:pt x="356" y="1398"/>
                    </a:lnTo>
                    <a:lnTo>
                      <a:pt x="363" y="1442"/>
                    </a:lnTo>
                    <a:lnTo>
                      <a:pt x="370" y="1485"/>
                    </a:lnTo>
                    <a:lnTo>
                      <a:pt x="375" y="1524"/>
                    </a:lnTo>
                    <a:lnTo>
                      <a:pt x="379" y="1560"/>
                    </a:lnTo>
                    <a:lnTo>
                      <a:pt x="382" y="1636"/>
                    </a:lnTo>
                    <a:lnTo>
                      <a:pt x="386" y="1728"/>
                    </a:lnTo>
                    <a:lnTo>
                      <a:pt x="389" y="1778"/>
                    </a:lnTo>
                    <a:lnTo>
                      <a:pt x="393" y="1830"/>
                    </a:lnTo>
                    <a:lnTo>
                      <a:pt x="397" y="1883"/>
                    </a:lnTo>
                    <a:lnTo>
                      <a:pt x="403" y="1936"/>
                    </a:lnTo>
                    <a:lnTo>
                      <a:pt x="410" y="1989"/>
                    </a:lnTo>
                    <a:lnTo>
                      <a:pt x="419" y="2040"/>
                    </a:lnTo>
                    <a:lnTo>
                      <a:pt x="423" y="2066"/>
                    </a:lnTo>
                    <a:lnTo>
                      <a:pt x="428" y="2091"/>
                    </a:lnTo>
                    <a:lnTo>
                      <a:pt x="435" y="2115"/>
                    </a:lnTo>
                    <a:lnTo>
                      <a:pt x="441" y="2139"/>
                    </a:lnTo>
                    <a:lnTo>
                      <a:pt x="448" y="2161"/>
                    </a:lnTo>
                    <a:lnTo>
                      <a:pt x="455" y="2184"/>
                    </a:lnTo>
                    <a:lnTo>
                      <a:pt x="463" y="2205"/>
                    </a:lnTo>
                    <a:lnTo>
                      <a:pt x="471" y="2225"/>
                    </a:lnTo>
                    <a:lnTo>
                      <a:pt x="481" y="2245"/>
                    </a:lnTo>
                    <a:lnTo>
                      <a:pt x="491" y="2262"/>
                    </a:lnTo>
                    <a:lnTo>
                      <a:pt x="501" y="2279"/>
                    </a:lnTo>
                    <a:lnTo>
                      <a:pt x="512" y="2294"/>
                    </a:lnTo>
                    <a:lnTo>
                      <a:pt x="509" y="2302"/>
                    </a:lnTo>
                    <a:lnTo>
                      <a:pt x="502" y="2322"/>
                    </a:lnTo>
                    <a:lnTo>
                      <a:pt x="496" y="2336"/>
                    </a:lnTo>
                    <a:lnTo>
                      <a:pt x="491" y="2350"/>
                    </a:lnTo>
                    <a:lnTo>
                      <a:pt x="483" y="2364"/>
                    </a:lnTo>
                    <a:lnTo>
                      <a:pt x="476" y="2378"/>
                    </a:lnTo>
                    <a:lnTo>
                      <a:pt x="468" y="2391"/>
                    </a:lnTo>
                    <a:lnTo>
                      <a:pt x="460" y="2402"/>
                    </a:lnTo>
                    <a:lnTo>
                      <a:pt x="455" y="2407"/>
                    </a:lnTo>
                    <a:lnTo>
                      <a:pt x="450" y="2410"/>
                    </a:lnTo>
                    <a:lnTo>
                      <a:pt x="446" y="2413"/>
                    </a:lnTo>
                    <a:lnTo>
                      <a:pt x="441" y="2415"/>
                    </a:lnTo>
                    <a:lnTo>
                      <a:pt x="437" y="2416"/>
                    </a:lnTo>
                    <a:lnTo>
                      <a:pt x="433" y="2416"/>
                    </a:lnTo>
                    <a:lnTo>
                      <a:pt x="428" y="2415"/>
                    </a:lnTo>
                    <a:lnTo>
                      <a:pt x="423" y="2413"/>
                    </a:lnTo>
                    <a:lnTo>
                      <a:pt x="419" y="2409"/>
                    </a:lnTo>
                    <a:lnTo>
                      <a:pt x="414" y="2403"/>
                    </a:lnTo>
                    <a:lnTo>
                      <a:pt x="410" y="2397"/>
                    </a:lnTo>
                    <a:lnTo>
                      <a:pt x="406" y="2388"/>
                    </a:lnTo>
                    <a:lnTo>
                      <a:pt x="402" y="2377"/>
                    </a:lnTo>
                    <a:lnTo>
                      <a:pt x="398" y="2364"/>
                    </a:lnTo>
                    <a:lnTo>
                      <a:pt x="394" y="2349"/>
                    </a:lnTo>
                    <a:lnTo>
                      <a:pt x="389" y="2333"/>
                    </a:lnTo>
                    <a:lnTo>
                      <a:pt x="382" y="2294"/>
                    </a:lnTo>
                    <a:lnTo>
                      <a:pt x="374" y="2249"/>
                    </a:lnTo>
                    <a:lnTo>
                      <a:pt x="367" y="2198"/>
                    </a:lnTo>
                    <a:lnTo>
                      <a:pt x="359" y="2143"/>
                    </a:lnTo>
                    <a:lnTo>
                      <a:pt x="352" y="2085"/>
                    </a:lnTo>
                    <a:lnTo>
                      <a:pt x="345" y="2023"/>
                    </a:lnTo>
                    <a:lnTo>
                      <a:pt x="333" y="1898"/>
                    </a:lnTo>
                    <a:lnTo>
                      <a:pt x="322" y="1774"/>
                    </a:lnTo>
                    <a:lnTo>
                      <a:pt x="314" y="1658"/>
                    </a:lnTo>
                    <a:lnTo>
                      <a:pt x="307" y="1560"/>
                    </a:lnTo>
                    <a:lnTo>
                      <a:pt x="305" y="1538"/>
                    </a:lnTo>
                    <a:lnTo>
                      <a:pt x="302" y="1518"/>
                    </a:lnTo>
                    <a:lnTo>
                      <a:pt x="298" y="1497"/>
                    </a:lnTo>
                    <a:lnTo>
                      <a:pt x="293" y="1478"/>
                    </a:lnTo>
                    <a:lnTo>
                      <a:pt x="288" y="1458"/>
                    </a:lnTo>
                    <a:lnTo>
                      <a:pt x="281" y="1439"/>
                    </a:lnTo>
                    <a:lnTo>
                      <a:pt x="275" y="1420"/>
                    </a:lnTo>
                    <a:lnTo>
                      <a:pt x="266" y="1403"/>
                    </a:lnTo>
                    <a:lnTo>
                      <a:pt x="250" y="1368"/>
                    </a:lnTo>
                    <a:lnTo>
                      <a:pt x="231" y="1333"/>
                    </a:lnTo>
                    <a:lnTo>
                      <a:pt x="210" y="1300"/>
                    </a:lnTo>
                    <a:lnTo>
                      <a:pt x="187" y="1265"/>
                    </a:lnTo>
                    <a:lnTo>
                      <a:pt x="165" y="1230"/>
                    </a:lnTo>
                    <a:lnTo>
                      <a:pt x="142" y="1195"/>
                    </a:lnTo>
                    <a:lnTo>
                      <a:pt x="118" y="1158"/>
                    </a:lnTo>
                    <a:lnTo>
                      <a:pt x="96" y="1119"/>
                    </a:lnTo>
                    <a:lnTo>
                      <a:pt x="84" y="1099"/>
                    </a:lnTo>
                    <a:lnTo>
                      <a:pt x="73" y="1078"/>
                    </a:lnTo>
                    <a:lnTo>
                      <a:pt x="62" y="1057"/>
                    </a:lnTo>
                    <a:lnTo>
                      <a:pt x="51" y="1035"/>
                    </a:lnTo>
                    <a:lnTo>
                      <a:pt x="40" y="1011"/>
                    </a:lnTo>
                    <a:lnTo>
                      <a:pt x="31" y="987"/>
                    </a:lnTo>
                    <a:lnTo>
                      <a:pt x="22" y="963"/>
                    </a:lnTo>
                    <a:lnTo>
                      <a:pt x="12" y="937"/>
                    </a:lnTo>
                    <a:close/>
                  </a:path>
                </a:pathLst>
              </a:custGeom>
              <a:solidFill>
                <a:srgbClr val="9470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5302080" y="2782800"/>
                <a:ext cx="154080" cy="755640"/>
              </a:xfrm>
              <a:custGeom>
                <a:avLst/>
                <a:gdLst/>
                <a:ahLst/>
                <a:rect l="l" t="t" r="r" b="b"/>
                <a:pathLst>
                  <a:path w="485" h="2383">
                    <a:moveTo>
                      <a:pt x="13" y="909"/>
                    </a:moveTo>
                    <a:lnTo>
                      <a:pt x="9" y="897"/>
                    </a:lnTo>
                    <a:lnTo>
                      <a:pt x="6" y="886"/>
                    </a:lnTo>
                    <a:lnTo>
                      <a:pt x="4" y="874"/>
                    </a:lnTo>
                    <a:lnTo>
                      <a:pt x="2" y="864"/>
                    </a:lnTo>
                    <a:lnTo>
                      <a:pt x="0" y="842"/>
                    </a:lnTo>
                    <a:lnTo>
                      <a:pt x="0" y="821"/>
                    </a:lnTo>
                    <a:lnTo>
                      <a:pt x="3" y="802"/>
                    </a:lnTo>
                    <a:lnTo>
                      <a:pt x="7" y="784"/>
                    </a:lnTo>
                    <a:lnTo>
                      <a:pt x="11" y="766"/>
                    </a:lnTo>
                    <a:lnTo>
                      <a:pt x="18" y="751"/>
                    </a:lnTo>
                    <a:lnTo>
                      <a:pt x="24" y="736"/>
                    </a:lnTo>
                    <a:lnTo>
                      <a:pt x="32" y="724"/>
                    </a:lnTo>
                    <a:lnTo>
                      <a:pt x="39" y="713"/>
                    </a:lnTo>
                    <a:lnTo>
                      <a:pt x="48" y="704"/>
                    </a:lnTo>
                    <a:lnTo>
                      <a:pt x="54" y="696"/>
                    </a:lnTo>
                    <a:lnTo>
                      <a:pt x="62" y="691"/>
                    </a:lnTo>
                    <a:lnTo>
                      <a:pt x="67" y="688"/>
                    </a:lnTo>
                    <a:lnTo>
                      <a:pt x="73" y="686"/>
                    </a:lnTo>
                    <a:lnTo>
                      <a:pt x="77" y="686"/>
                    </a:lnTo>
                    <a:lnTo>
                      <a:pt x="83" y="683"/>
                    </a:lnTo>
                    <a:lnTo>
                      <a:pt x="89" y="679"/>
                    </a:lnTo>
                    <a:lnTo>
                      <a:pt x="97" y="672"/>
                    </a:lnTo>
                    <a:lnTo>
                      <a:pt x="104" y="665"/>
                    </a:lnTo>
                    <a:lnTo>
                      <a:pt x="113" y="655"/>
                    </a:lnTo>
                    <a:lnTo>
                      <a:pt x="123" y="644"/>
                    </a:lnTo>
                    <a:lnTo>
                      <a:pt x="131" y="631"/>
                    </a:lnTo>
                    <a:lnTo>
                      <a:pt x="141" y="616"/>
                    </a:lnTo>
                    <a:lnTo>
                      <a:pt x="151" y="599"/>
                    </a:lnTo>
                    <a:lnTo>
                      <a:pt x="160" y="581"/>
                    </a:lnTo>
                    <a:lnTo>
                      <a:pt x="169" y="561"/>
                    </a:lnTo>
                    <a:lnTo>
                      <a:pt x="179" y="538"/>
                    </a:lnTo>
                    <a:lnTo>
                      <a:pt x="187" y="515"/>
                    </a:lnTo>
                    <a:lnTo>
                      <a:pt x="196" y="489"/>
                    </a:lnTo>
                    <a:lnTo>
                      <a:pt x="204" y="462"/>
                    </a:lnTo>
                    <a:lnTo>
                      <a:pt x="210" y="432"/>
                    </a:lnTo>
                    <a:lnTo>
                      <a:pt x="217" y="399"/>
                    </a:lnTo>
                    <a:lnTo>
                      <a:pt x="221" y="364"/>
                    </a:lnTo>
                    <a:lnTo>
                      <a:pt x="225" y="326"/>
                    </a:lnTo>
                    <a:lnTo>
                      <a:pt x="229" y="288"/>
                    </a:lnTo>
                    <a:lnTo>
                      <a:pt x="232" y="249"/>
                    </a:lnTo>
                    <a:lnTo>
                      <a:pt x="234" y="211"/>
                    </a:lnTo>
                    <a:lnTo>
                      <a:pt x="236" y="175"/>
                    </a:lnTo>
                    <a:lnTo>
                      <a:pt x="237" y="106"/>
                    </a:lnTo>
                    <a:lnTo>
                      <a:pt x="238" y="50"/>
                    </a:lnTo>
                    <a:lnTo>
                      <a:pt x="238" y="14"/>
                    </a:lnTo>
                    <a:lnTo>
                      <a:pt x="238" y="0"/>
                    </a:lnTo>
                    <a:lnTo>
                      <a:pt x="275" y="22"/>
                    </a:lnTo>
                    <a:lnTo>
                      <a:pt x="304" y="41"/>
                    </a:lnTo>
                    <a:lnTo>
                      <a:pt x="328" y="56"/>
                    </a:lnTo>
                    <a:lnTo>
                      <a:pt x="346" y="67"/>
                    </a:lnTo>
                    <a:lnTo>
                      <a:pt x="359" y="76"/>
                    </a:lnTo>
                    <a:lnTo>
                      <a:pt x="368" y="82"/>
                    </a:lnTo>
                    <a:lnTo>
                      <a:pt x="372" y="85"/>
                    </a:lnTo>
                    <a:lnTo>
                      <a:pt x="374" y="86"/>
                    </a:lnTo>
                    <a:lnTo>
                      <a:pt x="372" y="101"/>
                    </a:lnTo>
                    <a:lnTo>
                      <a:pt x="368" y="140"/>
                    </a:lnTo>
                    <a:lnTo>
                      <a:pt x="361" y="197"/>
                    </a:lnTo>
                    <a:lnTo>
                      <a:pt x="353" y="265"/>
                    </a:lnTo>
                    <a:lnTo>
                      <a:pt x="343" y="339"/>
                    </a:lnTo>
                    <a:lnTo>
                      <a:pt x="331" y="410"/>
                    </a:lnTo>
                    <a:lnTo>
                      <a:pt x="326" y="442"/>
                    </a:lnTo>
                    <a:lnTo>
                      <a:pt x="319" y="472"/>
                    </a:lnTo>
                    <a:lnTo>
                      <a:pt x="314" y="497"/>
                    </a:lnTo>
                    <a:lnTo>
                      <a:pt x="307" y="519"/>
                    </a:lnTo>
                    <a:lnTo>
                      <a:pt x="294" y="555"/>
                    </a:lnTo>
                    <a:lnTo>
                      <a:pt x="283" y="588"/>
                    </a:lnTo>
                    <a:lnTo>
                      <a:pt x="273" y="618"/>
                    </a:lnTo>
                    <a:lnTo>
                      <a:pt x="262" y="646"/>
                    </a:lnTo>
                    <a:lnTo>
                      <a:pt x="251" y="671"/>
                    </a:lnTo>
                    <a:lnTo>
                      <a:pt x="241" y="694"/>
                    </a:lnTo>
                    <a:lnTo>
                      <a:pt x="229" y="713"/>
                    </a:lnTo>
                    <a:lnTo>
                      <a:pt x="219" y="732"/>
                    </a:lnTo>
                    <a:lnTo>
                      <a:pt x="212" y="740"/>
                    </a:lnTo>
                    <a:lnTo>
                      <a:pt x="208" y="751"/>
                    </a:lnTo>
                    <a:lnTo>
                      <a:pt x="204" y="763"/>
                    </a:lnTo>
                    <a:lnTo>
                      <a:pt x="200" y="777"/>
                    </a:lnTo>
                    <a:lnTo>
                      <a:pt x="198" y="791"/>
                    </a:lnTo>
                    <a:lnTo>
                      <a:pt x="197" y="805"/>
                    </a:lnTo>
                    <a:lnTo>
                      <a:pt x="197" y="820"/>
                    </a:lnTo>
                    <a:lnTo>
                      <a:pt x="197" y="837"/>
                    </a:lnTo>
                    <a:lnTo>
                      <a:pt x="198" y="852"/>
                    </a:lnTo>
                    <a:lnTo>
                      <a:pt x="199" y="867"/>
                    </a:lnTo>
                    <a:lnTo>
                      <a:pt x="201" y="882"/>
                    </a:lnTo>
                    <a:lnTo>
                      <a:pt x="204" y="896"/>
                    </a:lnTo>
                    <a:lnTo>
                      <a:pt x="207" y="909"/>
                    </a:lnTo>
                    <a:lnTo>
                      <a:pt x="210" y="922"/>
                    </a:lnTo>
                    <a:lnTo>
                      <a:pt x="214" y="933"/>
                    </a:lnTo>
                    <a:lnTo>
                      <a:pt x="219" y="941"/>
                    </a:lnTo>
                    <a:lnTo>
                      <a:pt x="223" y="953"/>
                    </a:lnTo>
                    <a:lnTo>
                      <a:pt x="229" y="973"/>
                    </a:lnTo>
                    <a:lnTo>
                      <a:pt x="238" y="999"/>
                    </a:lnTo>
                    <a:lnTo>
                      <a:pt x="247" y="1029"/>
                    </a:lnTo>
                    <a:lnTo>
                      <a:pt x="267" y="1104"/>
                    </a:lnTo>
                    <a:lnTo>
                      <a:pt x="289" y="1192"/>
                    </a:lnTo>
                    <a:lnTo>
                      <a:pt x="300" y="1238"/>
                    </a:lnTo>
                    <a:lnTo>
                      <a:pt x="310" y="1286"/>
                    </a:lnTo>
                    <a:lnTo>
                      <a:pt x="320" y="1333"/>
                    </a:lnTo>
                    <a:lnTo>
                      <a:pt x="329" y="1380"/>
                    </a:lnTo>
                    <a:lnTo>
                      <a:pt x="336" y="1424"/>
                    </a:lnTo>
                    <a:lnTo>
                      <a:pt x="343" y="1467"/>
                    </a:lnTo>
                    <a:lnTo>
                      <a:pt x="348" y="1506"/>
                    </a:lnTo>
                    <a:lnTo>
                      <a:pt x="352" y="1542"/>
                    </a:lnTo>
                    <a:lnTo>
                      <a:pt x="355" y="1618"/>
                    </a:lnTo>
                    <a:lnTo>
                      <a:pt x="359" y="1710"/>
                    </a:lnTo>
                    <a:lnTo>
                      <a:pt x="362" y="1760"/>
                    </a:lnTo>
                    <a:lnTo>
                      <a:pt x="366" y="1812"/>
                    </a:lnTo>
                    <a:lnTo>
                      <a:pt x="370" y="1865"/>
                    </a:lnTo>
                    <a:lnTo>
                      <a:pt x="376" y="1918"/>
                    </a:lnTo>
                    <a:lnTo>
                      <a:pt x="383" y="1971"/>
                    </a:lnTo>
                    <a:lnTo>
                      <a:pt x="392" y="2022"/>
                    </a:lnTo>
                    <a:lnTo>
                      <a:pt x="396" y="2048"/>
                    </a:lnTo>
                    <a:lnTo>
                      <a:pt x="401" y="2073"/>
                    </a:lnTo>
                    <a:lnTo>
                      <a:pt x="408" y="2097"/>
                    </a:lnTo>
                    <a:lnTo>
                      <a:pt x="414" y="2121"/>
                    </a:lnTo>
                    <a:lnTo>
                      <a:pt x="421" y="2143"/>
                    </a:lnTo>
                    <a:lnTo>
                      <a:pt x="428" y="2166"/>
                    </a:lnTo>
                    <a:lnTo>
                      <a:pt x="436" y="2187"/>
                    </a:lnTo>
                    <a:lnTo>
                      <a:pt x="444" y="2207"/>
                    </a:lnTo>
                    <a:lnTo>
                      <a:pt x="454" y="2227"/>
                    </a:lnTo>
                    <a:lnTo>
                      <a:pt x="464" y="2244"/>
                    </a:lnTo>
                    <a:lnTo>
                      <a:pt x="474" y="2261"/>
                    </a:lnTo>
                    <a:lnTo>
                      <a:pt x="485" y="2276"/>
                    </a:lnTo>
                    <a:lnTo>
                      <a:pt x="483" y="2284"/>
                    </a:lnTo>
                    <a:lnTo>
                      <a:pt x="477" y="2302"/>
                    </a:lnTo>
                    <a:lnTo>
                      <a:pt x="471" y="2314"/>
                    </a:lnTo>
                    <a:lnTo>
                      <a:pt x="467" y="2327"/>
                    </a:lnTo>
                    <a:lnTo>
                      <a:pt x="461" y="2339"/>
                    </a:lnTo>
                    <a:lnTo>
                      <a:pt x="454" y="2352"/>
                    </a:lnTo>
                    <a:lnTo>
                      <a:pt x="447" y="2363"/>
                    </a:lnTo>
                    <a:lnTo>
                      <a:pt x="439" y="2372"/>
                    </a:lnTo>
                    <a:lnTo>
                      <a:pt x="436" y="2376"/>
                    </a:lnTo>
                    <a:lnTo>
                      <a:pt x="431" y="2379"/>
                    </a:lnTo>
                    <a:lnTo>
                      <a:pt x="428" y="2381"/>
                    </a:lnTo>
                    <a:lnTo>
                      <a:pt x="424" y="2382"/>
                    </a:lnTo>
                    <a:lnTo>
                      <a:pt x="420" y="2383"/>
                    </a:lnTo>
                    <a:lnTo>
                      <a:pt x="415" y="2382"/>
                    </a:lnTo>
                    <a:lnTo>
                      <a:pt x="412" y="2381"/>
                    </a:lnTo>
                    <a:lnTo>
                      <a:pt x="408" y="2378"/>
                    </a:lnTo>
                    <a:lnTo>
                      <a:pt x="403" y="2373"/>
                    </a:lnTo>
                    <a:lnTo>
                      <a:pt x="399" y="2368"/>
                    </a:lnTo>
                    <a:lnTo>
                      <a:pt x="396" y="2362"/>
                    </a:lnTo>
                    <a:lnTo>
                      <a:pt x="392" y="2353"/>
                    </a:lnTo>
                    <a:lnTo>
                      <a:pt x="387" y="2342"/>
                    </a:lnTo>
                    <a:lnTo>
                      <a:pt x="383" y="2329"/>
                    </a:lnTo>
                    <a:lnTo>
                      <a:pt x="379" y="2315"/>
                    </a:lnTo>
                    <a:lnTo>
                      <a:pt x="375" y="2299"/>
                    </a:lnTo>
                    <a:lnTo>
                      <a:pt x="367" y="2260"/>
                    </a:lnTo>
                    <a:lnTo>
                      <a:pt x="359" y="2216"/>
                    </a:lnTo>
                    <a:lnTo>
                      <a:pt x="352" y="2167"/>
                    </a:lnTo>
                    <a:lnTo>
                      <a:pt x="344" y="2113"/>
                    </a:lnTo>
                    <a:lnTo>
                      <a:pt x="337" y="2056"/>
                    </a:lnTo>
                    <a:lnTo>
                      <a:pt x="330" y="1996"/>
                    </a:lnTo>
                    <a:lnTo>
                      <a:pt x="318" y="1873"/>
                    </a:lnTo>
                    <a:lnTo>
                      <a:pt x="307" y="1751"/>
                    </a:lnTo>
                    <a:lnTo>
                      <a:pt x="298" y="1638"/>
                    </a:lnTo>
                    <a:lnTo>
                      <a:pt x="290" y="1540"/>
                    </a:lnTo>
                    <a:lnTo>
                      <a:pt x="288" y="1518"/>
                    </a:lnTo>
                    <a:lnTo>
                      <a:pt x="285" y="1496"/>
                    </a:lnTo>
                    <a:lnTo>
                      <a:pt x="281" y="1476"/>
                    </a:lnTo>
                    <a:lnTo>
                      <a:pt x="277" y="1455"/>
                    </a:lnTo>
                    <a:lnTo>
                      <a:pt x="272" y="1436"/>
                    </a:lnTo>
                    <a:lnTo>
                      <a:pt x="265" y="1417"/>
                    </a:lnTo>
                    <a:lnTo>
                      <a:pt x="259" y="1397"/>
                    </a:lnTo>
                    <a:lnTo>
                      <a:pt x="251" y="1378"/>
                    </a:lnTo>
                    <a:lnTo>
                      <a:pt x="236" y="1340"/>
                    </a:lnTo>
                    <a:lnTo>
                      <a:pt x="218" y="1303"/>
                    </a:lnTo>
                    <a:lnTo>
                      <a:pt x="198" y="1266"/>
                    </a:lnTo>
                    <a:lnTo>
                      <a:pt x="178" y="1230"/>
                    </a:lnTo>
                    <a:lnTo>
                      <a:pt x="134" y="1156"/>
                    </a:lnTo>
                    <a:lnTo>
                      <a:pt x="90" y="1080"/>
                    </a:lnTo>
                    <a:lnTo>
                      <a:pt x="70" y="1040"/>
                    </a:lnTo>
                    <a:lnTo>
                      <a:pt x="49" y="997"/>
                    </a:lnTo>
                    <a:lnTo>
                      <a:pt x="39" y="976"/>
                    </a:lnTo>
                    <a:lnTo>
                      <a:pt x="31" y="954"/>
                    </a:lnTo>
                    <a:lnTo>
                      <a:pt x="21" y="933"/>
                    </a:lnTo>
                    <a:lnTo>
                      <a:pt x="13" y="909"/>
                    </a:lnTo>
                    <a:close/>
                  </a:path>
                </a:pathLst>
              </a:custGeom>
              <a:solidFill>
                <a:srgbClr val="8d6a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5310000" y="2787840"/>
                <a:ext cx="146160" cy="745920"/>
              </a:xfrm>
              <a:custGeom>
                <a:avLst/>
                <a:gdLst/>
                <a:ahLst/>
                <a:rect l="l" t="t" r="r" b="b"/>
                <a:pathLst>
                  <a:path w="459" h="2353">
                    <a:moveTo>
                      <a:pt x="17" y="882"/>
                    </a:moveTo>
                    <a:lnTo>
                      <a:pt x="12" y="870"/>
                    </a:lnTo>
                    <a:lnTo>
                      <a:pt x="9" y="859"/>
                    </a:lnTo>
                    <a:lnTo>
                      <a:pt x="6" y="847"/>
                    </a:lnTo>
                    <a:lnTo>
                      <a:pt x="4" y="837"/>
                    </a:lnTo>
                    <a:lnTo>
                      <a:pt x="0" y="816"/>
                    </a:lnTo>
                    <a:lnTo>
                      <a:pt x="0" y="798"/>
                    </a:lnTo>
                    <a:lnTo>
                      <a:pt x="1" y="779"/>
                    </a:lnTo>
                    <a:lnTo>
                      <a:pt x="4" y="763"/>
                    </a:lnTo>
                    <a:lnTo>
                      <a:pt x="8" y="748"/>
                    </a:lnTo>
                    <a:lnTo>
                      <a:pt x="13" y="734"/>
                    </a:lnTo>
                    <a:lnTo>
                      <a:pt x="20" y="722"/>
                    </a:lnTo>
                    <a:lnTo>
                      <a:pt x="26" y="711"/>
                    </a:lnTo>
                    <a:lnTo>
                      <a:pt x="33" y="703"/>
                    </a:lnTo>
                    <a:lnTo>
                      <a:pt x="40" y="695"/>
                    </a:lnTo>
                    <a:lnTo>
                      <a:pt x="47" y="690"/>
                    </a:lnTo>
                    <a:lnTo>
                      <a:pt x="53" y="685"/>
                    </a:lnTo>
                    <a:lnTo>
                      <a:pt x="59" y="682"/>
                    </a:lnTo>
                    <a:lnTo>
                      <a:pt x="64" y="681"/>
                    </a:lnTo>
                    <a:lnTo>
                      <a:pt x="68" y="681"/>
                    </a:lnTo>
                    <a:lnTo>
                      <a:pt x="74" y="678"/>
                    </a:lnTo>
                    <a:lnTo>
                      <a:pt x="81" y="674"/>
                    </a:lnTo>
                    <a:lnTo>
                      <a:pt x="88" y="668"/>
                    </a:lnTo>
                    <a:lnTo>
                      <a:pt x="97" y="660"/>
                    </a:lnTo>
                    <a:lnTo>
                      <a:pt x="105" y="650"/>
                    </a:lnTo>
                    <a:lnTo>
                      <a:pt x="115" y="639"/>
                    </a:lnTo>
                    <a:lnTo>
                      <a:pt x="124" y="626"/>
                    </a:lnTo>
                    <a:lnTo>
                      <a:pt x="133" y="611"/>
                    </a:lnTo>
                    <a:lnTo>
                      <a:pt x="143" y="594"/>
                    </a:lnTo>
                    <a:lnTo>
                      <a:pt x="153" y="575"/>
                    </a:lnTo>
                    <a:lnTo>
                      <a:pt x="162" y="556"/>
                    </a:lnTo>
                    <a:lnTo>
                      <a:pt x="172" y="533"/>
                    </a:lnTo>
                    <a:lnTo>
                      <a:pt x="181" y="509"/>
                    </a:lnTo>
                    <a:lnTo>
                      <a:pt x="189" y="485"/>
                    </a:lnTo>
                    <a:lnTo>
                      <a:pt x="197" y="457"/>
                    </a:lnTo>
                    <a:lnTo>
                      <a:pt x="205" y="426"/>
                    </a:lnTo>
                    <a:lnTo>
                      <a:pt x="210" y="394"/>
                    </a:lnTo>
                    <a:lnTo>
                      <a:pt x="215" y="358"/>
                    </a:lnTo>
                    <a:lnTo>
                      <a:pt x="220" y="322"/>
                    </a:lnTo>
                    <a:lnTo>
                      <a:pt x="224" y="284"/>
                    </a:lnTo>
                    <a:lnTo>
                      <a:pt x="227" y="246"/>
                    </a:lnTo>
                    <a:lnTo>
                      <a:pt x="229" y="208"/>
                    </a:lnTo>
                    <a:lnTo>
                      <a:pt x="232" y="171"/>
                    </a:lnTo>
                    <a:lnTo>
                      <a:pt x="235" y="104"/>
                    </a:lnTo>
                    <a:lnTo>
                      <a:pt x="236" y="49"/>
                    </a:lnTo>
                    <a:lnTo>
                      <a:pt x="237" y="13"/>
                    </a:lnTo>
                    <a:lnTo>
                      <a:pt x="237" y="0"/>
                    </a:lnTo>
                    <a:lnTo>
                      <a:pt x="272" y="21"/>
                    </a:lnTo>
                    <a:lnTo>
                      <a:pt x="299" y="37"/>
                    </a:lnTo>
                    <a:lnTo>
                      <a:pt x="319" y="50"/>
                    </a:lnTo>
                    <a:lnTo>
                      <a:pt x="332" y="59"/>
                    </a:lnTo>
                    <a:lnTo>
                      <a:pt x="341" y="66"/>
                    </a:lnTo>
                    <a:lnTo>
                      <a:pt x="346" y="69"/>
                    </a:lnTo>
                    <a:lnTo>
                      <a:pt x="347" y="71"/>
                    </a:lnTo>
                    <a:lnTo>
                      <a:pt x="348" y="71"/>
                    </a:lnTo>
                    <a:lnTo>
                      <a:pt x="346" y="86"/>
                    </a:lnTo>
                    <a:lnTo>
                      <a:pt x="342" y="125"/>
                    </a:lnTo>
                    <a:lnTo>
                      <a:pt x="335" y="182"/>
                    </a:lnTo>
                    <a:lnTo>
                      <a:pt x="327" y="250"/>
                    </a:lnTo>
                    <a:lnTo>
                      <a:pt x="317" y="324"/>
                    </a:lnTo>
                    <a:lnTo>
                      <a:pt x="305" y="395"/>
                    </a:lnTo>
                    <a:lnTo>
                      <a:pt x="300" y="427"/>
                    </a:lnTo>
                    <a:lnTo>
                      <a:pt x="293" y="457"/>
                    </a:lnTo>
                    <a:lnTo>
                      <a:pt x="288" y="482"/>
                    </a:lnTo>
                    <a:lnTo>
                      <a:pt x="281" y="504"/>
                    </a:lnTo>
                    <a:lnTo>
                      <a:pt x="268" y="540"/>
                    </a:lnTo>
                    <a:lnTo>
                      <a:pt x="257" y="573"/>
                    </a:lnTo>
                    <a:lnTo>
                      <a:pt x="247" y="603"/>
                    </a:lnTo>
                    <a:lnTo>
                      <a:pt x="236" y="631"/>
                    </a:lnTo>
                    <a:lnTo>
                      <a:pt x="225" y="656"/>
                    </a:lnTo>
                    <a:lnTo>
                      <a:pt x="215" y="679"/>
                    </a:lnTo>
                    <a:lnTo>
                      <a:pt x="203" y="698"/>
                    </a:lnTo>
                    <a:lnTo>
                      <a:pt x="193" y="717"/>
                    </a:lnTo>
                    <a:lnTo>
                      <a:pt x="186" y="725"/>
                    </a:lnTo>
                    <a:lnTo>
                      <a:pt x="182" y="736"/>
                    </a:lnTo>
                    <a:lnTo>
                      <a:pt x="178" y="748"/>
                    </a:lnTo>
                    <a:lnTo>
                      <a:pt x="174" y="762"/>
                    </a:lnTo>
                    <a:lnTo>
                      <a:pt x="172" y="776"/>
                    </a:lnTo>
                    <a:lnTo>
                      <a:pt x="171" y="790"/>
                    </a:lnTo>
                    <a:lnTo>
                      <a:pt x="171" y="805"/>
                    </a:lnTo>
                    <a:lnTo>
                      <a:pt x="171" y="822"/>
                    </a:lnTo>
                    <a:lnTo>
                      <a:pt x="172" y="837"/>
                    </a:lnTo>
                    <a:lnTo>
                      <a:pt x="173" y="852"/>
                    </a:lnTo>
                    <a:lnTo>
                      <a:pt x="175" y="867"/>
                    </a:lnTo>
                    <a:lnTo>
                      <a:pt x="178" y="881"/>
                    </a:lnTo>
                    <a:lnTo>
                      <a:pt x="181" y="894"/>
                    </a:lnTo>
                    <a:lnTo>
                      <a:pt x="184" y="907"/>
                    </a:lnTo>
                    <a:lnTo>
                      <a:pt x="188" y="918"/>
                    </a:lnTo>
                    <a:lnTo>
                      <a:pt x="193" y="926"/>
                    </a:lnTo>
                    <a:lnTo>
                      <a:pt x="197" y="938"/>
                    </a:lnTo>
                    <a:lnTo>
                      <a:pt x="203" y="958"/>
                    </a:lnTo>
                    <a:lnTo>
                      <a:pt x="212" y="984"/>
                    </a:lnTo>
                    <a:lnTo>
                      <a:pt x="221" y="1014"/>
                    </a:lnTo>
                    <a:lnTo>
                      <a:pt x="241" y="1089"/>
                    </a:lnTo>
                    <a:lnTo>
                      <a:pt x="263" y="1177"/>
                    </a:lnTo>
                    <a:lnTo>
                      <a:pt x="274" y="1223"/>
                    </a:lnTo>
                    <a:lnTo>
                      <a:pt x="284" y="1271"/>
                    </a:lnTo>
                    <a:lnTo>
                      <a:pt x="294" y="1318"/>
                    </a:lnTo>
                    <a:lnTo>
                      <a:pt x="303" y="1365"/>
                    </a:lnTo>
                    <a:lnTo>
                      <a:pt x="310" y="1409"/>
                    </a:lnTo>
                    <a:lnTo>
                      <a:pt x="317" y="1452"/>
                    </a:lnTo>
                    <a:lnTo>
                      <a:pt x="322" y="1491"/>
                    </a:lnTo>
                    <a:lnTo>
                      <a:pt x="326" y="1527"/>
                    </a:lnTo>
                    <a:lnTo>
                      <a:pt x="329" y="1603"/>
                    </a:lnTo>
                    <a:lnTo>
                      <a:pt x="333" y="1695"/>
                    </a:lnTo>
                    <a:lnTo>
                      <a:pt x="336" y="1745"/>
                    </a:lnTo>
                    <a:lnTo>
                      <a:pt x="340" y="1797"/>
                    </a:lnTo>
                    <a:lnTo>
                      <a:pt x="344" y="1850"/>
                    </a:lnTo>
                    <a:lnTo>
                      <a:pt x="350" y="1903"/>
                    </a:lnTo>
                    <a:lnTo>
                      <a:pt x="357" y="1956"/>
                    </a:lnTo>
                    <a:lnTo>
                      <a:pt x="366" y="2007"/>
                    </a:lnTo>
                    <a:lnTo>
                      <a:pt x="370" y="2033"/>
                    </a:lnTo>
                    <a:lnTo>
                      <a:pt x="375" y="2058"/>
                    </a:lnTo>
                    <a:lnTo>
                      <a:pt x="382" y="2082"/>
                    </a:lnTo>
                    <a:lnTo>
                      <a:pt x="388" y="2106"/>
                    </a:lnTo>
                    <a:lnTo>
                      <a:pt x="395" y="2128"/>
                    </a:lnTo>
                    <a:lnTo>
                      <a:pt x="402" y="2151"/>
                    </a:lnTo>
                    <a:lnTo>
                      <a:pt x="410" y="2172"/>
                    </a:lnTo>
                    <a:lnTo>
                      <a:pt x="418" y="2192"/>
                    </a:lnTo>
                    <a:lnTo>
                      <a:pt x="428" y="2212"/>
                    </a:lnTo>
                    <a:lnTo>
                      <a:pt x="438" y="2229"/>
                    </a:lnTo>
                    <a:lnTo>
                      <a:pt x="448" y="2246"/>
                    </a:lnTo>
                    <a:lnTo>
                      <a:pt x="459" y="2261"/>
                    </a:lnTo>
                    <a:lnTo>
                      <a:pt x="457" y="2268"/>
                    </a:lnTo>
                    <a:lnTo>
                      <a:pt x="452" y="2284"/>
                    </a:lnTo>
                    <a:lnTo>
                      <a:pt x="449" y="2295"/>
                    </a:lnTo>
                    <a:lnTo>
                      <a:pt x="444" y="2307"/>
                    </a:lnTo>
                    <a:lnTo>
                      <a:pt x="439" y="2317"/>
                    </a:lnTo>
                    <a:lnTo>
                      <a:pt x="434" y="2328"/>
                    </a:lnTo>
                    <a:lnTo>
                      <a:pt x="428" y="2338"/>
                    </a:lnTo>
                    <a:lnTo>
                      <a:pt x="422" y="2345"/>
                    </a:lnTo>
                    <a:lnTo>
                      <a:pt x="418" y="2349"/>
                    </a:lnTo>
                    <a:lnTo>
                      <a:pt x="414" y="2351"/>
                    </a:lnTo>
                    <a:lnTo>
                      <a:pt x="411" y="2352"/>
                    </a:lnTo>
                    <a:lnTo>
                      <a:pt x="408" y="2353"/>
                    </a:lnTo>
                    <a:lnTo>
                      <a:pt x="403" y="2353"/>
                    </a:lnTo>
                    <a:lnTo>
                      <a:pt x="399" y="2352"/>
                    </a:lnTo>
                    <a:lnTo>
                      <a:pt x="396" y="2350"/>
                    </a:lnTo>
                    <a:lnTo>
                      <a:pt x="391" y="2347"/>
                    </a:lnTo>
                    <a:lnTo>
                      <a:pt x="387" y="2342"/>
                    </a:lnTo>
                    <a:lnTo>
                      <a:pt x="384" y="2336"/>
                    </a:lnTo>
                    <a:lnTo>
                      <a:pt x="380" y="2329"/>
                    </a:lnTo>
                    <a:lnTo>
                      <a:pt x="375" y="2321"/>
                    </a:lnTo>
                    <a:lnTo>
                      <a:pt x="371" y="2310"/>
                    </a:lnTo>
                    <a:lnTo>
                      <a:pt x="367" y="2298"/>
                    </a:lnTo>
                    <a:lnTo>
                      <a:pt x="363" y="2283"/>
                    </a:lnTo>
                    <a:lnTo>
                      <a:pt x="359" y="2267"/>
                    </a:lnTo>
                    <a:lnTo>
                      <a:pt x="350" y="2230"/>
                    </a:lnTo>
                    <a:lnTo>
                      <a:pt x="343" y="2186"/>
                    </a:lnTo>
                    <a:lnTo>
                      <a:pt x="335" y="2138"/>
                    </a:lnTo>
                    <a:lnTo>
                      <a:pt x="329" y="2085"/>
                    </a:lnTo>
                    <a:lnTo>
                      <a:pt x="321" y="2030"/>
                    </a:lnTo>
                    <a:lnTo>
                      <a:pt x="315" y="1972"/>
                    </a:lnTo>
                    <a:lnTo>
                      <a:pt x="303" y="1852"/>
                    </a:lnTo>
                    <a:lnTo>
                      <a:pt x="292" y="1733"/>
                    </a:lnTo>
                    <a:lnTo>
                      <a:pt x="283" y="1622"/>
                    </a:lnTo>
                    <a:lnTo>
                      <a:pt x="276" y="1525"/>
                    </a:lnTo>
                    <a:lnTo>
                      <a:pt x="275" y="1503"/>
                    </a:lnTo>
                    <a:lnTo>
                      <a:pt x="272" y="1481"/>
                    </a:lnTo>
                    <a:lnTo>
                      <a:pt x="267" y="1460"/>
                    </a:lnTo>
                    <a:lnTo>
                      <a:pt x="263" y="1438"/>
                    </a:lnTo>
                    <a:lnTo>
                      <a:pt x="259" y="1418"/>
                    </a:lnTo>
                    <a:lnTo>
                      <a:pt x="252" y="1397"/>
                    </a:lnTo>
                    <a:lnTo>
                      <a:pt x="246" y="1376"/>
                    </a:lnTo>
                    <a:lnTo>
                      <a:pt x="239" y="1356"/>
                    </a:lnTo>
                    <a:lnTo>
                      <a:pt x="224" y="1315"/>
                    </a:lnTo>
                    <a:lnTo>
                      <a:pt x="207" y="1275"/>
                    </a:lnTo>
                    <a:lnTo>
                      <a:pt x="188" y="1236"/>
                    </a:lnTo>
                    <a:lnTo>
                      <a:pt x="169" y="1196"/>
                    </a:lnTo>
                    <a:lnTo>
                      <a:pt x="128" y="1119"/>
                    </a:lnTo>
                    <a:lnTo>
                      <a:pt x="87" y="1041"/>
                    </a:lnTo>
                    <a:lnTo>
                      <a:pt x="67" y="1002"/>
                    </a:lnTo>
                    <a:lnTo>
                      <a:pt x="49" y="962"/>
                    </a:lnTo>
                    <a:lnTo>
                      <a:pt x="32" y="922"/>
                    </a:lnTo>
                    <a:lnTo>
                      <a:pt x="17" y="882"/>
                    </a:lnTo>
                    <a:close/>
                  </a:path>
                </a:pathLst>
              </a:custGeom>
              <a:solidFill>
                <a:srgbClr val="8565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5317920" y="2792520"/>
                <a:ext cx="138240" cy="736560"/>
              </a:xfrm>
              <a:custGeom>
                <a:avLst/>
                <a:gdLst/>
                <a:ahLst/>
                <a:rect l="l" t="t" r="r" b="b"/>
                <a:pathLst>
                  <a:path w="432" h="2322">
                    <a:moveTo>
                      <a:pt x="20" y="857"/>
                    </a:moveTo>
                    <a:lnTo>
                      <a:pt x="11" y="835"/>
                    </a:lnTo>
                    <a:lnTo>
                      <a:pt x="5" y="813"/>
                    </a:lnTo>
                    <a:lnTo>
                      <a:pt x="1" y="794"/>
                    </a:lnTo>
                    <a:lnTo>
                      <a:pt x="0" y="775"/>
                    </a:lnTo>
                    <a:lnTo>
                      <a:pt x="0" y="759"/>
                    </a:lnTo>
                    <a:lnTo>
                      <a:pt x="3" y="745"/>
                    </a:lnTo>
                    <a:lnTo>
                      <a:pt x="6" y="731"/>
                    </a:lnTo>
                    <a:lnTo>
                      <a:pt x="10" y="719"/>
                    </a:lnTo>
                    <a:lnTo>
                      <a:pt x="16" y="709"/>
                    </a:lnTo>
                    <a:lnTo>
                      <a:pt x="21" y="701"/>
                    </a:lnTo>
                    <a:lnTo>
                      <a:pt x="27" y="693"/>
                    </a:lnTo>
                    <a:lnTo>
                      <a:pt x="34" y="687"/>
                    </a:lnTo>
                    <a:lnTo>
                      <a:pt x="40" y="682"/>
                    </a:lnTo>
                    <a:lnTo>
                      <a:pt x="47" y="679"/>
                    </a:lnTo>
                    <a:lnTo>
                      <a:pt x="52" y="677"/>
                    </a:lnTo>
                    <a:lnTo>
                      <a:pt x="57" y="677"/>
                    </a:lnTo>
                    <a:lnTo>
                      <a:pt x="61" y="676"/>
                    </a:lnTo>
                    <a:lnTo>
                      <a:pt x="67" y="673"/>
                    </a:lnTo>
                    <a:lnTo>
                      <a:pt x="74" y="668"/>
                    </a:lnTo>
                    <a:lnTo>
                      <a:pt x="81" y="663"/>
                    </a:lnTo>
                    <a:lnTo>
                      <a:pt x="90" y="654"/>
                    </a:lnTo>
                    <a:lnTo>
                      <a:pt x="99" y="646"/>
                    </a:lnTo>
                    <a:lnTo>
                      <a:pt x="108" y="634"/>
                    </a:lnTo>
                    <a:lnTo>
                      <a:pt x="118" y="621"/>
                    </a:lnTo>
                    <a:lnTo>
                      <a:pt x="128" y="606"/>
                    </a:lnTo>
                    <a:lnTo>
                      <a:pt x="138" y="589"/>
                    </a:lnTo>
                    <a:lnTo>
                      <a:pt x="147" y="571"/>
                    </a:lnTo>
                    <a:lnTo>
                      <a:pt x="157" y="551"/>
                    </a:lnTo>
                    <a:lnTo>
                      <a:pt x="166" y="528"/>
                    </a:lnTo>
                    <a:lnTo>
                      <a:pt x="174" y="504"/>
                    </a:lnTo>
                    <a:lnTo>
                      <a:pt x="183" y="479"/>
                    </a:lnTo>
                    <a:lnTo>
                      <a:pt x="191" y="451"/>
                    </a:lnTo>
                    <a:lnTo>
                      <a:pt x="197" y="422"/>
                    </a:lnTo>
                    <a:lnTo>
                      <a:pt x="203" y="389"/>
                    </a:lnTo>
                    <a:lnTo>
                      <a:pt x="209" y="354"/>
                    </a:lnTo>
                    <a:lnTo>
                      <a:pt x="213" y="317"/>
                    </a:lnTo>
                    <a:lnTo>
                      <a:pt x="222" y="243"/>
                    </a:lnTo>
                    <a:lnTo>
                      <a:pt x="227" y="169"/>
                    </a:lnTo>
                    <a:lnTo>
                      <a:pt x="230" y="102"/>
                    </a:lnTo>
                    <a:lnTo>
                      <a:pt x="233" y="48"/>
                    </a:lnTo>
                    <a:lnTo>
                      <a:pt x="234" y="13"/>
                    </a:lnTo>
                    <a:lnTo>
                      <a:pt x="235" y="0"/>
                    </a:lnTo>
                    <a:lnTo>
                      <a:pt x="268" y="20"/>
                    </a:lnTo>
                    <a:lnTo>
                      <a:pt x="293" y="35"/>
                    </a:lnTo>
                    <a:lnTo>
                      <a:pt x="308" y="45"/>
                    </a:lnTo>
                    <a:lnTo>
                      <a:pt x="318" y="52"/>
                    </a:lnTo>
                    <a:lnTo>
                      <a:pt x="321" y="55"/>
                    </a:lnTo>
                    <a:lnTo>
                      <a:pt x="322" y="56"/>
                    </a:lnTo>
                    <a:lnTo>
                      <a:pt x="321" y="56"/>
                    </a:lnTo>
                    <a:lnTo>
                      <a:pt x="321" y="56"/>
                    </a:lnTo>
                    <a:lnTo>
                      <a:pt x="319" y="71"/>
                    </a:lnTo>
                    <a:lnTo>
                      <a:pt x="315" y="110"/>
                    </a:lnTo>
                    <a:lnTo>
                      <a:pt x="308" y="167"/>
                    </a:lnTo>
                    <a:lnTo>
                      <a:pt x="300" y="235"/>
                    </a:lnTo>
                    <a:lnTo>
                      <a:pt x="290" y="309"/>
                    </a:lnTo>
                    <a:lnTo>
                      <a:pt x="278" y="380"/>
                    </a:lnTo>
                    <a:lnTo>
                      <a:pt x="273" y="412"/>
                    </a:lnTo>
                    <a:lnTo>
                      <a:pt x="266" y="442"/>
                    </a:lnTo>
                    <a:lnTo>
                      <a:pt x="261" y="467"/>
                    </a:lnTo>
                    <a:lnTo>
                      <a:pt x="254" y="489"/>
                    </a:lnTo>
                    <a:lnTo>
                      <a:pt x="241" y="525"/>
                    </a:lnTo>
                    <a:lnTo>
                      <a:pt x="230" y="558"/>
                    </a:lnTo>
                    <a:lnTo>
                      <a:pt x="220" y="588"/>
                    </a:lnTo>
                    <a:lnTo>
                      <a:pt x="209" y="616"/>
                    </a:lnTo>
                    <a:lnTo>
                      <a:pt x="198" y="641"/>
                    </a:lnTo>
                    <a:lnTo>
                      <a:pt x="188" y="664"/>
                    </a:lnTo>
                    <a:lnTo>
                      <a:pt x="176" y="683"/>
                    </a:lnTo>
                    <a:lnTo>
                      <a:pt x="166" y="702"/>
                    </a:lnTo>
                    <a:lnTo>
                      <a:pt x="159" y="710"/>
                    </a:lnTo>
                    <a:lnTo>
                      <a:pt x="155" y="721"/>
                    </a:lnTo>
                    <a:lnTo>
                      <a:pt x="151" y="733"/>
                    </a:lnTo>
                    <a:lnTo>
                      <a:pt x="147" y="747"/>
                    </a:lnTo>
                    <a:lnTo>
                      <a:pt x="145" y="761"/>
                    </a:lnTo>
                    <a:lnTo>
                      <a:pt x="144" y="775"/>
                    </a:lnTo>
                    <a:lnTo>
                      <a:pt x="144" y="790"/>
                    </a:lnTo>
                    <a:lnTo>
                      <a:pt x="144" y="807"/>
                    </a:lnTo>
                    <a:lnTo>
                      <a:pt x="145" y="822"/>
                    </a:lnTo>
                    <a:lnTo>
                      <a:pt x="146" y="837"/>
                    </a:lnTo>
                    <a:lnTo>
                      <a:pt x="148" y="852"/>
                    </a:lnTo>
                    <a:lnTo>
                      <a:pt x="151" y="866"/>
                    </a:lnTo>
                    <a:lnTo>
                      <a:pt x="154" y="879"/>
                    </a:lnTo>
                    <a:lnTo>
                      <a:pt x="157" y="892"/>
                    </a:lnTo>
                    <a:lnTo>
                      <a:pt x="161" y="903"/>
                    </a:lnTo>
                    <a:lnTo>
                      <a:pt x="166" y="911"/>
                    </a:lnTo>
                    <a:lnTo>
                      <a:pt x="170" y="923"/>
                    </a:lnTo>
                    <a:lnTo>
                      <a:pt x="176" y="943"/>
                    </a:lnTo>
                    <a:lnTo>
                      <a:pt x="185" y="969"/>
                    </a:lnTo>
                    <a:lnTo>
                      <a:pt x="194" y="999"/>
                    </a:lnTo>
                    <a:lnTo>
                      <a:pt x="214" y="1074"/>
                    </a:lnTo>
                    <a:lnTo>
                      <a:pt x="236" y="1162"/>
                    </a:lnTo>
                    <a:lnTo>
                      <a:pt x="247" y="1208"/>
                    </a:lnTo>
                    <a:lnTo>
                      <a:pt x="257" y="1256"/>
                    </a:lnTo>
                    <a:lnTo>
                      <a:pt x="267" y="1303"/>
                    </a:lnTo>
                    <a:lnTo>
                      <a:pt x="276" y="1350"/>
                    </a:lnTo>
                    <a:lnTo>
                      <a:pt x="283" y="1394"/>
                    </a:lnTo>
                    <a:lnTo>
                      <a:pt x="290" y="1437"/>
                    </a:lnTo>
                    <a:lnTo>
                      <a:pt x="295" y="1476"/>
                    </a:lnTo>
                    <a:lnTo>
                      <a:pt x="299" y="1512"/>
                    </a:lnTo>
                    <a:lnTo>
                      <a:pt x="302" y="1588"/>
                    </a:lnTo>
                    <a:lnTo>
                      <a:pt x="306" y="1680"/>
                    </a:lnTo>
                    <a:lnTo>
                      <a:pt x="309" y="1730"/>
                    </a:lnTo>
                    <a:lnTo>
                      <a:pt x="313" y="1782"/>
                    </a:lnTo>
                    <a:lnTo>
                      <a:pt x="317" y="1835"/>
                    </a:lnTo>
                    <a:lnTo>
                      <a:pt x="323" y="1888"/>
                    </a:lnTo>
                    <a:lnTo>
                      <a:pt x="330" y="1941"/>
                    </a:lnTo>
                    <a:lnTo>
                      <a:pt x="339" y="1992"/>
                    </a:lnTo>
                    <a:lnTo>
                      <a:pt x="343" y="2018"/>
                    </a:lnTo>
                    <a:lnTo>
                      <a:pt x="348" y="2043"/>
                    </a:lnTo>
                    <a:lnTo>
                      <a:pt x="355" y="2067"/>
                    </a:lnTo>
                    <a:lnTo>
                      <a:pt x="361" y="2091"/>
                    </a:lnTo>
                    <a:lnTo>
                      <a:pt x="368" y="2113"/>
                    </a:lnTo>
                    <a:lnTo>
                      <a:pt x="375" y="2136"/>
                    </a:lnTo>
                    <a:lnTo>
                      <a:pt x="383" y="2157"/>
                    </a:lnTo>
                    <a:lnTo>
                      <a:pt x="391" y="2177"/>
                    </a:lnTo>
                    <a:lnTo>
                      <a:pt x="401" y="2197"/>
                    </a:lnTo>
                    <a:lnTo>
                      <a:pt x="411" y="2214"/>
                    </a:lnTo>
                    <a:lnTo>
                      <a:pt x="421" y="2231"/>
                    </a:lnTo>
                    <a:lnTo>
                      <a:pt x="432" y="2246"/>
                    </a:lnTo>
                    <a:lnTo>
                      <a:pt x="431" y="2252"/>
                    </a:lnTo>
                    <a:lnTo>
                      <a:pt x="427" y="2267"/>
                    </a:lnTo>
                    <a:lnTo>
                      <a:pt x="424" y="2275"/>
                    </a:lnTo>
                    <a:lnTo>
                      <a:pt x="421" y="2285"/>
                    </a:lnTo>
                    <a:lnTo>
                      <a:pt x="416" y="2295"/>
                    </a:lnTo>
                    <a:lnTo>
                      <a:pt x="412" y="2303"/>
                    </a:lnTo>
                    <a:lnTo>
                      <a:pt x="407" y="2312"/>
                    </a:lnTo>
                    <a:lnTo>
                      <a:pt x="401" y="2317"/>
                    </a:lnTo>
                    <a:lnTo>
                      <a:pt x="398" y="2320"/>
                    </a:lnTo>
                    <a:lnTo>
                      <a:pt x="395" y="2322"/>
                    </a:lnTo>
                    <a:lnTo>
                      <a:pt x="391" y="2322"/>
                    </a:lnTo>
                    <a:lnTo>
                      <a:pt x="388" y="2322"/>
                    </a:lnTo>
                    <a:lnTo>
                      <a:pt x="385" y="2322"/>
                    </a:lnTo>
                    <a:lnTo>
                      <a:pt x="382" y="2320"/>
                    </a:lnTo>
                    <a:lnTo>
                      <a:pt x="377" y="2317"/>
                    </a:lnTo>
                    <a:lnTo>
                      <a:pt x="374" y="2313"/>
                    </a:lnTo>
                    <a:lnTo>
                      <a:pt x="370" y="2308"/>
                    </a:lnTo>
                    <a:lnTo>
                      <a:pt x="367" y="2302"/>
                    </a:lnTo>
                    <a:lnTo>
                      <a:pt x="362" y="2295"/>
                    </a:lnTo>
                    <a:lnTo>
                      <a:pt x="358" y="2286"/>
                    </a:lnTo>
                    <a:lnTo>
                      <a:pt x="354" y="2275"/>
                    </a:lnTo>
                    <a:lnTo>
                      <a:pt x="350" y="2263"/>
                    </a:lnTo>
                    <a:lnTo>
                      <a:pt x="346" y="2249"/>
                    </a:lnTo>
                    <a:lnTo>
                      <a:pt x="343" y="2233"/>
                    </a:lnTo>
                    <a:lnTo>
                      <a:pt x="335" y="2198"/>
                    </a:lnTo>
                    <a:lnTo>
                      <a:pt x="328" y="2155"/>
                    </a:lnTo>
                    <a:lnTo>
                      <a:pt x="320" y="2109"/>
                    </a:lnTo>
                    <a:lnTo>
                      <a:pt x="313" y="2058"/>
                    </a:lnTo>
                    <a:lnTo>
                      <a:pt x="306" y="2004"/>
                    </a:lnTo>
                    <a:lnTo>
                      <a:pt x="300" y="1948"/>
                    </a:lnTo>
                    <a:lnTo>
                      <a:pt x="287" y="1831"/>
                    </a:lnTo>
                    <a:lnTo>
                      <a:pt x="276" y="1715"/>
                    </a:lnTo>
                    <a:lnTo>
                      <a:pt x="267" y="1606"/>
                    </a:lnTo>
                    <a:lnTo>
                      <a:pt x="260" y="1510"/>
                    </a:lnTo>
                    <a:lnTo>
                      <a:pt x="257" y="1488"/>
                    </a:lnTo>
                    <a:lnTo>
                      <a:pt x="254" y="1465"/>
                    </a:lnTo>
                    <a:lnTo>
                      <a:pt x="251" y="1444"/>
                    </a:lnTo>
                    <a:lnTo>
                      <a:pt x="247" y="1422"/>
                    </a:lnTo>
                    <a:lnTo>
                      <a:pt x="242" y="1399"/>
                    </a:lnTo>
                    <a:lnTo>
                      <a:pt x="237" y="1378"/>
                    </a:lnTo>
                    <a:lnTo>
                      <a:pt x="230" y="1356"/>
                    </a:lnTo>
                    <a:lnTo>
                      <a:pt x="224" y="1335"/>
                    </a:lnTo>
                    <a:lnTo>
                      <a:pt x="210" y="1291"/>
                    </a:lnTo>
                    <a:lnTo>
                      <a:pt x="194" y="1248"/>
                    </a:lnTo>
                    <a:lnTo>
                      <a:pt x="176" y="1206"/>
                    </a:lnTo>
                    <a:lnTo>
                      <a:pt x="159" y="1165"/>
                    </a:lnTo>
                    <a:lnTo>
                      <a:pt x="121" y="1083"/>
                    </a:lnTo>
                    <a:lnTo>
                      <a:pt x="84" y="1004"/>
                    </a:lnTo>
                    <a:lnTo>
                      <a:pt x="65" y="966"/>
                    </a:lnTo>
                    <a:lnTo>
                      <a:pt x="49" y="929"/>
                    </a:lnTo>
                    <a:lnTo>
                      <a:pt x="33" y="892"/>
                    </a:lnTo>
                    <a:lnTo>
                      <a:pt x="20" y="857"/>
                    </a:lnTo>
                    <a:close/>
                  </a:path>
                </a:pathLst>
              </a:custGeom>
              <a:solidFill>
                <a:srgbClr val="7d5f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5326200" y="2797200"/>
                <a:ext cx="129960" cy="727200"/>
              </a:xfrm>
              <a:custGeom>
                <a:avLst/>
                <a:gdLst/>
                <a:ahLst/>
                <a:rect l="l" t="t" r="r" b="b"/>
                <a:pathLst>
                  <a:path w="407" h="2292">
                    <a:moveTo>
                      <a:pt x="22" y="827"/>
                    </a:moveTo>
                    <a:lnTo>
                      <a:pt x="13" y="806"/>
                    </a:lnTo>
                    <a:lnTo>
                      <a:pt x="7" y="785"/>
                    </a:lnTo>
                    <a:lnTo>
                      <a:pt x="2" y="767"/>
                    </a:lnTo>
                    <a:lnTo>
                      <a:pt x="1" y="751"/>
                    </a:lnTo>
                    <a:lnTo>
                      <a:pt x="0" y="737"/>
                    </a:lnTo>
                    <a:lnTo>
                      <a:pt x="1" y="724"/>
                    </a:lnTo>
                    <a:lnTo>
                      <a:pt x="3" y="712"/>
                    </a:lnTo>
                    <a:lnTo>
                      <a:pt x="8" y="702"/>
                    </a:lnTo>
                    <a:lnTo>
                      <a:pt x="12" y="693"/>
                    </a:lnTo>
                    <a:lnTo>
                      <a:pt x="16" y="687"/>
                    </a:lnTo>
                    <a:lnTo>
                      <a:pt x="22" y="682"/>
                    </a:lnTo>
                    <a:lnTo>
                      <a:pt x="28" y="677"/>
                    </a:lnTo>
                    <a:lnTo>
                      <a:pt x="34" y="674"/>
                    </a:lnTo>
                    <a:lnTo>
                      <a:pt x="39" y="671"/>
                    </a:lnTo>
                    <a:lnTo>
                      <a:pt x="45" y="670"/>
                    </a:lnTo>
                    <a:lnTo>
                      <a:pt x="49" y="670"/>
                    </a:lnTo>
                    <a:lnTo>
                      <a:pt x="53" y="669"/>
                    </a:lnTo>
                    <a:lnTo>
                      <a:pt x="60" y="666"/>
                    </a:lnTo>
                    <a:lnTo>
                      <a:pt x="66" y="662"/>
                    </a:lnTo>
                    <a:lnTo>
                      <a:pt x="75" y="656"/>
                    </a:lnTo>
                    <a:lnTo>
                      <a:pt x="82" y="648"/>
                    </a:lnTo>
                    <a:lnTo>
                      <a:pt x="92" y="638"/>
                    </a:lnTo>
                    <a:lnTo>
                      <a:pt x="102" y="626"/>
                    </a:lnTo>
                    <a:lnTo>
                      <a:pt x="112" y="614"/>
                    </a:lnTo>
                    <a:lnTo>
                      <a:pt x="121" y="598"/>
                    </a:lnTo>
                    <a:lnTo>
                      <a:pt x="132" y="582"/>
                    </a:lnTo>
                    <a:lnTo>
                      <a:pt x="142" y="564"/>
                    </a:lnTo>
                    <a:lnTo>
                      <a:pt x="153" y="543"/>
                    </a:lnTo>
                    <a:lnTo>
                      <a:pt x="161" y="522"/>
                    </a:lnTo>
                    <a:lnTo>
                      <a:pt x="171" y="498"/>
                    </a:lnTo>
                    <a:lnTo>
                      <a:pt x="180" y="472"/>
                    </a:lnTo>
                    <a:lnTo>
                      <a:pt x="187" y="445"/>
                    </a:lnTo>
                    <a:lnTo>
                      <a:pt x="194" y="415"/>
                    </a:lnTo>
                    <a:lnTo>
                      <a:pt x="200" y="382"/>
                    </a:lnTo>
                    <a:lnTo>
                      <a:pt x="205" y="348"/>
                    </a:lnTo>
                    <a:lnTo>
                      <a:pt x="211" y="311"/>
                    </a:lnTo>
                    <a:lnTo>
                      <a:pt x="220" y="238"/>
                    </a:lnTo>
                    <a:lnTo>
                      <a:pt x="226" y="165"/>
                    </a:lnTo>
                    <a:lnTo>
                      <a:pt x="230" y="101"/>
                    </a:lnTo>
                    <a:lnTo>
                      <a:pt x="235" y="48"/>
                    </a:lnTo>
                    <a:lnTo>
                      <a:pt x="236" y="13"/>
                    </a:lnTo>
                    <a:lnTo>
                      <a:pt x="237" y="0"/>
                    </a:lnTo>
                    <a:lnTo>
                      <a:pt x="269" y="20"/>
                    </a:lnTo>
                    <a:lnTo>
                      <a:pt x="290" y="32"/>
                    </a:lnTo>
                    <a:lnTo>
                      <a:pt x="301" y="40"/>
                    </a:lnTo>
                    <a:lnTo>
                      <a:pt x="305" y="43"/>
                    </a:lnTo>
                    <a:lnTo>
                      <a:pt x="305" y="43"/>
                    </a:lnTo>
                    <a:lnTo>
                      <a:pt x="302" y="42"/>
                    </a:lnTo>
                    <a:lnTo>
                      <a:pt x="297" y="40"/>
                    </a:lnTo>
                    <a:lnTo>
                      <a:pt x="296" y="39"/>
                    </a:lnTo>
                    <a:lnTo>
                      <a:pt x="294" y="54"/>
                    </a:lnTo>
                    <a:lnTo>
                      <a:pt x="290" y="93"/>
                    </a:lnTo>
                    <a:lnTo>
                      <a:pt x="283" y="150"/>
                    </a:lnTo>
                    <a:lnTo>
                      <a:pt x="275" y="218"/>
                    </a:lnTo>
                    <a:lnTo>
                      <a:pt x="265" y="292"/>
                    </a:lnTo>
                    <a:lnTo>
                      <a:pt x="253" y="363"/>
                    </a:lnTo>
                    <a:lnTo>
                      <a:pt x="248" y="395"/>
                    </a:lnTo>
                    <a:lnTo>
                      <a:pt x="241" y="425"/>
                    </a:lnTo>
                    <a:lnTo>
                      <a:pt x="236" y="450"/>
                    </a:lnTo>
                    <a:lnTo>
                      <a:pt x="229" y="472"/>
                    </a:lnTo>
                    <a:lnTo>
                      <a:pt x="216" y="508"/>
                    </a:lnTo>
                    <a:lnTo>
                      <a:pt x="205" y="541"/>
                    </a:lnTo>
                    <a:lnTo>
                      <a:pt x="195" y="571"/>
                    </a:lnTo>
                    <a:lnTo>
                      <a:pt x="184" y="599"/>
                    </a:lnTo>
                    <a:lnTo>
                      <a:pt x="173" y="624"/>
                    </a:lnTo>
                    <a:lnTo>
                      <a:pt x="163" y="647"/>
                    </a:lnTo>
                    <a:lnTo>
                      <a:pt x="151" y="666"/>
                    </a:lnTo>
                    <a:lnTo>
                      <a:pt x="141" y="685"/>
                    </a:lnTo>
                    <a:lnTo>
                      <a:pt x="134" y="693"/>
                    </a:lnTo>
                    <a:lnTo>
                      <a:pt x="130" y="704"/>
                    </a:lnTo>
                    <a:lnTo>
                      <a:pt x="126" y="716"/>
                    </a:lnTo>
                    <a:lnTo>
                      <a:pt x="122" y="730"/>
                    </a:lnTo>
                    <a:lnTo>
                      <a:pt x="120" y="744"/>
                    </a:lnTo>
                    <a:lnTo>
                      <a:pt x="119" y="758"/>
                    </a:lnTo>
                    <a:lnTo>
                      <a:pt x="119" y="773"/>
                    </a:lnTo>
                    <a:lnTo>
                      <a:pt x="119" y="790"/>
                    </a:lnTo>
                    <a:lnTo>
                      <a:pt x="120" y="805"/>
                    </a:lnTo>
                    <a:lnTo>
                      <a:pt x="121" y="820"/>
                    </a:lnTo>
                    <a:lnTo>
                      <a:pt x="123" y="835"/>
                    </a:lnTo>
                    <a:lnTo>
                      <a:pt x="126" y="849"/>
                    </a:lnTo>
                    <a:lnTo>
                      <a:pt x="129" y="862"/>
                    </a:lnTo>
                    <a:lnTo>
                      <a:pt x="132" y="875"/>
                    </a:lnTo>
                    <a:lnTo>
                      <a:pt x="136" y="886"/>
                    </a:lnTo>
                    <a:lnTo>
                      <a:pt x="141" y="894"/>
                    </a:lnTo>
                    <a:lnTo>
                      <a:pt x="145" y="906"/>
                    </a:lnTo>
                    <a:lnTo>
                      <a:pt x="151" y="926"/>
                    </a:lnTo>
                    <a:lnTo>
                      <a:pt x="160" y="952"/>
                    </a:lnTo>
                    <a:lnTo>
                      <a:pt x="169" y="982"/>
                    </a:lnTo>
                    <a:lnTo>
                      <a:pt x="189" y="1057"/>
                    </a:lnTo>
                    <a:lnTo>
                      <a:pt x="211" y="1145"/>
                    </a:lnTo>
                    <a:lnTo>
                      <a:pt x="222" y="1191"/>
                    </a:lnTo>
                    <a:lnTo>
                      <a:pt x="232" y="1239"/>
                    </a:lnTo>
                    <a:lnTo>
                      <a:pt x="242" y="1286"/>
                    </a:lnTo>
                    <a:lnTo>
                      <a:pt x="251" y="1333"/>
                    </a:lnTo>
                    <a:lnTo>
                      <a:pt x="258" y="1377"/>
                    </a:lnTo>
                    <a:lnTo>
                      <a:pt x="265" y="1420"/>
                    </a:lnTo>
                    <a:lnTo>
                      <a:pt x="270" y="1459"/>
                    </a:lnTo>
                    <a:lnTo>
                      <a:pt x="274" y="1495"/>
                    </a:lnTo>
                    <a:lnTo>
                      <a:pt x="277" y="1571"/>
                    </a:lnTo>
                    <a:lnTo>
                      <a:pt x="281" y="1663"/>
                    </a:lnTo>
                    <a:lnTo>
                      <a:pt x="284" y="1713"/>
                    </a:lnTo>
                    <a:lnTo>
                      <a:pt x="288" y="1765"/>
                    </a:lnTo>
                    <a:lnTo>
                      <a:pt x="292" y="1818"/>
                    </a:lnTo>
                    <a:lnTo>
                      <a:pt x="298" y="1871"/>
                    </a:lnTo>
                    <a:lnTo>
                      <a:pt x="305" y="1924"/>
                    </a:lnTo>
                    <a:lnTo>
                      <a:pt x="314" y="1975"/>
                    </a:lnTo>
                    <a:lnTo>
                      <a:pt x="318" y="2001"/>
                    </a:lnTo>
                    <a:lnTo>
                      <a:pt x="323" y="2026"/>
                    </a:lnTo>
                    <a:lnTo>
                      <a:pt x="330" y="2050"/>
                    </a:lnTo>
                    <a:lnTo>
                      <a:pt x="336" y="2074"/>
                    </a:lnTo>
                    <a:lnTo>
                      <a:pt x="343" y="2096"/>
                    </a:lnTo>
                    <a:lnTo>
                      <a:pt x="350" y="2119"/>
                    </a:lnTo>
                    <a:lnTo>
                      <a:pt x="358" y="2140"/>
                    </a:lnTo>
                    <a:lnTo>
                      <a:pt x="366" y="2160"/>
                    </a:lnTo>
                    <a:lnTo>
                      <a:pt x="376" y="2180"/>
                    </a:lnTo>
                    <a:lnTo>
                      <a:pt x="386" y="2197"/>
                    </a:lnTo>
                    <a:lnTo>
                      <a:pt x="396" y="2214"/>
                    </a:lnTo>
                    <a:lnTo>
                      <a:pt x="407" y="2229"/>
                    </a:lnTo>
                    <a:lnTo>
                      <a:pt x="406" y="2235"/>
                    </a:lnTo>
                    <a:lnTo>
                      <a:pt x="404" y="2246"/>
                    </a:lnTo>
                    <a:lnTo>
                      <a:pt x="400" y="2263"/>
                    </a:lnTo>
                    <a:lnTo>
                      <a:pt x="393" y="2278"/>
                    </a:lnTo>
                    <a:lnTo>
                      <a:pt x="389" y="2284"/>
                    </a:lnTo>
                    <a:lnTo>
                      <a:pt x="385" y="2289"/>
                    </a:lnTo>
                    <a:lnTo>
                      <a:pt x="383" y="2291"/>
                    </a:lnTo>
                    <a:lnTo>
                      <a:pt x="379" y="2291"/>
                    </a:lnTo>
                    <a:lnTo>
                      <a:pt x="377" y="2292"/>
                    </a:lnTo>
                    <a:lnTo>
                      <a:pt x="374" y="2291"/>
                    </a:lnTo>
                    <a:lnTo>
                      <a:pt x="371" y="2290"/>
                    </a:lnTo>
                    <a:lnTo>
                      <a:pt x="368" y="2288"/>
                    </a:lnTo>
                    <a:lnTo>
                      <a:pt x="364" y="2284"/>
                    </a:lnTo>
                    <a:lnTo>
                      <a:pt x="361" y="2280"/>
                    </a:lnTo>
                    <a:lnTo>
                      <a:pt x="353" y="2268"/>
                    </a:lnTo>
                    <a:lnTo>
                      <a:pt x="346" y="2252"/>
                    </a:lnTo>
                    <a:lnTo>
                      <a:pt x="342" y="2241"/>
                    </a:lnTo>
                    <a:lnTo>
                      <a:pt x="337" y="2229"/>
                    </a:lnTo>
                    <a:lnTo>
                      <a:pt x="333" y="2215"/>
                    </a:lnTo>
                    <a:lnTo>
                      <a:pt x="329" y="2200"/>
                    </a:lnTo>
                    <a:lnTo>
                      <a:pt x="321" y="2164"/>
                    </a:lnTo>
                    <a:lnTo>
                      <a:pt x="314" y="2123"/>
                    </a:lnTo>
                    <a:lnTo>
                      <a:pt x="306" y="2078"/>
                    </a:lnTo>
                    <a:lnTo>
                      <a:pt x="298" y="2029"/>
                    </a:lnTo>
                    <a:lnTo>
                      <a:pt x="292" y="1976"/>
                    </a:lnTo>
                    <a:lnTo>
                      <a:pt x="285" y="1921"/>
                    </a:lnTo>
                    <a:lnTo>
                      <a:pt x="272" y="1808"/>
                    </a:lnTo>
                    <a:lnTo>
                      <a:pt x="262" y="1695"/>
                    </a:lnTo>
                    <a:lnTo>
                      <a:pt x="253" y="1587"/>
                    </a:lnTo>
                    <a:lnTo>
                      <a:pt x="247" y="1490"/>
                    </a:lnTo>
                    <a:lnTo>
                      <a:pt x="244" y="1468"/>
                    </a:lnTo>
                    <a:lnTo>
                      <a:pt x="242" y="1446"/>
                    </a:lnTo>
                    <a:lnTo>
                      <a:pt x="239" y="1424"/>
                    </a:lnTo>
                    <a:lnTo>
                      <a:pt x="235" y="1401"/>
                    </a:lnTo>
                    <a:lnTo>
                      <a:pt x="225" y="1355"/>
                    </a:lnTo>
                    <a:lnTo>
                      <a:pt x="213" y="1310"/>
                    </a:lnTo>
                    <a:lnTo>
                      <a:pt x="200" y="1265"/>
                    </a:lnTo>
                    <a:lnTo>
                      <a:pt x="185" y="1218"/>
                    </a:lnTo>
                    <a:lnTo>
                      <a:pt x="169" y="1174"/>
                    </a:lnTo>
                    <a:lnTo>
                      <a:pt x="151" y="1130"/>
                    </a:lnTo>
                    <a:lnTo>
                      <a:pt x="117" y="1043"/>
                    </a:lnTo>
                    <a:lnTo>
                      <a:pt x="81" y="963"/>
                    </a:lnTo>
                    <a:lnTo>
                      <a:pt x="49" y="891"/>
                    </a:lnTo>
                    <a:lnTo>
                      <a:pt x="22" y="827"/>
                    </a:lnTo>
                    <a:close/>
                  </a:path>
                </a:pathLst>
              </a:custGeom>
              <a:solidFill>
                <a:srgbClr val="7759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5334120" y="2801880"/>
                <a:ext cx="122040" cy="719280"/>
              </a:xfrm>
              <a:custGeom>
                <a:avLst/>
                <a:gdLst/>
                <a:ahLst/>
                <a:rect l="l" t="t" r="r" b="b"/>
                <a:pathLst>
                  <a:path w="382" h="2264">
                    <a:moveTo>
                      <a:pt x="382" y="2215"/>
                    </a:moveTo>
                    <a:lnTo>
                      <a:pt x="371" y="2200"/>
                    </a:lnTo>
                    <a:lnTo>
                      <a:pt x="361" y="2183"/>
                    </a:lnTo>
                    <a:lnTo>
                      <a:pt x="351" y="2166"/>
                    </a:lnTo>
                    <a:lnTo>
                      <a:pt x="341" y="2146"/>
                    </a:lnTo>
                    <a:lnTo>
                      <a:pt x="333" y="2126"/>
                    </a:lnTo>
                    <a:lnTo>
                      <a:pt x="325" y="2105"/>
                    </a:lnTo>
                    <a:lnTo>
                      <a:pt x="318" y="2082"/>
                    </a:lnTo>
                    <a:lnTo>
                      <a:pt x="311" y="2060"/>
                    </a:lnTo>
                    <a:lnTo>
                      <a:pt x="305" y="2036"/>
                    </a:lnTo>
                    <a:lnTo>
                      <a:pt x="298" y="2012"/>
                    </a:lnTo>
                    <a:lnTo>
                      <a:pt x="293" y="1987"/>
                    </a:lnTo>
                    <a:lnTo>
                      <a:pt x="289" y="1961"/>
                    </a:lnTo>
                    <a:lnTo>
                      <a:pt x="280" y="1910"/>
                    </a:lnTo>
                    <a:lnTo>
                      <a:pt x="273" y="1857"/>
                    </a:lnTo>
                    <a:lnTo>
                      <a:pt x="267" y="1804"/>
                    </a:lnTo>
                    <a:lnTo>
                      <a:pt x="263" y="1751"/>
                    </a:lnTo>
                    <a:lnTo>
                      <a:pt x="259" y="1699"/>
                    </a:lnTo>
                    <a:lnTo>
                      <a:pt x="256" y="1649"/>
                    </a:lnTo>
                    <a:lnTo>
                      <a:pt x="252" y="1557"/>
                    </a:lnTo>
                    <a:lnTo>
                      <a:pt x="249" y="1481"/>
                    </a:lnTo>
                    <a:lnTo>
                      <a:pt x="245" y="1445"/>
                    </a:lnTo>
                    <a:lnTo>
                      <a:pt x="240" y="1406"/>
                    </a:lnTo>
                    <a:lnTo>
                      <a:pt x="233" y="1363"/>
                    </a:lnTo>
                    <a:lnTo>
                      <a:pt x="226" y="1319"/>
                    </a:lnTo>
                    <a:lnTo>
                      <a:pt x="217" y="1272"/>
                    </a:lnTo>
                    <a:lnTo>
                      <a:pt x="207" y="1225"/>
                    </a:lnTo>
                    <a:lnTo>
                      <a:pt x="197" y="1177"/>
                    </a:lnTo>
                    <a:lnTo>
                      <a:pt x="186" y="1131"/>
                    </a:lnTo>
                    <a:lnTo>
                      <a:pt x="164" y="1043"/>
                    </a:lnTo>
                    <a:lnTo>
                      <a:pt x="144" y="968"/>
                    </a:lnTo>
                    <a:lnTo>
                      <a:pt x="135" y="938"/>
                    </a:lnTo>
                    <a:lnTo>
                      <a:pt x="126" y="912"/>
                    </a:lnTo>
                    <a:lnTo>
                      <a:pt x="120" y="892"/>
                    </a:lnTo>
                    <a:lnTo>
                      <a:pt x="116" y="880"/>
                    </a:lnTo>
                    <a:lnTo>
                      <a:pt x="111" y="872"/>
                    </a:lnTo>
                    <a:lnTo>
                      <a:pt x="107" y="861"/>
                    </a:lnTo>
                    <a:lnTo>
                      <a:pt x="104" y="848"/>
                    </a:lnTo>
                    <a:lnTo>
                      <a:pt x="101" y="835"/>
                    </a:lnTo>
                    <a:lnTo>
                      <a:pt x="98" y="821"/>
                    </a:lnTo>
                    <a:lnTo>
                      <a:pt x="96" y="806"/>
                    </a:lnTo>
                    <a:lnTo>
                      <a:pt x="95" y="791"/>
                    </a:lnTo>
                    <a:lnTo>
                      <a:pt x="94" y="776"/>
                    </a:lnTo>
                    <a:lnTo>
                      <a:pt x="94" y="759"/>
                    </a:lnTo>
                    <a:lnTo>
                      <a:pt x="94" y="744"/>
                    </a:lnTo>
                    <a:lnTo>
                      <a:pt x="95" y="730"/>
                    </a:lnTo>
                    <a:lnTo>
                      <a:pt x="97" y="716"/>
                    </a:lnTo>
                    <a:lnTo>
                      <a:pt x="101" y="702"/>
                    </a:lnTo>
                    <a:lnTo>
                      <a:pt x="105" y="690"/>
                    </a:lnTo>
                    <a:lnTo>
                      <a:pt x="109" y="679"/>
                    </a:lnTo>
                    <a:lnTo>
                      <a:pt x="116" y="671"/>
                    </a:lnTo>
                    <a:lnTo>
                      <a:pt x="126" y="652"/>
                    </a:lnTo>
                    <a:lnTo>
                      <a:pt x="138" y="633"/>
                    </a:lnTo>
                    <a:lnTo>
                      <a:pt x="148" y="610"/>
                    </a:lnTo>
                    <a:lnTo>
                      <a:pt x="159" y="585"/>
                    </a:lnTo>
                    <a:lnTo>
                      <a:pt x="170" y="557"/>
                    </a:lnTo>
                    <a:lnTo>
                      <a:pt x="180" y="527"/>
                    </a:lnTo>
                    <a:lnTo>
                      <a:pt x="191" y="494"/>
                    </a:lnTo>
                    <a:lnTo>
                      <a:pt x="204" y="458"/>
                    </a:lnTo>
                    <a:lnTo>
                      <a:pt x="211" y="436"/>
                    </a:lnTo>
                    <a:lnTo>
                      <a:pt x="216" y="411"/>
                    </a:lnTo>
                    <a:lnTo>
                      <a:pt x="223" y="381"/>
                    </a:lnTo>
                    <a:lnTo>
                      <a:pt x="228" y="349"/>
                    </a:lnTo>
                    <a:lnTo>
                      <a:pt x="240" y="278"/>
                    </a:lnTo>
                    <a:lnTo>
                      <a:pt x="250" y="204"/>
                    </a:lnTo>
                    <a:lnTo>
                      <a:pt x="258" y="136"/>
                    </a:lnTo>
                    <a:lnTo>
                      <a:pt x="265" y="79"/>
                    </a:lnTo>
                    <a:lnTo>
                      <a:pt x="269" y="40"/>
                    </a:lnTo>
                    <a:lnTo>
                      <a:pt x="271" y="25"/>
                    </a:lnTo>
                    <a:lnTo>
                      <a:pt x="273" y="27"/>
                    </a:lnTo>
                    <a:lnTo>
                      <a:pt x="280" y="30"/>
                    </a:lnTo>
                    <a:lnTo>
                      <a:pt x="287" y="35"/>
                    </a:lnTo>
                    <a:lnTo>
                      <a:pt x="293" y="37"/>
                    </a:lnTo>
                    <a:lnTo>
                      <a:pt x="293" y="37"/>
                    </a:lnTo>
                    <a:lnTo>
                      <a:pt x="285" y="31"/>
                    </a:lnTo>
                    <a:lnTo>
                      <a:pt x="268" y="20"/>
                    </a:lnTo>
                    <a:lnTo>
                      <a:pt x="237" y="0"/>
                    </a:lnTo>
                    <a:lnTo>
                      <a:pt x="236" y="13"/>
                    </a:lnTo>
                    <a:lnTo>
                      <a:pt x="233" y="49"/>
                    </a:lnTo>
                    <a:lnTo>
                      <a:pt x="229" y="101"/>
                    </a:lnTo>
                    <a:lnTo>
                      <a:pt x="224" y="164"/>
                    </a:lnTo>
                    <a:lnTo>
                      <a:pt x="216" y="236"/>
                    </a:lnTo>
                    <a:lnTo>
                      <a:pt x="207" y="309"/>
                    </a:lnTo>
                    <a:lnTo>
                      <a:pt x="202" y="345"/>
                    </a:lnTo>
                    <a:lnTo>
                      <a:pt x="196" y="379"/>
                    </a:lnTo>
                    <a:lnTo>
                      <a:pt x="189" y="411"/>
                    </a:lnTo>
                    <a:lnTo>
                      <a:pt x="182" y="441"/>
                    </a:lnTo>
                    <a:lnTo>
                      <a:pt x="174" y="468"/>
                    </a:lnTo>
                    <a:lnTo>
                      <a:pt x="165" y="494"/>
                    </a:lnTo>
                    <a:lnTo>
                      <a:pt x="157" y="517"/>
                    </a:lnTo>
                    <a:lnTo>
                      <a:pt x="147" y="539"/>
                    </a:lnTo>
                    <a:lnTo>
                      <a:pt x="137" y="558"/>
                    </a:lnTo>
                    <a:lnTo>
                      <a:pt x="126" y="577"/>
                    </a:lnTo>
                    <a:lnTo>
                      <a:pt x="117" y="593"/>
                    </a:lnTo>
                    <a:lnTo>
                      <a:pt x="106" y="608"/>
                    </a:lnTo>
                    <a:lnTo>
                      <a:pt x="96" y="621"/>
                    </a:lnTo>
                    <a:lnTo>
                      <a:pt x="87" y="632"/>
                    </a:lnTo>
                    <a:lnTo>
                      <a:pt x="78" y="642"/>
                    </a:lnTo>
                    <a:lnTo>
                      <a:pt x="69" y="649"/>
                    </a:lnTo>
                    <a:lnTo>
                      <a:pt x="62" y="656"/>
                    </a:lnTo>
                    <a:lnTo>
                      <a:pt x="54" y="660"/>
                    </a:lnTo>
                    <a:lnTo>
                      <a:pt x="49" y="662"/>
                    </a:lnTo>
                    <a:lnTo>
                      <a:pt x="43" y="663"/>
                    </a:lnTo>
                    <a:lnTo>
                      <a:pt x="39" y="663"/>
                    </a:lnTo>
                    <a:lnTo>
                      <a:pt x="34" y="664"/>
                    </a:lnTo>
                    <a:lnTo>
                      <a:pt x="29" y="665"/>
                    </a:lnTo>
                    <a:lnTo>
                      <a:pt x="24" y="668"/>
                    </a:lnTo>
                    <a:lnTo>
                      <a:pt x="18" y="671"/>
                    </a:lnTo>
                    <a:lnTo>
                      <a:pt x="13" y="675"/>
                    </a:lnTo>
                    <a:lnTo>
                      <a:pt x="9" y="681"/>
                    </a:lnTo>
                    <a:lnTo>
                      <a:pt x="5" y="687"/>
                    </a:lnTo>
                    <a:lnTo>
                      <a:pt x="2" y="696"/>
                    </a:lnTo>
                    <a:lnTo>
                      <a:pt x="1" y="705"/>
                    </a:lnTo>
                    <a:lnTo>
                      <a:pt x="0" y="716"/>
                    </a:lnTo>
                    <a:lnTo>
                      <a:pt x="2" y="729"/>
                    </a:lnTo>
                    <a:lnTo>
                      <a:pt x="4" y="745"/>
                    </a:lnTo>
                    <a:lnTo>
                      <a:pt x="10" y="763"/>
                    </a:lnTo>
                    <a:lnTo>
                      <a:pt x="17" y="782"/>
                    </a:lnTo>
                    <a:lnTo>
                      <a:pt x="26" y="804"/>
                    </a:lnTo>
                    <a:lnTo>
                      <a:pt x="50" y="858"/>
                    </a:lnTo>
                    <a:lnTo>
                      <a:pt x="79" y="927"/>
                    </a:lnTo>
                    <a:lnTo>
                      <a:pt x="94" y="966"/>
                    </a:lnTo>
                    <a:lnTo>
                      <a:pt x="110" y="1008"/>
                    </a:lnTo>
                    <a:lnTo>
                      <a:pt x="126" y="1052"/>
                    </a:lnTo>
                    <a:lnTo>
                      <a:pt x="143" y="1097"/>
                    </a:lnTo>
                    <a:lnTo>
                      <a:pt x="159" y="1144"/>
                    </a:lnTo>
                    <a:lnTo>
                      <a:pt x="173" y="1192"/>
                    </a:lnTo>
                    <a:lnTo>
                      <a:pt x="187" y="1241"/>
                    </a:lnTo>
                    <a:lnTo>
                      <a:pt x="200" y="1289"/>
                    </a:lnTo>
                    <a:lnTo>
                      <a:pt x="211" y="1337"/>
                    </a:lnTo>
                    <a:lnTo>
                      <a:pt x="219" y="1385"/>
                    </a:lnTo>
                    <a:lnTo>
                      <a:pt x="224" y="1408"/>
                    </a:lnTo>
                    <a:lnTo>
                      <a:pt x="227" y="1431"/>
                    </a:lnTo>
                    <a:lnTo>
                      <a:pt x="229" y="1454"/>
                    </a:lnTo>
                    <a:lnTo>
                      <a:pt x="231" y="1476"/>
                    </a:lnTo>
                    <a:lnTo>
                      <a:pt x="239" y="1570"/>
                    </a:lnTo>
                    <a:lnTo>
                      <a:pt x="247" y="1676"/>
                    </a:lnTo>
                    <a:lnTo>
                      <a:pt x="258" y="1788"/>
                    </a:lnTo>
                    <a:lnTo>
                      <a:pt x="271" y="1898"/>
                    </a:lnTo>
                    <a:lnTo>
                      <a:pt x="278" y="1952"/>
                    </a:lnTo>
                    <a:lnTo>
                      <a:pt x="284" y="2002"/>
                    </a:lnTo>
                    <a:lnTo>
                      <a:pt x="291" y="2051"/>
                    </a:lnTo>
                    <a:lnTo>
                      <a:pt x="298" y="2095"/>
                    </a:lnTo>
                    <a:lnTo>
                      <a:pt x="306" y="2134"/>
                    </a:lnTo>
                    <a:lnTo>
                      <a:pt x="314" y="2170"/>
                    </a:lnTo>
                    <a:lnTo>
                      <a:pt x="318" y="2185"/>
                    </a:lnTo>
                    <a:lnTo>
                      <a:pt x="322" y="2198"/>
                    </a:lnTo>
                    <a:lnTo>
                      <a:pt x="326" y="2210"/>
                    </a:lnTo>
                    <a:lnTo>
                      <a:pt x="331" y="2221"/>
                    </a:lnTo>
                    <a:lnTo>
                      <a:pt x="338" y="2237"/>
                    </a:lnTo>
                    <a:lnTo>
                      <a:pt x="346" y="2249"/>
                    </a:lnTo>
                    <a:lnTo>
                      <a:pt x="351" y="2257"/>
                    </a:lnTo>
                    <a:lnTo>
                      <a:pt x="358" y="2262"/>
                    </a:lnTo>
                    <a:lnTo>
                      <a:pt x="360" y="2264"/>
                    </a:lnTo>
                    <a:lnTo>
                      <a:pt x="362" y="2264"/>
                    </a:lnTo>
                    <a:lnTo>
                      <a:pt x="364" y="2264"/>
                    </a:lnTo>
                    <a:lnTo>
                      <a:pt x="366" y="2263"/>
                    </a:lnTo>
                    <a:lnTo>
                      <a:pt x="370" y="2261"/>
                    </a:lnTo>
                    <a:lnTo>
                      <a:pt x="373" y="2255"/>
                    </a:lnTo>
                    <a:lnTo>
                      <a:pt x="377" y="2243"/>
                    </a:lnTo>
                    <a:lnTo>
                      <a:pt x="380" y="2230"/>
                    </a:lnTo>
                    <a:lnTo>
                      <a:pt x="381" y="2220"/>
                    </a:lnTo>
                    <a:lnTo>
                      <a:pt x="382" y="2215"/>
                    </a:lnTo>
                    <a:close/>
                  </a:path>
                </a:pathLst>
              </a:custGeom>
              <a:solidFill>
                <a:srgbClr val="705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5326200" y="3498840"/>
                <a:ext cx="266400" cy="500040"/>
              </a:xfrm>
              <a:custGeom>
                <a:avLst/>
                <a:gdLst/>
                <a:ahLst/>
                <a:rect l="l" t="t" r="r" b="b"/>
                <a:pathLst>
                  <a:path w="842" h="1577">
                    <a:moveTo>
                      <a:pt x="842" y="0"/>
                    </a:moveTo>
                    <a:lnTo>
                      <a:pt x="828" y="6"/>
                    </a:lnTo>
                    <a:lnTo>
                      <a:pt x="788" y="24"/>
                    </a:lnTo>
                    <a:lnTo>
                      <a:pt x="730" y="49"/>
                    </a:lnTo>
                    <a:lnTo>
                      <a:pt x="660" y="81"/>
                    </a:lnTo>
                    <a:lnTo>
                      <a:pt x="584" y="115"/>
                    </a:lnTo>
                    <a:lnTo>
                      <a:pt x="509" y="151"/>
                    </a:lnTo>
                    <a:lnTo>
                      <a:pt x="441" y="183"/>
                    </a:lnTo>
                    <a:lnTo>
                      <a:pt x="387" y="213"/>
                    </a:lnTo>
                    <a:lnTo>
                      <a:pt x="363" y="225"/>
                    </a:lnTo>
                    <a:lnTo>
                      <a:pt x="339" y="240"/>
                    </a:lnTo>
                    <a:lnTo>
                      <a:pt x="316" y="256"/>
                    </a:lnTo>
                    <a:lnTo>
                      <a:pt x="291" y="273"/>
                    </a:lnTo>
                    <a:lnTo>
                      <a:pt x="267" y="290"/>
                    </a:lnTo>
                    <a:lnTo>
                      <a:pt x="243" y="309"/>
                    </a:lnTo>
                    <a:lnTo>
                      <a:pt x="220" y="327"/>
                    </a:lnTo>
                    <a:lnTo>
                      <a:pt x="199" y="346"/>
                    </a:lnTo>
                    <a:lnTo>
                      <a:pt x="178" y="365"/>
                    </a:lnTo>
                    <a:lnTo>
                      <a:pt x="160" y="384"/>
                    </a:lnTo>
                    <a:lnTo>
                      <a:pt x="143" y="403"/>
                    </a:lnTo>
                    <a:lnTo>
                      <a:pt x="128" y="421"/>
                    </a:lnTo>
                    <a:lnTo>
                      <a:pt x="115" y="438"/>
                    </a:lnTo>
                    <a:lnTo>
                      <a:pt x="105" y="454"/>
                    </a:lnTo>
                    <a:lnTo>
                      <a:pt x="101" y="462"/>
                    </a:lnTo>
                    <a:lnTo>
                      <a:pt x="97" y="470"/>
                    </a:lnTo>
                    <a:lnTo>
                      <a:pt x="95" y="477"/>
                    </a:lnTo>
                    <a:lnTo>
                      <a:pt x="93" y="484"/>
                    </a:lnTo>
                    <a:lnTo>
                      <a:pt x="85" y="510"/>
                    </a:lnTo>
                    <a:lnTo>
                      <a:pt x="78" y="532"/>
                    </a:lnTo>
                    <a:lnTo>
                      <a:pt x="69" y="554"/>
                    </a:lnTo>
                    <a:lnTo>
                      <a:pt x="61" y="575"/>
                    </a:lnTo>
                    <a:lnTo>
                      <a:pt x="51" y="598"/>
                    </a:lnTo>
                    <a:lnTo>
                      <a:pt x="40" y="623"/>
                    </a:lnTo>
                    <a:lnTo>
                      <a:pt x="29" y="651"/>
                    </a:lnTo>
                    <a:lnTo>
                      <a:pt x="18" y="684"/>
                    </a:lnTo>
                    <a:lnTo>
                      <a:pt x="10" y="717"/>
                    </a:lnTo>
                    <a:lnTo>
                      <a:pt x="3" y="747"/>
                    </a:lnTo>
                    <a:lnTo>
                      <a:pt x="1" y="761"/>
                    </a:lnTo>
                    <a:lnTo>
                      <a:pt x="0" y="774"/>
                    </a:lnTo>
                    <a:lnTo>
                      <a:pt x="0" y="786"/>
                    </a:lnTo>
                    <a:lnTo>
                      <a:pt x="0" y="798"/>
                    </a:lnTo>
                    <a:lnTo>
                      <a:pt x="1" y="810"/>
                    </a:lnTo>
                    <a:lnTo>
                      <a:pt x="2" y="821"/>
                    </a:lnTo>
                    <a:lnTo>
                      <a:pt x="5" y="831"/>
                    </a:lnTo>
                    <a:lnTo>
                      <a:pt x="9" y="842"/>
                    </a:lnTo>
                    <a:lnTo>
                      <a:pt x="13" y="853"/>
                    </a:lnTo>
                    <a:lnTo>
                      <a:pt x="18" y="864"/>
                    </a:lnTo>
                    <a:lnTo>
                      <a:pt x="24" y="873"/>
                    </a:lnTo>
                    <a:lnTo>
                      <a:pt x="31" y="884"/>
                    </a:lnTo>
                    <a:lnTo>
                      <a:pt x="38" y="895"/>
                    </a:lnTo>
                    <a:lnTo>
                      <a:pt x="44" y="907"/>
                    </a:lnTo>
                    <a:lnTo>
                      <a:pt x="50" y="921"/>
                    </a:lnTo>
                    <a:lnTo>
                      <a:pt x="54" y="935"/>
                    </a:lnTo>
                    <a:lnTo>
                      <a:pt x="57" y="949"/>
                    </a:lnTo>
                    <a:lnTo>
                      <a:pt x="59" y="964"/>
                    </a:lnTo>
                    <a:lnTo>
                      <a:pt x="62" y="979"/>
                    </a:lnTo>
                    <a:lnTo>
                      <a:pt x="64" y="994"/>
                    </a:lnTo>
                    <a:lnTo>
                      <a:pt x="64" y="1010"/>
                    </a:lnTo>
                    <a:lnTo>
                      <a:pt x="64" y="1025"/>
                    </a:lnTo>
                    <a:lnTo>
                      <a:pt x="64" y="1039"/>
                    </a:lnTo>
                    <a:lnTo>
                      <a:pt x="63" y="1052"/>
                    </a:lnTo>
                    <a:lnTo>
                      <a:pt x="61" y="1064"/>
                    </a:lnTo>
                    <a:lnTo>
                      <a:pt x="58" y="1074"/>
                    </a:lnTo>
                    <a:lnTo>
                      <a:pt x="56" y="1084"/>
                    </a:lnTo>
                    <a:lnTo>
                      <a:pt x="53" y="1092"/>
                    </a:lnTo>
                    <a:lnTo>
                      <a:pt x="51" y="1100"/>
                    </a:lnTo>
                    <a:lnTo>
                      <a:pt x="49" y="1111"/>
                    </a:lnTo>
                    <a:lnTo>
                      <a:pt x="47" y="1124"/>
                    </a:lnTo>
                    <a:lnTo>
                      <a:pt x="45" y="1139"/>
                    </a:lnTo>
                    <a:lnTo>
                      <a:pt x="45" y="1155"/>
                    </a:lnTo>
                    <a:lnTo>
                      <a:pt x="47" y="1173"/>
                    </a:lnTo>
                    <a:lnTo>
                      <a:pt x="48" y="1191"/>
                    </a:lnTo>
                    <a:lnTo>
                      <a:pt x="50" y="1210"/>
                    </a:lnTo>
                    <a:lnTo>
                      <a:pt x="53" y="1231"/>
                    </a:lnTo>
                    <a:lnTo>
                      <a:pt x="56" y="1250"/>
                    </a:lnTo>
                    <a:lnTo>
                      <a:pt x="61" y="1271"/>
                    </a:lnTo>
                    <a:lnTo>
                      <a:pt x="65" y="1291"/>
                    </a:lnTo>
                    <a:lnTo>
                      <a:pt x="71" y="1311"/>
                    </a:lnTo>
                    <a:lnTo>
                      <a:pt x="78" y="1330"/>
                    </a:lnTo>
                    <a:lnTo>
                      <a:pt x="84" y="1349"/>
                    </a:lnTo>
                    <a:lnTo>
                      <a:pt x="93" y="1366"/>
                    </a:lnTo>
                    <a:lnTo>
                      <a:pt x="109" y="1401"/>
                    </a:lnTo>
                    <a:lnTo>
                      <a:pt x="124" y="1437"/>
                    </a:lnTo>
                    <a:lnTo>
                      <a:pt x="138" y="1472"/>
                    </a:lnTo>
                    <a:lnTo>
                      <a:pt x="150" y="1505"/>
                    </a:lnTo>
                    <a:lnTo>
                      <a:pt x="160" y="1533"/>
                    </a:lnTo>
                    <a:lnTo>
                      <a:pt x="168" y="1556"/>
                    </a:lnTo>
                    <a:lnTo>
                      <a:pt x="173" y="1571"/>
                    </a:lnTo>
                    <a:lnTo>
                      <a:pt x="174" y="1577"/>
                    </a:lnTo>
                    <a:lnTo>
                      <a:pt x="179" y="1572"/>
                    </a:lnTo>
                    <a:lnTo>
                      <a:pt x="195" y="1559"/>
                    </a:lnTo>
                    <a:lnTo>
                      <a:pt x="205" y="1550"/>
                    </a:lnTo>
                    <a:lnTo>
                      <a:pt x="217" y="1537"/>
                    </a:lnTo>
                    <a:lnTo>
                      <a:pt x="231" y="1521"/>
                    </a:lnTo>
                    <a:lnTo>
                      <a:pt x="246" y="1503"/>
                    </a:lnTo>
                    <a:lnTo>
                      <a:pt x="264" y="1483"/>
                    </a:lnTo>
                    <a:lnTo>
                      <a:pt x="281" y="1458"/>
                    </a:lnTo>
                    <a:lnTo>
                      <a:pt x="299" y="1431"/>
                    </a:lnTo>
                    <a:lnTo>
                      <a:pt x="319" y="1401"/>
                    </a:lnTo>
                    <a:lnTo>
                      <a:pt x="338" y="1366"/>
                    </a:lnTo>
                    <a:lnTo>
                      <a:pt x="358" y="1329"/>
                    </a:lnTo>
                    <a:lnTo>
                      <a:pt x="377" y="1287"/>
                    </a:lnTo>
                    <a:lnTo>
                      <a:pt x="397" y="1243"/>
                    </a:lnTo>
                    <a:lnTo>
                      <a:pt x="407" y="1220"/>
                    </a:lnTo>
                    <a:lnTo>
                      <a:pt x="418" y="1197"/>
                    </a:lnTo>
                    <a:lnTo>
                      <a:pt x="429" y="1175"/>
                    </a:lnTo>
                    <a:lnTo>
                      <a:pt x="441" y="1152"/>
                    </a:lnTo>
                    <a:lnTo>
                      <a:pt x="466" y="1110"/>
                    </a:lnTo>
                    <a:lnTo>
                      <a:pt x="491" y="1068"/>
                    </a:lnTo>
                    <a:lnTo>
                      <a:pt x="516" y="1028"/>
                    </a:lnTo>
                    <a:lnTo>
                      <a:pt x="542" y="990"/>
                    </a:lnTo>
                    <a:lnTo>
                      <a:pt x="568" y="953"/>
                    </a:lnTo>
                    <a:lnTo>
                      <a:pt x="593" y="919"/>
                    </a:lnTo>
                    <a:lnTo>
                      <a:pt x="640" y="855"/>
                    </a:lnTo>
                    <a:lnTo>
                      <a:pt x="676" y="799"/>
                    </a:lnTo>
                    <a:lnTo>
                      <a:pt x="691" y="775"/>
                    </a:lnTo>
                    <a:lnTo>
                      <a:pt x="702" y="753"/>
                    </a:lnTo>
                    <a:lnTo>
                      <a:pt x="707" y="743"/>
                    </a:lnTo>
                    <a:lnTo>
                      <a:pt x="710" y="733"/>
                    </a:lnTo>
                    <a:lnTo>
                      <a:pt x="712" y="724"/>
                    </a:lnTo>
                    <a:lnTo>
                      <a:pt x="713" y="716"/>
                    </a:lnTo>
                    <a:lnTo>
                      <a:pt x="718" y="679"/>
                    </a:lnTo>
                    <a:lnTo>
                      <a:pt x="727" y="630"/>
                    </a:lnTo>
                    <a:lnTo>
                      <a:pt x="738" y="578"/>
                    </a:lnTo>
                    <a:lnTo>
                      <a:pt x="750" y="522"/>
                    </a:lnTo>
                    <a:lnTo>
                      <a:pt x="761" y="472"/>
                    </a:lnTo>
                    <a:lnTo>
                      <a:pt x="770" y="430"/>
                    </a:lnTo>
                    <a:lnTo>
                      <a:pt x="778" y="400"/>
                    </a:lnTo>
                    <a:lnTo>
                      <a:pt x="780" y="390"/>
                    </a:lnTo>
                    <a:lnTo>
                      <a:pt x="842" y="0"/>
                    </a:lnTo>
                    <a:close/>
                  </a:path>
                </a:pathLst>
              </a:custGeom>
              <a:solidFill>
                <a:srgbClr val="9dca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5326200" y="3517920"/>
                <a:ext cx="252360" cy="374760"/>
              </a:xfrm>
              <a:custGeom>
                <a:avLst/>
                <a:gdLst/>
                <a:ahLst/>
                <a:rect l="l" t="t" r="r" b="b"/>
                <a:pathLst>
                  <a:path w="792" h="1181">
                    <a:moveTo>
                      <a:pt x="790" y="0"/>
                    </a:moveTo>
                    <a:lnTo>
                      <a:pt x="773" y="6"/>
                    </a:lnTo>
                    <a:lnTo>
                      <a:pt x="727" y="21"/>
                    </a:lnTo>
                    <a:lnTo>
                      <a:pt x="695" y="33"/>
                    </a:lnTo>
                    <a:lnTo>
                      <a:pt x="659" y="47"/>
                    </a:lnTo>
                    <a:lnTo>
                      <a:pt x="618" y="63"/>
                    </a:lnTo>
                    <a:lnTo>
                      <a:pt x="576" y="81"/>
                    </a:lnTo>
                    <a:lnTo>
                      <a:pt x="531" y="102"/>
                    </a:lnTo>
                    <a:lnTo>
                      <a:pt x="484" y="125"/>
                    </a:lnTo>
                    <a:lnTo>
                      <a:pt x="438" y="149"/>
                    </a:lnTo>
                    <a:lnTo>
                      <a:pt x="391" y="175"/>
                    </a:lnTo>
                    <a:lnTo>
                      <a:pt x="369" y="189"/>
                    </a:lnTo>
                    <a:lnTo>
                      <a:pt x="346" y="203"/>
                    </a:lnTo>
                    <a:lnTo>
                      <a:pt x="324" y="218"/>
                    </a:lnTo>
                    <a:lnTo>
                      <a:pt x="304" y="234"/>
                    </a:lnTo>
                    <a:lnTo>
                      <a:pt x="283" y="250"/>
                    </a:lnTo>
                    <a:lnTo>
                      <a:pt x="264" y="266"/>
                    </a:lnTo>
                    <a:lnTo>
                      <a:pt x="246" y="282"/>
                    </a:lnTo>
                    <a:lnTo>
                      <a:pt x="228" y="299"/>
                    </a:lnTo>
                    <a:lnTo>
                      <a:pt x="224" y="303"/>
                    </a:lnTo>
                    <a:lnTo>
                      <a:pt x="211" y="312"/>
                    </a:lnTo>
                    <a:lnTo>
                      <a:pt x="193" y="329"/>
                    </a:lnTo>
                    <a:lnTo>
                      <a:pt x="171" y="349"/>
                    </a:lnTo>
                    <a:lnTo>
                      <a:pt x="159" y="361"/>
                    </a:lnTo>
                    <a:lnTo>
                      <a:pt x="147" y="374"/>
                    </a:lnTo>
                    <a:lnTo>
                      <a:pt x="136" y="387"/>
                    </a:lnTo>
                    <a:lnTo>
                      <a:pt x="125" y="401"/>
                    </a:lnTo>
                    <a:lnTo>
                      <a:pt x="115" y="416"/>
                    </a:lnTo>
                    <a:lnTo>
                      <a:pt x="105" y="431"/>
                    </a:lnTo>
                    <a:lnTo>
                      <a:pt x="96" y="446"/>
                    </a:lnTo>
                    <a:lnTo>
                      <a:pt x="90" y="463"/>
                    </a:lnTo>
                    <a:lnTo>
                      <a:pt x="75" y="496"/>
                    </a:lnTo>
                    <a:lnTo>
                      <a:pt x="59" y="534"/>
                    </a:lnTo>
                    <a:lnTo>
                      <a:pt x="40" y="574"/>
                    </a:lnTo>
                    <a:lnTo>
                      <a:pt x="24" y="615"/>
                    </a:lnTo>
                    <a:lnTo>
                      <a:pt x="18" y="634"/>
                    </a:lnTo>
                    <a:lnTo>
                      <a:pt x="11" y="655"/>
                    </a:lnTo>
                    <a:lnTo>
                      <a:pt x="6" y="673"/>
                    </a:lnTo>
                    <a:lnTo>
                      <a:pt x="2" y="692"/>
                    </a:lnTo>
                    <a:lnTo>
                      <a:pt x="0" y="709"/>
                    </a:lnTo>
                    <a:lnTo>
                      <a:pt x="0" y="725"/>
                    </a:lnTo>
                    <a:lnTo>
                      <a:pt x="0" y="733"/>
                    </a:lnTo>
                    <a:lnTo>
                      <a:pt x="1" y="739"/>
                    </a:lnTo>
                    <a:lnTo>
                      <a:pt x="4" y="746"/>
                    </a:lnTo>
                    <a:lnTo>
                      <a:pt x="6" y="752"/>
                    </a:lnTo>
                    <a:lnTo>
                      <a:pt x="17" y="775"/>
                    </a:lnTo>
                    <a:lnTo>
                      <a:pt x="29" y="800"/>
                    </a:lnTo>
                    <a:lnTo>
                      <a:pt x="41" y="825"/>
                    </a:lnTo>
                    <a:lnTo>
                      <a:pt x="53" y="851"/>
                    </a:lnTo>
                    <a:lnTo>
                      <a:pt x="59" y="865"/>
                    </a:lnTo>
                    <a:lnTo>
                      <a:pt x="63" y="878"/>
                    </a:lnTo>
                    <a:lnTo>
                      <a:pt x="67" y="892"/>
                    </a:lnTo>
                    <a:lnTo>
                      <a:pt x="71" y="906"/>
                    </a:lnTo>
                    <a:lnTo>
                      <a:pt x="73" y="919"/>
                    </a:lnTo>
                    <a:lnTo>
                      <a:pt x="74" y="933"/>
                    </a:lnTo>
                    <a:lnTo>
                      <a:pt x="74" y="946"/>
                    </a:lnTo>
                    <a:lnTo>
                      <a:pt x="73" y="959"/>
                    </a:lnTo>
                    <a:lnTo>
                      <a:pt x="71" y="972"/>
                    </a:lnTo>
                    <a:lnTo>
                      <a:pt x="69" y="984"/>
                    </a:lnTo>
                    <a:lnTo>
                      <a:pt x="71" y="995"/>
                    </a:lnTo>
                    <a:lnTo>
                      <a:pt x="71" y="1006"/>
                    </a:lnTo>
                    <a:lnTo>
                      <a:pt x="73" y="1016"/>
                    </a:lnTo>
                    <a:lnTo>
                      <a:pt x="75" y="1024"/>
                    </a:lnTo>
                    <a:lnTo>
                      <a:pt x="77" y="1032"/>
                    </a:lnTo>
                    <a:lnTo>
                      <a:pt x="79" y="1039"/>
                    </a:lnTo>
                    <a:lnTo>
                      <a:pt x="86" y="1053"/>
                    </a:lnTo>
                    <a:lnTo>
                      <a:pt x="92" y="1064"/>
                    </a:lnTo>
                    <a:lnTo>
                      <a:pt x="96" y="1074"/>
                    </a:lnTo>
                    <a:lnTo>
                      <a:pt x="100" y="1082"/>
                    </a:lnTo>
                    <a:lnTo>
                      <a:pt x="106" y="1107"/>
                    </a:lnTo>
                    <a:lnTo>
                      <a:pt x="113" y="1129"/>
                    </a:lnTo>
                    <a:lnTo>
                      <a:pt x="120" y="1147"/>
                    </a:lnTo>
                    <a:lnTo>
                      <a:pt x="128" y="1161"/>
                    </a:lnTo>
                    <a:lnTo>
                      <a:pt x="132" y="1168"/>
                    </a:lnTo>
                    <a:lnTo>
                      <a:pt x="136" y="1172"/>
                    </a:lnTo>
                    <a:lnTo>
                      <a:pt x="142" y="1176"/>
                    </a:lnTo>
                    <a:lnTo>
                      <a:pt x="147" y="1179"/>
                    </a:lnTo>
                    <a:lnTo>
                      <a:pt x="152" y="1181"/>
                    </a:lnTo>
                    <a:lnTo>
                      <a:pt x="158" y="1181"/>
                    </a:lnTo>
                    <a:lnTo>
                      <a:pt x="163" y="1180"/>
                    </a:lnTo>
                    <a:lnTo>
                      <a:pt x="170" y="1178"/>
                    </a:lnTo>
                    <a:lnTo>
                      <a:pt x="177" y="1174"/>
                    </a:lnTo>
                    <a:lnTo>
                      <a:pt x="184" y="1170"/>
                    </a:lnTo>
                    <a:lnTo>
                      <a:pt x="192" y="1163"/>
                    </a:lnTo>
                    <a:lnTo>
                      <a:pt x="200" y="1156"/>
                    </a:lnTo>
                    <a:lnTo>
                      <a:pt x="209" y="1147"/>
                    </a:lnTo>
                    <a:lnTo>
                      <a:pt x="217" y="1136"/>
                    </a:lnTo>
                    <a:lnTo>
                      <a:pt x="228" y="1125"/>
                    </a:lnTo>
                    <a:lnTo>
                      <a:pt x="238" y="1112"/>
                    </a:lnTo>
                    <a:lnTo>
                      <a:pt x="261" y="1080"/>
                    </a:lnTo>
                    <a:lnTo>
                      <a:pt x="286" y="1041"/>
                    </a:lnTo>
                    <a:lnTo>
                      <a:pt x="314" y="997"/>
                    </a:lnTo>
                    <a:lnTo>
                      <a:pt x="345" y="944"/>
                    </a:lnTo>
                    <a:lnTo>
                      <a:pt x="410" y="833"/>
                    </a:lnTo>
                    <a:lnTo>
                      <a:pt x="473" y="726"/>
                    </a:lnTo>
                    <a:lnTo>
                      <a:pt x="534" y="625"/>
                    </a:lnTo>
                    <a:lnTo>
                      <a:pt x="589" y="533"/>
                    </a:lnTo>
                    <a:lnTo>
                      <a:pt x="638" y="451"/>
                    </a:lnTo>
                    <a:lnTo>
                      <a:pt x="677" y="382"/>
                    </a:lnTo>
                    <a:lnTo>
                      <a:pt x="692" y="353"/>
                    </a:lnTo>
                    <a:lnTo>
                      <a:pt x="704" y="330"/>
                    </a:lnTo>
                    <a:lnTo>
                      <a:pt x="712" y="309"/>
                    </a:lnTo>
                    <a:lnTo>
                      <a:pt x="718" y="294"/>
                    </a:lnTo>
                    <a:lnTo>
                      <a:pt x="726" y="264"/>
                    </a:lnTo>
                    <a:lnTo>
                      <a:pt x="738" y="226"/>
                    </a:lnTo>
                    <a:lnTo>
                      <a:pt x="751" y="183"/>
                    </a:lnTo>
                    <a:lnTo>
                      <a:pt x="766" y="137"/>
                    </a:lnTo>
                    <a:lnTo>
                      <a:pt x="778" y="93"/>
                    </a:lnTo>
                    <a:lnTo>
                      <a:pt x="788" y="53"/>
                    </a:lnTo>
                    <a:lnTo>
                      <a:pt x="791" y="36"/>
                    </a:lnTo>
                    <a:lnTo>
                      <a:pt x="792" y="22"/>
                    </a:lnTo>
                    <a:lnTo>
                      <a:pt x="792" y="15"/>
                    </a:lnTo>
                    <a:lnTo>
                      <a:pt x="792" y="9"/>
                    </a:lnTo>
                    <a:lnTo>
                      <a:pt x="791" y="5"/>
                    </a:lnTo>
                    <a:lnTo>
                      <a:pt x="790" y="0"/>
                    </a:lnTo>
                    <a:close/>
                  </a:path>
                </a:pathLst>
              </a:custGeom>
              <a:solidFill>
                <a:srgbClr val="9dca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5329080" y="3522600"/>
                <a:ext cx="247680" cy="354240"/>
              </a:xfrm>
              <a:custGeom>
                <a:avLst/>
                <a:gdLst/>
                <a:ahLst/>
                <a:rect l="l" t="t" r="r" b="b"/>
                <a:pathLst>
                  <a:path w="782" h="1119">
                    <a:moveTo>
                      <a:pt x="73" y="938"/>
                    </a:moveTo>
                    <a:lnTo>
                      <a:pt x="74" y="925"/>
                    </a:lnTo>
                    <a:lnTo>
                      <a:pt x="74" y="912"/>
                    </a:lnTo>
                    <a:lnTo>
                      <a:pt x="73" y="899"/>
                    </a:lnTo>
                    <a:lnTo>
                      <a:pt x="70" y="885"/>
                    </a:lnTo>
                    <a:lnTo>
                      <a:pt x="67" y="872"/>
                    </a:lnTo>
                    <a:lnTo>
                      <a:pt x="64" y="859"/>
                    </a:lnTo>
                    <a:lnTo>
                      <a:pt x="58" y="847"/>
                    </a:lnTo>
                    <a:lnTo>
                      <a:pt x="54" y="834"/>
                    </a:lnTo>
                    <a:lnTo>
                      <a:pt x="42" y="808"/>
                    </a:lnTo>
                    <a:lnTo>
                      <a:pt x="29" y="784"/>
                    </a:lnTo>
                    <a:lnTo>
                      <a:pt x="17" y="759"/>
                    </a:lnTo>
                    <a:lnTo>
                      <a:pt x="6" y="737"/>
                    </a:lnTo>
                    <a:lnTo>
                      <a:pt x="4" y="731"/>
                    </a:lnTo>
                    <a:lnTo>
                      <a:pt x="2" y="725"/>
                    </a:lnTo>
                    <a:lnTo>
                      <a:pt x="1" y="718"/>
                    </a:lnTo>
                    <a:lnTo>
                      <a:pt x="0" y="711"/>
                    </a:lnTo>
                    <a:lnTo>
                      <a:pt x="0" y="697"/>
                    </a:lnTo>
                    <a:lnTo>
                      <a:pt x="2" y="681"/>
                    </a:lnTo>
                    <a:lnTo>
                      <a:pt x="5" y="663"/>
                    </a:lnTo>
                    <a:lnTo>
                      <a:pt x="10" y="646"/>
                    </a:lnTo>
                    <a:lnTo>
                      <a:pt x="15" y="628"/>
                    </a:lnTo>
                    <a:lnTo>
                      <a:pt x="21" y="609"/>
                    </a:lnTo>
                    <a:lnTo>
                      <a:pt x="37" y="572"/>
                    </a:lnTo>
                    <a:lnTo>
                      <a:pt x="53" y="535"/>
                    </a:lnTo>
                    <a:lnTo>
                      <a:pt x="69" y="498"/>
                    </a:lnTo>
                    <a:lnTo>
                      <a:pt x="83" y="466"/>
                    </a:lnTo>
                    <a:lnTo>
                      <a:pt x="89" y="449"/>
                    </a:lnTo>
                    <a:lnTo>
                      <a:pt x="98" y="434"/>
                    </a:lnTo>
                    <a:lnTo>
                      <a:pt x="108" y="419"/>
                    </a:lnTo>
                    <a:lnTo>
                      <a:pt x="119" y="404"/>
                    </a:lnTo>
                    <a:lnTo>
                      <a:pt x="131" y="390"/>
                    </a:lnTo>
                    <a:lnTo>
                      <a:pt x="142" y="376"/>
                    </a:lnTo>
                    <a:lnTo>
                      <a:pt x="154" y="363"/>
                    </a:lnTo>
                    <a:lnTo>
                      <a:pt x="166" y="350"/>
                    </a:lnTo>
                    <a:lnTo>
                      <a:pt x="189" y="329"/>
                    </a:lnTo>
                    <a:lnTo>
                      <a:pt x="208" y="312"/>
                    </a:lnTo>
                    <a:lnTo>
                      <a:pt x="221" y="302"/>
                    </a:lnTo>
                    <a:lnTo>
                      <a:pt x="227" y="297"/>
                    </a:lnTo>
                    <a:lnTo>
                      <a:pt x="244" y="280"/>
                    </a:lnTo>
                    <a:lnTo>
                      <a:pt x="262" y="264"/>
                    </a:lnTo>
                    <a:lnTo>
                      <a:pt x="281" y="248"/>
                    </a:lnTo>
                    <a:lnTo>
                      <a:pt x="301" y="232"/>
                    </a:lnTo>
                    <a:lnTo>
                      <a:pt x="322" y="216"/>
                    </a:lnTo>
                    <a:lnTo>
                      <a:pt x="343" y="202"/>
                    </a:lnTo>
                    <a:lnTo>
                      <a:pt x="365" y="187"/>
                    </a:lnTo>
                    <a:lnTo>
                      <a:pt x="388" y="174"/>
                    </a:lnTo>
                    <a:lnTo>
                      <a:pt x="434" y="147"/>
                    </a:lnTo>
                    <a:lnTo>
                      <a:pt x="479" y="123"/>
                    </a:lnTo>
                    <a:lnTo>
                      <a:pt x="526" y="101"/>
                    </a:lnTo>
                    <a:lnTo>
                      <a:pt x="570" y="80"/>
                    </a:lnTo>
                    <a:lnTo>
                      <a:pt x="612" y="62"/>
                    </a:lnTo>
                    <a:lnTo>
                      <a:pt x="651" y="47"/>
                    </a:lnTo>
                    <a:lnTo>
                      <a:pt x="688" y="33"/>
                    </a:lnTo>
                    <a:lnTo>
                      <a:pt x="718" y="21"/>
                    </a:lnTo>
                    <a:lnTo>
                      <a:pt x="764" y="6"/>
                    </a:lnTo>
                    <a:lnTo>
                      <a:pt x="780" y="0"/>
                    </a:lnTo>
                    <a:lnTo>
                      <a:pt x="782" y="9"/>
                    </a:lnTo>
                    <a:lnTo>
                      <a:pt x="782" y="20"/>
                    </a:lnTo>
                    <a:lnTo>
                      <a:pt x="781" y="33"/>
                    </a:lnTo>
                    <a:lnTo>
                      <a:pt x="778" y="48"/>
                    </a:lnTo>
                    <a:lnTo>
                      <a:pt x="769" y="81"/>
                    </a:lnTo>
                    <a:lnTo>
                      <a:pt x="758" y="118"/>
                    </a:lnTo>
                    <a:lnTo>
                      <a:pt x="745" y="156"/>
                    </a:lnTo>
                    <a:lnTo>
                      <a:pt x="732" y="192"/>
                    </a:lnTo>
                    <a:lnTo>
                      <a:pt x="721" y="227"/>
                    </a:lnTo>
                    <a:lnTo>
                      <a:pt x="713" y="255"/>
                    </a:lnTo>
                    <a:lnTo>
                      <a:pt x="708" y="269"/>
                    </a:lnTo>
                    <a:lnTo>
                      <a:pt x="700" y="287"/>
                    </a:lnTo>
                    <a:lnTo>
                      <a:pt x="687" y="309"/>
                    </a:lnTo>
                    <a:lnTo>
                      <a:pt x="672" y="334"/>
                    </a:lnTo>
                    <a:lnTo>
                      <a:pt x="633" y="394"/>
                    </a:lnTo>
                    <a:lnTo>
                      <a:pt x="585" y="466"/>
                    </a:lnTo>
                    <a:lnTo>
                      <a:pt x="529" y="549"/>
                    </a:lnTo>
                    <a:lnTo>
                      <a:pt x="469" y="641"/>
                    </a:lnTo>
                    <a:lnTo>
                      <a:pt x="437" y="690"/>
                    </a:lnTo>
                    <a:lnTo>
                      <a:pt x="405" y="742"/>
                    </a:lnTo>
                    <a:lnTo>
                      <a:pt x="372" y="796"/>
                    </a:lnTo>
                    <a:lnTo>
                      <a:pt x="340" y="851"/>
                    </a:lnTo>
                    <a:lnTo>
                      <a:pt x="310" y="904"/>
                    </a:lnTo>
                    <a:lnTo>
                      <a:pt x="282" y="951"/>
                    </a:lnTo>
                    <a:lnTo>
                      <a:pt x="257" y="991"/>
                    </a:lnTo>
                    <a:lnTo>
                      <a:pt x="234" y="1025"/>
                    </a:lnTo>
                    <a:lnTo>
                      <a:pt x="214" y="1054"/>
                    </a:lnTo>
                    <a:lnTo>
                      <a:pt x="195" y="1077"/>
                    </a:lnTo>
                    <a:lnTo>
                      <a:pt x="187" y="1087"/>
                    </a:lnTo>
                    <a:lnTo>
                      <a:pt x="179" y="1095"/>
                    </a:lnTo>
                    <a:lnTo>
                      <a:pt x="172" y="1102"/>
                    </a:lnTo>
                    <a:lnTo>
                      <a:pt x="164" y="1108"/>
                    </a:lnTo>
                    <a:lnTo>
                      <a:pt x="158" y="1113"/>
                    </a:lnTo>
                    <a:lnTo>
                      <a:pt x="151" y="1116"/>
                    </a:lnTo>
                    <a:lnTo>
                      <a:pt x="146" y="1118"/>
                    </a:lnTo>
                    <a:lnTo>
                      <a:pt x="140" y="1119"/>
                    </a:lnTo>
                    <a:lnTo>
                      <a:pt x="135" y="1119"/>
                    </a:lnTo>
                    <a:lnTo>
                      <a:pt x="129" y="1118"/>
                    </a:lnTo>
                    <a:lnTo>
                      <a:pt x="125" y="1116"/>
                    </a:lnTo>
                    <a:lnTo>
                      <a:pt x="121" y="1113"/>
                    </a:lnTo>
                    <a:lnTo>
                      <a:pt x="116" y="1108"/>
                    </a:lnTo>
                    <a:lnTo>
                      <a:pt x="113" y="1104"/>
                    </a:lnTo>
                    <a:lnTo>
                      <a:pt x="109" y="1097"/>
                    </a:lnTo>
                    <a:lnTo>
                      <a:pt x="106" y="1091"/>
                    </a:lnTo>
                    <a:lnTo>
                      <a:pt x="99" y="1074"/>
                    </a:lnTo>
                    <a:lnTo>
                      <a:pt x="93" y="1053"/>
                    </a:lnTo>
                    <a:lnTo>
                      <a:pt x="89" y="1046"/>
                    </a:lnTo>
                    <a:lnTo>
                      <a:pt x="86" y="1036"/>
                    </a:lnTo>
                    <a:lnTo>
                      <a:pt x="81" y="1026"/>
                    </a:lnTo>
                    <a:lnTo>
                      <a:pt x="76" y="1014"/>
                    </a:lnTo>
                    <a:lnTo>
                      <a:pt x="72" y="1000"/>
                    </a:lnTo>
                    <a:lnTo>
                      <a:pt x="70" y="983"/>
                    </a:lnTo>
                    <a:lnTo>
                      <a:pt x="70" y="973"/>
                    </a:lnTo>
                    <a:lnTo>
                      <a:pt x="70" y="962"/>
                    </a:lnTo>
                    <a:lnTo>
                      <a:pt x="71" y="951"/>
                    </a:lnTo>
                    <a:lnTo>
                      <a:pt x="73" y="938"/>
                    </a:lnTo>
                    <a:close/>
                  </a:path>
                </a:pathLst>
              </a:custGeom>
              <a:solidFill>
                <a:srgbClr val="93c1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5330880" y="3527640"/>
                <a:ext cx="244440" cy="336240"/>
              </a:xfrm>
              <a:custGeom>
                <a:avLst/>
                <a:gdLst/>
                <a:ahLst/>
                <a:rect l="l" t="t" r="r" b="b"/>
                <a:pathLst>
                  <a:path w="771" h="1062">
                    <a:moveTo>
                      <a:pt x="74" y="915"/>
                    </a:moveTo>
                    <a:lnTo>
                      <a:pt x="75" y="902"/>
                    </a:lnTo>
                    <a:lnTo>
                      <a:pt x="75" y="888"/>
                    </a:lnTo>
                    <a:lnTo>
                      <a:pt x="74" y="875"/>
                    </a:lnTo>
                    <a:lnTo>
                      <a:pt x="72" y="863"/>
                    </a:lnTo>
                    <a:lnTo>
                      <a:pt x="68" y="850"/>
                    </a:lnTo>
                    <a:lnTo>
                      <a:pt x="65" y="838"/>
                    </a:lnTo>
                    <a:lnTo>
                      <a:pt x="60" y="825"/>
                    </a:lnTo>
                    <a:lnTo>
                      <a:pt x="54" y="814"/>
                    </a:lnTo>
                    <a:lnTo>
                      <a:pt x="42" y="790"/>
                    </a:lnTo>
                    <a:lnTo>
                      <a:pt x="31" y="766"/>
                    </a:lnTo>
                    <a:lnTo>
                      <a:pt x="18" y="743"/>
                    </a:lnTo>
                    <a:lnTo>
                      <a:pt x="7" y="720"/>
                    </a:lnTo>
                    <a:lnTo>
                      <a:pt x="3" y="708"/>
                    </a:lnTo>
                    <a:lnTo>
                      <a:pt x="0" y="695"/>
                    </a:lnTo>
                    <a:lnTo>
                      <a:pt x="0" y="681"/>
                    </a:lnTo>
                    <a:lnTo>
                      <a:pt x="1" y="666"/>
                    </a:lnTo>
                    <a:lnTo>
                      <a:pt x="4" y="650"/>
                    </a:lnTo>
                    <a:lnTo>
                      <a:pt x="8" y="635"/>
                    </a:lnTo>
                    <a:lnTo>
                      <a:pt x="13" y="619"/>
                    </a:lnTo>
                    <a:lnTo>
                      <a:pt x="19" y="602"/>
                    </a:lnTo>
                    <a:lnTo>
                      <a:pt x="33" y="568"/>
                    </a:lnTo>
                    <a:lnTo>
                      <a:pt x="48" y="534"/>
                    </a:lnTo>
                    <a:lnTo>
                      <a:pt x="63" y="500"/>
                    </a:lnTo>
                    <a:lnTo>
                      <a:pt x="76" y="468"/>
                    </a:lnTo>
                    <a:lnTo>
                      <a:pt x="84" y="452"/>
                    </a:lnTo>
                    <a:lnTo>
                      <a:pt x="92" y="436"/>
                    </a:lnTo>
                    <a:lnTo>
                      <a:pt x="102" y="420"/>
                    </a:lnTo>
                    <a:lnTo>
                      <a:pt x="114" y="404"/>
                    </a:lnTo>
                    <a:lnTo>
                      <a:pt x="126" y="389"/>
                    </a:lnTo>
                    <a:lnTo>
                      <a:pt x="138" y="375"/>
                    </a:lnTo>
                    <a:lnTo>
                      <a:pt x="151" y="361"/>
                    </a:lnTo>
                    <a:lnTo>
                      <a:pt x="163" y="348"/>
                    </a:lnTo>
                    <a:lnTo>
                      <a:pt x="186" y="325"/>
                    </a:lnTo>
                    <a:lnTo>
                      <a:pt x="206" y="308"/>
                    </a:lnTo>
                    <a:lnTo>
                      <a:pt x="220" y="296"/>
                    </a:lnTo>
                    <a:lnTo>
                      <a:pt x="224" y="292"/>
                    </a:lnTo>
                    <a:lnTo>
                      <a:pt x="241" y="275"/>
                    </a:lnTo>
                    <a:lnTo>
                      <a:pt x="260" y="258"/>
                    </a:lnTo>
                    <a:lnTo>
                      <a:pt x="279" y="242"/>
                    </a:lnTo>
                    <a:lnTo>
                      <a:pt x="299" y="226"/>
                    </a:lnTo>
                    <a:lnTo>
                      <a:pt x="319" y="211"/>
                    </a:lnTo>
                    <a:lnTo>
                      <a:pt x="341" y="196"/>
                    </a:lnTo>
                    <a:lnTo>
                      <a:pt x="362" y="182"/>
                    </a:lnTo>
                    <a:lnTo>
                      <a:pt x="384" y="169"/>
                    </a:lnTo>
                    <a:lnTo>
                      <a:pt x="429" y="142"/>
                    </a:lnTo>
                    <a:lnTo>
                      <a:pt x="475" y="118"/>
                    </a:lnTo>
                    <a:lnTo>
                      <a:pt x="519" y="96"/>
                    </a:lnTo>
                    <a:lnTo>
                      <a:pt x="563" y="77"/>
                    </a:lnTo>
                    <a:lnTo>
                      <a:pt x="604" y="59"/>
                    </a:lnTo>
                    <a:lnTo>
                      <a:pt x="643" y="44"/>
                    </a:lnTo>
                    <a:lnTo>
                      <a:pt x="678" y="31"/>
                    </a:lnTo>
                    <a:lnTo>
                      <a:pt x="708" y="20"/>
                    </a:lnTo>
                    <a:lnTo>
                      <a:pt x="752" y="6"/>
                    </a:lnTo>
                    <a:lnTo>
                      <a:pt x="768" y="0"/>
                    </a:lnTo>
                    <a:lnTo>
                      <a:pt x="771" y="8"/>
                    </a:lnTo>
                    <a:lnTo>
                      <a:pt x="771" y="18"/>
                    </a:lnTo>
                    <a:lnTo>
                      <a:pt x="771" y="28"/>
                    </a:lnTo>
                    <a:lnTo>
                      <a:pt x="768" y="40"/>
                    </a:lnTo>
                    <a:lnTo>
                      <a:pt x="761" y="66"/>
                    </a:lnTo>
                    <a:lnTo>
                      <a:pt x="750" y="95"/>
                    </a:lnTo>
                    <a:lnTo>
                      <a:pt x="738" y="127"/>
                    </a:lnTo>
                    <a:lnTo>
                      <a:pt x="726" y="157"/>
                    </a:lnTo>
                    <a:lnTo>
                      <a:pt x="717" y="186"/>
                    </a:lnTo>
                    <a:lnTo>
                      <a:pt x="709" y="213"/>
                    </a:lnTo>
                    <a:lnTo>
                      <a:pt x="707" y="220"/>
                    </a:lnTo>
                    <a:lnTo>
                      <a:pt x="704" y="227"/>
                    </a:lnTo>
                    <a:lnTo>
                      <a:pt x="699" y="235"/>
                    </a:lnTo>
                    <a:lnTo>
                      <a:pt x="695" y="243"/>
                    </a:lnTo>
                    <a:lnTo>
                      <a:pt x="683" y="262"/>
                    </a:lnTo>
                    <a:lnTo>
                      <a:pt x="668" y="283"/>
                    </a:lnTo>
                    <a:lnTo>
                      <a:pt x="629" y="335"/>
                    </a:lnTo>
                    <a:lnTo>
                      <a:pt x="580" y="397"/>
                    </a:lnTo>
                    <a:lnTo>
                      <a:pt x="553" y="432"/>
                    </a:lnTo>
                    <a:lnTo>
                      <a:pt x="525" y="470"/>
                    </a:lnTo>
                    <a:lnTo>
                      <a:pt x="496" y="510"/>
                    </a:lnTo>
                    <a:lnTo>
                      <a:pt x="465" y="554"/>
                    </a:lnTo>
                    <a:lnTo>
                      <a:pt x="434" y="601"/>
                    </a:lnTo>
                    <a:lnTo>
                      <a:pt x="402" y="649"/>
                    </a:lnTo>
                    <a:lnTo>
                      <a:pt x="370" y="701"/>
                    </a:lnTo>
                    <a:lnTo>
                      <a:pt x="337" y="756"/>
                    </a:lnTo>
                    <a:lnTo>
                      <a:pt x="278" y="857"/>
                    </a:lnTo>
                    <a:lnTo>
                      <a:pt x="229" y="937"/>
                    </a:lnTo>
                    <a:lnTo>
                      <a:pt x="208" y="968"/>
                    </a:lnTo>
                    <a:lnTo>
                      <a:pt x="189" y="996"/>
                    </a:lnTo>
                    <a:lnTo>
                      <a:pt x="172" y="1018"/>
                    </a:lnTo>
                    <a:lnTo>
                      <a:pt x="157" y="1035"/>
                    </a:lnTo>
                    <a:lnTo>
                      <a:pt x="151" y="1043"/>
                    </a:lnTo>
                    <a:lnTo>
                      <a:pt x="144" y="1049"/>
                    </a:lnTo>
                    <a:lnTo>
                      <a:pt x="138" y="1053"/>
                    </a:lnTo>
                    <a:lnTo>
                      <a:pt x="132" y="1057"/>
                    </a:lnTo>
                    <a:lnTo>
                      <a:pt x="127" y="1060"/>
                    </a:lnTo>
                    <a:lnTo>
                      <a:pt x="122" y="1061"/>
                    </a:lnTo>
                    <a:lnTo>
                      <a:pt x="117" y="1062"/>
                    </a:lnTo>
                    <a:lnTo>
                      <a:pt x="114" y="1061"/>
                    </a:lnTo>
                    <a:lnTo>
                      <a:pt x="109" y="1060"/>
                    </a:lnTo>
                    <a:lnTo>
                      <a:pt x="105" y="1058"/>
                    </a:lnTo>
                    <a:lnTo>
                      <a:pt x="102" y="1053"/>
                    </a:lnTo>
                    <a:lnTo>
                      <a:pt x="99" y="1049"/>
                    </a:lnTo>
                    <a:lnTo>
                      <a:pt x="93" y="1037"/>
                    </a:lnTo>
                    <a:lnTo>
                      <a:pt x="88" y="1021"/>
                    </a:lnTo>
                    <a:lnTo>
                      <a:pt x="85" y="1013"/>
                    </a:lnTo>
                    <a:lnTo>
                      <a:pt x="81" y="1005"/>
                    </a:lnTo>
                    <a:lnTo>
                      <a:pt x="78" y="996"/>
                    </a:lnTo>
                    <a:lnTo>
                      <a:pt x="74" y="985"/>
                    </a:lnTo>
                    <a:lnTo>
                      <a:pt x="72" y="973"/>
                    </a:lnTo>
                    <a:lnTo>
                      <a:pt x="71" y="957"/>
                    </a:lnTo>
                    <a:lnTo>
                      <a:pt x="71" y="939"/>
                    </a:lnTo>
                    <a:lnTo>
                      <a:pt x="74" y="915"/>
                    </a:lnTo>
                    <a:close/>
                  </a:path>
                </a:pathLst>
              </a:custGeom>
              <a:solidFill>
                <a:srgbClr val="89b4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5334120" y="3530520"/>
                <a:ext cx="241200" cy="322560"/>
              </a:xfrm>
              <a:custGeom>
                <a:avLst/>
                <a:gdLst/>
                <a:ahLst/>
                <a:rect l="l" t="t" r="r" b="b"/>
                <a:pathLst>
                  <a:path w="761" h="1012">
                    <a:moveTo>
                      <a:pt x="73" y="892"/>
                    </a:moveTo>
                    <a:lnTo>
                      <a:pt x="75" y="878"/>
                    </a:lnTo>
                    <a:lnTo>
                      <a:pt x="75" y="866"/>
                    </a:lnTo>
                    <a:lnTo>
                      <a:pt x="74" y="853"/>
                    </a:lnTo>
                    <a:lnTo>
                      <a:pt x="72" y="842"/>
                    </a:lnTo>
                    <a:lnTo>
                      <a:pt x="69" y="830"/>
                    </a:lnTo>
                    <a:lnTo>
                      <a:pt x="66" y="818"/>
                    </a:lnTo>
                    <a:lnTo>
                      <a:pt x="60" y="806"/>
                    </a:lnTo>
                    <a:lnTo>
                      <a:pt x="55" y="794"/>
                    </a:lnTo>
                    <a:lnTo>
                      <a:pt x="43" y="771"/>
                    </a:lnTo>
                    <a:lnTo>
                      <a:pt x="31" y="750"/>
                    </a:lnTo>
                    <a:lnTo>
                      <a:pt x="18" y="727"/>
                    </a:lnTo>
                    <a:lnTo>
                      <a:pt x="7" y="704"/>
                    </a:lnTo>
                    <a:lnTo>
                      <a:pt x="3" y="693"/>
                    </a:lnTo>
                    <a:lnTo>
                      <a:pt x="1" y="680"/>
                    </a:lnTo>
                    <a:lnTo>
                      <a:pt x="0" y="667"/>
                    </a:lnTo>
                    <a:lnTo>
                      <a:pt x="1" y="654"/>
                    </a:lnTo>
                    <a:lnTo>
                      <a:pt x="3" y="640"/>
                    </a:lnTo>
                    <a:lnTo>
                      <a:pt x="6" y="626"/>
                    </a:lnTo>
                    <a:lnTo>
                      <a:pt x="11" y="612"/>
                    </a:lnTo>
                    <a:lnTo>
                      <a:pt x="16" y="596"/>
                    </a:lnTo>
                    <a:lnTo>
                      <a:pt x="29" y="566"/>
                    </a:lnTo>
                    <a:lnTo>
                      <a:pt x="43" y="535"/>
                    </a:lnTo>
                    <a:lnTo>
                      <a:pt x="57" y="504"/>
                    </a:lnTo>
                    <a:lnTo>
                      <a:pt x="71" y="472"/>
                    </a:lnTo>
                    <a:lnTo>
                      <a:pt x="79" y="456"/>
                    </a:lnTo>
                    <a:lnTo>
                      <a:pt x="87" y="440"/>
                    </a:lnTo>
                    <a:lnTo>
                      <a:pt x="97" y="424"/>
                    </a:lnTo>
                    <a:lnTo>
                      <a:pt x="109" y="407"/>
                    </a:lnTo>
                    <a:lnTo>
                      <a:pt x="121" y="391"/>
                    </a:lnTo>
                    <a:lnTo>
                      <a:pt x="134" y="376"/>
                    </a:lnTo>
                    <a:lnTo>
                      <a:pt x="147" y="362"/>
                    </a:lnTo>
                    <a:lnTo>
                      <a:pt x="160" y="348"/>
                    </a:lnTo>
                    <a:lnTo>
                      <a:pt x="185" y="323"/>
                    </a:lnTo>
                    <a:lnTo>
                      <a:pt x="205" y="304"/>
                    </a:lnTo>
                    <a:lnTo>
                      <a:pt x="219" y="291"/>
                    </a:lnTo>
                    <a:lnTo>
                      <a:pt x="225" y="286"/>
                    </a:lnTo>
                    <a:lnTo>
                      <a:pt x="242" y="269"/>
                    </a:lnTo>
                    <a:lnTo>
                      <a:pt x="259" y="253"/>
                    </a:lnTo>
                    <a:lnTo>
                      <a:pt x="279" y="237"/>
                    </a:lnTo>
                    <a:lnTo>
                      <a:pt x="298" y="222"/>
                    </a:lnTo>
                    <a:lnTo>
                      <a:pt x="319" y="207"/>
                    </a:lnTo>
                    <a:lnTo>
                      <a:pt x="339" y="193"/>
                    </a:lnTo>
                    <a:lnTo>
                      <a:pt x="361" y="178"/>
                    </a:lnTo>
                    <a:lnTo>
                      <a:pt x="382" y="164"/>
                    </a:lnTo>
                    <a:lnTo>
                      <a:pt x="427" y="139"/>
                    </a:lnTo>
                    <a:lnTo>
                      <a:pt x="471" y="116"/>
                    </a:lnTo>
                    <a:lnTo>
                      <a:pt x="515" y="94"/>
                    </a:lnTo>
                    <a:lnTo>
                      <a:pt x="557" y="75"/>
                    </a:lnTo>
                    <a:lnTo>
                      <a:pt x="598" y="58"/>
                    </a:lnTo>
                    <a:lnTo>
                      <a:pt x="636" y="42"/>
                    </a:lnTo>
                    <a:lnTo>
                      <a:pt x="670" y="29"/>
                    </a:lnTo>
                    <a:lnTo>
                      <a:pt x="700" y="19"/>
                    </a:lnTo>
                    <a:lnTo>
                      <a:pt x="743" y="5"/>
                    </a:lnTo>
                    <a:lnTo>
                      <a:pt x="758" y="0"/>
                    </a:lnTo>
                    <a:lnTo>
                      <a:pt x="761" y="8"/>
                    </a:lnTo>
                    <a:lnTo>
                      <a:pt x="761" y="15"/>
                    </a:lnTo>
                    <a:lnTo>
                      <a:pt x="761" y="24"/>
                    </a:lnTo>
                    <a:lnTo>
                      <a:pt x="759" y="34"/>
                    </a:lnTo>
                    <a:lnTo>
                      <a:pt x="756" y="43"/>
                    </a:lnTo>
                    <a:lnTo>
                      <a:pt x="753" y="53"/>
                    </a:lnTo>
                    <a:lnTo>
                      <a:pt x="748" y="64"/>
                    </a:lnTo>
                    <a:lnTo>
                      <a:pt x="743" y="75"/>
                    </a:lnTo>
                    <a:lnTo>
                      <a:pt x="732" y="97"/>
                    </a:lnTo>
                    <a:lnTo>
                      <a:pt x="720" y="121"/>
                    </a:lnTo>
                    <a:lnTo>
                      <a:pt x="715" y="133"/>
                    </a:lnTo>
                    <a:lnTo>
                      <a:pt x="710" y="145"/>
                    </a:lnTo>
                    <a:lnTo>
                      <a:pt x="705" y="158"/>
                    </a:lnTo>
                    <a:lnTo>
                      <a:pt x="702" y="170"/>
                    </a:lnTo>
                    <a:lnTo>
                      <a:pt x="700" y="176"/>
                    </a:lnTo>
                    <a:lnTo>
                      <a:pt x="697" y="184"/>
                    </a:lnTo>
                    <a:lnTo>
                      <a:pt x="693" y="190"/>
                    </a:lnTo>
                    <a:lnTo>
                      <a:pt x="689" y="198"/>
                    </a:lnTo>
                    <a:lnTo>
                      <a:pt x="677" y="215"/>
                    </a:lnTo>
                    <a:lnTo>
                      <a:pt x="662" y="232"/>
                    </a:lnTo>
                    <a:lnTo>
                      <a:pt x="624" y="276"/>
                    </a:lnTo>
                    <a:lnTo>
                      <a:pt x="577" y="329"/>
                    </a:lnTo>
                    <a:lnTo>
                      <a:pt x="551" y="359"/>
                    </a:lnTo>
                    <a:lnTo>
                      <a:pt x="522" y="391"/>
                    </a:lnTo>
                    <a:lnTo>
                      <a:pt x="492" y="428"/>
                    </a:lnTo>
                    <a:lnTo>
                      <a:pt x="462" y="468"/>
                    </a:lnTo>
                    <a:lnTo>
                      <a:pt x="431" y="510"/>
                    </a:lnTo>
                    <a:lnTo>
                      <a:pt x="398" y="558"/>
                    </a:lnTo>
                    <a:lnTo>
                      <a:pt x="366" y="607"/>
                    </a:lnTo>
                    <a:lnTo>
                      <a:pt x="334" y="662"/>
                    </a:lnTo>
                    <a:lnTo>
                      <a:pt x="274" y="765"/>
                    </a:lnTo>
                    <a:lnTo>
                      <a:pt x="225" y="849"/>
                    </a:lnTo>
                    <a:lnTo>
                      <a:pt x="203" y="885"/>
                    </a:lnTo>
                    <a:lnTo>
                      <a:pt x="183" y="915"/>
                    </a:lnTo>
                    <a:lnTo>
                      <a:pt x="166" y="942"/>
                    </a:lnTo>
                    <a:lnTo>
                      <a:pt x="151" y="965"/>
                    </a:lnTo>
                    <a:lnTo>
                      <a:pt x="137" y="983"/>
                    </a:lnTo>
                    <a:lnTo>
                      <a:pt x="125" y="997"/>
                    </a:lnTo>
                    <a:lnTo>
                      <a:pt x="120" y="1003"/>
                    </a:lnTo>
                    <a:lnTo>
                      <a:pt x="114" y="1006"/>
                    </a:lnTo>
                    <a:lnTo>
                      <a:pt x="110" y="1009"/>
                    </a:lnTo>
                    <a:lnTo>
                      <a:pt x="106" y="1011"/>
                    </a:lnTo>
                    <a:lnTo>
                      <a:pt x="101" y="1012"/>
                    </a:lnTo>
                    <a:lnTo>
                      <a:pt x="98" y="1012"/>
                    </a:lnTo>
                    <a:lnTo>
                      <a:pt x="95" y="1011"/>
                    </a:lnTo>
                    <a:lnTo>
                      <a:pt x="92" y="1010"/>
                    </a:lnTo>
                    <a:lnTo>
                      <a:pt x="88" y="1007"/>
                    </a:lnTo>
                    <a:lnTo>
                      <a:pt x="86" y="1003"/>
                    </a:lnTo>
                    <a:lnTo>
                      <a:pt x="83" y="997"/>
                    </a:lnTo>
                    <a:lnTo>
                      <a:pt x="81" y="991"/>
                    </a:lnTo>
                    <a:lnTo>
                      <a:pt x="79" y="984"/>
                    </a:lnTo>
                    <a:lnTo>
                      <a:pt x="75" y="977"/>
                    </a:lnTo>
                    <a:lnTo>
                      <a:pt x="73" y="969"/>
                    </a:lnTo>
                    <a:lnTo>
                      <a:pt x="71" y="960"/>
                    </a:lnTo>
                    <a:lnTo>
                      <a:pt x="70" y="949"/>
                    </a:lnTo>
                    <a:lnTo>
                      <a:pt x="70" y="934"/>
                    </a:lnTo>
                    <a:lnTo>
                      <a:pt x="71" y="915"/>
                    </a:lnTo>
                    <a:lnTo>
                      <a:pt x="73" y="892"/>
                    </a:lnTo>
                    <a:close/>
                  </a:path>
                </a:pathLst>
              </a:custGeom>
              <a:solidFill>
                <a:srgbClr val="82ad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5335560" y="3535560"/>
                <a:ext cx="237960" cy="307800"/>
              </a:xfrm>
              <a:custGeom>
                <a:avLst/>
                <a:gdLst/>
                <a:ahLst/>
                <a:rect l="l" t="t" r="r" b="b"/>
                <a:pathLst>
                  <a:path w="753" h="972">
                    <a:moveTo>
                      <a:pt x="75" y="871"/>
                    </a:moveTo>
                    <a:lnTo>
                      <a:pt x="77" y="857"/>
                    </a:lnTo>
                    <a:lnTo>
                      <a:pt x="77" y="845"/>
                    </a:lnTo>
                    <a:lnTo>
                      <a:pt x="76" y="832"/>
                    </a:lnTo>
                    <a:lnTo>
                      <a:pt x="74" y="821"/>
                    </a:lnTo>
                    <a:lnTo>
                      <a:pt x="72" y="809"/>
                    </a:lnTo>
                    <a:lnTo>
                      <a:pt x="67" y="798"/>
                    </a:lnTo>
                    <a:lnTo>
                      <a:pt x="63" y="787"/>
                    </a:lnTo>
                    <a:lnTo>
                      <a:pt x="58" y="777"/>
                    </a:lnTo>
                    <a:lnTo>
                      <a:pt x="46" y="755"/>
                    </a:lnTo>
                    <a:lnTo>
                      <a:pt x="33" y="733"/>
                    </a:lnTo>
                    <a:lnTo>
                      <a:pt x="21" y="712"/>
                    </a:lnTo>
                    <a:lnTo>
                      <a:pt x="9" y="690"/>
                    </a:lnTo>
                    <a:lnTo>
                      <a:pt x="5" y="678"/>
                    </a:lnTo>
                    <a:lnTo>
                      <a:pt x="1" y="667"/>
                    </a:lnTo>
                    <a:lnTo>
                      <a:pt x="0" y="655"/>
                    </a:lnTo>
                    <a:lnTo>
                      <a:pt x="1" y="642"/>
                    </a:lnTo>
                    <a:lnTo>
                      <a:pt x="4" y="630"/>
                    </a:lnTo>
                    <a:lnTo>
                      <a:pt x="6" y="617"/>
                    </a:lnTo>
                    <a:lnTo>
                      <a:pt x="10" y="604"/>
                    </a:lnTo>
                    <a:lnTo>
                      <a:pt x="14" y="591"/>
                    </a:lnTo>
                    <a:lnTo>
                      <a:pt x="26" y="564"/>
                    </a:lnTo>
                    <a:lnTo>
                      <a:pt x="39" y="536"/>
                    </a:lnTo>
                    <a:lnTo>
                      <a:pt x="52" y="507"/>
                    </a:lnTo>
                    <a:lnTo>
                      <a:pt x="65" y="478"/>
                    </a:lnTo>
                    <a:lnTo>
                      <a:pt x="73" y="461"/>
                    </a:lnTo>
                    <a:lnTo>
                      <a:pt x="82" y="445"/>
                    </a:lnTo>
                    <a:lnTo>
                      <a:pt x="93" y="428"/>
                    </a:lnTo>
                    <a:lnTo>
                      <a:pt x="105" y="412"/>
                    </a:lnTo>
                    <a:lnTo>
                      <a:pt x="117" y="395"/>
                    </a:lnTo>
                    <a:lnTo>
                      <a:pt x="131" y="379"/>
                    </a:lnTo>
                    <a:lnTo>
                      <a:pt x="144" y="364"/>
                    </a:lnTo>
                    <a:lnTo>
                      <a:pt x="157" y="349"/>
                    </a:lnTo>
                    <a:lnTo>
                      <a:pt x="183" y="323"/>
                    </a:lnTo>
                    <a:lnTo>
                      <a:pt x="203" y="303"/>
                    </a:lnTo>
                    <a:lnTo>
                      <a:pt x="219" y="290"/>
                    </a:lnTo>
                    <a:lnTo>
                      <a:pt x="224" y="284"/>
                    </a:lnTo>
                    <a:lnTo>
                      <a:pt x="241" y="268"/>
                    </a:lnTo>
                    <a:lnTo>
                      <a:pt x="259" y="251"/>
                    </a:lnTo>
                    <a:lnTo>
                      <a:pt x="278" y="236"/>
                    </a:lnTo>
                    <a:lnTo>
                      <a:pt x="297" y="219"/>
                    </a:lnTo>
                    <a:lnTo>
                      <a:pt x="318" y="204"/>
                    </a:lnTo>
                    <a:lnTo>
                      <a:pt x="338" y="190"/>
                    </a:lnTo>
                    <a:lnTo>
                      <a:pt x="359" y="176"/>
                    </a:lnTo>
                    <a:lnTo>
                      <a:pt x="381" y="163"/>
                    </a:lnTo>
                    <a:lnTo>
                      <a:pt x="425" y="137"/>
                    </a:lnTo>
                    <a:lnTo>
                      <a:pt x="468" y="114"/>
                    </a:lnTo>
                    <a:lnTo>
                      <a:pt x="511" y="93"/>
                    </a:lnTo>
                    <a:lnTo>
                      <a:pt x="553" y="74"/>
                    </a:lnTo>
                    <a:lnTo>
                      <a:pt x="593" y="56"/>
                    </a:lnTo>
                    <a:lnTo>
                      <a:pt x="630" y="42"/>
                    </a:lnTo>
                    <a:lnTo>
                      <a:pt x="664" y="29"/>
                    </a:lnTo>
                    <a:lnTo>
                      <a:pt x="693" y="19"/>
                    </a:lnTo>
                    <a:lnTo>
                      <a:pt x="735" y="4"/>
                    </a:lnTo>
                    <a:lnTo>
                      <a:pt x="750" y="0"/>
                    </a:lnTo>
                    <a:lnTo>
                      <a:pt x="752" y="8"/>
                    </a:lnTo>
                    <a:lnTo>
                      <a:pt x="753" y="14"/>
                    </a:lnTo>
                    <a:lnTo>
                      <a:pt x="752" y="21"/>
                    </a:lnTo>
                    <a:lnTo>
                      <a:pt x="751" y="28"/>
                    </a:lnTo>
                    <a:lnTo>
                      <a:pt x="745" y="41"/>
                    </a:lnTo>
                    <a:lnTo>
                      <a:pt x="736" y="55"/>
                    </a:lnTo>
                    <a:lnTo>
                      <a:pt x="726" y="70"/>
                    </a:lnTo>
                    <a:lnTo>
                      <a:pt x="715" y="88"/>
                    </a:lnTo>
                    <a:lnTo>
                      <a:pt x="711" y="97"/>
                    </a:lnTo>
                    <a:lnTo>
                      <a:pt x="706" y="108"/>
                    </a:lnTo>
                    <a:lnTo>
                      <a:pt x="701" y="119"/>
                    </a:lnTo>
                    <a:lnTo>
                      <a:pt x="698" y="131"/>
                    </a:lnTo>
                    <a:lnTo>
                      <a:pt x="696" y="137"/>
                    </a:lnTo>
                    <a:lnTo>
                      <a:pt x="694" y="144"/>
                    </a:lnTo>
                    <a:lnTo>
                      <a:pt x="690" y="150"/>
                    </a:lnTo>
                    <a:lnTo>
                      <a:pt x="685" y="157"/>
                    </a:lnTo>
                    <a:lnTo>
                      <a:pt x="673" y="171"/>
                    </a:lnTo>
                    <a:lnTo>
                      <a:pt x="658" y="185"/>
                    </a:lnTo>
                    <a:lnTo>
                      <a:pt x="620" y="219"/>
                    </a:lnTo>
                    <a:lnTo>
                      <a:pt x="573" y="262"/>
                    </a:lnTo>
                    <a:lnTo>
                      <a:pt x="547" y="287"/>
                    </a:lnTo>
                    <a:lnTo>
                      <a:pt x="519" y="316"/>
                    </a:lnTo>
                    <a:lnTo>
                      <a:pt x="489" y="347"/>
                    </a:lnTo>
                    <a:lnTo>
                      <a:pt x="458" y="382"/>
                    </a:lnTo>
                    <a:lnTo>
                      <a:pt x="442" y="402"/>
                    </a:lnTo>
                    <a:lnTo>
                      <a:pt x="427" y="422"/>
                    </a:lnTo>
                    <a:lnTo>
                      <a:pt x="411" y="443"/>
                    </a:lnTo>
                    <a:lnTo>
                      <a:pt x="395" y="466"/>
                    </a:lnTo>
                    <a:lnTo>
                      <a:pt x="378" y="489"/>
                    </a:lnTo>
                    <a:lnTo>
                      <a:pt x="362" y="514"/>
                    </a:lnTo>
                    <a:lnTo>
                      <a:pt x="346" y="541"/>
                    </a:lnTo>
                    <a:lnTo>
                      <a:pt x="330" y="568"/>
                    </a:lnTo>
                    <a:lnTo>
                      <a:pt x="270" y="673"/>
                    </a:lnTo>
                    <a:lnTo>
                      <a:pt x="221" y="763"/>
                    </a:lnTo>
                    <a:lnTo>
                      <a:pt x="180" y="837"/>
                    </a:lnTo>
                    <a:lnTo>
                      <a:pt x="146" y="895"/>
                    </a:lnTo>
                    <a:lnTo>
                      <a:pt x="132" y="918"/>
                    </a:lnTo>
                    <a:lnTo>
                      <a:pt x="120" y="938"/>
                    </a:lnTo>
                    <a:lnTo>
                      <a:pt x="109" y="953"/>
                    </a:lnTo>
                    <a:lnTo>
                      <a:pt x="101" y="964"/>
                    </a:lnTo>
                    <a:lnTo>
                      <a:pt x="96" y="967"/>
                    </a:lnTo>
                    <a:lnTo>
                      <a:pt x="93" y="970"/>
                    </a:lnTo>
                    <a:lnTo>
                      <a:pt x="89" y="971"/>
                    </a:lnTo>
                    <a:lnTo>
                      <a:pt x="87" y="972"/>
                    </a:lnTo>
                    <a:lnTo>
                      <a:pt x="84" y="972"/>
                    </a:lnTo>
                    <a:lnTo>
                      <a:pt x="81" y="970"/>
                    </a:lnTo>
                    <a:lnTo>
                      <a:pt x="79" y="968"/>
                    </a:lnTo>
                    <a:lnTo>
                      <a:pt x="78" y="965"/>
                    </a:lnTo>
                    <a:lnTo>
                      <a:pt x="74" y="957"/>
                    </a:lnTo>
                    <a:lnTo>
                      <a:pt x="72" y="949"/>
                    </a:lnTo>
                    <a:lnTo>
                      <a:pt x="69" y="943"/>
                    </a:lnTo>
                    <a:lnTo>
                      <a:pt x="69" y="934"/>
                    </a:lnTo>
                    <a:lnTo>
                      <a:pt x="69" y="925"/>
                    </a:lnTo>
                    <a:lnTo>
                      <a:pt x="71" y="911"/>
                    </a:lnTo>
                    <a:lnTo>
                      <a:pt x="72" y="893"/>
                    </a:lnTo>
                    <a:lnTo>
                      <a:pt x="75" y="871"/>
                    </a:lnTo>
                    <a:close/>
                  </a:path>
                </a:pathLst>
              </a:custGeom>
              <a:solidFill>
                <a:srgbClr val="7ca6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5338800" y="3540240"/>
                <a:ext cx="234720" cy="295200"/>
              </a:xfrm>
              <a:custGeom>
                <a:avLst/>
                <a:gdLst/>
                <a:ahLst/>
                <a:rect l="l" t="t" r="r" b="b"/>
                <a:pathLst>
                  <a:path w="740" h="933">
                    <a:moveTo>
                      <a:pt x="737" y="0"/>
                    </a:moveTo>
                    <a:lnTo>
                      <a:pt x="722" y="5"/>
                    </a:lnTo>
                    <a:lnTo>
                      <a:pt x="681" y="18"/>
                    </a:lnTo>
                    <a:lnTo>
                      <a:pt x="652" y="27"/>
                    </a:lnTo>
                    <a:lnTo>
                      <a:pt x="620" y="39"/>
                    </a:lnTo>
                    <a:lnTo>
                      <a:pt x="583" y="53"/>
                    </a:lnTo>
                    <a:lnTo>
                      <a:pt x="544" y="69"/>
                    </a:lnTo>
                    <a:lnTo>
                      <a:pt x="503" y="88"/>
                    </a:lnTo>
                    <a:lnTo>
                      <a:pt x="461" y="109"/>
                    </a:lnTo>
                    <a:lnTo>
                      <a:pt x="418" y="132"/>
                    </a:lnTo>
                    <a:lnTo>
                      <a:pt x="375" y="157"/>
                    </a:lnTo>
                    <a:lnTo>
                      <a:pt x="354" y="170"/>
                    </a:lnTo>
                    <a:lnTo>
                      <a:pt x="334" y="184"/>
                    </a:lnTo>
                    <a:lnTo>
                      <a:pt x="313" y="198"/>
                    </a:lnTo>
                    <a:lnTo>
                      <a:pt x="293" y="212"/>
                    </a:lnTo>
                    <a:lnTo>
                      <a:pt x="273" y="228"/>
                    </a:lnTo>
                    <a:lnTo>
                      <a:pt x="255" y="243"/>
                    </a:lnTo>
                    <a:lnTo>
                      <a:pt x="237" y="259"/>
                    </a:lnTo>
                    <a:lnTo>
                      <a:pt x="219" y="277"/>
                    </a:lnTo>
                    <a:lnTo>
                      <a:pt x="214" y="282"/>
                    </a:lnTo>
                    <a:lnTo>
                      <a:pt x="199" y="296"/>
                    </a:lnTo>
                    <a:lnTo>
                      <a:pt x="177" y="319"/>
                    </a:lnTo>
                    <a:lnTo>
                      <a:pt x="151" y="346"/>
                    </a:lnTo>
                    <a:lnTo>
                      <a:pt x="124" y="378"/>
                    </a:lnTo>
                    <a:lnTo>
                      <a:pt x="97" y="412"/>
                    </a:lnTo>
                    <a:lnTo>
                      <a:pt x="85" y="428"/>
                    </a:lnTo>
                    <a:lnTo>
                      <a:pt x="75" y="445"/>
                    </a:lnTo>
                    <a:lnTo>
                      <a:pt x="66" y="461"/>
                    </a:lnTo>
                    <a:lnTo>
                      <a:pt x="58" y="477"/>
                    </a:lnTo>
                    <a:lnTo>
                      <a:pt x="45" y="507"/>
                    </a:lnTo>
                    <a:lnTo>
                      <a:pt x="32" y="534"/>
                    </a:lnTo>
                    <a:lnTo>
                      <a:pt x="20" y="560"/>
                    </a:lnTo>
                    <a:lnTo>
                      <a:pt x="10" y="583"/>
                    </a:lnTo>
                    <a:lnTo>
                      <a:pt x="6" y="594"/>
                    </a:lnTo>
                    <a:lnTo>
                      <a:pt x="3" y="605"/>
                    </a:lnTo>
                    <a:lnTo>
                      <a:pt x="1" y="617"/>
                    </a:lnTo>
                    <a:lnTo>
                      <a:pt x="0" y="628"/>
                    </a:lnTo>
                    <a:lnTo>
                      <a:pt x="0" y="639"/>
                    </a:lnTo>
                    <a:lnTo>
                      <a:pt x="1" y="649"/>
                    </a:lnTo>
                    <a:lnTo>
                      <a:pt x="4" y="661"/>
                    </a:lnTo>
                    <a:lnTo>
                      <a:pt x="10" y="672"/>
                    </a:lnTo>
                    <a:lnTo>
                      <a:pt x="20" y="695"/>
                    </a:lnTo>
                    <a:lnTo>
                      <a:pt x="32" y="715"/>
                    </a:lnTo>
                    <a:lnTo>
                      <a:pt x="45" y="736"/>
                    </a:lnTo>
                    <a:lnTo>
                      <a:pt x="56" y="755"/>
                    </a:lnTo>
                    <a:lnTo>
                      <a:pt x="62" y="765"/>
                    </a:lnTo>
                    <a:lnTo>
                      <a:pt x="67" y="776"/>
                    </a:lnTo>
                    <a:lnTo>
                      <a:pt x="70" y="785"/>
                    </a:lnTo>
                    <a:lnTo>
                      <a:pt x="73" y="796"/>
                    </a:lnTo>
                    <a:lnTo>
                      <a:pt x="76" y="808"/>
                    </a:lnTo>
                    <a:lnTo>
                      <a:pt x="77" y="820"/>
                    </a:lnTo>
                    <a:lnTo>
                      <a:pt x="78" y="832"/>
                    </a:lnTo>
                    <a:lnTo>
                      <a:pt x="76" y="845"/>
                    </a:lnTo>
                    <a:lnTo>
                      <a:pt x="71" y="869"/>
                    </a:lnTo>
                    <a:lnTo>
                      <a:pt x="68" y="885"/>
                    </a:lnTo>
                    <a:lnTo>
                      <a:pt x="66" y="898"/>
                    </a:lnTo>
                    <a:lnTo>
                      <a:pt x="64" y="907"/>
                    </a:lnTo>
                    <a:lnTo>
                      <a:pt x="64" y="914"/>
                    </a:lnTo>
                    <a:lnTo>
                      <a:pt x="64" y="919"/>
                    </a:lnTo>
                    <a:lnTo>
                      <a:pt x="66" y="925"/>
                    </a:lnTo>
                    <a:lnTo>
                      <a:pt x="69" y="932"/>
                    </a:lnTo>
                    <a:lnTo>
                      <a:pt x="70" y="933"/>
                    </a:lnTo>
                    <a:lnTo>
                      <a:pt x="71" y="933"/>
                    </a:lnTo>
                    <a:lnTo>
                      <a:pt x="73" y="932"/>
                    </a:lnTo>
                    <a:lnTo>
                      <a:pt x="77" y="931"/>
                    </a:lnTo>
                    <a:lnTo>
                      <a:pt x="82" y="924"/>
                    </a:lnTo>
                    <a:lnTo>
                      <a:pt x="90" y="912"/>
                    </a:lnTo>
                    <a:lnTo>
                      <a:pt x="110" y="876"/>
                    </a:lnTo>
                    <a:lnTo>
                      <a:pt x="137" y="823"/>
                    </a:lnTo>
                    <a:lnTo>
                      <a:pt x="172" y="756"/>
                    </a:lnTo>
                    <a:lnTo>
                      <a:pt x="214" y="674"/>
                    </a:lnTo>
                    <a:lnTo>
                      <a:pt x="266" y="579"/>
                    </a:lnTo>
                    <a:lnTo>
                      <a:pt x="326" y="472"/>
                    </a:lnTo>
                    <a:lnTo>
                      <a:pt x="341" y="445"/>
                    </a:lnTo>
                    <a:lnTo>
                      <a:pt x="358" y="419"/>
                    </a:lnTo>
                    <a:lnTo>
                      <a:pt x="374" y="396"/>
                    </a:lnTo>
                    <a:lnTo>
                      <a:pt x="390" y="373"/>
                    </a:lnTo>
                    <a:lnTo>
                      <a:pt x="406" y="351"/>
                    </a:lnTo>
                    <a:lnTo>
                      <a:pt x="421" y="332"/>
                    </a:lnTo>
                    <a:lnTo>
                      <a:pt x="437" y="312"/>
                    </a:lnTo>
                    <a:lnTo>
                      <a:pt x="453" y="295"/>
                    </a:lnTo>
                    <a:lnTo>
                      <a:pt x="468" y="279"/>
                    </a:lnTo>
                    <a:lnTo>
                      <a:pt x="483" y="264"/>
                    </a:lnTo>
                    <a:lnTo>
                      <a:pt x="498" y="250"/>
                    </a:lnTo>
                    <a:lnTo>
                      <a:pt x="512" y="237"/>
                    </a:lnTo>
                    <a:lnTo>
                      <a:pt x="540" y="214"/>
                    </a:lnTo>
                    <a:lnTo>
                      <a:pt x="566" y="194"/>
                    </a:lnTo>
                    <a:lnTo>
                      <a:pt x="614" y="160"/>
                    </a:lnTo>
                    <a:lnTo>
                      <a:pt x="651" y="135"/>
                    </a:lnTo>
                    <a:lnTo>
                      <a:pt x="666" y="123"/>
                    </a:lnTo>
                    <a:lnTo>
                      <a:pt x="678" y="113"/>
                    </a:lnTo>
                    <a:lnTo>
                      <a:pt x="683" y="107"/>
                    </a:lnTo>
                    <a:lnTo>
                      <a:pt x="687" y="101"/>
                    </a:lnTo>
                    <a:lnTo>
                      <a:pt x="689" y="95"/>
                    </a:lnTo>
                    <a:lnTo>
                      <a:pt x="691" y="89"/>
                    </a:lnTo>
                    <a:lnTo>
                      <a:pt x="696" y="77"/>
                    </a:lnTo>
                    <a:lnTo>
                      <a:pt x="699" y="67"/>
                    </a:lnTo>
                    <a:lnTo>
                      <a:pt x="703" y="60"/>
                    </a:lnTo>
                    <a:lnTo>
                      <a:pt x="709" y="52"/>
                    </a:lnTo>
                    <a:lnTo>
                      <a:pt x="718" y="42"/>
                    </a:lnTo>
                    <a:lnTo>
                      <a:pt x="727" y="34"/>
                    </a:lnTo>
                    <a:lnTo>
                      <a:pt x="731" y="31"/>
                    </a:lnTo>
                    <a:lnTo>
                      <a:pt x="735" y="28"/>
                    </a:lnTo>
                    <a:lnTo>
                      <a:pt x="737" y="25"/>
                    </a:lnTo>
                    <a:lnTo>
                      <a:pt x="739" y="21"/>
                    </a:lnTo>
                    <a:lnTo>
                      <a:pt x="740" y="18"/>
                    </a:lnTo>
                    <a:lnTo>
                      <a:pt x="740" y="12"/>
                    </a:lnTo>
                    <a:lnTo>
                      <a:pt x="739" y="7"/>
                    </a:lnTo>
                    <a:lnTo>
                      <a:pt x="737" y="0"/>
                    </a:lnTo>
                    <a:close/>
                  </a:path>
                </a:pathLst>
              </a:custGeom>
              <a:solidFill>
                <a:srgbClr val="759e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5423040" y="3625920"/>
                <a:ext cx="134640" cy="263520"/>
              </a:xfrm>
              <a:custGeom>
                <a:avLst/>
                <a:gdLst/>
                <a:ahLst/>
                <a:rect l="l" t="t" r="r" b="b"/>
                <a:pathLst>
                  <a:path w="424" h="832">
                    <a:moveTo>
                      <a:pt x="424" y="0"/>
                    </a:moveTo>
                    <a:lnTo>
                      <a:pt x="411" y="20"/>
                    </a:lnTo>
                    <a:lnTo>
                      <a:pt x="376" y="72"/>
                    </a:lnTo>
                    <a:lnTo>
                      <a:pt x="324" y="147"/>
                    </a:lnTo>
                    <a:lnTo>
                      <a:pt x="261" y="240"/>
                    </a:lnTo>
                    <a:lnTo>
                      <a:pt x="195" y="341"/>
                    </a:lnTo>
                    <a:lnTo>
                      <a:pt x="132" y="442"/>
                    </a:lnTo>
                    <a:lnTo>
                      <a:pt x="102" y="490"/>
                    </a:lnTo>
                    <a:lnTo>
                      <a:pt x="76" y="535"/>
                    </a:lnTo>
                    <a:lnTo>
                      <a:pt x="54" y="576"/>
                    </a:lnTo>
                    <a:lnTo>
                      <a:pt x="37" y="612"/>
                    </a:lnTo>
                    <a:lnTo>
                      <a:pt x="29" y="628"/>
                    </a:lnTo>
                    <a:lnTo>
                      <a:pt x="22" y="644"/>
                    </a:lnTo>
                    <a:lnTo>
                      <a:pt x="17" y="660"/>
                    </a:lnTo>
                    <a:lnTo>
                      <a:pt x="13" y="675"/>
                    </a:lnTo>
                    <a:lnTo>
                      <a:pt x="8" y="689"/>
                    </a:lnTo>
                    <a:lnTo>
                      <a:pt x="5" y="705"/>
                    </a:lnTo>
                    <a:lnTo>
                      <a:pt x="3" y="717"/>
                    </a:lnTo>
                    <a:lnTo>
                      <a:pt x="1" y="732"/>
                    </a:lnTo>
                    <a:lnTo>
                      <a:pt x="0" y="743"/>
                    </a:lnTo>
                    <a:lnTo>
                      <a:pt x="0" y="755"/>
                    </a:lnTo>
                    <a:lnTo>
                      <a:pt x="1" y="766"/>
                    </a:lnTo>
                    <a:lnTo>
                      <a:pt x="2" y="777"/>
                    </a:lnTo>
                    <a:lnTo>
                      <a:pt x="3" y="787"/>
                    </a:lnTo>
                    <a:lnTo>
                      <a:pt x="5" y="795"/>
                    </a:lnTo>
                    <a:lnTo>
                      <a:pt x="8" y="803"/>
                    </a:lnTo>
                    <a:lnTo>
                      <a:pt x="12" y="810"/>
                    </a:lnTo>
                    <a:lnTo>
                      <a:pt x="16" y="817"/>
                    </a:lnTo>
                    <a:lnTo>
                      <a:pt x="20" y="821"/>
                    </a:lnTo>
                    <a:lnTo>
                      <a:pt x="25" y="825"/>
                    </a:lnTo>
                    <a:lnTo>
                      <a:pt x="30" y="829"/>
                    </a:lnTo>
                    <a:lnTo>
                      <a:pt x="35" y="831"/>
                    </a:lnTo>
                    <a:lnTo>
                      <a:pt x="41" y="832"/>
                    </a:lnTo>
                    <a:lnTo>
                      <a:pt x="47" y="832"/>
                    </a:lnTo>
                    <a:lnTo>
                      <a:pt x="54" y="831"/>
                    </a:lnTo>
                    <a:lnTo>
                      <a:pt x="60" y="828"/>
                    </a:lnTo>
                    <a:lnTo>
                      <a:pt x="68" y="824"/>
                    </a:lnTo>
                    <a:lnTo>
                      <a:pt x="75" y="819"/>
                    </a:lnTo>
                    <a:lnTo>
                      <a:pt x="82" y="813"/>
                    </a:lnTo>
                    <a:lnTo>
                      <a:pt x="89" y="804"/>
                    </a:lnTo>
                    <a:lnTo>
                      <a:pt x="97" y="795"/>
                    </a:lnTo>
                    <a:lnTo>
                      <a:pt x="106" y="784"/>
                    </a:lnTo>
                    <a:lnTo>
                      <a:pt x="113" y="773"/>
                    </a:lnTo>
                    <a:lnTo>
                      <a:pt x="147" y="716"/>
                    </a:lnTo>
                    <a:lnTo>
                      <a:pt x="185" y="657"/>
                    </a:lnTo>
                    <a:lnTo>
                      <a:pt x="224" y="594"/>
                    </a:lnTo>
                    <a:lnTo>
                      <a:pt x="263" y="531"/>
                    </a:lnTo>
                    <a:lnTo>
                      <a:pt x="300" y="469"/>
                    </a:lnTo>
                    <a:lnTo>
                      <a:pt x="334" y="412"/>
                    </a:lnTo>
                    <a:lnTo>
                      <a:pt x="348" y="385"/>
                    </a:lnTo>
                    <a:lnTo>
                      <a:pt x="361" y="360"/>
                    </a:lnTo>
                    <a:lnTo>
                      <a:pt x="371" y="337"/>
                    </a:lnTo>
                    <a:lnTo>
                      <a:pt x="380" y="317"/>
                    </a:lnTo>
                    <a:lnTo>
                      <a:pt x="388" y="297"/>
                    </a:lnTo>
                    <a:lnTo>
                      <a:pt x="393" y="276"/>
                    </a:lnTo>
                    <a:lnTo>
                      <a:pt x="399" y="251"/>
                    </a:lnTo>
                    <a:lnTo>
                      <a:pt x="404" y="226"/>
                    </a:lnTo>
                    <a:lnTo>
                      <a:pt x="411" y="173"/>
                    </a:lnTo>
                    <a:lnTo>
                      <a:pt x="417" y="122"/>
                    </a:lnTo>
                    <a:lnTo>
                      <a:pt x="421" y="75"/>
                    </a:lnTo>
                    <a:lnTo>
                      <a:pt x="423" y="36"/>
                    </a:lnTo>
                    <a:lnTo>
                      <a:pt x="424" y="10"/>
                    </a:lnTo>
                    <a:lnTo>
                      <a:pt x="424" y="0"/>
                    </a:lnTo>
                    <a:close/>
                  </a:path>
                </a:pathLst>
              </a:custGeom>
              <a:solidFill>
                <a:srgbClr val="9dca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5438880" y="3625920"/>
                <a:ext cx="118800" cy="236520"/>
              </a:xfrm>
              <a:custGeom>
                <a:avLst/>
                <a:gdLst/>
                <a:ahLst/>
                <a:rect l="l" t="t" r="r" b="b"/>
                <a:pathLst>
                  <a:path w="373" h="744">
                    <a:moveTo>
                      <a:pt x="30" y="550"/>
                    </a:moveTo>
                    <a:lnTo>
                      <a:pt x="46" y="518"/>
                    </a:lnTo>
                    <a:lnTo>
                      <a:pt x="67" y="481"/>
                    </a:lnTo>
                    <a:lnTo>
                      <a:pt x="89" y="440"/>
                    </a:lnTo>
                    <a:lnTo>
                      <a:pt x="115" y="397"/>
                    </a:lnTo>
                    <a:lnTo>
                      <a:pt x="171" y="306"/>
                    </a:lnTo>
                    <a:lnTo>
                      <a:pt x="230" y="216"/>
                    </a:lnTo>
                    <a:lnTo>
                      <a:pt x="285" y="133"/>
                    </a:lnTo>
                    <a:lnTo>
                      <a:pt x="330" y="64"/>
                    </a:lnTo>
                    <a:lnTo>
                      <a:pt x="361" y="18"/>
                    </a:lnTo>
                    <a:lnTo>
                      <a:pt x="373" y="0"/>
                    </a:lnTo>
                    <a:lnTo>
                      <a:pt x="373" y="9"/>
                    </a:lnTo>
                    <a:lnTo>
                      <a:pt x="372" y="33"/>
                    </a:lnTo>
                    <a:lnTo>
                      <a:pt x="371" y="67"/>
                    </a:lnTo>
                    <a:lnTo>
                      <a:pt x="368" y="109"/>
                    </a:lnTo>
                    <a:lnTo>
                      <a:pt x="364" y="156"/>
                    </a:lnTo>
                    <a:lnTo>
                      <a:pt x="357" y="203"/>
                    </a:lnTo>
                    <a:lnTo>
                      <a:pt x="353" y="226"/>
                    </a:lnTo>
                    <a:lnTo>
                      <a:pt x="348" y="248"/>
                    </a:lnTo>
                    <a:lnTo>
                      <a:pt x="343" y="267"/>
                    </a:lnTo>
                    <a:lnTo>
                      <a:pt x="337" y="285"/>
                    </a:lnTo>
                    <a:lnTo>
                      <a:pt x="329" y="303"/>
                    </a:lnTo>
                    <a:lnTo>
                      <a:pt x="319" y="323"/>
                    </a:lnTo>
                    <a:lnTo>
                      <a:pt x="309" y="345"/>
                    </a:lnTo>
                    <a:lnTo>
                      <a:pt x="296" y="369"/>
                    </a:lnTo>
                    <a:lnTo>
                      <a:pt x="266" y="420"/>
                    </a:lnTo>
                    <a:lnTo>
                      <a:pt x="234" y="476"/>
                    </a:lnTo>
                    <a:lnTo>
                      <a:pt x="199" y="533"/>
                    </a:lnTo>
                    <a:lnTo>
                      <a:pt x="165" y="589"/>
                    </a:lnTo>
                    <a:lnTo>
                      <a:pt x="131" y="642"/>
                    </a:lnTo>
                    <a:lnTo>
                      <a:pt x="102" y="690"/>
                    </a:lnTo>
                    <a:lnTo>
                      <a:pt x="95" y="701"/>
                    </a:lnTo>
                    <a:lnTo>
                      <a:pt x="88" y="711"/>
                    </a:lnTo>
                    <a:lnTo>
                      <a:pt x="81" y="720"/>
                    </a:lnTo>
                    <a:lnTo>
                      <a:pt x="74" y="726"/>
                    </a:lnTo>
                    <a:lnTo>
                      <a:pt x="68" y="733"/>
                    </a:lnTo>
                    <a:lnTo>
                      <a:pt x="61" y="737"/>
                    </a:lnTo>
                    <a:lnTo>
                      <a:pt x="55" y="740"/>
                    </a:lnTo>
                    <a:lnTo>
                      <a:pt x="49" y="742"/>
                    </a:lnTo>
                    <a:lnTo>
                      <a:pt x="44" y="743"/>
                    </a:lnTo>
                    <a:lnTo>
                      <a:pt x="37" y="744"/>
                    </a:lnTo>
                    <a:lnTo>
                      <a:pt x="32" y="743"/>
                    </a:lnTo>
                    <a:lnTo>
                      <a:pt x="28" y="741"/>
                    </a:lnTo>
                    <a:lnTo>
                      <a:pt x="23" y="738"/>
                    </a:lnTo>
                    <a:lnTo>
                      <a:pt x="19" y="735"/>
                    </a:lnTo>
                    <a:lnTo>
                      <a:pt x="15" y="730"/>
                    </a:lnTo>
                    <a:lnTo>
                      <a:pt x="11" y="725"/>
                    </a:lnTo>
                    <a:lnTo>
                      <a:pt x="8" y="719"/>
                    </a:lnTo>
                    <a:lnTo>
                      <a:pt x="5" y="711"/>
                    </a:lnTo>
                    <a:lnTo>
                      <a:pt x="3" y="703"/>
                    </a:lnTo>
                    <a:lnTo>
                      <a:pt x="2" y="695"/>
                    </a:lnTo>
                    <a:lnTo>
                      <a:pt x="1" y="686"/>
                    </a:lnTo>
                    <a:lnTo>
                      <a:pt x="0" y="676"/>
                    </a:lnTo>
                    <a:lnTo>
                      <a:pt x="0" y="666"/>
                    </a:lnTo>
                    <a:lnTo>
                      <a:pt x="1" y="655"/>
                    </a:lnTo>
                    <a:lnTo>
                      <a:pt x="2" y="643"/>
                    </a:lnTo>
                    <a:lnTo>
                      <a:pt x="4" y="631"/>
                    </a:lnTo>
                    <a:lnTo>
                      <a:pt x="6" y="618"/>
                    </a:lnTo>
                    <a:lnTo>
                      <a:pt x="9" y="605"/>
                    </a:lnTo>
                    <a:lnTo>
                      <a:pt x="14" y="592"/>
                    </a:lnTo>
                    <a:lnTo>
                      <a:pt x="18" y="578"/>
                    </a:lnTo>
                    <a:lnTo>
                      <a:pt x="23" y="564"/>
                    </a:lnTo>
                    <a:lnTo>
                      <a:pt x="30" y="550"/>
                    </a:lnTo>
                    <a:close/>
                  </a:path>
                </a:pathLst>
              </a:custGeom>
              <a:solidFill>
                <a:srgbClr val="98c4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5454720" y="3625920"/>
                <a:ext cx="102960" cy="208080"/>
              </a:xfrm>
              <a:custGeom>
                <a:avLst/>
                <a:gdLst/>
                <a:ahLst/>
                <a:rect l="l" t="t" r="r" b="b"/>
                <a:pathLst>
                  <a:path w="322" h="656">
                    <a:moveTo>
                      <a:pt x="26" y="485"/>
                    </a:moveTo>
                    <a:lnTo>
                      <a:pt x="40" y="457"/>
                    </a:lnTo>
                    <a:lnTo>
                      <a:pt x="58" y="424"/>
                    </a:lnTo>
                    <a:lnTo>
                      <a:pt x="77" y="388"/>
                    </a:lnTo>
                    <a:lnTo>
                      <a:pt x="100" y="350"/>
                    </a:lnTo>
                    <a:lnTo>
                      <a:pt x="148" y="270"/>
                    </a:lnTo>
                    <a:lnTo>
                      <a:pt x="198" y="190"/>
                    </a:lnTo>
                    <a:lnTo>
                      <a:pt x="246" y="117"/>
                    </a:lnTo>
                    <a:lnTo>
                      <a:pt x="286" y="57"/>
                    </a:lnTo>
                    <a:lnTo>
                      <a:pt x="313" y="15"/>
                    </a:lnTo>
                    <a:lnTo>
                      <a:pt x="322" y="0"/>
                    </a:lnTo>
                    <a:lnTo>
                      <a:pt x="322" y="8"/>
                    </a:lnTo>
                    <a:lnTo>
                      <a:pt x="322" y="28"/>
                    </a:lnTo>
                    <a:lnTo>
                      <a:pt x="321" y="59"/>
                    </a:lnTo>
                    <a:lnTo>
                      <a:pt x="319" y="96"/>
                    </a:lnTo>
                    <a:lnTo>
                      <a:pt x="316" y="136"/>
                    </a:lnTo>
                    <a:lnTo>
                      <a:pt x="310" y="179"/>
                    </a:lnTo>
                    <a:lnTo>
                      <a:pt x="307" y="198"/>
                    </a:lnTo>
                    <a:lnTo>
                      <a:pt x="303" y="217"/>
                    </a:lnTo>
                    <a:lnTo>
                      <a:pt x="299" y="235"/>
                    </a:lnTo>
                    <a:lnTo>
                      <a:pt x="293" y="251"/>
                    </a:lnTo>
                    <a:lnTo>
                      <a:pt x="287" y="266"/>
                    </a:lnTo>
                    <a:lnTo>
                      <a:pt x="278" y="284"/>
                    </a:lnTo>
                    <a:lnTo>
                      <a:pt x="268" y="304"/>
                    </a:lnTo>
                    <a:lnTo>
                      <a:pt x="258" y="325"/>
                    </a:lnTo>
                    <a:lnTo>
                      <a:pt x="233" y="371"/>
                    </a:lnTo>
                    <a:lnTo>
                      <a:pt x="204" y="419"/>
                    </a:lnTo>
                    <a:lnTo>
                      <a:pt x="173" y="470"/>
                    </a:lnTo>
                    <a:lnTo>
                      <a:pt x="144" y="519"/>
                    </a:lnTo>
                    <a:lnTo>
                      <a:pt x="116" y="566"/>
                    </a:lnTo>
                    <a:lnTo>
                      <a:pt x="90" y="608"/>
                    </a:lnTo>
                    <a:lnTo>
                      <a:pt x="85" y="618"/>
                    </a:lnTo>
                    <a:lnTo>
                      <a:pt x="78" y="627"/>
                    </a:lnTo>
                    <a:lnTo>
                      <a:pt x="73" y="634"/>
                    </a:lnTo>
                    <a:lnTo>
                      <a:pt x="66" y="641"/>
                    </a:lnTo>
                    <a:lnTo>
                      <a:pt x="61" y="646"/>
                    </a:lnTo>
                    <a:lnTo>
                      <a:pt x="56" y="649"/>
                    </a:lnTo>
                    <a:lnTo>
                      <a:pt x="50" y="653"/>
                    </a:lnTo>
                    <a:lnTo>
                      <a:pt x="45" y="655"/>
                    </a:lnTo>
                    <a:lnTo>
                      <a:pt x="39" y="656"/>
                    </a:lnTo>
                    <a:lnTo>
                      <a:pt x="34" y="656"/>
                    </a:lnTo>
                    <a:lnTo>
                      <a:pt x="30" y="656"/>
                    </a:lnTo>
                    <a:lnTo>
                      <a:pt x="25" y="654"/>
                    </a:lnTo>
                    <a:lnTo>
                      <a:pt x="21" y="652"/>
                    </a:lnTo>
                    <a:lnTo>
                      <a:pt x="18" y="648"/>
                    </a:lnTo>
                    <a:lnTo>
                      <a:pt x="14" y="644"/>
                    </a:lnTo>
                    <a:lnTo>
                      <a:pt x="11" y="640"/>
                    </a:lnTo>
                    <a:lnTo>
                      <a:pt x="8" y="634"/>
                    </a:lnTo>
                    <a:lnTo>
                      <a:pt x="6" y="628"/>
                    </a:lnTo>
                    <a:lnTo>
                      <a:pt x="4" y="621"/>
                    </a:lnTo>
                    <a:lnTo>
                      <a:pt x="3" y="614"/>
                    </a:lnTo>
                    <a:lnTo>
                      <a:pt x="0" y="598"/>
                    </a:lnTo>
                    <a:lnTo>
                      <a:pt x="0" y="578"/>
                    </a:lnTo>
                    <a:lnTo>
                      <a:pt x="4" y="558"/>
                    </a:lnTo>
                    <a:lnTo>
                      <a:pt x="8" y="535"/>
                    </a:lnTo>
                    <a:lnTo>
                      <a:pt x="16" y="511"/>
                    </a:lnTo>
                    <a:lnTo>
                      <a:pt x="26" y="485"/>
                    </a:lnTo>
                    <a:close/>
                  </a:path>
                </a:pathLst>
              </a:custGeom>
              <a:solidFill>
                <a:srgbClr val="8eba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5470560" y="3627360"/>
                <a:ext cx="88920" cy="179640"/>
              </a:xfrm>
              <a:custGeom>
                <a:avLst/>
                <a:gdLst/>
                <a:ahLst/>
                <a:rect l="l" t="t" r="r" b="b"/>
                <a:pathLst>
                  <a:path w="276" h="568">
                    <a:moveTo>
                      <a:pt x="23" y="420"/>
                    </a:moveTo>
                    <a:lnTo>
                      <a:pt x="35" y="395"/>
                    </a:lnTo>
                    <a:lnTo>
                      <a:pt x="49" y="366"/>
                    </a:lnTo>
                    <a:lnTo>
                      <a:pt x="66" y="334"/>
                    </a:lnTo>
                    <a:lnTo>
                      <a:pt x="84" y="302"/>
                    </a:lnTo>
                    <a:lnTo>
                      <a:pt x="125" y="232"/>
                    </a:lnTo>
                    <a:lnTo>
                      <a:pt x="169" y="163"/>
                    </a:lnTo>
                    <a:lnTo>
                      <a:pt x="209" y="100"/>
                    </a:lnTo>
                    <a:lnTo>
                      <a:pt x="243" y="47"/>
                    </a:lnTo>
                    <a:lnTo>
                      <a:pt x="267" y="13"/>
                    </a:lnTo>
                    <a:lnTo>
                      <a:pt x="276" y="0"/>
                    </a:lnTo>
                    <a:lnTo>
                      <a:pt x="276" y="6"/>
                    </a:lnTo>
                    <a:lnTo>
                      <a:pt x="274" y="23"/>
                    </a:lnTo>
                    <a:lnTo>
                      <a:pt x="273" y="49"/>
                    </a:lnTo>
                    <a:lnTo>
                      <a:pt x="272" y="81"/>
                    </a:lnTo>
                    <a:lnTo>
                      <a:pt x="269" y="116"/>
                    </a:lnTo>
                    <a:lnTo>
                      <a:pt x="265" y="152"/>
                    </a:lnTo>
                    <a:lnTo>
                      <a:pt x="262" y="169"/>
                    </a:lnTo>
                    <a:lnTo>
                      <a:pt x="258" y="185"/>
                    </a:lnTo>
                    <a:lnTo>
                      <a:pt x="255" y="200"/>
                    </a:lnTo>
                    <a:lnTo>
                      <a:pt x="251" y="215"/>
                    </a:lnTo>
                    <a:lnTo>
                      <a:pt x="238" y="243"/>
                    </a:lnTo>
                    <a:lnTo>
                      <a:pt x="220" y="278"/>
                    </a:lnTo>
                    <a:lnTo>
                      <a:pt x="199" y="317"/>
                    </a:lnTo>
                    <a:lnTo>
                      <a:pt x="175" y="360"/>
                    </a:lnTo>
                    <a:lnTo>
                      <a:pt x="149" y="404"/>
                    </a:lnTo>
                    <a:lnTo>
                      <a:pt x="124" y="447"/>
                    </a:lnTo>
                    <a:lnTo>
                      <a:pt x="99" y="488"/>
                    </a:lnTo>
                    <a:lnTo>
                      <a:pt x="78" y="526"/>
                    </a:lnTo>
                    <a:lnTo>
                      <a:pt x="72" y="534"/>
                    </a:lnTo>
                    <a:lnTo>
                      <a:pt x="67" y="542"/>
                    </a:lnTo>
                    <a:lnTo>
                      <a:pt x="62" y="548"/>
                    </a:lnTo>
                    <a:lnTo>
                      <a:pt x="57" y="554"/>
                    </a:lnTo>
                    <a:lnTo>
                      <a:pt x="52" y="558"/>
                    </a:lnTo>
                    <a:lnTo>
                      <a:pt x="48" y="561"/>
                    </a:lnTo>
                    <a:lnTo>
                      <a:pt x="43" y="564"/>
                    </a:lnTo>
                    <a:lnTo>
                      <a:pt x="38" y="566"/>
                    </a:lnTo>
                    <a:lnTo>
                      <a:pt x="34" y="567"/>
                    </a:lnTo>
                    <a:lnTo>
                      <a:pt x="29" y="568"/>
                    </a:lnTo>
                    <a:lnTo>
                      <a:pt x="26" y="567"/>
                    </a:lnTo>
                    <a:lnTo>
                      <a:pt x="22" y="566"/>
                    </a:lnTo>
                    <a:lnTo>
                      <a:pt x="18" y="563"/>
                    </a:lnTo>
                    <a:lnTo>
                      <a:pt x="15" y="561"/>
                    </a:lnTo>
                    <a:lnTo>
                      <a:pt x="12" y="557"/>
                    </a:lnTo>
                    <a:lnTo>
                      <a:pt x="10" y="554"/>
                    </a:lnTo>
                    <a:lnTo>
                      <a:pt x="4" y="544"/>
                    </a:lnTo>
                    <a:lnTo>
                      <a:pt x="2" y="531"/>
                    </a:lnTo>
                    <a:lnTo>
                      <a:pt x="0" y="517"/>
                    </a:lnTo>
                    <a:lnTo>
                      <a:pt x="1" y="501"/>
                    </a:lnTo>
                    <a:lnTo>
                      <a:pt x="3" y="482"/>
                    </a:lnTo>
                    <a:lnTo>
                      <a:pt x="8" y="463"/>
                    </a:lnTo>
                    <a:lnTo>
                      <a:pt x="14" y="441"/>
                    </a:lnTo>
                    <a:lnTo>
                      <a:pt x="23" y="420"/>
                    </a:lnTo>
                    <a:close/>
                  </a:path>
                </a:pathLst>
              </a:custGeom>
              <a:solidFill>
                <a:srgbClr val="89b4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5487840" y="3627360"/>
                <a:ext cx="71640" cy="152640"/>
              </a:xfrm>
              <a:custGeom>
                <a:avLst/>
                <a:gdLst/>
                <a:ahLst/>
                <a:rect l="l" t="t" r="r" b="b"/>
                <a:pathLst>
                  <a:path w="225" h="480">
                    <a:moveTo>
                      <a:pt x="16" y="355"/>
                    </a:moveTo>
                    <a:lnTo>
                      <a:pt x="26" y="334"/>
                    </a:lnTo>
                    <a:lnTo>
                      <a:pt x="38" y="311"/>
                    </a:lnTo>
                    <a:lnTo>
                      <a:pt x="52" y="284"/>
                    </a:lnTo>
                    <a:lnTo>
                      <a:pt x="68" y="256"/>
                    </a:lnTo>
                    <a:lnTo>
                      <a:pt x="101" y="197"/>
                    </a:lnTo>
                    <a:lnTo>
                      <a:pt x="137" y="138"/>
                    </a:lnTo>
                    <a:lnTo>
                      <a:pt x="171" y="85"/>
                    </a:lnTo>
                    <a:lnTo>
                      <a:pt x="198" y="41"/>
                    </a:lnTo>
                    <a:lnTo>
                      <a:pt x="217" y="10"/>
                    </a:lnTo>
                    <a:lnTo>
                      <a:pt x="225" y="0"/>
                    </a:lnTo>
                    <a:lnTo>
                      <a:pt x="225" y="5"/>
                    </a:lnTo>
                    <a:lnTo>
                      <a:pt x="223" y="19"/>
                    </a:lnTo>
                    <a:lnTo>
                      <a:pt x="223" y="42"/>
                    </a:lnTo>
                    <a:lnTo>
                      <a:pt x="222" y="69"/>
                    </a:lnTo>
                    <a:lnTo>
                      <a:pt x="220" y="98"/>
                    </a:lnTo>
                    <a:lnTo>
                      <a:pt x="217" y="128"/>
                    </a:lnTo>
                    <a:lnTo>
                      <a:pt x="213" y="156"/>
                    </a:lnTo>
                    <a:lnTo>
                      <a:pt x="207" y="180"/>
                    </a:lnTo>
                    <a:lnTo>
                      <a:pt x="196" y="204"/>
                    </a:lnTo>
                    <a:lnTo>
                      <a:pt x="182" y="234"/>
                    </a:lnTo>
                    <a:lnTo>
                      <a:pt x="165" y="267"/>
                    </a:lnTo>
                    <a:lnTo>
                      <a:pt x="146" y="303"/>
                    </a:lnTo>
                    <a:lnTo>
                      <a:pt x="125" y="340"/>
                    </a:lnTo>
                    <a:lnTo>
                      <a:pt x="104" y="377"/>
                    </a:lnTo>
                    <a:lnTo>
                      <a:pt x="84" y="412"/>
                    </a:lnTo>
                    <a:lnTo>
                      <a:pt x="66" y="445"/>
                    </a:lnTo>
                    <a:lnTo>
                      <a:pt x="57" y="458"/>
                    </a:lnTo>
                    <a:lnTo>
                      <a:pt x="50" y="468"/>
                    </a:lnTo>
                    <a:lnTo>
                      <a:pt x="45" y="472"/>
                    </a:lnTo>
                    <a:lnTo>
                      <a:pt x="41" y="475"/>
                    </a:lnTo>
                    <a:lnTo>
                      <a:pt x="38" y="478"/>
                    </a:lnTo>
                    <a:lnTo>
                      <a:pt x="33" y="479"/>
                    </a:lnTo>
                    <a:lnTo>
                      <a:pt x="30" y="480"/>
                    </a:lnTo>
                    <a:lnTo>
                      <a:pt x="26" y="480"/>
                    </a:lnTo>
                    <a:lnTo>
                      <a:pt x="23" y="480"/>
                    </a:lnTo>
                    <a:lnTo>
                      <a:pt x="19" y="479"/>
                    </a:lnTo>
                    <a:lnTo>
                      <a:pt x="16" y="478"/>
                    </a:lnTo>
                    <a:lnTo>
                      <a:pt x="14" y="476"/>
                    </a:lnTo>
                    <a:lnTo>
                      <a:pt x="11" y="473"/>
                    </a:lnTo>
                    <a:lnTo>
                      <a:pt x="9" y="469"/>
                    </a:lnTo>
                    <a:lnTo>
                      <a:pt x="5" y="461"/>
                    </a:lnTo>
                    <a:lnTo>
                      <a:pt x="2" y="451"/>
                    </a:lnTo>
                    <a:lnTo>
                      <a:pt x="0" y="438"/>
                    </a:lnTo>
                    <a:lnTo>
                      <a:pt x="0" y="424"/>
                    </a:lnTo>
                    <a:lnTo>
                      <a:pt x="2" y="409"/>
                    </a:lnTo>
                    <a:lnTo>
                      <a:pt x="4" y="393"/>
                    </a:lnTo>
                    <a:lnTo>
                      <a:pt x="10" y="374"/>
                    </a:lnTo>
                    <a:lnTo>
                      <a:pt x="16" y="355"/>
                    </a:lnTo>
                    <a:close/>
                  </a:path>
                </a:pathLst>
              </a:custGeom>
              <a:solidFill>
                <a:srgbClr val="82ad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5503680" y="3627360"/>
                <a:ext cx="55800" cy="123840"/>
              </a:xfrm>
              <a:custGeom>
                <a:avLst/>
                <a:gdLst/>
                <a:ahLst/>
                <a:rect l="l" t="t" r="r" b="b"/>
                <a:pathLst>
                  <a:path w="173" h="393">
                    <a:moveTo>
                      <a:pt x="12" y="291"/>
                    </a:moveTo>
                    <a:lnTo>
                      <a:pt x="18" y="274"/>
                    </a:lnTo>
                    <a:lnTo>
                      <a:pt x="28" y="254"/>
                    </a:lnTo>
                    <a:lnTo>
                      <a:pt x="39" y="233"/>
                    </a:lnTo>
                    <a:lnTo>
                      <a:pt x="51" y="210"/>
                    </a:lnTo>
                    <a:lnTo>
                      <a:pt x="76" y="162"/>
                    </a:lnTo>
                    <a:lnTo>
                      <a:pt x="103" y="114"/>
                    </a:lnTo>
                    <a:lnTo>
                      <a:pt x="129" y="70"/>
                    </a:lnTo>
                    <a:lnTo>
                      <a:pt x="152" y="33"/>
                    </a:lnTo>
                    <a:lnTo>
                      <a:pt x="166" y="8"/>
                    </a:lnTo>
                    <a:lnTo>
                      <a:pt x="173" y="0"/>
                    </a:lnTo>
                    <a:lnTo>
                      <a:pt x="173" y="4"/>
                    </a:lnTo>
                    <a:lnTo>
                      <a:pt x="173" y="16"/>
                    </a:lnTo>
                    <a:lnTo>
                      <a:pt x="173" y="33"/>
                    </a:lnTo>
                    <a:lnTo>
                      <a:pt x="171" y="55"/>
                    </a:lnTo>
                    <a:lnTo>
                      <a:pt x="170" y="78"/>
                    </a:lnTo>
                    <a:lnTo>
                      <a:pt x="168" y="102"/>
                    </a:lnTo>
                    <a:lnTo>
                      <a:pt x="165" y="125"/>
                    </a:lnTo>
                    <a:lnTo>
                      <a:pt x="160" y="145"/>
                    </a:lnTo>
                    <a:lnTo>
                      <a:pt x="152" y="165"/>
                    </a:lnTo>
                    <a:lnTo>
                      <a:pt x="141" y="190"/>
                    </a:lnTo>
                    <a:lnTo>
                      <a:pt x="128" y="217"/>
                    </a:lnTo>
                    <a:lnTo>
                      <a:pt x="113" y="247"/>
                    </a:lnTo>
                    <a:lnTo>
                      <a:pt x="97" y="277"/>
                    </a:lnTo>
                    <a:lnTo>
                      <a:pt x="82" y="307"/>
                    </a:lnTo>
                    <a:lnTo>
                      <a:pt x="67" y="337"/>
                    </a:lnTo>
                    <a:lnTo>
                      <a:pt x="54" y="362"/>
                    </a:lnTo>
                    <a:lnTo>
                      <a:pt x="47" y="373"/>
                    </a:lnTo>
                    <a:lnTo>
                      <a:pt x="41" y="382"/>
                    </a:lnTo>
                    <a:lnTo>
                      <a:pt x="34" y="388"/>
                    </a:lnTo>
                    <a:lnTo>
                      <a:pt x="28" y="392"/>
                    </a:lnTo>
                    <a:lnTo>
                      <a:pt x="25" y="393"/>
                    </a:lnTo>
                    <a:lnTo>
                      <a:pt x="22" y="393"/>
                    </a:lnTo>
                    <a:lnTo>
                      <a:pt x="19" y="393"/>
                    </a:lnTo>
                    <a:lnTo>
                      <a:pt x="17" y="392"/>
                    </a:lnTo>
                    <a:lnTo>
                      <a:pt x="12" y="388"/>
                    </a:lnTo>
                    <a:lnTo>
                      <a:pt x="7" y="383"/>
                    </a:lnTo>
                    <a:lnTo>
                      <a:pt x="4" y="377"/>
                    </a:lnTo>
                    <a:lnTo>
                      <a:pt x="2" y="368"/>
                    </a:lnTo>
                    <a:lnTo>
                      <a:pt x="0" y="358"/>
                    </a:lnTo>
                    <a:lnTo>
                      <a:pt x="0" y="347"/>
                    </a:lnTo>
                    <a:lnTo>
                      <a:pt x="1" y="334"/>
                    </a:lnTo>
                    <a:lnTo>
                      <a:pt x="3" y="321"/>
                    </a:lnTo>
                    <a:lnTo>
                      <a:pt x="6" y="306"/>
                    </a:lnTo>
                    <a:lnTo>
                      <a:pt x="12" y="291"/>
                    </a:lnTo>
                    <a:close/>
                  </a:path>
                </a:pathLst>
              </a:custGeom>
              <a:solidFill>
                <a:srgbClr val="7ea9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5519880" y="3627360"/>
                <a:ext cx="39600" cy="96840"/>
              </a:xfrm>
              <a:custGeom>
                <a:avLst/>
                <a:gdLst/>
                <a:ahLst/>
                <a:rect l="l" t="t" r="r" b="b"/>
                <a:pathLst>
                  <a:path w="123" h="305">
                    <a:moveTo>
                      <a:pt x="7" y="230"/>
                    </a:moveTo>
                    <a:lnTo>
                      <a:pt x="19" y="200"/>
                    </a:lnTo>
                    <a:lnTo>
                      <a:pt x="34" y="165"/>
                    </a:lnTo>
                    <a:lnTo>
                      <a:pt x="54" y="127"/>
                    </a:lnTo>
                    <a:lnTo>
                      <a:pt x="73" y="89"/>
                    </a:lnTo>
                    <a:lnTo>
                      <a:pt x="91" y="55"/>
                    </a:lnTo>
                    <a:lnTo>
                      <a:pt x="106" y="26"/>
                    </a:lnTo>
                    <a:lnTo>
                      <a:pt x="117" y="6"/>
                    </a:lnTo>
                    <a:lnTo>
                      <a:pt x="122" y="0"/>
                    </a:lnTo>
                    <a:lnTo>
                      <a:pt x="122" y="3"/>
                    </a:lnTo>
                    <a:lnTo>
                      <a:pt x="122" y="11"/>
                    </a:lnTo>
                    <a:lnTo>
                      <a:pt x="123" y="26"/>
                    </a:lnTo>
                    <a:lnTo>
                      <a:pt x="123" y="43"/>
                    </a:lnTo>
                    <a:lnTo>
                      <a:pt x="123" y="61"/>
                    </a:lnTo>
                    <a:lnTo>
                      <a:pt x="122" y="80"/>
                    </a:lnTo>
                    <a:lnTo>
                      <a:pt x="119" y="98"/>
                    </a:lnTo>
                    <a:lnTo>
                      <a:pt x="116" y="113"/>
                    </a:lnTo>
                    <a:lnTo>
                      <a:pt x="111" y="129"/>
                    </a:lnTo>
                    <a:lnTo>
                      <a:pt x="103" y="148"/>
                    </a:lnTo>
                    <a:lnTo>
                      <a:pt x="95" y="169"/>
                    </a:lnTo>
                    <a:lnTo>
                      <a:pt x="84" y="192"/>
                    </a:lnTo>
                    <a:lnTo>
                      <a:pt x="72" y="215"/>
                    </a:lnTo>
                    <a:lnTo>
                      <a:pt x="61" y="238"/>
                    </a:lnTo>
                    <a:lnTo>
                      <a:pt x="49" y="261"/>
                    </a:lnTo>
                    <a:lnTo>
                      <a:pt x="39" y="281"/>
                    </a:lnTo>
                    <a:lnTo>
                      <a:pt x="35" y="290"/>
                    </a:lnTo>
                    <a:lnTo>
                      <a:pt x="30" y="297"/>
                    </a:lnTo>
                    <a:lnTo>
                      <a:pt x="25" y="301"/>
                    </a:lnTo>
                    <a:lnTo>
                      <a:pt x="21" y="304"/>
                    </a:lnTo>
                    <a:lnTo>
                      <a:pt x="17" y="305"/>
                    </a:lnTo>
                    <a:lnTo>
                      <a:pt x="12" y="304"/>
                    </a:lnTo>
                    <a:lnTo>
                      <a:pt x="9" y="302"/>
                    </a:lnTo>
                    <a:lnTo>
                      <a:pt x="6" y="299"/>
                    </a:lnTo>
                    <a:lnTo>
                      <a:pt x="3" y="293"/>
                    </a:lnTo>
                    <a:lnTo>
                      <a:pt x="2" y="288"/>
                    </a:lnTo>
                    <a:lnTo>
                      <a:pt x="0" y="280"/>
                    </a:lnTo>
                    <a:lnTo>
                      <a:pt x="0" y="272"/>
                    </a:lnTo>
                    <a:lnTo>
                      <a:pt x="0" y="262"/>
                    </a:lnTo>
                    <a:lnTo>
                      <a:pt x="2" y="252"/>
                    </a:lnTo>
                    <a:lnTo>
                      <a:pt x="4" y="240"/>
                    </a:lnTo>
                    <a:lnTo>
                      <a:pt x="7" y="230"/>
                    </a:lnTo>
                    <a:close/>
                  </a:path>
                </a:pathLst>
              </a:custGeom>
              <a:solidFill>
                <a:srgbClr val="78a2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5535720" y="3627360"/>
                <a:ext cx="23760" cy="68400"/>
              </a:xfrm>
              <a:custGeom>
                <a:avLst/>
                <a:gdLst/>
                <a:ahLst/>
                <a:rect l="l" t="t" r="r" b="b"/>
                <a:pathLst>
                  <a:path w="77" h="219">
                    <a:moveTo>
                      <a:pt x="74" y="0"/>
                    </a:moveTo>
                    <a:lnTo>
                      <a:pt x="70" y="5"/>
                    </a:lnTo>
                    <a:lnTo>
                      <a:pt x="65" y="19"/>
                    </a:lnTo>
                    <a:lnTo>
                      <a:pt x="55" y="40"/>
                    </a:lnTo>
                    <a:lnTo>
                      <a:pt x="44" y="64"/>
                    </a:lnTo>
                    <a:lnTo>
                      <a:pt x="33" y="91"/>
                    </a:lnTo>
                    <a:lnTo>
                      <a:pt x="21" y="119"/>
                    </a:lnTo>
                    <a:lnTo>
                      <a:pt x="11" y="144"/>
                    </a:lnTo>
                    <a:lnTo>
                      <a:pt x="4" y="165"/>
                    </a:lnTo>
                    <a:lnTo>
                      <a:pt x="2" y="173"/>
                    </a:lnTo>
                    <a:lnTo>
                      <a:pt x="1" y="181"/>
                    </a:lnTo>
                    <a:lnTo>
                      <a:pt x="0" y="189"/>
                    </a:lnTo>
                    <a:lnTo>
                      <a:pt x="1" y="196"/>
                    </a:lnTo>
                    <a:lnTo>
                      <a:pt x="2" y="202"/>
                    </a:lnTo>
                    <a:lnTo>
                      <a:pt x="3" y="207"/>
                    </a:lnTo>
                    <a:lnTo>
                      <a:pt x="6" y="211"/>
                    </a:lnTo>
                    <a:lnTo>
                      <a:pt x="8" y="215"/>
                    </a:lnTo>
                    <a:lnTo>
                      <a:pt x="10" y="218"/>
                    </a:lnTo>
                    <a:lnTo>
                      <a:pt x="13" y="219"/>
                    </a:lnTo>
                    <a:lnTo>
                      <a:pt x="15" y="219"/>
                    </a:lnTo>
                    <a:lnTo>
                      <a:pt x="18" y="219"/>
                    </a:lnTo>
                    <a:lnTo>
                      <a:pt x="22" y="217"/>
                    </a:lnTo>
                    <a:lnTo>
                      <a:pt x="25" y="213"/>
                    </a:lnTo>
                    <a:lnTo>
                      <a:pt x="28" y="208"/>
                    </a:lnTo>
                    <a:lnTo>
                      <a:pt x="31" y="202"/>
                    </a:lnTo>
                    <a:lnTo>
                      <a:pt x="37" y="186"/>
                    </a:lnTo>
                    <a:lnTo>
                      <a:pt x="43" y="170"/>
                    </a:lnTo>
                    <a:lnTo>
                      <a:pt x="51" y="153"/>
                    </a:lnTo>
                    <a:lnTo>
                      <a:pt x="57" y="136"/>
                    </a:lnTo>
                    <a:lnTo>
                      <a:pt x="63" y="119"/>
                    </a:lnTo>
                    <a:lnTo>
                      <a:pt x="68" y="103"/>
                    </a:lnTo>
                    <a:lnTo>
                      <a:pt x="72" y="90"/>
                    </a:lnTo>
                    <a:lnTo>
                      <a:pt x="76" y="78"/>
                    </a:lnTo>
                    <a:lnTo>
                      <a:pt x="77" y="68"/>
                    </a:lnTo>
                    <a:lnTo>
                      <a:pt x="77" y="56"/>
                    </a:lnTo>
                    <a:lnTo>
                      <a:pt x="77" y="43"/>
                    </a:lnTo>
                    <a:lnTo>
                      <a:pt x="76" y="30"/>
                    </a:lnTo>
                    <a:lnTo>
                      <a:pt x="76" y="18"/>
                    </a:lnTo>
                    <a:lnTo>
                      <a:pt x="75" y="8"/>
                    </a:lnTo>
                    <a:lnTo>
                      <a:pt x="74" y="2"/>
                    </a:lnTo>
                    <a:lnTo>
                      <a:pt x="74" y="0"/>
                    </a:lnTo>
                    <a:close/>
                  </a:path>
                </a:pathLst>
              </a:custGeom>
              <a:solidFill>
                <a:srgbClr val="759e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5546520" y="3490920"/>
                <a:ext cx="301680" cy="378000"/>
              </a:xfrm>
              <a:custGeom>
                <a:avLst/>
                <a:gdLst/>
                <a:ahLst/>
                <a:rect l="l" t="t" r="r" b="b"/>
                <a:pathLst>
                  <a:path w="950" h="1190">
                    <a:moveTo>
                      <a:pt x="924" y="481"/>
                    </a:moveTo>
                    <a:lnTo>
                      <a:pt x="921" y="480"/>
                    </a:lnTo>
                    <a:lnTo>
                      <a:pt x="913" y="477"/>
                    </a:lnTo>
                    <a:lnTo>
                      <a:pt x="900" y="474"/>
                    </a:lnTo>
                    <a:lnTo>
                      <a:pt x="883" y="470"/>
                    </a:lnTo>
                    <a:lnTo>
                      <a:pt x="865" y="463"/>
                    </a:lnTo>
                    <a:lnTo>
                      <a:pt x="846" y="457"/>
                    </a:lnTo>
                    <a:lnTo>
                      <a:pt x="826" y="449"/>
                    </a:lnTo>
                    <a:lnTo>
                      <a:pt x="809" y="441"/>
                    </a:lnTo>
                    <a:lnTo>
                      <a:pt x="800" y="436"/>
                    </a:lnTo>
                    <a:lnTo>
                      <a:pt x="792" y="431"/>
                    </a:lnTo>
                    <a:lnTo>
                      <a:pt x="784" y="424"/>
                    </a:lnTo>
                    <a:lnTo>
                      <a:pt x="775" y="417"/>
                    </a:lnTo>
                    <a:lnTo>
                      <a:pt x="759" y="401"/>
                    </a:lnTo>
                    <a:lnTo>
                      <a:pt x="744" y="382"/>
                    </a:lnTo>
                    <a:lnTo>
                      <a:pt x="730" y="364"/>
                    </a:lnTo>
                    <a:lnTo>
                      <a:pt x="718" y="345"/>
                    </a:lnTo>
                    <a:lnTo>
                      <a:pt x="706" y="325"/>
                    </a:lnTo>
                    <a:lnTo>
                      <a:pt x="698" y="308"/>
                    </a:lnTo>
                    <a:lnTo>
                      <a:pt x="692" y="299"/>
                    </a:lnTo>
                    <a:lnTo>
                      <a:pt x="688" y="293"/>
                    </a:lnTo>
                    <a:lnTo>
                      <a:pt x="681" y="285"/>
                    </a:lnTo>
                    <a:lnTo>
                      <a:pt x="675" y="279"/>
                    </a:lnTo>
                    <a:lnTo>
                      <a:pt x="660" y="267"/>
                    </a:lnTo>
                    <a:lnTo>
                      <a:pt x="644" y="256"/>
                    </a:lnTo>
                    <a:lnTo>
                      <a:pt x="626" y="246"/>
                    </a:lnTo>
                    <a:lnTo>
                      <a:pt x="609" y="235"/>
                    </a:lnTo>
                    <a:lnTo>
                      <a:pt x="591" y="226"/>
                    </a:lnTo>
                    <a:lnTo>
                      <a:pt x="573" y="214"/>
                    </a:lnTo>
                    <a:lnTo>
                      <a:pt x="553" y="197"/>
                    </a:lnTo>
                    <a:lnTo>
                      <a:pt x="526" y="174"/>
                    </a:lnTo>
                    <a:lnTo>
                      <a:pt x="493" y="148"/>
                    </a:lnTo>
                    <a:lnTo>
                      <a:pt x="458" y="119"/>
                    </a:lnTo>
                    <a:lnTo>
                      <a:pt x="422" y="90"/>
                    </a:lnTo>
                    <a:lnTo>
                      <a:pt x="387" y="63"/>
                    </a:lnTo>
                    <a:lnTo>
                      <a:pt x="355" y="40"/>
                    </a:lnTo>
                    <a:lnTo>
                      <a:pt x="329" y="24"/>
                    </a:lnTo>
                    <a:lnTo>
                      <a:pt x="317" y="17"/>
                    </a:lnTo>
                    <a:lnTo>
                      <a:pt x="305" y="13"/>
                    </a:lnTo>
                    <a:lnTo>
                      <a:pt x="293" y="9"/>
                    </a:lnTo>
                    <a:lnTo>
                      <a:pt x="278" y="5"/>
                    </a:lnTo>
                    <a:lnTo>
                      <a:pt x="264" y="3"/>
                    </a:lnTo>
                    <a:lnTo>
                      <a:pt x="250" y="1"/>
                    </a:lnTo>
                    <a:lnTo>
                      <a:pt x="236" y="0"/>
                    </a:lnTo>
                    <a:lnTo>
                      <a:pt x="221" y="0"/>
                    </a:lnTo>
                    <a:lnTo>
                      <a:pt x="207" y="1"/>
                    </a:lnTo>
                    <a:lnTo>
                      <a:pt x="192" y="2"/>
                    </a:lnTo>
                    <a:lnTo>
                      <a:pt x="178" y="4"/>
                    </a:lnTo>
                    <a:lnTo>
                      <a:pt x="164" y="8"/>
                    </a:lnTo>
                    <a:lnTo>
                      <a:pt x="151" y="12"/>
                    </a:lnTo>
                    <a:lnTo>
                      <a:pt x="138" y="16"/>
                    </a:lnTo>
                    <a:lnTo>
                      <a:pt x="125" y="22"/>
                    </a:lnTo>
                    <a:lnTo>
                      <a:pt x="114" y="28"/>
                    </a:lnTo>
                    <a:lnTo>
                      <a:pt x="102" y="36"/>
                    </a:lnTo>
                    <a:lnTo>
                      <a:pt x="91" y="44"/>
                    </a:lnTo>
                    <a:lnTo>
                      <a:pt x="79" y="53"/>
                    </a:lnTo>
                    <a:lnTo>
                      <a:pt x="68" y="63"/>
                    </a:lnTo>
                    <a:lnTo>
                      <a:pt x="57" y="73"/>
                    </a:lnTo>
                    <a:lnTo>
                      <a:pt x="47" y="84"/>
                    </a:lnTo>
                    <a:lnTo>
                      <a:pt x="38" y="97"/>
                    </a:lnTo>
                    <a:lnTo>
                      <a:pt x="29" y="111"/>
                    </a:lnTo>
                    <a:lnTo>
                      <a:pt x="20" y="127"/>
                    </a:lnTo>
                    <a:lnTo>
                      <a:pt x="14" y="144"/>
                    </a:lnTo>
                    <a:lnTo>
                      <a:pt x="8" y="163"/>
                    </a:lnTo>
                    <a:lnTo>
                      <a:pt x="4" y="183"/>
                    </a:lnTo>
                    <a:lnTo>
                      <a:pt x="1" y="205"/>
                    </a:lnTo>
                    <a:lnTo>
                      <a:pt x="0" y="230"/>
                    </a:lnTo>
                    <a:lnTo>
                      <a:pt x="0" y="257"/>
                    </a:lnTo>
                    <a:lnTo>
                      <a:pt x="3" y="285"/>
                    </a:lnTo>
                    <a:lnTo>
                      <a:pt x="8" y="346"/>
                    </a:lnTo>
                    <a:lnTo>
                      <a:pt x="14" y="404"/>
                    </a:lnTo>
                    <a:lnTo>
                      <a:pt x="19" y="460"/>
                    </a:lnTo>
                    <a:lnTo>
                      <a:pt x="24" y="512"/>
                    </a:lnTo>
                    <a:lnTo>
                      <a:pt x="27" y="558"/>
                    </a:lnTo>
                    <a:lnTo>
                      <a:pt x="30" y="598"/>
                    </a:lnTo>
                    <a:lnTo>
                      <a:pt x="31" y="630"/>
                    </a:lnTo>
                    <a:lnTo>
                      <a:pt x="30" y="651"/>
                    </a:lnTo>
                    <a:lnTo>
                      <a:pt x="29" y="667"/>
                    </a:lnTo>
                    <a:lnTo>
                      <a:pt x="30" y="685"/>
                    </a:lnTo>
                    <a:lnTo>
                      <a:pt x="32" y="702"/>
                    </a:lnTo>
                    <a:lnTo>
                      <a:pt x="36" y="720"/>
                    </a:lnTo>
                    <a:lnTo>
                      <a:pt x="43" y="741"/>
                    </a:lnTo>
                    <a:lnTo>
                      <a:pt x="49" y="764"/>
                    </a:lnTo>
                    <a:lnTo>
                      <a:pt x="59" y="789"/>
                    </a:lnTo>
                    <a:lnTo>
                      <a:pt x="69" y="820"/>
                    </a:lnTo>
                    <a:lnTo>
                      <a:pt x="81" y="851"/>
                    </a:lnTo>
                    <a:lnTo>
                      <a:pt x="94" y="881"/>
                    </a:lnTo>
                    <a:lnTo>
                      <a:pt x="109" y="909"/>
                    </a:lnTo>
                    <a:lnTo>
                      <a:pt x="125" y="936"/>
                    </a:lnTo>
                    <a:lnTo>
                      <a:pt x="133" y="948"/>
                    </a:lnTo>
                    <a:lnTo>
                      <a:pt x="141" y="960"/>
                    </a:lnTo>
                    <a:lnTo>
                      <a:pt x="150" y="971"/>
                    </a:lnTo>
                    <a:lnTo>
                      <a:pt x="159" y="981"/>
                    </a:lnTo>
                    <a:lnTo>
                      <a:pt x="167" y="989"/>
                    </a:lnTo>
                    <a:lnTo>
                      <a:pt x="176" y="996"/>
                    </a:lnTo>
                    <a:lnTo>
                      <a:pt x="184" y="1002"/>
                    </a:lnTo>
                    <a:lnTo>
                      <a:pt x="193" y="1008"/>
                    </a:lnTo>
                    <a:lnTo>
                      <a:pt x="210" y="1017"/>
                    </a:lnTo>
                    <a:lnTo>
                      <a:pt x="229" y="1030"/>
                    </a:lnTo>
                    <a:lnTo>
                      <a:pt x="248" y="1045"/>
                    </a:lnTo>
                    <a:lnTo>
                      <a:pt x="269" y="1061"/>
                    </a:lnTo>
                    <a:lnTo>
                      <a:pt x="287" y="1077"/>
                    </a:lnTo>
                    <a:lnTo>
                      <a:pt x="305" y="1091"/>
                    </a:lnTo>
                    <a:lnTo>
                      <a:pt x="322" y="1103"/>
                    </a:lnTo>
                    <a:lnTo>
                      <a:pt x="337" y="1111"/>
                    </a:lnTo>
                    <a:lnTo>
                      <a:pt x="349" y="1117"/>
                    </a:lnTo>
                    <a:lnTo>
                      <a:pt x="361" y="1120"/>
                    </a:lnTo>
                    <a:lnTo>
                      <a:pt x="371" y="1122"/>
                    </a:lnTo>
                    <a:lnTo>
                      <a:pt x="382" y="1123"/>
                    </a:lnTo>
                    <a:lnTo>
                      <a:pt x="391" y="1124"/>
                    </a:lnTo>
                    <a:lnTo>
                      <a:pt x="397" y="1124"/>
                    </a:lnTo>
                    <a:lnTo>
                      <a:pt x="402" y="1123"/>
                    </a:lnTo>
                    <a:lnTo>
                      <a:pt x="403" y="1123"/>
                    </a:lnTo>
                    <a:lnTo>
                      <a:pt x="525" y="1190"/>
                    </a:lnTo>
                    <a:lnTo>
                      <a:pt x="526" y="1189"/>
                    </a:lnTo>
                    <a:lnTo>
                      <a:pt x="530" y="1188"/>
                    </a:lnTo>
                    <a:lnTo>
                      <a:pt x="537" y="1184"/>
                    </a:lnTo>
                    <a:lnTo>
                      <a:pt x="543" y="1179"/>
                    </a:lnTo>
                    <a:lnTo>
                      <a:pt x="546" y="1176"/>
                    </a:lnTo>
                    <a:lnTo>
                      <a:pt x="550" y="1172"/>
                    </a:lnTo>
                    <a:lnTo>
                      <a:pt x="553" y="1167"/>
                    </a:lnTo>
                    <a:lnTo>
                      <a:pt x="555" y="1163"/>
                    </a:lnTo>
                    <a:lnTo>
                      <a:pt x="557" y="1158"/>
                    </a:lnTo>
                    <a:lnTo>
                      <a:pt x="558" y="1151"/>
                    </a:lnTo>
                    <a:lnTo>
                      <a:pt x="559" y="1145"/>
                    </a:lnTo>
                    <a:lnTo>
                      <a:pt x="559" y="1138"/>
                    </a:lnTo>
                    <a:lnTo>
                      <a:pt x="562" y="1139"/>
                    </a:lnTo>
                    <a:lnTo>
                      <a:pt x="568" y="1144"/>
                    </a:lnTo>
                    <a:lnTo>
                      <a:pt x="577" y="1149"/>
                    </a:lnTo>
                    <a:lnTo>
                      <a:pt x="589" y="1156"/>
                    </a:lnTo>
                    <a:lnTo>
                      <a:pt x="600" y="1162"/>
                    </a:lnTo>
                    <a:lnTo>
                      <a:pt x="612" y="1167"/>
                    </a:lnTo>
                    <a:lnTo>
                      <a:pt x="622" y="1172"/>
                    </a:lnTo>
                    <a:lnTo>
                      <a:pt x="631" y="1173"/>
                    </a:lnTo>
                    <a:lnTo>
                      <a:pt x="634" y="1172"/>
                    </a:lnTo>
                    <a:lnTo>
                      <a:pt x="637" y="1171"/>
                    </a:lnTo>
                    <a:lnTo>
                      <a:pt x="641" y="1169"/>
                    </a:lnTo>
                    <a:lnTo>
                      <a:pt x="646" y="1165"/>
                    </a:lnTo>
                    <a:lnTo>
                      <a:pt x="653" y="1158"/>
                    </a:lnTo>
                    <a:lnTo>
                      <a:pt x="662" y="1148"/>
                    </a:lnTo>
                    <a:lnTo>
                      <a:pt x="668" y="1138"/>
                    </a:lnTo>
                    <a:lnTo>
                      <a:pt x="675" y="1128"/>
                    </a:lnTo>
                    <a:lnTo>
                      <a:pt x="678" y="1119"/>
                    </a:lnTo>
                    <a:lnTo>
                      <a:pt x="680" y="1111"/>
                    </a:lnTo>
                    <a:lnTo>
                      <a:pt x="679" y="1104"/>
                    </a:lnTo>
                    <a:lnTo>
                      <a:pt x="677" y="1095"/>
                    </a:lnTo>
                    <a:lnTo>
                      <a:pt x="675" y="1086"/>
                    </a:lnTo>
                    <a:lnTo>
                      <a:pt x="672" y="1078"/>
                    </a:lnTo>
                    <a:lnTo>
                      <a:pt x="668" y="1069"/>
                    </a:lnTo>
                    <a:lnTo>
                      <a:pt x="665" y="1063"/>
                    </a:lnTo>
                    <a:lnTo>
                      <a:pt x="663" y="1058"/>
                    </a:lnTo>
                    <a:lnTo>
                      <a:pt x="663" y="1056"/>
                    </a:lnTo>
                    <a:lnTo>
                      <a:pt x="664" y="1057"/>
                    </a:lnTo>
                    <a:lnTo>
                      <a:pt x="668" y="1061"/>
                    </a:lnTo>
                    <a:lnTo>
                      <a:pt x="675" y="1064"/>
                    </a:lnTo>
                    <a:lnTo>
                      <a:pt x="682" y="1067"/>
                    </a:lnTo>
                    <a:lnTo>
                      <a:pt x="687" y="1068"/>
                    </a:lnTo>
                    <a:lnTo>
                      <a:pt x="692" y="1068"/>
                    </a:lnTo>
                    <a:lnTo>
                      <a:pt x="697" y="1069"/>
                    </a:lnTo>
                    <a:lnTo>
                      <a:pt x="701" y="1068"/>
                    </a:lnTo>
                    <a:lnTo>
                      <a:pt x="706" y="1067"/>
                    </a:lnTo>
                    <a:lnTo>
                      <a:pt x="711" y="1065"/>
                    </a:lnTo>
                    <a:lnTo>
                      <a:pt x="715" y="1062"/>
                    </a:lnTo>
                    <a:lnTo>
                      <a:pt x="719" y="1056"/>
                    </a:lnTo>
                    <a:lnTo>
                      <a:pt x="724" y="1051"/>
                    </a:lnTo>
                    <a:lnTo>
                      <a:pt x="727" y="1045"/>
                    </a:lnTo>
                    <a:lnTo>
                      <a:pt x="730" y="1039"/>
                    </a:lnTo>
                    <a:lnTo>
                      <a:pt x="732" y="1032"/>
                    </a:lnTo>
                    <a:lnTo>
                      <a:pt x="733" y="1025"/>
                    </a:lnTo>
                    <a:lnTo>
                      <a:pt x="734" y="1016"/>
                    </a:lnTo>
                    <a:lnTo>
                      <a:pt x="735" y="1008"/>
                    </a:lnTo>
                    <a:lnTo>
                      <a:pt x="734" y="999"/>
                    </a:lnTo>
                    <a:lnTo>
                      <a:pt x="733" y="989"/>
                    </a:lnTo>
                    <a:lnTo>
                      <a:pt x="732" y="978"/>
                    </a:lnTo>
                    <a:lnTo>
                      <a:pt x="730" y="968"/>
                    </a:lnTo>
                    <a:lnTo>
                      <a:pt x="727" y="956"/>
                    </a:lnTo>
                    <a:lnTo>
                      <a:pt x="718" y="931"/>
                    </a:lnTo>
                    <a:lnTo>
                      <a:pt x="707" y="903"/>
                    </a:lnTo>
                    <a:lnTo>
                      <a:pt x="693" y="873"/>
                    </a:lnTo>
                    <a:lnTo>
                      <a:pt x="677" y="838"/>
                    </a:lnTo>
                    <a:lnTo>
                      <a:pt x="660" y="804"/>
                    </a:lnTo>
                    <a:lnTo>
                      <a:pt x="643" y="768"/>
                    </a:lnTo>
                    <a:lnTo>
                      <a:pt x="626" y="732"/>
                    </a:lnTo>
                    <a:lnTo>
                      <a:pt x="612" y="700"/>
                    </a:lnTo>
                    <a:lnTo>
                      <a:pt x="606" y="684"/>
                    </a:lnTo>
                    <a:lnTo>
                      <a:pt x="601" y="669"/>
                    </a:lnTo>
                    <a:lnTo>
                      <a:pt x="598" y="654"/>
                    </a:lnTo>
                    <a:lnTo>
                      <a:pt x="596" y="642"/>
                    </a:lnTo>
                    <a:lnTo>
                      <a:pt x="595" y="629"/>
                    </a:lnTo>
                    <a:lnTo>
                      <a:pt x="593" y="616"/>
                    </a:lnTo>
                    <a:lnTo>
                      <a:pt x="590" y="602"/>
                    </a:lnTo>
                    <a:lnTo>
                      <a:pt x="587" y="589"/>
                    </a:lnTo>
                    <a:lnTo>
                      <a:pt x="580" y="562"/>
                    </a:lnTo>
                    <a:lnTo>
                      <a:pt x="572" y="537"/>
                    </a:lnTo>
                    <a:lnTo>
                      <a:pt x="564" y="515"/>
                    </a:lnTo>
                    <a:lnTo>
                      <a:pt x="557" y="499"/>
                    </a:lnTo>
                    <a:lnTo>
                      <a:pt x="553" y="487"/>
                    </a:lnTo>
                    <a:lnTo>
                      <a:pt x="552" y="483"/>
                    </a:lnTo>
                    <a:lnTo>
                      <a:pt x="554" y="483"/>
                    </a:lnTo>
                    <a:lnTo>
                      <a:pt x="562" y="483"/>
                    </a:lnTo>
                    <a:lnTo>
                      <a:pt x="573" y="483"/>
                    </a:lnTo>
                    <a:lnTo>
                      <a:pt x="587" y="483"/>
                    </a:lnTo>
                    <a:lnTo>
                      <a:pt x="605" y="483"/>
                    </a:lnTo>
                    <a:lnTo>
                      <a:pt x="622" y="483"/>
                    </a:lnTo>
                    <a:lnTo>
                      <a:pt x="640" y="484"/>
                    </a:lnTo>
                    <a:lnTo>
                      <a:pt x="658" y="486"/>
                    </a:lnTo>
                    <a:lnTo>
                      <a:pt x="665" y="487"/>
                    </a:lnTo>
                    <a:lnTo>
                      <a:pt x="673" y="489"/>
                    </a:lnTo>
                    <a:lnTo>
                      <a:pt x="678" y="491"/>
                    </a:lnTo>
                    <a:lnTo>
                      <a:pt x="684" y="495"/>
                    </a:lnTo>
                    <a:lnTo>
                      <a:pt x="692" y="501"/>
                    </a:lnTo>
                    <a:lnTo>
                      <a:pt x="700" y="510"/>
                    </a:lnTo>
                    <a:lnTo>
                      <a:pt x="707" y="519"/>
                    </a:lnTo>
                    <a:lnTo>
                      <a:pt x="716" y="529"/>
                    </a:lnTo>
                    <a:lnTo>
                      <a:pt x="721" y="534"/>
                    </a:lnTo>
                    <a:lnTo>
                      <a:pt x="727" y="539"/>
                    </a:lnTo>
                    <a:lnTo>
                      <a:pt x="734" y="543"/>
                    </a:lnTo>
                    <a:lnTo>
                      <a:pt x="742" y="548"/>
                    </a:lnTo>
                    <a:lnTo>
                      <a:pt x="758" y="555"/>
                    </a:lnTo>
                    <a:lnTo>
                      <a:pt x="775" y="562"/>
                    </a:lnTo>
                    <a:lnTo>
                      <a:pt x="783" y="565"/>
                    </a:lnTo>
                    <a:lnTo>
                      <a:pt x="792" y="567"/>
                    </a:lnTo>
                    <a:lnTo>
                      <a:pt x="801" y="569"/>
                    </a:lnTo>
                    <a:lnTo>
                      <a:pt x="810" y="570"/>
                    </a:lnTo>
                    <a:lnTo>
                      <a:pt x="820" y="571"/>
                    </a:lnTo>
                    <a:lnTo>
                      <a:pt x="829" y="571"/>
                    </a:lnTo>
                    <a:lnTo>
                      <a:pt x="840" y="570"/>
                    </a:lnTo>
                    <a:lnTo>
                      <a:pt x="851" y="568"/>
                    </a:lnTo>
                    <a:lnTo>
                      <a:pt x="863" y="566"/>
                    </a:lnTo>
                    <a:lnTo>
                      <a:pt x="876" y="563"/>
                    </a:lnTo>
                    <a:lnTo>
                      <a:pt x="889" y="558"/>
                    </a:lnTo>
                    <a:lnTo>
                      <a:pt x="903" y="552"/>
                    </a:lnTo>
                    <a:lnTo>
                      <a:pt x="916" y="545"/>
                    </a:lnTo>
                    <a:lnTo>
                      <a:pt x="927" y="539"/>
                    </a:lnTo>
                    <a:lnTo>
                      <a:pt x="935" y="532"/>
                    </a:lnTo>
                    <a:lnTo>
                      <a:pt x="942" y="527"/>
                    </a:lnTo>
                    <a:lnTo>
                      <a:pt x="946" y="521"/>
                    </a:lnTo>
                    <a:lnTo>
                      <a:pt x="949" y="514"/>
                    </a:lnTo>
                    <a:lnTo>
                      <a:pt x="950" y="509"/>
                    </a:lnTo>
                    <a:lnTo>
                      <a:pt x="949" y="503"/>
                    </a:lnTo>
                    <a:lnTo>
                      <a:pt x="948" y="499"/>
                    </a:lnTo>
                    <a:lnTo>
                      <a:pt x="946" y="495"/>
                    </a:lnTo>
                    <a:lnTo>
                      <a:pt x="943" y="490"/>
                    </a:lnTo>
                    <a:lnTo>
                      <a:pt x="940" y="487"/>
                    </a:lnTo>
                    <a:lnTo>
                      <a:pt x="936" y="484"/>
                    </a:lnTo>
                    <a:lnTo>
                      <a:pt x="932" y="483"/>
                    </a:lnTo>
                    <a:lnTo>
                      <a:pt x="928" y="481"/>
                    </a:lnTo>
                    <a:lnTo>
                      <a:pt x="924" y="481"/>
                    </a:lnTo>
                    <a:close/>
                  </a:path>
                </a:pathLst>
              </a:custGeom>
              <a:solidFill>
                <a:srgbClr val="e7a9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5559480" y="3568680"/>
                <a:ext cx="288720" cy="300240"/>
              </a:xfrm>
              <a:custGeom>
                <a:avLst/>
                <a:gdLst/>
                <a:ahLst/>
                <a:rect l="l" t="t" r="r" b="b"/>
                <a:pathLst>
                  <a:path w="906" h="945">
                    <a:moveTo>
                      <a:pt x="460" y="155"/>
                    </a:moveTo>
                    <a:lnTo>
                      <a:pt x="451" y="128"/>
                    </a:lnTo>
                    <a:lnTo>
                      <a:pt x="442" y="96"/>
                    </a:lnTo>
                    <a:lnTo>
                      <a:pt x="437" y="79"/>
                    </a:lnTo>
                    <a:lnTo>
                      <a:pt x="434" y="64"/>
                    </a:lnTo>
                    <a:lnTo>
                      <a:pt x="433" y="49"/>
                    </a:lnTo>
                    <a:lnTo>
                      <a:pt x="432" y="35"/>
                    </a:lnTo>
                    <a:lnTo>
                      <a:pt x="433" y="28"/>
                    </a:lnTo>
                    <a:lnTo>
                      <a:pt x="434" y="22"/>
                    </a:lnTo>
                    <a:lnTo>
                      <a:pt x="435" y="16"/>
                    </a:lnTo>
                    <a:lnTo>
                      <a:pt x="437" y="12"/>
                    </a:lnTo>
                    <a:lnTo>
                      <a:pt x="441" y="8"/>
                    </a:lnTo>
                    <a:lnTo>
                      <a:pt x="444" y="4"/>
                    </a:lnTo>
                    <a:lnTo>
                      <a:pt x="448" y="2"/>
                    </a:lnTo>
                    <a:lnTo>
                      <a:pt x="453" y="0"/>
                    </a:lnTo>
                    <a:lnTo>
                      <a:pt x="459" y="0"/>
                    </a:lnTo>
                    <a:lnTo>
                      <a:pt x="465" y="0"/>
                    </a:lnTo>
                    <a:lnTo>
                      <a:pt x="473" y="1"/>
                    </a:lnTo>
                    <a:lnTo>
                      <a:pt x="482" y="3"/>
                    </a:lnTo>
                    <a:lnTo>
                      <a:pt x="491" y="8"/>
                    </a:lnTo>
                    <a:lnTo>
                      <a:pt x="502" y="12"/>
                    </a:lnTo>
                    <a:lnTo>
                      <a:pt x="514" y="19"/>
                    </a:lnTo>
                    <a:lnTo>
                      <a:pt x="527" y="26"/>
                    </a:lnTo>
                    <a:lnTo>
                      <a:pt x="544" y="35"/>
                    </a:lnTo>
                    <a:lnTo>
                      <a:pt x="561" y="41"/>
                    </a:lnTo>
                    <a:lnTo>
                      <a:pt x="576" y="48"/>
                    </a:lnTo>
                    <a:lnTo>
                      <a:pt x="589" y="54"/>
                    </a:lnTo>
                    <a:lnTo>
                      <a:pt x="601" y="61"/>
                    </a:lnTo>
                    <a:lnTo>
                      <a:pt x="612" y="69"/>
                    </a:lnTo>
                    <a:lnTo>
                      <a:pt x="617" y="75"/>
                    </a:lnTo>
                    <a:lnTo>
                      <a:pt x="622" y="80"/>
                    </a:lnTo>
                    <a:lnTo>
                      <a:pt x="626" y="87"/>
                    </a:lnTo>
                    <a:lnTo>
                      <a:pt x="631" y="95"/>
                    </a:lnTo>
                    <a:lnTo>
                      <a:pt x="640" y="112"/>
                    </a:lnTo>
                    <a:lnTo>
                      <a:pt x="652" y="133"/>
                    </a:lnTo>
                    <a:lnTo>
                      <a:pt x="666" y="154"/>
                    </a:lnTo>
                    <a:lnTo>
                      <a:pt x="682" y="175"/>
                    </a:lnTo>
                    <a:lnTo>
                      <a:pt x="698" y="195"/>
                    </a:lnTo>
                    <a:lnTo>
                      <a:pt x="715" y="213"/>
                    </a:lnTo>
                    <a:lnTo>
                      <a:pt x="724" y="220"/>
                    </a:lnTo>
                    <a:lnTo>
                      <a:pt x="732" y="227"/>
                    </a:lnTo>
                    <a:lnTo>
                      <a:pt x="741" y="233"/>
                    </a:lnTo>
                    <a:lnTo>
                      <a:pt x="750" y="238"/>
                    </a:lnTo>
                    <a:lnTo>
                      <a:pt x="768" y="246"/>
                    </a:lnTo>
                    <a:lnTo>
                      <a:pt x="788" y="253"/>
                    </a:lnTo>
                    <a:lnTo>
                      <a:pt x="809" y="258"/>
                    </a:lnTo>
                    <a:lnTo>
                      <a:pt x="831" y="263"/>
                    </a:lnTo>
                    <a:lnTo>
                      <a:pt x="849" y="266"/>
                    </a:lnTo>
                    <a:lnTo>
                      <a:pt x="864" y="268"/>
                    </a:lnTo>
                    <a:lnTo>
                      <a:pt x="874" y="270"/>
                    </a:lnTo>
                    <a:lnTo>
                      <a:pt x="878" y="270"/>
                    </a:lnTo>
                    <a:lnTo>
                      <a:pt x="886" y="270"/>
                    </a:lnTo>
                    <a:lnTo>
                      <a:pt x="893" y="271"/>
                    </a:lnTo>
                    <a:lnTo>
                      <a:pt x="898" y="272"/>
                    </a:lnTo>
                    <a:lnTo>
                      <a:pt x="901" y="273"/>
                    </a:lnTo>
                    <a:lnTo>
                      <a:pt x="903" y="274"/>
                    </a:lnTo>
                    <a:lnTo>
                      <a:pt x="905" y="276"/>
                    </a:lnTo>
                    <a:lnTo>
                      <a:pt x="906" y="278"/>
                    </a:lnTo>
                    <a:lnTo>
                      <a:pt x="905" y="281"/>
                    </a:lnTo>
                    <a:lnTo>
                      <a:pt x="903" y="283"/>
                    </a:lnTo>
                    <a:lnTo>
                      <a:pt x="899" y="287"/>
                    </a:lnTo>
                    <a:lnTo>
                      <a:pt x="893" y="291"/>
                    </a:lnTo>
                    <a:lnTo>
                      <a:pt x="885" y="296"/>
                    </a:lnTo>
                    <a:lnTo>
                      <a:pt x="874" y="301"/>
                    </a:lnTo>
                    <a:lnTo>
                      <a:pt x="861" y="307"/>
                    </a:lnTo>
                    <a:lnTo>
                      <a:pt x="847" y="313"/>
                    </a:lnTo>
                    <a:lnTo>
                      <a:pt x="834" y="318"/>
                    </a:lnTo>
                    <a:lnTo>
                      <a:pt x="821" y="321"/>
                    </a:lnTo>
                    <a:lnTo>
                      <a:pt x="809" y="323"/>
                    </a:lnTo>
                    <a:lnTo>
                      <a:pt x="798" y="325"/>
                    </a:lnTo>
                    <a:lnTo>
                      <a:pt x="787" y="326"/>
                    </a:lnTo>
                    <a:lnTo>
                      <a:pt x="778" y="326"/>
                    </a:lnTo>
                    <a:lnTo>
                      <a:pt x="768" y="325"/>
                    </a:lnTo>
                    <a:lnTo>
                      <a:pt x="759" y="324"/>
                    </a:lnTo>
                    <a:lnTo>
                      <a:pt x="750" y="322"/>
                    </a:lnTo>
                    <a:lnTo>
                      <a:pt x="741" y="320"/>
                    </a:lnTo>
                    <a:lnTo>
                      <a:pt x="733" y="317"/>
                    </a:lnTo>
                    <a:lnTo>
                      <a:pt x="716" y="310"/>
                    </a:lnTo>
                    <a:lnTo>
                      <a:pt x="700" y="303"/>
                    </a:lnTo>
                    <a:lnTo>
                      <a:pt x="692" y="298"/>
                    </a:lnTo>
                    <a:lnTo>
                      <a:pt x="685" y="294"/>
                    </a:lnTo>
                    <a:lnTo>
                      <a:pt x="679" y="289"/>
                    </a:lnTo>
                    <a:lnTo>
                      <a:pt x="674" y="284"/>
                    </a:lnTo>
                    <a:lnTo>
                      <a:pt x="665" y="274"/>
                    </a:lnTo>
                    <a:lnTo>
                      <a:pt x="658" y="265"/>
                    </a:lnTo>
                    <a:lnTo>
                      <a:pt x="650" y="256"/>
                    </a:lnTo>
                    <a:lnTo>
                      <a:pt x="642" y="250"/>
                    </a:lnTo>
                    <a:lnTo>
                      <a:pt x="636" y="246"/>
                    </a:lnTo>
                    <a:lnTo>
                      <a:pt x="631" y="244"/>
                    </a:lnTo>
                    <a:lnTo>
                      <a:pt x="623" y="242"/>
                    </a:lnTo>
                    <a:lnTo>
                      <a:pt x="616" y="241"/>
                    </a:lnTo>
                    <a:lnTo>
                      <a:pt x="598" y="239"/>
                    </a:lnTo>
                    <a:lnTo>
                      <a:pt x="580" y="238"/>
                    </a:lnTo>
                    <a:lnTo>
                      <a:pt x="563" y="238"/>
                    </a:lnTo>
                    <a:lnTo>
                      <a:pt x="545" y="238"/>
                    </a:lnTo>
                    <a:lnTo>
                      <a:pt x="531" y="238"/>
                    </a:lnTo>
                    <a:lnTo>
                      <a:pt x="520" y="238"/>
                    </a:lnTo>
                    <a:lnTo>
                      <a:pt x="512" y="238"/>
                    </a:lnTo>
                    <a:lnTo>
                      <a:pt x="510" y="238"/>
                    </a:lnTo>
                    <a:lnTo>
                      <a:pt x="511" y="242"/>
                    </a:lnTo>
                    <a:lnTo>
                      <a:pt x="515" y="254"/>
                    </a:lnTo>
                    <a:lnTo>
                      <a:pt x="522" y="270"/>
                    </a:lnTo>
                    <a:lnTo>
                      <a:pt x="530" y="292"/>
                    </a:lnTo>
                    <a:lnTo>
                      <a:pt x="538" y="317"/>
                    </a:lnTo>
                    <a:lnTo>
                      <a:pt x="545" y="344"/>
                    </a:lnTo>
                    <a:lnTo>
                      <a:pt x="548" y="357"/>
                    </a:lnTo>
                    <a:lnTo>
                      <a:pt x="551" y="371"/>
                    </a:lnTo>
                    <a:lnTo>
                      <a:pt x="553" y="384"/>
                    </a:lnTo>
                    <a:lnTo>
                      <a:pt x="554" y="397"/>
                    </a:lnTo>
                    <a:lnTo>
                      <a:pt x="556" y="409"/>
                    </a:lnTo>
                    <a:lnTo>
                      <a:pt x="559" y="424"/>
                    </a:lnTo>
                    <a:lnTo>
                      <a:pt x="564" y="439"/>
                    </a:lnTo>
                    <a:lnTo>
                      <a:pt x="570" y="455"/>
                    </a:lnTo>
                    <a:lnTo>
                      <a:pt x="584" y="487"/>
                    </a:lnTo>
                    <a:lnTo>
                      <a:pt x="601" y="523"/>
                    </a:lnTo>
                    <a:lnTo>
                      <a:pt x="618" y="559"/>
                    </a:lnTo>
                    <a:lnTo>
                      <a:pt x="635" y="593"/>
                    </a:lnTo>
                    <a:lnTo>
                      <a:pt x="651" y="628"/>
                    </a:lnTo>
                    <a:lnTo>
                      <a:pt x="665" y="658"/>
                    </a:lnTo>
                    <a:lnTo>
                      <a:pt x="676" y="686"/>
                    </a:lnTo>
                    <a:lnTo>
                      <a:pt x="685" y="711"/>
                    </a:lnTo>
                    <a:lnTo>
                      <a:pt x="688" y="723"/>
                    </a:lnTo>
                    <a:lnTo>
                      <a:pt x="690" y="733"/>
                    </a:lnTo>
                    <a:lnTo>
                      <a:pt x="691" y="744"/>
                    </a:lnTo>
                    <a:lnTo>
                      <a:pt x="692" y="754"/>
                    </a:lnTo>
                    <a:lnTo>
                      <a:pt x="693" y="763"/>
                    </a:lnTo>
                    <a:lnTo>
                      <a:pt x="692" y="771"/>
                    </a:lnTo>
                    <a:lnTo>
                      <a:pt x="691" y="780"/>
                    </a:lnTo>
                    <a:lnTo>
                      <a:pt x="690" y="787"/>
                    </a:lnTo>
                    <a:lnTo>
                      <a:pt x="688" y="794"/>
                    </a:lnTo>
                    <a:lnTo>
                      <a:pt x="685" y="800"/>
                    </a:lnTo>
                    <a:lnTo>
                      <a:pt x="682" y="806"/>
                    </a:lnTo>
                    <a:lnTo>
                      <a:pt x="677" y="811"/>
                    </a:lnTo>
                    <a:lnTo>
                      <a:pt x="673" y="817"/>
                    </a:lnTo>
                    <a:lnTo>
                      <a:pt x="669" y="820"/>
                    </a:lnTo>
                    <a:lnTo>
                      <a:pt x="664" y="822"/>
                    </a:lnTo>
                    <a:lnTo>
                      <a:pt x="659" y="823"/>
                    </a:lnTo>
                    <a:lnTo>
                      <a:pt x="655" y="824"/>
                    </a:lnTo>
                    <a:lnTo>
                      <a:pt x="650" y="823"/>
                    </a:lnTo>
                    <a:lnTo>
                      <a:pt x="645" y="823"/>
                    </a:lnTo>
                    <a:lnTo>
                      <a:pt x="640" y="822"/>
                    </a:lnTo>
                    <a:lnTo>
                      <a:pt x="633" y="819"/>
                    </a:lnTo>
                    <a:lnTo>
                      <a:pt x="626" y="816"/>
                    </a:lnTo>
                    <a:lnTo>
                      <a:pt x="622" y="812"/>
                    </a:lnTo>
                    <a:lnTo>
                      <a:pt x="621" y="811"/>
                    </a:lnTo>
                    <a:lnTo>
                      <a:pt x="621" y="813"/>
                    </a:lnTo>
                    <a:lnTo>
                      <a:pt x="623" y="818"/>
                    </a:lnTo>
                    <a:lnTo>
                      <a:pt x="626" y="824"/>
                    </a:lnTo>
                    <a:lnTo>
                      <a:pt x="630" y="833"/>
                    </a:lnTo>
                    <a:lnTo>
                      <a:pt x="633" y="841"/>
                    </a:lnTo>
                    <a:lnTo>
                      <a:pt x="635" y="850"/>
                    </a:lnTo>
                    <a:lnTo>
                      <a:pt x="637" y="859"/>
                    </a:lnTo>
                    <a:lnTo>
                      <a:pt x="638" y="866"/>
                    </a:lnTo>
                    <a:lnTo>
                      <a:pt x="636" y="874"/>
                    </a:lnTo>
                    <a:lnTo>
                      <a:pt x="633" y="883"/>
                    </a:lnTo>
                    <a:lnTo>
                      <a:pt x="626" y="893"/>
                    </a:lnTo>
                    <a:lnTo>
                      <a:pt x="620" y="903"/>
                    </a:lnTo>
                    <a:lnTo>
                      <a:pt x="611" y="913"/>
                    </a:lnTo>
                    <a:lnTo>
                      <a:pt x="604" y="920"/>
                    </a:lnTo>
                    <a:lnTo>
                      <a:pt x="599" y="924"/>
                    </a:lnTo>
                    <a:lnTo>
                      <a:pt x="595" y="926"/>
                    </a:lnTo>
                    <a:lnTo>
                      <a:pt x="592" y="927"/>
                    </a:lnTo>
                    <a:lnTo>
                      <a:pt x="589" y="928"/>
                    </a:lnTo>
                    <a:lnTo>
                      <a:pt x="580" y="927"/>
                    </a:lnTo>
                    <a:lnTo>
                      <a:pt x="570" y="922"/>
                    </a:lnTo>
                    <a:lnTo>
                      <a:pt x="558" y="917"/>
                    </a:lnTo>
                    <a:lnTo>
                      <a:pt x="547" y="911"/>
                    </a:lnTo>
                    <a:lnTo>
                      <a:pt x="535" y="904"/>
                    </a:lnTo>
                    <a:lnTo>
                      <a:pt x="526" y="899"/>
                    </a:lnTo>
                    <a:lnTo>
                      <a:pt x="520" y="894"/>
                    </a:lnTo>
                    <a:lnTo>
                      <a:pt x="517" y="893"/>
                    </a:lnTo>
                    <a:lnTo>
                      <a:pt x="517" y="900"/>
                    </a:lnTo>
                    <a:lnTo>
                      <a:pt x="516" y="906"/>
                    </a:lnTo>
                    <a:lnTo>
                      <a:pt x="515" y="913"/>
                    </a:lnTo>
                    <a:lnTo>
                      <a:pt x="513" y="918"/>
                    </a:lnTo>
                    <a:lnTo>
                      <a:pt x="511" y="922"/>
                    </a:lnTo>
                    <a:lnTo>
                      <a:pt x="508" y="927"/>
                    </a:lnTo>
                    <a:lnTo>
                      <a:pt x="504" y="931"/>
                    </a:lnTo>
                    <a:lnTo>
                      <a:pt x="501" y="934"/>
                    </a:lnTo>
                    <a:lnTo>
                      <a:pt x="495" y="939"/>
                    </a:lnTo>
                    <a:lnTo>
                      <a:pt x="488" y="943"/>
                    </a:lnTo>
                    <a:lnTo>
                      <a:pt x="484" y="944"/>
                    </a:lnTo>
                    <a:lnTo>
                      <a:pt x="483" y="945"/>
                    </a:lnTo>
                    <a:lnTo>
                      <a:pt x="361" y="878"/>
                    </a:lnTo>
                    <a:lnTo>
                      <a:pt x="360" y="878"/>
                    </a:lnTo>
                    <a:lnTo>
                      <a:pt x="355" y="879"/>
                    </a:lnTo>
                    <a:lnTo>
                      <a:pt x="349" y="879"/>
                    </a:lnTo>
                    <a:lnTo>
                      <a:pt x="340" y="878"/>
                    </a:lnTo>
                    <a:lnTo>
                      <a:pt x="329" y="877"/>
                    </a:lnTo>
                    <a:lnTo>
                      <a:pt x="319" y="875"/>
                    </a:lnTo>
                    <a:lnTo>
                      <a:pt x="307" y="872"/>
                    </a:lnTo>
                    <a:lnTo>
                      <a:pt x="295" y="866"/>
                    </a:lnTo>
                    <a:lnTo>
                      <a:pt x="280" y="858"/>
                    </a:lnTo>
                    <a:lnTo>
                      <a:pt x="263" y="846"/>
                    </a:lnTo>
                    <a:lnTo>
                      <a:pt x="245" y="832"/>
                    </a:lnTo>
                    <a:lnTo>
                      <a:pt x="227" y="816"/>
                    </a:lnTo>
                    <a:lnTo>
                      <a:pt x="206" y="800"/>
                    </a:lnTo>
                    <a:lnTo>
                      <a:pt x="187" y="785"/>
                    </a:lnTo>
                    <a:lnTo>
                      <a:pt x="168" y="772"/>
                    </a:lnTo>
                    <a:lnTo>
                      <a:pt x="151" y="763"/>
                    </a:lnTo>
                    <a:lnTo>
                      <a:pt x="142" y="757"/>
                    </a:lnTo>
                    <a:lnTo>
                      <a:pt x="134" y="751"/>
                    </a:lnTo>
                    <a:lnTo>
                      <a:pt x="125" y="744"/>
                    </a:lnTo>
                    <a:lnTo>
                      <a:pt x="117" y="736"/>
                    </a:lnTo>
                    <a:lnTo>
                      <a:pt x="108" y="726"/>
                    </a:lnTo>
                    <a:lnTo>
                      <a:pt x="99" y="715"/>
                    </a:lnTo>
                    <a:lnTo>
                      <a:pt x="91" y="703"/>
                    </a:lnTo>
                    <a:lnTo>
                      <a:pt x="83" y="691"/>
                    </a:lnTo>
                    <a:lnTo>
                      <a:pt x="67" y="664"/>
                    </a:lnTo>
                    <a:lnTo>
                      <a:pt x="52" y="636"/>
                    </a:lnTo>
                    <a:lnTo>
                      <a:pt x="39" y="606"/>
                    </a:lnTo>
                    <a:lnTo>
                      <a:pt x="27" y="575"/>
                    </a:lnTo>
                    <a:lnTo>
                      <a:pt x="23" y="560"/>
                    </a:lnTo>
                    <a:lnTo>
                      <a:pt x="18" y="547"/>
                    </a:lnTo>
                    <a:lnTo>
                      <a:pt x="14" y="535"/>
                    </a:lnTo>
                    <a:lnTo>
                      <a:pt x="11" y="524"/>
                    </a:lnTo>
                    <a:lnTo>
                      <a:pt x="9" y="514"/>
                    </a:lnTo>
                    <a:lnTo>
                      <a:pt x="5" y="505"/>
                    </a:lnTo>
                    <a:lnTo>
                      <a:pt x="3" y="495"/>
                    </a:lnTo>
                    <a:lnTo>
                      <a:pt x="0" y="485"/>
                    </a:lnTo>
                    <a:lnTo>
                      <a:pt x="3" y="485"/>
                    </a:lnTo>
                    <a:lnTo>
                      <a:pt x="11" y="486"/>
                    </a:lnTo>
                    <a:lnTo>
                      <a:pt x="22" y="486"/>
                    </a:lnTo>
                    <a:lnTo>
                      <a:pt x="33" y="484"/>
                    </a:lnTo>
                    <a:lnTo>
                      <a:pt x="41" y="483"/>
                    </a:lnTo>
                    <a:lnTo>
                      <a:pt x="47" y="481"/>
                    </a:lnTo>
                    <a:lnTo>
                      <a:pt x="54" y="479"/>
                    </a:lnTo>
                    <a:lnTo>
                      <a:pt x="59" y="475"/>
                    </a:lnTo>
                    <a:lnTo>
                      <a:pt x="65" y="471"/>
                    </a:lnTo>
                    <a:lnTo>
                      <a:pt x="70" y="466"/>
                    </a:lnTo>
                    <a:lnTo>
                      <a:pt x="73" y="460"/>
                    </a:lnTo>
                    <a:lnTo>
                      <a:pt x="77" y="453"/>
                    </a:lnTo>
                    <a:lnTo>
                      <a:pt x="80" y="441"/>
                    </a:lnTo>
                    <a:lnTo>
                      <a:pt x="81" y="430"/>
                    </a:lnTo>
                    <a:lnTo>
                      <a:pt x="82" y="421"/>
                    </a:lnTo>
                    <a:lnTo>
                      <a:pt x="83" y="416"/>
                    </a:lnTo>
                    <a:lnTo>
                      <a:pt x="84" y="414"/>
                    </a:lnTo>
                    <a:lnTo>
                      <a:pt x="86" y="414"/>
                    </a:lnTo>
                    <a:lnTo>
                      <a:pt x="88" y="414"/>
                    </a:lnTo>
                    <a:lnTo>
                      <a:pt x="91" y="415"/>
                    </a:lnTo>
                    <a:lnTo>
                      <a:pt x="98" y="419"/>
                    </a:lnTo>
                    <a:lnTo>
                      <a:pt x="109" y="429"/>
                    </a:lnTo>
                    <a:lnTo>
                      <a:pt x="115" y="433"/>
                    </a:lnTo>
                    <a:lnTo>
                      <a:pt x="123" y="438"/>
                    </a:lnTo>
                    <a:lnTo>
                      <a:pt x="131" y="440"/>
                    </a:lnTo>
                    <a:lnTo>
                      <a:pt x="138" y="441"/>
                    </a:lnTo>
                    <a:lnTo>
                      <a:pt x="146" y="441"/>
                    </a:lnTo>
                    <a:lnTo>
                      <a:pt x="153" y="440"/>
                    </a:lnTo>
                    <a:lnTo>
                      <a:pt x="162" y="439"/>
                    </a:lnTo>
                    <a:lnTo>
                      <a:pt x="168" y="435"/>
                    </a:lnTo>
                    <a:lnTo>
                      <a:pt x="176" y="432"/>
                    </a:lnTo>
                    <a:lnTo>
                      <a:pt x="182" y="428"/>
                    </a:lnTo>
                    <a:lnTo>
                      <a:pt x="188" y="424"/>
                    </a:lnTo>
                    <a:lnTo>
                      <a:pt x="193" y="418"/>
                    </a:lnTo>
                    <a:lnTo>
                      <a:pt x="198" y="412"/>
                    </a:lnTo>
                    <a:lnTo>
                      <a:pt x="200" y="405"/>
                    </a:lnTo>
                    <a:lnTo>
                      <a:pt x="202" y="399"/>
                    </a:lnTo>
                    <a:lnTo>
                      <a:pt x="203" y="391"/>
                    </a:lnTo>
                    <a:lnTo>
                      <a:pt x="203" y="385"/>
                    </a:lnTo>
                    <a:lnTo>
                      <a:pt x="204" y="380"/>
                    </a:lnTo>
                    <a:lnTo>
                      <a:pt x="205" y="377"/>
                    </a:lnTo>
                    <a:lnTo>
                      <a:pt x="207" y="375"/>
                    </a:lnTo>
                    <a:lnTo>
                      <a:pt x="209" y="374"/>
                    </a:lnTo>
                    <a:lnTo>
                      <a:pt x="212" y="374"/>
                    </a:lnTo>
                    <a:lnTo>
                      <a:pt x="215" y="375"/>
                    </a:lnTo>
                    <a:lnTo>
                      <a:pt x="218" y="377"/>
                    </a:lnTo>
                    <a:lnTo>
                      <a:pt x="227" y="382"/>
                    </a:lnTo>
                    <a:lnTo>
                      <a:pt x="236" y="388"/>
                    </a:lnTo>
                    <a:lnTo>
                      <a:pt x="242" y="391"/>
                    </a:lnTo>
                    <a:lnTo>
                      <a:pt x="247" y="393"/>
                    </a:lnTo>
                    <a:lnTo>
                      <a:pt x="254" y="395"/>
                    </a:lnTo>
                    <a:lnTo>
                      <a:pt x="260" y="397"/>
                    </a:lnTo>
                    <a:lnTo>
                      <a:pt x="266" y="397"/>
                    </a:lnTo>
                    <a:lnTo>
                      <a:pt x="272" y="395"/>
                    </a:lnTo>
                    <a:lnTo>
                      <a:pt x="279" y="393"/>
                    </a:lnTo>
                    <a:lnTo>
                      <a:pt x="285" y="391"/>
                    </a:lnTo>
                    <a:lnTo>
                      <a:pt x="290" y="387"/>
                    </a:lnTo>
                    <a:lnTo>
                      <a:pt x="297" y="382"/>
                    </a:lnTo>
                    <a:lnTo>
                      <a:pt x="302" y="377"/>
                    </a:lnTo>
                    <a:lnTo>
                      <a:pt x="308" y="372"/>
                    </a:lnTo>
                    <a:lnTo>
                      <a:pt x="313" y="365"/>
                    </a:lnTo>
                    <a:lnTo>
                      <a:pt x="317" y="359"/>
                    </a:lnTo>
                    <a:lnTo>
                      <a:pt x="322" y="352"/>
                    </a:lnTo>
                    <a:lnTo>
                      <a:pt x="325" y="346"/>
                    </a:lnTo>
                    <a:lnTo>
                      <a:pt x="327" y="339"/>
                    </a:lnTo>
                    <a:lnTo>
                      <a:pt x="328" y="334"/>
                    </a:lnTo>
                    <a:lnTo>
                      <a:pt x="329" y="327"/>
                    </a:lnTo>
                    <a:lnTo>
                      <a:pt x="329" y="322"/>
                    </a:lnTo>
                    <a:lnTo>
                      <a:pt x="327" y="312"/>
                    </a:lnTo>
                    <a:lnTo>
                      <a:pt x="326" y="305"/>
                    </a:lnTo>
                    <a:lnTo>
                      <a:pt x="326" y="297"/>
                    </a:lnTo>
                    <a:lnTo>
                      <a:pt x="327" y="293"/>
                    </a:lnTo>
                    <a:lnTo>
                      <a:pt x="328" y="291"/>
                    </a:lnTo>
                    <a:lnTo>
                      <a:pt x="329" y="290"/>
                    </a:lnTo>
                    <a:lnTo>
                      <a:pt x="332" y="289"/>
                    </a:lnTo>
                    <a:lnTo>
                      <a:pt x="334" y="289"/>
                    </a:lnTo>
                    <a:lnTo>
                      <a:pt x="339" y="290"/>
                    </a:lnTo>
                    <a:lnTo>
                      <a:pt x="347" y="293"/>
                    </a:lnTo>
                    <a:lnTo>
                      <a:pt x="354" y="296"/>
                    </a:lnTo>
                    <a:lnTo>
                      <a:pt x="364" y="300"/>
                    </a:lnTo>
                    <a:lnTo>
                      <a:pt x="373" y="303"/>
                    </a:lnTo>
                    <a:lnTo>
                      <a:pt x="383" y="305"/>
                    </a:lnTo>
                    <a:lnTo>
                      <a:pt x="389" y="305"/>
                    </a:lnTo>
                    <a:lnTo>
                      <a:pt x="394" y="304"/>
                    </a:lnTo>
                    <a:lnTo>
                      <a:pt x="400" y="303"/>
                    </a:lnTo>
                    <a:lnTo>
                      <a:pt x="406" y="300"/>
                    </a:lnTo>
                    <a:lnTo>
                      <a:pt x="411" y="297"/>
                    </a:lnTo>
                    <a:lnTo>
                      <a:pt x="419" y="294"/>
                    </a:lnTo>
                    <a:lnTo>
                      <a:pt x="426" y="289"/>
                    </a:lnTo>
                    <a:lnTo>
                      <a:pt x="433" y="283"/>
                    </a:lnTo>
                    <a:lnTo>
                      <a:pt x="440" y="277"/>
                    </a:lnTo>
                    <a:lnTo>
                      <a:pt x="446" y="270"/>
                    </a:lnTo>
                    <a:lnTo>
                      <a:pt x="451" y="265"/>
                    </a:lnTo>
                    <a:lnTo>
                      <a:pt x="457" y="258"/>
                    </a:lnTo>
                    <a:lnTo>
                      <a:pt x="460" y="252"/>
                    </a:lnTo>
                    <a:lnTo>
                      <a:pt x="464" y="245"/>
                    </a:lnTo>
                    <a:lnTo>
                      <a:pt x="467" y="239"/>
                    </a:lnTo>
                    <a:lnTo>
                      <a:pt x="469" y="231"/>
                    </a:lnTo>
                    <a:lnTo>
                      <a:pt x="470" y="224"/>
                    </a:lnTo>
                    <a:lnTo>
                      <a:pt x="471" y="216"/>
                    </a:lnTo>
                    <a:lnTo>
                      <a:pt x="471" y="208"/>
                    </a:lnTo>
                    <a:lnTo>
                      <a:pt x="470" y="198"/>
                    </a:lnTo>
                    <a:lnTo>
                      <a:pt x="467" y="177"/>
                    </a:lnTo>
                    <a:lnTo>
                      <a:pt x="460" y="155"/>
                    </a:lnTo>
                    <a:close/>
                  </a:path>
                </a:pathLst>
              </a:custGeom>
              <a:solidFill>
                <a:srgbClr val="dea3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5560920" y="3581640"/>
                <a:ext cx="285840" cy="287280"/>
              </a:xfrm>
              <a:custGeom>
                <a:avLst/>
                <a:gdLst/>
                <a:ahLst/>
                <a:rect l="l" t="t" r="r" b="b"/>
                <a:pathLst>
                  <a:path w="898" h="908">
                    <a:moveTo>
                      <a:pt x="465" y="124"/>
                    </a:moveTo>
                    <a:lnTo>
                      <a:pt x="458" y="101"/>
                    </a:lnTo>
                    <a:lnTo>
                      <a:pt x="451" y="75"/>
                    </a:lnTo>
                    <a:lnTo>
                      <a:pt x="449" y="63"/>
                    </a:lnTo>
                    <a:lnTo>
                      <a:pt x="446" y="50"/>
                    </a:lnTo>
                    <a:lnTo>
                      <a:pt x="446" y="37"/>
                    </a:lnTo>
                    <a:lnTo>
                      <a:pt x="446" y="26"/>
                    </a:lnTo>
                    <a:lnTo>
                      <a:pt x="448" y="20"/>
                    </a:lnTo>
                    <a:lnTo>
                      <a:pt x="449" y="16"/>
                    </a:lnTo>
                    <a:lnTo>
                      <a:pt x="451" y="12"/>
                    </a:lnTo>
                    <a:lnTo>
                      <a:pt x="453" y="9"/>
                    </a:lnTo>
                    <a:lnTo>
                      <a:pt x="456" y="5"/>
                    </a:lnTo>
                    <a:lnTo>
                      <a:pt x="459" y="3"/>
                    </a:lnTo>
                    <a:lnTo>
                      <a:pt x="464" y="1"/>
                    </a:lnTo>
                    <a:lnTo>
                      <a:pt x="469" y="0"/>
                    </a:lnTo>
                    <a:lnTo>
                      <a:pt x="475" y="0"/>
                    </a:lnTo>
                    <a:lnTo>
                      <a:pt x="480" y="0"/>
                    </a:lnTo>
                    <a:lnTo>
                      <a:pt x="488" y="2"/>
                    </a:lnTo>
                    <a:lnTo>
                      <a:pt x="495" y="4"/>
                    </a:lnTo>
                    <a:lnTo>
                      <a:pt x="504" y="7"/>
                    </a:lnTo>
                    <a:lnTo>
                      <a:pt x="512" y="12"/>
                    </a:lnTo>
                    <a:lnTo>
                      <a:pt x="523" y="17"/>
                    </a:lnTo>
                    <a:lnTo>
                      <a:pt x="534" y="24"/>
                    </a:lnTo>
                    <a:lnTo>
                      <a:pt x="551" y="32"/>
                    </a:lnTo>
                    <a:lnTo>
                      <a:pt x="565" y="40"/>
                    </a:lnTo>
                    <a:lnTo>
                      <a:pt x="578" y="46"/>
                    </a:lnTo>
                    <a:lnTo>
                      <a:pt x="590" y="53"/>
                    </a:lnTo>
                    <a:lnTo>
                      <a:pt x="601" y="60"/>
                    </a:lnTo>
                    <a:lnTo>
                      <a:pt x="611" y="69"/>
                    </a:lnTo>
                    <a:lnTo>
                      <a:pt x="615" y="74"/>
                    </a:lnTo>
                    <a:lnTo>
                      <a:pt x="619" y="80"/>
                    </a:lnTo>
                    <a:lnTo>
                      <a:pt x="624" y="87"/>
                    </a:lnTo>
                    <a:lnTo>
                      <a:pt x="628" y="95"/>
                    </a:lnTo>
                    <a:lnTo>
                      <a:pt x="638" y="112"/>
                    </a:lnTo>
                    <a:lnTo>
                      <a:pt x="651" y="129"/>
                    </a:lnTo>
                    <a:lnTo>
                      <a:pt x="665" y="147"/>
                    </a:lnTo>
                    <a:lnTo>
                      <a:pt x="680" y="164"/>
                    </a:lnTo>
                    <a:lnTo>
                      <a:pt x="697" y="179"/>
                    </a:lnTo>
                    <a:lnTo>
                      <a:pt x="714" y="194"/>
                    </a:lnTo>
                    <a:lnTo>
                      <a:pt x="732" y="206"/>
                    </a:lnTo>
                    <a:lnTo>
                      <a:pt x="749" y="216"/>
                    </a:lnTo>
                    <a:lnTo>
                      <a:pt x="758" y="220"/>
                    </a:lnTo>
                    <a:lnTo>
                      <a:pt x="767" y="223"/>
                    </a:lnTo>
                    <a:lnTo>
                      <a:pt x="777" y="227"/>
                    </a:lnTo>
                    <a:lnTo>
                      <a:pt x="787" y="229"/>
                    </a:lnTo>
                    <a:lnTo>
                      <a:pt x="806" y="233"/>
                    </a:lnTo>
                    <a:lnTo>
                      <a:pt x="826" y="235"/>
                    </a:lnTo>
                    <a:lnTo>
                      <a:pt x="842" y="237"/>
                    </a:lnTo>
                    <a:lnTo>
                      <a:pt x="856" y="237"/>
                    </a:lnTo>
                    <a:lnTo>
                      <a:pt x="865" y="239"/>
                    </a:lnTo>
                    <a:lnTo>
                      <a:pt x="868" y="239"/>
                    </a:lnTo>
                    <a:lnTo>
                      <a:pt x="875" y="239"/>
                    </a:lnTo>
                    <a:lnTo>
                      <a:pt x="883" y="239"/>
                    </a:lnTo>
                    <a:lnTo>
                      <a:pt x="892" y="240"/>
                    </a:lnTo>
                    <a:lnTo>
                      <a:pt x="897" y="242"/>
                    </a:lnTo>
                    <a:lnTo>
                      <a:pt x="898" y="243"/>
                    </a:lnTo>
                    <a:lnTo>
                      <a:pt x="898" y="245"/>
                    </a:lnTo>
                    <a:lnTo>
                      <a:pt x="897" y="247"/>
                    </a:lnTo>
                    <a:lnTo>
                      <a:pt x="893" y="250"/>
                    </a:lnTo>
                    <a:lnTo>
                      <a:pt x="880" y="259"/>
                    </a:lnTo>
                    <a:lnTo>
                      <a:pt x="856" y="270"/>
                    </a:lnTo>
                    <a:lnTo>
                      <a:pt x="842" y="276"/>
                    </a:lnTo>
                    <a:lnTo>
                      <a:pt x="829" y="281"/>
                    </a:lnTo>
                    <a:lnTo>
                      <a:pt x="816" y="284"/>
                    </a:lnTo>
                    <a:lnTo>
                      <a:pt x="804" y="286"/>
                    </a:lnTo>
                    <a:lnTo>
                      <a:pt x="793" y="288"/>
                    </a:lnTo>
                    <a:lnTo>
                      <a:pt x="782" y="289"/>
                    </a:lnTo>
                    <a:lnTo>
                      <a:pt x="773" y="289"/>
                    </a:lnTo>
                    <a:lnTo>
                      <a:pt x="763" y="288"/>
                    </a:lnTo>
                    <a:lnTo>
                      <a:pt x="754" y="287"/>
                    </a:lnTo>
                    <a:lnTo>
                      <a:pt x="745" y="285"/>
                    </a:lnTo>
                    <a:lnTo>
                      <a:pt x="736" y="283"/>
                    </a:lnTo>
                    <a:lnTo>
                      <a:pt x="728" y="280"/>
                    </a:lnTo>
                    <a:lnTo>
                      <a:pt x="711" y="273"/>
                    </a:lnTo>
                    <a:lnTo>
                      <a:pt x="695" y="266"/>
                    </a:lnTo>
                    <a:lnTo>
                      <a:pt x="687" y="261"/>
                    </a:lnTo>
                    <a:lnTo>
                      <a:pt x="680" y="257"/>
                    </a:lnTo>
                    <a:lnTo>
                      <a:pt x="674" y="252"/>
                    </a:lnTo>
                    <a:lnTo>
                      <a:pt x="669" y="247"/>
                    </a:lnTo>
                    <a:lnTo>
                      <a:pt x="660" y="237"/>
                    </a:lnTo>
                    <a:lnTo>
                      <a:pt x="653" y="228"/>
                    </a:lnTo>
                    <a:lnTo>
                      <a:pt x="645" y="219"/>
                    </a:lnTo>
                    <a:lnTo>
                      <a:pt x="637" y="213"/>
                    </a:lnTo>
                    <a:lnTo>
                      <a:pt x="631" y="209"/>
                    </a:lnTo>
                    <a:lnTo>
                      <a:pt x="626" y="207"/>
                    </a:lnTo>
                    <a:lnTo>
                      <a:pt x="618" y="205"/>
                    </a:lnTo>
                    <a:lnTo>
                      <a:pt x="611" y="204"/>
                    </a:lnTo>
                    <a:lnTo>
                      <a:pt x="593" y="202"/>
                    </a:lnTo>
                    <a:lnTo>
                      <a:pt x="575" y="201"/>
                    </a:lnTo>
                    <a:lnTo>
                      <a:pt x="558" y="201"/>
                    </a:lnTo>
                    <a:lnTo>
                      <a:pt x="540" y="201"/>
                    </a:lnTo>
                    <a:lnTo>
                      <a:pt x="526" y="201"/>
                    </a:lnTo>
                    <a:lnTo>
                      <a:pt x="515" y="201"/>
                    </a:lnTo>
                    <a:lnTo>
                      <a:pt x="507" y="201"/>
                    </a:lnTo>
                    <a:lnTo>
                      <a:pt x="505" y="201"/>
                    </a:lnTo>
                    <a:lnTo>
                      <a:pt x="506" y="205"/>
                    </a:lnTo>
                    <a:lnTo>
                      <a:pt x="510" y="217"/>
                    </a:lnTo>
                    <a:lnTo>
                      <a:pt x="517" y="233"/>
                    </a:lnTo>
                    <a:lnTo>
                      <a:pt x="525" y="255"/>
                    </a:lnTo>
                    <a:lnTo>
                      <a:pt x="533" y="280"/>
                    </a:lnTo>
                    <a:lnTo>
                      <a:pt x="540" y="307"/>
                    </a:lnTo>
                    <a:lnTo>
                      <a:pt x="543" y="320"/>
                    </a:lnTo>
                    <a:lnTo>
                      <a:pt x="546" y="334"/>
                    </a:lnTo>
                    <a:lnTo>
                      <a:pt x="548" y="347"/>
                    </a:lnTo>
                    <a:lnTo>
                      <a:pt x="549" y="360"/>
                    </a:lnTo>
                    <a:lnTo>
                      <a:pt x="551" y="372"/>
                    </a:lnTo>
                    <a:lnTo>
                      <a:pt x="554" y="387"/>
                    </a:lnTo>
                    <a:lnTo>
                      <a:pt x="559" y="402"/>
                    </a:lnTo>
                    <a:lnTo>
                      <a:pt x="565" y="418"/>
                    </a:lnTo>
                    <a:lnTo>
                      <a:pt x="579" y="450"/>
                    </a:lnTo>
                    <a:lnTo>
                      <a:pt x="596" y="486"/>
                    </a:lnTo>
                    <a:lnTo>
                      <a:pt x="613" y="522"/>
                    </a:lnTo>
                    <a:lnTo>
                      <a:pt x="630" y="556"/>
                    </a:lnTo>
                    <a:lnTo>
                      <a:pt x="646" y="591"/>
                    </a:lnTo>
                    <a:lnTo>
                      <a:pt x="660" y="621"/>
                    </a:lnTo>
                    <a:lnTo>
                      <a:pt x="671" y="649"/>
                    </a:lnTo>
                    <a:lnTo>
                      <a:pt x="680" y="674"/>
                    </a:lnTo>
                    <a:lnTo>
                      <a:pt x="683" y="686"/>
                    </a:lnTo>
                    <a:lnTo>
                      <a:pt x="685" y="696"/>
                    </a:lnTo>
                    <a:lnTo>
                      <a:pt x="686" y="707"/>
                    </a:lnTo>
                    <a:lnTo>
                      <a:pt x="687" y="717"/>
                    </a:lnTo>
                    <a:lnTo>
                      <a:pt x="688" y="726"/>
                    </a:lnTo>
                    <a:lnTo>
                      <a:pt x="687" y="734"/>
                    </a:lnTo>
                    <a:lnTo>
                      <a:pt x="686" y="743"/>
                    </a:lnTo>
                    <a:lnTo>
                      <a:pt x="685" y="750"/>
                    </a:lnTo>
                    <a:lnTo>
                      <a:pt x="683" y="757"/>
                    </a:lnTo>
                    <a:lnTo>
                      <a:pt x="680" y="763"/>
                    </a:lnTo>
                    <a:lnTo>
                      <a:pt x="677" y="769"/>
                    </a:lnTo>
                    <a:lnTo>
                      <a:pt x="672" y="774"/>
                    </a:lnTo>
                    <a:lnTo>
                      <a:pt x="668" y="780"/>
                    </a:lnTo>
                    <a:lnTo>
                      <a:pt x="664" y="783"/>
                    </a:lnTo>
                    <a:lnTo>
                      <a:pt x="659" y="785"/>
                    </a:lnTo>
                    <a:lnTo>
                      <a:pt x="654" y="786"/>
                    </a:lnTo>
                    <a:lnTo>
                      <a:pt x="650" y="787"/>
                    </a:lnTo>
                    <a:lnTo>
                      <a:pt x="645" y="786"/>
                    </a:lnTo>
                    <a:lnTo>
                      <a:pt x="640" y="786"/>
                    </a:lnTo>
                    <a:lnTo>
                      <a:pt x="635" y="785"/>
                    </a:lnTo>
                    <a:lnTo>
                      <a:pt x="628" y="782"/>
                    </a:lnTo>
                    <a:lnTo>
                      <a:pt x="621" y="779"/>
                    </a:lnTo>
                    <a:lnTo>
                      <a:pt x="617" y="775"/>
                    </a:lnTo>
                    <a:lnTo>
                      <a:pt x="616" y="774"/>
                    </a:lnTo>
                    <a:lnTo>
                      <a:pt x="616" y="776"/>
                    </a:lnTo>
                    <a:lnTo>
                      <a:pt x="618" y="781"/>
                    </a:lnTo>
                    <a:lnTo>
                      <a:pt x="621" y="787"/>
                    </a:lnTo>
                    <a:lnTo>
                      <a:pt x="625" y="796"/>
                    </a:lnTo>
                    <a:lnTo>
                      <a:pt x="628" y="804"/>
                    </a:lnTo>
                    <a:lnTo>
                      <a:pt x="630" y="813"/>
                    </a:lnTo>
                    <a:lnTo>
                      <a:pt x="632" y="822"/>
                    </a:lnTo>
                    <a:lnTo>
                      <a:pt x="633" y="829"/>
                    </a:lnTo>
                    <a:lnTo>
                      <a:pt x="631" y="837"/>
                    </a:lnTo>
                    <a:lnTo>
                      <a:pt x="628" y="846"/>
                    </a:lnTo>
                    <a:lnTo>
                      <a:pt x="621" y="856"/>
                    </a:lnTo>
                    <a:lnTo>
                      <a:pt x="615" y="866"/>
                    </a:lnTo>
                    <a:lnTo>
                      <a:pt x="606" y="876"/>
                    </a:lnTo>
                    <a:lnTo>
                      <a:pt x="599" y="883"/>
                    </a:lnTo>
                    <a:lnTo>
                      <a:pt x="594" y="887"/>
                    </a:lnTo>
                    <a:lnTo>
                      <a:pt x="590" y="889"/>
                    </a:lnTo>
                    <a:lnTo>
                      <a:pt x="587" y="890"/>
                    </a:lnTo>
                    <a:lnTo>
                      <a:pt x="584" y="891"/>
                    </a:lnTo>
                    <a:lnTo>
                      <a:pt x="575" y="890"/>
                    </a:lnTo>
                    <a:lnTo>
                      <a:pt x="565" y="885"/>
                    </a:lnTo>
                    <a:lnTo>
                      <a:pt x="553" y="880"/>
                    </a:lnTo>
                    <a:lnTo>
                      <a:pt x="542" y="874"/>
                    </a:lnTo>
                    <a:lnTo>
                      <a:pt x="530" y="867"/>
                    </a:lnTo>
                    <a:lnTo>
                      <a:pt x="521" y="862"/>
                    </a:lnTo>
                    <a:lnTo>
                      <a:pt x="515" y="857"/>
                    </a:lnTo>
                    <a:lnTo>
                      <a:pt x="512" y="856"/>
                    </a:lnTo>
                    <a:lnTo>
                      <a:pt x="512" y="863"/>
                    </a:lnTo>
                    <a:lnTo>
                      <a:pt x="511" y="869"/>
                    </a:lnTo>
                    <a:lnTo>
                      <a:pt x="510" y="876"/>
                    </a:lnTo>
                    <a:lnTo>
                      <a:pt x="508" y="881"/>
                    </a:lnTo>
                    <a:lnTo>
                      <a:pt x="506" y="885"/>
                    </a:lnTo>
                    <a:lnTo>
                      <a:pt x="503" y="890"/>
                    </a:lnTo>
                    <a:lnTo>
                      <a:pt x="499" y="894"/>
                    </a:lnTo>
                    <a:lnTo>
                      <a:pt x="496" y="897"/>
                    </a:lnTo>
                    <a:lnTo>
                      <a:pt x="490" y="902"/>
                    </a:lnTo>
                    <a:lnTo>
                      <a:pt x="483" y="906"/>
                    </a:lnTo>
                    <a:lnTo>
                      <a:pt x="479" y="907"/>
                    </a:lnTo>
                    <a:lnTo>
                      <a:pt x="478" y="908"/>
                    </a:lnTo>
                    <a:lnTo>
                      <a:pt x="356" y="841"/>
                    </a:lnTo>
                    <a:lnTo>
                      <a:pt x="355" y="841"/>
                    </a:lnTo>
                    <a:lnTo>
                      <a:pt x="350" y="842"/>
                    </a:lnTo>
                    <a:lnTo>
                      <a:pt x="344" y="842"/>
                    </a:lnTo>
                    <a:lnTo>
                      <a:pt x="335" y="841"/>
                    </a:lnTo>
                    <a:lnTo>
                      <a:pt x="324" y="840"/>
                    </a:lnTo>
                    <a:lnTo>
                      <a:pt x="314" y="838"/>
                    </a:lnTo>
                    <a:lnTo>
                      <a:pt x="302" y="835"/>
                    </a:lnTo>
                    <a:lnTo>
                      <a:pt x="290" y="829"/>
                    </a:lnTo>
                    <a:lnTo>
                      <a:pt x="275" y="821"/>
                    </a:lnTo>
                    <a:lnTo>
                      <a:pt x="258" y="809"/>
                    </a:lnTo>
                    <a:lnTo>
                      <a:pt x="240" y="795"/>
                    </a:lnTo>
                    <a:lnTo>
                      <a:pt x="222" y="779"/>
                    </a:lnTo>
                    <a:lnTo>
                      <a:pt x="201" y="763"/>
                    </a:lnTo>
                    <a:lnTo>
                      <a:pt x="182" y="748"/>
                    </a:lnTo>
                    <a:lnTo>
                      <a:pt x="163" y="735"/>
                    </a:lnTo>
                    <a:lnTo>
                      <a:pt x="146" y="726"/>
                    </a:lnTo>
                    <a:lnTo>
                      <a:pt x="137" y="720"/>
                    </a:lnTo>
                    <a:lnTo>
                      <a:pt x="129" y="714"/>
                    </a:lnTo>
                    <a:lnTo>
                      <a:pt x="120" y="707"/>
                    </a:lnTo>
                    <a:lnTo>
                      <a:pt x="112" y="699"/>
                    </a:lnTo>
                    <a:lnTo>
                      <a:pt x="103" y="689"/>
                    </a:lnTo>
                    <a:lnTo>
                      <a:pt x="94" y="678"/>
                    </a:lnTo>
                    <a:lnTo>
                      <a:pt x="86" y="666"/>
                    </a:lnTo>
                    <a:lnTo>
                      <a:pt x="78" y="654"/>
                    </a:lnTo>
                    <a:lnTo>
                      <a:pt x="62" y="627"/>
                    </a:lnTo>
                    <a:lnTo>
                      <a:pt x="47" y="599"/>
                    </a:lnTo>
                    <a:lnTo>
                      <a:pt x="34" y="569"/>
                    </a:lnTo>
                    <a:lnTo>
                      <a:pt x="22" y="538"/>
                    </a:lnTo>
                    <a:lnTo>
                      <a:pt x="18" y="523"/>
                    </a:lnTo>
                    <a:lnTo>
                      <a:pt x="13" y="511"/>
                    </a:lnTo>
                    <a:lnTo>
                      <a:pt x="11" y="501"/>
                    </a:lnTo>
                    <a:lnTo>
                      <a:pt x="9" y="492"/>
                    </a:lnTo>
                    <a:lnTo>
                      <a:pt x="7" y="484"/>
                    </a:lnTo>
                    <a:lnTo>
                      <a:pt x="5" y="476"/>
                    </a:lnTo>
                    <a:lnTo>
                      <a:pt x="2" y="468"/>
                    </a:lnTo>
                    <a:lnTo>
                      <a:pt x="0" y="458"/>
                    </a:lnTo>
                    <a:lnTo>
                      <a:pt x="2" y="459"/>
                    </a:lnTo>
                    <a:lnTo>
                      <a:pt x="11" y="460"/>
                    </a:lnTo>
                    <a:lnTo>
                      <a:pt x="22" y="460"/>
                    </a:lnTo>
                    <a:lnTo>
                      <a:pt x="35" y="460"/>
                    </a:lnTo>
                    <a:lnTo>
                      <a:pt x="41" y="459"/>
                    </a:lnTo>
                    <a:lnTo>
                      <a:pt x="48" y="457"/>
                    </a:lnTo>
                    <a:lnTo>
                      <a:pt x="54" y="455"/>
                    </a:lnTo>
                    <a:lnTo>
                      <a:pt x="61" y="452"/>
                    </a:lnTo>
                    <a:lnTo>
                      <a:pt x="66" y="448"/>
                    </a:lnTo>
                    <a:lnTo>
                      <a:pt x="71" y="444"/>
                    </a:lnTo>
                    <a:lnTo>
                      <a:pt x="74" y="438"/>
                    </a:lnTo>
                    <a:lnTo>
                      <a:pt x="77" y="431"/>
                    </a:lnTo>
                    <a:lnTo>
                      <a:pt x="80" y="418"/>
                    </a:lnTo>
                    <a:lnTo>
                      <a:pt x="82" y="407"/>
                    </a:lnTo>
                    <a:lnTo>
                      <a:pt x="83" y="398"/>
                    </a:lnTo>
                    <a:lnTo>
                      <a:pt x="85" y="394"/>
                    </a:lnTo>
                    <a:lnTo>
                      <a:pt x="86" y="393"/>
                    </a:lnTo>
                    <a:lnTo>
                      <a:pt x="88" y="392"/>
                    </a:lnTo>
                    <a:lnTo>
                      <a:pt x="89" y="393"/>
                    </a:lnTo>
                    <a:lnTo>
                      <a:pt x="92" y="394"/>
                    </a:lnTo>
                    <a:lnTo>
                      <a:pt x="100" y="399"/>
                    </a:lnTo>
                    <a:lnTo>
                      <a:pt x="112" y="409"/>
                    </a:lnTo>
                    <a:lnTo>
                      <a:pt x="118" y="414"/>
                    </a:lnTo>
                    <a:lnTo>
                      <a:pt x="125" y="417"/>
                    </a:lnTo>
                    <a:lnTo>
                      <a:pt x="132" y="419"/>
                    </a:lnTo>
                    <a:lnTo>
                      <a:pt x="140" y="420"/>
                    </a:lnTo>
                    <a:lnTo>
                      <a:pt x="148" y="420"/>
                    </a:lnTo>
                    <a:lnTo>
                      <a:pt x="156" y="420"/>
                    </a:lnTo>
                    <a:lnTo>
                      <a:pt x="163" y="418"/>
                    </a:lnTo>
                    <a:lnTo>
                      <a:pt x="172" y="416"/>
                    </a:lnTo>
                    <a:lnTo>
                      <a:pt x="179" y="412"/>
                    </a:lnTo>
                    <a:lnTo>
                      <a:pt x="186" y="408"/>
                    </a:lnTo>
                    <a:lnTo>
                      <a:pt x="192" y="404"/>
                    </a:lnTo>
                    <a:lnTo>
                      <a:pt x="197" y="398"/>
                    </a:lnTo>
                    <a:lnTo>
                      <a:pt x="201" y="392"/>
                    </a:lnTo>
                    <a:lnTo>
                      <a:pt x="204" y="385"/>
                    </a:lnTo>
                    <a:lnTo>
                      <a:pt x="207" y="379"/>
                    </a:lnTo>
                    <a:lnTo>
                      <a:pt x="208" y="371"/>
                    </a:lnTo>
                    <a:lnTo>
                      <a:pt x="208" y="366"/>
                    </a:lnTo>
                    <a:lnTo>
                      <a:pt x="209" y="361"/>
                    </a:lnTo>
                    <a:lnTo>
                      <a:pt x="210" y="357"/>
                    </a:lnTo>
                    <a:lnTo>
                      <a:pt x="211" y="356"/>
                    </a:lnTo>
                    <a:lnTo>
                      <a:pt x="213" y="355"/>
                    </a:lnTo>
                    <a:lnTo>
                      <a:pt x="215" y="355"/>
                    </a:lnTo>
                    <a:lnTo>
                      <a:pt x="217" y="356"/>
                    </a:lnTo>
                    <a:lnTo>
                      <a:pt x="221" y="357"/>
                    </a:lnTo>
                    <a:lnTo>
                      <a:pt x="227" y="362"/>
                    </a:lnTo>
                    <a:lnTo>
                      <a:pt x="236" y="367"/>
                    </a:lnTo>
                    <a:lnTo>
                      <a:pt x="246" y="372"/>
                    </a:lnTo>
                    <a:lnTo>
                      <a:pt x="257" y="377"/>
                    </a:lnTo>
                    <a:lnTo>
                      <a:pt x="264" y="377"/>
                    </a:lnTo>
                    <a:lnTo>
                      <a:pt x="270" y="376"/>
                    </a:lnTo>
                    <a:lnTo>
                      <a:pt x="277" y="374"/>
                    </a:lnTo>
                    <a:lnTo>
                      <a:pt x="284" y="370"/>
                    </a:lnTo>
                    <a:lnTo>
                      <a:pt x="291" y="367"/>
                    </a:lnTo>
                    <a:lnTo>
                      <a:pt x="297" y="362"/>
                    </a:lnTo>
                    <a:lnTo>
                      <a:pt x="304" y="356"/>
                    </a:lnTo>
                    <a:lnTo>
                      <a:pt x="309" y="351"/>
                    </a:lnTo>
                    <a:lnTo>
                      <a:pt x="315" y="344"/>
                    </a:lnTo>
                    <a:lnTo>
                      <a:pt x="319" y="338"/>
                    </a:lnTo>
                    <a:lnTo>
                      <a:pt x="323" y="330"/>
                    </a:lnTo>
                    <a:lnTo>
                      <a:pt x="327" y="324"/>
                    </a:lnTo>
                    <a:lnTo>
                      <a:pt x="330" y="317"/>
                    </a:lnTo>
                    <a:lnTo>
                      <a:pt x="331" y="311"/>
                    </a:lnTo>
                    <a:lnTo>
                      <a:pt x="332" y="306"/>
                    </a:lnTo>
                    <a:lnTo>
                      <a:pt x="331" y="300"/>
                    </a:lnTo>
                    <a:lnTo>
                      <a:pt x="329" y="290"/>
                    </a:lnTo>
                    <a:lnTo>
                      <a:pt x="328" y="284"/>
                    </a:lnTo>
                    <a:lnTo>
                      <a:pt x="327" y="279"/>
                    </a:lnTo>
                    <a:lnTo>
                      <a:pt x="328" y="275"/>
                    </a:lnTo>
                    <a:lnTo>
                      <a:pt x="330" y="273"/>
                    </a:lnTo>
                    <a:lnTo>
                      <a:pt x="333" y="273"/>
                    </a:lnTo>
                    <a:lnTo>
                      <a:pt x="338" y="275"/>
                    </a:lnTo>
                    <a:lnTo>
                      <a:pt x="346" y="277"/>
                    </a:lnTo>
                    <a:lnTo>
                      <a:pt x="355" y="282"/>
                    </a:lnTo>
                    <a:lnTo>
                      <a:pt x="364" y="285"/>
                    </a:lnTo>
                    <a:lnTo>
                      <a:pt x="375" y="287"/>
                    </a:lnTo>
                    <a:lnTo>
                      <a:pt x="386" y="287"/>
                    </a:lnTo>
                    <a:lnTo>
                      <a:pt x="392" y="286"/>
                    </a:lnTo>
                    <a:lnTo>
                      <a:pt x="398" y="284"/>
                    </a:lnTo>
                    <a:lnTo>
                      <a:pt x="404" y="283"/>
                    </a:lnTo>
                    <a:lnTo>
                      <a:pt x="411" y="280"/>
                    </a:lnTo>
                    <a:lnTo>
                      <a:pt x="417" y="276"/>
                    </a:lnTo>
                    <a:lnTo>
                      <a:pt x="424" y="272"/>
                    </a:lnTo>
                    <a:lnTo>
                      <a:pt x="430" y="267"/>
                    </a:lnTo>
                    <a:lnTo>
                      <a:pt x="438" y="260"/>
                    </a:lnTo>
                    <a:lnTo>
                      <a:pt x="444" y="255"/>
                    </a:lnTo>
                    <a:lnTo>
                      <a:pt x="451" y="248"/>
                    </a:lnTo>
                    <a:lnTo>
                      <a:pt x="456" y="242"/>
                    </a:lnTo>
                    <a:lnTo>
                      <a:pt x="462" y="235"/>
                    </a:lnTo>
                    <a:lnTo>
                      <a:pt x="466" y="229"/>
                    </a:lnTo>
                    <a:lnTo>
                      <a:pt x="469" y="221"/>
                    </a:lnTo>
                    <a:lnTo>
                      <a:pt x="471" y="214"/>
                    </a:lnTo>
                    <a:lnTo>
                      <a:pt x="473" y="206"/>
                    </a:lnTo>
                    <a:lnTo>
                      <a:pt x="475" y="199"/>
                    </a:lnTo>
                    <a:lnTo>
                      <a:pt x="476" y="190"/>
                    </a:lnTo>
                    <a:lnTo>
                      <a:pt x="476" y="180"/>
                    </a:lnTo>
                    <a:lnTo>
                      <a:pt x="475" y="171"/>
                    </a:lnTo>
                    <a:lnTo>
                      <a:pt x="471" y="149"/>
                    </a:lnTo>
                    <a:lnTo>
                      <a:pt x="465" y="124"/>
                    </a:lnTo>
                    <a:close/>
                  </a:path>
                </a:pathLst>
              </a:custGeom>
              <a:solidFill>
                <a:srgbClr val="d89e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5564160" y="3592440"/>
                <a:ext cx="282600" cy="276480"/>
              </a:xfrm>
              <a:custGeom>
                <a:avLst/>
                <a:gdLst/>
                <a:ahLst/>
                <a:rect l="l" t="t" r="r" b="b"/>
                <a:pathLst>
                  <a:path w="889" h="870">
                    <a:moveTo>
                      <a:pt x="467" y="97"/>
                    </a:moveTo>
                    <a:lnTo>
                      <a:pt x="461" y="75"/>
                    </a:lnTo>
                    <a:lnTo>
                      <a:pt x="458" y="55"/>
                    </a:lnTo>
                    <a:lnTo>
                      <a:pt x="457" y="44"/>
                    </a:lnTo>
                    <a:lnTo>
                      <a:pt x="456" y="34"/>
                    </a:lnTo>
                    <a:lnTo>
                      <a:pt x="457" y="25"/>
                    </a:lnTo>
                    <a:lnTo>
                      <a:pt x="459" y="16"/>
                    </a:lnTo>
                    <a:lnTo>
                      <a:pt x="462" y="9"/>
                    </a:lnTo>
                    <a:lnTo>
                      <a:pt x="467" y="4"/>
                    </a:lnTo>
                    <a:lnTo>
                      <a:pt x="470" y="2"/>
                    </a:lnTo>
                    <a:lnTo>
                      <a:pt x="473" y="1"/>
                    </a:lnTo>
                    <a:lnTo>
                      <a:pt x="477" y="0"/>
                    </a:lnTo>
                    <a:lnTo>
                      <a:pt x="482" y="0"/>
                    </a:lnTo>
                    <a:lnTo>
                      <a:pt x="491" y="1"/>
                    </a:lnTo>
                    <a:lnTo>
                      <a:pt x="504" y="4"/>
                    </a:lnTo>
                    <a:lnTo>
                      <a:pt x="518" y="10"/>
                    </a:lnTo>
                    <a:lnTo>
                      <a:pt x="536" y="20"/>
                    </a:lnTo>
                    <a:lnTo>
                      <a:pt x="553" y="29"/>
                    </a:lnTo>
                    <a:lnTo>
                      <a:pt x="567" y="36"/>
                    </a:lnTo>
                    <a:lnTo>
                      <a:pt x="579" y="44"/>
                    </a:lnTo>
                    <a:lnTo>
                      <a:pt x="590" y="50"/>
                    </a:lnTo>
                    <a:lnTo>
                      <a:pt x="598" y="58"/>
                    </a:lnTo>
                    <a:lnTo>
                      <a:pt x="607" y="68"/>
                    </a:lnTo>
                    <a:lnTo>
                      <a:pt x="615" y="80"/>
                    </a:lnTo>
                    <a:lnTo>
                      <a:pt x="622" y="94"/>
                    </a:lnTo>
                    <a:lnTo>
                      <a:pt x="627" y="102"/>
                    </a:lnTo>
                    <a:lnTo>
                      <a:pt x="633" y="110"/>
                    </a:lnTo>
                    <a:lnTo>
                      <a:pt x="638" y="118"/>
                    </a:lnTo>
                    <a:lnTo>
                      <a:pt x="646" y="125"/>
                    </a:lnTo>
                    <a:lnTo>
                      <a:pt x="661" y="140"/>
                    </a:lnTo>
                    <a:lnTo>
                      <a:pt x="677" y="153"/>
                    </a:lnTo>
                    <a:lnTo>
                      <a:pt x="696" y="165"/>
                    </a:lnTo>
                    <a:lnTo>
                      <a:pt x="713" y="177"/>
                    </a:lnTo>
                    <a:lnTo>
                      <a:pt x="731" y="187"/>
                    </a:lnTo>
                    <a:lnTo>
                      <a:pt x="748" y="195"/>
                    </a:lnTo>
                    <a:lnTo>
                      <a:pt x="757" y="199"/>
                    </a:lnTo>
                    <a:lnTo>
                      <a:pt x="766" y="203"/>
                    </a:lnTo>
                    <a:lnTo>
                      <a:pt x="774" y="205"/>
                    </a:lnTo>
                    <a:lnTo>
                      <a:pt x="784" y="207"/>
                    </a:lnTo>
                    <a:lnTo>
                      <a:pt x="801" y="209"/>
                    </a:lnTo>
                    <a:lnTo>
                      <a:pt x="818" y="210"/>
                    </a:lnTo>
                    <a:lnTo>
                      <a:pt x="832" y="209"/>
                    </a:lnTo>
                    <a:lnTo>
                      <a:pt x="842" y="209"/>
                    </a:lnTo>
                    <a:lnTo>
                      <a:pt x="850" y="208"/>
                    </a:lnTo>
                    <a:lnTo>
                      <a:pt x="852" y="208"/>
                    </a:lnTo>
                    <a:lnTo>
                      <a:pt x="861" y="207"/>
                    </a:lnTo>
                    <a:lnTo>
                      <a:pt x="871" y="207"/>
                    </a:lnTo>
                    <a:lnTo>
                      <a:pt x="879" y="206"/>
                    </a:lnTo>
                    <a:lnTo>
                      <a:pt x="886" y="207"/>
                    </a:lnTo>
                    <a:lnTo>
                      <a:pt x="888" y="208"/>
                    </a:lnTo>
                    <a:lnTo>
                      <a:pt x="889" y="209"/>
                    </a:lnTo>
                    <a:lnTo>
                      <a:pt x="887" y="211"/>
                    </a:lnTo>
                    <a:lnTo>
                      <a:pt x="885" y="214"/>
                    </a:lnTo>
                    <a:lnTo>
                      <a:pt x="872" y="221"/>
                    </a:lnTo>
                    <a:lnTo>
                      <a:pt x="848" y="232"/>
                    </a:lnTo>
                    <a:lnTo>
                      <a:pt x="834" y="238"/>
                    </a:lnTo>
                    <a:lnTo>
                      <a:pt x="821" y="243"/>
                    </a:lnTo>
                    <a:lnTo>
                      <a:pt x="808" y="246"/>
                    </a:lnTo>
                    <a:lnTo>
                      <a:pt x="796" y="248"/>
                    </a:lnTo>
                    <a:lnTo>
                      <a:pt x="785" y="250"/>
                    </a:lnTo>
                    <a:lnTo>
                      <a:pt x="774" y="251"/>
                    </a:lnTo>
                    <a:lnTo>
                      <a:pt x="765" y="251"/>
                    </a:lnTo>
                    <a:lnTo>
                      <a:pt x="755" y="250"/>
                    </a:lnTo>
                    <a:lnTo>
                      <a:pt x="746" y="249"/>
                    </a:lnTo>
                    <a:lnTo>
                      <a:pt x="737" y="247"/>
                    </a:lnTo>
                    <a:lnTo>
                      <a:pt x="728" y="245"/>
                    </a:lnTo>
                    <a:lnTo>
                      <a:pt x="720" y="242"/>
                    </a:lnTo>
                    <a:lnTo>
                      <a:pt x="703" y="235"/>
                    </a:lnTo>
                    <a:lnTo>
                      <a:pt x="687" y="228"/>
                    </a:lnTo>
                    <a:lnTo>
                      <a:pt x="679" y="223"/>
                    </a:lnTo>
                    <a:lnTo>
                      <a:pt x="672" y="219"/>
                    </a:lnTo>
                    <a:lnTo>
                      <a:pt x="666" y="214"/>
                    </a:lnTo>
                    <a:lnTo>
                      <a:pt x="661" y="209"/>
                    </a:lnTo>
                    <a:lnTo>
                      <a:pt x="652" y="199"/>
                    </a:lnTo>
                    <a:lnTo>
                      <a:pt x="645" y="190"/>
                    </a:lnTo>
                    <a:lnTo>
                      <a:pt x="637" y="181"/>
                    </a:lnTo>
                    <a:lnTo>
                      <a:pt x="629" y="175"/>
                    </a:lnTo>
                    <a:lnTo>
                      <a:pt x="623" y="171"/>
                    </a:lnTo>
                    <a:lnTo>
                      <a:pt x="618" y="169"/>
                    </a:lnTo>
                    <a:lnTo>
                      <a:pt x="610" y="167"/>
                    </a:lnTo>
                    <a:lnTo>
                      <a:pt x="603" y="166"/>
                    </a:lnTo>
                    <a:lnTo>
                      <a:pt x="585" y="164"/>
                    </a:lnTo>
                    <a:lnTo>
                      <a:pt x="567" y="163"/>
                    </a:lnTo>
                    <a:lnTo>
                      <a:pt x="550" y="163"/>
                    </a:lnTo>
                    <a:lnTo>
                      <a:pt x="532" y="163"/>
                    </a:lnTo>
                    <a:lnTo>
                      <a:pt x="518" y="163"/>
                    </a:lnTo>
                    <a:lnTo>
                      <a:pt x="507" y="163"/>
                    </a:lnTo>
                    <a:lnTo>
                      <a:pt x="499" y="163"/>
                    </a:lnTo>
                    <a:lnTo>
                      <a:pt x="497" y="163"/>
                    </a:lnTo>
                    <a:lnTo>
                      <a:pt x="498" y="167"/>
                    </a:lnTo>
                    <a:lnTo>
                      <a:pt x="502" y="179"/>
                    </a:lnTo>
                    <a:lnTo>
                      <a:pt x="509" y="195"/>
                    </a:lnTo>
                    <a:lnTo>
                      <a:pt x="517" y="217"/>
                    </a:lnTo>
                    <a:lnTo>
                      <a:pt x="525" y="242"/>
                    </a:lnTo>
                    <a:lnTo>
                      <a:pt x="532" y="269"/>
                    </a:lnTo>
                    <a:lnTo>
                      <a:pt x="535" y="282"/>
                    </a:lnTo>
                    <a:lnTo>
                      <a:pt x="538" y="296"/>
                    </a:lnTo>
                    <a:lnTo>
                      <a:pt x="540" y="309"/>
                    </a:lnTo>
                    <a:lnTo>
                      <a:pt x="541" y="322"/>
                    </a:lnTo>
                    <a:lnTo>
                      <a:pt x="543" y="334"/>
                    </a:lnTo>
                    <a:lnTo>
                      <a:pt x="546" y="349"/>
                    </a:lnTo>
                    <a:lnTo>
                      <a:pt x="551" y="364"/>
                    </a:lnTo>
                    <a:lnTo>
                      <a:pt x="557" y="380"/>
                    </a:lnTo>
                    <a:lnTo>
                      <a:pt x="571" y="412"/>
                    </a:lnTo>
                    <a:lnTo>
                      <a:pt x="588" y="448"/>
                    </a:lnTo>
                    <a:lnTo>
                      <a:pt x="605" y="484"/>
                    </a:lnTo>
                    <a:lnTo>
                      <a:pt x="622" y="518"/>
                    </a:lnTo>
                    <a:lnTo>
                      <a:pt x="638" y="553"/>
                    </a:lnTo>
                    <a:lnTo>
                      <a:pt x="652" y="583"/>
                    </a:lnTo>
                    <a:lnTo>
                      <a:pt x="663" y="611"/>
                    </a:lnTo>
                    <a:lnTo>
                      <a:pt x="672" y="636"/>
                    </a:lnTo>
                    <a:lnTo>
                      <a:pt x="675" y="648"/>
                    </a:lnTo>
                    <a:lnTo>
                      <a:pt x="677" y="658"/>
                    </a:lnTo>
                    <a:lnTo>
                      <a:pt x="678" y="669"/>
                    </a:lnTo>
                    <a:lnTo>
                      <a:pt x="679" y="679"/>
                    </a:lnTo>
                    <a:lnTo>
                      <a:pt x="680" y="688"/>
                    </a:lnTo>
                    <a:lnTo>
                      <a:pt x="679" y="696"/>
                    </a:lnTo>
                    <a:lnTo>
                      <a:pt x="678" y="705"/>
                    </a:lnTo>
                    <a:lnTo>
                      <a:pt x="677" y="712"/>
                    </a:lnTo>
                    <a:lnTo>
                      <a:pt x="675" y="719"/>
                    </a:lnTo>
                    <a:lnTo>
                      <a:pt x="672" y="725"/>
                    </a:lnTo>
                    <a:lnTo>
                      <a:pt x="669" y="731"/>
                    </a:lnTo>
                    <a:lnTo>
                      <a:pt x="664" y="736"/>
                    </a:lnTo>
                    <a:lnTo>
                      <a:pt x="660" y="742"/>
                    </a:lnTo>
                    <a:lnTo>
                      <a:pt x="656" y="745"/>
                    </a:lnTo>
                    <a:lnTo>
                      <a:pt x="651" y="747"/>
                    </a:lnTo>
                    <a:lnTo>
                      <a:pt x="646" y="748"/>
                    </a:lnTo>
                    <a:lnTo>
                      <a:pt x="642" y="749"/>
                    </a:lnTo>
                    <a:lnTo>
                      <a:pt x="637" y="748"/>
                    </a:lnTo>
                    <a:lnTo>
                      <a:pt x="632" y="748"/>
                    </a:lnTo>
                    <a:lnTo>
                      <a:pt x="627" y="747"/>
                    </a:lnTo>
                    <a:lnTo>
                      <a:pt x="620" y="744"/>
                    </a:lnTo>
                    <a:lnTo>
                      <a:pt x="613" y="741"/>
                    </a:lnTo>
                    <a:lnTo>
                      <a:pt x="609" y="737"/>
                    </a:lnTo>
                    <a:lnTo>
                      <a:pt x="608" y="736"/>
                    </a:lnTo>
                    <a:lnTo>
                      <a:pt x="608" y="738"/>
                    </a:lnTo>
                    <a:lnTo>
                      <a:pt x="610" y="743"/>
                    </a:lnTo>
                    <a:lnTo>
                      <a:pt x="613" y="749"/>
                    </a:lnTo>
                    <a:lnTo>
                      <a:pt x="617" y="758"/>
                    </a:lnTo>
                    <a:lnTo>
                      <a:pt x="620" y="766"/>
                    </a:lnTo>
                    <a:lnTo>
                      <a:pt x="622" y="775"/>
                    </a:lnTo>
                    <a:lnTo>
                      <a:pt x="624" y="784"/>
                    </a:lnTo>
                    <a:lnTo>
                      <a:pt x="625" y="791"/>
                    </a:lnTo>
                    <a:lnTo>
                      <a:pt x="623" y="799"/>
                    </a:lnTo>
                    <a:lnTo>
                      <a:pt x="620" y="808"/>
                    </a:lnTo>
                    <a:lnTo>
                      <a:pt x="613" y="818"/>
                    </a:lnTo>
                    <a:lnTo>
                      <a:pt x="607" y="828"/>
                    </a:lnTo>
                    <a:lnTo>
                      <a:pt x="598" y="838"/>
                    </a:lnTo>
                    <a:lnTo>
                      <a:pt x="591" y="845"/>
                    </a:lnTo>
                    <a:lnTo>
                      <a:pt x="586" y="849"/>
                    </a:lnTo>
                    <a:lnTo>
                      <a:pt x="582" y="851"/>
                    </a:lnTo>
                    <a:lnTo>
                      <a:pt x="579" y="852"/>
                    </a:lnTo>
                    <a:lnTo>
                      <a:pt x="576" y="853"/>
                    </a:lnTo>
                    <a:lnTo>
                      <a:pt x="567" y="852"/>
                    </a:lnTo>
                    <a:lnTo>
                      <a:pt x="557" y="847"/>
                    </a:lnTo>
                    <a:lnTo>
                      <a:pt x="545" y="842"/>
                    </a:lnTo>
                    <a:lnTo>
                      <a:pt x="534" y="836"/>
                    </a:lnTo>
                    <a:lnTo>
                      <a:pt x="522" y="829"/>
                    </a:lnTo>
                    <a:lnTo>
                      <a:pt x="513" y="824"/>
                    </a:lnTo>
                    <a:lnTo>
                      <a:pt x="507" y="819"/>
                    </a:lnTo>
                    <a:lnTo>
                      <a:pt x="504" y="818"/>
                    </a:lnTo>
                    <a:lnTo>
                      <a:pt x="504" y="825"/>
                    </a:lnTo>
                    <a:lnTo>
                      <a:pt x="503" y="831"/>
                    </a:lnTo>
                    <a:lnTo>
                      <a:pt x="502" y="838"/>
                    </a:lnTo>
                    <a:lnTo>
                      <a:pt x="500" y="843"/>
                    </a:lnTo>
                    <a:lnTo>
                      <a:pt x="498" y="847"/>
                    </a:lnTo>
                    <a:lnTo>
                      <a:pt x="495" y="852"/>
                    </a:lnTo>
                    <a:lnTo>
                      <a:pt x="491" y="856"/>
                    </a:lnTo>
                    <a:lnTo>
                      <a:pt x="488" y="859"/>
                    </a:lnTo>
                    <a:lnTo>
                      <a:pt x="482" y="864"/>
                    </a:lnTo>
                    <a:lnTo>
                      <a:pt x="475" y="868"/>
                    </a:lnTo>
                    <a:lnTo>
                      <a:pt x="471" y="869"/>
                    </a:lnTo>
                    <a:lnTo>
                      <a:pt x="470" y="870"/>
                    </a:lnTo>
                    <a:lnTo>
                      <a:pt x="348" y="803"/>
                    </a:lnTo>
                    <a:lnTo>
                      <a:pt x="347" y="803"/>
                    </a:lnTo>
                    <a:lnTo>
                      <a:pt x="342" y="804"/>
                    </a:lnTo>
                    <a:lnTo>
                      <a:pt x="336" y="804"/>
                    </a:lnTo>
                    <a:lnTo>
                      <a:pt x="327" y="803"/>
                    </a:lnTo>
                    <a:lnTo>
                      <a:pt x="316" y="802"/>
                    </a:lnTo>
                    <a:lnTo>
                      <a:pt x="306" y="800"/>
                    </a:lnTo>
                    <a:lnTo>
                      <a:pt x="294" y="797"/>
                    </a:lnTo>
                    <a:lnTo>
                      <a:pt x="282" y="791"/>
                    </a:lnTo>
                    <a:lnTo>
                      <a:pt x="267" y="783"/>
                    </a:lnTo>
                    <a:lnTo>
                      <a:pt x="250" y="771"/>
                    </a:lnTo>
                    <a:lnTo>
                      <a:pt x="232" y="757"/>
                    </a:lnTo>
                    <a:lnTo>
                      <a:pt x="214" y="741"/>
                    </a:lnTo>
                    <a:lnTo>
                      <a:pt x="193" y="725"/>
                    </a:lnTo>
                    <a:lnTo>
                      <a:pt x="174" y="710"/>
                    </a:lnTo>
                    <a:lnTo>
                      <a:pt x="155" y="697"/>
                    </a:lnTo>
                    <a:lnTo>
                      <a:pt x="138" y="688"/>
                    </a:lnTo>
                    <a:lnTo>
                      <a:pt x="129" y="682"/>
                    </a:lnTo>
                    <a:lnTo>
                      <a:pt x="121" y="676"/>
                    </a:lnTo>
                    <a:lnTo>
                      <a:pt x="112" y="669"/>
                    </a:lnTo>
                    <a:lnTo>
                      <a:pt x="104" y="661"/>
                    </a:lnTo>
                    <a:lnTo>
                      <a:pt x="95" y="651"/>
                    </a:lnTo>
                    <a:lnTo>
                      <a:pt x="86" y="640"/>
                    </a:lnTo>
                    <a:lnTo>
                      <a:pt x="78" y="628"/>
                    </a:lnTo>
                    <a:lnTo>
                      <a:pt x="70" y="616"/>
                    </a:lnTo>
                    <a:lnTo>
                      <a:pt x="54" y="589"/>
                    </a:lnTo>
                    <a:lnTo>
                      <a:pt x="39" y="561"/>
                    </a:lnTo>
                    <a:lnTo>
                      <a:pt x="26" y="531"/>
                    </a:lnTo>
                    <a:lnTo>
                      <a:pt x="14" y="500"/>
                    </a:lnTo>
                    <a:lnTo>
                      <a:pt x="10" y="486"/>
                    </a:lnTo>
                    <a:lnTo>
                      <a:pt x="6" y="475"/>
                    </a:lnTo>
                    <a:lnTo>
                      <a:pt x="4" y="466"/>
                    </a:lnTo>
                    <a:lnTo>
                      <a:pt x="3" y="459"/>
                    </a:lnTo>
                    <a:lnTo>
                      <a:pt x="2" y="453"/>
                    </a:lnTo>
                    <a:lnTo>
                      <a:pt x="2" y="447"/>
                    </a:lnTo>
                    <a:lnTo>
                      <a:pt x="1" y="439"/>
                    </a:lnTo>
                    <a:lnTo>
                      <a:pt x="0" y="431"/>
                    </a:lnTo>
                    <a:lnTo>
                      <a:pt x="2" y="431"/>
                    </a:lnTo>
                    <a:lnTo>
                      <a:pt x="10" y="432"/>
                    </a:lnTo>
                    <a:lnTo>
                      <a:pt x="20" y="433"/>
                    </a:lnTo>
                    <a:lnTo>
                      <a:pt x="33" y="433"/>
                    </a:lnTo>
                    <a:lnTo>
                      <a:pt x="40" y="433"/>
                    </a:lnTo>
                    <a:lnTo>
                      <a:pt x="46" y="432"/>
                    </a:lnTo>
                    <a:lnTo>
                      <a:pt x="52" y="430"/>
                    </a:lnTo>
                    <a:lnTo>
                      <a:pt x="58" y="427"/>
                    </a:lnTo>
                    <a:lnTo>
                      <a:pt x="64" y="424"/>
                    </a:lnTo>
                    <a:lnTo>
                      <a:pt x="68" y="420"/>
                    </a:lnTo>
                    <a:lnTo>
                      <a:pt x="71" y="414"/>
                    </a:lnTo>
                    <a:lnTo>
                      <a:pt x="73" y="408"/>
                    </a:lnTo>
                    <a:lnTo>
                      <a:pt x="78" y="395"/>
                    </a:lnTo>
                    <a:lnTo>
                      <a:pt x="79" y="384"/>
                    </a:lnTo>
                    <a:lnTo>
                      <a:pt x="80" y="377"/>
                    </a:lnTo>
                    <a:lnTo>
                      <a:pt x="82" y="372"/>
                    </a:lnTo>
                    <a:lnTo>
                      <a:pt x="83" y="371"/>
                    </a:lnTo>
                    <a:lnTo>
                      <a:pt x="84" y="371"/>
                    </a:lnTo>
                    <a:lnTo>
                      <a:pt x="86" y="371"/>
                    </a:lnTo>
                    <a:lnTo>
                      <a:pt x="88" y="373"/>
                    </a:lnTo>
                    <a:lnTo>
                      <a:pt x="97" y="379"/>
                    </a:lnTo>
                    <a:lnTo>
                      <a:pt x="108" y="388"/>
                    </a:lnTo>
                    <a:lnTo>
                      <a:pt x="114" y="393"/>
                    </a:lnTo>
                    <a:lnTo>
                      <a:pt x="122" y="396"/>
                    </a:lnTo>
                    <a:lnTo>
                      <a:pt x="129" y="398"/>
                    </a:lnTo>
                    <a:lnTo>
                      <a:pt x="138" y="399"/>
                    </a:lnTo>
                    <a:lnTo>
                      <a:pt x="146" y="400"/>
                    </a:lnTo>
                    <a:lnTo>
                      <a:pt x="154" y="399"/>
                    </a:lnTo>
                    <a:lnTo>
                      <a:pt x="163" y="398"/>
                    </a:lnTo>
                    <a:lnTo>
                      <a:pt x="171" y="396"/>
                    </a:lnTo>
                    <a:lnTo>
                      <a:pt x="179" y="393"/>
                    </a:lnTo>
                    <a:lnTo>
                      <a:pt x="186" y="388"/>
                    </a:lnTo>
                    <a:lnTo>
                      <a:pt x="192" y="384"/>
                    </a:lnTo>
                    <a:lnTo>
                      <a:pt x="199" y="380"/>
                    </a:lnTo>
                    <a:lnTo>
                      <a:pt x="203" y="373"/>
                    </a:lnTo>
                    <a:lnTo>
                      <a:pt x="206" y="368"/>
                    </a:lnTo>
                    <a:lnTo>
                      <a:pt x="208" y="360"/>
                    </a:lnTo>
                    <a:lnTo>
                      <a:pt x="209" y="354"/>
                    </a:lnTo>
                    <a:lnTo>
                      <a:pt x="211" y="342"/>
                    </a:lnTo>
                    <a:lnTo>
                      <a:pt x="212" y="337"/>
                    </a:lnTo>
                    <a:lnTo>
                      <a:pt x="214" y="334"/>
                    </a:lnTo>
                    <a:lnTo>
                      <a:pt x="215" y="334"/>
                    </a:lnTo>
                    <a:lnTo>
                      <a:pt x="217" y="336"/>
                    </a:lnTo>
                    <a:lnTo>
                      <a:pt x="220" y="337"/>
                    </a:lnTo>
                    <a:lnTo>
                      <a:pt x="226" y="341"/>
                    </a:lnTo>
                    <a:lnTo>
                      <a:pt x="233" y="346"/>
                    </a:lnTo>
                    <a:lnTo>
                      <a:pt x="243" y="351"/>
                    </a:lnTo>
                    <a:lnTo>
                      <a:pt x="254" y="354"/>
                    </a:lnTo>
                    <a:lnTo>
                      <a:pt x="261" y="354"/>
                    </a:lnTo>
                    <a:lnTo>
                      <a:pt x="268" y="354"/>
                    </a:lnTo>
                    <a:lnTo>
                      <a:pt x="274" y="352"/>
                    </a:lnTo>
                    <a:lnTo>
                      <a:pt x="282" y="349"/>
                    </a:lnTo>
                    <a:lnTo>
                      <a:pt x="288" y="345"/>
                    </a:lnTo>
                    <a:lnTo>
                      <a:pt x="295" y="340"/>
                    </a:lnTo>
                    <a:lnTo>
                      <a:pt x="301" y="334"/>
                    </a:lnTo>
                    <a:lnTo>
                      <a:pt x="307" y="329"/>
                    </a:lnTo>
                    <a:lnTo>
                      <a:pt x="312" y="323"/>
                    </a:lnTo>
                    <a:lnTo>
                      <a:pt x="317" y="316"/>
                    </a:lnTo>
                    <a:lnTo>
                      <a:pt x="322" y="310"/>
                    </a:lnTo>
                    <a:lnTo>
                      <a:pt x="325" y="302"/>
                    </a:lnTo>
                    <a:lnTo>
                      <a:pt x="327" y="296"/>
                    </a:lnTo>
                    <a:lnTo>
                      <a:pt x="328" y="289"/>
                    </a:lnTo>
                    <a:lnTo>
                      <a:pt x="329" y="283"/>
                    </a:lnTo>
                    <a:lnTo>
                      <a:pt x="328" y="277"/>
                    </a:lnTo>
                    <a:lnTo>
                      <a:pt x="327" y="268"/>
                    </a:lnTo>
                    <a:lnTo>
                      <a:pt x="326" y="262"/>
                    </a:lnTo>
                    <a:lnTo>
                      <a:pt x="326" y="258"/>
                    </a:lnTo>
                    <a:lnTo>
                      <a:pt x="327" y="256"/>
                    </a:lnTo>
                    <a:lnTo>
                      <a:pt x="329" y="256"/>
                    </a:lnTo>
                    <a:lnTo>
                      <a:pt x="333" y="258"/>
                    </a:lnTo>
                    <a:lnTo>
                      <a:pt x="338" y="260"/>
                    </a:lnTo>
                    <a:lnTo>
                      <a:pt x="346" y="264"/>
                    </a:lnTo>
                    <a:lnTo>
                      <a:pt x="354" y="268"/>
                    </a:lnTo>
                    <a:lnTo>
                      <a:pt x="365" y="270"/>
                    </a:lnTo>
                    <a:lnTo>
                      <a:pt x="376" y="270"/>
                    </a:lnTo>
                    <a:lnTo>
                      <a:pt x="388" y="268"/>
                    </a:lnTo>
                    <a:lnTo>
                      <a:pt x="400" y="264"/>
                    </a:lnTo>
                    <a:lnTo>
                      <a:pt x="414" y="259"/>
                    </a:lnTo>
                    <a:lnTo>
                      <a:pt x="428" y="250"/>
                    </a:lnTo>
                    <a:lnTo>
                      <a:pt x="442" y="239"/>
                    </a:lnTo>
                    <a:lnTo>
                      <a:pt x="449" y="233"/>
                    </a:lnTo>
                    <a:lnTo>
                      <a:pt x="455" y="226"/>
                    </a:lnTo>
                    <a:lnTo>
                      <a:pt x="460" y="219"/>
                    </a:lnTo>
                    <a:lnTo>
                      <a:pt x="465" y="212"/>
                    </a:lnTo>
                    <a:lnTo>
                      <a:pt x="469" y="205"/>
                    </a:lnTo>
                    <a:lnTo>
                      <a:pt x="472" y="197"/>
                    </a:lnTo>
                    <a:lnTo>
                      <a:pt x="474" y="189"/>
                    </a:lnTo>
                    <a:lnTo>
                      <a:pt x="476" y="180"/>
                    </a:lnTo>
                    <a:lnTo>
                      <a:pt x="476" y="171"/>
                    </a:lnTo>
                    <a:lnTo>
                      <a:pt x="477" y="162"/>
                    </a:lnTo>
                    <a:lnTo>
                      <a:pt x="476" y="152"/>
                    </a:lnTo>
                    <a:lnTo>
                      <a:pt x="476" y="142"/>
                    </a:lnTo>
                    <a:lnTo>
                      <a:pt x="472" y="121"/>
                    </a:lnTo>
                    <a:lnTo>
                      <a:pt x="467" y="97"/>
                    </a:lnTo>
                    <a:close/>
                  </a:path>
                </a:pathLst>
              </a:custGeom>
              <a:solidFill>
                <a:srgbClr val="d39a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5565600" y="3605400"/>
                <a:ext cx="279720" cy="263520"/>
              </a:xfrm>
              <a:custGeom>
                <a:avLst/>
                <a:gdLst/>
                <a:ahLst/>
                <a:rect l="l" t="t" r="r" b="b"/>
                <a:pathLst>
                  <a:path w="883" h="833">
                    <a:moveTo>
                      <a:pt x="545" y="18"/>
                    </a:moveTo>
                    <a:lnTo>
                      <a:pt x="560" y="26"/>
                    </a:lnTo>
                    <a:lnTo>
                      <a:pt x="573" y="35"/>
                    </a:lnTo>
                    <a:lnTo>
                      <a:pt x="584" y="42"/>
                    </a:lnTo>
                    <a:lnTo>
                      <a:pt x="592" y="49"/>
                    </a:lnTo>
                    <a:lnTo>
                      <a:pt x="600" y="58"/>
                    </a:lnTo>
                    <a:lnTo>
                      <a:pt x="606" y="67"/>
                    </a:lnTo>
                    <a:lnTo>
                      <a:pt x="614" y="79"/>
                    </a:lnTo>
                    <a:lnTo>
                      <a:pt x="621" y="94"/>
                    </a:lnTo>
                    <a:lnTo>
                      <a:pt x="626" y="102"/>
                    </a:lnTo>
                    <a:lnTo>
                      <a:pt x="631" y="110"/>
                    </a:lnTo>
                    <a:lnTo>
                      <a:pt x="638" y="116"/>
                    </a:lnTo>
                    <a:lnTo>
                      <a:pt x="644" y="123"/>
                    </a:lnTo>
                    <a:lnTo>
                      <a:pt x="652" y="128"/>
                    </a:lnTo>
                    <a:lnTo>
                      <a:pt x="660" y="132"/>
                    </a:lnTo>
                    <a:lnTo>
                      <a:pt x="668" y="138"/>
                    </a:lnTo>
                    <a:lnTo>
                      <a:pt x="676" y="142"/>
                    </a:lnTo>
                    <a:lnTo>
                      <a:pt x="695" y="151"/>
                    </a:lnTo>
                    <a:lnTo>
                      <a:pt x="714" y="158"/>
                    </a:lnTo>
                    <a:lnTo>
                      <a:pt x="733" y="166"/>
                    </a:lnTo>
                    <a:lnTo>
                      <a:pt x="750" y="173"/>
                    </a:lnTo>
                    <a:lnTo>
                      <a:pt x="757" y="177"/>
                    </a:lnTo>
                    <a:lnTo>
                      <a:pt x="766" y="180"/>
                    </a:lnTo>
                    <a:lnTo>
                      <a:pt x="775" y="182"/>
                    </a:lnTo>
                    <a:lnTo>
                      <a:pt x="783" y="183"/>
                    </a:lnTo>
                    <a:lnTo>
                      <a:pt x="799" y="184"/>
                    </a:lnTo>
                    <a:lnTo>
                      <a:pt x="814" y="184"/>
                    </a:lnTo>
                    <a:lnTo>
                      <a:pt x="826" y="182"/>
                    </a:lnTo>
                    <a:lnTo>
                      <a:pt x="835" y="181"/>
                    </a:lnTo>
                    <a:lnTo>
                      <a:pt x="842" y="179"/>
                    </a:lnTo>
                    <a:lnTo>
                      <a:pt x="844" y="178"/>
                    </a:lnTo>
                    <a:lnTo>
                      <a:pt x="851" y="178"/>
                    </a:lnTo>
                    <a:lnTo>
                      <a:pt x="862" y="175"/>
                    </a:lnTo>
                    <a:lnTo>
                      <a:pt x="872" y="174"/>
                    </a:lnTo>
                    <a:lnTo>
                      <a:pt x="880" y="173"/>
                    </a:lnTo>
                    <a:lnTo>
                      <a:pt x="882" y="174"/>
                    </a:lnTo>
                    <a:lnTo>
                      <a:pt x="883" y="174"/>
                    </a:lnTo>
                    <a:lnTo>
                      <a:pt x="882" y="177"/>
                    </a:lnTo>
                    <a:lnTo>
                      <a:pt x="880" y="178"/>
                    </a:lnTo>
                    <a:lnTo>
                      <a:pt x="867" y="185"/>
                    </a:lnTo>
                    <a:lnTo>
                      <a:pt x="844" y="195"/>
                    </a:lnTo>
                    <a:lnTo>
                      <a:pt x="830" y="201"/>
                    </a:lnTo>
                    <a:lnTo>
                      <a:pt x="817" y="206"/>
                    </a:lnTo>
                    <a:lnTo>
                      <a:pt x="804" y="209"/>
                    </a:lnTo>
                    <a:lnTo>
                      <a:pt x="792" y="211"/>
                    </a:lnTo>
                    <a:lnTo>
                      <a:pt x="781" y="213"/>
                    </a:lnTo>
                    <a:lnTo>
                      <a:pt x="770" y="214"/>
                    </a:lnTo>
                    <a:lnTo>
                      <a:pt x="761" y="214"/>
                    </a:lnTo>
                    <a:lnTo>
                      <a:pt x="751" y="213"/>
                    </a:lnTo>
                    <a:lnTo>
                      <a:pt x="742" y="212"/>
                    </a:lnTo>
                    <a:lnTo>
                      <a:pt x="733" y="210"/>
                    </a:lnTo>
                    <a:lnTo>
                      <a:pt x="724" y="208"/>
                    </a:lnTo>
                    <a:lnTo>
                      <a:pt x="716" y="205"/>
                    </a:lnTo>
                    <a:lnTo>
                      <a:pt x="699" y="198"/>
                    </a:lnTo>
                    <a:lnTo>
                      <a:pt x="683" y="191"/>
                    </a:lnTo>
                    <a:lnTo>
                      <a:pt x="675" y="186"/>
                    </a:lnTo>
                    <a:lnTo>
                      <a:pt x="668" y="182"/>
                    </a:lnTo>
                    <a:lnTo>
                      <a:pt x="662" y="177"/>
                    </a:lnTo>
                    <a:lnTo>
                      <a:pt x="657" y="172"/>
                    </a:lnTo>
                    <a:lnTo>
                      <a:pt x="648" y="162"/>
                    </a:lnTo>
                    <a:lnTo>
                      <a:pt x="641" y="153"/>
                    </a:lnTo>
                    <a:lnTo>
                      <a:pt x="633" y="144"/>
                    </a:lnTo>
                    <a:lnTo>
                      <a:pt x="625" y="138"/>
                    </a:lnTo>
                    <a:lnTo>
                      <a:pt x="619" y="134"/>
                    </a:lnTo>
                    <a:lnTo>
                      <a:pt x="614" y="132"/>
                    </a:lnTo>
                    <a:lnTo>
                      <a:pt x="606" y="130"/>
                    </a:lnTo>
                    <a:lnTo>
                      <a:pt x="599" y="129"/>
                    </a:lnTo>
                    <a:lnTo>
                      <a:pt x="581" y="127"/>
                    </a:lnTo>
                    <a:lnTo>
                      <a:pt x="563" y="126"/>
                    </a:lnTo>
                    <a:lnTo>
                      <a:pt x="546" y="126"/>
                    </a:lnTo>
                    <a:lnTo>
                      <a:pt x="528" y="126"/>
                    </a:lnTo>
                    <a:lnTo>
                      <a:pt x="514" y="126"/>
                    </a:lnTo>
                    <a:lnTo>
                      <a:pt x="503" y="126"/>
                    </a:lnTo>
                    <a:lnTo>
                      <a:pt x="495" y="126"/>
                    </a:lnTo>
                    <a:lnTo>
                      <a:pt x="493" y="126"/>
                    </a:lnTo>
                    <a:lnTo>
                      <a:pt x="494" y="130"/>
                    </a:lnTo>
                    <a:lnTo>
                      <a:pt x="498" y="142"/>
                    </a:lnTo>
                    <a:lnTo>
                      <a:pt x="505" y="158"/>
                    </a:lnTo>
                    <a:lnTo>
                      <a:pt x="513" y="180"/>
                    </a:lnTo>
                    <a:lnTo>
                      <a:pt x="521" y="205"/>
                    </a:lnTo>
                    <a:lnTo>
                      <a:pt x="528" y="232"/>
                    </a:lnTo>
                    <a:lnTo>
                      <a:pt x="531" y="245"/>
                    </a:lnTo>
                    <a:lnTo>
                      <a:pt x="534" y="259"/>
                    </a:lnTo>
                    <a:lnTo>
                      <a:pt x="536" y="272"/>
                    </a:lnTo>
                    <a:lnTo>
                      <a:pt x="537" y="285"/>
                    </a:lnTo>
                    <a:lnTo>
                      <a:pt x="539" y="297"/>
                    </a:lnTo>
                    <a:lnTo>
                      <a:pt x="542" y="312"/>
                    </a:lnTo>
                    <a:lnTo>
                      <a:pt x="547" y="327"/>
                    </a:lnTo>
                    <a:lnTo>
                      <a:pt x="553" y="343"/>
                    </a:lnTo>
                    <a:lnTo>
                      <a:pt x="567" y="375"/>
                    </a:lnTo>
                    <a:lnTo>
                      <a:pt x="584" y="411"/>
                    </a:lnTo>
                    <a:lnTo>
                      <a:pt x="601" y="447"/>
                    </a:lnTo>
                    <a:lnTo>
                      <a:pt x="618" y="481"/>
                    </a:lnTo>
                    <a:lnTo>
                      <a:pt x="634" y="516"/>
                    </a:lnTo>
                    <a:lnTo>
                      <a:pt x="648" y="546"/>
                    </a:lnTo>
                    <a:lnTo>
                      <a:pt x="659" y="574"/>
                    </a:lnTo>
                    <a:lnTo>
                      <a:pt x="668" y="599"/>
                    </a:lnTo>
                    <a:lnTo>
                      <a:pt x="671" y="611"/>
                    </a:lnTo>
                    <a:lnTo>
                      <a:pt x="673" y="621"/>
                    </a:lnTo>
                    <a:lnTo>
                      <a:pt x="674" y="632"/>
                    </a:lnTo>
                    <a:lnTo>
                      <a:pt x="675" y="642"/>
                    </a:lnTo>
                    <a:lnTo>
                      <a:pt x="676" y="651"/>
                    </a:lnTo>
                    <a:lnTo>
                      <a:pt x="675" y="659"/>
                    </a:lnTo>
                    <a:lnTo>
                      <a:pt x="674" y="668"/>
                    </a:lnTo>
                    <a:lnTo>
                      <a:pt x="673" y="675"/>
                    </a:lnTo>
                    <a:lnTo>
                      <a:pt x="671" y="682"/>
                    </a:lnTo>
                    <a:lnTo>
                      <a:pt x="668" y="688"/>
                    </a:lnTo>
                    <a:lnTo>
                      <a:pt x="665" y="694"/>
                    </a:lnTo>
                    <a:lnTo>
                      <a:pt x="660" y="699"/>
                    </a:lnTo>
                    <a:lnTo>
                      <a:pt x="656" y="705"/>
                    </a:lnTo>
                    <a:lnTo>
                      <a:pt x="652" y="708"/>
                    </a:lnTo>
                    <a:lnTo>
                      <a:pt x="647" y="710"/>
                    </a:lnTo>
                    <a:lnTo>
                      <a:pt x="642" y="711"/>
                    </a:lnTo>
                    <a:lnTo>
                      <a:pt x="638" y="712"/>
                    </a:lnTo>
                    <a:lnTo>
                      <a:pt x="633" y="711"/>
                    </a:lnTo>
                    <a:lnTo>
                      <a:pt x="628" y="711"/>
                    </a:lnTo>
                    <a:lnTo>
                      <a:pt x="623" y="710"/>
                    </a:lnTo>
                    <a:lnTo>
                      <a:pt x="616" y="707"/>
                    </a:lnTo>
                    <a:lnTo>
                      <a:pt x="609" y="704"/>
                    </a:lnTo>
                    <a:lnTo>
                      <a:pt x="605" y="700"/>
                    </a:lnTo>
                    <a:lnTo>
                      <a:pt x="604" y="699"/>
                    </a:lnTo>
                    <a:lnTo>
                      <a:pt x="604" y="701"/>
                    </a:lnTo>
                    <a:lnTo>
                      <a:pt x="606" y="706"/>
                    </a:lnTo>
                    <a:lnTo>
                      <a:pt x="609" y="712"/>
                    </a:lnTo>
                    <a:lnTo>
                      <a:pt x="613" y="721"/>
                    </a:lnTo>
                    <a:lnTo>
                      <a:pt x="616" y="729"/>
                    </a:lnTo>
                    <a:lnTo>
                      <a:pt x="618" y="738"/>
                    </a:lnTo>
                    <a:lnTo>
                      <a:pt x="620" y="747"/>
                    </a:lnTo>
                    <a:lnTo>
                      <a:pt x="621" y="754"/>
                    </a:lnTo>
                    <a:lnTo>
                      <a:pt x="619" y="762"/>
                    </a:lnTo>
                    <a:lnTo>
                      <a:pt x="616" y="771"/>
                    </a:lnTo>
                    <a:lnTo>
                      <a:pt x="609" y="781"/>
                    </a:lnTo>
                    <a:lnTo>
                      <a:pt x="603" y="791"/>
                    </a:lnTo>
                    <a:lnTo>
                      <a:pt x="594" y="801"/>
                    </a:lnTo>
                    <a:lnTo>
                      <a:pt x="587" y="808"/>
                    </a:lnTo>
                    <a:lnTo>
                      <a:pt x="582" y="812"/>
                    </a:lnTo>
                    <a:lnTo>
                      <a:pt x="578" y="814"/>
                    </a:lnTo>
                    <a:lnTo>
                      <a:pt x="575" y="815"/>
                    </a:lnTo>
                    <a:lnTo>
                      <a:pt x="572" y="816"/>
                    </a:lnTo>
                    <a:lnTo>
                      <a:pt x="563" y="815"/>
                    </a:lnTo>
                    <a:lnTo>
                      <a:pt x="553" y="810"/>
                    </a:lnTo>
                    <a:lnTo>
                      <a:pt x="541" y="805"/>
                    </a:lnTo>
                    <a:lnTo>
                      <a:pt x="530" y="799"/>
                    </a:lnTo>
                    <a:lnTo>
                      <a:pt x="518" y="792"/>
                    </a:lnTo>
                    <a:lnTo>
                      <a:pt x="509" y="787"/>
                    </a:lnTo>
                    <a:lnTo>
                      <a:pt x="503" y="782"/>
                    </a:lnTo>
                    <a:lnTo>
                      <a:pt x="500" y="781"/>
                    </a:lnTo>
                    <a:lnTo>
                      <a:pt x="500" y="788"/>
                    </a:lnTo>
                    <a:lnTo>
                      <a:pt x="499" y="794"/>
                    </a:lnTo>
                    <a:lnTo>
                      <a:pt x="498" y="801"/>
                    </a:lnTo>
                    <a:lnTo>
                      <a:pt x="496" y="806"/>
                    </a:lnTo>
                    <a:lnTo>
                      <a:pt x="494" y="810"/>
                    </a:lnTo>
                    <a:lnTo>
                      <a:pt x="491" y="815"/>
                    </a:lnTo>
                    <a:lnTo>
                      <a:pt x="487" y="819"/>
                    </a:lnTo>
                    <a:lnTo>
                      <a:pt x="484" y="822"/>
                    </a:lnTo>
                    <a:lnTo>
                      <a:pt x="478" y="827"/>
                    </a:lnTo>
                    <a:lnTo>
                      <a:pt x="471" y="831"/>
                    </a:lnTo>
                    <a:lnTo>
                      <a:pt x="467" y="832"/>
                    </a:lnTo>
                    <a:lnTo>
                      <a:pt x="466" y="833"/>
                    </a:lnTo>
                    <a:lnTo>
                      <a:pt x="344" y="766"/>
                    </a:lnTo>
                    <a:lnTo>
                      <a:pt x="343" y="766"/>
                    </a:lnTo>
                    <a:lnTo>
                      <a:pt x="338" y="767"/>
                    </a:lnTo>
                    <a:lnTo>
                      <a:pt x="332" y="767"/>
                    </a:lnTo>
                    <a:lnTo>
                      <a:pt x="323" y="766"/>
                    </a:lnTo>
                    <a:lnTo>
                      <a:pt x="312" y="765"/>
                    </a:lnTo>
                    <a:lnTo>
                      <a:pt x="302" y="763"/>
                    </a:lnTo>
                    <a:lnTo>
                      <a:pt x="290" y="760"/>
                    </a:lnTo>
                    <a:lnTo>
                      <a:pt x="278" y="754"/>
                    </a:lnTo>
                    <a:lnTo>
                      <a:pt x="263" y="746"/>
                    </a:lnTo>
                    <a:lnTo>
                      <a:pt x="246" y="734"/>
                    </a:lnTo>
                    <a:lnTo>
                      <a:pt x="228" y="720"/>
                    </a:lnTo>
                    <a:lnTo>
                      <a:pt x="210" y="704"/>
                    </a:lnTo>
                    <a:lnTo>
                      <a:pt x="189" y="688"/>
                    </a:lnTo>
                    <a:lnTo>
                      <a:pt x="170" y="673"/>
                    </a:lnTo>
                    <a:lnTo>
                      <a:pt x="151" y="660"/>
                    </a:lnTo>
                    <a:lnTo>
                      <a:pt x="134" y="651"/>
                    </a:lnTo>
                    <a:lnTo>
                      <a:pt x="125" y="645"/>
                    </a:lnTo>
                    <a:lnTo>
                      <a:pt x="117" y="639"/>
                    </a:lnTo>
                    <a:lnTo>
                      <a:pt x="108" y="632"/>
                    </a:lnTo>
                    <a:lnTo>
                      <a:pt x="100" y="624"/>
                    </a:lnTo>
                    <a:lnTo>
                      <a:pt x="91" y="614"/>
                    </a:lnTo>
                    <a:lnTo>
                      <a:pt x="82" y="603"/>
                    </a:lnTo>
                    <a:lnTo>
                      <a:pt x="74" y="591"/>
                    </a:lnTo>
                    <a:lnTo>
                      <a:pt x="66" y="579"/>
                    </a:lnTo>
                    <a:lnTo>
                      <a:pt x="50" y="552"/>
                    </a:lnTo>
                    <a:lnTo>
                      <a:pt x="35" y="524"/>
                    </a:lnTo>
                    <a:lnTo>
                      <a:pt x="22" y="494"/>
                    </a:lnTo>
                    <a:lnTo>
                      <a:pt x="10" y="463"/>
                    </a:lnTo>
                    <a:lnTo>
                      <a:pt x="6" y="449"/>
                    </a:lnTo>
                    <a:lnTo>
                      <a:pt x="3" y="439"/>
                    </a:lnTo>
                    <a:lnTo>
                      <a:pt x="2" y="431"/>
                    </a:lnTo>
                    <a:lnTo>
                      <a:pt x="2" y="426"/>
                    </a:lnTo>
                    <a:lnTo>
                      <a:pt x="3" y="422"/>
                    </a:lnTo>
                    <a:lnTo>
                      <a:pt x="3" y="416"/>
                    </a:lnTo>
                    <a:lnTo>
                      <a:pt x="2" y="411"/>
                    </a:lnTo>
                    <a:lnTo>
                      <a:pt x="0" y="403"/>
                    </a:lnTo>
                    <a:lnTo>
                      <a:pt x="3" y="403"/>
                    </a:lnTo>
                    <a:lnTo>
                      <a:pt x="11" y="405"/>
                    </a:lnTo>
                    <a:lnTo>
                      <a:pt x="22" y="408"/>
                    </a:lnTo>
                    <a:lnTo>
                      <a:pt x="34" y="408"/>
                    </a:lnTo>
                    <a:lnTo>
                      <a:pt x="41" y="408"/>
                    </a:lnTo>
                    <a:lnTo>
                      <a:pt x="48" y="407"/>
                    </a:lnTo>
                    <a:lnTo>
                      <a:pt x="54" y="405"/>
                    </a:lnTo>
                    <a:lnTo>
                      <a:pt x="60" y="403"/>
                    </a:lnTo>
                    <a:lnTo>
                      <a:pt x="65" y="400"/>
                    </a:lnTo>
                    <a:lnTo>
                      <a:pt x="70" y="396"/>
                    </a:lnTo>
                    <a:lnTo>
                      <a:pt x="74" y="390"/>
                    </a:lnTo>
                    <a:lnTo>
                      <a:pt x="77" y="383"/>
                    </a:lnTo>
                    <a:lnTo>
                      <a:pt x="80" y="371"/>
                    </a:lnTo>
                    <a:lnTo>
                      <a:pt x="81" y="361"/>
                    </a:lnTo>
                    <a:lnTo>
                      <a:pt x="82" y="354"/>
                    </a:lnTo>
                    <a:lnTo>
                      <a:pt x="83" y="350"/>
                    </a:lnTo>
                    <a:lnTo>
                      <a:pt x="84" y="349"/>
                    </a:lnTo>
                    <a:lnTo>
                      <a:pt x="86" y="349"/>
                    </a:lnTo>
                    <a:lnTo>
                      <a:pt x="88" y="350"/>
                    </a:lnTo>
                    <a:lnTo>
                      <a:pt x="90" y="351"/>
                    </a:lnTo>
                    <a:lnTo>
                      <a:pt x="97" y="358"/>
                    </a:lnTo>
                    <a:lnTo>
                      <a:pt x="109" y="369"/>
                    </a:lnTo>
                    <a:lnTo>
                      <a:pt x="116" y="373"/>
                    </a:lnTo>
                    <a:lnTo>
                      <a:pt x="123" y="376"/>
                    </a:lnTo>
                    <a:lnTo>
                      <a:pt x="132" y="378"/>
                    </a:lnTo>
                    <a:lnTo>
                      <a:pt x="141" y="380"/>
                    </a:lnTo>
                    <a:lnTo>
                      <a:pt x="149" y="381"/>
                    </a:lnTo>
                    <a:lnTo>
                      <a:pt x="158" y="380"/>
                    </a:lnTo>
                    <a:lnTo>
                      <a:pt x="167" y="378"/>
                    </a:lnTo>
                    <a:lnTo>
                      <a:pt x="175" y="376"/>
                    </a:lnTo>
                    <a:lnTo>
                      <a:pt x="184" y="373"/>
                    </a:lnTo>
                    <a:lnTo>
                      <a:pt x="191" y="370"/>
                    </a:lnTo>
                    <a:lnTo>
                      <a:pt x="198" y="364"/>
                    </a:lnTo>
                    <a:lnTo>
                      <a:pt x="203" y="360"/>
                    </a:lnTo>
                    <a:lnTo>
                      <a:pt x="209" y="354"/>
                    </a:lnTo>
                    <a:lnTo>
                      <a:pt x="212" y="348"/>
                    </a:lnTo>
                    <a:lnTo>
                      <a:pt x="215" y="341"/>
                    </a:lnTo>
                    <a:lnTo>
                      <a:pt x="215" y="334"/>
                    </a:lnTo>
                    <a:lnTo>
                      <a:pt x="216" y="322"/>
                    </a:lnTo>
                    <a:lnTo>
                      <a:pt x="217" y="317"/>
                    </a:lnTo>
                    <a:lnTo>
                      <a:pt x="217" y="316"/>
                    </a:lnTo>
                    <a:lnTo>
                      <a:pt x="218" y="315"/>
                    </a:lnTo>
                    <a:lnTo>
                      <a:pt x="221" y="316"/>
                    </a:lnTo>
                    <a:lnTo>
                      <a:pt x="223" y="317"/>
                    </a:lnTo>
                    <a:lnTo>
                      <a:pt x="227" y="321"/>
                    </a:lnTo>
                    <a:lnTo>
                      <a:pt x="235" y="327"/>
                    </a:lnTo>
                    <a:lnTo>
                      <a:pt x="239" y="329"/>
                    </a:lnTo>
                    <a:lnTo>
                      <a:pt x="243" y="331"/>
                    </a:lnTo>
                    <a:lnTo>
                      <a:pt x="249" y="332"/>
                    </a:lnTo>
                    <a:lnTo>
                      <a:pt x="255" y="334"/>
                    </a:lnTo>
                    <a:lnTo>
                      <a:pt x="262" y="334"/>
                    </a:lnTo>
                    <a:lnTo>
                      <a:pt x="268" y="333"/>
                    </a:lnTo>
                    <a:lnTo>
                      <a:pt x="275" y="331"/>
                    </a:lnTo>
                    <a:lnTo>
                      <a:pt x="281" y="328"/>
                    </a:lnTo>
                    <a:lnTo>
                      <a:pt x="289" y="323"/>
                    </a:lnTo>
                    <a:lnTo>
                      <a:pt x="295" y="319"/>
                    </a:lnTo>
                    <a:lnTo>
                      <a:pt x="302" y="314"/>
                    </a:lnTo>
                    <a:lnTo>
                      <a:pt x="307" y="307"/>
                    </a:lnTo>
                    <a:lnTo>
                      <a:pt x="313" y="301"/>
                    </a:lnTo>
                    <a:lnTo>
                      <a:pt x="318" y="294"/>
                    </a:lnTo>
                    <a:lnTo>
                      <a:pt x="322" y="288"/>
                    </a:lnTo>
                    <a:lnTo>
                      <a:pt x="326" y="281"/>
                    </a:lnTo>
                    <a:lnTo>
                      <a:pt x="330" y="275"/>
                    </a:lnTo>
                    <a:lnTo>
                      <a:pt x="331" y="268"/>
                    </a:lnTo>
                    <a:lnTo>
                      <a:pt x="332" y="263"/>
                    </a:lnTo>
                    <a:lnTo>
                      <a:pt x="332" y="258"/>
                    </a:lnTo>
                    <a:lnTo>
                      <a:pt x="330" y="248"/>
                    </a:lnTo>
                    <a:lnTo>
                      <a:pt x="330" y="242"/>
                    </a:lnTo>
                    <a:lnTo>
                      <a:pt x="330" y="239"/>
                    </a:lnTo>
                    <a:lnTo>
                      <a:pt x="330" y="239"/>
                    </a:lnTo>
                    <a:lnTo>
                      <a:pt x="333" y="240"/>
                    </a:lnTo>
                    <a:lnTo>
                      <a:pt x="336" y="242"/>
                    </a:lnTo>
                    <a:lnTo>
                      <a:pt x="342" y="246"/>
                    </a:lnTo>
                    <a:lnTo>
                      <a:pt x="349" y="250"/>
                    </a:lnTo>
                    <a:lnTo>
                      <a:pt x="353" y="252"/>
                    </a:lnTo>
                    <a:lnTo>
                      <a:pt x="358" y="253"/>
                    </a:lnTo>
                    <a:lnTo>
                      <a:pt x="363" y="254"/>
                    </a:lnTo>
                    <a:lnTo>
                      <a:pt x="369" y="254"/>
                    </a:lnTo>
                    <a:lnTo>
                      <a:pt x="380" y="253"/>
                    </a:lnTo>
                    <a:lnTo>
                      <a:pt x="393" y="250"/>
                    </a:lnTo>
                    <a:lnTo>
                      <a:pt x="406" y="246"/>
                    </a:lnTo>
                    <a:lnTo>
                      <a:pt x="420" y="238"/>
                    </a:lnTo>
                    <a:lnTo>
                      <a:pt x="434" y="228"/>
                    </a:lnTo>
                    <a:lnTo>
                      <a:pt x="447" y="218"/>
                    </a:lnTo>
                    <a:lnTo>
                      <a:pt x="455" y="211"/>
                    </a:lnTo>
                    <a:lnTo>
                      <a:pt x="461" y="204"/>
                    </a:lnTo>
                    <a:lnTo>
                      <a:pt x="466" y="197"/>
                    </a:lnTo>
                    <a:lnTo>
                      <a:pt x="470" y="189"/>
                    </a:lnTo>
                    <a:lnTo>
                      <a:pt x="474" y="181"/>
                    </a:lnTo>
                    <a:lnTo>
                      <a:pt x="477" y="173"/>
                    </a:lnTo>
                    <a:lnTo>
                      <a:pt x="479" y="165"/>
                    </a:lnTo>
                    <a:lnTo>
                      <a:pt x="481" y="155"/>
                    </a:lnTo>
                    <a:lnTo>
                      <a:pt x="481" y="146"/>
                    </a:lnTo>
                    <a:lnTo>
                      <a:pt x="481" y="135"/>
                    </a:lnTo>
                    <a:lnTo>
                      <a:pt x="481" y="126"/>
                    </a:lnTo>
                    <a:lnTo>
                      <a:pt x="480" y="115"/>
                    </a:lnTo>
                    <a:lnTo>
                      <a:pt x="476" y="92"/>
                    </a:lnTo>
                    <a:lnTo>
                      <a:pt x="470" y="66"/>
                    </a:lnTo>
                    <a:lnTo>
                      <a:pt x="467" y="50"/>
                    </a:lnTo>
                    <a:lnTo>
                      <a:pt x="467" y="34"/>
                    </a:lnTo>
                    <a:lnTo>
                      <a:pt x="467" y="26"/>
                    </a:lnTo>
                    <a:lnTo>
                      <a:pt x="468" y="20"/>
                    </a:lnTo>
                    <a:lnTo>
                      <a:pt x="471" y="13"/>
                    </a:lnTo>
                    <a:lnTo>
                      <a:pt x="474" y="9"/>
                    </a:lnTo>
                    <a:lnTo>
                      <a:pt x="478" y="5"/>
                    </a:lnTo>
                    <a:lnTo>
                      <a:pt x="483" y="2"/>
                    </a:lnTo>
                    <a:lnTo>
                      <a:pt x="491" y="0"/>
                    </a:lnTo>
                    <a:lnTo>
                      <a:pt x="498" y="0"/>
                    </a:lnTo>
                    <a:lnTo>
                      <a:pt x="507" y="2"/>
                    </a:lnTo>
                    <a:lnTo>
                      <a:pt x="518" y="5"/>
                    </a:lnTo>
                    <a:lnTo>
                      <a:pt x="531" y="10"/>
                    </a:lnTo>
                    <a:lnTo>
                      <a:pt x="545" y="18"/>
                    </a:lnTo>
                    <a:close/>
                  </a:path>
                </a:pathLst>
              </a:custGeom>
              <a:solidFill>
                <a:srgbClr val="ca93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5610240" y="3722760"/>
                <a:ext cx="169920" cy="146160"/>
              </a:xfrm>
              <a:custGeom>
                <a:avLst/>
                <a:gdLst/>
                <a:ahLst/>
                <a:rect l="l" t="t" r="r" b="b"/>
                <a:pathLst>
                  <a:path w="534" h="460">
                    <a:moveTo>
                      <a:pt x="390" y="97"/>
                    </a:moveTo>
                    <a:lnTo>
                      <a:pt x="397" y="91"/>
                    </a:lnTo>
                    <a:lnTo>
                      <a:pt x="404" y="84"/>
                    </a:lnTo>
                    <a:lnTo>
                      <a:pt x="409" y="77"/>
                    </a:lnTo>
                    <a:lnTo>
                      <a:pt x="413" y="69"/>
                    </a:lnTo>
                    <a:lnTo>
                      <a:pt x="417" y="62"/>
                    </a:lnTo>
                    <a:lnTo>
                      <a:pt x="420" y="53"/>
                    </a:lnTo>
                    <a:lnTo>
                      <a:pt x="422" y="45"/>
                    </a:lnTo>
                    <a:lnTo>
                      <a:pt x="423" y="38"/>
                    </a:lnTo>
                    <a:lnTo>
                      <a:pt x="423" y="23"/>
                    </a:lnTo>
                    <a:lnTo>
                      <a:pt x="423" y="11"/>
                    </a:lnTo>
                    <a:lnTo>
                      <a:pt x="422" y="3"/>
                    </a:lnTo>
                    <a:lnTo>
                      <a:pt x="422" y="0"/>
                    </a:lnTo>
                    <a:lnTo>
                      <a:pt x="437" y="30"/>
                    </a:lnTo>
                    <a:lnTo>
                      <a:pt x="446" y="49"/>
                    </a:lnTo>
                    <a:lnTo>
                      <a:pt x="456" y="67"/>
                    </a:lnTo>
                    <a:lnTo>
                      <a:pt x="465" y="86"/>
                    </a:lnTo>
                    <a:lnTo>
                      <a:pt x="474" y="105"/>
                    </a:lnTo>
                    <a:lnTo>
                      <a:pt x="484" y="122"/>
                    </a:lnTo>
                    <a:lnTo>
                      <a:pt x="491" y="140"/>
                    </a:lnTo>
                    <a:lnTo>
                      <a:pt x="499" y="157"/>
                    </a:lnTo>
                    <a:lnTo>
                      <a:pt x="506" y="173"/>
                    </a:lnTo>
                    <a:lnTo>
                      <a:pt x="517" y="201"/>
                    </a:lnTo>
                    <a:lnTo>
                      <a:pt x="526" y="226"/>
                    </a:lnTo>
                    <a:lnTo>
                      <a:pt x="529" y="238"/>
                    </a:lnTo>
                    <a:lnTo>
                      <a:pt x="531" y="248"/>
                    </a:lnTo>
                    <a:lnTo>
                      <a:pt x="532" y="259"/>
                    </a:lnTo>
                    <a:lnTo>
                      <a:pt x="533" y="269"/>
                    </a:lnTo>
                    <a:lnTo>
                      <a:pt x="534" y="278"/>
                    </a:lnTo>
                    <a:lnTo>
                      <a:pt x="533" y="286"/>
                    </a:lnTo>
                    <a:lnTo>
                      <a:pt x="532" y="295"/>
                    </a:lnTo>
                    <a:lnTo>
                      <a:pt x="531" y="302"/>
                    </a:lnTo>
                    <a:lnTo>
                      <a:pt x="529" y="309"/>
                    </a:lnTo>
                    <a:lnTo>
                      <a:pt x="526" y="315"/>
                    </a:lnTo>
                    <a:lnTo>
                      <a:pt x="523" y="321"/>
                    </a:lnTo>
                    <a:lnTo>
                      <a:pt x="518" y="326"/>
                    </a:lnTo>
                    <a:lnTo>
                      <a:pt x="514" y="332"/>
                    </a:lnTo>
                    <a:lnTo>
                      <a:pt x="510" y="335"/>
                    </a:lnTo>
                    <a:lnTo>
                      <a:pt x="505" y="337"/>
                    </a:lnTo>
                    <a:lnTo>
                      <a:pt x="500" y="338"/>
                    </a:lnTo>
                    <a:lnTo>
                      <a:pt x="496" y="339"/>
                    </a:lnTo>
                    <a:lnTo>
                      <a:pt x="491" y="338"/>
                    </a:lnTo>
                    <a:lnTo>
                      <a:pt x="486" y="338"/>
                    </a:lnTo>
                    <a:lnTo>
                      <a:pt x="481" y="337"/>
                    </a:lnTo>
                    <a:lnTo>
                      <a:pt x="474" y="334"/>
                    </a:lnTo>
                    <a:lnTo>
                      <a:pt x="467" y="331"/>
                    </a:lnTo>
                    <a:lnTo>
                      <a:pt x="463" y="327"/>
                    </a:lnTo>
                    <a:lnTo>
                      <a:pt x="462" y="326"/>
                    </a:lnTo>
                    <a:lnTo>
                      <a:pt x="462" y="328"/>
                    </a:lnTo>
                    <a:lnTo>
                      <a:pt x="464" y="333"/>
                    </a:lnTo>
                    <a:lnTo>
                      <a:pt x="467" y="339"/>
                    </a:lnTo>
                    <a:lnTo>
                      <a:pt x="471" y="348"/>
                    </a:lnTo>
                    <a:lnTo>
                      <a:pt x="474" y="356"/>
                    </a:lnTo>
                    <a:lnTo>
                      <a:pt x="476" y="365"/>
                    </a:lnTo>
                    <a:lnTo>
                      <a:pt x="478" y="374"/>
                    </a:lnTo>
                    <a:lnTo>
                      <a:pt x="479" y="381"/>
                    </a:lnTo>
                    <a:lnTo>
                      <a:pt x="477" y="389"/>
                    </a:lnTo>
                    <a:lnTo>
                      <a:pt x="474" y="398"/>
                    </a:lnTo>
                    <a:lnTo>
                      <a:pt x="467" y="408"/>
                    </a:lnTo>
                    <a:lnTo>
                      <a:pt x="461" y="418"/>
                    </a:lnTo>
                    <a:lnTo>
                      <a:pt x="452" y="428"/>
                    </a:lnTo>
                    <a:lnTo>
                      <a:pt x="445" y="435"/>
                    </a:lnTo>
                    <a:lnTo>
                      <a:pt x="440" y="439"/>
                    </a:lnTo>
                    <a:lnTo>
                      <a:pt x="436" y="441"/>
                    </a:lnTo>
                    <a:lnTo>
                      <a:pt x="433" y="442"/>
                    </a:lnTo>
                    <a:lnTo>
                      <a:pt x="430" y="443"/>
                    </a:lnTo>
                    <a:lnTo>
                      <a:pt x="421" y="442"/>
                    </a:lnTo>
                    <a:lnTo>
                      <a:pt x="411" y="437"/>
                    </a:lnTo>
                    <a:lnTo>
                      <a:pt x="399" y="432"/>
                    </a:lnTo>
                    <a:lnTo>
                      <a:pt x="388" y="426"/>
                    </a:lnTo>
                    <a:lnTo>
                      <a:pt x="376" y="419"/>
                    </a:lnTo>
                    <a:lnTo>
                      <a:pt x="367" y="414"/>
                    </a:lnTo>
                    <a:lnTo>
                      <a:pt x="361" y="409"/>
                    </a:lnTo>
                    <a:lnTo>
                      <a:pt x="358" y="408"/>
                    </a:lnTo>
                    <a:lnTo>
                      <a:pt x="358" y="415"/>
                    </a:lnTo>
                    <a:lnTo>
                      <a:pt x="357" y="421"/>
                    </a:lnTo>
                    <a:lnTo>
                      <a:pt x="356" y="428"/>
                    </a:lnTo>
                    <a:lnTo>
                      <a:pt x="354" y="433"/>
                    </a:lnTo>
                    <a:lnTo>
                      <a:pt x="352" y="437"/>
                    </a:lnTo>
                    <a:lnTo>
                      <a:pt x="349" y="442"/>
                    </a:lnTo>
                    <a:lnTo>
                      <a:pt x="345" y="446"/>
                    </a:lnTo>
                    <a:lnTo>
                      <a:pt x="342" y="449"/>
                    </a:lnTo>
                    <a:lnTo>
                      <a:pt x="336" y="454"/>
                    </a:lnTo>
                    <a:lnTo>
                      <a:pt x="329" y="458"/>
                    </a:lnTo>
                    <a:lnTo>
                      <a:pt x="325" y="459"/>
                    </a:lnTo>
                    <a:lnTo>
                      <a:pt x="324" y="460"/>
                    </a:lnTo>
                    <a:lnTo>
                      <a:pt x="202" y="393"/>
                    </a:lnTo>
                    <a:lnTo>
                      <a:pt x="201" y="393"/>
                    </a:lnTo>
                    <a:lnTo>
                      <a:pt x="196" y="394"/>
                    </a:lnTo>
                    <a:lnTo>
                      <a:pt x="190" y="394"/>
                    </a:lnTo>
                    <a:lnTo>
                      <a:pt x="181" y="393"/>
                    </a:lnTo>
                    <a:lnTo>
                      <a:pt x="170" y="392"/>
                    </a:lnTo>
                    <a:lnTo>
                      <a:pt x="160" y="390"/>
                    </a:lnTo>
                    <a:lnTo>
                      <a:pt x="148" y="387"/>
                    </a:lnTo>
                    <a:lnTo>
                      <a:pt x="136" y="381"/>
                    </a:lnTo>
                    <a:lnTo>
                      <a:pt x="122" y="373"/>
                    </a:lnTo>
                    <a:lnTo>
                      <a:pt x="106" y="361"/>
                    </a:lnTo>
                    <a:lnTo>
                      <a:pt x="89" y="348"/>
                    </a:lnTo>
                    <a:lnTo>
                      <a:pt x="71" y="333"/>
                    </a:lnTo>
                    <a:lnTo>
                      <a:pt x="53" y="318"/>
                    </a:lnTo>
                    <a:lnTo>
                      <a:pt x="34" y="304"/>
                    </a:lnTo>
                    <a:lnTo>
                      <a:pt x="17" y="292"/>
                    </a:lnTo>
                    <a:lnTo>
                      <a:pt x="0" y="282"/>
                    </a:lnTo>
                    <a:lnTo>
                      <a:pt x="2" y="282"/>
                    </a:lnTo>
                    <a:lnTo>
                      <a:pt x="8" y="280"/>
                    </a:lnTo>
                    <a:lnTo>
                      <a:pt x="17" y="277"/>
                    </a:lnTo>
                    <a:lnTo>
                      <a:pt x="27" y="270"/>
                    </a:lnTo>
                    <a:lnTo>
                      <a:pt x="32" y="267"/>
                    </a:lnTo>
                    <a:lnTo>
                      <a:pt x="36" y="263"/>
                    </a:lnTo>
                    <a:lnTo>
                      <a:pt x="41" y="257"/>
                    </a:lnTo>
                    <a:lnTo>
                      <a:pt x="45" y="251"/>
                    </a:lnTo>
                    <a:lnTo>
                      <a:pt x="48" y="244"/>
                    </a:lnTo>
                    <a:lnTo>
                      <a:pt x="52" y="237"/>
                    </a:lnTo>
                    <a:lnTo>
                      <a:pt x="53" y="228"/>
                    </a:lnTo>
                    <a:lnTo>
                      <a:pt x="54" y="218"/>
                    </a:lnTo>
                    <a:lnTo>
                      <a:pt x="56" y="219"/>
                    </a:lnTo>
                    <a:lnTo>
                      <a:pt x="63" y="223"/>
                    </a:lnTo>
                    <a:lnTo>
                      <a:pt x="73" y="227"/>
                    </a:lnTo>
                    <a:lnTo>
                      <a:pt x="86" y="232"/>
                    </a:lnTo>
                    <a:lnTo>
                      <a:pt x="94" y="233"/>
                    </a:lnTo>
                    <a:lnTo>
                      <a:pt x="102" y="234"/>
                    </a:lnTo>
                    <a:lnTo>
                      <a:pt x="110" y="236"/>
                    </a:lnTo>
                    <a:lnTo>
                      <a:pt x="119" y="236"/>
                    </a:lnTo>
                    <a:lnTo>
                      <a:pt x="127" y="234"/>
                    </a:lnTo>
                    <a:lnTo>
                      <a:pt x="136" y="232"/>
                    </a:lnTo>
                    <a:lnTo>
                      <a:pt x="144" y="230"/>
                    </a:lnTo>
                    <a:lnTo>
                      <a:pt x="153" y="226"/>
                    </a:lnTo>
                    <a:lnTo>
                      <a:pt x="161" y="220"/>
                    </a:lnTo>
                    <a:lnTo>
                      <a:pt x="166" y="214"/>
                    </a:lnTo>
                    <a:lnTo>
                      <a:pt x="171" y="207"/>
                    </a:lnTo>
                    <a:lnTo>
                      <a:pt x="176" y="201"/>
                    </a:lnTo>
                    <a:lnTo>
                      <a:pt x="179" y="194"/>
                    </a:lnTo>
                    <a:lnTo>
                      <a:pt x="181" y="188"/>
                    </a:lnTo>
                    <a:lnTo>
                      <a:pt x="182" y="182"/>
                    </a:lnTo>
                    <a:lnTo>
                      <a:pt x="183" y="175"/>
                    </a:lnTo>
                    <a:lnTo>
                      <a:pt x="183" y="164"/>
                    </a:lnTo>
                    <a:lnTo>
                      <a:pt x="182" y="155"/>
                    </a:lnTo>
                    <a:lnTo>
                      <a:pt x="180" y="148"/>
                    </a:lnTo>
                    <a:lnTo>
                      <a:pt x="180" y="146"/>
                    </a:lnTo>
                    <a:lnTo>
                      <a:pt x="182" y="148"/>
                    </a:lnTo>
                    <a:lnTo>
                      <a:pt x="189" y="153"/>
                    </a:lnTo>
                    <a:lnTo>
                      <a:pt x="198" y="161"/>
                    </a:lnTo>
                    <a:lnTo>
                      <a:pt x="211" y="169"/>
                    </a:lnTo>
                    <a:lnTo>
                      <a:pt x="224" y="177"/>
                    </a:lnTo>
                    <a:lnTo>
                      <a:pt x="240" y="184"/>
                    </a:lnTo>
                    <a:lnTo>
                      <a:pt x="246" y="186"/>
                    </a:lnTo>
                    <a:lnTo>
                      <a:pt x="254" y="188"/>
                    </a:lnTo>
                    <a:lnTo>
                      <a:pt x="260" y="189"/>
                    </a:lnTo>
                    <a:lnTo>
                      <a:pt x="267" y="188"/>
                    </a:lnTo>
                    <a:lnTo>
                      <a:pt x="273" y="187"/>
                    </a:lnTo>
                    <a:lnTo>
                      <a:pt x="279" y="185"/>
                    </a:lnTo>
                    <a:lnTo>
                      <a:pt x="286" y="183"/>
                    </a:lnTo>
                    <a:lnTo>
                      <a:pt x="291" y="180"/>
                    </a:lnTo>
                    <a:lnTo>
                      <a:pt x="298" y="176"/>
                    </a:lnTo>
                    <a:lnTo>
                      <a:pt x="303" y="173"/>
                    </a:lnTo>
                    <a:lnTo>
                      <a:pt x="308" y="167"/>
                    </a:lnTo>
                    <a:lnTo>
                      <a:pt x="312" y="162"/>
                    </a:lnTo>
                    <a:lnTo>
                      <a:pt x="316" y="156"/>
                    </a:lnTo>
                    <a:lnTo>
                      <a:pt x="319" y="149"/>
                    </a:lnTo>
                    <a:lnTo>
                      <a:pt x="322" y="140"/>
                    </a:lnTo>
                    <a:lnTo>
                      <a:pt x="323" y="132"/>
                    </a:lnTo>
                    <a:lnTo>
                      <a:pt x="323" y="123"/>
                    </a:lnTo>
                    <a:lnTo>
                      <a:pt x="322" y="112"/>
                    </a:lnTo>
                    <a:lnTo>
                      <a:pt x="319" y="102"/>
                    </a:lnTo>
                    <a:lnTo>
                      <a:pt x="316" y="90"/>
                    </a:lnTo>
                    <a:lnTo>
                      <a:pt x="317" y="91"/>
                    </a:lnTo>
                    <a:lnTo>
                      <a:pt x="322" y="94"/>
                    </a:lnTo>
                    <a:lnTo>
                      <a:pt x="327" y="98"/>
                    </a:lnTo>
                    <a:lnTo>
                      <a:pt x="337" y="104"/>
                    </a:lnTo>
                    <a:lnTo>
                      <a:pt x="341" y="105"/>
                    </a:lnTo>
                    <a:lnTo>
                      <a:pt x="346" y="106"/>
                    </a:lnTo>
                    <a:lnTo>
                      <a:pt x="353" y="107"/>
                    </a:lnTo>
                    <a:lnTo>
                      <a:pt x="359" y="107"/>
                    </a:lnTo>
                    <a:lnTo>
                      <a:pt x="367" y="106"/>
                    </a:lnTo>
                    <a:lnTo>
                      <a:pt x="375" y="104"/>
                    </a:lnTo>
                    <a:lnTo>
                      <a:pt x="382" y="102"/>
                    </a:lnTo>
                    <a:lnTo>
                      <a:pt x="390" y="97"/>
                    </a:lnTo>
                    <a:close/>
                  </a:path>
                </a:pathLst>
              </a:custGeom>
              <a:solidFill>
                <a:srgbClr val="c590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5613480" y="3727440"/>
                <a:ext cx="166680" cy="141480"/>
              </a:xfrm>
              <a:custGeom>
                <a:avLst/>
                <a:gdLst/>
                <a:ahLst/>
                <a:rect l="l" t="t" r="r" b="b"/>
                <a:pathLst>
                  <a:path w="525" h="447">
                    <a:moveTo>
                      <a:pt x="388" y="89"/>
                    </a:moveTo>
                    <a:lnTo>
                      <a:pt x="396" y="83"/>
                    </a:lnTo>
                    <a:lnTo>
                      <a:pt x="402" y="77"/>
                    </a:lnTo>
                    <a:lnTo>
                      <a:pt x="408" y="70"/>
                    </a:lnTo>
                    <a:lnTo>
                      <a:pt x="412" y="64"/>
                    </a:lnTo>
                    <a:lnTo>
                      <a:pt x="415" y="56"/>
                    </a:lnTo>
                    <a:lnTo>
                      <a:pt x="417" y="49"/>
                    </a:lnTo>
                    <a:lnTo>
                      <a:pt x="418" y="41"/>
                    </a:lnTo>
                    <a:lnTo>
                      <a:pt x="420" y="34"/>
                    </a:lnTo>
                    <a:lnTo>
                      <a:pt x="421" y="21"/>
                    </a:lnTo>
                    <a:lnTo>
                      <a:pt x="420" y="10"/>
                    </a:lnTo>
                    <a:lnTo>
                      <a:pt x="418" y="2"/>
                    </a:lnTo>
                    <a:lnTo>
                      <a:pt x="418" y="0"/>
                    </a:lnTo>
                    <a:lnTo>
                      <a:pt x="428" y="17"/>
                    </a:lnTo>
                    <a:lnTo>
                      <a:pt x="437" y="36"/>
                    </a:lnTo>
                    <a:lnTo>
                      <a:pt x="447" y="54"/>
                    </a:lnTo>
                    <a:lnTo>
                      <a:pt x="456" y="73"/>
                    </a:lnTo>
                    <a:lnTo>
                      <a:pt x="465" y="92"/>
                    </a:lnTo>
                    <a:lnTo>
                      <a:pt x="475" y="109"/>
                    </a:lnTo>
                    <a:lnTo>
                      <a:pt x="482" y="127"/>
                    </a:lnTo>
                    <a:lnTo>
                      <a:pt x="490" y="144"/>
                    </a:lnTo>
                    <a:lnTo>
                      <a:pt x="497" y="160"/>
                    </a:lnTo>
                    <a:lnTo>
                      <a:pt x="508" y="188"/>
                    </a:lnTo>
                    <a:lnTo>
                      <a:pt x="517" y="213"/>
                    </a:lnTo>
                    <a:lnTo>
                      <a:pt x="520" y="225"/>
                    </a:lnTo>
                    <a:lnTo>
                      <a:pt x="522" y="235"/>
                    </a:lnTo>
                    <a:lnTo>
                      <a:pt x="523" y="246"/>
                    </a:lnTo>
                    <a:lnTo>
                      <a:pt x="524" y="256"/>
                    </a:lnTo>
                    <a:lnTo>
                      <a:pt x="525" y="265"/>
                    </a:lnTo>
                    <a:lnTo>
                      <a:pt x="524" y="273"/>
                    </a:lnTo>
                    <a:lnTo>
                      <a:pt x="523" y="282"/>
                    </a:lnTo>
                    <a:lnTo>
                      <a:pt x="522" y="289"/>
                    </a:lnTo>
                    <a:lnTo>
                      <a:pt x="520" y="296"/>
                    </a:lnTo>
                    <a:lnTo>
                      <a:pt x="517" y="302"/>
                    </a:lnTo>
                    <a:lnTo>
                      <a:pt x="514" y="308"/>
                    </a:lnTo>
                    <a:lnTo>
                      <a:pt x="509" y="313"/>
                    </a:lnTo>
                    <a:lnTo>
                      <a:pt x="505" y="319"/>
                    </a:lnTo>
                    <a:lnTo>
                      <a:pt x="501" y="322"/>
                    </a:lnTo>
                    <a:lnTo>
                      <a:pt x="496" y="324"/>
                    </a:lnTo>
                    <a:lnTo>
                      <a:pt x="491" y="325"/>
                    </a:lnTo>
                    <a:lnTo>
                      <a:pt x="487" y="326"/>
                    </a:lnTo>
                    <a:lnTo>
                      <a:pt x="482" y="325"/>
                    </a:lnTo>
                    <a:lnTo>
                      <a:pt x="477" y="325"/>
                    </a:lnTo>
                    <a:lnTo>
                      <a:pt x="472" y="324"/>
                    </a:lnTo>
                    <a:lnTo>
                      <a:pt x="465" y="321"/>
                    </a:lnTo>
                    <a:lnTo>
                      <a:pt x="458" y="318"/>
                    </a:lnTo>
                    <a:lnTo>
                      <a:pt x="454" y="314"/>
                    </a:lnTo>
                    <a:lnTo>
                      <a:pt x="453" y="313"/>
                    </a:lnTo>
                    <a:lnTo>
                      <a:pt x="453" y="315"/>
                    </a:lnTo>
                    <a:lnTo>
                      <a:pt x="455" y="320"/>
                    </a:lnTo>
                    <a:lnTo>
                      <a:pt x="458" y="326"/>
                    </a:lnTo>
                    <a:lnTo>
                      <a:pt x="462" y="335"/>
                    </a:lnTo>
                    <a:lnTo>
                      <a:pt x="465" y="343"/>
                    </a:lnTo>
                    <a:lnTo>
                      <a:pt x="467" y="352"/>
                    </a:lnTo>
                    <a:lnTo>
                      <a:pt x="469" y="361"/>
                    </a:lnTo>
                    <a:lnTo>
                      <a:pt x="470" y="368"/>
                    </a:lnTo>
                    <a:lnTo>
                      <a:pt x="468" y="376"/>
                    </a:lnTo>
                    <a:lnTo>
                      <a:pt x="465" y="385"/>
                    </a:lnTo>
                    <a:lnTo>
                      <a:pt x="458" y="395"/>
                    </a:lnTo>
                    <a:lnTo>
                      <a:pt x="452" y="405"/>
                    </a:lnTo>
                    <a:lnTo>
                      <a:pt x="443" y="415"/>
                    </a:lnTo>
                    <a:lnTo>
                      <a:pt x="436" y="422"/>
                    </a:lnTo>
                    <a:lnTo>
                      <a:pt x="431" y="426"/>
                    </a:lnTo>
                    <a:lnTo>
                      <a:pt x="427" y="428"/>
                    </a:lnTo>
                    <a:lnTo>
                      <a:pt x="424" y="429"/>
                    </a:lnTo>
                    <a:lnTo>
                      <a:pt x="421" y="430"/>
                    </a:lnTo>
                    <a:lnTo>
                      <a:pt x="412" y="429"/>
                    </a:lnTo>
                    <a:lnTo>
                      <a:pt x="402" y="424"/>
                    </a:lnTo>
                    <a:lnTo>
                      <a:pt x="390" y="419"/>
                    </a:lnTo>
                    <a:lnTo>
                      <a:pt x="379" y="413"/>
                    </a:lnTo>
                    <a:lnTo>
                      <a:pt x="367" y="406"/>
                    </a:lnTo>
                    <a:lnTo>
                      <a:pt x="358" y="401"/>
                    </a:lnTo>
                    <a:lnTo>
                      <a:pt x="352" y="396"/>
                    </a:lnTo>
                    <a:lnTo>
                      <a:pt x="349" y="395"/>
                    </a:lnTo>
                    <a:lnTo>
                      <a:pt x="349" y="402"/>
                    </a:lnTo>
                    <a:lnTo>
                      <a:pt x="348" y="408"/>
                    </a:lnTo>
                    <a:lnTo>
                      <a:pt x="347" y="415"/>
                    </a:lnTo>
                    <a:lnTo>
                      <a:pt x="345" y="420"/>
                    </a:lnTo>
                    <a:lnTo>
                      <a:pt x="343" y="424"/>
                    </a:lnTo>
                    <a:lnTo>
                      <a:pt x="340" y="429"/>
                    </a:lnTo>
                    <a:lnTo>
                      <a:pt x="336" y="433"/>
                    </a:lnTo>
                    <a:lnTo>
                      <a:pt x="333" y="436"/>
                    </a:lnTo>
                    <a:lnTo>
                      <a:pt x="327" y="441"/>
                    </a:lnTo>
                    <a:lnTo>
                      <a:pt x="320" y="445"/>
                    </a:lnTo>
                    <a:lnTo>
                      <a:pt x="316" y="446"/>
                    </a:lnTo>
                    <a:lnTo>
                      <a:pt x="315" y="447"/>
                    </a:lnTo>
                    <a:lnTo>
                      <a:pt x="193" y="380"/>
                    </a:lnTo>
                    <a:lnTo>
                      <a:pt x="192" y="380"/>
                    </a:lnTo>
                    <a:lnTo>
                      <a:pt x="187" y="381"/>
                    </a:lnTo>
                    <a:lnTo>
                      <a:pt x="181" y="381"/>
                    </a:lnTo>
                    <a:lnTo>
                      <a:pt x="172" y="380"/>
                    </a:lnTo>
                    <a:lnTo>
                      <a:pt x="161" y="379"/>
                    </a:lnTo>
                    <a:lnTo>
                      <a:pt x="151" y="377"/>
                    </a:lnTo>
                    <a:lnTo>
                      <a:pt x="139" y="374"/>
                    </a:lnTo>
                    <a:lnTo>
                      <a:pt x="127" y="368"/>
                    </a:lnTo>
                    <a:lnTo>
                      <a:pt x="113" y="360"/>
                    </a:lnTo>
                    <a:lnTo>
                      <a:pt x="99" y="349"/>
                    </a:lnTo>
                    <a:lnTo>
                      <a:pt x="83" y="336"/>
                    </a:lnTo>
                    <a:lnTo>
                      <a:pt x="67" y="322"/>
                    </a:lnTo>
                    <a:lnTo>
                      <a:pt x="50" y="308"/>
                    </a:lnTo>
                    <a:lnTo>
                      <a:pt x="34" y="295"/>
                    </a:lnTo>
                    <a:lnTo>
                      <a:pt x="17" y="283"/>
                    </a:lnTo>
                    <a:lnTo>
                      <a:pt x="0" y="274"/>
                    </a:lnTo>
                    <a:lnTo>
                      <a:pt x="3" y="274"/>
                    </a:lnTo>
                    <a:lnTo>
                      <a:pt x="8" y="273"/>
                    </a:lnTo>
                    <a:lnTo>
                      <a:pt x="16" y="270"/>
                    </a:lnTo>
                    <a:lnTo>
                      <a:pt x="25" y="266"/>
                    </a:lnTo>
                    <a:lnTo>
                      <a:pt x="30" y="262"/>
                    </a:lnTo>
                    <a:lnTo>
                      <a:pt x="34" y="259"/>
                    </a:lnTo>
                    <a:lnTo>
                      <a:pt x="38" y="255"/>
                    </a:lnTo>
                    <a:lnTo>
                      <a:pt x="41" y="250"/>
                    </a:lnTo>
                    <a:lnTo>
                      <a:pt x="45" y="243"/>
                    </a:lnTo>
                    <a:lnTo>
                      <a:pt x="48" y="235"/>
                    </a:lnTo>
                    <a:lnTo>
                      <a:pt x="49" y="227"/>
                    </a:lnTo>
                    <a:lnTo>
                      <a:pt x="50" y="217"/>
                    </a:lnTo>
                    <a:lnTo>
                      <a:pt x="52" y="218"/>
                    </a:lnTo>
                    <a:lnTo>
                      <a:pt x="59" y="221"/>
                    </a:lnTo>
                    <a:lnTo>
                      <a:pt x="70" y="226"/>
                    </a:lnTo>
                    <a:lnTo>
                      <a:pt x="83" y="230"/>
                    </a:lnTo>
                    <a:lnTo>
                      <a:pt x="90" y="231"/>
                    </a:lnTo>
                    <a:lnTo>
                      <a:pt x="98" y="232"/>
                    </a:lnTo>
                    <a:lnTo>
                      <a:pt x="106" y="232"/>
                    </a:lnTo>
                    <a:lnTo>
                      <a:pt x="114" y="232"/>
                    </a:lnTo>
                    <a:lnTo>
                      <a:pt x="122" y="230"/>
                    </a:lnTo>
                    <a:lnTo>
                      <a:pt x="131" y="228"/>
                    </a:lnTo>
                    <a:lnTo>
                      <a:pt x="140" y="225"/>
                    </a:lnTo>
                    <a:lnTo>
                      <a:pt x="148" y="219"/>
                    </a:lnTo>
                    <a:lnTo>
                      <a:pt x="156" y="215"/>
                    </a:lnTo>
                    <a:lnTo>
                      <a:pt x="162" y="208"/>
                    </a:lnTo>
                    <a:lnTo>
                      <a:pt x="168" y="203"/>
                    </a:lnTo>
                    <a:lnTo>
                      <a:pt x="172" y="197"/>
                    </a:lnTo>
                    <a:lnTo>
                      <a:pt x="175" y="191"/>
                    </a:lnTo>
                    <a:lnTo>
                      <a:pt x="178" y="185"/>
                    </a:lnTo>
                    <a:lnTo>
                      <a:pt x="179" y="179"/>
                    </a:lnTo>
                    <a:lnTo>
                      <a:pt x="180" y="174"/>
                    </a:lnTo>
                    <a:lnTo>
                      <a:pt x="181" y="163"/>
                    </a:lnTo>
                    <a:lnTo>
                      <a:pt x="180" y="156"/>
                    </a:lnTo>
                    <a:lnTo>
                      <a:pt x="179" y="150"/>
                    </a:lnTo>
                    <a:lnTo>
                      <a:pt x="179" y="148"/>
                    </a:lnTo>
                    <a:lnTo>
                      <a:pt x="181" y="150"/>
                    </a:lnTo>
                    <a:lnTo>
                      <a:pt x="186" y="154"/>
                    </a:lnTo>
                    <a:lnTo>
                      <a:pt x="196" y="162"/>
                    </a:lnTo>
                    <a:lnTo>
                      <a:pt x="208" y="170"/>
                    </a:lnTo>
                    <a:lnTo>
                      <a:pt x="221" y="177"/>
                    </a:lnTo>
                    <a:lnTo>
                      <a:pt x="235" y="183"/>
                    </a:lnTo>
                    <a:lnTo>
                      <a:pt x="241" y="185"/>
                    </a:lnTo>
                    <a:lnTo>
                      <a:pt x="249" y="186"/>
                    </a:lnTo>
                    <a:lnTo>
                      <a:pt x="255" y="186"/>
                    </a:lnTo>
                    <a:lnTo>
                      <a:pt x="262" y="185"/>
                    </a:lnTo>
                    <a:lnTo>
                      <a:pt x="275" y="183"/>
                    </a:lnTo>
                    <a:lnTo>
                      <a:pt x="287" y="177"/>
                    </a:lnTo>
                    <a:lnTo>
                      <a:pt x="293" y="174"/>
                    </a:lnTo>
                    <a:lnTo>
                      <a:pt x="299" y="170"/>
                    </a:lnTo>
                    <a:lnTo>
                      <a:pt x="304" y="165"/>
                    </a:lnTo>
                    <a:lnTo>
                      <a:pt x="308" y="160"/>
                    </a:lnTo>
                    <a:lnTo>
                      <a:pt x="313" y="154"/>
                    </a:lnTo>
                    <a:lnTo>
                      <a:pt x="316" y="147"/>
                    </a:lnTo>
                    <a:lnTo>
                      <a:pt x="318" y="139"/>
                    </a:lnTo>
                    <a:lnTo>
                      <a:pt x="320" y="131"/>
                    </a:lnTo>
                    <a:lnTo>
                      <a:pt x="320" y="122"/>
                    </a:lnTo>
                    <a:lnTo>
                      <a:pt x="320" y="111"/>
                    </a:lnTo>
                    <a:lnTo>
                      <a:pt x="318" y="100"/>
                    </a:lnTo>
                    <a:lnTo>
                      <a:pt x="315" y="89"/>
                    </a:lnTo>
                    <a:lnTo>
                      <a:pt x="316" y="90"/>
                    </a:lnTo>
                    <a:lnTo>
                      <a:pt x="319" y="93"/>
                    </a:lnTo>
                    <a:lnTo>
                      <a:pt x="326" y="96"/>
                    </a:lnTo>
                    <a:lnTo>
                      <a:pt x="334" y="99"/>
                    </a:lnTo>
                    <a:lnTo>
                      <a:pt x="340" y="102"/>
                    </a:lnTo>
                    <a:lnTo>
                      <a:pt x="345" y="102"/>
                    </a:lnTo>
                    <a:lnTo>
                      <a:pt x="352" y="102"/>
                    </a:lnTo>
                    <a:lnTo>
                      <a:pt x="358" y="102"/>
                    </a:lnTo>
                    <a:lnTo>
                      <a:pt x="366" y="99"/>
                    </a:lnTo>
                    <a:lnTo>
                      <a:pt x="372" y="97"/>
                    </a:lnTo>
                    <a:lnTo>
                      <a:pt x="381" y="94"/>
                    </a:lnTo>
                    <a:lnTo>
                      <a:pt x="388" y="89"/>
                    </a:lnTo>
                    <a:close/>
                  </a:path>
                </a:pathLst>
              </a:custGeom>
              <a:solidFill>
                <a:srgbClr val="c18e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5616720" y="3730680"/>
                <a:ext cx="163440" cy="138240"/>
              </a:xfrm>
              <a:custGeom>
                <a:avLst/>
                <a:gdLst/>
                <a:ahLst/>
                <a:rect l="l" t="t" r="r" b="b"/>
                <a:pathLst>
                  <a:path w="517" h="435">
                    <a:moveTo>
                      <a:pt x="388" y="84"/>
                    </a:moveTo>
                    <a:lnTo>
                      <a:pt x="395" y="79"/>
                    </a:lnTo>
                    <a:lnTo>
                      <a:pt x="402" y="72"/>
                    </a:lnTo>
                    <a:lnTo>
                      <a:pt x="407" y="66"/>
                    </a:lnTo>
                    <a:lnTo>
                      <a:pt x="410" y="59"/>
                    </a:lnTo>
                    <a:lnTo>
                      <a:pt x="414" y="53"/>
                    </a:lnTo>
                    <a:lnTo>
                      <a:pt x="416" y="45"/>
                    </a:lnTo>
                    <a:lnTo>
                      <a:pt x="417" y="39"/>
                    </a:lnTo>
                    <a:lnTo>
                      <a:pt x="418" y="32"/>
                    </a:lnTo>
                    <a:lnTo>
                      <a:pt x="418" y="19"/>
                    </a:lnTo>
                    <a:lnTo>
                      <a:pt x="417" y="10"/>
                    </a:lnTo>
                    <a:lnTo>
                      <a:pt x="416" y="2"/>
                    </a:lnTo>
                    <a:lnTo>
                      <a:pt x="415" y="0"/>
                    </a:lnTo>
                    <a:lnTo>
                      <a:pt x="420" y="5"/>
                    </a:lnTo>
                    <a:lnTo>
                      <a:pt x="429" y="24"/>
                    </a:lnTo>
                    <a:lnTo>
                      <a:pt x="439" y="42"/>
                    </a:lnTo>
                    <a:lnTo>
                      <a:pt x="448" y="61"/>
                    </a:lnTo>
                    <a:lnTo>
                      <a:pt x="457" y="80"/>
                    </a:lnTo>
                    <a:lnTo>
                      <a:pt x="467" y="97"/>
                    </a:lnTo>
                    <a:lnTo>
                      <a:pt x="474" y="115"/>
                    </a:lnTo>
                    <a:lnTo>
                      <a:pt x="482" y="132"/>
                    </a:lnTo>
                    <a:lnTo>
                      <a:pt x="489" y="148"/>
                    </a:lnTo>
                    <a:lnTo>
                      <a:pt x="500" y="176"/>
                    </a:lnTo>
                    <a:lnTo>
                      <a:pt x="509" y="201"/>
                    </a:lnTo>
                    <a:lnTo>
                      <a:pt x="512" y="213"/>
                    </a:lnTo>
                    <a:lnTo>
                      <a:pt x="514" y="223"/>
                    </a:lnTo>
                    <a:lnTo>
                      <a:pt x="515" y="234"/>
                    </a:lnTo>
                    <a:lnTo>
                      <a:pt x="516" y="244"/>
                    </a:lnTo>
                    <a:lnTo>
                      <a:pt x="517" y="253"/>
                    </a:lnTo>
                    <a:lnTo>
                      <a:pt x="516" y="261"/>
                    </a:lnTo>
                    <a:lnTo>
                      <a:pt x="515" y="270"/>
                    </a:lnTo>
                    <a:lnTo>
                      <a:pt x="514" y="277"/>
                    </a:lnTo>
                    <a:lnTo>
                      <a:pt x="512" y="284"/>
                    </a:lnTo>
                    <a:lnTo>
                      <a:pt x="509" y="290"/>
                    </a:lnTo>
                    <a:lnTo>
                      <a:pt x="506" y="296"/>
                    </a:lnTo>
                    <a:lnTo>
                      <a:pt x="501" y="301"/>
                    </a:lnTo>
                    <a:lnTo>
                      <a:pt x="497" y="307"/>
                    </a:lnTo>
                    <a:lnTo>
                      <a:pt x="493" y="310"/>
                    </a:lnTo>
                    <a:lnTo>
                      <a:pt x="488" y="312"/>
                    </a:lnTo>
                    <a:lnTo>
                      <a:pt x="483" y="313"/>
                    </a:lnTo>
                    <a:lnTo>
                      <a:pt x="479" y="314"/>
                    </a:lnTo>
                    <a:lnTo>
                      <a:pt x="474" y="313"/>
                    </a:lnTo>
                    <a:lnTo>
                      <a:pt x="469" y="313"/>
                    </a:lnTo>
                    <a:lnTo>
                      <a:pt x="464" y="312"/>
                    </a:lnTo>
                    <a:lnTo>
                      <a:pt x="457" y="309"/>
                    </a:lnTo>
                    <a:lnTo>
                      <a:pt x="450" y="306"/>
                    </a:lnTo>
                    <a:lnTo>
                      <a:pt x="446" y="302"/>
                    </a:lnTo>
                    <a:lnTo>
                      <a:pt x="445" y="301"/>
                    </a:lnTo>
                    <a:lnTo>
                      <a:pt x="445" y="303"/>
                    </a:lnTo>
                    <a:lnTo>
                      <a:pt x="447" y="308"/>
                    </a:lnTo>
                    <a:lnTo>
                      <a:pt x="450" y="314"/>
                    </a:lnTo>
                    <a:lnTo>
                      <a:pt x="454" y="323"/>
                    </a:lnTo>
                    <a:lnTo>
                      <a:pt x="457" y="331"/>
                    </a:lnTo>
                    <a:lnTo>
                      <a:pt x="459" y="340"/>
                    </a:lnTo>
                    <a:lnTo>
                      <a:pt x="461" y="349"/>
                    </a:lnTo>
                    <a:lnTo>
                      <a:pt x="462" y="356"/>
                    </a:lnTo>
                    <a:lnTo>
                      <a:pt x="460" y="364"/>
                    </a:lnTo>
                    <a:lnTo>
                      <a:pt x="457" y="373"/>
                    </a:lnTo>
                    <a:lnTo>
                      <a:pt x="450" y="383"/>
                    </a:lnTo>
                    <a:lnTo>
                      <a:pt x="444" y="393"/>
                    </a:lnTo>
                    <a:lnTo>
                      <a:pt x="435" y="403"/>
                    </a:lnTo>
                    <a:lnTo>
                      <a:pt x="428" y="410"/>
                    </a:lnTo>
                    <a:lnTo>
                      <a:pt x="423" y="414"/>
                    </a:lnTo>
                    <a:lnTo>
                      <a:pt x="419" y="416"/>
                    </a:lnTo>
                    <a:lnTo>
                      <a:pt x="416" y="417"/>
                    </a:lnTo>
                    <a:lnTo>
                      <a:pt x="413" y="418"/>
                    </a:lnTo>
                    <a:lnTo>
                      <a:pt x="404" y="417"/>
                    </a:lnTo>
                    <a:lnTo>
                      <a:pt x="394" y="412"/>
                    </a:lnTo>
                    <a:lnTo>
                      <a:pt x="382" y="407"/>
                    </a:lnTo>
                    <a:lnTo>
                      <a:pt x="371" y="401"/>
                    </a:lnTo>
                    <a:lnTo>
                      <a:pt x="359" y="394"/>
                    </a:lnTo>
                    <a:lnTo>
                      <a:pt x="350" y="389"/>
                    </a:lnTo>
                    <a:lnTo>
                      <a:pt x="344" y="384"/>
                    </a:lnTo>
                    <a:lnTo>
                      <a:pt x="341" y="383"/>
                    </a:lnTo>
                    <a:lnTo>
                      <a:pt x="341" y="390"/>
                    </a:lnTo>
                    <a:lnTo>
                      <a:pt x="340" y="396"/>
                    </a:lnTo>
                    <a:lnTo>
                      <a:pt x="339" y="403"/>
                    </a:lnTo>
                    <a:lnTo>
                      <a:pt x="337" y="408"/>
                    </a:lnTo>
                    <a:lnTo>
                      <a:pt x="335" y="412"/>
                    </a:lnTo>
                    <a:lnTo>
                      <a:pt x="332" y="417"/>
                    </a:lnTo>
                    <a:lnTo>
                      <a:pt x="328" y="421"/>
                    </a:lnTo>
                    <a:lnTo>
                      <a:pt x="325" y="424"/>
                    </a:lnTo>
                    <a:lnTo>
                      <a:pt x="319" y="429"/>
                    </a:lnTo>
                    <a:lnTo>
                      <a:pt x="312" y="433"/>
                    </a:lnTo>
                    <a:lnTo>
                      <a:pt x="308" y="434"/>
                    </a:lnTo>
                    <a:lnTo>
                      <a:pt x="307" y="435"/>
                    </a:lnTo>
                    <a:lnTo>
                      <a:pt x="185" y="368"/>
                    </a:lnTo>
                    <a:lnTo>
                      <a:pt x="184" y="368"/>
                    </a:lnTo>
                    <a:lnTo>
                      <a:pt x="179" y="369"/>
                    </a:lnTo>
                    <a:lnTo>
                      <a:pt x="173" y="369"/>
                    </a:lnTo>
                    <a:lnTo>
                      <a:pt x="164" y="368"/>
                    </a:lnTo>
                    <a:lnTo>
                      <a:pt x="153" y="367"/>
                    </a:lnTo>
                    <a:lnTo>
                      <a:pt x="143" y="365"/>
                    </a:lnTo>
                    <a:lnTo>
                      <a:pt x="131" y="362"/>
                    </a:lnTo>
                    <a:lnTo>
                      <a:pt x="119" y="356"/>
                    </a:lnTo>
                    <a:lnTo>
                      <a:pt x="105" y="348"/>
                    </a:lnTo>
                    <a:lnTo>
                      <a:pt x="92" y="337"/>
                    </a:lnTo>
                    <a:lnTo>
                      <a:pt x="78" y="325"/>
                    </a:lnTo>
                    <a:lnTo>
                      <a:pt x="63" y="311"/>
                    </a:lnTo>
                    <a:lnTo>
                      <a:pt x="48" y="298"/>
                    </a:lnTo>
                    <a:lnTo>
                      <a:pt x="32" y="285"/>
                    </a:lnTo>
                    <a:lnTo>
                      <a:pt x="24" y="279"/>
                    </a:lnTo>
                    <a:lnTo>
                      <a:pt x="16" y="273"/>
                    </a:lnTo>
                    <a:lnTo>
                      <a:pt x="8" y="269"/>
                    </a:lnTo>
                    <a:lnTo>
                      <a:pt x="0" y="265"/>
                    </a:lnTo>
                    <a:lnTo>
                      <a:pt x="2" y="265"/>
                    </a:lnTo>
                    <a:lnTo>
                      <a:pt x="8" y="265"/>
                    </a:lnTo>
                    <a:lnTo>
                      <a:pt x="15" y="263"/>
                    </a:lnTo>
                    <a:lnTo>
                      <a:pt x="25" y="261"/>
                    </a:lnTo>
                    <a:lnTo>
                      <a:pt x="29" y="259"/>
                    </a:lnTo>
                    <a:lnTo>
                      <a:pt x="33" y="256"/>
                    </a:lnTo>
                    <a:lnTo>
                      <a:pt x="38" y="252"/>
                    </a:lnTo>
                    <a:lnTo>
                      <a:pt x="41" y="247"/>
                    </a:lnTo>
                    <a:lnTo>
                      <a:pt x="44" y="241"/>
                    </a:lnTo>
                    <a:lnTo>
                      <a:pt x="48" y="233"/>
                    </a:lnTo>
                    <a:lnTo>
                      <a:pt x="49" y="225"/>
                    </a:lnTo>
                    <a:lnTo>
                      <a:pt x="49" y="215"/>
                    </a:lnTo>
                    <a:lnTo>
                      <a:pt x="52" y="216"/>
                    </a:lnTo>
                    <a:lnTo>
                      <a:pt x="58" y="219"/>
                    </a:lnTo>
                    <a:lnTo>
                      <a:pt x="69" y="223"/>
                    </a:lnTo>
                    <a:lnTo>
                      <a:pt x="82" y="227"/>
                    </a:lnTo>
                    <a:lnTo>
                      <a:pt x="90" y="228"/>
                    </a:lnTo>
                    <a:lnTo>
                      <a:pt x="97" y="229"/>
                    </a:lnTo>
                    <a:lnTo>
                      <a:pt x="106" y="229"/>
                    </a:lnTo>
                    <a:lnTo>
                      <a:pt x="113" y="229"/>
                    </a:lnTo>
                    <a:lnTo>
                      <a:pt x="122" y="228"/>
                    </a:lnTo>
                    <a:lnTo>
                      <a:pt x="131" y="226"/>
                    </a:lnTo>
                    <a:lnTo>
                      <a:pt x="139" y="222"/>
                    </a:lnTo>
                    <a:lnTo>
                      <a:pt x="148" y="218"/>
                    </a:lnTo>
                    <a:lnTo>
                      <a:pt x="156" y="212"/>
                    </a:lnTo>
                    <a:lnTo>
                      <a:pt x="162" y="206"/>
                    </a:lnTo>
                    <a:lnTo>
                      <a:pt x="167" y="200"/>
                    </a:lnTo>
                    <a:lnTo>
                      <a:pt x="171" y="194"/>
                    </a:lnTo>
                    <a:lnTo>
                      <a:pt x="174" y="189"/>
                    </a:lnTo>
                    <a:lnTo>
                      <a:pt x="176" y="182"/>
                    </a:lnTo>
                    <a:lnTo>
                      <a:pt x="177" y="177"/>
                    </a:lnTo>
                    <a:lnTo>
                      <a:pt x="178" y="172"/>
                    </a:lnTo>
                    <a:lnTo>
                      <a:pt x="178" y="163"/>
                    </a:lnTo>
                    <a:lnTo>
                      <a:pt x="177" y="155"/>
                    </a:lnTo>
                    <a:lnTo>
                      <a:pt x="176" y="150"/>
                    </a:lnTo>
                    <a:lnTo>
                      <a:pt x="175" y="148"/>
                    </a:lnTo>
                    <a:lnTo>
                      <a:pt x="177" y="150"/>
                    </a:lnTo>
                    <a:lnTo>
                      <a:pt x="184" y="154"/>
                    </a:lnTo>
                    <a:lnTo>
                      <a:pt x="192" y="161"/>
                    </a:lnTo>
                    <a:lnTo>
                      <a:pt x="204" y="168"/>
                    </a:lnTo>
                    <a:lnTo>
                      <a:pt x="217" y="175"/>
                    </a:lnTo>
                    <a:lnTo>
                      <a:pt x="231" y="180"/>
                    </a:lnTo>
                    <a:lnTo>
                      <a:pt x="239" y="182"/>
                    </a:lnTo>
                    <a:lnTo>
                      <a:pt x="245" y="184"/>
                    </a:lnTo>
                    <a:lnTo>
                      <a:pt x="253" y="184"/>
                    </a:lnTo>
                    <a:lnTo>
                      <a:pt x="259" y="184"/>
                    </a:lnTo>
                    <a:lnTo>
                      <a:pt x="272" y="180"/>
                    </a:lnTo>
                    <a:lnTo>
                      <a:pt x="284" y="176"/>
                    </a:lnTo>
                    <a:lnTo>
                      <a:pt x="291" y="173"/>
                    </a:lnTo>
                    <a:lnTo>
                      <a:pt x="296" y="168"/>
                    </a:lnTo>
                    <a:lnTo>
                      <a:pt x="301" y="164"/>
                    </a:lnTo>
                    <a:lnTo>
                      <a:pt x="307" y="159"/>
                    </a:lnTo>
                    <a:lnTo>
                      <a:pt x="311" y="153"/>
                    </a:lnTo>
                    <a:lnTo>
                      <a:pt x="314" y="147"/>
                    </a:lnTo>
                    <a:lnTo>
                      <a:pt x="318" y="139"/>
                    </a:lnTo>
                    <a:lnTo>
                      <a:pt x="319" y="132"/>
                    </a:lnTo>
                    <a:lnTo>
                      <a:pt x="320" y="122"/>
                    </a:lnTo>
                    <a:lnTo>
                      <a:pt x="319" y="112"/>
                    </a:lnTo>
                    <a:lnTo>
                      <a:pt x="318" y="101"/>
                    </a:lnTo>
                    <a:lnTo>
                      <a:pt x="313" y="90"/>
                    </a:lnTo>
                    <a:lnTo>
                      <a:pt x="315" y="90"/>
                    </a:lnTo>
                    <a:lnTo>
                      <a:pt x="319" y="93"/>
                    </a:lnTo>
                    <a:lnTo>
                      <a:pt x="325" y="95"/>
                    </a:lnTo>
                    <a:lnTo>
                      <a:pt x="334" y="98"/>
                    </a:lnTo>
                    <a:lnTo>
                      <a:pt x="339" y="98"/>
                    </a:lnTo>
                    <a:lnTo>
                      <a:pt x="345" y="98"/>
                    </a:lnTo>
                    <a:lnTo>
                      <a:pt x="351" y="98"/>
                    </a:lnTo>
                    <a:lnTo>
                      <a:pt x="358" y="97"/>
                    </a:lnTo>
                    <a:lnTo>
                      <a:pt x="364" y="96"/>
                    </a:lnTo>
                    <a:lnTo>
                      <a:pt x="372" y="93"/>
                    </a:lnTo>
                    <a:lnTo>
                      <a:pt x="379" y="90"/>
                    </a:lnTo>
                    <a:lnTo>
                      <a:pt x="388" y="84"/>
                    </a:lnTo>
                    <a:close/>
                  </a:path>
                </a:pathLst>
              </a:custGeom>
              <a:solidFill>
                <a:srgbClr val="bc89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5618160" y="3732120"/>
                <a:ext cx="162000" cy="136800"/>
              </a:xfrm>
              <a:custGeom>
                <a:avLst/>
                <a:gdLst/>
                <a:ahLst/>
                <a:rect l="l" t="t" r="r" b="b"/>
                <a:pathLst>
                  <a:path w="509" h="430">
                    <a:moveTo>
                      <a:pt x="412" y="0"/>
                    </a:moveTo>
                    <a:lnTo>
                      <a:pt x="421" y="19"/>
                    </a:lnTo>
                    <a:lnTo>
                      <a:pt x="431" y="37"/>
                    </a:lnTo>
                    <a:lnTo>
                      <a:pt x="440" y="56"/>
                    </a:lnTo>
                    <a:lnTo>
                      <a:pt x="449" y="75"/>
                    </a:lnTo>
                    <a:lnTo>
                      <a:pt x="459" y="92"/>
                    </a:lnTo>
                    <a:lnTo>
                      <a:pt x="466" y="110"/>
                    </a:lnTo>
                    <a:lnTo>
                      <a:pt x="474" y="127"/>
                    </a:lnTo>
                    <a:lnTo>
                      <a:pt x="481" y="143"/>
                    </a:lnTo>
                    <a:lnTo>
                      <a:pt x="492" y="171"/>
                    </a:lnTo>
                    <a:lnTo>
                      <a:pt x="501" y="196"/>
                    </a:lnTo>
                    <a:lnTo>
                      <a:pt x="504" y="208"/>
                    </a:lnTo>
                    <a:lnTo>
                      <a:pt x="506" y="218"/>
                    </a:lnTo>
                    <a:lnTo>
                      <a:pt x="507" y="229"/>
                    </a:lnTo>
                    <a:lnTo>
                      <a:pt x="508" y="239"/>
                    </a:lnTo>
                    <a:lnTo>
                      <a:pt x="509" y="248"/>
                    </a:lnTo>
                    <a:lnTo>
                      <a:pt x="508" y="256"/>
                    </a:lnTo>
                    <a:lnTo>
                      <a:pt x="507" y="265"/>
                    </a:lnTo>
                    <a:lnTo>
                      <a:pt x="506" y="272"/>
                    </a:lnTo>
                    <a:lnTo>
                      <a:pt x="504" y="279"/>
                    </a:lnTo>
                    <a:lnTo>
                      <a:pt x="501" y="285"/>
                    </a:lnTo>
                    <a:lnTo>
                      <a:pt x="498" y="291"/>
                    </a:lnTo>
                    <a:lnTo>
                      <a:pt x="493" y="296"/>
                    </a:lnTo>
                    <a:lnTo>
                      <a:pt x="489" y="302"/>
                    </a:lnTo>
                    <a:lnTo>
                      <a:pt x="485" y="305"/>
                    </a:lnTo>
                    <a:lnTo>
                      <a:pt x="480" y="307"/>
                    </a:lnTo>
                    <a:lnTo>
                      <a:pt x="475" y="308"/>
                    </a:lnTo>
                    <a:lnTo>
                      <a:pt x="471" y="309"/>
                    </a:lnTo>
                    <a:lnTo>
                      <a:pt x="466" y="308"/>
                    </a:lnTo>
                    <a:lnTo>
                      <a:pt x="461" y="308"/>
                    </a:lnTo>
                    <a:lnTo>
                      <a:pt x="456" y="307"/>
                    </a:lnTo>
                    <a:lnTo>
                      <a:pt x="449" y="304"/>
                    </a:lnTo>
                    <a:lnTo>
                      <a:pt x="442" y="301"/>
                    </a:lnTo>
                    <a:lnTo>
                      <a:pt x="438" y="297"/>
                    </a:lnTo>
                    <a:lnTo>
                      <a:pt x="437" y="296"/>
                    </a:lnTo>
                    <a:lnTo>
                      <a:pt x="437" y="298"/>
                    </a:lnTo>
                    <a:lnTo>
                      <a:pt x="439" y="303"/>
                    </a:lnTo>
                    <a:lnTo>
                      <a:pt x="442" y="309"/>
                    </a:lnTo>
                    <a:lnTo>
                      <a:pt x="446" y="318"/>
                    </a:lnTo>
                    <a:lnTo>
                      <a:pt x="449" y="326"/>
                    </a:lnTo>
                    <a:lnTo>
                      <a:pt x="451" y="335"/>
                    </a:lnTo>
                    <a:lnTo>
                      <a:pt x="453" y="344"/>
                    </a:lnTo>
                    <a:lnTo>
                      <a:pt x="454" y="351"/>
                    </a:lnTo>
                    <a:lnTo>
                      <a:pt x="452" y="359"/>
                    </a:lnTo>
                    <a:lnTo>
                      <a:pt x="449" y="368"/>
                    </a:lnTo>
                    <a:lnTo>
                      <a:pt x="442" y="378"/>
                    </a:lnTo>
                    <a:lnTo>
                      <a:pt x="436" y="388"/>
                    </a:lnTo>
                    <a:lnTo>
                      <a:pt x="427" y="398"/>
                    </a:lnTo>
                    <a:lnTo>
                      <a:pt x="420" y="405"/>
                    </a:lnTo>
                    <a:lnTo>
                      <a:pt x="415" y="409"/>
                    </a:lnTo>
                    <a:lnTo>
                      <a:pt x="411" y="411"/>
                    </a:lnTo>
                    <a:lnTo>
                      <a:pt x="408" y="412"/>
                    </a:lnTo>
                    <a:lnTo>
                      <a:pt x="405" y="413"/>
                    </a:lnTo>
                    <a:lnTo>
                      <a:pt x="396" y="412"/>
                    </a:lnTo>
                    <a:lnTo>
                      <a:pt x="386" y="407"/>
                    </a:lnTo>
                    <a:lnTo>
                      <a:pt x="374" y="402"/>
                    </a:lnTo>
                    <a:lnTo>
                      <a:pt x="363" y="396"/>
                    </a:lnTo>
                    <a:lnTo>
                      <a:pt x="351" y="389"/>
                    </a:lnTo>
                    <a:lnTo>
                      <a:pt x="342" y="384"/>
                    </a:lnTo>
                    <a:lnTo>
                      <a:pt x="336" y="379"/>
                    </a:lnTo>
                    <a:lnTo>
                      <a:pt x="333" y="378"/>
                    </a:lnTo>
                    <a:lnTo>
                      <a:pt x="333" y="385"/>
                    </a:lnTo>
                    <a:lnTo>
                      <a:pt x="332" y="391"/>
                    </a:lnTo>
                    <a:lnTo>
                      <a:pt x="331" y="398"/>
                    </a:lnTo>
                    <a:lnTo>
                      <a:pt x="329" y="403"/>
                    </a:lnTo>
                    <a:lnTo>
                      <a:pt x="327" y="407"/>
                    </a:lnTo>
                    <a:lnTo>
                      <a:pt x="324" y="412"/>
                    </a:lnTo>
                    <a:lnTo>
                      <a:pt x="320" y="416"/>
                    </a:lnTo>
                    <a:lnTo>
                      <a:pt x="317" y="419"/>
                    </a:lnTo>
                    <a:lnTo>
                      <a:pt x="311" y="424"/>
                    </a:lnTo>
                    <a:lnTo>
                      <a:pt x="304" y="428"/>
                    </a:lnTo>
                    <a:lnTo>
                      <a:pt x="300" y="429"/>
                    </a:lnTo>
                    <a:lnTo>
                      <a:pt x="299" y="430"/>
                    </a:lnTo>
                    <a:lnTo>
                      <a:pt x="177" y="363"/>
                    </a:lnTo>
                    <a:lnTo>
                      <a:pt x="176" y="363"/>
                    </a:lnTo>
                    <a:lnTo>
                      <a:pt x="171" y="364"/>
                    </a:lnTo>
                    <a:lnTo>
                      <a:pt x="165" y="364"/>
                    </a:lnTo>
                    <a:lnTo>
                      <a:pt x="156" y="363"/>
                    </a:lnTo>
                    <a:lnTo>
                      <a:pt x="145" y="362"/>
                    </a:lnTo>
                    <a:lnTo>
                      <a:pt x="135" y="360"/>
                    </a:lnTo>
                    <a:lnTo>
                      <a:pt x="123" y="357"/>
                    </a:lnTo>
                    <a:lnTo>
                      <a:pt x="111" y="351"/>
                    </a:lnTo>
                    <a:lnTo>
                      <a:pt x="98" y="343"/>
                    </a:lnTo>
                    <a:lnTo>
                      <a:pt x="85" y="333"/>
                    </a:lnTo>
                    <a:lnTo>
                      <a:pt x="72" y="321"/>
                    </a:lnTo>
                    <a:lnTo>
                      <a:pt x="58" y="309"/>
                    </a:lnTo>
                    <a:lnTo>
                      <a:pt x="45" y="296"/>
                    </a:lnTo>
                    <a:lnTo>
                      <a:pt x="31" y="284"/>
                    </a:lnTo>
                    <a:lnTo>
                      <a:pt x="23" y="278"/>
                    </a:lnTo>
                    <a:lnTo>
                      <a:pt x="16" y="274"/>
                    </a:lnTo>
                    <a:lnTo>
                      <a:pt x="7" y="268"/>
                    </a:lnTo>
                    <a:lnTo>
                      <a:pt x="0" y="265"/>
                    </a:lnTo>
                    <a:lnTo>
                      <a:pt x="2" y="265"/>
                    </a:lnTo>
                    <a:lnTo>
                      <a:pt x="7" y="266"/>
                    </a:lnTo>
                    <a:lnTo>
                      <a:pt x="15" y="266"/>
                    </a:lnTo>
                    <a:lnTo>
                      <a:pt x="23" y="264"/>
                    </a:lnTo>
                    <a:lnTo>
                      <a:pt x="29" y="262"/>
                    </a:lnTo>
                    <a:lnTo>
                      <a:pt x="33" y="260"/>
                    </a:lnTo>
                    <a:lnTo>
                      <a:pt x="37" y="256"/>
                    </a:lnTo>
                    <a:lnTo>
                      <a:pt x="41" y="252"/>
                    </a:lnTo>
                    <a:lnTo>
                      <a:pt x="44" y="247"/>
                    </a:lnTo>
                    <a:lnTo>
                      <a:pt x="46" y="240"/>
                    </a:lnTo>
                    <a:lnTo>
                      <a:pt x="48" y="231"/>
                    </a:lnTo>
                    <a:lnTo>
                      <a:pt x="48" y="223"/>
                    </a:lnTo>
                    <a:lnTo>
                      <a:pt x="50" y="224"/>
                    </a:lnTo>
                    <a:lnTo>
                      <a:pt x="57" y="226"/>
                    </a:lnTo>
                    <a:lnTo>
                      <a:pt x="68" y="229"/>
                    </a:lnTo>
                    <a:lnTo>
                      <a:pt x="81" y="231"/>
                    </a:lnTo>
                    <a:lnTo>
                      <a:pt x="87" y="233"/>
                    </a:lnTo>
                    <a:lnTo>
                      <a:pt x="95" y="233"/>
                    </a:lnTo>
                    <a:lnTo>
                      <a:pt x="103" y="233"/>
                    </a:lnTo>
                    <a:lnTo>
                      <a:pt x="111" y="231"/>
                    </a:lnTo>
                    <a:lnTo>
                      <a:pt x="119" y="230"/>
                    </a:lnTo>
                    <a:lnTo>
                      <a:pt x="128" y="228"/>
                    </a:lnTo>
                    <a:lnTo>
                      <a:pt x="137" y="225"/>
                    </a:lnTo>
                    <a:lnTo>
                      <a:pt x="145" y="220"/>
                    </a:lnTo>
                    <a:lnTo>
                      <a:pt x="153" y="215"/>
                    </a:lnTo>
                    <a:lnTo>
                      <a:pt x="159" y="210"/>
                    </a:lnTo>
                    <a:lnTo>
                      <a:pt x="164" y="204"/>
                    </a:lnTo>
                    <a:lnTo>
                      <a:pt x="168" y="199"/>
                    </a:lnTo>
                    <a:lnTo>
                      <a:pt x="171" y="193"/>
                    </a:lnTo>
                    <a:lnTo>
                      <a:pt x="173" y="188"/>
                    </a:lnTo>
                    <a:lnTo>
                      <a:pt x="176" y="183"/>
                    </a:lnTo>
                    <a:lnTo>
                      <a:pt x="177" y="177"/>
                    </a:lnTo>
                    <a:lnTo>
                      <a:pt x="177" y="169"/>
                    </a:lnTo>
                    <a:lnTo>
                      <a:pt x="177" y="162"/>
                    </a:lnTo>
                    <a:lnTo>
                      <a:pt x="176" y="157"/>
                    </a:lnTo>
                    <a:lnTo>
                      <a:pt x="175" y="156"/>
                    </a:lnTo>
                    <a:lnTo>
                      <a:pt x="177" y="157"/>
                    </a:lnTo>
                    <a:lnTo>
                      <a:pt x="182" y="162"/>
                    </a:lnTo>
                    <a:lnTo>
                      <a:pt x="191" y="168"/>
                    </a:lnTo>
                    <a:lnTo>
                      <a:pt x="203" y="175"/>
                    </a:lnTo>
                    <a:lnTo>
                      <a:pt x="215" y="182"/>
                    </a:lnTo>
                    <a:lnTo>
                      <a:pt x="227" y="187"/>
                    </a:lnTo>
                    <a:lnTo>
                      <a:pt x="234" y="189"/>
                    </a:lnTo>
                    <a:lnTo>
                      <a:pt x="242" y="190"/>
                    </a:lnTo>
                    <a:lnTo>
                      <a:pt x="248" y="190"/>
                    </a:lnTo>
                    <a:lnTo>
                      <a:pt x="253" y="190"/>
                    </a:lnTo>
                    <a:lnTo>
                      <a:pt x="267" y="187"/>
                    </a:lnTo>
                    <a:lnTo>
                      <a:pt x="280" y="182"/>
                    </a:lnTo>
                    <a:lnTo>
                      <a:pt x="287" y="179"/>
                    </a:lnTo>
                    <a:lnTo>
                      <a:pt x="293" y="174"/>
                    </a:lnTo>
                    <a:lnTo>
                      <a:pt x="300" y="170"/>
                    </a:lnTo>
                    <a:lnTo>
                      <a:pt x="305" y="164"/>
                    </a:lnTo>
                    <a:lnTo>
                      <a:pt x="310" y="158"/>
                    </a:lnTo>
                    <a:lnTo>
                      <a:pt x="313" y="152"/>
                    </a:lnTo>
                    <a:lnTo>
                      <a:pt x="316" y="144"/>
                    </a:lnTo>
                    <a:lnTo>
                      <a:pt x="318" y="136"/>
                    </a:lnTo>
                    <a:lnTo>
                      <a:pt x="319" y="127"/>
                    </a:lnTo>
                    <a:lnTo>
                      <a:pt x="318" y="117"/>
                    </a:lnTo>
                    <a:lnTo>
                      <a:pt x="316" y="106"/>
                    </a:lnTo>
                    <a:lnTo>
                      <a:pt x="313" y="94"/>
                    </a:lnTo>
                    <a:lnTo>
                      <a:pt x="314" y="94"/>
                    </a:lnTo>
                    <a:lnTo>
                      <a:pt x="318" y="96"/>
                    </a:lnTo>
                    <a:lnTo>
                      <a:pt x="324" y="99"/>
                    </a:lnTo>
                    <a:lnTo>
                      <a:pt x="332" y="101"/>
                    </a:lnTo>
                    <a:lnTo>
                      <a:pt x="343" y="101"/>
                    </a:lnTo>
                    <a:lnTo>
                      <a:pt x="355" y="100"/>
                    </a:lnTo>
                    <a:lnTo>
                      <a:pt x="361" y="98"/>
                    </a:lnTo>
                    <a:lnTo>
                      <a:pt x="369" y="94"/>
                    </a:lnTo>
                    <a:lnTo>
                      <a:pt x="377" y="91"/>
                    </a:lnTo>
                    <a:lnTo>
                      <a:pt x="385" y="87"/>
                    </a:lnTo>
                    <a:lnTo>
                      <a:pt x="393" y="81"/>
                    </a:lnTo>
                    <a:lnTo>
                      <a:pt x="398" y="75"/>
                    </a:lnTo>
                    <a:lnTo>
                      <a:pt x="404" y="69"/>
                    </a:lnTo>
                    <a:lnTo>
                      <a:pt x="408" y="62"/>
                    </a:lnTo>
                    <a:lnTo>
                      <a:pt x="410" y="55"/>
                    </a:lnTo>
                    <a:lnTo>
                      <a:pt x="412" y="49"/>
                    </a:lnTo>
                    <a:lnTo>
                      <a:pt x="413" y="42"/>
                    </a:lnTo>
                    <a:lnTo>
                      <a:pt x="413" y="36"/>
                    </a:lnTo>
                    <a:lnTo>
                      <a:pt x="413" y="24"/>
                    </a:lnTo>
                    <a:lnTo>
                      <a:pt x="412" y="14"/>
                    </a:lnTo>
                    <a:lnTo>
                      <a:pt x="410" y="8"/>
                    </a:lnTo>
                    <a:lnTo>
                      <a:pt x="409" y="5"/>
                    </a:lnTo>
                    <a:lnTo>
                      <a:pt x="412" y="0"/>
                    </a:lnTo>
                    <a:close/>
                  </a:path>
                </a:pathLst>
              </a:custGeom>
              <a:solidFill>
                <a:srgbClr val="b887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5716440" y="3595680"/>
                <a:ext cx="58680" cy="63720"/>
              </a:xfrm>
              <a:custGeom>
                <a:avLst/>
                <a:gdLst/>
                <a:ahLst/>
                <a:rect l="l" t="t" r="r" b="b"/>
                <a:pathLst>
                  <a:path w="187" h="203">
                    <a:moveTo>
                      <a:pt x="21" y="156"/>
                    </a:moveTo>
                    <a:lnTo>
                      <a:pt x="21" y="151"/>
                    </a:lnTo>
                    <a:lnTo>
                      <a:pt x="20" y="141"/>
                    </a:lnTo>
                    <a:lnTo>
                      <a:pt x="18" y="124"/>
                    </a:lnTo>
                    <a:lnTo>
                      <a:pt x="16" y="105"/>
                    </a:lnTo>
                    <a:lnTo>
                      <a:pt x="12" y="84"/>
                    </a:lnTo>
                    <a:lnTo>
                      <a:pt x="9" y="66"/>
                    </a:lnTo>
                    <a:lnTo>
                      <a:pt x="5" y="52"/>
                    </a:lnTo>
                    <a:lnTo>
                      <a:pt x="2" y="42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0" y="42"/>
                    </a:lnTo>
                    <a:lnTo>
                      <a:pt x="1" y="47"/>
                    </a:lnTo>
                    <a:lnTo>
                      <a:pt x="5" y="56"/>
                    </a:lnTo>
                    <a:lnTo>
                      <a:pt x="11" y="70"/>
                    </a:lnTo>
                    <a:lnTo>
                      <a:pt x="18" y="83"/>
                    </a:lnTo>
                    <a:lnTo>
                      <a:pt x="25" y="94"/>
                    </a:lnTo>
                    <a:lnTo>
                      <a:pt x="28" y="99"/>
                    </a:lnTo>
                    <a:lnTo>
                      <a:pt x="31" y="101"/>
                    </a:lnTo>
                    <a:lnTo>
                      <a:pt x="32" y="101"/>
                    </a:lnTo>
                    <a:lnTo>
                      <a:pt x="32" y="101"/>
                    </a:lnTo>
                    <a:lnTo>
                      <a:pt x="33" y="101"/>
                    </a:lnTo>
                    <a:lnTo>
                      <a:pt x="34" y="100"/>
                    </a:lnTo>
                    <a:lnTo>
                      <a:pt x="36" y="93"/>
                    </a:lnTo>
                    <a:lnTo>
                      <a:pt x="42" y="86"/>
                    </a:lnTo>
                    <a:lnTo>
                      <a:pt x="47" y="75"/>
                    </a:lnTo>
                    <a:lnTo>
                      <a:pt x="54" y="63"/>
                    </a:lnTo>
                    <a:lnTo>
                      <a:pt x="60" y="49"/>
                    </a:lnTo>
                    <a:lnTo>
                      <a:pt x="64" y="34"/>
                    </a:lnTo>
                    <a:lnTo>
                      <a:pt x="66" y="26"/>
                    </a:lnTo>
                    <a:lnTo>
                      <a:pt x="68" y="18"/>
                    </a:lnTo>
                    <a:lnTo>
                      <a:pt x="69" y="9"/>
                    </a:lnTo>
                    <a:lnTo>
                      <a:pt x="69" y="0"/>
                    </a:lnTo>
                    <a:lnTo>
                      <a:pt x="69" y="2"/>
                    </a:lnTo>
                    <a:lnTo>
                      <a:pt x="69" y="10"/>
                    </a:lnTo>
                    <a:lnTo>
                      <a:pt x="69" y="21"/>
                    </a:lnTo>
                    <a:lnTo>
                      <a:pt x="68" y="36"/>
                    </a:lnTo>
                    <a:lnTo>
                      <a:pt x="65" y="53"/>
                    </a:lnTo>
                    <a:lnTo>
                      <a:pt x="61" y="74"/>
                    </a:lnTo>
                    <a:lnTo>
                      <a:pt x="58" y="84"/>
                    </a:lnTo>
                    <a:lnTo>
                      <a:pt x="54" y="95"/>
                    </a:lnTo>
                    <a:lnTo>
                      <a:pt x="49" y="107"/>
                    </a:lnTo>
                    <a:lnTo>
                      <a:pt x="44" y="119"/>
                    </a:lnTo>
                    <a:lnTo>
                      <a:pt x="44" y="120"/>
                    </a:lnTo>
                    <a:lnTo>
                      <a:pt x="45" y="122"/>
                    </a:lnTo>
                    <a:lnTo>
                      <a:pt x="46" y="127"/>
                    </a:lnTo>
                    <a:lnTo>
                      <a:pt x="49" y="131"/>
                    </a:lnTo>
                    <a:lnTo>
                      <a:pt x="54" y="135"/>
                    </a:lnTo>
                    <a:lnTo>
                      <a:pt x="58" y="138"/>
                    </a:lnTo>
                    <a:lnTo>
                      <a:pt x="65" y="142"/>
                    </a:lnTo>
                    <a:lnTo>
                      <a:pt x="73" y="144"/>
                    </a:lnTo>
                    <a:lnTo>
                      <a:pt x="84" y="145"/>
                    </a:lnTo>
                    <a:lnTo>
                      <a:pt x="96" y="147"/>
                    </a:lnTo>
                    <a:lnTo>
                      <a:pt x="108" y="149"/>
                    </a:lnTo>
                    <a:lnTo>
                      <a:pt x="119" y="151"/>
                    </a:lnTo>
                    <a:lnTo>
                      <a:pt x="130" y="153"/>
                    </a:lnTo>
                    <a:lnTo>
                      <a:pt x="139" y="155"/>
                    </a:lnTo>
                    <a:lnTo>
                      <a:pt x="145" y="156"/>
                    </a:lnTo>
                    <a:lnTo>
                      <a:pt x="147" y="156"/>
                    </a:lnTo>
                    <a:lnTo>
                      <a:pt x="159" y="136"/>
                    </a:lnTo>
                    <a:lnTo>
                      <a:pt x="159" y="138"/>
                    </a:lnTo>
                    <a:lnTo>
                      <a:pt x="159" y="143"/>
                    </a:lnTo>
                    <a:lnTo>
                      <a:pt x="160" y="150"/>
                    </a:lnTo>
                    <a:lnTo>
                      <a:pt x="162" y="160"/>
                    </a:lnTo>
                    <a:lnTo>
                      <a:pt x="165" y="170"/>
                    </a:lnTo>
                    <a:lnTo>
                      <a:pt x="169" y="182"/>
                    </a:lnTo>
                    <a:lnTo>
                      <a:pt x="172" y="187"/>
                    </a:lnTo>
                    <a:lnTo>
                      <a:pt x="177" y="192"/>
                    </a:lnTo>
                    <a:lnTo>
                      <a:pt x="181" y="198"/>
                    </a:lnTo>
                    <a:lnTo>
                      <a:pt x="187" y="203"/>
                    </a:lnTo>
                    <a:lnTo>
                      <a:pt x="185" y="201"/>
                    </a:lnTo>
                    <a:lnTo>
                      <a:pt x="180" y="196"/>
                    </a:lnTo>
                    <a:lnTo>
                      <a:pt x="172" y="189"/>
                    </a:lnTo>
                    <a:lnTo>
                      <a:pt x="164" y="181"/>
                    </a:lnTo>
                    <a:lnTo>
                      <a:pt x="153" y="173"/>
                    </a:lnTo>
                    <a:lnTo>
                      <a:pt x="142" y="165"/>
                    </a:lnTo>
                    <a:lnTo>
                      <a:pt x="137" y="162"/>
                    </a:lnTo>
                    <a:lnTo>
                      <a:pt x="132" y="160"/>
                    </a:lnTo>
                    <a:lnTo>
                      <a:pt x="127" y="159"/>
                    </a:lnTo>
                    <a:lnTo>
                      <a:pt x="123" y="159"/>
                    </a:lnTo>
                    <a:lnTo>
                      <a:pt x="112" y="159"/>
                    </a:lnTo>
                    <a:lnTo>
                      <a:pt x="98" y="158"/>
                    </a:lnTo>
                    <a:lnTo>
                      <a:pt x="81" y="158"/>
                    </a:lnTo>
                    <a:lnTo>
                      <a:pt x="63" y="158"/>
                    </a:lnTo>
                    <a:lnTo>
                      <a:pt x="48" y="157"/>
                    </a:lnTo>
                    <a:lnTo>
                      <a:pt x="34" y="157"/>
                    </a:lnTo>
                    <a:lnTo>
                      <a:pt x="24" y="156"/>
                    </a:lnTo>
                    <a:lnTo>
                      <a:pt x="21" y="156"/>
                    </a:lnTo>
                    <a:close/>
                  </a:path>
                </a:pathLst>
              </a:custGeom>
              <a:solidFill>
                <a:srgbClr val="aa7a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5672160" y="3670200"/>
                <a:ext cx="90360" cy="184320"/>
              </a:xfrm>
              <a:custGeom>
                <a:avLst/>
                <a:gdLst/>
                <a:ahLst/>
                <a:rect l="l" t="t" r="r" b="b"/>
                <a:pathLst>
                  <a:path w="289" h="583">
                    <a:moveTo>
                      <a:pt x="0" y="0"/>
                    </a:moveTo>
                    <a:lnTo>
                      <a:pt x="2" y="2"/>
                    </a:lnTo>
                    <a:lnTo>
                      <a:pt x="8" y="9"/>
                    </a:lnTo>
                    <a:lnTo>
                      <a:pt x="15" y="21"/>
                    </a:lnTo>
                    <a:lnTo>
                      <a:pt x="26" y="37"/>
                    </a:lnTo>
                    <a:lnTo>
                      <a:pt x="37" y="56"/>
                    </a:lnTo>
                    <a:lnTo>
                      <a:pt x="49" y="77"/>
                    </a:lnTo>
                    <a:lnTo>
                      <a:pt x="59" y="101"/>
                    </a:lnTo>
                    <a:lnTo>
                      <a:pt x="69" y="125"/>
                    </a:lnTo>
                    <a:lnTo>
                      <a:pt x="80" y="151"/>
                    </a:lnTo>
                    <a:lnTo>
                      <a:pt x="92" y="178"/>
                    </a:lnTo>
                    <a:lnTo>
                      <a:pt x="104" y="203"/>
                    </a:lnTo>
                    <a:lnTo>
                      <a:pt x="116" y="226"/>
                    </a:lnTo>
                    <a:lnTo>
                      <a:pt x="125" y="248"/>
                    </a:lnTo>
                    <a:lnTo>
                      <a:pt x="134" y="264"/>
                    </a:lnTo>
                    <a:lnTo>
                      <a:pt x="139" y="275"/>
                    </a:lnTo>
                    <a:lnTo>
                      <a:pt x="142" y="278"/>
                    </a:lnTo>
                    <a:lnTo>
                      <a:pt x="146" y="286"/>
                    </a:lnTo>
                    <a:lnTo>
                      <a:pt x="157" y="304"/>
                    </a:lnTo>
                    <a:lnTo>
                      <a:pt x="173" y="331"/>
                    </a:lnTo>
                    <a:lnTo>
                      <a:pt x="192" y="363"/>
                    </a:lnTo>
                    <a:lnTo>
                      <a:pt x="213" y="396"/>
                    </a:lnTo>
                    <a:lnTo>
                      <a:pt x="231" y="425"/>
                    </a:lnTo>
                    <a:lnTo>
                      <a:pt x="245" y="450"/>
                    </a:lnTo>
                    <a:lnTo>
                      <a:pt x="255" y="464"/>
                    </a:lnTo>
                    <a:lnTo>
                      <a:pt x="260" y="472"/>
                    </a:lnTo>
                    <a:lnTo>
                      <a:pt x="266" y="478"/>
                    </a:lnTo>
                    <a:lnTo>
                      <a:pt x="271" y="485"/>
                    </a:lnTo>
                    <a:lnTo>
                      <a:pt x="277" y="490"/>
                    </a:lnTo>
                    <a:lnTo>
                      <a:pt x="282" y="494"/>
                    </a:lnTo>
                    <a:lnTo>
                      <a:pt x="286" y="498"/>
                    </a:lnTo>
                    <a:lnTo>
                      <a:pt x="288" y="501"/>
                    </a:lnTo>
                    <a:lnTo>
                      <a:pt x="289" y="501"/>
                    </a:lnTo>
                    <a:lnTo>
                      <a:pt x="270" y="496"/>
                    </a:lnTo>
                    <a:lnTo>
                      <a:pt x="282" y="533"/>
                    </a:lnTo>
                    <a:lnTo>
                      <a:pt x="282" y="534"/>
                    </a:lnTo>
                    <a:lnTo>
                      <a:pt x="283" y="538"/>
                    </a:lnTo>
                    <a:lnTo>
                      <a:pt x="284" y="543"/>
                    </a:lnTo>
                    <a:lnTo>
                      <a:pt x="284" y="549"/>
                    </a:lnTo>
                    <a:lnTo>
                      <a:pt x="283" y="557"/>
                    </a:lnTo>
                    <a:lnTo>
                      <a:pt x="280" y="566"/>
                    </a:lnTo>
                    <a:lnTo>
                      <a:pt x="278" y="570"/>
                    </a:lnTo>
                    <a:lnTo>
                      <a:pt x="275" y="574"/>
                    </a:lnTo>
                    <a:lnTo>
                      <a:pt x="271" y="579"/>
                    </a:lnTo>
                    <a:lnTo>
                      <a:pt x="267" y="583"/>
                    </a:lnTo>
                    <a:lnTo>
                      <a:pt x="268" y="581"/>
                    </a:lnTo>
                    <a:lnTo>
                      <a:pt x="269" y="573"/>
                    </a:lnTo>
                    <a:lnTo>
                      <a:pt x="270" y="562"/>
                    </a:lnTo>
                    <a:lnTo>
                      <a:pt x="269" y="547"/>
                    </a:lnTo>
                    <a:lnTo>
                      <a:pt x="268" y="539"/>
                    </a:lnTo>
                    <a:lnTo>
                      <a:pt x="266" y="529"/>
                    </a:lnTo>
                    <a:lnTo>
                      <a:pt x="262" y="518"/>
                    </a:lnTo>
                    <a:lnTo>
                      <a:pt x="259" y="506"/>
                    </a:lnTo>
                    <a:lnTo>
                      <a:pt x="254" y="494"/>
                    </a:lnTo>
                    <a:lnTo>
                      <a:pt x="247" y="480"/>
                    </a:lnTo>
                    <a:lnTo>
                      <a:pt x="240" y="466"/>
                    </a:lnTo>
                    <a:lnTo>
                      <a:pt x="230" y="451"/>
                    </a:lnTo>
                    <a:lnTo>
                      <a:pt x="210" y="420"/>
                    </a:lnTo>
                    <a:lnTo>
                      <a:pt x="190" y="390"/>
                    </a:lnTo>
                    <a:lnTo>
                      <a:pt x="172" y="361"/>
                    </a:lnTo>
                    <a:lnTo>
                      <a:pt x="157" y="338"/>
                    </a:lnTo>
                    <a:lnTo>
                      <a:pt x="144" y="317"/>
                    </a:lnTo>
                    <a:lnTo>
                      <a:pt x="135" y="302"/>
                    </a:lnTo>
                    <a:lnTo>
                      <a:pt x="129" y="292"/>
                    </a:lnTo>
                    <a:lnTo>
                      <a:pt x="126" y="288"/>
                    </a:lnTo>
                    <a:lnTo>
                      <a:pt x="124" y="284"/>
                    </a:lnTo>
                    <a:lnTo>
                      <a:pt x="120" y="272"/>
                    </a:lnTo>
                    <a:lnTo>
                      <a:pt x="112" y="255"/>
                    </a:lnTo>
                    <a:lnTo>
                      <a:pt x="103" y="233"/>
                    </a:lnTo>
                    <a:lnTo>
                      <a:pt x="93" y="210"/>
                    </a:lnTo>
                    <a:lnTo>
                      <a:pt x="82" y="188"/>
                    </a:lnTo>
                    <a:lnTo>
                      <a:pt x="72" y="167"/>
                    </a:lnTo>
                    <a:lnTo>
                      <a:pt x="65" y="150"/>
                    </a:lnTo>
                    <a:lnTo>
                      <a:pt x="57" y="137"/>
                    </a:lnTo>
                    <a:lnTo>
                      <a:pt x="52" y="123"/>
                    </a:lnTo>
                    <a:lnTo>
                      <a:pt x="48" y="111"/>
                    </a:lnTo>
                    <a:lnTo>
                      <a:pt x="42" y="99"/>
                    </a:lnTo>
                    <a:lnTo>
                      <a:pt x="38" y="88"/>
                    </a:lnTo>
                    <a:lnTo>
                      <a:pt x="33" y="79"/>
                    </a:lnTo>
                    <a:lnTo>
                      <a:pt x="28" y="69"/>
                    </a:lnTo>
                    <a:lnTo>
                      <a:pt x="23" y="61"/>
                    </a:lnTo>
                    <a:lnTo>
                      <a:pt x="17" y="53"/>
                    </a:lnTo>
                    <a:lnTo>
                      <a:pt x="13" y="43"/>
                    </a:lnTo>
                    <a:lnTo>
                      <a:pt x="9" y="33"/>
                    </a:lnTo>
                    <a:lnTo>
                      <a:pt x="5" y="22"/>
                    </a:lnTo>
                    <a:lnTo>
                      <a:pt x="3" y="14"/>
                    </a:lnTo>
                    <a:lnTo>
                      <a:pt x="1" y="6"/>
                    </a:lnTo>
                    <a:lnTo>
                      <a:pt x="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a7a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5629320" y="3695760"/>
                <a:ext cx="115920" cy="166680"/>
              </a:xfrm>
              <a:custGeom>
                <a:avLst/>
                <a:gdLst/>
                <a:ahLst/>
                <a:rect l="l" t="t" r="r" b="b"/>
                <a:pathLst>
                  <a:path w="363" h="529">
                    <a:moveTo>
                      <a:pt x="7" y="0"/>
                    </a:moveTo>
                    <a:lnTo>
                      <a:pt x="11" y="6"/>
                    </a:lnTo>
                    <a:lnTo>
                      <a:pt x="20" y="22"/>
                    </a:lnTo>
                    <a:lnTo>
                      <a:pt x="33" y="47"/>
                    </a:lnTo>
                    <a:lnTo>
                      <a:pt x="49" y="76"/>
                    </a:lnTo>
                    <a:lnTo>
                      <a:pt x="65" y="106"/>
                    </a:lnTo>
                    <a:lnTo>
                      <a:pt x="81" y="136"/>
                    </a:lnTo>
                    <a:lnTo>
                      <a:pt x="94" y="162"/>
                    </a:lnTo>
                    <a:lnTo>
                      <a:pt x="104" y="180"/>
                    </a:lnTo>
                    <a:lnTo>
                      <a:pt x="110" y="195"/>
                    </a:lnTo>
                    <a:lnTo>
                      <a:pt x="118" y="211"/>
                    </a:lnTo>
                    <a:lnTo>
                      <a:pt x="127" y="230"/>
                    </a:lnTo>
                    <a:lnTo>
                      <a:pt x="136" y="248"/>
                    </a:lnTo>
                    <a:lnTo>
                      <a:pt x="146" y="267"/>
                    </a:lnTo>
                    <a:lnTo>
                      <a:pt x="156" y="286"/>
                    </a:lnTo>
                    <a:lnTo>
                      <a:pt x="166" y="304"/>
                    </a:lnTo>
                    <a:lnTo>
                      <a:pt x="177" y="320"/>
                    </a:lnTo>
                    <a:lnTo>
                      <a:pt x="191" y="339"/>
                    </a:lnTo>
                    <a:lnTo>
                      <a:pt x="208" y="359"/>
                    </a:lnTo>
                    <a:lnTo>
                      <a:pt x="226" y="383"/>
                    </a:lnTo>
                    <a:lnTo>
                      <a:pt x="244" y="406"/>
                    </a:lnTo>
                    <a:lnTo>
                      <a:pt x="262" y="428"/>
                    </a:lnTo>
                    <a:lnTo>
                      <a:pt x="278" y="449"/>
                    </a:lnTo>
                    <a:lnTo>
                      <a:pt x="292" y="465"/>
                    </a:lnTo>
                    <a:lnTo>
                      <a:pt x="302" y="477"/>
                    </a:lnTo>
                    <a:lnTo>
                      <a:pt x="310" y="486"/>
                    </a:lnTo>
                    <a:lnTo>
                      <a:pt x="319" y="494"/>
                    </a:lnTo>
                    <a:lnTo>
                      <a:pt x="330" y="503"/>
                    </a:lnTo>
                    <a:lnTo>
                      <a:pt x="339" y="510"/>
                    </a:lnTo>
                    <a:lnTo>
                      <a:pt x="349" y="518"/>
                    </a:lnTo>
                    <a:lnTo>
                      <a:pt x="357" y="523"/>
                    </a:lnTo>
                    <a:lnTo>
                      <a:pt x="361" y="527"/>
                    </a:lnTo>
                    <a:lnTo>
                      <a:pt x="363" y="529"/>
                    </a:lnTo>
                    <a:lnTo>
                      <a:pt x="361" y="528"/>
                    </a:lnTo>
                    <a:lnTo>
                      <a:pt x="356" y="527"/>
                    </a:lnTo>
                    <a:lnTo>
                      <a:pt x="348" y="523"/>
                    </a:lnTo>
                    <a:lnTo>
                      <a:pt x="338" y="519"/>
                    </a:lnTo>
                    <a:lnTo>
                      <a:pt x="327" y="514"/>
                    </a:lnTo>
                    <a:lnTo>
                      <a:pt x="318" y="507"/>
                    </a:lnTo>
                    <a:lnTo>
                      <a:pt x="307" y="500"/>
                    </a:lnTo>
                    <a:lnTo>
                      <a:pt x="299" y="491"/>
                    </a:lnTo>
                    <a:lnTo>
                      <a:pt x="287" y="478"/>
                    </a:lnTo>
                    <a:lnTo>
                      <a:pt x="271" y="457"/>
                    </a:lnTo>
                    <a:lnTo>
                      <a:pt x="251" y="433"/>
                    </a:lnTo>
                    <a:lnTo>
                      <a:pt x="229" y="407"/>
                    </a:lnTo>
                    <a:lnTo>
                      <a:pt x="208" y="382"/>
                    </a:lnTo>
                    <a:lnTo>
                      <a:pt x="189" y="359"/>
                    </a:lnTo>
                    <a:lnTo>
                      <a:pt x="175" y="343"/>
                    </a:lnTo>
                    <a:lnTo>
                      <a:pt x="168" y="335"/>
                    </a:lnTo>
                    <a:lnTo>
                      <a:pt x="163" y="330"/>
                    </a:lnTo>
                    <a:lnTo>
                      <a:pt x="158" y="320"/>
                    </a:lnTo>
                    <a:lnTo>
                      <a:pt x="151" y="306"/>
                    </a:lnTo>
                    <a:lnTo>
                      <a:pt x="145" y="290"/>
                    </a:lnTo>
                    <a:lnTo>
                      <a:pt x="136" y="271"/>
                    </a:lnTo>
                    <a:lnTo>
                      <a:pt x="127" y="249"/>
                    </a:lnTo>
                    <a:lnTo>
                      <a:pt x="117" y="227"/>
                    </a:lnTo>
                    <a:lnTo>
                      <a:pt x="106" y="205"/>
                    </a:lnTo>
                    <a:lnTo>
                      <a:pt x="94" y="181"/>
                    </a:lnTo>
                    <a:lnTo>
                      <a:pt x="81" y="157"/>
                    </a:lnTo>
                    <a:lnTo>
                      <a:pt x="68" y="132"/>
                    </a:lnTo>
                    <a:lnTo>
                      <a:pt x="54" y="108"/>
                    </a:lnTo>
                    <a:lnTo>
                      <a:pt x="41" y="86"/>
                    </a:lnTo>
                    <a:lnTo>
                      <a:pt x="29" y="65"/>
                    </a:lnTo>
                    <a:lnTo>
                      <a:pt x="18" y="50"/>
                    </a:lnTo>
                    <a:lnTo>
                      <a:pt x="10" y="38"/>
                    </a:lnTo>
                    <a:lnTo>
                      <a:pt x="7" y="35"/>
                    </a:lnTo>
                    <a:lnTo>
                      <a:pt x="3" y="31"/>
                    </a:lnTo>
                    <a:lnTo>
                      <a:pt x="2" y="27"/>
                    </a:lnTo>
                    <a:lnTo>
                      <a:pt x="1" y="23"/>
                    </a:lnTo>
                    <a:lnTo>
                      <a:pt x="0" y="17"/>
                    </a:lnTo>
                    <a:lnTo>
                      <a:pt x="1" y="10"/>
                    </a:lnTo>
                    <a:lnTo>
                      <a:pt x="2" y="6"/>
                    </a:lnTo>
                    <a:lnTo>
                      <a:pt x="4" y="3"/>
                    </a:lnTo>
                    <a:lnTo>
                      <a:pt x="7" y="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aa7a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5591160" y="3716280"/>
                <a:ext cx="104760" cy="142920"/>
              </a:xfrm>
              <a:custGeom>
                <a:avLst/>
                <a:gdLst/>
                <a:ahLst/>
                <a:rect l="l" t="t" r="r" b="b"/>
                <a:pathLst>
                  <a:path w="330" h="450">
                    <a:moveTo>
                      <a:pt x="7" y="22"/>
                    </a:moveTo>
                    <a:lnTo>
                      <a:pt x="4" y="17"/>
                    </a:lnTo>
                    <a:lnTo>
                      <a:pt x="1" y="11"/>
                    </a:lnTo>
                    <a:lnTo>
                      <a:pt x="0" y="7"/>
                    </a:lnTo>
                    <a:lnTo>
                      <a:pt x="0" y="4"/>
                    </a:lnTo>
                    <a:lnTo>
                      <a:pt x="1" y="2"/>
                    </a:lnTo>
                    <a:lnTo>
                      <a:pt x="5" y="0"/>
                    </a:lnTo>
                    <a:lnTo>
                      <a:pt x="10" y="0"/>
                    </a:lnTo>
                    <a:lnTo>
                      <a:pt x="17" y="3"/>
                    </a:lnTo>
                    <a:lnTo>
                      <a:pt x="18" y="6"/>
                    </a:lnTo>
                    <a:lnTo>
                      <a:pt x="22" y="16"/>
                    </a:lnTo>
                    <a:lnTo>
                      <a:pt x="28" y="31"/>
                    </a:lnTo>
                    <a:lnTo>
                      <a:pt x="37" y="48"/>
                    </a:lnTo>
                    <a:lnTo>
                      <a:pt x="46" y="66"/>
                    </a:lnTo>
                    <a:lnTo>
                      <a:pt x="54" y="86"/>
                    </a:lnTo>
                    <a:lnTo>
                      <a:pt x="62" y="104"/>
                    </a:lnTo>
                    <a:lnTo>
                      <a:pt x="68" y="119"/>
                    </a:lnTo>
                    <a:lnTo>
                      <a:pt x="75" y="134"/>
                    </a:lnTo>
                    <a:lnTo>
                      <a:pt x="81" y="154"/>
                    </a:lnTo>
                    <a:lnTo>
                      <a:pt x="90" y="175"/>
                    </a:lnTo>
                    <a:lnTo>
                      <a:pt x="99" y="197"/>
                    </a:lnTo>
                    <a:lnTo>
                      <a:pt x="107" y="218"/>
                    </a:lnTo>
                    <a:lnTo>
                      <a:pt x="115" y="237"/>
                    </a:lnTo>
                    <a:lnTo>
                      <a:pt x="124" y="252"/>
                    </a:lnTo>
                    <a:lnTo>
                      <a:pt x="130" y="262"/>
                    </a:lnTo>
                    <a:lnTo>
                      <a:pt x="138" y="270"/>
                    </a:lnTo>
                    <a:lnTo>
                      <a:pt x="146" y="281"/>
                    </a:lnTo>
                    <a:lnTo>
                      <a:pt x="156" y="294"/>
                    </a:lnTo>
                    <a:lnTo>
                      <a:pt x="167" y="308"/>
                    </a:lnTo>
                    <a:lnTo>
                      <a:pt x="179" y="322"/>
                    </a:lnTo>
                    <a:lnTo>
                      <a:pt x="190" y="336"/>
                    </a:lnTo>
                    <a:lnTo>
                      <a:pt x="203" y="349"/>
                    </a:lnTo>
                    <a:lnTo>
                      <a:pt x="216" y="361"/>
                    </a:lnTo>
                    <a:lnTo>
                      <a:pt x="230" y="373"/>
                    </a:lnTo>
                    <a:lnTo>
                      <a:pt x="248" y="386"/>
                    </a:lnTo>
                    <a:lnTo>
                      <a:pt x="267" y="401"/>
                    </a:lnTo>
                    <a:lnTo>
                      <a:pt x="286" y="415"/>
                    </a:lnTo>
                    <a:lnTo>
                      <a:pt x="303" y="429"/>
                    </a:lnTo>
                    <a:lnTo>
                      <a:pt x="317" y="440"/>
                    </a:lnTo>
                    <a:lnTo>
                      <a:pt x="327" y="448"/>
                    </a:lnTo>
                    <a:lnTo>
                      <a:pt x="330" y="450"/>
                    </a:lnTo>
                    <a:lnTo>
                      <a:pt x="327" y="448"/>
                    </a:lnTo>
                    <a:lnTo>
                      <a:pt x="316" y="442"/>
                    </a:lnTo>
                    <a:lnTo>
                      <a:pt x="300" y="432"/>
                    </a:lnTo>
                    <a:lnTo>
                      <a:pt x="279" y="420"/>
                    </a:lnTo>
                    <a:lnTo>
                      <a:pt x="255" y="404"/>
                    </a:lnTo>
                    <a:lnTo>
                      <a:pt x="232" y="386"/>
                    </a:lnTo>
                    <a:lnTo>
                      <a:pt x="219" y="376"/>
                    </a:lnTo>
                    <a:lnTo>
                      <a:pt x="207" y="366"/>
                    </a:lnTo>
                    <a:lnTo>
                      <a:pt x="196" y="355"/>
                    </a:lnTo>
                    <a:lnTo>
                      <a:pt x="184" y="344"/>
                    </a:lnTo>
                    <a:lnTo>
                      <a:pt x="166" y="324"/>
                    </a:lnTo>
                    <a:lnTo>
                      <a:pt x="151" y="307"/>
                    </a:lnTo>
                    <a:lnTo>
                      <a:pt x="140" y="293"/>
                    </a:lnTo>
                    <a:lnTo>
                      <a:pt x="131" y="282"/>
                    </a:lnTo>
                    <a:lnTo>
                      <a:pt x="125" y="275"/>
                    </a:lnTo>
                    <a:lnTo>
                      <a:pt x="120" y="269"/>
                    </a:lnTo>
                    <a:lnTo>
                      <a:pt x="118" y="266"/>
                    </a:lnTo>
                    <a:lnTo>
                      <a:pt x="118" y="265"/>
                    </a:lnTo>
                    <a:lnTo>
                      <a:pt x="117" y="264"/>
                    </a:lnTo>
                    <a:lnTo>
                      <a:pt x="117" y="263"/>
                    </a:lnTo>
                    <a:lnTo>
                      <a:pt x="117" y="261"/>
                    </a:lnTo>
                    <a:lnTo>
                      <a:pt x="116" y="258"/>
                    </a:lnTo>
                    <a:lnTo>
                      <a:pt x="115" y="254"/>
                    </a:lnTo>
                    <a:lnTo>
                      <a:pt x="114" y="250"/>
                    </a:lnTo>
                    <a:lnTo>
                      <a:pt x="112" y="246"/>
                    </a:lnTo>
                    <a:lnTo>
                      <a:pt x="111" y="240"/>
                    </a:lnTo>
                    <a:lnTo>
                      <a:pt x="104" y="225"/>
                    </a:lnTo>
                    <a:lnTo>
                      <a:pt x="97" y="212"/>
                    </a:lnTo>
                    <a:lnTo>
                      <a:pt x="89" y="200"/>
                    </a:lnTo>
                    <a:lnTo>
                      <a:pt x="81" y="188"/>
                    </a:lnTo>
                    <a:lnTo>
                      <a:pt x="74" y="178"/>
                    </a:lnTo>
                    <a:lnTo>
                      <a:pt x="66" y="166"/>
                    </a:lnTo>
                    <a:lnTo>
                      <a:pt x="59" y="154"/>
                    </a:lnTo>
                    <a:lnTo>
                      <a:pt x="51" y="141"/>
                    </a:lnTo>
                    <a:lnTo>
                      <a:pt x="47" y="131"/>
                    </a:lnTo>
                    <a:lnTo>
                      <a:pt x="40" y="116"/>
                    </a:lnTo>
                    <a:lnTo>
                      <a:pt x="35" y="98"/>
                    </a:lnTo>
                    <a:lnTo>
                      <a:pt x="27" y="79"/>
                    </a:lnTo>
                    <a:lnTo>
                      <a:pt x="21" y="60"/>
                    </a:lnTo>
                    <a:lnTo>
                      <a:pt x="15" y="44"/>
                    </a:lnTo>
                    <a:lnTo>
                      <a:pt x="10" y="31"/>
                    </a:lnTo>
                    <a:lnTo>
                      <a:pt x="7" y="22"/>
                    </a:lnTo>
                    <a:close/>
                  </a:path>
                </a:pathLst>
              </a:custGeom>
              <a:solidFill>
                <a:srgbClr val="aa7a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5761080" y="3800520"/>
                <a:ext cx="15840" cy="23760"/>
              </a:xfrm>
              <a:custGeom>
                <a:avLst/>
                <a:gdLst/>
                <a:ahLst/>
                <a:rect l="l" t="t" r="r" b="b"/>
                <a:pathLst>
                  <a:path w="51" h="77">
                    <a:moveTo>
                      <a:pt x="1" y="8"/>
                    </a:moveTo>
                    <a:lnTo>
                      <a:pt x="43" y="77"/>
                    </a:lnTo>
                    <a:lnTo>
                      <a:pt x="51" y="63"/>
                    </a:lnTo>
                    <a:lnTo>
                      <a:pt x="16" y="3"/>
                    </a:lnTo>
                    <a:lnTo>
                      <a:pt x="15" y="2"/>
                    </a:lnTo>
                    <a:lnTo>
                      <a:pt x="13" y="2"/>
                    </a:lnTo>
                    <a:lnTo>
                      <a:pt x="10" y="1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1" y="8"/>
                    </a:lnTo>
                    <a:close/>
                  </a:path>
                </a:pathLst>
              </a:custGeom>
              <a:solidFill>
                <a:srgbClr val="e7a9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5751360" y="379728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83" h="83">
                    <a:moveTo>
                      <a:pt x="33" y="83"/>
                    </a:moveTo>
                    <a:lnTo>
                      <a:pt x="31" y="82"/>
                    </a:lnTo>
                    <a:lnTo>
                      <a:pt x="26" y="75"/>
                    </a:lnTo>
                    <a:lnTo>
                      <a:pt x="19" y="66"/>
                    </a:lnTo>
                    <a:lnTo>
                      <a:pt x="12" y="57"/>
                    </a:lnTo>
                    <a:lnTo>
                      <a:pt x="5" y="45"/>
                    </a:lnTo>
                    <a:lnTo>
                      <a:pt x="1" y="34"/>
                    </a:lnTo>
                    <a:lnTo>
                      <a:pt x="0" y="29"/>
                    </a:lnTo>
                    <a:lnTo>
                      <a:pt x="0" y="24"/>
                    </a:lnTo>
                    <a:lnTo>
                      <a:pt x="1" y="20"/>
                    </a:lnTo>
                    <a:lnTo>
                      <a:pt x="3" y="17"/>
                    </a:lnTo>
                    <a:lnTo>
                      <a:pt x="10" y="10"/>
                    </a:lnTo>
                    <a:lnTo>
                      <a:pt x="17" y="5"/>
                    </a:lnTo>
                    <a:lnTo>
                      <a:pt x="25" y="2"/>
                    </a:lnTo>
                    <a:lnTo>
                      <a:pt x="32" y="0"/>
                    </a:lnTo>
                    <a:lnTo>
                      <a:pt x="37" y="0"/>
                    </a:lnTo>
                    <a:lnTo>
                      <a:pt x="41" y="0"/>
                    </a:lnTo>
                    <a:lnTo>
                      <a:pt x="44" y="1"/>
                    </a:lnTo>
                    <a:lnTo>
                      <a:pt x="48" y="3"/>
                    </a:lnTo>
                    <a:lnTo>
                      <a:pt x="53" y="5"/>
                    </a:lnTo>
                    <a:lnTo>
                      <a:pt x="57" y="9"/>
                    </a:lnTo>
                    <a:lnTo>
                      <a:pt x="61" y="14"/>
                    </a:lnTo>
                    <a:lnTo>
                      <a:pt x="65" y="19"/>
                    </a:lnTo>
                    <a:lnTo>
                      <a:pt x="72" y="30"/>
                    </a:lnTo>
                    <a:lnTo>
                      <a:pt x="78" y="38"/>
                    </a:lnTo>
                    <a:lnTo>
                      <a:pt x="81" y="44"/>
                    </a:lnTo>
                    <a:lnTo>
                      <a:pt x="82" y="48"/>
                    </a:lnTo>
                    <a:lnTo>
                      <a:pt x="83" y="50"/>
                    </a:lnTo>
                    <a:lnTo>
                      <a:pt x="83" y="51"/>
                    </a:lnTo>
                    <a:lnTo>
                      <a:pt x="83" y="51"/>
                    </a:lnTo>
                    <a:lnTo>
                      <a:pt x="82" y="51"/>
                    </a:lnTo>
                  </a:path>
                </a:pathLst>
              </a:custGeom>
              <a:noFill/>
              <a:ln w="3240">
                <a:solidFill>
                  <a:srgbClr val="aa7a6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5727600" y="3828960"/>
                <a:ext cx="31680" cy="30240"/>
              </a:xfrm>
              <a:custGeom>
                <a:avLst/>
                <a:gdLst/>
                <a:ahLst/>
                <a:rect l="l" t="t" r="r" b="b"/>
                <a:pathLst>
                  <a:path w="100" h="95">
                    <a:moveTo>
                      <a:pt x="35" y="95"/>
                    </a:moveTo>
                    <a:lnTo>
                      <a:pt x="33" y="93"/>
                    </a:lnTo>
                    <a:lnTo>
                      <a:pt x="27" y="86"/>
                    </a:lnTo>
                    <a:lnTo>
                      <a:pt x="19" y="76"/>
                    </a:lnTo>
                    <a:lnTo>
                      <a:pt x="11" y="65"/>
                    </a:lnTo>
                    <a:lnTo>
                      <a:pt x="8" y="58"/>
                    </a:lnTo>
                    <a:lnTo>
                      <a:pt x="5" y="52"/>
                    </a:lnTo>
                    <a:lnTo>
                      <a:pt x="2" y="45"/>
                    </a:lnTo>
                    <a:lnTo>
                      <a:pt x="0" y="39"/>
                    </a:lnTo>
                    <a:lnTo>
                      <a:pt x="0" y="32"/>
                    </a:lnTo>
                    <a:lnTo>
                      <a:pt x="1" y="27"/>
                    </a:lnTo>
                    <a:lnTo>
                      <a:pt x="3" y="21"/>
                    </a:lnTo>
                    <a:lnTo>
                      <a:pt x="8" y="16"/>
                    </a:lnTo>
                    <a:lnTo>
                      <a:pt x="12" y="12"/>
                    </a:lnTo>
                    <a:lnTo>
                      <a:pt x="16" y="7"/>
                    </a:lnTo>
                    <a:lnTo>
                      <a:pt x="21" y="4"/>
                    </a:lnTo>
                    <a:lnTo>
                      <a:pt x="25" y="2"/>
                    </a:lnTo>
                    <a:lnTo>
                      <a:pt x="29" y="1"/>
                    </a:lnTo>
                    <a:lnTo>
                      <a:pt x="34" y="0"/>
                    </a:lnTo>
                    <a:lnTo>
                      <a:pt x="38" y="0"/>
                    </a:lnTo>
                    <a:lnTo>
                      <a:pt x="41" y="0"/>
                    </a:lnTo>
                    <a:lnTo>
                      <a:pt x="49" y="2"/>
                    </a:lnTo>
                    <a:lnTo>
                      <a:pt x="55" y="6"/>
                    </a:lnTo>
                    <a:lnTo>
                      <a:pt x="61" y="11"/>
                    </a:lnTo>
                    <a:lnTo>
                      <a:pt x="64" y="16"/>
                    </a:lnTo>
                    <a:lnTo>
                      <a:pt x="69" y="21"/>
                    </a:lnTo>
                    <a:lnTo>
                      <a:pt x="75" y="29"/>
                    </a:lnTo>
                    <a:lnTo>
                      <a:pt x="81" y="36"/>
                    </a:lnTo>
                    <a:lnTo>
                      <a:pt x="87" y="45"/>
                    </a:lnTo>
                    <a:lnTo>
                      <a:pt x="91" y="53"/>
                    </a:lnTo>
                    <a:lnTo>
                      <a:pt x="95" y="59"/>
                    </a:lnTo>
                    <a:lnTo>
                      <a:pt x="99" y="63"/>
                    </a:lnTo>
                    <a:lnTo>
                      <a:pt x="100" y="66"/>
                    </a:lnTo>
                  </a:path>
                </a:pathLst>
              </a:custGeom>
              <a:noFill/>
              <a:ln w="3240">
                <a:solidFill>
                  <a:srgbClr val="aa7a6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5694480" y="3843360"/>
                <a:ext cx="28440" cy="22320"/>
              </a:xfrm>
              <a:custGeom>
                <a:avLst/>
                <a:gdLst/>
                <a:ahLst/>
                <a:rect l="l" t="t" r="r" b="b"/>
                <a:pathLst>
                  <a:path w="91" h="69">
                    <a:moveTo>
                      <a:pt x="37" y="69"/>
                    </a:moveTo>
                    <a:lnTo>
                      <a:pt x="35" y="67"/>
                    </a:lnTo>
                    <a:lnTo>
                      <a:pt x="30" y="63"/>
                    </a:lnTo>
                    <a:lnTo>
                      <a:pt x="22" y="56"/>
                    </a:lnTo>
                    <a:lnTo>
                      <a:pt x="13" y="49"/>
                    </a:lnTo>
                    <a:lnTo>
                      <a:pt x="7" y="40"/>
                    </a:lnTo>
                    <a:lnTo>
                      <a:pt x="1" y="31"/>
                    </a:lnTo>
                    <a:lnTo>
                      <a:pt x="0" y="27"/>
                    </a:lnTo>
                    <a:lnTo>
                      <a:pt x="0" y="23"/>
                    </a:lnTo>
                    <a:lnTo>
                      <a:pt x="1" y="20"/>
                    </a:lnTo>
                    <a:lnTo>
                      <a:pt x="5" y="16"/>
                    </a:lnTo>
                    <a:lnTo>
                      <a:pt x="12" y="11"/>
                    </a:lnTo>
                    <a:lnTo>
                      <a:pt x="19" y="6"/>
                    </a:lnTo>
                    <a:lnTo>
                      <a:pt x="23" y="3"/>
                    </a:lnTo>
                    <a:lnTo>
                      <a:pt x="26" y="1"/>
                    </a:lnTo>
                    <a:lnTo>
                      <a:pt x="31" y="0"/>
                    </a:lnTo>
                    <a:lnTo>
                      <a:pt x="35" y="0"/>
                    </a:lnTo>
                    <a:lnTo>
                      <a:pt x="40" y="0"/>
                    </a:lnTo>
                    <a:lnTo>
                      <a:pt x="46" y="2"/>
                    </a:lnTo>
                    <a:lnTo>
                      <a:pt x="51" y="4"/>
                    </a:lnTo>
                    <a:lnTo>
                      <a:pt x="58" y="7"/>
                    </a:lnTo>
                    <a:lnTo>
                      <a:pt x="73" y="16"/>
                    </a:lnTo>
                    <a:lnTo>
                      <a:pt x="91" y="31"/>
                    </a:lnTo>
                  </a:path>
                </a:pathLst>
              </a:custGeom>
              <a:noFill/>
              <a:ln w="3240">
                <a:solidFill>
                  <a:srgbClr val="aa7a6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5738760" y="3834000"/>
                <a:ext cx="17640" cy="23760"/>
              </a:xfrm>
              <a:custGeom>
                <a:avLst/>
                <a:gdLst/>
                <a:ahLst/>
                <a:rect l="l" t="t" r="r" b="b"/>
                <a:pathLst>
                  <a:path w="53" h="79">
                    <a:moveTo>
                      <a:pt x="1" y="9"/>
                    </a:moveTo>
                    <a:lnTo>
                      <a:pt x="45" y="79"/>
                    </a:lnTo>
                    <a:lnTo>
                      <a:pt x="53" y="63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1" y="1"/>
                    </a:lnTo>
                    <a:lnTo>
                      <a:pt x="8" y="1"/>
                    </a:lnTo>
                    <a:lnTo>
                      <a:pt x="5" y="0"/>
                    </a:lnTo>
                    <a:lnTo>
                      <a:pt x="3" y="1"/>
                    </a:lnTo>
                    <a:lnTo>
                      <a:pt x="1" y="2"/>
                    </a:lnTo>
                    <a:lnTo>
                      <a:pt x="0" y="5"/>
                    </a:lnTo>
                    <a:lnTo>
                      <a:pt x="1" y="9"/>
                    </a:lnTo>
                    <a:close/>
                  </a:path>
                </a:pathLst>
              </a:custGeom>
              <a:solidFill>
                <a:srgbClr val="e7a9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5707080" y="3664080"/>
                <a:ext cx="34920" cy="74520"/>
              </a:xfrm>
              <a:custGeom>
                <a:avLst/>
                <a:gdLst/>
                <a:ahLst/>
                <a:rect l="l" t="t" r="r" b="b"/>
                <a:pathLst>
                  <a:path w="112" h="237">
                    <a:moveTo>
                      <a:pt x="2" y="73"/>
                    </a:moveTo>
                    <a:lnTo>
                      <a:pt x="5" y="77"/>
                    </a:lnTo>
                    <a:lnTo>
                      <a:pt x="10" y="91"/>
                    </a:lnTo>
                    <a:lnTo>
                      <a:pt x="19" y="111"/>
                    </a:lnTo>
                    <a:lnTo>
                      <a:pt x="28" y="136"/>
                    </a:lnTo>
                    <a:lnTo>
                      <a:pt x="40" y="162"/>
                    </a:lnTo>
                    <a:lnTo>
                      <a:pt x="52" y="187"/>
                    </a:lnTo>
                    <a:lnTo>
                      <a:pt x="64" y="209"/>
                    </a:lnTo>
                    <a:lnTo>
                      <a:pt x="75" y="226"/>
                    </a:lnTo>
                    <a:lnTo>
                      <a:pt x="79" y="231"/>
                    </a:lnTo>
                    <a:lnTo>
                      <a:pt x="85" y="235"/>
                    </a:lnTo>
                    <a:lnTo>
                      <a:pt x="89" y="237"/>
                    </a:lnTo>
                    <a:lnTo>
                      <a:pt x="93" y="237"/>
                    </a:lnTo>
                    <a:lnTo>
                      <a:pt x="96" y="236"/>
                    </a:lnTo>
                    <a:lnTo>
                      <a:pt x="100" y="232"/>
                    </a:lnTo>
                    <a:lnTo>
                      <a:pt x="103" y="228"/>
                    </a:lnTo>
                    <a:lnTo>
                      <a:pt x="106" y="224"/>
                    </a:lnTo>
                    <a:lnTo>
                      <a:pt x="108" y="218"/>
                    </a:lnTo>
                    <a:lnTo>
                      <a:pt x="109" y="212"/>
                    </a:lnTo>
                    <a:lnTo>
                      <a:pt x="112" y="205"/>
                    </a:lnTo>
                    <a:lnTo>
                      <a:pt x="112" y="198"/>
                    </a:lnTo>
                    <a:lnTo>
                      <a:pt x="112" y="191"/>
                    </a:lnTo>
                    <a:lnTo>
                      <a:pt x="112" y="185"/>
                    </a:lnTo>
                    <a:lnTo>
                      <a:pt x="110" y="179"/>
                    </a:lnTo>
                    <a:lnTo>
                      <a:pt x="109" y="174"/>
                    </a:lnTo>
                    <a:lnTo>
                      <a:pt x="104" y="159"/>
                    </a:lnTo>
                    <a:lnTo>
                      <a:pt x="95" y="137"/>
                    </a:lnTo>
                    <a:lnTo>
                      <a:pt x="87" y="110"/>
                    </a:lnTo>
                    <a:lnTo>
                      <a:pt x="78" y="82"/>
                    </a:lnTo>
                    <a:lnTo>
                      <a:pt x="68" y="54"/>
                    </a:lnTo>
                    <a:lnTo>
                      <a:pt x="61" y="29"/>
                    </a:lnTo>
                    <a:lnTo>
                      <a:pt x="54" y="11"/>
                    </a:lnTo>
                    <a:lnTo>
                      <a:pt x="50" y="3"/>
                    </a:lnTo>
                    <a:lnTo>
                      <a:pt x="46" y="1"/>
                    </a:lnTo>
                    <a:lnTo>
                      <a:pt x="40" y="0"/>
                    </a:lnTo>
                    <a:lnTo>
                      <a:pt x="33" y="1"/>
                    </a:lnTo>
                    <a:lnTo>
                      <a:pt x="25" y="3"/>
                    </a:lnTo>
                    <a:lnTo>
                      <a:pt x="18" y="9"/>
                    </a:lnTo>
                    <a:lnTo>
                      <a:pt x="11" y="14"/>
                    </a:lnTo>
                    <a:lnTo>
                      <a:pt x="9" y="19"/>
                    </a:lnTo>
                    <a:lnTo>
                      <a:pt x="6" y="23"/>
                    </a:lnTo>
                    <a:lnTo>
                      <a:pt x="5" y="27"/>
                    </a:lnTo>
                    <a:lnTo>
                      <a:pt x="2" y="33"/>
                    </a:lnTo>
                    <a:lnTo>
                      <a:pt x="1" y="43"/>
                    </a:lnTo>
                    <a:lnTo>
                      <a:pt x="1" y="52"/>
                    </a:lnTo>
                    <a:lnTo>
                      <a:pt x="0" y="60"/>
                    </a:lnTo>
                    <a:lnTo>
                      <a:pt x="1" y="65"/>
                    </a:lnTo>
                    <a:lnTo>
                      <a:pt x="1" y="68"/>
                    </a:lnTo>
                    <a:lnTo>
                      <a:pt x="2" y="70"/>
                    </a:lnTo>
                    <a:lnTo>
                      <a:pt x="2" y="71"/>
                    </a:lnTo>
                    <a:lnTo>
                      <a:pt x="2" y="73"/>
                    </a:lnTo>
                    <a:close/>
                  </a:path>
                </a:pathLst>
              </a:custGeom>
              <a:solidFill>
                <a:srgbClr val="ca93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5668920" y="3691080"/>
                <a:ext cx="36360" cy="77760"/>
              </a:xfrm>
              <a:custGeom>
                <a:avLst/>
                <a:gdLst/>
                <a:ahLst/>
                <a:rect l="l" t="t" r="r" b="b"/>
                <a:pathLst>
                  <a:path w="116" h="249">
                    <a:moveTo>
                      <a:pt x="30" y="9"/>
                    </a:moveTo>
                    <a:lnTo>
                      <a:pt x="32" y="16"/>
                    </a:lnTo>
                    <a:lnTo>
                      <a:pt x="40" y="33"/>
                    </a:lnTo>
                    <a:lnTo>
                      <a:pt x="51" y="58"/>
                    </a:lnTo>
                    <a:lnTo>
                      <a:pt x="65" y="87"/>
                    </a:lnTo>
                    <a:lnTo>
                      <a:pt x="79" y="117"/>
                    </a:lnTo>
                    <a:lnTo>
                      <a:pt x="92" y="147"/>
                    </a:lnTo>
                    <a:lnTo>
                      <a:pt x="103" y="172"/>
                    </a:lnTo>
                    <a:lnTo>
                      <a:pt x="111" y="189"/>
                    </a:lnTo>
                    <a:lnTo>
                      <a:pt x="114" y="202"/>
                    </a:lnTo>
                    <a:lnTo>
                      <a:pt x="116" y="214"/>
                    </a:lnTo>
                    <a:lnTo>
                      <a:pt x="116" y="226"/>
                    </a:lnTo>
                    <a:lnTo>
                      <a:pt x="115" y="237"/>
                    </a:lnTo>
                    <a:lnTo>
                      <a:pt x="114" y="240"/>
                    </a:lnTo>
                    <a:lnTo>
                      <a:pt x="113" y="245"/>
                    </a:lnTo>
                    <a:lnTo>
                      <a:pt x="111" y="247"/>
                    </a:lnTo>
                    <a:lnTo>
                      <a:pt x="107" y="249"/>
                    </a:lnTo>
                    <a:lnTo>
                      <a:pt x="105" y="249"/>
                    </a:lnTo>
                    <a:lnTo>
                      <a:pt x="102" y="249"/>
                    </a:lnTo>
                    <a:lnTo>
                      <a:pt x="98" y="247"/>
                    </a:lnTo>
                    <a:lnTo>
                      <a:pt x="93" y="245"/>
                    </a:lnTo>
                    <a:lnTo>
                      <a:pt x="89" y="240"/>
                    </a:lnTo>
                    <a:lnTo>
                      <a:pt x="84" y="235"/>
                    </a:lnTo>
                    <a:lnTo>
                      <a:pt x="79" y="228"/>
                    </a:lnTo>
                    <a:lnTo>
                      <a:pt x="75" y="221"/>
                    </a:lnTo>
                    <a:lnTo>
                      <a:pt x="65" y="205"/>
                    </a:lnTo>
                    <a:lnTo>
                      <a:pt x="55" y="186"/>
                    </a:lnTo>
                    <a:lnTo>
                      <a:pt x="46" y="168"/>
                    </a:lnTo>
                    <a:lnTo>
                      <a:pt x="37" y="147"/>
                    </a:lnTo>
                    <a:lnTo>
                      <a:pt x="27" y="129"/>
                    </a:lnTo>
                    <a:lnTo>
                      <a:pt x="19" y="111"/>
                    </a:lnTo>
                    <a:lnTo>
                      <a:pt x="15" y="102"/>
                    </a:lnTo>
                    <a:lnTo>
                      <a:pt x="11" y="92"/>
                    </a:lnTo>
                    <a:lnTo>
                      <a:pt x="8" y="81"/>
                    </a:lnTo>
                    <a:lnTo>
                      <a:pt x="6" y="71"/>
                    </a:lnTo>
                    <a:lnTo>
                      <a:pt x="4" y="60"/>
                    </a:lnTo>
                    <a:lnTo>
                      <a:pt x="3" y="49"/>
                    </a:lnTo>
                    <a:lnTo>
                      <a:pt x="1" y="38"/>
                    </a:lnTo>
                    <a:lnTo>
                      <a:pt x="0" y="29"/>
                    </a:lnTo>
                    <a:lnTo>
                      <a:pt x="1" y="20"/>
                    </a:lnTo>
                    <a:lnTo>
                      <a:pt x="3" y="12"/>
                    </a:lnTo>
                    <a:lnTo>
                      <a:pt x="5" y="7"/>
                    </a:lnTo>
                    <a:lnTo>
                      <a:pt x="8" y="3"/>
                    </a:lnTo>
                    <a:lnTo>
                      <a:pt x="9" y="2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7" y="0"/>
                    </a:lnTo>
                    <a:lnTo>
                      <a:pt x="22" y="4"/>
                    </a:lnTo>
                    <a:lnTo>
                      <a:pt x="30" y="9"/>
                    </a:lnTo>
                    <a:close/>
                  </a:path>
                </a:pathLst>
              </a:custGeom>
              <a:solidFill>
                <a:srgbClr val="ca93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5710320" y="3665520"/>
                <a:ext cx="31680" cy="69840"/>
              </a:xfrm>
              <a:custGeom>
                <a:avLst/>
                <a:gdLst/>
                <a:ahLst/>
                <a:rect l="l" t="t" r="r" b="b"/>
                <a:pathLst>
                  <a:path w="98" h="218">
                    <a:moveTo>
                      <a:pt x="38" y="3"/>
                    </a:moveTo>
                    <a:lnTo>
                      <a:pt x="42" y="12"/>
                    </a:lnTo>
                    <a:lnTo>
                      <a:pt x="48" y="28"/>
                    </a:lnTo>
                    <a:lnTo>
                      <a:pt x="56" y="51"/>
                    </a:lnTo>
                    <a:lnTo>
                      <a:pt x="65" y="77"/>
                    </a:lnTo>
                    <a:lnTo>
                      <a:pt x="74" y="104"/>
                    </a:lnTo>
                    <a:lnTo>
                      <a:pt x="82" y="130"/>
                    </a:lnTo>
                    <a:lnTo>
                      <a:pt x="89" y="152"/>
                    </a:lnTo>
                    <a:lnTo>
                      <a:pt x="95" y="167"/>
                    </a:lnTo>
                    <a:lnTo>
                      <a:pt x="96" y="171"/>
                    </a:lnTo>
                    <a:lnTo>
                      <a:pt x="98" y="178"/>
                    </a:lnTo>
                    <a:lnTo>
                      <a:pt x="98" y="183"/>
                    </a:lnTo>
                    <a:lnTo>
                      <a:pt x="98" y="189"/>
                    </a:lnTo>
                    <a:lnTo>
                      <a:pt x="98" y="194"/>
                    </a:lnTo>
                    <a:lnTo>
                      <a:pt x="96" y="199"/>
                    </a:lnTo>
                    <a:lnTo>
                      <a:pt x="95" y="204"/>
                    </a:lnTo>
                    <a:lnTo>
                      <a:pt x="93" y="208"/>
                    </a:lnTo>
                    <a:lnTo>
                      <a:pt x="91" y="212"/>
                    </a:lnTo>
                    <a:lnTo>
                      <a:pt x="88" y="215"/>
                    </a:lnTo>
                    <a:lnTo>
                      <a:pt x="85" y="217"/>
                    </a:lnTo>
                    <a:lnTo>
                      <a:pt x="82" y="218"/>
                    </a:lnTo>
                    <a:lnTo>
                      <a:pt x="79" y="217"/>
                    </a:lnTo>
                    <a:lnTo>
                      <a:pt x="75" y="215"/>
                    </a:lnTo>
                    <a:lnTo>
                      <a:pt x="71" y="211"/>
                    </a:lnTo>
                    <a:lnTo>
                      <a:pt x="67" y="206"/>
                    </a:lnTo>
                    <a:lnTo>
                      <a:pt x="57" y="190"/>
                    </a:lnTo>
                    <a:lnTo>
                      <a:pt x="47" y="169"/>
                    </a:lnTo>
                    <a:lnTo>
                      <a:pt x="37" y="147"/>
                    </a:lnTo>
                    <a:lnTo>
                      <a:pt x="26" y="123"/>
                    </a:lnTo>
                    <a:lnTo>
                      <a:pt x="17" y="101"/>
                    </a:lnTo>
                    <a:lnTo>
                      <a:pt x="10" y="84"/>
                    </a:lnTo>
                    <a:lnTo>
                      <a:pt x="6" y="72"/>
                    </a:lnTo>
                    <a:lnTo>
                      <a:pt x="3" y="68"/>
                    </a:lnTo>
                    <a:lnTo>
                      <a:pt x="3" y="68"/>
                    </a:lnTo>
                    <a:lnTo>
                      <a:pt x="2" y="66"/>
                    </a:lnTo>
                    <a:lnTo>
                      <a:pt x="2" y="63"/>
                    </a:lnTo>
                    <a:lnTo>
                      <a:pt x="1" y="59"/>
                    </a:lnTo>
                    <a:lnTo>
                      <a:pt x="0" y="55"/>
                    </a:lnTo>
                    <a:lnTo>
                      <a:pt x="0" y="48"/>
                    </a:lnTo>
                    <a:lnTo>
                      <a:pt x="0" y="40"/>
                    </a:lnTo>
                    <a:lnTo>
                      <a:pt x="1" y="31"/>
                    </a:lnTo>
                    <a:lnTo>
                      <a:pt x="1" y="24"/>
                    </a:lnTo>
                    <a:lnTo>
                      <a:pt x="2" y="20"/>
                    </a:lnTo>
                    <a:lnTo>
                      <a:pt x="3" y="16"/>
                    </a:lnTo>
                    <a:lnTo>
                      <a:pt x="6" y="12"/>
                    </a:lnTo>
                    <a:lnTo>
                      <a:pt x="8" y="8"/>
                    </a:lnTo>
                    <a:lnTo>
                      <a:pt x="11" y="6"/>
                    </a:lnTo>
                    <a:lnTo>
                      <a:pt x="13" y="4"/>
                    </a:lnTo>
                    <a:lnTo>
                      <a:pt x="16" y="2"/>
                    </a:lnTo>
                    <a:lnTo>
                      <a:pt x="23" y="1"/>
                    </a:lnTo>
                    <a:lnTo>
                      <a:pt x="29" y="0"/>
                    </a:lnTo>
                    <a:lnTo>
                      <a:pt x="35" y="1"/>
                    </a:lnTo>
                    <a:lnTo>
                      <a:pt x="38" y="3"/>
                    </a:lnTo>
                    <a:close/>
                  </a:path>
                </a:pathLst>
              </a:custGeom>
              <a:solidFill>
                <a:srgbClr val="d39a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5713560" y="3667320"/>
                <a:ext cx="26640" cy="63360"/>
              </a:xfrm>
              <a:custGeom>
                <a:avLst/>
                <a:gdLst/>
                <a:ahLst/>
                <a:rect l="l" t="t" r="r" b="b"/>
                <a:pathLst>
                  <a:path w="85" h="199">
                    <a:moveTo>
                      <a:pt x="27" y="7"/>
                    </a:moveTo>
                    <a:lnTo>
                      <a:pt x="31" y="14"/>
                    </a:lnTo>
                    <a:lnTo>
                      <a:pt x="37" y="29"/>
                    </a:lnTo>
                    <a:lnTo>
                      <a:pt x="44" y="51"/>
                    </a:lnTo>
                    <a:lnTo>
                      <a:pt x="52" y="75"/>
                    </a:lnTo>
                    <a:lnTo>
                      <a:pt x="60" y="101"/>
                    </a:lnTo>
                    <a:lnTo>
                      <a:pt x="69" y="124"/>
                    </a:lnTo>
                    <a:lnTo>
                      <a:pt x="76" y="144"/>
                    </a:lnTo>
                    <a:lnTo>
                      <a:pt x="81" y="157"/>
                    </a:lnTo>
                    <a:lnTo>
                      <a:pt x="83" y="162"/>
                    </a:lnTo>
                    <a:lnTo>
                      <a:pt x="84" y="168"/>
                    </a:lnTo>
                    <a:lnTo>
                      <a:pt x="85" y="172"/>
                    </a:lnTo>
                    <a:lnTo>
                      <a:pt x="85" y="177"/>
                    </a:lnTo>
                    <a:lnTo>
                      <a:pt x="84" y="186"/>
                    </a:lnTo>
                    <a:lnTo>
                      <a:pt x="81" y="194"/>
                    </a:lnTo>
                    <a:lnTo>
                      <a:pt x="79" y="196"/>
                    </a:lnTo>
                    <a:lnTo>
                      <a:pt x="77" y="198"/>
                    </a:lnTo>
                    <a:lnTo>
                      <a:pt x="74" y="199"/>
                    </a:lnTo>
                    <a:lnTo>
                      <a:pt x="71" y="199"/>
                    </a:lnTo>
                    <a:lnTo>
                      <a:pt x="69" y="198"/>
                    </a:lnTo>
                    <a:lnTo>
                      <a:pt x="66" y="195"/>
                    </a:lnTo>
                    <a:lnTo>
                      <a:pt x="63" y="191"/>
                    </a:lnTo>
                    <a:lnTo>
                      <a:pt x="59" y="187"/>
                    </a:lnTo>
                    <a:lnTo>
                      <a:pt x="51" y="170"/>
                    </a:lnTo>
                    <a:lnTo>
                      <a:pt x="42" y="150"/>
                    </a:lnTo>
                    <a:lnTo>
                      <a:pt x="33" y="130"/>
                    </a:lnTo>
                    <a:lnTo>
                      <a:pt x="26" y="110"/>
                    </a:lnTo>
                    <a:lnTo>
                      <a:pt x="18" y="92"/>
                    </a:lnTo>
                    <a:lnTo>
                      <a:pt x="13" y="77"/>
                    </a:lnTo>
                    <a:lnTo>
                      <a:pt x="9" y="67"/>
                    </a:lnTo>
                    <a:lnTo>
                      <a:pt x="8" y="63"/>
                    </a:lnTo>
                    <a:lnTo>
                      <a:pt x="6" y="63"/>
                    </a:lnTo>
                    <a:lnTo>
                      <a:pt x="6" y="61"/>
                    </a:lnTo>
                    <a:lnTo>
                      <a:pt x="4" y="59"/>
                    </a:lnTo>
                    <a:lnTo>
                      <a:pt x="3" y="55"/>
                    </a:lnTo>
                    <a:lnTo>
                      <a:pt x="2" y="50"/>
                    </a:lnTo>
                    <a:lnTo>
                      <a:pt x="1" y="43"/>
                    </a:lnTo>
                    <a:lnTo>
                      <a:pt x="0" y="36"/>
                    </a:lnTo>
                    <a:lnTo>
                      <a:pt x="0" y="26"/>
                    </a:lnTo>
                    <a:lnTo>
                      <a:pt x="0" y="21"/>
                    </a:lnTo>
                    <a:lnTo>
                      <a:pt x="0" y="16"/>
                    </a:lnTo>
                    <a:lnTo>
                      <a:pt x="1" y="12"/>
                    </a:lnTo>
                    <a:lnTo>
                      <a:pt x="2" y="9"/>
                    </a:lnTo>
                    <a:lnTo>
                      <a:pt x="6" y="5"/>
                    </a:lnTo>
                    <a:lnTo>
                      <a:pt x="11" y="1"/>
                    </a:lnTo>
                    <a:lnTo>
                      <a:pt x="15" y="0"/>
                    </a:lnTo>
                    <a:lnTo>
                      <a:pt x="20" y="1"/>
                    </a:lnTo>
                    <a:lnTo>
                      <a:pt x="24" y="3"/>
                    </a:lnTo>
                    <a:lnTo>
                      <a:pt x="27" y="7"/>
                    </a:lnTo>
                    <a:close/>
                  </a:path>
                </a:pathLst>
              </a:custGeom>
              <a:solidFill>
                <a:srgbClr val="d89e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5716440" y="3670200"/>
                <a:ext cx="23760" cy="57240"/>
              </a:xfrm>
              <a:custGeom>
                <a:avLst/>
                <a:gdLst/>
                <a:ahLst/>
                <a:rect l="l" t="t" r="r" b="b"/>
                <a:pathLst>
                  <a:path w="75" h="179">
                    <a:moveTo>
                      <a:pt x="18" y="5"/>
                    </a:moveTo>
                    <a:lnTo>
                      <a:pt x="22" y="13"/>
                    </a:lnTo>
                    <a:lnTo>
                      <a:pt x="28" y="28"/>
                    </a:lnTo>
                    <a:lnTo>
                      <a:pt x="35" y="47"/>
                    </a:lnTo>
                    <a:lnTo>
                      <a:pt x="43" y="70"/>
                    </a:lnTo>
                    <a:lnTo>
                      <a:pt x="51" y="94"/>
                    </a:lnTo>
                    <a:lnTo>
                      <a:pt x="60" y="116"/>
                    </a:lnTo>
                    <a:lnTo>
                      <a:pt x="67" y="136"/>
                    </a:lnTo>
                    <a:lnTo>
                      <a:pt x="72" y="149"/>
                    </a:lnTo>
                    <a:lnTo>
                      <a:pt x="75" y="159"/>
                    </a:lnTo>
                    <a:lnTo>
                      <a:pt x="75" y="167"/>
                    </a:lnTo>
                    <a:lnTo>
                      <a:pt x="74" y="174"/>
                    </a:lnTo>
                    <a:lnTo>
                      <a:pt x="71" y="178"/>
                    </a:lnTo>
                    <a:lnTo>
                      <a:pt x="69" y="179"/>
                    </a:lnTo>
                    <a:lnTo>
                      <a:pt x="67" y="179"/>
                    </a:lnTo>
                    <a:lnTo>
                      <a:pt x="64" y="179"/>
                    </a:lnTo>
                    <a:lnTo>
                      <a:pt x="62" y="178"/>
                    </a:lnTo>
                    <a:lnTo>
                      <a:pt x="60" y="176"/>
                    </a:lnTo>
                    <a:lnTo>
                      <a:pt x="57" y="173"/>
                    </a:lnTo>
                    <a:lnTo>
                      <a:pt x="55" y="169"/>
                    </a:lnTo>
                    <a:lnTo>
                      <a:pt x="53" y="164"/>
                    </a:lnTo>
                    <a:lnTo>
                      <a:pt x="46" y="148"/>
                    </a:lnTo>
                    <a:lnTo>
                      <a:pt x="40" y="130"/>
                    </a:lnTo>
                    <a:lnTo>
                      <a:pt x="33" y="113"/>
                    </a:lnTo>
                    <a:lnTo>
                      <a:pt x="26" y="96"/>
                    </a:lnTo>
                    <a:lnTo>
                      <a:pt x="20" y="81"/>
                    </a:lnTo>
                    <a:lnTo>
                      <a:pt x="15" y="69"/>
                    </a:lnTo>
                    <a:lnTo>
                      <a:pt x="11" y="60"/>
                    </a:lnTo>
                    <a:lnTo>
                      <a:pt x="10" y="58"/>
                    </a:lnTo>
                    <a:lnTo>
                      <a:pt x="10" y="57"/>
                    </a:lnTo>
                    <a:lnTo>
                      <a:pt x="9" y="55"/>
                    </a:lnTo>
                    <a:lnTo>
                      <a:pt x="8" y="53"/>
                    </a:lnTo>
                    <a:lnTo>
                      <a:pt x="6" y="48"/>
                    </a:lnTo>
                    <a:lnTo>
                      <a:pt x="5" y="44"/>
                    </a:lnTo>
                    <a:lnTo>
                      <a:pt x="3" y="38"/>
                    </a:lnTo>
                    <a:lnTo>
                      <a:pt x="2" y="31"/>
                    </a:lnTo>
                    <a:lnTo>
                      <a:pt x="1" y="24"/>
                    </a:lnTo>
                    <a:lnTo>
                      <a:pt x="0" y="13"/>
                    </a:lnTo>
                    <a:lnTo>
                      <a:pt x="1" y="5"/>
                    </a:lnTo>
                    <a:lnTo>
                      <a:pt x="3" y="2"/>
                    </a:lnTo>
                    <a:lnTo>
                      <a:pt x="6" y="0"/>
                    </a:lnTo>
                    <a:lnTo>
                      <a:pt x="9" y="0"/>
                    </a:lnTo>
                    <a:lnTo>
                      <a:pt x="13" y="1"/>
                    </a:lnTo>
                    <a:lnTo>
                      <a:pt x="16" y="3"/>
                    </a:lnTo>
                    <a:lnTo>
                      <a:pt x="18" y="5"/>
                    </a:lnTo>
                    <a:close/>
                  </a:path>
                </a:pathLst>
              </a:custGeom>
              <a:solidFill>
                <a:srgbClr val="dea3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5719680" y="3672000"/>
                <a:ext cx="20520" cy="52200"/>
              </a:xfrm>
              <a:custGeom>
                <a:avLst/>
                <a:gdLst/>
                <a:ahLst/>
                <a:rect l="l" t="t" r="r" b="b"/>
                <a:pathLst>
                  <a:path w="67" h="163">
                    <a:moveTo>
                      <a:pt x="19" y="55"/>
                    </a:moveTo>
                    <a:lnTo>
                      <a:pt x="20" y="57"/>
                    </a:lnTo>
                    <a:lnTo>
                      <a:pt x="22" y="64"/>
                    </a:lnTo>
                    <a:lnTo>
                      <a:pt x="25" y="73"/>
                    </a:lnTo>
                    <a:lnTo>
                      <a:pt x="29" y="85"/>
                    </a:lnTo>
                    <a:lnTo>
                      <a:pt x="35" y="100"/>
                    </a:lnTo>
                    <a:lnTo>
                      <a:pt x="40" y="115"/>
                    </a:lnTo>
                    <a:lnTo>
                      <a:pt x="46" y="131"/>
                    </a:lnTo>
                    <a:lnTo>
                      <a:pt x="51" y="147"/>
                    </a:lnTo>
                    <a:lnTo>
                      <a:pt x="53" y="155"/>
                    </a:lnTo>
                    <a:lnTo>
                      <a:pt x="56" y="160"/>
                    </a:lnTo>
                    <a:lnTo>
                      <a:pt x="60" y="163"/>
                    </a:lnTo>
                    <a:lnTo>
                      <a:pt x="63" y="163"/>
                    </a:lnTo>
                    <a:lnTo>
                      <a:pt x="65" y="163"/>
                    </a:lnTo>
                    <a:lnTo>
                      <a:pt x="66" y="162"/>
                    </a:lnTo>
                    <a:lnTo>
                      <a:pt x="66" y="160"/>
                    </a:lnTo>
                    <a:lnTo>
                      <a:pt x="67" y="158"/>
                    </a:lnTo>
                    <a:lnTo>
                      <a:pt x="66" y="150"/>
                    </a:lnTo>
                    <a:lnTo>
                      <a:pt x="63" y="142"/>
                    </a:lnTo>
                    <a:lnTo>
                      <a:pt x="57" y="129"/>
                    </a:lnTo>
                    <a:lnTo>
                      <a:pt x="51" y="111"/>
                    </a:lnTo>
                    <a:lnTo>
                      <a:pt x="43" y="91"/>
                    </a:lnTo>
                    <a:lnTo>
                      <a:pt x="35" y="68"/>
                    </a:lnTo>
                    <a:lnTo>
                      <a:pt x="27" y="47"/>
                    </a:lnTo>
                    <a:lnTo>
                      <a:pt x="21" y="28"/>
                    </a:lnTo>
                    <a:lnTo>
                      <a:pt x="15" y="15"/>
                    </a:lnTo>
                    <a:lnTo>
                      <a:pt x="11" y="8"/>
                    </a:lnTo>
                    <a:lnTo>
                      <a:pt x="9" y="6"/>
                    </a:lnTo>
                    <a:lnTo>
                      <a:pt x="7" y="2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4"/>
                    </a:lnTo>
                    <a:lnTo>
                      <a:pt x="1" y="11"/>
                    </a:lnTo>
                    <a:lnTo>
                      <a:pt x="3" y="21"/>
                    </a:lnTo>
                    <a:lnTo>
                      <a:pt x="6" y="27"/>
                    </a:lnTo>
                    <a:lnTo>
                      <a:pt x="8" y="35"/>
                    </a:lnTo>
                    <a:lnTo>
                      <a:pt x="10" y="40"/>
                    </a:lnTo>
                    <a:lnTo>
                      <a:pt x="13" y="46"/>
                    </a:lnTo>
                    <a:lnTo>
                      <a:pt x="15" y="50"/>
                    </a:lnTo>
                    <a:lnTo>
                      <a:pt x="16" y="52"/>
                    </a:lnTo>
                    <a:lnTo>
                      <a:pt x="17" y="54"/>
                    </a:lnTo>
                    <a:lnTo>
                      <a:pt x="19" y="55"/>
                    </a:lnTo>
                    <a:close/>
                  </a:path>
                </a:pathLst>
              </a:custGeom>
              <a:solidFill>
                <a:srgbClr val="e7a9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5670360" y="3694320"/>
                <a:ext cx="33480" cy="68040"/>
              </a:xfrm>
              <a:custGeom>
                <a:avLst/>
                <a:gdLst/>
                <a:ahLst/>
                <a:rect l="l" t="t" r="r" b="b"/>
                <a:pathLst>
                  <a:path w="103" h="213">
                    <a:moveTo>
                      <a:pt x="22" y="88"/>
                    </a:moveTo>
                    <a:lnTo>
                      <a:pt x="13" y="71"/>
                    </a:lnTo>
                    <a:lnTo>
                      <a:pt x="6" y="52"/>
                    </a:lnTo>
                    <a:lnTo>
                      <a:pt x="2" y="34"/>
                    </a:lnTo>
                    <a:lnTo>
                      <a:pt x="0" y="19"/>
                    </a:lnTo>
                    <a:lnTo>
                      <a:pt x="0" y="12"/>
                    </a:lnTo>
                    <a:lnTo>
                      <a:pt x="1" y="8"/>
                    </a:lnTo>
                    <a:lnTo>
                      <a:pt x="3" y="4"/>
                    </a:lnTo>
                    <a:lnTo>
                      <a:pt x="5" y="2"/>
                    </a:lnTo>
                    <a:lnTo>
                      <a:pt x="9" y="0"/>
                    </a:lnTo>
                    <a:lnTo>
                      <a:pt x="14" y="3"/>
                    </a:lnTo>
                    <a:lnTo>
                      <a:pt x="19" y="6"/>
                    </a:lnTo>
                    <a:lnTo>
                      <a:pt x="26" y="11"/>
                    </a:lnTo>
                    <a:lnTo>
                      <a:pt x="28" y="17"/>
                    </a:lnTo>
                    <a:lnTo>
                      <a:pt x="36" y="31"/>
                    </a:lnTo>
                    <a:lnTo>
                      <a:pt x="45" y="52"/>
                    </a:lnTo>
                    <a:lnTo>
                      <a:pt x="57" y="77"/>
                    </a:lnTo>
                    <a:lnTo>
                      <a:pt x="69" y="104"/>
                    </a:lnTo>
                    <a:lnTo>
                      <a:pt x="81" y="130"/>
                    </a:lnTo>
                    <a:lnTo>
                      <a:pt x="91" y="153"/>
                    </a:lnTo>
                    <a:lnTo>
                      <a:pt x="97" y="169"/>
                    </a:lnTo>
                    <a:lnTo>
                      <a:pt x="100" y="181"/>
                    </a:lnTo>
                    <a:lnTo>
                      <a:pt x="103" y="192"/>
                    </a:lnTo>
                    <a:lnTo>
                      <a:pt x="103" y="201"/>
                    </a:lnTo>
                    <a:lnTo>
                      <a:pt x="101" y="208"/>
                    </a:lnTo>
                    <a:lnTo>
                      <a:pt x="100" y="211"/>
                    </a:lnTo>
                    <a:lnTo>
                      <a:pt x="99" y="212"/>
                    </a:lnTo>
                    <a:lnTo>
                      <a:pt x="97" y="213"/>
                    </a:lnTo>
                    <a:lnTo>
                      <a:pt x="95" y="213"/>
                    </a:lnTo>
                    <a:lnTo>
                      <a:pt x="93" y="213"/>
                    </a:lnTo>
                    <a:lnTo>
                      <a:pt x="90" y="211"/>
                    </a:lnTo>
                    <a:lnTo>
                      <a:pt x="86" y="208"/>
                    </a:lnTo>
                    <a:lnTo>
                      <a:pt x="83" y="205"/>
                    </a:lnTo>
                    <a:lnTo>
                      <a:pt x="74" y="194"/>
                    </a:lnTo>
                    <a:lnTo>
                      <a:pt x="66" y="181"/>
                    </a:lnTo>
                    <a:lnTo>
                      <a:pt x="58" y="167"/>
                    </a:lnTo>
                    <a:lnTo>
                      <a:pt x="50" y="151"/>
                    </a:lnTo>
                    <a:lnTo>
                      <a:pt x="42" y="134"/>
                    </a:lnTo>
                    <a:lnTo>
                      <a:pt x="34" y="118"/>
                    </a:lnTo>
                    <a:lnTo>
                      <a:pt x="28" y="103"/>
                    </a:lnTo>
                    <a:lnTo>
                      <a:pt x="22" y="88"/>
                    </a:lnTo>
                    <a:close/>
                  </a:path>
                </a:pathLst>
              </a:custGeom>
              <a:solidFill>
                <a:srgbClr val="d39a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5673600" y="3699000"/>
                <a:ext cx="28800" cy="57240"/>
              </a:xfrm>
              <a:custGeom>
                <a:avLst/>
                <a:gdLst/>
                <a:ahLst/>
                <a:rect l="l" t="t" r="r" b="b"/>
                <a:pathLst>
                  <a:path w="87" h="181">
                    <a:moveTo>
                      <a:pt x="22" y="67"/>
                    </a:moveTo>
                    <a:lnTo>
                      <a:pt x="15" y="50"/>
                    </a:lnTo>
                    <a:lnTo>
                      <a:pt x="8" y="34"/>
                    </a:lnTo>
                    <a:lnTo>
                      <a:pt x="3" y="20"/>
                    </a:lnTo>
                    <a:lnTo>
                      <a:pt x="0" y="9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1" y="0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9" y="5"/>
                    </a:lnTo>
                    <a:lnTo>
                      <a:pt x="15" y="9"/>
                    </a:lnTo>
                    <a:lnTo>
                      <a:pt x="22" y="16"/>
                    </a:lnTo>
                    <a:lnTo>
                      <a:pt x="24" y="20"/>
                    </a:lnTo>
                    <a:lnTo>
                      <a:pt x="30" y="32"/>
                    </a:lnTo>
                    <a:lnTo>
                      <a:pt x="38" y="49"/>
                    </a:lnTo>
                    <a:lnTo>
                      <a:pt x="48" y="70"/>
                    </a:lnTo>
                    <a:lnTo>
                      <a:pt x="58" y="91"/>
                    </a:lnTo>
                    <a:lnTo>
                      <a:pt x="68" y="114"/>
                    </a:lnTo>
                    <a:lnTo>
                      <a:pt x="76" y="133"/>
                    </a:lnTo>
                    <a:lnTo>
                      <a:pt x="82" y="149"/>
                    </a:lnTo>
                    <a:lnTo>
                      <a:pt x="85" y="160"/>
                    </a:lnTo>
                    <a:lnTo>
                      <a:pt x="87" y="169"/>
                    </a:lnTo>
                    <a:lnTo>
                      <a:pt x="87" y="175"/>
                    </a:lnTo>
                    <a:lnTo>
                      <a:pt x="86" y="180"/>
                    </a:lnTo>
                    <a:lnTo>
                      <a:pt x="85" y="181"/>
                    </a:lnTo>
                    <a:lnTo>
                      <a:pt x="84" y="181"/>
                    </a:lnTo>
                    <a:lnTo>
                      <a:pt x="82" y="180"/>
                    </a:lnTo>
                    <a:lnTo>
                      <a:pt x="79" y="179"/>
                    </a:lnTo>
                    <a:lnTo>
                      <a:pt x="75" y="173"/>
                    </a:lnTo>
                    <a:lnTo>
                      <a:pt x="69" y="163"/>
                    </a:lnTo>
                    <a:lnTo>
                      <a:pt x="61" y="153"/>
                    </a:lnTo>
                    <a:lnTo>
                      <a:pt x="55" y="140"/>
                    </a:lnTo>
                    <a:lnTo>
                      <a:pt x="48" y="128"/>
                    </a:lnTo>
                    <a:lnTo>
                      <a:pt x="43" y="115"/>
                    </a:lnTo>
                    <a:lnTo>
                      <a:pt x="37" y="102"/>
                    </a:lnTo>
                    <a:lnTo>
                      <a:pt x="32" y="90"/>
                    </a:lnTo>
                    <a:lnTo>
                      <a:pt x="27" y="78"/>
                    </a:lnTo>
                    <a:lnTo>
                      <a:pt x="22" y="67"/>
                    </a:lnTo>
                    <a:close/>
                  </a:path>
                </a:pathLst>
              </a:custGeom>
              <a:solidFill>
                <a:srgbClr val="dea3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5675400" y="3702240"/>
                <a:ext cx="25200" cy="48960"/>
              </a:xfrm>
              <a:custGeom>
                <a:avLst/>
                <a:gdLst/>
                <a:ahLst/>
                <a:rect l="l" t="t" r="r" b="b"/>
                <a:pathLst>
                  <a:path w="76" h="154">
                    <a:moveTo>
                      <a:pt x="21" y="22"/>
                    </a:moveTo>
                    <a:lnTo>
                      <a:pt x="23" y="25"/>
                    </a:lnTo>
                    <a:lnTo>
                      <a:pt x="27" y="34"/>
                    </a:lnTo>
                    <a:lnTo>
                      <a:pt x="34" y="47"/>
                    </a:lnTo>
                    <a:lnTo>
                      <a:pt x="42" y="63"/>
                    </a:lnTo>
                    <a:lnTo>
                      <a:pt x="51" y="81"/>
                    </a:lnTo>
                    <a:lnTo>
                      <a:pt x="58" y="100"/>
                    </a:lnTo>
                    <a:lnTo>
                      <a:pt x="65" y="116"/>
                    </a:lnTo>
                    <a:lnTo>
                      <a:pt x="70" y="131"/>
                    </a:lnTo>
                    <a:lnTo>
                      <a:pt x="73" y="141"/>
                    </a:lnTo>
                    <a:lnTo>
                      <a:pt x="76" y="148"/>
                    </a:lnTo>
                    <a:lnTo>
                      <a:pt x="76" y="152"/>
                    </a:lnTo>
                    <a:lnTo>
                      <a:pt x="75" y="154"/>
                    </a:lnTo>
                    <a:lnTo>
                      <a:pt x="72" y="151"/>
                    </a:lnTo>
                    <a:lnTo>
                      <a:pt x="69" y="147"/>
                    </a:lnTo>
                    <a:lnTo>
                      <a:pt x="65" y="138"/>
                    </a:lnTo>
                    <a:lnTo>
                      <a:pt x="61" y="128"/>
                    </a:lnTo>
                    <a:lnTo>
                      <a:pt x="54" y="115"/>
                    </a:lnTo>
                    <a:lnTo>
                      <a:pt x="49" y="103"/>
                    </a:lnTo>
                    <a:lnTo>
                      <a:pt x="43" y="91"/>
                    </a:lnTo>
                    <a:lnTo>
                      <a:pt x="39" y="81"/>
                    </a:lnTo>
                    <a:lnTo>
                      <a:pt x="36" y="71"/>
                    </a:lnTo>
                    <a:lnTo>
                      <a:pt x="31" y="63"/>
                    </a:lnTo>
                    <a:lnTo>
                      <a:pt x="29" y="54"/>
                    </a:lnTo>
                    <a:lnTo>
                      <a:pt x="26" y="47"/>
                    </a:lnTo>
                    <a:lnTo>
                      <a:pt x="18" y="30"/>
                    </a:lnTo>
                    <a:lnTo>
                      <a:pt x="11" y="17"/>
                    </a:lnTo>
                    <a:lnTo>
                      <a:pt x="5" y="8"/>
                    </a:lnTo>
                    <a:lnTo>
                      <a:pt x="1" y="1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9" y="10"/>
                    </a:lnTo>
                    <a:lnTo>
                      <a:pt x="21" y="22"/>
                    </a:lnTo>
                    <a:close/>
                  </a:path>
                </a:pathLst>
              </a:custGeom>
              <a:solidFill>
                <a:srgbClr val="e7a9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5630760" y="3721320"/>
                <a:ext cx="31680" cy="68040"/>
              </a:xfrm>
              <a:custGeom>
                <a:avLst/>
                <a:gdLst/>
                <a:ahLst/>
                <a:rect l="l" t="t" r="r" b="b"/>
                <a:pathLst>
                  <a:path w="102" h="213">
                    <a:moveTo>
                      <a:pt x="21" y="88"/>
                    </a:moveTo>
                    <a:lnTo>
                      <a:pt x="12" y="70"/>
                    </a:lnTo>
                    <a:lnTo>
                      <a:pt x="7" y="51"/>
                    </a:lnTo>
                    <a:lnTo>
                      <a:pt x="3" y="34"/>
                    </a:lnTo>
                    <a:lnTo>
                      <a:pt x="0" y="18"/>
                    </a:lnTo>
                    <a:lnTo>
                      <a:pt x="0" y="11"/>
                    </a:lnTo>
                    <a:lnTo>
                      <a:pt x="2" y="6"/>
                    </a:lnTo>
                    <a:lnTo>
                      <a:pt x="4" y="3"/>
                    </a:lnTo>
                    <a:lnTo>
                      <a:pt x="6" y="1"/>
                    </a:lnTo>
                    <a:lnTo>
                      <a:pt x="9" y="0"/>
                    </a:lnTo>
                    <a:lnTo>
                      <a:pt x="13" y="2"/>
                    </a:lnTo>
                    <a:lnTo>
                      <a:pt x="19" y="5"/>
                    </a:lnTo>
                    <a:lnTo>
                      <a:pt x="25" y="11"/>
                    </a:lnTo>
                    <a:lnTo>
                      <a:pt x="27" y="17"/>
                    </a:lnTo>
                    <a:lnTo>
                      <a:pt x="35" y="31"/>
                    </a:lnTo>
                    <a:lnTo>
                      <a:pt x="45" y="53"/>
                    </a:lnTo>
                    <a:lnTo>
                      <a:pt x="57" y="77"/>
                    </a:lnTo>
                    <a:lnTo>
                      <a:pt x="68" y="103"/>
                    </a:lnTo>
                    <a:lnTo>
                      <a:pt x="80" y="129"/>
                    </a:lnTo>
                    <a:lnTo>
                      <a:pt x="90" y="151"/>
                    </a:lnTo>
                    <a:lnTo>
                      <a:pt x="97" y="167"/>
                    </a:lnTo>
                    <a:lnTo>
                      <a:pt x="100" y="180"/>
                    </a:lnTo>
                    <a:lnTo>
                      <a:pt x="102" y="191"/>
                    </a:lnTo>
                    <a:lnTo>
                      <a:pt x="102" y="200"/>
                    </a:lnTo>
                    <a:lnTo>
                      <a:pt x="101" y="208"/>
                    </a:lnTo>
                    <a:lnTo>
                      <a:pt x="100" y="210"/>
                    </a:lnTo>
                    <a:lnTo>
                      <a:pt x="99" y="212"/>
                    </a:lnTo>
                    <a:lnTo>
                      <a:pt x="97" y="213"/>
                    </a:lnTo>
                    <a:lnTo>
                      <a:pt x="94" y="213"/>
                    </a:lnTo>
                    <a:lnTo>
                      <a:pt x="92" y="212"/>
                    </a:lnTo>
                    <a:lnTo>
                      <a:pt x="89" y="211"/>
                    </a:lnTo>
                    <a:lnTo>
                      <a:pt x="86" y="208"/>
                    </a:lnTo>
                    <a:lnTo>
                      <a:pt x="83" y="204"/>
                    </a:lnTo>
                    <a:lnTo>
                      <a:pt x="74" y="194"/>
                    </a:lnTo>
                    <a:lnTo>
                      <a:pt x="65" y="181"/>
                    </a:lnTo>
                    <a:lnTo>
                      <a:pt x="58" y="166"/>
                    </a:lnTo>
                    <a:lnTo>
                      <a:pt x="49" y="151"/>
                    </a:lnTo>
                    <a:lnTo>
                      <a:pt x="41" y="135"/>
                    </a:lnTo>
                    <a:lnTo>
                      <a:pt x="34" y="118"/>
                    </a:lnTo>
                    <a:lnTo>
                      <a:pt x="27" y="102"/>
                    </a:lnTo>
                    <a:lnTo>
                      <a:pt x="21" y="88"/>
                    </a:lnTo>
                    <a:close/>
                  </a:path>
                </a:pathLst>
              </a:custGeom>
              <a:solidFill>
                <a:srgbClr val="d39a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5632560" y="3726000"/>
                <a:ext cx="28440" cy="57240"/>
              </a:xfrm>
              <a:custGeom>
                <a:avLst/>
                <a:gdLst/>
                <a:ahLst/>
                <a:rect l="l" t="t" r="r" b="b"/>
                <a:pathLst>
                  <a:path w="89" h="180">
                    <a:moveTo>
                      <a:pt x="23" y="64"/>
                    </a:moveTo>
                    <a:lnTo>
                      <a:pt x="15" y="47"/>
                    </a:lnTo>
                    <a:lnTo>
                      <a:pt x="9" y="32"/>
                    </a:lnTo>
                    <a:lnTo>
                      <a:pt x="3" y="18"/>
                    </a:lnTo>
                    <a:lnTo>
                      <a:pt x="0" y="8"/>
                    </a:lnTo>
                    <a:lnTo>
                      <a:pt x="0" y="4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10" y="4"/>
                    </a:lnTo>
                    <a:lnTo>
                      <a:pt x="15" y="8"/>
                    </a:lnTo>
                    <a:lnTo>
                      <a:pt x="23" y="15"/>
                    </a:lnTo>
                    <a:lnTo>
                      <a:pt x="25" y="19"/>
                    </a:lnTo>
                    <a:lnTo>
                      <a:pt x="30" y="31"/>
                    </a:lnTo>
                    <a:lnTo>
                      <a:pt x="39" y="47"/>
                    </a:lnTo>
                    <a:lnTo>
                      <a:pt x="49" y="68"/>
                    </a:lnTo>
                    <a:lnTo>
                      <a:pt x="59" y="90"/>
                    </a:lnTo>
                    <a:lnTo>
                      <a:pt x="69" y="112"/>
                    </a:lnTo>
                    <a:lnTo>
                      <a:pt x="78" y="130"/>
                    </a:lnTo>
                    <a:lnTo>
                      <a:pt x="84" y="145"/>
                    </a:lnTo>
                    <a:lnTo>
                      <a:pt x="87" y="157"/>
                    </a:lnTo>
                    <a:lnTo>
                      <a:pt x="89" y="167"/>
                    </a:lnTo>
                    <a:lnTo>
                      <a:pt x="89" y="175"/>
                    </a:lnTo>
                    <a:lnTo>
                      <a:pt x="86" y="178"/>
                    </a:lnTo>
                    <a:lnTo>
                      <a:pt x="85" y="179"/>
                    </a:lnTo>
                    <a:lnTo>
                      <a:pt x="84" y="180"/>
                    </a:lnTo>
                    <a:lnTo>
                      <a:pt x="82" y="179"/>
                    </a:lnTo>
                    <a:lnTo>
                      <a:pt x="80" y="178"/>
                    </a:lnTo>
                    <a:lnTo>
                      <a:pt x="76" y="172"/>
                    </a:lnTo>
                    <a:lnTo>
                      <a:pt x="69" y="163"/>
                    </a:lnTo>
                    <a:lnTo>
                      <a:pt x="62" y="151"/>
                    </a:lnTo>
                    <a:lnTo>
                      <a:pt x="55" y="139"/>
                    </a:lnTo>
                    <a:lnTo>
                      <a:pt x="49" y="126"/>
                    </a:lnTo>
                    <a:lnTo>
                      <a:pt x="43" y="113"/>
                    </a:lnTo>
                    <a:lnTo>
                      <a:pt x="38" y="100"/>
                    </a:lnTo>
                    <a:lnTo>
                      <a:pt x="32" y="88"/>
                    </a:lnTo>
                    <a:lnTo>
                      <a:pt x="27" y="75"/>
                    </a:lnTo>
                    <a:lnTo>
                      <a:pt x="23" y="64"/>
                    </a:lnTo>
                    <a:close/>
                  </a:path>
                </a:pathLst>
              </a:custGeom>
              <a:solidFill>
                <a:srgbClr val="dea3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5635440" y="3729240"/>
                <a:ext cx="24120" cy="47520"/>
              </a:xfrm>
              <a:custGeom>
                <a:avLst/>
                <a:gdLst/>
                <a:ahLst/>
                <a:rect l="l" t="t" r="r" b="b"/>
                <a:pathLst>
                  <a:path w="76" h="153">
                    <a:moveTo>
                      <a:pt x="21" y="22"/>
                    </a:moveTo>
                    <a:lnTo>
                      <a:pt x="23" y="25"/>
                    </a:lnTo>
                    <a:lnTo>
                      <a:pt x="27" y="34"/>
                    </a:lnTo>
                    <a:lnTo>
                      <a:pt x="34" y="47"/>
                    </a:lnTo>
                    <a:lnTo>
                      <a:pt x="43" y="63"/>
                    </a:lnTo>
                    <a:lnTo>
                      <a:pt x="50" y="80"/>
                    </a:lnTo>
                    <a:lnTo>
                      <a:pt x="59" y="98"/>
                    </a:lnTo>
                    <a:lnTo>
                      <a:pt x="65" y="115"/>
                    </a:lnTo>
                    <a:lnTo>
                      <a:pt x="71" y="128"/>
                    </a:lnTo>
                    <a:lnTo>
                      <a:pt x="74" y="140"/>
                    </a:lnTo>
                    <a:lnTo>
                      <a:pt x="76" y="147"/>
                    </a:lnTo>
                    <a:lnTo>
                      <a:pt x="76" y="152"/>
                    </a:lnTo>
                    <a:lnTo>
                      <a:pt x="75" y="153"/>
                    </a:lnTo>
                    <a:lnTo>
                      <a:pt x="73" y="151"/>
                    </a:lnTo>
                    <a:lnTo>
                      <a:pt x="70" y="145"/>
                    </a:lnTo>
                    <a:lnTo>
                      <a:pt x="65" y="138"/>
                    </a:lnTo>
                    <a:lnTo>
                      <a:pt x="61" y="126"/>
                    </a:lnTo>
                    <a:lnTo>
                      <a:pt x="54" y="113"/>
                    </a:lnTo>
                    <a:lnTo>
                      <a:pt x="49" y="102"/>
                    </a:lnTo>
                    <a:lnTo>
                      <a:pt x="45" y="91"/>
                    </a:lnTo>
                    <a:lnTo>
                      <a:pt x="40" y="80"/>
                    </a:lnTo>
                    <a:lnTo>
                      <a:pt x="37" y="72"/>
                    </a:lnTo>
                    <a:lnTo>
                      <a:pt x="33" y="62"/>
                    </a:lnTo>
                    <a:lnTo>
                      <a:pt x="30" y="54"/>
                    </a:lnTo>
                    <a:lnTo>
                      <a:pt x="26" y="47"/>
                    </a:lnTo>
                    <a:lnTo>
                      <a:pt x="19" y="31"/>
                    </a:lnTo>
                    <a:lnTo>
                      <a:pt x="11" y="18"/>
                    </a:lnTo>
                    <a:lnTo>
                      <a:pt x="6" y="8"/>
                    </a:lnTo>
                    <a:lnTo>
                      <a:pt x="2" y="2"/>
                    </a:lnTo>
                    <a:lnTo>
                      <a:pt x="0" y="0"/>
                    </a:lnTo>
                    <a:lnTo>
                      <a:pt x="3" y="3"/>
                    </a:lnTo>
                    <a:lnTo>
                      <a:pt x="9" y="10"/>
                    </a:lnTo>
                    <a:lnTo>
                      <a:pt x="21" y="22"/>
                    </a:lnTo>
                    <a:close/>
                  </a:path>
                </a:pathLst>
              </a:custGeom>
              <a:solidFill>
                <a:srgbClr val="e7a9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5549760" y="3495600"/>
                <a:ext cx="181080" cy="166680"/>
              </a:xfrm>
              <a:custGeom>
                <a:avLst/>
                <a:gdLst/>
                <a:ahLst/>
                <a:rect l="l" t="t" r="r" b="b"/>
                <a:pathLst>
                  <a:path w="571" h="523">
                    <a:moveTo>
                      <a:pt x="306" y="12"/>
                    </a:moveTo>
                    <a:lnTo>
                      <a:pt x="302" y="11"/>
                    </a:lnTo>
                    <a:lnTo>
                      <a:pt x="291" y="9"/>
                    </a:lnTo>
                    <a:lnTo>
                      <a:pt x="274" y="6"/>
                    </a:lnTo>
                    <a:lnTo>
                      <a:pt x="252" y="2"/>
                    </a:lnTo>
                    <a:lnTo>
                      <a:pt x="240" y="1"/>
                    </a:lnTo>
                    <a:lnTo>
                      <a:pt x="227" y="0"/>
                    </a:lnTo>
                    <a:lnTo>
                      <a:pt x="213" y="0"/>
                    </a:lnTo>
                    <a:lnTo>
                      <a:pt x="199" y="1"/>
                    </a:lnTo>
                    <a:lnTo>
                      <a:pt x="185" y="2"/>
                    </a:lnTo>
                    <a:lnTo>
                      <a:pt x="171" y="5"/>
                    </a:lnTo>
                    <a:lnTo>
                      <a:pt x="157" y="8"/>
                    </a:lnTo>
                    <a:lnTo>
                      <a:pt x="143" y="12"/>
                    </a:lnTo>
                    <a:lnTo>
                      <a:pt x="130" y="19"/>
                    </a:lnTo>
                    <a:lnTo>
                      <a:pt x="116" y="25"/>
                    </a:lnTo>
                    <a:lnTo>
                      <a:pt x="104" y="32"/>
                    </a:lnTo>
                    <a:lnTo>
                      <a:pt x="91" y="39"/>
                    </a:lnTo>
                    <a:lnTo>
                      <a:pt x="79" y="47"/>
                    </a:lnTo>
                    <a:lnTo>
                      <a:pt x="68" y="55"/>
                    </a:lnTo>
                    <a:lnTo>
                      <a:pt x="58" y="65"/>
                    </a:lnTo>
                    <a:lnTo>
                      <a:pt x="48" y="75"/>
                    </a:lnTo>
                    <a:lnTo>
                      <a:pt x="38" y="86"/>
                    </a:lnTo>
                    <a:lnTo>
                      <a:pt x="30" y="96"/>
                    </a:lnTo>
                    <a:lnTo>
                      <a:pt x="22" y="108"/>
                    </a:lnTo>
                    <a:lnTo>
                      <a:pt x="16" y="121"/>
                    </a:lnTo>
                    <a:lnTo>
                      <a:pt x="10" y="134"/>
                    </a:lnTo>
                    <a:lnTo>
                      <a:pt x="7" y="148"/>
                    </a:lnTo>
                    <a:lnTo>
                      <a:pt x="4" y="162"/>
                    </a:lnTo>
                    <a:lnTo>
                      <a:pt x="1" y="178"/>
                    </a:lnTo>
                    <a:lnTo>
                      <a:pt x="0" y="205"/>
                    </a:lnTo>
                    <a:lnTo>
                      <a:pt x="0" y="228"/>
                    </a:lnTo>
                    <a:lnTo>
                      <a:pt x="0" y="246"/>
                    </a:lnTo>
                    <a:lnTo>
                      <a:pt x="1" y="260"/>
                    </a:lnTo>
                    <a:lnTo>
                      <a:pt x="3" y="270"/>
                    </a:lnTo>
                    <a:lnTo>
                      <a:pt x="4" y="277"/>
                    </a:lnTo>
                    <a:lnTo>
                      <a:pt x="4" y="281"/>
                    </a:lnTo>
                    <a:lnTo>
                      <a:pt x="5" y="282"/>
                    </a:lnTo>
                    <a:lnTo>
                      <a:pt x="7" y="278"/>
                    </a:lnTo>
                    <a:lnTo>
                      <a:pt x="14" y="267"/>
                    </a:lnTo>
                    <a:lnTo>
                      <a:pt x="27" y="253"/>
                    </a:lnTo>
                    <a:lnTo>
                      <a:pt x="46" y="236"/>
                    </a:lnTo>
                    <a:lnTo>
                      <a:pt x="57" y="227"/>
                    </a:lnTo>
                    <a:lnTo>
                      <a:pt x="68" y="218"/>
                    </a:lnTo>
                    <a:lnTo>
                      <a:pt x="81" y="210"/>
                    </a:lnTo>
                    <a:lnTo>
                      <a:pt x="97" y="202"/>
                    </a:lnTo>
                    <a:lnTo>
                      <a:pt x="112" y="196"/>
                    </a:lnTo>
                    <a:lnTo>
                      <a:pt x="129" y="191"/>
                    </a:lnTo>
                    <a:lnTo>
                      <a:pt x="146" y="187"/>
                    </a:lnTo>
                    <a:lnTo>
                      <a:pt x="166" y="185"/>
                    </a:lnTo>
                    <a:lnTo>
                      <a:pt x="184" y="185"/>
                    </a:lnTo>
                    <a:lnTo>
                      <a:pt x="202" y="187"/>
                    </a:lnTo>
                    <a:lnTo>
                      <a:pt x="219" y="190"/>
                    </a:lnTo>
                    <a:lnTo>
                      <a:pt x="234" y="196"/>
                    </a:lnTo>
                    <a:lnTo>
                      <a:pt x="248" y="203"/>
                    </a:lnTo>
                    <a:lnTo>
                      <a:pt x="261" y="211"/>
                    </a:lnTo>
                    <a:lnTo>
                      <a:pt x="273" y="221"/>
                    </a:lnTo>
                    <a:lnTo>
                      <a:pt x="283" y="231"/>
                    </a:lnTo>
                    <a:lnTo>
                      <a:pt x="293" y="243"/>
                    </a:lnTo>
                    <a:lnTo>
                      <a:pt x="302" y="256"/>
                    </a:lnTo>
                    <a:lnTo>
                      <a:pt x="309" y="271"/>
                    </a:lnTo>
                    <a:lnTo>
                      <a:pt x="317" y="285"/>
                    </a:lnTo>
                    <a:lnTo>
                      <a:pt x="323" y="302"/>
                    </a:lnTo>
                    <a:lnTo>
                      <a:pt x="329" y="319"/>
                    </a:lnTo>
                    <a:lnTo>
                      <a:pt x="334" y="336"/>
                    </a:lnTo>
                    <a:lnTo>
                      <a:pt x="339" y="353"/>
                    </a:lnTo>
                    <a:lnTo>
                      <a:pt x="347" y="389"/>
                    </a:lnTo>
                    <a:lnTo>
                      <a:pt x="357" y="424"/>
                    </a:lnTo>
                    <a:lnTo>
                      <a:pt x="362" y="441"/>
                    </a:lnTo>
                    <a:lnTo>
                      <a:pt x="369" y="456"/>
                    </a:lnTo>
                    <a:lnTo>
                      <a:pt x="374" y="471"/>
                    </a:lnTo>
                    <a:lnTo>
                      <a:pt x="381" y="484"/>
                    </a:lnTo>
                    <a:lnTo>
                      <a:pt x="388" y="496"/>
                    </a:lnTo>
                    <a:lnTo>
                      <a:pt x="395" y="506"/>
                    </a:lnTo>
                    <a:lnTo>
                      <a:pt x="402" y="513"/>
                    </a:lnTo>
                    <a:lnTo>
                      <a:pt x="410" y="519"/>
                    </a:lnTo>
                    <a:lnTo>
                      <a:pt x="414" y="521"/>
                    </a:lnTo>
                    <a:lnTo>
                      <a:pt x="418" y="522"/>
                    </a:lnTo>
                    <a:lnTo>
                      <a:pt x="423" y="523"/>
                    </a:lnTo>
                    <a:lnTo>
                      <a:pt x="427" y="523"/>
                    </a:lnTo>
                    <a:lnTo>
                      <a:pt x="431" y="522"/>
                    </a:lnTo>
                    <a:lnTo>
                      <a:pt x="436" y="520"/>
                    </a:lnTo>
                    <a:lnTo>
                      <a:pt x="440" y="518"/>
                    </a:lnTo>
                    <a:lnTo>
                      <a:pt x="444" y="514"/>
                    </a:lnTo>
                    <a:lnTo>
                      <a:pt x="453" y="507"/>
                    </a:lnTo>
                    <a:lnTo>
                      <a:pt x="461" y="498"/>
                    </a:lnTo>
                    <a:lnTo>
                      <a:pt x="468" y="489"/>
                    </a:lnTo>
                    <a:lnTo>
                      <a:pt x="474" y="479"/>
                    </a:lnTo>
                    <a:lnTo>
                      <a:pt x="478" y="469"/>
                    </a:lnTo>
                    <a:lnTo>
                      <a:pt x="482" y="457"/>
                    </a:lnTo>
                    <a:lnTo>
                      <a:pt x="484" y="445"/>
                    </a:lnTo>
                    <a:lnTo>
                      <a:pt x="487" y="432"/>
                    </a:lnTo>
                    <a:lnTo>
                      <a:pt x="487" y="418"/>
                    </a:lnTo>
                    <a:lnTo>
                      <a:pt x="487" y="404"/>
                    </a:lnTo>
                    <a:lnTo>
                      <a:pt x="485" y="388"/>
                    </a:lnTo>
                    <a:lnTo>
                      <a:pt x="483" y="372"/>
                    </a:lnTo>
                    <a:lnTo>
                      <a:pt x="481" y="354"/>
                    </a:lnTo>
                    <a:lnTo>
                      <a:pt x="477" y="336"/>
                    </a:lnTo>
                    <a:lnTo>
                      <a:pt x="472" y="317"/>
                    </a:lnTo>
                    <a:lnTo>
                      <a:pt x="467" y="296"/>
                    </a:lnTo>
                    <a:lnTo>
                      <a:pt x="462" y="278"/>
                    </a:lnTo>
                    <a:lnTo>
                      <a:pt x="457" y="262"/>
                    </a:lnTo>
                    <a:lnTo>
                      <a:pt x="455" y="248"/>
                    </a:lnTo>
                    <a:lnTo>
                      <a:pt x="454" y="237"/>
                    </a:lnTo>
                    <a:lnTo>
                      <a:pt x="454" y="228"/>
                    </a:lnTo>
                    <a:lnTo>
                      <a:pt x="456" y="222"/>
                    </a:lnTo>
                    <a:lnTo>
                      <a:pt x="460" y="217"/>
                    </a:lnTo>
                    <a:lnTo>
                      <a:pt x="464" y="215"/>
                    </a:lnTo>
                    <a:lnTo>
                      <a:pt x="469" y="214"/>
                    </a:lnTo>
                    <a:lnTo>
                      <a:pt x="476" y="214"/>
                    </a:lnTo>
                    <a:lnTo>
                      <a:pt x="483" y="215"/>
                    </a:lnTo>
                    <a:lnTo>
                      <a:pt x="492" y="217"/>
                    </a:lnTo>
                    <a:lnTo>
                      <a:pt x="511" y="224"/>
                    </a:lnTo>
                    <a:lnTo>
                      <a:pt x="534" y="230"/>
                    </a:lnTo>
                    <a:lnTo>
                      <a:pt x="544" y="232"/>
                    </a:lnTo>
                    <a:lnTo>
                      <a:pt x="554" y="235"/>
                    </a:lnTo>
                    <a:lnTo>
                      <a:pt x="560" y="235"/>
                    </a:lnTo>
                    <a:lnTo>
                      <a:pt x="565" y="235"/>
                    </a:lnTo>
                    <a:lnTo>
                      <a:pt x="569" y="233"/>
                    </a:lnTo>
                    <a:lnTo>
                      <a:pt x="571" y="231"/>
                    </a:lnTo>
                    <a:lnTo>
                      <a:pt x="571" y="228"/>
                    </a:lnTo>
                    <a:lnTo>
                      <a:pt x="570" y="225"/>
                    </a:lnTo>
                    <a:lnTo>
                      <a:pt x="568" y="219"/>
                    </a:lnTo>
                    <a:lnTo>
                      <a:pt x="563" y="214"/>
                    </a:lnTo>
                    <a:lnTo>
                      <a:pt x="557" y="208"/>
                    </a:lnTo>
                    <a:lnTo>
                      <a:pt x="549" y="200"/>
                    </a:lnTo>
                    <a:lnTo>
                      <a:pt x="531" y="183"/>
                    </a:lnTo>
                    <a:lnTo>
                      <a:pt x="506" y="163"/>
                    </a:lnTo>
                    <a:lnTo>
                      <a:pt x="478" y="142"/>
                    </a:lnTo>
                    <a:lnTo>
                      <a:pt x="449" y="118"/>
                    </a:lnTo>
                    <a:lnTo>
                      <a:pt x="418" y="95"/>
                    </a:lnTo>
                    <a:lnTo>
                      <a:pt x="390" y="71"/>
                    </a:lnTo>
                    <a:lnTo>
                      <a:pt x="364" y="51"/>
                    </a:lnTo>
                    <a:lnTo>
                      <a:pt x="341" y="34"/>
                    </a:lnTo>
                    <a:lnTo>
                      <a:pt x="330" y="26"/>
                    </a:lnTo>
                    <a:lnTo>
                      <a:pt x="321" y="20"/>
                    </a:lnTo>
                    <a:lnTo>
                      <a:pt x="313" y="15"/>
                    </a:lnTo>
                    <a:lnTo>
                      <a:pt x="306" y="12"/>
                    </a:lnTo>
                    <a:close/>
                  </a:path>
                </a:pathLst>
              </a:custGeom>
              <a:solidFill>
                <a:srgbClr val="e7a9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5551560" y="3495600"/>
                <a:ext cx="176040" cy="163800"/>
              </a:xfrm>
              <a:custGeom>
                <a:avLst/>
                <a:gdLst/>
                <a:ahLst/>
                <a:rect l="l" t="t" r="r" b="b"/>
                <a:pathLst>
                  <a:path w="555" h="511">
                    <a:moveTo>
                      <a:pt x="161" y="168"/>
                    </a:moveTo>
                    <a:lnTo>
                      <a:pt x="142" y="170"/>
                    </a:lnTo>
                    <a:lnTo>
                      <a:pt x="124" y="174"/>
                    </a:lnTo>
                    <a:lnTo>
                      <a:pt x="107" y="178"/>
                    </a:lnTo>
                    <a:lnTo>
                      <a:pt x="92" y="184"/>
                    </a:lnTo>
                    <a:lnTo>
                      <a:pt x="79" y="190"/>
                    </a:lnTo>
                    <a:lnTo>
                      <a:pt x="66" y="197"/>
                    </a:lnTo>
                    <a:lnTo>
                      <a:pt x="54" y="204"/>
                    </a:lnTo>
                    <a:lnTo>
                      <a:pt x="44" y="212"/>
                    </a:lnTo>
                    <a:lnTo>
                      <a:pt x="28" y="226"/>
                    </a:lnTo>
                    <a:lnTo>
                      <a:pt x="17" y="238"/>
                    </a:lnTo>
                    <a:lnTo>
                      <a:pt x="10" y="246"/>
                    </a:lnTo>
                    <a:lnTo>
                      <a:pt x="8" y="250"/>
                    </a:lnTo>
                    <a:lnTo>
                      <a:pt x="8" y="249"/>
                    </a:lnTo>
                    <a:lnTo>
                      <a:pt x="5" y="246"/>
                    </a:lnTo>
                    <a:lnTo>
                      <a:pt x="3" y="242"/>
                    </a:lnTo>
                    <a:lnTo>
                      <a:pt x="2" y="235"/>
                    </a:lnTo>
                    <a:lnTo>
                      <a:pt x="1" y="223"/>
                    </a:lnTo>
                    <a:lnTo>
                      <a:pt x="0" y="206"/>
                    </a:lnTo>
                    <a:lnTo>
                      <a:pt x="2" y="186"/>
                    </a:lnTo>
                    <a:lnTo>
                      <a:pt x="5" y="158"/>
                    </a:lnTo>
                    <a:lnTo>
                      <a:pt x="8" y="146"/>
                    </a:lnTo>
                    <a:lnTo>
                      <a:pt x="10" y="133"/>
                    </a:lnTo>
                    <a:lnTo>
                      <a:pt x="14" y="121"/>
                    </a:lnTo>
                    <a:lnTo>
                      <a:pt x="18" y="110"/>
                    </a:lnTo>
                    <a:lnTo>
                      <a:pt x="24" y="100"/>
                    </a:lnTo>
                    <a:lnTo>
                      <a:pt x="30" y="90"/>
                    </a:lnTo>
                    <a:lnTo>
                      <a:pt x="38" y="80"/>
                    </a:lnTo>
                    <a:lnTo>
                      <a:pt x="45" y="70"/>
                    </a:lnTo>
                    <a:lnTo>
                      <a:pt x="54" y="62"/>
                    </a:lnTo>
                    <a:lnTo>
                      <a:pt x="64" y="53"/>
                    </a:lnTo>
                    <a:lnTo>
                      <a:pt x="74" y="46"/>
                    </a:lnTo>
                    <a:lnTo>
                      <a:pt x="84" y="38"/>
                    </a:lnTo>
                    <a:lnTo>
                      <a:pt x="96" y="30"/>
                    </a:lnTo>
                    <a:lnTo>
                      <a:pt x="108" y="24"/>
                    </a:lnTo>
                    <a:lnTo>
                      <a:pt x="121" y="19"/>
                    </a:lnTo>
                    <a:lnTo>
                      <a:pt x="134" y="12"/>
                    </a:lnTo>
                    <a:lnTo>
                      <a:pt x="148" y="8"/>
                    </a:lnTo>
                    <a:lnTo>
                      <a:pt x="162" y="5"/>
                    </a:lnTo>
                    <a:lnTo>
                      <a:pt x="176" y="2"/>
                    </a:lnTo>
                    <a:lnTo>
                      <a:pt x="190" y="1"/>
                    </a:lnTo>
                    <a:lnTo>
                      <a:pt x="204" y="0"/>
                    </a:lnTo>
                    <a:lnTo>
                      <a:pt x="218" y="0"/>
                    </a:lnTo>
                    <a:lnTo>
                      <a:pt x="231" y="1"/>
                    </a:lnTo>
                    <a:lnTo>
                      <a:pt x="243" y="2"/>
                    </a:lnTo>
                    <a:lnTo>
                      <a:pt x="265" y="6"/>
                    </a:lnTo>
                    <a:lnTo>
                      <a:pt x="282" y="9"/>
                    </a:lnTo>
                    <a:lnTo>
                      <a:pt x="293" y="11"/>
                    </a:lnTo>
                    <a:lnTo>
                      <a:pt x="297" y="12"/>
                    </a:lnTo>
                    <a:lnTo>
                      <a:pt x="304" y="15"/>
                    </a:lnTo>
                    <a:lnTo>
                      <a:pt x="312" y="20"/>
                    </a:lnTo>
                    <a:lnTo>
                      <a:pt x="321" y="26"/>
                    </a:lnTo>
                    <a:lnTo>
                      <a:pt x="332" y="34"/>
                    </a:lnTo>
                    <a:lnTo>
                      <a:pt x="355" y="51"/>
                    </a:lnTo>
                    <a:lnTo>
                      <a:pt x="381" y="71"/>
                    </a:lnTo>
                    <a:lnTo>
                      <a:pt x="409" y="95"/>
                    </a:lnTo>
                    <a:lnTo>
                      <a:pt x="440" y="118"/>
                    </a:lnTo>
                    <a:lnTo>
                      <a:pt x="469" y="142"/>
                    </a:lnTo>
                    <a:lnTo>
                      <a:pt x="497" y="163"/>
                    </a:lnTo>
                    <a:lnTo>
                      <a:pt x="521" y="183"/>
                    </a:lnTo>
                    <a:lnTo>
                      <a:pt x="539" y="199"/>
                    </a:lnTo>
                    <a:lnTo>
                      <a:pt x="546" y="205"/>
                    </a:lnTo>
                    <a:lnTo>
                      <a:pt x="550" y="212"/>
                    </a:lnTo>
                    <a:lnTo>
                      <a:pt x="553" y="216"/>
                    </a:lnTo>
                    <a:lnTo>
                      <a:pt x="555" y="221"/>
                    </a:lnTo>
                    <a:lnTo>
                      <a:pt x="555" y="224"/>
                    </a:lnTo>
                    <a:lnTo>
                      <a:pt x="554" y="226"/>
                    </a:lnTo>
                    <a:lnTo>
                      <a:pt x="551" y="228"/>
                    </a:lnTo>
                    <a:lnTo>
                      <a:pt x="547" y="228"/>
                    </a:lnTo>
                    <a:lnTo>
                      <a:pt x="541" y="228"/>
                    </a:lnTo>
                    <a:lnTo>
                      <a:pt x="534" y="227"/>
                    </a:lnTo>
                    <a:lnTo>
                      <a:pt x="525" y="225"/>
                    </a:lnTo>
                    <a:lnTo>
                      <a:pt x="514" y="223"/>
                    </a:lnTo>
                    <a:lnTo>
                      <a:pt x="495" y="216"/>
                    </a:lnTo>
                    <a:lnTo>
                      <a:pt x="476" y="210"/>
                    </a:lnTo>
                    <a:lnTo>
                      <a:pt x="469" y="208"/>
                    </a:lnTo>
                    <a:lnTo>
                      <a:pt x="461" y="206"/>
                    </a:lnTo>
                    <a:lnTo>
                      <a:pt x="455" y="206"/>
                    </a:lnTo>
                    <a:lnTo>
                      <a:pt x="449" y="208"/>
                    </a:lnTo>
                    <a:lnTo>
                      <a:pt x="445" y="211"/>
                    </a:lnTo>
                    <a:lnTo>
                      <a:pt x="442" y="216"/>
                    </a:lnTo>
                    <a:lnTo>
                      <a:pt x="440" y="223"/>
                    </a:lnTo>
                    <a:lnTo>
                      <a:pt x="440" y="232"/>
                    </a:lnTo>
                    <a:lnTo>
                      <a:pt x="440" y="244"/>
                    </a:lnTo>
                    <a:lnTo>
                      <a:pt x="443" y="259"/>
                    </a:lnTo>
                    <a:lnTo>
                      <a:pt x="447" y="278"/>
                    </a:lnTo>
                    <a:lnTo>
                      <a:pt x="453" y="299"/>
                    </a:lnTo>
                    <a:lnTo>
                      <a:pt x="463" y="338"/>
                    </a:lnTo>
                    <a:lnTo>
                      <a:pt x="471" y="373"/>
                    </a:lnTo>
                    <a:lnTo>
                      <a:pt x="473" y="388"/>
                    </a:lnTo>
                    <a:lnTo>
                      <a:pt x="474" y="402"/>
                    </a:lnTo>
                    <a:lnTo>
                      <a:pt x="475" y="416"/>
                    </a:lnTo>
                    <a:lnTo>
                      <a:pt x="474" y="429"/>
                    </a:lnTo>
                    <a:lnTo>
                      <a:pt x="473" y="441"/>
                    </a:lnTo>
                    <a:lnTo>
                      <a:pt x="471" y="452"/>
                    </a:lnTo>
                    <a:lnTo>
                      <a:pt x="468" y="461"/>
                    </a:lnTo>
                    <a:lnTo>
                      <a:pt x="463" y="471"/>
                    </a:lnTo>
                    <a:lnTo>
                      <a:pt x="458" y="480"/>
                    </a:lnTo>
                    <a:lnTo>
                      <a:pt x="452" y="488"/>
                    </a:lnTo>
                    <a:lnTo>
                      <a:pt x="444" y="497"/>
                    </a:lnTo>
                    <a:lnTo>
                      <a:pt x="435" y="505"/>
                    </a:lnTo>
                    <a:lnTo>
                      <a:pt x="431" y="507"/>
                    </a:lnTo>
                    <a:lnTo>
                      <a:pt x="428" y="509"/>
                    </a:lnTo>
                    <a:lnTo>
                      <a:pt x="424" y="511"/>
                    </a:lnTo>
                    <a:lnTo>
                      <a:pt x="419" y="511"/>
                    </a:lnTo>
                    <a:lnTo>
                      <a:pt x="416" y="511"/>
                    </a:lnTo>
                    <a:lnTo>
                      <a:pt x="412" y="510"/>
                    </a:lnTo>
                    <a:lnTo>
                      <a:pt x="408" y="509"/>
                    </a:lnTo>
                    <a:lnTo>
                      <a:pt x="404" y="507"/>
                    </a:lnTo>
                    <a:lnTo>
                      <a:pt x="398" y="501"/>
                    </a:lnTo>
                    <a:lnTo>
                      <a:pt x="390" y="494"/>
                    </a:lnTo>
                    <a:lnTo>
                      <a:pt x="384" y="483"/>
                    </a:lnTo>
                    <a:lnTo>
                      <a:pt x="378" y="472"/>
                    </a:lnTo>
                    <a:lnTo>
                      <a:pt x="372" y="459"/>
                    </a:lnTo>
                    <a:lnTo>
                      <a:pt x="366" y="444"/>
                    </a:lnTo>
                    <a:lnTo>
                      <a:pt x="361" y="429"/>
                    </a:lnTo>
                    <a:lnTo>
                      <a:pt x="355" y="412"/>
                    </a:lnTo>
                    <a:lnTo>
                      <a:pt x="346" y="377"/>
                    </a:lnTo>
                    <a:lnTo>
                      <a:pt x="337" y="341"/>
                    </a:lnTo>
                    <a:lnTo>
                      <a:pt x="332" y="323"/>
                    </a:lnTo>
                    <a:lnTo>
                      <a:pt x="327" y="307"/>
                    </a:lnTo>
                    <a:lnTo>
                      <a:pt x="321" y="290"/>
                    </a:lnTo>
                    <a:lnTo>
                      <a:pt x="314" y="273"/>
                    </a:lnTo>
                    <a:lnTo>
                      <a:pt x="308" y="258"/>
                    </a:lnTo>
                    <a:lnTo>
                      <a:pt x="299" y="244"/>
                    </a:lnTo>
                    <a:lnTo>
                      <a:pt x="291" y="230"/>
                    </a:lnTo>
                    <a:lnTo>
                      <a:pt x="281" y="217"/>
                    </a:lnTo>
                    <a:lnTo>
                      <a:pt x="269" y="206"/>
                    </a:lnTo>
                    <a:lnTo>
                      <a:pt x="257" y="196"/>
                    </a:lnTo>
                    <a:lnTo>
                      <a:pt x="244" y="187"/>
                    </a:lnTo>
                    <a:lnTo>
                      <a:pt x="230" y="179"/>
                    </a:lnTo>
                    <a:lnTo>
                      <a:pt x="215" y="174"/>
                    </a:lnTo>
                    <a:lnTo>
                      <a:pt x="198" y="170"/>
                    </a:lnTo>
                    <a:lnTo>
                      <a:pt x="180" y="169"/>
                    </a:lnTo>
                    <a:lnTo>
                      <a:pt x="161" y="168"/>
                    </a:lnTo>
                    <a:close/>
                  </a:path>
                </a:pathLst>
              </a:custGeom>
              <a:solidFill>
                <a:srgbClr val="e9ac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5554800" y="3495600"/>
                <a:ext cx="171360" cy="158760"/>
              </a:xfrm>
              <a:custGeom>
                <a:avLst/>
                <a:gdLst/>
                <a:ahLst/>
                <a:rect l="l" t="t" r="r" b="b"/>
                <a:pathLst>
                  <a:path w="540" h="497">
                    <a:moveTo>
                      <a:pt x="156" y="154"/>
                    </a:moveTo>
                    <a:lnTo>
                      <a:pt x="137" y="155"/>
                    </a:lnTo>
                    <a:lnTo>
                      <a:pt x="120" y="158"/>
                    </a:lnTo>
                    <a:lnTo>
                      <a:pt x="103" y="161"/>
                    </a:lnTo>
                    <a:lnTo>
                      <a:pt x="88" y="165"/>
                    </a:lnTo>
                    <a:lnTo>
                      <a:pt x="75" y="171"/>
                    </a:lnTo>
                    <a:lnTo>
                      <a:pt x="64" y="176"/>
                    </a:lnTo>
                    <a:lnTo>
                      <a:pt x="54" y="182"/>
                    </a:lnTo>
                    <a:lnTo>
                      <a:pt x="44" y="187"/>
                    </a:lnTo>
                    <a:lnTo>
                      <a:pt x="30" y="199"/>
                    </a:lnTo>
                    <a:lnTo>
                      <a:pt x="20" y="209"/>
                    </a:lnTo>
                    <a:lnTo>
                      <a:pt x="15" y="215"/>
                    </a:lnTo>
                    <a:lnTo>
                      <a:pt x="13" y="217"/>
                    </a:lnTo>
                    <a:lnTo>
                      <a:pt x="12" y="217"/>
                    </a:lnTo>
                    <a:lnTo>
                      <a:pt x="9" y="216"/>
                    </a:lnTo>
                    <a:lnTo>
                      <a:pt x="6" y="213"/>
                    </a:lnTo>
                    <a:lnTo>
                      <a:pt x="3" y="208"/>
                    </a:lnTo>
                    <a:lnTo>
                      <a:pt x="2" y="203"/>
                    </a:lnTo>
                    <a:lnTo>
                      <a:pt x="1" y="198"/>
                    </a:lnTo>
                    <a:lnTo>
                      <a:pt x="0" y="191"/>
                    </a:lnTo>
                    <a:lnTo>
                      <a:pt x="0" y="184"/>
                    </a:lnTo>
                    <a:lnTo>
                      <a:pt x="1" y="175"/>
                    </a:lnTo>
                    <a:lnTo>
                      <a:pt x="2" y="164"/>
                    </a:lnTo>
                    <a:lnTo>
                      <a:pt x="4" y="152"/>
                    </a:lnTo>
                    <a:lnTo>
                      <a:pt x="7" y="138"/>
                    </a:lnTo>
                    <a:lnTo>
                      <a:pt x="9" y="129"/>
                    </a:lnTo>
                    <a:lnTo>
                      <a:pt x="12" y="119"/>
                    </a:lnTo>
                    <a:lnTo>
                      <a:pt x="15" y="109"/>
                    </a:lnTo>
                    <a:lnTo>
                      <a:pt x="19" y="100"/>
                    </a:lnTo>
                    <a:lnTo>
                      <a:pt x="24" y="91"/>
                    </a:lnTo>
                    <a:lnTo>
                      <a:pt x="29" y="82"/>
                    </a:lnTo>
                    <a:lnTo>
                      <a:pt x="34" y="74"/>
                    </a:lnTo>
                    <a:lnTo>
                      <a:pt x="42" y="66"/>
                    </a:lnTo>
                    <a:lnTo>
                      <a:pt x="49" y="59"/>
                    </a:lnTo>
                    <a:lnTo>
                      <a:pt x="58" y="51"/>
                    </a:lnTo>
                    <a:lnTo>
                      <a:pt x="67" y="43"/>
                    </a:lnTo>
                    <a:lnTo>
                      <a:pt x="76" y="37"/>
                    </a:lnTo>
                    <a:lnTo>
                      <a:pt x="87" y="30"/>
                    </a:lnTo>
                    <a:lnTo>
                      <a:pt x="99" y="24"/>
                    </a:lnTo>
                    <a:lnTo>
                      <a:pt x="111" y="19"/>
                    </a:lnTo>
                    <a:lnTo>
                      <a:pt x="124" y="12"/>
                    </a:lnTo>
                    <a:lnTo>
                      <a:pt x="138" y="8"/>
                    </a:lnTo>
                    <a:lnTo>
                      <a:pt x="152" y="5"/>
                    </a:lnTo>
                    <a:lnTo>
                      <a:pt x="166" y="2"/>
                    </a:lnTo>
                    <a:lnTo>
                      <a:pt x="180" y="1"/>
                    </a:lnTo>
                    <a:lnTo>
                      <a:pt x="194" y="0"/>
                    </a:lnTo>
                    <a:lnTo>
                      <a:pt x="208" y="0"/>
                    </a:lnTo>
                    <a:lnTo>
                      <a:pt x="221" y="1"/>
                    </a:lnTo>
                    <a:lnTo>
                      <a:pt x="233" y="2"/>
                    </a:lnTo>
                    <a:lnTo>
                      <a:pt x="255" y="6"/>
                    </a:lnTo>
                    <a:lnTo>
                      <a:pt x="272" y="9"/>
                    </a:lnTo>
                    <a:lnTo>
                      <a:pt x="283" y="11"/>
                    </a:lnTo>
                    <a:lnTo>
                      <a:pt x="287" y="12"/>
                    </a:lnTo>
                    <a:lnTo>
                      <a:pt x="294" y="15"/>
                    </a:lnTo>
                    <a:lnTo>
                      <a:pt x="302" y="20"/>
                    </a:lnTo>
                    <a:lnTo>
                      <a:pt x="311" y="26"/>
                    </a:lnTo>
                    <a:lnTo>
                      <a:pt x="322" y="34"/>
                    </a:lnTo>
                    <a:lnTo>
                      <a:pt x="345" y="51"/>
                    </a:lnTo>
                    <a:lnTo>
                      <a:pt x="371" y="71"/>
                    </a:lnTo>
                    <a:lnTo>
                      <a:pt x="399" y="95"/>
                    </a:lnTo>
                    <a:lnTo>
                      <a:pt x="430" y="118"/>
                    </a:lnTo>
                    <a:lnTo>
                      <a:pt x="459" y="142"/>
                    </a:lnTo>
                    <a:lnTo>
                      <a:pt x="487" y="163"/>
                    </a:lnTo>
                    <a:lnTo>
                      <a:pt x="511" y="183"/>
                    </a:lnTo>
                    <a:lnTo>
                      <a:pt x="527" y="198"/>
                    </a:lnTo>
                    <a:lnTo>
                      <a:pt x="532" y="204"/>
                    </a:lnTo>
                    <a:lnTo>
                      <a:pt x="537" y="209"/>
                    </a:lnTo>
                    <a:lnTo>
                      <a:pt x="539" y="213"/>
                    </a:lnTo>
                    <a:lnTo>
                      <a:pt x="540" y="216"/>
                    </a:lnTo>
                    <a:lnTo>
                      <a:pt x="539" y="219"/>
                    </a:lnTo>
                    <a:lnTo>
                      <a:pt x="537" y="221"/>
                    </a:lnTo>
                    <a:lnTo>
                      <a:pt x="533" y="222"/>
                    </a:lnTo>
                    <a:lnTo>
                      <a:pt x="528" y="222"/>
                    </a:lnTo>
                    <a:lnTo>
                      <a:pt x="513" y="218"/>
                    </a:lnTo>
                    <a:lnTo>
                      <a:pt x="492" y="213"/>
                    </a:lnTo>
                    <a:lnTo>
                      <a:pt x="475" y="206"/>
                    </a:lnTo>
                    <a:lnTo>
                      <a:pt x="459" y="201"/>
                    </a:lnTo>
                    <a:lnTo>
                      <a:pt x="451" y="199"/>
                    </a:lnTo>
                    <a:lnTo>
                      <a:pt x="445" y="198"/>
                    </a:lnTo>
                    <a:lnTo>
                      <a:pt x="438" y="199"/>
                    </a:lnTo>
                    <a:lnTo>
                      <a:pt x="433" y="200"/>
                    </a:lnTo>
                    <a:lnTo>
                      <a:pt x="431" y="202"/>
                    </a:lnTo>
                    <a:lnTo>
                      <a:pt x="429" y="203"/>
                    </a:lnTo>
                    <a:lnTo>
                      <a:pt x="426" y="206"/>
                    </a:lnTo>
                    <a:lnTo>
                      <a:pt x="425" y="209"/>
                    </a:lnTo>
                    <a:lnTo>
                      <a:pt x="423" y="217"/>
                    </a:lnTo>
                    <a:lnTo>
                      <a:pt x="422" y="227"/>
                    </a:lnTo>
                    <a:lnTo>
                      <a:pt x="423" y="240"/>
                    </a:lnTo>
                    <a:lnTo>
                      <a:pt x="426" y="256"/>
                    </a:lnTo>
                    <a:lnTo>
                      <a:pt x="431" y="276"/>
                    </a:lnTo>
                    <a:lnTo>
                      <a:pt x="438" y="299"/>
                    </a:lnTo>
                    <a:lnTo>
                      <a:pt x="448" y="338"/>
                    </a:lnTo>
                    <a:lnTo>
                      <a:pt x="457" y="371"/>
                    </a:lnTo>
                    <a:lnTo>
                      <a:pt x="459" y="386"/>
                    </a:lnTo>
                    <a:lnTo>
                      <a:pt x="461" y="399"/>
                    </a:lnTo>
                    <a:lnTo>
                      <a:pt x="462" y="412"/>
                    </a:lnTo>
                    <a:lnTo>
                      <a:pt x="462" y="424"/>
                    </a:lnTo>
                    <a:lnTo>
                      <a:pt x="461" y="434"/>
                    </a:lnTo>
                    <a:lnTo>
                      <a:pt x="460" y="444"/>
                    </a:lnTo>
                    <a:lnTo>
                      <a:pt x="457" y="453"/>
                    </a:lnTo>
                    <a:lnTo>
                      <a:pt x="452" y="461"/>
                    </a:lnTo>
                    <a:lnTo>
                      <a:pt x="448" y="470"/>
                    </a:lnTo>
                    <a:lnTo>
                      <a:pt x="442" y="478"/>
                    </a:lnTo>
                    <a:lnTo>
                      <a:pt x="434" y="485"/>
                    </a:lnTo>
                    <a:lnTo>
                      <a:pt x="425" y="492"/>
                    </a:lnTo>
                    <a:lnTo>
                      <a:pt x="422" y="495"/>
                    </a:lnTo>
                    <a:lnTo>
                      <a:pt x="418" y="496"/>
                    </a:lnTo>
                    <a:lnTo>
                      <a:pt x="415" y="497"/>
                    </a:lnTo>
                    <a:lnTo>
                      <a:pt x="410" y="497"/>
                    </a:lnTo>
                    <a:lnTo>
                      <a:pt x="407" y="497"/>
                    </a:lnTo>
                    <a:lnTo>
                      <a:pt x="404" y="496"/>
                    </a:lnTo>
                    <a:lnTo>
                      <a:pt x="399" y="495"/>
                    </a:lnTo>
                    <a:lnTo>
                      <a:pt x="396" y="493"/>
                    </a:lnTo>
                    <a:lnTo>
                      <a:pt x="390" y="486"/>
                    </a:lnTo>
                    <a:lnTo>
                      <a:pt x="384" y="479"/>
                    </a:lnTo>
                    <a:lnTo>
                      <a:pt x="378" y="469"/>
                    </a:lnTo>
                    <a:lnTo>
                      <a:pt x="372" y="458"/>
                    </a:lnTo>
                    <a:lnTo>
                      <a:pt x="367" y="445"/>
                    </a:lnTo>
                    <a:lnTo>
                      <a:pt x="362" y="431"/>
                    </a:lnTo>
                    <a:lnTo>
                      <a:pt x="356" y="416"/>
                    </a:lnTo>
                    <a:lnTo>
                      <a:pt x="352" y="400"/>
                    </a:lnTo>
                    <a:lnTo>
                      <a:pt x="342" y="366"/>
                    </a:lnTo>
                    <a:lnTo>
                      <a:pt x="334" y="332"/>
                    </a:lnTo>
                    <a:lnTo>
                      <a:pt x="329" y="313"/>
                    </a:lnTo>
                    <a:lnTo>
                      <a:pt x="324" y="296"/>
                    </a:lnTo>
                    <a:lnTo>
                      <a:pt x="318" y="279"/>
                    </a:lnTo>
                    <a:lnTo>
                      <a:pt x="312" y="263"/>
                    </a:lnTo>
                    <a:lnTo>
                      <a:pt x="303" y="246"/>
                    </a:lnTo>
                    <a:lnTo>
                      <a:pt x="296" y="231"/>
                    </a:lnTo>
                    <a:lnTo>
                      <a:pt x="286" y="217"/>
                    </a:lnTo>
                    <a:lnTo>
                      <a:pt x="275" y="204"/>
                    </a:lnTo>
                    <a:lnTo>
                      <a:pt x="264" y="192"/>
                    </a:lnTo>
                    <a:lnTo>
                      <a:pt x="253" y="182"/>
                    </a:lnTo>
                    <a:lnTo>
                      <a:pt x="239" y="172"/>
                    </a:lnTo>
                    <a:lnTo>
                      <a:pt x="224" y="164"/>
                    </a:lnTo>
                    <a:lnTo>
                      <a:pt x="209" y="159"/>
                    </a:lnTo>
                    <a:lnTo>
                      <a:pt x="192" y="155"/>
                    </a:lnTo>
                    <a:lnTo>
                      <a:pt x="183" y="154"/>
                    </a:lnTo>
                    <a:lnTo>
                      <a:pt x="175" y="152"/>
                    </a:lnTo>
                    <a:lnTo>
                      <a:pt x="166" y="152"/>
                    </a:lnTo>
                    <a:lnTo>
                      <a:pt x="156" y="154"/>
                    </a:lnTo>
                    <a:close/>
                  </a:path>
                </a:pathLst>
              </a:custGeom>
              <a:solidFill>
                <a:srgbClr val="edb1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5557680" y="3495600"/>
                <a:ext cx="166680" cy="155880"/>
              </a:xfrm>
              <a:custGeom>
                <a:avLst/>
                <a:gdLst/>
                <a:ahLst/>
                <a:rect l="l" t="t" r="r" b="b"/>
                <a:pathLst>
                  <a:path w="526" h="486">
                    <a:moveTo>
                      <a:pt x="150" y="136"/>
                    </a:moveTo>
                    <a:lnTo>
                      <a:pt x="130" y="137"/>
                    </a:lnTo>
                    <a:lnTo>
                      <a:pt x="113" y="140"/>
                    </a:lnTo>
                    <a:lnTo>
                      <a:pt x="98" y="143"/>
                    </a:lnTo>
                    <a:lnTo>
                      <a:pt x="84" y="146"/>
                    </a:lnTo>
                    <a:lnTo>
                      <a:pt x="72" y="149"/>
                    </a:lnTo>
                    <a:lnTo>
                      <a:pt x="61" y="154"/>
                    </a:lnTo>
                    <a:lnTo>
                      <a:pt x="51" y="158"/>
                    </a:lnTo>
                    <a:lnTo>
                      <a:pt x="43" y="162"/>
                    </a:lnTo>
                    <a:lnTo>
                      <a:pt x="31" y="171"/>
                    </a:lnTo>
                    <a:lnTo>
                      <a:pt x="22" y="178"/>
                    </a:lnTo>
                    <a:lnTo>
                      <a:pt x="18" y="184"/>
                    </a:lnTo>
                    <a:lnTo>
                      <a:pt x="16" y="185"/>
                    </a:lnTo>
                    <a:lnTo>
                      <a:pt x="15" y="186"/>
                    </a:lnTo>
                    <a:lnTo>
                      <a:pt x="11" y="186"/>
                    </a:lnTo>
                    <a:lnTo>
                      <a:pt x="9" y="186"/>
                    </a:lnTo>
                    <a:lnTo>
                      <a:pt x="7" y="185"/>
                    </a:lnTo>
                    <a:lnTo>
                      <a:pt x="5" y="184"/>
                    </a:lnTo>
                    <a:lnTo>
                      <a:pt x="4" y="182"/>
                    </a:lnTo>
                    <a:lnTo>
                      <a:pt x="2" y="179"/>
                    </a:lnTo>
                    <a:lnTo>
                      <a:pt x="0" y="175"/>
                    </a:lnTo>
                    <a:lnTo>
                      <a:pt x="0" y="170"/>
                    </a:lnTo>
                    <a:lnTo>
                      <a:pt x="0" y="163"/>
                    </a:lnTo>
                    <a:lnTo>
                      <a:pt x="2" y="156"/>
                    </a:lnTo>
                    <a:lnTo>
                      <a:pt x="4" y="146"/>
                    </a:lnTo>
                    <a:lnTo>
                      <a:pt x="7" y="134"/>
                    </a:lnTo>
                    <a:lnTo>
                      <a:pt x="11" y="121"/>
                    </a:lnTo>
                    <a:lnTo>
                      <a:pt x="15" y="106"/>
                    </a:lnTo>
                    <a:lnTo>
                      <a:pt x="20" y="91"/>
                    </a:lnTo>
                    <a:lnTo>
                      <a:pt x="24" y="83"/>
                    </a:lnTo>
                    <a:lnTo>
                      <a:pt x="29" y="76"/>
                    </a:lnTo>
                    <a:lnTo>
                      <a:pt x="33" y="69"/>
                    </a:lnTo>
                    <a:lnTo>
                      <a:pt x="39" y="62"/>
                    </a:lnTo>
                    <a:lnTo>
                      <a:pt x="45" y="55"/>
                    </a:lnTo>
                    <a:lnTo>
                      <a:pt x="52" y="49"/>
                    </a:lnTo>
                    <a:lnTo>
                      <a:pt x="61" y="42"/>
                    </a:lnTo>
                    <a:lnTo>
                      <a:pt x="70" y="36"/>
                    </a:lnTo>
                    <a:lnTo>
                      <a:pt x="79" y="29"/>
                    </a:lnTo>
                    <a:lnTo>
                      <a:pt x="90" y="24"/>
                    </a:lnTo>
                    <a:lnTo>
                      <a:pt x="102" y="17"/>
                    </a:lnTo>
                    <a:lnTo>
                      <a:pt x="115" y="12"/>
                    </a:lnTo>
                    <a:lnTo>
                      <a:pt x="129" y="8"/>
                    </a:lnTo>
                    <a:lnTo>
                      <a:pt x="143" y="5"/>
                    </a:lnTo>
                    <a:lnTo>
                      <a:pt x="157" y="2"/>
                    </a:lnTo>
                    <a:lnTo>
                      <a:pt x="171" y="1"/>
                    </a:lnTo>
                    <a:lnTo>
                      <a:pt x="185" y="0"/>
                    </a:lnTo>
                    <a:lnTo>
                      <a:pt x="199" y="0"/>
                    </a:lnTo>
                    <a:lnTo>
                      <a:pt x="212" y="1"/>
                    </a:lnTo>
                    <a:lnTo>
                      <a:pt x="224" y="2"/>
                    </a:lnTo>
                    <a:lnTo>
                      <a:pt x="246" y="6"/>
                    </a:lnTo>
                    <a:lnTo>
                      <a:pt x="263" y="9"/>
                    </a:lnTo>
                    <a:lnTo>
                      <a:pt x="274" y="11"/>
                    </a:lnTo>
                    <a:lnTo>
                      <a:pt x="278" y="12"/>
                    </a:lnTo>
                    <a:lnTo>
                      <a:pt x="285" y="15"/>
                    </a:lnTo>
                    <a:lnTo>
                      <a:pt x="293" y="20"/>
                    </a:lnTo>
                    <a:lnTo>
                      <a:pt x="302" y="26"/>
                    </a:lnTo>
                    <a:lnTo>
                      <a:pt x="313" y="34"/>
                    </a:lnTo>
                    <a:lnTo>
                      <a:pt x="336" y="51"/>
                    </a:lnTo>
                    <a:lnTo>
                      <a:pt x="362" y="71"/>
                    </a:lnTo>
                    <a:lnTo>
                      <a:pt x="390" y="95"/>
                    </a:lnTo>
                    <a:lnTo>
                      <a:pt x="421" y="118"/>
                    </a:lnTo>
                    <a:lnTo>
                      <a:pt x="450" y="142"/>
                    </a:lnTo>
                    <a:lnTo>
                      <a:pt x="478" y="163"/>
                    </a:lnTo>
                    <a:lnTo>
                      <a:pt x="501" y="182"/>
                    </a:lnTo>
                    <a:lnTo>
                      <a:pt x="516" y="197"/>
                    </a:lnTo>
                    <a:lnTo>
                      <a:pt x="521" y="202"/>
                    </a:lnTo>
                    <a:lnTo>
                      <a:pt x="524" y="206"/>
                    </a:lnTo>
                    <a:lnTo>
                      <a:pt x="526" y="210"/>
                    </a:lnTo>
                    <a:lnTo>
                      <a:pt x="526" y="213"/>
                    </a:lnTo>
                    <a:lnTo>
                      <a:pt x="523" y="214"/>
                    </a:lnTo>
                    <a:lnTo>
                      <a:pt x="520" y="215"/>
                    </a:lnTo>
                    <a:lnTo>
                      <a:pt x="516" y="215"/>
                    </a:lnTo>
                    <a:lnTo>
                      <a:pt x="509" y="214"/>
                    </a:lnTo>
                    <a:lnTo>
                      <a:pt x="493" y="210"/>
                    </a:lnTo>
                    <a:lnTo>
                      <a:pt x="474" y="202"/>
                    </a:lnTo>
                    <a:lnTo>
                      <a:pt x="459" y="198"/>
                    </a:lnTo>
                    <a:lnTo>
                      <a:pt x="443" y="192"/>
                    </a:lnTo>
                    <a:lnTo>
                      <a:pt x="437" y="190"/>
                    </a:lnTo>
                    <a:lnTo>
                      <a:pt x="429" y="189"/>
                    </a:lnTo>
                    <a:lnTo>
                      <a:pt x="424" y="189"/>
                    </a:lnTo>
                    <a:lnTo>
                      <a:pt x="419" y="191"/>
                    </a:lnTo>
                    <a:lnTo>
                      <a:pt x="415" y="194"/>
                    </a:lnTo>
                    <a:lnTo>
                      <a:pt x="413" y="196"/>
                    </a:lnTo>
                    <a:lnTo>
                      <a:pt x="412" y="198"/>
                    </a:lnTo>
                    <a:lnTo>
                      <a:pt x="410" y="201"/>
                    </a:lnTo>
                    <a:lnTo>
                      <a:pt x="408" y="210"/>
                    </a:lnTo>
                    <a:lnTo>
                      <a:pt x="408" y="221"/>
                    </a:lnTo>
                    <a:lnTo>
                      <a:pt x="409" y="235"/>
                    </a:lnTo>
                    <a:lnTo>
                      <a:pt x="412" y="253"/>
                    </a:lnTo>
                    <a:lnTo>
                      <a:pt x="416" y="273"/>
                    </a:lnTo>
                    <a:lnTo>
                      <a:pt x="424" y="299"/>
                    </a:lnTo>
                    <a:lnTo>
                      <a:pt x="435" y="337"/>
                    </a:lnTo>
                    <a:lnTo>
                      <a:pt x="443" y="370"/>
                    </a:lnTo>
                    <a:lnTo>
                      <a:pt x="447" y="384"/>
                    </a:lnTo>
                    <a:lnTo>
                      <a:pt x="449" y="397"/>
                    </a:lnTo>
                    <a:lnTo>
                      <a:pt x="450" y="407"/>
                    </a:lnTo>
                    <a:lnTo>
                      <a:pt x="451" y="418"/>
                    </a:lnTo>
                    <a:lnTo>
                      <a:pt x="450" y="428"/>
                    </a:lnTo>
                    <a:lnTo>
                      <a:pt x="449" y="438"/>
                    </a:lnTo>
                    <a:lnTo>
                      <a:pt x="446" y="445"/>
                    </a:lnTo>
                    <a:lnTo>
                      <a:pt x="442" y="454"/>
                    </a:lnTo>
                    <a:lnTo>
                      <a:pt x="437" y="461"/>
                    </a:lnTo>
                    <a:lnTo>
                      <a:pt x="430" y="468"/>
                    </a:lnTo>
                    <a:lnTo>
                      <a:pt x="423" y="475"/>
                    </a:lnTo>
                    <a:lnTo>
                      <a:pt x="414" y="482"/>
                    </a:lnTo>
                    <a:lnTo>
                      <a:pt x="411" y="484"/>
                    </a:lnTo>
                    <a:lnTo>
                      <a:pt x="408" y="485"/>
                    </a:lnTo>
                    <a:lnTo>
                      <a:pt x="405" y="486"/>
                    </a:lnTo>
                    <a:lnTo>
                      <a:pt x="401" y="486"/>
                    </a:lnTo>
                    <a:lnTo>
                      <a:pt x="396" y="484"/>
                    </a:lnTo>
                    <a:lnTo>
                      <a:pt x="389" y="481"/>
                    </a:lnTo>
                    <a:lnTo>
                      <a:pt x="384" y="474"/>
                    </a:lnTo>
                    <a:lnTo>
                      <a:pt x="379" y="467"/>
                    </a:lnTo>
                    <a:lnTo>
                      <a:pt x="373" y="457"/>
                    </a:lnTo>
                    <a:lnTo>
                      <a:pt x="368" y="446"/>
                    </a:lnTo>
                    <a:lnTo>
                      <a:pt x="357" y="420"/>
                    </a:lnTo>
                    <a:lnTo>
                      <a:pt x="347" y="390"/>
                    </a:lnTo>
                    <a:lnTo>
                      <a:pt x="339" y="357"/>
                    </a:lnTo>
                    <a:lnTo>
                      <a:pt x="330" y="321"/>
                    </a:lnTo>
                    <a:lnTo>
                      <a:pt x="326" y="304"/>
                    </a:lnTo>
                    <a:lnTo>
                      <a:pt x="320" y="286"/>
                    </a:lnTo>
                    <a:lnTo>
                      <a:pt x="314" y="269"/>
                    </a:lnTo>
                    <a:lnTo>
                      <a:pt x="307" y="252"/>
                    </a:lnTo>
                    <a:lnTo>
                      <a:pt x="300" y="236"/>
                    </a:lnTo>
                    <a:lnTo>
                      <a:pt x="291" y="221"/>
                    </a:lnTo>
                    <a:lnTo>
                      <a:pt x="281" y="205"/>
                    </a:lnTo>
                    <a:lnTo>
                      <a:pt x="272" y="191"/>
                    </a:lnTo>
                    <a:lnTo>
                      <a:pt x="260" y="179"/>
                    </a:lnTo>
                    <a:lnTo>
                      <a:pt x="248" y="168"/>
                    </a:lnTo>
                    <a:lnTo>
                      <a:pt x="234" y="158"/>
                    </a:lnTo>
                    <a:lnTo>
                      <a:pt x="220" y="149"/>
                    </a:lnTo>
                    <a:lnTo>
                      <a:pt x="212" y="146"/>
                    </a:lnTo>
                    <a:lnTo>
                      <a:pt x="204" y="143"/>
                    </a:lnTo>
                    <a:lnTo>
                      <a:pt x="195" y="141"/>
                    </a:lnTo>
                    <a:lnTo>
                      <a:pt x="187" y="138"/>
                    </a:lnTo>
                    <a:lnTo>
                      <a:pt x="178" y="137"/>
                    </a:lnTo>
                    <a:lnTo>
                      <a:pt x="169" y="136"/>
                    </a:lnTo>
                    <a:lnTo>
                      <a:pt x="159" y="136"/>
                    </a:lnTo>
                    <a:lnTo>
                      <a:pt x="150" y="136"/>
                    </a:lnTo>
                    <a:close/>
                  </a:path>
                </a:pathLst>
              </a:custGeom>
              <a:solidFill>
                <a:srgbClr val="edb3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5560920" y="3495600"/>
                <a:ext cx="162000" cy="150840"/>
              </a:xfrm>
              <a:custGeom>
                <a:avLst/>
                <a:gdLst/>
                <a:ahLst/>
                <a:rect l="l" t="t" r="r" b="b"/>
                <a:pathLst>
                  <a:path w="512" h="475">
                    <a:moveTo>
                      <a:pt x="146" y="119"/>
                    </a:moveTo>
                    <a:lnTo>
                      <a:pt x="127" y="120"/>
                    </a:lnTo>
                    <a:lnTo>
                      <a:pt x="109" y="121"/>
                    </a:lnTo>
                    <a:lnTo>
                      <a:pt x="94" y="123"/>
                    </a:lnTo>
                    <a:lnTo>
                      <a:pt x="81" y="127"/>
                    </a:lnTo>
                    <a:lnTo>
                      <a:pt x="58" y="132"/>
                    </a:lnTo>
                    <a:lnTo>
                      <a:pt x="42" y="137"/>
                    </a:lnTo>
                    <a:lnTo>
                      <a:pt x="31" y="144"/>
                    </a:lnTo>
                    <a:lnTo>
                      <a:pt x="24" y="148"/>
                    </a:lnTo>
                    <a:lnTo>
                      <a:pt x="21" y="152"/>
                    </a:lnTo>
                    <a:lnTo>
                      <a:pt x="20" y="154"/>
                    </a:lnTo>
                    <a:lnTo>
                      <a:pt x="17" y="154"/>
                    </a:lnTo>
                    <a:lnTo>
                      <a:pt x="14" y="156"/>
                    </a:lnTo>
                    <a:lnTo>
                      <a:pt x="9" y="157"/>
                    </a:lnTo>
                    <a:lnTo>
                      <a:pt x="3" y="155"/>
                    </a:lnTo>
                    <a:lnTo>
                      <a:pt x="2" y="154"/>
                    </a:lnTo>
                    <a:lnTo>
                      <a:pt x="1" y="150"/>
                    </a:lnTo>
                    <a:lnTo>
                      <a:pt x="0" y="146"/>
                    </a:lnTo>
                    <a:lnTo>
                      <a:pt x="0" y="141"/>
                    </a:lnTo>
                    <a:lnTo>
                      <a:pt x="2" y="134"/>
                    </a:lnTo>
                    <a:lnTo>
                      <a:pt x="4" y="124"/>
                    </a:lnTo>
                    <a:lnTo>
                      <a:pt x="9" y="115"/>
                    </a:lnTo>
                    <a:lnTo>
                      <a:pt x="14" y="102"/>
                    </a:lnTo>
                    <a:lnTo>
                      <a:pt x="17" y="91"/>
                    </a:lnTo>
                    <a:lnTo>
                      <a:pt x="22" y="80"/>
                    </a:lnTo>
                    <a:lnTo>
                      <a:pt x="28" y="69"/>
                    </a:lnTo>
                    <a:lnTo>
                      <a:pt x="36" y="57"/>
                    </a:lnTo>
                    <a:lnTo>
                      <a:pt x="41" y="52"/>
                    </a:lnTo>
                    <a:lnTo>
                      <a:pt x="48" y="47"/>
                    </a:lnTo>
                    <a:lnTo>
                      <a:pt x="54" y="40"/>
                    </a:lnTo>
                    <a:lnTo>
                      <a:pt x="63" y="35"/>
                    </a:lnTo>
                    <a:lnTo>
                      <a:pt x="71" y="29"/>
                    </a:lnTo>
                    <a:lnTo>
                      <a:pt x="81" y="24"/>
                    </a:lnTo>
                    <a:lnTo>
                      <a:pt x="93" y="17"/>
                    </a:lnTo>
                    <a:lnTo>
                      <a:pt x="106" y="12"/>
                    </a:lnTo>
                    <a:lnTo>
                      <a:pt x="120" y="8"/>
                    </a:lnTo>
                    <a:lnTo>
                      <a:pt x="134" y="5"/>
                    </a:lnTo>
                    <a:lnTo>
                      <a:pt x="148" y="2"/>
                    </a:lnTo>
                    <a:lnTo>
                      <a:pt x="162" y="1"/>
                    </a:lnTo>
                    <a:lnTo>
                      <a:pt x="176" y="0"/>
                    </a:lnTo>
                    <a:lnTo>
                      <a:pt x="190" y="0"/>
                    </a:lnTo>
                    <a:lnTo>
                      <a:pt x="203" y="1"/>
                    </a:lnTo>
                    <a:lnTo>
                      <a:pt x="215" y="2"/>
                    </a:lnTo>
                    <a:lnTo>
                      <a:pt x="237" y="6"/>
                    </a:lnTo>
                    <a:lnTo>
                      <a:pt x="254" y="9"/>
                    </a:lnTo>
                    <a:lnTo>
                      <a:pt x="265" y="11"/>
                    </a:lnTo>
                    <a:lnTo>
                      <a:pt x="269" y="12"/>
                    </a:lnTo>
                    <a:lnTo>
                      <a:pt x="276" y="15"/>
                    </a:lnTo>
                    <a:lnTo>
                      <a:pt x="284" y="20"/>
                    </a:lnTo>
                    <a:lnTo>
                      <a:pt x="293" y="26"/>
                    </a:lnTo>
                    <a:lnTo>
                      <a:pt x="304" y="34"/>
                    </a:lnTo>
                    <a:lnTo>
                      <a:pt x="327" y="51"/>
                    </a:lnTo>
                    <a:lnTo>
                      <a:pt x="353" y="71"/>
                    </a:lnTo>
                    <a:lnTo>
                      <a:pt x="381" y="95"/>
                    </a:lnTo>
                    <a:lnTo>
                      <a:pt x="412" y="118"/>
                    </a:lnTo>
                    <a:lnTo>
                      <a:pt x="441" y="142"/>
                    </a:lnTo>
                    <a:lnTo>
                      <a:pt x="469" y="163"/>
                    </a:lnTo>
                    <a:lnTo>
                      <a:pt x="492" y="182"/>
                    </a:lnTo>
                    <a:lnTo>
                      <a:pt x="506" y="196"/>
                    </a:lnTo>
                    <a:lnTo>
                      <a:pt x="510" y="200"/>
                    </a:lnTo>
                    <a:lnTo>
                      <a:pt x="512" y="204"/>
                    </a:lnTo>
                    <a:lnTo>
                      <a:pt x="512" y="206"/>
                    </a:lnTo>
                    <a:lnTo>
                      <a:pt x="511" y="209"/>
                    </a:lnTo>
                    <a:lnTo>
                      <a:pt x="508" y="210"/>
                    </a:lnTo>
                    <a:lnTo>
                      <a:pt x="505" y="210"/>
                    </a:lnTo>
                    <a:lnTo>
                      <a:pt x="498" y="209"/>
                    </a:lnTo>
                    <a:lnTo>
                      <a:pt x="492" y="208"/>
                    </a:lnTo>
                    <a:lnTo>
                      <a:pt x="475" y="202"/>
                    </a:lnTo>
                    <a:lnTo>
                      <a:pt x="455" y="196"/>
                    </a:lnTo>
                    <a:lnTo>
                      <a:pt x="442" y="190"/>
                    </a:lnTo>
                    <a:lnTo>
                      <a:pt x="428" y="185"/>
                    </a:lnTo>
                    <a:lnTo>
                      <a:pt x="421" y="183"/>
                    </a:lnTo>
                    <a:lnTo>
                      <a:pt x="414" y="182"/>
                    </a:lnTo>
                    <a:lnTo>
                      <a:pt x="408" y="183"/>
                    </a:lnTo>
                    <a:lnTo>
                      <a:pt x="403" y="185"/>
                    </a:lnTo>
                    <a:lnTo>
                      <a:pt x="400" y="186"/>
                    </a:lnTo>
                    <a:lnTo>
                      <a:pt x="398" y="188"/>
                    </a:lnTo>
                    <a:lnTo>
                      <a:pt x="397" y="191"/>
                    </a:lnTo>
                    <a:lnTo>
                      <a:pt x="394" y="196"/>
                    </a:lnTo>
                    <a:lnTo>
                      <a:pt x="392" y="204"/>
                    </a:lnTo>
                    <a:lnTo>
                      <a:pt x="392" y="216"/>
                    </a:lnTo>
                    <a:lnTo>
                      <a:pt x="393" y="232"/>
                    </a:lnTo>
                    <a:lnTo>
                      <a:pt x="397" y="251"/>
                    </a:lnTo>
                    <a:lnTo>
                      <a:pt x="402" y="275"/>
                    </a:lnTo>
                    <a:lnTo>
                      <a:pt x="410" y="302"/>
                    </a:lnTo>
                    <a:lnTo>
                      <a:pt x="421" y="339"/>
                    </a:lnTo>
                    <a:lnTo>
                      <a:pt x="430" y="370"/>
                    </a:lnTo>
                    <a:lnTo>
                      <a:pt x="433" y="383"/>
                    </a:lnTo>
                    <a:lnTo>
                      <a:pt x="437" y="394"/>
                    </a:lnTo>
                    <a:lnTo>
                      <a:pt x="438" y="405"/>
                    </a:lnTo>
                    <a:lnTo>
                      <a:pt x="439" y="415"/>
                    </a:lnTo>
                    <a:lnTo>
                      <a:pt x="439" y="424"/>
                    </a:lnTo>
                    <a:lnTo>
                      <a:pt x="438" y="431"/>
                    </a:lnTo>
                    <a:lnTo>
                      <a:pt x="435" y="439"/>
                    </a:lnTo>
                    <a:lnTo>
                      <a:pt x="432" y="445"/>
                    </a:lnTo>
                    <a:lnTo>
                      <a:pt x="428" y="452"/>
                    </a:lnTo>
                    <a:lnTo>
                      <a:pt x="421" y="459"/>
                    </a:lnTo>
                    <a:lnTo>
                      <a:pt x="414" y="466"/>
                    </a:lnTo>
                    <a:lnTo>
                      <a:pt x="405" y="472"/>
                    </a:lnTo>
                    <a:lnTo>
                      <a:pt x="402" y="473"/>
                    </a:lnTo>
                    <a:lnTo>
                      <a:pt x="400" y="474"/>
                    </a:lnTo>
                    <a:lnTo>
                      <a:pt x="397" y="475"/>
                    </a:lnTo>
                    <a:lnTo>
                      <a:pt x="394" y="474"/>
                    </a:lnTo>
                    <a:lnTo>
                      <a:pt x="389" y="472"/>
                    </a:lnTo>
                    <a:lnTo>
                      <a:pt x="384" y="469"/>
                    </a:lnTo>
                    <a:lnTo>
                      <a:pt x="378" y="462"/>
                    </a:lnTo>
                    <a:lnTo>
                      <a:pt x="374" y="455"/>
                    </a:lnTo>
                    <a:lnTo>
                      <a:pt x="369" y="445"/>
                    </a:lnTo>
                    <a:lnTo>
                      <a:pt x="364" y="434"/>
                    </a:lnTo>
                    <a:lnTo>
                      <a:pt x="354" y="408"/>
                    </a:lnTo>
                    <a:lnTo>
                      <a:pt x="346" y="379"/>
                    </a:lnTo>
                    <a:lnTo>
                      <a:pt x="337" y="346"/>
                    </a:lnTo>
                    <a:lnTo>
                      <a:pt x="329" y="311"/>
                    </a:lnTo>
                    <a:lnTo>
                      <a:pt x="324" y="293"/>
                    </a:lnTo>
                    <a:lnTo>
                      <a:pt x="319" y="276"/>
                    </a:lnTo>
                    <a:lnTo>
                      <a:pt x="312" y="257"/>
                    </a:lnTo>
                    <a:lnTo>
                      <a:pt x="306" y="240"/>
                    </a:lnTo>
                    <a:lnTo>
                      <a:pt x="297" y="223"/>
                    </a:lnTo>
                    <a:lnTo>
                      <a:pt x="289" y="206"/>
                    </a:lnTo>
                    <a:lnTo>
                      <a:pt x="279" y="191"/>
                    </a:lnTo>
                    <a:lnTo>
                      <a:pt x="268" y="177"/>
                    </a:lnTo>
                    <a:lnTo>
                      <a:pt x="257" y="164"/>
                    </a:lnTo>
                    <a:lnTo>
                      <a:pt x="244" y="152"/>
                    </a:lnTo>
                    <a:lnTo>
                      <a:pt x="230" y="142"/>
                    </a:lnTo>
                    <a:lnTo>
                      <a:pt x="216" y="133"/>
                    </a:lnTo>
                    <a:lnTo>
                      <a:pt x="208" y="130"/>
                    </a:lnTo>
                    <a:lnTo>
                      <a:pt x="200" y="127"/>
                    </a:lnTo>
                    <a:lnTo>
                      <a:pt x="191" y="123"/>
                    </a:lnTo>
                    <a:lnTo>
                      <a:pt x="183" y="121"/>
                    </a:lnTo>
                    <a:lnTo>
                      <a:pt x="174" y="120"/>
                    </a:lnTo>
                    <a:lnTo>
                      <a:pt x="164" y="119"/>
                    </a:lnTo>
                    <a:lnTo>
                      <a:pt x="156" y="119"/>
                    </a:lnTo>
                    <a:lnTo>
                      <a:pt x="146" y="119"/>
                    </a:lnTo>
                    <a:close/>
                  </a:path>
                </a:pathLst>
              </a:custGeom>
              <a:solidFill>
                <a:srgbClr val="f0b6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5564160" y="3495600"/>
                <a:ext cx="158760" cy="147960"/>
              </a:xfrm>
              <a:custGeom>
                <a:avLst/>
                <a:gdLst/>
                <a:ahLst/>
                <a:rect l="l" t="t" r="r" b="b"/>
                <a:pathLst>
                  <a:path w="500" h="462">
                    <a:moveTo>
                      <a:pt x="261" y="12"/>
                    </a:moveTo>
                    <a:lnTo>
                      <a:pt x="257" y="11"/>
                    </a:lnTo>
                    <a:lnTo>
                      <a:pt x="246" y="9"/>
                    </a:lnTo>
                    <a:lnTo>
                      <a:pt x="229" y="6"/>
                    </a:lnTo>
                    <a:lnTo>
                      <a:pt x="207" y="2"/>
                    </a:lnTo>
                    <a:lnTo>
                      <a:pt x="195" y="1"/>
                    </a:lnTo>
                    <a:lnTo>
                      <a:pt x="182" y="0"/>
                    </a:lnTo>
                    <a:lnTo>
                      <a:pt x="168" y="0"/>
                    </a:lnTo>
                    <a:lnTo>
                      <a:pt x="154" y="1"/>
                    </a:lnTo>
                    <a:lnTo>
                      <a:pt x="140" y="2"/>
                    </a:lnTo>
                    <a:lnTo>
                      <a:pt x="126" y="5"/>
                    </a:lnTo>
                    <a:lnTo>
                      <a:pt x="112" y="8"/>
                    </a:lnTo>
                    <a:lnTo>
                      <a:pt x="98" y="12"/>
                    </a:lnTo>
                    <a:lnTo>
                      <a:pt x="85" y="17"/>
                    </a:lnTo>
                    <a:lnTo>
                      <a:pt x="74" y="23"/>
                    </a:lnTo>
                    <a:lnTo>
                      <a:pt x="65" y="28"/>
                    </a:lnTo>
                    <a:lnTo>
                      <a:pt x="56" y="34"/>
                    </a:lnTo>
                    <a:lnTo>
                      <a:pt x="43" y="44"/>
                    </a:lnTo>
                    <a:lnTo>
                      <a:pt x="34" y="53"/>
                    </a:lnTo>
                    <a:lnTo>
                      <a:pt x="28" y="62"/>
                    </a:lnTo>
                    <a:lnTo>
                      <a:pt x="25" y="69"/>
                    </a:lnTo>
                    <a:lnTo>
                      <a:pt x="21" y="76"/>
                    </a:lnTo>
                    <a:lnTo>
                      <a:pt x="19" y="81"/>
                    </a:lnTo>
                    <a:lnTo>
                      <a:pt x="12" y="94"/>
                    </a:lnTo>
                    <a:lnTo>
                      <a:pt x="6" y="104"/>
                    </a:lnTo>
                    <a:lnTo>
                      <a:pt x="3" y="111"/>
                    </a:lnTo>
                    <a:lnTo>
                      <a:pt x="1" y="118"/>
                    </a:lnTo>
                    <a:lnTo>
                      <a:pt x="0" y="122"/>
                    </a:lnTo>
                    <a:lnTo>
                      <a:pt x="1" y="125"/>
                    </a:lnTo>
                    <a:lnTo>
                      <a:pt x="2" y="128"/>
                    </a:lnTo>
                    <a:lnTo>
                      <a:pt x="5" y="129"/>
                    </a:lnTo>
                    <a:lnTo>
                      <a:pt x="11" y="128"/>
                    </a:lnTo>
                    <a:lnTo>
                      <a:pt x="17" y="125"/>
                    </a:lnTo>
                    <a:lnTo>
                      <a:pt x="21" y="122"/>
                    </a:lnTo>
                    <a:lnTo>
                      <a:pt x="23" y="121"/>
                    </a:lnTo>
                    <a:lnTo>
                      <a:pt x="25" y="120"/>
                    </a:lnTo>
                    <a:lnTo>
                      <a:pt x="28" y="119"/>
                    </a:lnTo>
                    <a:lnTo>
                      <a:pt x="33" y="117"/>
                    </a:lnTo>
                    <a:lnTo>
                      <a:pt x="43" y="114"/>
                    </a:lnTo>
                    <a:lnTo>
                      <a:pt x="58" y="110"/>
                    </a:lnTo>
                    <a:lnTo>
                      <a:pt x="77" y="107"/>
                    </a:lnTo>
                    <a:lnTo>
                      <a:pt x="106" y="104"/>
                    </a:lnTo>
                    <a:lnTo>
                      <a:pt x="140" y="102"/>
                    </a:lnTo>
                    <a:lnTo>
                      <a:pt x="150" y="102"/>
                    </a:lnTo>
                    <a:lnTo>
                      <a:pt x="160" y="102"/>
                    </a:lnTo>
                    <a:lnTo>
                      <a:pt x="168" y="103"/>
                    </a:lnTo>
                    <a:lnTo>
                      <a:pt x="178" y="105"/>
                    </a:lnTo>
                    <a:lnTo>
                      <a:pt x="187" y="107"/>
                    </a:lnTo>
                    <a:lnTo>
                      <a:pt x="195" y="109"/>
                    </a:lnTo>
                    <a:lnTo>
                      <a:pt x="203" y="114"/>
                    </a:lnTo>
                    <a:lnTo>
                      <a:pt x="211" y="117"/>
                    </a:lnTo>
                    <a:lnTo>
                      <a:pt x="227" y="127"/>
                    </a:lnTo>
                    <a:lnTo>
                      <a:pt x="241" y="137"/>
                    </a:lnTo>
                    <a:lnTo>
                      <a:pt x="254" y="149"/>
                    </a:lnTo>
                    <a:lnTo>
                      <a:pt x="265" y="163"/>
                    </a:lnTo>
                    <a:lnTo>
                      <a:pt x="276" y="178"/>
                    </a:lnTo>
                    <a:lnTo>
                      <a:pt x="287" y="194"/>
                    </a:lnTo>
                    <a:lnTo>
                      <a:pt x="296" y="211"/>
                    </a:lnTo>
                    <a:lnTo>
                      <a:pt x="304" y="228"/>
                    </a:lnTo>
                    <a:lnTo>
                      <a:pt x="311" y="245"/>
                    </a:lnTo>
                    <a:lnTo>
                      <a:pt x="317" y="264"/>
                    </a:lnTo>
                    <a:lnTo>
                      <a:pt x="323" y="281"/>
                    </a:lnTo>
                    <a:lnTo>
                      <a:pt x="328" y="299"/>
                    </a:lnTo>
                    <a:lnTo>
                      <a:pt x="336" y="334"/>
                    </a:lnTo>
                    <a:lnTo>
                      <a:pt x="344" y="366"/>
                    </a:lnTo>
                    <a:lnTo>
                      <a:pt x="353" y="395"/>
                    </a:lnTo>
                    <a:lnTo>
                      <a:pt x="362" y="421"/>
                    </a:lnTo>
                    <a:lnTo>
                      <a:pt x="366" y="432"/>
                    </a:lnTo>
                    <a:lnTo>
                      <a:pt x="370" y="441"/>
                    </a:lnTo>
                    <a:lnTo>
                      <a:pt x="375" y="449"/>
                    </a:lnTo>
                    <a:lnTo>
                      <a:pt x="379" y="455"/>
                    </a:lnTo>
                    <a:lnTo>
                      <a:pt x="383" y="459"/>
                    </a:lnTo>
                    <a:lnTo>
                      <a:pt x="388" y="461"/>
                    </a:lnTo>
                    <a:lnTo>
                      <a:pt x="390" y="462"/>
                    </a:lnTo>
                    <a:lnTo>
                      <a:pt x="393" y="461"/>
                    </a:lnTo>
                    <a:lnTo>
                      <a:pt x="395" y="461"/>
                    </a:lnTo>
                    <a:lnTo>
                      <a:pt x="397" y="460"/>
                    </a:lnTo>
                    <a:lnTo>
                      <a:pt x="406" y="454"/>
                    </a:lnTo>
                    <a:lnTo>
                      <a:pt x="413" y="447"/>
                    </a:lnTo>
                    <a:lnTo>
                      <a:pt x="419" y="442"/>
                    </a:lnTo>
                    <a:lnTo>
                      <a:pt x="423" y="437"/>
                    </a:lnTo>
                    <a:lnTo>
                      <a:pt x="426" y="430"/>
                    </a:lnTo>
                    <a:lnTo>
                      <a:pt x="429" y="424"/>
                    </a:lnTo>
                    <a:lnTo>
                      <a:pt x="429" y="417"/>
                    </a:lnTo>
                    <a:lnTo>
                      <a:pt x="429" y="410"/>
                    </a:lnTo>
                    <a:lnTo>
                      <a:pt x="425" y="391"/>
                    </a:lnTo>
                    <a:lnTo>
                      <a:pt x="418" y="368"/>
                    </a:lnTo>
                    <a:lnTo>
                      <a:pt x="408" y="339"/>
                    </a:lnTo>
                    <a:lnTo>
                      <a:pt x="397" y="302"/>
                    </a:lnTo>
                    <a:lnTo>
                      <a:pt x="389" y="272"/>
                    </a:lnTo>
                    <a:lnTo>
                      <a:pt x="383" y="248"/>
                    </a:lnTo>
                    <a:lnTo>
                      <a:pt x="380" y="228"/>
                    </a:lnTo>
                    <a:lnTo>
                      <a:pt x="378" y="211"/>
                    </a:lnTo>
                    <a:lnTo>
                      <a:pt x="379" y="198"/>
                    </a:lnTo>
                    <a:lnTo>
                      <a:pt x="381" y="188"/>
                    </a:lnTo>
                    <a:lnTo>
                      <a:pt x="382" y="185"/>
                    </a:lnTo>
                    <a:lnTo>
                      <a:pt x="384" y="182"/>
                    </a:lnTo>
                    <a:lnTo>
                      <a:pt x="386" y="178"/>
                    </a:lnTo>
                    <a:lnTo>
                      <a:pt x="389" y="176"/>
                    </a:lnTo>
                    <a:lnTo>
                      <a:pt x="394" y="174"/>
                    </a:lnTo>
                    <a:lnTo>
                      <a:pt x="400" y="173"/>
                    </a:lnTo>
                    <a:lnTo>
                      <a:pt x="407" y="174"/>
                    </a:lnTo>
                    <a:lnTo>
                      <a:pt x="413" y="176"/>
                    </a:lnTo>
                    <a:lnTo>
                      <a:pt x="426" y="181"/>
                    </a:lnTo>
                    <a:lnTo>
                      <a:pt x="436" y="185"/>
                    </a:lnTo>
                    <a:lnTo>
                      <a:pt x="457" y="194"/>
                    </a:lnTo>
                    <a:lnTo>
                      <a:pt x="475" y="200"/>
                    </a:lnTo>
                    <a:lnTo>
                      <a:pt x="482" y="202"/>
                    </a:lnTo>
                    <a:lnTo>
                      <a:pt x="488" y="204"/>
                    </a:lnTo>
                    <a:lnTo>
                      <a:pt x="493" y="205"/>
                    </a:lnTo>
                    <a:lnTo>
                      <a:pt x="498" y="204"/>
                    </a:lnTo>
                    <a:lnTo>
                      <a:pt x="500" y="204"/>
                    </a:lnTo>
                    <a:lnTo>
                      <a:pt x="500" y="202"/>
                    </a:lnTo>
                    <a:lnTo>
                      <a:pt x="499" y="199"/>
                    </a:lnTo>
                    <a:lnTo>
                      <a:pt x="496" y="195"/>
                    </a:lnTo>
                    <a:lnTo>
                      <a:pt x="484" y="182"/>
                    </a:lnTo>
                    <a:lnTo>
                      <a:pt x="461" y="163"/>
                    </a:lnTo>
                    <a:lnTo>
                      <a:pt x="433" y="142"/>
                    </a:lnTo>
                    <a:lnTo>
                      <a:pt x="404" y="118"/>
                    </a:lnTo>
                    <a:lnTo>
                      <a:pt x="373" y="95"/>
                    </a:lnTo>
                    <a:lnTo>
                      <a:pt x="345" y="71"/>
                    </a:lnTo>
                    <a:lnTo>
                      <a:pt x="319" y="51"/>
                    </a:lnTo>
                    <a:lnTo>
                      <a:pt x="296" y="34"/>
                    </a:lnTo>
                    <a:lnTo>
                      <a:pt x="285" y="26"/>
                    </a:lnTo>
                    <a:lnTo>
                      <a:pt x="276" y="20"/>
                    </a:lnTo>
                    <a:lnTo>
                      <a:pt x="268" y="15"/>
                    </a:lnTo>
                    <a:lnTo>
                      <a:pt x="261" y="12"/>
                    </a:lnTo>
                    <a:close/>
                  </a:path>
                </a:pathLst>
              </a:custGeom>
              <a:solidFill>
                <a:srgbClr val="f3ba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5813280" y="3637080"/>
                <a:ext cx="32040" cy="15840"/>
              </a:xfrm>
              <a:custGeom>
                <a:avLst/>
                <a:gdLst/>
                <a:ahLst/>
                <a:rect l="l" t="t" r="r" b="b"/>
                <a:pathLst>
                  <a:path w="98" h="50">
                    <a:moveTo>
                      <a:pt x="98" y="50"/>
                    </a:moveTo>
                    <a:lnTo>
                      <a:pt x="94" y="49"/>
                    </a:lnTo>
                    <a:lnTo>
                      <a:pt x="85" y="46"/>
                    </a:lnTo>
                    <a:lnTo>
                      <a:pt x="72" y="43"/>
                    </a:lnTo>
                    <a:lnTo>
                      <a:pt x="57" y="39"/>
                    </a:lnTo>
                    <a:lnTo>
                      <a:pt x="40" y="33"/>
                    </a:lnTo>
                    <a:lnTo>
                      <a:pt x="25" y="28"/>
                    </a:lnTo>
                    <a:lnTo>
                      <a:pt x="13" y="23"/>
                    </a:lnTo>
                    <a:lnTo>
                      <a:pt x="6" y="18"/>
                    </a:lnTo>
                    <a:lnTo>
                      <a:pt x="3" y="14"/>
                    </a:lnTo>
                    <a:lnTo>
                      <a:pt x="1" y="11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1" y="1"/>
                    </a:lnTo>
                    <a:lnTo>
                      <a:pt x="1" y="0"/>
                    </a:lnTo>
                  </a:path>
                </a:pathLst>
              </a:custGeom>
              <a:noFill/>
              <a:ln w="3240">
                <a:solidFill>
                  <a:srgbClr val="b889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5816520" y="3637080"/>
                <a:ext cx="30240" cy="12600"/>
              </a:xfrm>
              <a:custGeom>
                <a:avLst/>
                <a:gdLst/>
                <a:ahLst/>
                <a:rect l="l" t="t" r="r" b="b"/>
                <a:pathLst>
                  <a:path w="96" h="39">
                    <a:moveTo>
                      <a:pt x="0" y="0"/>
                    </a:moveTo>
                    <a:lnTo>
                      <a:pt x="83" y="25"/>
                    </a:lnTo>
                    <a:lnTo>
                      <a:pt x="96" y="39"/>
                    </a:lnTo>
                    <a:lnTo>
                      <a:pt x="93" y="38"/>
                    </a:lnTo>
                    <a:lnTo>
                      <a:pt x="84" y="36"/>
                    </a:lnTo>
                    <a:lnTo>
                      <a:pt x="72" y="31"/>
                    </a:lnTo>
                    <a:lnTo>
                      <a:pt x="57" y="27"/>
                    </a:lnTo>
                    <a:lnTo>
                      <a:pt x="43" y="22"/>
                    </a:lnTo>
                    <a:lnTo>
                      <a:pt x="29" y="17"/>
                    </a:lnTo>
                    <a:lnTo>
                      <a:pt x="18" y="14"/>
                    </a:lnTo>
                    <a:lnTo>
                      <a:pt x="12" y="12"/>
                    </a:lnTo>
                    <a:lnTo>
                      <a:pt x="8" y="10"/>
                    </a:lnTo>
                    <a:lnTo>
                      <a:pt x="4" y="9"/>
                    </a:lnTo>
                    <a:lnTo>
                      <a:pt x="2" y="7"/>
                    </a:lnTo>
                    <a:lnTo>
                      <a:pt x="1" y="4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3ba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5640480" y="3444840"/>
                <a:ext cx="145800" cy="55800"/>
              </a:xfrm>
              <a:custGeom>
                <a:avLst/>
                <a:gdLst/>
                <a:ahLst/>
                <a:rect l="l" t="t" r="r" b="b"/>
                <a:pathLst>
                  <a:path w="457" h="174">
                    <a:moveTo>
                      <a:pt x="457" y="161"/>
                    </a:moveTo>
                    <a:lnTo>
                      <a:pt x="446" y="148"/>
                    </a:lnTo>
                    <a:lnTo>
                      <a:pt x="433" y="136"/>
                    </a:lnTo>
                    <a:lnTo>
                      <a:pt x="419" y="124"/>
                    </a:lnTo>
                    <a:lnTo>
                      <a:pt x="404" y="111"/>
                    </a:lnTo>
                    <a:lnTo>
                      <a:pt x="388" y="98"/>
                    </a:lnTo>
                    <a:lnTo>
                      <a:pt x="370" y="84"/>
                    </a:lnTo>
                    <a:lnTo>
                      <a:pt x="353" y="69"/>
                    </a:lnTo>
                    <a:lnTo>
                      <a:pt x="334" y="54"/>
                    </a:lnTo>
                    <a:lnTo>
                      <a:pt x="317" y="42"/>
                    </a:lnTo>
                    <a:lnTo>
                      <a:pt x="301" y="33"/>
                    </a:lnTo>
                    <a:lnTo>
                      <a:pt x="285" y="24"/>
                    </a:lnTo>
                    <a:lnTo>
                      <a:pt x="269" y="16"/>
                    </a:lnTo>
                    <a:lnTo>
                      <a:pt x="252" y="11"/>
                    </a:lnTo>
                    <a:lnTo>
                      <a:pt x="234" y="7"/>
                    </a:lnTo>
                    <a:lnTo>
                      <a:pt x="217" y="3"/>
                    </a:lnTo>
                    <a:lnTo>
                      <a:pt x="200" y="1"/>
                    </a:lnTo>
                    <a:lnTo>
                      <a:pt x="182" y="0"/>
                    </a:lnTo>
                    <a:lnTo>
                      <a:pt x="164" y="0"/>
                    </a:lnTo>
                    <a:lnTo>
                      <a:pt x="146" y="0"/>
                    </a:lnTo>
                    <a:lnTo>
                      <a:pt x="126" y="2"/>
                    </a:lnTo>
                    <a:lnTo>
                      <a:pt x="88" y="8"/>
                    </a:lnTo>
                    <a:lnTo>
                      <a:pt x="50" y="14"/>
                    </a:lnTo>
                    <a:lnTo>
                      <a:pt x="47" y="16"/>
                    </a:lnTo>
                    <a:lnTo>
                      <a:pt x="41" y="20"/>
                    </a:lnTo>
                    <a:lnTo>
                      <a:pt x="33" y="24"/>
                    </a:lnTo>
                    <a:lnTo>
                      <a:pt x="24" y="30"/>
                    </a:lnTo>
                    <a:lnTo>
                      <a:pt x="14" y="37"/>
                    </a:lnTo>
                    <a:lnTo>
                      <a:pt x="6" y="44"/>
                    </a:lnTo>
                    <a:lnTo>
                      <a:pt x="3" y="48"/>
                    </a:lnTo>
                    <a:lnTo>
                      <a:pt x="1" y="51"/>
                    </a:lnTo>
                    <a:lnTo>
                      <a:pt x="0" y="54"/>
                    </a:lnTo>
                    <a:lnTo>
                      <a:pt x="0" y="56"/>
                    </a:lnTo>
                    <a:lnTo>
                      <a:pt x="1" y="60"/>
                    </a:lnTo>
                    <a:lnTo>
                      <a:pt x="3" y="63"/>
                    </a:lnTo>
                    <a:lnTo>
                      <a:pt x="7" y="67"/>
                    </a:lnTo>
                    <a:lnTo>
                      <a:pt x="13" y="70"/>
                    </a:lnTo>
                    <a:lnTo>
                      <a:pt x="26" y="78"/>
                    </a:lnTo>
                    <a:lnTo>
                      <a:pt x="43" y="85"/>
                    </a:lnTo>
                    <a:lnTo>
                      <a:pt x="62" y="93"/>
                    </a:lnTo>
                    <a:lnTo>
                      <a:pt x="84" y="98"/>
                    </a:lnTo>
                    <a:lnTo>
                      <a:pt x="95" y="101"/>
                    </a:lnTo>
                    <a:lnTo>
                      <a:pt x="106" y="103"/>
                    </a:lnTo>
                    <a:lnTo>
                      <a:pt x="118" y="104"/>
                    </a:lnTo>
                    <a:lnTo>
                      <a:pt x="128" y="104"/>
                    </a:lnTo>
                    <a:lnTo>
                      <a:pt x="152" y="104"/>
                    </a:lnTo>
                    <a:lnTo>
                      <a:pt x="180" y="106"/>
                    </a:lnTo>
                    <a:lnTo>
                      <a:pt x="212" y="109"/>
                    </a:lnTo>
                    <a:lnTo>
                      <a:pt x="245" y="115"/>
                    </a:lnTo>
                    <a:lnTo>
                      <a:pt x="280" y="122"/>
                    </a:lnTo>
                    <a:lnTo>
                      <a:pt x="314" y="131"/>
                    </a:lnTo>
                    <a:lnTo>
                      <a:pt x="331" y="136"/>
                    </a:lnTo>
                    <a:lnTo>
                      <a:pt x="349" y="142"/>
                    </a:lnTo>
                    <a:lnTo>
                      <a:pt x="365" y="148"/>
                    </a:lnTo>
                    <a:lnTo>
                      <a:pt x="380" y="156"/>
                    </a:lnTo>
                    <a:lnTo>
                      <a:pt x="394" y="162"/>
                    </a:lnTo>
                    <a:lnTo>
                      <a:pt x="405" y="168"/>
                    </a:lnTo>
                    <a:lnTo>
                      <a:pt x="415" y="171"/>
                    </a:lnTo>
                    <a:lnTo>
                      <a:pt x="423" y="173"/>
                    </a:lnTo>
                    <a:lnTo>
                      <a:pt x="431" y="174"/>
                    </a:lnTo>
                    <a:lnTo>
                      <a:pt x="437" y="174"/>
                    </a:lnTo>
                    <a:lnTo>
                      <a:pt x="443" y="174"/>
                    </a:lnTo>
                    <a:lnTo>
                      <a:pt x="447" y="173"/>
                    </a:lnTo>
                    <a:lnTo>
                      <a:pt x="450" y="171"/>
                    </a:lnTo>
                    <a:lnTo>
                      <a:pt x="452" y="170"/>
                    </a:lnTo>
                    <a:lnTo>
                      <a:pt x="455" y="168"/>
                    </a:lnTo>
                    <a:lnTo>
                      <a:pt x="456" y="165"/>
                    </a:lnTo>
                    <a:lnTo>
                      <a:pt x="457" y="162"/>
                    </a:lnTo>
                    <a:lnTo>
                      <a:pt x="457" y="161"/>
                    </a:lnTo>
                    <a:close/>
                  </a:path>
                </a:pathLst>
              </a:custGeom>
              <a:solidFill>
                <a:srgbClr val="ca93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5646600" y="3444840"/>
                <a:ext cx="135000" cy="49320"/>
              </a:xfrm>
              <a:custGeom>
                <a:avLst/>
                <a:gdLst/>
                <a:ahLst/>
                <a:rect l="l" t="t" r="r" b="b"/>
                <a:pathLst>
                  <a:path w="428" h="156">
                    <a:moveTo>
                      <a:pt x="121" y="88"/>
                    </a:moveTo>
                    <a:lnTo>
                      <a:pt x="100" y="87"/>
                    </a:lnTo>
                    <a:lnTo>
                      <a:pt x="78" y="83"/>
                    </a:lnTo>
                    <a:lnTo>
                      <a:pt x="58" y="79"/>
                    </a:lnTo>
                    <a:lnTo>
                      <a:pt x="40" y="73"/>
                    </a:lnTo>
                    <a:lnTo>
                      <a:pt x="25" y="66"/>
                    </a:lnTo>
                    <a:lnTo>
                      <a:pt x="13" y="60"/>
                    </a:lnTo>
                    <a:lnTo>
                      <a:pt x="8" y="56"/>
                    </a:lnTo>
                    <a:lnTo>
                      <a:pt x="4" y="53"/>
                    </a:lnTo>
                    <a:lnTo>
                      <a:pt x="1" y="51"/>
                    </a:lnTo>
                    <a:lnTo>
                      <a:pt x="0" y="49"/>
                    </a:lnTo>
                    <a:lnTo>
                      <a:pt x="0" y="46"/>
                    </a:lnTo>
                    <a:lnTo>
                      <a:pt x="0" y="43"/>
                    </a:lnTo>
                    <a:lnTo>
                      <a:pt x="2" y="40"/>
                    </a:lnTo>
                    <a:lnTo>
                      <a:pt x="4" y="38"/>
                    </a:lnTo>
                    <a:lnTo>
                      <a:pt x="12" y="32"/>
                    </a:lnTo>
                    <a:lnTo>
                      <a:pt x="21" y="26"/>
                    </a:lnTo>
                    <a:lnTo>
                      <a:pt x="29" y="22"/>
                    </a:lnTo>
                    <a:lnTo>
                      <a:pt x="37" y="17"/>
                    </a:lnTo>
                    <a:lnTo>
                      <a:pt x="42" y="14"/>
                    </a:lnTo>
                    <a:lnTo>
                      <a:pt x="44" y="13"/>
                    </a:lnTo>
                    <a:lnTo>
                      <a:pt x="81" y="7"/>
                    </a:lnTo>
                    <a:lnTo>
                      <a:pt x="117" y="2"/>
                    </a:lnTo>
                    <a:lnTo>
                      <a:pt x="134" y="0"/>
                    </a:lnTo>
                    <a:lnTo>
                      <a:pt x="152" y="0"/>
                    </a:lnTo>
                    <a:lnTo>
                      <a:pt x="169" y="0"/>
                    </a:lnTo>
                    <a:lnTo>
                      <a:pt x="186" y="1"/>
                    </a:lnTo>
                    <a:lnTo>
                      <a:pt x="203" y="3"/>
                    </a:lnTo>
                    <a:lnTo>
                      <a:pt x="219" y="7"/>
                    </a:lnTo>
                    <a:lnTo>
                      <a:pt x="236" y="11"/>
                    </a:lnTo>
                    <a:lnTo>
                      <a:pt x="253" y="16"/>
                    </a:lnTo>
                    <a:lnTo>
                      <a:pt x="269" y="23"/>
                    </a:lnTo>
                    <a:lnTo>
                      <a:pt x="285" y="32"/>
                    </a:lnTo>
                    <a:lnTo>
                      <a:pt x="300" y="41"/>
                    </a:lnTo>
                    <a:lnTo>
                      <a:pt x="317" y="53"/>
                    </a:lnTo>
                    <a:lnTo>
                      <a:pt x="335" y="68"/>
                    </a:lnTo>
                    <a:lnTo>
                      <a:pt x="352" y="82"/>
                    </a:lnTo>
                    <a:lnTo>
                      <a:pt x="368" y="95"/>
                    </a:lnTo>
                    <a:lnTo>
                      <a:pt x="383" y="107"/>
                    </a:lnTo>
                    <a:lnTo>
                      <a:pt x="396" y="118"/>
                    </a:lnTo>
                    <a:lnTo>
                      <a:pt x="407" y="128"/>
                    </a:lnTo>
                    <a:lnTo>
                      <a:pt x="418" y="137"/>
                    </a:lnTo>
                    <a:lnTo>
                      <a:pt x="428" y="147"/>
                    </a:lnTo>
                    <a:lnTo>
                      <a:pt x="427" y="148"/>
                    </a:lnTo>
                    <a:lnTo>
                      <a:pt x="426" y="150"/>
                    </a:lnTo>
                    <a:lnTo>
                      <a:pt x="421" y="154"/>
                    </a:lnTo>
                    <a:lnTo>
                      <a:pt x="415" y="156"/>
                    </a:lnTo>
                    <a:lnTo>
                      <a:pt x="411" y="156"/>
                    </a:lnTo>
                    <a:lnTo>
                      <a:pt x="405" y="156"/>
                    </a:lnTo>
                    <a:lnTo>
                      <a:pt x="400" y="156"/>
                    </a:lnTo>
                    <a:lnTo>
                      <a:pt x="392" y="155"/>
                    </a:lnTo>
                    <a:lnTo>
                      <a:pt x="385" y="152"/>
                    </a:lnTo>
                    <a:lnTo>
                      <a:pt x="375" y="149"/>
                    </a:lnTo>
                    <a:lnTo>
                      <a:pt x="365" y="145"/>
                    </a:lnTo>
                    <a:lnTo>
                      <a:pt x="353" y="140"/>
                    </a:lnTo>
                    <a:lnTo>
                      <a:pt x="339" y="133"/>
                    </a:lnTo>
                    <a:lnTo>
                      <a:pt x="324" y="127"/>
                    </a:lnTo>
                    <a:lnTo>
                      <a:pt x="309" y="120"/>
                    </a:lnTo>
                    <a:lnTo>
                      <a:pt x="294" y="115"/>
                    </a:lnTo>
                    <a:lnTo>
                      <a:pt x="263" y="106"/>
                    </a:lnTo>
                    <a:lnTo>
                      <a:pt x="231" y="98"/>
                    </a:lnTo>
                    <a:lnTo>
                      <a:pt x="200" y="94"/>
                    </a:lnTo>
                    <a:lnTo>
                      <a:pt x="171" y="91"/>
                    </a:lnTo>
                    <a:lnTo>
                      <a:pt x="145" y="89"/>
                    </a:lnTo>
                    <a:lnTo>
                      <a:pt x="121" y="88"/>
                    </a:lnTo>
                    <a:close/>
                  </a:path>
                </a:pathLst>
              </a:custGeom>
              <a:solidFill>
                <a:srgbClr val="cf98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5651640" y="3444840"/>
                <a:ext cx="126720" cy="44640"/>
              </a:xfrm>
              <a:custGeom>
                <a:avLst/>
                <a:gdLst/>
                <a:ahLst/>
                <a:rect l="l" t="t" r="r" b="b"/>
                <a:pathLst>
                  <a:path w="401" h="139">
                    <a:moveTo>
                      <a:pt x="117" y="74"/>
                    </a:moveTo>
                    <a:lnTo>
                      <a:pt x="95" y="74"/>
                    </a:lnTo>
                    <a:lnTo>
                      <a:pt x="76" y="70"/>
                    </a:lnTo>
                    <a:lnTo>
                      <a:pt x="56" y="67"/>
                    </a:lnTo>
                    <a:lnTo>
                      <a:pt x="40" y="63"/>
                    </a:lnTo>
                    <a:lnTo>
                      <a:pt x="26" y="58"/>
                    </a:lnTo>
                    <a:lnTo>
                      <a:pt x="15" y="53"/>
                    </a:lnTo>
                    <a:lnTo>
                      <a:pt x="7" y="49"/>
                    </a:lnTo>
                    <a:lnTo>
                      <a:pt x="1" y="44"/>
                    </a:lnTo>
                    <a:lnTo>
                      <a:pt x="0" y="42"/>
                    </a:lnTo>
                    <a:lnTo>
                      <a:pt x="1" y="40"/>
                    </a:lnTo>
                    <a:lnTo>
                      <a:pt x="3" y="38"/>
                    </a:lnTo>
                    <a:lnTo>
                      <a:pt x="6" y="35"/>
                    </a:lnTo>
                    <a:lnTo>
                      <a:pt x="12" y="30"/>
                    </a:lnTo>
                    <a:lnTo>
                      <a:pt x="20" y="25"/>
                    </a:lnTo>
                    <a:lnTo>
                      <a:pt x="28" y="20"/>
                    </a:lnTo>
                    <a:lnTo>
                      <a:pt x="36" y="16"/>
                    </a:lnTo>
                    <a:lnTo>
                      <a:pt x="41" y="13"/>
                    </a:lnTo>
                    <a:lnTo>
                      <a:pt x="43" y="12"/>
                    </a:lnTo>
                    <a:lnTo>
                      <a:pt x="77" y="7"/>
                    </a:lnTo>
                    <a:lnTo>
                      <a:pt x="110" y="2"/>
                    </a:lnTo>
                    <a:lnTo>
                      <a:pt x="127" y="1"/>
                    </a:lnTo>
                    <a:lnTo>
                      <a:pt x="143" y="0"/>
                    </a:lnTo>
                    <a:lnTo>
                      <a:pt x="159" y="0"/>
                    </a:lnTo>
                    <a:lnTo>
                      <a:pt x="175" y="1"/>
                    </a:lnTo>
                    <a:lnTo>
                      <a:pt x="191" y="3"/>
                    </a:lnTo>
                    <a:lnTo>
                      <a:pt x="208" y="7"/>
                    </a:lnTo>
                    <a:lnTo>
                      <a:pt x="224" y="11"/>
                    </a:lnTo>
                    <a:lnTo>
                      <a:pt x="239" y="17"/>
                    </a:lnTo>
                    <a:lnTo>
                      <a:pt x="255" y="24"/>
                    </a:lnTo>
                    <a:lnTo>
                      <a:pt x="271" y="33"/>
                    </a:lnTo>
                    <a:lnTo>
                      <a:pt x="286" y="42"/>
                    </a:lnTo>
                    <a:lnTo>
                      <a:pt x="303" y="54"/>
                    </a:lnTo>
                    <a:lnTo>
                      <a:pt x="321" y="69"/>
                    </a:lnTo>
                    <a:lnTo>
                      <a:pt x="337" y="82"/>
                    </a:lnTo>
                    <a:lnTo>
                      <a:pt x="351" y="93"/>
                    </a:lnTo>
                    <a:lnTo>
                      <a:pt x="364" y="104"/>
                    </a:lnTo>
                    <a:lnTo>
                      <a:pt x="375" y="112"/>
                    </a:lnTo>
                    <a:lnTo>
                      <a:pt x="385" y="121"/>
                    </a:lnTo>
                    <a:lnTo>
                      <a:pt x="393" y="129"/>
                    </a:lnTo>
                    <a:lnTo>
                      <a:pt x="401" y="136"/>
                    </a:lnTo>
                    <a:lnTo>
                      <a:pt x="401" y="136"/>
                    </a:lnTo>
                    <a:lnTo>
                      <a:pt x="398" y="137"/>
                    </a:lnTo>
                    <a:lnTo>
                      <a:pt x="393" y="139"/>
                    </a:lnTo>
                    <a:lnTo>
                      <a:pt x="386" y="139"/>
                    </a:lnTo>
                    <a:lnTo>
                      <a:pt x="376" y="139"/>
                    </a:lnTo>
                    <a:lnTo>
                      <a:pt x="363" y="137"/>
                    </a:lnTo>
                    <a:lnTo>
                      <a:pt x="347" y="132"/>
                    </a:lnTo>
                    <a:lnTo>
                      <a:pt x="327" y="123"/>
                    </a:lnTo>
                    <a:lnTo>
                      <a:pt x="302" y="111"/>
                    </a:lnTo>
                    <a:lnTo>
                      <a:pt x="275" y="102"/>
                    </a:lnTo>
                    <a:lnTo>
                      <a:pt x="246" y="93"/>
                    </a:lnTo>
                    <a:lnTo>
                      <a:pt x="218" y="85"/>
                    </a:lnTo>
                    <a:lnTo>
                      <a:pt x="191" y="80"/>
                    </a:lnTo>
                    <a:lnTo>
                      <a:pt x="164" y="77"/>
                    </a:lnTo>
                    <a:lnTo>
                      <a:pt x="140" y="75"/>
                    </a:lnTo>
                    <a:lnTo>
                      <a:pt x="117" y="74"/>
                    </a:lnTo>
                    <a:close/>
                  </a:path>
                </a:pathLst>
              </a:custGeom>
              <a:solidFill>
                <a:srgbClr val="d59b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5656320" y="3444840"/>
                <a:ext cx="117360" cy="39960"/>
              </a:xfrm>
              <a:custGeom>
                <a:avLst/>
                <a:gdLst/>
                <a:ahLst/>
                <a:rect l="l" t="t" r="r" b="b"/>
                <a:pathLst>
                  <a:path w="371" h="125">
                    <a:moveTo>
                      <a:pt x="111" y="59"/>
                    </a:moveTo>
                    <a:lnTo>
                      <a:pt x="90" y="57"/>
                    </a:lnTo>
                    <a:lnTo>
                      <a:pt x="71" y="56"/>
                    </a:lnTo>
                    <a:lnTo>
                      <a:pt x="53" y="54"/>
                    </a:lnTo>
                    <a:lnTo>
                      <a:pt x="39" y="51"/>
                    </a:lnTo>
                    <a:lnTo>
                      <a:pt x="26" y="48"/>
                    </a:lnTo>
                    <a:lnTo>
                      <a:pt x="17" y="43"/>
                    </a:lnTo>
                    <a:lnTo>
                      <a:pt x="8" y="40"/>
                    </a:lnTo>
                    <a:lnTo>
                      <a:pt x="3" y="36"/>
                    </a:lnTo>
                    <a:lnTo>
                      <a:pt x="1" y="35"/>
                    </a:lnTo>
                    <a:lnTo>
                      <a:pt x="0" y="33"/>
                    </a:lnTo>
                    <a:lnTo>
                      <a:pt x="1" y="30"/>
                    </a:lnTo>
                    <a:lnTo>
                      <a:pt x="4" y="29"/>
                    </a:lnTo>
                    <a:lnTo>
                      <a:pt x="9" y="25"/>
                    </a:lnTo>
                    <a:lnTo>
                      <a:pt x="15" y="21"/>
                    </a:lnTo>
                    <a:lnTo>
                      <a:pt x="23" y="17"/>
                    </a:lnTo>
                    <a:lnTo>
                      <a:pt x="30" y="14"/>
                    </a:lnTo>
                    <a:lnTo>
                      <a:pt x="35" y="12"/>
                    </a:lnTo>
                    <a:lnTo>
                      <a:pt x="37" y="11"/>
                    </a:lnTo>
                    <a:lnTo>
                      <a:pt x="68" y="6"/>
                    </a:lnTo>
                    <a:lnTo>
                      <a:pt x="101" y="2"/>
                    </a:lnTo>
                    <a:lnTo>
                      <a:pt x="116" y="1"/>
                    </a:lnTo>
                    <a:lnTo>
                      <a:pt x="132" y="0"/>
                    </a:lnTo>
                    <a:lnTo>
                      <a:pt x="147" y="0"/>
                    </a:lnTo>
                    <a:lnTo>
                      <a:pt x="162" y="1"/>
                    </a:lnTo>
                    <a:lnTo>
                      <a:pt x="178" y="3"/>
                    </a:lnTo>
                    <a:lnTo>
                      <a:pt x="194" y="7"/>
                    </a:lnTo>
                    <a:lnTo>
                      <a:pt x="209" y="11"/>
                    </a:lnTo>
                    <a:lnTo>
                      <a:pt x="224" y="16"/>
                    </a:lnTo>
                    <a:lnTo>
                      <a:pt x="240" y="23"/>
                    </a:lnTo>
                    <a:lnTo>
                      <a:pt x="255" y="32"/>
                    </a:lnTo>
                    <a:lnTo>
                      <a:pt x="270" y="41"/>
                    </a:lnTo>
                    <a:lnTo>
                      <a:pt x="287" y="53"/>
                    </a:lnTo>
                    <a:lnTo>
                      <a:pt x="304" y="68"/>
                    </a:lnTo>
                    <a:lnTo>
                      <a:pt x="319" y="80"/>
                    </a:lnTo>
                    <a:lnTo>
                      <a:pt x="332" y="91"/>
                    </a:lnTo>
                    <a:lnTo>
                      <a:pt x="343" y="100"/>
                    </a:lnTo>
                    <a:lnTo>
                      <a:pt x="351" y="107"/>
                    </a:lnTo>
                    <a:lnTo>
                      <a:pt x="359" y="114"/>
                    </a:lnTo>
                    <a:lnTo>
                      <a:pt x="364" y="119"/>
                    </a:lnTo>
                    <a:lnTo>
                      <a:pt x="371" y="124"/>
                    </a:lnTo>
                    <a:lnTo>
                      <a:pt x="370" y="125"/>
                    </a:lnTo>
                    <a:lnTo>
                      <a:pt x="367" y="125"/>
                    </a:lnTo>
                    <a:lnTo>
                      <a:pt x="362" y="125"/>
                    </a:lnTo>
                    <a:lnTo>
                      <a:pt x="355" y="124"/>
                    </a:lnTo>
                    <a:lnTo>
                      <a:pt x="345" y="122"/>
                    </a:lnTo>
                    <a:lnTo>
                      <a:pt x="333" y="119"/>
                    </a:lnTo>
                    <a:lnTo>
                      <a:pt x="319" y="114"/>
                    </a:lnTo>
                    <a:lnTo>
                      <a:pt x="302" y="105"/>
                    </a:lnTo>
                    <a:lnTo>
                      <a:pt x="278" y="94"/>
                    </a:lnTo>
                    <a:lnTo>
                      <a:pt x="253" y="86"/>
                    </a:lnTo>
                    <a:lnTo>
                      <a:pt x="229" y="77"/>
                    </a:lnTo>
                    <a:lnTo>
                      <a:pt x="205" y="70"/>
                    </a:lnTo>
                    <a:lnTo>
                      <a:pt x="180" y="65"/>
                    </a:lnTo>
                    <a:lnTo>
                      <a:pt x="156" y="62"/>
                    </a:lnTo>
                    <a:lnTo>
                      <a:pt x="133" y="59"/>
                    </a:lnTo>
                    <a:lnTo>
                      <a:pt x="111" y="59"/>
                    </a:lnTo>
                    <a:close/>
                  </a:path>
                </a:pathLst>
              </a:custGeom>
              <a:solidFill>
                <a:srgbClr val="dca0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5661000" y="3444840"/>
                <a:ext cx="108000" cy="36720"/>
              </a:xfrm>
              <a:custGeom>
                <a:avLst/>
                <a:gdLst/>
                <a:ahLst/>
                <a:rect l="l" t="t" r="r" b="b"/>
                <a:pathLst>
                  <a:path w="340" h="112">
                    <a:moveTo>
                      <a:pt x="103" y="42"/>
                    </a:moveTo>
                    <a:lnTo>
                      <a:pt x="82" y="42"/>
                    </a:lnTo>
                    <a:lnTo>
                      <a:pt x="64" y="41"/>
                    </a:lnTo>
                    <a:lnTo>
                      <a:pt x="48" y="39"/>
                    </a:lnTo>
                    <a:lnTo>
                      <a:pt x="35" y="38"/>
                    </a:lnTo>
                    <a:lnTo>
                      <a:pt x="25" y="36"/>
                    </a:lnTo>
                    <a:lnTo>
                      <a:pt x="15" y="33"/>
                    </a:lnTo>
                    <a:lnTo>
                      <a:pt x="7" y="31"/>
                    </a:lnTo>
                    <a:lnTo>
                      <a:pt x="2" y="27"/>
                    </a:lnTo>
                    <a:lnTo>
                      <a:pt x="0" y="26"/>
                    </a:lnTo>
                    <a:lnTo>
                      <a:pt x="0" y="25"/>
                    </a:lnTo>
                    <a:lnTo>
                      <a:pt x="0" y="24"/>
                    </a:lnTo>
                    <a:lnTo>
                      <a:pt x="1" y="22"/>
                    </a:lnTo>
                    <a:lnTo>
                      <a:pt x="5" y="19"/>
                    </a:lnTo>
                    <a:lnTo>
                      <a:pt x="12" y="15"/>
                    </a:lnTo>
                    <a:lnTo>
                      <a:pt x="18" y="13"/>
                    </a:lnTo>
                    <a:lnTo>
                      <a:pt x="25" y="10"/>
                    </a:lnTo>
                    <a:lnTo>
                      <a:pt x="30" y="9"/>
                    </a:lnTo>
                    <a:lnTo>
                      <a:pt x="31" y="8"/>
                    </a:lnTo>
                    <a:lnTo>
                      <a:pt x="60" y="5"/>
                    </a:lnTo>
                    <a:lnTo>
                      <a:pt x="89" y="1"/>
                    </a:lnTo>
                    <a:lnTo>
                      <a:pt x="104" y="0"/>
                    </a:lnTo>
                    <a:lnTo>
                      <a:pt x="118" y="0"/>
                    </a:lnTo>
                    <a:lnTo>
                      <a:pt x="134" y="0"/>
                    </a:lnTo>
                    <a:lnTo>
                      <a:pt x="148" y="1"/>
                    </a:lnTo>
                    <a:lnTo>
                      <a:pt x="163" y="4"/>
                    </a:lnTo>
                    <a:lnTo>
                      <a:pt x="178" y="7"/>
                    </a:lnTo>
                    <a:lnTo>
                      <a:pt x="192" y="10"/>
                    </a:lnTo>
                    <a:lnTo>
                      <a:pt x="207" y="15"/>
                    </a:lnTo>
                    <a:lnTo>
                      <a:pt x="222" y="23"/>
                    </a:lnTo>
                    <a:lnTo>
                      <a:pt x="237" y="31"/>
                    </a:lnTo>
                    <a:lnTo>
                      <a:pt x="252" y="40"/>
                    </a:lnTo>
                    <a:lnTo>
                      <a:pt x="269" y="52"/>
                    </a:lnTo>
                    <a:lnTo>
                      <a:pt x="286" y="66"/>
                    </a:lnTo>
                    <a:lnTo>
                      <a:pt x="300" y="78"/>
                    </a:lnTo>
                    <a:lnTo>
                      <a:pt x="312" y="87"/>
                    </a:lnTo>
                    <a:lnTo>
                      <a:pt x="320" y="94"/>
                    </a:lnTo>
                    <a:lnTo>
                      <a:pt x="327" y="100"/>
                    </a:lnTo>
                    <a:lnTo>
                      <a:pt x="332" y="104"/>
                    </a:lnTo>
                    <a:lnTo>
                      <a:pt x="337" y="108"/>
                    </a:lnTo>
                    <a:lnTo>
                      <a:pt x="340" y="112"/>
                    </a:lnTo>
                    <a:lnTo>
                      <a:pt x="339" y="112"/>
                    </a:lnTo>
                    <a:lnTo>
                      <a:pt x="336" y="110"/>
                    </a:lnTo>
                    <a:lnTo>
                      <a:pt x="329" y="109"/>
                    </a:lnTo>
                    <a:lnTo>
                      <a:pt x="322" y="106"/>
                    </a:lnTo>
                    <a:lnTo>
                      <a:pt x="312" y="103"/>
                    </a:lnTo>
                    <a:lnTo>
                      <a:pt x="300" y="99"/>
                    </a:lnTo>
                    <a:lnTo>
                      <a:pt x="286" y="93"/>
                    </a:lnTo>
                    <a:lnTo>
                      <a:pt x="271" y="87"/>
                    </a:lnTo>
                    <a:lnTo>
                      <a:pt x="251" y="77"/>
                    </a:lnTo>
                    <a:lnTo>
                      <a:pt x="231" y="68"/>
                    </a:lnTo>
                    <a:lnTo>
                      <a:pt x="210" y="61"/>
                    </a:lnTo>
                    <a:lnTo>
                      <a:pt x="190" y="54"/>
                    </a:lnTo>
                    <a:lnTo>
                      <a:pt x="168" y="49"/>
                    </a:lnTo>
                    <a:lnTo>
                      <a:pt x="147" y="46"/>
                    </a:lnTo>
                    <a:lnTo>
                      <a:pt x="125" y="43"/>
                    </a:lnTo>
                    <a:lnTo>
                      <a:pt x="103" y="42"/>
                    </a:lnTo>
                    <a:close/>
                  </a:path>
                </a:pathLst>
              </a:custGeom>
              <a:solidFill>
                <a:srgbClr val="e1a5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5667480" y="3444840"/>
                <a:ext cx="98280" cy="31680"/>
              </a:xfrm>
              <a:custGeom>
                <a:avLst/>
                <a:gdLst/>
                <a:ahLst/>
                <a:rect l="l" t="t" r="r" b="b"/>
                <a:pathLst>
                  <a:path w="312" h="99">
                    <a:moveTo>
                      <a:pt x="312" y="99"/>
                    </a:moveTo>
                    <a:lnTo>
                      <a:pt x="310" y="98"/>
                    </a:lnTo>
                    <a:lnTo>
                      <a:pt x="308" y="95"/>
                    </a:lnTo>
                    <a:lnTo>
                      <a:pt x="304" y="93"/>
                    </a:lnTo>
                    <a:lnTo>
                      <a:pt x="300" y="90"/>
                    </a:lnTo>
                    <a:lnTo>
                      <a:pt x="293" y="84"/>
                    </a:lnTo>
                    <a:lnTo>
                      <a:pt x="283" y="76"/>
                    </a:lnTo>
                    <a:lnTo>
                      <a:pt x="270" y="65"/>
                    </a:lnTo>
                    <a:lnTo>
                      <a:pt x="253" y="51"/>
                    </a:lnTo>
                    <a:lnTo>
                      <a:pt x="236" y="39"/>
                    </a:lnTo>
                    <a:lnTo>
                      <a:pt x="221" y="30"/>
                    </a:lnTo>
                    <a:lnTo>
                      <a:pt x="206" y="22"/>
                    </a:lnTo>
                    <a:lnTo>
                      <a:pt x="192" y="15"/>
                    </a:lnTo>
                    <a:lnTo>
                      <a:pt x="177" y="10"/>
                    </a:lnTo>
                    <a:lnTo>
                      <a:pt x="163" y="6"/>
                    </a:lnTo>
                    <a:lnTo>
                      <a:pt x="149" y="3"/>
                    </a:lnTo>
                    <a:lnTo>
                      <a:pt x="135" y="1"/>
                    </a:lnTo>
                    <a:lnTo>
                      <a:pt x="122" y="0"/>
                    </a:lnTo>
                    <a:lnTo>
                      <a:pt x="108" y="0"/>
                    </a:lnTo>
                    <a:lnTo>
                      <a:pt x="95" y="0"/>
                    </a:lnTo>
                    <a:lnTo>
                      <a:pt x="81" y="1"/>
                    </a:lnTo>
                    <a:lnTo>
                      <a:pt x="54" y="4"/>
                    </a:lnTo>
                    <a:lnTo>
                      <a:pt x="28" y="7"/>
                    </a:lnTo>
                    <a:lnTo>
                      <a:pt x="26" y="7"/>
                    </a:lnTo>
                    <a:lnTo>
                      <a:pt x="21" y="8"/>
                    </a:lnTo>
                    <a:lnTo>
                      <a:pt x="16" y="10"/>
                    </a:lnTo>
                    <a:lnTo>
                      <a:pt x="10" y="12"/>
                    </a:lnTo>
                    <a:lnTo>
                      <a:pt x="4" y="14"/>
                    </a:lnTo>
                    <a:lnTo>
                      <a:pt x="1" y="18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1" y="21"/>
                    </a:lnTo>
                    <a:lnTo>
                      <a:pt x="3" y="22"/>
                    </a:lnTo>
                    <a:lnTo>
                      <a:pt x="9" y="23"/>
                    </a:lnTo>
                    <a:lnTo>
                      <a:pt x="15" y="24"/>
                    </a:lnTo>
                    <a:lnTo>
                      <a:pt x="24" y="25"/>
                    </a:lnTo>
                    <a:lnTo>
                      <a:pt x="33" y="26"/>
                    </a:lnTo>
                    <a:lnTo>
                      <a:pt x="45" y="26"/>
                    </a:lnTo>
                    <a:lnTo>
                      <a:pt x="59" y="26"/>
                    </a:lnTo>
                    <a:lnTo>
                      <a:pt x="77" y="26"/>
                    </a:lnTo>
                    <a:lnTo>
                      <a:pt x="97" y="26"/>
                    </a:lnTo>
                    <a:lnTo>
                      <a:pt x="119" y="27"/>
                    </a:lnTo>
                    <a:lnTo>
                      <a:pt x="138" y="30"/>
                    </a:lnTo>
                    <a:lnTo>
                      <a:pt x="158" y="34"/>
                    </a:lnTo>
                    <a:lnTo>
                      <a:pt x="176" y="39"/>
                    </a:lnTo>
                    <a:lnTo>
                      <a:pt x="193" y="46"/>
                    </a:lnTo>
                    <a:lnTo>
                      <a:pt x="211" y="52"/>
                    </a:lnTo>
                    <a:lnTo>
                      <a:pt x="228" y="61"/>
                    </a:lnTo>
                    <a:lnTo>
                      <a:pt x="245" y="68"/>
                    </a:lnTo>
                    <a:lnTo>
                      <a:pt x="257" y="74"/>
                    </a:lnTo>
                    <a:lnTo>
                      <a:pt x="269" y="79"/>
                    </a:lnTo>
                    <a:lnTo>
                      <a:pt x="281" y="85"/>
                    </a:lnTo>
                    <a:lnTo>
                      <a:pt x="290" y="89"/>
                    </a:lnTo>
                    <a:lnTo>
                      <a:pt x="299" y="93"/>
                    </a:lnTo>
                    <a:lnTo>
                      <a:pt x="306" y="95"/>
                    </a:lnTo>
                    <a:lnTo>
                      <a:pt x="310" y="98"/>
                    </a:lnTo>
                    <a:lnTo>
                      <a:pt x="312" y="99"/>
                    </a:lnTo>
                    <a:close/>
                  </a:path>
                </a:pathLst>
              </a:custGeom>
              <a:solidFill>
                <a:srgbClr val="e7a9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6216480" y="3033720"/>
                <a:ext cx="220680" cy="38160"/>
              </a:xfrm>
              <a:custGeom>
                <a:avLst/>
                <a:gdLst/>
                <a:ahLst/>
                <a:rect l="l" t="t" r="r" b="b"/>
                <a:pathLst>
                  <a:path w="695" h="117">
                    <a:moveTo>
                      <a:pt x="20" y="17"/>
                    </a:moveTo>
                    <a:lnTo>
                      <a:pt x="21" y="16"/>
                    </a:lnTo>
                    <a:lnTo>
                      <a:pt x="26" y="12"/>
                    </a:lnTo>
                    <a:lnTo>
                      <a:pt x="33" y="9"/>
                    </a:lnTo>
                    <a:lnTo>
                      <a:pt x="45" y="6"/>
                    </a:lnTo>
                    <a:lnTo>
                      <a:pt x="61" y="3"/>
                    </a:lnTo>
                    <a:lnTo>
                      <a:pt x="82" y="0"/>
                    </a:lnTo>
                    <a:lnTo>
                      <a:pt x="95" y="0"/>
                    </a:lnTo>
                    <a:lnTo>
                      <a:pt x="109" y="2"/>
                    </a:lnTo>
                    <a:lnTo>
                      <a:pt x="124" y="3"/>
                    </a:lnTo>
                    <a:lnTo>
                      <a:pt x="141" y="4"/>
                    </a:lnTo>
                    <a:lnTo>
                      <a:pt x="183" y="8"/>
                    </a:lnTo>
                    <a:lnTo>
                      <a:pt x="236" y="10"/>
                    </a:lnTo>
                    <a:lnTo>
                      <a:pt x="297" y="13"/>
                    </a:lnTo>
                    <a:lnTo>
                      <a:pt x="359" y="18"/>
                    </a:lnTo>
                    <a:lnTo>
                      <a:pt x="422" y="22"/>
                    </a:lnTo>
                    <a:lnTo>
                      <a:pt x="479" y="27"/>
                    </a:lnTo>
                    <a:lnTo>
                      <a:pt x="505" y="31"/>
                    </a:lnTo>
                    <a:lnTo>
                      <a:pt x="528" y="35"/>
                    </a:lnTo>
                    <a:lnTo>
                      <a:pt x="548" y="38"/>
                    </a:lnTo>
                    <a:lnTo>
                      <a:pt x="565" y="44"/>
                    </a:lnTo>
                    <a:lnTo>
                      <a:pt x="588" y="53"/>
                    </a:lnTo>
                    <a:lnTo>
                      <a:pt x="609" y="62"/>
                    </a:lnTo>
                    <a:lnTo>
                      <a:pt x="626" y="70"/>
                    </a:lnTo>
                    <a:lnTo>
                      <a:pt x="640" y="76"/>
                    </a:lnTo>
                    <a:lnTo>
                      <a:pt x="652" y="83"/>
                    </a:lnTo>
                    <a:lnTo>
                      <a:pt x="664" y="89"/>
                    </a:lnTo>
                    <a:lnTo>
                      <a:pt x="676" y="97"/>
                    </a:lnTo>
                    <a:lnTo>
                      <a:pt x="688" y="105"/>
                    </a:lnTo>
                    <a:lnTo>
                      <a:pt x="693" y="110"/>
                    </a:lnTo>
                    <a:lnTo>
                      <a:pt x="695" y="113"/>
                    </a:lnTo>
                    <a:lnTo>
                      <a:pt x="695" y="114"/>
                    </a:lnTo>
                    <a:lnTo>
                      <a:pt x="695" y="115"/>
                    </a:lnTo>
                    <a:lnTo>
                      <a:pt x="693" y="116"/>
                    </a:lnTo>
                    <a:lnTo>
                      <a:pt x="692" y="116"/>
                    </a:lnTo>
                    <a:lnTo>
                      <a:pt x="678" y="117"/>
                    </a:lnTo>
                    <a:lnTo>
                      <a:pt x="657" y="116"/>
                    </a:lnTo>
                    <a:lnTo>
                      <a:pt x="629" y="113"/>
                    </a:lnTo>
                    <a:lnTo>
                      <a:pt x="598" y="108"/>
                    </a:lnTo>
                    <a:lnTo>
                      <a:pt x="565" y="104"/>
                    </a:lnTo>
                    <a:lnTo>
                      <a:pt x="530" y="101"/>
                    </a:lnTo>
                    <a:lnTo>
                      <a:pt x="493" y="97"/>
                    </a:lnTo>
                    <a:lnTo>
                      <a:pt x="452" y="93"/>
                    </a:lnTo>
                    <a:lnTo>
                      <a:pt x="410" y="92"/>
                    </a:lnTo>
                    <a:lnTo>
                      <a:pt x="367" y="91"/>
                    </a:lnTo>
                    <a:lnTo>
                      <a:pt x="327" y="92"/>
                    </a:lnTo>
                    <a:lnTo>
                      <a:pt x="289" y="93"/>
                    </a:lnTo>
                    <a:lnTo>
                      <a:pt x="258" y="97"/>
                    </a:lnTo>
                    <a:lnTo>
                      <a:pt x="233" y="101"/>
                    </a:lnTo>
                    <a:lnTo>
                      <a:pt x="211" y="103"/>
                    </a:lnTo>
                    <a:lnTo>
                      <a:pt x="190" y="105"/>
                    </a:lnTo>
                    <a:lnTo>
                      <a:pt x="169" y="105"/>
                    </a:lnTo>
                    <a:lnTo>
                      <a:pt x="149" y="105"/>
                    </a:lnTo>
                    <a:lnTo>
                      <a:pt x="130" y="104"/>
                    </a:lnTo>
                    <a:lnTo>
                      <a:pt x="112" y="103"/>
                    </a:lnTo>
                    <a:lnTo>
                      <a:pt x="96" y="102"/>
                    </a:lnTo>
                    <a:lnTo>
                      <a:pt x="82" y="101"/>
                    </a:lnTo>
                    <a:lnTo>
                      <a:pt x="76" y="100"/>
                    </a:lnTo>
                    <a:lnTo>
                      <a:pt x="71" y="99"/>
                    </a:lnTo>
                    <a:lnTo>
                      <a:pt x="66" y="97"/>
                    </a:lnTo>
                    <a:lnTo>
                      <a:pt x="60" y="94"/>
                    </a:lnTo>
                    <a:lnTo>
                      <a:pt x="51" y="89"/>
                    </a:lnTo>
                    <a:lnTo>
                      <a:pt x="46" y="83"/>
                    </a:lnTo>
                    <a:lnTo>
                      <a:pt x="44" y="79"/>
                    </a:lnTo>
                    <a:lnTo>
                      <a:pt x="42" y="76"/>
                    </a:lnTo>
                    <a:lnTo>
                      <a:pt x="41" y="73"/>
                    </a:lnTo>
                    <a:lnTo>
                      <a:pt x="41" y="68"/>
                    </a:lnTo>
                    <a:lnTo>
                      <a:pt x="42" y="65"/>
                    </a:lnTo>
                    <a:lnTo>
                      <a:pt x="44" y="62"/>
                    </a:lnTo>
                    <a:lnTo>
                      <a:pt x="46" y="59"/>
                    </a:lnTo>
                    <a:lnTo>
                      <a:pt x="50" y="56"/>
                    </a:lnTo>
                    <a:lnTo>
                      <a:pt x="54" y="53"/>
                    </a:lnTo>
                    <a:lnTo>
                      <a:pt x="55" y="51"/>
                    </a:lnTo>
                    <a:lnTo>
                      <a:pt x="56" y="50"/>
                    </a:lnTo>
                    <a:lnTo>
                      <a:pt x="55" y="49"/>
                    </a:lnTo>
                    <a:lnTo>
                      <a:pt x="50" y="48"/>
                    </a:lnTo>
                    <a:lnTo>
                      <a:pt x="43" y="48"/>
                    </a:lnTo>
                    <a:lnTo>
                      <a:pt x="34" y="48"/>
                    </a:lnTo>
                    <a:lnTo>
                      <a:pt x="24" y="49"/>
                    </a:lnTo>
                    <a:lnTo>
                      <a:pt x="17" y="49"/>
                    </a:lnTo>
                    <a:lnTo>
                      <a:pt x="10" y="49"/>
                    </a:lnTo>
                    <a:lnTo>
                      <a:pt x="5" y="47"/>
                    </a:lnTo>
                    <a:lnTo>
                      <a:pt x="2" y="44"/>
                    </a:lnTo>
                    <a:lnTo>
                      <a:pt x="0" y="40"/>
                    </a:lnTo>
                    <a:lnTo>
                      <a:pt x="0" y="37"/>
                    </a:lnTo>
                    <a:lnTo>
                      <a:pt x="2" y="33"/>
                    </a:lnTo>
                    <a:lnTo>
                      <a:pt x="5" y="29"/>
                    </a:lnTo>
                    <a:lnTo>
                      <a:pt x="11" y="22"/>
                    </a:lnTo>
                    <a:lnTo>
                      <a:pt x="20" y="17"/>
                    </a:lnTo>
                    <a:close/>
                  </a:path>
                </a:pathLst>
              </a:custGeom>
              <a:solidFill>
                <a:srgbClr val="e7a9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6219720" y="3035520"/>
                <a:ext cx="211320" cy="33120"/>
              </a:xfrm>
              <a:custGeom>
                <a:avLst/>
                <a:gdLst/>
                <a:ahLst/>
                <a:rect l="l" t="t" r="r" b="b"/>
                <a:pathLst>
                  <a:path w="664" h="106">
                    <a:moveTo>
                      <a:pt x="230" y="84"/>
                    </a:moveTo>
                    <a:lnTo>
                      <a:pt x="209" y="86"/>
                    </a:lnTo>
                    <a:lnTo>
                      <a:pt x="188" y="87"/>
                    </a:lnTo>
                    <a:lnTo>
                      <a:pt x="168" y="88"/>
                    </a:lnTo>
                    <a:lnTo>
                      <a:pt x="148" y="88"/>
                    </a:lnTo>
                    <a:lnTo>
                      <a:pt x="130" y="87"/>
                    </a:lnTo>
                    <a:lnTo>
                      <a:pt x="113" y="86"/>
                    </a:lnTo>
                    <a:lnTo>
                      <a:pt x="98" y="85"/>
                    </a:lnTo>
                    <a:lnTo>
                      <a:pt x="84" y="84"/>
                    </a:lnTo>
                    <a:lnTo>
                      <a:pt x="72" y="83"/>
                    </a:lnTo>
                    <a:lnTo>
                      <a:pt x="61" y="80"/>
                    </a:lnTo>
                    <a:lnTo>
                      <a:pt x="51" y="75"/>
                    </a:lnTo>
                    <a:lnTo>
                      <a:pt x="45" y="71"/>
                    </a:lnTo>
                    <a:lnTo>
                      <a:pt x="42" y="68"/>
                    </a:lnTo>
                    <a:lnTo>
                      <a:pt x="39" y="66"/>
                    </a:lnTo>
                    <a:lnTo>
                      <a:pt x="38" y="62"/>
                    </a:lnTo>
                    <a:lnTo>
                      <a:pt x="38" y="60"/>
                    </a:lnTo>
                    <a:lnTo>
                      <a:pt x="38" y="57"/>
                    </a:lnTo>
                    <a:lnTo>
                      <a:pt x="40" y="55"/>
                    </a:lnTo>
                    <a:lnTo>
                      <a:pt x="43" y="52"/>
                    </a:lnTo>
                    <a:lnTo>
                      <a:pt x="46" y="49"/>
                    </a:lnTo>
                    <a:lnTo>
                      <a:pt x="50" y="47"/>
                    </a:lnTo>
                    <a:lnTo>
                      <a:pt x="52" y="45"/>
                    </a:lnTo>
                    <a:lnTo>
                      <a:pt x="52" y="44"/>
                    </a:lnTo>
                    <a:lnTo>
                      <a:pt x="52" y="43"/>
                    </a:lnTo>
                    <a:lnTo>
                      <a:pt x="49" y="41"/>
                    </a:lnTo>
                    <a:lnTo>
                      <a:pt x="43" y="41"/>
                    </a:lnTo>
                    <a:lnTo>
                      <a:pt x="35" y="41"/>
                    </a:lnTo>
                    <a:lnTo>
                      <a:pt x="26" y="41"/>
                    </a:lnTo>
                    <a:lnTo>
                      <a:pt x="19" y="41"/>
                    </a:lnTo>
                    <a:lnTo>
                      <a:pt x="11" y="40"/>
                    </a:lnTo>
                    <a:lnTo>
                      <a:pt x="7" y="39"/>
                    </a:lnTo>
                    <a:lnTo>
                      <a:pt x="4" y="36"/>
                    </a:lnTo>
                    <a:lnTo>
                      <a:pt x="2" y="34"/>
                    </a:lnTo>
                    <a:lnTo>
                      <a:pt x="0" y="31"/>
                    </a:lnTo>
                    <a:lnTo>
                      <a:pt x="2" y="28"/>
                    </a:lnTo>
                    <a:lnTo>
                      <a:pt x="6" y="23"/>
                    </a:lnTo>
                    <a:lnTo>
                      <a:pt x="11" y="19"/>
                    </a:lnTo>
                    <a:lnTo>
                      <a:pt x="19" y="15"/>
                    </a:lnTo>
                    <a:lnTo>
                      <a:pt x="20" y="14"/>
                    </a:lnTo>
                    <a:lnTo>
                      <a:pt x="24" y="12"/>
                    </a:lnTo>
                    <a:lnTo>
                      <a:pt x="32" y="8"/>
                    </a:lnTo>
                    <a:lnTo>
                      <a:pt x="43" y="5"/>
                    </a:lnTo>
                    <a:lnTo>
                      <a:pt x="58" y="2"/>
                    </a:lnTo>
                    <a:lnTo>
                      <a:pt x="78" y="1"/>
                    </a:lnTo>
                    <a:lnTo>
                      <a:pt x="105" y="0"/>
                    </a:lnTo>
                    <a:lnTo>
                      <a:pt x="138" y="3"/>
                    </a:lnTo>
                    <a:lnTo>
                      <a:pt x="179" y="6"/>
                    </a:lnTo>
                    <a:lnTo>
                      <a:pt x="231" y="10"/>
                    </a:lnTo>
                    <a:lnTo>
                      <a:pt x="288" y="14"/>
                    </a:lnTo>
                    <a:lnTo>
                      <a:pt x="348" y="17"/>
                    </a:lnTo>
                    <a:lnTo>
                      <a:pt x="408" y="21"/>
                    </a:lnTo>
                    <a:lnTo>
                      <a:pt x="463" y="27"/>
                    </a:lnTo>
                    <a:lnTo>
                      <a:pt x="488" y="30"/>
                    </a:lnTo>
                    <a:lnTo>
                      <a:pt x="510" y="33"/>
                    </a:lnTo>
                    <a:lnTo>
                      <a:pt x="530" y="37"/>
                    </a:lnTo>
                    <a:lnTo>
                      <a:pt x="546" y="42"/>
                    </a:lnTo>
                    <a:lnTo>
                      <a:pt x="569" y="50"/>
                    </a:lnTo>
                    <a:lnTo>
                      <a:pt x="587" y="58"/>
                    </a:lnTo>
                    <a:lnTo>
                      <a:pt x="602" y="63"/>
                    </a:lnTo>
                    <a:lnTo>
                      <a:pt x="614" y="69"/>
                    </a:lnTo>
                    <a:lnTo>
                      <a:pt x="625" y="74"/>
                    </a:lnTo>
                    <a:lnTo>
                      <a:pt x="635" y="80"/>
                    </a:lnTo>
                    <a:lnTo>
                      <a:pt x="644" y="86"/>
                    </a:lnTo>
                    <a:lnTo>
                      <a:pt x="655" y="94"/>
                    </a:lnTo>
                    <a:lnTo>
                      <a:pt x="661" y="98"/>
                    </a:lnTo>
                    <a:lnTo>
                      <a:pt x="664" y="101"/>
                    </a:lnTo>
                    <a:lnTo>
                      <a:pt x="664" y="102"/>
                    </a:lnTo>
                    <a:lnTo>
                      <a:pt x="664" y="103"/>
                    </a:lnTo>
                    <a:lnTo>
                      <a:pt x="664" y="104"/>
                    </a:lnTo>
                    <a:lnTo>
                      <a:pt x="663" y="106"/>
                    </a:lnTo>
                    <a:lnTo>
                      <a:pt x="653" y="106"/>
                    </a:lnTo>
                    <a:lnTo>
                      <a:pt x="636" y="104"/>
                    </a:lnTo>
                    <a:lnTo>
                      <a:pt x="613" y="101"/>
                    </a:lnTo>
                    <a:lnTo>
                      <a:pt x="585" y="98"/>
                    </a:lnTo>
                    <a:lnTo>
                      <a:pt x="553" y="93"/>
                    </a:lnTo>
                    <a:lnTo>
                      <a:pt x="519" y="89"/>
                    </a:lnTo>
                    <a:lnTo>
                      <a:pt x="482" y="85"/>
                    </a:lnTo>
                    <a:lnTo>
                      <a:pt x="442" y="82"/>
                    </a:lnTo>
                    <a:lnTo>
                      <a:pt x="402" y="80"/>
                    </a:lnTo>
                    <a:lnTo>
                      <a:pt x="361" y="80"/>
                    </a:lnTo>
                    <a:lnTo>
                      <a:pt x="321" y="80"/>
                    </a:lnTo>
                    <a:lnTo>
                      <a:pt x="286" y="80"/>
                    </a:lnTo>
                    <a:lnTo>
                      <a:pt x="254" y="82"/>
                    </a:lnTo>
                    <a:lnTo>
                      <a:pt x="230" y="84"/>
                    </a:lnTo>
                    <a:close/>
                  </a:path>
                </a:pathLst>
              </a:custGeom>
              <a:solidFill>
                <a:srgbClr val="e9ac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6224400" y="3036960"/>
                <a:ext cx="200160" cy="30240"/>
              </a:xfrm>
              <a:custGeom>
                <a:avLst/>
                <a:gdLst/>
                <a:ahLst/>
                <a:rect l="l" t="t" r="r" b="b"/>
                <a:pathLst>
                  <a:path w="631" h="94">
                    <a:moveTo>
                      <a:pt x="225" y="69"/>
                    </a:moveTo>
                    <a:lnTo>
                      <a:pt x="206" y="70"/>
                    </a:lnTo>
                    <a:lnTo>
                      <a:pt x="186" y="70"/>
                    </a:lnTo>
                    <a:lnTo>
                      <a:pt x="167" y="71"/>
                    </a:lnTo>
                    <a:lnTo>
                      <a:pt x="147" y="71"/>
                    </a:lnTo>
                    <a:lnTo>
                      <a:pt x="130" y="71"/>
                    </a:lnTo>
                    <a:lnTo>
                      <a:pt x="113" y="71"/>
                    </a:lnTo>
                    <a:lnTo>
                      <a:pt x="98" y="70"/>
                    </a:lnTo>
                    <a:lnTo>
                      <a:pt x="84" y="69"/>
                    </a:lnTo>
                    <a:lnTo>
                      <a:pt x="72" y="68"/>
                    </a:lnTo>
                    <a:lnTo>
                      <a:pt x="61" y="66"/>
                    </a:lnTo>
                    <a:lnTo>
                      <a:pt x="51" y="63"/>
                    </a:lnTo>
                    <a:lnTo>
                      <a:pt x="44" y="60"/>
                    </a:lnTo>
                    <a:lnTo>
                      <a:pt x="40" y="58"/>
                    </a:lnTo>
                    <a:lnTo>
                      <a:pt x="38" y="56"/>
                    </a:lnTo>
                    <a:lnTo>
                      <a:pt x="37" y="55"/>
                    </a:lnTo>
                    <a:lnTo>
                      <a:pt x="36" y="53"/>
                    </a:lnTo>
                    <a:lnTo>
                      <a:pt x="37" y="51"/>
                    </a:lnTo>
                    <a:lnTo>
                      <a:pt x="38" y="49"/>
                    </a:lnTo>
                    <a:lnTo>
                      <a:pt x="40" y="46"/>
                    </a:lnTo>
                    <a:lnTo>
                      <a:pt x="45" y="44"/>
                    </a:lnTo>
                    <a:lnTo>
                      <a:pt x="48" y="41"/>
                    </a:lnTo>
                    <a:lnTo>
                      <a:pt x="50" y="40"/>
                    </a:lnTo>
                    <a:lnTo>
                      <a:pt x="51" y="38"/>
                    </a:lnTo>
                    <a:lnTo>
                      <a:pt x="51" y="37"/>
                    </a:lnTo>
                    <a:lnTo>
                      <a:pt x="48" y="36"/>
                    </a:lnTo>
                    <a:lnTo>
                      <a:pt x="43" y="34"/>
                    </a:lnTo>
                    <a:lnTo>
                      <a:pt x="35" y="34"/>
                    </a:lnTo>
                    <a:lnTo>
                      <a:pt x="26" y="34"/>
                    </a:lnTo>
                    <a:lnTo>
                      <a:pt x="19" y="34"/>
                    </a:lnTo>
                    <a:lnTo>
                      <a:pt x="12" y="34"/>
                    </a:lnTo>
                    <a:lnTo>
                      <a:pt x="7" y="33"/>
                    </a:lnTo>
                    <a:lnTo>
                      <a:pt x="4" y="31"/>
                    </a:lnTo>
                    <a:lnTo>
                      <a:pt x="1" y="29"/>
                    </a:lnTo>
                    <a:lnTo>
                      <a:pt x="0" y="27"/>
                    </a:lnTo>
                    <a:lnTo>
                      <a:pt x="1" y="24"/>
                    </a:lnTo>
                    <a:lnTo>
                      <a:pt x="5" y="20"/>
                    </a:lnTo>
                    <a:lnTo>
                      <a:pt x="10" y="16"/>
                    </a:lnTo>
                    <a:lnTo>
                      <a:pt x="17" y="12"/>
                    </a:lnTo>
                    <a:lnTo>
                      <a:pt x="18" y="11"/>
                    </a:lnTo>
                    <a:lnTo>
                      <a:pt x="22" y="9"/>
                    </a:lnTo>
                    <a:lnTo>
                      <a:pt x="28" y="6"/>
                    </a:lnTo>
                    <a:lnTo>
                      <a:pt x="39" y="3"/>
                    </a:lnTo>
                    <a:lnTo>
                      <a:pt x="53" y="1"/>
                    </a:lnTo>
                    <a:lnTo>
                      <a:pt x="74" y="0"/>
                    </a:lnTo>
                    <a:lnTo>
                      <a:pt x="99" y="1"/>
                    </a:lnTo>
                    <a:lnTo>
                      <a:pt x="131" y="4"/>
                    </a:lnTo>
                    <a:lnTo>
                      <a:pt x="172" y="7"/>
                    </a:lnTo>
                    <a:lnTo>
                      <a:pt x="223" y="11"/>
                    </a:lnTo>
                    <a:lnTo>
                      <a:pt x="278" y="13"/>
                    </a:lnTo>
                    <a:lnTo>
                      <a:pt x="336" y="16"/>
                    </a:lnTo>
                    <a:lnTo>
                      <a:pt x="393" y="20"/>
                    </a:lnTo>
                    <a:lnTo>
                      <a:pt x="445" y="26"/>
                    </a:lnTo>
                    <a:lnTo>
                      <a:pt x="469" y="29"/>
                    </a:lnTo>
                    <a:lnTo>
                      <a:pt x="492" y="32"/>
                    </a:lnTo>
                    <a:lnTo>
                      <a:pt x="510" y="37"/>
                    </a:lnTo>
                    <a:lnTo>
                      <a:pt x="526" y="42"/>
                    </a:lnTo>
                    <a:lnTo>
                      <a:pt x="546" y="49"/>
                    </a:lnTo>
                    <a:lnTo>
                      <a:pt x="562" y="54"/>
                    </a:lnTo>
                    <a:lnTo>
                      <a:pt x="575" y="59"/>
                    </a:lnTo>
                    <a:lnTo>
                      <a:pt x="586" y="64"/>
                    </a:lnTo>
                    <a:lnTo>
                      <a:pt x="596" y="67"/>
                    </a:lnTo>
                    <a:lnTo>
                      <a:pt x="604" y="71"/>
                    </a:lnTo>
                    <a:lnTo>
                      <a:pt x="612" y="76"/>
                    </a:lnTo>
                    <a:lnTo>
                      <a:pt x="620" y="81"/>
                    </a:lnTo>
                    <a:lnTo>
                      <a:pt x="626" y="85"/>
                    </a:lnTo>
                    <a:lnTo>
                      <a:pt x="630" y="88"/>
                    </a:lnTo>
                    <a:lnTo>
                      <a:pt x="631" y="91"/>
                    </a:lnTo>
                    <a:lnTo>
                      <a:pt x="631" y="93"/>
                    </a:lnTo>
                    <a:lnTo>
                      <a:pt x="629" y="94"/>
                    </a:lnTo>
                    <a:lnTo>
                      <a:pt x="626" y="94"/>
                    </a:lnTo>
                    <a:lnTo>
                      <a:pt x="620" y="94"/>
                    </a:lnTo>
                    <a:lnTo>
                      <a:pt x="613" y="93"/>
                    </a:lnTo>
                    <a:lnTo>
                      <a:pt x="595" y="91"/>
                    </a:lnTo>
                    <a:lnTo>
                      <a:pt x="571" y="86"/>
                    </a:lnTo>
                    <a:lnTo>
                      <a:pt x="542" y="83"/>
                    </a:lnTo>
                    <a:lnTo>
                      <a:pt x="509" y="79"/>
                    </a:lnTo>
                    <a:lnTo>
                      <a:pt x="472" y="74"/>
                    </a:lnTo>
                    <a:lnTo>
                      <a:pt x="434" y="71"/>
                    </a:lnTo>
                    <a:lnTo>
                      <a:pt x="394" y="69"/>
                    </a:lnTo>
                    <a:lnTo>
                      <a:pt x="354" y="68"/>
                    </a:lnTo>
                    <a:lnTo>
                      <a:pt x="316" y="68"/>
                    </a:lnTo>
                    <a:lnTo>
                      <a:pt x="280" y="68"/>
                    </a:lnTo>
                    <a:lnTo>
                      <a:pt x="250" y="68"/>
                    </a:lnTo>
                    <a:lnTo>
                      <a:pt x="225" y="69"/>
                    </a:lnTo>
                    <a:close/>
                  </a:path>
                </a:pathLst>
              </a:custGeom>
              <a:solidFill>
                <a:srgbClr val="edb3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6227640" y="3038400"/>
                <a:ext cx="192240" cy="25560"/>
              </a:xfrm>
              <a:custGeom>
                <a:avLst/>
                <a:gdLst/>
                <a:ahLst/>
                <a:rect l="l" t="t" r="r" b="b"/>
                <a:pathLst>
                  <a:path w="603" h="80">
                    <a:moveTo>
                      <a:pt x="222" y="51"/>
                    </a:moveTo>
                    <a:lnTo>
                      <a:pt x="202" y="51"/>
                    </a:lnTo>
                    <a:lnTo>
                      <a:pt x="184" y="51"/>
                    </a:lnTo>
                    <a:lnTo>
                      <a:pt x="165" y="52"/>
                    </a:lnTo>
                    <a:lnTo>
                      <a:pt x="148" y="52"/>
                    </a:lnTo>
                    <a:lnTo>
                      <a:pt x="131" y="53"/>
                    </a:lnTo>
                    <a:lnTo>
                      <a:pt x="114" y="54"/>
                    </a:lnTo>
                    <a:lnTo>
                      <a:pt x="98" y="54"/>
                    </a:lnTo>
                    <a:lnTo>
                      <a:pt x="86" y="54"/>
                    </a:lnTo>
                    <a:lnTo>
                      <a:pt x="74" y="52"/>
                    </a:lnTo>
                    <a:lnTo>
                      <a:pt x="62" y="51"/>
                    </a:lnTo>
                    <a:lnTo>
                      <a:pt x="52" y="49"/>
                    </a:lnTo>
                    <a:lnTo>
                      <a:pt x="43" y="48"/>
                    </a:lnTo>
                    <a:lnTo>
                      <a:pt x="38" y="46"/>
                    </a:lnTo>
                    <a:lnTo>
                      <a:pt x="36" y="44"/>
                    </a:lnTo>
                    <a:lnTo>
                      <a:pt x="36" y="42"/>
                    </a:lnTo>
                    <a:lnTo>
                      <a:pt x="37" y="40"/>
                    </a:lnTo>
                    <a:lnTo>
                      <a:pt x="40" y="39"/>
                    </a:lnTo>
                    <a:lnTo>
                      <a:pt x="43" y="37"/>
                    </a:lnTo>
                    <a:lnTo>
                      <a:pt x="47" y="34"/>
                    </a:lnTo>
                    <a:lnTo>
                      <a:pt x="49" y="32"/>
                    </a:lnTo>
                    <a:lnTo>
                      <a:pt x="50" y="31"/>
                    </a:lnTo>
                    <a:lnTo>
                      <a:pt x="50" y="29"/>
                    </a:lnTo>
                    <a:lnTo>
                      <a:pt x="48" y="27"/>
                    </a:lnTo>
                    <a:lnTo>
                      <a:pt x="42" y="27"/>
                    </a:lnTo>
                    <a:lnTo>
                      <a:pt x="35" y="27"/>
                    </a:lnTo>
                    <a:lnTo>
                      <a:pt x="27" y="27"/>
                    </a:lnTo>
                    <a:lnTo>
                      <a:pt x="20" y="27"/>
                    </a:lnTo>
                    <a:lnTo>
                      <a:pt x="13" y="26"/>
                    </a:lnTo>
                    <a:lnTo>
                      <a:pt x="9" y="25"/>
                    </a:lnTo>
                    <a:lnTo>
                      <a:pt x="5" y="24"/>
                    </a:lnTo>
                    <a:lnTo>
                      <a:pt x="1" y="22"/>
                    </a:lnTo>
                    <a:lnTo>
                      <a:pt x="0" y="20"/>
                    </a:lnTo>
                    <a:lnTo>
                      <a:pt x="1" y="18"/>
                    </a:lnTo>
                    <a:lnTo>
                      <a:pt x="3" y="14"/>
                    </a:lnTo>
                    <a:lnTo>
                      <a:pt x="8" y="12"/>
                    </a:lnTo>
                    <a:lnTo>
                      <a:pt x="13" y="9"/>
                    </a:lnTo>
                    <a:lnTo>
                      <a:pt x="14" y="9"/>
                    </a:lnTo>
                    <a:lnTo>
                      <a:pt x="19" y="7"/>
                    </a:lnTo>
                    <a:lnTo>
                      <a:pt x="25" y="5"/>
                    </a:lnTo>
                    <a:lnTo>
                      <a:pt x="35" y="2"/>
                    </a:lnTo>
                    <a:lnTo>
                      <a:pt x="50" y="0"/>
                    </a:lnTo>
                    <a:lnTo>
                      <a:pt x="69" y="0"/>
                    </a:lnTo>
                    <a:lnTo>
                      <a:pt x="95" y="1"/>
                    </a:lnTo>
                    <a:lnTo>
                      <a:pt x="128" y="5"/>
                    </a:lnTo>
                    <a:lnTo>
                      <a:pt x="168" y="8"/>
                    </a:lnTo>
                    <a:lnTo>
                      <a:pt x="215" y="10"/>
                    </a:lnTo>
                    <a:lnTo>
                      <a:pt x="269" y="12"/>
                    </a:lnTo>
                    <a:lnTo>
                      <a:pt x="324" y="15"/>
                    </a:lnTo>
                    <a:lnTo>
                      <a:pt x="378" y="18"/>
                    </a:lnTo>
                    <a:lnTo>
                      <a:pt x="428" y="23"/>
                    </a:lnTo>
                    <a:lnTo>
                      <a:pt x="451" y="25"/>
                    </a:lnTo>
                    <a:lnTo>
                      <a:pt x="472" y="28"/>
                    </a:lnTo>
                    <a:lnTo>
                      <a:pt x="490" y="33"/>
                    </a:lnTo>
                    <a:lnTo>
                      <a:pt x="506" y="37"/>
                    </a:lnTo>
                    <a:lnTo>
                      <a:pt x="523" y="42"/>
                    </a:lnTo>
                    <a:lnTo>
                      <a:pt x="538" y="47"/>
                    </a:lnTo>
                    <a:lnTo>
                      <a:pt x="550" y="51"/>
                    </a:lnTo>
                    <a:lnTo>
                      <a:pt x="560" y="54"/>
                    </a:lnTo>
                    <a:lnTo>
                      <a:pt x="568" y="58"/>
                    </a:lnTo>
                    <a:lnTo>
                      <a:pt x="575" y="61"/>
                    </a:lnTo>
                    <a:lnTo>
                      <a:pt x="582" y="64"/>
                    </a:lnTo>
                    <a:lnTo>
                      <a:pt x="590" y="68"/>
                    </a:lnTo>
                    <a:lnTo>
                      <a:pt x="600" y="75"/>
                    </a:lnTo>
                    <a:lnTo>
                      <a:pt x="603" y="79"/>
                    </a:lnTo>
                    <a:lnTo>
                      <a:pt x="602" y="80"/>
                    </a:lnTo>
                    <a:lnTo>
                      <a:pt x="600" y="80"/>
                    </a:lnTo>
                    <a:lnTo>
                      <a:pt x="596" y="80"/>
                    </a:lnTo>
                    <a:lnTo>
                      <a:pt x="591" y="79"/>
                    </a:lnTo>
                    <a:lnTo>
                      <a:pt x="576" y="77"/>
                    </a:lnTo>
                    <a:lnTo>
                      <a:pt x="555" y="74"/>
                    </a:lnTo>
                    <a:lnTo>
                      <a:pt x="530" y="71"/>
                    </a:lnTo>
                    <a:lnTo>
                      <a:pt x="498" y="66"/>
                    </a:lnTo>
                    <a:lnTo>
                      <a:pt x="463" y="62"/>
                    </a:lnTo>
                    <a:lnTo>
                      <a:pt x="425" y="59"/>
                    </a:lnTo>
                    <a:lnTo>
                      <a:pt x="385" y="56"/>
                    </a:lnTo>
                    <a:lnTo>
                      <a:pt x="347" y="55"/>
                    </a:lnTo>
                    <a:lnTo>
                      <a:pt x="309" y="54"/>
                    </a:lnTo>
                    <a:lnTo>
                      <a:pt x="276" y="53"/>
                    </a:lnTo>
                    <a:lnTo>
                      <a:pt x="245" y="52"/>
                    </a:lnTo>
                    <a:lnTo>
                      <a:pt x="222" y="51"/>
                    </a:lnTo>
                    <a:close/>
                  </a:path>
                </a:pathLst>
              </a:custGeom>
              <a:solidFill>
                <a:srgbClr val="f0b6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6230880" y="3040200"/>
                <a:ext cx="182520" cy="20520"/>
              </a:xfrm>
              <a:custGeom>
                <a:avLst/>
                <a:gdLst/>
                <a:ahLst/>
                <a:rect l="l" t="t" r="r" b="b"/>
                <a:pathLst>
                  <a:path w="573" h="69">
                    <a:moveTo>
                      <a:pt x="11" y="5"/>
                    </a:moveTo>
                    <a:lnTo>
                      <a:pt x="12" y="5"/>
                    </a:lnTo>
                    <a:lnTo>
                      <a:pt x="15" y="4"/>
                    </a:lnTo>
                    <a:lnTo>
                      <a:pt x="22" y="2"/>
                    </a:lnTo>
                    <a:lnTo>
                      <a:pt x="31" y="1"/>
                    </a:lnTo>
                    <a:lnTo>
                      <a:pt x="47" y="0"/>
                    </a:lnTo>
                    <a:lnTo>
                      <a:pt x="66" y="0"/>
                    </a:lnTo>
                    <a:lnTo>
                      <a:pt x="91" y="1"/>
                    </a:lnTo>
                    <a:lnTo>
                      <a:pt x="122" y="3"/>
                    </a:lnTo>
                    <a:lnTo>
                      <a:pt x="162" y="7"/>
                    </a:lnTo>
                    <a:lnTo>
                      <a:pt x="209" y="9"/>
                    </a:lnTo>
                    <a:lnTo>
                      <a:pt x="259" y="11"/>
                    </a:lnTo>
                    <a:lnTo>
                      <a:pt x="312" y="14"/>
                    </a:lnTo>
                    <a:lnTo>
                      <a:pt x="363" y="16"/>
                    </a:lnTo>
                    <a:lnTo>
                      <a:pt x="412" y="20"/>
                    </a:lnTo>
                    <a:lnTo>
                      <a:pt x="433" y="23"/>
                    </a:lnTo>
                    <a:lnTo>
                      <a:pt x="453" y="27"/>
                    </a:lnTo>
                    <a:lnTo>
                      <a:pt x="471" y="30"/>
                    </a:lnTo>
                    <a:lnTo>
                      <a:pt x="486" y="35"/>
                    </a:lnTo>
                    <a:lnTo>
                      <a:pt x="500" y="40"/>
                    </a:lnTo>
                    <a:lnTo>
                      <a:pt x="512" y="43"/>
                    </a:lnTo>
                    <a:lnTo>
                      <a:pt x="523" y="45"/>
                    </a:lnTo>
                    <a:lnTo>
                      <a:pt x="530" y="47"/>
                    </a:lnTo>
                    <a:lnTo>
                      <a:pt x="537" y="49"/>
                    </a:lnTo>
                    <a:lnTo>
                      <a:pt x="543" y="51"/>
                    </a:lnTo>
                    <a:lnTo>
                      <a:pt x="548" y="54"/>
                    </a:lnTo>
                    <a:lnTo>
                      <a:pt x="553" y="57"/>
                    </a:lnTo>
                    <a:lnTo>
                      <a:pt x="564" y="64"/>
                    </a:lnTo>
                    <a:lnTo>
                      <a:pt x="570" y="68"/>
                    </a:lnTo>
                    <a:lnTo>
                      <a:pt x="573" y="69"/>
                    </a:lnTo>
                    <a:lnTo>
                      <a:pt x="573" y="69"/>
                    </a:lnTo>
                    <a:lnTo>
                      <a:pt x="570" y="69"/>
                    </a:lnTo>
                    <a:lnTo>
                      <a:pt x="567" y="68"/>
                    </a:lnTo>
                    <a:lnTo>
                      <a:pt x="557" y="65"/>
                    </a:lnTo>
                    <a:lnTo>
                      <a:pt x="540" y="62"/>
                    </a:lnTo>
                    <a:lnTo>
                      <a:pt x="516" y="59"/>
                    </a:lnTo>
                    <a:lnTo>
                      <a:pt x="486" y="55"/>
                    </a:lnTo>
                    <a:lnTo>
                      <a:pt x="451" y="50"/>
                    </a:lnTo>
                    <a:lnTo>
                      <a:pt x="414" y="47"/>
                    </a:lnTo>
                    <a:lnTo>
                      <a:pt x="376" y="45"/>
                    </a:lnTo>
                    <a:lnTo>
                      <a:pt x="338" y="42"/>
                    </a:lnTo>
                    <a:lnTo>
                      <a:pt x="303" y="41"/>
                    </a:lnTo>
                    <a:lnTo>
                      <a:pt x="270" y="38"/>
                    </a:lnTo>
                    <a:lnTo>
                      <a:pt x="241" y="36"/>
                    </a:lnTo>
                    <a:lnTo>
                      <a:pt x="216" y="35"/>
                    </a:lnTo>
                    <a:lnTo>
                      <a:pt x="199" y="33"/>
                    </a:lnTo>
                    <a:lnTo>
                      <a:pt x="182" y="33"/>
                    </a:lnTo>
                    <a:lnTo>
                      <a:pt x="163" y="33"/>
                    </a:lnTo>
                    <a:lnTo>
                      <a:pt x="147" y="34"/>
                    </a:lnTo>
                    <a:lnTo>
                      <a:pt x="130" y="36"/>
                    </a:lnTo>
                    <a:lnTo>
                      <a:pt x="115" y="37"/>
                    </a:lnTo>
                    <a:lnTo>
                      <a:pt x="99" y="37"/>
                    </a:lnTo>
                    <a:lnTo>
                      <a:pt x="85" y="37"/>
                    </a:lnTo>
                    <a:lnTo>
                      <a:pt x="74" y="37"/>
                    </a:lnTo>
                    <a:lnTo>
                      <a:pt x="62" y="37"/>
                    </a:lnTo>
                    <a:lnTo>
                      <a:pt x="51" y="37"/>
                    </a:lnTo>
                    <a:lnTo>
                      <a:pt x="42" y="37"/>
                    </a:lnTo>
                    <a:lnTo>
                      <a:pt x="36" y="36"/>
                    </a:lnTo>
                    <a:lnTo>
                      <a:pt x="32" y="35"/>
                    </a:lnTo>
                    <a:lnTo>
                      <a:pt x="31" y="34"/>
                    </a:lnTo>
                    <a:lnTo>
                      <a:pt x="32" y="32"/>
                    </a:lnTo>
                    <a:lnTo>
                      <a:pt x="35" y="30"/>
                    </a:lnTo>
                    <a:lnTo>
                      <a:pt x="39" y="28"/>
                    </a:lnTo>
                    <a:lnTo>
                      <a:pt x="44" y="23"/>
                    </a:lnTo>
                    <a:lnTo>
                      <a:pt x="47" y="21"/>
                    </a:lnTo>
                    <a:lnTo>
                      <a:pt x="44" y="20"/>
                    </a:lnTo>
                    <a:lnTo>
                      <a:pt x="40" y="20"/>
                    </a:lnTo>
                    <a:lnTo>
                      <a:pt x="34" y="20"/>
                    </a:lnTo>
                    <a:lnTo>
                      <a:pt x="27" y="21"/>
                    </a:lnTo>
                    <a:lnTo>
                      <a:pt x="21" y="21"/>
                    </a:lnTo>
                    <a:lnTo>
                      <a:pt x="14" y="20"/>
                    </a:lnTo>
                    <a:lnTo>
                      <a:pt x="9" y="19"/>
                    </a:lnTo>
                    <a:lnTo>
                      <a:pt x="4" y="18"/>
                    </a:lnTo>
                    <a:lnTo>
                      <a:pt x="2" y="17"/>
                    </a:lnTo>
                    <a:lnTo>
                      <a:pt x="0" y="15"/>
                    </a:lnTo>
                    <a:lnTo>
                      <a:pt x="1" y="13"/>
                    </a:lnTo>
                    <a:lnTo>
                      <a:pt x="2" y="10"/>
                    </a:lnTo>
                    <a:lnTo>
                      <a:pt x="5" y="8"/>
                    </a:lnTo>
                    <a:lnTo>
                      <a:pt x="11" y="5"/>
                    </a:lnTo>
                    <a:close/>
                  </a:path>
                </a:pathLst>
              </a:custGeom>
              <a:solidFill>
                <a:srgbClr val="f3ba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14" name=""/>
            <p:cNvSpPr/>
            <p:nvPr/>
          </p:nvSpPr>
          <p:spPr>
            <a:xfrm>
              <a:off x="6094440" y="3102120"/>
              <a:ext cx="9360" cy="14040"/>
            </a:xfrm>
            <a:custGeom>
              <a:avLst/>
              <a:gdLst/>
              <a:ahLst/>
              <a:rect l="l" t="t" r="r" b="b"/>
              <a:pathLst>
                <a:path w="33" h="45">
                  <a:moveTo>
                    <a:pt x="5" y="0"/>
                  </a:moveTo>
                  <a:lnTo>
                    <a:pt x="5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1"/>
                  </a:lnTo>
                  <a:lnTo>
                    <a:pt x="10" y="2"/>
                  </a:lnTo>
                  <a:lnTo>
                    <a:pt x="11" y="4"/>
                  </a:lnTo>
                  <a:lnTo>
                    <a:pt x="13" y="5"/>
                  </a:lnTo>
                  <a:lnTo>
                    <a:pt x="14" y="7"/>
                  </a:lnTo>
                  <a:lnTo>
                    <a:pt x="15" y="8"/>
                  </a:lnTo>
                  <a:lnTo>
                    <a:pt x="16" y="9"/>
                  </a:lnTo>
                  <a:lnTo>
                    <a:pt x="17" y="11"/>
                  </a:lnTo>
                  <a:lnTo>
                    <a:pt x="18" y="12"/>
                  </a:lnTo>
                  <a:lnTo>
                    <a:pt x="19" y="14"/>
                  </a:lnTo>
                  <a:lnTo>
                    <a:pt x="21" y="16"/>
                  </a:lnTo>
                  <a:lnTo>
                    <a:pt x="22" y="20"/>
                  </a:lnTo>
                  <a:lnTo>
                    <a:pt x="24" y="22"/>
                  </a:lnTo>
                  <a:lnTo>
                    <a:pt x="26" y="23"/>
                  </a:lnTo>
                  <a:lnTo>
                    <a:pt x="28" y="24"/>
                  </a:lnTo>
                  <a:lnTo>
                    <a:pt x="29" y="24"/>
                  </a:lnTo>
                  <a:lnTo>
                    <a:pt x="31" y="26"/>
                  </a:lnTo>
                  <a:lnTo>
                    <a:pt x="32" y="28"/>
                  </a:lnTo>
                  <a:lnTo>
                    <a:pt x="33" y="31"/>
                  </a:lnTo>
                  <a:lnTo>
                    <a:pt x="32" y="35"/>
                  </a:lnTo>
                  <a:lnTo>
                    <a:pt x="32" y="38"/>
                  </a:lnTo>
                  <a:lnTo>
                    <a:pt x="31" y="41"/>
                  </a:lnTo>
                  <a:lnTo>
                    <a:pt x="29" y="43"/>
                  </a:lnTo>
                  <a:lnTo>
                    <a:pt x="27" y="45"/>
                  </a:lnTo>
                  <a:lnTo>
                    <a:pt x="24" y="45"/>
                  </a:lnTo>
                  <a:lnTo>
                    <a:pt x="21" y="45"/>
                  </a:lnTo>
                  <a:lnTo>
                    <a:pt x="18" y="42"/>
                  </a:lnTo>
                  <a:lnTo>
                    <a:pt x="15" y="39"/>
                  </a:lnTo>
                  <a:lnTo>
                    <a:pt x="12" y="34"/>
                  </a:lnTo>
                  <a:lnTo>
                    <a:pt x="7" y="28"/>
                  </a:lnTo>
                  <a:lnTo>
                    <a:pt x="4" y="23"/>
                  </a:lnTo>
                  <a:lnTo>
                    <a:pt x="2" y="18"/>
                  </a:lnTo>
                  <a:lnTo>
                    <a:pt x="1" y="12"/>
                  </a:lnTo>
                  <a:lnTo>
                    <a:pt x="0" y="8"/>
                  </a:lnTo>
                  <a:lnTo>
                    <a:pt x="2" y="4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805f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6006960" y="3081240"/>
              <a:ext cx="120600" cy="57240"/>
            </a:xfrm>
            <a:custGeom>
              <a:avLst/>
              <a:gdLst/>
              <a:ahLst/>
              <a:rect l="l" t="t" r="r" b="b"/>
              <a:pathLst>
                <a:path w="380" h="181">
                  <a:moveTo>
                    <a:pt x="380" y="0"/>
                  </a:moveTo>
                  <a:lnTo>
                    <a:pt x="377" y="3"/>
                  </a:lnTo>
                  <a:lnTo>
                    <a:pt x="374" y="9"/>
                  </a:lnTo>
                  <a:lnTo>
                    <a:pt x="369" y="19"/>
                  </a:lnTo>
                  <a:lnTo>
                    <a:pt x="362" y="32"/>
                  </a:lnTo>
                  <a:lnTo>
                    <a:pt x="356" y="48"/>
                  </a:lnTo>
                  <a:lnTo>
                    <a:pt x="349" y="65"/>
                  </a:lnTo>
                  <a:lnTo>
                    <a:pt x="343" y="86"/>
                  </a:lnTo>
                  <a:lnTo>
                    <a:pt x="337" y="107"/>
                  </a:lnTo>
                  <a:lnTo>
                    <a:pt x="336" y="110"/>
                  </a:lnTo>
                  <a:lnTo>
                    <a:pt x="335" y="111"/>
                  </a:lnTo>
                  <a:lnTo>
                    <a:pt x="334" y="111"/>
                  </a:lnTo>
                  <a:lnTo>
                    <a:pt x="333" y="111"/>
                  </a:lnTo>
                  <a:lnTo>
                    <a:pt x="330" y="108"/>
                  </a:lnTo>
                  <a:lnTo>
                    <a:pt x="327" y="104"/>
                  </a:lnTo>
                  <a:lnTo>
                    <a:pt x="323" y="99"/>
                  </a:lnTo>
                  <a:lnTo>
                    <a:pt x="320" y="94"/>
                  </a:lnTo>
                  <a:lnTo>
                    <a:pt x="318" y="91"/>
                  </a:lnTo>
                  <a:lnTo>
                    <a:pt x="317" y="90"/>
                  </a:lnTo>
                  <a:lnTo>
                    <a:pt x="309" y="78"/>
                  </a:lnTo>
                  <a:lnTo>
                    <a:pt x="301" y="67"/>
                  </a:lnTo>
                  <a:lnTo>
                    <a:pt x="293" y="59"/>
                  </a:lnTo>
                  <a:lnTo>
                    <a:pt x="286" y="52"/>
                  </a:lnTo>
                  <a:lnTo>
                    <a:pt x="279" y="47"/>
                  </a:lnTo>
                  <a:lnTo>
                    <a:pt x="275" y="44"/>
                  </a:lnTo>
                  <a:lnTo>
                    <a:pt x="272" y="42"/>
                  </a:lnTo>
                  <a:lnTo>
                    <a:pt x="270" y="40"/>
                  </a:lnTo>
                  <a:lnTo>
                    <a:pt x="262" y="39"/>
                  </a:lnTo>
                  <a:lnTo>
                    <a:pt x="253" y="39"/>
                  </a:lnTo>
                  <a:lnTo>
                    <a:pt x="246" y="39"/>
                  </a:lnTo>
                  <a:lnTo>
                    <a:pt x="239" y="40"/>
                  </a:lnTo>
                  <a:lnTo>
                    <a:pt x="234" y="43"/>
                  </a:lnTo>
                  <a:lnTo>
                    <a:pt x="228" y="46"/>
                  </a:lnTo>
                  <a:lnTo>
                    <a:pt x="224" y="48"/>
                  </a:lnTo>
                  <a:lnTo>
                    <a:pt x="220" y="51"/>
                  </a:lnTo>
                  <a:lnTo>
                    <a:pt x="213" y="58"/>
                  </a:lnTo>
                  <a:lnTo>
                    <a:pt x="209" y="64"/>
                  </a:lnTo>
                  <a:lnTo>
                    <a:pt x="207" y="69"/>
                  </a:lnTo>
                  <a:lnTo>
                    <a:pt x="206" y="70"/>
                  </a:lnTo>
                  <a:lnTo>
                    <a:pt x="204" y="77"/>
                  </a:lnTo>
                  <a:lnTo>
                    <a:pt x="198" y="86"/>
                  </a:lnTo>
                  <a:lnTo>
                    <a:pt x="193" y="94"/>
                  </a:lnTo>
                  <a:lnTo>
                    <a:pt x="186" y="102"/>
                  </a:lnTo>
                  <a:lnTo>
                    <a:pt x="180" y="111"/>
                  </a:lnTo>
                  <a:lnTo>
                    <a:pt x="174" y="116"/>
                  </a:lnTo>
                  <a:lnTo>
                    <a:pt x="170" y="120"/>
                  </a:lnTo>
                  <a:lnTo>
                    <a:pt x="169" y="123"/>
                  </a:lnTo>
                  <a:lnTo>
                    <a:pt x="138" y="130"/>
                  </a:lnTo>
                  <a:lnTo>
                    <a:pt x="107" y="140"/>
                  </a:lnTo>
                  <a:lnTo>
                    <a:pt x="79" y="150"/>
                  </a:lnTo>
                  <a:lnTo>
                    <a:pt x="53" y="159"/>
                  </a:lnTo>
                  <a:lnTo>
                    <a:pt x="32" y="168"/>
                  </a:lnTo>
                  <a:lnTo>
                    <a:pt x="16" y="174"/>
                  </a:lnTo>
                  <a:lnTo>
                    <a:pt x="5" y="180"/>
                  </a:lnTo>
                  <a:lnTo>
                    <a:pt x="0" y="181"/>
                  </a:lnTo>
                </a:path>
              </a:pathLst>
            </a:custGeom>
            <a:noFill/>
            <a:ln w="14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5995800" y="3130560"/>
              <a:ext cx="43200" cy="14400"/>
            </a:xfrm>
            <a:custGeom>
              <a:avLst/>
              <a:gdLst/>
              <a:ahLst/>
              <a:rect l="l" t="t" r="r" b="b"/>
              <a:pathLst>
                <a:path w="138" h="49">
                  <a:moveTo>
                    <a:pt x="0" y="49"/>
                  </a:moveTo>
                  <a:lnTo>
                    <a:pt x="4" y="47"/>
                  </a:lnTo>
                  <a:lnTo>
                    <a:pt x="14" y="44"/>
                  </a:lnTo>
                  <a:lnTo>
                    <a:pt x="28" y="39"/>
                  </a:lnTo>
                  <a:lnTo>
                    <a:pt x="46" y="31"/>
                  </a:lnTo>
                  <a:lnTo>
                    <a:pt x="68" y="25"/>
                  </a:lnTo>
                  <a:lnTo>
                    <a:pt x="90" y="17"/>
                  </a:lnTo>
                  <a:lnTo>
                    <a:pt x="112" y="10"/>
                  </a:lnTo>
                  <a:lnTo>
                    <a:pt x="134" y="5"/>
                  </a:lnTo>
                  <a:lnTo>
                    <a:pt x="135" y="4"/>
                  </a:lnTo>
                  <a:lnTo>
                    <a:pt x="136" y="4"/>
                  </a:lnTo>
                  <a:lnTo>
                    <a:pt x="137" y="3"/>
                  </a:lnTo>
                  <a:lnTo>
                    <a:pt x="138" y="1"/>
                  </a:lnTo>
                  <a:lnTo>
                    <a:pt x="138" y="0"/>
                  </a:lnTo>
                  <a:lnTo>
                    <a:pt x="137" y="0"/>
                  </a:lnTo>
                  <a:lnTo>
                    <a:pt x="133" y="0"/>
                  </a:lnTo>
                  <a:lnTo>
                    <a:pt x="126" y="0"/>
                  </a:lnTo>
                  <a:lnTo>
                    <a:pt x="114" y="3"/>
                  </a:lnTo>
                  <a:lnTo>
                    <a:pt x="98" y="8"/>
                  </a:lnTo>
                  <a:lnTo>
                    <a:pt x="79" y="15"/>
                  </a:lnTo>
                  <a:lnTo>
                    <a:pt x="58" y="22"/>
                  </a:lnTo>
                  <a:lnTo>
                    <a:pt x="38" y="30"/>
                  </a:lnTo>
                  <a:lnTo>
                    <a:pt x="20" y="37"/>
                  </a:lnTo>
                  <a:lnTo>
                    <a:pt x="7" y="44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8965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5619600" y="3632400"/>
              <a:ext cx="42840" cy="60120"/>
            </a:xfrm>
            <a:custGeom>
              <a:avLst/>
              <a:gdLst/>
              <a:ahLst/>
              <a:rect l="l" t="t" r="r" b="b"/>
              <a:pathLst>
                <a:path w="137" h="190">
                  <a:moveTo>
                    <a:pt x="51" y="184"/>
                  </a:moveTo>
                  <a:lnTo>
                    <a:pt x="47" y="182"/>
                  </a:lnTo>
                  <a:lnTo>
                    <a:pt x="41" y="177"/>
                  </a:lnTo>
                  <a:lnTo>
                    <a:pt x="31" y="168"/>
                  </a:lnTo>
                  <a:lnTo>
                    <a:pt x="21" y="157"/>
                  </a:lnTo>
                  <a:lnTo>
                    <a:pt x="16" y="149"/>
                  </a:lnTo>
                  <a:lnTo>
                    <a:pt x="12" y="140"/>
                  </a:lnTo>
                  <a:lnTo>
                    <a:pt x="7" y="132"/>
                  </a:lnTo>
                  <a:lnTo>
                    <a:pt x="3" y="121"/>
                  </a:lnTo>
                  <a:lnTo>
                    <a:pt x="1" y="110"/>
                  </a:lnTo>
                  <a:lnTo>
                    <a:pt x="0" y="99"/>
                  </a:lnTo>
                  <a:lnTo>
                    <a:pt x="0" y="86"/>
                  </a:lnTo>
                  <a:lnTo>
                    <a:pt x="1" y="72"/>
                  </a:lnTo>
                  <a:lnTo>
                    <a:pt x="3" y="60"/>
                  </a:lnTo>
                  <a:lnTo>
                    <a:pt x="6" y="49"/>
                  </a:lnTo>
                  <a:lnTo>
                    <a:pt x="10" y="38"/>
                  </a:lnTo>
                  <a:lnTo>
                    <a:pt x="14" y="29"/>
                  </a:lnTo>
                  <a:lnTo>
                    <a:pt x="18" y="22"/>
                  </a:lnTo>
                  <a:lnTo>
                    <a:pt x="24" y="15"/>
                  </a:lnTo>
                  <a:lnTo>
                    <a:pt x="29" y="10"/>
                  </a:lnTo>
                  <a:lnTo>
                    <a:pt x="34" y="5"/>
                  </a:lnTo>
                  <a:lnTo>
                    <a:pt x="41" y="2"/>
                  </a:lnTo>
                  <a:lnTo>
                    <a:pt x="47" y="0"/>
                  </a:lnTo>
                  <a:lnTo>
                    <a:pt x="54" y="0"/>
                  </a:lnTo>
                  <a:lnTo>
                    <a:pt x="61" y="0"/>
                  </a:lnTo>
                  <a:lnTo>
                    <a:pt x="68" y="2"/>
                  </a:lnTo>
                  <a:lnTo>
                    <a:pt x="75" y="4"/>
                  </a:lnTo>
                  <a:lnTo>
                    <a:pt x="83" y="9"/>
                  </a:lnTo>
                  <a:lnTo>
                    <a:pt x="91" y="13"/>
                  </a:lnTo>
                  <a:lnTo>
                    <a:pt x="97" y="18"/>
                  </a:lnTo>
                  <a:lnTo>
                    <a:pt x="103" y="25"/>
                  </a:lnTo>
                  <a:lnTo>
                    <a:pt x="110" y="30"/>
                  </a:lnTo>
                  <a:lnTo>
                    <a:pt x="115" y="37"/>
                  </a:lnTo>
                  <a:lnTo>
                    <a:pt x="120" y="43"/>
                  </a:lnTo>
                  <a:lnTo>
                    <a:pt x="124" y="51"/>
                  </a:lnTo>
                  <a:lnTo>
                    <a:pt x="127" y="58"/>
                  </a:lnTo>
                  <a:lnTo>
                    <a:pt x="130" y="66"/>
                  </a:lnTo>
                  <a:lnTo>
                    <a:pt x="134" y="73"/>
                  </a:lnTo>
                  <a:lnTo>
                    <a:pt x="135" y="82"/>
                  </a:lnTo>
                  <a:lnTo>
                    <a:pt x="137" y="90"/>
                  </a:lnTo>
                  <a:lnTo>
                    <a:pt x="137" y="98"/>
                  </a:lnTo>
                  <a:lnTo>
                    <a:pt x="137" y="107"/>
                  </a:lnTo>
                  <a:lnTo>
                    <a:pt x="137" y="117"/>
                  </a:lnTo>
                  <a:lnTo>
                    <a:pt x="136" y="125"/>
                  </a:lnTo>
                  <a:lnTo>
                    <a:pt x="135" y="135"/>
                  </a:lnTo>
                  <a:lnTo>
                    <a:pt x="132" y="144"/>
                  </a:lnTo>
                  <a:lnTo>
                    <a:pt x="129" y="151"/>
                  </a:lnTo>
                  <a:lnTo>
                    <a:pt x="125" y="159"/>
                  </a:lnTo>
                  <a:lnTo>
                    <a:pt x="122" y="165"/>
                  </a:lnTo>
                  <a:lnTo>
                    <a:pt x="118" y="172"/>
                  </a:lnTo>
                  <a:lnTo>
                    <a:pt x="113" y="176"/>
                  </a:lnTo>
                  <a:lnTo>
                    <a:pt x="108" y="180"/>
                  </a:lnTo>
                  <a:lnTo>
                    <a:pt x="102" y="185"/>
                  </a:lnTo>
                  <a:lnTo>
                    <a:pt x="97" y="187"/>
                  </a:lnTo>
                  <a:lnTo>
                    <a:pt x="92" y="189"/>
                  </a:lnTo>
                  <a:lnTo>
                    <a:pt x="85" y="190"/>
                  </a:lnTo>
                  <a:lnTo>
                    <a:pt x="79" y="190"/>
                  </a:lnTo>
                  <a:lnTo>
                    <a:pt x="72" y="190"/>
                  </a:lnTo>
                  <a:lnTo>
                    <a:pt x="65" y="189"/>
                  </a:lnTo>
                  <a:lnTo>
                    <a:pt x="58" y="187"/>
                  </a:lnTo>
                  <a:lnTo>
                    <a:pt x="51" y="184"/>
                  </a:lnTo>
                  <a:close/>
                </a:path>
              </a:pathLst>
            </a:custGeom>
            <a:solidFill>
              <a:srgbClr val="e7a9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5622840" y="3635280"/>
              <a:ext cx="38160" cy="52560"/>
            </a:xfrm>
            <a:custGeom>
              <a:avLst/>
              <a:gdLst/>
              <a:ahLst/>
              <a:rect l="l" t="t" r="r" b="b"/>
              <a:pathLst>
                <a:path w="117" h="163">
                  <a:moveTo>
                    <a:pt x="78" y="10"/>
                  </a:moveTo>
                  <a:lnTo>
                    <a:pt x="83" y="15"/>
                  </a:lnTo>
                  <a:lnTo>
                    <a:pt x="88" y="20"/>
                  </a:lnTo>
                  <a:lnTo>
                    <a:pt x="94" y="26"/>
                  </a:lnTo>
                  <a:lnTo>
                    <a:pt x="98" y="31"/>
                  </a:lnTo>
                  <a:lnTo>
                    <a:pt x="102" y="36"/>
                  </a:lnTo>
                  <a:lnTo>
                    <a:pt x="106" y="43"/>
                  </a:lnTo>
                  <a:lnTo>
                    <a:pt x="109" y="48"/>
                  </a:lnTo>
                  <a:lnTo>
                    <a:pt x="111" y="56"/>
                  </a:lnTo>
                  <a:lnTo>
                    <a:pt x="115" y="69"/>
                  </a:lnTo>
                  <a:lnTo>
                    <a:pt x="117" y="84"/>
                  </a:lnTo>
                  <a:lnTo>
                    <a:pt x="117" y="91"/>
                  </a:lnTo>
                  <a:lnTo>
                    <a:pt x="116" y="99"/>
                  </a:lnTo>
                  <a:lnTo>
                    <a:pt x="115" y="107"/>
                  </a:lnTo>
                  <a:lnTo>
                    <a:pt x="114" y="114"/>
                  </a:lnTo>
                  <a:lnTo>
                    <a:pt x="112" y="122"/>
                  </a:lnTo>
                  <a:lnTo>
                    <a:pt x="110" y="129"/>
                  </a:lnTo>
                  <a:lnTo>
                    <a:pt x="107" y="136"/>
                  </a:lnTo>
                  <a:lnTo>
                    <a:pt x="103" y="141"/>
                  </a:lnTo>
                  <a:lnTo>
                    <a:pt x="100" y="147"/>
                  </a:lnTo>
                  <a:lnTo>
                    <a:pt x="96" y="151"/>
                  </a:lnTo>
                  <a:lnTo>
                    <a:pt x="93" y="154"/>
                  </a:lnTo>
                  <a:lnTo>
                    <a:pt x="88" y="157"/>
                  </a:lnTo>
                  <a:lnTo>
                    <a:pt x="83" y="160"/>
                  </a:lnTo>
                  <a:lnTo>
                    <a:pt x="79" y="161"/>
                  </a:lnTo>
                  <a:lnTo>
                    <a:pt x="73" y="162"/>
                  </a:lnTo>
                  <a:lnTo>
                    <a:pt x="68" y="163"/>
                  </a:lnTo>
                  <a:lnTo>
                    <a:pt x="62" y="162"/>
                  </a:lnTo>
                  <a:lnTo>
                    <a:pt x="57" y="161"/>
                  </a:lnTo>
                  <a:lnTo>
                    <a:pt x="51" y="160"/>
                  </a:lnTo>
                  <a:lnTo>
                    <a:pt x="45" y="156"/>
                  </a:lnTo>
                  <a:lnTo>
                    <a:pt x="43" y="155"/>
                  </a:lnTo>
                  <a:lnTo>
                    <a:pt x="36" y="151"/>
                  </a:lnTo>
                  <a:lnTo>
                    <a:pt x="28" y="143"/>
                  </a:lnTo>
                  <a:lnTo>
                    <a:pt x="19" y="133"/>
                  </a:lnTo>
                  <a:lnTo>
                    <a:pt x="15" y="127"/>
                  </a:lnTo>
                  <a:lnTo>
                    <a:pt x="11" y="120"/>
                  </a:lnTo>
                  <a:lnTo>
                    <a:pt x="6" y="112"/>
                  </a:lnTo>
                  <a:lnTo>
                    <a:pt x="3" y="103"/>
                  </a:lnTo>
                  <a:lnTo>
                    <a:pt x="1" y="95"/>
                  </a:lnTo>
                  <a:lnTo>
                    <a:pt x="0" y="85"/>
                  </a:lnTo>
                  <a:lnTo>
                    <a:pt x="0" y="74"/>
                  </a:lnTo>
                  <a:lnTo>
                    <a:pt x="1" y="62"/>
                  </a:lnTo>
                  <a:lnTo>
                    <a:pt x="3" y="52"/>
                  </a:lnTo>
                  <a:lnTo>
                    <a:pt x="5" y="42"/>
                  </a:lnTo>
                  <a:lnTo>
                    <a:pt x="8" y="33"/>
                  </a:lnTo>
                  <a:lnTo>
                    <a:pt x="12" y="26"/>
                  </a:lnTo>
                  <a:lnTo>
                    <a:pt x="16" y="18"/>
                  </a:lnTo>
                  <a:lnTo>
                    <a:pt x="20" y="13"/>
                  </a:lnTo>
                  <a:lnTo>
                    <a:pt x="26" y="8"/>
                  </a:lnTo>
                  <a:lnTo>
                    <a:pt x="30" y="4"/>
                  </a:lnTo>
                  <a:lnTo>
                    <a:pt x="35" y="2"/>
                  </a:lnTo>
                  <a:lnTo>
                    <a:pt x="41" y="0"/>
                  </a:lnTo>
                  <a:lnTo>
                    <a:pt x="47" y="0"/>
                  </a:lnTo>
                  <a:lnTo>
                    <a:pt x="53" y="0"/>
                  </a:lnTo>
                  <a:lnTo>
                    <a:pt x="59" y="1"/>
                  </a:lnTo>
                  <a:lnTo>
                    <a:pt x="65" y="4"/>
                  </a:lnTo>
                  <a:lnTo>
                    <a:pt x="71" y="7"/>
                  </a:lnTo>
                  <a:lnTo>
                    <a:pt x="78" y="10"/>
                  </a:lnTo>
                  <a:close/>
                </a:path>
              </a:pathLst>
            </a:custGeom>
            <a:solidFill>
              <a:srgbClr val="e9ac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5627520" y="3638520"/>
              <a:ext cx="32040" cy="42840"/>
            </a:xfrm>
            <a:custGeom>
              <a:avLst/>
              <a:gdLst/>
              <a:ahLst/>
              <a:rect l="l" t="t" r="r" b="b"/>
              <a:pathLst>
                <a:path w="97" h="136">
                  <a:moveTo>
                    <a:pt x="64" y="9"/>
                  </a:moveTo>
                  <a:lnTo>
                    <a:pt x="72" y="18"/>
                  </a:lnTo>
                  <a:lnTo>
                    <a:pt x="81" y="26"/>
                  </a:lnTo>
                  <a:lnTo>
                    <a:pt x="87" y="36"/>
                  </a:lnTo>
                  <a:lnTo>
                    <a:pt x="92" y="47"/>
                  </a:lnTo>
                  <a:lnTo>
                    <a:pt x="96" y="59"/>
                  </a:lnTo>
                  <a:lnTo>
                    <a:pt x="97" y="71"/>
                  </a:lnTo>
                  <a:lnTo>
                    <a:pt x="97" y="82"/>
                  </a:lnTo>
                  <a:lnTo>
                    <a:pt x="95" y="95"/>
                  </a:lnTo>
                  <a:lnTo>
                    <a:pt x="94" y="102"/>
                  </a:lnTo>
                  <a:lnTo>
                    <a:pt x="92" y="108"/>
                  </a:lnTo>
                  <a:lnTo>
                    <a:pt x="89" y="114"/>
                  </a:lnTo>
                  <a:lnTo>
                    <a:pt x="86" y="118"/>
                  </a:lnTo>
                  <a:lnTo>
                    <a:pt x="84" y="122"/>
                  </a:lnTo>
                  <a:lnTo>
                    <a:pt x="81" y="127"/>
                  </a:lnTo>
                  <a:lnTo>
                    <a:pt x="76" y="130"/>
                  </a:lnTo>
                  <a:lnTo>
                    <a:pt x="73" y="132"/>
                  </a:lnTo>
                  <a:lnTo>
                    <a:pt x="69" y="134"/>
                  </a:lnTo>
                  <a:lnTo>
                    <a:pt x="65" y="135"/>
                  </a:lnTo>
                  <a:lnTo>
                    <a:pt x="60" y="136"/>
                  </a:lnTo>
                  <a:lnTo>
                    <a:pt x="56" y="136"/>
                  </a:lnTo>
                  <a:lnTo>
                    <a:pt x="46" y="135"/>
                  </a:lnTo>
                  <a:lnTo>
                    <a:pt x="35" y="133"/>
                  </a:lnTo>
                  <a:lnTo>
                    <a:pt x="34" y="131"/>
                  </a:lnTo>
                  <a:lnTo>
                    <a:pt x="29" y="128"/>
                  </a:lnTo>
                  <a:lnTo>
                    <a:pt x="22" y="121"/>
                  </a:lnTo>
                  <a:lnTo>
                    <a:pt x="15" y="112"/>
                  </a:lnTo>
                  <a:lnTo>
                    <a:pt x="12" y="106"/>
                  </a:lnTo>
                  <a:lnTo>
                    <a:pt x="7" y="101"/>
                  </a:lnTo>
                  <a:lnTo>
                    <a:pt x="5" y="94"/>
                  </a:lnTo>
                  <a:lnTo>
                    <a:pt x="2" y="87"/>
                  </a:lnTo>
                  <a:lnTo>
                    <a:pt x="1" y="79"/>
                  </a:lnTo>
                  <a:lnTo>
                    <a:pt x="0" y="72"/>
                  </a:lnTo>
                  <a:lnTo>
                    <a:pt x="0" y="63"/>
                  </a:lnTo>
                  <a:lnTo>
                    <a:pt x="1" y="53"/>
                  </a:lnTo>
                  <a:lnTo>
                    <a:pt x="3" y="45"/>
                  </a:lnTo>
                  <a:lnTo>
                    <a:pt x="5" y="36"/>
                  </a:lnTo>
                  <a:lnTo>
                    <a:pt x="7" y="28"/>
                  </a:lnTo>
                  <a:lnTo>
                    <a:pt x="11" y="22"/>
                  </a:lnTo>
                  <a:lnTo>
                    <a:pt x="14" y="17"/>
                  </a:lnTo>
                  <a:lnTo>
                    <a:pt x="17" y="11"/>
                  </a:lnTo>
                  <a:lnTo>
                    <a:pt x="20" y="8"/>
                  </a:lnTo>
                  <a:lnTo>
                    <a:pt x="25" y="5"/>
                  </a:lnTo>
                  <a:lnTo>
                    <a:pt x="29" y="3"/>
                  </a:lnTo>
                  <a:lnTo>
                    <a:pt x="33" y="1"/>
                  </a:lnTo>
                  <a:lnTo>
                    <a:pt x="38" y="0"/>
                  </a:lnTo>
                  <a:lnTo>
                    <a:pt x="43" y="0"/>
                  </a:lnTo>
                  <a:lnTo>
                    <a:pt x="47" y="1"/>
                  </a:lnTo>
                  <a:lnTo>
                    <a:pt x="53" y="4"/>
                  </a:lnTo>
                  <a:lnTo>
                    <a:pt x="58" y="6"/>
                  </a:lnTo>
                  <a:lnTo>
                    <a:pt x="64" y="9"/>
                  </a:lnTo>
                  <a:close/>
                </a:path>
              </a:pathLst>
            </a:custGeom>
            <a:solidFill>
              <a:srgbClr val="edb3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5632560" y="3641760"/>
              <a:ext cx="23760" cy="34920"/>
            </a:xfrm>
            <a:custGeom>
              <a:avLst/>
              <a:gdLst/>
              <a:ahLst/>
              <a:rect l="l" t="t" r="r" b="b"/>
              <a:pathLst>
                <a:path w="78" h="108">
                  <a:moveTo>
                    <a:pt x="51" y="7"/>
                  </a:moveTo>
                  <a:lnTo>
                    <a:pt x="58" y="13"/>
                  </a:lnTo>
                  <a:lnTo>
                    <a:pt x="65" y="21"/>
                  </a:lnTo>
                  <a:lnTo>
                    <a:pt x="70" y="29"/>
                  </a:lnTo>
                  <a:lnTo>
                    <a:pt x="73" y="38"/>
                  </a:lnTo>
                  <a:lnTo>
                    <a:pt x="76" y="47"/>
                  </a:lnTo>
                  <a:lnTo>
                    <a:pt x="78" y="56"/>
                  </a:lnTo>
                  <a:lnTo>
                    <a:pt x="76" y="66"/>
                  </a:lnTo>
                  <a:lnTo>
                    <a:pt x="74" y="76"/>
                  </a:lnTo>
                  <a:lnTo>
                    <a:pt x="72" y="87"/>
                  </a:lnTo>
                  <a:lnTo>
                    <a:pt x="69" y="94"/>
                  </a:lnTo>
                  <a:lnTo>
                    <a:pt x="63" y="101"/>
                  </a:lnTo>
                  <a:lnTo>
                    <a:pt x="58" y="105"/>
                  </a:lnTo>
                  <a:lnTo>
                    <a:pt x="52" y="107"/>
                  </a:lnTo>
                  <a:lnTo>
                    <a:pt x="44" y="108"/>
                  </a:lnTo>
                  <a:lnTo>
                    <a:pt x="36" y="108"/>
                  </a:lnTo>
                  <a:lnTo>
                    <a:pt x="28" y="106"/>
                  </a:lnTo>
                  <a:lnTo>
                    <a:pt x="27" y="105"/>
                  </a:lnTo>
                  <a:lnTo>
                    <a:pt x="22" y="102"/>
                  </a:lnTo>
                  <a:lnTo>
                    <a:pt x="17" y="96"/>
                  </a:lnTo>
                  <a:lnTo>
                    <a:pt x="12" y="89"/>
                  </a:lnTo>
                  <a:lnTo>
                    <a:pt x="6" y="80"/>
                  </a:lnTo>
                  <a:lnTo>
                    <a:pt x="2" y="69"/>
                  </a:lnTo>
                  <a:lnTo>
                    <a:pt x="1" y="63"/>
                  </a:lnTo>
                  <a:lnTo>
                    <a:pt x="0" y="56"/>
                  </a:lnTo>
                  <a:lnTo>
                    <a:pt x="0" y="49"/>
                  </a:lnTo>
                  <a:lnTo>
                    <a:pt x="1" y="41"/>
                  </a:lnTo>
                  <a:lnTo>
                    <a:pt x="3" y="28"/>
                  </a:lnTo>
                  <a:lnTo>
                    <a:pt x="7" y="17"/>
                  </a:lnTo>
                  <a:lnTo>
                    <a:pt x="9" y="13"/>
                  </a:lnTo>
                  <a:lnTo>
                    <a:pt x="13" y="9"/>
                  </a:lnTo>
                  <a:lnTo>
                    <a:pt x="16" y="6"/>
                  </a:lnTo>
                  <a:lnTo>
                    <a:pt x="19" y="3"/>
                  </a:lnTo>
                  <a:lnTo>
                    <a:pt x="22" y="2"/>
                  </a:lnTo>
                  <a:lnTo>
                    <a:pt x="26" y="1"/>
                  </a:lnTo>
                  <a:lnTo>
                    <a:pt x="30" y="0"/>
                  </a:lnTo>
                  <a:lnTo>
                    <a:pt x="33" y="0"/>
                  </a:lnTo>
                  <a:lnTo>
                    <a:pt x="42" y="2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f0b6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5635440" y="3645000"/>
              <a:ext cx="19080" cy="25200"/>
            </a:xfrm>
            <a:custGeom>
              <a:avLst/>
              <a:gdLst/>
              <a:ahLst/>
              <a:rect l="l" t="t" r="r" b="b"/>
              <a:pathLst>
                <a:path w="56" h="79">
                  <a:moveTo>
                    <a:pt x="20" y="78"/>
                  </a:moveTo>
                  <a:lnTo>
                    <a:pt x="19" y="77"/>
                  </a:lnTo>
                  <a:lnTo>
                    <a:pt x="16" y="74"/>
                  </a:lnTo>
                  <a:lnTo>
                    <a:pt x="13" y="70"/>
                  </a:lnTo>
                  <a:lnTo>
                    <a:pt x="8" y="65"/>
                  </a:lnTo>
                  <a:lnTo>
                    <a:pt x="4" y="58"/>
                  </a:lnTo>
                  <a:lnTo>
                    <a:pt x="1" y="51"/>
                  </a:lnTo>
                  <a:lnTo>
                    <a:pt x="0" y="45"/>
                  </a:lnTo>
                  <a:lnTo>
                    <a:pt x="0" y="41"/>
                  </a:lnTo>
                  <a:lnTo>
                    <a:pt x="0" y="36"/>
                  </a:lnTo>
                  <a:lnTo>
                    <a:pt x="0" y="30"/>
                  </a:lnTo>
                  <a:lnTo>
                    <a:pt x="2" y="20"/>
                  </a:lnTo>
                  <a:lnTo>
                    <a:pt x="5" y="12"/>
                  </a:lnTo>
                  <a:lnTo>
                    <a:pt x="9" y="6"/>
                  </a:lnTo>
                  <a:lnTo>
                    <a:pt x="14" y="2"/>
                  </a:lnTo>
                  <a:lnTo>
                    <a:pt x="19" y="0"/>
                  </a:lnTo>
                  <a:lnTo>
                    <a:pt x="25" y="0"/>
                  </a:lnTo>
                  <a:lnTo>
                    <a:pt x="31" y="2"/>
                  </a:lnTo>
                  <a:lnTo>
                    <a:pt x="38" y="5"/>
                  </a:lnTo>
                  <a:lnTo>
                    <a:pt x="42" y="10"/>
                  </a:lnTo>
                  <a:lnTo>
                    <a:pt x="46" y="15"/>
                  </a:lnTo>
                  <a:lnTo>
                    <a:pt x="50" y="20"/>
                  </a:lnTo>
                  <a:lnTo>
                    <a:pt x="53" y="27"/>
                  </a:lnTo>
                  <a:lnTo>
                    <a:pt x="55" y="33"/>
                  </a:lnTo>
                  <a:lnTo>
                    <a:pt x="56" y="40"/>
                  </a:lnTo>
                  <a:lnTo>
                    <a:pt x="56" y="47"/>
                  </a:lnTo>
                  <a:lnTo>
                    <a:pt x="55" y="55"/>
                  </a:lnTo>
                  <a:lnTo>
                    <a:pt x="53" y="63"/>
                  </a:lnTo>
                  <a:lnTo>
                    <a:pt x="50" y="69"/>
                  </a:lnTo>
                  <a:lnTo>
                    <a:pt x="47" y="73"/>
                  </a:lnTo>
                  <a:lnTo>
                    <a:pt x="43" y="77"/>
                  </a:lnTo>
                  <a:lnTo>
                    <a:pt x="38" y="79"/>
                  </a:lnTo>
                  <a:lnTo>
                    <a:pt x="32" y="79"/>
                  </a:lnTo>
                  <a:lnTo>
                    <a:pt x="26" y="79"/>
                  </a:lnTo>
                  <a:lnTo>
                    <a:pt x="20" y="78"/>
                  </a:lnTo>
                  <a:close/>
                </a:path>
              </a:pathLst>
            </a:custGeom>
            <a:solidFill>
              <a:srgbClr val="f3b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5925960" y="2116080"/>
              <a:ext cx="60480" cy="109800"/>
            </a:xfrm>
            <a:custGeom>
              <a:avLst/>
              <a:gdLst/>
              <a:ahLst/>
              <a:rect l="l" t="t" r="r" b="b"/>
              <a:pathLst>
                <a:path w="188" h="342">
                  <a:moveTo>
                    <a:pt x="15" y="106"/>
                  </a:moveTo>
                  <a:lnTo>
                    <a:pt x="18" y="101"/>
                  </a:lnTo>
                  <a:lnTo>
                    <a:pt x="27" y="86"/>
                  </a:lnTo>
                  <a:lnTo>
                    <a:pt x="40" y="66"/>
                  </a:lnTo>
                  <a:lnTo>
                    <a:pt x="57" y="45"/>
                  </a:lnTo>
                  <a:lnTo>
                    <a:pt x="67" y="35"/>
                  </a:lnTo>
                  <a:lnTo>
                    <a:pt x="76" y="24"/>
                  </a:lnTo>
                  <a:lnTo>
                    <a:pt x="87" y="15"/>
                  </a:lnTo>
                  <a:lnTo>
                    <a:pt x="98" y="9"/>
                  </a:lnTo>
                  <a:lnTo>
                    <a:pt x="103" y="6"/>
                  </a:lnTo>
                  <a:lnTo>
                    <a:pt x="109" y="4"/>
                  </a:lnTo>
                  <a:lnTo>
                    <a:pt x="115" y="3"/>
                  </a:lnTo>
                  <a:lnTo>
                    <a:pt x="121" y="1"/>
                  </a:lnTo>
                  <a:lnTo>
                    <a:pt x="126" y="0"/>
                  </a:lnTo>
                  <a:lnTo>
                    <a:pt x="131" y="1"/>
                  </a:lnTo>
                  <a:lnTo>
                    <a:pt x="138" y="3"/>
                  </a:lnTo>
                  <a:lnTo>
                    <a:pt x="143" y="5"/>
                  </a:lnTo>
                  <a:lnTo>
                    <a:pt x="153" y="10"/>
                  </a:lnTo>
                  <a:lnTo>
                    <a:pt x="162" y="18"/>
                  </a:lnTo>
                  <a:lnTo>
                    <a:pt x="168" y="25"/>
                  </a:lnTo>
                  <a:lnTo>
                    <a:pt x="175" y="34"/>
                  </a:lnTo>
                  <a:lnTo>
                    <a:pt x="179" y="44"/>
                  </a:lnTo>
                  <a:lnTo>
                    <a:pt x="182" y="53"/>
                  </a:lnTo>
                  <a:lnTo>
                    <a:pt x="184" y="64"/>
                  </a:lnTo>
                  <a:lnTo>
                    <a:pt x="187" y="75"/>
                  </a:lnTo>
                  <a:lnTo>
                    <a:pt x="188" y="86"/>
                  </a:lnTo>
                  <a:lnTo>
                    <a:pt x="188" y="96"/>
                  </a:lnTo>
                  <a:lnTo>
                    <a:pt x="187" y="106"/>
                  </a:lnTo>
                  <a:lnTo>
                    <a:pt x="186" y="117"/>
                  </a:lnTo>
                  <a:lnTo>
                    <a:pt x="182" y="135"/>
                  </a:lnTo>
                  <a:lnTo>
                    <a:pt x="178" y="150"/>
                  </a:lnTo>
                  <a:lnTo>
                    <a:pt x="173" y="165"/>
                  </a:lnTo>
                  <a:lnTo>
                    <a:pt x="164" y="182"/>
                  </a:lnTo>
                  <a:lnTo>
                    <a:pt x="153" y="201"/>
                  </a:lnTo>
                  <a:lnTo>
                    <a:pt x="141" y="222"/>
                  </a:lnTo>
                  <a:lnTo>
                    <a:pt x="129" y="242"/>
                  </a:lnTo>
                  <a:lnTo>
                    <a:pt x="117" y="262"/>
                  </a:lnTo>
                  <a:lnTo>
                    <a:pt x="108" y="280"/>
                  </a:lnTo>
                  <a:lnTo>
                    <a:pt x="101" y="294"/>
                  </a:lnTo>
                  <a:lnTo>
                    <a:pt x="98" y="301"/>
                  </a:lnTo>
                  <a:lnTo>
                    <a:pt x="95" y="307"/>
                  </a:lnTo>
                  <a:lnTo>
                    <a:pt x="90" y="314"/>
                  </a:lnTo>
                  <a:lnTo>
                    <a:pt x="85" y="320"/>
                  </a:lnTo>
                  <a:lnTo>
                    <a:pt x="80" y="325"/>
                  </a:lnTo>
                  <a:lnTo>
                    <a:pt x="74" y="331"/>
                  </a:lnTo>
                  <a:lnTo>
                    <a:pt x="68" y="335"/>
                  </a:lnTo>
                  <a:lnTo>
                    <a:pt x="61" y="338"/>
                  </a:lnTo>
                  <a:lnTo>
                    <a:pt x="55" y="341"/>
                  </a:lnTo>
                  <a:lnTo>
                    <a:pt x="48" y="342"/>
                  </a:lnTo>
                  <a:lnTo>
                    <a:pt x="42" y="341"/>
                  </a:lnTo>
                  <a:lnTo>
                    <a:pt x="35" y="338"/>
                  </a:lnTo>
                  <a:lnTo>
                    <a:pt x="30" y="334"/>
                  </a:lnTo>
                  <a:lnTo>
                    <a:pt x="25" y="328"/>
                  </a:lnTo>
                  <a:lnTo>
                    <a:pt x="19" y="319"/>
                  </a:lnTo>
                  <a:lnTo>
                    <a:pt x="15" y="308"/>
                  </a:lnTo>
                  <a:lnTo>
                    <a:pt x="11" y="295"/>
                  </a:lnTo>
                  <a:lnTo>
                    <a:pt x="7" y="282"/>
                  </a:lnTo>
                  <a:lnTo>
                    <a:pt x="5" y="267"/>
                  </a:lnTo>
                  <a:lnTo>
                    <a:pt x="3" y="252"/>
                  </a:lnTo>
                  <a:lnTo>
                    <a:pt x="0" y="222"/>
                  </a:lnTo>
                  <a:lnTo>
                    <a:pt x="0" y="193"/>
                  </a:lnTo>
                  <a:lnTo>
                    <a:pt x="1" y="165"/>
                  </a:lnTo>
                  <a:lnTo>
                    <a:pt x="4" y="140"/>
                  </a:lnTo>
                  <a:lnTo>
                    <a:pt x="6" y="129"/>
                  </a:lnTo>
                  <a:lnTo>
                    <a:pt x="8" y="119"/>
                  </a:lnTo>
                  <a:lnTo>
                    <a:pt x="12" y="112"/>
                  </a:lnTo>
                  <a:lnTo>
                    <a:pt x="15" y="106"/>
                  </a:lnTo>
                  <a:close/>
                </a:path>
              </a:pathLst>
            </a:custGeom>
            <a:solidFill>
              <a:srgbClr val="9a76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5925960" y="2116080"/>
              <a:ext cx="60480" cy="109800"/>
            </a:xfrm>
            <a:custGeom>
              <a:avLst/>
              <a:gdLst/>
              <a:ahLst/>
              <a:rect l="l" t="t" r="r" b="b"/>
              <a:pathLst>
                <a:path w="188" h="342">
                  <a:moveTo>
                    <a:pt x="15" y="106"/>
                  </a:moveTo>
                  <a:lnTo>
                    <a:pt x="18" y="101"/>
                  </a:lnTo>
                  <a:lnTo>
                    <a:pt x="27" y="86"/>
                  </a:lnTo>
                  <a:lnTo>
                    <a:pt x="40" y="66"/>
                  </a:lnTo>
                  <a:lnTo>
                    <a:pt x="57" y="45"/>
                  </a:lnTo>
                  <a:lnTo>
                    <a:pt x="67" y="35"/>
                  </a:lnTo>
                  <a:lnTo>
                    <a:pt x="76" y="24"/>
                  </a:lnTo>
                  <a:lnTo>
                    <a:pt x="87" y="15"/>
                  </a:lnTo>
                  <a:lnTo>
                    <a:pt x="98" y="9"/>
                  </a:lnTo>
                  <a:lnTo>
                    <a:pt x="103" y="6"/>
                  </a:lnTo>
                  <a:lnTo>
                    <a:pt x="109" y="4"/>
                  </a:lnTo>
                  <a:lnTo>
                    <a:pt x="115" y="3"/>
                  </a:lnTo>
                  <a:lnTo>
                    <a:pt x="121" y="1"/>
                  </a:lnTo>
                  <a:lnTo>
                    <a:pt x="126" y="0"/>
                  </a:lnTo>
                  <a:lnTo>
                    <a:pt x="131" y="1"/>
                  </a:lnTo>
                  <a:lnTo>
                    <a:pt x="138" y="3"/>
                  </a:lnTo>
                  <a:lnTo>
                    <a:pt x="143" y="5"/>
                  </a:lnTo>
                  <a:lnTo>
                    <a:pt x="153" y="10"/>
                  </a:lnTo>
                  <a:lnTo>
                    <a:pt x="162" y="18"/>
                  </a:lnTo>
                  <a:lnTo>
                    <a:pt x="168" y="25"/>
                  </a:lnTo>
                  <a:lnTo>
                    <a:pt x="175" y="34"/>
                  </a:lnTo>
                  <a:lnTo>
                    <a:pt x="179" y="44"/>
                  </a:lnTo>
                  <a:lnTo>
                    <a:pt x="182" y="53"/>
                  </a:lnTo>
                  <a:lnTo>
                    <a:pt x="184" y="64"/>
                  </a:lnTo>
                  <a:lnTo>
                    <a:pt x="187" y="75"/>
                  </a:lnTo>
                  <a:lnTo>
                    <a:pt x="188" y="86"/>
                  </a:lnTo>
                  <a:lnTo>
                    <a:pt x="188" y="96"/>
                  </a:lnTo>
                  <a:lnTo>
                    <a:pt x="187" y="106"/>
                  </a:lnTo>
                  <a:lnTo>
                    <a:pt x="186" y="117"/>
                  </a:lnTo>
                  <a:lnTo>
                    <a:pt x="182" y="135"/>
                  </a:lnTo>
                  <a:lnTo>
                    <a:pt x="178" y="150"/>
                  </a:lnTo>
                  <a:lnTo>
                    <a:pt x="173" y="165"/>
                  </a:lnTo>
                  <a:lnTo>
                    <a:pt x="164" y="182"/>
                  </a:lnTo>
                  <a:lnTo>
                    <a:pt x="153" y="201"/>
                  </a:lnTo>
                  <a:lnTo>
                    <a:pt x="141" y="222"/>
                  </a:lnTo>
                  <a:lnTo>
                    <a:pt x="129" y="242"/>
                  </a:lnTo>
                  <a:lnTo>
                    <a:pt x="117" y="262"/>
                  </a:lnTo>
                  <a:lnTo>
                    <a:pt x="108" y="280"/>
                  </a:lnTo>
                  <a:lnTo>
                    <a:pt x="101" y="294"/>
                  </a:lnTo>
                  <a:lnTo>
                    <a:pt x="98" y="301"/>
                  </a:lnTo>
                  <a:lnTo>
                    <a:pt x="95" y="307"/>
                  </a:lnTo>
                  <a:lnTo>
                    <a:pt x="90" y="314"/>
                  </a:lnTo>
                  <a:lnTo>
                    <a:pt x="85" y="320"/>
                  </a:lnTo>
                  <a:lnTo>
                    <a:pt x="80" y="325"/>
                  </a:lnTo>
                  <a:lnTo>
                    <a:pt x="74" y="331"/>
                  </a:lnTo>
                  <a:lnTo>
                    <a:pt x="68" y="335"/>
                  </a:lnTo>
                  <a:lnTo>
                    <a:pt x="61" y="338"/>
                  </a:lnTo>
                  <a:lnTo>
                    <a:pt x="55" y="341"/>
                  </a:lnTo>
                  <a:lnTo>
                    <a:pt x="48" y="342"/>
                  </a:lnTo>
                  <a:lnTo>
                    <a:pt x="42" y="341"/>
                  </a:lnTo>
                  <a:lnTo>
                    <a:pt x="35" y="338"/>
                  </a:lnTo>
                  <a:lnTo>
                    <a:pt x="30" y="334"/>
                  </a:lnTo>
                  <a:lnTo>
                    <a:pt x="25" y="328"/>
                  </a:lnTo>
                  <a:lnTo>
                    <a:pt x="19" y="319"/>
                  </a:lnTo>
                  <a:lnTo>
                    <a:pt x="15" y="308"/>
                  </a:lnTo>
                  <a:lnTo>
                    <a:pt x="11" y="295"/>
                  </a:lnTo>
                  <a:lnTo>
                    <a:pt x="7" y="282"/>
                  </a:lnTo>
                  <a:lnTo>
                    <a:pt x="5" y="267"/>
                  </a:lnTo>
                  <a:lnTo>
                    <a:pt x="3" y="252"/>
                  </a:lnTo>
                  <a:lnTo>
                    <a:pt x="0" y="222"/>
                  </a:lnTo>
                  <a:lnTo>
                    <a:pt x="0" y="193"/>
                  </a:lnTo>
                  <a:lnTo>
                    <a:pt x="1" y="165"/>
                  </a:lnTo>
                  <a:lnTo>
                    <a:pt x="4" y="140"/>
                  </a:lnTo>
                  <a:lnTo>
                    <a:pt x="6" y="129"/>
                  </a:lnTo>
                  <a:lnTo>
                    <a:pt x="8" y="119"/>
                  </a:lnTo>
                  <a:lnTo>
                    <a:pt x="12" y="112"/>
                  </a:lnTo>
                  <a:lnTo>
                    <a:pt x="15" y="106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5931000" y="2130480"/>
              <a:ext cx="48960" cy="73080"/>
            </a:xfrm>
            <a:custGeom>
              <a:avLst/>
              <a:gdLst/>
              <a:ahLst/>
              <a:rect l="l" t="t" r="r" b="b"/>
              <a:pathLst>
                <a:path w="155" h="229">
                  <a:moveTo>
                    <a:pt x="12" y="123"/>
                  </a:moveTo>
                  <a:lnTo>
                    <a:pt x="14" y="118"/>
                  </a:lnTo>
                  <a:lnTo>
                    <a:pt x="21" y="108"/>
                  </a:lnTo>
                  <a:lnTo>
                    <a:pt x="32" y="91"/>
                  </a:lnTo>
                  <a:lnTo>
                    <a:pt x="45" y="73"/>
                  </a:lnTo>
                  <a:lnTo>
                    <a:pt x="59" y="53"/>
                  </a:lnTo>
                  <a:lnTo>
                    <a:pt x="74" y="34"/>
                  </a:lnTo>
                  <a:lnTo>
                    <a:pt x="88" y="18"/>
                  </a:lnTo>
                  <a:lnTo>
                    <a:pt x="100" y="6"/>
                  </a:lnTo>
                  <a:lnTo>
                    <a:pt x="106" y="3"/>
                  </a:lnTo>
                  <a:lnTo>
                    <a:pt x="111" y="1"/>
                  </a:lnTo>
                  <a:lnTo>
                    <a:pt x="116" y="0"/>
                  </a:lnTo>
                  <a:lnTo>
                    <a:pt x="121" y="0"/>
                  </a:lnTo>
                  <a:lnTo>
                    <a:pt x="125" y="1"/>
                  </a:lnTo>
                  <a:lnTo>
                    <a:pt x="129" y="3"/>
                  </a:lnTo>
                  <a:lnTo>
                    <a:pt x="134" y="5"/>
                  </a:lnTo>
                  <a:lnTo>
                    <a:pt x="137" y="8"/>
                  </a:lnTo>
                  <a:lnTo>
                    <a:pt x="143" y="16"/>
                  </a:lnTo>
                  <a:lnTo>
                    <a:pt x="149" y="24"/>
                  </a:lnTo>
                  <a:lnTo>
                    <a:pt x="152" y="33"/>
                  </a:lnTo>
                  <a:lnTo>
                    <a:pt x="155" y="41"/>
                  </a:lnTo>
                  <a:lnTo>
                    <a:pt x="154" y="51"/>
                  </a:lnTo>
                  <a:lnTo>
                    <a:pt x="150" y="67"/>
                  </a:lnTo>
                  <a:lnTo>
                    <a:pt x="144" y="85"/>
                  </a:lnTo>
                  <a:lnTo>
                    <a:pt x="137" y="105"/>
                  </a:lnTo>
                  <a:lnTo>
                    <a:pt x="128" y="127"/>
                  </a:lnTo>
                  <a:lnTo>
                    <a:pt x="120" y="148"/>
                  </a:lnTo>
                  <a:lnTo>
                    <a:pt x="112" y="167"/>
                  </a:lnTo>
                  <a:lnTo>
                    <a:pt x="106" y="182"/>
                  </a:lnTo>
                  <a:lnTo>
                    <a:pt x="100" y="194"/>
                  </a:lnTo>
                  <a:lnTo>
                    <a:pt x="96" y="204"/>
                  </a:lnTo>
                  <a:lnTo>
                    <a:pt x="90" y="213"/>
                  </a:lnTo>
                  <a:lnTo>
                    <a:pt x="86" y="221"/>
                  </a:lnTo>
                  <a:lnTo>
                    <a:pt x="81" y="225"/>
                  </a:lnTo>
                  <a:lnTo>
                    <a:pt x="75" y="229"/>
                  </a:lnTo>
                  <a:lnTo>
                    <a:pt x="73" y="229"/>
                  </a:lnTo>
                  <a:lnTo>
                    <a:pt x="71" y="228"/>
                  </a:lnTo>
                  <a:lnTo>
                    <a:pt x="68" y="226"/>
                  </a:lnTo>
                  <a:lnTo>
                    <a:pt x="66" y="224"/>
                  </a:lnTo>
                  <a:lnTo>
                    <a:pt x="60" y="220"/>
                  </a:lnTo>
                  <a:lnTo>
                    <a:pt x="56" y="216"/>
                  </a:lnTo>
                  <a:lnTo>
                    <a:pt x="50" y="212"/>
                  </a:lnTo>
                  <a:lnTo>
                    <a:pt x="46" y="210"/>
                  </a:lnTo>
                  <a:lnTo>
                    <a:pt x="42" y="209"/>
                  </a:lnTo>
                  <a:lnTo>
                    <a:pt x="36" y="209"/>
                  </a:lnTo>
                  <a:lnTo>
                    <a:pt x="32" y="209"/>
                  </a:lnTo>
                  <a:lnTo>
                    <a:pt x="27" y="211"/>
                  </a:lnTo>
                  <a:lnTo>
                    <a:pt x="23" y="211"/>
                  </a:lnTo>
                  <a:lnTo>
                    <a:pt x="20" y="210"/>
                  </a:lnTo>
                  <a:lnTo>
                    <a:pt x="17" y="207"/>
                  </a:lnTo>
                  <a:lnTo>
                    <a:pt x="14" y="203"/>
                  </a:lnTo>
                  <a:lnTo>
                    <a:pt x="8" y="191"/>
                  </a:lnTo>
                  <a:lnTo>
                    <a:pt x="3" y="177"/>
                  </a:lnTo>
                  <a:lnTo>
                    <a:pt x="2" y="168"/>
                  </a:lnTo>
                  <a:lnTo>
                    <a:pt x="1" y="161"/>
                  </a:lnTo>
                  <a:lnTo>
                    <a:pt x="0" y="153"/>
                  </a:lnTo>
                  <a:lnTo>
                    <a:pt x="1" y="145"/>
                  </a:lnTo>
                  <a:lnTo>
                    <a:pt x="2" y="139"/>
                  </a:lnTo>
                  <a:lnTo>
                    <a:pt x="4" y="132"/>
                  </a:lnTo>
                  <a:lnTo>
                    <a:pt x="7" y="127"/>
                  </a:lnTo>
                  <a:lnTo>
                    <a:pt x="12" y="123"/>
                  </a:lnTo>
                  <a:close/>
                </a:path>
              </a:pathLst>
            </a:custGeom>
            <a:solidFill>
              <a:srgbClr val="805f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5535720" y="2103480"/>
              <a:ext cx="66600" cy="109440"/>
            </a:xfrm>
            <a:custGeom>
              <a:avLst/>
              <a:gdLst/>
              <a:ahLst/>
              <a:rect l="l" t="t" r="r" b="b"/>
              <a:pathLst>
                <a:path w="211" h="346">
                  <a:moveTo>
                    <a:pt x="202" y="117"/>
                  </a:moveTo>
                  <a:lnTo>
                    <a:pt x="199" y="111"/>
                  </a:lnTo>
                  <a:lnTo>
                    <a:pt x="190" y="96"/>
                  </a:lnTo>
                  <a:lnTo>
                    <a:pt x="177" y="75"/>
                  </a:lnTo>
                  <a:lnTo>
                    <a:pt x="161" y="52"/>
                  </a:lnTo>
                  <a:lnTo>
                    <a:pt x="151" y="40"/>
                  </a:lnTo>
                  <a:lnTo>
                    <a:pt x="141" y="29"/>
                  </a:lnTo>
                  <a:lnTo>
                    <a:pt x="129" y="20"/>
                  </a:lnTo>
                  <a:lnTo>
                    <a:pt x="117" y="11"/>
                  </a:lnTo>
                  <a:lnTo>
                    <a:pt x="111" y="8"/>
                  </a:lnTo>
                  <a:lnTo>
                    <a:pt x="105" y="6"/>
                  </a:lnTo>
                  <a:lnTo>
                    <a:pt x="98" y="3"/>
                  </a:lnTo>
                  <a:lnTo>
                    <a:pt x="92" y="1"/>
                  </a:lnTo>
                  <a:lnTo>
                    <a:pt x="85" y="0"/>
                  </a:lnTo>
                  <a:lnTo>
                    <a:pt x="79" y="0"/>
                  </a:lnTo>
                  <a:lnTo>
                    <a:pt x="72" y="1"/>
                  </a:lnTo>
                  <a:lnTo>
                    <a:pt x="66" y="3"/>
                  </a:lnTo>
                  <a:lnTo>
                    <a:pt x="53" y="8"/>
                  </a:lnTo>
                  <a:lnTo>
                    <a:pt x="42" y="13"/>
                  </a:lnTo>
                  <a:lnTo>
                    <a:pt x="33" y="21"/>
                  </a:lnTo>
                  <a:lnTo>
                    <a:pt x="25" y="28"/>
                  </a:lnTo>
                  <a:lnTo>
                    <a:pt x="18" y="37"/>
                  </a:lnTo>
                  <a:lnTo>
                    <a:pt x="13" y="47"/>
                  </a:lnTo>
                  <a:lnTo>
                    <a:pt x="9" y="57"/>
                  </a:lnTo>
                  <a:lnTo>
                    <a:pt x="6" y="67"/>
                  </a:lnTo>
                  <a:lnTo>
                    <a:pt x="3" y="78"/>
                  </a:lnTo>
                  <a:lnTo>
                    <a:pt x="1" y="89"/>
                  </a:lnTo>
                  <a:lnTo>
                    <a:pt x="0" y="100"/>
                  </a:lnTo>
                  <a:lnTo>
                    <a:pt x="0" y="109"/>
                  </a:lnTo>
                  <a:lnTo>
                    <a:pt x="1" y="127"/>
                  </a:lnTo>
                  <a:lnTo>
                    <a:pt x="4" y="142"/>
                  </a:lnTo>
                  <a:lnTo>
                    <a:pt x="10" y="157"/>
                  </a:lnTo>
                  <a:lnTo>
                    <a:pt x="17" y="175"/>
                  </a:lnTo>
                  <a:lnTo>
                    <a:pt x="28" y="196"/>
                  </a:lnTo>
                  <a:lnTo>
                    <a:pt x="40" y="218"/>
                  </a:lnTo>
                  <a:lnTo>
                    <a:pt x="51" y="240"/>
                  </a:lnTo>
                  <a:lnTo>
                    <a:pt x="62" y="262"/>
                  </a:lnTo>
                  <a:lnTo>
                    <a:pt x="70" y="280"/>
                  </a:lnTo>
                  <a:lnTo>
                    <a:pt x="76" y="295"/>
                  </a:lnTo>
                  <a:lnTo>
                    <a:pt x="78" y="301"/>
                  </a:lnTo>
                  <a:lnTo>
                    <a:pt x="82" y="308"/>
                  </a:lnTo>
                  <a:lnTo>
                    <a:pt x="87" y="314"/>
                  </a:lnTo>
                  <a:lnTo>
                    <a:pt x="92" y="321"/>
                  </a:lnTo>
                  <a:lnTo>
                    <a:pt x="97" y="327"/>
                  </a:lnTo>
                  <a:lnTo>
                    <a:pt x="104" y="333"/>
                  </a:lnTo>
                  <a:lnTo>
                    <a:pt x="110" y="338"/>
                  </a:lnTo>
                  <a:lnTo>
                    <a:pt x="118" y="341"/>
                  </a:lnTo>
                  <a:lnTo>
                    <a:pt x="125" y="345"/>
                  </a:lnTo>
                  <a:lnTo>
                    <a:pt x="133" y="346"/>
                  </a:lnTo>
                  <a:lnTo>
                    <a:pt x="141" y="346"/>
                  </a:lnTo>
                  <a:lnTo>
                    <a:pt x="148" y="345"/>
                  </a:lnTo>
                  <a:lnTo>
                    <a:pt x="156" y="340"/>
                  </a:lnTo>
                  <a:lnTo>
                    <a:pt x="163" y="335"/>
                  </a:lnTo>
                  <a:lnTo>
                    <a:pt x="171" y="327"/>
                  </a:lnTo>
                  <a:lnTo>
                    <a:pt x="177" y="317"/>
                  </a:lnTo>
                  <a:lnTo>
                    <a:pt x="183" y="305"/>
                  </a:lnTo>
                  <a:lnTo>
                    <a:pt x="189" y="291"/>
                  </a:lnTo>
                  <a:lnTo>
                    <a:pt x="193" y="277"/>
                  </a:lnTo>
                  <a:lnTo>
                    <a:pt x="198" y="263"/>
                  </a:lnTo>
                  <a:lnTo>
                    <a:pt x="201" y="247"/>
                  </a:lnTo>
                  <a:lnTo>
                    <a:pt x="204" y="232"/>
                  </a:lnTo>
                  <a:lnTo>
                    <a:pt x="208" y="217"/>
                  </a:lnTo>
                  <a:lnTo>
                    <a:pt x="209" y="203"/>
                  </a:lnTo>
                  <a:lnTo>
                    <a:pt x="210" y="189"/>
                  </a:lnTo>
                  <a:lnTo>
                    <a:pt x="211" y="175"/>
                  </a:lnTo>
                  <a:lnTo>
                    <a:pt x="211" y="162"/>
                  </a:lnTo>
                  <a:lnTo>
                    <a:pt x="210" y="150"/>
                  </a:lnTo>
                  <a:lnTo>
                    <a:pt x="209" y="139"/>
                  </a:lnTo>
                  <a:lnTo>
                    <a:pt x="208" y="131"/>
                  </a:lnTo>
                  <a:lnTo>
                    <a:pt x="204" y="122"/>
                  </a:lnTo>
                  <a:lnTo>
                    <a:pt x="202" y="117"/>
                  </a:lnTo>
                  <a:close/>
                </a:path>
              </a:pathLst>
            </a:custGeom>
            <a:solidFill>
              <a:srgbClr val="9a76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5535720" y="2103480"/>
              <a:ext cx="66600" cy="109440"/>
            </a:xfrm>
            <a:custGeom>
              <a:avLst/>
              <a:gdLst/>
              <a:ahLst/>
              <a:rect l="l" t="t" r="r" b="b"/>
              <a:pathLst>
                <a:path w="211" h="346">
                  <a:moveTo>
                    <a:pt x="202" y="117"/>
                  </a:moveTo>
                  <a:lnTo>
                    <a:pt x="199" y="111"/>
                  </a:lnTo>
                  <a:lnTo>
                    <a:pt x="190" y="96"/>
                  </a:lnTo>
                  <a:lnTo>
                    <a:pt x="177" y="75"/>
                  </a:lnTo>
                  <a:lnTo>
                    <a:pt x="161" y="52"/>
                  </a:lnTo>
                  <a:lnTo>
                    <a:pt x="151" y="40"/>
                  </a:lnTo>
                  <a:lnTo>
                    <a:pt x="141" y="29"/>
                  </a:lnTo>
                  <a:lnTo>
                    <a:pt x="129" y="20"/>
                  </a:lnTo>
                  <a:lnTo>
                    <a:pt x="117" y="11"/>
                  </a:lnTo>
                  <a:lnTo>
                    <a:pt x="111" y="8"/>
                  </a:lnTo>
                  <a:lnTo>
                    <a:pt x="105" y="6"/>
                  </a:lnTo>
                  <a:lnTo>
                    <a:pt x="98" y="3"/>
                  </a:lnTo>
                  <a:lnTo>
                    <a:pt x="92" y="1"/>
                  </a:lnTo>
                  <a:lnTo>
                    <a:pt x="85" y="0"/>
                  </a:lnTo>
                  <a:lnTo>
                    <a:pt x="79" y="0"/>
                  </a:lnTo>
                  <a:lnTo>
                    <a:pt x="72" y="1"/>
                  </a:lnTo>
                  <a:lnTo>
                    <a:pt x="66" y="3"/>
                  </a:lnTo>
                  <a:lnTo>
                    <a:pt x="53" y="8"/>
                  </a:lnTo>
                  <a:lnTo>
                    <a:pt x="42" y="13"/>
                  </a:lnTo>
                  <a:lnTo>
                    <a:pt x="33" y="21"/>
                  </a:lnTo>
                  <a:lnTo>
                    <a:pt x="25" y="28"/>
                  </a:lnTo>
                  <a:lnTo>
                    <a:pt x="18" y="37"/>
                  </a:lnTo>
                  <a:lnTo>
                    <a:pt x="13" y="47"/>
                  </a:lnTo>
                  <a:lnTo>
                    <a:pt x="9" y="57"/>
                  </a:lnTo>
                  <a:lnTo>
                    <a:pt x="6" y="67"/>
                  </a:lnTo>
                  <a:lnTo>
                    <a:pt x="3" y="78"/>
                  </a:lnTo>
                  <a:lnTo>
                    <a:pt x="1" y="89"/>
                  </a:lnTo>
                  <a:lnTo>
                    <a:pt x="0" y="100"/>
                  </a:lnTo>
                  <a:lnTo>
                    <a:pt x="0" y="109"/>
                  </a:lnTo>
                  <a:lnTo>
                    <a:pt x="1" y="127"/>
                  </a:lnTo>
                  <a:lnTo>
                    <a:pt x="4" y="142"/>
                  </a:lnTo>
                  <a:lnTo>
                    <a:pt x="10" y="157"/>
                  </a:lnTo>
                  <a:lnTo>
                    <a:pt x="17" y="175"/>
                  </a:lnTo>
                  <a:lnTo>
                    <a:pt x="28" y="196"/>
                  </a:lnTo>
                  <a:lnTo>
                    <a:pt x="40" y="218"/>
                  </a:lnTo>
                  <a:lnTo>
                    <a:pt x="51" y="240"/>
                  </a:lnTo>
                  <a:lnTo>
                    <a:pt x="62" y="262"/>
                  </a:lnTo>
                  <a:lnTo>
                    <a:pt x="70" y="280"/>
                  </a:lnTo>
                  <a:lnTo>
                    <a:pt x="76" y="295"/>
                  </a:lnTo>
                  <a:lnTo>
                    <a:pt x="78" y="301"/>
                  </a:lnTo>
                  <a:lnTo>
                    <a:pt x="82" y="308"/>
                  </a:lnTo>
                  <a:lnTo>
                    <a:pt x="87" y="314"/>
                  </a:lnTo>
                  <a:lnTo>
                    <a:pt x="92" y="321"/>
                  </a:lnTo>
                  <a:lnTo>
                    <a:pt x="97" y="327"/>
                  </a:lnTo>
                  <a:lnTo>
                    <a:pt x="104" y="333"/>
                  </a:lnTo>
                  <a:lnTo>
                    <a:pt x="110" y="338"/>
                  </a:lnTo>
                  <a:lnTo>
                    <a:pt x="118" y="341"/>
                  </a:lnTo>
                  <a:lnTo>
                    <a:pt x="125" y="345"/>
                  </a:lnTo>
                  <a:lnTo>
                    <a:pt x="133" y="346"/>
                  </a:lnTo>
                  <a:lnTo>
                    <a:pt x="141" y="346"/>
                  </a:lnTo>
                  <a:lnTo>
                    <a:pt x="148" y="345"/>
                  </a:lnTo>
                  <a:lnTo>
                    <a:pt x="156" y="340"/>
                  </a:lnTo>
                  <a:lnTo>
                    <a:pt x="163" y="335"/>
                  </a:lnTo>
                  <a:lnTo>
                    <a:pt x="171" y="327"/>
                  </a:lnTo>
                  <a:lnTo>
                    <a:pt x="177" y="317"/>
                  </a:lnTo>
                  <a:lnTo>
                    <a:pt x="183" y="305"/>
                  </a:lnTo>
                  <a:lnTo>
                    <a:pt x="189" y="291"/>
                  </a:lnTo>
                  <a:lnTo>
                    <a:pt x="193" y="277"/>
                  </a:lnTo>
                  <a:lnTo>
                    <a:pt x="198" y="263"/>
                  </a:lnTo>
                  <a:lnTo>
                    <a:pt x="201" y="247"/>
                  </a:lnTo>
                  <a:lnTo>
                    <a:pt x="204" y="232"/>
                  </a:lnTo>
                  <a:lnTo>
                    <a:pt x="208" y="217"/>
                  </a:lnTo>
                  <a:lnTo>
                    <a:pt x="209" y="203"/>
                  </a:lnTo>
                  <a:lnTo>
                    <a:pt x="210" y="189"/>
                  </a:lnTo>
                  <a:lnTo>
                    <a:pt x="211" y="175"/>
                  </a:lnTo>
                  <a:lnTo>
                    <a:pt x="211" y="162"/>
                  </a:lnTo>
                  <a:lnTo>
                    <a:pt x="210" y="150"/>
                  </a:lnTo>
                  <a:lnTo>
                    <a:pt x="209" y="139"/>
                  </a:lnTo>
                  <a:lnTo>
                    <a:pt x="208" y="131"/>
                  </a:lnTo>
                  <a:lnTo>
                    <a:pt x="204" y="122"/>
                  </a:lnTo>
                  <a:lnTo>
                    <a:pt x="202" y="117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5948280" y="2144880"/>
              <a:ext cx="14400" cy="42840"/>
            </a:xfrm>
            <a:custGeom>
              <a:avLst/>
              <a:gdLst/>
              <a:ahLst/>
              <a:rect l="l" t="t" r="r" b="b"/>
              <a:pathLst>
                <a:path w="44" h="136">
                  <a:moveTo>
                    <a:pt x="39" y="133"/>
                  </a:moveTo>
                  <a:lnTo>
                    <a:pt x="37" y="135"/>
                  </a:lnTo>
                  <a:lnTo>
                    <a:pt x="35" y="136"/>
                  </a:lnTo>
                  <a:lnTo>
                    <a:pt x="34" y="135"/>
                  </a:lnTo>
                  <a:lnTo>
                    <a:pt x="33" y="134"/>
                  </a:lnTo>
                  <a:lnTo>
                    <a:pt x="32" y="127"/>
                  </a:lnTo>
                  <a:lnTo>
                    <a:pt x="32" y="119"/>
                  </a:lnTo>
                  <a:lnTo>
                    <a:pt x="32" y="109"/>
                  </a:lnTo>
                  <a:lnTo>
                    <a:pt x="33" y="98"/>
                  </a:lnTo>
                  <a:lnTo>
                    <a:pt x="34" y="88"/>
                  </a:lnTo>
                  <a:lnTo>
                    <a:pt x="34" y="81"/>
                  </a:lnTo>
                  <a:lnTo>
                    <a:pt x="33" y="74"/>
                  </a:lnTo>
                  <a:lnTo>
                    <a:pt x="30" y="66"/>
                  </a:lnTo>
                  <a:lnTo>
                    <a:pt x="25" y="56"/>
                  </a:lnTo>
                  <a:lnTo>
                    <a:pt x="19" y="46"/>
                  </a:lnTo>
                  <a:lnTo>
                    <a:pt x="14" y="37"/>
                  </a:lnTo>
                  <a:lnTo>
                    <a:pt x="9" y="29"/>
                  </a:lnTo>
                  <a:lnTo>
                    <a:pt x="6" y="24"/>
                  </a:lnTo>
                  <a:lnTo>
                    <a:pt x="4" y="22"/>
                  </a:lnTo>
                  <a:lnTo>
                    <a:pt x="2" y="20"/>
                  </a:lnTo>
                  <a:lnTo>
                    <a:pt x="1" y="19"/>
                  </a:lnTo>
                  <a:lnTo>
                    <a:pt x="0" y="17"/>
                  </a:lnTo>
                  <a:lnTo>
                    <a:pt x="1" y="14"/>
                  </a:lnTo>
                  <a:lnTo>
                    <a:pt x="2" y="12"/>
                  </a:lnTo>
                  <a:lnTo>
                    <a:pt x="3" y="7"/>
                  </a:lnTo>
                  <a:lnTo>
                    <a:pt x="6" y="4"/>
                  </a:lnTo>
                  <a:lnTo>
                    <a:pt x="9" y="0"/>
                  </a:lnTo>
                  <a:lnTo>
                    <a:pt x="10" y="2"/>
                  </a:lnTo>
                  <a:lnTo>
                    <a:pt x="15" y="9"/>
                  </a:lnTo>
                  <a:lnTo>
                    <a:pt x="20" y="18"/>
                  </a:lnTo>
                  <a:lnTo>
                    <a:pt x="27" y="29"/>
                  </a:lnTo>
                  <a:lnTo>
                    <a:pt x="33" y="42"/>
                  </a:lnTo>
                  <a:lnTo>
                    <a:pt x="39" y="55"/>
                  </a:lnTo>
                  <a:lnTo>
                    <a:pt x="43" y="67"/>
                  </a:lnTo>
                  <a:lnTo>
                    <a:pt x="44" y="77"/>
                  </a:lnTo>
                  <a:lnTo>
                    <a:pt x="44" y="85"/>
                  </a:lnTo>
                  <a:lnTo>
                    <a:pt x="43" y="95"/>
                  </a:lnTo>
                  <a:lnTo>
                    <a:pt x="43" y="105"/>
                  </a:lnTo>
                  <a:lnTo>
                    <a:pt x="42" y="113"/>
                  </a:lnTo>
                  <a:lnTo>
                    <a:pt x="41" y="122"/>
                  </a:lnTo>
                  <a:lnTo>
                    <a:pt x="40" y="127"/>
                  </a:lnTo>
                  <a:lnTo>
                    <a:pt x="40" y="132"/>
                  </a:lnTo>
                  <a:lnTo>
                    <a:pt x="39" y="133"/>
                  </a:lnTo>
                  <a:close/>
                </a:path>
              </a:pathLst>
            </a:custGeom>
            <a:solidFill>
              <a:srgbClr val="775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5541840" y="2114640"/>
              <a:ext cx="57240" cy="73080"/>
            </a:xfrm>
            <a:custGeom>
              <a:avLst/>
              <a:gdLst/>
              <a:ahLst/>
              <a:rect l="l" t="t" r="r" b="b"/>
              <a:pathLst>
                <a:path w="176" h="231">
                  <a:moveTo>
                    <a:pt x="166" y="129"/>
                  </a:moveTo>
                  <a:lnTo>
                    <a:pt x="164" y="125"/>
                  </a:lnTo>
                  <a:lnTo>
                    <a:pt x="155" y="113"/>
                  </a:lnTo>
                  <a:lnTo>
                    <a:pt x="145" y="97"/>
                  </a:lnTo>
                  <a:lnTo>
                    <a:pt x="129" y="78"/>
                  </a:lnTo>
                  <a:lnTo>
                    <a:pt x="114" y="57"/>
                  </a:lnTo>
                  <a:lnTo>
                    <a:pt x="97" y="38"/>
                  </a:lnTo>
                  <a:lnTo>
                    <a:pt x="89" y="28"/>
                  </a:lnTo>
                  <a:lnTo>
                    <a:pt x="82" y="20"/>
                  </a:lnTo>
                  <a:lnTo>
                    <a:pt x="74" y="14"/>
                  </a:lnTo>
                  <a:lnTo>
                    <a:pt x="68" y="9"/>
                  </a:lnTo>
                  <a:lnTo>
                    <a:pt x="61" y="4"/>
                  </a:lnTo>
                  <a:lnTo>
                    <a:pt x="55" y="1"/>
                  </a:lnTo>
                  <a:lnTo>
                    <a:pt x="49" y="0"/>
                  </a:lnTo>
                  <a:lnTo>
                    <a:pt x="43" y="0"/>
                  </a:lnTo>
                  <a:lnTo>
                    <a:pt x="38" y="1"/>
                  </a:lnTo>
                  <a:lnTo>
                    <a:pt x="33" y="2"/>
                  </a:lnTo>
                  <a:lnTo>
                    <a:pt x="28" y="4"/>
                  </a:lnTo>
                  <a:lnTo>
                    <a:pt x="24" y="7"/>
                  </a:lnTo>
                  <a:lnTo>
                    <a:pt x="16" y="15"/>
                  </a:lnTo>
                  <a:lnTo>
                    <a:pt x="10" y="24"/>
                  </a:lnTo>
                  <a:lnTo>
                    <a:pt x="4" y="32"/>
                  </a:lnTo>
                  <a:lnTo>
                    <a:pt x="1" y="40"/>
                  </a:lnTo>
                  <a:lnTo>
                    <a:pt x="0" y="44"/>
                  </a:lnTo>
                  <a:lnTo>
                    <a:pt x="1" y="51"/>
                  </a:lnTo>
                  <a:lnTo>
                    <a:pt x="2" y="58"/>
                  </a:lnTo>
                  <a:lnTo>
                    <a:pt x="4" y="66"/>
                  </a:lnTo>
                  <a:lnTo>
                    <a:pt x="10" y="85"/>
                  </a:lnTo>
                  <a:lnTo>
                    <a:pt x="17" y="107"/>
                  </a:lnTo>
                  <a:lnTo>
                    <a:pt x="25" y="128"/>
                  </a:lnTo>
                  <a:lnTo>
                    <a:pt x="33" y="149"/>
                  </a:lnTo>
                  <a:lnTo>
                    <a:pt x="41" y="168"/>
                  </a:lnTo>
                  <a:lnTo>
                    <a:pt x="47" y="183"/>
                  </a:lnTo>
                  <a:lnTo>
                    <a:pt x="53" y="195"/>
                  </a:lnTo>
                  <a:lnTo>
                    <a:pt x="59" y="206"/>
                  </a:lnTo>
                  <a:lnTo>
                    <a:pt x="65" y="215"/>
                  </a:lnTo>
                  <a:lnTo>
                    <a:pt x="70" y="222"/>
                  </a:lnTo>
                  <a:lnTo>
                    <a:pt x="77" y="228"/>
                  </a:lnTo>
                  <a:lnTo>
                    <a:pt x="82" y="231"/>
                  </a:lnTo>
                  <a:lnTo>
                    <a:pt x="85" y="231"/>
                  </a:lnTo>
                  <a:lnTo>
                    <a:pt x="88" y="231"/>
                  </a:lnTo>
                  <a:lnTo>
                    <a:pt x="92" y="230"/>
                  </a:lnTo>
                  <a:lnTo>
                    <a:pt x="95" y="228"/>
                  </a:lnTo>
                  <a:lnTo>
                    <a:pt x="101" y="223"/>
                  </a:lnTo>
                  <a:lnTo>
                    <a:pt x="107" y="220"/>
                  </a:lnTo>
                  <a:lnTo>
                    <a:pt x="112" y="217"/>
                  </a:lnTo>
                  <a:lnTo>
                    <a:pt x="116" y="215"/>
                  </a:lnTo>
                  <a:lnTo>
                    <a:pt x="122" y="214"/>
                  </a:lnTo>
                  <a:lnTo>
                    <a:pt x="127" y="214"/>
                  </a:lnTo>
                  <a:lnTo>
                    <a:pt x="133" y="214"/>
                  </a:lnTo>
                  <a:lnTo>
                    <a:pt x="139" y="216"/>
                  </a:lnTo>
                  <a:lnTo>
                    <a:pt x="142" y="216"/>
                  </a:lnTo>
                  <a:lnTo>
                    <a:pt x="147" y="215"/>
                  </a:lnTo>
                  <a:lnTo>
                    <a:pt x="150" y="213"/>
                  </a:lnTo>
                  <a:lnTo>
                    <a:pt x="154" y="208"/>
                  </a:lnTo>
                  <a:lnTo>
                    <a:pt x="159" y="203"/>
                  </a:lnTo>
                  <a:lnTo>
                    <a:pt x="163" y="198"/>
                  </a:lnTo>
                  <a:lnTo>
                    <a:pt x="166" y="191"/>
                  </a:lnTo>
                  <a:lnTo>
                    <a:pt x="169" y="183"/>
                  </a:lnTo>
                  <a:lnTo>
                    <a:pt x="173" y="176"/>
                  </a:lnTo>
                  <a:lnTo>
                    <a:pt x="175" y="168"/>
                  </a:lnTo>
                  <a:lnTo>
                    <a:pt x="176" y="161"/>
                  </a:lnTo>
                  <a:lnTo>
                    <a:pt x="176" y="153"/>
                  </a:lnTo>
                  <a:lnTo>
                    <a:pt x="176" y="146"/>
                  </a:lnTo>
                  <a:lnTo>
                    <a:pt x="174" y="139"/>
                  </a:lnTo>
                  <a:lnTo>
                    <a:pt x="170" y="134"/>
                  </a:lnTo>
                  <a:lnTo>
                    <a:pt x="166" y="129"/>
                  </a:lnTo>
                  <a:close/>
                </a:path>
              </a:pathLst>
            </a:custGeom>
            <a:solidFill>
              <a:srgbClr val="805f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5935680" y="2168640"/>
              <a:ext cx="19080" cy="28440"/>
            </a:xfrm>
            <a:custGeom>
              <a:avLst/>
              <a:gdLst/>
              <a:ahLst/>
              <a:rect l="l" t="t" r="r" b="b"/>
              <a:pathLst>
                <a:path w="57" h="90">
                  <a:moveTo>
                    <a:pt x="27" y="0"/>
                  </a:moveTo>
                  <a:lnTo>
                    <a:pt x="28" y="1"/>
                  </a:lnTo>
                  <a:lnTo>
                    <a:pt x="31" y="4"/>
                  </a:lnTo>
                  <a:lnTo>
                    <a:pt x="36" y="6"/>
                  </a:lnTo>
                  <a:lnTo>
                    <a:pt x="41" y="10"/>
                  </a:lnTo>
                  <a:lnTo>
                    <a:pt x="45" y="14"/>
                  </a:lnTo>
                  <a:lnTo>
                    <a:pt x="51" y="20"/>
                  </a:lnTo>
                  <a:lnTo>
                    <a:pt x="54" y="25"/>
                  </a:lnTo>
                  <a:lnTo>
                    <a:pt x="56" y="31"/>
                  </a:lnTo>
                  <a:lnTo>
                    <a:pt x="57" y="36"/>
                  </a:lnTo>
                  <a:lnTo>
                    <a:pt x="57" y="42"/>
                  </a:lnTo>
                  <a:lnTo>
                    <a:pt x="57" y="49"/>
                  </a:lnTo>
                  <a:lnTo>
                    <a:pt x="56" y="57"/>
                  </a:lnTo>
                  <a:lnTo>
                    <a:pt x="54" y="63"/>
                  </a:lnTo>
                  <a:lnTo>
                    <a:pt x="50" y="69"/>
                  </a:lnTo>
                  <a:lnTo>
                    <a:pt x="43" y="76"/>
                  </a:lnTo>
                  <a:lnTo>
                    <a:pt x="35" y="82"/>
                  </a:lnTo>
                  <a:lnTo>
                    <a:pt x="25" y="87"/>
                  </a:lnTo>
                  <a:lnTo>
                    <a:pt x="16" y="89"/>
                  </a:lnTo>
                  <a:lnTo>
                    <a:pt x="10" y="90"/>
                  </a:lnTo>
                  <a:lnTo>
                    <a:pt x="5" y="89"/>
                  </a:lnTo>
                  <a:lnTo>
                    <a:pt x="3" y="88"/>
                  </a:lnTo>
                  <a:lnTo>
                    <a:pt x="2" y="86"/>
                  </a:lnTo>
                  <a:lnTo>
                    <a:pt x="1" y="84"/>
                  </a:lnTo>
                  <a:lnTo>
                    <a:pt x="0" y="81"/>
                  </a:lnTo>
                  <a:lnTo>
                    <a:pt x="0" y="75"/>
                  </a:lnTo>
                  <a:lnTo>
                    <a:pt x="2" y="67"/>
                  </a:lnTo>
                  <a:lnTo>
                    <a:pt x="4" y="59"/>
                  </a:lnTo>
                  <a:lnTo>
                    <a:pt x="8" y="48"/>
                  </a:lnTo>
                  <a:lnTo>
                    <a:pt x="10" y="36"/>
                  </a:lnTo>
                  <a:lnTo>
                    <a:pt x="13" y="25"/>
                  </a:lnTo>
                  <a:lnTo>
                    <a:pt x="15" y="15"/>
                  </a:lnTo>
                  <a:lnTo>
                    <a:pt x="18" y="8"/>
                  </a:lnTo>
                  <a:lnTo>
                    <a:pt x="20" y="5"/>
                  </a:lnTo>
                  <a:lnTo>
                    <a:pt x="23" y="3"/>
                  </a:lnTo>
                  <a:lnTo>
                    <a:pt x="25" y="1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775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5573520" y="2149560"/>
              <a:ext cx="22320" cy="31680"/>
            </a:xfrm>
            <a:custGeom>
              <a:avLst/>
              <a:gdLst/>
              <a:ahLst/>
              <a:rect l="l" t="t" r="r" b="b"/>
              <a:pathLst>
                <a:path w="68" h="103">
                  <a:moveTo>
                    <a:pt x="41" y="0"/>
                  </a:moveTo>
                  <a:lnTo>
                    <a:pt x="40" y="0"/>
                  </a:lnTo>
                  <a:lnTo>
                    <a:pt x="38" y="1"/>
                  </a:lnTo>
                  <a:lnTo>
                    <a:pt x="34" y="3"/>
                  </a:lnTo>
                  <a:lnTo>
                    <a:pt x="29" y="6"/>
                  </a:lnTo>
                  <a:lnTo>
                    <a:pt x="23" y="10"/>
                  </a:lnTo>
                  <a:lnTo>
                    <a:pt x="18" y="14"/>
                  </a:lnTo>
                  <a:lnTo>
                    <a:pt x="12" y="18"/>
                  </a:lnTo>
                  <a:lnTo>
                    <a:pt x="7" y="25"/>
                  </a:lnTo>
                  <a:lnTo>
                    <a:pt x="4" y="33"/>
                  </a:lnTo>
                  <a:lnTo>
                    <a:pt x="1" y="44"/>
                  </a:lnTo>
                  <a:lnTo>
                    <a:pt x="0" y="57"/>
                  </a:lnTo>
                  <a:lnTo>
                    <a:pt x="0" y="71"/>
                  </a:lnTo>
                  <a:lnTo>
                    <a:pt x="1" y="83"/>
                  </a:lnTo>
                  <a:lnTo>
                    <a:pt x="5" y="92"/>
                  </a:lnTo>
                  <a:lnTo>
                    <a:pt x="7" y="95"/>
                  </a:lnTo>
                  <a:lnTo>
                    <a:pt x="9" y="97"/>
                  </a:lnTo>
                  <a:lnTo>
                    <a:pt x="11" y="97"/>
                  </a:lnTo>
                  <a:lnTo>
                    <a:pt x="14" y="96"/>
                  </a:lnTo>
                  <a:lnTo>
                    <a:pt x="20" y="94"/>
                  </a:lnTo>
                  <a:lnTo>
                    <a:pt x="25" y="94"/>
                  </a:lnTo>
                  <a:lnTo>
                    <a:pt x="28" y="95"/>
                  </a:lnTo>
                  <a:lnTo>
                    <a:pt x="32" y="97"/>
                  </a:lnTo>
                  <a:lnTo>
                    <a:pt x="34" y="100"/>
                  </a:lnTo>
                  <a:lnTo>
                    <a:pt x="37" y="102"/>
                  </a:lnTo>
                  <a:lnTo>
                    <a:pt x="40" y="103"/>
                  </a:lnTo>
                  <a:lnTo>
                    <a:pt x="45" y="103"/>
                  </a:lnTo>
                  <a:lnTo>
                    <a:pt x="47" y="102"/>
                  </a:lnTo>
                  <a:lnTo>
                    <a:pt x="50" y="99"/>
                  </a:lnTo>
                  <a:lnTo>
                    <a:pt x="53" y="95"/>
                  </a:lnTo>
                  <a:lnTo>
                    <a:pt x="56" y="89"/>
                  </a:lnTo>
                  <a:lnTo>
                    <a:pt x="60" y="83"/>
                  </a:lnTo>
                  <a:lnTo>
                    <a:pt x="63" y="75"/>
                  </a:lnTo>
                  <a:lnTo>
                    <a:pt x="65" y="67"/>
                  </a:lnTo>
                  <a:lnTo>
                    <a:pt x="67" y="58"/>
                  </a:lnTo>
                  <a:lnTo>
                    <a:pt x="68" y="49"/>
                  </a:lnTo>
                  <a:lnTo>
                    <a:pt x="68" y="41"/>
                  </a:lnTo>
                  <a:lnTo>
                    <a:pt x="67" y="32"/>
                  </a:lnTo>
                  <a:lnTo>
                    <a:pt x="65" y="25"/>
                  </a:lnTo>
                  <a:lnTo>
                    <a:pt x="62" y="17"/>
                  </a:lnTo>
                  <a:lnTo>
                    <a:pt x="56" y="10"/>
                  </a:lnTo>
                  <a:lnTo>
                    <a:pt x="50" y="4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775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5619600" y="2282760"/>
              <a:ext cx="265320" cy="371520"/>
            </a:xfrm>
            <a:custGeom>
              <a:avLst/>
              <a:gdLst/>
              <a:ahLst/>
              <a:rect l="l" t="t" r="r" b="b"/>
              <a:pathLst>
                <a:path w="835" h="1173">
                  <a:moveTo>
                    <a:pt x="0" y="39"/>
                  </a:moveTo>
                  <a:lnTo>
                    <a:pt x="2" y="49"/>
                  </a:lnTo>
                  <a:lnTo>
                    <a:pt x="10" y="77"/>
                  </a:lnTo>
                  <a:lnTo>
                    <a:pt x="21" y="119"/>
                  </a:lnTo>
                  <a:lnTo>
                    <a:pt x="39" y="174"/>
                  </a:lnTo>
                  <a:lnTo>
                    <a:pt x="50" y="204"/>
                  </a:lnTo>
                  <a:lnTo>
                    <a:pt x="63" y="237"/>
                  </a:lnTo>
                  <a:lnTo>
                    <a:pt x="75" y="271"/>
                  </a:lnTo>
                  <a:lnTo>
                    <a:pt x="91" y="306"/>
                  </a:lnTo>
                  <a:lnTo>
                    <a:pt x="107" y="341"/>
                  </a:lnTo>
                  <a:lnTo>
                    <a:pt x="125" y="377"/>
                  </a:lnTo>
                  <a:lnTo>
                    <a:pt x="145" y="414"/>
                  </a:lnTo>
                  <a:lnTo>
                    <a:pt x="165" y="449"/>
                  </a:lnTo>
                  <a:lnTo>
                    <a:pt x="187" y="485"/>
                  </a:lnTo>
                  <a:lnTo>
                    <a:pt x="207" y="521"/>
                  </a:lnTo>
                  <a:lnTo>
                    <a:pt x="225" y="557"/>
                  </a:lnTo>
                  <a:lnTo>
                    <a:pt x="242" y="593"/>
                  </a:lnTo>
                  <a:lnTo>
                    <a:pt x="257" y="629"/>
                  </a:lnTo>
                  <a:lnTo>
                    <a:pt x="271" y="664"/>
                  </a:lnTo>
                  <a:lnTo>
                    <a:pt x="284" y="700"/>
                  </a:lnTo>
                  <a:lnTo>
                    <a:pt x="297" y="734"/>
                  </a:lnTo>
                  <a:lnTo>
                    <a:pt x="317" y="801"/>
                  </a:lnTo>
                  <a:lnTo>
                    <a:pt x="336" y="864"/>
                  </a:lnTo>
                  <a:lnTo>
                    <a:pt x="352" y="921"/>
                  </a:lnTo>
                  <a:lnTo>
                    <a:pt x="366" y="973"/>
                  </a:lnTo>
                  <a:lnTo>
                    <a:pt x="379" y="1018"/>
                  </a:lnTo>
                  <a:lnTo>
                    <a:pt x="389" y="1059"/>
                  </a:lnTo>
                  <a:lnTo>
                    <a:pt x="397" y="1094"/>
                  </a:lnTo>
                  <a:lnTo>
                    <a:pt x="404" y="1123"/>
                  </a:lnTo>
                  <a:lnTo>
                    <a:pt x="407" y="1135"/>
                  </a:lnTo>
                  <a:lnTo>
                    <a:pt x="410" y="1146"/>
                  </a:lnTo>
                  <a:lnTo>
                    <a:pt x="414" y="1155"/>
                  </a:lnTo>
                  <a:lnTo>
                    <a:pt x="417" y="1162"/>
                  </a:lnTo>
                  <a:lnTo>
                    <a:pt x="420" y="1167"/>
                  </a:lnTo>
                  <a:lnTo>
                    <a:pt x="423" y="1172"/>
                  </a:lnTo>
                  <a:lnTo>
                    <a:pt x="428" y="1173"/>
                  </a:lnTo>
                  <a:lnTo>
                    <a:pt x="433" y="1173"/>
                  </a:lnTo>
                  <a:lnTo>
                    <a:pt x="435" y="1173"/>
                  </a:lnTo>
                  <a:lnTo>
                    <a:pt x="437" y="1171"/>
                  </a:lnTo>
                  <a:lnTo>
                    <a:pt x="440" y="1170"/>
                  </a:lnTo>
                  <a:lnTo>
                    <a:pt x="442" y="1166"/>
                  </a:lnTo>
                  <a:lnTo>
                    <a:pt x="445" y="1161"/>
                  </a:lnTo>
                  <a:lnTo>
                    <a:pt x="448" y="1152"/>
                  </a:lnTo>
                  <a:lnTo>
                    <a:pt x="454" y="1130"/>
                  </a:lnTo>
                  <a:lnTo>
                    <a:pt x="459" y="1098"/>
                  </a:lnTo>
                  <a:lnTo>
                    <a:pt x="467" y="1062"/>
                  </a:lnTo>
                  <a:lnTo>
                    <a:pt x="477" y="1017"/>
                  </a:lnTo>
                  <a:lnTo>
                    <a:pt x="485" y="993"/>
                  </a:lnTo>
                  <a:lnTo>
                    <a:pt x="494" y="967"/>
                  </a:lnTo>
                  <a:lnTo>
                    <a:pt x="504" y="940"/>
                  </a:lnTo>
                  <a:lnTo>
                    <a:pt x="516" y="912"/>
                  </a:lnTo>
                  <a:lnTo>
                    <a:pt x="532" y="879"/>
                  </a:lnTo>
                  <a:lnTo>
                    <a:pt x="552" y="841"/>
                  </a:lnTo>
                  <a:lnTo>
                    <a:pt x="575" y="798"/>
                  </a:lnTo>
                  <a:lnTo>
                    <a:pt x="599" y="752"/>
                  </a:lnTo>
                  <a:lnTo>
                    <a:pt x="626" y="702"/>
                  </a:lnTo>
                  <a:lnTo>
                    <a:pt x="655" y="649"/>
                  </a:lnTo>
                  <a:lnTo>
                    <a:pt x="683" y="594"/>
                  </a:lnTo>
                  <a:lnTo>
                    <a:pt x="711" y="538"/>
                  </a:lnTo>
                  <a:lnTo>
                    <a:pt x="737" y="481"/>
                  </a:lnTo>
                  <a:lnTo>
                    <a:pt x="761" y="423"/>
                  </a:lnTo>
                  <a:lnTo>
                    <a:pt x="773" y="395"/>
                  </a:lnTo>
                  <a:lnTo>
                    <a:pt x="784" y="367"/>
                  </a:lnTo>
                  <a:lnTo>
                    <a:pt x="794" y="340"/>
                  </a:lnTo>
                  <a:lnTo>
                    <a:pt x="804" y="312"/>
                  </a:lnTo>
                  <a:lnTo>
                    <a:pt x="811" y="286"/>
                  </a:lnTo>
                  <a:lnTo>
                    <a:pt x="819" y="260"/>
                  </a:lnTo>
                  <a:lnTo>
                    <a:pt x="824" y="235"/>
                  </a:lnTo>
                  <a:lnTo>
                    <a:pt x="828" y="211"/>
                  </a:lnTo>
                  <a:lnTo>
                    <a:pt x="833" y="187"/>
                  </a:lnTo>
                  <a:lnTo>
                    <a:pt x="834" y="164"/>
                  </a:lnTo>
                  <a:lnTo>
                    <a:pt x="835" y="143"/>
                  </a:lnTo>
                  <a:lnTo>
                    <a:pt x="833" y="123"/>
                  </a:lnTo>
                  <a:lnTo>
                    <a:pt x="828" y="104"/>
                  </a:lnTo>
                  <a:lnTo>
                    <a:pt x="820" y="86"/>
                  </a:lnTo>
                  <a:lnTo>
                    <a:pt x="808" y="71"/>
                  </a:lnTo>
                  <a:lnTo>
                    <a:pt x="791" y="58"/>
                  </a:lnTo>
                  <a:lnTo>
                    <a:pt x="771" y="46"/>
                  </a:lnTo>
                  <a:lnTo>
                    <a:pt x="748" y="36"/>
                  </a:lnTo>
                  <a:lnTo>
                    <a:pt x="723" y="27"/>
                  </a:lnTo>
                  <a:lnTo>
                    <a:pt x="693" y="19"/>
                  </a:lnTo>
                  <a:lnTo>
                    <a:pt x="663" y="14"/>
                  </a:lnTo>
                  <a:lnTo>
                    <a:pt x="630" y="9"/>
                  </a:lnTo>
                  <a:lnTo>
                    <a:pt x="596" y="5"/>
                  </a:lnTo>
                  <a:lnTo>
                    <a:pt x="559" y="2"/>
                  </a:lnTo>
                  <a:lnTo>
                    <a:pt x="523" y="1"/>
                  </a:lnTo>
                  <a:lnTo>
                    <a:pt x="485" y="0"/>
                  </a:lnTo>
                  <a:lnTo>
                    <a:pt x="447" y="0"/>
                  </a:lnTo>
                  <a:lnTo>
                    <a:pt x="408" y="1"/>
                  </a:lnTo>
                  <a:lnTo>
                    <a:pt x="332" y="4"/>
                  </a:lnTo>
                  <a:lnTo>
                    <a:pt x="258" y="10"/>
                  </a:lnTo>
                  <a:lnTo>
                    <a:pt x="189" y="15"/>
                  </a:lnTo>
                  <a:lnTo>
                    <a:pt x="127" y="22"/>
                  </a:lnTo>
                  <a:lnTo>
                    <a:pt x="34" y="33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bdbd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5619600" y="2282760"/>
              <a:ext cx="265320" cy="371520"/>
            </a:xfrm>
            <a:custGeom>
              <a:avLst/>
              <a:gdLst/>
              <a:ahLst/>
              <a:rect l="l" t="t" r="r" b="b"/>
              <a:pathLst>
                <a:path w="835" h="1173">
                  <a:moveTo>
                    <a:pt x="0" y="39"/>
                  </a:moveTo>
                  <a:lnTo>
                    <a:pt x="2" y="49"/>
                  </a:lnTo>
                  <a:lnTo>
                    <a:pt x="10" y="77"/>
                  </a:lnTo>
                  <a:lnTo>
                    <a:pt x="21" y="119"/>
                  </a:lnTo>
                  <a:lnTo>
                    <a:pt x="39" y="174"/>
                  </a:lnTo>
                  <a:lnTo>
                    <a:pt x="50" y="204"/>
                  </a:lnTo>
                  <a:lnTo>
                    <a:pt x="63" y="237"/>
                  </a:lnTo>
                  <a:lnTo>
                    <a:pt x="75" y="271"/>
                  </a:lnTo>
                  <a:lnTo>
                    <a:pt x="91" y="306"/>
                  </a:lnTo>
                  <a:lnTo>
                    <a:pt x="107" y="341"/>
                  </a:lnTo>
                  <a:lnTo>
                    <a:pt x="125" y="377"/>
                  </a:lnTo>
                  <a:lnTo>
                    <a:pt x="145" y="414"/>
                  </a:lnTo>
                  <a:lnTo>
                    <a:pt x="165" y="449"/>
                  </a:lnTo>
                  <a:lnTo>
                    <a:pt x="187" y="485"/>
                  </a:lnTo>
                  <a:lnTo>
                    <a:pt x="207" y="521"/>
                  </a:lnTo>
                  <a:lnTo>
                    <a:pt x="225" y="557"/>
                  </a:lnTo>
                  <a:lnTo>
                    <a:pt x="242" y="593"/>
                  </a:lnTo>
                  <a:lnTo>
                    <a:pt x="257" y="629"/>
                  </a:lnTo>
                  <a:lnTo>
                    <a:pt x="271" y="664"/>
                  </a:lnTo>
                  <a:lnTo>
                    <a:pt x="284" y="700"/>
                  </a:lnTo>
                  <a:lnTo>
                    <a:pt x="297" y="734"/>
                  </a:lnTo>
                  <a:lnTo>
                    <a:pt x="317" y="801"/>
                  </a:lnTo>
                  <a:lnTo>
                    <a:pt x="336" y="864"/>
                  </a:lnTo>
                  <a:lnTo>
                    <a:pt x="352" y="921"/>
                  </a:lnTo>
                  <a:lnTo>
                    <a:pt x="366" y="973"/>
                  </a:lnTo>
                  <a:lnTo>
                    <a:pt x="379" y="1018"/>
                  </a:lnTo>
                  <a:lnTo>
                    <a:pt x="389" y="1059"/>
                  </a:lnTo>
                  <a:lnTo>
                    <a:pt x="397" y="1094"/>
                  </a:lnTo>
                  <a:lnTo>
                    <a:pt x="404" y="1123"/>
                  </a:lnTo>
                  <a:lnTo>
                    <a:pt x="407" y="1135"/>
                  </a:lnTo>
                  <a:lnTo>
                    <a:pt x="410" y="1146"/>
                  </a:lnTo>
                  <a:lnTo>
                    <a:pt x="414" y="1155"/>
                  </a:lnTo>
                  <a:lnTo>
                    <a:pt x="417" y="1162"/>
                  </a:lnTo>
                  <a:lnTo>
                    <a:pt x="420" y="1167"/>
                  </a:lnTo>
                  <a:lnTo>
                    <a:pt x="423" y="1172"/>
                  </a:lnTo>
                  <a:lnTo>
                    <a:pt x="428" y="1173"/>
                  </a:lnTo>
                  <a:lnTo>
                    <a:pt x="433" y="1173"/>
                  </a:lnTo>
                  <a:lnTo>
                    <a:pt x="435" y="1173"/>
                  </a:lnTo>
                  <a:lnTo>
                    <a:pt x="437" y="1171"/>
                  </a:lnTo>
                  <a:lnTo>
                    <a:pt x="440" y="1170"/>
                  </a:lnTo>
                  <a:lnTo>
                    <a:pt x="442" y="1166"/>
                  </a:lnTo>
                  <a:lnTo>
                    <a:pt x="445" y="1161"/>
                  </a:lnTo>
                  <a:lnTo>
                    <a:pt x="448" y="1152"/>
                  </a:lnTo>
                  <a:lnTo>
                    <a:pt x="454" y="1130"/>
                  </a:lnTo>
                  <a:lnTo>
                    <a:pt x="459" y="1098"/>
                  </a:lnTo>
                  <a:lnTo>
                    <a:pt x="467" y="1062"/>
                  </a:lnTo>
                  <a:lnTo>
                    <a:pt x="477" y="1017"/>
                  </a:lnTo>
                  <a:lnTo>
                    <a:pt x="485" y="993"/>
                  </a:lnTo>
                  <a:lnTo>
                    <a:pt x="494" y="967"/>
                  </a:lnTo>
                  <a:lnTo>
                    <a:pt x="504" y="940"/>
                  </a:lnTo>
                  <a:lnTo>
                    <a:pt x="516" y="912"/>
                  </a:lnTo>
                  <a:lnTo>
                    <a:pt x="532" y="879"/>
                  </a:lnTo>
                  <a:lnTo>
                    <a:pt x="552" y="841"/>
                  </a:lnTo>
                  <a:lnTo>
                    <a:pt x="575" y="798"/>
                  </a:lnTo>
                  <a:lnTo>
                    <a:pt x="599" y="752"/>
                  </a:lnTo>
                  <a:lnTo>
                    <a:pt x="626" y="702"/>
                  </a:lnTo>
                  <a:lnTo>
                    <a:pt x="655" y="649"/>
                  </a:lnTo>
                  <a:lnTo>
                    <a:pt x="683" y="594"/>
                  </a:lnTo>
                  <a:lnTo>
                    <a:pt x="711" y="538"/>
                  </a:lnTo>
                  <a:lnTo>
                    <a:pt x="737" y="481"/>
                  </a:lnTo>
                  <a:lnTo>
                    <a:pt x="761" y="423"/>
                  </a:lnTo>
                  <a:lnTo>
                    <a:pt x="773" y="395"/>
                  </a:lnTo>
                  <a:lnTo>
                    <a:pt x="784" y="367"/>
                  </a:lnTo>
                  <a:lnTo>
                    <a:pt x="794" y="340"/>
                  </a:lnTo>
                  <a:lnTo>
                    <a:pt x="804" y="312"/>
                  </a:lnTo>
                  <a:lnTo>
                    <a:pt x="811" y="286"/>
                  </a:lnTo>
                  <a:lnTo>
                    <a:pt x="819" y="260"/>
                  </a:lnTo>
                  <a:lnTo>
                    <a:pt x="824" y="235"/>
                  </a:lnTo>
                  <a:lnTo>
                    <a:pt x="828" y="211"/>
                  </a:lnTo>
                  <a:lnTo>
                    <a:pt x="833" y="187"/>
                  </a:lnTo>
                  <a:lnTo>
                    <a:pt x="834" y="164"/>
                  </a:lnTo>
                  <a:lnTo>
                    <a:pt x="835" y="143"/>
                  </a:lnTo>
                  <a:lnTo>
                    <a:pt x="833" y="123"/>
                  </a:lnTo>
                  <a:lnTo>
                    <a:pt x="828" y="104"/>
                  </a:lnTo>
                  <a:lnTo>
                    <a:pt x="820" y="86"/>
                  </a:lnTo>
                  <a:lnTo>
                    <a:pt x="808" y="71"/>
                  </a:lnTo>
                  <a:lnTo>
                    <a:pt x="791" y="58"/>
                  </a:lnTo>
                  <a:lnTo>
                    <a:pt x="771" y="46"/>
                  </a:lnTo>
                  <a:lnTo>
                    <a:pt x="748" y="36"/>
                  </a:lnTo>
                  <a:lnTo>
                    <a:pt x="723" y="27"/>
                  </a:lnTo>
                  <a:lnTo>
                    <a:pt x="693" y="19"/>
                  </a:lnTo>
                  <a:lnTo>
                    <a:pt x="663" y="14"/>
                  </a:lnTo>
                  <a:lnTo>
                    <a:pt x="630" y="9"/>
                  </a:lnTo>
                  <a:lnTo>
                    <a:pt x="596" y="5"/>
                  </a:lnTo>
                  <a:lnTo>
                    <a:pt x="559" y="2"/>
                  </a:lnTo>
                  <a:lnTo>
                    <a:pt x="523" y="1"/>
                  </a:lnTo>
                  <a:lnTo>
                    <a:pt x="485" y="0"/>
                  </a:lnTo>
                  <a:lnTo>
                    <a:pt x="447" y="0"/>
                  </a:lnTo>
                  <a:lnTo>
                    <a:pt x="408" y="1"/>
                  </a:lnTo>
                  <a:lnTo>
                    <a:pt x="332" y="4"/>
                  </a:lnTo>
                  <a:lnTo>
                    <a:pt x="258" y="10"/>
                  </a:lnTo>
                  <a:lnTo>
                    <a:pt x="189" y="15"/>
                  </a:lnTo>
                  <a:lnTo>
                    <a:pt x="127" y="22"/>
                  </a:lnTo>
                  <a:lnTo>
                    <a:pt x="34" y="33"/>
                  </a:lnTo>
                  <a:lnTo>
                    <a:pt x="0" y="39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5627520" y="2306880"/>
              <a:ext cx="257400" cy="177480"/>
            </a:xfrm>
            <a:custGeom>
              <a:avLst/>
              <a:gdLst/>
              <a:ahLst/>
              <a:rect l="l" t="t" r="r" b="b"/>
              <a:pathLst>
                <a:path w="808" h="556">
                  <a:moveTo>
                    <a:pt x="0" y="38"/>
                  </a:moveTo>
                  <a:lnTo>
                    <a:pt x="3" y="45"/>
                  </a:lnTo>
                  <a:lnTo>
                    <a:pt x="10" y="68"/>
                  </a:lnTo>
                  <a:lnTo>
                    <a:pt x="21" y="101"/>
                  </a:lnTo>
                  <a:lnTo>
                    <a:pt x="37" y="142"/>
                  </a:lnTo>
                  <a:lnTo>
                    <a:pt x="54" y="187"/>
                  </a:lnTo>
                  <a:lnTo>
                    <a:pt x="73" y="231"/>
                  </a:lnTo>
                  <a:lnTo>
                    <a:pt x="84" y="252"/>
                  </a:lnTo>
                  <a:lnTo>
                    <a:pt x="94" y="272"/>
                  </a:lnTo>
                  <a:lnTo>
                    <a:pt x="106" y="290"/>
                  </a:lnTo>
                  <a:lnTo>
                    <a:pt x="117" y="306"/>
                  </a:lnTo>
                  <a:lnTo>
                    <a:pt x="145" y="340"/>
                  </a:lnTo>
                  <a:lnTo>
                    <a:pt x="181" y="379"/>
                  </a:lnTo>
                  <a:lnTo>
                    <a:pt x="202" y="399"/>
                  </a:lnTo>
                  <a:lnTo>
                    <a:pt x="223" y="421"/>
                  </a:lnTo>
                  <a:lnTo>
                    <a:pt x="246" y="441"/>
                  </a:lnTo>
                  <a:lnTo>
                    <a:pt x="270" y="462"/>
                  </a:lnTo>
                  <a:lnTo>
                    <a:pt x="293" y="481"/>
                  </a:lnTo>
                  <a:lnTo>
                    <a:pt x="316" y="500"/>
                  </a:lnTo>
                  <a:lnTo>
                    <a:pt x="339" y="516"/>
                  </a:lnTo>
                  <a:lnTo>
                    <a:pt x="361" y="530"/>
                  </a:lnTo>
                  <a:lnTo>
                    <a:pt x="382" y="542"/>
                  </a:lnTo>
                  <a:lnTo>
                    <a:pt x="402" y="551"/>
                  </a:lnTo>
                  <a:lnTo>
                    <a:pt x="410" y="553"/>
                  </a:lnTo>
                  <a:lnTo>
                    <a:pt x="419" y="555"/>
                  </a:lnTo>
                  <a:lnTo>
                    <a:pt x="428" y="556"/>
                  </a:lnTo>
                  <a:lnTo>
                    <a:pt x="435" y="556"/>
                  </a:lnTo>
                  <a:lnTo>
                    <a:pt x="443" y="555"/>
                  </a:lnTo>
                  <a:lnTo>
                    <a:pt x="451" y="553"/>
                  </a:lnTo>
                  <a:lnTo>
                    <a:pt x="460" y="551"/>
                  </a:lnTo>
                  <a:lnTo>
                    <a:pt x="470" y="546"/>
                  </a:lnTo>
                  <a:lnTo>
                    <a:pt x="490" y="537"/>
                  </a:lnTo>
                  <a:lnTo>
                    <a:pt x="512" y="524"/>
                  </a:lnTo>
                  <a:lnTo>
                    <a:pt x="536" y="508"/>
                  </a:lnTo>
                  <a:lnTo>
                    <a:pt x="559" y="491"/>
                  </a:lnTo>
                  <a:lnTo>
                    <a:pt x="584" y="473"/>
                  </a:lnTo>
                  <a:lnTo>
                    <a:pt x="609" y="452"/>
                  </a:lnTo>
                  <a:lnTo>
                    <a:pt x="633" y="431"/>
                  </a:lnTo>
                  <a:lnTo>
                    <a:pt x="656" y="409"/>
                  </a:lnTo>
                  <a:lnTo>
                    <a:pt x="677" y="387"/>
                  </a:lnTo>
                  <a:lnTo>
                    <a:pt x="698" y="366"/>
                  </a:lnTo>
                  <a:lnTo>
                    <a:pt x="715" y="344"/>
                  </a:lnTo>
                  <a:lnTo>
                    <a:pt x="730" y="324"/>
                  </a:lnTo>
                  <a:lnTo>
                    <a:pt x="736" y="314"/>
                  </a:lnTo>
                  <a:lnTo>
                    <a:pt x="741" y="304"/>
                  </a:lnTo>
                  <a:lnTo>
                    <a:pt x="746" y="296"/>
                  </a:lnTo>
                  <a:lnTo>
                    <a:pt x="750" y="287"/>
                  </a:lnTo>
                  <a:lnTo>
                    <a:pt x="763" y="252"/>
                  </a:lnTo>
                  <a:lnTo>
                    <a:pt x="776" y="216"/>
                  </a:lnTo>
                  <a:lnTo>
                    <a:pt x="787" y="179"/>
                  </a:lnTo>
                  <a:lnTo>
                    <a:pt x="797" y="143"/>
                  </a:lnTo>
                  <a:lnTo>
                    <a:pt x="800" y="126"/>
                  </a:lnTo>
                  <a:lnTo>
                    <a:pt x="804" y="111"/>
                  </a:lnTo>
                  <a:lnTo>
                    <a:pt x="806" y="97"/>
                  </a:lnTo>
                  <a:lnTo>
                    <a:pt x="808" y="84"/>
                  </a:lnTo>
                  <a:lnTo>
                    <a:pt x="808" y="72"/>
                  </a:lnTo>
                  <a:lnTo>
                    <a:pt x="807" y="62"/>
                  </a:lnTo>
                  <a:lnTo>
                    <a:pt x="805" y="55"/>
                  </a:lnTo>
                  <a:lnTo>
                    <a:pt x="801" y="49"/>
                  </a:lnTo>
                  <a:lnTo>
                    <a:pt x="797" y="47"/>
                  </a:lnTo>
                  <a:lnTo>
                    <a:pt x="788" y="45"/>
                  </a:lnTo>
                  <a:lnTo>
                    <a:pt x="777" y="42"/>
                  </a:lnTo>
                  <a:lnTo>
                    <a:pt x="760" y="40"/>
                  </a:lnTo>
                  <a:lnTo>
                    <a:pt x="719" y="33"/>
                  </a:lnTo>
                  <a:lnTo>
                    <a:pt x="666" y="27"/>
                  </a:lnTo>
                  <a:lnTo>
                    <a:pt x="606" y="20"/>
                  </a:lnTo>
                  <a:lnTo>
                    <a:pt x="538" y="15"/>
                  </a:lnTo>
                  <a:lnTo>
                    <a:pt x="467" y="9"/>
                  </a:lnTo>
                  <a:lnTo>
                    <a:pt x="392" y="4"/>
                  </a:lnTo>
                  <a:lnTo>
                    <a:pt x="319" y="1"/>
                  </a:lnTo>
                  <a:lnTo>
                    <a:pt x="248" y="0"/>
                  </a:lnTo>
                  <a:lnTo>
                    <a:pt x="214" y="0"/>
                  </a:lnTo>
                  <a:lnTo>
                    <a:pt x="181" y="0"/>
                  </a:lnTo>
                  <a:lnTo>
                    <a:pt x="151" y="1"/>
                  </a:lnTo>
                  <a:lnTo>
                    <a:pt x="122" y="2"/>
                  </a:lnTo>
                  <a:lnTo>
                    <a:pt x="96" y="4"/>
                  </a:lnTo>
                  <a:lnTo>
                    <a:pt x="72" y="6"/>
                  </a:lnTo>
                  <a:lnTo>
                    <a:pt x="52" y="9"/>
                  </a:lnTo>
                  <a:lnTo>
                    <a:pt x="33" y="14"/>
                  </a:lnTo>
                  <a:lnTo>
                    <a:pt x="19" y="18"/>
                  </a:lnTo>
                  <a:lnTo>
                    <a:pt x="9" y="24"/>
                  </a:lnTo>
                  <a:lnTo>
                    <a:pt x="2" y="3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bdbd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5627520" y="2306880"/>
              <a:ext cx="257400" cy="166680"/>
            </a:xfrm>
            <a:custGeom>
              <a:avLst/>
              <a:gdLst/>
              <a:ahLst/>
              <a:rect l="l" t="t" r="r" b="b"/>
              <a:pathLst>
                <a:path w="808" h="521">
                  <a:moveTo>
                    <a:pt x="437" y="521"/>
                  </a:moveTo>
                  <a:lnTo>
                    <a:pt x="430" y="521"/>
                  </a:lnTo>
                  <a:lnTo>
                    <a:pt x="422" y="520"/>
                  </a:lnTo>
                  <a:lnTo>
                    <a:pt x="414" y="519"/>
                  </a:lnTo>
                  <a:lnTo>
                    <a:pt x="405" y="516"/>
                  </a:lnTo>
                  <a:lnTo>
                    <a:pt x="386" y="508"/>
                  </a:lnTo>
                  <a:lnTo>
                    <a:pt x="364" y="499"/>
                  </a:lnTo>
                  <a:lnTo>
                    <a:pt x="342" y="486"/>
                  </a:lnTo>
                  <a:lnTo>
                    <a:pt x="320" y="472"/>
                  </a:lnTo>
                  <a:lnTo>
                    <a:pt x="296" y="454"/>
                  </a:lnTo>
                  <a:lnTo>
                    <a:pt x="273" y="437"/>
                  </a:lnTo>
                  <a:lnTo>
                    <a:pt x="249" y="419"/>
                  </a:lnTo>
                  <a:lnTo>
                    <a:pt x="227" y="399"/>
                  </a:lnTo>
                  <a:lnTo>
                    <a:pt x="205" y="379"/>
                  </a:lnTo>
                  <a:lnTo>
                    <a:pt x="184" y="359"/>
                  </a:lnTo>
                  <a:lnTo>
                    <a:pt x="165" y="341"/>
                  </a:lnTo>
                  <a:lnTo>
                    <a:pt x="147" y="323"/>
                  </a:lnTo>
                  <a:lnTo>
                    <a:pt x="132" y="305"/>
                  </a:lnTo>
                  <a:lnTo>
                    <a:pt x="119" y="289"/>
                  </a:lnTo>
                  <a:lnTo>
                    <a:pt x="108" y="274"/>
                  </a:lnTo>
                  <a:lnTo>
                    <a:pt x="97" y="257"/>
                  </a:lnTo>
                  <a:lnTo>
                    <a:pt x="86" y="237"/>
                  </a:lnTo>
                  <a:lnTo>
                    <a:pt x="75" y="218"/>
                  </a:lnTo>
                  <a:lnTo>
                    <a:pt x="55" y="176"/>
                  </a:lnTo>
                  <a:lnTo>
                    <a:pt x="38" y="135"/>
                  </a:lnTo>
                  <a:lnTo>
                    <a:pt x="23" y="97"/>
                  </a:lnTo>
                  <a:lnTo>
                    <a:pt x="11" y="66"/>
                  </a:lnTo>
                  <a:lnTo>
                    <a:pt x="3" y="45"/>
                  </a:lnTo>
                  <a:lnTo>
                    <a:pt x="0" y="38"/>
                  </a:lnTo>
                  <a:lnTo>
                    <a:pt x="2" y="30"/>
                  </a:lnTo>
                  <a:lnTo>
                    <a:pt x="9" y="24"/>
                  </a:lnTo>
                  <a:lnTo>
                    <a:pt x="19" y="18"/>
                  </a:lnTo>
                  <a:lnTo>
                    <a:pt x="33" y="14"/>
                  </a:lnTo>
                  <a:lnTo>
                    <a:pt x="52" y="9"/>
                  </a:lnTo>
                  <a:lnTo>
                    <a:pt x="72" y="6"/>
                  </a:lnTo>
                  <a:lnTo>
                    <a:pt x="96" y="4"/>
                  </a:lnTo>
                  <a:lnTo>
                    <a:pt x="122" y="2"/>
                  </a:lnTo>
                  <a:lnTo>
                    <a:pt x="151" y="1"/>
                  </a:lnTo>
                  <a:lnTo>
                    <a:pt x="181" y="0"/>
                  </a:lnTo>
                  <a:lnTo>
                    <a:pt x="214" y="0"/>
                  </a:lnTo>
                  <a:lnTo>
                    <a:pt x="248" y="0"/>
                  </a:lnTo>
                  <a:lnTo>
                    <a:pt x="319" y="1"/>
                  </a:lnTo>
                  <a:lnTo>
                    <a:pt x="392" y="4"/>
                  </a:lnTo>
                  <a:lnTo>
                    <a:pt x="467" y="9"/>
                  </a:lnTo>
                  <a:lnTo>
                    <a:pt x="538" y="15"/>
                  </a:lnTo>
                  <a:lnTo>
                    <a:pt x="606" y="20"/>
                  </a:lnTo>
                  <a:lnTo>
                    <a:pt x="666" y="27"/>
                  </a:lnTo>
                  <a:lnTo>
                    <a:pt x="719" y="33"/>
                  </a:lnTo>
                  <a:lnTo>
                    <a:pt x="760" y="40"/>
                  </a:lnTo>
                  <a:lnTo>
                    <a:pt x="777" y="42"/>
                  </a:lnTo>
                  <a:lnTo>
                    <a:pt x="788" y="45"/>
                  </a:lnTo>
                  <a:lnTo>
                    <a:pt x="797" y="47"/>
                  </a:lnTo>
                  <a:lnTo>
                    <a:pt x="801" y="49"/>
                  </a:lnTo>
                  <a:lnTo>
                    <a:pt x="805" y="55"/>
                  </a:lnTo>
                  <a:lnTo>
                    <a:pt x="807" y="61"/>
                  </a:lnTo>
                  <a:lnTo>
                    <a:pt x="808" y="70"/>
                  </a:lnTo>
                  <a:lnTo>
                    <a:pt x="808" y="80"/>
                  </a:lnTo>
                  <a:lnTo>
                    <a:pt x="807" y="90"/>
                  </a:lnTo>
                  <a:lnTo>
                    <a:pt x="805" y="103"/>
                  </a:lnTo>
                  <a:lnTo>
                    <a:pt x="801" y="116"/>
                  </a:lnTo>
                  <a:lnTo>
                    <a:pt x="798" y="130"/>
                  </a:lnTo>
                  <a:lnTo>
                    <a:pt x="790" y="162"/>
                  </a:lnTo>
                  <a:lnTo>
                    <a:pt x="779" y="194"/>
                  </a:lnTo>
                  <a:lnTo>
                    <a:pt x="767" y="229"/>
                  </a:lnTo>
                  <a:lnTo>
                    <a:pt x="754" y="262"/>
                  </a:lnTo>
                  <a:lnTo>
                    <a:pt x="751" y="271"/>
                  </a:lnTo>
                  <a:lnTo>
                    <a:pt x="746" y="279"/>
                  </a:lnTo>
                  <a:lnTo>
                    <a:pt x="740" y="289"/>
                  </a:lnTo>
                  <a:lnTo>
                    <a:pt x="734" y="299"/>
                  </a:lnTo>
                  <a:lnTo>
                    <a:pt x="719" y="318"/>
                  </a:lnTo>
                  <a:lnTo>
                    <a:pt x="701" y="339"/>
                  </a:lnTo>
                  <a:lnTo>
                    <a:pt x="682" y="360"/>
                  </a:lnTo>
                  <a:lnTo>
                    <a:pt x="660" y="381"/>
                  </a:lnTo>
                  <a:lnTo>
                    <a:pt x="637" y="403"/>
                  </a:lnTo>
                  <a:lnTo>
                    <a:pt x="612" y="422"/>
                  </a:lnTo>
                  <a:lnTo>
                    <a:pt x="589" y="441"/>
                  </a:lnTo>
                  <a:lnTo>
                    <a:pt x="564" y="460"/>
                  </a:lnTo>
                  <a:lnTo>
                    <a:pt x="539" y="476"/>
                  </a:lnTo>
                  <a:lnTo>
                    <a:pt x="516" y="490"/>
                  </a:lnTo>
                  <a:lnTo>
                    <a:pt x="494" y="503"/>
                  </a:lnTo>
                  <a:lnTo>
                    <a:pt x="473" y="512"/>
                  </a:lnTo>
                  <a:lnTo>
                    <a:pt x="463" y="516"/>
                  </a:lnTo>
                  <a:lnTo>
                    <a:pt x="454" y="518"/>
                  </a:lnTo>
                  <a:lnTo>
                    <a:pt x="446" y="520"/>
                  </a:lnTo>
                  <a:lnTo>
                    <a:pt x="437" y="521"/>
                  </a:lnTo>
                  <a:close/>
                </a:path>
              </a:pathLst>
            </a:custGeom>
            <a:solidFill>
              <a:srgbClr val="b5b5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5627520" y="2306880"/>
              <a:ext cx="257400" cy="155520"/>
            </a:xfrm>
            <a:custGeom>
              <a:avLst/>
              <a:gdLst/>
              <a:ahLst/>
              <a:rect l="l" t="t" r="r" b="b"/>
              <a:pathLst>
                <a:path w="807" h="487">
                  <a:moveTo>
                    <a:pt x="443" y="487"/>
                  </a:moveTo>
                  <a:lnTo>
                    <a:pt x="435" y="487"/>
                  </a:lnTo>
                  <a:lnTo>
                    <a:pt x="428" y="487"/>
                  </a:lnTo>
                  <a:lnTo>
                    <a:pt x="419" y="485"/>
                  </a:lnTo>
                  <a:lnTo>
                    <a:pt x="409" y="483"/>
                  </a:lnTo>
                  <a:lnTo>
                    <a:pt x="391" y="476"/>
                  </a:lnTo>
                  <a:lnTo>
                    <a:pt x="369" y="466"/>
                  </a:lnTo>
                  <a:lnTo>
                    <a:pt x="348" y="456"/>
                  </a:lnTo>
                  <a:lnTo>
                    <a:pt x="325" y="443"/>
                  </a:lnTo>
                  <a:lnTo>
                    <a:pt x="302" y="427"/>
                  </a:lnTo>
                  <a:lnTo>
                    <a:pt x="280" y="411"/>
                  </a:lnTo>
                  <a:lnTo>
                    <a:pt x="256" y="394"/>
                  </a:lnTo>
                  <a:lnTo>
                    <a:pt x="234" y="377"/>
                  </a:lnTo>
                  <a:lnTo>
                    <a:pt x="213" y="358"/>
                  </a:lnTo>
                  <a:lnTo>
                    <a:pt x="192" y="341"/>
                  </a:lnTo>
                  <a:lnTo>
                    <a:pt x="173" y="323"/>
                  </a:lnTo>
                  <a:lnTo>
                    <a:pt x="157" y="305"/>
                  </a:lnTo>
                  <a:lnTo>
                    <a:pt x="141" y="289"/>
                  </a:lnTo>
                  <a:lnTo>
                    <a:pt x="128" y="274"/>
                  </a:lnTo>
                  <a:lnTo>
                    <a:pt x="118" y="259"/>
                  </a:lnTo>
                  <a:lnTo>
                    <a:pt x="106" y="242"/>
                  </a:lnTo>
                  <a:lnTo>
                    <a:pt x="94" y="223"/>
                  </a:lnTo>
                  <a:lnTo>
                    <a:pt x="83" y="204"/>
                  </a:lnTo>
                  <a:lnTo>
                    <a:pt x="61" y="165"/>
                  </a:lnTo>
                  <a:lnTo>
                    <a:pt x="41" y="126"/>
                  </a:lnTo>
                  <a:lnTo>
                    <a:pt x="25" y="92"/>
                  </a:lnTo>
                  <a:lnTo>
                    <a:pt x="12" y="63"/>
                  </a:lnTo>
                  <a:lnTo>
                    <a:pt x="3" y="44"/>
                  </a:lnTo>
                  <a:lnTo>
                    <a:pt x="0" y="38"/>
                  </a:lnTo>
                  <a:lnTo>
                    <a:pt x="2" y="30"/>
                  </a:lnTo>
                  <a:lnTo>
                    <a:pt x="9" y="24"/>
                  </a:lnTo>
                  <a:lnTo>
                    <a:pt x="19" y="18"/>
                  </a:lnTo>
                  <a:lnTo>
                    <a:pt x="33" y="14"/>
                  </a:lnTo>
                  <a:lnTo>
                    <a:pt x="52" y="9"/>
                  </a:lnTo>
                  <a:lnTo>
                    <a:pt x="72" y="6"/>
                  </a:lnTo>
                  <a:lnTo>
                    <a:pt x="96" y="4"/>
                  </a:lnTo>
                  <a:lnTo>
                    <a:pt x="122" y="2"/>
                  </a:lnTo>
                  <a:lnTo>
                    <a:pt x="151" y="1"/>
                  </a:lnTo>
                  <a:lnTo>
                    <a:pt x="181" y="0"/>
                  </a:lnTo>
                  <a:lnTo>
                    <a:pt x="214" y="0"/>
                  </a:lnTo>
                  <a:lnTo>
                    <a:pt x="248" y="0"/>
                  </a:lnTo>
                  <a:lnTo>
                    <a:pt x="319" y="1"/>
                  </a:lnTo>
                  <a:lnTo>
                    <a:pt x="392" y="4"/>
                  </a:lnTo>
                  <a:lnTo>
                    <a:pt x="467" y="9"/>
                  </a:lnTo>
                  <a:lnTo>
                    <a:pt x="538" y="15"/>
                  </a:lnTo>
                  <a:lnTo>
                    <a:pt x="606" y="20"/>
                  </a:lnTo>
                  <a:lnTo>
                    <a:pt x="666" y="27"/>
                  </a:lnTo>
                  <a:lnTo>
                    <a:pt x="719" y="33"/>
                  </a:lnTo>
                  <a:lnTo>
                    <a:pt x="760" y="40"/>
                  </a:lnTo>
                  <a:lnTo>
                    <a:pt x="777" y="42"/>
                  </a:lnTo>
                  <a:lnTo>
                    <a:pt x="788" y="45"/>
                  </a:lnTo>
                  <a:lnTo>
                    <a:pt x="797" y="47"/>
                  </a:lnTo>
                  <a:lnTo>
                    <a:pt x="801" y="49"/>
                  </a:lnTo>
                  <a:lnTo>
                    <a:pt x="805" y="55"/>
                  </a:lnTo>
                  <a:lnTo>
                    <a:pt x="807" y="61"/>
                  </a:lnTo>
                  <a:lnTo>
                    <a:pt x="807" y="69"/>
                  </a:lnTo>
                  <a:lnTo>
                    <a:pt x="806" y="79"/>
                  </a:lnTo>
                  <a:lnTo>
                    <a:pt x="804" y="88"/>
                  </a:lnTo>
                  <a:lnTo>
                    <a:pt x="800" y="100"/>
                  </a:lnTo>
                  <a:lnTo>
                    <a:pt x="796" y="112"/>
                  </a:lnTo>
                  <a:lnTo>
                    <a:pt x="791" y="126"/>
                  </a:lnTo>
                  <a:lnTo>
                    <a:pt x="779" y="155"/>
                  </a:lnTo>
                  <a:lnTo>
                    <a:pt x="766" y="187"/>
                  </a:lnTo>
                  <a:lnTo>
                    <a:pt x="752" y="219"/>
                  </a:lnTo>
                  <a:lnTo>
                    <a:pt x="740" y="252"/>
                  </a:lnTo>
                  <a:lnTo>
                    <a:pt x="736" y="261"/>
                  </a:lnTo>
                  <a:lnTo>
                    <a:pt x="731" y="270"/>
                  </a:lnTo>
                  <a:lnTo>
                    <a:pt x="726" y="278"/>
                  </a:lnTo>
                  <a:lnTo>
                    <a:pt x="720" y="288"/>
                  </a:lnTo>
                  <a:lnTo>
                    <a:pt x="706" y="306"/>
                  </a:lnTo>
                  <a:lnTo>
                    <a:pt x="690" y="326"/>
                  </a:lnTo>
                  <a:lnTo>
                    <a:pt x="671" y="344"/>
                  </a:lnTo>
                  <a:lnTo>
                    <a:pt x="651" y="364"/>
                  </a:lnTo>
                  <a:lnTo>
                    <a:pt x="630" y="382"/>
                  </a:lnTo>
                  <a:lnTo>
                    <a:pt x="608" y="400"/>
                  </a:lnTo>
                  <a:lnTo>
                    <a:pt x="585" y="418"/>
                  </a:lnTo>
                  <a:lnTo>
                    <a:pt x="563" y="433"/>
                  </a:lnTo>
                  <a:lnTo>
                    <a:pt x="540" y="447"/>
                  </a:lnTo>
                  <a:lnTo>
                    <a:pt x="517" y="460"/>
                  </a:lnTo>
                  <a:lnTo>
                    <a:pt x="497" y="471"/>
                  </a:lnTo>
                  <a:lnTo>
                    <a:pt x="477" y="478"/>
                  </a:lnTo>
                  <a:lnTo>
                    <a:pt x="468" y="481"/>
                  </a:lnTo>
                  <a:lnTo>
                    <a:pt x="459" y="485"/>
                  </a:lnTo>
                  <a:lnTo>
                    <a:pt x="450" y="486"/>
                  </a:lnTo>
                  <a:lnTo>
                    <a:pt x="443" y="487"/>
                  </a:lnTo>
                  <a:close/>
                </a:path>
              </a:pathLst>
            </a:custGeom>
            <a:solidFill>
              <a:srgbClr val="b0b0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5627520" y="2306880"/>
              <a:ext cx="257400" cy="144360"/>
            </a:xfrm>
            <a:custGeom>
              <a:avLst/>
              <a:gdLst/>
              <a:ahLst/>
              <a:rect l="l" t="t" r="r" b="b"/>
              <a:pathLst>
                <a:path w="806" h="452">
                  <a:moveTo>
                    <a:pt x="448" y="452"/>
                  </a:moveTo>
                  <a:lnTo>
                    <a:pt x="441" y="452"/>
                  </a:lnTo>
                  <a:lnTo>
                    <a:pt x="432" y="452"/>
                  </a:lnTo>
                  <a:lnTo>
                    <a:pt x="423" y="451"/>
                  </a:lnTo>
                  <a:lnTo>
                    <a:pt x="415" y="449"/>
                  </a:lnTo>
                  <a:lnTo>
                    <a:pt x="395" y="444"/>
                  </a:lnTo>
                  <a:lnTo>
                    <a:pt x="375" y="435"/>
                  </a:lnTo>
                  <a:lnTo>
                    <a:pt x="353" y="425"/>
                  </a:lnTo>
                  <a:lnTo>
                    <a:pt x="332" y="413"/>
                  </a:lnTo>
                  <a:lnTo>
                    <a:pt x="309" y="400"/>
                  </a:lnTo>
                  <a:lnTo>
                    <a:pt x="285" y="386"/>
                  </a:lnTo>
                  <a:lnTo>
                    <a:pt x="262" y="371"/>
                  </a:lnTo>
                  <a:lnTo>
                    <a:pt x="241" y="355"/>
                  </a:lnTo>
                  <a:lnTo>
                    <a:pt x="219" y="339"/>
                  </a:lnTo>
                  <a:lnTo>
                    <a:pt x="199" y="322"/>
                  </a:lnTo>
                  <a:lnTo>
                    <a:pt x="180" y="305"/>
                  </a:lnTo>
                  <a:lnTo>
                    <a:pt x="163" y="288"/>
                  </a:lnTo>
                  <a:lnTo>
                    <a:pt x="149" y="273"/>
                  </a:lnTo>
                  <a:lnTo>
                    <a:pt x="136" y="257"/>
                  </a:lnTo>
                  <a:lnTo>
                    <a:pt x="112" y="225"/>
                  </a:lnTo>
                  <a:lnTo>
                    <a:pt x="88" y="191"/>
                  </a:lnTo>
                  <a:lnTo>
                    <a:pt x="66" y="154"/>
                  </a:lnTo>
                  <a:lnTo>
                    <a:pt x="45" y="119"/>
                  </a:lnTo>
                  <a:lnTo>
                    <a:pt x="27" y="86"/>
                  </a:lnTo>
                  <a:lnTo>
                    <a:pt x="13" y="61"/>
                  </a:lnTo>
                  <a:lnTo>
                    <a:pt x="3" y="44"/>
                  </a:lnTo>
                  <a:lnTo>
                    <a:pt x="0" y="38"/>
                  </a:lnTo>
                  <a:lnTo>
                    <a:pt x="2" y="30"/>
                  </a:lnTo>
                  <a:lnTo>
                    <a:pt x="9" y="24"/>
                  </a:lnTo>
                  <a:lnTo>
                    <a:pt x="19" y="18"/>
                  </a:lnTo>
                  <a:lnTo>
                    <a:pt x="33" y="14"/>
                  </a:lnTo>
                  <a:lnTo>
                    <a:pt x="52" y="9"/>
                  </a:lnTo>
                  <a:lnTo>
                    <a:pt x="72" y="6"/>
                  </a:lnTo>
                  <a:lnTo>
                    <a:pt x="96" y="4"/>
                  </a:lnTo>
                  <a:lnTo>
                    <a:pt x="122" y="2"/>
                  </a:lnTo>
                  <a:lnTo>
                    <a:pt x="151" y="1"/>
                  </a:lnTo>
                  <a:lnTo>
                    <a:pt x="181" y="0"/>
                  </a:lnTo>
                  <a:lnTo>
                    <a:pt x="214" y="0"/>
                  </a:lnTo>
                  <a:lnTo>
                    <a:pt x="248" y="0"/>
                  </a:lnTo>
                  <a:lnTo>
                    <a:pt x="319" y="1"/>
                  </a:lnTo>
                  <a:lnTo>
                    <a:pt x="392" y="4"/>
                  </a:lnTo>
                  <a:lnTo>
                    <a:pt x="467" y="9"/>
                  </a:lnTo>
                  <a:lnTo>
                    <a:pt x="538" y="15"/>
                  </a:lnTo>
                  <a:lnTo>
                    <a:pt x="606" y="20"/>
                  </a:lnTo>
                  <a:lnTo>
                    <a:pt x="666" y="27"/>
                  </a:lnTo>
                  <a:lnTo>
                    <a:pt x="719" y="33"/>
                  </a:lnTo>
                  <a:lnTo>
                    <a:pt x="760" y="40"/>
                  </a:lnTo>
                  <a:lnTo>
                    <a:pt x="777" y="42"/>
                  </a:lnTo>
                  <a:lnTo>
                    <a:pt x="788" y="45"/>
                  </a:lnTo>
                  <a:lnTo>
                    <a:pt x="797" y="47"/>
                  </a:lnTo>
                  <a:lnTo>
                    <a:pt x="801" y="49"/>
                  </a:lnTo>
                  <a:lnTo>
                    <a:pt x="804" y="52"/>
                  </a:lnTo>
                  <a:lnTo>
                    <a:pt x="805" y="55"/>
                  </a:lnTo>
                  <a:lnTo>
                    <a:pt x="806" y="57"/>
                  </a:lnTo>
                  <a:lnTo>
                    <a:pt x="806" y="60"/>
                  </a:lnTo>
                  <a:lnTo>
                    <a:pt x="806" y="68"/>
                  </a:lnTo>
                  <a:lnTo>
                    <a:pt x="804" y="76"/>
                  </a:lnTo>
                  <a:lnTo>
                    <a:pt x="800" y="86"/>
                  </a:lnTo>
                  <a:lnTo>
                    <a:pt x="796" y="97"/>
                  </a:lnTo>
                  <a:lnTo>
                    <a:pt x="791" y="109"/>
                  </a:lnTo>
                  <a:lnTo>
                    <a:pt x="784" y="121"/>
                  </a:lnTo>
                  <a:lnTo>
                    <a:pt x="770" y="148"/>
                  </a:lnTo>
                  <a:lnTo>
                    <a:pt x="754" y="178"/>
                  </a:lnTo>
                  <a:lnTo>
                    <a:pt x="739" y="209"/>
                  </a:lnTo>
                  <a:lnTo>
                    <a:pt x="725" y="243"/>
                  </a:lnTo>
                  <a:lnTo>
                    <a:pt x="721" y="250"/>
                  </a:lnTo>
                  <a:lnTo>
                    <a:pt x="717" y="259"/>
                  </a:lnTo>
                  <a:lnTo>
                    <a:pt x="712" y="268"/>
                  </a:lnTo>
                  <a:lnTo>
                    <a:pt x="706" y="276"/>
                  </a:lnTo>
                  <a:lnTo>
                    <a:pt x="693" y="295"/>
                  </a:lnTo>
                  <a:lnTo>
                    <a:pt x="679" y="312"/>
                  </a:lnTo>
                  <a:lnTo>
                    <a:pt x="662" y="329"/>
                  </a:lnTo>
                  <a:lnTo>
                    <a:pt x="644" y="346"/>
                  </a:lnTo>
                  <a:lnTo>
                    <a:pt x="624" y="363"/>
                  </a:lnTo>
                  <a:lnTo>
                    <a:pt x="604" y="378"/>
                  </a:lnTo>
                  <a:lnTo>
                    <a:pt x="583" y="393"/>
                  </a:lnTo>
                  <a:lnTo>
                    <a:pt x="562" y="406"/>
                  </a:lnTo>
                  <a:lnTo>
                    <a:pt x="540" y="419"/>
                  </a:lnTo>
                  <a:lnTo>
                    <a:pt x="519" y="430"/>
                  </a:lnTo>
                  <a:lnTo>
                    <a:pt x="500" y="438"/>
                  </a:lnTo>
                  <a:lnTo>
                    <a:pt x="481" y="445"/>
                  </a:lnTo>
                  <a:lnTo>
                    <a:pt x="463" y="450"/>
                  </a:lnTo>
                  <a:lnTo>
                    <a:pt x="448" y="452"/>
                  </a:lnTo>
                  <a:close/>
                </a:path>
              </a:pathLst>
            </a:custGeom>
            <a:solidFill>
              <a:srgbClr val="a9a9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5627520" y="2306880"/>
              <a:ext cx="255600" cy="133200"/>
            </a:xfrm>
            <a:custGeom>
              <a:avLst/>
              <a:gdLst/>
              <a:ahLst/>
              <a:rect l="l" t="t" r="r" b="b"/>
              <a:pathLst>
                <a:path w="805" h="418">
                  <a:moveTo>
                    <a:pt x="453" y="418"/>
                  </a:moveTo>
                  <a:lnTo>
                    <a:pt x="436" y="418"/>
                  </a:lnTo>
                  <a:lnTo>
                    <a:pt x="419" y="416"/>
                  </a:lnTo>
                  <a:lnTo>
                    <a:pt x="400" y="410"/>
                  </a:lnTo>
                  <a:lnTo>
                    <a:pt x="380" y="404"/>
                  </a:lnTo>
                  <a:lnTo>
                    <a:pt x="359" y="395"/>
                  </a:lnTo>
                  <a:lnTo>
                    <a:pt x="337" y="385"/>
                  </a:lnTo>
                  <a:lnTo>
                    <a:pt x="314" y="375"/>
                  </a:lnTo>
                  <a:lnTo>
                    <a:pt x="292" y="362"/>
                  </a:lnTo>
                  <a:lnTo>
                    <a:pt x="270" y="349"/>
                  </a:lnTo>
                  <a:lnTo>
                    <a:pt x="247" y="335"/>
                  </a:lnTo>
                  <a:lnTo>
                    <a:pt x="227" y="319"/>
                  </a:lnTo>
                  <a:lnTo>
                    <a:pt x="207" y="304"/>
                  </a:lnTo>
                  <a:lnTo>
                    <a:pt x="188" y="288"/>
                  </a:lnTo>
                  <a:lnTo>
                    <a:pt x="172" y="273"/>
                  </a:lnTo>
                  <a:lnTo>
                    <a:pt x="157" y="258"/>
                  </a:lnTo>
                  <a:lnTo>
                    <a:pt x="144" y="243"/>
                  </a:lnTo>
                  <a:lnTo>
                    <a:pt x="120" y="211"/>
                  </a:lnTo>
                  <a:lnTo>
                    <a:pt x="95" y="178"/>
                  </a:lnTo>
                  <a:lnTo>
                    <a:pt x="71" y="143"/>
                  </a:lnTo>
                  <a:lnTo>
                    <a:pt x="48" y="111"/>
                  </a:lnTo>
                  <a:lnTo>
                    <a:pt x="29" y="82"/>
                  </a:lnTo>
                  <a:lnTo>
                    <a:pt x="14" y="58"/>
                  </a:lnTo>
                  <a:lnTo>
                    <a:pt x="4" y="43"/>
                  </a:lnTo>
                  <a:lnTo>
                    <a:pt x="0" y="38"/>
                  </a:lnTo>
                  <a:lnTo>
                    <a:pt x="2" y="30"/>
                  </a:lnTo>
                  <a:lnTo>
                    <a:pt x="9" y="24"/>
                  </a:lnTo>
                  <a:lnTo>
                    <a:pt x="19" y="18"/>
                  </a:lnTo>
                  <a:lnTo>
                    <a:pt x="33" y="14"/>
                  </a:lnTo>
                  <a:lnTo>
                    <a:pt x="52" y="9"/>
                  </a:lnTo>
                  <a:lnTo>
                    <a:pt x="72" y="6"/>
                  </a:lnTo>
                  <a:lnTo>
                    <a:pt x="96" y="4"/>
                  </a:lnTo>
                  <a:lnTo>
                    <a:pt x="122" y="2"/>
                  </a:lnTo>
                  <a:lnTo>
                    <a:pt x="151" y="1"/>
                  </a:lnTo>
                  <a:lnTo>
                    <a:pt x="181" y="0"/>
                  </a:lnTo>
                  <a:lnTo>
                    <a:pt x="214" y="0"/>
                  </a:lnTo>
                  <a:lnTo>
                    <a:pt x="248" y="0"/>
                  </a:lnTo>
                  <a:lnTo>
                    <a:pt x="319" y="1"/>
                  </a:lnTo>
                  <a:lnTo>
                    <a:pt x="392" y="4"/>
                  </a:lnTo>
                  <a:lnTo>
                    <a:pt x="467" y="9"/>
                  </a:lnTo>
                  <a:lnTo>
                    <a:pt x="538" y="15"/>
                  </a:lnTo>
                  <a:lnTo>
                    <a:pt x="606" y="20"/>
                  </a:lnTo>
                  <a:lnTo>
                    <a:pt x="666" y="27"/>
                  </a:lnTo>
                  <a:lnTo>
                    <a:pt x="719" y="33"/>
                  </a:lnTo>
                  <a:lnTo>
                    <a:pt x="760" y="40"/>
                  </a:lnTo>
                  <a:lnTo>
                    <a:pt x="777" y="42"/>
                  </a:lnTo>
                  <a:lnTo>
                    <a:pt x="788" y="45"/>
                  </a:lnTo>
                  <a:lnTo>
                    <a:pt x="797" y="47"/>
                  </a:lnTo>
                  <a:lnTo>
                    <a:pt x="801" y="49"/>
                  </a:lnTo>
                  <a:lnTo>
                    <a:pt x="804" y="52"/>
                  </a:lnTo>
                  <a:lnTo>
                    <a:pt x="805" y="55"/>
                  </a:lnTo>
                  <a:lnTo>
                    <a:pt x="805" y="57"/>
                  </a:lnTo>
                  <a:lnTo>
                    <a:pt x="805" y="60"/>
                  </a:lnTo>
                  <a:lnTo>
                    <a:pt x="804" y="67"/>
                  </a:lnTo>
                  <a:lnTo>
                    <a:pt x="801" y="75"/>
                  </a:lnTo>
                  <a:lnTo>
                    <a:pt x="792" y="94"/>
                  </a:lnTo>
                  <a:lnTo>
                    <a:pt x="777" y="116"/>
                  </a:lnTo>
                  <a:lnTo>
                    <a:pt x="759" y="141"/>
                  </a:lnTo>
                  <a:lnTo>
                    <a:pt x="742" y="169"/>
                  </a:lnTo>
                  <a:lnTo>
                    <a:pt x="733" y="184"/>
                  </a:lnTo>
                  <a:lnTo>
                    <a:pt x="725" y="200"/>
                  </a:lnTo>
                  <a:lnTo>
                    <a:pt x="717" y="216"/>
                  </a:lnTo>
                  <a:lnTo>
                    <a:pt x="710" y="233"/>
                  </a:lnTo>
                  <a:lnTo>
                    <a:pt x="706" y="241"/>
                  </a:lnTo>
                  <a:lnTo>
                    <a:pt x="702" y="249"/>
                  </a:lnTo>
                  <a:lnTo>
                    <a:pt x="698" y="258"/>
                  </a:lnTo>
                  <a:lnTo>
                    <a:pt x="692" y="265"/>
                  </a:lnTo>
                  <a:lnTo>
                    <a:pt x="680" y="283"/>
                  </a:lnTo>
                  <a:lnTo>
                    <a:pt x="666" y="298"/>
                  </a:lnTo>
                  <a:lnTo>
                    <a:pt x="651" y="314"/>
                  </a:lnTo>
                  <a:lnTo>
                    <a:pt x="634" y="329"/>
                  </a:lnTo>
                  <a:lnTo>
                    <a:pt x="617" y="343"/>
                  </a:lnTo>
                  <a:lnTo>
                    <a:pt x="598" y="357"/>
                  </a:lnTo>
                  <a:lnTo>
                    <a:pt x="579" y="369"/>
                  </a:lnTo>
                  <a:lnTo>
                    <a:pt x="559" y="381"/>
                  </a:lnTo>
                  <a:lnTo>
                    <a:pt x="540" y="391"/>
                  </a:lnTo>
                  <a:lnTo>
                    <a:pt x="521" y="399"/>
                  </a:lnTo>
                  <a:lnTo>
                    <a:pt x="502" y="407"/>
                  </a:lnTo>
                  <a:lnTo>
                    <a:pt x="485" y="412"/>
                  </a:lnTo>
                  <a:lnTo>
                    <a:pt x="468" y="416"/>
                  </a:lnTo>
                  <a:lnTo>
                    <a:pt x="453" y="418"/>
                  </a:lnTo>
                  <a:close/>
                </a:path>
              </a:pathLst>
            </a:custGeom>
            <a:solidFill>
              <a:srgbClr val="a4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5627520" y="2306880"/>
              <a:ext cx="255600" cy="122040"/>
            </a:xfrm>
            <a:custGeom>
              <a:avLst/>
              <a:gdLst/>
              <a:ahLst/>
              <a:rect l="l" t="t" r="r" b="b"/>
              <a:pathLst>
                <a:path w="805" h="383">
                  <a:moveTo>
                    <a:pt x="0" y="38"/>
                  </a:moveTo>
                  <a:lnTo>
                    <a:pt x="4" y="42"/>
                  </a:lnTo>
                  <a:lnTo>
                    <a:pt x="15" y="56"/>
                  </a:lnTo>
                  <a:lnTo>
                    <a:pt x="31" y="76"/>
                  </a:lnTo>
                  <a:lnTo>
                    <a:pt x="53" y="102"/>
                  </a:lnTo>
                  <a:lnTo>
                    <a:pt x="77" y="133"/>
                  </a:lnTo>
                  <a:lnTo>
                    <a:pt x="101" y="165"/>
                  </a:lnTo>
                  <a:lnTo>
                    <a:pt x="126" y="196"/>
                  </a:lnTo>
                  <a:lnTo>
                    <a:pt x="151" y="228"/>
                  </a:lnTo>
                  <a:lnTo>
                    <a:pt x="164" y="242"/>
                  </a:lnTo>
                  <a:lnTo>
                    <a:pt x="179" y="257"/>
                  </a:lnTo>
                  <a:lnTo>
                    <a:pt x="195" y="271"/>
                  </a:lnTo>
                  <a:lnTo>
                    <a:pt x="214" y="285"/>
                  </a:lnTo>
                  <a:lnTo>
                    <a:pt x="233" y="299"/>
                  </a:lnTo>
                  <a:lnTo>
                    <a:pt x="255" y="312"/>
                  </a:lnTo>
                  <a:lnTo>
                    <a:pt x="275" y="325"/>
                  </a:lnTo>
                  <a:lnTo>
                    <a:pt x="298" y="336"/>
                  </a:lnTo>
                  <a:lnTo>
                    <a:pt x="320" y="346"/>
                  </a:lnTo>
                  <a:lnTo>
                    <a:pt x="342" y="356"/>
                  </a:lnTo>
                  <a:lnTo>
                    <a:pt x="364" y="365"/>
                  </a:lnTo>
                  <a:lnTo>
                    <a:pt x="386" y="372"/>
                  </a:lnTo>
                  <a:lnTo>
                    <a:pt x="405" y="378"/>
                  </a:lnTo>
                  <a:lnTo>
                    <a:pt x="424" y="381"/>
                  </a:lnTo>
                  <a:lnTo>
                    <a:pt x="442" y="383"/>
                  </a:lnTo>
                  <a:lnTo>
                    <a:pt x="458" y="383"/>
                  </a:lnTo>
                  <a:lnTo>
                    <a:pt x="473" y="382"/>
                  </a:lnTo>
                  <a:lnTo>
                    <a:pt x="488" y="379"/>
                  </a:lnTo>
                  <a:lnTo>
                    <a:pt x="505" y="375"/>
                  </a:lnTo>
                  <a:lnTo>
                    <a:pt x="523" y="369"/>
                  </a:lnTo>
                  <a:lnTo>
                    <a:pt x="540" y="362"/>
                  </a:lnTo>
                  <a:lnTo>
                    <a:pt x="558" y="354"/>
                  </a:lnTo>
                  <a:lnTo>
                    <a:pt x="576" y="344"/>
                  </a:lnTo>
                  <a:lnTo>
                    <a:pt x="593" y="335"/>
                  </a:lnTo>
                  <a:lnTo>
                    <a:pt x="610" y="324"/>
                  </a:lnTo>
                  <a:lnTo>
                    <a:pt x="626" y="311"/>
                  </a:lnTo>
                  <a:lnTo>
                    <a:pt x="642" y="298"/>
                  </a:lnTo>
                  <a:lnTo>
                    <a:pt x="656" y="285"/>
                  </a:lnTo>
                  <a:lnTo>
                    <a:pt x="667" y="270"/>
                  </a:lnTo>
                  <a:lnTo>
                    <a:pt x="678" y="255"/>
                  </a:lnTo>
                  <a:lnTo>
                    <a:pt x="688" y="240"/>
                  </a:lnTo>
                  <a:lnTo>
                    <a:pt x="694" y="222"/>
                  </a:lnTo>
                  <a:lnTo>
                    <a:pt x="702" y="206"/>
                  </a:lnTo>
                  <a:lnTo>
                    <a:pt x="711" y="191"/>
                  </a:lnTo>
                  <a:lnTo>
                    <a:pt x="719" y="176"/>
                  </a:lnTo>
                  <a:lnTo>
                    <a:pt x="729" y="161"/>
                  </a:lnTo>
                  <a:lnTo>
                    <a:pt x="750" y="135"/>
                  </a:lnTo>
                  <a:lnTo>
                    <a:pt x="769" y="111"/>
                  </a:lnTo>
                  <a:lnTo>
                    <a:pt x="786" y="90"/>
                  </a:lnTo>
                  <a:lnTo>
                    <a:pt x="799" y="73"/>
                  </a:lnTo>
                  <a:lnTo>
                    <a:pt x="803" y="67"/>
                  </a:lnTo>
                  <a:lnTo>
                    <a:pt x="805" y="60"/>
                  </a:lnTo>
                  <a:lnTo>
                    <a:pt x="805" y="57"/>
                  </a:lnTo>
                  <a:lnTo>
                    <a:pt x="804" y="54"/>
                  </a:lnTo>
                  <a:lnTo>
                    <a:pt x="803" y="52"/>
                  </a:lnTo>
                  <a:lnTo>
                    <a:pt x="801" y="49"/>
                  </a:lnTo>
                  <a:lnTo>
                    <a:pt x="797" y="47"/>
                  </a:lnTo>
                  <a:lnTo>
                    <a:pt x="788" y="45"/>
                  </a:lnTo>
                  <a:lnTo>
                    <a:pt x="777" y="42"/>
                  </a:lnTo>
                  <a:lnTo>
                    <a:pt x="760" y="40"/>
                  </a:lnTo>
                  <a:lnTo>
                    <a:pt x="719" y="33"/>
                  </a:lnTo>
                  <a:lnTo>
                    <a:pt x="666" y="27"/>
                  </a:lnTo>
                  <a:lnTo>
                    <a:pt x="606" y="20"/>
                  </a:lnTo>
                  <a:lnTo>
                    <a:pt x="538" y="15"/>
                  </a:lnTo>
                  <a:lnTo>
                    <a:pt x="467" y="9"/>
                  </a:lnTo>
                  <a:lnTo>
                    <a:pt x="392" y="4"/>
                  </a:lnTo>
                  <a:lnTo>
                    <a:pt x="319" y="1"/>
                  </a:lnTo>
                  <a:lnTo>
                    <a:pt x="248" y="0"/>
                  </a:lnTo>
                  <a:lnTo>
                    <a:pt x="214" y="0"/>
                  </a:lnTo>
                  <a:lnTo>
                    <a:pt x="181" y="0"/>
                  </a:lnTo>
                  <a:lnTo>
                    <a:pt x="151" y="1"/>
                  </a:lnTo>
                  <a:lnTo>
                    <a:pt x="122" y="2"/>
                  </a:lnTo>
                  <a:lnTo>
                    <a:pt x="96" y="4"/>
                  </a:lnTo>
                  <a:lnTo>
                    <a:pt x="72" y="6"/>
                  </a:lnTo>
                  <a:lnTo>
                    <a:pt x="52" y="9"/>
                  </a:lnTo>
                  <a:lnTo>
                    <a:pt x="33" y="14"/>
                  </a:lnTo>
                  <a:lnTo>
                    <a:pt x="19" y="18"/>
                  </a:lnTo>
                  <a:lnTo>
                    <a:pt x="9" y="24"/>
                  </a:lnTo>
                  <a:lnTo>
                    <a:pt x="2" y="3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a0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5880240" y="2281320"/>
              <a:ext cx="204480" cy="304920"/>
            </a:xfrm>
            <a:custGeom>
              <a:avLst/>
              <a:gdLst/>
              <a:ahLst/>
              <a:rect l="l" t="t" r="r" b="b"/>
              <a:pathLst>
                <a:path w="646" h="960">
                  <a:moveTo>
                    <a:pt x="69" y="77"/>
                  </a:moveTo>
                  <a:lnTo>
                    <a:pt x="67" y="83"/>
                  </a:lnTo>
                  <a:lnTo>
                    <a:pt x="61" y="100"/>
                  </a:lnTo>
                  <a:lnTo>
                    <a:pt x="54" y="127"/>
                  </a:lnTo>
                  <a:lnTo>
                    <a:pt x="44" y="160"/>
                  </a:lnTo>
                  <a:lnTo>
                    <a:pt x="33" y="198"/>
                  </a:lnTo>
                  <a:lnTo>
                    <a:pt x="23" y="239"/>
                  </a:lnTo>
                  <a:lnTo>
                    <a:pt x="12" y="281"/>
                  </a:lnTo>
                  <a:lnTo>
                    <a:pt x="2" y="321"/>
                  </a:lnTo>
                  <a:lnTo>
                    <a:pt x="1" y="331"/>
                  </a:lnTo>
                  <a:lnTo>
                    <a:pt x="0" y="339"/>
                  </a:lnTo>
                  <a:lnTo>
                    <a:pt x="0" y="344"/>
                  </a:lnTo>
                  <a:lnTo>
                    <a:pt x="0" y="349"/>
                  </a:lnTo>
                  <a:lnTo>
                    <a:pt x="1" y="353"/>
                  </a:lnTo>
                  <a:lnTo>
                    <a:pt x="3" y="355"/>
                  </a:lnTo>
                  <a:lnTo>
                    <a:pt x="5" y="356"/>
                  </a:lnTo>
                  <a:lnTo>
                    <a:pt x="9" y="356"/>
                  </a:lnTo>
                  <a:lnTo>
                    <a:pt x="16" y="353"/>
                  </a:lnTo>
                  <a:lnTo>
                    <a:pt x="25" y="346"/>
                  </a:lnTo>
                  <a:lnTo>
                    <a:pt x="34" y="338"/>
                  </a:lnTo>
                  <a:lnTo>
                    <a:pt x="45" y="327"/>
                  </a:lnTo>
                  <a:lnTo>
                    <a:pt x="68" y="302"/>
                  </a:lnTo>
                  <a:lnTo>
                    <a:pt x="90" y="276"/>
                  </a:lnTo>
                  <a:lnTo>
                    <a:pt x="108" y="255"/>
                  </a:lnTo>
                  <a:lnTo>
                    <a:pt x="119" y="245"/>
                  </a:lnTo>
                  <a:lnTo>
                    <a:pt x="122" y="244"/>
                  </a:lnTo>
                  <a:lnTo>
                    <a:pt x="127" y="245"/>
                  </a:lnTo>
                  <a:lnTo>
                    <a:pt x="132" y="247"/>
                  </a:lnTo>
                  <a:lnTo>
                    <a:pt x="138" y="251"/>
                  </a:lnTo>
                  <a:lnTo>
                    <a:pt x="145" y="258"/>
                  </a:lnTo>
                  <a:lnTo>
                    <a:pt x="150" y="266"/>
                  </a:lnTo>
                  <a:lnTo>
                    <a:pt x="157" y="276"/>
                  </a:lnTo>
                  <a:lnTo>
                    <a:pt x="163" y="288"/>
                  </a:lnTo>
                  <a:lnTo>
                    <a:pt x="168" y="301"/>
                  </a:lnTo>
                  <a:lnTo>
                    <a:pt x="174" y="316"/>
                  </a:lnTo>
                  <a:lnTo>
                    <a:pt x="179" y="333"/>
                  </a:lnTo>
                  <a:lnTo>
                    <a:pt x="182" y="352"/>
                  </a:lnTo>
                  <a:lnTo>
                    <a:pt x="186" y="371"/>
                  </a:lnTo>
                  <a:lnTo>
                    <a:pt x="187" y="393"/>
                  </a:lnTo>
                  <a:lnTo>
                    <a:pt x="187" y="415"/>
                  </a:lnTo>
                  <a:lnTo>
                    <a:pt x="186" y="440"/>
                  </a:lnTo>
                  <a:lnTo>
                    <a:pt x="179" y="495"/>
                  </a:lnTo>
                  <a:lnTo>
                    <a:pt x="172" y="556"/>
                  </a:lnTo>
                  <a:lnTo>
                    <a:pt x="168" y="585"/>
                  </a:lnTo>
                  <a:lnTo>
                    <a:pt x="165" y="613"/>
                  </a:lnTo>
                  <a:lnTo>
                    <a:pt x="163" y="638"/>
                  </a:lnTo>
                  <a:lnTo>
                    <a:pt x="162" y="659"/>
                  </a:lnTo>
                  <a:lnTo>
                    <a:pt x="163" y="668"/>
                  </a:lnTo>
                  <a:lnTo>
                    <a:pt x="163" y="677"/>
                  </a:lnTo>
                  <a:lnTo>
                    <a:pt x="164" y="682"/>
                  </a:lnTo>
                  <a:lnTo>
                    <a:pt x="166" y="687"/>
                  </a:lnTo>
                  <a:lnTo>
                    <a:pt x="168" y="691"/>
                  </a:lnTo>
                  <a:lnTo>
                    <a:pt x="172" y="692"/>
                  </a:lnTo>
                  <a:lnTo>
                    <a:pt x="175" y="691"/>
                  </a:lnTo>
                  <a:lnTo>
                    <a:pt x="180" y="689"/>
                  </a:lnTo>
                  <a:lnTo>
                    <a:pt x="185" y="683"/>
                  </a:lnTo>
                  <a:lnTo>
                    <a:pt x="191" y="677"/>
                  </a:lnTo>
                  <a:lnTo>
                    <a:pt x="198" y="667"/>
                  </a:lnTo>
                  <a:lnTo>
                    <a:pt x="206" y="655"/>
                  </a:lnTo>
                  <a:lnTo>
                    <a:pt x="225" y="623"/>
                  </a:lnTo>
                  <a:lnTo>
                    <a:pt x="247" y="578"/>
                  </a:lnTo>
                  <a:lnTo>
                    <a:pt x="259" y="555"/>
                  </a:lnTo>
                  <a:lnTo>
                    <a:pt x="271" y="534"/>
                  </a:lnTo>
                  <a:lnTo>
                    <a:pt x="282" y="516"/>
                  </a:lnTo>
                  <a:lnTo>
                    <a:pt x="292" y="500"/>
                  </a:lnTo>
                  <a:lnTo>
                    <a:pt x="301" y="486"/>
                  </a:lnTo>
                  <a:lnTo>
                    <a:pt x="310" y="475"/>
                  </a:lnTo>
                  <a:lnTo>
                    <a:pt x="319" y="465"/>
                  </a:lnTo>
                  <a:lnTo>
                    <a:pt x="326" y="459"/>
                  </a:lnTo>
                  <a:lnTo>
                    <a:pt x="333" y="453"/>
                  </a:lnTo>
                  <a:lnTo>
                    <a:pt x="339" y="450"/>
                  </a:lnTo>
                  <a:lnTo>
                    <a:pt x="346" y="449"/>
                  </a:lnTo>
                  <a:lnTo>
                    <a:pt x="351" y="449"/>
                  </a:lnTo>
                  <a:lnTo>
                    <a:pt x="356" y="451"/>
                  </a:lnTo>
                  <a:lnTo>
                    <a:pt x="361" y="454"/>
                  </a:lnTo>
                  <a:lnTo>
                    <a:pt x="365" y="460"/>
                  </a:lnTo>
                  <a:lnTo>
                    <a:pt x="368" y="466"/>
                  </a:lnTo>
                  <a:lnTo>
                    <a:pt x="371" y="474"/>
                  </a:lnTo>
                  <a:lnTo>
                    <a:pt x="375" y="482"/>
                  </a:lnTo>
                  <a:lnTo>
                    <a:pt x="377" y="492"/>
                  </a:lnTo>
                  <a:lnTo>
                    <a:pt x="379" y="503"/>
                  </a:lnTo>
                  <a:lnTo>
                    <a:pt x="382" y="528"/>
                  </a:lnTo>
                  <a:lnTo>
                    <a:pt x="384" y="555"/>
                  </a:lnTo>
                  <a:lnTo>
                    <a:pt x="386" y="584"/>
                  </a:lnTo>
                  <a:lnTo>
                    <a:pt x="387" y="615"/>
                  </a:lnTo>
                  <a:lnTo>
                    <a:pt x="387" y="646"/>
                  </a:lnTo>
                  <a:lnTo>
                    <a:pt x="386" y="678"/>
                  </a:lnTo>
                  <a:lnTo>
                    <a:pt x="386" y="710"/>
                  </a:lnTo>
                  <a:lnTo>
                    <a:pt x="386" y="745"/>
                  </a:lnTo>
                  <a:lnTo>
                    <a:pt x="387" y="780"/>
                  </a:lnTo>
                  <a:lnTo>
                    <a:pt x="389" y="815"/>
                  </a:lnTo>
                  <a:lnTo>
                    <a:pt x="392" y="849"/>
                  </a:lnTo>
                  <a:lnTo>
                    <a:pt x="396" y="880"/>
                  </a:lnTo>
                  <a:lnTo>
                    <a:pt x="398" y="895"/>
                  </a:lnTo>
                  <a:lnTo>
                    <a:pt x="402" y="908"/>
                  </a:lnTo>
                  <a:lnTo>
                    <a:pt x="405" y="920"/>
                  </a:lnTo>
                  <a:lnTo>
                    <a:pt x="408" y="930"/>
                  </a:lnTo>
                  <a:lnTo>
                    <a:pt x="411" y="940"/>
                  </a:lnTo>
                  <a:lnTo>
                    <a:pt x="416" y="948"/>
                  </a:lnTo>
                  <a:lnTo>
                    <a:pt x="420" y="953"/>
                  </a:lnTo>
                  <a:lnTo>
                    <a:pt x="425" y="957"/>
                  </a:lnTo>
                  <a:lnTo>
                    <a:pt x="431" y="960"/>
                  </a:lnTo>
                  <a:lnTo>
                    <a:pt x="436" y="960"/>
                  </a:lnTo>
                  <a:lnTo>
                    <a:pt x="442" y="957"/>
                  </a:lnTo>
                  <a:lnTo>
                    <a:pt x="448" y="952"/>
                  </a:lnTo>
                  <a:lnTo>
                    <a:pt x="456" y="946"/>
                  </a:lnTo>
                  <a:lnTo>
                    <a:pt x="462" y="935"/>
                  </a:lnTo>
                  <a:lnTo>
                    <a:pt x="470" y="922"/>
                  </a:lnTo>
                  <a:lnTo>
                    <a:pt x="477" y="907"/>
                  </a:lnTo>
                  <a:lnTo>
                    <a:pt x="486" y="887"/>
                  </a:lnTo>
                  <a:lnTo>
                    <a:pt x="495" y="866"/>
                  </a:lnTo>
                  <a:lnTo>
                    <a:pt x="504" y="840"/>
                  </a:lnTo>
                  <a:lnTo>
                    <a:pt x="514" y="811"/>
                  </a:lnTo>
                  <a:lnTo>
                    <a:pt x="551" y="697"/>
                  </a:lnTo>
                  <a:lnTo>
                    <a:pt x="583" y="599"/>
                  </a:lnTo>
                  <a:lnTo>
                    <a:pt x="608" y="517"/>
                  </a:lnTo>
                  <a:lnTo>
                    <a:pt x="628" y="448"/>
                  </a:lnTo>
                  <a:lnTo>
                    <a:pt x="635" y="417"/>
                  </a:lnTo>
                  <a:lnTo>
                    <a:pt x="640" y="392"/>
                  </a:lnTo>
                  <a:lnTo>
                    <a:pt x="644" y="367"/>
                  </a:lnTo>
                  <a:lnTo>
                    <a:pt x="646" y="346"/>
                  </a:lnTo>
                  <a:lnTo>
                    <a:pt x="646" y="327"/>
                  </a:lnTo>
                  <a:lnTo>
                    <a:pt x="645" y="311"/>
                  </a:lnTo>
                  <a:lnTo>
                    <a:pt x="643" y="303"/>
                  </a:lnTo>
                  <a:lnTo>
                    <a:pt x="640" y="297"/>
                  </a:lnTo>
                  <a:lnTo>
                    <a:pt x="638" y="290"/>
                  </a:lnTo>
                  <a:lnTo>
                    <a:pt x="635" y="285"/>
                  </a:lnTo>
                  <a:lnTo>
                    <a:pt x="628" y="273"/>
                  </a:lnTo>
                  <a:lnTo>
                    <a:pt x="618" y="260"/>
                  </a:lnTo>
                  <a:lnTo>
                    <a:pt x="606" y="248"/>
                  </a:lnTo>
                  <a:lnTo>
                    <a:pt x="592" y="235"/>
                  </a:lnTo>
                  <a:lnTo>
                    <a:pt x="576" y="222"/>
                  </a:lnTo>
                  <a:lnTo>
                    <a:pt x="558" y="209"/>
                  </a:lnTo>
                  <a:lnTo>
                    <a:pt x="540" y="196"/>
                  </a:lnTo>
                  <a:lnTo>
                    <a:pt x="521" y="183"/>
                  </a:lnTo>
                  <a:lnTo>
                    <a:pt x="480" y="158"/>
                  </a:lnTo>
                  <a:lnTo>
                    <a:pt x="438" y="136"/>
                  </a:lnTo>
                  <a:lnTo>
                    <a:pt x="400" y="116"/>
                  </a:lnTo>
                  <a:lnTo>
                    <a:pt x="363" y="99"/>
                  </a:lnTo>
                  <a:lnTo>
                    <a:pt x="325" y="81"/>
                  </a:lnTo>
                  <a:lnTo>
                    <a:pt x="281" y="57"/>
                  </a:lnTo>
                  <a:lnTo>
                    <a:pt x="258" y="44"/>
                  </a:lnTo>
                  <a:lnTo>
                    <a:pt x="233" y="31"/>
                  </a:lnTo>
                  <a:lnTo>
                    <a:pt x="209" y="20"/>
                  </a:lnTo>
                  <a:lnTo>
                    <a:pt x="187" y="11"/>
                  </a:lnTo>
                  <a:lnTo>
                    <a:pt x="175" y="7"/>
                  </a:lnTo>
                  <a:lnTo>
                    <a:pt x="164" y="4"/>
                  </a:lnTo>
                  <a:lnTo>
                    <a:pt x="153" y="2"/>
                  </a:lnTo>
                  <a:lnTo>
                    <a:pt x="144" y="1"/>
                  </a:lnTo>
                  <a:lnTo>
                    <a:pt x="133" y="0"/>
                  </a:lnTo>
                  <a:lnTo>
                    <a:pt x="124" y="0"/>
                  </a:lnTo>
                  <a:lnTo>
                    <a:pt x="115" y="2"/>
                  </a:lnTo>
                  <a:lnTo>
                    <a:pt x="107" y="4"/>
                  </a:lnTo>
                  <a:lnTo>
                    <a:pt x="99" y="8"/>
                  </a:lnTo>
                  <a:lnTo>
                    <a:pt x="93" y="14"/>
                  </a:lnTo>
                  <a:lnTo>
                    <a:pt x="86" y="20"/>
                  </a:lnTo>
                  <a:lnTo>
                    <a:pt x="81" y="28"/>
                  </a:lnTo>
                  <a:lnTo>
                    <a:pt x="77" y="37"/>
                  </a:lnTo>
                  <a:lnTo>
                    <a:pt x="73" y="49"/>
                  </a:lnTo>
                  <a:lnTo>
                    <a:pt x="70" y="62"/>
                  </a:lnTo>
                  <a:lnTo>
                    <a:pt x="69" y="77"/>
                  </a:lnTo>
                  <a:close/>
                </a:path>
              </a:pathLst>
            </a:custGeom>
            <a:solidFill>
              <a:srgbClr val="6398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5883120" y="2281320"/>
              <a:ext cx="200160" cy="284040"/>
            </a:xfrm>
            <a:custGeom>
              <a:avLst/>
              <a:gdLst/>
              <a:ahLst/>
              <a:rect l="l" t="t" r="r" b="b"/>
              <a:pathLst>
                <a:path w="628" h="891">
                  <a:moveTo>
                    <a:pt x="506" y="745"/>
                  </a:moveTo>
                  <a:lnTo>
                    <a:pt x="498" y="772"/>
                  </a:lnTo>
                  <a:lnTo>
                    <a:pt x="490" y="796"/>
                  </a:lnTo>
                  <a:lnTo>
                    <a:pt x="481" y="816"/>
                  </a:lnTo>
                  <a:lnTo>
                    <a:pt x="474" y="835"/>
                  </a:lnTo>
                  <a:lnTo>
                    <a:pt x="467" y="850"/>
                  </a:lnTo>
                  <a:lnTo>
                    <a:pt x="461" y="863"/>
                  </a:lnTo>
                  <a:lnTo>
                    <a:pt x="454" y="874"/>
                  </a:lnTo>
                  <a:lnTo>
                    <a:pt x="448" y="881"/>
                  </a:lnTo>
                  <a:lnTo>
                    <a:pt x="441" y="887"/>
                  </a:lnTo>
                  <a:lnTo>
                    <a:pt x="436" y="890"/>
                  </a:lnTo>
                  <a:lnTo>
                    <a:pt x="432" y="891"/>
                  </a:lnTo>
                  <a:lnTo>
                    <a:pt x="426" y="891"/>
                  </a:lnTo>
                  <a:lnTo>
                    <a:pt x="422" y="888"/>
                  </a:lnTo>
                  <a:lnTo>
                    <a:pt x="418" y="883"/>
                  </a:lnTo>
                  <a:lnTo>
                    <a:pt x="413" y="878"/>
                  </a:lnTo>
                  <a:lnTo>
                    <a:pt x="410" y="870"/>
                  </a:lnTo>
                  <a:lnTo>
                    <a:pt x="407" y="862"/>
                  </a:lnTo>
                  <a:lnTo>
                    <a:pt x="404" y="852"/>
                  </a:lnTo>
                  <a:lnTo>
                    <a:pt x="401" y="841"/>
                  </a:lnTo>
                  <a:lnTo>
                    <a:pt x="398" y="829"/>
                  </a:lnTo>
                  <a:lnTo>
                    <a:pt x="394" y="802"/>
                  </a:lnTo>
                  <a:lnTo>
                    <a:pt x="391" y="772"/>
                  </a:lnTo>
                  <a:lnTo>
                    <a:pt x="388" y="741"/>
                  </a:lnTo>
                  <a:lnTo>
                    <a:pt x="387" y="708"/>
                  </a:lnTo>
                  <a:lnTo>
                    <a:pt x="387" y="676"/>
                  </a:lnTo>
                  <a:lnTo>
                    <a:pt x="387" y="644"/>
                  </a:lnTo>
                  <a:lnTo>
                    <a:pt x="388" y="612"/>
                  </a:lnTo>
                  <a:lnTo>
                    <a:pt x="388" y="580"/>
                  </a:lnTo>
                  <a:lnTo>
                    <a:pt x="388" y="547"/>
                  </a:lnTo>
                  <a:lnTo>
                    <a:pt x="387" y="516"/>
                  </a:lnTo>
                  <a:lnTo>
                    <a:pt x="385" y="487"/>
                  </a:lnTo>
                  <a:lnTo>
                    <a:pt x="382" y="461"/>
                  </a:lnTo>
                  <a:lnTo>
                    <a:pt x="380" y="449"/>
                  </a:lnTo>
                  <a:lnTo>
                    <a:pt x="378" y="438"/>
                  </a:lnTo>
                  <a:lnTo>
                    <a:pt x="376" y="429"/>
                  </a:lnTo>
                  <a:lnTo>
                    <a:pt x="372" y="420"/>
                  </a:lnTo>
                  <a:lnTo>
                    <a:pt x="368" y="412"/>
                  </a:lnTo>
                  <a:lnTo>
                    <a:pt x="365" y="407"/>
                  </a:lnTo>
                  <a:lnTo>
                    <a:pt x="359" y="403"/>
                  </a:lnTo>
                  <a:lnTo>
                    <a:pt x="355" y="399"/>
                  </a:lnTo>
                  <a:lnTo>
                    <a:pt x="350" y="398"/>
                  </a:lnTo>
                  <a:lnTo>
                    <a:pt x="343" y="398"/>
                  </a:lnTo>
                  <a:lnTo>
                    <a:pt x="338" y="401"/>
                  </a:lnTo>
                  <a:lnTo>
                    <a:pt x="330" y="405"/>
                  </a:lnTo>
                  <a:lnTo>
                    <a:pt x="323" y="411"/>
                  </a:lnTo>
                  <a:lnTo>
                    <a:pt x="314" y="420"/>
                  </a:lnTo>
                  <a:lnTo>
                    <a:pt x="305" y="431"/>
                  </a:lnTo>
                  <a:lnTo>
                    <a:pt x="297" y="445"/>
                  </a:lnTo>
                  <a:lnTo>
                    <a:pt x="286" y="460"/>
                  </a:lnTo>
                  <a:lnTo>
                    <a:pt x="275" y="478"/>
                  </a:lnTo>
                  <a:lnTo>
                    <a:pt x="264" y="499"/>
                  </a:lnTo>
                  <a:lnTo>
                    <a:pt x="252" y="523"/>
                  </a:lnTo>
                  <a:lnTo>
                    <a:pt x="229" y="567"/>
                  </a:lnTo>
                  <a:lnTo>
                    <a:pt x="210" y="599"/>
                  </a:lnTo>
                  <a:lnTo>
                    <a:pt x="203" y="612"/>
                  </a:lnTo>
                  <a:lnTo>
                    <a:pt x="195" y="622"/>
                  </a:lnTo>
                  <a:lnTo>
                    <a:pt x="190" y="629"/>
                  </a:lnTo>
                  <a:lnTo>
                    <a:pt x="184" y="635"/>
                  </a:lnTo>
                  <a:lnTo>
                    <a:pt x="180" y="638"/>
                  </a:lnTo>
                  <a:lnTo>
                    <a:pt x="176" y="639"/>
                  </a:lnTo>
                  <a:lnTo>
                    <a:pt x="172" y="638"/>
                  </a:lnTo>
                  <a:lnTo>
                    <a:pt x="170" y="636"/>
                  </a:lnTo>
                  <a:lnTo>
                    <a:pt x="168" y="632"/>
                  </a:lnTo>
                  <a:lnTo>
                    <a:pt x="167" y="626"/>
                  </a:lnTo>
                  <a:lnTo>
                    <a:pt x="167" y="620"/>
                  </a:lnTo>
                  <a:lnTo>
                    <a:pt x="166" y="611"/>
                  </a:lnTo>
                  <a:lnTo>
                    <a:pt x="167" y="591"/>
                  </a:lnTo>
                  <a:lnTo>
                    <a:pt x="169" y="567"/>
                  </a:lnTo>
                  <a:lnTo>
                    <a:pt x="172" y="541"/>
                  </a:lnTo>
                  <a:lnTo>
                    <a:pt x="176" y="512"/>
                  </a:lnTo>
                  <a:lnTo>
                    <a:pt x="183" y="453"/>
                  </a:lnTo>
                  <a:lnTo>
                    <a:pt x="190" y="399"/>
                  </a:lnTo>
                  <a:lnTo>
                    <a:pt x="191" y="375"/>
                  </a:lnTo>
                  <a:lnTo>
                    <a:pt x="191" y="353"/>
                  </a:lnTo>
                  <a:lnTo>
                    <a:pt x="188" y="332"/>
                  </a:lnTo>
                  <a:lnTo>
                    <a:pt x="184" y="314"/>
                  </a:lnTo>
                  <a:lnTo>
                    <a:pt x="180" y="297"/>
                  </a:lnTo>
                  <a:lnTo>
                    <a:pt x="174" y="283"/>
                  </a:lnTo>
                  <a:lnTo>
                    <a:pt x="168" y="269"/>
                  </a:lnTo>
                  <a:lnTo>
                    <a:pt x="161" y="258"/>
                  </a:lnTo>
                  <a:lnTo>
                    <a:pt x="154" y="248"/>
                  </a:lnTo>
                  <a:lnTo>
                    <a:pt x="147" y="240"/>
                  </a:lnTo>
                  <a:lnTo>
                    <a:pt x="139" y="233"/>
                  </a:lnTo>
                  <a:lnTo>
                    <a:pt x="132" y="228"/>
                  </a:lnTo>
                  <a:lnTo>
                    <a:pt x="126" y="224"/>
                  </a:lnTo>
                  <a:lnTo>
                    <a:pt x="120" y="222"/>
                  </a:lnTo>
                  <a:lnTo>
                    <a:pt x="115" y="222"/>
                  </a:lnTo>
                  <a:lnTo>
                    <a:pt x="111" y="223"/>
                  </a:lnTo>
                  <a:lnTo>
                    <a:pt x="100" y="234"/>
                  </a:lnTo>
                  <a:lnTo>
                    <a:pt x="84" y="255"/>
                  </a:lnTo>
                  <a:lnTo>
                    <a:pt x="63" y="280"/>
                  </a:lnTo>
                  <a:lnTo>
                    <a:pt x="42" y="304"/>
                  </a:lnTo>
                  <a:lnTo>
                    <a:pt x="32" y="314"/>
                  </a:lnTo>
                  <a:lnTo>
                    <a:pt x="22" y="323"/>
                  </a:lnTo>
                  <a:lnTo>
                    <a:pt x="14" y="328"/>
                  </a:lnTo>
                  <a:lnTo>
                    <a:pt x="7" y="330"/>
                  </a:lnTo>
                  <a:lnTo>
                    <a:pt x="5" y="330"/>
                  </a:lnTo>
                  <a:lnTo>
                    <a:pt x="3" y="329"/>
                  </a:lnTo>
                  <a:lnTo>
                    <a:pt x="1" y="327"/>
                  </a:lnTo>
                  <a:lnTo>
                    <a:pt x="0" y="323"/>
                  </a:lnTo>
                  <a:lnTo>
                    <a:pt x="0" y="318"/>
                  </a:lnTo>
                  <a:lnTo>
                    <a:pt x="0" y="312"/>
                  </a:lnTo>
                  <a:lnTo>
                    <a:pt x="1" y="304"/>
                  </a:lnTo>
                  <a:lnTo>
                    <a:pt x="2" y="296"/>
                  </a:lnTo>
                  <a:lnTo>
                    <a:pt x="11" y="255"/>
                  </a:lnTo>
                  <a:lnTo>
                    <a:pt x="20" y="216"/>
                  </a:lnTo>
                  <a:lnTo>
                    <a:pt x="30" y="178"/>
                  </a:lnTo>
                  <a:lnTo>
                    <a:pt x="38" y="145"/>
                  </a:lnTo>
                  <a:lnTo>
                    <a:pt x="47" y="115"/>
                  </a:lnTo>
                  <a:lnTo>
                    <a:pt x="54" y="93"/>
                  </a:lnTo>
                  <a:lnTo>
                    <a:pt x="58" y="78"/>
                  </a:lnTo>
                  <a:lnTo>
                    <a:pt x="59" y="73"/>
                  </a:lnTo>
                  <a:lnTo>
                    <a:pt x="61" y="58"/>
                  </a:lnTo>
                  <a:lnTo>
                    <a:pt x="63" y="46"/>
                  </a:lnTo>
                  <a:lnTo>
                    <a:pt x="68" y="35"/>
                  </a:lnTo>
                  <a:lnTo>
                    <a:pt x="72" y="26"/>
                  </a:lnTo>
                  <a:lnTo>
                    <a:pt x="77" y="18"/>
                  </a:lnTo>
                  <a:lnTo>
                    <a:pt x="84" y="12"/>
                  </a:lnTo>
                  <a:lnTo>
                    <a:pt x="90" y="7"/>
                  </a:lnTo>
                  <a:lnTo>
                    <a:pt x="98" y="4"/>
                  </a:lnTo>
                  <a:lnTo>
                    <a:pt x="107" y="1"/>
                  </a:lnTo>
                  <a:lnTo>
                    <a:pt x="115" y="0"/>
                  </a:lnTo>
                  <a:lnTo>
                    <a:pt x="125" y="0"/>
                  </a:lnTo>
                  <a:lnTo>
                    <a:pt x="135" y="0"/>
                  </a:lnTo>
                  <a:lnTo>
                    <a:pt x="144" y="2"/>
                  </a:lnTo>
                  <a:lnTo>
                    <a:pt x="155" y="4"/>
                  </a:lnTo>
                  <a:lnTo>
                    <a:pt x="166" y="7"/>
                  </a:lnTo>
                  <a:lnTo>
                    <a:pt x="177" y="11"/>
                  </a:lnTo>
                  <a:lnTo>
                    <a:pt x="201" y="20"/>
                  </a:lnTo>
                  <a:lnTo>
                    <a:pt x="223" y="31"/>
                  </a:lnTo>
                  <a:lnTo>
                    <a:pt x="247" y="43"/>
                  </a:lnTo>
                  <a:lnTo>
                    <a:pt x="270" y="55"/>
                  </a:lnTo>
                  <a:lnTo>
                    <a:pt x="313" y="79"/>
                  </a:lnTo>
                  <a:lnTo>
                    <a:pt x="351" y="97"/>
                  </a:lnTo>
                  <a:lnTo>
                    <a:pt x="386" y="114"/>
                  </a:lnTo>
                  <a:lnTo>
                    <a:pt x="425" y="134"/>
                  </a:lnTo>
                  <a:lnTo>
                    <a:pt x="466" y="155"/>
                  </a:lnTo>
                  <a:lnTo>
                    <a:pt x="505" y="179"/>
                  </a:lnTo>
                  <a:lnTo>
                    <a:pt x="525" y="192"/>
                  </a:lnTo>
                  <a:lnTo>
                    <a:pt x="543" y="204"/>
                  </a:lnTo>
                  <a:lnTo>
                    <a:pt x="559" y="217"/>
                  </a:lnTo>
                  <a:lnTo>
                    <a:pt x="575" y="229"/>
                  </a:lnTo>
                  <a:lnTo>
                    <a:pt x="589" y="242"/>
                  </a:lnTo>
                  <a:lnTo>
                    <a:pt x="601" y="254"/>
                  </a:lnTo>
                  <a:lnTo>
                    <a:pt x="611" y="267"/>
                  </a:lnTo>
                  <a:lnTo>
                    <a:pt x="618" y="277"/>
                  </a:lnTo>
                  <a:lnTo>
                    <a:pt x="621" y="284"/>
                  </a:lnTo>
                  <a:lnTo>
                    <a:pt x="623" y="290"/>
                  </a:lnTo>
                  <a:lnTo>
                    <a:pt x="625" y="297"/>
                  </a:lnTo>
                  <a:lnTo>
                    <a:pt x="627" y="304"/>
                  </a:lnTo>
                  <a:lnTo>
                    <a:pt x="628" y="320"/>
                  </a:lnTo>
                  <a:lnTo>
                    <a:pt x="628" y="337"/>
                  </a:lnTo>
                  <a:lnTo>
                    <a:pt x="626" y="356"/>
                  </a:lnTo>
                  <a:lnTo>
                    <a:pt x="622" y="378"/>
                  </a:lnTo>
                  <a:lnTo>
                    <a:pt x="616" y="402"/>
                  </a:lnTo>
                  <a:lnTo>
                    <a:pt x="610" y="429"/>
                  </a:lnTo>
                  <a:lnTo>
                    <a:pt x="592" y="489"/>
                  </a:lnTo>
                  <a:lnTo>
                    <a:pt x="568" y="560"/>
                  </a:lnTo>
                  <a:lnTo>
                    <a:pt x="539" y="646"/>
                  </a:lnTo>
                  <a:lnTo>
                    <a:pt x="506" y="745"/>
                  </a:lnTo>
                  <a:close/>
                </a:path>
              </a:pathLst>
            </a:custGeom>
            <a:solidFill>
              <a:srgbClr val="679b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5886360" y="2284560"/>
              <a:ext cx="193680" cy="260280"/>
            </a:xfrm>
            <a:custGeom>
              <a:avLst/>
              <a:gdLst/>
              <a:ahLst/>
              <a:rect l="l" t="t" r="r" b="b"/>
              <a:pathLst>
                <a:path w="613" h="821">
                  <a:moveTo>
                    <a:pt x="505" y="675"/>
                  </a:moveTo>
                  <a:lnTo>
                    <a:pt x="497" y="700"/>
                  </a:lnTo>
                  <a:lnTo>
                    <a:pt x="490" y="723"/>
                  </a:lnTo>
                  <a:lnTo>
                    <a:pt x="482" y="742"/>
                  </a:lnTo>
                  <a:lnTo>
                    <a:pt x="475" y="760"/>
                  </a:lnTo>
                  <a:lnTo>
                    <a:pt x="469" y="775"/>
                  </a:lnTo>
                  <a:lnTo>
                    <a:pt x="463" y="788"/>
                  </a:lnTo>
                  <a:lnTo>
                    <a:pt x="457" y="798"/>
                  </a:lnTo>
                  <a:lnTo>
                    <a:pt x="451" y="807"/>
                  </a:lnTo>
                  <a:lnTo>
                    <a:pt x="445" y="814"/>
                  </a:lnTo>
                  <a:lnTo>
                    <a:pt x="441" y="818"/>
                  </a:lnTo>
                  <a:lnTo>
                    <a:pt x="436" y="820"/>
                  </a:lnTo>
                  <a:lnTo>
                    <a:pt x="431" y="821"/>
                  </a:lnTo>
                  <a:lnTo>
                    <a:pt x="427" y="820"/>
                  </a:lnTo>
                  <a:lnTo>
                    <a:pt x="423" y="818"/>
                  </a:lnTo>
                  <a:lnTo>
                    <a:pt x="419" y="815"/>
                  </a:lnTo>
                  <a:lnTo>
                    <a:pt x="416" y="809"/>
                  </a:lnTo>
                  <a:lnTo>
                    <a:pt x="413" y="803"/>
                  </a:lnTo>
                  <a:lnTo>
                    <a:pt x="410" y="795"/>
                  </a:lnTo>
                  <a:lnTo>
                    <a:pt x="406" y="787"/>
                  </a:lnTo>
                  <a:lnTo>
                    <a:pt x="404" y="777"/>
                  </a:lnTo>
                  <a:lnTo>
                    <a:pt x="400" y="754"/>
                  </a:lnTo>
                  <a:lnTo>
                    <a:pt x="397" y="728"/>
                  </a:lnTo>
                  <a:lnTo>
                    <a:pt x="394" y="700"/>
                  </a:lnTo>
                  <a:lnTo>
                    <a:pt x="393" y="670"/>
                  </a:lnTo>
                  <a:lnTo>
                    <a:pt x="392" y="640"/>
                  </a:lnTo>
                  <a:lnTo>
                    <a:pt x="393" y="608"/>
                  </a:lnTo>
                  <a:lnTo>
                    <a:pt x="394" y="576"/>
                  </a:lnTo>
                  <a:lnTo>
                    <a:pt x="394" y="542"/>
                  </a:lnTo>
                  <a:lnTo>
                    <a:pt x="394" y="510"/>
                  </a:lnTo>
                  <a:lnTo>
                    <a:pt x="393" y="478"/>
                  </a:lnTo>
                  <a:lnTo>
                    <a:pt x="391" y="446"/>
                  </a:lnTo>
                  <a:lnTo>
                    <a:pt x="388" y="418"/>
                  </a:lnTo>
                  <a:lnTo>
                    <a:pt x="386" y="405"/>
                  </a:lnTo>
                  <a:lnTo>
                    <a:pt x="384" y="393"/>
                  </a:lnTo>
                  <a:lnTo>
                    <a:pt x="380" y="383"/>
                  </a:lnTo>
                  <a:lnTo>
                    <a:pt x="377" y="373"/>
                  </a:lnTo>
                  <a:lnTo>
                    <a:pt x="374" y="365"/>
                  </a:lnTo>
                  <a:lnTo>
                    <a:pt x="370" y="358"/>
                  </a:lnTo>
                  <a:lnTo>
                    <a:pt x="365" y="352"/>
                  </a:lnTo>
                  <a:lnTo>
                    <a:pt x="360" y="348"/>
                  </a:lnTo>
                  <a:lnTo>
                    <a:pt x="354" y="346"/>
                  </a:lnTo>
                  <a:lnTo>
                    <a:pt x="349" y="346"/>
                  </a:lnTo>
                  <a:lnTo>
                    <a:pt x="343" y="347"/>
                  </a:lnTo>
                  <a:lnTo>
                    <a:pt x="335" y="351"/>
                  </a:lnTo>
                  <a:lnTo>
                    <a:pt x="327" y="357"/>
                  </a:lnTo>
                  <a:lnTo>
                    <a:pt x="320" y="364"/>
                  </a:lnTo>
                  <a:lnTo>
                    <a:pt x="311" y="375"/>
                  </a:lnTo>
                  <a:lnTo>
                    <a:pt x="302" y="387"/>
                  </a:lnTo>
                  <a:lnTo>
                    <a:pt x="292" y="402"/>
                  </a:lnTo>
                  <a:lnTo>
                    <a:pt x="281" y="420"/>
                  </a:lnTo>
                  <a:lnTo>
                    <a:pt x="269" y="441"/>
                  </a:lnTo>
                  <a:lnTo>
                    <a:pt x="257" y="465"/>
                  </a:lnTo>
                  <a:lnTo>
                    <a:pt x="235" y="509"/>
                  </a:lnTo>
                  <a:lnTo>
                    <a:pt x="216" y="542"/>
                  </a:lnTo>
                  <a:lnTo>
                    <a:pt x="208" y="555"/>
                  </a:lnTo>
                  <a:lnTo>
                    <a:pt x="201" y="565"/>
                  </a:lnTo>
                  <a:lnTo>
                    <a:pt x="195" y="574"/>
                  </a:lnTo>
                  <a:lnTo>
                    <a:pt x="190" y="579"/>
                  </a:lnTo>
                  <a:lnTo>
                    <a:pt x="186" y="582"/>
                  </a:lnTo>
                  <a:lnTo>
                    <a:pt x="182" y="585"/>
                  </a:lnTo>
                  <a:lnTo>
                    <a:pt x="178" y="585"/>
                  </a:lnTo>
                  <a:lnTo>
                    <a:pt x="176" y="582"/>
                  </a:lnTo>
                  <a:lnTo>
                    <a:pt x="175" y="579"/>
                  </a:lnTo>
                  <a:lnTo>
                    <a:pt x="173" y="575"/>
                  </a:lnTo>
                  <a:lnTo>
                    <a:pt x="173" y="568"/>
                  </a:lnTo>
                  <a:lnTo>
                    <a:pt x="173" y="561"/>
                  </a:lnTo>
                  <a:lnTo>
                    <a:pt x="173" y="541"/>
                  </a:lnTo>
                  <a:lnTo>
                    <a:pt x="175" y="520"/>
                  </a:lnTo>
                  <a:lnTo>
                    <a:pt x="178" y="494"/>
                  </a:lnTo>
                  <a:lnTo>
                    <a:pt x="183" y="467"/>
                  </a:lnTo>
                  <a:lnTo>
                    <a:pt x="190" y="410"/>
                  </a:lnTo>
                  <a:lnTo>
                    <a:pt x="196" y="356"/>
                  </a:lnTo>
                  <a:lnTo>
                    <a:pt x="197" y="332"/>
                  </a:lnTo>
                  <a:lnTo>
                    <a:pt x="196" y="310"/>
                  </a:lnTo>
                  <a:lnTo>
                    <a:pt x="194" y="291"/>
                  </a:lnTo>
                  <a:lnTo>
                    <a:pt x="189" y="274"/>
                  </a:lnTo>
                  <a:lnTo>
                    <a:pt x="184" y="258"/>
                  </a:lnTo>
                  <a:lnTo>
                    <a:pt x="176" y="245"/>
                  </a:lnTo>
                  <a:lnTo>
                    <a:pt x="169" y="234"/>
                  </a:lnTo>
                  <a:lnTo>
                    <a:pt x="161" y="224"/>
                  </a:lnTo>
                  <a:lnTo>
                    <a:pt x="152" y="216"/>
                  </a:lnTo>
                  <a:lnTo>
                    <a:pt x="145" y="210"/>
                  </a:lnTo>
                  <a:lnTo>
                    <a:pt x="136" y="206"/>
                  </a:lnTo>
                  <a:lnTo>
                    <a:pt x="129" y="201"/>
                  </a:lnTo>
                  <a:lnTo>
                    <a:pt x="121" y="199"/>
                  </a:lnTo>
                  <a:lnTo>
                    <a:pt x="115" y="199"/>
                  </a:lnTo>
                  <a:lnTo>
                    <a:pt x="110" y="199"/>
                  </a:lnTo>
                  <a:lnTo>
                    <a:pt x="106" y="200"/>
                  </a:lnTo>
                  <a:lnTo>
                    <a:pt x="96" y="211"/>
                  </a:lnTo>
                  <a:lnTo>
                    <a:pt x="80" y="230"/>
                  </a:lnTo>
                  <a:lnTo>
                    <a:pt x="61" y="254"/>
                  </a:lnTo>
                  <a:lnTo>
                    <a:pt x="40" y="277"/>
                  </a:lnTo>
                  <a:lnTo>
                    <a:pt x="30" y="287"/>
                  </a:lnTo>
                  <a:lnTo>
                    <a:pt x="21" y="295"/>
                  </a:lnTo>
                  <a:lnTo>
                    <a:pt x="13" y="299"/>
                  </a:lnTo>
                  <a:lnTo>
                    <a:pt x="7" y="302"/>
                  </a:lnTo>
                  <a:lnTo>
                    <a:pt x="4" y="302"/>
                  </a:lnTo>
                  <a:lnTo>
                    <a:pt x="2" y="301"/>
                  </a:lnTo>
                  <a:lnTo>
                    <a:pt x="1" y="298"/>
                  </a:lnTo>
                  <a:lnTo>
                    <a:pt x="0" y="294"/>
                  </a:lnTo>
                  <a:lnTo>
                    <a:pt x="0" y="290"/>
                  </a:lnTo>
                  <a:lnTo>
                    <a:pt x="0" y="283"/>
                  </a:lnTo>
                  <a:lnTo>
                    <a:pt x="1" y="276"/>
                  </a:lnTo>
                  <a:lnTo>
                    <a:pt x="2" y="267"/>
                  </a:lnTo>
                  <a:lnTo>
                    <a:pt x="11" y="228"/>
                  </a:lnTo>
                  <a:lnTo>
                    <a:pt x="20" y="190"/>
                  </a:lnTo>
                  <a:lnTo>
                    <a:pt x="28" y="157"/>
                  </a:lnTo>
                  <a:lnTo>
                    <a:pt x="36" y="127"/>
                  </a:lnTo>
                  <a:lnTo>
                    <a:pt x="42" y="102"/>
                  </a:lnTo>
                  <a:lnTo>
                    <a:pt x="48" y="83"/>
                  </a:lnTo>
                  <a:lnTo>
                    <a:pt x="51" y="71"/>
                  </a:lnTo>
                  <a:lnTo>
                    <a:pt x="52" y="67"/>
                  </a:lnTo>
                  <a:lnTo>
                    <a:pt x="54" y="53"/>
                  </a:lnTo>
                  <a:lnTo>
                    <a:pt x="56" y="42"/>
                  </a:lnTo>
                  <a:lnTo>
                    <a:pt x="61" y="33"/>
                  </a:lnTo>
                  <a:lnTo>
                    <a:pt x="65" y="24"/>
                  </a:lnTo>
                  <a:lnTo>
                    <a:pt x="70" y="17"/>
                  </a:lnTo>
                  <a:lnTo>
                    <a:pt x="77" y="11"/>
                  </a:lnTo>
                  <a:lnTo>
                    <a:pt x="83" y="7"/>
                  </a:lnTo>
                  <a:lnTo>
                    <a:pt x="91" y="4"/>
                  </a:lnTo>
                  <a:lnTo>
                    <a:pt x="100" y="1"/>
                  </a:lnTo>
                  <a:lnTo>
                    <a:pt x="108" y="0"/>
                  </a:lnTo>
                  <a:lnTo>
                    <a:pt x="118" y="0"/>
                  </a:lnTo>
                  <a:lnTo>
                    <a:pt x="128" y="0"/>
                  </a:lnTo>
                  <a:lnTo>
                    <a:pt x="137" y="2"/>
                  </a:lnTo>
                  <a:lnTo>
                    <a:pt x="148" y="5"/>
                  </a:lnTo>
                  <a:lnTo>
                    <a:pt x="159" y="8"/>
                  </a:lnTo>
                  <a:lnTo>
                    <a:pt x="170" y="11"/>
                  </a:lnTo>
                  <a:lnTo>
                    <a:pt x="194" y="20"/>
                  </a:lnTo>
                  <a:lnTo>
                    <a:pt x="216" y="31"/>
                  </a:lnTo>
                  <a:lnTo>
                    <a:pt x="240" y="42"/>
                  </a:lnTo>
                  <a:lnTo>
                    <a:pt x="263" y="54"/>
                  </a:lnTo>
                  <a:lnTo>
                    <a:pt x="306" y="78"/>
                  </a:lnTo>
                  <a:lnTo>
                    <a:pt x="344" y="96"/>
                  </a:lnTo>
                  <a:lnTo>
                    <a:pt x="379" y="112"/>
                  </a:lnTo>
                  <a:lnTo>
                    <a:pt x="417" y="131"/>
                  </a:lnTo>
                  <a:lnTo>
                    <a:pt x="456" y="152"/>
                  </a:lnTo>
                  <a:lnTo>
                    <a:pt x="494" y="175"/>
                  </a:lnTo>
                  <a:lnTo>
                    <a:pt x="512" y="187"/>
                  </a:lnTo>
                  <a:lnTo>
                    <a:pt x="529" y="199"/>
                  </a:lnTo>
                  <a:lnTo>
                    <a:pt x="546" y="211"/>
                  </a:lnTo>
                  <a:lnTo>
                    <a:pt x="561" y="224"/>
                  </a:lnTo>
                  <a:lnTo>
                    <a:pt x="574" y="236"/>
                  </a:lnTo>
                  <a:lnTo>
                    <a:pt x="586" y="249"/>
                  </a:lnTo>
                  <a:lnTo>
                    <a:pt x="595" y="261"/>
                  </a:lnTo>
                  <a:lnTo>
                    <a:pt x="603" y="271"/>
                  </a:lnTo>
                  <a:lnTo>
                    <a:pt x="606" y="278"/>
                  </a:lnTo>
                  <a:lnTo>
                    <a:pt x="608" y="284"/>
                  </a:lnTo>
                  <a:lnTo>
                    <a:pt x="611" y="291"/>
                  </a:lnTo>
                  <a:lnTo>
                    <a:pt x="612" y="297"/>
                  </a:lnTo>
                  <a:lnTo>
                    <a:pt x="613" y="311"/>
                  </a:lnTo>
                  <a:lnTo>
                    <a:pt x="612" y="328"/>
                  </a:lnTo>
                  <a:lnTo>
                    <a:pt x="609" y="345"/>
                  </a:lnTo>
                  <a:lnTo>
                    <a:pt x="606" y="363"/>
                  </a:lnTo>
                  <a:lnTo>
                    <a:pt x="601" y="384"/>
                  </a:lnTo>
                  <a:lnTo>
                    <a:pt x="594" y="406"/>
                  </a:lnTo>
                  <a:lnTo>
                    <a:pt x="577" y="458"/>
                  </a:lnTo>
                  <a:lnTo>
                    <a:pt x="555" y="520"/>
                  </a:lnTo>
                  <a:lnTo>
                    <a:pt x="532" y="591"/>
                  </a:lnTo>
                  <a:lnTo>
                    <a:pt x="505" y="675"/>
                  </a:lnTo>
                  <a:close/>
                </a:path>
              </a:pathLst>
            </a:custGeom>
            <a:solidFill>
              <a:srgbClr val="6d9e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5889600" y="2286000"/>
              <a:ext cx="187200" cy="239760"/>
            </a:xfrm>
            <a:custGeom>
              <a:avLst/>
              <a:gdLst/>
              <a:ahLst/>
              <a:rect l="l" t="t" r="r" b="b"/>
              <a:pathLst>
                <a:path w="594" h="754">
                  <a:moveTo>
                    <a:pt x="497" y="607"/>
                  </a:moveTo>
                  <a:lnTo>
                    <a:pt x="484" y="651"/>
                  </a:lnTo>
                  <a:lnTo>
                    <a:pt x="472" y="687"/>
                  </a:lnTo>
                  <a:lnTo>
                    <a:pt x="467" y="701"/>
                  </a:lnTo>
                  <a:lnTo>
                    <a:pt x="460" y="714"/>
                  </a:lnTo>
                  <a:lnTo>
                    <a:pt x="456" y="724"/>
                  </a:lnTo>
                  <a:lnTo>
                    <a:pt x="450" y="733"/>
                  </a:lnTo>
                  <a:lnTo>
                    <a:pt x="445" y="741"/>
                  </a:lnTo>
                  <a:lnTo>
                    <a:pt x="441" y="746"/>
                  </a:lnTo>
                  <a:lnTo>
                    <a:pt x="436" y="750"/>
                  </a:lnTo>
                  <a:lnTo>
                    <a:pt x="432" y="752"/>
                  </a:lnTo>
                  <a:lnTo>
                    <a:pt x="428" y="754"/>
                  </a:lnTo>
                  <a:lnTo>
                    <a:pt x="424" y="754"/>
                  </a:lnTo>
                  <a:lnTo>
                    <a:pt x="421" y="751"/>
                  </a:lnTo>
                  <a:lnTo>
                    <a:pt x="418" y="748"/>
                  </a:lnTo>
                  <a:lnTo>
                    <a:pt x="415" y="744"/>
                  </a:lnTo>
                  <a:lnTo>
                    <a:pt x="411" y="737"/>
                  </a:lnTo>
                  <a:lnTo>
                    <a:pt x="409" y="731"/>
                  </a:lnTo>
                  <a:lnTo>
                    <a:pt x="407" y="723"/>
                  </a:lnTo>
                  <a:lnTo>
                    <a:pt x="403" y="705"/>
                  </a:lnTo>
                  <a:lnTo>
                    <a:pt x="400" y="683"/>
                  </a:lnTo>
                  <a:lnTo>
                    <a:pt x="397" y="657"/>
                  </a:lnTo>
                  <a:lnTo>
                    <a:pt x="395" y="630"/>
                  </a:lnTo>
                  <a:lnTo>
                    <a:pt x="395" y="601"/>
                  </a:lnTo>
                  <a:lnTo>
                    <a:pt x="395" y="570"/>
                  </a:lnTo>
                  <a:lnTo>
                    <a:pt x="396" y="538"/>
                  </a:lnTo>
                  <a:lnTo>
                    <a:pt x="396" y="504"/>
                  </a:lnTo>
                  <a:lnTo>
                    <a:pt x="396" y="471"/>
                  </a:lnTo>
                  <a:lnTo>
                    <a:pt x="395" y="437"/>
                  </a:lnTo>
                  <a:lnTo>
                    <a:pt x="394" y="405"/>
                  </a:lnTo>
                  <a:lnTo>
                    <a:pt x="391" y="376"/>
                  </a:lnTo>
                  <a:lnTo>
                    <a:pt x="389" y="362"/>
                  </a:lnTo>
                  <a:lnTo>
                    <a:pt x="387" y="349"/>
                  </a:lnTo>
                  <a:lnTo>
                    <a:pt x="383" y="337"/>
                  </a:lnTo>
                  <a:lnTo>
                    <a:pt x="381" y="326"/>
                  </a:lnTo>
                  <a:lnTo>
                    <a:pt x="377" y="317"/>
                  </a:lnTo>
                  <a:lnTo>
                    <a:pt x="374" y="309"/>
                  </a:lnTo>
                  <a:lnTo>
                    <a:pt x="369" y="302"/>
                  </a:lnTo>
                  <a:lnTo>
                    <a:pt x="364" y="298"/>
                  </a:lnTo>
                  <a:lnTo>
                    <a:pt x="359" y="295"/>
                  </a:lnTo>
                  <a:lnTo>
                    <a:pt x="353" y="293"/>
                  </a:lnTo>
                  <a:lnTo>
                    <a:pt x="347" y="293"/>
                  </a:lnTo>
                  <a:lnTo>
                    <a:pt x="340" y="297"/>
                  </a:lnTo>
                  <a:lnTo>
                    <a:pt x="333" y="301"/>
                  </a:lnTo>
                  <a:lnTo>
                    <a:pt x="324" y="309"/>
                  </a:lnTo>
                  <a:lnTo>
                    <a:pt x="315" y="318"/>
                  </a:lnTo>
                  <a:lnTo>
                    <a:pt x="307" y="330"/>
                  </a:lnTo>
                  <a:lnTo>
                    <a:pt x="296" y="345"/>
                  </a:lnTo>
                  <a:lnTo>
                    <a:pt x="286" y="363"/>
                  </a:lnTo>
                  <a:lnTo>
                    <a:pt x="274" y="383"/>
                  </a:lnTo>
                  <a:lnTo>
                    <a:pt x="262" y="407"/>
                  </a:lnTo>
                  <a:lnTo>
                    <a:pt x="240" y="451"/>
                  </a:lnTo>
                  <a:lnTo>
                    <a:pt x="220" y="485"/>
                  </a:lnTo>
                  <a:lnTo>
                    <a:pt x="206" y="509"/>
                  </a:lnTo>
                  <a:lnTo>
                    <a:pt x="194" y="524"/>
                  </a:lnTo>
                  <a:lnTo>
                    <a:pt x="190" y="528"/>
                  </a:lnTo>
                  <a:lnTo>
                    <a:pt x="187" y="531"/>
                  </a:lnTo>
                  <a:lnTo>
                    <a:pt x="184" y="531"/>
                  </a:lnTo>
                  <a:lnTo>
                    <a:pt x="181" y="530"/>
                  </a:lnTo>
                  <a:lnTo>
                    <a:pt x="179" y="528"/>
                  </a:lnTo>
                  <a:lnTo>
                    <a:pt x="178" y="524"/>
                  </a:lnTo>
                  <a:lnTo>
                    <a:pt x="178" y="518"/>
                  </a:lnTo>
                  <a:lnTo>
                    <a:pt x="177" y="512"/>
                  </a:lnTo>
                  <a:lnTo>
                    <a:pt x="178" y="494"/>
                  </a:lnTo>
                  <a:lnTo>
                    <a:pt x="180" y="474"/>
                  </a:lnTo>
                  <a:lnTo>
                    <a:pt x="184" y="449"/>
                  </a:lnTo>
                  <a:lnTo>
                    <a:pt x="187" y="423"/>
                  </a:lnTo>
                  <a:lnTo>
                    <a:pt x="194" y="369"/>
                  </a:lnTo>
                  <a:lnTo>
                    <a:pt x="201" y="315"/>
                  </a:lnTo>
                  <a:lnTo>
                    <a:pt x="201" y="303"/>
                  </a:lnTo>
                  <a:lnTo>
                    <a:pt x="202" y="291"/>
                  </a:lnTo>
                  <a:lnTo>
                    <a:pt x="201" y="281"/>
                  </a:lnTo>
                  <a:lnTo>
                    <a:pt x="200" y="271"/>
                  </a:lnTo>
                  <a:lnTo>
                    <a:pt x="199" y="261"/>
                  </a:lnTo>
                  <a:lnTo>
                    <a:pt x="196" y="252"/>
                  </a:lnTo>
                  <a:lnTo>
                    <a:pt x="194" y="244"/>
                  </a:lnTo>
                  <a:lnTo>
                    <a:pt x="192" y="236"/>
                  </a:lnTo>
                  <a:lnTo>
                    <a:pt x="186" y="222"/>
                  </a:lnTo>
                  <a:lnTo>
                    <a:pt x="177" y="210"/>
                  </a:lnTo>
                  <a:lnTo>
                    <a:pt x="168" y="201"/>
                  </a:lnTo>
                  <a:lnTo>
                    <a:pt x="160" y="193"/>
                  </a:lnTo>
                  <a:lnTo>
                    <a:pt x="150" y="187"/>
                  </a:lnTo>
                  <a:lnTo>
                    <a:pt x="140" y="182"/>
                  </a:lnTo>
                  <a:lnTo>
                    <a:pt x="131" y="179"/>
                  </a:lnTo>
                  <a:lnTo>
                    <a:pt x="122" y="177"/>
                  </a:lnTo>
                  <a:lnTo>
                    <a:pt x="113" y="176"/>
                  </a:lnTo>
                  <a:lnTo>
                    <a:pt x="107" y="176"/>
                  </a:lnTo>
                  <a:lnTo>
                    <a:pt x="100" y="178"/>
                  </a:lnTo>
                  <a:lnTo>
                    <a:pt x="96" y="179"/>
                  </a:lnTo>
                  <a:lnTo>
                    <a:pt x="87" y="189"/>
                  </a:lnTo>
                  <a:lnTo>
                    <a:pt x="72" y="207"/>
                  </a:lnTo>
                  <a:lnTo>
                    <a:pt x="54" y="230"/>
                  </a:lnTo>
                  <a:lnTo>
                    <a:pt x="36" y="251"/>
                  </a:lnTo>
                  <a:lnTo>
                    <a:pt x="27" y="260"/>
                  </a:lnTo>
                  <a:lnTo>
                    <a:pt x="18" y="268"/>
                  </a:lnTo>
                  <a:lnTo>
                    <a:pt x="15" y="270"/>
                  </a:lnTo>
                  <a:lnTo>
                    <a:pt x="12" y="272"/>
                  </a:lnTo>
                  <a:lnTo>
                    <a:pt x="9" y="273"/>
                  </a:lnTo>
                  <a:lnTo>
                    <a:pt x="5" y="274"/>
                  </a:lnTo>
                  <a:lnTo>
                    <a:pt x="3" y="273"/>
                  </a:lnTo>
                  <a:lnTo>
                    <a:pt x="2" y="272"/>
                  </a:lnTo>
                  <a:lnTo>
                    <a:pt x="0" y="269"/>
                  </a:lnTo>
                  <a:lnTo>
                    <a:pt x="0" y="264"/>
                  </a:lnTo>
                  <a:lnTo>
                    <a:pt x="0" y="254"/>
                  </a:lnTo>
                  <a:lnTo>
                    <a:pt x="2" y="236"/>
                  </a:lnTo>
                  <a:lnTo>
                    <a:pt x="11" y="198"/>
                  </a:lnTo>
                  <a:lnTo>
                    <a:pt x="18" y="164"/>
                  </a:lnTo>
                  <a:lnTo>
                    <a:pt x="25" y="134"/>
                  </a:lnTo>
                  <a:lnTo>
                    <a:pt x="30" y="109"/>
                  </a:lnTo>
                  <a:lnTo>
                    <a:pt x="36" y="88"/>
                  </a:lnTo>
                  <a:lnTo>
                    <a:pt x="39" y="73"/>
                  </a:lnTo>
                  <a:lnTo>
                    <a:pt x="41" y="63"/>
                  </a:lnTo>
                  <a:lnTo>
                    <a:pt x="42" y="61"/>
                  </a:lnTo>
                  <a:lnTo>
                    <a:pt x="44" y="48"/>
                  </a:lnTo>
                  <a:lnTo>
                    <a:pt x="46" y="39"/>
                  </a:lnTo>
                  <a:lnTo>
                    <a:pt x="51" y="29"/>
                  </a:lnTo>
                  <a:lnTo>
                    <a:pt x="55" y="21"/>
                  </a:lnTo>
                  <a:lnTo>
                    <a:pt x="60" y="15"/>
                  </a:lnTo>
                  <a:lnTo>
                    <a:pt x="67" y="9"/>
                  </a:lnTo>
                  <a:lnTo>
                    <a:pt x="73" y="6"/>
                  </a:lnTo>
                  <a:lnTo>
                    <a:pt x="81" y="3"/>
                  </a:lnTo>
                  <a:lnTo>
                    <a:pt x="90" y="1"/>
                  </a:lnTo>
                  <a:lnTo>
                    <a:pt x="98" y="0"/>
                  </a:lnTo>
                  <a:lnTo>
                    <a:pt x="107" y="0"/>
                  </a:lnTo>
                  <a:lnTo>
                    <a:pt x="117" y="1"/>
                  </a:lnTo>
                  <a:lnTo>
                    <a:pt x="126" y="2"/>
                  </a:lnTo>
                  <a:lnTo>
                    <a:pt x="137" y="5"/>
                  </a:lnTo>
                  <a:lnTo>
                    <a:pt x="148" y="7"/>
                  </a:lnTo>
                  <a:lnTo>
                    <a:pt x="159" y="11"/>
                  </a:lnTo>
                  <a:lnTo>
                    <a:pt x="181" y="19"/>
                  </a:lnTo>
                  <a:lnTo>
                    <a:pt x="205" y="30"/>
                  </a:lnTo>
                  <a:lnTo>
                    <a:pt x="228" y="41"/>
                  </a:lnTo>
                  <a:lnTo>
                    <a:pt x="250" y="52"/>
                  </a:lnTo>
                  <a:lnTo>
                    <a:pt x="294" y="74"/>
                  </a:lnTo>
                  <a:lnTo>
                    <a:pt x="332" y="93"/>
                  </a:lnTo>
                  <a:lnTo>
                    <a:pt x="366" y="109"/>
                  </a:lnTo>
                  <a:lnTo>
                    <a:pt x="404" y="127"/>
                  </a:lnTo>
                  <a:lnTo>
                    <a:pt x="442" y="148"/>
                  </a:lnTo>
                  <a:lnTo>
                    <a:pt x="478" y="170"/>
                  </a:lnTo>
                  <a:lnTo>
                    <a:pt x="497" y="181"/>
                  </a:lnTo>
                  <a:lnTo>
                    <a:pt x="513" y="193"/>
                  </a:lnTo>
                  <a:lnTo>
                    <a:pt x="529" y="205"/>
                  </a:lnTo>
                  <a:lnTo>
                    <a:pt x="543" y="217"/>
                  </a:lnTo>
                  <a:lnTo>
                    <a:pt x="556" y="229"/>
                  </a:lnTo>
                  <a:lnTo>
                    <a:pt x="567" y="241"/>
                  </a:lnTo>
                  <a:lnTo>
                    <a:pt x="577" y="252"/>
                  </a:lnTo>
                  <a:lnTo>
                    <a:pt x="583" y="263"/>
                  </a:lnTo>
                  <a:lnTo>
                    <a:pt x="589" y="275"/>
                  </a:lnTo>
                  <a:lnTo>
                    <a:pt x="592" y="288"/>
                  </a:lnTo>
                  <a:lnTo>
                    <a:pt x="594" y="301"/>
                  </a:lnTo>
                  <a:lnTo>
                    <a:pt x="593" y="315"/>
                  </a:lnTo>
                  <a:lnTo>
                    <a:pt x="591" y="330"/>
                  </a:lnTo>
                  <a:lnTo>
                    <a:pt x="588" y="347"/>
                  </a:lnTo>
                  <a:lnTo>
                    <a:pt x="583" y="365"/>
                  </a:lnTo>
                  <a:lnTo>
                    <a:pt x="577" y="384"/>
                  </a:lnTo>
                  <a:lnTo>
                    <a:pt x="561" y="427"/>
                  </a:lnTo>
                  <a:lnTo>
                    <a:pt x="541" y="478"/>
                  </a:lnTo>
                  <a:lnTo>
                    <a:pt x="519" y="538"/>
                  </a:lnTo>
                  <a:lnTo>
                    <a:pt x="497" y="607"/>
                  </a:lnTo>
                  <a:close/>
                </a:path>
              </a:pathLst>
            </a:custGeom>
            <a:solidFill>
              <a:srgbClr val="7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5891040" y="2287800"/>
              <a:ext cx="184320" cy="217440"/>
            </a:xfrm>
            <a:custGeom>
              <a:avLst/>
              <a:gdLst/>
              <a:ahLst/>
              <a:rect l="l" t="t" r="r" b="b"/>
              <a:pathLst>
                <a:path w="576" h="687">
                  <a:moveTo>
                    <a:pt x="493" y="537"/>
                  </a:moveTo>
                  <a:lnTo>
                    <a:pt x="481" y="577"/>
                  </a:lnTo>
                  <a:lnTo>
                    <a:pt x="471" y="610"/>
                  </a:lnTo>
                  <a:lnTo>
                    <a:pt x="461" y="638"/>
                  </a:lnTo>
                  <a:lnTo>
                    <a:pt x="451" y="659"/>
                  </a:lnTo>
                  <a:lnTo>
                    <a:pt x="447" y="667"/>
                  </a:lnTo>
                  <a:lnTo>
                    <a:pt x="442" y="674"/>
                  </a:lnTo>
                  <a:lnTo>
                    <a:pt x="438" y="678"/>
                  </a:lnTo>
                  <a:lnTo>
                    <a:pt x="434" y="683"/>
                  </a:lnTo>
                  <a:lnTo>
                    <a:pt x="431" y="686"/>
                  </a:lnTo>
                  <a:lnTo>
                    <a:pt x="426" y="687"/>
                  </a:lnTo>
                  <a:lnTo>
                    <a:pt x="423" y="687"/>
                  </a:lnTo>
                  <a:lnTo>
                    <a:pt x="420" y="686"/>
                  </a:lnTo>
                  <a:lnTo>
                    <a:pt x="417" y="684"/>
                  </a:lnTo>
                  <a:lnTo>
                    <a:pt x="414" y="680"/>
                  </a:lnTo>
                  <a:lnTo>
                    <a:pt x="411" y="675"/>
                  </a:lnTo>
                  <a:lnTo>
                    <a:pt x="409" y="670"/>
                  </a:lnTo>
                  <a:lnTo>
                    <a:pt x="405" y="656"/>
                  </a:lnTo>
                  <a:lnTo>
                    <a:pt x="401" y="637"/>
                  </a:lnTo>
                  <a:lnTo>
                    <a:pt x="399" y="616"/>
                  </a:lnTo>
                  <a:lnTo>
                    <a:pt x="398" y="592"/>
                  </a:lnTo>
                  <a:lnTo>
                    <a:pt x="398" y="564"/>
                  </a:lnTo>
                  <a:lnTo>
                    <a:pt x="399" y="535"/>
                  </a:lnTo>
                  <a:lnTo>
                    <a:pt x="400" y="501"/>
                  </a:lnTo>
                  <a:lnTo>
                    <a:pt x="400" y="467"/>
                  </a:lnTo>
                  <a:lnTo>
                    <a:pt x="400" y="432"/>
                  </a:lnTo>
                  <a:lnTo>
                    <a:pt x="399" y="397"/>
                  </a:lnTo>
                  <a:lnTo>
                    <a:pt x="397" y="363"/>
                  </a:lnTo>
                  <a:lnTo>
                    <a:pt x="394" y="332"/>
                  </a:lnTo>
                  <a:lnTo>
                    <a:pt x="392" y="317"/>
                  </a:lnTo>
                  <a:lnTo>
                    <a:pt x="389" y="303"/>
                  </a:lnTo>
                  <a:lnTo>
                    <a:pt x="387" y="290"/>
                  </a:lnTo>
                  <a:lnTo>
                    <a:pt x="384" y="279"/>
                  </a:lnTo>
                  <a:lnTo>
                    <a:pt x="381" y="268"/>
                  </a:lnTo>
                  <a:lnTo>
                    <a:pt x="377" y="259"/>
                  </a:lnTo>
                  <a:lnTo>
                    <a:pt x="372" y="252"/>
                  </a:lnTo>
                  <a:lnTo>
                    <a:pt x="368" y="246"/>
                  </a:lnTo>
                  <a:lnTo>
                    <a:pt x="362" y="242"/>
                  </a:lnTo>
                  <a:lnTo>
                    <a:pt x="357" y="240"/>
                  </a:lnTo>
                  <a:lnTo>
                    <a:pt x="351" y="240"/>
                  </a:lnTo>
                  <a:lnTo>
                    <a:pt x="343" y="242"/>
                  </a:lnTo>
                  <a:lnTo>
                    <a:pt x="335" y="245"/>
                  </a:lnTo>
                  <a:lnTo>
                    <a:pt x="328" y="253"/>
                  </a:lnTo>
                  <a:lnTo>
                    <a:pt x="319" y="262"/>
                  </a:lnTo>
                  <a:lnTo>
                    <a:pt x="310" y="273"/>
                  </a:lnTo>
                  <a:lnTo>
                    <a:pt x="300" y="287"/>
                  </a:lnTo>
                  <a:lnTo>
                    <a:pt x="289" y="305"/>
                  </a:lnTo>
                  <a:lnTo>
                    <a:pt x="277" y="325"/>
                  </a:lnTo>
                  <a:lnTo>
                    <a:pt x="265" y="349"/>
                  </a:lnTo>
                  <a:lnTo>
                    <a:pt x="243" y="393"/>
                  </a:lnTo>
                  <a:lnTo>
                    <a:pt x="224" y="428"/>
                  </a:lnTo>
                  <a:lnTo>
                    <a:pt x="209" y="453"/>
                  </a:lnTo>
                  <a:lnTo>
                    <a:pt x="198" y="468"/>
                  </a:lnTo>
                  <a:lnTo>
                    <a:pt x="194" y="473"/>
                  </a:lnTo>
                  <a:lnTo>
                    <a:pt x="190" y="476"/>
                  </a:lnTo>
                  <a:lnTo>
                    <a:pt x="187" y="478"/>
                  </a:lnTo>
                  <a:lnTo>
                    <a:pt x="185" y="478"/>
                  </a:lnTo>
                  <a:lnTo>
                    <a:pt x="183" y="475"/>
                  </a:lnTo>
                  <a:lnTo>
                    <a:pt x="182" y="472"/>
                  </a:lnTo>
                  <a:lnTo>
                    <a:pt x="181" y="467"/>
                  </a:lnTo>
                  <a:lnTo>
                    <a:pt x="181" y="460"/>
                  </a:lnTo>
                  <a:lnTo>
                    <a:pt x="182" y="445"/>
                  </a:lnTo>
                  <a:lnTo>
                    <a:pt x="184" y="426"/>
                  </a:lnTo>
                  <a:lnTo>
                    <a:pt x="187" y="403"/>
                  </a:lnTo>
                  <a:lnTo>
                    <a:pt x="192" y="378"/>
                  </a:lnTo>
                  <a:lnTo>
                    <a:pt x="199" y="325"/>
                  </a:lnTo>
                  <a:lnTo>
                    <a:pt x="206" y="272"/>
                  </a:lnTo>
                  <a:lnTo>
                    <a:pt x="207" y="260"/>
                  </a:lnTo>
                  <a:lnTo>
                    <a:pt x="207" y="249"/>
                  </a:lnTo>
                  <a:lnTo>
                    <a:pt x="206" y="238"/>
                  </a:lnTo>
                  <a:lnTo>
                    <a:pt x="205" y="228"/>
                  </a:lnTo>
                  <a:lnTo>
                    <a:pt x="203" y="219"/>
                  </a:lnTo>
                  <a:lnTo>
                    <a:pt x="200" y="211"/>
                  </a:lnTo>
                  <a:lnTo>
                    <a:pt x="198" y="203"/>
                  </a:lnTo>
                  <a:lnTo>
                    <a:pt x="195" y="196"/>
                  </a:lnTo>
                  <a:lnTo>
                    <a:pt x="191" y="189"/>
                  </a:lnTo>
                  <a:lnTo>
                    <a:pt x="187" y="184"/>
                  </a:lnTo>
                  <a:lnTo>
                    <a:pt x="183" y="178"/>
                  </a:lnTo>
                  <a:lnTo>
                    <a:pt x="178" y="174"/>
                  </a:lnTo>
                  <a:lnTo>
                    <a:pt x="169" y="165"/>
                  </a:lnTo>
                  <a:lnTo>
                    <a:pt x="158" y="160"/>
                  </a:lnTo>
                  <a:lnTo>
                    <a:pt x="148" y="155"/>
                  </a:lnTo>
                  <a:lnTo>
                    <a:pt x="137" y="152"/>
                  </a:lnTo>
                  <a:lnTo>
                    <a:pt x="127" y="150"/>
                  </a:lnTo>
                  <a:lnTo>
                    <a:pt x="117" y="150"/>
                  </a:lnTo>
                  <a:lnTo>
                    <a:pt x="108" y="150"/>
                  </a:lnTo>
                  <a:lnTo>
                    <a:pt x="100" y="152"/>
                  </a:lnTo>
                  <a:lnTo>
                    <a:pt x="95" y="154"/>
                  </a:lnTo>
                  <a:lnTo>
                    <a:pt x="90" y="156"/>
                  </a:lnTo>
                  <a:lnTo>
                    <a:pt x="81" y="165"/>
                  </a:lnTo>
                  <a:lnTo>
                    <a:pt x="66" y="184"/>
                  </a:lnTo>
                  <a:lnTo>
                    <a:pt x="49" y="205"/>
                  </a:lnTo>
                  <a:lnTo>
                    <a:pt x="32" y="226"/>
                  </a:lnTo>
                  <a:lnTo>
                    <a:pt x="23" y="235"/>
                  </a:lnTo>
                  <a:lnTo>
                    <a:pt x="17" y="241"/>
                  </a:lnTo>
                  <a:lnTo>
                    <a:pt x="14" y="243"/>
                  </a:lnTo>
                  <a:lnTo>
                    <a:pt x="10" y="245"/>
                  </a:lnTo>
                  <a:lnTo>
                    <a:pt x="7" y="246"/>
                  </a:lnTo>
                  <a:lnTo>
                    <a:pt x="5" y="246"/>
                  </a:lnTo>
                  <a:lnTo>
                    <a:pt x="3" y="245"/>
                  </a:lnTo>
                  <a:lnTo>
                    <a:pt x="2" y="243"/>
                  </a:lnTo>
                  <a:lnTo>
                    <a:pt x="1" y="241"/>
                  </a:lnTo>
                  <a:lnTo>
                    <a:pt x="0" y="237"/>
                  </a:lnTo>
                  <a:lnTo>
                    <a:pt x="1" y="225"/>
                  </a:lnTo>
                  <a:lnTo>
                    <a:pt x="4" y="208"/>
                  </a:lnTo>
                  <a:lnTo>
                    <a:pt x="11" y="171"/>
                  </a:lnTo>
                  <a:lnTo>
                    <a:pt x="18" y="140"/>
                  </a:lnTo>
                  <a:lnTo>
                    <a:pt x="22" y="113"/>
                  </a:lnTo>
                  <a:lnTo>
                    <a:pt x="27" y="92"/>
                  </a:lnTo>
                  <a:lnTo>
                    <a:pt x="30" y="75"/>
                  </a:lnTo>
                  <a:lnTo>
                    <a:pt x="32" y="64"/>
                  </a:lnTo>
                  <a:lnTo>
                    <a:pt x="33" y="57"/>
                  </a:lnTo>
                  <a:lnTo>
                    <a:pt x="33" y="55"/>
                  </a:lnTo>
                  <a:lnTo>
                    <a:pt x="35" y="43"/>
                  </a:lnTo>
                  <a:lnTo>
                    <a:pt x="37" y="35"/>
                  </a:lnTo>
                  <a:lnTo>
                    <a:pt x="41" y="26"/>
                  </a:lnTo>
                  <a:lnTo>
                    <a:pt x="45" y="20"/>
                  </a:lnTo>
                  <a:lnTo>
                    <a:pt x="50" y="13"/>
                  </a:lnTo>
                  <a:lnTo>
                    <a:pt x="57" y="9"/>
                  </a:lnTo>
                  <a:lnTo>
                    <a:pt x="63" y="6"/>
                  </a:lnTo>
                  <a:lnTo>
                    <a:pt x="71" y="2"/>
                  </a:lnTo>
                  <a:lnTo>
                    <a:pt x="78" y="1"/>
                  </a:lnTo>
                  <a:lnTo>
                    <a:pt x="87" y="0"/>
                  </a:lnTo>
                  <a:lnTo>
                    <a:pt x="97" y="0"/>
                  </a:lnTo>
                  <a:lnTo>
                    <a:pt x="105" y="1"/>
                  </a:lnTo>
                  <a:lnTo>
                    <a:pt x="126" y="5"/>
                  </a:lnTo>
                  <a:lnTo>
                    <a:pt x="148" y="11"/>
                  </a:lnTo>
                  <a:lnTo>
                    <a:pt x="170" y="19"/>
                  </a:lnTo>
                  <a:lnTo>
                    <a:pt x="193" y="28"/>
                  </a:lnTo>
                  <a:lnTo>
                    <a:pt x="217" y="39"/>
                  </a:lnTo>
                  <a:lnTo>
                    <a:pt x="239" y="50"/>
                  </a:lnTo>
                  <a:lnTo>
                    <a:pt x="283" y="71"/>
                  </a:lnTo>
                  <a:lnTo>
                    <a:pt x="320" y="90"/>
                  </a:lnTo>
                  <a:lnTo>
                    <a:pt x="355" y="105"/>
                  </a:lnTo>
                  <a:lnTo>
                    <a:pt x="392" y="123"/>
                  </a:lnTo>
                  <a:lnTo>
                    <a:pt x="428" y="144"/>
                  </a:lnTo>
                  <a:lnTo>
                    <a:pt x="464" y="165"/>
                  </a:lnTo>
                  <a:lnTo>
                    <a:pt x="481" y="176"/>
                  </a:lnTo>
                  <a:lnTo>
                    <a:pt x="498" y="187"/>
                  </a:lnTo>
                  <a:lnTo>
                    <a:pt x="513" y="199"/>
                  </a:lnTo>
                  <a:lnTo>
                    <a:pt x="527" y="211"/>
                  </a:lnTo>
                  <a:lnTo>
                    <a:pt x="539" y="223"/>
                  </a:lnTo>
                  <a:lnTo>
                    <a:pt x="550" y="235"/>
                  </a:lnTo>
                  <a:lnTo>
                    <a:pt x="559" y="245"/>
                  </a:lnTo>
                  <a:lnTo>
                    <a:pt x="567" y="257"/>
                  </a:lnTo>
                  <a:lnTo>
                    <a:pt x="572" y="269"/>
                  </a:lnTo>
                  <a:lnTo>
                    <a:pt x="575" y="281"/>
                  </a:lnTo>
                  <a:lnTo>
                    <a:pt x="576" y="293"/>
                  </a:lnTo>
                  <a:lnTo>
                    <a:pt x="575" y="306"/>
                  </a:lnTo>
                  <a:lnTo>
                    <a:pt x="573" y="319"/>
                  </a:lnTo>
                  <a:lnTo>
                    <a:pt x="570" y="333"/>
                  </a:lnTo>
                  <a:lnTo>
                    <a:pt x="565" y="347"/>
                  </a:lnTo>
                  <a:lnTo>
                    <a:pt x="559" y="363"/>
                  </a:lnTo>
                  <a:lnTo>
                    <a:pt x="544" y="398"/>
                  </a:lnTo>
                  <a:lnTo>
                    <a:pt x="528" y="438"/>
                  </a:lnTo>
                  <a:lnTo>
                    <a:pt x="519" y="459"/>
                  </a:lnTo>
                  <a:lnTo>
                    <a:pt x="510" y="483"/>
                  </a:lnTo>
                  <a:lnTo>
                    <a:pt x="502" y="509"/>
                  </a:lnTo>
                  <a:lnTo>
                    <a:pt x="493" y="537"/>
                  </a:lnTo>
                  <a:close/>
                </a:path>
              </a:pathLst>
            </a:custGeom>
            <a:solidFill>
              <a:srgbClr val="77a6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5894280" y="2289240"/>
              <a:ext cx="177840" cy="198360"/>
            </a:xfrm>
            <a:custGeom>
              <a:avLst/>
              <a:gdLst/>
              <a:ahLst/>
              <a:rect l="l" t="t" r="r" b="b"/>
              <a:pathLst>
                <a:path w="559" h="625">
                  <a:moveTo>
                    <a:pt x="486" y="469"/>
                  </a:moveTo>
                  <a:lnTo>
                    <a:pt x="478" y="506"/>
                  </a:lnTo>
                  <a:lnTo>
                    <a:pt x="468" y="539"/>
                  </a:lnTo>
                  <a:lnTo>
                    <a:pt x="459" y="564"/>
                  </a:lnTo>
                  <a:lnTo>
                    <a:pt x="452" y="586"/>
                  </a:lnTo>
                  <a:lnTo>
                    <a:pt x="443" y="603"/>
                  </a:lnTo>
                  <a:lnTo>
                    <a:pt x="437" y="615"/>
                  </a:lnTo>
                  <a:lnTo>
                    <a:pt x="432" y="620"/>
                  </a:lnTo>
                  <a:lnTo>
                    <a:pt x="429" y="623"/>
                  </a:lnTo>
                  <a:lnTo>
                    <a:pt x="426" y="625"/>
                  </a:lnTo>
                  <a:lnTo>
                    <a:pt x="423" y="625"/>
                  </a:lnTo>
                  <a:lnTo>
                    <a:pt x="420" y="625"/>
                  </a:lnTo>
                  <a:lnTo>
                    <a:pt x="417" y="624"/>
                  </a:lnTo>
                  <a:lnTo>
                    <a:pt x="415" y="621"/>
                  </a:lnTo>
                  <a:lnTo>
                    <a:pt x="413" y="617"/>
                  </a:lnTo>
                  <a:lnTo>
                    <a:pt x="409" y="608"/>
                  </a:lnTo>
                  <a:lnTo>
                    <a:pt x="405" y="593"/>
                  </a:lnTo>
                  <a:lnTo>
                    <a:pt x="403" y="574"/>
                  </a:lnTo>
                  <a:lnTo>
                    <a:pt x="402" y="551"/>
                  </a:lnTo>
                  <a:lnTo>
                    <a:pt x="401" y="526"/>
                  </a:lnTo>
                  <a:lnTo>
                    <a:pt x="402" y="496"/>
                  </a:lnTo>
                  <a:lnTo>
                    <a:pt x="403" y="428"/>
                  </a:lnTo>
                  <a:lnTo>
                    <a:pt x="403" y="357"/>
                  </a:lnTo>
                  <a:lnTo>
                    <a:pt x="401" y="321"/>
                  </a:lnTo>
                  <a:lnTo>
                    <a:pt x="398" y="288"/>
                  </a:lnTo>
                  <a:lnTo>
                    <a:pt x="395" y="258"/>
                  </a:lnTo>
                  <a:lnTo>
                    <a:pt x="389" y="232"/>
                  </a:lnTo>
                  <a:lnTo>
                    <a:pt x="386" y="220"/>
                  </a:lnTo>
                  <a:lnTo>
                    <a:pt x="382" y="210"/>
                  </a:lnTo>
                  <a:lnTo>
                    <a:pt x="377" y="202"/>
                  </a:lnTo>
                  <a:lnTo>
                    <a:pt x="373" y="195"/>
                  </a:lnTo>
                  <a:lnTo>
                    <a:pt x="368" y="190"/>
                  </a:lnTo>
                  <a:lnTo>
                    <a:pt x="362" y="186"/>
                  </a:lnTo>
                  <a:lnTo>
                    <a:pt x="356" y="186"/>
                  </a:lnTo>
                  <a:lnTo>
                    <a:pt x="349" y="188"/>
                  </a:lnTo>
                  <a:lnTo>
                    <a:pt x="342" y="191"/>
                  </a:lnTo>
                  <a:lnTo>
                    <a:pt x="333" y="196"/>
                  </a:lnTo>
                  <a:lnTo>
                    <a:pt x="324" y="205"/>
                  </a:lnTo>
                  <a:lnTo>
                    <a:pt x="316" y="217"/>
                  </a:lnTo>
                  <a:lnTo>
                    <a:pt x="306" y="231"/>
                  </a:lnTo>
                  <a:lnTo>
                    <a:pt x="295" y="248"/>
                  </a:lnTo>
                  <a:lnTo>
                    <a:pt x="283" y="267"/>
                  </a:lnTo>
                  <a:lnTo>
                    <a:pt x="271" y="291"/>
                  </a:lnTo>
                  <a:lnTo>
                    <a:pt x="249" y="335"/>
                  </a:lnTo>
                  <a:lnTo>
                    <a:pt x="230" y="370"/>
                  </a:lnTo>
                  <a:lnTo>
                    <a:pt x="215" y="396"/>
                  </a:lnTo>
                  <a:lnTo>
                    <a:pt x="204" y="413"/>
                  </a:lnTo>
                  <a:lnTo>
                    <a:pt x="199" y="419"/>
                  </a:lnTo>
                  <a:lnTo>
                    <a:pt x="196" y="422"/>
                  </a:lnTo>
                  <a:lnTo>
                    <a:pt x="193" y="424"/>
                  </a:lnTo>
                  <a:lnTo>
                    <a:pt x="190" y="424"/>
                  </a:lnTo>
                  <a:lnTo>
                    <a:pt x="188" y="423"/>
                  </a:lnTo>
                  <a:lnTo>
                    <a:pt x="187" y="420"/>
                  </a:lnTo>
                  <a:lnTo>
                    <a:pt x="187" y="415"/>
                  </a:lnTo>
                  <a:lnTo>
                    <a:pt x="187" y="410"/>
                  </a:lnTo>
                  <a:lnTo>
                    <a:pt x="187" y="396"/>
                  </a:lnTo>
                  <a:lnTo>
                    <a:pt x="189" y="378"/>
                  </a:lnTo>
                  <a:lnTo>
                    <a:pt x="193" y="356"/>
                  </a:lnTo>
                  <a:lnTo>
                    <a:pt x="196" y="332"/>
                  </a:lnTo>
                  <a:lnTo>
                    <a:pt x="203" y="281"/>
                  </a:lnTo>
                  <a:lnTo>
                    <a:pt x="210" y="230"/>
                  </a:lnTo>
                  <a:lnTo>
                    <a:pt x="210" y="217"/>
                  </a:lnTo>
                  <a:lnTo>
                    <a:pt x="210" y="206"/>
                  </a:lnTo>
                  <a:lnTo>
                    <a:pt x="210" y="196"/>
                  </a:lnTo>
                  <a:lnTo>
                    <a:pt x="209" y="186"/>
                  </a:lnTo>
                  <a:lnTo>
                    <a:pt x="207" y="178"/>
                  </a:lnTo>
                  <a:lnTo>
                    <a:pt x="204" y="170"/>
                  </a:lnTo>
                  <a:lnTo>
                    <a:pt x="201" y="163"/>
                  </a:lnTo>
                  <a:lnTo>
                    <a:pt x="198" y="156"/>
                  </a:lnTo>
                  <a:lnTo>
                    <a:pt x="194" y="151"/>
                  </a:lnTo>
                  <a:lnTo>
                    <a:pt x="189" y="145"/>
                  </a:lnTo>
                  <a:lnTo>
                    <a:pt x="185" y="141"/>
                  </a:lnTo>
                  <a:lnTo>
                    <a:pt x="180" y="138"/>
                  </a:lnTo>
                  <a:lnTo>
                    <a:pt x="169" y="131"/>
                  </a:lnTo>
                  <a:lnTo>
                    <a:pt x="158" y="127"/>
                  </a:lnTo>
                  <a:lnTo>
                    <a:pt x="146" y="125"/>
                  </a:lnTo>
                  <a:lnTo>
                    <a:pt x="134" y="124"/>
                  </a:lnTo>
                  <a:lnTo>
                    <a:pt x="122" y="124"/>
                  </a:lnTo>
                  <a:lnTo>
                    <a:pt x="113" y="125"/>
                  </a:lnTo>
                  <a:lnTo>
                    <a:pt x="103" y="127"/>
                  </a:lnTo>
                  <a:lnTo>
                    <a:pt x="94" y="128"/>
                  </a:lnTo>
                  <a:lnTo>
                    <a:pt x="88" y="130"/>
                  </a:lnTo>
                  <a:lnTo>
                    <a:pt x="83" y="132"/>
                  </a:lnTo>
                  <a:lnTo>
                    <a:pt x="74" y="142"/>
                  </a:lnTo>
                  <a:lnTo>
                    <a:pt x="61" y="159"/>
                  </a:lnTo>
                  <a:lnTo>
                    <a:pt x="45" y="180"/>
                  </a:lnTo>
                  <a:lnTo>
                    <a:pt x="29" y="199"/>
                  </a:lnTo>
                  <a:lnTo>
                    <a:pt x="22" y="207"/>
                  </a:lnTo>
                  <a:lnTo>
                    <a:pt x="15" y="213"/>
                  </a:lnTo>
                  <a:lnTo>
                    <a:pt x="12" y="216"/>
                  </a:lnTo>
                  <a:lnTo>
                    <a:pt x="9" y="217"/>
                  </a:lnTo>
                  <a:lnTo>
                    <a:pt x="7" y="217"/>
                  </a:lnTo>
                  <a:lnTo>
                    <a:pt x="5" y="217"/>
                  </a:lnTo>
                  <a:lnTo>
                    <a:pt x="3" y="216"/>
                  </a:lnTo>
                  <a:lnTo>
                    <a:pt x="2" y="213"/>
                  </a:lnTo>
                  <a:lnTo>
                    <a:pt x="1" y="210"/>
                  </a:lnTo>
                  <a:lnTo>
                    <a:pt x="0" y="207"/>
                  </a:lnTo>
                  <a:lnTo>
                    <a:pt x="1" y="194"/>
                  </a:lnTo>
                  <a:lnTo>
                    <a:pt x="5" y="178"/>
                  </a:lnTo>
                  <a:lnTo>
                    <a:pt x="11" y="142"/>
                  </a:lnTo>
                  <a:lnTo>
                    <a:pt x="16" y="113"/>
                  </a:lnTo>
                  <a:lnTo>
                    <a:pt x="21" y="91"/>
                  </a:lnTo>
                  <a:lnTo>
                    <a:pt x="23" y="74"/>
                  </a:lnTo>
                  <a:lnTo>
                    <a:pt x="24" y="62"/>
                  </a:lnTo>
                  <a:lnTo>
                    <a:pt x="24" y="55"/>
                  </a:lnTo>
                  <a:lnTo>
                    <a:pt x="24" y="50"/>
                  </a:lnTo>
                  <a:lnTo>
                    <a:pt x="24" y="49"/>
                  </a:lnTo>
                  <a:lnTo>
                    <a:pt x="26" y="38"/>
                  </a:lnTo>
                  <a:lnTo>
                    <a:pt x="28" y="31"/>
                  </a:lnTo>
                  <a:lnTo>
                    <a:pt x="32" y="23"/>
                  </a:lnTo>
                  <a:lnTo>
                    <a:pt x="36" y="17"/>
                  </a:lnTo>
                  <a:lnTo>
                    <a:pt x="41" y="11"/>
                  </a:lnTo>
                  <a:lnTo>
                    <a:pt x="48" y="7"/>
                  </a:lnTo>
                  <a:lnTo>
                    <a:pt x="54" y="4"/>
                  </a:lnTo>
                  <a:lnTo>
                    <a:pt x="61" y="2"/>
                  </a:lnTo>
                  <a:lnTo>
                    <a:pt x="69" y="1"/>
                  </a:lnTo>
                  <a:lnTo>
                    <a:pt x="78" y="0"/>
                  </a:lnTo>
                  <a:lnTo>
                    <a:pt x="87" y="1"/>
                  </a:lnTo>
                  <a:lnTo>
                    <a:pt x="96" y="1"/>
                  </a:lnTo>
                  <a:lnTo>
                    <a:pt x="116" y="5"/>
                  </a:lnTo>
                  <a:lnTo>
                    <a:pt x="137" y="10"/>
                  </a:lnTo>
                  <a:lnTo>
                    <a:pt x="160" y="18"/>
                  </a:lnTo>
                  <a:lnTo>
                    <a:pt x="183" y="28"/>
                  </a:lnTo>
                  <a:lnTo>
                    <a:pt x="205" y="37"/>
                  </a:lnTo>
                  <a:lnTo>
                    <a:pt x="228" y="48"/>
                  </a:lnTo>
                  <a:lnTo>
                    <a:pt x="271" y="69"/>
                  </a:lnTo>
                  <a:lnTo>
                    <a:pt x="308" y="86"/>
                  </a:lnTo>
                  <a:lnTo>
                    <a:pt x="343" y="102"/>
                  </a:lnTo>
                  <a:lnTo>
                    <a:pt x="379" y="119"/>
                  </a:lnTo>
                  <a:lnTo>
                    <a:pt x="415" y="139"/>
                  </a:lnTo>
                  <a:lnTo>
                    <a:pt x="450" y="161"/>
                  </a:lnTo>
                  <a:lnTo>
                    <a:pt x="467" y="171"/>
                  </a:lnTo>
                  <a:lnTo>
                    <a:pt x="482" y="182"/>
                  </a:lnTo>
                  <a:lnTo>
                    <a:pt x="497" y="194"/>
                  </a:lnTo>
                  <a:lnTo>
                    <a:pt x="511" y="205"/>
                  </a:lnTo>
                  <a:lnTo>
                    <a:pt x="523" y="217"/>
                  </a:lnTo>
                  <a:lnTo>
                    <a:pt x="534" y="229"/>
                  </a:lnTo>
                  <a:lnTo>
                    <a:pt x="544" y="239"/>
                  </a:lnTo>
                  <a:lnTo>
                    <a:pt x="551" y="251"/>
                  </a:lnTo>
                  <a:lnTo>
                    <a:pt x="556" y="262"/>
                  </a:lnTo>
                  <a:lnTo>
                    <a:pt x="559" y="274"/>
                  </a:lnTo>
                  <a:lnTo>
                    <a:pt x="559" y="285"/>
                  </a:lnTo>
                  <a:lnTo>
                    <a:pt x="559" y="296"/>
                  </a:lnTo>
                  <a:lnTo>
                    <a:pt x="556" y="306"/>
                  </a:lnTo>
                  <a:lnTo>
                    <a:pt x="552" y="318"/>
                  </a:lnTo>
                  <a:lnTo>
                    <a:pt x="548" y="329"/>
                  </a:lnTo>
                  <a:lnTo>
                    <a:pt x="541" y="342"/>
                  </a:lnTo>
                  <a:lnTo>
                    <a:pt x="528" y="368"/>
                  </a:lnTo>
                  <a:lnTo>
                    <a:pt x="513" y="397"/>
                  </a:lnTo>
                  <a:lnTo>
                    <a:pt x="506" y="413"/>
                  </a:lnTo>
                  <a:lnTo>
                    <a:pt x="499" y="431"/>
                  </a:lnTo>
                  <a:lnTo>
                    <a:pt x="493" y="449"/>
                  </a:lnTo>
                  <a:lnTo>
                    <a:pt x="486" y="469"/>
                  </a:lnTo>
                  <a:close/>
                </a:path>
              </a:pathLst>
            </a:custGeom>
            <a:solidFill>
              <a:srgbClr val="7ea9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5897520" y="2290680"/>
              <a:ext cx="171360" cy="181080"/>
            </a:xfrm>
            <a:custGeom>
              <a:avLst/>
              <a:gdLst/>
              <a:ahLst/>
              <a:rect l="l" t="t" r="r" b="b"/>
              <a:pathLst>
                <a:path w="542" h="567">
                  <a:moveTo>
                    <a:pt x="16" y="43"/>
                  </a:moveTo>
                  <a:lnTo>
                    <a:pt x="16" y="43"/>
                  </a:lnTo>
                  <a:lnTo>
                    <a:pt x="17" y="44"/>
                  </a:lnTo>
                  <a:lnTo>
                    <a:pt x="18" y="49"/>
                  </a:lnTo>
                  <a:lnTo>
                    <a:pt x="18" y="56"/>
                  </a:lnTo>
                  <a:lnTo>
                    <a:pt x="17" y="69"/>
                  </a:lnTo>
                  <a:lnTo>
                    <a:pt x="15" y="88"/>
                  </a:lnTo>
                  <a:lnTo>
                    <a:pt x="11" y="113"/>
                  </a:lnTo>
                  <a:lnTo>
                    <a:pt x="4" y="149"/>
                  </a:lnTo>
                  <a:lnTo>
                    <a:pt x="1" y="166"/>
                  </a:lnTo>
                  <a:lnTo>
                    <a:pt x="0" y="178"/>
                  </a:lnTo>
                  <a:lnTo>
                    <a:pt x="0" y="183"/>
                  </a:lnTo>
                  <a:lnTo>
                    <a:pt x="1" y="186"/>
                  </a:lnTo>
                  <a:lnTo>
                    <a:pt x="2" y="188"/>
                  </a:lnTo>
                  <a:lnTo>
                    <a:pt x="3" y="189"/>
                  </a:lnTo>
                  <a:lnTo>
                    <a:pt x="5" y="190"/>
                  </a:lnTo>
                  <a:lnTo>
                    <a:pt x="7" y="189"/>
                  </a:lnTo>
                  <a:lnTo>
                    <a:pt x="11" y="188"/>
                  </a:lnTo>
                  <a:lnTo>
                    <a:pt x="13" y="187"/>
                  </a:lnTo>
                  <a:lnTo>
                    <a:pt x="19" y="182"/>
                  </a:lnTo>
                  <a:lnTo>
                    <a:pt x="26" y="174"/>
                  </a:lnTo>
                  <a:lnTo>
                    <a:pt x="41" y="156"/>
                  </a:lnTo>
                  <a:lnTo>
                    <a:pt x="56" y="136"/>
                  </a:lnTo>
                  <a:lnTo>
                    <a:pt x="69" y="119"/>
                  </a:lnTo>
                  <a:lnTo>
                    <a:pt x="78" y="109"/>
                  </a:lnTo>
                  <a:lnTo>
                    <a:pt x="88" y="105"/>
                  </a:lnTo>
                  <a:lnTo>
                    <a:pt x="107" y="99"/>
                  </a:lnTo>
                  <a:lnTo>
                    <a:pt x="119" y="96"/>
                  </a:lnTo>
                  <a:lnTo>
                    <a:pt x="131" y="95"/>
                  </a:lnTo>
                  <a:lnTo>
                    <a:pt x="143" y="94"/>
                  </a:lnTo>
                  <a:lnTo>
                    <a:pt x="156" y="95"/>
                  </a:lnTo>
                  <a:lnTo>
                    <a:pt x="169" y="98"/>
                  </a:lnTo>
                  <a:lnTo>
                    <a:pt x="181" y="103"/>
                  </a:lnTo>
                  <a:lnTo>
                    <a:pt x="187" y="106"/>
                  </a:lnTo>
                  <a:lnTo>
                    <a:pt x="192" y="109"/>
                  </a:lnTo>
                  <a:lnTo>
                    <a:pt x="196" y="113"/>
                  </a:lnTo>
                  <a:lnTo>
                    <a:pt x="201" y="119"/>
                  </a:lnTo>
                  <a:lnTo>
                    <a:pt x="205" y="124"/>
                  </a:lnTo>
                  <a:lnTo>
                    <a:pt x="208" y="131"/>
                  </a:lnTo>
                  <a:lnTo>
                    <a:pt x="212" y="138"/>
                  </a:lnTo>
                  <a:lnTo>
                    <a:pt x="214" y="147"/>
                  </a:lnTo>
                  <a:lnTo>
                    <a:pt x="216" y="156"/>
                  </a:lnTo>
                  <a:lnTo>
                    <a:pt x="217" y="165"/>
                  </a:lnTo>
                  <a:lnTo>
                    <a:pt x="217" y="176"/>
                  </a:lnTo>
                  <a:lnTo>
                    <a:pt x="216" y="189"/>
                  </a:lnTo>
                  <a:lnTo>
                    <a:pt x="210" y="240"/>
                  </a:lnTo>
                  <a:lnTo>
                    <a:pt x="202" y="290"/>
                  </a:lnTo>
                  <a:lnTo>
                    <a:pt x="199" y="312"/>
                  </a:lnTo>
                  <a:lnTo>
                    <a:pt x="195" y="332"/>
                  </a:lnTo>
                  <a:lnTo>
                    <a:pt x="193" y="348"/>
                  </a:lnTo>
                  <a:lnTo>
                    <a:pt x="192" y="361"/>
                  </a:lnTo>
                  <a:lnTo>
                    <a:pt x="193" y="365"/>
                  </a:lnTo>
                  <a:lnTo>
                    <a:pt x="193" y="369"/>
                  </a:lnTo>
                  <a:lnTo>
                    <a:pt x="195" y="371"/>
                  </a:lnTo>
                  <a:lnTo>
                    <a:pt x="196" y="372"/>
                  </a:lnTo>
                  <a:lnTo>
                    <a:pt x="199" y="371"/>
                  </a:lnTo>
                  <a:lnTo>
                    <a:pt x="202" y="368"/>
                  </a:lnTo>
                  <a:lnTo>
                    <a:pt x="206" y="364"/>
                  </a:lnTo>
                  <a:lnTo>
                    <a:pt x="210" y="358"/>
                  </a:lnTo>
                  <a:lnTo>
                    <a:pt x="222" y="339"/>
                  </a:lnTo>
                  <a:lnTo>
                    <a:pt x="236" y="313"/>
                  </a:lnTo>
                  <a:lnTo>
                    <a:pt x="256" y="278"/>
                  </a:lnTo>
                  <a:lnTo>
                    <a:pt x="279" y="233"/>
                  </a:lnTo>
                  <a:lnTo>
                    <a:pt x="290" y="210"/>
                  </a:lnTo>
                  <a:lnTo>
                    <a:pt x="301" y="190"/>
                  </a:lnTo>
                  <a:lnTo>
                    <a:pt x="312" y="173"/>
                  </a:lnTo>
                  <a:lnTo>
                    <a:pt x="322" y="160"/>
                  </a:lnTo>
                  <a:lnTo>
                    <a:pt x="331" y="149"/>
                  </a:lnTo>
                  <a:lnTo>
                    <a:pt x="340" y="140"/>
                  </a:lnTo>
                  <a:lnTo>
                    <a:pt x="348" y="135"/>
                  </a:lnTo>
                  <a:lnTo>
                    <a:pt x="355" y="133"/>
                  </a:lnTo>
                  <a:lnTo>
                    <a:pt x="362" y="132"/>
                  </a:lnTo>
                  <a:lnTo>
                    <a:pt x="368" y="134"/>
                  </a:lnTo>
                  <a:lnTo>
                    <a:pt x="374" y="138"/>
                  </a:lnTo>
                  <a:lnTo>
                    <a:pt x="379" y="144"/>
                  </a:lnTo>
                  <a:lnTo>
                    <a:pt x="383" y="152"/>
                  </a:lnTo>
                  <a:lnTo>
                    <a:pt x="388" y="161"/>
                  </a:lnTo>
                  <a:lnTo>
                    <a:pt x="391" y="172"/>
                  </a:lnTo>
                  <a:lnTo>
                    <a:pt x="394" y="185"/>
                  </a:lnTo>
                  <a:lnTo>
                    <a:pt x="400" y="213"/>
                  </a:lnTo>
                  <a:lnTo>
                    <a:pt x="403" y="245"/>
                  </a:lnTo>
                  <a:lnTo>
                    <a:pt x="405" y="281"/>
                  </a:lnTo>
                  <a:lnTo>
                    <a:pt x="406" y="318"/>
                  </a:lnTo>
                  <a:lnTo>
                    <a:pt x="407" y="355"/>
                  </a:lnTo>
                  <a:lnTo>
                    <a:pt x="406" y="392"/>
                  </a:lnTo>
                  <a:lnTo>
                    <a:pt x="406" y="428"/>
                  </a:lnTo>
                  <a:lnTo>
                    <a:pt x="404" y="460"/>
                  </a:lnTo>
                  <a:lnTo>
                    <a:pt x="404" y="489"/>
                  </a:lnTo>
                  <a:lnTo>
                    <a:pt x="405" y="514"/>
                  </a:lnTo>
                  <a:lnTo>
                    <a:pt x="406" y="534"/>
                  </a:lnTo>
                  <a:lnTo>
                    <a:pt x="409" y="549"/>
                  </a:lnTo>
                  <a:lnTo>
                    <a:pt x="410" y="554"/>
                  </a:lnTo>
                  <a:lnTo>
                    <a:pt x="412" y="560"/>
                  </a:lnTo>
                  <a:lnTo>
                    <a:pt x="415" y="563"/>
                  </a:lnTo>
                  <a:lnTo>
                    <a:pt x="417" y="565"/>
                  </a:lnTo>
                  <a:lnTo>
                    <a:pt x="419" y="566"/>
                  </a:lnTo>
                  <a:lnTo>
                    <a:pt x="421" y="567"/>
                  </a:lnTo>
                  <a:lnTo>
                    <a:pt x="424" y="566"/>
                  </a:lnTo>
                  <a:lnTo>
                    <a:pt x="428" y="564"/>
                  </a:lnTo>
                  <a:lnTo>
                    <a:pt x="433" y="557"/>
                  </a:lnTo>
                  <a:lnTo>
                    <a:pt x="439" y="547"/>
                  </a:lnTo>
                  <a:lnTo>
                    <a:pt x="447" y="531"/>
                  </a:lnTo>
                  <a:lnTo>
                    <a:pt x="454" y="512"/>
                  </a:lnTo>
                  <a:lnTo>
                    <a:pt x="461" y="489"/>
                  </a:lnTo>
                  <a:lnTo>
                    <a:pt x="469" y="463"/>
                  </a:lnTo>
                  <a:lnTo>
                    <a:pt x="476" y="433"/>
                  </a:lnTo>
                  <a:lnTo>
                    <a:pt x="484" y="399"/>
                  </a:lnTo>
                  <a:lnTo>
                    <a:pt x="487" y="387"/>
                  </a:lnTo>
                  <a:lnTo>
                    <a:pt x="491" y="376"/>
                  </a:lnTo>
                  <a:lnTo>
                    <a:pt x="497" y="366"/>
                  </a:lnTo>
                  <a:lnTo>
                    <a:pt x="502" y="356"/>
                  </a:lnTo>
                  <a:lnTo>
                    <a:pt x="515" y="337"/>
                  </a:lnTo>
                  <a:lnTo>
                    <a:pt x="527" y="320"/>
                  </a:lnTo>
                  <a:lnTo>
                    <a:pt x="532" y="311"/>
                  </a:lnTo>
                  <a:lnTo>
                    <a:pt x="537" y="302"/>
                  </a:lnTo>
                  <a:lnTo>
                    <a:pt x="540" y="294"/>
                  </a:lnTo>
                  <a:lnTo>
                    <a:pt x="542" y="284"/>
                  </a:lnTo>
                  <a:lnTo>
                    <a:pt x="542" y="274"/>
                  </a:lnTo>
                  <a:lnTo>
                    <a:pt x="541" y="265"/>
                  </a:lnTo>
                  <a:lnTo>
                    <a:pt x="538" y="254"/>
                  </a:lnTo>
                  <a:lnTo>
                    <a:pt x="532" y="243"/>
                  </a:lnTo>
                  <a:lnTo>
                    <a:pt x="526" y="232"/>
                  </a:lnTo>
                  <a:lnTo>
                    <a:pt x="517" y="220"/>
                  </a:lnTo>
                  <a:lnTo>
                    <a:pt x="508" y="210"/>
                  </a:lnTo>
                  <a:lnTo>
                    <a:pt x="496" y="199"/>
                  </a:lnTo>
                  <a:lnTo>
                    <a:pt x="483" y="187"/>
                  </a:lnTo>
                  <a:lnTo>
                    <a:pt x="469" y="176"/>
                  </a:lnTo>
                  <a:lnTo>
                    <a:pt x="454" y="165"/>
                  </a:lnTo>
                  <a:lnTo>
                    <a:pt x="438" y="156"/>
                  </a:lnTo>
                  <a:lnTo>
                    <a:pt x="405" y="135"/>
                  </a:lnTo>
                  <a:lnTo>
                    <a:pt x="369" y="116"/>
                  </a:lnTo>
                  <a:lnTo>
                    <a:pt x="335" y="98"/>
                  </a:lnTo>
                  <a:lnTo>
                    <a:pt x="300" y="82"/>
                  </a:lnTo>
                  <a:lnTo>
                    <a:pt x="263" y="65"/>
                  </a:lnTo>
                  <a:lnTo>
                    <a:pt x="220" y="45"/>
                  </a:lnTo>
                  <a:lnTo>
                    <a:pt x="197" y="36"/>
                  </a:lnTo>
                  <a:lnTo>
                    <a:pt x="174" y="26"/>
                  </a:lnTo>
                  <a:lnTo>
                    <a:pt x="151" y="17"/>
                  </a:lnTo>
                  <a:lnTo>
                    <a:pt x="128" y="11"/>
                  </a:lnTo>
                  <a:lnTo>
                    <a:pt x="107" y="5"/>
                  </a:lnTo>
                  <a:lnTo>
                    <a:pt x="87" y="1"/>
                  </a:lnTo>
                  <a:lnTo>
                    <a:pt x="78" y="0"/>
                  </a:lnTo>
                  <a:lnTo>
                    <a:pt x="69" y="0"/>
                  </a:lnTo>
                  <a:lnTo>
                    <a:pt x="60" y="0"/>
                  </a:lnTo>
                  <a:lnTo>
                    <a:pt x="52" y="1"/>
                  </a:lnTo>
                  <a:lnTo>
                    <a:pt x="45" y="3"/>
                  </a:lnTo>
                  <a:lnTo>
                    <a:pt x="39" y="7"/>
                  </a:lnTo>
                  <a:lnTo>
                    <a:pt x="32" y="10"/>
                  </a:lnTo>
                  <a:lnTo>
                    <a:pt x="28" y="14"/>
                  </a:lnTo>
                  <a:lnTo>
                    <a:pt x="24" y="20"/>
                  </a:lnTo>
                  <a:lnTo>
                    <a:pt x="20" y="26"/>
                  </a:lnTo>
                  <a:lnTo>
                    <a:pt x="17" y="34"/>
                  </a:lnTo>
                  <a:lnTo>
                    <a:pt x="16" y="43"/>
                  </a:lnTo>
                  <a:close/>
                </a:path>
              </a:pathLst>
            </a:custGeom>
            <a:solidFill>
              <a:srgbClr val="82ad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5594400" y="1917720"/>
              <a:ext cx="349200" cy="484200"/>
            </a:xfrm>
            <a:custGeom>
              <a:avLst/>
              <a:gdLst/>
              <a:ahLst/>
              <a:rect l="l" t="t" r="r" b="b"/>
              <a:pathLst>
                <a:path w="1104" h="1526">
                  <a:moveTo>
                    <a:pt x="1103" y="606"/>
                  </a:moveTo>
                  <a:lnTo>
                    <a:pt x="1103" y="609"/>
                  </a:lnTo>
                  <a:lnTo>
                    <a:pt x="1103" y="620"/>
                  </a:lnTo>
                  <a:lnTo>
                    <a:pt x="1102" y="634"/>
                  </a:lnTo>
                  <a:lnTo>
                    <a:pt x="1102" y="653"/>
                  </a:lnTo>
                  <a:lnTo>
                    <a:pt x="1101" y="675"/>
                  </a:lnTo>
                  <a:lnTo>
                    <a:pt x="1101" y="698"/>
                  </a:lnTo>
                  <a:lnTo>
                    <a:pt x="1102" y="720"/>
                  </a:lnTo>
                  <a:lnTo>
                    <a:pt x="1103" y="742"/>
                  </a:lnTo>
                  <a:lnTo>
                    <a:pt x="1104" y="761"/>
                  </a:lnTo>
                  <a:lnTo>
                    <a:pt x="1104" y="782"/>
                  </a:lnTo>
                  <a:lnTo>
                    <a:pt x="1103" y="803"/>
                  </a:lnTo>
                  <a:lnTo>
                    <a:pt x="1101" y="824"/>
                  </a:lnTo>
                  <a:lnTo>
                    <a:pt x="1096" y="847"/>
                  </a:lnTo>
                  <a:lnTo>
                    <a:pt x="1091" y="869"/>
                  </a:lnTo>
                  <a:lnTo>
                    <a:pt x="1085" y="892"/>
                  </a:lnTo>
                  <a:lnTo>
                    <a:pt x="1078" y="915"/>
                  </a:lnTo>
                  <a:lnTo>
                    <a:pt x="1071" y="940"/>
                  </a:lnTo>
                  <a:lnTo>
                    <a:pt x="1065" y="967"/>
                  </a:lnTo>
                  <a:lnTo>
                    <a:pt x="1058" y="996"/>
                  </a:lnTo>
                  <a:lnTo>
                    <a:pt x="1052" y="1025"/>
                  </a:lnTo>
                  <a:lnTo>
                    <a:pt x="1048" y="1055"/>
                  </a:lnTo>
                  <a:lnTo>
                    <a:pt x="1042" y="1083"/>
                  </a:lnTo>
                  <a:lnTo>
                    <a:pt x="1038" y="1109"/>
                  </a:lnTo>
                  <a:lnTo>
                    <a:pt x="1034" y="1132"/>
                  </a:lnTo>
                  <a:lnTo>
                    <a:pt x="1031" y="1144"/>
                  </a:lnTo>
                  <a:lnTo>
                    <a:pt x="1028" y="1156"/>
                  </a:lnTo>
                  <a:lnTo>
                    <a:pt x="1023" y="1169"/>
                  </a:lnTo>
                  <a:lnTo>
                    <a:pt x="1016" y="1181"/>
                  </a:lnTo>
                  <a:lnTo>
                    <a:pt x="1009" y="1194"/>
                  </a:lnTo>
                  <a:lnTo>
                    <a:pt x="1000" y="1208"/>
                  </a:lnTo>
                  <a:lnTo>
                    <a:pt x="990" y="1221"/>
                  </a:lnTo>
                  <a:lnTo>
                    <a:pt x="981" y="1235"/>
                  </a:lnTo>
                  <a:lnTo>
                    <a:pt x="959" y="1261"/>
                  </a:lnTo>
                  <a:lnTo>
                    <a:pt x="936" y="1285"/>
                  </a:lnTo>
                  <a:lnTo>
                    <a:pt x="913" y="1307"/>
                  </a:lnTo>
                  <a:lnTo>
                    <a:pt x="891" y="1325"/>
                  </a:lnTo>
                  <a:lnTo>
                    <a:pt x="868" y="1342"/>
                  </a:lnTo>
                  <a:lnTo>
                    <a:pt x="845" y="1361"/>
                  </a:lnTo>
                  <a:lnTo>
                    <a:pt x="821" y="1380"/>
                  </a:lnTo>
                  <a:lnTo>
                    <a:pt x="798" y="1399"/>
                  </a:lnTo>
                  <a:lnTo>
                    <a:pt x="776" y="1417"/>
                  </a:lnTo>
                  <a:lnTo>
                    <a:pt x="757" y="1432"/>
                  </a:lnTo>
                  <a:lnTo>
                    <a:pt x="740" y="1446"/>
                  </a:lnTo>
                  <a:lnTo>
                    <a:pt x="725" y="1456"/>
                  </a:lnTo>
                  <a:lnTo>
                    <a:pt x="712" y="1467"/>
                  </a:lnTo>
                  <a:lnTo>
                    <a:pt x="697" y="1478"/>
                  </a:lnTo>
                  <a:lnTo>
                    <a:pt x="679" y="1490"/>
                  </a:lnTo>
                  <a:lnTo>
                    <a:pt x="660" y="1502"/>
                  </a:lnTo>
                  <a:lnTo>
                    <a:pt x="649" y="1508"/>
                  </a:lnTo>
                  <a:lnTo>
                    <a:pt x="637" y="1512"/>
                  </a:lnTo>
                  <a:lnTo>
                    <a:pt x="625" y="1516"/>
                  </a:lnTo>
                  <a:lnTo>
                    <a:pt x="612" y="1520"/>
                  </a:lnTo>
                  <a:lnTo>
                    <a:pt x="598" y="1523"/>
                  </a:lnTo>
                  <a:lnTo>
                    <a:pt x="584" y="1525"/>
                  </a:lnTo>
                  <a:lnTo>
                    <a:pt x="568" y="1526"/>
                  </a:lnTo>
                  <a:lnTo>
                    <a:pt x="552" y="1525"/>
                  </a:lnTo>
                  <a:lnTo>
                    <a:pt x="533" y="1524"/>
                  </a:lnTo>
                  <a:lnTo>
                    <a:pt x="515" y="1522"/>
                  </a:lnTo>
                  <a:lnTo>
                    <a:pt x="497" y="1520"/>
                  </a:lnTo>
                  <a:lnTo>
                    <a:pt x="478" y="1515"/>
                  </a:lnTo>
                  <a:lnTo>
                    <a:pt x="459" y="1511"/>
                  </a:lnTo>
                  <a:lnTo>
                    <a:pt x="439" y="1507"/>
                  </a:lnTo>
                  <a:lnTo>
                    <a:pt x="420" y="1500"/>
                  </a:lnTo>
                  <a:lnTo>
                    <a:pt x="402" y="1494"/>
                  </a:lnTo>
                  <a:lnTo>
                    <a:pt x="382" y="1486"/>
                  </a:lnTo>
                  <a:lnTo>
                    <a:pt x="364" y="1478"/>
                  </a:lnTo>
                  <a:lnTo>
                    <a:pt x="347" y="1470"/>
                  </a:lnTo>
                  <a:lnTo>
                    <a:pt x="329" y="1460"/>
                  </a:lnTo>
                  <a:lnTo>
                    <a:pt x="312" y="1449"/>
                  </a:lnTo>
                  <a:lnTo>
                    <a:pt x="297" y="1439"/>
                  </a:lnTo>
                  <a:lnTo>
                    <a:pt x="282" y="1427"/>
                  </a:lnTo>
                  <a:lnTo>
                    <a:pt x="268" y="1414"/>
                  </a:lnTo>
                  <a:lnTo>
                    <a:pt x="239" y="1388"/>
                  </a:lnTo>
                  <a:lnTo>
                    <a:pt x="209" y="1361"/>
                  </a:lnTo>
                  <a:lnTo>
                    <a:pt x="180" y="1332"/>
                  </a:lnTo>
                  <a:lnTo>
                    <a:pt x="152" y="1304"/>
                  </a:lnTo>
                  <a:lnTo>
                    <a:pt x="125" y="1275"/>
                  </a:lnTo>
                  <a:lnTo>
                    <a:pt x="101" y="1248"/>
                  </a:lnTo>
                  <a:lnTo>
                    <a:pt x="81" y="1224"/>
                  </a:lnTo>
                  <a:lnTo>
                    <a:pt x="65" y="1202"/>
                  </a:lnTo>
                  <a:lnTo>
                    <a:pt x="57" y="1191"/>
                  </a:lnTo>
                  <a:lnTo>
                    <a:pt x="51" y="1179"/>
                  </a:lnTo>
                  <a:lnTo>
                    <a:pt x="44" y="1167"/>
                  </a:lnTo>
                  <a:lnTo>
                    <a:pt x="39" y="1153"/>
                  </a:lnTo>
                  <a:lnTo>
                    <a:pt x="29" y="1125"/>
                  </a:lnTo>
                  <a:lnTo>
                    <a:pt x="21" y="1097"/>
                  </a:lnTo>
                  <a:lnTo>
                    <a:pt x="15" y="1070"/>
                  </a:lnTo>
                  <a:lnTo>
                    <a:pt x="12" y="1046"/>
                  </a:lnTo>
                  <a:lnTo>
                    <a:pt x="9" y="1027"/>
                  </a:lnTo>
                  <a:lnTo>
                    <a:pt x="11" y="1014"/>
                  </a:lnTo>
                  <a:lnTo>
                    <a:pt x="11" y="1000"/>
                  </a:lnTo>
                  <a:lnTo>
                    <a:pt x="11" y="980"/>
                  </a:lnTo>
                  <a:lnTo>
                    <a:pt x="8" y="953"/>
                  </a:lnTo>
                  <a:lnTo>
                    <a:pt x="5" y="922"/>
                  </a:lnTo>
                  <a:lnTo>
                    <a:pt x="3" y="890"/>
                  </a:lnTo>
                  <a:lnTo>
                    <a:pt x="1" y="856"/>
                  </a:lnTo>
                  <a:lnTo>
                    <a:pt x="0" y="825"/>
                  </a:lnTo>
                  <a:lnTo>
                    <a:pt x="1" y="796"/>
                  </a:lnTo>
                  <a:lnTo>
                    <a:pt x="4" y="764"/>
                  </a:lnTo>
                  <a:lnTo>
                    <a:pt x="11" y="725"/>
                  </a:lnTo>
                  <a:lnTo>
                    <a:pt x="18" y="683"/>
                  </a:lnTo>
                  <a:lnTo>
                    <a:pt x="27" y="639"/>
                  </a:lnTo>
                  <a:lnTo>
                    <a:pt x="35" y="600"/>
                  </a:lnTo>
                  <a:lnTo>
                    <a:pt x="43" y="569"/>
                  </a:lnTo>
                  <a:lnTo>
                    <a:pt x="48" y="548"/>
                  </a:lnTo>
                  <a:lnTo>
                    <a:pt x="49" y="539"/>
                  </a:lnTo>
                  <a:lnTo>
                    <a:pt x="97" y="166"/>
                  </a:lnTo>
                  <a:lnTo>
                    <a:pt x="473" y="0"/>
                  </a:lnTo>
                  <a:lnTo>
                    <a:pt x="774" y="5"/>
                  </a:lnTo>
                  <a:lnTo>
                    <a:pt x="781" y="8"/>
                  </a:lnTo>
                  <a:lnTo>
                    <a:pt x="800" y="14"/>
                  </a:lnTo>
                  <a:lnTo>
                    <a:pt x="827" y="25"/>
                  </a:lnTo>
                  <a:lnTo>
                    <a:pt x="861" y="39"/>
                  </a:lnTo>
                  <a:lnTo>
                    <a:pt x="897" y="55"/>
                  </a:lnTo>
                  <a:lnTo>
                    <a:pt x="933" y="74"/>
                  </a:lnTo>
                  <a:lnTo>
                    <a:pt x="949" y="84"/>
                  </a:lnTo>
                  <a:lnTo>
                    <a:pt x="966" y="95"/>
                  </a:lnTo>
                  <a:lnTo>
                    <a:pt x="980" y="106"/>
                  </a:lnTo>
                  <a:lnTo>
                    <a:pt x="991" y="117"/>
                  </a:lnTo>
                  <a:lnTo>
                    <a:pt x="1002" y="128"/>
                  </a:lnTo>
                  <a:lnTo>
                    <a:pt x="1013" y="143"/>
                  </a:lnTo>
                  <a:lnTo>
                    <a:pt x="1023" y="158"/>
                  </a:lnTo>
                  <a:lnTo>
                    <a:pt x="1033" y="175"/>
                  </a:lnTo>
                  <a:lnTo>
                    <a:pt x="1042" y="193"/>
                  </a:lnTo>
                  <a:lnTo>
                    <a:pt x="1051" y="212"/>
                  </a:lnTo>
                  <a:lnTo>
                    <a:pt x="1058" y="230"/>
                  </a:lnTo>
                  <a:lnTo>
                    <a:pt x="1066" y="248"/>
                  </a:lnTo>
                  <a:lnTo>
                    <a:pt x="1080" y="283"/>
                  </a:lnTo>
                  <a:lnTo>
                    <a:pt x="1090" y="312"/>
                  </a:lnTo>
                  <a:lnTo>
                    <a:pt x="1096" y="332"/>
                  </a:lnTo>
                  <a:lnTo>
                    <a:pt x="1098" y="339"/>
                  </a:lnTo>
                  <a:lnTo>
                    <a:pt x="1103" y="606"/>
                  </a:lnTo>
                  <a:close/>
                </a:path>
              </a:pathLst>
            </a:custGeom>
            <a:solidFill>
              <a:srgbClr val="9a76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5594400" y="2089080"/>
              <a:ext cx="349200" cy="312840"/>
            </a:xfrm>
            <a:custGeom>
              <a:avLst/>
              <a:gdLst/>
              <a:ahLst/>
              <a:rect l="l" t="t" r="r" b="b"/>
              <a:pathLst>
                <a:path w="1104" h="985">
                  <a:moveTo>
                    <a:pt x="1" y="255"/>
                  </a:moveTo>
                  <a:lnTo>
                    <a:pt x="0" y="284"/>
                  </a:lnTo>
                  <a:lnTo>
                    <a:pt x="1" y="315"/>
                  </a:lnTo>
                  <a:lnTo>
                    <a:pt x="3" y="349"/>
                  </a:lnTo>
                  <a:lnTo>
                    <a:pt x="5" y="381"/>
                  </a:lnTo>
                  <a:lnTo>
                    <a:pt x="8" y="412"/>
                  </a:lnTo>
                  <a:lnTo>
                    <a:pt x="11" y="439"/>
                  </a:lnTo>
                  <a:lnTo>
                    <a:pt x="11" y="459"/>
                  </a:lnTo>
                  <a:lnTo>
                    <a:pt x="11" y="473"/>
                  </a:lnTo>
                  <a:lnTo>
                    <a:pt x="9" y="486"/>
                  </a:lnTo>
                  <a:lnTo>
                    <a:pt x="12" y="505"/>
                  </a:lnTo>
                  <a:lnTo>
                    <a:pt x="15" y="529"/>
                  </a:lnTo>
                  <a:lnTo>
                    <a:pt x="21" y="556"/>
                  </a:lnTo>
                  <a:lnTo>
                    <a:pt x="29" y="584"/>
                  </a:lnTo>
                  <a:lnTo>
                    <a:pt x="39" y="612"/>
                  </a:lnTo>
                  <a:lnTo>
                    <a:pt x="44" y="626"/>
                  </a:lnTo>
                  <a:lnTo>
                    <a:pt x="51" y="638"/>
                  </a:lnTo>
                  <a:lnTo>
                    <a:pt x="57" y="650"/>
                  </a:lnTo>
                  <a:lnTo>
                    <a:pt x="65" y="661"/>
                  </a:lnTo>
                  <a:lnTo>
                    <a:pt x="81" y="683"/>
                  </a:lnTo>
                  <a:lnTo>
                    <a:pt x="101" y="707"/>
                  </a:lnTo>
                  <a:lnTo>
                    <a:pt x="125" y="734"/>
                  </a:lnTo>
                  <a:lnTo>
                    <a:pt x="152" y="763"/>
                  </a:lnTo>
                  <a:lnTo>
                    <a:pt x="180" y="791"/>
                  </a:lnTo>
                  <a:lnTo>
                    <a:pt x="209" y="820"/>
                  </a:lnTo>
                  <a:lnTo>
                    <a:pt x="239" y="847"/>
                  </a:lnTo>
                  <a:lnTo>
                    <a:pt x="268" y="873"/>
                  </a:lnTo>
                  <a:lnTo>
                    <a:pt x="282" y="886"/>
                  </a:lnTo>
                  <a:lnTo>
                    <a:pt x="297" y="898"/>
                  </a:lnTo>
                  <a:lnTo>
                    <a:pt x="312" y="908"/>
                  </a:lnTo>
                  <a:lnTo>
                    <a:pt x="329" y="919"/>
                  </a:lnTo>
                  <a:lnTo>
                    <a:pt x="347" y="929"/>
                  </a:lnTo>
                  <a:lnTo>
                    <a:pt x="364" y="937"/>
                  </a:lnTo>
                  <a:lnTo>
                    <a:pt x="382" y="945"/>
                  </a:lnTo>
                  <a:lnTo>
                    <a:pt x="402" y="953"/>
                  </a:lnTo>
                  <a:lnTo>
                    <a:pt x="420" y="959"/>
                  </a:lnTo>
                  <a:lnTo>
                    <a:pt x="439" y="966"/>
                  </a:lnTo>
                  <a:lnTo>
                    <a:pt x="459" y="970"/>
                  </a:lnTo>
                  <a:lnTo>
                    <a:pt x="478" y="974"/>
                  </a:lnTo>
                  <a:lnTo>
                    <a:pt x="497" y="979"/>
                  </a:lnTo>
                  <a:lnTo>
                    <a:pt x="515" y="981"/>
                  </a:lnTo>
                  <a:lnTo>
                    <a:pt x="533" y="983"/>
                  </a:lnTo>
                  <a:lnTo>
                    <a:pt x="552" y="984"/>
                  </a:lnTo>
                  <a:lnTo>
                    <a:pt x="568" y="985"/>
                  </a:lnTo>
                  <a:lnTo>
                    <a:pt x="584" y="984"/>
                  </a:lnTo>
                  <a:lnTo>
                    <a:pt x="598" y="982"/>
                  </a:lnTo>
                  <a:lnTo>
                    <a:pt x="612" y="979"/>
                  </a:lnTo>
                  <a:lnTo>
                    <a:pt x="625" y="975"/>
                  </a:lnTo>
                  <a:lnTo>
                    <a:pt x="637" y="971"/>
                  </a:lnTo>
                  <a:lnTo>
                    <a:pt x="649" y="967"/>
                  </a:lnTo>
                  <a:lnTo>
                    <a:pt x="660" y="961"/>
                  </a:lnTo>
                  <a:lnTo>
                    <a:pt x="679" y="949"/>
                  </a:lnTo>
                  <a:lnTo>
                    <a:pt x="697" y="937"/>
                  </a:lnTo>
                  <a:lnTo>
                    <a:pt x="712" y="926"/>
                  </a:lnTo>
                  <a:lnTo>
                    <a:pt x="725" y="915"/>
                  </a:lnTo>
                  <a:lnTo>
                    <a:pt x="740" y="905"/>
                  </a:lnTo>
                  <a:lnTo>
                    <a:pt x="757" y="891"/>
                  </a:lnTo>
                  <a:lnTo>
                    <a:pt x="776" y="876"/>
                  </a:lnTo>
                  <a:lnTo>
                    <a:pt x="798" y="858"/>
                  </a:lnTo>
                  <a:lnTo>
                    <a:pt x="821" y="839"/>
                  </a:lnTo>
                  <a:lnTo>
                    <a:pt x="845" y="820"/>
                  </a:lnTo>
                  <a:lnTo>
                    <a:pt x="868" y="801"/>
                  </a:lnTo>
                  <a:lnTo>
                    <a:pt x="891" y="784"/>
                  </a:lnTo>
                  <a:lnTo>
                    <a:pt x="913" y="766"/>
                  </a:lnTo>
                  <a:lnTo>
                    <a:pt x="936" y="744"/>
                  </a:lnTo>
                  <a:lnTo>
                    <a:pt x="959" y="720"/>
                  </a:lnTo>
                  <a:lnTo>
                    <a:pt x="981" y="694"/>
                  </a:lnTo>
                  <a:lnTo>
                    <a:pt x="990" y="680"/>
                  </a:lnTo>
                  <a:lnTo>
                    <a:pt x="1000" y="667"/>
                  </a:lnTo>
                  <a:lnTo>
                    <a:pt x="1009" y="653"/>
                  </a:lnTo>
                  <a:lnTo>
                    <a:pt x="1016" y="640"/>
                  </a:lnTo>
                  <a:lnTo>
                    <a:pt x="1023" y="628"/>
                  </a:lnTo>
                  <a:lnTo>
                    <a:pt x="1028" y="615"/>
                  </a:lnTo>
                  <a:lnTo>
                    <a:pt x="1031" y="603"/>
                  </a:lnTo>
                  <a:lnTo>
                    <a:pt x="1034" y="591"/>
                  </a:lnTo>
                  <a:lnTo>
                    <a:pt x="1038" y="568"/>
                  </a:lnTo>
                  <a:lnTo>
                    <a:pt x="1042" y="542"/>
                  </a:lnTo>
                  <a:lnTo>
                    <a:pt x="1048" y="514"/>
                  </a:lnTo>
                  <a:lnTo>
                    <a:pt x="1052" y="484"/>
                  </a:lnTo>
                  <a:lnTo>
                    <a:pt x="1058" y="455"/>
                  </a:lnTo>
                  <a:lnTo>
                    <a:pt x="1065" y="426"/>
                  </a:lnTo>
                  <a:lnTo>
                    <a:pt x="1071" y="399"/>
                  </a:lnTo>
                  <a:lnTo>
                    <a:pt x="1078" y="374"/>
                  </a:lnTo>
                  <a:lnTo>
                    <a:pt x="1085" y="351"/>
                  </a:lnTo>
                  <a:lnTo>
                    <a:pt x="1091" y="328"/>
                  </a:lnTo>
                  <a:lnTo>
                    <a:pt x="1096" y="306"/>
                  </a:lnTo>
                  <a:lnTo>
                    <a:pt x="1101" y="283"/>
                  </a:lnTo>
                  <a:lnTo>
                    <a:pt x="1103" y="262"/>
                  </a:lnTo>
                  <a:lnTo>
                    <a:pt x="1104" y="241"/>
                  </a:lnTo>
                  <a:lnTo>
                    <a:pt x="1104" y="220"/>
                  </a:lnTo>
                  <a:lnTo>
                    <a:pt x="1103" y="201"/>
                  </a:lnTo>
                  <a:lnTo>
                    <a:pt x="1102" y="179"/>
                  </a:lnTo>
                  <a:lnTo>
                    <a:pt x="1101" y="157"/>
                  </a:lnTo>
                  <a:lnTo>
                    <a:pt x="1101" y="134"/>
                  </a:lnTo>
                  <a:lnTo>
                    <a:pt x="1102" y="112"/>
                  </a:lnTo>
                  <a:lnTo>
                    <a:pt x="1102" y="93"/>
                  </a:lnTo>
                  <a:lnTo>
                    <a:pt x="1103" y="79"/>
                  </a:lnTo>
                  <a:lnTo>
                    <a:pt x="1103" y="68"/>
                  </a:lnTo>
                  <a:lnTo>
                    <a:pt x="1103" y="65"/>
                  </a:lnTo>
                  <a:lnTo>
                    <a:pt x="1101" y="0"/>
                  </a:lnTo>
                  <a:lnTo>
                    <a:pt x="1096" y="3"/>
                  </a:lnTo>
                  <a:lnTo>
                    <a:pt x="1083" y="12"/>
                  </a:lnTo>
                  <a:lnTo>
                    <a:pt x="1066" y="25"/>
                  </a:lnTo>
                  <a:lnTo>
                    <a:pt x="1047" y="40"/>
                  </a:lnTo>
                  <a:lnTo>
                    <a:pt x="1037" y="49"/>
                  </a:lnTo>
                  <a:lnTo>
                    <a:pt x="1028" y="58"/>
                  </a:lnTo>
                  <a:lnTo>
                    <a:pt x="1020" y="67"/>
                  </a:lnTo>
                  <a:lnTo>
                    <a:pt x="1013" y="77"/>
                  </a:lnTo>
                  <a:lnTo>
                    <a:pt x="1008" y="85"/>
                  </a:lnTo>
                  <a:lnTo>
                    <a:pt x="1004" y="95"/>
                  </a:lnTo>
                  <a:lnTo>
                    <a:pt x="1003" y="99"/>
                  </a:lnTo>
                  <a:lnTo>
                    <a:pt x="1003" y="104"/>
                  </a:lnTo>
                  <a:lnTo>
                    <a:pt x="1003" y="108"/>
                  </a:lnTo>
                  <a:lnTo>
                    <a:pt x="1004" y="111"/>
                  </a:lnTo>
                  <a:lnTo>
                    <a:pt x="1007" y="121"/>
                  </a:lnTo>
                  <a:lnTo>
                    <a:pt x="1008" y="132"/>
                  </a:lnTo>
                  <a:lnTo>
                    <a:pt x="1009" y="145"/>
                  </a:lnTo>
                  <a:lnTo>
                    <a:pt x="1009" y="158"/>
                  </a:lnTo>
                  <a:lnTo>
                    <a:pt x="1008" y="172"/>
                  </a:lnTo>
                  <a:lnTo>
                    <a:pt x="1005" y="187"/>
                  </a:lnTo>
                  <a:lnTo>
                    <a:pt x="1003" y="202"/>
                  </a:lnTo>
                  <a:lnTo>
                    <a:pt x="1000" y="217"/>
                  </a:lnTo>
                  <a:lnTo>
                    <a:pt x="997" y="231"/>
                  </a:lnTo>
                  <a:lnTo>
                    <a:pt x="993" y="245"/>
                  </a:lnTo>
                  <a:lnTo>
                    <a:pt x="988" y="258"/>
                  </a:lnTo>
                  <a:lnTo>
                    <a:pt x="984" y="270"/>
                  </a:lnTo>
                  <a:lnTo>
                    <a:pt x="978" y="281"/>
                  </a:lnTo>
                  <a:lnTo>
                    <a:pt x="972" y="289"/>
                  </a:lnTo>
                  <a:lnTo>
                    <a:pt x="967" y="296"/>
                  </a:lnTo>
                  <a:lnTo>
                    <a:pt x="960" y="299"/>
                  </a:lnTo>
                  <a:lnTo>
                    <a:pt x="954" y="302"/>
                  </a:lnTo>
                  <a:lnTo>
                    <a:pt x="947" y="307"/>
                  </a:lnTo>
                  <a:lnTo>
                    <a:pt x="942" y="310"/>
                  </a:lnTo>
                  <a:lnTo>
                    <a:pt x="936" y="315"/>
                  </a:lnTo>
                  <a:lnTo>
                    <a:pt x="927" y="324"/>
                  </a:lnTo>
                  <a:lnTo>
                    <a:pt x="917" y="334"/>
                  </a:lnTo>
                  <a:lnTo>
                    <a:pt x="913" y="338"/>
                  </a:lnTo>
                  <a:lnTo>
                    <a:pt x="907" y="341"/>
                  </a:lnTo>
                  <a:lnTo>
                    <a:pt x="902" y="345"/>
                  </a:lnTo>
                  <a:lnTo>
                    <a:pt x="896" y="348"/>
                  </a:lnTo>
                  <a:lnTo>
                    <a:pt x="891" y="349"/>
                  </a:lnTo>
                  <a:lnTo>
                    <a:pt x="885" y="350"/>
                  </a:lnTo>
                  <a:lnTo>
                    <a:pt x="878" y="350"/>
                  </a:lnTo>
                  <a:lnTo>
                    <a:pt x="870" y="349"/>
                  </a:lnTo>
                  <a:lnTo>
                    <a:pt x="863" y="348"/>
                  </a:lnTo>
                  <a:lnTo>
                    <a:pt x="855" y="348"/>
                  </a:lnTo>
                  <a:lnTo>
                    <a:pt x="848" y="348"/>
                  </a:lnTo>
                  <a:lnTo>
                    <a:pt x="840" y="350"/>
                  </a:lnTo>
                  <a:lnTo>
                    <a:pt x="834" y="352"/>
                  </a:lnTo>
                  <a:lnTo>
                    <a:pt x="827" y="356"/>
                  </a:lnTo>
                  <a:lnTo>
                    <a:pt x="821" y="361"/>
                  </a:lnTo>
                  <a:lnTo>
                    <a:pt x="816" y="366"/>
                  </a:lnTo>
                  <a:lnTo>
                    <a:pt x="812" y="373"/>
                  </a:lnTo>
                  <a:lnTo>
                    <a:pt x="809" y="379"/>
                  </a:lnTo>
                  <a:lnTo>
                    <a:pt x="808" y="388"/>
                  </a:lnTo>
                  <a:lnTo>
                    <a:pt x="808" y="396"/>
                  </a:lnTo>
                  <a:lnTo>
                    <a:pt x="810" y="406"/>
                  </a:lnTo>
                  <a:lnTo>
                    <a:pt x="813" y="417"/>
                  </a:lnTo>
                  <a:lnTo>
                    <a:pt x="819" y="429"/>
                  </a:lnTo>
                  <a:lnTo>
                    <a:pt x="826" y="441"/>
                  </a:lnTo>
                  <a:lnTo>
                    <a:pt x="835" y="454"/>
                  </a:lnTo>
                  <a:lnTo>
                    <a:pt x="842" y="468"/>
                  </a:lnTo>
                  <a:lnTo>
                    <a:pt x="848" y="482"/>
                  </a:lnTo>
                  <a:lnTo>
                    <a:pt x="853" y="496"/>
                  </a:lnTo>
                  <a:lnTo>
                    <a:pt x="856" y="511"/>
                  </a:lnTo>
                  <a:lnTo>
                    <a:pt x="860" y="525"/>
                  </a:lnTo>
                  <a:lnTo>
                    <a:pt x="862" y="539"/>
                  </a:lnTo>
                  <a:lnTo>
                    <a:pt x="863" y="553"/>
                  </a:lnTo>
                  <a:lnTo>
                    <a:pt x="863" y="566"/>
                  </a:lnTo>
                  <a:lnTo>
                    <a:pt x="863" y="579"/>
                  </a:lnTo>
                  <a:lnTo>
                    <a:pt x="862" y="591"/>
                  </a:lnTo>
                  <a:lnTo>
                    <a:pt x="861" y="603"/>
                  </a:lnTo>
                  <a:lnTo>
                    <a:pt x="859" y="612"/>
                  </a:lnTo>
                  <a:lnTo>
                    <a:pt x="856" y="622"/>
                  </a:lnTo>
                  <a:lnTo>
                    <a:pt x="853" y="630"/>
                  </a:lnTo>
                  <a:lnTo>
                    <a:pt x="851" y="636"/>
                  </a:lnTo>
                  <a:lnTo>
                    <a:pt x="841" y="655"/>
                  </a:lnTo>
                  <a:lnTo>
                    <a:pt x="833" y="670"/>
                  </a:lnTo>
                  <a:lnTo>
                    <a:pt x="824" y="683"/>
                  </a:lnTo>
                  <a:lnTo>
                    <a:pt x="815" y="692"/>
                  </a:lnTo>
                  <a:lnTo>
                    <a:pt x="808" y="702"/>
                  </a:lnTo>
                  <a:lnTo>
                    <a:pt x="800" y="711"/>
                  </a:lnTo>
                  <a:lnTo>
                    <a:pt x="793" y="718"/>
                  </a:lnTo>
                  <a:lnTo>
                    <a:pt x="784" y="727"/>
                  </a:lnTo>
                  <a:lnTo>
                    <a:pt x="774" y="738"/>
                  </a:lnTo>
                  <a:lnTo>
                    <a:pt x="765" y="750"/>
                  </a:lnTo>
                  <a:lnTo>
                    <a:pt x="755" y="764"/>
                  </a:lnTo>
                  <a:lnTo>
                    <a:pt x="745" y="780"/>
                  </a:lnTo>
                  <a:lnTo>
                    <a:pt x="734" y="797"/>
                  </a:lnTo>
                  <a:lnTo>
                    <a:pt x="725" y="817"/>
                  </a:lnTo>
                  <a:lnTo>
                    <a:pt x="715" y="837"/>
                  </a:lnTo>
                  <a:lnTo>
                    <a:pt x="705" y="859"/>
                  </a:lnTo>
                  <a:lnTo>
                    <a:pt x="703" y="863"/>
                  </a:lnTo>
                  <a:lnTo>
                    <a:pt x="699" y="868"/>
                  </a:lnTo>
                  <a:lnTo>
                    <a:pt x="694" y="874"/>
                  </a:lnTo>
                  <a:lnTo>
                    <a:pt x="690" y="878"/>
                  </a:lnTo>
                  <a:lnTo>
                    <a:pt x="677" y="887"/>
                  </a:lnTo>
                  <a:lnTo>
                    <a:pt x="662" y="895"/>
                  </a:lnTo>
                  <a:lnTo>
                    <a:pt x="646" y="902"/>
                  </a:lnTo>
                  <a:lnTo>
                    <a:pt x="627" y="907"/>
                  </a:lnTo>
                  <a:lnTo>
                    <a:pt x="607" y="912"/>
                  </a:lnTo>
                  <a:lnTo>
                    <a:pt x="587" y="915"/>
                  </a:lnTo>
                  <a:lnTo>
                    <a:pt x="566" y="916"/>
                  </a:lnTo>
                  <a:lnTo>
                    <a:pt x="545" y="915"/>
                  </a:lnTo>
                  <a:lnTo>
                    <a:pt x="536" y="914"/>
                  </a:lnTo>
                  <a:lnTo>
                    <a:pt x="526" y="912"/>
                  </a:lnTo>
                  <a:lnTo>
                    <a:pt x="516" y="909"/>
                  </a:lnTo>
                  <a:lnTo>
                    <a:pt x="506" y="907"/>
                  </a:lnTo>
                  <a:lnTo>
                    <a:pt x="498" y="904"/>
                  </a:lnTo>
                  <a:lnTo>
                    <a:pt x="489" y="900"/>
                  </a:lnTo>
                  <a:lnTo>
                    <a:pt x="482" y="895"/>
                  </a:lnTo>
                  <a:lnTo>
                    <a:pt x="474" y="890"/>
                  </a:lnTo>
                  <a:lnTo>
                    <a:pt x="468" y="885"/>
                  </a:lnTo>
                  <a:lnTo>
                    <a:pt x="461" y="878"/>
                  </a:lnTo>
                  <a:lnTo>
                    <a:pt x="456" y="871"/>
                  </a:lnTo>
                  <a:lnTo>
                    <a:pt x="450" y="863"/>
                  </a:lnTo>
                  <a:lnTo>
                    <a:pt x="449" y="859"/>
                  </a:lnTo>
                  <a:lnTo>
                    <a:pt x="444" y="846"/>
                  </a:lnTo>
                  <a:lnTo>
                    <a:pt x="437" y="828"/>
                  </a:lnTo>
                  <a:lnTo>
                    <a:pt x="429" y="807"/>
                  </a:lnTo>
                  <a:lnTo>
                    <a:pt x="419" y="783"/>
                  </a:lnTo>
                  <a:lnTo>
                    <a:pt x="409" y="761"/>
                  </a:lnTo>
                  <a:lnTo>
                    <a:pt x="399" y="742"/>
                  </a:lnTo>
                  <a:lnTo>
                    <a:pt x="391" y="727"/>
                  </a:lnTo>
                  <a:lnTo>
                    <a:pt x="380" y="714"/>
                  </a:lnTo>
                  <a:lnTo>
                    <a:pt x="363" y="697"/>
                  </a:lnTo>
                  <a:lnTo>
                    <a:pt x="353" y="686"/>
                  </a:lnTo>
                  <a:lnTo>
                    <a:pt x="342" y="675"/>
                  </a:lnTo>
                  <a:lnTo>
                    <a:pt x="334" y="663"/>
                  </a:lnTo>
                  <a:lnTo>
                    <a:pt x="324" y="651"/>
                  </a:lnTo>
                  <a:lnTo>
                    <a:pt x="316" y="638"/>
                  </a:lnTo>
                  <a:lnTo>
                    <a:pt x="311" y="624"/>
                  </a:lnTo>
                  <a:lnTo>
                    <a:pt x="309" y="618"/>
                  </a:lnTo>
                  <a:lnTo>
                    <a:pt x="307" y="611"/>
                  </a:lnTo>
                  <a:lnTo>
                    <a:pt x="305" y="604"/>
                  </a:lnTo>
                  <a:lnTo>
                    <a:pt x="304" y="597"/>
                  </a:lnTo>
                  <a:lnTo>
                    <a:pt x="305" y="590"/>
                  </a:lnTo>
                  <a:lnTo>
                    <a:pt x="307" y="582"/>
                  </a:lnTo>
                  <a:lnTo>
                    <a:pt x="308" y="576"/>
                  </a:lnTo>
                  <a:lnTo>
                    <a:pt x="311" y="568"/>
                  </a:lnTo>
                  <a:lnTo>
                    <a:pt x="314" y="561"/>
                  </a:lnTo>
                  <a:lnTo>
                    <a:pt x="320" y="554"/>
                  </a:lnTo>
                  <a:lnTo>
                    <a:pt x="325" y="547"/>
                  </a:lnTo>
                  <a:lnTo>
                    <a:pt x="331" y="539"/>
                  </a:lnTo>
                  <a:lnTo>
                    <a:pt x="347" y="525"/>
                  </a:lnTo>
                  <a:lnTo>
                    <a:pt x="361" y="512"/>
                  </a:lnTo>
                  <a:lnTo>
                    <a:pt x="376" y="499"/>
                  </a:lnTo>
                  <a:lnTo>
                    <a:pt x="390" y="487"/>
                  </a:lnTo>
                  <a:lnTo>
                    <a:pt x="416" y="466"/>
                  </a:lnTo>
                  <a:lnTo>
                    <a:pt x="436" y="446"/>
                  </a:lnTo>
                  <a:lnTo>
                    <a:pt x="445" y="436"/>
                  </a:lnTo>
                  <a:lnTo>
                    <a:pt x="451" y="427"/>
                  </a:lnTo>
                  <a:lnTo>
                    <a:pt x="453" y="422"/>
                  </a:lnTo>
                  <a:lnTo>
                    <a:pt x="456" y="417"/>
                  </a:lnTo>
                  <a:lnTo>
                    <a:pt x="457" y="413"/>
                  </a:lnTo>
                  <a:lnTo>
                    <a:pt x="457" y="407"/>
                  </a:lnTo>
                  <a:lnTo>
                    <a:pt x="457" y="402"/>
                  </a:lnTo>
                  <a:lnTo>
                    <a:pt x="457" y="397"/>
                  </a:lnTo>
                  <a:lnTo>
                    <a:pt x="455" y="392"/>
                  </a:lnTo>
                  <a:lnTo>
                    <a:pt x="452" y="387"/>
                  </a:lnTo>
                  <a:lnTo>
                    <a:pt x="449" y="381"/>
                  </a:lnTo>
                  <a:lnTo>
                    <a:pt x="446" y="376"/>
                  </a:lnTo>
                  <a:lnTo>
                    <a:pt x="442" y="369"/>
                  </a:lnTo>
                  <a:lnTo>
                    <a:pt x="435" y="364"/>
                  </a:lnTo>
                  <a:lnTo>
                    <a:pt x="431" y="360"/>
                  </a:lnTo>
                  <a:lnTo>
                    <a:pt x="424" y="355"/>
                  </a:lnTo>
                  <a:lnTo>
                    <a:pt x="419" y="352"/>
                  </a:lnTo>
                  <a:lnTo>
                    <a:pt x="411" y="349"/>
                  </a:lnTo>
                  <a:lnTo>
                    <a:pt x="398" y="345"/>
                  </a:lnTo>
                  <a:lnTo>
                    <a:pt x="383" y="341"/>
                  </a:lnTo>
                  <a:lnTo>
                    <a:pt x="367" y="339"/>
                  </a:lnTo>
                  <a:lnTo>
                    <a:pt x="350" y="339"/>
                  </a:lnTo>
                  <a:lnTo>
                    <a:pt x="334" y="339"/>
                  </a:lnTo>
                  <a:lnTo>
                    <a:pt x="316" y="339"/>
                  </a:lnTo>
                  <a:lnTo>
                    <a:pt x="282" y="340"/>
                  </a:lnTo>
                  <a:lnTo>
                    <a:pt x="249" y="340"/>
                  </a:lnTo>
                  <a:lnTo>
                    <a:pt x="235" y="338"/>
                  </a:lnTo>
                  <a:lnTo>
                    <a:pt x="221" y="335"/>
                  </a:lnTo>
                  <a:lnTo>
                    <a:pt x="215" y="333"/>
                  </a:lnTo>
                  <a:lnTo>
                    <a:pt x="209" y="331"/>
                  </a:lnTo>
                  <a:lnTo>
                    <a:pt x="203" y="327"/>
                  </a:lnTo>
                  <a:lnTo>
                    <a:pt x="199" y="324"/>
                  </a:lnTo>
                  <a:lnTo>
                    <a:pt x="195" y="324"/>
                  </a:lnTo>
                  <a:lnTo>
                    <a:pt x="187" y="322"/>
                  </a:lnTo>
                  <a:lnTo>
                    <a:pt x="180" y="320"/>
                  </a:lnTo>
                  <a:lnTo>
                    <a:pt x="174" y="316"/>
                  </a:lnTo>
                  <a:lnTo>
                    <a:pt x="166" y="313"/>
                  </a:lnTo>
                  <a:lnTo>
                    <a:pt x="159" y="308"/>
                  </a:lnTo>
                  <a:lnTo>
                    <a:pt x="151" y="302"/>
                  </a:lnTo>
                  <a:lnTo>
                    <a:pt x="143" y="295"/>
                  </a:lnTo>
                  <a:lnTo>
                    <a:pt x="136" y="286"/>
                  </a:lnTo>
                  <a:lnTo>
                    <a:pt x="128" y="277"/>
                  </a:lnTo>
                  <a:lnTo>
                    <a:pt x="122" y="265"/>
                  </a:lnTo>
                  <a:lnTo>
                    <a:pt x="115" y="251"/>
                  </a:lnTo>
                  <a:lnTo>
                    <a:pt x="111" y="235"/>
                  </a:lnTo>
                  <a:lnTo>
                    <a:pt x="107" y="218"/>
                  </a:lnTo>
                  <a:lnTo>
                    <a:pt x="102" y="216"/>
                  </a:lnTo>
                  <a:lnTo>
                    <a:pt x="91" y="213"/>
                  </a:lnTo>
                  <a:lnTo>
                    <a:pt x="83" y="211"/>
                  </a:lnTo>
                  <a:lnTo>
                    <a:pt x="74" y="208"/>
                  </a:lnTo>
                  <a:lnTo>
                    <a:pt x="65" y="207"/>
                  </a:lnTo>
                  <a:lnTo>
                    <a:pt x="56" y="207"/>
                  </a:lnTo>
                  <a:lnTo>
                    <a:pt x="46" y="207"/>
                  </a:lnTo>
                  <a:lnTo>
                    <a:pt x="36" y="208"/>
                  </a:lnTo>
                  <a:lnTo>
                    <a:pt x="27" y="212"/>
                  </a:lnTo>
                  <a:lnTo>
                    <a:pt x="19" y="216"/>
                  </a:lnTo>
                  <a:lnTo>
                    <a:pt x="16" y="219"/>
                  </a:lnTo>
                  <a:lnTo>
                    <a:pt x="12" y="223"/>
                  </a:lnTo>
                  <a:lnTo>
                    <a:pt x="9" y="226"/>
                  </a:lnTo>
                  <a:lnTo>
                    <a:pt x="6" y="231"/>
                  </a:lnTo>
                  <a:lnTo>
                    <a:pt x="4" y="235"/>
                  </a:lnTo>
                  <a:lnTo>
                    <a:pt x="2" y="242"/>
                  </a:lnTo>
                  <a:lnTo>
                    <a:pt x="1" y="248"/>
                  </a:lnTo>
                  <a:lnTo>
                    <a:pt x="1" y="255"/>
                  </a:lnTo>
                  <a:close/>
                </a:path>
              </a:pathLst>
            </a:custGeom>
            <a:solidFill>
              <a:srgbClr val="9a76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5637240" y="2108160"/>
              <a:ext cx="139680" cy="87480"/>
            </a:xfrm>
            <a:custGeom>
              <a:avLst/>
              <a:gdLst/>
              <a:ahLst/>
              <a:rect l="l" t="t" r="r" b="b"/>
              <a:pathLst>
                <a:path w="441" h="275">
                  <a:moveTo>
                    <a:pt x="405" y="156"/>
                  </a:moveTo>
                  <a:lnTo>
                    <a:pt x="405" y="155"/>
                  </a:lnTo>
                  <a:lnTo>
                    <a:pt x="407" y="151"/>
                  </a:lnTo>
                  <a:lnTo>
                    <a:pt x="410" y="146"/>
                  </a:lnTo>
                  <a:lnTo>
                    <a:pt x="414" y="140"/>
                  </a:lnTo>
                  <a:lnTo>
                    <a:pt x="418" y="133"/>
                  </a:lnTo>
                  <a:lnTo>
                    <a:pt x="423" y="124"/>
                  </a:lnTo>
                  <a:lnTo>
                    <a:pt x="429" y="117"/>
                  </a:lnTo>
                  <a:lnTo>
                    <a:pt x="434" y="109"/>
                  </a:lnTo>
                  <a:lnTo>
                    <a:pt x="438" y="101"/>
                  </a:lnTo>
                  <a:lnTo>
                    <a:pt x="441" y="91"/>
                  </a:lnTo>
                  <a:lnTo>
                    <a:pt x="441" y="86"/>
                  </a:lnTo>
                  <a:lnTo>
                    <a:pt x="441" y="80"/>
                  </a:lnTo>
                  <a:lnTo>
                    <a:pt x="439" y="75"/>
                  </a:lnTo>
                  <a:lnTo>
                    <a:pt x="437" y="69"/>
                  </a:lnTo>
                  <a:lnTo>
                    <a:pt x="434" y="64"/>
                  </a:lnTo>
                  <a:lnTo>
                    <a:pt x="431" y="59"/>
                  </a:lnTo>
                  <a:lnTo>
                    <a:pt x="427" y="53"/>
                  </a:lnTo>
                  <a:lnTo>
                    <a:pt x="420" y="48"/>
                  </a:lnTo>
                  <a:lnTo>
                    <a:pt x="414" y="43"/>
                  </a:lnTo>
                  <a:lnTo>
                    <a:pt x="405" y="38"/>
                  </a:lnTo>
                  <a:lnTo>
                    <a:pt x="395" y="34"/>
                  </a:lnTo>
                  <a:lnTo>
                    <a:pt x="384" y="31"/>
                  </a:lnTo>
                  <a:lnTo>
                    <a:pt x="355" y="23"/>
                  </a:lnTo>
                  <a:lnTo>
                    <a:pt x="314" y="16"/>
                  </a:lnTo>
                  <a:lnTo>
                    <a:pt x="267" y="10"/>
                  </a:lnTo>
                  <a:lnTo>
                    <a:pt x="217" y="5"/>
                  </a:lnTo>
                  <a:lnTo>
                    <a:pt x="192" y="2"/>
                  </a:lnTo>
                  <a:lnTo>
                    <a:pt x="168" y="1"/>
                  </a:lnTo>
                  <a:lnTo>
                    <a:pt x="146" y="0"/>
                  </a:lnTo>
                  <a:lnTo>
                    <a:pt x="125" y="0"/>
                  </a:lnTo>
                  <a:lnTo>
                    <a:pt x="107" y="1"/>
                  </a:lnTo>
                  <a:lnTo>
                    <a:pt x="91" y="4"/>
                  </a:lnTo>
                  <a:lnTo>
                    <a:pt x="84" y="5"/>
                  </a:lnTo>
                  <a:lnTo>
                    <a:pt x="79" y="6"/>
                  </a:lnTo>
                  <a:lnTo>
                    <a:pt x="74" y="8"/>
                  </a:lnTo>
                  <a:lnTo>
                    <a:pt x="71" y="10"/>
                  </a:lnTo>
                  <a:lnTo>
                    <a:pt x="57" y="20"/>
                  </a:lnTo>
                  <a:lnTo>
                    <a:pt x="43" y="32"/>
                  </a:lnTo>
                  <a:lnTo>
                    <a:pt x="35" y="39"/>
                  </a:lnTo>
                  <a:lnTo>
                    <a:pt x="29" y="47"/>
                  </a:lnTo>
                  <a:lnTo>
                    <a:pt x="22" y="54"/>
                  </a:lnTo>
                  <a:lnTo>
                    <a:pt x="17" y="63"/>
                  </a:lnTo>
                  <a:lnTo>
                    <a:pt x="12" y="72"/>
                  </a:lnTo>
                  <a:lnTo>
                    <a:pt x="7" y="81"/>
                  </a:lnTo>
                  <a:lnTo>
                    <a:pt x="4" y="91"/>
                  </a:lnTo>
                  <a:lnTo>
                    <a:pt x="1" y="101"/>
                  </a:lnTo>
                  <a:lnTo>
                    <a:pt x="0" y="112"/>
                  </a:lnTo>
                  <a:lnTo>
                    <a:pt x="0" y="122"/>
                  </a:lnTo>
                  <a:lnTo>
                    <a:pt x="1" y="133"/>
                  </a:lnTo>
                  <a:lnTo>
                    <a:pt x="4" y="144"/>
                  </a:lnTo>
                  <a:lnTo>
                    <a:pt x="6" y="149"/>
                  </a:lnTo>
                  <a:lnTo>
                    <a:pt x="10" y="156"/>
                  </a:lnTo>
                  <a:lnTo>
                    <a:pt x="14" y="162"/>
                  </a:lnTo>
                  <a:lnTo>
                    <a:pt x="18" y="168"/>
                  </a:lnTo>
                  <a:lnTo>
                    <a:pt x="29" y="180"/>
                  </a:lnTo>
                  <a:lnTo>
                    <a:pt x="43" y="191"/>
                  </a:lnTo>
                  <a:lnTo>
                    <a:pt x="58" y="202"/>
                  </a:lnTo>
                  <a:lnTo>
                    <a:pt x="75" y="213"/>
                  </a:lnTo>
                  <a:lnTo>
                    <a:pt x="94" y="224"/>
                  </a:lnTo>
                  <a:lnTo>
                    <a:pt x="112" y="234"/>
                  </a:lnTo>
                  <a:lnTo>
                    <a:pt x="133" y="242"/>
                  </a:lnTo>
                  <a:lnTo>
                    <a:pt x="152" y="250"/>
                  </a:lnTo>
                  <a:lnTo>
                    <a:pt x="173" y="257"/>
                  </a:lnTo>
                  <a:lnTo>
                    <a:pt x="192" y="264"/>
                  </a:lnTo>
                  <a:lnTo>
                    <a:pt x="210" y="268"/>
                  </a:lnTo>
                  <a:lnTo>
                    <a:pt x="228" y="271"/>
                  </a:lnTo>
                  <a:lnTo>
                    <a:pt x="244" y="274"/>
                  </a:lnTo>
                  <a:lnTo>
                    <a:pt x="259" y="275"/>
                  </a:lnTo>
                  <a:lnTo>
                    <a:pt x="291" y="275"/>
                  </a:lnTo>
                  <a:lnTo>
                    <a:pt x="321" y="274"/>
                  </a:lnTo>
                  <a:lnTo>
                    <a:pt x="334" y="272"/>
                  </a:lnTo>
                  <a:lnTo>
                    <a:pt x="347" y="270"/>
                  </a:lnTo>
                  <a:lnTo>
                    <a:pt x="357" y="267"/>
                  </a:lnTo>
                  <a:lnTo>
                    <a:pt x="368" y="263"/>
                  </a:lnTo>
                  <a:lnTo>
                    <a:pt x="377" y="256"/>
                  </a:lnTo>
                  <a:lnTo>
                    <a:pt x="384" y="249"/>
                  </a:lnTo>
                  <a:lnTo>
                    <a:pt x="391" y="239"/>
                  </a:lnTo>
                  <a:lnTo>
                    <a:pt x="396" y="228"/>
                  </a:lnTo>
                  <a:lnTo>
                    <a:pt x="401" y="214"/>
                  </a:lnTo>
                  <a:lnTo>
                    <a:pt x="404" y="197"/>
                  </a:lnTo>
                  <a:lnTo>
                    <a:pt x="405" y="178"/>
                  </a:lnTo>
                  <a:lnTo>
                    <a:pt x="405" y="156"/>
                  </a:lnTo>
                  <a:close/>
                </a:path>
              </a:pathLst>
            </a:custGeom>
            <a:solidFill>
              <a:srgbClr val="9a76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5710320" y="2249640"/>
              <a:ext cx="118800" cy="57240"/>
            </a:xfrm>
            <a:custGeom>
              <a:avLst/>
              <a:gdLst/>
              <a:ahLst/>
              <a:rect l="l" t="t" r="r" b="b"/>
              <a:pathLst>
                <a:path w="371" h="182">
                  <a:moveTo>
                    <a:pt x="351" y="62"/>
                  </a:moveTo>
                  <a:lnTo>
                    <a:pt x="351" y="64"/>
                  </a:lnTo>
                  <a:lnTo>
                    <a:pt x="353" y="67"/>
                  </a:lnTo>
                  <a:lnTo>
                    <a:pt x="357" y="74"/>
                  </a:lnTo>
                  <a:lnTo>
                    <a:pt x="361" y="80"/>
                  </a:lnTo>
                  <a:lnTo>
                    <a:pt x="364" y="89"/>
                  </a:lnTo>
                  <a:lnTo>
                    <a:pt x="368" y="97"/>
                  </a:lnTo>
                  <a:lnTo>
                    <a:pt x="370" y="106"/>
                  </a:lnTo>
                  <a:lnTo>
                    <a:pt x="371" y="114"/>
                  </a:lnTo>
                  <a:lnTo>
                    <a:pt x="371" y="122"/>
                  </a:lnTo>
                  <a:lnTo>
                    <a:pt x="371" y="131"/>
                  </a:lnTo>
                  <a:lnTo>
                    <a:pt x="370" y="140"/>
                  </a:lnTo>
                  <a:lnTo>
                    <a:pt x="369" y="147"/>
                  </a:lnTo>
                  <a:lnTo>
                    <a:pt x="366" y="151"/>
                  </a:lnTo>
                  <a:lnTo>
                    <a:pt x="365" y="156"/>
                  </a:lnTo>
                  <a:lnTo>
                    <a:pt x="363" y="159"/>
                  </a:lnTo>
                  <a:lnTo>
                    <a:pt x="360" y="161"/>
                  </a:lnTo>
                  <a:lnTo>
                    <a:pt x="357" y="164"/>
                  </a:lnTo>
                  <a:lnTo>
                    <a:pt x="353" y="167"/>
                  </a:lnTo>
                  <a:lnTo>
                    <a:pt x="349" y="168"/>
                  </a:lnTo>
                  <a:lnTo>
                    <a:pt x="344" y="169"/>
                  </a:lnTo>
                  <a:lnTo>
                    <a:pt x="332" y="169"/>
                  </a:lnTo>
                  <a:lnTo>
                    <a:pt x="318" y="167"/>
                  </a:lnTo>
                  <a:lnTo>
                    <a:pt x="304" y="164"/>
                  </a:lnTo>
                  <a:lnTo>
                    <a:pt x="289" y="161"/>
                  </a:lnTo>
                  <a:lnTo>
                    <a:pt x="275" y="158"/>
                  </a:lnTo>
                  <a:lnTo>
                    <a:pt x="262" y="155"/>
                  </a:lnTo>
                  <a:lnTo>
                    <a:pt x="251" y="154"/>
                  </a:lnTo>
                  <a:lnTo>
                    <a:pt x="244" y="154"/>
                  </a:lnTo>
                  <a:lnTo>
                    <a:pt x="238" y="154"/>
                  </a:lnTo>
                  <a:lnTo>
                    <a:pt x="228" y="153"/>
                  </a:lnTo>
                  <a:lnTo>
                    <a:pt x="216" y="151"/>
                  </a:lnTo>
                  <a:lnTo>
                    <a:pt x="201" y="150"/>
                  </a:lnTo>
                  <a:lnTo>
                    <a:pt x="185" y="150"/>
                  </a:lnTo>
                  <a:lnTo>
                    <a:pt x="168" y="153"/>
                  </a:lnTo>
                  <a:lnTo>
                    <a:pt x="159" y="155"/>
                  </a:lnTo>
                  <a:lnTo>
                    <a:pt x="149" y="158"/>
                  </a:lnTo>
                  <a:lnTo>
                    <a:pt x="141" y="161"/>
                  </a:lnTo>
                  <a:lnTo>
                    <a:pt x="131" y="165"/>
                  </a:lnTo>
                  <a:lnTo>
                    <a:pt x="121" y="171"/>
                  </a:lnTo>
                  <a:lnTo>
                    <a:pt x="111" y="175"/>
                  </a:lnTo>
                  <a:lnTo>
                    <a:pt x="101" y="178"/>
                  </a:lnTo>
                  <a:lnTo>
                    <a:pt x="90" y="181"/>
                  </a:lnTo>
                  <a:lnTo>
                    <a:pt x="79" y="182"/>
                  </a:lnTo>
                  <a:lnTo>
                    <a:pt x="68" y="182"/>
                  </a:lnTo>
                  <a:lnTo>
                    <a:pt x="57" y="181"/>
                  </a:lnTo>
                  <a:lnTo>
                    <a:pt x="47" y="180"/>
                  </a:lnTo>
                  <a:lnTo>
                    <a:pt x="37" y="176"/>
                  </a:lnTo>
                  <a:lnTo>
                    <a:pt x="28" y="174"/>
                  </a:lnTo>
                  <a:lnTo>
                    <a:pt x="20" y="170"/>
                  </a:lnTo>
                  <a:lnTo>
                    <a:pt x="13" y="164"/>
                  </a:lnTo>
                  <a:lnTo>
                    <a:pt x="7" y="159"/>
                  </a:lnTo>
                  <a:lnTo>
                    <a:pt x="2" y="154"/>
                  </a:lnTo>
                  <a:lnTo>
                    <a:pt x="0" y="146"/>
                  </a:lnTo>
                  <a:lnTo>
                    <a:pt x="0" y="138"/>
                  </a:lnTo>
                  <a:lnTo>
                    <a:pt x="1" y="130"/>
                  </a:lnTo>
                  <a:lnTo>
                    <a:pt x="3" y="121"/>
                  </a:lnTo>
                  <a:lnTo>
                    <a:pt x="7" y="111"/>
                  </a:lnTo>
                  <a:lnTo>
                    <a:pt x="10" y="102"/>
                  </a:lnTo>
                  <a:lnTo>
                    <a:pt x="21" y="82"/>
                  </a:lnTo>
                  <a:lnTo>
                    <a:pt x="33" y="64"/>
                  </a:lnTo>
                  <a:lnTo>
                    <a:pt x="46" y="46"/>
                  </a:lnTo>
                  <a:lnTo>
                    <a:pt x="60" y="29"/>
                  </a:lnTo>
                  <a:lnTo>
                    <a:pt x="73" y="15"/>
                  </a:lnTo>
                  <a:lnTo>
                    <a:pt x="83" y="6"/>
                  </a:lnTo>
                  <a:lnTo>
                    <a:pt x="88" y="3"/>
                  </a:lnTo>
                  <a:lnTo>
                    <a:pt x="92" y="2"/>
                  </a:lnTo>
                  <a:lnTo>
                    <a:pt x="97" y="1"/>
                  </a:lnTo>
                  <a:lnTo>
                    <a:pt x="103" y="0"/>
                  </a:lnTo>
                  <a:lnTo>
                    <a:pt x="118" y="1"/>
                  </a:lnTo>
                  <a:lnTo>
                    <a:pt x="136" y="3"/>
                  </a:lnTo>
                  <a:lnTo>
                    <a:pt x="156" y="6"/>
                  </a:lnTo>
                  <a:lnTo>
                    <a:pt x="177" y="10"/>
                  </a:lnTo>
                  <a:lnTo>
                    <a:pt x="200" y="15"/>
                  </a:lnTo>
                  <a:lnTo>
                    <a:pt x="223" y="21"/>
                  </a:lnTo>
                  <a:lnTo>
                    <a:pt x="268" y="33"/>
                  </a:lnTo>
                  <a:lnTo>
                    <a:pt x="307" y="45"/>
                  </a:lnTo>
                  <a:lnTo>
                    <a:pt x="323" y="50"/>
                  </a:lnTo>
                  <a:lnTo>
                    <a:pt x="336" y="55"/>
                  </a:lnTo>
                  <a:lnTo>
                    <a:pt x="346" y="60"/>
                  </a:lnTo>
                  <a:lnTo>
                    <a:pt x="351" y="62"/>
                  </a:lnTo>
                  <a:close/>
                </a:path>
              </a:pathLst>
            </a:custGeom>
            <a:solidFill>
              <a:srgbClr val="9a76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5718240" y="2254320"/>
              <a:ext cx="104760" cy="50760"/>
            </a:xfrm>
            <a:custGeom>
              <a:avLst/>
              <a:gdLst/>
              <a:ahLst/>
              <a:rect l="l" t="t" r="r" b="b"/>
              <a:pathLst>
                <a:path w="331" h="161">
                  <a:moveTo>
                    <a:pt x="0" y="122"/>
                  </a:moveTo>
                  <a:lnTo>
                    <a:pt x="1" y="115"/>
                  </a:lnTo>
                  <a:lnTo>
                    <a:pt x="3" y="107"/>
                  </a:lnTo>
                  <a:lnTo>
                    <a:pt x="5" y="99"/>
                  </a:lnTo>
                  <a:lnTo>
                    <a:pt x="10" y="90"/>
                  </a:lnTo>
                  <a:lnTo>
                    <a:pt x="18" y="73"/>
                  </a:lnTo>
                  <a:lnTo>
                    <a:pt x="29" y="56"/>
                  </a:lnTo>
                  <a:lnTo>
                    <a:pt x="41" y="40"/>
                  </a:lnTo>
                  <a:lnTo>
                    <a:pt x="54" y="25"/>
                  </a:lnTo>
                  <a:lnTo>
                    <a:pt x="66" y="13"/>
                  </a:lnTo>
                  <a:lnTo>
                    <a:pt x="77" y="4"/>
                  </a:lnTo>
                  <a:lnTo>
                    <a:pt x="80" y="3"/>
                  </a:lnTo>
                  <a:lnTo>
                    <a:pt x="83" y="2"/>
                  </a:lnTo>
                  <a:lnTo>
                    <a:pt x="88" y="0"/>
                  </a:lnTo>
                  <a:lnTo>
                    <a:pt x="94" y="0"/>
                  </a:lnTo>
                  <a:lnTo>
                    <a:pt x="107" y="0"/>
                  </a:lnTo>
                  <a:lnTo>
                    <a:pt x="123" y="3"/>
                  </a:lnTo>
                  <a:lnTo>
                    <a:pt x="140" y="5"/>
                  </a:lnTo>
                  <a:lnTo>
                    <a:pt x="160" y="8"/>
                  </a:lnTo>
                  <a:lnTo>
                    <a:pt x="179" y="13"/>
                  </a:lnTo>
                  <a:lnTo>
                    <a:pt x="200" y="18"/>
                  </a:lnTo>
                  <a:lnTo>
                    <a:pt x="240" y="29"/>
                  </a:lnTo>
                  <a:lnTo>
                    <a:pt x="275" y="39"/>
                  </a:lnTo>
                  <a:lnTo>
                    <a:pt x="289" y="45"/>
                  </a:lnTo>
                  <a:lnTo>
                    <a:pt x="301" y="49"/>
                  </a:lnTo>
                  <a:lnTo>
                    <a:pt x="310" y="53"/>
                  </a:lnTo>
                  <a:lnTo>
                    <a:pt x="314" y="56"/>
                  </a:lnTo>
                  <a:lnTo>
                    <a:pt x="315" y="58"/>
                  </a:lnTo>
                  <a:lnTo>
                    <a:pt x="316" y="61"/>
                  </a:lnTo>
                  <a:lnTo>
                    <a:pt x="320" y="65"/>
                  </a:lnTo>
                  <a:lnTo>
                    <a:pt x="323" y="72"/>
                  </a:lnTo>
                  <a:lnTo>
                    <a:pt x="326" y="79"/>
                  </a:lnTo>
                  <a:lnTo>
                    <a:pt x="328" y="86"/>
                  </a:lnTo>
                  <a:lnTo>
                    <a:pt x="330" y="93"/>
                  </a:lnTo>
                  <a:lnTo>
                    <a:pt x="331" y="101"/>
                  </a:lnTo>
                  <a:lnTo>
                    <a:pt x="331" y="107"/>
                  </a:lnTo>
                  <a:lnTo>
                    <a:pt x="331" y="115"/>
                  </a:lnTo>
                  <a:lnTo>
                    <a:pt x="330" y="124"/>
                  </a:lnTo>
                  <a:lnTo>
                    <a:pt x="329" y="131"/>
                  </a:lnTo>
                  <a:lnTo>
                    <a:pt x="326" y="138"/>
                  </a:lnTo>
                  <a:lnTo>
                    <a:pt x="322" y="144"/>
                  </a:lnTo>
                  <a:lnTo>
                    <a:pt x="319" y="146"/>
                  </a:lnTo>
                  <a:lnTo>
                    <a:pt x="315" y="147"/>
                  </a:lnTo>
                  <a:lnTo>
                    <a:pt x="311" y="149"/>
                  </a:lnTo>
                  <a:lnTo>
                    <a:pt x="307" y="149"/>
                  </a:lnTo>
                  <a:lnTo>
                    <a:pt x="296" y="149"/>
                  </a:lnTo>
                  <a:lnTo>
                    <a:pt x="284" y="148"/>
                  </a:lnTo>
                  <a:lnTo>
                    <a:pt x="271" y="145"/>
                  </a:lnTo>
                  <a:lnTo>
                    <a:pt x="258" y="143"/>
                  </a:lnTo>
                  <a:lnTo>
                    <a:pt x="245" y="140"/>
                  </a:lnTo>
                  <a:lnTo>
                    <a:pt x="234" y="137"/>
                  </a:lnTo>
                  <a:lnTo>
                    <a:pt x="226" y="135"/>
                  </a:lnTo>
                  <a:lnTo>
                    <a:pt x="220" y="135"/>
                  </a:lnTo>
                  <a:lnTo>
                    <a:pt x="214" y="135"/>
                  </a:lnTo>
                  <a:lnTo>
                    <a:pt x="205" y="134"/>
                  </a:lnTo>
                  <a:lnTo>
                    <a:pt x="193" y="133"/>
                  </a:lnTo>
                  <a:lnTo>
                    <a:pt x="180" y="133"/>
                  </a:lnTo>
                  <a:lnTo>
                    <a:pt x="165" y="133"/>
                  </a:lnTo>
                  <a:lnTo>
                    <a:pt x="150" y="135"/>
                  </a:lnTo>
                  <a:lnTo>
                    <a:pt x="141" y="138"/>
                  </a:lnTo>
                  <a:lnTo>
                    <a:pt x="133" y="140"/>
                  </a:lnTo>
                  <a:lnTo>
                    <a:pt x="125" y="143"/>
                  </a:lnTo>
                  <a:lnTo>
                    <a:pt x="116" y="147"/>
                  </a:lnTo>
                  <a:lnTo>
                    <a:pt x="108" y="152"/>
                  </a:lnTo>
                  <a:lnTo>
                    <a:pt x="99" y="156"/>
                  </a:lnTo>
                  <a:lnTo>
                    <a:pt x="89" y="158"/>
                  </a:lnTo>
                  <a:lnTo>
                    <a:pt x="80" y="160"/>
                  </a:lnTo>
                  <a:lnTo>
                    <a:pt x="70" y="161"/>
                  </a:lnTo>
                  <a:lnTo>
                    <a:pt x="60" y="161"/>
                  </a:lnTo>
                  <a:lnTo>
                    <a:pt x="51" y="160"/>
                  </a:lnTo>
                  <a:lnTo>
                    <a:pt x="42" y="159"/>
                  </a:lnTo>
                  <a:lnTo>
                    <a:pt x="32" y="157"/>
                  </a:lnTo>
                  <a:lnTo>
                    <a:pt x="25" y="154"/>
                  </a:lnTo>
                  <a:lnTo>
                    <a:pt x="17" y="151"/>
                  </a:lnTo>
                  <a:lnTo>
                    <a:pt x="12" y="146"/>
                  </a:lnTo>
                  <a:lnTo>
                    <a:pt x="6" y="141"/>
                  </a:lnTo>
                  <a:lnTo>
                    <a:pt x="3" y="135"/>
                  </a:lnTo>
                  <a:lnTo>
                    <a:pt x="1" y="129"/>
                  </a:lnTo>
                  <a:lnTo>
                    <a:pt x="0" y="122"/>
                  </a:lnTo>
                  <a:close/>
                </a:path>
              </a:pathLst>
            </a:custGeom>
            <a:solidFill>
              <a:srgbClr val="a27a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5724360" y="2259000"/>
              <a:ext cx="93960" cy="44640"/>
            </a:xfrm>
            <a:custGeom>
              <a:avLst/>
              <a:gdLst/>
              <a:ahLst/>
              <a:rect l="l" t="t" r="r" b="b"/>
              <a:pathLst>
                <a:path w="291" h="144">
                  <a:moveTo>
                    <a:pt x="0" y="109"/>
                  </a:moveTo>
                  <a:lnTo>
                    <a:pt x="1" y="103"/>
                  </a:lnTo>
                  <a:lnTo>
                    <a:pt x="2" y="95"/>
                  </a:lnTo>
                  <a:lnTo>
                    <a:pt x="5" y="89"/>
                  </a:lnTo>
                  <a:lnTo>
                    <a:pt x="8" y="81"/>
                  </a:lnTo>
                  <a:lnTo>
                    <a:pt x="16" y="65"/>
                  </a:lnTo>
                  <a:lnTo>
                    <a:pt x="25" y="50"/>
                  </a:lnTo>
                  <a:lnTo>
                    <a:pt x="36" y="36"/>
                  </a:lnTo>
                  <a:lnTo>
                    <a:pt x="47" y="22"/>
                  </a:lnTo>
                  <a:lnTo>
                    <a:pt x="57" y="11"/>
                  </a:lnTo>
                  <a:lnTo>
                    <a:pt x="66" y="4"/>
                  </a:lnTo>
                  <a:lnTo>
                    <a:pt x="72" y="1"/>
                  </a:lnTo>
                  <a:lnTo>
                    <a:pt x="81" y="0"/>
                  </a:lnTo>
                  <a:lnTo>
                    <a:pt x="92" y="1"/>
                  </a:lnTo>
                  <a:lnTo>
                    <a:pt x="106" y="4"/>
                  </a:lnTo>
                  <a:lnTo>
                    <a:pt x="139" y="9"/>
                  </a:lnTo>
                  <a:lnTo>
                    <a:pt x="175" y="18"/>
                  </a:lnTo>
                  <a:lnTo>
                    <a:pt x="210" y="27"/>
                  </a:lnTo>
                  <a:lnTo>
                    <a:pt x="241" y="37"/>
                  </a:lnTo>
                  <a:lnTo>
                    <a:pt x="264" y="45"/>
                  </a:lnTo>
                  <a:lnTo>
                    <a:pt x="276" y="50"/>
                  </a:lnTo>
                  <a:lnTo>
                    <a:pt x="277" y="51"/>
                  </a:lnTo>
                  <a:lnTo>
                    <a:pt x="278" y="54"/>
                  </a:lnTo>
                  <a:lnTo>
                    <a:pt x="281" y="59"/>
                  </a:lnTo>
                  <a:lnTo>
                    <a:pt x="284" y="64"/>
                  </a:lnTo>
                  <a:lnTo>
                    <a:pt x="287" y="71"/>
                  </a:lnTo>
                  <a:lnTo>
                    <a:pt x="289" y="77"/>
                  </a:lnTo>
                  <a:lnTo>
                    <a:pt x="290" y="84"/>
                  </a:lnTo>
                  <a:lnTo>
                    <a:pt x="291" y="90"/>
                  </a:lnTo>
                  <a:lnTo>
                    <a:pt x="291" y="97"/>
                  </a:lnTo>
                  <a:lnTo>
                    <a:pt x="291" y="103"/>
                  </a:lnTo>
                  <a:lnTo>
                    <a:pt x="290" y="109"/>
                  </a:lnTo>
                  <a:lnTo>
                    <a:pt x="289" y="117"/>
                  </a:lnTo>
                  <a:lnTo>
                    <a:pt x="287" y="124"/>
                  </a:lnTo>
                  <a:lnTo>
                    <a:pt x="283" y="129"/>
                  </a:lnTo>
                  <a:lnTo>
                    <a:pt x="280" y="131"/>
                  </a:lnTo>
                  <a:lnTo>
                    <a:pt x="277" y="132"/>
                  </a:lnTo>
                  <a:lnTo>
                    <a:pt x="273" y="133"/>
                  </a:lnTo>
                  <a:lnTo>
                    <a:pt x="268" y="134"/>
                  </a:lnTo>
                  <a:lnTo>
                    <a:pt x="260" y="134"/>
                  </a:lnTo>
                  <a:lnTo>
                    <a:pt x="249" y="132"/>
                  </a:lnTo>
                  <a:lnTo>
                    <a:pt x="237" y="130"/>
                  </a:lnTo>
                  <a:lnTo>
                    <a:pt x="226" y="127"/>
                  </a:lnTo>
                  <a:lnTo>
                    <a:pt x="214" y="125"/>
                  </a:lnTo>
                  <a:lnTo>
                    <a:pt x="205" y="122"/>
                  </a:lnTo>
                  <a:lnTo>
                    <a:pt x="197" y="120"/>
                  </a:lnTo>
                  <a:lnTo>
                    <a:pt x="192" y="119"/>
                  </a:lnTo>
                  <a:lnTo>
                    <a:pt x="187" y="120"/>
                  </a:lnTo>
                  <a:lnTo>
                    <a:pt x="179" y="119"/>
                  </a:lnTo>
                  <a:lnTo>
                    <a:pt x="169" y="119"/>
                  </a:lnTo>
                  <a:lnTo>
                    <a:pt x="158" y="118"/>
                  </a:lnTo>
                  <a:lnTo>
                    <a:pt x="145" y="119"/>
                  </a:lnTo>
                  <a:lnTo>
                    <a:pt x="131" y="121"/>
                  </a:lnTo>
                  <a:lnTo>
                    <a:pt x="125" y="122"/>
                  </a:lnTo>
                  <a:lnTo>
                    <a:pt x="117" y="125"/>
                  </a:lnTo>
                  <a:lnTo>
                    <a:pt x="110" y="128"/>
                  </a:lnTo>
                  <a:lnTo>
                    <a:pt x="103" y="132"/>
                  </a:lnTo>
                  <a:lnTo>
                    <a:pt x="96" y="135"/>
                  </a:lnTo>
                  <a:lnTo>
                    <a:pt x="88" y="139"/>
                  </a:lnTo>
                  <a:lnTo>
                    <a:pt x="79" y="141"/>
                  </a:lnTo>
                  <a:lnTo>
                    <a:pt x="71" y="143"/>
                  </a:lnTo>
                  <a:lnTo>
                    <a:pt x="62" y="144"/>
                  </a:lnTo>
                  <a:lnTo>
                    <a:pt x="54" y="144"/>
                  </a:lnTo>
                  <a:lnTo>
                    <a:pt x="46" y="143"/>
                  </a:lnTo>
                  <a:lnTo>
                    <a:pt x="37" y="142"/>
                  </a:lnTo>
                  <a:lnTo>
                    <a:pt x="30" y="141"/>
                  </a:lnTo>
                  <a:lnTo>
                    <a:pt x="22" y="138"/>
                  </a:lnTo>
                  <a:lnTo>
                    <a:pt x="16" y="134"/>
                  </a:lnTo>
                  <a:lnTo>
                    <a:pt x="10" y="131"/>
                  </a:lnTo>
                  <a:lnTo>
                    <a:pt x="6" y="127"/>
                  </a:lnTo>
                  <a:lnTo>
                    <a:pt x="3" y="121"/>
                  </a:lnTo>
                  <a:lnTo>
                    <a:pt x="1" y="116"/>
                  </a:lnTo>
                  <a:lnTo>
                    <a:pt x="0" y="109"/>
                  </a:lnTo>
                  <a:close/>
                </a:path>
              </a:pathLst>
            </a:custGeom>
            <a:solidFill>
              <a:srgbClr val="a57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5732280" y="2263680"/>
              <a:ext cx="79560" cy="39960"/>
            </a:xfrm>
            <a:custGeom>
              <a:avLst/>
              <a:gdLst/>
              <a:ahLst/>
              <a:rect l="l" t="t" r="r" b="b"/>
              <a:pathLst>
                <a:path w="250" h="124">
                  <a:moveTo>
                    <a:pt x="0" y="93"/>
                  </a:moveTo>
                  <a:lnTo>
                    <a:pt x="0" y="88"/>
                  </a:lnTo>
                  <a:lnTo>
                    <a:pt x="1" y="82"/>
                  </a:lnTo>
                  <a:lnTo>
                    <a:pt x="4" y="75"/>
                  </a:lnTo>
                  <a:lnTo>
                    <a:pt x="6" y="69"/>
                  </a:lnTo>
                  <a:lnTo>
                    <a:pt x="13" y="56"/>
                  </a:lnTo>
                  <a:lnTo>
                    <a:pt x="21" y="43"/>
                  </a:lnTo>
                  <a:lnTo>
                    <a:pt x="31" y="30"/>
                  </a:lnTo>
                  <a:lnTo>
                    <a:pt x="39" y="19"/>
                  </a:lnTo>
                  <a:lnTo>
                    <a:pt x="49" y="9"/>
                  </a:lnTo>
                  <a:lnTo>
                    <a:pt x="57" y="3"/>
                  </a:lnTo>
                  <a:lnTo>
                    <a:pt x="62" y="1"/>
                  </a:lnTo>
                  <a:lnTo>
                    <a:pt x="69" y="0"/>
                  </a:lnTo>
                  <a:lnTo>
                    <a:pt x="80" y="0"/>
                  </a:lnTo>
                  <a:lnTo>
                    <a:pt x="92" y="1"/>
                  </a:lnTo>
                  <a:lnTo>
                    <a:pt x="120" y="6"/>
                  </a:lnTo>
                  <a:lnTo>
                    <a:pt x="151" y="14"/>
                  </a:lnTo>
                  <a:lnTo>
                    <a:pt x="181" y="22"/>
                  </a:lnTo>
                  <a:lnTo>
                    <a:pt x="207" y="31"/>
                  </a:lnTo>
                  <a:lnTo>
                    <a:pt x="226" y="37"/>
                  </a:lnTo>
                  <a:lnTo>
                    <a:pt x="235" y="42"/>
                  </a:lnTo>
                  <a:lnTo>
                    <a:pt x="236" y="43"/>
                  </a:lnTo>
                  <a:lnTo>
                    <a:pt x="237" y="46"/>
                  </a:lnTo>
                  <a:lnTo>
                    <a:pt x="239" y="49"/>
                  </a:lnTo>
                  <a:lnTo>
                    <a:pt x="242" y="55"/>
                  </a:lnTo>
                  <a:lnTo>
                    <a:pt x="246" y="60"/>
                  </a:lnTo>
                  <a:lnTo>
                    <a:pt x="248" y="65"/>
                  </a:lnTo>
                  <a:lnTo>
                    <a:pt x="249" y="72"/>
                  </a:lnTo>
                  <a:lnTo>
                    <a:pt x="250" y="76"/>
                  </a:lnTo>
                  <a:lnTo>
                    <a:pt x="250" y="82"/>
                  </a:lnTo>
                  <a:lnTo>
                    <a:pt x="250" y="87"/>
                  </a:lnTo>
                  <a:lnTo>
                    <a:pt x="249" y="93"/>
                  </a:lnTo>
                  <a:lnTo>
                    <a:pt x="248" y="100"/>
                  </a:lnTo>
                  <a:lnTo>
                    <a:pt x="244" y="105"/>
                  </a:lnTo>
                  <a:lnTo>
                    <a:pt x="241" y="110"/>
                  </a:lnTo>
                  <a:lnTo>
                    <a:pt x="239" y="111"/>
                  </a:lnTo>
                  <a:lnTo>
                    <a:pt x="237" y="113"/>
                  </a:lnTo>
                  <a:lnTo>
                    <a:pt x="234" y="113"/>
                  </a:lnTo>
                  <a:lnTo>
                    <a:pt x="230" y="114"/>
                  </a:lnTo>
                  <a:lnTo>
                    <a:pt x="223" y="114"/>
                  </a:lnTo>
                  <a:lnTo>
                    <a:pt x="213" y="113"/>
                  </a:lnTo>
                  <a:lnTo>
                    <a:pt x="203" y="111"/>
                  </a:lnTo>
                  <a:lnTo>
                    <a:pt x="194" y="109"/>
                  </a:lnTo>
                  <a:lnTo>
                    <a:pt x="184" y="106"/>
                  </a:lnTo>
                  <a:lnTo>
                    <a:pt x="175" y="104"/>
                  </a:lnTo>
                  <a:lnTo>
                    <a:pt x="168" y="103"/>
                  </a:lnTo>
                  <a:lnTo>
                    <a:pt x="163" y="103"/>
                  </a:lnTo>
                  <a:lnTo>
                    <a:pt x="159" y="103"/>
                  </a:lnTo>
                  <a:lnTo>
                    <a:pt x="153" y="102"/>
                  </a:lnTo>
                  <a:lnTo>
                    <a:pt x="144" y="101"/>
                  </a:lnTo>
                  <a:lnTo>
                    <a:pt x="134" y="101"/>
                  </a:lnTo>
                  <a:lnTo>
                    <a:pt x="124" y="102"/>
                  </a:lnTo>
                  <a:lnTo>
                    <a:pt x="111" y="103"/>
                  </a:lnTo>
                  <a:lnTo>
                    <a:pt x="99" y="108"/>
                  </a:lnTo>
                  <a:lnTo>
                    <a:pt x="87" y="114"/>
                  </a:lnTo>
                  <a:lnTo>
                    <a:pt x="80" y="117"/>
                  </a:lnTo>
                  <a:lnTo>
                    <a:pt x="74" y="119"/>
                  </a:lnTo>
                  <a:lnTo>
                    <a:pt x="66" y="122"/>
                  </a:lnTo>
                  <a:lnTo>
                    <a:pt x="59" y="123"/>
                  </a:lnTo>
                  <a:lnTo>
                    <a:pt x="52" y="124"/>
                  </a:lnTo>
                  <a:lnTo>
                    <a:pt x="45" y="124"/>
                  </a:lnTo>
                  <a:lnTo>
                    <a:pt x="37" y="124"/>
                  </a:lnTo>
                  <a:lnTo>
                    <a:pt x="31" y="123"/>
                  </a:lnTo>
                  <a:lnTo>
                    <a:pt x="24" y="120"/>
                  </a:lnTo>
                  <a:lnTo>
                    <a:pt x="18" y="118"/>
                  </a:lnTo>
                  <a:lnTo>
                    <a:pt x="12" y="115"/>
                  </a:lnTo>
                  <a:lnTo>
                    <a:pt x="8" y="112"/>
                  </a:lnTo>
                  <a:lnTo>
                    <a:pt x="5" y="109"/>
                  </a:lnTo>
                  <a:lnTo>
                    <a:pt x="1" y="104"/>
                  </a:lnTo>
                  <a:lnTo>
                    <a:pt x="0" y="99"/>
                  </a:lnTo>
                  <a:lnTo>
                    <a:pt x="0" y="93"/>
                  </a:lnTo>
                  <a:close/>
                </a:path>
              </a:pathLst>
            </a:custGeom>
            <a:solidFill>
              <a:srgbClr val="ac83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5740200" y="2268720"/>
              <a:ext cx="66960" cy="31680"/>
            </a:xfrm>
            <a:custGeom>
              <a:avLst/>
              <a:gdLst/>
              <a:ahLst/>
              <a:rect l="l" t="t" r="r" b="b"/>
              <a:pathLst>
                <a:path w="211" h="103">
                  <a:moveTo>
                    <a:pt x="0" y="78"/>
                  </a:moveTo>
                  <a:lnTo>
                    <a:pt x="2" y="69"/>
                  </a:lnTo>
                  <a:lnTo>
                    <a:pt x="5" y="58"/>
                  </a:lnTo>
                  <a:lnTo>
                    <a:pt x="11" y="47"/>
                  </a:lnTo>
                  <a:lnTo>
                    <a:pt x="17" y="35"/>
                  </a:lnTo>
                  <a:lnTo>
                    <a:pt x="25" y="26"/>
                  </a:lnTo>
                  <a:lnTo>
                    <a:pt x="32" y="16"/>
                  </a:lnTo>
                  <a:lnTo>
                    <a:pt x="40" y="8"/>
                  </a:lnTo>
                  <a:lnTo>
                    <a:pt x="47" y="2"/>
                  </a:lnTo>
                  <a:lnTo>
                    <a:pt x="52" y="1"/>
                  </a:lnTo>
                  <a:lnTo>
                    <a:pt x="58" y="0"/>
                  </a:lnTo>
                  <a:lnTo>
                    <a:pt x="67" y="0"/>
                  </a:lnTo>
                  <a:lnTo>
                    <a:pt x="77" y="1"/>
                  </a:lnTo>
                  <a:lnTo>
                    <a:pt x="100" y="5"/>
                  </a:lnTo>
                  <a:lnTo>
                    <a:pt x="126" y="12"/>
                  </a:lnTo>
                  <a:lnTo>
                    <a:pt x="151" y="19"/>
                  </a:lnTo>
                  <a:lnTo>
                    <a:pt x="174" y="26"/>
                  </a:lnTo>
                  <a:lnTo>
                    <a:pt x="190" y="31"/>
                  </a:lnTo>
                  <a:lnTo>
                    <a:pt x="198" y="34"/>
                  </a:lnTo>
                  <a:lnTo>
                    <a:pt x="199" y="35"/>
                  </a:lnTo>
                  <a:lnTo>
                    <a:pt x="200" y="37"/>
                  </a:lnTo>
                  <a:lnTo>
                    <a:pt x="202" y="41"/>
                  </a:lnTo>
                  <a:lnTo>
                    <a:pt x="204" y="45"/>
                  </a:lnTo>
                  <a:lnTo>
                    <a:pt x="206" y="50"/>
                  </a:lnTo>
                  <a:lnTo>
                    <a:pt x="208" y="55"/>
                  </a:lnTo>
                  <a:lnTo>
                    <a:pt x="210" y="60"/>
                  </a:lnTo>
                  <a:lnTo>
                    <a:pt x="211" y="63"/>
                  </a:lnTo>
                  <a:lnTo>
                    <a:pt x="211" y="69"/>
                  </a:lnTo>
                  <a:lnTo>
                    <a:pt x="211" y="74"/>
                  </a:lnTo>
                  <a:lnTo>
                    <a:pt x="210" y="78"/>
                  </a:lnTo>
                  <a:lnTo>
                    <a:pt x="208" y="84"/>
                  </a:lnTo>
                  <a:lnTo>
                    <a:pt x="206" y="88"/>
                  </a:lnTo>
                  <a:lnTo>
                    <a:pt x="204" y="91"/>
                  </a:lnTo>
                  <a:lnTo>
                    <a:pt x="201" y="95"/>
                  </a:lnTo>
                  <a:lnTo>
                    <a:pt x="195" y="96"/>
                  </a:lnTo>
                  <a:lnTo>
                    <a:pt x="189" y="96"/>
                  </a:lnTo>
                  <a:lnTo>
                    <a:pt x="180" y="94"/>
                  </a:lnTo>
                  <a:lnTo>
                    <a:pt x="172" y="93"/>
                  </a:lnTo>
                  <a:lnTo>
                    <a:pt x="163" y="90"/>
                  </a:lnTo>
                  <a:lnTo>
                    <a:pt x="156" y="88"/>
                  </a:lnTo>
                  <a:lnTo>
                    <a:pt x="148" y="87"/>
                  </a:lnTo>
                  <a:lnTo>
                    <a:pt x="143" y="86"/>
                  </a:lnTo>
                  <a:lnTo>
                    <a:pt x="138" y="86"/>
                  </a:lnTo>
                  <a:lnTo>
                    <a:pt x="135" y="86"/>
                  </a:lnTo>
                  <a:lnTo>
                    <a:pt x="130" y="86"/>
                  </a:lnTo>
                  <a:lnTo>
                    <a:pt x="122" y="86"/>
                  </a:lnTo>
                  <a:lnTo>
                    <a:pt x="114" y="85"/>
                  </a:lnTo>
                  <a:lnTo>
                    <a:pt x="105" y="85"/>
                  </a:lnTo>
                  <a:lnTo>
                    <a:pt x="95" y="86"/>
                  </a:lnTo>
                  <a:lnTo>
                    <a:pt x="84" y="89"/>
                  </a:lnTo>
                  <a:lnTo>
                    <a:pt x="74" y="94"/>
                  </a:lnTo>
                  <a:lnTo>
                    <a:pt x="69" y="97"/>
                  </a:lnTo>
                  <a:lnTo>
                    <a:pt x="64" y="99"/>
                  </a:lnTo>
                  <a:lnTo>
                    <a:pt x="57" y="101"/>
                  </a:lnTo>
                  <a:lnTo>
                    <a:pt x="51" y="102"/>
                  </a:lnTo>
                  <a:lnTo>
                    <a:pt x="39" y="103"/>
                  </a:lnTo>
                  <a:lnTo>
                    <a:pt x="26" y="102"/>
                  </a:lnTo>
                  <a:lnTo>
                    <a:pt x="20" y="100"/>
                  </a:lnTo>
                  <a:lnTo>
                    <a:pt x="15" y="99"/>
                  </a:lnTo>
                  <a:lnTo>
                    <a:pt x="11" y="97"/>
                  </a:lnTo>
                  <a:lnTo>
                    <a:pt x="8" y="94"/>
                  </a:lnTo>
                  <a:lnTo>
                    <a:pt x="4" y="90"/>
                  </a:lnTo>
                  <a:lnTo>
                    <a:pt x="2" y="87"/>
                  </a:lnTo>
                  <a:lnTo>
                    <a:pt x="0" y="83"/>
                  </a:lnTo>
                  <a:lnTo>
                    <a:pt x="0" y="78"/>
                  </a:lnTo>
                  <a:close/>
                </a:path>
              </a:pathLst>
            </a:custGeom>
            <a:solidFill>
              <a:srgbClr val="b188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5746680" y="2273400"/>
              <a:ext cx="54000" cy="27000"/>
            </a:xfrm>
            <a:custGeom>
              <a:avLst/>
              <a:gdLst/>
              <a:ahLst/>
              <a:rect l="l" t="t" r="r" b="b"/>
              <a:pathLst>
                <a:path w="170" h="84">
                  <a:moveTo>
                    <a:pt x="161" y="29"/>
                  </a:moveTo>
                  <a:lnTo>
                    <a:pt x="161" y="30"/>
                  </a:lnTo>
                  <a:lnTo>
                    <a:pt x="162" y="31"/>
                  </a:lnTo>
                  <a:lnTo>
                    <a:pt x="164" y="34"/>
                  </a:lnTo>
                  <a:lnTo>
                    <a:pt x="165" y="38"/>
                  </a:lnTo>
                  <a:lnTo>
                    <a:pt x="167" y="41"/>
                  </a:lnTo>
                  <a:lnTo>
                    <a:pt x="168" y="45"/>
                  </a:lnTo>
                  <a:lnTo>
                    <a:pt x="169" y="48"/>
                  </a:lnTo>
                  <a:lnTo>
                    <a:pt x="170" y="52"/>
                  </a:lnTo>
                  <a:lnTo>
                    <a:pt x="170" y="55"/>
                  </a:lnTo>
                  <a:lnTo>
                    <a:pt x="170" y="59"/>
                  </a:lnTo>
                  <a:lnTo>
                    <a:pt x="169" y="63"/>
                  </a:lnTo>
                  <a:lnTo>
                    <a:pt x="168" y="68"/>
                  </a:lnTo>
                  <a:lnTo>
                    <a:pt x="167" y="71"/>
                  </a:lnTo>
                  <a:lnTo>
                    <a:pt x="165" y="74"/>
                  </a:lnTo>
                  <a:lnTo>
                    <a:pt x="162" y="78"/>
                  </a:lnTo>
                  <a:lnTo>
                    <a:pt x="157" y="79"/>
                  </a:lnTo>
                  <a:lnTo>
                    <a:pt x="152" y="79"/>
                  </a:lnTo>
                  <a:lnTo>
                    <a:pt x="144" y="78"/>
                  </a:lnTo>
                  <a:lnTo>
                    <a:pt x="138" y="75"/>
                  </a:lnTo>
                  <a:lnTo>
                    <a:pt x="130" y="73"/>
                  </a:lnTo>
                  <a:lnTo>
                    <a:pt x="124" y="72"/>
                  </a:lnTo>
                  <a:lnTo>
                    <a:pt x="118" y="70"/>
                  </a:lnTo>
                  <a:lnTo>
                    <a:pt x="114" y="69"/>
                  </a:lnTo>
                  <a:lnTo>
                    <a:pt x="111" y="69"/>
                  </a:lnTo>
                  <a:lnTo>
                    <a:pt x="108" y="69"/>
                  </a:lnTo>
                  <a:lnTo>
                    <a:pt x="103" y="69"/>
                  </a:lnTo>
                  <a:lnTo>
                    <a:pt x="98" y="69"/>
                  </a:lnTo>
                  <a:lnTo>
                    <a:pt x="91" y="69"/>
                  </a:lnTo>
                  <a:lnTo>
                    <a:pt x="84" y="69"/>
                  </a:lnTo>
                  <a:lnTo>
                    <a:pt x="75" y="70"/>
                  </a:lnTo>
                  <a:lnTo>
                    <a:pt x="68" y="72"/>
                  </a:lnTo>
                  <a:lnTo>
                    <a:pt x="59" y="76"/>
                  </a:lnTo>
                  <a:lnTo>
                    <a:pt x="55" y="79"/>
                  </a:lnTo>
                  <a:lnTo>
                    <a:pt x="49" y="81"/>
                  </a:lnTo>
                  <a:lnTo>
                    <a:pt x="45" y="82"/>
                  </a:lnTo>
                  <a:lnTo>
                    <a:pt x="40" y="83"/>
                  </a:lnTo>
                  <a:lnTo>
                    <a:pt x="30" y="84"/>
                  </a:lnTo>
                  <a:lnTo>
                    <a:pt x="20" y="83"/>
                  </a:lnTo>
                  <a:lnTo>
                    <a:pt x="12" y="80"/>
                  </a:lnTo>
                  <a:lnTo>
                    <a:pt x="5" y="76"/>
                  </a:lnTo>
                  <a:lnTo>
                    <a:pt x="2" y="73"/>
                  </a:lnTo>
                  <a:lnTo>
                    <a:pt x="1" y="71"/>
                  </a:lnTo>
                  <a:lnTo>
                    <a:pt x="0" y="68"/>
                  </a:lnTo>
                  <a:lnTo>
                    <a:pt x="0" y="63"/>
                  </a:lnTo>
                  <a:lnTo>
                    <a:pt x="1" y="56"/>
                  </a:lnTo>
                  <a:lnTo>
                    <a:pt x="4" y="47"/>
                  </a:lnTo>
                  <a:lnTo>
                    <a:pt x="8" y="38"/>
                  </a:lnTo>
                  <a:lnTo>
                    <a:pt x="14" y="29"/>
                  </a:lnTo>
                  <a:lnTo>
                    <a:pt x="19" y="20"/>
                  </a:lnTo>
                  <a:lnTo>
                    <a:pt x="26" y="13"/>
                  </a:lnTo>
                  <a:lnTo>
                    <a:pt x="31" y="6"/>
                  </a:lnTo>
                  <a:lnTo>
                    <a:pt x="36" y="2"/>
                  </a:lnTo>
                  <a:lnTo>
                    <a:pt x="41" y="1"/>
                  </a:lnTo>
                  <a:lnTo>
                    <a:pt x="46" y="0"/>
                  </a:lnTo>
                  <a:lnTo>
                    <a:pt x="53" y="0"/>
                  </a:lnTo>
                  <a:lnTo>
                    <a:pt x="61" y="1"/>
                  </a:lnTo>
                  <a:lnTo>
                    <a:pt x="81" y="4"/>
                  </a:lnTo>
                  <a:lnTo>
                    <a:pt x="101" y="9"/>
                  </a:lnTo>
                  <a:lnTo>
                    <a:pt x="122" y="15"/>
                  </a:lnTo>
                  <a:lnTo>
                    <a:pt x="140" y="20"/>
                  </a:lnTo>
                  <a:lnTo>
                    <a:pt x="153" y="26"/>
                  </a:lnTo>
                  <a:lnTo>
                    <a:pt x="161" y="29"/>
                  </a:lnTo>
                  <a:close/>
                </a:path>
              </a:pathLst>
            </a:custGeom>
            <a:solidFill>
              <a:srgbClr val="b98c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5796000" y="2122560"/>
              <a:ext cx="115920" cy="73080"/>
            </a:xfrm>
            <a:custGeom>
              <a:avLst/>
              <a:gdLst/>
              <a:ahLst/>
              <a:rect l="l" t="t" r="r" b="b"/>
              <a:pathLst>
                <a:path w="365" h="231">
                  <a:moveTo>
                    <a:pt x="161" y="230"/>
                  </a:moveTo>
                  <a:lnTo>
                    <a:pt x="149" y="228"/>
                  </a:lnTo>
                  <a:lnTo>
                    <a:pt x="138" y="224"/>
                  </a:lnTo>
                  <a:lnTo>
                    <a:pt x="128" y="220"/>
                  </a:lnTo>
                  <a:lnTo>
                    <a:pt x="116" y="214"/>
                  </a:lnTo>
                  <a:lnTo>
                    <a:pt x="105" y="207"/>
                  </a:lnTo>
                  <a:lnTo>
                    <a:pt x="95" y="200"/>
                  </a:lnTo>
                  <a:lnTo>
                    <a:pt x="85" y="191"/>
                  </a:lnTo>
                  <a:lnTo>
                    <a:pt x="76" y="183"/>
                  </a:lnTo>
                  <a:lnTo>
                    <a:pt x="58" y="166"/>
                  </a:lnTo>
                  <a:lnTo>
                    <a:pt x="44" y="150"/>
                  </a:lnTo>
                  <a:lnTo>
                    <a:pt x="35" y="136"/>
                  </a:lnTo>
                  <a:lnTo>
                    <a:pt x="29" y="126"/>
                  </a:lnTo>
                  <a:lnTo>
                    <a:pt x="22" y="115"/>
                  </a:lnTo>
                  <a:lnTo>
                    <a:pt x="12" y="99"/>
                  </a:lnTo>
                  <a:lnTo>
                    <a:pt x="7" y="89"/>
                  </a:lnTo>
                  <a:lnTo>
                    <a:pt x="2" y="80"/>
                  </a:lnTo>
                  <a:lnTo>
                    <a:pt x="0" y="69"/>
                  </a:lnTo>
                  <a:lnTo>
                    <a:pt x="0" y="58"/>
                  </a:lnTo>
                  <a:lnTo>
                    <a:pt x="0" y="53"/>
                  </a:lnTo>
                  <a:lnTo>
                    <a:pt x="1" y="47"/>
                  </a:lnTo>
                  <a:lnTo>
                    <a:pt x="3" y="43"/>
                  </a:lnTo>
                  <a:lnTo>
                    <a:pt x="7" y="38"/>
                  </a:lnTo>
                  <a:lnTo>
                    <a:pt x="10" y="33"/>
                  </a:lnTo>
                  <a:lnTo>
                    <a:pt x="15" y="29"/>
                  </a:lnTo>
                  <a:lnTo>
                    <a:pt x="21" y="25"/>
                  </a:lnTo>
                  <a:lnTo>
                    <a:pt x="28" y="20"/>
                  </a:lnTo>
                  <a:lnTo>
                    <a:pt x="36" y="17"/>
                  </a:lnTo>
                  <a:lnTo>
                    <a:pt x="45" y="14"/>
                  </a:lnTo>
                  <a:lnTo>
                    <a:pt x="56" y="11"/>
                  </a:lnTo>
                  <a:lnTo>
                    <a:pt x="68" y="8"/>
                  </a:lnTo>
                  <a:lnTo>
                    <a:pt x="81" y="6"/>
                  </a:lnTo>
                  <a:lnTo>
                    <a:pt x="96" y="4"/>
                  </a:lnTo>
                  <a:lnTo>
                    <a:pt x="112" y="3"/>
                  </a:lnTo>
                  <a:lnTo>
                    <a:pt x="131" y="3"/>
                  </a:lnTo>
                  <a:lnTo>
                    <a:pt x="163" y="2"/>
                  </a:lnTo>
                  <a:lnTo>
                    <a:pt x="197" y="1"/>
                  </a:lnTo>
                  <a:lnTo>
                    <a:pt x="231" y="0"/>
                  </a:lnTo>
                  <a:lnTo>
                    <a:pt x="264" y="1"/>
                  </a:lnTo>
                  <a:lnTo>
                    <a:pt x="280" y="1"/>
                  </a:lnTo>
                  <a:lnTo>
                    <a:pt x="294" y="3"/>
                  </a:lnTo>
                  <a:lnTo>
                    <a:pt x="308" y="5"/>
                  </a:lnTo>
                  <a:lnTo>
                    <a:pt x="320" y="7"/>
                  </a:lnTo>
                  <a:lnTo>
                    <a:pt x="331" y="12"/>
                  </a:lnTo>
                  <a:lnTo>
                    <a:pt x="339" y="16"/>
                  </a:lnTo>
                  <a:lnTo>
                    <a:pt x="342" y="18"/>
                  </a:lnTo>
                  <a:lnTo>
                    <a:pt x="346" y="21"/>
                  </a:lnTo>
                  <a:lnTo>
                    <a:pt x="349" y="25"/>
                  </a:lnTo>
                  <a:lnTo>
                    <a:pt x="351" y="28"/>
                  </a:lnTo>
                  <a:lnTo>
                    <a:pt x="355" y="36"/>
                  </a:lnTo>
                  <a:lnTo>
                    <a:pt x="359" y="46"/>
                  </a:lnTo>
                  <a:lnTo>
                    <a:pt x="362" y="56"/>
                  </a:lnTo>
                  <a:lnTo>
                    <a:pt x="364" y="67"/>
                  </a:lnTo>
                  <a:lnTo>
                    <a:pt x="364" y="76"/>
                  </a:lnTo>
                  <a:lnTo>
                    <a:pt x="365" y="87"/>
                  </a:lnTo>
                  <a:lnTo>
                    <a:pt x="364" y="97"/>
                  </a:lnTo>
                  <a:lnTo>
                    <a:pt x="363" y="108"/>
                  </a:lnTo>
                  <a:lnTo>
                    <a:pt x="362" y="117"/>
                  </a:lnTo>
                  <a:lnTo>
                    <a:pt x="360" y="127"/>
                  </a:lnTo>
                  <a:lnTo>
                    <a:pt x="357" y="136"/>
                  </a:lnTo>
                  <a:lnTo>
                    <a:pt x="353" y="144"/>
                  </a:lnTo>
                  <a:lnTo>
                    <a:pt x="350" y="152"/>
                  </a:lnTo>
                  <a:lnTo>
                    <a:pt x="347" y="160"/>
                  </a:lnTo>
                  <a:lnTo>
                    <a:pt x="342" y="166"/>
                  </a:lnTo>
                  <a:lnTo>
                    <a:pt x="338" y="170"/>
                  </a:lnTo>
                  <a:lnTo>
                    <a:pt x="334" y="174"/>
                  </a:lnTo>
                  <a:lnTo>
                    <a:pt x="322" y="181"/>
                  </a:lnTo>
                  <a:lnTo>
                    <a:pt x="304" y="192"/>
                  </a:lnTo>
                  <a:lnTo>
                    <a:pt x="280" y="204"/>
                  </a:lnTo>
                  <a:lnTo>
                    <a:pt x="267" y="210"/>
                  </a:lnTo>
                  <a:lnTo>
                    <a:pt x="253" y="216"/>
                  </a:lnTo>
                  <a:lnTo>
                    <a:pt x="238" y="221"/>
                  </a:lnTo>
                  <a:lnTo>
                    <a:pt x="223" y="225"/>
                  </a:lnTo>
                  <a:lnTo>
                    <a:pt x="207" y="229"/>
                  </a:lnTo>
                  <a:lnTo>
                    <a:pt x="191" y="231"/>
                  </a:lnTo>
                  <a:lnTo>
                    <a:pt x="176" y="231"/>
                  </a:lnTo>
                  <a:lnTo>
                    <a:pt x="161" y="230"/>
                  </a:lnTo>
                  <a:close/>
                </a:path>
              </a:pathLst>
            </a:custGeom>
            <a:solidFill>
              <a:srgbClr val="936f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5799240" y="2127240"/>
              <a:ext cx="106200" cy="61920"/>
            </a:xfrm>
            <a:custGeom>
              <a:avLst/>
              <a:gdLst/>
              <a:ahLst/>
              <a:rect l="l" t="t" r="r" b="b"/>
              <a:pathLst>
                <a:path w="339" h="199">
                  <a:moveTo>
                    <a:pt x="149" y="198"/>
                  </a:moveTo>
                  <a:lnTo>
                    <a:pt x="139" y="197"/>
                  </a:lnTo>
                  <a:lnTo>
                    <a:pt x="129" y="194"/>
                  </a:lnTo>
                  <a:lnTo>
                    <a:pt x="120" y="190"/>
                  </a:lnTo>
                  <a:lnTo>
                    <a:pt x="110" y="185"/>
                  </a:lnTo>
                  <a:lnTo>
                    <a:pt x="100" y="179"/>
                  </a:lnTo>
                  <a:lnTo>
                    <a:pt x="90" y="172"/>
                  </a:lnTo>
                  <a:lnTo>
                    <a:pt x="82" y="166"/>
                  </a:lnTo>
                  <a:lnTo>
                    <a:pt x="73" y="158"/>
                  </a:lnTo>
                  <a:lnTo>
                    <a:pt x="57" y="144"/>
                  </a:lnTo>
                  <a:lnTo>
                    <a:pt x="44" y="131"/>
                  </a:lnTo>
                  <a:lnTo>
                    <a:pt x="34" y="119"/>
                  </a:lnTo>
                  <a:lnTo>
                    <a:pt x="28" y="112"/>
                  </a:lnTo>
                  <a:lnTo>
                    <a:pt x="20" y="102"/>
                  </a:lnTo>
                  <a:lnTo>
                    <a:pt x="10" y="87"/>
                  </a:lnTo>
                  <a:lnTo>
                    <a:pt x="6" y="80"/>
                  </a:lnTo>
                  <a:lnTo>
                    <a:pt x="3" y="70"/>
                  </a:lnTo>
                  <a:lnTo>
                    <a:pt x="0" y="61"/>
                  </a:lnTo>
                  <a:lnTo>
                    <a:pt x="0" y="53"/>
                  </a:lnTo>
                  <a:lnTo>
                    <a:pt x="0" y="48"/>
                  </a:lnTo>
                  <a:lnTo>
                    <a:pt x="1" y="44"/>
                  </a:lnTo>
                  <a:lnTo>
                    <a:pt x="3" y="40"/>
                  </a:lnTo>
                  <a:lnTo>
                    <a:pt x="5" y="35"/>
                  </a:lnTo>
                  <a:lnTo>
                    <a:pt x="8" y="31"/>
                  </a:lnTo>
                  <a:lnTo>
                    <a:pt x="13" y="28"/>
                  </a:lnTo>
                  <a:lnTo>
                    <a:pt x="18" y="23"/>
                  </a:lnTo>
                  <a:lnTo>
                    <a:pt x="25" y="20"/>
                  </a:lnTo>
                  <a:lnTo>
                    <a:pt x="31" y="18"/>
                  </a:lnTo>
                  <a:lnTo>
                    <a:pt x="40" y="15"/>
                  </a:lnTo>
                  <a:lnTo>
                    <a:pt x="49" y="13"/>
                  </a:lnTo>
                  <a:lnTo>
                    <a:pt x="60" y="10"/>
                  </a:lnTo>
                  <a:lnTo>
                    <a:pt x="86" y="7"/>
                  </a:lnTo>
                  <a:lnTo>
                    <a:pt x="117" y="6"/>
                  </a:lnTo>
                  <a:lnTo>
                    <a:pt x="148" y="4"/>
                  </a:lnTo>
                  <a:lnTo>
                    <a:pt x="179" y="2"/>
                  </a:lnTo>
                  <a:lnTo>
                    <a:pt x="211" y="0"/>
                  </a:lnTo>
                  <a:lnTo>
                    <a:pt x="244" y="0"/>
                  </a:lnTo>
                  <a:lnTo>
                    <a:pt x="258" y="0"/>
                  </a:lnTo>
                  <a:lnTo>
                    <a:pt x="272" y="0"/>
                  </a:lnTo>
                  <a:lnTo>
                    <a:pt x="285" y="1"/>
                  </a:lnTo>
                  <a:lnTo>
                    <a:pt x="297" y="3"/>
                  </a:lnTo>
                  <a:lnTo>
                    <a:pt x="306" y="6"/>
                  </a:lnTo>
                  <a:lnTo>
                    <a:pt x="315" y="9"/>
                  </a:lnTo>
                  <a:lnTo>
                    <a:pt x="319" y="13"/>
                  </a:lnTo>
                  <a:lnTo>
                    <a:pt x="323" y="15"/>
                  </a:lnTo>
                  <a:lnTo>
                    <a:pt x="325" y="17"/>
                  </a:lnTo>
                  <a:lnTo>
                    <a:pt x="327" y="20"/>
                  </a:lnTo>
                  <a:lnTo>
                    <a:pt x="331" y="29"/>
                  </a:lnTo>
                  <a:lnTo>
                    <a:pt x="335" y="37"/>
                  </a:lnTo>
                  <a:lnTo>
                    <a:pt x="337" y="46"/>
                  </a:lnTo>
                  <a:lnTo>
                    <a:pt x="339" y="55"/>
                  </a:lnTo>
                  <a:lnTo>
                    <a:pt x="339" y="64"/>
                  </a:lnTo>
                  <a:lnTo>
                    <a:pt x="339" y="74"/>
                  </a:lnTo>
                  <a:lnTo>
                    <a:pt x="339" y="83"/>
                  </a:lnTo>
                  <a:lnTo>
                    <a:pt x="338" y="92"/>
                  </a:lnTo>
                  <a:lnTo>
                    <a:pt x="333" y="110"/>
                  </a:lnTo>
                  <a:lnTo>
                    <a:pt x="328" y="126"/>
                  </a:lnTo>
                  <a:lnTo>
                    <a:pt x="322" y="140"/>
                  </a:lnTo>
                  <a:lnTo>
                    <a:pt x="315" y="152"/>
                  </a:lnTo>
                  <a:lnTo>
                    <a:pt x="311" y="154"/>
                  </a:lnTo>
                  <a:lnTo>
                    <a:pt x="301" y="161"/>
                  </a:lnTo>
                  <a:lnTo>
                    <a:pt x="285" y="169"/>
                  </a:lnTo>
                  <a:lnTo>
                    <a:pt x="264" y="179"/>
                  </a:lnTo>
                  <a:lnTo>
                    <a:pt x="252" y="183"/>
                  </a:lnTo>
                  <a:lnTo>
                    <a:pt x="240" y="188"/>
                  </a:lnTo>
                  <a:lnTo>
                    <a:pt x="225" y="192"/>
                  </a:lnTo>
                  <a:lnTo>
                    <a:pt x="211" y="195"/>
                  </a:lnTo>
                  <a:lnTo>
                    <a:pt x="196" y="197"/>
                  </a:lnTo>
                  <a:lnTo>
                    <a:pt x="181" y="199"/>
                  </a:lnTo>
                  <a:lnTo>
                    <a:pt x="165" y="199"/>
                  </a:lnTo>
                  <a:lnTo>
                    <a:pt x="149" y="198"/>
                  </a:lnTo>
                  <a:close/>
                </a:path>
              </a:pathLst>
            </a:custGeom>
            <a:solidFill>
              <a:srgbClr val="8a66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5800680" y="2129040"/>
              <a:ext cx="100080" cy="55440"/>
            </a:xfrm>
            <a:custGeom>
              <a:avLst/>
              <a:gdLst/>
              <a:ahLst/>
              <a:rect l="l" t="t" r="r" b="b"/>
              <a:pathLst>
                <a:path w="315" h="171">
                  <a:moveTo>
                    <a:pt x="135" y="170"/>
                  </a:moveTo>
                  <a:lnTo>
                    <a:pt x="127" y="168"/>
                  </a:lnTo>
                  <a:lnTo>
                    <a:pt x="118" y="166"/>
                  </a:lnTo>
                  <a:lnTo>
                    <a:pt x="110" y="162"/>
                  </a:lnTo>
                  <a:lnTo>
                    <a:pt x="101" y="158"/>
                  </a:lnTo>
                  <a:lnTo>
                    <a:pt x="85" y="149"/>
                  </a:lnTo>
                  <a:lnTo>
                    <a:pt x="68" y="137"/>
                  </a:lnTo>
                  <a:lnTo>
                    <a:pt x="56" y="127"/>
                  </a:lnTo>
                  <a:lnTo>
                    <a:pt x="44" y="116"/>
                  </a:lnTo>
                  <a:lnTo>
                    <a:pt x="34" y="107"/>
                  </a:lnTo>
                  <a:lnTo>
                    <a:pt x="28" y="101"/>
                  </a:lnTo>
                  <a:lnTo>
                    <a:pt x="21" y="91"/>
                  </a:lnTo>
                  <a:lnTo>
                    <a:pt x="11" y="78"/>
                  </a:lnTo>
                  <a:lnTo>
                    <a:pt x="7" y="72"/>
                  </a:lnTo>
                  <a:lnTo>
                    <a:pt x="4" y="64"/>
                  </a:lnTo>
                  <a:lnTo>
                    <a:pt x="0" y="56"/>
                  </a:lnTo>
                  <a:lnTo>
                    <a:pt x="0" y="49"/>
                  </a:lnTo>
                  <a:lnTo>
                    <a:pt x="0" y="46"/>
                  </a:lnTo>
                  <a:lnTo>
                    <a:pt x="1" y="42"/>
                  </a:lnTo>
                  <a:lnTo>
                    <a:pt x="3" y="39"/>
                  </a:lnTo>
                  <a:lnTo>
                    <a:pt x="5" y="36"/>
                  </a:lnTo>
                  <a:lnTo>
                    <a:pt x="8" y="33"/>
                  </a:lnTo>
                  <a:lnTo>
                    <a:pt x="11" y="29"/>
                  </a:lnTo>
                  <a:lnTo>
                    <a:pt x="17" y="26"/>
                  </a:lnTo>
                  <a:lnTo>
                    <a:pt x="22" y="24"/>
                  </a:lnTo>
                  <a:lnTo>
                    <a:pt x="35" y="19"/>
                  </a:lnTo>
                  <a:lnTo>
                    <a:pt x="53" y="15"/>
                  </a:lnTo>
                  <a:lnTo>
                    <a:pt x="76" y="12"/>
                  </a:lnTo>
                  <a:lnTo>
                    <a:pt x="103" y="11"/>
                  </a:lnTo>
                  <a:lnTo>
                    <a:pt x="131" y="10"/>
                  </a:lnTo>
                  <a:lnTo>
                    <a:pt x="161" y="7"/>
                  </a:lnTo>
                  <a:lnTo>
                    <a:pt x="193" y="4"/>
                  </a:lnTo>
                  <a:lnTo>
                    <a:pt x="223" y="1"/>
                  </a:lnTo>
                  <a:lnTo>
                    <a:pt x="237" y="0"/>
                  </a:lnTo>
                  <a:lnTo>
                    <a:pt x="251" y="0"/>
                  </a:lnTo>
                  <a:lnTo>
                    <a:pt x="264" y="1"/>
                  </a:lnTo>
                  <a:lnTo>
                    <a:pt x="276" y="2"/>
                  </a:lnTo>
                  <a:lnTo>
                    <a:pt x="286" y="5"/>
                  </a:lnTo>
                  <a:lnTo>
                    <a:pt x="294" y="9"/>
                  </a:lnTo>
                  <a:lnTo>
                    <a:pt x="297" y="11"/>
                  </a:lnTo>
                  <a:lnTo>
                    <a:pt x="301" y="13"/>
                  </a:lnTo>
                  <a:lnTo>
                    <a:pt x="304" y="15"/>
                  </a:lnTo>
                  <a:lnTo>
                    <a:pt x="306" y="19"/>
                  </a:lnTo>
                  <a:lnTo>
                    <a:pt x="309" y="25"/>
                  </a:lnTo>
                  <a:lnTo>
                    <a:pt x="312" y="33"/>
                  </a:lnTo>
                  <a:lnTo>
                    <a:pt x="314" y="40"/>
                  </a:lnTo>
                  <a:lnTo>
                    <a:pt x="315" y="49"/>
                  </a:lnTo>
                  <a:lnTo>
                    <a:pt x="315" y="56"/>
                  </a:lnTo>
                  <a:lnTo>
                    <a:pt x="315" y="65"/>
                  </a:lnTo>
                  <a:lnTo>
                    <a:pt x="315" y="73"/>
                  </a:lnTo>
                  <a:lnTo>
                    <a:pt x="314" y="81"/>
                  </a:lnTo>
                  <a:lnTo>
                    <a:pt x="309" y="98"/>
                  </a:lnTo>
                  <a:lnTo>
                    <a:pt x="304" y="112"/>
                  </a:lnTo>
                  <a:lnTo>
                    <a:pt x="302" y="118"/>
                  </a:lnTo>
                  <a:lnTo>
                    <a:pt x="299" y="123"/>
                  </a:lnTo>
                  <a:lnTo>
                    <a:pt x="294" y="129"/>
                  </a:lnTo>
                  <a:lnTo>
                    <a:pt x="291" y="132"/>
                  </a:lnTo>
                  <a:lnTo>
                    <a:pt x="288" y="134"/>
                  </a:lnTo>
                  <a:lnTo>
                    <a:pt x="280" y="140"/>
                  </a:lnTo>
                  <a:lnTo>
                    <a:pt x="266" y="147"/>
                  </a:lnTo>
                  <a:lnTo>
                    <a:pt x="248" y="155"/>
                  </a:lnTo>
                  <a:lnTo>
                    <a:pt x="237" y="159"/>
                  </a:lnTo>
                  <a:lnTo>
                    <a:pt x="226" y="162"/>
                  </a:lnTo>
                  <a:lnTo>
                    <a:pt x="213" y="166"/>
                  </a:lnTo>
                  <a:lnTo>
                    <a:pt x="199" y="168"/>
                  </a:lnTo>
                  <a:lnTo>
                    <a:pt x="184" y="170"/>
                  </a:lnTo>
                  <a:lnTo>
                    <a:pt x="169" y="171"/>
                  </a:lnTo>
                  <a:lnTo>
                    <a:pt x="153" y="171"/>
                  </a:lnTo>
                  <a:lnTo>
                    <a:pt x="135" y="170"/>
                  </a:lnTo>
                  <a:close/>
                </a:path>
              </a:pathLst>
            </a:custGeom>
            <a:solidFill>
              <a:srgbClr val="805d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5805360" y="2133720"/>
              <a:ext cx="90720" cy="44280"/>
            </a:xfrm>
            <a:custGeom>
              <a:avLst/>
              <a:gdLst/>
              <a:ahLst/>
              <a:rect l="l" t="t" r="r" b="b"/>
              <a:pathLst>
                <a:path w="288" h="141">
                  <a:moveTo>
                    <a:pt x="267" y="115"/>
                  </a:moveTo>
                  <a:lnTo>
                    <a:pt x="265" y="116"/>
                  </a:lnTo>
                  <a:lnTo>
                    <a:pt x="258" y="119"/>
                  </a:lnTo>
                  <a:lnTo>
                    <a:pt x="247" y="124"/>
                  </a:lnTo>
                  <a:lnTo>
                    <a:pt x="230" y="130"/>
                  </a:lnTo>
                  <a:lnTo>
                    <a:pt x="221" y="133"/>
                  </a:lnTo>
                  <a:lnTo>
                    <a:pt x="210" y="135"/>
                  </a:lnTo>
                  <a:lnTo>
                    <a:pt x="198" y="137"/>
                  </a:lnTo>
                  <a:lnTo>
                    <a:pt x="185" y="139"/>
                  </a:lnTo>
                  <a:lnTo>
                    <a:pt x="171" y="141"/>
                  </a:lnTo>
                  <a:lnTo>
                    <a:pt x="156" y="141"/>
                  </a:lnTo>
                  <a:lnTo>
                    <a:pt x="140" y="141"/>
                  </a:lnTo>
                  <a:lnTo>
                    <a:pt x="121" y="138"/>
                  </a:lnTo>
                  <a:lnTo>
                    <a:pt x="115" y="138"/>
                  </a:lnTo>
                  <a:lnTo>
                    <a:pt x="107" y="136"/>
                  </a:lnTo>
                  <a:lnTo>
                    <a:pt x="100" y="134"/>
                  </a:lnTo>
                  <a:lnTo>
                    <a:pt x="92" y="131"/>
                  </a:lnTo>
                  <a:lnTo>
                    <a:pt x="78" y="123"/>
                  </a:lnTo>
                  <a:lnTo>
                    <a:pt x="64" y="115"/>
                  </a:lnTo>
                  <a:lnTo>
                    <a:pt x="51" y="105"/>
                  </a:lnTo>
                  <a:lnTo>
                    <a:pt x="40" y="97"/>
                  </a:lnTo>
                  <a:lnTo>
                    <a:pt x="33" y="90"/>
                  </a:lnTo>
                  <a:lnTo>
                    <a:pt x="27" y="84"/>
                  </a:lnTo>
                  <a:lnTo>
                    <a:pt x="21" y="77"/>
                  </a:lnTo>
                  <a:lnTo>
                    <a:pt x="11" y="67"/>
                  </a:lnTo>
                  <a:lnTo>
                    <a:pt x="7" y="62"/>
                  </a:lnTo>
                  <a:lnTo>
                    <a:pt x="3" y="55"/>
                  </a:lnTo>
                  <a:lnTo>
                    <a:pt x="1" y="50"/>
                  </a:lnTo>
                  <a:lnTo>
                    <a:pt x="0" y="44"/>
                  </a:lnTo>
                  <a:lnTo>
                    <a:pt x="0" y="39"/>
                  </a:lnTo>
                  <a:lnTo>
                    <a:pt x="3" y="34"/>
                  </a:lnTo>
                  <a:lnTo>
                    <a:pt x="9" y="29"/>
                  </a:lnTo>
                  <a:lnTo>
                    <a:pt x="17" y="25"/>
                  </a:lnTo>
                  <a:lnTo>
                    <a:pt x="29" y="21"/>
                  </a:lnTo>
                  <a:lnTo>
                    <a:pt x="45" y="18"/>
                  </a:lnTo>
                  <a:lnTo>
                    <a:pt x="63" y="16"/>
                  </a:lnTo>
                  <a:lnTo>
                    <a:pt x="87" y="15"/>
                  </a:lnTo>
                  <a:lnTo>
                    <a:pt x="113" y="14"/>
                  </a:lnTo>
                  <a:lnTo>
                    <a:pt x="142" y="11"/>
                  </a:lnTo>
                  <a:lnTo>
                    <a:pt x="171" y="7"/>
                  </a:lnTo>
                  <a:lnTo>
                    <a:pt x="200" y="3"/>
                  </a:lnTo>
                  <a:lnTo>
                    <a:pt x="214" y="1"/>
                  </a:lnTo>
                  <a:lnTo>
                    <a:pt x="227" y="0"/>
                  </a:lnTo>
                  <a:lnTo>
                    <a:pt x="239" y="0"/>
                  </a:lnTo>
                  <a:lnTo>
                    <a:pt x="251" y="1"/>
                  </a:lnTo>
                  <a:lnTo>
                    <a:pt x="261" y="2"/>
                  </a:lnTo>
                  <a:lnTo>
                    <a:pt x="268" y="4"/>
                  </a:lnTo>
                  <a:lnTo>
                    <a:pt x="272" y="6"/>
                  </a:lnTo>
                  <a:lnTo>
                    <a:pt x="276" y="8"/>
                  </a:lnTo>
                  <a:lnTo>
                    <a:pt x="278" y="10"/>
                  </a:lnTo>
                  <a:lnTo>
                    <a:pt x="280" y="13"/>
                  </a:lnTo>
                  <a:lnTo>
                    <a:pt x="283" y="20"/>
                  </a:lnTo>
                  <a:lnTo>
                    <a:pt x="285" y="26"/>
                  </a:lnTo>
                  <a:lnTo>
                    <a:pt x="286" y="33"/>
                  </a:lnTo>
                  <a:lnTo>
                    <a:pt x="288" y="40"/>
                  </a:lnTo>
                  <a:lnTo>
                    <a:pt x="288" y="54"/>
                  </a:lnTo>
                  <a:lnTo>
                    <a:pt x="285" y="69"/>
                  </a:lnTo>
                  <a:lnTo>
                    <a:pt x="282" y="83"/>
                  </a:lnTo>
                  <a:lnTo>
                    <a:pt x="278" y="95"/>
                  </a:lnTo>
                  <a:lnTo>
                    <a:pt x="274" y="106"/>
                  </a:lnTo>
                  <a:lnTo>
                    <a:pt x="267" y="115"/>
                  </a:lnTo>
                  <a:close/>
                </a:path>
              </a:pathLst>
            </a:custGeom>
            <a:solidFill>
              <a:srgbClr val="7656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5643360" y="2111400"/>
              <a:ext cx="128880" cy="77760"/>
            </a:xfrm>
            <a:custGeom>
              <a:avLst/>
              <a:gdLst/>
              <a:ahLst/>
              <a:rect l="l" t="t" r="r" b="b"/>
              <a:pathLst>
                <a:path w="404" h="244">
                  <a:moveTo>
                    <a:pt x="57" y="9"/>
                  </a:moveTo>
                  <a:lnTo>
                    <a:pt x="65" y="5"/>
                  </a:lnTo>
                  <a:lnTo>
                    <a:pt x="77" y="3"/>
                  </a:lnTo>
                  <a:lnTo>
                    <a:pt x="91" y="1"/>
                  </a:lnTo>
                  <a:lnTo>
                    <a:pt x="110" y="0"/>
                  </a:lnTo>
                  <a:lnTo>
                    <a:pt x="129" y="0"/>
                  </a:lnTo>
                  <a:lnTo>
                    <a:pt x="151" y="1"/>
                  </a:lnTo>
                  <a:lnTo>
                    <a:pt x="172" y="2"/>
                  </a:lnTo>
                  <a:lnTo>
                    <a:pt x="196" y="4"/>
                  </a:lnTo>
                  <a:lnTo>
                    <a:pt x="243" y="10"/>
                  </a:lnTo>
                  <a:lnTo>
                    <a:pt x="288" y="16"/>
                  </a:lnTo>
                  <a:lnTo>
                    <a:pt x="308" y="21"/>
                  </a:lnTo>
                  <a:lnTo>
                    <a:pt x="326" y="24"/>
                  </a:lnTo>
                  <a:lnTo>
                    <a:pt x="342" y="28"/>
                  </a:lnTo>
                  <a:lnTo>
                    <a:pt x="354" y="31"/>
                  </a:lnTo>
                  <a:lnTo>
                    <a:pt x="363" y="35"/>
                  </a:lnTo>
                  <a:lnTo>
                    <a:pt x="372" y="39"/>
                  </a:lnTo>
                  <a:lnTo>
                    <a:pt x="380" y="42"/>
                  </a:lnTo>
                  <a:lnTo>
                    <a:pt x="386" y="47"/>
                  </a:lnTo>
                  <a:lnTo>
                    <a:pt x="391" y="51"/>
                  </a:lnTo>
                  <a:lnTo>
                    <a:pt x="396" y="55"/>
                  </a:lnTo>
                  <a:lnTo>
                    <a:pt x="399" y="61"/>
                  </a:lnTo>
                  <a:lnTo>
                    <a:pt x="402" y="65"/>
                  </a:lnTo>
                  <a:lnTo>
                    <a:pt x="403" y="69"/>
                  </a:lnTo>
                  <a:lnTo>
                    <a:pt x="404" y="74"/>
                  </a:lnTo>
                  <a:lnTo>
                    <a:pt x="404" y="79"/>
                  </a:lnTo>
                  <a:lnTo>
                    <a:pt x="404" y="83"/>
                  </a:lnTo>
                  <a:lnTo>
                    <a:pt x="402" y="91"/>
                  </a:lnTo>
                  <a:lnTo>
                    <a:pt x="398" y="98"/>
                  </a:lnTo>
                  <a:lnTo>
                    <a:pt x="393" y="105"/>
                  </a:lnTo>
                  <a:lnTo>
                    <a:pt x="388" y="112"/>
                  </a:lnTo>
                  <a:lnTo>
                    <a:pt x="383" y="119"/>
                  </a:lnTo>
                  <a:lnTo>
                    <a:pt x="380" y="125"/>
                  </a:lnTo>
                  <a:lnTo>
                    <a:pt x="375" y="132"/>
                  </a:lnTo>
                  <a:lnTo>
                    <a:pt x="373" y="136"/>
                  </a:lnTo>
                  <a:lnTo>
                    <a:pt x="372" y="139"/>
                  </a:lnTo>
                  <a:lnTo>
                    <a:pt x="371" y="140"/>
                  </a:lnTo>
                  <a:lnTo>
                    <a:pt x="371" y="157"/>
                  </a:lnTo>
                  <a:lnTo>
                    <a:pt x="369" y="172"/>
                  </a:lnTo>
                  <a:lnTo>
                    <a:pt x="366" y="186"/>
                  </a:lnTo>
                  <a:lnTo>
                    <a:pt x="361" y="197"/>
                  </a:lnTo>
                  <a:lnTo>
                    <a:pt x="356" y="207"/>
                  </a:lnTo>
                  <a:lnTo>
                    <a:pt x="349" y="215"/>
                  </a:lnTo>
                  <a:lnTo>
                    <a:pt x="342" y="223"/>
                  </a:lnTo>
                  <a:lnTo>
                    <a:pt x="333" y="228"/>
                  </a:lnTo>
                  <a:lnTo>
                    <a:pt x="323" y="233"/>
                  </a:lnTo>
                  <a:lnTo>
                    <a:pt x="314" y="237"/>
                  </a:lnTo>
                  <a:lnTo>
                    <a:pt x="302" y="239"/>
                  </a:lnTo>
                  <a:lnTo>
                    <a:pt x="290" y="241"/>
                  </a:lnTo>
                  <a:lnTo>
                    <a:pt x="263" y="243"/>
                  </a:lnTo>
                  <a:lnTo>
                    <a:pt x="233" y="244"/>
                  </a:lnTo>
                  <a:lnTo>
                    <a:pt x="219" y="243"/>
                  </a:lnTo>
                  <a:lnTo>
                    <a:pt x="203" y="241"/>
                  </a:lnTo>
                  <a:lnTo>
                    <a:pt x="187" y="239"/>
                  </a:lnTo>
                  <a:lnTo>
                    <a:pt x="171" y="234"/>
                  </a:lnTo>
                  <a:lnTo>
                    <a:pt x="153" y="229"/>
                  </a:lnTo>
                  <a:lnTo>
                    <a:pt x="135" y="223"/>
                  </a:lnTo>
                  <a:lnTo>
                    <a:pt x="118" y="216"/>
                  </a:lnTo>
                  <a:lnTo>
                    <a:pt x="100" y="209"/>
                  </a:lnTo>
                  <a:lnTo>
                    <a:pt x="84" y="200"/>
                  </a:lnTo>
                  <a:lnTo>
                    <a:pt x="67" y="191"/>
                  </a:lnTo>
                  <a:lnTo>
                    <a:pt x="52" y="182"/>
                  </a:lnTo>
                  <a:lnTo>
                    <a:pt x="39" y="172"/>
                  </a:lnTo>
                  <a:lnTo>
                    <a:pt x="27" y="162"/>
                  </a:lnTo>
                  <a:lnTo>
                    <a:pt x="18" y="151"/>
                  </a:lnTo>
                  <a:lnTo>
                    <a:pt x="13" y="146"/>
                  </a:lnTo>
                  <a:lnTo>
                    <a:pt x="10" y="140"/>
                  </a:lnTo>
                  <a:lnTo>
                    <a:pt x="7" y="135"/>
                  </a:lnTo>
                  <a:lnTo>
                    <a:pt x="5" y="131"/>
                  </a:lnTo>
                  <a:lnTo>
                    <a:pt x="3" y="120"/>
                  </a:lnTo>
                  <a:lnTo>
                    <a:pt x="0" y="110"/>
                  </a:lnTo>
                  <a:lnTo>
                    <a:pt x="0" y="101"/>
                  </a:lnTo>
                  <a:lnTo>
                    <a:pt x="0" y="92"/>
                  </a:lnTo>
                  <a:lnTo>
                    <a:pt x="3" y="82"/>
                  </a:lnTo>
                  <a:lnTo>
                    <a:pt x="5" y="74"/>
                  </a:lnTo>
                  <a:lnTo>
                    <a:pt x="8" y="66"/>
                  </a:lnTo>
                  <a:lnTo>
                    <a:pt x="12" y="57"/>
                  </a:lnTo>
                  <a:lnTo>
                    <a:pt x="22" y="43"/>
                  </a:lnTo>
                  <a:lnTo>
                    <a:pt x="34" y="30"/>
                  </a:lnTo>
                  <a:lnTo>
                    <a:pt x="46" y="18"/>
                  </a:lnTo>
                  <a:lnTo>
                    <a:pt x="57" y="9"/>
                  </a:lnTo>
                  <a:close/>
                </a:path>
              </a:pathLst>
            </a:custGeom>
            <a:solidFill>
              <a:srgbClr val="936f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5649840" y="2114640"/>
              <a:ext cx="117360" cy="68400"/>
            </a:xfrm>
            <a:custGeom>
              <a:avLst/>
              <a:gdLst/>
              <a:ahLst/>
              <a:rect l="l" t="t" r="r" b="b"/>
              <a:pathLst>
                <a:path w="370" h="215">
                  <a:moveTo>
                    <a:pt x="47" y="8"/>
                  </a:moveTo>
                  <a:lnTo>
                    <a:pt x="54" y="4"/>
                  </a:lnTo>
                  <a:lnTo>
                    <a:pt x="65" y="2"/>
                  </a:lnTo>
                  <a:lnTo>
                    <a:pt x="78" y="0"/>
                  </a:lnTo>
                  <a:lnTo>
                    <a:pt x="95" y="0"/>
                  </a:lnTo>
                  <a:lnTo>
                    <a:pt x="133" y="1"/>
                  </a:lnTo>
                  <a:lnTo>
                    <a:pt x="176" y="4"/>
                  </a:lnTo>
                  <a:lnTo>
                    <a:pt x="220" y="10"/>
                  </a:lnTo>
                  <a:lnTo>
                    <a:pt x="262" y="16"/>
                  </a:lnTo>
                  <a:lnTo>
                    <a:pt x="298" y="23"/>
                  </a:lnTo>
                  <a:lnTo>
                    <a:pt x="324" y="29"/>
                  </a:lnTo>
                  <a:lnTo>
                    <a:pt x="333" y="32"/>
                  </a:lnTo>
                  <a:lnTo>
                    <a:pt x="341" y="36"/>
                  </a:lnTo>
                  <a:lnTo>
                    <a:pt x="348" y="39"/>
                  </a:lnTo>
                  <a:lnTo>
                    <a:pt x="354" y="42"/>
                  </a:lnTo>
                  <a:lnTo>
                    <a:pt x="358" y="46"/>
                  </a:lnTo>
                  <a:lnTo>
                    <a:pt x="363" y="50"/>
                  </a:lnTo>
                  <a:lnTo>
                    <a:pt x="365" y="54"/>
                  </a:lnTo>
                  <a:lnTo>
                    <a:pt x="368" y="58"/>
                  </a:lnTo>
                  <a:lnTo>
                    <a:pt x="369" y="63"/>
                  </a:lnTo>
                  <a:lnTo>
                    <a:pt x="370" y="66"/>
                  </a:lnTo>
                  <a:lnTo>
                    <a:pt x="370" y="70"/>
                  </a:lnTo>
                  <a:lnTo>
                    <a:pt x="369" y="74"/>
                  </a:lnTo>
                  <a:lnTo>
                    <a:pt x="367" y="82"/>
                  </a:lnTo>
                  <a:lnTo>
                    <a:pt x="364" y="89"/>
                  </a:lnTo>
                  <a:lnTo>
                    <a:pt x="358" y="94"/>
                  </a:lnTo>
                  <a:lnTo>
                    <a:pt x="354" y="100"/>
                  </a:lnTo>
                  <a:lnTo>
                    <a:pt x="350" y="106"/>
                  </a:lnTo>
                  <a:lnTo>
                    <a:pt x="347" y="111"/>
                  </a:lnTo>
                  <a:lnTo>
                    <a:pt x="343" y="117"/>
                  </a:lnTo>
                  <a:lnTo>
                    <a:pt x="341" y="120"/>
                  </a:lnTo>
                  <a:lnTo>
                    <a:pt x="339" y="122"/>
                  </a:lnTo>
                  <a:lnTo>
                    <a:pt x="339" y="123"/>
                  </a:lnTo>
                  <a:lnTo>
                    <a:pt x="337" y="135"/>
                  </a:lnTo>
                  <a:lnTo>
                    <a:pt x="335" y="146"/>
                  </a:lnTo>
                  <a:lnTo>
                    <a:pt x="331" y="157"/>
                  </a:lnTo>
                  <a:lnTo>
                    <a:pt x="327" y="165"/>
                  </a:lnTo>
                  <a:lnTo>
                    <a:pt x="322" y="174"/>
                  </a:lnTo>
                  <a:lnTo>
                    <a:pt x="315" y="181"/>
                  </a:lnTo>
                  <a:lnTo>
                    <a:pt x="308" y="188"/>
                  </a:lnTo>
                  <a:lnTo>
                    <a:pt x="300" y="194"/>
                  </a:lnTo>
                  <a:lnTo>
                    <a:pt x="292" y="199"/>
                  </a:lnTo>
                  <a:lnTo>
                    <a:pt x="282" y="203"/>
                  </a:lnTo>
                  <a:lnTo>
                    <a:pt x="271" y="207"/>
                  </a:lnTo>
                  <a:lnTo>
                    <a:pt x="260" y="209"/>
                  </a:lnTo>
                  <a:lnTo>
                    <a:pt x="248" y="212"/>
                  </a:lnTo>
                  <a:lnTo>
                    <a:pt x="235" y="214"/>
                  </a:lnTo>
                  <a:lnTo>
                    <a:pt x="221" y="215"/>
                  </a:lnTo>
                  <a:lnTo>
                    <a:pt x="207" y="215"/>
                  </a:lnTo>
                  <a:lnTo>
                    <a:pt x="194" y="214"/>
                  </a:lnTo>
                  <a:lnTo>
                    <a:pt x="180" y="213"/>
                  </a:lnTo>
                  <a:lnTo>
                    <a:pt x="166" y="209"/>
                  </a:lnTo>
                  <a:lnTo>
                    <a:pt x="151" y="206"/>
                  </a:lnTo>
                  <a:lnTo>
                    <a:pt x="135" y="202"/>
                  </a:lnTo>
                  <a:lnTo>
                    <a:pt x="120" y="197"/>
                  </a:lnTo>
                  <a:lnTo>
                    <a:pt x="104" y="190"/>
                  </a:lnTo>
                  <a:lnTo>
                    <a:pt x="88" y="184"/>
                  </a:lnTo>
                  <a:lnTo>
                    <a:pt x="74" y="176"/>
                  </a:lnTo>
                  <a:lnTo>
                    <a:pt x="60" y="168"/>
                  </a:lnTo>
                  <a:lnTo>
                    <a:pt x="47" y="161"/>
                  </a:lnTo>
                  <a:lnTo>
                    <a:pt x="35" y="152"/>
                  </a:lnTo>
                  <a:lnTo>
                    <a:pt x="26" y="144"/>
                  </a:lnTo>
                  <a:lnTo>
                    <a:pt x="16" y="134"/>
                  </a:lnTo>
                  <a:lnTo>
                    <a:pt x="10" y="125"/>
                  </a:lnTo>
                  <a:lnTo>
                    <a:pt x="5" y="116"/>
                  </a:lnTo>
                  <a:lnTo>
                    <a:pt x="2" y="107"/>
                  </a:lnTo>
                  <a:lnTo>
                    <a:pt x="1" y="98"/>
                  </a:lnTo>
                  <a:lnTo>
                    <a:pt x="0" y="90"/>
                  </a:lnTo>
                  <a:lnTo>
                    <a:pt x="0" y="81"/>
                  </a:lnTo>
                  <a:lnTo>
                    <a:pt x="1" y="72"/>
                  </a:lnTo>
                  <a:lnTo>
                    <a:pt x="3" y="65"/>
                  </a:lnTo>
                  <a:lnTo>
                    <a:pt x="5" y="57"/>
                  </a:lnTo>
                  <a:lnTo>
                    <a:pt x="8" y="51"/>
                  </a:lnTo>
                  <a:lnTo>
                    <a:pt x="12" y="43"/>
                  </a:lnTo>
                  <a:lnTo>
                    <a:pt x="16" y="37"/>
                  </a:lnTo>
                  <a:lnTo>
                    <a:pt x="20" y="31"/>
                  </a:lnTo>
                  <a:lnTo>
                    <a:pt x="26" y="26"/>
                  </a:lnTo>
                  <a:lnTo>
                    <a:pt x="35" y="15"/>
                  </a:lnTo>
                  <a:lnTo>
                    <a:pt x="47" y="8"/>
                  </a:lnTo>
                  <a:close/>
                </a:path>
              </a:pathLst>
            </a:custGeom>
            <a:solidFill>
              <a:srgbClr val="8a66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5656320" y="2119320"/>
              <a:ext cx="106200" cy="57240"/>
            </a:xfrm>
            <a:custGeom>
              <a:avLst/>
              <a:gdLst/>
              <a:ahLst/>
              <a:rect l="l" t="t" r="r" b="b"/>
              <a:pathLst>
                <a:path w="335" h="182">
                  <a:moveTo>
                    <a:pt x="34" y="7"/>
                  </a:moveTo>
                  <a:lnTo>
                    <a:pt x="40" y="4"/>
                  </a:lnTo>
                  <a:lnTo>
                    <a:pt x="51" y="2"/>
                  </a:lnTo>
                  <a:lnTo>
                    <a:pt x="63" y="1"/>
                  </a:lnTo>
                  <a:lnTo>
                    <a:pt x="79" y="0"/>
                  </a:lnTo>
                  <a:lnTo>
                    <a:pt x="115" y="1"/>
                  </a:lnTo>
                  <a:lnTo>
                    <a:pt x="156" y="4"/>
                  </a:lnTo>
                  <a:lnTo>
                    <a:pt x="198" y="10"/>
                  </a:lnTo>
                  <a:lnTo>
                    <a:pt x="237" y="15"/>
                  </a:lnTo>
                  <a:lnTo>
                    <a:pt x="270" y="21"/>
                  </a:lnTo>
                  <a:lnTo>
                    <a:pt x="294" y="27"/>
                  </a:lnTo>
                  <a:lnTo>
                    <a:pt x="309" y="33"/>
                  </a:lnTo>
                  <a:lnTo>
                    <a:pt x="321" y="39"/>
                  </a:lnTo>
                  <a:lnTo>
                    <a:pt x="326" y="42"/>
                  </a:lnTo>
                  <a:lnTo>
                    <a:pt x="329" y="45"/>
                  </a:lnTo>
                  <a:lnTo>
                    <a:pt x="332" y="48"/>
                  </a:lnTo>
                  <a:lnTo>
                    <a:pt x="333" y="52"/>
                  </a:lnTo>
                  <a:lnTo>
                    <a:pt x="335" y="55"/>
                  </a:lnTo>
                  <a:lnTo>
                    <a:pt x="335" y="58"/>
                  </a:lnTo>
                  <a:lnTo>
                    <a:pt x="335" y="61"/>
                  </a:lnTo>
                  <a:lnTo>
                    <a:pt x="335" y="65"/>
                  </a:lnTo>
                  <a:lnTo>
                    <a:pt x="333" y="71"/>
                  </a:lnTo>
                  <a:lnTo>
                    <a:pt x="329" y="77"/>
                  </a:lnTo>
                  <a:lnTo>
                    <a:pt x="324" y="82"/>
                  </a:lnTo>
                  <a:lnTo>
                    <a:pt x="320" y="87"/>
                  </a:lnTo>
                  <a:lnTo>
                    <a:pt x="317" y="93"/>
                  </a:lnTo>
                  <a:lnTo>
                    <a:pt x="313" y="97"/>
                  </a:lnTo>
                  <a:lnTo>
                    <a:pt x="309" y="100"/>
                  </a:lnTo>
                  <a:lnTo>
                    <a:pt x="306" y="104"/>
                  </a:lnTo>
                  <a:lnTo>
                    <a:pt x="305" y="106"/>
                  </a:lnTo>
                  <a:lnTo>
                    <a:pt x="304" y="107"/>
                  </a:lnTo>
                  <a:lnTo>
                    <a:pt x="302" y="113"/>
                  </a:lnTo>
                  <a:lnTo>
                    <a:pt x="300" y="120"/>
                  </a:lnTo>
                  <a:lnTo>
                    <a:pt x="295" y="127"/>
                  </a:lnTo>
                  <a:lnTo>
                    <a:pt x="291" y="134"/>
                  </a:lnTo>
                  <a:lnTo>
                    <a:pt x="286" y="140"/>
                  </a:lnTo>
                  <a:lnTo>
                    <a:pt x="280" y="147"/>
                  </a:lnTo>
                  <a:lnTo>
                    <a:pt x="273" y="153"/>
                  </a:lnTo>
                  <a:lnTo>
                    <a:pt x="265" y="159"/>
                  </a:lnTo>
                  <a:lnTo>
                    <a:pt x="257" y="164"/>
                  </a:lnTo>
                  <a:lnTo>
                    <a:pt x="249" y="168"/>
                  </a:lnTo>
                  <a:lnTo>
                    <a:pt x="239" y="173"/>
                  </a:lnTo>
                  <a:lnTo>
                    <a:pt x="228" y="176"/>
                  </a:lnTo>
                  <a:lnTo>
                    <a:pt x="218" y="179"/>
                  </a:lnTo>
                  <a:lnTo>
                    <a:pt x="207" y="181"/>
                  </a:lnTo>
                  <a:lnTo>
                    <a:pt x="195" y="182"/>
                  </a:lnTo>
                  <a:lnTo>
                    <a:pt x="183" y="182"/>
                  </a:lnTo>
                  <a:lnTo>
                    <a:pt x="170" y="182"/>
                  </a:lnTo>
                  <a:lnTo>
                    <a:pt x="157" y="181"/>
                  </a:lnTo>
                  <a:lnTo>
                    <a:pt x="144" y="179"/>
                  </a:lnTo>
                  <a:lnTo>
                    <a:pt x="131" y="176"/>
                  </a:lnTo>
                  <a:lnTo>
                    <a:pt x="117" y="173"/>
                  </a:lnTo>
                  <a:lnTo>
                    <a:pt x="103" y="168"/>
                  </a:lnTo>
                  <a:lnTo>
                    <a:pt x="90" y="164"/>
                  </a:lnTo>
                  <a:lnTo>
                    <a:pt x="77" y="159"/>
                  </a:lnTo>
                  <a:lnTo>
                    <a:pt x="65" y="153"/>
                  </a:lnTo>
                  <a:lnTo>
                    <a:pt x="53" y="147"/>
                  </a:lnTo>
                  <a:lnTo>
                    <a:pt x="43" y="140"/>
                  </a:lnTo>
                  <a:lnTo>
                    <a:pt x="33" y="133"/>
                  </a:lnTo>
                  <a:lnTo>
                    <a:pt x="24" y="125"/>
                  </a:lnTo>
                  <a:lnTo>
                    <a:pt x="17" y="118"/>
                  </a:lnTo>
                  <a:lnTo>
                    <a:pt x="11" y="110"/>
                  </a:lnTo>
                  <a:lnTo>
                    <a:pt x="7" y="101"/>
                  </a:lnTo>
                  <a:lnTo>
                    <a:pt x="5" y="94"/>
                  </a:lnTo>
                  <a:lnTo>
                    <a:pt x="3" y="86"/>
                  </a:lnTo>
                  <a:lnTo>
                    <a:pt x="1" y="79"/>
                  </a:lnTo>
                  <a:lnTo>
                    <a:pt x="0" y="71"/>
                  </a:lnTo>
                  <a:lnTo>
                    <a:pt x="0" y="65"/>
                  </a:lnTo>
                  <a:lnTo>
                    <a:pt x="1" y="58"/>
                  </a:lnTo>
                  <a:lnTo>
                    <a:pt x="3" y="52"/>
                  </a:lnTo>
                  <a:lnTo>
                    <a:pt x="5" y="45"/>
                  </a:lnTo>
                  <a:lnTo>
                    <a:pt x="10" y="33"/>
                  </a:lnTo>
                  <a:lnTo>
                    <a:pt x="18" y="24"/>
                  </a:lnTo>
                  <a:lnTo>
                    <a:pt x="25" y="15"/>
                  </a:lnTo>
                  <a:lnTo>
                    <a:pt x="34" y="7"/>
                  </a:lnTo>
                  <a:close/>
                </a:path>
              </a:pathLst>
            </a:custGeom>
            <a:solidFill>
              <a:srgbClr val="805d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5662440" y="2122560"/>
              <a:ext cx="95400" cy="47520"/>
            </a:xfrm>
            <a:custGeom>
              <a:avLst/>
              <a:gdLst/>
              <a:ahLst/>
              <a:rect l="l" t="t" r="r" b="b"/>
              <a:pathLst>
                <a:path w="300" h="150">
                  <a:moveTo>
                    <a:pt x="264" y="24"/>
                  </a:moveTo>
                  <a:lnTo>
                    <a:pt x="243" y="19"/>
                  </a:lnTo>
                  <a:lnTo>
                    <a:pt x="212" y="14"/>
                  </a:lnTo>
                  <a:lnTo>
                    <a:pt x="176" y="8"/>
                  </a:lnTo>
                  <a:lnTo>
                    <a:pt x="137" y="4"/>
                  </a:lnTo>
                  <a:lnTo>
                    <a:pt x="99" y="1"/>
                  </a:lnTo>
                  <a:lnTo>
                    <a:pt x="66" y="0"/>
                  </a:lnTo>
                  <a:lnTo>
                    <a:pt x="51" y="0"/>
                  </a:lnTo>
                  <a:lnTo>
                    <a:pt x="39" y="1"/>
                  </a:lnTo>
                  <a:lnTo>
                    <a:pt x="30" y="2"/>
                  </a:lnTo>
                  <a:lnTo>
                    <a:pt x="25" y="4"/>
                  </a:lnTo>
                  <a:lnTo>
                    <a:pt x="16" y="11"/>
                  </a:lnTo>
                  <a:lnTo>
                    <a:pt x="11" y="18"/>
                  </a:lnTo>
                  <a:lnTo>
                    <a:pt x="5" y="27"/>
                  </a:lnTo>
                  <a:lnTo>
                    <a:pt x="2" y="37"/>
                  </a:lnTo>
                  <a:lnTo>
                    <a:pt x="0" y="47"/>
                  </a:lnTo>
                  <a:lnTo>
                    <a:pt x="0" y="59"/>
                  </a:lnTo>
                  <a:lnTo>
                    <a:pt x="2" y="72"/>
                  </a:lnTo>
                  <a:lnTo>
                    <a:pt x="7" y="86"/>
                  </a:lnTo>
                  <a:lnTo>
                    <a:pt x="11" y="93"/>
                  </a:lnTo>
                  <a:lnTo>
                    <a:pt x="16" y="99"/>
                  </a:lnTo>
                  <a:lnTo>
                    <a:pt x="23" y="106"/>
                  </a:lnTo>
                  <a:lnTo>
                    <a:pt x="29" y="111"/>
                  </a:lnTo>
                  <a:lnTo>
                    <a:pt x="38" y="118"/>
                  </a:lnTo>
                  <a:lnTo>
                    <a:pt x="46" y="123"/>
                  </a:lnTo>
                  <a:lnTo>
                    <a:pt x="56" y="127"/>
                  </a:lnTo>
                  <a:lnTo>
                    <a:pt x="67" y="132"/>
                  </a:lnTo>
                  <a:lnTo>
                    <a:pt x="78" y="136"/>
                  </a:lnTo>
                  <a:lnTo>
                    <a:pt x="88" y="139"/>
                  </a:lnTo>
                  <a:lnTo>
                    <a:pt x="100" y="142"/>
                  </a:lnTo>
                  <a:lnTo>
                    <a:pt x="111" y="146"/>
                  </a:lnTo>
                  <a:lnTo>
                    <a:pt x="123" y="148"/>
                  </a:lnTo>
                  <a:lnTo>
                    <a:pt x="135" y="149"/>
                  </a:lnTo>
                  <a:lnTo>
                    <a:pt x="147" y="150"/>
                  </a:lnTo>
                  <a:lnTo>
                    <a:pt x="158" y="150"/>
                  </a:lnTo>
                  <a:lnTo>
                    <a:pt x="168" y="150"/>
                  </a:lnTo>
                  <a:lnTo>
                    <a:pt x="179" y="148"/>
                  </a:lnTo>
                  <a:lnTo>
                    <a:pt x="189" y="145"/>
                  </a:lnTo>
                  <a:lnTo>
                    <a:pt x="199" y="141"/>
                  </a:lnTo>
                  <a:lnTo>
                    <a:pt x="208" y="137"/>
                  </a:lnTo>
                  <a:lnTo>
                    <a:pt x="217" y="133"/>
                  </a:lnTo>
                  <a:lnTo>
                    <a:pt x="225" y="127"/>
                  </a:lnTo>
                  <a:lnTo>
                    <a:pt x="232" y="122"/>
                  </a:lnTo>
                  <a:lnTo>
                    <a:pt x="246" y="111"/>
                  </a:lnTo>
                  <a:lnTo>
                    <a:pt x="257" y="101"/>
                  </a:lnTo>
                  <a:lnTo>
                    <a:pt x="266" y="93"/>
                  </a:lnTo>
                  <a:lnTo>
                    <a:pt x="271" y="88"/>
                  </a:lnTo>
                  <a:lnTo>
                    <a:pt x="272" y="87"/>
                  </a:lnTo>
                  <a:lnTo>
                    <a:pt x="274" y="86"/>
                  </a:lnTo>
                  <a:lnTo>
                    <a:pt x="276" y="84"/>
                  </a:lnTo>
                  <a:lnTo>
                    <a:pt x="281" y="81"/>
                  </a:lnTo>
                  <a:lnTo>
                    <a:pt x="284" y="76"/>
                  </a:lnTo>
                  <a:lnTo>
                    <a:pt x="288" y="72"/>
                  </a:lnTo>
                  <a:lnTo>
                    <a:pt x="293" y="68"/>
                  </a:lnTo>
                  <a:lnTo>
                    <a:pt x="296" y="64"/>
                  </a:lnTo>
                  <a:lnTo>
                    <a:pt x="299" y="59"/>
                  </a:lnTo>
                  <a:lnTo>
                    <a:pt x="300" y="54"/>
                  </a:lnTo>
                  <a:lnTo>
                    <a:pt x="300" y="48"/>
                  </a:lnTo>
                  <a:lnTo>
                    <a:pt x="298" y="44"/>
                  </a:lnTo>
                  <a:lnTo>
                    <a:pt x="294" y="39"/>
                  </a:lnTo>
                  <a:lnTo>
                    <a:pt x="287" y="33"/>
                  </a:lnTo>
                  <a:lnTo>
                    <a:pt x="277" y="29"/>
                  </a:lnTo>
                  <a:lnTo>
                    <a:pt x="264" y="24"/>
                  </a:lnTo>
                  <a:close/>
                </a:path>
              </a:pathLst>
            </a:custGeom>
            <a:solidFill>
              <a:srgbClr val="7656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5594400" y="2089080"/>
              <a:ext cx="349200" cy="312840"/>
            </a:xfrm>
            <a:custGeom>
              <a:avLst/>
              <a:gdLst/>
              <a:ahLst/>
              <a:rect l="l" t="t" r="r" b="b"/>
              <a:pathLst>
                <a:path w="1103" h="985">
                  <a:moveTo>
                    <a:pt x="877" y="362"/>
                  </a:moveTo>
                  <a:lnTo>
                    <a:pt x="885" y="363"/>
                  </a:lnTo>
                  <a:lnTo>
                    <a:pt x="891" y="363"/>
                  </a:lnTo>
                  <a:lnTo>
                    <a:pt x="898" y="362"/>
                  </a:lnTo>
                  <a:lnTo>
                    <a:pt x="904" y="360"/>
                  </a:lnTo>
                  <a:lnTo>
                    <a:pt x="909" y="356"/>
                  </a:lnTo>
                  <a:lnTo>
                    <a:pt x="915" y="352"/>
                  </a:lnTo>
                  <a:lnTo>
                    <a:pt x="920" y="348"/>
                  </a:lnTo>
                  <a:lnTo>
                    <a:pt x="926" y="343"/>
                  </a:lnTo>
                  <a:lnTo>
                    <a:pt x="936" y="334"/>
                  </a:lnTo>
                  <a:lnTo>
                    <a:pt x="946" y="323"/>
                  </a:lnTo>
                  <a:lnTo>
                    <a:pt x="952" y="319"/>
                  </a:lnTo>
                  <a:lnTo>
                    <a:pt x="957" y="314"/>
                  </a:lnTo>
                  <a:lnTo>
                    <a:pt x="962" y="310"/>
                  </a:lnTo>
                  <a:lnTo>
                    <a:pt x="969" y="307"/>
                  </a:lnTo>
                  <a:lnTo>
                    <a:pt x="974" y="302"/>
                  </a:lnTo>
                  <a:lnTo>
                    <a:pt x="981" y="296"/>
                  </a:lnTo>
                  <a:lnTo>
                    <a:pt x="986" y="286"/>
                  </a:lnTo>
                  <a:lnTo>
                    <a:pt x="990" y="275"/>
                  </a:lnTo>
                  <a:lnTo>
                    <a:pt x="996" y="262"/>
                  </a:lnTo>
                  <a:lnTo>
                    <a:pt x="1000" y="250"/>
                  </a:lnTo>
                  <a:lnTo>
                    <a:pt x="1003" y="234"/>
                  </a:lnTo>
                  <a:lnTo>
                    <a:pt x="1008" y="219"/>
                  </a:lnTo>
                  <a:lnTo>
                    <a:pt x="1010" y="204"/>
                  </a:lnTo>
                  <a:lnTo>
                    <a:pt x="1012" y="189"/>
                  </a:lnTo>
                  <a:lnTo>
                    <a:pt x="1014" y="173"/>
                  </a:lnTo>
                  <a:lnTo>
                    <a:pt x="1015" y="159"/>
                  </a:lnTo>
                  <a:lnTo>
                    <a:pt x="1015" y="145"/>
                  </a:lnTo>
                  <a:lnTo>
                    <a:pt x="1014" y="132"/>
                  </a:lnTo>
                  <a:lnTo>
                    <a:pt x="1013" y="121"/>
                  </a:lnTo>
                  <a:lnTo>
                    <a:pt x="1011" y="111"/>
                  </a:lnTo>
                  <a:lnTo>
                    <a:pt x="1010" y="108"/>
                  </a:lnTo>
                  <a:lnTo>
                    <a:pt x="1009" y="104"/>
                  </a:lnTo>
                  <a:lnTo>
                    <a:pt x="1010" y="99"/>
                  </a:lnTo>
                  <a:lnTo>
                    <a:pt x="1010" y="95"/>
                  </a:lnTo>
                  <a:lnTo>
                    <a:pt x="1013" y="85"/>
                  </a:lnTo>
                  <a:lnTo>
                    <a:pt x="1019" y="77"/>
                  </a:lnTo>
                  <a:lnTo>
                    <a:pt x="1025" y="67"/>
                  </a:lnTo>
                  <a:lnTo>
                    <a:pt x="1033" y="58"/>
                  </a:lnTo>
                  <a:lnTo>
                    <a:pt x="1041" y="49"/>
                  </a:lnTo>
                  <a:lnTo>
                    <a:pt x="1050" y="40"/>
                  </a:lnTo>
                  <a:lnTo>
                    <a:pt x="1067" y="25"/>
                  </a:lnTo>
                  <a:lnTo>
                    <a:pt x="1083" y="12"/>
                  </a:lnTo>
                  <a:lnTo>
                    <a:pt x="1095" y="3"/>
                  </a:lnTo>
                  <a:lnTo>
                    <a:pt x="1100" y="0"/>
                  </a:lnTo>
                  <a:lnTo>
                    <a:pt x="1102" y="65"/>
                  </a:lnTo>
                  <a:lnTo>
                    <a:pt x="1102" y="68"/>
                  </a:lnTo>
                  <a:lnTo>
                    <a:pt x="1102" y="79"/>
                  </a:lnTo>
                  <a:lnTo>
                    <a:pt x="1101" y="93"/>
                  </a:lnTo>
                  <a:lnTo>
                    <a:pt x="1101" y="112"/>
                  </a:lnTo>
                  <a:lnTo>
                    <a:pt x="1100" y="134"/>
                  </a:lnTo>
                  <a:lnTo>
                    <a:pt x="1100" y="157"/>
                  </a:lnTo>
                  <a:lnTo>
                    <a:pt x="1101" y="179"/>
                  </a:lnTo>
                  <a:lnTo>
                    <a:pt x="1102" y="201"/>
                  </a:lnTo>
                  <a:lnTo>
                    <a:pt x="1103" y="220"/>
                  </a:lnTo>
                  <a:lnTo>
                    <a:pt x="1103" y="241"/>
                  </a:lnTo>
                  <a:lnTo>
                    <a:pt x="1102" y="262"/>
                  </a:lnTo>
                  <a:lnTo>
                    <a:pt x="1100" y="283"/>
                  </a:lnTo>
                  <a:lnTo>
                    <a:pt x="1095" y="306"/>
                  </a:lnTo>
                  <a:lnTo>
                    <a:pt x="1090" y="328"/>
                  </a:lnTo>
                  <a:lnTo>
                    <a:pt x="1084" y="351"/>
                  </a:lnTo>
                  <a:lnTo>
                    <a:pt x="1077" y="374"/>
                  </a:lnTo>
                  <a:lnTo>
                    <a:pt x="1070" y="399"/>
                  </a:lnTo>
                  <a:lnTo>
                    <a:pt x="1064" y="426"/>
                  </a:lnTo>
                  <a:lnTo>
                    <a:pt x="1057" y="455"/>
                  </a:lnTo>
                  <a:lnTo>
                    <a:pt x="1051" y="484"/>
                  </a:lnTo>
                  <a:lnTo>
                    <a:pt x="1047" y="514"/>
                  </a:lnTo>
                  <a:lnTo>
                    <a:pt x="1041" y="542"/>
                  </a:lnTo>
                  <a:lnTo>
                    <a:pt x="1037" y="568"/>
                  </a:lnTo>
                  <a:lnTo>
                    <a:pt x="1033" y="591"/>
                  </a:lnTo>
                  <a:lnTo>
                    <a:pt x="1030" y="603"/>
                  </a:lnTo>
                  <a:lnTo>
                    <a:pt x="1027" y="615"/>
                  </a:lnTo>
                  <a:lnTo>
                    <a:pt x="1022" y="628"/>
                  </a:lnTo>
                  <a:lnTo>
                    <a:pt x="1015" y="640"/>
                  </a:lnTo>
                  <a:lnTo>
                    <a:pt x="1008" y="653"/>
                  </a:lnTo>
                  <a:lnTo>
                    <a:pt x="999" y="667"/>
                  </a:lnTo>
                  <a:lnTo>
                    <a:pt x="989" y="680"/>
                  </a:lnTo>
                  <a:lnTo>
                    <a:pt x="980" y="694"/>
                  </a:lnTo>
                  <a:lnTo>
                    <a:pt x="958" y="720"/>
                  </a:lnTo>
                  <a:lnTo>
                    <a:pt x="935" y="744"/>
                  </a:lnTo>
                  <a:lnTo>
                    <a:pt x="912" y="766"/>
                  </a:lnTo>
                  <a:lnTo>
                    <a:pt x="890" y="784"/>
                  </a:lnTo>
                  <a:lnTo>
                    <a:pt x="867" y="801"/>
                  </a:lnTo>
                  <a:lnTo>
                    <a:pt x="844" y="820"/>
                  </a:lnTo>
                  <a:lnTo>
                    <a:pt x="820" y="839"/>
                  </a:lnTo>
                  <a:lnTo>
                    <a:pt x="797" y="858"/>
                  </a:lnTo>
                  <a:lnTo>
                    <a:pt x="775" y="876"/>
                  </a:lnTo>
                  <a:lnTo>
                    <a:pt x="756" y="891"/>
                  </a:lnTo>
                  <a:lnTo>
                    <a:pt x="739" y="905"/>
                  </a:lnTo>
                  <a:lnTo>
                    <a:pt x="724" y="915"/>
                  </a:lnTo>
                  <a:lnTo>
                    <a:pt x="711" y="926"/>
                  </a:lnTo>
                  <a:lnTo>
                    <a:pt x="696" y="937"/>
                  </a:lnTo>
                  <a:lnTo>
                    <a:pt x="678" y="949"/>
                  </a:lnTo>
                  <a:lnTo>
                    <a:pt x="659" y="961"/>
                  </a:lnTo>
                  <a:lnTo>
                    <a:pt x="648" y="967"/>
                  </a:lnTo>
                  <a:lnTo>
                    <a:pt x="636" y="971"/>
                  </a:lnTo>
                  <a:lnTo>
                    <a:pt x="624" y="975"/>
                  </a:lnTo>
                  <a:lnTo>
                    <a:pt x="611" y="979"/>
                  </a:lnTo>
                  <a:lnTo>
                    <a:pt x="597" y="982"/>
                  </a:lnTo>
                  <a:lnTo>
                    <a:pt x="583" y="984"/>
                  </a:lnTo>
                  <a:lnTo>
                    <a:pt x="567" y="985"/>
                  </a:lnTo>
                  <a:lnTo>
                    <a:pt x="551" y="984"/>
                  </a:lnTo>
                  <a:lnTo>
                    <a:pt x="532" y="983"/>
                  </a:lnTo>
                  <a:lnTo>
                    <a:pt x="514" y="981"/>
                  </a:lnTo>
                  <a:lnTo>
                    <a:pt x="496" y="979"/>
                  </a:lnTo>
                  <a:lnTo>
                    <a:pt x="477" y="974"/>
                  </a:lnTo>
                  <a:lnTo>
                    <a:pt x="458" y="970"/>
                  </a:lnTo>
                  <a:lnTo>
                    <a:pt x="438" y="966"/>
                  </a:lnTo>
                  <a:lnTo>
                    <a:pt x="419" y="959"/>
                  </a:lnTo>
                  <a:lnTo>
                    <a:pt x="401" y="953"/>
                  </a:lnTo>
                  <a:lnTo>
                    <a:pt x="381" y="945"/>
                  </a:lnTo>
                  <a:lnTo>
                    <a:pt x="363" y="937"/>
                  </a:lnTo>
                  <a:lnTo>
                    <a:pt x="346" y="929"/>
                  </a:lnTo>
                  <a:lnTo>
                    <a:pt x="328" y="919"/>
                  </a:lnTo>
                  <a:lnTo>
                    <a:pt x="311" y="908"/>
                  </a:lnTo>
                  <a:lnTo>
                    <a:pt x="296" y="898"/>
                  </a:lnTo>
                  <a:lnTo>
                    <a:pt x="281" y="886"/>
                  </a:lnTo>
                  <a:lnTo>
                    <a:pt x="267" y="873"/>
                  </a:lnTo>
                  <a:lnTo>
                    <a:pt x="238" y="847"/>
                  </a:lnTo>
                  <a:lnTo>
                    <a:pt x="208" y="820"/>
                  </a:lnTo>
                  <a:lnTo>
                    <a:pt x="179" y="791"/>
                  </a:lnTo>
                  <a:lnTo>
                    <a:pt x="151" y="763"/>
                  </a:lnTo>
                  <a:lnTo>
                    <a:pt x="124" y="734"/>
                  </a:lnTo>
                  <a:lnTo>
                    <a:pt x="100" y="707"/>
                  </a:lnTo>
                  <a:lnTo>
                    <a:pt x="80" y="683"/>
                  </a:lnTo>
                  <a:lnTo>
                    <a:pt x="64" y="661"/>
                  </a:lnTo>
                  <a:lnTo>
                    <a:pt x="56" y="650"/>
                  </a:lnTo>
                  <a:lnTo>
                    <a:pt x="50" y="638"/>
                  </a:lnTo>
                  <a:lnTo>
                    <a:pt x="43" y="626"/>
                  </a:lnTo>
                  <a:lnTo>
                    <a:pt x="38" y="612"/>
                  </a:lnTo>
                  <a:lnTo>
                    <a:pt x="28" y="584"/>
                  </a:lnTo>
                  <a:lnTo>
                    <a:pt x="20" y="556"/>
                  </a:lnTo>
                  <a:lnTo>
                    <a:pt x="14" y="529"/>
                  </a:lnTo>
                  <a:lnTo>
                    <a:pt x="11" y="505"/>
                  </a:lnTo>
                  <a:lnTo>
                    <a:pt x="8" y="486"/>
                  </a:lnTo>
                  <a:lnTo>
                    <a:pt x="10" y="473"/>
                  </a:lnTo>
                  <a:lnTo>
                    <a:pt x="11" y="459"/>
                  </a:lnTo>
                  <a:lnTo>
                    <a:pt x="10" y="440"/>
                  </a:lnTo>
                  <a:lnTo>
                    <a:pt x="7" y="415"/>
                  </a:lnTo>
                  <a:lnTo>
                    <a:pt x="5" y="387"/>
                  </a:lnTo>
                  <a:lnTo>
                    <a:pt x="3" y="355"/>
                  </a:lnTo>
                  <a:lnTo>
                    <a:pt x="1" y="324"/>
                  </a:lnTo>
                  <a:lnTo>
                    <a:pt x="0" y="294"/>
                  </a:lnTo>
                  <a:lnTo>
                    <a:pt x="0" y="265"/>
                  </a:lnTo>
                  <a:lnTo>
                    <a:pt x="0" y="258"/>
                  </a:lnTo>
                  <a:lnTo>
                    <a:pt x="1" y="252"/>
                  </a:lnTo>
                  <a:lnTo>
                    <a:pt x="3" y="246"/>
                  </a:lnTo>
                  <a:lnTo>
                    <a:pt x="5" y="241"/>
                  </a:lnTo>
                  <a:lnTo>
                    <a:pt x="7" y="237"/>
                  </a:lnTo>
                  <a:lnTo>
                    <a:pt x="10" y="233"/>
                  </a:lnTo>
                  <a:lnTo>
                    <a:pt x="13" y="230"/>
                  </a:lnTo>
                  <a:lnTo>
                    <a:pt x="16" y="227"/>
                  </a:lnTo>
                  <a:lnTo>
                    <a:pt x="24" y="223"/>
                  </a:lnTo>
                  <a:lnTo>
                    <a:pt x="31" y="219"/>
                  </a:lnTo>
                  <a:lnTo>
                    <a:pt x="40" y="218"/>
                  </a:lnTo>
                  <a:lnTo>
                    <a:pt x="48" y="218"/>
                  </a:lnTo>
                  <a:lnTo>
                    <a:pt x="65" y="219"/>
                  </a:lnTo>
                  <a:lnTo>
                    <a:pt x="80" y="223"/>
                  </a:lnTo>
                  <a:lnTo>
                    <a:pt x="90" y="227"/>
                  </a:lnTo>
                  <a:lnTo>
                    <a:pt x="94" y="228"/>
                  </a:lnTo>
                  <a:lnTo>
                    <a:pt x="97" y="244"/>
                  </a:lnTo>
                  <a:lnTo>
                    <a:pt x="102" y="259"/>
                  </a:lnTo>
                  <a:lnTo>
                    <a:pt x="108" y="273"/>
                  </a:lnTo>
                  <a:lnTo>
                    <a:pt x="114" y="284"/>
                  </a:lnTo>
                  <a:lnTo>
                    <a:pt x="122" y="295"/>
                  </a:lnTo>
                  <a:lnTo>
                    <a:pt x="129" y="304"/>
                  </a:lnTo>
                  <a:lnTo>
                    <a:pt x="137" y="311"/>
                  </a:lnTo>
                  <a:lnTo>
                    <a:pt x="145" y="318"/>
                  </a:lnTo>
                  <a:lnTo>
                    <a:pt x="159" y="327"/>
                  </a:lnTo>
                  <a:lnTo>
                    <a:pt x="171" y="333"/>
                  </a:lnTo>
                  <a:lnTo>
                    <a:pt x="179" y="336"/>
                  </a:lnTo>
                  <a:lnTo>
                    <a:pt x="182" y="337"/>
                  </a:lnTo>
                  <a:lnTo>
                    <a:pt x="188" y="340"/>
                  </a:lnTo>
                  <a:lnTo>
                    <a:pt x="193" y="343"/>
                  </a:lnTo>
                  <a:lnTo>
                    <a:pt x="199" y="346"/>
                  </a:lnTo>
                  <a:lnTo>
                    <a:pt x="205" y="348"/>
                  </a:lnTo>
                  <a:lnTo>
                    <a:pt x="218" y="351"/>
                  </a:lnTo>
                  <a:lnTo>
                    <a:pt x="232" y="353"/>
                  </a:lnTo>
                  <a:lnTo>
                    <a:pt x="261" y="354"/>
                  </a:lnTo>
                  <a:lnTo>
                    <a:pt x="293" y="354"/>
                  </a:lnTo>
                  <a:lnTo>
                    <a:pt x="309" y="354"/>
                  </a:lnTo>
                  <a:lnTo>
                    <a:pt x="324" y="354"/>
                  </a:lnTo>
                  <a:lnTo>
                    <a:pt x="339" y="355"/>
                  </a:lnTo>
                  <a:lnTo>
                    <a:pt x="353" y="356"/>
                  </a:lnTo>
                  <a:lnTo>
                    <a:pt x="367" y="360"/>
                  </a:lnTo>
                  <a:lnTo>
                    <a:pt x="379" y="364"/>
                  </a:lnTo>
                  <a:lnTo>
                    <a:pt x="386" y="367"/>
                  </a:lnTo>
                  <a:lnTo>
                    <a:pt x="390" y="370"/>
                  </a:lnTo>
                  <a:lnTo>
                    <a:pt x="395" y="375"/>
                  </a:lnTo>
                  <a:lnTo>
                    <a:pt x="400" y="379"/>
                  </a:lnTo>
                  <a:lnTo>
                    <a:pt x="410" y="390"/>
                  </a:lnTo>
                  <a:lnTo>
                    <a:pt x="417" y="400"/>
                  </a:lnTo>
                  <a:lnTo>
                    <a:pt x="419" y="405"/>
                  </a:lnTo>
                  <a:lnTo>
                    <a:pt x="421" y="409"/>
                  </a:lnTo>
                  <a:lnTo>
                    <a:pt x="421" y="415"/>
                  </a:lnTo>
                  <a:lnTo>
                    <a:pt x="422" y="419"/>
                  </a:lnTo>
                  <a:lnTo>
                    <a:pt x="421" y="423"/>
                  </a:lnTo>
                  <a:lnTo>
                    <a:pt x="420" y="429"/>
                  </a:lnTo>
                  <a:lnTo>
                    <a:pt x="419" y="433"/>
                  </a:lnTo>
                  <a:lnTo>
                    <a:pt x="417" y="437"/>
                  </a:lnTo>
                  <a:lnTo>
                    <a:pt x="411" y="447"/>
                  </a:lnTo>
                  <a:lnTo>
                    <a:pt x="404" y="456"/>
                  </a:lnTo>
                  <a:lnTo>
                    <a:pt x="386" y="475"/>
                  </a:lnTo>
                  <a:lnTo>
                    <a:pt x="362" y="496"/>
                  </a:lnTo>
                  <a:lnTo>
                    <a:pt x="336" y="518"/>
                  </a:lnTo>
                  <a:lnTo>
                    <a:pt x="309" y="544"/>
                  </a:lnTo>
                  <a:lnTo>
                    <a:pt x="302" y="552"/>
                  </a:lnTo>
                  <a:lnTo>
                    <a:pt x="297" y="559"/>
                  </a:lnTo>
                  <a:lnTo>
                    <a:pt x="294" y="567"/>
                  </a:lnTo>
                  <a:lnTo>
                    <a:pt x="290" y="575"/>
                  </a:lnTo>
                  <a:lnTo>
                    <a:pt x="288" y="582"/>
                  </a:lnTo>
                  <a:lnTo>
                    <a:pt x="287" y="590"/>
                  </a:lnTo>
                  <a:lnTo>
                    <a:pt x="286" y="597"/>
                  </a:lnTo>
                  <a:lnTo>
                    <a:pt x="287" y="605"/>
                  </a:lnTo>
                  <a:lnTo>
                    <a:pt x="287" y="612"/>
                  </a:lnTo>
                  <a:lnTo>
                    <a:pt x="289" y="619"/>
                  </a:lnTo>
                  <a:lnTo>
                    <a:pt x="292" y="626"/>
                  </a:lnTo>
                  <a:lnTo>
                    <a:pt x="295" y="633"/>
                  </a:lnTo>
                  <a:lnTo>
                    <a:pt x="301" y="647"/>
                  </a:lnTo>
                  <a:lnTo>
                    <a:pt x="310" y="660"/>
                  </a:lnTo>
                  <a:lnTo>
                    <a:pt x="320" y="672"/>
                  </a:lnTo>
                  <a:lnTo>
                    <a:pt x="330" y="684"/>
                  </a:lnTo>
                  <a:lnTo>
                    <a:pt x="340" y="694"/>
                  </a:lnTo>
                  <a:lnTo>
                    <a:pt x="351" y="705"/>
                  </a:lnTo>
                  <a:lnTo>
                    <a:pt x="368" y="721"/>
                  </a:lnTo>
                  <a:lnTo>
                    <a:pt x="380" y="734"/>
                  </a:lnTo>
                  <a:lnTo>
                    <a:pt x="389" y="748"/>
                  </a:lnTo>
                  <a:lnTo>
                    <a:pt x="398" y="768"/>
                  </a:lnTo>
                  <a:lnTo>
                    <a:pt x="410" y="791"/>
                  </a:lnTo>
                  <a:lnTo>
                    <a:pt x="421" y="813"/>
                  </a:lnTo>
                  <a:lnTo>
                    <a:pt x="431" y="835"/>
                  </a:lnTo>
                  <a:lnTo>
                    <a:pt x="440" y="853"/>
                  </a:lnTo>
                  <a:lnTo>
                    <a:pt x="445" y="866"/>
                  </a:lnTo>
                  <a:lnTo>
                    <a:pt x="447" y="871"/>
                  </a:lnTo>
                  <a:lnTo>
                    <a:pt x="452" y="878"/>
                  </a:lnTo>
                  <a:lnTo>
                    <a:pt x="459" y="885"/>
                  </a:lnTo>
                  <a:lnTo>
                    <a:pt x="465" y="891"/>
                  </a:lnTo>
                  <a:lnTo>
                    <a:pt x="473" y="896"/>
                  </a:lnTo>
                  <a:lnTo>
                    <a:pt x="481" y="902"/>
                  </a:lnTo>
                  <a:lnTo>
                    <a:pt x="488" y="906"/>
                  </a:lnTo>
                  <a:lnTo>
                    <a:pt x="497" y="909"/>
                  </a:lnTo>
                  <a:lnTo>
                    <a:pt x="506" y="913"/>
                  </a:lnTo>
                  <a:lnTo>
                    <a:pt x="515" y="916"/>
                  </a:lnTo>
                  <a:lnTo>
                    <a:pt x="525" y="918"/>
                  </a:lnTo>
                  <a:lnTo>
                    <a:pt x="535" y="919"/>
                  </a:lnTo>
                  <a:lnTo>
                    <a:pt x="545" y="920"/>
                  </a:lnTo>
                  <a:lnTo>
                    <a:pt x="565" y="921"/>
                  </a:lnTo>
                  <a:lnTo>
                    <a:pt x="585" y="920"/>
                  </a:lnTo>
                  <a:lnTo>
                    <a:pt x="606" y="917"/>
                  </a:lnTo>
                  <a:lnTo>
                    <a:pt x="625" y="914"/>
                  </a:lnTo>
                  <a:lnTo>
                    <a:pt x="644" y="908"/>
                  </a:lnTo>
                  <a:lnTo>
                    <a:pt x="660" y="901"/>
                  </a:lnTo>
                  <a:lnTo>
                    <a:pt x="675" y="893"/>
                  </a:lnTo>
                  <a:lnTo>
                    <a:pt x="688" y="885"/>
                  </a:lnTo>
                  <a:lnTo>
                    <a:pt x="692" y="880"/>
                  </a:lnTo>
                  <a:lnTo>
                    <a:pt x="698" y="876"/>
                  </a:lnTo>
                  <a:lnTo>
                    <a:pt x="701" y="871"/>
                  </a:lnTo>
                  <a:lnTo>
                    <a:pt x="704" y="865"/>
                  </a:lnTo>
                  <a:lnTo>
                    <a:pt x="715" y="845"/>
                  </a:lnTo>
                  <a:lnTo>
                    <a:pt x="726" y="825"/>
                  </a:lnTo>
                  <a:lnTo>
                    <a:pt x="737" y="807"/>
                  </a:lnTo>
                  <a:lnTo>
                    <a:pt x="746" y="791"/>
                  </a:lnTo>
                  <a:lnTo>
                    <a:pt x="757" y="775"/>
                  </a:lnTo>
                  <a:lnTo>
                    <a:pt x="767" y="761"/>
                  </a:lnTo>
                  <a:lnTo>
                    <a:pt x="777" y="750"/>
                  </a:lnTo>
                  <a:lnTo>
                    <a:pt x="785" y="740"/>
                  </a:lnTo>
                  <a:lnTo>
                    <a:pt x="795" y="731"/>
                  </a:lnTo>
                  <a:lnTo>
                    <a:pt x="804" y="723"/>
                  </a:lnTo>
                  <a:lnTo>
                    <a:pt x="811" y="713"/>
                  </a:lnTo>
                  <a:lnTo>
                    <a:pt x="820" y="704"/>
                  </a:lnTo>
                  <a:lnTo>
                    <a:pt x="828" y="692"/>
                  </a:lnTo>
                  <a:lnTo>
                    <a:pt x="837" y="679"/>
                  </a:lnTo>
                  <a:lnTo>
                    <a:pt x="847" y="664"/>
                  </a:lnTo>
                  <a:lnTo>
                    <a:pt x="858" y="646"/>
                  </a:lnTo>
                  <a:lnTo>
                    <a:pt x="861" y="639"/>
                  </a:lnTo>
                  <a:lnTo>
                    <a:pt x="864" y="632"/>
                  </a:lnTo>
                  <a:lnTo>
                    <a:pt x="866" y="623"/>
                  </a:lnTo>
                  <a:lnTo>
                    <a:pt x="868" y="612"/>
                  </a:lnTo>
                  <a:lnTo>
                    <a:pt x="871" y="602"/>
                  </a:lnTo>
                  <a:lnTo>
                    <a:pt x="873" y="590"/>
                  </a:lnTo>
                  <a:lnTo>
                    <a:pt x="874" y="577"/>
                  </a:lnTo>
                  <a:lnTo>
                    <a:pt x="874" y="564"/>
                  </a:lnTo>
                  <a:lnTo>
                    <a:pt x="873" y="551"/>
                  </a:lnTo>
                  <a:lnTo>
                    <a:pt x="872" y="537"/>
                  </a:lnTo>
                  <a:lnTo>
                    <a:pt x="869" y="523"/>
                  </a:lnTo>
                  <a:lnTo>
                    <a:pt x="866" y="508"/>
                  </a:lnTo>
                  <a:lnTo>
                    <a:pt x="862" y="494"/>
                  </a:lnTo>
                  <a:lnTo>
                    <a:pt x="855" y="480"/>
                  </a:lnTo>
                  <a:lnTo>
                    <a:pt x="849" y="467"/>
                  </a:lnTo>
                  <a:lnTo>
                    <a:pt x="840" y="453"/>
                  </a:lnTo>
                  <a:lnTo>
                    <a:pt x="832" y="441"/>
                  </a:lnTo>
                  <a:lnTo>
                    <a:pt x="826" y="430"/>
                  </a:lnTo>
                  <a:lnTo>
                    <a:pt x="822" y="419"/>
                  </a:lnTo>
                  <a:lnTo>
                    <a:pt x="820" y="409"/>
                  </a:lnTo>
                  <a:lnTo>
                    <a:pt x="820" y="400"/>
                  </a:lnTo>
                  <a:lnTo>
                    <a:pt x="820" y="392"/>
                  </a:lnTo>
                  <a:lnTo>
                    <a:pt x="823" y="385"/>
                  </a:lnTo>
                  <a:lnTo>
                    <a:pt x="826" y="378"/>
                  </a:lnTo>
                  <a:lnTo>
                    <a:pt x="831" y="373"/>
                  </a:lnTo>
                  <a:lnTo>
                    <a:pt x="836" y="368"/>
                  </a:lnTo>
                  <a:lnTo>
                    <a:pt x="842" y="365"/>
                  </a:lnTo>
                  <a:lnTo>
                    <a:pt x="849" y="362"/>
                  </a:lnTo>
                  <a:lnTo>
                    <a:pt x="855" y="361"/>
                  </a:lnTo>
                  <a:lnTo>
                    <a:pt x="863" y="360"/>
                  </a:lnTo>
                  <a:lnTo>
                    <a:pt x="871" y="360"/>
                  </a:lnTo>
                  <a:lnTo>
                    <a:pt x="877" y="362"/>
                  </a:lnTo>
                  <a:close/>
                </a:path>
              </a:pathLst>
            </a:custGeom>
            <a:solidFill>
              <a:srgbClr val="9772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5594400" y="2089080"/>
              <a:ext cx="349200" cy="312840"/>
            </a:xfrm>
            <a:custGeom>
              <a:avLst/>
              <a:gdLst/>
              <a:ahLst/>
              <a:rect l="l" t="t" r="r" b="b"/>
              <a:pathLst>
                <a:path w="1103" h="985">
                  <a:moveTo>
                    <a:pt x="887" y="372"/>
                  </a:moveTo>
                  <a:lnTo>
                    <a:pt x="894" y="373"/>
                  </a:lnTo>
                  <a:lnTo>
                    <a:pt x="901" y="373"/>
                  </a:lnTo>
                  <a:lnTo>
                    <a:pt x="907" y="372"/>
                  </a:lnTo>
                  <a:lnTo>
                    <a:pt x="914" y="369"/>
                  </a:lnTo>
                  <a:lnTo>
                    <a:pt x="919" y="366"/>
                  </a:lnTo>
                  <a:lnTo>
                    <a:pt x="925" y="362"/>
                  </a:lnTo>
                  <a:lnTo>
                    <a:pt x="930" y="358"/>
                  </a:lnTo>
                  <a:lnTo>
                    <a:pt x="935" y="353"/>
                  </a:lnTo>
                  <a:lnTo>
                    <a:pt x="946" y="342"/>
                  </a:lnTo>
                  <a:lnTo>
                    <a:pt x="956" y="332"/>
                  </a:lnTo>
                  <a:lnTo>
                    <a:pt x="967" y="322"/>
                  </a:lnTo>
                  <a:lnTo>
                    <a:pt x="979" y="314"/>
                  </a:lnTo>
                  <a:lnTo>
                    <a:pt x="984" y="310"/>
                  </a:lnTo>
                  <a:lnTo>
                    <a:pt x="990" y="302"/>
                  </a:lnTo>
                  <a:lnTo>
                    <a:pt x="996" y="293"/>
                  </a:lnTo>
                  <a:lnTo>
                    <a:pt x="1000" y="282"/>
                  </a:lnTo>
                  <a:lnTo>
                    <a:pt x="1004" y="269"/>
                  </a:lnTo>
                  <a:lnTo>
                    <a:pt x="1009" y="255"/>
                  </a:lnTo>
                  <a:lnTo>
                    <a:pt x="1013" y="239"/>
                  </a:lnTo>
                  <a:lnTo>
                    <a:pt x="1016" y="224"/>
                  </a:lnTo>
                  <a:lnTo>
                    <a:pt x="1019" y="207"/>
                  </a:lnTo>
                  <a:lnTo>
                    <a:pt x="1021" y="191"/>
                  </a:lnTo>
                  <a:lnTo>
                    <a:pt x="1022" y="175"/>
                  </a:lnTo>
                  <a:lnTo>
                    <a:pt x="1023" y="160"/>
                  </a:lnTo>
                  <a:lnTo>
                    <a:pt x="1023" y="146"/>
                  </a:lnTo>
                  <a:lnTo>
                    <a:pt x="1022" y="133"/>
                  </a:lnTo>
                  <a:lnTo>
                    <a:pt x="1021" y="121"/>
                  </a:lnTo>
                  <a:lnTo>
                    <a:pt x="1019" y="111"/>
                  </a:lnTo>
                  <a:lnTo>
                    <a:pt x="1017" y="108"/>
                  </a:lnTo>
                  <a:lnTo>
                    <a:pt x="1016" y="104"/>
                  </a:lnTo>
                  <a:lnTo>
                    <a:pt x="1016" y="99"/>
                  </a:lnTo>
                  <a:lnTo>
                    <a:pt x="1017" y="95"/>
                  </a:lnTo>
                  <a:lnTo>
                    <a:pt x="1020" y="85"/>
                  </a:lnTo>
                  <a:lnTo>
                    <a:pt x="1025" y="77"/>
                  </a:lnTo>
                  <a:lnTo>
                    <a:pt x="1030" y="67"/>
                  </a:lnTo>
                  <a:lnTo>
                    <a:pt x="1037" y="58"/>
                  </a:lnTo>
                  <a:lnTo>
                    <a:pt x="1046" y="49"/>
                  </a:lnTo>
                  <a:lnTo>
                    <a:pt x="1053" y="40"/>
                  </a:lnTo>
                  <a:lnTo>
                    <a:pt x="1070" y="25"/>
                  </a:lnTo>
                  <a:lnTo>
                    <a:pt x="1084" y="12"/>
                  </a:lnTo>
                  <a:lnTo>
                    <a:pt x="1095" y="3"/>
                  </a:lnTo>
                  <a:lnTo>
                    <a:pt x="1100" y="0"/>
                  </a:lnTo>
                  <a:lnTo>
                    <a:pt x="1102" y="65"/>
                  </a:lnTo>
                  <a:lnTo>
                    <a:pt x="1102" y="68"/>
                  </a:lnTo>
                  <a:lnTo>
                    <a:pt x="1102" y="79"/>
                  </a:lnTo>
                  <a:lnTo>
                    <a:pt x="1101" y="93"/>
                  </a:lnTo>
                  <a:lnTo>
                    <a:pt x="1101" y="112"/>
                  </a:lnTo>
                  <a:lnTo>
                    <a:pt x="1100" y="134"/>
                  </a:lnTo>
                  <a:lnTo>
                    <a:pt x="1100" y="157"/>
                  </a:lnTo>
                  <a:lnTo>
                    <a:pt x="1101" y="179"/>
                  </a:lnTo>
                  <a:lnTo>
                    <a:pt x="1102" y="201"/>
                  </a:lnTo>
                  <a:lnTo>
                    <a:pt x="1103" y="220"/>
                  </a:lnTo>
                  <a:lnTo>
                    <a:pt x="1103" y="241"/>
                  </a:lnTo>
                  <a:lnTo>
                    <a:pt x="1102" y="262"/>
                  </a:lnTo>
                  <a:lnTo>
                    <a:pt x="1100" y="283"/>
                  </a:lnTo>
                  <a:lnTo>
                    <a:pt x="1095" y="306"/>
                  </a:lnTo>
                  <a:lnTo>
                    <a:pt x="1090" y="328"/>
                  </a:lnTo>
                  <a:lnTo>
                    <a:pt x="1084" y="351"/>
                  </a:lnTo>
                  <a:lnTo>
                    <a:pt x="1077" y="374"/>
                  </a:lnTo>
                  <a:lnTo>
                    <a:pt x="1070" y="399"/>
                  </a:lnTo>
                  <a:lnTo>
                    <a:pt x="1064" y="426"/>
                  </a:lnTo>
                  <a:lnTo>
                    <a:pt x="1057" y="455"/>
                  </a:lnTo>
                  <a:lnTo>
                    <a:pt x="1051" y="484"/>
                  </a:lnTo>
                  <a:lnTo>
                    <a:pt x="1047" y="514"/>
                  </a:lnTo>
                  <a:lnTo>
                    <a:pt x="1041" y="542"/>
                  </a:lnTo>
                  <a:lnTo>
                    <a:pt x="1037" y="568"/>
                  </a:lnTo>
                  <a:lnTo>
                    <a:pt x="1033" y="591"/>
                  </a:lnTo>
                  <a:lnTo>
                    <a:pt x="1030" y="603"/>
                  </a:lnTo>
                  <a:lnTo>
                    <a:pt x="1027" y="615"/>
                  </a:lnTo>
                  <a:lnTo>
                    <a:pt x="1022" y="628"/>
                  </a:lnTo>
                  <a:lnTo>
                    <a:pt x="1015" y="640"/>
                  </a:lnTo>
                  <a:lnTo>
                    <a:pt x="1008" y="653"/>
                  </a:lnTo>
                  <a:lnTo>
                    <a:pt x="999" y="667"/>
                  </a:lnTo>
                  <a:lnTo>
                    <a:pt x="989" y="680"/>
                  </a:lnTo>
                  <a:lnTo>
                    <a:pt x="980" y="694"/>
                  </a:lnTo>
                  <a:lnTo>
                    <a:pt x="958" y="720"/>
                  </a:lnTo>
                  <a:lnTo>
                    <a:pt x="935" y="744"/>
                  </a:lnTo>
                  <a:lnTo>
                    <a:pt x="912" y="766"/>
                  </a:lnTo>
                  <a:lnTo>
                    <a:pt x="890" y="784"/>
                  </a:lnTo>
                  <a:lnTo>
                    <a:pt x="867" y="801"/>
                  </a:lnTo>
                  <a:lnTo>
                    <a:pt x="844" y="820"/>
                  </a:lnTo>
                  <a:lnTo>
                    <a:pt x="820" y="839"/>
                  </a:lnTo>
                  <a:lnTo>
                    <a:pt x="797" y="858"/>
                  </a:lnTo>
                  <a:lnTo>
                    <a:pt x="775" y="876"/>
                  </a:lnTo>
                  <a:lnTo>
                    <a:pt x="756" y="891"/>
                  </a:lnTo>
                  <a:lnTo>
                    <a:pt x="739" y="905"/>
                  </a:lnTo>
                  <a:lnTo>
                    <a:pt x="724" y="915"/>
                  </a:lnTo>
                  <a:lnTo>
                    <a:pt x="711" y="926"/>
                  </a:lnTo>
                  <a:lnTo>
                    <a:pt x="696" y="937"/>
                  </a:lnTo>
                  <a:lnTo>
                    <a:pt x="678" y="949"/>
                  </a:lnTo>
                  <a:lnTo>
                    <a:pt x="659" y="961"/>
                  </a:lnTo>
                  <a:lnTo>
                    <a:pt x="648" y="967"/>
                  </a:lnTo>
                  <a:lnTo>
                    <a:pt x="636" y="971"/>
                  </a:lnTo>
                  <a:lnTo>
                    <a:pt x="624" y="975"/>
                  </a:lnTo>
                  <a:lnTo>
                    <a:pt x="611" y="979"/>
                  </a:lnTo>
                  <a:lnTo>
                    <a:pt x="597" y="982"/>
                  </a:lnTo>
                  <a:lnTo>
                    <a:pt x="583" y="984"/>
                  </a:lnTo>
                  <a:lnTo>
                    <a:pt x="567" y="985"/>
                  </a:lnTo>
                  <a:lnTo>
                    <a:pt x="551" y="984"/>
                  </a:lnTo>
                  <a:lnTo>
                    <a:pt x="532" y="983"/>
                  </a:lnTo>
                  <a:lnTo>
                    <a:pt x="514" y="981"/>
                  </a:lnTo>
                  <a:lnTo>
                    <a:pt x="496" y="979"/>
                  </a:lnTo>
                  <a:lnTo>
                    <a:pt x="477" y="974"/>
                  </a:lnTo>
                  <a:lnTo>
                    <a:pt x="458" y="970"/>
                  </a:lnTo>
                  <a:lnTo>
                    <a:pt x="438" y="966"/>
                  </a:lnTo>
                  <a:lnTo>
                    <a:pt x="419" y="959"/>
                  </a:lnTo>
                  <a:lnTo>
                    <a:pt x="401" y="953"/>
                  </a:lnTo>
                  <a:lnTo>
                    <a:pt x="381" y="945"/>
                  </a:lnTo>
                  <a:lnTo>
                    <a:pt x="363" y="937"/>
                  </a:lnTo>
                  <a:lnTo>
                    <a:pt x="346" y="929"/>
                  </a:lnTo>
                  <a:lnTo>
                    <a:pt x="328" y="919"/>
                  </a:lnTo>
                  <a:lnTo>
                    <a:pt x="311" y="908"/>
                  </a:lnTo>
                  <a:lnTo>
                    <a:pt x="296" y="898"/>
                  </a:lnTo>
                  <a:lnTo>
                    <a:pt x="281" y="886"/>
                  </a:lnTo>
                  <a:lnTo>
                    <a:pt x="267" y="873"/>
                  </a:lnTo>
                  <a:lnTo>
                    <a:pt x="238" y="847"/>
                  </a:lnTo>
                  <a:lnTo>
                    <a:pt x="208" y="820"/>
                  </a:lnTo>
                  <a:lnTo>
                    <a:pt x="179" y="791"/>
                  </a:lnTo>
                  <a:lnTo>
                    <a:pt x="151" y="763"/>
                  </a:lnTo>
                  <a:lnTo>
                    <a:pt x="124" y="734"/>
                  </a:lnTo>
                  <a:lnTo>
                    <a:pt x="100" y="707"/>
                  </a:lnTo>
                  <a:lnTo>
                    <a:pt x="80" y="683"/>
                  </a:lnTo>
                  <a:lnTo>
                    <a:pt x="64" y="661"/>
                  </a:lnTo>
                  <a:lnTo>
                    <a:pt x="56" y="650"/>
                  </a:lnTo>
                  <a:lnTo>
                    <a:pt x="50" y="638"/>
                  </a:lnTo>
                  <a:lnTo>
                    <a:pt x="43" y="626"/>
                  </a:lnTo>
                  <a:lnTo>
                    <a:pt x="38" y="612"/>
                  </a:lnTo>
                  <a:lnTo>
                    <a:pt x="28" y="584"/>
                  </a:lnTo>
                  <a:lnTo>
                    <a:pt x="20" y="556"/>
                  </a:lnTo>
                  <a:lnTo>
                    <a:pt x="14" y="529"/>
                  </a:lnTo>
                  <a:lnTo>
                    <a:pt x="11" y="505"/>
                  </a:lnTo>
                  <a:lnTo>
                    <a:pt x="8" y="486"/>
                  </a:lnTo>
                  <a:lnTo>
                    <a:pt x="10" y="473"/>
                  </a:lnTo>
                  <a:lnTo>
                    <a:pt x="11" y="460"/>
                  </a:lnTo>
                  <a:lnTo>
                    <a:pt x="10" y="441"/>
                  </a:lnTo>
                  <a:lnTo>
                    <a:pt x="7" y="418"/>
                  </a:lnTo>
                  <a:lnTo>
                    <a:pt x="5" y="391"/>
                  </a:lnTo>
                  <a:lnTo>
                    <a:pt x="3" y="362"/>
                  </a:lnTo>
                  <a:lnTo>
                    <a:pt x="1" y="333"/>
                  </a:lnTo>
                  <a:lnTo>
                    <a:pt x="0" y="304"/>
                  </a:lnTo>
                  <a:lnTo>
                    <a:pt x="0" y="278"/>
                  </a:lnTo>
                  <a:lnTo>
                    <a:pt x="1" y="264"/>
                  </a:lnTo>
                  <a:lnTo>
                    <a:pt x="4" y="253"/>
                  </a:lnTo>
                  <a:lnTo>
                    <a:pt x="7" y="244"/>
                  </a:lnTo>
                  <a:lnTo>
                    <a:pt x="13" y="238"/>
                  </a:lnTo>
                  <a:lnTo>
                    <a:pt x="19" y="233"/>
                  </a:lnTo>
                  <a:lnTo>
                    <a:pt x="27" y="230"/>
                  </a:lnTo>
                  <a:lnTo>
                    <a:pt x="33" y="228"/>
                  </a:lnTo>
                  <a:lnTo>
                    <a:pt x="41" y="228"/>
                  </a:lnTo>
                  <a:lnTo>
                    <a:pt x="56" y="229"/>
                  </a:lnTo>
                  <a:lnTo>
                    <a:pt x="69" y="233"/>
                  </a:lnTo>
                  <a:lnTo>
                    <a:pt x="78" y="237"/>
                  </a:lnTo>
                  <a:lnTo>
                    <a:pt x="81" y="238"/>
                  </a:lnTo>
                  <a:lnTo>
                    <a:pt x="85" y="254"/>
                  </a:lnTo>
                  <a:lnTo>
                    <a:pt x="90" y="268"/>
                  </a:lnTo>
                  <a:lnTo>
                    <a:pt x="95" y="281"/>
                  </a:lnTo>
                  <a:lnTo>
                    <a:pt x="101" y="293"/>
                  </a:lnTo>
                  <a:lnTo>
                    <a:pt x="109" y="304"/>
                  </a:lnTo>
                  <a:lnTo>
                    <a:pt x="117" y="312"/>
                  </a:lnTo>
                  <a:lnTo>
                    <a:pt x="123" y="320"/>
                  </a:lnTo>
                  <a:lnTo>
                    <a:pt x="131" y="327"/>
                  </a:lnTo>
                  <a:lnTo>
                    <a:pt x="145" y="337"/>
                  </a:lnTo>
                  <a:lnTo>
                    <a:pt x="156" y="345"/>
                  </a:lnTo>
                  <a:lnTo>
                    <a:pt x="164" y="348"/>
                  </a:lnTo>
                  <a:lnTo>
                    <a:pt x="167" y="349"/>
                  </a:lnTo>
                  <a:lnTo>
                    <a:pt x="178" y="355"/>
                  </a:lnTo>
                  <a:lnTo>
                    <a:pt x="189" y="360"/>
                  </a:lnTo>
                  <a:lnTo>
                    <a:pt x="202" y="363"/>
                  </a:lnTo>
                  <a:lnTo>
                    <a:pt x="215" y="365"/>
                  </a:lnTo>
                  <a:lnTo>
                    <a:pt x="243" y="367"/>
                  </a:lnTo>
                  <a:lnTo>
                    <a:pt x="271" y="367"/>
                  </a:lnTo>
                  <a:lnTo>
                    <a:pt x="286" y="368"/>
                  </a:lnTo>
                  <a:lnTo>
                    <a:pt x="300" y="368"/>
                  </a:lnTo>
                  <a:lnTo>
                    <a:pt x="313" y="369"/>
                  </a:lnTo>
                  <a:lnTo>
                    <a:pt x="326" y="372"/>
                  </a:lnTo>
                  <a:lnTo>
                    <a:pt x="338" y="375"/>
                  </a:lnTo>
                  <a:lnTo>
                    <a:pt x="349" y="379"/>
                  </a:lnTo>
                  <a:lnTo>
                    <a:pt x="354" y="382"/>
                  </a:lnTo>
                  <a:lnTo>
                    <a:pt x="360" y="386"/>
                  </a:lnTo>
                  <a:lnTo>
                    <a:pt x="364" y="389"/>
                  </a:lnTo>
                  <a:lnTo>
                    <a:pt x="368" y="393"/>
                  </a:lnTo>
                  <a:lnTo>
                    <a:pt x="377" y="404"/>
                  </a:lnTo>
                  <a:lnTo>
                    <a:pt x="382" y="413"/>
                  </a:lnTo>
                  <a:lnTo>
                    <a:pt x="384" y="418"/>
                  </a:lnTo>
                  <a:lnTo>
                    <a:pt x="386" y="422"/>
                  </a:lnTo>
                  <a:lnTo>
                    <a:pt x="387" y="427"/>
                  </a:lnTo>
                  <a:lnTo>
                    <a:pt x="387" y="431"/>
                  </a:lnTo>
                  <a:lnTo>
                    <a:pt x="386" y="440"/>
                  </a:lnTo>
                  <a:lnTo>
                    <a:pt x="383" y="448"/>
                  </a:lnTo>
                  <a:lnTo>
                    <a:pt x="378" y="457"/>
                  </a:lnTo>
                  <a:lnTo>
                    <a:pt x="371" y="466"/>
                  </a:lnTo>
                  <a:lnTo>
                    <a:pt x="355" y="484"/>
                  </a:lnTo>
                  <a:lnTo>
                    <a:pt x="335" y="503"/>
                  </a:lnTo>
                  <a:lnTo>
                    <a:pt x="312" y="526"/>
                  </a:lnTo>
                  <a:lnTo>
                    <a:pt x="288" y="552"/>
                  </a:lnTo>
                  <a:lnTo>
                    <a:pt x="283" y="559"/>
                  </a:lnTo>
                  <a:lnTo>
                    <a:pt x="279" y="567"/>
                  </a:lnTo>
                  <a:lnTo>
                    <a:pt x="275" y="576"/>
                  </a:lnTo>
                  <a:lnTo>
                    <a:pt x="273" y="583"/>
                  </a:lnTo>
                  <a:lnTo>
                    <a:pt x="271" y="591"/>
                  </a:lnTo>
                  <a:lnTo>
                    <a:pt x="271" y="598"/>
                  </a:lnTo>
                  <a:lnTo>
                    <a:pt x="271" y="606"/>
                  </a:lnTo>
                  <a:lnTo>
                    <a:pt x="272" y="613"/>
                  </a:lnTo>
                  <a:lnTo>
                    <a:pt x="273" y="620"/>
                  </a:lnTo>
                  <a:lnTo>
                    <a:pt x="275" y="628"/>
                  </a:lnTo>
                  <a:lnTo>
                    <a:pt x="277" y="635"/>
                  </a:lnTo>
                  <a:lnTo>
                    <a:pt x="281" y="642"/>
                  </a:lnTo>
                  <a:lnTo>
                    <a:pt x="288" y="656"/>
                  </a:lnTo>
                  <a:lnTo>
                    <a:pt x="298" y="669"/>
                  </a:lnTo>
                  <a:lnTo>
                    <a:pt x="308" y="680"/>
                  </a:lnTo>
                  <a:lnTo>
                    <a:pt x="319" y="692"/>
                  </a:lnTo>
                  <a:lnTo>
                    <a:pt x="329" y="703"/>
                  </a:lnTo>
                  <a:lnTo>
                    <a:pt x="340" y="714"/>
                  </a:lnTo>
                  <a:lnTo>
                    <a:pt x="358" y="731"/>
                  </a:lnTo>
                  <a:lnTo>
                    <a:pt x="370" y="744"/>
                  </a:lnTo>
                  <a:lnTo>
                    <a:pt x="379" y="759"/>
                  </a:lnTo>
                  <a:lnTo>
                    <a:pt x="391" y="778"/>
                  </a:lnTo>
                  <a:lnTo>
                    <a:pt x="403" y="800"/>
                  </a:lnTo>
                  <a:lnTo>
                    <a:pt x="416" y="822"/>
                  </a:lnTo>
                  <a:lnTo>
                    <a:pt x="428" y="844"/>
                  </a:lnTo>
                  <a:lnTo>
                    <a:pt x="437" y="861"/>
                  </a:lnTo>
                  <a:lnTo>
                    <a:pt x="445" y="874"/>
                  </a:lnTo>
                  <a:lnTo>
                    <a:pt x="447" y="878"/>
                  </a:lnTo>
                  <a:lnTo>
                    <a:pt x="452" y="885"/>
                  </a:lnTo>
                  <a:lnTo>
                    <a:pt x="459" y="891"/>
                  </a:lnTo>
                  <a:lnTo>
                    <a:pt x="465" y="898"/>
                  </a:lnTo>
                  <a:lnTo>
                    <a:pt x="473" y="903"/>
                  </a:lnTo>
                  <a:lnTo>
                    <a:pt x="481" y="907"/>
                  </a:lnTo>
                  <a:lnTo>
                    <a:pt x="489" y="912"/>
                  </a:lnTo>
                  <a:lnTo>
                    <a:pt x="498" y="915"/>
                  </a:lnTo>
                  <a:lnTo>
                    <a:pt x="506" y="918"/>
                  </a:lnTo>
                  <a:lnTo>
                    <a:pt x="526" y="922"/>
                  </a:lnTo>
                  <a:lnTo>
                    <a:pt x="545" y="925"/>
                  </a:lnTo>
                  <a:lnTo>
                    <a:pt x="566" y="926"/>
                  </a:lnTo>
                  <a:lnTo>
                    <a:pt x="585" y="925"/>
                  </a:lnTo>
                  <a:lnTo>
                    <a:pt x="606" y="921"/>
                  </a:lnTo>
                  <a:lnTo>
                    <a:pt x="624" y="918"/>
                  </a:lnTo>
                  <a:lnTo>
                    <a:pt x="643" y="913"/>
                  </a:lnTo>
                  <a:lnTo>
                    <a:pt x="660" y="906"/>
                  </a:lnTo>
                  <a:lnTo>
                    <a:pt x="674" y="899"/>
                  </a:lnTo>
                  <a:lnTo>
                    <a:pt x="687" y="890"/>
                  </a:lnTo>
                  <a:lnTo>
                    <a:pt x="692" y="886"/>
                  </a:lnTo>
                  <a:lnTo>
                    <a:pt x="697" y="880"/>
                  </a:lnTo>
                  <a:lnTo>
                    <a:pt x="701" y="876"/>
                  </a:lnTo>
                  <a:lnTo>
                    <a:pt x="704" y="871"/>
                  </a:lnTo>
                  <a:lnTo>
                    <a:pt x="716" y="851"/>
                  </a:lnTo>
                  <a:lnTo>
                    <a:pt x="727" y="833"/>
                  </a:lnTo>
                  <a:lnTo>
                    <a:pt x="739" y="815"/>
                  </a:lnTo>
                  <a:lnTo>
                    <a:pt x="748" y="799"/>
                  </a:lnTo>
                  <a:lnTo>
                    <a:pt x="759" y="785"/>
                  </a:lnTo>
                  <a:lnTo>
                    <a:pt x="769" y="772"/>
                  </a:lnTo>
                  <a:lnTo>
                    <a:pt x="779" y="761"/>
                  </a:lnTo>
                  <a:lnTo>
                    <a:pt x="788" y="752"/>
                  </a:lnTo>
                  <a:lnTo>
                    <a:pt x="797" y="743"/>
                  </a:lnTo>
                  <a:lnTo>
                    <a:pt x="807" y="734"/>
                  </a:lnTo>
                  <a:lnTo>
                    <a:pt x="815" y="726"/>
                  </a:lnTo>
                  <a:lnTo>
                    <a:pt x="824" y="716"/>
                  </a:lnTo>
                  <a:lnTo>
                    <a:pt x="834" y="705"/>
                  </a:lnTo>
                  <a:lnTo>
                    <a:pt x="844" y="692"/>
                  </a:lnTo>
                  <a:lnTo>
                    <a:pt x="854" y="676"/>
                  </a:lnTo>
                  <a:lnTo>
                    <a:pt x="865" y="658"/>
                  </a:lnTo>
                  <a:lnTo>
                    <a:pt x="868" y="651"/>
                  </a:lnTo>
                  <a:lnTo>
                    <a:pt x="872" y="643"/>
                  </a:lnTo>
                  <a:lnTo>
                    <a:pt x="875" y="633"/>
                  </a:lnTo>
                  <a:lnTo>
                    <a:pt x="878" y="623"/>
                  </a:lnTo>
                  <a:lnTo>
                    <a:pt x="880" y="612"/>
                  </a:lnTo>
                  <a:lnTo>
                    <a:pt x="882" y="601"/>
                  </a:lnTo>
                  <a:lnTo>
                    <a:pt x="885" y="588"/>
                  </a:lnTo>
                  <a:lnTo>
                    <a:pt x="885" y="575"/>
                  </a:lnTo>
                  <a:lnTo>
                    <a:pt x="885" y="562"/>
                  </a:lnTo>
                  <a:lnTo>
                    <a:pt x="884" y="548"/>
                  </a:lnTo>
                  <a:lnTo>
                    <a:pt x="882" y="534"/>
                  </a:lnTo>
                  <a:lnTo>
                    <a:pt x="879" y="520"/>
                  </a:lnTo>
                  <a:lnTo>
                    <a:pt x="875" y="505"/>
                  </a:lnTo>
                  <a:lnTo>
                    <a:pt x="869" y="491"/>
                  </a:lnTo>
                  <a:lnTo>
                    <a:pt x="863" y="478"/>
                  </a:lnTo>
                  <a:lnTo>
                    <a:pt x="855" y="466"/>
                  </a:lnTo>
                  <a:lnTo>
                    <a:pt x="847" y="453"/>
                  </a:lnTo>
                  <a:lnTo>
                    <a:pt x="840" y="442"/>
                  </a:lnTo>
                  <a:lnTo>
                    <a:pt x="836" y="431"/>
                  </a:lnTo>
                  <a:lnTo>
                    <a:pt x="834" y="421"/>
                  </a:lnTo>
                  <a:lnTo>
                    <a:pt x="833" y="412"/>
                  </a:lnTo>
                  <a:lnTo>
                    <a:pt x="833" y="404"/>
                  </a:lnTo>
                  <a:lnTo>
                    <a:pt x="835" y="396"/>
                  </a:lnTo>
                  <a:lnTo>
                    <a:pt x="837" y="390"/>
                  </a:lnTo>
                  <a:lnTo>
                    <a:pt x="841" y="383"/>
                  </a:lnTo>
                  <a:lnTo>
                    <a:pt x="847" y="379"/>
                  </a:lnTo>
                  <a:lnTo>
                    <a:pt x="852" y="375"/>
                  </a:lnTo>
                  <a:lnTo>
                    <a:pt x="859" y="373"/>
                  </a:lnTo>
                  <a:lnTo>
                    <a:pt x="865" y="370"/>
                  </a:lnTo>
                  <a:lnTo>
                    <a:pt x="873" y="369"/>
                  </a:lnTo>
                  <a:lnTo>
                    <a:pt x="879" y="370"/>
                  </a:lnTo>
                  <a:lnTo>
                    <a:pt x="887" y="372"/>
                  </a:lnTo>
                  <a:close/>
                </a:path>
              </a:pathLst>
            </a:custGeom>
            <a:solidFill>
              <a:srgbClr val="936f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5594400" y="2089080"/>
              <a:ext cx="349200" cy="312840"/>
            </a:xfrm>
            <a:custGeom>
              <a:avLst/>
              <a:gdLst/>
              <a:ahLst/>
              <a:rect l="l" t="t" r="r" b="b"/>
              <a:pathLst>
                <a:path w="1103" h="985">
                  <a:moveTo>
                    <a:pt x="894" y="383"/>
                  </a:moveTo>
                  <a:lnTo>
                    <a:pt x="902" y="385"/>
                  </a:lnTo>
                  <a:lnTo>
                    <a:pt x="908" y="385"/>
                  </a:lnTo>
                  <a:lnTo>
                    <a:pt x="915" y="383"/>
                  </a:lnTo>
                  <a:lnTo>
                    <a:pt x="921" y="381"/>
                  </a:lnTo>
                  <a:lnTo>
                    <a:pt x="928" y="378"/>
                  </a:lnTo>
                  <a:lnTo>
                    <a:pt x="933" y="374"/>
                  </a:lnTo>
                  <a:lnTo>
                    <a:pt x="940" y="369"/>
                  </a:lnTo>
                  <a:lnTo>
                    <a:pt x="945" y="364"/>
                  </a:lnTo>
                  <a:lnTo>
                    <a:pt x="956" y="353"/>
                  </a:lnTo>
                  <a:lnTo>
                    <a:pt x="967" y="341"/>
                  </a:lnTo>
                  <a:lnTo>
                    <a:pt x="977" y="331"/>
                  </a:lnTo>
                  <a:lnTo>
                    <a:pt x="988" y="322"/>
                  </a:lnTo>
                  <a:lnTo>
                    <a:pt x="995" y="316"/>
                  </a:lnTo>
                  <a:lnTo>
                    <a:pt x="1000" y="309"/>
                  </a:lnTo>
                  <a:lnTo>
                    <a:pt x="1004" y="299"/>
                  </a:lnTo>
                  <a:lnTo>
                    <a:pt x="1010" y="287"/>
                  </a:lnTo>
                  <a:lnTo>
                    <a:pt x="1014" y="273"/>
                  </a:lnTo>
                  <a:lnTo>
                    <a:pt x="1019" y="258"/>
                  </a:lnTo>
                  <a:lnTo>
                    <a:pt x="1022" y="243"/>
                  </a:lnTo>
                  <a:lnTo>
                    <a:pt x="1025" y="226"/>
                  </a:lnTo>
                  <a:lnTo>
                    <a:pt x="1027" y="210"/>
                  </a:lnTo>
                  <a:lnTo>
                    <a:pt x="1028" y="192"/>
                  </a:lnTo>
                  <a:lnTo>
                    <a:pt x="1030" y="176"/>
                  </a:lnTo>
                  <a:lnTo>
                    <a:pt x="1030" y="161"/>
                  </a:lnTo>
                  <a:lnTo>
                    <a:pt x="1030" y="146"/>
                  </a:lnTo>
                  <a:lnTo>
                    <a:pt x="1029" y="133"/>
                  </a:lnTo>
                  <a:lnTo>
                    <a:pt x="1028" y="121"/>
                  </a:lnTo>
                  <a:lnTo>
                    <a:pt x="1025" y="111"/>
                  </a:lnTo>
                  <a:lnTo>
                    <a:pt x="1024" y="108"/>
                  </a:lnTo>
                  <a:lnTo>
                    <a:pt x="1024" y="104"/>
                  </a:lnTo>
                  <a:lnTo>
                    <a:pt x="1024" y="99"/>
                  </a:lnTo>
                  <a:lnTo>
                    <a:pt x="1024" y="95"/>
                  </a:lnTo>
                  <a:lnTo>
                    <a:pt x="1027" y="85"/>
                  </a:lnTo>
                  <a:lnTo>
                    <a:pt x="1030" y="77"/>
                  </a:lnTo>
                  <a:lnTo>
                    <a:pt x="1036" y="67"/>
                  </a:lnTo>
                  <a:lnTo>
                    <a:pt x="1042" y="58"/>
                  </a:lnTo>
                  <a:lnTo>
                    <a:pt x="1050" y="49"/>
                  </a:lnTo>
                  <a:lnTo>
                    <a:pt x="1057" y="40"/>
                  </a:lnTo>
                  <a:lnTo>
                    <a:pt x="1073" y="25"/>
                  </a:lnTo>
                  <a:lnTo>
                    <a:pt x="1086" y="12"/>
                  </a:lnTo>
                  <a:lnTo>
                    <a:pt x="1096" y="3"/>
                  </a:lnTo>
                  <a:lnTo>
                    <a:pt x="1100" y="0"/>
                  </a:lnTo>
                  <a:lnTo>
                    <a:pt x="1102" y="65"/>
                  </a:lnTo>
                  <a:lnTo>
                    <a:pt x="1102" y="68"/>
                  </a:lnTo>
                  <a:lnTo>
                    <a:pt x="1102" y="79"/>
                  </a:lnTo>
                  <a:lnTo>
                    <a:pt x="1101" y="93"/>
                  </a:lnTo>
                  <a:lnTo>
                    <a:pt x="1101" y="112"/>
                  </a:lnTo>
                  <a:lnTo>
                    <a:pt x="1100" y="134"/>
                  </a:lnTo>
                  <a:lnTo>
                    <a:pt x="1100" y="157"/>
                  </a:lnTo>
                  <a:lnTo>
                    <a:pt x="1101" y="179"/>
                  </a:lnTo>
                  <a:lnTo>
                    <a:pt x="1102" y="201"/>
                  </a:lnTo>
                  <a:lnTo>
                    <a:pt x="1103" y="220"/>
                  </a:lnTo>
                  <a:lnTo>
                    <a:pt x="1103" y="241"/>
                  </a:lnTo>
                  <a:lnTo>
                    <a:pt x="1102" y="262"/>
                  </a:lnTo>
                  <a:lnTo>
                    <a:pt x="1100" y="283"/>
                  </a:lnTo>
                  <a:lnTo>
                    <a:pt x="1095" y="306"/>
                  </a:lnTo>
                  <a:lnTo>
                    <a:pt x="1090" y="328"/>
                  </a:lnTo>
                  <a:lnTo>
                    <a:pt x="1084" y="351"/>
                  </a:lnTo>
                  <a:lnTo>
                    <a:pt x="1077" y="374"/>
                  </a:lnTo>
                  <a:lnTo>
                    <a:pt x="1070" y="399"/>
                  </a:lnTo>
                  <a:lnTo>
                    <a:pt x="1064" y="426"/>
                  </a:lnTo>
                  <a:lnTo>
                    <a:pt x="1057" y="455"/>
                  </a:lnTo>
                  <a:lnTo>
                    <a:pt x="1051" y="484"/>
                  </a:lnTo>
                  <a:lnTo>
                    <a:pt x="1047" y="514"/>
                  </a:lnTo>
                  <a:lnTo>
                    <a:pt x="1041" y="542"/>
                  </a:lnTo>
                  <a:lnTo>
                    <a:pt x="1037" y="568"/>
                  </a:lnTo>
                  <a:lnTo>
                    <a:pt x="1033" y="591"/>
                  </a:lnTo>
                  <a:lnTo>
                    <a:pt x="1030" y="603"/>
                  </a:lnTo>
                  <a:lnTo>
                    <a:pt x="1027" y="615"/>
                  </a:lnTo>
                  <a:lnTo>
                    <a:pt x="1022" y="628"/>
                  </a:lnTo>
                  <a:lnTo>
                    <a:pt x="1015" y="640"/>
                  </a:lnTo>
                  <a:lnTo>
                    <a:pt x="1008" y="653"/>
                  </a:lnTo>
                  <a:lnTo>
                    <a:pt x="999" y="667"/>
                  </a:lnTo>
                  <a:lnTo>
                    <a:pt x="989" y="680"/>
                  </a:lnTo>
                  <a:lnTo>
                    <a:pt x="980" y="694"/>
                  </a:lnTo>
                  <a:lnTo>
                    <a:pt x="958" y="720"/>
                  </a:lnTo>
                  <a:lnTo>
                    <a:pt x="935" y="744"/>
                  </a:lnTo>
                  <a:lnTo>
                    <a:pt x="912" y="766"/>
                  </a:lnTo>
                  <a:lnTo>
                    <a:pt x="890" y="784"/>
                  </a:lnTo>
                  <a:lnTo>
                    <a:pt x="867" y="801"/>
                  </a:lnTo>
                  <a:lnTo>
                    <a:pt x="844" y="820"/>
                  </a:lnTo>
                  <a:lnTo>
                    <a:pt x="820" y="839"/>
                  </a:lnTo>
                  <a:lnTo>
                    <a:pt x="797" y="858"/>
                  </a:lnTo>
                  <a:lnTo>
                    <a:pt x="775" y="876"/>
                  </a:lnTo>
                  <a:lnTo>
                    <a:pt x="756" y="891"/>
                  </a:lnTo>
                  <a:lnTo>
                    <a:pt x="739" y="905"/>
                  </a:lnTo>
                  <a:lnTo>
                    <a:pt x="724" y="915"/>
                  </a:lnTo>
                  <a:lnTo>
                    <a:pt x="711" y="926"/>
                  </a:lnTo>
                  <a:lnTo>
                    <a:pt x="696" y="937"/>
                  </a:lnTo>
                  <a:lnTo>
                    <a:pt x="678" y="949"/>
                  </a:lnTo>
                  <a:lnTo>
                    <a:pt x="659" y="961"/>
                  </a:lnTo>
                  <a:lnTo>
                    <a:pt x="648" y="967"/>
                  </a:lnTo>
                  <a:lnTo>
                    <a:pt x="636" y="971"/>
                  </a:lnTo>
                  <a:lnTo>
                    <a:pt x="624" y="975"/>
                  </a:lnTo>
                  <a:lnTo>
                    <a:pt x="611" y="979"/>
                  </a:lnTo>
                  <a:lnTo>
                    <a:pt x="597" y="982"/>
                  </a:lnTo>
                  <a:lnTo>
                    <a:pt x="583" y="984"/>
                  </a:lnTo>
                  <a:lnTo>
                    <a:pt x="567" y="985"/>
                  </a:lnTo>
                  <a:lnTo>
                    <a:pt x="551" y="984"/>
                  </a:lnTo>
                  <a:lnTo>
                    <a:pt x="532" y="983"/>
                  </a:lnTo>
                  <a:lnTo>
                    <a:pt x="514" y="981"/>
                  </a:lnTo>
                  <a:lnTo>
                    <a:pt x="496" y="979"/>
                  </a:lnTo>
                  <a:lnTo>
                    <a:pt x="477" y="974"/>
                  </a:lnTo>
                  <a:lnTo>
                    <a:pt x="458" y="970"/>
                  </a:lnTo>
                  <a:lnTo>
                    <a:pt x="438" y="966"/>
                  </a:lnTo>
                  <a:lnTo>
                    <a:pt x="419" y="959"/>
                  </a:lnTo>
                  <a:lnTo>
                    <a:pt x="401" y="953"/>
                  </a:lnTo>
                  <a:lnTo>
                    <a:pt x="381" y="945"/>
                  </a:lnTo>
                  <a:lnTo>
                    <a:pt x="363" y="937"/>
                  </a:lnTo>
                  <a:lnTo>
                    <a:pt x="346" y="929"/>
                  </a:lnTo>
                  <a:lnTo>
                    <a:pt x="328" y="919"/>
                  </a:lnTo>
                  <a:lnTo>
                    <a:pt x="311" y="908"/>
                  </a:lnTo>
                  <a:lnTo>
                    <a:pt x="296" y="898"/>
                  </a:lnTo>
                  <a:lnTo>
                    <a:pt x="281" y="886"/>
                  </a:lnTo>
                  <a:lnTo>
                    <a:pt x="267" y="873"/>
                  </a:lnTo>
                  <a:lnTo>
                    <a:pt x="238" y="847"/>
                  </a:lnTo>
                  <a:lnTo>
                    <a:pt x="208" y="820"/>
                  </a:lnTo>
                  <a:lnTo>
                    <a:pt x="179" y="791"/>
                  </a:lnTo>
                  <a:lnTo>
                    <a:pt x="151" y="763"/>
                  </a:lnTo>
                  <a:lnTo>
                    <a:pt x="124" y="734"/>
                  </a:lnTo>
                  <a:lnTo>
                    <a:pt x="100" y="707"/>
                  </a:lnTo>
                  <a:lnTo>
                    <a:pt x="80" y="683"/>
                  </a:lnTo>
                  <a:lnTo>
                    <a:pt x="64" y="661"/>
                  </a:lnTo>
                  <a:lnTo>
                    <a:pt x="56" y="650"/>
                  </a:lnTo>
                  <a:lnTo>
                    <a:pt x="50" y="638"/>
                  </a:lnTo>
                  <a:lnTo>
                    <a:pt x="43" y="626"/>
                  </a:lnTo>
                  <a:lnTo>
                    <a:pt x="38" y="612"/>
                  </a:lnTo>
                  <a:lnTo>
                    <a:pt x="28" y="584"/>
                  </a:lnTo>
                  <a:lnTo>
                    <a:pt x="20" y="556"/>
                  </a:lnTo>
                  <a:lnTo>
                    <a:pt x="14" y="529"/>
                  </a:lnTo>
                  <a:lnTo>
                    <a:pt x="11" y="505"/>
                  </a:lnTo>
                  <a:lnTo>
                    <a:pt x="8" y="486"/>
                  </a:lnTo>
                  <a:lnTo>
                    <a:pt x="10" y="473"/>
                  </a:lnTo>
                  <a:lnTo>
                    <a:pt x="11" y="460"/>
                  </a:lnTo>
                  <a:lnTo>
                    <a:pt x="10" y="443"/>
                  </a:lnTo>
                  <a:lnTo>
                    <a:pt x="8" y="421"/>
                  </a:lnTo>
                  <a:lnTo>
                    <a:pt x="6" y="395"/>
                  </a:lnTo>
                  <a:lnTo>
                    <a:pt x="4" y="368"/>
                  </a:lnTo>
                  <a:lnTo>
                    <a:pt x="2" y="341"/>
                  </a:lnTo>
                  <a:lnTo>
                    <a:pt x="0" y="313"/>
                  </a:lnTo>
                  <a:lnTo>
                    <a:pt x="0" y="287"/>
                  </a:lnTo>
                  <a:lnTo>
                    <a:pt x="0" y="274"/>
                  </a:lnTo>
                  <a:lnTo>
                    <a:pt x="2" y="264"/>
                  </a:lnTo>
                  <a:lnTo>
                    <a:pt x="6" y="255"/>
                  </a:lnTo>
                  <a:lnTo>
                    <a:pt x="11" y="248"/>
                  </a:lnTo>
                  <a:lnTo>
                    <a:pt x="15" y="244"/>
                  </a:lnTo>
                  <a:lnTo>
                    <a:pt x="21" y="241"/>
                  </a:lnTo>
                  <a:lnTo>
                    <a:pt x="28" y="240"/>
                  </a:lnTo>
                  <a:lnTo>
                    <a:pt x="34" y="239"/>
                  </a:lnTo>
                  <a:lnTo>
                    <a:pt x="46" y="240"/>
                  </a:lnTo>
                  <a:lnTo>
                    <a:pt x="58" y="243"/>
                  </a:lnTo>
                  <a:lnTo>
                    <a:pt x="66" y="246"/>
                  </a:lnTo>
                  <a:lnTo>
                    <a:pt x="69" y="247"/>
                  </a:lnTo>
                  <a:lnTo>
                    <a:pt x="73" y="264"/>
                  </a:lnTo>
                  <a:lnTo>
                    <a:pt x="78" y="278"/>
                  </a:lnTo>
                  <a:lnTo>
                    <a:pt x="84" y="291"/>
                  </a:lnTo>
                  <a:lnTo>
                    <a:pt x="91" y="301"/>
                  </a:lnTo>
                  <a:lnTo>
                    <a:pt x="97" y="312"/>
                  </a:lnTo>
                  <a:lnTo>
                    <a:pt x="104" y="321"/>
                  </a:lnTo>
                  <a:lnTo>
                    <a:pt x="111" y="328"/>
                  </a:lnTo>
                  <a:lnTo>
                    <a:pt x="118" y="336"/>
                  </a:lnTo>
                  <a:lnTo>
                    <a:pt x="132" y="347"/>
                  </a:lnTo>
                  <a:lnTo>
                    <a:pt x="142" y="353"/>
                  </a:lnTo>
                  <a:lnTo>
                    <a:pt x="150" y="358"/>
                  </a:lnTo>
                  <a:lnTo>
                    <a:pt x="153" y="359"/>
                  </a:lnTo>
                  <a:lnTo>
                    <a:pt x="163" y="365"/>
                  </a:lnTo>
                  <a:lnTo>
                    <a:pt x="174" y="370"/>
                  </a:lnTo>
                  <a:lnTo>
                    <a:pt x="186" y="375"/>
                  </a:lnTo>
                  <a:lnTo>
                    <a:pt x="198" y="377"/>
                  </a:lnTo>
                  <a:lnTo>
                    <a:pt x="223" y="380"/>
                  </a:lnTo>
                  <a:lnTo>
                    <a:pt x="249" y="381"/>
                  </a:lnTo>
                  <a:lnTo>
                    <a:pt x="275" y="383"/>
                  </a:lnTo>
                  <a:lnTo>
                    <a:pt x="299" y="387"/>
                  </a:lnTo>
                  <a:lnTo>
                    <a:pt x="310" y="389"/>
                  </a:lnTo>
                  <a:lnTo>
                    <a:pt x="320" y="393"/>
                  </a:lnTo>
                  <a:lnTo>
                    <a:pt x="328" y="399"/>
                  </a:lnTo>
                  <a:lnTo>
                    <a:pt x="336" y="406"/>
                  </a:lnTo>
                  <a:lnTo>
                    <a:pt x="343" y="416"/>
                  </a:lnTo>
                  <a:lnTo>
                    <a:pt x="349" y="424"/>
                  </a:lnTo>
                  <a:lnTo>
                    <a:pt x="352" y="433"/>
                  </a:lnTo>
                  <a:lnTo>
                    <a:pt x="353" y="442"/>
                  </a:lnTo>
                  <a:lnTo>
                    <a:pt x="352" y="450"/>
                  </a:lnTo>
                  <a:lnTo>
                    <a:pt x="350" y="458"/>
                  </a:lnTo>
                  <a:lnTo>
                    <a:pt x="346" y="467"/>
                  </a:lnTo>
                  <a:lnTo>
                    <a:pt x="340" y="475"/>
                  </a:lnTo>
                  <a:lnTo>
                    <a:pt x="326" y="493"/>
                  </a:lnTo>
                  <a:lnTo>
                    <a:pt x="309" y="511"/>
                  </a:lnTo>
                  <a:lnTo>
                    <a:pt x="289" y="532"/>
                  </a:lnTo>
                  <a:lnTo>
                    <a:pt x="269" y="556"/>
                  </a:lnTo>
                  <a:lnTo>
                    <a:pt x="263" y="565"/>
                  </a:lnTo>
                  <a:lnTo>
                    <a:pt x="260" y="572"/>
                  </a:lnTo>
                  <a:lnTo>
                    <a:pt x="257" y="581"/>
                  </a:lnTo>
                  <a:lnTo>
                    <a:pt x="255" y="589"/>
                  </a:lnTo>
                  <a:lnTo>
                    <a:pt x="254" y="596"/>
                  </a:lnTo>
                  <a:lnTo>
                    <a:pt x="254" y="605"/>
                  </a:lnTo>
                  <a:lnTo>
                    <a:pt x="254" y="612"/>
                  </a:lnTo>
                  <a:lnTo>
                    <a:pt x="256" y="620"/>
                  </a:lnTo>
                  <a:lnTo>
                    <a:pt x="257" y="628"/>
                  </a:lnTo>
                  <a:lnTo>
                    <a:pt x="260" y="635"/>
                  </a:lnTo>
                  <a:lnTo>
                    <a:pt x="263" y="643"/>
                  </a:lnTo>
                  <a:lnTo>
                    <a:pt x="267" y="649"/>
                  </a:lnTo>
                  <a:lnTo>
                    <a:pt x="275" y="663"/>
                  </a:lnTo>
                  <a:lnTo>
                    <a:pt x="285" y="676"/>
                  </a:lnTo>
                  <a:lnTo>
                    <a:pt x="296" y="689"/>
                  </a:lnTo>
                  <a:lnTo>
                    <a:pt x="307" y="701"/>
                  </a:lnTo>
                  <a:lnTo>
                    <a:pt x="319" y="712"/>
                  </a:lnTo>
                  <a:lnTo>
                    <a:pt x="329" y="723"/>
                  </a:lnTo>
                  <a:lnTo>
                    <a:pt x="349" y="739"/>
                  </a:lnTo>
                  <a:lnTo>
                    <a:pt x="361" y="752"/>
                  </a:lnTo>
                  <a:lnTo>
                    <a:pt x="369" y="767"/>
                  </a:lnTo>
                  <a:lnTo>
                    <a:pt x="382" y="785"/>
                  </a:lnTo>
                  <a:lnTo>
                    <a:pt x="396" y="808"/>
                  </a:lnTo>
                  <a:lnTo>
                    <a:pt x="411" y="831"/>
                  </a:lnTo>
                  <a:lnTo>
                    <a:pt x="424" y="852"/>
                  </a:lnTo>
                  <a:lnTo>
                    <a:pt x="436" y="871"/>
                  </a:lnTo>
                  <a:lnTo>
                    <a:pt x="444" y="883"/>
                  </a:lnTo>
                  <a:lnTo>
                    <a:pt x="447" y="888"/>
                  </a:lnTo>
                  <a:lnTo>
                    <a:pt x="452" y="894"/>
                  </a:lnTo>
                  <a:lnTo>
                    <a:pt x="460" y="901"/>
                  </a:lnTo>
                  <a:lnTo>
                    <a:pt x="467" y="906"/>
                  </a:lnTo>
                  <a:lnTo>
                    <a:pt x="474" y="910"/>
                  </a:lnTo>
                  <a:lnTo>
                    <a:pt x="483" y="915"/>
                  </a:lnTo>
                  <a:lnTo>
                    <a:pt x="490" y="919"/>
                  </a:lnTo>
                  <a:lnTo>
                    <a:pt x="499" y="922"/>
                  </a:lnTo>
                  <a:lnTo>
                    <a:pt x="509" y="925"/>
                  </a:lnTo>
                  <a:lnTo>
                    <a:pt x="527" y="929"/>
                  </a:lnTo>
                  <a:lnTo>
                    <a:pt x="546" y="931"/>
                  </a:lnTo>
                  <a:lnTo>
                    <a:pt x="566" y="931"/>
                  </a:lnTo>
                  <a:lnTo>
                    <a:pt x="585" y="930"/>
                  </a:lnTo>
                  <a:lnTo>
                    <a:pt x="605" y="928"/>
                  </a:lnTo>
                  <a:lnTo>
                    <a:pt x="624" y="923"/>
                  </a:lnTo>
                  <a:lnTo>
                    <a:pt x="642" y="918"/>
                  </a:lnTo>
                  <a:lnTo>
                    <a:pt x="658" y="912"/>
                  </a:lnTo>
                  <a:lnTo>
                    <a:pt x="673" y="905"/>
                  </a:lnTo>
                  <a:lnTo>
                    <a:pt x="686" y="896"/>
                  </a:lnTo>
                  <a:lnTo>
                    <a:pt x="691" y="892"/>
                  </a:lnTo>
                  <a:lnTo>
                    <a:pt x="697" y="888"/>
                  </a:lnTo>
                  <a:lnTo>
                    <a:pt x="701" y="882"/>
                  </a:lnTo>
                  <a:lnTo>
                    <a:pt x="704" y="878"/>
                  </a:lnTo>
                  <a:lnTo>
                    <a:pt x="717" y="859"/>
                  </a:lnTo>
                  <a:lnTo>
                    <a:pt x="730" y="840"/>
                  </a:lnTo>
                  <a:lnTo>
                    <a:pt x="742" y="824"/>
                  </a:lnTo>
                  <a:lnTo>
                    <a:pt x="753" y="809"/>
                  </a:lnTo>
                  <a:lnTo>
                    <a:pt x="764" y="795"/>
                  </a:lnTo>
                  <a:lnTo>
                    <a:pt x="774" y="783"/>
                  </a:lnTo>
                  <a:lnTo>
                    <a:pt x="784" y="771"/>
                  </a:lnTo>
                  <a:lnTo>
                    <a:pt x="793" y="761"/>
                  </a:lnTo>
                  <a:lnTo>
                    <a:pt x="801" y="754"/>
                  </a:lnTo>
                  <a:lnTo>
                    <a:pt x="810" y="745"/>
                  </a:lnTo>
                  <a:lnTo>
                    <a:pt x="820" y="737"/>
                  </a:lnTo>
                  <a:lnTo>
                    <a:pt x="828" y="727"/>
                  </a:lnTo>
                  <a:lnTo>
                    <a:pt x="839" y="716"/>
                  </a:lnTo>
                  <a:lnTo>
                    <a:pt x="849" y="702"/>
                  </a:lnTo>
                  <a:lnTo>
                    <a:pt x="861" y="687"/>
                  </a:lnTo>
                  <a:lnTo>
                    <a:pt x="873" y="667"/>
                  </a:lnTo>
                  <a:lnTo>
                    <a:pt x="876" y="661"/>
                  </a:lnTo>
                  <a:lnTo>
                    <a:pt x="880" y="652"/>
                  </a:lnTo>
                  <a:lnTo>
                    <a:pt x="885" y="644"/>
                  </a:lnTo>
                  <a:lnTo>
                    <a:pt x="888" y="633"/>
                  </a:lnTo>
                  <a:lnTo>
                    <a:pt x="891" y="622"/>
                  </a:lnTo>
                  <a:lnTo>
                    <a:pt x="893" y="610"/>
                  </a:lnTo>
                  <a:lnTo>
                    <a:pt x="895" y="598"/>
                  </a:lnTo>
                  <a:lnTo>
                    <a:pt x="896" y="585"/>
                  </a:lnTo>
                  <a:lnTo>
                    <a:pt x="896" y="572"/>
                  </a:lnTo>
                  <a:lnTo>
                    <a:pt x="896" y="559"/>
                  </a:lnTo>
                  <a:lnTo>
                    <a:pt x="894" y="545"/>
                  </a:lnTo>
                  <a:lnTo>
                    <a:pt x="892" y="531"/>
                  </a:lnTo>
                  <a:lnTo>
                    <a:pt x="888" y="517"/>
                  </a:lnTo>
                  <a:lnTo>
                    <a:pt x="882" y="504"/>
                  </a:lnTo>
                  <a:lnTo>
                    <a:pt x="876" y="490"/>
                  </a:lnTo>
                  <a:lnTo>
                    <a:pt x="867" y="477"/>
                  </a:lnTo>
                  <a:lnTo>
                    <a:pt x="860" y="466"/>
                  </a:lnTo>
                  <a:lnTo>
                    <a:pt x="853" y="454"/>
                  </a:lnTo>
                  <a:lnTo>
                    <a:pt x="849" y="443"/>
                  </a:lnTo>
                  <a:lnTo>
                    <a:pt x="847" y="433"/>
                  </a:lnTo>
                  <a:lnTo>
                    <a:pt x="846" y="424"/>
                  </a:lnTo>
                  <a:lnTo>
                    <a:pt x="846" y="416"/>
                  </a:lnTo>
                  <a:lnTo>
                    <a:pt x="847" y="408"/>
                  </a:lnTo>
                  <a:lnTo>
                    <a:pt x="849" y="402"/>
                  </a:lnTo>
                  <a:lnTo>
                    <a:pt x="853" y="396"/>
                  </a:lnTo>
                  <a:lnTo>
                    <a:pt x="858" y="391"/>
                  </a:lnTo>
                  <a:lnTo>
                    <a:pt x="862" y="388"/>
                  </a:lnTo>
                  <a:lnTo>
                    <a:pt x="868" y="385"/>
                  </a:lnTo>
                  <a:lnTo>
                    <a:pt x="874" y="383"/>
                  </a:lnTo>
                  <a:lnTo>
                    <a:pt x="880" y="382"/>
                  </a:lnTo>
                  <a:lnTo>
                    <a:pt x="888" y="382"/>
                  </a:lnTo>
                  <a:lnTo>
                    <a:pt x="894" y="383"/>
                  </a:lnTo>
                  <a:close/>
                </a:path>
              </a:pathLst>
            </a:custGeom>
            <a:solidFill>
              <a:srgbClr val="906b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5594400" y="2089080"/>
              <a:ext cx="349200" cy="312840"/>
            </a:xfrm>
            <a:custGeom>
              <a:avLst/>
              <a:gdLst/>
              <a:ahLst/>
              <a:rect l="l" t="t" r="r" b="b"/>
              <a:pathLst>
                <a:path w="1103" h="985">
                  <a:moveTo>
                    <a:pt x="904" y="393"/>
                  </a:moveTo>
                  <a:lnTo>
                    <a:pt x="912" y="394"/>
                  </a:lnTo>
                  <a:lnTo>
                    <a:pt x="918" y="394"/>
                  </a:lnTo>
                  <a:lnTo>
                    <a:pt x="925" y="393"/>
                  </a:lnTo>
                  <a:lnTo>
                    <a:pt x="930" y="391"/>
                  </a:lnTo>
                  <a:lnTo>
                    <a:pt x="936" y="388"/>
                  </a:lnTo>
                  <a:lnTo>
                    <a:pt x="943" y="383"/>
                  </a:lnTo>
                  <a:lnTo>
                    <a:pt x="948" y="379"/>
                  </a:lnTo>
                  <a:lnTo>
                    <a:pt x="954" y="374"/>
                  </a:lnTo>
                  <a:lnTo>
                    <a:pt x="966" y="362"/>
                  </a:lnTo>
                  <a:lnTo>
                    <a:pt x="976" y="350"/>
                  </a:lnTo>
                  <a:lnTo>
                    <a:pt x="987" y="339"/>
                  </a:lnTo>
                  <a:lnTo>
                    <a:pt x="998" y="329"/>
                  </a:lnTo>
                  <a:lnTo>
                    <a:pt x="1003" y="324"/>
                  </a:lnTo>
                  <a:lnTo>
                    <a:pt x="1009" y="316"/>
                  </a:lnTo>
                  <a:lnTo>
                    <a:pt x="1014" y="306"/>
                  </a:lnTo>
                  <a:lnTo>
                    <a:pt x="1019" y="293"/>
                  </a:lnTo>
                  <a:lnTo>
                    <a:pt x="1023" y="279"/>
                  </a:lnTo>
                  <a:lnTo>
                    <a:pt x="1026" y="264"/>
                  </a:lnTo>
                  <a:lnTo>
                    <a:pt x="1029" y="247"/>
                  </a:lnTo>
                  <a:lnTo>
                    <a:pt x="1033" y="230"/>
                  </a:lnTo>
                  <a:lnTo>
                    <a:pt x="1035" y="213"/>
                  </a:lnTo>
                  <a:lnTo>
                    <a:pt x="1036" y="194"/>
                  </a:lnTo>
                  <a:lnTo>
                    <a:pt x="1037" y="178"/>
                  </a:lnTo>
                  <a:lnTo>
                    <a:pt x="1038" y="162"/>
                  </a:lnTo>
                  <a:lnTo>
                    <a:pt x="1038" y="147"/>
                  </a:lnTo>
                  <a:lnTo>
                    <a:pt x="1037" y="133"/>
                  </a:lnTo>
                  <a:lnTo>
                    <a:pt x="1035" y="121"/>
                  </a:lnTo>
                  <a:lnTo>
                    <a:pt x="1033" y="111"/>
                  </a:lnTo>
                  <a:lnTo>
                    <a:pt x="1032" y="104"/>
                  </a:lnTo>
                  <a:lnTo>
                    <a:pt x="1032" y="95"/>
                  </a:lnTo>
                  <a:lnTo>
                    <a:pt x="1034" y="85"/>
                  </a:lnTo>
                  <a:lnTo>
                    <a:pt x="1037" y="77"/>
                  </a:lnTo>
                  <a:lnTo>
                    <a:pt x="1042" y="67"/>
                  </a:lnTo>
                  <a:lnTo>
                    <a:pt x="1048" y="58"/>
                  </a:lnTo>
                  <a:lnTo>
                    <a:pt x="1054" y="49"/>
                  </a:lnTo>
                  <a:lnTo>
                    <a:pt x="1061" y="40"/>
                  </a:lnTo>
                  <a:lnTo>
                    <a:pt x="1075" y="25"/>
                  </a:lnTo>
                  <a:lnTo>
                    <a:pt x="1088" y="12"/>
                  </a:lnTo>
                  <a:lnTo>
                    <a:pt x="1096" y="3"/>
                  </a:lnTo>
                  <a:lnTo>
                    <a:pt x="1100" y="0"/>
                  </a:lnTo>
                  <a:lnTo>
                    <a:pt x="1102" y="65"/>
                  </a:lnTo>
                  <a:lnTo>
                    <a:pt x="1102" y="68"/>
                  </a:lnTo>
                  <a:lnTo>
                    <a:pt x="1102" y="79"/>
                  </a:lnTo>
                  <a:lnTo>
                    <a:pt x="1101" y="93"/>
                  </a:lnTo>
                  <a:lnTo>
                    <a:pt x="1101" y="112"/>
                  </a:lnTo>
                  <a:lnTo>
                    <a:pt x="1100" y="134"/>
                  </a:lnTo>
                  <a:lnTo>
                    <a:pt x="1100" y="157"/>
                  </a:lnTo>
                  <a:lnTo>
                    <a:pt x="1101" y="179"/>
                  </a:lnTo>
                  <a:lnTo>
                    <a:pt x="1102" y="201"/>
                  </a:lnTo>
                  <a:lnTo>
                    <a:pt x="1103" y="220"/>
                  </a:lnTo>
                  <a:lnTo>
                    <a:pt x="1103" y="241"/>
                  </a:lnTo>
                  <a:lnTo>
                    <a:pt x="1102" y="262"/>
                  </a:lnTo>
                  <a:lnTo>
                    <a:pt x="1100" y="283"/>
                  </a:lnTo>
                  <a:lnTo>
                    <a:pt x="1095" y="306"/>
                  </a:lnTo>
                  <a:lnTo>
                    <a:pt x="1090" y="328"/>
                  </a:lnTo>
                  <a:lnTo>
                    <a:pt x="1084" y="351"/>
                  </a:lnTo>
                  <a:lnTo>
                    <a:pt x="1077" y="374"/>
                  </a:lnTo>
                  <a:lnTo>
                    <a:pt x="1070" y="399"/>
                  </a:lnTo>
                  <a:lnTo>
                    <a:pt x="1064" y="426"/>
                  </a:lnTo>
                  <a:lnTo>
                    <a:pt x="1057" y="455"/>
                  </a:lnTo>
                  <a:lnTo>
                    <a:pt x="1051" y="484"/>
                  </a:lnTo>
                  <a:lnTo>
                    <a:pt x="1047" y="514"/>
                  </a:lnTo>
                  <a:lnTo>
                    <a:pt x="1041" y="542"/>
                  </a:lnTo>
                  <a:lnTo>
                    <a:pt x="1037" y="568"/>
                  </a:lnTo>
                  <a:lnTo>
                    <a:pt x="1033" y="591"/>
                  </a:lnTo>
                  <a:lnTo>
                    <a:pt x="1030" y="603"/>
                  </a:lnTo>
                  <a:lnTo>
                    <a:pt x="1027" y="615"/>
                  </a:lnTo>
                  <a:lnTo>
                    <a:pt x="1022" y="628"/>
                  </a:lnTo>
                  <a:lnTo>
                    <a:pt x="1015" y="640"/>
                  </a:lnTo>
                  <a:lnTo>
                    <a:pt x="1008" y="653"/>
                  </a:lnTo>
                  <a:lnTo>
                    <a:pt x="999" y="667"/>
                  </a:lnTo>
                  <a:lnTo>
                    <a:pt x="989" y="680"/>
                  </a:lnTo>
                  <a:lnTo>
                    <a:pt x="980" y="694"/>
                  </a:lnTo>
                  <a:lnTo>
                    <a:pt x="958" y="720"/>
                  </a:lnTo>
                  <a:lnTo>
                    <a:pt x="935" y="744"/>
                  </a:lnTo>
                  <a:lnTo>
                    <a:pt x="912" y="766"/>
                  </a:lnTo>
                  <a:lnTo>
                    <a:pt x="890" y="784"/>
                  </a:lnTo>
                  <a:lnTo>
                    <a:pt x="867" y="801"/>
                  </a:lnTo>
                  <a:lnTo>
                    <a:pt x="844" y="820"/>
                  </a:lnTo>
                  <a:lnTo>
                    <a:pt x="820" y="839"/>
                  </a:lnTo>
                  <a:lnTo>
                    <a:pt x="797" y="858"/>
                  </a:lnTo>
                  <a:lnTo>
                    <a:pt x="775" y="876"/>
                  </a:lnTo>
                  <a:lnTo>
                    <a:pt x="756" y="891"/>
                  </a:lnTo>
                  <a:lnTo>
                    <a:pt x="739" y="905"/>
                  </a:lnTo>
                  <a:lnTo>
                    <a:pt x="724" y="915"/>
                  </a:lnTo>
                  <a:lnTo>
                    <a:pt x="711" y="926"/>
                  </a:lnTo>
                  <a:lnTo>
                    <a:pt x="696" y="937"/>
                  </a:lnTo>
                  <a:lnTo>
                    <a:pt x="678" y="949"/>
                  </a:lnTo>
                  <a:lnTo>
                    <a:pt x="659" y="961"/>
                  </a:lnTo>
                  <a:lnTo>
                    <a:pt x="648" y="967"/>
                  </a:lnTo>
                  <a:lnTo>
                    <a:pt x="636" y="971"/>
                  </a:lnTo>
                  <a:lnTo>
                    <a:pt x="624" y="975"/>
                  </a:lnTo>
                  <a:lnTo>
                    <a:pt x="611" y="979"/>
                  </a:lnTo>
                  <a:lnTo>
                    <a:pt x="597" y="982"/>
                  </a:lnTo>
                  <a:lnTo>
                    <a:pt x="583" y="984"/>
                  </a:lnTo>
                  <a:lnTo>
                    <a:pt x="567" y="985"/>
                  </a:lnTo>
                  <a:lnTo>
                    <a:pt x="551" y="984"/>
                  </a:lnTo>
                  <a:lnTo>
                    <a:pt x="532" y="983"/>
                  </a:lnTo>
                  <a:lnTo>
                    <a:pt x="514" y="981"/>
                  </a:lnTo>
                  <a:lnTo>
                    <a:pt x="496" y="979"/>
                  </a:lnTo>
                  <a:lnTo>
                    <a:pt x="477" y="974"/>
                  </a:lnTo>
                  <a:lnTo>
                    <a:pt x="458" y="970"/>
                  </a:lnTo>
                  <a:lnTo>
                    <a:pt x="438" y="966"/>
                  </a:lnTo>
                  <a:lnTo>
                    <a:pt x="419" y="959"/>
                  </a:lnTo>
                  <a:lnTo>
                    <a:pt x="401" y="953"/>
                  </a:lnTo>
                  <a:lnTo>
                    <a:pt x="381" y="945"/>
                  </a:lnTo>
                  <a:lnTo>
                    <a:pt x="363" y="937"/>
                  </a:lnTo>
                  <a:lnTo>
                    <a:pt x="346" y="929"/>
                  </a:lnTo>
                  <a:lnTo>
                    <a:pt x="328" y="919"/>
                  </a:lnTo>
                  <a:lnTo>
                    <a:pt x="311" y="908"/>
                  </a:lnTo>
                  <a:lnTo>
                    <a:pt x="296" y="898"/>
                  </a:lnTo>
                  <a:lnTo>
                    <a:pt x="281" y="886"/>
                  </a:lnTo>
                  <a:lnTo>
                    <a:pt x="267" y="873"/>
                  </a:lnTo>
                  <a:lnTo>
                    <a:pt x="238" y="847"/>
                  </a:lnTo>
                  <a:lnTo>
                    <a:pt x="208" y="820"/>
                  </a:lnTo>
                  <a:lnTo>
                    <a:pt x="179" y="791"/>
                  </a:lnTo>
                  <a:lnTo>
                    <a:pt x="151" y="763"/>
                  </a:lnTo>
                  <a:lnTo>
                    <a:pt x="124" y="734"/>
                  </a:lnTo>
                  <a:lnTo>
                    <a:pt x="100" y="707"/>
                  </a:lnTo>
                  <a:lnTo>
                    <a:pt x="80" y="683"/>
                  </a:lnTo>
                  <a:lnTo>
                    <a:pt x="64" y="661"/>
                  </a:lnTo>
                  <a:lnTo>
                    <a:pt x="56" y="650"/>
                  </a:lnTo>
                  <a:lnTo>
                    <a:pt x="50" y="638"/>
                  </a:lnTo>
                  <a:lnTo>
                    <a:pt x="43" y="626"/>
                  </a:lnTo>
                  <a:lnTo>
                    <a:pt x="38" y="612"/>
                  </a:lnTo>
                  <a:lnTo>
                    <a:pt x="28" y="584"/>
                  </a:lnTo>
                  <a:lnTo>
                    <a:pt x="20" y="556"/>
                  </a:lnTo>
                  <a:lnTo>
                    <a:pt x="14" y="529"/>
                  </a:lnTo>
                  <a:lnTo>
                    <a:pt x="11" y="505"/>
                  </a:lnTo>
                  <a:lnTo>
                    <a:pt x="8" y="486"/>
                  </a:lnTo>
                  <a:lnTo>
                    <a:pt x="10" y="473"/>
                  </a:lnTo>
                  <a:lnTo>
                    <a:pt x="11" y="461"/>
                  </a:lnTo>
                  <a:lnTo>
                    <a:pt x="10" y="444"/>
                  </a:lnTo>
                  <a:lnTo>
                    <a:pt x="8" y="424"/>
                  </a:lnTo>
                  <a:lnTo>
                    <a:pt x="6" y="401"/>
                  </a:lnTo>
                  <a:lnTo>
                    <a:pt x="4" y="376"/>
                  </a:lnTo>
                  <a:lnTo>
                    <a:pt x="2" y="350"/>
                  </a:lnTo>
                  <a:lnTo>
                    <a:pt x="0" y="324"/>
                  </a:lnTo>
                  <a:lnTo>
                    <a:pt x="0" y="299"/>
                  </a:lnTo>
                  <a:lnTo>
                    <a:pt x="0" y="286"/>
                  </a:lnTo>
                  <a:lnTo>
                    <a:pt x="2" y="275"/>
                  </a:lnTo>
                  <a:lnTo>
                    <a:pt x="5" y="267"/>
                  </a:lnTo>
                  <a:lnTo>
                    <a:pt x="8" y="260"/>
                  </a:lnTo>
                  <a:lnTo>
                    <a:pt x="13" y="255"/>
                  </a:lnTo>
                  <a:lnTo>
                    <a:pt x="18" y="252"/>
                  </a:lnTo>
                  <a:lnTo>
                    <a:pt x="24" y="250"/>
                  </a:lnTo>
                  <a:lnTo>
                    <a:pt x="29" y="248"/>
                  </a:lnTo>
                  <a:lnTo>
                    <a:pt x="40" y="248"/>
                  </a:lnTo>
                  <a:lnTo>
                    <a:pt x="50" y="252"/>
                  </a:lnTo>
                  <a:lnTo>
                    <a:pt x="56" y="254"/>
                  </a:lnTo>
                  <a:lnTo>
                    <a:pt x="59" y="255"/>
                  </a:lnTo>
                  <a:lnTo>
                    <a:pt x="63" y="270"/>
                  </a:lnTo>
                  <a:lnTo>
                    <a:pt x="67" y="284"/>
                  </a:lnTo>
                  <a:lnTo>
                    <a:pt x="72" y="297"/>
                  </a:lnTo>
                  <a:lnTo>
                    <a:pt x="79" y="309"/>
                  </a:lnTo>
                  <a:lnTo>
                    <a:pt x="85" y="320"/>
                  </a:lnTo>
                  <a:lnTo>
                    <a:pt x="92" y="328"/>
                  </a:lnTo>
                  <a:lnTo>
                    <a:pt x="98" y="337"/>
                  </a:lnTo>
                  <a:lnTo>
                    <a:pt x="105" y="345"/>
                  </a:lnTo>
                  <a:lnTo>
                    <a:pt x="118" y="356"/>
                  </a:lnTo>
                  <a:lnTo>
                    <a:pt x="128" y="365"/>
                  </a:lnTo>
                  <a:lnTo>
                    <a:pt x="135" y="369"/>
                  </a:lnTo>
                  <a:lnTo>
                    <a:pt x="138" y="372"/>
                  </a:lnTo>
                  <a:lnTo>
                    <a:pt x="148" y="378"/>
                  </a:lnTo>
                  <a:lnTo>
                    <a:pt x="159" y="383"/>
                  </a:lnTo>
                  <a:lnTo>
                    <a:pt x="169" y="387"/>
                  </a:lnTo>
                  <a:lnTo>
                    <a:pt x="181" y="390"/>
                  </a:lnTo>
                  <a:lnTo>
                    <a:pt x="204" y="393"/>
                  </a:lnTo>
                  <a:lnTo>
                    <a:pt x="227" y="395"/>
                  </a:lnTo>
                  <a:lnTo>
                    <a:pt x="249" y="397"/>
                  </a:lnTo>
                  <a:lnTo>
                    <a:pt x="270" y="401"/>
                  </a:lnTo>
                  <a:lnTo>
                    <a:pt x="280" y="404"/>
                  </a:lnTo>
                  <a:lnTo>
                    <a:pt x="288" y="408"/>
                  </a:lnTo>
                  <a:lnTo>
                    <a:pt x="297" y="414"/>
                  </a:lnTo>
                  <a:lnTo>
                    <a:pt x="303" y="420"/>
                  </a:lnTo>
                  <a:lnTo>
                    <a:pt x="310" y="429"/>
                  </a:lnTo>
                  <a:lnTo>
                    <a:pt x="314" y="437"/>
                  </a:lnTo>
                  <a:lnTo>
                    <a:pt x="317" y="445"/>
                  </a:lnTo>
                  <a:lnTo>
                    <a:pt x="319" y="454"/>
                  </a:lnTo>
                  <a:lnTo>
                    <a:pt x="317" y="461"/>
                  </a:lnTo>
                  <a:lnTo>
                    <a:pt x="316" y="469"/>
                  </a:lnTo>
                  <a:lnTo>
                    <a:pt x="313" y="476"/>
                  </a:lnTo>
                  <a:lnTo>
                    <a:pt x="309" y="484"/>
                  </a:lnTo>
                  <a:lnTo>
                    <a:pt x="297" y="500"/>
                  </a:lnTo>
                  <a:lnTo>
                    <a:pt x="283" y="518"/>
                  </a:lnTo>
                  <a:lnTo>
                    <a:pt x="267" y="538"/>
                  </a:lnTo>
                  <a:lnTo>
                    <a:pt x="249" y="562"/>
                  </a:lnTo>
                  <a:lnTo>
                    <a:pt x="245" y="570"/>
                  </a:lnTo>
                  <a:lnTo>
                    <a:pt x="241" y="579"/>
                  </a:lnTo>
                  <a:lnTo>
                    <a:pt x="239" y="586"/>
                  </a:lnTo>
                  <a:lnTo>
                    <a:pt x="238" y="595"/>
                  </a:lnTo>
                  <a:lnTo>
                    <a:pt x="236" y="604"/>
                  </a:lnTo>
                  <a:lnTo>
                    <a:pt x="236" y="611"/>
                  </a:lnTo>
                  <a:lnTo>
                    <a:pt x="238" y="620"/>
                  </a:lnTo>
                  <a:lnTo>
                    <a:pt x="240" y="628"/>
                  </a:lnTo>
                  <a:lnTo>
                    <a:pt x="242" y="635"/>
                  </a:lnTo>
                  <a:lnTo>
                    <a:pt x="245" y="643"/>
                  </a:lnTo>
                  <a:lnTo>
                    <a:pt x="248" y="650"/>
                  </a:lnTo>
                  <a:lnTo>
                    <a:pt x="253" y="658"/>
                  </a:lnTo>
                  <a:lnTo>
                    <a:pt x="262" y="672"/>
                  </a:lnTo>
                  <a:lnTo>
                    <a:pt x="273" y="685"/>
                  </a:lnTo>
                  <a:lnTo>
                    <a:pt x="285" y="698"/>
                  </a:lnTo>
                  <a:lnTo>
                    <a:pt x="297" y="710"/>
                  </a:lnTo>
                  <a:lnTo>
                    <a:pt x="309" y="720"/>
                  </a:lnTo>
                  <a:lnTo>
                    <a:pt x="320" y="731"/>
                  </a:lnTo>
                  <a:lnTo>
                    <a:pt x="330" y="740"/>
                  </a:lnTo>
                  <a:lnTo>
                    <a:pt x="339" y="748"/>
                  </a:lnTo>
                  <a:lnTo>
                    <a:pt x="346" y="756"/>
                  </a:lnTo>
                  <a:lnTo>
                    <a:pt x="351" y="761"/>
                  </a:lnTo>
                  <a:lnTo>
                    <a:pt x="361" y="777"/>
                  </a:lnTo>
                  <a:lnTo>
                    <a:pt x="374" y="795"/>
                  </a:lnTo>
                  <a:lnTo>
                    <a:pt x="390" y="818"/>
                  </a:lnTo>
                  <a:lnTo>
                    <a:pt x="406" y="839"/>
                  </a:lnTo>
                  <a:lnTo>
                    <a:pt x="421" y="861"/>
                  </a:lnTo>
                  <a:lnTo>
                    <a:pt x="435" y="878"/>
                  </a:lnTo>
                  <a:lnTo>
                    <a:pt x="444" y="891"/>
                  </a:lnTo>
                  <a:lnTo>
                    <a:pt x="447" y="895"/>
                  </a:lnTo>
                  <a:lnTo>
                    <a:pt x="454" y="902"/>
                  </a:lnTo>
                  <a:lnTo>
                    <a:pt x="460" y="907"/>
                  </a:lnTo>
                  <a:lnTo>
                    <a:pt x="468" y="913"/>
                  </a:lnTo>
                  <a:lnTo>
                    <a:pt x="475" y="917"/>
                  </a:lnTo>
                  <a:lnTo>
                    <a:pt x="483" y="921"/>
                  </a:lnTo>
                  <a:lnTo>
                    <a:pt x="491" y="925"/>
                  </a:lnTo>
                  <a:lnTo>
                    <a:pt x="500" y="928"/>
                  </a:lnTo>
                  <a:lnTo>
                    <a:pt x="509" y="930"/>
                  </a:lnTo>
                  <a:lnTo>
                    <a:pt x="527" y="933"/>
                  </a:lnTo>
                  <a:lnTo>
                    <a:pt x="546" y="935"/>
                  </a:lnTo>
                  <a:lnTo>
                    <a:pt x="566" y="936"/>
                  </a:lnTo>
                  <a:lnTo>
                    <a:pt x="585" y="935"/>
                  </a:lnTo>
                  <a:lnTo>
                    <a:pt x="605" y="932"/>
                  </a:lnTo>
                  <a:lnTo>
                    <a:pt x="623" y="929"/>
                  </a:lnTo>
                  <a:lnTo>
                    <a:pt x="640" y="923"/>
                  </a:lnTo>
                  <a:lnTo>
                    <a:pt x="657" y="918"/>
                  </a:lnTo>
                  <a:lnTo>
                    <a:pt x="671" y="910"/>
                  </a:lnTo>
                  <a:lnTo>
                    <a:pt x="684" y="903"/>
                  </a:lnTo>
                  <a:lnTo>
                    <a:pt x="693" y="894"/>
                  </a:lnTo>
                  <a:lnTo>
                    <a:pt x="702" y="886"/>
                  </a:lnTo>
                  <a:lnTo>
                    <a:pt x="717" y="866"/>
                  </a:lnTo>
                  <a:lnTo>
                    <a:pt x="730" y="849"/>
                  </a:lnTo>
                  <a:lnTo>
                    <a:pt x="743" y="833"/>
                  </a:lnTo>
                  <a:lnTo>
                    <a:pt x="755" y="819"/>
                  </a:lnTo>
                  <a:lnTo>
                    <a:pt x="766" y="806"/>
                  </a:lnTo>
                  <a:lnTo>
                    <a:pt x="777" y="794"/>
                  </a:lnTo>
                  <a:lnTo>
                    <a:pt x="786" y="784"/>
                  </a:lnTo>
                  <a:lnTo>
                    <a:pt x="796" y="774"/>
                  </a:lnTo>
                  <a:lnTo>
                    <a:pt x="805" y="765"/>
                  </a:lnTo>
                  <a:lnTo>
                    <a:pt x="814" y="756"/>
                  </a:lnTo>
                  <a:lnTo>
                    <a:pt x="824" y="747"/>
                  </a:lnTo>
                  <a:lnTo>
                    <a:pt x="834" y="738"/>
                  </a:lnTo>
                  <a:lnTo>
                    <a:pt x="844" y="726"/>
                  </a:lnTo>
                  <a:lnTo>
                    <a:pt x="854" y="713"/>
                  </a:lnTo>
                  <a:lnTo>
                    <a:pt x="865" y="698"/>
                  </a:lnTo>
                  <a:lnTo>
                    <a:pt x="877" y="680"/>
                  </a:lnTo>
                  <a:lnTo>
                    <a:pt x="882" y="673"/>
                  </a:lnTo>
                  <a:lnTo>
                    <a:pt x="887" y="664"/>
                  </a:lnTo>
                  <a:lnTo>
                    <a:pt x="892" y="655"/>
                  </a:lnTo>
                  <a:lnTo>
                    <a:pt x="896" y="645"/>
                  </a:lnTo>
                  <a:lnTo>
                    <a:pt x="900" y="634"/>
                  </a:lnTo>
                  <a:lnTo>
                    <a:pt x="903" y="622"/>
                  </a:lnTo>
                  <a:lnTo>
                    <a:pt x="905" y="610"/>
                  </a:lnTo>
                  <a:lnTo>
                    <a:pt x="907" y="597"/>
                  </a:lnTo>
                  <a:lnTo>
                    <a:pt x="908" y="584"/>
                  </a:lnTo>
                  <a:lnTo>
                    <a:pt x="908" y="570"/>
                  </a:lnTo>
                  <a:lnTo>
                    <a:pt x="907" y="557"/>
                  </a:lnTo>
                  <a:lnTo>
                    <a:pt x="905" y="543"/>
                  </a:lnTo>
                  <a:lnTo>
                    <a:pt x="902" y="530"/>
                  </a:lnTo>
                  <a:lnTo>
                    <a:pt x="896" y="516"/>
                  </a:lnTo>
                  <a:lnTo>
                    <a:pt x="890" y="503"/>
                  </a:lnTo>
                  <a:lnTo>
                    <a:pt x="882" y="490"/>
                  </a:lnTo>
                  <a:lnTo>
                    <a:pt x="874" y="477"/>
                  </a:lnTo>
                  <a:lnTo>
                    <a:pt x="867" y="467"/>
                  </a:lnTo>
                  <a:lnTo>
                    <a:pt x="862" y="456"/>
                  </a:lnTo>
                  <a:lnTo>
                    <a:pt x="859" y="445"/>
                  </a:lnTo>
                  <a:lnTo>
                    <a:pt x="858" y="436"/>
                  </a:lnTo>
                  <a:lnTo>
                    <a:pt x="856" y="428"/>
                  </a:lnTo>
                  <a:lnTo>
                    <a:pt x="858" y="420"/>
                  </a:lnTo>
                  <a:lnTo>
                    <a:pt x="860" y="413"/>
                  </a:lnTo>
                  <a:lnTo>
                    <a:pt x="863" y="407"/>
                  </a:lnTo>
                  <a:lnTo>
                    <a:pt x="867" y="402"/>
                  </a:lnTo>
                  <a:lnTo>
                    <a:pt x="872" y="399"/>
                  </a:lnTo>
                  <a:lnTo>
                    <a:pt x="877" y="395"/>
                  </a:lnTo>
                  <a:lnTo>
                    <a:pt x="884" y="393"/>
                  </a:lnTo>
                  <a:lnTo>
                    <a:pt x="890" y="392"/>
                  </a:lnTo>
                  <a:lnTo>
                    <a:pt x="898" y="392"/>
                  </a:lnTo>
                  <a:lnTo>
                    <a:pt x="904" y="393"/>
                  </a:lnTo>
                  <a:close/>
                </a:path>
              </a:pathLst>
            </a:custGeom>
            <a:solidFill>
              <a:srgbClr val="8b68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5594400" y="2089080"/>
              <a:ext cx="349200" cy="312840"/>
            </a:xfrm>
            <a:custGeom>
              <a:avLst/>
              <a:gdLst/>
              <a:ahLst/>
              <a:rect l="l" t="t" r="r" b="b"/>
              <a:pathLst>
                <a:path w="1103" h="985">
                  <a:moveTo>
                    <a:pt x="912" y="406"/>
                  </a:moveTo>
                  <a:lnTo>
                    <a:pt x="919" y="406"/>
                  </a:lnTo>
                  <a:lnTo>
                    <a:pt x="926" y="406"/>
                  </a:lnTo>
                  <a:lnTo>
                    <a:pt x="933" y="404"/>
                  </a:lnTo>
                  <a:lnTo>
                    <a:pt x="940" y="402"/>
                  </a:lnTo>
                  <a:lnTo>
                    <a:pt x="946" y="399"/>
                  </a:lnTo>
                  <a:lnTo>
                    <a:pt x="953" y="394"/>
                  </a:lnTo>
                  <a:lnTo>
                    <a:pt x="959" y="389"/>
                  </a:lnTo>
                  <a:lnTo>
                    <a:pt x="965" y="383"/>
                  </a:lnTo>
                  <a:lnTo>
                    <a:pt x="976" y="372"/>
                  </a:lnTo>
                  <a:lnTo>
                    <a:pt x="987" y="359"/>
                  </a:lnTo>
                  <a:lnTo>
                    <a:pt x="998" y="347"/>
                  </a:lnTo>
                  <a:lnTo>
                    <a:pt x="1008" y="337"/>
                  </a:lnTo>
                  <a:lnTo>
                    <a:pt x="1013" y="331"/>
                  </a:lnTo>
                  <a:lnTo>
                    <a:pt x="1019" y="323"/>
                  </a:lnTo>
                  <a:lnTo>
                    <a:pt x="1024" y="311"/>
                  </a:lnTo>
                  <a:lnTo>
                    <a:pt x="1028" y="298"/>
                  </a:lnTo>
                  <a:lnTo>
                    <a:pt x="1032" y="284"/>
                  </a:lnTo>
                  <a:lnTo>
                    <a:pt x="1036" y="268"/>
                  </a:lnTo>
                  <a:lnTo>
                    <a:pt x="1039" y="251"/>
                  </a:lnTo>
                  <a:lnTo>
                    <a:pt x="1041" y="232"/>
                  </a:lnTo>
                  <a:lnTo>
                    <a:pt x="1046" y="197"/>
                  </a:lnTo>
                  <a:lnTo>
                    <a:pt x="1047" y="162"/>
                  </a:lnTo>
                  <a:lnTo>
                    <a:pt x="1047" y="147"/>
                  </a:lnTo>
                  <a:lnTo>
                    <a:pt x="1046" y="133"/>
                  </a:lnTo>
                  <a:lnTo>
                    <a:pt x="1044" y="121"/>
                  </a:lnTo>
                  <a:lnTo>
                    <a:pt x="1042" y="111"/>
                  </a:lnTo>
                  <a:lnTo>
                    <a:pt x="1041" y="104"/>
                  </a:lnTo>
                  <a:lnTo>
                    <a:pt x="1041" y="95"/>
                  </a:lnTo>
                  <a:lnTo>
                    <a:pt x="1042" y="85"/>
                  </a:lnTo>
                  <a:lnTo>
                    <a:pt x="1046" y="77"/>
                  </a:lnTo>
                  <a:lnTo>
                    <a:pt x="1050" y="67"/>
                  </a:lnTo>
                  <a:lnTo>
                    <a:pt x="1054" y="58"/>
                  </a:lnTo>
                  <a:lnTo>
                    <a:pt x="1060" y="49"/>
                  </a:lnTo>
                  <a:lnTo>
                    <a:pt x="1066" y="40"/>
                  </a:lnTo>
                  <a:lnTo>
                    <a:pt x="1078" y="25"/>
                  </a:lnTo>
                  <a:lnTo>
                    <a:pt x="1089" y="12"/>
                  </a:lnTo>
                  <a:lnTo>
                    <a:pt x="1096" y="3"/>
                  </a:lnTo>
                  <a:lnTo>
                    <a:pt x="1100" y="0"/>
                  </a:lnTo>
                  <a:lnTo>
                    <a:pt x="1102" y="65"/>
                  </a:lnTo>
                  <a:lnTo>
                    <a:pt x="1102" y="68"/>
                  </a:lnTo>
                  <a:lnTo>
                    <a:pt x="1102" y="79"/>
                  </a:lnTo>
                  <a:lnTo>
                    <a:pt x="1101" y="93"/>
                  </a:lnTo>
                  <a:lnTo>
                    <a:pt x="1101" y="112"/>
                  </a:lnTo>
                  <a:lnTo>
                    <a:pt x="1100" y="134"/>
                  </a:lnTo>
                  <a:lnTo>
                    <a:pt x="1100" y="157"/>
                  </a:lnTo>
                  <a:lnTo>
                    <a:pt x="1101" y="179"/>
                  </a:lnTo>
                  <a:lnTo>
                    <a:pt x="1102" y="201"/>
                  </a:lnTo>
                  <a:lnTo>
                    <a:pt x="1103" y="220"/>
                  </a:lnTo>
                  <a:lnTo>
                    <a:pt x="1103" y="241"/>
                  </a:lnTo>
                  <a:lnTo>
                    <a:pt x="1102" y="262"/>
                  </a:lnTo>
                  <a:lnTo>
                    <a:pt x="1100" y="283"/>
                  </a:lnTo>
                  <a:lnTo>
                    <a:pt x="1095" y="306"/>
                  </a:lnTo>
                  <a:lnTo>
                    <a:pt x="1090" y="328"/>
                  </a:lnTo>
                  <a:lnTo>
                    <a:pt x="1084" y="351"/>
                  </a:lnTo>
                  <a:lnTo>
                    <a:pt x="1077" y="374"/>
                  </a:lnTo>
                  <a:lnTo>
                    <a:pt x="1070" y="399"/>
                  </a:lnTo>
                  <a:lnTo>
                    <a:pt x="1064" y="426"/>
                  </a:lnTo>
                  <a:lnTo>
                    <a:pt x="1057" y="455"/>
                  </a:lnTo>
                  <a:lnTo>
                    <a:pt x="1051" y="484"/>
                  </a:lnTo>
                  <a:lnTo>
                    <a:pt x="1047" y="514"/>
                  </a:lnTo>
                  <a:lnTo>
                    <a:pt x="1041" y="542"/>
                  </a:lnTo>
                  <a:lnTo>
                    <a:pt x="1037" y="568"/>
                  </a:lnTo>
                  <a:lnTo>
                    <a:pt x="1033" y="591"/>
                  </a:lnTo>
                  <a:lnTo>
                    <a:pt x="1030" y="603"/>
                  </a:lnTo>
                  <a:lnTo>
                    <a:pt x="1027" y="615"/>
                  </a:lnTo>
                  <a:lnTo>
                    <a:pt x="1022" y="628"/>
                  </a:lnTo>
                  <a:lnTo>
                    <a:pt x="1015" y="640"/>
                  </a:lnTo>
                  <a:lnTo>
                    <a:pt x="1008" y="653"/>
                  </a:lnTo>
                  <a:lnTo>
                    <a:pt x="999" y="667"/>
                  </a:lnTo>
                  <a:lnTo>
                    <a:pt x="989" y="680"/>
                  </a:lnTo>
                  <a:lnTo>
                    <a:pt x="980" y="694"/>
                  </a:lnTo>
                  <a:lnTo>
                    <a:pt x="958" y="720"/>
                  </a:lnTo>
                  <a:lnTo>
                    <a:pt x="935" y="744"/>
                  </a:lnTo>
                  <a:lnTo>
                    <a:pt x="912" y="766"/>
                  </a:lnTo>
                  <a:lnTo>
                    <a:pt x="890" y="784"/>
                  </a:lnTo>
                  <a:lnTo>
                    <a:pt x="867" y="801"/>
                  </a:lnTo>
                  <a:lnTo>
                    <a:pt x="844" y="820"/>
                  </a:lnTo>
                  <a:lnTo>
                    <a:pt x="820" y="839"/>
                  </a:lnTo>
                  <a:lnTo>
                    <a:pt x="797" y="858"/>
                  </a:lnTo>
                  <a:lnTo>
                    <a:pt x="775" y="876"/>
                  </a:lnTo>
                  <a:lnTo>
                    <a:pt x="756" y="891"/>
                  </a:lnTo>
                  <a:lnTo>
                    <a:pt x="739" y="905"/>
                  </a:lnTo>
                  <a:lnTo>
                    <a:pt x="724" y="915"/>
                  </a:lnTo>
                  <a:lnTo>
                    <a:pt x="711" y="926"/>
                  </a:lnTo>
                  <a:lnTo>
                    <a:pt x="696" y="937"/>
                  </a:lnTo>
                  <a:lnTo>
                    <a:pt x="678" y="949"/>
                  </a:lnTo>
                  <a:lnTo>
                    <a:pt x="659" y="961"/>
                  </a:lnTo>
                  <a:lnTo>
                    <a:pt x="648" y="967"/>
                  </a:lnTo>
                  <a:lnTo>
                    <a:pt x="636" y="971"/>
                  </a:lnTo>
                  <a:lnTo>
                    <a:pt x="624" y="975"/>
                  </a:lnTo>
                  <a:lnTo>
                    <a:pt x="611" y="979"/>
                  </a:lnTo>
                  <a:lnTo>
                    <a:pt x="597" y="982"/>
                  </a:lnTo>
                  <a:lnTo>
                    <a:pt x="583" y="984"/>
                  </a:lnTo>
                  <a:lnTo>
                    <a:pt x="567" y="985"/>
                  </a:lnTo>
                  <a:lnTo>
                    <a:pt x="551" y="984"/>
                  </a:lnTo>
                  <a:lnTo>
                    <a:pt x="532" y="983"/>
                  </a:lnTo>
                  <a:lnTo>
                    <a:pt x="514" y="981"/>
                  </a:lnTo>
                  <a:lnTo>
                    <a:pt x="496" y="979"/>
                  </a:lnTo>
                  <a:lnTo>
                    <a:pt x="477" y="974"/>
                  </a:lnTo>
                  <a:lnTo>
                    <a:pt x="458" y="970"/>
                  </a:lnTo>
                  <a:lnTo>
                    <a:pt x="438" y="966"/>
                  </a:lnTo>
                  <a:lnTo>
                    <a:pt x="419" y="959"/>
                  </a:lnTo>
                  <a:lnTo>
                    <a:pt x="401" y="953"/>
                  </a:lnTo>
                  <a:lnTo>
                    <a:pt x="381" y="945"/>
                  </a:lnTo>
                  <a:lnTo>
                    <a:pt x="363" y="937"/>
                  </a:lnTo>
                  <a:lnTo>
                    <a:pt x="346" y="929"/>
                  </a:lnTo>
                  <a:lnTo>
                    <a:pt x="328" y="919"/>
                  </a:lnTo>
                  <a:lnTo>
                    <a:pt x="311" y="908"/>
                  </a:lnTo>
                  <a:lnTo>
                    <a:pt x="296" y="898"/>
                  </a:lnTo>
                  <a:lnTo>
                    <a:pt x="281" y="886"/>
                  </a:lnTo>
                  <a:lnTo>
                    <a:pt x="267" y="873"/>
                  </a:lnTo>
                  <a:lnTo>
                    <a:pt x="238" y="847"/>
                  </a:lnTo>
                  <a:lnTo>
                    <a:pt x="208" y="820"/>
                  </a:lnTo>
                  <a:lnTo>
                    <a:pt x="179" y="791"/>
                  </a:lnTo>
                  <a:lnTo>
                    <a:pt x="151" y="763"/>
                  </a:lnTo>
                  <a:lnTo>
                    <a:pt x="124" y="734"/>
                  </a:lnTo>
                  <a:lnTo>
                    <a:pt x="100" y="707"/>
                  </a:lnTo>
                  <a:lnTo>
                    <a:pt x="80" y="683"/>
                  </a:lnTo>
                  <a:lnTo>
                    <a:pt x="64" y="661"/>
                  </a:lnTo>
                  <a:lnTo>
                    <a:pt x="56" y="650"/>
                  </a:lnTo>
                  <a:lnTo>
                    <a:pt x="50" y="638"/>
                  </a:lnTo>
                  <a:lnTo>
                    <a:pt x="43" y="626"/>
                  </a:lnTo>
                  <a:lnTo>
                    <a:pt x="38" y="612"/>
                  </a:lnTo>
                  <a:lnTo>
                    <a:pt x="28" y="584"/>
                  </a:lnTo>
                  <a:lnTo>
                    <a:pt x="20" y="556"/>
                  </a:lnTo>
                  <a:lnTo>
                    <a:pt x="14" y="529"/>
                  </a:lnTo>
                  <a:lnTo>
                    <a:pt x="11" y="505"/>
                  </a:lnTo>
                  <a:lnTo>
                    <a:pt x="8" y="486"/>
                  </a:lnTo>
                  <a:lnTo>
                    <a:pt x="10" y="473"/>
                  </a:lnTo>
                  <a:lnTo>
                    <a:pt x="11" y="461"/>
                  </a:lnTo>
                  <a:lnTo>
                    <a:pt x="10" y="446"/>
                  </a:lnTo>
                  <a:lnTo>
                    <a:pt x="8" y="427"/>
                  </a:lnTo>
                  <a:lnTo>
                    <a:pt x="6" y="406"/>
                  </a:lnTo>
                  <a:lnTo>
                    <a:pt x="4" y="382"/>
                  </a:lnTo>
                  <a:lnTo>
                    <a:pt x="2" y="359"/>
                  </a:lnTo>
                  <a:lnTo>
                    <a:pt x="0" y="334"/>
                  </a:lnTo>
                  <a:lnTo>
                    <a:pt x="0" y="310"/>
                  </a:lnTo>
                  <a:lnTo>
                    <a:pt x="0" y="296"/>
                  </a:lnTo>
                  <a:lnTo>
                    <a:pt x="1" y="285"/>
                  </a:lnTo>
                  <a:lnTo>
                    <a:pt x="3" y="277"/>
                  </a:lnTo>
                  <a:lnTo>
                    <a:pt x="5" y="270"/>
                  </a:lnTo>
                  <a:lnTo>
                    <a:pt x="10" y="266"/>
                  </a:lnTo>
                  <a:lnTo>
                    <a:pt x="13" y="261"/>
                  </a:lnTo>
                  <a:lnTo>
                    <a:pt x="17" y="259"/>
                  </a:lnTo>
                  <a:lnTo>
                    <a:pt x="23" y="258"/>
                  </a:lnTo>
                  <a:lnTo>
                    <a:pt x="31" y="259"/>
                  </a:lnTo>
                  <a:lnTo>
                    <a:pt x="39" y="261"/>
                  </a:lnTo>
                  <a:lnTo>
                    <a:pt x="44" y="264"/>
                  </a:lnTo>
                  <a:lnTo>
                    <a:pt x="46" y="265"/>
                  </a:lnTo>
                  <a:lnTo>
                    <a:pt x="51" y="280"/>
                  </a:lnTo>
                  <a:lnTo>
                    <a:pt x="55" y="294"/>
                  </a:lnTo>
                  <a:lnTo>
                    <a:pt x="59" y="307"/>
                  </a:lnTo>
                  <a:lnTo>
                    <a:pt x="66" y="318"/>
                  </a:lnTo>
                  <a:lnTo>
                    <a:pt x="71" y="328"/>
                  </a:lnTo>
                  <a:lnTo>
                    <a:pt x="78" y="338"/>
                  </a:lnTo>
                  <a:lnTo>
                    <a:pt x="84" y="347"/>
                  </a:lnTo>
                  <a:lnTo>
                    <a:pt x="90" y="355"/>
                  </a:lnTo>
                  <a:lnTo>
                    <a:pt x="101" y="367"/>
                  </a:lnTo>
                  <a:lnTo>
                    <a:pt x="111" y="377"/>
                  </a:lnTo>
                  <a:lnTo>
                    <a:pt x="118" y="382"/>
                  </a:lnTo>
                  <a:lnTo>
                    <a:pt x="121" y="383"/>
                  </a:lnTo>
                  <a:lnTo>
                    <a:pt x="131" y="390"/>
                  </a:lnTo>
                  <a:lnTo>
                    <a:pt x="141" y="395"/>
                  </a:lnTo>
                  <a:lnTo>
                    <a:pt x="152" y="399"/>
                  </a:lnTo>
                  <a:lnTo>
                    <a:pt x="163" y="402"/>
                  </a:lnTo>
                  <a:lnTo>
                    <a:pt x="185" y="406"/>
                  </a:lnTo>
                  <a:lnTo>
                    <a:pt x="205" y="408"/>
                  </a:lnTo>
                  <a:lnTo>
                    <a:pt x="225" y="412"/>
                  </a:lnTo>
                  <a:lnTo>
                    <a:pt x="243" y="416"/>
                  </a:lnTo>
                  <a:lnTo>
                    <a:pt x="252" y="419"/>
                  </a:lnTo>
                  <a:lnTo>
                    <a:pt x="259" y="423"/>
                  </a:lnTo>
                  <a:lnTo>
                    <a:pt x="266" y="429"/>
                  </a:lnTo>
                  <a:lnTo>
                    <a:pt x="271" y="435"/>
                  </a:lnTo>
                  <a:lnTo>
                    <a:pt x="277" y="443"/>
                  </a:lnTo>
                  <a:lnTo>
                    <a:pt x="281" y="450"/>
                  </a:lnTo>
                  <a:lnTo>
                    <a:pt x="284" y="458"/>
                  </a:lnTo>
                  <a:lnTo>
                    <a:pt x="285" y="466"/>
                  </a:lnTo>
                  <a:lnTo>
                    <a:pt x="285" y="472"/>
                  </a:lnTo>
                  <a:lnTo>
                    <a:pt x="284" y="480"/>
                  </a:lnTo>
                  <a:lnTo>
                    <a:pt x="281" y="486"/>
                  </a:lnTo>
                  <a:lnTo>
                    <a:pt x="277" y="494"/>
                  </a:lnTo>
                  <a:lnTo>
                    <a:pt x="269" y="510"/>
                  </a:lnTo>
                  <a:lnTo>
                    <a:pt x="257" y="527"/>
                  </a:lnTo>
                  <a:lnTo>
                    <a:pt x="242" y="547"/>
                  </a:lnTo>
                  <a:lnTo>
                    <a:pt x="227" y="569"/>
                  </a:lnTo>
                  <a:lnTo>
                    <a:pt x="223" y="578"/>
                  </a:lnTo>
                  <a:lnTo>
                    <a:pt x="220" y="586"/>
                  </a:lnTo>
                  <a:lnTo>
                    <a:pt x="218" y="595"/>
                  </a:lnTo>
                  <a:lnTo>
                    <a:pt x="218" y="604"/>
                  </a:lnTo>
                  <a:lnTo>
                    <a:pt x="218" y="611"/>
                  </a:lnTo>
                  <a:lnTo>
                    <a:pt x="218" y="620"/>
                  </a:lnTo>
                  <a:lnTo>
                    <a:pt x="220" y="629"/>
                  </a:lnTo>
                  <a:lnTo>
                    <a:pt x="222" y="636"/>
                  </a:lnTo>
                  <a:lnTo>
                    <a:pt x="226" y="644"/>
                  </a:lnTo>
                  <a:lnTo>
                    <a:pt x="229" y="651"/>
                  </a:lnTo>
                  <a:lnTo>
                    <a:pt x="233" y="659"/>
                  </a:lnTo>
                  <a:lnTo>
                    <a:pt x="238" y="666"/>
                  </a:lnTo>
                  <a:lnTo>
                    <a:pt x="248" y="680"/>
                  </a:lnTo>
                  <a:lnTo>
                    <a:pt x="260" y="694"/>
                  </a:lnTo>
                  <a:lnTo>
                    <a:pt x="285" y="718"/>
                  </a:lnTo>
                  <a:lnTo>
                    <a:pt x="309" y="740"/>
                  </a:lnTo>
                  <a:lnTo>
                    <a:pt x="320" y="748"/>
                  </a:lnTo>
                  <a:lnTo>
                    <a:pt x="329" y="757"/>
                  </a:lnTo>
                  <a:lnTo>
                    <a:pt x="336" y="764"/>
                  </a:lnTo>
                  <a:lnTo>
                    <a:pt x="340" y="769"/>
                  </a:lnTo>
                  <a:lnTo>
                    <a:pt x="351" y="783"/>
                  </a:lnTo>
                  <a:lnTo>
                    <a:pt x="365" y="802"/>
                  </a:lnTo>
                  <a:lnTo>
                    <a:pt x="382" y="824"/>
                  </a:lnTo>
                  <a:lnTo>
                    <a:pt x="400" y="847"/>
                  </a:lnTo>
                  <a:lnTo>
                    <a:pt x="417" y="868"/>
                  </a:lnTo>
                  <a:lnTo>
                    <a:pt x="431" y="886"/>
                  </a:lnTo>
                  <a:lnTo>
                    <a:pt x="441" y="899"/>
                  </a:lnTo>
                  <a:lnTo>
                    <a:pt x="445" y="903"/>
                  </a:lnTo>
                  <a:lnTo>
                    <a:pt x="451" y="908"/>
                  </a:lnTo>
                  <a:lnTo>
                    <a:pt x="459" y="914"/>
                  </a:lnTo>
                  <a:lnTo>
                    <a:pt x="467" y="919"/>
                  </a:lnTo>
                  <a:lnTo>
                    <a:pt x="474" y="923"/>
                  </a:lnTo>
                  <a:lnTo>
                    <a:pt x="491" y="931"/>
                  </a:lnTo>
                  <a:lnTo>
                    <a:pt x="510" y="936"/>
                  </a:lnTo>
                  <a:lnTo>
                    <a:pt x="528" y="940"/>
                  </a:lnTo>
                  <a:lnTo>
                    <a:pt x="548" y="942"/>
                  </a:lnTo>
                  <a:lnTo>
                    <a:pt x="567" y="942"/>
                  </a:lnTo>
                  <a:lnTo>
                    <a:pt x="586" y="941"/>
                  </a:lnTo>
                  <a:lnTo>
                    <a:pt x="605" y="937"/>
                  </a:lnTo>
                  <a:lnTo>
                    <a:pt x="623" y="934"/>
                  </a:lnTo>
                  <a:lnTo>
                    <a:pt x="640" y="930"/>
                  </a:lnTo>
                  <a:lnTo>
                    <a:pt x="656" y="923"/>
                  </a:lnTo>
                  <a:lnTo>
                    <a:pt x="671" y="917"/>
                  </a:lnTo>
                  <a:lnTo>
                    <a:pt x="683" y="909"/>
                  </a:lnTo>
                  <a:lnTo>
                    <a:pt x="693" y="902"/>
                  </a:lnTo>
                  <a:lnTo>
                    <a:pt x="702" y="893"/>
                  </a:lnTo>
                  <a:lnTo>
                    <a:pt x="718" y="875"/>
                  </a:lnTo>
                  <a:lnTo>
                    <a:pt x="733" y="858"/>
                  </a:lnTo>
                  <a:lnTo>
                    <a:pt x="746" y="842"/>
                  </a:lnTo>
                  <a:lnTo>
                    <a:pt x="758" y="829"/>
                  </a:lnTo>
                  <a:lnTo>
                    <a:pt x="769" y="818"/>
                  </a:lnTo>
                  <a:lnTo>
                    <a:pt x="779" y="807"/>
                  </a:lnTo>
                  <a:lnTo>
                    <a:pt x="788" y="796"/>
                  </a:lnTo>
                  <a:lnTo>
                    <a:pt x="798" y="786"/>
                  </a:lnTo>
                  <a:lnTo>
                    <a:pt x="808" y="778"/>
                  </a:lnTo>
                  <a:lnTo>
                    <a:pt x="818" y="768"/>
                  </a:lnTo>
                  <a:lnTo>
                    <a:pt x="827" y="759"/>
                  </a:lnTo>
                  <a:lnTo>
                    <a:pt x="838" y="748"/>
                  </a:lnTo>
                  <a:lnTo>
                    <a:pt x="850" y="738"/>
                  </a:lnTo>
                  <a:lnTo>
                    <a:pt x="861" y="725"/>
                  </a:lnTo>
                  <a:lnTo>
                    <a:pt x="873" y="710"/>
                  </a:lnTo>
                  <a:lnTo>
                    <a:pt x="885" y="692"/>
                  </a:lnTo>
                  <a:lnTo>
                    <a:pt x="890" y="685"/>
                  </a:lnTo>
                  <a:lnTo>
                    <a:pt x="895" y="675"/>
                  </a:lnTo>
                  <a:lnTo>
                    <a:pt x="901" y="665"/>
                  </a:lnTo>
                  <a:lnTo>
                    <a:pt x="905" y="655"/>
                  </a:lnTo>
                  <a:lnTo>
                    <a:pt x="911" y="644"/>
                  </a:lnTo>
                  <a:lnTo>
                    <a:pt x="914" y="632"/>
                  </a:lnTo>
                  <a:lnTo>
                    <a:pt x="917" y="620"/>
                  </a:lnTo>
                  <a:lnTo>
                    <a:pt x="919" y="608"/>
                  </a:lnTo>
                  <a:lnTo>
                    <a:pt x="921" y="595"/>
                  </a:lnTo>
                  <a:lnTo>
                    <a:pt x="921" y="582"/>
                  </a:lnTo>
                  <a:lnTo>
                    <a:pt x="921" y="568"/>
                  </a:lnTo>
                  <a:lnTo>
                    <a:pt x="919" y="555"/>
                  </a:lnTo>
                  <a:lnTo>
                    <a:pt x="916" y="542"/>
                  </a:lnTo>
                  <a:lnTo>
                    <a:pt x="912" y="528"/>
                  </a:lnTo>
                  <a:lnTo>
                    <a:pt x="905" y="515"/>
                  </a:lnTo>
                  <a:lnTo>
                    <a:pt x="896" y="502"/>
                  </a:lnTo>
                  <a:lnTo>
                    <a:pt x="889" y="490"/>
                  </a:lnTo>
                  <a:lnTo>
                    <a:pt x="881" y="478"/>
                  </a:lnTo>
                  <a:lnTo>
                    <a:pt x="877" y="468"/>
                  </a:lnTo>
                  <a:lnTo>
                    <a:pt x="873" y="458"/>
                  </a:lnTo>
                  <a:lnTo>
                    <a:pt x="871" y="448"/>
                  </a:lnTo>
                  <a:lnTo>
                    <a:pt x="871" y="440"/>
                  </a:lnTo>
                  <a:lnTo>
                    <a:pt x="871" y="432"/>
                  </a:lnTo>
                  <a:lnTo>
                    <a:pt x="872" y="426"/>
                  </a:lnTo>
                  <a:lnTo>
                    <a:pt x="875" y="419"/>
                  </a:lnTo>
                  <a:lnTo>
                    <a:pt x="878" y="415"/>
                  </a:lnTo>
                  <a:lnTo>
                    <a:pt x="882" y="410"/>
                  </a:lnTo>
                  <a:lnTo>
                    <a:pt x="887" y="407"/>
                  </a:lnTo>
                  <a:lnTo>
                    <a:pt x="892" y="405"/>
                  </a:lnTo>
                  <a:lnTo>
                    <a:pt x="899" y="404"/>
                  </a:lnTo>
                  <a:lnTo>
                    <a:pt x="905" y="405"/>
                  </a:lnTo>
                  <a:lnTo>
                    <a:pt x="912" y="406"/>
                  </a:lnTo>
                  <a:close/>
                </a:path>
              </a:pathLst>
            </a:custGeom>
            <a:solidFill>
              <a:srgbClr val="8664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5594400" y="2089080"/>
              <a:ext cx="349200" cy="312840"/>
            </a:xfrm>
            <a:custGeom>
              <a:avLst/>
              <a:gdLst/>
              <a:ahLst/>
              <a:rect l="l" t="t" r="r" b="b"/>
              <a:pathLst>
                <a:path w="1103" h="985">
                  <a:moveTo>
                    <a:pt x="921" y="416"/>
                  </a:moveTo>
                  <a:lnTo>
                    <a:pt x="929" y="417"/>
                  </a:lnTo>
                  <a:lnTo>
                    <a:pt x="935" y="417"/>
                  </a:lnTo>
                  <a:lnTo>
                    <a:pt x="942" y="415"/>
                  </a:lnTo>
                  <a:lnTo>
                    <a:pt x="948" y="413"/>
                  </a:lnTo>
                  <a:lnTo>
                    <a:pt x="955" y="408"/>
                  </a:lnTo>
                  <a:lnTo>
                    <a:pt x="961" y="404"/>
                  </a:lnTo>
                  <a:lnTo>
                    <a:pt x="968" y="399"/>
                  </a:lnTo>
                  <a:lnTo>
                    <a:pt x="973" y="393"/>
                  </a:lnTo>
                  <a:lnTo>
                    <a:pt x="985" y="381"/>
                  </a:lnTo>
                  <a:lnTo>
                    <a:pt x="997" y="368"/>
                  </a:lnTo>
                  <a:lnTo>
                    <a:pt x="1008" y="356"/>
                  </a:lnTo>
                  <a:lnTo>
                    <a:pt x="1019" y="347"/>
                  </a:lnTo>
                  <a:lnTo>
                    <a:pt x="1023" y="340"/>
                  </a:lnTo>
                  <a:lnTo>
                    <a:pt x="1028" y="332"/>
                  </a:lnTo>
                  <a:lnTo>
                    <a:pt x="1033" y="320"/>
                  </a:lnTo>
                  <a:lnTo>
                    <a:pt x="1037" y="306"/>
                  </a:lnTo>
                  <a:lnTo>
                    <a:pt x="1040" y="291"/>
                  </a:lnTo>
                  <a:lnTo>
                    <a:pt x="1044" y="273"/>
                  </a:lnTo>
                  <a:lnTo>
                    <a:pt x="1048" y="255"/>
                  </a:lnTo>
                  <a:lnTo>
                    <a:pt x="1050" y="237"/>
                  </a:lnTo>
                  <a:lnTo>
                    <a:pt x="1054" y="199"/>
                  </a:lnTo>
                  <a:lnTo>
                    <a:pt x="1055" y="164"/>
                  </a:lnTo>
                  <a:lnTo>
                    <a:pt x="1055" y="148"/>
                  </a:lnTo>
                  <a:lnTo>
                    <a:pt x="1054" y="134"/>
                  </a:lnTo>
                  <a:lnTo>
                    <a:pt x="1053" y="121"/>
                  </a:lnTo>
                  <a:lnTo>
                    <a:pt x="1050" y="111"/>
                  </a:lnTo>
                  <a:lnTo>
                    <a:pt x="1049" y="104"/>
                  </a:lnTo>
                  <a:lnTo>
                    <a:pt x="1048" y="95"/>
                  </a:lnTo>
                  <a:lnTo>
                    <a:pt x="1049" y="85"/>
                  </a:lnTo>
                  <a:lnTo>
                    <a:pt x="1052" y="77"/>
                  </a:lnTo>
                  <a:lnTo>
                    <a:pt x="1055" y="67"/>
                  </a:lnTo>
                  <a:lnTo>
                    <a:pt x="1060" y="58"/>
                  </a:lnTo>
                  <a:lnTo>
                    <a:pt x="1064" y="49"/>
                  </a:lnTo>
                  <a:lnTo>
                    <a:pt x="1069" y="40"/>
                  </a:lnTo>
                  <a:lnTo>
                    <a:pt x="1080" y="25"/>
                  </a:lnTo>
                  <a:lnTo>
                    <a:pt x="1090" y="12"/>
                  </a:lnTo>
                  <a:lnTo>
                    <a:pt x="1097" y="3"/>
                  </a:lnTo>
                  <a:lnTo>
                    <a:pt x="1100" y="0"/>
                  </a:lnTo>
                  <a:lnTo>
                    <a:pt x="1102" y="65"/>
                  </a:lnTo>
                  <a:lnTo>
                    <a:pt x="1102" y="68"/>
                  </a:lnTo>
                  <a:lnTo>
                    <a:pt x="1102" y="79"/>
                  </a:lnTo>
                  <a:lnTo>
                    <a:pt x="1101" y="93"/>
                  </a:lnTo>
                  <a:lnTo>
                    <a:pt x="1101" y="112"/>
                  </a:lnTo>
                  <a:lnTo>
                    <a:pt x="1100" y="134"/>
                  </a:lnTo>
                  <a:lnTo>
                    <a:pt x="1100" y="157"/>
                  </a:lnTo>
                  <a:lnTo>
                    <a:pt x="1101" y="179"/>
                  </a:lnTo>
                  <a:lnTo>
                    <a:pt x="1102" y="201"/>
                  </a:lnTo>
                  <a:lnTo>
                    <a:pt x="1103" y="220"/>
                  </a:lnTo>
                  <a:lnTo>
                    <a:pt x="1103" y="241"/>
                  </a:lnTo>
                  <a:lnTo>
                    <a:pt x="1102" y="262"/>
                  </a:lnTo>
                  <a:lnTo>
                    <a:pt x="1100" y="283"/>
                  </a:lnTo>
                  <a:lnTo>
                    <a:pt x="1095" y="306"/>
                  </a:lnTo>
                  <a:lnTo>
                    <a:pt x="1090" y="328"/>
                  </a:lnTo>
                  <a:lnTo>
                    <a:pt x="1084" y="351"/>
                  </a:lnTo>
                  <a:lnTo>
                    <a:pt x="1077" y="374"/>
                  </a:lnTo>
                  <a:lnTo>
                    <a:pt x="1070" y="399"/>
                  </a:lnTo>
                  <a:lnTo>
                    <a:pt x="1064" y="426"/>
                  </a:lnTo>
                  <a:lnTo>
                    <a:pt x="1057" y="455"/>
                  </a:lnTo>
                  <a:lnTo>
                    <a:pt x="1051" y="484"/>
                  </a:lnTo>
                  <a:lnTo>
                    <a:pt x="1047" y="514"/>
                  </a:lnTo>
                  <a:lnTo>
                    <a:pt x="1041" y="542"/>
                  </a:lnTo>
                  <a:lnTo>
                    <a:pt x="1037" y="568"/>
                  </a:lnTo>
                  <a:lnTo>
                    <a:pt x="1033" y="591"/>
                  </a:lnTo>
                  <a:lnTo>
                    <a:pt x="1030" y="603"/>
                  </a:lnTo>
                  <a:lnTo>
                    <a:pt x="1027" y="615"/>
                  </a:lnTo>
                  <a:lnTo>
                    <a:pt x="1022" y="628"/>
                  </a:lnTo>
                  <a:lnTo>
                    <a:pt x="1015" y="640"/>
                  </a:lnTo>
                  <a:lnTo>
                    <a:pt x="1008" y="653"/>
                  </a:lnTo>
                  <a:lnTo>
                    <a:pt x="999" y="667"/>
                  </a:lnTo>
                  <a:lnTo>
                    <a:pt x="989" y="680"/>
                  </a:lnTo>
                  <a:lnTo>
                    <a:pt x="980" y="694"/>
                  </a:lnTo>
                  <a:lnTo>
                    <a:pt x="958" y="720"/>
                  </a:lnTo>
                  <a:lnTo>
                    <a:pt x="935" y="744"/>
                  </a:lnTo>
                  <a:lnTo>
                    <a:pt x="912" y="766"/>
                  </a:lnTo>
                  <a:lnTo>
                    <a:pt x="890" y="784"/>
                  </a:lnTo>
                  <a:lnTo>
                    <a:pt x="867" y="801"/>
                  </a:lnTo>
                  <a:lnTo>
                    <a:pt x="844" y="820"/>
                  </a:lnTo>
                  <a:lnTo>
                    <a:pt x="820" y="839"/>
                  </a:lnTo>
                  <a:lnTo>
                    <a:pt x="797" y="858"/>
                  </a:lnTo>
                  <a:lnTo>
                    <a:pt x="775" y="876"/>
                  </a:lnTo>
                  <a:lnTo>
                    <a:pt x="756" y="891"/>
                  </a:lnTo>
                  <a:lnTo>
                    <a:pt x="739" y="905"/>
                  </a:lnTo>
                  <a:lnTo>
                    <a:pt x="724" y="915"/>
                  </a:lnTo>
                  <a:lnTo>
                    <a:pt x="711" y="926"/>
                  </a:lnTo>
                  <a:lnTo>
                    <a:pt x="696" y="937"/>
                  </a:lnTo>
                  <a:lnTo>
                    <a:pt x="678" y="949"/>
                  </a:lnTo>
                  <a:lnTo>
                    <a:pt x="659" y="961"/>
                  </a:lnTo>
                  <a:lnTo>
                    <a:pt x="648" y="967"/>
                  </a:lnTo>
                  <a:lnTo>
                    <a:pt x="636" y="971"/>
                  </a:lnTo>
                  <a:lnTo>
                    <a:pt x="624" y="975"/>
                  </a:lnTo>
                  <a:lnTo>
                    <a:pt x="611" y="979"/>
                  </a:lnTo>
                  <a:lnTo>
                    <a:pt x="597" y="982"/>
                  </a:lnTo>
                  <a:lnTo>
                    <a:pt x="583" y="984"/>
                  </a:lnTo>
                  <a:lnTo>
                    <a:pt x="567" y="985"/>
                  </a:lnTo>
                  <a:lnTo>
                    <a:pt x="551" y="984"/>
                  </a:lnTo>
                  <a:lnTo>
                    <a:pt x="532" y="983"/>
                  </a:lnTo>
                  <a:lnTo>
                    <a:pt x="514" y="981"/>
                  </a:lnTo>
                  <a:lnTo>
                    <a:pt x="496" y="979"/>
                  </a:lnTo>
                  <a:lnTo>
                    <a:pt x="477" y="974"/>
                  </a:lnTo>
                  <a:lnTo>
                    <a:pt x="458" y="970"/>
                  </a:lnTo>
                  <a:lnTo>
                    <a:pt x="438" y="966"/>
                  </a:lnTo>
                  <a:lnTo>
                    <a:pt x="419" y="959"/>
                  </a:lnTo>
                  <a:lnTo>
                    <a:pt x="401" y="953"/>
                  </a:lnTo>
                  <a:lnTo>
                    <a:pt x="381" y="945"/>
                  </a:lnTo>
                  <a:lnTo>
                    <a:pt x="363" y="937"/>
                  </a:lnTo>
                  <a:lnTo>
                    <a:pt x="346" y="929"/>
                  </a:lnTo>
                  <a:lnTo>
                    <a:pt x="328" y="919"/>
                  </a:lnTo>
                  <a:lnTo>
                    <a:pt x="311" y="908"/>
                  </a:lnTo>
                  <a:lnTo>
                    <a:pt x="296" y="898"/>
                  </a:lnTo>
                  <a:lnTo>
                    <a:pt x="281" y="886"/>
                  </a:lnTo>
                  <a:lnTo>
                    <a:pt x="267" y="873"/>
                  </a:lnTo>
                  <a:lnTo>
                    <a:pt x="238" y="847"/>
                  </a:lnTo>
                  <a:lnTo>
                    <a:pt x="208" y="820"/>
                  </a:lnTo>
                  <a:lnTo>
                    <a:pt x="179" y="791"/>
                  </a:lnTo>
                  <a:lnTo>
                    <a:pt x="151" y="763"/>
                  </a:lnTo>
                  <a:lnTo>
                    <a:pt x="124" y="734"/>
                  </a:lnTo>
                  <a:lnTo>
                    <a:pt x="100" y="707"/>
                  </a:lnTo>
                  <a:lnTo>
                    <a:pt x="80" y="683"/>
                  </a:lnTo>
                  <a:lnTo>
                    <a:pt x="64" y="661"/>
                  </a:lnTo>
                  <a:lnTo>
                    <a:pt x="56" y="650"/>
                  </a:lnTo>
                  <a:lnTo>
                    <a:pt x="50" y="638"/>
                  </a:lnTo>
                  <a:lnTo>
                    <a:pt x="43" y="626"/>
                  </a:lnTo>
                  <a:lnTo>
                    <a:pt x="38" y="612"/>
                  </a:lnTo>
                  <a:lnTo>
                    <a:pt x="28" y="584"/>
                  </a:lnTo>
                  <a:lnTo>
                    <a:pt x="20" y="556"/>
                  </a:lnTo>
                  <a:lnTo>
                    <a:pt x="14" y="529"/>
                  </a:lnTo>
                  <a:lnTo>
                    <a:pt x="11" y="505"/>
                  </a:lnTo>
                  <a:lnTo>
                    <a:pt x="8" y="486"/>
                  </a:lnTo>
                  <a:lnTo>
                    <a:pt x="10" y="473"/>
                  </a:lnTo>
                  <a:lnTo>
                    <a:pt x="11" y="461"/>
                  </a:lnTo>
                  <a:lnTo>
                    <a:pt x="11" y="447"/>
                  </a:lnTo>
                  <a:lnTo>
                    <a:pt x="8" y="430"/>
                  </a:lnTo>
                  <a:lnTo>
                    <a:pt x="7" y="410"/>
                  </a:lnTo>
                  <a:lnTo>
                    <a:pt x="5" y="389"/>
                  </a:lnTo>
                  <a:lnTo>
                    <a:pt x="3" y="367"/>
                  </a:lnTo>
                  <a:lnTo>
                    <a:pt x="1" y="345"/>
                  </a:lnTo>
                  <a:lnTo>
                    <a:pt x="0" y="322"/>
                  </a:lnTo>
                  <a:lnTo>
                    <a:pt x="0" y="309"/>
                  </a:lnTo>
                  <a:lnTo>
                    <a:pt x="0" y="298"/>
                  </a:lnTo>
                  <a:lnTo>
                    <a:pt x="2" y="289"/>
                  </a:lnTo>
                  <a:lnTo>
                    <a:pt x="4" y="282"/>
                  </a:lnTo>
                  <a:lnTo>
                    <a:pt x="6" y="277"/>
                  </a:lnTo>
                  <a:lnTo>
                    <a:pt x="10" y="273"/>
                  </a:lnTo>
                  <a:lnTo>
                    <a:pt x="13" y="271"/>
                  </a:lnTo>
                  <a:lnTo>
                    <a:pt x="16" y="270"/>
                  </a:lnTo>
                  <a:lnTo>
                    <a:pt x="23" y="270"/>
                  </a:lnTo>
                  <a:lnTo>
                    <a:pt x="28" y="271"/>
                  </a:lnTo>
                  <a:lnTo>
                    <a:pt x="32" y="273"/>
                  </a:lnTo>
                  <a:lnTo>
                    <a:pt x="34" y="274"/>
                  </a:lnTo>
                  <a:lnTo>
                    <a:pt x="38" y="288"/>
                  </a:lnTo>
                  <a:lnTo>
                    <a:pt x="42" y="302"/>
                  </a:lnTo>
                  <a:lnTo>
                    <a:pt x="47" y="314"/>
                  </a:lnTo>
                  <a:lnTo>
                    <a:pt x="53" y="326"/>
                  </a:lnTo>
                  <a:lnTo>
                    <a:pt x="65" y="346"/>
                  </a:lnTo>
                  <a:lnTo>
                    <a:pt x="77" y="363"/>
                  </a:lnTo>
                  <a:lnTo>
                    <a:pt x="87" y="376"/>
                  </a:lnTo>
                  <a:lnTo>
                    <a:pt x="97" y="386"/>
                  </a:lnTo>
                  <a:lnTo>
                    <a:pt x="104" y="392"/>
                  </a:lnTo>
                  <a:lnTo>
                    <a:pt x="106" y="393"/>
                  </a:lnTo>
                  <a:lnTo>
                    <a:pt x="115" y="401"/>
                  </a:lnTo>
                  <a:lnTo>
                    <a:pt x="126" y="406"/>
                  </a:lnTo>
                  <a:lnTo>
                    <a:pt x="136" y="410"/>
                  </a:lnTo>
                  <a:lnTo>
                    <a:pt x="146" y="414"/>
                  </a:lnTo>
                  <a:lnTo>
                    <a:pt x="165" y="419"/>
                  </a:lnTo>
                  <a:lnTo>
                    <a:pt x="183" y="423"/>
                  </a:lnTo>
                  <a:lnTo>
                    <a:pt x="201" y="427"/>
                  </a:lnTo>
                  <a:lnTo>
                    <a:pt x="216" y="431"/>
                  </a:lnTo>
                  <a:lnTo>
                    <a:pt x="222" y="435"/>
                  </a:lnTo>
                  <a:lnTo>
                    <a:pt x="229" y="439"/>
                  </a:lnTo>
                  <a:lnTo>
                    <a:pt x="234" y="444"/>
                  </a:lnTo>
                  <a:lnTo>
                    <a:pt x="240" y="450"/>
                  </a:lnTo>
                  <a:lnTo>
                    <a:pt x="244" y="457"/>
                  </a:lnTo>
                  <a:lnTo>
                    <a:pt x="247" y="463"/>
                  </a:lnTo>
                  <a:lnTo>
                    <a:pt x="249" y="470"/>
                  </a:lnTo>
                  <a:lnTo>
                    <a:pt x="250" y="476"/>
                  </a:lnTo>
                  <a:lnTo>
                    <a:pt x="250" y="483"/>
                  </a:lnTo>
                  <a:lnTo>
                    <a:pt x="250" y="489"/>
                  </a:lnTo>
                  <a:lnTo>
                    <a:pt x="248" y="496"/>
                  </a:lnTo>
                  <a:lnTo>
                    <a:pt x="246" y="503"/>
                  </a:lnTo>
                  <a:lnTo>
                    <a:pt x="240" y="517"/>
                  </a:lnTo>
                  <a:lnTo>
                    <a:pt x="231" y="534"/>
                  </a:lnTo>
                  <a:lnTo>
                    <a:pt x="219" y="552"/>
                  </a:lnTo>
                  <a:lnTo>
                    <a:pt x="207" y="574"/>
                  </a:lnTo>
                  <a:lnTo>
                    <a:pt x="204" y="583"/>
                  </a:lnTo>
                  <a:lnTo>
                    <a:pt x="202" y="592"/>
                  </a:lnTo>
                  <a:lnTo>
                    <a:pt x="200" y="602"/>
                  </a:lnTo>
                  <a:lnTo>
                    <a:pt x="200" y="610"/>
                  </a:lnTo>
                  <a:lnTo>
                    <a:pt x="200" y="619"/>
                  </a:lnTo>
                  <a:lnTo>
                    <a:pt x="202" y="628"/>
                  </a:lnTo>
                  <a:lnTo>
                    <a:pt x="204" y="635"/>
                  </a:lnTo>
                  <a:lnTo>
                    <a:pt x="206" y="644"/>
                  </a:lnTo>
                  <a:lnTo>
                    <a:pt x="209" y="651"/>
                  </a:lnTo>
                  <a:lnTo>
                    <a:pt x="214" y="660"/>
                  </a:lnTo>
                  <a:lnTo>
                    <a:pt x="218" y="667"/>
                  </a:lnTo>
                  <a:lnTo>
                    <a:pt x="223" y="675"/>
                  </a:lnTo>
                  <a:lnTo>
                    <a:pt x="234" y="689"/>
                  </a:lnTo>
                  <a:lnTo>
                    <a:pt x="247" y="702"/>
                  </a:lnTo>
                  <a:lnTo>
                    <a:pt x="273" y="727"/>
                  </a:lnTo>
                  <a:lnTo>
                    <a:pt x="299" y="748"/>
                  </a:lnTo>
                  <a:lnTo>
                    <a:pt x="311" y="757"/>
                  </a:lnTo>
                  <a:lnTo>
                    <a:pt x="321" y="766"/>
                  </a:lnTo>
                  <a:lnTo>
                    <a:pt x="328" y="773"/>
                  </a:lnTo>
                  <a:lnTo>
                    <a:pt x="334" y="779"/>
                  </a:lnTo>
                  <a:lnTo>
                    <a:pt x="343" y="793"/>
                  </a:lnTo>
                  <a:lnTo>
                    <a:pt x="357" y="812"/>
                  </a:lnTo>
                  <a:lnTo>
                    <a:pt x="376" y="834"/>
                  </a:lnTo>
                  <a:lnTo>
                    <a:pt x="395" y="855"/>
                  </a:lnTo>
                  <a:lnTo>
                    <a:pt x="414" y="877"/>
                  </a:lnTo>
                  <a:lnTo>
                    <a:pt x="430" y="894"/>
                  </a:lnTo>
                  <a:lnTo>
                    <a:pt x="441" y="906"/>
                  </a:lnTo>
                  <a:lnTo>
                    <a:pt x="445" y="910"/>
                  </a:lnTo>
                  <a:lnTo>
                    <a:pt x="451" y="916"/>
                  </a:lnTo>
                  <a:lnTo>
                    <a:pt x="459" y="920"/>
                  </a:lnTo>
                  <a:lnTo>
                    <a:pt x="467" y="926"/>
                  </a:lnTo>
                  <a:lnTo>
                    <a:pt x="475" y="929"/>
                  </a:lnTo>
                  <a:lnTo>
                    <a:pt x="492" y="936"/>
                  </a:lnTo>
                  <a:lnTo>
                    <a:pt x="510" y="941"/>
                  </a:lnTo>
                  <a:lnTo>
                    <a:pt x="528" y="944"/>
                  </a:lnTo>
                  <a:lnTo>
                    <a:pt x="548" y="946"/>
                  </a:lnTo>
                  <a:lnTo>
                    <a:pt x="566" y="946"/>
                  </a:lnTo>
                  <a:lnTo>
                    <a:pt x="585" y="945"/>
                  </a:lnTo>
                  <a:lnTo>
                    <a:pt x="604" y="943"/>
                  </a:lnTo>
                  <a:lnTo>
                    <a:pt x="621" y="940"/>
                  </a:lnTo>
                  <a:lnTo>
                    <a:pt x="638" y="934"/>
                  </a:lnTo>
                  <a:lnTo>
                    <a:pt x="654" y="929"/>
                  </a:lnTo>
                  <a:lnTo>
                    <a:pt x="669" y="923"/>
                  </a:lnTo>
                  <a:lnTo>
                    <a:pt x="681" y="916"/>
                  </a:lnTo>
                  <a:lnTo>
                    <a:pt x="692" y="908"/>
                  </a:lnTo>
                  <a:lnTo>
                    <a:pt x="702" y="901"/>
                  </a:lnTo>
                  <a:lnTo>
                    <a:pt x="719" y="882"/>
                  </a:lnTo>
                  <a:lnTo>
                    <a:pt x="734" y="865"/>
                  </a:lnTo>
                  <a:lnTo>
                    <a:pt x="748" y="851"/>
                  </a:lnTo>
                  <a:lnTo>
                    <a:pt x="761" y="838"/>
                  </a:lnTo>
                  <a:lnTo>
                    <a:pt x="772" y="827"/>
                  </a:lnTo>
                  <a:lnTo>
                    <a:pt x="783" y="817"/>
                  </a:lnTo>
                  <a:lnTo>
                    <a:pt x="792" y="808"/>
                  </a:lnTo>
                  <a:lnTo>
                    <a:pt x="800" y="799"/>
                  </a:lnTo>
                  <a:lnTo>
                    <a:pt x="810" y="790"/>
                  </a:lnTo>
                  <a:lnTo>
                    <a:pt x="821" y="781"/>
                  </a:lnTo>
                  <a:lnTo>
                    <a:pt x="832" y="771"/>
                  </a:lnTo>
                  <a:lnTo>
                    <a:pt x="842" y="760"/>
                  </a:lnTo>
                  <a:lnTo>
                    <a:pt x="854" y="750"/>
                  </a:lnTo>
                  <a:lnTo>
                    <a:pt x="866" y="736"/>
                  </a:lnTo>
                  <a:lnTo>
                    <a:pt x="879" y="720"/>
                  </a:lnTo>
                  <a:lnTo>
                    <a:pt x="892" y="702"/>
                  </a:lnTo>
                  <a:lnTo>
                    <a:pt x="903" y="685"/>
                  </a:lnTo>
                  <a:lnTo>
                    <a:pt x="914" y="665"/>
                  </a:lnTo>
                  <a:lnTo>
                    <a:pt x="919" y="655"/>
                  </a:lnTo>
                  <a:lnTo>
                    <a:pt x="923" y="643"/>
                  </a:lnTo>
                  <a:lnTo>
                    <a:pt x="928" y="631"/>
                  </a:lnTo>
                  <a:lnTo>
                    <a:pt x="930" y="619"/>
                  </a:lnTo>
                  <a:lnTo>
                    <a:pt x="932" y="606"/>
                  </a:lnTo>
                  <a:lnTo>
                    <a:pt x="933" y="593"/>
                  </a:lnTo>
                  <a:lnTo>
                    <a:pt x="933" y="580"/>
                  </a:lnTo>
                  <a:lnTo>
                    <a:pt x="932" y="567"/>
                  </a:lnTo>
                  <a:lnTo>
                    <a:pt x="929" y="554"/>
                  </a:lnTo>
                  <a:lnTo>
                    <a:pt x="923" y="541"/>
                  </a:lnTo>
                  <a:lnTo>
                    <a:pt x="918" y="528"/>
                  </a:lnTo>
                  <a:lnTo>
                    <a:pt x="909" y="514"/>
                  </a:lnTo>
                  <a:lnTo>
                    <a:pt x="901" y="502"/>
                  </a:lnTo>
                  <a:lnTo>
                    <a:pt x="894" y="490"/>
                  </a:lnTo>
                  <a:lnTo>
                    <a:pt x="890" y="480"/>
                  </a:lnTo>
                  <a:lnTo>
                    <a:pt x="886" y="470"/>
                  </a:lnTo>
                  <a:lnTo>
                    <a:pt x="884" y="460"/>
                  </a:lnTo>
                  <a:lnTo>
                    <a:pt x="882" y="451"/>
                  </a:lnTo>
                  <a:lnTo>
                    <a:pt x="882" y="444"/>
                  </a:lnTo>
                  <a:lnTo>
                    <a:pt x="884" y="436"/>
                  </a:lnTo>
                  <a:lnTo>
                    <a:pt x="885" y="430"/>
                  </a:lnTo>
                  <a:lnTo>
                    <a:pt x="888" y="426"/>
                  </a:lnTo>
                  <a:lnTo>
                    <a:pt x="892" y="421"/>
                  </a:lnTo>
                  <a:lnTo>
                    <a:pt x="896" y="418"/>
                  </a:lnTo>
                  <a:lnTo>
                    <a:pt x="902" y="416"/>
                  </a:lnTo>
                  <a:lnTo>
                    <a:pt x="908" y="415"/>
                  </a:lnTo>
                  <a:lnTo>
                    <a:pt x="915" y="415"/>
                  </a:lnTo>
                  <a:lnTo>
                    <a:pt x="921" y="416"/>
                  </a:lnTo>
                  <a:close/>
                </a:path>
              </a:pathLst>
            </a:custGeom>
            <a:solidFill>
              <a:srgbClr val="826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5594400" y="2089080"/>
              <a:ext cx="349200" cy="312840"/>
            </a:xfrm>
            <a:custGeom>
              <a:avLst/>
              <a:gdLst/>
              <a:ahLst/>
              <a:rect l="l" t="t" r="r" b="b"/>
              <a:pathLst>
                <a:path w="1104" h="985">
                  <a:moveTo>
                    <a:pt x="930" y="426"/>
                  </a:moveTo>
                  <a:lnTo>
                    <a:pt x="937" y="427"/>
                  </a:lnTo>
                  <a:lnTo>
                    <a:pt x="945" y="427"/>
                  </a:lnTo>
                  <a:lnTo>
                    <a:pt x="951" y="424"/>
                  </a:lnTo>
                  <a:lnTo>
                    <a:pt x="959" y="422"/>
                  </a:lnTo>
                  <a:lnTo>
                    <a:pt x="966" y="418"/>
                  </a:lnTo>
                  <a:lnTo>
                    <a:pt x="972" y="414"/>
                  </a:lnTo>
                  <a:lnTo>
                    <a:pt x="978" y="408"/>
                  </a:lnTo>
                  <a:lnTo>
                    <a:pt x="985" y="403"/>
                  </a:lnTo>
                  <a:lnTo>
                    <a:pt x="997" y="390"/>
                  </a:lnTo>
                  <a:lnTo>
                    <a:pt x="1009" y="377"/>
                  </a:lnTo>
                  <a:lnTo>
                    <a:pt x="1020" y="365"/>
                  </a:lnTo>
                  <a:lnTo>
                    <a:pt x="1029" y="354"/>
                  </a:lnTo>
                  <a:lnTo>
                    <a:pt x="1034" y="348"/>
                  </a:lnTo>
                  <a:lnTo>
                    <a:pt x="1039" y="338"/>
                  </a:lnTo>
                  <a:lnTo>
                    <a:pt x="1043" y="326"/>
                  </a:lnTo>
                  <a:lnTo>
                    <a:pt x="1048" y="312"/>
                  </a:lnTo>
                  <a:lnTo>
                    <a:pt x="1051" y="296"/>
                  </a:lnTo>
                  <a:lnTo>
                    <a:pt x="1054" y="279"/>
                  </a:lnTo>
                  <a:lnTo>
                    <a:pt x="1057" y="259"/>
                  </a:lnTo>
                  <a:lnTo>
                    <a:pt x="1060" y="240"/>
                  </a:lnTo>
                  <a:lnTo>
                    <a:pt x="1063" y="201"/>
                  </a:lnTo>
                  <a:lnTo>
                    <a:pt x="1064" y="165"/>
                  </a:lnTo>
                  <a:lnTo>
                    <a:pt x="1064" y="148"/>
                  </a:lnTo>
                  <a:lnTo>
                    <a:pt x="1063" y="134"/>
                  </a:lnTo>
                  <a:lnTo>
                    <a:pt x="1061" y="121"/>
                  </a:lnTo>
                  <a:lnTo>
                    <a:pt x="1058" y="111"/>
                  </a:lnTo>
                  <a:lnTo>
                    <a:pt x="1056" y="104"/>
                  </a:lnTo>
                  <a:lnTo>
                    <a:pt x="1056" y="95"/>
                  </a:lnTo>
                  <a:lnTo>
                    <a:pt x="1057" y="85"/>
                  </a:lnTo>
                  <a:lnTo>
                    <a:pt x="1058" y="77"/>
                  </a:lnTo>
                  <a:lnTo>
                    <a:pt x="1062" y="67"/>
                  </a:lnTo>
                  <a:lnTo>
                    <a:pt x="1065" y="58"/>
                  </a:lnTo>
                  <a:lnTo>
                    <a:pt x="1069" y="49"/>
                  </a:lnTo>
                  <a:lnTo>
                    <a:pt x="1074" y="40"/>
                  </a:lnTo>
                  <a:lnTo>
                    <a:pt x="1083" y="25"/>
                  </a:lnTo>
                  <a:lnTo>
                    <a:pt x="1092" y="12"/>
                  </a:lnTo>
                  <a:lnTo>
                    <a:pt x="1098" y="3"/>
                  </a:lnTo>
                  <a:lnTo>
                    <a:pt x="1101" y="0"/>
                  </a:lnTo>
                  <a:lnTo>
                    <a:pt x="1103" y="65"/>
                  </a:lnTo>
                  <a:lnTo>
                    <a:pt x="1103" y="68"/>
                  </a:lnTo>
                  <a:lnTo>
                    <a:pt x="1103" y="79"/>
                  </a:lnTo>
                  <a:lnTo>
                    <a:pt x="1102" y="93"/>
                  </a:lnTo>
                  <a:lnTo>
                    <a:pt x="1102" y="112"/>
                  </a:lnTo>
                  <a:lnTo>
                    <a:pt x="1101" y="134"/>
                  </a:lnTo>
                  <a:lnTo>
                    <a:pt x="1101" y="157"/>
                  </a:lnTo>
                  <a:lnTo>
                    <a:pt x="1102" y="179"/>
                  </a:lnTo>
                  <a:lnTo>
                    <a:pt x="1103" y="201"/>
                  </a:lnTo>
                  <a:lnTo>
                    <a:pt x="1104" y="220"/>
                  </a:lnTo>
                  <a:lnTo>
                    <a:pt x="1104" y="241"/>
                  </a:lnTo>
                  <a:lnTo>
                    <a:pt x="1103" y="262"/>
                  </a:lnTo>
                  <a:lnTo>
                    <a:pt x="1101" y="283"/>
                  </a:lnTo>
                  <a:lnTo>
                    <a:pt x="1096" y="306"/>
                  </a:lnTo>
                  <a:lnTo>
                    <a:pt x="1091" y="328"/>
                  </a:lnTo>
                  <a:lnTo>
                    <a:pt x="1085" y="351"/>
                  </a:lnTo>
                  <a:lnTo>
                    <a:pt x="1078" y="374"/>
                  </a:lnTo>
                  <a:lnTo>
                    <a:pt x="1071" y="399"/>
                  </a:lnTo>
                  <a:lnTo>
                    <a:pt x="1065" y="426"/>
                  </a:lnTo>
                  <a:lnTo>
                    <a:pt x="1058" y="455"/>
                  </a:lnTo>
                  <a:lnTo>
                    <a:pt x="1052" y="484"/>
                  </a:lnTo>
                  <a:lnTo>
                    <a:pt x="1048" y="514"/>
                  </a:lnTo>
                  <a:lnTo>
                    <a:pt x="1042" y="542"/>
                  </a:lnTo>
                  <a:lnTo>
                    <a:pt x="1038" y="568"/>
                  </a:lnTo>
                  <a:lnTo>
                    <a:pt x="1034" y="591"/>
                  </a:lnTo>
                  <a:lnTo>
                    <a:pt x="1031" y="603"/>
                  </a:lnTo>
                  <a:lnTo>
                    <a:pt x="1028" y="615"/>
                  </a:lnTo>
                  <a:lnTo>
                    <a:pt x="1023" y="628"/>
                  </a:lnTo>
                  <a:lnTo>
                    <a:pt x="1016" y="640"/>
                  </a:lnTo>
                  <a:lnTo>
                    <a:pt x="1009" y="653"/>
                  </a:lnTo>
                  <a:lnTo>
                    <a:pt x="1000" y="667"/>
                  </a:lnTo>
                  <a:lnTo>
                    <a:pt x="990" y="680"/>
                  </a:lnTo>
                  <a:lnTo>
                    <a:pt x="981" y="694"/>
                  </a:lnTo>
                  <a:lnTo>
                    <a:pt x="959" y="720"/>
                  </a:lnTo>
                  <a:lnTo>
                    <a:pt x="936" y="744"/>
                  </a:lnTo>
                  <a:lnTo>
                    <a:pt x="913" y="766"/>
                  </a:lnTo>
                  <a:lnTo>
                    <a:pt x="891" y="784"/>
                  </a:lnTo>
                  <a:lnTo>
                    <a:pt x="868" y="801"/>
                  </a:lnTo>
                  <a:lnTo>
                    <a:pt x="845" y="820"/>
                  </a:lnTo>
                  <a:lnTo>
                    <a:pt x="821" y="839"/>
                  </a:lnTo>
                  <a:lnTo>
                    <a:pt x="798" y="858"/>
                  </a:lnTo>
                  <a:lnTo>
                    <a:pt x="776" y="876"/>
                  </a:lnTo>
                  <a:lnTo>
                    <a:pt x="757" y="891"/>
                  </a:lnTo>
                  <a:lnTo>
                    <a:pt x="740" y="905"/>
                  </a:lnTo>
                  <a:lnTo>
                    <a:pt x="725" y="915"/>
                  </a:lnTo>
                  <a:lnTo>
                    <a:pt x="712" y="926"/>
                  </a:lnTo>
                  <a:lnTo>
                    <a:pt x="697" y="937"/>
                  </a:lnTo>
                  <a:lnTo>
                    <a:pt x="679" y="949"/>
                  </a:lnTo>
                  <a:lnTo>
                    <a:pt x="660" y="961"/>
                  </a:lnTo>
                  <a:lnTo>
                    <a:pt x="649" y="967"/>
                  </a:lnTo>
                  <a:lnTo>
                    <a:pt x="637" y="971"/>
                  </a:lnTo>
                  <a:lnTo>
                    <a:pt x="625" y="975"/>
                  </a:lnTo>
                  <a:lnTo>
                    <a:pt x="612" y="979"/>
                  </a:lnTo>
                  <a:lnTo>
                    <a:pt x="598" y="982"/>
                  </a:lnTo>
                  <a:lnTo>
                    <a:pt x="584" y="984"/>
                  </a:lnTo>
                  <a:lnTo>
                    <a:pt x="568" y="985"/>
                  </a:lnTo>
                  <a:lnTo>
                    <a:pt x="552" y="984"/>
                  </a:lnTo>
                  <a:lnTo>
                    <a:pt x="533" y="983"/>
                  </a:lnTo>
                  <a:lnTo>
                    <a:pt x="515" y="981"/>
                  </a:lnTo>
                  <a:lnTo>
                    <a:pt x="497" y="979"/>
                  </a:lnTo>
                  <a:lnTo>
                    <a:pt x="478" y="974"/>
                  </a:lnTo>
                  <a:lnTo>
                    <a:pt x="459" y="970"/>
                  </a:lnTo>
                  <a:lnTo>
                    <a:pt x="439" y="966"/>
                  </a:lnTo>
                  <a:lnTo>
                    <a:pt x="420" y="959"/>
                  </a:lnTo>
                  <a:lnTo>
                    <a:pt x="402" y="953"/>
                  </a:lnTo>
                  <a:lnTo>
                    <a:pt x="382" y="945"/>
                  </a:lnTo>
                  <a:lnTo>
                    <a:pt x="364" y="937"/>
                  </a:lnTo>
                  <a:lnTo>
                    <a:pt x="347" y="929"/>
                  </a:lnTo>
                  <a:lnTo>
                    <a:pt x="329" y="919"/>
                  </a:lnTo>
                  <a:lnTo>
                    <a:pt x="312" y="908"/>
                  </a:lnTo>
                  <a:lnTo>
                    <a:pt x="297" y="898"/>
                  </a:lnTo>
                  <a:lnTo>
                    <a:pt x="282" y="886"/>
                  </a:lnTo>
                  <a:lnTo>
                    <a:pt x="268" y="873"/>
                  </a:lnTo>
                  <a:lnTo>
                    <a:pt x="239" y="847"/>
                  </a:lnTo>
                  <a:lnTo>
                    <a:pt x="209" y="820"/>
                  </a:lnTo>
                  <a:lnTo>
                    <a:pt x="180" y="791"/>
                  </a:lnTo>
                  <a:lnTo>
                    <a:pt x="152" y="763"/>
                  </a:lnTo>
                  <a:lnTo>
                    <a:pt x="125" y="734"/>
                  </a:lnTo>
                  <a:lnTo>
                    <a:pt x="101" y="707"/>
                  </a:lnTo>
                  <a:lnTo>
                    <a:pt x="81" y="683"/>
                  </a:lnTo>
                  <a:lnTo>
                    <a:pt x="65" y="661"/>
                  </a:lnTo>
                  <a:lnTo>
                    <a:pt x="57" y="650"/>
                  </a:lnTo>
                  <a:lnTo>
                    <a:pt x="51" y="638"/>
                  </a:lnTo>
                  <a:lnTo>
                    <a:pt x="44" y="626"/>
                  </a:lnTo>
                  <a:lnTo>
                    <a:pt x="39" y="612"/>
                  </a:lnTo>
                  <a:lnTo>
                    <a:pt x="29" y="584"/>
                  </a:lnTo>
                  <a:lnTo>
                    <a:pt x="21" y="556"/>
                  </a:lnTo>
                  <a:lnTo>
                    <a:pt x="15" y="529"/>
                  </a:lnTo>
                  <a:lnTo>
                    <a:pt x="12" y="505"/>
                  </a:lnTo>
                  <a:lnTo>
                    <a:pt x="9" y="486"/>
                  </a:lnTo>
                  <a:lnTo>
                    <a:pt x="11" y="473"/>
                  </a:lnTo>
                  <a:lnTo>
                    <a:pt x="12" y="462"/>
                  </a:lnTo>
                  <a:lnTo>
                    <a:pt x="12" y="448"/>
                  </a:lnTo>
                  <a:lnTo>
                    <a:pt x="9" y="433"/>
                  </a:lnTo>
                  <a:lnTo>
                    <a:pt x="8" y="416"/>
                  </a:lnTo>
                  <a:lnTo>
                    <a:pt x="6" y="396"/>
                  </a:lnTo>
                  <a:lnTo>
                    <a:pt x="4" y="376"/>
                  </a:lnTo>
                  <a:lnTo>
                    <a:pt x="2" y="355"/>
                  </a:lnTo>
                  <a:lnTo>
                    <a:pt x="1" y="334"/>
                  </a:lnTo>
                  <a:lnTo>
                    <a:pt x="0" y="321"/>
                  </a:lnTo>
                  <a:lnTo>
                    <a:pt x="0" y="309"/>
                  </a:lnTo>
                  <a:lnTo>
                    <a:pt x="1" y="300"/>
                  </a:lnTo>
                  <a:lnTo>
                    <a:pt x="2" y="293"/>
                  </a:lnTo>
                  <a:lnTo>
                    <a:pt x="4" y="287"/>
                  </a:lnTo>
                  <a:lnTo>
                    <a:pt x="6" y="284"/>
                  </a:lnTo>
                  <a:lnTo>
                    <a:pt x="8" y="281"/>
                  </a:lnTo>
                  <a:lnTo>
                    <a:pt x="11" y="280"/>
                  </a:lnTo>
                  <a:lnTo>
                    <a:pt x="16" y="280"/>
                  </a:lnTo>
                  <a:lnTo>
                    <a:pt x="20" y="281"/>
                  </a:lnTo>
                  <a:lnTo>
                    <a:pt x="24" y="284"/>
                  </a:lnTo>
                  <a:lnTo>
                    <a:pt x="26" y="285"/>
                  </a:lnTo>
                  <a:lnTo>
                    <a:pt x="28" y="298"/>
                  </a:lnTo>
                  <a:lnTo>
                    <a:pt x="32" y="311"/>
                  </a:lnTo>
                  <a:lnTo>
                    <a:pt x="36" y="323"/>
                  </a:lnTo>
                  <a:lnTo>
                    <a:pt x="42" y="335"/>
                  </a:lnTo>
                  <a:lnTo>
                    <a:pt x="53" y="355"/>
                  </a:lnTo>
                  <a:lnTo>
                    <a:pt x="65" y="373"/>
                  </a:lnTo>
                  <a:lnTo>
                    <a:pt x="74" y="387"/>
                  </a:lnTo>
                  <a:lnTo>
                    <a:pt x="84" y="397"/>
                  </a:lnTo>
                  <a:lnTo>
                    <a:pt x="89" y="404"/>
                  </a:lnTo>
                  <a:lnTo>
                    <a:pt x="92" y="406"/>
                  </a:lnTo>
                  <a:lnTo>
                    <a:pt x="102" y="413"/>
                  </a:lnTo>
                  <a:lnTo>
                    <a:pt x="112" y="418"/>
                  </a:lnTo>
                  <a:lnTo>
                    <a:pt x="121" y="423"/>
                  </a:lnTo>
                  <a:lnTo>
                    <a:pt x="130" y="427"/>
                  </a:lnTo>
                  <a:lnTo>
                    <a:pt x="148" y="433"/>
                  </a:lnTo>
                  <a:lnTo>
                    <a:pt x="163" y="437"/>
                  </a:lnTo>
                  <a:lnTo>
                    <a:pt x="176" y="442"/>
                  </a:lnTo>
                  <a:lnTo>
                    <a:pt x="188" y="447"/>
                  </a:lnTo>
                  <a:lnTo>
                    <a:pt x="193" y="450"/>
                  </a:lnTo>
                  <a:lnTo>
                    <a:pt x="199" y="455"/>
                  </a:lnTo>
                  <a:lnTo>
                    <a:pt x="202" y="459"/>
                  </a:lnTo>
                  <a:lnTo>
                    <a:pt x="206" y="466"/>
                  </a:lnTo>
                  <a:lnTo>
                    <a:pt x="209" y="471"/>
                  </a:lnTo>
                  <a:lnTo>
                    <a:pt x="213" y="477"/>
                  </a:lnTo>
                  <a:lnTo>
                    <a:pt x="215" y="483"/>
                  </a:lnTo>
                  <a:lnTo>
                    <a:pt x="216" y="488"/>
                  </a:lnTo>
                  <a:lnTo>
                    <a:pt x="217" y="495"/>
                  </a:lnTo>
                  <a:lnTo>
                    <a:pt x="217" y="500"/>
                  </a:lnTo>
                  <a:lnTo>
                    <a:pt x="216" y="507"/>
                  </a:lnTo>
                  <a:lnTo>
                    <a:pt x="215" y="513"/>
                  </a:lnTo>
                  <a:lnTo>
                    <a:pt x="210" y="527"/>
                  </a:lnTo>
                  <a:lnTo>
                    <a:pt x="205" y="542"/>
                  </a:lnTo>
                  <a:lnTo>
                    <a:pt x="197" y="561"/>
                  </a:lnTo>
                  <a:lnTo>
                    <a:pt x="189" y="581"/>
                  </a:lnTo>
                  <a:lnTo>
                    <a:pt x="186" y="591"/>
                  </a:lnTo>
                  <a:lnTo>
                    <a:pt x="183" y="601"/>
                  </a:lnTo>
                  <a:lnTo>
                    <a:pt x="183" y="609"/>
                  </a:lnTo>
                  <a:lnTo>
                    <a:pt x="183" y="618"/>
                  </a:lnTo>
                  <a:lnTo>
                    <a:pt x="184" y="628"/>
                  </a:lnTo>
                  <a:lnTo>
                    <a:pt x="187" y="636"/>
                  </a:lnTo>
                  <a:lnTo>
                    <a:pt x="189" y="644"/>
                  </a:lnTo>
                  <a:lnTo>
                    <a:pt x="192" y="652"/>
                  </a:lnTo>
                  <a:lnTo>
                    <a:pt x="196" y="661"/>
                  </a:lnTo>
                  <a:lnTo>
                    <a:pt x="201" y="669"/>
                  </a:lnTo>
                  <a:lnTo>
                    <a:pt x="205" y="676"/>
                  </a:lnTo>
                  <a:lnTo>
                    <a:pt x="210" y="684"/>
                  </a:lnTo>
                  <a:lnTo>
                    <a:pt x="223" y="698"/>
                  </a:lnTo>
                  <a:lnTo>
                    <a:pt x="236" y="712"/>
                  </a:lnTo>
                  <a:lnTo>
                    <a:pt x="263" y="737"/>
                  </a:lnTo>
                  <a:lnTo>
                    <a:pt x="290" y="757"/>
                  </a:lnTo>
                  <a:lnTo>
                    <a:pt x="301" y="766"/>
                  </a:lnTo>
                  <a:lnTo>
                    <a:pt x="311" y="774"/>
                  </a:lnTo>
                  <a:lnTo>
                    <a:pt x="320" y="781"/>
                  </a:lnTo>
                  <a:lnTo>
                    <a:pt x="324" y="786"/>
                  </a:lnTo>
                  <a:lnTo>
                    <a:pt x="335" y="800"/>
                  </a:lnTo>
                  <a:lnTo>
                    <a:pt x="351" y="820"/>
                  </a:lnTo>
                  <a:lnTo>
                    <a:pt x="370" y="841"/>
                  </a:lnTo>
                  <a:lnTo>
                    <a:pt x="392" y="864"/>
                  </a:lnTo>
                  <a:lnTo>
                    <a:pt x="411" y="886"/>
                  </a:lnTo>
                  <a:lnTo>
                    <a:pt x="429" y="903"/>
                  </a:lnTo>
                  <a:lnTo>
                    <a:pt x="441" y="916"/>
                  </a:lnTo>
                  <a:lnTo>
                    <a:pt x="446" y="920"/>
                  </a:lnTo>
                  <a:lnTo>
                    <a:pt x="453" y="926"/>
                  </a:lnTo>
                  <a:lnTo>
                    <a:pt x="461" y="930"/>
                  </a:lnTo>
                  <a:lnTo>
                    <a:pt x="469" y="934"/>
                  </a:lnTo>
                  <a:lnTo>
                    <a:pt x="477" y="937"/>
                  </a:lnTo>
                  <a:lnTo>
                    <a:pt x="495" y="944"/>
                  </a:lnTo>
                  <a:lnTo>
                    <a:pt x="513" y="948"/>
                  </a:lnTo>
                  <a:lnTo>
                    <a:pt x="531" y="950"/>
                  </a:lnTo>
                  <a:lnTo>
                    <a:pt x="550" y="953"/>
                  </a:lnTo>
                  <a:lnTo>
                    <a:pt x="568" y="953"/>
                  </a:lnTo>
                  <a:lnTo>
                    <a:pt x="587" y="950"/>
                  </a:lnTo>
                  <a:lnTo>
                    <a:pt x="605" y="948"/>
                  </a:lnTo>
                  <a:lnTo>
                    <a:pt x="622" y="945"/>
                  </a:lnTo>
                  <a:lnTo>
                    <a:pt x="639" y="941"/>
                  </a:lnTo>
                  <a:lnTo>
                    <a:pt x="654" y="935"/>
                  </a:lnTo>
                  <a:lnTo>
                    <a:pt x="670" y="929"/>
                  </a:lnTo>
                  <a:lnTo>
                    <a:pt x="682" y="922"/>
                  </a:lnTo>
                  <a:lnTo>
                    <a:pt x="693" y="916"/>
                  </a:lnTo>
                  <a:lnTo>
                    <a:pt x="703" y="907"/>
                  </a:lnTo>
                  <a:lnTo>
                    <a:pt x="721" y="890"/>
                  </a:lnTo>
                  <a:lnTo>
                    <a:pt x="739" y="874"/>
                  </a:lnTo>
                  <a:lnTo>
                    <a:pt x="753" y="860"/>
                  </a:lnTo>
                  <a:lnTo>
                    <a:pt x="766" y="848"/>
                  </a:lnTo>
                  <a:lnTo>
                    <a:pt x="778" y="837"/>
                  </a:lnTo>
                  <a:lnTo>
                    <a:pt x="787" y="827"/>
                  </a:lnTo>
                  <a:lnTo>
                    <a:pt x="797" y="818"/>
                  </a:lnTo>
                  <a:lnTo>
                    <a:pt x="807" y="809"/>
                  </a:lnTo>
                  <a:lnTo>
                    <a:pt x="816" y="800"/>
                  </a:lnTo>
                  <a:lnTo>
                    <a:pt x="826" y="792"/>
                  </a:lnTo>
                  <a:lnTo>
                    <a:pt x="837" y="782"/>
                  </a:lnTo>
                  <a:lnTo>
                    <a:pt x="849" y="772"/>
                  </a:lnTo>
                  <a:lnTo>
                    <a:pt x="861" y="760"/>
                  </a:lnTo>
                  <a:lnTo>
                    <a:pt x="874" y="747"/>
                  </a:lnTo>
                  <a:lnTo>
                    <a:pt x="887" y="732"/>
                  </a:lnTo>
                  <a:lnTo>
                    <a:pt x="901" y="715"/>
                  </a:lnTo>
                  <a:lnTo>
                    <a:pt x="913" y="697"/>
                  </a:lnTo>
                  <a:lnTo>
                    <a:pt x="924" y="676"/>
                  </a:lnTo>
                  <a:lnTo>
                    <a:pt x="930" y="665"/>
                  </a:lnTo>
                  <a:lnTo>
                    <a:pt x="934" y="655"/>
                  </a:lnTo>
                  <a:lnTo>
                    <a:pt x="939" y="643"/>
                  </a:lnTo>
                  <a:lnTo>
                    <a:pt x="943" y="630"/>
                  </a:lnTo>
                  <a:lnTo>
                    <a:pt x="945" y="618"/>
                  </a:lnTo>
                  <a:lnTo>
                    <a:pt x="946" y="605"/>
                  </a:lnTo>
                  <a:lnTo>
                    <a:pt x="947" y="592"/>
                  </a:lnTo>
                  <a:lnTo>
                    <a:pt x="946" y="579"/>
                  </a:lnTo>
                  <a:lnTo>
                    <a:pt x="943" y="566"/>
                  </a:lnTo>
                  <a:lnTo>
                    <a:pt x="939" y="553"/>
                  </a:lnTo>
                  <a:lnTo>
                    <a:pt x="933" y="540"/>
                  </a:lnTo>
                  <a:lnTo>
                    <a:pt x="926" y="527"/>
                  </a:lnTo>
                  <a:lnTo>
                    <a:pt x="917" y="515"/>
                  </a:lnTo>
                  <a:lnTo>
                    <a:pt x="909" y="503"/>
                  </a:lnTo>
                  <a:lnTo>
                    <a:pt x="904" y="493"/>
                  </a:lnTo>
                  <a:lnTo>
                    <a:pt x="900" y="482"/>
                  </a:lnTo>
                  <a:lnTo>
                    <a:pt x="896" y="472"/>
                  </a:lnTo>
                  <a:lnTo>
                    <a:pt x="895" y="463"/>
                  </a:lnTo>
                  <a:lnTo>
                    <a:pt x="894" y="456"/>
                  </a:lnTo>
                  <a:lnTo>
                    <a:pt x="895" y="448"/>
                  </a:lnTo>
                  <a:lnTo>
                    <a:pt x="896" y="442"/>
                  </a:lnTo>
                  <a:lnTo>
                    <a:pt x="900" y="436"/>
                  </a:lnTo>
                  <a:lnTo>
                    <a:pt x="903" y="432"/>
                  </a:lnTo>
                  <a:lnTo>
                    <a:pt x="907" y="429"/>
                  </a:lnTo>
                  <a:lnTo>
                    <a:pt x="912" y="427"/>
                  </a:lnTo>
                  <a:lnTo>
                    <a:pt x="917" y="426"/>
                  </a:lnTo>
                  <a:lnTo>
                    <a:pt x="923" y="424"/>
                  </a:lnTo>
                  <a:lnTo>
                    <a:pt x="930" y="426"/>
                  </a:lnTo>
                  <a:close/>
                </a:path>
              </a:pathLst>
            </a:custGeom>
            <a:solidFill>
              <a:srgbClr val="7f5d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5594400" y="2089080"/>
              <a:ext cx="349200" cy="312840"/>
            </a:xfrm>
            <a:custGeom>
              <a:avLst/>
              <a:gdLst/>
              <a:ahLst/>
              <a:rect l="l" t="t" r="r" b="b"/>
              <a:pathLst>
                <a:path w="1104" h="985">
                  <a:moveTo>
                    <a:pt x="940" y="439"/>
                  </a:moveTo>
                  <a:lnTo>
                    <a:pt x="947" y="440"/>
                  </a:lnTo>
                  <a:lnTo>
                    <a:pt x="954" y="439"/>
                  </a:lnTo>
                  <a:lnTo>
                    <a:pt x="961" y="437"/>
                  </a:lnTo>
                  <a:lnTo>
                    <a:pt x="968" y="434"/>
                  </a:lnTo>
                  <a:lnTo>
                    <a:pt x="974" y="430"/>
                  </a:lnTo>
                  <a:lnTo>
                    <a:pt x="981" y="426"/>
                  </a:lnTo>
                  <a:lnTo>
                    <a:pt x="987" y="420"/>
                  </a:lnTo>
                  <a:lnTo>
                    <a:pt x="994" y="414"/>
                  </a:lnTo>
                  <a:lnTo>
                    <a:pt x="1007" y="401"/>
                  </a:lnTo>
                  <a:lnTo>
                    <a:pt x="1018" y="387"/>
                  </a:lnTo>
                  <a:lnTo>
                    <a:pt x="1029" y="373"/>
                  </a:lnTo>
                  <a:lnTo>
                    <a:pt x="1039" y="362"/>
                  </a:lnTo>
                  <a:lnTo>
                    <a:pt x="1043" y="354"/>
                  </a:lnTo>
                  <a:lnTo>
                    <a:pt x="1048" y="345"/>
                  </a:lnTo>
                  <a:lnTo>
                    <a:pt x="1052" y="332"/>
                  </a:lnTo>
                  <a:lnTo>
                    <a:pt x="1055" y="318"/>
                  </a:lnTo>
                  <a:lnTo>
                    <a:pt x="1060" y="300"/>
                  </a:lnTo>
                  <a:lnTo>
                    <a:pt x="1063" y="282"/>
                  </a:lnTo>
                  <a:lnTo>
                    <a:pt x="1065" y="262"/>
                  </a:lnTo>
                  <a:lnTo>
                    <a:pt x="1067" y="243"/>
                  </a:lnTo>
                  <a:lnTo>
                    <a:pt x="1070" y="203"/>
                  </a:lnTo>
                  <a:lnTo>
                    <a:pt x="1071" y="165"/>
                  </a:lnTo>
                  <a:lnTo>
                    <a:pt x="1071" y="149"/>
                  </a:lnTo>
                  <a:lnTo>
                    <a:pt x="1070" y="134"/>
                  </a:lnTo>
                  <a:lnTo>
                    <a:pt x="1068" y="122"/>
                  </a:lnTo>
                  <a:lnTo>
                    <a:pt x="1066" y="111"/>
                  </a:lnTo>
                  <a:lnTo>
                    <a:pt x="1064" y="104"/>
                  </a:lnTo>
                  <a:lnTo>
                    <a:pt x="1063" y="95"/>
                  </a:lnTo>
                  <a:lnTo>
                    <a:pt x="1064" y="85"/>
                  </a:lnTo>
                  <a:lnTo>
                    <a:pt x="1065" y="77"/>
                  </a:lnTo>
                  <a:lnTo>
                    <a:pt x="1067" y="67"/>
                  </a:lnTo>
                  <a:lnTo>
                    <a:pt x="1070" y="58"/>
                  </a:lnTo>
                  <a:lnTo>
                    <a:pt x="1074" y="49"/>
                  </a:lnTo>
                  <a:lnTo>
                    <a:pt x="1078" y="40"/>
                  </a:lnTo>
                  <a:lnTo>
                    <a:pt x="1085" y="25"/>
                  </a:lnTo>
                  <a:lnTo>
                    <a:pt x="1093" y="12"/>
                  </a:lnTo>
                  <a:lnTo>
                    <a:pt x="1098" y="3"/>
                  </a:lnTo>
                  <a:lnTo>
                    <a:pt x="1101" y="0"/>
                  </a:lnTo>
                  <a:lnTo>
                    <a:pt x="1103" y="65"/>
                  </a:lnTo>
                  <a:lnTo>
                    <a:pt x="1103" y="68"/>
                  </a:lnTo>
                  <a:lnTo>
                    <a:pt x="1103" y="79"/>
                  </a:lnTo>
                  <a:lnTo>
                    <a:pt x="1102" y="93"/>
                  </a:lnTo>
                  <a:lnTo>
                    <a:pt x="1102" y="112"/>
                  </a:lnTo>
                  <a:lnTo>
                    <a:pt x="1101" y="134"/>
                  </a:lnTo>
                  <a:lnTo>
                    <a:pt x="1101" y="157"/>
                  </a:lnTo>
                  <a:lnTo>
                    <a:pt x="1102" y="179"/>
                  </a:lnTo>
                  <a:lnTo>
                    <a:pt x="1103" y="201"/>
                  </a:lnTo>
                  <a:lnTo>
                    <a:pt x="1104" y="220"/>
                  </a:lnTo>
                  <a:lnTo>
                    <a:pt x="1104" y="241"/>
                  </a:lnTo>
                  <a:lnTo>
                    <a:pt x="1103" y="262"/>
                  </a:lnTo>
                  <a:lnTo>
                    <a:pt x="1101" y="283"/>
                  </a:lnTo>
                  <a:lnTo>
                    <a:pt x="1096" y="306"/>
                  </a:lnTo>
                  <a:lnTo>
                    <a:pt x="1091" y="328"/>
                  </a:lnTo>
                  <a:lnTo>
                    <a:pt x="1085" y="351"/>
                  </a:lnTo>
                  <a:lnTo>
                    <a:pt x="1078" y="374"/>
                  </a:lnTo>
                  <a:lnTo>
                    <a:pt x="1071" y="399"/>
                  </a:lnTo>
                  <a:lnTo>
                    <a:pt x="1065" y="426"/>
                  </a:lnTo>
                  <a:lnTo>
                    <a:pt x="1058" y="455"/>
                  </a:lnTo>
                  <a:lnTo>
                    <a:pt x="1052" y="484"/>
                  </a:lnTo>
                  <a:lnTo>
                    <a:pt x="1048" y="514"/>
                  </a:lnTo>
                  <a:lnTo>
                    <a:pt x="1042" y="542"/>
                  </a:lnTo>
                  <a:lnTo>
                    <a:pt x="1038" y="568"/>
                  </a:lnTo>
                  <a:lnTo>
                    <a:pt x="1034" y="591"/>
                  </a:lnTo>
                  <a:lnTo>
                    <a:pt x="1031" y="603"/>
                  </a:lnTo>
                  <a:lnTo>
                    <a:pt x="1028" y="615"/>
                  </a:lnTo>
                  <a:lnTo>
                    <a:pt x="1023" y="628"/>
                  </a:lnTo>
                  <a:lnTo>
                    <a:pt x="1016" y="640"/>
                  </a:lnTo>
                  <a:lnTo>
                    <a:pt x="1009" y="653"/>
                  </a:lnTo>
                  <a:lnTo>
                    <a:pt x="1000" y="667"/>
                  </a:lnTo>
                  <a:lnTo>
                    <a:pt x="990" y="680"/>
                  </a:lnTo>
                  <a:lnTo>
                    <a:pt x="981" y="694"/>
                  </a:lnTo>
                  <a:lnTo>
                    <a:pt x="959" y="720"/>
                  </a:lnTo>
                  <a:lnTo>
                    <a:pt x="936" y="744"/>
                  </a:lnTo>
                  <a:lnTo>
                    <a:pt x="913" y="766"/>
                  </a:lnTo>
                  <a:lnTo>
                    <a:pt x="891" y="784"/>
                  </a:lnTo>
                  <a:lnTo>
                    <a:pt x="868" y="801"/>
                  </a:lnTo>
                  <a:lnTo>
                    <a:pt x="845" y="820"/>
                  </a:lnTo>
                  <a:lnTo>
                    <a:pt x="821" y="839"/>
                  </a:lnTo>
                  <a:lnTo>
                    <a:pt x="798" y="858"/>
                  </a:lnTo>
                  <a:lnTo>
                    <a:pt x="776" y="876"/>
                  </a:lnTo>
                  <a:lnTo>
                    <a:pt x="757" y="891"/>
                  </a:lnTo>
                  <a:lnTo>
                    <a:pt x="740" y="905"/>
                  </a:lnTo>
                  <a:lnTo>
                    <a:pt x="725" y="915"/>
                  </a:lnTo>
                  <a:lnTo>
                    <a:pt x="712" y="926"/>
                  </a:lnTo>
                  <a:lnTo>
                    <a:pt x="697" y="937"/>
                  </a:lnTo>
                  <a:lnTo>
                    <a:pt x="679" y="949"/>
                  </a:lnTo>
                  <a:lnTo>
                    <a:pt x="660" y="961"/>
                  </a:lnTo>
                  <a:lnTo>
                    <a:pt x="649" y="967"/>
                  </a:lnTo>
                  <a:lnTo>
                    <a:pt x="637" y="971"/>
                  </a:lnTo>
                  <a:lnTo>
                    <a:pt x="625" y="975"/>
                  </a:lnTo>
                  <a:lnTo>
                    <a:pt x="612" y="979"/>
                  </a:lnTo>
                  <a:lnTo>
                    <a:pt x="598" y="982"/>
                  </a:lnTo>
                  <a:lnTo>
                    <a:pt x="584" y="984"/>
                  </a:lnTo>
                  <a:lnTo>
                    <a:pt x="568" y="985"/>
                  </a:lnTo>
                  <a:lnTo>
                    <a:pt x="552" y="984"/>
                  </a:lnTo>
                  <a:lnTo>
                    <a:pt x="533" y="983"/>
                  </a:lnTo>
                  <a:lnTo>
                    <a:pt x="515" y="981"/>
                  </a:lnTo>
                  <a:lnTo>
                    <a:pt x="497" y="979"/>
                  </a:lnTo>
                  <a:lnTo>
                    <a:pt x="478" y="974"/>
                  </a:lnTo>
                  <a:lnTo>
                    <a:pt x="459" y="970"/>
                  </a:lnTo>
                  <a:lnTo>
                    <a:pt x="439" y="966"/>
                  </a:lnTo>
                  <a:lnTo>
                    <a:pt x="420" y="959"/>
                  </a:lnTo>
                  <a:lnTo>
                    <a:pt x="402" y="953"/>
                  </a:lnTo>
                  <a:lnTo>
                    <a:pt x="382" y="945"/>
                  </a:lnTo>
                  <a:lnTo>
                    <a:pt x="364" y="937"/>
                  </a:lnTo>
                  <a:lnTo>
                    <a:pt x="347" y="929"/>
                  </a:lnTo>
                  <a:lnTo>
                    <a:pt x="329" y="919"/>
                  </a:lnTo>
                  <a:lnTo>
                    <a:pt x="312" y="908"/>
                  </a:lnTo>
                  <a:lnTo>
                    <a:pt x="297" y="898"/>
                  </a:lnTo>
                  <a:lnTo>
                    <a:pt x="282" y="886"/>
                  </a:lnTo>
                  <a:lnTo>
                    <a:pt x="268" y="873"/>
                  </a:lnTo>
                  <a:lnTo>
                    <a:pt x="239" y="847"/>
                  </a:lnTo>
                  <a:lnTo>
                    <a:pt x="209" y="820"/>
                  </a:lnTo>
                  <a:lnTo>
                    <a:pt x="180" y="791"/>
                  </a:lnTo>
                  <a:lnTo>
                    <a:pt x="152" y="763"/>
                  </a:lnTo>
                  <a:lnTo>
                    <a:pt x="125" y="734"/>
                  </a:lnTo>
                  <a:lnTo>
                    <a:pt x="101" y="707"/>
                  </a:lnTo>
                  <a:lnTo>
                    <a:pt x="81" y="683"/>
                  </a:lnTo>
                  <a:lnTo>
                    <a:pt x="65" y="661"/>
                  </a:lnTo>
                  <a:lnTo>
                    <a:pt x="57" y="650"/>
                  </a:lnTo>
                  <a:lnTo>
                    <a:pt x="51" y="638"/>
                  </a:lnTo>
                  <a:lnTo>
                    <a:pt x="44" y="626"/>
                  </a:lnTo>
                  <a:lnTo>
                    <a:pt x="39" y="612"/>
                  </a:lnTo>
                  <a:lnTo>
                    <a:pt x="29" y="584"/>
                  </a:lnTo>
                  <a:lnTo>
                    <a:pt x="21" y="556"/>
                  </a:lnTo>
                  <a:lnTo>
                    <a:pt x="15" y="529"/>
                  </a:lnTo>
                  <a:lnTo>
                    <a:pt x="12" y="505"/>
                  </a:lnTo>
                  <a:lnTo>
                    <a:pt x="9" y="486"/>
                  </a:lnTo>
                  <a:lnTo>
                    <a:pt x="11" y="473"/>
                  </a:lnTo>
                  <a:lnTo>
                    <a:pt x="12" y="462"/>
                  </a:lnTo>
                  <a:lnTo>
                    <a:pt x="12" y="450"/>
                  </a:lnTo>
                  <a:lnTo>
                    <a:pt x="11" y="436"/>
                  </a:lnTo>
                  <a:lnTo>
                    <a:pt x="9" y="420"/>
                  </a:lnTo>
                  <a:lnTo>
                    <a:pt x="7" y="403"/>
                  </a:lnTo>
                  <a:lnTo>
                    <a:pt x="5" y="385"/>
                  </a:lnTo>
                  <a:lnTo>
                    <a:pt x="3" y="365"/>
                  </a:lnTo>
                  <a:lnTo>
                    <a:pt x="1" y="345"/>
                  </a:lnTo>
                  <a:lnTo>
                    <a:pt x="0" y="320"/>
                  </a:lnTo>
                  <a:lnTo>
                    <a:pt x="0" y="304"/>
                  </a:lnTo>
                  <a:lnTo>
                    <a:pt x="1" y="298"/>
                  </a:lnTo>
                  <a:lnTo>
                    <a:pt x="2" y="294"/>
                  </a:lnTo>
                  <a:lnTo>
                    <a:pt x="3" y="292"/>
                  </a:lnTo>
                  <a:lnTo>
                    <a:pt x="5" y="289"/>
                  </a:lnTo>
                  <a:lnTo>
                    <a:pt x="7" y="288"/>
                  </a:lnTo>
                  <a:lnTo>
                    <a:pt x="11" y="289"/>
                  </a:lnTo>
                  <a:lnTo>
                    <a:pt x="12" y="292"/>
                  </a:lnTo>
                  <a:lnTo>
                    <a:pt x="13" y="292"/>
                  </a:lnTo>
                  <a:lnTo>
                    <a:pt x="16" y="306"/>
                  </a:lnTo>
                  <a:lnTo>
                    <a:pt x="20" y="319"/>
                  </a:lnTo>
                  <a:lnTo>
                    <a:pt x="25" y="331"/>
                  </a:lnTo>
                  <a:lnTo>
                    <a:pt x="29" y="342"/>
                  </a:lnTo>
                  <a:lnTo>
                    <a:pt x="40" y="364"/>
                  </a:lnTo>
                  <a:lnTo>
                    <a:pt x="51" y="382"/>
                  </a:lnTo>
                  <a:lnTo>
                    <a:pt x="60" y="397"/>
                  </a:lnTo>
                  <a:lnTo>
                    <a:pt x="69" y="408"/>
                  </a:lnTo>
                  <a:lnTo>
                    <a:pt x="75" y="416"/>
                  </a:lnTo>
                  <a:lnTo>
                    <a:pt x="78" y="418"/>
                  </a:lnTo>
                  <a:lnTo>
                    <a:pt x="96" y="430"/>
                  </a:lnTo>
                  <a:lnTo>
                    <a:pt x="113" y="439"/>
                  </a:lnTo>
                  <a:lnTo>
                    <a:pt x="127" y="445"/>
                  </a:lnTo>
                  <a:lnTo>
                    <a:pt x="140" y="450"/>
                  </a:lnTo>
                  <a:lnTo>
                    <a:pt x="151" y="456"/>
                  </a:lnTo>
                  <a:lnTo>
                    <a:pt x="160" y="461"/>
                  </a:lnTo>
                  <a:lnTo>
                    <a:pt x="164" y="464"/>
                  </a:lnTo>
                  <a:lnTo>
                    <a:pt x="167" y="468"/>
                  </a:lnTo>
                  <a:lnTo>
                    <a:pt x="170" y="472"/>
                  </a:lnTo>
                  <a:lnTo>
                    <a:pt x="174" y="477"/>
                  </a:lnTo>
                  <a:lnTo>
                    <a:pt x="178" y="488"/>
                  </a:lnTo>
                  <a:lnTo>
                    <a:pt x="181" y="499"/>
                  </a:lnTo>
                  <a:lnTo>
                    <a:pt x="183" y="510"/>
                  </a:lnTo>
                  <a:lnTo>
                    <a:pt x="183" y="522"/>
                  </a:lnTo>
                  <a:lnTo>
                    <a:pt x="181" y="535"/>
                  </a:lnTo>
                  <a:lnTo>
                    <a:pt x="179" y="550"/>
                  </a:lnTo>
                  <a:lnTo>
                    <a:pt x="175" y="567"/>
                  </a:lnTo>
                  <a:lnTo>
                    <a:pt x="168" y="586"/>
                  </a:lnTo>
                  <a:lnTo>
                    <a:pt x="166" y="596"/>
                  </a:lnTo>
                  <a:lnTo>
                    <a:pt x="165" y="606"/>
                  </a:lnTo>
                  <a:lnTo>
                    <a:pt x="165" y="615"/>
                  </a:lnTo>
                  <a:lnTo>
                    <a:pt x="165" y="624"/>
                  </a:lnTo>
                  <a:lnTo>
                    <a:pt x="167" y="633"/>
                  </a:lnTo>
                  <a:lnTo>
                    <a:pt x="169" y="642"/>
                  </a:lnTo>
                  <a:lnTo>
                    <a:pt x="173" y="650"/>
                  </a:lnTo>
                  <a:lnTo>
                    <a:pt x="176" y="659"/>
                  </a:lnTo>
                  <a:lnTo>
                    <a:pt x="186" y="675"/>
                  </a:lnTo>
                  <a:lnTo>
                    <a:pt x="196" y="690"/>
                  </a:lnTo>
                  <a:lnTo>
                    <a:pt x="209" y="705"/>
                  </a:lnTo>
                  <a:lnTo>
                    <a:pt x="223" y="719"/>
                  </a:lnTo>
                  <a:lnTo>
                    <a:pt x="251" y="744"/>
                  </a:lnTo>
                  <a:lnTo>
                    <a:pt x="280" y="766"/>
                  </a:lnTo>
                  <a:lnTo>
                    <a:pt x="291" y="774"/>
                  </a:lnTo>
                  <a:lnTo>
                    <a:pt x="301" y="783"/>
                  </a:lnTo>
                  <a:lnTo>
                    <a:pt x="309" y="791"/>
                  </a:lnTo>
                  <a:lnTo>
                    <a:pt x="314" y="796"/>
                  </a:lnTo>
                  <a:lnTo>
                    <a:pt x="326" y="810"/>
                  </a:lnTo>
                  <a:lnTo>
                    <a:pt x="343" y="829"/>
                  </a:lnTo>
                  <a:lnTo>
                    <a:pt x="365" y="851"/>
                  </a:lnTo>
                  <a:lnTo>
                    <a:pt x="388" y="873"/>
                  </a:lnTo>
                  <a:lnTo>
                    <a:pt x="409" y="894"/>
                  </a:lnTo>
                  <a:lnTo>
                    <a:pt x="428" y="912"/>
                  </a:lnTo>
                  <a:lnTo>
                    <a:pt x="441" y="923"/>
                  </a:lnTo>
                  <a:lnTo>
                    <a:pt x="446" y="928"/>
                  </a:lnTo>
                  <a:lnTo>
                    <a:pt x="461" y="936"/>
                  </a:lnTo>
                  <a:lnTo>
                    <a:pt x="478" y="944"/>
                  </a:lnTo>
                  <a:lnTo>
                    <a:pt x="496" y="949"/>
                  </a:lnTo>
                  <a:lnTo>
                    <a:pt x="514" y="953"/>
                  </a:lnTo>
                  <a:lnTo>
                    <a:pt x="531" y="956"/>
                  </a:lnTo>
                  <a:lnTo>
                    <a:pt x="551" y="957"/>
                  </a:lnTo>
                  <a:lnTo>
                    <a:pt x="569" y="957"/>
                  </a:lnTo>
                  <a:lnTo>
                    <a:pt x="587" y="955"/>
                  </a:lnTo>
                  <a:lnTo>
                    <a:pt x="605" y="953"/>
                  </a:lnTo>
                  <a:lnTo>
                    <a:pt x="622" y="949"/>
                  </a:lnTo>
                  <a:lnTo>
                    <a:pt x="638" y="945"/>
                  </a:lnTo>
                  <a:lnTo>
                    <a:pt x="654" y="940"/>
                  </a:lnTo>
                  <a:lnTo>
                    <a:pt x="668" y="934"/>
                  </a:lnTo>
                  <a:lnTo>
                    <a:pt x="681" y="928"/>
                  </a:lnTo>
                  <a:lnTo>
                    <a:pt x="693" y="920"/>
                  </a:lnTo>
                  <a:lnTo>
                    <a:pt x="703" y="913"/>
                  </a:lnTo>
                  <a:lnTo>
                    <a:pt x="722" y="895"/>
                  </a:lnTo>
                  <a:lnTo>
                    <a:pt x="740" y="881"/>
                  </a:lnTo>
                  <a:lnTo>
                    <a:pt x="755" y="868"/>
                  </a:lnTo>
                  <a:lnTo>
                    <a:pt x="768" y="858"/>
                  </a:lnTo>
                  <a:lnTo>
                    <a:pt x="780" y="848"/>
                  </a:lnTo>
                  <a:lnTo>
                    <a:pt x="789" y="839"/>
                  </a:lnTo>
                  <a:lnTo>
                    <a:pt x="799" y="831"/>
                  </a:lnTo>
                  <a:lnTo>
                    <a:pt x="809" y="821"/>
                  </a:lnTo>
                  <a:lnTo>
                    <a:pt x="819" y="812"/>
                  </a:lnTo>
                  <a:lnTo>
                    <a:pt x="829" y="802"/>
                  </a:lnTo>
                  <a:lnTo>
                    <a:pt x="841" y="793"/>
                  </a:lnTo>
                  <a:lnTo>
                    <a:pt x="854" y="782"/>
                  </a:lnTo>
                  <a:lnTo>
                    <a:pt x="867" y="770"/>
                  </a:lnTo>
                  <a:lnTo>
                    <a:pt x="880" y="757"/>
                  </a:lnTo>
                  <a:lnTo>
                    <a:pt x="894" y="742"/>
                  </a:lnTo>
                  <a:lnTo>
                    <a:pt x="908" y="725"/>
                  </a:lnTo>
                  <a:lnTo>
                    <a:pt x="921" y="706"/>
                  </a:lnTo>
                  <a:lnTo>
                    <a:pt x="934" y="687"/>
                  </a:lnTo>
                  <a:lnTo>
                    <a:pt x="940" y="676"/>
                  </a:lnTo>
                  <a:lnTo>
                    <a:pt x="946" y="665"/>
                  </a:lnTo>
                  <a:lnTo>
                    <a:pt x="950" y="653"/>
                  </a:lnTo>
                  <a:lnTo>
                    <a:pt x="955" y="642"/>
                  </a:lnTo>
                  <a:lnTo>
                    <a:pt x="958" y="629"/>
                  </a:lnTo>
                  <a:lnTo>
                    <a:pt x="959" y="617"/>
                  </a:lnTo>
                  <a:lnTo>
                    <a:pt x="960" y="604"/>
                  </a:lnTo>
                  <a:lnTo>
                    <a:pt x="960" y="591"/>
                  </a:lnTo>
                  <a:lnTo>
                    <a:pt x="957" y="578"/>
                  </a:lnTo>
                  <a:lnTo>
                    <a:pt x="954" y="565"/>
                  </a:lnTo>
                  <a:lnTo>
                    <a:pt x="948" y="552"/>
                  </a:lnTo>
                  <a:lnTo>
                    <a:pt x="940" y="539"/>
                  </a:lnTo>
                  <a:lnTo>
                    <a:pt x="931" y="527"/>
                  </a:lnTo>
                  <a:lnTo>
                    <a:pt x="924" y="515"/>
                  </a:lnTo>
                  <a:lnTo>
                    <a:pt x="918" y="504"/>
                  </a:lnTo>
                  <a:lnTo>
                    <a:pt x="914" y="494"/>
                  </a:lnTo>
                  <a:lnTo>
                    <a:pt x="910" y="484"/>
                  </a:lnTo>
                  <a:lnTo>
                    <a:pt x="908" y="475"/>
                  </a:lnTo>
                  <a:lnTo>
                    <a:pt x="906" y="468"/>
                  </a:lnTo>
                  <a:lnTo>
                    <a:pt x="906" y="460"/>
                  </a:lnTo>
                  <a:lnTo>
                    <a:pt x="907" y="454"/>
                  </a:lnTo>
                  <a:lnTo>
                    <a:pt x="909" y="448"/>
                  </a:lnTo>
                  <a:lnTo>
                    <a:pt x="913" y="444"/>
                  </a:lnTo>
                  <a:lnTo>
                    <a:pt x="916" y="441"/>
                  </a:lnTo>
                  <a:lnTo>
                    <a:pt x="921" y="439"/>
                  </a:lnTo>
                  <a:lnTo>
                    <a:pt x="927" y="436"/>
                  </a:lnTo>
                  <a:lnTo>
                    <a:pt x="933" y="436"/>
                  </a:lnTo>
                  <a:lnTo>
                    <a:pt x="940" y="439"/>
                  </a:lnTo>
                  <a:close/>
                </a:path>
              </a:pathLst>
            </a:custGeom>
            <a:solidFill>
              <a:srgbClr val="7a59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5592600" y="2089080"/>
              <a:ext cx="351000" cy="312840"/>
            </a:xfrm>
            <a:custGeom>
              <a:avLst/>
              <a:gdLst/>
              <a:ahLst/>
              <a:rect l="l" t="t" r="r" b="b"/>
              <a:pathLst>
                <a:path w="1106" h="985">
                  <a:moveTo>
                    <a:pt x="3" y="356"/>
                  </a:moveTo>
                  <a:lnTo>
                    <a:pt x="5" y="375"/>
                  </a:lnTo>
                  <a:lnTo>
                    <a:pt x="7" y="393"/>
                  </a:lnTo>
                  <a:lnTo>
                    <a:pt x="9" y="409"/>
                  </a:lnTo>
                  <a:lnTo>
                    <a:pt x="11" y="424"/>
                  </a:lnTo>
                  <a:lnTo>
                    <a:pt x="13" y="439"/>
                  </a:lnTo>
                  <a:lnTo>
                    <a:pt x="14" y="451"/>
                  </a:lnTo>
                  <a:lnTo>
                    <a:pt x="14" y="462"/>
                  </a:lnTo>
                  <a:lnTo>
                    <a:pt x="13" y="473"/>
                  </a:lnTo>
                  <a:lnTo>
                    <a:pt x="11" y="486"/>
                  </a:lnTo>
                  <a:lnTo>
                    <a:pt x="14" y="505"/>
                  </a:lnTo>
                  <a:lnTo>
                    <a:pt x="17" y="529"/>
                  </a:lnTo>
                  <a:lnTo>
                    <a:pt x="23" y="556"/>
                  </a:lnTo>
                  <a:lnTo>
                    <a:pt x="31" y="584"/>
                  </a:lnTo>
                  <a:lnTo>
                    <a:pt x="41" y="612"/>
                  </a:lnTo>
                  <a:lnTo>
                    <a:pt x="46" y="626"/>
                  </a:lnTo>
                  <a:lnTo>
                    <a:pt x="53" y="638"/>
                  </a:lnTo>
                  <a:lnTo>
                    <a:pt x="59" y="650"/>
                  </a:lnTo>
                  <a:lnTo>
                    <a:pt x="67" y="661"/>
                  </a:lnTo>
                  <a:lnTo>
                    <a:pt x="83" y="683"/>
                  </a:lnTo>
                  <a:lnTo>
                    <a:pt x="103" y="707"/>
                  </a:lnTo>
                  <a:lnTo>
                    <a:pt x="127" y="734"/>
                  </a:lnTo>
                  <a:lnTo>
                    <a:pt x="154" y="763"/>
                  </a:lnTo>
                  <a:lnTo>
                    <a:pt x="182" y="791"/>
                  </a:lnTo>
                  <a:lnTo>
                    <a:pt x="211" y="820"/>
                  </a:lnTo>
                  <a:lnTo>
                    <a:pt x="241" y="847"/>
                  </a:lnTo>
                  <a:lnTo>
                    <a:pt x="270" y="873"/>
                  </a:lnTo>
                  <a:lnTo>
                    <a:pt x="284" y="886"/>
                  </a:lnTo>
                  <a:lnTo>
                    <a:pt x="299" y="898"/>
                  </a:lnTo>
                  <a:lnTo>
                    <a:pt x="314" y="908"/>
                  </a:lnTo>
                  <a:lnTo>
                    <a:pt x="331" y="919"/>
                  </a:lnTo>
                  <a:lnTo>
                    <a:pt x="349" y="929"/>
                  </a:lnTo>
                  <a:lnTo>
                    <a:pt x="366" y="937"/>
                  </a:lnTo>
                  <a:lnTo>
                    <a:pt x="384" y="945"/>
                  </a:lnTo>
                  <a:lnTo>
                    <a:pt x="404" y="953"/>
                  </a:lnTo>
                  <a:lnTo>
                    <a:pt x="422" y="959"/>
                  </a:lnTo>
                  <a:lnTo>
                    <a:pt x="441" y="966"/>
                  </a:lnTo>
                  <a:lnTo>
                    <a:pt x="461" y="970"/>
                  </a:lnTo>
                  <a:lnTo>
                    <a:pt x="480" y="974"/>
                  </a:lnTo>
                  <a:lnTo>
                    <a:pt x="499" y="979"/>
                  </a:lnTo>
                  <a:lnTo>
                    <a:pt x="517" y="981"/>
                  </a:lnTo>
                  <a:lnTo>
                    <a:pt x="535" y="983"/>
                  </a:lnTo>
                  <a:lnTo>
                    <a:pt x="554" y="984"/>
                  </a:lnTo>
                  <a:lnTo>
                    <a:pt x="570" y="985"/>
                  </a:lnTo>
                  <a:lnTo>
                    <a:pt x="586" y="984"/>
                  </a:lnTo>
                  <a:lnTo>
                    <a:pt x="600" y="982"/>
                  </a:lnTo>
                  <a:lnTo>
                    <a:pt x="614" y="979"/>
                  </a:lnTo>
                  <a:lnTo>
                    <a:pt x="627" y="975"/>
                  </a:lnTo>
                  <a:lnTo>
                    <a:pt x="639" y="971"/>
                  </a:lnTo>
                  <a:lnTo>
                    <a:pt x="651" y="967"/>
                  </a:lnTo>
                  <a:lnTo>
                    <a:pt x="662" y="961"/>
                  </a:lnTo>
                  <a:lnTo>
                    <a:pt x="681" y="949"/>
                  </a:lnTo>
                  <a:lnTo>
                    <a:pt x="699" y="937"/>
                  </a:lnTo>
                  <a:lnTo>
                    <a:pt x="714" y="926"/>
                  </a:lnTo>
                  <a:lnTo>
                    <a:pt x="727" y="915"/>
                  </a:lnTo>
                  <a:lnTo>
                    <a:pt x="742" y="905"/>
                  </a:lnTo>
                  <a:lnTo>
                    <a:pt x="759" y="891"/>
                  </a:lnTo>
                  <a:lnTo>
                    <a:pt x="778" y="876"/>
                  </a:lnTo>
                  <a:lnTo>
                    <a:pt x="800" y="858"/>
                  </a:lnTo>
                  <a:lnTo>
                    <a:pt x="823" y="839"/>
                  </a:lnTo>
                  <a:lnTo>
                    <a:pt x="847" y="820"/>
                  </a:lnTo>
                  <a:lnTo>
                    <a:pt x="870" y="801"/>
                  </a:lnTo>
                  <a:lnTo>
                    <a:pt x="893" y="784"/>
                  </a:lnTo>
                  <a:lnTo>
                    <a:pt x="915" y="766"/>
                  </a:lnTo>
                  <a:lnTo>
                    <a:pt x="938" y="744"/>
                  </a:lnTo>
                  <a:lnTo>
                    <a:pt x="961" y="720"/>
                  </a:lnTo>
                  <a:lnTo>
                    <a:pt x="983" y="694"/>
                  </a:lnTo>
                  <a:lnTo>
                    <a:pt x="992" y="680"/>
                  </a:lnTo>
                  <a:lnTo>
                    <a:pt x="1002" y="667"/>
                  </a:lnTo>
                  <a:lnTo>
                    <a:pt x="1011" y="653"/>
                  </a:lnTo>
                  <a:lnTo>
                    <a:pt x="1018" y="640"/>
                  </a:lnTo>
                  <a:lnTo>
                    <a:pt x="1025" y="628"/>
                  </a:lnTo>
                  <a:lnTo>
                    <a:pt x="1030" y="615"/>
                  </a:lnTo>
                  <a:lnTo>
                    <a:pt x="1033" y="603"/>
                  </a:lnTo>
                  <a:lnTo>
                    <a:pt x="1036" y="591"/>
                  </a:lnTo>
                  <a:lnTo>
                    <a:pt x="1040" y="568"/>
                  </a:lnTo>
                  <a:lnTo>
                    <a:pt x="1044" y="542"/>
                  </a:lnTo>
                  <a:lnTo>
                    <a:pt x="1050" y="514"/>
                  </a:lnTo>
                  <a:lnTo>
                    <a:pt x="1054" y="484"/>
                  </a:lnTo>
                  <a:lnTo>
                    <a:pt x="1060" y="455"/>
                  </a:lnTo>
                  <a:lnTo>
                    <a:pt x="1067" y="426"/>
                  </a:lnTo>
                  <a:lnTo>
                    <a:pt x="1073" y="399"/>
                  </a:lnTo>
                  <a:lnTo>
                    <a:pt x="1080" y="374"/>
                  </a:lnTo>
                  <a:lnTo>
                    <a:pt x="1087" y="351"/>
                  </a:lnTo>
                  <a:lnTo>
                    <a:pt x="1093" y="328"/>
                  </a:lnTo>
                  <a:lnTo>
                    <a:pt x="1098" y="306"/>
                  </a:lnTo>
                  <a:lnTo>
                    <a:pt x="1103" y="283"/>
                  </a:lnTo>
                  <a:lnTo>
                    <a:pt x="1105" y="262"/>
                  </a:lnTo>
                  <a:lnTo>
                    <a:pt x="1106" y="241"/>
                  </a:lnTo>
                  <a:lnTo>
                    <a:pt x="1106" y="220"/>
                  </a:lnTo>
                  <a:lnTo>
                    <a:pt x="1105" y="201"/>
                  </a:lnTo>
                  <a:lnTo>
                    <a:pt x="1104" y="179"/>
                  </a:lnTo>
                  <a:lnTo>
                    <a:pt x="1103" y="157"/>
                  </a:lnTo>
                  <a:lnTo>
                    <a:pt x="1103" y="134"/>
                  </a:lnTo>
                  <a:lnTo>
                    <a:pt x="1104" y="112"/>
                  </a:lnTo>
                  <a:lnTo>
                    <a:pt x="1104" y="93"/>
                  </a:lnTo>
                  <a:lnTo>
                    <a:pt x="1105" y="79"/>
                  </a:lnTo>
                  <a:lnTo>
                    <a:pt x="1105" y="68"/>
                  </a:lnTo>
                  <a:lnTo>
                    <a:pt x="1105" y="65"/>
                  </a:lnTo>
                  <a:lnTo>
                    <a:pt x="1103" y="0"/>
                  </a:lnTo>
                  <a:lnTo>
                    <a:pt x="1100" y="3"/>
                  </a:lnTo>
                  <a:lnTo>
                    <a:pt x="1096" y="12"/>
                  </a:lnTo>
                  <a:lnTo>
                    <a:pt x="1090" y="25"/>
                  </a:lnTo>
                  <a:lnTo>
                    <a:pt x="1083" y="40"/>
                  </a:lnTo>
                  <a:lnTo>
                    <a:pt x="1078" y="58"/>
                  </a:lnTo>
                  <a:lnTo>
                    <a:pt x="1073" y="77"/>
                  </a:lnTo>
                  <a:lnTo>
                    <a:pt x="1072" y="85"/>
                  </a:lnTo>
                  <a:lnTo>
                    <a:pt x="1072" y="95"/>
                  </a:lnTo>
                  <a:lnTo>
                    <a:pt x="1073" y="104"/>
                  </a:lnTo>
                  <a:lnTo>
                    <a:pt x="1076" y="111"/>
                  </a:lnTo>
                  <a:lnTo>
                    <a:pt x="1078" y="122"/>
                  </a:lnTo>
                  <a:lnTo>
                    <a:pt x="1080" y="134"/>
                  </a:lnTo>
                  <a:lnTo>
                    <a:pt x="1081" y="150"/>
                  </a:lnTo>
                  <a:lnTo>
                    <a:pt x="1081" y="166"/>
                  </a:lnTo>
                  <a:lnTo>
                    <a:pt x="1081" y="205"/>
                  </a:lnTo>
                  <a:lnTo>
                    <a:pt x="1078" y="246"/>
                  </a:lnTo>
                  <a:lnTo>
                    <a:pt x="1076" y="267"/>
                  </a:lnTo>
                  <a:lnTo>
                    <a:pt x="1073" y="287"/>
                  </a:lnTo>
                  <a:lnTo>
                    <a:pt x="1070" y="306"/>
                  </a:lnTo>
                  <a:lnTo>
                    <a:pt x="1067" y="323"/>
                  </a:lnTo>
                  <a:lnTo>
                    <a:pt x="1064" y="339"/>
                  </a:lnTo>
                  <a:lnTo>
                    <a:pt x="1059" y="352"/>
                  </a:lnTo>
                  <a:lnTo>
                    <a:pt x="1055" y="362"/>
                  </a:lnTo>
                  <a:lnTo>
                    <a:pt x="1051" y="368"/>
                  </a:lnTo>
                  <a:lnTo>
                    <a:pt x="1042" y="381"/>
                  </a:lnTo>
                  <a:lnTo>
                    <a:pt x="1031" y="395"/>
                  </a:lnTo>
                  <a:lnTo>
                    <a:pt x="1019" y="409"/>
                  </a:lnTo>
                  <a:lnTo>
                    <a:pt x="1006" y="423"/>
                  </a:lnTo>
                  <a:lnTo>
                    <a:pt x="1000" y="430"/>
                  </a:lnTo>
                  <a:lnTo>
                    <a:pt x="993" y="435"/>
                  </a:lnTo>
                  <a:lnTo>
                    <a:pt x="986" y="440"/>
                  </a:lnTo>
                  <a:lnTo>
                    <a:pt x="978" y="444"/>
                  </a:lnTo>
                  <a:lnTo>
                    <a:pt x="972" y="447"/>
                  </a:lnTo>
                  <a:lnTo>
                    <a:pt x="964" y="448"/>
                  </a:lnTo>
                  <a:lnTo>
                    <a:pt x="957" y="449"/>
                  </a:lnTo>
                  <a:lnTo>
                    <a:pt x="949" y="448"/>
                  </a:lnTo>
                  <a:lnTo>
                    <a:pt x="943" y="447"/>
                  </a:lnTo>
                  <a:lnTo>
                    <a:pt x="937" y="447"/>
                  </a:lnTo>
                  <a:lnTo>
                    <a:pt x="932" y="448"/>
                  </a:lnTo>
                  <a:lnTo>
                    <a:pt x="928" y="450"/>
                  </a:lnTo>
                  <a:lnTo>
                    <a:pt x="924" y="454"/>
                  </a:lnTo>
                  <a:lnTo>
                    <a:pt x="922" y="459"/>
                  </a:lnTo>
                  <a:lnTo>
                    <a:pt x="921" y="464"/>
                  </a:lnTo>
                  <a:lnTo>
                    <a:pt x="920" y="471"/>
                  </a:lnTo>
                  <a:lnTo>
                    <a:pt x="921" y="478"/>
                  </a:lnTo>
                  <a:lnTo>
                    <a:pt x="922" y="487"/>
                  </a:lnTo>
                  <a:lnTo>
                    <a:pt x="925" y="496"/>
                  </a:lnTo>
                  <a:lnTo>
                    <a:pt x="929" y="505"/>
                  </a:lnTo>
                  <a:lnTo>
                    <a:pt x="933" y="516"/>
                  </a:lnTo>
                  <a:lnTo>
                    <a:pt x="939" y="528"/>
                  </a:lnTo>
                  <a:lnTo>
                    <a:pt x="946" y="539"/>
                  </a:lnTo>
                  <a:lnTo>
                    <a:pt x="955" y="552"/>
                  </a:lnTo>
                  <a:lnTo>
                    <a:pt x="962" y="565"/>
                  </a:lnTo>
                  <a:lnTo>
                    <a:pt x="969" y="578"/>
                  </a:lnTo>
                  <a:lnTo>
                    <a:pt x="973" y="591"/>
                  </a:lnTo>
                  <a:lnTo>
                    <a:pt x="975" y="603"/>
                  </a:lnTo>
                  <a:lnTo>
                    <a:pt x="975" y="616"/>
                  </a:lnTo>
                  <a:lnTo>
                    <a:pt x="974" y="628"/>
                  </a:lnTo>
                  <a:lnTo>
                    <a:pt x="972" y="639"/>
                  </a:lnTo>
                  <a:lnTo>
                    <a:pt x="969" y="652"/>
                  </a:lnTo>
                  <a:lnTo>
                    <a:pt x="963" y="663"/>
                  </a:lnTo>
                  <a:lnTo>
                    <a:pt x="958" y="675"/>
                  </a:lnTo>
                  <a:lnTo>
                    <a:pt x="952" y="686"/>
                  </a:lnTo>
                  <a:lnTo>
                    <a:pt x="946" y="697"/>
                  </a:lnTo>
                  <a:lnTo>
                    <a:pt x="932" y="718"/>
                  </a:lnTo>
                  <a:lnTo>
                    <a:pt x="917" y="737"/>
                  </a:lnTo>
                  <a:lnTo>
                    <a:pt x="903" y="754"/>
                  </a:lnTo>
                  <a:lnTo>
                    <a:pt x="888" y="769"/>
                  </a:lnTo>
                  <a:lnTo>
                    <a:pt x="874" y="782"/>
                  </a:lnTo>
                  <a:lnTo>
                    <a:pt x="859" y="794"/>
                  </a:lnTo>
                  <a:lnTo>
                    <a:pt x="847" y="805"/>
                  </a:lnTo>
                  <a:lnTo>
                    <a:pt x="835" y="814"/>
                  </a:lnTo>
                  <a:lnTo>
                    <a:pt x="824" y="824"/>
                  </a:lnTo>
                  <a:lnTo>
                    <a:pt x="813" y="834"/>
                  </a:lnTo>
                  <a:lnTo>
                    <a:pt x="804" y="842"/>
                  </a:lnTo>
                  <a:lnTo>
                    <a:pt x="796" y="851"/>
                  </a:lnTo>
                  <a:lnTo>
                    <a:pt x="785" y="860"/>
                  </a:lnTo>
                  <a:lnTo>
                    <a:pt x="773" y="868"/>
                  </a:lnTo>
                  <a:lnTo>
                    <a:pt x="760" y="878"/>
                  </a:lnTo>
                  <a:lnTo>
                    <a:pt x="744" y="890"/>
                  </a:lnTo>
                  <a:lnTo>
                    <a:pt x="724" y="904"/>
                  </a:lnTo>
                  <a:lnTo>
                    <a:pt x="702" y="920"/>
                  </a:lnTo>
                  <a:lnTo>
                    <a:pt x="692" y="928"/>
                  </a:lnTo>
                  <a:lnTo>
                    <a:pt x="680" y="934"/>
                  </a:lnTo>
                  <a:lnTo>
                    <a:pt x="667" y="941"/>
                  </a:lnTo>
                  <a:lnTo>
                    <a:pt x="653" y="946"/>
                  </a:lnTo>
                  <a:lnTo>
                    <a:pt x="638" y="950"/>
                  </a:lnTo>
                  <a:lnTo>
                    <a:pt x="623" y="955"/>
                  </a:lnTo>
                  <a:lnTo>
                    <a:pt x="606" y="958"/>
                  </a:lnTo>
                  <a:lnTo>
                    <a:pt x="588" y="961"/>
                  </a:lnTo>
                  <a:lnTo>
                    <a:pt x="571" y="962"/>
                  </a:lnTo>
                  <a:lnTo>
                    <a:pt x="553" y="962"/>
                  </a:lnTo>
                  <a:lnTo>
                    <a:pt x="535" y="961"/>
                  </a:lnTo>
                  <a:lnTo>
                    <a:pt x="517" y="959"/>
                  </a:lnTo>
                  <a:lnTo>
                    <a:pt x="499" y="955"/>
                  </a:lnTo>
                  <a:lnTo>
                    <a:pt x="481" y="950"/>
                  </a:lnTo>
                  <a:lnTo>
                    <a:pt x="464" y="943"/>
                  </a:lnTo>
                  <a:lnTo>
                    <a:pt x="448" y="935"/>
                  </a:lnTo>
                  <a:lnTo>
                    <a:pt x="443" y="930"/>
                  </a:lnTo>
                  <a:lnTo>
                    <a:pt x="428" y="918"/>
                  </a:lnTo>
                  <a:lnTo>
                    <a:pt x="408" y="901"/>
                  </a:lnTo>
                  <a:lnTo>
                    <a:pt x="384" y="880"/>
                  </a:lnTo>
                  <a:lnTo>
                    <a:pt x="359" y="859"/>
                  </a:lnTo>
                  <a:lnTo>
                    <a:pt x="337" y="837"/>
                  </a:lnTo>
                  <a:lnTo>
                    <a:pt x="318" y="818"/>
                  </a:lnTo>
                  <a:lnTo>
                    <a:pt x="306" y="804"/>
                  </a:lnTo>
                  <a:lnTo>
                    <a:pt x="301" y="798"/>
                  </a:lnTo>
                  <a:lnTo>
                    <a:pt x="293" y="792"/>
                  </a:lnTo>
                  <a:lnTo>
                    <a:pt x="283" y="783"/>
                  </a:lnTo>
                  <a:lnTo>
                    <a:pt x="271" y="774"/>
                  </a:lnTo>
                  <a:lnTo>
                    <a:pt x="242" y="754"/>
                  </a:lnTo>
                  <a:lnTo>
                    <a:pt x="211" y="728"/>
                  </a:lnTo>
                  <a:lnTo>
                    <a:pt x="197" y="715"/>
                  </a:lnTo>
                  <a:lnTo>
                    <a:pt x="183" y="700"/>
                  </a:lnTo>
                  <a:lnTo>
                    <a:pt x="171" y="684"/>
                  </a:lnTo>
                  <a:lnTo>
                    <a:pt x="161" y="667"/>
                  </a:lnTo>
                  <a:lnTo>
                    <a:pt x="156" y="659"/>
                  </a:lnTo>
                  <a:lnTo>
                    <a:pt x="153" y="650"/>
                  </a:lnTo>
                  <a:lnTo>
                    <a:pt x="150" y="642"/>
                  </a:lnTo>
                  <a:lnTo>
                    <a:pt x="148" y="632"/>
                  </a:lnTo>
                  <a:lnTo>
                    <a:pt x="147" y="623"/>
                  </a:lnTo>
                  <a:lnTo>
                    <a:pt x="147" y="613"/>
                  </a:lnTo>
                  <a:lnTo>
                    <a:pt x="147" y="604"/>
                  </a:lnTo>
                  <a:lnTo>
                    <a:pt x="149" y="594"/>
                  </a:lnTo>
                  <a:lnTo>
                    <a:pt x="152" y="575"/>
                  </a:lnTo>
                  <a:lnTo>
                    <a:pt x="154" y="558"/>
                  </a:lnTo>
                  <a:lnTo>
                    <a:pt x="154" y="544"/>
                  </a:lnTo>
                  <a:lnTo>
                    <a:pt x="153" y="532"/>
                  </a:lnTo>
                  <a:lnTo>
                    <a:pt x="152" y="521"/>
                  </a:lnTo>
                  <a:lnTo>
                    <a:pt x="149" y="511"/>
                  </a:lnTo>
                  <a:lnTo>
                    <a:pt x="147" y="501"/>
                  </a:lnTo>
                  <a:lnTo>
                    <a:pt x="143" y="493"/>
                  </a:lnTo>
                  <a:lnTo>
                    <a:pt x="139" y="483"/>
                  </a:lnTo>
                  <a:lnTo>
                    <a:pt x="135" y="475"/>
                  </a:lnTo>
                  <a:lnTo>
                    <a:pt x="128" y="470"/>
                  </a:lnTo>
                  <a:lnTo>
                    <a:pt x="121" y="464"/>
                  </a:lnTo>
                  <a:lnTo>
                    <a:pt x="111" y="458"/>
                  </a:lnTo>
                  <a:lnTo>
                    <a:pt x="98" y="450"/>
                  </a:lnTo>
                  <a:lnTo>
                    <a:pt x="83" y="441"/>
                  </a:lnTo>
                  <a:lnTo>
                    <a:pt x="64" y="428"/>
                  </a:lnTo>
                  <a:lnTo>
                    <a:pt x="62" y="426"/>
                  </a:lnTo>
                  <a:lnTo>
                    <a:pt x="57" y="418"/>
                  </a:lnTo>
                  <a:lnTo>
                    <a:pt x="48" y="406"/>
                  </a:lnTo>
                  <a:lnTo>
                    <a:pt x="38" y="391"/>
                  </a:lnTo>
                  <a:lnTo>
                    <a:pt x="29" y="373"/>
                  </a:lnTo>
                  <a:lnTo>
                    <a:pt x="18" y="351"/>
                  </a:lnTo>
                  <a:lnTo>
                    <a:pt x="14" y="339"/>
                  </a:lnTo>
                  <a:lnTo>
                    <a:pt x="9" y="327"/>
                  </a:lnTo>
                  <a:lnTo>
                    <a:pt x="6" y="315"/>
                  </a:lnTo>
                  <a:lnTo>
                    <a:pt x="3" y="302"/>
                  </a:lnTo>
                  <a:lnTo>
                    <a:pt x="2" y="301"/>
                  </a:lnTo>
                  <a:lnTo>
                    <a:pt x="2" y="300"/>
                  </a:lnTo>
                  <a:lnTo>
                    <a:pt x="1" y="299"/>
                  </a:lnTo>
                  <a:lnTo>
                    <a:pt x="0" y="300"/>
                  </a:lnTo>
                  <a:lnTo>
                    <a:pt x="0" y="306"/>
                  </a:lnTo>
                  <a:lnTo>
                    <a:pt x="0" y="315"/>
                  </a:lnTo>
                  <a:lnTo>
                    <a:pt x="1" y="332"/>
                  </a:lnTo>
                  <a:lnTo>
                    <a:pt x="3" y="356"/>
                  </a:lnTo>
                  <a:close/>
                </a:path>
              </a:pathLst>
            </a:custGeom>
            <a:solidFill>
              <a:srgbClr val="7656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5592600" y="2184480"/>
              <a:ext cx="343080" cy="217440"/>
            </a:xfrm>
            <a:custGeom>
              <a:avLst/>
              <a:gdLst/>
              <a:ahLst/>
              <a:rect l="l" t="t" r="r" b="b"/>
              <a:pathLst>
                <a:path w="1080" h="686">
                  <a:moveTo>
                    <a:pt x="3" y="3"/>
                  </a:moveTo>
                  <a:lnTo>
                    <a:pt x="2" y="2"/>
                  </a:lnTo>
                  <a:lnTo>
                    <a:pt x="2" y="1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7"/>
                  </a:lnTo>
                  <a:lnTo>
                    <a:pt x="0" y="16"/>
                  </a:lnTo>
                  <a:lnTo>
                    <a:pt x="1" y="33"/>
                  </a:lnTo>
                  <a:lnTo>
                    <a:pt x="3" y="57"/>
                  </a:lnTo>
                  <a:lnTo>
                    <a:pt x="5" y="76"/>
                  </a:lnTo>
                  <a:lnTo>
                    <a:pt x="7" y="94"/>
                  </a:lnTo>
                  <a:lnTo>
                    <a:pt x="9" y="110"/>
                  </a:lnTo>
                  <a:lnTo>
                    <a:pt x="11" y="125"/>
                  </a:lnTo>
                  <a:lnTo>
                    <a:pt x="13" y="140"/>
                  </a:lnTo>
                  <a:lnTo>
                    <a:pt x="14" y="152"/>
                  </a:lnTo>
                  <a:lnTo>
                    <a:pt x="14" y="163"/>
                  </a:lnTo>
                  <a:lnTo>
                    <a:pt x="13" y="174"/>
                  </a:lnTo>
                  <a:lnTo>
                    <a:pt x="11" y="187"/>
                  </a:lnTo>
                  <a:lnTo>
                    <a:pt x="14" y="206"/>
                  </a:lnTo>
                  <a:lnTo>
                    <a:pt x="17" y="230"/>
                  </a:lnTo>
                  <a:lnTo>
                    <a:pt x="23" y="257"/>
                  </a:lnTo>
                  <a:lnTo>
                    <a:pt x="31" y="285"/>
                  </a:lnTo>
                  <a:lnTo>
                    <a:pt x="41" y="313"/>
                  </a:lnTo>
                  <a:lnTo>
                    <a:pt x="46" y="327"/>
                  </a:lnTo>
                  <a:lnTo>
                    <a:pt x="53" y="339"/>
                  </a:lnTo>
                  <a:lnTo>
                    <a:pt x="59" y="351"/>
                  </a:lnTo>
                  <a:lnTo>
                    <a:pt x="67" y="362"/>
                  </a:lnTo>
                  <a:lnTo>
                    <a:pt x="83" y="384"/>
                  </a:lnTo>
                  <a:lnTo>
                    <a:pt x="103" y="408"/>
                  </a:lnTo>
                  <a:lnTo>
                    <a:pt x="127" y="435"/>
                  </a:lnTo>
                  <a:lnTo>
                    <a:pt x="154" y="464"/>
                  </a:lnTo>
                  <a:lnTo>
                    <a:pt x="182" y="492"/>
                  </a:lnTo>
                  <a:lnTo>
                    <a:pt x="211" y="521"/>
                  </a:lnTo>
                  <a:lnTo>
                    <a:pt x="241" y="548"/>
                  </a:lnTo>
                  <a:lnTo>
                    <a:pt x="270" y="574"/>
                  </a:lnTo>
                  <a:lnTo>
                    <a:pt x="284" y="587"/>
                  </a:lnTo>
                  <a:lnTo>
                    <a:pt x="299" y="599"/>
                  </a:lnTo>
                  <a:lnTo>
                    <a:pt x="314" y="609"/>
                  </a:lnTo>
                  <a:lnTo>
                    <a:pt x="331" y="620"/>
                  </a:lnTo>
                  <a:lnTo>
                    <a:pt x="349" y="630"/>
                  </a:lnTo>
                  <a:lnTo>
                    <a:pt x="366" y="638"/>
                  </a:lnTo>
                  <a:lnTo>
                    <a:pt x="384" y="646"/>
                  </a:lnTo>
                  <a:lnTo>
                    <a:pt x="404" y="654"/>
                  </a:lnTo>
                  <a:lnTo>
                    <a:pt x="422" y="660"/>
                  </a:lnTo>
                  <a:lnTo>
                    <a:pt x="441" y="667"/>
                  </a:lnTo>
                  <a:lnTo>
                    <a:pt x="461" y="671"/>
                  </a:lnTo>
                  <a:lnTo>
                    <a:pt x="480" y="675"/>
                  </a:lnTo>
                  <a:lnTo>
                    <a:pt x="499" y="680"/>
                  </a:lnTo>
                  <a:lnTo>
                    <a:pt x="517" y="682"/>
                  </a:lnTo>
                  <a:lnTo>
                    <a:pt x="535" y="684"/>
                  </a:lnTo>
                  <a:lnTo>
                    <a:pt x="554" y="685"/>
                  </a:lnTo>
                  <a:lnTo>
                    <a:pt x="570" y="686"/>
                  </a:lnTo>
                  <a:lnTo>
                    <a:pt x="586" y="685"/>
                  </a:lnTo>
                  <a:lnTo>
                    <a:pt x="600" y="683"/>
                  </a:lnTo>
                  <a:lnTo>
                    <a:pt x="614" y="680"/>
                  </a:lnTo>
                  <a:lnTo>
                    <a:pt x="627" y="676"/>
                  </a:lnTo>
                  <a:lnTo>
                    <a:pt x="639" y="672"/>
                  </a:lnTo>
                  <a:lnTo>
                    <a:pt x="651" y="668"/>
                  </a:lnTo>
                  <a:lnTo>
                    <a:pt x="662" y="662"/>
                  </a:lnTo>
                  <a:lnTo>
                    <a:pt x="681" y="650"/>
                  </a:lnTo>
                  <a:lnTo>
                    <a:pt x="699" y="638"/>
                  </a:lnTo>
                  <a:lnTo>
                    <a:pt x="714" y="627"/>
                  </a:lnTo>
                  <a:lnTo>
                    <a:pt x="727" y="616"/>
                  </a:lnTo>
                  <a:lnTo>
                    <a:pt x="742" y="606"/>
                  </a:lnTo>
                  <a:lnTo>
                    <a:pt x="759" y="592"/>
                  </a:lnTo>
                  <a:lnTo>
                    <a:pt x="778" y="577"/>
                  </a:lnTo>
                  <a:lnTo>
                    <a:pt x="800" y="559"/>
                  </a:lnTo>
                  <a:lnTo>
                    <a:pt x="823" y="540"/>
                  </a:lnTo>
                  <a:lnTo>
                    <a:pt x="847" y="521"/>
                  </a:lnTo>
                  <a:lnTo>
                    <a:pt x="870" y="502"/>
                  </a:lnTo>
                  <a:lnTo>
                    <a:pt x="893" y="485"/>
                  </a:lnTo>
                  <a:lnTo>
                    <a:pt x="915" y="467"/>
                  </a:lnTo>
                  <a:lnTo>
                    <a:pt x="938" y="445"/>
                  </a:lnTo>
                  <a:lnTo>
                    <a:pt x="961" y="421"/>
                  </a:lnTo>
                  <a:lnTo>
                    <a:pt x="983" y="395"/>
                  </a:lnTo>
                  <a:lnTo>
                    <a:pt x="992" y="381"/>
                  </a:lnTo>
                  <a:lnTo>
                    <a:pt x="1002" y="368"/>
                  </a:lnTo>
                  <a:lnTo>
                    <a:pt x="1011" y="354"/>
                  </a:lnTo>
                  <a:lnTo>
                    <a:pt x="1018" y="341"/>
                  </a:lnTo>
                  <a:lnTo>
                    <a:pt x="1025" y="329"/>
                  </a:lnTo>
                  <a:lnTo>
                    <a:pt x="1030" y="316"/>
                  </a:lnTo>
                  <a:lnTo>
                    <a:pt x="1033" y="304"/>
                  </a:lnTo>
                  <a:lnTo>
                    <a:pt x="1036" y="292"/>
                  </a:lnTo>
                  <a:lnTo>
                    <a:pt x="1040" y="269"/>
                  </a:lnTo>
                  <a:lnTo>
                    <a:pt x="1044" y="243"/>
                  </a:lnTo>
                  <a:lnTo>
                    <a:pt x="1050" y="215"/>
                  </a:lnTo>
                  <a:lnTo>
                    <a:pt x="1054" y="185"/>
                  </a:lnTo>
                  <a:lnTo>
                    <a:pt x="1060" y="156"/>
                  </a:lnTo>
                  <a:lnTo>
                    <a:pt x="1067" y="127"/>
                  </a:lnTo>
                  <a:lnTo>
                    <a:pt x="1073" y="100"/>
                  </a:lnTo>
                  <a:lnTo>
                    <a:pt x="1080" y="75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5788080" y="2156040"/>
              <a:ext cx="83880" cy="144360"/>
            </a:xfrm>
            <a:custGeom>
              <a:avLst/>
              <a:gdLst/>
              <a:ahLst/>
              <a:rect l="l" t="t" r="r" b="b"/>
              <a:pathLst>
                <a:path w="266" h="457">
                  <a:moveTo>
                    <a:pt x="0" y="162"/>
                  </a:moveTo>
                  <a:lnTo>
                    <a:pt x="0" y="200"/>
                  </a:lnTo>
                  <a:lnTo>
                    <a:pt x="1" y="233"/>
                  </a:lnTo>
                  <a:lnTo>
                    <a:pt x="3" y="260"/>
                  </a:lnTo>
                  <a:lnTo>
                    <a:pt x="4" y="281"/>
                  </a:lnTo>
                  <a:lnTo>
                    <a:pt x="6" y="301"/>
                  </a:lnTo>
                  <a:lnTo>
                    <a:pt x="7" y="316"/>
                  </a:lnTo>
                  <a:lnTo>
                    <a:pt x="7" y="329"/>
                  </a:lnTo>
                  <a:lnTo>
                    <a:pt x="6" y="341"/>
                  </a:lnTo>
                  <a:lnTo>
                    <a:pt x="5" y="349"/>
                  </a:lnTo>
                  <a:lnTo>
                    <a:pt x="6" y="353"/>
                  </a:lnTo>
                  <a:lnTo>
                    <a:pt x="7" y="355"/>
                  </a:lnTo>
                  <a:lnTo>
                    <a:pt x="9" y="355"/>
                  </a:lnTo>
                  <a:lnTo>
                    <a:pt x="11" y="353"/>
                  </a:lnTo>
                  <a:lnTo>
                    <a:pt x="13" y="352"/>
                  </a:lnTo>
                  <a:lnTo>
                    <a:pt x="20" y="349"/>
                  </a:lnTo>
                  <a:lnTo>
                    <a:pt x="27" y="345"/>
                  </a:lnTo>
                  <a:lnTo>
                    <a:pt x="37" y="339"/>
                  </a:lnTo>
                  <a:lnTo>
                    <a:pt x="48" y="333"/>
                  </a:lnTo>
                  <a:lnTo>
                    <a:pt x="58" y="330"/>
                  </a:lnTo>
                  <a:lnTo>
                    <a:pt x="66" y="328"/>
                  </a:lnTo>
                  <a:lnTo>
                    <a:pt x="75" y="329"/>
                  </a:lnTo>
                  <a:lnTo>
                    <a:pt x="81" y="331"/>
                  </a:lnTo>
                  <a:lnTo>
                    <a:pt x="89" y="335"/>
                  </a:lnTo>
                  <a:lnTo>
                    <a:pt x="95" y="339"/>
                  </a:lnTo>
                  <a:lnTo>
                    <a:pt x="103" y="345"/>
                  </a:lnTo>
                  <a:lnTo>
                    <a:pt x="112" y="350"/>
                  </a:lnTo>
                  <a:lnTo>
                    <a:pt x="121" y="358"/>
                  </a:lnTo>
                  <a:lnTo>
                    <a:pt x="133" y="368"/>
                  </a:lnTo>
                  <a:lnTo>
                    <a:pt x="145" y="380"/>
                  </a:lnTo>
                  <a:lnTo>
                    <a:pt x="157" y="393"/>
                  </a:lnTo>
                  <a:lnTo>
                    <a:pt x="169" y="406"/>
                  </a:lnTo>
                  <a:lnTo>
                    <a:pt x="178" y="417"/>
                  </a:lnTo>
                  <a:lnTo>
                    <a:pt x="184" y="425"/>
                  </a:lnTo>
                  <a:lnTo>
                    <a:pt x="186" y="427"/>
                  </a:lnTo>
                  <a:lnTo>
                    <a:pt x="190" y="439"/>
                  </a:lnTo>
                  <a:lnTo>
                    <a:pt x="196" y="447"/>
                  </a:lnTo>
                  <a:lnTo>
                    <a:pt x="199" y="451"/>
                  </a:lnTo>
                  <a:lnTo>
                    <a:pt x="201" y="454"/>
                  </a:lnTo>
                  <a:lnTo>
                    <a:pt x="205" y="455"/>
                  </a:lnTo>
                  <a:lnTo>
                    <a:pt x="208" y="456"/>
                  </a:lnTo>
                  <a:lnTo>
                    <a:pt x="210" y="457"/>
                  </a:lnTo>
                  <a:lnTo>
                    <a:pt x="213" y="457"/>
                  </a:lnTo>
                  <a:lnTo>
                    <a:pt x="216" y="456"/>
                  </a:lnTo>
                  <a:lnTo>
                    <a:pt x="220" y="455"/>
                  </a:lnTo>
                  <a:lnTo>
                    <a:pt x="225" y="452"/>
                  </a:lnTo>
                  <a:lnTo>
                    <a:pt x="232" y="446"/>
                  </a:lnTo>
                  <a:lnTo>
                    <a:pt x="237" y="439"/>
                  </a:lnTo>
                  <a:lnTo>
                    <a:pt x="242" y="430"/>
                  </a:lnTo>
                  <a:lnTo>
                    <a:pt x="248" y="420"/>
                  </a:lnTo>
                  <a:lnTo>
                    <a:pt x="252" y="411"/>
                  </a:lnTo>
                  <a:lnTo>
                    <a:pt x="256" y="399"/>
                  </a:lnTo>
                  <a:lnTo>
                    <a:pt x="260" y="387"/>
                  </a:lnTo>
                  <a:lnTo>
                    <a:pt x="263" y="375"/>
                  </a:lnTo>
                  <a:lnTo>
                    <a:pt x="265" y="363"/>
                  </a:lnTo>
                  <a:lnTo>
                    <a:pt x="266" y="351"/>
                  </a:lnTo>
                  <a:lnTo>
                    <a:pt x="265" y="338"/>
                  </a:lnTo>
                  <a:lnTo>
                    <a:pt x="263" y="326"/>
                  </a:lnTo>
                  <a:lnTo>
                    <a:pt x="260" y="314"/>
                  </a:lnTo>
                  <a:lnTo>
                    <a:pt x="256" y="302"/>
                  </a:lnTo>
                  <a:lnTo>
                    <a:pt x="251" y="289"/>
                  </a:lnTo>
                  <a:lnTo>
                    <a:pt x="246" y="277"/>
                  </a:lnTo>
                  <a:lnTo>
                    <a:pt x="240" y="265"/>
                  </a:lnTo>
                  <a:lnTo>
                    <a:pt x="228" y="242"/>
                  </a:lnTo>
                  <a:lnTo>
                    <a:pt x="217" y="222"/>
                  </a:lnTo>
                  <a:lnTo>
                    <a:pt x="208" y="203"/>
                  </a:lnTo>
                  <a:lnTo>
                    <a:pt x="201" y="187"/>
                  </a:lnTo>
                  <a:lnTo>
                    <a:pt x="198" y="181"/>
                  </a:lnTo>
                  <a:lnTo>
                    <a:pt x="195" y="174"/>
                  </a:lnTo>
                  <a:lnTo>
                    <a:pt x="190" y="168"/>
                  </a:lnTo>
                  <a:lnTo>
                    <a:pt x="185" y="162"/>
                  </a:lnTo>
                  <a:lnTo>
                    <a:pt x="174" y="150"/>
                  </a:lnTo>
                  <a:lnTo>
                    <a:pt x="161" y="141"/>
                  </a:lnTo>
                  <a:lnTo>
                    <a:pt x="148" y="132"/>
                  </a:lnTo>
                  <a:lnTo>
                    <a:pt x="134" y="123"/>
                  </a:lnTo>
                  <a:lnTo>
                    <a:pt x="121" y="117"/>
                  </a:lnTo>
                  <a:lnTo>
                    <a:pt x="109" y="110"/>
                  </a:lnTo>
                  <a:lnTo>
                    <a:pt x="104" y="107"/>
                  </a:lnTo>
                  <a:lnTo>
                    <a:pt x="99" y="103"/>
                  </a:lnTo>
                  <a:lnTo>
                    <a:pt x="93" y="96"/>
                  </a:lnTo>
                  <a:lnTo>
                    <a:pt x="87" y="89"/>
                  </a:lnTo>
                  <a:lnTo>
                    <a:pt x="76" y="74"/>
                  </a:lnTo>
                  <a:lnTo>
                    <a:pt x="66" y="55"/>
                  </a:lnTo>
                  <a:lnTo>
                    <a:pt x="55" y="38"/>
                  </a:lnTo>
                  <a:lnTo>
                    <a:pt x="46" y="22"/>
                  </a:lnTo>
                  <a:lnTo>
                    <a:pt x="41" y="15"/>
                  </a:lnTo>
                  <a:lnTo>
                    <a:pt x="36" y="10"/>
                  </a:lnTo>
                  <a:lnTo>
                    <a:pt x="32" y="6"/>
                  </a:lnTo>
                  <a:lnTo>
                    <a:pt x="27" y="2"/>
                  </a:lnTo>
                  <a:lnTo>
                    <a:pt x="24" y="0"/>
                  </a:lnTo>
                  <a:lnTo>
                    <a:pt x="21" y="0"/>
                  </a:lnTo>
                  <a:lnTo>
                    <a:pt x="18" y="2"/>
                  </a:lnTo>
                  <a:lnTo>
                    <a:pt x="14" y="6"/>
                  </a:lnTo>
                  <a:lnTo>
                    <a:pt x="12" y="10"/>
                  </a:lnTo>
                  <a:lnTo>
                    <a:pt x="11" y="17"/>
                  </a:lnTo>
                  <a:lnTo>
                    <a:pt x="9" y="25"/>
                  </a:lnTo>
                  <a:lnTo>
                    <a:pt x="8" y="34"/>
                  </a:lnTo>
                  <a:lnTo>
                    <a:pt x="6" y="58"/>
                  </a:lnTo>
                  <a:lnTo>
                    <a:pt x="4" y="87"/>
                  </a:lnTo>
                  <a:lnTo>
                    <a:pt x="3" y="122"/>
                  </a:lnTo>
                  <a:lnTo>
                    <a:pt x="0" y="162"/>
                  </a:lnTo>
                  <a:close/>
                </a:path>
              </a:pathLst>
            </a:custGeom>
            <a:solidFill>
              <a:srgbClr val="9a76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5789520" y="2160720"/>
              <a:ext cx="77760" cy="135000"/>
            </a:xfrm>
            <a:custGeom>
              <a:avLst/>
              <a:gdLst/>
              <a:ahLst/>
              <a:rect l="l" t="t" r="r" b="b"/>
              <a:pathLst>
                <a:path w="246" h="428">
                  <a:moveTo>
                    <a:pt x="176" y="398"/>
                  </a:moveTo>
                  <a:lnTo>
                    <a:pt x="174" y="395"/>
                  </a:lnTo>
                  <a:lnTo>
                    <a:pt x="169" y="388"/>
                  </a:lnTo>
                  <a:lnTo>
                    <a:pt x="161" y="378"/>
                  </a:lnTo>
                  <a:lnTo>
                    <a:pt x="151" y="365"/>
                  </a:lnTo>
                  <a:lnTo>
                    <a:pt x="140" y="354"/>
                  </a:lnTo>
                  <a:lnTo>
                    <a:pt x="129" y="341"/>
                  </a:lnTo>
                  <a:lnTo>
                    <a:pt x="119" y="331"/>
                  </a:lnTo>
                  <a:lnTo>
                    <a:pt x="110" y="323"/>
                  </a:lnTo>
                  <a:lnTo>
                    <a:pt x="100" y="318"/>
                  </a:lnTo>
                  <a:lnTo>
                    <a:pt x="93" y="313"/>
                  </a:lnTo>
                  <a:lnTo>
                    <a:pt x="86" y="308"/>
                  </a:lnTo>
                  <a:lnTo>
                    <a:pt x="79" y="305"/>
                  </a:lnTo>
                  <a:lnTo>
                    <a:pt x="72" y="303"/>
                  </a:lnTo>
                  <a:lnTo>
                    <a:pt x="64" y="303"/>
                  </a:lnTo>
                  <a:lnTo>
                    <a:pt x="55" y="304"/>
                  </a:lnTo>
                  <a:lnTo>
                    <a:pt x="45" y="308"/>
                  </a:lnTo>
                  <a:lnTo>
                    <a:pt x="35" y="315"/>
                  </a:lnTo>
                  <a:lnTo>
                    <a:pt x="27" y="320"/>
                  </a:lnTo>
                  <a:lnTo>
                    <a:pt x="18" y="326"/>
                  </a:lnTo>
                  <a:lnTo>
                    <a:pt x="12" y="330"/>
                  </a:lnTo>
                  <a:lnTo>
                    <a:pt x="9" y="331"/>
                  </a:lnTo>
                  <a:lnTo>
                    <a:pt x="7" y="332"/>
                  </a:lnTo>
                  <a:lnTo>
                    <a:pt x="5" y="332"/>
                  </a:lnTo>
                  <a:lnTo>
                    <a:pt x="4" y="331"/>
                  </a:lnTo>
                  <a:lnTo>
                    <a:pt x="3" y="330"/>
                  </a:lnTo>
                  <a:lnTo>
                    <a:pt x="2" y="327"/>
                  </a:lnTo>
                  <a:lnTo>
                    <a:pt x="2" y="323"/>
                  </a:lnTo>
                  <a:lnTo>
                    <a:pt x="3" y="318"/>
                  </a:lnTo>
                  <a:lnTo>
                    <a:pt x="4" y="307"/>
                  </a:lnTo>
                  <a:lnTo>
                    <a:pt x="4" y="294"/>
                  </a:lnTo>
                  <a:lnTo>
                    <a:pt x="4" y="278"/>
                  </a:lnTo>
                  <a:lnTo>
                    <a:pt x="3" y="259"/>
                  </a:lnTo>
                  <a:lnTo>
                    <a:pt x="2" y="236"/>
                  </a:lnTo>
                  <a:lnTo>
                    <a:pt x="1" y="210"/>
                  </a:lnTo>
                  <a:lnTo>
                    <a:pt x="0" y="180"/>
                  </a:lnTo>
                  <a:lnTo>
                    <a:pt x="1" y="145"/>
                  </a:lnTo>
                  <a:lnTo>
                    <a:pt x="2" y="106"/>
                  </a:lnTo>
                  <a:lnTo>
                    <a:pt x="3" y="74"/>
                  </a:lnTo>
                  <a:lnTo>
                    <a:pt x="4" y="48"/>
                  </a:lnTo>
                  <a:lnTo>
                    <a:pt x="6" y="27"/>
                  </a:lnTo>
                  <a:lnTo>
                    <a:pt x="7" y="19"/>
                  </a:lnTo>
                  <a:lnTo>
                    <a:pt x="9" y="12"/>
                  </a:lnTo>
                  <a:lnTo>
                    <a:pt x="12" y="7"/>
                  </a:lnTo>
                  <a:lnTo>
                    <a:pt x="14" y="4"/>
                  </a:lnTo>
                  <a:lnTo>
                    <a:pt x="16" y="2"/>
                  </a:lnTo>
                  <a:lnTo>
                    <a:pt x="19" y="0"/>
                  </a:lnTo>
                  <a:lnTo>
                    <a:pt x="21" y="0"/>
                  </a:lnTo>
                  <a:lnTo>
                    <a:pt x="26" y="2"/>
                  </a:lnTo>
                  <a:lnTo>
                    <a:pt x="29" y="5"/>
                  </a:lnTo>
                  <a:lnTo>
                    <a:pt x="32" y="10"/>
                  </a:lnTo>
                  <a:lnTo>
                    <a:pt x="35" y="16"/>
                  </a:lnTo>
                  <a:lnTo>
                    <a:pt x="40" y="23"/>
                  </a:lnTo>
                  <a:lnTo>
                    <a:pt x="47" y="40"/>
                  </a:lnTo>
                  <a:lnTo>
                    <a:pt x="57" y="59"/>
                  </a:lnTo>
                  <a:lnTo>
                    <a:pt x="66" y="78"/>
                  </a:lnTo>
                  <a:lnTo>
                    <a:pt x="75" y="95"/>
                  </a:lnTo>
                  <a:lnTo>
                    <a:pt x="81" y="103"/>
                  </a:lnTo>
                  <a:lnTo>
                    <a:pt x="86" y="110"/>
                  </a:lnTo>
                  <a:lnTo>
                    <a:pt x="92" y="115"/>
                  </a:lnTo>
                  <a:lnTo>
                    <a:pt x="97" y="118"/>
                  </a:lnTo>
                  <a:lnTo>
                    <a:pt x="109" y="124"/>
                  </a:lnTo>
                  <a:lnTo>
                    <a:pt x="122" y="130"/>
                  </a:lnTo>
                  <a:lnTo>
                    <a:pt x="135" y="137"/>
                  </a:lnTo>
                  <a:lnTo>
                    <a:pt x="147" y="144"/>
                  </a:lnTo>
                  <a:lnTo>
                    <a:pt x="160" y="153"/>
                  </a:lnTo>
                  <a:lnTo>
                    <a:pt x="170" y="162"/>
                  </a:lnTo>
                  <a:lnTo>
                    <a:pt x="175" y="167"/>
                  </a:lnTo>
                  <a:lnTo>
                    <a:pt x="179" y="172"/>
                  </a:lnTo>
                  <a:lnTo>
                    <a:pt x="183" y="179"/>
                  </a:lnTo>
                  <a:lnTo>
                    <a:pt x="185" y="185"/>
                  </a:lnTo>
                  <a:lnTo>
                    <a:pt x="193" y="199"/>
                  </a:lnTo>
                  <a:lnTo>
                    <a:pt x="202" y="215"/>
                  </a:lnTo>
                  <a:lnTo>
                    <a:pt x="212" y="235"/>
                  </a:lnTo>
                  <a:lnTo>
                    <a:pt x="223" y="255"/>
                  </a:lnTo>
                  <a:lnTo>
                    <a:pt x="233" y="277"/>
                  </a:lnTo>
                  <a:lnTo>
                    <a:pt x="241" y="300"/>
                  </a:lnTo>
                  <a:lnTo>
                    <a:pt x="243" y="310"/>
                  </a:lnTo>
                  <a:lnTo>
                    <a:pt x="245" y="322"/>
                  </a:lnTo>
                  <a:lnTo>
                    <a:pt x="246" y="334"/>
                  </a:lnTo>
                  <a:lnTo>
                    <a:pt x="245" y="346"/>
                  </a:lnTo>
                  <a:lnTo>
                    <a:pt x="244" y="357"/>
                  </a:lnTo>
                  <a:lnTo>
                    <a:pt x="242" y="369"/>
                  </a:lnTo>
                  <a:lnTo>
                    <a:pt x="239" y="380"/>
                  </a:lnTo>
                  <a:lnTo>
                    <a:pt x="236" y="389"/>
                  </a:lnTo>
                  <a:lnTo>
                    <a:pt x="233" y="399"/>
                  </a:lnTo>
                  <a:lnTo>
                    <a:pt x="229" y="408"/>
                  </a:lnTo>
                  <a:lnTo>
                    <a:pt x="224" y="415"/>
                  </a:lnTo>
                  <a:lnTo>
                    <a:pt x="219" y="421"/>
                  </a:lnTo>
                  <a:lnTo>
                    <a:pt x="214" y="425"/>
                  </a:lnTo>
                  <a:lnTo>
                    <a:pt x="208" y="428"/>
                  </a:lnTo>
                  <a:lnTo>
                    <a:pt x="203" y="428"/>
                  </a:lnTo>
                  <a:lnTo>
                    <a:pt x="197" y="427"/>
                  </a:lnTo>
                  <a:lnTo>
                    <a:pt x="192" y="424"/>
                  </a:lnTo>
                  <a:lnTo>
                    <a:pt x="187" y="417"/>
                  </a:lnTo>
                  <a:lnTo>
                    <a:pt x="181" y="409"/>
                  </a:lnTo>
                  <a:lnTo>
                    <a:pt x="176" y="398"/>
                  </a:lnTo>
                  <a:close/>
                </a:path>
              </a:pathLst>
            </a:custGeom>
            <a:solidFill>
              <a:srgbClr val="9873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5791320" y="2165400"/>
              <a:ext cx="71280" cy="125280"/>
            </a:xfrm>
            <a:custGeom>
              <a:avLst/>
              <a:gdLst/>
              <a:ahLst/>
              <a:rect l="l" t="t" r="r" b="b"/>
              <a:pathLst>
                <a:path w="226" h="397">
                  <a:moveTo>
                    <a:pt x="169" y="367"/>
                  </a:moveTo>
                  <a:lnTo>
                    <a:pt x="166" y="365"/>
                  </a:lnTo>
                  <a:lnTo>
                    <a:pt x="162" y="357"/>
                  </a:lnTo>
                  <a:lnTo>
                    <a:pt x="155" y="347"/>
                  </a:lnTo>
                  <a:lnTo>
                    <a:pt x="146" y="337"/>
                  </a:lnTo>
                  <a:lnTo>
                    <a:pt x="136" y="325"/>
                  </a:lnTo>
                  <a:lnTo>
                    <a:pt x="125" y="313"/>
                  </a:lnTo>
                  <a:lnTo>
                    <a:pt x="116" y="302"/>
                  </a:lnTo>
                  <a:lnTo>
                    <a:pt x="107" y="294"/>
                  </a:lnTo>
                  <a:lnTo>
                    <a:pt x="98" y="290"/>
                  </a:lnTo>
                  <a:lnTo>
                    <a:pt x="91" y="285"/>
                  </a:lnTo>
                  <a:lnTo>
                    <a:pt x="83" y="280"/>
                  </a:lnTo>
                  <a:lnTo>
                    <a:pt x="77" y="277"/>
                  </a:lnTo>
                  <a:lnTo>
                    <a:pt x="70" y="276"/>
                  </a:lnTo>
                  <a:lnTo>
                    <a:pt x="63" y="276"/>
                  </a:lnTo>
                  <a:lnTo>
                    <a:pt x="54" y="278"/>
                  </a:lnTo>
                  <a:lnTo>
                    <a:pt x="45" y="283"/>
                  </a:lnTo>
                  <a:lnTo>
                    <a:pt x="35" y="288"/>
                  </a:lnTo>
                  <a:lnTo>
                    <a:pt x="25" y="294"/>
                  </a:lnTo>
                  <a:lnTo>
                    <a:pt x="16" y="301"/>
                  </a:lnTo>
                  <a:lnTo>
                    <a:pt x="10" y="306"/>
                  </a:lnTo>
                  <a:lnTo>
                    <a:pt x="4" y="310"/>
                  </a:lnTo>
                  <a:lnTo>
                    <a:pt x="1" y="310"/>
                  </a:lnTo>
                  <a:lnTo>
                    <a:pt x="0" y="308"/>
                  </a:lnTo>
                  <a:lnTo>
                    <a:pt x="0" y="306"/>
                  </a:lnTo>
                  <a:lnTo>
                    <a:pt x="0" y="302"/>
                  </a:lnTo>
                  <a:lnTo>
                    <a:pt x="0" y="298"/>
                  </a:lnTo>
                  <a:lnTo>
                    <a:pt x="2" y="286"/>
                  </a:lnTo>
                  <a:lnTo>
                    <a:pt x="2" y="271"/>
                  </a:lnTo>
                  <a:lnTo>
                    <a:pt x="2" y="254"/>
                  </a:lnTo>
                  <a:lnTo>
                    <a:pt x="1" y="236"/>
                  </a:lnTo>
                  <a:lnTo>
                    <a:pt x="1" y="213"/>
                  </a:lnTo>
                  <a:lnTo>
                    <a:pt x="0" y="189"/>
                  </a:lnTo>
                  <a:lnTo>
                    <a:pt x="0" y="160"/>
                  </a:lnTo>
                  <a:lnTo>
                    <a:pt x="0" y="129"/>
                  </a:lnTo>
                  <a:lnTo>
                    <a:pt x="1" y="92"/>
                  </a:lnTo>
                  <a:lnTo>
                    <a:pt x="2" y="61"/>
                  </a:lnTo>
                  <a:lnTo>
                    <a:pt x="4" y="37"/>
                  </a:lnTo>
                  <a:lnTo>
                    <a:pt x="7" y="19"/>
                  </a:lnTo>
                  <a:lnTo>
                    <a:pt x="8" y="13"/>
                  </a:lnTo>
                  <a:lnTo>
                    <a:pt x="9" y="7"/>
                  </a:lnTo>
                  <a:lnTo>
                    <a:pt x="11" y="3"/>
                  </a:lnTo>
                  <a:lnTo>
                    <a:pt x="12" y="1"/>
                  </a:lnTo>
                  <a:lnTo>
                    <a:pt x="14" y="0"/>
                  </a:lnTo>
                  <a:lnTo>
                    <a:pt x="17" y="0"/>
                  </a:lnTo>
                  <a:lnTo>
                    <a:pt x="20" y="1"/>
                  </a:lnTo>
                  <a:lnTo>
                    <a:pt x="23" y="3"/>
                  </a:lnTo>
                  <a:lnTo>
                    <a:pt x="26" y="6"/>
                  </a:lnTo>
                  <a:lnTo>
                    <a:pt x="28" y="11"/>
                  </a:lnTo>
                  <a:lnTo>
                    <a:pt x="31" y="18"/>
                  </a:lnTo>
                  <a:lnTo>
                    <a:pt x="35" y="25"/>
                  </a:lnTo>
                  <a:lnTo>
                    <a:pt x="41" y="43"/>
                  </a:lnTo>
                  <a:lnTo>
                    <a:pt x="49" y="63"/>
                  </a:lnTo>
                  <a:lnTo>
                    <a:pt x="57" y="83"/>
                  </a:lnTo>
                  <a:lnTo>
                    <a:pt x="66" y="101"/>
                  </a:lnTo>
                  <a:lnTo>
                    <a:pt x="70" y="109"/>
                  </a:lnTo>
                  <a:lnTo>
                    <a:pt x="75" y="115"/>
                  </a:lnTo>
                  <a:lnTo>
                    <a:pt x="80" y="121"/>
                  </a:lnTo>
                  <a:lnTo>
                    <a:pt x="84" y="125"/>
                  </a:lnTo>
                  <a:lnTo>
                    <a:pt x="96" y="129"/>
                  </a:lnTo>
                  <a:lnTo>
                    <a:pt x="108" y="133"/>
                  </a:lnTo>
                  <a:lnTo>
                    <a:pt x="120" y="139"/>
                  </a:lnTo>
                  <a:lnTo>
                    <a:pt x="133" y="145"/>
                  </a:lnTo>
                  <a:lnTo>
                    <a:pt x="144" y="153"/>
                  </a:lnTo>
                  <a:lnTo>
                    <a:pt x="155" y="160"/>
                  </a:lnTo>
                  <a:lnTo>
                    <a:pt x="159" y="165"/>
                  </a:lnTo>
                  <a:lnTo>
                    <a:pt x="163" y="170"/>
                  </a:lnTo>
                  <a:lnTo>
                    <a:pt x="168" y="176"/>
                  </a:lnTo>
                  <a:lnTo>
                    <a:pt x="171" y="181"/>
                  </a:lnTo>
                  <a:lnTo>
                    <a:pt x="178" y="194"/>
                  </a:lnTo>
                  <a:lnTo>
                    <a:pt x="187" y="209"/>
                  </a:lnTo>
                  <a:lnTo>
                    <a:pt x="196" y="226"/>
                  </a:lnTo>
                  <a:lnTo>
                    <a:pt x="204" y="244"/>
                  </a:lnTo>
                  <a:lnTo>
                    <a:pt x="213" y="263"/>
                  </a:lnTo>
                  <a:lnTo>
                    <a:pt x="219" y="284"/>
                  </a:lnTo>
                  <a:lnTo>
                    <a:pt x="222" y="294"/>
                  </a:lnTo>
                  <a:lnTo>
                    <a:pt x="224" y="305"/>
                  </a:lnTo>
                  <a:lnTo>
                    <a:pt x="225" y="316"/>
                  </a:lnTo>
                  <a:lnTo>
                    <a:pt x="226" y="327"/>
                  </a:lnTo>
                  <a:lnTo>
                    <a:pt x="225" y="338"/>
                  </a:lnTo>
                  <a:lnTo>
                    <a:pt x="224" y="347"/>
                  </a:lnTo>
                  <a:lnTo>
                    <a:pt x="223" y="357"/>
                  </a:lnTo>
                  <a:lnTo>
                    <a:pt x="220" y="367"/>
                  </a:lnTo>
                  <a:lnTo>
                    <a:pt x="217" y="374"/>
                  </a:lnTo>
                  <a:lnTo>
                    <a:pt x="215" y="382"/>
                  </a:lnTo>
                  <a:lnTo>
                    <a:pt x="211" y="387"/>
                  </a:lnTo>
                  <a:lnTo>
                    <a:pt x="207" y="393"/>
                  </a:lnTo>
                  <a:lnTo>
                    <a:pt x="203" y="396"/>
                  </a:lnTo>
                  <a:lnTo>
                    <a:pt x="199" y="397"/>
                  </a:lnTo>
                  <a:lnTo>
                    <a:pt x="193" y="397"/>
                  </a:lnTo>
                  <a:lnTo>
                    <a:pt x="189" y="396"/>
                  </a:lnTo>
                  <a:lnTo>
                    <a:pt x="184" y="392"/>
                  </a:lnTo>
                  <a:lnTo>
                    <a:pt x="178" y="386"/>
                  </a:lnTo>
                  <a:lnTo>
                    <a:pt x="174" y="378"/>
                  </a:lnTo>
                  <a:lnTo>
                    <a:pt x="169" y="367"/>
                  </a:lnTo>
                  <a:close/>
                </a:path>
              </a:pathLst>
            </a:custGeom>
            <a:solidFill>
              <a:srgbClr val="9470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5792760" y="2168640"/>
              <a:ext cx="66600" cy="119160"/>
            </a:xfrm>
            <a:custGeom>
              <a:avLst/>
              <a:gdLst/>
              <a:ahLst/>
              <a:rect l="l" t="t" r="r" b="b"/>
              <a:pathLst>
                <a:path w="212" h="374">
                  <a:moveTo>
                    <a:pt x="161" y="343"/>
                  </a:moveTo>
                  <a:lnTo>
                    <a:pt x="160" y="341"/>
                  </a:lnTo>
                  <a:lnTo>
                    <a:pt x="157" y="334"/>
                  </a:lnTo>
                  <a:lnTo>
                    <a:pt x="151" y="324"/>
                  </a:lnTo>
                  <a:lnTo>
                    <a:pt x="144" y="313"/>
                  </a:lnTo>
                  <a:lnTo>
                    <a:pt x="135" y="301"/>
                  </a:lnTo>
                  <a:lnTo>
                    <a:pt x="127" y="289"/>
                  </a:lnTo>
                  <a:lnTo>
                    <a:pt x="117" y="279"/>
                  </a:lnTo>
                  <a:lnTo>
                    <a:pt x="107" y="272"/>
                  </a:lnTo>
                  <a:lnTo>
                    <a:pt x="99" y="266"/>
                  </a:lnTo>
                  <a:lnTo>
                    <a:pt x="91" y="262"/>
                  </a:lnTo>
                  <a:lnTo>
                    <a:pt x="85" y="257"/>
                  </a:lnTo>
                  <a:lnTo>
                    <a:pt x="78" y="254"/>
                  </a:lnTo>
                  <a:lnTo>
                    <a:pt x="72" y="253"/>
                  </a:lnTo>
                  <a:lnTo>
                    <a:pt x="64" y="253"/>
                  </a:lnTo>
                  <a:lnTo>
                    <a:pt x="55" y="255"/>
                  </a:lnTo>
                  <a:lnTo>
                    <a:pt x="46" y="260"/>
                  </a:lnTo>
                  <a:lnTo>
                    <a:pt x="35" y="265"/>
                  </a:lnTo>
                  <a:lnTo>
                    <a:pt x="25" y="273"/>
                  </a:lnTo>
                  <a:lnTo>
                    <a:pt x="18" y="280"/>
                  </a:lnTo>
                  <a:lnTo>
                    <a:pt x="10" y="287"/>
                  </a:lnTo>
                  <a:lnTo>
                    <a:pt x="5" y="290"/>
                  </a:lnTo>
                  <a:lnTo>
                    <a:pt x="1" y="292"/>
                  </a:lnTo>
                  <a:lnTo>
                    <a:pt x="0" y="291"/>
                  </a:lnTo>
                  <a:lnTo>
                    <a:pt x="0" y="289"/>
                  </a:lnTo>
                  <a:lnTo>
                    <a:pt x="0" y="286"/>
                  </a:lnTo>
                  <a:lnTo>
                    <a:pt x="1" y="281"/>
                  </a:lnTo>
                  <a:lnTo>
                    <a:pt x="2" y="269"/>
                  </a:lnTo>
                  <a:lnTo>
                    <a:pt x="3" y="254"/>
                  </a:lnTo>
                  <a:lnTo>
                    <a:pt x="3" y="238"/>
                  </a:lnTo>
                  <a:lnTo>
                    <a:pt x="3" y="219"/>
                  </a:lnTo>
                  <a:lnTo>
                    <a:pt x="2" y="196"/>
                  </a:lnTo>
                  <a:lnTo>
                    <a:pt x="2" y="172"/>
                  </a:lnTo>
                  <a:lnTo>
                    <a:pt x="2" y="145"/>
                  </a:lnTo>
                  <a:lnTo>
                    <a:pt x="3" y="116"/>
                  </a:lnTo>
                  <a:lnTo>
                    <a:pt x="3" y="80"/>
                  </a:lnTo>
                  <a:lnTo>
                    <a:pt x="5" y="52"/>
                  </a:lnTo>
                  <a:lnTo>
                    <a:pt x="6" y="31"/>
                  </a:lnTo>
                  <a:lnTo>
                    <a:pt x="8" y="16"/>
                  </a:lnTo>
                  <a:lnTo>
                    <a:pt x="9" y="9"/>
                  </a:lnTo>
                  <a:lnTo>
                    <a:pt x="10" y="6"/>
                  </a:lnTo>
                  <a:lnTo>
                    <a:pt x="12" y="3"/>
                  </a:lnTo>
                  <a:lnTo>
                    <a:pt x="14" y="2"/>
                  </a:lnTo>
                  <a:lnTo>
                    <a:pt x="15" y="0"/>
                  </a:lnTo>
                  <a:lnTo>
                    <a:pt x="19" y="2"/>
                  </a:lnTo>
                  <a:lnTo>
                    <a:pt x="21" y="4"/>
                  </a:lnTo>
                  <a:lnTo>
                    <a:pt x="23" y="7"/>
                  </a:lnTo>
                  <a:lnTo>
                    <a:pt x="28" y="17"/>
                  </a:lnTo>
                  <a:lnTo>
                    <a:pt x="33" y="31"/>
                  </a:lnTo>
                  <a:lnTo>
                    <a:pt x="38" y="50"/>
                  </a:lnTo>
                  <a:lnTo>
                    <a:pt x="43" y="71"/>
                  </a:lnTo>
                  <a:lnTo>
                    <a:pt x="51" y="91"/>
                  </a:lnTo>
                  <a:lnTo>
                    <a:pt x="59" y="110"/>
                  </a:lnTo>
                  <a:lnTo>
                    <a:pt x="63" y="117"/>
                  </a:lnTo>
                  <a:lnTo>
                    <a:pt x="67" y="124"/>
                  </a:lnTo>
                  <a:lnTo>
                    <a:pt x="73" y="129"/>
                  </a:lnTo>
                  <a:lnTo>
                    <a:pt x="78" y="133"/>
                  </a:lnTo>
                  <a:lnTo>
                    <a:pt x="88" y="139"/>
                  </a:lnTo>
                  <a:lnTo>
                    <a:pt x="99" y="143"/>
                  </a:lnTo>
                  <a:lnTo>
                    <a:pt x="110" y="147"/>
                  </a:lnTo>
                  <a:lnTo>
                    <a:pt x="121" y="153"/>
                  </a:lnTo>
                  <a:lnTo>
                    <a:pt x="132" y="158"/>
                  </a:lnTo>
                  <a:lnTo>
                    <a:pt x="142" y="165"/>
                  </a:lnTo>
                  <a:lnTo>
                    <a:pt x="151" y="172"/>
                  </a:lnTo>
                  <a:lnTo>
                    <a:pt x="159" y="183"/>
                  </a:lnTo>
                  <a:lnTo>
                    <a:pt x="167" y="195"/>
                  </a:lnTo>
                  <a:lnTo>
                    <a:pt x="175" y="208"/>
                  </a:lnTo>
                  <a:lnTo>
                    <a:pt x="183" y="222"/>
                  </a:lnTo>
                  <a:lnTo>
                    <a:pt x="190" y="238"/>
                  </a:lnTo>
                  <a:lnTo>
                    <a:pt x="198" y="255"/>
                  </a:lnTo>
                  <a:lnTo>
                    <a:pt x="203" y="274"/>
                  </a:lnTo>
                  <a:lnTo>
                    <a:pt x="209" y="293"/>
                  </a:lnTo>
                  <a:lnTo>
                    <a:pt x="211" y="314"/>
                  </a:lnTo>
                  <a:lnTo>
                    <a:pt x="212" y="323"/>
                  </a:lnTo>
                  <a:lnTo>
                    <a:pt x="212" y="333"/>
                  </a:lnTo>
                  <a:lnTo>
                    <a:pt x="211" y="342"/>
                  </a:lnTo>
                  <a:lnTo>
                    <a:pt x="210" y="349"/>
                  </a:lnTo>
                  <a:lnTo>
                    <a:pt x="208" y="357"/>
                  </a:lnTo>
                  <a:lnTo>
                    <a:pt x="205" y="362"/>
                  </a:lnTo>
                  <a:lnTo>
                    <a:pt x="202" y="368"/>
                  </a:lnTo>
                  <a:lnTo>
                    <a:pt x="199" y="371"/>
                  </a:lnTo>
                  <a:lnTo>
                    <a:pt x="196" y="373"/>
                  </a:lnTo>
                  <a:lnTo>
                    <a:pt x="191" y="374"/>
                  </a:lnTo>
                  <a:lnTo>
                    <a:pt x="187" y="374"/>
                  </a:lnTo>
                  <a:lnTo>
                    <a:pt x="183" y="371"/>
                  </a:lnTo>
                  <a:lnTo>
                    <a:pt x="177" y="368"/>
                  </a:lnTo>
                  <a:lnTo>
                    <a:pt x="172" y="361"/>
                  </a:lnTo>
                  <a:lnTo>
                    <a:pt x="168" y="354"/>
                  </a:lnTo>
                  <a:lnTo>
                    <a:pt x="161" y="343"/>
                  </a:lnTo>
                  <a:close/>
                </a:path>
              </a:pathLst>
            </a:custGeom>
            <a:solidFill>
              <a:srgbClr val="936f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5792760" y="2173320"/>
              <a:ext cx="61920" cy="109440"/>
            </a:xfrm>
            <a:custGeom>
              <a:avLst/>
              <a:gdLst/>
              <a:ahLst/>
              <a:rect l="l" t="t" r="r" b="b"/>
              <a:pathLst>
                <a:path w="196" h="348">
                  <a:moveTo>
                    <a:pt x="156" y="315"/>
                  </a:moveTo>
                  <a:lnTo>
                    <a:pt x="155" y="313"/>
                  </a:lnTo>
                  <a:lnTo>
                    <a:pt x="152" y="306"/>
                  </a:lnTo>
                  <a:lnTo>
                    <a:pt x="147" y="296"/>
                  </a:lnTo>
                  <a:lnTo>
                    <a:pt x="141" y="286"/>
                  </a:lnTo>
                  <a:lnTo>
                    <a:pt x="133" y="274"/>
                  </a:lnTo>
                  <a:lnTo>
                    <a:pt x="125" y="263"/>
                  </a:lnTo>
                  <a:lnTo>
                    <a:pt x="120" y="259"/>
                  </a:lnTo>
                  <a:lnTo>
                    <a:pt x="116" y="254"/>
                  </a:lnTo>
                  <a:lnTo>
                    <a:pt x="112" y="250"/>
                  </a:lnTo>
                  <a:lnTo>
                    <a:pt x="106" y="248"/>
                  </a:lnTo>
                  <a:lnTo>
                    <a:pt x="98" y="242"/>
                  </a:lnTo>
                  <a:lnTo>
                    <a:pt x="91" y="237"/>
                  </a:lnTo>
                  <a:lnTo>
                    <a:pt x="84" y="234"/>
                  </a:lnTo>
                  <a:lnTo>
                    <a:pt x="77" y="231"/>
                  </a:lnTo>
                  <a:lnTo>
                    <a:pt x="71" y="228"/>
                  </a:lnTo>
                  <a:lnTo>
                    <a:pt x="63" y="229"/>
                  </a:lnTo>
                  <a:lnTo>
                    <a:pt x="56" y="231"/>
                  </a:lnTo>
                  <a:lnTo>
                    <a:pt x="45" y="235"/>
                  </a:lnTo>
                  <a:lnTo>
                    <a:pt x="34" y="242"/>
                  </a:lnTo>
                  <a:lnTo>
                    <a:pt x="25" y="250"/>
                  </a:lnTo>
                  <a:lnTo>
                    <a:pt x="17" y="258"/>
                  </a:lnTo>
                  <a:lnTo>
                    <a:pt x="10" y="264"/>
                  </a:lnTo>
                  <a:lnTo>
                    <a:pt x="6" y="269"/>
                  </a:lnTo>
                  <a:lnTo>
                    <a:pt x="3" y="270"/>
                  </a:lnTo>
                  <a:lnTo>
                    <a:pt x="2" y="270"/>
                  </a:lnTo>
                  <a:lnTo>
                    <a:pt x="0" y="268"/>
                  </a:lnTo>
                  <a:lnTo>
                    <a:pt x="0" y="265"/>
                  </a:lnTo>
                  <a:lnTo>
                    <a:pt x="0" y="260"/>
                  </a:lnTo>
                  <a:lnTo>
                    <a:pt x="2" y="248"/>
                  </a:lnTo>
                  <a:lnTo>
                    <a:pt x="3" y="234"/>
                  </a:lnTo>
                  <a:lnTo>
                    <a:pt x="4" y="216"/>
                  </a:lnTo>
                  <a:lnTo>
                    <a:pt x="4" y="197"/>
                  </a:lnTo>
                  <a:lnTo>
                    <a:pt x="4" y="175"/>
                  </a:lnTo>
                  <a:lnTo>
                    <a:pt x="4" y="152"/>
                  </a:lnTo>
                  <a:lnTo>
                    <a:pt x="3" y="128"/>
                  </a:lnTo>
                  <a:lnTo>
                    <a:pt x="3" y="102"/>
                  </a:lnTo>
                  <a:lnTo>
                    <a:pt x="4" y="67"/>
                  </a:lnTo>
                  <a:lnTo>
                    <a:pt x="5" y="42"/>
                  </a:lnTo>
                  <a:lnTo>
                    <a:pt x="7" y="22"/>
                  </a:lnTo>
                  <a:lnTo>
                    <a:pt x="9" y="9"/>
                  </a:lnTo>
                  <a:lnTo>
                    <a:pt x="10" y="5"/>
                  </a:lnTo>
                  <a:lnTo>
                    <a:pt x="11" y="3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9" y="3"/>
                  </a:lnTo>
                  <a:lnTo>
                    <a:pt x="23" y="8"/>
                  </a:lnTo>
                  <a:lnTo>
                    <a:pt x="26" y="18"/>
                  </a:lnTo>
                  <a:lnTo>
                    <a:pt x="30" y="34"/>
                  </a:lnTo>
                  <a:lnTo>
                    <a:pt x="33" y="53"/>
                  </a:lnTo>
                  <a:lnTo>
                    <a:pt x="37" y="76"/>
                  </a:lnTo>
                  <a:lnTo>
                    <a:pt x="43" y="98"/>
                  </a:lnTo>
                  <a:lnTo>
                    <a:pt x="49" y="117"/>
                  </a:lnTo>
                  <a:lnTo>
                    <a:pt x="53" y="125"/>
                  </a:lnTo>
                  <a:lnTo>
                    <a:pt x="57" y="132"/>
                  </a:lnTo>
                  <a:lnTo>
                    <a:pt x="62" y="138"/>
                  </a:lnTo>
                  <a:lnTo>
                    <a:pt x="67" y="141"/>
                  </a:lnTo>
                  <a:lnTo>
                    <a:pt x="78" y="146"/>
                  </a:lnTo>
                  <a:lnTo>
                    <a:pt x="89" y="150"/>
                  </a:lnTo>
                  <a:lnTo>
                    <a:pt x="99" y="153"/>
                  </a:lnTo>
                  <a:lnTo>
                    <a:pt x="110" y="156"/>
                  </a:lnTo>
                  <a:lnTo>
                    <a:pt x="118" y="160"/>
                  </a:lnTo>
                  <a:lnTo>
                    <a:pt x="128" y="165"/>
                  </a:lnTo>
                  <a:lnTo>
                    <a:pt x="137" y="170"/>
                  </a:lnTo>
                  <a:lnTo>
                    <a:pt x="144" y="179"/>
                  </a:lnTo>
                  <a:lnTo>
                    <a:pt x="153" y="191"/>
                  </a:lnTo>
                  <a:lnTo>
                    <a:pt x="160" y="202"/>
                  </a:lnTo>
                  <a:lnTo>
                    <a:pt x="168" y="215"/>
                  </a:lnTo>
                  <a:lnTo>
                    <a:pt x="174" y="229"/>
                  </a:lnTo>
                  <a:lnTo>
                    <a:pt x="180" y="245"/>
                  </a:lnTo>
                  <a:lnTo>
                    <a:pt x="185" y="260"/>
                  </a:lnTo>
                  <a:lnTo>
                    <a:pt x="190" y="278"/>
                  </a:lnTo>
                  <a:lnTo>
                    <a:pt x="193" y="297"/>
                  </a:lnTo>
                  <a:lnTo>
                    <a:pt x="196" y="315"/>
                  </a:lnTo>
                  <a:lnTo>
                    <a:pt x="196" y="330"/>
                  </a:lnTo>
                  <a:lnTo>
                    <a:pt x="195" y="335"/>
                  </a:lnTo>
                  <a:lnTo>
                    <a:pt x="194" y="341"/>
                  </a:lnTo>
                  <a:lnTo>
                    <a:pt x="192" y="344"/>
                  </a:lnTo>
                  <a:lnTo>
                    <a:pt x="190" y="346"/>
                  </a:lnTo>
                  <a:lnTo>
                    <a:pt x="186" y="348"/>
                  </a:lnTo>
                  <a:lnTo>
                    <a:pt x="183" y="347"/>
                  </a:lnTo>
                  <a:lnTo>
                    <a:pt x="180" y="346"/>
                  </a:lnTo>
                  <a:lnTo>
                    <a:pt x="175" y="343"/>
                  </a:lnTo>
                  <a:lnTo>
                    <a:pt x="171" y="339"/>
                  </a:lnTo>
                  <a:lnTo>
                    <a:pt x="167" y="332"/>
                  </a:lnTo>
                  <a:lnTo>
                    <a:pt x="161" y="324"/>
                  </a:lnTo>
                  <a:lnTo>
                    <a:pt x="156" y="315"/>
                  </a:lnTo>
                  <a:close/>
                </a:path>
              </a:pathLst>
            </a:custGeom>
            <a:solidFill>
              <a:srgbClr val="8f6a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5794200" y="2176560"/>
              <a:ext cx="57240" cy="103320"/>
            </a:xfrm>
            <a:custGeom>
              <a:avLst/>
              <a:gdLst/>
              <a:ahLst/>
              <a:rect l="l" t="t" r="r" b="b"/>
              <a:pathLst>
                <a:path w="180" h="322">
                  <a:moveTo>
                    <a:pt x="147" y="288"/>
                  </a:moveTo>
                  <a:lnTo>
                    <a:pt x="146" y="285"/>
                  </a:lnTo>
                  <a:lnTo>
                    <a:pt x="143" y="280"/>
                  </a:lnTo>
                  <a:lnTo>
                    <a:pt x="139" y="271"/>
                  </a:lnTo>
                  <a:lnTo>
                    <a:pt x="135" y="261"/>
                  </a:lnTo>
                  <a:lnTo>
                    <a:pt x="128" y="250"/>
                  </a:lnTo>
                  <a:lnTo>
                    <a:pt x="121" y="240"/>
                  </a:lnTo>
                  <a:lnTo>
                    <a:pt x="118" y="235"/>
                  </a:lnTo>
                  <a:lnTo>
                    <a:pt x="113" y="230"/>
                  </a:lnTo>
                  <a:lnTo>
                    <a:pt x="109" y="226"/>
                  </a:lnTo>
                  <a:lnTo>
                    <a:pt x="105" y="223"/>
                  </a:lnTo>
                  <a:lnTo>
                    <a:pt x="96" y="219"/>
                  </a:lnTo>
                  <a:lnTo>
                    <a:pt x="88" y="213"/>
                  </a:lnTo>
                  <a:lnTo>
                    <a:pt x="82" y="210"/>
                  </a:lnTo>
                  <a:lnTo>
                    <a:pt x="75" y="207"/>
                  </a:lnTo>
                  <a:lnTo>
                    <a:pt x="69" y="206"/>
                  </a:lnTo>
                  <a:lnTo>
                    <a:pt x="61" y="206"/>
                  </a:lnTo>
                  <a:lnTo>
                    <a:pt x="53" y="208"/>
                  </a:lnTo>
                  <a:lnTo>
                    <a:pt x="42" y="211"/>
                  </a:lnTo>
                  <a:lnTo>
                    <a:pt x="32" y="217"/>
                  </a:lnTo>
                  <a:lnTo>
                    <a:pt x="24" y="226"/>
                  </a:lnTo>
                  <a:lnTo>
                    <a:pt x="16" y="236"/>
                  </a:lnTo>
                  <a:lnTo>
                    <a:pt x="10" y="243"/>
                  </a:lnTo>
                  <a:lnTo>
                    <a:pt x="4" y="250"/>
                  </a:lnTo>
                  <a:lnTo>
                    <a:pt x="1" y="253"/>
                  </a:lnTo>
                  <a:lnTo>
                    <a:pt x="0" y="252"/>
                  </a:lnTo>
                  <a:lnTo>
                    <a:pt x="0" y="251"/>
                  </a:lnTo>
                  <a:lnTo>
                    <a:pt x="0" y="248"/>
                  </a:lnTo>
                  <a:lnTo>
                    <a:pt x="1" y="243"/>
                  </a:lnTo>
                  <a:lnTo>
                    <a:pt x="2" y="230"/>
                  </a:lnTo>
                  <a:lnTo>
                    <a:pt x="3" y="215"/>
                  </a:lnTo>
                  <a:lnTo>
                    <a:pt x="3" y="197"/>
                  </a:lnTo>
                  <a:lnTo>
                    <a:pt x="3" y="177"/>
                  </a:lnTo>
                  <a:lnTo>
                    <a:pt x="3" y="157"/>
                  </a:lnTo>
                  <a:lnTo>
                    <a:pt x="3" y="134"/>
                  </a:lnTo>
                  <a:lnTo>
                    <a:pt x="3" y="113"/>
                  </a:lnTo>
                  <a:lnTo>
                    <a:pt x="3" y="90"/>
                  </a:lnTo>
                  <a:lnTo>
                    <a:pt x="3" y="58"/>
                  </a:lnTo>
                  <a:lnTo>
                    <a:pt x="4" y="34"/>
                  </a:lnTo>
                  <a:lnTo>
                    <a:pt x="5" y="17"/>
                  </a:lnTo>
                  <a:lnTo>
                    <a:pt x="7" y="6"/>
                  </a:lnTo>
                  <a:lnTo>
                    <a:pt x="10" y="3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7" y="4"/>
                  </a:lnTo>
                  <a:lnTo>
                    <a:pt x="20" y="11"/>
                  </a:lnTo>
                  <a:lnTo>
                    <a:pt x="22" y="22"/>
                  </a:lnTo>
                  <a:lnTo>
                    <a:pt x="25" y="39"/>
                  </a:lnTo>
                  <a:lnTo>
                    <a:pt x="27" y="60"/>
                  </a:lnTo>
                  <a:lnTo>
                    <a:pt x="30" y="84"/>
                  </a:lnTo>
                  <a:lnTo>
                    <a:pt x="33" y="106"/>
                  </a:lnTo>
                  <a:lnTo>
                    <a:pt x="39" y="126"/>
                  </a:lnTo>
                  <a:lnTo>
                    <a:pt x="42" y="135"/>
                  </a:lnTo>
                  <a:lnTo>
                    <a:pt x="46" y="142"/>
                  </a:lnTo>
                  <a:lnTo>
                    <a:pt x="49" y="148"/>
                  </a:lnTo>
                  <a:lnTo>
                    <a:pt x="55" y="152"/>
                  </a:lnTo>
                  <a:lnTo>
                    <a:pt x="66" y="156"/>
                  </a:lnTo>
                  <a:lnTo>
                    <a:pt x="75" y="159"/>
                  </a:lnTo>
                  <a:lnTo>
                    <a:pt x="85" y="161"/>
                  </a:lnTo>
                  <a:lnTo>
                    <a:pt x="95" y="162"/>
                  </a:lnTo>
                  <a:lnTo>
                    <a:pt x="104" y="165"/>
                  </a:lnTo>
                  <a:lnTo>
                    <a:pt x="112" y="168"/>
                  </a:lnTo>
                  <a:lnTo>
                    <a:pt x="121" y="172"/>
                  </a:lnTo>
                  <a:lnTo>
                    <a:pt x="129" y="179"/>
                  </a:lnTo>
                  <a:lnTo>
                    <a:pt x="138" y="189"/>
                  </a:lnTo>
                  <a:lnTo>
                    <a:pt x="146" y="200"/>
                  </a:lnTo>
                  <a:lnTo>
                    <a:pt x="152" y="211"/>
                  </a:lnTo>
                  <a:lnTo>
                    <a:pt x="156" y="223"/>
                  </a:lnTo>
                  <a:lnTo>
                    <a:pt x="161" y="235"/>
                  </a:lnTo>
                  <a:lnTo>
                    <a:pt x="165" y="249"/>
                  </a:lnTo>
                  <a:lnTo>
                    <a:pt x="169" y="265"/>
                  </a:lnTo>
                  <a:lnTo>
                    <a:pt x="174" y="282"/>
                  </a:lnTo>
                  <a:lnTo>
                    <a:pt x="178" y="298"/>
                  </a:lnTo>
                  <a:lnTo>
                    <a:pt x="180" y="310"/>
                  </a:lnTo>
                  <a:lnTo>
                    <a:pt x="180" y="315"/>
                  </a:lnTo>
                  <a:lnTo>
                    <a:pt x="180" y="319"/>
                  </a:lnTo>
                  <a:lnTo>
                    <a:pt x="179" y="321"/>
                  </a:lnTo>
                  <a:lnTo>
                    <a:pt x="177" y="322"/>
                  </a:lnTo>
                  <a:lnTo>
                    <a:pt x="176" y="322"/>
                  </a:lnTo>
                  <a:lnTo>
                    <a:pt x="173" y="321"/>
                  </a:lnTo>
                  <a:lnTo>
                    <a:pt x="169" y="319"/>
                  </a:lnTo>
                  <a:lnTo>
                    <a:pt x="166" y="316"/>
                  </a:lnTo>
                  <a:lnTo>
                    <a:pt x="158" y="304"/>
                  </a:lnTo>
                  <a:lnTo>
                    <a:pt x="147" y="288"/>
                  </a:lnTo>
                  <a:close/>
                </a:path>
              </a:pathLst>
            </a:custGeom>
            <a:solidFill>
              <a:srgbClr val="8a67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5796000" y="2179800"/>
              <a:ext cx="54000" cy="95040"/>
            </a:xfrm>
            <a:custGeom>
              <a:avLst/>
              <a:gdLst/>
              <a:ahLst/>
              <a:rect l="l" t="t" r="r" b="b"/>
              <a:pathLst>
                <a:path w="170" h="300">
                  <a:moveTo>
                    <a:pt x="141" y="262"/>
                  </a:moveTo>
                  <a:lnTo>
                    <a:pt x="141" y="259"/>
                  </a:lnTo>
                  <a:lnTo>
                    <a:pt x="139" y="254"/>
                  </a:lnTo>
                  <a:lnTo>
                    <a:pt x="136" y="246"/>
                  </a:lnTo>
                  <a:lnTo>
                    <a:pt x="133" y="237"/>
                  </a:lnTo>
                  <a:lnTo>
                    <a:pt x="127" y="226"/>
                  </a:lnTo>
                  <a:lnTo>
                    <a:pt x="121" y="216"/>
                  </a:lnTo>
                  <a:lnTo>
                    <a:pt x="118" y="211"/>
                  </a:lnTo>
                  <a:lnTo>
                    <a:pt x="113" y="206"/>
                  </a:lnTo>
                  <a:lnTo>
                    <a:pt x="109" y="203"/>
                  </a:lnTo>
                  <a:lnTo>
                    <a:pt x="105" y="200"/>
                  </a:lnTo>
                  <a:lnTo>
                    <a:pt x="96" y="195"/>
                  </a:lnTo>
                  <a:lnTo>
                    <a:pt x="89" y="190"/>
                  </a:lnTo>
                  <a:lnTo>
                    <a:pt x="82" y="186"/>
                  </a:lnTo>
                  <a:lnTo>
                    <a:pt x="76" y="184"/>
                  </a:lnTo>
                  <a:lnTo>
                    <a:pt x="69" y="183"/>
                  </a:lnTo>
                  <a:lnTo>
                    <a:pt x="63" y="184"/>
                  </a:lnTo>
                  <a:lnTo>
                    <a:pt x="55" y="186"/>
                  </a:lnTo>
                  <a:lnTo>
                    <a:pt x="45" y="190"/>
                  </a:lnTo>
                  <a:lnTo>
                    <a:pt x="40" y="193"/>
                  </a:lnTo>
                  <a:lnTo>
                    <a:pt x="35" y="197"/>
                  </a:lnTo>
                  <a:lnTo>
                    <a:pt x="30" y="201"/>
                  </a:lnTo>
                  <a:lnTo>
                    <a:pt x="25" y="206"/>
                  </a:lnTo>
                  <a:lnTo>
                    <a:pt x="17" y="216"/>
                  </a:lnTo>
                  <a:lnTo>
                    <a:pt x="10" y="225"/>
                  </a:lnTo>
                  <a:lnTo>
                    <a:pt x="5" y="232"/>
                  </a:lnTo>
                  <a:lnTo>
                    <a:pt x="1" y="236"/>
                  </a:lnTo>
                  <a:lnTo>
                    <a:pt x="1" y="236"/>
                  </a:lnTo>
                  <a:lnTo>
                    <a:pt x="0" y="235"/>
                  </a:lnTo>
                  <a:lnTo>
                    <a:pt x="0" y="231"/>
                  </a:lnTo>
                  <a:lnTo>
                    <a:pt x="1" y="227"/>
                  </a:lnTo>
                  <a:lnTo>
                    <a:pt x="2" y="214"/>
                  </a:lnTo>
                  <a:lnTo>
                    <a:pt x="3" y="199"/>
                  </a:lnTo>
                  <a:lnTo>
                    <a:pt x="4" y="181"/>
                  </a:lnTo>
                  <a:lnTo>
                    <a:pt x="5" y="160"/>
                  </a:lnTo>
                  <a:lnTo>
                    <a:pt x="5" y="139"/>
                  </a:lnTo>
                  <a:lnTo>
                    <a:pt x="5" y="118"/>
                  </a:lnTo>
                  <a:lnTo>
                    <a:pt x="5" y="96"/>
                  </a:lnTo>
                  <a:lnTo>
                    <a:pt x="5" y="77"/>
                  </a:lnTo>
                  <a:lnTo>
                    <a:pt x="6" y="47"/>
                  </a:lnTo>
                  <a:lnTo>
                    <a:pt x="8" y="25"/>
                  </a:lnTo>
                  <a:lnTo>
                    <a:pt x="9" y="10"/>
                  </a:lnTo>
                  <a:lnTo>
                    <a:pt x="11" y="2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2"/>
                  </a:lnTo>
                  <a:lnTo>
                    <a:pt x="18" y="8"/>
                  </a:lnTo>
                  <a:lnTo>
                    <a:pt x="20" y="17"/>
                  </a:lnTo>
                  <a:lnTo>
                    <a:pt x="22" y="27"/>
                  </a:lnTo>
                  <a:lnTo>
                    <a:pt x="23" y="46"/>
                  </a:lnTo>
                  <a:lnTo>
                    <a:pt x="24" y="67"/>
                  </a:lnTo>
                  <a:lnTo>
                    <a:pt x="25" y="91"/>
                  </a:lnTo>
                  <a:lnTo>
                    <a:pt x="27" y="115"/>
                  </a:lnTo>
                  <a:lnTo>
                    <a:pt x="31" y="135"/>
                  </a:lnTo>
                  <a:lnTo>
                    <a:pt x="35" y="144"/>
                  </a:lnTo>
                  <a:lnTo>
                    <a:pt x="39" y="151"/>
                  </a:lnTo>
                  <a:lnTo>
                    <a:pt x="43" y="157"/>
                  </a:lnTo>
                  <a:lnTo>
                    <a:pt x="47" y="160"/>
                  </a:lnTo>
                  <a:lnTo>
                    <a:pt x="57" y="164"/>
                  </a:lnTo>
                  <a:lnTo>
                    <a:pt x="67" y="166"/>
                  </a:lnTo>
                  <a:lnTo>
                    <a:pt x="76" y="168"/>
                  </a:lnTo>
                  <a:lnTo>
                    <a:pt x="83" y="168"/>
                  </a:lnTo>
                  <a:lnTo>
                    <a:pt x="92" y="168"/>
                  </a:lnTo>
                  <a:lnTo>
                    <a:pt x="99" y="170"/>
                  </a:lnTo>
                  <a:lnTo>
                    <a:pt x="104" y="172"/>
                  </a:lnTo>
                  <a:lnTo>
                    <a:pt x="108" y="174"/>
                  </a:lnTo>
                  <a:lnTo>
                    <a:pt x="112" y="176"/>
                  </a:lnTo>
                  <a:lnTo>
                    <a:pt x="117" y="181"/>
                  </a:lnTo>
                  <a:lnTo>
                    <a:pt x="126" y="190"/>
                  </a:lnTo>
                  <a:lnTo>
                    <a:pt x="133" y="199"/>
                  </a:lnTo>
                  <a:lnTo>
                    <a:pt x="138" y="208"/>
                  </a:lnTo>
                  <a:lnTo>
                    <a:pt x="141" y="216"/>
                  </a:lnTo>
                  <a:lnTo>
                    <a:pt x="145" y="226"/>
                  </a:lnTo>
                  <a:lnTo>
                    <a:pt x="148" y="237"/>
                  </a:lnTo>
                  <a:lnTo>
                    <a:pt x="152" y="251"/>
                  </a:lnTo>
                  <a:lnTo>
                    <a:pt x="159" y="267"/>
                  </a:lnTo>
                  <a:lnTo>
                    <a:pt x="164" y="282"/>
                  </a:lnTo>
                  <a:lnTo>
                    <a:pt x="168" y="293"/>
                  </a:lnTo>
                  <a:lnTo>
                    <a:pt x="170" y="299"/>
                  </a:lnTo>
                  <a:lnTo>
                    <a:pt x="168" y="300"/>
                  </a:lnTo>
                  <a:lnTo>
                    <a:pt x="166" y="297"/>
                  </a:lnTo>
                  <a:lnTo>
                    <a:pt x="161" y="290"/>
                  </a:lnTo>
                  <a:lnTo>
                    <a:pt x="152" y="278"/>
                  </a:lnTo>
                  <a:lnTo>
                    <a:pt x="141" y="262"/>
                  </a:lnTo>
                  <a:close/>
                </a:path>
              </a:pathLst>
            </a:custGeom>
            <a:solidFill>
              <a:srgbClr val="8865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5742000" y="2149560"/>
              <a:ext cx="50760" cy="120600"/>
            </a:xfrm>
            <a:custGeom>
              <a:avLst/>
              <a:gdLst/>
              <a:ahLst/>
              <a:rect l="l" t="t" r="r" b="b"/>
              <a:pathLst>
                <a:path w="160" h="382">
                  <a:moveTo>
                    <a:pt x="42" y="226"/>
                  </a:moveTo>
                  <a:lnTo>
                    <a:pt x="45" y="221"/>
                  </a:lnTo>
                  <a:lnTo>
                    <a:pt x="47" y="217"/>
                  </a:lnTo>
                  <a:lnTo>
                    <a:pt x="50" y="214"/>
                  </a:lnTo>
                  <a:lnTo>
                    <a:pt x="52" y="208"/>
                  </a:lnTo>
                  <a:lnTo>
                    <a:pt x="55" y="204"/>
                  </a:lnTo>
                  <a:lnTo>
                    <a:pt x="58" y="200"/>
                  </a:lnTo>
                  <a:lnTo>
                    <a:pt x="60" y="195"/>
                  </a:lnTo>
                  <a:lnTo>
                    <a:pt x="61" y="191"/>
                  </a:lnTo>
                  <a:lnTo>
                    <a:pt x="66" y="173"/>
                  </a:lnTo>
                  <a:lnTo>
                    <a:pt x="71" y="153"/>
                  </a:lnTo>
                  <a:lnTo>
                    <a:pt x="73" y="133"/>
                  </a:lnTo>
                  <a:lnTo>
                    <a:pt x="74" y="113"/>
                  </a:lnTo>
                  <a:lnTo>
                    <a:pt x="75" y="93"/>
                  </a:lnTo>
                  <a:lnTo>
                    <a:pt x="75" y="74"/>
                  </a:lnTo>
                  <a:lnTo>
                    <a:pt x="76" y="57"/>
                  </a:lnTo>
                  <a:lnTo>
                    <a:pt x="76" y="42"/>
                  </a:lnTo>
                  <a:lnTo>
                    <a:pt x="77" y="35"/>
                  </a:lnTo>
                  <a:lnTo>
                    <a:pt x="81" y="27"/>
                  </a:lnTo>
                  <a:lnTo>
                    <a:pt x="84" y="20"/>
                  </a:lnTo>
                  <a:lnTo>
                    <a:pt x="89" y="15"/>
                  </a:lnTo>
                  <a:lnTo>
                    <a:pt x="95" y="11"/>
                  </a:lnTo>
                  <a:lnTo>
                    <a:pt x="101" y="6"/>
                  </a:lnTo>
                  <a:lnTo>
                    <a:pt x="108" y="3"/>
                  </a:lnTo>
                  <a:lnTo>
                    <a:pt x="115" y="2"/>
                  </a:lnTo>
                  <a:lnTo>
                    <a:pt x="122" y="0"/>
                  </a:lnTo>
                  <a:lnTo>
                    <a:pt x="128" y="0"/>
                  </a:lnTo>
                  <a:lnTo>
                    <a:pt x="135" y="1"/>
                  </a:lnTo>
                  <a:lnTo>
                    <a:pt x="140" y="3"/>
                  </a:lnTo>
                  <a:lnTo>
                    <a:pt x="145" y="5"/>
                  </a:lnTo>
                  <a:lnTo>
                    <a:pt x="149" y="10"/>
                  </a:lnTo>
                  <a:lnTo>
                    <a:pt x="152" y="14"/>
                  </a:lnTo>
                  <a:lnTo>
                    <a:pt x="153" y="20"/>
                  </a:lnTo>
                  <a:lnTo>
                    <a:pt x="153" y="26"/>
                  </a:lnTo>
                  <a:lnTo>
                    <a:pt x="152" y="42"/>
                  </a:lnTo>
                  <a:lnTo>
                    <a:pt x="152" y="66"/>
                  </a:lnTo>
                  <a:lnTo>
                    <a:pt x="151" y="95"/>
                  </a:lnTo>
                  <a:lnTo>
                    <a:pt x="149" y="127"/>
                  </a:lnTo>
                  <a:lnTo>
                    <a:pt x="148" y="160"/>
                  </a:lnTo>
                  <a:lnTo>
                    <a:pt x="146" y="191"/>
                  </a:lnTo>
                  <a:lnTo>
                    <a:pt x="145" y="218"/>
                  </a:lnTo>
                  <a:lnTo>
                    <a:pt x="145" y="224"/>
                  </a:lnTo>
                  <a:lnTo>
                    <a:pt x="145" y="229"/>
                  </a:lnTo>
                  <a:lnTo>
                    <a:pt x="145" y="233"/>
                  </a:lnTo>
                  <a:lnTo>
                    <a:pt x="145" y="238"/>
                  </a:lnTo>
                  <a:lnTo>
                    <a:pt x="145" y="242"/>
                  </a:lnTo>
                  <a:lnTo>
                    <a:pt x="145" y="245"/>
                  </a:lnTo>
                  <a:lnTo>
                    <a:pt x="145" y="247"/>
                  </a:lnTo>
                  <a:lnTo>
                    <a:pt x="145" y="251"/>
                  </a:lnTo>
                  <a:lnTo>
                    <a:pt x="149" y="316"/>
                  </a:lnTo>
                  <a:lnTo>
                    <a:pt x="148" y="322"/>
                  </a:lnTo>
                  <a:lnTo>
                    <a:pt x="149" y="327"/>
                  </a:lnTo>
                  <a:lnTo>
                    <a:pt x="150" y="334"/>
                  </a:lnTo>
                  <a:lnTo>
                    <a:pt x="152" y="339"/>
                  </a:lnTo>
                  <a:lnTo>
                    <a:pt x="157" y="351"/>
                  </a:lnTo>
                  <a:lnTo>
                    <a:pt x="160" y="362"/>
                  </a:lnTo>
                  <a:lnTo>
                    <a:pt x="160" y="367"/>
                  </a:lnTo>
                  <a:lnTo>
                    <a:pt x="160" y="371"/>
                  </a:lnTo>
                  <a:lnTo>
                    <a:pt x="158" y="375"/>
                  </a:lnTo>
                  <a:lnTo>
                    <a:pt x="155" y="378"/>
                  </a:lnTo>
                  <a:lnTo>
                    <a:pt x="150" y="380"/>
                  </a:lnTo>
                  <a:lnTo>
                    <a:pt x="141" y="381"/>
                  </a:lnTo>
                  <a:lnTo>
                    <a:pt x="131" y="382"/>
                  </a:lnTo>
                  <a:lnTo>
                    <a:pt x="118" y="381"/>
                  </a:lnTo>
                  <a:lnTo>
                    <a:pt x="112" y="380"/>
                  </a:lnTo>
                  <a:lnTo>
                    <a:pt x="106" y="377"/>
                  </a:lnTo>
                  <a:lnTo>
                    <a:pt x="100" y="375"/>
                  </a:lnTo>
                  <a:lnTo>
                    <a:pt x="94" y="370"/>
                  </a:lnTo>
                  <a:lnTo>
                    <a:pt x="82" y="363"/>
                  </a:lnTo>
                  <a:lnTo>
                    <a:pt x="70" y="353"/>
                  </a:lnTo>
                  <a:lnTo>
                    <a:pt x="58" y="344"/>
                  </a:lnTo>
                  <a:lnTo>
                    <a:pt x="46" y="337"/>
                  </a:lnTo>
                  <a:lnTo>
                    <a:pt x="41" y="334"/>
                  </a:lnTo>
                  <a:lnTo>
                    <a:pt x="35" y="332"/>
                  </a:lnTo>
                  <a:lnTo>
                    <a:pt x="30" y="329"/>
                  </a:lnTo>
                  <a:lnTo>
                    <a:pt x="24" y="329"/>
                  </a:lnTo>
                  <a:lnTo>
                    <a:pt x="20" y="328"/>
                  </a:lnTo>
                  <a:lnTo>
                    <a:pt x="16" y="327"/>
                  </a:lnTo>
                  <a:lnTo>
                    <a:pt x="11" y="325"/>
                  </a:lnTo>
                  <a:lnTo>
                    <a:pt x="8" y="323"/>
                  </a:lnTo>
                  <a:lnTo>
                    <a:pt x="6" y="320"/>
                  </a:lnTo>
                  <a:lnTo>
                    <a:pt x="4" y="315"/>
                  </a:lnTo>
                  <a:lnTo>
                    <a:pt x="2" y="311"/>
                  </a:lnTo>
                  <a:lnTo>
                    <a:pt x="1" y="307"/>
                  </a:lnTo>
                  <a:lnTo>
                    <a:pt x="0" y="296"/>
                  </a:lnTo>
                  <a:lnTo>
                    <a:pt x="1" y="285"/>
                  </a:lnTo>
                  <a:lnTo>
                    <a:pt x="3" y="274"/>
                  </a:lnTo>
                  <a:lnTo>
                    <a:pt x="7" y="265"/>
                  </a:lnTo>
                  <a:lnTo>
                    <a:pt x="42" y="226"/>
                  </a:lnTo>
                  <a:close/>
                </a:path>
              </a:pathLst>
            </a:custGeom>
            <a:solidFill>
              <a:srgbClr val="9a76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5745240" y="2157480"/>
              <a:ext cx="44280" cy="108000"/>
            </a:xfrm>
            <a:custGeom>
              <a:avLst/>
              <a:gdLst/>
              <a:ahLst/>
              <a:rect l="l" t="t" r="r" b="b"/>
              <a:pathLst>
                <a:path w="142" h="340">
                  <a:moveTo>
                    <a:pt x="77" y="34"/>
                  </a:moveTo>
                  <a:lnTo>
                    <a:pt x="78" y="28"/>
                  </a:lnTo>
                  <a:lnTo>
                    <a:pt x="80" y="22"/>
                  </a:lnTo>
                  <a:lnTo>
                    <a:pt x="83" y="17"/>
                  </a:lnTo>
                  <a:lnTo>
                    <a:pt x="88" y="12"/>
                  </a:lnTo>
                  <a:lnTo>
                    <a:pt x="92" y="8"/>
                  </a:lnTo>
                  <a:lnTo>
                    <a:pt x="96" y="5"/>
                  </a:lnTo>
                  <a:lnTo>
                    <a:pt x="102" y="3"/>
                  </a:lnTo>
                  <a:lnTo>
                    <a:pt x="108" y="1"/>
                  </a:lnTo>
                  <a:lnTo>
                    <a:pt x="114" y="0"/>
                  </a:lnTo>
                  <a:lnTo>
                    <a:pt x="119" y="0"/>
                  </a:lnTo>
                  <a:lnTo>
                    <a:pt x="123" y="1"/>
                  </a:lnTo>
                  <a:lnTo>
                    <a:pt x="129" y="2"/>
                  </a:lnTo>
                  <a:lnTo>
                    <a:pt x="132" y="5"/>
                  </a:lnTo>
                  <a:lnTo>
                    <a:pt x="135" y="8"/>
                  </a:lnTo>
                  <a:lnTo>
                    <a:pt x="137" y="13"/>
                  </a:lnTo>
                  <a:lnTo>
                    <a:pt x="138" y="17"/>
                  </a:lnTo>
                  <a:lnTo>
                    <a:pt x="138" y="22"/>
                  </a:lnTo>
                  <a:lnTo>
                    <a:pt x="137" y="38"/>
                  </a:lnTo>
                  <a:lnTo>
                    <a:pt x="137" y="60"/>
                  </a:lnTo>
                  <a:lnTo>
                    <a:pt x="136" y="87"/>
                  </a:lnTo>
                  <a:lnTo>
                    <a:pt x="135" y="116"/>
                  </a:lnTo>
                  <a:lnTo>
                    <a:pt x="134" y="146"/>
                  </a:lnTo>
                  <a:lnTo>
                    <a:pt x="134" y="173"/>
                  </a:lnTo>
                  <a:lnTo>
                    <a:pt x="134" y="195"/>
                  </a:lnTo>
                  <a:lnTo>
                    <a:pt x="134" y="200"/>
                  </a:lnTo>
                  <a:lnTo>
                    <a:pt x="133" y="205"/>
                  </a:lnTo>
                  <a:lnTo>
                    <a:pt x="133" y="209"/>
                  </a:lnTo>
                  <a:lnTo>
                    <a:pt x="132" y="215"/>
                  </a:lnTo>
                  <a:lnTo>
                    <a:pt x="132" y="219"/>
                  </a:lnTo>
                  <a:lnTo>
                    <a:pt x="132" y="223"/>
                  </a:lnTo>
                  <a:lnTo>
                    <a:pt x="131" y="227"/>
                  </a:lnTo>
                  <a:lnTo>
                    <a:pt x="131" y="230"/>
                  </a:lnTo>
                  <a:lnTo>
                    <a:pt x="131" y="233"/>
                  </a:lnTo>
                  <a:lnTo>
                    <a:pt x="132" y="241"/>
                  </a:lnTo>
                  <a:lnTo>
                    <a:pt x="132" y="249"/>
                  </a:lnTo>
                  <a:lnTo>
                    <a:pt x="132" y="260"/>
                  </a:lnTo>
                  <a:lnTo>
                    <a:pt x="133" y="271"/>
                  </a:lnTo>
                  <a:lnTo>
                    <a:pt x="133" y="281"/>
                  </a:lnTo>
                  <a:lnTo>
                    <a:pt x="134" y="287"/>
                  </a:lnTo>
                  <a:lnTo>
                    <a:pt x="134" y="289"/>
                  </a:lnTo>
                  <a:lnTo>
                    <a:pt x="134" y="298"/>
                  </a:lnTo>
                  <a:lnTo>
                    <a:pt x="136" y="308"/>
                  </a:lnTo>
                  <a:lnTo>
                    <a:pt x="139" y="316"/>
                  </a:lnTo>
                  <a:lnTo>
                    <a:pt x="142" y="325"/>
                  </a:lnTo>
                  <a:lnTo>
                    <a:pt x="142" y="329"/>
                  </a:lnTo>
                  <a:lnTo>
                    <a:pt x="141" y="332"/>
                  </a:lnTo>
                  <a:lnTo>
                    <a:pt x="138" y="335"/>
                  </a:lnTo>
                  <a:lnTo>
                    <a:pt x="135" y="337"/>
                  </a:lnTo>
                  <a:lnTo>
                    <a:pt x="131" y="339"/>
                  </a:lnTo>
                  <a:lnTo>
                    <a:pt x="124" y="340"/>
                  </a:lnTo>
                  <a:lnTo>
                    <a:pt x="117" y="340"/>
                  </a:lnTo>
                  <a:lnTo>
                    <a:pt x="106" y="339"/>
                  </a:lnTo>
                  <a:lnTo>
                    <a:pt x="101" y="338"/>
                  </a:lnTo>
                  <a:lnTo>
                    <a:pt x="95" y="336"/>
                  </a:lnTo>
                  <a:lnTo>
                    <a:pt x="90" y="334"/>
                  </a:lnTo>
                  <a:lnTo>
                    <a:pt x="84" y="331"/>
                  </a:lnTo>
                  <a:lnTo>
                    <a:pt x="74" y="325"/>
                  </a:lnTo>
                  <a:lnTo>
                    <a:pt x="63" y="317"/>
                  </a:lnTo>
                  <a:lnTo>
                    <a:pt x="52" y="310"/>
                  </a:lnTo>
                  <a:lnTo>
                    <a:pt x="42" y="303"/>
                  </a:lnTo>
                  <a:lnTo>
                    <a:pt x="37" y="300"/>
                  </a:lnTo>
                  <a:lnTo>
                    <a:pt x="31" y="298"/>
                  </a:lnTo>
                  <a:lnTo>
                    <a:pt x="27" y="297"/>
                  </a:lnTo>
                  <a:lnTo>
                    <a:pt x="23" y="297"/>
                  </a:lnTo>
                  <a:lnTo>
                    <a:pt x="18" y="297"/>
                  </a:lnTo>
                  <a:lnTo>
                    <a:pt x="14" y="296"/>
                  </a:lnTo>
                  <a:lnTo>
                    <a:pt x="11" y="294"/>
                  </a:lnTo>
                  <a:lnTo>
                    <a:pt x="8" y="291"/>
                  </a:lnTo>
                  <a:lnTo>
                    <a:pt x="5" y="289"/>
                  </a:lnTo>
                  <a:lnTo>
                    <a:pt x="3" y="286"/>
                  </a:lnTo>
                  <a:lnTo>
                    <a:pt x="2" y="283"/>
                  </a:lnTo>
                  <a:lnTo>
                    <a:pt x="1" y="278"/>
                  </a:lnTo>
                  <a:lnTo>
                    <a:pt x="0" y="271"/>
                  </a:lnTo>
                  <a:lnTo>
                    <a:pt x="0" y="261"/>
                  </a:lnTo>
                  <a:lnTo>
                    <a:pt x="2" y="251"/>
                  </a:lnTo>
                  <a:lnTo>
                    <a:pt x="5" y="243"/>
                  </a:lnTo>
                  <a:lnTo>
                    <a:pt x="8" y="240"/>
                  </a:lnTo>
                  <a:lnTo>
                    <a:pt x="12" y="235"/>
                  </a:lnTo>
                  <a:lnTo>
                    <a:pt x="18" y="230"/>
                  </a:lnTo>
                  <a:lnTo>
                    <a:pt x="26" y="224"/>
                  </a:lnTo>
                  <a:lnTo>
                    <a:pt x="34" y="220"/>
                  </a:lnTo>
                  <a:lnTo>
                    <a:pt x="40" y="216"/>
                  </a:lnTo>
                  <a:lnTo>
                    <a:pt x="44" y="213"/>
                  </a:lnTo>
                  <a:lnTo>
                    <a:pt x="48" y="213"/>
                  </a:lnTo>
                  <a:lnTo>
                    <a:pt x="51" y="210"/>
                  </a:lnTo>
                  <a:lnTo>
                    <a:pt x="54" y="206"/>
                  </a:lnTo>
                  <a:lnTo>
                    <a:pt x="56" y="201"/>
                  </a:lnTo>
                  <a:lnTo>
                    <a:pt x="58" y="194"/>
                  </a:lnTo>
                  <a:lnTo>
                    <a:pt x="61" y="189"/>
                  </a:lnTo>
                  <a:lnTo>
                    <a:pt x="63" y="182"/>
                  </a:lnTo>
                  <a:lnTo>
                    <a:pt x="65" y="177"/>
                  </a:lnTo>
                  <a:lnTo>
                    <a:pt x="67" y="173"/>
                  </a:lnTo>
                  <a:lnTo>
                    <a:pt x="70" y="157"/>
                  </a:lnTo>
                  <a:lnTo>
                    <a:pt x="74" y="140"/>
                  </a:lnTo>
                  <a:lnTo>
                    <a:pt x="75" y="121"/>
                  </a:lnTo>
                  <a:lnTo>
                    <a:pt x="76" y="101"/>
                  </a:lnTo>
                  <a:lnTo>
                    <a:pt x="76" y="82"/>
                  </a:lnTo>
                  <a:lnTo>
                    <a:pt x="76" y="64"/>
                  </a:lnTo>
                  <a:lnTo>
                    <a:pt x="76" y="47"/>
                  </a:lnTo>
                  <a:lnTo>
                    <a:pt x="77" y="34"/>
                  </a:lnTo>
                  <a:close/>
                </a:path>
              </a:pathLst>
            </a:custGeom>
            <a:solidFill>
              <a:srgbClr val="a27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5745240" y="2165400"/>
              <a:ext cx="41040" cy="95400"/>
            </a:xfrm>
            <a:custGeom>
              <a:avLst/>
              <a:gdLst/>
              <a:ahLst/>
              <a:rect l="l" t="t" r="r" b="b"/>
              <a:pathLst>
                <a:path w="127" h="298">
                  <a:moveTo>
                    <a:pt x="80" y="25"/>
                  </a:moveTo>
                  <a:lnTo>
                    <a:pt x="81" y="20"/>
                  </a:lnTo>
                  <a:lnTo>
                    <a:pt x="83" y="16"/>
                  </a:lnTo>
                  <a:lnTo>
                    <a:pt x="86" y="12"/>
                  </a:lnTo>
                  <a:lnTo>
                    <a:pt x="88" y="8"/>
                  </a:lnTo>
                  <a:lnTo>
                    <a:pt x="92" y="5"/>
                  </a:lnTo>
                  <a:lnTo>
                    <a:pt x="95" y="3"/>
                  </a:lnTo>
                  <a:lnTo>
                    <a:pt x="100" y="2"/>
                  </a:lnTo>
                  <a:lnTo>
                    <a:pt x="104" y="0"/>
                  </a:lnTo>
                  <a:lnTo>
                    <a:pt x="107" y="0"/>
                  </a:lnTo>
                  <a:lnTo>
                    <a:pt x="112" y="0"/>
                  </a:lnTo>
                  <a:lnTo>
                    <a:pt x="116" y="0"/>
                  </a:lnTo>
                  <a:lnTo>
                    <a:pt x="119" y="1"/>
                  </a:lnTo>
                  <a:lnTo>
                    <a:pt x="122" y="3"/>
                  </a:lnTo>
                  <a:lnTo>
                    <a:pt x="125" y="5"/>
                  </a:lnTo>
                  <a:lnTo>
                    <a:pt x="127" y="8"/>
                  </a:lnTo>
                  <a:lnTo>
                    <a:pt x="127" y="13"/>
                  </a:lnTo>
                  <a:lnTo>
                    <a:pt x="127" y="18"/>
                  </a:lnTo>
                  <a:lnTo>
                    <a:pt x="127" y="32"/>
                  </a:lnTo>
                  <a:lnTo>
                    <a:pt x="126" y="53"/>
                  </a:lnTo>
                  <a:lnTo>
                    <a:pt x="125" y="78"/>
                  </a:lnTo>
                  <a:lnTo>
                    <a:pt x="124" y="105"/>
                  </a:lnTo>
                  <a:lnTo>
                    <a:pt x="122" y="130"/>
                  </a:lnTo>
                  <a:lnTo>
                    <a:pt x="122" y="153"/>
                  </a:lnTo>
                  <a:lnTo>
                    <a:pt x="122" y="170"/>
                  </a:lnTo>
                  <a:lnTo>
                    <a:pt x="122" y="174"/>
                  </a:lnTo>
                  <a:lnTo>
                    <a:pt x="121" y="178"/>
                  </a:lnTo>
                  <a:lnTo>
                    <a:pt x="121" y="183"/>
                  </a:lnTo>
                  <a:lnTo>
                    <a:pt x="121" y="188"/>
                  </a:lnTo>
                  <a:lnTo>
                    <a:pt x="120" y="193"/>
                  </a:lnTo>
                  <a:lnTo>
                    <a:pt x="120" y="197"/>
                  </a:lnTo>
                  <a:lnTo>
                    <a:pt x="120" y="202"/>
                  </a:lnTo>
                  <a:lnTo>
                    <a:pt x="119" y="205"/>
                  </a:lnTo>
                  <a:lnTo>
                    <a:pt x="120" y="210"/>
                  </a:lnTo>
                  <a:lnTo>
                    <a:pt x="121" y="217"/>
                  </a:lnTo>
                  <a:lnTo>
                    <a:pt x="121" y="226"/>
                  </a:lnTo>
                  <a:lnTo>
                    <a:pt x="121" y="235"/>
                  </a:lnTo>
                  <a:lnTo>
                    <a:pt x="122" y="245"/>
                  </a:lnTo>
                  <a:lnTo>
                    <a:pt x="122" y="253"/>
                  </a:lnTo>
                  <a:lnTo>
                    <a:pt x="122" y="258"/>
                  </a:lnTo>
                  <a:lnTo>
                    <a:pt x="122" y="260"/>
                  </a:lnTo>
                  <a:lnTo>
                    <a:pt x="122" y="267"/>
                  </a:lnTo>
                  <a:lnTo>
                    <a:pt x="124" y="274"/>
                  </a:lnTo>
                  <a:lnTo>
                    <a:pt x="125" y="281"/>
                  </a:lnTo>
                  <a:lnTo>
                    <a:pt x="126" y="287"/>
                  </a:lnTo>
                  <a:lnTo>
                    <a:pt x="126" y="289"/>
                  </a:lnTo>
                  <a:lnTo>
                    <a:pt x="125" y="291"/>
                  </a:lnTo>
                  <a:lnTo>
                    <a:pt x="122" y="294"/>
                  </a:lnTo>
                  <a:lnTo>
                    <a:pt x="120" y="296"/>
                  </a:lnTo>
                  <a:lnTo>
                    <a:pt x="116" y="297"/>
                  </a:lnTo>
                  <a:lnTo>
                    <a:pt x="112" y="298"/>
                  </a:lnTo>
                  <a:lnTo>
                    <a:pt x="105" y="298"/>
                  </a:lnTo>
                  <a:lnTo>
                    <a:pt x="98" y="297"/>
                  </a:lnTo>
                  <a:lnTo>
                    <a:pt x="88" y="294"/>
                  </a:lnTo>
                  <a:lnTo>
                    <a:pt x="77" y="289"/>
                  </a:lnTo>
                  <a:lnTo>
                    <a:pt x="68" y="284"/>
                  </a:lnTo>
                  <a:lnTo>
                    <a:pt x="59" y="277"/>
                  </a:lnTo>
                  <a:lnTo>
                    <a:pt x="49" y="272"/>
                  </a:lnTo>
                  <a:lnTo>
                    <a:pt x="40" y="267"/>
                  </a:lnTo>
                  <a:lnTo>
                    <a:pt x="32" y="263"/>
                  </a:lnTo>
                  <a:lnTo>
                    <a:pt x="23" y="262"/>
                  </a:lnTo>
                  <a:lnTo>
                    <a:pt x="19" y="262"/>
                  </a:lnTo>
                  <a:lnTo>
                    <a:pt x="16" y="261"/>
                  </a:lnTo>
                  <a:lnTo>
                    <a:pt x="11" y="260"/>
                  </a:lnTo>
                  <a:lnTo>
                    <a:pt x="9" y="258"/>
                  </a:lnTo>
                  <a:lnTo>
                    <a:pt x="7" y="257"/>
                  </a:lnTo>
                  <a:lnTo>
                    <a:pt x="5" y="254"/>
                  </a:lnTo>
                  <a:lnTo>
                    <a:pt x="3" y="251"/>
                  </a:lnTo>
                  <a:lnTo>
                    <a:pt x="1" y="248"/>
                  </a:lnTo>
                  <a:lnTo>
                    <a:pt x="0" y="242"/>
                  </a:lnTo>
                  <a:lnTo>
                    <a:pt x="1" y="234"/>
                  </a:lnTo>
                  <a:lnTo>
                    <a:pt x="3" y="227"/>
                  </a:lnTo>
                  <a:lnTo>
                    <a:pt x="6" y="218"/>
                  </a:lnTo>
                  <a:lnTo>
                    <a:pt x="9" y="214"/>
                  </a:lnTo>
                  <a:lnTo>
                    <a:pt x="14" y="210"/>
                  </a:lnTo>
                  <a:lnTo>
                    <a:pt x="22" y="206"/>
                  </a:lnTo>
                  <a:lnTo>
                    <a:pt x="31" y="203"/>
                  </a:lnTo>
                  <a:lnTo>
                    <a:pt x="39" y="201"/>
                  </a:lnTo>
                  <a:lnTo>
                    <a:pt x="47" y="199"/>
                  </a:lnTo>
                  <a:lnTo>
                    <a:pt x="53" y="197"/>
                  </a:lnTo>
                  <a:lnTo>
                    <a:pt x="58" y="199"/>
                  </a:lnTo>
                  <a:lnTo>
                    <a:pt x="61" y="196"/>
                  </a:lnTo>
                  <a:lnTo>
                    <a:pt x="63" y="192"/>
                  </a:lnTo>
                  <a:lnTo>
                    <a:pt x="65" y="186"/>
                  </a:lnTo>
                  <a:lnTo>
                    <a:pt x="67" y="179"/>
                  </a:lnTo>
                  <a:lnTo>
                    <a:pt x="68" y="170"/>
                  </a:lnTo>
                  <a:lnTo>
                    <a:pt x="71" y="164"/>
                  </a:lnTo>
                  <a:lnTo>
                    <a:pt x="72" y="157"/>
                  </a:lnTo>
                  <a:lnTo>
                    <a:pt x="73" y="153"/>
                  </a:lnTo>
                  <a:lnTo>
                    <a:pt x="76" y="141"/>
                  </a:lnTo>
                  <a:lnTo>
                    <a:pt x="78" y="125"/>
                  </a:lnTo>
                  <a:lnTo>
                    <a:pt x="79" y="108"/>
                  </a:lnTo>
                  <a:lnTo>
                    <a:pt x="80" y="88"/>
                  </a:lnTo>
                  <a:lnTo>
                    <a:pt x="80" y="69"/>
                  </a:lnTo>
                  <a:lnTo>
                    <a:pt x="80" y="52"/>
                  </a:lnTo>
                  <a:lnTo>
                    <a:pt x="80" y="37"/>
                  </a:lnTo>
                  <a:lnTo>
                    <a:pt x="80" y="25"/>
                  </a:lnTo>
                  <a:close/>
                </a:path>
              </a:pathLst>
            </a:custGeom>
            <a:solidFill>
              <a:srgbClr val="a980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5748480" y="2173320"/>
              <a:ext cx="34920" cy="82440"/>
            </a:xfrm>
            <a:custGeom>
              <a:avLst/>
              <a:gdLst/>
              <a:ahLst/>
              <a:rect l="l" t="t" r="r" b="b"/>
              <a:pathLst>
                <a:path w="110" h="257">
                  <a:moveTo>
                    <a:pt x="83" y="18"/>
                  </a:moveTo>
                  <a:lnTo>
                    <a:pt x="83" y="15"/>
                  </a:lnTo>
                  <a:lnTo>
                    <a:pt x="84" y="11"/>
                  </a:lnTo>
                  <a:lnTo>
                    <a:pt x="85" y="9"/>
                  </a:lnTo>
                  <a:lnTo>
                    <a:pt x="87" y="6"/>
                  </a:lnTo>
                  <a:lnTo>
                    <a:pt x="92" y="3"/>
                  </a:lnTo>
                  <a:lnTo>
                    <a:pt x="97" y="1"/>
                  </a:lnTo>
                  <a:lnTo>
                    <a:pt x="101" y="0"/>
                  </a:lnTo>
                  <a:lnTo>
                    <a:pt x="106" y="1"/>
                  </a:lnTo>
                  <a:lnTo>
                    <a:pt x="108" y="2"/>
                  </a:lnTo>
                  <a:lnTo>
                    <a:pt x="109" y="4"/>
                  </a:lnTo>
                  <a:lnTo>
                    <a:pt x="110" y="6"/>
                  </a:lnTo>
                  <a:lnTo>
                    <a:pt x="110" y="8"/>
                  </a:lnTo>
                  <a:lnTo>
                    <a:pt x="110" y="14"/>
                  </a:lnTo>
                  <a:lnTo>
                    <a:pt x="110" y="28"/>
                  </a:lnTo>
                  <a:lnTo>
                    <a:pt x="110" y="47"/>
                  </a:lnTo>
                  <a:lnTo>
                    <a:pt x="110" y="70"/>
                  </a:lnTo>
                  <a:lnTo>
                    <a:pt x="110" y="95"/>
                  </a:lnTo>
                  <a:lnTo>
                    <a:pt x="109" y="117"/>
                  </a:lnTo>
                  <a:lnTo>
                    <a:pt x="109" y="136"/>
                  </a:lnTo>
                  <a:lnTo>
                    <a:pt x="108" y="146"/>
                  </a:lnTo>
                  <a:lnTo>
                    <a:pt x="108" y="150"/>
                  </a:lnTo>
                  <a:lnTo>
                    <a:pt x="108" y="153"/>
                  </a:lnTo>
                  <a:lnTo>
                    <a:pt x="107" y="158"/>
                  </a:lnTo>
                  <a:lnTo>
                    <a:pt x="107" y="164"/>
                  </a:lnTo>
                  <a:lnTo>
                    <a:pt x="106" y="170"/>
                  </a:lnTo>
                  <a:lnTo>
                    <a:pt x="106" y="176"/>
                  </a:lnTo>
                  <a:lnTo>
                    <a:pt x="106" y="181"/>
                  </a:lnTo>
                  <a:lnTo>
                    <a:pt x="106" y="186"/>
                  </a:lnTo>
                  <a:lnTo>
                    <a:pt x="106" y="191"/>
                  </a:lnTo>
                  <a:lnTo>
                    <a:pt x="107" y="198"/>
                  </a:lnTo>
                  <a:lnTo>
                    <a:pt x="108" y="206"/>
                  </a:lnTo>
                  <a:lnTo>
                    <a:pt x="109" y="213"/>
                  </a:lnTo>
                  <a:lnTo>
                    <a:pt x="109" y="221"/>
                  </a:lnTo>
                  <a:lnTo>
                    <a:pt x="110" y="227"/>
                  </a:lnTo>
                  <a:lnTo>
                    <a:pt x="110" y="232"/>
                  </a:lnTo>
                  <a:lnTo>
                    <a:pt x="110" y="233"/>
                  </a:lnTo>
                  <a:lnTo>
                    <a:pt x="110" y="238"/>
                  </a:lnTo>
                  <a:lnTo>
                    <a:pt x="110" y="243"/>
                  </a:lnTo>
                  <a:lnTo>
                    <a:pt x="109" y="247"/>
                  </a:lnTo>
                  <a:lnTo>
                    <a:pt x="108" y="251"/>
                  </a:lnTo>
                  <a:lnTo>
                    <a:pt x="106" y="254"/>
                  </a:lnTo>
                  <a:lnTo>
                    <a:pt x="101" y="256"/>
                  </a:lnTo>
                  <a:lnTo>
                    <a:pt x="95" y="257"/>
                  </a:lnTo>
                  <a:lnTo>
                    <a:pt x="85" y="256"/>
                  </a:lnTo>
                  <a:lnTo>
                    <a:pt x="77" y="253"/>
                  </a:lnTo>
                  <a:lnTo>
                    <a:pt x="68" y="251"/>
                  </a:lnTo>
                  <a:lnTo>
                    <a:pt x="60" y="247"/>
                  </a:lnTo>
                  <a:lnTo>
                    <a:pt x="53" y="243"/>
                  </a:lnTo>
                  <a:lnTo>
                    <a:pt x="45" y="238"/>
                  </a:lnTo>
                  <a:lnTo>
                    <a:pt x="38" y="234"/>
                  </a:lnTo>
                  <a:lnTo>
                    <a:pt x="29" y="232"/>
                  </a:lnTo>
                  <a:lnTo>
                    <a:pt x="21" y="231"/>
                  </a:lnTo>
                  <a:lnTo>
                    <a:pt x="14" y="231"/>
                  </a:lnTo>
                  <a:lnTo>
                    <a:pt x="9" y="229"/>
                  </a:lnTo>
                  <a:lnTo>
                    <a:pt x="4" y="225"/>
                  </a:lnTo>
                  <a:lnTo>
                    <a:pt x="1" y="222"/>
                  </a:lnTo>
                  <a:lnTo>
                    <a:pt x="0" y="217"/>
                  </a:lnTo>
                  <a:lnTo>
                    <a:pt x="0" y="211"/>
                  </a:lnTo>
                  <a:lnTo>
                    <a:pt x="2" y="204"/>
                  </a:lnTo>
                  <a:lnTo>
                    <a:pt x="4" y="196"/>
                  </a:lnTo>
                  <a:lnTo>
                    <a:pt x="5" y="194"/>
                  </a:lnTo>
                  <a:lnTo>
                    <a:pt x="7" y="192"/>
                  </a:lnTo>
                  <a:lnTo>
                    <a:pt x="11" y="191"/>
                  </a:lnTo>
                  <a:lnTo>
                    <a:pt x="14" y="190"/>
                  </a:lnTo>
                  <a:lnTo>
                    <a:pt x="23" y="187"/>
                  </a:lnTo>
                  <a:lnTo>
                    <a:pt x="32" y="186"/>
                  </a:lnTo>
                  <a:lnTo>
                    <a:pt x="42" y="185"/>
                  </a:lnTo>
                  <a:lnTo>
                    <a:pt x="51" y="186"/>
                  </a:lnTo>
                  <a:lnTo>
                    <a:pt x="58" y="187"/>
                  </a:lnTo>
                  <a:lnTo>
                    <a:pt x="64" y="189"/>
                  </a:lnTo>
                  <a:lnTo>
                    <a:pt x="65" y="189"/>
                  </a:lnTo>
                  <a:lnTo>
                    <a:pt x="67" y="187"/>
                  </a:lnTo>
                  <a:lnTo>
                    <a:pt x="68" y="185"/>
                  </a:lnTo>
                  <a:lnTo>
                    <a:pt x="69" y="182"/>
                  </a:lnTo>
                  <a:lnTo>
                    <a:pt x="71" y="175"/>
                  </a:lnTo>
                  <a:lnTo>
                    <a:pt x="73" y="166"/>
                  </a:lnTo>
                  <a:lnTo>
                    <a:pt x="76" y="156"/>
                  </a:lnTo>
                  <a:lnTo>
                    <a:pt x="77" y="148"/>
                  </a:lnTo>
                  <a:lnTo>
                    <a:pt x="78" y="141"/>
                  </a:lnTo>
                  <a:lnTo>
                    <a:pt x="78" y="137"/>
                  </a:lnTo>
                  <a:lnTo>
                    <a:pt x="79" y="128"/>
                  </a:lnTo>
                  <a:lnTo>
                    <a:pt x="80" y="114"/>
                  </a:lnTo>
                  <a:lnTo>
                    <a:pt x="80" y="97"/>
                  </a:lnTo>
                  <a:lnTo>
                    <a:pt x="81" y="77"/>
                  </a:lnTo>
                  <a:lnTo>
                    <a:pt x="81" y="59"/>
                  </a:lnTo>
                  <a:lnTo>
                    <a:pt x="82" y="42"/>
                  </a:lnTo>
                  <a:lnTo>
                    <a:pt x="82" y="28"/>
                  </a:lnTo>
                  <a:lnTo>
                    <a:pt x="83" y="18"/>
                  </a:lnTo>
                  <a:close/>
                </a:path>
              </a:pathLst>
            </a:custGeom>
            <a:solidFill>
              <a:srgbClr val="b18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5749920" y="2183040"/>
              <a:ext cx="30240" cy="66600"/>
            </a:xfrm>
            <a:custGeom>
              <a:avLst/>
              <a:gdLst/>
              <a:ahLst/>
              <a:rect l="l" t="t" r="r" b="b"/>
              <a:pathLst>
                <a:path w="98" h="214">
                  <a:moveTo>
                    <a:pt x="4" y="175"/>
                  </a:moveTo>
                  <a:lnTo>
                    <a:pt x="1" y="180"/>
                  </a:lnTo>
                  <a:lnTo>
                    <a:pt x="0" y="185"/>
                  </a:lnTo>
                  <a:lnTo>
                    <a:pt x="1" y="189"/>
                  </a:lnTo>
                  <a:lnTo>
                    <a:pt x="2" y="192"/>
                  </a:lnTo>
                  <a:lnTo>
                    <a:pt x="5" y="194"/>
                  </a:lnTo>
                  <a:lnTo>
                    <a:pt x="9" y="195"/>
                  </a:lnTo>
                  <a:lnTo>
                    <a:pt x="14" y="196"/>
                  </a:lnTo>
                  <a:lnTo>
                    <a:pt x="21" y="196"/>
                  </a:lnTo>
                  <a:lnTo>
                    <a:pt x="28" y="197"/>
                  </a:lnTo>
                  <a:lnTo>
                    <a:pt x="35" y="198"/>
                  </a:lnTo>
                  <a:lnTo>
                    <a:pt x="41" y="200"/>
                  </a:lnTo>
                  <a:lnTo>
                    <a:pt x="48" y="204"/>
                  </a:lnTo>
                  <a:lnTo>
                    <a:pt x="54" y="206"/>
                  </a:lnTo>
                  <a:lnTo>
                    <a:pt x="62" y="209"/>
                  </a:lnTo>
                  <a:lnTo>
                    <a:pt x="69" y="211"/>
                  </a:lnTo>
                  <a:lnTo>
                    <a:pt x="78" y="213"/>
                  </a:lnTo>
                  <a:lnTo>
                    <a:pt x="81" y="214"/>
                  </a:lnTo>
                  <a:lnTo>
                    <a:pt x="86" y="214"/>
                  </a:lnTo>
                  <a:lnTo>
                    <a:pt x="89" y="213"/>
                  </a:lnTo>
                  <a:lnTo>
                    <a:pt x="92" y="212"/>
                  </a:lnTo>
                  <a:lnTo>
                    <a:pt x="94" y="211"/>
                  </a:lnTo>
                  <a:lnTo>
                    <a:pt x="96" y="209"/>
                  </a:lnTo>
                  <a:lnTo>
                    <a:pt x="98" y="207"/>
                  </a:lnTo>
                  <a:lnTo>
                    <a:pt x="98" y="204"/>
                  </a:lnTo>
                  <a:lnTo>
                    <a:pt x="98" y="203"/>
                  </a:lnTo>
                  <a:lnTo>
                    <a:pt x="98" y="199"/>
                  </a:lnTo>
                  <a:lnTo>
                    <a:pt x="96" y="194"/>
                  </a:lnTo>
                  <a:lnTo>
                    <a:pt x="96" y="189"/>
                  </a:lnTo>
                  <a:lnTo>
                    <a:pt x="95" y="182"/>
                  </a:lnTo>
                  <a:lnTo>
                    <a:pt x="94" y="175"/>
                  </a:lnTo>
                  <a:lnTo>
                    <a:pt x="94" y="168"/>
                  </a:lnTo>
                  <a:lnTo>
                    <a:pt x="93" y="162"/>
                  </a:lnTo>
                  <a:lnTo>
                    <a:pt x="92" y="156"/>
                  </a:lnTo>
                  <a:lnTo>
                    <a:pt x="92" y="151"/>
                  </a:lnTo>
                  <a:lnTo>
                    <a:pt x="93" y="144"/>
                  </a:lnTo>
                  <a:lnTo>
                    <a:pt x="94" y="138"/>
                  </a:lnTo>
                  <a:lnTo>
                    <a:pt x="95" y="131"/>
                  </a:lnTo>
                  <a:lnTo>
                    <a:pt x="96" y="127"/>
                  </a:lnTo>
                  <a:lnTo>
                    <a:pt x="98" y="124"/>
                  </a:lnTo>
                  <a:lnTo>
                    <a:pt x="98" y="123"/>
                  </a:lnTo>
                  <a:lnTo>
                    <a:pt x="98" y="115"/>
                  </a:lnTo>
                  <a:lnTo>
                    <a:pt x="98" y="101"/>
                  </a:lnTo>
                  <a:lnTo>
                    <a:pt x="98" y="82"/>
                  </a:lnTo>
                  <a:lnTo>
                    <a:pt x="98" y="60"/>
                  </a:lnTo>
                  <a:lnTo>
                    <a:pt x="98" y="40"/>
                  </a:lnTo>
                  <a:lnTo>
                    <a:pt x="98" y="21"/>
                  </a:lnTo>
                  <a:lnTo>
                    <a:pt x="98" y="8"/>
                  </a:lnTo>
                  <a:lnTo>
                    <a:pt x="98" y="4"/>
                  </a:lnTo>
                  <a:lnTo>
                    <a:pt x="98" y="2"/>
                  </a:lnTo>
                  <a:lnTo>
                    <a:pt x="96" y="0"/>
                  </a:lnTo>
                  <a:lnTo>
                    <a:pt x="94" y="0"/>
                  </a:lnTo>
                  <a:lnTo>
                    <a:pt x="92" y="0"/>
                  </a:lnTo>
                  <a:lnTo>
                    <a:pt x="90" y="1"/>
                  </a:lnTo>
                  <a:lnTo>
                    <a:pt x="88" y="3"/>
                  </a:lnTo>
                  <a:lnTo>
                    <a:pt x="86" y="5"/>
                  </a:lnTo>
                  <a:lnTo>
                    <a:pt x="86" y="8"/>
                  </a:lnTo>
                  <a:lnTo>
                    <a:pt x="86" y="16"/>
                  </a:lnTo>
                  <a:lnTo>
                    <a:pt x="86" y="29"/>
                  </a:lnTo>
                  <a:lnTo>
                    <a:pt x="85" y="45"/>
                  </a:lnTo>
                  <a:lnTo>
                    <a:pt x="85" y="64"/>
                  </a:lnTo>
                  <a:lnTo>
                    <a:pt x="85" y="83"/>
                  </a:lnTo>
                  <a:lnTo>
                    <a:pt x="85" y="99"/>
                  </a:lnTo>
                  <a:lnTo>
                    <a:pt x="85" y="111"/>
                  </a:lnTo>
                  <a:lnTo>
                    <a:pt x="86" y="117"/>
                  </a:lnTo>
                  <a:lnTo>
                    <a:pt x="86" y="121"/>
                  </a:lnTo>
                  <a:lnTo>
                    <a:pt x="85" y="127"/>
                  </a:lnTo>
                  <a:lnTo>
                    <a:pt x="83" y="138"/>
                  </a:lnTo>
                  <a:lnTo>
                    <a:pt x="81" y="149"/>
                  </a:lnTo>
                  <a:lnTo>
                    <a:pt x="80" y="159"/>
                  </a:lnTo>
                  <a:lnTo>
                    <a:pt x="77" y="168"/>
                  </a:lnTo>
                  <a:lnTo>
                    <a:pt x="76" y="171"/>
                  </a:lnTo>
                  <a:lnTo>
                    <a:pt x="74" y="173"/>
                  </a:lnTo>
                  <a:lnTo>
                    <a:pt x="73" y="175"/>
                  </a:lnTo>
                  <a:lnTo>
                    <a:pt x="71" y="175"/>
                  </a:lnTo>
                  <a:lnTo>
                    <a:pt x="65" y="172"/>
                  </a:lnTo>
                  <a:lnTo>
                    <a:pt x="56" y="169"/>
                  </a:lnTo>
                  <a:lnTo>
                    <a:pt x="47" y="167"/>
                  </a:lnTo>
                  <a:lnTo>
                    <a:pt x="36" y="165"/>
                  </a:lnTo>
                  <a:lnTo>
                    <a:pt x="25" y="164"/>
                  </a:lnTo>
                  <a:lnTo>
                    <a:pt x="15" y="165"/>
                  </a:lnTo>
                  <a:lnTo>
                    <a:pt x="11" y="167"/>
                  </a:lnTo>
                  <a:lnTo>
                    <a:pt x="8" y="168"/>
                  </a:lnTo>
                  <a:lnTo>
                    <a:pt x="6" y="171"/>
                  </a:lnTo>
                  <a:lnTo>
                    <a:pt x="4" y="175"/>
                  </a:lnTo>
                  <a:close/>
                </a:path>
              </a:pathLst>
            </a:custGeom>
            <a:solidFill>
              <a:srgbClr val="b98c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5742000" y="2235240"/>
              <a:ext cx="79200" cy="38160"/>
            </a:xfrm>
            <a:custGeom>
              <a:avLst/>
              <a:gdLst/>
              <a:ahLst/>
              <a:rect l="l" t="t" r="r" b="b"/>
              <a:pathLst>
                <a:path w="249" h="120">
                  <a:moveTo>
                    <a:pt x="245" y="0"/>
                  </a:moveTo>
                  <a:lnTo>
                    <a:pt x="245" y="2"/>
                  </a:lnTo>
                  <a:lnTo>
                    <a:pt x="245" y="8"/>
                  </a:lnTo>
                  <a:lnTo>
                    <a:pt x="245" y="16"/>
                  </a:lnTo>
                  <a:lnTo>
                    <a:pt x="244" y="26"/>
                  </a:lnTo>
                  <a:lnTo>
                    <a:pt x="242" y="37"/>
                  </a:lnTo>
                  <a:lnTo>
                    <a:pt x="237" y="47"/>
                  </a:lnTo>
                  <a:lnTo>
                    <a:pt x="234" y="51"/>
                  </a:lnTo>
                  <a:lnTo>
                    <a:pt x="231" y="54"/>
                  </a:lnTo>
                  <a:lnTo>
                    <a:pt x="227" y="57"/>
                  </a:lnTo>
                  <a:lnTo>
                    <a:pt x="222" y="60"/>
                  </a:lnTo>
                  <a:lnTo>
                    <a:pt x="212" y="65"/>
                  </a:lnTo>
                  <a:lnTo>
                    <a:pt x="203" y="70"/>
                  </a:lnTo>
                  <a:lnTo>
                    <a:pt x="194" y="77"/>
                  </a:lnTo>
                  <a:lnTo>
                    <a:pt x="185" y="82"/>
                  </a:lnTo>
                  <a:lnTo>
                    <a:pt x="178" y="89"/>
                  </a:lnTo>
                  <a:lnTo>
                    <a:pt x="171" y="94"/>
                  </a:lnTo>
                  <a:lnTo>
                    <a:pt x="166" y="98"/>
                  </a:lnTo>
                  <a:lnTo>
                    <a:pt x="160" y="102"/>
                  </a:lnTo>
                  <a:lnTo>
                    <a:pt x="156" y="104"/>
                  </a:lnTo>
                  <a:lnTo>
                    <a:pt x="150" y="106"/>
                  </a:lnTo>
                  <a:lnTo>
                    <a:pt x="142" y="107"/>
                  </a:lnTo>
                  <a:lnTo>
                    <a:pt x="133" y="108"/>
                  </a:lnTo>
                  <a:lnTo>
                    <a:pt x="126" y="109"/>
                  </a:lnTo>
                  <a:lnTo>
                    <a:pt x="117" y="108"/>
                  </a:lnTo>
                  <a:lnTo>
                    <a:pt x="110" y="107"/>
                  </a:lnTo>
                  <a:lnTo>
                    <a:pt x="103" y="104"/>
                  </a:lnTo>
                  <a:lnTo>
                    <a:pt x="98" y="99"/>
                  </a:lnTo>
                  <a:lnTo>
                    <a:pt x="90" y="94"/>
                  </a:lnTo>
                  <a:lnTo>
                    <a:pt x="83" y="88"/>
                  </a:lnTo>
                  <a:lnTo>
                    <a:pt x="74" y="81"/>
                  </a:lnTo>
                  <a:lnTo>
                    <a:pt x="65" y="76"/>
                  </a:lnTo>
                  <a:lnTo>
                    <a:pt x="58" y="70"/>
                  </a:lnTo>
                  <a:lnTo>
                    <a:pt x="50" y="66"/>
                  </a:lnTo>
                  <a:lnTo>
                    <a:pt x="44" y="65"/>
                  </a:lnTo>
                  <a:lnTo>
                    <a:pt x="39" y="65"/>
                  </a:lnTo>
                  <a:lnTo>
                    <a:pt x="33" y="64"/>
                  </a:lnTo>
                  <a:lnTo>
                    <a:pt x="28" y="63"/>
                  </a:lnTo>
                  <a:lnTo>
                    <a:pt x="21" y="61"/>
                  </a:lnTo>
                  <a:lnTo>
                    <a:pt x="18" y="58"/>
                  </a:lnTo>
                  <a:lnTo>
                    <a:pt x="16" y="55"/>
                  </a:lnTo>
                  <a:lnTo>
                    <a:pt x="12" y="52"/>
                  </a:lnTo>
                  <a:lnTo>
                    <a:pt x="10" y="48"/>
                  </a:lnTo>
                  <a:lnTo>
                    <a:pt x="8" y="43"/>
                  </a:lnTo>
                  <a:lnTo>
                    <a:pt x="6" y="37"/>
                  </a:lnTo>
                  <a:lnTo>
                    <a:pt x="4" y="30"/>
                  </a:lnTo>
                  <a:lnTo>
                    <a:pt x="2" y="23"/>
                  </a:lnTo>
                  <a:lnTo>
                    <a:pt x="2" y="24"/>
                  </a:lnTo>
                  <a:lnTo>
                    <a:pt x="2" y="26"/>
                  </a:lnTo>
                  <a:lnTo>
                    <a:pt x="1" y="29"/>
                  </a:lnTo>
                  <a:lnTo>
                    <a:pt x="1" y="34"/>
                  </a:lnTo>
                  <a:lnTo>
                    <a:pt x="0" y="39"/>
                  </a:lnTo>
                  <a:lnTo>
                    <a:pt x="1" y="44"/>
                  </a:lnTo>
                  <a:lnTo>
                    <a:pt x="1" y="50"/>
                  </a:lnTo>
                  <a:lnTo>
                    <a:pt x="2" y="54"/>
                  </a:lnTo>
                  <a:lnTo>
                    <a:pt x="6" y="60"/>
                  </a:lnTo>
                  <a:lnTo>
                    <a:pt x="14" y="63"/>
                  </a:lnTo>
                  <a:lnTo>
                    <a:pt x="22" y="67"/>
                  </a:lnTo>
                  <a:lnTo>
                    <a:pt x="31" y="70"/>
                  </a:lnTo>
                  <a:lnTo>
                    <a:pt x="41" y="74"/>
                  </a:lnTo>
                  <a:lnTo>
                    <a:pt x="50" y="77"/>
                  </a:lnTo>
                  <a:lnTo>
                    <a:pt x="58" y="81"/>
                  </a:lnTo>
                  <a:lnTo>
                    <a:pt x="64" y="84"/>
                  </a:lnTo>
                  <a:lnTo>
                    <a:pt x="69" y="89"/>
                  </a:lnTo>
                  <a:lnTo>
                    <a:pt x="73" y="92"/>
                  </a:lnTo>
                  <a:lnTo>
                    <a:pt x="78" y="97"/>
                  </a:lnTo>
                  <a:lnTo>
                    <a:pt x="84" y="102"/>
                  </a:lnTo>
                  <a:lnTo>
                    <a:pt x="89" y="106"/>
                  </a:lnTo>
                  <a:lnTo>
                    <a:pt x="94" y="109"/>
                  </a:lnTo>
                  <a:lnTo>
                    <a:pt x="98" y="114"/>
                  </a:lnTo>
                  <a:lnTo>
                    <a:pt x="101" y="117"/>
                  </a:lnTo>
                  <a:lnTo>
                    <a:pt x="102" y="117"/>
                  </a:lnTo>
                  <a:lnTo>
                    <a:pt x="106" y="118"/>
                  </a:lnTo>
                  <a:lnTo>
                    <a:pt x="113" y="119"/>
                  </a:lnTo>
                  <a:lnTo>
                    <a:pt x="121" y="120"/>
                  </a:lnTo>
                  <a:lnTo>
                    <a:pt x="129" y="120"/>
                  </a:lnTo>
                  <a:lnTo>
                    <a:pt x="140" y="119"/>
                  </a:lnTo>
                  <a:lnTo>
                    <a:pt x="150" y="116"/>
                  </a:lnTo>
                  <a:lnTo>
                    <a:pt x="160" y="111"/>
                  </a:lnTo>
                  <a:lnTo>
                    <a:pt x="169" y="106"/>
                  </a:lnTo>
                  <a:lnTo>
                    <a:pt x="178" y="99"/>
                  </a:lnTo>
                  <a:lnTo>
                    <a:pt x="186" y="92"/>
                  </a:lnTo>
                  <a:lnTo>
                    <a:pt x="194" y="85"/>
                  </a:lnTo>
                  <a:lnTo>
                    <a:pt x="200" y="80"/>
                  </a:lnTo>
                  <a:lnTo>
                    <a:pt x="207" y="75"/>
                  </a:lnTo>
                  <a:lnTo>
                    <a:pt x="212" y="71"/>
                  </a:lnTo>
                  <a:lnTo>
                    <a:pt x="218" y="69"/>
                  </a:lnTo>
                  <a:lnTo>
                    <a:pt x="223" y="68"/>
                  </a:lnTo>
                  <a:lnTo>
                    <a:pt x="230" y="65"/>
                  </a:lnTo>
                  <a:lnTo>
                    <a:pt x="236" y="60"/>
                  </a:lnTo>
                  <a:lnTo>
                    <a:pt x="242" y="52"/>
                  </a:lnTo>
                  <a:lnTo>
                    <a:pt x="245" y="48"/>
                  </a:lnTo>
                  <a:lnTo>
                    <a:pt x="246" y="43"/>
                  </a:lnTo>
                  <a:lnTo>
                    <a:pt x="248" y="38"/>
                  </a:lnTo>
                  <a:lnTo>
                    <a:pt x="249" y="31"/>
                  </a:lnTo>
                  <a:lnTo>
                    <a:pt x="249" y="25"/>
                  </a:lnTo>
                  <a:lnTo>
                    <a:pt x="248" y="17"/>
                  </a:lnTo>
                  <a:lnTo>
                    <a:pt x="247" y="9"/>
                  </a:lnTo>
                  <a:lnTo>
                    <a:pt x="245" y="0"/>
                  </a:lnTo>
                  <a:close/>
                </a:path>
              </a:pathLst>
            </a:custGeom>
            <a:solidFill>
              <a:srgbClr val="8965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5719680" y="2311560"/>
              <a:ext cx="111240" cy="42840"/>
            </a:xfrm>
            <a:custGeom>
              <a:avLst/>
              <a:gdLst/>
              <a:ahLst/>
              <a:rect l="l" t="t" r="r" b="b"/>
              <a:pathLst>
                <a:path w="346" h="138">
                  <a:moveTo>
                    <a:pt x="318" y="14"/>
                  </a:moveTo>
                  <a:lnTo>
                    <a:pt x="320" y="16"/>
                  </a:lnTo>
                  <a:lnTo>
                    <a:pt x="325" y="20"/>
                  </a:lnTo>
                  <a:lnTo>
                    <a:pt x="330" y="28"/>
                  </a:lnTo>
                  <a:lnTo>
                    <a:pt x="336" y="37"/>
                  </a:lnTo>
                  <a:lnTo>
                    <a:pt x="342" y="48"/>
                  </a:lnTo>
                  <a:lnTo>
                    <a:pt x="345" y="61"/>
                  </a:lnTo>
                  <a:lnTo>
                    <a:pt x="346" y="68"/>
                  </a:lnTo>
                  <a:lnTo>
                    <a:pt x="346" y="74"/>
                  </a:lnTo>
                  <a:lnTo>
                    <a:pt x="345" y="82"/>
                  </a:lnTo>
                  <a:lnTo>
                    <a:pt x="343" y="88"/>
                  </a:lnTo>
                  <a:lnTo>
                    <a:pt x="340" y="95"/>
                  </a:lnTo>
                  <a:lnTo>
                    <a:pt x="336" y="100"/>
                  </a:lnTo>
                  <a:lnTo>
                    <a:pt x="332" y="105"/>
                  </a:lnTo>
                  <a:lnTo>
                    <a:pt x="328" y="111"/>
                  </a:lnTo>
                  <a:lnTo>
                    <a:pt x="317" y="121"/>
                  </a:lnTo>
                  <a:lnTo>
                    <a:pt x="306" y="128"/>
                  </a:lnTo>
                  <a:lnTo>
                    <a:pt x="293" y="133"/>
                  </a:lnTo>
                  <a:lnTo>
                    <a:pt x="281" y="137"/>
                  </a:lnTo>
                  <a:lnTo>
                    <a:pt x="276" y="138"/>
                  </a:lnTo>
                  <a:lnTo>
                    <a:pt x="269" y="138"/>
                  </a:lnTo>
                  <a:lnTo>
                    <a:pt x="264" y="138"/>
                  </a:lnTo>
                  <a:lnTo>
                    <a:pt x="259" y="138"/>
                  </a:lnTo>
                  <a:lnTo>
                    <a:pt x="247" y="136"/>
                  </a:lnTo>
                  <a:lnTo>
                    <a:pt x="231" y="132"/>
                  </a:lnTo>
                  <a:lnTo>
                    <a:pt x="214" y="130"/>
                  </a:lnTo>
                  <a:lnTo>
                    <a:pt x="196" y="128"/>
                  </a:lnTo>
                  <a:lnTo>
                    <a:pt x="178" y="126"/>
                  </a:lnTo>
                  <a:lnTo>
                    <a:pt x="161" y="124"/>
                  </a:lnTo>
                  <a:lnTo>
                    <a:pt x="145" y="124"/>
                  </a:lnTo>
                  <a:lnTo>
                    <a:pt x="133" y="125"/>
                  </a:lnTo>
                  <a:lnTo>
                    <a:pt x="121" y="128"/>
                  </a:lnTo>
                  <a:lnTo>
                    <a:pt x="108" y="132"/>
                  </a:lnTo>
                  <a:lnTo>
                    <a:pt x="96" y="135"/>
                  </a:lnTo>
                  <a:lnTo>
                    <a:pt x="81" y="136"/>
                  </a:lnTo>
                  <a:lnTo>
                    <a:pt x="74" y="135"/>
                  </a:lnTo>
                  <a:lnTo>
                    <a:pt x="67" y="133"/>
                  </a:lnTo>
                  <a:lnTo>
                    <a:pt x="60" y="131"/>
                  </a:lnTo>
                  <a:lnTo>
                    <a:pt x="52" y="127"/>
                  </a:lnTo>
                  <a:lnTo>
                    <a:pt x="46" y="123"/>
                  </a:lnTo>
                  <a:lnTo>
                    <a:pt x="38" y="116"/>
                  </a:lnTo>
                  <a:lnTo>
                    <a:pt x="31" y="108"/>
                  </a:lnTo>
                  <a:lnTo>
                    <a:pt x="24" y="98"/>
                  </a:lnTo>
                  <a:lnTo>
                    <a:pt x="16" y="84"/>
                  </a:lnTo>
                  <a:lnTo>
                    <a:pt x="9" y="70"/>
                  </a:lnTo>
                  <a:lnTo>
                    <a:pt x="4" y="59"/>
                  </a:lnTo>
                  <a:lnTo>
                    <a:pt x="2" y="48"/>
                  </a:lnTo>
                  <a:lnTo>
                    <a:pt x="0" y="38"/>
                  </a:lnTo>
                  <a:lnTo>
                    <a:pt x="2" y="31"/>
                  </a:lnTo>
                  <a:lnTo>
                    <a:pt x="3" y="24"/>
                  </a:lnTo>
                  <a:lnTo>
                    <a:pt x="5" y="18"/>
                  </a:lnTo>
                  <a:lnTo>
                    <a:pt x="8" y="13"/>
                  </a:lnTo>
                  <a:lnTo>
                    <a:pt x="11" y="9"/>
                  </a:lnTo>
                  <a:lnTo>
                    <a:pt x="16" y="6"/>
                  </a:lnTo>
                  <a:lnTo>
                    <a:pt x="19" y="3"/>
                  </a:lnTo>
                  <a:lnTo>
                    <a:pt x="24" y="0"/>
                  </a:lnTo>
                  <a:lnTo>
                    <a:pt x="26" y="0"/>
                  </a:lnTo>
                  <a:lnTo>
                    <a:pt x="318" y="14"/>
                  </a:lnTo>
                  <a:close/>
                </a:path>
              </a:pathLst>
            </a:custGeom>
            <a:solidFill>
              <a:srgbClr val="9a76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5727600" y="2313000"/>
              <a:ext cx="96840" cy="38160"/>
            </a:xfrm>
            <a:custGeom>
              <a:avLst/>
              <a:gdLst/>
              <a:ahLst/>
              <a:rect l="l" t="t" r="r" b="b"/>
              <a:pathLst>
                <a:path w="308" h="120">
                  <a:moveTo>
                    <a:pt x="114" y="109"/>
                  </a:moveTo>
                  <a:lnTo>
                    <a:pt x="105" y="112"/>
                  </a:lnTo>
                  <a:lnTo>
                    <a:pt x="94" y="116"/>
                  </a:lnTo>
                  <a:lnTo>
                    <a:pt x="82" y="119"/>
                  </a:lnTo>
                  <a:lnTo>
                    <a:pt x="69" y="120"/>
                  </a:lnTo>
                  <a:lnTo>
                    <a:pt x="63" y="119"/>
                  </a:lnTo>
                  <a:lnTo>
                    <a:pt x="56" y="118"/>
                  </a:lnTo>
                  <a:lnTo>
                    <a:pt x="50" y="116"/>
                  </a:lnTo>
                  <a:lnTo>
                    <a:pt x="43" y="112"/>
                  </a:lnTo>
                  <a:lnTo>
                    <a:pt x="37" y="108"/>
                  </a:lnTo>
                  <a:lnTo>
                    <a:pt x="30" y="103"/>
                  </a:lnTo>
                  <a:lnTo>
                    <a:pt x="24" y="95"/>
                  </a:lnTo>
                  <a:lnTo>
                    <a:pt x="18" y="88"/>
                  </a:lnTo>
                  <a:lnTo>
                    <a:pt x="11" y="75"/>
                  </a:lnTo>
                  <a:lnTo>
                    <a:pt x="5" y="64"/>
                  </a:lnTo>
                  <a:lnTo>
                    <a:pt x="2" y="53"/>
                  </a:lnTo>
                  <a:lnTo>
                    <a:pt x="0" y="44"/>
                  </a:lnTo>
                  <a:lnTo>
                    <a:pt x="0" y="37"/>
                  </a:lnTo>
                  <a:lnTo>
                    <a:pt x="0" y="29"/>
                  </a:lnTo>
                  <a:lnTo>
                    <a:pt x="1" y="23"/>
                  </a:lnTo>
                  <a:lnTo>
                    <a:pt x="4" y="17"/>
                  </a:lnTo>
                  <a:lnTo>
                    <a:pt x="6" y="13"/>
                  </a:lnTo>
                  <a:lnTo>
                    <a:pt x="10" y="10"/>
                  </a:lnTo>
                  <a:lnTo>
                    <a:pt x="13" y="7"/>
                  </a:lnTo>
                  <a:lnTo>
                    <a:pt x="16" y="4"/>
                  </a:lnTo>
                  <a:lnTo>
                    <a:pt x="21" y="1"/>
                  </a:lnTo>
                  <a:lnTo>
                    <a:pt x="23" y="0"/>
                  </a:lnTo>
                  <a:lnTo>
                    <a:pt x="285" y="13"/>
                  </a:lnTo>
                  <a:lnTo>
                    <a:pt x="286" y="14"/>
                  </a:lnTo>
                  <a:lnTo>
                    <a:pt x="290" y="18"/>
                  </a:lnTo>
                  <a:lnTo>
                    <a:pt x="295" y="25"/>
                  </a:lnTo>
                  <a:lnTo>
                    <a:pt x="299" y="32"/>
                  </a:lnTo>
                  <a:lnTo>
                    <a:pt x="304" y="42"/>
                  </a:lnTo>
                  <a:lnTo>
                    <a:pt x="307" y="53"/>
                  </a:lnTo>
                  <a:lnTo>
                    <a:pt x="308" y="58"/>
                  </a:lnTo>
                  <a:lnTo>
                    <a:pt x="308" y="64"/>
                  </a:lnTo>
                  <a:lnTo>
                    <a:pt x="307" y="69"/>
                  </a:lnTo>
                  <a:lnTo>
                    <a:pt x="305" y="75"/>
                  </a:lnTo>
                  <a:lnTo>
                    <a:pt x="302" y="81"/>
                  </a:lnTo>
                  <a:lnTo>
                    <a:pt x="299" y="86"/>
                  </a:lnTo>
                  <a:lnTo>
                    <a:pt x="296" y="91"/>
                  </a:lnTo>
                  <a:lnTo>
                    <a:pt x="292" y="96"/>
                  </a:lnTo>
                  <a:lnTo>
                    <a:pt x="283" y="104"/>
                  </a:lnTo>
                  <a:lnTo>
                    <a:pt x="273" y="111"/>
                  </a:lnTo>
                  <a:lnTo>
                    <a:pt x="262" y="116"/>
                  </a:lnTo>
                  <a:lnTo>
                    <a:pt x="252" y="119"/>
                  </a:lnTo>
                  <a:lnTo>
                    <a:pt x="241" y="120"/>
                  </a:lnTo>
                  <a:lnTo>
                    <a:pt x="231" y="119"/>
                  </a:lnTo>
                  <a:lnTo>
                    <a:pt x="219" y="118"/>
                  </a:lnTo>
                  <a:lnTo>
                    <a:pt x="205" y="116"/>
                  </a:lnTo>
                  <a:lnTo>
                    <a:pt x="189" y="113"/>
                  </a:lnTo>
                  <a:lnTo>
                    <a:pt x="173" y="110"/>
                  </a:lnTo>
                  <a:lnTo>
                    <a:pt x="156" y="108"/>
                  </a:lnTo>
                  <a:lnTo>
                    <a:pt x="140" y="107"/>
                  </a:lnTo>
                  <a:lnTo>
                    <a:pt x="126" y="107"/>
                  </a:lnTo>
                  <a:lnTo>
                    <a:pt x="114" y="109"/>
                  </a:lnTo>
                  <a:close/>
                </a:path>
              </a:pathLst>
            </a:custGeom>
            <a:solidFill>
              <a:srgbClr val="936f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5732280" y="2314800"/>
              <a:ext cx="86040" cy="31680"/>
            </a:xfrm>
            <a:custGeom>
              <a:avLst/>
              <a:gdLst/>
              <a:ahLst/>
              <a:rect l="l" t="t" r="r" b="b"/>
              <a:pathLst>
                <a:path w="269" h="100">
                  <a:moveTo>
                    <a:pt x="101" y="91"/>
                  </a:moveTo>
                  <a:lnTo>
                    <a:pt x="91" y="94"/>
                  </a:lnTo>
                  <a:lnTo>
                    <a:pt x="80" y="97"/>
                  </a:lnTo>
                  <a:lnTo>
                    <a:pt x="70" y="98"/>
                  </a:lnTo>
                  <a:lnTo>
                    <a:pt x="58" y="99"/>
                  </a:lnTo>
                  <a:lnTo>
                    <a:pt x="52" y="99"/>
                  </a:lnTo>
                  <a:lnTo>
                    <a:pt x="47" y="98"/>
                  </a:lnTo>
                  <a:lnTo>
                    <a:pt x="41" y="96"/>
                  </a:lnTo>
                  <a:lnTo>
                    <a:pt x="35" y="94"/>
                  </a:lnTo>
                  <a:lnTo>
                    <a:pt x="30" y="89"/>
                  </a:lnTo>
                  <a:lnTo>
                    <a:pt x="24" y="85"/>
                  </a:lnTo>
                  <a:lnTo>
                    <a:pt x="19" y="78"/>
                  </a:lnTo>
                  <a:lnTo>
                    <a:pt x="13" y="72"/>
                  </a:lnTo>
                  <a:lnTo>
                    <a:pt x="8" y="61"/>
                  </a:lnTo>
                  <a:lnTo>
                    <a:pt x="5" y="53"/>
                  </a:lnTo>
                  <a:lnTo>
                    <a:pt x="2" y="44"/>
                  </a:lnTo>
                  <a:lnTo>
                    <a:pt x="0" y="36"/>
                  </a:lnTo>
                  <a:lnTo>
                    <a:pt x="0" y="30"/>
                  </a:lnTo>
                  <a:lnTo>
                    <a:pt x="2" y="24"/>
                  </a:lnTo>
                  <a:lnTo>
                    <a:pt x="3" y="19"/>
                  </a:lnTo>
                  <a:lnTo>
                    <a:pt x="5" y="15"/>
                  </a:lnTo>
                  <a:lnTo>
                    <a:pt x="10" y="7"/>
                  </a:lnTo>
                  <a:lnTo>
                    <a:pt x="16" y="3"/>
                  </a:lnTo>
                  <a:lnTo>
                    <a:pt x="20" y="1"/>
                  </a:lnTo>
                  <a:lnTo>
                    <a:pt x="21" y="0"/>
                  </a:lnTo>
                  <a:lnTo>
                    <a:pt x="253" y="9"/>
                  </a:lnTo>
                  <a:lnTo>
                    <a:pt x="254" y="10"/>
                  </a:lnTo>
                  <a:lnTo>
                    <a:pt x="258" y="14"/>
                  </a:lnTo>
                  <a:lnTo>
                    <a:pt x="261" y="19"/>
                  </a:lnTo>
                  <a:lnTo>
                    <a:pt x="264" y="26"/>
                  </a:lnTo>
                  <a:lnTo>
                    <a:pt x="267" y="33"/>
                  </a:lnTo>
                  <a:lnTo>
                    <a:pt x="269" y="42"/>
                  </a:lnTo>
                  <a:lnTo>
                    <a:pt x="269" y="47"/>
                  </a:lnTo>
                  <a:lnTo>
                    <a:pt x="269" y="51"/>
                  </a:lnTo>
                  <a:lnTo>
                    <a:pt x="268" y="57"/>
                  </a:lnTo>
                  <a:lnTo>
                    <a:pt x="266" y="61"/>
                  </a:lnTo>
                  <a:lnTo>
                    <a:pt x="262" y="71"/>
                  </a:lnTo>
                  <a:lnTo>
                    <a:pt x="255" y="80"/>
                  </a:lnTo>
                  <a:lnTo>
                    <a:pt x="249" y="87"/>
                  </a:lnTo>
                  <a:lnTo>
                    <a:pt x="240" y="92"/>
                  </a:lnTo>
                  <a:lnTo>
                    <a:pt x="232" y="97"/>
                  </a:lnTo>
                  <a:lnTo>
                    <a:pt x="223" y="99"/>
                  </a:lnTo>
                  <a:lnTo>
                    <a:pt x="213" y="100"/>
                  </a:lnTo>
                  <a:lnTo>
                    <a:pt x="205" y="99"/>
                  </a:lnTo>
                  <a:lnTo>
                    <a:pt x="194" y="98"/>
                  </a:lnTo>
                  <a:lnTo>
                    <a:pt x="181" y="96"/>
                  </a:lnTo>
                  <a:lnTo>
                    <a:pt x="167" y="94"/>
                  </a:lnTo>
                  <a:lnTo>
                    <a:pt x="152" y="91"/>
                  </a:lnTo>
                  <a:lnTo>
                    <a:pt x="137" y="90"/>
                  </a:lnTo>
                  <a:lnTo>
                    <a:pt x="123" y="89"/>
                  </a:lnTo>
                  <a:lnTo>
                    <a:pt x="111" y="89"/>
                  </a:lnTo>
                  <a:lnTo>
                    <a:pt x="101" y="91"/>
                  </a:lnTo>
                  <a:close/>
                </a:path>
              </a:pathLst>
            </a:custGeom>
            <a:solidFill>
              <a:srgbClr val="8a66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5738760" y="2316240"/>
              <a:ext cx="74520" cy="27000"/>
            </a:xfrm>
            <a:custGeom>
              <a:avLst/>
              <a:gdLst/>
              <a:ahLst/>
              <a:rect l="l" t="t" r="r" b="b"/>
              <a:pathLst>
                <a:path w="232" h="82">
                  <a:moveTo>
                    <a:pt x="83" y="75"/>
                  </a:moveTo>
                  <a:lnTo>
                    <a:pt x="74" y="77"/>
                  </a:lnTo>
                  <a:lnTo>
                    <a:pt x="65" y="79"/>
                  </a:lnTo>
                  <a:lnTo>
                    <a:pt x="56" y="81"/>
                  </a:lnTo>
                  <a:lnTo>
                    <a:pt x="46" y="82"/>
                  </a:lnTo>
                  <a:lnTo>
                    <a:pt x="41" y="82"/>
                  </a:lnTo>
                  <a:lnTo>
                    <a:pt x="37" y="81"/>
                  </a:lnTo>
                  <a:lnTo>
                    <a:pt x="32" y="80"/>
                  </a:lnTo>
                  <a:lnTo>
                    <a:pt x="28" y="78"/>
                  </a:lnTo>
                  <a:lnTo>
                    <a:pt x="24" y="75"/>
                  </a:lnTo>
                  <a:lnTo>
                    <a:pt x="19" y="70"/>
                  </a:lnTo>
                  <a:lnTo>
                    <a:pt x="15" y="66"/>
                  </a:lnTo>
                  <a:lnTo>
                    <a:pt x="11" y="59"/>
                  </a:lnTo>
                  <a:lnTo>
                    <a:pt x="6" y="52"/>
                  </a:lnTo>
                  <a:lnTo>
                    <a:pt x="3" y="44"/>
                  </a:lnTo>
                  <a:lnTo>
                    <a:pt x="2" y="38"/>
                  </a:lnTo>
                  <a:lnTo>
                    <a:pt x="1" y="32"/>
                  </a:lnTo>
                  <a:lnTo>
                    <a:pt x="0" y="27"/>
                  </a:lnTo>
                  <a:lnTo>
                    <a:pt x="1" y="22"/>
                  </a:lnTo>
                  <a:lnTo>
                    <a:pt x="2" y="17"/>
                  </a:lnTo>
                  <a:lnTo>
                    <a:pt x="3" y="14"/>
                  </a:lnTo>
                  <a:lnTo>
                    <a:pt x="7" y="8"/>
                  </a:lnTo>
                  <a:lnTo>
                    <a:pt x="12" y="3"/>
                  </a:lnTo>
                  <a:lnTo>
                    <a:pt x="15" y="1"/>
                  </a:lnTo>
                  <a:lnTo>
                    <a:pt x="16" y="0"/>
                  </a:lnTo>
                  <a:lnTo>
                    <a:pt x="221" y="8"/>
                  </a:lnTo>
                  <a:lnTo>
                    <a:pt x="222" y="9"/>
                  </a:lnTo>
                  <a:lnTo>
                    <a:pt x="223" y="11"/>
                  </a:lnTo>
                  <a:lnTo>
                    <a:pt x="227" y="15"/>
                  </a:lnTo>
                  <a:lnTo>
                    <a:pt x="229" y="22"/>
                  </a:lnTo>
                  <a:lnTo>
                    <a:pt x="231" y="28"/>
                  </a:lnTo>
                  <a:lnTo>
                    <a:pt x="232" y="36"/>
                  </a:lnTo>
                  <a:lnTo>
                    <a:pt x="231" y="43"/>
                  </a:lnTo>
                  <a:lnTo>
                    <a:pt x="229" y="52"/>
                  </a:lnTo>
                  <a:lnTo>
                    <a:pt x="225" y="59"/>
                  </a:lnTo>
                  <a:lnTo>
                    <a:pt x="219" y="66"/>
                  </a:lnTo>
                  <a:lnTo>
                    <a:pt x="214" y="71"/>
                  </a:lnTo>
                  <a:lnTo>
                    <a:pt x="207" y="76"/>
                  </a:lnTo>
                  <a:lnTo>
                    <a:pt x="201" y="79"/>
                  </a:lnTo>
                  <a:lnTo>
                    <a:pt x="193" y="81"/>
                  </a:lnTo>
                  <a:lnTo>
                    <a:pt x="185" y="82"/>
                  </a:lnTo>
                  <a:lnTo>
                    <a:pt x="177" y="81"/>
                  </a:lnTo>
                  <a:lnTo>
                    <a:pt x="167" y="80"/>
                  </a:lnTo>
                  <a:lnTo>
                    <a:pt x="155" y="79"/>
                  </a:lnTo>
                  <a:lnTo>
                    <a:pt x="144" y="77"/>
                  </a:lnTo>
                  <a:lnTo>
                    <a:pt x="130" y="75"/>
                  </a:lnTo>
                  <a:lnTo>
                    <a:pt x="117" y="73"/>
                  </a:lnTo>
                  <a:lnTo>
                    <a:pt x="104" y="72"/>
                  </a:lnTo>
                  <a:lnTo>
                    <a:pt x="93" y="72"/>
                  </a:lnTo>
                  <a:lnTo>
                    <a:pt x="83" y="75"/>
                  </a:lnTo>
                  <a:close/>
                </a:path>
              </a:pathLst>
            </a:custGeom>
            <a:solidFill>
              <a:srgbClr val="805d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5745240" y="2319480"/>
              <a:ext cx="61920" cy="19080"/>
            </a:xfrm>
            <a:custGeom>
              <a:avLst/>
              <a:gdLst/>
              <a:ahLst/>
              <a:rect l="l" t="t" r="r" b="b"/>
              <a:pathLst>
                <a:path w="195" h="62">
                  <a:moveTo>
                    <a:pt x="192" y="4"/>
                  </a:moveTo>
                  <a:lnTo>
                    <a:pt x="192" y="5"/>
                  </a:lnTo>
                  <a:lnTo>
                    <a:pt x="193" y="7"/>
                  </a:lnTo>
                  <a:lnTo>
                    <a:pt x="194" y="10"/>
                  </a:lnTo>
                  <a:lnTo>
                    <a:pt x="194" y="15"/>
                  </a:lnTo>
                  <a:lnTo>
                    <a:pt x="195" y="20"/>
                  </a:lnTo>
                  <a:lnTo>
                    <a:pt x="195" y="25"/>
                  </a:lnTo>
                  <a:lnTo>
                    <a:pt x="194" y="31"/>
                  </a:lnTo>
                  <a:lnTo>
                    <a:pt x="192" y="36"/>
                  </a:lnTo>
                  <a:lnTo>
                    <a:pt x="187" y="43"/>
                  </a:lnTo>
                  <a:lnTo>
                    <a:pt x="183" y="48"/>
                  </a:lnTo>
                  <a:lnTo>
                    <a:pt x="179" y="52"/>
                  </a:lnTo>
                  <a:lnTo>
                    <a:pt x="174" y="56"/>
                  </a:lnTo>
                  <a:lnTo>
                    <a:pt x="169" y="59"/>
                  </a:lnTo>
                  <a:lnTo>
                    <a:pt x="162" y="61"/>
                  </a:lnTo>
                  <a:lnTo>
                    <a:pt x="156" y="61"/>
                  </a:lnTo>
                  <a:lnTo>
                    <a:pt x="149" y="61"/>
                  </a:lnTo>
                  <a:lnTo>
                    <a:pt x="142" y="60"/>
                  </a:lnTo>
                  <a:lnTo>
                    <a:pt x="132" y="59"/>
                  </a:lnTo>
                  <a:lnTo>
                    <a:pt x="120" y="57"/>
                  </a:lnTo>
                  <a:lnTo>
                    <a:pt x="108" y="56"/>
                  </a:lnTo>
                  <a:lnTo>
                    <a:pt x="97" y="55"/>
                  </a:lnTo>
                  <a:lnTo>
                    <a:pt x="86" y="55"/>
                  </a:lnTo>
                  <a:lnTo>
                    <a:pt x="76" y="55"/>
                  </a:lnTo>
                  <a:lnTo>
                    <a:pt x="67" y="56"/>
                  </a:lnTo>
                  <a:lnTo>
                    <a:pt x="60" y="58"/>
                  </a:lnTo>
                  <a:lnTo>
                    <a:pt x="52" y="59"/>
                  </a:lnTo>
                  <a:lnTo>
                    <a:pt x="44" y="61"/>
                  </a:lnTo>
                  <a:lnTo>
                    <a:pt x="35" y="62"/>
                  </a:lnTo>
                  <a:lnTo>
                    <a:pt x="27" y="62"/>
                  </a:lnTo>
                  <a:lnTo>
                    <a:pt x="19" y="60"/>
                  </a:lnTo>
                  <a:lnTo>
                    <a:pt x="16" y="58"/>
                  </a:lnTo>
                  <a:lnTo>
                    <a:pt x="12" y="55"/>
                  </a:lnTo>
                  <a:lnTo>
                    <a:pt x="9" y="50"/>
                  </a:lnTo>
                  <a:lnTo>
                    <a:pt x="6" y="46"/>
                  </a:lnTo>
                  <a:lnTo>
                    <a:pt x="4" y="41"/>
                  </a:lnTo>
                  <a:lnTo>
                    <a:pt x="1" y="35"/>
                  </a:lnTo>
                  <a:lnTo>
                    <a:pt x="0" y="31"/>
                  </a:lnTo>
                  <a:lnTo>
                    <a:pt x="0" y="27"/>
                  </a:lnTo>
                  <a:lnTo>
                    <a:pt x="0" y="18"/>
                  </a:lnTo>
                  <a:lnTo>
                    <a:pt x="4" y="11"/>
                  </a:lnTo>
                  <a:lnTo>
                    <a:pt x="7" y="6"/>
                  </a:lnTo>
                  <a:lnTo>
                    <a:pt x="10" y="3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92" y="4"/>
                  </a:lnTo>
                  <a:close/>
                </a:path>
              </a:pathLst>
            </a:custGeom>
            <a:solidFill>
              <a:srgbClr val="7656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5727600" y="2301840"/>
              <a:ext cx="112680" cy="31680"/>
            </a:xfrm>
            <a:custGeom>
              <a:avLst/>
              <a:gdLst/>
              <a:ahLst/>
              <a:rect l="l" t="t" r="r" b="b"/>
              <a:pathLst>
                <a:path w="358" h="99">
                  <a:moveTo>
                    <a:pt x="351" y="10"/>
                  </a:moveTo>
                  <a:lnTo>
                    <a:pt x="346" y="9"/>
                  </a:lnTo>
                  <a:lnTo>
                    <a:pt x="332" y="8"/>
                  </a:lnTo>
                  <a:lnTo>
                    <a:pt x="312" y="6"/>
                  </a:lnTo>
                  <a:lnTo>
                    <a:pt x="289" y="4"/>
                  </a:lnTo>
                  <a:lnTo>
                    <a:pt x="264" y="2"/>
                  </a:lnTo>
                  <a:lnTo>
                    <a:pt x="240" y="0"/>
                  </a:lnTo>
                  <a:lnTo>
                    <a:pt x="220" y="0"/>
                  </a:lnTo>
                  <a:lnTo>
                    <a:pt x="207" y="1"/>
                  </a:lnTo>
                  <a:lnTo>
                    <a:pt x="200" y="2"/>
                  </a:lnTo>
                  <a:lnTo>
                    <a:pt x="192" y="3"/>
                  </a:lnTo>
                  <a:lnTo>
                    <a:pt x="184" y="3"/>
                  </a:lnTo>
                  <a:lnTo>
                    <a:pt x="173" y="3"/>
                  </a:lnTo>
                  <a:lnTo>
                    <a:pt x="162" y="3"/>
                  </a:lnTo>
                  <a:lnTo>
                    <a:pt x="148" y="2"/>
                  </a:lnTo>
                  <a:lnTo>
                    <a:pt x="132" y="2"/>
                  </a:lnTo>
                  <a:lnTo>
                    <a:pt x="113" y="1"/>
                  </a:lnTo>
                  <a:lnTo>
                    <a:pt x="105" y="1"/>
                  </a:lnTo>
                  <a:lnTo>
                    <a:pt x="96" y="1"/>
                  </a:lnTo>
                  <a:lnTo>
                    <a:pt x="88" y="2"/>
                  </a:lnTo>
                  <a:lnTo>
                    <a:pt x="80" y="4"/>
                  </a:lnTo>
                  <a:lnTo>
                    <a:pt x="66" y="7"/>
                  </a:lnTo>
                  <a:lnTo>
                    <a:pt x="54" y="13"/>
                  </a:lnTo>
                  <a:lnTo>
                    <a:pt x="43" y="17"/>
                  </a:lnTo>
                  <a:lnTo>
                    <a:pt x="35" y="21"/>
                  </a:lnTo>
                  <a:lnTo>
                    <a:pt x="30" y="22"/>
                  </a:lnTo>
                  <a:lnTo>
                    <a:pt x="27" y="23"/>
                  </a:lnTo>
                  <a:lnTo>
                    <a:pt x="25" y="23"/>
                  </a:lnTo>
                  <a:lnTo>
                    <a:pt x="22" y="22"/>
                  </a:lnTo>
                  <a:lnTo>
                    <a:pt x="17" y="20"/>
                  </a:lnTo>
                  <a:lnTo>
                    <a:pt x="13" y="17"/>
                  </a:lnTo>
                  <a:lnTo>
                    <a:pt x="10" y="15"/>
                  </a:lnTo>
                  <a:lnTo>
                    <a:pt x="7" y="13"/>
                  </a:lnTo>
                  <a:lnTo>
                    <a:pt x="3" y="12"/>
                  </a:lnTo>
                  <a:lnTo>
                    <a:pt x="1" y="13"/>
                  </a:lnTo>
                  <a:lnTo>
                    <a:pt x="0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3" y="32"/>
                  </a:lnTo>
                  <a:lnTo>
                    <a:pt x="7" y="37"/>
                  </a:lnTo>
                  <a:lnTo>
                    <a:pt x="11" y="43"/>
                  </a:lnTo>
                  <a:lnTo>
                    <a:pt x="24" y="54"/>
                  </a:lnTo>
                  <a:lnTo>
                    <a:pt x="41" y="66"/>
                  </a:lnTo>
                  <a:lnTo>
                    <a:pt x="59" y="76"/>
                  </a:lnTo>
                  <a:lnTo>
                    <a:pt x="80" y="85"/>
                  </a:lnTo>
                  <a:lnTo>
                    <a:pt x="91" y="89"/>
                  </a:lnTo>
                  <a:lnTo>
                    <a:pt x="101" y="93"/>
                  </a:lnTo>
                  <a:lnTo>
                    <a:pt x="111" y="95"/>
                  </a:lnTo>
                  <a:lnTo>
                    <a:pt x="121" y="97"/>
                  </a:lnTo>
                  <a:lnTo>
                    <a:pt x="142" y="99"/>
                  </a:lnTo>
                  <a:lnTo>
                    <a:pt x="162" y="99"/>
                  </a:lnTo>
                  <a:lnTo>
                    <a:pt x="182" y="98"/>
                  </a:lnTo>
                  <a:lnTo>
                    <a:pt x="201" y="95"/>
                  </a:lnTo>
                  <a:lnTo>
                    <a:pt x="219" y="90"/>
                  </a:lnTo>
                  <a:lnTo>
                    <a:pt x="237" y="84"/>
                  </a:lnTo>
                  <a:lnTo>
                    <a:pt x="245" y="81"/>
                  </a:lnTo>
                  <a:lnTo>
                    <a:pt x="253" y="76"/>
                  </a:lnTo>
                  <a:lnTo>
                    <a:pt x="260" y="72"/>
                  </a:lnTo>
                  <a:lnTo>
                    <a:pt x="267" y="67"/>
                  </a:lnTo>
                  <a:lnTo>
                    <a:pt x="282" y="55"/>
                  </a:lnTo>
                  <a:lnTo>
                    <a:pt x="299" y="42"/>
                  </a:lnTo>
                  <a:lnTo>
                    <a:pt x="317" y="30"/>
                  </a:lnTo>
                  <a:lnTo>
                    <a:pt x="334" y="18"/>
                  </a:lnTo>
                  <a:lnTo>
                    <a:pt x="348" y="9"/>
                  </a:lnTo>
                  <a:lnTo>
                    <a:pt x="357" y="5"/>
                  </a:lnTo>
                  <a:lnTo>
                    <a:pt x="358" y="4"/>
                  </a:lnTo>
                  <a:lnTo>
                    <a:pt x="358" y="4"/>
                  </a:lnTo>
                  <a:lnTo>
                    <a:pt x="355" y="6"/>
                  </a:lnTo>
                  <a:lnTo>
                    <a:pt x="351" y="10"/>
                  </a:lnTo>
                  <a:close/>
                </a:path>
              </a:pathLst>
            </a:custGeom>
            <a:solidFill>
              <a:srgbClr val="b98c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5726160" y="2284560"/>
              <a:ext cx="114120" cy="25200"/>
            </a:xfrm>
            <a:custGeom>
              <a:avLst/>
              <a:gdLst/>
              <a:ahLst/>
              <a:rect l="l" t="t" r="r" b="b"/>
              <a:pathLst>
                <a:path w="357" h="82">
                  <a:moveTo>
                    <a:pt x="350" y="73"/>
                  </a:moveTo>
                  <a:lnTo>
                    <a:pt x="346" y="74"/>
                  </a:lnTo>
                  <a:lnTo>
                    <a:pt x="337" y="74"/>
                  </a:lnTo>
                  <a:lnTo>
                    <a:pt x="326" y="74"/>
                  </a:lnTo>
                  <a:lnTo>
                    <a:pt x="313" y="73"/>
                  </a:lnTo>
                  <a:lnTo>
                    <a:pt x="299" y="72"/>
                  </a:lnTo>
                  <a:lnTo>
                    <a:pt x="287" y="71"/>
                  </a:lnTo>
                  <a:lnTo>
                    <a:pt x="278" y="70"/>
                  </a:lnTo>
                  <a:lnTo>
                    <a:pt x="271" y="68"/>
                  </a:lnTo>
                  <a:lnTo>
                    <a:pt x="269" y="68"/>
                  </a:lnTo>
                  <a:lnTo>
                    <a:pt x="261" y="67"/>
                  </a:lnTo>
                  <a:lnTo>
                    <a:pt x="249" y="66"/>
                  </a:lnTo>
                  <a:lnTo>
                    <a:pt x="235" y="66"/>
                  </a:lnTo>
                  <a:lnTo>
                    <a:pt x="219" y="65"/>
                  </a:lnTo>
                  <a:lnTo>
                    <a:pt x="201" y="64"/>
                  </a:lnTo>
                  <a:lnTo>
                    <a:pt x="182" y="63"/>
                  </a:lnTo>
                  <a:lnTo>
                    <a:pt x="165" y="63"/>
                  </a:lnTo>
                  <a:lnTo>
                    <a:pt x="146" y="64"/>
                  </a:lnTo>
                  <a:lnTo>
                    <a:pt x="125" y="65"/>
                  </a:lnTo>
                  <a:lnTo>
                    <a:pt x="104" y="67"/>
                  </a:lnTo>
                  <a:lnTo>
                    <a:pt x="83" y="70"/>
                  </a:lnTo>
                  <a:lnTo>
                    <a:pt x="65" y="73"/>
                  </a:lnTo>
                  <a:lnTo>
                    <a:pt x="49" y="75"/>
                  </a:lnTo>
                  <a:lnTo>
                    <a:pt x="38" y="77"/>
                  </a:lnTo>
                  <a:lnTo>
                    <a:pt x="31" y="78"/>
                  </a:lnTo>
                  <a:lnTo>
                    <a:pt x="30" y="79"/>
                  </a:lnTo>
                  <a:lnTo>
                    <a:pt x="27" y="80"/>
                  </a:lnTo>
                  <a:lnTo>
                    <a:pt x="24" y="81"/>
                  </a:lnTo>
                  <a:lnTo>
                    <a:pt x="19" y="82"/>
                  </a:lnTo>
                  <a:lnTo>
                    <a:pt x="15" y="82"/>
                  </a:lnTo>
                  <a:lnTo>
                    <a:pt x="11" y="82"/>
                  </a:lnTo>
                  <a:lnTo>
                    <a:pt x="7" y="82"/>
                  </a:lnTo>
                  <a:lnTo>
                    <a:pt x="4" y="80"/>
                  </a:lnTo>
                  <a:lnTo>
                    <a:pt x="1" y="79"/>
                  </a:lnTo>
                  <a:lnTo>
                    <a:pt x="0" y="77"/>
                  </a:lnTo>
                  <a:lnTo>
                    <a:pt x="0" y="75"/>
                  </a:lnTo>
                  <a:lnTo>
                    <a:pt x="1" y="73"/>
                  </a:lnTo>
                  <a:lnTo>
                    <a:pt x="2" y="71"/>
                  </a:lnTo>
                  <a:lnTo>
                    <a:pt x="4" y="67"/>
                  </a:lnTo>
                  <a:lnTo>
                    <a:pt x="5" y="65"/>
                  </a:lnTo>
                  <a:lnTo>
                    <a:pt x="6" y="63"/>
                  </a:lnTo>
                  <a:lnTo>
                    <a:pt x="10" y="60"/>
                  </a:lnTo>
                  <a:lnTo>
                    <a:pt x="15" y="57"/>
                  </a:lnTo>
                  <a:lnTo>
                    <a:pt x="23" y="52"/>
                  </a:lnTo>
                  <a:lnTo>
                    <a:pt x="31" y="49"/>
                  </a:lnTo>
                  <a:lnTo>
                    <a:pt x="41" y="46"/>
                  </a:lnTo>
                  <a:lnTo>
                    <a:pt x="51" y="41"/>
                  </a:lnTo>
                  <a:lnTo>
                    <a:pt x="60" y="36"/>
                  </a:lnTo>
                  <a:lnTo>
                    <a:pt x="68" y="31"/>
                  </a:lnTo>
                  <a:lnTo>
                    <a:pt x="76" y="26"/>
                  </a:lnTo>
                  <a:lnTo>
                    <a:pt x="83" y="22"/>
                  </a:lnTo>
                  <a:lnTo>
                    <a:pt x="90" y="17"/>
                  </a:lnTo>
                  <a:lnTo>
                    <a:pt x="96" y="12"/>
                  </a:lnTo>
                  <a:lnTo>
                    <a:pt x="104" y="9"/>
                  </a:lnTo>
                  <a:lnTo>
                    <a:pt x="111" y="6"/>
                  </a:lnTo>
                  <a:lnTo>
                    <a:pt x="119" y="3"/>
                  </a:lnTo>
                  <a:lnTo>
                    <a:pt x="127" y="1"/>
                  </a:lnTo>
                  <a:lnTo>
                    <a:pt x="136" y="0"/>
                  </a:lnTo>
                  <a:lnTo>
                    <a:pt x="145" y="0"/>
                  </a:lnTo>
                  <a:lnTo>
                    <a:pt x="154" y="0"/>
                  </a:lnTo>
                  <a:lnTo>
                    <a:pt x="163" y="0"/>
                  </a:lnTo>
                  <a:lnTo>
                    <a:pt x="173" y="0"/>
                  </a:lnTo>
                  <a:lnTo>
                    <a:pt x="184" y="1"/>
                  </a:lnTo>
                  <a:lnTo>
                    <a:pt x="193" y="1"/>
                  </a:lnTo>
                  <a:lnTo>
                    <a:pt x="204" y="1"/>
                  </a:lnTo>
                  <a:lnTo>
                    <a:pt x="216" y="1"/>
                  </a:lnTo>
                  <a:lnTo>
                    <a:pt x="228" y="3"/>
                  </a:lnTo>
                  <a:lnTo>
                    <a:pt x="239" y="4"/>
                  </a:lnTo>
                  <a:lnTo>
                    <a:pt x="251" y="7"/>
                  </a:lnTo>
                  <a:lnTo>
                    <a:pt x="262" y="10"/>
                  </a:lnTo>
                  <a:lnTo>
                    <a:pt x="273" y="14"/>
                  </a:lnTo>
                  <a:lnTo>
                    <a:pt x="284" y="20"/>
                  </a:lnTo>
                  <a:lnTo>
                    <a:pt x="294" y="26"/>
                  </a:lnTo>
                  <a:lnTo>
                    <a:pt x="302" y="33"/>
                  </a:lnTo>
                  <a:lnTo>
                    <a:pt x="315" y="39"/>
                  </a:lnTo>
                  <a:lnTo>
                    <a:pt x="328" y="45"/>
                  </a:lnTo>
                  <a:lnTo>
                    <a:pt x="340" y="51"/>
                  </a:lnTo>
                  <a:lnTo>
                    <a:pt x="346" y="53"/>
                  </a:lnTo>
                  <a:lnTo>
                    <a:pt x="351" y="57"/>
                  </a:lnTo>
                  <a:lnTo>
                    <a:pt x="354" y="59"/>
                  </a:lnTo>
                  <a:lnTo>
                    <a:pt x="356" y="62"/>
                  </a:lnTo>
                  <a:lnTo>
                    <a:pt x="357" y="65"/>
                  </a:lnTo>
                  <a:lnTo>
                    <a:pt x="357" y="67"/>
                  </a:lnTo>
                  <a:lnTo>
                    <a:pt x="355" y="71"/>
                  </a:lnTo>
                  <a:lnTo>
                    <a:pt x="350" y="73"/>
                  </a:lnTo>
                  <a:close/>
                </a:path>
              </a:pathLst>
            </a:custGeom>
            <a:solidFill>
              <a:srgbClr val="7c5b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5621400" y="2130480"/>
              <a:ext cx="60120" cy="65160"/>
            </a:xfrm>
            <a:custGeom>
              <a:avLst/>
              <a:gdLst/>
              <a:ahLst/>
              <a:rect l="l" t="t" r="r" b="b"/>
              <a:pathLst>
                <a:path w="186" h="203">
                  <a:moveTo>
                    <a:pt x="158" y="141"/>
                  </a:moveTo>
                  <a:lnTo>
                    <a:pt x="156" y="140"/>
                  </a:lnTo>
                  <a:lnTo>
                    <a:pt x="147" y="136"/>
                  </a:lnTo>
                  <a:lnTo>
                    <a:pt x="137" y="128"/>
                  </a:lnTo>
                  <a:lnTo>
                    <a:pt x="122" y="119"/>
                  </a:lnTo>
                  <a:lnTo>
                    <a:pt x="116" y="113"/>
                  </a:lnTo>
                  <a:lnTo>
                    <a:pt x="108" y="106"/>
                  </a:lnTo>
                  <a:lnTo>
                    <a:pt x="102" y="100"/>
                  </a:lnTo>
                  <a:lnTo>
                    <a:pt x="97" y="92"/>
                  </a:lnTo>
                  <a:lnTo>
                    <a:pt x="90" y="84"/>
                  </a:lnTo>
                  <a:lnTo>
                    <a:pt x="86" y="74"/>
                  </a:lnTo>
                  <a:lnTo>
                    <a:pt x="83" y="64"/>
                  </a:lnTo>
                  <a:lnTo>
                    <a:pt x="79" y="55"/>
                  </a:lnTo>
                  <a:lnTo>
                    <a:pt x="77" y="44"/>
                  </a:lnTo>
                  <a:lnTo>
                    <a:pt x="73" y="34"/>
                  </a:lnTo>
                  <a:lnTo>
                    <a:pt x="68" y="24"/>
                  </a:lnTo>
                  <a:lnTo>
                    <a:pt x="63" y="17"/>
                  </a:lnTo>
                  <a:lnTo>
                    <a:pt x="57" y="10"/>
                  </a:lnTo>
                  <a:lnTo>
                    <a:pt x="49" y="5"/>
                  </a:lnTo>
                  <a:lnTo>
                    <a:pt x="43" y="2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2" y="2"/>
                  </a:lnTo>
                  <a:lnTo>
                    <a:pt x="19" y="4"/>
                  </a:lnTo>
                  <a:lnTo>
                    <a:pt x="16" y="6"/>
                  </a:lnTo>
                  <a:lnTo>
                    <a:pt x="13" y="9"/>
                  </a:lnTo>
                  <a:lnTo>
                    <a:pt x="10" y="13"/>
                  </a:lnTo>
                  <a:lnTo>
                    <a:pt x="6" y="21"/>
                  </a:lnTo>
                  <a:lnTo>
                    <a:pt x="3" y="33"/>
                  </a:lnTo>
                  <a:lnTo>
                    <a:pt x="0" y="47"/>
                  </a:lnTo>
                  <a:lnTo>
                    <a:pt x="0" y="64"/>
                  </a:lnTo>
                  <a:lnTo>
                    <a:pt x="2" y="76"/>
                  </a:lnTo>
                  <a:lnTo>
                    <a:pt x="4" y="91"/>
                  </a:lnTo>
                  <a:lnTo>
                    <a:pt x="9" y="109"/>
                  </a:lnTo>
                  <a:lnTo>
                    <a:pt x="16" y="126"/>
                  </a:lnTo>
                  <a:lnTo>
                    <a:pt x="20" y="136"/>
                  </a:lnTo>
                  <a:lnTo>
                    <a:pt x="24" y="144"/>
                  </a:lnTo>
                  <a:lnTo>
                    <a:pt x="30" y="153"/>
                  </a:lnTo>
                  <a:lnTo>
                    <a:pt x="35" y="160"/>
                  </a:lnTo>
                  <a:lnTo>
                    <a:pt x="40" y="169"/>
                  </a:lnTo>
                  <a:lnTo>
                    <a:pt x="48" y="176"/>
                  </a:lnTo>
                  <a:lnTo>
                    <a:pt x="54" y="182"/>
                  </a:lnTo>
                  <a:lnTo>
                    <a:pt x="62" y="187"/>
                  </a:lnTo>
                  <a:lnTo>
                    <a:pt x="71" y="192"/>
                  </a:lnTo>
                  <a:lnTo>
                    <a:pt x="78" y="195"/>
                  </a:lnTo>
                  <a:lnTo>
                    <a:pt x="87" y="198"/>
                  </a:lnTo>
                  <a:lnTo>
                    <a:pt x="95" y="200"/>
                  </a:lnTo>
                  <a:lnTo>
                    <a:pt x="113" y="203"/>
                  </a:lnTo>
                  <a:lnTo>
                    <a:pt x="129" y="203"/>
                  </a:lnTo>
                  <a:lnTo>
                    <a:pt x="144" y="202"/>
                  </a:lnTo>
                  <a:lnTo>
                    <a:pt x="158" y="198"/>
                  </a:lnTo>
                  <a:lnTo>
                    <a:pt x="170" y="196"/>
                  </a:lnTo>
                  <a:lnTo>
                    <a:pt x="179" y="193"/>
                  </a:lnTo>
                  <a:lnTo>
                    <a:pt x="182" y="192"/>
                  </a:lnTo>
                  <a:lnTo>
                    <a:pt x="184" y="190"/>
                  </a:lnTo>
                  <a:lnTo>
                    <a:pt x="185" y="187"/>
                  </a:lnTo>
                  <a:lnTo>
                    <a:pt x="186" y="184"/>
                  </a:lnTo>
                  <a:lnTo>
                    <a:pt x="186" y="178"/>
                  </a:lnTo>
                  <a:lnTo>
                    <a:pt x="183" y="169"/>
                  </a:lnTo>
                  <a:lnTo>
                    <a:pt x="179" y="162"/>
                  </a:lnTo>
                  <a:lnTo>
                    <a:pt x="173" y="154"/>
                  </a:lnTo>
                  <a:lnTo>
                    <a:pt x="166" y="146"/>
                  </a:lnTo>
                  <a:lnTo>
                    <a:pt x="158" y="141"/>
                  </a:lnTo>
                  <a:close/>
                </a:path>
              </a:pathLst>
            </a:custGeom>
            <a:solidFill>
              <a:srgbClr val="9a76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5626080" y="2138400"/>
              <a:ext cx="49320" cy="52560"/>
            </a:xfrm>
            <a:custGeom>
              <a:avLst/>
              <a:gdLst/>
              <a:ahLst/>
              <a:rect l="l" t="t" r="r" b="b"/>
              <a:pathLst>
                <a:path w="155" h="166">
                  <a:moveTo>
                    <a:pt x="0" y="50"/>
                  </a:moveTo>
                  <a:lnTo>
                    <a:pt x="1" y="37"/>
                  </a:lnTo>
                  <a:lnTo>
                    <a:pt x="2" y="26"/>
                  </a:lnTo>
                  <a:lnTo>
                    <a:pt x="5" y="18"/>
                  </a:lnTo>
                  <a:lnTo>
                    <a:pt x="9" y="11"/>
                  </a:lnTo>
                  <a:lnTo>
                    <a:pt x="13" y="6"/>
                  </a:lnTo>
                  <a:lnTo>
                    <a:pt x="18" y="3"/>
                  </a:lnTo>
                  <a:lnTo>
                    <a:pt x="23" y="0"/>
                  </a:lnTo>
                  <a:lnTo>
                    <a:pt x="29" y="0"/>
                  </a:lnTo>
                  <a:lnTo>
                    <a:pt x="35" y="1"/>
                  </a:lnTo>
                  <a:lnTo>
                    <a:pt x="41" y="4"/>
                  </a:lnTo>
                  <a:lnTo>
                    <a:pt x="47" y="8"/>
                  </a:lnTo>
                  <a:lnTo>
                    <a:pt x="51" y="12"/>
                  </a:lnTo>
                  <a:lnTo>
                    <a:pt x="56" y="19"/>
                  </a:lnTo>
                  <a:lnTo>
                    <a:pt x="60" y="26"/>
                  </a:lnTo>
                  <a:lnTo>
                    <a:pt x="63" y="34"/>
                  </a:lnTo>
                  <a:lnTo>
                    <a:pt x="65" y="43"/>
                  </a:lnTo>
                  <a:lnTo>
                    <a:pt x="67" y="51"/>
                  </a:lnTo>
                  <a:lnTo>
                    <a:pt x="71" y="60"/>
                  </a:lnTo>
                  <a:lnTo>
                    <a:pt x="75" y="67"/>
                  </a:lnTo>
                  <a:lnTo>
                    <a:pt x="79" y="74"/>
                  </a:lnTo>
                  <a:lnTo>
                    <a:pt x="91" y="86"/>
                  </a:lnTo>
                  <a:lnTo>
                    <a:pt x="102" y="97"/>
                  </a:lnTo>
                  <a:lnTo>
                    <a:pt x="114" y="104"/>
                  </a:lnTo>
                  <a:lnTo>
                    <a:pt x="122" y="109"/>
                  </a:lnTo>
                  <a:lnTo>
                    <a:pt x="129" y="114"/>
                  </a:lnTo>
                  <a:lnTo>
                    <a:pt x="132" y="115"/>
                  </a:lnTo>
                  <a:lnTo>
                    <a:pt x="139" y="119"/>
                  </a:lnTo>
                  <a:lnTo>
                    <a:pt x="144" y="125"/>
                  </a:lnTo>
                  <a:lnTo>
                    <a:pt x="148" y="131"/>
                  </a:lnTo>
                  <a:lnTo>
                    <a:pt x="153" y="138"/>
                  </a:lnTo>
                  <a:lnTo>
                    <a:pt x="155" y="144"/>
                  </a:lnTo>
                  <a:lnTo>
                    <a:pt x="155" y="149"/>
                  </a:lnTo>
                  <a:lnTo>
                    <a:pt x="155" y="152"/>
                  </a:lnTo>
                  <a:lnTo>
                    <a:pt x="154" y="154"/>
                  </a:lnTo>
                  <a:lnTo>
                    <a:pt x="152" y="155"/>
                  </a:lnTo>
                  <a:lnTo>
                    <a:pt x="149" y="157"/>
                  </a:lnTo>
                  <a:lnTo>
                    <a:pt x="142" y="159"/>
                  </a:lnTo>
                  <a:lnTo>
                    <a:pt x="132" y="162"/>
                  </a:lnTo>
                  <a:lnTo>
                    <a:pt x="120" y="165"/>
                  </a:lnTo>
                  <a:lnTo>
                    <a:pt x="107" y="166"/>
                  </a:lnTo>
                  <a:lnTo>
                    <a:pt x="94" y="165"/>
                  </a:lnTo>
                  <a:lnTo>
                    <a:pt x="80" y="162"/>
                  </a:lnTo>
                  <a:lnTo>
                    <a:pt x="73" y="161"/>
                  </a:lnTo>
                  <a:lnTo>
                    <a:pt x="66" y="158"/>
                  </a:lnTo>
                  <a:lnTo>
                    <a:pt x="60" y="155"/>
                  </a:lnTo>
                  <a:lnTo>
                    <a:pt x="53" y="152"/>
                  </a:lnTo>
                  <a:lnTo>
                    <a:pt x="47" y="147"/>
                  </a:lnTo>
                  <a:lnTo>
                    <a:pt x="40" y="142"/>
                  </a:lnTo>
                  <a:lnTo>
                    <a:pt x="35" y="135"/>
                  </a:lnTo>
                  <a:lnTo>
                    <a:pt x="29" y="129"/>
                  </a:lnTo>
                  <a:lnTo>
                    <a:pt x="21" y="116"/>
                  </a:lnTo>
                  <a:lnTo>
                    <a:pt x="13" y="101"/>
                  </a:lnTo>
                  <a:lnTo>
                    <a:pt x="8" y="86"/>
                  </a:lnTo>
                  <a:lnTo>
                    <a:pt x="4" y="73"/>
                  </a:lnTo>
                  <a:lnTo>
                    <a:pt x="1" y="6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a27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5629320" y="2146320"/>
              <a:ext cx="39600" cy="39600"/>
            </a:xfrm>
            <a:custGeom>
              <a:avLst/>
              <a:gdLst/>
              <a:ahLst/>
              <a:rect l="l" t="t" r="r" b="b"/>
              <a:pathLst>
                <a:path w="121" h="129">
                  <a:moveTo>
                    <a:pt x="0" y="37"/>
                  </a:moveTo>
                  <a:lnTo>
                    <a:pt x="0" y="28"/>
                  </a:lnTo>
                  <a:lnTo>
                    <a:pt x="1" y="21"/>
                  </a:lnTo>
                  <a:lnTo>
                    <a:pt x="4" y="14"/>
                  </a:lnTo>
                  <a:lnTo>
                    <a:pt x="6" y="9"/>
                  </a:lnTo>
                  <a:lnTo>
                    <a:pt x="10" y="5"/>
                  </a:lnTo>
                  <a:lnTo>
                    <a:pt x="13" y="2"/>
                  </a:lnTo>
                  <a:lnTo>
                    <a:pt x="18" y="1"/>
                  </a:lnTo>
                  <a:lnTo>
                    <a:pt x="22" y="0"/>
                  </a:lnTo>
                  <a:lnTo>
                    <a:pt x="27" y="1"/>
                  </a:lnTo>
                  <a:lnTo>
                    <a:pt x="32" y="2"/>
                  </a:lnTo>
                  <a:lnTo>
                    <a:pt x="36" y="5"/>
                  </a:lnTo>
                  <a:lnTo>
                    <a:pt x="40" y="9"/>
                  </a:lnTo>
                  <a:lnTo>
                    <a:pt x="45" y="13"/>
                  </a:lnTo>
                  <a:lnTo>
                    <a:pt x="48" y="18"/>
                  </a:lnTo>
                  <a:lnTo>
                    <a:pt x="50" y="25"/>
                  </a:lnTo>
                  <a:lnTo>
                    <a:pt x="52" y="32"/>
                  </a:lnTo>
                  <a:lnTo>
                    <a:pt x="53" y="39"/>
                  </a:lnTo>
                  <a:lnTo>
                    <a:pt x="55" y="45"/>
                  </a:lnTo>
                  <a:lnTo>
                    <a:pt x="59" y="51"/>
                  </a:lnTo>
                  <a:lnTo>
                    <a:pt x="62" y="56"/>
                  </a:lnTo>
                  <a:lnTo>
                    <a:pt x="70" y="66"/>
                  </a:lnTo>
                  <a:lnTo>
                    <a:pt x="80" y="74"/>
                  </a:lnTo>
                  <a:lnTo>
                    <a:pt x="89" y="79"/>
                  </a:lnTo>
                  <a:lnTo>
                    <a:pt x="96" y="83"/>
                  </a:lnTo>
                  <a:lnTo>
                    <a:pt x="102" y="85"/>
                  </a:lnTo>
                  <a:lnTo>
                    <a:pt x="104" y="86"/>
                  </a:lnTo>
                  <a:lnTo>
                    <a:pt x="108" y="91"/>
                  </a:lnTo>
                  <a:lnTo>
                    <a:pt x="113" y="96"/>
                  </a:lnTo>
                  <a:lnTo>
                    <a:pt x="117" y="102"/>
                  </a:lnTo>
                  <a:lnTo>
                    <a:pt x="119" y="107"/>
                  </a:lnTo>
                  <a:lnTo>
                    <a:pt x="121" y="111"/>
                  </a:lnTo>
                  <a:lnTo>
                    <a:pt x="121" y="116"/>
                  </a:lnTo>
                  <a:lnTo>
                    <a:pt x="121" y="118"/>
                  </a:lnTo>
                  <a:lnTo>
                    <a:pt x="120" y="119"/>
                  </a:lnTo>
                  <a:lnTo>
                    <a:pt x="118" y="120"/>
                  </a:lnTo>
                  <a:lnTo>
                    <a:pt x="116" y="121"/>
                  </a:lnTo>
                  <a:lnTo>
                    <a:pt x="110" y="123"/>
                  </a:lnTo>
                  <a:lnTo>
                    <a:pt x="103" y="125"/>
                  </a:lnTo>
                  <a:lnTo>
                    <a:pt x="94" y="128"/>
                  </a:lnTo>
                  <a:lnTo>
                    <a:pt x="83" y="129"/>
                  </a:lnTo>
                  <a:lnTo>
                    <a:pt x="73" y="129"/>
                  </a:lnTo>
                  <a:lnTo>
                    <a:pt x="62" y="128"/>
                  </a:lnTo>
                  <a:lnTo>
                    <a:pt x="55" y="125"/>
                  </a:lnTo>
                  <a:lnTo>
                    <a:pt x="50" y="124"/>
                  </a:lnTo>
                  <a:lnTo>
                    <a:pt x="45" y="122"/>
                  </a:lnTo>
                  <a:lnTo>
                    <a:pt x="40" y="119"/>
                  </a:lnTo>
                  <a:lnTo>
                    <a:pt x="35" y="115"/>
                  </a:lnTo>
                  <a:lnTo>
                    <a:pt x="31" y="111"/>
                  </a:lnTo>
                  <a:lnTo>
                    <a:pt x="27" y="106"/>
                  </a:lnTo>
                  <a:lnTo>
                    <a:pt x="23" y="102"/>
                  </a:lnTo>
                  <a:lnTo>
                    <a:pt x="16" y="91"/>
                  </a:lnTo>
                  <a:lnTo>
                    <a:pt x="11" y="79"/>
                  </a:lnTo>
                  <a:lnTo>
                    <a:pt x="7" y="67"/>
                  </a:lnTo>
                  <a:lnTo>
                    <a:pt x="4" y="56"/>
                  </a:lnTo>
                  <a:lnTo>
                    <a:pt x="1" y="45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a980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5634000" y="2154240"/>
              <a:ext cx="28440" cy="27000"/>
            </a:xfrm>
            <a:custGeom>
              <a:avLst/>
              <a:gdLst/>
              <a:ahLst/>
              <a:rect l="l" t="t" r="r" b="b"/>
              <a:pathLst>
                <a:path w="89" h="88">
                  <a:moveTo>
                    <a:pt x="0" y="22"/>
                  </a:moveTo>
                  <a:lnTo>
                    <a:pt x="0" y="17"/>
                  </a:lnTo>
                  <a:lnTo>
                    <a:pt x="1" y="12"/>
                  </a:lnTo>
                  <a:lnTo>
                    <a:pt x="2" y="9"/>
                  </a:lnTo>
                  <a:lnTo>
                    <a:pt x="4" y="5"/>
                  </a:lnTo>
                  <a:lnTo>
                    <a:pt x="8" y="3"/>
                  </a:lnTo>
                  <a:lnTo>
                    <a:pt x="11" y="1"/>
                  </a:lnTo>
                  <a:lnTo>
                    <a:pt x="14" y="0"/>
                  </a:lnTo>
                  <a:lnTo>
                    <a:pt x="17" y="0"/>
                  </a:lnTo>
                  <a:lnTo>
                    <a:pt x="21" y="0"/>
                  </a:lnTo>
                  <a:lnTo>
                    <a:pt x="24" y="1"/>
                  </a:lnTo>
                  <a:lnTo>
                    <a:pt x="27" y="2"/>
                  </a:lnTo>
                  <a:lnTo>
                    <a:pt x="30" y="4"/>
                  </a:lnTo>
                  <a:lnTo>
                    <a:pt x="33" y="7"/>
                  </a:lnTo>
                  <a:lnTo>
                    <a:pt x="35" y="11"/>
                  </a:lnTo>
                  <a:lnTo>
                    <a:pt x="37" y="15"/>
                  </a:lnTo>
                  <a:lnTo>
                    <a:pt x="38" y="19"/>
                  </a:lnTo>
                  <a:lnTo>
                    <a:pt x="39" y="25"/>
                  </a:lnTo>
                  <a:lnTo>
                    <a:pt x="41" y="29"/>
                  </a:lnTo>
                  <a:lnTo>
                    <a:pt x="43" y="33"/>
                  </a:lnTo>
                  <a:lnTo>
                    <a:pt x="46" y="37"/>
                  </a:lnTo>
                  <a:lnTo>
                    <a:pt x="52" y="44"/>
                  </a:lnTo>
                  <a:lnTo>
                    <a:pt x="60" y="50"/>
                  </a:lnTo>
                  <a:lnTo>
                    <a:pt x="66" y="54"/>
                  </a:lnTo>
                  <a:lnTo>
                    <a:pt x="71" y="57"/>
                  </a:lnTo>
                  <a:lnTo>
                    <a:pt x="76" y="58"/>
                  </a:lnTo>
                  <a:lnTo>
                    <a:pt x="77" y="59"/>
                  </a:lnTo>
                  <a:lnTo>
                    <a:pt x="80" y="63"/>
                  </a:lnTo>
                  <a:lnTo>
                    <a:pt x="83" y="66"/>
                  </a:lnTo>
                  <a:lnTo>
                    <a:pt x="85" y="69"/>
                  </a:lnTo>
                  <a:lnTo>
                    <a:pt x="88" y="73"/>
                  </a:lnTo>
                  <a:lnTo>
                    <a:pt x="89" y="77"/>
                  </a:lnTo>
                  <a:lnTo>
                    <a:pt x="89" y="80"/>
                  </a:lnTo>
                  <a:lnTo>
                    <a:pt x="88" y="82"/>
                  </a:lnTo>
                  <a:lnTo>
                    <a:pt x="84" y="84"/>
                  </a:lnTo>
                  <a:lnTo>
                    <a:pt x="81" y="85"/>
                  </a:lnTo>
                  <a:lnTo>
                    <a:pt x="76" y="87"/>
                  </a:lnTo>
                  <a:lnTo>
                    <a:pt x="69" y="88"/>
                  </a:lnTo>
                  <a:lnTo>
                    <a:pt x="62" y="88"/>
                  </a:lnTo>
                  <a:lnTo>
                    <a:pt x="54" y="88"/>
                  </a:lnTo>
                  <a:lnTo>
                    <a:pt x="46" y="87"/>
                  </a:lnTo>
                  <a:lnTo>
                    <a:pt x="38" y="85"/>
                  </a:lnTo>
                  <a:lnTo>
                    <a:pt x="30" y="81"/>
                  </a:lnTo>
                  <a:lnTo>
                    <a:pt x="23" y="76"/>
                  </a:lnTo>
                  <a:lnTo>
                    <a:pt x="17" y="69"/>
                  </a:lnTo>
                  <a:lnTo>
                    <a:pt x="13" y="61"/>
                  </a:lnTo>
                  <a:lnTo>
                    <a:pt x="9" y="53"/>
                  </a:lnTo>
                  <a:lnTo>
                    <a:pt x="6" y="44"/>
                  </a:lnTo>
                  <a:lnTo>
                    <a:pt x="3" y="36"/>
                  </a:lnTo>
                  <a:lnTo>
                    <a:pt x="1" y="28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b18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5637240" y="2160720"/>
              <a:ext cx="19080" cy="17280"/>
            </a:xfrm>
            <a:custGeom>
              <a:avLst/>
              <a:gdLst/>
              <a:ahLst/>
              <a:rect l="l" t="t" r="r" b="b"/>
              <a:pathLst>
                <a:path w="56" h="53">
                  <a:moveTo>
                    <a:pt x="47" y="33"/>
                  </a:moveTo>
                  <a:lnTo>
                    <a:pt x="45" y="33"/>
                  </a:lnTo>
                  <a:lnTo>
                    <a:pt x="43" y="32"/>
                  </a:lnTo>
                  <a:lnTo>
                    <a:pt x="40" y="30"/>
                  </a:lnTo>
                  <a:lnTo>
                    <a:pt x="37" y="28"/>
                  </a:lnTo>
                  <a:lnTo>
                    <a:pt x="33" y="24"/>
                  </a:lnTo>
                  <a:lnTo>
                    <a:pt x="29" y="20"/>
                  </a:lnTo>
                  <a:lnTo>
                    <a:pt x="26" y="15"/>
                  </a:lnTo>
                  <a:lnTo>
                    <a:pt x="25" y="9"/>
                  </a:lnTo>
                  <a:lnTo>
                    <a:pt x="24" y="6"/>
                  </a:lnTo>
                  <a:lnTo>
                    <a:pt x="23" y="4"/>
                  </a:lnTo>
                  <a:lnTo>
                    <a:pt x="22" y="2"/>
                  </a:lnTo>
                  <a:lnTo>
                    <a:pt x="20" y="1"/>
                  </a:lnTo>
                  <a:lnTo>
                    <a:pt x="15" y="0"/>
                  </a:lnTo>
                  <a:lnTo>
                    <a:pt x="11" y="1"/>
                  </a:lnTo>
                  <a:lnTo>
                    <a:pt x="6" y="3"/>
                  </a:lnTo>
                  <a:lnTo>
                    <a:pt x="2" y="5"/>
                  </a:lnTo>
                  <a:lnTo>
                    <a:pt x="0" y="8"/>
                  </a:lnTo>
                  <a:lnTo>
                    <a:pt x="0" y="11"/>
                  </a:lnTo>
                  <a:lnTo>
                    <a:pt x="1" y="15"/>
                  </a:lnTo>
                  <a:lnTo>
                    <a:pt x="2" y="19"/>
                  </a:lnTo>
                  <a:lnTo>
                    <a:pt x="4" y="23"/>
                  </a:lnTo>
                  <a:lnTo>
                    <a:pt x="7" y="29"/>
                  </a:lnTo>
                  <a:lnTo>
                    <a:pt x="9" y="34"/>
                  </a:lnTo>
                  <a:lnTo>
                    <a:pt x="12" y="40"/>
                  </a:lnTo>
                  <a:lnTo>
                    <a:pt x="15" y="44"/>
                  </a:lnTo>
                  <a:lnTo>
                    <a:pt x="20" y="48"/>
                  </a:lnTo>
                  <a:lnTo>
                    <a:pt x="24" y="50"/>
                  </a:lnTo>
                  <a:lnTo>
                    <a:pt x="29" y="51"/>
                  </a:lnTo>
                  <a:lnTo>
                    <a:pt x="34" y="53"/>
                  </a:lnTo>
                  <a:lnTo>
                    <a:pt x="39" y="53"/>
                  </a:lnTo>
                  <a:lnTo>
                    <a:pt x="43" y="51"/>
                  </a:lnTo>
                  <a:lnTo>
                    <a:pt x="48" y="50"/>
                  </a:lnTo>
                  <a:lnTo>
                    <a:pt x="51" y="49"/>
                  </a:lnTo>
                  <a:lnTo>
                    <a:pt x="54" y="48"/>
                  </a:lnTo>
                  <a:lnTo>
                    <a:pt x="55" y="48"/>
                  </a:lnTo>
                  <a:lnTo>
                    <a:pt x="56" y="47"/>
                  </a:lnTo>
                  <a:lnTo>
                    <a:pt x="56" y="45"/>
                  </a:lnTo>
                  <a:lnTo>
                    <a:pt x="55" y="43"/>
                  </a:lnTo>
                  <a:lnTo>
                    <a:pt x="54" y="41"/>
                  </a:lnTo>
                  <a:lnTo>
                    <a:pt x="52" y="38"/>
                  </a:lnTo>
                  <a:lnTo>
                    <a:pt x="50" y="35"/>
                  </a:lnTo>
                  <a:lnTo>
                    <a:pt x="47" y="33"/>
                  </a:lnTo>
                  <a:close/>
                </a:path>
              </a:pathLst>
            </a:custGeom>
            <a:solidFill>
              <a:srgbClr val="b98c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5796000" y="2237040"/>
              <a:ext cx="23760" cy="18720"/>
            </a:xfrm>
            <a:custGeom>
              <a:avLst/>
              <a:gdLst/>
              <a:ahLst/>
              <a:rect l="l" t="t" r="r" b="b"/>
              <a:pathLst>
                <a:path w="75" h="61">
                  <a:moveTo>
                    <a:pt x="75" y="13"/>
                  </a:moveTo>
                  <a:lnTo>
                    <a:pt x="72" y="9"/>
                  </a:lnTo>
                  <a:lnTo>
                    <a:pt x="68" y="6"/>
                  </a:lnTo>
                  <a:lnTo>
                    <a:pt x="64" y="2"/>
                  </a:lnTo>
                  <a:lnTo>
                    <a:pt x="57" y="1"/>
                  </a:lnTo>
                  <a:lnTo>
                    <a:pt x="51" y="0"/>
                  </a:lnTo>
                  <a:lnTo>
                    <a:pt x="44" y="1"/>
                  </a:lnTo>
                  <a:lnTo>
                    <a:pt x="37" y="2"/>
                  </a:lnTo>
                  <a:lnTo>
                    <a:pt x="30" y="6"/>
                  </a:lnTo>
                  <a:lnTo>
                    <a:pt x="24" y="10"/>
                  </a:lnTo>
                  <a:lnTo>
                    <a:pt x="17" y="16"/>
                  </a:lnTo>
                  <a:lnTo>
                    <a:pt x="12" y="24"/>
                  </a:lnTo>
                  <a:lnTo>
                    <a:pt x="8" y="33"/>
                  </a:lnTo>
                  <a:lnTo>
                    <a:pt x="5" y="40"/>
                  </a:lnTo>
                  <a:lnTo>
                    <a:pt x="1" y="48"/>
                  </a:lnTo>
                  <a:lnTo>
                    <a:pt x="0" y="53"/>
                  </a:lnTo>
                  <a:lnTo>
                    <a:pt x="0" y="58"/>
                  </a:lnTo>
                  <a:lnTo>
                    <a:pt x="2" y="60"/>
                  </a:lnTo>
                  <a:lnTo>
                    <a:pt x="7" y="61"/>
                  </a:lnTo>
                  <a:lnTo>
                    <a:pt x="13" y="60"/>
                  </a:lnTo>
                  <a:lnTo>
                    <a:pt x="21" y="59"/>
                  </a:lnTo>
                  <a:lnTo>
                    <a:pt x="29" y="58"/>
                  </a:lnTo>
                  <a:lnTo>
                    <a:pt x="37" y="55"/>
                  </a:lnTo>
                  <a:lnTo>
                    <a:pt x="46" y="54"/>
                  </a:lnTo>
                  <a:lnTo>
                    <a:pt x="52" y="52"/>
                  </a:lnTo>
                  <a:lnTo>
                    <a:pt x="59" y="50"/>
                  </a:lnTo>
                  <a:lnTo>
                    <a:pt x="63" y="46"/>
                  </a:lnTo>
                  <a:lnTo>
                    <a:pt x="67" y="40"/>
                  </a:lnTo>
                  <a:lnTo>
                    <a:pt x="70" y="34"/>
                  </a:lnTo>
                  <a:lnTo>
                    <a:pt x="73" y="27"/>
                  </a:lnTo>
                  <a:lnTo>
                    <a:pt x="75" y="22"/>
                  </a:lnTo>
                  <a:lnTo>
                    <a:pt x="75" y="16"/>
                  </a:lnTo>
                  <a:lnTo>
                    <a:pt x="75" y="13"/>
                  </a:lnTo>
                  <a:close/>
                </a:path>
              </a:pathLst>
            </a:custGeom>
            <a:solidFill>
              <a:srgbClr val="9a76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5799240" y="2238480"/>
              <a:ext cx="19080" cy="144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25" y="5"/>
                  </a:moveTo>
                  <a:lnTo>
                    <a:pt x="31" y="2"/>
                  </a:lnTo>
                  <a:lnTo>
                    <a:pt x="36" y="0"/>
                  </a:lnTo>
                  <a:lnTo>
                    <a:pt x="43" y="0"/>
                  </a:lnTo>
                  <a:lnTo>
                    <a:pt x="47" y="0"/>
                  </a:lnTo>
                  <a:lnTo>
                    <a:pt x="53" y="1"/>
                  </a:lnTo>
                  <a:lnTo>
                    <a:pt x="56" y="3"/>
                  </a:lnTo>
                  <a:lnTo>
                    <a:pt x="59" y="6"/>
                  </a:lnTo>
                  <a:lnTo>
                    <a:pt x="61" y="9"/>
                  </a:lnTo>
                  <a:lnTo>
                    <a:pt x="61" y="13"/>
                  </a:lnTo>
                  <a:lnTo>
                    <a:pt x="60" y="17"/>
                  </a:lnTo>
                  <a:lnTo>
                    <a:pt x="59" y="21"/>
                  </a:lnTo>
                  <a:lnTo>
                    <a:pt x="57" y="27"/>
                  </a:lnTo>
                  <a:lnTo>
                    <a:pt x="55" y="31"/>
                  </a:lnTo>
                  <a:lnTo>
                    <a:pt x="52" y="35"/>
                  </a:lnTo>
                  <a:lnTo>
                    <a:pt x="47" y="40"/>
                  </a:lnTo>
                  <a:lnTo>
                    <a:pt x="42" y="42"/>
                  </a:lnTo>
                  <a:lnTo>
                    <a:pt x="35" y="43"/>
                  </a:lnTo>
                  <a:lnTo>
                    <a:pt x="29" y="44"/>
                  </a:lnTo>
                  <a:lnTo>
                    <a:pt x="22" y="45"/>
                  </a:lnTo>
                  <a:lnTo>
                    <a:pt x="16" y="46"/>
                  </a:lnTo>
                  <a:lnTo>
                    <a:pt x="11" y="47"/>
                  </a:lnTo>
                  <a:lnTo>
                    <a:pt x="5" y="47"/>
                  </a:lnTo>
                  <a:lnTo>
                    <a:pt x="2" y="46"/>
                  </a:lnTo>
                  <a:lnTo>
                    <a:pt x="0" y="44"/>
                  </a:lnTo>
                  <a:lnTo>
                    <a:pt x="0" y="42"/>
                  </a:lnTo>
                  <a:lnTo>
                    <a:pt x="1" y="37"/>
                  </a:lnTo>
                  <a:lnTo>
                    <a:pt x="3" y="31"/>
                  </a:lnTo>
                  <a:lnTo>
                    <a:pt x="5" y="26"/>
                  </a:lnTo>
                  <a:lnTo>
                    <a:pt x="9" y="19"/>
                  </a:lnTo>
                  <a:lnTo>
                    <a:pt x="14" y="14"/>
                  </a:lnTo>
                  <a:lnTo>
                    <a:pt x="19" y="8"/>
                  </a:lnTo>
                  <a:lnTo>
                    <a:pt x="25" y="5"/>
                  </a:lnTo>
                  <a:close/>
                </a:path>
              </a:pathLst>
            </a:custGeom>
            <a:solidFill>
              <a:srgbClr val="a27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5802120" y="2239920"/>
              <a:ext cx="14400" cy="11160"/>
            </a:xfrm>
            <a:custGeom>
              <a:avLst/>
              <a:gdLst/>
              <a:ahLst/>
              <a:rect l="l" t="t" r="r" b="b"/>
              <a:pathLst>
                <a:path w="46" h="38">
                  <a:moveTo>
                    <a:pt x="18" y="3"/>
                  </a:moveTo>
                  <a:lnTo>
                    <a:pt x="22" y="1"/>
                  </a:lnTo>
                  <a:lnTo>
                    <a:pt x="27" y="1"/>
                  </a:lnTo>
                  <a:lnTo>
                    <a:pt x="32" y="0"/>
                  </a:lnTo>
                  <a:lnTo>
                    <a:pt x="35" y="1"/>
                  </a:lnTo>
                  <a:lnTo>
                    <a:pt x="38" y="2"/>
                  </a:lnTo>
                  <a:lnTo>
                    <a:pt x="42" y="3"/>
                  </a:lnTo>
                  <a:lnTo>
                    <a:pt x="44" y="5"/>
                  </a:lnTo>
                  <a:lnTo>
                    <a:pt x="45" y="8"/>
                  </a:lnTo>
                  <a:lnTo>
                    <a:pt x="46" y="11"/>
                  </a:lnTo>
                  <a:lnTo>
                    <a:pt x="46" y="14"/>
                  </a:lnTo>
                  <a:lnTo>
                    <a:pt x="45" y="17"/>
                  </a:lnTo>
                  <a:lnTo>
                    <a:pt x="44" y="22"/>
                  </a:lnTo>
                  <a:lnTo>
                    <a:pt x="42" y="25"/>
                  </a:lnTo>
                  <a:lnTo>
                    <a:pt x="39" y="28"/>
                  </a:lnTo>
                  <a:lnTo>
                    <a:pt x="36" y="31"/>
                  </a:lnTo>
                  <a:lnTo>
                    <a:pt x="33" y="32"/>
                  </a:lnTo>
                  <a:lnTo>
                    <a:pt x="27" y="33"/>
                  </a:lnTo>
                  <a:lnTo>
                    <a:pt x="22" y="35"/>
                  </a:lnTo>
                  <a:lnTo>
                    <a:pt x="17" y="36"/>
                  </a:lnTo>
                  <a:lnTo>
                    <a:pt x="12" y="37"/>
                  </a:lnTo>
                  <a:lnTo>
                    <a:pt x="8" y="38"/>
                  </a:lnTo>
                  <a:lnTo>
                    <a:pt x="4" y="38"/>
                  </a:lnTo>
                  <a:lnTo>
                    <a:pt x="2" y="37"/>
                  </a:lnTo>
                  <a:lnTo>
                    <a:pt x="0" y="36"/>
                  </a:lnTo>
                  <a:lnTo>
                    <a:pt x="0" y="32"/>
                  </a:lnTo>
                  <a:lnTo>
                    <a:pt x="0" y="29"/>
                  </a:lnTo>
                  <a:lnTo>
                    <a:pt x="3" y="25"/>
                  </a:lnTo>
                  <a:lnTo>
                    <a:pt x="5" y="21"/>
                  </a:lnTo>
                  <a:lnTo>
                    <a:pt x="7" y="15"/>
                  </a:lnTo>
                  <a:lnTo>
                    <a:pt x="10" y="11"/>
                  </a:lnTo>
                  <a:lnTo>
                    <a:pt x="15" y="6"/>
                  </a:lnTo>
                  <a:lnTo>
                    <a:pt x="18" y="3"/>
                  </a:lnTo>
                  <a:close/>
                </a:path>
              </a:pathLst>
            </a:custGeom>
            <a:solidFill>
              <a:srgbClr val="a980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5803920" y="2241720"/>
              <a:ext cx="11160" cy="7920"/>
            </a:xfrm>
            <a:custGeom>
              <a:avLst/>
              <a:gdLst/>
              <a:ahLst/>
              <a:rect l="l" t="t" r="r" b="b"/>
              <a:pathLst>
                <a:path w="32" h="27">
                  <a:moveTo>
                    <a:pt x="12" y="4"/>
                  </a:moveTo>
                  <a:lnTo>
                    <a:pt x="16" y="2"/>
                  </a:lnTo>
                  <a:lnTo>
                    <a:pt x="19" y="1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27" y="1"/>
                  </a:lnTo>
                  <a:lnTo>
                    <a:pt x="29" y="2"/>
                  </a:lnTo>
                  <a:lnTo>
                    <a:pt x="31" y="4"/>
                  </a:lnTo>
                  <a:lnTo>
                    <a:pt x="32" y="7"/>
                  </a:lnTo>
                  <a:lnTo>
                    <a:pt x="32" y="8"/>
                  </a:lnTo>
                  <a:lnTo>
                    <a:pt x="31" y="10"/>
                  </a:lnTo>
                  <a:lnTo>
                    <a:pt x="31" y="12"/>
                  </a:lnTo>
                  <a:lnTo>
                    <a:pt x="30" y="15"/>
                  </a:lnTo>
                  <a:lnTo>
                    <a:pt x="28" y="18"/>
                  </a:lnTo>
                  <a:lnTo>
                    <a:pt x="27" y="21"/>
                  </a:lnTo>
                  <a:lnTo>
                    <a:pt x="25" y="23"/>
                  </a:lnTo>
                  <a:lnTo>
                    <a:pt x="23" y="24"/>
                  </a:lnTo>
                  <a:lnTo>
                    <a:pt x="19" y="24"/>
                  </a:lnTo>
                  <a:lnTo>
                    <a:pt x="15" y="24"/>
                  </a:lnTo>
                  <a:lnTo>
                    <a:pt x="12" y="25"/>
                  </a:lnTo>
                  <a:lnTo>
                    <a:pt x="9" y="26"/>
                  </a:lnTo>
                  <a:lnTo>
                    <a:pt x="5" y="26"/>
                  </a:lnTo>
                  <a:lnTo>
                    <a:pt x="2" y="27"/>
                  </a:lnTo>
                  <a:lnTo>
                    <a:pt x="1" y="27"/>
                  </a:lnTo>
                  <a:lnTo>
                    <a:pt x="0" y="26"/>
                  </a:lnTo>
                  <a:lnTo>
                    <a:pt x="0" y="24"/>
                  </a:lnTo>
                  <a:lnTo>
                    <a:pt x="0" y="21"/>
                  </a:lnTo>
                  <a:lnTo>
                    <a:pt x="1" y="18"/>
                  </a:lnTo>
                  <a:lnTo>
                    <a:pt x="2" y="14"/>
                  </a:lnTo>
                  <a:lnTo>
                    <a:pt x="4" y="11"/>
                  </a:lnTo>
                  <a:lnTo>
                    <a:pt x="7" y="8"/>
                  </a:lnTo>
                  <a:lnTo>
                    <a:pt x="10" y="6"/>
                  </a:lnTo>
                  <a:lnTo>
                    <a:pt x="12" y="4"/>
                  </a:lnTo>
                  <a:close/>
                </a:path>
              </a:pathLst>
            </a:custGeom>
            <a:solidFill>
              <a:srgbClr val="b18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5807160" y="2243160"/>
              <a:ext cx="6120" cy="4680"/>
            </a:xfrm>
            <a:custGeom>
              <a:avLst/>
              <a:gdLst/>
              <a:ahLst/>
              <a:rect l="l" t="t" r="r" b="b"/>
              <a:pathLst>
                <a:path w="19" h="15">
                  <a:moveTo>
                    <a:pt x="19" y="4"/>
                  </a:moveTo>
                  <a:lnTo>
                    <a:pt x="19" y="5"/>
                  </a:lnTo>
                  <a:lnTo>
                    <a:pt x="19" y="6"/>
                  </a:lnTo>
                  <a:lnTo>
                    <a:pt x="18" y="7"/>
                  </a:lnTo>
                  <a:lnTo>
                    <a:pt x="17" y="9"/>
                  </a:lnTo>
                  <a:lnTo>
                    <a:pt x="16" y="10"/>
                  </a:lnTo>
                  <a:lnTo>
                    <a:pt x="15" y="12"/>
                  </a:lnTo>
                  <a:lnTo>
                    <a:pt x="14" y="13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9" y="14"/>
                  </a:lnTo>
                  <a:lnTo>
                    <a:pt x="7" y="15"/>
                  </a:lnTo>
                  <a:lnTo>
                    <a:pt x="5" y="15"/>
                  </a:lnTo>
                  <a:lnTo>
                    <a:pt x="3" y="15"/>
                  </a:lnTo>
                  <a:lnTo>
                    <a:pt x="1" y="15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1" y="9"/>
                  </a:lnTo>
                  <a:lnTo>
                    <a:pt x="2" y="7"/>
                  </a:lnTo>
                  <a:lnTo>
                    <a:pt x="3" y="6"/>
                  </a:lnTo>
                  <a:lnTo>
                    <a:pt x="4" y="4"/>
                  </a:lnTo>
                  <a:lnTo>
                    <a:pt x="5" y="3"/>
                  </a:lnTo>
                  <a:lnTo>
                    <a:pt x="7" y="2"/>
                  </a:lnTo>
                  <a:lnTo>
                    <a:pt x="8" y="1"/>
                  </a:lnTo>
                  <a:lnTo>
                    <a:pt x="10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6" y="1"/>
                  </a:lnTo>
                  <a:lnTo>
                    <a:pt x="17" y="1"/>
                  </a:lnTo>
                  <a:lnTo>
                    <a:pt x="18" y="3"/>
                  </a:lnTo>
                  <a:lnTo>
                    <a:pt x="19" y="4"/>
                  </a:lnTo>
                  <a:close/>
                </a:path>
              </a:pathLst>
            </a:custGeom>
            <a:solidFill>
              <a:srgbClr val="b98c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5832360" y="2141640"/>
              <a:ext cx="44640" cy="22320"/>
            </a:xfrm>
            <a:custGeom>
              <a:avLst/>
              <a:gdLst/>
              <a:ahLst/>
              <a:rect l="l" t="t" r="r" b="b"/>
              <a:pathLst>
                <a:path w="140" h="69">
                  <a:moveTo>
                    <a:pt x="129" y="56"/>
                  </a:moveTo>
                  <a:lnTo>
                    <a:pt x="128" y="57"/>
                  </a:lnTo>
                  <a:lnTo>
                    <a:pt x="125" y="58"/>
                  </a:lnTo>
                  <a:lnTo>
                    <a:pt x="121" y="62"/>
                  </a:lnTo>
                  <a:lnTo>
                    <a:pt x="113" y="64"/>
                  </a:lnTo>
                  <a:lnTo>
                    <a:pt x="103" y="67"/>
                  </a:lnTo>
                  <a:lnTo>
                    <a:pt x="91" y="68"/>
                  </a:lnTo>
                  <a:lnTo>
                    <a:pt x="77" y="69"/>
                  </a:lnTo>
                  <a:lnTo>
                    <a:pt x="60" y="68"/>
                  </a:lnTo>
                  <a:lnTo>
                    <a:pt x="52" y="67"/>
                  </a:lnTo>
                  <a:lnTo>
                    <a:pt x="45" y="64"/>
                  </a:lnTo>
                  <a:lnTo>
                    <a:pt x="38" y="61"/>
                  </a:lnTo>
                  <a:lnTo>
                    <a:pt x="31" y="56"/>
                  </a:lnTo>
                  <a:lnTo>
                    <a:pt x="25" y="51"/>
                  </a:lnTo>
                  <a:lnTo>
                    <a:pt x="20" y="48"/>
                  </a:lnTo>
                  <a:lnTo>
                    <a:pt x="16" y="43"/>
                  </a:lnTo>
                  <a:lnTo>
                    <a:pt x="14" y="41"/>
                  </a:lnTo>
                  <a:lnTo>
                    <a:pt x="9" y="38"/>
                  </a:lnTo>
                  <a:lnTo>
                    <a:pt x="5" y="34"/>
                  </a:lnTo>
                  <a:lnTo>
                    <a:pt x="1" y="28"/>
                  </a:lnTo>
                  <a:lnTo>
                    <a:pt x="0" y="23"/>
                  </a:lnTo>
                  <a:lnTo>
                    <a:pt x="0" y="19"/>
                  </a:lnTo>
                  <a:lnTo>
                    <a:pt x="1" y="17"/>
                  </a:lnTo>
                  <a:lnTo>
                    <a:pt x="3" y="15"/>
                  </a:lnTo>
                  <a:lnTo>
                    <a:pt x="7" y="13"/>
                  </a:lnTo>
                  <a:lnTo>
                    <a:pt x="13" y="12"/>
                  </a:lnTo>
                  <a:lnTo>
                    <a:pt x="20" y="10"/>
                  </a:lnTo>
                  <a:lnTo>
                    <a:pt x="29" y="10"/>
                  </a:lnTo>
                  <a:lnTo>
                    <a:pt x="41" y="9"/>
                  </a:lnTo>
                  <a:lnTo>
                    <a:pt x="54" y="8"/>
                  </a:lnTo>
                  <a:lnTo>
                    <a:pt x="68" y="5"/>
                  </a:lnTo>
                  <a:lnTo>
                    <a:pt x="83" y="3"/>
                  </a:lnTo>
                  <a:lnTo>
                    <a:pt x="97" y="1"/>
                  </a:lnTo>
                  <a:lnTo>
                    <a:pt x="111" y="0"/>
                  </a:lnTo>
                  <a:lnTo>
                    <a:pt x="123" y="0"/>
                  </a:lnTo>
                  <a:lnTo>
                    <a:pt x="127" y="1"/>
                  </a:lnTo>
                  <a:lnTo>
                    <a:pt x="131" y="2"/>
                  </a:lnTo>
                  <a:lnTo>
                    <a:pt x="135" y="4"/>
                  </a:lnTo>
                  <a:lnTo>
                    <a:pt x="137" y="7"/>
                  </a:lnTo>
                  <a:lnTo>
                    <a:pt x="139" y="13"/>
                  </a:lnTo>
                  <a:lnTo>
                    <a:pt x="140" y="19"/>
                  </a:lnTo>
                  <a:lnTo>
                    <a:pt x="140" y="26"/>
                  </a:lnTo>
                  <a:lnTo>
                    <a:pt x="139" y="34"/>
                  </a:lnTo>
                  <a:lnTo>
                    <a:pt x="137" y="40"/>
                  </a:lnTo>
                  <a:lnTo>
                    <a:pt x="135" y="46"/>
                  </a:lnTo>
                  <a:lnTo>
                    <a:pt x="132" y="52"/>
                  </a:lnTo>
                  <a:lnTo>
                    <a:pt x="129" y="56"/>
                  </a:lnTo>
                  <a:close/>
                </a:path>
              </a:pathLst>
            </a:custGeom>
            <a:solidFill>
              <a:srgbClr val="775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5824440" y="2156040"/>
              <a:ext cx="65160" cy="20520"/>
            </a:xfrm>
            <a:custGeom>
              <a:avLst/>
              <a:gdLst/>
              <a:ahLst/>
              <a:rect l="l" t="t" r="r" b="b"/>
              <a:pathLst>
                <a:path w="207" h="68">
                  <a:moveTo>
                    <a:pt x="207" y="10"/>
                  </a:moveTo>
                  <a:lnTo>
                    <a:pt x="207" y="11"/>
                  </a:lnTo>
                  <a:lnTo>
                    <a:pt x="204" y="17"/>
                  </a:lnTo>
                  <a:lnTo>
                    <a:pt x="201" y="23"/>
                  </a:lnTo>
                  <a:lnTo>
                    <a:pt x="194" y="32"/>
                  </a:lnTo>
                  <a:lnTo>
                    <a:pt x="188" y="41"/>
                  </a:lnTo>
                  <a:lnTo>
                    <a:pt x="178" y="50"/>
                  </a:lnTo>
                  <a:lnTo>
                    <a:pt x="174" y="54"/>
                  </a:lnTo>
                  <a:lnTo>
                    <a:pt x="168" y="58"/>
                  </a:lnTo>
                  <a:lnTo>
                    <a:pt x="162" y="61"/>
                  </a:lnTo>
                  <a:lnTo>
                    <a:pt x="155" y="64"/>
                  </a:lnTo>
                  <a:lnTo>
                    <a:pt x="141" y="67"/>
                  </a:lnTo>
                  <a:lnTo>
                    <a:pt x="124" y="68"/>
                  </a:lnTo>
                  <a:lnTo>
                    <a:pt x="104" y="68"/>
                  </a:lnTo>
                  <a:lnTo>
                    <a:pt x="85" y="66"/>
                  </a:lnTo>
                  <a:lnTo>
                    <a:pt x="67" y="63"/>
                  </a:lnTo>
                  <a:lnTo>
                    <a:pt x="49" y="58"/>
                  </a:lnTo>
                  <a:lnTo>
                    <a:pt x="42" y="55"/>
                  </a:lnTo>
                  <a:lnTo>
                    <a:pt x="35" y="52"/>
                  </a:lnTo>
                  <a:lnTo>
                    <a:pt x="29" y="48"/>
                  </a:lnTo>
                  <a:lnTo>
                    <a:pt x="24" y="45"/>
                  </a:lnTo>
                  <a:lnTo>
                    <a:pt x="14" y="34"/>
                  </a:lnTo>
                  <a:lnTo>
                    <a:pt x="6" y="25"/>
                  </a:lnTo>
                  <a:lnTo>
                    <a:pt x="2" y="18"/>
                  </a:lnTo>
                  <a:lnTo>
                    <a:pt x="0" y="12"/>
                  </a:lnTo>
                  <a:lnTo>
                    <a:pt x="0" y="8"/>
                  </a:lnTo>
                  <a:lnTo>
                    <a:pt x="0" y="5"/>
                  </a:lnTo>
                  <a:lnTo>
                    <a:pt x="1" y="2"/>
                  </a:lnTo>
                  <a:lnTo>
                    <a:pt x="3" y="2"/>
                  </a:lnTo>
                  <a:lnTo>
                    <a:pt x="6" y="1"/>
                  </a:lnTo>
                  <a:lnTo>
                    <a:pt x="14" y="0"/>
                  </a:lnTo>
                  <a:lnTo>
                    <a:pt x="24" y="0"/>
                  </a:lnTo>
                  <a:lnTo>
                    <a:pt x="39" y="0"/>
                  </a:lnTo>
                  <a:lnTo>
                    <a:pt x="72" y="1"/>
                  </a:lnTo>
                  <a:lnTo>
                    <a:pt x="109" y="4"/>
                  </a:lnTo>
                  <a:lnTo>
                    <a:pt x="145" y="6"/>
                  </a:lnTo>
                  <a:lnTo>
                    <a:pt x="177" y="8"/>
                  </a:lnTo>
                  <a:lnTo>
                    <a:pt x="199" y="9"/>
                  </a:lnTo>
                  <a:lnTo>
                    <a:pt x="207" y="10"/>
                  </a:lnTo>
                  <a:close/>
                </a:path>
              </a:pathLst>
            </a:custGeom>
            <a:solidFill>
              <a:srgbClr val="a681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5823000" y="2144880"/>
              <a:ext cx="68040" cy="23760"/>
            </a:xfrm>
            <a:custGeom>
              <a:avLst/>
              <a:gdLst/>
              <a:ahLst/>
              <a:rect l="l" t="t" r="r" b="b"/>
              <a:pathLst>
                <a:path w="213" h="74">
                  <a:moveTo>
                    <a:pt x="213" y="37"/>
                  </a:moveTo>
                  <a:lnTo>
                    <a:pt x="212" y="34"/>
                  </a:lnTo>
                  <a:lnTo>
                    <a:pt x="208" y="29"/>
                  </a:lnTo>
                  <a:lnTo>
                    <a:pt x="200" y="23"/>
                  </a:lnTo>
                  <a:lnTo>
                    <a:pt x="188" y="15"/>
                  </a:lnTo>
                  <a:lnTo>
                    <a:pt x="182" y="11"/>
                  </a:lnTo>
                  <a:lnTo>
                    <a:pt x="173" y="7"/>
                  </a:lnTo>
                  <a:lnTo>
                    <a:pt x="164" y="4"/>
                  </a:lnTo>
                  <a:lnTo>
                    <a:pt x="153" y="2"/>
                  </a:lnTo>
                  <a:lnTo>
                    <a:pt x="140" y="1"/>
                  </a:lnTo>
                  <a:lnTo>
                    <a:pt x="127" y="0"/>
                  </a:lnTo>
                  <a:lnTo>
                    <a:pt x="111" y="0"/>
                  </a:lnTo>
                  <a:lnTo>
                    <a:pt x="94" y="2"/>
                  </a:lnTo>
                  <a:lnTo>
                    <a:pt x="63" y="7"/>
                  </a:lnTo>
                  <a:lnTo>
                    <a:pt x="40" y="13"/>
                  </a:lnTo>
                  <a:lnTo>
                    <a:pt x="23" y="18"/>
                  </a:lnTo>
                  <a:lnTo>
                    <a:pt x="12" y="24"/>
                  </a:lnTo>
                  <a:lnTo>
                    <a:pt x="6" y="29"/>
                  </a:lnTo>
                  <a:lnTo>
                    <a:pt x="2" y="33"/>
                  </a:lnTo>
                  <a:lnTo>
                    <a:pt x="0" y="36"/>
                  </a:lnTo>
                  <a:lnTo>
                    <a:pt x="0" y="37"/>
                  </a:lnTo>
                  <a:lnTo>
                    <a:pt x="2" y="38"/>
                  </a:lnTo>
                  <a:lnTo>
                    <a:pt x="6" y="42"/>
                  </a:lnTo>
                  <a:lnTo>
                    <a:pt x="13" y="47"/>
                  </a:lnTo>
                  <a:lnTo>
                    <a:pt x="22" y="54"/>
                  </a:lnTo>
                  <a:lnTo>
                    <a:pt x="33" y="60"/>
                  </a:lnTo>
                  <a:lnTo>
                    <a:pt x="46" y="67"/>
                  </a:lnTo>
                  <a:lnTo>
                    <a:pt x="53" y="69"/>
                  </a:lnTo>
                  <a:lnTo>
                    <a:pt x="61" y="71"/>
                  </a:lnTo>
                  <a:lnTo>
                    <a:pt x="69" y="73"/>
                  </a:lnTo>
                  <a:lnTo>
                    <a:pt x="77" y="73"/>
                  </a:lnTo>
                  <a:lnTo>
                    <a:pt x="96" y="74"/>
                  </a:lnTo>
                  <a:lnTo>
                    <a:pt x="117" y="73"/>
                  </a:lnTo>
                  <a:lnTo>
                    <a:pt x="138" y="72"/>
                  </a:lnTo>
                  <a:lnTo>
                    <a:pt x="159" y="69"/>
                  </a:lnTo>
                  <a:lnTo>
                    <a:pt x="169" y="67"/>
                  </a:lnTo>
                  <a:lnTo>
                    <a:pt x="178" y="65"/>
                  </a:lnTo>
                  <a:lnTo>
                    <a:pt x="186" y="61"/>
                  </a:lnTo>
                  <a:lnTo>
                    <a:pt x="194" y="57"/>
                  </a:lnTo>
                  <a:lnTo>
                    <a:pt x="200" y="53"/>
                  </a:lnTo>
                  <a:lnTo>
                    <a:pt x="206" y="49"/>
                  </a:lnTo>
                  <a:lnTo>
                    <a:pt x="210" y="43"/>
                  </a:lnTo>
                  <a:lnTo>
                    <a:pt x="213" y="37"/>
                  </a:lnTo>
                  <a:close/>
                </a:path>
              </a:pathLst>
            </a:custGeom>
            <a:solidFill>
              <a:srgbClr val="c2c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5673600" y="2146320"/>
              <a:ext cx="65160" cy="25560"/>
            </a:xfrm>
            <a:custGeom>
              <a:avLst/>
              <a:gdLst/>
              <a:ahLst/>
              <a:rect l="l" t="t" r="r" b="b"/>
              <a:pathLst>
                <a:path w="206" h="80">
                  <a:moveTo>
                    <a:pt x="0" y="0"/>
                  </a:moveTo>
                  <a:lnTo>
                    <a:pt x="0" y="2"/>
                  </a:lnTo>
                  <a:lnTo>
                    <a:pt x="3" y="8"/>
                  </a:lnTo>
                  <a:lnTo>
                    <a:pt x="5" y="16"/>
                  </a:lnTo>
                  <a:lnTo>
                    <a:pt x="9" y="26"/>
                  </a:lnTo>
                  <a:lnTo>
                    <a:pt x="14" y="37"/>
                  </a:lnTo>
                  <a:lnTo>
                    <a:pt x="22" y="47"/>
                  </a:lnTo>
                  <a:lnTo>
                    <a:pt x="26" y="52"/>
                  </a:lnTo>
                  <a:lnTo>
                    <a:pt x="31" y="56"/>
                  </a:lnTo>
                  <a:lnTo>
                    <a:pt x="36" y="61"/>
                  </a:lnTo>
                  <a:lnTo>
                    <a:pt x="43" y="64"/>
                  </a:lnTo>
                  <a:lnTo>
                    <a:pt x="57" y="70"/>
                  </a:lnTo>
                  <a:lnTo>
                    <a:pt x="73" y="75"/>
                  </a:lnTo>
                  <a:lnTo>
                    <a:pt x="91" y="78"/>
                  </a:lnTo>
                  <a:lnTo>
                    <a:pt x="111" y="80"/>
                  </a:lnTo>
                  <a:lnTo>
                    <a:pt x="130" y="80"/>
                  </a:lnTo>
                  <a:lnTo>
                    <a:pt x="148" y="78"/>
                  </a:lnTo>
                  <a:lnTo>
                    <a:pt x="156" y="77"/>
                  </a:lnTo>
                  <a:lnTo>
                    <a:pt x="164" y="75"/>
                  </a:lnTo>
                  <a:lnTo>
                    <a:pt x="170" y="72"/>
                  </a:lnTo>
                  <a:lnTo>
                    <a:pt x="175" y="69"/>
                  </a:lnTo>
                  <a:lnTo>
                    <a:pt x="187" y="61"/>
                  </a:lnTo>
                  <a:lnTo>
                    <a:pt x="196" y="53"/>
                  </a:lnTo>
                  <a:lnTo>
                    <a:pt x="201" y="48"/>
                  </a:lnTo>
                  <a:lnTo>
                    <a:pt x="205" y="42"/>
                  </a:lnTo>
                  <a:lnTo>
                    <a:pt x="206" y="39"/>
                  </a:lnTo>
                  <a:lnTo>
                    <a:pt x="206" y="36"/>
                  </a:lnTo>
                  <a:lnTo>
                    <a:pt x="206" y="34"/>
                  </a:lnTo>
                  <a:lnTo>
                    <a:pt x="206" y="32"/>
                  </a:lnTo>
                  <a:lnTo>
                    <a:pt x="201" y="30"/>
                  </a:lnTo>
                  <a:lnTo>
                    <a:pt x="194" y="28"/>
                  </a:lnTo>
                  <a:lnTo>
                    <a:pt x="183" y="26"/>
                  </a:lnTo>
                  <a:lnTo>
                    <a:pt x="169" y="23"/>
                  </a:lnTo>
                  <a:lnTo>
                    <a:pt x="137" y="17"/>
                  </a:lnTo>
                  <a:lnTo>
                    <a:pt x="99" y="12"/>
                  </a:lnTo>
                  <a:lnTo>
                    <a:pt x="62" y="8"/>
                  </a:lnTo>
                  <a:lnTo>
                    <a:pt x="31" y="3"/>
                  </a:lnTo>
                  <a:lnTo>
                    <a:pt x="9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681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5683320" y="2133720"/>
              <a:ext cx="52200" cy="25200"/>
            </a:xfrm>
            <a:custGeom>
              <a:avLst/>
              <a:gdLst/>
              <a:ahLst/>
              <a:rect l="l" t="t" r="r" b="b"/>
              <a:pathLst>
                <a:path w="164" h="78">
                  <a:moveTo>
                    <a:pt x="149" y="42"/>
                  </a:moveTo>
                  <a:lnTo>
                    <a:pt x="149" y="42"/>
                  </a:lnTo>
                  <a:lnTo>
                    <a:pt x="150" y="42"/>
                  </a:lnTo>
                  <a:lnTo>
                    <a:pt x="152" y="41"/>
                  </a:lnTo>
                  <a:lnTo>
                    <a:pt x="153" y="40"/>
                  </a:lnTo>
                  <a:lnTo>
                    <a:pt x="155" y="38"/>
                  </a:lnTo>
                  <a:lnTo>
                    <a:pt x="158" y="37"/>
                  </a:lnTo>
                  <a:lnTo>
                    <a:pt x="160" y="35"/>
                  </a:lnTo>
                  <a:lnTo>
                    <a:pt x="162" y="33"/>
                  </a:lnTo>
                  <a:lnTo>
                    <a:pt x="163" y="31"/>
                  </a:lnTo>
                  <a:lnTo>
                    <a:pt x="164" y="28"/>
                  </a:lnTo>
                  <a:lnTo>
                    <a:pt x="164" y="25"/>
                  </a:lnTo>
                  <a:lnTo>
                    <a:pt x="163" y="23"/>
                  </a:lnTo>
                  <a:lnTo>
                    <a:pt x="161" y="21"/>
                  </a:lnTo>
                  <a:lnTo>
                    <a:pt x="158" y="19"/>
                  </a:lnTo>
                  <a:lnTo>
                    <a:pt x="153" y="16"/>
                  </a:lnTo>
                  <a:lnTo>
                    <a:pt x="147" y="13"/>
                  </a:lnTo>
                  <a:lnTo>
                    <a:pt x="135" y="11"/>
                  </a:lnTo>
                  <a:lnTo>
                    <a:pt x="118" y="8"/>
                  </a:lnTo>
                  <a:lnTo>
                    <a:pt x="96" y="6"/>
                  </a:lnTo>
                  <a:lnTo>
                    <a:pt x="73" y="2"/>
                  </a:lnTo>
                  <a:lnTo>
                    <a:pt x="52" y="1"/>
                  </a:lnTo>
                  <a:lnTo>
                    <a:pt x="32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1"/>
                  </a:lnTo>
                  <a:lnTo>
                    <a:pt x="9" y="4"/>
                  </a:lnTo>
                  <a:lnTo>
                    <a:pt x="4" y="7"/>
                  </a:lnTo>
                  <a:lnTo>
                    <a:pt x="2" y="10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4"/>
                  </a:lnTo>
                  <a:lnTo>
                    <a:pt x="2" y="29"/>
                  </a:lnTo>
                  <a:lnTo>
                    <a:pt x="5" y="36"/>
                  </a:lnTo>
                  <a:lnTo>
                    <a:pt x="9" y="42"/>
                  </a:lnTo>
                  <a:lnTo>
                    <a:pt x="13" y="50"/>
                  </a:lnTo>
                  <a:lnTo>
                    <a:pt x="20" y="56"/>
                  </a:lnTo>
                  <a:lnTo>
                    <a:pt x="30" y="63"/>
                  </a:lnTo>
                  <a:lnTo>
                    <a:pt x="41" y="67"/>
                  </a:lnTo>
                  <a:lnTo>
                    <a:pt x="53" y="72"/>
                  </a:lnTo>
                  <a:lnTo>
                    <a:pt x="65" y="75"/>
                  </a:lnTo>
                  <a:lnTo>
                    <a:pt x="78" y="77"/>
                  </a:lnTo>
                  <a:lnTo>
                    <a:pt x="90" y="78"/>
                  </a:lnTo>
                  <a:lnTo>
                    <a:pt x="96" y="77"/>
                  </a:lnTo>
                  <a:lnTo>
                    <a:pt x="101" y="76"/>
                  </a:lnTo>
                  <a:lnTo>
                    <a:pt x="107" y="75"/>
                  </a:lnTo>
                  <a:lnTo>
                    <a:pt x="111" y="73"/>
                  </a:lnTo>
                  <a:lnTo>
                    <a:pt x="121" y="66"/>
                  </a:lnTo>
                  <a:lnTo>
                    <a:pt x="128" y="61"/>
                  </a:lnTo>
                  <a:lnTo>
                    <a:pt x="136" y="54"/>
                  </a:lnTo>
                  <a:lnTo>
                    <a:pt x="141" y="49"/>
                  </a:lnTo>
                  <a:lnTo>
                    <a:pt x="146" y="45"/>
                  </a:lnTo>
                  <a:lnTo>
                    <a:pt x="149" y="42"/>
                  </a:lnTo>
                  <a:close/>
                </a:path>
              </a:pathLst>
            </a:custGeom>
            <a:solidFill>
              <a:srgbClr val="775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5673600" y="2136960"/>
              <a:ext cx="68400" cy="25200"/>
            </a:xfrm>
            <a:custGeom>
              <a:avLst/>
              <a:gdLst/>
              <a:ahLst/>
              <a:rect l="l" t="t" r="r" b="b"/>
              <a:pathLst>
                <a:path w="212" h="81">
                  <a:moveTo>
                    <a:pt x="0" y="27"/>
                  </a:moveTo>
                  <a:lnTo>
                    <a:pt x="1" y="25"/>
                  </a:lnTo>
                  <a:lnTo>
                    <a:pt x="6" y="20"/>
                  </a:lnTo>
                  <a:lnTo>
                    <a:pt x="14" y="14"/>
                  </a:lnTo>
                  <a:lnTo>
                    <a:pt x="27" y="7"/>
                  </a:lnTo>
                  <a:lnTo>
                    <a:pt x="34" y="4"/>
                  </a:lnTo>
                  <a:lnTo>
                    <a:pt x="43" y="2"/>
                  </a:lnTo>
                  <a:lnTo>
                    <a:pt x="52" y="0"/>
                  </a:lnTo>
                  <a:lnTo>
                    <a:pt x="64" y="0"/>
                  </a:lnTo>
                  <a:lnTo>
                    <a:pt x="77" y="0"/>
                  </a:lnTo>
                  <a:lnTo>
                    <a:pt x="91" y="1"/>
                  </a:lnTo>
                  <a:lnTo>
                    <a:pt x="106" y="3"/>
                  </a:lnTo>
                  <a:lnTo>
                    <a:pt x="124" y="6"/>
                  </a:lnTo>
                  <a:lnTo>
                    <a:pt x="153" y="17"/>
                  </a:lnTo>
                  <a:lnTo>
                    <a:pt x="176" y="26"/>
                  </a:lnTo>
                  <a:lnTo>
                    <a:pt x="192" y="34"/>
                  </a:lnTo>
                  <a:lnTo>
                    <a:pt x="202" y="42"/>
                  </a:lnTo>
                  <a:lnTo>
                    <a:pt x="208" y="47"/>
                  </a:lnTo>
                  <a:lnTo>
                    <a:pt x="211" y="52"/>
                  </a:lnTo>
                  <a:lnTo>
                    <a:pt x="212" y="55"/>
                  </a:lnTo>
                  <a:lnTo>
                    <a:pt x="212" y="56"/>
                  </a:lnTo>
                  <a:lnTo>
                    <a:pt x="210" y="57"/>
                  </a:lnTo>
                  <a:lnTo>
                    <a:pt x="206" y="60"/>
                  </a:lnTo>
                  <a:lnTo>
                    <a:pt x="198" y="66"/>
                  </a:lnTo>
                  <a:lnTo>
                    <a:pt x="188" y="70"/>
                  </a:lnTo>
                  <a:lnTo>
                    <a:pt x="176" y="76"/>
                  </a:lnTo>
                  <a:lnTo>
                    <a:pt x="162" y="79"/>
                  </a:lnTo>
                  <a:lnTo>
                    <a:pt x="153" y="81"/>
                  </a:lnTo>
                  <a:lnTo>
                    <a:pt x="145" y="81"/>
                  </a:lnTo>
                  <a:lnTo>
                    <a:pt x="137" y="81"/>
                  </a:lnTo>
                  <a:lnTo>
                    <a:pt x="128" y="81"/>
                  </a:lnTo>
                  <a:lnTo>
                    <a:pt x="110" y="79"/>
                  </a:lnTo>
                  <a:lnTo>
                    <a:pt x="90" y="77"/>
                  </a:lnTo>
                  <a:lnTo>
                    <a:pt x="70" y="72"/>
                  </a:lnTo>
                  <a:lnTo>
                    <a:pt x="49" y="66"/>
                  </a:lnTo>
                  <a:lnTo>
                    <a:pt x="40" y="63"/>
                  </a:lnTo>
                  <a:lnTo>
                    <a:pt x="31" y="58"/>
                  </a:lnTo>
                  <a:lnTo>
                    <a:pt x="22" y="54"/>
                  </a:lnTo>
                  <a:lnTo>
                    <a:pt x="16" y="50"/>
                  </a:lnTo>
                  <a:lnTo>
                    <a:pt x="9" y="44"/>
                  </a:lnTo>
                  <a:lnTo>
                    <a:pt x="5" y="39"/>
                  </a:lnTo>
                  <a:lnTo>
                    <a:pt x="2" y="32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c2c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5791320" y="1947960"/>
              <a:ext cx="115920" cy="128520"/>
            </a:xfrm>
            <a:custGeom>
              <a:avLst/>
              <a:gdLst/>
              <a:ahLst/>
              <a:rect l="l" t="t" r="r" b="b"/>
              <a:pathLst>
                <a:path w="365" h="401">
                  <a:moveTo>
                    <a:pt x="186" y="401"/>
                  </a:moveTo>
                  <a:lnTo>
                    <a:pt x="170" y="401"/>
                  </a:lnTo>
                  <a:lnTo>
                    <a:pt x="154" y="400"/>
                  </a:lnTo>
                  <a:lnTo>
                    <a:pt x="139" y="396"/>
                  </a:lnTo>
                  <a:lnTo>
                    <a:pt x="125" y="394"/>
                  </a:lnTo>
                  <a:lnTo>
                    <a:pt x="111" y="390"/>
                  </a:lnTo>
                  <a:lnTo>
                    <a:pt x="98" y="386"/>
                  </a:lnTo>
                  <a:lnTo>
                    <a:pt x="85" y="380"/>
                  </a:lnTo>
                  <a:lnTo>
                    <a:pt x="74" y="374"/>
                  </a:lnTo>
                  <a:lnTo>
                    <a:pt x="59" y="365"/>
                  </a:lnTo>
                  <a:lnTo>
                    <a:pt x="43" y="353"/>
                  </a:lnTo>
                  <a:lnTo>
                    <a:pt x="36" y="346"/>
                  </a:lnTo>
                  <a:lnTo>
                    <a:pt x="28" y="337"/>
                  </a:lnTo>
                  <a:lnTo>
                    <a:pt x="22" y="327"/>
                  </a:lnTo>
                  <a:lnTo>
                    <a:pt x="16" y="314"/>
                  </a:lnTo>
                  <a:lnTo>
                    <a:pt x="11" y="300"/>
                  </a:lnTo>
                  <a:lnTo>
                    <a:pt x="6" y="283"/>
                  </a:lnTo>
                  <a:lnTo>
                    <a:pt x="3" y="264"/>
                  </a:lnTo>
                  <a:lnTo>
                    <a:pt x="1" y="241"/>
                  </a:lnTo>
                  <a:lnTo>
                    <a:pt x="0" y="216"/>
                  </a:lnTo>
                  <a:lnTo>
                    <a:pt x="1" y="187"/>
                  </a:lnTo>
                  <a:lnTo>
                    <a:pt x="3" y="153"/>
                  </a:lnTo>
                  <a:lnTo>
                    <a:pt x="7" y="117"/>
                  </a:lnTo>
                  <a:lnTo>
                    <a:pt x="10" y="105"/>
                  </a:lnTo>
                  <a:lnTo>
                    <a:pt x="14" y="93"/>
                  </a:lnTo>
                  <a:lnTo>
                    <a:pt x="19" y="82"/>
                  </a:lnTo>
                  <a:lnTo>
                    <a:pt x="26" y="71"/>
                  </a:lnTo>
                  <a:lnTo>
                    <a:pt x="33" y="62"/>
                  </a:lnTo>
                  <a:lnTo>
                    <a:pt x="43" y="52"/>
                  </a:lnTo>
                  <a:lnTo>
                    <a:pt x="53" y="43"/>
                  </a:lnTo>
                  <a:lnTo>
                    <a:pt x="64" y="35"/>
                  </a:lnTo>
                  <a:lnTo>
                    <a:pt x="77" y="27"/>
                  </a:lnTo>
                  <a:lnTo>
                    <a:pt x="90" y="21"/>
                  </a:lnTo>
                  <a:lnTo>
                    <a:pt x="104" y="14"/>
                  </a:lnTo>
                  <a:lnTo>
                    <a:pt x="119" y="10"/>
                  </a:lnTo>
                  <a:lnTo>
                    <a:pt x="134" y="5"/>
                  </a:lnTo>
                  <a:lnTo>
                    <a:pt x="150" y="3"/>
                  </a:lnTo>
                  <a:lnTo>
                    <a:pt x="167" y="1"/>
                  </a:lnTo>
                  <a:lnTo>
                    <a:pt x="186" y="0"/>
                  </a:lnTo>
                  <a:lnTo>
                    <a:pt x="204" y="1"/>
                  </a:lnTo>
                  <a:lnTo>
                    <a:pt x="221" y="3"/>
                  </a:lnTo>
                  <a:lnTo>
                    <a:pt x="239" y="5"/>
                  </a:lnTo>
                  <a:lnTo>
                    <a:pt x="255" y="10"/>
                  </a:lnTo>
                  <a:lnTo>
                    <a:pt x="270" y="14"/>
                  </a:lnTo>
                  <a:lnTo>
                    <a:pt x="285" y="21"/>
                  </a:lnTo>
                  <a:lnTo>
                    <a:pt x="298" y="27"/>
                  </a:lnTo>
                  <a:lnTo>
                    <a:pt x="311" y="35"/>
                  </a:lnTo>
                  <a:lnTo>
                    <a:pt x="322" y="43"/>
                  </a:lnTo>
                  <a:lnTo>
                    <a:pt x="333" y="52"/>
                  </a:lnTo>
                  <a:lnTo>
                    <a:pt x="341" y="62"/>
                  </a:lnTo>
                  <a:lnTo>
                    <a:pt x="349" y="71"/>
                  </a:lnTo>
                  <a:lnTo>
                    <a:pt x="354" y="82"/>
                  </a:lnTo>
                  <a:lnTo>
                    <a:pt x="360" y="93"/>
                  </a:lnTo>
                  <a:lnTo>
                    <a:pt x="362" y="105"/>
                  </a:lnTo>
                  <a:lnTo>
                    <a:pt x="364" y="117"/>
                  </a:lnTo>
                  <a:lnTo>
                    <a:pt x="364" y="140"/>
                  </a:lnTo>
                  <a:lnTo>
                    <a:pt x="365" y="163"/>
                  </a:lnTo>
                  <a:lnTo>
                    <a:pt x="364" y="185"/>
                  </a:lnTo>
                  <a:lnTo>
                    <a:pt x="363" y="205"/>
                  </a:lnTo>
                  <a:lnTo>
                    <a:pt x="362" y="224"/>
                  </a:lnTo>
                  <a:lnTo>
                    <a:pt x="360" y="241"/>
                  </a:lnTo>
                  <a:lnTo>
                    <a:pt x="357" y="257"/>
                  </a:lnTo>
                  <a:lnTo>
                    <a:pt x="354" y="272"/>
                  </a:lnTo>
                  <a:lnTo>
                    <a:pt x="351" y="287"/>
                  </a:lnTo>
                  <a:lnTo>
                    <a:pt x="348" y="300"/>
                  </a:lnTo>
                  <a:lnTo>
                    <a:pt x="343" y="312"/>
                  </a:lnTo>
                  <a:lnTo>
                    <a:pt x="339" y="323"/>
                  </a:lnTo>
                  <a:lnTo>
                    <a:pt x="334" y="333"/>
                  </a:lnTo>
                  <a:lnTo>
                    <a:pt x="328" y="342"/>
                  </a:lnTo>
                  <a:lnTo>
                    <a:pt x="322" y="351"/>
                  </a:lnTo>
                  <a:lnTo>
                    <a:pt x="316" y="358"/>
                  </a:lnTo>
                  <a:lnTo>
                    <a:pt x="310" y="365"/>
                  </a:lnTo>
                  <a:lnTo>
                    <a:pt x="302" y="371"/>
                  </a:lnTo>
                  <a:lnTo>
                    <a:pt x="296" y="376"/>
                  </a:lnTo>
                  <a:lnTo>
                    <a:pt x="288" y="381"/>
                  </a:lnTo>
                  <a:lnTo>
                    <a:pt x="281" y="385"/>
                  </a:lnTo>
                  <a:lnTo>
                    <a:pt x="273" y="389"/>
                  </a:lnTo>
                  <a:lnTo>
                    <a:pt x="265" y="391"/>
                  </a:lnTo>
                  <a:lnTo>
                    <a:pt x="257" y="394"/>
                  </a:lnTo>
                  <a:lnTo>
                    <a:pt x="240" y="398"/>
                  </a:lnTo>
                  <a:lnTo>
                    <a:pt x="222" y="400"/>
                  </a:lnTo>
                  <a:lnTo>
                    <a:pt x="204" y="401"/>
                  </a:lnTo>
                  <a:lnTo>
                    <a:pt x="186" y="401"/>
                  </a:lnTo>
                  <a:close/>
                </a:path>
              </a:pathLst>
            </a:custGeom>
            <a:solidFill>
              <a:srgbClr val="9a76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5797440" y="1949400"/>
              <a:ext cx="104760" cy="114480"/>
            </a:xfrm>
            <a:custGeom>
              <a:avLst/>
              <a:gdLst/>
              <a:ahLst/>
              <a:rect l="l" t="t" r="r" b="b"/>
              <a:pathLst>
                <a:path w="332" h="357">
                  <a:moveTo>
                    <a:pt x="168" y="357"/>
                  </a:moveTo>
                  <a:lnTo>
                    <a:pt x="154" y="356"/>
                  </a:lnTo>
                  <a:lnTo>
                    <a:pt x="140" y="355"/>
                  </a:lnTo>
                  <a:lnTo>
                    <a:pt x="127" y="354"/>
                  </a:lnTo>
                  <a:lnTo>
                    <a:pt x="114" y="350"/>
                  </a:lnTo>
                  <a:lnTo>
                    <a:pt x="101" y="348"/>
                  </a:lnTo>
                  <a:lnTo>
                    <a:pt x="89" y="344"/>
                  </a:lnTo>
                  <a:lnTo>
                    <a:pt x="77" y="340"/>
                  </a:lnTo>
                  <a:lnTo>
                    <a:pt x="66" y="334"/>
                  </a:lnTo>
                  <a:lnTo>
                    <a:pt x="52" y="327"/>
                  </a:lnTo>
                  <a:lnTo>
                    <a:pt x="38" y="316"/>
                  </a:lnTo>
                  <a:lnTo>
                    <a:pt x="32" y="309"/>
                  </a:lnTo>
                  <a:lnTo>
                    <a:pt x="25" y="302"/>
                  </a:lnTo>
                  <a:lnTo>
                    <a:pt x="19" y="292"/>
                  </a:lnTo>
                  <a:lnTo>
                    <a:pt x="13" y="281"/>
                  </a:lnTo>
                  <a:lnTo>
                    <a:pt x="9" y="268"/>
                  </a:lnTo>
                  <a:lnTo>
                    <a:pt x="6" y="253"/>
                  </a:lnTo>
                  <a:lnTo>
                    <a:pt x="3" y="236"/>
                  </a:lnTo>
                  <a:lnTo>
                    <a:pt x="0" y="215"/>
                  </a:lnTo>
                  <a:lnTo>
                    <a:pt x="0" y="193"/>
                  </a:lnTo>
                  <a:lnTo>
                    <a:pt x="2" y="167"/>
                  </a:lnTo>
                  <a:lnTo>
                    <a:pt x="4" y="138"/>
                  </a:lnTo>
                  <a:lnTo>
                    <a:pt x="7" y="104"/>
                  </a:lnTo>
                  <a:lnTo>
                    <a:pt x="9" y="93"/>
                  </a:lnTo>
                  <a:lnTo>
                    <a:pt x="12" y="84"/>
                  </a:lnTo>
                  <a:lnTo>
                    <a:pt x="17" y="74"/>
                  </a:lnTo>
                  <a:lnTo>
                    <a:pt x="23" y="64"/>
                  </a:lnTo>
                  <a:lnTo>
                    <a:pt x="30" y="56"/>
                  </a:lnTo>
                  <a:lnTo>
                    <a:pt x="38" y="47"/>
                  </a:lnTo>
                  <a:lnTo>
                    <a:pt x="47" y="38"/>
                  </a:lnTo>
                  <a:lnTo>
                    <a:pt x="57" y="31"/>
                  </a:lnTo>
                  <a:lnTo>
                    <a:pt x="69" y="24"/>
                  </a:lnTo>
                  <a:lnTo>
                    <a:pt x="80" y="19"/>
                  </a:lnTo>
                  <a:lnTo>
                    <a:pt x="92" y="13"/>
                  </a:lnTo>
                  <a:lnTo>
                    <a:pt x="106" y="9"/>
                  </a:lnTo>
                  <a:lnTo>
                    <a:pt x="120" y="5"/>
                  </a:lnTo>
                  <a:lnTo>
                    <a:pt x="135" y="3"/>
                  </a:lnTo>
                  <a:lnTo>
                    <a:pt x="152" y="2"/>
                  </a:lnTo>
                  <a:lnTo>
                    <a:pt x="168" y="0"/>
                  </a:lnTo>
                  <a:lnTo>
                    <a:pt x="184" y="2"/>
                  </a:lnTo>
                  <a:lnTo>
                    <a:pt x="200" y="3"/>
                  </a:lnTo>
                  <a:lnTo>
                    <a:pt x="215" y="5"/>
                  </a:lnTo>
                  <a:lnTo>
                    <a:pt x="231" y="9"/>
                  </a:lnTo>
                  <a:lnTo>
                    <a:pt x="245" y="13"/>
                  </a:lnTo>
                  <a:lnTo>
                    <a:pt x="258" y="19"/>
                  </a:lnTo>
                  <a:lnTo>
                    <a:pt x="271" y="24"/>
                  </a:lnTo>
                  <a:lnTo>
                    <a:pt x="282" y="31"/>
                  </a:lnTo>
                  <a:lnTo>
                    <a:pt x="292" y="38"/>
                  </a:lnTo>
                  <a:lnTo>
                    <a:pt x="302" y="47"/>
                  </a:lnTo>
                  <a:lnTo>
                    <a:pt x="310" y="56"/>
                  </a:lnTo>
                  <a:lnTo>
                    <a:pt x="317" y="64"/>
                  </a:lnTo>
                  <a:lnTo>
                    <a:pt x="322" y="74"/>
                  </a:lnTo>
                  <a:lnTo>
                    <a:pt x="327" y="84"/>
                  </a:lnTo>
                  <a:lnTo>
                    <a:pt x="330" y="93"/>
                  </a:lnTo>
                  <a:lnTo>
                    <a:pt x="331" y="104"/>
                  </a:lnTo>
                  <a:lnTo>
                    <a:pt x="332" y="146"/>
                  </a:lnTo>
                  <a:lnTo>
                    <a:pt x="331" y="183"/>
                  </a:lnTo>
                  <a:lnTo>
                    <a:pt x="329" y="199"/>
                  </a:lnTo>
                  <a:lnTo>
                    <a:pt x="328" y="214"/>
                  </a:lnTo>
                  <a:lnTo>
                    <a:pt x="325" y="229"/>
                  </a:lnTo>
                  <a:lnTo>
                    <a:pt x="322" y="242"/>
                  </a:lnTo>
                  <a:lnTo>
                    <a:pt x="319" y="255"/>
                  </a:lnTo>
                  <a:lnTo>
                    <a:pt x="316" y="267"/>
                  </a:lnTo>
                  <a:lnTo>
                    <a:pt x="312" y="278"/>
                  </a:lnTo>
                  <a:lnTo>
                    <a:pt x="307" y="288"/>
                  </a:lnTo>
                  <a:lnTo>
                    <a:pt x="303" y="296"/>
                  </a:lnTo>
                  <a:lnTo>
                    <a:pt x="298" y="304"/>
                  </a:lnTo>
                  <a:lnTo>
                    <a:pt x="292" y="312"/>
                  </a:lnTo>
                  <a:lnTo>
                    <a:pt x="287" y="318"/>
                  </a:lnTo>
                  <a:lnTo>
                    <a:pt x="280" y="324"/>
                  </a:lnTo>
                  <a:lnTo>
                    <a:pt x="275" y="330"/>
                  </a:lnTo>
                  <a:lnTo>
                    <a:pt x="268" y="334"/>
                  </a:lnTo>
                  <a:lnTo>
                    <a:pt x="261" y="339"/>
                  </a:lnTo>
                  <a:lnTo>
                    <a:pt x="247" y="345"/>
                  </a:lnTo>
                  <a:lnTo>
                    <a:pt x="233" y="350"/>
                  </a:lnTo>
                  <a:lnTo>
                    <a:pt x="216" y="354"/>
                  </a:lnTo>
                  <a:lnTo>
                    <a:pt x="201" y="355"/>
                  </a:lnTo>
                  <a:lnTo>
                    <a:pt x="184" y="356"/>
                  </a:lnTo>
                  <a:lnTo>
                    <a:pt x="168" y="357"/>
                  </a:lnTo>
                  <a:close/>
                </a:path>
              </a:pathLst>
            </a:custGeom>
            <a:solidFill>
              <a:srgbClr val="9d78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5803920" y="1951200"/>
              <a:ext cx="93600" cy="100080"/>
            </a:xfrm>
            <a:custGeom>
              <a:avLst/>
              <a:gdLst/>
              <a:ahLst/>
              <a:rect l="l" t="t" r="r" b="b"/>
              <a:pathLst>
                <a:path w="297" h="316">
                  <a:moveTo>
                    <a:pt x="150" y="316"/>
                  </a:moveTo>
                  <a:lnTo>
                    <a:pt x="137" y="316"/>
                  </a:lnTo>
                  <a:lnTo>
                    <a:pt x="125" y="315"/>
                  </a:lnTo>
                  <a:lnTo>
                    <a:pt x="112" y="313"/>
                  </a:lnTo>
                  <a:lnTo>
                    <a:pt x="101" y="311"/>
                  </a:lnTo>
                  <a:lnTo>
                    <a:pt x="90" y="307"/>
                  </a:lnTo>
                  <a:lnTo>
                    <a:pt x="79" y="304"/>
                  </a:lnTo>
                  <a:lnTo>
                    <a:pt x="69" y="300"/>
                  </a:lnTo>
                  <a:lnTo>
                    <a:pt x="59" y="294"/>
                  </a:lnTo>
                  <a:lnTo>
                    <a:pt x="46" y="287"/>
                  </a:lnTo>
                  <a:lnTo>
                    <a:pt x="34" y="278"/>
                  </a:lnTo>
                  <a:lnTo>
                    <a:pt x="28" y="273"/>
                  </a:lnTo>
                  <a:lnTo>
                    <a:pt x="23" y="265"/>
                  </a:lnTo>
                  <a:lnTo>
                    <a:pt x="17" y="258"/>
                  </a:lnTo>
                  <a:lnTo>
                    <a:pt x="12" y="248"/>
                  </a:lnTo>
                  <a:lnTo>
                    <a:pt x="9" y="237"/>
                  </a:lnTo>
                  <a:lnTo>
                    <a:pt x="4" y="224"/>
                  </a:lnTo>
                  <a:lnTo>
                    <a:pt x="2" y="209"/>
                  </a:lnTo>
                  <a:lnTo>
                    <a:pt x="0" y="192"/>
                  </a:lnTo>
                  <a:lnTo>
                    <a:pt x="0" y="172"/>
                  </a:lnTo>
                  <a:lnTo>
                    <a:pt x="0" y="150"/>
                  </a:lnTo>
                  <a:lnTo>
                    <a:pt x="1" y="125"/>
                  </a:lnTo>
                  <a:lnTo>
                    <a:pt x="4" y="97"/>
                  </a:lnTo>
                  <a:lnTo>
                    <a:pt x="6" y="87"/>
                  </a:lnTo>
                  <a:lnTo>
                    <a:pt x="10" y="77"/>
                  </a:lnTo>
                  <a:lnTo>
                    <a:pt x="14" y="69"/>
                  </a:lnTo>
                  <a:lnTo>
                    <a:pt x="19" y="59"/>
                  </a:lnTo>
                  <a:lnTo>
                    <a:pt x="26" y="51"/>
                  </a:lnTo>
                  <a:lnTo>
                    <a:pt x="33" y="43"/>
                  </a:lnTo>
                  <a:lnTo>
                    <a:pt x="41" y="35"/>
                  </a:lnTo>
                  <a:lnTo>
                    <a:pt x="51" y="29"/>
                  </a:lnTo>
                  <a:lnTo>
                    <a:pt x="60" y="22"/>
                  </a:lnTo>
                  <a:lnTo>
                    <a:pt x="71" y="17"/>
                  </a:lnTo>
                  <a:lnTo>
                    <a:pt x="83" y="12"/>
                  </a:lnTo>
                  <a:lnTo>
                    <a:pt x="95" y="8"/>
                  </a:lnTo>
                  <a:lnTo>
                    <a:pt x="108" y="4"/>
                  </a:lnTo>
                  <a:lnTo>
                    <a:pt x="122" y="2"/>
                  </a:lnTo>
                  <a:lnTo>
                    <a:pt x="136" y="1"/>
                  </a:lnTo>
                  <a:lnTo>
                    <a:pt x="150" y="0"/>
                  </a:lnTo>
                  <a:lnTo>
                    <a:pt x="165" y="1"/>
                  </a:lnTo>
                  <a:lnTo>
                    <a:pt x="180" y="2"/>
                  </a:lnTo>
                  <a:lnTo>
                    <a:pt x="194" y="4"/>
                  </a:lnTo>
                  <a:lnTo>
                    <a:pt x="207" y="8"/>
                  </a:lnTo>
                  <a:lnTo>
                    <a:pt x="220" y="12"/>
                  </a:lnTo>
                  <a:lnTo>
                    <a:pt x="232" y="17"/>
                  </a:lnTo>
                  <a:lnTo>
                    <a:pt x="243" y="22"/>
                  </a:lnTo>
                  <a:lnTo>
                    <a:pt x="253" y="29"/>
                  </a:lnTo>
                  <a:lnTo>
                    <a:pt x="262" y="35"/>
                  </a:lnTo>
                  <a:lnTo>
                    <a:pt x="271" y="43"/>
                  </a:lnTo>
                  <a:lnTo>
                    <a:pt x="278" y="51"/>
                  </a:lnTo>
                  <a:lnTo>
                    <a:pt x="284" y="59"/>
                  </a:lnTo>
                  <a:lnTo>
                    <a:pt x="289" y="69"/>
                  </a:lnTo>
                  <a:lnTo>
                    <a:pt x="293" y="77"/>
                  </a:lnTo>
                  <a:lnTo>
                    <a:pt x="295" y="87"/>
                  </a:lnTo>
                  <a:lnTo>
                    <a:pt x="296" y="97"/>
                  </a:lnTo>
                  <a:lnTo>
                    <a:pt x="297" y="132"/>
                  </a:lnTo>
                  <a:lnTo>
                    <a:pt x="296" y="164"/>
                  </a:lnTo>
                  <a:lnTo>
                    <a:pt x="293" y="192"/>
                  </a:lnTo>
                  <a:lnTo>
                    <a:pt x="288" y="217"/>
                  </a:lnTo>
                  <a:lnTo>
                    <a:pt x="285" y="228"/>
                  </a:lnTo>
                  <a:lnTo>
                    <a:pt x="282" y="237"/>
                  </a:lnTo>
                  <a:lnTo>
                    <a:pt x="279" y="247"/>
                  </a:lnTo>
                  <a:lnTo>
                    <a:pt x="275" y="256"/>
                  </a:lnTo>
                  <a:lnTo>
                    <a:pt x="271" y="263"/>
                  </a:lnTo>
                  <a:lnTo>
                    <a:pt x="267" y="270"/>
                  </a:lnTo>
                  <a:lnTo>
                    <a:pt x="261" y="276"/>
                  </a:lnTo>
                  <a:lnTo>
                    <a:pt x="257" y="283"/>
                  </a:lnTo>
                  <a:lnTo>
                    <a:pt x="252" y="288"/>
                  </a:lnTo>
                  <a:lnTo>
                    <a:pt x="246" y="292"/>
                  </a:lnTo>
                  <a:lnTo>
                    <a:pt x="241" y="297"/>
                  </a:lnTo>
                  <a:lnTo>
                    <a:pt x="234" y="300"/>
                  </a:lnTo>
                  <a:lnTo>
                    <a:pt x="221" y="306"/>
                  </a:lnTo>
                  <a:lnTo>
                    <a:pt x="208" y="311"/>
                  </a:lnTo>
                  <a:lnTo>
                    <a:pt x="194" y="314"/>
                  </a:lnTo>
                  <a:lnTo>
                    <a:pt x="180" y="315"/>
                  </a:lnTo>
                  <a:lnTo>
                    <a:pt x="165" y="316"/>
                  </a:lnTo>
                  <a:lnTo>
                    <a:pt x="150" y="316"/>
                  </a:lnTo>
                  <a:close/>
                </a:path>
              </a:pathLst>
            </a:custGeom>
            <a:solidFill>
              <a:srgbClr val="a27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5810400" y="1952640"/>
              <a:ext cx="82440" cy="87480"/>
            </a:xfrm>
            <a:custGeom>
              <a:avLst/>
              <a:gdLst/>
              <a:ahLst/>
              <a:rect l="l" t="t" r="r" b="b"/>
              <a:pathLst>
                <a:path w="263" h="274">
                  <a:moveTo>
                    <a:pt x="134" y="274"/>
                  </a:moveTo>
                  <a:lnTo>
                    <a:pt x="122" y="274"/>
                  </a:lnTo>
                  <a:lnTo>
                    <a:pt x="112" y="273"/>
                  </a:lnTo>
                  <a:lnTo>
                    <a:pt x="101" y="271"/>
                  </a:lnTo>
                  <a:lnTo>
                    <a:pt x="90" y="269"/>
                  </a:lnTo>
                  <a:lnTo>
                    <a:pt x="80" y="266"/>
                  </a:lnTo>
                  <a:lnTo>
                    <a:pt x="71" y="262"/>
                  </a:lnTo>
                  <a:lnTo>
                    <a:pt x="61" y="259"/>
                  </a:lnTo>
                  <a:lnTo>
                    <a:pt x="52" y="255"/>
                  </a:lnTo>
                  <a:lnTo>
                    <a:pt x="41" y="248"/>
                  </a:lnTo>
                  <a:lnTo>
                    <a:pt x="30" y="241"/>
                  </a:lnTo>
                  <a:lnTo>
                    <a:pt x="25" y="235"/>
                  </a:lnTo>
                  <a:lnTo>
                    <a:pt x="20" y="229"/>
                  </a:lnTo>
                  <a:lnTo>
                    <a:pt x="15" y="223"/>
                  </a:lnTo>
                  <a:lnTo>
                    <a:pt x="11" y="214"/>
                  </a:lnTo>
                  <a:lnTo>
                    <a:pt x="8" y="204"/>
                  </a:lnTo>
                  <a:lnTo>
                    <a:pt x="5" y="192"/>
                  </a:lnTo>
                  <a:lnTo>
                    <a:pt x="2" y="179"/>
                  </a:lnTo>
                  <a:lnTo>
                    <a:pt x="1" y="165"/>
                  </a:lnTo>
                  <a:lnTo>
                    <a:pt x="0" y="148"/>
                  </a:lnTo>
                  <a:lnTo>
                    <a:pt x="1" y="129"/>
                  </a:lnTo>
                  <a:lnTo>
                    <a:pt x="2" y="108"/>
                  </a:lnTo>
                  <a:lnTo>
                    <a:pt x="6" y="84"/>
                  </a:lnTo>
                  <a:lnTo>
                    <a:pt x="7" y="76"/>
                  </a:lnTo>
                  <a:lnTo>
                    <a:pt x="9" y="68"/>
                  </a:lnTo>
                  <a:lnTo>
                    <a:pt x="13" y="59"/>
                  </a:lnTo>
                  <a:lnTo>
                    <a:pt x="18" y="52"/>
                  </a:lnTo>
                  <a:lnTo>
                    <a:pt x="23" y="44"/>
                  </a:lnTo>
                  <a:lnTo>
                    <a:pt x="30" y="38"/>
                  </a:lnTo>
                  <a:lnTo>
                    <a:pt x="36" y="31"/>
                  </a:lnTo>
                  <a:lnTo>
                    <a:pt x="45" y="25"/>
                  </a:lnTo>
                  <a:lnTo>
                    <a:pt x="53" y="19"/>
                  </a:lnTo>
                  <a:lnTo>
                    <a:pt x="63" y="15"/>
                  </a:lnTo>
                  <a:lnTo>
                    <a:pt x="74" y="11"/>
                  </a:lnTo>
                  <a:lnTo>
                    <a:pt x="85" y="7"/>
                  </a:lnTo>
                  <a:lnTo>
                    <a:pt x="95" y="4"/>
                  </a:lnTo>
                  <a:lnTo>
                    <a:pt x="108" y="2"/>
                  </a:lnTo>
                  <a:lnTo>
                    <a:pt x="120" y="0"/>
                  </a:lnTo>
                  <a:lnTo>
                    <a:pt x="134" y="0"/>
                  </a:lnTo>
                  <a:lnTo>
                    <a:pt x="147" y="0"/>
                  </a:lnTo>
                  <a:lnTo>
                    <a:pt x="160" y="1"/>
                  </a:lnTo>
                  <a:lnTo>
                    <a:pt x="172" y="3"/>
                  </a:lnTo>
                  <a:lnTo>
                    <a:pt x="184" y="7"/>
                  </a:lnTo>
                  <a:lnTo>
                    <a:pt x="196" y="10"/>
                  </a:lnTo>
                  <a:lnTo>
                    <a:pt x="206" y="14"/>
                  </a:lnTo>
                  <a:lnTo>
                    <a:pt x="216" y="19"/>
                  </a:lnTo>
                  <a:lnTo>
                    <a:pt x="225" y="25"/>
                  </a:lnTo>
                  <a:lnTo>
                    <a:pt x="234" y="30"/>
                  </a:lnTo>
                  <a:lnTo>
                    <a:pt x="240" y="37"/>
                  </a:lnTo>
                  <a:lnTo>
                    <a:pt x="247" y="43"/>
                  </a:lnTo>
                  <a:lnTo>
                    <a:pt x="252" y="51"/>
                  </a:lnTo>
                  <a:lnTo>
                    <a:pt x="256" y="58"/>
                  </a:lnTo>
                  <a:lnTo>
                    <a:pt x="260" y="67"/>
                  </a:lnTo>
                  <a:lnTo>
                    <a:pt x="262" y="76"/>
                  </a:lnTo>
                  <a:lnTo>
                    <a:pt x="263" y="84"/>
                  </a:lnTo>
                  <a:lnTo>
                    <a:pt x="263" y="115"/>
                  </a:lnTo>
                  <a:lnTo>
                    <a:pt x="262" y="142"/>
                  </a:lnTo>
                  <a:lnTo>
                    <a:pt x="260" y="165"/>
                  </a:lnTo>
                  <a:lnTo>
                    <a:pt x="255" y="187"/>
                  </a:lnTo>
                  <a:lnTo>
                    <a:pt x="250" y="205"/>
                  </a:lnTo>
                  <a:lnTo>
                    <a:pt x="243" y="220"/>
                  </a:lnTo>
                  <a:lnTo>
                    <a:pt x="236" y="233"/>
                  </a:lnTo>
                  <a:lnTo>
                    <a:pt x="228" y="244"/>
                  </a:lnTo>
                  <a:lnTo>
                    <a:pt x="219" y="253"/>
                  </a:lnTo>
                  <a:lnTo>
                    <a:pt x="208" y="259"/>
                  </a:lnTo>
                  <a:lnTo>
                    <a:pt x="197" y="265"/>
                  </a:lnTo>
                  <a:lnTo>
                    <a:pt x="185" y="269"/>
                  </a:lnTo>
                  <a:lnTo>
                    <a:pt x="173" y="271"/>
                  </a:lnTo>
                  <a:lnTo>
                    <a:pt x="160" y="273"/>
                  </a:lnTo>
                  <a:lnTo>
                    <a:pt x="147" y="274"/>
                  </a:lnTo>
                  <a:lnTo>
                    <a:pt x="134" y="274"/>
                  </a:lnTo>
                  <a:close/>
                </a:path>
              </a:pathLst>
            </a:custGeom>
            <a:solidFill>
              <a:srgbClr val="a57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5816520" y="1954440"/>
              <a:ext cx="73080" cy="72720"/>
            </a:xfrm>
            <a:custGeom>
              <a:avLst/>
              <a:gdLst/>
              <a:ahLst/>
              <a:rect l="l" t="t" r="r" b="b"/>
              <a:pathLst>
                <a:path w="230" h="230">
                  <a:moveTo>
                    <a:pt x="116" y="230"/>
                  </a:moveTo>
                  <a:lnTo>
                    <a:pt x="107" y="230"/>
                  </a:lnTo>
                  <a:lnTo>
                    <a:pt x="96" y="229"/>
                  </a:lnTo>
                  <a:lnTo>
                    <a:pt x="87" y="228"/>
                  </a:lnTo>
                  <a:lnTo>
                    <a:pt x="78" y="227"/>
                  </a:lnTo>
                  <a:lnTo>
                    <a:pt x="69" y="224"/>
                  </a:lnTo>
                  <a:lnTo>
                    <a:pt x="60" y="222"/>
                  </a:lnTo>
                  <a:lnTo>
                    <a:pt x="53" y="217"/>
                  </a:lnTo>
                  <a:lnTo>
                    <a:pt x="45" y="213"/>
                  </a:lnTo>
                  <a:lnTo>
                    <a:pt x="35" y="209"/>
                  </a:lnTo>
                  <a:lnTo>
                    <a:pt x="26" y="202"/>
                  </a:lnTo>
                  <a:lnTo>
                    <a:pt x="21" y="198"/>
                  </a:lnTo>
                  <a:lnTo>
                    <a:pt x="17" y="193"/>
                  </a:lnTo>
                  <a:lnTo>
                    <a:pt x="13" y="187"/>
                  </a:lnTo>
                  <a:lnTo>
                    <a:pt x="10" y="181"/>
                  </a:lnTo>
                  <a:lnTo>
                    <a:pt x="6" y="172"/>
                  </a:lnTo>
                  <a:lnTo>
                    <a:pt x="4" y="163"/>
                  </a:lnTo>
                  <a:lnTo>
                    <a:pt x="2" y="153"/>
                  </a:lnTo>
                  <a:lnTo>
                    <a:pt x="1" y="141"/>
                  </a:lnTo>
                  <a:lnTo>
                    <a:pt x="0" y="127"/>
                  </a:lnTo>
                  <a:lnTo>
                    <a:pt x="0" y="112"/>
                  </a:lnTo>
                  <a:lnTo>
                    <a:pt x="1" y="94"/>
                  </a:lnTo>
                  <a:lnTo>
                    <a:pt x="3" y="75"/>
                  </a:lnTo>
                  <a:lnTo>
                    <a:pt x="4" y="67"/>
                  </a:lnTo>
                  <a:lnTo>
                    <a:pt x="6" y="60"/>
                  </a:lnTo>
                  <a:lnTo>
                    <a:pt x="10" y="52"/>
                  </a:lnTo>
                  <a:lnTo>
                    <a:pt x="14" y="46"/>
                  </a:lnTo>
                  <a:lnTo>
                    <a:pt x="19" y="39"/>
                  </a:lnTo>
                  <a:lnTo>
                    <a:pt x="25" y="33"/>
                  </a:lnTo>
                  <a:lnTo>
                    <a:pt x="31" y="27"/>
                  </a:lnTo>
                  <a:lnTo>
                    <a:pt x="39" y="22"/>
                  </a:lnTo>
                  <a:lnTo>
                    <a:pt x="46" y="18"/>
                  </a:lnTo>
                  <a:lnTo>
                    <a:pt x="55" y="13"/>
                  </a:lnTo>
                  <a:lnTo>
                    <a:pt x="64" y="10"/>
                  </a:lnTo>
                  <a:lnTo>
                    <a:pt x="73" y="7"/>
                  </a:lnTo>
                  <a:lnTo>
                    <a:pt x="83" y="4"/>
                  </a:lnTo>
                  <a:lnTo>
                    <a:pt x="94" y="3"/>
                  </a:lnTo>
                  <a:lnTo>
                    <a:pt x="105" y="1"/>
                  </a:lnTo>
                  <a:lnTo>
                    <a:pt x="116" y="0"/>
                  </a:lnTo>
                  <a:lnTo>
                    <a:pt x="127" y="1"/>
                  </a:lnTo>
                  <a:lnTo>
                    <a:pt x="139" y="3"/>
                  </a:lnTo>
                  <a:lnTo>
                    <a:pt x="150" y="4"/>
                  </a:lnTo>
                  <a:lnTo>
                    <a:pt x="160" y="7"/>
                  </a:lnTo>
                  <a:lnTo>
                    <a:pt x="169" y="10"/>
                  </a:lnTo>
                  <a:lnTo>
                    <a:pt x="179" y="13"/>
                  </a:lnTo>
                  <a:lnTo>
                    <a:pt x="188" y="18"/>
                  </a:lnTo>
                  <a:lnTo>
                    <a:pt x="195" y="22"/>
                  </a:lnTo>
                  <a:lnTo>
                    <a:pt x="203" y="27"/>
                  </a:lnTo>
                  <a:lnTo>
                    <a:pt x="209" y="33"/>
                  </a:lnTo>
                  <a:lnTo>
                    <a:pt x="215" y="39"/>
                  </a:lnTo>
                  <a:lnTo>
                    <a:pt x="220" y="46"/>
                  </a:lnTo>
                  <a:lnTo>
                    <a:pt x="224" y="52"/>
                  </a:lnTo>
                  <a:lnTo>
                    <a:pt x="227" y="60"/>
                  </a:lnTo>
                  <a:lnTo>
                    <a:pt x="229" y="67"/>
                  </a:lnTo>
                  <a:lnTo>
                    <a:pt x="230" y="75"/>
                  </a:lnTo>
                  <a:lnTo>
                    <a:pt x="230" y="100"/>
                  </a:lnTo>
                  <a:lnTo>
                    <a:pt x="229" y="122"/>
                  </a:lnTo>
                  <a:lnTo>
                    <a:pt x="227" y="142"/>
                  </a:lnTo>
                  <a:lnTo>
                    <a:pt x="223" y="159"/>
                  </a:lnTo>
                  <a:lnTo>
                    <a:pt x="218" y="173"/>
                  </a:lnTo>
                  <a:lnTo>
                    <a:pt x="213" y="186"/>
                  </a:lnTo>
                  <a:lnTo>
                    <a:pt x="206" y="197"/>
                  </a:lnTo>
                  <a:lnTo>
                    <a:pt x="199" y="206"/>
                  </a:lnTo>
                  <a:lnTo>
                    <a:pt x="190" y="213"/>
                  </a:lnTo>
                  <a:lnTo>
                    <a:pt x="181" y="219"/>
                  </a:lnTo>
                  <a:lnTo>
                    <a:pt x="172" y="223"/>
                  </a:lnTo>
                  <a:lnTo>
                    <a:pt x="161" y="226"/>
                  </a:lnTo>
                  <a:lnTo>
                    <a:pt x="150" y="228"/>
                  </a:lnTo>
                  <a:lnTo>
                    <a:pt x="139" y="229"/>
                  </a:lnTo>
                  <a:lnTo>
                    <a:pt x="128" y="230"/>
                  </a:lnTo>
                  <a:lnTo>
                    <a:pt x="116" y="230"/>
                  </a:lnTo>
                  <a:close/>
                </a:path>
              </a:pathLst>
            </a:custGeom>
            <a:solidFill>
              <a:srgbClr val="a980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5823000" y="1955880"/>
              <a:ext cx="61920" cy="60480"/>
            </a:xfrm>
            <a:custGeom>
              <a:avLst/>
              <a:gdLst/>
              <a:ahLst/>
              <a:rect l="l" t="t" r="r" b="b"/>
              <a:pathLst>
                <a:path w="196" h="188">
                  <a:moveTo>
                    <a:pt x="99" y="188"/>
                  </a:moveTo>
                  <a:lnTo>
                    <a:pt x="90" y="188"/>
                  </a:lnTo>
                  <a:lnTo>
                    <a:pt x="82" y="187"/>
                  </a:lnTo>
                  <a:lnTo>
                    <a:pt x="74" y="186"/>
                  </a:lnTo>
                  <a:lnTo>
                    <a:pt x="66" y="184"/>
                  </a:lnTo>
                  <a:lnTo>
                    <a:pt x="59" y="182"/>
                  </a:lnTo>
                  <a:lnTo>
                    <a:pt x="51" y="179"/>
                  </a:lnTo>
                  <a:lnTo>
                    <a:pt x="44" y="176"/>
                  </a:lnTo>
                  <a:lnTo>
                    <a:pt x="37" y="173"/>
                  </a:lnTo>
                  <a:lnTo>
                    <a:pt x="29" y="168"/>
                  </a:lnTo>
                  <a:lnTo>
                    <a:pt x="22" y="162"/>
                  </a:lnTo>
                  <a:lnTo>
                    <a:pt x="19" y="159"/>
                  </a:lnTo>
                  <a:lnTo>
                    <a:pt x="14" y="154"/>
                  </a:lnTo>
                  <a:lnTo>
                    <a:pt x="11" y="150"/>
                  </a:lnTo>
                  <a:lnTo>
                    <a:pt x="9" y="144"/>
                  </a:lnTo>
                  <a:lnTo>
                    <a:pt x="6" y="138"/>
                  </a:lnTo>
                  <a:lnTo>
                    <a:pt x="4" y="130"/>
                  </a:lnTo>
                  <a:lnTo>
                    <a:pt x="2" y="122"/>
                  </a:lnTo>
                  <a:lnTo>
                    <a:pt x="0" y="113"/>
                  </a:lnTo>
                  <a:lnTo>
                    <a:pt x="0" y="102"/>
                  </a:lnTo>
                  <a:lnTo>
                    <a:pt x="0" y="90"/>
                  </a:lnTo>
                  <a:lnTo>
                    <a:pt x="1" y="76"/>
                  </a:lnTo>
                  <a:lnTo>
                    <a:pt x="2" y="61"/>
                  </a:lnTo>
                  <a:lnTo>
                    <a:pt x="4" y="55"/>
                  </a:lnTo>
                  <a:lnTo>
                    <a:pt x="5" y="49"/>
                  </a:lnTo>
                  <a:lnTo>
                    <a:pt x="8" y="43"/>
                  </a:lnTo>
                  <a:lnTo>
                    <a:pt x="11" y="38"/>
                  </a:lnTo>
                  <a:lnTo>
                    <a:pt x="14" y="32"/>
                  </a:lnTo>
                  <a:lnTo>
                    <a:pt x="20" y="27"/>
                  </a:lnTo>
                  <a:lnTo>
                    <a:pt x="25" y="22"/>
                  </a:lnTo>
                  <a:lnTo>
                    <a:pt x="32" y="18"/>
                  </a:lnTo>
                  <a:lnTo>
                    <a:pt x="38" y="14"/>
                  </a:lnTo>
                  <a:lnTo>
                    <a:pt x="45" y="11"/>
                  </a:lnTo>
                  <a:lnTo>
                    <a:pt x="53" y="7"/>
                  </a:lnTo>
                  <a:lnTo>
                    <a:pt x="61" y="4"/>
                  </a:lnTo>
                  <a:lnTo>
                    <a:pt x="69" y="3"/>
                  </a:lnTo>
                  <a:lnTo>
                    <a:pt x="79" y="1"/>
                  </a:lnTo>
                  <a:lnTo>
                    <a:pt x="89" y="0"/>
                  </a:lnTo>
                  <a:lnTo>
                    <a:pt x="99" y="0"/>
                  </a:lnTo>
                  <a:lnTo>
                    <a:pt x="108" y="0"/>
                  </a:lnTo>
                  <a:lnTo>
                    <a:pt x="118" y="1"/>
                  </a:lnTo>
                  <a:lnTo>
                    <a:pt x="128" y="3"/>
                  </a:lnTo>
                  <a:lnTo>
                    <a:pt x="136" y="4"/>
                  </a:lnTo>
                  <a:lnTo>
                    <a:pt x="145" y="7"/>
                  </a:lnTo>
                  <a:lnTo>
                    <a:pt x="154" y="11"/>
                  </a:lnTo>
                  <a:lnTo>
                    <a:pt x="160" y="14"/>
                  </a:lnTo>
                  <a:lnTo>
                    <a:pt x="168" y="18"/>
                  </a:lnTo>
                  <a:lnTo>
                    <a:pt x="173" y="22"/>
                  </a:lnTo>
                  <a:lnTo>
                    <a:pt x="179" y="27"/>
                  </a:lnTo>
                  <a:lnTo>
                    <a:pt x="184" y="32"/>
                  </a:lnTo>
                  <a:lnTo>
                    <a:pt x="188" y="38"/>
                  </a:lnTo>
                  <a:lnTo>
                    <a:pt x="192" y="43"/>
                  </a:lnTo>
                  <a:lnTo>
                    <a:pt x="194" y="49"/>
                  </a:lnTo>
                  <a:lnTo>
                    <a:pt x="195" y="55"/>
                  </a:lnTo>
                  <a:lnTo>
                    <a:pt x="195" y="61"/>
                  </a:lnTo>
                  <a:lnTo>
                    <a:pt x="196" y="81"/>
                  </a:lnTo>
                  <a:lnTo>
                    <a:pt x="195" y="98"/>
                  </a:lnTo>
                  <a:lnTo>
                    <a:pt x="193" y="113"/>
                  </a:lnTo>
                  <a:lnTo>
                    <a:pt x="189" y="127"/>
                  </a:lnTo>
                  <a:lnTo>
                    <a:pt x="186" y="139"/>
                  </a:lnTo>
                  <a:lnTo>
                    <a:pt x="181" y="149"/>
                  </a:lnTo>
                  <a:lnTo>
                    <a:pt x="175" y="159"/>
                  </a:lnTo>
                  <a:lnTo>
                    <a:pt x="169" y="165"/>
                  </a:lnTo>
                  <a:lnTo>
                    <a:pt x="162" y="171"/>
                  </a:lnTo>
                  <a:lnTo>
                    <a:pt x="155" y="177"/>
                  </a:lnTo>
                  <a:lnTo>
                    <a:pt x="146" y="180"/>
                  </a:lnTo>
                  <a:lnTo>
                    <a:pt x="137" y="183"/>
                  </a:lnTo>
                  <a:lnTo>
                    <a:pt x="128" y="186"/>
                  </a:lnTo>
                  <a:lnTo>
                    <a:pt x="119" y="187"/>
                  </a:lnTo>
                  <a:lnTo>
                    <a:pt x="109" y="188"/>
                  </a:lnTo>
                  <a:lnTo>
                    <a:pt x="99" y="188"/>
                  </a:lnTo>
                  <a:close/>
                </a:path>
              </a:pathLst>
            </a:custGeom>
            <a:solidFill>
              <a:srgbClr val="ac83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5829120" y="1955880"/>
              <a:ext cx="51120" cy="47520"/>
            </a:xfrm>
            <a:custGeom>
              <a:avLst/>
              <a:gdLst/>
              <a:ahLst/>
              <a:rect l="l" t="t" r="r" b="b"/>
              <a:pathLst>
                <a:path w="160" h="146">
                  <a:moveTo>
                    <a:pt x="80" y="146"/>
                  </a:moveTo>
                  <a:lnTo>
                    <a:pt x="73" y="146"/>
                  </a:lnTo>
                  <a:lnTo>
                    <a:pt x="66" y="146"/>
                  </a:lnTo>
                  <a:lnTo>
                    <a:pt x="59" y="145"/>
                  </a:lnTo>
                  <a:lnTo>
                    <a:pt x="53" y="144"/>
                  </a:lnTo>
                  <a:lnTo>
                    <a:pt x="46" y="142"/>
                  </a:lnTo>
                  <a:lnTo>
                    <a:pt x="40" y="141"/>
                  </a:lnTo>
                  <a:lnTo>
                    <a:pt x="34" y="139"/>
                  </a:lnTo>
                  <a:lnTo>
                    <a:pt x="28" y="136"/>
                  </a:lnTo>
                  <a:lnTo>
                    <a:pt x="21" y="133"/>
                  </a:lnTo>
                  <a:lnTo>
                    <a:pt x="16" y="127"/>
                  </a:lnTo>
                  <a:lnTo>
                    <a:pt x="11" y="121"/>
                  </a:lnTo>
                  <a:lnTo>
                    <a:pt x="5" y="112"/>
                  </a:lnTo>
                  <a:lnTo>
                    <a:pt x="2" y="103"/>
                  </a:lnTo>
                  <a:lnTo>
                    <a:pt x="0" y="88"/>
                  </a:lnTo>
                  <a:lnTo>
                    <a:pt x="0" y="72"/>
                  </a:lnTo>
                  <a:lnTo>
                    <a:pt x="1" y="52"/>
                  </a:lnTo>
                  <a:lnTo>
                    <a:pt x="2" y="47"/>
                  </a:lnTo>
                  <a:lnTo>
                    <a:pt x="3" y="42"/>
                  </a:lnTo>
                  <a:lnTo>
                    <a:pt x="4" y="38"/>
                  </a:lnTo>
                  <a:lnTo>
                    <a:pt x="7" y="32"/>
                  </a:lnTo>
                  <a:lnTo>
                    <a:pt x="11" y="28"/>
                  </a:lnTo>
                  <a:lnTo>
                    <a:pt x="15" y="24"/>
                  </a:lnTo>
                  <a:lnTo>
                    <a:pt x="19" y="19"/>
                  </a:lnTo>
                  <a:lnTo>
                    <a:pt x="24" y="16"/>
                  </a:lnTo>
                  <a:lnTo>
                    <a:pt x="35" y="10"/>
                  </a:lnTo>
                  <a:lnTo>
                    <a:pt x="50" y="4"/>
                  </a:lnTo>
                  <a:lnTo>
                    <a:pt x="56" y="3"/>
                  </a:lnTo>
                  <a:lnTo>
                    <a:pt x="64" y="1"/>
                  </a:lnTo>
                  <a:lnTo>
                    <a:pt x="72" y="1"/>
                  </a:lnTo>
                  <a:lnTo>
                    <a:pt x="80" y="0"/>
                  </a:lnTo>
                  <a:lnTo>
                    <a:pt x="88" y="1"/>
                  </a:lnTo>
                  <a:lnTo>
                    <a:pt x="96" y="1"/>
                  </a:lnTo>
                  <a:lnTo>
                    <a:pt x="105" y="3"/>
                  </a:lnTo>
                  <a:lnTo>
                    <a:pt x="111" y="4"/>
                  </a:lnTo>
                  <a:lnTo>
                    <a:pt x="125" y="10"/>
                  </a:lnTo>
                  <a:lnTo>
                    <a:pt x="137" y="16"/>
                  </a:lnTo>
                  <a:lnTo>
                    <a:pt x="141" y="19"/>
                  </a:lnTo>
                  <a:lnTo>
                    <a:pt x="146" y="24"/>
                  </a:lnTo>
                  <a:lnTo>
                    <a:pt x="150" y="28"/>
                  </a:lnTo>
                  <a:lnTo>
                    <a:pt x="153" y="32"/>
                  </a:lnTo>
                  <a:lnTo>
                    <a:pt x="155" y="38"/>
                  </a:lnTo>
                  <a:lnTo>
                    <a:pt x="158" y="42"/>
                  </a:lnTo>
                  <a:lnTo>
                    <a:pt x="159" y="47"/>
                  </a:lnTo>
                  <a:lnTo>
                    <a:pt x="160" y="52"/>
                  </a:lnTo>
                  <a:lnTo>
                    <a:pt x="160" y="66"/>
                  </a:lnTo>
                  <a:lnTo>
                    <a:pt x="159" y="79"/>
                  </a:lnTo>
                  <a:lnTo>
                    <a:pt x="156" y="91"/>
                  </a:lnTo>
                  <a:lnTo>
                    <a:pt x="154" y="100"/>
                  </a:lnTo>
                  <a:lnTo>
                    <a:pt x="151" y="109"/>
                  </a:lnTo>
                  <a:lnTo>
                    <a:pt x="147" y="117"/>
                  </a:lnTo>
                  <a:lnTo>
                    <a:pt x="142" y="123"/>
                  </a:lnTo>
                  <a:lnTo>
                    <a:pt x="137" y="128"/>
                  </a:lnTo>
                  <a:lnTo>
                    <a:pt x="132" y="134"/>
                  </a:lnTo>
                  <a:lnTo>
                    <a:pt x="125" y="137"/>
                  </a:lnTo>
                  <a:lnTo>
                    <a:pt x="119" y="140"/>
                  </a:lnTo>
                  <a:lnTo>
                    <a:pt x="112" y="142"/>
                  </a:lnTo>
                  <a:lnTo>
                    <a:pt x="97" y="146"/>
                  </a:lnTo>
                  <a:lnTo>
                    <a:pt x="80" y="146"/>
                  </a:lnTo>
                  <a:close/>
                </a:path>
              </a:pathLst>
            </a:custGeom>
            <a:solidFill>
              <a:srgbClr val="b18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5834160" y="1957320"/>
              <a:ext cx="41040" cy="33480"/>
            </a:xfrm>
            <a:custGeom>
              <a:avLst/>
              <a:gdLst/>
              <a:ahLst/>
              <a:rect l="l" t="t" r="r" b="b"/>
              <a:pathLst>
                <a:path w="129" h="104">
                  <a:moveTo>
                    <a:pt x="65" y="104"/>
                  </a:moveTo>
                  <a:lnTo>
                    <a:pt x="60" y="104"/>
                  </a:lnTo>
                  <a:lnTo>
                    <a:pt x="53" y="104"/>
                  </a:lnTo>
                  <a:lnTo>
                    <a:pt x="48" y="103"/>
                  </a:lnTo>
                  <a:lnTo>
                    <a:pt x="42" y="102"/>
                  </a:lnTo>
                  <a:lnTo>
                    <a:pt x="38" y="101"/>
                  </a:lnTo>
                  <a:lnTo>
                    <a:pt x="33" y="99"/>
                  </a:lnTo>
                  <a:lnTo>
                    <a:pt x="27" y="96"/>
                  </a:lnTo>
                  <a:lnTo>
                    <a:pt x="23" y="94"/>
                  </a:lnTo>
                  <a:lnTo>
                    <a:pt x="19" y="91"/>
                  </a:lnTo>
                  <a:lnTo>
                    <a:pt x="13" y="88"/>
                  </a:lnTo>
                  <a:lnTo>
                    <a:pt x="10" y="83"/>
                  </a:lnTo>
                  <a:lnTo>
                    <a:pt x="6" y="78"/>
                  </a:lnTo>
                  <a:lnTo>
                    <a:pt x="3" y="72"/>
                  </a:lnTo>
                  <a:lnTo>
                    <a:pt x="1" y="64"/>
                  </a:lnTo>
                  <a:lnTo>
                    <a:pt x="0" y="54"/>
                  </a:lnTo>
                  <a:lnTo>
                    <a:pt x="0" y="42"/>
                  </a:lnTo>
                  <a:lnTo>
                    <a:pt x="1" y="38"/>
                  </a:lnTo>
                  <a:lnTo>
                    <a:pt x="1" y="34"/>
                  </a:lnTo>
                  <a:lnTo>
                    <a:pt x="3" y="29"/>
                  </a:lnTo>
                  <a:lnTo>
                    <a:pt x="6" y="25"/>
                  </a:lnTo>
                  <a:lnTo>
                    <a:pt x="12" y="18"/>
                  </a:lnTo>
                  <a:lnTo>
                    <a:pt x="20" y="12"/>
                  </a:lnTo>
                  <a:lnTo>
                    <a:pt x="29" y="7"/>
                  </a:lnTo>
                  <a:lnTo>
                    <a:pt x="40" y="4"/>
                  </a:lnTo>
                  <a:lnTo>
                    <a:pt x="52" y="1"/>
                  </a:lnTo>
                  <a:lnTo>
                    <a:pt x="65" y="0"/>
                  </a:lnTo>
                  <a:lnTo>
                    <a:pt x="78" y="1"/>
                  </a:lnTo>
                  <a:lnTo>
                    <a:pt x="90" y="4"/>
                  </a:lnTo>
                  <a:lnTo>
                    <a:pt x="101" y="7"/>
                  </a:lnTo>
                  <a:lnTo>
                    <a:pt x="110" y="12"/>
                  </a:lnTo>
                  <a:lnTo>
                    <a:pt x="118" y="18"/>
                  </a:lnTo>
                  <a:lnTo>
                    <a:pt x="123" y="25"/>
                  </a:lnTo>
                  <a:lnTo>
                    <a:pt x="127" y="29"/>
                  </a:lnTo>
                  <a:lnTo>
                    <a:pt x="128" y="34"/>
                  </a:lnTo>
                  <a:lnTo>
                    <a:pt x="129" y="38"/>
                  </a:lnTo>
                  <a:lnTo>
                    <a:pt x="129" y="42"/>
                  </a:lnTo>
                  <a:lnTo>
                    <a:pt x="129" y="51"/>
                  </a:lnTo>
                  <a:lnTo>
                    <a:pt x="128" y="59"/>
                  </a:lnTo>
                  <a:lnTo>
                    <a:pt x="127" y="65"/>
                  </a:lnTo>
                  <a:lnTo>
                    <a:pt x="123" y="72"/>
                  </a:lnTo>
                  <a:lnTo>
                    <a:pt x="121" y="77"/>
                  </a:lnTo>
                  <a:lnTo>
                    <a:pt x="118" y="82"/>
                  </a:lnTo>
                  <a:lnTo>
                    <a:pt x="114" y="87"/>
                  </a:lnTo>
                  <a:lnTo>
                    <a:pt x="110" y="91"/>
                  </a:lnTo>
                  <a:lnTo>
                    <a:pt x="105" y="94"/>
                  </a:lnTo>
                  <a:lnTo>
                    <a:pt x="101" y="96"/>
                  </a:lnTo>
                  <a:lnTo>
                    <a:pt x="95" y="100"/>
                  </a:lnTo>
                  <a:lnTo>
                    <a:pt x="90" y="101"/>
                  </a:lnTo>
                  <a:lnTo>
                    <a:pt x="78" y="103"/>
                  </a:lnTo>
                  <a:lnTo>
                    <a:pt x="65" y="104"/>
                  </a:lnTo>
                  <a:close/>
                </a:path>
              </a:pathLst>
            </a:custGeom>
            <a:solidFill>
              <a:srgbClr val="b489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5842080" y="1959120"/>
              <a:ext cx="28440" cy="20520"/>
            </a:xfrm>
            <a:custGeom>
              <a:avLst/>
              <a:gdLst/>
              <a:ahLst/>
              <a:rect l="l" t="t" r="r" b="b"/>
              <a:pathLst>
                <a:path w="94" h="62">
                  <a:moveTo>
                    <a:pt x="46" y="62"/>
                  </a:moveTo>
                  <a:lnTo>
                    <a:pt x="42" y="62"/>
                  </a:lnTo>
                  <a:lnTo>
                    <a:pt x="38" y="61"/>
                  </a:lnTo>
                  <a:lnTo>
                    <a:pt x="33" y="61"/>
                  </a:lnTo>
                  <a:lnTo>
                    <a:pt x="30" y="60"/>
                  </a:lnTo>
                  <a:lnTo>
                    <a:pt x="26" y="59"/>
                  </a:lnTo>
                  <a:lnTo>
                    <a:pt x="22" y="58"/>
                  </a:lnTo>
                  <a:lnTo>
                    <a:pt x="19" y="56"/>
                  </a:lnTo>
                  <a:lnTo>
                    <a:pt x="17" y="55"/>
                  </a:lnTo>
                  <a:lnTo>
                    <a:pt x="13" y="53"/>
                  </a:lnTo>
                  <a:lnTo>
                    <a:pt x="8" y="50"/>
                  </a:lnTo>
                  <a:lnTo>
                    <a:pt x="5" y="47"/>
                  </a:lnTo>
                  <a:lnTo>
                    <a:pt x="3" y="44"/>
                  </a:lnTo>
                  <a:lnTo>
                    <a:pt x="2" y="41"/>
                  </a:lnTo>
                  <a:lnTo>
                    <a:pt x="0" y="37"/>
                  </a:lnTo>
                  <a:lnTo>
                    <a:pt x="0" y="33"/>
                  </a:lnTo>
                  <a:lnTo>
                    <a:pt x="0" y="30"/>
                  </a:lnTo>
                  <a:lnTo>
                    <a:pt x="0" y="23"/>
                  </a:lnTo>
                  <a:lnTo>
                    <a:pt x="3" y="18"/>
                  </a:lnTo>
                  <a:lnTo>
                    <a:pt x="7" y="13"/>
                  </a:lnTo>
                  <a:lnTo>
                    <a:pt x="13" y="8"/>
                  </a:lnTo>
                  <a:lnTo>
                    <a:pt x="19" y="5"/>
                  </a:lnTo>
                  <a:lnTo>
                    <a:pt x="28" y="3"/>
                  </a:lnTo>
                  <a:lnTo>
                    <a:pt x="36" y="1"/>
                  </a:lnTo>
                  <a:lnTo>
                    <a:pt x="46" y="0"/>
                  </a:lnTo>
                  <a:lnTo>
                    <a:pt x="55" y="1"/>
                  </a:lnTo>
                  <a:lnTo>
                    <a:pt x="63" y="3"/>
                  </a:lnTo>
                  <a:lnTo>
                    <a:pt x="72" y="5"/>
                  </a:lnTo>
                  <a:lnTo>
                    <a:pt x="79" y="8"/>
                  </a:lnTo>
                  <a:lnTo>
                    <a:pt x="85" y="13"/>
                  </a:lnTo>
                  <a:lnTo>
                    <a:pt x="89" y="18"/>
                  </a:lnTo>
                  <a:lnTo>
                    <a:pt x="93" y="23"/>
                  </a:lnTo>
                  <a:lnTo>
                    <a:pt x="94" y="30"/>
                  </a:lnTo>
                  <a:lnTo>
                    <a:pt x="93" y="36"/>
                  </a:lnTo>
                  <a:lnTo>
                    <a:pt x="89" y="42"/>
                  </a:lnTo>
                  <a:lnTo>
                    <a:pt x="85" y="47"/>
                  </a:lnTo>
                  <a:lnTo>
                    <a:pt x="79" y="53"/>
                  </a:lnTo>
                  <a:lnTo>
                    <a:pt x="72" y="57"/>
                  </a:lnTo>
                  <a:lnTo>
                    <a:pt x="63" y="59"/>
                  </a:lnTo>
                  <a:lnTo>
                    <a:pt x="55" y="61"/>
                  </a:lnTo>
                  <a:lnTo>
                    <a:pt x="46" y="62"/>
                  </a:lnTo>
                  <a:close/>
                </a:path>
              </a:pathLst>
            </a:custGeom>
            <a:solidFill>
              <a:srgbClr val="b98c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5807160" y="2111400"/>
              <a:ext cx="104760" cy="19080"/>
            </a:xfrm>
            <a:custGeom>
              <a:avLst/>
              <a:gdLst/>
              <a:ahLst/>
              <a:rect l="l" t="t" r="r" b="b"/>
              <a:pathLst>
                <a:path w="333" h="58">
                  <a:moveTo>
                    <a:pt x="319" y="57"/>
                  </a:moveTo>
                  <a:lnTo>
                    <a:pt x="318" y="57"/>
                  </a:lnTo>
                  <a:lnTo>
                    <a:pt x="313" y="55"/>
                  </a:lnTo>
                  <a:lnTo>
                    <a:pt x="306" y="53"/>
                  </a:lnTo>
                  <a:lnTo>
                    <a:pt x="297" y="50"/>
                  </a:lnTo>
                  <a:lnTo>
                    <a:pt x="285" y="48"/>
                  </a:lnTo>
                  <a:lnTo>
                    <a:pt x="272" y="46"/>
                  </a:lnTo>
                  <a:lnTo>
                    <a:pt x="257" y="43"/>
                  </a:lnTo>
                  <a:lnTo>
                    <a:pt x="240" y="42"/>
                  </a:lnTo>
                  <a:lnTo>
                    <a:pt x="218" y="42"/>
                  </a:lnTo>
                  <a:lnTo>
                    <a:pt x="193" y="42"/>
                  </a:lnTo>
                  <a:lnTo>
                    <a:pt x="168" y="42"/>
                  </a:lnTo>
                  <a:lnTo>
                    <a:pt x="144" y="42"/>
                  </a:lnTo>
                  <a:lnTo>
                    <a:pt x="122" y="44"/>
                  </a:lnTo>
                  <a:lnTo>
                    <a:pt x="100" y="46"/>
                  </a:lnTo>
                  <a:lnTo>
                    <a:pt x="82" y="48"/>
                  </a:lnTo>
                  <a:lnTo>
                    <a:pt x="68" y="50"/>
                  </a:lnTo>
                  <a:lnTo>
                    <a:pt x="57" y="52"/>
                  </a:lnTo>
                  <a:lnTo>
                    <a:pt x="47" y="52"/>
                  </a:lnTo>
                  <a:lnTo>
                    <a:pt x="37" y="52"/>
                  </a:lnTo>
                  <a:lnTo>
                    <a:pt x="30" y="50"/>
                  </a:lnTo>
                  <a:lnTo>
                    <a:pt x="22" y="48"/>
                  </a:lnTo>
                  <a:lnTo>
                    <a:pt x="17" y="46"/>
                  </a:lnTo>
                  <a:lnTo>
                    <a:pt x="11" y="42"/>
                  </a:lnTo>
                  <a:lnTo>
                    <a:pt x="7" y="38"/>
                  </a:lnTo>
                  <a:lnTo>
                    <a:pt x="4" y="35"/>
                  </a:lnTo>
                  <a:lnTo>
                    <a:pt x="2" y="30"/>
                  </a:lnTo>
                  <a:lnTo>
                    <a:pt x="0" y="27"/>
                  </a:lnTo>
                  <a:lnTo>
                    <a:pt x="0" y="24"/>
                  </a:lnTo>
                  <a:lnTo>
                    <a:pt x="0" y="21"/>
                  </a:lnTo>
                  <a:lnTo>
                    <a:pt x="2" y="19"/>
                  </a:lnTo>
                  <a:lnTo>
                    <a:pt x="4" y="16"/>
                  </a:lnTo>
                  <a:lnTo>
                    <a:pt x="8" y="15"/>
                  </a:lnTo>
                  <a:lnTo>
                    <a:pt x="18" y="14"/>
                  </a:lnTo>
                  <a:lnTo>
                    <a:pt x="31" y="13"/>
                  </a:lnTo>
                  <a:lnTo>
                    <a:pt x="45" y="11"/>
                  </a:lnTo>
                  <a:lnTo>
                    <a:pt x="61" y="9"/>
                  </a:lnTo>
                  <a:lnTo>
                    <a:pt x="78" y="7"/>
                  </a:lnTo>
                  <a:lnTo>
                    <a:pt x="97" y="4"/>
                  </a:lnTo>
                  <a:lnTo>
                    <a:pt x="114" y="2"/>
                  </a:lnTo>
                  <a:lnTo>
                    <a:pt x="131" y="1"/>
                  </a:lnTo>
                  <a:lnTo>
                    <a:pt x="149" y="0"/>
                  </a:lnTo>
                  <a:lnTo>
                    <a:pt x="167" y="1"/>
                  </a:lnTo>
                  <a:lnTo>
                    <a:pt x="186" y="3"/>
                  </a:lnTo>
                  <a:lnTo>
                    <a:pt x="207" y="7"/>
                  </a:lnTo>
                  <a:lnTo>
                    <a:pt x="227" y="11"/>
                  </a:lnTo>
                  <a:lnTo>
                    <a:pt x="248" y="16"/>
                  </a:lnTo>
                  <a:lnTo>
                    <a:pt x="270" y="22"/>
                  </a:lnTo>
                  <a:lnTo>
                    <a:pt x="290" y="28"/>
                  </a:lnTo>
                  <a:lnTo>
                    <a:pt x="306" y="34"/>
                  </a:lnTo>
                  <a:lnTo>
                    <a:pt x="319" y="39"/>
                  </a:lnTo>
                  <a:lnTo>
                    <a:pt x="328" y="46"/>
                  </a:lnTo>
                  <a:lnTo>
                    <a:pt x="332" y="50"/>
                  </a:lnTo>
                  <a:lnTo>
                    <a:pt x="333" y="52"/>
                  </a:lnTo>
                  <a:lnTo>
                    <a:pt x="333" y="54"/>
                  </a:lnTo>
                  <a:lnTo>
                    <a:pt x="333" y="56"/>
                  </a:lnTo>
                  <a:lnTo>
                    <a:pt x="331" y="57"/>
                  </a:lnTo>
                  <a:lnTo>
                    <a:pt x="327" y="58"/>
                  </a:lnTo>
                  <a:lnTo>
                    <a:pt x="319" y="57"/>
                  </a:lnTo>
                  <a:close/>
                </a:path>
              </a:pathLst>
            </a:custGeom>
            <a:solidFill>
              <a:srgbClr val="5240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5659560" y="2103480"/>
              <a:ext cx="106200" cy="20520"/>
            </a:xfrm>
            <a:custGeom>
              <a:avLst/>
              <a:gdLst/>
              <a:ahLst/>
              <a:rect l="l" t="t" r="r" b="b"/>
              <a:pathLst>
                <a:path w="335" h="65">
                  <a:moveTo>
                    <a:pt x="14" y="47"/>
                  </a:moveTo>
                  <a:lnTo>
                    <a:pt x="17" y="47"/>
                  </a:lnTo>
                  <a:lnTo>
                    <a:pt x="24" y="45"/>
                  </a:lnTo>
                  <a:lnTo>
                    <a:pt x="37" y="43"/>
                  </a:lnTo>
                  <a:lnTo>
                    <a:pt x="53" y="40"/>
                  </a:lnTo>
                  <a:lnTo>
                    <a:pt x="72" y="38"/>
                  </a:lnTo>
                  <a:lnTo>
                    <a:pt x="93" y="37"/>
                  </a:lnTo>
                  <a:lnTo>
                    <a:pt x="116" y="38"/>
                  </a:lnTo>
                  <a:lnTo>
                    <a:pt x="140" y="39"/>
                  </a:lnTo>
                  <a:lnTo>
                    <a:pt x="158" y="41"/>
                  </a:lnTo>
                  <a:lnTo>
                    <a:pt x="176" y="44"/>
                  </a:lnTo>
                  <a:lnTo>
                    <a:pt x="195" y="46"/>
                  </a:lnTo>
                  <a:lnTo>
                    <a:pt x="211" y="49"/>
                  </a:lnTo>
                  <a:lnTo>
                    <a:pt x="227" y="51"/>
                  </a:lnTo>
                  <a:lnTo>
                    <a:pt x="242" y="53"/>
                  </a:lnTo>
                  <a:lnTo>
                    <a:pt x="255" y="57"/>
                  </a:lnTo>
                  <a:lnTo>
                    <a:pt x="266" y="60"/>
                  </a:lnTo>
                  <a:lnTo>
                    <a:pt x="277" y="62"/>
                  </a:lnTo>
                  <a:lnTo>
                    <a:pt x="286" y="64"/>
                  </a:lnTo>
                  <a:lnTo>
                    <a:pt x="295" y="65"/>
                  </a:lnTo>
                  <a:lnTo>
                    <a:pt x="303" y="64"/>
                  </a:lnTo>
                  <a:lnTo>
                    <a:pt x="310" y="63"/>
                  </a:lnTo>
                  <a:lnTo>
                    <a:pt x="317" y="62"/>
                  </a:lnTo>
                  <a:lnTo>
                    <a:pt x="322" y="59"/>
                  </a:lnTo>
                  <a:lnTo>
                    <a:pt x="327" y="57"/>
                  </a:lnTo>
                  <a:lnTo>
                    <a:pt x="331" y="53"/>
                  </a:lnTo>
                  <a:lnTo>
                    <a:pt x="333" y="50"/>
                  </a:lnTo>
                  <a:lnTo>
                    <a:pt x="335" y="47"/>
                  </a:lnTo>
                  <a:lnTo>
                    <a:pt x="335" y="44"/>
                  </a:lnTo>
                  <a:lnTo>
                    <a:pt x="335" y="40"/>
                  </a:lnTo>
                  <a:lnTo>
                    <a:pt x="334" y="38"/>
                  </a:lnTo>
                  <a:lnTo>
                    <a:pt x="332" y="36"/>
                  </a:lnTo>
                  <a:lnTo>
                    <a:pt x="328" y="35"/>
                  </a:lnTo>
                  <a:lnTo>
                    <a:pt x="318" y="33"/>
                  </a:lnTo>
                  <a:lnTo>
                    <a:pt x="306" y="30"/>
                  </a:lnTo>
                  <a:lnTo>
                    <a:pt x="292" y="25"/>
                  </a:lnTo>
                  <a:lnTo>
                    <a:pt x="276" y="22"/>
                  </a:lnTo>
                  <a:lnTo>
                    <a:pt x="259" y="18"/>
                  </a:lnTo>
                  <a:lnTo>
                    <a:pt x="241" y="13"/>
                  </a:lnTo>
                  <a:lnTo>
                    <a:pt x="224" y="9"/>
                  </a:lnTo>
                  <a:lnTo>
                    <a:pt x="207" y="5"/>
                  </a:lnTo>
                  <a:lnTo>
                    <a:pt x="190" y="1"/>
                  </a:lnTo>
                  <a:lnTo>
                    <a:pt x="172" y="0"/>
                  </a:lnTo>
                  <a:lnTo>
                    <a:pt x="152" y="0"/>
                  </a:lnTo>
                  <a:lnTo>
                    <a:pt x="131" y="1"/>
                  </a:lnTo>
                  <a:lnTo>
                    <a:pt x="111" y="4"/>
                  </a:lnTo>
                  <a:lnTo>
                    <a:pt x="89" y="7"/>
                  </a:lnTo>
                  <a:lnTo>
                    <a:pt x="68" y="10"/>
                  </a:lnTo>
                  <a:lnTo>
                    <a:pt x="49" y="14"/>
                  </a:lnTo>
                  <a:lnTo>
                    <a:pt x="32" y="20"/>
                  </a:lnTo>
                  <a:lnTo>
                    <a:pt x="18" y="25"/>
                  </a:lnTo>
                  <a:lnTo>
                    <a:pt x="8" y="31"/>
                  </a:lnTo>
                  <a:lnTo>
                    <a:pt x="2" y="36"/>
                  </a:lnTo>
                  <a:lnTo>
                    <a:pt x="1" y="39"/>
                  </a:lnTo>
                  <a:lnTo>
                    <a:pt x="0" y="41"/>
                  </a:lnTo>
                  <a:lnTo>
                    <a:pt x="0" y="44"/>
                  </a:lnTo>
                  <a:lnTo>
                    <a:pt x="1" y="45"/>
                  </a:lnTo>
                  <a:lnTo>
                    <a:pt x="4" y="46"/>
                  </a:lnTo>
                  <a:lnTo>
                    <a:pt x="6" y="47"/>
                  </a:lnTo>
                  <a:lnTo>
                    <a:pt x="10" y="47"/>
                  </a:lnTo>
                  <a:lnTo>
                    <a:pt x="14" y="47"/>
                  </a:lnTo>
                  <a:close/>
                </a:path>
              </a:pathLst>
            </a:custGeom>
            <a:solidFill>
              <a:srgbClr val="5240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5697360" y="2135160"/>
              <a:ext cx="24120" cy="23760"/>
            </a:xfrm>
            <a:custGeom>
              <a:avLst/>
              <a:gdLst/>
              <a:ahLst/>
              <a:rect l="l" t="t" r="r" b="b"/>
              <a:pathLst>
                <a:path w="74" h="72">
                  <a:moveTo>
                    <a:pt x="22" y="0"/>
                  </a:moveTo>
                  <a:lnTo>
                    <a:pt x="16" y="2"/>
                  </a:lnTo>
                  <a:lnTo>
                    <a:pt x="12" y="5"/>
                  </a:lnTo>
                  <a:lnTo>
                    <a:pt x="9" y="9"/>
                  </a:lnTo>
                  <a:lnTo>
                    <a:pt x="5" y="14"/>
                  </a:lnTo>
                  <a:lnTo>
                    <a:pt x="3" y="18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0" y="43"/>
                  </a:lnTo>
                  <a:lnTo>
                    <a:pt x="2" y="49"/>
                  </a:lnTo>
                  <a:lnTo>
                    <a:pt x="5" y="56"/>
                  </a:lnTo>
                  <a:lnTo>
                    <a:pt x="10" y="61"/>
                  </a:lnTo>
                  <a:lnTo>
                    <a:pt x="15" y="66"/>
                  </a:lnTo>
                  <a:lnTo>
                    <a:pt x="22" y="69"/>
                  </a:lnTo>
                  <a:lnTo>
                    <a:pt x="29" y="71"/>
                  </a:lnTo>
                  <a:lnTo>
                    <a:pt x="37" y="72"/>
                  </a:lnTo>
                  <a:lnTo>
                    <a:pt x="44" y="71"/>
                  </a:lnTo>
                  <a:lnTo>
                    <a:pt x="51" y="69"/>
                  </a:lnTo>
                  <a:lnTo>
                    <a:pt x="57" y="66"/>
                  </a:lnTo>
                  <a:lnTo>
                    <a:pt x="63" y="61"/>
                  </a:lnTo>
                  <a:lnTo>
                    <a:pt x="67" y="56"/>
                  </a:lnTo>
                  <a:lnTo>
                    <a:pt x="71" y="49"/>
                  </a:lnTo>
                  <a:lnTo>
                    <a:pt x="74" y="43"/>
                  </a:lnTo>
                  <a:lnTo>
                    <a:pt x="74" y="34"/>
                  </a:lnTo>
                  <a:lnTo>
                    <a:pt x="74" y="31"/>
                  </a:lnTo>
                  <a:lnTo>
                    <a:pt x="74" y="28"/>
                  </a:lnTo>
                  <a:lnTo>
                    <a:pt x="72" y="25"/>
                  </a:lnTo>
                  <a:lnTo>
                    <a:pt x="72" y="21"/>
                  </a:lnTo>
                  <a:lnTo>
                    <a:pt x="71" y="18"/>
                  </a:lnTo>
                  <a:lnTo>
                    <a:pt x="70" y="16"/>
                  </a:lnTo>
                  <a:lnTo>
                    <a:pt x="68" y="13"/>
                  </a:lnTo>
                  <a:lnTo>
                    <a:pt x="67" y="9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6452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5697360" y="2135160"/>
              <a:ext cx="24120" cy="23760"/>
            </a:xfrm>
            <a:custGeom>
              <a:avLst/>
              <a:gdLst/>
              <a:ahLst/>
              <a:rect l="l" t="t" r="r" b="b"/>
              <a:pathLst>
                <a:path w="74" h="72">
                  <a:moveTo>
                    <a:pt x="22" y="0"/>
                  </a:moveTo>
                  <a:lnTo>
                    <a:pt x="16" y="2"/>
                  </a:lnTo>
                  <a:lnTo>
                    <a:pt x="12" y="5"/>
                  </a:lnTo>
                  <a:lnTo>
                    <a:pt x="9" y="9"/>
                  </a:lnTo>
                  <a:lnTo>
                    <a:pt x="5" y="14"/>
                  </a:lnTo>
                  <a:lnTo>
                    <a:pt x="3" y="18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0" y="43"/>
                  </a:lnTo>
                  <a:lnTo>
                    <a:pt x="2" y="49"/>
                  </a:lnTo>
                  <a:lnTo>
                    <a:pt x="5" y="56"/>
                  </a:lnTo>
                  <a:lnTo>
                    <a:pt x="10" y="61"/>
                  </a:lnTo>
                  <a:lnTo>
                    <a:pt x="15" y="66"/>
                  </a:lnTo>
                  <a:lnTo>
                    <a:pt x="22" y="69"/>
                  </a:lnTo>
                  <a:lnTo>
                    <a:pt x="29" y="71"/>
                  </a:lnTo>
                  <a:lnTo>
                    <a:pt x="37" y="72"/>
                  </a:lnTo>
                  <a:lnTo>
                    <a:pt x="44" y="71"/>
                  </a:lnTo>
                  <a:lnTo>
                    <a:pt x="51" y="69"/>
                  </a:lnTo>
                  <a:lnTo>
                    <a:pt x="57" y="66"/>
                  </a:lnTo>
                  <a:lnTo>
                    <a:pt x="63" y="61"/>
                  </a:lnTo>
                  <a:lnTo>
                    <a:pt x="67" y="56"/>
                  </a:lnTo>
                  <a:lnTo>
                    <a:pt x="71" y="49"/>
                  </a:lnTo>
                  <a:lnTo>
                    <a:pt x="74" y="43"/>
                  </a:lnTo>
                  <a:lnTo>
                    <a:pt x="74" y="34"/>
                  </a:lnTo>
                  <a:lnTo>
                    <a:pt x="74" y="31"/>
                  </a:lnTo>
                  <a:lnTo>
                    <a:pt x="74" y="28"/>
                  </a:lnTo>
                  <a:lnTo>
                    <a:pt x="72" y="25"/>
                  </a:lnTo>
                  <a:lnTo>
                    <a:pt x="72" y="21"/>
                  </a:lnTo>
                  <a:lnTo>
                    <a:pt x="71" y="18"/>
                  </a:lnTo>
                  <a:lnTo>
                    <a:pt x="70" y="16"/>
                  </a:lnTo>
                  <a:lnTo>
                    <a:pt x="68" y="13"/>
                  </a:lnTo>
                  <a:lnTo>
                    <a:pt x="67" y="9"/>
                  </a:lnTo>
                  <a:lnTo>
                    <a:pt x="22" y="0"/>
                  </a:lnTo>
                </a:path>
              </a:pathLst>
            </a:custGeom>
            <a:noFill/>
            <a:ln w="3240">
              <a:solidFill>
                <a:srgbClr val="4b3d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5667480" y="2133720"/>
              <a:ext cx="71280" cy="30240"/>
            </a:xfrm>
            <a:custGeom>
              <a:avLst/>
              <a:gdLst/>
              <a:ahLst/>
              <a:rect l="l" t="t" r="r" b="b"/>
              <a:pathLst>
                <a:path w="226" h="94">
                  <a:moveTo>
                    <a:pt x="224" y="68"/>
                  </a:moveTo>
                  <a:lnTo>
                    <a:pt x="218" y="72"/>
                  </a:lnTo>
                  <a:lnTo>
                    <a:pt x="211" y="75"/>
                  </a:lnTo>
                  <a:lnTo>
                    <a:pt x="203" y="79"/>
                  </a:lnTo>
                  <a:lnTo>
                    <a:pt x="193" y="81"/>
                  </a:lnTo>
                  <a:lnTo>
                    <a:pt x="184" y="85"/>
                  </a:lnTo>
                  <a:lnTo>
                    <a:pt x="173" y="86"/>
                  </a:lnTo>
                  <a:lnTo>
                    <a:pt x="161" y="88"/>
                  </a:lnTo>
                  <a:lnTo>
                    <a:pt x="149" y="88"/>
                  </a:lnTo>
                  <a:lnTo>
                    <a:pt x="131" y="87"/>
                  </a:lnTo>
                  <a:lnTo>
                    <a:pt x="111" y="84"/>
                  </a:lnTo>
                  <a:lnTo>
                    <a:pt x="91" y="80"/>
                  </a:lnTo>
                  <a:lnTo>
                    <a:pt x="70" y="75"/>
                  </a:lnTo>
                  <a:lnTo>
                    <a:pt x="61" y="72"/>
                  </a:lnTo>
                  <a:lnTo>
                    <a:pt x="52" y="68"/>
                  </a:lnTo>
                  <a:lnTo>
                    <a:pt x="43" y="65"/>
                  </a:lnTo>
                  <a:lnTo>
                    <a:pt x="37" y="61"/>
                  </a:lnTo>
                  <a:lnTo>
                    <a:pt x="30" y="56"/>
                  </a:lnTo>
                  <a:lnTo>
                    <a:pt x="26" y="50"/>
                  </a:lnTo>
                  <a:lnTo>
                    <a:pt x="23" y="45"/>
                  </a:lnTo>
                  <a:lnTo>
                    <a:pt x="21" y="38"/>
                  </a:lnTo>
                  <a:lnTo>
                    <a:pt x="23" y="37"/>
                  </a:lnTo>
                  <a:lnTo>
                    <a:pt x="29" y="33"/>
                  </a:lnTo>
                  <a:lnTo>
                    <a:pt x="40" y="27"/>
                  </a:lnTo>
                  <a:lnTo>
                    <a:pt x="54" y="21"/>
                  </a:lnTo>
                  <a:lnTo>
                    <a:pt x="63" y="19"/>
                  </a:lnTo>
                  <a:lnTo>
                    <a:pt x="72" y="17"/>
                  </a:lnTo>
                  <a:lnTo>
                    <a:pt x="82" y="14"/>
                  </a:lnTo>
                  <a:lnTo>
                    <a:pt x="93" y="12"/>
                  </a:lnTo>
                  <a:lnTo>
                    <a:pt x="104" y="11"/>
                  </a:lnTo>
                  <a:lnTo>
                    <a:pt x="116" y="11"/>
                  </a:lnTo>
                  <a:lnTo>
                    <a:pt x="129" y="12"/>
                  </a:lnTo>
                  <a:lnTo>
                    <a:pt x="142" y="13"/>
                  </a:lnTo>
                  <a:lnTo>
                    <a:pt x="161" y="18"/>
                  </a:lnTo>
                  <a:lnTo>
                    <a:pt x="176" y="22"/>
                  </a:lnTo>
                  <a:lnTo>
                    <a:pt x="190" y="26"/>
                  </a:lnTo>
                  <a:lnTo>
                    <a:pt x="201" y="31"/>
                  </a:lnTo>
                  <a:lnTo>
                    <a:pt x="210" y="36"/>
                  </a:lnTo>
                  <a:lnTo>
                    <a:pt x="216" y="40"/>
                  </a:lnTo>
                  <a:lnTo>
                    <a:pt x="221" y="45"/>
                  </a:lnTo>
                  <a:lnTo>
                    <a:pt x="226" y="48"/>
                  </a:lnTo>
                  <a:lnTo>
                    <a:pt x="225" y="47"/>
                  </a:lnTo>
                  <a:lnTo>
                    <a:pt x="220" y="43"/>
                  </a:lnTo>
                  <a:lnTo>
                    <a:pt x="213" y="36"/>
                  </a:lnTo>
                  <a:lnTo>
                    <a:pt x="203" y="27"/>
                  </a:lnTo>
                  <a:lnTo>
                    <a:pt x="190" y="20"/>
                  </a:lnTo>
                  <a:lnTo>
                    <a:pt x="175" y="13"/>
                  </a:lnTo>
                  <a:lnTo>
                    <a:pt x="165" y="10"/>
                  </a:lnTo>
                  <a:lnTo>
                    <a:pt x="156" y="7"/>
                  </a:lnTo>
                  <a:lnTo>
                    <a:pt x="146" y="5"/>
                  </a:lnTo>
                  <a:lnTo>
                    <a:pt x="134" y="4"/>
                  </a:lnTo>
                  <a:lnTo>
                    <a:pt x="112" y="2"/>
                  </a:lnTo>
                  <a:lnTo>
                    <a:pt x="92" y="0"/>
                  </a:lnTo>
                  <a:lnTo>
                    <a:pt x="73" y="2"/>
                  </a:lnTo>
                  <a:lnTo>
                    <a:pt x="57" y="3"/>
                  </a:lnTo>
                  <a:lnTo>
                    <a:pt x="42" y="6"/>
                  </a:lnTo>
                  <a:lnTo>
                    <a:pt x="29" y="9"/>
                  </a:lnTo>
                  <a:lnTo>
                    <a:pt x="16" y="13"/>
                  </a:lnTo>
                  <a:lnTo>
                    <a:pt x="5" y="19"/>
                  </a:lnTo>
                  <a:lnTo>
                    <a:pt x="13" y="31"/>
                  </a:lnTo>
                  <a:lnTo>
                    <a:pt x="12" y="32"/>
                  </a:lnTo>
                  <a:lnTo>
                    <a:pt x="10" y="32"/>
                  </a:lnTo>
                  <a:lnTo>
                    <a:pt x="7" y="34"/>
                  </a:lnTo>
                  <a:lnTo>
                    <a:pt x="3" y="35"/>
                  </a:lnTo>
                  <a:lnTo>
                    <a:pt x="0" y="37"/>
                  </a:lnTo>
                  <a:lnTo>
                    <a:pt x="0" y="38"/>
                  </a:lnTo>
                  <a:lnTo>
                    <a:pt x="1" y="39"/>
                  </a:lnTo>
                  <a:lnTo>
                    <a:pt x="5" y="40"/>
                  </a:lnTo>
                  <a:lnTo>
                    <a:pt x="9" y="41"/>
                  </a:lnTo>
                  <a:lnTo>
                    <a:pt x="11" y="44"/>
                  </a:lnTo>
                  <a:lnTo>
                    <a:pt x="13" y="46"/>
                  </a:lnTo>
                  <a:lnTo>
                    <a:pt x="15" y="49"/>
                  </a:lnTo>
                  <a:lnTo>
                    <a:pt x="19" y="56"/>
                  </a:lnTo>
                  <a:lnTo>
                    <a:pt x="26" y="64"/>
                  </a:lnTo>
                  <a:lnTo>
                    <a:pt x="30" y="68"/>
                  </a:lnTo>
                  <a:lnTo>
                    <a:pt x="36" y="73"/>
                  </a:lnTo>
                  <a:lnTo>
                    <a:pt x="42" y="77"/>
                  </a:lnTo>
                  <a:lnTo>
                    <a:pt x="50" y="81"/>
                  </a:lnTo>
                  <a:lnTo>
                    <a:pt x="59" y="85"/>
                  </a:lnTo>
                  <a:lnTo>
                    <a:pt x="71" y="88"/>
                  </a:lnTo>
                  <a:lnTo>
                    <a:pt x="84" y="91"/>
                  </a:lnTo>
                  <a:lnTo>
                    <a:pt x="99" y="93"/>
                  </a:lnTo>
                  <a:lnTo>
                    <a:pt x="130" y="94"/>
                  </a:lnTo>
                  <a:lnTo>
                    <a:pt x="155" y="94"/>
                  </a:lnTo>
                  <a:lnTo>
                    <a:pt x="174" y="93"/>
                  </a:lnTo>
                  <a:lnTo>
                    <a:pt x="188" y="91"/>
                  </a:lnTo>
                  <a:lnTo>
                    <a:pt x="200" y="88"/>
                  </a:lnTo>
                  <a:lnTo>
                    <a:pt x="207" y="85"/>
                  </a:lnTo>
                  <a:lnTo>
                    <a:pt x="213" y="81"/>
                  </a:lnTo>
                  <a:lnTo>
                    <a:pt x="216" y="78"/>
                  </a:lnTo>
                  <a:lnTo>
                    <a:pt x="219" y="75"/>
                  </a:lnTo>
                  <a:lnTo>
                    <a:pt x="221" y="74"/>
                  </a:lnTo>
                  <a:lnTo>
                    <a:pt x="223" y="72"/>
                  </a:lnTo>
                  <a:lnTo>
                    <a:pt x="224" y="71"/>
                  </a:lnTo>
                  <a:lnTo>
                    <a:pt x="224" y="70"/>
                  </a:lnTo>
                  <a:lnTo>
                    <a:pt x="224" y="68"/>
                  </a:lnTo>
                  <a:lnTo>
                    <a:pt x="224" y="68"/>
                  </a:lnTo>
                  <a:lnTo>
                    <a:pt x="224" y="6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5848200" y="2144880"/>
              <a:ext cx="23760" cy="20520"/>
            </a:xfrm>
            <a:custGeom>
              <a:avLst/>
              <a:gdLst/>
              <a:ahLst/>
              <a:rect l="l" t="t" r="r" b="b"/>
              <a:pathLst>
                <a:path w="75" h="67">
                  <a:moveTo>
                    <a:pt x="13" y="3"/>
                  </a:moveTo>
                  <a:lnTo>
                    <a:pt x="9" y="4"/>
                  </a:lnTo>
                  <a:lnTo>
                    <a:pt x="7" y="6"/>
                  </a:lnTo>
                  <a:lnTo>
                    <a:pt x="5" y="9"/>
                  </a:lnTo>
                  <a:lnTo>
                    <a:pt x="2" y="14"/>
                  </a:lnTo>
                  <a:lnTo>
                    <a:pt x="1" y="17"/>
                  </a:lnTo>
                  <a:lnTo>
                    <a:pt x="1" y="21"/>
                  </a:lnTo>
                  <a:lnTo>
                    <a:pt x="0" y="26"/>
                  </a:lnTo>
                  <a:lnTo>
                    <a:pt x="0" y="30"/>
                  </a:lnTo>
                  <a:lnTo>
                    <a:pt x="1" y="37"/>
                  </a:lnTo>
                  <a:lnTo>
                    <a:pt x="4" y="44"/>
                  </a:lnTo>
                  <a:lnTo>
                    <a:pt x="7" y="50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3" y="63"/>
                  </a:lnTo>
                  <a:lnTo>
                    <a:pt x="31" y="66"/>
                  </a:lnTo>
                  <a:lnTo>
                    <a:pt x="37" y="67"/>
                  </a:lnTo>
                  <a:lnTo>
                    <a:pt x="46" y="66"/>
                  </a:lnTo>
                  <a:lnTo>
                    <a:pt x="53" y="63"/>
                  </a:lnTo>
                  <a:lnTo>
                    <a:pt x="59" y="60"/>
                  </a:lnTo>
                  <a:lnTo>
                    <a:pt x="64" y="56"/>
                  </a:lnTo>
                  <a:lnTo>
                    <a:pt x="68" y="50"/>
                  </a:lnTo>
                  <a:lnTo>
                    <a:pt x="72" y="44"/>
                  </a:lnTo>
                  <a:lnTo>
                    <a:pt x="74" y="37"/>
                  </a:lnTo>
                  <a:lnTo>
                    <a:pt x="75" y="30"/>
                  </a:lnTo>
                  <a:lnTo>
                    <a:pt x="75" y="26"/>
                  </a:lnTo>
                  <a:lnTo>
                    <a:pt x="74" y="21"/>
                  </a:lnTo>
                  <a:lnTo>
                    <a:pt x="73" y="17"/>
                  </a:lnTo>
                  <a:lnTo>
                    <a:pt x="72" y="13"/>
                  </a:lnTo>
                  <a:lnTo>
                    <a:pt x="69" y="9"/>
                  </a:lnTo>
                  <a:lnTo>
                    <a:pt x="67" y="6"/>
                  </a:lnTo>
                  <a:lnTo>
                    <a:pt x="65" y="3"/>
                  </a:lnTo>
                  <a:lnTo>
                    <a:pt x="62" y="0"/>
                  </a:lnTo>
                  <a:lnTo>
                    <a:pt x="61" y="0"/>
                  </a:lnTo>
                  <a:lnTo>
                    <a:pt x="55" y="0"/>
                  </a:lnTo>
                  <a:lnTo>
                    <a:pt x="49" y="0"/>
                  </a:lnTo>
                  <a:lnTo>
                    <a:pt x="40" y="1"/>
                  </a:lnTo>
                  <a:lnTo>
                    <a:pt x="32" y="1"/>
                  </a:lnTo>
                  <a:lnTo>
                    <a:pt x="24" y="1"/>
                  </a:lnTo>
                  <a:lnTo>
                    <a:pt x="18" y="2"/>
                  </a:lnTo>
                  <a:lnTo>
                    <a:pt x="13" y="3"/>
                  </a:lnTo>
                  <a:close/>
                </a:path>
              </a:pathLst>
            </a:custGeom>
            <a:solidFill>
              <a:srgbClr val="6452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5848200" y="2144880"/>
              <a:ext cx="23760" cy="20520"/>
            </a:xfrm>
            <a:custGeom>
              <a:avLst/>
              <a:gdLst/>
              <a:ahLst/>
              <a:rect l="l" t="t" r="r" b="b"/>
              <a:pathLst>
                <a:path w="75" h="67">
                  <a:moveTo>
                    <a:pt x="13" y="3"/>
                  </a:moveTo>
                  <a:lnTo>
                    <a:pt x="9" y="4"/>
                  </a:lnTo>
                  <a:lnTo>
                    <a:pt x="7" y="6"/>
                  </a:lnTo>
                  <a:lnTo>
                    <a:pt x="5" y="9"/>
                  </a:lnTo>
                  <a:lnTo>
                    <a:pt x="2" y="14"/>
                  </a:lnTo>
                  <a:lnTo>
                    <a:pt x="1" y="17"/>
                  </a:lnTo>
                  <a:lnTo>
                    <a:pt x="1" y="21"/>
                  </a:lnTo>
                  <a:lnTo>
                    <a:pt x="0" y="26"/>
                  </a:lnTo>
                  <a:lnTo>
                    <a:pt x="0" y="30"/>
                  </a:lnTo>
                  <a:lnTo>
                    <a:pt x="1" y="37"/>
                  </a:lnTo>
                  <a:lnTo>
                    <a:pt x="4" y="44"/>
                  </a:lnTo>
                  <a:lnTo>
                    <a:pt x="7" y="50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3" y="63"/>
                  </a:lnTo>
                  <a:lnTo>
                    <a:pt x="31" y="66"/>
                  </a:lnTo>
                  <a:lnTo>
                    <a:pt x="37" y="67"/>
                  </a:lnTo>
                  <a:lnTo>
                    <a:pt x="46" y="66"/>
                  </a:lnTo>
                  <a:lnTo>
                    <a:pt x="53" y="63"/>
                  </a:lnTo>
                  <a:lnTo>
                    <a:pt x="59" y="60"/>
                  </a:lnTo>
                  <a:lnTo>
                    <a:pt x="64" y="56"/>
                  </a:lnTo>
                  <a:lnTo>
                    <a:pt x="68" y="50"/>
                  </a:lnTo>
                  <a:lnTo>
                    <a:pt x="72" y="44"/>
                  </a:lnTo>
                  <a:lnTo>
                    <a:pt x="74" y="37"/>
                  </a:lnTo>
                  <a:lnTo>
                    <a:pt x="75" y="30"/>
                  </a:lnTo>
                  <a:lnTo>
                    <a:pt x="75" y="26"/>
                  </a:lnTo>
                  <a:lnTo>
                    <a:pt x="74" y="21"/>
                  </a:lnTo>
                  <a:lnTo>
                    <a:pt x="73" y="17"/>
                  </a:lnTo>
                  <a:lnTo>
                    <a:pt x="72" y="13"/>
                  </a:lnTo>
                  <a:lnTo>
                    <a:pt x="69" y="9"/>
                  </a:lnTo>
                  <a:lnTo>
                    <a:pt x="67" y="6"/>
                  </a:lnTo>
                  <a:lnTo>
                    <a:pt x="65" y="3"/>
                  </a:lnTo>
                  <a:lnTo>
                    <a:pt x="62" y="0"/>
                  </a:lnTo>
                  <a:lnTo>
                    <a:pt x="61" y="0"/>
                  </a:lnTo>
                  <a:lnTo>
                    <a:pt x="55" y="0"/>
                  </a:lnTo>
                  <a:lnTo>
                    <a:pt x="49" y="0"/>
                  </a:lnTo>
                  <a:lnTo>
                    <a:pt x="40" y="1"/>
                  </a:lnTo>
                  <a:lnTo>
                    <a:pt x="32" y="1"/>
                  </a:lnTo>
                  <a:lnTo>
                    <a:pt x="24" y="1"/>
                  </a:lnTo>
                  <a:lnTo>
                    <a:pt x="18" y="2"/>
                  </a:lnTo>
                  <a:lnTo>
                    <a:pt x="13" y="3"/>
                  </a:lnTo>
                </a:path>
              </a:pathLst>
            </a:custGeom>
            <a:noFill/>
            <a:ln w="3240">
              <a:solidFill>
                <a:srgbClr val="4b3d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5824440" y="2143080"/>
              <a:ext cx="71640" cy="28800"/>
            </a:xfrm>
            <a:custGeom>
              <a:avLst/>
              <a:gdLst/>
              <a:ahLst/>
              <a:rect l="l" t="t" r="r" b="b"/>
              <a:pathLst>
                <a:path w="225" h="91">
                  <a:moveTo>
                    <a:pt x="0" y="54"/>
                  </a:moveTo>
                  <a:lnTo>
                    <a:pt x="4" y="59"/>
                  </a:lnTo>
                  <a:lnTo>
                    <a:pt x="11" y="63"/>
                  </a:lnTo>
                  <a:lnTo>
                    <a:pt x="18" y="67"/>
                  </a:lnTo>
                  <a:lnTo>
                    <a:pt x="27" y="71"/>
                  </a:lnTo>
                  <a:lnTo>
                    <a:pt x="36" y="75"/>
                  </a:lnTo>
                  <a:lnTo>
                    <a:pt x="46" y="78"/>
                  </a:lnTo>
                  <a:lnTo>
                    <a:pt x="57" y="80"/>
                  </a:lnTo>
                  <a:lnTo>
                    <a:pt x="69" y="81"/>
                  </a:lnTo>
                  <a:lnTo>
                    <a:pt x="87" y="82"/>
                  </a:lnTo>
                  <a:lnTo>
                    <a:pt x="108" y="81"/>
                  </a:lnTo>
                  <a:lnTo>
                    <a:pt x="129" y="80"/>
                  </a:lnTo>
                  <a:lnTo>
                    <a:pt x="150" y="77"/>
                  </a:lnTo>
                  <a:lnTo>
                    <a:pt x="161" y="75"/>
                  </a:lnTo>
                  <a:lnTo>
                    <a:pt x="169" y="73"/>
                  </a:lnTo>
                  <a:lnTo>
                    <a:pt x="178" y="69"/>
                  </a:lnTo>
                  <a:lnTo>
                    <a:pt x="186" y="65"/>
                  </a:lnTo>
                  <a:lnTo>
                    <a:pt x="192" y="61"/>
                  </a:lnTo>
                  <a:lnTo>
                    <a:pt x="198" y="57"/>
                  </a:lnTo>
                  <a:lnTo>
                    <a:pt x="202" y="51"/>
                  </a:lnTo>
                  <a:lnTo>
                    <a:pt x="204" y="45"/>
                  </a:lnTo>
                  <a:lnTo>
                    <a:pt x="203" y="42"/>
                  </a:lnTo>
                  <a:lnTo>
                    <a:pt x="196" y="38"/>
                  </a:lnTo>
                  <a:lnTo>
                    <a:pt x="187" y="32"/>
                  </a:lnTo>
                  <a:lnTo>
                    <a:pt x="174" y="24"/>
                  </a:lnTo>
                  <a:lnTo>
                    <a:pt x="166" y="21"/>
                  </a:lnTo>
                  <a:lnTo>
                    <a:pt x="158" y="18"/>
                  </a:lnTo>
                  <a:lnTo>
                    <a:pt x="148" y="14"/>
                  </a:lnTo>
                  <a:lnTo>
                    <a:pt x="137" y="12"/>
                  </a:lnTo>
                  <a:lnTo>
                    <a:pt x="125" y="10"/>
                  </a:lnTo>
                  <a:lnTo>
                    <a:pt x="113" y="9"/>
                  </a:lnTo>
                  <a:lnTo>
                    <a:pt x="100" y="9"/>
                  </a:lnTo>
                  <a:lnTo>
                    <a:pt x="86" y="10"/>
                  </a:lnTo>
                  <a:lnTo>
                    <a:pt x="67" y="12"/>
                  </a:lnTo>
                  <a:lnTo>
                    <a:pt x="51" y="14"/>
                  </a:lnTo>
                  <a:lnTo>
                    <a:pt x="37" y="18"/>
                  </a:lnTo>
                  <a:lnTo>
                    <a:pt x="25" y="22"/>
                  </a:lnTo>
                  <a:lnTo>
                    <a:pt x="16" y="25"/>
                  </a:lnTo>
                  <a:lnTo>
                    <a:pt x="9" y="28"/>
                  </a:lnTo>
                  <a:lnTo>
                    <a:pt x="3" y="32"/>
                  </a:lnTo>
                  <a:lnTo>
                    <a:pt x="0" y="35"/>
                  </a:lnTo>
                  <a:lnTo>
                    <a:pt x="1" y="33"/>
                  </a:lnTo>
                  <a:lnTo>
                    <a:pt x="5" y="30"/>
                  </a:lnTo>
                  <a:lnTo>
                    <a:pt x="12" y="24"/>
                  </a:lnTo>
                  <a:lnTo>
                    <a:pt x="23" y="18"/>
                  </a:lnTo>
                  <a:lnTo>
                    <a:pt x="36" y="11"/>
                  </a:lnTo>
                  <a:lnTo>
                    <a:pt x="52" y="6"/>
                  </a:lnTo>
                  <a:lnTo>
                    <a:pt x="60" y="4"/>
                  </a:lnTo>
                  <a:lnTo>
                    <a:pt x="71" y="1"/>
                  </a:lnTo>
                  <a:lnTo>
                    <a:pt x="82" y="0"/>
                  </a:lnTo>
                  <a:lnTo>
                    <a:pt x="93" y="0"/>
                  </a:lnTo>
                  <a:lnTo>
                    <a:pt x="115" y="0"/>
                  </a:lnTo>
                  <a:lnTo>
                    <a:pt x="136" y="3"/>
                  </a:lnTo>
                  <a:lnTo>
                    <a:pt x="154" y="5"/>
                  </a:lnTo>
                  <a:lnTo>
                    <a:pt x="171" y="8"/>
                  </a:lnTo>
                  <a:lnTo>
                    <a:pt x="185" y="13"/>
                  </a:lnTo>
                  <a:lnTo>
                    <a:pt x="198" y="18"/>
                  </a:lnTo>
                  <a:lnTo>
                    <a:pt x="209" y="23"/>
                  </a:lnTo>
                  <a:lnTo>
                    <a:pt x="219" y="30"/>
                  </a:lnTo>
                  <a:lnTo>
                    <a:pt x="212" y="39"/>
                  </a:lnTo>
                  <a:lnTo>
                    <a:pt x="213" y="40"/>
                  </a:lnTo>
                  <a:lnTo>
                    <a:pt x="214" y="41"/>
                  </a:lnTo>
                  <a:lnTo>
                    <a:pt x="217" y="42"/>
                  </a:lnTo>
                  <a:lnTo>
                    <a:pt x="219" y="45"/>
                  </a:lnTo>
                  <a:lnTo>
                    <a:pt x="221" y="47"/>
                  </a:lnTo>
                  <a:lnTo>
                    <a:pt x="223" y="48"/>
                  </a:lnTo>
                  <a:lnTo>
                    <a:pt x="225" y="49"/>
                  </a:lnTo>
                  <a:lnTo>
                    <a:pt x="225" y="50"/>
                  </a:lnTo>
                  <a:lnTo>
                    <a:pt x="221" y="50"/>
                  </a:lnTo>
                  <a:lnTo>
                    <a:pt x="218" y="51"/>
                  </a:lnTo>
                  <a:lnTo>
                    <a:pt x="216" y="53"/>
                  </a:lnTo>
                  <a:lnTo>
                    <a:pt x="214" y="57"/>
                  </a:lnTo>
                  <a:lnTo>
                    <a:pt x="207" y="63"/>
                  </a:lnTo>
                  <a:lnTo>
                    <a:pt x="200" y="71"/>
                  </a:lnTo>
                  <a:lnTo>
                    <a:pt x="194" y="75"/>
                  </a:lnTo>
                  <a:lnTo>
                    <a:pt x="188" y="78"/>
                  </a:lnTo>
                  <a:lnTo>
                    <a:pt x="180" y="81"/>
                  </a:lnTo>
                  <a:lnTo>
                    <a:pt x="172" y="85"/>
                  </a:lnTo>
                  <a:lnTo>
                    <a:pt x="162" y="88"/>
                  </a:lnTo>
                  <a:lnTo>
                    <a:pt x="150" y="90"/>
                  </a:lnTo>
                  <a:lnTo>
                    <a:pt x="136" y="91"/>
                  </a:lnTo>
                  <a:lnTo>
                    <a:pt x="121" y="91"/>
                  </a:lnTo>
                  <a:lnTo>
                    <a:pt x="90" y="91"/>
                  </a:lnTo>
                  <a:lnTo>
                    <a:pt x="65" y="89"/>
                  </a:lnTo>
                  <a:lnTo>
                    <a:pt x="46" y="87"/>
                  </a:lnTo>
                  <a:lnTo>
                    <a:pt x="32" y="82"/>
                  </a:lnTo>
                  <a:lnTo>
                    <a:pt x="23" y="78"/>
                  </a:lnTo>
                  <a:lnTo>
                    <a:pt x="16" y="74"/>
                  </a:lnTo>
                  <a:lnTo>
                    <a:pt x="12" y="69"/>
                  </a:lnTo>
                  <a:lnTo>
                    <a:pt x="10" y="64"/>
                  </a:lnTo>
                  <a:lnTo>
                    <a:pt x="7" y="61"/>
                  </a:lnTo>
                  <a:lnTo>
                    <a:pt x="5" y="58"/>
                  </a:lnTo>
                  <a:lnTo>
                    <a:pt x="4" y="55"/>
                  </a:lnTo>
                  <a:lnTo>
                    <a:pt x="2" y="54"/>
                  </a:lnTo>
                  <a:lnTo>
                    <a:pt x="1" y="54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5856120" y="2146320"/>
              <a:ext cx="9720" cy="9720"/>
            </a:xfrm>
            <a:custGeom>
              <a:avLst/>
              <a:gdLst/>
              <a:ahLst/>
              <a:rect l="l" t="t" r="r" b="b"/>
              <a:pathLst>
                <a:path w="28" h="28">
                  <a:moveTo>
                    <a:pt x="15" y="28"/>
                  </a:moveTo>
                  <a:lnTo>
                    <a:pt x="13" y="27"/>
                  </a:lnTo>
                  <a:lnTo>
                    <a:pt x="10" y="27"/>
                  </a:lnTo>
                  <a:lnTo>
                    <a:pt x="8" y="26"/>
                  </a:lnTo>
                  <a:lnTo>
                    <a:pt x="6" y="25"/>
                  </a:lnTo>
                  <a:lnTo>
                    <a:pt x="4" y="23"/>
                  </a:lnTo>
                  <a:lnTo>
                    <a:pt x="2" y="21"/>
                  </a:lnTo>
                  <a:lnTo>
                    <a:pt x="1" y="19"/>
                  </a:lnTo>
                  <a:lnTo>
                    <a:pt x="0" y="16"/>
                  </a:lnTo>
                  <a:lnTo>
                    <a:pt x="1" y="12"/>
                  </a:lnTo>
                  <a:lnTo>
                    <a:pt x="2" y="9"/>
                  </a:lnTo>
                  <a:lnTo>
                    <a:pt x="4" y="7"/>
                  </a:lnTo>
                  <a:lnTo>
                    <a:pt x="6" y="5"/>
                  </a:lnTo>
                  <a:lnTo>
                    <a:pt x="8" y="3"/>
                  </a:lnTo>
                  <a:lnTo>
                    <a:pt x="10" y="1"/>
                  </a:lnTo>
                  <a:lnTo>
                    <a:pt x="13" y="1"/>
                  </a:lnTo>
                  <a:lnTo>
                    <a:pt x="15" y="0"/>
                  </a:lnTo>
                  <a:lnTo>
                    <a:pt x="17" y="1"/>
                  </a:lnTo>
                  <a:lnTo>
                    <a:pt x="18" y="1"/>
                  </a:lnTo>
                  <a:lnTo>
                    <a:pt x="19" y="1"/>
                  </a:lnTo>
                  <a:lnTo>
                    <a:pt x="21" y="3"/>
                  </a:lnTo>
                  <a:lnTo>
                    <a:pt x="22" y="4"/>
                  </a:lnTo>
                  <a:lnTo>
                    <a:pt x="23" y="4"/>
                  </a:lnTo>
                  <a:lnTo>
                    <a:pt x="24" y="5"/>
                  </a:lnTo>
                  <a:lnTo>
                    <a:pt x="25" y="6"/>
                  </a:lnTo>
                  <a:lnTo>
                    <a:pt x="26" y="7"/>
                  </a:lnTo>
                  <a:lnTo>
                    <a:pt x="27" y="8"/>
                  </a:lnTo>
                  <a:lnTo>
                    <a:pt x="27" y="9"/>
                  </a:lnTo>
                  <a:lnTo>
                    <a:pt x="27" y="10"/>
                  </a:lnTo>
                  <a:lnTo>
                    <a:pt x="27" y="11"/>
                  </a:lnTo>
                  <a:lnTo>
                    <a:pt x="27" y="12"/>
                  </a:lnTo>
                  <a:lnTo>
                    <a:pt x="28" y="14"/>
                  </a:lnTo>
                  <a:lnTo>
                    <a:pt x="28" y="16"/>
                  </a:lnTo>
                  <a:lnTo>
                    <a:pt x="27" y="19"/>
                  </a:lnTo>
                  <a:lnTo>
                    <a:pt x="27" y="21"/>
                  </a:lnTo>
                  <a:lnTo>
                    <a:pt x="26" y="23"/>
                  </a:lnTo>
                  <a:lnTo>
                    <a:pt x="24" y="25"/>
                  </a:lnTo>
                  <a:lnTo>
                    <a:pt x="23" y="26"/>
                  </a:lnTo>
                  <a:lnTo>
                    <a:pt x="21" y="27"/>
                  </a:lnTo>
                  <a:lnTo>
                    <a:pt x="19" y="27"/>
                  </a:lnTo>
                  <a:lnTo>
                    <a:pt x="15" y="2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5705280" y="2141640"/>
              <a:ext cx="9720" cy="7920"/>
            </a:xfrm>
            <a:custGeom>
              <a:avLst/>
              <a:gdLst/>
              <a:ahLst/>
              <a:rect l="l" t="t" r="r" b="b"/>
              <a:pathLst>
                <a:path w="27" h="27">
                  <a:moveTo>
                    <a:pt x="12" y="27"/>
                  </a:moveTo>
                  <a:lnTo>
                    <a:pt x="10" y="27"/>
                  </a:lnTo>
                  <a:lnTo>
                    <a:pt x="8" y="27"/>
                  </a:lnTo>
                  <a:lnTo>
                    <a:pt x="5" y="26"/>
                  </a:lnTo>
                  <a:lnTo>
                    <a:pt x="3" y="24"/>
                  </a:lnTo>
                  <a:lnTo>
                    <a:pt x="2" y="23"/>
                  </a:lnTo>
                  <a:lnTo>
                    <a:pt x="1" y="20"/>
                  </a:lnTo>
                  <a:lnTo>
                    <a:pt x="0" y="17"/>
                  </a:lnTo>
                  <a:lnTo>
                    <a:pt x="0" y="15"/>
                  </a:lnTo>
                  <a:lnTo>
                    <a:pt x="0" y="12"/>
                  </a:lnTo>
                  <a:lnTo>
                    <a:pt x="1" y="10"/>
                  </a:lnTo>
                  <a:lnTo>
                    <a:pt x="2" y="8"/>
                  </a:lnTo>
                  <a:lnTo>
                    <a:pt x="3" y="4"/>
                  </a:lnTo>
                  <a:lnTo>
                    <a:pt x="5" y="3"/>
                  </a:lnTo>
                  <a:lnTo>
                    <a:pt x="8" y="1"/>
                  </a:lnTo>
                  <a:lnTo>
                    <a:pt x="10" y="1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6" y="1"/>
                  </a:lnTo>
                  <a:lnTo>
                    <a:pt x="17" y="1"/>
                  </a:lnTo>
                  <a:lnTo>
                    <a:pt x="20" y="2"/>
                  </a:lnTo>
                  <a:lnTo>
                    <a:pt x="21" y="2"/>
                  </a:lnTo>
                  <a:lnTo>
                    <a:pt x="23" y="3"/>
                  </a:lnTo>
                  <a:lnTo>
                    <a:pt x="24" y="4"/>
                  </a:lnTo>
                  <a:lnTo>
                    <a:pt x="25" y="5"/>
                  </a:lnTo>
                  <a:lnTo>
                    <a:pt x="25" y="6"/>
                  </a:lnTo>
                  <a:lnTo>
                    <a:pt x="25" y="8"/>
                  </a:lnTo>
                  <a:lnTo>
                    <a:pt x="26" y="8"/>
                  </a:lnTo>
                  <a:lnTo>
                    <a:pt x="26" y="9"/>
                  </a:lnTo>
                  <a:lnTo>
                    <a:pt x="26" y="11"/>
                  </a:lnTo>
                  <a:lnTo>
                    <a:pt x="27" y="12"/>
                  </a:lnTo>
                  <a:lnTo>
                    <a:pt x="27" y="13"/>
                  </a:lnTo>
                  <a:lnTo>
                    <a:pt x="27" y="15"/>
                  </a:lnTo>
                  <a:lnTo>
                    <a:pt x="27" y="17"/>
                  </a:lnTo>
                  <a:lnTo>
                    <a:pt x="26" y="20"/>
                  </a:lnTo>
                  <a:lnTo>
                    <a:pt x="25" y="23"/>
                  </a:lnTo>
                  <a:lnTo>
                    <a:pt x="23" y="24"/>
                  </a:lnTo>
                  <a:lnTo>
                    <a:pt x="21" y="26"/>
                  </a:lnTo>
                  <a:lnTo>
                    <a:pt x="17" y="27"/>
                  </a:lnTo>
                  <a:lnTo>
                    <a:pt x="15" y="27"/>
                  </a:lnTo>
                  <a:lnTo>
                    <a:pt x="12" y="2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5703840" y="2146320"/>
              <a:ext cx="4680" cy="468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5" y="13"/>
                  </a:moveTo>
                  <a:lnTo>
                    <a:pt x="4" y="13"/>
                  </a:lnTo>
                  <a:lnTo>
                    <a:pt x="3" y="13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1" y="5"/>
                  </a:lnTo>
                  <a:lnTo>
                    <a:pt x="1" y="5"/>
                  </a:lnTo>
                  <a:lnTo>
                    <a:pt x="1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0"/>
                  </a:lnTo>
                  <a:lnTo>
                    <a:pt x="7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3"/>
                  </a:lnTo>
                  <a:lnTo>
                    <a:pt x="12" y="4"/>
                  </a:lnTo>
                  <a:lnTo>
                    <a:pt x="12" y="5"/>
                  </a:lnTo>
                  <a:lnTo>
                    <a:pt x="13" y="7"/>
                  </a:lnTo>
                  <a:lnTo>
                    <a:pt x="13" y="8"/>
                  </a:lnTo>
                  <a:lnTo>
                    <a:pt x="13" y="9"/>
                  </a:lnTo>
                  <a:lnTo>
                    <a:pt x="12" y="10"/>
                  </a:lnTo>
                  <a:lnTo>
                    <a:pt x="12" y="11"/>
                  </a:lnTo>
                  <a:lnTo>
                    <a:pt x="10" y="12"/>
                  </a:lnTo>
                  <a:lnTo>
                    <a:pt x="9" y="12"/>
                  </a:lnTo>
                  <a:lnTo>
                    <a:pt x="8" y="13"/>
                  </a:lnTo>
                  <a:lnTo>
                    <a:pt x="7" y="13"/>
                  </a:lnTo>
                  <a:lnTo>
                    <a:pt x="5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5851440" y="2154240"/>
              <a:ext cx="4680" cy="4680"/>
            </a:xfrm>
            <a:custGeom>
              <a:avLst/>
              <a:gdLst/>
              <a:ahLst/>
              <a:rect l="l" t="t" r="r" b="b"/>
              <a:pathLst>
                <a:path w="15" h="13">
                  <a:moveTo>
                    <a:pt x="8" y="13"/>
                  </a:moveTo>
                  <a:lnTo>
                    <a:pt x="7" y="13"/>
                  </a:lnTo>
                  <a:lnTo>
                    <a:pt x="4" y="12"/>
                  </a:lnTo>
                  <a:lnTo>
                    <a:pt x="3" y="12"/>
                  </a:lnTo>
                  <a:lnTo>
                    <a:pt x="2" y="11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1" y="7"/>
                  </a:lnTo>
                  <a:lnTo>
                    <a:pt x="1" y="6"/>
                  </a:lnTo>
                  <a:lnTo>
                    <a:pt x="1" y="5"/>
                  </a:lnTo>
                  <a:lnTo>
                    <a:pt x="2" y="5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5" y="2"/>
                  </a:lnTo>
                  <a:lnTo>
                    <a:pt x="5" y="1"/>
                  </a:lnTo>
                  <a:lnTo>
                    <a:pt x="7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2"/>
                  </a:lnTo>
                  <a:lnTo>
                    <a:pt x="13" y="3"/>
                  </a:lnTo>
                  <a:lnTo>
                    <a:pt x="14" y="5"/>
                  </a:lnTo>
                  <a:lnTo>
                    <a:pt x="15" y="7"/>
                  </a:lnTo>
                  <a:lnTo>
                    <a:pt x="15" y="8"/>
                  </a:lnTo>
                  <a:lnTo>
                    <a:pt x="15" y="9"/>
                  </a:lnTo>
                  <a:lnTo>
                    <a:pt x="14" y="10"/>
                  </a:lnTo>
                  <a:lnTo>
                    <a:pt x="13" y="11"/>
                  </a:lnTo>
                  <a:lnTo>
                    <a:pt x="12" y="11"/>
                  </a:lnTo>
                  <a:lnTo>
                    <a:pt x="11" y="12"/>
                  </a:lnTo>
                  <a:lnTo>
                    <a:pt x="10" y="12"/>
                  </a:lnTo>
                  <a:lnTo>
                    <a:pt x="9" y="13"/>
                  </a:lnTo>
                  <a:lnTo>
                    <a:pt x="8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5562720" y="2129040"/>
              <a:ext cx="15840" cy="46080"/>
            </a:xfrm>
            <a:custGeom>
              <a:avLst/>
              <a:gdLst/>
              <a:ahLst/>
              <a:rect l="l" t="t" r="r" b="b"/>
              <a:pathLst>
                <a:path w="50" h="144">
                  <a:moveTo>
                    <a:pt x="17" y="144"/>
                  </a:moveTo>
                  <a:lnTo>
                    <a:pt x="17" y="140"/>
                  </a:lnTo>
                  <a:lnTo>
                    <a:pt x="16" y="134"/>
                  </a:lnTo>
                  <a:lnTo>
                    <a:pt x="14" y="129"/>
                  </a:lnTo>
                  <a:lnTo>
                    <a:pt x="13" y="122"/>
                  </a:lnTo>
                  <a:lnTo>
                    <a:pt x="12" y="116"/>
                  </a:lnTo>
                  <a:lnTo>
                    <a:pt x="11" y="108"/>
                  </a:lnTo>
                  <a:lnTo>
                    <a:pt x="10" y="102"/>
                  </a:lnTo>
                  <a:lnTo>
                    <a:pt x="9" y="94"/>
                  </a:lnTo>
                  <a:lnTo>
                    <a:pt x="9" y="87"/>
                  </a:lnTo>
                  <a:lnTo>
                    <a:pt x="9" y="79"/>
                  </a:lnTo>
                  <a:lnTo>
                    <a:pt x="10" y="72"/>
                  </a:lnTo>
                  <a:lnTo>
                    <a:pt x="12" y="64"/>
                  </a:lnTo>
                  <a:lnTo>
                    <a:pt x="19" y="51"/>
                  </a:lnTo>
                  <a:lnTo>
                    <a:pt x="25" y="40"/>
                  </a:lnTo>
                  <a:lnTo>
                    <a:pt x="33" y="30"/>
                  </a:lnTo>
                  <a:lnTo>
                    <a:pt x="39" y="23"/>
                  </a:lnTo>
                  <a:lnTo>
                    <a:pt x="45" y="19"/>
                  </a:lnTo>
                  <a:lnTo>
                    <a:pt x="46" y="18"/>
                  </a:lnTo>
                  <a:lnTo>
                    <a:pt x="48" y="18"/>
                  </a:lnTo>
                  <a:lnTo>
                    <a:pt x="49" y="16"/>
                  </a:lnTo>
                  <a:lnTo>
                    <a:pt x="50" y="14"/>
                  </a:lnTo>
                  <a:lnTo>
                    <a:pt x="49" y="12"/>
                  </a:lnTo>
                  <a:lnTo>
                    <a:pt x="48" y="10"/>
                  </a:lnTo>
                  <a:lnTo>
                    <a:pt x="46" y="7"/>
                  </a:lnTo>
                  <a:lnTo>
                    <a:pt x="44" y="3"/>
                  </a:lnTo>
                  <a:lnTo>
                    <a:pt x="41" y="0"/>
                  </a:lnTo>
                  <a:lnTo>
                    <a:pt x="40" y="0"/>
                  </a:lnTo>
                  <a:lnTo>
                    <a:pt x="37" y="2"/>
                  </a:lnTo>
                  <a:lnTo>
                    <a:pt x="33" y="5"/>
                  </a:lnTo>
                  <a:lnTo>
                    <a:pt x="27" y="10"/>
                  </a:lnTo>
                  <a:lnTo>
                    <a:pt x="21" y="18"/>
                  </a:lnTo>
                  <a:lnTo>
                    <a:pt x="16" y="27"/>
                  </a:lnTo>
                  <a:lnTo>
                    <a:pt x="9" y="40"/>
                  </a:lnTo>
                  <a:lnTo>
                    <a:pt x="4" y="56"/>
                  </a:lnTo>
                  <a:lnTo>
                    <a:pt x="3" y="66"/>
                  </a:lnTo>
                  <a:lnTo>
                    <a:pt x="1" y="76"/>
                  </a:lnTo>
                  <a:lnTo>
                    <a:pt x="0" y="84"/>
                  </a:lnTo>
                  <a:lnTo>
                    <a:pt x="0" y="92"/>
                  </a:lnTo>
                  <a:lnTo>
                    <a:pt x="3" y="107"/>
                  </a:lnTo>
                  <a:lnTo>
                    <a:pt x="6" y="120"/>
                  </a:lnTo>
                  <a:lnTo>
                    <a:pt x="9" y="130"/>
                  </a:lnTo>
                  <a:lnTo>
                    <a:pt x="12" y="137"/>
                  </a:lnTo>
                  <a:lnTo>
                    <a:pt x="16" y="142"/>
                  </a:lnTo>
                  <a:lnTo>
                    <a:pt x="17" y="144"/>
                  </a:lnTo>
                  <a:close/>
                </a:path>
              </a:pathLst>
            </a:custGeom>
            <a:solidFill>
              <a:srgbClr val="775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5564160" y="1843200"/>
              <a:ext cx="401760" cy="311040"/>
            </a:xfrm>
            <a:custGeom>
              <a:avLst/>
              <a:gdLst/>
              <a:ahLst/>
              <a:rect l="l" t="t" r="r" b="b"/>
              <a:pathLst>
                <a:path w="1266" h="983">
                  <a:moveTo>
                    <a:pt x="123" y="971"/>
                  </a:moveTo>
                  <a:lnTo>
                    <a:pt x="124" y="971"/>
                  </a:lnTo>
                  <a:lnTo>
                    <a:pt x="125" y="972"/>
                  </a:lnTo>
                  <a:lnTo>
                    <a:pt x="126" y="975"/>
                  </a:lnTo>
                  <a:lnTo>
                    <a:pt x="127" y="977"/>
                  </a:lnTo>
                  <a:lnTo>
                    <a:pt x="128" y="979"/>
                  </a:lnTo>
                  <a:lnTo>
                    <a:pt x="129" y="981"/>
                  </a:lnTo>
                  <a:lnTo>
                    <a:pt x="132" y="983"/>
                  </a:lnTo>
                  <a:lnTo>
                    <a:pt x="133" y="983"/>
                  </a:lnTo>
                  <a:lnTo>
                    <a:pt x="136" y="983"/>
                  </a:lnTo>
                  <a:lnTo>
                    <a:pt x="139" y="981"/>
                  </a:lnTo>
                  <a:lnTo>
                    <a:pt x="142" y="978"/>
                  </a:lnTo>
                  <a:lnTo>
                    <a:pt x="147" y="975"/>
                  </a:lnTo>
                  <a:lnTo>
                    <a:pt x="150" y="971"/>
                  </a:lnTo>
                  <a:lnTo>
                    <a:pt x="154" y="968"/>
                  </a:lnTo>
                  <a:lnTo>
                    <a:pt x="158" y="966"/>
                  </a:lnTo>
                  <a:lnTo>
                    <a:pt x="160" y="964"/>
                  </a:lnTo>
                  <a:lnTo>
                    <a:pt x="158" y="961"/>
                  </a:lnTo>
                  <a:lnTo>
                    <a:pt x="157" y="958"/>
                  </a:lnTo>
                  <a:lnTo>
                    <a:pt x="157" y="956"/>
                  </a:lnTo>
                  <a:lnTo>
                    <a:pt x="157" y="954"/>
                  </a:lnTo>
                  <a:lnTo>
                    <a:pt x="160" y="952"/>
                  </a:lnTo>
                  <a:lnTo>
                    <a:pt x="164" y="950"/>
                  </a:lnTo>
                  <a:lnTo>
                    <a:pt x="169" y="948"/>
                  </a:lnTo>
                  <a:lnTo>
                    <a:pt x="175" y="945"/>
                  </a:lnTo>
                  <a:lnTo>
                    <a:pt x="179" y="943"/>
                  </a:lnTo>
                  <a:lnTo>
                    <a:pt x="182" y="939"/>
                  </a:lnTo>
                  <a:lnTo>
                    <a:pt x="182" y="937"/>
                  </a:lnTo>
                  <a:lnTo>
                    <a:pt x="182" y="932"/>
                  </a:lnTo>
                  <a:lnTo>
                    <a:pt x="184" y="928"/>
                  </a:lnTo>
                  <a:lnTo>
                    <a:pt x="184" y="924"/>
                  </a:lnTo>
                  <a:lnTo>
                    <a:pt x="185" y="918"/>
                  </a:lnTo>
                  <a:lnTo>
                    <a:pt x="185" y="914"/>
                  </a:lnTo>
                  <a:lnTo>
                    <a:pt x="185" y="911"/>
                  </a:lnTo>
                  <a:lnTo>
                    <a:pt x="185" y="910"/>
                  </a:lnTo>
                  <a:lnTo>
                    <a:pt x="186" y="904"/>
                  </a:lnTo>
                  <a:lnTo>
                    <a:pt x="187" y="900"/>
                  </a:lnTo>
                  <a:lnTo>
                    <a:pt x="188" y="895"/>
                  </a:lnTo>
                  <a:lnTo>
                    <a:pt x="189" y="889"/>
                  </a:lnTo>
                  <a:lnTo>
                    <a:pt x="190" y="884"/>
                  </a:lnTo>
                  <a:lnTo>
                    <a:pt x="190" y="878"/>
                  </a:lnTo>
                  <a:lnTo>
                    <a:pt x="190" y="873"/>
                  </a:lnTo>
                  <a:lnTo>
                    <a:pt x="190" y="868"/>
                  </a:lnTo>
                  <a:lnTo>
                    <a:pt x="190" y="868"/>
                  </a:lnTo>
                  <a:lnTo>
                    <a:pt x="189" y="867"/>
                  </a:lnTo>
                  <a:lnTo>
                    <a:pt x="188" y="867"/>
                  </a:lnTo>
                  <a:lnTo>
                    <a:pt x="187" y="867"/>
                  </a:lnTo>
                  <a:lnTo>
                    <a:pt x="186" y="866"/>
                  </a:lnTo>
                  <a:lnTo>
                    <a:pt x="185" y="866"/>
                  </a:lnTo>
                  <a:lnTo>
                    <a:pt x="184" y="866"/>
                  </a:lnTo>
                  <a:lnTo>
                    <a:pt x="182" y="866"/>
                  </a:lnTo>
                  <a:lnTo>
                    <a:pt x="185" y="860"/>
                  </a:lnTo>
                  <a:lnTo>
                    <a:pt x="186" y="855"/>
                  </a:lnTo>
                  <a:lnTo>
                    <a:pt x="187" y="849"/>
                  </a:lnTo>
                  <a:lnTo>
                    <a:pt x="187" y="843"/>
                  </a:lnTo>
                  <a:lnTo>
                    <a:pt x="187" y="837"/>
                  </a:lnTo>
                  <a:lnTo>
                    <a:pt x="187" y="831"/>
                  </a:lnTo>
                  <a:lnTo>
                    <a:pt x="187" y="824"/>
                  </a:lnTo>
                  <a:lnTo>
                    <a:pt x="188" y="818"/>
                  </a:lnTo>
                  <a:lnTo>
                    <a:pt x="189" y="817"/>
                  </a:lnTo>
                  <a:lnTo>
                    <a:pt x="190" y="817"/>
                  </a:lnTo>
                  <a:lnTo>
                    <a:pt x="191" y="816"/>
                  </a:lnTo>
                  <a:lnTo>
                    <a:pt x="192" y="816"/>
                  </a:lnTo>
                  <a:lnTo>
                    <a:pt x="193" y="815"/>
                  </a:lnTo>
                  <a:lnTo>
                    <a:pt x="194" y="815"/>
                  </a:lnTo>
                  <a:lnTo>
                    <a:pt x="194" y="814"/>
                  </a:lnTo>
                  <a:lnTo>
                    <a:pt x="194" y="813"/>
                  </a:lnTo>
                  <a:lnTo>
                    <a:pt x="196" y="810"/>
                  </a:lnTo>
                  <a:lnTo>
                    <a:pt x="196" y="808"/>
                  </a:lnTo>
                  <a:lnTo>
                    <a:pt x="196" y="806"/>
                  </a:lnTo>
                  <a:lnTo>
                    <a:pt x="195" y="804"/>
                  </a:lnTo>
                  <a:lnTo>
                    <a:pt x="194" y="802"/>
                  </a:lnTo>
                  <a:lnTo>
                    <a:pt x="192" y="801"/>
                  </a:lnTo>
                  <a:lnTo>
                    <a:pt x="190" y="800"/>
                  </a:lnTo>
                  <a:lnTo>
                    <a:pt x="188" y="799"/>
                  </a:lnTo>
                  <a:lnTo>
                    <a:pt x="190" y="794"/>
                  </a:lnTo>
                  <a:lnTo>
                    <a:pt x="191" y="790"/>
                  </a:lnTo>
                  <a:lnTo>
                    <a:pt x="191" y="786"/>
                  </a:lnTo>
                  <a:lnTo>
                    <a:pt x="190" y="782"/>
                  </a:lnTo>
                  <a:lnTo>
                    <a:pt x="188" y="779"/>
                  </a:lnTo>
                  <a:lnTo>
                    <a:pt x="186" y="776"/>
                  </a:lnTo>
                  <a:lnTo>
                    <a:pt x="181" y="774"/>
                  </a:lnTo>
                  <a:lnTo>
                    <a:pt x="177" y="774"/>
                  </a:lnTo>
                  <a:lnTo>
                    <a:pt x="179" y="774"/>
                  </a:lnTo>
                  <a:lnTo>
                    <a:pt x="179" y="774"/>
                  </a:lnTo>
                  <a:lnTo>
                    <a:pt x="180" y="773"/>
                  </a:lnTo>
                  <a:lnTo>
                    <a:pt x="180" y="772"/>
                  </a:lnTo>
                  <a:lnTo>
                    <a:pt x="180" y="770"/>
                  </a:lnTo>
                  <a:lnTo>
                    <a:pt x="180" y="769"/>
                  </a:lnTo>
                  <a:lnTo>
                    <a:pt x="181" y="769"/>
                  </a:lnTo>
                  <a:lnTo>
                    <a:pt x="182" y="768"/>
                  </a:lnTo>
                  <a:lnTo>
                    <a:pt x="181" y="765"/>
                  </a:lnTo>
                  <a:lnTo>
                    <a:pt x="180" y="762"/>
                  </a:lnTo>
                  <a:lnTo>
                    <a:pt x="179" y="759"/>
                  </a:lnTo>
                  <a:lnTo>
                    <a:pt x="178" y="756"/>
                  </a:lnTo>
                  <a:lnTo>
                    <a:pt x="178" y="753"/>
                  </a:lnTo>
                  <a:lnTo>
                    <a:pt x="178" y="751"/>
                  </a:lnTo>
                  <a:lnTo>
                    <a:pt x="178" y="748"/>
                  </a:lnTo>
                  <a:lnTo>
                    <a:pt x="180" y="743"/>
                  </a:lnTo>
                  <a:lnTo>
                    <a:pt x="181" y="741"/>
                  </a:lnTo>
                  <a:lnTo>
                    <a:pt x="185" y="739"/>
                  </a:lnTo>
                  <a:lnTo>
                    <a:pt x="188" y="737"/>
                  </a:lnTo>
                  <a:lnTo>
                    <a:pt x="191" y="734"/>
                  </a:lnTo>
                  <a:lnTo>
                    <a:pt x="193" y="731"/>
                  </a:lnTo>
                  <a:lnTo>
                    <a:pt x="195" y="727"/>
                  </a:lnTo>
                  <a:lnTo>
                    <a:pt x="194" y="724"/>
                  </a:lnTo>
                  <a:lnTo>
                    <a:pt x="192" y="722"/>
                  </a:lnTo>
                  <a:lnTo>
                    <a:pt x="193" y="722"/>
                  </a:lnTo>
                  <a:lnTo>
                    <a:pt x="194" y="722"/>
                  </a:lnTo>
                  <a:lnTo>
                    <a:pt x="195" y="722"/>
                  </a:lnTo>
                  <a:lnTo>
                    <a:pt x="196" y="722"/>
                  </a:lnTo>
                  <a:lnTo>
                    <a:pt x="196" y="722"/>
                  </a:lnTo>
                  <a:lnTo>
                    <a:pt x="198" y="722"/>
                  </a:lnTo>
                  <a:lnTo>
                    <a:pt x="199" y="722"/>
                  </a:lnTo>
                  <a:lnTo>
                    <a:pt x="200" y="722"/>
                  </a:lnTo>
                  <a:lnTo>
                    <a:pt x="199" y="716"/>
                  </a:lnTo>
                  <a:lnTo>
                    <a:pt x="196" y="711"/>
                  </a:lnTo>
                  <a:lnTo>
                    <a:pt x="194" y="705"/>
                  </a:lnTo>
                  <a:lnTo>
                    <a:pt x="192" y="699"/>
                  </a:lnTo>
                  <a:lnTo>
                    <a:pt x="191" y="695"/>
                  </a:lnTo>
                  <a:lnTo>
                    <a:pt x="191" y="689"/>
                  </a:lnTo>
                  <a:lnTo>
                    <a:pt x="193" y="684"/>
                  </a:lnTo>
                  <a:lnTo>
                    <a:pt x="198" y="680"/>
                  </a:lnTo>
                  <a:lnTo>
                    <a:pt x="200" y="677"/>
                  </a:lnTo>
                  <a:lnTo>
                    <a:pt x="203" y="673"/>
                  </a:lnTo>
                  <a:lnTo>
                    <a:pt x="205" y="669"/>
                  </a:lnTo>
                  <a:lnTo>
                    <a:pt x="207" y="665"/>
                  </a:lnTo>
                  <a:lnTo>
                    <a:pt x="211" y="661"/>
                  </a:lnTo>
                  <a:lnTo>
                    <a:pt x="213" y="658"/>
                  </a:lnTo>
                  <a:lnTo>
                    <a:pt x="216" y="655"/>
                  </a:lnTo>
                  <a:lnTo>
                    <a:pt x="219" y="653"/>
                  </a:lnTo>
                  <a:lnTo>
                    <a:pt x="220" y="651"/>
                  </a:lnTo>
                  <a:lnTo>
                    <a:pt x="220" y="647"/>
                  </a:lnTo>
                  <a:lnTo>
                    <a:pt x="219" y="641"/>
                  </a:lnTo>
                  <a:lnTo>
                    <a:pt x="217" y="634"/>
                  </a:lnTo>
                  <a:lnTo>
                    <a:pt x="215" y="628"/>
                  </a:lnTo>
                  <a:lnTo>
                    <a:pt x="213" y="621"/>
                  </a:lnTo>
                  <a:lnTo>
                    <a:pt x="212" y="616"/>
                  </a:lnTo>
                  <a:lnTo>
                    <a:pt x="212" y="613"/>
                  </a:lnTo>
                  <a:lnTo>
                    <a:pt x="212" y="612"/>
                  </a:lnTo>
                  <a:lnTo>
                    <a:pt x="211" y="611"/>
                  </a:lnTo>
                  <a:lnTo>
                    <a:pt x="208" y="610"/>
                  </a:lnTo>
                  <a:lnTo>
                    <a:pt x="206" y="610"/>
                  </a:lnTo>
                  <a:lnTo>
                    <a:pt x="205" y="608"/>
                  </a:lnTo>
                  <a:lnTo>
                    <a:pt x="204" y="608"/>
                  </a:lnTo>
                  <a:lnTo>
                    <a:pt x="204" y="607"/>
                  </a:lnTo>
                  <a:lnTo>
                    <a:pt x="205" y="605"/>
                  </a:lnTo>
                  <a:lnTo>
                    <a:pt x="207" y="602"/>
                  </a:lnTo>
                  <a:lnTo>
                    <a:pt x="211" y="598"/>
                  </a:lnTo>
                  <a:lnTo>
                    <a:pt x="214" y="592"/>
                  </a:lnTo>
                  <a:lnTo>
                    <a:pt x="216" y="588"/>
                  </a:lnTo>
                  <a:lnTo>
                    <a:pt x="218" y="583"/>
                  </a:lnTo>
                  <a:lnTo>
                    <a:pt x="219" y="578"/>
                  </a:lnTo>
                  <a:lnTo>
                    <a:pt x="219" y="573"/>
                  </a:lnTo>
                  <a:lnTo>
                    <a:pt x="217" y="569"/>
                  </a:lnTo>
                  <a:lnTo>
                    <a:pt x="220" y="570"/>
                  </a:lnTo>
                  <a:lnTo>
                    <a:pt x="226" y="573"/>
                  </a:lnTo>
                  <a:lnTo>
                    <a:pt x="232" y="577"/>
                  </a:lnTo>
                  <a:lnTo>
                    <a:pt x="241" y="583"/>
                  </a:lnTo>
                  <a:lnTo>
                    <a:pt x="247" y="588"/>
                  </a:lnTo>
                  <a:lnTo>
                    <a:pt x="254" y="592"/>
                  </a:lnTo>
                  <a:lnTo>
                    <a:pt x="259" y="596"/>
                  </a:lnTo>
                  <a:lnTo>
                    <a:pt x="261" y="596"/>
                  </a:lnTo>
                  <a:lnTo>
                    <a:pt x="265" y="593"/>
                  </a:lnTo>
                  <a:lnTo>
                    <a:pt x="266" y="592"/>
                  </a:lnTo>
                  <a:lnTo>
                    <a:pt x="266" y="590"/>
                  </a:lnTo>
                  <a:lnTo>
                    <a:pt x="265" y="588"/>
                  </a:lnTo>
                  <a:lnTo>
                    <a:pt x="262" y="587"/>
                  </a:lnTo>
                  <a:lnTo>
                    <a:pt x="261" y="586"/>
                  </a:lnTo>
                  <a:lnTo>
                    <a:pt x="259" y="585"/>
                  </a:lnTo>
                  <a:lnTo>
                    <a:pt x="259" y="584"/>
                  </a:lnTo>
                  <a:lnTo>
                    <a:pt x="260" y="581"/>
                  </a:lnTo>
                  <a:lnTo>
                    <a:pt x="261" y="579"/>
                  </a:lnTo>
                  <a:lnTo>
                    <a:pt x="262" y="577"/>
                  </a:lnTo>
                  <a:lnTo>
                    <a:pt x="263" y="576"/>
                  </a:lnTo>
                  <a:lnTo>
                    <a:pt x="265" y="574"/>
                  </a:lnTo>
                  <a:lnTo>
                    <a:pt x="265" y="572"/>
                  </a:lnTo>
                  <a:lnTo>
                    <a:pt x="265" y="571"/>
                  </a:lnTo>
                  <a:lnTo>
                    <a:pt x="265" y="569"/>
                  </a:lnTo>
                  <a:lnTo>
                    <a:pt x="265" y="567"/>
                  </a:lnTo>
                  <a:lnTo>
                    <a:pt x="263" y="566"/>
                  </a:lnTo>
                  <a:lnTo>
                    <a:pt x="263" y="564"/>
                  </a:lnTo>
                  <a:lnTo>
                    <a:pt x="263" y="563"/>
                  </a:lnTo>
                  <a:lnTo>
                    <a:pt x="262" y="562"/>
                  </a:lnTo>
                  <a:lnTo>
                    <a:pt x="261" y="561"/>
                  </a:lnTo>
                  <a:lnTo>
                    <a:pt x="259" y="561"/>
                  </a:lnTo>
                  <a:lnTo>
                    <a:pt x="257" y="561"/>
                  </a:lnTo>
                  <a:lnTo>
                    <a:pt x="259" y="557"/>
                  </a:lnTo>
                  <a:lnTo>
                    <a:pt x="262" y="551"/>
                  </a:lnTo>
                  <a:lnTo>
                    <a:pt x="267" y="547"/>
                  </a:lnTo>
                  <a:lnTo>
                    <a:pt x="271" y="543"/>
                  </a:lnTo>
                  <a:lnTo>
                    <a:pt x="273" y="538"/>
                  </a:lnTo>
                  <a:lnTo>
                    <a:pt x="275" y="533"/>
                  </a:lnTo>
                  <a:lnTo>
                    <a:pt x="275" y="531"/>
                  </a:lnTo>
                  <a:lnTo>
                    <a:pt x="274" y="529"/>
                  </a:lnTo>
                  <a:lnTo>
                    <a:pt x="273" y="526"/>
                  </a:lnTo>
                  <a:lnTo>
                    <a:pt x="271" y="524"/>
                  </a:lnTo>
                  <a:lnTo>
                    <a:pt x="276" y="524"/>
                  </a:lnTo>
                  <a:lnTo>
                    <a:pt x="281" y="524"/>
                  </a:lnTo>
                  <a:lnTo>
                    <a:pt x="284" y="524"/>
                  </a:lnTo>
                  <a:lnTo>
                    <a:pt x="288" y="523"/>
                  </a:lnTo>
                  <a:lnTo>
                    <a:pt x="293" y="521"/>
                  </a:lnTo>
                  <a:lnTo>
                    <a:pt x="296" y="519"/>
                  </a:lnTo>
                  <a:lnTo>
                    <a:pt x="300" y="517"/>
                  </a:lnTo>
                  <a:lnTo>
                    <a:pt x="303" y="515"/>
                  </a:lnTo>
                  <a:lnTo>
                    <a:pt x="304" y="513"/>
                  </a:lnTo>
                  <a:lnTo>
                    <a:pt x="304" y="511"/>
                  </a:lnTo>
                  <a:lnTo>
                    <a:pt x="306" y="510"/>
                  </a:lnTo>
                  <a:lnTo>
                    <a:pt x="306" y="509"/>
                  </a:lnTo>
                  <a:lnTo>
                    <a:pt x="304" y="507"/>
                  </a:lnTo>
                  <a:lnTo>
                    <a:pt x="303" y="505"/>
                  </a:lnTo>
                  <a:lnTo>
                    <a:pt x="302" y="504"/>
                  </a:lnTo>
                  <a:lnTo>
                    <a:pt x="301" y="502"/>
                  </a:lnTo>
                  <a:lnTo>
                    <a:pt x="302" y="503"/>
                  </a:lnTo>
                  <a:lnTo>
                    <a:pt x="304" y="503"/>
                  </a:lnTo>
                  <a:lnTo>
                    <a:pt x="306" y="502"/>
                  </a:lnTo>
                  <a:lnTo>
                    <a:pt x="307" y="502"/>
                  </a:lnTo>
                  <a:lnTo>
                    <a:pt x="308" y="500"/>
                  </a:lnTo>
                  <a:lnTo>
                    <a:pt x="308" y="499"/>
                  </a:lnTo>
                  <a:lnTo>
                    <a:pt x="309" y="499"/>
                  </a:lnTo>
                  <a:lnTo>
                    <a:pt x="309" y="499"/>
                  </a:lnTo>
                  <a:lnTo>
                    <a:pt x="309" y="496"/>
                  </a:lnTo>
                  <a:lnTo>
                    <a:pt x="310" y="494"/>
                  </a:lnTo>
                  <a:lnTo>
                    <a:pt x="310" y="492"/>
                  </a:lnTo>
                  <a:lnTo>
                    <a:pt x="311" y="490"/>
                  </a:lnTo>
                  <a:lnTo>
                    <a:pt x="311" y="486"/>
                  </a:lnTo>
                  <a:lnTo>
                    <a:pt x="311" y="484"/>
                  </a:lnTo>
                  <a:lnTo>
                    <a:pt x="311" y="482"/>
                  </a:lnTo>
                  <a:lnTo>
                    <a:pt x="311" y="479"/>
                  </a:lnTo>
                  <a:lnTo>
                    <a:pt x="312" y="480"/>
                  </a:lnTo>
                  <a:lnTo>
                    <a:pt x="315" y="479"/>
                  </a:lnTo>
                  <a:lnTo>
                    <a:pt x="320" y="477"/>
                  </a:lnTo>
                  <a:lnTo>
                    <a:pt x="324" y="473"/>
                  </a:lnTo>
                  <a:lnTo>
                    <a:pt x="329" y="469"/>
                  </a:lnTo>
                  <a:lnTo>
                    <a:pt x="333" y="465"/>
                  </a:lnTo>
                  <a:lnTo>
                    <a:pt x="336" y="461"/>
                  </a:lnTo>
                  <a:lnTo>
                    <a:pt x="336" y="455"/>
                  </a:lnTo>
                  <a:lnTo>
                    <a:pt x="339" y="456"/>
                  </a:lnTo>
                  <a:lnTo>
                    <a:pt x="343" y="456"/>
                  </a:lnTo>
                  <a:lnTo>
                    <a:pt x="347" y="456"/>
                  </a:lnTo>
                  <a:lnTo>
                    <a:pt x="351" y="455"/>
                  </a:lnTo>
                  <a:lnTo>
                    <a:pt x="354" y="453"/>
                  </a:lnTo>
                  <a:lnTo>
                    <a:pt x="359" y="451"/>
                  </a:lnTo>
                  <a:lnTo>
                    <a:pt x="362" y="450"/>
                  </a:lnTo>
                  <a:lnTo>
                    <a:pt x="365" y="448"/>
                  </a:lnTo>
                  <a:lnTo>
                    <a:pt x="365" y="448"/>
                  </a:lnTo>
                  <a:lnTo>
                    <a:pt x="365" y="446"/>
                  </a:lnTo>
                  <a:lnTo>
                    <a:pt x="365" y="445"/>
                  </a:lnTo>
                  <a:lnTo>
                    <a:pt x="365" y="444"/>
                  </a:lnTo>
                  <a:lnTo>
                    <a:pt x="365" y="443"/>
                  </a:lnTo>
                  <a:lnTo>
                    <a:pt x="365" y="442"/>
                  </a:lnTo>
                  <a:lnTo>
                    <a:pt x="365" y="441"/>
                  </a:lnTo>
                  <a:lnTo>
                    <a:pt x="365" y="440"/>
                  </a:lnTo>
                  <a:lnTo>
                    <a:pt x="368" y="438"/>
                  </a:lnTo>
                  <a:lnTo>
                    <a:pt x="370" y="436"/>
                  </a:lnTo>
                  <a:lnTo>
                    <a:pt x="373" y="434"/>
                  </a:lnTo>
                  <a:lnTo>
                    <a:pt x="374" y="430"/>
                  </a:lnTo>
                  <a:lnTo>
                    <a:pt x="375" y="428"/>
                  </a:lnTo>
                  <a:lnTo>
                    <a:pt x="376" y="425"/>
                  </a:lnTo>
                  <a:lnTo>
                    <a:pt x="376" y="422"/>
                  </a:lnTo>
                  <a:lnTo>
                    <a:pt x="376" y="417"/>
                  </a:lnTo>
                  <a:lnTo>
                    <a:pt x="376" y="417"/>
                  </a:lnTo>
                  <a:lnTo>
                    <a:pt x="375" y="417"/>
                  </a:lnTo>
                  <a:lnTo>
                    <a:pt x="375" y="417"/>
                  </a:lnTo>
                  <a:lnTo>
                    <a:pt x="375" y="417"/>
                  </a:lnTo>
                  <a:lnTo>
                    <a:pt x="375" y="417"/>
                  </a:lnTo>
                  <a:lnTo>
                    <a:pt x="375" y="417"/>
                  </a:lnTo>
                  <a:lnTo>
                    <a:pt x="374" y="417"/>
                  </a:lnTo>
                  <a:lnTo>
                    <a:pt x="373" y="417"/>
                  </a:lnTo>
                  <a:lnTo>
                    <a:pt x="378" y="418"/>
                  </a:lnTo>
                  <a:lnTo>
                    <a:pt x="382" y="417"/>
                  </a:lnTo>
                  <a:lnTo>
                    <a:pt x="387" y="415"/>
                  </a:lnTo>
                  <a:lnTo>
                    <a:pt x="391" y="412"/>
                  </a:lnTo>
                  <a:lnTo>
                    <a:pt x="394" y="409"/>
                  </a:lnTo>
                  <a:lnTo>
                    <a:pt x="396" y="405"/>
                  </a:lnTo>
                  <a:lnTo>
                    <a:pt x="400" y="401"/>
                  </a:lnTo>
                  <a:lnTo>
                    <a:pt x="403" y="398"/>
                  </a:lnTo>
                  <a:lnTo>
                    <a:pt x="404" y="401"/>
                  </a:lnTo>
                  <a:lnTo>
                    <a:pt x="405" y="403"/>
                  </a:lnTo>
                  <a:lnTo>
                    <a:pt x="407" y="403"/>
                  </a:lnTo>
                  <a:lnTo>
                    <a:pt x="408" y="402"/>
                  </a:lnTo>
                  <a:lnTo>
                    <a:pt x="410" y="401"/>
                  </a:lnTo>
                  <a:lnTo>
                    <a:pt x="413" y="400"/>
                  </a:lnTo>
                  <a:lnTo>
                    <a:pt x="414" y="399"/>
                  </a:lnTo>
                  <a:lnTo>
                    <a:pt x="415" y="400"/>
                  </a:lnTo>
                  <a:lnTo>
                    <a:pt x="417" y="399"/>
                  </a:lnTo>
                  <a:lnTo>
                    <a:pt x="419" y="397"/>
                  </a:lnTo>
                  <a:lnTo>
                    <a:pt x="421" y="396"/>
                  </a:lnTo>
                  <a:lnTo>
                    <a:pt x="423" y="394"/>
                  </a:lnTo>
                  <a:lnTo>
                    <a:pt x="425" y="392"/>
                  </a:lnTo>
                  <a:lnTo>
                    <a:pt x="427" y="390"/>
                  </a:lnTo>
                  <a:lnTo>
                    <a:pt x="429" y="388"/>
                  </a:lnTo>
                  <a:lnTo>
                    <a:pt x="430" y="386"/>
                  </a:lnTo>
                  <a:lnTo>
                    <a:pt x="431" y="386"/>
                  </a:lnTo>
                  <a:lnTo>
                    <a:pt x="432" y="388"/>
                  </a:lnTo>
                  <a:lnTo>
                    <a:pt x="432" y="389"/>
                  </a:lnTo>
                  <a:lnTo>
                    <a:pt x="433" y="390"/>
                  </a:lnTo>
                  <a:lnTo>
                    <a:pt x="434" y="390"/>
                  </a:lnTo>
                  <a:lnTo>
                    <a:pt x="435" y="391"/>
                  </a:lnTo>
                  <a:lnTo>
                    <a:pt x="436" y="391"/>
                  </a:lnTo>
                  <a:lnTo>
                    <a:pt x="437" y="390"/>
                  </a:lnTo>
                  <a:lnTo>
                    <a:pt x="438" y="389"/>
                  </a:lnTo>
                  <a:lnTo>
                    <a:pt x="438" y="388"/>
                  </a:lnTo>
                  <a:lnTo>
                    <a:pt x="440" y="387"/>
                  </a:lnTo>
                  <a:lnTo>
                    <a:pt x="440" y="385"/>
                  </a:lnTo>
                  <a:lnTo>
                    <a:pt x="441" y="384"/>
                  </a:lnTo>
                  <a:lnTo>
                    <a:pt x="442" y="382"/>
                  </a:lnTo>
                  <a:lnTo>
                    <a:pt x="443" y="380"/>
                  </a:lnTo>
                  <a:lnTo>
                    <a:pt x="445" y="378"/>
                  </a:lnTo>
                  <a:lnTo>
                    <a:pt x="445" y="380"/>
                  </a:lnTo>
                  <a:lnTo>
                    <a:pt x="446" y="381"/>
                  </a:lnTo>
                  <a:lnTo>
                    <a:pt x="447" y="382"/>
                  </a:lnTo>
                  <a:lnTo>
                    <a:pt x="448" y="382"/>
                  </a:lnTo>
                  <a:lnTo>
                    <a:pt x="450" y="383"/>
                  </a:lnTo>
                  <a:lnTo>
                    <a:pt x="451" y="383"/>
                  </a:lnTo>
                  <a:lnTo>
                    <a:pt x="454" y="384"/>
                  </a:lnTo>
                  <a:lnTo>
                    <a:pt x="455" y="386"/>
                  </a:lnTo>
                  <a:lnTo>
                    <a:pt x="458" y="384"/>
                  </a:lnTo>
                  <a:lnTo>
                    <a:pt x="461" y="382"/>
                  </a:lnTo>
                  <a:lnTo>
                    <a:pt x="464" y="381"/>
                  </a:lnTo>
                  <a:lnTo>
                    <a:pt x="467" y="378"/>
                  </a:lnTo>
                  <a:lnTo>
                    <a:pt x="470" y="376"/>
                  </a:lnTo>
                  <a:lnTo>
                    <a:pt x="472" y="374"/>
                  </a:lnTo>
                  <a:lnTo>
                    <a:pt x="474" y="372"/>
                  </a:lnTo>
                  <a:lnTo>
                    <a:pt x="474" y="368"/>
                  </a:lnTo>
                  <a:lnTo>
                    <a:pt x="474" y="370"/>
                  </a:lnTo>
                  <a:lnTo>
                    <a:pt x="475" y="371"/>
                  </a:lnTo>
                  <a:lnTo>
                    <a:pt x="477" y="372"/>
                  </a:lnTo>
                  <a:lnTo>
                    <a:pt x="478" y="372"/>
                  </a:lnTo>
                  <a:lnTo>
                    <a:pt x="484" y="372"/>
                  </a:lnTo>
                  <a:lnTo>
                    <a:pt x="489" y="370"/>
                  </a:lnTo>
                  <a:lnTo>
                    <a:pt x="495" y="368"/>
                  </a:lnTo>
                  <a:lnTo>
                    <a:pt x="500" y="363"/>
                  </a:lnTo>
                  <a:lnTo>
                    <a:pt x="504" y="359"/>
                  </a:lnTo>
                  <a:lnTo>
                    <a:pt x="507" y="354"/>
                  </a:lnTo>
                  <a:lnTo>
                    <a:pt x="511" y="355"/>
                  </a:lnTo>
                  <a:lnTo>
                    <a:pt x="515" y="356"/>
                  </a:lnTo>
                  <a:lnTo>
                    <a:pt x="519" y="357"/>
                  </a:lnTo>
                  <a:lnTo>
                    <a:pt x="524" y="356"/>
                  </a:lnTo>
                  <a:lnTo>
                    <a:pt x="528" y="355"/>
                  </a:lnTo>
                  <a:lnTo>
                    <a:pt x="531" y="353"/>
                  </a:lnTo>
                  <a:lnTo>
                    <a:pt x="535" y="350"/>
                  </a:lnTo>
                  <a:lnTo>
                    <a:pt x="536" y="346"/>
                  </a:lnTo>
                  <a:lnTo>
                    <a:pt x="539" y="349"/>
                  </a:lnTo>
                  <a:lnTo>
                    <a:pt x="542" y="351"/>
                  </a:lnTo>
                  <a:lnTo>
                    <a:pt x="546" y="351"/>
                  </a:lnTo>
                  <a:lnTo>
                    <a:pt x="550" y="350"/>
                  </a:lnTo>
                  <a:lnTo>
                    <a:pt x="554" y="349"/>
                  </a:lnTo>
                  <a:lnTo>
                    <a:pt x="558" y="348"/>
                  </a:lnTo>
                  <a:lnTo>
                    <a:pt x="562" y="346"/>
                  </a:lnTo>
                  <a:lnTo>
                    <a:pt x="566" y="346"/>
                  </a:lnTo>
                  <a:lnTo>
                    <a:pt x="566" y="345"/>
                  </a:lnTo>
                  <a:lnTo>
                    <a:pt x="566" y="344"/>
                  </a:lnTo>
                  <a:lnTo>
                    <a:pt x="566" y="343"/>
                  </a:lnTo>
                  <a:lnTo>
                    <a:pt x="566" y="343"/>
                  </a:lnTo>
                  <a:lnTo>
                    <a:pt x="566" y="342"/>
                  </a:lnTo>
                  <a:lnTo>
                    <a:pt x="566" y="342"/>
                  </a:lnTo>
                  <a:lnTo>
                    <a:pt x="566" y="341"/>
                  </a:lnTo>
                  <a:lnTo>
                    <a:pt x="566" y="341"/>
                  </a:lnTo>
                  <a:lnTo>
                    <a:pt x="569" y="343"/>
                  </a:lnTo>
                  <a:lnTo>
                    <a:pt x="572" y="344"/>
                  </a:lnTo>
                  <a:lnTo>
                    <a:pt x="576" y="344"/>
                  </a:lnTo>
                  <a:lnTo>
                    <a:pt x="580" y="343"/>
                  </a:lnTo>
                  <a:lnTo>
                    <a:pt x="583" y="341"/>
                  </a:lnTo>
                  <a:lnTo>
                    <a:pt x="586" y="337"/>
                  </a:lnTo>
                  <a:lnTo>
                    <a:pt x="589" y="334"/>
                  </a:lnTo>
                  <a:lnTo>
                    <a:pt x="591" y="331"/>
                  </a:lnTo>
                  <a:lnTo>
                    <a:pt x="591" y="333"/>
                  </a:lnTo>
                  <a:lnTo>
                    <a:pt x="591" y="334"/>
                  </a:lnTo>
                  <a:lnTo>
                    <a:pt x="591" y="335"/>
                  </a:lnTo>
                  <a:lnTo>
                    <a:pt x="592" y="336"/>
                  </a:lnTo>
                  <a:lnTo>
                    <a:pt x="593" y="337"/>
                  </a:lnTo>
                  <a:lnTo>
                    <a:pt x="594" y="337"/>
                  </a:lnTo>
                  <a:lnTo>
                    <a:pt x="594" y="336"/>
                  </a:lnTo>
                  <a:lnTo>
                    <a:pt x="595" y="336"/>
                  </a:lnTo>
                  <a:lnTo>
                    <a:pt x="598" y="335"/>
                  </a:lnTo>
                  <a:lnTo>
                    <a:pt x="600" y="334"/>
                  </a:lnTo>
                  <a:lnTo>
                    <a:pt x="602" y="333"/>
                  </a:lnTo>
                  <a:lnTo>
                    <a:pt x="602" y="331"/>
                  </a:lnTo>
                  <a:lnTo>
                    <a:pt x="603" y="327"/>
                  </a:lnTo>
                  <a:lnTo>
                    <a:pt x="602" y="321"/>
                  </a:lnTo>
                  <a:lnTo>
                    <a:pt x="600" y="317"/>
                  </a:lnTo>
                  <a:lnTo>
                    <a:pt x="599" y="313"/>
                  </a:lnTo>
                  <a:lnTo>
                    <a:pt x="600" y="311"/>
                  </a:lnTo>
                  <a:lnTo>
                    <a:pt x="602" y="310"/>
                  </a:lnTo>
                  <a:lnTo>
                    <a:pt x="603" y="309"/>
                  </a:lnTo>
                  <a:lnTo>
                    <a:pt x="605" y="309"/>
                  </a:lnTo>
                  <a:lnTo>
                    <a:pt x="607" y="309"/>
                  </a:lnTo>
                  <a:lnTo>
                    <a:pt x="608" y="308"/>
                  </a:lnTo>
                  <a:lnTo>
                    <a:pt x="611" y="308"/>
                  </a:lnTo>
                  <a:lnTo>
                    <a:pt x="613" y="307"/>
                  </a:lnTo>
                  <a:lnTo>
                    <a:pt x="616" y="306"/>
                  </a:lnTo>
                  <a:lnTo>
                    <a:pt x="617" y="305"/>
                  </a:lnTo>
                  <a:lnTo>
                    <a:pt x="618" y="302"/>
                  </a:lnTo>
                  <a:lnTo>
                    <a:pt x="618" y="299"/>
                  </a:lnTo>
                  <a:lnTo>
                    <a:pt x="618" y="299"/>
                  </a:lnTo>
                  <a:lnTo>
                    <a:pt x="618" y="299"/>
                  </a:lnTo>
                  <a:lnTo>
                    <a:pt x="618" y="299"/>
                  </a:lnTo>
                  <a:lnTo>
                    <a:pt x="618" y="299"/>
                  </a:lnTo>
                  <a:lnTo>
                    <a:pt x="617" y="299"/>
                  </a:lnTo>
                  <a:lnTo>
                    <a:pt x="617" y="299"/>
                  </a:lnTo>
                  <a:lnTo>
                    <a:pt x="616" y="299"/>
                  </a:lnTo>
                  <a:lnTo>
                    <a:pt x="616" y="299"/>
                  </a:lnTo>
                  <a:lnTo>
                    <a:pt x="617" y="300"/>
                  </a:lnTo>
                  <a:lnTo>
                    <a:pt x="619" y="300"/>
                  </a:lnTo>
                  <a:lnTo>
                    <a:pt x="620" y="301"/>
                  </a:lnTo>
                  <a:lnTo>
                    <a:pt x="621" y="302"/>
                  </a:lnTo>
                  <a:lnTo>
                    <a:pt x="622" y="303"/>
                  </a:lnTo>
                  <a:lnTo>
                    <a:pt x="623" y="303"/>
                  </a:lnTo>
                  <a:lnTo>
                    <a:pt x="624" y="304"/>
                  </a:lnTo>
                  <a:lnTo>
                    <a:pt x="625" y="304"/>
                  </a:lnTo>
                  <a:lnTo>
                    <a:pt x="631" y="304"/>
                  </a:lnTo>
                  <a:lnTo>
                    <a:pt x="636" y="304"/>
                  </a:lnTo>
                  <a:lnTo>
                    <a:pt x="640" y="304"/>
                  </a:lnTo>
                  <a:lnTo>
                    <a:pt x="646" y="305"/>
                  </a:lnTo>
                  <a:lnTo>
                    <a:pt x="651" y="306"/>
                  </a:lnTo>
                  <a:lnTo>
                    <a:pt x="657" y="308"/>
                  </a:lnTo>
                  <a:lnTo>
                    <a:pt x="662" y="310"/>
                  </a:lnTo>
                  <a:lnTo>
                    <a:pt x="667" y="314"/>
                  </a:lnTo>
                  <a:lnTo>
                    <a:pt x="669" y="315"/>
                  </a:lnTo>
                  <a:lnTo>
                    <a:pt x="670" y="316"/>
                  </a:lnTo>
                  <a:lnTo>
                    <a:pt x="672" y="316"/>
                  </a:lnTo>
                  <a:lnTo>
                    <a:pt x="675" y="316"/>
                  </a:lnTo>
                  <a:lnTo>
                    <a:pt x="677" y="316"/>
                  </a:lnTo>
                  <a:lnTo>
                    <a:pt x="680" y="314"/>
                  </a:lnTo>
                  <a:lnTo>
                    <a:pt x="683" y="311"/>
                  </a:lnTo>
                  <a:lnTo>
                    <a:pt x="685" y="309"/>
                  </a:lnTo>
                  <a:lnTo>
                    <a:pt x="688" y="313"/>
                  </a:lnTo>
                  <a:lnTo>
                    <a:pt x="691" y="315"/>
                  </a:lnTo>
                  <a:lnTo>
                    <a:pt x="696" y="315"/>
                  </a:lnTo>
                  <a:lnTo>
                    <a:pt x="701" y="315"/>
                  </a:lnTo>
                  <a:lnTo>
                    <a:pt x="705" y="314"/>
                  </a:lnTo>
                  <a:lnTo>
                    <a:pt x="711" y="311"/>
                  </a:lnTo>
                  <a:lnTo>
                    <a:pt x="715" y="310"/>
                  </a:lnTo>
                  <a:lnTo>
                    <a:pt x="719" y="309"/>
                  </a:lnTo>
                  <a:lnTo>
                    <a:pt x="724" y="308"/>
                  </a:lnTo>
                  <a:lnTo>
                    <a:pt x="728" y="308"/>
                  </a:lnTo>
                  <a:lnTo>
                    <a:pt x="733" y="307"/>
                  </a:lnTo>
                  <a:lnTo>
                    <a:pt x="738" y="307"/>
                  </a:lnTo>
                  <a:lnTo>
                    <a:pt x="742" y="307"/>
                  </a:lnTo>
                  <a:lnTo>
                    <a:pt x="746" y="307"/>
                  </a:lnTo>
                  <a:lnTo>
                    <a:pt x="752" y="307"/>
                  </a:lnTo>
                  <a:lnTo>
                    <a:pt x="756" y="306"/>
                  </a:lnTo>
                  <a:lnTo>
                    <a:pt x="759" y="307"/>
                  </a:lnTo>
                  <a:lnTo>
                    <a:pt x="763" y="308"/>
                  </a:lnTo>
                  <a:lnTo>
                    <a:pt x="766" y="309"/>
                  </a:lnTo>
                  <a:lnTo>
                    <a:pt x="770" y="311"/>
                  </a:lnTo>
                  <a:lnTo>
                    <a:pt x="774" y="314"/>
                  </a:lnTo>
                  <a:lnTo>
                    <a:pt x="779" y="315"/>
                  </a:lnTo>
                  <a:lnTo>
                    <a:pt x="783" y="316"/>
                  </a:lnTo>
                  <a:lnTo>
                    <a:pt x="788" y="316"/>
                  </a:lnTo>
                  <a:lnTo>
                    <a:pt x="788" y="317"/>
                  </a:lnTo>
                  <a:lnTo>
                    <a:pt x="788" y="318"/>
                  </a:lnTo>
                  <a:lnTo>
                    <a:pt x="788" y="319"/>
                  </a:lnTo>
                  <a:lnTo>
                    <a:pt x="788" y="320"/>
                  </a:lnTo>
                  <a:lnTo>
                    <a:pt x="788" y="321"/>
                  </a:lnTo>
                  <a:lnTo>
                    <a:pt x="790" y="322"/>
                  </a:lnTo>
                  <a:lnTo>
                    <a:pt x="790" y="322"/>
                  </a:lnTo>
                  <a:lnTo>
                    <a:pt x="791" y="323"/>
                  </a:lnTo>
                  <a:lnTo>
                    <a:pt x="795" y="326"/>
                  </a:lnTo>
                  <a:lnTo>
                    <a:pt x="798" y="328"/>
                  </a:lnTo>
                  <a:lnTo>
                    <a:pt x="803" y="328"/>
                  </a:lnTo>
                  <a:lnTo>
                    <a:pt x="807" y="328"/>
                  </a:lnTo>
                  <a:lnTo>
                    <a:pt x="811" y="327"/>
                  </a:lnTo>
                  <a:lnTo>
                    <a:pt x="815" y="326"/>
                  </a:lnTo>
                  <a:lnTo>
                    <a:pt x="819" y="324"/>
                  </a:lnTo>
                  <a:lnTo>
                    <a:pt x="823" y="323"/>
                  </a:lnTo>
                  <a:lnTo>
                    <a:pt x="825" y="322"/>
                  </a:lnTo>
                  <a:lnTo>
                    <a:pt x="828" y="322"/>
                  </a:lnTo>
                  <a:lnTo>
                    <a:pt x="832" y="321"/>
                  </a:lnTo>
                  <a:lnTo>
                    <a:pt x="836" y="320"/>
                  </a:lnTo>
                  <a:lnTo>
                    <a:pt x="839" y="319"/>
                  </a:lnTo>
                  <a:lnTo>
                    <a:pt x="842" y="318"/>
                  </a:lnTo>
                  <a:lnTo>
                    <a:pt x="847" y="317"/>
                  </a:lnTo>
                  <a:lnTo>
                    <a:pt x="850" y="316"/>
                  </a:lnTo>
                  <a:lnTo>
                    <a:pt x="851" y="317"/>
                  </a:lnTo>
                  <a:lnTo>
                    <a:pt x="852" y="317"/>
                  </a:lnTo>
                  <a:lnTo>
                    <a:pt x="853" y="318"/>
                  </a:lnTo>
                  <a:lnTo>
                    <a:pt x="853" y="319"/>
                  </a:lnTo>
                  <a:lnTo>
                    <a:pt x="854" y="320"/>
                  </a:lnTo>
                  <a:lnTo>
                    <a:pt x="855" y="321"/>
                  </a:lnTo>
                  <a:lnTo>
                    <a:pt x="857" y="322"/>
                  </a:lnTo>
                  <a:lnTo>
                    <a:pt x="858" y="323"/>
                  </a:lnTo>
                  <a:lnTo>
                    <a:pt x="861" y="324"/>
                  </a:lnTo>
                  <a:lnTo>
                    <a:pt x="864" y="324"/>
                  </a:lnTo>
                  <a:lnTo>
                    <a:pt x="867" y="323"/>
                  </a:lnTo>
                  <a:lnTo>
                    <a:pt x="871" y="322"/>
                  </a:lnTo>
                  <a:lnTo>
                    <a:pt x="874" y="321"/>
                  </a:lnTo>
                  <a:lnTo>
                    <a:pt x="877" y="321"/>
                  </a:lnTo>
                  <a:lnTo>
                    <a:pt x="880" y="321"/>
                  </a:lnTo>
                  <a:lnTo>
                    <a:pt x="882" y="321"/>
                  </a:lnTo>
                  <a:lnTo>
                    <a:pt x="885" y="324"/>
                  </a:lnTo>
                  <a:lnTo>
                    <a:pt x="887" y="328"/>
                  </a:lnTo>
                  <a:lnTo>
                    <a:pt x="889" y="332"/>
                  </a:lnTo>
                  <a:lnTo>
                    <a:pt x="891" y="335"/>
                  </a:lnTo>
                  <a:lnTo>
                    <a:pt x="893" y="338"/>
                  </a:lnTo>
                  <a:lnTo>
                    <a:pt x="895" y="342"/>
                  </a:lnTo>
                  <a:lnTo>
                    <a:pt x="899" y="345"/>
                  </a:lnTo>
                  <a:lnTo>
                    <a:pt x="902" y="346"/>
                  </a:lnTo>
                  <a:lnTo>
                    <a:pt x="903" y="346"/>
                  </a:lnTo>
                  <a:lnTo>
                    <a:pt x="904" y="345"/>
                  </a:lnTo>
                  <a:lnTo>
                    <a:pt x="905" y="344"/>
                  </a:lnTo>
                  <a:lnTo>
                    <a:pt x="905" y="344"/>
                  </a:lnTo>
                  <a:lnTo>
                    <a:pt x="906" y="343"/>
                  </a:lnTo>
                  <a:lnTo>
                    <a:pt x="907" y="342"/>
                  </a:lnTo>
                  <a:lnTo>
                    <a:pt x="908" y="342"/>
                  </a:lnTo>
                  <a:lnTo>
                    <a:pt x="909" y="341"/>
                  </a:lnTo>
                  <a:lnTo>
                    <a:pt x="909" y="342"/>
                  </a:lnTo>
                  <a:lnTo>
                    <a:pt x="909" y="342"/>
                  </a:lnTo>
                  <a:lnTo>
                    <a:pt x="909" y="343"/>
                  </a:lnTo>
                  <a:lnTo>
                    <a:pt x="909" y="344"/>
                  </a:lnTo>
                  <a:lnTo>
                    <a:pt x="909" y="344"/>
                  </a:lnTo>
                  <a:lnTo>
                    <a:pt x="911" y="345"/>
                  </a:lnTo>
                  <a:lnTo>
                    <a:pt x="911" y="346"/>
                  </a:lnTo>
                  <a:lnTo>
                    <a:pt x="912" y="346"/>
                  </a:lnTo>
                  <a:lnTo>
                    <a:pt x="914" y="347"/>
                  </a:lnTo>
                  <a:lnTo>
                    <a:pt x="915" y="349"/>
                  </a:lnTo>
                  <a:lnTo>
                    <a:pt x="917" y="350"/>
                  </a:lnTo>
                  <a:lnTo>
                    <a:pt x="918" y="353"/>
                  </a:lnTo>
                  <a:lnTo>
                    <a:pt x="920" y="354"/>
                  </a:lnTo>
                  <a:lnTo>
                    <a:pt x="922" y="355"/>
                  </a:lnTo>
                  <a:lnTo>
                    <a:pt x="925" y="355"/>
                  </a:lnTo>
                  <a:lnTo>
                    <a:pt x="927" y="354"/>
                  </a:lnTo>
                  <a:lnTo>
                    <a:pt x="928" y="354"/>
                  </a:lnTo>
                  <a:lnTo>
                    <a:pt x="929" y="353"/>
                  </a:lnTo>
                  <a:lnTo>
                    <a:pt x="929" y="351"/>
                  </a:lnTo>
                  <a:lnTo>
                    <a:pt x="930" y="350"/>
                  </a:lnTo>
                  <a:lnTo>
                    <a:pt x="931" y="350"/>
                  </a:lnTo>
                  <a:lnTo>
                    <a:pt x="931" y="349"/>
                  </a:lnTo>
                  <a:lnTo>
                    <a:pt x="931" y="348"/>
                  </a:lnTo>
                  <a:lnTo>
                    <a:pt x="931" y="348"/>
                  </a:lnTo>
                  <a:lnTo>
                    <a:pt x="935" y="350"/>
                  </a:lnTo>
                  <a:lnTo>
                    <a:pt x="940" y="354"/>
                  </a:lnTo>
                  <a:lnTo>
                    <a:pt x="945" y="356"/>
                  </a:lnTo>
                  <a:lnTo>
                    <a:pt x="949" y="358"/>
                  </a:lnTo>
                  <a:lnTo>
                    <a:pt x="954" y="359"/>
                  </a:lnTo>
                  <a:lnTo>
                    <a:pt x="958" y="359"/>
                  </a:lnTo>
                  <a:lnTo>
                    <a:pt x="960" y="358"/>
                  </a:lnTo>
                  <a:lnTo>
                    <a:pt x="961" y="356"/>
                  </a:lnTo>
                  <a:lnTo>
                    <a:pt x="962" y="354"/>
                  </a:lnTo>
                  <a:lnTo>
                    <a:pt x="963" y="350"/>
                  </a:lnTo>
                  <a:lnTo>
                    <a:pt x="963" y="351"/>
                  </a:lnTo>
                  <a:lnTo>
                    <a:pt x="963" y="354"/>
                  </a:lnTo>
                  <a:lnTo>
                    <a:pt x="963" y="355"/>
                  </a:lnTo>
                  <a:lnTo>
                    <a:pt x="962" y="356"/>
                  </a:lnTo>
                  <a:lnTo>
                    <a:pt x="962" y="357"/>
                  </a:lnTo>
                  <a:lnTo>
                    <a:pt x="962" y="358"/>
                  </a:lnTo>
                  <a:lnTo>
                    <a:pt x="963" y="358"/>
                  </a:lnTo>
                  <a:lnTo>
                    <a:pt x="963" y="358"/>
                  </a:lnTo>
                  <a:lnTo>
                    <a:pt x="969" y="364"/>
                  </a:lnTo>
                  <a:lnTo>
                    <a:pt x="973" y="371"/>
                  </a:lnTo>
                  <a:lnTo>
                    <a:pt x="978" y="377"/>
                  </a:lnTo>
                  <a:lnTo>
                    <a:pt x="983" y="383"/>
                  </a:lnTo>
                  <a:lnTo>
                    <a:pt x="988" y="388"/>
                  </a:lnTo>
                  <a:lnTo>
                    <a:pt x="994" y="394"/>
                  </a:lnTo>
                  <a:lnTo>
                    <a:pt x="999" y="400"/>
                  </a:lnTo>
                  <a:lnTo>
                    <a:pt x="1006" y="405"/>
                  </a:lnTo>
                  <a:lnTo>
                    <a:pt x="1002" y="405"/>
                  </a:lnTo>
                  <a:lnTo>
                    <a:pt x="1001" y="407"/>
                  </a:lnTo>
                  <a:lnTo>
                    <a:pt x="1000" y="407"/>
                  </a:lnTo>
                  <a:lnTo>
                    <a:pt x="1001" y="408"/>
                  </a:lnTo>
                  <a:lnTo>
                    <a:pt x="1001" y="410"/>
                  </a:lnTo>
                  <a:lnTo>
                    <a:pt x="1002" y="411"/>
                  </a:lnTo>
                  <a:lnTo>
                    <a:pt x="1003" y="412"/>
                  </a:lnTo>
                  <a:lnTo>
                    <a:pt x="1003" y="413"/>
                  </a:lnTo>
                  <a:lnTo>
                    <a:pt x="1006" y="417"/>
                  </a:lnTo>
                  <a:lnTo>
                    <a:pt x="1007" y="421"/>
                  </a:lnTo>
                  <a:lnTo>
                    <a:pt x="1009" y="425"/>
                  </a:lnTo>
                  <a:lnTo>
                    <a:pt x="1012" y="427"/>
                  </a:lnTo>
                  <a:lnTo>
                    <a:pt x="1015" y="430"/>
                  </a:lnTo>
                  <a:lnTo>
                    <a:pt x="1019" y="432"/>
                  </a:lnTo>
                  <a:lnTo>
                    <a:pt x="1023" y="434"/>
                  </a:lnTo>
                  <a:lnTo>
                    <a:pt x="1028" y="435"/>
                  </a:lnTo>
                  <a:lnTo>
                    <a:pt x="1033" y="436"/>
                  </a:lnTo>
                  <a:lnTo>
                    <a:pt x="1037" y="437"/>
                  </a:lnTo>
                  <a:lnTo>
                    <a:pt x="1040" y="439"/>
                  </a:lnTo>
                  <a:lnTo>
                    <a:pt x="1044" y="440"/>
                  </a:lnTo>
                  <a:lnTo>
                    <a:pt x="1047" y="442"/>
                  </a:lnTo>
                  <a:lnTo>
                    <a:pt x="1050" y="443"/>
                  </a:lnTo>
                  <a:lnTo>
                    <a:pt x="1051" y="445"/>
                  </a:lnTo>
                  <a:lnTo>
                    <a:pt x="1053" y="448"/>
                  </a:lnTo>
                  <a:lnTo>
                    <a:pt x="1054" y="453"/>
                  </a:lnTo>
                  <a:lnTo>
                    <a:pt x="1056" y="458"/>
                  </a:lnTo>
                  <a:lnTo>
                    <a:pt x="1060" y="463"/>
                  </a:lnTo>
                  <a:lnTo>
                    <a:pt x="1062" y="468"/>
                  </a:lnTo>
                  <a:lnTo>
                    <a:pt x="1064" y="473"/>
                  </a:lnTo>
                  <a:lnTo>
                    <a:pt x="1067" y="479"/>
                  </a:lnTo>
                  <a:lnTo>
                    <a:pt x="1069" y="484"/>
                  </a:lnTo>
                  <a:lnTo>
                    <a:pt x="1073" y="490"/>
                  </a:lnTo>
                  <a:lnTo>
                    <a:pt x="1074" y="491"/>
                  </a:lnTo>
                  <a:lnTo>
                    <a:pt x="1076" y="492"/>
                  </a:lnTo>
                  <a:lnTo>
                    <a:pt x="1079" y="493"/>
                  </a:lnTo>
                  <a:lnTo>
                    <a:pt x="1082" y="494"/>
                  </a:lnTo>
                  <a:lnTo>
                    <a:pt x="1086" y="494"/>
                  </a:lnTo>
                  <a:lnTo>
                    <a:pt x="1089" y="494"/>
                  </a:lnTo>
                  <a:lnTo>
                    <a:pt x="1092" y="494"/>
                  </a:lnTo>
                  <a:lnTo>
                    <a:pt x="1095" y="494"/>
                  </a:lnTo>
                  <a:lnTo>
                    <a:pt x="1093" y="497"/>
                  </a:lnTo>
                  <a:lnTo>
                    <a:pt x="1092" y="500"/>
                  </a:lnTo>
                  <a:lnTo>
                    <a:pt x="1092" y="503"/>
                  </a:lnTo>
                  <a:lnTo>
                    <a:pt x="1093" y="505"/>
                  </a:lnTo>
                  <a:lnTo>
                    <a:pt x="1096" y="509"/>
                  </a:lnTo>
                  <a:lnTo>
                    <a:pt x="1101" y="512"/>
                  </a:lnTo>
                  <a:lnTo>
                    <a:pt x="1107" y="516"/>
                  </a:lnTo>
                  <a:lnTo>
                    <a:pt x="1113" y="519"/>
                  </a:lnTo>
                  <a:lnTo>
                    <a:pt x="1118" y="522"/>
                  </a:lnTo>
                  <a:lnTo>
                    <a:pt x="1122" y="526"/>
                  </a:lnTo>
                  <a:lnTo>
                    <a:pt x="1123" y="531"/>
                  </a:lnTo>
                  <a:lnTo>
                    <a:pt x="1124" y="536"/>
                  </a:lnTo>
                  <a:lnTo>
                    <a:pt x="1124" y="542"/>
                  </a:lnTo>
                  <a:lnTo>
                    <a:pt x="1123" y="547"/>
                  </a:lnTo>
                  <a:lnTo>
                    <a:pt x="1122" y="553"/>
                  </a:lnTo>
                  <a:lnTo>
                    <a:pt x="1121" y="559"/>
                  </a:lnTo>
                  <a:lnTo>
                    <a:pt x="1121" y="563"/>
                  </a:lnTo>
                  <a:lnTo>
                    <a:pt x="1122" y="569"/>
                  </a:lnTo>
                  <a:lnTo>
                    <a:pt x="1126" y="572"/>
                  </a:lnTo>
                  <a:lnTo>
                    <a:pt x="1129" y="575"/>
                  </a:lnTo>
                  <a:lnTo>
                    <a:pt x="1133" y="578"/>
                  </a:lnTo>
                  <a:lnTo>
                    <a:pt x="1137" y="581"/>
                  </a:lnTo>
                  <a:lnTo>
                    <a:pt x="1142" y="585"/>
                  </a:lnTo>
                  <a:lnTo>
                    <a:pt x="1146" y="588"/>
                  </a:lnTo>
                  <a:lnTo>
                    <a:pt x="1150" y="590"/>
                  </a:lnTo>
                  <a:lnTo>
                    <a:pt x="1154" y="593"/>
                  </a:lnTo>
                  <a:lnTo>
                    <a:pt x="1156" y="596"/>
                  </a:lnTo>
                  <a:lnTo>
                    <a:pt x="1156" y="598"/>
                  </a:lnTo>
                  <a:lnTo>
                    <a:pt x="1156" y="601"/>
                  </a:lnTo>
                  <a:lnTo>
                    <a:pt x="1155" y="605"/>
                  </a:lnTo>
                  <a:lnTo>
                    <a:pt x="1155" y="608"/>
                  </a:lnTo>
                  <a:lnTo>
                    <a:pt x="1154" y="613"/>
                  </a:lnTo>
                  <a:lnTo>
                    <a:pt x="1154" y="616"/>
                  </a:lnTo>
                  <a:lnTo>
                    <a:pt x="1154" y="620"/>
                  </a:lnTo>
                  <a:lnTo>
                    <a:pt x="1156" y="624"/>
                  </a:lnTo>
                  <a:lnTo>
                    <a:pt x="1158" y="626"/>
                  </a:lnTo>
                  <a:lnTo>
                    <a:pt x="1161" y="628"/>
                  </a:lnTo>
                  <a:lnTo>
                    <a:pt x="1164" y="630"/>
                  </a:lnTo>
                  <a:lnTo>
                    <a:pt x="1169" y="632"/>
                  </a:lnTo>
                  <a:lnTo>
                    <a:pt x="1171" y="634"/>
                  </a:lnTo>
                  <a:lnTo>
                    <a:pt x="1173" y="637"/>
                  </a:lnTo>
                  <a:lnTo>
                    <a:pt x="1174" y="640"/>
                  </a:lnTo>
                  <a:lnTo>
                    <a:pt x="1173" y="645"/>
                  </a:lnTo>
                  <a:lnTo>
                    <a:pt x="1171" y="648"/>
                  </a:lnTo>
                  <a:lnTo>
                    <a:pt x="1169" y="652"/>
                  </a:lnTo>
                  <a:lnTo>
                    <a:pt x="1167" y="654"/>
                  </a:lnTo>
                  <a:lnTo>
                    <a:pt x="1164" y="656"/>
                  </a:lnTo>
                  <a:lnTo>
                    <a:pt x="1164" y="659"/>
                  </a:lnTo>
                  <a:lnTo>
                    <a:pt x="1164" y="662"/>
                  </a:lnTo>
                  <a:lnTo>
                    <a:pt x="1167" y="667"/>
                  </a:lnTo>
                  <a:lnTo>
                    <a:pt x="1167" y="669"/>
                  </a:lnTo>
                  <a:lnTo>
                    <a:pt x="1167" y="671"/>
                  </a:lnTo>
                  <a:lnTo>
                    <a:pt x="1167" y="673"/>
                  </a:lnTo>
                  <a:lnTo>
                    <a:pt x="1167" y="675"/>
                  </a:lnTo>
                  <a:lnTo>
                    <a:pt x="1167" y="678"/>
                  </a:lnTo>
                  <a:lnTo>
                    <a:pt x="1168" y="680"/>
                  </a:lnTo>
                  <a:lnTo>
                    <a:pt x="1168" y="682"/>
                  </a:lnTo>
                  <a:lnTo>
                    <a:pt x="1169" y="682"/>
                  </a:lnTo>
                  <a:lnTo>
                    <a:pt x="1167" y="687"/>
                  </a:lnTo>
                  <a:lnTo>
                    <a:pt x="1164" y="694"/>
                  </a:lnTo>
                  <a:lnTo>
                    <a:pt x="1162" y="699"/>
                  </a:lnTo>
                  <a:lnTo>
                    <a:pt x="1162" y="705"/>
                  </a:lnTo>
                  <a:lnTo>
                    <a:pt x="1162" y="710"/>
                  </a:lnTo>
                  <a:lnTo>
                    <a:pt x="1164" y="714"/>
                  </a:lnTo>
                  <a:lnTo>
                    <a:pt x="1169" y="719"/>
                  </a:lnTo>
                  <a:lnTo>
                    <a:pt x="1174" y="722"/>
                  </a:lnTo>
                  <a:lnTo>
                    <a:pt x="1175" y="722"/>
                  </a:lnTo>
                  <a:lnTo>
                    <a:pt x="1175" y="721"/>
                  </a:lnTo>
                  <a:lnTo>
                    <a:pt x="1176" y="720"/>
                  </a:lnTo>
                  <a:lnTo>
                    <a:pt x="1177" y="720"/>
                  </a:lnTo>
                  <a:lnTo>
                    <a:pt x="1178" y="719"/>
                  </a:lnTo>
                  <a:lnTo>
                    <a:pt x="1178" y="719"/>
                  </a:lnTo>
                  <a:lnTo>
                    <a:pt x="1178" y="719"/>
                  </a:lnTo>
                  <a:lnTo>
                    <a:pt x="1178" y="719"/>
                  </a:lnTo>
                  <a:lnTo>
                    <a:pt x="1182" y="728"/>
                  </a:lnTo>
                  <a:lnTo>
                    <a:pt x="1184" y="737"/>
                  </a:lnTo>
                  <a:lnTo>
                    <a:pt x="1184" y="745"/>
                  </a:lnTo>
                  <a:lnTo>
                    <a:pt x="1184" y="752"/>
                  </a:lnTo>
                  <a:lnTo>
                    <a:pt x="1184" y="758"/>
                  </a:lnTo>
                  <a:lnTo>
                    <a:pt x="1186" y="763"/>
                  </a:lnTo>
                  <a:lnTo>
                    <a:pt x="1187" y="765"/>
                  </a:lnTo>
                  <a:lnTo>
                    <a:pt x="1189" y="767"/>
                  </a:lnTo>
                  <a:lnTo>
                    <a:pt x="1192" y="769"/>
                  </a:lnTo>
                  <a:lnTo>
                    <a:pt x="1196" y="772"/>
                  </a:lnTo>
                  <a:lnTo>
                    <a:pt x="1196" y="772"/>
                  </a:lnTo>
                  <a:lnTo>
                    <a:pt x="1196" y="773"/>
                  </a:lnTo>
                  <a:lnTo>
                    <a:pt x="1196" y="773"/>
                  </a:lnTo>
                  <a:lnTo>
                    <a:pt x="1195" y="774"/>
                  </a:lnTo>
                  <a:lnTo>
                    <a:pt x="1194" y="774"/>
                  </a:lnTo>
                  <a:lnTo>
                    <a:pt x="1192" y="774"/>
                  </a:lnTo>
                  <a:lnTo>
                    <a:pt x="1192" y="774"/>
                  </a:lnTo>
                  <a:lnTo>
                    <a:pt x="1191" y="774"/>
                  </a:lnTo>
                  <a:lnTo>
                    <a:pt x="1191" y="781"/>
                  </a:lnTo>
                  <a:lnTo>
                    <a:pt x="1192" y="788"/>
                  </a:lnTo>
                  <a:lnTo>
                    <a:pt x="1192" y="794"/>
                  </a:lnTo>
                  <a:lnTo>
                    <a:pt x="1191" y="801"/>
                  </a:lnTo>
                  <a:lnTo>
                    <a:pt x="1191" y="807"/>
                  </a:lnTo>
                  <a:lnTo>
                    <a:pt x="1190" y="814"/>
                  </a:lnTo>
                  <a:lnTo>
                    <a:pt x="1189" y="821"/>
                  </a:lnTo>
                  <a:lnTo>
                    <a:pt x="1189" y="828"/>
                  </a:lnTo>
                  <a:lnTo>
                    <a:pt x="1188" y="831"/>
                  </a:lnTo>
                  <a:lnTo>
                    <a:pt x="1187" y="834"/>
                  </a:lnTo>
                  <a:lnTo>
                    <a:pt x="1186" y="839"/>
                  </a:lnTo>
                  <a:lnTo>
                    <a:pt x="1185" y="843"/>
                  </a:lnTo>
                  <a:lnTo>
                    <a:pt x="1184" y="846"/>
                  </a:lnTo>
                  <a:lnTo>
                    <a:pt x="1184" y="849"/>
                  </a:lnTo>
                  <a:lnTo>
                    <a:pt x="1184" y="853"/>
                  </a:lnTo>
                  <a:lnTo>
                    <a:pt x="1186" y="855"/>
                  </a:lnTo>
                  <a:lnTo>
                    <a:pt x="1185" y="855"/>
                  </a:lnTo>
                  <a:lnTo>
                    <a:pt x="1186" y="857"/>
                  </a:lnTo>
                  <a:lnTo>
                    <a:pt x="1187" y="861"/>
                  </a:lnTo>
                  <a:lnTo>
                    <a:pt x="1189" y="867"/>
                  </a:lnTo>
                  <a:lnTo>
                    <a:pt x="1190" y="872"/>
                  </a:lnTo>
                  <a:lnTo>
                    <a:pt x="1191" y="877"/>
                  </a:lnTo>
                  <a:lnTo>
                    <a:pt x="1192" y="881"/>
                  </a:lnTo>
                  <a:lnTo>
                    <a:pt x="1191" y="883"/>
                  </a:lnTo>
                  <a:lnTo>
                    <a:pt x="1189" y="883"/>
                  </a:lnTo>
                  <a:lnTo>
                    <a:pt x="1188" y="885"/>
                  </a:lnTo>
                  <a:lnTo>
                    <a:pt x="1187" y="888"/>
                  </a:lnTo>
                  <a:lnTo>
                    <a:pt x="1186" y="893"/>
                  </a:lnTo>
                  <a:lnTo>
                    <a:pt x="1185" y="897"/>
                  </a:lnTo>
                  <a:lnTo>
                    <a:pt x="1184" y="902"/>
                  </a:lnTo>
                  <a:lnTo>
                    <a:pt x="1184" y="908"/>
                  </a:lnTo>
                  <a:lnTo>
                    <a:pt x="1184" y="912"/>
                  </a:lnTo>
                  <a:lnTo>
                    <a:pt x="1184" y="915"/>
                  </a:lnTo>
                  <a:lnTo>
                    <a:pt x="1185" y="918"/>
                  </a:lnTo>
                  <a:lnTo>
                    <a:pt x="1186" y="923"/>
                  </a:lnTo>
                  <a:lnTo>
                    <a:pt x="1187" y="926"/>
                  </a:lnTo>
                  <a:lnTo>
                    <a:pt x="1189" y="929"/>
                  </a:lnTo>
                  <a:lnTo>
                    <a:pt x="1191" y="932"/>
                  </a:lnTo>
                  <a:lnTo>
                    <a:pt x="1194" y="936"/>
                  </a:lnTo>
                  <a:lnTo>
                    <a:pt x="1196" y="937"/>
                  </a:lnTo>
                  <a:lnTo>
                    <a:pt x="1201" y="939"/>
                  </a:lnTo>
                  <a:lnTo>
                    <a:pt x="1205" y="939"/>
                  </a:lnTo>
                  <a:lnTo>
                    <a:pt x="1209" y="938"/>
                  </a:lnTo>
                  <a:lnTo>
                    <a:pt x="1212" y="937"/>
                  </a:lnTo>
                  <a:lnTo>
                    <a:pt x="1214" y="934"/>
                  </a:lnTo>
                  <a:lnTo>
                    <a:pt x="1215" y="929"/>
                  </a:lnTo>
                  <a:lnTo>
                    <a:pt x="1215" y="925"/>
                  </a:lnTo>
                  <a:lnTo>
                    <a:pt x="1216" y="920"/>
                  </a:lnTo>
                  <a:lnTo>
                    <a:pt x="1216" y="912"/>
                  </a:lnTo>
                  <a:lnTo>
                    <a:pt x="1219" y="904"/>
                  </a:lnTo>
                  <a:lnTo>
                    <a:pt x="1224" y="896"/>
                  </a:lnTo>
                  <a:lnTo>
                    <a:pt x="1228" y="888"/>
                  </a:lnTo>
                  <a:lnTo>
                    <a:pt x="1234" y="880"/>
                  </a:lnTo>
                  <a:lnTo>
                    <a:pt x="1238" y="872"/>
                  </a:lnTo>
                  <a:lnTo>
                    <a:pt x="1240" y="866"/>
                  </a:lnTo>
                  <a:lnTo>
                    <a:pt x="1241" y="860"/>
                  </a:lnTo>
                  <a:lnTo>
                    <a:pt x="1241" y="858"/>
                  </a:lnTo>
                  <a:lnTo>
                    <a:pt x="1241" y="856"/>
                  </a:lnTo>
                  <a:lnTo>
                    <a:pt x="1241" y="851"/>
                  </a:lnTo>
                  <a:lnTo>
                    <a:pt x="1242" y="848"/>
                  </a:lnTo>
                  <a:lnTo>
                    <a:pt x="1242" y="844"/>
                  </a:lnTo>
                  <a:lnTo>
                    <a:pt x="1243" y="840"/>
                  </a:lnTo>
                  <a:lnTo>
                    <a:pt x="1243" y="837"/>
                  </a:lnTo>
                  <a:lnTo>
                    <a:pt x="1243" y="835"/>
                  </a:lnTo>
                  <a:lnTo>
                    <a:pt x="1243" y="832"/>
                  </a:lnTo>
                  <a:lnTo>
                    <a:pt x="1242" y="828"/>
                  </a:lnTo>
                  <a:lnTo>
                    <a:pt x="1242" y="822"/>
                  </a:lnTo>
                  <a:lnTo>
                    <a:pt x="1241" y="816"/>
                  </a:lnTo>
                  <a:lnTo>
                    <a:pt x="1240" y="809"/>
                  </a:lnTo>
                  <a:lnTo>
                    <a:pt x="1239" y="803"/>
                  </a:lnTo>
                  <a:lnTo>
                    <a:pt x="1238" y="799"/>
                  </a:lnTo>
                  <a:lnTo>
                    <a:pt x="1236" y="795"/>
                  </a:lnTo>
                  <a:lnTo>
                    <a:pt x="1239" y="794"/>
                  </a:lnTo>
                  <a:lnTo>
                    <a:pt x="1242" y="792"/>
                  </a:lnTo>
                  <a:lnTo>
                    <a:pt x="1245" y="789"/>
                  </a:lnTo>
                  <a:lnTo>
                    <a:pt x="1246" y="787"/>
                  </a:lnTo>
                  <a:lnTo>
                    <a:pt x="1249" y="781"/>
                  </a:lnTo>
                  <a:lnTo>
                    <a:pt x="1250" y="775"/>
                  </a:lnTo>
                  <a:lnTo>
                    <a:pt x="1249" y="768"/>
                  </a:lnTo>
                  <a:lnTo>
                    <a:pt x="1249" y="761"/>
                  </a:lnTo>
                  <a:lnTo>
                    <a:pt x="1248" y="754"/>
                  </a:lnTo>
                  <a:lnTo>
                    <a:pt x="1248" y="747"/>
                  </a:lnTo>
                  <a:lnTo>
                    <a:pt x="1249" y="741"/>
                  </a:lnTo>
                  <a:lnTo>
                    <a:pt x="1250" y="736"/>
                  </a:lnTo>
                  <a:lnTo>
                    <a:pt x="1251" y="732"/>
                  </a:lnTo>
                  <a:lnTo>
                    <a:pt x="1252" y="726"/>
                  </a:lnTo>
                  <a:lnTo>
                    <a:pt x="1253" y="721"/>
                  </a:lnTo>
                  <a:lnTo>
                    <a:pt x="1255" y="716"/>
                  </a:lnTo>
                  <a:lnTo>
                    <a:pt x="1256" y="710"/>
                  </a:lnTo>
                  <a:lnTo>
                    <a:pt x="1258" y="705"/>
                  </a:lnTo>
                  <a:lnTo>
                    <a:pt x="1257" y="701"/>
                  </a:lnTo>
                  <a:lnTo>
                    <a:pt x="1256" y="699"/>
                  </a:lnTo>
                  <a:lnTo>
                    <a:pt x="1254" y="697"/>
                  </a:lnTo>
                  <a:lnTo>
                    <a:pt x="1252" y="695"/>
                  </a:lnTo>
                  <a:lnTo>
                    <a:pt x="1250" y="692"/>
                  </a:lnTo>
                  <a:lnTo>
                    <a:pt x="1248" y="689"/>
                  </a:lnTo>
                  <a:lnTo>
                    <a:pt x="1246" y="687"/>
                  </a:lnTo>
                  <a:lnTo>
                    <a:pt x="1245" y="684"/>
                  </a:lnTo>
                  <a:lnTo>
                    <a:pt x="1246" y="684"/>
                  </a:lnTo>
                  <a:lnTo>
                    <a:pt x="1248" y="683"/>
                  </a:lnTo>
                  <a:lnTo>
                    <a:pt x="1250" y="682"/>
                  </a:lnTo>
                  <a:lnTo>
                    <a:pt x="1252" y="681"/>
                  </a:lnTo>
                  <a:lnTo>
                    <a:pt x="1254" y="680"/>
                  </a:lnTo>
                  <a:lnTo>
                    <a:pt x="1256" y="679"/>
                  </a:lnTo>
                  <a:lnTo>
                    <a:pt x="1257" y="678"/>
                  </a:lnTo>
                  <a:lnTo>
                    <a:pt x="1258" y="678"/>
                  </a:lnTo>
                  <a:lnTo>
                    <a:pt x="1258" y="671"/>
                  </a:lnTo>
                  <a:lnTo>
                    <a:pt x="1258" y="665"/>
                  </a:lnTo>
                  <a:lnTo>
                    <a:pt x="1258" y="658"/>
                  </a:lnTo>
                  <a:lnTo>
                    <a:pt x="1259" y="652"/>
                  </a:lnTo>
                  <a:lnTo>
                    <a:pt x="1259" y="645"/>
                  </a:lnTo>
                  <a:lnTo>
                    <a:pt x="1261" y="640"/>
                  </a:lnTo>
                  <a:lnTo>
                    <a:pt x="1261" y="633"/>
                  </a:lnTo>
                  <a:lnTo>
                    <a:pt x="1261" y="628"/>
                  </a:lnTo>
                  <a:lnTo>
                    <a:pt x="1261" y="626"/>
                  </a:lnTo>
                  <a:lnTo>
                    <a:pt x="1259" y="624"/>
                  </a:lnTo>
                  <a:lnTo>
                    <a:pt x="1258" y="621"/>
                  </a:lnTo>
                  <a:lnTo>
                    <a:pt x="1257" y="619"/>
                  </a:lnTo>
                  <a:lnTo>
                    <a:pt x="1256" y="617"/>
                  </a:lnTo>
                  <a:lnTo>
                    <a:pt x="1255" y="615"/>
                  </a:lnTo>
                  <a:lnTo>
                    <a:pt x="1255" y="613"/>
                  </a:lnTo>
                  <a:lnTo>
                    <a:pt x="1255" y="611"/>
                  </a:lnTo>
                  <a:lnTo>
                    <a:pt x="1256" y="610"/>
                  </a:lnTo>
                  <a:lnTo>
                    <a:pt x="1257" y="608"/>
                  </a:lnTo>
                  <a:lnTo>
                    <a:pt x="1258" y="607"/>
                  </a:lnTo>
                  <a:lnTo>
                    <a:pt x="1261" y="605"/>
                  </a:lnTo>
                  <a:lnTo>
                    <a:pt x="1262" y="604"/>
                  </a:lnTo>
                  <a:lnTo>
                    <a:pt x="1262" y="603"/>
                  </a:lnTo>
                  <a:lnTo>
                    <a:pt x="1263" y="602"/>
                  </a:lnTo>
                  <a:lnTo>
                    <a:pt x="1263" y="601"/>
                  </a:lnTo>
                  <a:lnTo>
                    <a:pt x="1263" y="596"/>
                  </a:lnTo>
                  <a:lnTo>
                    <a:pt x="1264" y="590"/>
                  </a:lnTo>
                  <a:lnTo>
                    <a:pt x="1265" y="585"/>
                  </a:lnTo>
                  <a:lnTo>
                    <a:pt x="1265" y="579"/>
                  </a:lnTo>
                  <a:lnTo>
                    <a:pt x="1266" y="575"/>
                  </a:lnTo>
                  <a:lnTo>
                    <a:pt x="1266" y="571"/>
                  </a:lnTo>
                  <a:lnTo>
                    <a:pt x="1266" y="565"/>
                  </a:lnTo>
                  <a:lnTo>
                    <a:pt x="1265" y="561"/>
                  </a:lnTo>
                  <a:lnTo>
                    <a:pt x="1264" y="558"/>
                  </a:lnTo>
                  <a:lnTo>
                    <a:pt x="1263" y="556"/>
                  </a:lnTo>
                  <a:lnTo>
                    <a:pt x="1259" y="552"/>
                  </a:lnTo>
                  <a:lnTo>
                    <a:pt x="1257" y="550"/>
                  </a:lnTo>
                  <a:lnTo>
                    <a:pt x="1254" y="548"/>
                  </a:lnTo>
                  <a:lnTo>
                    <a:pt x="1251" y="546"/>
                  </a:lnTo>
                  <a:lnTo>
                    <a:pt x="1246" y="544"/>
                  </a:lnTo>
                  <a:lnTo>
                    <a:pt x="1243" y="542"/>
                  </a:lnTo>
                  <a:lnTo>
                    <a:pt x="1246" y="539"/>
                  </a:lnTo>
                  <a:lnTo>
                    <a:pt x="1249" y="536"/>
                  </a:lnTo>
                  <a:lnTo>
                    <a:pt x="1250" y="533"/>
                  </a:lnTo>
                  <a:lnTo>
                    <a:pt x="1250" y="529"/>
                  </a:lnTo>
                  <a:lnTo>
                    <a:pt x="1249" y="525"/>
                  </a:lnTo>
                  <a:lnTo>
                    <a:pt x="1248" y="522"/>
                  </a:lnTo>
                  <a:lnTo>
                    <a:pt x="1245" y="519"/>
                  </a:lnTo>
                  <a:lnTo>
                    <a:pt x="1243" y="517"/>
                  </a:lnTo>
                  <a:lnTo>
                    <a:pt x="1244" y="515"/>
                  </a:lnTo>
                  <a:lnTo>
                    <a:pt x="1245" y="512"/>
                  </a:lnTo>
                  <a:lnTo>
                    <a:pt x="1246" y="511"/>
                  </a:lnTo>
                  <a:lnTo>
                    <a:pt x="1248" y="509"/>
                  </a:lnTo>
                  <a:lnTo>
                    <a:pt x="1248" y="508"/>
                  </a:lnTo>
                  <a:lnTo>
                    <a:pt x="1246" y="506"/>
                  </a:lnTo>
                  <a:lnTo>
                    <a:pt x="1246" y="505"/>
                  </a:lnTo>
                  <a:lnTo>
                    <a:pt x="1245" y="504"/>
                  </a:lnTo>
                  <a:lnTo>
                    <a:pt x="1243" y="500"/>
                  </a:lnTo>
                  <a:lnTo>
                    <a:pt x="1241" y="497"/>
                  </a:lnTo>
                  <a:lnTo>
                    <a:pt x="1239" y="494"/>
                  </a:lnTo>
                  <a:lnTo>
                    <a:pt x="1238" y="492"/>
                  </a:lnTo>
                  <a:lnTo>
                    <a:pt x="1237" y="489"/>
                  </a:lnTo>
                  <a:lnTo>
                    <a:pt x="1236" y="485"/>
                  </a:lnTo>
                  <a:lnTo>
                    <a:pt x="1236" y="481"/>
                  </a:lnTo>
                  <a:lnTo>
                    <a:pt x="1236" y="477"/>
                  </a:lnTo>
                  <a:lnTo>
                    <a:pt x="1236" y="472"/>
                  </a:lnTo>
                  <a:lnTo>
                    <a:pt x="1235" y="468"/>
                  </a:lnTo>
                  <a:lnTo>
                    <a:pt x="1232" y="463"/>
                  </a:lnTo>
                  <a:lnTo>
                    <a:pt x="1230" y="458"/>
                  </a:lnTo>
                  <a:lnTo>
                    <a:pt x="1228" y="453"/>
                  </a:lnTo>
                  <a:lnTo>
                    <a:pt x="1226" y="448"/>
                  </a:lnTo>
                  <a:lnTo>
                    <a:pt x="1225" y="443"/>
                  </a:lnTo>
                  <a:lnTo>
                    <a:pt x="1224" y="438"/>
                  </a:lnTo>
                  <a:lnTo>
                    <a:pt x="1222" y="434"/>
                  </a:lnTo>
                  <a:lnTo>
                    <a:pt x="1221" y="430"/>
                  </a:lnTo>
                  <a:lnTo>
                    <a:pt x="1218" y="428"/>
                  </a:lnTo>
                  <a:lnTo>
                    <a:pt x="1216" y="425"/>
                  </a:lnTo>
                  <a:lnTo>
                    <a:pt x="1214" y="422"/>
                  </a:lnTo>
                  <a:lnTo>
                    <a:pt x="1213" y="418"/>
                  </a:lnTo>
                  <a:lnTo>
                    <a:pt x="1212" y="414"/>
                  </a:lnTo>
                  <a:lnTo>
                    <a:pt x="1211" y="410"/>
                  </a:lnTo>
                  <a:lnTo>
                    <a:pt x="1210" y="408"/>
                  </a:lnTo>
                  <a:lnTo>
                    <a:pt x="1209" y="404"/>
                  </a:lnTo>
                  <a:lnTo>
                    <a:pt x="1207" y="402"/>
                  </a:lnTo>
                  <a:lnTo>
                    <a:pt x="1205" y="400"/>
                  </a:lnTo>
                  <a:lnTo>
                    <a:pt x="1203" y="398"/>
                  </a:lnTo>
                  <a:lnTo>
                    <a:pt x="1200" y="397"/>
                  </a:lnTo>
                  <a:lnTo>
                    <a:pt x="1197" y="396"/>
                  </a:lnTo>
                  <a:lnTo>
                    <a:pt x="1194" y="396"/>
                  </a:lnTo>
                  <a:lnTo>
                    <a:pt x="1196" y="391"/>
                  </a:lnTo>
                  <a:lnTo>
                    <a:pt x="1197" y="388"/>
                  </a:lnTo>
                  <a:lnTo>
                    <a:pt x="1198" y="384"/>
                  </a:lnTo>
                  <a:lnTo>
                    <a:pt x="1199" y="381"/>
                  </a:lnTo>
                  <a:lnTo>
                    <a:pt x="1199" y="377"/>
                  </a:lnTo>
                  <a:lnTo>
                    <a:pt x="1200" y="373"/>
                  </a:lnTo>
                  <a:lnTo>
                    <a:pt x="1199" y="370"/>
                  </a:lnTo>
                  <a:lnTo>
                    <a:pt x="1199" y="365"/>
                  </a:lnTo>
                  <a:lnTo>
                    <a:pt x="1197" y="362"/>
                  </a:lnTo>
                  <a:lnTo>
                    <a:pt x="1195" y="359"/>
                  </a:lnTo>
                  <a:lnTo>
                    <a:pt x="1192" y="357"/>
                  </a:lnTo>
                  <a:lnTo>
                    <a:pt x="1190" y="354"/>
                  </a:lnTo>
                  <a:lnTo>
                    <a:pt x="1187" y="350"/>
                  </a:lnTo>
                  <a:lnTo>
                    <a:pt x="1184" y="349"/>
                  </a:lnTo>
                  <a:lnTo>
                    <a:pt x="1180" y="348"/>
                  </a:lnTo>
                  <a:lnTo>
                    <a:pt x="1174" y="348"/>
                  </a:lnTo>
                  <a:lnTo>
                    <a:pt x="1174" y="341"/>
                  </a:lnTo>
                  <a:lnTo>
                    <a:pt x="1175" y="332"/>
                  </a:lnTo>
                  <a:lnTo>
                    <a:pt x="1174" y="324"/>
                  </a:lnTo>
                  <a:lnTo>
                    <a:pt x="1173" y="316"/>
                  </a:lnTo>
                  <a:lnTo>
                    <a:pt x="1170" y="309"/>
                  </a:lnTo>
                  <a:lnTo>
                    <a:pt x="1165" y="303"/>
                  </a:lnTo>
                  <a:lnTo>
                    <a:pt x="1163" y="301"/>
                  </a:lnTo>
                  <a:lnTo>
                    <a:pt x="1160" y="299"/>
                  </a:lnTo>
                  <a:lnTo>
                    <a:pt x="1156" y="297"/>
                  </a:lnTo>
                  <a:lnTo>
                    <a:pt x="1151" y="296"/>
                  </a:lnTo>
                  <a:lnTo>
                    <a:pt x="1149" y="295"/>
                  </a:lnTo>
                  <a:lnTo>
                    <a:pt x="1148" y="292"/>
                  </a:lnTo>
                  <a:lnTo>
                    <a:pt x="1146" y="288"/>
                  </a:lnTo>
                  <a:lnTo>
                    <a:pt x="1144" y="283"/>
                  </a:lnTo>
                  <a:lnTo>
                    <a:pt x="1143" y="278"/>
                  </a:lnTo>
                  <a:lnTo>
                    <a:pt x="1142" y="273"/>
                  </a:lnTo>
                  <a:lnTo>
                    <a:pt x="1142" y="266"/>
                  </a:lnTo>
                  <a:lnTo>
                    <a:pt x="1142" y="260"/>
                  </a:lnTo>
                  <a:lnTo>
                    <a:pt x="1138" y="260"/>
                  </a:lnTo>
                  <a:lnTo>
                    <a:pt x="1136" y="259"/>
                  </a:lnTo>
                  <a:lnTo>
                    <a:pt x="1133" y="256"/>
                  </a:lnTo>
                  <a:lnTo>
                    <a:pt x="1131" y="253"/>
                  </a:lnTo>
                  <a:lnTo>
                    <a:pt x="1128" y="251"/>
                  </a:lnTo>
                  <a:lnTo>
                    <a:pt x="1126" y="249"/>
                  </a:lnTo>
                  <a:lnTo>
                    <a:pt x="1122" y="249"/>
                  </a:lnTo>
                  <a:lnTo>
                    <a:pt x="1119" y="250"/>
                  </a:lnTo>
                  <a:lnTo>
                    <a:pt x="1118" y="245"/>
                  </a:lnTo>
                  <a:lnTo>
                    <a:pt x="1116" y="240"/>
                  </a:lnTo>
                  <a:lnTo>
                    <a:pt x="1114" y="236"/>
                  </a:lnTo>
                  <a:lnTo>
                    <a:pt x="1110" y="233"/>
                  </a:lnTo>
                  <a:lnTo>
                    <a:pt x="1106" y="230"/>
                  </a:lnTo>
                  <a:lnTo>
                    <a:pt x="1103" y="227"/>
                  </a:lnTo>
                  <a:lnTo>
                    <a:pt x="1098" y="225"/>
                  </a:lnTo>
                  <a:lnTo>
                    <a:pt x="1095" y="222"/>
                  </a:lnTo>
                  <a:lnTo>
                    <a:pt x="1094" y="222"/>
                  </a:lnTo>
                  <a:lnTo>
                    <a:pt x="1092" y="221"/>
                  </a:lnTo>
                  <a:lnTo>
                    <a:pt x="1091" y="221"/>
                  </a:lnTo>
                  <a:lnTo>
                    <a:pt x="1090" y="220"/>
                  </a:lnTo>
                  <a:lnTo>
                    <a:pt x="1089" y="220"/>
                  </a:lnTo>
                  <a:lnTo>
                    <a:pt x="1087" y="220"/>
                  </a:lnTo>
                  <a:lnTo>
                    <a:pt x="1086" y="220"/>
                  </a:lnTo>
                  <a:lnTo>
                    <a:pt x="1084" y="220"/>
                  </a:lnTo>
                  <a:lnTo>
                    <a:pt x="1088" y="218"/>
                  </a:lnTo>
                  <a:lnTo>
                    <a:pt x="1090" y="215"/>
                  </a:lnTo>
                  <a:lnTo>
                    <a:pt x="1091" y="213"/>
                  </a:lnTo>
                  <a:lnTo>
                    <a:pt x="1092" y="210"/>
                  </a:lnTo>
                  <a:lnTo>
                    <a:pt x="1092" y="207"/>
                  </a:lnTo>
                  <a:lnTo>
                    <a:pt x="1092" y="205"/>
                  </a:lnTo>
                  <a:lnTo>
                    <a:pt x="1091" y="202"/>
                  </a:lnTo>
                  <a:lnTo>
                    <a:pt x="1090" y="200"/>
                  </a:lnTo>
                  <a:lnTo>
                    <a:pt x="1088" y="197"/>
                  </a:lnTo>
                  <a:lnTo>
                    <a:pt x="1086" y="195"/>
                  </a:lnTo>
                  <a:lnTo>
                    <a:pt x="1082" y="194"/>
                  </a:lnTo>
                  <a:lnTo>
                    <a:pt x="1080" y="192"/>
                  </a:lnTo>
                  <a:lnTo>
                    <a:pt x="1077" y="189"/>
                  </a:lnTo>
                  <a:lnTo>
                    <a:pt x="1075" y="187"/>
                  </a:lnTo>
                  <a:lnTo>
                    <a:pt x="1073" y="185"/>
                  </a:lnTo>
                  <a:lnTo>
                    <a:pt x="1070" y="183"/>
                  </a:lnTo>
                  <a:lnTo>
                    <a:pt x="1068" y="181"/>
                  </a:lnTo>
                  <a:lnTo>
                    <a:pt x="1067" y="178"/>
                  </a:lnTo>
                  <a:lnTo>
                    <a:pt x="1067" y="175"/>
                  </a:lnTo>
                  <a:lnTo>
                    <a:pt x="1066" y="172"/>
                  </a:lnTo>
                  <a:lnTo>
                    <a:pt x="1065" y="169"/>
                  </a:lnTo>
                  <a:lnTo>
                    <a:pt x="1064" y="166"/>
                  </a:lnTo>
                  <a:lnTo>
                    <a:pt x="1063" y="162"/>
                  </a:lnTo>
                  <a:lnTo>
                    <a:pt x="1061" y="160"/>
                  </a:lnTo>
                  <a:lnTo>
                    <a:pt x="1060" y="159"/>
                  </a:lnTo>
                  <a:lnTo>
                    <a:pt x="1059" y="159"/>
                  </a:lnTo>
                  <a:lnTo>
                    <a:pt x="1057" y="159"/>
                  </a:lnTo>
                  <a:lnTo>
                    <a:pt x="1056" y="159"/>
                  </a:lnTo>
                  <a:lnTo>
                    <a:pt x="1055" y="159"/>
                  </a:lnTo>
                  <a:lnTo>
                    <a:pt x="1054" y="160"/>
                  </a:lnTo>
                  <a:lnTo>
                    <a:pt x="1053" y="161"/>
                  </a:lnTo>
                  <a:lnTo>
                    <a:pt x="1053" y="164"/>
                  </a:lnTo>
                  <a:lnTo>
                    <a:pt x="1052" y="160"/>
                  </a:lnTo>
                  <a:lnTo>
                    <a:pt x="1051" y="158"/>
                  </a:lnTo>
                  <a:lnTo>
                    <a:pt x="1050" y="156"/>
                  </a:lnTo>
                  <a:lnTo>
                    <a:pt x="1049" y="155"/>
                  </a:lnTo>
                  <a:lnTo>
                    <a:pt x="1047" y="153"/>
                  </a:lnTo>
                  <a:lnTo>
                    <a:pt x="1044" y="152"/>
                  </a:lnTo>
                  <a:lnTo>
                    <a:pt x="1042" y="149"/>
                  </a:lnTo>
                  <a:lnTo>
                    <a:pt x="1040" y="148"/>
                  </a:lnTo>
                  <a:lnTo>
                    <a:pt x="1039" y="147"/>
                  </a:lnTo>
                  <a:lnTo>
                    <a:pt x="1038" y="147"/>
                  </a:lnTo>
                  <a:lnTo>
                    <a:pt x="1038" y="148"/>
                  </a:lnTo>
                  <a:lnTo>
                    <a:pt x="1037" y="148"/>
                  </a:lnTo>
                  <a:lnTo>
                    <a:pt x="1036" y="149"/>
                  </a:lnTo>
                  <a:lnTo>
                    <a:pt x="1035" y="149"/>
                  </a:lnTo>
                  <a:lnTo>
                    <a:pt x="1034" y="151"/>
                  </a:lnTo>
                  <a:lnTo>
                    <a:pt x="1033" y="151"/>
                  </a:lnTo>
                  <a:lnTo>
                    <a:pt x="1033" y="149"/>
                  </a:lnTo>
                  <a:lnTo>
                    <a:pt x="1033" y="148"/>
                  </a:lnTo>
                  <a:lnTo>
                    <a:pt x="1033" y="147"/>
                  </a:lnTo>
                  <a:lnTo>
                    <a:pt x="1033" y="146"/>
                  </a:lnTo>
                  <a:lnTo>
                    <a:pt x="1033" y="144"/>
                  </a:lnTo>
                  <a:lnTo>
                    <a:pt x="1033" y="143"/>
                  </a:lnTo>
                  <a:lnTo>
                    <a:pt x="1033" y="142"/>
                  </a:lnTo>
                  <a:lnTo>
                    <a:pt x="1033" y="141"/>
                  </a:lnTo>
                  <a:lnTo>
                    <a:pt x="1029" y="137"/>
                  </a:lnTo>
                  <a:lnTo>
                    <a:pt x="1026" y="132"/>
                  </a:lnTo>
                  <a:lnTo>
                    <a:pt x="1023" y="128"/>
                  </a:lnTo>
                  <a:lnTo>
                    <a:pt x="1019" y="124"/>
                  </a:lnTo>
                  <a:lnTo>
                    <a:pt x="1015" y="120"/>
                  </a:lnTo>
                  <a:lnTo>
                    <a:pt x="1011" y="118"/>
                  </a:lnTo>
                  <a:lnTo>
                    <a:pt x="1006" y="118"/>
                  </a:lnTo>
                  <a:lnTo>
                    <a:pt x="1001" y="118"/>
                  </a:lnTo>
                  <a:lnTo>
                    <a:pt x="1000" y="118"/>
                  </a:lnTo>
                  <a:lnTo>
                    <a:pt x="999" y="119"/>
                  </a:lnTo>
                  <a:lnTo>
                    <a:pt x="998" y="119"/>
                  </a:lnTo>
                  <a:lnTo>
                    <a:pt x="997" y="120"/>
                  </a:lnTo>
                  <a:lnTo>
                    <a:pt x="997" y="120"/>
                  </a:lnTo>
                  <a:lnTo>
                    <a:pt x="996" y="121"/>
                  </a:lnTo>
                  <a:lnTo>
                    <a:pt x="996" y="122"/>
                  </a:lnTo>
                  <a:lnTo>
                    <a:pt x="996" y="124"/>
                  </a:lnTo>
                  <a:lnTo>
                    <a:pt x="997" y="119"/>
                  </a:lnTo>
                  <a:lnTo>
                    <a:pt x="997" y="115"/>
                  </a:lnTo>
                  <a:lnTo>
                    <a:pt x="995" y="112"/>
                  </a:lnTo>
                  <a:lnTo>
                    <a:pt x="993" y="108"/>
                  </a:lnTo>
                  <a:lnTo>
                    <a:pt x="989" y="105"/>
                  </a:lnTo>
                  <a:lnTo>
                    <a:pt x="986" y="103"/>
                  </a:lnTo>
                  <a:lnTo>
                    <a:pt x="982" y="101"/>
                  </a:lnTo>
                  <a:lnTo>
                    <a:pt x="979" y="99"/>
                  </a:lnTo>
                  <a:lnTo>
                    <a:pt x="976" y="98"/>
                  </a:lnTo>
                  <a:lnTo>
                    <a:pt x="974" y="95"/>
                  </a:lnTo>
                  <a:lnTo>
                    <a:pt x="971" y="92"/>
                  </a:lnTo>
                  <a:lnTo>
                    <a:pt x="968" y="90"/>
                  </a:lnTo>
                  <a:lnTo>
                    <a:pt x="965" y="88"/>
                  </a:lnTo>
                  <a:lnTo>
                    <a:pt x="961" y="87"/>
                  </a:lnTo>
                  <a:lnTo>
                    <a:pt x="958" y="87"/>
                  </a:lnTo>
                  <a:lnTo>
                    <a:pt x="954" y="89"/>
                  </a:lnTo>
                  <a:lnTo>
                    <a:pt x="955" y="86"/>
                  </a:lnTo>
                  <a:lnTo>
                    <a:pt x="955" y="81"/>
                  </a:lnTo>
                  <a:lnTo>
                    <a:pt x="954" y="79"/>
                  </a:lnTo>
                  <a:lnTo>
                    <a:pt x="952" y="76"/>
                  </a:lnTo>
                  <a:lnTo>
                    <a:pt x="949" y="74"/>
                  </a:lnTo>
                  <a:lnTo>
                    <a:pt x="946" y="72"/>
                  </a:lnTo>
                  <a:lnTo>
                    <a:pt x="943" y="71"/>
                  </a:lnTo>
                  <a:lnTo>
                    <a:pt x="939" y="70"/>
                  </a:lnTo>
                  <a:lnTo>
                    <a:pt x="938" y="68"/>
                  </a:lnTo>
                  <a:lnTo>
                    <a:pt x="935" y="68"/>
                  </a:lnTo>
                  <a:lnTo>
                    <a:pt x="933" y="68"/>
                  </a:lnTo>
                  <a:lnTo>
                    <a:pt x="932" y="70"/>
                  </a:lnTo>
                  <a:lnTo>
                    <a:pt x="930" y="71"/>
                  </a:lnTo>
                  <a:lnTo>
                    <a:pt x="929" y="72"/>
                  </a:lnTo>
                  <a:lnTo>
                    <a:pt x="928" y="74"/>
                  </a:lnTo>
                  <a:lnTo>
                    <a:pt x="927" y="76"/>
                  </a:lnTo>
                  <a:lnTo>
                    <a:pt x="927" y="75"/>
                  </a:lnTo>
                  <a:lnTo>
                    <a:pt x="927" y="74"/>
                  </a:lnTo>
                  <a:lnTo>
                    <a:pt x="926" y="73"/>
                  </a:lnTo>
                  <a:lnTo>
                    <a:pt x="925" y="72"/>
                  </a:lnTo>
                  <a:lnTo>
                    <a:pt x="925" y="71"/>
                  </a:lnTo>
                  <a:lnTo>
                    <a:pt x="923" y="68"/>
                  </a:lnTo>
                  <a:lnTo>
                    <a:pt x="922" y="67"/>
                  </a:lnTo>
                  <a:lnTo>
                    <a:pt x="921" y="66"/>
                  </a:lnTo>
                  <a:lnTo>
                    <a:pt x="918" y="65"/>
                  </a:lnTo>
                  <a:lnTo>
                    <a:pt x="915" y="64"/>
                  </a:lnTo>
                  <a:lnTo>
                    <a:pt x="911" y="63"/>
                  </a:lnTo>
                  <a:lnTo>
                    <a:pt x="907" y="62"/>
                  </a:lnTo>
                  <a:lnTo>
                    <a:pt x="904" y="61"/>
                  </a:lnTo>
                  <a:lnTo>
                    <a:pt x="901" y="60"/>
                  </a:lnTo>
                  <a:lnTo>
                    <a:pt x="898" y="59"/>
                  </a:lnTo>
                  <a:lnTo>
                    <a:pt x="894" y="57"/>
                  </a:lnTo>
                  <a:lnTo>
                    <a:pt x="892" y="57"/>
                  </a:lnTo>
                  <a:lnTo>
                    <a:pt x="889" y="56"/>
                  </a:lnTo>
                  <a:lnTo>
                    <a:pt x="886" y="57"/>
                  </a:lnTo>
                  <a:lnTo>
                    <a:pt x="882" y="57"/>
                  </a:lnTo>
                  <a:lnTo>
                    <a:pt x="879" y="57"/>
                  </a:lnTo>
                  <a:lnTo>
                    <a:pt x="876" y="57"/>
                  </a:lnTo>
                  <a:lnTo>
                    <a:pt x="874" y="56"/>
                  </a:lnTo>
                  <a:lnTo>
                    <a:pt x="873" y="54"/>
                  </a:lnTo>
                  <a:lnTo>
                    <a:pt x="868" y="51"/>
                  </a:lnTo>
                  <a:lnTo>
                    <a:pt x="864" y="47"/>
                  </a:lnTo>
                  <a:lnTo>
                    <a:pt x="860" y="45"/>
                  </a:lnTo>
                  <a:lnTo>
                    <a:pt x="855" y="41"/>
                  </a:lnTo>
                  <a:lnTo>
                    <a:pt x="851" y="39"/>
                  </a:lnTo>
                  <a:lnTo>
                    <a:pt x="847" y="38"/>
                  </a:lnTo>
                  <a:lnTo>
                    <a:pt x="842" y="37"/>
                  </a:lnTo>
                  <a:lnTo>
                    <a:pt x="838" y="37"/>
                  </a:lnTo>
                  <a:lnTo>
                    <a:pt x="838" y="39"/>
                  </a:lnTo>
                  <a:lnTo>
                    <a:pt x="837" y="41"/>
                  </a:lnTo>
                  <a:lnTo>
                    <a:pt x="836" y="43"/>
                  </a:lnTo>
                  <a:lnTo>
                    <a:pt x="834" y="44"/>
                  </a:lnTo>
                  <a:lnTo>
                    <a:pt x="832" y="44"/>
                  </a:lnTo>
                  <a:lnTo>
                    <a:pt x="831" y="46"/>
                  </a:lnTo>
                  <a:lnTo>
                    <a:pt x="830" y="47"/>
                  </a:lnTo>
                  <a:lnTo>
                    <a:pt x="831" y="49"/>
                  </a:lnTo>
                  <a:lnTo>
                    <a:pt x="827" y="43"/>
                  </a:lnTo>
                  <a:lnTo>
                    <a:pt x="824" y="37"/>
                  </a:lnTo>
                  <a:lnTo>
                    <a:pt x="819" y="32"/>
                  </a:lnTo>
                  <a:lnTo>
                    <a:pt x="813" y="29"/>
                  </a:lnTo>
                  <a:lnTo>
                    <a:pt x="807" y="25"/>
                  </a:lnTo>
                  <a:lnTo>
                    <a:pt x="800" y="24"/>
                  </a:lnTo>
                  <a:lnTo>
                    <a:pt x="794" y="24"/>
                  </a:lnTo>
                  <a:lnTo>
                    <a:pt x="788" y="27"/>
                  </a:lnTo>
                  <a:lnTo>
                    <a:pt x="788" y="25"/>
                  </a:lnTo>
                  <a:lnTo>
                    <a:pt x="788" y="23"/>
                  </a:lnTo>
                  <a:lnTo>
                    <a:pt x="788" y="21"/>
                  </a:lnTo>
                  <a:lnTo>
                    <a:pt x="788" y="19"/>
                  </a:lnTo>
                  <a:lnTo>
                    <a:pt x="788" y="17"/>
                  </a:lnTo>
                  <a:lnTo>
                    <a:pt x="788" y="14"/>
                  </a:lnTo>
                  <a:lnTo>
                    <a:pt x="787" y="13"/>
                  </a:lnTo>
                  <a:lnTo>
                    <a:pt x="785" y="12"/>
                  </a:lnTo>
                  <a:lnTo>
                    <a:pt x="782" y="10"/>
                  </a:lnTo>
                  <a:lnTo>
                    <a:pt x="778" y="9"/>
                  </a:lnTo>
                  <a:lnTo>
                    <a:pt x="774" y="9"/>
                  </a:lnTo>
                  <a:lnTo>
                    <a:pt x="770" y="9"/>
                  </a:lnTo>
                  <a:lnTo>
                    <a:pt x="767" y="9"/>
                  </a:lnTo>
                  <a:lnTo>
                    <a:pt x="764" y="10"/>
                  </a:lnTo>
                  <a:lnTo>
                    <a:pt x="760" y="12"/>
                  </a:lnTo>
                  <a:lnTo>
                    <a:pt x="758" y="14"/>
                  </a:lnTo>
                  <a:lnTo>
                    <a:pt x="756" y="11"/>
                  </a:lnTo>
                  <a:lnTo>
                    <a:pt x="753" y="8"/>
                  </a:lnTo>
                  <a:lnTo>
                    <a:pt x="750" y="6"/>
                  </a:lnTo>
                  <a:lnTo>
                    <a:pt x="745" y="4"/>
                  </a:lnTo>
                  <a:lnTo>
                    <a:pt x="742" y="4"/>
                  </a:lnTo>
                  <a:lnTo>
                    <a:pt x="738" y="3"/>
                  </a:lnTo>
                  <a:lnTo>
                    <a:pt x="733" y="4"/>
                  </a:lnTo>
                  <a:lnTo>
                    <a:pt x="729" y="5"/>
                  </a:lnTo>
                  <a:lnTo>
                    <a:pt x="728" y="5"/>
                  </a:lnTo>
                  <a:lnTo>
                    <a:pt x="727" y="6"/>
                  </a:lnTo>
                  <a:lnTo>
                    <a:pt x="726" y="7"/>
                  </a:lnTo>
                  <a:lnTo>
                    <a:pt x="726" y="8"/>
                  </a:lnTo>
                  <a:lnTo>
                    <a:pt x="725" y="9"/>
                  </a:lnTo>
                  <a:lnTo>
                    <a:pt x="725" y="11"/>
                  </a:lnTo>
                  <a:lnTo>
                    <a:pt x="724" y="13"/>
                  </a:lnTo>
                  <a:lnTo>
                    <a:pt x="724" y="14"/>
                  </a:lnTo>
                  <a:lnTo>
                    <a:pt x="723" y="12"/>
                  </a:lnTo>
                  <a:lnTo>
                    <a:pt x="721" y="10"/>
                  </a:lnTo>
                  <a:lnTo>
                    <a:pt x="720" y="8"/>
                  </a:lnTo>
                  <a:lnTo>
                    <a:pt x="718" y="7"/>
                  </a:lnTo>
                  <a:lnTo>
                    <a:pt x="716" y="7"/>
                  </a:lnTo>
                  <a:lnTo>
                    <a:pt x="713" y="6"/>
                  </a:lnTo>
                  <a:lnTo>
                    <a:pt x="710" y="7"/>
                  </a:lnTo>
                  <a:lnTo>
                    <a:pt x="706" y="7"/>
                  </a:lnTo>
                  <a:lnTo>
                    <a:pt x="705" y="8"/>
                  </a:lnTo>
                  <a:lnTo>
                    <a:pt x="703" y="9"/>
                  </a:lnTo>
                  <a:lnTo>
                    <a:pt x="702" y="11"/>
                  </a:lnTo>
                  <a:lnTo>
                    <a:pt x="701" y="12"/>
                  </a:lnTo>
                  <a:lnTo>
                    <a:pt x="700" y="14"/>
                  </a:lnTo>
                  <a:lnTo>
                    <a:pt x="699" y="16"/>
                  </a:lnTo>
                  <a:lnTo>
                    <a:pt x="698" y="18"/>
                  </a:lnTo>
                  <a:lnTo>
                    <a:pt x="697" y="20"/>
                  </a:lnTo>
                  <a:lnTo>
                    <a:pt x="696" y="17"/>
                  </a:lnTo>
                  <a:lnTo>
                    <a:pt x="694" y="14"/>
                  </a:lnTo>
                  <a:lnTo>
                    <a:pt x="693" y="11"/>
                  </a:lnTo>
                  <a:lnTo>
                    <a:pt x="691" y="9"/>
                  </a:lnTo>
                  <a:lnTo>
                    <a:pt x="689" y="7"/>
                  </a:lnTo>
                  <a:lnTo>
                    <a:pt x="687" y="5"/>
                  </a:lnTo>
                  <a:lnTo>
                    <a:pt x="685" y="4"/>
                  </a:lnTo>
                  <a:lnTo>
                    <a:pt x="682" y="3"/>
                  </a:lnTo>
                  <a:lnTo>
                    <a:pt x="678" y="2"/>
                  </a:lnTo>
                  <a:lnTo>
                    <a:pt x="676" y="0"/>
                  </a:lnTo>
                  <a:lnTo>
                    <a:pt x="673" y="2"/>
                  </a:lnTo>
                  <a:lnTo>
                    <a:pt x="672" y="3"/>
                  </a:lnTo>
                  <a:lnTo>
                    <a:pt x="670" y="5"/>
                  </a:lnTo>
                  <a:lnTo>
                    <a:pt x="667" y="7"/>
                  </a:lnTo>
                  <a:lnTo>
                    <a:pt x="666" y="9"/>
                  </a:lnTo>
                  <a:lnTo>
                    <a:pt x="664" y="12"/>
                  </a:lnTo>
                  <a:lnTo>
                    <a:pt x="660" y="7"/>
                  </a:lnTo>
                  <a:lnTo>
                    <a:pt x="656" y="4"/>
                  </a:lnTo>
                  <a:lnTo>
                    <a:pt x="649" y="2"/>
                  </a:lnTo>
                  <a:lnTo>
                    <a:pt x="643" y="2"/>
                  </a:lnTo>
                  <a:lnTo>
                    <a:pt x="636" y="4"/>
                  </a:lnTo>
                  <a:lnTo>
                    <a:pt x="630" y="6"/>
                  </a:lnTo>
                  <a:lnTo>
                    <a:pt x="623" y="9"/>
                  </a:lnTo>
                  <a:lnTo>
                    <a:pt x="618" y="12"/>
                  </a:lnTo>
                  <a:lnTo>
                    <a:pt x="615" y="13"/>
                  </a:lnTo>
                  <a:lnTo>
                    <a:pt x="611" y="13"/>
                  </a:lnTo>
                  <a:lnTo>
                    <a:pt x="608" y="13"/>
                  </a:lnTo>
                  <a:lnTo>
                    <a:pt x="605" y="12"/>
                  </a:lnTo>
                  <a:lnTo>
                    <a:pt x="600" y="11"/>
                  </a:lnTo>
                  <a:lnTo>
                    <a:pt x="597" y="10"/>
                  </a:lnTo>
                  <a:lnTo>
                    <a:pt x="593" y="8"/>
                  </a:lnTo>
                  <a:lnTo>
                    <a:pt x="588" y="7"/>
                  </a:lnTo>
                  <a:lnTo>
                    <a:pt x="589" y="8"/>
                  </a:lnTo>
                  <a:lnTo>
                    <a:pt x="589" y="9"/>
                  </a:lnTo>
                  <a:lnTo>
                    <a:pt x="588" y="10"/>
                  </a:lnTo>
                  <a:lnTo>
                    <a:pt x="586" y="11"/>
                  </a:lnTo>
                  <a:lnTo>
                    <a:pt x="585" y="12"/>
                  </a:lnTo>
                  <a:lnTo>
                    <a:pt x="585" y="13"/>
                  </a:lnTo>
                  <a:lnTo>
                    <a:pt x="585" y="13"/>
                  </a:lnTo>
                  <a:lnTo>
                    <a:pt x="585" y="14"/>
                  </a:lnTo>
                  <a:lnTo>
                    <a:pt x="582" y="16"/>
                  </a:lnTo>
                  <a:lnTo>
                    <a:pt x="580" y="16"/>
                  </a:lnTo>
                  <a:lnTo>
                    <a:pt x="577" y="14"/>
                  </a:lnTo>
                  <a:lnTo>
                    <a:pt x="575" y="14"/>
                  </a:lnTo>
                  <a:lnTo>
                    <a:pt x="571" y="13"/>
                  </a:lnTo>
                  <a:lnTo>
                    <a:pt x="569" y="12"/>
                  </a:lnTo>
                  <a:lnTo>
                    <a:pt x="566" y="11"/>
                  </a:lnTo>
                  <a:lnTo>
                    <a:pt x="563" y="10"/>
                  </a:lnTo>
                  <a:lnTo>
                    <a:pt x="562" y="10"/>
                  </a:lnTo>
                  <a:lnTo>
                    <a:pt x="559" y="9"/>
                  </a:lnTo>
                  <a:lnTo>
                    <a:pt x="557" y="9"/>
                  </a:lnTo>
                  <a:lnTo>
                    <a:pt x="556" y="9"/>
                  </a:lnTo>
                  <a:lnTo>
                    <a:pt x="554" y="9"/>
                  </a:lnTo>
                  <a:lnTo>
                    <a:pt x="552" y="10"/>
                  </a:lnTo>
                  <a:lnTo>
                    <a:pt x="550" y="11"/>
                  </a:lnTo>
                  <a:lnTo>
                    <a:pt x="549" y="12"/>
                  </a:lnTo>
                  <a:lnTo>
                    <a:pt x="549" y="13"/>
                  </a:lnTo>
                  <a:lnTo>
                    <a:pt x="549" y="13"/>
                  </a:lnTo>
                  <a:lnTo>
                    <a:pt x="549" y="14"/>
                  </a:lnTo>
                  <a:lnTo>
                    <a:pt x="549" y="14"/>
                  </a:lnTo>
                  <a:lnTo>
                    <a:pt x="549" y="16"/>
                  </a:lnTo>
                  <a:lnTo>
                    <a:pt x="549" y="16"/>
                  </a:lnTo>
                  <a:lnTo>
                    <a:pt x="549" y="17"/>
                  </a:lnTo>
                  <a:lnTo>
                    <a:pt x="549" y="17"/>
                  </a:lnTo>
                  <a:lnTo>
                    <a:pt x="543" y="12"/>
                  </a:lnTo>
                  <a:lnTo>
                    <a:pt x="538" y="9"/>
                  </a:lnTo>
                  <a:lnTo>
                    <a:pt x="531" y="6"/>
                  </a:lnTo>
                  <a:lnTo>
                    <a:pt x="526" y="4"/>
                  </a:lnTo>
                  <a:lnTo>
                    <a:pt x="518" y="3"/>
                  </a:lnTo>
                  <a:lnTo>
                    <a:pt x="512" y="3"/>
                  </a:lnTo>
                  <a:lnTo>
                    <a:pt x="505" y="5"/>
                  </a:lnTo>
                  <a:lnTo>
                    <a:pt x="499" y="7"/>
                  </a:lnTo>
                  <a:lnTo>
                    <a:pt x="498" y="9"/>
                  </a:lnTo>
                  <a:lnTo>
                    <a:pt x="497" y="11"/>
                  </a:lnTo>
                  <a:lnTo>
                    <a:pt x="496" y="13"/>
                  </a:lnTo>
                  <a:lnTo>
                    <a:pt x="496" y="17"/>
                  </a:lnTo>
                  <a:lnTo>
                    <a:pt x="496" y="19"/>
                  </a:lnTo>
                  <a:lnTo>
                    <a:pt x="496" y="22"/>
                  </a:lnTo>
                  <a:lnTo>
                    <a:pt x="497" y="24"/>
                  </a:lnTo>
                  <a:lnTo>
                    <a:pt x="497" y="27"/>
                  </a:lnTo>
                  <a:lnTo>
                    <a:pt x="495" y="25"/>
                  </a:lnTo>
                  <a:lnTo>
                    <a:pt x="495" y="24"/>
                  </a:lnTo>
                  <a:lnTo>
                    <a:pt x="494" y="25"/>
                  </a:lnTo>
                  <a:lnTo>
                    <a:pt x="494" y="26"/>
                  </a:lnTo>
                  <a:lnTo>
                    <a:pt x="494" y="27"/>
                  </a:lnTo>
                  <a:lnTo>
                    <a:pt x="492" y="29"/>
                  </a:lnTo>
                  <a:lnTo>
                    <a:pt x="491" y="29"/>
                  </a:lnTo>
                  <a:lnTo>
                    <a:pt x="489" y="27"/>
                  </a:lnTo>
                  <a:lnTo>
                    <a:pt x="486" y="25"/>
                  </a:lnTo>
                  <a:lnTo>
                    <a:pt x="483" y="25"/>
                  </a:lnTo>
                  <a:lnTo>
                    <a:pt x="480" y="25"/>
                  </a:lnTo>
                  <a:lnTo>
                    <a:pt x="475" y="25"/>
                  </a:lnTo>
                  <a:lnTo>
                    <a:pt x="472" y="27"/>
                  </a:lnTo>
                  <a:lnTo>
                    <a:pt x="469" y="30"/>
                  </a:lnTo>
                  <a:lnTo>
                    <a:pt x="464" y="33"/>
                  </a:lnTo>
                  <a:lnTo>
                    <a:pt x="462" y="37"/>
                  </a:lnTo>
                  <a:lnTo>
                    <a:pt x="460" y="35"/>
                  </a:lnTo>
                  <a:lnTo>
                    <a:pt x="459" y="34"/>
                  </a:lnTo>
                  <a:lnTo>
                    <a:pt x="457" y="33"/>
                  </a:lnTo>
                  <a:lnTo>
                    <a:pt x="455" y="33"/>
                  </a:lnTo>
                  <a:lnTo>
                    <a:pt x="452" y="33"/>
                  </a:lnTo>
                  <a:lnTo>
                    <a:pt x="450" y="34"/>
                  </a:lnTo>
                  <a:lnTo>
                    <a:pt x="448" y="34"/>
                  </a:lnTo>
                  <a:lnTo>
                    <a:pt x="447" y="35"/>
                  </a:lnTo>
                  <a:lnTo>
                    <a:pt x="445" y="35"/>
                  </a:lnTo>
                  <a:lnTo>
                    <a:pt x="443" y="35"/>
                  </a:lnTo>
                  <a:lnTo>
                    <a:pt x="441" y="35"/>
                  </a:lnTo>
                  <a:lnTo>
                    <a:pt x="438" y="36"/>
                  </a:lnTo>
                  <a:lnTo>
                    <a:pt x="437" y="36"/>
                  </a:lnTo>
                  <a:lnTo>
                    <a:pt x="436" y="38"/>
                  </a:lnTo>
                  <a:lnTo>
                    <a:pt x="435" y="40"/>
                  </a:lnTo>
                  <a:lnTo>
                    <a:pt x="434" y="45"/>
                  </a:lnTo>
                  <a:lnTo>
                    <a:pt x="431" y="44"/>
                  </a:lnTo>
                  <a:lnTo>
                    <a:pt x="428" y="43"/>
                  </a:lnTo>
                  <a:lnTo>
                    <a:pt x="424" y="40"/>
                  </a:lnTo>
                  <a:lnTo>
                    <a:pt x="421" y="39"/>
                  </a:lnTo>
                  <a:lnTo>
                    <a:pt x="418" y="38"/>
                  </a:lnTo>
                  <a:lnTo>
                    <a:pt x="415" y="37"/>
                  </a:lnTo>
                  <a:lnTo>
                    <a:pt x="411" y="37"/>
                  </a:lnTo>
                  <a:lnTo>
                    <a:pt x="407" y="39"/>
                  </a:lnTo>
                  <a:lnTo>
                    <a:pt x="404" y="43"/>
                  </a:lnTo>
                  <a:lnTo>
                    <a:pt x="401" y="45"/>
                  </a:lnTo>
                  <a:lnTo>
                    <a:pt x="397" y="47"/>
                  </a:lnTo>
                  <a:lnTo>
                    <a:pt x="393" y="49"/>
                  </a:lnTo>
                  <a:lnTo>
                    <a:pt x="390" y="51"/>
                  </a:lnTo>
                  <a:lnTo>
                    <a:pt x="387" y="52"/>
                  </a:lnTo>
                  <a:lnTo>
                    <a:pt x="382" y="52"/>
                  </a:lnTo>
                  <a:lnTo>
                    <a:pt x="378" y="52"/>
                  </a:lnTo>
                  <a:lnTo>
                    <a:pt x="378" y="53"/>
                  </a:lnTo>
                  <a:lnTo>
                    <a:pt x="377" y="56"/>
                  </a:lnTo>
                  <a:lnTo>
                    <a:pt x="377" y="58"/>
                  </a:lnTo>
                  <a:lnTo>
                    <a:pt x="376" y="59"/>
                  </a:lnTo>
                  <a:lnTo>
                    <a:pt x="376" y="61"/>
                  </a:lnTo>
                  <a:lnTo>
                    <a:pt x="375" y="62"/>
                  </a:lnTo>
                  <a:lnTo>
                    <a:pt x="374" y="63"/>
                  </a:lnTo>
                  <a:lnTo>
                    <a:pt x="373" y="64"/>
                  </a:lnTo>
                  <a:lnTo>
                    <a:pt x="371" y="63"/>
                  </a:lnTo>
                  <a:lnTo>
                    <a:pt x="370" y="62"/>
                  </a:lnTo>
                  <a:lnTo>
                    <a:pt x="370" y="62"/>
                  </a:lnTo>
                  <a:lnTo>
                    <a:pt x="369" y="61"/>
                  </a:lnTo>
                  <a:lnTo>
                    <a:pt x="367" y="60"/>
                  </a:lnTo>
                  <a:lnTo>
                    <a:pt x="366" y="60"/>
                  </a:lnTo>
                  <a:lnTo>
                    <a:pt x="365" y="60"/>
                  </a:lnTo>
                  <a:lnTo>
                    <a:pt x="363" y="59"/>
                  </a:lnTo>
                  <a:lnTo>
                    <a:pt x="360" y="61"/>
                  </a:lnTo>
                  <a:lnTo>
                    <a:pt x="356" y="62"/>
                  </a:lnTo>
                  <a:lnTo>
                    <a:pt x="354" y="64"/>
                  </a:lnTo>
                  <a:lnTo>
                    <a:pt x="353" y="67"/>
                  </a:lnTo>
                  <a:lnTo>
                    <a:pt x="351" y="71"/>
                  </a:lnTo>
                  <a:lnTo>
                    <a:pt x="350" y="73"/>
                  </a:lnTo>
                  <a:lnTo>
                    <a:pt x="349" y="76"/>
                  </a:lnTo>
                  <a:lnTo>
                    <a:pt x="348" y="79"/>
                  </a:lnTo>
                  <a:lnTo>
                    <a:pt x="343" y="75"/>
                  </a:lnTo>
                  <a:lnTo>
                    <a:pt x="338" y="74"/>
                  </a:lnTo>
                  <a:lnTo>
                    <a:pt x="333" y="75"/>
                  </a:lnTo>
                  <a:lnTo>
                    <a:pt x="327" y="76"/>
                  </a:lnTo>
                  <a:lnTo>
                    <a:pt x="323" y="80"/>
                  </a:lnTo>
                  <a:lnTo>
                    <a:pt x="320" y="85"/>
                  </a:lnTo>
                  <a:lnTo>
                    <a:pt x="316" y="90"/>
                  </a:lnTo>
                  <a:lnTo>
                    <a:pt x="316" y="97"/>
                  </a:lnTo>
                  <a:lnTo>
                    <a:pt x="312" y="95"/>
                  </a:lnTo>
                  <a:lnTo>
                    <a:pt x="309" y="95"/>
                  </a:lnTo>
                  <a:lnTo>
                    <a:pt x="306" y="95"/>
                  </a:lnTo>
                  <a:lnTo>
                    <a:pt x="303" y="98"/>
                  </a:lnTo>
                  <a:lnTo>
                    <a:pt x="301" y="100"/>
                  </a:lnTo>
                  <a:lnTo>
                    <a:pt x="299" y="102"/>
                  </a:lnTo>
                  <a:lnTo>
                    <a:pt x="297" y="104"/>
                  </a:lnTo>
                  <a:lnTo>
                    <a:pt x="296" y="106"/>
                  </a:lnTo>
                  <a:lnTo>
                    <a:pt x="295" y="107"/>
                  </a:lnTo>
                  <a:lnTo>
                    <a:pt x="294" y="107"/>
                  </a:lnTo>
                  <a:lnTo>
                    <a:pt x="293" y="107"/>
                  </a:lnTo>
                  <a:lnTo>
                    <a:pt x="292" y="107"/>
                  </a:lnTo>
                  <a:lnTo>
                    <a:pt x="289" y="107"/>
                  </a:lnTo>
                  <a:lnTo>
                    <a:pt x="288" y="106"/>
                  </a:lnTo>
                  <a:lnTo>
                    <a:pt x="287" y="106"/>
                  </a:lnTo>
                  <a:lnTo>
                    <a:pt x="286" y="106"/>
                  </a:lnTo>
                  <a:lnTo>
                    <a:pt x="283" y="108"/>
                  </a:lnTo>
                  <a:lnTo>
                    <a:pt x="280" y="112"/>
                  </a:lnTo>
                  <a:lnTo>
                    <a:pt x="276" y="114"/>
                  </a:lnTo>
                  <a:lnTo>
                    <a:pt x="273" y="115"/>
                  </a:lnTo>
                  <a:lnTo>
                    <a:pt x="271" y="117"/>
                  </a:lnTo>
                  <a:lnTo>
                    <a:pt x="267" y="118"/>
                  </a:lnTo>
                  <a:lnTo>
                    <a:pt x="263" y="120"/>
                  </a:lnTo>
                  <a:lnTo>
                    <a:pt x="259" y="121"/>
                  </a:lnTo>
                  <a:lnTo>
                    <a:pt x="256" y="122"/>
                  </a:lnTo>
                  <a:lnTo>
                    <a:pt x="253" y="125"/>
                  </a:lnTo>
                  <a:lnTo>
                    <a:pt x="249" y="127"/>
                  </a:lnTo>
                  <a:lnTo>
                    <a:pt x="247" y="130"/>
                  </a:lnTo>
                  <a:lnTo>
                    <a:pt x="245" y="133"/>
                  </a:lnTo>
                  <a:lnTo>
                    <a:pt x="244" y="137"/>
                  </a:lnTo>
                  <a:lnTo>
                    <a:pt x="244" y="141"/>
                  </a:lnTo>
                  <a:lnTo>
                    <a:pt x="244" y="146"/>
                  </a:lnTo>
                  <a:lnTo>
                    <a:pt x="244" y="148"/>
                  </a:lnTo>
                  <a:lnTo>
                    <a:pt x="243" y="152"/>
                  </a:lnTo>
                  <a:lnTo>
                    <a:pt x="242" y="154"/>
                  </a:lnTo>
                  <a:lnTo>
                    <a:pt x="240" y="155"/>
                  </a:lnTo>
                  <a:lnTo>
                    <a:pt x="233" y="158"/>
                  </a:lnTo>
                  <a:lnTo>
                    <a:pt x="227" y="161"/>
                  </a:lnTo>
                  <a:lnTo>
                    <a:pt x="220" y="164"/>
                  </a:lnTo>
                  <a:lnTo>
                    <a:pt x="215" y="167"/>
                  </a:lnTo>
                  <a:lnTo>
                    <a:pt x="212" y="169"/>
                  </a:lnTo>
                  <a:lnTo>
                    <a:pt x="211" y="171"/>
                  </a:lnTo>
                  <a:lnTo>
                    <a:pt x="209" y="174"/>
                  </a:lnTo>
                  <a:lnTo>
                    <a:pt x="209" y="178"/>
                  </a:lnTo>
                  <a:lnTo>
                    <a:pt x="205" y="178"/>
                  </a:lnTo>
                  <a:lnTo>
                    <a:pt x="202" y="179"/>
                  </a:lnTo>
                  <a:lnTo>
                    <a:pt x="201" y="181"/>
                  </a:lnTo>
                  <a:lnTo>
                    <a:pt x="200" y="185"/>
                  </a:lnTo>
                  <a:lnTo>
                    <a:pt x="199" y="188"/>
                  </a:lnTo>
                  <a:lnTo>
                    <a:pt x="199" y="193"/>
                  </a:lnTo>
                  <a:lnTo>
                    <a:pt x="196" y="198"/>
                  </a:lnTo>
                  <a:lnTo>
                    <a:pt x="194" y="202"/>
                  </a:lnTo>
                  <a:lnTo>
                    <a:pt x="192" y="206"/>
                  </a:lnTo>
                  <a:lnTo>
                    <a:pt x="189" y="208"/>
                  </a:lnTo>
                  <a:lnTo>
                    <a:pt x="186" y="210"/>
                  </a:lnTo>
                  <a:lnTo>
                    <a:pt x="181" y="212"/>
                  </a:lnTo>
                  <a:lnTo>
                    <a:pt x="176" y="215"/>
                  </a:lnTo>
                  <a:lnTo>
                    <a:pt x="173" y="219"/>
                  </a:lnTo>
                  <a:lnTo>
                    <a:pt x="168" y="222"/>
                  </a:lnTo>
                  <a:lnTo>
                    <a:pt x="165" y="227"/>
                  </a:lnTo>
                  <a:lnTo>
                    <a:pt x="165" y="227"/>
                  </a:lnTo>
                  <a:lnTo>
                    <a:pt x="166" y="228"/>
                  </a:lnTo>
                  <a:lnTo>
                    <a:pt x="166" y="229"/>
                  </a:lnTo>
                  <a:lnTo>
                    <a:pt x="167" y="230"/>
                  </a:lnTo>
                  <a:lnTo>
                    <a:pt x="168" y="232"/>
                  </a:lnTo>
                  <a:lnTo>
                    <a:pt x="168" y="233"/>
                  </a:lnTo>
                  <a:lnTo>
                    <a:pt x="168" y="234"/>
                  </a:lnTo>
                  <a:lnTo>
                    <a:pt x="167" y="235"/>
                  </a:lnTo>
                  <a:lnTo>
                    <a:pt x="166" y="236"/>
                  </a:lnTo>
                  <a:lnTo>
                    <a:pt x="165" y="238"/>
                  </a:lnTo>
                  <a:lnTo>
                    <a:pt x="164" y="238"/>
                  </a:lnTo>
                  <a:lnTo>
                    <a:pt x="163" y="239"/>
                  </a:lnTo>
                  <a:lnTo>
                    <a:pt x="161" y="240"/>
                  </a:lnTo>
                  <a:lnTo>
                    <a:pt x="160" y="240"/>
                  </a:lnTo>
                  <a:lnTo>
                    <a:pt x="159" y="241"/>
                  </a:lnTo>
                  <a:lnTo>
                    <a:pt x="158" y="242"/>
                  </a:lnTo>
                  <a:lnTo>
                    <a:pt x="159" y="243"/>
                  </a:lnTo>
                  <a:lnTo>
                    <a:pt x="159" y="245"/>
                  </a:lnTo>
                  <a:lnTo>
                    <a:pt x="158" y="247"/>
                  </a:lnTo>
                  <a:lnTo>
                    <a:pt x="158" y="248"/>
                  </a:lnTo>
                  <a:lnTo>
                    <a:pt x="157" y="250"/>
                  </a:lnTo>
                  <a:lnTo>
                    <a:pt x="157" y="251"/>
                  </a:lnTo>
                  <a:lnTo>
                    <a:pt x="158" y="252"/>
                  </a:lnTo>
                  <a:lnTo>
                    <a:pt x="160" y="252"/>
                  </a:lnTo>
                  <a:lnTo>
                    <a:pt x="154" y="253"/>
                  </a:lnTo>
                  <a:lnTo>
                    <a:pt x="148" y="255"/>
                  </a:lnTo>
                  <a:lnTo>
                    <a:pt x="144" y="259"/>
                  </a:lnTo>
                  <a:lnTo>
                    <a:pt x="139" y="263"/>
                  </a:lnTo>
                  <a:lnTo>
                    <a:pt x="137" y="267"/>
                  </a:lnTo>
                  <a:lnTo>
                    <a:pt x="136" y="273"/>
                  </a:lnTo>
                  <a:lnTo>
                    <a:pt x="137" y="278"/>
                  </a:lnTo>
                  <a:lnTo>
                    <a:pt x="140" y="284"/>
                  </a:lnTo>
                  <a:lnTo>
                    <a:pt x="135" y="284"/>
                  </a:lnTo>
                  <a:lnTo>
                    <a:pt x="131" y="286"/>
                  </a:lnTo>
                  <a:lnTo>
                    <a:pt x="126" y="288"/>
                  </a:lnTo>
                  <a:lnTo>
                    <a:pt x="123" y="291"/>
                  </a:lnTo>
                  <a:lnTo>
                    <a:pt x="120" y="295"/>
                  </a:lnTo>
                  <a:lnTo>
                    <a:pt x="120" y="301"/>
                  </a:lnTo>
                  <a:lnTo>
                    <a:pt x="121" y="306"/>
                  </a:lnTo>
                  <a:lnTo>
                    <a:pt x="123" y="311"/>
                  </a:lnTo>
                  <a:lnTo>
                    <a:pt x="118" y="310"/>
                  </a:lnTo>
                  <a:lnTo>
                    <a:pt x="112" y="310"/>
                  </a:lnTo>
                  <a:lnTo>
                    <a:pt x="107" y="313"/>
                  </a:lnTo>
                  <a:lnTo>
                    <a:pt x="102" y="315"/>
                  </a:lnTo>
                  <a:lnTo>
                    <a:pt x="99" y="319"/>
                  </a:lnTo>
                  <a:lnTo>
                    <a:pt x="97" y="323"/>
                  </a:lnTo>
                  <a:lnTo>
                    <a:pt x="96" y="328"/>
                  </a:lnTo>
                  <a:lnTo>
                    <a:pt x="96" y="333"/>
                  </a:lnTo>
                  <a:lnTo>
                    <a:pt x="95" y="333"/>
                  </a:lnTo>
                  <a:lnTo>
                    <a:pt x="94" y="333"/>
                  </a:lnTo>
                  <a:lnTo>
                    <a:pt x="93" y="334"/>
                  </a:lnTo>
                  <a:lnTo>
                    <a:pt x="93" y="334"/>
                  </a:lnTo>
                  <a:lnTo>
                    <a:pt x="92" y="334"/>
                  </a:lnTo>
                  <a:lnTo>
                    <a:pt x="92" y="334"/>
                  </a:lnTo>
                  <a:lnTo>
                    <a:pt x="91" y="335"/>
                  </a:lnTo>
                  <a:lnTo>
                    <a:pt x="91" y="336"/>
                  </a:lnTo>
                  <a:lnTo>
                    <a:pt x="90" y="338"/>
                  </a:lnTo>
                  <a:lnTo>
                    <a:pt x="88" y="342"/>
                  </a:lnTo>
                  <a:lnTo>
                    <a:pt x="87" y="345"/>
                  </a:lnTo>
                  <a:lnTo>
                    <a:pt x="87" y="347"/>
                  </a:lnTo>
                  <a:lnTo>
                    <a:pt x="87" y="350"/>
                  </a:lnTo>
                  <a:lnTo>
                    <a:pt x="88" y="354"/>
                  </a:lnTo>
                  <a:lnTo>
                    <a:pt x="90" y="357"/>
                  </a:lnTo>
                  <a:lnTo>
                    <a:pt x="91" y="361"/>
                  </a:lnTo>
                  <a:lnTo>
                    <a:pt x="86" y="360"/>
                  </a:lnTo>
                  <a:lnTo>
                    <a:pt x="83" y="361"/>
                  </a:lnTo>
                  <a:lnTo>
                    <a:pt x="81" y="363"/>
                  </a:lnTo>
                  <a:lnTo>
                    <a:pt x="78" y="365"/>
                  </a:lnTo>
                  <a:lnTo>
                    <a:pt x="75" y="369"/>
                  </a:lnTo>
                  <a:lnTo>
                    <a:pt x="73" y="372"/>
                  </a:lnTo>
                  <a:lnTo>
                    <a:pt x="71" y="375"/>
                  </a:lnTo>
                  <a:lnTo>
                    <a:pt x="69" y="378"/>
                  </a:lnTo>
                  <a:lnTo>
                    <a:pt x="68" y="380"/>
                  </a:lnTo>
                  <a:lnTo>
                    <a:pt x="67" y="381"/>
                  </a:lnTo>
                  <a:lnTo>
                    <a:pt x="68" y="382"/>
                  </a:lnTo>
                  <a:lnTo>
                    <a:pt x="68" y="383"/>
                  </a:lnTo>
                  <a:lnTo>
                    <a:pt x="70" y="385"/>
                  </a:lnTo>
                  <a:lnTo>
                    <a:pt x="71" y="386"/>
                  </a:lnTo>
                  <a:lnTo>
                    <a:pt x="72" y="387"/>
                  </a:lnTo>
                  <a:lnTo>
                    <a:pt x="73" y="388"/>
                  </a:lnTo>
                  <a:lnTo>
                    <a:pt x="73" y="389"/>
                  </a:lnTo>
                  <a:lnTo>
                    <a:pt x="71" y="390"/>
                  </a:lnTo>
                  <a:lnTo>
                    <a:pt x="68" y="391"/>
                  </a:lnTo>
                  <a:lnTo>
                    <a:pt x="64" y="394"/>
                  </a:lnTo>
                  <a:lnTo>
                    <a:pt x="59" y="396"/>
                  </a:lnTo>
                  <a:lnTo>
                    <a:pt x="56" y="400"/>
                  </a:lnTo>
                  <a:lnTo>
                    <a:pt x="54" y="404"/>
                  </a:lnTo>
                  <a:lnTo>
                    <a:pt x="54" y="410"/>
                  </a:lnTo>
                  <a:lnTo>
                    <a:pt x="54" y="411"/>
                  </a:lnTo>
                  <a:lnTo>
                    <a:pt x="55" y="411"/>
                  </a:lnTo>
                  <a:lnTo>
                    <a:pt x="55" y="412"/>
                  </a:lnTo>
                  <a:lnTo>
                    <a:pt x="56" y="413"/>
                  </a:lnTo>
                  <a:lnTo>
                    <a:pt x="57" y="414"/>
                  </a:lnTo>
                  <a:lnTo>
                    <a:pt x="57" y="414"/>
                  </a:lnTo>
                  <a:lnTo>
                    <a:pt x="57" y="415"/>
                  </a:lnTo>
                  <a:lnTo>
                    <a:pt x="56" y="415"/>
                  </a:lnTo>
                  <a:lnTo>
                    <a:pt x="53" y="416"/>
                  </a:lnTo>
                  <a:lnTo>
                    <a:pt x="50" y="417"/>
                  </a:lnTo>
                  <a:lnTo>
                    <a:pt x="46" y="418"/>
                  </a:lnTo>
                  <a:lnTo>
                    <a:pt x="44" y="421"/>
                  </a:lnTo>
                  <a:lnTo>
                    <a:pt x="42" y="426"/>
                  </a:lnTo>
                  <a:lnTo>
                    <a:pt x="41" y="431"/>
                  </a:lnTo>
                  <a:lnTo>
                    <a:pt x="40" y="438"/>
                  </a:lnTo>
                  <a:lnTo>
                    <a:pt x="41" y="444"/>
                  </a:lnTo>
                  <a:lnTo>
                    <a:pt x="41" y="451"/>
                  </a:lnTo>
                  <a:lnTo>
                    <a:pt x="42" y="457"/>
                  </a:lnTo>
                  <a:lnTo>
                    <a:pt x="41" y="458"/>
                  </a:lnTo>
                  <a:lnTo>
                    <a:pt x="40" y="459"/>
                  </a:lnTo>
                  <a:lnTo>
                    <a:pt x="38" y="461"/>
                  </a:lnTo>
                  <a:lnTo>
                    <a:pt x="36" y="461"/>
                  </a:lnTo>
                  <a:lnTo>
                    <a:pt x="33" y="462"/>
                  </a:lnTo>
                  <a:lnTo>
                    <a:pt x="31" y="462"/>
                  </a:lnTo>
                  <a:lnTo>
                    <a:pt x="29" y="463"/>
                  </a:lnTo>
                  <a:lnTo>
                    <a:pt x="27" y="465"/>
                  </a:lnTo>
                  <a:lnTo>
                    <a:pt x="25" y="468"/>
                  </a:lnTo>
                  <a:lnTo>
                    <a:pt x="23" y="471"/>
                  </a:lnTo>
                  <a:lnTo>
                    <a:pt x="23" y="476"/>
                  </a:lnTo>
                  <a:lnTo>
                    <a:pt x="23" y="480"/>
                  </a:lnTo>
                  <a:lnTo>
                    <a:pt x="25" y="484"/>
                  </a:lnTo>
                  <a:lnTo>
                    <a:pt x="27" y="489"/>
                  </a:lnTo>
                  <a:lnTo>
                    <a:pt x="30" y="492"/>
                  </a:lnTo>
                  <a:lnTo>
                    <a:pt x="34" y="494"/>
                  </a:lnTo>
                  <a:lnTo>
                    <a:pt x="29" y="495"/>
                  </a:lnTo>
                  <a:lnTo>
                    <a:pt x="27" y="497"/>
                  </a:lnTo>
                  <a:lnTo>
                    <a:pt x="25" y="502"/>
                  </a:lnTo>
                  <a:lnTo>
                    <a:pt x="25" y="506"/>
                  </a:lnTo>
                  <a:lnTo>
                    <a:pt x="25" y="511"/>
                  </a:lnTo>
                  <a:lnTo>
                    <a:pt x="25" y="516"/>
                  </a:lnTo>
                  <a:lnTo>
                    <a:pt x="25" y="521"/>
                  </a:lnTo>
                  <a:lnTo>
                    <a:pt x="25" y="526"/>
                  </a:lnTo>
                  <a:lnTo>
                    <a:pt x="27" y="526"/>
                  </a:lnTo>
                  <a:lnTo>
                    <a:pt x="28" y="527"/>
                  </a:lnTo>
                  <a:lnTo>
                    <a:pt x="29" y="529"/>
                  </a:lnTo>
                  <a:lnTo>
                    <a:pt x="30" y="530"/>
                  </a:lnTo>
                  <a:lnTo>
                    <a:pt x="31" y="531"/>
                  </a:lnTo>
                  <a:lnTo>
                    <a:pt x="31" y="532"/>
                  </a:lnTo>
                  <a:lnTo>
                    <a:pt x="32" y="533"/>
                  </a:lnTo>
                  <a:lnTo>
                    <a:pt x="34" y="534"/>
                  </a:lnTo>
                  <a:lnTo>
                    <a:pt x="33" y="535"/>
                  </a:lnTo>
                  <a:lnTo>
                    <a:pt x="31" y="535"/>
                  </a:lnTo>
                  <a:lnTo>
                    <a:pt x="30" y="536"/>
                  </a:lnTo>
                  <a:lnTo>
                    <a:pt x="28" y="536"/>
                  </a:lnTo>
                  <a:lnTo>
                    <a:pt x="27" y="537"/>
                  </a:lnTo>
                  <a:lnTo>
                    <a:pt x="26" y="538"/>
                  </a:lnTo>
                  <a:lnTo>
                    <a:pt x="25" y="539"/>
                  </a:lnTo>
                  <a:lnTo>
                    <a:pt x="25" y="542"/>
                  </a:lnTo>
                  <a:lnTo>
                    <a:pt x="24" y="544"/>
                  </a:lnTo>
                  <a:lnTo>
                    <a:pt x="23" y="547"/>
                  </a:lnTo>
                  <a:lnTo>
                    <a:pt x="23" y="550"/>
                  </a:lnTo>
                  <a:lnTo>
                    <a:pt x="23" y="553"/>
                  </a:lnTo>
                  <a:lnTo>
                    <a:pt x="24" y="557"/>
                  </a:lnTo>
                  <a:lnTo>
                    <a:pt x="25" y="560"/>
                  </a:lnTo>
                  <a:lnTo>
                    <a:pt x="27" y="563"/>
                  </a:lnTo>
                  <a:lnTo>
                    <a:pt x="29" y="566"/>
                  </a:lnTo>
                  <a:lnTo>
                    <a:pt x="27" y="566"/>
                  </a:lnTo>
                  <a:lnTo>
                    <a:pt x="26" y="566"/>
                  </a:lnTo>
                  <a:lnTo>
                    <a:pt x="24" y="566"/>
                  </a:lnTo>
                  <a:lnTo>
                    <a:pt x="21" y="567"/>
                  </a:lnTo>
                  <a:lnTo>
                    <a:pt x="20" y="569"/>
                  </a:lnTo>
                  <a:lnTo>
                    <a:pt x="18" y="569"/>
                  </a:lnTo>
                  <a:lnTo>
                    <a:pt x="16" y="570"/>
                  </a:lnTo>
                  <a:lnTo>
                    <a:pt x="14" y="571"/>
                  </a:lnTo>
                  <a:lnTo>
                    <a:pt x="12" y="574"/>
                  </a:lnTo>
                  <a:lnTo>
                    <a:pt x="11" y="576"/>
                  </a:lnTo>
                  <a:lnTo>
                    <a:pt x="11" y="579"/>
                  </a:lnTo>
                  <a:lnTo>
                    <a:pt x="11" y="581"/>
                  </a:lnTo>
                  <a:lnTo>
                    <a:pt x="11" y="585"/>
                  </a:lnTo>
                  <a:lnTo>
                    <a:pt x="11" y="588"/>
                  </a:lnTo>
                  <a:lnTo>
                    <a:pt x="12" y="590"/>
                  </a:lnTo>
                  <a:lnTo>
                    <a:pt x="12" y="593"/>
                  </a:lnTo>
                  <a:lnTo>
                    <a:pt x="13" y="597"/>
                  </a:lnTo>
                  <a:lnTo>
                    <a:pt x="15" y="600"/>
                  </a:lnTo>
                  <a:lnTo>
                    <a:pt x="18" y="602"/>
                  </a:lnTo>
                  <a:lnTo>
                    <a:pt x="23" y="605"/>
                  </a:lnTo>
                  <a:lnTo>
                    <a:pt x="25" y="607"/>
                  </a:lnTo>
                  <a:lnTo>
                    <a:pt x="28" y="610"/>
                  </a:lnTo>
                  <a:lnTo>
                    <a:pt x="28" y="611"/>
                  </a:lnTo>
                  <a:lnTo>
                    <a:pt x="27" y="613"/>
                  </a:lnTo>
                  <a:lnTo>
                    <a:pt x="24" y="616"/>
                  </a:lnTo>
                  <a:lnTo>
                    <a:pt x="19" y="618"/>
                  </a:lnTo>
                  <a:lnTo>
                    <a:pt x="15" y="621"/>
                  </a:lnTo>
                  <a:lnTo>
                    <a:pt x="12" y="624"/>
                  </a:lnTo>
                  <a:lnTo>
                    <a:pt x="7" y="627"/>
                  </a:lnTo>
                  <a:lnTo>
                    <a:pt x="4" y="630"/>
                  </a:lnTo>
                  <a:lnTo>
                    <a:pt x="1" y="632"/>
                  </a:lnTo>
                  <a:lnTo>
                    <a:pt x="0" y="635"/>
                  </a:lnTo>
                  <a:lnTo>
                    <a:pt x="0" y="640"/>
                  </a:lnTo>
                  <a:lnTo>
                    <a:pt x="2" y="643"/>
                  </a:lnTo>
                  <a:lnTo>
                    <a:pt x="5" y="646"/>
                  </a:lnTo>
                  <a:lnTo>
                    <a:pt x="9" y="648"/>
                  </a:lnTo>
                  <a:lnTo>
                    <a:pt x="11" y="651"/>
                  </a:lnTo>
                  <a:lnTo>
                    <a:pt x="13" y="654"/>
                  </a:lnTo>
                  <a:lnTo>
                    <a:pt x="13" y="655"/>
                  </a:lnTo>
                  <a:lnTo>
                    <a:pt x="13" y="656"/>
                  </a:lnTo>
                  <a:lnTo>
                    <a:pt x="12" y="658"/>
                  </a:lnTo>
                  <a:lnTo>
                    <a:pt x="10" y="660"/>
                  </a:lnTo>
                  <a:lnTo>
                    <a:pt x="10" y="662"/>
                  </a:lnTo>
                  <a:lnTo>
                    <a:pt x="11" y="666"/>
                  </a:lnTo>
                  <a:lnTo>
                    <a:pt x="14" y="670"/>
                  </a:lnTo>
                  <a:lnTo>
                    <a:pt x="18" y="674"/>
                  </a:lnTo>
                  <a:lnTo>
                    <a:pt x="23" y="678"/>
                  </a:lnTo>
                  <a:lnTo>
                    <a:pt x="27" y="682"/>
                  </a:lnTo>
                  <a:lnTo>
                    <a:pt x="31" y="684"/>
                  </a:lnTo>
                  <a:lnTo>
                    <a:pt x="34" y="684"/>
                  </a:lnTo>
                  <a:lnTo>
                    <a:pt x="31" y="686"/>
                  </a:lnTo>
                  <a:lnTo>
                    <a:pt x="27" y="688"/>
                  </a:lnTo>
                  <a:lnTo>
                    <a:pt x="24" y="689"/>
                  </a:lnTo>
                  <a:lnTo>
                    <a:pt x="19" y="692"/>
                  </a:lnTo>
                  <a:lnTo>
                    <a:pt x="16" y="694"/>
                  </a:lnTo>
                  <a:lnTo>
                    <a:pt x="14" y="697"/>
                  </a:lnTo>
                  <a:lnTo>
                    <a:pt x="14" y="700"/>
                  </a:lnTo>
                  <a:lnTo>
                    <a:pt x="14" y="705"/>
                  </a:lnTo>
                  <a:lnTo>
                    <a:pt x="15" y="707"/>
                  </a:lnTo>
                  <a:lnTo>
                    <a:pt x="16" y="709"/>
                  </a:lnTo>
                  <a:lnTo>
                    <a:pt x="18" y="711"/>
                  </a:lnTo>
                  <a:lnTo>
                    <a:pt x="20" y="713"/>
                  </a:lnTo>
                  <a:lnTo>
                    <a:pt x="23" y="715"/>
                  </a:lnTo>
                  <a:lnTo>
                    <a:pt x="25" y="716"/>
                  </a:lnTo>
                  <a:lnTo>
                    <a:pt x="26" y="719"/>
                  </a:lnTo>
                  <a:lnTo>
                    <a:pt x="27" y="722"/>
                  </a:lnTo>
                  <a:lnTo>
                    <a:pt x="27" y="724"/>
                  </a:lnTo>
                  <a:lnTo>
                    <a:pt x="26" y="726"/>
                  </a:lnTo>
                  <a:lnTo>
                    <a:pt x="24" y="728"/>
                  </a:lnTo>
                  <a:lnTo>
                    <a:pt x="21" y="731"/>
                  </a:lnTo>
                  <a:lnTo>
                    <a:pt x="19" y="733"/>
                  </a:lnTo>
                  <a:lnTo>
                    <a:pt x="17" y="735"/>
                  </a:lnTo>
                  <a:lnTo>
                    <a:pt x="16" y="738"/>
                  </a:lnTo>
                  <a:lnTo>
                    <a:pt x="17" y="741"/>
                  </a:lnTo>
                  <a:lnTo>
                    <a:pt x="17" y="743"/>
                  </a:lnTo>
                  <a:lnTo>
                    <a:pt x="17" y="746"/>
                  </a:lnTo>
                  <a:lnTo>
                    <a:pt x="18" y="748"/>
                  </a:lnTo>
                  <a:lnTo>
                    <a:pt x="20" y="751"/>
                  </a:lnTo>
                  <a:lnTo>
                    <a:pt x="21" y="753"/>
                  </a:lnTo>
                  <a:lnTo>
                    <a:pt x="24" y="754"/>
                  </a:lnTo>
                  <a:lnTo>
                    <a:pt x="27" y="755"/>
                  </a:lnTo>
                  <a:lnTo>
                    <a:pt x="29" y="756"/>
                  </a:lnTo>
                  <a:lnTo>
                    <a:pt x="25" y="758"/>
                  </a:lnTo>
                  <a:lnTo>
                    <a:pt x="19" y="759"/>
                  </a:lnTo>
                  <a:lnTo>
                    <a:pt x="15" y="760"/>
                  </a:lnTo>
                  <a:lnTo>
                    <a:pt x="11" y="761"/>
                  </a:lnTo>
                  <a:lnTo>
                    <a:pt x="7" y="761"/>
                  </a:lnTo>
                  <a:lnTo>
                    <a:pt x="4" y="762"/>
                  </a:lnTo>
                  <a:lnTo>
                    <a:pt x="3" y="764"/>
                  </a:lnTo>
                  <a:lnTo>
                    <a:pt x="2" y="766"/>
                  </a:lnTo>
                  <a:lnTo>
                    <a:pt x="2" y="768"/>
                  </a:lnTo>
                  <a:lnTo>
                    <a:pt x="2" y="770"/>
                  </a:lnTo>
                  <a:lnTo>
                    <a:pt x="1" y="773"/>
                  </a:lnTo>
                  <a:lnTo>
                    <a:pt x="1" y="775"/>
                  </a:lnTo>
                  <a:lnTo>
                    <a:pt x="0" y="777"/>
                  </a:lnTo>
                  <a:lnTo>
                    <a:pt x="0" y="778"/>
                  </a:lnTo>
                  <a:lnTo>
                    <a:pt x="2" y="779"/>
                  </a:lnTo>
                  <a:lnTo>
                    <a:pt x="4" y="778"/>
                  </a:lnTo>
                  <a:lnTo>
                    <a:pt x="3" y="782"/>
                  </a:lnTo>
                  <a:lnTo>
                    <a:pt x="2" y="786"/>
                  </a:lnTo>
                  <a:lnTo>
                    <a:pt x="1" y="790"/>
                  </a:lnTo>
                  <a:lnTo>
                    <a:pt x="1" y="793"/>
                  </a:lnTo>
                  <a:lnTo>
                    <a:pt x="0" y="797"/>
                  </a:lnTo>
                  <a:lnTo>
                    <a:pt x="1" y="801"/>
                  </a:lnTo>
                  <a:lnTo>
                    <a:pt x="1" y="804"/>
                  </a:lnTo>
                  <a:lnTo>
                    <a:pt x="2" y="808"/>
                  </a:lnTo>
                  <a:lnTo>
                    <a:pt x="2" y="809"/>
                  </a:lnTo>
                  <a:lnTo>
                    <a:pt x="3" y="810"/>
                  </a:lnTo>
                  <a:lnTo>
                    <a:pt x="4" y="810"/>
                  </a:lnTo>
                  <a:lnTo>
                    <a:pt x="5" y="812"/>
                  </a:lnTo>
                  <a:lnTo>
                    <a:pt x="6" y="813"/>
                  </a:lnTo>
                  <a:lnTo>
                    <a:pt x="9" y="814"/>
                  </a:lnTo>
                  <a:lnTo>
                    <a:pt x="10" y="815"/>
                  </a:lnTo>
                  <a:lnTo>
                    <a:pt x="12" y="816"/>
                  </a:lnTo>
                  <a:lnTo>
                    <a:pt x="11" y="816"/>
                  </a:lnTo>
                  <a:lnTo>
                    <a:pt x="10" y="816"/>
                  </a:lnTo>
                  <a:lnTo>
                    <a:pt x="9" y="816"/>
                  </a:lnTo>
                  <a:lnTo>
                    <a:pt x="7" y="816"/>
                  </a:lnTo>
                  <a:lnTo>
                    <a:pt x="5" y="816"/>
                  </a:lnTo>
                  <a:lnTo>
                    <a:pt x="4" y="816"/>
                  </a:lnTo>
                  <a:lnTo>
                    <a:pt x="3" y="816"/>
                  </a:lnTo>
                  <a:lnTo>
                    <a:pt x="2" y="816"/>
                  </a:lnTo>
                  <a:lnTo>
                    <a:pt x="2" y="817"/>
                  </a:lnTo>
                  <a:lnTo>
                    <a:pt x="3" y="819"/>
                  </a:lnTo>
                  <a:lnTo>
                    <a:pt x="4" y="820"/>
                  </a:lnTo>
                  <a:lnTo>
                    <a:pt x="5" y="822"/>
                  </a:lnTo>
                  <a:lnTo>
                    <a:pt x="6" y="823"/>
                  </a:lnTo>
                  <a:lnTo>
                    <a:pt x="7" y="826"/>
                  </a:lnTo>
                  <a:lnTo>
                    <a:pt x="7" y="828"/>
                  </a:lnTo>
                  <a:lnTo>
                    <a:pt x="7" y="830"/>
                  </a:lnTo>
                  <a:lnTo>
                    <a:pt x="12" y="832"/>
                  </a:lnTo>
                  <a:lnTo>
                    <a:pt x="18" y="836"/>
                  </a:lnTo>
                  <a:lnTo>
                    <a:pt x="26" y="841"/>
                  </a:lnTo>
                  <a:lnTo>
                    <a:pt x="33" y="846"/>
                  </a:lnTo>
                  <a:lnTo>
                    <a:pt x="40" y="851"/>
                  </a:lnTo>
                  <a:lnTo>
                    <a:pt x="45" y="857"/>
                  </a:lnTo>
                  <a:lnTo>
                    <a:pt x="50" y="860"/>
                  </a:lnTo>
                  <a:lnTo>
                    <a:pt x="52" y="862"/>
                  </a:lnTo>
                  <a:lnTo>
                    <a:pt x="55" y="866"/>
                  </a:lnTo>
                  <a:lnTo>
                    <a:pt x="59" y="869"/>
                  </a:lnTo>
                  <a:lnTo>
                    <a:pt x="64" y="871"/>
                  </a:lnTo>
                  <a:lnTo>
                    <a:pt x="68" y="872"/>
                  </a:lnTo>
                  <a:lnTo>
                    <a:pt x="72" y="874"/>
                  </a:lnTo>
                  <a:lnTo>
                    <a:pt x="77" y="876"/>
                  </a:lnTo>
                  <a:lnTo>
                    <a:pt x="81" y="880"/>
                  </a:lnTo>
                  <a:lnTo>
                    <a:pt x="83" y="883"/>
                  </a:lnTo>
                  <a:lnTo>
                    <a:pt x="84" y="884"/>
                  </a:lnTo>
                  <a:lnTo>
                    <a:pt x="84" y="886"/>
                  </a:lnTo>
                  <a:lnTo>
                    <a:pt x="85" y="888"/>
                  </a:lnTo>
                  <a:lnTo>
                    <a:pt x="85" y="891"/>
                  </a:lnTo>
                  <a:lnTo>
                    <a:pt x="85" y="894"/>
                  </a:lnTo>
                  <a:lnTo>
                    <a:pt x="85" y="896"/>
                  </a:lnTo>
                  <a:lnTo>
                    <a:pt x="85" y="898"/>
                  </a:lnTo>
                  <a:lnTo>
                    <a:pt x="86" y="900"/>
                  </a:lnTo>
                  <a:lnTo>
                    <a:pt x="86" y="900"/>
                  </a:lnTo>
                  <a:lnTo>
                    <a:pt x="86" y="900"/>
                  </a:lnTo>
                  <a:lnTo>
                    <a:pt x="87" y="900"/>
                  </a:lnTo>
                  <a:lnTo>
                    <a:pt x="87" y="900"/>
                  </a:lnTo>
                  <a:lnTo>
                    <a:pt x="88" y="900"/>
                  </a:lnTo>
                  <a:lnTo>
                    <a:pt x="90" y="900"/>
                  </a:lnTo>
                  <a:lnTo>
                    <a:pt x="90" y="900"/>
                  </a:lnTo>
                  <a:lnTo>
                    <a:pt x="91" y="900"/>
                  </a:lnTo>
                  <a:lnTo>
                    <a:pt x="91" y="902"/>
                  </a:lnTo>
                  <a:lnTo>
                    <a:pt x="91" y="905"/>
                  </a:lnTo>
                  <a:lnTo>
                    <a:pt x="91" y="908"/>
                  </a:lnTo>
                  <a:lnTo>
                    <a:pt x="91" y="911"/>
                  </a:lnTo>
                  <a:lnTo>
                    <a:pt x="91" y="913"/>
                  </a:lnTo>
                  <a:lnTo>
                    <a:pt x="91" y="916"/>
                  </a:lnTo>
                  <a:lnTo>
                    <a:pt x="92" y="920"/>
                  </a:lnTo>
                  <a:lnTo>
                    <a:pt x="94" y="922"/>
                  </a:lnTo>
                  <a:lnTo>
                    <a:pt x="93" y="922"/>
                  </a:lnTo>
                  <a:lnTo>
                    <a:pt x="92" y="923"/>
                  </a:lnTo>
                  <a:lnTo>
                    <a:pt x="91" y="923"/>
                  </a:lnTo>
                  <a:lnTo>
                    <a:pt x="90" y="923"/>
                  </a:lnTo>
                  <a:lnTo>
                    <a:pt x="90" y="924"/>
                  </a:lnTo>
                  <a:lnTo>
                    <a:pt x="88" y="924"/>
                  </a:lnTo>
                  <a:lnTo>
                    <a:pt x="88" y="924"/>
                  </a:lnTo>
                  <a:lnTo>
                    <a:pt x="88" y="924"/>
                  </a:lnTo>
                  <a:lnTo>
                    <a:pt x="88" y="927"/>
                  </a:lnTo>
                  <a:lnTo>
                    <a:pt x="91" y="928"/>
                  </a:lnTo>
                  <a:lnTo>
                    <a:pt x="92" y="930"/>
                  </a:lnTo>
                  <a:lnTo>
                    <a:pt x="94" y="931"/>
                  </a:lnTo>
                  <a:lnTo>
                    <a:pt x="96" y="932"/>
                  </a:lnTo>
                  <a:lnTo>
                    <a:pt x="99" y="932"/>
                  </a:lnTo>
                  <a:lnTo>
                    <a:pt x="101" y="934"/>
                  </a:lnTo>
                  <a:lnTo>
                    <a:pt x="104" y="935"/>
                  </a:lnTo>
                  <a:lnTo>
                    <a:pt x="105" y="935"/>
                  </a:lnTo>
                  <a:lnTo>
                    <a:pt x="105" y="935"/>
                  </a:lnTo>
                  <a:lnTo>
                    <a:pt x="106" y="936"/>
                  </a:lnTo>
                  <a:lnTo>
                    <a:pt x="106" y="937"/>
                  </a:lnTo>
                  <a:lnTo>
                    <a:pt x="107" y="938"/>
                  </a:lnTo>
                  <a:lnTo>
                    <a:pt x="108" y="939"/>
                  </a:lnTo>
                  <a:lnTo>
                    <a:pt x="109" y="941"/>
                  </a:lnTo>
                  <a:lnTo>
                    <a:pt x="111" y="941"/>
                  </a:lnTo>
                  <a:lnTo>
                    <a:pt x="112" y="943"/>
                  </a:lnTo>
                  <a:lnTo>
                    <a:pt x="114" y="948"/>
                  </a:lnTo>
                  <a:lnTo>
                    <a:pt x="117" y="952"/>
                  </a:lnTo>
                  <a:lnTo>
                    <a:pt x="118" y="957"/>
                  </a:lnTo>
                  <a:lnTo>
                    <a:pt x="120" y="963"/>
                  </a:lnTo>
                  <a:lnTo>
                    <a:pt x="121" y="967"/>
                  </a:lnTo>
                  <a:lnTo>
                    <a:pt x="122" y="970"/>
                  </a:lnTo>
                  <a:lnTo>
                    <a:pt x="123" y="971"/>
                  </a:lnTo>
                  <a:close/>
                </a:path>
              </a:pathLst>
            </a:custGeom>
            <a:solidFill>
              <a:srgbClr val="5240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5564160" y="1843200"/>
              <a:ext cx="401760" cy="311040"/>
            </a:xfrm>
            <a:custGeom>
              <a:avLst/>
              <a:gdLst/>
              <a:ahLst/>
              <a:rect l="l" t="t" r="r" b="b"/>
              <a:pathLst>
                <a:path w="1266" h="983">
                  <a:moveTo>
                    <a:pt x="123" y="971"/>
                  </a:moveTo>
                  <a:lnTo>
                    <a:pt x="124" y="971"/>
                  </a:lnTo>
                  <a:lnTo>
                    <a:pt x="125" y="972"/>
                  </a:lnTo>
                  <a:lnTo>
                    <a:pt x="126" y="975"/>
                  </a:lnTo>
                  <a:lnTo>
                    <a:pt x="127" y="977"/>
                  </a:lnTo>
                  <a:lnTo>
                    <a:pt x="128" y="979"/>
                  </a:lnTo>
                  <a:lnTo>
                    <a:pt x="129" y="981"/>
                  </a:lnTo>
                  <a:lnTo>
                    <a:pt x="132" y="983"/>
                  </a:lnTo>
                  <a:lnTo>
                    <a:pt x="133" y="983"/>
                  </a:lnTo>
                  <a:lnTo>
                    <a:pt x="136" y="983"/>
                  </a:lnTo>
                  <a:lnTo>
                    <a:pt x="139" y="981"/>
                  </a:lnTo>
                  <a:lnTo>
                    <a:pt x="142" y="978"/>
                  </a:lnTo>
                  <a:lnTo>
                    <a:pt x="147" y="975"/>
                  </a:lnTo>
                  <a:lnTo>
                    <a:pt x="150" y="971"/>
                  </a:lnTo>
                  <a:lnTo>
                    <a:pt x="154" y="968"/>
                  </a:lnTo>
                  <a:lnTo>
                    <a:pt x="158" y="966"/>
                  </a:lnTo>
                  <a:lnTo>
                    <a:pt x="160" y="964"/>
                  </a:lnTo>
                  <a:lnTo>
                    <a:pt x="158" y="961"/>
                  </a:lnTo>
                  <a:lnTo>
                    <a:pt x="157" y="958"/>
                  </a:lnTo>
                  <a:lnTo>
                    <a:pt x="157" y="956"/>
                  </a:lnTo>
                  <a:lnTo>
                    <a:pt x="157" y="954"/>
                  </a:lnTo>
                  <a:lnTo>
                    <a:pt x="160" y="952"/>
                  </a:lnTo>
                  <a:lnTo>
                    <a:pt x="164" y="950"/>
                  </a:lnTo>
                  <a:lnTo>
                    <a:pt x="169" y="948"/>
                  </a:lnTo>
                  <a:lnTo>
                    <a:pt x="175" y="945"/>
                  </a:lnTo>
                  <a:lnTo>
                    <a:pt x="179" y="943"/>
                  </a:lnTo>
                  <a:lnTo>
                    <a:pt x="182" y="939"/>
                  </a:lnTo>
                  <a:lnTo>
                    <a:pt x="182" y="937"/>
                  </a:lnTo>
                  <a:lnTo>
                    <a:pt x="182" y="932"/>
                  </a:lnTo>
                  <a:lnTo>
                    <a:pt x="184" y="928"/>
                  </a:lnTo>
                  <a:lnTo>
                    <a:pt x="184" y="924"/>
                  </a:lnTo>
                  <a:lnTo>
                    <a:pt x="185" y="918"/>
                  </a:lnTo>
                  <a:lnTo>
                    <a:pt x="185" y="914"/>
                  </a:lnTo>
                  <a:lnTo>
                    <a:pt x="185" y="911"/>
                  </a:lnTo>
                  <a:lnTo>
                    <a:pt x="185" y="910"/>
                  </a:lnTo>
                  <a:lnTo>
                    <a:pt x="186" y="904"/>
                  </a:lnTo>
                  <a:lnTo>
                    <a:pt x="187" y="900"/>
                  </a:lnTo>
                  <a:lnTo>
                    <a:pt x="188" y="895"/>
                  </a:lnTo>
                  <a:lnTo>
                    <a:pt x="189" y="889"/>
                  </a:lnTo>
                  <a:lnTo>
                    <a:pt x="190" y="884"/>
                  </a:lnTo>
                  <a:lnTo>
                    <a:pt x="190" y="878"/>
                  </a:lnTo>
                  <a:lnTo>
                    <a:pt x="190" y="873"/>
                  </a:lnTo>
                  <a:lnTo>
                    <a:pt x="190" y="868"/>
                  </a:lnTo>
                  <a:lnTo>
                    <a:pt x="190" y="868"/>
                  </a:lnTo>
                  <a:lnTo>
                    <a:pt x="189" y="867"/>
                  </a:lnTo>
                  <a:lnTo>
                    <a:pt x="188" y="867"/>
                  </a:lnTo>
                  <a:lnTo>
                    <a:pt x="187" y="867"/>
                  </a:lnTo>
                  <a:lnTo>
                    <a:pt x="186" y="866"/>
                  </a:lnTo>
                  <a:lnTo>
                    <a:pt x="185" y="866"/>
                  </a:lnTo>
                  <a:lnTo>
                    <a:pt x="184" y="866"/>
                  </a:lnTo>
                  <a:lnTo>
                    <a:pt x="182" y="866"/>
                  </a:lnTo>
                  <a:lnTo>
                    <a:pt x="185" y="860"/>
                  </a:lnTo>
                  <a:lnTo>
                    <a:pt x="186" y="855"/>
                  </a:lnTo>
                  <a:lnTo>
                    <a:pt x="187" y="849"/>
                  </a:lnTo>
                  <a:lnTo>
                    <a:pt x="187" y="843"/>
                  </a:lnTo>
                  <a:lnTo>
                    <a:pt x="187" y="837"/>
                  </a:lnTo>
                  <a:lnTo>
                    <a:pt x="187" y="831"/>
                  </a:lnTo>
                  <a:lnTo>
                    <a:pt x="187" y="824"/>
                  </a:lnTo>
                  <a:lnTo>
                    <a:pt x="188" y="818"/>
                  </a:lnTo>
                  <a:lnTo>
                    <a:pt x="189" y="817"/>
                  </a:lnTo>
                  <a:lnTo>
                    <a:pt x="190" y="817"/>
                  </a:lnTo>
                  <a:lnTo>
                    <a:pt x="191" y="816"/>
                  </a:lnTo>
                  <a:lnTo>
                    <a:pt x="192" y="816"/>
                  </a:lnTo>
                  <a:lnTo>
                    <a:pt x="193" y="815"/>
                  </a:lnTo>
                  <a:lnTo>
                    <a:pt x="194" y="815"/>
                  </a:lnTo>
                  <a:lnTo>
                    <a:pt x="194" y="814"/>
                  </a:lnTo>
                  <a:lnTo>
                    <a:pt x="194" y="813"/>
                  </a:lnTo>
                  <a:lnTo>
                    <a:pt x="196" y="810"/>
                  </a:lnTo>
                  <a:lnTo>
                    <a:pt x="196" y="808"/>
                  </a:lnTo>
                  <a:lnTo>
                    <a:pt x="196" y="806"/>
                  </a:lnTo>
                  <a:lnTo>
                    <a:pt x="195" y="804"/>
                  </a:lnTo>
                  <a:lnTo>
                    <a:pt x="194" y="802"/>
                  </a:lnTo>
                  <a:lnTo>
                    <a:pt x="192" y="801"/>
                  </a:lnTo>
                  <a:lnTo>
                    <a:pt x="190" y="800"/>
                  </a:lnTo>
                  <a:lnTo>
                    <a:pt x="188" y="799"/>
                  </a:lnTo>
                  <a:lnTo>
                    <a:pt x="190" y="794"/>
                  </a:lnTo>
                  <a:lnTo>
                    <a:pt x="191" y="790"/>
                  </a:lnTo>
                  <a:lnTo>
                    <a:pt x="191" y="786"/>
                  </a:lnTo>
                  <a:lnTo>
                    <a:pt x="190" y="782"/>
                  </a:lnTo>
                  <a:lnTo>
                    <a:pt x="188" y="779"/>
                  </a:lnTo>
                  <a:lnTo>
                    <a:pt x="186" y="776"/>
                  </a:lnTo>
                  <a:lnTo>
                    <a:pt x="181" y="774"/>
                  </a:lnTo>
                  <a:lnTo>
                    <a:pt x="177" y="774"/>
                  </a:lnTo>
                  <a:lnTo>
                    <a:pt x="179" y="774"/>
                  </a:lnTo>
                  <a:lnTo>
                    <a:pt x="179" y="774"/>
                  </a:lnTo>
                  <a:lnTo>
                    <a:pt x="180" y="773"/>
                  </a:lnTo>
                  <a:lnTo>
                    <a:pt x="180" y="772"/>
                  </a:lnTo>
                  <a:lnTo>
                    <a:pt x="180" y="770"/>
                  </a:lnTo>
                  <a:lnTo>
                    <a:pt x="180" y="769"/>
                  </a:lnTo>
                  <a:lnTo>
                    <a:pt x="181" y="769"/>
                  </a:lnTo>
                  <a:lnTo>
                    <a:pt x="182" y="768"/>
                  </a:lnTo>
                  <a:lnTo>
                    <a:pt x="181" y="765"/>
                  </a:lnTo>
                  <a:lnTo>
                    <a:pt x="180" y="762"/>
                  </a:lnTo>
                  <a:lnTo>
                    <a:pt x="179" y="759"/>
                  </a:lnTo>
                  <a:lnTo>
                    <a:pt x="178" y="756"/>
                  </a:lnTo>
                  <a:lnTo>
                    <a:pt x="178" y="753"/>
                  </a:lnTo>
                  <a:lnTo>
                    <a:pt x="178" y="751"/>
                  </a:lnTo>
                  <a:lnTo>
                    <a:pt x="178" y="748"/>
                  </a:lnTo>
                  <a:lnTo>
                    <a:pt x="180" y="743"/>
                  </a:lnTo>
                  <a:lnTo>
                    <a:pt x="181" y="741"/>
                  </a:lnTo>
                  <a:lnTo>
                    <a:pt x="185" y="739"/>
                  </a:lnTo>
                  <a:lnTo>
                    <a:pt x="188" y="737"/>
                  </a:lnTo>
                  <a:lnTo>
                    <a:pt x="191" y="734"/>
                  </a:lnTo>
                  <a:lnTo>
                    <a:pt x="193" y="731"/>
                  </a:lnTo>
                  <a:lnTo>
                    <a:pt x="195" y="727"/>
                  </a:lnTo>
                  <a:lnTo>
                    <a:pt x="194" y="724"/>
                  </a:lnTo>
                  <a:lnTo>
                    <a:pt x="192" y="722"/>
                  </a:lnTo>
                  <a:lnTo>
                    <a:pt x="193" y="722"/>
                  </a:lnTo>
                  <a:lnTo>
                    <a:pt x="194" y="722"/>
                  </a:lnTo>
                  <a:lnTo>
                    <a:pt x="195" y="722"/>
                  </a:lnTo>
                  <a:lnTo>
                    <a:pt x="196" y="722"/>
                  </a:lnTo>
                  <a:lnTo>
                    <a:pt x="196" y="722"/>
                  </a:lnTo>
                  <a:lnTo>
                    <a:pt x="198" y="722"/>
                  </a:lnTo>
                  <a:lnTo>
                    <a:pt x="199" y="722"/>
                  </a:lnTo>
                  <a:lnTo>
                    <a:pt x="200" y="722"/>
                  </a:lnTo>
                  <a:lnTo>
                    <a:pt x="199" y="716"/>
                  </a:lnTo>
                  <a:lnTo>
                    <a:pt x="196" y="711"/>
                  </a:lnTo>
                  <a:lnTo>
                    <a:pt x="194" y="705"/>
                  </a:lnTo>
                  <a:lnTo>
                    <a:pt x="192" y="699"/>
                  </a:lnTo>
                  <a:lnTo>
                    <a:pt x="191" y="695"/>
                  </a:lnTo>
                  <a:lnTo>
                    <a:pt x="191" y="689"/>
                  </a:lnTo>
                  <a:lnTo>
                    <a:pt x="193" y="684"/>
                  </a:lnTo>
                  <a:lnTo>
                    <a:pt x="198" y="680"/>
                  </a:lnTo>
                  <a:lnTo>
                    <a:pt x="200" y="677"/>
                  </a:lnTo>
                  <a:lnTo>
                    <a:pt x="203" y="673"/>
                  </a:lnTo>
                  <a:lnTo>
                    <a:pt x="205" y="669"/>
                  </a:lnTo>
                  <a:lnTo>
                    <a:pt x="207" y="665"/>
                  </a:lnTo>
                  <a:lnTo>
                    <a:pt x="211" y="661"/>
                  </a:lnTo>
                  <a:lnTo>
                    <a:pt x="213" y="658"/>
                  </a:lnTo>
                  <a:lnTo>
                    <a:pt x="216" y="655"/>
                  </a:lnTo>
                  <a:lnTo>
                    <a:pt x="219" y="653"/>
                  </a:lnTo>
                  <a:lnTo>
                    <a:pt x="220" y="651"/>
                  </a:lnTo>
                  <a:lnTo>
                    <a:pt x="220" y="647"/>
                  </a:lnTo>
                  <a:lnTo>
                    <a:pt x="219" y="641"/>
                  </a:lnTo>
                  <a:lnTo>
                    <a:pt x="217" y="634"/>
                  </a:lnTo>
                  <a:lnTo>
                    <a:pt x="215" y="628"/>
                  </a:lnTo>
                  <a:lnTo>
                    <a:pt x="213" y="621"/>
                  </a:lnTo>
                  <a:lnTo>
                    <a:pt x="212" y="616"/>
                  </a:lnTo>
                  <a:lnTo>
                    <a:pt x="212" y="613"/>
                  </a:lnTo>
                  <a:lnTo>
                    <a:pt x="212" y="612"/>
                  </a:lnTo>
                  <a:lnTo>
                    <a:pt x="211" y="611"/>
                  </a:lnTo>
                  <a:lnTo>
                    <a:pt x="208" y="610"/>
                  </a:lnTo>
                  <a:lnTo>
                    <a:pt x="206" y="610"/>
                  </a:lnTo>
                  <a:lnTo>
                    <a:pt x="205" y="608"/>
                  </a:lnTo>
                  <a:lnTo>
                    <a:pt x="204" y="608"/>
                  </a:lnTo>
                  <a:lnTo>
                    <a:pt x="204" y="607"/>
                  </a:lnTo>
                  <a:lnTo>
                    <a:pt x="205" y="605"/>
                  </a:lnTo>
                  <a:lnTo>
                    <a:pt x="207" y="602"/>
                  </a:lnTo>
                  <a:lnTo>
                    <a:pt x="211" y="598"/>
                  </a:lnTo>
                  <a:lnTo>
                    <a:pt x="214" y="592"/>
                  </a:lnTo>
                  <a:lnTo>
                    <a:pt x="216" y="588"/>
                  </a:lnTo>
                  <a:lnTo>
                    <a:pt x="218" y="583"/>
                  </a:lnTo>
                  <a:lnTo>
                    <a:pt x="219" y="578"/>
                  </a:lnTo>
                  <a:lnTo>
                    <a:pt x="219" y="573"/>
                  </a:lnTo>
                  <a:lnTo>
                    <a:pt x="217" y="569"/>
                  </a:lnTo>
                  <a:lnTo>
                    <a:pt x="220" y="570"/>
                  </a:lnTo>
                  <a:lnTo>
                    <a:pt x="226" y="573"/>
                  </a:lnTo>
                  <a:lnTo>
                    <a:pt x="232" y="577"/>
                  </a:lnTo>
                  <a:lnTo>
                    <a:pt x="241" y="583"/>
                  </a:lnTo>
                  <a:lnTo>
                    <a:pt x="247" y="588"/>
                  </a:lnTo>
                  <a:lnTo>
                    <a:pt x="254" y="592"/>
                  </a:lnTo>
                  <a:lnTo>
                    <a:pt x="259" y="596"/>
                  </a:lnTo>
                  <a:lnTo>
                    <a:pt x="261" y="596"/>
                  </a:lnTo>
                  <a:lnTo>
                    <a:pt x="265" y="593"/>
                  </a:lnTo>
                  <a:lnTo>
                    <a:pt x="266" y="592"/>
                  </a:lnTo>
                  <a:lnTo>
                    <a:pt x="266" y="590"/>
                  </a:lnTo>
                  <a:lnTo>
                    <a:pt x="265" y="588"/>
                  </a:lnTo>
                  <a:lnTo>
                    <a:pt x="262" y="587"/>
                  </a:lnTo>
                  <a:lnTo>
                    <a:pt x="261" y="586"/>
                  </a:lnTo>
                  <a:lnTo>
                    <a:pt x="259" y="585"/>
                  </a:lnTo>
                  <a:lnTo>
                    <a:pt x="259" y="584"/>
                  </a:lnTo>
                  <a:lnTo>
                    <a:pt x="260" y="581"/>
                  </a:lnTo>
                  <a:lnTo>
                    <a:pt x="261" y="579"/>
                  </a:lnTo>
                  <a:lnTo>
                    <a:pt x="262" y="577"/>
                  </a:lnTo>
                  <a:lnTo>
                    <a:pt x="263" y="576"/>
                  </a:lnTo>
                  <a:lnTo>
                    <a:pt x="265" y="574"/>
                  </a:lnTo>
                  <a:lnTo>
                    <a:pt x="265" y="572"/>
                  </a:lnTo>
                  <a:lnTo>
                    <a:pt x="265" y="571"/>
                  </a:lnTo>
                  <a:lnTo>
                    <a:pt x="265" y="569"/>
                  </a:lnTo>
                  <a:lnTo>
                    <a:pt x="265" y="567"/>
                  </a:lnTo>
                  <a:lnTo>
                    <a:pt x="263" y="566"/>
                  </a:lnTo>
                  <a:lnTo>
                    <a:pt x="263" y="564"/>
                  </a:lnTo>
                  <a:lnTo>
                    <a:pt x="263" y="563"/>
                  </a:lnTo>
                  <a:lnTo>
                    <a:pt x="262" y="562"/>
                  </a:lnTo>
                  <a:lnTo>
                    <a:pt x="261" y="561"/>
                  </a:lnTo>
                  <a:lnTo>
                    <a:pt x="259" y="561"/>
                  </a:lnTo>
                  <a:lnTo>
                    <a:pt x="257" y="561"/>
                  </a:lnTo>
                  <a:lnTo>
                    <a:pt x="259" y="557"/>
                  </a:lnTo>
                  <a:lnTo>
                    <a:pt x="262" y="551"/>
                  </a:lnTo>
                  <a:lnTo>
                    <a:pt x="267" y="547"/>
                  </a:lnTo>
                  <a:lnTo>
                    <a:pt x="271" y="543"/>
                  </a:lnTo>
                  <a:lnTo>
                    <a:pt x="273" y="538"/>
                  </a:lnTo>
                  <a:lnTo>
                    <a:pt x="275" y="533"/>
                  </a:lnTo>
                  <a:lnTo>
                    <a:pt x="275" y="531"/>
                  </a:lnTo>
                  <a:lnTo>
                    <a:pt x="274" y="529"/>
                  </a:lnTo>
                  <a:lnTo>
                    <a:pt x="273" y="526"/>
                  </a:lnTo>
                  <a:lnTo>
                    <a:pt x="271" y="524"/>
                  </a:lnTo>
                  <a:lnTo>
                    <a:pt x="276" y="524"/>
                  </a:lnTo>
                  <a:lnTo>
                    <a:pt x="281" y="524"/>
                  </a:lnTo>
                  <a:lnTo>
                    <a:pt x="284" y="524"/>
                  </a:lnTo>
                  <a:lnTo>
                    <a:pt x="288" y="523"/>
                  </a:lnTo>
                  <a:lnTo>
                    <a:pt x="293" y="521"/>
                  </a:lnTo>
                  <a:lnTo>
                    <a:pt x="296" y="519"/>
                  </a:lnTo>
                  <a:lnTo>
                    <a:pt x="300" y="517"/>
                  </a:lnTo>
                  <a:lnTo>
                    <a:pt x="303" y="515"/>
                  </a:lnTo>
                  <a:lnTo>
                    <a:pt x="304" y="513"/>
                  </a:lnTo>
                  <a:lnTo>
                    <a:pt x="304" y="511"/>
                  </a:lnTo>
                  <a:lnTo>
                    <a:pt x="306" y="510"/>
                  </a:lnTo>
                  <a:lnTo>
                    <a:pt x="306" y="509"/>
                  </a:lnTo>
                  <a:lnTo>
                    <a:pt x="304" y="507"/>
                  </a:lnTo>
                  <a:lnTo>
                    <a:pt x="303" y="505"/>
                  </a:lnTo>
                  <a:lnTo>
                    <a:pt x="302" y="504"/>
                  </a:lnTo>
                  <a:lnTo>
                    <a:pt x="301" y="502"/>
                  </a:lnTo>
                  <a:lnTo>
                    <a:pt x="302" y="503"/>
                  </a:lnTo>
                  <a:lnTo>
                    <a:pt x="304" y="503"/>
                  </a:lnTo>
                  <a:lnTo>
                    <a:pt x="306" y="502"/>
                  </a:lnTo>
                  <a:lnTo>
                    <a:pt x="307" y="502"/>
                  </a:lnTo>
                  <a:lnTo>
                    <a:pt x="308" y="500"/>
                  </a:lnTo>
                  <a:lnTo>
                    <a:pt x="308" y="499"/>
                  </a:lnTo>
                  <a:lnTo>
                    <a:pt x="309" y="499"/>
                  </a:lnTo>
                  <a:lnTo>
                    <a:pt x="309" y="499"/>
                  </a:lnTo>
                  <a:lnTo>
                    <a:pt x="309" y="496"/>
                  </a:lnTo>
                  <a:lnTo>
                    <a:pt x="310" y="494"/>
                  </a:lnTo>
                  <a:lnTo>
                    <a:pt x="310" y="492"/>
                  </a:lnTo>
                  <a:lnTo>
                    <a:pt x="311" y="490"/>
                  </a:lnTo>
                  <a:lnTo>
                    <a:pt x="311" y="486"/>
                  </a:lnTo>
                  <a:lnTo>
                    <a:pt x="311" y="484"/>
                  </a:lnTo>
                  <a:lnTo>
                    <a:pt x="311" y="482"/>
                  </a:lnTo>
                  <a:lnTo>
                    <a:pt x="311" y="479"/>
                  </a:lnTo>
                  <a:lnTo>
                    <a:pt x="312" y="480"/>
                  </a:lnTo>
                  <a:lnTo>
                    <a:pt x="315" y="479"/>
                  </a:lnTo>
                  <a:lnTo>
                    <a:pt x="320" y="477"/>
                  </a:lnTo>
                  <a:lnTo>
                    <a:pt x="324" y="473"/>
                  </a:lnTo>
                  <a:lnTo>
                    <a:pt x="329" y="469"/>
                  </a:lnTo>
                  <a:lnTo>
                    <a:pt x="333" y="465"/>
                  </a:lnTo>
                  <a:lnTo>
                    <a:pt x="336" y="461"/>
                  </a:lnTo>
                  <a:lnTo>
                    <a:pt x="336" y="455"/>
                  </a:lnTo>
                  <a:lnTo>
                    <a:pt x="339" y="456"/>
                  </a:lnTo>
                  <a:lnTo>
                    <a:pt x="343" y="456"/>
                  </a:lnTo>
                  <a:lnTo>
                    <a:pt x="347" y="456"/>
                  </a:lnTo>
                  <a:lnTo>
                    <a:pt x="351" y="455"/>
                  </a:lnTo>
                  <a:lnTo>
                    <a:pt x="354" y="453"/>
                  </a:lnTo>
                  <a:lnTo>
                    <a:pt x="359" y="451"/>
                  </a:lnTo>
                  <a:lnTo>
                    <a:pt x="362" y="450"/>
                  </a:lnTo>
                  <a:lnTo>
                    <a:pt x="365" y="448"/>
                  </a:lnTo>
                  <a:lnTo>
                    <a:pt x="365" y="448"/>
                  </a:lnTo>
                  <a:lnTo>
                    <a:pt x="365" y="446"/>
                  </a:lnTo>
                  <a:lnTo>
                    <a:pt x="365" y="445"/>
                  </a:lnTo>
                  <a:lnTo>
                    <a:pt x="365" y="444"/>
                  </a:lnTo>
                  <a:lnTo>
                    <a:pt x="365" y="443"/>
                  </a:lnTo>
                  <a:lnTo>
                    <a:pt x="365" y="442"/>
                  </a:lnTo>
                  <a:lnTo>
                    <a:pt x="365" y="441"/>
                  </a:lnTo>
                  <a:lnTo>
                    <a:pt x="365" y="440"/>
                  </a:lnTo>
                  <a:lnTo>
                    <a:pt x="368" y="438"/>
                  </a:lnTo>
                  <a:lnTo>
                    <a:pt x="370" y="436"/>
                  </a:lnTo>
                  <a:lnTo>
                    <a:pt x="373" y="434"/>
                  </a:lnTo>
                  <a:lnTo>
                    <a:pt x="374" y="430"/>
                  </a:lnTo>
                  <a:lnTo>
                    <a:pt x="375" y="428"/>
                  </a:lnTo>
                  <a:lnTo>
                    <a:pt x="376" y="425"/>
                  </a:lnTo>
                  <a:lnTo>
                    <a:pt x="376" y="422"/>
                  </a:lnTo>
                  <a:lnTo>
                    <a:pt x="376" y="417"/>
                  </a:lnTo>
                  <a:lnTo>
                    <a:pt x="376" y="417"/>
                  </a:lnTo>
                  <a:lnTo>
                    <a:pt x="375" y="417"/>
                  </a:lnTo>
                  <a:lnTo>
                    <a:pt x="375" y="417"/>
                  </a:lnTo>
                  <a:lnTo>
                    <a:pt x="375" y="417"/>
                  </a:lnTo>
                  <a:lnTo>
                    <a:pt x="375" y="417"/>
                  </a:lnTo>
                  <a:lnTo>
                    <a:pt x="375" y="417"/>
                  </a:lnTo>
                  <a:lnTo>
                    <a:pt x="374" y="417"/>
                  </a:lnTo>
                  <a:lnTo>
                    <a:pt x="373" y="417"/>
                  </a:lnTo>
                  <a:lnTo>
                    <a:pt x="378" y="418"/>
                  </a:lnTo>
                  <a:lnTo>
                    <a:pt x="382" y="417"/>
                  </a:lnTo>
                  <a:lnTo>
                    <a:pt x="387" y="415"/>
                  </a:lnTo>
                  <a:lnTo>
                    <a:pt x="391" y="412"/>
                  </a:lnTo>
                  <a:lnTo>
                    <a:pt x="394" y="409"/>
                  </a:lnTo>
                  <a:lnTo>
                    <a:pt x="396" y="405"/>
                  </a:lnTo>
                  <a:lnTo>
                    <a:pt x="400" y="401"/>
                  </a:lnTo>
                  <a:lnTo>
                    <a:pt x="403" y="398"/>
                  </a:lnTo>
                  <a:lnTo>
                    <a:pt x="404" y="401"/>
                  </a:lnTo>
                  <a:lnTo>
                    <a:pt x="405" y="403"/>
                  </a:lnTo>
                  <a:lnTo>
                    <a:pt x="407" y="403"/>
                  </a:lnTo>
                  <a:lnTo>
                    <a:pt x="408" y="402"/>
                  </a:lnTo>
                  <a:lnTo>
                    <a:pt x="410" y="401"/>
                  </a:lnTo>
                  <a:lnTo>
                    <a:pt x="413" y="400"/>
                  </a:lnTo>
                  <a:lnTo>
                    <a:pt x="414" y="399"/>
                  </a:lnTo>
                  <a:lnTo>
                    <a:pt x="415" y="400"/>
                  </a:lnTo>
                  <a:lnTo>
                    <a:pt x="417" y="399"/>
                  </a:lnTo>
                  <a:lnTo>
                    <a:pt x="419" y="397"/>
                  </a:lnTo>
                  <a:lnTo>
                    <a:pt x="421" y="396"/>
                  </a:lnTo>
                  <a:lnTo>
                    <a:pt x="423" y="394"/>
                  </a:lnTo>
                  <a:lnTo>
                    <a:pt x="425" y="392"/>
                  </a:lnTo>
                  <a:lnTo>
                    <a:pt x="427" y="390"/>
                  </a:lnTo>
                  <a:lnTo>
                    <a:pt x="429" y="388"/>
                  </a:lnTo>
                  <a:lnTo>
                    <a:pt x="430" y="386"/>
                  </a:lnTo>
                  <a:lnTo>
                    <a:pt x="431" y="386"/>
                  </a:lnTo>
                  <a:lnTo>
                    <a:pt x="432" y="388"/>
                  </a:lnTo>
                  <a:lnTo>
                    <a:pt x="432" y="389"/>
                  </a:lnTo>
                  <a:lnTo>
                    <a:pt x="433" y="390"/>
                  </a:lnTo>
                  <a:lnTo>
                    <a:pt x="434" y="390"/>
                  </a:lnTo>
                  <a:lnTo>
                    <a:pt x="435" y="391"/>
                  </a:lnTo>
                  <a:lnTo>
                    <a:pt x="436" y="391"/>
                  </a:lnTo>
                  <a:lnTo>
                    <a:pt x="437" y="390"/>
                  </a:lnTo>
                  <a:lnTo>
                    <a:pt x="438" y="389"/>
                  </a:lnTo>
                  <a:lnTo>
                    <a:pt x="438" y="388"/>
                  </a:lnTo>
                  <a:lnTo>
                    <a:pt x="440" y="387"/>
                  </a:lnTo>
                  <a:lnTo>
                    <a:pt x="440" y="385"/>
                  </a:lnTo>
                  <a:lnTo>
                    <a:pt x="441" y="384"/>
                  </a:lnTo>
                  <a:lnTo>
                    <a:pt x="442" y="382"/>
                  </a:lnTo>
                  <a:lnTo>
                    <a:pt x="443" y="380"/>
                  </a:lnTo>
                  <a:lnTo>
                    <a:pt x="445" y="378"/>
                  </a:lnTo>
                  <a:lnTo>
                    <a:pt x="445" y="380"/>
                  </a:lnTo>
                  <a:lnTo>
                    <a:pt x="446" y="381"/>
                  </a:lnTo>
                  <a:lnTo>
                    <a:pt x="447" y="382"/>
                  </a:lnTo>
                  <a:lnTo>
                    <a:pt x="448" y="382"/>
                  </a:lnTo>
                  <a:lnTo>
                    <a:pt x="450" y="383"/>
                  </a:lnTo>
                  <a:lnTo>
                    <a:pt x="451" y="383"/>
                  </a:lnTo>
                  <a:lnTo>
                    <a:pt x="454" y="384"/>
                  </a:lnTo>
                  <a:lnTo>
                    <a:pt x="455" y="386"/>
                  </a:lnTo>
                  <a:lnTo>
                    <a:pt x="458" y="384"/>
                  </a:lnTo>
                  <a:lnTo>
                    <a:pt x="461" y="382"/>
                  </a:lnTo>
                  <a:lnTo>
                    <a:pt x="464" y="381"/>
                  </a:lnTo>
                  <a:lnTo>
                    <a:pt x="467" y="378"/>
                  </a:lnTo>
                  <a:lnTo>
                    <a:pt x="470" y="376"/>
                  </a:lnTo>
                  <a:lnTo>
                    <a:pt x="472" y="374"/>
                  </a:lnTo>
                  <a:lnTo>
                    <a:pt x="474" y="372"/>
                  </a:lnTo>
                  <a:lnTo>
                    <a:pt x="474" y="368"/>
                  </a:lnTo>
                  <a:lnTo>
                    <a:pt x="474" y="370"/>
                  </a:lnTo>
                  <a:lnTo>
                    <a:pt x="475" y="371"/>
                  </a:lnTo>
                  <a:lnTo>
                    <a:pt x="477" y="372"/>
                  </a:lnTo>
                  <a:lnTo>
                    <a:pt x="478" y="372"/>
                  </a:lnTo>
                  <a:lnTo>
                    <a:pt x="484" y="372"/>
                  </a:lnTo>
                  <a:lnTo>
                    <a:pt x="489" y="370"/>
                  </a:lnTo>
                  <a:lnTo>
                    <a:pt x="495" y="368"/>
                  </a:lnTo>
                  <a:lnTo>
                    <a:pt x="500" y="363"/>
                  </a:lnTo>
                  <a:lnTo>
                    <a:pt x="504" y="359"/>
                  </a:lnTo>
                  <a:lnTo>
                    <a:pt x="507" y="354"/>
                  </a:lnTo>
                  <a:lnTo>
                    <a:pt x="511" y="355"/>
                  </a:lnTo>
                  <a:lnTo>
                    <a:pt x="515" y="356"/>
                  </a:lnTo>
                  <a:lnTo>
                    <a:pt x="519" y="357"/>
                  </a:lnTo>
                  <a:lnTo>
                    <a:pt x="524" y="356"/>
                  </a:lnTo>
                  <a:lnTo>
                    <a:pt x="528" y="355"/>
                  </a:lnTo>
                  <a:lnTo>
                    <a:pt x="531" y="353"/>
                  </a:lnTo>
                  <a:lnTo>
                    <a:pt x="535" y="350"/>
                  </a:lnTo>
                  <a:lnTo>
                    <a:pt x="536" y="346"/>
                  </a:lnTo>
                  <a:lnTo>
                    <a:pt x="539" y="349"/>
                  </a:lnTo>
                  <a:lnTo>
                    <a:pt x="542" y="351"/>
                  </a:lnTo>
                  <a:lnTo>
                    <a:pt x="546" y="351"/>
                  </a:lnTo>
                  <a:lnTo>
                    <a:pt x="550" y="350"/>
                  </a:lnTo>
                  <a:lnTo>
                    <a:pt x="554" y="349"/>
                  </a:lnTo>
                  <a:lnTo>
                    <a:pt x="558" y="348"/>
                  </a:lnTo>
                  <a:lnTo>
                    <a:pt x="562" y="346"/>
                  </a:lnTo>
                  <a:lnTo>
                    <a:pt x="566" y="346"/>
                  </a:lnTo>
                  <a:lnTo>
                    <a:pt x="566" y="345"/>
                  </a:lnTo>
                  <a:lnTo>
                    <a:pt x="566" y="344"/>
                  </a:lnTo>
                  <a:lnTo>
                    <a:pt x="566" y="343"/>
                  </a:lnTo>
                  <a:lnTo>
                    <a:pt x="566" y="343"/>
                  </a:lnTo>
                  <a:lnTo>
                    <a:pt x="566" y="342"/>
                  </a:lnTo>
                  <a:lnTo>
                    <a:pt x="566" y="342"/>
                  </a:lnTo>
                  <a:lnTo>
                    <a:pt x="566" y="341"/>
                  </a:lnTo>
                  <a:lnTo>
                    <a:pt x="566" y="341"/>
                  </a:lnTo>
                  <a:lnTo>
                    <a:pt x="569" y="343"/>
                  </a:lnTo>
                  <a:lnTo>
                    <a:pt x="572" y="344"/>
                  </a:lnTo>
                  <a:lnTo>
                    <a:pt x="576" y="344"/>
                  </a:lnTo>
                  <a:lnTo>
                    <a:pt x="580" y="343"/>
                  </a:lnTo>
                  <a:lnTo>
                    <a:pt x="583" y="341"/>
                  </a:lnTo>
                  <a:lnTo>
                    <a:pt x="586" y="337"/>
                  </a:lnTo>
                  <a:lnTo>
                    <a:pt x="589" y="334"/>
                  </a:lnTo>
                  <a:lnTo>
                    <a:pt x="591" y="331"/>
                  </a:lnTo>
                  <a:lnTo>
                    <a:pt x="591" y="333"/>
                  </a:lnTo>
                  <a:lnTo>
                    <a:pt x="591" y="334"/>
                  </a:lnTo>
                  <a:lnTo>
                    <a:pt x="591" y="335"/>
                  </a:lnTo>
                  <a:lnTo>
                    <a:pt x="592" y="336"/>
                  </a:lnTo>
                  <a:lnTo>
                    <a:pt x="593" y="337"/>
                  </a:lnTo>
                  <a:lnTo>
                    <a:pt x="594" y="337"/>
                  </a:lnTo>
                  <a:lnTo>
                    <a:pt x="594" y="336"/>
                  </a:lnTo>
                  <a:lnTo>
                    <a:pt x="595" y="336"/>
                  </a:lnTo>
                  <a:lnTo>
                    <a:pt x="598" y="335"/>
                  </a:lnTo>
                  <a:lnTo>
                    <a:pt x="600" y="334"/>
                  </a:lnTo>
                  <a:lnTo>
                    <a:pt x="602" y="333"/>
                  </a:lnTo>
                  <a:lnTo>
                    <a:pt x="602" y="331"/>
                  </a:lnTo>
                  <a:lnTo>
                    <a:pt x="603" y="327"/>
                  </a:lnTo>
                  <a:lnTo>
                    <a:pt x="602" y="321"/>
                  </a:lnTo>
                  <a:lnTo>
                    <a:pt x="600" y="317"/>
                  </a:lnTo>
                  <a:lnTo>
                    <a:pt x="599" y="313"/>
                  </a:lnTo>
                  <a:lnTo>
                    <a:pt x="600" y="311"/>
                  </a:lnTo>
                  <a:lnTo>
                    <a:pt x="602" y="310"/>
                  </a:lnTo>
                  <a:lnTo>
                    <a:pt x="603" y="309"/>
                  </a:lnTo>
                  <a:lnTo>
                    <a:pt x="605" y="309"/>
                  </a:lnTo>
                  <a:lnTo>
                    <a:pt x="607" y="309"/>
                  </a:lnTo>
                  <a:lnTo>
                    <a:pt x="608" y="308"/>
                  </a:lnTo>
                  <a:lnTo>
                    <a:pt x="611" y="308"/>
                  </a:lnTo>
                  <a:lnTo>
                    <a:pt x="613" y="307"/>
                  </a:lnTo>
                  <a:lnTo>
                    <a:pt x="616" y="306"/>
                  </a:lnTo>
                  <a:lnTo>
                    <a:pt x="617" y="305"/>
                  </a:lnTo>
                  <a:lnTo>
                    <a:pt x="618" y="302"/>
                  </a:lnTo>
                  <a:lnTo>
                    <a:pt x="618" y="299"/>
                  </a:lnTo>
                  <a:lnTo>
                    <a:pt x="618" y="299"/>
                  </a:lnTo>
                  <a:lnTo>
                    <a:pt x="618" y="299"/>
                  </a:lnTo>
                  <a:lnTo>
                    <a:pt x="618" y="299"/>
                  </a:lnTo>
                  <a:lnTo>
                    <a:pt x="618" y="299"/>
                  </a:lnTo>
                  <a:lnTo>
                    <a:pt x="617" y="299"/>
                  </a:lnTo>
                  <a:lnTo>
                    <a:pt x="617" y="299"/>
                  </a:lnTo>
                  <a:lnTo>
                    <a:pt x="616" y="299"/>
                  </a:lnTo>
                  <a:lnTo>
                    <a:pt x="616" y="299"/>
                  </a:lnTo>
                  <a:lnTo>
                    <a:pt x="617" y="300"/>
                  </a:lnTo>
                  <a:lnTo>
                    <a:pt x="619" y="300"/>
                  </a:lnTo>
                  <a:lnTo>
                    <a:pt x="620" y="301"/>
                  </a:lnTo>
                  <a:lnTo>
                    <a:pt x="621" y="302"/>
                  </a:lnTo>
                  <a:lnTo>
                    <a:pt x="622" y="303"/>
                  </a:lnTo>
                  <a:lnTo>
                    <a:pt x="623" y="303"/>
                  </a:lnTo>
                  <a:lnTo>
                    <a:pt x="624" y="304"/>
                  </a:lnTo>
                  <a:lnTo>
                    <a:pt x="625" y="304"/>
                  </a:lnTo>
                  <a:lnTo>
                    <a:pt x="631" y="304"/>
                  </a:lnTo>
                  <a:lnTo>
                    <a:pt x="636" y="304"/>
                  </a:lnTo>
                  <a:lnTo>
                    <a:pt x="640" y="304"/>
                  </a:lnTo>
                  <a:lnTo>
                    <a:pt x="646" y="305"/>
                  </a:lnTo>
                  <a:lnTo>
                    <a:pt x="651" y="306"/>
                  </a:lnTo>
                  <a:lnTo>
                    <a:pt x="657" y="308"/>
                  </a:lnTo>
                  <a:lnTo>
                    <a:pt x="662" y="310"/>
                  </a:lnTo>
                  <a:lnTo>
                    <a:pt x="667" y="314"/>
                  </a:lnTo>
                  <a:lnTo>
                    <a:pt x="669" y="315"/>
                  </a:lnTo>
                  <a:lnTo>
                    <a:pt x="670" y="316"/>
                  </a:lnTo>
                  <a:lnTo>
                    <a:pt x="672" y="316"/>
                  </a:lnTo>
                  <a:lnTo>
                    <a:pt x="675" y="316"/>
                  </a:lnTo>
                  <a:lnTo>
                    <a:pt x="677" y="316"/>
                  </a:lnTo>
                  <a:lnTo>
                    <a:pt x="680" y="314"/>
                  </a:lnTo>
                  <a:lnTo>
                    <a:pt x="683" y="311"/>
                  </a:lnTo>
                  <a:lnTo>
                    <a:pt x="685" y="309"/>
                  </a:lnTo>
                  <a:lnTo>
                    <a:pt x="688" y="313"/>
                  </a:lnTo>
                  <a:lnTo>
                    <a:pt x="691" y="315"/>
                  </a:lnTo>
                  <a:lnTo>
                    <a:pt x="696" y="315"/>
                  </a:lnTo>
                  <a:lnTo>
                    <a:pt x="701" y="315"/>
                  </a:lnTo>
                  <a:lnTo>
                    <a:pt x="705" y="314"/>
                  </a:lnTo>
                  <a:lnTo>
                    <a:pt x="711" y="311"/>
                  </a:lnTo>
                  <a:lnTo>
                    <a:pt x="715" y="310"/>
                  </a:lnTo>
                  <a:lnTo>
                    <a:pt x="719" y="309"/>
                  </a:lnTo>
                  <a:lnTo>
                    <a:pt x="724" y="308"/>
                  </a:lnTo>
                  <a:lnTo>
                    <a:pt x="728" y="308"/>
                  </a:lnTo>
                  <a:lnTo>
                    <a:pt x="733" y="307"/>
                  </a:lnTo>
                  <a:lnTo>
                    <a:pt x="738" y="307"/>
                  </a:lnTo>
                  <a:lnTo>
                    <a:pt x="742" y="307"/>
                  </a:lnTo>
                  <a:lnTo>
                    <a:pt x="746" y="307"/>
                  </a:lnTo>
                  <a:lnTo>
                    <a:pt x="752" y="307"/>
                  </a:lnTo>
                  <a:lnTo>
                    <a:pt x="756" y="306"/>
                  </a:lnTo>
                  <a:lnTo>
                    <a:pt x="759" y="307"/>
                  </a:lnTo>
                  <a:lnTo>
                    <a:pt x="763" y="308"/>
                  </a:lnTo>
                  <a:lnTo>
                    <a:pt x="766" y="309"/>
                  </a:lnTo>
                  <a:lnTo>
                    <a:pt x="770" y="311"/>
                  </a:lnTo>
                  <a:lnTo>
                    <a:pt x="774" y="314"/>
                  </a:lnTo>
                  <a:lnTo>
                    <a:pt x="779" y="315"/>
                  </a:lnTo>
                  <a:lnTo>
                    <a:pt x="783" y="316"/>
                  </a:lnTo>
                  <a:lnTo>
                    <a:pt x="788" y="316"/>
                  </a:lnTo>
                  <a:lnTo>
                    <a:pt x="788" y="317"/>
                  </a:lnTo>
                  <a:lnTo>
                    <a:pt x="788" y="318"/>
                  </a:lnTo>
                  <a:lnTo>
                    <a:pt x="788" y="319"/>
                  </a:lnTo>
                  <a:lnTo>
                    <a:pt x="788" y="320"/>
                  </a:lnTo>
                  <a:lnTo>
                    <a:pt x="788" y="321"/>
                  </a:lnTo>
                  <a:lnTo>
                    <a:pt x="790" y="322"/>
                  </a:lnTo>
                  <a:lnTo>
                    <a:pt x="790" y="322"/>
                  </a:lnTo>
                  <a:lnTo>
                    <a:pt x="791" y="323"/>
                  </a:lnTo>
                  <a:lnTo>
                    <a:pt x="795" y="326"/>
                  </a:lnTo>
                  <a:lnTo>
                    <a:pt x="798" y="328"/>
                  </a:lnTo>
                  <a:lnTo>
                    <a:pt x="803" y="328"/>
                  </a:lnTo>
                  <a:lnTo>
                    <a:pt x="807" y="328"/>
                  </a:lnTo>
                  <a:lnTo>
                    <a:pt x="811" y="327"/>
                  </a:lnTo>
                  <a:lnTo>
                    <a:pt x="815" y="326"/>
                  </a:lnTo>
                  <a:lnTo>
                    <a:pt x="819" y="324"/>
                  </a:lnTo>
                  <a:lnTo>
                    <a:pt x="823" y="323"/>
                  </a:lnTo>
                  <a:lnTo>
                    <a:pt x="825" y="322"/>
                  </a:lnTo>
                  <a:lnTo>
                    <a:pt x="828" y="322"/>
                  </a:lnTo>
                  <a:lnTo>
                    <a:pt x="832" y="321"/>
                  </a:lnTo>
                  <a:lnTo>
                    <a:pt x="836" y="320"/>
                  </a:lnTo>
                  <a:lnTo>
                    <a:pt x="839" y="319"/>
                  </a:lnTo>
                  <a:lnTo>
                    <a:pt x="842" y="318"/>
                  </a:lnTo>
                  <a:lnTo>
                    <a:pt x="847" y="317"/>
                  </a:lnTo>
                  <a:lnTo>
                    <a:pt x="850" y="316"/>
                  </a:lnTo>
                  <a:lnTo>
                    <a:pt x="851" y="317"/>
                  </a:lnTo>
                  <a:lnTo>
                    <a:pt x="852" y="317"/>
                  </a:lnTo>
                  <a:lnTo>
                    <a:pt x="853" y="318"/>
                  </a:lnTo>
                  <a:lnTo>
                    <a:pt x="853" y="319"/>
                  </a:lnTo>
                  <a:lnTo>
                    <a:pt x="854" y="320"/>
                  </a:lnTo>
                  <a:lnTo>
                    <a:pt x="855" y="321"/>
                  </a:lnTo>
                  <a:lnTo>
                    <a:pt x="857" y="322"/>
                  </a:lnTo>
                  <a:lnTo>
                    <a:pt x="858" y="323"/>
                  </a:lnTo>
                  <a:lnTo>
                    <a:pt x="861" y="324"/>
                  </a:lnTo>
                  <a:lnTo>
                    <a:pt x="864" y="324"/>
                  </a:lnTo>
                  <a:lnTo>
                    <a:pt x="867" y="323"/>
                  </a:lnTo>
                  <a:lnTo>
                    <a:pt x="871" y="322"/>
                  </a:lnTo>
                  <a:lnTo>
                    <a:pt x="874" y="321"/>
                  </a:lnTo>
                  <a:lnTo>
                    <a:pt x="877" y="321"/>
                  </a:lnTo>
                  <a:lnTo>
                    <a:pt x="880" y="321"/>
                  </a:lnTo>
                  <a:lnTo>
                    <a:pt x="882" y="321"/>
                  </a:lnTo>
                  <a:lnTo>
                    <a:pt x="885" y="324"/>
                  </a:lnTo>
                  <a:lnTo>
                    <a:pt x="887" y="328"/>
                  </a:lnTo>
                  <a:lnTo>
                    <a:pt x="889" y="332"/>
                  </a:lnTo>
                  <a:lnTo>
                    <a:pt x="891" y="335"/>
                  </a:lnTo>
                  <a:lnTo>
                    <a:pt x="893" y="338"/>
                  </a:lnTo>
                  <a:lnTo>
                    <a:pt x="895" y="342"/>
                  </a:lnTo>
                  <a:lnTo>
                    <a:pt x="899" y="345"/>
                  </a:lnTo>
                  <a:lnTo>
                    <a:pt x="902" y="346"/>
                  </a:lnTo>
                  <a:lnTo>
                    <a:pt x="903" y="346"/>
                  </a:lnTo>
                  <a:lnTo>
                    <a:pt x="904" y="345"/>
                  </a:lnTo>
                  <a:lnTo>
                    <a:pt x="905" y="344"/>
                  </a:lnTo>
                  <a:lnTo>
                    <a:pt x="905" y="344"/>
                  </a:lnTo>
                  <a:lnTo>
                    <a:pt x="906" y="343"/>
                  </a:lnTo>
                  <a:lnTo>
                    <a:pt x="907" y="342"/>
                  </a:lnTo>
                  <a:lnTo>
                    <a:pt x="908" y="342"/>
                  </a:lnTo>
                  <a:lnTo>
                    <a:pt x="909" y="341"/>
                  </a:lnTo>
                  <a:lnTo>
                    <a:pt x="909" y="342"/>
                  </a:lnTo>
                  <a:lnTo>
                    <a:pt x="909" y="342"/>
                  </a:lnTo>
                  <a:lnTo>
                    <a:pt x="909" y="343"/>
                  </a:lnTo>
                  <a:lnTo>
                    <a:pt x="909" y="344"/>
                  </a:lnTo>
                  <a:lnTo>
                    <a:pt x="909" y="344"/>
                  </a:lnTo>
                  <a:lnTo>
                    <a:pt x="911" y="345"/>
                  </a:lnTo>
                  <a:lnTo>
                    <a:pt x="911" y="346"/>
                  </a:lnTo>
                  <a:lnTo>
                    <a:pt x="912" y="346"/>
                  </a:lnTo>
                  <a:lnTo>
                    <a:pt x="914" y="347"/>
                  </a:lnTo>
                  <a:lnTo>
                    <a:pt x="915" y="349"/>
                  </a:lnTo>
                  <a:lnTo>
                    <a:pt x="917" y="350"/>
                  </a:lnTo>
                  <a:lnTo>
                    <a:pt x="918" y="353"/>
                  </a:lnTo>
                  <a:lnTo>
                    <a:pt x="920" y="354"/>
                  </a:lnTo>
                  <a:lnTo>
                    <a:pt x="922" y="355"/>
                  </a:lnTo>
                  <a:lnTo>
                    <a:pt x="925" y="355"/>
                  </a:lnTo>
                  <a:lnTo>
                    <a:pt x="927" y="354"/>
                  </a:lnTo>
                  <a:lnTo>
                    <a:pt x="928" y="354"/>
                  </a:lnTo>
                  <a:lnTo>
                    <a:pt x="929" y="353"/>
                  </a:lnTo>
                  <a:lnTo>
                    <a:pt x="929" y="351"/>
                  </a:lnTo>
                  <a:lnTo>
                    <a:pt x="930" y="350"/>
                  </a:lnTo>
                  <a:lnTo>
                    <a:pt x="931" y="350"/>
                  </a:lnTo>
                  <a:lnTo>
                    <a:pt x="931" y="349"/>
                  </a:lnTo>
                  <a:lnTo>
                    <a:pt x="931" y="348"/>
                  </a:lnTo>
                  <a:lnTo>
                    <a:pt x="931" y="348"/>
                  </a:lnTo>
                  <a:lnTo>
                    <a:pt x="935" y="350"/>
                  </a:lnTo>
                  <a:lnTo>
                    <a:pt x="940" y="354"/>
                  </a:lnTo>
                  <a:lnTo>
                    <a:pt x="945" y="356"/>
                  </a:lnTo>
                  <a:lnTo>
                    <a:pt x="949" y="358"/>
                  </a:lnTo>
                  <a:lnTo>
                    <a:pt x="954" y="359"/>
                  </a:lnTo>
                  <a:lnTo>
                    <a:pt x="958" y="359"/>
                  </a:lnTo>
                  <a:lnTo>
                    <a:pt x="960" y="358"/>
                  </a:lnTo>
                  <a:lnTo>
                    <a:pt x="961" y="356"/>
                  </a:lnTo>
                  <a:lnTo>
                    <a:pt x="962" y="354"/>
                  </a:lnTo>
                  <a:lnTo>
                    <a:pt x="963" y="350"/>
                  </a:lnTo>
                  <a:lnTo>
                    <a:pt x="963" y="351"/>
                  </a:lnTo>
                  <a:lnTo>
                    <a:pt x="963" y="354"/>
                  </a:lnTo>
                  <a:lnTo>
                    <a:pt x="963" y="355"/>
                  </a:lnTo>
                  <a:lnTo>
                    <a:pt x="962" y="356"/>
                  </a:lnTo>
                  <a:lnTo>
                    <a:pt x="962" y="357"/>
                  </a:lnTo>
                  <a:lnTo>
                    <a:pt x="962" y="358"/>
                  </a:lnTo>
                  <a:lnTo>
                    <a:pt x="963" y="358"/>
                  </a:lnTo>
                  <a:lnTo>
                    <a:pt x="963" y="358"/>
                  </a:lnTo>
                  <a:lnTo>
                    <a:pt x="969" y="364"/>
                  </a:lnTo>
                  <a:lnTo>
                    <a:pt x="973" y="371"/>
                  </a:lnTo>
                  <a:lnTo>
                    <a:pt x="978" y="377"/>
                  </a:lnTo>
                  <a:lnTo>
                    <a:pt x="983" y="383"/>
                  </a:lnTo>
                  <a:lnTo>
                    <a:pt x="988" y="388"/>
                  </a:lnTo>
                  <a:lnTo>
                    <a:pt x="994" y="394"/>
                  </a:lnTo>
                  <a:lnTo>
                    <a:pt x="999" y="400"/>
                  </a:lnTo>
                  <a:lnTo>
                    <a:pt x="1006" y="405"/>
                  </a:lnTo>
                  <a:lnTo>
                    <a:pt x="1002" y="405"/>
                  </a:lnTo>
                  <a:lnTo>
                    <a:pt x="1001" y="407"/>
                  </a:lnTo>
                  <a:lnTo>
                    <a:pt x="1000" y="407"/>
                  </a:lnTo>
                  <a:lnTo>
                    <a:pt x="1001" y="408"/>
                  </a:lnTo>
                  <a:lnTo>
                    <a:pt x="1001" y="410"/>
                  </a:lnTo>
                  <a:lnTo>
                    <a:pt x="1002" y="411"/>
                  </a:lnTo>
                  <a:lnTo>
                    <a:pt x="1003" y="412"/>
                  </a:lnTo>
                  <a:lnTo>
                    <a:pt x="1003" y="413"/>
                  </a:lnTo>
                  <a:lnTo>
                    <a:pt x="1006" y="417"/>
                  </a:lnTo>
                  <a:lnTo>
                    <a:pt x="1007" y="421"/>
                  </a:lnTo>
                  <a:lnTo>
                    <a:pt x="1009" y="425"/>
                  </a:lnTo>
                  <a:lnTo>
                    <a:pt x="1012" y="427"/>
                  </a:lnTo>
                  <a:lnTo>
                    <a:pt x="1015" y="430"/>
                  </a:lnTo>
                  <a:lnTo>
                    <a:pt x="1019" y="432"/>
                  </a:lnTo>
                  <a:lnTo>
                    <a:pt x="1023" y="434"/>
                  </a:lnTo>
                  <a:lnTo>
                    <a:pt x="1028" y="435"/>
                  </a:lnTo>
                  <a:lnTo>
                    <a:pt x="1033" y="436"/>
                  </a:lnTo>
                  <a:lnTo>
                    <a:pt x="1037" y="437"/>
                  </a:lnTo>
                  <a:lnTo>
                    <a:pt x="1040" y="439"/>
                  </a:lnTo>
                  <a:lnTo>
                    <a:pt x="1044" y="440"/>
                  </a:lnTo>
                  <a:lnTo>
                    <a:pt x="1047" y="442"/>
                  </a:lnTo>
                  <a:lnTo>
                    <a:pt x="1050" y="443"/>
                  </a:lnTo>
                  <a:lnTo>
                    <a:pt x="1051" y="445"/>
                  </a:lnTo>
                  <a:lnTo>
                    <a:pt x="1053" y="448"/>
                  </a:lnTo>
                  <a:lnTo>
                    <a:pt x="1054" y="453"/>
                  </a:lnTo>
                  <a:lnTo>
                    <a:pt x="1056" y="458"/>
                  </a:lnTo>
                  <a:lnTo>
                    <a:pt x="1060" y="463"/>
                  </a:lnTo>
                  <a:lnTo>
                    <a:pt x="1062" y="468"/>
                  </a:lnTo>
                  <a:lnTo>
                    <a:pt x="1064" y="473"/>
                  </a:lnTo>
                  <a:lnTo>
                    <a:pt x="1067" y="479"/>
                  </a:lnTo>
                  <a:lnTo>
                    <a:pt x="1069" y="484"/>
                  </a:lnTo>
                  <a:lnTo>
                    <a:pt x="1073" y="490"/>
                  </a:lnTo>
                  <a:lnTo>
                    <a:pt x="1074" y="491"/>
                  </a:lnTo>
                  <a:lnTo>
                    <a:pt x="1076" y="492"/>
                  </a:lnTo>
                  <a:lnTo>
                    <a:pt x="1079" y="493"/>
                  </a:lnTo>
                  <a:lnTo>
                    <a:pt x="1082" y="494"/>
                  </a:lnTo>
                  <a:lnTo>
                    <a:pt x="1086" y="494"/>
                  </a:lnTo>
                  <a:lnTo>
                    <a:pt x="1089" y="494"/>
                  </a:lnTo>
                  <a:lnTo>
                    <a:pt x="1092" y="494"/>
                  </a:lnTo>
                  <a:lnTo>
                    <a:pt x="1095" y="494"/>
                  </a:lnTo>
                  <a:lnTo>
                    <a:pt x="1093" y="497"/>
                  </a:lnTo>
                  <a:lnTo>
                    <a:pt x="1092" y="500"/>
                  </a:lnTo>
                  <a:lnTo>
                    <a:pt x="1092" y="503"/>
                  </a:lnTo>
                  <a:lnTo>
                    <a:pt x="1093" y="505"/>
                  </a:lnTo>
                  <a:lnTo>
                    <a:pt x="1096" y="509"/>
                  </a:lnTo>
                  <a:lnTo>
                    <a:pt x="1101" y="512"/>
                  </a:lnTo>
                  <a:lnTo>
                    <a:pt x="1107" y="516"/>
                  </a:lnTo>
                  <a:lnTo>
                    <a:pt x="1113" y="519"/>
                  </a:lnTo>
                  <a:lnTo>
                    <a:pt x="1118" y="522"/>
                  </a:lnTo>
                  <a:lnTo>
                    <a:pt x="1122" y="526"/>
                  </a:lnTo>
                  <a:lnTo>
                    <a:pt x="1123" y="531"/>
                  </a:lnTo>
                  <a:lnTo>
                    <a:pt x="1124" y="536"/>
                  </a:lnTo>
                  <a:lnTo>
                    <a:pt x="1124" y="542"/>
                  </a:lnTo>
                  <a:lnTo>
                    <a:pt x="1123" y="547"/>
                  </a:lnTo>
                  <a:lnTo>
                    <a:pt x="1122" y="553"/>
                  </a:lnTo>
                  <a:lnTo>
                    <a:pt x="1121" y="559"/>
                  </a:lnTo>
                  <a:lnTo>
                    <a:pt x="1121" y="563"/>
                  </a:lnTo>
                  <a:lnTo>
                    <a:pt x="1122" y="569"/>
                  </a:lnTo>
                  <a:lnTo>
                    <a:pt x="1126" y="572"/>
                  </a:lnTo>
                  <a:lnTo>
                    <a:pt x="1129" y="575"/>
                  </a:lnTo>
                  <a:lnTo>
                    <a:pt x="1133" y="578"/>
                  </a:lnTo>
                  <a:lnTo>
                    <a:pt x="1137" y="581"/>
                  </a:lnTo>
                  <a:lnTo>
                    <a:pt x="1142" y="585"/>
                  </a:lnTo>
                  <a:lnTo>
                    <a:pt x="1146" y="588"/>
                  </a:lnTo>
                  <a:lnTo>
                    <a:pt x="1150" y="590"/>
                  </a:lnTo>
                  <a:lnTo>
                    <a:pt x="1154" y="593"/>
                  </a:lnTo>
                  <a:lnTo>
                    <a:pt x="1156" y="596"/>
                  </a:lnTo>
                  <a:lnTo>
                    <a:pt x="1156" y="598"/>
                  </a:lnTo>
                  <a:lnTo>
                    <a:pt x="1156" y="601"/>
                  </a:lnTo>
                  <a:lnTo>
                    <a:pt x="1155" y="605"/>
                  </a:lnTo>
                  <a:lnTo>
                    <a:pt x="1155" y="608"/>
                  </a:lnTo>
                  <a:lnTo>
                    <a:pt x="1154" y="613"/>
                  </a:lnTo>
                  <a:lnTo>
                    <a:pt x="1154" y="616"/>
                  </a:lnTo>
                  <a:lnTo>
                    <a:pt x="1154" y="620"/>
                  </a:lnTo>
                  <a:lnTo>
                    <a:pt x="1156" y="624"/>
                  </a:lnTo>
                  <a:lnTo>
                    <a:pt x="1158" y="626"/>
                  </a:lnTo>
                  <a:lnTo>
                    <a:pt x="1161" y="628"/>
                  </a:lnTo>
                  <a:lnTo>
                    <a:pt x="1164" y="630"/>
                  </a:lnTo>
                  <a:lnTo>
                    <a:pt x="1169" y="632"/>
                  </a:lnTo>
                  <a:lnTo>
                    <a:pt x="1171" y="634"/>
                  </a:lnTo>
                  <a:lnTo>
                    <a:pt x="1173" y="637"/>
                  </a:lnTo>
                  <a:lnTo>
                    <a:pt x="1174" y="640"/>
                  </a:lnTo>
                  <a:lnTo>
                    <a:pt x="1173" y="645"/>
                  </a:lnTo>
                  <a:lnTo>
                    <a:pt x="1171" y="648"/>
                  </a:lnTo>
                  <a:lnTo>
                    <a:pt x="1169" y="652"/>
                  </a:lnTo>
                  <a:lnTo>
                    <a:pt x="1167" y="654"/>
                  </a:lnTo>
                  <a:lnTo>
                    <a:pt x="1164" y="656"/>
                  </a:lnTo>
                  <a:lnTo>
                    <a:pt x="1164" y="659"/>
                  </a:lnTo>
                  <a:lnTo>
                    <a:pt x="1164" y="662"/>
                  </a:lnTo>
                  <a:lnTo>
                    <a:pt x="1167" y="667"/>
                  </a:lnTo>
                  <a:lnTo>
                    <a:pt x="1167" y="669"/>
                  </a:lnTo>
                  <a:lnTo>
                    <a:pt x="1167" y="671"/>
                  </a:lnTo>
                  <a:lnTo>
                    <a:pt x="1167" y="673"/>
                  </a:lnTo>
                  <a:lnTo>
                    <a:pt x="1167" y="675"/>
                  </a:lnTo>
                  <a:lnTo>
                    <a:pt x="1167" y="678"/>
                  </a:lnTo>
                  <a:lnTo>
                    <a:pt x="1168" y="680"/>
                  </a:lnTo>
                  <a:lnTo>
                    <a:pt x="1168" y="682"/>
                  </a:lnTo>
                  <a:lnTo>
                    <a:pt x="1169" y="682"/>
                  </a:lnTo>
                  <a:lnTo>
                    <a:pt x="1167" y="687"/>
                  </a:lnTo>
                  <a:lnTo>
                    <a:pt x="1164" y="694"/>
                  </a:lnTo>
                  <a:lnTo>
                    <a:pt x="1162" y="699"/>
                  </a:lnTo>
                  <a:lnTo>
                    <a:pt x="1162" y="705"/>
                  </a:lnTo>
                  <a:lnTo>
                    <a:pt x="1162" y="710"/>
                  </a:lnTo>
                  <a:lnTo>
                    <a:pt x="1164" y="714"/>
                  </a:lnTo>
                  <a:lnTo>
                    <a:pt x="1169" y="719"/>
                  </a:lnTo>
                  <a:lnTo>
                    <a:pt x="1174" y="722"/>
                  </a:lnTo>
                  <a:lnTo>
                    <a:pt x="1175" y="722"/>
                  </a:lnTo>
                  <a:lnTo>
                    <a:pt x="1175" y="721"/>
                  </a:lnTo>
                  <a:lnTo>
                    <a:pt x="1176" y="720"/>
                  </a:lnTo>
                  <a:lnTo>
                    <a:pt x="1177" y="720"/>
                  </a:lnTo>
                  <a:lnTo>
                    <a:pt x="1178" y="719"/>
                  </a:lnTo>
                  <a:lnTo>
                    <a:pt x="1178" y="719"/>
                  </a:lnTo>
                  <a:lnTo>
                    <a:pt x="1178" y="719"/>
                  </a:lnTo>
                  <a:lnTo>
                    <a:pt x="1178" y="719"/>
                  </a:lnTo>
                  <a:lnTo>
                    <a:pt x="1182" y="728"/>
                  </a:lnTo>
                  <a:lnTo>
                    <a:pt x="1184" y="737"/>
                  </a:lnTo>
                  <a:lnTo>
                    <a:pt x="1184" y="745"/>
                  </a:lnTo>
                  <a:lnTo>
                    <a:pt x="1184" y="752"/>
                  </a:lnTo>
                  <a:lnTo>
                    <a:pt x="1184" y="758"/>
                  </a:lnTo>
                  <a:lnTo>
                    <a:pt x="1186" y="763"/>
                  </a:lnTo>
                  <a:lnTo>
                    <a:pt x="1187" y="765"/>
                  </a:lnTo>
                  <a:lnTo>
                    <a:pt x="1189" y="767"/>
                  </a:lnTo>
                  <a:lnTo>
                    <a:pt x="1192" y="769"/>
                  </a:lnTo>
                  <a:lnTo>
                    <a:pt x="1196" y="772"/>
                  </a:lnTo>
                  <a:lnTo>
                    <a:pt x="1196" y="772"/>
                  </a:lnTo>
                  <a:lnTo>
                    <a:pt x="1196" y="773"/>
                  </a:lnTo>
                  <a:lnTo>
                    <a:pt x="1196" y="773"/>
                  </a:lnTo>
                  <a:lnTo>
                    <a:pt x="1195" y="774"/>
                  </a:lnTo>
                  <a:lnTo>
                    <a:pt x="1194" y="774"/>
                  </a:lnTo>
                  <a:lnTo>
                    <a:pt x="1192" y="774"/>
                  </a:lnTo>
                  <a:lnTo>
                    <a:pt x="1192" y="774"/>
                  </a:lnTo>
                  <a:lnTo>
                    <a:pt x="1191" y="774"/>
                  </a:lnTo>
                  <a:lnTo>
                    <a:pt x="1191" y="781"/>
                  </a:lnTo>
                  <a:lnTo>
                    <a:pt x="1192" y="788"/>
                  </a:lnTo>
                  <a:lnTo>
                    <a:pt x="1192" y="794"/>
                  </a:lnTo>
                  <a:lnTo>
                    <a:pt x="1191" y="801"/>
                  </a:lnTo>
                  <a:lnTo>
                    <a:pt x="1191" y="807"/>
                  </a:lnTo>
                  <a:lnTo>
                    <a:pt x="1190" y="814"/>
                  </a:lnTo>
                  <a:lnTo>
                    <a:pt x="1189" y="821"/>
                  </a:lnTo>
                  <a:lnTo>
                    <a:pt x="1189" y="828"/>
                  </a:lnTo>
                  <a:lnTo>
                    <a:pt x="1188" y="831"/>
                  </a:lnTo>
                  <a:lnTo>
                    <a:pt x="1187" y="834"/>
                  </a:lnTo>
                  <a:lnTo>
                    <a:pt x="1186" y="839"/>
                  </a:lnTo>
                  <a:lnTo>
                    <a:pt x="1185" y="843"/>
                  </a:lnTo>
                  <a:lnTo>
                    <a:pt x="1184" y="846"/>
                  </a:lnTo>
                  <a:lnTo>
                    <a:pt x="1184" y="849"/>
                  </a:lnTo>
                  <a:lnTo>
                    <a:pt x="1184" y="853"/>
                  </a:lnTo>
                  <a:lnTo>
                    <a:pt x="1186" y="855"/>
                  </a:lnTo>
                  <a:lnTo>
                    <a:pt x="1185" y="855"/>
                  </a:lnTo>
                  <a:lnTo>
                    <a:pt x="1186" y="857"/>
                  </a:lnTo>
                  <a:lnTo>
                    <a:pt x="1187" y="861"/>
                  </a:lnTo>
                  <a:lnTo>
                    <a:pt x="1189" y="867"/>
                  </a:lnTo>
                  <a:lnTo>
                    <a:pt x="1190" y="872"/>
                  </a:lnTo>
                  <a:lnTo>
                    <a:pt x="1191" y="877"/>
                  </a:lnTo>
                  <a:lnTo>
                    <a:pt x="1192" y="881"/>
                  </a:lnTo>
                  <a:lnTo>
                    <a:pt x="1191" y="883"/>
                  </a:lnTo>
                  <a:lnTo>
                    <a:pt x="1189" y="883"/>
                  </a:lnTo>
                  <a:lnTo>
                    <a:pt x="1188" y="885"/>
                  </a:lnTo>
                  <a:lnTo>
                    <a:pt x="1187" y="888"/>
                  </a:lnTo>
                  <a:lnTo>
                    <a:pt x="1186" y="893"/>
                  </a:lnTo>
                  <a:lnTo>
                    <a:pt x="1185" y="897"/>
                  </a:lnTo>
                  <a:lnTo>
                    <a:pt x="1184" y="902"/>
                  </a:lnTo>
                  <a:lnTo>
                    <a:pt x="1184" y="908"/>
                  </a:lnTo>
                  <a:lnTo>
                    <a:pt x="1184" y="912"/>
                  </a:lnTo>
                  <a:lnTo>
                    <a:pt x="1184" y="915"/>
                  </a:lnTo>
                  <a:lnTo>
                    <a:pt x="1185" y="918"/>
                  </a:lnTo>
                  <a:lnTo>
                    <a:pt x="1186" y="923"/>
                  </a:lnTo>
                  <a:lnTo>
                    <a:pt x="1187" y="926"/>
                  </a:lnTo>
                  <a:lnTo>
                    <a:pt x="1189" y="929"/>
                  </a:lnTo>
                  <a:lnTo>
                    <a:pt x="1191" y="932"/>
                  </a:lnTo>
                  <a:lnTo>
                    <a:pt x="1194" y="936"/>
                  </a:lnTo>
                  <a:lnTo>
                    <a:pt x="1196" y="937"/>
                  </a:lnTo>
                  <a:lnTo>
                    <a:pt x="1201" y="939"/>
                  </a:lnTo>
                  <a:lnTo>
                    <a:pt x="1205" y="939"/>
                  </a:lnTo>
                  <a:lnTo>
                    <a:pt x="1209" y="938"/>
                  </a:lnTo>
                  <a:lnTo>
                    <a:pt x="1212" y="937"/>
                  </a:lnTo>
                  <a:lnTo>
                    <a:pt x="1214" y="934"/>
                  </a:lnTo>
                  <a:lnTo>
                    <a:pt x="1215" y="929"/>
                  </a:lnTo>
                  <a:lnTo>
                    <a:pt x="1215" y="925"/>
                  </a:lnTo>
                  <a:lnTo>
                    <a:pt x="1216" y="920"/>
                  </a:lnTo>
                  <a:lnTo>
                    <a:pt x="1216" y="912"/>
                  </a:lnTo>
                  <a:lnTo>
                    <a:pt x="1219" y="904"/>
                  </a:lnTo>
                  <a:lnTo>
                    <a:pt x="1224" y="896"/>
                  </a:lnTo>
                  <a:lnTo>
                    <a:pt x="1228" y="888"/>
                  </a:lnTo>
                  <a:lnTo>
                    <a:pt x="1234" y="880"/>
                  </a:lnTo>
                  <a:lnTo>
                    <a:pt x="1238" y="872"/>
                  </a:lnTo>
                  <a:lnTo>
                    <a:pt x="1240" y="866"/>
                  </a:lnTo>
                  <a:lnTo>
                    <a:pt x="1241" y="860"/>
                  </a:lnTo>
                  <a:lnTo>
                    <a:pt x="1241" y="858"/>
                  </a:lnTo>
                  <a:lnTo>
                    <a:pt x="1241" y="856"/>
                  </a:lnTo>
                  <a:lnTo>
                    <a:pt x="1241" y="851"/>
                  </a:lnTo>
                  <a:lnTo>
                    <a:pt x="1242" y="848"/>
                  </a:lnTo>
                  <a:lnTo>
                    <a:pt x="1242" y="844"/>
                  </a:lnTo>
                  <a:lnTo>
                    <a:pt x="1243" y="840"/>
                  </a:lnTo>
                  <a:lnTo>
                    <a:pt x="1243" y="837"/>
                  </a:lnTo>
                  <a:lnTo>
                    <a:pt x="1243" y="835"/>
                  </a:lnTo>
                  <a:lnTo>
                    <a:pt x="1243" y="832"/>
                  </a:lnTo>
                  <a:lnTo>
                    <a:pt x="1242" y="828"/>
                  </a:lnTo>
                  <a:lnTo>
                    <a:pt x="1242" y="822"/>
                  </a:lnTo>
                  <a:lnTo>
                    <a:pt x="1241" y="816"/>
                  </a:lnTo>
                  <a:lnTo>
                    <a:pt x="1240" y="809"/>
                  </a:lnTo>
                  <a:lnTo>
                    <a:pt x="1239" y="803"/>
                  </a:lnTo>
                  <a:lnTo>
                    <a:pt x="1238" y="799"/>
                  </a:lnTo>
                  <a:lnTo>
                    <a:pt x="1236" y="795"/>
                  </a:lnTo>
                  <a:lnTo>
                    <a:pt x="1239" y="794"/>
                  </a:lnTo>
                  <a:lnTo>
                    <a:pt x="1242" y="792"/>
                  </a:lnTo>
                  <a:lnTo>
                    <a:pt x="1245" y="789"/>
                  </a:lnTo>
                  <a:lnTo>
                    <a:pt x="1246" y="787"/>
                  </a:lnTo>
                  <a:lnTo>
                    <a:pt x="1249" y="781"/>
                  </a:lnTo>
                  <a:lnTo>
                    <a:pt x="1250" y="775"/>
                  </a:lnTo>
                  <a:lnTo>
                    <a:pt x="1249" y="768"/>
                  </a:lnTo>
                  <a:lnTo>
                    <a:pt x="1249" y="761"/>
                  </a:lnTo>
                  <a:lnTo>
                    <a:pt x="1248" y="754"/>
                  </a:lnTo>
                  <a:lnTo>
                    <a:pt x="1248" y="747"/>
                  </a:lnTo>
                  <a:lnTo>
                    <a:pt x="1249" y="741"/>
                  </a:lnTo>
                  <a:lnTo>
                    <a:pt x="1250" y="736"/>
                  </a:lnTo>
                  <a:lnTo>
                    <a:pt x="1251" y="732"/>
                  </a:lnTo>
                  <a:lnTo>
                    <a:pt x="1252" y="726"/>
                  </a:lnTo>
                  <a:lnTo>
                    <a:pt x="1253" y="721"/>
                  </a:lnTo>
                  <a:lnTo>
                    <a:pt x="1255" y="716"/>
                  </a:lnTo>
                  <a:lnTo>
                    <a:pt x="1256" y="710"/>
                  </a:lnTo>
                  <a:lnTo>
                    <a:pt x="1258" y="705"/>
                  </a:lnTo>
                  <a:lnTo>
                    <a:pt x="1257" y="701"/>
                  </a:lnTo>
                  <a:lnTo>
                    <a:pt x="1256" y="699"/>
                  </a:lnTo>
                  <a:lnTo>
                    <a:pt x="1254" y="697"/>
                  </a:lnTo>
                  <a:lnTo>
                    <a:pt x="1252" y="695"/>
                  </a:lnTo>
                  <a:lnTo>
                    <a:pt x="1250" y="692"/>
                  </a:lnTo>
                  <a:lnTo>
                    <a:pt x="1248" y="689"/>
                  </a:lnTo>
                  <a:lnTo>
                    <a:pt x="1246" y="687"/>
                  </a:lnTo>
                  <a:lnTo>
                    <a:pt x="1245" y="684"/>
                  </a:lnTo>
                  <a:lnTo>
                    <a:pt x="1246" y="684"/>
                  </a:lnTo>
                  <a:lnTo>
                    <a:pt x="1248" y="683"/>
                  </a:lnTo>
                  <a:lnTo>
                    <a:pt x="1250" y="682"/>
                  </a:lnTo>
                  <a:lnTo>
                    <a:pt x="1252" y="681"/>
                  </a:lnTo>
                  <a:lnTo>
                    <a:pt x="1254" y="680"/>
                  </a:lnTo>
                  <a:lnTo>
                    <a:pt x="1256" y="679"/>
                  </a:lnTo>
                  <a:lnTo>
                    <a:pt x="1257" y="678"/>
                  </a:lnTo>
                  <a:lnTo>
                    <a:pt x="1258" y="678"/>
                  </a:lnTo>
                  <a:lnTo>
                    <a:pt x="1258" y="671"/>
                  </a:lnTo>
                  <a:lnTo>
                    <a:pt x="1258" y="665"/>
                  </a:lnTo>
                  <a:lnTo>
                    <a:pt x="1258" y="658"/>
                  </a:lnTo>
                  <a:lnTo>
                    <a:pt x="1259" y="652"/>
                  </a:lnTo>
                  <a:lnTo>
                    <a:pt x="1259" y="645"/>
                  </a:lnTo>
                  <a:lnTo>
                    <a:pt x="1261" y="640"/>
                  </a:lnTo>
                  <a:lnTo>
                    <a:pt x="1261" y="633"/>
                  </a:lnTo>
                  <a:lnTo>
                    <a:pt x="1261" y="628"/>
                  </a:lnTo>
                  <a:lnTo>
                    <a:pt x="1261" y="626"/>
                  </a:lnTo>
                  <a:lnTo>
                    <a:pt x="1259" y="624"/>
                  </a:lnTo>
                  <a:lnTo>
                    <a:pt x="1258" y="621"/>
                  </a:lnTo>
                  <a:lnTo>
                    <a:pt x="1257" y="619"/>
                  </a:lnTo>
                  <a:lnTo>
                    <a:pt x="1256" y="617"/>
                  </a:lnTo>
                  <a:lnTo>
                    <a:pt x="1255" y="615"/>
                  </a:lnTo>
                  <a:lnTo>
                    <a:pt x="1255" y="613"/>
                  </a:lnTo>
                  <a:lnTo>
                    <a:pt x="1255" y="611"/>
                  </a:lnTo>
                  <a:lnTo>
                    <a:pt x="1256" y="610"/>
                  </a:lnTo>
                  <a:lnTo>
                    <a:pt x="1257" y="608"/>
                  </a:lnTo>
                  <a:lnTo>
                    <a:pt x="1258" y="607"/>
                  </a:lnTo>
                  <a:lnTo>
                    <a:pt x="1261" y="605"/>
                  </a:lnTo>
                  <a:lnTo>
                    <a:pt x="1262" y="604"/>
                  </a:lnTo>
                  <a:lnTo>
                    <a:pt x="1262" y="603"/>
                  </a:lnTo>
                  <a:lnTo>
                    <a:pt x="1263" y="602"/>
                  </a:lnTo>
                  <a:lnTo>
                    <a:pt x="1263" y="601"/>
                  </a:lnTo>
                  <a:lnTo>
                    <a:pt x="1263" y="596"/>
                  </a:lnTo>
                  <a:lnTo>
                    <a:pt x="1264" y="590"/>
                  </a:lnTo>
                  <a:lnTo>
                    <a:pt x="1265" y="585"/>
                  </a:lnTo>
                  <a:lnTo>
                    <a:pt x="1265" y="579"/>
                  </a:lnTo>
                  <a:lnTo>
                    <a:pt x="1266" y="575"/>
                  </a:lnTo>
                  <a:lnTo>
                    <a:pt x="1266" y="571"/>
                  </a:lnTo>
                  <a:lnTo>
                    <a:pt x="1266" y="565"/>
                  </a:lnTo>
                  <a:lnTo>
                    <a:pt x="1265" y="561"/>
                  </a:lnTo>
                  <a:lnTo>
                    <a:pt x="1264" y="558"/>
                  </a:lnTo>
                  <a:lnTo>
                    <a:pt x="1263" y="556"/>
                  </a:lnTo>
                  <a:lnTo>
                    <a:pt x="1259" y="552"/>
                  </a:lnTo>
                  <a:lnTo>
                    <a:pt x="1257" y="550"/>
                  </a:lnTo>
                  <a:lnTo>
                    <a:pt x="1254" y="548"/>
                  </a:lnTo>
                  <a:lnTo>
                    <a:pt x="1251" y="546"/>
                  </a:lnTo>
                  <a:lnTo>
                    <a:pt x="1246" y="544"/>
                  </a:lnTo>
                  <a:lnTo>
                    <a:pt x="1243" y="542"/>
                  </a:lnTo>
                  <a:lnTo>
                    <a:pt x="1246" y="539"/>
                  </a:lnTo>
                  <a:lnTo>
                    <a:pt x="1249" y="536"/>
                  </a:lnTo>
                  <a:lnTo>
                    <a:pt x="1250" y="533"/>
                  </a:lnTo>
                  <a:lnTo>
                    <a:pt x="1250" y="529"/>
                  </a:lnTo>
                  <a:lnTo>
                    <a:pt x="1249" y="525"/>
                  </a:lnTo>
                  <a:lnTo>
                    <a:pt x="1248" y="522"/>
                  </a:lnTo>
                  <a:lnTo>
                    <a:pt x="1245" y="519"/>
                  </a:lnTo>
                  <a:lnTo>
                    <a:pt x="1243" y="517"/>
                  </a:lnTo>
                  <a:lnTo>
                    <a:pt x="1244" y="515"/>
                  </a:lnTo>
                  <a:lnTo>
                    <a:pt x="1245" y="512"/>
                  </a:lnTo>
                  <a:lnTo>
                    <a:pt x="1246" y="511"/>
                  </a:lnTo>
                  <a:lnTo>
                    <a:pt x="1248" y="509"/>
                  </a:lnTo>
                  <a:lnTo>
                    <a:pt x="1248" y="508"/>
                  </a:lnTo>
                  <a:lnTo>
                    <a:pt x="1246" y="506"/>
                  </a:lnTo>
                  <a:lnTo>
                    <a:pt x="1246" y="505"/>
                  </a:lnTo>
                  <a:lnTo>
                    <a:pt x="1245" y="504"/>
                  </a:lnTo>
                  <a:lnTo>
                    <a:pt x="1243" y="500"/>
                  </a:lnTo>
                  <a:lnTo>
                    <a:pt x="1241" y="497"/>
                  </a:lnTo>
                  <a:lnTo>
                    <a:pt x="1239" y="494"/>
                  </a:lnTo>
                  <a:lnTo>
                    <a:pt x="1238" y="492"/>
                  </a:lnTo>
                  <a:lnTo>
                    <a:pt x="1237" y="489"/>
                  </a:lnTo>
                  <a:lnTo>
                    <a:pt x="1236" y="485"/>
                  </a:lnTo>
                  <a:lnTo>
                    <a:pt x="1236" y="481"/>
                  </a:lnTo>
                  <a:lnTo>
                    <a:pt x="1236" y="477"/>
                  </a:lnTo>
                  <a:lnTo>
                    <a:pt x="1236" y="472"/>
                  </a:lnTo>
                  <a:lnTo>
                    <a:pt x="1235" y="468"/>
                  </a:lnTo>
                  <a:lnTo>
                    <a:pt x="1232" y="463"/>
                  </a:lnTo>
                  <a:lnTo>
                    <a:pt x="1230" y="458"/>
                  </a:lnTo>
                  <a:lnTo>
                    <a:pt x="1228" y="453"/>
                  </a:lnTo>
                  <a:lnTo>
                    <a:pt x="1226" y="448"/>
                  </a:lnTo>
                  <a:lnTo>
                    <a:pt x="1225" y="443"/>
                  </a:lnTo>
                  <a:lnTo>
                    <a:pt x="1224" y="438"/>
                  </a:lnTo>
                  <a:lnTo>
                    <a:pt x="1222" y="434"/>
                  </a:lnTo>
                  <a:lnTo>
                    <a:pt x="1221" y="430"/>
                  </a:lnTo>
                  <a:lnTo>
                    <a:pt x="1218" y="428"/>
                  </a:lnTo>
                  <a:lnTo>
                    <a:pt x="1216" y="425"/>
                  </a:lnTo>
                  <a:lnTo>
                    <a:pt x="1214" y="422"/>
                  </a:lnTo>
                  <a:lnTo>
                    <a:pt x="1213" y="418"/>
                  </a:lnTo>
                  <a:lnTo>
                    <a:pt x="1212" y="414"/>
                  </a:lnTo>
                  <a:lnTo>
                    <a:pt x="1211" y="410"/>
                  </a:lnTo>
                  <a:lnTo>
                    <a:pt x="1210" y="408"/>
                  </a:lnTo>
                  <a:lnTo>
                    <a:pt x="1209" y="404"/>
                  </a:lnTo>
                  <a:lnTo>
                    <a:pt x="1207" y="402"/>
                  </a:lnTo>
                  <a:lnTo>
                    <a:pt x="1205" y="400"/>
                  </a:lnTo>
                  <a:lnTo>
                    <a:pt x="1203" y="398"/>
                  </a:lnTo>
                  <a:lnTo>
                    <a:pt x="1200" y="397"/>
                  </a:lnTo>
                  <a:lnTo>
                    <a:pt x="1197" y="396"/>
                  </a:lnTo>
                  <a:lnTo>
                    <a:pt x="1194" y="396"/>
                  </a:lnTo>
                  <a:lnTo>
                    <a:pt x="1196" y="391"/>
                  </a:lnTo>
                  <a:lnTo>
                    <a:pt x="1197" y="388"/>
                  </a:lnTo>
                  <a:lnTo>
                    <a:pt x="1198" y="384"/>
                  </a:lnTo>
                  <a:lnTo>
                    <a:pt x="1199" y="381"/>
                  </a:lnTo>
                  <a:lnTo>
                    <a:pt x="1199" y="377"/>
                  </a:lnTo>
                  <a:lnTo>
                    <a:pt x="1200" y="373"/>
                  </a:lnTo>
                  <a:lnTo>
                    <a:pt x="1199" y="370"/>
                  </a:lnTo>
                  <a:lnTo>
                    <a:pt x="1199" y="365"/>
                  </a:lnTo>
                  <a:lnTo>
                    <a:pt x="1197" y="362"/>
                  </a:lnTo>
                  <a:lnTo>
                    <a:pt x="1195" y="359"/>
                  </a:lnTo>
                  <a:lnTo>
                    <a:pt x="1192" y="357"/>
                  </a:lnTo>
                  <a:lnTo>
                    <a:pt x="1190" y="354"/>
                  </a:lnTo>
                  <a:lnTo>
                    <a:pt x="1187" y="350"/>
                  </a:lnTo>
                  <a:lnTo>
                    <a:pt x="1184" y="349"/>
                  </a:lnTo>
                  <a:lnTo>
                    <a:pt x="1180" y="348"/>
                  </a:lnTo>
                  <a:lnTo>
                    <a:pt x="1174" y="348"/>
                  </a:lnTo>
                  <a:lnTo>
                    <a:pt x="1174" y="341"/>
                  </a:lnTo>
                  <a:lnTo>
                    <a:pt x="1175" y="332"/>
                  </a:lnTo>
                  <a:lnTo>
                    <a:pt x="1174" y="324"/>
                  </a:lnTo>
                  <a:lnTo>
                    <a:pt x="1173" y="316"/>
                  </a:lnTo>
                  <a:lnTo>
                    <a:pt x="1170" y="309"/>
                  </a:lnTo>
                  <a:lnTo>
                    <a:pt x="1165" y="303"/>
                  </a:lnTo>
                  <a:lnTo>
                    <a:pt x="1163" y="301"/>
                  </a:lnTo>
                  <a:lnTo>
                    <a:pt x="1160" y="299"/>
                  </a:lnTo>
                  <a:lnTo>
                    <a:pt x="1156" y="297"/>
                  </a:lnTo>
                  <a:lnTo>
                    <a:pt x="1151" y="296"/>
                  </a:lnTo>
                  <a:lnTo>
                    <a:pt x="1149" y="295"/>
                  </a:lnTo>
                  <a:lnTo>
                    <a:pt x="1148" y="292"/>
                  </a:lnTo>
                  <a:lnTo>
                    <a:pt x="1146" y="288"/>
                  </a:lnTo>
                  <a:lnTo>
                    <a:pt x="1144" y="283"/>
                  </a:lnTo>
                  <a:lnTo>
                    <a:pt x="1143" y="278"/>
                  </a:lnTo>
                  <a:lnTo>
                    <a:pt x="1142" y="273"/>
                  </a:lnTo>
                  <a:lnTo>
                    <a:pt x="1142" y="266"/>
                  </a:lnTo>
                  <a:lnTo>
                    <a:pt x="1142" y="260"/>
                  </a:lnTo>
                  <a:lnTo>
                    <a:pt x="1138" y="260"/>
                  </a:lnTo>
                  <a:lnTo>
                    <a:pt x="1136" y="259"/>
                  </a:lnTo>
                  <a:lnTo>
                    <a:pt x="1133" y="256"/>
                  </a:lnTo>
                  <a:lnTo>
                    <a:pt x="1131" y="253"/>
                  </a:lnTo>
                  <a:lnTo>
                    <a:pt x="1128" y="251"/>
                  </a:lnTo>
                  <a:lnTo>
                    <a:pt x="1126" y="249"/>
                  </a:lnTo>
                  <a:lnTo>
                    <a:pt x="1122" y="249"/>
                  </a:lnTo>
                  <a:lnTo>
                    <a:pt x="1119" y="250"/>
                  </a:lnTo>
                  <a:lnTo>
                    <a:pt x="1118" y="245"/>
                  </a:lnTo>
                  <a:lnTo>
                    <a:pt x="1116" y="240"/>
                  </a:lnTo>
                  <a:lnTo>
                    <a:pt x="1114" y="236"/>
                  </a:lnTo>
                  <a:lnTo>
                    <a:pt x="1110" y="233"/>
                  </a:lnTo>
                  <a:lnTo>
                    <a:pt x="1106" y="230"/>
                  </a:lnTo>
                  <a:lnTo>
                    <a:pt x="1103" y="227"/>
                  </a:lnTo>
                  <a:lnTo>
                    <a:pt x="1098" y="225"/>
                  </a:lnTo>
                  <a:lnTo>
                    <a:pt x="1095" y="222"/>
                  </a:lnTo>
                  <a:lnTo>
                    <a:pt x="1094" y="222"/>
                  </a:lnTo>
                  <a:lnTo>
                    <a:pt x="1092" y="221"/>
                  </a:lnTo>
                  <a:lnTo>
                    <a:pt x="1091" y="221"/>
                  </a:lnTo>
                  <a:lnTo>
                    <a:pt x="1090" y="220"/>
                  </a:lnTo>
                  <a:lnTo>
                    <a:pt x="1089" y="220"/>
                  </a:lnTo>
                  <a:lnTo>
                    <a:pt x="1087" y="220"/>
                  </a:lnTo>
                  <a:lnTo>
                    <a:pt x="1086" y="220"/>
                  </a:lnTo>
                  <a:lnTo>
                    <a:pt x="1084" y="220"/>
                  </a:lnTo>
                  <a:lnTo>
                    <a:pt x="1088" y="218"/>
                  </a:lnTo>
                  <a:lnTo>
                    <a:pt x="1090" y="215"/>
                  </a:lnTo>
                  <a:lnTo>
                    <a:pt x="1091" y="213"/>
                  </a:lnTo>
                  <a:lnTo>
                    <a:pt x="1092" y="210"/>
                  </a:lnTo>
                  <a:lnTo>
                    <a:pt x="1092" y="207"/>
                  </a:lnTo>
                  <a:lnTo>
                    <a:pt x="1092" y="205"/>
                  </a:lnTo>
                  <a:lnTo>
                    <a:pt x="1091" y="202"/>
                  </a:lnTo>
                  <a:lnTo>
                    <a:pt x="1090" y="200"/>
                  </a:lnTo>
                  <a:lnTo>
                    <a:pt x="1088" y="197"/>
                  </a:lnTo>
                  <a:lnTo>
                    <a:pt x="1086" y="195"/>
                  </a:lnTo>
                  <a:lnTo>
                    <a:pt x="1082" y="194"/>
                  </a:lnTo>
                  <a:lnTo>
                    <a:pt x="1080" y="192"/>
                  </a:lnTo>
                  <a:lnTo>
                    <a:pt x="1077" y="189"/>
                  </a:lnTo>
                  <a:lnTo>
                    <a:pt x="1075" y="187"/>
                  </a:lnTo>
                  <a:lnTo>
                    <a:pt x="1073" y="185"/>
                  </a:lnTo>
                  <a:lnTo>
                    <a:pt x="1070" y="183"/>
                  </a:lnTo>
                  <a:lnTo>
                    <a:pt x="1068" y="181"/>
                  </a:lnTo>
                  <a:lnTo>
                    <a:pt x="1067" y="178"/>
                  </a:lnTo>
                  <a:lnTo>
                    <a:pt x="1067" y="175"/>
                  </a:lnTo>
                  <a:lnTo>
                    <a:pt x="1066" y="172"/>
                  </a:lnTo>
                  <a:lnTo>
                    <a:pt x="1065" y="169"/>
                  </a:lnTo>
                  <a:lnTo>
                    <a:pt x="1064" y="166"/>
                  </a:lnTo>
                  <a:lnTo>
                    <a:pt x="1063" y="162"/>
                  </a:lnTo>
                  <a:lnTo>
                    <a:pt x="1061" y="160"/>
                  </a:lnTo>
                  <a:lnTo>
                    <a:pt x="1060" y="159"/>
                  </a:lnTo>
                  <a:lnTo>
                    <a:pt x="1059" y="159"/>
                  </a:lnTo>
                  <a:lnTo>
                    <a:pt x="1057" y="159"/>
                  </a:lnTo>
                  <a:lnTo>
                    <a:pt x="1056" y="159"/>
                  </a:lnTo>
                  <a:lnTo>
                    <a:pt x="1055" y="159"/>
                  </a:lnTo>
                  <a:lnTo>
                    <a:pt x="1054" y="160"/>
                  </a:lnTo>
                  <a:lnTo>
                    <a:pt x="1053" y="161"/>
                  </a:lnTo>
                  <a:lnTo>
                    <a:pt x="1053" y="164"/>
                  </a:lnTo>
                  <a:lnTo>
                    <a:pt x="1052" y="160"/>
                  </a:lnTo>
                  <a:lnTo>
                    <a:pt x="1051" y="158"/>
                  </a:lnTo>
                  <a:lnTo>
                    <a:pt x="1050" y="156"/>
                  </a:lnTo>
                  <a:lnTo>
                    <a:pt x="1049" y="155"/>
                  </a:lnTo>
                  <a:lnTo>
                    <a:pt x="1047" y="153"/>
                  </a:lnTo>
                  <a:lnTo>
                    <a:pt x="1044" y="152"/>
                  </a:lnTo>
                  <a:lnTo>
                    <a:pt x="1042" y="149"/>
                  </a:lnTo>
                  <a:lnTo>
                    <a:pt x="1040" y="148"/>
                  </a:lnTo>
                  <a:lnTo>
                    <a:pt x="1039" y="147"/>
                  </a:lnTo>
                  <a:lnTo>
                    <a:pt x="1038" y="147"/>
                  </a:lnTo>
                  <a:lnTo>
                    <a:pt x="1038" y="148"/>
                  </a:lnTo>
                  <a:lnTo>
                    <a:pt x="1037" y="148"/>
                  </a:lnTo>
                  <a:lnTo>
                    <a:pt x="1036" y="149"/>
                  </a:lnTo>
                  <a:lnTo>
                    <a:pt x="1035" y="149"/>
                  </a:lnTo>
                  <a:lnTo>
                    <a:pt x="1034" y="151"/>
                  </a:lnTo>
                  <a:lnTo>
                    <a:pt x="1033" y="151"/>
                  </a:lnTo>
                  <a:lnTo>
                    <a:pt x="1033" y="149"/>
                  </a:lnTo>
                  <a:lnTo>
                    <a:pt x="1033" y="148"/>
                  </a:lnTo>
                  <a:lnTo>
                    <a:pt x="1033" y="147"/>
                  </a:lnTo>
                  <a:lnTo>
                    <a:pt x="1033" y="146"/>
                  </a:lnTo>
                  <a:lnTo>
                    <a:pt x="1033" y="144"/>
                  </a:lnTo>
                  <a:lnTo>
                    <a:pt x="1033" y="143"/>
                  </a:lnTo>
                  <a:lnTo>
                    <a:pt x="1033" y="142"/>
                  </a:lnTo>
                  <a:lnTo>
                    <a:pt x="1033" y="141"/>
                  </a:lnTo>
                  <a:lnTo>
                    <a:pt x="1029" y="137"/>
                  </a:lnTo>
                  <a:lnTo>
                    <a:pt x="1026" y="132"/>
                  </a:lnTo>
                  <a:lnTo>
                    <a:pt x="1023" y="128"/>
                  </a:lnTo>
                  <a:lnTo>
                    <a:pt x="1019" y="124"/>
                  </a:lnTo>
                  <a:lnTo>
                    <a:pt x="1015" y="120"/>
                  </a:lnTo>
                  <a:lnTo>
                    <a:pt x="1011" y="118"/>
                  </a:lnTo>
                  <a:lnTo>
                    <a:pt x="1006" y="118"/>
                  </a:lnTo>
                  <a:lnTo>
                    <a:pt x="1001" y="118"/>
                  </a:lnTo>
                  <a:lnTo>
                    <a:pt x="1000" y="118"/>
                  </a:lnTo>
                  <a:lnTo>
                    <a:pt x="999" y="119"/>
                  </a:lnTo>
                  <a:lnTo>
                    <a:pt x="998" y="119"/>
                  </a:lnTo>
                  <a:lnTo>
                    <a:pt x="997" y="120"/>
                  </a:lnTo>
                  <a:lnTo>
                    <a:pt x="997" y="120"/>
                  </a:lnTo>
                  <a:lnTo>
                    <a:pt x="996" y="121"/>
                  </a:lnTo>
                  <a:lnTo>
                    <a:pt x="996" y="122"/>
                  </a:lnTo>
                  <a:lnTo>
                    <a:pt x="996" y="124"/>
                  </a:lnTo>
                  <a:lnTo>
                    <a:pt x="997" y="119"/>
                  </a:lnTo>
                  <a:lnTo>
                    <a:pt x="997" y="115"/>
                  </a:lnTo>
                  <a:lnTo>
                    <a:pt x="995" y="112"/>
                  </a:lnTo>
                  <a:lnTo>
                    <a:pt x="993" y="108"/>
                  </a:lnTo>
                  <a:lnTo>
                    <a:pt x="989" y="105"/>
                  </a:lnTo>
                  <a:lnTo>
                    <a:pt x="986" y="103"/>
                  </a:lnTo>
                  <a:lnTo>
                    <a:pt x="982" y="101"/>
                  </a:lnTo>
                  <a:lnTo>
                    <a:pt x="979" y="99"/>
                  </a:lnTo>
                  <a:lnTo>
                    <a:pt x="976" y="98"/>
                  </a:lnTo>
                  <a:lnTo>
                    <a:pt x="974" y="95"/>
                  </a:lnTo>
                  <a:lnTo>
                    <a:pt x="971" y="92"/>
                  </a:lnTo>
                  <a:lnTo>
                    <a:pt x="968" y="90"/>
                  </a:lnTo>
                  <a:lnTo>
                    <a:pt x="965" y="88"/>
                  </a:lnTo>
                  <a:lnTo>
                    <a:pt x="961" y="87"/>
                  </a:lnTo>
                  <a:lnTo>
                    <a:pt x="958" y="87"/>
                  </a:lnTo>
                  <a:lnTo>
                    <a:pt x="954" y="89"/>
                  </a:lnTo>
                  <a:lnTo>
                    <a:pt x="955" y="86"/>
                  </a:lnTo>
                  <a:lnTo>
                    <a:pt x="955" y="81"/>
                  </a:lnTo>
                  <a:lnTo>
                    <a:pt x="954" y="79"/>
                  </a:lnTo>
                  <a:lnTo>
                    <a:pt x="952" y="76"/>
                  </a:lnTo>
                  <a:lnTo>
                    <a:pt x="949" y="74"/>
                  </a:lnTo>
                  <a:lnTo>
                    <a:pt x="946" y="72"/>
                  </a:lnTo>
                  <a:lnTo>
                    <a:pt x="943" y="71"/>
                  </a:lnTo>
                  <a:lnTo>
                    <a:pt x="939" y="70"/>
                  </a:lnTo>
                  <a:lnTo>
                    <a:pt x="938" y="68"/>
                  </a:lnTo>
                  <a:lnTo>
                    <a:pt x="935" y="68"/>
                  </a:lnTo>
                  <a:lnTo>
                    <a:pt x="933" y="68"/>
                  </a:lnTo>
                  <a:lnTo>
                    <a:pt x="932" y="70"/>
                  </a:lnTo>
                  <a:lnTo>
                    <a:pt x="930" y="71"/>
                  </a:lnTo>
                  <a:lnTo>
                    <a:pt x="929" y="72"/>
                  </a:lnTo>
                  <a:lnTo>
                    <a:pt x="928" y="74"/>
                  </a:lnTo>
                  <a:lnTo>
                    <a:pt x="927" y="76"/>
                  </a:lnTo>
                  <a:lnTo>
                    <a:pt x="927" y="75"/>
                  </a:lnTo>
                  <a:lnTo>
                    <a:pt x="927" y="74"/>
                  </a:lnTo>
                  <a:lnTo>
                    <a:pt x="926" y="73"/>
                  </a:lnTo>
                  <a:lnTo>
                    <a:pt x="925" y="72"/>
                  </a:lnTo>
                  <a:lnTo>
                    <a:pt x="925" y="71"/>
                  </a:lnTo>
                  <a:lnTo>
                    <a:pt x="923" y="68"/>
                  </a:lnTo>
                  <a:lnTo>
                    <a:pt x="922" y="67"/>
                  </a:lnTo>
                  <a:lnTo>
                    <a:pt x="921" y="66"/>
                  </a:lnTo>
                  <a:lnTo>
                    <a:pt x="918" y="65"/>
                  </a:lnTo>
                  <a:lnTo>
                    <a:pt x="915" y="64"/>
                  </a:lnTo>
                  <a:lnTo>
                    <a:pt x="911" y="63"/>
                  </a:lnTo>
                  <a:lnTo>
                    <a:pt x="907" y="62"/>
                  </a:lnTo>
                  <a:lnTo>
                    <a:pt x="904" y="61"/>
                  </a:lnTo>
                  <a:lnTo>
                    <a:pt x="901" y="60"/>
                  </a:lnTo>
                  <a:lnTo>
                    <a:pt x="898" y="59"/>
                  </a:lnTo>
                  <a:lnTo>
                    <a:pt x="894" y="57"/>
                  </a:lnTo>
                  <a:lnTo>
                    <a:pt x="892" y="57"/>
                  </a:lnTo>
                  <a:lnTo>
                    <a:pt x="889" y="56"/>
                  </a:lnTo>
                  <a:lnTo>
                    <a:pt x="886" y="57"/>
                  </a:lnTo>
                  <a:lnTo>
                    <a:pt x="882" y="57"/>
                  </a:lnTo>
                  <a:lnTo>
                    <a:pt x="879" y="57"/>
                  </a:lnTo>
                  <a:lnTo>
                    <a:pt x="876" y="57"/>
                  </a:lnTo>
                  <a:lnTo>
                    <a:pt x="874" y="56"/>
                  </a:lnTo>
                  <a:lnTo>
                    <a:pt x="873" y="54"/>
                  </a:lnTo>
                  <a:lnTo>
                    <a:pt x="868" y="51"/>
                  </a:lnTo>
                  <a:lnTo>
                    <a:pt x="864" y="47"/>
                  </a:lnTo>
                  <a:lnTo>
                    <a:pt x="860" y="45"/>
                  </a:lnTo>
                  <a:lnTo>
                    <a:pt x="855" y="41"/>
                  </a:lnTo>
                  <a:lnTo>
                    <a:pt x="851" y="39"/>
                  </a:lnTo>
                  <a:lnTo>
                    <a:pt x="847" y="38"/>
                  </a:lnTo>
                  <a:lnTo>
                    <a:pt x="842" y="37"/>
                  </a:lnTo>
                  <a:lnTo>
                    <a:pt x="838" y="37"/>
                  </a:lnTo>
                  <a:lnTo>
                    <a:pt x="838" y="39"/>
                  </a:lnTo>
                  <a:lnTo>
                    <a:pt x="837" y="41"/>
                  </a:lnTo>
                  <a:lnTo>
                    <a:pt x="836" y="43"/>
                  </a:lnTo>
                  <a:lnTo>
                    <a:pt x="834" y="44"/>
                  </a:lnTo>
                  <a:lnTo>
                    <a:pt x="832" y="44"/>
                  </a:lnTo>
                  <a:lnTo>
                    <a:pt x="831" y="46"/>
                  </a:lnTo>
                  <a:lnTo>
                    <a:pt x="830" y="47"/>
                  </a:lnTo>
                  <a:lnTo>
                    <a:pt x="831" y="49"/>
                  </a:lnTo>
                  <a:lnTo>
                    <a:pt x="827" y="43"/>
                  </a:lnTo>
                  <a:lnTo>
                    <a:pt x="824" y="37"/>
                  </a:lnTo>
                  <a:lnTo>
                    <a:pt x="819" y="32"/>
                  </a:lnTo>
                  <a:lnTo>
                    <a:pt x="813" y="29"/>
                  </a:lnTo>
                  <a:lnTo>
                    <a:pt x="807" y="25"/>
                  </a:lnTo>
                  <a:lnTo>
                    <a:pt x="800" y="24"/>
                  </a:lnTo>
                  <a:lnTo>
                    <a:pt x="794" y="24"/>
                  </a:lnTo>
                  <a:lnTo>
                    <a:pt x="788" y="27"/>
                  </a:lnTo>
                  <a:lnTo>
                    <a:pt x="788" y="25"/>
                  </a:lnTo>
                  <a:lnTo>
                    <a:pt x="788" y="23"/>
                  </a:lnTo>
                  <a:lnTo>
                    <a:pt x="788" y="21"/>
                  </a:lnTo>
                  <a:lnTo>
                    <a:pt x="788" y="19"/>
                  </a:lnTo>
                  <a:lnTo>
                    <a:pt x="788" y="17"/>
                  </a:lnTo>
                  <a:lnTo>
                    <a:pt x="788" y="14"/>
                  </a:lnTo>
                  <a:lnTo>
                    <a:pt x="787" y="13"/>
                  </a:lnTo>
                  <a:lnTo>
                    <a:pt x="785" y="12"/>
                  </a:lnTo>
                  <a:lnTo>
                    <a:pt x="782" y="10"/>
                  </a:lnTo>
                  <a:lnTo>
                    <a:pt x="778" y="9"/>
                  </a:lnTo>
                  <a:lnTo>
                    <a:pt x="774" y="9"/>
                  </a:lnTo>
                  <a:lnTo>
                    <a:pt x="770" y="9"/>
                  </a:lnTo>
                  <a:lnTo>
                    <a:pt x="767" y="9"/>
                  </a:lnTo>
                  <a:lnTo>
                    <a:pt x="764" y="10"/>
                  </a:lnTo>
                  <a:lnTo>
                    <a:pt x="760" y="12"/>
                  </a:lnTo>
                  <a:lnTo>
                    <a:pt x="758" y="14"/>
                  </a:lnTo>
                  <a:lnTo>
                    <a:pt x="756" y="11"/>
                  </a:lnTo>
                  <a:lnTo>
                    <a:pt x="753" y="8"/>
                  </a:lnTo>
                  <a:lnTo>
                    <a:pt x="750" y="6"/>
                  </a:lnTo>
                  <a:lnTo>
                    <a:pt x="745" y="4"/>
                  </a:lnTo>
                  <a:lnTo>
                    <a:pt x="742" y="4"/>
                  </a:lnTo>
                  <a:lnTo>
                    <a:pt x="738" y="3"/>
                  </a:lnTo>
                  <a:lnTo>
                    <a:pt x="733" y="4"/>
                  </a:lnTo>
                  <a:lnTo>
                    <a:pt x="729" y="5"/>
                  </a:lnTo>
                  <a:lnTo>
                    <a:pt x="728" y="5"/>
                  </a:lnTo>
                  <a:lnTo>
                    <a:pt x="727" y="6"/>
                  </a:lnTo>
                  <a:lnTo>
                    <a:pt x="726" y="7"/>
                  </a:lnTo>
                  <a:lnTo>
                    <a:pt x="726" y="8"/>
                  </a:lnTo>
                  <a:lnTo>
                    <a:pt x="725" y="9"/>
                  </a:lnTo>
                  <a:lnTo>
                    <a:pt x="725" y="11"/>
                  </a:lnTo>
                  <a:lnTo>
                    <a:pt x="724" y="13"/>
                  </a:lnTo>
                  <a:lnTo>
                    <a:pt x="724" y="14"/>
                  </a:lnTo>
                  <a:lnTo>
                    <a:pt x="723" y="12"/>
                  </a:lnTo>
                  <a:lnTo>
                    <a:pt x="721" y="10"/>
                  </a:lnTo>
                  <a:lnTo>
                    <a:pt x="720" y="8"/>
                  </a:lnTo>
                  <a:lnTo>
                    <a:pt x="718" y="7"/>
                  </a:lnTo>
                  <a:lnTo>
                    <a:pt x="716" y="7"/>
                  </a:lnTo>
                  <a:lnTo>
                    <a:pt x="713" y="6"/>
                  </a:lnTo>
                  <a:lnTo>
                    <a:pt x="710" y="7"/>
                  </a:lnTo>
                  <a:lnTo>
                    <a:pt x="706" y="7"/>
                  </a:lnTo>
                  <a:lnTo>
                    <a:pt x="705" y="8"/>
                  </a:lnTo>
                  <a:lnTo>
                    <a:pt x="703" y="9"/>
                  </a:lnTo>
                  <a:lnTo>
                    <a:pt x="702" y="11"/>
                  </a:lnTo>
                  <a:lnTo>
                    <a:pt x="701" y="12"/>
                  </a:lnTo>
                  <a:lnTo>
                    <a:pt x="700" y="14"/>
                  </a:lnTo>
                  <a:lnTo>
                    <a:pt x="699" y="16"/>
                  </a:lnTo>
                  <a:lnTo>
                    <a:pt x="698" y="18"/>
                  </a:lnTo>
                  <a:lnTo>
                    <a:pt x="697" y="20"/>
                  </a:lnTo>
                  <a:lnTo>
                    <a:pt x="696" y="17"/>
                  </a:lnTo>
                  <a:lnTo>
                    <a:pt x="694" y="14"/>
                  </a:lnTo>
                  <a:lnTo>
                    <a:pt x="693" y="11"/>
                  </a:lnTo>
                  <a:lnTo>
                    <a:pt x="691" y="9"/>
                  </a:lnTo>
                  <a:lnTo>
                    <a:pt x="689" y="7"/>
                  </a:lnTo>
                  <a:lnTo>
                    <a:pt x="687" y="5"/>
                  </a:lnTo>
                  <a:lnTo>
                    <a:pt x="685" y="4"/>
                  </a:lnTo>
                  <a:lnTo>
                    <a:pt x="682" y="3"/>
                  </a:lnTo>
                  <a:lnTo>
                    <a:pt x="678" y="2"/>
                  </a:lnTo>
                  <a:lnTo>
                    <a:pt x="676" y="0"/>
                  </a:lnTo>
                  <a:lnTo>
                    <a:pt x="673" y="2"/>
                  </a:lnTo>
                  <a:lnTo>
                    <a:pt x="672" y="3"/>
                  </a:lnTo>
                  <a:lnTo>
                    <a:pt x="670" y="5"/>
                  </a:lnTo>
                  <a:lnTo>
                    <a:pt x="667" y="7"/>
                  </a:lnTo>
                  <a:lnTo>
                    <a:pt x="666" y="9"/>
                  </a:lnTo>
                  <a:lnTo>
                    <a:pt x="664" y="12"/>
                  </a:lnTo>
                  <a:lnTo>
                    <a:pt x="660" y="7"/>
                  </a:lnTo>
                  <a:lnTo>
                    <a:pt x="656" y="4"/>
                  </a:lnTo>
                  <a:lnTo>
                    <a:pt x="649" y="2"/>
                  </a:lnTo>
                  <a:lnTo>
                    <a:pt x="643" y="2"/>
                  </a:lnTo>
                  <a:lnTo>
                    <a:pt x="636" y="4"/>
                  </a:lnTo>
                  <a:lnTo>
                    <a:pt x="630" y="6"/>
                  </a:lnTo>
                  <a:lnTo>
                    <a:pt x="623" y="9"/>
                  </a:lnTo>
                  <a:lnTo>
                    <a:pt x="618" y="12"/>
                  </a:lnTo>
                  <a:lnTo>
                    <a:pt x="615" y="13"/>
                  </a:lnTo>
                  <a:lnTo>
                    <a:pt x="611" y="13"/>
                  </a:lnTo>
                  <a:lnTo>
                    <a:pt x="608" y="13"/>
                  </a:lnTo>
                  <a:lnTo>
                    <a:pt x="605" y="12"/>
                  </a:lnTo>
                  <a:lnTo>
                    <a:pt x="600" y="11"/>
                  </a:lnTo>
                  <a:lnTo>
                    <a:pt x="597" y="10"/>
                  </a:lnTo>
                  <a:lnTo>
                    <a:pt x="593" y="8"/>
                  </a:lnTo>
                  <a:lnTo>
                    <a:pt x="588" y="7"/>
                  </a:lnTo>
                  <a:lnTo>
                    <a:pt x="589" y="8"/>
                  </a:lnTo>
                  <a:lnTo>
                    <a:pt x="589" y="9"/>
                  </a:lnTo>
                  <a:lnTo>
                    <a:pt x="588" y="10"/>
                  </a:lnTo>
                  <a:lnTo>
                    <a:pt x="586" y="11"/>
                  </a:lnTo>
                  <a:lnTo>
                    <a:pt x="585" y="12"/>
                  </a:lnTo>
                  <a:lnTo>
                    <a:pt x="585" y="13"/>
                  </a:lnTo>
                  <a:lnTo>
                    <a:pt x="585" y="13"/>
                  </a:lnTo>
                  <a:lnTo>
                    <a:pt x="585" y="14"/>
                  </a:lnTo>
                  <a:lnTo>
                    <a:pt x="582" y="16"/>
                  </a:lnTo>
                  <a:lnTo>
                    <a:pt x="580" y="16"/>
                  </a:lnTo>
                  <a:lnTo>
                    <a:pt x="577" y="14"/>
                  </a:lnTo>
                  <a:lnTo>
                    <a:pt x="575" y="14"/>
                  </a:lnTo>
                  <a:lnTo>
                    <a:pt x="571" y="13"/>
                  </a:lnTo>
                  <a:lnTo>
                    <a:pt x="569" y="12"/>
                  </a:lnTo>
                  <a:lnTo>
                    <a:pt x="566" y="11"/>
                  </a:lnTo>
                  <a:lnTo>
                    <a:pt x="563" y="10"/>
                  </a:lnTo>
                  <a:lnTo>
                    <a:pt x="562" y="10"/>
                  </a:lnTo>
                  <a:lnTo>
                    <a:pt x="559" y="9"/>
                  </a:lnTo>
                  <a:lnTo>
                    <a:pt x="557" y="9"/>
                  </a:lnTo>
                  <a:lnTo>
                    <a:pt x="556" y="9"/>
                  </a:lnTo>
                  <a:lnTo>
                    <a:pt x="554" y="9"/>
                  </a:lnTo>
                  <a:lnTo>
                    <a:pt x="552" y="10"/>
                  </a:lnTo>
                  <a:lnTo>
                    <a:pt x="550" y="11"/>
                  </a:lnTo>
                  <a:lnTo>
                    <a:pt x="549" y="12"/>
                  </a:lnTo>
                  <a:lnTo>
                    <a:pt x="549" y="13"/>
                  </a:lnTo>
                  <a:lnTo>
                    <a:pt x="549" y="13"/>
                  </a:lnTo>
                  <a:lnTo>
                    <a:pt x="549" y="14"/>
                  </a:lnTo>
                  <a:lnTo>
                    <a:pt x="549" y="14"/>
                  </a:lnTo>
                  <a:lnTo>
                    <a:pt x="549" y="16"/>
                  </a:lnTo>
                  <a:lnTo>
                    <a:pt x="549" y="16"/>
                  </a:lnTo>
                  <a:lnTo>
                    <a:pt x="549" y="17"/>
                  </a:lnTo>
                  <a:lnTo>
                    <a:pt x="549" y="17"/>
                  </a:lnTo>
                  <a:lnTo>
                    <a:pt x="543" y="12"/>
                  </a:lnTo>
                  <a:lnTo>
                    <a:pt x="538" y="9"/>
                  </a:lnTo>
                  <a:lnTo>
                    <a:pt x="531" y="6"/>
                  </a:lnTo>
                  <a:lnTo>
                    <a:pt x="526" y="4"/>
                  </a:lnTo>
                  <a:lnTo>
                    <a:pt x="518" y="3"/>
                  </a:lnTo>
                  <a:lnTo>
                    <a:pt x="512" y="3"/>
                  </a:lnTo>
                  <a:lnTo>
                    <a:pt x="505" y="5"/>
                  </a:lnTo>
                  <a:lnTo>
                    <a:pt x="499" y="7"/>
                  </a:lnTo>
                  <a:lnTo>
                    <a:pt x="498" y="9"/>
                  </a:lnTo>
                  <a:lnTo>
                    <a:pt x="497" y="11"/>
                  </a:lnTo>
                  <a:lnTo>
                    <a:pt x="496" y="13"/>
                  </a:lnTo>
                  <a:lnTo>
                    <a:pt x="496" y="17"/>
                  </a:lnTo>
                  <a:lnTo>
                    <a:pt x="496" y="19"/>
                  </a:lnTo>
                  <a:lnTo>
                    <a:pt x="496" y="22"/>
                  </a:lnTo>
                  <a:lnTo>
                    <a:pt x="497" y="24"/>
                  </a:lnTo>
                  <a:lnTo>
                    <a:pt x="497" y="27"/>
                  </a:lnTo>
                  <a:lnTo>
                    <a:pt x="495" y="25"/>
                  </a:lnTo>
                  <a:lnTo>
                    <a:pt x="495" y="24"/>
                  </a:lnTo>
                  <a:lnTo>
                    <a:pt x="494" y="25"/>
                  </a:lnTo>
                  <a:lnTo>
                    <a:pt x="494" y="26"/>
                  </a:lnTo>
                  <a:lnTo>
                    <a:pt x="494" y="27"/>
                  </a:lnTo>
                  <a:lnTo>
                    <a:pt x="492" y="29"/>
                  </a:lnTo>
                  <a:lnTo>
                    <a:pt x="491" y="29"/>
                  </a:lnTo>
                  <a:lnTo>
                    <a:pt x="489" y="27"/>
                  </a:lnTo>
                  <a:lnTo>
                    <a:pt x="486" y="25"/>
                  </a:lnTo>
                  <a:lnTo>
                    <a:pt x="483" y="25"/>
                  </a:lnTo>
                  <a:lnTo>
                    <a:pt x="480" y="25"/>
                  </a:lnTo>
                  <a:lnTo>
                    <a:pt x="475" y="25"/>
                  </a:lnTo>
                  <a:lnTo>
                    <a:pt x="472" y="27"/>
                  </a:lnTo>
                  <a:lnTo>
                    <a:pt x="469" y="30"/>
                  </a:lnTo>
                  <a:lnTo>
                    <a:pt x="464" y="33"/>
                  </a:lnTo>
                  <a:lnTo>
                    <a:pt x="462" y="37"/>
                  </a:lnTo>
                  <a:lnTo>
                    <a:pt x="460" y="35"/>
                  </a:lnTo>
                  <a:lnTo>
                    <a:pt x="459" y="34"/>
                  </a:lnTo>
                  <a:lnTo>
                    <a:pt x="457" y="33"/>
                  </a:lnTo>
                  <a:lnTo>
                    <a:pt x="455" y="33"/>
                  </a:lnTo>
                  <a:lnTo>
                    <a:pt x="452" y="33"/>
                  </a:lnTo>
                  <a:lnTo>
                    <a:pt x="450" y="34"/>
                  </a:lnTo>
                  <a:lnTo>
                    <a:pt x="448" y="34"/>
                  </a:lnTo>
                  <a:lnTo>
                    <a:pt x="447" y="35"/>
                  </a:lnTo>
                  <a:lnTo>
                    <a:pt x="445" y="35"/>
                  </a:lnTo>
                  <a:lnTo>
                    <a:pt x="443" y="35"/>
                  </a:lnTo>
                  <a:lnTo>
                    <a:pt x="441" y="35"/>
                  </a:lnTo>
                  <a:lnTo>
                    <a:pt x="438" y="36"/>
                  </a:lnTo>
                  <a:lnTo>
                    <a:pt x="437" y="36"/>
                  </a:lnTo>
                  <a:lnTo>
                    <a:pt x="436" y="38"/>
                  </a:lnTo>
                  <a:lnTo>
                    <a:pt x="435" y="40"/>
                  </a:lnTo>
                  <a:lnTo>
                    <a:pt x="434" y="45"/>
                  </a:lnTo>
                  <a:lnTo>
                    <a:pt x="431" y="44"/>
                  </a:lnTo>
                  <a:lnTo>
                    <a:pt x="428" y="43"/>
                  </a:lnTo>
                  <a:lnTo>
                    <a:pt x="424" y="40"/>
                  </a:lnTo>
                  <a:lnTo>
                    <a:pt x="421" y="39"/>
                  </a:lnTo>
                  <a:lnTo>
                    <a:pt x="418" y="38"/>
                  </a:lnTo>
                  <a:lnTo>
                    <a:pt x="415" y="37"/>
                  </a:lnTo>
                  <a:lnTo>
                    <a:pt x="411" y="37"/>
                  </a:lnTo>
                  <a:lnTo>
                    <a:pt x="407" y="39"/>
                  </a:lnTo>
                  <a:lnTo>
                    <a:pt x="404" y="43"/>
                  </a:lnTo>
                  <a:lnTo>
                    <a:pt x="401" y="45"/>
                  </a:lnTo>
                  <a:lnTo>
                    <a:pt x="397" y="47"/>
                  </a:lnTo>
                  <a:lnTo>
                    <a:pt x="393" y="49"/>
                  </a:lnTo>
                  <a:lnTo>
                    <a:pt x="390" y="51"/>
                  </a:lnTo>
                  <a:lnTo>
                    <a:pt x="387" y="52"/>
                  </a:lnTo>
                  <a:lnTo>
                    <a:pt x="382" y="52"/>
                  </a:lnTo>
                  <a:lnTo>
                    <a:pt x="378" y="52"/>
                  </a:lnTo>
                  <a:lnTo>
                    <a:pt x="378" y="53"/>
                  </a:lnTo>
                  <a:lnTo>
                    <a:pt x="377" y="56"/>
                  </a:lnTo>
                  <a:lnTo>
                    <a:pt x="377" y="58"/>
                  </a:lnTo>
                  <a:lnTo>
                    <a:pt x="376" y="59"/>
                  </a:lnTo>
                  <a:lnTo>
                    <a:pt x="376" y="61"/>
                  </a:lnTo>
                  <a:lnTo>
                    <a:pt x="375" y="62"/>
                  </a:lnTo>
                  <a:lnTo>
                    <a:pt x="374" y="63"/>
                  </a:lnTo>
                  <a:lnTo>
                    <a:pt x="373" y="64"/>
                  </a:lnTo>
                  <a:lnTo>
                    <a:pt x="371" y="63"/>
                  </a:lnTo>
                  <a:lnTo>
                    <a:pt x="370" y="62"/>
                  </a:lnTo>
                  <a:lnTo>
                    <a:pt x="370" y="62"/>
                  </a:lnTo>
                  <a:lnTo>
                    <a:pt x="369" y="61"/>
                  </a:lnTo>
                  <a:lnTo>
                    <a:pt x="367" y="60"/>
                  </a:lnTo>
                  <a:lnTo>
                    <a:pt x="366" y="60"/>
                  </a:lnTo>
                  <a:lnTo>
                    <a:pt x="365" y="60"/>
                  </a:lnTo>
                  <a:lnTo>
                    <a:pt x="363" y="59"/>
                  </a:lnTo>
                  <a:lnTo>
                    <a:pt x="360" y="61"/>
                  </a:lnTo>
                  <a:lnTo>
                    <a:pt x="356" y="62"/>
                  </a:lnTo>
                  <a:lnTo>
                    <a:pt x="354" y="64"/>
                  </a:lnTo>
                  <a:lnTo>
                    <a:pt x="353" y="67"/>
                  </a:lnTo>
                  <a:lnTo>
                    <a:pt x="351" y="71"/>
                  </a:lnTo>
                  <a:lnTo>
                    <a:pt x="350" y="73"/>
                  </a:lnTo>
                  <a:lnTo>
                    <a:pt x="349" y="76"/>
                  </a:lnTo>
                  <a:lnTo>
                    <a:pt x="348" y="79"/>
                  </a:lnTo>
                  <a:lnTo>
                    <a:pt x="343" y="75"/>
                  </a:lnTo>
                  <a:lnTo>
                    <a:pt x="338" y="74"/>
                  </a:lnTo>
                  <a:lnTo>
                    <a:pt x="333" y="75"/>
                  </a:lnTo>
                  <a:lnTo>
                    <a:pt x="327" y="76"/>
                  </a:lnTo>
                  <a:lnTo>
                    <a:pt x="323" y="80"/>
                  </a:lnTo>
                  <a:lnTo>
                    <a:pt x="320" y="85"/>
                  </a:lnTo>
                  <a:lnTo>
                    <a:pt x="316" y="90"/>
                  </a:lnTo>
                  <a:lnTo>
                    <a:pt x="316" y="97"/>
                  </a:lnTo>
                  <a:lnTo>
                    <a:pt x="312" y="95"/>
                  </a:lnTo>
                  <a:lnTo>
                    <a:pt x="309" y="95"/>
                  </a:lnTo>
                  <a:lnTo>
                    <a:pt x="306" y="95"/>
                  </a:lnTo>
                  <a:lnTo>
                    <a:pt x="303" y="98"/>
                  </a:lnTo>
                  <a:lnTo>
                    <a:pt x="301" y="100"/>
                  </a:lnTo>
                  <a:lnTo>
                    <a:pt x="299" y="102"/>
                  </a:lnTo>
                  <a:lnTo>
                    <a:pt x="297" y="104"/>
                  </a:lnTo>
                  <a:lnTo>
                    <a:pt x="296" y="106"/>
                  </a:lnTo>
                  <a:lnTo>
                    <a:pt x="295" y="107"/>
                  </a:lnTo>
                  <a:lnTo>
                    <a:pt x="294" y="107"/>
                  </a:lnTo>
                  <a:lnTo>
                    <a:pt x="293" y="107"/>
                  </a:lnTo>
                  <a:lnTo>
                    <a:pt x="292" y="107"/>
                  </a:lnTo>
                  <a:lnTo>
                    <a:pt x="289" y="107"/>
                  </a:lnTo>
                  <a:lnTo>
                    <a:pt x="288" y="106"/>
                  </a:lnTo>
                  <a:lnTo>
                    <a:pt x="287" y="106"/>
                  </a:lnTo>
                  <a:lnTo>
                    <a:pt x="286" y="106"/>
                  </a:lnTo>
                  <a:lnTo>
                    <a:pt x="283" y="108"/>
                  </a:lnTo>
                  <a:lnTo>
                    <a:pt x="280" y="112"/>
                  </a:lnTo>
                  <a:lnTo>
                    <a:pt x="276" y="114"/>
                  </a:lnTo>
                  <a:lnTo>
                    <a:pt x="273" y="115"/>
                  </a:lnTo>
                  <a:lnTo>
                    <a:pt x="271" y="117"/>
                  </a:lnTo>
                  <a:lnTo>
                    <a:pt x="267" y="118"/>
                  </a:lnTo>
                  <a:lnTo>
                    <a:pt x="263" y="120"/>
                  </a:lnTo>
                  <a:lnTo>
                    <a:pt x="259" y="121"/>
                  </a:lnTo>
                  <a:lnTo>
                    <a:pt x="256" y="122"/>
                  </a:lnTo>
                  <a:lnTo>
                    <a:pt x="253" y="125"/>
                  </a:lnTo>
                  <a:lnTo>
                    <a:pt x="249" y="127"/>
                  </a:lnTo>
                  <a:lnTo>
                    <a:pt x="247" y="130"/>
                  </a:lnTo>
                  <a:lnTo>
                    <a:pt x="245" y="133"/>
                  </a:lnTo>
                  <a:lnTo>
                    <a:pt x="244" y="137"/>
                  </a:lnTo>
                  <a:lnTo>
                    <a:pt x="244" y="141"/>
                  </a:lnTo>
                  <a:lnTo>
                    <a:pt x="244" y="146"/>
                  </a:lnTo>
                  <a:lnTo>
                    <a:pt x="244" y="148"/>
                  </a:lnTo>
                  <a:lnTo>
                    <a:pt x="243" y="152"/>
                  </a:lnTo>
                  <a:lnTo>
                    <a:pt x="242" y="154"/>
                  </a:lnTo>
                  <a:lnTo>
                    <a:pt x="240" y="155"/>
                  </a:lnTo>
                  <a:lnTo>
                    <a:pt x="233" y="158"/>
                  </a:lnTo>
                  <a:lnTo>
                    <a:pt x="227" y="161"/>
                  </a:lnTo>
                  <a:lnTo>
                    <a:pt x="220" y="164"/>
                  </a:lnTo>
                  <a:lnTo>
                    <a:pt x="215" y="167"/>
                  </a:lnTo>
                  <a:lnTo>
                    <a:pt x="212" y="169"/>
                  </a:lnTo>
                  <a:lnTo>
                    <a:pt x="211" y="171"/>
                  </a:lnTo>
                  <a:lnTo>
                    <a:pt x="209" y="174"/>
                  </a:lnTo>
                  <a:lnTo>
                    <a:pt x="209" y="178"/>
                  </a:lnTo>
                  <a:lnTo>
                    <a:pt x="205" y="178"/>
                  </a:lnTo>
                  <a:lnTo>
                    <a:pt x="202" y="179"/>
                  </a:lnTo>
                  <a:lnTo>
                    <a:pt x="201" y="181"/>
                  </a:lnTo>
                  <a:lnTo>
                    <a:pt x="200" y="185"/>
                  </a:lnTo>
                  <a:lnTo>
                    <a:pt x="199" y="188"/>
                  </a:lnTo>
                  <a:lnTo>
                    <a:pt x="199" y="193"/>
                  </a:lnTo>
                  <a:lnTo>
                    <a:pt x="196" y="198"/>
                  </a:lnTo>
                  <a:lnTo>
                    <a:pt x="194" y="202"/>
                  </a:lnTo>
                  <a:lnTo>
                    <a:pt x="192" y="206"/>
                  </a:lnTo>
                  <a:lnTo>
                    <a:pt x="189" y="208"/>
                  </a:lnTo>
                  <a:lnTo>
                    <a:pt x="186" y="210"/>
                  </a:lnTo>
                  <a:lnTo>
                    <a:pt x="181" y="212"/>
                  </a:lnTo>
                  <a:lnTo>
                    <a:pt x="176" y="215"/>
                  </a:lnTo>
                  <a:lnTo>
                    <a:pt x="173" y="219"/>
                  </a:lnTo>
                  <a:lnTo>
                    <a:pt x="168" y="222"/>
                  </a:lnTo>
                  <a:lnTo>
                    <a:pt x="165" y="227"/>
                  </a:lnTo>
                  <a:lnTo>
                    <a:pt x="165" y="227"/>
                  </a:lnTo>
                  <a:lnTo>
                    <a:pt x="166" y="228"/>
                  </a:lnTo>
                  <a:lnTo>
                    <a:pt x="166" y="229"/>
                  </a:lnTo>
                  <a:lnTo>
                    <a:pt x="167" y="230"/>
                  </a:lnTo>
                  <a:lnTo>
                    <a:pt x="168" y="232"/>
                  </a:lnTo>
                  <a:lnTo>
                    <a:pt x="168" y="233"/>
                  </a:lnTo>
                  <a:lnTo>
                    <a:pt x="168" y="234"/>
                  </a:lnTo>
                  <a:lnTo>
                    <a:pt x="167" y="235"/>
                  </a:lnTo>
                  <a:lnTo>
                    <a:pt x="166" y="236"/>
                  </a:lnTo>
                  <a:lnTo>
                    <a:pt x="165" y="238"/>
                  </a:lnTo>
                  <a:lnTo>
                    <a:pt x="164" y="238"/>
                  </a:lnTo>
                  <a:lnTo>
                    <a:pt x="163" y="239"/>
                  </a:lnTo>
                  <a:lnTo>
                    <a:pt x="161" y="240"/>
                  </a:lnTo>
                  <a:lnTo>
                    <a:pt x="160" y="240"/>
                  </a:lnTo>
                  <a:lnTo>
                    <a:pt x="159" y="241"/>
                  </a:lnTo>
                  <a:lnTo>
                    <a:pt x="158" y="242"/>
                  </a:lnTo>
                  <a:lnTo>
                    <a:pt x="159" y="243"/>
                  </a:lnTo>
                  <a:lnTo>
                    <a:pt x="159" y="245"/>
                  </a:lnTo>
                  <a:lnTo>
                    <a:pt x="158" y="247"/>
                  </a:lnTo>
                  <a:lnTo>
                    <a:pt x="158" y="248"/>
                  </a:lnTo>
                  <a:lnTo>
                    <a:pt x="157" y="250"/>
                  </a:lnTo>
                  <a:lnTo>
                    <a:pt x="157" y="251"/>
                  </a:lnTo>
                  <a:lnTo>
                    <a:pt x="158" y="252"/>
                  </a:lnTo>
                  <a:lnTo>
                    <a:pt x="160" y="252"/>
                  </a:lnTo>
                  <a:lnTo>
                    <a:pt x="154" y="253"/>
                  </a:lnTo>
                  <a:lnTo>
                    <a:pt x="148" y="255"/>
                  </a:lnTo>
                  <a:lnTo>
                    <a:pt x="144" y="259"/>
                  </a:lnTo>
                  <a:lnTo>
                    <a:pt x="139" y="263"/>
                  </a:lnTo>
                  <a:lnTo>
                    <a:pt x="137" y="267"/>
                  </a:lnTo>
                  <a:lnTo>
                    <a:pt x="136" y="273"/>
                  </a:lnTo>
                  <a:lnTo>
                    <a:pt x="137" y="278"/>
                  </a:lnTo>
                  <a:lnTo>
                    <a:pt x="140" y="284"/>
                  </a:lnTo>
                  <a:lnTo>
                    <a:pt x="135" y="284"/>
                  </a:lnTo>
                  <a:lnTo>
                    <a:pt x="131" y="286"/>
                  </a:lnTo>
                  <a:lnTo>
                    <a:pt x="126" y="288"/>
                  </a:lnTo>
                  <a:lnTo>
                    <a:pt x="123" y="291"/>
                  </a:lnTo>
                  <a:lnTo>
                    <a:pt x="120" y="295"/>
                  </a:lnTo>
                  <a:lnTo>
                    <a:pt x="120" y="301"/>
                  </a:lnTo>
                  <a:lnTo>
                    <a:pt x="121" y="306"/>
                  </a:lnTo>
                  <a:lnTo>
                    <a:pt x="123" y="311"/>
                  </a:lnTo>
                  <a:lnTo>
                    <a:pt x="118" y="310"/>
                  </a:lnTo>
                  <a:lnTo>
                    <a:pt x="112" y="310"/>
                  </a:lnTo>
                  <a:lnTo>
                    <a:pt x="107" y="313"/>
                  </a:lnTo>
                  <a:lnTo>
                    <a:pt x="102" y="315"/>
                  </a:lnTo>
                  <a:lnTo>
                    <a:pt x="99" y="319"/>
                  </a:lnTo>
                  <a:lnTo>
                    <a:pt x="97" y="323"/>
                  </a:lnTo>
                  <a:lnTo>
                    <a:pt x="96" y="328"/>
                  </a:lnTo>
                  <a:lnTo>
                    <a:pt x="96" y="333"/>
                  </a:lnTo>
                  <a:lnTo>
                    <a:pt x="95" y="333"/>
                  </a:lnTo>
                  <a:lnTo>
                    <a:pt x="94" y="333"/>
                  </a:lnTo>
                  <a:lnTo>
                    <a:pt x="93" y="334"/>
                  </a:lnTo>
                  <a:lnTo>
                    <a:pt x="93" y="334"/>
                  </a:lnTo>
                  <a:lnTo>
                    <a:pt x="92" y="334"/>
                  </a:lnTo>
                  <a:lnTo>
                    <a:pt x="92" y="334"/>
                  </a:lnTo>
                  <a:lnTo>
                    <a:pt x="91" y="335"/>
                  </a:lnTo>
                  <a:lnTo>
                    <a:pt x="91" y="336"/>
                  </a:lnTo>
                  <a:lnTo>
                    <a:pt x="90" y="338"/>
                  </a:lnTo>
                  <a:lnTo>
                    <a:pt x="88" y="342"/>
                  </a:lnTo>
                  <a:lnTo>
                    <a:pt x="87" y="345"/>
                  </a:lnTo>
                  <a:lnTo>
                    <a:pt x="87" y="347"/>
                  </a:lnTo>
                  <a:lnTo>
                    <a:pt x="87" y="350"/>
                  </a:lnTo>
                  <a:lnTo>
                    <a:pt x="88" y="354"/>
                  </a:lnTo>
                  <a:lnTo>
                    <a:pt x="90" y="357"/>
                  </a:lnTo>
                  <a:lnTo>
                    <a:pt x="91" y="361"/>
                  </a:lnTo>
                  <a:lnTo>
                    <a:pt x="86" y="360"/>
                  </a:lnTo>
                  <a:lnTo>
                    <a:pt x="83" y="361"/>
                  </a:lnTo>
                  <a:lnTo>
                    <a:pt x="81" y="363"/>
                  </a:lnTo>
                  <a:lnTo>
                    <a:pt x="78" y="365"/>
                  </a:lnTo>
                  <a:lnTo>
                    <a:pt x="75" y="369"/>
                  </a:lnTo>
                  <a:lnTo>
                    <a:pt x="73" y="372"/>
                  </a:lnTo>
                  <a:lnTo>
                    <a:pt x="71" y="375"/>
                  </a:lnTo>
                  <a:lnTo>
                    <a:pt x="69" y="378"/>
                  </a:lnTo>
                  <a:lnTo>
                    <a:pt x="68" y="380"/>
                  </a:lnTo>
                  <a:lnTo>
                    <a:pt x="67" y="381"/>
                  </a:lnTo>
                  <a:lnTo>
                    <a:pt x="68" y="382"/>
                  </a:lnTo>
                  <a:lnTo>
                    <a:pt x="68" y="383"/>
                  </a:lnTo>
                  <a:lnTo>
                    <a:pt x="70" y="385"/>
                  </a:lnTo>
                  <a:lnTo>
                    <a:pt x="71" y="386"/>
                  </a:lnTo>
                  <a:lnTo>
                    <a:pt x="72" y="387"/>
                  </a:lnTo>
                  <a:lnTo>
                    <a:pt x="73" y="388"/>
                  </a:lnTo>
                  <a:lnTo>
                    <a:pt x="73" y="389"/>
                  </a:lnTo>
                  <a:lnTo>
                    <a:pt x="71" y="390"/>
                  </a:lnTo>
                  <a:lnTo>
                    <a:pt x="68" y="391"/>
                  </a:lnTo>
                  <a:lnTo>
                    <a:pt x="64" y="394"/>
                  </a:lnTo>
                  <a:lnTo>
                    <a:pt x="59" y="396"/>
                  </a:lnTo>
                  <a:lnTo>
                    <a:pt x="56" y="400"/>
                  </a:lnTo>
                  <a:lnTo>
                    <a:pt x="54" y="404"/>
                  </a:lnTo>
                  <a:lnTo>
                    <a:pt x="54" y="410"/>
                  </a:lnTo>
                  <a:lnTo>
                    <a:pt x="54" y="411"/>
                  </a:lnTo>
                  <a:lnTo>
                    <a:pt x="55" y="411"/>
                  </a:lnTo>
                  <a:lnTo>
                    <a:pt x="55" y="412"/>
                  </a:lnTo>
                  <a:lnTo>
                    <a:pt x="56" y="413"/>
                  </a:lnTo>
                  <a:lnTo>
                    <a:pt x="57" y="414"/>
                  </a:lnTo>
                  <a:lnTo>
                    <a:pt x="57" y="414"/>
                  </a:lnTo>
                  <a:lnTo>
                    <a:pt x="57" y="415"/>
                  </a:lnTo>
                  <a:lnTo>
                    <a:pt x="56" y="415"/>
                  </a:lnTo>
                  <a:lnTo>
                    <a:pt x="53" y="416"/>
                  </a:lnTo>
                  <a:lnTo>
                    <a:pt x="50" y="417"/>
                  </a:lnTo>
                  <a:lnTo>
                    <a:pt x="46" y="418"/>
                  </a:lnTo>
                  <a:lnTo>
                    <a:pt x="44" y="421"/>
                  </a:lnTo>
                  <a:lnTo>
                    <a:pt x="42" y="426"/>
                  </a:lnTo>
                  <a:lnTo>
                    <a:pt x="41" y="431"/>
                  </a:lnTo>
                  <a:lnTo>
                    <a:pt x="40" y="438"/>
                  </a:lnTo>
                  <a:lnTo>
                    <a:pt x="41" y="444"/>
                  </a:lnTo>
                  <a:lnTo>
                    <a:pt x="41" y="451"/>
                  </a:lnTo>
                  <a:lnTo>
                    <a:pt x="42" y="457"/>
                  </a:lnTo>
                  <a:lnTo>
                    <a:pt x="41" y="458"/>
                  </a:lnTo>
                  <a:lnTo>
                    <a:pt x="40" y="459"/>
                  </a:lnTo>
                  <a:lnTo>
                    <a:pt x="38" y="461"/>
                  </a:lnTo>
                  <a:lnTo>
                    <a:pt x="36" y="461"/>
                  </a:lnTo>
                  <a:lnTo>
                    <a:pt x="33" y="462"/>
                  </a:lnTo>
                  <a:lnTo>
                    <a:pt x="31" y="462"/>
                  </a:lnTo>
                  <a:lnTo>
                    <a:pt x="29" y="463"/>
                  </a:lnTo>
                  <a:lnTo>
                    <a:pt x="27" y="465"/>
                  </a:lnTo>
                  <a:lnTo>
                    <a:pt x="25" y="468"/>
                  </a:lnTo>
                  <a:lnTo>
                    <a:pt x="23" y="471"/>
                  </a:lnTo>
                  <a:lnTo>
                    <a:pt x="23" y="476"/>
                  </a:lnTo>
                  <a:lnTo>
                    <a:pt x="23" y="480"/>
                  </a:lnTo>
                  <a:lnTo>
                    <a:pt x="25" y="484"/>
                  </a:lnTo>
                  <a:lnTo>
                    <a:pt x="27" y="489"/>
                  </a:lnTo>
                  <a:lnTo>
                    <a:pt x="30" y="492"/>
                  </a:lnTo>
                  <a:lnTo>
                    <a:pt x="34" y="494"/>
                  </a:lnTo>
                  <a:lnTo>
                    <a:pt x="29" y="495"/>
                  </a:lnTo>
                  <a:lnTo>
                    <a:pt x="27" y="497"/>
                  </a:lnTo>
                  <a:lnTo>
                    <a:pt x="25" y="502"/>
                  </a:lnTo>
                  <a:lnTo>
                    <a:pt x="25" y="506"/>
                  </a:lnTo>
                  <a:lnTo>
                    <a:pt x="25" y="511"/>
                  </a:lnTo>
                  <a:lnTo>
                    <a:pt x="25" y="516"/>
                  </a:lnTo>
                  <a:lnTo>
                    <a:pt x="25" y="521"/>
                  </a:lnTo>
                  <a:lnTo>
                    <a:pt x="25" y="526"/>
                  </a:lnTo>
                  <a:lnTo>
                    <a:pt x="27" y="526"/>
                  </a:lnTo>
                  <a:lnTo>
                    <a:pt x="28" y="527"/>
                  </a:lnTo>
                  <a:lnTo>
                    <a:pt x="29" y="529"/>
                  </a:lnTo>
                  <a:lnTo>
                    <a:pt x="30" y="530"/>
                  </a:lnTo>
                  <a:lnTo>
                    <a:pt x="31" y="531"/>
                  </a:lnTo>
                  <a:lnTo>
                    <a:pt x="31" y="532"/>
                  </a:lnTo>
                  <a:lnTo>
                    <a:pt x="32" y="533"/>
                  </a:lnTo>
                  <a:lnTo>
                    <a:pt x="34" y="534"/>
                  </a:lnTo>
                  <a:lnTo>
                    <a:pt x="33" y="535"/>
                  </a:lnTo>
                  <a:lnTo>
                    <a:pt x="31" y="535"/>
                  </a:lnTo>
                  <a:lnTo>
                    <a:pt x="30" y="536"/>
                  </a:lnTo>
                  <a:lnTo>
                    <a:pt x="28" y="536"/>
                  </a:lnTo>
                  <a:lnTo>
                    <a:pt x="27" y="537"/>
                  </a:lnTo>
                  <a:lnTo>
                    <a:pt x="26" y="538"/>
                  </a:lnTo>
                  <a:lnTo>
                    <a:pt x="25" y="539"/>
                  </a:lnTo>
                  <a:lnTo>
                    <a:pt x="25" y="542"/>
                  </a:lnTo>
                  <a:lnTo>
                    <a:pt x="24" y="544"/>
                  </a:lnTo>
                  <a:lnTo>
                    <a:pt x="23" y="547"/>
                  </a:lnTo>
                  <a:lnTo>
                    <a:pt x="23" y="550"/>
                  </a:lnTo>
                  <a:lnTo>
                    <a:pt x="23" y="553"/>
                  </a:lnTo>
                  <a:lnTo>
                    <a:pt x="24" y="557"/>
                  </a:lnTo>
                  <a:lnTo>
                    <a:pt x="25" y="560"/>
                  </a:lnTo>
                  <a:lnTo>
                    <a:pt x="27" y="563"/>
                  </a:lnTo>
                  <a:lnTo>
                    <a:pt x="29" y="566"/>
                  </a:lnTo>
                  <a:lnTo>
                    <a:pt x="27" y="566"/>
                  </a:lnTo>
                  <a:lnTo>
                    <a:pt x="26" y="566"/>
                  </a:lnTo>
                  <a:lnTo>
                    <a:pt x="24" y="566"/>
                  </a:lnTo>
                  <a:lnTo>
                    <a:pt x="21" y="567"/>
                  </a:lnTo>
                  <a:lnTo>
                    <a:pt x="20" y="569"/>
                  </a:lnTo>
                  <a:lnTo>
                    <a:pt x="18" y="569"/>
                  </a:lnTo>
                  <a:lnTo>
                    <a:pt x="16" y="570"/>
                  </a:lnTo>
                  <a:lnTo>
                    <a:pt x="14" y="571"/>
                  </a:lnTo>
                  <a:lnTo>
                    <a:pt x="12" y="574"/>
                  </a:lnTo>
                  <a:lnTo>
                    <a:pt x="11" y="576"/>
                  </a:lnTo>
                  <a:lnTo>
                    <a:pt x="11" y="579"/>
                  </a:lnTo>
                  <a:lnTo>
                    <a:pt x="11" y="581"/>
                  </a:lnTo>
                  <a:lnTo>
                    <a:pt x="11" y="585"/>
                  </a:lnTo>
                  <a:lnTo>
                    <a:pt x="11" y="588"/>
                  </a:lnTo>
                  <a:lnTo>
                    <a:pt x="12" y="590"/>
                  </a:lnTo>
                  <a:lnTo>
                    <a:pt x="12" y="593"/>
                  </a:lnTo>
                  <a:lnTo>
                    <a:pt x="13" y="597"/>
                  </a:lnTo>
                  <a:lnTo>
                    <a:pt x="15" y="600"/>
                  </a:lnTo>
                  <a:lnTo>
                    <a:pt x="18" y="602"/>
                  </a:lnTo>
                  <a:lnTo>
                    <a:pt x="23" y="605"/>
                  </a:lnTo>
                  <a:lnTo>
                    <a:pt x="25" y="607"/>
                  </a:lnTo>
                  <a:lnTo>
                    <a:pt x="28" y="610"/>
                  </a:lnTo>
                  <a:lnTo>
                    <a:pt x="28" y="611"/>
                  </a:lnTo>
                  <a:lnTo>
                    <a:pt x="27" y="613"/>
                  </a:lnTo>
                  <a:lnTo>
                    <a:pt x="24" y="616"/>
                  </a:lnTo>
                  <a:lnTo>
                    <a:pt x="19" y="618"/>
                  </a:lnTo>
                  <a:lnTo>
                    <a:pt x="15" y="621"/>
                  </a:lnTo>
                  <a:lnTo>
                    <a:pt x="12" y="624"/>
                  </a:lnTo>
                  <a:lnTo>
                    <a:pt x="7" y="627"/>
                  </a:lnTo>
                  <a:lnTo>
                    <a:pt x="4" y="630"/>
                  </a:lnTo>
                  <a:lnTo>
                    <a:pt x="1" y="632"/>
                  </a:lnTo>
                  <a:lnTo>
                    <a:pt x="0" y="635"/>
                  </a:lnTo>
                  <a:lnTo>
                    <a:pt x="0" y="640"/>
                  </a:lnTo>
                  <a:lnTo>
                    <a:pt x="2" y="643"/>
                  </a:lnTo>
                  <a:lnTo>
                    <a:pt x="5" y="646"/>
                  </a:lnTo>
                  <a:lnTo>
                    <a:pt x="9" y="648"/>
                  </a:lnTo>
                  <a:lnTo>
                    <a:pt x="11" y="651"/>
                  </a:lnTo>
                  <a:lnTo>
                    <a:pt x="13" y="654"/>
                  </a:lnTo>
                  <a:lnTo>
                    <a:pt x="13" y="655"/>
                  </a:lnTo>
                  <a:lnTo>
                    <a:pt x="13" y="656"/>
                  </a:lnTo>
                  <a:lnTo>
                    <a:pt x="12" y="658"/>
                  </a:lnTo>
                  <a:lnTo>
                    <a:pt x="10" y="660"/>
                  </a:lnTo>
                  <a:lnTo>
                    <a:pt x="10" y="662"/>
                  </a:lnTo>
                  <a:lnTo>
                    <a:pt x="11" y="666"/>
                  </a:lnTo>
                  <a:lnTo>
                    <a:pt x="14" y="670"/>
                  </a:lnTo>
                  <a:lnTo>
                    <a:pt x="18" y="674"/>
                  </a:lnTo>
                  <a:lnTo>
                    <a:pt x="23" y="678"/>
                  </a:lnTo>
                  <a:lnTo>
                    <a:pt x="27" y="682"/>
                  </a:lnTo>
                  <a:lnTo>
                    <a:pt x="31" y="684"/>
                  </a:lnTo>
                  <a:lnTo>
                    <a:pt x="34" y="684"/>
                  </a:lnTo>
                  <a:lnTo>
                    <a:pt x="31" y="686"/>
                  </a:lnTo>
                  <a:lnTo>
                    <a:pt x="27" y="688"/>
                  </a:lnTo>
                  <a:lnTo>
                    <a:pt x="24" y="689"/>
                  </a:lnTo>
                  <a:lnTo>
                    <a:pt x="19" y="692"/>
                  </a:lnTo>
                  <a:lnTo>
                    <a:pt x="16" y="694"/>
                  </a:lnTo>
                  <a:lnTo>
                    <a:pt x="14" y="697"/>
                  </a:lnTo>
                  <a:lnTo>
                    <a:pt x="14" y="700"/>
                  </a:lnTo>
                  <a:lnTo>
                    <a:pt x="14" y="705"/>
                  </a:lnTo>
                  <a:lnTo>
                    <a:pt x="15" y="707"/>
                  </a:lnTo>
                  <a:lnTo>
                    <a:pt x="16" y="709"/>
                  </a:lnTo>
                  <a:lnTo>
                    <a:pt x="18" y="711"/>
                  </a:lnTo>
                  <a:lnTo>
                    <a:pt x="20" y="713"/>
                  </a:lnTo>
                  <a:lnTo>
                    <a:pt x="23" y="715"/>
                  </a:lnTo>
                  <a:lnTo>
                    <a:pt x="25" y="716"/>
                  </a:lnTo>
                  <a:lnTo>
                    <a:pt x="26" y="719"/>
                  </a:lnTo>
                  <a:lnTo>
                    <a:pt x="27" y="722"/>
                  </a:lnTo>
                  <a:lnTo>
                    <a:pt x="27" y="724"/>
                  </a:lnTo>
                  <a:lnTo>
                    <a:pt x="26" y="726"/>
                  </a:lnTo>
                  <a:lnTo>
                    <a:pt x="24" y="728"/>
                  </a:lnTo>
                  <a:lnTo>
                    <a:pt x="21" y="731"/>
                  </a:lnTo>
                  <a:lnTo>
                    <a:pt x="19" y="733"/>
                  </a:lnTo>
                  <a:lnTo>
                    <a:pt x="17" y="735"/>
                  </a:lnTo>
                  <a:lnTo>
                    <a:pt x="16" y="738"/>
                  </a:lnTo>
                  <a:lnTo>
                    <a:pt x="17" y="741"/>
                  </a:lnTo>
                  <a:lnTo>
                    <a:pt x="17" y="743"/>
                  </a:lnTo>
                  <a:lnTo>
                    <a:pt x="17" y="746"/>
                  </a:lnTo>
                  <a:lnTo>
                    <a:pt x="18" y="748"/>
                  </a:lnTo>
                  <a:lnTo>
                    <a:pt x="20" y="751"/>
                  </a:lnTo>
                  <a:lnTo>
                    <a:pt x="21" y="753"/>
                  </a:lnTo>
                  <a:lnTo>
                    <a:pt x="24" y="754"/>
                  </a:lnTo>
                  <a:lnTo>
                    <a:pt x="27" y="755"/>
                  </a:lnTo>
                  <a:lnTo>
                    <a:pt x="29" y="756"/>
                  </a:lnTo>
                  <a:lnTo>
                    <a:pt x="25" y="758"/>
                  </a:lnTo>
                  <a:lnTo>
                    <a:pt x="19" y="759"/>
                  </a:lnTo>
                  <a:lnTo>
                    <a:pt x="15" y="760"/>
                  </a:lnTo>
                  <a:lnTo>
                    <a:pt x="11" y="761"/>
                  </a:lnTo>
                  <a:lnTo>
                    <a:pt x="7" y="761"/>
                  </a:lnTo>
                  <a:lnTo>
                    <a:pt x="4" y="762"/>
                  </a:lnTo>
                  <a:lnTo>
                    <a:pt x="3" y="764"/>
                  </a:lnTo>
                  <a:lnTo>
                    <a:pt x="2" y="766"/>
                  </a:lnTo>
                  <a:lnTo>
                    <a:pt x="2" y="768"/>
                  </a:lnTo>
                  <a:lnTo>
                    <a:pt x="2" y="770"/>
                  </a:lnTo>
                  <a:lnTo>
                    <a:pt x="1" y="773"/>
                  </a:lnTo>
                  <a:lnTo>
                    <a:pt x="1" y="775"/>
                  </a:lnTo>
                  <a:lnTo>
                    <a:pt x="0" y="777"/>
                  </a:lnTo>
                  <a:lnTo>
                    <a:pt x="0" y="778"/>
                  </a:lnTo>
                  <a:lnTo>
                    <a:pt x="2" y="779"/>
                  </a:lnTo>
                  <a:lnTo>
                    <a:pt x="4" y="778"/>
                  </a:lnTo>
                  <a:lnTo>
                    <a:pt x="3" y="782"/>
                  </a:lnTo>
                  <a:lnTo>
                    <a:pt x="2" y="786"/>
                  </a:lnTo>
                  <a:lnTo>
                    <a:pt x="1" y="790"/>
                  </a:lnTo>
                  <a:lnTo>
                    <a:pt x="1" y="793"/>
                  </a:lnTo>
                  <a:lnTo>
                    <a:pt x="0" y="797"/>
                  </a:lnTo>
                  <a:lnTo>
                    <a:pt x="1" y="801"/>
                  </a:lnTo>
                  <a:lnTo>
                    <a:pt x="1" y="804"/>
                  </a:lnTo>
                  <a:lnTo>
                    <a:pt x="2" y="808"/>
                  </a:lnTo>
                  <a:lnTo>
                    <a:pt x="2" y="809"/>
                  </a:lnTo>
                  <a:lnTo>
                    <a:pt x="3" y="810"/>
                  </a:lnTo>
                  <a:lnTo>
                    <a:pt x="4" y="810"/>
                  </a:lnTo>
                  <a:lnTo>
                    <a:pt x="5" y="812"/>
                  </a:lnTo>
                  <a:lnTo>
                    <a:pt x="6" y="813"/>
                  </a:lnTo>
                  <a:lnTo>
                    <a:pt x="9" y="814"/>
                  </a:lnTo>
                  <a:lnTo>
                    <a:pt x="10" y="815"/>
                  </a:lnTo>
                  <a:lnTo>
                    <a:pt x="12" y="816"/>
                  </a:lnTo>
                  <a:lnTo>
                    <a:pt x="11" y="816"/>
                  </a:lnTo>
                  <a:lnTo>
                    <a:pt x="10" y="816"/>
                  </a:lnTo>
                  <a:lnTo>
                    <a:pt x="9" y="816"/>
                  </a:lnTo>
                  <a:lnTo>
                    <a:pt x="7" y="816"/>
                  </a:lnTo>
                  <a:lnTo>
                    <a:pt x="5" y="816"/>
                  </a:lnTo>
                  <a:lnTo>
                    <a:pt x="4" y="816"/>
                  </a:lnTo>
                  <a:lnTo>
                    <a:pt x="3" y="816"/>
                  </a:lnTo>
                  <a:lnTo>
                    <a:pt x="2" y="816"/>
                  </a:lnTo>
                  <a:lnTo>
                    <a:pt x="2" y="817"/>
                  </a:lnTo>
                  <a:lnTo>
                    <a:pt x="3" y="819"/>
                  </a:lnTo>
                  <a:lnTo>
                    <a:pt x="4" y="820"/>
                  </a:lnTo>
                  <a:lnTo>
                    <a:pt x="5" y="822"/>
                  </a:lnTo>
                  <a:lnTo>
                    <a:pt x="6" y="823"/>
                  </a:lnTo>
                  <a:lnTo>
                    <a:pt x="7" y="826"/>
                  </a:lnTo>
                  <a:lnTo>
                    <a:pt x="7" y="828"/>
                  </a:lnTo>
                  <a:lnTo>
                    <a:pt x="7" y="830"/>
                  </a:lnTo>
                  <a:lnTo>
                    <a:pt x="12" y="832"/>
                  </a:lnTo>
                  <a:lnTo>
                    <a:pt x="18" y="836"/>
                  </a:lnTo>
                  <a:lnTo>
                    <a:pt x="26" y="841"/>
                  </a:lnTo>
                  <a:lnTo>
                    <a:pt x="33" y="846"/>
                  </a:lnTo>
                  <a:lnTo>
                    <a:pt x="40" y="851"/>
                  </a:lnTo>
                  <a:lnTo>
                    <a:pt x="45" y="857"/>
                  </a:lnTo>
                  <a:lnTo>
                    <a:pt x="50" y="860"/>
                  </a:lnTo>
                  <a:lnTo>
                    <a:pt x="52" y="862"/>
                  </a:lnTo>
                  <a:lnTo>
                    <a:pt x="55" y="866"/>
                  </a:lnTo>
                  <a:lnTo>
                    <a:pt x="59" y="869"/>
                  </a:lnTo>
                  <a:lnTo>
                    <a:pt x="64" y="871"/>
                  </a:lnTo>
                  <a:lnTo>
                    <a:pt x="68" y="872"/>
                  </a:lnTo>
                  <a:lnTo>
                    <a:pt x="72" y="874"/>
                  </a:lnTo>
                  <a:lnTo>
                    <a:pt x="77" y="876"/>
                  </a:lnTo>
                  <a:lnTo>
                    <a:pt x="81" y="880"/>
                  </a:lnTo>
                  <a:lnTo>
                    <a:pt x="83" y="883"/>
                  </a:lnTo>
                  <a:lnTo>
                    <a:pt x="84" y="884"/>
                  </a:lnTo>
                  <a:lnTo>
                    <a:pt x="84" y="886"/>
                  </a:lnTo>
                  <a:lnTo>
                    <a:pt x="85" y="888"/>
                  </a:lnTo>
                  <a:lnTo>
                    <a:pt x="85" y="891"/>
                  </a:lnTo>
                  <a:lnTo>
                    <a:pt x="85" y="894"/>
                  </a:lnTo>
                  <a:lnTo>
                    <a:pt x="85" y="896"/>
                  </a:lnTo>
                  <a:lnTo>
                    <a:pt x="85" y="898"/>
                  </a:lnTo>
                  <a:lnTo>
                    <a:pt x="86" y="900"/>
                  </a:lnTo>
                  <a:lnTo>
                    <a:pt x="86" y="900"/>
                  </a:lnTo>
                  <a:lnTo>
                    <a:pt x="86" y="900"/>
                  </a:lnTo>
                  <a:lnTo>
                    <a:pt x="87" y="900"/>
                  </a:lnTo>
                  <a:lnTo>
                    <a:pt x="87" y="900"/>
                  </a:lnTo>
                  <a:lnTo>
                    <a:pt x="88" y="900"/>
                  </a:lnTo>
                  <a:lnTo>
                    <a:pt x="90" y="900"/>
                  </a:lnTo>
                  <a:lnTo>
                    <a:pt x="90" y="900"/>
                  </a:lnTo>
                  <a:lnTo>
                    <a:pt x="91" y="900"/>
                  </a:lnTo>
                  <a:lnTo>
                    <a:pt x="91" y="902"/>
                  </a:lnTo>
                  <a:lnTo>
                    <a:pt x="91" y="905"/>
                  </a:lnTo>
                  <a:lnTo>
                    <a:pt x="91" y="908"/>
                  </a:lnTo>
                  <a:lnTo>
                    <a:pt x="91" y="911"/>
                  </a:lnTo>
                  <a:lnTo>
                    <a:pt x="91" y="913"/>
                  </a:lnTo>
                  <a:lnTo>
                    <a:pt x="91" y="916"/>
                  </a:lnTo>
                  <a:lnTo>
                    <a:pt x="92" y="920"/>
                  </a:lnTo>
                  <a:lnTo>
                    <a:pt x="94" y="922"/>
                  </a:lnTo>
                  <a:lnTo>
                    <a:pt x="93" y="922"/>
                  </a:lnTo>
                  <a:lnTo>
                    <a:pt x="92" y="923"/>
                  </a:lnTo>
                  <a:lnTo>
                    <a:pt x="91" y="923"/>
                  </a:lnTo>
                  <a:lnTo>
                    <a:pt x="90" y="923"/>
                  </a:lnTo>
                  <a:lnTo>
                    <a:pt x="90" y="924"/>
                  </a:lnTo>
                  <a:lnTo>
                    <a:pt x="88" y="924"/>
                  </a:lnTo>
                  <a:lnTo>
                    <a:pt x="88" y="924"/>
                  </a:lnTo>
                  <a:lnTo>
                    <a:pt x="88" y="924"/>
                  </a:lnTo>
                  <a:lnTo>
                    <a:pt x="88" y="927"/>
                  </a:lnTo>
                  <a:lnTo>
                    <a:pt x="91" y="928"/>
                  </a:lnTo>
                  <a:lnTo>
                    <a:pt x="92" y="930"/>
                  </a:lnTo>
                  <a:lnTo>
                    <a:pt x="94" y="931"/>
                  </a:lnTo>
                  <a:lnTo>
                    <a:pt x="96" y="932"/>
                  </a:lnTo>
                  <a:lnTo>
                    <a:pt x="99" y="932"/>
                  </a:lnTo>
                  <a:lnTo>
                    <a:pt x="101" y="934"/>
                  </a:lnTo>
                  <a:lnTo>
                    <a:pt x="104" y="935"/>
                  </a:lnTo>
                  <a:lnTo>
                    <a:pt x="105" y="935"/>
                  </a:lnTo>
                  <a:lnTo>
                    <a:pt x="105" y="935"/>
                  </a:lnTo>
                  <a:lnTo>
                    <a:pt x="106" y="936"/>
                  </a:lnTo>
                  <a:lnTo>
                    <a:pt x="106" y="937"/>
                  </a:lnTo>
                  <a:lnTo>
                    <a:pt x="107" y="938"/>
                  </a:lnTo>
                  <a:lnTo>
                    <a:pt x="108" y="939"/>
                  </a:lnTo>
                  <a:lnTo>
                    <a:pt x="109" y="941"/>
                  </a:lnTo>
                  <a:lnTo>
                    <a:pt x="111" y="941"/>
                  </a:lnTo>
                  <a:lnTo>
                    <a:pt x="112" y="943"/>
                  </a:lnTo>
                  <a:lnTo>
                    <a:pt x="114" y="948"/>
                  </a:lnTo>
                  <a:lnTo>
                    <a:pt x="117" y="952"/>
                  </a:lnTo>
                  <a:lnTo>
                    <a:pt x="118" y="957"/>
                  </a:lnTo>
                  <a:lnTo>
                    <a:pt x="120" y="963"/>
                  </a:lnTo>
                  <a:lnTo>
                    <a:pt x="121" y="967"/>
                  </a:lnTo>
                  <a:lnTo>
                    <a:pt x="122" y="970"/>
                  </a:lnTo>
                  <a:lnTo>
                    <a:pt x="123" y="971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5727600" y="2305080"/>
              <a:ext cx="111240" cy="28440"/>
            </a:xfrm>
            <a:custGeom>
              <a:avLst/>
              <a:gdLst/>
              <a:ahLst/>
              <a:rect l="l" t="t" r="r" b="b"/>
              <a:pathLst>
                <a:path w="352" h="90">
                  <a:moveTo>
                    <a:pt x="345" y="1"/>
                  </a:moveTo>
                  <a:lnTo>
                    <a:pt x="346" y="0"/>
                  </a:lnTo>
                  <a:lnTo>
                    <a:pt x="347" y="0"/>
                  </a:lnTo>
                  <a:lnTo>
                    <a:pt x="348" y="0"/>
                  </a:lnTo>
                  <a:lnTo>
                    <a:pt x="349" y="0"/>
                  </a:lnTo>
                  <a:lnTo>
                    <a:pt x="350" y="0"/>
                  </a:lnTo>
                  <a:lnTo>
                    <a:pt x="351" y="1"/>
                  </a:lnTo>
                  <a:lnTo>
                    <a:pt x="351" y="1"/>
                  </a:lnTo>
                  <a:lnTo>
                    <a:pt x="352" y="1"/>
                  </a:lnTo>
                  <a:lnTo>
                    <a:pt x="349" y="4"/>
                  </a:lnTo>
                  <a:lnTo>
                    <a:pt x="342" y="8"/>
                  </a:lnTo>
                  <a:lnTo>
                    <a:pt x="334" y="13"/>
                  </a:lnTo>
                  <a:lnTo>
                    <a:pt x="322" y="21"/>
                  </a:lnTo>
                  <a:lnTo>
                    <a:pt x="309" y="28"/>
                  </a:lnTo>
                  <a:lnTo>
                    <a:pt x="295" y="37"/>
                  </a:lnTo>
                  <a:lnTo>
                    <a:pt x="281" y="48"/>
                  </a:lnTo>
                  <a:lnTo>
                    <a:pt x="268" y="58"/>
                  </a:lnTo>
                  <a:lnTo>
                    <a:pt x="261" y="63"/>
                  </a:lnTo>
                  <a:lnTo>
                    <a:pt x="254" y="67"/>
                  </a:lnTo>
                  <a:lnTo>
                    <a:pt x="246" y="72"/>
                  </a:lnTo>
                  <a:lnTo>
                    <a:pt x="238" y="75"/>
                  </a:lnTo>
                  <a:lnTo>
                    <a:pt x="220" y="81"/>
                  </a:lnTo>
                  <a:lnTo>
                    <a:pt x="202" y="86"/>
                  </a:lnTo>
                  <a:lnTo>
                    <a:pt x="183" y="89"/>
                  </a:lnTo>
                  <a:lnTo>
                    <a:pt x="163" y="90"/>
                  </a:lnTo>
                  <a:lnTo>
                    <a:pt x="143" y="90"/>
                  </a:lnTo>
                  <a:lnTo>
                    <a:pt x="122" y="88"/>
                  </a:lnTo>
                  <a:lnTo>
                    <a:pt x="112" y="86"/>
                  </a:lnTo>
                  <a:lnTo>
                    <a:pt x="102" y="84"/>
                  </a:lnTo>
                  <a:lnTo>
                    <a:pt x="92" y="80"/>
                  </a:lnTo>
                  <a:lnTo>
                    <a:pt x="81" y="76"/>
                  </a:lnTo>
                  <a:lnTo>
                    <a:pt x="60" y="67"/>
                  </a:lnTo>
                  <a:lnTo>
                    <a:pt x="42" y="57"/>
                  </a:lnTo>
                  <a:lnTo>
                    <a:pt x="25" y="45"/>
                  </a:lnTo>
                  <a:lnTo>
                    <a:pt x="12" y="34"/>
                  </a:lnTo>
                  <a:lnTo>
                    <a:pt x="8" y="28"/>
                  </a:lnTo>
                  <a:lnTo>
                    <a:pt x="4" y="23"/>
                  </a:lnTo>
                  <a:lnTo>
                    <a:pt x="1" y="18"/>
                  </a:lnTo>
                  <a:lnTo>
                    <a:pt x="1" y="13"/>
                  </a:lnTo>
                  <a:lnTo>
                    <a:pt x="1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9"/>
                  </a:lnTo>
                  <a:lnTo>
                    <a:pt x="2" y="12"/>
                  </a:lnTo>
                  <a:lnTo>
                    <a:pt x="4" y="15"/>
                  </a:lnTo>
                  <a:lnTo>
                    <a:pt x="9" y="19"/>
                  </a:lnTo>
                  <a:lnTo>
                    <a:pt x="11" y="21"/>
                  </a:lnTo>
                  <a:lnTo>
                    <a:pt x="19" y="28"/>
                  </a:lnTo>
                  <a:lnTo>
                    <a:pt x="32" y="39"/>
                  </a:lnTo>
                  <a:lnTo>
                    <a:pt x="50" y="51"/>
                  </a:lnTo>
                  <a:lnTo>
                    <a:pt x="60" y="57"/>
                  </a:lnTo>
                  <a:lnTo>
                    <a:pt x="72" y="63"/>
                  </a:lnTo>
                  <a:lnTo>
                    <a:pt x="84" y="68"/>
                  </a:lnTo>
                  <a:lnTo>
                    <a:pt x="98" y="73"/>
                  </a:lnTo>
                  <a:lnTo>
                    <a:pt x="112" y="77"/>
                  </a:lnTo>
                  <a:lnTo>
                    <a:pt x="127" y="80"/>
                  </a:lnTo>
                  <a:lnTo>
                    <a:pt x="143" y="82"/>
                  </a:lnTo>
                  <a:lnTo>
                    <a:pt x="159" y="82"/>
                  </a:lnTo>
                  <a:lnTo>
                    <a:pt x="176" y="82"/>
                  </a:lnTo>
                  <a:lnTo>
                    <a:pt x="192" y="80"/>
                  </a:lnTo>
                  <a:lnTo>
                    <a:pt x="207" y="77"/>
                  </a:lnTo>
                  <a:lnTo>
                    <a:pt x="224" y="73"/>
                  </a:lnTo>
                  <a:lnTo>
                    <a:pt x="238" y="68"/>
                  </a:lnTo>
                  <a:lnTo>
                    <a:pt x="252" y="62"/>
                  </a:lnTo>
                  <a:lnTo>
                    <a:pt x="266" y="57"/>
                  </a:lnTo>
                  <a:lnTo>
                    <a:pt x="279" y="49"/>
                  </a:lnTo>
                  <a:lnTo>
                    <a:pt x="301" y="36"/>
                  </a:lnTo>
                  <a:lnTo>
                    <a:pt x="321" y="22"/>
                  </a:lnTo>
                  <a:lnTo>
                    <a:pt x="335" y="10"/>
                  </a:lnTo>
                  <a:lnTo>
                    <a:pt x="345" y="1"/>
                  </a:lnTo>
                  <a:close/>
                </a:path>
              </a:pathLst>
            </a:custGeom>
            <a:solidFill>
              <a:srgbClr val="9371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5168880" y="2627280"/>
              <a:ext cx="260280" cy="200160"/>
            </a:xfrm>
            <a:custGeom>
              <a:avLst/>
              <a:gdLst/>
              <a:ahLst/>
              <a:rect l="l" t="t" r="r" b="b"/>
              <a:pathLst>
                <a:path w="820" h="633">
                  <a:moveTo>
                    <a:pt x="602" y="566"/>
                  </a:moveTo>
                  <a:lnTo>
                    <a:pt x="564" y="557"/>
                  </a:lnTo>
                  <a:lnTo>
                    <a:pt x="522" y="548"/>
                  </a:lnTo>
                  <a:lnTo>
                    <a:pt x="477" y="539"/>
                  </a:lnTo>
                  <a:lnTo>
                    <a:pt x="428" y="532"/>
                  </a:lnTo>
                  <a:lnTo>
                    <a:pt x="378" y="524"/>
                  </a:lnTo>
                  <a:lnTo>
                    <a:pt x="329" y="518"/>
                  </a:lnTo>
                  <a:lnTo>
                    <a:pt x="279" y="512"/>
                  </a:lnTo>
                  <a:lnTo>
                    <a:pt x="230" y="508"/>
                  </a:lnTo>
                  <a:lnTo>
                    <a:pt x="142" y="499"/>
                  </a:lnTo>
                  <a:lnTo>
                    <a:pt x="68" y="494"/>
                  </a:lnTo>
                  <a:lnTo>
                    <a:pt x="19" y="491"/>
                  </a:lnTo>
                  <a:lnTo>
                    <a:pt x="0" y="490"/>
                  </a:lnTo>
                  <a:lnTo>
                    <a:pt x="3" y="485"/>
                  </a:lnTo>
                  <a:lnTo>
                    <a:pt x="8" y="473"/>
                  </a:lnTo>
                  <a:lnTo>
                    <a:pt x="13" y="455"/>
                  </a:lnTo>
                  <a:lnTo>
                    <a:pt x="20" y="430"/>
                  </a:lnTo>
                  <a:lnTo>
                    <a:pt x="23" y="415"/>
                  </a:lnTo>
                  <a:lnTo>
                    <a:pt x="26" y="399"/>
                  </a:lnTo>
                  <a:lnTo>
                    <a:pt x="27" y="382"/>
                  </a:lnTo>
                  <a:lnTo>
                    <a:pt x="28" y="362"/>
                  </a:lnTo>
                  <a:lnTo>
                    <a:pt x="30" y="343"/>
                  </a:lnTo>
                  <a:lnTo>
                    <a:pt x="28" y="322"/>
                  </a:lnTo>
                  <a:lnTo>
                    <a:pt x="26" y="299"/>
                  </a:lnTo>
                  <a:lnTo>
                    <a:pt x="23" y="277"/>
                  </a:lnTo>
                  <a:lnTo>
                    <a:pt x="20" y="255"/>
                  </a:lnTo>
                  <a:lnTo>
                    <a:pt x="19" y="234"/>
                  </a:lnTo>
                  <a:lnTo>
                    <a:pt x="20" y="212"/>
                  </a:lnTo>
                  <a:lnTo>
                    <a:pt x="23" y="193"/>
                  </a:lnTo>
                  <a:lnTo>
                    <a:pt x="26" y="173"/>
                  </a:lnTo>
                  <a:lnTo>
                    <a:pt x="32" y="154"/>
                  </a:lnTo>
                  <a:lnTo>
                    <a:pt x="37" y="135"/>
                  </a:lnTo>
                  <a:lnTo>
                    <a:pt x="44" y="118"/>
                  </a:lnTo>
                  <a:lnTo>
                    <a:pt x="57" y="86"/>
                  </a:lnTo>
                  <a:lnTo>
                    <a:pt x="68" y="54"/>
                  </a:lnTo>
                  <a:lnTo>
                    <a:pt x="73" y="40"/>
                  </a:lnTo>
                  <a:lnTo>
                    <a:pt x="77" y="26"/>
                  </a:lnTo>
                  <a:lnTo>
                    <a:pt x="79" y="13"/>
                  </a:lnTo>
                  <a:lnTo>
                    <a:pt x="80" y="0"/>
                  </a:lnTo>
                  <a:lnTo>
                    <a:pt x="104" y="5"/>
                  </a:lnTo>
                  <a:lnTo>
                    <a:pt x="167" y="17"/>
                  </a:lnTo>
                  <a:lnTo>
                    <a:pt x="210" y="25"/>
                  </a:lnTo>
                  <a:lnTo>
                    <a:pt x="259" y="35"/>
                  </a:lnTo>
                  <a:lnTo>
                    <a:pt x="312" y="48"/>
                  </a:lnTo>
                  <a:lnTo>
                    <a:pt x="368" y="62"/>
                  </a:lnTo>
                  <a:lnTo>
                    <a:pt x="425" y="77"/>
                  </a:lnTo>
                  <a:lnTo>
                    <a:pt x="482" y="93"/>
                  </a:lnTo>
                  <a:lnTo>
                    <a:pt x="510" y="103"/>
                  </a:lnTo>
                  <a:lnTo>
                    <a:pt x="538" y="112"/>
                  </a:lnTo>
                  <a:lnTo>
                    <a:pt x="565" y="121"/>
                  </a:lnTo>
                  <a:lnTo>
                    <a:pt x="591" y="132"/>
                  </a:lnTo>
                  <a:lnTo>
                    <a:pt x="616" y="142"/>
                  </a:lnTo>
                  <a:lnTo>
                    <a:pt x="640" y="153"/>
                  </a:lnTo>
                  <a:lnTo>
                    <a:pt x="663" y="163"/>
                  </a:lnTo>
                  <a:lnTo>
                    <a:pt x="683" y="175"/>
                  </a:lnTo>
                  <a:lnTo>
                    <a:pt x="703" y="186"/>
                  </a:lnTo>
                  <a:lnTo>
                    <a:pt x="720" y="198"/>
                  </a:lnTo>
                  <a:lnTo>
                    <a:pt x="735" y="210"/>
                  </a:lnTo>
                  <a:lnTo>
                    <a:pt x="748" y="223"/>
                  </a:lnTo>
                  <a:lnTo>
                    <a:pt x="759" y="236"/>
                  </a:lnTo>
                  <a:lnTo>
                    <a:pt x="768" y="250"/>
                  </a:lnTo>
                  <a:lnTo>
                    <a:pt x="777" y="264"/>
                  </a:lnTo>
                  <a:lnTo>
                    <a:pt x="785" y="279"/>
                  </a:lnTo>
                  <a:lnTo>
                    <a:pt x="791" y="294"/>
                  </a:lnTo>
                  <a:lnTo>
                    <a:pt x="798" y="310"/>
                  </a:lnTo>
                  <a:lnTo>
                    <a:pt x="803" y="326"/>
                  </a:lnTo>
                  <a:lnTo>
                    <a:pt x="807" y="343"/>
                  </a:lnTo>
                  <a:lnTo>
                    <a:pt x="811" y="360"/>
                  </a:lnTo>
                  <a:lnTo>
                    <a:pt x="814" y="377"/>
                  </a:lnTo>
                  <a:lnTo>
                    <a:pt x="816" y="395"/>
                  </a:lnTo>
                  <a:lnTo>
                    <a:pt x="818" y="411"/>
                  </a:lnTo>
                  <a:lnTo>
                    <a:pt x="820" y="445"/>
                  </a:lnTo>
                  <a:lnTo>
                    <a:pt x="820" y="478"/>
                  </a:lnTo>
                  <a:lnTo>
                    <a:pt x="819" y="509"/>
                  </a:lnTo>
                  <a:lnTo>
                    <a:pt x="817" y="538"/>
                  </a:lnTo>
                  <a:lnTo>
                    <a:pt x="814" y="565"/>
                  </a:lnTo>
                  <a:lnTo>
                    <a:pt x="811" y="588"/>
                  </a:lnTo>
                  <a:lnTo>
                    <a:pt x="804" y="621"/>
                  </a:lnTo>
                  <a:lnTo>
                    <a:pt x="802" y="633"/>
                  </a:lnTo>
                  <a:lnTo>
                    <a:pt x="800" y="632"/>
                  </a:lnTo>
                  <a:lnTo>
                    <a:pt x="792" y="629"/>
                  </a:lnTo>
                  <a:lnTo>
                    <a:pt x="779" y="623"/>
                  </a:lnTo>
                  <a:lnTo>
                    <a:pt x="760" y="616"/>
                  </a:lnTo>
                  <a:lnTo>
                    <a:pt x="734" y="607"/>
                  </a:lnTo>
                  <a:lnTo>
                    <a:pt x="698" y="595"/>
                  </a:lnTo>
                  <a:lnTo>
                    <a:pt x="655" y="582"/>
                  </a:lnTo>
                  <a:lnTo>
                    <a:pt x="602" y="566"/>
                  </a:lnTo>
                  <a:close/>
                </a:path>
              </a:pathLst>
            </a:custGeom>
            <a:solidFill>
              <a:srgbClr val="6398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5256360" y="2500560"/>
              <a:ext cx="199800" cy="322200"/>
            </a:xfrm>
            <a:custGeom>
              <a:avLst/>
              <a:gdLst/>
              <a:ahLst/>
              <a:rect l="l" t="t" r="r" b="b"/>
              <a:pathLst>
                <a:path w="629" h="1016">
                  <a:moveTo>
                    <a:pt x="627" y="477"/>
                  </a:moveTo>
                  <a:lnTo>
                    <a:pt x="621" y="456"/>
                  </a:lnTo>
                  <a:lnTo>
                    <a:pt x="606" y="402"/>
                  </a:lnTo>
                  <a:lnTo>
                    <a:pt x="594" y="366"/>
                  </a:lnTo>
                  <a:lnTo>
                    <a:pt x="581" y="326"/>
                  </a:lnTo>
                  <a:lnTo>
                    <a:pt x="566" y="283"/>
                  </a:lnTo>
                  <a:lnTo>
                    <a:pt x="549" y="238"/>
                  </a:lnTo>
                  <a:lnTo>
                    <a:pt x="531" y="194"/>
                  </a:lnTo>
                  <a:lnTo>
                    <a:pt x="512" y="151"/>
                  </a:lnTo>
                  <a:lnTo>
                    <a:pt x="502" y="130"/>
                  </a:lnTo>
                  <a:lnTo>
                    <a:pt x="492" y="111"/>
                  </a:lnTo>
                  <a:lnTo>
                    <a:pt x="482" y="91"/>
                  </a:lnTo>
                  <a:lnTo>
                    <a:pt x="472" y="74"/>
                  </a:lnTo>
                  <a:lnTo>
                    <a:pt x="461" y="58"/>
                  </a:lnTo>
                  <a:lnTo>
                    <a:pt x="451" y="44"/>
                  </a:lnTo>
                  <a:lnTo>
                    <a:pt x="441" y="31"/>
                  </a:lnTo>
                  <a:lnTo>
                    <a:pt x="430" y="20"/>
                  </a:lnTo>
                  <a:lnTo>
                    <a:pt x="419" y="12"/>
                  </a:lnTo>
                  <a:lnTo>
                    <a:pt x="408" y="5"/>
                  </a:lnTo>
                  <a:lnTo>
                    <a:pt x="397" y="1"/>
                  </a:lnTo>
                  <a:lnTo>
                    <a:pt x="388" y="0"/>
                  </a:lnTo>
                  <a:lnTo>
                    <a:pt x="377" y="1"/>
                  </a:lnTo>
                  <a:lnTo>
                    <a:pt x="367" y="2"/>
                  </a:lnTo>
                  <a:lnTo>
                    <a:pt x="359" y="5"/>
                  </a:lnTo>
                  <a:lnTo>
                    <a:pt x="350" y="8"/>
                  </a:lnTo>
                  <a:lnTo>
                    <a:pt x="342" y="14"/>
                  </a:lnTo>
                  <a:lnTo>
                    <a:pt x="335" y="19"/>
                  </a:lnTo>
                  <a:lnTo>
                    <a:pt x="327" y="27"/>
                  </a:lnTo>
                  <a:lnTo>
                    <a:pt x="321" y="34"/>
                  </a:lnTo>
                  <a:lnTo>
                    <a:pt x="315" y="42"/>
                  </a:lnTo>
                  <a:lnTo>
                    <a:pt x="310" y="51"/>
                  </a:lnTo>
                  <a:lnTo>
                    <a:pt x="304" y="61"/>
                  </a:lnTo>
                  <a:lnTo>
                    <a:pt x="300" y="72"/>
                  </a:lnTo>
                  <a:lnTo>
                    <a:pt x="297" y="84"/>
                  </a:lnTo>
                  <a:lnTo>
                    <a:pt x="294" y="96"/>
                  </a:lnTo>
                  <a:lnTo>
                    <a:pt x="290" y="109"/>
                  </a:lnTo>
                  <a:lnTo>
                    <a:pt x="289" y="122"/>
                  </a:lnTo>
                  <a:lnTo>
                    <a:pt x="287" y="136"/>
                  </a:lnTo>
                  <a:lnTo>
                    <a:pt x="286" y="150"/>
                  </a:lnTo>
                  <a:lnTo>
                    <a:pt x="286" y="164"/>
                  </a:lnTo>
                  <a:lnTo>
                    <a:pt x="286" y="179"/>
                  </a:lnTo>
                  <a:lnTo>
                    <a:pt x="287" y="194"/>
                  </a:lnTo>
                  <a:lnTo>
                    <a:pt x="288" y="210"/>
                  </a:lnTo>
                  <a:lnTo>
                    <a:pt x="290" y="225"/>
                  </a:lnTo>
                  <a:lnTo>
                    <a:pt x="293" y="242"/>
                  </a:lnTo>
                  <a:lnTo>
                    <a:pt x="296" y="258"/>
                  </a:lnTo>
                  <a:lnTo>
                    <a:pt x="299" y="274"/>
                  </a:lnTo>
                  <a:lnTo>
                    <a:pt x="303" y="291"/>
                  </a:lnTo>
                  <a:lnTo>
                    <a:pt x="308" y="307"/>
                  </a:lnTo>
                  <a:lnTo>
                    <a:pt x="313" y="324"/>
                  </a:lnTo>
                  <a:lnTo>
                    <a:pt x="320" y="340"/>
                  </a:lnTo>
                  <a:lnTo>
                    <a:pt x="326" y="357"/>
                  </a:lnTo>
                  <a:lnTo>
                    <a:pt x="333" y="373"/>
                  </a:lnTo>
                  <a:lnTo>
                    <a:pt x="363" y="436"/>
                  </a:lnTo>
                  <a:lnTo>
                    <a:pt x="392" y="498"/>
                  </a:lnTo>
                  <a:lnTo>
                    <a:pt x="420" y="554"/>
                  </a:lnTo>
                  <a:lnTo>
                    <a:pt x="444" y="602"/>
                  </a:lnTo>
                  <a:lnTo>
                    <a:pt x="455" y="623"/>
                  </a:lnTo>
                  <a:lnTo>
                    <a:pt x="462" y="641"/>
                  </a:lnTo>
                  <a:lnTo>
                    <a:pt x="469" y="656"/>
                  </a:lnTo>
                  <a:lnTo>
                    <a:pt x="472" y="668"/>
                  </a:lnTo>
                  <a:lnTo>
                    <a:pt x="473" y="672"/>
                  </a:lnTo>
                  <a:lnTo>
                    <a:pt x="473" y="677"/>
                  </a:lnTo>
                  <a:lnTo>
                    <a:pt x="473" y="679"/>
                  </a:lnTo>
                  <a:lnTo>
                    <a:pt x="472" y="681"/>
                  </a:lnTo>
                  <a:lnTo>
                    <a:pt x="470" y="681"/>
                  </a:lnTo>
                  <a:lnTo>
                    <a:pt x="468" y="681"/>
                  </a:lnTo>
                  <a:lnTo>
                    <a:pt x="463" y="680"/>
                  </a:lnTo>
                  <a:lnTo>
                    <a:pt x="459" y="677"/>
                  </a:lnTo>
                  <a:lnTo>
                    <a:pt x="448" y="668"/>
                  </a:lnTo>
                  <a:lnTo>
                    <a:pt x="435" y="655"/>
                  </a:lnTo>
                  <a:lnTo>
                    <a:pt x="420" y="637"/>
                  </a:lnTo>
                  <a:lnTo>
                    <a:pt x="403" y="615"/>
                  </a:lnTo>
                  <a:lnTo>
                    <a:pt x="363" y="563"/>
                  </a:lnTo>
                  <a:lnTo>
                    <a:pt x="320" y="502"/>
                  </a:lnTo>
                  <a:lnTo>
                    <a:pt x="275" y="436"/>
                  </a:lnTo>
                  <a:lnTo>
                    <a:pt x="232" y="370"/>
                  </a:lnTo>
                  <a:lnTo>
                    <a:pt x="193" y="309"/>
                  </a:lnTo>
                  <a:lnTo>
                    <a:pt x="160" y="255"/>
                  </a:lnTo>
                  <a:lnTo>
                    <a:pt x="145" y="231"/>
                  </a:lnTo>
                  <a:lnTo>
                    <a:pt x="129" y="208"/>
                  </a:lnTo>
                  <a:lnTo>
                    <a:pt x="114" y="185"/>
                  </a:lnTo>
                  <a:lnTo>
                    <a:pt x="98" y="164"/>
                  </a:lnTo>
                  <a:lnTo>
                    <a:pt x="83" y="144"/>
                  </a:lnTo>
                  <a:lnTo>
                    <a:pt x="69" y="127"/>
                  </a:lnTo>
                  <a:lnTo>
                    <a:pt x="55" y="113"/>
                  </a:lnTo>
                  <a:lnTo>
                    <a:pt x="43" y="101"/>
                  </a:lnTo>
                  <a:lnTo>
                    <a:pt x="37" y="97"/>
                  </a:lnTo>
                  <a:lnTo>
                    <a:pt x="31" y="94"/>
                  </a:lnTo>
                  <a:lnTo>
                    <a:pt x="27" y="90"/>
                  </a:lnTo>
                  <a:lnTo>
                    <a:pt x="21" y="89"/>
                  </a:lnTo>
                  <a:lnTo>
                    <a:pt x="18" y="89"/>
                  </a:lnTo>
                  <a:lnTo>
                    <a:pt x="14" y="89"/>
                  </a:lnTo>
                  <a:lnTo>
                    <a:pt x="11" y="91"/>
                  </a:lnTo>
                  <a:lnTo>
                    <a:pt x="9" y="95"/>
                  </a:lnTo>
                  <a:lnTo>
                    <a:pt x="6" y="99"/>
                  </a:lnTo>
                  <a:lnTo>
                    <a:pt x="4" y="105"/>
                  </a:lnTo>
                  <a:lnTo>
                    <a:pt x="3" y="113"/>
                  </a:lnTo>
                  <a:lnTo>
                    <a:pt x="3" y="122"/>
                  </a:lnTo>
                  <a:lnTo>
                    <a:pt x="3" y="131"/>
                  </a:lnTo>
                  <a:lnTo>
                    <a:pt x="4" y="144"/>
                  </a:lnTo>
                  <a:lnTo>
                    <a:pt x="6" y="157"/>
                  </a:lnTo>
                  <a:lnTo>
                    <a:pt x="10" y="172"/>
                  </a:lnTo>
                  <a:lnTo>
                    <a:pt x="16" y="206"/>
                  </a:lnTo>
                  <a:lnTo>
                    <a:pt x="26" y="239"/>
                  </a:lnTo>
                  <a:lnTo>
                    <a:pt x="36" y="274"/>
                  </a:lnTo>
                  <a:lnTo>
                    <a:pt x="46" y="310"/>
                  </a:lnTo>
                  <a:lnTo>
                    <a:pt x="68" y="379"/>
                  </a:lnTo>
                  <a:lnTo>
                    <a:pt x="87" y="445"/>
                  </a:lnTo>
                  <a:lnTo>
                    <a:pt x="96" y="475"/>
                  </a:lnTo>
                  <a:lnTo>
                    <a:pt x="102" y="503"/>
                  </a:lnTo>
                  <a:lnTo>
                    <a:pt x="106" y="528"/>
                  </a:lnTo>
                  <a:lnTo>
                    <a:pt x="108" y="550"/>
                  </a:lnTo>
                  <a:lnTo>
                    <a:pt x="108" y="560"/>
                  </a:lnTo>
                  <a:lnTo>
                    <a:pt x="107" y="569"/>
                  </a:lnTo>
                  <a:lnTo>
                    <a:pt x="105" y="577"/>
                  </a:lnTo>
                  <a:lnTo>
                    <a:pt x="101" y="584"/>
                  </a:lnTo>
                  <a:lnTo>
                    <a:pt x="98" y="590"/>
                  </a:lnTo>
                  <a:lnTo>
                    <a:pt x="94" y="595"/>
                  </a:lnTo>
                  <a:lnTo>
                    <a:pt x="87" y="598"/>
                  </a:lnTo>
                  <a:lnTo>
                    <a:pt x="81" y="600"/>
                  </a:lnTo>
                  <a:lnTo>
                    <a:pt x="73" y="602"/>
                  </a:lnTo>
                  <a:lnTo>
                    <a:pt x="67" y="606"/>
                  </a:lnTo>
                  <a:lnTo>
                    <a:pt x="60" y="610"/>
                  </a:lnTo>
                  <a:lnTo>
                    <a:pt x="54" y="614"/>
                  </a:lnTo>
                  <a:lnTo>
                    <a:pt x="47" y="620"/>
                  </a:lnTo>
                  <a:lnTo>
                    <a:pt x="41" y="625"/>
                  </a:lnTo>
                  <a:lnTo>
                    <a:pt x="36" y="631"/>
                  </a:lnTo>
                  <a:lnTo>
                    <a:pt x="30" y="639"/>
                  </a:lnTo>
                  <a:lnTo>
                    <a:pt x="20" y="654"/>
                  </a:lnTo>
                  <a:lnTo>
                    <a:pt x="12" y="671"/>
                  </a:lnTo>
                  <a:lnTo>
                    <a:pt x="9" y="680"/>
                  </a:lnTo>
                  <a:lnTo>
                    <a:pt x="5" y="689"/>
                  </a:lnTo>
                  <a:lnTo>
                    <a:pt x="3" y="698"/>
                  </a:lnTo>
                  <a:lnTo>
                    <a:pt x="1" y="707"/>
                  </a:lnTo>
                  <a:lnTo>
                    <a:pt x="0" y="716"/>
                  </a:lnTo>
                  <a:lnTo>
                    <a:pt x="0" y="724"/>
                  </a:lnTo>
                  <a:lnTo>
                    <a:pt x="0" y="733"/>
                  </a:lnTo>
                  <a:lnTo>
                    <a:pt x="1" y="742"/>
                  </a:lnTo>
                  <a:lnTo>
                    <a:pt x="2" y="750"/>
                  </a:lnTo>
                  <a:lnTo>
                    <a:pt x="4" y="758"/>
                  </a:lnTo>
                  <a:lnTo>
                    <a:pt x="7" y="765"/>
                  </a:lnTo>
                  <a:lnTo>
                    <a:pt x="12" y="772"/>
                  </a:lnTo>
                  <a:lnTo>
                    <a:pt x="16" y="778"/>
                  </a:lnTo>
                  <a:lnTo>
                    <a:pt x="23" y="784"/>
                  </a:lnTo>
                  <a:lnTo>
                    <a:pt x="29" y="789"/>
                  </a:lnTo>
                  <a:lnTo>
                    <a:pt x="37" y="792"/>
                  </a:lnTo>
                  <a:lnTo>
                    <a:pt x="44" y="796"/>
                  </a:lnTo>
                  <a:lnTo>
                    <a:pt x="54" y="799"/>
                  </a:lnTo>
                  <a:lnTo>
                    <a:pt x="65" y="800"/>
                  </a:lnTo>
                  <a:lnTo>
                    <a:pt x="75" y="801"/>
                  </a:lnTo>
                  <a:lnTo>
                    <a:pt x="88" y="801"/>
                  </a:lnTo>
                  <a:lnTo>
                    <a:pt x="101" y="802"/>
                  </a:lnTo>
                  <a:lnTo>
                    <a:pt x="115" y="804"/>
                  </a:lnTo>
                  <a:lnTo>
                    <a:pt x="129" y="806"/>
                  </a:lnTo>
                  <a:lnTo>
                    <a:pt x="160" y="813"/>
                  </a:lnTo>
                  <a:lnTo>
                    <a:pt x="191" y="822"/>
                  </a:lnTo>
                  <a:lnTo>
                    <a:pt x="225" y="832"/>
                  </a:lnTo>
                  <a:lnTo>
                    <a:pt x="258" y="845"/>
                  </a:lnTo>
                  <a:lnTo>
                    <a:pt x="292" y="859"/>
                  </a:lnTo>
                  <a:lnTo>
                    <a:pt x="326" y="874"/>
                  </a:lnTo>
                  <a:lnTo>
                    <a:pt x="359" y="892"/>
                  </a:lnTo>
                  <a:lnTo>
                    <a:pt x="391" y="909"/>
                  </a:lnTo>
                  <a:lnTo>
                    <a:pt x="422" y="926"/>
                  </a:lnTo>
                  <a:lnTo>
                    <a:pt x="450" y="945"/>
                  </a:lnTo>
                  <a:lnTo>
                    <a:pt x="477" y="963"/>
                  </a:lnTo>
                  <a:lnTo>
                    <a:pt x="501" y="981"/>
                  </a:lnTo>
                  <a:lnTo>
                    <a:pt x="522" y="999"/>
                  </a:lnTo>
                  <a:lnTo>
                    <a:pt x="538" y="1016"/>
                  </a:lnTo>
                  <a:lnTo>
                    <a:pt x="543" y="1004"/>
                  </a:lnTo>
                  <a:lnTo>
                    <a:pt x="554" y="971"/>
                  </a:lnTo>
                  <a:lnTo>
                    <a:pt x="562" y="946"/>
                  </a:lnTo>
                  <a:lnTo>
                    <a:pt x="570" y="918"/>
                  </a:lnTo>
                  <a:lnTo>
                    <a:pt x="579" y="885"/>
                  </a:lnTo>
                  <a:lnTo>
                    <a:pt x="589" y="850"/>
                  </a:lnTo>
                  <a:lnTo>
                    <a:pt x="597" y="810"/>
                  </a:lnTo>
                  <a:lnTo>
                    <a:pt x="606" y="768"/>
                  </a:lnTo>
                  <a:lnTo>
                    <a:pt x="613" y="723"/>
                  </a:lnTo>
                  <a:lnTo>
                    <a:pt x="620" y="677"/>
                  </a:lnTo>
                  <a:lnTo>
                    <a:pt x="624" y="628"/>
                  </a:lnTo>
                  <a:lnTo>
                    <a:pt x="627" y="579"/>
                  </a:lnTo>
                  <a:lnTo>
                    <a:pt x="629" y="554"/>
                  </a:lnTo>
                  <a:lnTo>
                    <a:pt x="629" y="528"/>
                  </a:lnTo>
                  <a:lnTo>
                    <a:pt x="629" y="503"/>
                  </a:lnTo>
                  <a:lnTo>
                    <a:pt x="627" y="477"/>
                  </a:lnTo>
                  <a:close/>
                </a:path>
              </a:pathLst>
            </a:custGeom>
            <a:solidFill>
              <a:srgbClr val="6398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5270400" y="2519280"/>
              <a:ext cx="184320" cy="300240"/>
            </a:xfrm>
            <a:custGeom>
              <a:avLst/>
              <a:gdLst/>
              <a:ahLst/>
              <a:rect l="l" t="t" r="r" b="b"/>
              <a:pathLst>
                <a:path w="580" h="943">
                  <a:moveTo>
                    <a:pt x="357" y="1"/>
                  </a:moveTo>
                  <a:lnTo>
                    <a:pt x="366" y="4"/>
                  </a:lnTo>
                  <a:lnTo>
                    <a:pt x="376" y="9"/>
                  </a:lnTo>
                  <a:lnTo>
                    <a:pt x="386" y="17"/>
                  </a:lnTo>
                  <a:lnTo>
                    <a:pt x="395" y="26"/>
                  </a:lnTo>
                  <a:lnTo>
                    <a:pt x="405" y="37"/>
                  </a:lnTo>
                  <a:lnTo>
                    <a:pt x="415" y="51"/>
                  </a:lnTo>
                  <a:lnTo>
                    <a:pt x="425" y="65"/>
                  </a:lnTo>
                  <a:lnTo>
                    <a:pt x="434" y="81"/>
                  </a:lnTo>
                  <a:lnTo>
                    <a:pt x="454" y="117"/>
                  </a:lnTo>
                  <a:lnTo>
                    <a:pt x="472" y="157"/>
                  </a:lnTo>
                  <a:lnTo>
                    <a:pt x="489" y="198"/>
                  </a:lnTo>
                  <a:lnTo>
                    <a:pt x="506" y="241"/>
                  </a:lnTo>
                  <a:lnTo>
                    <a:pt x="522" y="283"/>
                  </a:lnTo>
                  <a:lnTo>
                    <a:pt x="536" y="325"/>
                  </a:lnTo>
                  <a:lnTo>
                    <a:pt x="548" y="363"/>
                  </a:lnTo>
                  <a:lnTo>
                    <a:pt x="559" y="398"/>
                  </a:lnTo>
                  <a:lnTo>
                    <a:pt x="574" y="449"/>
                  </a:lnTo>
                  <a:lnTo>
                    <a:pt x="579" y="468"/>
                  </a:lnTo>
                  <a:lnTo>
                    <a:pt x="580" y="513"/>
                  </a:lnTo>
                  <a:lnTo>
                    <a:pt x="579" y="558"/>
                  </a:lnTo>
                  <a:lnTo>
                    <a:pt x="577" y="602"/>
                  </a:lnTo>
                  <a:lnTo>
                    <a:pt x="573" y="645"/>
                  </a:lnTo>
                  <a:lnTo>
                    <a:pt x="566" y="686"/>
                  </a:lnTo>
                  <a:lnTo>
                    <a:pt x="560" y="725"/>
                  </a:lnTo>
                  <a:lnTo>
                    <a:pt x="552" y="762"/>
                  </a:lnTo>
                  <a:lnTo>
                    <a:pt x="545" y="796"/>
                  </a:lnTo>
                  <a:lnTo>
                    <a:pt x="528" y="857"/>
                  </a:lnTo>
                  <a:lnTo>
                    <a:pt x="514" y="903"/>
                  </a:lnTo>
                  <a:lnTo>
                    <a:pt x="505" y="932"/>
                  </a:lnTo>
                  <a:lnTo>
                    <a:pt x="500" y="943"/>
                  </a:lnTo>
                  <a:lnTo>
                    <a:pt x="484" y="926"/>
                  </a:lnTo>
                  <a:lnTo>
                    <a:pt x="466" y="909"/>
                  </a:lnTo>
                  <a:lnTo>
                    <a:pt x="444" y="891"/>
                  </a:lnTo>
                  <a:lnTo>
                    <a:pt x="420" y="874"/>
                  </a:lnTo>
                  <a:lnTo>
                    <a:pt x="394" y="857"/>
                  </a:lnTo>
                  <a:lnTo>
                    <a:pt x="367" y="840"/>
                  </a:lnTo>
                  <a:lnTo>
                    <a:pt x="339" y="823"/>
                  </a:lnTo>
                  <a:lnTo>
                    <a:pt x="309" y="808"/>
                  </a:lnTo>
                  <a:lnTo>
                    <a:pt x="279" y="793"/>
                  </a:lnTo>
                  <a:lnTo>
                    <a:pt x="249" y="780"/>
                  </a:lnTo>
                  <a:lnTo>
                    <a:pt x="218" y="768"/>
                  </a:lnTo>
                  <a:lnTo>
                    <a:pt x="188" y="757"/>
                  </a:lnTo>
                  <a:lnTo>
                    <a:pt x="159" y="748"/>
                  </a:lnTo>
                  <a:lnTo>
                    <a:pt x="130" y="741"/>
                  </a:lnTo>
                  <a:lnTo>
                    <a:pt x="103" y="736"/>
                  </a:lnTo>
                  <a:lnTo>
                    <a:pt x="78" y="733"/>
                  </a:lnTo>
                  <a:lnTo>
                    <a:pt x="67" y="732"/>
                  </a:lnTo>
                  <a:lnTo>
                    <a:pt x="56" y="729"/>
                  </a:lnTo>
                  <a:lnTo>
                    <a:pt x="48" y="727"/>
                  </a:lnTo>
                  <a:lnTo>
                    <a:pt x="39" y="724"/>
                  </a:lnTo>
                  <a:lnTo>
                    <a:pt x="31" y="720"/>
                  </a:lnTo>
                  <a:lnTo>
                    <a:pt x="25" y="715"/>
                  </a:lnTo>
                  <a:lnTo>
                    <a:pt x="20" y="710"/>
                  </a:lnTo>
                  <a:lnTo>
                    <a:pt x="15" y="705"/>
                  </a:lnTo>
                  <a:lnTo>
                    <a:pt x="11" y="699"/>
                  </a:lnTo>
                  <a:lnTo>
                    <a:pt x="8" y="693"/>
                  </a:lnTo>
                  <a:lnTo>
                    <a:pt x="4" y="685"/>
                  </a:lnTo>
                  <a:lnTo>
                    <a:pt x="2" y="679"/>
                  </a:lnTo>
                  <a:lnTo>
                    <a:pt x="1" y="671"/>
                  </a:lnTo>
                  <a:lnTo>
                    <a:pt x="0" y="663"/>
                  </a:lnTo>
                  <a:lnTo>
                    <a:pt x="0" y="656"/>
                  </a:lnTo>
                  <a:lnTo>
                    <a:pt x="1" y="648"/>
                  </a:lnTo>
                  <a:lnTo>
                    <a:pt x="3" y="633"/>
                  </a:lnTo>
                  <a:lnTo>
                    <a:pt x="9" y="618"/>
                  </a:lnTo>
                  <a:lnTo>
                    <a:pt x="15" y="604"/>
                  </a:lnTo>
                  <a:lnTo>
                    <a:pt x="24" y="591"/>
                  </a:lnTo>
                  <a:lnTo>
                    <a:pt x="29" y="585"/>
                  </a:lnTo>
                  <a:lnTo>
                    <a:pt x="34" y="579"/>
                  </a:lnTo>
                  <a:lnTo>
                    <a:pt x="40" y="574"/>
                  </a:lnTo>
                  <a:lnTo>
                    <a:pt x="45" y="570"/>
                  </a:lnTo>
                  <a:lnTo>
                    <a:pt x="52" y="565"/>
                  </a:lnTo>
                  <a:lnTo>
                    <a:pt x="58" y="562"/>
                  </a:lnTo>
                  <a:lnTo>
                    <a:pt x="65" y="559"/>
                  </a:lnTo>
                  <a:lnTo>
                    <a:pt x="72" y="558"/>
                  </a:lnTo>
                  <a:lnTo>
                    <a:pt x="79" y="555"/>
                  </a:lnTo>
                  <a:lnTo>
                    <a:pt x="85" y="552"/>
                  </a:lnTo>
                  <a:lnTo>
                    <a:pt x="91" y="548"/>
                  </a:lnTo>
                  <a:lnTo>
                    <a:pt x="94" y="543"/>
                  </a:lnTo>
                  <a:lnTo>
                    <a:pt x="98" y="537"/>
                  </a:lnTo>
                  <a:lnTo>
                    <a:pt x="101" y="531"/>
                  </a:lnTo>
                  <a:lnTo>
                    <a:pt x="103" y="523"/>
                  </a:lnTo>
                  <a:lnTo>
                    <a:pt x="104" y="514"/>
                  </a:lnTo>
                  <a:lnTo>
                    <a:pt x="104" y="506"/>
                  </a:lnTo>
                  <a:lnTo>
                    <a:pt x="104" y="496"/>
                  </a:lnTo>
                  <a:lnTo>
                    <a:pt x="103" y="486"/>
                  </a:lnTo>
                  <a:lnTo>
                    <a:pt x="101" y="476"/>
                  </a:lnTo>
                  <a:lnTo>
                    <a:pt x="96" y="452"/>
                  </a:lnTo>
                  <a:lnTo>
                    <a:pt x="91" y="426"/>
                  </a:lnTo>
                  <a:lnTo>
                    <a:pt x="74" y="370"/>
                  </a:lnTo>
                  <a:lnTo>
                    <a:pt x="54" y="308"/>
                  </a:lnTo>
                  <a:lnTo>
                    <a:pt x="34" y="246"/>
                  </a:lnTo>
                  <a:lnTo>
                    <a:pt x="15" y="182"/>
                  </a:lnTo>
                  <a:lnTo>
                    <a:pt x="9" y="154"/>
                  </a:lnTo>
                  <a:lnTo>
                    <a:pt x="5" y="132"/>
                  </a:lnTo>
                  <a:lnTo>
                    <a:pt x="5" y="123"/>
                  </a:lnTo>
                  <a:lnTo>
                    <a:pt x="5" y="116"/>
                  </a:lnTo>
                  <a:lnTo>
                    <a:pt x="7" y="111"/>
                  </a:lnTo>
                  <a:lnTo>
                    <a:pt x="8" y="105"/>
                  </a:lnTo>
                  <a:lnTo>
                    <a:pt x="10" y="103"/>
                  </a:lnTo>
                  <a:lnTo>
                    <a:pt x="13" y="101"/>
                  </a:lnTo>
                  <a:lnTo>
                    <a:pt x="16" y="100"/>
                  </a:lnTo>
                  <a:lnTo>
                    <a:pt x="20" y="101"/>
                  </a:lnTo>
                  <a:lnTo>
                    <a:pt x="24" y="102"/>
                  </a:lnTo>
                  <a:lnTo>
                    <a:pt x="29" y="104"/>
                  </a:lnTo>
                  <a:lnTo>
                    <a:pt x="35" y="108"/>
                  </a:lnTo>
                  <a:lnTo>
                    <a:pt x="40" y="113"/>
                  </a:lnTo>
                  <a:lnTo>
                    <a:pt x="52" y="123"/>
                  </a:lnTo>
                  <a:lnTo>
                    <a:pt x="66" y="139"/>
                  </a:lnTo>
                  <a:lnTo>
                    <a:pt x="80" y="155"/>
                  </a:lnTo>
                  <a:lnTo>
                    <a:pt x="95" y="174"/>
                  </a:lnTo>
                  <a:lnTo>
                    <a:pt x="110" y="196"/>
                  </a:lnTo>
                  <a:lnTo>
                    <a:pt x="126" y="219"/>
                  </a:lnTo>
                  <a:lnTo>
                    <a:pt x="142" y="241"/>
                  </a:lnTo>
                  <a:lnTo>
                    <a:pt x="157" y="266"/>
                  </a:lnTo>
                  <a:lnTo>
                    <a:pt x="188" y="318"/>
                  </a:lnTo>
                  <a:lnTo>
                    <a:pt x="225" y="375"/>
                  </a:lnTo>
                  <a:lnTo>
                    <a:pt x="264" y="435"/>
                  </a:lnTo>
                  <a:lnTo>
                    <a:pt x="305" y="493"/>
                  </a:lnTo>
                  <a:lnTo>
                    <a:pt x="344" y="546"/>
                  </a:lnTo>
                  <a:lnTo>
                    <a:pt x="379" y="592"/>
                  </a:lnTo>
                  <a:lnTo>
                    <a:pt x="395" y="612"/>
                  </a:lnTo>
                  <a:lnTo>
                    <a:pt x="409" y="628"/>
                  </a:lnTo>
                  <a:lnTo>
                    <a:pt x="422" y="640"/>
                  </a:lnTo>
                  <a:lnTo>
                    <a:pt x="433" y="648"/>
                  </a:lnTo>
                  <a:lnTo>
                    <a:pt x="438" y="651"/>
                  </a:lnTo>
                  <a:lnTo>
                    <a:pt x="441" y="653"/>
                  </a:lnTo>
                  <a:lnTo>
                    <a:pt x="444" y="652"/>
                  </a:lnTo>
                  <a:lnTo>
                    <a:pt x="445" y="651"/>
                  </a:lnTo>
                  <a:lnTo>
                    <a:pt x="446" y="648"/>
                  </a:lnTo>
                  <a:lnTo>
                    <a:pt x="446" y="645"/>
                  </a:lnTo>
                  <a:lnTo>
                    <a:pt x="446" y="641"/>
                  </a:lnTo>
                  <a:lnTo>
                    <a:pt x="445" y="634"/>
                  </a:lnTo>
                  <a:lnTo>
                    <a:pt x="441" y="621"/>
                  </a:lnTo>
                  <a:lnTo>
                    <a:pt x="434" y="604"/>
                  </a:lnTo>
                  <a:lnTo>
                    <a:pt x="427" y="584"/>
                  </a:lnTo>
                  <a:lnTo>
                    <a:pt x="416" y="560"/>
                  </a:lnTo>
                  <a:lnTo>
                    <a:pt x="392" y="507"/>
                  </a:lnTo>
                  <a:lnTo>
                    <a:pt x="364" y="446"/>
                  </a:lnTo>
                  <a:lnTo>
                    <a:pt x="335" y="383"/>
                  </a:lnTo>
                  <a:lnTo>
                    <a:pt x="305" y="318"/>
                  </a:lnTo>
                  <a:lnTo>
                    <a:pt x="293" y="290"/>
                  </a:lnTo>
                  <a:lnTo>
                    <a:pt x="283" y="261"/>
                  </a:lnTo>
                  <a:lnTo>
                    <a:pt x="276" y="231"/>
                  </a:lnTo>
                  <a:lnTo>
                    <a:pt x="269" y="203"/>
                  </a:lnTo>
                  <a:lnTo>
                    <a:pt x="266" y="175"/>
                  </a:lnTo>
                  <a:lnTo>
                    <a:pt x="264" y="147"/>
                  </a:lnTo>
                  <a:lnTo>
                    <a:pt x="264" y="121"/>
                  </a:lnTo>
                  <a:lnTo>
                    <a:pt x="266" y="98"/>
                  </a:lnTo>
                  <a:lnTo>
                    <a:pt x="268" y="86"/>
                  </a:lnTo>
                  <a:lnTo>
                    <a:pt x="270" y="75"/>
                  </a:lnTo>
                  <a:lnTo>
                    <a:pt x="273" y="64"/>
                  </a:lnTo>
                  <a:lnTo>
                    <a:pt x="277" y="54"/>
                  </a:lnTo>
                  <a:lnTo>
                    <a:pt x="280" y="46"/>
                  </a:lnTo>
                  <a:lnTo>
                    <a:pt x="285" y="37"/>
                  </a:lnTo>
                  <a:lnTo>
                    <a:pt x="290" y="30"/>
                  </a:lnTo>
                  <a:lnTo>
                    <a:pt x="295" y="22"/>
                  </a:lnTo>
                  <a:lnTo>
                    <a:pt x="301" y="17"/>
                  </a:lnTo>
                  <a:lnTo>
                    <a:pt x="308" y="11"/>
                  </a:lnTo>
                  <a:lnTo>
                    <a:pt x="314" y="7"/>
                  </a:lnTo>
                  <a:lnTo>
                    <a:pt x="322" y="4"/>
                  </a:lnTo>
                  <a:lnTo>
                    <a:pt x="330" y="1"/>
                  </a:lnTo>
                  <a:lnTo>
                    <a:pt x="338" y="0"/>
                  </a:lnTo>
                  <a:lnTo>
                    <a:pt x="347" y="0"/>
                  </a:lnTo>
                  <a:lnTo>
                    <a:pt x="357" y="1"/>
                  </a:lnTo>
                  <a:close/>
                </a:path>
              </a:pathLst>
            </a:custGeom>
            <a:solidFill>
              <a:srgbClr val="6195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5283000" y="2540160"/>
              <a:ext cx="169920" cy="274680"/>
            </a:xfrm>
            <a:custGeom>
              <a:avLst/>
              <a:gdLst/>
              <a:ahLst/>
              <a:rect l="l" t="t" r="r" b="b"/>
              <a:pathLst>
                <a:path w="532" h="867">
                  <a:moveTo>
                    <a:pt x="323" y="4"/>
                  </a:moveTo>
                  <a:lnTo>
                    <a:pt x="333" y="9"/>
                  </a:lnTo>
                  <a:lnTo>
                    <a:pt x="342" y="15"/>
                  </a:lnTo>
                  <a:lnTo>
                    <a:pt x="350" y="24"/>
                  </a:lnTo>
                  <a:lnTo>
                    <a:pt x="360" y="33"/>
                  </a:lnTo>
                  <a:lnTo>
                    <a:pt x="369" y="45"/>
                  </a:lnTo>
                  <a:lnTo>
                    <a:pt x="377" y="58"/>
                  </a:lnTo>
                  <a:lnTo>
                    <a:pt x="387" y="73"/>
                  </a:lnTo>
                  <a:lnTo>
                    <a:pt x="396" y="90"/>
                  </a:lnTo>
                  <a:lnTo>
                    <a:pt x="414" y="124"/>
                  </a:lnTo>
                  <a:lnTo>
                    <a:pt x="430" y="163"/>
                  </a:lnTo>
                  <a:lnTo>
                    <a:pt x="448" y="203"/>
                  </a:lnTo>
                  <a:lnTo>
                    <a:pt x="463" y="244"/>
                  </a:lnTo>
                  <a:lnTo>
                    <a:pt x="478" y="285"/>
                  </a:lnTo>
                  <a:lnTo>
                    <a:pt x="491" y="324"/>
                  </a:lnTo>
                  <a:lnTo>
                    <a:pt x="503" y="361"/>
                  </a:lnTo>
                  <a:lnTo>
                    <a:pt x="512" y="393"/>
                  </a:lnTo>
                  <a:lnTo>
                    <a:pt x="526" y="442"/>
                  </a:lnTo>
                  <a:lnTo>
                    <a:pt x="532" y="460"/>
                  </a:lnTo>
                  <a:lnTo>
                    <a:pt x="532" y="499"/>
                  </a:lnTo>
                  <a:lnTo>
                    <a:pt x="531" y="538"/>
                  </a:lnTo>
                  <a:lnTo>
                    <a:pt x="527" y="576"/>
                  </a:lnTo>
                  <a:lnTo>
                    <a:pt x="524" y="612"/>
                  </a:lnTo>
                  <a:lnTo>
                    <a:pt x="519" y="647"/>
                  </a:lnTo>
                  <a:lnTo>
                    <a:pt x="512" y="681"/>
                  </a:lnTo>
                  <a:lnTo>
                    <a:pt x="506" y="713"/>
                  </a:lnTo>
                  <a:lnTo>
                    <a:pt x="499" y="742"/>
                  </a:lnTo>
                  <a:lnTo>
                    <a:pt x="486" y="794"/>
                  </a:lnTo>
                  <a:lnTo>
                    <a:pt x="475" y="834"/>
                  </a:lnTo>
                  <a:lnTo>
                    <a:pt x="466" y="859"/>
                  </a:lnTo>
                  <a:lnTo>
                    <a:pt x="463" y="867"/>
                  </a:lnTo>
                  <a:lnTo>
                    <a:pt x="446" y="851"/>
                  </a:lnTo>
                  <a:lnTo>
                    <a:pt x="429" y="834"/>
                  </a:lnTo>
                  <a:lnTo>
                    <a:pt x="410" y="818"/>
                  </a:lnTo>
                  <a:lnTo>
                    <a:pt x="388" y="801"/>
                  </a:lnTo>
                  <a:lnTo>
                    <a:pt x="365" y="785"/>
                  </a:lnTo>
                  <a:lnTo>
                    <a:pt x="342" y="769"/>
                  </a:lnTo>
                  <a:lnTo>
                    <a:pt x="317" y="754"/>
                  </a:lnTo>
                  <a:lnTo>
                    <a:pt x="291" y="740"/>
                  </a:lnTo>
                  <a:lnTo>
                    <a:pt x="264" y="726"/>
                  </a:lnTo>
                  <a:lnTo>
                    <a:pt x="237" y="714"/>
                  </a:lnTo>
                  <a:lnTo>
                    <a:pt x="210" y="702"/>
                  </a:lnTo>
                  <a:lnTo>
                    <a:pt x="182" y="691"/>
                  </a:lnTo>
                  <a:lnTo>
                    <a:pt x="155" y="681"/>
                  </a:lnTo>
                  <a:lnTo>
                    <a:pt x="128" y="674"/>
                  </a:lnTo>
                  <a:lnTo>
                    <a:pt x="102" y="667"/>
                  </a:lnTo>
                  <a:lnTo>
                    <a:pt x="77" y="662"/>
                  </a:lnTo>
                  <a:lnTo>
                    <a:pt x="66" y="661"/>
                  </a:lnTo>
                  <a:lnTo>
                    <a:pt x="58" y="659"/>
                  </a:lnTo>
                  <a:lnTo>
                    <a:pt x="49" y="657"/>
                  </a:lnTo>
                  <a:lnTo>
                    <a:pt x="41" y="653"/>
                  </a:lnTo>
                  <a:lnTo>
                    <a:pt x="34" y="650"/>
                  </a:lnTo>
                  <a:lnTo>
                    <a:pt x="27" y="647"/>
                  </a:lnTo>
                  <a:lnTo>
                    <a:pt x="22" y="643"/>
                  </a:lnTo>
                  <a:lnTo>
                    <a:pt x="16" y="637"/>
                  </a:lnTo>
                  <a:lnTo>
                    <a:pt x="12" y="633"/>
                  </a:lnTo>
                  <a:lnTo>
                    <a:pt x="9" y="627"/>
                  </a:lnTo>
                  <a:lnTo>
                    <a:pt x="6" y="621"/>
                  </a:lnTo>
                  <a:lnTo>
                    <a:pt x="4" y="616"/>
                  </a:lnTo>
                  <a:lnTo>
                    <a:pt x="1" y="609"/>
                  </a:lnTo>
                  <a:lnTo>
                    <a:pt x="0" y="604"/>
                  </a:lnTo>
                  <a:lnTo>
                    <a:pt x="0" y="597"/>
                  </a:lnTo>
                  <a:lnTo>
                    <a:pt x="0" y="591"/>
                  </a:lnTo>
                  <a:lnTo>
                    <a:pt x="1" y="578"/>
                  </a:lnTo>
                  <a:lnTo>
                    <a:pt x="5" y="566"/>
                  </a:lnTo>
                  <a:lnTo>
                    <a:pt x="11" y="554"/>
                  </a:lnTo>
                  <a:lnTo>
                    <a:pt x="18" y="543"/>
                  </a:lnTo>
                  <a:lnTo>
                    <a:pt x="23" y="538"/>
                  </a:lnTo>
                  <a:lnTo>
                    <a:pt x="27" y="534"/>
                  </a:lnTo>
                  <a:lnTo>
                    <a:pt x="33" y="529"/>
                  </a:lnTo>
                  <a:lnTo>
                    <a:pt x="38" y="525"/>
                  </a:lnTo>
                  <a:lnTo>
                    <a:pt x="45" y="522"/>
                  </a:lnTo>
                  <a:lnTo>
                    <a:pt x="50" y="518"/>
                  </a:lnTo>
                  <a:lnTo>
                    <a:pt x="58" y="516"/>
                  </a:lnTo>
                  <a:lnTo>
                    <a:pt x="64" y="514"/>
                  </a:lnTo>
                  <a:lnTo>
                    <a:pt x="72" y="512"/>
                  </a:lnTo>
                  <a:lnTo>
                    <a:pt x="77" y="510"/>
                  </a:lnTo>
                  <a:lnTo>
                    <a:pt x="82" y="507"/>
                  </a:lnTo>
                  <a:lnTo>
                    <a:pt x="88" y="502"/>
                  </a:lnTo>
                  <a:lnTo>
                    <a:pt x="91" y="498"/>
                  </a:lnTo>
                  <a:lnTo>
                    <a:pt x="94" y="492"/>
                  </a:lnTo>
                  <a:lnTo>
                    <a:pt x="96" y="487"/>
                  </a:lnTo>
                  <a:lnTo>
                    <a:pt x="99" y="481"/>
                  </a:lnTo>
                  <a:lnTo>
                    <a:pt x="100" y="473"/>
                  </a:lnTo>
                  <a:lnTo>
                    <a:pt x="101" y="465"/>
                  </a:lnTo>
                  <a:lnTo>
                    <a:pt x="101" y="458"/>
                  </a:lnTo>
                  <a:lnTo>
                    <a:pt x="100" y="448"/>
                  </a:lnTo>
                  <a:lnTo>
                    <a:pt x="98" y="430"/>
                  </a:lnTo>
                  <a:lnTo>
                    <a:pt x="93" y="408"/>
                  </a:lnTo>
                  <a:lnTo>
                    <a:pt x="88" y="386"/>
                  </a:lnTo>
                  <a:lnTo>
                    <a:pt x="80" y="362"/>
                  </a:lnTo>
                  <a:lnTo>
                    <a:pt x="72" y="336"/>
                  </a:lnTo>
                  <a:lnTo>
                    <a:pt x="63" y="309"/>
                  </a:lnTo>
                  <a:lnTo>
                    <a:pt x="42" y="251"/>
                  </a:lnTo>
                  <a:lnTo>
                    <a:pt x="22" y="190"/>
                  </a:lnTo>
                  <a:lnTo>
                    <a:pt x="13" y="163"/>
                  </a:lnTo>
                  <a:lnTo>
                    <a:pt x="9" y="141"/>
                  </a:lnTo>
                  <a:lnTo>
                    <a:pt x="8" y="134"/>
                  </a:lnTo>
                  <a:lnTo>
                    <a:pt x="8" y="126"/>
                  </a:lnTo>
                  <a:lnTo>
                    <a:pt x="8" y="121"/>
                  </a:lnTo>
                  <a:lnTo>
                    <a:pt x="9" y="117"/>
                  </a:lnTo>
                  <a:lnTo>
                    <a:pt x="10" y="113"/>
                  </a:lnTo>
                  <a:lnTo>
                    <a:pt x="13" y="112"/>
                  </a:lnTo>
                  <a:lnTo>
                    <a:pt x="15" y="111"/>
                  </a:lnTo>
                  <a:lnTo>
                    <a:pt x="20" y="112"/>
                  </a:lnTo>
                  <a:lnTo>
                    <a:pt x="23" y="113"/>
                  </a:lnTo>
                  <a:lnTo>
                    <a:pt x="28" y="117"/>
                  </a:lnTo>
                  <a:lnTo>
                    <a:pt x="33" y="120"/>
                  </a:lnTo>
                  <a:lnTo>
                    <a:pt x="38" y="124"/>
                  </a:lnTo>
                  <a:lnTo>
                    <a:pt x="50" y="135"/>
                  </a:lnTo>
                  <a:lnTo>
                    <a:pt x="64" y="150"/>
                  </a:lnTo>
                  <a:lnTo>
                    <a:pt x="78" y="166"/>
                  </a:lnTo>
                  <a:lnTo>
                    <a:pt x="93" y="186"/>
                  </a:lnTo>
                  <a:lnTo>
                    <a:pt x="108" y="207"/>
                  </a:lnTo>
                  <a:lnTo>
                    <a:pt x="123" y="229"/>
                  </a:lnTo>
                  <a:lnTo>
                    <a:pt x="139" y="253"/>
                  </a:lnTo>
                  <a:lnTo>
                    <a:pt x="153" y="276"/>
                  </a:lnTo>
                  <a:lnTo>
                    <a:pt x="185" y="326"/>
                  </a:lnTo>
                  <a:lnTo>
                    <a:pt x="218" y="379"/>
                  </a:lnTo>
                  <a:lnTo>
                    <a:pt x="254" y="432"/>
                  </a:lnTo>
                  <a:lnTo>
                    <a:pt x="291" y="483"/>
                  </a:lnTo>
                  <a:lnTo>
                    <a:pt x="324" y="529"/>
                  </a:lnTo>
                  <a:lnTo>
                    <a:pt x="356" y="569"/>
                  </a:lnTo>
                  <a:lnTo>
                    <a:pt x="371" y="585"/>
                  </a:lnTo>
                  <a:lnTo>
                    <a:pt x="384" y="599"/>
                  </a:lnTo>
                  <a:lnTo>
                    <a:pt x="396" y="610"/>
                  </a:lnTo>
                  <a:lnTo>
                    <a:pt x="405" y="618"/>
                  </a:lnTo>
                  <a:lnTo>
                    <a:pt x="410" y="620"/>
                  </a:lnTo>
                  <a:lnTo>
                    <a:pt x="413" y="621"/>
                  </a:lnTo>
                  <a:lnTo>
                    <a:pt x="415" y="621"/>
                  </a:lnTo>
                  <a:lnTo>
                    <a:pt x="417" y="620"/>
                  </a:lnTo>
                  <a:lnTo>
                    <a:pt x="418" y="617"/>
                  </a:lnTo>
                  <a:lnTo>
                    <a:pt x="418" y="612"/>
                  </a:lnTo>
                  <a:lnTo>
                    <a:pt x="418" y="607"/>
                  </a:lnTo>
                  <a:lnTo>
                    <a:pt x="417" y="602"/>
                  </a:lnTo>
                  <a:lnTo>
                    <a:pt x="413" y="585"/>
                  </a:lnTo>
                  <a:lnTo>
                    <a:pt x="408" y="566"/>
                  </a:lnTo>
                  <a:lnTo>
                    <a:pt x="399" y="543"/>
                  </a:lnTo>
                  <a:lnTo>
                    <a:pt x="389" y="518"/>
                  </a:lnTo>
                  <a:lnTo>
                    <a:pt x="365" y="460"/>
                  </a:lnTo>
                  <a:lnTo>
                    <a:pt x="337" y="396"/>
                  </a:lnTo>
                  <a:lnTo>
                    <a:pt x="307" y="329"/>
                  </a:lnTo>
                  <a:lnTo>
                    <a:pt x="277" y="265"/>
                  </a:lnTo>
                  <a:lnTo>
                    <a:pt x="266" y="240"/>
                  </a:lnTo>
                  <a:lnTo>
                    <a:pt x="257" y="216"/>
                  </a:lnTo>
                  <a:lnTo>
                    <a:pt x="251" y="190"/>
                  </a:lnTo>
                  <a:lnTo>
                    <a:pt x="246" y="165"/>
                  </a:lnTo>
                  <a:lnTo>
                    <a:pt x="242" y="140"/>
                  </a:lnTo>
                  <a:lnTo>
                    <a:pt x="240" y="117"/>
                  </a:lnTo>
                  <a:lnTo>
                    <a:pt x="240" y="94"/>
                  </a:lnTo>
                  <a:lnTo>
                    <a:pt x="242" y="73"/>
                  </a:lnTo>
                  <a:lnTo>
                    <a:pt x="243" y="64"/>
                  </a:lnTo>
                  <a:lnTo>
                    <a:pt x="246" y="54"/>
                  </a:lnTo>
                  <a:lnTo>
                    <a:pt x="248" y="45"/>
                  </a:lnTo>
                  <a:lnTo>
                    <a:pt x="251" y="38"/>
                  </a:lnTo>
                  <a:lnTo>
                    <a:pt x="254" y="30"/>
                  </a:lnTo>
                  <a:lnTo>
                    <a:pt x="258" y="23"/>
                  </a:lnTo>
                  <a:lnTo>
                    <a:pt x="263" y="17"/>
                  </a:lnTo>
                  <a:lnTo>
                    <a:pt x="267" y="12"/>
                  </a:lnTo>
                  <a:lnTo>
                    <a:pt x="273" y="8"/>
                  </a:lnTo>
                  <a:lnTo>
                    <a:pt x="279" y="4"/>
                  </a:lnTo>
                  <a:lnTo>
                    <a:pt x="284" y="2"/>
                  </a:lnTo>
                  <a:lnTo>
                    <a:pt x="292" y="0"/>
                  </a:lnTo>
                  <a:lnTo>
                    <a:pt x="298" y="0"/>
                  </a:lnTo>
                  <a:lnTo>
                    <a:pt x="307" y="0"/>
                  </a:lnTo>
                  <a:lnTo>
                    <a:pt x="315" y="2"/>
                  </a:lnTo>
                  <a:lnTo>
                    <a:pt x="323" y="4"/>
                  </a:lnTo>
                  <a:close/>
                </a:path>
              </a:pathLst>
            </a:custGeom>
            <a:solidFill>
              <a:srgbClr val="5f90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5297400" y="2559240"/>
              <a:ext cx="154080" cy="252360"/>
            </a:xfrm>
            <a:custGeom>
              <a:avLst/>
              <a:gdLst/>
              <a:ahLst/>
              <a:rect l="l" t="t" r="r" b="b"/>
              <a:pathLst>
                <a:path w="483" h="799">
                  <a:moveTo>
                    <a:pt x="293" y="12"/>
                  </a:moveTo>
                  <a:lnTo>
                    <a:pt x="301" y="18"/>
                  </a:lnTo>
                  <a:lnTo>
                    <a:pt x="309" y="25"/>
                  </a:lnTo>
                  <a:lnTo>
                    <a:pt x="317" y="34"/>
                  </a:lnTo>
                  <a:lnTo>
                    <a:pt x="326" y="45"/>
                  </a:lnTo>
                  <a:lnTo>
                    <a:pt x="333" y="58"/>
                  </a:lnTo>
                  <a:lnTo>
                    <a:pt x="342" y="71"/>
                  </a:lnTo>
                  <a:lnTo>
                    <a:pt x="350" y="86"/>
                  </a:lnTo>
                  <a:lnTo>
                    <a:pt x="358" y="102"/>
                  </a:lnTo>
                  <a:lnTo>
                    <a:pt x="374" y="136"/>
                  </a:lnTo>
                  <a:lnTo>
                    <a:pt x="390" y="173"/>
                  </a:lnTo>
                  <a:lnTo>
                    <a:pt x="406" y="212"/>
                  </a:lnTo>
                  <a:lnTo>
                    <a:pt x="420" y="251"/>
                  </a:lnTo>
                  <a:lnTo>
                    <a:pt x="446" y="328"/>
                  </a:lnTo>
                  <a:lnTo>
                    <a:pt x="465" y="392"/>
                  </a:lnTo>
                  <a:lnTo>
                    <a:pt x="479" y="438"/>
                  </a:lnTo>
                  <a:lnTo>
                    <a:pt x="483" y="455"/>
                  </a:lnTo>
                  <a:lnTo>
                    <a:pt x="483" y="489"/>
                  </a:lnTo>
                  <a:lnTo>
                    <a:pt x="481" y="522"/>
                  </a:lnTo>
                  <a:lnTo>
                    <a:pt x="479" y="553"/>
                  </a:lnTo>
                  <a:lnTo>
                    <a:pt x="475" y="585"/>
                  </a:lnTo>
                  <a:lnTo>
                    <a:pt x="470" y="615"/>
                  </a:lnTo>
                  <a:lnTo>
                    <a:pt x="466" y="643"/>
                  </a:lnTo>
                  <a:lnTo>
                    <a:pt x="461" y="670"/>
                  </a:lnTo>
                  <a:lnTo>
                    <a:pt x="454" y="695"/>
                  </a:lnTo>
                  <a:lnTo>
                    <a:pt x="443" y="737"/>
                  </a:lnTo>
                  <a:lnTo>
                    <a:pt x="434" y="770"/>
                  </a:lnTo>
                  <a:lnTo>
                    <a:pt x="427" y="791"/>
                  </a:lnTo>
                  <a:lnTo>
                    <a:pt x="424" y="799"/>
                  </a:lnTo>
                  <a:lnTo>
                    <a:pt x="409" y="782"/>
                  </a:lnTo>
                  <a:lnTo>
                    <a:pt x="393" y="766"/>
                  </a:lnTo>
                  <a:lnTo>
                    <a:pt x="375" y="750"/>
                  </a:lnTo>
                  <a:lnTo>
                    <a:pt x="357" y="734"/>
                  </a:lnTo>
                  <a:lnTo>
                    <a:pt x="338" y="719"/>
                  </a:lnTo>
                  <a:lnTo>
                    <a:pt x="317" y="703"/>
                  </a:lnTo>
                  <a:lnTo>
                    <a:pt x="295" y="689"/>
                  </a:lnTo>
                  <a:lnTo>
                    <a:pt x="274" y="676"/>
                  </a:lnTo>
                  <a:lnTo>
                    <a:pt x="250" y="664"/>
                  </a:lnTo>
                  <a:lnTo>
                    <a:pt x="227" y="652"/>
                  </a:lnTo>
                  <a:lnTo>
                    <a:pt x="204" y="640"/>
                  </a:lnTo>
                  <a:lnTo>
                    <a:pt x="179" y="630"/>
                  </a:lnTo>
                  <a:lnTo>
                    <a:pt x="154" y="620"/>
                  </a:lnTo>
                  <a:lnTo>
                    <a:pt x="129" y="612"/>
                  </a:lnTo>
                  <a:lnTo>
                    <a:pt x="103" y="604"/>
                  </a:lnTo>
                  <a:lnTo>
                    <a:pt x="78" y="599"/>
                  </a:lnTo>
                  <a:lnTo>
                    <a:pt x="60" y="594"/>
                  </a:lnTo>
                  <a:lnTo>
                    <a:pt x="44" y="589"/>
                  </a:lnTo>
                  <a:lnTo>
                    <a:pt x="37" y="586"/>
                  </a:lnTo>
                  <a:lnTo>
                    <a:pt x="31" y="583"/>
                  </a:lnTo>
                  <a:lnTo>
                    <a:pt x="25" y="578"/>
                  </a:lnTo>
                  <a:lnTo>
                    <a:pt x="20" y="574"/>
                  </a:lnTo>
                  <a:lnTo>
                    <a:pt x="16" y="570"/>
                  </a:lnTo>
                  <a:lnTo>
                    <a:pt x="12" y="565"/>
                  </a:lnTo>
                  <a:lnTo>
                    <a:pt x="8" y="561"/>
                  </a:lnTo>
                  <a:lnTo>
                    <a:pt x="6" y="557"/>
                  </a:lnTo>
                  <a:lnTo>
                    <a:pt x="2" y="547"/>
                  </a:lnTo>
                  <a:lnTo>
                    <a:pt x="0" y="537"/>
                  </a:lnTo>
                  <a:lnTo>
                    <a:pt x="0" y="527"/>
                  </a:lnTo>
                  <a:lnTo>
                    <a:pt x="3" y="518"/>
                  </a:lnTo>
                  <a:lnTo>
                    <a:pt x="7" y="508"/>
                  </a:lnTo>
                  <a:lnTo>
                    <a:pt x="13" y="500"/>
                  </a:lnTo>
                  <a:lnTo>
                    <a:pt x="21" y="493"/>
                  </a:lnTo>
                  <a:lnTo>
                    <a:pt x="31" y="486"/>
                  </a:lnTo>
                  <a:lnTo>
                    <a:pt x="43" y="481"/>
                  </a:lnTo>
                  <a:lnTo>
                    <a:pt x="56" y="478"/>
                  </a:lnTo>
                  <a:lnTo>
                    <a:pt x="62" y="476"/>
                  </a:lnTo>
                  <a:lnTo>
                    <a:pt x="69" y="473"/>
                  </a:lnTo>
                  <a:lnTo>
                    <a:pt x="74" y="470"/>
                  </a:lnTo>
                  <a:lnTo>
                    <a:pt x="79" y="467"/>
                  </a:lnTo>
                  <a:lnTo>
                    <a:pt x="84" y="464"/>
                  </a:lnTo>
                  <a:lnTo>
                    <a:pt x="87" y="459"/>
                  </a:lnTo>
                  <a:lnTo>
                    <a:pt x="90" y="455"/>
                  </a:lnTo>
                  <a:lnTo>
                    <a:pt x="93" y="450"/>
                  </a:lnTo>
                  <a:lnTo>
                    <a:pt x="96" y="444"/>
                  </a:lnTo>
                  <a:lnTo>
                    <a:pt x="97" y="439"/>
                  </a:lnTo>
                  <a:lnTo>
                    <a:pt x="98" y="432"/>
                  </a:lnTo>
                  <a:lnTo>
                    <a:pt x="99" y="426"/>
                  </a:lnTo>
                  <a:lnTo>
                    <a:pt x="98" y="411"/>
                  </a:lnTo>
                  <a:lnTo>
                    <a:pt x="96" y="395"/>
                  </a:lnTo>
                  <a:lnTo>
                    <a:pt x="92" y="376"/>
                  </a:lnTo>
                  <a:lnTo>
                    <a:pt x="87" y="357"/>
                  </a:lnTo>
                  <a:lnTo>
                    <a:pt x="79" y="335"/>
                  </a:lnTo>
                  <a:lnTo>
                    <a:pt x="72" y="313"/>
                  </a:lnTo>
                  <a:lnTo>
                    <a:pt x="52" y="261"/>
                  </a:lnTo>
                  <a:lnTo>
                    <a:pt x="29" y="202"/>
                  </a:lnTo>
                  <a:lnTo>
                    <a:pt x="18" y="176"/>
                  </a:lnTo>
                  <a:lnTo>
                    <a:pt x="11" y="156"/>
                  </a:lnTo>
                  <a:lnTo>
                    <a:pt x="9" y="147"/>
                  </a:lnTo>
                  <a:lnTo>
                    <a:pt x="8" y="141"/>
                  </a:lnTo>
                  <a:lnTo>
                    <a:pt x="8" y="135"/>
                  </a:lnTo>
                  <a:lnTo>
                    <a:pt x="8" y="131"/>
                  </a:lnTo>
                  <a:lnTo>
                    <a:pt x="10" y="129"/>
                  </a:lnTo>
                  <a:lnTo>
                    <a:pt x="11" y="127"/>
                  </a:lnTo>
                  <a:lnTo>
                    <a:pt x="15" y="127"/>
                  </a:lnTo>
                  <a:lnTo>
                    <a:pt x="18" y="127"/>
                  </a:lnTo>
                  <a:lnTo>
                    <a:pt x="25" y="131"/>
                  </a:lnTo>
                  <a:lnTo>
                    <a:pt x="35" y="139"/>
                  </a:lnTo>
                  <a:lnTo>
                    <a:pt x="47" y="149"/>
                  </a:lnTo>
                  <a:lnTo>
                    <a:pt x="60" y="163"/>
                  </a:lnTo>
                  <a:lnTo>
                    <a:pt x="74" y="181"/>
                  </a:lnTo>
                  <a:lnTo>
                    <a:pt x="89" y="199"/>
                  </a:lnTo>
                  <a:lnTo>
                    <a:pt x="104" y="220"/>
                  </a:lnTo>
                  <a:lnTo>
                    <a:pt x="119" y="242"/>
                  </a:lnTo>
                  <a:lnTo>
                    <a:pt x="134" y="265"/>
                  </a:lnTo>
                  <a:lnTo>
                    <a:pt x="150" y="290"/>
                  </a:lnTo>
                  <a:lnTo>
                    <a:pt x="180" y="338"/>
                  </a:lnTo>
                  <a:lnTo>
                    <a:pt x="211" y="386"/>
                  </a:lnTo>
                  <a:lnTo>
                    <a:pt x="244" y="433"/>
                  </a:lnTo>
                  <a:lnTo>
                    <a:pt x="275" y="477"/>
                  </a:lnTo>
                  <a:lnTo>
                    <a:pt x="304" y="516"/>
                  </a:lnTo>
                  <a:lnTo>
                    <a:pt x="332" y="549"/>
                  </a:lnTo>
                  <a:lnTo>
                    <a:pt x="344" y="563"/>
                  </a:lnTo>
                  <a:lnTo>
                    <a:pt x="356" y="576"/>
                  </a:lnTo>
                  <a:lnTo>
                    <a:pt x="368" y="586"/>
                  </a:lnTo>
                  <a:lnTo>
                    <a:pt x="378" y="593"/>
                  </a:lnTo>
                  <a:lnTo>
                    <a:pt x="382" y="595"/>
                  </a:lnTo>
                  <a:lnTo>
                    <a:pt x="385" y="597"/>
                  </a:lnTo>
                  <a:lnTo>
                    <a:pt x="388" y="595"/>
                  </a:lnTo>
                  <a:lnTo>
                    <a:pt x="389" y="593"/>
                  </a:lnTo>
                  <a:lnTo>
                    <a:pt x="390" y="590"/>
                  </a:lnTo>
                  <a:lnTo>
                    <a:pt x="392" y="585"/>
                  </a:lnTo>
                  <a:lnTo>
                    <a:pt x="392" y="579"/>
                  </a:lnTo>
                  <a:lnTo>
                    <a:pt x="390" y="572"/>
                  </a:lnTo>
                  <a:lnTo>
                    <a:pt x="386" y="554"/>
                  </a:lnTo>
                  <a:lnTo>
                    <a:pt x="380" y="533"/>
                  </a:lnTo>
                  <a:lnTo>
                    <a:pt x="372" y="508"/>
                  </a:lnTo>
                  <a:lnTo>
                    <a:pt x="362" y="480"/>
                  </a:lnTo>
                  <a:lnTo>
                    <a:pt x="338" y="418"/>
                  </a:lnTo>
                  <a:lnTo>
                    <a:pt x="309" y="350"/>
                  </a:lnTo>
                  <a:lnTo>
                    <a:pt x="279" y="282"/>
                  </a:lnTo>
                  <a:lnTo>
                    <a:pt x="249" y="215"/>
                  </a:lnTo>
                  <a:lnTo>
                    <a:pt x="240" y="195"/>
                  </a:lnTo>
                  <a:lnTo>
                    <a:pt x="233" y="174"/>
                  </a:lnTo>
                  <a:lnTo>
                    <a:pt x="226" y="153"/>
                  </a:lnTo>
                  <a:lnTo>
                    <a:pt x="222" y="132"/>
                  </a:lnTo>
                  <a:lnTo>
                    <a:pt x="219" y="111"/>
                  </a:lnTo>
                  <a:lnTo>
                    <a:pt x="218" y="90"/>
                  </a:lnTo>
                  <a:lnTo>
                    <a:pt x="218" y="72"/>
                  </a:lnTo>
                  <a:lnTo>
                    <a:pt x="219" y="53"/>
                  </a:lnTo>
                  <a:lnTo>
                    <a:pt x="220" y="46"/>
                  </a:lnTo>
                  <a:lnTo>
                    <a:pt x="222" y="38"/>
                  </a:lnTo>
                  <a:lnTo>
                    <a:pt x="224" y="31"/>
                  </a:lnTo>
                  <a:lnTo>
                    <a:pt x="227" y="24"/>
                  </a:lnTo>
                  <a:lnTo>
                    <a:pt x="230" y="19"/>
                  </a:lnTo>
                  <a:lnTo>
                    <a:pt x="234" y="13"/>
                  </a:lnTo>
                  <a:lnTo>
                    <a:pt x="237" y="9"/>
                  </a:lnTo>
                  <a:lnTo>
                    <a:pt x="241" y="6"/>
                  </a:lnTo>
                  <a:lnTo>
                    <a:pt x="247" y="3"/>
                  </a:lnTo>
                  <a:lnTo>
                    <a:pt x="252" y="1"/>
                  </a:lnTo>
                  <a:lnTo>
                    <a:pt x="258" y="0"/>
                  </a:lnTo>
                  <a:lnTo>
                    <a:pt x="264" y="0"/>
                  </a:lnTo>
                  <a:lnTo>
                    <a:pt x="271" y="1"/>
                  </a:lnTo>
                  <a:lnTo>
                    <a:pt x="277" y="5"/>
                  </a:lnTo>
                  <a:lnTo>
                    <a:pt x="285" y="8"/>
                  </a:lnTo>
                  <a:lnTo>
                    <a:pt x="293" y="12"/>
                  </a:lnTo>
                  <a:close/>
                </a:path>
              </a:pathLst>
            </a:custGeom>
            <a:solidFill>
              <a:srgbClr val="5e8c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5310000" y="2576520"/>
              <a:ext cx="140040" cy="231840"/>
            </a:xfrm>
            <a:custGeom>
              <a:avLst/>
              <a:gdLst/>
              <a:ahLst/>
              <a:rect l="l" t="t" r="r" b="b"/>
              <a:pathLst>
                <a:path w="436" h="732">
                  <a:moveTo>
                    <a:pt x="261" y="22"/>
                  </a:moveTo>
                  <a:lnTo>
                    <a:pt x="269" y="29"/>
                  </a:lnTo>
                  <a:lnTo>
                    <a:pt x="275" y="37"/>
                  </a:lnTo>
                  <a:lnTo>
                    <a:pt x="283" y="47"/>
                  </a:lnTo>
                  <a:lnTo>
                    <a:pt x="290" y="59"/>
                  </a:lnTo>
                  <a:lnTo>
                    <a:pt x="304" y="86"/>
                  </a:lnTo>
                  <a:lnTo>
                    <a:pt x="319" y="116"/>
                  </a:lnTo>
                  <a:lnTo>
                    <a:pt x="334" y="150"/>
                  </a:lnTo>
                  <a:lnTo>
                    <a:pt x="350" y="186"/>
                  </a:lnTo>
                  <a:lnTo>
                    <a:pt x="364" y="223"/>
                  </a:lnTo>
                  <a:lnTo>
                    <a:pt x="377" y="261"/>
                  </a:lnTo>
                  <a:lnTo>
                    <a:pt x="400" y="333"/>
                  </a:lnTo>
                  <a:lnTo>
                    <a:pt x="420" y="394"/>
                  </a:lnTo>
                  <a:lnTo>
                    <a:pt x="432" y="436"/>
                  </a:lnTo>
                  <a:lnTo>
                    <a:pt x="436" y="452"/>
                  </a:lnTo>
                  <a:lnTo>
                    <a:pt x="436" y="480"/>
                  </a:lnTo>
                  <a:lnTo>
                    <a:pt x="434" y="507"/>
                  </a:lnTo>
                  <a:lnTo>
                    <a:pt x="432" y="534"/>
                  </a:lnTo>
                  <a:lnTo>
                    <a:pt x="428" y="559"/>
                  </a:lnTo>
                  <a:lnTo>
                    <a:pt x="421" y="606"/>
                  </a:lnTo>
                  <a:lnTo>
                    <a:pt x="412" y="648"/>
                  </a:lnTo>
                  <a:lnTo>
                    <a:pt x="404" y="683"/>
                  </a:lnTo>
                  <a:lnTo>
                    <a:pt x="396" y="709"/>
                  </a:lnTo>
                  <a:lnTo>
                    <a:pt x="392" y="725"/>
                  </a:lnTo>
                  <a:lnTo>
                    <a:pt x="390" y="732"/>
                  </a:lnTo>
                  <a:lnTo>
                    <a:pt x="374" y="714"/>
                  </a:lnTo>
                  <a:lnTo>
                    <a:pt x="359" y="699"/>
                  </a:lnTo>
                  <a:lnTo>
                    <a:pt x="343" y="684"/>
                  </a:lnTo>
                  <a:lnTo>
                    <a:pt x="327" y="669"/>
                  </a:lnTo>
                  <a:lnTo>
                    <a:pt x="311" y="655"/>
                  </a:lnTo>
                  <a:lnTo>
                    <a:pt x="293" y="642"/>
                  </a:lnTo>
                  <a:lnTo>
                    <a:pt x="276" y="629"/>
                  </a:lnTo>
                  <a:lnTo>
                    <a:pt x="258" y="616"/>
                  </a:lnTo>
                  <a:lnTo>
                    <a:pt x="238" y="604"/>
                  </a:lnTo>
                  <a:lnTo>
                    <a:pt x="218" y="593"/>
                  </a:lnTo>
                  <a:lnTo>
                    <a:pt x="197" y="583"/>
                  </a:lnTo>
                  <a:lnTo>
                    <a:pt x="176" y="573"/>
                  </a:lnTo>
                  <a:lnTo>
                    <a:pt x="154" y="563"/>
                  </a:lnTo>
                  <a:lnTo>
                    <a:pt x="130" y="555"/>
                  </a:lnTo>
                  <a:lnTo>
                    <a:pt x="105" y="546"/>
                  </a:lnTo>
                  <a:lnTo>
                    <a:pt x="81" y="538"/>
                  </a:lnTo>
                  <a:lnTo>
                    <a:pt x="63" y="534"/>
                  </a:lnTo>
                  <a:lnTo>
                    <a:pt x="48" y="529"/>
                  </a:lnTo>
                  <a:lnTo>
                    <a:pt x="35" y="522"/>
                  </a:lnTo>
                  <a:lnTo>
                    <a:pt x="24" y="516"/>
                  </a:lnTo>
                  <a:lnTo>
                    <a:pt x="16" y="509"/>
                  </a:lnTo>
                  <a:lnTo>
                    <a:pt x="8" y="502"/>
                  </a:lnTo>
                  <a:lnTo>
                    <a:pt x="4" y="495"/>
                  </a:lnTo>
                  <a:lnTo>
                    <a:pt x="1" y="488"/>
                  </a:lnTo>
                  <a:lnTo>
                    <a:pt x="0" y="480"/>
                  </a:lnTo>
                  <a:lnTo>
                    <a:pt x="1" y="474"/>
                  </a:lnTo>
                  <a:lnTo>
                    <a:pt x="4" y="466"/>
                  </a:lnTo>
                  <a:lnTo>
                    <a:pt x="8" y="461"/>
                  </a:lnTo>
                  <a:lnTo>
                    <a:pt x="16" y="454"/>
                  </a:lnTo>
                  <a:lnTo>
                    <a:pt x="24" y="450"/>
                  </a:lnTo>
                  <a:lnTo>
                    <a:pt x="35" y="445"/>
                  </a:lnTo>
                  <a:lnTo>
                    <a:pt x="48" y="442"/>
                  </a:lnTo>
                  <a:lnTo>
                    <a:pt x="61" y="438"/>
                  </a:lnTo>
                  <a:lnTo>
                    <a:pt x="73" y="434"/>
                  </a:lnTo>
                  <a:lnTo>
                    <a:pt x="83" y="428"/>
                  </a:lnTo>
                  <a:lnTo>
                    <a:pt x="89" y="423"/>
                  </a:lnTo>
                  <a:lnTo>
                    <a:pt x="92" y="418"/>
                  </a:lnTo>
                  <a:lnTo>
                    <a:pt x="95" y="415"/>
                  </a:lnTo>
                  <a:lnTo>
                    <a:pt x="97" y="411"/>
                  </a:lnTo>
                  <a:lnTo>
                    <a:pt x="98" y="405"/>
                  </a:lnTo>
                  <a:lnTo>
                    <a:pt x="100" y="396"/>
                  </a:lnTo>
                  <a:lnTo>
                    <a:pt x="100" y="384"/>
                  </a:lnTo>
                  <a:lnTo>
                    <a:pt x="98" y="371"/>
                  </a:lnTo>
                  <a:lnTo>
                    <a:pt x="94" y="356"/>
                  </a:lnTo>
                  <a:lnTo>
                    <a:pt x="88" y="339"/>
                  </a:lnTo>
                  <a:lnTo>
                    <a:pt x="81" y="320"/>
                  </a:lnTo>
                  <a:lnTo>
                    <a:pt x="61" y="276"/>
                  </a:lnTo>
                  <a:lnTo>
                    <a:pt x="36" y="222"/>
                  </a:lnTo>
                  <a:lnTo>
                    <a:pt x="23" y="196"/>
                  </a:lnTo>
                  <a:lnTo>
                    <a:pt x="16" y="175"/>
                  </a:lnTo>
                  <a:lnTo>
                    <a:pt x="13" y="168"/>
                  </a:lnTo>
                  <a:lnTo>
                    <a:pt x="11" y="161"/>
                  </a:lnTo>
                  <a:lnTo>
                    <a:pt x="10" y="156"/>
                  </a:lnTo>
                  <a:lnTo>
                    <a:pt x="10" y="152"/>
                  </a:lnTo>
                  <a:lnTo>
                    <a:pt x="11" y="148"/>
                  </a:lnTo>
                  <a:lnTo>
                    <a:pt x="13" y="147"/>
                  </a:lnTo>
                  <a:lnTo>
                    <a:pt x="15" y="146"/>
                  </a:lnTo>
                  <a:lnTo>
                    <a:pt x="17" y="147"/>
                  </a:lnTo>
                  <a:lnTo>
                    <a:pt x="24" y="151"/>
                  </a:lnTo>
                  <a:lnTo>
                    <a:pt x="34" y="158"/>
                  </a:lnTo>
                  <a:lnTo>
                    <a:pt x="45" y="170"/>
                  </a:lnTo>
                  <a:lnTo>
                    <a:pt x="58" y="184"/>
                  </a:lnTo>
                  <a:lnTo>
                    <a:pt x="72" y="200"/>
                  </a:lnTo>
                  <a:lnTo>
                    <a:pt x="87" y="219"/>
                  </a:lnTo>
                  <a:lnTo>
                    <a:pt x="102" y="239"/>
                  </a:lnTo>
                  <a:lnTo>
                    <a:pt x="117" y="262"/>
                  </a:lnTo>
                  <a:lnTo>
                    <a:pt x="132" y="285"/>
                  </a:lnTo>
                  <a:lnTo>
                    <a:pt x="148" y="308"/>
                  </a:lnTo>
                  <a:lnTo>
                    <a:pt x="177" y="356"/>
                  </a:lnTo>
                  <a:lnTo>
                    <a:pt x="206" y="399"/>
                  </a:lnTo>
                  <a:lnTo>
                    <a:pt x="234" y="439"/>
                  </a:lnTo>
                  <a:lnTo>
                    <a:pt x="261" y="476"/>
                  </a:lnTo>
                  <a:lnTo>
                    <a:pt x="287" y="507"/>
                  </a:lnTo>
                  <a:lnTo>
                    <a:pt x="311" y="534"/>
                  </a:lnTo>
                  <a:lnTo>
                    <a:pt x="321" y="546"/>
                  </a:lnTo>
                  <a:lnTo>
                    <a:pt x="332" y="556"/>
                  </a:lnTo>
                  <a:lnTo>
                    <a:pt x="343" y="564"/>
                  </a:lnTo>
                  <a:lnTo>
                    <a:pt x="353" y="571"/>
                  </a:lnTo>
                  <a:lnTo>
                    <a:pt x="357" y="573"/>
                  </a:lnTo>
                  <a:lnTo>
                    <a:pt x="360" y="574"/>
                  </a:lnTo>
                  <a:lnTo>
                    <a:pt x="363" y="573"/>
                  </a:lnTo>
                  <a:lnTo>
                    <a:pt x="365" y="570"/>
                  </a:lnTo>
                  <a:lnTo>
                    <a:pt x="366" y="566"/>
                  </a:lnTo>
                  <a:lnTo>
                    <a:pt x="366" y="561"/>
                  </a:lnTo>
                  <a:lnTo>
                    <a:pt x="366" y="555"/>
                  </a:lnTo>
                  <a:lnTo>
                    <a:pt x="365" y="546"/>
                  </a:lnTo>
                  <a:lnTo>
                    <a:pt x="360" y="526"/>
                  </a:lnTo>
                  <a:lnTo>
                    <a:pt x="354" y="504"/>
                  </a:lnTo>
                  <a:lnTo>
                    <a:pt x="346" y="477"/>
                  </a:lnTo>
                  <a:lnTo>
                    <a:pt x="337" y="447"/>
                  </a:lnTo>
                  <a:lnTo>
                    <a:pt x="325" y="414"/>
                  </a:lnTo>
                  <a:lnTo>
                    <a:pt x="312" y="380"/>
                  </a:lnTo>
                  <a:lnTo>
                    <a:pt x="298" y="344"/>
                  </a:lnTo>
                  <a:lnTo>
                    <a:pt x="284" y="308"/>
                  </a:lnTo>
                  <a:lnTo>
                    <a:pt x="252" y="237"/>
                  </a:lnTo>
                  <a:lnTo>
                    <a:pt x="221" y="170"/>
                  </a:lnTo>
                  <a:lnTo>
                    <a:pt x="215" y="154"/>
                  </a:lnTo>
                  <a:lnTo>
                    <a:pt x="209" y="138"/>
                  </a:lnTo>
                  <a:lnTo>
                    <a:pt x="205" y="119"/>
                  </a:lnTo>
                  <a:lnTo>
                    <a:pt x="200" y="102"/>
                  </a:lnTo>
                  <a:lnTo>
                    <a:pt x="197" y="85"/>
                  </a:lnTo>
                  <a:lnTo>
                    <a:pt x="196" y="67"/>
                  </a:lnTo>
                  <a:lnTo>
                    <a:pt x="196" y="52"/>
                  </a:lnTo>
                  <a:lnTo>
                    <a:pt x="196" y="37"/>
                  </a:lnTo>
                  <a:lnTo>
                    <a:pt x="199" y="25"/>
                  </a:lnTo>
                  <a:lnTo>
                    <a:pt x="203" y="15"/>
                  </a:lnTo>
                  <a:lnTo>
                    <a:pt x="205" y="10"/>
                  </a:lnTo>
                  <a:lnTo>
                    <a:pt x="208" y="7"/>
                  </a:lnTo>
                  <a:lnTo>
                    <a:pt x="211" y="4"/>
                  </a:lnTo>
                  <a:lnTo>
                    <a:pt x="216" y="3"/>
                  </a:lnTo>
                  <a:lnTo>
                    <a:pt x="219" y="2"/>
                  </a:lnTo>
                  <a:lnTo>
                    <a:pt x="224" y="0"/>
                  </a:lnTo>
                  <a:lnTo>
                    <a:pt x="229" y="2"/>
                  </a:lnTo>
                  <a:lnTo>
                    <a:pt x="234" y="4"/>
                  </a:lnTo>
                  <a:lnTo>
                    <a:pt x="240" y="6"/>
                  </a:lnTo>
                  <a:lnTo>
                    <a:pt x="247" y="10"/>
                  </a:lnTo>
                  <a:lnTo>
                    <a:pt x="253" y="16"/>
                  </a:lnTo>
                  <a:lnTo>
                    <a:pt x="261" y="22"/>
                  </a:lnTo>
                  <a:close/>
                </a:path>
              </a:pathLst>
            </a:custGeom>
            <a:solidFill>
              <a:srgbClr val="5d88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5324400" y="2592360"/>
              <a:ext cx="123840" cy="212760"/>
            </a:xfrm>
            <a:custGeom>
              <a:avLst/>
              <a:gdLst/>
              <a:ahLst/>
              <a:rect l="l" t="t" r="r" b="b"/>
              <a:pathLst>
                <a:path w="391" h="667">
                  <a:moveTo>
                    <a:pt x="232" y="35"/>
                  </a:moveTo>
                  <a:lnTo>
                    <a:pt x="238" y="43"/>
                  </a:lnTo>
                  <a:lnTo>
                    <a:pt x="245" y="52"/>
                  </a:lnTo>
                  <a:lnTo>
                    <a:pt x="251" y="63"/>
                  </a:lnTo>
                  <a:lnTo>
                    <a:pt x="258" y="75"/>
                  </a:lnTo>
                  <a:lnTo>
                    <a:pt x="271" y="102"/>
                  </a:lnTo>
                  <a:lnTo>
                    <a:pt x="284" y="133"/>
                  </a:lnTo>
                  <a:lnTo>
                    <a:pt x="298" y="167"/>
                  </a:lnTo>
                  <a:lnTo>
                    <a:pt x="311" y="201"/>
                  </a:lnTo>
                  <a:lnTo>
                    <a:pt x="324" y="237"/>
                  </a:lnTo>
                  <a:lnTo>
                    <a:pt x="336" y="273"/>
                  </a:lnTo>
                  <a:lnTo>
                    <a:pt x="357" y="341"/>
                  </a:lnTo>
                  <a:lnTo>
                    <a:pt x="374" y="398"/>
                  </a:lnTo>
                  <a:lnTo>
                    <a:pt x="386" y="438"/>
                  </a:lnTo>
                  <a:lnTo>
                    <a:pt x="391" y="452"/>
                  </a:lnTo>
                  <a:lnTo>
                    <a:pt x="387" y="495"/>
                  </a:lnTo>
                  <a:lnTo>
                    <a:pt x="383" y="536"/>
                  </a:lnTo>
                  <a:lnTo>
                    <a:pt x="377" y="573"/>
                  </a:lnTo>
                  <a:lnTo>
                    <a:pt x="370" y="604"/>
                  </a:lnTo>
                  <a:lnTo>
                    <a:pt x="364" y="630"/>
                  </a:lnTo>
                  <a:lnTo>
                    <a:pt x="358" y="651"/>
                  </a:lnTo>
                  <a:lnTo>
                    <a:pt x="355" y="663"/>
                  </a:lnTo>
                  <a:lnTo>
                    <a:pt x="354" y="667"/>
                  </a:lnTo>
                  <a:lnTo>
                    <a:pt x="326" y="636"/>
                  </a:lnTo>
                  <a:lnTo>
                    <a:pt x="299" y="607"/>
                  </a:lnTo>
                  <a:lnTo>
                    <a:pt x="285" y="594"/>
                  </a:lnTo>
                  <a:lnTo>
                    <a:pt x="272" y="582"/>
                  </a:lnTo>
                  <a:lnTo>
                    <a:pt x="258" y="570"/>
                  </a:lnTo>
                  <a:lnTo>
                    <a:pt x="243" y="559"/>
                  </a:lnTo>
                  <a:lnTo>
                    <a:pt x="226" y="548"/>
                  </a:lnTo>
                  <a:lnTo>
                    <a:pt x="210" y="537"/>
                  </a:lnTo>
                  <a:lnTo>
                    <a:pt x="193" y="528"/>
                  </a:lnTo>
                  <a:lnTo>
                    <a:pt x="174" y="517"/>
                  </a:lnTo>
                  <a:lnTo>
                    <a:pt x="153" y="508"/>
                  </a:lnTo>
                  <a:lnTo>
                    <a:pt x="131" y="498"/>
                  </a:lnTo>
                  <a:lnTo>
                    <a:pt x="108" y="489"/>
                  </a:lnTo>
                  <a:lnTo>
                    <a:pt x="82" y="480"/>
                  </a:lnTo>
                  <a:lnTo>
                    <a:pt x="51" y="468"/>
                  </a:lnTo>
                  <a:lnTo>
                    <a:pt x="29" y="457"/>
                  </a:lnTo>
                  <a:lnTo>
                    <a:pt x="19" y="453"/>
                  </a:lnTo>
                  <a:lnTo>
                    <a:pt x="11" y="448"/>
                  </a:lnTo>
                  <a:lnTo>
                    <a:pt x="5" y="443"/>
                  </a:lnTo>
                  <a:lnTo>
                    <a:pt x="2" y="438"/>
                  </a:lnTo>
                  <a:lnTo>
                    <a:pt x="0" y="434"/>
                  </a:lnTo>
                  <a:lnTo>
                    <a:pt x="0" y="429"/>
                  </a:lnTo>
                  <a:lnTo>
                    <a:pt x="1" y="425"/>
                  </a:lnTo>
                  <a:lnTo>
                    <a:pt x="5" y="421"/>
                  </a:lnTo>
                  <a:lnTo>
                    <a:pt x="10" y="417"/>
                  </a:lnTo>
                  <a:lnTo>
                    <a:pt x="19" y="414"/>
                  </a:lnTo>
                  <a:lnTo>
                    <a:pt x="29" y="411"/>
                  </a:lnTo>
                  <a:lnTo>
                    <a:pt x="42" y="408"/>
                  </a:lnTo>
                  <a:lnTo>
                    <a:pt x="68" y="402"/>
                  </a:lnTo>
                  <a:lnTo>
                    <a:pt x="87" y="396"/>
                  </a:lnTo>
                  <a:lnTo>
                    <a:pt x="94" y="393"/>
                  </a:lnTo>
                  <a:lnTo>
                    <a:pt x="99" y="387"/>
                  </a:lnTo>
                  <a:lnTo>
                    <a:pt x="101" y="385"/>
                  </a:lnTo>
                  <a:lnTo>
                    <a:pt x="102" y="382"/>
                  </a:lnTo>
                  <a:lnTo>
                    <a:pt x="103" y="378"/>
                  </a:lnTo>
                  <a:lnTo>
                    <a:pt x="104" y="375"/>
                  </a:lnTo>
                  <a:lnTo>
                    <a:pt x="103" y="367"/>
                  </a:lnTo>
                  <a:lnTo>
                    <a:pt x="101" y="356"/>
                  </a:lnTo>
                  <a:lnTo>
                    <a:pt x="97" y="343"/>
                  </a:lnTo>
                  <a:lnTo>
                    <a:pt x="90" y="328"/>
                  </a:lnTo>
                  <a:lnTo>
                    <a:pt x="71" y="290"/>
                  </a:lnTo>
                  <a:lnTo>
                    <a:pt x="42" y="239"/>
                  </a:lnTo>
                  <a:lnTo>
                    <a:pt x="28" y="214"/>
                  </a:lnTo>
                  <a:lnTo>
                    <a:pt x="18" y="195"/>
                  </a:lnTo>
                  <a:lnTo>
                    <a:pt x="13" y="181"/>
                  </a:lnTo>
                  <a:lnTo>
                    <a:pt x="10" y="172"/>
                  </a:lnTo>
                  <a:lnTo>
                    <a:pt x="11" y="169"/>
                  </a:lnTo>
                  <a:lnTo>
                    <a:pt x="13" y="168"/>
                  </a:lnTo>
                  <a:lnTo>
                    <a:pt x="14" y="167"/>
                  </a:lnTo>
                  <a:lnTo>
                    <a:pt x="17" y="168"/>
                  </a:lnTo>
                  <a:lnTo>
                    <a:pt x="23" y="171"/>
                  </a:lnTo>
                  <a:lnTo>
                    <a:pt x="33" y="179"/>
                  </a:lnTo>
                  <a:lnTo>
                    <a:pt x="44" y="189"/>
                  </a:lnTo>
                  <a:lnTo>
                    <a:pt x="57" y="204"/>
                  </a:lnTo>
                  <a:lnTo>
                    <a:pt x="70" y="220"/>
                  </a:lnTo>
                  <a:lnTo>
                    <a:pt x="85" y="238"/>
                  </a:lnTo>
                  <a:lnTo>
                    <a:pt x="100" y="259"/>
                  </a:lnTo>
                  <a:lnTo>
                    <a:pt x="116" y="280"/>
                  </a:lnTo>
                  <a:lnTo>
                    <a:pt x="131" y="303"/>
                  </a:lnTo>
                  <a:lnTo>
                    <a:pt x="145" y="327"/>
                  </a:lnTo>
                  <a:lnTo>
                    <a:pt x="175" y="371"/>
                  </a:lnTo>
                  <a:lnTo>
                    <a:pt x="201" y="411"/>
                  </a:lnTo>
                  <a:lnTo>
                    <a:pt x="224" y="444"/>
                  </a:lnTo>
                  <a:lnTo>
                    <a:pt x="247" y="474"/>
                  </a:lnTo>
                  <a:lnTo>
                    <a:pt x="269" y="498"/>
                  </a:lnTo>
                  <a:lnTo>
                    <a:pt x="288" y="520"/>
                  </a:lnTo>
                  <a:lnTo>
                    <a:pt x="307" y="537"/>
                  </a:lnTo>
                  <a:lnTo>
                    <a:pt x="326" y="551"/>
                  </a:lnTo>
                  <a:lnTo>
                    <a:pt x="330" y="553"/>
                  </a:lnTo>
                  <a:lnTo>
                    <a:pt x="333" y="553"/>
                  </a:lnTo>
                  <a:lnTo>
                    <a:pt x="337" y="552"/>
                  </a:lnTo>
                  <a:lnTo>
                    <a:pt x="338" y="549"/>
                  </a:lnTo>
                  <a:lnTo>
                    <a:pt x="339" y="545"/>
                  </a:lnTo>
                  <a:lnTo>
                    <a:pt x="340" y="538"/>
                  </a:lnTo>
                  <a:lnTo>
                    <a:pt x="339" y="531"/>
                  </a:lnTo>
                  <a:lnTo>
                    <a:pt x="338" y="522"/>
                  </a:lnTo>
                  <a:lnTo>
                    <a:pt x="334" y="501"/>
                  </a:lnTo>
                  <a:lnTo>
                    <a:pt x="328" y="475"/>
                  </a:lnTo>
                  <a:lnTo>
                    <a:pt x="319" y="445"/>
                  </a:lnTo>
                  <a:lnTo>
                    <a:pt x="310" y="413"/>
                  </a:lnTo>
                  <a:lnTo>
                    <a:pt x="299" y="378"/>
                  </a:lnTo>
                  <a:lnTo>
                    <a:pt x="286" y="342"/>
                  </a:lnTo>
                  <a:lnTo>
                    <a:pt x="272" y="305"/>
                  </a:lnTo>
                  <a:lnTo>
                    <a:pt x="257" y="267"/>
                  </a:lnTo>
                  <a:lnTo>
                    <a:pt x="242" y="229"/>
                  </a:lnTo>
                  <a:lnTo>
                    <a:pt x="226" y="193"/>
                  </a:lnTo>
                  <a:lnTo>
                    <a:pt x="210" y="157"/>
                  </a:lnTo>
                  <a:lnTo>
                    <a:pt x="195" y="124"/>
                  </a:lnTo>
                  <a:lnTo>
                    <a:pt x="191" y="112"/>
                  </a:lnTo>
                  <a:lnTo>
                    <a:pt x="186" y="100"/>
                  </a:lnTo>
                  <a:lnTo>
                    <a:pt x="182" y="86"/>
                  </a:lnTo>
                  <a:lnTo>
                    <a:pt x="179" y="73"/>
                  </a:lnTo>
                  <a:lnTo>
                    <a:pt x="177" y="59"/>
                  </a:lnTo>
                  <a:lnTo>
                    <a:pt x="176" y="46"/>
                  </a:lnTo>
                  <a:lnTo>
                    <a:pt x="175" y="33"/>
                  </a:lnTo>
                  <a:lnTo>
                    <a:pt x="176" y="22"/>
                  </a:lnTo>
                  <a:lnTo>
                    <a:pt x="178" y="13"/>
                  </a:lnTo>
                  <a:lnTo>
                    <a:pt x="181" y="7"/>
                  </a:lnTo>
                  <a:lnTo>
                    <a:pt x="183" y="4"/>
                  </a:lnTo>
                  <a:lnTo>
                    <a:pt x="185" y="3"/>
                  </a:lnTo>
                  <a:lnTo>
                    <a:pt x="189" y="2"/>
                  </a:lnTo>
                  <a:lnTo>
                    <a:pt x="192" y="0"/>
                  </a:lnTo>
                  <a:lnTo>
                    <a:pt x="195" y="2"/>
                  </a:lnTo>
                  <a:lnTo>
                    <a:pt x="199" y="3"/>
                  </a:lnTo>
                  <a:lnTo>
                    <a:pt x="204" y="6"/>
                  </a:lnTo>
                  <a:lnTo>
                    <a:pt x="208" y="9"/>
                  </a:lnTo>
                  <a:lnTo>
                    <a:pt x="219" y="20"/>
                  </a:lnTo>
                  <a:lnTo>
                    <a:pt x="232" y="35"/>
                  </a:lnTo>
                  <a:close/>
                </a:path>
              </a:pathLst>
            </a:custGeom>
            <a:solidFill>
              <a:srgbClr val="5a83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5337000" y="2610000"/>
              <a:ext cx="109800" cy="190440"/>
            </a:xfrm>
            <a:custGeom>
              <a:avLst/>
              <a:gdLst/>
              <a:ahLst/>
              <a:rect l="l" t="t" r="r" b="b"/>
              <a:pathLst>
                <a:path w="345" h="602">
                  <a:moveTo>
                    <a:pt x="345" y="454"/>
                  </a:moveTo>
                  <a:lnTo>
                    <a:pt x="342" y="440"/>
                  </a:lnTo>
                  <a:lnTo>
                    <a:pt x="331" y="403"/>
                  </a:lnTo>
                  <a:lnTo>
                    <a:pt x="315" y="350"/>
                  </a:lnTo>
                  <a:lnTo>
                    <a:pt x="296" y="287"/>
                  </a:lnTo>
                  <a:lnTo>
                    <a:pt x="273" y="217"/>
                  </a:lnTo>
                  <a:lnTo>
                    <a:pt x="249" y="152"/>
                  </a:lnTo>
                  <a:lnTo>
                    <a:pt x="236" y="120"/>
                  </a:lnTo>
                  <a:lnTo>
                    <a:pt x="224" y="92"/>
                  </a:lnTo>
                  <a:lnTo>
                    <a:pt x="213" y="68"/>
                  </a:lnTo>
                  <a:lnTo>
                    <a:pt x="203" y="48"/>
                  </a:lnTo>
                  <a:lnTo>
                    <a:pt x="191" y="30"/>
                  </a:lnTo>
                  <a:lnTo>
                    <a:pt x="181" y="17"/>
                  </a:lnTo>
                  <a:lnTo>
                    <a:pt x="173" y="7"/>
                  </a:lnTo>
                  <a:lnTo>
                    <a:pt x="167" y="1"/>
                  </a:lnTo>
                  <a:lnTo>
                    <a:pt x="164" y="0"/>
                  </a:lnTo>
                  <a:lnTo>
                    <a:pt x="162" y="0"/>
                  </a:lnTo>
                  <a:lnTo>
                    <a:pt x="159" y="0"/>
                  </a:lnTo>
                  <a:lnTo>
                    <a:pt x="158" y="1"/>
                  </a:lnTo>
                  <a:lnTo>
                    <a:pt x="156" y="5"/>
                  </a:lnTo>
                  <a:lnTo>
                    <a:pt x="155" y="10"/>
                  </a:lnTo>
                  <a:lnTo>
                    <a:pt x="154" y="18"/>
                  </a:lnTo>
                  <a:lnTo>
                    <a:pt x="155" y="26"/>
                  </a:lnTo>
                  <a:lnTo>
                    <a:pt x="156" y="36"/>
                  </a:lnTo>
                  <a:lnTo>
                    <a:pt x="158" y="46"/>
                  </a:lnTo>
                  <a:lnTo>
                    <a:pt x="161" y="55"/>
                  </a:lnTo>
                  <a:lnTo>
                    <a:pt x="164" y="65"/>
                  </a:lnTo>
                  <a:lnTo>
                    <a:pt x="167" y="74"/>
                  </a:lnTo>
                  <a:lnTo>
                    <a:pt x="170" y="80"/>
                  </a:lnTo>
                  <a:lnTo>
                    <a:pt x="186" y="114"/>
                  </a:lnTo>
                  <a:lnTo>
                    <a:pt x="202" y="149"/>
                  </a:lnTo>
                  <a:lnTo>
                    <a:pt x="218" y="187"/>
                  </a:lnTo>
                  <a:lnTo>
                    <a:pt x="233" y="226"/>
                  </a:lnTo>
                  <a:lnTo>
                    <a:pt x="248" y="266"/>
                  </a:lnTo>
                  <a:lnTo>
                    <a:pt x="262" y="306"/>
                  </a:lnTo>
                  <a:lnTo>
                    <a:pt x="275" y="344"/>
                  </a:lnTo>
                  <a:lnTo>
                    <a:pt x="287" y="382"/>
                  </a:lnTo>
                  <a:lnTo>
                    <a:pt x="297" y="416"/>
                  </a:lnTo>
                  <a:lnTo>
                    <a:pt x="304" y="448"/>
                  </a:lnTo>
                  <a:lnTo>
                    <a:pt x="311" y="476"/>
                  </a:lnTo>
                  <a:lnTo>
                    <a:pt x="314" y="498"/>
                  </a:lnTo>
                  <a:lnTo>
                    <a:pt x="315" y="508"/>
                  </a:lnTo>
                  <a:lnTo>
                    <a:pt x="315" y="516"/>
                  </a:lnTo>
                  <a:lnTo>
                    <a:pt x="315" y="523"/>
                  </a:lnTo>
                  <a:lnTo>
                    <a:pt x="314" y="527"/>
                  </a:lnTo>
                  <a:lnTo>
                    <a:pt x="312" y="531"/>
                  </a:lnTo>
                  <a:lnTo>
                    <a:pt x="310" y="533"/>
                  </a:lnTo>
                  <a:lnTo>
                    <a:pt x="305" y="533"/>
                  </a:lnTo>
                  <a:lnTo>
                    <a:pt x="301" y="531"/>
                  </a:lnTo>
                  <a:lnTo>
                    <a:pt x="284" y="519"/>
                  </a:lnTo>
                  <a:lnTo>
                    <a:pt x="267" y="506"/>
                  </a:lnTo>
                  <a:lnTo>
                    <a:pt x="251" y="492"/>
                  </a:lnTo>
                  <a:lnTo>
                    <a:pt x="235" y="475"/>
                  </a:lnTo>
                  <a:lnTo>
                    <a:pt x="217" y="453"/>
                  </a:lnTo>
                  <a:lnTo>
                    <a:pt x="197" y="426"/>
                  </a:lnTo>
                  <a:lnTo>
                    <a:pt x="175" y="391"/>
                  </a:lnTo>
                  <a:lnTo>
                    <a:pt x="148" y="347"/>
                  </a:lnTo>
                  <a:lnTo>
                    <a:pt x="132" y="323"/>
                  </a:lnTo>
                  <a:lnTo>
                    <a:pt x="117" y="301"/>
                  </a:lnTo>
                  <a:lnTo>
                    <a:pt x="101" y="279"/>
                  </a:lnTo>
                  <a:lnTo>
                    <a:pt x="86" y="259"/>
                  </a:lnTo>
                  <a:lnTo>
                    <a:pt x="71" y="240"/>
                  </a:lnTo>
                  <a:lnTo>
                    <a:pt x="57" y="224"/>
                  </a:lnTo>
                  <a:lnTo>
                    <a:pt x="45" y="211"/>
                  </a:lnTo>
                  <a:lnTo>
                    <a:pt x="34" y="200"/>
                  </a:lnTo>
                  <a:lnTo>
                    <a:pt x="25" y="193"/>
                  </a:lnTo>
                  <a:lnTo>
                    <a:pt x="19" y="188"/>
                  </a:lnTo>
                  <a:lnTo>
                    <a:pt x="17" y="188"/>
                  </a:lnTo>
                  <a:lnTo>
                    <a:pt x="15" y="188"/>
                  </a:lnTo>
                  <a:lnTo>
                    <a:pt x="15" y="190"/>
                  </a:lnTo>
                  <a:lnTo>
                    <a:pt x="15" y="193"/>
                  </a:lnTo>
                  <a:lnTo>
                    <a:pt x="18" y="201"/>
                  </a:lnTo>
                  <a:lnTo>
                    <a:pt x="24" y="215"/>
                  </a:lnTo>
                  <a:lnTo>
                    <a:pt x="35" y="234"/>
                  </a:lnTo>
                  <a:lnTo>
                    <a:pt x="51" y="259"/>
                  </a:lnTo>
                  <a:lnTo>
                    <a:pt x="83" y="306"/>
                  </a:lnTo>
                  <a:lnTo>
                    <a:pt x="102" y="338"/>
                  </a:lnTo>
                  <a:lnTo>
                    <a:pt x="109" y="349"/>
                  </a:lnTo>
                  <a:lnTo>
                    <a:pt x="112" y="358"/>
                  </a:lnTo>
                  <a:lnTo>
                    <a:pt x="112" y="361"/>
                  </a:lnTo>
                  <a:lnTo>
                    <a:pt x="112" y="363"/>
                  </a:lnTo>
                  <a:lnTo>
                    <a:pt x="112" y="365"/>
                  </a:lnTo>
                  <a:lnTo>
                    <a:pt x="111" y="368"/>
                  </a:lnTo>
                  <a:lnTo>
                    <a:pt x="108" y="370"/>
                  </a:lnTo>
                  <a:lnTo>
                    <a:pt x="102" y="371"/>
                  </a:lnTo>
                  <a:lnTo>
                    <a:pt x="95" y="372"/>
                  </a:lnTo>
                  <a:lnTo>
                    <a:pt x="86" y="371"/>
                  </a:lnTo>
                  <a:lnTo>
                    <a:pt x="75" y="371"/>
                  </a:lnTo>
                  <a:lnTo>
                    <a:pt x="63" y="372"/>
                  </a:lnTo>
                  <a:lnTo>
                    <a:pt x="50" y="373"/>
                  </a:lnTo>
                  <a:lnTo>
                    <a:pt x="36" y="374"/>
                  </a:lnTo>
                  <a:lnTo>
                    <a:pt x="15" y="379"/>
                  </a:lnTo>
                  <a:lnTo>
                    <a:pt x="3" y="383"/>
                  </a:lnTo>
                  <a:lnTo>
                    <a:pt x="1" y="385"/>
                  </a:lnTo>
                  <a:lnTo>
                    <a:pt x="0" y="387"/>
                  </a:lnTo>
                  <a:lnTo>
                    <a:pt x="2" y="388"/>
                  </a:lnTo>
                  <a:lnTo>
                    <a:pt x="5" y="390"/>
                  </a:lnTo>
                  <a:lnTo>
                    <a:pt x="17" y="395"/>
                  </a:lnTo>
                  <a:lnTo>
                    <a:pt x="35" y="401"/>
                  </a:lnTo>
                  <a:lnTo>
                    <a:pt x="58" y="409"/>
                  </a:lnTo>
                  <a:lnTo>
                    <a:pt x="86" y="419"/>
                  </a:lnTo>
                  <a:lnTo>
                    <a:pt x="112" y="430"/>
                  </a:lnTo>
                  <a:lnTo>
                    <a:pt x="134" y="441"/>
                  </a:lnTo>
                  <a:lnTo>
                    <a:pt x="154" y="451"/>
                  </a:lnTo>
                  <a:lnTo>
                    <a:pt x="172" y="462"/>
                  </a:lnTo>
                  <a:lnTo>
                    <a:pt x="188" y="471"/>
                  </a:lnTo>
                  <a:lnTo>
                    <a:pt x="203" y="481"/>
                  </a:lnTo>
                  <a:lnTo>
                    <a:pt x="216" y="491"/>
                  </a:lnTo>
                  <a:lnTo>
                    <a:pt x="227" y="500"/>
                  </a:lnTo>
                  <a:lnTo>
                    <a:pt x="238" y="510"/>
                  </a:lnTo>
                  <a:lnTo>
                    <a:pt x="249" y="521"/>
                  </a:lnTo>
                  <a:lnTo>
                    <a:pt x="260" y="533"/>
                  </a:lnTo>
                  <a:lnTo>
                    <a:pt x="270" y="545"/>
                  </a:lnTo>
                  <a:lnTo>
                    <a:pt x="292" y="571"/>
                  </a:lnTo>
                  <a:lnTo>
                    <a:pt x="318" y="602"/>
                  </a:lnTo>
                  <a:lnTo>
                    <a:pt x="319" y="599"/>
                  </a:lnTo>
                  <a:lnTo>
                    <a:pt x="321" y="591"/>
                  </a:lnTo>
                  <a:lnTo>
                    <a:pt x="325" y="578"/>
                  </a:lnTo>
                  <a:lnTo>
                    <a:pt x="328" y="561"/>
                  </a:lnTo>
                  <a:lnTo>
                    <a:pt x="332" y="539"/>
                  </a:lnTo>
                  <a:lnTo>
                    <a:pt x="338" y="514"/>
                  </a:lnTo>
                  <a:lnTo>
                    <a:pt x="342" y="485"/>
                  </a:lnTo>
                  <a:lnTo>
                    <a:pt x="345" y="454"/>
                  </a:lnTo>
                  <a:close/>
                </a:path>
              </a:pathLst>
            </a:custGeom>
            <a:solidFill>
              <a:srgbClr val="5880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5264280" y="2359080"/>
              <a:ext cx="185760" cy="243000"/>
            </a:xfrm>
            <a:custGeom>
              <a:avLst/>
              <a:gdLst/>
              <a:ahLst/>
              <a:rect l="l" t="t" r="r" b="b"/>
              <a:pathLst>
                <a:path w="585" h="765">
                  <a:moveTo>
                    <a:pt x="137" y="633"/>
                  </a:moveTo>
                  <a:lnTo>
                    <a:pt x="119" y="603"/>
                  </a:lnTo>
                  <a:lnTo>
                    <a:pt x="101" y="573"/>
                  </a:lnTo>
                  <a:lnTo>
                    <a:pt x="84" y="544"/>
                  </a:lnTo>
                  <a:lnTo>
                    <a:pt x="68" y="514"/>
                  </a:lnTo>
                  <a:lnTo>
                    <a:pt x="52" y="485"/>
                  </a:lnTo>
                  <a:lnTo>
                    <a:pt x="40" y="454"/>
                  </a:lnTo>
                  <a:lnTo>
                    <a:pt x="27" y="425"/>
                  </a:lnTo>
                  <a:lnTo>
                    <a:pt x="17" y="396"/>
                  </a:lnTo>
                  <a:lnTo>
                    <a:pt x="13" y="382"/>
                  </a:lnTo>
                  <a:lnTo>
                    <a:pt x="9" y="368"/>
                  </a:lnTo>
                  <a:lnTo>
                    <a:pt x="6" y="354"/>
                  </a:lnTo>
                  <a:lnTo>
                    <a:pt x="3" y="340"/>
                  </a:lnTo>
                  <a:lnTo>
                    <a:pt x="2" y="326"/>
                  </a:lnTo>
                  <a:lnTo>
                    <a:pt x="1" y="312"/>
                  </a:lnTo>
                  <a:lnTo>
                    <a:pt x="0" y="299"/>
                  </a:lnTo>
                  <a:lnTo>
                    <a:pt x="1" y="286"/>
                  </a:lnTo>
                  <a:lnTo>
                    <a:pt x="2" y="272"/>
                  </a:lnTo>
                  <a:lnTo>
                    <a:pt x="4" y="260"/>
                  </a:lnTo>
                  <a:lnTo>
                    <a:pt x="7" y="247"/>
                  </a:lnTo>
                  <a:lnTo>
                    <a:pt x="10" y="234"/>
                  </a:lnTo>
                  <a:lnTo>
                    <a:pt x="16" y="222"/>
                  </a:lnTo>
                  <a:lnTo>
                    <a:pt x="21" y="210"/>
                  </a:lnTo>
                  <a:lnTo>
                    <a:pt x="28" y="199"/>
                  </a:lnTo>
                  <a:lnTo>
                    <a:pt x="35" y="188"/>
                  </a:lnTo>
                  <a:lnTo>
                    <a:pt x="69" y="147"/>
                  </a:lnTo>
                  <a:lnTo>
                    <a:pt x="101" y="109"/>
                  </a:lnTo>
                  <a:lnTo>
                    <a:pt x="117" y="91"/>
                  </a:lnTo>
                  <a:lnTo>
                    <a:pt x="132" y="76"/>
                  </a:lnTo>
                  <a:lnTo>
                    <a:pt x="148" y="61"/>
                  </a:lnTo>
                  <a:lnTo>
                    <a:pt x="163" y="48"/>
                  </a:lnTo>
                  <a:lnTo>
                    <a:pt x="177" y="36"/>
                  </a:lnTo>
                  <a:lnTo>
                    <a:pt x="191" y="27"/>
                  </a:lnTo>
                  <a:lnTo>
                    <a:pt x="205" y="18"/>
                  </a:lnTo>
                  <a:lnTo>
                    <a:pt x="218" y="10"/>
                  </a:lnTo>
                  <a:lnTo>
                    <a:pt x="231" y="5"/>
                  </a:lnTo>
                  <a:lnTo>
                    <a:pt x="243" y="2"/>
                  </a:lnTo>
                  <a:lnTo>
                    <a:pt x="254" y="0"/>
                  </a:lnTo>
                  <a:lnTo>
                    <a:pt x="265" y="0"/>
                  </a:lnTo>
                  <a:lnTo>
                    <a:pt x="277" y="2"/>
                  </a:lnTo>
                  <a:lnTo>
                    <a:pt x="289" y="5"/>
                  </a:lnTo>
                  <a:lnTo>
                    <a:pt x="303" y="10"/>
                  </a:lnTo>
                  <a:lnTo>
                    <a:pt x="319" y="17"/>
                  </a:lnTo>
                  <a:lnTo>
                    <a:pt x="336" y="27"/>
                  </a:lnTo>
                  <a:lnTo>
                    <a:pt x="353" y="39"/>
                  </a:lnTo>
                  <a:lnTo>
                    <a:pt x="370" y="52"/>
                  </a:lnTo>
                  <a:lnTo>
                    <a:pt x="388" y="68"/>
                  </a:lnTo>
                  <a:lnTo>
                    <a:pt x="407" y="86"/>
                  </a:lnTo>
                  <a:lnTo>
                    <a:pt x="425" y="108"/>
                  </a:lnTo>
                  <a:lnTo>
                    <a:pt x="442" y="133"/>
                  </a:lnTo>
                  <a:lnTo>
                    <a:pt x="460" y="160"/>
                  </a:lnTo>
                  <a:lnTo>
                    <a:pt x="468" y="174"/>
                  </a:lnTo>
                  <a:lnTo>
                    <a:pt x="477" y="189"/>
                  </a:lnTo>
                  <a:lnTo>
                    <a:pt x="485" y="205"/>
                  </a:lnTo>
                  <a:lnTo>
                    <a:pt x="492" y="222"/>
                  </a:lnTo>
                  <a:lnTo>
                    <a:pt x="500" y="241"/>
                  </a:lnTo>
                  <a:lnTo>
                    <a:pt x="507" y="259"/>
                  </a:lnTo>
                  <a:lnTo>
                    <a:pt x="514" y="278"/>
                  </a:lnTo>
                  <a:lnTo>
                    <a:pt x="520" y="299"/>
                  </a:lnTo>
                  <a:lnTo>
                    <a:pt x="532" y="342"/>
                  </a:lnTo>
                  <a:lnTo>
                    <a:pt x="543" y="386"/>
                  </a:lnTo>
                  <a:lnTo>
                    <a:pt x="553" y="433"/>
                  </a:lnTo>
                  <a:lnTo>
                    <a:pt x="561" y="479"/>
                  </a:lnTo>
                  <a:lnTo>
                    <a:pt x="569" y="525"/>
                  </a:lnTo>
                  <a:lnTo>
                    <a:pt x="574" y="569"/>
                  </a:lnTo>
                  <a:lnTo>
                    <a:pt x="580" y="610"/>
                  </a:lnTo>
                  <a:lnTo>
                    <a:pt x="583" y="649"/>
                  </a:lnTo>
                  <a:lnTo>
                    <a:pt x="584" y="683"/>
                  </a:lnTo>
                  <a:lnTo>
                    <a:pt x="585" y="712"/>
                  </a:lnTo>
                  <a:lnTo>
                    <a:pt x="584" y="725"/>
                  </a:lnTo>
                  <a:lnTo>
                    <a:pt x="584" y="736"/>
                  </a:lnTo>
                  <a:lnTo>
                    <a:pt x="582" y="746"/>
                  </a:lnTo>
                  <a:lnTo>
                    <a:pt x="581" y="754"/>
                  </a:lnTo>
                  <a:lnTo>
                    <a:pt x="579" y="759"/>
                  </a:lnTo>
                  <a:lnTo>
                    <a:pt x="576" y="763"/>
                  </a:lnTo>
                  <a:lnTo>
                    <a:pt x="573" y="765"/>
                  </a:lnTo>
                  <a:lnTo>
                    <a:pt x="570" y="764"/>
                  </a:lnTo>
                  <a:lnTo>
                    <a:pt x="567" y="762"/>
                  </a:lnTo>
                  <a:lnTo>
                    <a:pt x="562" y="757"/>
                  </a:lnTo>
                  <a:lnTo>
                    <a:pt x="557" y="749"/>
                  </a:lnTo>
                  <a:lnTo>
                    <a:pt x="553" y="738"/>
                  </a:lnTo>
                  <a:lnTo>
                    <a:pt x="542" y="716"/>
                  </a:lnTo>
                  <a:lnTo>
                    <a:pt x="529" y="692"/>
                  </a:lnTo>
                  <a:lnTo>
                    <a:pt x="516" y="667"/>
                  </a:lnTo>
                  <a:lnTo>
                    <a:pt x="502" y="642"/>
                  </a:lnTo>
                  <a:lnTo>
                    <a:pt x="486" y="617"/>
                  </a:lnTo>
                  <a:lnTo>
                    <a:pt x="469" y="593"/>
                  </a:lnTo>
                  <a:lnTo>
                    <a:pt x="453" y="569"/>
                  </a:lnTo>
                  <a:lnTo>
                    <a:pt x="436" y="545"/>
                  </a:lnTo>
                  <a:lnTo>
                    <a:pt x="418" y="523"/>
                  </a:lnTo>
                  <a:lnTo>
                    <a:pt x="399" y="503"/>
                  </a:lnTo>
                  <a:lnTo>
                    <a:pt x="382" y="484"/>
                  </a:lnTo>
                  <a:lnTo>
                    <a:pt x="364" y="466"/>
                  </a:lnTo>
                  <a:lnTo>
                    <a:pt x="345" y="451"/>
                  </a:lnTo>
                  <a:lnTo>
                    <a:pt x="327" y="439"/>
                  </a:lnTo>
                  <a:lnTo>
                    <a:pt x="318" y="434"/>
                  </a:lnTo>
                  <a:lnTo>
                    <a:pt x="310" y="430"/>
                  </a:lnTo>
                  <a:lnTo>
                    <a:pt x="301" y="425"/>
                  </a:lnTo>
                  <a:lnTo>
                    <a:pt x="292" y="423"/>
                  </a:lnTo>
                  <a:lnTo>
                    <a:pt x="277" y="419"/>
                  </a:lnTo>
                  <a:lnTo>
                    <a:pt x="265" y="418"/>
                  </a:lnTo>
                  <a:lnTo>
                    <a:pt x="261" y="418"/>
                  </a:lnTo>
                  <a:lnTo>
                    <a:pt x="257" y="419"/>
                  </a:lnTo>
                  <a:lnTo>
                    <a:pt x="253" y="420"/>
                  </a:lnTo>
                  <a:lnTo>
                    <a:pt x="250" y="422"/>
                  </a:lnTo>
                  <a:lnTo>
                    <a:pt x="247" y="424"/>
                  </a:lnTo>
                  <a:lnTo>
                    <a:pt x="246" y="427"/>
                  </a:lnTo>
                  <a:lnTo>
                    <a:pt x="244" y="431"/>
                  </a:lnTo>
                  <a:lnTo>
                    <a:pt x="243" y="434"/>
                  </a:lnTo>
                  <a:lnTo>
                    <a:pt x="243" y="444"/>
                  </a:lnTo>
                  <a:lnTo>
                    <a:pt x="243" y="455"/>
                  </a:lnTo>
                  <a:lnTo>
                    <a:pt x="247" y="482"/>
                  </a:lnTo>
                  <a:lnTo>
                    <a:pt x="254" y="517"/>
                  </a:lnTo>
                  <a:lnTo>
                    <a:pt x="258" y="535"/>
                  </a:lnTo>
                  <a:lnTo>
                    <a:pt x="261" y="556"/>
                  </a:lnTo>
                  <a:lnTo>
                    <a:pt x="263" y="577"/>
                  </a:lnTo>
                  <a:lnTo>
                    <a:pt x="265" y="600"/>
                  </a:lnTo>
                  <a:lnTo>
                    <a:pt x="265" y="622"/>
                  </a:lnTo>
                  <a:lnTo>
                    <a:pt x="264" y="641"/>
                  </a:lnTo>
                  <a:lnTo>
                    <a:pt x="261" y="657"/>
                  </a:lnTo>
                  <a:lnTo>
                    <a:pt x="257" y="670"/>
                  </a:lnTo>
                  <a:lnTo>
                    <a:pt x="253" y="677"/>
                  </a:lnTo>
                  <a:lnTo>
                    <a:pt x="250" y="682"/>
                  </a:lnTo>
                  <a:lnTo>
                    <a:pt x="247" y="687"/>
                  </a:lnTo>
                  <a:lnTo>
                    <a:pt x="244" y="691"/>
                  </a:lnTo>
                  <a:lnTo>
                    <a:pt x="239" y="694"/>
                  </a:lnTo>
                  <a:lnTo>
                    <a:pt x="235" y="696"/>
                  </a:lnTo>
                  <a:lnTo>
                    <a:pt x="231" y="698"/>
                  </a:lnTo>
                  <a:lnTo>
                    <a:pt x="226" y="700"/>
                  </a:lnTo>
                  <a:lnTo>
                    <a:pt x="221" y="701"/>
                  </a:lnTo>
                  <a:lnTo>
                    <a:pt x="217" y="701"/>
                  </a:lnTo>
                  <a:lnTo>
                    <a:pt x="211" y="701"/>
                  </a:lnTo>
                  <a:lnTo>
                    <a:pt x="206" y="698"/>
                  </a:lnTo>
                  <a:lnTo>
                    <a:pt x="200" y="697"/>
                  </a:lnTo>
                  <a:lnTo>
                    <a:pt x="195" y="694"/>
                  </a:lnTo>
                  <a:lnTo>
                    <a:pt x="190" y="691"/>
                  </a:lnTo>
                  <a:lnTo>
                    <a:pt x="184" y="688"/>
                  </a:lnTo>
                  <a:lnTo>
                    <a:pt x="172" y="678"/>
                  </a:lnTo>
                  <a:lnTo>
                    <a:pt x="161" y="665"/>
                  </a:lnTo>
                  <a:lnTo>
                    <a:pt x="149" y="650"/>
                  </a:lnTo>
                  <a:lnTo>
                    <a:pt x="137" y="633"/>
                  </a:lnTo>
                  <a:close/>
                </a:path>
              </a:pathLst>
            </a:custGeom>
            <a:solidFill>
              <a:srgbClr val="6398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5367240" y="2233800"/>
              <a:ext cx="306360" cy="228600"/>
            </a:xfrm>
            <a:custGeom>
              <a:avLst/>
              <a:gdLst/>
              <a:ahLst/>
              <a:rect l="l" t="t" r="r" b="b"/>
              <a:pathLst>
                <a:path w="964" h="720">
                  <a:moveTo>
                    <a:pt x="225" y="636"/>
                  </a:moveTo>
                  <a:lnTo>
                    <a:pt x="219" y="626"/>
                  </a:lnTo>
                  <a:lnTo>
                    <a:pt x="204" y="601"/>
                  </a:lnTo>
                  <a:lnTo>
                    <a:pt x="181" y="566"/>
                  </a:lnTo>
                  <a:lnTo>
                    <a:pt x="153" y="524"/>
                  </a:lnTo>
                  <a:lnTo>
                    <a:pt x="137" y="503"/>
                  </a:lnTo>
                  <a:lnTo>
                    <a:pt x="121" y="481"/>
                  </a:lnTo>
                  <a:lnTo>
                    <a:pt x="104" y="461"/>
                  </a:lnTo>
                  <a:lnTo>
                    <a:pt x="86" y="443"/>
                  </a:lnTo>
                  <a:lnTo>
                    <a:pt x="69" y="426"/>
                  </a:lnTo>
                  <a:lnTo>
                    <a:pt x="52" y="412"/>
                  </a:lnTo>
                  <a:lnTo>
                    <a:pt x="43" y="407"/>
                  </a:lnTo>
                  <a:lnTo>
                    <a:pt x="36" y="403"/>
                  </a:lnTo>
                  <a:lnTo>
                    <a:pt x="27" y="398"/>
                  </a:lnTo>
                  <a:lnTo>
                    <a:pt x="19" y="396"/>
                  </a:lnTo>
                  <a:lnTo>
                    <a:pt x="12" y="394"/>
                  </a:lnTo>
                  <a:lnTo>
                    <a:pt x="8" y="391"/>
                  </a:lnTo>
                  <a:lnTo>
                    <a:pt x="3" y="387"/>
                  </a:lnTo>
                  <a:lnTo>
                    <a:pt x="1" y="384"/>
                  </a:lnTo>
                  <a:lnTo>
                    <a:pt x="0" y="380"/>
                  </a:lnTo>
                  <a:lnTo>
                    <a:pt x="0" y="376"/>
                  </a:lnTo>
                  <a:lnTo>
                    <a:pt x="2" y="370"/>
                  </a:lnTo>
                  <a:lnTo>
                    <a:pt x="4" y="366"/>
                  </a:lnTo>
                  <a:lnTo>
                    <a:pt x="12" y="355"/>
                  </a:lnTo>
                  <a:lnTo>
                    <a:pt x="23" y="344"/>
                  </a:lnTo>
                  <a:lnTo>
                    <a:pt x="36" y="332"/>
                  </a:lnTo>
                  <a:lnTo>
                    <a:pt x="51" y="320"/>
                  </a:lnTo>
                  <a:lnTo>
                    <a:pt x="82" y="299"/>
                  </a:lnTo>
                  <a:lnTo>
                    <a:pt x="112" y="281"/>
                  </a:lnTo>
                  <a:lnTo>
                    <a:pt x="134" y="268"/>
                  </a:lnTo>
                  <a:lnTo>
                    <a:pt x="143" y="262"/>
                  </a:lnTo>
                  <a:lnTo>
                    <a:pt x="211" y="229"/>
                  </a:lnTo>
                  <a:lnTo>
                    <a:pt x="278" y="193"/>
                  </a:lnTo>
                  <a:lnTo>
                    <a:pt x="343" y="160"/>
                  </a:lnTo>
                  <a:lnTo>
                    <a:pt x="405" y="128"/>
                  </a:lnTo>
                  <a:lnTo>
                    <a:pt x="460" y="101"/>
                  </a:lnTo>
                  <a:lnTo>
                    <a:pt x="508" y="79"/>
                  </a:lnTo>
                  <a:lnTo>
                    <a:pt x="528" y="70"/>
                  </a:lnTo>
                  <a:lnTo>
                    <a:pt x="545" y="63"/>
                  </a:lnTo>
                  <a:lnTo>
                    <a:pt x="560" y="59"/>
                  </a:lnTo>
                  <a:lnTo>
                    <a:pt x="570" y="57"/>
                  </a:lnTo>
                  <a:lnTo>
                    <a:pt x="579" y="57"/>
                  </a:lnTo>
                  <a:lnTo>
                    <a:pt x="584" y="59"/>
                  </a:lnTo>
                  <a:lnTo>
                    <a:pt x="587" y="60"/>
                  </a:lnTo>
                  <a:lnTo>
                    <a:pt x="589" y="62"/>
                  </a:lnTo>
                  <a:lnTo>
                    <a:pt x="590" y="65"/>
                  </a:lnTo>
                  <a:lnTo>
                    <a:pt x="591" y="68"/>
                  </a:lnTo>
                  <a:lnTo>
                    <a:pt x="592" y="73"/>
                  </a:lnTo>
                  <a:lnTo>
                    <a:pt x="592" y="81"/>
                  </a:lnTo>
                  <a:lnTo>
                    <a:pt x="590" y="89"/>
                  </a:lnTo>
                  <a:lnTo>
                    <a:pt x="589" y="99"/>
                  </a:lnTo>
                  <a:lnTo>
                    <a:pt x="583" y="120"/>
                  </a:lnTo>
                  <a:lnTo>
                    <a:pt x="580" y="143"/>
                  </a:lnTo>
                  <a:lnTo>
                    <a:pt x="578" y="155"/>
                  </a:lnTo>
                  <a:lnTo>
                    <a:pt x="578" y="167"/>
                  </a:lnTo>
                  <a:lnTo>
                    <a:pt x="578" y="179"/>
                  </a:lnTo>
                  <a:lnTo>
                    <a:pt x="580" y="191"/>
                  </a:lnTo>
                  <a:lnTo>
                    <a:pt x="582" y="196"/>
                  </a:lnTo>
                  <a:lnTo>
                    <a:pt x="583" y="200"/>
                  </a:lnTo>
                  <a:lnTo>
                    <a:pt x="585" y="203"/>
                  </a:lnTo>
                  <a:lnTo>
                    <a:pt x="587" y="204"/>
                  </a:lnTo>
                  <a:lnTo>
                    <a:pt x="589" y="204"/>
                  </a:lnTo>
                  <a:lnTo>
                    <a:pt x="590" y="204"/>
                  </a:lnTo>
                  <a:lnTo>
                    <a:pt x="592" y="202"/>
                  </a:lnTo>
                  <a:lnTo>
                    <a:pt x="593" y="200"/>
                  </a:lnTo>
                  <a:lnTo>
                    <a:pt x="596" y="192"/>
                  </a:lnTo>
                  <a:lnTo>
                    <a:pt x="599" y="182"/>
                  </a:lnTo>
                  <a:lnTo>
                    <a:pt x="603" y="169"/>
                  </a:lnTo>
                  <a:lnTo>
                    <a:pt x="606" y="155"/>
                  </a:lnTo>
                  <a:lnTo>
                    <a:pt x="612" y="124"/>
                  </a:lnTo>
                  <a:lnTo>
                    <a:pt x="619" y="90"/>
                  </a:lnTo>
                  <a:lnTo>
                    <a:pt x="625" y="61"/>
                  </a:lnTo>
                  <a:lnTo>
                    <a:pt x="632" y="40"/>
                  </a:lnTo>
                  <a:lnTo>
                    <a:pt x="635" y="31"/>
                  </a:lnTo>
                  <a:lnTo>
                    <a:pt x="639" y="23"/>
                  </a:lnTo>
                  <a:lnTo>
                    <a:pt x="644" y="16"/>
                  </a:lnTo>
                  <a:lnTo>
                    <a:pt x="649" y="9"/>
                  </a:lnTo>
                  <a:lnTo>
                    <a:pt x="656" y="4"/>
                  </a:lnTo>
                  <a:lnTo>
                    <a:pt x="661" y="1"/>
                  </a:lnTo>
                  <a:lnTo>
                    <a:pt x="664" y="1"/>
                  </a:lnTo>
                  <a:lnTo>
                    <a:pt x="668" y="0"/>
                  </a:lnTo>
                  <a:lnTo>
                    <a:pt x="671" y="1"/>
                  </a:lnTo>
                  <a:lnTo>
                    <a:pt x="675" y="2"/>
                  </a:lnTo>
                  <a:lnTo>
                    <a:pt x="678" y="4"/>
                  </a:lnTo>
                  <a:lnTo>
                    <a:pt x="682" y="7"/>
                  </a:lnTo>
                  <a:lnTo>
                    <a:pt x="685" y="12"/>
                  </a:lnTo>
                  <a:lnTo>
                    <a:pt x="688" y="16"/>
                  </a:lnTo>
                  <a:lnTo>
                    <a:pt x="696" y="29"/>
                  </a:lnTo>
                  <a:lnTo>
                    <a:pt x="702" y="46"/>
                  </a:lnTo>
                  <a:lnTo>
                    <a:pt x="709" y="68"/>
                  </a:lnTo>
                  <a:lnTo>
                    <a:pt x="715" y="96"/>
                  </a:lnTo>
                  <a:lnTo>
                    <a:pt x="720" y="129"/>
                  </a:lnTo>
                  <a:lnTo>
                    <a:pt x="726" y="168"/>
                  </a:lnTo>
                  <a:lnTo>
                    <a:pt x="729" y="190"/>
                  </a:lnTo>
                  <a:lnTo>
                    <a:pt x="733" y="211"/>
                  </a:lnTo>
                  <a:lnTo>
                    <a:pt x="740" y="233"/>
                  </a:lnTo>
                  <a:lnTo>
                    <a:pt x="746" y="254"/>
                  </a:lnTo>
                  <a:lnTo>
                    <a:pt x="754" y="275"/>
                  </a:lnTo>
                  <a:lnTo>
                    <a:pt x="763" y="296"/>
                  </a:lnTo>
                  <a:lnTo>
                    <a:pt x="772" y="317"/>
                  </a:lnTo>
                  <a:lnTo>
                    <a:pt x="782" y="338"/>
                  </a:lnTo>
                  <a:lnTo>
                    <a:pt x="804" y="378"/>
                  </a:lnTo>
                  <a:lnTo>
                    <a:pt x="826" y="417"/>
                  </a:lnTo>
                  <a:lnTo>
                    <a:pt x="850" y="453"/>
                  </a:lnTo>
                  <a:lnTo>
                    <a:pt x="874" y="487"/>
                  </a:lnTo>
                  <a:lnTo>
                    <a:pt x="916" y="547"/>
                  </a:lnTo>
                  <a:lnTo>
                    <a:pt x="948" y="595"/>
                  </a:lnTo>
                  <a:lnTo>
                    <a:pt x="954" y="603"/>
                  </a:lnTo>
                  <a:lnTo>
                    <a:pt x="958" y="612"/>
                  </a:lnTo>
                  <a:lnTo>
                    <a:pt x="961" y="619"/>
                  </a:lnTo>
                  <a:lnTo>
                    <a:pt x="962" y="625"/>
                  </a:lnTo>
                  <a:lnTo>
                    <a:pt x="964" y="629"/>
                  </a:lnTo>
                  <a:lnTo>
                    <a:pt x="961" y="633"/>
                  </a:lnTo>
                  <a:lnTo>
                    <a:pt x="958" y="635"/>
                  </a:lnTo>
                  <a:lnTo>
                    <a:pt x="954" y="636"/>
                  </a:lnTo>
                  <a:lnTo>
                    <a:pt x="942" y="635"/>
                  </a:lnTo>
                  <a:lnTo>
                    <a:pt x="929" y="633"/>
                  </a:lnTo>
                  <a:lnTo>
                    <a:pt x="915" y="629"/>
                  </a:lnTo>
                  <a:lnTo>
                    <a:pt x="901" y="625"/>
                  </a:lnTo>
                  <a:lnTo>
                    <a:pt x="873" y="613"/>
                  </a:lnTo>
                  <a:lnTo>
                    <a:pt x="844" y="601"/>
                  </a:lnTo>
                  <a:lnTo>
                    <a:pt x="816" y="589"/>
                  </a:lnTo>
                  <a:lnTo>
                    <a:pt x="791" y="580"/>
                  </a:lnTo>
                  <a:lnTo>
                    <a:pt x="780" y="575"/>
                  </a:lnTo>
                  <a:lnTo>
                    <a:pt x="769" y="573"/>
                  </a:lnTo>
                  <a:lnTo>
                    <a:pt x="760" y="573"/>
                  </a:lnTo>
                  <a:lnTo>
                    <a:pt x="754" y="574"/>
                  </a:lnTo>
                  <a:lnTo>
                    <a:pt x="751" y="575"/>
                  </a:lnTo>
                  <a:lnTo>
                    <a:pt x="749" y="578"/>
                  </a:lnTo>
                  <a:lnTo>
                    <a:pt x="746" y="581"/>
                  </a:lnTo>
                  <a:lnTo>
                    <a:pt x="745" y="585"/>
                  </a:lnTo>
                  <a:lnTo>
                    <a:pt x="744" y="596"/>
                  </a:lnTo>
                  <a:lnTo>
                    <a:pt x="744" y="608"/>
                  </a:lnTo>
                  <a:lnTo>
                    <a:pt x="747" y="635"/>
                  </a:lnTo>
                  <a:lnTo>
                    <a:pt x="750" y="663"/>
                  </a:lnTo>
                  <a:lnTo>
                    <a:pt x="751" y="676"/>
                  </a:lnTo>
                  <a:lnTo>
                    <a:pt x="751" y="687"/>
                  </a:lnTo>
                  <a:lnTo>
                    <a:pt x="750" y="691"/>
                  </a:lnTo>
                  <a:lnTo>
                    <a:pt x="749" y="695"/>
                  </a:lnTo>
                  <a:lnTo>
                    <a:pt x="746" y="698"/>
                  </a:lnTo>
                  <a:lnTo>
                    <a:pt x="744" y="701"/>
                  </a:lnTo>
                  <a:lnTo>
                    <a:pt x="742" y="702"/>
                  </a:lnTo>
                  <a:lnTo>
                    <a:pt x="739" y="703"/>
                  </a:lnTo>
                  <a:lnTo>
                    <a:pt x="735" y="702"/>
                  </a:lnTo>
                  <a:lnTo>
                    <a:pt x="730" y="701"/>
                  </a:lnTo>
                  <a:lnTo>
                    <a:pt x="725" y="697"/>
                  </a:lnTo>
                  <a:lnTo>
                    <a:pt x="719" y="693"/>
                  </a:lnTo>
                  <a:lnTo>
                    <a:pt x="712" y="688"/>
                  </a:lnTo>
                  <a:lnTo>
                    <a:pt x="704" y="680"/>
                  </a:lnTo>
                  <a:lnTo>
                    <a:pt x="672" y="651"/>
                  </a:lnTo>
                  <a:lnTo>
                    <a:pt x="643" y="625"/>
                  </a:lnTo>
                  <a:lnTo>
                    <a:pt x="615" y="602"/>
                  </a:lnTo>
                  <a:lnTo>
                    <a:pt x="589" y="582"/>
                  </a:lnTo>
                  <a:lnTo>
                    <a:pt x="564" y="565"/>
                  </a:lnTo>
                  <a:lnTo>
                    <a:pt x="538" y="548"/>
                  </a:lnTo>
                  <a:lnTo>
                    <a:pt x="513" y="533"/>
                  </a:lnTo>
                  <a:lnTo>
                    <a:pt x="486" y="519"/>
                  </a:lnTo>
                  <a:lnTo>
                    <a:pt x="474" y="513"/>
                  </a:lnTo>
                  <a:lnTo>
                    <a:pt x="463" y="507"/>
                  </a:lnTo>
                  <a:lnTo>
                    <a:pt x="455" y="504"/>
                  </a:lnTo>
                  <a:lnTo>
                    <a:pt x="448" y="502"/>
                  </a:lnTo>
                  <a:lnTo>
                    <a:pt x="443" y="502"/>
                  </a:lnTo>
                  <a:lnTo>
                    <a:pt x="439" y="503"/>
                  </a:lnTo>
                  <a:lnTo>
                    <a:pt x="435" y="506"/>
                  </a:lnTo>
                  <a:lnTo>
                    <a:pt x="434" y="511"/>
                  </a:lnTo>
                  <a:lnTo>
                    <a:pt x="433" y="517"/>
                  </a:lnTo>
                  <a:lnTo>
                    <a:pt x="434" y="526"/>
                  </a:lnTo>
                  <a:lnTo>
                    <a:pt x="435" y="535"/>
                  </a:lnTo>
                  <a:lnTo>
                    <a:pt x="436" y="546"/>
                  </a:lnTo>
                  <a:lnTo>
                    <a:pt x="442" y="574"/>
                  </a:lnTo>
                  <a:lnTo>
                    <a:pt x="447" y="609"/>
                  </a:lnTo>
                  <a:lnTo>
                    <a:pt x="448" y="617"/>
                  </a:lnTo>
                  <a:lnTo>
                    <a:pt x="448" y="626"/>
                  </a:lnTo>
                  <a:lnTo>
                    <a:pt x="448" y="636"/>
                  </a:lnTo>
                  <a:lnTo>
                    <a:pt x="447" y="644"/>
                  </a:lnTo>
                  <a:lnTo>
                    <a:pt x="445" y="652"/>
                  </a:lnTo>
                  <a:lnTo>
                    <a:pt x="442" y="661"/>
                  </a:lnTo>
                  <a:lnTo>
                    <a:pt x="439" y="668"/>
                  </a:lnTo>
                  <a:lnTo>
                    <a:pt x="434" y="676"/>
                  </a:lnTo>
                  <a:lnTo>
                    <a:pt x="430" y="682"/>
                  </a:lnTo>
                  <a:lnTo>
                    <a:pt x="424" y="689"/>
                  </a:lnTo>
                  <a:lnTo>
                    <a:pt x="418" y="695"/>
                  </a:lnTo>
                  <a:lnTo>
                    <a:pt x="413" y="701"/>
                  </a:lnTo>
                  <a:lnTo>
                    <a:pt x="405" y="705"/>
                  </a:lnTo>
                  <a:lnTo>
                    <a:pt x="397" y="709"/>
                  </a:lnTo>
                  <a:lnTo>
                    <a:pt x="390" y="713"/>
                  </a:lnTo>
                  <a:lnTo>
                    <a:pt x="382" y="716"/>
                  </a:lnTo>
                  <a:lnTo>
                    <a:pt x="374" y="718"/>
                  </a:lnTo>
                  <a:lnTo>
                    <a:pt x="365" y="719"/>
                  </a:lnTo>
                  <a:lnTo>
                    <a:pt x="355" y="720"/>
                  </a:lnTo>
                  <a:lnTo>
                    <a:pt x="346" y="719"/>
                  </a:lnTo>
                  <a:lnTo>
                    <a:pt x="336" y="718"/>
                  </a:lnTo>
                  <a:lnTo>
                    <a:pt x="326" y="716"/>
                  </a:lnTo>
                  <a:lnTo>
                    <a:pt x="316" y="713"/>
                  </a:lnTo>
                  <a:lnTo>
                    <a:pt x="307" y="709"/>
                  </a:lnTo>
                  <a:lnTo>
                    <a:pt x="296" y="704"/>
                  </a:lnTo>
                  <a:lnTo>
                    <a:pt x="286" y="697"/>
                  </a:lnTo>
                  <a:lnTo>
                    <a:pt x="275" y="690"/>
                  </a:lnTo>
                  <a:lnTo>
                    <a:pt x="266" y="682"/>
                  </a:lnTo>
                  <a:lnTo>
                    <a:pt x="255" y="673"/>
                  </a:lnTo>
                  <a:lnTo>
                    <a:pt x="244" y="661"/>
                  </a:lnTo>
                  <a:lnTo>
                    <a:pt x="234" y="649"/>
                  </a:lnTo>
                  <a:lnTo>
                    <a:pt x="225" y="636"/>
                  </a:lnTo>
                  <a:close/>
                </a:path>
              </a:pathLst>
            </a:custGeom>
            <a:solidFill>
              <a:srgbClr val="6398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5268960" y="2360520"/>
              <a:ext cx="174600" cy="220680"/>
            </a:xfrm>
            <a:custGeom>
              <a:avLst/>
              <a:gdLst/>
              <a:ahLst/>
              <a:rect l="l" t="t" r="r" b="b"/>
              <a:pathLst>
                <a:path w="551" h="694">
                  <a:moveTo>
                    <a:pt x="127" y="596"/>
                  </a:moveTo>
                  <a:lnTo>
                    <a:pt x="109" y="567"/>
                  </a:lnTo>
                  <a:lnTo>
                    <a:pt x="91" y="538"/>
                  </a:lnTo>
                  <a:lnTo>
                    <a:pt x="75" y="509"/>
                  </a:lnTo>
                  <a:lnTo>
                    <a:pt x="60" y="481"/>
                  </a:lnTo>
                  <a:lnTo>
                    <a:pt x="46" y="453"/>
                  </a:lnTo>
                  <a:lnTo>
                    <a:pt x="33" y="426"/>
                  </a:lnTo>
                  <a:lnTo>
                    <a:pt x="22" y="398"/>
                  </a:lnTo>
                  <a:lnTo>
                    <a:pt x="13" y="371"/>
                  </a:lnTo>
                  <a:lnTo>
                    <a:pt x="9" y="358"/>
                  </a:lnTo>
                  <a:lnTo>
                    <a:pt x="6" y="345"/>
                  </a:lnTo>
                  <a:lnTo>
                    <a:pt x="4" y="332"/>
                  </a:lnTo>
                  <a:lnTo>
                    <a:pt x="2" y="319"/>
                  </a:lnTo>
                  <a:lnTo>
                    <a:pt x="1" y="306"/>
                  </a:lnTo>
                  <a:lnTo>
                    <a:pt x="0" y="293"/>
                  </a:lnTo>
                  <a:lnTo>
                    <a:pt x="0" y="281"/>
                  </a:lnTo>
                  <a:lnTo>
                    <a:pt x="1" y="268"/>
                  </a:lnTo>
                  <a:lnTo>
                    <a:pt x="2" y="256"/>
                  </a:lnTo>
                  <a:lnTo>
                    <a:pt x="5" y="244"/>
                  </a:lnTo>
                  <a:lnTo>
                    <a:pt x="8" y="232"/>
                  </a:lnTo>
                  <a:lnTo>
                    <a:pt x="13" y="221"/>
                  </a:lnTo>
                  <a:lnTo>
                    <a:pt x="17" y="210"/>
                  </a:lnTo>
                  <a:lnTo>
                    <a:pt x="23" y="198"/>
                  </a:lnTo>
                  <a:lnTo>
                    <a:pt x="30" y="187"/>
                  </a:lnTo>
                  <a:lnTo>
                    <a:pt x="37" y="176"/>
                  </a:lnTo>
                  <a:lnTo>
                    <a:pt x="70" y="134"/>
                  </a:lnTo>
                  <a:lnTo>
                    <a:pt x="101" y="99"/>
                  </a:lnTo>
                  <a:lnTo>
                    <a:pt x="115" y="82"/>
                  </a:lnTo>
                  <a:lnTo>
                    <a:pt x="130" y="68"/>
                  </a:lnTo>
                  <a:lnTo>
                    <a:pt x="143" y="54"/>
                  </a:lnTo>
                  <a:lnTo>
                    <a:pt x="157" y="42"/>
                  </a:lnTo>
                  <a:lnTo>
                    <a:pt x="170" y="32"/>
                  </a:lnTo>
                  <a:lnTo>
                    <a:pt x="183" y="23"/>
                  </a:lnTo>
                  <a:lnTo>
                    <a:pt x="195" y="15"/>
                  </a:lnTo>
                  <a:lnTo>
                    <a:pt x="207" y="9"/>
                  </a:lnTo>
                  <a:lnTo>
                    <a:pt x="218" y="5"/>
                  </a:lnTo>
                  <a:lnTo>
                    <a:pt x="230" y="1"/>
                  </a:lnTo>
                  <a:lnTo>
                    <a:pt x="241" y="0"/>
                  </a:lnTo>
                  <a:lnTo>
                    <a:pt x="250" y="0"/>
                  </a:lnTo>
                  <a:lnTo>
                    <a:pt x="262" y="2"/>
                  </a:lnTo>
                  <a:lnTo>
                    <a:pt x="274" y="6"/>
                  </a:lnTo>
                  <a:lnTo>
                    <a:pt x="288" y="11"/>
                  </a:lnTo>
                  <a:lnTo>
                    <a:pt x="302" y="19"/>
                  </a:lnTo>
                  <a:lnTo>
                    <a:pt x="318" y="27"/>
                  </a:lnTo>
                  <a:lnTo>
                    <a:pt x="333" y="39"/>
                  </a:lnTo>
                  <a:lnTo>
                    <a:pt x="350" y="52"/>
                  </a:lnTo>
                  <a:lnTo>
                    <a:pt x="367" y="68"/>
                  </a:lnTo>
                  <a:lnTo>
                    <a:pt x="383" y="87"/>
                  </a:lnTo>
                  <a:lnTo>
                    <a:pt x="400" y="107"/>
                  </a:lnTo>
                  <a:lnTo>
                    <a:pt x="417" y="131"/>
                  </a:lnTo>
                  <a:lnTo>
                    <a:pt x="433" y="158"/>
                  </a:lnTo>
                  <a:lnTo>
                    <a:pt x="448" y="187"/>
                  </a:lnTo>
                  <a:lnTo>
                    <a:pt x="463" y="221"/>
                  </a:lnTo>
                  <a:lnTo>
                    <a:pt x="477" y="257"/>
                  </a:lnTo>
                  <a:lnTo>
                    <a:pt x="490" y="297"/>
                  </a:lnTo>
                  <a:lnTo>
                    <a:pt x="502" y="339"/>
                  </a:lnTo>
                  <a:lnTo>
                    <a:pt x="513" y="381"/>
                  </a:lnTo>
                  <a:lnTo>
                    <a:pt x="523" y="424"/>
                  </a:lnTo>
                  <a:lnTo>
                    <a:pt x="530" y="466"/>
                  </a:lnTo>
                  <a:lnTo>
                    <a:pt x="538" y="506"/>
                  </a:lnTo>
                  <a:lnTo>
                    <a:pt x="543" y="543"/>
                  </a:lnTo>
                  <a:lnTo>
                    <a:pt x="546" y="578"/>
                  </a:lnTo>
                  <a:lnTo>
                    <a:pt x="550" y="609"/>
                  </a:lnTo>
                  <a:lnTo>
                    <a:pt x="551" y="637"/>
                  </a:lnTo>
                  <a:lnTo>
                    <a:pt x="550" y="660"/>
                  </a:lnTo>
                  <a:lnTo>
                    <a:pt x="550" y="670"/>
                  </a:lnTo>
                  <a:lnTo>
                    <a:pt x="548" y="677"/>
                  </a:lnTo>
                  <a:lnTo>
                    <a:pt x="546" y="684"/>
                  </a:lnTo>
                  <a:lnTo>
                    <a:pt x="544" y="689"/>
                  </a:lnTo>
                  <a:lnTo>
                    <a:pt x="542" y="693"/>
                  </a:lnTo>
                  <a:lnTo>
                    <a:pt x="540" y="694"/>
                  </a:lnTo>
                  <a:lnTo>
                    <a:pt x="537" y="694"/>
                  </a:lnTo>
                  <a:lnTo>
                    <a:pt x="533" y="691"/>
                  </a:lnTo>
                  <a:lnTo>
                    <a:pt x="529" y="687"/>
                  </a:lnTo>
                  <a:lnTo>
                    <a:pt x="525" y="682"/>
                  </a:lnTo>
                  <a:lnTo>
                    <a:pt x="520" y="673"/>
                  </a:lnTo>
                  <a:lnTo>
                    <a:pt x="515" y="662"/>
                  </a:lnTo>
                  <a:lnTo>
                    <a:pt x="504" y="640"/>
                  </a:lnTo>
                  <a:lnTo>
                    <a:pt x="493" y="617"/>
                  </a:lnTo>
                  <a:lnTo>
                    <a:pt x="480" y="594"/>
                  </a:lnTo>
                  <a:lnTo>
                    <a:pt x="469" y="573"/>
                  </a:lnTo>
                  <a:lnTo>
                    <a:pt x="454" y="550"/>
                  </a:lnTo>
                  <a:lnTo>
                    <a:pt x="440" y="529"/>
                  </a:lnTo>
                  <a:lnTo>
                    <a:pt x="425" y="509"/>
                  </a:lnTo>
                  <a:lnTo>
                    <a:pt x="410" y="489"/>
                  </a:lnTo>
                  <a:lnTo>
                    <a:pt x="395" y="471"/>
                  </a:lnTo>
                  <a:lnTo>
                    <a:pt x="379" y="454"/>
                  </a:lnTo>
                  <a:lnTo>
                    <a:pt x="363" y="438"/>
                  </a:lnTo>
                  <a:lnTo>
                    <a:pt x="346" y="424"/>
                  </a:lnTo>
                  <a:lnTo>
                    <a:pt x="330" y="411"/>
                  </a:lnTo>
                  <a:lnTo>
                    <a:pt x="314" y="401"/>
                  </a:lnTo>
                  <a:lnTo>
                    <a:pt x="297" y="392"/>
                  </a:lnTo>
                  <a:lnTo>
                    <a:pt x="281" y="386"/>
                  </a:lnTo>
                  <a:lnTo>
                    <a:pt x="265" y="381"/>
                  </a:lnTo>
                  <a:lnTo>
                    <a:pt x="252" y="379"/>
                  </a:lnTo>
                  <a:lnTo>
                    <a:pt x="247" y="379"/>
                  </a:lnTo>
                  <a:lnTo>
                    <a:pt x="243" y="380"/>
                  </a:lnTo>
                  <a:lnTo>
                    <a:pt x="238" y="381"/>
                  </a:lnTo>
                  <a:lnTo>
                    <a:pt x="235" y="384"/>
                  </a:lnTo>
                  <a:lnTo>
                    <a:pt x="232" y="386"/>
                  </a:lnTo>
                  <a:lnTo>
                    <a:pt x="229" y="388"/>
                  </a:lnTo>
                  <a:lnTo>
                    <a:pt x="227" y="392"/>
                  </a:lnTo>
                  <a:lnTo>
                    <a:pt x="225" y="396"/>
                  </a:lnTo>
                  <a:lnTo>
                    <a:pt x="222" y="405"/>
                  </a:lnTo>
                  <a:lnTo>
                    <a:pt x="221" y="416"/>
                  </a:lnTo>
                  <a:lnTo>
                    <a:pt x="222" y="443"/>
                  </a:lnTo>
                  <a:lnTo>
                    <a:pt x="227" y="477"/>
                  </a:lnTo>
                  <a:lnTo>
                    <a:pt x="230" y="515"/>
                  </a:lnTo>
                  <a:lnTo>
                    <a:pt x="233" y="559"/>
                  </a:lnTo>
                  <a:lnTo>
                    <a:pt x="233" y="581"/>
                  </a:lnTo>
                  <a:lnTo>
                    <a:pt x="233" y="600"/>
                  </a:lnTo>
                  <a:lnTo>
                    <a:pt x="231" y="617"/>
                  </a:lnTo>
                  <a:lnTo>
                    <a:pt x="228" y="631"/>
                  </a:lnTo>
                  <a:lnTo>
                    <a:pt x="222" y="643"/>
                  </a:lnTo>
                  <a:lnTo>
                    <a:pt x="218" y="651"/>
                  </a:lnTo>
                  <a:lnTo>
                    <a:pt x="215" y="655"/>
                  </a:lnTo>
                  <a:lnTo>
                    <a:pt x="211" y="658"/>
                  </a:lnTo>
                  <a:lnTo>
                    <a:pt x="208" y="660"/>
                  </a:lnTo>
                  <a:lnTo>
                    <a:pt x="204" y="662"/>
                  </a:lnTo>
                  <a:lnTo>
                    <a:pt x="201" y="662"/>
                  </a:lnTo>
                  <a:lnTo>
                    <a:pt x="196" y="663"/>
                  </a:lnTo>
                  <a:lnTo>
                    <a:pt x="192" y="662"/>
                  </a:lnTo>
                  <a:lnTo>
                    <a:pt x="188" y="661"/>
                  </a:lnTo>
                  <a:lnTo>
                    <a:pt x="179" y="657"/>
                  </a:lnTo>
                  <a:lnTo>
                    <a:pt x="169" y="650"/>
                  </a:lnTo>
                  <a:lnTo>
                    <a:pt x="160" y="641"/>
                  </a:lnTo>
                  <a:lnTo>
                    <a:pt x="149" y="629"/>
                  </a:lnTo>
                  <a:lnTo>
                    <a:pt x="138" y="614"/>
                  </a:lnTo>
                  <a:lnTo>
                    <a:pt x="127" y="596"/>
                  </a:lnTo>
                  <a:close/>
                </a:path>
              </a:pathLst>
            </a:custGeom>
            <a:solidFill>
              <a:srgbClr val="68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5273640" y="2363760"/>
              <a:ext cx="163440" cy="196920"/>
            </a:xfrm>
            <a:custGeom>
              <a:avLst/>
              <a:gdLst/>
              <a:ahLst/>
              <a:rect l="l" t="t" r="r" b="b"/>
              <a:pathLst>
                <a:path w="515" h="622">
                  <a:moveTo>
                    <a:pt x="113" y="556"/>
                  </a:moveTo>
                  <a:lnTo>
                    <a:pt x="96" y="527"/>
                  </a:lnTo>
                  <a:lnTo>
                    <a:pt x="80" y="499"/>
                  </a:lnTo>
                  <a:lnTo>
                    <a:pt x="65" y="472"/>
                  </a:lnTo>
                  <a:lnTo>
                    <a:pt x="50" y="445"/>
                  </a:lnTo>
                  <a:lnTo>
                    <a:pt x="38" y="419"/>
                  </a:lnTo>
                  <a:lnTo>
                    <a:pt x="26" y="393"/>
                  </a:lnTo>
                  <a:lnTo>
                    <a:pt x="16" y="368"/>
                  </a:lnTo>
                  <a:lnTo>
                    <a:pt x="9" y="343"/>
                  </a:lnTo>
                  <a:lnTo>
                    <a:pt x="6" y="332"/>
                  </a:lnTo>
                  <a:lnTo>
                    <a:pt x="3" y="320"/>
                  </a:lnTo>
                  <a:lnTo>
                    <a:pt x="2" y="308"/>
                  </a:lnTo>
                  <a:lnTo>
                    <a:pt x="1" y="296"/>
                  </a:lnTo>
                  <a:lnTo>
                    <a:pt x="0" y="284"/>
                  </a:lnTo>
                  <a:lnTo>
                    <a:pt x="0" y="273"/>
                  </a:lnTo>
                  <a:lnTo>
                    <a:pt x="1" y="261"/>
                  </a:lnTo>
                  <a:lnTo>
                    <a:pt x="2" y="249"/>
                  </a:lnTo>
                  <a:lnTo>
                    <a:pt x="4" y="239"/>
                  </a:lnTo>
                  <a:lnTo>
                    <a:pt x="7" y="227"/>
                  </a:lnTo>
                  <a:lnTo>
                    <a:pt x="11" y="216"/>
                  </a:lnTo>
                  <a:lnTo>
                    <a:pt x="15" y="205"/>
                  </a:lnTo>
                  <a:lnTo>
                    <a:pt x="20" y="193"/>
                  </a:lnTo>
                  <a:lnTo>
                    <a:pt x="27" y="182"/>
                  </a:lnTo>
                  <a:lnTo>
                    <a:pt x="33" y="172"/>
                  </a:lnTo>
                  <a:lnTo>
                    <a:pt x="42" y="161"/>
                  </a:lnTo>
                  <a:lnTo>
                    <a:pt x="73" y="120"/>
                  </a:lnTo>
                  <a:lnTo>
                    <a:pt x="102" y="86"/>
                  </a:lnTo>
                  <a:lnTo>
                    <a:pt x="115" y="71"/>
                  </a:lnTo>
                  <a:lnTo>
                    <a:pt x="128" y="57"/>
                  </a:lnTo>
                  <a:lnTo>
                    <a:pt x="140" y="45"/>
                  </a:lnTo>
                  <a:lnTo>
                    <a:pt x="152" y="36"/>
                  </a:lnTo>
                  <a:lnTo>
                    <a:pt x="164" y="26"/>
                  </a:lnTo>
                  <a:lnTo>
                    <a:pt x="175" y="18"/>
                  </a:lnTo>
                  <a:lnTo>
                    <a:pt x="186" y="12"/>
                  </a:lnTo>
                  <a:lnTo>
                    <a:pt x="196" y="6"/>
                  </a:lnTo>
                  <a:lnTo>
                    <a:pt x="206" y="3"/>
                  </a:lnTo>
                  <a:lnTo>
                    <a:pt x="217" y="1"/>
                  </a:lnTo>
                  <a:lnTo>
                    <a:pt x="227" y="0"/>
                  </a:lnTo>
                  <a:lnTo>
                    <a:pt x="238" y="0"/>
                  </a:lnTo>
                  <a:lnTo>
                    <a:pt x="248" y="2"/>
                  </a:lnTo>
                  <a:lnTo>
                    <a:pt x="260" y="5"/>
                  </a:lnTo>
                  <a:lnTo>
                    <a:pt x="273" y="10"/>
                  </a:lnTo>
                  <a:lnTo>
                    <a:pt x="286" y="16"/>
                  </a:lnTo>
                  <a:lnTo>
                    <a:pt x="300" y="25"/>
                  </a:lnTo>
                  <a:lnTo>
                    <a:pt x="315" y="36"/>
                  </a:lnTo>
                  <a:lnTo>
                    <a:pt x="329" y="47"/>
                  </a:lnTo>
                  <a:lnTo>
                    <a:pt x="344" y="64"/>
                  </a:lnTo>
                  <a:lnTo>
                    <a:pt x="360" y="81"/>
                  </a:lnTo>
                  <a:lnTo>
                    <a:pt x="375" y="101"/>
                  </a:lnTo>
                  <a:lnTo>
                    <a:pt x="390" y="125"/>
                  </a:lnTo>
                  <a:lnTo>
                    <a:pt x="405" y="151"/>
                  </a:lnTo>
                  <a:lnTo>
                    <a:pt x="419" y="180"/>
                  </a:lnTo>
                  <a:lnTo>
                    <a:pt x="433" y="214"/>
                  </a:lnTo>
                  <a:lnTo>
                    <a:pt x="447" y="249"/>
                  </a:lnTo>
                  <a:lnTo>
                    <a:pt x="460" y="289"/>
                  </a:lnTo>
                  <a:lnTo>
                    <a:pt x="471" y="330"/>
                  </a:lnTo>
                  <a:lnTo>
                    <a:pt x="482" y="371"/>
                  </a:lnTo>
                  <a:lnTo>
                    <a:pt x="490" y="409"/>
                  </a:lnTo>
                  <a:lnTo>
                    <a:pt x="499" y="447"/>
                  </a:lnTo>
                  <a:lnTo>
                    <a:pt x="504" y="481"/>
                  </a:lnTo>
                  <a:lnTo>
                    <a:pt x="510" y="513"/>
                  </a:lnTo>
                  <a:lnTo>
                    <a:pt x="513" y="541"/>
                  </a:lnTo>
                  <a:lnTo>
                    <a:pt x="515" y="566"/>
                  </a:lnTo>
                  <a:lnTo>
                    <a:pt x="515" y="587"/>
                  </a:lnTo>
                  <a:lnTo>
                    <a:pt x="514" y="604"/>
                  </a:lnTo>
                  <a:lnTo>
                    <a:pt x="514" y="610"/>
                  </a:lnTo>
                  <a:lnTo>
                    <a:pt x="512" y="614"/>
                  </a:lnTo>
                  <a:lnTo>
                    <a:pt x="511" y="619"/>
                  </a:lnTo>
                  <a:lnTo>
                    <a:pt x="509" y="621"/>
                  </a:lnTo>
                  <a:lnTo>
                    <a:pt x="507" y="622"/>
                  </a:lnTo>
                  <a:lnTo>
                    <a:pt x="503" y="621"/>
                  </a:lnTo>
                  <a:lnTo>
                    <a:pt x="500" y="619"/>
                  </a:lnTo>
                  <a:lnTo>
                    <a:pt x="497" y="616"/>
                  </a:lnTo>
                  <a:lnTo>
                    <a:pt x="489" y="603"/>
                  </a:lnTo>
                  <a:lnTo>
                    <a:pt x="480" y="583"/>
                  </a:lnTo>
                  <a:lnTo>
                    <a:pt x="469" y="562"/>
                  </a:lnTo>
                  <a:lnTo>
                    <a:pt x="458" y="540"/>
                  </a:lnTo>
                  <a:lnTo>
                    <a:pt x="446" y="519"/>
                  </a:lnTo>
                  <a:lnTo>
                    <a:pt x="434" y="499"/>
                  </a:lnTo>
                  <a:lnTo>
                    <a:pt x="422" y="481"/>
                  </a:lnTo>
                  <a:lnTo>
                    <a:pt x="410" y="462"/>
                  </a:lnTo>
                  <a:lnTo>
                    <a:pt x="398" y="446"/>
                  </a:lnTo>
                  <a:lnTo>
                    <a:pt x="386" y="430"/>
                  </a:lnTo>
                  <a:lnTo>
                    <a:pt x="371" y="415"/>
                  </a:lnTo>
                  <a:lnTo>
                    <a:pt x="359" y="402"/>
                  </a:lnTo>
                  <a:lnTo>
                    <a:pt x="344" y="389"/>
                  </a:lnTo>
                  <a:lnTo>
                    <a:pt x="329" y="378"/>
                  </a:lnTo>
                  <a:lnTo>
                    <a:pt x="314" y="368"/>
                  </a:lnTo>
                  <a:lnTo>
                    <a:pt x="299" y="360"/>
                  </a:lnTo>
                  <a:lnTo>
                    <a:pt x="283" y="352"/>
                  </a:lnTo>
                  <a:lnTo>
                    <a:pt x="267" y="347"/>
                  </a:lnTo>
                  <a:lnTo>
                    <a:pt x="252" y="342"/>
                  </a:lnTo>
                  <a:lnTo>
                    <a:pt x="239" y="340"/>
                  </a:lnTo>
                  <a:lnTo>
                    <a:pt x="232" y="340"/>
                  </a:lnTo>
                  <a:lnTo>
                    <a:pt x="228" y="340"/>
                  </a:lnTo>
                  <a:lnTo>
                    <a:pt x="222" y="341"/>
                  </a:lnTo>
                  <a:lnTo>
                    <a:pt x="218" y="343"/>
                  </a:lnTo>
                  <a:lnTo>
                    <a:pt x="215" y="346"/>
                  </a:lnTo>
                  <a:lnTo>
                    <a:pt x="212" y="348"/>
                  </a:lnTo>
                  <a:lnTo>
                    <a:pt x="208" y="351"/>
                  </a:lnTo>
                  <a:lnTo>
                    <a:pt x="206" y="354"/>
                  </a:lnTo>
                  <a:lnTo>
                    <a:pt x="202" y="363"/>
                  </a:lnTo>
                  <a:lnTo>
                    <a:pt x="200" y="374"/>
                  </a:lnTo>
                  <a:lnTo>
                    <a:pt x="198" y="387"/>
                  </a:lnTo>
                  <a:lnTo>
                    <a:pt x="198" y="401"/>
                  </a:lnTo>
                  <a:lnTo>
                    <a:pt x="198" y="417"/>
                  </a:lnTo>
                  <a:lnTo>
                    <a:pt x="198" y="434"/>
                  </a:lnTo>
                  <a:lnTo>
                    <a:pt x="200" y="473"/>
                  </a:lnTo>
                  <a:lnTo>
                    <a:pt x="203" y="517"/>
                  </a:lnTo>
                  <a:lnTo>
                    <a:pt x="203" y="538"/>
                  </a:lnTo>
                  <a:lnTo>
                    <a:pt x="203" y="557"/>
                  </a:lnTo>
                  <a:lnTo>
                    <a:pt x="201" y="573"/>
                  </a:lnTo>
                  <a:lnTo>
                    <a:pt x="200" y="587"/>
                  </a:lnTo>
                  <a:lnTo>
                    <a:pt x="196" y="599"/>
                  </a:lnTo>
                  <a:lnTo>
                    <a:pt x="193" y="609"/>
                  </a:lnTo>
                  <a:lnTo>
                    <a:pt x="191" y="612"/>
                  </a:lnTo>
                  <a:lnTo>
                    <a:pt x="188" y="616"/>
                  </a:lnTo>
                  <a:lnTo>
                    <a:pt x="186" y="618"/>
                  </a:lnTo>
                  <a:lnTo>
                    <a:pt x="182" y="619"/>
                  </a:lnTo>
                  <a:lnTo>
                    <a:pt x="180" y="620"/>
                  </a:lnTo>
                  <a:lnTo>
                    <a:pt x="177" y="621"/>
                  </a:lnTo>
                  <a:lnTo>
                    <a:pt x="174" y="620"/>
                  </a:lnTo>
                  <a:lnTo>
                    <a:pt x="171" y="619"/>
                  </a:lnTo>
                  <a:lnTo>
                    <a:pt x="162" y="616"/>
                  </a:lnTo>
                  <a:lnTo>
                    <a:pt x="154" y="609"/>
                  </a:lnTo>
                  <a:lnTo>
                    <a:pt x="145" y="599"/>
                  </a:lnTo>
                  <a:lnTo>
                    <a:pt x="135" y="587"/>
                  </a:lnTo>
                  <a:lnTo>
                    <a:pt x="125" y="573"/>
                  </a:lnTo>
                  <a:lnTo>
                    <a:pt x="113" y="556"/>
                  </a:lnTo>
                  <a:close/>
                </a:path>
              </a:pathLst>
            </a:custGeom>
            <a:solidFill>
              <a:srgbClr val="6fa0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5278320" y="2367000"/>
              <a:ext cx="152640" cy="184320"/>
            </a:xfrm>
            <a:custGeom>
              <a:avLst/>
              <a:gdLst/>
              <a:ahLst/>
              <a:rect l="l" t="t" r="r" b="b"/>
              <a:pathLst>
                <a:path w="483" h="580">
                  <a:moveTo>
                    <a:pt x="105" y="517"/>
                  </a:moveTo>
                  <a:lnTo>
                    <a:pt x="71" y="461"/>
                  </a:lnTo>
                  <a:lnTo>
                    <a:pt x="43" y="409"/>
                  </a:lnTo>
                  <a:lnTo>
                    <a:pt x="31" y="385"/>
                  </a:lnTo>
                  <a:lnTo>
                    <a:pt x="20" y="361"/>
                  </a:lnTo>
                  <a:lnTo>
                    <a:pt x="13" y="339"/>
                  </a:lnTo>
                  <a:lnTo>
                    <a:pt x="6" y="316"/>
                  </a:lnTo>
                  <a:lnTo>
                    <a:pt x="3" y="305"/>
                  </a:lnTo>
                  <a:lnTo>
                    <a:pt x="2" y="295"/>
                  </a:lnTo>
                  <a:lnTo>
                    <a:pt x="1" y="284"/>
                  </a:lnTo>
                  <a:lnTo>
                    <a:pt x="0" y="273"/>
                  </a:lnTo>
                  <a:lnTo>
                    <a:pt x="0" y="262"/>
                  </a:lnTo>
                  <a:lnTo>
                    <a:pt x="0" y="252"/>
                  </a:lnTo>
                  <a:lnTo>
                    <a:pt x="2" y="242"/>
                  </a:lnTo>
                  <a:lnTo>
                    <a:pt x="3" y="231"/>
                  </a:lnTo>
                  <a:lnTo>
                    <a:pt x="6" y="220"/>
                  </a:lnTo>
                  <a:lnTo>
                    <a:pt x="10" y="210"/>
                  </a:lnTo>
                  <a:lnTo>
                    <a:pt x="13" y="199"/>
                  </a:lnTo>
                  <a:lnTo>
                    <a:pt x="18" y="189"/>
                  </a:lnTo>
                  <a:lnTo>
                    <a:pt x="24" y="178"/>
                  </a:lnTo>
                  <a:lnTo>
                    <a:pt x="30" y="167"/>
                  </a:lnTo>
                  <a:lnTo>
                    <a:pt x="37" y="156"/>
                  </a:lnTo>
                  <a:lnTo>
                    <a:pt x="45" y="145"/>
                  </a:lnTo>
                  <a:lnTo>
                    <a:pt x="77" y="106"/>
                  </a:lnTo>
                  <a:lnTo>
                    <a:pt x="104" y="72"/>
                  </a:lnTo>
                  <a:lnTo>
                    <a:pt x="116" y="58"/>
                  </a:lnTo>
                  <a:lnTo>
                    <a:pt x="127" y="46"/>
                  </a:lnTo>
                  <a:lnTo>
                    <a:pt x="138" y="35"/>
                  </a:lnTo>
                  <a:lnTo>
                    <a:pt x="148" y="26"/>
                  </a:lnTo>
                  <a:lnTo>
                    <a:pt x="159" y="18"/>
                  </a:lnTo>
                  <a:lnTo>
                    <a:pt x="168" y="12"/>
                  </a:lnTo>
                  <a:lnTo>
                    <a:pt x="177" y="7"/>
                  </a:lnTo>
                  <a:lnTo>
                    <a:pt x="187" y="3"/>
                  </a:lnTo>
                  <a:lnTo>
                    <a:pt x="197" y="1"/>
                  </a:lnTo>
                  <a:lnTo>
                    <a:pt x="206" y="0"/>
                  </a:lnTo>
                  <a:lnTo>
                    <a:pt x="216" y="0"/>
                  </a:lnTo>
                  <a:lnTo>
                    <a:pt x="226" y="0"/>
                  </a:lnTo>
                  <a:lnTo>
                    <a:pt x="236" y="2"/>
                  </a:lnTo>
                  <a:lnTo>
                    <a:pt x="248" y="4"/>
                  </a:lnTo>
                  <a:lnTo>
                    <a:pt x="260" y="8"/>
                  </a:lnTo>
                  <a:lnTo>
                    <a:pt x="272" y="15"/>
                  </a:lnTo>
                  <a:lnTo>
                    <a:pt x="285" y="22"/>
                  </a:lnTo>
                  <a:lnTo>
                    <a:pt x="298" y="33"/>
                  </a:lnTo>
                  <a:lnTo>
                    <a:pt x="311" y="45"/>
                  </a:lnTo>
                  <a:lnTo>
                    <a:pt x="324" y="59"/>
                  </a:lnTo>
                  <a:lnTo>
                    <a:pt x="338" y="76"/>
                  </a:lnTo>
                  <a:lnTo>
                    <a:pt x="351" y="96"/>
                  </a:lnTo>
                  <a:lnTo>
                    <a:pt x="365" y="118"/>
                  </a:lnTo>
                  <a:lnTo>
                    <a:pt x="378" y="144"/>
                  </a:lnTo>
                  <a:lnTo>
                    <a:pt x="392" y="174"/>
                  </a:lnTo>
                  <a:lnTo>
                    <a:pt x="405" y="206"/>
                  </a:lnTo>
                  <a:lnTo>
                    <a:pt x="418" y="242"/>
                  </a:lnTo>
                  <a:lnTo>
                    <a:pt x="431" y="282"/>
                  </a:lnTo>
                  <a:lnTo>
                    <a:pt x="443" y="323"/>
                  </a:lnTo>
                  <a:lnTo>
                    <a:pt x="453" y="360"/>
                  </a:lnTo>
                  <a:lnTo>
                    <a:pt x="461" y="396"/>
                  </a:lnTo>
                  <a:lnTo>
                    <a:pt x="469" y="427"/>
                  </a:lnTo>
                  <a:lnTo>
                    <a:pt x="474" y="457"/>
                  </a:lnTo>
                  <a:lnTo>
                    <a:pt x="478" y="482"/>
                  </a:lnTo>
                  <a:lnTo>
                    <a:pt x="481" y="505"/>
                  </a:lnTo>
                  <a:lnTo>
                    <a:pt x="483" y="522"/>
                  </a:lnTo>
                  <a:lnTo>
                    <a:pt x="482" y="538"/>
                  </a:lnTo>
                  <a:lnTo>
                    <a:pt x="481" y="547"/>
                  </a:lnTo>
                  <a:lnTo>
                    <a:pt x="480" y="550"/>
                  </a:lnTo>
                  <a:lnTo>
                    <a:pt x="477" y="553"/>
                  </a:lnTo>
                  <a:lnTo>
                    <a:pt x="476" y="554"/>
                  </a:lnTo>
                  <a:lnTo>
                    <a:pt x="473" y="553"/>
                  </a:lnTo>
                  <a:lnTo>
                    <a:pt x="471" y="552"/>
                  </a:lnTo>
                  <a:lnTo>
                    <a:pt x="468" y="548"/>
                  </a:lnTo>
                  <a:lnTo>
                    <a:pt x="464" y="545"/>
                  </a:lnTo>
                  <a:lnTo>
                    <a:pt x="461" y="540"/>
                  </a:lnTo>
                  <a:lnTo>
                    <a:pt x="453" y="525"/>
                  </a:lnTo>
                  <a:lnTo>
                    <a:pt x="443" y="504"/>
                  </a:lnTo>
                  <a:lnTo>
                    <a:pt x="422" y="462"/>
                  </a:lnTo>
                  <a:lnTo>
                    <a:pt x="403" y="426"/>
                  </a:lnTo>
                  <a:lnTo>
                    <a:pt x="393" y="410"/>
                  </a:lnTo>
                  <a:lnTo>
                    <a:pt x="383" y="396"/>
                  </a:lnTo>
                  <a:lnTo>
                    <a:pt x="373" y="382"/>
                  </a:lnTo>
                  <a:lnTo>
                    <a:pt x="363" y="370"/>
                  </a:lnTo>
                  <a:lnTo>
                    <a:pt x="352" y="358"/>
                  </a:lnTo>
                  <a:lnTo>
                    <a:pt x="340" y="349"/>
                  </a:lnTo>
                  <a:lnTo>
                    <a:pt x="328" y="339"/>
                  </a:lnTo>
                  <a:lnTo>
                    <a:pt x="316" y="331"/>
                  </a:lnTo>
                  <a:lnTo>
                    <a:pt x="302" y="324"/>
                  </a:lnTo>
                  <a:lnTo>
                    <a:pt x="288" y="316"/>
                  </a:lnTo>
                  <a:lnTo>
                    <a:pt x="274" y="310"/>
                  </a:lnTo>
                  <a:lnTo>
                    <a:pt x="258" y="304"/>
                  </a:lnTo>
                  <a:lnTo>
                    <a:pt x="242" y="300"/>
                  </a:lnTo>
                  <a:lnTo>
                    <a:pt x="228" y="299"/>
                  </a:lnTo>
                  <a:lnTo>
                    <a:pt x="222" y="299"/>
                  </a:lnTo>
                  <a:lnTo>
                    <a:pt x="216" y="299"/>
                  </a:lnTo>
                  <a:lnTo>
                    <a:pt x="211" y="300"/>
                  </a:lnTo>
                  <a:lnTo>
                    <a:pt x="206" y="302"/>
                  </a:lnTo>
                  <a:lnTo>
                    <a:pt x="201" y="304"/>
                  </a:lnTo>
                  <a:lnTo>
                    <a:pt x="198" y="306"/>
                  </a:lnTo>
                  <a:lnTo>
                    <a:pt x="193" y="310"/>
                  </a:lnTo>
                  <a:lnTo>
                    <a:pt x="190" y="313"/>
                  </a:lnTo>
                  <a:lnTo>
                    <a:pt x="184" y="322"/>
                  </a:lnTo>
                  <a:lnTo>
                    <a:pt x="179" y="332"/>
                  </a:lnTo>
                  <a:lnTo>
                    <a:pt x="176" y="344"/>
                  </a:lnTo>
                  <a:lnTo>
                    <a:pt x="174" y="358"/>
                  </a:lnTo>
                  <a:lnTo>
                    <a:pt x="172" y="374"/>
                  </a:lnTo>
                  <a:lnTo>
                    <a:pt x="171" y="391"/>
                  </a:lnTo>
                  <a:lnTo>
                    <a:pt x="172" y="430"/>
                  </a:lnTo>
                  <a:lnTo>
                    <a:pt x="174" y="472"/>
                  </a:lnTo>
                  <a:lnTo>
                    <a:pt x="175" y="514"/>
                  </a:lnTo>
                  <a:lnTo>
                    <a:pt x="174" y="545"/>
                  </a:lnTo>
                  <a:lnTo>
                    <a:pt x="172" y="557"/>
                  </a:lnTo>
                  <a:lnTo>
                    <a:pt x="171" y="567"/>
                  </a:lnTo>
                  <a:lnTo>
                    <a:pt x="167" y="573"/>
                  </a:lnTo>
                  <a:lnTo>
                    <a:pt x="164" y="577"/>
                  </a:lnTo>
                  <a:lnTo>
                    <a:pt x="162" y="579"/>
                  </a:lnTo>
                  <a:lnTo>
                    <a:pt x="160" y="580"/>
                  </a:lnTo>
                  <a:lnTo>
                    <a:pt x="158" y="580"/>
                  </a:lnTo>
                  <a:lnTo>
                    <a:pt x="154" y="579"/>
                  </a:lnTo>
                  <a:lnTo>
                    <a:pt x="149" y="575"/>
                  </a:lnTo>
                  <a:lnTo>
                    <a:pt x="141" y="569"/>
                  </a:lnTo>
                  <a:lnTo>
                    <a:pt x="134" y="560"/>
                  </a:lnTo>
                  <a:lnTo>
                    <a:pt x="125" y="548"/>
                  </a:lnTo>
                  <a:lnTo>
                    <a:pt x="116" y="534"/>
                  </a:lnTo>
                  <a:lnTo>
                    <a:pt x="105" y="517"/>
                  </a:lnTo>
                  <a:close/>
                </a:path>
              </a:pathLst>
            </a:custGeom>
            <a:solidFill>
              <a:srgbClr val="76a4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5281560" y="2368800"/>
              <a:ext cx="144360" cy="172800"/>
            </a:xfrm>
            <a:custGeom>
              <a:avLst/>
              <a:gdLst/>
              <a:ahLst/>
              <a:rect l="l" t="t" r="r" b="b"/>
              <a:pathLst>
                <a:path w="453" h="541">
                  <a:moveTo>
                    <a:pt x="96" y="480"/>
                  </a:moveTo>
                  <a:lnTo>
                    <a:pt x="79" y="452"/>
                  </a:lnTo>
                  <a:lnTo>
                    <a:pt x="63" y="425"/>
                  </a:lnTo>
                  <a:lnTo>
                    <a:pt x="48" y="400"/>
                  </a:lnTo>
                  <a:lnTo>
                    <a:pt x="36" y="376"/>
                  </a:lnTo>
                  <a:lnTo>
                    <a:pt x="25" y="354"/>
                  </a:lnTo>
                  <a:lnTo>
                    <a:pt x="16" y="333"/>
                  </a:lnTo>
                  <a:lnTo>
                    <a:pt x="9" y="312"/>
                  </a:lnTo>
                  <a:lnTo>
                    <a:pt x="3" y="292"/>
                  </a:lnTo>
                  <a:lnTo>
                    <a:pt x="2" y="282"/>
                  </a:lnTo>
                  <a:lnTo>
                    <a:pt x="0" y="272"/>
                  </a:lnTo>
                  <a:lnTo>
                    <a:pt x="0" y="263"/>
                  </a:lnTo>
                  <a:lnTo>
                    <a:pt x="0" y="253"/>
                  </a:lnTo>
                  <a:lnTo>
                    <a:pt x="0" y="243"/>
                  </a:lnTo>
                  <a:lnTo>
                    <a:pt x="1" y="234"/>
                  </a:lnTo>
                  <a:lnTo>
                    <a:pt x="3" y="224"/>
                  </a:lnTo>
                  <a:lnTo>
                    <a:pt x="5" y="214"/>
                  </a:lnTo>
                  <a:lnTo>
                    <a:pt x="9" y="204"/>
                  </a:lnTo>
                  <a:lnTo>
                    <a:pt x="13" y="195"/>
                  </a:lnTo>
                  <a:lnTo>
                    <a:pt x="17" y="184"/>
                  </a:lnTo>
                  <a:lnTo>
                    <a:pt x="21" y="174"/>
                  </a:lnTo>
                  <a:lnTo>
                    <a:pt x="34" y="154"/>
                  </a:lnTo>
                  <a:lnTo>
                    <a:pt x="50" y="132"/>
                  </a:lnTo>
                  <a:lnTo>
                    <a:pt x="80" y="92"/>
                  </a:lnTo>
                  <a:lnTo>
                    <a:pt x="105" y="62"/>
                  </a:lnTo>
                  <a:lnTo>
                    <a:pt x="117" y="49"/>
                  </a:lnTo>
                  <a:lnTo>
                    <a:pt x="126" y="38"/>
                  </a:lnTo>
                  <a:lnTo>
                    <a:pt x="136" y="28"/>
                  </a:lnTo>
                  <a:lnTo>
                    <a:pt x="145" y="21"/>
                  </a:lnTo>
                  <a:lnTo>
                    <a:pt x="153" y="14"/>
                  </a:lnTo>
                  <a:lnTo>
                    <a:pt x="162" y="9"/>
                  </a:lnTo>
                  <a:lnTo>
                    <a:pt x="171" y="6"/>
                  </a:lnTo>
                  <a:lnTo>
                    <a:pt x="178" y="2"/>
                  </a:lnTo>
                  <a:lnTo>
                    <a:pt x="187" y="0"/>
                  </a:lnTo>
                  <a:lnTo>
                    <a:pt x="195" y="0"/>
                  </a:lnTo>
                  <a:lnTo>
                    <a:pt x="205" y="0"/>
                  </a:lnTo>
                  <a:lnTo>
                    <a:pt x="215" y="0"/>
                  </a:lnTo>
                  <a:lnTo>
                    <a:pt x="226" y="2"/>
                  </a:lnTo>
                  <a:lnTo>
                    <a:pt x="236" y="5"/>
                  </a:lnTo>
                  <a:lnTo>
                    <a:pt x="248" y="9"/>
                  </a:lnTo>
                  <a:lnTo>
                    <a:pt x="259" y="15"/>
                  </a:lnTo>
                  <a:lnTo>
                    <a:pt x="271" y="23"/>
                  </a:lnTo>
                  <a:lnTo>
                    <a:pt x="283" y="33"/>
                  </a:lnTo>
                  <a:lnTo>
                    <a:pt x="295" y="45"/>
                  </a:lnTo>
                  <a:lnTo>
                    <a:pt x="307" y="59"/>
                  </a:lnTo>
                  <a:lnTo>
                    <a:pt x="319" y="76"/>
                  </a:lnTo>
                  <a:lnTo>
                    <a:pt x="330" y="95"/>
                  </a:lnTo>
                  <a:lnTo>
                    <a:pt x="343" y="118"/>
                  </a:lnTo>
                  <a:lnTo>
                    <a:pt x="355" y="143"/>
                  </a:lnTo>
                  <a:lnTo>
                    <a:pt x="368" y="172"/>
                  </a:lnTo>
                  <a:lnTo>
                    <a:pt x="380" y="204"/>
                  </a:lnTo>
                  <a:lnTo>
                    <a:pt x="393" y="240"/>
                  </a:lnTo>
                  <a:lnTo>
                    <a:pt x="405" y="280"/>
                  </a:lnTo>
                  <a:lnTo>
                    <a:pt x="417" y="320"/>
                  </a:lnTo>
                  <a:lnTo>
                    <a:pt x="427" y="356"/>
                  </a:lnTo>
                  <a:lnTo>
                    <a:pt x="435" y="387"/>
                  </a:lnTo>
                  <a:lnTo>
                    <a:pt x="442" y="414"/>
                  </a:lnTo>
                  <a:lnTo>
                    <a:pt x="446" y="438"/>
                  </a:lnTo>
                  <a:lnTo>
                    <a:pt x="449" y="457"/>
                  </a:lnTo>
                  <a:lnTo>
                    <a:pt x="451" y="472"/>
                  </a:lnTo>
                  <a:lnTo>
                    <a:pt x="453" y="484"/>
                  </a:lnTo>
                  <a:lnTo>
                    <a:pt x="451" y="487"/>
                  </a:lnTo>
                  <a:lnTo>
                    <a:pt x="451" y="491"/>
                  </a:lnTo>
                  <a:lnTo>
                    <a:pt x="450" y="493"/>
                  </a:lnTo>
                  <a:lnTo>
                    <a:pt x="448" y="494"/>
                  </a:lnTo>
                  <a:lnTo>
                    <a:pt x="447" y="494"/>
                  </a:lnTo>
                  <a:lnTo>
                    <a:pt x="445" y="494"/>
                  </a:lnTo>
                  <a:lnTo>
                    <a:pt x="443" y="492"/>
                  </a:lnTo>
                  <a:lnTo>
                    <a:pt x="440" y="488"/>
                  </a:lnTo>
                  <a:lnTo>
                    <a:pt x="433" y="480"/>
                  </a:lnTo>
                  <a:lnTo>
                    <a:pt x="427" y="467"/>
                  </a:lnTo>
                  <a:lnTo>
                    <a:pt x="418" y="450"/>
                  </a:lnTo>
                  <a:lnTo>
                    <a:pt x="408" y="428"/>
                  </a:lnTo>
                  <a:lnTo>
                    <a:pt x="389" y="388"/>
                  </a:lnTo>
                  <a:lnTo>
                    <a:pt x="371" y="356"/>
                  </a:lnTo>
                  <a:lnTo>
                    <a:pt x="363" y="343"/>
                  </a:lnTo>
                  <a:lnTo>
                    <a:pt x="355" y="331"/>
                  </a:lnTo>
                  <a:lnTo>
                    <a:pt x="348" y="321"/>
                  </a:lnTo>
                  <a:lnTo>
                    <a:pt x="339" y="312"/>
                  </a:lnTo>
                  <a:lnTo>
                    <a:pt x="332" y="305"/>
                  </a:lnTo>
                  <a:lnTo>
                    <a:pt x="322" y="298"/>
                  </a:lnTo>
                  <a:lnTo>
                    <a:pt x="312" y="292"/>
                  </a:lnTo>
                  <a:lnTo>
                    <a:pt x="301" y="286"/>
                  </a:lnTo>
                  <a:lnTo>
                    <a:pt x="278" y="277"/>
                  </a:lnTo>
                  <a:lnTo>
                    <a:pt x="247" y="267"/>
                  </a:lnTo>
                  <a:lnTo>
                    <a:pt x="231" y="264"/>
                  </a:lnTo>
                  <a:lnTo>
                    <a:pt x="217" y="262"/>
                  </a:lnTo>
                  <a:lnTo>
                    <a:pt x="211" y="262"/>
                  </a:lnTo>
                  <a:lnTo>
                    <a:pt x="204" y="262"/>
                  </a:lnTo>
                  <a:lnTo>
                    <a:pt x="199" y="263"/>
                  </a:lnTo>
                  <a:lnTo>
                    <a:pt x="192" y="265"/>
                  </a:lnTo>
                  <a:lnTo>
                    <a:pt x="188" y="266"/>
                  </a:lnTo>
                  <a:lnTo>
                    <a:pt x="182" y="269"/>
                  </a:lnTo>
                  <a:lnTo>
                    <a:pt x="178" y="272"/>
                  </a:lnTo>
                  <a:lnTo>
                    <a:pt x="174" y="276"/>
                  </a:lnTo>
                  <a:lnTo>
                    <a:pt x="166" y="283"/>
                  </a:lnTo>
                  <a:lnTo>
                    <a:pt x="160" y="294"/>
                  </a:lnTo>
                  <a:lnTo>
                    <a:pt x="154" y="306"/>
                  </a:lnTo>
                  <a:lnTo>
                    <a:pt x="150" y="319"/>
                  </a:lnTo>
                  <a:lnTo>
                    <a:pt x="147" y="334"/>
                  </a:lnTo>
                  <a:lnTo>
                    <a:pt x="145" y="351"/>
                  </a:lnTo>
                  <a:lnTo>
                    <a:pt x="144" y="370"/>
                  </a:lnTo>
                  <a:lnTo>
                    <a:pt x="142" y="389"/>
                  </a:lnTo>
                  <a:lnTo>
                    <a:pt x="142" y="411"/>
                  </a:lnTo>
                  <a:lnTo>
                    <a:pt x="144" y="433"/>
                  </a:lnTo>
                  <a:lnTo>
                    <a:pt x="146" y="474"/>
                  </a:lnTo>
                  <a:lnTo>
                    <a:pt x="148" y="506"/>
                  </a:lnTo>
                  <a:lnTo>
                    <a:pt x="148" y="518"/>
                  </a:lnTo>
                  <a:lnTo>
                    <a:pt x="148" y="527"/>
                  </a:lnTo>
                  <a:lnTo>
                    <a:pt x="147" y="535"/>
                  </a:lnTo>
                  <a:lnTo>
                    <a:pt x="146" y="539"/>
                  </a:lnTo>
                  <a:lnTo>
                    <a:pt x="145" y="540"/>
                  </a:lnTo>
                  <a:lnTo>
                    <a:pt x="144" y="541"/>
                  </a:lnTo>
                  <a:lnTo>
                    <a:pt x="142" y="541"/>
                  </a:lnTo>
                  <a:lnTo>
                    <a:pt x="140" y="540"/>
                  </a:lnTo>
                  <a:lnTo>
                    <a:pt x="136" y="537"/>
                  </a:lnTo>
                  <a:lnTo>
                    <a:pt x="131" y="532"/>
                  </a:lnTo>
                  <a:lnTo>
                    <a:pt x="117" y="511"/>
                  </a:lnTo>
                  <a:lnTo>
                    <a:pt x="96" y="480"/>
                  </a:lnTo>
                  <a:close/>
                </a:path>
              </a:pathLst>
            </a:custGeom>
            <a:solidFill>
              <a:srgbClr val="7ca7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5286240" y="2371680"/>
              <a:ext cx="133560" cy="158760"/>
            </a:xfrm>
            <a:custGeom>
              <a:avLst/>
              <a:gdLst/>
              <a:ahLst/>
              <a:rect l="l" t="t" r="r" b="b"/>
              <a:pathLst>
                <a:path w="421" h="501">
                  <a:moveTo>
                    <a:pt x="88" y="442"/>
                  </a:moveTo>
                  <a:lnTo>
                    <a:pt x="55" y="388"/>
                  </a:lnTo>
                  <a:lnTo>
                    <a:pt x="30" y="341"/>
                  </a:lnTo>
                  <a:lnTo>
                    <a:pt x="19" y="321"/>
                  </a:lnTo>
                  <a:lnTo>
                    <a:pt x="12" y="301"/>
                  </a:lnTo>
                  <a:lnTo>
                    <a:pt x="5" y="283"/>
                  </a:lnTo>
                  <a:lnTo>
                    <a:pt x="1" y="264"/>
                  </a:lnTo>
                  <a:lnTo>
                    <a:pt x="0" y="256"/>
                  </a:lnTo>
                  <a:lnTo>
                    <a:pt x="0" y="247"/>
                  </a:lnTo>
                  <a:lnTo>
                    <a:pt x="0" y="239"/>
                  </a:lnTo>
                  <a:lnTo>
                    <a:pt x="0" y="230"/>
                  </a:lnTo>
                  <a:lnTo>
                    <a:pt x="1" y="221"/>
                  </a:lnTo>
                  <a:lnTo>
                    <a:pt x="3" y="213"/>
                  </a:lnTo>
                  <a:lnTo>
                    <a:pt x="5" y="204"/>
                  </a:lnTo>
                  <a:lnTo>
                    <a:pt x="7" y="195"/>
                  </a:lnTo>
                  <a:lnTo>
                    <a:pt x="15" y="177"/>
                  </a:lnTo>
                  <a:lnTo>
                    <a:pt x="26" y="159"/>
                  </a:lnTo>
                  <a:lnTo>
                    <a:pt x="39" y="138"/>
                  </a:lnTo>
                  <a:lnTo>
                    <a:pt x="54" y="118"/>
                  </a:lnTo>
                  <a:lnTo>
                    <a:pt x="83" y="79"/>
                  </a:lnTo>
                  <a:lnTo>
                    <a:pt x="107" y="50"/>
                  </a:lnTo>
                  <a:lnTo>
                    <a:pt x="118" y="38"/>
                  </a:lnTo>
                  <a:lnTo>
                    <a:pt x="126" y="28"/>
                  </a:lnTo>
                  <a:lnTo>
                    <a:pt x="135" y="20"/>
                  </a:lnTo>
                  <a:lnTo>
                    <a:pt x="142" y="14"/>
                  </a:lnTo>
                  <a:lnTo>
                    <a:pt x="149" y="9"/>
                  </a:lnTo>
                  <a:lnTo>
                    <a:pt x="156" y="5"/>
                  </a:lnTo>
                  <a:lnTo>
                    <a:pt x="163" y="3"/>
                  </a:lnTo>
                  <a:lnTo>
                    <a:pt x="171" y="1"/>
                  </a:lnTo>
                  <a:lnTo>
                    <a:pt x="186" y="0"/>
                  </a:lnTo>
                  <a:lnTo>
                    <a:pt x="204" y="1"/>
                  </a:lnTo>
                  <a:lnTo>
                    <a:pt x="215" y="3"/>
                  </a:lnTo>
                  <a:lnTo>
                    <a:pt x="226" y="5"/>
                  </a:lnTo>
                  <a:lnTo>
                    <a:pt x="235" y="10"/>
                  </a:lnTo>
                  <a:lnTo>
                    <a:pt x="246" y="15"/>
                  </a:lnTo>
                  <a:lnTo>
                    <a:pt x="256" y="21"/>
                  </a:lnTo>
                  <a:lnTo>
                    <a:pt x="267" y="31"/>
                  </a:lnTo>
                  <a:lnTo>
                    <a:pt x="276" y="42"/>
                  </a:lnTo>
                  <a:lnTo>
                    <a:pt x="287" y="56"/>
                  </a:lnTo>
                  <a:lnTo>
                    <a:pt x="298" y="72"/>
                  </a:lnTo>
                  <a:lnTo>
                    <a:pt x="309" y="91"/>
                  </a:lnTo>
                  <a:lnTo>
                    <a:pt x="320" y="112"/>
                  </a:lnTo>
                  <a:lnTo>
                    <a:pt x="330" y="138"/>
                  </a:lnTo>
                  <a:lnTo>
                    <a:pt x="341" y="166"/>
                  </a:lnTo>
                  <a:lnTo>
                    <a:pt x="353" y="198"/>
                  </a:lnTo>
                  <a:lnTo>
                    <a:pt x="365" y="233"/>
                  </a:lnTo>
                  <a:lnTo>
                    <a:pt x="378" y="273"/>
                  </a:lnTo>
                  <a:lnTo>
                    <a:pt x="398" y="345"/>
                  </a:lnTo>
                  <a:lnTo>
                    <a:pt x="413" y="396"/>
                  </a:lnTo>
                  <a:lnTo>
                    <a:pt x="417" y="415"/>
                  </a:lnTo>
                  <a:lnTo>
                    <a:pt x="420" y="428"/>
                  </a:lnTo>
                  <a:lnTo>
                    <a:pt x="421" y="437"/>
                  </a:lnTo>
                  <a:lnTo>
                    <a:pt x="420" y="442"/>
                  </a:lnTo>
                  <a:lnTo>
                    <a:pt x="420" y="443"/>
                  </a:lnTo>
                  <a:lnTo>
                    <a:pt x="419" y="443"/>
                  </a:lnTo>
                  <a:lnTo>
                    <a:pt x="417" y="442"/>
                  </a:lnTo>
                  <a:lnTo>
                    <a:pt x="416" y="439"/>
                  </a:lnTo>
                  <a:lnTo>
                    <a:pt x="411" y="433"/>
                  </a:lnTo>
                  <a:lnTo>
                    <a:pt x="406" y="422"/>
                  </a:lnTo>
                  <a:lnTo>
                    <a:pt x="391" y="393"/>
                  </a:lnTo>
                  <a:lnTo>
                    <a:pt x="373" y="352"/>
                  </a:lnTo>
                  <a:lnTo>
                    <a:pt x="354" y="313"/>
                  </a:lnTo>
                  <a:lnTo>
                    <a:pt x="340" y="285"/>
                  </a:lnTo>
                  <a:lnTo>
                    <a:pt x="335" y="274"/>
                  </a:lnTo>
                  <a:lnTo>
                    <a:pt x="329" y="267"/>
                  </a:lnTo>
                  <a:lnTo>
                    <a:pt x="324" y="259"/>
                  </a:lnTo>
                  <a:lnTo>
                    <a:pt x="317" y="255"/>
                  </a:lnTo>
                  <a:lnTo>
                    <a:pt x="312" y="250"/>
                  </a:lnTo>
                  <a:lnTo>
                    <a:pt x="306" y="247"/>
                  </a:lnTo>
                  <a:lnTo>
                    <a:pt x="298" y="245"/>
                  </a:lnTo>
                  <a:lnTo>
                    <a:pt x="289" y="242"/>
                  </a:lnTo>
                  <a:lnTo>
                    <a:pt x="268" y="236"/>
                  </a:lnTo>
                  <a:lnTo>
                    <a:pt x="239" y="229"/>
                  </a:lnTo>
                  <a:lnTo>
                    <a:pt x="223" y="225"/>
                  </a:lnTo>
                  <a:lnTo>
                    <a:pt x="208" y="222"/>
                  </a:lnTo>
                  <a:lnTo>
                    <a:pt x="194" y="223"/>
                  </a:lnTo>
                  <a:lnTo>
                    <a:pt x="181" y="226"/>
                  </a:lnTo>
                  <a:lnTo>
                    <a:pt x="176" y="228"/>
                  </a:lnTo>
                  <a:lnTo>
                    <a:pt x="169" y="230"/>
                  </a:lnTo>
                  <a:lnTo>
                    <a:pt x="165" y="232"/>
                  </a:lnTo>
                  <a:lnTo>
                    <a:pt x="160" y="235"/>
                  </a:lnTo>
                  <a:lnTo>
                    <a:pt x="150" y="244"/>
                  </a:lnTo>
                  <a:lnTo>
                    <a:pt x="142" y="254"/>
                  </a:lnTo>
                  <a:lnTo>
                    <a:pt x="135" y="264"/>
                  </a:lnTo>
                  <a:lnTo>
                    <a:pt x="128" y="279"/>
                  </a:lnTo>
                  <a:lnTo>
                    <a:pt x="124" y="293"/>
                  </a:lnTo>
                  <a:lnTo>
                    <a:pt x="120" y="310"/>
                  </a:lnTo>
                  <a:lnTo>
                    <a:pt x="118" y="327"/>
                  </a:lnTo>
                  <a:lnTo>
                    <a:pt x="115" y="347"/>
                  </a:lnTo>
                  <a:lnTo>
                    <a:pt x="115" y="367"/>
                  </a:lnTo>
                  <a:lnTo>
                    <a:pt x="115" y="390"/>
                  </a:lnTo>
                  <a:lnTo>
                    <a:pt x="119" y="431"/>
                  </a:lnTo>
                  <a:lnTo>
                    <a:pt x="122" y="463"/>
                  </a:lnTo>
                  <a:lnTo>
                    <a:pt x="125" y="486"/>
                  </a:lnTo>
                  <a:lnTo>
                    <a:pt x="127" y="499"/>
                  </a:lnTo>
                  <a:lnTo>
                    <a:pt x="127" y="500"/>
                  </a:lnTo>
                  <a:lnTo>
                    <a:pt x="126" y="501"/>
                  </a:lnTo>
                  <a:lnTo>
                    <a:pt x="126" y="501"/>
                  </a:lnTo>
                  <a:lnTo>
                    <a:pt x="125" y="501"/>
                  </a:lnTo>
                  <a:lnTo>
                    <a:pt x="123" y="498"/>
                  </a:lnTo>
                  <a:lnTo>
                    <a:pt x="120" y="492"/>
                  </a:lnTo>
                  <a:lnTo>
                    <a:pt x="108" y="473"/>
                  </a:lnTo>
                  <a:lnTo>
                    <a:pt x="88" y="442"/>
                  </a:lnTo>
                  <a:close/>
                </a:path>
              </a:pathLst>
            </a:custGeom>
            <a:solidFill>
              <a:srgbClr val="82ad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5375160" y="2239920"/>
              <a:ext cx="289080" cy="214560"/>
            </a:xfrm>
            <a:custGeom>
              <a:avLst/>
              <a:gdLst/>
              <a:ahLst/>
              <a:rect l="l" t="t" r="r" b="b"/>
              <a:pathLst>
                <a:path w="910" h="675">
                  <a:moveTo>
                    <a:pt x="706" y="524"/>
                  </a:moveTo>
                  <a:lnTo>
                    <a:pt x="703" y="525"/>
                  </a:lnTo>
                  <a:lnTo>
                    <a:pt x="701" y="527"/>
                  </a:lnTo>
                  <a:lnTo>
                    <a:pt x="699" y="530"/>
                  </a:lnTo>
                  <a:lnTo>
                    <a:pt x="697" y="535"/>
                  </a:lnTo>
                  <a:lnTo>
                    <a:pt x="696" y="543"/>
                  </a:lnTo>
                  <a:lnTo>
                    <a:pt x="695" y="555"/>
                  </a:lnTo>
                  <a:lnTo>
                    <a:pt x="697" y="581"/>
                  </a:lnTo>
                  <a:lnTo>
                    <a:pt x="699" y="608"/>
                  </a:lnTo>
                  <a:lnTo>
                    <a:pt x="699" y="620"/>
                  </a:lnTo>
                  <a:lnTo>
                    <a:pt x="697" y="631"/>
                  </a:lnTo>
                  <a:lnTo>
                    <a:pt x="696" y="635"/>
                  </a:lnTo>
                  <a:lnTo>
                    <a:pt x="695" y="638"/>
                  </a:lnTo>
                  <a:lnTo>
                    <a:pt x="693" y="642"/>
                  </a:lnTo>
                  <a:lnTo>
                    <a:pt x="691" y="644"/>
                  </a:lnTo>
                  <a:lnTo>
                    <a:pt x="688" y="645"/>
                  </a:lnTo>
                  <a:lnTo>
                    <a:pt x="685" y="646"/>
                  </a:lnTo>
                  <a:lnTo>
                    <a:pt x="680" y="645"/>
                  </a:lnTo>
                  <a:lnTo>
                    <a:pt x="676" y="643"/>
                  </a:lnTo>
                  <a:lnTo>
                    <a:pt x="670" y="639"/>
                  </a:lnTo>
                  <a:lnTo>
                    <a:pt x="664" y="635"/>
                  </a:lnTo>
                  <a:lnTo>
                    <a:pt x="656" y="630"/>
                  </a:lnTo>
                  <a:lnTo>
                    <a:pt x="649" y="622"/>
                  </a:lnTo>
                  <a:lnTo>
                    <a:pt x="619" y="594"/>
                  </a:lnTo>
                  <a:lnTo>
                    <a:pt x="593" y="569"/>
                  </a:lnTo>
                  <a:lnTo>
                    <a:pt x="570" y="549"/>
                  </a:lnTo>
                  <a:lnTo>
                    <a:pt x="549" y="531"/>
                  </a:lnTo>
                  <a:lnTo>
                    <a:pt x="530" y="516"/>
                  </a:lnTo>
                  <a:lnTo>
                    <a:pt x="510" y="502"/>
                  </a:lnTo>
                  <a:lnTo>
                    <a:pt x="487" y="488"/>
                  </a:lnTo>
                  <a:lnTo>
                    <a:pt x="461" y="474"/>
                  </a:lnTo>
                  <a:lnTo>
                    <a:pt x="448" y="468"/>
                  </a:lnTo>
                  <a:lnTo>
                    <a:pt x="437" y="462"/>
                  </a:lnTo>
                  <a:lnTo>
                    <a:pt x="427" y="459"/>
                  </a:lnTo>
                  <a:lnTo>
                    <a:pt x="420" y="458"/>
                  </a:lnTo>
                  <a:lnTo>
                    <a:pt x="413" y="458"/>
                  </a:lnTo>
                  <a:lnTo>
                    <a:pt x="408" y="459"/>
                  </a:lnTo>
                  <a:lnTo>
                    <a:pt x="404" y="462"/>
                  </a:lnTo>
                  <a:lnTo>
                    <a:pt x="400" y="467"/>
                  </a:lnTo>
                  <a:lnTo>
                    <a:pt x="398" y="473"/>
                  </a:lnTo>
                  <a:lnTo>
                    <a:pt x="397" y="482"/>
                  </a:lnTo>
                  <a:lnTo>
                    <a:pt x="396" y="491"/>
                  </a:lnTo>
                  <a:lnTo>
                    <a:pt x="397" y="503"/>
                  </a:lnTo>
                  <a:lnTo>
                    <a:pt x="399" y="531"/>
                  </a:lnTo>
                  <a:lnTo>
                    <a:pt x="404" y="566"/>
                  </a:lnTo>
                  <a:lnTo>
                    <a:pt x="406" y="575"/>
                  </a:lnTo>
                  <a:lnTo>
                    <a:pt x="406" y="584"/>
                  </a:lnTo>
                  <a:lnTo>
                    <a:pt x="406" y="593"/>
                  </a:lnTo>
                  <a:lnTo>
                    <a:pt x="405" y="602"/>
                  </a:lnTo>
                  <a:lnTo>
                    <a:pt x="404" y="609"/>
                  </a:lnTo>
                  <a:lnTo>
                    <a:pt x="401" y="618"/>
                  </a:lnTo>
                  <a:lnTo>
                    <a:pt x="398" y="625"/>
                  </a:lnTo>
                  <a:lnTo>
                    <a:pt x="395" y="633"/>
                  </a:lnTo>
                  <a:lnTo>
                    <a:pt x="392" y="639"/>
                  </a:lnTo>
                  <a:lnTo>
                    <a:pt x="387" y="646"/>
                  </a:lnTo>
                  <a:lnTo>
                    <a:pt x="382" y="651"/>
                  </a:lnTo>
                  <a:lnTo>
                    <a:pt x="377" y="657"/>
                  </a:lnTo>
                  <a:lnTo>
                    <a:pt x="371" y="661"/>
                  </a:lnTo>
                  <a:lnTo>
                    <a:pt x="365" y="665"/>
                  </a:lnTo>
                  <a:lnTo>
                    <a:pt x="358" y="669"/>
                  </a:lnTo>
                  <a:lnTo>
                    <a:pt x="352" y="672"/>
                  </a:lnTo>
                  <a:lnTo>
                    <a:pt x="344" y="674"/>
                  </a:lnTo>
                  <a:lnTo>
                    <a:pt x="337" y="675"/>
                  </a:lnTo>
                  <a:lnTo>
                    <a:pt x="328" y="675"/>
                  </a:lnTo>
                  <a:lnTo>
                    <a:pt x="320" y="675"/>
                  </a:lnTo>
                  <a:lnTo>
                    <a:pt x="312" y="674"/>
                  </a:lnTo>
                  <a:lnTo>
                    <a:pt x="303" y="672"/>
                  </a:lnTo>
                  <a:lnTo>
                    <a:pt x="293" y="669"/>
                  </a:lnTo>
                  <a:lnTo>
                    <a:pt x="285" y="664"/>
                  </a:lnTo>
                  <a:lnTo>
                    <a:pt x="275" y="659"/>
                  </a:lnTo>
                  <a:lnTo>
                    <a:pt x="265" y="652"/>
                  </a:lnTo>
                  <a:lnTo>
                    <a:pt x="256" y="645"/>
                  </a:lnTo>
                  <a:lnTo>
                    <a:pt x="246" y="636"/>
                  </a:lnTo>
                  <a:lnTo>
                    <a:pt x="236" y="626"/>
                  </a:lnTo>
                  <a:lnTo>
                    <a:pt x="226" y="616"/>
                  </a:lnTo>
                  <a:lnTo>
                    <a:pt x="217" y="604"/>
                  </a:lnTo>
                  <a:lnTo>
                    <a:pt x="206" y="591"/>
                  </a:lnTo>
                  <a:lnTo>
                    <a:pt x="202" y="582"/>
                  </a:lnTo>
                  <a:lnTo>
                    <a:pt x="189" y="560"/>
                  </a:lnTo>
                  <a:lnTo>
                    <a:pt x="169" y="527"/>
                  </a:lnTo>
                  <a:lnTo>
                    <a:pt x="144" y="490"/>
                  </a:lnTo>
                  <a:lnTo>
                    <a:pt x="130" y="471"/>
                  </a:lnTo>
                  <a:lnTo>
                    <a:pt x="115" y="452"/>
                  </a:lnTo>
                  <a:lnTo>
                    <a:pt x="100" y="433"/>
                  </a:lnTo>
                  <a:lnTo>
                    <a:pt x="84" y="416"/>
                  </a:lnTo>
                  <a:lnTo>
                    <a:pt x="69" y="401"/>
                  </a:lnTo>
                  <a:lnTo>
                    <a:pt x="53" y="389"/>
                  </a:lnTo>
                  <a:lnTo>
                    <a:pt x="44" y="383"/>
                  </a:lnTo>
                  <a:lnTo>
                    <a:pt x="36" y="379"/>
                  </a:lnTo>
                  <a:lnTo>
                    <a:pt x="29" y="376"/>
                  </a:lnTo>
                  <a:lnTo>
                    <a:pt x="21" y="373"/>
                  </a:lnTo>
                  <a:lnTo>
                    <a:pt x="14" y="371"/>
                  </a:lnTo>
                  <a:lnTo>
                    <a:pt x="8" y="367"/>
                  </a:lnTo>
                  <a:lnTo>
                    <a:pt x="4" y="365"/>
                  </a:lnTo>
                  <a:lnTo>
                    <a:pt x="2" y="361"/>
                  </a:lnTo>
                  <a:lnTo>
                    <a:pt x="0" y="358"/>
                  </a:lnTo>
                  <a:lnTo>
                    <a:pt x="0" y="353"/>
                  </a:lnTo>
                  <a:lnTo>
                    <a:pt x="1" y="349"/>
                  </a:lnTo>
                  <a:lnTo>
                    <a:pt x="2" y="344"/>
                  </a:lnTo>
                  <a:lnTo>
                    <a:pt x="8" y="334"/>
                  </a:lnTo>
                  <a:lnTo>
                    <a:pt x="18" y="323"/>
                  </a:lnTo>
                  <a:lnTo>
                    <a:pt x="29" y="312"/>
                  </a:lnTo>
                  <a:lnTo>
                    <a:pt x="43" y="301"/>
                  </a:lnTo>
                  <a:lnTo>
                    <a:pt x="71" y="281"/>
                  </a:lnTo>
                  <a:lnTo>
                    <a:pt x="99" y="264"/>
                  </a:lnTo>
                  <a:lnTo>
                    <a:pt x="120" y="252"/>
                  </a:lnTo>
                  <a:lnTo>
                    <a:pt x="127" y="246"/>
                  </a:lnTo>
                  <a:lnTo>
                    <a:pt x="194" y="213"/>
                  </a:lnTo>
                  <a:lnTo>
                    <a:pt x="260" y="178"/>
                  </a:lnTo>
                  <a:lnTo>
                    <a:pt x="323" y="146"/>
                  </a:lnTo>
                  <a:lnTo>
                    <a:pt x="382" y="116"/>
                  </a:lnTo>
                  <a:lnTo>
                    <a:pt x="435" y="89"/>
                  </a:lnTo>
                  <a:lnTo>
                    <a:pt x="480" y="67"/>
                  </a:lnTo>
                  <a:lnTo>
                    <a:pt x="500" y="59"/>
                  </a:lnTo>
                  <a:lnTo>
                    <a:pt x="517" y="53"/>
                  </a:lnTo>
                  <a:lnTo>
                    <a:pt x="531" y="49"/>
                  </a:lnTo>
                  <a:lnTo>
                    <a:pt x="543" y="47"/>
                  </a:lnTo>
                  <a:lnTo>
                    <a:pt x="547" y="47"/>
                  </a:lnTo>
                  <a:lnTo>
                    <a:pt x="551" y="47"/>
                  </a:lnTo>
                  <a:lnTo>
                    <a:pt x="554" y="48"/>
                  </a:lnTo>
                  <a:lnTo>
                    <a:pt x="557" y="49"/>
                  </a:lnTo>
                  <a:lnTo>
                    <a:pt x="559" y="50"/>
                  </a:lnTo>
                  <a:lnTo>
                    <a:pt x="560" y="52"/>
                  </a:lnTo>
                  <a:lnTo>
                    <a:pt x="562" y="55"/>
                  </a:lnTo>
                  <a:lnTo>
                    <a:pt x="564" y="58"/>
                  </a:lnTo>
                  <a:lnTo>
                    <a:pt x="565" y="66"/>
                  </a:lnTo>
                  <a:lnTo>
                    <a:pt x="565" y="75"/>
                  </a:lnTo>
                  <a:lnTo>
                    <a:pt x="564" y="85"/>
                  </a:lnTo>
                  <a:lnTo>
                    <a:pt x="562" y="96"/>
                  </a:lnTo>
                  <a:lnTo>
                    <a:pt x="558" y="121"/>
                  </a:lnTo>
                  <a:lnTo>
                    <a:pt x="555" y="147"/>
                  </a:lnTo>
                  <a:lnTo>
                    <a:pt x="554" y="160"/>
                  </a:lnTo>
                  <a:lnTo>
                    <a:pt x="554" y="173"/>
                  </a:lnTo>
                  <a:lnTo>
                    <a:pt x="555" y="186"/>
                  </a:lnTo>
                  <a:lnTo>
                    <a:pt x="557" y="198"/>
                  </a:lnTo>
                  <a:lnTo>
                    <a:pt x="559" y="202"/>
                  </a:lnTo>
                  <a:lnTo>
                    <a:pt x="560" y="206"/>
                  </a:lnTo>
                  <a:lnTo>
                    <a:pt x="561" y="209"/>
                  </a:lnTo>
                  <a:lnTo>
                    <a:pt x="564" y="211"/>
                  </a:lnTo>
                  <a:lnTo>
                    <a:pt x="565" y="211"/>
                  </a:lnTo>
                  <a:lnTo>
                    <a:pt x="567" y="210"/>
                  </a:lnTo>
                  <a:lnTo>
                    <a:pt x="568" y="209"/>
                  </a:lnTo>
                  <a:lnTo>
                    <a:pt x="570" y="205"/>
                  </a:lnTo>
                  <a:lnTo>
                    <a:pt x="573" y="198"/>
                  </a:lnTo>
                  <a:lnTo>
                    <a:pt x="576" y="188"/>
                  </a:lnTo>
                  <a:lnTo>
                    <a:pt x="580" y="175"/>
                  </a:lnTo>
                  <a:lnTo>
                    <a:pt x="584" y="161"/>
                  </a:lnTo>
                  <a:lnTo>
                    <a:pt x="591" y="129"/>
                  </a:lnTo>
                  <a:lnTo>
                    <a:pt x="598" y="95"/>
                  </a:lnTo>
                  <a:lnTo>
                    <a:pt x="605" y="66"/>
                  </a:lnTo>
                  <a:lnTo>
                    <a:pt x="612" y="44"/>
                  </a:lnTo>
                  <a:lnTo>
                    <a:pt x="619" y="27"/>
                  </a:lnTo>
                  <a:lnTo>
                    <a:pt x="627" y="12"/>
                  </a:lnTo>
                  <a:lnTo>
                    <a:pt x="633" y="7"/>
                  </a:lnTo>
                  <a:lnTo>
                    <a:pt x="637" y="2"/>
                  </a:lnTo>
                  <a:lnTo>
                    <a:pt x="640" y="1"/>
                  </a:lnTo>
                  <a:lnTo>
                    <a:pt x="642" y="0"/>
                  </a:lnTo>
                  <a:lnTo>
                    <a:pt x="645" y="0"/>
                  </a:lnTo>
                  <a:lnTo>
                    <a:pt x="648" y="1"/>
                  </a:lnTo>
                  <a:lnTo>
                    <a:pt x="650" y="3"/>
                  </a:lnTo>
                  <a:lnTo>
                    <a:pt x="653" y="5"/>
                  </a:lnTo>
                  <a:lnTo>
                    <a:pt x="655" y="9"/>
                  </a:lnTo>
                  <a:lnTo>
                    <a:pt x="659" y="13"/>
                  </a:lnTo>
                  <a:lnTo>
                    <a:pt x="664" y="26"/>
                  </a:lnTo>
                  <a:lnTo>
                    <a:pt x="669" y="42"/>
                  </a:lnTo>
                  <a:lnTo>
                    <a:pt x="675" y="64"/>
                  </a:lnTo>
                  <a:lnTo>
                    <a:pt x="680" y="91"/>
                  </a:lnTo>
                  <a:lnTo>
                    <a:pt x="686" y="123"/>
                  </a:lnTo>
                  <a:lnTo>
                    <a:pt x="691" y="163"/>
                  </a:lnTo>
                  <a:lnTo>
                    <a:pt x="694" y="184"/>
                  </a:lnTo>
                  <a:lnTo>
                    <a:pt x="699" y="205"/>
                  </a:lnTo>
                  <a:lnTo>
                    <a:pt x="704" y="226"/>
                  </a:lnTo>
                  <a:lnTo>
                    <a:pt x="710" y="246"/>
                  </a:lnTo>
                  <a:lnTo>
                    <a:pt x="717" y="267"/>
                  </a:lnTo>
                  <a:lnTo>
                    <a:pt x="726" y="286"/>
                  </a:lnTo>
                  <a:lnTo>
                    <a:pt x="734" y="307"/>
                  </a:lnTo>
                  <a:lnTo>
                    <a:pt x="744" y="325"/>
                  </a:lnTo>
                  <a:lnTo>
                    <a:pt x="763" y="363"/>
                  </a:lnTo>
                  <a:lnTo>
                    <a:pt x="785" y="398"/>
                  </a:lnTo>
                  <a:lnTo>
                    <a:pt x="807" y="431"/>
                  </a:lnTo>
                  <a:lnTo>
                    <a:pt x="828" y="462"/>
                  </a:lnTo>
                  <a:lnTo>
                    <a:pt x="868" y="515"/>
                  </a:lnTo>
                  <a:lnTo>
                    <a:pt x="897" y="555"/>
                  </a:lnTo>
                  <a:lnTo>
                    <a:pt x="902" y="564"/>
                  </a:lnTo>
                  <a:lnTo>
                    <a:pt x="906" y="570"/>
                  </a:lnTo>
                  <a:lnTo>
                    <a:pt x="909" y="577"/>
                  </a:lnTo>
                  <a:lnTo>
                    <a:pt x="910" y="581"/>
                  </a:lnTo>
                  <a:lnTo>
                    <a:pt x="910" y="585"/>
                  </a:lnTo>
                  <a:lnTo>
                    <a:pt x="909" y="588"/>
                  </a:lnTo>
                  <a:lnTo>
                    <a:pt x="906" y="590"/>
                  </a:lnTo>
                  <a:lnTo>
                    <a:pt x="901" y="591"/>
                  </a:lnTo>
                  <a:lnTo>
                    <a:pt x="889" y="590"/>
                  </a:lnTo>
                  <a:lnTo>
                    <a:pt x="877" y="587"/>
                  </a:lnTo>
                  <a:lnTo>
                    <a:pt x="863" y="583"/>
                  </a:lnTo>
                  <a:lnTo>
                    <a:pt x="850" y="578"/>
                  </a:lnTo>
                  <a:lnTo>
                    <a:pt x="822" y="566"/>
                  </a:lnTo>
                  <a:lnTo>
                    <a:pt x="794" y="552"/>
                  </a:lnTo>
                  <a:lnTo>
                    <a:pt x="767" y="539"/>
                  </a:lnTo>
                  <a:lnTo>
                    <a:pt x="742" y="529"/>
                  </a:lnTo>
                  <a:lnTo>
                    <a:pt x="731" y="525"/>
                  </a:lnTo>
                  <a:lnTo>
                    <a:pt x="721" y="523"/>
                  </a:lnTo>
                  <a:lnTo>
                    <a:pt x="713" y="523"/>
                  </a:lnTo>
                  <a:lnTo>
                    <a:pt x="706" y="524"/>
                  </a:lnTo>
                  <a:close/>
                </a:path>
              </a:pathLst>
            </a:custGeom>
            <a:solidFill>
              <a:srgbClr val="68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5381640" y="2244960"/>
              <a:ext cx="272880" cy="201600"/>
            </a:xfrm>
            <a:custGeom>
              <a:avLst/>
              <a:gdLst/>
              <a:ahLst/>
              <a:rect l="l" t="t" r="r" b="b"/>
              <a:pathLst>
                <a:path w="860" h="634">
                  <a:moveTo>
                    <a:pt x="661" y="473"/>
                  </a:moveTo>
                  <a:lnTo>
                    <a:pt x="658" y="474"/>
                  </a:lnTo>
                  <a:lnTo>
                    <a:pt x="656" y="477"/>
                  </a:lnTo>
                  <a:lnTo>
                    <a:pt x="654" y="480"/>
                  </a:lnTo>
                  <a:lnTo>
                    <a:pt x="653" y="484"/>
                  </a:lnTo>
                  <a:lnTo>
                    <a:pt x="650" y="494"/>
                  </a:lnTo>
                  <a:lnTo>
                    <a:pt x="650" y="505"/>
                  </a:lnTo>
                  <a:lnTo>
                    <a:pt x="650" y="531"/>
                  </a:lnTo>
                  <a:lnTo>
                    <a:pt x="652" y="556"/>
                  </a:lnTo>
                  <a:lnTo>
                    <a:pt x="650" y="567"/>
                  </a:lnTo>
                  <a:lnTo>
                    <a:pt x="649" y="577"/>
                  </a:lnTo>
                  <a:lnTo>
                    <a:pt x="648" y="581"/>
                  </a:lnTo>
                  <a:lnTo>
                    <a:pt x="646" y="585"/>
                  </a:lnTo>
                  <a:lnTo>
                    <a:pt x="644" y="588"/>
                  </a:lnTo>
                  <a:lnTo>
                    <a:pt x="642" y="590"/>
                  </a:lnTo>
                  <a:lnTo>
                    <a:pt x="639" y="591"/>
                  </a:lnTo>
                  <a:lnTo>
                    <a:pt x="635" y="591"/>
                  </a:lnTo>
                  <a:lnTo>
                    <a:pt x="631" y="590"/>
                  </a:lnTo>
                  <a:lnTo>
                    <a:pt x="626" y="588"/>
                  </a:lnTo>
                  <a:lnTo>
                    <a:pt x="620" y="585"/>
                  </a:lnTo>
                  <a:lnTo>
                    <a:pt x="614" y="580"/>
                  </a:lnTo>
                  <a:lnTo>
                    <a:pt x="607" y="574"/>
                  </a:lnTo>
                  <a:lnTo>
                    <a:pt x="600" y="567"/>
                  </a:lnTo>
                  <a:lnTo>
                    <a:pt x="569" y="539"/>
                  </a:lnTo>
                  <a:lnTo>
                    <a:pt x="547" y="517"/>
                  </a:lnTo>
                  <a:lnTo>
                    <a:pt x="528" y="498"/>
                  </a:lnTo>
                  <a:lnTo>
                    <a:pt x="513" y="483"/>
                  </a:lnTo>
                  <a:lnTo>
                    <a:pt x="498" y="470"/>
                  </a:lnTo>
                  <a:lnTo>
                    <a:pt x="482" y="457"/>
                  </a:lnTo>
                  <a:lnTo>
                    <a:pt x="463" y="445"/>
                  </a:lnTo>
                  <a:lnTo>
                    <a:pt x="439" y="431"/>
                  </a:lnTo>
                  <a:lnTo>
                    <a:pt x="426" y="425"/>
                  </a:lnTo>
                  <a:lnTo>
                    <a:pt x="414" y="419"/>
                  </a:lnTo>
                  <a:lnTo>
                    <a:pt x="404" y="416"/>
                  </a:lnTo>
                  <a:lnTo>
                    <a:pt x="394" y="415"/>
                  </a:lnTo>
                  <a:lnTo>
                    <a:pt x="387" y="415"/>
                  </a:lnTo>
                  <a:lnTo>
                    <a:pt x="379" y="417"/>
                  </a:lnTo>
                  <a:lnTo>
                    <a:pt x="374" y="420"/>
                  </a:lnTo>
                  <a:lnTo>
                    <a:pt x="369" y="425"/>
                  </a:lnTo>
                  <a:lnTo>
                    <a:pt x="365" y="432"/>
                  </a:lnTo>
                  <a:lnTo>
                    <a:pt x="362" y="440"/>
                  </a:lnTo>
                  <a:lnTo>
                    <a:pt x="361" y="451"/>
                  </a:lnTo>
                  <a:lnTo>
                    <a:pt x="360" y="461"/>
                  </a:lnTo>
                  <a:lnTo>
                    <a:pt x="360" y="475"/>
                  </a:lnTo>
                  <a:lnTo>
                    <a:pt x="360" y="491"/>
                  </a:lnTo>
                  <a:lnTo>
                    <a:pt x="362" y="507"/>
                  </a:lnTo>
                  <a:lnTo>
                    <a:pt x="364" y="525"/>
                  </a:lnTo>
                  <a:lnTo>
                    <a:pt x="365" y="534"/>
                  </a:lnTo>
                  <a:lnTo>
                    <a:pt x="366" y="544"/>
                  </a:lnTo>
                  <a:lnTo>
                    <a:pt x="366" y="552"/>
                  </a:lnTo>
                  <a:lnTo>
                    <a:pt x="366" y="561"/>
                  </a:lnTo>
                  <a:lnTo>
                    <a:pt x="365" y="568"/>
                  </a:lnTo>
                  <a:lnTo>
                    <a:pt x="363" y="577"/>
                  </a:lnTo>
                  <a:lnTo>
                    <a:pt x="362" y="585"/>
                  </a:lnTo>
                  <a:lnTo>
                    <a:pt x="359" y="592"/>
                  </a:lnTo>
                  <a:lnTo>
                    <a:pt x="357" y="599"/>
                  </a:lnTo>
                  <a:lnTo>
                    <a:pt x="352" y="605"/>
                  </a:lnTo>
                  <a:lnTo>
                    <a:pt x="349" y="610"/>
                  </a:lnTo>
                  <a:lnTo>
                    <a:pt x="345" y="616"/>
                  </a:lnTo>
                  <a:lnTo>
                    <a:pt x="339" y="620"/>
                  </a:lnTo>
                  <a:lnTo>
                    <a:pt x="334" y="625"/>
                  </a:lnTo>
                  <a:lnTo>
                    <a:pt x="329" y="628"/>
                  </a:lnTo>
                  <a:lnTo>
                    <a:pt x="323" y="631"/>
                  </a:lnTo>
                  <a:lnTo>
                    <a:pt x="317" y="633"/>
                  </a:lnTo>
                  <a:lnTo>
                    <a:pt x="310" y="634"/>
                  </a:lnTo>
                  <a:lnTo>
                    <a:pt x="303" y="634"/>
                  </a:lnTo>
                  <a:lnTo>
                    <a:pt x="295" y="634"/>
                  </a:lnTo>
                  <a:lnTo>
                    <a:pt x="288" y="633"/>
                  </a:lnTo>
                  <a:lnTo>
                    <a:pt x="280" y="631"/>
                  </a:lnTo>
                  <a:lnTo>
                    <a:pt x="272" y="628"/>
                  </a:lnTo>
                  <a:lnTo>
                    <a:pt x="264" y="623"/>
                  </a:lnTo>
                  <a:lnTo>
                    <a:pt x="255" y="618"/>
                  </a:lnTo>
                  <a:lnTo>
                    <a:pt x="246" y="612"/>
                  </a:lnTo>
                  <a:lnTo>
                    <a:pt x="237" y="604"/>
                  </a:lnTo>
                  <a:lnTo>
                    <a:pt x="227" y="596"/>
                  </a:lnTo>
                  <a:lnTo>
                    <a:pt x="218" y="587"/>
                  </a:lnTo>
                  <a:lnTo>
                    <a:pt x="209" y="575"/>
                  </a:lnTo>
                  <a:lnTo>
                    <a:pt x="199" y="563"/>
                  </a:lnTo>
                  <a:lnTo>
                    <a:pt x="189" y="550"/>
                  </a:lnTo>
                  <a:lnTo>
                    <a:pt x="185" y="542"/>
                  </a:lnTo>
                  <a:lnTo>
                    <a:pt x="175" y="522"/>
                  </a:lnTo>
                  <a:lnTo>
                    <a:pt x="159" y="493"/>
                  </a:lnTo>
                  <a:lnTo>
                    <a:pt x="137" y="459"/>
                  </a:lnTo>
                  <a:lnTo>
                    <a:pt x="125" y="442"/>
                  </a:lnTo>
                  <a:lnTo>
                    <a:pt x="113" y="425"/>
                  </a:lnTo>
                  <a:lnTo>
                    <a:pt x="98" y="407"/>
                  </a:lnTo>
                  <a:lnTo>
                    <a:pt x="84" y="392"/>
                  </a:lnTo>
                  <a:lnTo>
                    <a:pt x="69" y="378"/>
                  </a:lnTo>
                  <a:lnTo>
                    <a:pt x="54" y="366"/>
                  </a:lnTo>
                  <a:lnTo>
                    <a:pt x="47" y="362"/>
                  </a:lnTo>
                  <a:lnTo>
                    <a:pt x="39" y="358"/>
                  </a:lnTo>
                  <a:lnTo>
                    <a:pt x="31" y="355"/>
                  </a:lnTo>
                  <a:lnTo>
                    <a:pt x="23" y="352"/>
                  </a:lnTo>
                  <a:lnTo>
                    <a:pt x="16" y="349"/>
                  </a:lnTo>
                  <a:lnTo>
                    <a:pt x="10" y="347"/>
                  </a:lnTo>
                  <a:lnTo>
                    <a:pt x="6" y="344"/>
                  </a:lnTo>
                  <a:lnTo>
                    <a:pt x="3" y="340"/>
                  </a:lnTo>
                  <a:lnTo>
                    <a:pt x="1" y="337"/>
                  </a:lnTo>
                  <a:lnTo>
                    <a:pt x="0" y="333"/>
                  </a:lnTo>
                  <a:lnTo>
                    <a:pt x="0" y="329"/>
                  </a:lnTo>
                  <a:lnTo>
                    <a:pt x="2" y="324"/>
                  </a:lnTo>
                  <a:lnTo>
                    <a:pt x="7" y="315"/>
                  </a:lnTo>
                  <a:lnTo>
                    <a:pt x="15" y="305"/>
                  </a:lnTo>
                  <a:lnTo>
                    <a:pt x="25" y="294"/>
                  </a:lnTo>
                  <a:lnTo>
                    <a:pt x="37" y="284"/>
                  </a:lnTo>
                  <a:lnTo>
                    <a:pt x="64" y="265"/>
                  </a:lnTo>
                  <a:lnTo>
                    <a:pt x="89" y="249"/>
                  </a:lnTo>
                  <a:lnTo>
                    <a:pt x="107" y="238"/>
                  </a:lnTo>
                  <a:lnTo>
                    <a:pt x="115" y="234"/>
                  </a:lnTo>
                  <a:lnTo>
                    <a:pt x="181" y="199"/>
                  </a:lnTo>
                  <a:lnTo>
                    <a:pt x="245" y="166"/>
                  </a:lnTo>
                  <a:lnTo>
                    <a:pt x="307" y="133"/>
                  </a:lnTo>
                  <a:lnTo>
                    <a:pt x="363" y="103"/>
                  </a:lnTo>
                  <a:lnTo>
                    <a:pt x="414" y="77"/>
                  </a:lnTo>
                  <a:lnTo>
                    <a:pt x="457" y="56"/>
                  </a:lnTo>
                  <a:lnTo>
                    <a:pt x="475" y="48"/>
                  </a:lnTo>
                  <a:lnTo>
                    <a:pt x="491" y="41"/>
                  </a:lnTo>
                  <a:lnTo>
                    <a:pt x="505" y="38"/>
                  </a:lnTo>
                  <a:lnTo>
                    <a:pt x="515" y="36"/>
                  </a:lnTo>
                  <a:lnTo>
                    <a:pt x="520" y="36"/>
                  </a:lnTo>
                  <a:lnTo>
                    <a:pt x="524" y="36"/>
                  </a:lnTo>
                  <a:lnTo>
                    <a:pt x="527" y="37"/>
                  </a:lnTo>
                  <a:lnTo>
                    <a:pt x="531" y="39"/>
                  </a:lnTo>
                  <a:lnTo>
                    <a:pt x="533" y="41"/>
                  </a:lnTo>
                  <a:lnTo>
                    <a:pt x="535" y="45"/>
                  </a:lnTo>
                  <a:lnTo>
                    <a:pt x="536" y="48"/>
                  </a:lnTo>
                  <a:lnTo>
                    <a:pt x="538" y="52"/>
                  </a:lnTo>
                  <a:lnTo>
                    <a:pt x="539" y="61"/>
                  </a:lnTo>
                  <a:lnTo>
                    <a:pt x="539" y="72"/>
                  </a:lnTo>
                  <a:lnTo>
                    <a:pt x="539" y="83"/>
                  </a:lnTo>
                  <a:lnTo>
                    <a:pt x="538" y="97"/>
                  </a:lnTo>
                  <a:lnTo>
                    <a:pt x="535" y="126"/>
                  </a:lnTo>
                  <a:lnTo>
                    <a:pt x="532" y="155"/>
                  </a:lnTo>
                  <a:lnTo>
                    <a:pt x="531" y="169"/>
                  </a:lnTo>
                  <a:lnTo>
                    <a:pt x="532" y="183"/>
                  </a:lnTo>
                  <a:lnTo>
                    <a:pt x="533" y="197"/>
                  </a:lnTo>
                  <a:lnTo>
                    <a:pt x="535" y="209"/>
                  </a:lnTo>
                  <a:lnTo>
                    <a:pt x="536" y="213"/>
                  </a:lnTo>
                  <a:lnTo>
                    <a:pt x="538" y="217"/>
                  </a:lnTo>
                  <a:lnTo>
                    <a:pt x="539" y="220"/>
                  </a:lnTo>
                  <a:lnTo>
                    <a:pt x="541" y="221"/>
                  </a:lnTo>
                  <a:lnTo>
                    <a:pt x="542" y="221"/>
                  </a:lnTo>
                  <a:lnTo>
                    <a:pt x="545" y="220"/>
                  </a:lnTo>
                  <a:lnTo>
                    <a:pt x="547" y="217"/>
                  </a:lnTo>
                  <a:lnTo>
                    <a:pt x="548" y="215"/>
                  </a:lnTo>
                  <a:lnTo>
                    <a:pt x="552" y="207"/>
                  </a:lnTo>
                  <a:lnTo>
                    <a:pt x="556" y="196"/>
                  </a:lnTo>
                  <a:lnTo>
                    <a:pt x="561" y="182"/>
                  </a:lnTo>
                  <a:lnTo>
                    <a:pt x="564" y="168"/>
                  </a:lnTo>
                  <a:lnTo>
                    <a:pt x="573" y="134"/>
                  </a:lnTo>
                  <a:lnTo>
                    <a:pt x="581" y="100"/>
                  </a:lnTo>
                  <a:lnTo>
                    <a:pt x="588" y="70"/>
                  </a:lnTo>
                  <a:lnTo>
                    <a:pt x="594" y="48"/>
                  </a:lnTo>
                  <a:lnTo>
                    <a:pt x="601" y="31"/>
                  </a:lnTo>
                  <a:lnTo>
                    <a:pt x="607" y="14"/>
                  </a:lnTo>
                  <a:lnTo>
                    <a:pt x="612" y="8"/>
                  </a:lnTo>
                  <a:lnTo>
                    <a:pt x="615" y="2"/>
                  </a:lnTo>
                  <a:lnTo>
                    <a:pt x="617" y="1"/>
                  </a:lnTo>
                  <a:lnTo>
                    <a:pt x="619" y="0"/>
                  </a:lnTo>
                  <a:lnTo>
                    <a:pt x="620" y="0"/>
                  </a:lnTo>
                  <a:lnTo>
                    <a:pt x="622" y="0"/>
                  </a:lnTo>
                  <a:lnTo>
                    <a:pt x="627" y="4"/>
                  </a:lnTo>
                  <a:lnTo>
                    <a:pt x="631" y="11"/>
                  </a:lnTo>
                  <a:lnTo>
                    <a:pt x="635" y="23"/>
                  </a:lnTo>
                  <a:lnTo>
                    <a:pt x="640" y="38"/>
                  </a:lnTo>
                  <a:lnTo>
                    <a:pt x="644" y="60"/>
                  </a:lnTo>
                  <a:lnTo>
                    <a:pt x="648" y="87"/>
                  </a:lnTo>
                  <a:lnTo>
                    <a:pt x="654" y="119"/>
                  </a:lnTo>
                  <a:lnTo>
                    <a:pt x="658" y="159"/>
                  </a:lnTo>
                  <a:lnTo>
                    <a:pt x="661" y="181"/>
                  </a:lnTo>
                  <a:lnTo>
                    <a:pt x="666" y="201"/>
                  </a:lnTo>
                  <a:lnTo>
                    <a:pt x="671" y="222"/>
                  </a:lnTo>
                  <a:lnTo>
                    <a:pt x="677" y="241"/>
                  </a:lnTo>
                  <a:lnTo>
                    <a:pt x="684" y="261"/>
                  </a:lnTo>
                  <a:lnTo>
                    <a:pt x="692" y="279"/>
                  </a:lnTo>
                  <a:lnTo>
                    <a:pt x="700" y="297"/>
                  </a:lnTo>
                  <a:lnTo>
                    <a:pt x="709" y="316"/>
                  </a:lnTo>
                  <a:lnTo>
                    <a:pt x="727" y="349"/>
                  </a:lnTo>
                  <a:lnTo>
                    <a:pt x="747" y="382"/>
                  </a:lnTo>
                  <a:lnTo>
                    <a:pt x="767" y="411"/>
                  </a:lnTo>
                  <a:lnTo>
                    <a:pt x="787" y="438"/>
                  </a:lnTo>
                  <a:lnTo>
                    <a:pt x="823" y="483"/>
                  </a:lnTo>
                  <a:lnTo>
                    <a:pt x="849" y="517"/>
                  </a:lnTo>
                  <a:lnTo>
                    <a:pt x="854" y="523"/>
                  </a:lnTo>
                  <a:lnTo>
                    <a:pt x="857" y="528"/>
                  </a:lnTo>
                  <a:lnTo>
                    <a:pt x="859" y="534"/>
                  </a:lnTo>
                  <a:lnTo>
                    <a:pt x="860" y="537"/>
                  </a:lnTo>
                  <a:lnTo>
                    <a:pt x="859" y="540"/>
                  </a:lnTo>
                  <a:lnTo>
                    <a:pt x="857" y="542"/>
                  </a:lnTo>
                  <a:lnTo>
                    <a:pt x="854" y="545"/>
                  </a:lnTo>
                  <a:lnTo>
                    <a:pt x="849" y="545"/>
                  </a:lnTo>
                  <a:lnTo>
                    <a:pt x="837" y="544"/>
                  </a:lnTo>
                  <a:lnTo>
                    <a:pt x="824" y="541"/>
                  </a:lnTo>
                  <a:lnTo>
                    <a:pt x="811" y="537"/>
                  </a:lnTo>
                  <a:lnTo>
                    <a:pt x="798" y="532"/>
                  </a:lnTo>
                  <a:lnTo>
                    <a:pt x="771" y="520"/>
                  </a:lnTo>
                  <a:lnTo>
                    <a:pt x="744" y="505"/>
                  </a:lnTo>
                  <a:lnTo>
                    <a:pt x="720" y="492"/>
                  </a:lnTo>
                  <a:lnTo>
                    <a:pt x="696" y="480"/>
                  </a:lnTo>
                  <a:lnTo>
                    <a:pt x="686" y="475"/>
                  </a:lnTo>
                  <a:lnTo>
                    <a:pt x="676" y="473"/>
                  </a:lnTo>
                  <a:lnTo>
                    <a:pt x="668" y="472"/>
                  </a:lnTo>
                  <a:lnTo>
                    <a:pt x="661" y="473"/>
                  </a:lnTo>
                  <a:close/>
                </a:path>
              </a:pathLst>
            </a:custGeom>
            <a:solidFill>
              <a:srgbClr val="6fa0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5389560" y="2251080"/>
              <a:ext cx="255600" cy="187560"/>
            </a:xfrm>
            <a:custGeom>
              <a:avLst/>
              <a:gdLst/>
              <a:ahLst/>
              <a:rect l="l" t="t" r="r" b="b"/>
              <a:pathLst>
                <a:path w="806" h="591">
                  <a:moveTo>
                    <a:pt x="616" y="423"/>
                  </a:moveTo>
                  <a:lnTo>
                    <a:pt x="612" y="424"/>
                  </a:lnTo>
                  <a:lnTo>
                    <a:pt x="610" y="426"/>
                  </a:lnTo>
                  <a:lnTo>
                    <a:pt x="608" y="429"/>
                  </a:lnTo>
                  <a:lnTo>
                    <a:pt x="606" y="433"/>
                  </a:lnTo>
                  <a:lnTo>
                    <a:pt x="604" y="441"/>
                  </a:lnTo>
                  <a:lnTo>
                    <a:pt x="603" y="452"/>
                  </a:lnTo>
                  <a:lnTo>
                    <a:pt x="602" y="477"/>
                  </a:lnTo>
                  <a:lnTo>
                    <a:pt x="600" y="502"/>
                  </a:lnTo>
                  <a:lnTo>
                    <a:pt x="599" y="513"/>
                  </a:lnTo>
                  <a:lnTo>
                    <a:pt x="597" y="522"/>
                  </a:lnTo>
                  <a:lnTo>
                    <a:pt x="595" y="527"/>
                  </a:lnTo>
                  <a:lnTo>
                    <a:pt x="593" y="530"/>
                  </a:lnTo>
                  <a:lnTo>
                    <a:pt x="591" y="532"/>
                  </a:lnTo>
                  <a:lnTo>
                    <a:pt x="588" y="534"/>
                  </a:lnTo>
                  <a:lnTo>
                    <a:pt x="584" y="535"/>
                  </a:lnTo>
                  <a:lnTo>
                    <a:pt x="581" y="535"/>
                  </a:lnTo>
                  <a:lnTo>
                    <a:pt x="577" y="534"/>
                  </a:lnTo>
                  <a:lnTo>
                    <a:pt x="571" y="532"/>
                  </a:lnTo>
                  <a:lnTo>
                    <a:pt x="566" y="529"/>
                  </a:lnTo>
                  <a:lnTo>
                    <a:pt x="559" y="524"/>
                  </a:lnTo>
                  <a:lnTo>
                    <a:pt x="552" y="519"/>
                  </a:lnTo>
                  <a:lnTo>
                    <a:pt x="544" y="511"/>
                  </a:lnTo>
                  <a:lnTo>
                    <a:pt x="516" y="484"/>
                  </a:lnTo>
                  <a:lnTo>
                    <a:pt x="497" y="462"/>
                  </a:lnTo>
                  <a:lnTo>
                    <a:pt x="483" y="446"/>
                  </a:lnTo>
                  <a:lnTo>
                    <a:pt x="473" y="433"/>
                  </a:lnTo>
                  <a:lnTo>
                    <a:pt x="464" y="421"/>
                  </a:lnTo>
                  <a:lnTo>
                    <a:pt x="454" y="410"/>
                  </a:lnTo>
                  <a:lnTo>
                    <a:pt x="438" y="399"/>
                  </a:lnTo>
                  <a:lnTo>
                    <a:pt x="416" y="386"/>
                  </a:lnTo>
                  <a:lnTo>
                    <a:pt x="402" y="380"/>
                  </a:lnTo>
                  <a:lnTo>
                    <a:pt x="390" y="374"/>
                  </a:lnTo>
                  <a:lnTo>
                    <a:pt x="378" y="371"/>
                  </a:lnTo>
                  <a:lnTo>
                    <a:pt x="367" y="370"/>
                  </a:lnTo>
                  <a:lnTo>
                    <a:pt x="357" y="370"/>
                  </a:lnTo>
                  <a:lnTo>
                    <a:pt x="349" y="372"/>
                  </a:lnTo>
                  <a:lnTo>
                    <a:pt x="341" y="375"/>
                  </a:lnTo>
                  <a:lnTo>
                    <a:pt x="335" y="381"/>
                  </a:lnTo>
                  <a:lnTo>
                    <a:pt x="328" y="388"/>
                  </a:lnTo>
                  <a:lnTo>
                    <a:pt x="324" y="397"/>
                  </a:lnTo>
                  <a:lnTo>
                    <a:pt x="321" y="407"/>
                  </a:lnTo>
                  <a:lnTo>
                    <a:pt x="319" y="419"/>
                  </a:lnTo>
                  <a:lnTo>
                    <a:pt x="317" y="433"/>
                  </a:lnTo>
                  <a:lnTo>
                    <a:pt x="317" y="448"/>
                  </a:lnTo>
                  <a:lnTo>
                    <a:pt x="319" y="464"/>
                  </a:lnTo>
                  <a:lnTo>
                    <a:pt x="322" y="482"/>
                  </a:lnTo>
                  <a:lnTo>
                    <a:pt x="324" y="501"/>
                  </a:lnTo>
                  <a:lnTo>
                    <a:pt x="324" y="518"/>
                  </a:lnTo>
                  <a:lnTo>
                    <a:pt x="323" y="534"/>
                  </a:lnTo>
                  <a:lnTo>
                    <a:pt x="320" y="549"/>
                  </a:lnTo>
                  <a:lnTo>
                    <a:pt x="317" y="556"/>
                  </a:lnTo>
                  <a:lnTo>
                    <a:pt x="315" y="562"/>
                  </a:lnTo>
                  <a:lnTo>
                    <a:pt x="312" y="568"/>
                  </a:lnTo>
                  <a:lnTo>
                    <a:pt x="309" y="573"/>
                  </a:lnTo>
                  <a:lnTo>
                    <a:pt x="306" y="578"/>
                  </a:lnTo>
                  <a:lnTo>
                    <a:pt x="301" y="582"/>
                  </a:lnTo>
                  <a:lnTo>
                    <a:pt x="297" y="586"/>
                  </a:lnTo>
                  <a:lnTo>
                    <a:pt x="292" y="588"/>
                  </a:lnTo>
                  <a:lnTo>
                    <a:pt x="286" y="590"/>
                  </a:lnTo>
                  <a:lnTo>
                    <a:pt x="281" y="591"/>
                  </a:lnTo>
                  <a:lnTo>
                    <a:pt x="275" y="591"/>
                  </a:lnTo>
                  <a:lnTo>
                    <a:pt x="269" y="591"/>
                  </a:lnTo>
                  <a:lnTo>
                    <a:pt x="262" y="590"/>
                  </a:lnTo>
                  <a:lnTo>
                    <a:pt x="255" y="588"/>
                  </a:lnTo>
                  <a:lnTo>
                    <a:pt x="248" y="585"/>
                  </a:lnTo>
                  <a:lnTo>
                    <a:pt x="241" y="581"/>
                  </a:lnTo>
                  <a:lnTo>
                    <a:pt x="233" y="575"/>
                  </a:lnTo>
                  <a:lnTo>
                    <a:pt x="225" y="569"/>
                  </a:lnTo>
                  <a:lnTo>
                    <a:pt x="216" y="562"/>
                  </a:lnTo>
                  <a:lnTo>
                    <a:pt x="207" y="554"/>
                  </a:lnTo>
                  <a:lnTo>
                    <a:pt x="199" y="544"/>
                  </a:lnTo>
                  <a:lnTo>
                    <a:pt x="190" y="533"/>
                  </a:lnTo>
                  <a:lnTo>
                    <a:pt x="180" y="520"/>
                  </a:lnTo>
                  <a:lnTo>
                    <a:pt x="171" y="507"/>
                  </a:lnTo>
                  <a:lnTo>
                    <a:pt x="167" y="501"/>
                  </a:lnTo>
                  <a:lnTo>
                    <a:pt x="160" y="482"/>
                  </a:lnTo>
                  <a:lnTo>
                    <a:pt x="146" y="457"/>
                  </a:lnTo>
                  <a:lnTo>
                    <a:pt x="128" y="427"/>
                  </a:lnTo>
                  <a:lnTo>
                    <a:pt x="118" y="412"/>
                  </a:lnTo>
                  <a:lnTo>
                    <a:pt x="107" y="397"/>
                  </a:lnTo>
                  <a:lnTo>
                    <a:pt x="95" y="382"/>
                  </a:lnTo>
                  <a:lnTo>
                    <a:pt x="82" y="368"/>
                  </a:lnTo>
                  <a:lnTo>
                    <a:pt x="69" y="356"/>
                  </a:lnTo>
                  <a:lnTo>
                    <a:pt x="55" y="345"/>
                  </a:lnTo>
                  <a:lnTo>
                    <a:pt x="47" y="341"/>
                  </a:lnTo>
                  <a:lnTo>
                    <a:pt x="40" y="338"/>
                  </a:lnTo>
                  <a:lnTo>
                    <a:pt x="32" y="334"/>
                  </a:lnTo>
                  <a:lnTo>
                    <a:pt x="25" y="331"/>
                  </a:lnTo>
                  <a:lnTo>
                    <a:pt x="17" y="329"/>
                  </a:lnTo>
                  <a:lnTo>
                    <a:pt x="12" y="327"/>
                  </a:lnTo>
                  <a:lnTo>
                    <a:pt x="7" y="324"/>
                  </a:lnTo>
                  <a:lnTo>
                    <a:pt x="4" y="320"/>
                  </a:lnTo>
                  <a:lnTo>
                    <a:pt x="2" y="317"/>
                  </a:lnTo>
                  <a:lnTo>
                    <a:pt x="1" y="313"/>
                  </a:lnTo>
                  <a:lnTo>
                    <a:pt x="0" y="308"/>
                  </a:lnTo>
                  <a:lnTo>
                    <a:pt x="1" y="304"/>
                  </a:lnTo>
                  <a:lnTo>
                    <a:pt x="2" y="300"/>
                  </a:lnTo>
                  <a:lnTo>
                    <a:pt x="5" y="295"/>
                  </a:lnTo>
                  <a:lnTo>
                    <a:pt x="7" y="290"/>
                  </a:lnTo>
                  <a:lnTo>
                    <a:pt x="12" y="286"/>
                  </a:lnTo>
                  <a:lnTo>
                    <a:pt x="20" y="276"/>
                  </a:lnTo>
                  <a:lnTo>
                    <a:pt x="30" y="266"/>
                  </a:lnTo>
                  <a:lnTo>
                    <a:pt x="54" y="248"/>
                  </a:lnTo>
                  <a:lnTo>
                    <a:pt x="75" y="233"/>
                  </a:lnTo>
                  <a:lnTo>
                    <a:pt x="93" y="222"/>
                  </a:lnTo>
                  <a:lnTo>
                    <a:pt x="99" y="218"/>
                  </a:lnTo>
                  <a:lnTo>
                    <a:pt x="165" y="184"/>
                  </a:lnTo>
                  <a:lnTo>
                    <a:pt x="228" y="151"/>
                  </a:lnTo>
                  <a:lnTo>
                    <a:pt x="287" y="119"/>
                  </a:lnTo>
                  <a:lnTo>
                    <a:pt x="341" y="90"/>
                  </a:lnTo>
                  <a:lnTo>
                    <a:pt x="390" y="64"/>
                  </a:lnTo>
                  <a:lnTo>
                    <a:pt x="431" y="45"/>
                  </a:lnTo>
                  <a:lnTo>
                    <a:pt x="448" y="37"/>
                  </a:lnTo>
                  <a:lnTo>
                    <a:pt x="463" y="31"/>
                  </a:lnTo>
                  <a:lnTo>
                    <a:pt x="476" y="27"/>
                  </a:lnTo>
                  <a:lnTo>
                    <a:pt x="487" y="24"/>
                  </a:lnTo>
                  <a:lnTo>
                    <a:pt x="491" y="24"/>
                  </a:lnTo>
                  <a:lnTo>
                    <a:pt x="496" y="25"/>
                  </a:lnTo>
                  <a:lnTo>
                    <a:pt x="499" y="27"/>
                  </a:lnTo>
                  <a:lnTo>
                    <a:pt x="502" y="29"/>
                  </a:lnTo>
                  <a:lnTo>
                    <a:pt x="504" y="32"/>
                  </a:lnTo>
                  <a:lnTo>
                    <a:pt x="506" y="35"/>
                  </a:lnTo>
                  <a:lnTo>
                    <a:pt x="508" y="40"/>
                  </a:lnTo>
                  <a:lnTo>
                    <a:pt x="509" y="44"/>
                  </a:lnTo>
                  <a:lnTo>
                    <a:pt x="511" y="55"/>
                  </a:lnTo>
                  <a:lnTo>
                    <a:pt x="512" y="67"/>
                  </a:lnTo>
                  <a:lnTo>
                    <a:pt x="511" y="81"/>
                  </a:lnTo>
                  <a:lnTo>
                    <a:pt x="511" y="95"/>
                  </a:lnTo>
                  <a:lnTo>
                    <a:pt x="508" y="127"/>
                  </a:lnTo>
                  <a:lnTo>
                    <a:pt x="505" y="158"/>
                  </a:lnTo>
                  <a:lnTo>
                    <a:pt x="505" y="175"/>
                  </a:lnTo>
                  <a:lnTo>
                    <a:pt x="505" y="190"/>
                  </a:lnTo>
                  <a:lnTo>
                    <a:pt x="506" y="203"/>
                  </a:lnTo>
                  <a:lnTo>
                    <a:pt x="510" y="216"/>
                  </a:lnTo>
                  <a:lnTo>
                    <a:pt x="511" y="220"/>
                  </a:lnTo>
                  <a:lnTo>
                    <a:pt x="513" y="224"/>
                  </a:lnTo>
                  <a:lnTo>
                    <a:pt x="515" y="226"/>
                  </a:lnTo>
                  <a:lnTo>
                    <a:pt x="516" y="227"/>
                  </a:lnTo>
                  <a:lnTo>
                    <a:pt x="518" y="227"/>
                  </a:lnTo>
                  <a:lnTo>
                    <a:pt x="521" y="227"/>
                  </a:lnTo>
                  <a:lnTo>
                    <a:pt x="523" y="225"/>
                  </a:lnTo>
                  <a:lnTo>
                    <a:pt x="525" y="222"/>
                  </a:lnTo>
                  <a:lnTo>
                    <a:pt x="529" y="213"/>
                  </a:lnTo>
                  <a:lnTo>
                    <a:pt x="533" y="203"/>
                  </a:lnTo>
                  <a:lnTo>
                    <a:pt x="538" y="189"/>
                  </a:lnTo>
                  <a:lnTo>
                    <a:pt x="543" y="173"/>
                  </a:lnTo>
                  <a:lnTo>
                    <a:pt x="552" y="140"/>
                  </a:lnTo>
                  <a:lnTo>
                    <a:pt x="561" y="105"/>
                  </a:lnTo>
                  <a:lnTo>
                    <a:pt x="569" y="74"/>
                  </a:lnTo>
                  <a:lnTo>
                    <a:pt x="577" y="52"/>
                  </a:lnTo>
                  <a:lnTo>
                    <a:pt x="582" y="34"/>
                  </a:lnTo>
                  <a:lnTo>
                    <a:pt x="588" y="17"/>
                  </a:lnTo>
                  <a:lnTo>
                    <a:pt x="590" y="9"/>
                  </a:lnTo>
                  <a:lnTo>
                    <a:pt x="592" y="4"/>
                  </a:lnTo>
                  <a:lnTo>
                    <a:pt x="594" y="1"/>
                  </a:lnTo>
                  <a:lnTo>
                    <a:pt x="596" y="0"/>
                  </a:lnTo>
                  <a:lnTo>
                    <a:pt x="598" y="3"/>
                  </a:lnTo>
                  <a:lnTo>
                    <a:pt x="600" y="8"/>
                  </a:lnTo>
                  <a:lnTo>
                    <a:pt x="604" y="19"/>
                  </a:lnTo>
                  <a:lnTo>
                    <a:pt x="607" y="34"/>
                  </a:lnTo>
                  <a:lnTo>
                    <a:pt x="615" y="82"/>
                  </a:lnTo>
                  <a:lnTo>
                    <a:pt x="623" y="154"/>
                  </a:lnTo>
                  <a:lnTo>
                    <a:pt x="626" y="175"/>
                  </a:lnTo>
                  <a:lnTo>
                    <a:pt x="631" y="195"/>
                  </a:lnTo>
                  <a:lnTo>
                    <a:pt x="635" y="214"/>
                  </a:lnTo>
                  <a:lnTo>
                    <a:pt x="640" y="234"/>
                  </a:lnTo>
                  <a:lnTo>
                    <a:pt x="647" y="252"/>
                  </a:lnTo>
                  <a:lnTo>
                    <a:pt x="654" y="270"/>
                  </a:lnTo>
                  <a:lnTo>
                    <a:pt x="662" y="287"/>
                  </a:lnTo>
                  <a:lnTo>
                    <a:pt x="670" y="303"/>
                  </a:lnTo>
                  <a:lnTo>
                    <a:pt x="687" y="334"/>
                  </a:lnTo>
                  <a:lnTo>
                    <a:pt x="705" y="362"/>
                  </a:lnTo>
                  <a:lnTo>
                    <a:pt x="724" y="388"/>
                  </a:lnTo>
                  <a:lnTo>
                    <a:pt x="742" y="412"/>
                  </a:lnTo>
                  <a:lnTo>
                    <a:pt x="774" y="450"/>
                  </a:lnTo>
                  <a:lnTo>
                    <a:pt x="797" y="477"/>
                  </a:lnTo>
                  <a:lnTo>
                    <a:pt x="800" y="482"/>
                  </a:lnTo>
                  <a:lnTo>
                    <a:pt x="804" y="487"/>
                  </a:lnTo>
                  <a:lnTo>
                    <a:pt x="805" y="491"/>
                  </a:lnTo>
                  <a:lnTo>
                    <a:pt x="806" y="494"/>
                  </a:lnTo>
                  <a:lnTo>
                    <a:pt x="805" y="496"/>
                  </a:lnTo>
                  <a:lnTo>
                    <a:pt x="802" y="499"/>
                  </a:lnTo>
                  <a:lnTo>
                    <a:pt x="799" y="500"/>
                  </a:lnTo>
                  <a:lnTo>
                    <a:pt x="794" y="500"/>
                  </a:lnTo>
                  <a:lnTo>
                    <a:pt x="782" y="499"/>
                  </a:lnTo>
                  <a:lnTo>
                    <a:pt x="770" y="495"/>
                  </a:lnTo>
                  <a:lnTo>
                    <a:pt x="758" y="491"/>
                  </a:lnTo>
                  <a:lnTo>
                    <a:pt x="745" y="486"/>
                  </a:lnTo>
                  <a:lnTo>
                    <a:pt x="720" y="472"/>
                  </a:lnTo>
                  <a:lnTo>
                    <a:pt x="694" y="456"/>
                  </a:lnTo>
                  <a:lnTo>
                    <a:pt x="671" y="441"/>
                  </a:lnTo>
                  <a:lnTo>
                    <a:pt x="649" y="429"/>
                  </a:lnTo>
                  <a:lnTo>
                    <a:pt x="639" y="425"/>
                  </a:lnTo>
                  <a:lnTo>
                    <a:pt x="631" y="423"/>
                  </a:lnTo>
                  <a:lnTo>
                    <a:pt x="622" y="422"/>
                  </a:lnTo>
                  <a:lnTo>
                    <a:pt x="616" y="423"/>
                  </a:lnTo>
                  <a:close/>
                </a:path>
              </a:pathLst>
            </a:custGeom>
            <a:solidFill>
              <a:srgbClr val="76a4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5396040" y="2255760"/>
              <a:ext cx="239400" cy="174600"/>
            </a:xfrm>
            <a:custGeom>
              <a:avLst/>
              <a:gdLst/>
              <a:ahLst/>
              <a:rect l="l" t="t" r="r" b="b"/>
              <a:pathLst>
                <a:path w="757" h="549">
                  <a:moveTo>
                    <a:pt x="571" y="372"/>
                  </a:moveTo>
                  <a:lnTo>
                    <a:pt x="568" y="373"/>
                  </a:lnTo>
                  <a:lnTo>
                    <a:pt x="565" y="377"/>
                  </a:lnTo>
                  <a:lnTo>
                    <a:pt x="563" y="379"/>
                  </a:lnTo>
                  <a:lnTo>
                    <a:pt x="561" y="383"/>
                  </a:lnTo>
                  <a:lnTo>
                    <a:pt x="559" y="392"/>
                  </a:lnTo>
                  <a:lnTo>
                    <a:pt x="557" y="403"/>
                  </a:lnTo>
                  <a:lnTo>
                    <a:pt x="555" y="426"/>
                  </a:lnTo>
                  <a:lnTo>
                    <a:pt x="553" y="450"/>
                  </a:lnTo>
                  <a:lnTo>
                    <a:pt x="551" y="461"/>
                  </a:lnTo>
                  <a:lnTo>
                    <a:pt x="549" y="470"/>
                  </a:lnTo>
                  <a:lnTo>
                    <a:pt x="547" y="474"/>
                  </a:lnTo>
                  <a:lnTo>
                    <a:pt x="545" y="477"/>
                  </a:lnTo>
                  <a:lnTo>
                    <a:pt x="542" y="479"/>
                  </a:lnTo>
                  <a:lnTo>
                    <a:pt x="539" y="480"/>
                  </a:lnTo>
                  <a:lnTo>
                    <a:pt x="535" y="481"/>
                  </a:lnTo>
                  <a:lnTo>
                    <a:pt x="532" y="480"/>
                  </a:lnTo>
                  <a:lnTo>
                    <a:pt x="526" y="479"/>
                  </a:lnTo>
                  <a:lnTo>
                    <a:pt x="522" y="477"/>
                  </a:lnTo>
                  <a:lnTo>
                    <a:pt x="516" y="474"/>
                  </a:lnTo>
                  <a:lnTo>
                    <a:pt x="509" y="470"/>
                  </a:lnTo>
                  <a:lnTo>
                    <a:pt x="503" y="463"/>
                  </a:lnTo>
                  <a:lnTo>
                    <a:pt x="494" y="457"/>
                  </a:lnTo>
                  <a:lnTo>
                    <a:pt x="479" y="441"/>
                  </a:lnTo>
                  <a:lnTo>
                    <a:pt x="467" y="429"/>
                  </a:lnTo>
                  <a:lnTo>
                    <a:pt x="458" y="418"/>
                  </a:lnTo>
                  <a:lnTo>
                    <a:pt x="451" y="409"/>
                  </a:lnTo>
                  <a:lnTo>
                    <a:pt x="442" y="394"/>
                  </a:lnTo>
                  <a:lnTo>
                    <a:pt x="437" y="383"/>
                  </a:lnTo>
                  <a:lnTo>
                    <a:pt x="436" y="378"/>
                  </a:lnTo>
                  <a:lnTo>
                    <a:pt x="434" y="373"/>
                  </a:lnTo>
                  <a:lnTo>
                    <a:pt x="430" y="369"/>
                  </a:lnTo>
                  <a:lnTo>
                    <a:pt x="427" y="365"/>
                  </a:lnTo>
                  <a:lnTo>
                    <a:pt x="422" y="360"/>
                  </a:lnTo>
                  <a:lnTo>
                    <a:pt x="414" y="355"/>
                  </a:lnTo>
                  <a:lnTo>
                    <a:pt x="405" y="350"/>
                  </a:lnTo>
                  <a:lnTo>
                    <a:pt x="393" y="342"/>
                  </a:lnTo>
                  <a:lnTo>
                    <a:pt x="380" y="337"/>
                  </a:lnTo>
                  <a:lnTo>
                    <a:pt x="367" y="332"/>
                  </a:lnTo>
                  <a:lnTo>
                    <a:pt x="354" y="329"/>
                  </a:lnTo>
                  <a:lnTo>
                    <a:pt x="342" y="328"/>
                  </a:lnTo>
                  <a:lnTo>
                    <a:pt x="331" y="329"/>
                  </a:lnTo>
                  <a:lnTo>
                    <a:pt x="320" y="331"/>
                  </a:lnTo>
                  <a:lnTo>
                    <a:pt x="311" y="335"/>
                  </a:lnTo>
                  <a:lnTo>
                    <a:pt x="303" y="340"/>
                  </a:lnTo>
                  <a:lnTo>
                    <a:pt x="296" y="348"/>
                  </a:lnTo>
                  <a:lnTo>
                    <a:pt x="290" y="356"/>
                  </a:lnTo>
                  <a:lnTo>
                    <a:pt x="284" y="366"/>
                  </a:lnTo>
                  <a:lnTo>
                    <a:pt x="281" y="378"/>
                  </a:lnTo>
                  <a:lnTo>
                    <a:pt x="279" y="392"/>
                  </a:lnTo>
                  <a:lnTo>
                    <a:pt x="278" y="407"/>
                  </a:lnTo>
                  <a:lnTo>
                    <a:pt x="279" y="423"/>
                  </a:lnTo>
                  <a:lnTo>
                    <a:pt x="281" y="441"/>
                  </a:lnTo>
                  <a:lnTo>
                    <a:pt x="284" y="460"/>
                  </a:lnTo>
                  <a:lnTo>
                    <a:pt x="286" y="477"/>
                  </a:lnTo>
                  <a:lnTo>
                    <a:pt x="286" y="493"/>
                  </a:lnTo>
                  <a:lnTo>
                    <a:pt x="283" y="508"/>
                  </a:lnTo>
                  <a:lnTo>
                    <a:pt x="281" y="521"/>
                  </a:lnTo>
                  <a:lnTo>
                    <a:pt x="277" y="532"/>
                  </a:lnTo>
                  <a:lnTo>
                    <a:pt x="274" y="537"/>
                  </a:lnTo>
                  <a:lnTo>
                    <a:pt x="272" y="541"/>
                  </a:lnTo>
                  <a:lnTo>
                    <a:pt x="267" y="544"/>
                  </a:lnTo>
                  <a:lnTo>
                    <a:pt x="264" y="546"/>
                  </a:lnTo>
                  <a:lnTo>
                    <a:pt x="260" y="548"/>
                  </a:lnTo>
                  <a:lnTo>
                    <a:pt x="255" y="549"/>
                  </a:lnTo>
                  <a:lnTo>
                    <a:pt x="250" y="549"/>
                  </a:lnTo>
                  <a:lnTo>
                    <a:pt x="246" y="549"/>
                  </a:lnTo>
                  <a:lnTo>
                    <a:pt x="239" y="547"/>
                  </a:lnTo>
                  <a:lnTo>
                    <a:pt x="234" y="545"/>
                  </a:lnTo>
                  <a:lnTo>
                    <a:pt x="227" y="542"/>
                  </a:lnTo>
                  <a:lnTo>
                    <a:pt x="221" y="538"/>
                  </a:lnTo>
                  <a:lnTo>
                    <a:pt x="213" y="532"/>
                  </a:lnTo>
                  <a:lnTo>
                    <a:pt x="206" y="526"/>
                  </a:lnTo>
                  <a:lnTo>
                    <a:pt x="198" y="519"/>
                  </a:lnTo>
                  <a:lnTo>
                    <a:pt x="189" y="511"/>
                  </a:lnTo>
                  <a:lnTo>
                    <a:pt x="172" y="489"/>
                  </a:lnTo>
                  <a:lnTo>
                    <a:pt x="153" y="464"/>
                  </a:lnTo>
                  <a:lnTo>
                    <a:pt x="152" y="458"/>
                  </a:lnTo>
                  <a:lnTo>
                    <a:pt x="145" y="443"/>
                  </a:lnTo>
                  <a:lnTo>
                    <a:pt x="135" y="421"/>
                  </a:lnTo>
                  <a:lnTo>
                    <a:pt x="121" y="395"/>
                  </a:lnTo>
                  <a:lnTo>
                    <a:pt x="114" y="382"/>
                  </a:lnTo>
                  <a:lnTo>
                    <a:pt x="104" y="369"/>
                  </a:lnTo>
                  <a:lnTo>
                    <a:pt x="93" y="356"/>
                  </a:lnTo>
                  <a:lnTo>
                    <a:pt x="82" y="344"/>
                  </a:lnTo>
                  <a:lnTo>
                    <a:pt x="70" y="332"/>
                  </a:lnTo>
                  <a:lnTo>
                    <a:pt x="57" y="324"/>
                  </a:lnTo>
                  <a:lnTo>
                    <a:pt x="50" y="319"/>
                  </a:lnTo>
                  <a:lnTo>
                    <a:pt x="42" y="316"/>
                  </a:lnTo>
                  <a:lnTo>
                    <a:pt x="35" y="313"/>
                  </a:lnTo>
                  <a:lnTo>
                    <a:pt x="27" y="311"/>
                  </a:lnTo>
                  <a:lnTo>
                    <a:pt x="20" y="309"/>
                  </a:lnTo>
                  <a:lnTo>
                    <a:pt x="14" y="305"/>
                  </a:lnTo>
                  <a:lnTo>
                    <a:pt x="9" y="303"/>
                  </a:lnTo>
                  <a:lnTo>
                    <a:pt x="6" y="300"/>
                  </a:lnTo>
                  <a:lnTo>
                    <a:pt x="3" y="296"/>
                  </a:lnTo>
                  <a:lnTo>
                    <a:pt x="1" y="292"/>
                  </a:lnTo>
                  <a:lnTo>
                    <a:pt x="0" y="288"/>
                  </a:lnTo>
                  <a:lnTo>
                    <a:pt x="0" y="285"/>
                  </a:lnTo>
                  <a:lnTo>
                    <a:pt x="1" y="281"/>
                  </a:lnTo>
                  <a:lnTo>
                    <a:pt x="4" y="276"/>
                  </a:lnTo>
                  <a:lnTo>
                    <a:pt x="6" y="272"/>
                  </a:lnTo>
                  <a:lnTo>
                    <a:pt x="9" y="268"/>
                  </a:lnTo>
                  <a:lnTo>
                    <a:pt x="17" y="258"/>
                  </a:lnTo>
                  <a:lnTo>
                    <a:pt x="25" y="249"/>
                  </a:lnTo>
                  <a:lnTo>
                    <a:pt x="46" y="232"/>
                  </a:lnTo>
                  <a:lnTo>
                    <a:pt x="65" y="218"/>
                  </a:lnTo>
                  <a:lnTo>
                    <a:pt x="80" y="208"/>
                  </a:lnTo>
                  <a:lnTo>
                    <a:pt x="87" y="204"/>
                  </a:lnTo>
                  <a:lnTo>
                    <a:pt x="152" y="170"/>
                  </a:lnTo>
                  <a:lnTo>
                    <a:pt x="213" y="138"/>
                  </a:lnTo>
                  <a:lnTo>
                    <a:pt x="270" y="107"/>
                  </a:lnTo>
                  <a:lnTo>
                    <a:pt x="322" y="79"/>
                  </a:lnTo>
                  <a:lnTo>
                    <a:pt x="369" y="55"/>
                  </a:lnTo>
                  <a:lnTo>
                    <a:pt x="408" y="35"/>
                  </a:lnTo>
                  <a:lnTo>
                    <a:pt x="425" y="28"/>
                  </a:lnTo>
                  <a:lnTo>
                    <a:pt x="439" y="22"/>
                  </a:lnTo>
                  <a:lnTo>
                    <a:pt x="452" y="18"/>
                  </a:lnTo>
                  <a:lnTo>
                    <a:pt x="463" y="16"/>
                  </a:lnTo>
                  <a:lnTo>
                    <a:pt x="467" y="16"/>
                  </a:lnTo>
                  <a:lnTo>
                    <a:pt x="470" y="17"/>
                  </a:lnTo>
                  <a:lnTo>
                    <a:pt x="474" y="18"/>
                  </a:lnTo>
                  <a:lnTo>
                    <a:pt x="477" y="20"/>
                  </a:lnTo>
                  <a:lnTo>
                    <a:pt x="479" y="24"/>
                  </a:lnTo>
                  <a:lnTo>
                    <a:pt x="481" y="28"/>
                  </a:lnTo>
                  <a:lnTo>
                    <a:pt x="483" y="32"/>
                  </a:lnTo>
                  <a:lnTo>
                    <a:pt x="484" y="36"/>
                  </a:lnTo>
                  <a:lnTo>
                    <a:pt x="486" y="48"/>
                  </a:lnTo>
                  <a:lnTo>
                    <a:pt x="488" y="62"/>
                  </a:lnTo>
                  <a:lnTo>
                    <a:pt x="488" y="78"/>
                  </a:lnTo>
                  <a:lnTo>
                    <a:pt x="486" y="94"/>
                  </a:lnTo>
                  <a:lnTo>
                    <a:pt x="484" y="129"/>
                  </a:lnTo>
                  <a:lnTo>
                    <a:pt x="483" y="164"/>
                  </a:lnTo>
                  <a:lnTo>
                    <a:pt x="482" y="181"/>
                  </a:lnTo>
                  <a:lnTo>
                    <a:pt x="483" y="197"/>
                  </a:lnTo>
                  <a:lnTo>
                    <a:pt x="484" y="211"/>
                  </a:lnTo>
                  <a:lnTo>
                    <a:pt x="486" y="224"/>
                  </a:lnTo>
                  <a:lnTo>
                    <a:pt x="489" y="229"/>
                  </a:lnTo>
                  <a:lnTo>
                    <a:pt x="491" y="233"/>
                  </a:lnTo>
                  <a:lnTo>
                    <a:pt x="492" y="235"/>
                  </a:lnTo>
                  <a:lnTo>
                    <a:pt x="494" y="236"/>
                  </a:lnTo>
                  <a:lnTo>
                    <a:pt x="496" y="236"/>
                  </a:lnTo>
                  <a:lnTo>
                    <a:pt x="498" y="235"/>
                  </a:lnTo>
                  <a:lnTo>
                    <a:pt x="501" y="233"/>
                  </a:lnTo>
                  <a:lnTo>
                    <a:pt x="503" y="230"/>
                  </a:lnTo>
                  <a:lnTo>
                    <a:pt x="508" y="221"/>
                  </a:lnTo>
                  <a:lnTo>
                    <a:pt x="512" y="209"/>
                  </a:lnTo>
                  <a:lnTo>
                    <a:pt x="518" y="195"/>
                  </a:lnTo>
                  <a:lnTo>
                    <a:pt x="523" y="180"/>
                  </a:lnTo>
                  <a:lnTo>
                    <a:pt x="533" y="144"/>
                  </a:lnTo>
                  <a:lnTo>
                    <a:pt x="543" y="110"/>
                  </a:lnTo>
                  <a:lnTo>
                    <a:pt x="551" y="79"/>
                  </a:lnTo>
                  <a:lnTo>
                    <a:pt x="559" y="56"/>
                  </a:lnTo>
                  <a:lnTo>
                    <a:pt x="564" y="38"/>
                  </a:lnTo>
                  <a:lnTo>
                    <a:pt x="568" y="19"/>
                  </a:lnTo>
                  <a:lnTo>
                    <a:pt x="570" y="5"/>
                  </a:lnTo>
                  <a:lnTo>
                    <a:pt x="571" y="0"/>
                  </a:lnTo>
                  <a:lnTo>
                    <a:pt x="573" y="7"/>
                  </a:lnTo>
                  <a:lnTo>
                    <a:pt x="577" y="32"/>
                  </a:lnTo>
                  <a:lnTo>
                    <a:pt x="583" y="78"/>
                  </a:lnTo>
                  <a:lnTo>
                    <a:pt x="591" y="150"/>
                  </a:lnTo>
                  <a:lnTo>
                    <a:pt x="593" y="170"/>
                  </a:lnTo>
                  <a:lnTo>
                    <a:pt x="598" y="191"/>
                  </a:lnTo>
                  <a:lnTo>
                    <a:pt x="602" y="210"/>
                  </a:lnTo>
                  <a:lnTo>
                    <a:pt x="607" y="229"/>
                  </a:lnTo>
                  <a:lnTo>
                    <a:pt x="614" y="246"/>
                  </a:lnTo>
                  <a:lnTo>
                    <a:pt x="620" y="262"/>
                  </a:lnTo>
                  <a:lnTo>
                    <a:pt x="627" y="278"/>
                  </a:lnTo>
                  <a:lnTo>
                    <a:pt x="634" y="294"/>
                  </a:lnTo>
                  <a:lnTo>
                    <a:pt x="643" y="308"/>
                  </a:lnTo>
                  <a:lnTo>
                    <a:pt x="651" y="322"/>
                  </a:lnTo>
                  <a:lnTo>
                    <a:pt x="659" y="335"/>
                  </a:lnTo>
                  <a:lnTo>
                    <a:pt x="668" y="346"/>
                  </a:lnTo>
                  <a:lnTo>
                    <a:pt x="684" y="369"/>
                  </a:lnTo>
                  <a:lnTo>
                    <a:pt x="700" y="389"/>
                  </a:lnTo>
                  <a:lnTo>
                    <a:pt x="730" y="419"/>
                  </a:lnTo>
                  <a:lnTo>
                    <a:pt x="750" y="440"/>
                  </a:lnTo>
                  <a:lnTo>
                    <a:pt x="753" y="445"/>
                  </a:lnTo>
                  <a:lnTo>
                    <a:pt x="755" y="448"/>
                  </a:lnTo>
                  <a:lnTo>
                    <a:pt x="757" y="450"/>
                  </a:lnTo>
                  <a:lnTo>
                    <a:pt x="757" y="452"/>
                  </a:lnTo>
                  <a:lnTo>
                    <a:pt x="755" y="454"/>
                  </a:lnTo>
                  <a:lnTo>
                    <a:pt x="753" y="456"/>
                  </a:lnTo>
                  <a:lnTo>
                    <a:pt x="749" y="457"/>
                  </a:lnTo>
                  <a:lnTo>
                    <a:pt x="744" y="457"/>
                  </a:lnTo>
                  <a:lnTo>
                    <a:pt x="733" y="456"/>
                  </a:lnTo>
                  <a:lnTo>
                    <a:pt x="720" y="452"/>
                  </a:lnTo>
                  <a:lnTo>
                    <a:pt x="708" y="448"/>
                  </a:lnTo>
                  <a:lnTo>
                    <a:pt x="695" y="441"/>
                  </a:lnTo>
                  <a:lnTo>
                    <a:pt x="670" y="427"/>
                  </a:lnTo>
                  <a:lnTo>
                    <a:pt x="646" y="410"/>
                  </a:lnTo>
                  <a:lnTo>
                    <a:pt x="624" y="395"/>
                  </a:lnTo>
                  <a:lnTo>
                    <a:pt x="603" y="381"/>
                  </a:lnTo>
                  <a:lnTo>
                    <a:pt x="593" y="377"/>
                  </a:lnTo>
                  <a:lnTo>
                    <a:pt x="585" y="373"/>
                  </a:lnTo>
                  <a:lnTo>
                    <a:pt x="577" y="371"/>
                  </a:lnTo>
                  <a:lnTo>
                    <a:pt x="571" y="372"/>
                  </a:lnTo>
                  <a:close/>
                </a:path>
              </a:pathLst>
            </a:custGeom>
            <a:solidFill>
              <a:srgbClr val="7ca7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5402160" y="2260800"/>
              <a:ext cx="223920" cy="161640"/>
            </a:xfrm>
            <a:custGeom>
              <a:avLst/>
              <a:gdLst/>
              <a:ahLst/>
              <a:rect l="l" t="t" r="r" b="b"/>
              <a:pathLst>
                <a:path w="702" h="509">
                  <a:moveTo>
                    <a:pt x="133" y="422"/>
                  </a:moveTo>
                  <a:lnTo>
                    <a:pt x="132" y="417"/>
                  </a:lnTo>
                  <a:lnTo>
                    <a:pt x="128" y="404"/>
                  </a:lnTo>
                  <a:lnTo>
                    <a:pt x="121" y="386"/>
                  </a:lnTo>
                  <a:lnTo>
                    <a:pt x="111" y="364"/>
                  </a:lnTo>
                  <a:lnTo>
                    <a:pt x="105" y="352"/>
                  </a:lnTo>
                  <a:lnTo>
                    <a:pt x="97" y="340"/>
                  </a:lnTo>
                  <a:lnTo>
                    <a:pt x="89" y="329"/>
                  </a:lnTo>
                  <a:lnTo>
                    <a:pt x="80" y="319"/>
                  </a:lnTo>
                  <a:lnTo>
                    <a:pt x="69" y="309"/>
                  </a:lnTo>
                  <a:lnTo>
                    <a:pt x="56" y="300"/>
                  </a:lnTo>
                  <a:lnTo>
                    <a:pt x="50" y="297"/>
                  </a:lnTo>
                  <a:lnTo>
                    <a:pt x="43" y="294"/>
                  </a:lnTo>
                  <a:lnTo>
                    <a:pt x="37" y="291"/>
                  </a:lnTo>
                  <a:lnTo>
                    <a:pt x="29" y="288"/>
                  </a:lnTo>
                  <a:lnTo>
                    <a:pt x="22" y="286"/>
                  </a:lnTo>
                  <a:lnTo>
                    <a:pt x="15" y="284"/>
                  </a:lnTo>
                  <a:lnTo>
                    <a:pt x="11" y="281"/>
                  </a:lnTo>
                  <a:lnTo>
                    <a:pt x="7" y="278"/>
                  </a:lnTo>
                  <a:lnTo>
                    <a:pt x="3" y="274"/>
                  </a:lnTo>
                  <a:lnTo>
                    <a:pt x="1" y="271"/>
                  </a:lnTo>
                  <a:lnTo>
                    <a:pt x="0" y="268"/>
                  </a:lnTo>
                  <a:lnTo>
                    <a:pt x="0" y="264"/>
                  </a:lnTo>
                  <a:lnTo>
                    <a:pt x="0" y="260"/>
                  </a:lnTo>
                  <a:lnTo>
                    <a:pt x="1" y="256"/>
                  </a:lnTo>
                  <a:lnTo>
                    <a:pt x="3" y="252"/>
                  </a:lnTo>
                  <a:lnTo>
                    <a:pt x="5" y="247"/>
                  </a:lnTo>
                  <a:lnTo>
                    <a:pt x="11" y="239"/>
                  </a:lnTo>
                  <a:lnTo>
                    <a:pt x="18" y="231"/>
                  </a:lnTo>
                  <a:lnTo>
                    <a:pt x="36" y="215"/>
                  </a:lnTo>
                  <a:lnTo>
                    <a:pt x="53" y="202"/>
                  </a:lnTo>
                  <a:lnTo>
                    <a:pt x="66" y="193"/>
                  </a:lnTo>
                  <a:lnTo>
                    <a:pt x="71" y="190"/>
                  </a:lnTo>
                  <a:lnTo>
                    <a:pt x="135" y="157"/>
                  </a:lnTo>
                  <a:lnTo>
                    <a:pt x="196" y="124"/>
                  </a:lnTo>
                  <a:lnTo>
                    <a:pt x="251" y="94"/>
                  </a:lnTo>
                  <a:lnTo>
                    <a:pt x="300" y="66"/>
                  </a:lnTo>
                  <a:lnTo>
                    <a:pt x="344" y="43"/>
                  </a:lnTo>
                  <a:lnTo>
                    <a:pt x="380" y="24"/>
                  </a:lnTo>
                  <a:lnTo>
                    <a:pt x="397" y="16"/>
                  </a:lnTo>
                  <a:lnTo>
                    <a:pt x="411" y="11"/>
                  </a:lnTo>
                  <a:lnTo>
                    <a:pt x="424" y="7"/>
                  </a:lnTo>
                  <a:lnTo>
                    <a:pt x="434" y="4"/>
                  </a:lnTo>
                  <a:lnTo>
                    <a:pt x="439" y="4"/>
                  </a:lnTo>
                  <a:lnTo>
                    <a:pt x="443" y="5"/>
                  </a:lnTo>
                  <a:lnTo>
                    <a:pt x="446" y="8"/>
                  </a:lnTo>
                  <a:lnTo>
                    <a:pt x="449" y="10"/>
                  </a:lnTo>
                  <a:lnTo>
                    <a:pt x="452" y="14"/>
                  </a:lnTo>
                  <a:lnTo>
                    <a:pt x="454" y="18"/>
                  </a:lnTo>
                  <a:lnTo>
                    <a:pt x="456" y="24"/>
                  </a:lnTo>
                  <a:lnTo>
                    <a:pt x="457" y="29"/>
                  </a:lnTo>
                  <a:lnTo>
                    <a:pt x="459" y="43"/>
                  </a:lnTo>
                  <a:lnTo>
                    <a:pt x="460" y="58"/>
                  </a:lnTo>
                  <a:lnTo>
                    <a:pt x="460" y="76"/>
                  </a:lnTo>
                  <a:lnTo>
                    <a:pt x="460" y="94"/>
                  </a:lnTo>
                  <a:lnTo>
                    <a:pt x="458" y="133"/>
                  </a:lnTo>
                  <a:lnTo>
                    <a:pt x="457" y="172"/>
                  </a:lnTo>
                  <a:lnTo>
                    <a:pt x="457" y="190"/>
                  </a:lnTo>
                  <a:lnTo>
                    <a:pt x="457" y="206"/>
                  </a:lnTo>
                  <a:lnTo>
                    <a:pt x="459" y="221"/>
                  </a:lnTo>
                  <a:lnTo>
                    <a:pt x="461" y="234"/>
                  </a:lnTo>
                  <a:lnTo>
                    <a:pt x="463" y="239"/>
                  </a:lnTo>
                  <a:lnTo>
                    <a:pt x="465" y="243"/>
                  </a:lnTo>
                  <a:lnTo>
                    <a:pt x="467" y="245"/>
                  </a:lnTo>
                  <a:lnTo>
                    <a:pt x="469" y="245"/>
                  </a:lnTo>
                  <a:lnTo>
                    <a:pt x="471" y="245"/>
                  </a:lnTo>
                  <a:lnTo>
                    <a:pt x="473" y="244"/>
                  </a:lnTo>
                  <a:lnTo>
                    <a:pt x="476" y="242"/>
                  </a:lnTo>
                  <a:lnTo>
                    <a:pt x="479" y="239"/>
                  </a:lnTo>
                  <a:lnTo>
                    <a:pt x="484" y="229"/>
                  </a:lnTo>
                  <a:lnTo>
                    <a:pt x="489" y="217"/>
                  </a:lnTo>
                  <a:lnTo>
                    <a:pt x="495" y="203"/>
                  </a:lnTo>
                  <a:lnTo>
                    <a:pt x="500" y="187"/>
                  </a:lnTo>
                  <a:lnTo>
                    <a:pt x="512" y="151"/>
                  </a:lnTo>
                  <a:lnTo>
                    <a:pt x="522" y="116"/>
                  </a:lnTo>
                  <a:lnTo>
                    <a:pt x="532" y="84"/>
                  </a:lnTo>
                  <a:lnTo>
                    <a:pt x="538" y="62"/>
                  </a:lnTo>
                  <a:lnTo>
                    <a:pt x="541" y="52"/>
                  </a:lnTo>
                  <a:lnTo>
                    <a:pt x="542" y="42"/>
                  </a:lnTo>
                  <a:lnTo>
                    <a:pt x="543" y="32"/>
                  </a:lnTo>
                  <a:lnTo>
                    <a:pt x="545" y="23"/>
                  </a:lnTo>
                  <a:lnTo>
                    <a:pt x="545" y="8"/>
                  </a:lnTo>
                  <a:lnTo>
                    <a:pt x="543" y="0"/>
                  </a:lnTo>
                  <a:lnTo>
                    <a:pt x="542" y="5"/>
                  </a:lnTo>
                  <a:lnTo>
                    <a:pt x="543" y="29"/>
                  </a:lnTo>
                  <a:lnTo>
                    <a:pt x="548" y="73"/>
                  </a:lnTo>
                  <a:lnTo>
                    <a:pt x="555" y="145"/>
                  </a:lnTo>
                  <a:lnTo>
                    <a:pt x="559" y="166"/>
                  </a:lnTo>
                  <a:lnTo>
                    <a:pt x="562" y="186"/>
                  </a:lnTo>
                  <a:lnTo>
                    <a:pt x="566" y="204"/>
                  </a:lnTo>
                  <a:lnTo>
                    <a:pt x="572" y="221"/>
                  </a:lnTo>
                  <a:lnTo>
                    <a:pt x="577" y="239"/>
                  </a:lnTo>
                  <a:lnTo>
                    <a:pt x="583" y="254"/>
                  </a:lnTo>
                  <a:lnTo>
                    <a:pt x="590" y="269"/>
                  </a:lnTo>
                  <a:lnTo>
                    <a:pt x="596" y="283"/>
                  </a:lnTo>
                  <a:lnTo>
                    <a:pt x="604" y="296"/>
                  </a:lnTo>
                  <a:lnTo>
                    <a:pt x="610" y="308"/>
                  </a:lnTo>
                  <a:lnTo>
                    <a:pt x="618" y="319"/>
                  </a:lnTo>
                  <a:lnTo>
                    <a:pt x="626" y="329"/>
                  </a:lnTo>
                  <a:lnTo>
                    <a:pt x="641" y="348"/>
                  </a:lnTo>
                  <a:lnTo>
                    <a:pt x="656" y="364"/>
                  </a:lnTo>
                  <a:lnTo>
                    <a:pt x="681" y="388"/>
                  </a:lnTo>
                  <a:lnTo>
                    <a:pt x="698" y="403"/>
                  </a:lnTo>
                  <a:lnTo>
                    <a:pt x="700" y="405"/>
                  </a:lnTo>
                  <a:lnTo>
                    <a:pt x="702" y="407"/>
                  </a:lnTo>
                  <a:lnTo>
                    <a:pt x="702" y="408"/>
                  </a:lnTo>
                  <a:lnTo>
                    <a:pt x="702" y="410"/>
                  </a:lnTo>
                  <a:lnTo>
                    <a:pt x="698" y="412"/>
                  </a:lnTo>
                  <a:lnTo>
                    <a:pt x="689" y="413"/>
                  </a:lnTo>
                  <a:lnTo>
                    <a:pt x="677" y="412"/>
                  </a:lnTo>
                  <a:lnTo>
                    <a:pt x="666" y="408"/>
                  </a:lnTo>
                  <a:lnTo>
                    <a:pt x="654" y="403"/>
                  </a:lnTo>
                  <a:lnTo>
                    <a:pt x="642" y="396"/>
                  </a:lnTo>
                  <a:lnTo>
                    <a:pt x="618" y="380"/>
                  </a:lnTo>
                  <a:lnTo>
                    <a:pt x="595" y="363"/>
                  </a:lnTo>
                  <a:lnTo>
                    <a:pt x="574" y="346"/>
                  </a:lnTo>
                  <a:lnTo>
                    <a:pt x="554" y="332"/>
                  </a:lnTo>
                  <a:lnTo>
                    <a:pt x="546" y="327"/>
                  </a:lnTo>
                  <a:lnTo>
                    <a:pt x="537" y="323"/>
                  </a:lnTo>
                  <a:lnTo>
                    <a:pt x="534" y="323"/>
                  </a:lnTo>
                  <a:lnTo>
                    <a:pt x="529" y="322"/>
                  </a:lnTo>
                  <a:lnTo>
                    <a:pt x="526" y="322"/>
                  </a:lnTo>
                  <a:lnTo>
                    <a:pt x="523" y="323"/>
                  </a:lnTo>
                  <a:lnTo>
                    <a:pt x="521" y="324"/>
                  </a:lnTo>
                  <a:lnTo>
                    <a:pt x="518" y="326"/>
                  </a:lnTo>
                  <a:lnTo>
                    <a:pt x="515" y="329"/>
                  </a:lnTo>
                  <a:lnTo>
                    <a:pt x="513" y="333"/>
                  </a:lnTo>
                  <a:lnTo>
                    <a:pt x="510" y="341"/>
                  </a:lnTo>
                  <a:lnTo>
                    <a:pt x="508" y="351"/>
                  </a:lnTo>
                  <a:lnTo>
                    <a:pt x="505" y="374"/>
                  </a:lnTo>
                  <a:lnTo>
                    <a:pt x="501" y="396"/>
                  </a:lnTo>
                  <a:lnTo>
                    <a:pt x="499" y="407"/>
                  </a:lnTo>
                  <a:lnTo>
                    <a:pt x="496" y="415"/>
                  </a:lnTo>
                  <a:lnTo>
                    <a:pt x="494" y="418"/>
                  </a:lnTo>
                  <a:lnTo>
                    <a:pt x="492" y="421"/>
                  </a:lnTo>
                  <a:lnTo>
                    <a:pt x="488" y="423"/>
                  </a:lnTo>
                  <a:lnTo>
                    <a:pt x="485" y="424"/>
                  </a:lnTo>
                  <a:lnTo>
                    <a:pt x="482" y="426"/>
                  </a:lnTo>
                  <a:lnTo>
                    <a:pt x="478" y="424"/>
                  </a:lnTo>
                  <a:lnTo>
                    <a:pt x="472" y="423"/>
                  </a:lnTo>
                  <a:lnTo>
                    <a:pt x="467" y="421"/>
                  </a:lnTo>
                  <a:lnTo>
                    <a:pt x="461" y="418"/>
                  </a:lnTo>
                  <a:lnTo>
                    <a:pt x="455" y="413"/>
                  </a:lnTo>
                  <a:lnTo>
                    <a:pt x="447" y="407"/>
                  </a:lnTo>
                  <a:lnTo>
                    <a:pt x="440" y="400"/>
                  </a:lnTo>
                  <a:lnTo>
                    <a:pt x="425" y="386"/>
                  </a:lnTo>
                  <a:lnTo>
                    <a:pt x="414" y="373"/>
                  </a:lnTo>
                  <a:lnTo>
                    <a:pt x="406" y="363"/>
                  </a:lnTo>
                  <a:lnTo>
                    <a:pt x="401" y="354"/>
                  </a:lnTo>
                  <a:lnTo>
                    <a:pt x="398" y="347"/>
                  </a:lnTo>
                  <a:lnTo>
                    <a:pt x="397" y="341"/>
                  </a:lnTo>
                  <a:lnTo>
                    <a:pt x="397" y="337"/>
                  </a:lnTo>
                  <a:lnTo>
                    <a:pt x="397" y="333"/>
                  </a:lnTo>
                  <a:lnTo>
                    <a:pt x="398" y="329"/>
                  </a:lnTo>
                  <a:lnTo>
                    <a:pt x="399" y="326"/>
                  </a:lnTo>
                  <a:lnTo>
                    <a:pt x="398" y="323"/>
                  </a:lnTo>
                  <a:lnTo>
                    <a:pt x="397" y="320"/>
                  </a:lnTo>
                  <a:lnTo>
                    <a:pt x="393" y="316"/>
                  </a:lnTo>
                  <a:lnTo>
                    <a:pt x="388" y="312"/>
                  </a:lnTo>
                  <a:lnTo>
                    <a:pt x="379" y="307"/>
                  </a:lnTo>
                  <a:lnTo>
                    <a:pt x="367" y="301"/>
                  </a:lnTo>
                  <a:lnTo>
                    <a:pt x="353" y="295"/>
                  </a:lnTo>
                  <a:lnTo>
                    <a:pt x="340" y="289"/>
                  </a:lnTo>
                  <a:lnTo>
                    <a:pt x="326" y="287"/>
                  </a:lnTo>
                  <a:lnTo>
                    <a:pt x="313" y="286"/>
                  </a:lnTo>
                  <a:lnTo>
                    <a:pt x="301" y="286"/>
                  </a:lnTo>
                  <a:lnTo>
                    <a:pt x="290" y="288"/>
                  </a:lnTo>
                  <a:lnTo>
                    <a:pt x="279" y="293"/>
                  </a:lnTo>
                  <a:lnTo>
                    <a:pt x="269" y="298"/>
                  </a:lnTo>
                  <a:lnTo>
                    <a:pt x="260" y="306"/>
                  </a:lnTo>
                  <a:lnTo>
                    <a:pt x="253" y="314"/>
                  </a:lnTo>
                  <a:lnTo>
                    <a:pt x="246" y="325"/>
                  </a:lnTo>
                  <a:lnTo>
                    <a:pt x="241" y="337"/>
                  </a:lnTo>
                  <a:lnTo>
                    <a:pt x="238" y="351"/>
                  </a:lnTo>
                  <a:lnTo>
                    <a:pt x="237" y="365"/>
                  </a:lnTo>
                  <a:lnTo>
                    <a:pt x="237" y="382"/>
                  </a:lnTo>
                  <a:lnTo>
                    <a:pt x="239" y="400"/>
                  </a:lnTo>
                  <a:lnTo>
                    <a:pt x="242" y="418"/>
                  </a:lnTo>
                  <a:lnTo>
                    <a:pt x="244" y="436"/>
                  </a:lnTo>
                  <a:lnTo>
                    <a:pt x="244" y="453"/>
                  </a:lnTo>
                  <a:lnTo>
                    <a:pt x="244" y="468"/>
                  </a:lnTo>
                  <a:lnTo>
                    <a:pt x="243" y="481"/>
                  </a:lnTo>
                  <a:lnTo>
                    <a:pt x="241" y="491"/>
                  </a:lnTo>
                  <a:lnTo>
                    <a:pt x="239" y="496"/>
                  </a:lnTo>
                  <a:lnTo>
                    <a:pt x="238" y="500"/>
                  </a:lnTo>
                  <a:lnTo>
                    <a:pt x="234" y="503"/>
                  </a:lnTo>
                  <a:lnTo>
                    <a:pt x="232" y="505"/>
                  </a:lnTo>
                  <a:lnTo>
                    <a:pt x="229" y="508"/>
                  </a:lnTo>
                  <a:lnTo>
                    <a:pt x="226" y="509"/>
                  </a:lnTo>
                  <a:lnTo>
                    <a:pt x="222" y="509"/>
                  </a:lnTo>
                  <a:lnTo>
                    <a:pt x="217" y="508"/>
                  </a:lnTo>
                  <a:lnTo>
                    <a:pt x="213" y="507"/>
                  </a:lnTo>
                  <a:lnTo>
                    <a:pt x="207" y="504"/>
                  </a:lnTo>
                  <a:lnTo>
                    <a:pt x="202" y="501"/>
                  </a:lnTo>
                  <a:lnTo>
                    <a:pt x="197" y="497"/>
                  </a:lnTo>
                  <a:lnTo>
                    <a:pt x="184" y="485"/>
                  </a:lnTo>
                  <a:lnTo>
                    <a:pt x="169" y="469"/>
                  </a:lnTo>
                  <a:lnTo>
                    <a:pt x="151" y="448"/>
                  </a:lnTo>
                  <a:lnTo>
                    <a:pt x="133" y="422"/>
                  </a:lnTo>
                  <a:close/>
                </a:path>
              </a:pathLst>
            </a:custGeom>
            <a:solidFill>
              <a:srgbClr val="82ad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6035760" y="2389320"/>
              <a:ext cx="128520" cy="231840"/>
            </a:xfrm>
            <a:custGeom>
              <a:avLst/>
              <a:gdLst/>
              <a:ahLst/>
              <a:rect l="l" t="t" r="r" b="b"/>
              <a:pathLst>
                <a:path w="405" h="728">
                  <a:moveTo>
                    <a:pt x="13" y="613"/>
                  </a:moveTo>
                  <a:lnTo>
                    <a:pt x="18" y="593"/>
                  </a:lnTo>
                  <a:lnTo>
                    <a:pt x="32" y="537"/>
                  </a:lnTo>
                  <a:lnTo>
                    <a:pt x="53" y="456"/>
                  </a:lnTo>
                  <a:lnTo>
                    <a:pt x="78" y="361"/>
                  </a:lnTo>
                  <a:lnTo>
                    <a:pt x="106" y="262"/>
                  </a:lnTo>
                  <a:lnTo>
                    <a:pt x="134" y="170"/>
                  </a:lnTo>
                  <a:lnTo>
                    <a:pt x="147" y="128"/>
                  </a:lnTo>
                  <a:lnTo>
                    <a:pt x="159" y="94"/>
                  </a:lnTo>
                  <a:lnTo>
                    <a:pt x="171" y="66"/>
                  </a:lnTo>
                  <a:lnTo>
                    <a:pt x="181" y="45"/>
                  </a:lnTo>
                  <a:lnTo>
                    <a:pt x="190" y="31"/>
                  </a:lnTo>
                  <a:lnTo>
                    <a:pt x="199" y="20"/>
                  </a:lnTo>
                  <a:lnTo>
                    <a:pt x="209" y="12"/>
                  </a:lnTo>
                  <a:lnTo>
                    <a:pt x="218" y="5"/>
                  </a:lnTo>
                  <a:lnTo>
                    <a:pt x="223" y="3"/>
                  </a:lnTo>
                  <a:lnTo>
                    <a:pt x="227" y="1"/>
                  </a:lnTo>
                  <a:lnTo>
                    <a:pt x="232" y="0"/>
                  </a:lnTo>
                  <a:lnTo>
                    <a:pt x="237" y="0"/>
                  </a:lnTo>
                  <a:lnTo>
                    <a:pt x="247" y="1"/>
                  </a:lnTo>
                  <a:lnTo>
                    <a:pt x="256" y="3"/>
                  </a:lnTo>
                  <a:lnTo>
                    <a:pt x="266" y="9"/>
                  </a:lnTo>
                  <a:lnTo>
                    <a:pt x="276" y="15"/>
                  </a:lnTo>
                  <a:lnTo>
                    <a:pt x="285" y="24"/>
                  </a:lnTo>
                  <a:lnTo>
                    <a:pt x="295" y="33"/>
                  </a:lnTo>
                  <a:lnTo>
                    <a:pt x="305" y="45"/>
                  </a:lnTo>
                  <a:lnTo>
                    <a:pt x="316" y="59"/>
                  </a:lnTo>
                  <a:lnTo>
                    <a:pt x="326" y="73"/>
                  </a:lnTo>
                  <a:lnTo>
                    <a:pt x="336" y="90"/>
                  </a:lnTo>
                  <a:lnTo>
                    <a:pt x="347" y="107"/>
                  </a:lnTo>
                  <a:lnTo>
                    <a:pt x="357" y="125"/>
                  </a:lnTo>
                  <a:lnTo>
                    <a:pt x="368" y="144"/>
                  </a:lnTo>
                  <a:lnTo>
                    <a:pt x="377" y="164"/>
                  </a:lnTo>
                  <a:lnTo>
                    <a:pt x="385" y="186"/>
                  </a:lnTo>
                  <a:lnTo>
                    <a:pt x="392" y="207"/>
                  </a:lnTo>
                  <a:lnTo>
                    <a:pt x="399" y="232"/>
                  </a:lnTo>
                  <a:lnTo>
                    <a:pt x="403" y="257"/>
                  </a:lnTo>
                  <a:lnTo>
                    <a:pt x="404" y="270"/>
                  </a:lnTo>
                  <a:lnTo>
                    <a:pt x="405" y="284"/>
                  </a:lnTo>
                  <a:lnTo>
                    <a:pt x="405" y="298"/>
                  </a:lnTo>
                  <a:lnTo>
                    <a:pt x="405" y="313"/>
                  </a:lnTo>
                  <a:lnTo>
                    <a:pt x="404" y="328"/>
                  </a:lnTo>
                  <a:lnTo>
                    <a:pt x="403" y="343"/>
                  </a:lnTo>
                  <a:lnTo>
                    <a:pt x="401" y="360"/>
                  </a:lnTo>
                  <a:lnTo>
                    <a:pt x="398" y="376"/>
                  </a:lnTo>
                  <a:lnTo>
                    <a:pt x="393" y="392"/>
                  </a:lnTo>
                  <a:lnTo>
                    <a:pt x="389" y="409"/>
                  </a:lnTo>
                  <a:lnTo>
                    <a:pt x="384" y="428"/>
                  </a:lnTo>
                  <a:lnTo>
                    <a:pt x="377" y="446"/>
                  </a:lnTo>
                  <a:lnTo>
                    <a:pt x="370" y="464"/>
                  </a:lnTo>
                  <a:lnTo>
                    <a:pt x="361" y="484"/>
                  </a:lnTo>
                  <a:lnTo>
                    <a:pt x="352" y="504"/>
                  </a:lnTo>
                  <a:lnTo>
                    <a:pt x="342" y="525"/>
                  </a:lnTo>
                  <a:lnTo>
                    <a:pt x="320" y="565"/>
                  </a:lnTo>
                  <a:lnTo>
                    <a:pt x="301" y="602"/>
                  </a:lnTo>
                  <a:lnTo>
                    <a:pt x="282" y="635"/>
                  </a:lnTo>
                  <a:lnTo>
                    <a:pt x="265" y="663"/>
                  </a:lnTo>
                  <a:lnTo>
                    <a:pt x="249" y="687"/>
                  </a:lnTo>
                  <a:lnTo>
                    <a:pt x="234" y="706"/>
                  </a:lnTo>
                  <a:lnTo>
                    <a:pt x="227" y="714"/>
                  </a:lnTo>
                  <a:lnTo>
                    <a:pt x="222" y="719"/>
                  </a:lnTo>
                  <a:lnTo>
                    <a:pt x="215" y="724"/>
                  </a:lnTo>
                  <a:lnTo>
                    <a:pt x="210" y="727"/>
                  </a:lnTo>
                  <a:lnTo>
                    <a:pt x="204" y="728"/>
                  </a:lnTo>
                  <a:lnTo>
                    <a:pt x="200" y="728"/>
                  </a:lnTo>
                  <a:lnTo>
                    <a:pt x="196" y="726"/>
                  </a:lnTo>
                  <a:lnTo>
                    <a:pt x="193" y="722"/>
                  </a:lnTo>
                  <a:lnTo>
                    <a:pt x="189" y="717"/>
                  </a:lnTo>
                  <a:lnTo>
                    <a:pt x="186" y="710"/>
                  </a:lnTo>
                  <a:lnTo>
                    <a:pt x="184" y="701"/>
                  </a:lnTo>
                  <a:lnTo>
                    <a:pt x="183" y="689"/>
                  </a:lnTo>
                  <a:lnTo>
                    <a:pt x="181" y="676"/>
                  </a:lnTo>
                  <a:lnTo>
                    <a:pt x="181" y="661"/>
                  </a:lnTo>
                  <a:lnTo>
                    <a:pt x="180" y="644"/>
                  </a:lnTo>
                  <a:lnTo>
                    <a:pt x="180" y="624"/>
                  </a:lnTo>
                  <a:lnTo>
                    <a:pt x="182" y="579"/>
                  </a:lnTo>
                  <a:lnTo>
                    <a:pt x="186" y="525"/>
                  </a:lnTo>
                  <a:lnTo>
                    <a:pt x="190" y="473"/>
                  </a:lnTo>
                  <a:lnTo>
                    <a:pt x="193" y="434"/>
                  </a:lnTo>
                  <a:lnTo>
                    <a:pt x="194" y="407"/>
                  </a:lnTo>
                  <a:lnTo>
                    <a:pt x="194" y="392"/>
                  </a:lnTo>
                  <a:lnTo>
                    <a:pt x="194" y="388"/>
                  </a:lnTo>
                  <a:lnTo>
                    <a:pt x="193" y="386"/>
                  </a:lnTo>
                  <a:lnTo>
                    <a:pt x="191" y="386"/>
                  </a:lnTo>
                  <a:lnTo>
                    <a:pt x="189" y="388"/>
                  </a:lnTo>
                  <a:lnTo>
                    <a:pt x="186" y="397"/>
                  </a:lnTo>
                  <a:lnTo>
                    <a:pt x="182" y="414"/>
                  </a:lnTo>
                  <a:lnTo>
                    <a:pt x="169" y="457"/>
                  </a:lnTo>
                  <a:lnTo>
                    <a:pt x="155" y="509"/>
                  </a:lnTo>
                  <a:lnTo>
                    <a:pt x="146" y="535"/>
                  </a:lnTo>
                  <a:lnTo>
                    <a:pt x="137" y="558"/>
                  </a:lnTo>
                  <a:lnTo>
                    <a:pt x="129" y="580"/>
                  </a:lnTo>
                  <a:lnTo>
                    <a:pt x="119" y="596"/>
                  </a:lnTo>
                  <a:lnTo>
                    <a:pt x="109" y="611"/>
                  </a:lnTo>
                  <a:lnTo>
                    <a:pt x="99" y="626"/>
                  </a:lnTo>
                  <a:lnTo>
                    <a:pt x="87" y="641"/>
                  </a:lnTo>
                  <a:lnTo>
                    <a:pt x="75" y="656"/>
                  </a:lnTo>
                  <a:lnTo>
                    <a:pt x="63" y="668"/>
                  </a:lnTo>
                  <a:lnTo>
                    <a:pt x="51" y="680"/>
                  </a:lnTo>
                  <a:lnTo>
                    <a:pt x="39" y="690"/>
                  </a:lnTo>
                  <a:lnTo>
                    <a:pt x="28" y="697"/>
                  </a:lnTo>
                  <a:lnTo>
                    <a:pt x="24" y="700"/>
                  </a:lnTo>
                  <a:lnTo>
                    <a:pt x="20" y="701"/>
                  </a:lnTo>
                  <a:lnTo>
                    <a:pt x="15" y="702"/>
                  </a:lnTo>
                  <a:lnTo>
                    <a:pt x="12" y="702"/>
                  </a:lnTo>
                  <a:lnTo>
                    <a:pt x="9" y="701"/>
                  </a:lnTo>
                  <a:lnTo>
                    <a:pt x="6" y="699"/>
                  </a:lnTo>
                  <a:lnTo>
                    <a:pt x="3" y="697"/>
                  </a:lnTo>
                  <a:lnTo>
                    <a:pt x="1" y="692"/>
                  </a:lnTo>
                  <a:lnTo>
                    <a:pt x="0" y="687"/>
                  </a:lnTo>
                  <a:lnTo>
                    <a:pt x="0" y="680"/>
                  </a:lnTo>
                  <a:lnTo>
                    <a:pt x="0" y="673"/>
                  </a:lnTo>
                  <a:lnTo>
                    <a:pt x="1" y="664"/>
                  </a:lnTo>
                  <a:lnTo>
                    <a:pt x="6" y="641"/>
                  </a:lnTo>
                  <a:lnTo>
                    <a:pt x="13" y="613"/>
                  </a:lnTo>
                  <a:close/>
                </a:path>
              </a:pathLst>
            </a:custGeom>
            <a:solidFill>
              <a:srgbClr val="6398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6043680" y="2392560"/>
              <a:ext cx="117360" cy="218880"/>
            </a:xfrm>
            <a:custGeom>
              <a:avLst/>
              <a:gdLst/>
              <a:ahLst/>
              <a:rect l="l" t="t" r="r" b="b"/>
              <a:pathLst>
                <a:path w="370" h="687">
                  <a:moveTo>
                    <a:pt x="314" y="480"/>
                  </a:moveTo>
                  <a:lnTo>
                    <a:pt x="295" y="521"/>
                  </a:lnTo>
                  <a:lnTo>
                    <a:pt x="277" y="558"/>
                  </a:lnTo>
                  <a:lnTo>
                    <a:pt x="260" y="592"/>
                  </a:lnTo>
                  <a:lnTo>
                    <a:pt x="244" y="621"/>
                  </a:lnTo>
                  <a:lnTo>
                    <a:pt x="230" y="646"/>
                  </a:lnTo>
                  <a:lnTo>
                    <a:pt x="218" y="664"/>
                  </a:lnTo>
                  <a:lnTo>
                    <a:pt x="212" y="671"/>
                  </a:lnTo>
                  <a:lnTo>
                    <a:pt x="206" y="678"/>
                  </a:lnTo>
                  <a:lnTo>
                    <a:pt x="202" y="682"/>
                  </a:lnTo>
                  <a:lnTo>
                    <a:pt x="198" y="685"/>
                  </a:lnTo>
                  <a:lnTo>
                    <a:pt x="193" y="687"/>
                  </a:lnTo>
                  <a:lnTo>
                    <a:pt x="189" y="687"/>
                  </a:lnTo>
                  <a:lnTo>
                    <a:pt x="186" y="684"/>
                  </a:lnTo>
                  <a:lnTo>
                    <a:pt x="183" y="680"/>
                  </a:lnTo>
                  <a:lnTo>
                    <a:pt x="180" y="675"/>
                  </a:lnTo>
                  <a:lnTo>
                    <a:pt x="178" y="667"/>
                  </a:lnTo>
                  <a:lnTo>
                    <a:pt x="176" y="658"/>
                  </a:lnTo>
                  <a:lnTo>
                    <a:pt x="175" y="647"/>
                  </a:lnTo>
                  <a:lnTo>
                    <a:pt x="174" y="619"/>
                  </a:lnTo>
                  <a:lnTo>
                    <a:pt x="174" y="581"/>
                  </a:lnTo>
                  <a:lnTo>
                    <a:pt x="176" y="535"/>
                  </a:lnTo>
                  <a:lnTo>
                    <a:pt x="180" y="480"/>
                  </a:lnTo>
                  <a:lnTo>
                    <a:pt x="185" y="427"/>
                  </a:lnTo>
                  <a:lnTo>
                    <a:pt x="187" y="388"/>
                  </a:lnTo>
                  <a:lnTo>
                    <a:pt x="188" y="363"/>
                  </a:lnTo>
                  <a:lnTo>
                    <a:pt x="187" y="346"/>
                  </a:lnTo>
                  <a:lnTo>
                    <a:pt x="186" y="342"/>
                  </a:lnTo>
                  <a:lnTo>
                    <a:pt x="185" y="340"/>
                  </a:lnTo>
                  <a:lnTo>
                    <a:pt x="183" y="340"/>
                  </a:lnTo>
                  <a:lnTo>
                    <a:pt x="180" y="341"/>
                  </a:lnTo>
                  <a:lnTo>
                    <a:pt x="176" y="351"/>
                  </a:lnTo>
                  <a:lnTo>
                    <a:pt x="170" y="365"/>
                  </a:lnTo>
                  <a:lnTo>
                    <a:pt x="156" y="408"/>
                  </a:lnTo>
                  <a:lnTo>
                    <a:pt x="138" y="459"/>
                  </a:lnTo>
                  <a:lnTo>
                    <a:pt x="130" y="485"/>
                  </a:lnTo>
                  <a:lnTo>
                    <a:pt x="120" y="508"/>
                  </a:lnTo>
                  <a:lnTo>
                    <a:pt x="111" y="530"/>
                  </a:lnTo>
                  <a:lnTo>
                    <a:pt x="102" y="547"/>
                  </a:lnTo>
                  <a:lnTo>
                    <a:pt x="81" y="576"/>
                  </a:lnTo>
                  <a:lnTo>
                    <a:pt x="61" y="603"/>
                  </a:lnTo>
                  <a:lnTo>
                    <a:pt x="50" y="616"/>
                  </a:lnTo>
                  <a:lnTo>
                    <a:pt x="39" y="626"/>
                  </a:lnTo>
                  <a:lnTo>
                    <a:pt x="29" y="635"/>
                  </a:lnTo>
                  <a:lnTo>
                    <a:pt x="21" y="641"/>
                  </a:lnTo>
                  <a:lnTo>
                    <a:pt x="17" y="643"/>
                  </a:lnTo>
                  <a:lnTo>
                    <a:pt x="14" y="644"/>
                  </a:lnTo>
                  <a:lnTo>
                    <a:pt x="11" y="644"/>
                  </a:lnTo>
                  <a:lnTo>
                    <a:pt x="8" y="644"/>
                  </a:lnTo>
                  <a:lnTo>
                    <a:pt x="5" y="643"/>
                  </a:lnTo>
                  <a:lnTo>
                    <a:pt x="3" y="640"/>
                  </a:lnTo>
                  <a:lnTo>
                    <a:pt x="1" y="637"/>
                  </a:lnTo>
                  <a:lnTo>
                    <a:pt x="1" y="633"/>
                  </a:lnTo>
                  <a:lnTo>
                    <a:pt x="0" y="621"/>
                  </a:lnTo>
                  <a:lnTo>
                    <a:pt x="2" y="603"/>
                  </a:lnTo>
                  <a:lnTo>
                    <a:pt x="8" y="581"/>
                  </a:lnTo>
                  <a:lnTo>
                    <a:pt x="15" y="552"/>
                  </a:lnTo>
                  <a:lnTo>
                    <a:pt x="20" y="533"/>
                  </a:lnTo>
                  <a:lnTo>
                    <a:pt x="30" y="485"/>
                  </a:lnTo>
                  <a:lnTo>
                    <a:pt x="48" y="413"/>
                  </a:lnTo>
                  <a:lnTo>
                    <a:pt x="68" y="330"/>
                  </a:lnTo>
                  <a:lnTo>
                    <a:pt x="80" y="286"/>
                  </a:lnTo>
                  <a:lnTo>
                    <a:pt x="92" y="243"/>
                  </a:lnTo>
                  <a:lnTo>
                    <a:pt x="104" y="199"/>
                  </a:lnTo>
                  <a:lnTo>
                    <a:pt x="116" y="160"/>
                  </a:lnTo>
                  <a:lnTo>
                    <a:pt x="129" y="123"/>
                  </a:lnTo>
                  <a:lnTo>
                    <a:pt x="139" y="91"/>
                  </a:lnTo>
                  <a:lnTo>
                    <a:pt x="150" y="64"/>
                  </a:lnTo>
                  <a:lnTo>
                    <a:pt x="161" y="45"/>
                  </a:lnTo>
                  <a:lnTo>
                    <a:pt x="170" y="31"/>
                  </a:lnTo>
                  <a:lnTo>
                    <a:pt x="179" y="19"/>
                  </a:lnTo>
                  <a:lnTo>
                    <a:pt x="188" y="10"/>
                  </a:lnTo>
                  <a:lnTo>
                    <a:pt x="197" y="4"/>
                  </a:lnTo>
                  <a:lnTo>
                    <a:pt x="201" y="2"/>
                  </a:lnTo>
                  <a:lnTo>
                    <a:pt x="205" y="1"/>
                  </a:lnTo>
                  <a:lnTo>
                    <a:pt x="210" y="0"/>
                  </a:lnTo>
                  <a:lnTo>
                    <a:pt x="214" y="0"/>
                  </a:lnTo>
                  <a:lnTo>
                    <a:pt x="224" y="1"/>
                  </a:lnTo>
                  <a:lnTo>
                    <a:pt x="232" y="4"/>
                  </a:lnTo>
                  <a:lnTo>
                    <a:pt x="241" y="9"/>
                  </a:lnTo>
                  <a:lnTo>
                    <a:pt x="251" y="16"/>
                  </a:lnTo>
                  <a:lnTo>
                    <a:pt x="259" y="25"/>
                  </a:lnTo>
                  <a:lnTo>
                    <a:pt x="269" y="35"/>
                  </a:lnTo>
                  <a:lnTo>
                    <a:pt x="289" y="61"/>
                  </a:lnTo>
                  <a:lnTo>
                    <a:pt x="309" y="93"/>
                  </a:lnTo>
                  <a:lnTo>
                    <a:pt x="319" y="109"/>
                  </a:lnTo>
                  <a:lnTo>
                    <a:pt x="328" y="126"/>
                  </a:lnTo>
                  <a:lnTo>
                    <a:pt x="338" y="144"/>
                  </a:lnTo>
                  <a:lnTo>
                    <a:pt x="347" y="164"/>
                  </a:lnTo>
                  <a:lnTo>
                    <a:pt x="353" y="183"/>
                  </a:lnTo>
                  <a:lnTo>
                    <a:pt x="360" y="204"/>
                  </a:lnTo>
                  <a:lnTo>
                    <a:pt x="365" y="225"/>
                  </a:lnTo>
                  <a:lnTo>
                    <a:pt x="368" y="248"/>
                  </a:lnTo>
                  <a:lnTo>
                    <a:pt x="370" y="272"/>
                  </a:lnTo>
                  <a:lnTo>
                    <a:pt x="370" y="297"/>
                  </a:lnTo>
                  <a:lnTo>
                    <a:pt x="366" y="324"/>
                  </a:lnTo>
                  <a:lnTo>
                    <a:pt x="362" y="352"/>
                  </a:lnTo>
                  <a:lnTo>
                    <a:pt x="359" y="366"/>
                  </a:lnTo>
                  <a:lnTo>
                    <a:pt x="354" y="381"/>
                  </a:lnTo>
                  <a:lnTo>
                    <a:pt x="349" y="397"/>
                  </a:lnTo>
                  <a:lnTo>
                    <a:pt x="344" y="412"/>
                  </a:lnTo>
                  <a:lnTo>
                    <a:pt x="337" y="428"/>
                  </a:lnTo>
                  <a:lnTo>
                    <a:pt x="331" y="446"/>
                  </a:lnTo>
                  <a:lnTo>
                    <a:pt x="323" y="463"/>
                  </a:lnTo>
                  <a:lnTo>
                    <a:pt x="314" y="480"/>
                  </a:lnTo>
                  <a:close/>
                </a:path>
              </a:pathLst>
            </a:custGeom>
            <a:solidFill>
              <a:srgbClr val="68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6051600" y="2395440"/>
              <a:ext cx="106200" cy="204840"/>
            </a:xfrm>
            <a:custGeom>
              <a:avLst/>
              <a:gdLst/>
              <a:ahLst/>
              <a:rect l="l" t="t" r="r" b="b"/>
              <a:pathLst>
                <a:path w="334" h="645">
                  <a:moveTo>
                    <a:pt x="284" y="439"/>
                  </a:moveTo>
                  <a:lnTo>
                    <a:pt x="251" y="518"/>
                  </a:lnTo>
                  <a:lnTo>
                    <a:pt x="222" y="580"/>
                  </a:lnTo>
                  <a:lnTo>
                    <a:pt x="211" y="604"/>
                  </a:lnTo>
                  <a:lnTo>
                    <a:pt x="200" y="624"/>
                  </a:lnTo>
                  <a:lnTo>
                    <a:pt x="194" y="631"/>
                  </a:lnTo>
                  <a:lnTo>
                    <a:pt x="190" y="637"/>
                  </a:lnTo>
                  <a:lnTo>
                    <a:pt x="186" y="641"/>
                  </a:lnTo>
                  <a:lnTo>
                    <a:pt x="182" y="644"/>
                  </a:lnTo>
                  <a:lnTo>
                    <a:pt x="179" y="645"/>
                  </a:lnTo>
                  <a:lnTo>
                    <a:pt x="176" y="645"/>
                  </a:lnTo>
                  <a:lnTo>
                    <a:pt x="173" y="643"/>
                  </a:lnTo>
                  <a:lnTo>
                    <a:pt x="171" y="639"/>
                  </a:lnTo>
                  <a:lnTo>
                    <a:pt x="168" y="633"/>
                  </a:lnTo>
                  <a:lnTo>
                    <a:pt x="167" y="626"/>
                  </a:lnTo>
                  <a:lnTo>
                    <a:pt x="166" y="616"/>
                  </a:lnTo>
                  <a:lnTo>
                    <a:pt x="165" y="605"/>
                  </a:lnTo>
                  <a:lnTo>
                    <a:pt x="165" y="576"/>
                  </a:lnTo>
                  <a:lnTo>
                    <a:pt x="166" y="539"/>
                  </a:lnTo>
                  <a:lnTo>
                    <a:pt x="168" y="494"/>
                  </a:lnTo>
                  <a:lnTo>
                    <a:pt x="173" y="439"/>
                  </a:lnTo>
                  <a:lnTo>
                    <a:pt x="177" y="387"/>
                  </a:lnTo>
                  <a:lnTo>
                    <a:pt x="179" y="347"/>
                  </a:lnTo>
                  <a:lnTo>
                    <a:pt x="180" y="320"/>
                  </a:lnTo>
                  <a:lnTo>
                    <a:pt x="178" y="304"/>
                  </a:lnTo>
                  <a:lnTo>
                    <a:pt x="177" y="300"/>
                  </a:lnTo>
                  <a:lnTo>
                    <a:pt x="175" y="296"/>
                  </a:lnTo>
                  <a:lnTo>
                    <a:pt x="173" y="296"/>
                  </a:lnTo>
                  <a:lnTo>
                    <a:pt x="171" y="297"/>
                  </a:lnTo>
                  <a:lnTo>
                    <a:pt x="165" y="306"/>
                  </a:lnTo>
                  <a:lnTo>
                    <a:pt x="158" y="320"/>
                  </a:lnTo>
                  <a:lnTo>
                    <a:pt x="141" y="361"/>
                  </a:lnTo>
                  <a:lnTo>
                    <a:pt x="123" y="411"/>
                  </a:lnTo>
                  <a:lnTo>
                    <a:pt x="113" y="437"/>
                  </a:lnTo>
                  <a:lnTo>
                    <a:pt x="104" y="460"/>
                  </a:lnTo>
                  <a:lnTo>
                    <a:pt x="94" y="481"/>
                  </a:lnTo>
                  <a:lnTo>
                    <a:pt x="84" y="498"/>
                  </a:lnTo>
                  <a:lnTo>
                    <a:pt x="64" y="527"/>
                  </a:lnTo>
                  <a:lnTo>
                    <a:pt x="44" y="553"/>
                  </a:lnTo>
                  <a:lnTo>
                    <a:pt x="36" y="564"/>
                  </a:lnTo>
                  <a:lnTo>
                    <a:pt x="27" y="574"/>
                  </a:lnTo>
                  <a:lnTo>
                    <a:pt x="19" y="581"/>
                  </a:lnTo>
                  <a:lnTo>
                    <a:pt x="13" y="587"/>
                  </a:lnTo>
                  <a:lnTo>
                    <a:pt x="10" y="588"/>
                  </a:lnTo>
                  <a:lnTo>
                    <a:pt x="7" y="589"/>
                  </a:lnTo>
                  <a:lnTo>
                    <a:pt x="4" y="588"/>
                  </a:lnTo>
                  <a:lnTo>
                    <a:pt x="3" y="587"/>
                  </a:lnTo>
                  <a:lnTo>
                    <a:pt x="1" y="586"/>
                  </a:lnTo>
                  <a:lnTo>
                    <a:pt x="0" y="583"/>
                  </a:lnTo>
                  <a:lnTo>
                    <a:pt x="0" y="578"/>
                  </a:lnTo>
                  <a:lnTo>
                    <a:pt x="0" y="574"/>
                  </a:lnTo>
                  <a:lnTo>
                    <a:pt x="1" y="561"/>
                  </a:lnTo>
                  <a:lnTo>
                    <a:pt x="3" y="543"/>
                  </a:lnTo>
                  <a:lnTo>
                    <a:pt x="10" y="520"/>
                  </a:lnTo>
                  <a:lnTo>
                    <a:pt x="17" y="491"/>
                  </a:lnTo>
                  <a:lnTo>
                    <a:pt x="20" y="476"/>
                  </a:lnTo>
                  <a:lnTo>
                    <a:pt x="29" y="432"/>
                  </a:lnTo>
                  <a:lnTo>
                    <a:pt x="42" y="372"/>
                  </a:lnTo>
                  <a:lnTo>
                    <a:pt x="59" y="300"/>
                  </a:lnTo>
                  <a:lnTo>
                    <a:pt x="78" y="223"/>
                  </a:lnTo>
                  <a:lnTo>
                    <a:pt x="98" y="149"/>
                  </a:lnTo>
                  <a:lnTo>
                    <a:pt x="109" y="117"/>
                  </a:lnTo>
                  <a:lnTo>
                    <a:pt x="119" y="89"/>
                  </a:lnTo>
                  <a:lnTo>
                    <a:pt x="128" y="64"/>
                  </a:lnTo>
                  <a:lnTo>
                    <a:pt x="138" y="46"/>
                  </a:lnTo>
                  <a:lnTo>
                    <a:pt x="148" y="32"/>
                  </a:lnTo>
                  <a:lnTo>
                    <a:pt x="158" y="20"/>
                  </a:lnTo>
                  <a:lnTo>
                    <a:pt x="166" y="11"/>
                  </a:lnTo>
                  <a:lnTo>
                    <a:pt x="175" y="6"/>
                  </a:lnTo>
                  <a:lnTo>
                    <a:pt x="179" y="4"/>
                  </a:lnTo>
                  <a:lnTo>
                    <a:pt x="184" y="1"/>
                  </a:lnTo>
                  <a:lnTo>
                    <a:pt x="188" y="0"/>
                  </a:lnTo>
                  <a:lnTo>
                    <a:pt x="192" y="0"/>
                  </a:lnTo>
                  <a:lnTo>
                    <a:pt x="201" y="1"/>
                  </a:lnTo>
                  <a:lnTo>
                    <a:pt x="209" y="5"/>
                  </a:lnTo>
                  <a:lnTo>
                    <a:pt x="217" y="10"/>
                  </a:lnTo>
                  <a:lnTo>
                    <a:pt x="226" y="17"/>
                  </a:lnTo>
                  <a:lnTo>
                    <a:pt x="234" y="25"/>
                  </a:lnTo>
                  <a:lnTo>
                    <a:pt x="244" y="36"/>
                  </a:lnTo>
                  <a:lnTo>
                    <a:pt x="262" y="62"/>
                  </a:lnTo>
                  <a:lnTo>
                    <a:pt x="282" y="93"/>
                  </a:lnTo>
                  <a:lnTo>
                    <a:pt x="292" y="109"/>
                  </a:lnTo>
                  <a:lnTo>
                    <a:pt x="301" y="127"/>
                  </a:lnTo>
                  <a:lnTo>
                    <a:pt x="310" y="144"/>
                  </a:lnTo>
                  <a:lnTo>
                    <a:pt x="316" y="162"/>
                  </a:lnTo>
                  <a:lnTo>
                    <a:pt x="323" y="181"/>
                  </a:lnTo>
                  <a:lnTo>
                    <a:pt x="327" y="200"/>
                  </a:lnTo>
                  <a:lnTo>
                    <a:pt x="332" y="220"/>
                  </a:lnTo>
                  <a:lnTo>
                    <a:pt x="333" y="240"/>
                  </a:lnTo>
                  <a:lnTo>
                    <a:pt x="334" y="262"/>
                  </a:lnTo>
                  <a:lnTo>
                    <a:pt x="332" y="283"/>
                  </a:lnTo>
                  <a:lnTo>
                    <a:pt x="329" y="307"/>
                  </a:lnTo>
                  <a:lnTo>
                    <a:pt x="324" y="331"/>
                  </a:lnTo>
                  <a:lnTo>
                    <a:pt x="318" y="356"/>
                  </a:lnTo>
                  <a:lnTo>
                    <a:pt x="309" y="383"/>
                  </a:lnTo>
                  <a:lnTo>
                    <a:pt x="297" y="410"/>
                  </a:lnTo>
                  <a:lnTo>
                    <a:pt x="284" y="439"/>
                  </a:lnTo>
                  <a:close/>
                </a:path>
              </a:pathLst>
            </a:custGeom>
            <a:solidFill>
              <a:srgbClr val="6fa0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6059520" y="2398680"/>
              <a:ext cx="95040" cy="192240"/>
            </a:xfrm>
            <a:custGeom>
              <a:avLst/>
              <a:gdLst/>
              <a:ahLst/>
              <a:rect l="l" t="t" r="r" b="b"/>
              <a:pathLst>
                <a:path w="300" h="604">
                  <a:moveTo>
                    <a:pt x="259" y="395"/>
                  </a:moveTo>
                  <a:lnTo>
                    <a:pt x="229" y="476"/>
                  </a:lnTo>
                  <a:lnTo>
                    <a:pt x="205" y="539"/>
                  </a:lnTo>
                  <a:lnTo>
                    <a:pt x="194" y="564"/>
                  </a:lnTo>
                  <a:lnTo>
                    <a:pt x="185" y="582"/>
                  </a:lnTo>
                  <a:lnTo>
                    <a:pt x="181" y="590"/>
                  </a:lnTo>
                  <a:lnTo>
                    <a:pt x="178" y="596"/>
                  </a:lnTo>
                  <a:lnTo>
                    <a:pt x="175" y="601"/>
                  </a:lnTo>
                  <a:lnTo>
                    <a:pt x="171" y="603"/>
                  </a:lnTo>
                  <a:lnTo>
                    <a:pt x="169" y="604"/>
                  </a:lnTo>
                  <a:lnTo>
                    <a:pt x="167" y="604"/>
                  </a:lnTo>
                  <a:lnTo>
                    <a:pt x="165" y="602"/>
                  </a:lnTo>
                  <a:lnTo>
                    <a:pt x="163" y="597"/>
                  </a:lnTo>
                  <a:lnTo>
                    <a:pt x="161" y="584"/>
                  </a:lnTo>
                  <a:lnTo>
                    <a:pt x="159" y="563"/>
                  </a:lnTo>
                  <a:lnTo>
                    <a:pt x="161" y="534"/>
                  </a:lnTo>
                  <a:lnTo>
                    <a:pt x="162" y="497"/>
                  </a:lnTo>
                  <a:lnTo>
                    <a:pt x="165" y="450"/>
                  </a:lnTo>
                  <a:lnTo>
                    <a:pt x="169" y="395"/>
                  </a:lnTo>
                  <a:lnTo>
                    <a:pt x="174" y="343"/>
                  </a:lnTo>
                  <a:lnTo>
                    <a:pt x="175" y="304"/>
                  </a:lnTo>
                  <a:lnTo>
                    <a:pt x="175" y="288"/>
                  </a:lnTo>
                  <a:lnTo>
                    <a:pt x="175" y="277"/>
                  </a:lnTo>
                  <a:lnTo>
                    <a:pt x="174" y="267"/>
                  </a:lnTo>
                  <a:lnTo>
                    <a:pt x="171" y="259"/>
                  </a:lnTo>
                  <a:lnTo>
                    <a:pt x="170" y="255"/>
                  </a:lnTo>
                  <a:lnTo>
                    <a:pt x="168" y="252"/>
                  </a:lnTo>
                  <a:lnTo>
                    <a:pt x="165" y="252"/>
                  </a:lnTo>
                  <a:lnTo>
                    <a:pt x="162" y="253"/>
                  </a:lnTo>
                  <a:lnTo>
                    <a:pt x="158" y="256"/>
                  </a:lnTo>
                  <a:lnTo>
                    <a:pt x="155" y="260"/>
                  </a:lnTo>
                  <a:lnTo>
                    <a:pt x="151" y="267"/>
                  </a:lnTo>
                  <a:lnTo>
                    <a:pt x="147" y="274"/>
                  </a:lnTo>
                  <a:lnTo>
                    <a:pt x="127" y="314"/>
                  </a:lnTo>
                  <a:lnTo>
                    <a:pt x="107" y="363"/>
                  </a:lnTo>
                  <a:lnTo>
                    <a:pt x="96" y="387"/>
                  </a:lnTo>
                  <a:lnTo>
                    <a:pt x="86" y="410"/>
                  </a:lnTo>
                  <a:lnTo>
                    <a:pt x="75" y="431"/>
                  </a:lnTo>
                  <a:lnTo>
                    <a:pt x="66" y="447"/>
                  </a:lnTo>
                  <a:lnTo>
                    <a:pt x="48" y="476"/>
                  </a:lnTo>
                  <a:lnTo>
                    <a:pt x="31" y="501"/>
                  </a:lnTo>
                  <a:lnTo>
                    <a:pt x="23" y="512"/>
                  </a:lnTo>
                  <a:lnTo>
                    <a:pt x="17" y="521"/>
                  </a:lnTo>
                  <a:lnTo>
                    <a:pt x="11" y="528"/>
                  </a:lnTo>
                  <a:lnTo>
                    <a:pt x="6" y="531"/>
                  </a:lnTo>
                  <a:lnTo>
                    <a:pt x="5" y="532"/>
                  </a:lnTo>
                  <a:lnTo>
                    <a:pt x="3" y="532"/>
                  </a:lnTo>
                  <a:lnTo>
                    <a:pt x="2" y="532"/>
                  </a:lnTo>
                  <a:lnTo>
                    <a:pt x="1" y="530"/>
                  </a:lnTo>
                  <a:lnTo>
                    <a:pt x="0" y="525"/>
                  </a:lnTo>
                  <a:lnTo>
                    <a:pt x="1" y="516"/>
                  </a:lnTo>
                  <a:lnTo>
                    <a:pt x="3" y="502"/>
                  </a:lnTo>
                  <a:lnTo>
                    <a:pt x="7" y="484"/>
                  </a:lnTo>
                  <a:lnTo>
                    <a:pt x="14" y="461"/>
                  </a:lnTo>
                  <a:lnTo>
                    <a:pt x="21" y="432"/>
                  </a:lnTo>
                  <a:lnTo>
                    <a:pt x="23" y="419"/>
                  </a:lnTo>
                  <a:lnTo>
                    <a:pt x="30" y="383"/>
                  </a:lnTo>
                  <a:lnTo>
                    <a:pt x="40" y="332"/>
                  </a:lnTo>
                  <a:lnTo>
                    <a:pt x="53" y="270"/>
                  </a:lnTo>
                  <a:lnTo>
                    <a:pt x="59" y="238"/>
                  </a:lnTo>
                  <a:lnTo>
                    <a:pt x="68" y="204"/>
                  </a:lnTo>
                  <a:lnTo>
                    <a:pt x="75" y="172"/>
                  </a:lnTo>
                  <a:lnTo>
                    <a:pt x="84" y="140"/>
                  </a:lnTo>
                  <a:lnTo>
                    <a:pt x="93" y="111"/>
                  </a:lnTo>
                  <a:lnTo>
                    <a:pt x="102" y="85"/>
                  </a:lnTo>
                  <a:lnTo>
                    <a:pt x="111" y="63"/>
                  </a:lnTo>
                  <a:lnTo>
                    <a:pt x="121" y="44"/>
                  </a:lnTo>
                  <a:lnTo>
                    <a:pt x="129" y="30"/>
                  </a:lnTo>
                  <a:lnTo>
                    <a:pt x="139" y="18"/>
                  </a:lnTo>
                  <a:lnTo>
                    <a:pt x="148" y="11"/>
                  </a:lnTo>
                  <a:lnTo>
                    <a:pt x="156" y="4"/>
                  </a:lnTo>
                  <a:lnTo>
                    <a:pt x="159" y="2"/>
                  </a:lnTo>
                  <a:lnTo>
                    <a:pt x="164" y="1"/>
                  </a:lnTo>
                  <a:lnTo>
                    <a:pt x="168" y="1"/>
                  </a:lnTo>
                  <a:lnTo>
                    <a:pt x="171" y="0"/>
                  </a:lnTo>
                  <a:lnTo>
                    <a:pt x="180" y="2"/>
                  </a:lnTo>
                  <a:lnTo>
                    <a:pt x="188" y="5"/>
                  </a:lnTo>
                  <a:lnTo>
                    <a:pt x="195" y="11"/>
                  </a:lnTo>
                  <a:lnTo>
                    <a:pt x="203" y="18"/>
                  </a:lnTo>
                  <a:lnTo>
                    <a:pt x="211" y="28"/>
                  </a:lnTo>
                  <a:lnTo>
                    <a:pt x="219" y="39"/>
                  </a:lnTo>
                  <a:lnTo>
                    <a:pt x="237" y="65"/>
                  </a:lnTo>
                  <a:lnTo>
                    <a:pt x="257" y="96"/>
                  </a:lnTo>
                  <a:lnTo>
                    <a:pt x="266" y="113"/>
                  </a:lnTo>
                  <a:lnTo>
                    <a:pt x="275" y="130"/>
                  </a:lnTo>
                  <a:lnTo>
                    <a:pt x="283" y="146"/>
                  </a:lnTo>
                  <a:lnTo>
                    <a:pt x="289" y="163"/>
                  </a:lnTo>
                  <a:lnTo>
                    <a:pt x="293" y="179"/>
                  </a:lnTo>
                  <a:lnTo>
                    <a:pt x="297" y="197"/>
                  </a:lnTo>
                  <a:lnTo>
                    <a:pt x="299" y="214"/>
                  </a:lnTo>
                  <a:lnTo>
                    <a:pt x="300" y="232"/>
                  </a:lnTo>
                  <a:lnTo>
                    <a:pt x="300" y="251"/>
                  </a:lnTo>
                  <a:lnTo>
                    <a:pt x="298" y="269"/>
                  </a:lnTo>
                  <a:lnTo>
                    <a:pt x="295" y="288"/>
                  </a:lnTo>
                  <a:lnTo>
                    <a:pt x="290" y="308"/>
                  </a:lnTo>
                  <a:lnTo>
                    <a:pt x="285" y="328"/>
                  </a:lnTo>
                  <a:lnTo>
                    <a:pt x="277" y="350"/>
                  </a:lnTo>
                  <a:lnTo>
                    <a:pt x="269" y="373"/>
                  </a:lnTo>
                  <a:lnTo>
                    <a:pt x="259" y="395"/>
                  </a:lnTo>
                  <a:close/>
                </a:path>
              </a:pathLst>
            </a:custGeom>
            <a:solidFill>
              <a:srgbClr val="76a4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6065640" y="2401920"/>
              <a:ext cx="86040" cy="177840"/>
            </a:xfrm>
            <a:custGeom>
              <a:avLst/>
              <a:gdLst/>
              <a:ahLst/>
              <a:rect l="l" t="t" r="r" b="b"/>
              <a:pathLst>
                <a:path w="270" h="561">
                  <a:moveTo>
                    <a:pt x="237" y="352"/>
                  </a:moveTo>
                  <a:lnTo>
                    <a:pt x="210" y="433"/>
                  </a:lnTo>
                  <a:lnTo>
                    <a:pt x="189" y="497"/>
                  </a:lnTo>
                  <a:lnTo>
                    <a:pt x="181" y="521"/>
                  </a:lnTo>
                  <a:lnTo>
                    <a:pt x="174" y="540"/>
                  </a:lnTo>
                  <a:lnTo>
                    <a:pt x="168" y="553"/>
                  </a:lnTo>
                  <a:lnTo>
                    <a:pt x="163" y="560"/>
                  </a:lnTo>
                  <a:lnTo>
                    <a:pt x="161" y="561"/>
                  </a:lnTo>
                  <a:lnTo>
                    <a:pt x="160" y="560"/>
                  </a:lnTo>
                  <a:lnTo>
                    <a:pt x="158" y="558"/>
                  </a:lnTo>
                  <a:lnTo>
                    <a:pt x="158" y="554"/>
                  </a:lnTo>
                  <a:lnTo>
                    <a:pt x="157" y="540"/>
                  </a:lnTo>
                  <a:lnTo>
                    <a:pt x="157" y="519"/>
                  </a:lnTo>
                  <a:lnTo>
                    <a:pt x="161" y="452"/>
                  </a:lnTo>
                  <a:lnTo>
                    <a:pt x="170" y="352"/>
                  </a:lnTo>
                  <a:lnTo>
                    <a:pt x="173" y="300"/>
                  </a:lnTo>
                  <a:lnTo>
                    <a:pt x="174" y="260"/>
                  </a:lnTo>
                  <a:lnTo>
                    <a:pt x="174" y="245"/>
                  </a:lnTo>
                  <a:lnTo>
                    <a:pt x="173" y="232"/>
                  </a:lnTo>
                  <a:lnTo>
                    <a:pt x="172" y="222"/>
                  </a:lnTo>
                  <a:lnTo>
                    <a:pt x="170" y="215"/>
                  </a:lnTo>
                  <a:lnTo>
                    <a:pt x="168" y="209"/>
                  </a:lnTo>
                  <a:lnTo>
                    <a:pt x="164" y="207"/>
                  </a:lnTo>
                  <a:lnTo>
                    <a:pt x="161" y="206"/>
                  </a:lnTo>
                  <a:lnTo>
                    <a:pt x="158" y="207"/>
                  </a:lnTo>
                  <a:lnTo>
                    <a:pt x="154" y="209"/>
                  </a:lnTo>
                  <a:lnTo>
                    <a:pt x="149" y="215"/>
                  </a:lnTo>
                  <a:lnTo>
                    <a:pt x="145" y="220"/>
                  </a:lnTo>
                  <a:lnTo>
                    <a:pt x="141" y="227"/>
                  </a:lnTo>
                  <a:lnTo>
                    <a:pt x="130" y="245"/>
                  </a:lnTo>
                  <a:lnTo>
                    <a:pt x="119" y="266"/>
                  </a:lnTo>
                  <a:lnTo>
                    <a:pt x="107" y="289"/>
                  </a:lnTo>
                  <a:lnTo>
                    <a:pt x="96" y="313"/>
                  </a:lnTo>
                  <a:lnTo>
                    <a:pt x="84" y="337"/>
                  </a:lnTo>
                  <a:lnTo>
                    <a:pt x="74" y="359"/>
                  </a:lnTo>
                  <a:lnTo>
                    <a:pt x="63" y="380"/>
                  </a:lnTo>
                  <a:lnTo>
                    <a:pt x="53" y="397"/>
                  </a:lnTo>
                  <a:lnTo>
                    <a:pt x="36" y="425"/>
                  </a:lnTo>
                  <a:lnTo>
                    <a:pt x="22" y="449"/>
                  </a:lnTo>
                  <a:lnTo>
                    <a:pt x="10" y="466"/>
                  </a:lnTo>
                  <a:lnTo>
                    <a:pt x="3" y="475"/>
                  </a:lnTo>
                  <a:lnTo>
                    <a:pt x="2" y="475"/>
                  </a:lnTo>
                  <a:lnTo>
                    <a:pt x="1" y="475"/>
                  </a:lnTo>
                  <a:lnTo>
                    <a:pt x="0" y="474"/>
                  </a:lnTo>
                  <a:lnTo>
                    <a:pt x="0" y="472"/>
                  </a:lnTo>
                  <a:lnTo>
                    <a:pt x="1" y="465"/>
                  </a:lnTo>
                  <a:lnTo>
                    <a:pt x="3" y="455"/>
                  </a:lnTo>
                  <a:lnTo>
                    <a:pt x="13" y="421"/>
                  </a:lnTo>
                  <a:lnTo>
                    <a:pt x="28" y="369"/>
                  </a:lnTo>
                  <a:lnTo>
                    <a:pt x="29" y="358"/>
                  </a:lnTo>
                  <a:lnTo>
                    <a:pt x="34" y="330"/>
                  </a:lnTo>
                  <a:lnTo>
                    <a:pt x="40" y="288"/>
                  </a:lnTo>
                  <a:lnTo>
                    <a:pt x="49" y="237"/>
                  </a:lnTo>
                  <a:lnTo>
                    <a:pt x="53" y="209"/>
                  </a:lnTo>
                  <a:lnTo>
                    <a:pt x="60" y="182"/>
                  </a:lnTo>
                  <a:lnTo>
                    <a:pt x="66" y="155"/>
                  </a:lnTo>
                  <a:lnTo>
                    <a:pt x="73" y="128"/>
                  </a:lnTo>
                  <a:lnTo>
                    <a:pt x="80" y="104"/>
                  </a:lnTo>
                  <a:lnTo>
                    <a:pt x="88" y="81"/>
                  </a:lnTo>
                  <a:lnTo>
                    <a:pt x="96" y="60"/>
                  </a:lnTo>
                  <a:lnTo>
                    <a:pt x="105" y="43"/>
                  </a:lnTo>
                  <a:lnTo>
                    <a:pt x="115" y="29"/>
                  </a:lnTo>
                  <a:lnTo>
                    <a:pt x="122" y="18"/>
                  </a:lnTo>
                  <a:lnTo>
                    <a:pt x="131" y="10"/>
                  </a:lnTo>
                  <a:lnTo>
                    <a:pt x="138" y="3"/>
                  </a:lnTo>
                  <a:lnTo>
                    <a:pt x="143" y="2"/>
                  </a:lnTo>
                  <a:lnTo>
                    <a:pt x="146" y="0"/>
                  </a:lnTo>
                  <a:lnTo>
                    <a:pt x="149" y="0"/>
                  </a:lnTo>
                  <a:lnTo>
                    <a:pt x="154" y="0"/>
                  </a:lnTo>
                  <a:lnTo>
                    <a:pt x="160" y="1"/>
                  </a:lnTo>
                  <a:lnTo>
                    <a:pt x="168" y="4"/>
                  </a:lnTo>
                  <a:lnTo>
                    <a:pt x="175" y="10"/>
                  </a:lnTo>
                  <a:lnTo>
                    <a:pt x="183" y="17"/>
                  </a:lnTo>
                  <a:lnTo>
                    <a:pt x="190" y="27"/>
                  </a:lnTo>
                  <a:lnTo>
                    <a:pt x="198" y="38"/>
                  </a:lnTo>
                  <a:lnTo>
                    <a:pt x="215" y="64"/>
                  </a:lnTo>
                  <a:lnTo>
                    <a:pt x="233" y="95"/>
                  </a:lnTo>
                  <a:lnTo>
                    <a:pt x="243" y="112"/>
                  </a:lnTo>
                  <a:lnTo>
                    <a:pt x="252" y="128"/>
                  </a:lnTo>
                  <a:lnTo>
                    <a:pt x="258" y="143"/>
                  </a:lnTo>
                  <a:lnTo>
                    <a:pt x="264" y="160"/>
                  </a:lnTo>
                  <a:lnTo>
                    <a:pt x="267" y="176"/>
                  </a:lnTo>
                  <a:lnTo>
                    <a:pt x="269" y="191"/>
                  </a:lnTo>
                  <a:lnTo>
                    <a:pt x="270" y="206"/>
                  </a:lnTo>
                  <a:lnTo>
                    <a:pt x="270" y="222"/>
                  </a:lnTo>
                  <a:lnTo>
                    <a:pt x="269" y="237"/>
                  </a:lnTo>
                  <a:lnTo>
                    <a:pt x="267" y="254"/>
                  </a:lnTo>
                  <a:lnTo>
                    <a:pt x="264" y="269"/>
                  </a:lnTo>
                  <a:lnTo>
                    <a:pt x="259" y="285"/>
                  </a:lnTo>
                  <a:lnTo>
                    <a:pt x="249" y="318"/>
                  </a:lnTo>
                  <a:lnTo>
                    <a:pt x="237" y="352"/>
                  </a:lnTo>
                  <a:close/>
                </a:path>
              </a:pathLst>
            </a:custGeom>
            <a:solidFill>
              <a:srgbClr val="7ca7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6070680" y="2405160"/>
              <a:ext cx="77760" cy="165240"/>
            </a:xfrm>
            <a:custGeom>
              <a:avLst/>
              <a:gdLst/>
              <a:ahLst/>
              <a:rect l="l" t="t" r="r" b="b"/>
              <a:pathLst>
                <a:path w="241" h="519">
                  <a:moveTo>
                    <a:pt x="34" y="307"/>
                  </a:moveTo>
                  <a:lnTo>
                    <a:pt x="35" y="300"/>
                  </a:lnTo>
                  <a:lnTo>
                    <a:pt x="36" y="278"/>
                  </a:lnTo>
                  <a:lnTo>
                    <a:pt x="39" y="246"/>
                  </a:lnTo>
                  <a:lnTo>
                    <a:pt x="44" y="206"/>
                  </a:lnTo>
                  <a:lnTo>
                    <a:pt x="47" y="184"/>
                  </a:lnTo>
                  <a:lnTo>
                    <a:pt x="51" y="163"/>
                  </a:lnTo>
                  <a:lnTo>
                    <a:pt x="56" y="140"/>
                  </a:lnTo>
                  <a:lnTo>
                    <a:pt x="61" y="118"/>
                  </a:lnTo>
                  <a:lnTo>
                    <a:pt x="68" y="97"/>
                  </a:lnTo>
                  <a:lnTo>
                    <a:pt x="74" y="76"/>
                  </a:lnTo>
                  <a:lnTo>
                    <a:pt x="83" y="58"/>
                  </a:lnTo>
                  <a:lnTo>
                    <a:pt x="91" y="41"/>
                  </a:lnTo>
                  <a:lnTo>
                    <a:pt x="100" y="27"/>
                  </a:lnTo>
                  <a:lnTo>
                    <a:pt x="109" y="16"/>
                  </a:lnTo>
                  <a:lnTo>
                    <a:pt x="116" y="8"/>
                  </a:lnTo>
                  <a:lnTo>
                    <a:pt x="124" y="3"/>
                  </a:lnTo>
                  <a:lnTo>
                    <a:pt x="127" y="1"/>
                  </a:lnTo>
                  <a:lnTo>
                    <a:pt x="130" y="0"/>
                  </a:lnTo>
                  <a:lnTo>
                    <a:pt x="133" y="0"/>
                  </a:lnTo>
                  <a:lnTo>
                    <a:pt x="137" y="0"/>
                  </a:lnTo>
                  <a:lnTo>
                    <a:pt x="143" y="2"/>
                  </a:lnTo>
                  <a:lnTo>
                    <a:pt x="150" y="5"/>
                  </a:lnTo>
                  <a:lnTo>
                    <a:pt x="156" y="11"/>
                  </a:lnTo>
                  <a:lnTo>
                    <a:pt x="163" y="19"/>
                  </a:lnTo>
                  <a:lnTo>
                    <a:pt x="170" y="29"/>
                  </a:lnTo>
                  <a:lnTo>
                    <a:pt x="178" y="40"/>
                  </a:lnTo>
                  <a:lnTo>
                    <a:pt x="194" y="67"/>
                  </a:lnTo>
                  <a:lnTo>
                    <a:pt x="212" y="98"/>
                  </a:lnTo>
                  <a:lnTo>
                    <a:pt x="222" y="114"/>
                  </a:lnTo>
                  <a:lnTo>
                    <a:pt x="230" y="130"/>
                  </a:lnTo>
                  <a:lnTo>
                    <a:pt x="235" y="145"/>
                  </a:lnTo>
                  <a:lnTo>
                    <a:pt x="238" y="159"/>
                  </a:lnTo>
                  <a:lnTo>
                    <a:pt x="241" y="173"/>
                  </a:lnTo>
                  <a:lnTo>
                    <a:pt x="241" y="187"/>
                  </a:lnTo>
                  <a:lnTo>
                    <a:pt x="241" y="200"/>
                  </a:lnTo>
                  <a:lnTo>
                    <a:pt x="240" y="213"/>
                  </a:lnTo>
                  <a:lnTo>
                    <a:pt x="238" y="226"/>
                  </a:lnTo>
                  <a:lnTo>
                    <a:pt x="235" y="238"/>
                  </a:lnTo>
                  <a:lnTo>
                    <a:pt x="232" y="250"/>
                  </a:lnTo>
                  <a:lnTo>
                    <a:pt x="227" y="262"/>
                  </a:lnTo>
                  <a:lnTo>
                    <a:pt x="220" y="286"/>
                  </a:lnTo>
                  <a:lnTo>
                    <a:pt x="212" y="307"/>
                  </a:lnTo>
                  <a:lnTo>
                    <a:pt x="191" y="391"/>
                  </a:lnTo>
                  <a:lnTo>
                    <a:pt x="175" y="454"/>
                  </a:lnTo>
                  <a:lnTo>
                    <a:pt x="168" y="479"/>
                  </a:lnTo>
                  <a:lnTo>
                    <a:pt x="163" y="499"/>
                  </a:lnTo>
                  <a:lnTo>
                    <a:pt x="158" y="511"/>
                  </a:lnTo>
                  <a:lnTo>
                    <a:pt x="156" y="518"/>
                  </a:lnTo>
                  <a:lnTo>
                    <a:pt x="155" y="519"/>
                  </a:lnTo>
                  <a:lnTo>
                    <a:pt x="154" y="518"/>
                  </a:lnTo>
                  <a:lnTo>
                    <a:pt x="153" y="516"/>
                  </a:lnTo>
                  <a:lnTo>
                    <a:pt x="153" y="511"/>
                  </a:lnTo>
                  <a:lnTo>
                    <a:pt x="153" y="497"/>
                  </a:lnTo>
                  <a:lnTo>
                    <a:pt x="154" y="476"/>
                  </a:lnTo>
                  <a:lnTo>
                    <a:pt x="159" y="409"/>
                  </a:lnTo>
                  <a:lnTo>
                    <a:pt x="168" y="307"/>
                  </a:lnTo>
                  <a:lnTo>
                    <a:pt x="170" y="279"/>
                  </a:lnTo>
                  <a:lnTo>
                    <a:pt x="171" y="256"/>
                  </a:lnTo>
                  <a:lnTo>
                    <a:pt x="172" y="234"/>
                  </a:lnTo>
                  <a:lnTo>
                    <a:pt x="173" y="216"/>
                  </a:lnTo>
                  <a:lnTo>
                    <a:pt x="172" y="200"/>
                  </a:lnTo>
                  <a:lnTo>
                    <a:pt x="171" y="187"/>
                  </a:lnTo>
                  <a:lnTo>
                    <a:pt x="170" y="177"/>
                  </a:lnTo>
                  <a:lnTo>
                    <a:pt x="168" y="169"/>
                  </a:lnTo>
                  <a:lnTo>
                    <a:pt x="165" y="165"/>
                  </a:lnTo>
                  <a:lnTo>
                    <a:pt x="162" y="162"/>
                  </a:lnTo>
                  <a:lnTo>
                    <a:pt x="158" y="160"/>
                  </a:lnTo>
                  <a:lnTo>
                    <a:pt x="154" y="160"/>
                  </a:lnTo>
                  <a:lnTo>
                    <a:pt x="150" y="164"/>
                  </a:lnTo>
                  <a:lnTo>
                    <a:pt x="144" y="168"/>
                  </a:lnTo>
                  <a:lnTo>
                    <a:pt x="140" y="173"/>
                  </a:lnTo>
                  <a:lnTo>
                    <a:pt x="135" y="180"/>
                  </a:lnTo>
                  <a:lnTo>
                    <a:pt x="123" y="197"/>
                  </a:lnTo>
                  <a:lnTo>
                    <a:pt x="111" y="218"/>
                  </a:lnTo>
                  <a:lnTo>
                    <a:pt x="99" y="240"/>
                  </a:lnTo>
                  <a:lnTo>
                    <a:pt x="86" y="264"/>
                  </a:lnTo>
                  <a:lnTo>
                    <a:pt x="62" y="311"/>
                  </a:lnTo>
                  <a:lnTo>
                    <a:pt x="42" y="347"/>
                  </a:lnTo>
                  <a:lnTo>
                    <a:pt x="24" y="375"/>
                  </a:lnTo>
                  <a:lnTo>
                    <a:pt x="11" y="398"/>
                  </a:lnTo>
                  <a:lnTo>
                    <a:pt x="4" y="414"/>
                  </a:lnTo>
                  <a:lnTo>
                    <a:pt x="0" y="420"/>
                  </a:lnTo>
                  <a:lnTo>
                    <a:pt x="2" y="415"/>
                  </a:lnTo>
                  <a:lnTo>
                    <a:pt x="7" y="396"/>
                  </a:lnTo>
                  <a:lnTo>
                    <a:pt x="18" y="361"/>
                  </a:lnTo>
                  <a:lnTo>
                    <a:pt x="34" y="307"/>
                  </a:lnTo>
                  <a:close/>
                </a:path>
              </a:pathLst>
            </a:custGeom>
            <a:solidFill>
              <a:srgbClr val="82ad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5999040" y="3138480"/>
              <a:ext cx="42840" cy="19080"/>
            </a:xfrm>
            <a:custGeom>
              <a:avLst/>
              <a:gdLst/>
              <a:ahLst/>
              <a:rect l="l" t="t" r="r" b="b"/>
              <a:pathLst>
                <a:path w="135" h="63">
                  <a:moveTo>
                    <a:pt x="0" y="63"/>
                  </a:moveTo>
                  <a:lnTo>
                    <a:pt x="3" y="62"/>
                  </a:lnTo>
                  <a:lnTo>
                    <a:pt x="14" y="58"/>
                  </a:lnTo>
                  <a:lnTo>
                    <a:pt x="30" y="51"/>
                  </a:lnTo>
                  <a:lnTo>
                    <a:pt x="48" y="43"/>
                  </a:lnTo>
                  <a:lnTo>
                    <a:pt x="67" y="35"/>
                  </a:lnTo>
                  <a:lnTo>
                    <a:pt x="84" y="29"/>
                  </a:lnTo>
                  <a:lnTo>
                    <a:pt x="97" y="22"/>
                  </a:lnTo>
                  <a:lnTo>
                    <a:pt x="106" y="19"/>
                  </a:lnTo>
                  <a:lnTo>
                    <a:pt x="110" y="17"/>
                  </a:lnTo>
                  <a:lnTo>
                    <a:pt x="115" y="14"/>
                  </a:lnTo>
                  <a:lnTo>
                    <a:pt x="121" y="10"/>
                  </a:lnTo>
                  <a:lnTo>
                    <a:pt x="125" y="7"/>
                  </a:lnTo>
                  <a:lnTo>
                    <a:pt x="129" y="4"/>
                  </a:lnTo>
                  <a:lnTo>
                    <a:pt x="133" y="2"/>
                  </a:lnTo>
                  <a:lnTo>
                    <a:pt x="135" y="0"/>
                  </a:lnTo>
                  <a:lnTo>
                    <a:pt x="135" y="0"/>
                  </a:lnTo>
                  <a:lnTo>
                    <a:pt x="134" y="1"/>
                  </a:lnTo>
                  <a:lnTo>
                    <a:pt x="127" y="3"/>
                  </a:lnTo>
                  <a:lnTo>
                    <a:pt x="118" y="6"/>
                  </a:lnTo>
                  <a:lnTo>
                    <a:pt x="108" y="9"/>
                  </a:lnTo>
                  <a:lnTo>
                    <a:pt x="96" y="15"/>
                  </a:lnTo>
                  <a:lnTo>
                    <a:pt x="83" y="19"/>
                  </a:lnTo>
                  <a:lnTo>
                    <a:pt x="70" y="24"/>
                  </a:lnTo>
                  <a:lnTo>
                    <a:pt x="59" y="29"/>
                  </a:lnTo>
                  <a:lnTo>
                    <a:pt x="47" y="35"/>
                  </a:lnTo>
                  <a:lnTo>
                    <a:pt x="35" y="41"/>
                  </a:lnTo>
                  <a:lnTo>
                    <a:pt x="26" y="47"/>
                  </a:lnTo>
                  <a:lnTo>
                    <a:pt x="17" y="52"/>
                  </a:lnTo>
                  <a:lnTo>
                    <a:pt x="9" y="57"/>
                  </a:lnTo>
                  <a:lnTo>
                    <a:pt x="4" y="60"/>
                  </a:lnTo>
                  <a:lnTo>
                    <a:pt x="1" y="63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8965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5168880" y="2586240"/>
              <a:ext cx="318960" cy="241200"/>
            </a:xfrm>
            <a:custGeom>
              <a:avLst/>
              <a:gdLst/>
              <a:ahLst/>
              <a:rect l="l" t="t" r="r" b="b"/>
              <a:pathLst>
                <a:path w="1005" h="763">
                  <a:moveTo>
                    <a:pt x="80" y="130"/>
                  </a:moveTo>
                  <a:lnTo>
                    <a:pt x="79" y="143"/>
                  </a:lnTo>
                  <a:lnTo>
                    <a:pt x="77" y="156"/>
                  </a:lnTo>
                  <a:lnTo>
                    <a:pt x="73" y="170"/>
                  </a:lnTo>
                  <a:lnTo>
                    <a:pt x="68" y="184"/>
                  </a:lnTo>
                  <a:lnTo>
                    <a:pt x="57" y="216"/>
                  </a:lnTo>
                  <a:lnTo>
                    <a:pt x="44" y="248"/>
                  </a:lnTo>
                  <a:lnTo>
                    <a:pt x="37" y="265"/>
                  </a:lnTo>
                  <a:lnTo>
                    <a:pt x="32" y="284"/>
                  </a:lnTo>
                  <a:lnTo>
                    <a:pt x="26" y="303"/>
                  </a:lnTo>
                  <a:lnTo>
                    <a:pt x="23" y="323"/>
                  </a:lnTo>
                  <a:lnTo>
                    <a:pt x="20" y="342"/>
                  </a:lnTo>
                  <a:lnTo>
                    <a:pt x="19" y="364"/>
                  </a:lnTo>
                  <a:lnTo>
                    <a:pt x="20" y="385"/>
                  </a:lnTo>
                  <a:lnTo>
                    <a:pt x="23" y="407"/>
                  </a:lnTo>
                  <a:lnTo>
                    <a:pt x="26" y="429"/>
                  </a:lnTo>
                  <a:lnTo>
                    <a:pt x="28" y="452"/>
                  </a:lnTo>
                  <a:lnTo>
                    <a:pt x="30" y="473"/>
                  </a:lnTo>
                  <a:lnTo>
                    <a:pt x="28" y="492"/>
                  </a:lnTo>
                  <a:lnTo>
                    <a:pt x="27" y="512"/>
                  </a:lnTo>
                  <a:lnTo>
                    <a:pt x="26" y="529"/>
                  </a:lnTo>
                  <a:lnTo>
                    <a:pt x="23" y="545"/>
                  </a:lnTo>
                  <a:lnTo>
                    <a:pt x="20" y="560"/>
                  </a:lnTo>
                  <a:lnTo>
                    <a:pt x="13" y="585"/>
                  </a:lnTo>
                  <a:lnTo>
                    <a:pt x="8" y="603"/>
                  </a:lnTo>
                  <a:lnTo>
                    <a:pt x="3" y="615"/>
                  </a:lnTo>
                  <a:lnTo>
                    <a:pt x="0" y="620"/>
                  </a:lnTo>
                  <a:lnTo>
                    <a:pt x="19" y="621"/>
                  </a:lnTo>
                  <a:lnTo>
                    <a:pt x="68" y="624"/>
                  </a:lnTo>
                  <a:lnTo>
                    <a:pt x="142" y="629"/>
                  </a:lnTo>
                  <a:lnTo>
                    <a:pt x="230" y="638"/>
                  </a:lnTo>
                  <a:lnTo>
                    <a:pt x="279" y="642"/>
                  </a:lnTo>
                  <a:lnTo>
                    <a:pt x="329" y="648"/>
                  </a:lnTo>
                  <a:lnTo>
                    <a:pt x="378" y="654"/>
                  </a:lnTo>
                  <a:lnTo>
                    <a:pt x="428" y="662"/>
                  </a:lnTo>
                  <a:lnTo>
                    <a:pt x="477" y="669"/>
                  </a:lnTo>
                  <a:lnTo>
                    <a:pt x="522" y="678"/>
                  </a:lnTo>
                  <a:lnTo>
                    <a:pt x="564" y="687"/>
                  </a:lnTo>
                  <a:lnTo>
                    <a:pt x="602" y="696"/>
                  </a:lnTo>
                  <a:lnTo>
                    <a:pt x="655" y="712"/>
                  </a:lnTo>
                  <a:lnTo>
                    <a:pt x="698" y="725"/>
                  </a:lnTo>
                  <a:lnTo>
                    <a:pt x="734" y="737"/>
                  </a:lnTo>
                  <a:lnTo>
                    <a:pt x="760" y="746"/>
                  </a:lnTo>
                  <a:lnTo>
                    <a:pt x="779" y="753"/>
                  </a:lnTo>
                  <a:lnTo>
                    <a:pt x="792" y="759"/>
                  </a:lnTo>
                  <a:lnTo>
                    <a:pt x="800" y="762"/>
                  </a:lnTo>
                  <a:lnTo>
                    <a:pt x="802" y="763"/>
                  </a:lnTo>
                  <a:lnTo>
                    <a:pt x="805" y="756"/>
                  </a:lnTo>
                  <a:lnTo>
                    <a:pt x="814" y="736"/>
                  </a:lnTo>
                  <a:lnTo>
                    <a:pt x="826" y="707"/>
                  </a:lnTo>
                  <a:lnTo>
                    <a:pt x="840" y="671"/>
                  </a:lnTo>
                  <a:lnTo>
                    <a:pt x="855" y="631"/>
                  </a:lnTo>
                  <a:lnTo>
                    <a:pt x="870" y="591"/>
                  </a:lnTo>
                  <a:lnTo>
                    <a:pt x="882" y="553"/>
                  </a:lnTo>
                  <a:lnTo>
                    <a:pt x="891" y="518"/>
                  </a:lnTo>
                  <a:lnTo>
                    <a:pt x="898" y="489"/>
                  </a:lnTo>
                  <a:lnTo>
                    <a:pt x="906" y="458"/>
                  </a:lnTo>
                  <a:lnTo>
                    <a:pt x="913" y="426"/>
                  </a:lnTo>
                  <a:lnTo>
                    <a:pt x="921" y="394"/>
                  </a:lnTo>
                  <a:lnTo>
                    <a:pt x="928" y="360"/>
                  </a:lnTo>
                  <a:lnTo>
                    <a:pt x="935" y="324"/>
                  </a:lnTo>
                  <a:lnTo>
                    <a:pt x="941" y="285"/>
                  </a:lnTo>
                  <a:lnTo>
                    <a:pt x="946" y="244"/>
                  </a:lnTo>
                  <a:lnTo>
                    <a:pt x="948" y="221"/>
                  </a:lnTo>
                  <a:lnTo>
                    <a:pt x="952" y="199"/>
                  </a:lnTo>
                  <a:lnTo>
                    <a:pt x="958" y="180"/>
                  </a:lnTo>
                  <a:lnTo>
                    <a:pt x="963" y="163"/>
                  </a:lnTo>
                  <a:lnTo>
                    <a:pt x="968" y="148"/>
                  </a:lnTo>
                  <a:lnTo>
                    <a:pt x="973" y="135"/>
                  </a:lnTo>
                  <a:lnTo>
                    <a:pt x="977" y="125"/>
                  </a:lnTo>
                  <a:lnTo>
                    <a:pt x="980" y="117"/>
                  </a:lnTo>
                  <a:lnTo>
                    <a:pt x="982" y="111"/>
                  </a:lnTo>
                  <a:lnTo>
                    <a:pt x="986" y="101"/>
                  </a:lnTo>
                  <a:lnTo>
                    <a:pt x="990" y="88"/>
                  </a:lnTo>
                  <a:lnTo>
                    <a:pt x="994" y="73"/>
                  </a:lnTo>
                  <a:lnTo>
                    <a:pt x="999" y="56"/>
                  </a:lnTo>
                  <a:lnTo>
                    <a:pt x="1002" y="37"/>
                  </a:lnTo>
                  <a:lnTo>
                    <a:pt x="1004" y="19"/>
                  </a:lnTo>
                  <a:lnTo>
                    <a:pt x="1005" y="0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6105600" y="3116160"/>
              <a:ext cx="7920" cy="41400"/>
            </a:xfrm>
            <a:custGeom>
              <a:avLst/>
              <a:gdLst/>
              <a:ahLst/>
              <a:rect l="l" t="t" r="r" b="b"/>
              <a:pathLst>
                <a:path w="27" h="133">
                  <a:moveTo>
                    <a:pt x="27" y="0"/>
                  </a:moveTo>
                  <a:lnTo>
                    <a:pt x="25" y="5"/>
                  </a:lnTo>
                  <a:lnTo>
                    <a:pt x="22" y="16"/>
                  </a:lnTo>
                  <a:lnTo>
                    <a:pt x="17" y="33"/>
                  </a:lnTo>
                  <a:lnTo>
                    <a:pt x="11" y="53"/>
                  </a:lnTo>
                  <a:lnTo>
                    <a:pt x="6" y="75"/>
                  </a:lnTo>
                  <a:lnTo>
                    <a:pt x="3" y="98"/>
                  </a:lnTo>
                  <a:lnTo>
                    <a:pt x="2" y="107"/>
                  </a:lnTo>
                  <a:lnTo>
                    <a:pt x="0" y="117"/>
                  </a:lnTo>
                  <a:lnTo>
                    <a:pt x="2" y="126"/>
                  </a:lnTo>
                  <a:lnTo>
                    <a:pt x="3" y="133"/>
                  </a:lnTo>
                </a:path>
              </a:pathLst>
            </a:custGeom>
            <a:noFill/>
            <a:ln w="14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6134040" y="3078360"/>
              <a:ext cx="47520" cy="73080"/>
            </a:xfrm>
            <a:custGeom>
              <a:avLst/>
              <a:gdLst/>
              <a:ahLst/>
              <a:rect l="l" t="t" r="r" b="b"/>
              <a:pathLst>
                <a:path w="151" h="230">
                  <a:moveTo>
                    <a:pt x="0" y="230"/>
                  </a:moveTo>
                  <a:lnTo>
                    <a:pt x="1" y="222"/>
                  </a:lnTo>
                  <a:lnTo>
                    <a:pt x="6" y="208"/>
                  </a:lnTo>
                  <a:lnTo>
                    <a:pt x="10" y="190"/>
                  </a:lnTo>
                  <a:lnTo>
                    <a:pt x="16" y="170"/>
                  </a:lnTo>
                  <a:lnTo>
                    <a:pt x="23" y="149"/>
                  </a:lnTo>
                  <a:lnTo>
                    <a:pt x="29" y="129"/>
                  </a:lnTo>
                  <a:lnTo>
                    <a:pt x="36" y="112"/>
                  </a:lnTo>
                  <a:lnTo>
                    <a:pt x="40" y="99"/>
                  </a:lnTo>
                  <a:lnTo>
                    <a:pt x="46" y="88"/>
                  </a:lnTo>
                  <a:lnTo>
                    <a:pt x="52" y="78"/>
                  </a:lnTo>
                  <a:lnTo>
                    <a:pt x="60" y="67"/>
                  </a:lnTo>
                  <a:lnTo>
                    <a:pt x="67" y="57"/>
                  </a:lnTo>
                  <a:lnTo>
                    <a:pt x="74" y="47"/>
                  </a:lnTo>
                  <a:lnTo>
                    <a:pt x="79" y="41"/>
                  </a:lnTo>
                  <a:lnTo>
                    <a:pt x="83" y="36"/>
                  </a:lnTo>
                  <a:lnTo>
                    <a:pt x="84" y="34"/>
                  </a:lnTo>
                  <a:lnTo>
                    <a:pt x="87" y="33"/>
                  </a:lnTo>
                  <a:lnTo>
                    <a:pt x="93" y="30"/>
                  </a:lnTo>
                  <a:lnTo>
                    <a:pt x="102" y="25"/>
                  </a:lnTo>
                  <a:lnTo>
                    <a:pt x="113" y="19"/>
                  </a:lnTo>
                  <a:lnTo>
                    <a:pt x="123" y="13"/>
                  </a:lnTo>
                  <a:lnTo>
                    <a:pt x="134" y="7"/>
                  </a:lnTo>
                  <a:lnTo>
                    <a:pt x="144" y="3"/>
                  </a:lnTo>
                  <a:lnTo>
                    <a:pt x="151" y="0"/>
                  </a:lnTo>
                </a:path>
              </a:pathLst>
            </a:custGeom>
            <a:noFill/>
            <a:ln w="14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6173640" y="3095640"/>
              <a:ext cx="54000" cy="49320"/>
            </a:xfrm>
            <a:custGeom>
              <a:avLst/>
              <a:gdLst/>
              <a:ahLst/>
              <a:rect l="l" t="t" r="r" b="b"/>
              <a:pathLst>
                <a:path w="171" h="152">
                  <a:moveTo>
                    <a:pt x="171" y="0"/>
                  </a:moveTo>
                  <a:lnTo>
                    <a:pt x="167" y="2"/>
                  </a:lnTo>
                  <a:lnTo>
                    <a:pt x="158" y="7"/>
                  </a:lnTo>
                  <a:lnTo>
                    <a:pt x="144" y="16"/>
                  </a:lnTo>
                  <a:lnTo>
                    <a:pt x="128" y="26"/>
                  </a:lnTo>
                  <a:lnTo>
                    <a:pt x="111" y="37"/>
                  </a:lnTo>
                  <a:lnTo>
                    <a:pt x="94" y="46"/>
                  </a:lnTo>
                  <a:lnTo>
                    <a:pt x="81" y="55"/>
                  </a:lnTo>
                  <a:lnTo>
                    <a:pt x="72" y="61"/>
                  </a:lnTo>
                  <a:lnTo>
                    <a:pt x="68" y="65"/>
                  </a:lnTo>
                  <a:lnTo>
                    <a:pt x="61" y="74"/>
                  </a:lnTo>
                  <a:lnTo>
                    <a:pt x="49" y="87"/>
                  </a:lnTo>
                  <a:lnTo>
                    <a:pt x="36" y="104"/>
                  </a:lnTo>
                  <a:lnTo>
                    <a:pt x="23" y="120"/>
                  </a:lnTo>
                  <a:lnTo>
                    <a:pt x="11" y="134"/>
                  </a:lnTo>
                  <a:lnTo>
                    <a:pt x="4" y="146"/>
                  </a:lnTo>
                  <a:lnTo>
                    <a:pt x="0" y="152"/>
                  </a:lnTo>
                </a:path>
              </a:pathLst>
            </a:custGeom>
            <a:noFill/>
            <a:ln w="14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5546520" y="3376800"/>
              <a:ext cx="303480" cy="492120"/>
            </a:xfrm>
            <a:custGeom>
              <a:avLst/>
              <a:gdLst/>
              <a:ahLst/>
              <a:rect l="l" t="t" r="r" b="b"/>
              <a:pathLst>
                <a:path w="957" h="1552">
                  <a:moveTo>
                    <a:pt x="957" y="12"/>
                  </a:moveTo>
                  <a:lnTo>
                    <a:pt x="948" y="10"/>
                  </a:lnTo>
                  <a:lnTo>
                    <a:pt x="935" y="7"/>
                  </a:lnTo>
                  <a:lnTo>
                    <a:pt x="918" y="3"/>
                  </a:lnTo>
                  <a:lnTo>
                    <a:pt x="897" y="1"/>
                  </a:lnTo>
                  <a:lnTo>
                    <a:pt x="873" y="0"/>
                  </a:lnTo>
                  <a:lnTo>
                    <a:pt x="847" y="0"/>
                  </a:lnTo>
                  <a:lnTo>
                    <a:pt x="833" y="1"/>
                  </a:lnTo>
                  <a:lnTo>
                    <a:pt x="819" y="2"/>
                  </a:lnTo>
                  <a:lnTo>
                    <a:pt x="803" y="5"/>
                  </a:lnTo>
                  <a:lnTo>
                    <a:pt x="788" y="7"/>
                  </a:lnTo>
                  <a:lnTo>
                    <a:pt x="774" y="10"/>
                  </a:lnTo>
                  <a:lnTo>
                    <a:pt x="759" y="14"/>
                  </a:lnTo>
                  <a:lnTo>
                    <a:pt x="746" y="19"/>
                  </a:lnTo>
                  <a:lnTo>
                    <a:pt x="732" y="23"/>
                  </a:lnTo>
                  <a:lnTo>
                    <a:pt x="706" y="34"/>
                  </a:lnTo>
                  <a:lnTo>
                    <a:pt x="681" y="46"/>
                  </a:lnTo>
                  <a:lnTo>
                    <a:pt x="659" y="57"/>
                  </a:lnTo>
                  <a:lnTo>
                    <a:pt x="639" y="69"/>
                  </a:lnTo>
                  <a:lnTo>
                    <a:pt x="621" y="81"/>
                  </a:lnTo>
                  <a:lnTo>
                    <a:pt x="606" y="91"/>
                  </a:lnTo>
                  <a:lnTo>
                    <a:pt x="586" y="104"/>
                  </a:lnTo>
                  <a:lnTo>
                    <a:pt x="558" y="122"/>
                  </a:lnTo>
                  <a:lnTo>
                    <a:pt x="524" y="144"/>
                  </a:lnTo>
                  <a:lnTo>
                    <a:pt x="488" y="167"/>
                  </a:lnTo>
                  <a:lnTo>
                    <a:pt x="453" y="187"/>
                  </a:lnTo>
                  <a:lnTo>
                    <a:pt x="423" y="205"/>
                  </a:lnTo>
                  <a:lnTo>
                    <a:pt x="404" y="217"/>
                  </a:lnTo>
                  <a:lnTo>
                    <a:pt x="395" y="223"/>
                  </a:lnTo>
                  <a:lnTo>
                    <a:pt x="393" y="223"/>
                  </a:lnTo>
                  <a:lnTo>
                    <a:pt x="385" y="224"/>
                  </a:lnTo>
                  <a:lnTo>
                    <a:pt x="375" y="225"/>
                  </a:lnTo>
                  <a:lnTo>
                    <a:pt x="361" y="227"/>
                  </a:lnTo>
                  <a:lnTo>
                    <a:pt x="345" y="230"/>
                  </a:lnTo>
                  <a:lnTo>
                    <a:pt x="329" y="235"/>
                  </a:lnTo>
                  <a:lnTo>
                    <a:pt x="313" y="240"/>
                  </a:lnTo>
                  <a:lnTo>
                    <a:pt x="299" y="248"/>
                  </a:lnTo>
                  <a:lnTo>
                    <a:pt x="285" y="256"/>
                  </a:lnTo>
                  <a:lnTo>
                    <a:pt x="270" y="267"/>
                  </a:lnTo>
                  <a:lnTo>
                    <a:pt x="255" y="279"/>
                  </a:lnTo>
                  <a:lnTo>
                    <a:pt x="239" y="293"/>
                  </a:lnTo>
                  <a:lnTo>
                    <a:pt x="222" y="308"/>
                  </a:lnTo>
                  <a:lnTo>
                    <a:pt x="206" y="326"/>
                  </a:lnTo>
                  <a:lnTo>
                    <a:pt x="190" y="346"/>
                  </a:lnTo>
                  <a:lnTo>
                    <a:pt x="174" y="368"/>
                  </a:lnTo>
                  <a:lnTo>
                    <a:pt x="170" y="368"/>
                  </a:lnTo>
                  <a:lnTo>
                    <a:pt x="163" y="370"/>
                  </a:lnTo>
                  <a:lnTo>
                    <a:pt x="152" y="372"/>
                  </a:lnTo>
                  <a:lnTo>
                    <a:pt x="137" y="377"/>
                  </a:lnTo>
                  <a:lnTo>
                    <a:pt x="128" y="380"/>
                  </a:lnTo>
                  <a:lnTo>
                    <a:pt x="120" y="385"/>
                  </a:lnTo>
                  <a:lnTo>
                    <a:pt x="110" y="390"/>
                  </a:lnTo>
                  <a:lnTo>
                    <a:pt x="100" y="397"/>
                  </a:lnTo>
                  <a:lnTo>
                    <a:pt x="89" y="403"/>
                  </a:lnTo>
                  <a:lnTo>
                    <a:pt x="79" y="412"/>
                  </a:lnTo>
                  <a:lnTo>
                    <a:pt x="68" y="421"/>
                  </a:lnTo>
                  <a:lnTo>
                    <a:pt x="57" y="432"/>
                  </a:lnTo>
                  <a:lnTo>
                    <a:pt x="54" y="435"/>
                  </a:lnTo>
                  <a:lnTo>
                    <a:pt x="47" y="443"/>
                  </a:lnTo>
                  <a:lnTo>
                    <a:pt x="38" y="456"/>
                  </a:lnTo>
                  <a:lnTo>
                    <a:pt x="27" y="473"/>
                  </a:lnTo>
                  <a:lnTo>
                    <a:pt x="21" y="484"/>
                  </a:lnTo>
                  <a:lnTo>
                    <a:pt x="16" y="497"/>
                  </a:lnTo>
                  <a:lnTo>
                    <a:pt x="11" y="510"/>
                  </a:lnTo>
                  <a:lnTo>
                    <a:pt x="7" y="525"/>
                  </a:lnTo>
                  <a:lnTo>
                    <a:pt x="3" y="541"/>
                  </a:lnTo>
                  <a:lnTo>
                    <a:pt x="1" y="559"/>
                  </a:lnTo>
                  <a:lnTo>
                    <a:pt x="0" y="578"/>
                  </a:lnTo>
                  <a:lnTo>
                    <a:pt x="0" y="599"/>
                  </a:lnTo>
                  <a:lnTo>
                    <a:pt x="1" y="607"/>
                  </a:lnTo>
                  <a:lnTo>
                    <a:pt x="2" y="631"/>
                  </a:lnTo>
                  <a:lnTo>
                    <a:pt x="4" y="667"/>
                  </a:lnTo>
                  <a:lnTo>
                    <a:pt x="7" y="709"/>
                  </a:lnTo>
                  <a:lnTo>
                    <a:pt x="11" y="753"/>
                  </a:lnTo>
                  <a:lnTo>
                    <a:pt x="15" y="797"/>
                  </a:lnTo>
                  <a:lnTo>
                    <a:pt x="18" y="836"/>
                  </a:lnTo>
                  <a:lnTo>
                    <a:pt x="22" y="865"/>
                  </a:lnTo>
                  <a:lnTo>
                    <a:pt x="22" y="870"/>
                  </a:lnTo>
                  <a:lnTo>
                    <a:pt x="24" y="883"/>
                  </a:lnTo>
                  <a:lnTo>
                    <a:pt x="25" y="902"/>
                  </a:lnTo>
                  <a:lnTo>
                    <a:pt x="26" y="925"/>
                  </a:lnTo>
                  <a:lnTo>
                    <a:pt x="28" y="950"/>
                  </a:lnTo>
                  <a:lnTo>
                    <a:pt x="29" y="973"/>
                  </a:lnTo>
                  <a:lnTo>
                    <a:pt x="29" y="995"/>
                  </a:lnTo>
                  <a:lnTo>
                    <a:pt x="30" y="1011"/>
                  </a:lnTo>
                  <a:lnTo>
                    <a:pt x="30" y="1023"/>
                  </a:lnTo>
                  <a:lnTo>
                    <a:pt x="30" y="1035"/>
                  </a:lnTo>
                  <a:lnTo>
                    <a:pt x="31" y="1047"/>
                  </a:lnTo>
                  <a:lnTo>
                    <a:pt x="32" y="1056"/>
                  </a:lnTo>
                  <a:lnTo>
                    <a:pt x="33" y="1067"/>
                  </a:lnTo>
                  <a:lnTo>
                    <a:pt x="35" y="1077"/>
                  </a:lnTo>
                  <a:lnTo>
                    <a:pt x="38" y="1087"/>
                  </a:lnTo>
                  <a:lnTo>
                    <a:pt x="40" y="1097"/>
                  </a:lnTo>
                  <a:lnTo>
                    <a:pt x="44" y="1109"/>
                  </a:lnTo>
                  <a:lnTo>
                    <a:pt x="49" y="1126"/>
                  </a:lnTo>
                  <a:lnTo>
                    <a:pt x="56" y="1146"/>
                  </a:lnTo>
                  <a:lnTo>
                    <a:pt x="64" y="1169"/>
                  </a:lnTo>
                  <a:lnTo>
                    <a:pt x="72" y="1191"/>
                  </a:lnTo>
                  <a:lnTo>
                    <a:pt x="81" y="1215"/>
                  </a:lnTo>
                  <a:lnTo>
                    <a:pt x="89" y="1238"/>
                  </a:lnTo>
                  <a:lnTo>
                    <a:pt x="99" y="1258"/>
                  </a:lnTo>
                  <a:lnTo>
                    <a:pt x="100" y="1259"/>
                  </a:lnTo>
                  <a:lnTo>
                    <a:pt x="103" y="1265"/>
                  </a:lnTo>
                  <a:lnTo>
                    <a:pt x="109" y="1274"/>
                  </a:lnTo>
                  <a:lnTo>
                    <a:pt x="114" y="1282"/>
                  </a:lnTo>
                  <a:lnTo>
                    <a:pt x="122" y="1293"/>
                  </a:lnTo>
                  <a:lnTo>
                    <a:pt x="129" y="1304"/>
                  </a:lnTo>
                  <a:lnTo>
                    <a:pt x="137" y="1313"/>
                  </a:lnTo>
                  <a:lnTo>
                    <a:pt x="143" y="1322"/>
                  </a:lnTo>
                  <a:lnTo>
                    <a:pt x="149" y="1331"/>
                  </a:lnTo>
                  <a:lnTo>
                    <a:pt x="155" y="1338"/>
                  </a:lnTo>
                  <a:lnTo>
                    <a:pt x="161" y="1345"/>
                  </a:lnTo>
                  <a:lnTo>
                    <a:pt x="166" y="1351"/>
                  </a:lnTo>
                  <a:lnTo>
                    <a:pt x="173" y="1357"/>
                  </a:lnTo>
                  <a:lnTo>
                    <a:pt x="178" y="1361"/>
                  </a:lnTo>
                  <a:lnTo>
                    <a:pt x="183" y="1364"/>
                  </a:lnTo>
                  <a:lnTo>
                    <a:pt x="188" y="1366"/>
                  </a:lnTo>
                  <a:lnTo>
                    <a:pt x="190" y="1367"/>
                  </a:lnTo>
                  <a:lnTo>
                    <a:pt x="194" y="1371"/>
                  </a:lnTo>
                  <a:lnTo>
                    <a:pt x="201" y="1374"/>
                  </a:lnTo>
                  <a:lnTo>
                    <a:pt x="208" y="1379"/>
                  </a:lnTo>
                  <a:lnTo>
                    <a:pt x="217" y="1385"/>
                  </a:lnTo>
                  <a:lnTo>
                    <a:pt x="226" y="1390"/>
                  </a:lnTo>
                  <a:lnTo>
                    <a:pt x="233" y="1394"/>
                  </a:lnTo>
                  <a:lnTo>
                    <a:pt x="240" y="1399"/>
                  </a:lnTo>
                  <a:lnTo>
                    <a:pt x="243" y="1402"/>
                  </a:lnTo>
                  <a:lnTo>
                    <a:pt x="251" y="1410"/>
                  </a:lnTo>
                  <a:lnTo>
                    <a:pt x="266" y="1421"/>
                  </a:lnTo>
                  <a:lnTo>
                    <a:pt x="281" y="1434"/>
                  </a:lnTo>
                  <a:lnTo>
                    <a:pt x="298" y="1448"/>
                  </a:lnTo>
                  <a:lnTo>
                    <a:pt x="316" y="1461"/>
                  </a:lnTo>
                  <a:lnTo>
                    <a:pt x="325" y="1467"/>
                  </a:lnTo>
                  <a:lnTo>
                    <a:pt x="332" y="1472"/>
                  </a:lnTo>
                  <a:lnTo>
                    <a:pt x="340" y="1475"/>
                  </a:lnTo>
                  <a:lnTo>
                    <a:pt x="347" y="1478"/>
                  </a:lnTo>
                  <a:lnTo>
                    <a:pt x="357" y="1481"/>
                  </a:lnTo>
                  <a:lnTo>
                    <a:pt x="368" y="1483"/>
                  </a:lnTo>
                  <a:lnTo>
                    <a:pt x="377" y="1485"/>
                  </a:lnTo>
                  <a:lnTo>
                    <a:pt x="385" y="1485"/>
                  </a:lnTo>
                  <a:lnTo>
                    <a:pt x="393" y="1485"/>
                  </a:lnTo>
                  <a:lnTo>
                    <a:pt x="398" y="1485"/>
                  </a:lnTo>
                  <a:lnTo>
                    <a:pt x="402" y="1485"/>
                  </a:lnTo>
                  <a:lnTo>
                    <a:pt x="403" y="1485"/>
                  </a:lnTo>
                  <a:lnTo>
                    <a:pt x="408" y="1488"/>
                  </a:lnTo>
                  <a:lnTo>
                    <a:pt x="421" y="1496"/>
                  </a:lnTo>
                  <a:lnTo>
                    <a:pt x="439" y="1506"/>
                  </a:lnTo>
                  <a:lnTo>
                    <a:pt x="461" y="1518"/>
                  </a:lnTo>
                  <a:lnTo>
                    <a:pt x="483" y="1529"/>
                  </a:lnTo>
                  <a:lnTo>
                    <a:pt x="502" y="1540"/>
                  </a:lnTo>
                  <a:lnTo>
                    <a:pt x="517" y="1549"/>
                  </a:lnTo>
                  <a:lnTo>
                    <a:pt x="525" y="1552"/>
                  </a:lnTo>
                  <a:lnTo>
                    <a:pt x="528" y="1551"/>
                  </a:lnTo>
                  <a:lnTo>
                    <a:pt x="535" y="1549"/>
                  </a:lnTo>
                  <a:lnTo>
                    <a:pt x="541" y="1544"/>
                  </a:lnTo>
                  <a:lnTo>
                    <a:pt x="549" y="1536"/>
                  </a:lnTo>
                  <a:lnTo>
                    <a:pt x="554" y="1528"/>
                  </a:lnTo>
                  <a:lnTo>
                    <a:pt x="558" y="1519"/>
                  </a:lnTo>
                  <a:lnTo>
                    <a:pt x="560" y="1514"/>
                  </a:lnTo>
                  <a:lnTo>
                    <a:pt x="560" y="1510"/>
                  </a:lnTo>
                  <a:lnTo>
                    <a:pt x="560" y="1505"/>
                  </a:lnTo>
                  <a:lnTo>
                    <a:pt x="559" y="1500"/>
                  </a:lnTo>
                  <a:lnTo>
                    <a:pt x="562" y="1501"/>
                  </a:lnTo>
                  <a:lnTo>
                    <a:pt x="568" y="1507"/>
                  </a:lnTo>
                  <a:lnTo>
                    <a:pt x="579" y="1512"/>
                  </a:lnTo>
                  <a:lnTo>
                    <a:pt x="591" y="1519"/>
                  </a:lnTo>
                  <a:lnTo>
                    <a:pt x="604" y="1525"/>
                  </a:lnTo>
                  <a:lnTo>
                    <a:pt x="617" y="1531"/>
                  </a:lnTo>
                  <a:lnTo>
                    <a:pt x="622" y="1532"/>
                  </a:lnTo>
                  <a:lnTo>
                    <a:pt x="627" y="1533"/>
                  </a:lnTo>
                  <a:lnTo>
                    <a:pt x="632" y="1533"/>
                  </a:lnTo>
                  <a:lnTo>
                    <a:pt x="635" y="1533"/>
                  </a:lnTo>
                  <a:lnTo>
                    <a:pt x="637" y="1532"/>
                  </a:lnTo>
                  <a:lnTo>
                    <a:pt x="640" y="1529"/>
                  </a:lnTo>
                  <a:lnTo>
                    <a:pt x="646" y="1526"/>
                  </a:lnTo>
                  <a:lnTo>
                    <a:pt x="651" y="1521"/>
                  </a:lnTo>
                  <a:lnTo>
                    <a:pt x="658" y="1515"/>
                  </a:lnTo>
                  <a:lnTo>
                    <a:pt x="664" y="1509"/>
                  </a:lnTo>
                  <a:lnTo>
                    <a:pt x="668" y="1502"/>
                  </a:lnTo>
                  <a:lnTo>
                    <a:pt x="673" y="1495"/>
                  </a:lnTo>
                  <a:lnTo>
                    <a:pt x="673" y="1495"/>
                  </a:lnTo>
                  <a:lnTo>
                    <a:pt x="675" y="1493"/>
                  </a:lnTo>
                  <a:lnTo>
                    <a:pt x="676" y="1490"/>
                  </a:lnTo>
                  <a:lnTo>
                    <a:pt x="678" y="1484"/>
                  </a:lnTo>
                  <a:lnTo>
                    <a:pt x="679" y="1479"/>
                  </a:lnTo>
                  <a:lnTo>
                    <a:pt x="680" y="1471"/>
                  </a:lnTo>
                  <a:lnTo>
                    <a:pt x="679" y="1463"/>
                  </a:lnTo>
                  <a:lnTo>
                    <a:pt x="677" y="1453"/>
                  </a:lnTo>
                  <a:lnTo>
                    <a:pt x="674" y="1444"/>
                  </a:lnTo>
                  <a:lnTo>
                    <a:pt x="671" y="1437"/>
                  </a:lnTo>
                  <a:lnTo>
                    <a:pt x="668" y="1431"/>
                  </a:lnTo>
                  <a:lnTo>
                    <a:pt x="666" y="1427"/>
                  </a:lnTo>
                  <a:lnTo>
                    <a:pt x="665" y="1424"/>
                  </a:lnTo>
                  <a:lnTo>
                    <a:pt x="664" y="1423"/>
                  </a:lnTo>
                  <a:lnTo>
                    <a:pt x="663" y="1421"/>
                  </a:lnTo>
                  <a:lnTo>
                    <a:pt x="663" y="1421"/>
                  </a:lnTo>
                  <a:lnTo>
                    <a:pt x="664" y="1421"/>
                  </a:lnTo>
                  <a:lnTo>
                    <a:pt x="667" y="1424"/>
                  </a:lnTo>
                  <a:lnTo>
                    <a:pt x="673" y="1426"/>
                  </a:lnTo>
                  <a:lnTo>
                    <a:pt x="680" y="1428"/>
                  </a:lnTo>
                  <a:lnTo>
                    <a:pt x="688" y="1429"/>
                  </a:lnTo>
                  <a:lnTo>
                    <a:pt x="698" y="1429"/>
                  </a:lnTo>
                  <a:lnTo>
                    <a:pt x="702" y="1429"/>
                  </a:lnTo>
                  <a:lnTo>
                    <a:pt x="706" y="1428"/>
                  </a:lnTo>
                  <a:lnTo>
                    <a:pt x="711" y="1426"/>
                  </a:lnTo>
                  <a:lnTo>
                    <a:pt x="715" y="1424"/>
                  </a:lnTo>
                  <a:lnTo>
                    <a:pt x="721" y="1417"/>
                  </a:lnTo>
                  <a:lnTo>
                    <a:pt x="727" y="1409"/>
                  </a:lnTo>
                  <a:lnTo>
                    <a:pt x="730" y="1400"/>
                  </a:lnTo>
                  <a:lnTo>
                    <a:pt x="733" y="1390"/>
                  </a:lnTo>
                  <a:lnTo>
                    <a:pt x="734" y="1382"/>
                  </a:lnTo>
                  <a:lnTo>
                    <a:pt x="735" y="1373"/>
                  </a:lnTo>
                  <a:lnTo>
                    <a:pt x="735" y="1365"/>
                  </a:lnTo>
                  <a:lnTo>
                    <a:pt x="734" y="1359"/>
                  </a:lnTo>
                  <a:lnTo>
                    <a:pt x="732" y="1346"/>
                  </a:lnTo>
                  <a:lnTo>
                    <a:pt x="730" y="1332"/>
                  </a:lnTo>
                  <a:lnTo>
                    <a:pt x="726" y="1318"/>
                  </a:lnTo>
                  <a:lnTo>
                    <a:pt x="721" y="1304"/>
                  </a:lnTo>
                  <a:lnTo>
                    <a:pt x="712" y="1275"/>
                  </a:lnTo>
                  <a:lnTo>
                    <a:pt x="700" y="1247"/>
                  </a:lnTo>
                  <a:lnTo>
                    <a:pt x="688" y="1220"/>
                  </a:lnTo>
                  <a:lnTo>
                    <a:pt x="676" y="1196"/>
                  </a:lnTo>
                  <a:lnTo>
                    <a:pt x="665" y="1175"/>
                  </a:lnTo>
                  <a:lnTo>
                    <a:pt x="658" y="1159"/>
                  </a:lnTo>
                  <a:lnTo>
                    <a:pt x="655" y="1155"/>
                  </a:lnTo>
                  <a:lnTo>
                    <a:pt x="650" y="1144"/>
                  </a:lnTo>
                  <a:lnTo>
                    <a:pt x="643" y="1128"/>
                  </a:lnTo>
                  <a:lnTo>
                    <a:pt x="633" y="1108"/>
                  </a:lnTo>
                  <a:lnTo>
                    <a:pt x="624" y="1088"/>
                  </a:lnTo>
                  <a:lnTo>
                    <a:pt x="616" y="1066"/>
                  </a:lnTo>
                  <a:lnTo>
                    <a:pt x="608" y="1047"/>
                  </a:lnTo>
                  <a:lnTo>
                    <a:pt x="604" y="1031"/>
                  </a:lnTo>
                  <a:lnTo>
                    <a:pt x="600" y="1015"/>
                  </a:lnTo>
                  <a:lnTo>
                    <a:pt x="597" y="997"/>
                  </a:lnTo>
                  <a:lnTo>
                    <a:pt x="594" y="975"/>
                  </a:lnTo>
                  <a:lnTo>
                    <a:pt x="589" y="953"/>
                  </a:lnTo>
                  <a:lnTo>
                    <a:pt x="582" y="928"/>
                  </a:lnTo>
                  <a:lnTo>
                    <a:pt x="574" y="901"/>
                  </a:lnTo>
                  <a:lnTo>
                    <a:pt x="564" y="874"/>
                  </a:lnTo>
                  <a:lnTo>
                    <a:pt x="552" y="845"/>
                  </a:lnTo>
                  <a:lnTo>
                    <a:pt x="554" y="845"/>
                  </a:lnTo>
                  <a:lnTo>
                    <a:pt x="562" y="845"/>
                  </a:lnTo>
                  <a:lnTo>
                    <a:pt x="572" y="845"/>
                  </a:lnTo>
                  <a:lnTo>
                    <a:pt x="584" y="845"/>
                  </a:lnTo>
                  <a:lnTo>
                    <a:pt x="597" y="845"/>
                  </a:lnTo>
                  <a:lnTo>
                    <a:pt x="610" y="845"/>
                  </a:lnTo>
                  <a:lnTo>
                    <a:pt x="621" y="845"/>
                  </a:lnTo>
                  <a:lnTo>
                    <a:pt x="628" y="845"/>
                  </a:lnTo>
                  <a:lnTo>
                    <a:pt x="635" y="846"/>
                  </a:lnTo>
                  <a:lnTo>
                    <a:pt x="641" y="846"/>
                  </a:lnTo>
                  <a:lnTo>
                    <a:pt x="648" y="847"/>
                  </a:lnTo>
                  <a:lnTo>
                    <a:pt x="653" y="848"/>
                  </a:lnTo>
                  <a:lnTo>
                    <a:pt x="658" y="849"/>
                  </a:lnTo>
                  <a:lnTo>
                    <a:pt x="662" y="849"/>
                  </a:lnTo>
                  <a:lnTo>
                    <a:pt x="664" y="850"/>
                  </a:lnTo>
                  <a:lnTo>
                    <a:pt x="665" y="850"/>
                  </a:lnTo>
                  <a:lnTo>
                    <a:pt x="666" y="850"/>
                  </a:lnTo>
                  <a:lnTo>
                    <a:pt x="668" y="851"/>
                  </a:lnTo>
                  <a:lnTo>
                    <a:pt x="673" y="852"/>
                  </a:lnTo>
                  <a:lnTo>
                    <a:pt x="677" y="854"/>
                  </a:lnTo>
                  <a:lnTo>
                    <a:pt x="684" y="858"/>
                  </a:lnTo>
                  <a:lnTo>
                    <a:pt x="690" y="863"/>
                  </a:lnTo>
                  <a:lnTo>
                    <a:pt x="698" y="869"/>
                  </a:lnTo>
                  <a:lnTo>
                    <a:pt x="705" y="877"/>
                  </a:lnTo>
                  <a:lnTo>
                    <a:pt x="713" y="887"/>
                  </a:lnTo>
                  <a:lnTo>
                    <a:pt x="722" y="896"/>
                  </a:lnTo>
                  <a:lnTo>
                    <a:pt x="733" y="903"/>
                  </a:lnTo>
                  <a:lnTo>
                    <a:pt x="746" y="912"/>
                  </a:lnTo>
                  <a:lnTo>
                    <a:pt x="760" y="918"/>
                  </a:lnTo>
                  <a:lnTo>
                    <a:pt x="775" y="925"/>
                  </a:lnTo>
                  <a:lnTo>
                    <a:pt x="793" y="930"/>
                  </a:lnTo>
                  <a:lnTo>
                    <a:pt x="811" y="934"/>
                  </a:lnTo>
                  <a:lnTo>
                    <a:pt x="822" y="935"/>
                  </a:lnTo>
                  <a:lnTo>
                    <a:pt x="833" y="934"/>
                  </a:lnTo>
                  <a:lnTo>
                    <a:pt x="845" y="933"/>
                  </a:lnTo>
                  <a:lnTo>
                    <a:pt x="856" y="931"/>
                  </a:lnTo>
                  <a:lnTo>
                    <a:pt x="867" y="929"/>
                  </a:lnTo>
                  <a:lnTo>
                    <a:pt x="879" y="926"/>
                  </a:lnTo>
                  <a:lnTo>
                    <a:pt x="891" y="921"/>
                  </a:lnTo>
                  <a:lnTo>
                    <a:pt x="902" y="917"/>
                  </a:lnTo>
                  <a:lnTo>
                    <a:pt x="912" y="912"/>
                  </a:lnTo>
                  <a:lnTo>
                    <a:pt x="921" y="907"/>
                  </a:lnTo>
                  <a:lnTo>
                    <a:pt x="930" y="902"/>
                  </a:lnTo>
                  <a:lnTo>
                    <a:pt x="936" y="897"/>
                  </a:lnTo>
                  <a:lnTo>
                    <a:pt x="942" y="891"/>
                  </a:lnTo>
                  <a:lnTo>
                    <a:pt x="946" y="887"/>
                  </a:lnTo>
                  <a:lnTo>
                    <a:pt x="949" y="881"/>
                  </a:lnTo>
                  <a:lnTo>
                    <a:pt x="949" y="877"/>
                  </a:lnTo>
                  <a:lnTo>
                    <a:pt x="948" y="870"/>
                  </a:lnTo>
                  <a:lnTo>
                    <a:pt x="947" y="863"/>
                  </a:lnTo>
                  <a:lnTo>
                    <a:pt x="945" y="857"/>
                  </a:lnTo>
                  <a:lnTo>
                    <a:pt x="943" y="852"/>
                  </a:lnTo>
                  <a:lnTo>
                    <a:pt x="939" y="848"/>
                  </a:lnTo>
                  <a:lnTo>
                    <a:pt x="933" y="844"/>
                  </a:lnTo>
                  <a:lnTo>
                    <a:pt x="927" y="840"/>
                  </a:lnTo>
                  <a:lnTo>
                    <a:pt x="917" y="838"/>
                  </a:lnTo>
                  <a:lnTo>
                    <a:pt x="914" y="837"/>
                  </a:lnTo>
                  <a:lnTo>
                    <a:pt x="903" y="835"/>
                  </a:lnTo>
                  <a:lnTo>
                    <a:pt x="887" y="831"/>
                  </a:lnTo>
                  <a:lnTo>
                    <a:pt x="866" y="825"/>
                  </a:lnTo>
                  <a:lnTo>
                    <a:pt x="846" y="818"/>
                  </a:lnTo>
                  <a:lnTo>
                    <a:pt x="824" y="809"/>
                  </a:lnTo>
                  <a:lnTo>
                    <a:pt x="813" y="805"/>
                  </a:lnTo>
                  <a:lnTo>
                    <a:pt x="803" y="799"/>
                  </a:lnTo>
                  <a:lnTo>
                    <a:pt x="795" y="794"/>
                  </a:lnTo>
                  <a:lnTo>
                    <a:pt x="786" y="789"/>
                  </a:lnTo>
                  <a:lnTo>
                    <a:pt x="772" y="775"/>
                  </a:lnTo>
                  <a:lnTo>
                    <a:pt x="759" y="759"/>
                  </a:lnTo>
                  <a:lnTo>
                    <a:pt x="745" y="743"/>
                  </a:lnTo>
                  <a:lnTo>
                    <a:pt x="733" y="725"/>
                  </a:lnTo>
                  <a:lnTo>
                    <a:pt x="721" y="708"/>
                  </a:lnTo>
                  <a:lnTo>
                    <a:pt x="711" y="691"/>
                  </a:lnTo>
                  <a:lnTo>
                    <a:pt x="701" y="675"/>
                  </a:lnTo>
                  <a:lnTo>
                    <a:pt x="692" y="662"/>
                  </a:lnTo>
                  <a:lnTo>
                    <a:pt x="692" y="661"/>
                  </a:lnTo>
                  <a:lnTo>
                    <a:pt x="690" y="658"/>
                  </a:lnTo>
                  <a:lnTo>
                    <a:pt x="687" y="654"/>
                  </a:lnTo>
                  <a:lnTo>
                    <a:pt x="682" y="648"/>
                  </a:lnTo>
                  <a:lnTo>
                    <a:pt x="676" y="641"/>
                  </a:lnTo>
                  <a:lnTo>
                    <a:pt x="668" y="634"/>
                  </a:lnTo>
                  <a:lnTo>
                    <a:pt x="659" y="627"/>
                  </a:lnTo>
                  <a:lnTo>
                    <a:pt x="648" y="620"/>
                  </a:lnTo>
                  <a:lnTo>
                    <a:pt x="632" y="610"/>
                  </a:lnTo>
                  <a:lnTo>
                    <a:pt x="608" y="595"/>
                  </a:lnTo>
                  <a:lnTo>
                    <a:pt x="579" y="575"/>
                  </a:lnTo>
                  <a:lnTo>
                    <a:pt x="549" y="552"/>
                  </a:lnTo>
                  <a:lnTo>
                    <a:pt x="517" y="528"/>
                  </a:lnTo>
                  <a:lnTo>
                    <a:pt x="490" y="508"/>
                  </a:lnTo>
                  <a:lnTo>
                    <a:pt x="470" y="491"/>
                  </a:lnTo>
                  <a:lnTo>
                    <a:pt x="458" y="480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5780160" y="3503520"/>
              <a:ext cx="23760" cy="105120"/>
            </a:xfrm>
            <a:custGeom>
              <a:avLst/>
              <a:gdLst/>
              <a:ahLst/>
              <a:rect l="l" t="t" r="r" b="b"/>
              <a:pathLst>
                <a:path w="75" h="329">
                  <a:moveTo>
                    <a:pt x="0" y="329"/>
                  </a:moveTo>
                  <a:lnTo>
                    <a:pt x="2" y="328"/>
                  </a:lnTo>
                  <a:lnTo>
                    <a:pt x="7" y="325"/>
                  </a:lnTo>
                  <a:lnTo>
                    <a:pt x="14" y="318"/>
                  </a:lnTo>
                  <a:lnTo>
                    <a:pt x="22" y="309"/>
                  </a:lnTo>
                  <a:lnTo>
                    <a:pt x="32" y="297"/>
                  </a:lnTo>
                  <a:lnTo>
                    <a:pt x="42" y="280"/>
                  </a:lnTo>
                  <a:lnTo>
                    <a:pt x="46" y="271"/>
                  </a:lnTo>
                  <a:lnTo>
                    <a:pt x="50" y="260"/>
                  </a:lnTo>
                  <a:lnTo>
                    <a:pt x="54" y="248"/>
                  </a:lnTo>
                  <a:lnTo>
                    <a:pt x="57" y="235"/>
                  </a:lnTo>
                  <a:lnTo>
                    <a:pt x="62" y="206"/>
                  </a:lnTo>
                  <a:lnTo>
                    <a:pt x="69" y="177"/>
                  </a:lnTo>
                  <a:lnTo>
                    <a:pt x="71" y="161"/>
                  </a:lnTo>
                  <a:lnTo>
                    <a:pt x="73" y="146"/>
                  </a:lnTo>
                  <a:lnTo>
                    <a:pt x="74" y="130"/>
                  </a:lnTo>
                  <a:lnTo>
                    <a:pt x="75" y="115"/>
                  </a:lnTo>
                  <a:lnTo>
                    <a:pt x="75" y="99"/>
                  </a:lnTo>
                  <a:lnTo>
                    <a:pt x="74" y="84"/>
                  </a:lnTo>
                  <a:lnTo>
                    <a:pt x="72" y="69"/>
                  </a:lnTo>
                  <a:lnTo>
                    <a:pt x="70" y="55"/>
                  </a:lnTo>
                  <a:lnTo>
                    <a:pt x="64" y="41"/>
                  </a:lnTo>
                  <a:lnTo>
                    <a:pt x="59" y="27"/>
                  </a:lnTo>
                  <a:lnTo>
                    <a:pt x="51" y="13"/>
                  </a:lnTo>
                  <a:lnTo>
                    <a:pt x="42" y="0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5678640" y="3684600"/>
              <a:ext cx="79200" cy="142920"/>
            </a:xfrm>
            <a:custGeom>
              <a:avLst/>
              <a:gdLst/>
              <a:ahLst/>
              <a:rect l="l" t="t" r="r" b="b"/>
              <a:pathLst>
                <a:path w="247" h="452">
                  <a:moveTo>
                    <a:pt x="247" y="452"/>
                  </a:moveTo>
                  <a:lnTo>
                    <a:pt x="243" y="446"/>
                  </a:lnTo>
                  <a:lnTo>
                    <a:pt x="237" y="438"/>
                  </a:lnTo>
                  <a:lnTo>
                    <a:pt x="232" y="430"/>
                  </a:lnTo>
                  <a:lnTo>
                    <a:pt x="225" y="420"/>
                  </a:lnTo>
                  <a:lnTo>
                    <a:pt x="220" y="411"/>
                  </a:lnTo>
                  <a:lnTo>
                    <a:pt x="214" y="403"/>
                  </a:lnTo>
                  <a:lnTo>
                    <a:pt x="209" y="396"/>
                  </a:lnTo>
                  <a:lnTo>
                    <a:pt x="205" y="390"/>
                  </a:lnTo>
                  <a:lnTo>
                    <a:pt x="200" y="381"/>
                  </a:lnTo>
                  <a:lnTo>
                    <a:pt x="190" y="365"/>
                  </a:lnTo>
                  <a:lnTo>
                    <a:pt x="177" y="344"/>
                  </a:lnTo>
                  <a:lnTo>
                    <a:pt x="162" y="321"/>
                  </a:lnTo>
                  <a:lnTo>
                    <a:pt x="147" y="296"/>
                  </a:lnTo>
                  <a:lnTo>
                    <a:pt x="133" y="273"/>
                  </a:lnTo>
                  <a:lnTo>
                    <a:pt x="121" y="254"/>
                  </a:lnTo>
                  <a:lnTo>
                    <a:pt x="113" y="240"/>
                  </a:lnTo>
                  <a:lnTo>
                    <a:pt x="107" y="228"/>
                  </a:lnTo>
                  <a:lnTo>
                    <a:pt x="98" y="213"/>
                  </a:lnTo>
                  <a:lnTo>
                    <a:pt x="90" y="195"/>
                  </a:lnTo>
                  <a:lnTo>
                    <a:pt x="82" y="177"/>
                  </a:lnTo>
                  <a:lnTo>
                    <a:pt x="74" y="160"/>
                  </a:lnTo>
                  <a:lnTo>
                    <a:pt x="68" y="144"/>
                  </a:lnTo>
                  <a:lnTo>
                    <a:pt x="62" y="130"/>
                  </a:lnTo>
                  <a:lnTo>
                    <a:pt x="59" y="121"/>
                  </a:lnTo>
                  <a:lnTo>
                    <a:pt x="54" y="112"/>
                  </a:lnTo>
                  <a:lnTo>
                    <a:pt x="46" y="97"/>
                  </a:lnTo>
                  <a:lnTo>
                    <a:pt x="37" y="79"/>
                  </a:lnTo>
                  <a:lnTo>
                    <a:pt x="28" y="58"/>
                  </a:lnTo>
                  <a:lnTo>
                    <a:pt x="19" y="39"/>
                  </a:lnTo>
                  <a:lnTo>
                    <a:pt x="10" y="20"/>
                  </a:lnTo>
                  <a:lnTo>
                    <a:pt x="4" y="8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5635440" y="3706920"/>
              <a:ext cx="88920" cy="144360"/>
            </a:xfrm>
            <a:custGeom>
              <a:avLst/>
              <a:gdLst/>
              <a:ahLst/>
              <a:rect l="l" t="t" r="r" b="b"/>
              <a:pathLst>
                <a:path w="282" h="458">
                  <a:moveTo>
                    <a:pt x="0" y="0"/>
                  </a:moveTo>
                  <a:lnTo>
                    <a:pt x="9" y="19"/>
                  </a:lnTo>
                  <a:lnTo>
                    <a:pt x="25" y="49"/>
                  </a:lnTo>
                  <a:lnTo>
                    <a:pt x="46" y="89"/>
                  </a:lnTo>
                  <a:lnTo>
                    <a:pt x="70" y="132"/>
                  </a:lnTo>
                  <a:lnTo>
                    <a:pt x="92" y="175"/>
                  </a:lnTo>
                  <a:lnTo>
                    <a:pt x="113" y="215"/>
                  </a:lnTo>
                  <a:lnTo>
                    <a:pt x="129" y="246"/>
                  </a:lnTo>
                  <a:lnTo>
                    <a:pt x="138" y="265"/>
                  </a:lnTo>
                  <a:lnTo>
                    <a:pt x="142" y="275"/>
                  </a:lnTo>
                  <a:lnTo>
                    <a:pt x="148" y="283"/>
                  </a:lnTo>
                  <a:lnTo>
                    <a:pt x="153" y="291"/>
                  </a:lnTo>
                  <a:lnTo>
                    <a:pt x="157" y="298"/>
                  </a:lnTo>
                  <a:lnTo>
                    <a:pt x="163" y="305"/>
                  </a:lnTo>
                  <a:lnTo>
                    <a:pt x="168" y="310"/>
                  </a:lnTo>
                  <a:lnTo>
                    <a:pt x="172" y="317"/>
                  </a:lnTo>
                  <a:lnTo>
                    <a:pt x="178" y="322"/>
                  </a:lnTo>
                  <a:lnTo>
                    <a:pt x="184" y="333"/>
                  </a:lnTo>
                  <a:lnTo>
                    <a:pt x="198" y="350"/>
                  </a:lnTo>
                  <a:lnTo>
                    <a:pt x="215" y="373"/>
                  </a:lnTo>
                  <a:lnTo>
                    <a:pt x="233" y="397"/>
                  </a:lnTo>
                  <a:lnTo>
                    <a:pt x="251" y="419"/>
                  </a:lnTo>
                  <a:lnTo>
                    <a:pt x="266" y="439"/>
                  </a:lnTo>
                  <a:lnTo>
                    <a:pt x="277" y="453"/>
                  </a:lnTo>
                  <a:lnTo>
                    <a:pt x="282" y="458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5595840" y="3719520"/>
              <a:ext cx="82800" cy="128520"/>
            </a:xfrm>
            <a:custGeom>
              <a:avLst/>
              <a:gdLst/>
              <a:ahLst/>
              <a:rect l="l" t="t" r="r" b="b"/>
              <a:pathLst>
                <a:path w="261" h="403">
                  <a:moveTo>
                    <a:pt x="261" y="403"/>
                  </a:moveTo>
                  <a:lnTo>
                    <a:pt x="257" y="401"/>
                  </a:lnTo>
                  <a:lnTo>
                    <a:pt x="251" y="397"/>
                  </a:lnTo>
                  <a:lnTo>
                    <a:pt x="242" y="389"/>
                  </a:lnTo>
                  <a:lnTo>
                    <a:pt x="230" y="379"/>
                  </a:lnTo>
                  <a:lnTo>
                    <a:pt x="218" y="368"/>
                  </a:lnTo>
                  <a:lnTo>
                    <a:pt x="205" y="357"/>
                  </a:lnTo>
                  <a:lnTo>
                    <a:pt x="195" y="345"/>
                  </a:lnTo>
                  <a:lnTo>
                    <a:pt x="186" y="334"/>
                  </a:lnTo>
                  <a:lnTo>
                    <a:pt x="176" y="324"/>
                  </a:lnTo>
                  <a:lnTo>
                    <a:pt x="167" y="314"/>
                  </a:lnTo>
                  <a:lnTo>
                    <a:pt x="155" y="302"/>
                  </a:lnTo>
                  <a:lnTo>
                    <a:pt x="144" y="290"/>
                  </a:lnTo>
                  <a:lnTo>
                    <a:pt x="133" y="278"/>
                  </a:lnTo>
                  <a:lnTo>
                    <a:pt x="124" y="267"/>
                  </a:lnTo>
                  <a:lnTo>
                    <a:pt x="117" y="256"/>
                  </a:lnTo>
                  <a:lnTo>
                    <a:pt x="111" y="248"/>
                  </a:lnTo>
                  <a:lnTo>
                    <a:pt x="104" y="230"/>
                  </a:lnTo>
                  <a:lnTo>
                    <a:pt x="91" y="200"/>
                  </a:lnTo>
                  <a:lnTo>
                    <a:pt x="74" y="162"/>
                  </a:lnTo>
                  <a:lnTo>
                    <a:pt x="55" y="120"/>
                  </a:lnTo>
                  <a:lnTo>
                    <a:pt x="36" y="79"/>
                  </a:lnTo>
                  <a:lnTo>
                    <a:pt x="20" y="41"/>
                  </a:lnTo>
                  <a:lnTo>
                    <a:pt x="7" y="14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"/>
          <p:cNvSpPr/>
          <p:nvPr/>
        </p:nvSpPr>
        <p:spPr>
          <a:xfrm>
            <a:off x="1165680" y="838080"/>
            <a:ext cx="6887520" cy="7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100" spc="-1" strike="noStrike">
                <a:solidFill>
                  <a:srgbClr val="902444"/>
                </a:solidFill>
                <a:latin typeface="Geometr231 Hv BT"/>
              </a:rPr>
              <a:t>STAGES OF THE DYING</a:t>
            </a:r>
            <a:endParaRPr b="0" lang="en-US" sz="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2855160" y="1752480"/>
            <a:ext cx="3470760" cy="412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100" spc="-1" strike="noStrike">
                <a:solidFill>
                  <a:srgbClr val="1f1a17"/>
                </a:solidFill>
                <a:latin typeface="Geometr231 Hv BT"/>
              </a:rPr>
              <a:t>1. Denial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100" spc="-1" strike="noStrike">
                <a:solidFill>
                  <a:srgbClr val="1f1a17"/>
                </a:solidFill>
                <a:latin typeface="Geometr231 Hv BT"/>
              </a:rPr>
              <a:t>2. Anger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100" spc="-1" strike="noStrike">
                <a:solidFill>
                  <a:srgbClr val="1f1a17"/>
                </a:solidFill>
                <a:latin typeface="Geometr231 Hv BT"/>
              </a:rPr>
              <a:t>3. Bargaining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100" spc="-1" strike="noStrike">
                <a:solidFill>
                  <a:srgbClr val="1f1a17"/>
                </a:solidFill>
                <a:latin typeface="Geometr231 Hv BT"/>
              </a:rPr>
              <a:t>4. Depression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100" spc="-1" strike="noStrike">
                <a:solidFill>
                  <a:srgbClr val="1f1a17"/>
                </a:solidFill>
                <a:latin typeface="Geometr231 Hv BT"/>
              </a:rPr>
              <a:t>5. Acceptance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100" spc="-1" strike="noStrike">
                <a:solidFill>
                  <a:srgbClr val="1f1a17"/>
                </a:solidFill>
                <a:latin typeface="Geometr231 Hv BT"/>
              </a:rPr>
              <a:t>6. Resignation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"/>
          <p:cNvSpPr/>
          <p:nvPr/>
        </p:nvSpPr>
        <p:spPr>
          <a:xfrm>
            <a:off x="1461600" y="689040"/>
            <a:ext cx="6516000" cy="14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900" spc="-1" strike="noStrike">
                <a:solidFill>
                  <a:srgbClr val="902444"/>
                </a:solidFill>
                <a:latin typeface="Geometr231 Hv BT"/>
              </a:rPr>
              <a:t>DEATH &amp; GRIEF ARE A 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900" spc="-1" strike="noStrike">
                <a:solidFill>
                  <a:srgbClr val="902444"/>
                </a:solidFill>
                <a:latin typeface="Geometr231 Hv BT"/>
              </a:rPr>
              <a:t>NORMAL PROCESS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3" name=""/>
          <p:cNvGrpSpPr/>
          <p:nvPr/>
        </p:nvGrpSpPr>
        <p:grpSpPr>
          <a:xfrm>
            <a:off x="3016080" y="2362320"/>
            <a:ext cx="3482640" cy="3691800"/>
            <a:chOff x="3016080" y="2362320"/>
            <a:chExt cx="3482640" cy="3691800"/>
          </a:xfrm>
        </p:grpSpPr>
        <p:sp>
          <p:nvSpPr>
            <p:cNvPr id="1074" name=""/>
            <p:cNvSpPr/>
            <p:nvPr/>
          </p:nvSpPr>
          <p:spPr>
            <a:xfrm>
              <a:off x="5120280" y="4609800"/>
              <a:ext cx="1198440" cy="1278360"/>
            </a:xfrm>
            <a:custGeom>
              <a:avLst/>
              <a:gdLst/>
              <a:ahLst/>
              <a:rect l="l" t="t" r="r" b="b"/>
              <a:pathLst>
                <a:path w="3094" h="3307">
                  <a:moveTo>
                    <a:pt x="14" y="877"/>
                  </a:moveTo>
                  <a:lnTo>
                    <a:pt x="11" y="886"/>
                  </a:lnTo>
                  <a:lnTo>
                    <a:pt x="6" y="913"/>
                  </a:lnTo>
                  <a:lnTo>
                    <a:pt x="3" y="933"/>
                  </a:lnTo>
                  <a:lnTo>
                    <a:pt x="1" y="955"/>
                  </a:lnTo>
                  <a:lnTo>
                    <a:pt x="0" y="982"/>
                  </a:lnTo>
                  <a:lnTo>
                    <a:pt x="0" y="1011"/>
                  </a:lnTo>
                  <a:lnTo>
                    <a:pt x="1" y="1043"/>
                  </a:lnTo>
                  <a:lnTo>
                    <a:pt x="4" y="1077"/>
                  </a:lnTo>
                  <a:lnTo>
                    <a:pt x="7" y="1094"/>
                  </a:lnTo>
                  <a:lnTo>
                    <a:pt x="10" y="1112"/>
                  </a:lnTo>
                  <a:lnTo>
                    <a:pt x="14" y="1131"/>
                  </a:lnTo>
                  <a:lnTo>
                    <a:pt x="19" y="1150"/>
                  </a:lnTo>
                  <a:lnTo>
                    <a:pt x="24" y="1169"/>
                  </a:lnTo>
                  <a:lnTo>
                    <a:pt x="31" y="1189"/>
                  </a:lnTo>
                  <a:lnTo>
                    <a:pt x="39" y="1209"/>
                  </a:lnTo>
                  <a:lnTo>
                    <a:pt x="47" y="1230"/>
                  </a:lnTo>
                  <a:lnTo>
                    <a:pt x="56" y="1250"/>
                  </a:lnTo>
                  <a:lnTo>
                    <a:pt x="66" y="1270"/>
                  </a:lnTo>
                  <a:lnTo>
                    <a:pt x="77" y="1291"/>
                  </a:lnTo>
                  <a:lnTo>
                    <a:pt x="90" y="1312"/>
                  </a:lnTo>
                  <a:lnTo>
                    <a:pt x="114" y="1348"/>
                  </a:lnTo>
                  <a:lnTo>
                    <a:pt x="141" y="1387"/>
                  </a:lnTo>
                  <a:lnTo>
                    <a:pt x="172" y="1428"/>
                  </a:lnTo>
                  <a:lnTo>
                    <a:pt x="206" y="1470"/>
                  </a:lnTo>
                  <a:lnTo>
                    <a:pt x="243" y="1515"/>
                  </a:lnTo>
                  <a:lnTo>
                    <a:pt x="281" y="1561"/>
                  </a:lnTo>
                  <a:lnTo>
                    <a:pt x="323" y="1608"/>
                  </a:lnTo>
                  <a:lnTo>
                    <a:pt x="367" y="1656"/>
                  </a:lnTo>
                  <a:lnTo>
                    <a:pt x="413" y="1705"/>
                  </a:lnTo>
                  <a:lnTo>
                    <a:pt x="460" y="1755"/>
                  </a:lnTo>
                  <a:lnTo>
                    <a:pt x="509" y="1806"/>
                  </a:lnTo>
                  <a:lnTo>
                    <a:pt x="559" y="1857"/>
                  </a:lnTo>
                  <a:lnTo>
                    <a:pt x="610" y="1907"/>
                  </a:lnTo>
                  <a:lnTo>
                    <a:pt x="661" y="1958"/>
                  </a:lnTo>
                  <a:lnTo>
                    <a:pt x="713" y="2009"/>
                  </a:lnTo>
                  <a:lnTo>
                    <a:pt x="766" y="2059"/>
                  </a:lnTo>
                  <a:lnTo>
                    <a:pt x="870" y="2157"/>
                  </a:lnTo>
                  <a:lnTo>
                    <a:pt x="972" y="2251"/>
                  </a:lnTo>
                  <a:lnTo>
                    <a:pt x="1071" y="2338"/>
                  </a:lnTo>
                  <a:lnTo>
                    <a:pt x="1165" y="2420"/>
                  </a:lnTo>
                  <a:lnTo>
                    <a:pt x="1251" y="2491"/>
                  </a:lnTo>
                  <a:lnTo>
                    <a:pt x="1326" y="2554"/>
                  </a:lnTo>
                  <a:lnTo>
                    <a:pt x="1360" y="2580"/>
                  </a:lnTo>
                  <a:lnTo>
                    <a:pt x="1392" y="2603"/>
                  </a:lnTo>
                  <a:lnTo>
                    <a:pt x="1419" y="2623"/>
                  </a:lnTo>
                  <a:lnTo>
                    <a:pt x="1443" y="2639"/>
                  </a:lnTo>
                  <a:lnTo>
                    <a:pt x="1548" y="2709"/>
                  </a:lnTo>
                  <a:lnTo>
                    <a:pt x="1689" y="2803"/>
                  </a:lnTo>
                  <a:lnTo>
                    <a:pt x="1854" y="2913"/>
                  </a:lnTo>
                  <a:lnTo>
                    <a:pt x="2028" y="3026"/>
                  </a:lnTo>
                  <a:lnTo>
                    <a:pt x="2113" y="3081"/>
                  </a:lnTo>
                  <a:lnTo>
                    <a:pt x="2196" y="3133"/>
                  </a:lnTo>
                  <a:lnTo>
                    <a:pt x="2273" y="3180"/>
                  </a:lnTo>
                  <a:lnTo>
                    <a:pt x="2345" y="3222"/>
                  </a:lnTo>
                  <a:lnTo>
                    <a:pt x="2378" y="3240"/>
                  </a:lnTo>
                  <a:lnTo>
                    <a:pt x="2408" y="3257"/>
                  </a:lnTo>
                  <a:lnTo>
                    <a:pt x="2436" y="3272"/>
                  </a:lnTo>
                  <a:lnTo>
                    <a:pt x="2460" y="3284"/>
                  </a:lnTo>
                  <a:lnTo>
                    <a:pt x="2483" y="3293"/>
                  </a:lnTo>
                  <a:lnTo>
                    <a:pt x="2501" y="3301"/>
                  </a:lnTo>
                  <a:lnTo>
                    <a:pt x="2516" y="3305"/>
                  </a:lnTo>
                  <a:lnTo>
                    <a:pt x="2528" y="3307"/>
                  </a:lnTo>
                  <a:lnTo>
                    <a:pt x="2584" y="3307"/>
                  </a:lnTo>
                  <a:lnTo>
                    <a:pt x="2636" y="3306"/>
                  </a:lnTo>
                  <a:lnTo>
                    <a:pt x="2684" y="3304"/>
                  </a:lnTo>
                  <a:lnTo>
                    <a:pt x="2728" y="3301"/>
                  </a:lnTo>
                  <a:lnTo>
                    <a:pt x="2768" y="3297"/>
                  </a:lnTo>
                  <a:lnTo>
                    <a:pt x="2806" y="3291"/>
                  </a:lnTo>
                  <a:lnTo>
                    <a:pt x="2840" y="3285"/>
                  </a:lnTo>
                  <a:lnTo>
                    <a:pt x="2870" y="3278"/>
                  </a:lnTo>
                  <a:lnTo>
                    <a:pt x="2898" y="3270"/>
                  </a:lnTo>
                  <a:lnTo>
                    <a:pt x="2924" y="3260"/>
                  </a:lnTo>
                  <a:lnTo>
                    <a:pt x="2946" y="3249"/>
                  </a:lnTo>
                  <a:lnTo>
                    <a:pt x="2965" y="3238"/>
                  </a:lnTo>
                  <a:lnTo>
                    <a:pt x="2983" y="3225"/>
                  </a:lnTo>
                  <a:lnTo>
                    <a:pt x="2998" y="3210"/>
                  </a:lnTo>
                  <a:lnTo>
                    <a:pt x="3012" y="3195"/>
                  </a:lnTo>
                  <a:lnTo>
                    <a:pt x="3024" y="3179"/>
                  </a:lnTo>
                  <a:lnTo>
                    <a:pt x="3034" y="3160"/>
                  </a:lnTo>
                  <a:lnTo>
                    <a:pt x="3042" y="3141"/>
                  </a:lnTo>
                  <a:lnTo>
                    <a:pt x="3049" y="3121"/>
                  </a:lnTo>
                  <a:lnTo>
                    <a:pt x="3055" y="3099"/>
                  </a:lnTo>
                  <a:lnTo>
                    <a:pt x="3060" y="3076"/>
                  </a:lnTo>
                  <a:lnTo>
                    <a:pt x="3064" y="3051"/>
                  </a:lnTo>
                  <a:lnTo>
                    <a:pt x="3067" y="3026"/>
                  </a:lnTo>
                  <a:lnTo>
                    <a:pt x="3070" y="2998"/>
                  </a:lnTo>
                  <a:lnTo>
                    <a:pt x="3075" y="2939"/>
                  </a:lnTo>
                  <a:lnTo>
                    <a:pt x="3079" y="2875"/>
                  </a:lnTo>
                  <a:lnTo>
                    <a:pt x="3085" y="2805"/>
                  </a:lnTo>
                  <a:lnTo>
                    <a:pt x="3093" y="2728"/>
                  </a:lnTo>
                  <a:lnTo>
                    <a:pt x="3094" y="2687"/>
                  </a:lnTo>
                  <a:lnTo>
                    <a:pt x="3090" y="2643"/>
                  </a:lnTo>
                  <a:lnTo>
                    <a:pt x="3080" y="2597"/>
                  </a:lnTo>
                  <a:lnTo>
                    <a:pt x="3063" y="2551"/>
                  </a:lnTo>
                  <a:lnTo>
                    <a:pt x="3043" y="2501"/>
                  </a:lnTo>
                  <a:lnTo>
                    <a:pt x="3017" y="2450"/>
                  </a:lnTo>
                  <a:lnTo>
                    <a:pt x="2988" y="2398"/>
                  </a:lnTo>
                  <a:lnTo>
                    <a:pt x="2954" y="2344"/>
                  </a:lnTo>
                  <a:lnTo>
                    <a:pt x="2917" y="2289"/>
                  </a:lnTo>
                  <a:lnTo>
                    <a:pt x="2877" y="2234"/>
                  </a:lnTo>
                  <a:lnTo>
                    <a:pt x="2834" y="2179"/>
                  </a:lnTo>
                  <a:lnTo>
                    <a:pt x="2788" y="2123"/>
                  </a:lnTo>
                  <a:lnTo>
                    <a:pt x="2739" y="2067"/>
                  </a:lnTo>
                  <a:lnTo>
                    <a:pt x="2689" y="2012"/>
                  </a:lnTo>
                  <a:lnTo>
                    <a:pt x="2638" y="1956"/>
                  </a:lnTo>
                  <a:lnTo>
                    <a:pt x="2586" y="1901"/>
                  </a:lnTo>
                  <a:lnTo>
                    <a:pt x="2532" y="1847"/>
                  </a:lnTo>
                  <a:lnTo>
                    <a:pt x="2479" y="1794"/>
                  </a:lnTo>
                  <a:lnTo>
                    <a:pt x="2425" y="1742"/>
                  </a:lnTo>
                  <a:lnTo>
                    <a:pt x="2371" y="1692"/>
                  </a:lnTo>
                  <a:lnTo>
                    <a:pt x="2318" y="1643"/>
                  </a:lnTo>
                  <a:lnTo>
                    <a:pt x="2266" y="1596"/>
                  </a:lnTo>
                  <a:lnTo>
                    <a:pt x="2216" y="1550"/>
                  </a:lnTo>
                  <a:lnTo>
                    <a:pt x="2167" y="1507"/>
                  </a:lnTo>
                  <a:lnTo>
                    <a:pt x="2077" y="1429"/>
                  </a:lnTo>
                  <a:lnTo>
                    <a:pt x="1997" y="1362"/>
                  </a:lnTo>
                  <a:lnTo>
                    <a:pt x="1932" y="1308"/>
                  </a:lnTo>
                  <a:lnTo>
                    <a:pt x="1883" y="1269"/>
                  </a:lnTo>
                  <a:lnTo>
                    <a:pt x="1869" y="1257"/>
                  </a:lnTo>
                  <a:lnTo>
                    <a:pt x="1851" y="1240"/>
                  </a:lnTo>
                  <a:lnTo>
                    <a:pt x="1828" y="1216"/>
                  </a:lnTo>
                  <a:lnTo>
                    <a:pt x="1801" y="1187"/>
                  </a:lnTo>
                  <a:lnTo>
                    <a:pt x="1735" y="1116"/>
                  </a:lnTo>
                  <a:lnTo>
                    <a:pt x="1657" y="1030"/>
                  </a:lnTo>
                  <a:lnTo>
                    <a:pt x="1472" y="823"/>
                  </a:lnTo>
                  <a:lnTo>
                    <a:pt x="1266" y="595"/>
                  </a:lnTo>
                  <a:lnTo>
                    <a:pt x="1161" y="481"/>
                  </a:lnTo>
                  <a:lnTo>
                    <a:pt x="1059" y="372"/>
                  </a:lnTo>
                  <a:lnTo>
                    <a:pt x="1010" y="320"/>
                  </a:lnTo>
                  <a:lnTo>
                    <a:pt x="961" y="270"/>
                  </a:lnTo>
                  <a:lnTo>
                    <a:pt x="915" y="224"/>
                  </a:lnTo>
                  <a:lnTo>
                    <a:pt x="871" y="180"/>
                  </a:lnTo>
                  <a:lnTo>
                    <a:pt x="829" y="140"/>
                  </a:lnTo>
                  <a:lnTo>
                    <a:pt x="791" y="105"/>
                  </a:lnTo>
                  <a:lnTo>
                    <a:pt x="755" y="73"/>
                  </a:lnTo>
                  <a:lnTo>
                    <a:pt x="722" y="47"/>
                  </a:lnTo>
                  <a:lnTo>
                    <a:pt x="694" y="26"/>
                  </a:lnTo>
                  <a:lnTo>
                    <a:pt x="669" y="11"/>
                  </a:lnTo>
                  <a:lnTo>
                    <a:pt x="649" y="2"/>
                  </a:lnTo>
                  <a:lnTo>
                    <a:pt x="634" y="0"/>
                  </a:lnTo>
                  <a:lnTo>
                    <a:pt x="603" y="3"/>
                  </a:lnTo>
                  <a:lnTo>
                    <a:pt x="577" y="6"/>
                  </a:lnTo>
                  <a:lnTo>
                    <a:pt x="556" y="10"/>
                  </a:lnTo>
                  <a:lnTo>
                    <a:pt x="538" y="15"/>
                  </a:lnTo>
                  <a:lnTo>
                    <a:pt x="523" y="20"/>
                  </a:lnTo>
                  <a:lnTo>
                    <a:pt x="512" y="25"/>
                  </a:lnTo>
                  <a:lnTo>
                    <a:pt x="504" y="30"/>
                  </a:lnTo>
                  <a:lnTo>
                    <a:pt x="498" y="36"/>
                  </a:lnTo>
                  <a:lnTo>
                    <a:pt x="493" y="41"/>
                  </a:lnTo>
                  <a:lnTo>
                    <a:pt x="491" y="46"/>
                  </a:lnTo>
                  <a:lnTo>
                    <a:pt x="490" y="51"/>
                  </a:lnTo>
                  <a:lnTo>
                    <a:pt x="490" y="55"/>
                  </a:lnTo>
                  <a:lnTo>
                    <a:pt x="491" y="61"/>
                  </a:lnTo>
                  <a:lnTo>
                    <a:pt x="492" y="63"/>
                  </a:lnTo>
                  <a:lnTo>
                    <a:pt x="14" y="877"/>
                  </a:lnTo>
                  <a:close/>
                </a:path>
              </a:pathLst>
            </a:custGeom>
            <a:solidFill>
              <a:srgbClr val="5288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5120280" y="4609800"/>
              <a:ext cx="1198440" cy="1278360"/>
            </a:xfrm>
            <a:custGeom>
              <a:avLst/>
              <a:gdLst/>
              <a:ahLst/>
              <a:rect l="l" t="t" r="r" b="b"/>
              <a:pathLst>
                <a:path w="3094" h="3307">
                  <a:moveTo>
                    <a:pt x="14" y="877"/>
                  </a:moveTo>
                  <a:lnTo>
                    <a:pt x="11" y="886"/>
                  </a:lnTo>
                  <a:lnTo>
                    <a:pt x="6" y="913"/>
                  </a:lnTo>
                  <a:lnTo>
                    <a:pt x="3" y="933"/>
                  </a:lnTo>
                  <a:lnTo>
                    <a:pt x="1" y="955"/>
                  </a:lnTo>
                  <a:lnTo>
                    <a:pt x="0" y="982"/>
                  </a:lnTo>
                  <a:lnTo>
                    <a:pt x="0" y="1011"/>
                  </a:lnTo>
                  <a:lnTo>
                    <a:pt x="1" y="1043"/>
                  </a:lnTo>
                  <a:lnTo>
                    <a:pt x="4" y="1077"/>
                  </a:lnTo>
                  <a:lnTo>
                    <a:pt x="7" y="1094"/>
                  </a:lnTo>
                  <a:lnTo>
                    <a:pt x="10" y="1112"/>
                  </a:lnTo>
                  <a:lnTo>
                    <a:pt x="14" y="1131"/>
                  </a:lnTo>
                  <a:lnTo>
                    <a:pt x="19" y="1150"/>
                  </a:lnTo>
                  <a:lnTo>
                    <a:pt x="24" y="1169"/>
                  </a:lnTo>
                  <a:lnTo>
                    <a:pt x="31" y="1189"/>
                  </a:lnTo>
                  <a:lnTo>
                    <a:pt x="39" y="1209"/>
                  </a:lnTo>
                  <a:lnTo>
                    <a:pt x="47" y="1230"/>
                  </a:lnTo>
                  <a:lnTo>
                    <a:pt x="56" y="1250"/>
                  </a:lnTo>
                  <a:lnTo>
                    <a:pt x="66" y="1270"/>
                  </a:lnTo>
                  <a:lnTo>
                    <a:pt x="77" y="1291"/>
                  </a:lnTo>
                  <a:lnTo>
                    <a:pt x="90" y="1312"/>
                  </a:lnTo>
                  <a:lnTo>
                    <a:pt x="114" y="1348"/>
                  </a:lnTo>
                  <a:lnTo>
                    <a:pt x="141" y="1387"/>
                  </a:lnTo>
                  <a:lnTo>
                    <a:pt x="172" y="1428"/>
                  </a:lnTo>
                  <a:lnTo>
                    <a:pt x="206" y="1470"/>
                  </a:lnTo>
                  <a:lnTo>
                    <a:pt x="243" y="1515"/>
                  </a:lnTo>
                  <a:lnTo>
                    <a:pt x="281" y="1561"/>
                  </a:lnTo>
                  <a:lnTo>
                    <a:pt x="323" y="1608"/>
                  </a:lnTo>
                  <a:lnTo>
                    <a:pt x="367" y="1656"/>
                  </a:lnTo>
                  <a:lnTo>
                    <a:pt x="413" y="1705"/>
                  </a:lnTo>
                  <a:lnTo>
                    <a:pt x="460" y="1755"/>
                  </a:lnTo>
                  <a:lnTo>
                    <a:pt x="509" y="1806"/>
                  </a:lnTo>
                  <a:lnTo>
                    <a:pt x="559" y="1857"/>
                  </a:lnTo>
                  <a:lnTo>
                    <a:pt x="610" y="1907"/>
                  </a:lnTo>
                  <a:lnTo>
                    <a:pt x="661" y="1958"/>
                  </a:lnTo>
                  <a:lnTo>
                    <a:pt x="713" y="2009"/>
                  </a:lnTo>
                  <a:lnTo>
                    <a:pt x="766" y="2059"/>
                  </a:lnTo>
                  <a:lnTo>
                    <a:pt x="870" y="2157"/>
                  </a:lnTo>
                  <a:lnTo>
                    <a:pt x="972" y="2251"/>
                  </a:lnTo>
                  <a:lnTo>
                    <a:pt x="1071" y="2338"/>
                  </a:lnTo>
                  <a:lnTo>
                    <a:pt x="1165" y="2420"/>
                  </a:lnTo>
                  <a:lnTo>
                    <a:pt x="1251" y="2491"/>
                  </a:lnTo>
                  <a:lnTo>
                    <a:pt x="1326" y="2554"/>
                  </a:lnTo>
                  <a:lnTo>
                    <a:pt x="1360" y="2580"/>
                  </a:lnTo>
                  <a:lnTo>
                    <a:pt x="1392" y="2603"/>
                  </a:lnTo>
                  <a:lnTo>
                    <a:pt x="1419" y="2623"/>
                  </a:lnTo>
                  <a:lnTo>
                    <a:pt x="1443" y="2639"/>
                  </a:lnTo>
                  <a:lnTo>
                    <a:pt x="1548" y="2709"/>
                  </a:lnTo>
                  <a:lnTo>
                    <a:pt x="1689" y="2803"/>
                  </a:lnTo>
                  <a:lnTo>
                    <a:pt x="1854" y="2913"/>
                  </a:lnTo>
                  <a:lnTo>
                    <a:pt x="2028" y="3026"/>
                  </a:lnTo>
                  <a:lnTo>
                    <a:pt x="2113" y="3081"/>
                  </a:lnTo>
                  <a:lnTo>
                    <a:pt x="2196" y="3133"/>
                  </a:lnTo>
                  <a:lnTo>
                    <a:pt x="2273" y="3180"/>
                  </a:lnTo>
                  <a:lnTo>
                    <a:pt x="2345" y="3222"/>
                  </a:lnTo>
                  <a:lnTo>
                    <a:pt x="2378" y="3240"/>
                  </a:lnTo>
                  <a:lnTo>
                    <a:pt x="2408" y="3257"/>
                  </a:lnTo>
                  <a:lnTo>
                    <a:pt x="2436" y="3272"/>
                  </a:lnTo>
                  <a:lnTo>
                    <a:pt x="2460" y="3284"/>
                  </a:lnTo>
                  <a:lnTo>
                    <a:pt x="2483" y="3293"/>
                  </a:lnTo>
                  <a:lnTo>
                    <a:pt x="2501" y="3301"/>
                  </a:lnTo>
                  <a:lnTo>
                    <a:pt x="2516" y="3305"/>
                  </a:lnTo>
                  <a:lnTo>
                    <a:pt x="2528" y="3307"/>
                  </a:lnTo>
                  <a:lnTo>
                    <a:pt x="2584" y="3307"/>
                  </a:lnTo>
                  <a:lnTo>
                    <a:pt x="2636" y="3306"/>
                  </a:lnTo>
                  <a:lnTo>
                    <a:pt x="2684" y="3304"/>
                  </a:lnTo>
                  <a:lnTo>
                    <a:pt x="2728" y="3301"/>
                  </a:lnTo>
                  <a:lnTo>
                    <a:pt x="2768" y="3297"/>
                  </a:lnTo>
                  <a:lnTo>
                    <a:pt x="2806" y="3291"/>
                  </a:lnTo>
                  <a:lnTo>
                    <a:pt x="2840" y="3285"/>
                  </a:lnTo>
                  <a:lnTo>
                    <a:pt x="2870" y="3278"/>
                  </a:lnTo>
                  <a:lnTo>
                    <a:pt x="2898" y="3270"/>
                  </a:lnTo>
                  <a:lnTo>
                    <a:pt x="2924" y="3260"/>
                  </a:lnTo>
                  <a:lnTo>
                    <a:pt x="2946" y="3249"/>
                  </a:lnTo>
                  <a:lnTo>
                    <a:pt x="2965" y="3238"/>
                  </a:lnTo>
                  <a:lnTo>
                    <a:pt x="2983" y="3225"/>
                  </a:lnTo>
                  <a:lnTo>
                    <a:pt x="2998" y="3210"/>
                  </a:lnTo>
                  <a:lnTo>
                    <a:pt x="3012" y="3195"/>
                  </a:lnTo>
                  <a:lnTo>
                    <a:pt x="3024" y="3179"/>
                  </a:lnTo>
                  <a:lnTo>
                    <a:pt x="3034" y="3160"/>
                  </a:lnTo>
                  <a:lnTo>
                    <a:pt x="3042" y="3141"/>
                  </a:lnTo>
                  <a:lnTo>
                    <a:pt x="3049" y="3121"/>
                  </a:lnTo>
                  <a:lnTo>
                    <a:pt x="3055" y="3099"/>
                  </a:lnTo>
                  <a:lnTo>
                    <a:pt x="3060" y="3076"/>
                  </a:lnTo>
                  <a:lnTo>
                    <a:pt x="3064" y="3051"/>
                  </a:lnTo>
                  <a:lnTo>
                    <a:pt x="3067" y="3026"/>
                  </a:lnTo>
                  <a:lnTo>
                    <a:pt x="3070" y="2998"/>
                  </a:lnTo>
                  <a:lnTo>
                    <a:pt x="3075" y="2939"/>
                  </a:lnTo>
                  <a:lnTo>
                    <a:pt x="3079" y="2875"/>
                  </a:lnTo>
                  <a:lnTo>
                    <a:pt x="3085" y="2805"/>
                  </a:lnTo>
                  <a:lnTo>
                    <a:pt x="3093" y="2728"/>
                  </a:lnTo>
                  <a:lnTo>
                    <a:pt x="3094" y="2687"/>
                  </a:lnTo>
                  <a:lnTo>
                    <a:pt x="3090" y="2643"/>
                  </a:lnTo>
                  <a:lnTo>
                    <a:pt x="3080" y="2597"/>
                  </a:lnTo>
                  <a:lnTo>
                    <a:pt x="3063" y="2551"/>
                  </a:lnTo>
                  <a:lnTo>
                    <a:pt x="3043" y="2501"/>
                  </a:lnTo>
                  <a:lnTo>
                    <a:pt x="3017" y="2450"/>
                  </a:lnTo>
                  <a:lnTo>
                    <a:pt x="2988" y="2398"/>
                  </a:lnTo>
                  <a:lnTo>
                    <a:pt x="2954" y="2344"/>
                  </a:lnTo>
                  <a:lnTo>
                    <a:pt x="2917" y="2289"/>
                  </a:lnTo>
                  <a:lnTo>
                    <a:pt x="2877" y="2234"/>
                  </a:lnTo>
                  <a:lnTo>
                    <a:pt x="2834" y="2179"/>
                  </a:lnTo>
                  <a:lnTo>
                    <a:pt x="2788" y="2123"/>
                  </a:lnTo>
                  <a:lnTo>
                    <a:pt x="2739" y="2067"/>
                  </a:lnTo>
                  <a:lnTo>
                    <a:pt x="2689" y="2012"/>
                  </a:lnTo>
                  <a:lnTo>
                    <a:pt x="2638" y="1956"/>
                  </a:lnTo>
                  <a:lnTo>
                    <a:pt x="2586" y="1901"/>
                  </a:lnTo>
                  <a:lnTo>
                    <a:pt x="2532" y="1847"/>
                  </a:lnTo>
                  <a:lnTo>
                    <a:pt x="2479" y="1794"/>
                  </a:lnTo>
                  <a:lnTo>
                    <a:pt x="2425" y="1742"/>
                  </a:lnTo>
                  <a:lnTo>
                    <a:pt x="2371" y="1692"/>
                  </a:lnTo>
                  <a:lnTo>
                    <a:pt x="2318" y="1643"/>
                  </a:lnTo>
                  <a:lnTo>
                    <a:pt x="2266" y="1596"/>
                  </a:lnTo>
                  <a:lnTo>
                    <a:pt x="2216" y="1550"/>
                  </a:lnTo>
                  <a:lnTo>
                    <a:pt x="2167" y="1507"/>
                  </a:lnTo>
                  <a:lnTo>
                    <a:pt x="2077" y="1429"/>
                  </a:lnTo>
                  <a:lnTo>
                    <a:pt x="1997" y="1362"/>
                  </a:lnTo>
                  <a:lnTo>
                    <a:pt x="1932" y="1308"/>
                  </a:lnTo>
                  <a:lnTo>
                    <a:pt x="1883" y="1269"/>
                  </a:lnTo>
                  <a:lnTo>
                    <a:pt x="1869" y="1257"/>
                  </a:lnTo>
                  <a:lnTo>
                    <a:pt x="1851" y="1240"/>
                  </a:lnTo>
                  <a:lnTo>
                    <a:pt x="1828" y="1216"/>
                  </a:lnTo>
                  <a:lnTo>
                    <a:pt x="1801" y="1187"/>
                  </a:lnTo>
                  <a:lnTo>
                    <a:pt x="1735" y="1116"/>
                  </a:lnTo>
                  <a:lnTo>
                    <a:pt x="1657" y="1030"/>
                  </a:lnTo>
                  <a:lnTo>
                    <a:pt x="1472" y="823"/>
                  </a:lnTo>
                  <a:lnTo>
                    <a:pt x="1266" y="595"/>
                  </a:lnTo>
                  <a:lnTo>
                    <a:pt x="1161" y="481"/>
                  </a:lnTo>
                  <a:lnTo>
                    <a:pt x="1059" y="372"/>
                  </a:lnTo>
                  <a:lnTo>
                    <a:pt x="1010" y="320"/>
                  </a:lnTo>
                  <a:lnTo>
                    <a:pt x="961" y="270"/>
                  </a:lnTo>
                  <a:lnTo>
                    <a:pt x="915" y="224"/>
                  </a:lnTo>
                  <a:lnTo>
                    <a:pt x="871" y="180"/>
                  </a:lnTo>
                  <a:lnTo>
                    <a:pt x="829" y="140"/>
                  </a:lnTo>
                  <a:lnTo>
                    <a:pt x="791" y="105"/>
                  </a:lnTo>
                  <a:lnTo>
                    <a:pt x="755" y="73"/>
                  </a:lnTo>
                  <a:lnTo>
                    <a:pt x="722" y="47"/>
                  </a:lnTo>
                  <a:lnTo>
                    <a:pt x="694" y="26"/>
                  </a:lnTo>
                  <a:lnTo>
                    <a:pt x="669" y="11"/>
                  </a:lnTo>
                  <a:lnTo>
                    <a:pt x="649" y="2"/>
                  </a:lnTo>
                  <a:lnTo>
                    <a:pt x="634" y="0"/>
                  </a:lnTo>
                  <a:lnTo>
                    <a:pt x="603" y="3"/>
                  </a:lnTo>
                  <a:lnTo>
                    <a:pt x="577" y="6"/>
                  </a:lnTo>
                  <a:lnTo>
                    <a:pt x="556" y="10"/>
                  </a:lnTo>
                  <a:lnTo>
                    <a:pt x="538" y="15"/>
                  </a:lnTo>
                  <a:lnTo>
                    <a:pt x="523" y="20"/>
                  </a:lnTo>
                  <a:lnTo>
                    <a:pt x="512" y="25"/>
                  </a:lnTo>
                  <a:lnTo>
                    <a:pt x="504" y="30"/>
                  </a:lnTo>
                  <a:lnTo>
                    <a:pt x="498" y="36"/>
                  </a:lnTo>
                  <a:lnTo>
                    <a:pt x="493" y="41"/>
                  </a:lnTo>
                  <a:lnTo>
                    <a:pt x="491" y="46"/>
                  </a:lnTo>
                  <a:lnTo>
                    <a:pt x="490" y="51"/>
                  </a:lnTo>
                  <a:lnTo>
                    <a:pt x="490" y="55"/>
                  </a:lnTo>
                  <a:lnTo>
                    <a:pt x="491" y="61"/>
                  </a:lnTo>
                  <a:lnTo>
                    <a:pt x="492" y="63"/>
                  </a:lnTo>
                  <a:lnTo>
                    <a:pt x="14" y="877"/>
                  </a:lnTo>
                </a:path>
              </a:pathLst>
            </a:custGeom>
            <a:noFill/>
            <a:ln w="46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3263400" y="3735360"/>
              <a:ext cx="2242080" cy="2318760"/>
            </a:xfrm>
            <a:custGeom>
              <a:avLst/>
              <a:gdLst/>
              <a:ahLst/>
              <a:rect l="l" t="t" r="r" b="b"/>
              <a:pathLst>
                <a:path w="5787" h="5998">
                  <a:moveTo>
                    <a:pt x="1586" y="76"/>
                  </a:moveTo>
                  <a:lnTo>
                    <a:pt x="1532" y="104"/>
                  </a:lnTo>
                  <a:lnTo>
                    <a:pt x="1389" y="184"/>
                  </a:lnTo>
                  <a:lnTo>
                    <a:pt x="1293" y="239"/>
                  </a:lnTo>
                  <a:lnTo>
                    <a:pt x="1185" y="303"/>
                  </a:lnTo>
                  <a:lnTo>
                    <a:pt x="1127" y="339"/>
                  </a:lnTo>
                  <a:lnTo>
                    <a:pt x="1068" y="376"/>
                  </a:lnTo>
                  <a:lnTo>
                    <a:pt x="1007" y="414"/>
                  </a:lnTo>
                  <a:lnTo>
                    <a:pt x="944" y="454"/>
                  </a:lnTo>
                  <a:lnTo>
                    <a:pt x="882" y="495"/>
                  </a:lnTo>
                  <a:lnTo>
                    <a:pt x="820" y="538"/>
                  </a:lnTo>
                  <a:lnTo>
                    <a:pt x="758" y="581"/>
                  </a:lnTo>
                  <a:lnTo>
                    <a:pt x="696" y="625"/>
                  </a:lnTo>
                  <a:lnTo>
                    <a:pt x="636" y="670"/>
                  </a:lnTo>
                  <a:lnTo>
                    <a:pt x="578" y="715"/>
                  </a:lnTo>
                  <a:lnTo>
                    <a:pt x="521" y="761"/>
                  </a:lnTo>
                  <a:lnTo>
                    <a:pt x="467" y="807"/>
                  </a:lnTo>
                  <a:lnTo>
                    <a:pt x="416" y="853"/>
                  </a:lnTo>
                  <a:lnTo>
                    <a:pt x="368" y="899"/>
                  </a:lnTo>
                  <a:lnTo>
                    <a:pt x="324" y="945"/>
                  </a:lnTo>
                  <a:lnTo>
                    <a:pt x="284" y="991"/>
                  </a:lnTo>
                  <a:lnTo>
                    <a:pt x="248" y="1036"/>
                  </a:lnTo>
                  <a:lnTo>
                    <a:pt x="218" y="1079"/>
                  </a:lnTo>
                  <a:lnTo>
                    <a:pt x="192" y="1122"/>
                  </a:lnTo>
                  <a:lnTo>
                    <a:pt x="174" y="1165"/>
                  </a:lnTo>
                  <a:lnTo>
                    <a:pt x="158" y="1214"/>
                  </a:lnTo>
                  <a:lnTo>
                    <a:pt x="143" y="1279"/>
                  </a:lnTo>
                  <a:lnTo>
                    <a:pt x="129" y="1358"/>
                  </a:lnTo>
                  <a:lnTo>
                    <a:pt x="116" y="1451"/>
                  </a:lnTo>
                  <a:lnTo>
                    <a:pt x="104" y="1555"/>
                  </a:lnTo>
                  <a:lnTo>
                    <a:pt x="93" y="1670"/>
                  </a:lnTo>
                  <a:lnTo>
                    <a:pt x="83" y="1794"/>
                  </a:lnTo>
                  <a:lnTo>
                    <a:pt x="73" y="1928"/>
                  </a:lnTo>
                  <a:lnTo>
                    <a:pt x="65" y="2070"/>
                  </a:lnTo>
                  <a:lnTo>
                    <a:pt x="57" y="2217"/>
                  </a:lnTo>
                  <a:lnTo>
                    <a:pt x="49" y="2370"/>
                  </a:lnTo>
                  <a:lnTo>
                    <a:pt x="42" y="2527"/>
                  </a:lnTo>
                  <a:lnTo>
                    <a:pt x="36" y="2688"/>
                  </a:lnTo>
                  <a:lnTo>
                    <a:pt x="31" y="2850"/>
                  </a:lnTo>
                  <a:lnTo>
                    <a:pt x="26" y="3013"/>
                  </a:lnTo>
                  <a:lnTo>
                    <a:pt x="22" y="3176"/>
                  </a:lnTo>
                  <a:lnTo>
                    <a:pt x="15" y="3497"/>
                  </a:lnTo>
                  <a:lnTo>
                    <a:pt x="10" y="3804"/>
                  </a:lnTo>
                  <a:lnTo>
                    <a:pt x="6" y="4088"/>
                  </a:lnTo>
                  <a:lnTo>
                    <a:pt x="2" y="4340"/>
                  </a:lnTo>
                  <a:lnTo>
                    <a:pt x="0" y="4715"/>
                  </a:lnTo>
                  <a:lnTo>
                    <a:pt x="0" y="4854"/>
                  </a:lnTo>
                  <a:lnTo>
                    <a:pt x="9" y="4866"/>
                  </a:lnTo>
                  <a:lnTo>
                    <a:pt x="32" y="4894"/>
                  </a:lnTo>
                  <a:lnTo>
                    <a:pt x="71" y="4940"/>
                  </a:lnTo>
                  <a:lnTo>
                    <a:pt x="122" y="4998"/>
                  </a:lnTo>
                  <a:lnTo>
                    <a:pt x="151" y="5032"/>
                  </a:lnTo>
                  <a:lnTo>
                    <a:pt x="185" y="5067"/>
                  </a:lnTo>
                  <a:lnTo>
                    <a:pt x="220" y="5104"/>
                  </a:lnTo>
                  <a:lnTo>
                    <a:pt x="259" y="5143"/>
                  </a:lnTo>
                  <a:lnTo>
                    <a:pt x="298" y="5183"/>
                  </a:lnTo>
                  <a:lnTo>
                    <a:pt x="341" y="5223"/>
                  </a:lnTo>
                  <a:lnTo>
                    <a:pt x="385" y="5264"/>
                  </a:lnTo>
                  <a:lnTo>
                    <a:pt x="431" y="5305"/>
                  </a:lnTo>
                  <a:lnTo>
                    <a:pt x="479" y="5346"/>
                  </a:lnTo>
                  <a:lnTo>
                    <a:pt x="528" y="5386"/>
                  </a:lnTo>
                  <a:lnTo>
                    <a:pt x="579" y="5425"/>
                  </a:lnTo>
                  <a:lnTo>
                    <a:pt x="631" y="5461"/>
                  </a:lnTo>
                  <a:lnTo>
                    <a:pt x="683" y="5497"/>
                  </a:lnTo>
                  <a:lnTo>
                    <a:pt x="737" y="5531"/>
                  </a:lnTo>
                  <a:lnTo>
                    <a:pt x="791" y="5561"/>
                  </a:lnTo>
                  <a:lnTo>
                    <a:pt x="845" y="5590"/>
                  </a:lnTo>
                  <a:lnTo>
                    <a:pt x="900" y="5614"/>
                  </a:lnTo>
                  <a:lnTo>
                    <a:pt x="956" y="5636"/>
                  </a:lnTo>
                  <a:lnTo>
                    <a:pt x="1011" y="5653"/>
                  </a:lnTo>
                  <a:lnTo>
                    <a:pt x="1066" y="5665"/>
                  </a:lnTo>
                  <a:lnTo>
                    <a:pt x="1121" y="5673"/>
                  </a:lnTo>
                  <a:lnTo>
                    <a:pt x="1175" y="5677"/>
                  </a:lnTo>
                  <a:lnTo>
                    <a:pt x="1229" y="5674"/>
                  </a:lnTo>
                  <a:lnTo>
                    <a:pt x="1281" y="5666"/>
                  </a:lnTo>
                  <a:lnTo>
                    <a:pt x="1336" y="5657"/>
                  </a:lnTo>
                  <a:lnTo>
                    <a:pt x="1394" y="5651"/>
                  </a:lnTo>
                  <a:lnTo>
                    <a:pt x="1458" y="5647"/>
                  </a:lnTo>
                  <a:lnTo>
                    <a:pt x="1524" y="5647"/>
                  </a:lnTo>
                  <a:lnTo>
                    <a:pt x="1593" y="5649"/>
                  </a:lnTo>
                  <a:lnTo>
                    <a:pt x="1666" y="5653"/>
                  </a:lnTo>
                  <a:lnTo>
                    <a:pt x="1741" y="5660"/>
                  </a:lnTo>
                  <a:lnTo>
                    <a:pt x="1819" y="5669"/>
                  </a:lnTo>
                  <a:lnTo>
                    <a:pt x="1899" y="5680"/>
                  </a:lnTo>
                  <a:lnTo>
                    <a:pt x="1980" y="5692"/>
                  </a:lnTo>
                  <a:lnTo>
                    <a:pt x="2063" y="5705"/>
                  </a:lnTo>
                  <a:lnTo>
                    <a:pt x="2147" y="5720"/>
                  </a:lnTo>
                  <a:lnTo>
                    <a:pt x="2230" y="5737"/>
                  </a:lnTo>
                  <a:lnTo>
                    <a:pt x="2315" y="5754"/>
                  </a:lnTo>
                  <a:lnTo>
                    <a:pt x="2400" y="5771"/>
                  </a:lnTo>
                  <a:lnTo>
                    <a:pt x="2484" y="5790"/>
                  </a:lnTo>
                  <a:lnTo>
                    <a:pt x="2814" y="5864"/>
                  </a:lnTo>
                  <a:lnTo>
                    <a:pt x="3114" y="5932"/>
                  </a:lnTo>
                  <a:lnTo>
                    <a:pt x="3181" y="5946"/>
                  </a:lnTo>
                  <a:lnTo>
                    <a:pt x="3246" y="5959"/>
                  </a:lnTo>
                  <a:lnTo>
                    <a:pt x="3307" y="5970"/>
                  </a:lnTo>
                  <a:lnTo>
                    <a:pt x="3363" y="5980"/>
                  </a:lnTo>
                  <a:lnTo>
                    <a:pt x="3415" y="5989"/>
                  </a:lnTo>
                  <a:lnTo>
                    <a:pt x="3463" y="5994"/>
                  </a:lnTo>
                  <a:lnTo>
                    <a:pt x="3505" y="5997"/>
                  </a:lnTo>
                  <a:lnTo>
                    <a:pt x="3542" y="5998"/>
                  </a:lnTo>
                  <a:lnTo>
                    <a:pt x="3591" y="5996"/>
                  </a:lnTo>
                  <a:lnTo>
                    <a:pt x="3641" y="5992"/>
                  </a:lnTo>
                  <a:lnTo>
                    <a:pt x="3691" y="5985"/>
                  </a:lnTo>
                  <a:lnTo>
                    <a:pt x="3742" y="5974"/>
                  </a:lnTo>
                  <a:lnTo>
                    <a:pt x="3794" y="5963"/>
                  </a:lnTo>
                  <a:lnTo>
                    <a:pt x="3847" y="5950"/>
                  </a:lnTo>
                  <a:lnTo>
                    <a:pt x="3900" y="5934"/>
                  </a:lnTo>
                  <a:lnTo>
                    <a:pt x="3953" y="5917"/>
                  </a:lnTo>
                  <a:lnTo>
                    <a:pt x="4006" y="5898"/>
                  </a:lnTo>
                  <a:lnTo>
                    <a:pt x="4060" y="5878"/>
                  </a:lnTo>
                  <a:lnTo>
                    <a:pt x="4113" y="5858"/>
                  </a:lnTo>
                  <a:lnTo>
                    <a:pt x="4167" y="5836"/>
                  </a:lnTo>
                  <a:lnTo>
                    <a:pt x="4273" y="5791"/>
                  </a:lnTo>
                  <a:lnTo>
                    <a:pt x="4377" y="5744"/>
                  </a:lnTo>
                  <a:lnTo>
                    <a:pt x="4480" y="5697"/>
                  </a:lnTo>
                  <a:lnTo>
                    <a:pt x="4579" y="5652"/>
                  </a:lnTo>
                  <a:lnTo>
                    <a:pt x="4674" y="5609"/>
                  </a:lnTo>
                  <a:lnTo>
                    <a:pt x="4764" y="5571"/>
                  </a:lnTo>
                  <a:lnTo>
                    <a:pt x="4807" y="5554"/>
                  </a:lnTo>
                  <a:lnTo>
                    <a:pt x="4849" y="5539"/>
                  </a:lnTo>
                  <a:lnTo>
                    <a:pt x="4888" y="5526"/>
                  </a:lnTo>
                  <a:lnTo>
                    <a:pt x="4926" y="5513"/>
                  </a:lnTo>
                  <a:lnTo>
                    <a:pt x="4962" y="5504"/>
                  </a:lnTo>
                  <a:lnTo>
                    <a:pt x="4996" y="5497"/>
                  </a:lnTo>
                  <a:lnTo>
                    <a:pt x="5028" y="5493"/>
                  </a:lnTo>
                  <a:lnTo>
                    <a:pt x="5058" y="5491"/>
                  </a:lnTo>
                  <a:lnTo>
                    <a:pt x="5087" y="5490"/>
                  </a:lnTo>
                  <a:lnTo>
                    <a:pt x="5115" y="5489"/>
                  </a:lnTo>
                  <a:lnTo>
                    <a:pt x="5143" y="5486"/>
                  </a:lnTo>
                  <a:lnTo>
                    <a:pt x="5170" y="5482"/>
                  </a:lnTo>
                  <a:lnTo>
                    <a:pt x="5198" y="5477"/>
                  </a:lnTo>
                  <a:lnTo>
                    <a:pt x="5224" y="5471"/>
                  </a:lnTo>
                  <a:lnTo>
                    <a:pt x="5251" y="5465"/>
                  </a:lnTo>
                  <a:lnTo>
                    <a:pt x="5277" y="5458"/>
                  </a:lnTo>
                  <a:lnTo>
                    <a:pt x="5303" y="5451"/>
                  </a:lnTo>
                  <a:lnTo>
                    <a:pt x="5327" y="5443"/>
                  </a:lnTo>
                  <a:lnTo>
                    <a:pt x="5352" y="5435"/>
                  </a:lnTo>
                  <a:lnTo>
                    <a:pt x="5375" y="5427"/>
                  </a:lnTo>
                  <a:lnTo>
                    <a:pt x="5420" y="5408"/>
                  </a:lnTo>
                  <a:lnTo>
                    <a:pt x="5462" y="5390"/>
                  </a:lnTo>
                  <a:lnTo>
                    <a:pt x="5500" y="5372"/>
                  </a:lnTo>
                  <a:lnTo>
                    <a:pt x="5535" y="5353"/>
                  </a:lnTo>
                  <a:lnTo>
                    <a:pt x="5564" y="5336"/>
                  </a:lnTo>
                  <a:lnTo>
                    <a:pt x="5590" y="5322"/>
                  </a:lnTo>
                  <a:lnTo>
                    <a:pt x="5625" y="5299"/>
                  </a:lnTo>
                  <a:lnTo>
                    <a:pt x="5638" y="5290"/>
                  </a:lnTo>
                  <a:lnTo>
                    <a:pt x="5642" y="5232"/>
                  </a:lnTo>
                  <a:lnTo>
                    <a:pt x="5653" y="5069"/>
                  </a:lnTo>
                  <a:lnTo>
                    <a:pt x="5670" y="4814"/>
                  </a:lnTo>
                  <a:lnTo>
                    <a:pt x="5691" y="4482"/>
                  </a:lnTo>
                  <a:lnTo>
                    <a:pt x="5702" y="4292"/>
                  </a:lnTo>
                  <a:lnTo>
                    <a:pt x="5713" y="4089"/>
                  </a:lnTo>
                  <a:lnTo>
                    <a:pt x="5724" y="3875"/>
                  </a:lnTo>
                  <a:lnTo>
                    <a:pt x="5735" y="3651"/>
                  </a:lnTo>
                  <a:lnTo>
                    <a:pt x="5746" y="3419"/>
                  </a:lnTo>
                  <a:lnTo>
                    <a:pt x="5755" y="3181"/>
                  </a:lnTo>
                  <a:lnTo>
                    <a:pt x="5764" y="2939"/>
                  </a:lnTo>
                  <a:lnTo>
                    <a:pt x="5772" y="2694"/>
                  </a:lnTo>
                  <a:lnTo>
                    <a:pt x="5779" y="2449"/>
                  </a:lnTo>
                  <a:lnTo>
                    <a:pt x="5784" y="2206"/>
                  </a:lnTo>
                  <a:lnTo>
                    <a:pt x="5786" y="1966"/>
                  </a:lnTo>
                  <a:lnTo>
                    <a:pt x="5787" y="1731"/>
                  </a:lnTo>
                  <a:lnTo>
                    <a:pt x="5786" y="1504"/>
                  </a:lnTo>
                  <a:lnTo>
                    <a:pt x="5782" y="1285"/>
                  </a:lnTo>
                  <a:lnTo>
                    <a:pt x="5774" y="1077"/>
                  </a:lnTo>
                  <a:lnTo>
                    <a:pt x="5765" y="881"/>
                  </a:lnTo>
                  <a:lnTo>
                    <a:pt x="5752" y="701"/>
                  </a:lnTo>
                  <a:lnTo>
                    <a:pt x="5736" y="537"/>
                  </a:lnTo>
                  <a:lnTo>
                    <a:pt x="5716" y="391"/>
                  </a:lnTo>
                  <a:lnTo>
                    <a:pt x="5692" y="265"/>
                  </a:lnTo>
                  <a:lnTo>
                    <a:pt x="5664" y="161"/>
                  </a:lnTo>
                  <a:lnTo>
                    <a:pt x="5632" y="81"/>
                  </a:lnTo>
                  <a:lnTo>
                    <a:pt x="5595" y="27"/>
                  </a:lnTo>
                  <a:lnTo>
                    <a:pt x="5553" y="0"/>
                  </a:lnTo>
                  <a:lnTo>
                    <a:pt x="1586" y="76"/>
                  </a:lnTo>
                  <a:close/>
                </a:path>
              </a:pathLst>
            </a:custGeom>
            <a:solidFill>
              <a:srgbClr val="5abb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3259440" y="3739320"/>
              <a:ext cx="2615760" cy="2121480"/>
            </a:xfrm>
            <a:custGeom>
              <a:avLst/>
              <a:gdLst/>
              <a:ahLst/>
              <a:rect l="l" t="t" r="r" b="b"/>
              <a:pathLst>
                <a:path w="6755" h="5485">
                  <a:moveTo>
                    <a:pt x="6485" y="4198"/>
                  </a:moveTo>
                  <a:lnTo>
                    <a:pt x="6463" y="4189"/>
                  </a:lnTo>
                  <a:lnTo>
                    <a:pt x="6441" y="4176"/>
                  </a:lnTo>
                  <a:lnTo>
                    <a:pt x="6417" y="4161"/>
                  </a:lnTo>
                  <a:lnTo>
                    <a:pt x="6395" y="4144"/>
                  </a:lnTo>
                  <a:lnTo>
                    <a:pt x="6372" y="4123"/>
                  </a:lnTo>
                  <a:lnTo>
                    <a:pt x="6350" y="4102"/>
                  </a:lnTo>
                  <a:lnTo>
                    <a:pt x="6326" y="4077"/>
                  </a:lnTo>
                  <a:lnTo>
                    <a:pt x="6304" y="4052"/>
                  </a:lnTo>
                  <a:lnTo>
                    <a:pt x="6281" y="4024"/>
                  </a:lnTo>
                  <a:lnTo>
                    <a:pt x="6259" y="3995"/>
                  </a:lnTo>
                  <a:lnTo>
                    <a:pt x="6236" y="3964"/>
                  </a:lnTo>
                  <a:lnTo>
                    <a:pt x="6214" y="3933"/>
                  </a:lnTo>
                  <a:lnTo>
                    <a:pt x="6192" y="3900"/>
                  </a:lnTo>
                  <a:lnTo>
                    <a:pt x="6170" y="3866"/>
                  </a:lnTo>
                  <a:lnTo>
                    <a:pt x="6148" y="3832"/>
                  </a:lnTo>
                  <a:lnTo>
                    <a:pt x="6126" y="3796"/>
                  </a:lnTo>
                  <a:lnTo>
                    <a:pt x="6040" y="3652"/>
                  </a:lnTo>
                  <a:lnTo>
                    <a:pt x="5955" y="3509"/>
                  </a:lnTo>
                  <a:lnTo>
                    <a:pt x="5914" y="3441"/>
                  </a:lnTo>
                  <a:lnTo>
                    <a:pt x="5873" y="3377"/>
                  </a:lnTo>
                  <a:lnTo>
                    <a:pt x="5853" y="3347"/>
                  </a:lnTo>
                  <a:lnTo>
                    <a:pt x="5833" y="3319"/>
                  </a:lnTo>
                  <a:lnTo>
                    <a:pt x="5814" y="3291"/>
                  </a:lnTo>
                  <a:lnTo>
                    <a:pt x="5795" y="3266"/>
                  </a:lnTo>
                  <a:lnTo>
                    <a:pt x="5792" y="3263"/>
                  </a:lnTo>
                  <a:lnTo>
                    <a:pt x="5790" y="3262"/>
                  </a:lnTo>
                  <a:lnTo>
                    <a:pt x="5787" y="3261"/>
                  </a:lnTo>
                  <a:lnTo>
                    <a:pt x="5784" y="3261"/>
                  </a:lnTo>
                  <a:lnTo>
                    <a:pt x="5782" y="3263"/>
                  </a:lnTo>
                  <a:lnTo>
                    <a:pt x="5780" y="3265"/>
                  </a:lnTo>
                  <a:lnTo>
                    <a:pt x="5778" y="3268"/>
                  </a:lnTo>
                  <a:lnTo>
                    <a:pt x="5777" y="3272"/>
                  </a:lnTo>
                  <a:lnTo>
                    <a:pt x="5773" y="3280"/>
                  </a:lnTo>
                  <a:lnTo>
                    <a:pt x="5770" y="3290"/>
                  </a:lnTo>
                  <a:lnTo>
                    <a:pt x="5767" y="3301"/>
                  </a:lnTo>
                  <a:lnTo>
                    <a:pt x="5763" y="3313"/>
                  </a:lnTo>
                  <a:lnTo>
                    <a:pt x="5758" y="3338"/>
                  </a:lnTo>
                  <a:lnTo>
                    <a:pt x="5752" y="3357"/>
                  </a:lnTo>
                  <a:lnTo>
                    <a:pt x="5748" y="3364"/>
                  </a:lnTo>
                  <a:lnTo>
                    <a:pt x="5745" y="3370"/>
                  </a:lnTo>
                  <a:lnTo>
                    <a:pt x="5743" y="3371"/>
                  </a:lnTo>
                  <a:lnTo>
                    <a:pt x="5742" y="3371"/>
                  </a:lnTo>
                  <a:lnTo>
                    <a:pt x="5739" y="3370"/>
                  </a:lnTo>
                  <a:lnTo>
                    <a:pt x="5737" y="3367"/>
                  </a:lnTo>
                  <a:lnTo>
                    <a:pt x="5701" y="3324"/>
                  </a:lnTo>
                  <a:lnTo>
                    <a:pt x="5665" y="3278"/>
                  </a:lnTo>
                  <a:lnTo>
                    <a:pt x="5630" y="3231"/>
                  </a:lnTo>
                  <a:lnTo>
                    <a:pt x="5597" y="3182"/>
                  </a:lnTo>
                  <a:lnTo>
                    <a:pt x="5563" y="3132"/>
                  </a:lnTo>
                  <a:lnTo>
                    <a:pt x="5529" y="3080"/>
                  </a:lnTo>
                  <a:lnTo>
                    <a:pt x="5497" y="3028"/>
                  </a:lnTo>
                  <a:lnTo>
                    <a:pt x="5464" y="2975"/>
                  </a:lnTo>
                  <a:lnTo>
                    <a:pt x="5334" y="2758"/>
                  </a:lnTo>
                  <a:lnTo>
                    <a:pt x="5203" y="2540"/>
                  </a:lnTo>
                  <a:lnTo>
                    <a:pt x="5168" y="2487"/>
                  </a:lnTo>
                  <a:lnTo>
                    <a:pt x="5134" y="2435"/>
                  </a:lnTo>
                  <a:lnTo>
                    <a:pt x="5099" y="2383"/>
                  </a:lnTo>
                  <a:lnTo>
                    <a:pt x="5064" y="2333"/>
                  </a:lnTo>
                  <a:lnTo>
                    <a:pt x="5027" y="2284"/>
                  </a:lnTo>
                  <a:lnTo>
                    <a:pt x="4989" y="2237"/>
                  </a:lnTo>
                  <a:lnTo>
                    <a:pt x="4952" y="2191"/>
                  </a:lnTo>
                  <a:lnTo>
                    <a:pt x="4913" y="2148"/>
                  </a:lnTo>
                  <a:lnTo>
                    <a:pt x="4872" y="2106"/>
                  </a:lnTo>
                  <a:lnTo>
                    <a:pt x="4830" y="2066"/>
                  </a:lnTo>
                  <a:lnTo>
                    <a:pt x="4788" y="2028"/>
                  </a:lnTo>
                  <a:lnTo>
                    <a:pt x="4743" y="1993"/>
                  </a:lnTo>
                  <a:lnTo>
                    <a:pt x="4699" y="1960"/>
                  </a:lnTo>
                  <a:lnTo>
                    <a:pt x="4652" y="1930"/>
                  </a:lnTo>
                  <a:lnTo>
                    <a:pt x="4604" y="1904"/>
                  </a:lnTo>
                  <a:lnTo>
                    <a:pt x="4553" y="1879"/>
                  </a:lnTo>
                  <a:lnTo>
                    <a:pt x="4527" y="1869"/>
                  </a:lnTo>
                  <a:lnTo>
                    <a:pt x="4504" y="1861"/>
                  </a:lnTo>
                  <a:lnTo>
                    <a:pt x="4482" y="1856"/>
                  </a:lnTo>
                  <a:lnTo>
                    <a:pt x="4462" y="1852"/>
                  </a:lnTo>
                  <a:lnTo>
                    <a:pt x="4442" y="1851"/>
                  </a:lnTo>
                  <a:lnTo>
                    <a:pt x="4425" y="1851"/>
                  </a:lnTo>
                  <a:lnTo>
                    <a:pt x="4409" y="1853"/>
                  </a:lnTo>
                  <a:lnTo>
                    <a:pt x="4394" y="1857"/>
                  </a:lnTo>
                  <a:lnTo>
                    <a:pt x="4380" y="1863"/>
                  </a:lnTo>
                  <a:lnTo>
                    <a:pt x="4368" y="1870"/>
                  </a:lnTo>
                  <a:lnTo>
                    <a:pt x="4357" y="1879"/>
                  </a:lnTo>
                  <a:lnTo>
                    <a:pt x="4346" y="1889"/>
                  </a:lnTo>
                  <a:lnTo>
                    <a:pt x="4336" y="1902"/>
                  </a:lnTo>
                  <a:lnTo>
                    <a:pt x="4328" y="1915"/>
                  </a:lnTo>
                  <a:lnTo>
                    <a:pt x="4320" y="1929"/>
                  </a:lnTo>
                  <a:lnTo>
                    <a:pt x="4313" y="1945"/>
                  </a:lnTo>
                  <a:lnTo>
                    <a:pt x="4306" y="1961"/>
                  </a:lnTo>
                  <a:lnTo>
                    <a:pt x="4300" y="1978"/>
                  </a:lnTo>
                  <a:lnTo>
                    <a:pt x="4293" y="1998"/>
                  </a:lnTo>
                  <a:lnTo>
                    <a:pt x="4288" y="2016"/>
                  </a:lnTo>
                  <a:lnTo>
                    <a:pt x="4278" y="2057"/>
                  </a:lnTo>
                  <a:lnTo>
                    <a:pt x="4268" y="2100"/>
                  </a:lnTo>
                  <a:lnTo>
                    <a:pt x="4259" y="2143"/>
                  </a:lnTo>
                  <a:lnTo>
                    <a:pt x="4248" y="2189"/>
                  </a:lnTo>
                  <a:lnTo>
                    <a:pt x="4241" y="2212"/>
                  </a:lnTo>
                  <a:lnTo>
                    <a:pt x="4235" y="2234"/>
                  </a:lnTo>
                  <a:lnTo>
                    <a:pt x="4228" y="2257"/>
                  </a:lnTo>
                  <a:lnTo>
                    <a:pt x="4221" y="2279"/>
                  </a:lnTo>
                  <a:lnTo>
                    <a:pt x="4214" y="2299"/>
                  </a:lnTo>
                  <a:lnTo>
                    <a:pt x="4205" y="2318"/>
                  </a:lnTo>
                  <a:lnTo>
                    <a:pt x="4195" y="2335"/>
                  </a:lnTo>
                  <a:lnTo>
                    <a:pt x="4185" y="2353"/>
                  </a:lnTo>
                  <a:lnTo>
                    <a:pt x="4174" y="2368"/>
                  </a:lnTo>
                  <a:lnTo>
                    <a:pt x="4162" y="2383"/>
                  </a:lnTo>
                  <a:lnTo>
                    <a:pt x="4150" y="2397"/>
                  </a:lnTo>
                  <a:lnTo>
                    <a:pt x="4136" y="2411"/>
                  </a:lnTo>
                  <a:lnTo>
                    <a:pt x="4122" y="2424"/>
                  </a:lnTo>
                  <a:lnTo>
                    <a:pt x="4108" y="2436"/>
                  </a:lnTo>
                  <a:lnTo>
                    <a:pt x="4092" y="2447"/>
                  </a:lnTo>
                  <a:lnTo>
                    <a:pt x="4077" y="2460"/>
                  </a:lnTo>
                  <a:lnTo>
                    <a:pt x="4044" y="2481"/>
                  </a:lnTo>
                  <a:lnTo>
                    <a:pt x="4010" y="2501"/>
                  </a:lnTo>
                  <a:lnTo>
                    <a:pt x="3936" y="2541"/>
                  </a:lnTo>
                  <a:lnTo>
                    <a:pt x="3860" y="2582"/>
                  </a:lnTo>
                  <a:lnTo>
                    <a:pt x="3821" y="2606"/>
                  </a:lnTo>
                  <a:lnTo>
                    <a:pt x="3782" y="2630"/>
                  </a:lnTo>
                  <a:lnTo>
                    <a:pt x="3764" y="2643"/>
                  </a:lnTo>
                  <a:lnTo>
                    <a:pt x="3744" y="2657"/>
                  </a:lnTo>
                  <a:lnTo>
                    <a:pt x="3726" y="2672"/>
                  </a:lnTo>
                  <a:lnTo>
                    <a:pt x="3708" y="2687"/>
                  </a:lnTo>
                  <a:lnTo>
                    <a:pt x="3621" y="2766"/>
                  </a:lnTo>
                  <a:lnTo>
                    <a:pt x="3528" y="2852"/>
                  </a:lnTo>
                  <a:lnTo>
                    <a:pt x="3504" y="2874"/>
                  </a:lnTo>
                  <a:lnTo>
                    <a:pt x="3478" y="2895"/>
                  </a:lnTo>
                  <a:lnTo>
                    <a:pt x="3454" y="2916"/>
                  </a:lnTo>
                  <a:lnTo>
                    <a:pt x="3428" y="2936"/>
                  </a:lnTo>
                  <a:lnTo>
                    <a:pt x="3403" y="2955"/>
                  </a:lnTo>
                  <a:lnTo>
                    <a:pt x="3376" y="2974"/>
                  </a:lnTo>
                  <a:lnTo>
                    <a:pt x="3349" y="2991"/>
                  </a:lnTo>
                  <a:lnTo>
                    <a:pt x="3323" y="3007"/>
                  </a:lnTo>
                  <a:lnTo>
                    <a:pt x="3296" y="3023"/>
                  </a:lnTo>
                  <a:lnTo>
                    <a:pt x="3269" y="3036"/>
                  </a:lnTo>
                  <a:lnTo>
                    <a:pt x="3241" y="3047"/>
                  </a:lnTo>
                  <a:lnTo>
                    <a:pt x="3214" y="3057"/>
                  </a:lnTo>
                  <a:lnTo>
                    <a:pt x="3185" y="3065"/>
                  </a:lnTo>
                  <a:lnTo>
                    <a:pt x="3157" y="3071"/>
                  </a:lnTo>
                  <a:lnTo>
                    <a:pt x="3129" y="3074"/>
                  </a:lnTo>
                  <a:lnTo>
                    <a:pt x="3100" y="3074"/>
                  </a:lnTo>
                  <a:lnTo>
                    <a:pt x="3071" y="3072"/>
                  </a:lnTo>
                  <a:lnTo>
                    <a:pt x="3042" y="3068"/>
                  </a:lnTo>
                  <a:lnTo>
                    <a:pt x="3013" y="3059"/>
                  </a:lnTo>
                  <a:lnTo>
                    <a:pt x="2984" y="3048"/>
                  </a:lnTo>
                  <a:lnTo>
                    <a:pt x="2955" y="3034"/>
                  </a:lnTo>
                  <a:lnTo>
                    <a:pt x="2925" y="3017"/>
                  </a:lnTo>
                  <a:lnTo>
                    <a:pt x="2895" y="2995"/>
                  </a:lnTo>
                  <a:lnTo>
                    <a:pt x="2866" y="2970"/>
                  </a:lnTo>
                  <a:lnTo>
                    <a:pt x="2846" y="2952"/>
                  </a:lnTo>
                  <a:lnTo>
                    <a:pt x="2826" y="2929"/>
                  </a:lnTo>
                  <a:lnTo>
                    <a:pt x="2803" y="2902"/>
                  </a:lnTo>
                  <a:lnTo>
                    <a:pt x="2779" y="2873"/>
                  </a:lnTo>
                  <a:lnTo>
                    <a:pt x="2754" y="2840"/>
                  </a:lnTo>
                  <a:lnTo>
                    <a:pt x="2729" y="2806"/>
                  </a:lnTo>
                  <a:lnTo>
                    <a:pt x="2704" y="2771"/>
                  </a:lnTo>
                  <a:lnTo>
                    <a:pt x="2679" y="2734"/>
                  </a:lnTo>
                  <a:lnTo>
                    <a:pt x="2654" y="2697"/>
                  </a:lnTo>
                  <a:lnTo>
                    <a:pt x="2632" y="2661"/>
                  </a:lnTo>
                  <a:lnTo>
                    <a:pt x="2610" y="2626"/>
                  </a:lnTo>
                  <a:lnTo>
                    <a:pt x="2590" y="2592"/>
                  </a:lnTo>
                  <a:lnTo>
                    <a:pt x="2572" y="2561"/>
                  </a:lnTo>
                  <a:lnTo>
                    <a:pt x="2557" y="2532"/>
                  </a:lnTo>
                  <a:lnTo>
                    <a:pt x="2544" y="2507"/>
                  </a:lnTo>
                  <a:lnTo>
                    <a:pt x="2536" y="2486"/>
                  </a:lnTo>
                  <a:lnTo>
                    <a:pt x="2529" y="2470"/>
                  </a:lnTo>
                  <a:lnTo>
                    <a:pt x="2521" y="2456"/>
                  </a:lnTo>
                  <a:lnTo>
                    <a:pt x="2513" y="2443"/>
                  </a:lnTo>
                  <a:lnTo>
                    <a:pt x="2502" y="2433"/>
                  </a:lnTo>
                  <a:lnTo>
                    <a:pt x="2492" y="2425"/>
                  </a:lnTo>
                  <a:lnTo>
                    <a:pt x="2481" y="2418"/>
                  </a:lnTo>
                  <a:lnTo>
                    <a:pt x="2470" y="2412"/>
                  </a:lnTo>
                  <a:lnTo>
                    <a:pt x="2458" y="2407"/>
                  </a:lnTo>
                  <a:lnTo>
                    <a:pt x="2431" y="2399"/>
                  </a:lnTo>
                  <a:lnTo>
                    <a:pt x="2403" y="2392"/>
                  </a:lnTo>
                  <a:lnTo>
                    <a:pt x="2389" y="2389"/>
                  </a:lnTo>
                  <a:lnTo>
                    <a:pt x="2375" y="2385"/>
                  </a:lnTo>
                  <a:lnTo>
                    <a:pt x="2361" y="2381"/>
                  </a:lnTo>
                  <a:lnTo>
                    <a:pt x="2345" y="2376"/>
                  </a:lnTo>
                  <a:lnTo>
                    <a:pt x="2318" y="2366"/>
                  </a:lnTo>
                  <a:lnTo>
                    <a:pt x="2287" y="2356"/>
                  </a:lnTo>
                  <a:lnTo>
                    <a:pt x="2254" y="2346"/>
                  </a:lnTo>
                  <a:lnTo>
                    <a:pt x="2220" y="2337"/>
                  </a:lnTo>
                  <a:lnTo>
                    <a:pt x="2184" y="2328"/>
                  </a:lnTo>
                  <a:lnTo>
                    <a:pt x="2147" y="2321"/>
                  </a:lnTo>
                  <a:lnTo>
                    <a:pt x="2111" y="2315"/>
                  </a:lnTo>
                  <a:lnTo>
                    <a:pt x="2074" y="2311"/>
                  </a:lnTo>
                  <a:lnTo>
                    <a:pt x="2055" y="2310"/>
                  </a:lnTo>
                  <a:lnTo>
                    <a:pt x="2038" y="2309"/>
                  </a:lnTo>
                  <a:lnTo>
                    <a:pt x="2021" y="2309"/>
                  </a:lnTo>
                  <a:lnTo>
                    <a:pt x="2004" y="2310"/>
                  </a:lnTo>
                  <a:lnTo>
                    <a:pt x="1988" y="2311"/>
                  </a:lnTo>
                  <a:lnTo>
                    <a:pt x="1973" y="2313"/>
                  </a:lnTo>
                  <a:lnTo>
                    <a:pt x="1957" y="2316"/>
                  </a:lnTo>
                  <a:lnTo>
                    <a:pt x="1943" y="2319"/>
                  </a:lnTo>
                  <a:lnTo>
                    <a:pt x="1930" y="2323"/>
                  </a:lnTo>
                  <a:lnTo>
                    <a:pt x="1918" y="2328"/>
                  </a:lnTo>
                  <a:lnTo>
                    <a:pt x="1906" y="2334"/>
                  </a:lnTo>
                  <a:lnTo>
                    <a:pt x="1895" y="2341"/>
                  </a:lnTo>
                  <a:lnTo>
                    <a:pt x="1886" y="2350"/>
                  </a:lnTo>
                  <a:lnTo>
                    <a:pt x="1878" y="2359"/>
                  </a:lnTo>
                  <a:lnTo>
                    <a:pt x="1871" y="2369"/>
                  </a:lnTo>
                  <a:lnTo>
                    <a:pt x="1866" y="2380"/>
                  </a:lnTo>
                  <a:lnTo>
                    <a:pt x="1843" y="2436"/>
                  </a:lnTo>
                  <a:lnTo>
                    <a:pt x="1822" y="2492"/>
                  </a:lnTo>
                  <a:lnTo>
                    <a:pt x="1802" y="2548"/>
                  </a:lnTo>
                  <a:lnTo>
                    <a:pt x="1785" y="2605"/>
                  </a:lnTo>
                  <a:lnTo>
                    <a:pt x="1768" y="2660"/>
                  </a:lnTo>
                  <a:lnTo>
                    <a:pt x="1752" y="2716"/>
                  </a:lnTo>
                  <a:lnTo>
                    <a:pt x="1738" y="2771"/>
                  </a:lnTo>
                  <a:lnTo>
                    <a:pt x="1725" y="2826"/>
                  </a:lnTo>
                  <a:lnTo>
                    <a:pt x="1713" y="2881"/>
                  </a:lnTo>
                  <a:lnTo>
                    <a:pt x="1701" y="2936"/>
                  </a:lnTo>
                  <a:lnTo>
                    <a:pt x="1691" y="2991"/>
                  </a:lnTo>
                  <a:lnTo>
                    <a:pt x="1681" y="3045"/>
                  </a:lnTo>
                  <a:lnTo>
                    <a:pt x="1664" y="3155"/>
                  </a:lnTo>
                  <a:lnTo>
                    <a:pt x="1647" y="3264"/>
                  </a:lnTo>
                  <a:lnTo>
                    <a:pt x="1619" y="3482"/>
                  </a:lnTo>
                  <a:lnTo>
                    <a:pt x="1590" y="3700"/>
                  </a:lnTo>
                  <a:lnTo>
                    <a:pt x="1574" y="3809"/>
                  </a:lnTo>
                  <a:lnTo>
                    <a:pt x="1555" y="3918"/>
                  </a:lnTo>
                  <a:lnTo>
                    <a:pt x="1545" y="3972"/>
                  </a:lnTo>
                  <a:lnTo>
                    <a:pt x="1534" y="4027"/>
                  </a:lnTo>
                  <a:lnTo>
                    <a:pt x="1523" y="4082"/>
                  </a:lnTo>
                  <a:lnTo>
                    <a:pt x="1510" y="4137"/>
                  </a:lnTo>
                  <a:lnTo>
                    <a:pt x="1492" y="4206"/>
                  </a:lnTo>
                  <a:lnTo>
                    <a:pt x="1471" y="4283"/>
                  </a:lnTo>
                  <a:lnTo>
                    <a:pt x="1445" y="4368"/>
                  </a:lnTo>
                  <a:lnTo>
                    <a:pt x="1416" y="4458"/>
                  </a:lnTo>
                  <a:lnTo>
                    <a:pt x="1400" y="4505"/>
                  </a:lnTo>
                  <a:lnTo>
                    <a:pt x="1383" y="4553"/>
                  </a:lnTo>
                  <a:lnTo>
                    <a:pt x="1366" y="4601"/>
                  </a:lnTo>
                  <a:lnTo>
                    <a:pt x="1347" y="4650"/>
                  </a:lnTo>
                  <a:lnTo>
                    <a:pt x="1328" y="4700"/>
                  </a:lnTo>
                  <a:lnTo>
                    <a:pt x="1307" y="4749"/>
                  </a:lnTo>
                  <a:lnTo>
                    <a:pt x="1287" y="4799"/>
                  </a:lnTo>
                  <a:lnTo>
                    <a:pt x="1266" y="4849"/>
                  </a:lnTo>
                  <a:lnTo>
                    <a:pt x="1243" y="4897"/>
                  </a:lnTo>
                  <a:lnTo>
                    <a:pt x="1221" y="4946"/>
                  </a:lnTo>
                  <a:lnTo>
                    <a:pt x="1197" y="4994"/>
                  </a:lnTo>
                  <a:lnTo>
                    <a:pt x="1174" y="5042"/>
                  </a:lnTo>
                  <a:lnTo>
                    <a:pt x="1149" y="5088"/>
                  </a:lnTo>
                  <a:lnTo>
                    <a:pt x="1124" y="5134"/>
                  </a:lnTo>
                  <a:lnTo>
                    <a:pt x="1098" y="5178"/>
                  </a:lnTo>
                  <a:lnTo>
                    <a:pt x="1072" y="5220"/>
                  </a:lnTo>
                  <a:lnTo>
                    <a:pt x="1045" y="5261"/>
                  </a:lnTo>
                  <a:lnTo>
                    <a:pt x="1019" y="5300"/>
                  </a:lnTo>
                  <a:lnTo>
                    <a:pt x="991" y="5337"/>
                  </a:lnTo>
                  <a:lnTo>
                    <a:pt x="963" y="5372"/>
                  </a:lnTo>
                  <a:lnTo>
                    <a:pt x="935" y="5404"/>
                  </a:lnTo>
                  <a:lnTo>
                    <a:pt x="906" y="5434"/>
                  </a:lnTo>
                  <a:lnTo>
                    <a:pt x="878" y="5461"/>
                  </a:lnTo>
                  <a:lnTo>
                    <a:pt x="848" y="5485"/>
                  </a:lnTo>
                  <a:lnTo>
                    <a:pt x="521" y="4752"/>
                  </a:lnTo>
                  <a:lnTo>
                    <a:pt x="6" y="4807"/>
                  </a:lnTo>
                  <a:lnTo>
                    <a:pt x="5" y="4685"/>
                  </a:lnTo>
                  <a:lnTo>
                    <a:pt x="2" y="4362"/>
                  </a:lnTo>
                  <a:lnTo>
                    <a:pt x="0" y="4144"/>
                  </a:lnTo>
                  <a:lnTo>
                    <a:pt x="0" y="3897"/>
                  </a:lnTo>
                  <a:lnTo>
                    <a:pt x="1" y="3631"/>
                  </a:lnTo>
                  <a:lnTo>
                    <a:pt x="4" y="3351"/>
                  </a:lnTo>
                  <a:lnTo>
                    <a:pt x="6" y="3208"/>
                  </a:lnTo>
                  <a:lnTo>
                    <a:pt x="8" y="3067"/>
                  </a:lnTo>
                  <a:lnTo>
                    <a:pt x="11" y="2924"/>
                  </a:lnTo>
                  <a:lnTo>
                    <a:pt x="15" y="2784"/>
                  </a:lnTo>
                  <a:lnTo>
                    <a:pt x="21" y="2645"/>
                  </a:lnTo>
                  <a:lnTo>
                    <a:pt x="26" y="2511"/>
                  </a:lnTo>
                  <a:lnTo>
                    <a:pt x="32" y="2381"/>
                  </a:lnTo>
                  <a:lnTo>
                    <a:pt x="39" y="2256"/>
                  </a:lnTo>
                  <a:lnTo>
                    <a:pt x="47" y="2137"/>
                  </a:lnTo>
                  <a:lnTo>
                    <a:pt x="55" y="2025"/>
                  </a:lnTo>
                  <a:lnTo>
                    <a:pt x="65" y="1922"/>
                  </a:lnTo>
                  <a:lnTo>
                    <a:pt x="77" y="1828"/>
                  </a:lnTo>
                  <a:lnTo>
                    <a:pt x="88" y="1744"/>
                  </a:lnTo>
                  <a:lnTo>
                    <a:pt x="101" y="1670"/>
                  </a:lnTo>
                  <a:lnTo>
                    <a:pt x="115" y="1609"/>
                  </a:lnTo>
                  <a:lnTo>
                    <a:pt x="132" y="1560"/>
                  </a:lnTo>
                  <a:lnTo>
                    <a:pt x="150" y="1521"/>
                  </a:lnTo>
                  <a:lnTo>
                    <a:pt x="177" y="1479"/>
                  </a:lnTo>
                  <a:lnTo>
                    <a:pt x="209" y="1438"/>
                  </a:lnTo>
                  <a:lnTo>
                    <a:pt x="249" y="1394"/>
                  </a:lnTo>
                  <a:lnTo>
                    <a:pt x="294" y="1349"/>
                  </a:lnTo>
                  <a:lnTo>
                    <a:pt x="344" y="1304"/>
                  </a:lnTo>
                  <a:lnTo>
                    <a:pt x="398" y="1258"/>
                  </a:lnTo>
                  <a:lnTo>
                    <a:pt x="457" y="1212"/>
                  </a:lnTo>
                  <a:lnTo>
                    <a:pt x="520" y="1165"/>
                  </a:lnTo>
                  <a:lnTo>
                    <a:pt x="586" y="1119"/>
                  </a:lnTo>
                  <a:lnTo>
                    <a:pt x="654" y="1072"/>
                  </a:lnTo>
                  <a:lnTo>
                    <a:pt x="724" y="1027"/>
                  </a:lnTo>
                  <a:lnTo>
                    <a:pt x="796" y="981"/>
                  </a:lnTo>
                  <a:lnTo>
                    <a:pt x="869" y="936"/>
                  </a:lnTo>
                  <a:lnTo>
                    <a:pt x="942" y="892"/>
                  </a:lnTo>
                  <a:lnTo>
                    <a:pt x="1017" y="849"/>
                  </a:lnTo>
                  <a:lnTo>
                    <a:pt x="1089" y="807"/>
                  </a:lnTo>
                  <a:lnTo>
                    <a:pt x="1161" y="767"/>
                  </a:lnTo>
                  <a:lnTo>
                    <a:pt x="1232" y="729"/>
                  </a:lnTo>
                  <a:lnTo>
                    <a:pt x="1300" y="691"/>
                  </a:lnTo>
                  <a:lnTo>
                    <a:pt x="1430" y="623"/>
                  </a:lnTo>
                  <a:lnTo>
                    <a:pt x="1544" y="565"/>
                  </a:lnTo>
                  <a:lnTo>
                    <a:pt x="1715" y="480"/>
                  </a:lnTo>
                  <a:lnTo>
                    <a:pt x="1779" y="448"/>
                  </a:lnTo>
                  <a:lnTo>
                    <a:pt x="4073" y="16"/>
                  </a:lnTo>
                  <a:lnTo>
                    <a:pt x="5560" y="0"/>
                  </a:lnTo>
                  <a:lnTo>
                    <a:pt x="5594" y="18"/>
                  </a:lnTo>
                  <a:lnTo>
                    <a:pt x="5629" y="48"/>
                  </a:lnTo>
                  <a:lnTo>
                    <a:pt x="5666" y="92"/>
                  </a:lnTo>
                  <a:lnTo>
                    <a:pt x="5704" y="148"/>
                  </a:lnTo>
                  <a:lnTo>
                    <a:pt x="5743" y="218"/>
                  </a:lnTo>
                  <a:lnTo>
                    <a:pt x="5781" y="297"/>
                  </a:lnTo>
                  <a:lnTo>
                    <a:pt x="5821" y="387"/>
                  </a:lnTo>
                  <a:lnTo>
                    <a:pt x="5862" y="487"/>
                  </a:lnTo>
                  <a:lnTo>
                    <a:pt x="5903" y="596"/>
                  </a:lnTo>
                  <a:lnTo>
                    <a:pt x="5945" y="712"/>
                  </a:lnTo>
                  <a:lnTo>
                    <a:pt x="5986" y="838"/>
                  </a:lnTo>
                  <a:lnTo>
                    <a:pt x="6028" y="969"/>
                  </a:lnTo>
                  <a:lnTo>
                    <a:pt x="6070" y="1107"/>
                  </a:lnTo>
                  <a:lnTo>
                    <a:pt x="6112" y="1251"/>
                  </a:lnTo>
                  <a:lnTo>
                    <a:pt x="6154" y="1399"/>
                  </a:lnTo>
                  <a:lnTo>
                    <a:pt x="6196" y="1551"/>
                  </a:lnTo>
                  <a:lnTo>
                    <a:pt x="6238" y="1706"/>
                  </a:lnTo>
                  <a:lnTo>
                    <a:pt x="6278" y="1864"/>
                  </a:lnTo>
                  <a:lnTo>
                    <a:pt x="6319" y="2024"/>
                  </a:lnTo>
                  <a:lnTo>
                    <a:pt x="6359" y="2185"/>
                  </a:lnTo>
                  <a:lnTo>
                    <a:pt x="6398" y="2347"/>
                  </a:lnTo>
                  <a:lnTo>
                    <a:pt x="6437" y="2509"/>
                  </a:lnTo>
                  <a:lnTo>
                    <a:pt x="6474" y="2669"/>
                  </a:lnTo>
                  <a:lnTo>
                    <a:pt x="6510" y="2828"/>
                  </a:lnTo>
                  <a:lnTo>
                    <a:pt x="6580" y="3138"/>
                  </a:lnTo>
                  <a:lnTo>
                    <a:pt x="6645" y="3433"/>
                  </a:lnTo>
                  <a:lnTo>
                    <a:pt x="6703" y="3707"/>
                  </a:lnTo>
                  <a:lnTo>
                    <a:pt x="6755" y="3955"/>
                  </a:lnTo>
                  <a:lnTo>
                    <a:pt x="6485" y="4198"/>
                  </a:lnTo>
                  <a:close/>
                </a:path>
              </a:pathLst>
            </a:custGeom>
            <a:solidFill>
              <a:srgbClr val="5898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3259440" y="3739320"/>
              <a:ext cx="2615760" cy="2121480"/>
            </a:xfrm>
            <a:custGeom>
              <a:avLst/>
              <a:gdLst/>
              <a:ahLst/>
              <a:rect l="l" t="t" r="r" b="b"/>
              <a:pathLst>
                <a:path w="6755" h="5485">
                  <a:moveTo>
                    <a:pt x="6485" y="4198"/>
                  </a:moveTo>
                  <a:lnTo>
                    <a:pt x="6463" y="4189"/>
                  </a:lnTo>
                  <a:lnTo>
                    <a:pt x="6441" y="4176"/>
                  </a:lnTo>
                  <a:lnTo>
                    <a:pt x="6417" y="4161"/>
                  </a:lnTo>
                  <a:lnTo>
                    <a:pt x="6395" y="4144"/>
                  </a:lnTo>
                  <a:lnTo>
                    <a:pt x="6372" y="4123"/>
                  </a:lnTo>
                  <a:lnTo>
                    <a:pt x="6350" y="4102"/>
                  </a:lnTo>
                  <a:lnTo>
                    <a:pt x="6326" y="4077"/>
                  </a:lnTo>
                  <a:lnTo>
                    <a:pt x="6304" y="4052"/>
                  </a:lnTo>
                  <a:lnTo>
                    <a:pt x="6281" y="4024"/>
                  </a:lnTo>
                  <a:lnTo>
                    <a:pt x="6259" y="3995"/>
                  </a:lnTo>
                  <a:lnTo>
                    <a:pt x="6236" y="3964"/>
                  </a:lnTo>
                  <a:lnTo>
                    <a:pt x="6214" y="3933"/>
                  </a:lnTo>
                  <a:lnTo>
                    <a:pt x="6192" y="3900"/>
                  </a:lnTo>
                  <a:lnTo>
                    <a:pt x="6170" y="3866"/>
                  </a:lnTo>
                  <a:lnTo>
                    <a:pt x="6148" y="3832"/>
                  </a:lnTo>
                  <a:lnTo>
                    <a:pt x="6126" y="3796"/>
                  </a:lnTo>
                  <a:lnTo>
                    <a:pt x="6040" y="3652"/>
                  </a:lnTo>
                  <a:lnTo>
                    <a:pt x="5955" y="3509"/>
                  </a:lnTo>
                  <a:lnTo>
                    <a:pt x="5914" y="3441"/>
                  </a:lnTo>
                  <a:lnTo>
                    <a:pt x="5873" y="3377"/>
                  </a:lnTo>
                  <a:lnTo>
                    <a:pt x="5853" y="3347"/>
                  </a:lnTo>
                  <a:lnTo>
                    <a:pt x="5833" y="3319"/>
                  </a:lnTo>
                  <a:lnTo>
                    <a:pt x="5814" y="3291"/>
                  </a:lnTo>
                  <a:lnTo>
                    <a:pt x="5795" y="3266"/>
                  </a:lnTo>
                  <a:lnTo>
                    <a:pt x="5792" y="3263"/>
                  </a:lnTo>
                  <a:lnTo>
                    <a:pt x="5790" y="3262"/>
                  </a:lnTo>
                  <a:lnTo>
                    <a:pt x="5787" y="3261"/>
                  </a:lnTo>
                  <a:lnTo>
                    <a:pt x="5784" y="3261"/>
                  </a:lnTo>
                  <a:lnTo>
                    <a:pt x="5782" y="3263"/>
                  </a:lnTo>
                  <a:lnTo>
                    <a:pt x="5780" y="3265"/>
                  </a:lnTo>
                  <a:lnTo>
                    <a:pt x="5778" y="3268"/>
                  </a:lnTo>
                  <a:lnTo>
                    <a:pt x="5777" y="3272"/>
                  </a:lnTo>
                  <a:lnTo>
                    <a:pt x="5773" y="3280"/>
                  </a:lnTo>
                  <a:lnTo>
                    <a:pt x="5770" y="3290"/>
                  </a:lnTo>
                  <a:lnTo>
                    <a:pt x="5767" y="3301"/>
                  </a:lnTo>
                  <a:lnTo>
                    <a:pt x="5763" y="3313"/>
                  </a:lnTo>
                  <a:lnTo>
                    <a:pt x="5758" y="3338"/>
                  </a:lnTo>
                  <a:lnTo>
                    <a:pt x="5752" y="3357"/>
                  </a:lnTo>
                  <a:lnTo>
                    <a:pt x="5748" y="3364"/>
                  </a:lnTo>
                  <a:lnTo>
                    <a:pt x="5745" y="3370"/>
                  </a:lnTo>
                  <a:lnTo>
                    <a:pt x="5743" y="3371"/>
                  </a:lnTo>
                  <a:lnTo>
                    <a:pt x="5742" y="3371"/>
                  </a:lnTo>
                  <a:lnTo>
                    <a:pt x="5739" y="3370"/>
                  </a:lnTo>
                  <a:lnTo>
                    <a:pt x="5737" y="3367"/>
                  </a:lnTo>
                  <a:lnTo>
                    <a:pt x="5701" y="3324"/>
                  </a:lnTo>
                  <a:lnTo>
                    <a:pt x="5665" y="3278"/>
                  </a:lnTo>
                  <a:lnTo>
                    <a:pt x="5630" y="3231"/>
                  </a:lnTo>
                  <a:lnTo>
                    <a:pt x="5597" y="3182"/>
                  </a:lnTo>
                  <a:lnTo>
                    <a:pt x="5563" y="3132"/>
                  </a:lnTo>
                  <a:lnTo>
                    <a:pt x="5529" y="3080"/>
                  </a:lnTo>
                  <a:lnTo>
                    <a:pt x="5497" y="3028"/>
                  </a:lnTo>
                  <a:lnTo>
                    <a:pt x="5464" y="2975"/>
                  </a:lnTo>
                  <a:lnTo>
                    <a:pt x="5334" y="2758"/>
                  </a:lnTo>
                  <a:lnTo>
                    <a:pt x="5203" y="2540"/>
                  </a:lnTo>
                  <a:lnTo>
                    <a:pt x="5168" y="2487"/>
                  </a:lnTo>
                  <a:lnTo>
                    <a:pt x="5134" y="2435"/>
                  </a:lnTo>
                  <a:lnTo>
                    <a:pt x="5099" y="2383"/>
                  </a:lnTo>
                  <a:lnTo>
                    <a:pt x="5064" y="2333"/>
                  </a:lnTo>
                  <a:lnTo>
                    <a:pt x="5027" y="2284"/>
                  </a:lnTo>
                  <a:lnTo>
                    <a:pt x="4989" y="2237"/>
                  </a:lnTo>
                  <a:lnTo>
                    <a:pt x="4952" y="2191"/>
                  </a:lnTo>
                  <a:lnTo>
                    <a:pt x="4913" y="2148"/>
                  </a:lnTo>
                  <a:lnTo>
                    <a:pt x="4872" y="2106"/>
                  </a:lnTo>
                  <a:lnTo>
                    <a:pt x="4830" y="2066"/>
                  </a:lnTo>
                  <a:lnTo>
                    <a:pt x="4788" y="2028"/>
                  </a:lnTo>
                  <a:lnTo>
                    <a:pt x="4743" y="1993"/>
                  </a:lnTo>
                  <a:lnTo>
                    <a:pt x="4699" y="1960"/>
                  </a:lnTo>
                  <a:lnTo>
                    <a:pt x="4652" y="1930"/>
                  </a:lnTo>
                  <a:lnTo>
                    <a:pt x="4604" y="1904"/>
                  </a:lnTo>
                  <a:lnTo>
                    <a:pt x="4553" y="1879"/>
                  </a:lnTo>
                  <a:lnTo>
                    <a:pt x="4527" y="1869"/>
                  </a:lnTo>
                  <a:lnTo>
                    <a:pt x="4504" y="1861"/>
                  </a:lnTo>
                  <a:lnTo>
                    <a:pt x="4482" y="1856"/>
                  </a:lnTo>
                  <a:lnTo>
                    <a:pt x="4462" y="1852"/>
                  </a:lnTo>
                  <a:lnTo>
                    <a:pt x="4442" y="1851"/>
                  </a:lnTo>
                  <a:lnTo>
                    <a:pt x="4425" y="1851"/>
                  </a:lnTo>
                  <a:lnTo>
                    <a:pt x="4409" y="1853"/>
                  </a:lnTo>
                  <a:lnTo>
                    <a:pt x="4394" y="1857"/>
                  </a:lnTo>
                  <a:lnTo>
                    <a:pt x="4380" y="1863"/>
                  </a:lnTo>
                  <a:lnTo>
                    <a:pt x="4368" y="1870"/>
                  </a:lnTo>
                  <a:lnTo>
                    <a:pt x="4357" y="1879"/>
                  </a:lnTo>
                  <a:lnTo>
                    <a:pt x="4346" y="1889"/>
                  </a:lnTo>
                  <a:lnTo>
                    <a:pt x="4336" y="1902"/>
                  </a:lnTo>
                  <a:lnTo>
                    <a:pt x="4328" y="1915"/>
                  </a:lnTo>
                  <a:lnTo>
                    <a:pt x="4320" y="1929"/>
                  </a:lnTo>
                  <a:lnTo>
                    <a:pt x="4313" y="1945"/>
                  </a:lnTo>
                  <a:lnTo>
                    <a:pt x="4306" y="1961"/>
                  </a:lnTo>
                  <a:lnTo>
                    <a:pt x="4300" y="1978"/>
                  </a:lnTo>
                  <a:lnTo>
                    <a:pt x="4293" y="1998"/>
                  </a:lnTo>
                  <a:lnTo>
                    <a:pt x="4288" y="2016"/>
                  </a:lnTo>
                  <a:lnTo>
                    <a:pt x="4278" y="2057"/>
                  </a:lnTo>
                  <a:lnTo>
                    <a:pt x="4268" y="2100"/>
                  </a:lnTo>
                  <a:lnTo>
                    <a:pt x="4259" y="2143"/>
                  </a:lnTo>
                  <a:lnTo>
                    <a:pt x="4248" y="2189"/>
                  </a:lnTo>
                  <a:lnTo>
                    <a:pt x="4241" y="2212"/>
                  </a:lnTo>
                  <a:lnTo>
                    <a:pt x="4235" y="2234"/>
                  </a:lnTo>
                  <a:lnTo>
                    <a:pt x="4228" y="2257"/>
                  </a:lnTo>
                  <a:lnTo>
                    <a:pt x="4221" y="2279"/>
                  </a:lnTo>
                  <a:lnTo>
                    <a:pt x="4214" y="2299"/>
                  </a:lnTo>
                  <a:lnTo>
                    <a:pt x="4205" y="2318"/>
                  </a:lnTo>
                  <a:lnTo>
                    <a:pt x="4195" y="2335"/>
                  </a:lnTo>
                  <a:lnTo>
                    <a:pt x="4185" y="2353"/>
                  </a:lnTo>
                  <a:lnTo>
                    <a:pt x="4174" y="2368"/>
                  </a:lnTo>
                  <a:lnTo>
                    <a:pt x="4162" y="2383"/>
                  </a:lnTo>
                  <a:lnTo>
                    <a:pt x="4150" y="2397"/>
                  </a:lnTo>
                  <a:lnTo>
                    <a:pt x="4136" y="2411"/>
                  </a:lnTo>
                  <a:lnTo>
                    <a:pt x="4122" y="2424"/>
                  </a:lnTo>
                  <a:lnTo>
                    <a:pt x="4108" y="2436"/>
                  </a:lnTo>
                  <a:lnTo>
                    <a:pt x="4092" y="2447"/>
                  </a:lnTo>
                  <a:lnTo>
                    <a:pt x="4077" y="2460"/>
                  </a:lnTo>
                  <a:lnTo>
                    <a:pt x="4044" y="2481"/>
                  </a:lnTo>
                  <a:lnTo>
                    <a:pt x="4010" y="2501"/>
                  </a:lnTo>
                  <a:lnTo>
                    <a:pt x="3936" y="2541"/>
                  </a:lnTo>
                  <a:lnTo>
                    <a:pt x="3860" y="2582"/>
                  </a:lnTo>
                  <a:lnTo>
                    <a:pt x="3821" y="2606"/>
                  </a:lnTo>
                  <a:lnTo>
                    <a:pt x="3782" y="2630"/>
                  </a:lnTo>
                  <a:lnTo>
                    <a:pt x="3764" y="2643"/>
                  </a:lnTo>
                  <a:lnTo>
                    <a:pt x="3744" y="2657"/>
                  </a:lnTo>
                  <a:lnTo>
                    <a:pt x="3726" y="2672"/>
                  </a:lnTo>
                  <a:lnTo>
                    <a:pt x="3708" y="2687"/>
                  </a:lnTo>
                  <a:lnTo>
                    <a:pt x="3621" y="2766"/>
                  </a:lnTo>
                  <a:lnTo>
                    <a:pt x="3528" y="2852"/>
                  </a:lnTo>
                  <a:lnTo>
                    <a:pt x="3504" y="2874"/>
                  </a:lnTo>
                  <a:lnTo>
                    <a:pt x="3478" y="2895"/>
                  </a:lnTo>
                  <a:lnTo>
                    <a:pt x="3454" y="2916"/>
                  </a:lnTo>
                  <a:lnTo>
                    <a:pt x="3428" y="2936"/>
                  </a:lnTo>
                  <a:lnTo>
                    <a:pt x="3403" y="2955"/>
                  </a:lnTo>
                  <a:lnTo>
                    <a:pt x="3376" y="2974"/>
                  </a:lnTo>
                  <a:lnTo>
                    <a:pt x="3349" y="2991"/>
                  </a:lnTo>
                  <a:lnTo>
                    <a:pt x="3323" y="3007"/>
                  </a:lnTo>
                  <a:lnTo>
                    <a:pt x="3296" y="3023"/>
                  </a:lnTo>
                  <a:lnTo>
                    <a:pt x="3269" y="3036"/>
                  </a:lnTo>
                  <a:lnTo>
                    <a:pt x="3241" y="3047"/>
                  </a:lnTo>
                  <a:lnTo>
                    <a:pt x="3214" y="3057"/>
                  </a:lnTo>
                  <a:lnTo>
                    <a:pt x="3185" y="3065"/>
                  </a:lnTo>
                  <a:lnTo>
                    <a:pt x="3157" y="3071"/>
                  </a:lnTo>
                  <a:lnTo>
                    <a:pt x="3129" y="3074"/>
                  </a:lnTo>
                  <a:lnTo>
                    <a:pt x="3100" y="3074"/>
                  </a:lnTo>
                  <a:lnTo>
                    <a:pt x="3071" y="3072"/>
                  </a:lnTo>
                  <a:lnTo>
                    <a:pt x="3042" y="3068"/>
                  </a:lnTo>
                  <a:lnTo>
                    <a:pt x="3013" y="3059"/>
                  </a:lnTo>
                  <a:lnTo>
                    <a:pt x="2984" y="3048"/>
                  </a:lnTo>
                  <a:lnTo>
                    <a:pt x="2955" y="3034"/>
                  </a:lnTo>
                  <a:lnTo>
                    <a:pt x="2925" y="3017"/>
                  </a:lnTo>
                  <a:lnTo>
                    <a:pt x="2895" y="2995"/>
                  </a:lnTo>
                  <a:lnTo>
                    <a:pt x="2866" y="2970"/>
                  </a:lnTo>
                  <a:lnTo>
                    <a:pt x="2846" y="2952"/>
                  </a:lnTo>
                  <a:lnTo>
                    <a:pt x="2826" y="2929"/>
                  </a:lnTo>
                  <a:lnTo>
                    <a:pt x="2803" y="2902"/>
                  </a:lnTo>
                  <a:lnTo>
                    <a:pt x="2779" y="2873"/>
                  </a:lnTo>
                  <a:lnTo>
                    <a:pt x="2754" y="2840"/>
                  </a:lnTo>
                  <a:lnTo>
                    <a:pt x="2729" y="2806"/>
                  </a:lnTo>
                  <a:lnTo>
                    <a:pt x="2704" y="2771"/>
                  </a:lnTo>
                  <a:lnTo>
                    <a:pt x="2679" y="2734"/>
                  </a:lnTo>
                  <a:lnTo>
                    <a:pt x="2654" y="2697"/>
                  </a:lnTo>
                  <a:lnTo>
                    <a:pt x="2632" y="2661"/>
                  </a:lnTo>
                  <a:lnTo>
                    <a:pt x="2610" y="2626"/>
                  </a:lnTo>
                  <a:lnTo>
                    <a:pt x="2590" y="2592"/>
                  </a:lnTo>
                  <a:lnTo>
                    <a:pt x="2572" y="2561"/>
                  </a:lnTo>
                  <a:lnTo>
                    <a:pt x="2557" y="2532"/>
                  </a:lnTo>
                  <a:lnTo>
                    <a:pt x="2544" y="2507"/>
                  </a:lnTo>
                  <a:lnTo>
                    <a:pt x="2536" y="2486"/>
                  </a:lnTo>
                  <a:lnTo>
                    <a:pt x="2529" y="2470"/>
                  </a:lnTo>
                  <a:lnTo>
                    <a:pt x="2521" y="2456"/>
                  </a:lnTo>
                  <a:lnTo>
                    <a:pt x="2513" y="2443"/>
                  </a:lnTo>
                  <a:lnTo>
                    <a:pt x="2502" y="2433"/>
                  </a:lnTo>
                  <a:lnTo>
                    <a:pt x="2492" y="2425"/>
                  </a:lnTo>
                  <a:lnTo>
                    <a:pt x="2481" y="2418"/>
                  </a:lnTo>
                  <a:lnTo>
                    <a:pt x="2470" y="2412"/>
                  </a:lnTo>
                  <a:lnTo>
                    <a:pt x="2458" y="2407"/>
                  </a:lnTo>
                  <a:lnTo>
                    <a:pt x="2431" y="2399"/>
                  </a:lnTo>
                  <a:lnTo>
                    <a:pt x="2403" y="2392"/>
                  </a:lnTo>
                  <a:lnTo>
                    <a:pt x="2389" y="2389"/>
                  </a:lnTo>
                  <a:lnTo>
                    <a:pt x="2375" y="2385"/>
                  </a:lnTo>
                  <a:lnTo>
                    <a:pt x="2361" y="2381"/>
                  </a:lnTo>
                  <a:lnTo>
                    <a:pt x="2345" y="2376"/>
                  </a:lnTo>
                  <a:lnTo>
                    <a:pt x="2318" y="2366"/>
                  </a:lnTo>
                  <a:lnTo>
                    <a:pt x="2287" y="2356"/>
                  </a:lnTo>
                  <a:lnTo>
                    <a:pt x="2254" y="2346"/>
                  </a:lnTo>
                  <a:lnTo>
                    <a:pt x="2220" y="2337"/>
                  </a:lnTo>
                  <a:lnTo>
                    <a:pt x="2184" y="2328"/>
                  </a:lnTo>
                  <a:lnTo>
                    <a:pt x="2147" y="2321"/>
                  </a:lnTo>
                  <a:lnTo>
                    <a:pt x="2111" y="2315"/>
                  </a:lnTo>
                  <a:lnTo>
                    <a:pt x="2074" y="2311"/>
                  </a:lnTo>
                  <a:lnTo>
                    <a:pt x="2055" y="2310"/>
                  </a:lnTo>
                  <a:lnTo>
                    <a:pt x="2038" y="2309"/>
                  </a:lnTo>
                  <a:lnTo>
                    <a:pt x="2021" y="2309"/>
                  </a:lnTo>
                  <a:lnTo>
                    <a:pt x="2004" y="2310"/>
                  </a:lnTo>
                  <a:lnTo>
                    <a:pt x="1988" y="2311"/>
                  </a:lnTo>
                  <a:lnTo>
                    <a:pt x="1973" y="2313"/>
                  </a:lnTo>
                  <a:lnTo>
                    <a:pt x="1957" y="2316"/>
                  </a:lnTo>
                  <a:lnTo>
                    <a:pt x="1943" y="2319"/>
                  </a:lnTo>
                  <a:lnTo>
                    <a:pt x="1930" y="2323"/>
                  </a:lnTo>
                  <a:lnTo>
                    <a:pt x="1918" y="2328"/>
                  </a:lnTo>
                  <a:lnTo>
                    <a:pt x="1906" y="2334"/>
                  </a:lnTo>
                  <a:lnTo>
                    <a:pt x="1895" y="2341"/>
                  </a:lnTo>
                  <a:lnTo>
                    <a:pt x="1886" y="2350"/>
                  </a:lnTo>
                  <a:lnTo>
                    <a:pt x="1878" y="2359"/>
                  </a:lnTo>
                  <a:lnTo>
                    <a:pt x="1871" y="2369"/>
                  </a:lnTo>
                  <a:lnTo>
                    <a:pt x="1866" y="2380"/>
                  </a:lnTo>
                  <a:lnTo>
                    <a:pt x="1843" y="2436"/>
                  </a:lnTo>
                  <a:lnTo>
                    <a:pt x="1822" y="2492"/>
                  </a:lnTo>
                  <a:lnTo>
                    <a:pt x="1802" y="2548"/>
                  </a:lnTo>
                  <a:lnTo>
                    <a:pt x="1785" y="2605"/>
                  </a:lnTo>
                  <a:lnTo>
                    <a:pt x="1768" y="2660"/>
                  </a:lnTo>
                  <a:lnTo>
                    <a:pt x="1752" y="2716"/>
                  </a:lnTo>
                  <a:lnTo>
                    <a:pt x="1738" y="2771"/>
                  </a:lnTo>
                  <a:lnTo>
                    <a:pt x="1725" y="2826"/>
                  </a:lnTo>
                  <a:lnTo>
                    <a:pt x="1713" y="2881"/>
                  </a:lnTo>
                  <a:lnTo>
                    <a:pt x="1701" y="2936"/>
                  </a:lnTo>
                  <a:lnTo>
                    <a:pt x="1691" y="2991"/>
                  </a:lnTo>
                  <a:lnTo>
                    <a:pt x="1681" y="3045"/>
                  </a:lnTo>
                  <a:lnTo>
                    <a:pt x="1664" y="3155"/>
                  </a:lnTo>
                  <a:lnTo>
                    <a:pt x="1647" y="3264"/>
                  </a:lnTo>
                  <a:lnTo>
                    <a:pt x="1619" y="3482"/>
                  </a:lnTo>
                  <a:lnTo>
                    <a:pt x="1590" y="3700"/>
                  </a:lnTo>
                  <a:lnTo>
                    <a:pt x="1574" y="3809"/>
                  </a:lnTo>
                  <a:lnTo>
                    <a:pt x="1555" y="3918"/>
                  </a:lnTo>
                  <a:lnTo>
                    <a:pt x="1545" y="3972"/>
                  </a:lnTo>
                  <a:lnTo>
                    <a:pt x="1534" y="4027"/>
                  </a:lnTo>
                  <a:lnTo>
                    <a:pt x="1523" y="4082"/>
                  </a:lnTo>
                  <a:lnTo>
                    <a:pt x="1510" y="4137"/>
                  </a:lnTo>
                  <a:lnTo>
                    <a:pt x="1492" y="4206"/>
                  </a:lnTo>
                  <a:lnTo>
                    <a:pt x="1471" y="4283"/>
                  </a:lnTo>
                  <a:lnTo>
                    <a:pt x="1445" y="4368"/>
                  </a:lnTo>
                  <a:lnTo>
                    <a:pt x="1416" y="4458"/>
                  </a:lnTo>
                  <a:lnTo>
                    <a:pt x="1400" y="4505"/>
                  </a:lnTo>
                  <a:lnTo>
                    <a:pt x="1383" y="4553"/>
                  </a:lnTo>
                  <a:lnTo>
                    <a:pt x="1366" y="4601"/>
                  </a:lnTo>
                  <a:lnTo>
                    <a:pt x="1347" y="4650"/>
                  </a:lnTo>
                  <a:lnTo>
                    <a:pt x="1328" y="4700"/>
                  </a:lnTo>
                  <a:lnTo>
                    <a:pt x="1307" y="4749"/>
                  </a:lnTo>
                  <a:lnTo>
                    <a:pt x="1287" y="4799"/>
                  </a:lnTo>
                  <a:lnTo>
                    <a:pt x="1266" y="4849"/>
                  </a:lnTo>
                  <a:lnTo>
                    <a:pt x="1243" y="4897"/>
                  </a:lnTo>
                  <a:lnTo>
                    <a:pt x="1221" y="4946"/>
                  </a:lnTo>
                  <a:lnTo>
                    <a:pt x="1197" y="4994"/>
                  </a:lnTo>
                  <a:lnTo>
                    <a:pt x="1174" y="5042"/>
                  </a:lnTo>
                  <a:lnTo>
                    <a:pt x="1149" y="5088"/>
                  </a:lnTo>
                  <a:lnTo>
                    <a:pt x="1124" y="5134"/>
                  </a:lnTo>
                  <a:lnTo>
                    <a:pt x="1098" y="5178"/>
                  </a:lnTo>
                  <a:lnTo>
                    <a:pt x="1072" y="5220"/>
                  </a:lnTo>
                  <a:lnTo>
                    <a:pt x="1045" y="5261"/>
                  </a:lnTo>
                  <a:lnTo>
                    <a:pt x="1019" y="5300"/>
                  </a:lnTo>
                  <a:lnTo>
                    <a:pt x="991" y="5337"/>
                  </a:lnTo>
                  <a:lnTo>
                    <a:pt x="963" y="5372"/>
                  </a:lnTo>
                  <a:lnTo>
                    <a:pt x="935" y="5404"/>
                  </a:lnTo>
                  <a:lnTo>
                    <a:pt x="906" y="5434"/>
                  </a:lnTo>
                  <a:lnTo>
                    <a:pt x="878" y="5461"/>
                  </a:lnTo>
                  <a:lnTo>
                    <a:pt x="848" y="5485"/>
                  </a:lnTo>
                  <a:lnTo>
                    <a:pt x="521" y="4752"/>
                  </a:lnTo>
                  <a:lnTo>
                    <a:pt x="6" y="4807"/>
                  </a:lnTo>
                  <a:lnTo>
                    <a:pt x="5" y="4685"/>
                  </a:lnTo>
                  <a:lnTo>
                    <a:pt x="2" y="4362"/>
                  </a:lnTo>
                  <a:lnTo>
                    <a:pt x="0" y="4144"/>
                  </a:lnTo>
                  <a:lnTo>
                    <a:pt x="0" y="3897"/>
                  </a:lnTo>
                  <a:lnTo>
                    <a:pt x="1" y="3631"/>
                  </a:lnTo>
                  <a:lnTo>
                    <a:pt x="4" y="3351"/>
                  </a:lnTo>
                  <a:lnTo>
                    <a:pt x="6" y="3208"/>
                  </a:lnTo>
                  <a:lnTo>
                    <a:pt x="8" y="3067"/>
                  </a:lnTo>
                  <a:lnTo>
                    <a:pt x="11" y="2924"/>
                  </a:lnTo>
                  <a:lnTo>
                    <a:pt x="15" y="2784"/>
                  </a:lnTo>
                  <a:lnTo>
                    <a:pt x="21" y="2645"/>
                  </a:lnTo>
                  <a:lnTo>
                    <a:pt x="26" y="2511"/>
                  </a:lnTo>
                  <a:lnTo>
                    <a:pt x="32" y="2381"/>
                  </a:lnTo>
                  <a:lnTo>
                    <a:pt x="39" y="2256"/>
                  </a:lnTo>
                  <a:lnTo>
                    <a:pt x="47" y="2137"/>
                  </a:lnTo>
                  <a:lnTo>
                    <a:pt x="55" y="2025"/>
                  </a:lnTo>
                  <a:lnTo>
                    <a:pt x="65" y="1922"/>
                  </a:lnTo>
                  <a:lnTo>
                    <a:pt x="77" y="1828"/>
                  </a:lnTo>
                  <a:lnTo>
                    <a:pt x="88" y="1744"/>
                  </a:lnTo>
                  <a:lnTo>
                    <a:pt x="101" y="1670"/>
                  </a:lnTo>
                  <a:lnTo>
                    <a:pt x="115" y="1609"/>
                  </a:lnTo>
                  <a:lnTo>
                    <a:pt x="132" y="1560"/>
                  </a:lnTo>
                  <a:lnTo>
                    <a:pt x="150" y="1521"/>
                  </a:lnTo>
                  <a:lnTo>
                    <a:pt x="177" y="1479"/>
                  </a:lnTo>
                  <a:lnTo>
                    <a:pt x="209" y="1438"/>
                  </a:lnTo>
                  <a:lnTo>
                    <a:pt x="249" y="1394"/>
                  </a:lnTo>
                  <a:lnTo>
                    <a:pt x="294" y="1349"/>
                  </a:lnTo>
                  <a:lnTo>
                    <a:pt x="344" y="1304"/>
                  </a:lnTo>
                  <a:lnTo>
                    <a:pt x="398" y="1258"/>
                  </a:lnTo>
                  <a:lnTo>
                    <a:pt x="457" y="1212"/>
                  </a:lnTo>
                  <a:lnTo>
                    <a:pt x="520" y="1165"/>
                  </a:lnTo>
                  <a:lnTo>
                    <a:pt x="586" y="1119"/>
                  </a:lnTo>
                  <a:lnTo>
                    <a:pt x="654" y="1072"/>
                  </a:lnTo>
                  <a:lnTo>
                    <a:pt x="724" y="1027"/>
                  </a:lnTo>
                  <a:lnTo>
                    <a:pt x="796" y="981"/>
                  </a:lnTo>
                  <a:lnTo>
                    <a:pt x="869" y="936"/>
                  </a:lnTo>
                  <a:lnTo>
                    <a:pt x="942" y="892"/>
                  </a:lnTo>
                  <a:lnTo>
                    <a:pt x="1017" y="849"/>
                  </a:lnTo>
                  <a:lnTo>
                    <a:pt x="1089" y="807"/>
                  </a:lnTo>
                  <a:lnTo>
                    <a:pt x="1161" y="767"/>
                  </a:lnTo>
                  <a:lnTo>
                    <a:pt x="1232" y="729"/>
                  </a:lnTo>
                  <a:lnTo>
                    <a:pt x="1300" y="691"/>
                  </a:lnTo>
                  <a:lnTo>
                    <a:pt x="1430" y="623"/>
                  </a:lnTo>
                  <a:lnTo>
                    <a:pt x="1544" y="565"/>
                  </a:lnTo>
                  <a:lnTo>
                    <a:pt x="1715" y="480"/>
                  </a:lnTo>
                  <a:lnTo>
                    <a:pt x="1779" y="448"/>
                  </a:lnTo>
                  <a:lnTo>
                    <a:pt x="4073" y="16"/>
                  </a:lnTo>
                  <a:lnTo>
                    <a:pt x="5560" y="0"/>
                  </a:lnTo>
                  <a:lnTo>
                    <a:pt x="5594" y="18"/>
                  </a:lnTo>
                  <a:lnTo>
                    <a:pt x="5629" y="48"/>
                  </a:lnTo>
                  <a:lnTo>
                    <a:pt x="5666" y="92"/>
                  </a:lnTo>
                  <a:lnTo>
                    <a:pt x="5704" y="148"/>
                  </a:lnTo>
                  <a:lnTo>
                    <a:pt x="5743" y="218"/>
                  </a:lnTo>
                  <a:lnTo>
                    <a:pt x="5781" y="297"/>
                  </a:lnTo>
                  <a:lnTo>
                    <a:pt x="5821" y="387"/>
                  </a:lnTo>
                  <a:lnTo>
                    <a:pt x="5862" y="487"/>
                  </a:lnTo>
                  <a:lnTo>
                    <a:pt x="5903" y="596"/>
                  </a:lnTo>
                  <a:lnTo>
                    <a:pt x="5945" y="712"/>
                  </a:lnTo>
                  <a:lnTo>
                    <a:pt x="5986" y="838"/>
                  </a:lnTo>
                  <a:lnTo>
                    <a:pt x="6028" y="969"/>
                  </a:lnTo>
                  <a:lnTo>
                    <a:pt x="6070" y="1107"/>
                  </a:lnTo>
                  <a:lnTo>
                    <a:pt x="6112" y="1251"/>
                  </a:lnTo>
                  <a:lnTo>
                    <a:pt x="6154" y="1399"/>
                  </a:lnTo>
                  <a:lnTo>
                    <a:pt x="6196" y="1551"/>
                  </a:lnTo>
                  <a:lnTo>
                    <a:pt x="6238" y="1706"/>
                  </a:lnTo>
                  <a:lnTo>
                    <a:pt x="6278" y="1864"/>
                  </a:lnTo>
                  <a:lnTo>
                    <a:pt x="6319" y="2024"/>
                  </a:lnTo>
                  <a:lnTo>
                    <a:pt x="6359" y="2185"/>
                  </a:lnTo>
                  <a:lnTo>
                    <a:pt x="6398" y="2347"/>
                  </a:lnTo>
                  <a:lnTo>
                    <a:pt x="6437" y="2509"/>
                  </a:lnTo>
                  <a:lnTo>
                    <a:pt x="6474" y="2669"/>
                  </a:lnTo>
                  <a:lnTo>
                    <a:pt x="6510" y="2828"/>
                  </a:lnTo>
                  <a:lnTo>
                    <a:pt x="6580" y="3138"/>
                  </a:lnTo>
                  <a:lnTo>
                    <a:pt x="6645" y="3433"/>
                  </a:lnTo>
                  <a:lnTo>
                    <a:pt x="6703" y="3707"/>
                  </a:lnTo>
                  <a:lnTo>
                    <a:pt x="6755" y="3955"/>
                  </a:lnTo>
                  <a:lnTo>
                    <a:pt x="6485" y="4198"/>
                  </a:lnTo>
                </a:path>
              </a:pathLst>
            </a:custGeom>
            <a:noFill/>
            <a:ln w="1440">
              <a:solidFill>
                <a:srgbClr val="5898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3383280" y="3737880"/>
              <a:ext cx="2021040" cy="934200"/>
            </a:xfrm>
            <a:custGeom>
              <a:avLst/>
              <a:gdLst/>
              <a:ahLst/>
              <a:rect l="l" t="t" r="r" b="b"/>
              <a:pathLst>
                <a:path w="5216" h="2416">
                  <a:moveTo>
                    <a:pt x="4183" y="1475"/>
                  </a:moveTo>
                  <a:lnTo>
                    <a:pt x="4088" y="1442"/>
                  </a:lnTo>
                  <a:lnTo>
                    <a:pt x="4002" y="1412"/>
                  </a:lnTo>
                  <a:lnTo>
                    <a:pt x="3963" y="1401"/>
                  </a:lnTo>
                  <a:lnTo>
                    <a:pt x="3926" y="1391"/>
                  </a:lnTo>
                  <a:lnTo>
                    <a:pt x="3908" y="1386"/>
                  </a:lnTo>
                  <a:lnTo>
                    <a:pt x="3891" y="1383"/>
                  </a:lnTo>
                  <a:lnTo>
                    <a:pt x="3875" y="1381"/>
                  </a:lnTo>
                  <a:lnTo>
                    <a:pt x="3858" y="1379"/>
                  </a:lnTo>
                  <a:lnTo>
                    <a:pt x="3843" y="1378"/>
                  </a:lnTo>
                  <a:lnTo>
                    <a:pt x="3828" y="1378"/>
                  </a:lnTo>
                  <a:lnTo>
                    <a:pt x="3813" y="1379"/>
                  </a:lnTo>
                  <a:lnTo>
                    <a:pt x="3799" y="1381"/>
                  </a:lnTo>
                  <a:lnTo>
                    <a:pt x="3786" y="1384"/>
                  </a:lnTo>
                  <a:lnTo>
                    <a:pt x="3772" y="1389"/>
                  </a:lnTo>
                  <a:lnTo>
                    <a:pt x="3760" y="1394"/>
                  </a:lnTo>
                  <a:lnTo>
                    <a:pt x="3748" y="1400"/>
                  </a:lnTo>
                  <a:lnTo>
                    <a:pt x="3737" y="1407"/>
                  </a:lnTo>
                  <a:lnTo>
                    <a:pt x="3727" y="1415"/>
                  </a:lnTo>
                  <a:lnTo>
                    <a:pt x="3716" y="1425"/>
                  </a:lnTo>
                  <a:lnTo>
                    <a:pt x="3706" y="1436"/>
                  </a:lnTo>
                  <a:lnTo>
                    <a:pt x="3697" y="1449"/>
                  </a:lnTo>
                  <a:lnTo>
                    <a:pt x="3689" y="1463"/>
                  </a:lnTo>
                  <a:lnTo>
                    <a:pt x="3681" y="1478"/>
                  </a:lnTo>
                  <a:lnTo>
                    <a:pt x="3672" y="1495"/>
                  </a:lnTo>
                  <a:lnTo>
                    <a:pt x="3660" y="1528"/>
                  </a:lnTo>
                  <a:lnTo>
                    <a:pt x="3648" y="1564"/>
                  </a:lnTo>
                  <a:lnTo>
                    <a:pt x="3636" y="1603"/>
                  </a:lnTo>
                  <a:lnTo>
                    <a:pt x="3623" y="1644"/>
                  </a:lnTo>
                  <a:lnTo>
                    <a:pt x="3612" y="1685"/>
                  </a:lnTo>
                  <a:lnTo>
                    <a:pt x="3600" y="1728"/>
                  </a:lnTo>
                  <a:lnTo>
                    <a:pt x="3587" y="1772"/>
                  </a:lnTo>
                  <a:lnTo>
                    <a:pt x="3572" y="1816"/>
                  </a:lnTo>
                  <a:lnTo>
                    <a:pt x="3557" y="1859"/>
                  </a:lnTo>
                  <a:lnTo>
                    <a:pt x="3540" y="1901"/>
                  </a:lnTo>
                  <a:lnTo>
                    <a:pt x="3531" y="1922"/>
                  </a:lnTo>
                  <a:lnTo>
                    <a:pt x="3520" y="1942"/>
                  </a:lnTo>
                  <a:lnTo>
                    <a:pt x="3510" y="1962"/>
                  </a:lnTo>
                  <a:lnTo>
                    <a:pt x="3500" y="1981"/>
                  </a:lnTo>
                  <a:lnTo>
                    <a:pt x="3488" y="1999"/>
                  </a:lnTo>
                  <a:lnTo>
                    <a:pt x="3476" y="2018"/>
                  </a:lnTo>
                  <a:lnTo>
                    <a:pt x="3463" y="2035"/>
                  </a:lnTo>
                  <a:lnTo>
                    <a:pt x="3450" y="2052"/>
                  </a:lnTo>
                  <a:lnTo>
                    <a:pt x="3436" y="2068"/>
                  </a:lnTo>
                  <a:lnTo>
                    <a:pt x="3420" y="2082"/>
                  </a:lnTo>
                  <a:lnTo>
                    <a:pt x="3404" y="2096"/>
                  </a:lnTo>
                  <a:lnTo>
                    <a:pt x="3388" y="2110"/>
                  </a:lnTo>
                  <a:lnTo>
                    <a:pt x="3306" y="2172"/>
                  </a:lnTo>
                  <a:lnTo>
                    <a:pt x="3218" y="2240"/>
                  </a:lnTo>
                  <a:lnTo>
                    <a:pt x="3171" y="2275"/>
                  </a:lnTo>
                  <a:lnTo>
                    <a:pt x="3124" y="2307"/>
                  </a:lnTo>
                  <a:lnTo>
                    <a:pt x="3100" y="2322"/>
                  </a:lnTo>
                  <a:lnTo>
                    <a:pt x="3075" y="2337"/>
                  </a:lnTo>
                  <a:lnTo>
                    <a:pt x="3050" y="2350"/>
                  </a:lnTo>
                  <a:lnTo>
                    <a:pt x="3024" y="2364"/>
                  </a:lnTo>
                  <a:lnTo>
                    <a:pt x="2999" y="2375"/>
                  </a:lnTo>
                  <a:lnTo>
                    <a:pt x="2973" y="2385"/>
                  </a:lnTo>
                  <a:lnTo>
                    <a:pt x="2948" y="2394"/>
                  </a:lnTo>
                  <a:lnTo>
                    <a:pt x="2921" y="2402"/>
                  </a:lnTo>
                  <a:lnTo>
                    <a:pt x="2895" y="2409"/>
                  </a:lnTo>
                  <a:lnTo>
                    <a:pt x="2868" y="2413"/>
                  </a:lnTo>
                  <a:lnTo>
                    <a:pt x="2841" y="2415"/>
                  </a:lnTo>
                  <a:lnTo>
                    <a:pt x="2814" y="2416"/>
                  </a:lnTo>
                  <a:lnTo>
                    <a:pt x="2787" y="2414"/>
                  </a:lnTo>
                  <a:lnTo>
                    <a:pt x="2759" y="2410"/>
                  </a:lnTo>
                  <a:lnTo>
                    <a:pt x="2732" y="2403"/>
                  </a:lnTo>
                  <a:lnTo>
                    <a:pt x="2704" y="2395"/>
                  </a:lnTo>
                  <a:lnTo>
                    <a:pt x="2676" y="2384"/>
                  </a:lnTo>
                  <a:lnTo>
                    <a:pt x="2649" y="2370"/>
                  </a:lnTo>
                  <a:lnTo>
                    <a:pt x="2620" y="2353"/>
                  </a:lnTo>
                  <a:lnTo>
                    <a:pt x="2593" y="2334"/>
                  </a:lnTo>
                  <a:lnTo>
                    <a:pt x="2584" y="2327"/>
                  </a:lnTo>
                  <a:lnTo>
                    <a:pt x="2575" y="2318"/>
                  </a:lnTo>
                  <a:lnTo>
                    <a:pt x="2566" y="2309"/>
                  </a:lnTo>
                  <a:lnTo>
                    <a:pt x="2558" y="2297"/>
                  </a:lnTo>
                  <a:lnTo>
                    <a:pt x="2549" y="2285"/>
                  </a:lnTo>
                  <a:lnTo>
                    <a:pt x="2540" y="2272"/>
                  </a:lnTo>
                  <a:lnTo>
                    <a:pt x="2531" y="2258"/>
                  </a:lnTo>
                  <a:lnTo>
                    <a:pt x="2522" y="2242"/>
                  </a:lnTo>
                  <a:lnTo>
                    <a:pt x="2504" y="2209"/>
                  </a:lnTo>
                  <a:lnTo>
                    <a:pt x="2487" y="2174"/>
                  </a:lnTo>
                  <a:lnTo>
                    <a:pt x="2470" y="2136"/>
                  </a:lnTo>
                  <a:lnTo>
                    <a:pt x="2454" y="2098"/>
                  </a:lnTo>
                  <a:lnTo>
                    <a:pt x="2422" y="2023"/>
                  </a:lnTo>
                  <a:lnTo>
                    <a:pt x="2396" y="1953"/>
                  </a:lnTo>
                  <a:lnTo>
                    <a:pt x="2373" y="1894"/>
                  </a:lnTo>
                  <a:lnTo>
                    <a:pt x="2358" y="1854"/>
                  </a:lnTo>
                  <a:lnTo>
                    <a:pt x="2354" y="1846"/>
                  </a:lnTo>
                  <a:lnTo>
                    <a:pt x="2348" y="1839"/>
                  </a:lnTo>
                  <a:lnTo>
                    <a:pt x="2340" y="1832"/>
                  </a:lnTo>
                  <a:lnTo>
                    <a:pt x="2330" y="1824"/>
                  </a:lnTo>
                  <a:lnTo>
                    <a:pt x="2320" y="1816"/>
                  </a:lnTo>
                  <a:lnTo>
                    <a:pt x="2308" y="1809"/>
                  </a:lnTo>
                  <a:lnTo>
                    <a:pt x="2296" y="1801"/>
                  </a:lnTo>
                  <a:lnTo>
                    <a:pt x="2282" y="1791"/>
                  </a:lnTo>
                  <a:lnTo>
                    <a:pt x="2250" y="1775"/>
                  </a:lnTo>
                  <a:lnTo>
                    <a:pt x="2216" y="1758"/>
                  </a:lnTo>
                  <a:lnTo>
                    <a:pt x="2180" y="1739"/>
                  </a:lnTo>
                  <a:lnTo>
                    <a:pt x="2144" y="1722"/>
                  </a:lnTo>
                  <a:lnTo>
                    <a:pt x="2107" y="1705"/>
                  </a:lnTo>
                  <a:lnTo>
                    <a:pt x="2071" y="1687"/>
                  </a:lnTo>
                  <a:lnTo>
                    <a:pt x="2037" y="1670"/>
                  </a:lnTo>
                  <a:lnTo>
                    <a:pt x="2006" y="1654"/>
                  </a:lnTo>
                  <a:lnTo>
                    <a:pt x="1978" y="1637"/>
                  </a:lnTo>
                  <a:lnTo>
                    <a:pt x="1956" y="1622"/>
                  </a:lnTo>
                  <a:lnTo>
                    <a:pt x="1947" y="1615"/>
                  </a:lnTo>
                  <a:lnTo>
                    <a:pt x="1939" y="1608"/>
                  </a:lnTo>
                  <a:lnTo>
                    <a:pt x="1932" y="1601"/>
                  </a:lnTo>
                  <a:lnTo>
                    <a:pt x="1928" y="1594"/>
                  </a:lnTo>
                  <a:lnTo>
                    <a:pt x="1920" y="1579"/>
                  </a:lnTo>
                  <a:lnTo>
                    <a:pt x="1911" y="1566"/>
                  </a:lnTo>
                  <a:lnTo>
                    <a:pt x="1901" y="1555"/>
                  </a:lnTo>
                  <a:lnTo>
                    <a:pt x="1890" y="1545"/>
                  </a:lnTo>
                  <a:lnTo>
                    <a:pt x="1877" y="1535"/>
                  </a:lnTo>
                  <a:lnTo>
                    <a:pt x="1864" y="1527"/>
                  </a:lnTo>
                  <a:lnTo>
                    <a:pt x="1851" y="1521"/>
                  </a:lnTo>
                  <a:lnTo>
                    <a:pt x="1837" y="1515"/>
                  </a:lnTo>
                  <a:lnTo>
                    <a:pt x="1821" y="1511"/>
                  </a:lnTo>
                  <a:lnTo>
                    <a:pt x="1806" y="1508"/>
                  </a:lnTo>
                  <a:lnTo>
                    <a:pt x="1791" y="1506"/>
                  </a:lnTo>
                  <a:lnTo>
                    <a:pt x="1774" y="1504"/>
                  </a:lnTo>
                  <a:lnTo>
                    <a:pt x="1758" y="1504"/>
                  </a:lnTo>
                  <a:lnTo>
                    <a:pt x="1741" y="1504"/>
                  </a:lnTo>
                  <a:lnTo>
                    <a:pt x="1724" y="1505"/>
                  </a:lnTo>
                  <a:lnTo>
                    <a:pt x="1707" y="1507"/>
                  </a:lnTo>
                  <a:lnTo>
                    <a:pt x="1691" y="1510"/>
                  </a:lnTo>
                  <a:lnTo>
                    <a:pt x="1673" y="1513"/>
                  </a:lnTo>
                  <a:lnTo>
                    <a:pt x="1656" y="1516"/>
                  </a:lnTo>
                  <a:lnTo>
                    <a:pt x="1640" y="1521"/>
                  </a:lnTo>
                  <a:lnTo>
                    <a:pt x="1607" y="1531"/>
                  </a:lnTo>
                  <a:lnTo>
                    <a:pt x="1576" y="1543"/>
                  </a:lnTo>
                  <a:lnTo>
                    <a:pt x="1547" y="1555"/>
                  </a:lnTo>
                  <a:lnTo>
                    <a:pt x="1520" y="1569"/>
                  </a:lnTo>
                  <a:lnTo>
                    <a:pt x="1498" y="1582"/>
                  </a:lnTo>
                  <a:lnTo>
                    <a:pt x="1478" y="1596"/>
                  </a:lnTo>
                  <a:lnTo>
                    <a:pt x="1435" y="1625"/>
                  </a:lnTo>
                  <a:lnTo>
                    <a:pt x="1390" y="1651"/>
                  </a:lnTo>
                  <a:lnTo>
                    <a:pt x="1340" y="1672"/>
                  </a:lnTo>
                  <a:lnTo>
                    <a:pt x="1287" y="1690"/>
                  </a:lnTo>
                  <a:lnTo>
                    <a:pt x="1230" y="1705"/>
                  </a:lnTo>
                  <a:lnTo>
                    <a:pt x="1171" y="1716"/>
                  </a:lnTo>
                  <a:lnTo>
                    <a:pt x="1110" y="1724"/>
                  </a:lnTo>
                  <a:lnTo>
                    <a:pt x="1047" y="1728"/>
                  </a:lnTo>
                  <a:lnTo>
                    <a:pt x="982" y="1730"/>
                  </a:lnTo>
                  <a:lnTo>
                    <a:pt x="917" y="1729"/>
                  </a:lnTo>
                  <a:lnTo>
                    <a:pt x="852" y="1725"/>
                  </a:lnTo>
                  <a:lnTo>
                    <a:pt x="785" y="1718"/>
                  </a:lnTo>
                  <a:lnTo>
                    <a:pt x="719" y="1709"/>
                  </a:lnTo>
                  <a:lnTo>
                    <a:pt x="654" y="1698"/>
                  </a:lnTo>
                  <a:lnTo>
                    <a:pt x="589" y="1683"/>
                  </a:lnTo>
                  <a:lnTo>
                    <a:pt x="526" y="1668"/>
                  </a:lnTo>
                  <a:lnTo>
                    <a:pt x="464" y="1650"/>
                  </a:lnTo>
                  <a:lnTo>
                    <a:pt x="405" y="1630"/>
                  </a:lnTo>
                  <a:lnTo>
                    <a:pt x="348" y="1609"/>
                  </a:lnTo>
                  <a:lnTo>
                    <a:pt x="294" y="1585"/>
                  </a:lnTo>
                  <a:lnTo>
                    <a:pt x="244" y="1561"/>
                  </a:lnTo>
                  <a:lnTo>
                    <a:pt x="197" y="1534"/>
                  </a:lnTo>
                  <a:lnTo>
                    <a:pt x="154" y="1507"/>
                  </a:lnTo>
                  <a:lnTo>
                    <a:pt x="115" y="1479"/>
                  </a:lnTo>
                  <a:lnTo>
                    <a:pt x="81" y="1450"/>
                  </a:lnTo>
                  <a:lnTo>
                    <a:pt x="53" y="1419"/>
                  </a:lnTo>
                  <a:lnTo>
                    <a:pt x="30" y="1389"/>
                  </a:lnTo>
                  <a:lnTo>
                    <a:pt x="13" y="1357"/>
                  </a:lnTo>
                  <a:lnTo>
                    <a:pt x="3" y="1324"/>
                  </a:lnTo>
                  <a:lnTo>
                    <a:pt x="0" y="1292"/>
                  </a:lnTo>
                  <a:lnTo>
                    <a:pt x="4" y="1259"/>
                  </a:lnTo>
                  <a:lnTo>
                    <a:pt x="15" y="1226"/>
                  </a:lnTo>
                  <a:lnTo>
                    <a:pt x="32" y="1195"/>
                  </a:lnTo>
                  <a:lnTo>
                    <a:pt x="57" y="1162"/>
                  </a:lnTo>
                  <a:lnTo>
                    <a:pt x="88" y="1128"/>
                  </a:lnTo>
                  <a:lnTo>
                    <a:pt x="125" y="1095"/>
                  </a:lnTo>
                  <a:lnTo>
                    <a:pt x="167" y="1059"/>
                  </a:lnTo>
                  <a:lnTo>
                    <a:pt x="215" y="1024"/>
                  </a:lnTo>
                  <a:lnTo>
                    <a:pt x="266" y="988"/>
                  </a:lnTo>
                  <a:lnTo>
                    <a:pt x="322" y="952"/>
                  </a:lnTo>
                  <a:lnTo>
                    <a:pt x="380" y="915"/>
                  </a:lnTo>
                  <a:lnTo>
                    <a:pt x="443" y="879"/>
                  </a:lnTo>
                  <a:lnTo>
                    <a:pt x="507" y="842"/>
                  </a:lnTo>
                  <a:lnTo>
                    <a:pt x="573" y="806"/>
                  </a:lnTo>
                  <a:lnTo>
                    <a:pt x="642" y="770"/>
                  </a:lnTo>
                  <a:lnTo>
                    <a:pt x="710" y="735"/>
                  </a:lnTo>
                  <a:lnTo>
                    <a:pt x="779" y="700"/>
                  </a:lnTo>
                  <a:lnTo>
                    <a:pt x="849" y="666"/>
                  </a:lnTo>
                  <a:lnTo>
                    <a:pt x="918" y="634"/>
                  </a:lnTo>
                  <a:lnTo>
                    <a:pt x="985" y="602"/>
                  </a:lnTo>
                  <a:lnTo>
                    <a:pt x="1053" y="573"/>
                  </a:lnTo>
                  <a:lnTo>
                    <a:pt x="1117" y="543"/>
                  </a:lnTo>
                  <a:lnTo>
                    <a:pt x="1240" y="490"/>
                  </a:lnTo>
                  <a:lnTo>
                    <a:pt x="1348" y="444"/>
                  </a:lnTo>
                  <a:lnTo>
                    <a:pt x="1508" y="378"/>
                  </a:lnTo>
                  <a:lnTo>
                    <a:pt x="1569" y="353"/>
                  </a:lnTo>
                  <a:lnTo>
                    <a:pt x="3733" y="10"/>
                  </a:lnTo>
                  <a:lnTo>
                    <a:pt x="5134" y="0"/>
                  </a:lnTo>
                  <a:lnTo>
                    <a:pt x="5162" y="12"/>
                  </a:lnTo>
                  <a:lnTo>
                    <a:pt x="5185" y="32"/>
                  </a:lnTo>
                  <a:lnTo>
                    <a:pt x="5201" y="59"/>
                  </a:lnTo>
                  <a:lnTo>
                    <a:pt x="5211" y="94"/>
                  </a:lnTo>
                  <a:lnTo>
                    <a:pt x="5216" y="135"/>
                  </a:lnTo>
                  <a:lnTo>
                    <a:pt x="5216" y="182"/>
                  </a:lnTo>
                  <a:lnTo>
                    <a:pt x="5210" y="233"/>
                  </a:lnTo>
                  <a:lnTo>
                    <a:pt x="5200" y="290"/>
                  </a:lnTo>
                  <a:lnTo>
                    <a:pt x="5186" y="350"/>
                  </a:lnTo>
                  <a:lnTo>
                    <a:pt x="5166" y="414"/>
                  </a:lnTo>
                  <a:lnTo>
                    <a:pt x="5144" y="482"/>
                  </a:lnTo>
                  <a:lnTo>
                    <a:pt x="5118" y="550"/>
                  </a:lnTo>
                  <a:lnTo>
                    <a:pt x="5087" y="621"/>
                  </a:lnTo>
                  <a:lnTo>
                    <a:pt x="5053" y="693"/>
                  </a:lnTo>
                  <a:lnTo>
                    <a:pt x="5017" y="765"/>
                  </a:lnTo>
                  <a:lnTo>
                    <a:pt x="4978" y="837"/>
                  </a:lnTo>
                  <a:lnTo>
                    <a:pt x="4936" y="908"/>
                  </a:lnTo>
                  <a:lnTo>
                    <a:pt x="4892" y="977"/>
                  </a:lnTo>
                  <a:lnTo>
                    <a:pt x="4846" y="1046"/>
                  </a:lnTo>
                  <a:lnTo>
                    <a:pt x="4799" y="1111"/>
                  </a:lnTo>
                  <a:lnTo>
                    <a:pt x="4749" y="1173"/>
                  </a:lnTo>
                  <a:lnTo>
                    <a:pt x="4699" y="1231"/>
                  </a:lnTo>
                  <a:lnTo>
                    <a:pt x="4648" y="1285"/>
                  </a:lnTo>
                  <a:lnTo>
                    <a:pt x="4596" y="1334"/>
                  </a:lnTo>
                  <a:lnTo>
                    <a:pt x="4543" y="1378"/>
                  </a:lnTo>
                  <a:lnTo>
                    <a:pt x="4490" y="1415"/>
                  </a:lnTo>
                  <a:lnTo>
                    <a:pt x="4438" y="1446"/>
                  </a:lnTo>
                  <a:lnTo>
                    <a:pt x="4385" y="1469"/>
                  </a:lnTo>
                  <a:lnTo>
                    <a:pt x="4333" y="1483"/>
                  </a:lnTo>
                  <a:lnTo>
                    <a:pt x="4282" y="1491"/>
                  </a:lnTo>
                  <a:lnTo>
                    <a:pt x="4232" y="1487"/>
                  </a:lnTo>
                  <a:lnTo>
                    <a:pt x="4183" y="1475"/>
                  </a:lnTo>
                  <a:close/>
                </a:path>
              </a:pathLst>
            </a:custGeom>
            <a:solidFill>
              <a:srgbClr val="5288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3383280" y="3737880"/>
              <a:ext cx="2021040" cy="934200"/>
            </a:xfrm>
            <a:custGeom>
              <a:avLst/>
              <a:gdLst/>
              <a:ahLst/>
              <a:rect l="l" t="t" r="r" b="b"/>
              <a:pathLst>
                <a:path w="5216" h="2416">
                  <a:moveTo>
                    <a:pt x="4183" y="1475"/>
                  </a:moveTo>
                  <a:lnTo>
                    <a:pt x="4088" y="1442"/>
                  </a:lnTo>
                  <a:lnTo>
                    <a:pt x="4002" y="1412"/>
                  </a:lnTo>
                  <a:lnTo>
                    <a:pt x="3963" y="1401"/>
                  </a:lnTo>
                  <a:lnTo>
                    <a:pt x="3926" y="1391"/>
                  </a:lnTo>
                  <a:lnTo>
                    <a:pt x="3908" y="1386"/>
                  </a:lnTo>
                  <a:lnTo>
                    <a:pt x="3891" y="1383"/>
                  </a:lnTo>
                  <a:lnTo>
                    <a:pt x="3875" y="1381"/>
                  </a:lnTo>
                  <a:lnTo>
                    <a:pt x="3858" y="1379"/>
                  </a:lnTo>
                  <a:lnTo>
                    <a:pt x="3843" y="1378"/>
                  </a:lnTo>
                  <a:lnTo>
                    <a:pt x="3828" y="1378"/>
                  </a:lnTo>
                  <a:lnTo>
                    <a:pt x="3813" y="1379"/>
                  </a:lnTo>
                  <a:lnTo>
                    <a:pt x="3799" y="1381"/>
                  </a:lnTo>
                  <a:lnTo>
                    <a:pt x="3786" y="1384"/>
                  </a:lnTo>
                  <a:lnTo>
                    <a:pt x="3772" y="1389"/>
                  </a:lnTo>
                  <a:lnTo>
                    <a:pt x="3760" y="1394"/>
                  </a:lnTo>
                  <a:lnTo>
                    <a:pt x="3748" y="1400"/>
                  </a:lnTo>
                  <a:lnTo>
                    <a:pt x="3737" y="1407"/>
                  </a:lnTo>
                  <a:lnTo>
                    <a:pt x="3727" y="1415"/>
                  </a:lnTo>
                  <a:lnTo>
                    <a:pt x="3716" y="1425"/>
                  </a:lnTo>
                  <a:lnTo>
                    <a:pt x="3706" y="1436"/>
                  </a:lnTo>
                  <a:lnTo>
                    <a:pt x="3697" y="1449"/>
                  </a:lnTo>
                  <a:lnTo>
                    <a:pt x="3689" y="1463"/>
                  </a:lnTo>
                  <a:lnTo>
                    <a:pt x="3681" y="1478"/>
                  </a:lnTo>
                  <a:lnTo>
                    <a:pt x="3672" y="1495"/>
                  </a:lnTo>
                  <a:lnTo>
                    <a:pt x="3660" y="1528"/>
                  </a:lnTo>
                  <a:lnTo>
                    <a:pt x="3648" y="1564"/>
                  </a:lnTo>
                  <a:lnTo>
                    <a:pt x="3636" y="1603"/>
                  </a:lnTo>
                  <a:lnTo>
                    <a:pt x="3623" y="1644"/>
                  </a:lnTo>
                  <a:lnTo>
                    <a:pt x="3612" y="1685"/>
                  </a:lnTo>
                  <a:lnTo>
                    <a:pt x="3600" y="1728"/>
                  </a:lnTo>
                  <a:lnTo>
                    <a:pt x="3587" y="1772"/>
                  </a:lnTo>
                  <a:lnTo>
                    <a:pt x="3572" y="1816"/>
                  </a:lnTo>
                  <a:lnTo>
                    <a:pt x="3557" y="1859"/>
                  </a:lnTo>
                  <a:lnTo>
                    <a:pt x="3540" y="1901"/>
                  </a:lnTo>
                  <a:lnTo>
                    <a:pt x="3531" y="1922"/>
                  </a:lnTo>
                  <a:lnTo>
                    <a:pt x="3520" y="1942"/>
                  </a:lnTo>
                  <a:lnTo>
                    <a:pt x="3510" y="1962"/>
                  </a:lnTo>
                  <a:lnTo>
                    <a:pt x="3500" y="1981"/>
                  </a:lnTo>
                  <a:lnTo>
                    <a:pt x="3488" y="1999"/>
                  </a:lnTo>
                  <a:lnTo>
                    <a:pt x="3476" y="2018"/>
                  </a:lnTo>
                  <a:lnTo>
                    <a:pt x="3463" y="2035"/>
                  </a:lnTo>
                  <a:lnTo>
                    <a:pt x="3450" y="2052"/>
                  </a:lnTo>
                  <a:lnTo>
                    <a:pt x="3436" y="2068"/>
                  </a:lnTo>
                  <a:lnTo>
                    <a:pt x="3420" y="2082"/>
                  </a:lnTo>
                  <a:lnTo>
                    <a:pt x="3404" y="2096"/>
                  </a:lnTo>
                  <a:lnTo>
                    <a:pt x="3388" y="2110"/>
                  </a:lnTo>
                  <a:lnTo>
                    <a:pt x="3306" y="2172"/>
                  </a:lnTo>
                  <a:lnTo>
                    <a:pt x="3218" y="2240"/>
                  </a:lnTo>
                  <a:lnTo>
                    <a:pt x="3171" y="2275"/>
                  </a:lnTo>
                  <a:lnTo>
                    <a:pt x="3124" y="2307"/>
                  </a:lnTo>
                  <a:lnTo>
                    <a:pt x="3100" y="2322"/>
                  </a:lnTo>
                  <a:lnTo>
                    <a:pt x="3075" y="2337"/>
                  </a:lnTo>
                  <a:lnTo>
                    <a:pt x="3050" y="2350"/>
                  </a:lnTo>
                  <a:lnTo>
                    <a:pt x="3024" y="2364"/>
                  </a:lnTo>
                  <a:lnTo>
                    <a:pt x="2999" y="2375"/>
                  </a:lnTo>
                  <a:lnTo>
                    <a:pt x="2973" y="2385"/>
                  </a:lnTo>
                  <a:lnTo>
                    <a:pt x="2948" y="2394"/>
                  </a:lnTo>
                  <a:lnTo>
                    <a:pt x="2921" y="2402"/>
                  </a:lnTo>
                  <a:lnTo>
                    <a:pt x="2895" y="2409"/>
                  </a:lnTo>
                  <a:lnTo>
                    <a:pt x="2868" y="2413"/>
                  </a:lnTo>
                  <a:lnTo>
                    <a:pt x="2841" y="2415"/>
                  </a:lnTo>
                  <a:lnTo>
                    <a:pt x="2814" y="2416"/>
                  </a:lnTo>
                  <a:lnTo>
                    <a:pt x="2787" y="2414"/>
                  </a:lnTo>
                  <a:lnTo>
                    <a:pt x="2759" y="2410"/>
                  </a:lnTo>
                  <a:lnTo>
                    <a:pt x="2732" y="2403"/>
                  </a:lnTo>
                  <a:lnTo>
                    <a:pt x="2704" y="2395"/>
                  </a:lnTo>
                  <a:lnTo>
                    <a:pt x="2676" y="2384"/>
                  </a:lnTo>
                  <a:lnTo>
                    <a:pt x="2649" y="2370"/>
                  </a:lnTo>
                  <a:lnTo>
                    <a:pt x="2620" y="2353"/>
                  </a:lnTo>
                  <a:lnTo>
                    <a:pt x="2593" y="2334"/>
                  </a:lnTo>
                  <a:lnTo>
                    <a:pt x="2584" y="2327"/>
                  </a:lnTo>
                  <a:lnTo>
                    <a:pt x="2575" y="2318"/>
                  </a:lnTo>
                  <a:lnTo>
                    <a:pt x="2566" y="2309"/>
                  </a:lnTo>
                  <a:lnTo>
                    <a:pt x="2558" y="2297"/>
                  </a:lnTo>
                  <a:lnTo>
                    <a:pt x="2549" y="2285"/>
                  </a:lnTo>
                  <a:lnTo>
                    <a:pt x="2540" y="2272"/>
                  </a:lnTo>
                  <a:lnTo>
                    <a:pt x="2531" y="2258"/>
                  </a:lnTo>
                  <a:lnTo>
                    <a:pt x="2522" y="2242"/>
                  </a:lnTo>
                  <a:lnTo>
                    <a:pt x="2504" y="2209"/>
                  </a:lnTo>
                  <a:lnTo>
                    <a:pt x="2487" y="2174"/>
                  </a:lnTo>
                  <a:lnTo>
                    <a:pt x="2470" y="2136"/>
                  </a:lnTo>
                  <a:lnTo>
                    <a:pt x="2454" y="2098"/>
                  </a:lnTo>
                  <a:lnTo>
                    <a:pt x="2422" y="2023"/>
                  </a:lnTo>
                  <a:lnTo>
                    <a:pt x="2396" y="1953"/>
                  </a:lnTo>
                  <a:lnTo>
                    <a:pt x="2373" y="1894"/>
                  </a:lnTo>
                  <a:lnTo>
                    <a:pt x="2358" y="1854"/>
                  </a:lnTo>
                  <a:lnTo>
                    <a:pt x="2354" y="1846"/>
                  </a:lnTo>
                  <a:lnTo>
                    <a:pt x="2348" y="1839"/>
                  </a:lnTo>
                  <a:lnTo>
                    <a:pt x="2340" y="1832"/>
                  </a:lnTo>
                  <a:lnTo>
                    <a:pt x="2330" y="1824"/>
                  </a:lnTo>
                  <a:lnTo>
                    <a:pt x="2320" y="1816"/>
                  </a:lnTo>
                  <a:lnTo>
                    <a:pt x="2308" y="1809"/>
                  </a:lnTo>
                  <a:lnTo>
                    <a:pt x="2296" y="1801"/>
                  </a:lnTo>
                  <a:lnTo>
                    <a:pt x="2282" y="1791"/>
                  </a:lnTo>
                  <a:lnTo>
                    <a:pt x="2250" y="1775"/>
                  </a:lnTo>
                  <a:lnTo>
                    <a:pt x="2216" y="1758"/>
                  </a:lnTo>
                  <a:lnTo>
                    <a:pt x="2180" y="1739"/>
                  </a:lnTo>
                  <a:lnTo>
                    <a:pt x="2144" y="1722"/>
                  </a:lnTo>
                  <a:lnTo>
                    <a:pt x="2107" y="1705"/>
                  </a:lnTo>
                  <a:lnTo>
                    <a:pt x="2071" y="1687"/>
                  </a:lnTo>
                  <a:lnTo>
                    <a:pt x="2037" y="1670"/>
                  </a:lnTo>
                  <a:lnTo>
                    <a:pt x="2006" y="1654"/>
                  </a:lnTo>
                  <a:lnTo>
                    <a:pt x="1978" y="1637"/>
                  </a:lnTo>
                  <a:lnTo>
                    <a:pt x="1956" y="1622"/>
                  </a:lnTo>
                  <a:lnTo>
                    <a:pt x="1947" y="1615"/>
                  </a:lnTo>
                  <a:lnTo>
                    <a:pt x="1939" y="1608"/>
                  </a:lnTo>
                  <a:lnTo>
                    <a:pt x="1932" y="1601"/>
                  </a:lnTo>
                  <a:lnTo>
                    <a:pt x="1928" y="1594"/>
                  </a:lnTo>
                  <a:lnTo>
                    <a:pt x="1920" y="1579"/>
                  </a:lnTo>
                  <a:lnTo>
                    <a:pt x="1911" y="1566"/>
                  </a:lnTo>
                  <a:lnTo>
                    <a:pt x="1901" y="1555"/>
                  </a:lnTo>
                  <a:lnTo>
                    <a:pt x="1890" y="1545"/>
                  </a:lnTo>
                  <a:lnTo>
                    <a:pt x="1877" y="1535"/>
                  </a:lnTo>
                  <a:lnTo>
                    <a:pt x="1864" y="1527"/>
                  </a:lnTo>
                  <a:lnTo>
                    <a:pt x="1851" y="1521"/>
                  </a:lnTo>
                  <a:lnTo>
                    <a:pt x="1837" y="1515"/>
                  </a:lnTo>
                  <a:lnTo>
                    <a:pt x="1821" y="1511"/>
                  </a:lnTo>
                  <a:lnTo>
                    <a:pt x="1806" y="1508"/>
                  </a:lnTo>
                  <a:lnTo>
                    <a:pt x="1791" y="1506"/>
                  </a:lnTo>
                  <a:lnTo>
                    <a:pt x="1774" y="1504"/>
                  </a:lnTo>
                  <a:lnTo>
                    <a:pt x="1758" y="1504"/>
                  </a:lnTo>
                  <a:lnTo>
                    <a:pt x="1741" y="1504"/>
                  </a:lnTo>
                  <a:lnTo>
                    <a:pt x="1724" y="1505"/>
                  </a:lnTo>
                  <a:lnTo>
                    <a:pt x="1707" y="1507"/>
                  </a:lnTo>
                  <a:lnTo>
                    <a:pt x="1691" y="1510"/>
                  </a:lnTo>
                  <a:lnTo>
                    <a:pt x="1673" y="1513"/>
                  </a:lnTo>
                  <a:lnTo>
                    <a:pt x="1656" y="1516"/>
                  </a:lnTo>
                  <a:lnTo>
                    <a:pt x="1640" y="1521"/>
                  </a:lnTo>
                  <a:lnTo>
                    <a:pt x="1607" y="1531"/>
                  </a:lnTo>
                  <a:lnTo>
                    <a:pt x="1576" y="1543"/>
                  </a:lnTo>
                  <a:lnTo>
                    <a:pt x="1547" y="1555"/>
                  </a:lnTo>
                  <a:lnTo>
                    <a:pt x="1520" y="1569"/>
                  </a:lnTo>
                  <a:lnTo>
                    <a:pt x="1498" y="1582"/>
                  </a:lnTo>
                  <a:lnTo>
                    <a:pt x="1478" y="1596"/>
                  </a:lnTo>
                  <a:lnTo>
                    <a:pt x="1435" y="1625"/>
                  </a:lnTo>
                  <a:lnTo>
                    <a:pt x="1390" y="1651"/>
                  </a:lnTo>
                  <a:lnTo>
                    <a:pt x="1340" y="1672"/>
                  </a:lnTo>
                  <a:lnTo>
                    <a:pt x="1287" y="1690"/>
                  </a:lnTo>
                  <a:lnTo>
                    <a:pt x="1230" y="1705"/>
                  </a:lnTo>
                  <a:lnTo>
                    <a:pt x="1171" y="1716"/>
                  </a:lnTo>
                  <a:lnTo>
                    <a:pt x="1110" y="1724"/>
                  </a:lnTo>
                  <a:lnTo>
                    <a:pt x="1047" y="1728"/>
                  </a:lnTo>
                  <a:lnTo>
                    <a:pt x="982" y="1730"/>
                  </a:lnTo>
                  <a:lnTo>
                    <a:pt x="917" y="1729"/>
                  </a:lnTo>
                  <a:lnTo>
                    <a:pt x="852" y="1725"/>
                  </a:lnTo>
                  <a:lnTo>
                    <a:pt x="785" y="1718"/>
                  </a:lnTo>
                  <a:lnTo>
                    <a:pt x="719" y="1709"/>
                  </a:lnTo>
                  <a:lnTo>
                    <a:pt x="654" y="1698"/>
                  </a:lnTo>
                  <a:lnTo>
                    <a:pt x="589" y="1683"/>
                  </a:lnTo>
                  <a:lnTo>
                    <a:pt x="526" y="1668"/>
                  </a:lnTo>
                  <a:lnTo>
                    <a:pt x="464" y="1650"/>
                  </a:lnTo>
                  <a:lnTo>
                    <a:pt x="405" y="1630"/>
                  </a:lnTo>
                  <a:lnTo>
                    <a:pt x="348" y="1609"/>
                  </a:lnTo>
                  <a:lnTo>
                    <a:pt x="294" y="1585"/>
                  </a:lnTo>
                  <a:lnTo>
                    <a:pt x="244" y="1561"/>
                  </a:lnTo>
                  <a:lnTo>
                    <a:pt x="197" y="1534"/>
                  </a:lnTo>
                  <a:lnTo>
                    <a:pt x="154" y="1507"/>
                  </a:lnTo>
                  <a:lnTo>
                    <a:pt x="115" y="1479"/>
                  </a:lnTo>
                  <a:lnTo>
                    <a:pt x="81" y="1450"/>
                  </a:lnTo>
                  <a:lnTo>
                    <a:pt x="53" y="1419"/>
                  </a:lnTo>
                  <a:lnTo>
                    <a:pt x="30" y="1389"/>
                  </a:lnTo>
                  <a:lnTo>
                    <a:pt x="13" y="1357"/>
                  </a:lnTo>
                  <a:lnTo>
                    <a:pt x="3" y="1324"/>
                  </a:lnTo>
                  <a:lnTo>
                    <a:pt x="0" y="1292"/>
                  </a:lnTo>
                  <a:lnTo>
                    <a:pt x="4" y="1259"/>
                  </a:lnTo>
                  <a:lnTo>
                    <a:pt x="15" y="1226"/>
                  </a:lnTo>
                  <a:lnTo>
                    <a:pt x="32" y="1195"/>
                  </a:lnTo>
                  <a:lnTo>
                    <a:pt x="57" y="1162"/>
                  </a:lnTo>
                  <a:lnTo>
                    <a:pt x="88" y="1128"/>
                  </a:lnTo>
                  <a:lnTo>
                    <a:pt x="125" y="1095"/>
                  </a:lnTo>
                  <a:lnTo>
                    <a:pt x="167" y="1059"/>
                  </a:lnTo>
                  <a:lnTo>
                    <a:pt x="215" y="1024"/>
                  </a:lnTo>
                  <a:lnTo>
                    <a:pt x="266" y="988"/>
                  </a:lnTo>
                  <a:lnTo>
                    <a:pt x="322" y="952"/>
                  </a:lnTo>
                  <a:lnTo>
                    <a:pt x="380" y="915"/>
                  </a:lnTo>
                  <a:lnTo>
                    <a:pt x="443" y="879"/>
                  </a:lnTo>
                  <a:lnTo>
                    <a:pt x="507" y="842"/>
                  </a:lnTo>
                  <a:lnTo>
                    <a:pt x="573" y="806"/>
                  </a:lnTo>
                  <a:lnTo>
                    <a:pt x="642" y="770"/>
                  </a:lnTo>
                  <a:lnTo>
                    <a:pt x="710" y="735"/>
                  </a:lnTo>
                  <a:lnTo>
                    <a:pt x="779" y="700"/>
                  </a:lnTo>
                  <a:lnTo>
                    <a:pt x="849" y="666"/>
                  </a:lnTo>
                  <a:lnTo>
                    <a:pt x="918" y="634"/>
                  </a:lnTo>
                  <a:lnTo>
                    <a:pt x="985" y="602"/>
                  </a:lnTo>
                  <a:lnTo>
                    <a:pt x="1053" y="573"/>
                  </a:lnTo>
                  <a:lnTo>
                    <a:pt x="1117" y="543"/>
                  </a:lnTo>
                  <a:lnTo>
                    <a:pt x="1240" y="490"/>
                  </a:lnTo>
                  <a:lnTo>
                    <a:pt x="1348" y="444"/>
                  </a:lnTo>
                  <a:lnTo>
                    <a:pt x="1508" y="378"/>
                  </a:lnTo>
                  <a:lnTo>
                    <a:pt x="1569" y="353"/>
                  </a:lnTo>
                  <a:lnTo>
                    <a:pt x="3733" y="10"/>
                  </a:lnTo>
                  <a:lnTo>
                    <a:pt x="5134" y="0"/>
                  </a:lnTo>
                  <a:lnTo>
                    <a:pt x="5162" y="12"/>
                  </a:lnTo>
                  <a:lnTo>
                    <a:pt x="5185" y="32"/>
                  </a:lnTo>
                  <a:lnTo>
                    <a:pt x="5201" y="59"/>
                  </a:lnTo>
                  <a:lnTo>
                    <a:pt x="5211" y="94"/>
                  </a:lnTo>
                  <a:lnTo>
                    <a:pt x="5216" y="135"/>
                  </a:lnTo>
                  <a:lnTo>
                    <a:pt x="5216" y="182"/>
                  </a:lnTo>
                  <a:lnTo>
                    <a:pt x="5210" y="233"/>
                  </a:lnTo>
                  <a:lnTo>
                    <a:pt x="5200" y="290"/>
                  </a:lnTo>
                  <a:lnTo>
                    <a:pt x="5186" y="350"/>
                  </a:lnTo>
                  <a:lnTo>
                    <a:pt x="5166" y="414"/>
                  </a:lnTo>
                  <a:lnTo>
                    <a:pt x="5144" y="482"/>
                  </a:lnTo>
                  <a:lnTo>
                    <a:pt x="5118" y="550"/>
                  </a:lnTo>
                  <a:lnTo>
                    <a:pt x="5087" y="621"/>
                  </a:lnTo>
                  <a:lnTo>
                    <a:pt x="5053" y="693"/>
                  </a:lnTo>
                  <a:lnTo>
                    <a:pt x="5017" y="765"/>
                  </a:lnTo>
                  <a:lnTo>
                    <a:pt x="4978" y="837"/>
                  </a:lnTo>
                  <a:lnTo>
                    <a:pt x="4936" y="908"/>
                  </a:lnTo>
                  <a:lnTo>
                    <a:pt x="4892" y="977"/>
                  </a:lnTo>
                  <a:lnTo>
                    <a:pt x="4846" y="1046"/>
                  </a:lnTo>
                  <a:lnTo>
                    <a:pt x="4799" y="1111"/>
                  </a:lnTo>
                  <a:lnTo>
                    <a:pt x="4749" y="1173"/>
                  </a:lnTo>
                  <a:lnTo>
                    <a:pt x="4699" y="1231"/>
                  </a:lnTo>
                  <a:lnTo>
                    <a:pt x="4648" y="1285"/>
                  </a:lnTo>
                  <a:lnTo>
                    <a:pt x="4596" y="1334"/>
                  </a:lnTo>
                  <a:lnTo>
                    <a:pt x="4543" y="1378"/>
                  </a:lnTo>
                  <a:lnTo>
                    <a:pt x="4490" y="1415"/>
                  </a:lnTo>
                  <a:lnTo>
                    <a:pt x="4438" y="1446"/>
                  </a:lnTo>
                  <a:lnTo>
                    <a:pt x="4385" y="1469"/>
                  </a:lnTo>
                  <a:lnTo>
                    <a:pt x="4333" y="1483"/>
                  </a:lnTo>
                  <a:lnTo>
                    <a:pt x="4282" y="1491"/>
                  </a:lnTo>
                  <a:lnTo>
                    <a:pt x="4232" y="1487"/>
                  </a:lnTo>
                  <a:lnTo>
                    <a:pt x="4183" y="1475"/>
                  </a:lnTo>
                </a:path>
              </a:pathLst>
            </a:custGeom>
            <a:noFill/>
            <a:ln w="1440">
              <a:solidFill>
                <a:srgbClr val="52887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3263400" y="3735360"/>
              <a:ext cx="2242080" cy="2046600"/>
            </a:xfrm>
            <a:custGeom>
              <a:avLst/>
              <a:gdLst/>
              <a:ahLst/>
              <a:rect l="l" t="t" r="r" b="b"/>
              <a:pathLst>
                <a:path w="5787" h="5290">
                  <a:moveTo>
                    <a:pt x="5638" y="5290"/>
                  </a:moveTo>
                  <a:lnTo>
                    <a:pt x="5642" y="5232"/>
                  </a:lnTo>
                  <a:lnTo>
                    <a:pt x="5653" y="5069"/>
                  </a:lnTo>
                  <a:lnTo>
                    <a:pt x="5670" y="4814"/>
                  </a:lnTo>
                  <a:lnTo>
                    <a:pt x="5691" y="4482"/>
                  </a:lnTo>
                  <a:lnTo>
                    <a:pt x="5702" y="4292"/>
                  </a:lnTo>
                  <a:lnTo>
                    <a:pt x="5713" y="4089"/>
                  </a:lnTo>
                  <a:lnTo>
                    <a:pt x="5724" y="3875"/>
                  </a:lnTo>
                  <a:lnTo>
                    <a:pt x="5735" y="3651"/>
                  </a:lnTo>
                  <a:lnTo>
                    <a:pt x="5746" y="3419"/>
                  </a:lnTo>
                  <a:lnTo>
                    <a:pt x="5755" y="3181"/>
                  </a:lnTo>
                  <a:lnTo>
                    <a:pt x="5764" y="2939"/>
                  </a:lnTo>
                  <a:lnTo>
                    <a:pt x="5772" y="2694"/>
                  </a:lnTo>
                  <a:lnTo>
                    <a:pt x="5779" y="2449"/>
                  </a:lnTo>
                  <a:lnTo>
                    <a:pt x="5784" y="2206"/>
                  </a:lnTo>
                  <a:lnTo>
                    <a:pt x="5786" y="1966"/>
                  </a:lnTo>
                  <a:lnTo>
                    <a:pt x="5787" y="1731"/>
                  </a:lnTo>
                  <a:lnTo>
                    <a:pt x="5786" y="1504"/>
                  </a:lnTo>
                  <a:lnTo>
                    <a:pt x="5782" y="1285"/>
                  </a:lnTo>
                  <a:lnTo>
                    <a:pt x="5774" y="1077"/>
                  </a:lnTo>
                  <a:lnTo>
                    <a:pt x="5765" y="881"/>
                  </a:lnTo>
                  <a:lnTo>
                    <a:pt x="5752" y="701"/>
                  </a:lnTo>
                  <a:lnTo>
                    <a:pt x="5736" y="537"/>
                  </a:lnTo>
                  <a:lnTo>
                    <a:pt x="5716" y="391"/>
                  </a:lnTo>
                  <a:lnTo>
                    <a:pt x="5692" y="265"/>
                  </a:lnTo>
                  <a:lnTo>
                    <a:pt x="5664" y="161"/>
                  </a:lnTo>
                  <a:lnTo>
                    <a:pt x="5632" y="81"/>
                  </a:lnTo>
                  <a:lnTo>
                    <a:pt x="5595" y="27"/>
                  </a:lnTo>
                  <a:lnTo>
                    <a:pt x="5553" y="0"/>
                  </a:lnTo>
                  <a:lnTo>
                    <a:pt x="1586" y="76"/>
                  </a:lnTo>
                  <a:lnTo>
                    <a:pt x="1532" y="104"/>
                  </a:lnTo>
                  <a:lnTo>
                    <a:pt x="1389" y="184"/>
                  </a:lnTo>
                  <a:lnTo>
                    <a:pt x="1293" y="239"/>
                  </a:lnTo>
                  <a:lnTo>
                    <a:pt x="1185" y="303"/>
                  </a:lnTo>
                  <a:lnTo>
                    <a:pt x="1127" y="339"/>
                  </a:lnTo>
                  <a:lnTo>
                    <a:pt x="1068" y="376"/>
                  </a:lnTo>
                  <a:lnTo>
                    <a:pt x="1007" y="414"/>
                  </a:lnTo>
                  <a:lnTo>
                    <a:pt x="944" y="454"/>
                  </a:lnTo>
                  <a:lnTo>
                    <a:pt x="882" y="495"/>
                  </a:lnTo>
                  <a:lnTo>
                    <a:pt x="820" y="538"/>
                  </a:lnTo>
                  <a:lnTo>
                    <a:pt x="758" y="581"/>
                  </a:lnTo>
                  <a:lnTo>
                    <a:pt x="696" y="625"/>
                  </a:lnTo>
                  <a:lnTo>
                    <a:pt x="636" y="670"/>
                  </a:lnTo>
                  <a:lnTo>
                    <a:pt x="578" y="715"/>
                  </a:lnTo>
                  <a:lnTo>
                    <a:pt x="521" y="761"/>
                  </a:lnTo>
                  <a:lnTo>
                    <a:pt x="467" y="807"/>
                  </a:lnTo>
                  <a:lnTo>
                    <a:pt x="416" y="853"/>
                  </a:lnTo>
                  <a:lnTo>
                    <a:pt x="368" y="899"/>
                  </a:lnTo>
                  <a:lnTo>
                    <a:pt x="324" y="945"/>
                  </a:lnTo>
                  <a:lnTo>
                    <a:pt x="284" y="991"/>
                  </a:lnTo>
                  <a:lnTo>
                    <a:pt x="248" y="1036"/>
                  </a:lnTo>
                  <a:lnTo>
                    <a:pt x="218" y="1079"/>
                  </a:lnTo>
                  <a:lnTo>
                    <a:pt x="192" y="1122"/>
                  </a:lnTo>
                  <a:lnTo>
                    <a:pt x="174" y="1165"/>
                  </a:lnTo>
                  <a:lnTo>
                    <a:pt x="158" y="1214"/>
                  </a:lnTo>
                  <a:lnTo>
                    <a:pt x="143" y="1278"/>
                  </a:lnTo>
                  <a:lnTo>
                    <a:pt x="129" y="1357"/>
                  </a:lnTo>
                  <a:lnTo>
                    <a:pt x="116" y="1449"/>
                  </a:lnTo>
                  <a:lnTo>
                    <a:pt x="104" y="1552"/>
                  </a:lnTo>
                  <a:lnTo>
                    <a:pt x="93" y="1665"/>
                  </a:lnTo>
                  <a:lnTo>
                    <a:pt x="83" y="1788"/>
                  </a:lnTo>
                  <a:lnTo>
                    <a:pt x="73" y="1921"/>
                  </a:lnTo>
                  <a:lnTo>
                    <a:pt x="65" y="2060"/>
                  </a:lnTo>
                  <a:lnTo>
                    <a:pt x="57" y="2205"/>
                  </a:lnTo>
                  <a:lnTo>
                    <a:pt x="49" y="2356"/>
                  </a:lnTo>
                  <a:lnTo>
                    <a:pt x="42" y="2511"/>
                  </a:lnTo>
                  <a:lnTo>
                    <a:pt x="36" y="2670"/>
                  </a:lnTo>
                  <a:lnTo>
                    <a:pt x="31" y="2830"/>
                  </a:lnTo>
                  <a:lnTo>
                    <a:pt x="26" y="2990"/>
                  </a:lnTo>
                  <a:lnTo>
                    <a:pt x="22" y="3151"/>
                  </a:lnTo>
                  <a:lnTo>
                    <a:pt x="15" y="3467"/>
                  </a:lnTo>
                  <a:lnTo>
                    <a:pt x="10" y="3769"/>
                  </a:lnTo>
                  <a:lnTo>
                    <a:pt x="6" y="4050"/>
                  </a:lnTo>
                  <a:lnTo>
                    <a:pt x="2" y="4297"/>
                  </a:lnTo>
                  <a:lnTo>
                    <a:pt x="0" y="4666"/>
                  </a:lnTo>
                  <a:lnTo>
                    <a:pt x="0" y="4804"/>
                  </a:lnTo>
                </a:path>
              </a:pathLst>
            </a:custGeom>
            <a:noFill/>
            <a:ln w="46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4752360" y="3574800"/>
              <a:ext cx="514800" cy="551160"/>
            </a:xfrm>
            <a:custGeom>
              <a:avLst/>
              <a:gdLst/>
              <a:ahLst/>
              <a:rect l="l" t="t" r="r" b="b"/>
              <a:pathLst>
                <a:path w="1333" h="1426">
                  <a:moveTo>
                    <a:pt x="1333" y="1096"/>
                  </a:moveTo>
                  <a:lnTo>
                    <a:pt x="1253" y="1423"/>
                  </a:lnTo>
                  <a:lnTo>
                    <a:pt x="1252" y="1424"/>
                  </a:lnTo>
                  <a:lnTo>
                    <a:pt x="1247" y="1425"/>
                  </a:lnTo>
                  <a:lnTo>
                    <a:pt x="1239" y="1426"/>
                  </a:lnTo>
                  <a:lnTo>
                    <a:pt x="1227" y="1425"/>
                  </a:lnTo>
                  <a:lnTo>
                    <a:pt x="1220" y="1423"/>
                  </a:lnTo>
                  <a:lnTo>
                    <a:pt x="1211" y="1421"/>
                  </a:lnTo>
                  <a:lnTo>
                    <a:pt x="1202" y="1417"/>
                  </a:lnTo>
                  <a:lnTo>
                    <a:pt x="1191" y="1412"/>
                  </a:lnTo>
                  <a:lnTo>
                    <a:pt x="1179" y="1405"/>
                  </a:lnTo>
                  <a:lnTo>
                    <a:pt x="1166" y="1396"/>
                  </a:lnTo>
                  <a:lnTo>
                    <a:pt x="1152" y="1386"/>
                  </a:lnTo>
                  <a:lnTo>
                    <a:pt x="1136" y="1373"/>
                  </a:lnTo>
                  <a:lnTo>
                    <a:pt x="1119" y="1359"/>
                  </a:lnTo>
                  <a:lnTo>
                    <a:pt x="1101" y="1342"/>
                  </a:lnTo>
                  <a:lnTo>
                    <a:pt x="1081" y="1323"/>
                  </a:lnTo>
                  <a:lnTo>
                    <a:pt x="1061" y="1301"/>
                  </a:lnTo>
                  <a:lnTo>
                    <a:pt x="1037" y="1276"/>
                  </a:lnTo>
                  <a:lnTo>
                    <a:pt x="1014" y="1248"/>
                  </a:lnTo>
                  <a:lnTo>
                    <a:pt x="989" y="1217"/>
                  </a:lnTo>
                  <a:lnTo>
                    <a:pt x="962" y="1182"/>
                  </a:lnTo>
                  <a:lnTo>
                    <a:pt x="932" y="1145"/>
                  </a:lnTo>
                  <a:lnTo>
                    <a:pt x="903" y="1103"/>
                  </a:lnTo>
                  <a:lnTo>
                    <a:pt x="870" y="1057"/>
                  </a:lnTo>
                  <a:lnTo>
                    <a:pt x="836" y="1008"/>
                  </a:lnTo>
                  <a:lnTo>
                    <a:pt x="802" y="954"/>
                  </a:lnTo>
                  <a:lnTo>
                    <a:pt x="764" y="896"/>
                  </a:lnTo>
                  <a:lnTo>
                    <a:pt x="725" y="833"/>
                  </a:lnTo>
                  <a:lnTo>
                    <a:pt x="684" y="766"/>
                  </a:lnTo>
                  <a:lnTo>
                    <a:pt x="673" y="749"/>
                  </a:lnTo>
                  <a:lnTo>
                    <a:pt x="661" y="731"/>
                  </a:lnTo>
                  <a:lnTo>
                    <a:pt x="647" y="714"/>
                  </a:lnTo>
                  <a:lnTo>
                    <a:pt x="631" y="697"/>
                  </a:lnTo>
                  <a:lnTo>
                    <a:pt x="615" y="679"/>
                  </a:lnTo>
                  <a:lnTo>
                    <a:pt x="597" y="662"/>
                  </a:lnTo>
                  <a:lnTo>
                    <a:pt x="577" y="645"/>
                  </a:lnTo>
                  <a:lnTo>
                    <a:pt x="558" y="628"/>
                  </a:lnTo>
                  <a:lnTo>
                    <a:pt x="516" y="595"/>
                  </a:lnTo>
                  <a:lnTo>
                    <a:pt x="472" y="561"/>
                  </a:lnTo>
                  <a:lnTo>
                    <a:pt x="427" y="529"/>
                  </a:lnTo>
                  <a:lnTo>
                    <a:pt x="381" y="499"/>
                  </a:lnTo>
                  <a:lnTo>
                    <a:pt x="295" y="443"/>
                  </a:lnTo>
                  <a:lnTo>
                    <a:pt x="218" y="395"/>
                  </a:lnTo>
                  <a:lnTo>
                    <a:pt x="186" y="375"/>
                  </a:lnTo>
                  <a:lnTo>
                    <a:pt x="160" y="358"/>
                  </a:lnTo>
                  <a:lnTo>
                    <a:pt x="140" y="345"/>
                  </a:lnTo>
                  <a:lnTo>
                    <a:pt x="128" y="335"/>
                  </a:lnTo>
                  <a:lnTo>
                    <a:pt x="111" y="315"/>
                  </a:lnTo>
                  <a:lnTo>
                    <a:pt x="90" y="294"/>
                  </a:lnTo>
                  <a:lnTo>
                    <a:pt x="69" y="271"/>
                  </a:lnTo>
                  <a:lnTo>
                    <a:pt x="48" y="250"/>
                  </a:lnTo>
                  <a:lnTo>
                    <a:pt x="29" y="230"/>
                  </a:lnTo>
                  <a:lnTo>
                    <a:pt x="14" y="214"/>
                  </a:lnTo>
                  <a:lnTo>
                    <a:pt x="3" y="203"/>
                  </a:lnTo>
                  <a:lnTo>
                    <a:pt x="0" y="199"/>
                  </a:lnTo>
                  <a:lnTo>
                    <a:pt x="0" y="188"/>
                  </a:lnTo>
                  <a:lnTo>
                    <a:pt x="4" y="159"/>
                  </a:lnTo>
                  <a:lnTo>
                    <a:pt x="8" y="140"/>
                  </a:lnTo>
                  <a:lnTo>
                    <a:pt x="12" y="119"/>
                  </a:lnTo>
                  <a:lnTo>
                    <a:pt x="19" y="98"/>
                  </a:lnTo>
                  <a:lnTo>
                    <a:pt x="27" y="77"/>
                  </a:lnTo>
                  <a:lnTo>
                    <a:pt x="31" y="66"/>
                  </a:lnTo>
                  <a:lnTo>
                    <a:pt x="37" y="56"/>
                  </a:lnTo>
                  <a:lnTo>
                    <a:pt x="42" y="47"/>
                  </a:lnTo>
                  <a:lnTo>
                    <a:pt x="50" y="38"/>
                  </a:lnTo>
                  <a:lnTo>
                    <a:pt x="57" y="30"/>
                  </a:lnTo>
                  <a:lnTo>
                    <a:pt x="64" y="21"/>
                  </a:lnTo>
                  <a:lnTo>
                    <a:pt x="72" y="15"/>
                  </a:lnTo>
                  <a:lnTo>
                    <a:pt x="81" y="9"/>
                  </a:lnTo>
                  <a:lnTo>
                    <a:pt x="91" y="5"/>
                  </a:lnTo>
                  <a:lnTo>
                    <a:pt x="102" y="2"/>
                  </a:lnTo>
                  <a:lnTo>
                    <a:pt x="113" y="0"/>
                  </a:lnTo>
                  <a:lnTo>
                    <a:pt x="125" y="0"/>
                  </a:lnTo>
                  <a:lnTo>
                    <a:pt x="137" y="1"/>
                  </a:lnTo>
                  <a:lnTo>
                    <a:pt x="152" y="4"/>
                  </a:lnTo>
                  <a:lnTo>
                    <a:pt x="166" y="9"/>
                  </a:lnTo>
                  <a:lnTo>
                    <a:pt x="181" y="15"/>
                  </a:lnTo>
                  <a:lnTo>
                    <a:pt x="229" y="40"/>
                  </a:lnTo>
                  <a:lnTo>
                    <a:pt x="286" y="70"/>
                  </a:lnTo>
                  <a:lnTo>
                    <a:pt x="354" y="104"/>
                  </a:lnTo>
                  <a:lnTo>
                    <a:pt x="428" y="141"/>
                  </a:lnTo>
                  <a:lnTo>
                    <a:pt x="467" y="160"/>
                  </a:lnTo>
                  <a:lnTo>
                    <a:pt x="508" y="179"/>
                  </a:lnTo>
                  <a:lnTo>
                    <a:pt x="549" y="198"/>
                  </a:lnTo>
                  <a:lnTo>
                    <a:pt x="592" y="216"/>
                  </a:lnTo>
                  <a:lnTo>
                    <a:pt x="634" y="235"/>
                  </a:lnTo>
                  <a:lnTo>
                    <a:pt x="677" y="252"/>
                  </a:lnTo>
                  <a:lnTo>
                    <a:pt x="721" y="268"/>
                  </a:lnTo>
                  <a:lnTo>
                    <a:pt x="765" y="284"/>
                  </a:lnTo>
                  <a:lnTo>
                    <a:pt x="790" y="292"/>
                  </a:lnTo>
                  <a:lnTo>
                    <a:pt x="813" y="299"/>
                  </a:lnTo>
                  <a:lnTo>
                    <a:pt x="835" y="305"/>
                  </a:lnTo>
                  <a:lnTo>
                    <a:pt x="858" y="310"/>
                  </a:lnTo>
                  <a:lnTo>
                    <a:pt x="901" y="318"/>
                  </a:lnTo>
                  <a:lnTo>
                    <a:pt x="942" y="326"/>
                  </a:lnTo>
                  <a:lnTo>
                    <a:pt x="961" y="330"/>
                  </a:lnTo>
                  <a:lnTo>
                    <a:pt x="979" y="334"/>
                  </a:lnTo>
                  <a:lnTo>
                    <a:pt x="997" y="338"/>
                  </a:lnTo>
                  <a:lnTo>
                    <a:pt x="1014" y="343"/>
                  </a:lnTo>
                  <a:lnTo>
                    <a:pt x="1030" y="349"/>
                  </a:lnTo>
                  <a:lnTo>
                    <a:pt x="1047" y="356"/>
                  </a:lnTo>
                  <a:lnTo>
                    <a:pt x="1061" y="363"/>
                  </a:lnTo>
                  <a:lnTo>
                    <a:pt x="1075" y="372"/>
                  </a:lnTo>
                  <a:lnTo>
                    <a:pt x="1081" y="377"/>
                  </a:lnTo>
                  <a:lnTo>
                    <a:pt x="1086" y="382"/>
                  </a:lnTo>
                  <a:lnTo>
                    <a:pt x="1091" y="387"/>
                  </a:lnTo>
                  <a:lnTo>
                    <a:pt x="1096" y="393"/>
                  </a:lnTo>
                  <a:lnTo>
                    <a:pt x="1103" y="404"/>
                  </a:lnTo>
                  <a:lnTo>
                    <a:pt x="1109" y="417"/>
                  </a:lnTo>
                  <a:lnTo>
                    <a:pt x="1114" y="431"/>
                  </a:lnTo>
                  <a:lnTo>
                    <a:pt x="1118" y="444"/>
                  </a:lnTo>
                  <a:lnTo>
                    <a:pt x="1122" y="458"/>
                  </a:lnTo>
                  <a:lnTo>
                    <a:pt x="1125" y="471"/>
                  </a:lnTo>
                  <a:lnTo>
                    <a:pt x="1129" y="496"/>
                  </a:lnTo>
                  <a:lnTo>
                    <a:pt x="1134" y="515"/>
                  </a:lnTo>
                  <a:lnTo>
                    <a:pt x="1136" y="522"/>
                  </a:lnTo>
                  <a:lnTo>
                    <a:pt x="1140" y="528"/>
                  </a:lnTo>
                  <a:lnTo>
                    <a:pt x="1142" y="529"/>
                  </a:lnTo>
                  <a:lnTo>
                    <a:pt x="1144" y="531"/>
                  </a:lnTo>
                  <a:lnTo>
                    <a:pt x="1146" y="531"/>
                  </a:lnTo>
                  <a:lnTo>
                    <a:pt x="1148" y="531"/>
                  </a:lnTo>
                  <a:lnTo>
                    <a:pt x="1333" y="1096"/>
                  </a:lnTo>
                  <a:close/>
                </a:path>
              </a:pathLst>
            </a:custGeom>
            <a:solidFill>
              <a:srgbClr val="d8aa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4752360" y="3574800"/>
              <a:ext cx="514800" cy="551160"/>
            </a:xfrm>
            <a:custGeom>
              <a:avLst/>
              <a:gdLst/>
              <a:ahLst/>
              <a:rect l="l" t="t" r="r" b="b"/>
              <a:pathLst>
                <a:path w="1333" h="1426">
                  <a:moveTo>
                    <a:pt x="1333" y="1096"/>
                  </a:moveTo>
                  <a:lnTo>
                    <a:pt x="1253" y="1423"/>
                  </a:lnTo>
                  <a:lnTo>
                    <a:pt x="1252" y="1424"/>
                  </a:lnTo>
                  <a:lnTo>
                    <a:pt x="1247" y="1425"/>
                  </a:lnTo>
                  <a:lnTo>
                    <a:pt x="1239" y="1426"/>
                  </a:lnTo>
                  <a:lnTo>
                    <a:pt x="1227" y="1425"/>
                  </a:lnTo>
                  <a:lnTo>
                    <a:pt x="1220" y="1423"/>
                  </a:lnTo>
                  <a:lnTo>
                    <a:pt x="1211" y="1421"/>
                  </a:lnTo>
                  <a:lnTo>
                    <a:pt x="1202" y="1417"/>
                  </a:lnTo>
                  <a:lnTo>
                    <a:pt x="1191" y="1412"/>
                  </a:lnTo>
                  <a:lnTo>
                    <a:pt x="1179" y="1405"/>
                  </a:lnTo>
                  <a:lnTo>
                    <a:pt x="1166" y="1396"/>
                  </a:lnTo>
                  <a:lnTo>
                    <a:pt x="1152" y="1386"/>
                  </a:lnTo>
                  <a:lnTo>
                    <a:pt x="1136" y="1373"/>
                  </a:lnTo>
                  <a:lnTo>
                    <a:pt x="1119" y="1359"/>
                  </a:lnTo>
                  <a:lnTo>
                    <a:pt x="1101" y="1342"/>
                  </a:lnTo>
                  <a:lnTo>
                    <a:pt x="1081" y="1323"/>
                  </a:lnTo>
                  <a:lnTo>
                    <a:pt x="1061" y="1301"/>
                  </a:lnTo>
                  <a:lnTo>
                    <a:pt x="1037" y="1276"/>
                  </a:lnTo>
                  <a:lnTo>
                    <a:pt x="1014" y="1248"/>
                  </a:lnTo>
                  <a:lnTo>
                    <a:pt x="989" y="1217"/>
                  </a:lnTo>
                  <a:lnTo>
                    <a:pt x="962" y="1182"/>
                  </a:lnTo>
                  <a:lnTo>
                    <a:pt x="932" y="1145"/>
                  </a:lnTo>
                  <a:lnTo>
                    <a:pt x="903" y="1103"/>
                  </a:lnTo>
                  <a:lnTo>
                    <a:pt x="870" y="1057"/>
                  </a:lnTo>
                  <a:lnTo>
                    <a:pt x="836" y="1008"/>
                  </a:lnTo>
                  <a:lnTo>
                    <a:pt x="802" y="954"/>
                  </a:lnTo>
                  <a:lnTo>
                    <a:pt x="764" y="896"/>
                  </a:lnTo>
                  <a:lnTo>
                    <a:pt x="725" y="833"/>
                  </a:lnTo>
                  <a:lnTo>
                    <a:pt x="684" y="766"/>
                  </a:lnTo>
                  <a:lnTo>
                    <a:pt x="673" y="749"/>
                  </a:lnTo>
                  <a:lnTo>
                    <a:pt x="661" y="731"/>
                  </a:lnTo>
                  <a:lnTo>
                    <a:pt x="647" y="714"/>
                  </a:lnTo>
                  <a:lnTo>
                    <a:pt x="631" y="697"/>
                  </a:lnTo>
                  <a:lnTo>
                    <a:pt x="615" y="679"/>
                  </a:lnTo>
                  <a:lnTo>
                    <a:pt x="597" y="662"/>
                  </a:lnTo>
                  <a:lnTo>
                    <a:pt x="577" y="645"/>
                  </a:lnTo>
                  <a:lnTo>
                    <a:pt x="558" y="628"/>
                  </a:lnTo>
                  <a:lnTo>
                    <a:pt x="516" y="595"/>
                  </a:lnTo>
                  <a:lnTo>
                    <a:pt x="472" y="561"/>
                  </a:lnTo>
                  <a:lnTo>
                    <a:pt x="427" y="529"/>
                  </a:lnTo>
                  <a:lnTo>
                    <a:pt x="381" y="499"/>
                  </a:lnTo>
                  <a:lnTo>
                    <a:pt x="295" y="443"/>
                  </a:lnTo>
                  <a:lnTo>
                    <a:pt x="218" y="395"/>
                  </a:lnTo>
                  <a:lnTo>
                    <a:pt x="186" y="375"/>
                  </a:lnTo>
                  <a:lnTo>
                    <a:pt x="160" y="358"/>
                  </a:lnTo>
                  <a:lnTo>
                    <a:pt x="140" y="345"/>
                  </a:lnTo>
                  <a:lnTo>
                    <a:pt x="128" y="335"/>
                  </a:lnTo>
                  <a:lnTo>
                    <a:pt x="111" y="315"/>
                  </a:lnTo>
                  <a:lnTo>
                    <a:pt x="90" y="294"/>
                  </a:lnTo>
                  <a:lnTo>
                    <a:pt x="69" y="271"/>
                  </a:lnTo>
                  <a:lnTo>
                    <a:pt x="48" y="250"/>
                  </a:lnTo>
                  <a:lnTo>
                    <a:pt x="29" y="230"/>
                  </a:lnTo>
                  <a:lnTo>
                    <a:pt x="14" y="214"/>
                  </a:lnTo>
                  <a:lnTo>
                    <a:pt x="3" y="203"/>
                  </a:lnTo>
                  <a:lnTo>
                    <a:pt x="0" y="199"/>
                  </a:lnTo>
                  <a:lnTo>
                    <a:pt x="0" y="188"/>
                  </a:lnTo>
                  <a:lnTo>
                    <a:pt x="4" y="159"/>
                  </a:lnTo>
                  <a:lnTo>
                    <a:pt x="8" y="140"/>
                  </a:lnTo>
                  <a:lnTo>
                    <a:pt x="12" y="119"/>
                  </a:lnTo>
                  <a:lnTo>
                    <a:pt x="19" y="98"/>
                  </a:lnTo>
                  <a:lnTo>
                    <a:pt x="27" y="77"/>
                  </a:lnTo>
                  <a:lnTo>
                    <a:pt x="31" y="66"/>
                  </a:lnTo>
                  <a:lnTo>
                    <a:pt x="37" y="56"/>
                  </a:lnTo>
                  <a:lnTo>
                    <a:pt x="42" y="47"/>
                  </a:lnTo>
                  <a:lnTo>
                    <a:pt x="50" y="38"/>
                  </a:lnTo>
                  <a:lnTo>
                    <a:pt x="57" y="30"/>
                  </a:lnTo>
                  <a:lnTo>
                    <a:pt x="64" y="21"/>
                  </a:lnTo>
                  <a:lnTo>
                    <a:pt x="72" y="15"/>
                  </a:lnTo>
                  <a:lnTo>
                    <a:pt x="81" y="9"/>
                  </a:lnTo>
                  <a:lnTo>
                    <a:pt x="91" y="5"/>
                  </a:lnTo>
                  <a:lnTo>
                    <a:pt x="102" y="2"/>
                  </a:lnTo>
                  <a:lnTo>
                    <a:pt x="113" y="0"/>
                  </a:lnTo>
                  <a:lnTo>
                    <a:pt x="125" y="0"/>
                  </a:lnTo>
                  <a:lnTo>
                    <a:pt x="137" y="1"/>
                  </a:lnTo>
                  <a:lnTo>
                    <a:pt x="152" y="4"/>
                  </a:lnTo>
                  <a:lnTo>
                    <a:pt x="166" y="9"/>
                  </a:lnTo>
                  <a:lnTo>
                    <a:pt x="181" y="15"/>
                  </a:lnTo>
                  <a:lnTo>
                    <a:pt x="229" y="40"/>
                  </a:lnTo>
                  <a:lnTo>
                    <a:pt x="286" y="70"/>
                  </a:lnTo>
                  <a:lnTo>
                    <a:pt x="354" y="104"/>
                  </a:lnTo>
                  <a:lnTo>
                    <a:pt x="428" y="141"/>
                  </a:lnTo>
                  <a:lnTo>
                    <a:pt x="467" y="160"/>
                  </a:lnTo>
                  <a:lnTo>
                    <a:pt x="508" y="179"/>
                  </a:lnTo>
                  <a:lnTo>
                    <a:pt x="549" y="198"/>
                  </a:lnTo>
                  <a:lnTo>
                    <a:pt x="592" y="216"/>
                  </a:lnTo>
                  <a:lnTo>
                    <a:pt x="634" y="235"/>
                  </a:lnTo>
                  <a:lnTo>
                    <a:pt x="677" y="252"/>
                  </a:lnTo>
                  <a:lnTo>
                    <a:pt x="721" y="268"/>
                  </a:lnTo>
                  <a:lnTo>
                    <a:pt x="765" y="284"/>
                  </a:lnTo>
                  <a:lnTo>
                    <a:pt x="790" y="292"/>
                  </a:lnTo>
                  <a:lnTo>
                    <a:pt x="813" y="299"/>
                  </a:lnTo>
                  <a:lnTo>
                    <a:pt x="835" y="305"/>
                  </a:lnTo>
                  <a:lnTo>
                    <a:pt x="858" y="310"/>
                  </a:lnTo>
                  <a:lnTo>
                    <a:pt x="901" y="318"/>
                  </a:lnTo>
                  <a:lnTo>
                    <a:pt x="942" y="326"/>
                  </a:lnTo>
                  <a:lnTo>
                    <a:pt x="961" y="330"/>
                  </a:lnTo>
                  <a:lnTo>
                    <a:pt x="979" y="334"/>
                  </a:lnTo>
                  <a:lnTo>
                    <a:pt x="997" y="338"/>
                  </a:lnTo>
                  <a:lnTo>
                    <a:pt x="1014" y="343"/>
                  </a:lnTo>
                  <a:lnTo>
                    <a:pt x="1030" y="349"/>
                  </a:lnTo>
                  <a:lnTo>
                    <a:pt x="1047" y="356"/>
                  </a:lnTo>
                  <a:lnTo>
                    <a:pt x="1061" y="363"/>
                  </a:lnTo>
                  <a:lnTo>
                    <a:pt x="1075" y="372"/>
                  </a:lnTo>
                  <a:lnTo>
                    <a:pt x="1081" y="377"/>
                  </a:lnTo>
                  <a:lnTo>
                    <a:pt x="1086" y="382"/>
                  </a:lnTo>
                  <a:lnTo>
                    <a:pt x="1091" y="387"/>
                  </a:lnTo>
                  <a:lnTo>
                    <a:pt x="1096" y="393"/>
                  </a:lnTo>
                  <a:lnTo>
                    <a:pt x="1103" y="404"/>
                  </a:lnTo>
                  <a:lnTo>
                    <a:pt x="1109" y="417"/>
                  </a:lnTo>
                  <a:lnTo>
                    <a:pt x="1114" y="431"/>
                  </a:lnTo>
                  <a:lnTo>
                    <a:pt x="1118" y="444"/>
                  </a:lnTo>
                  <a:lnTo>
                    <a:pt x="1122" y="458"/>
                  </a:lnTo>
                  <a:lnTo>
                    <a:pt x="1125" y="471"/>
                  </a:lnTo>
                  <a:lnTo>
                    <a:pt x="1129" y="496"/>
                  </a:lnTo>
                  <a:lnTo>
                    <a:pt x="1134" y="515"/>
                  </a:lnTo>
                  <a:lnTo>
                    <a:pt x="1136" y="522"/>
                  </a:lnTo>
                  <a:lnTo>
                    <a:pt x="1140" y="528"/>
                  </a:lnTo>
                  <a:lnTo>
                    <a:pt x="1142" y="529"/>
                  </a:lnTo>
                  <a:lnTo>
                    <a:pt x="1144" y="531"/>
                  </a:lnTo>
                  <a:lnTo>
                    <a:pt x="1146" y="531"/>
                  </a:lnTo>
                  <a:lnTo>
                    <a:pt x="1148" y="531"/>
                  </a:lnTo>
                  <a:lnTo>
                    <a:pt x="1333" y="1096"/>
                  </a:lnTo>
                </a:path>
              </a:pathLst>
            </a:custGeom>
            <a:noFill/>
            <a:ln w="46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3838680" y="3120480"/>
              <a:ext cx="1064520" cy="1695960"/>
            </a:xfrm>
            <a:custGeom>
              <a:avLst/>
              <a:gdLst/>
              <a:ahLst/>
              <a:rect l="l" t="t" r="r" b="b"/>
              <a:pathLst>
                <a:path w="2750" h="4387">
                  <a:moveTo>
                    <a:pt x="0" y="1041"/>
                  </a:moveTo>
                  <a:lnTo>
                    <a:pt x="126" y="397"/>
                  </a:lnTo>
                  <a:lnTo>
                    <a:pt x="1117" y="25"/>
                  </a:lnTo>
                  <a:lnTo>
                    <a:pt x="1783" y="0"/>
                  </a:lnTo>
                  <a:lnTo>
                    <a:pt x="2428" y="249"/>
                  </a:lnTo>
                  <a:lnTo>
                    <a:pt x="2750" y="619"/>
                  </a:lnTo>
                  <a:lnTo>
                    <a:pt x="2701" y="1116"/>
                  </a:lnTo>
                  <a:lnTo>
                    <a:pt x="2699" y="1155"/>
                  </a:lnTo>
                  <a:lnTo>
                    <a:pt x="2689" y="1261"/>
                  </a:lnTo>
                  <a:lnTo>
                    <a:pt x="2683" y="1332"/>
                  </a:lnTo>
                  <a:lnTo>
                    <a:pt x="2675" y="1412"/>
                  </a:lnTo>
                  <a:lnTo>
                    <a:pt x="2666" y="1497"/>
                  </a:lnTo>
                  <a:lnTo>
                    <a:pt x="2655" y="1588"/>
                  </a:lnTo>
                  <a:lnTo>
                    <a:pt x="2642" y="1679"/>
                  </a:lnTo>
                  <a:lnTo>
                    <a:pt x="2628" y="1770"/>
                  </a:lnTo>
                  <a:lnTo>
                    <a:pt x="2621" y="1814"/>
                  </a:lnTo>
                  <a:lnTo>
                    <a:pt x="2614" y="1855"/>
                  </a:lnTo>
                  <a:lnTo>
                    <a:pt x="2605" y="1897"/>
                  </a:lnTo>
                  <a:lnTo>
                    <a:pt x="2596" y="1936"/>
                  </a:lnTo>
                  <a:lnTo>
                    <a:pt x="2587" y="1973"/>
                  </a:lnTo>
                  <a:lnTo>
                    <a:pt x="2578" y="2007"/>
                  </a:lnTo>
                  <a:lnTo>
                    <a:pt x="2569" y="2039"/>
                  </a:lnTo>
                  <a:lnTo>
                    <a:pt x="2559" y="2067"/>
                  </a:lnTo>
                  <a:lnTo>
                    <a:pt x="2548" y="2092"/>
                  </a:lnTo>
                  <a:lnTo>
                    <a:pt x="2537" y="2113"/>
                  </a:lnTo>
                  <a:lnTo>
                    <a:pt x="2526" y="2130"/>
                  </a:lnTo>
                  <a:lnTo>
                    <a:pt x="2515" y="2143"/>
                  </a:lnTo>
                  <a:lnTo>
                    <a:pt x="2506" y="2151"/>
                  </a:lnTo>
                  <a:lnTo>
                    <a:pt x="2495" y="2161"/>
                  </a:lnTo>
                  <a:lnTo>
                    <a:pt x="2484" y="2174"/>
                  </a:lnTo>
                  <a:lnTo>
                    <a:pt x="2474" y="2187"/>
                  </a:lnTo>
                  <a:lnTo>
                    <a:pt x="2451" y="2215"/>
                  </a:lnTo>
                  <a:lnTo>
                    <a:pt x="2426" y="2248"/>
                  </a:lnTo>
                  <a:lnTo>
                    <a:pt x="2373" y="2323"/>
                  </a:lnTo>
                  <a:lnTo>
                    <a:pt x="2319" y="2402"/>
                  </a:lnTo>
                  <a:lnTo>
                    <a:pt x="2291" y="2443"/>
                  </a:lnTo>
                  <a:lnTo>
                    <a:pt x="2264" y="2482"/>
                  </a:lnTo>
                  <a:lnTo>
                    <a:pt x="2236" y="2519"/>
                  </a:lnTo>
                  <a:lnTo>
                    <a:pt x="2210" y="2554"/>
                  </a:lnTo>
                  <a:lnTo>
                    <a:pt x="2185" y="2586"/>
                  </a:lnTo>
                  <a:lnTo>
                    <a:pt x="2161" y="2614"/>
                  </a:lnTo>
                  <a:lnTo>
                    <a:pt x="2149" y="2627"/>
                  </a:lnTo>
                  <a:lnTo>
                    <a:pt x="2138" y="2637"/>
                  </a:lnTo>
                  <a:lnTo>
                    <a:pt x="2127" y="2646"/>
                  </a:lnTo>
                  <a:lnTo>
                    <a:pt x="2117" y="2654"/>
                  </a:lnTo>
                  <a:lnTo>
                    <a:pt x="2107" y="2663"/>
                  </a:lnTo>
                  <a:lnTo>
                    <a:pt x="2096" y="2672"/>
                  </a:lnTo>
                  <a:lnTo>
                    <a:pt x="2085" y="2684"/>
                  </a:lnTo>
                  <a:lnTo>
                    <a:pt x="2074" y="2695"/>
                  </a:lnTo>
                  <a:lnTo>
                    <a:pt x="2063" y="2706"/>
                  </a:lnTo>
                  <a:lnTo>
                    <a:pt x="2051" y="2718"/>
                  </a:lnTo>
                  <a:lnTo>
                    <a:pt x="2039" y="2731"/>
                  </a:lnTo>
                  <a:lnTo>
                    <a:pt x="2026" y="2743"/>
                  </a:lnTo>
                  <a:lnTo>
                    <a:pt x="2000" y="2769"/>
                  </a:lnTo>
                  <a:lnTo>
                    <a:pt x="1974" y="2795"/>
                  </a:lnTo>
                  <a:lnTo>
                    <a:pt x="1949" y="2820"/>
                  </a:lnTo>
                  <a:lnTo>
                    <a:pt x="1926" y="2844"/>
                  </a:lnTo>
                  <a:lnTo>
                    <a:pt x="1905" y="2865"/>
                  </a:lnTo>
                  <a:lnTo>
                    <a:pt x="1885" y="2883"/>
                  </a:lnTo>
                  <a:lnTo>
                    <a:pt x="1870" y="2898"/>
                  </a:lnTo>
                  <a:lnTo>
                    <a:pt x="1858" y="2908"/>
                  </a:lnTo>
                  <a:lnTo>
                    <a:pt x="1867" y="2898"/>
                  </a:lnTo>
                  <a:lnTo>
                    <a:pt x="1904" y="2861"/>
                  </a:lnTo>
                  <a:lnTo>
                    <a:pt x="1959" y="2808"/>
                  </a:lnTo>
                  <a:lnTo>
                    <a:pt x="2023" y="2746"/>
                  </a:lnTo>
                  <a:lnTo>
                    <a:pt x="2087" y="2685"/>
                  </a:lnTo>
                  <a:lnTo>
                    <a:pt x="2141" y="2633"/>
                  </a:lnTo>
                  <a:lnTo>
                    <a:pt x="2176" y="2600"/>
                  </a:lnTo>
                  <a:lnTo>
                    <a:pt x="2183" y="2595"/>
                  </a:lnTo>
                  <a:lnTo>
                    <a:pt x="2182" y="2599"/>
                  </a:lnTo>
                  <a:lnTo>
                    <a:pt x="2181" y="2608"/>
                  </a:lnTo>
                  <a:lnTo>
                    <a:pt x="2181" y="2621"/>
                  </a:lnTo>
                  <a:lnTo>
                    <a:pt x="2182" y="2640"/>
                  </a:lnTo>
                  <a:lnTo>
                    <a:pt x="2184" y="2689"/>
                  </a:lnTo>
                  <a:lnTo>
                    <a:pt x="2187" y="2752"/>
                  </a:lnTo>
                  <a:lnTo>
                    <a:pt x="2197" y="2908"/>
                  </a:lnTo>
                  <a:lnTo>
                    <a:pt x="2210" y="3088"/>
                  </a:lnTo>
                  <a:lnTo>
                    <a:pt x="2222" y="3268"/>
                  </a:lnTo>
                  <a:lnTo>
                    <a:pt x="2234" y="3428"/>
                  </a:lnTo>
                  <a:lnTo>
                    <a:pt x="2241" y="3547"/>
                  </a:lnTo>
                  <a:lnTo>
                    <a:pt x="2244" y="3601"/>
                  </a:lnTo>
                  <a:lnTo>
                    <a:pt x="2242" y="3621"/>
                  </a:lnTo>
                  <a:lnTo>
                    <a:pt x="2238" y="3643"/>
                  </a:lnTo>
                  <a:lnTo>
                    <a:pt x="2232" y="3666"/>
                  </a:lnTo>
                  <a:lnTo>
                    <a:pt x="2225" y="3690"/>
                  </a:lnTo>
                  <a:lnTo>
                    <a:pt x="2216" y="3716"/>
                  </a:lnTo>
                  <a:lnTo>
                    <a:pt x="2206" y="3742"/>
                  </a:lnTo>
                  <a:lnTo>
                    <a:pt x="2193" y="3770"/>
                  </a:lnTo>
                  <a:lnTo>
                    <a:pt x="2181" y="3798"/>
                  </a:lnTo>
                  <a:lnTo>
                    <a:pt x="2167" y="3826"/>
                  </a:lnTo>
                  <a:lnTo>
                    <a:pt x="2152" y="3856"/>
                  </a:lnTo>
                  <a:lnTo>
                    <a:pt x="2136" y="3884"/>
                  </a:lnTo>
                  <a:lnTo>
                    <a:pt x="2119" y="3914"/>
                  </a:lnTo>
                  <a:lnTo>
                    <a:pt x="2085" y="3974"/>
                  </a:lnTo>
                  <a:lnTo>
                    <a:pt x="2048" y="4033"/>
                  </a:lnTo>
                  <a:lnTo>
                    <a:pt x="1977" y="4147"/>
                  </a:lnTo>
                  <a:lnTo>
                    <a:pt x="1913" y="4248"/>
                  </a:lnTo>
                  <a:lnTo>
                    <a:pt x="1885" y="4292"/>
                  </a:lnTo>
                  <a:lnTo>
                    <a:pt x="1863" y="4330"/>
                  </a:lnTo>
                  <a:lnTo>
                    <a:pt x="1854" y="4346"/>
                  </a:lnTo>
                  <a:lnTo>
                    <a:pt x="1846" y="4361"/>
                  </a:lnTo>
                  <a:lnTo>
                    <a:pt x="1840" y="4373"/>
                  </a:lnTo>
                  <a:lnTo>
                    <a:pt x="1836" y="4383"/>
                  </a:lnTo>
                  <a:lnTo>
                    <a:pt x="1834" y="4387"/>
                  </a:lnTo>
                  <a:lnTo>
                    <a:pt x="1830" y="4387"/>
                  </a:lnTo>
                  <a:lnTo>
                    <a:pt x="1826" y="4385"/>
                  </a:lnTo>
                  <a:lnTo>
                    <a:pt x="1821" y="4379"/>
                  </a:lnTo>
                  <a:lnTo>
                    <a:pt x="1815" y="4371"/>
                  </a:lnTo>
                  <a:lnTo>
                    <a:pt x="1809" y="4361"/>
                  </a:lnTo>
                  <a:lnTo>
                    <a:pt x="1800" y="4347"/>
                  </a:lnTo>
                  <a:lnTo>
                    <a:pt x="1792" y="4331"/>
                  </a:lnTo>
                  <a:lnTo>
                    <a:pt x="1750" y="4248"/>
                  </a:lnTo>
                  <a:lnTo>
                    <a:pt x="1697" y="4143"/>
                  </a:lnTo>
                  <a:lnTo>
                    <a:pt x="1667" y="4085"/>
                  </a:lnTo>
                  <a:lnTo>
                    <a:pt x="1634" y="4025"/>
                  </a:lnTo>
                  <a:lnTo>
                    <a:pt x="1617" y="3994"/>
                  </a:lnTo>
                  <a:lnTo>
                    <a:pt x="1598" y="3965"/>
                  </a:lnTo>
                  <a:lnTo>
                    <a:pt x="1580" y="3934"/>
                  </a:lnTo>
                  <a:lnTo>
                    <a:pt x="1561" y="3905"/>
                  </a:lnTo>
                  <a:lnTo>
                    <a:pt x="1541" y="3875"/>
                  </a:lnTo>
                  <a:lnTo>
                    <a:pt x="1521" y="3846"/>
                  </a:lnTo>
                  <a:lnTo>
                    <a:pt x="1500" y="3819"/>
                  </a:lnTo>
                  <a:lnTo>
                    <a:pt x="1479" y="3792"/>
                  </a:lnTo>
                  <a:lnTo>
                    <a:pt x="1458" y="3768"/>
                  </a:lnTo>
                  <a:lnTo>
                    <a:pt x="1435" y="3743"/>
                  </a:lnTo>
                  <a:lnTo>
                    <a:pt x="1413" y="3721"/>
                  </a:lnTo>
                  <a:lnTo>
                    <a:pt x="1390" y="3701"/>
                  </a:lnTo>
                  <a:lnTo>
                    <a:pt x="1386" y="3697"/>
                  </a:lnTo>
                  <a:lnTo>
                    <a:pt x="1381" y="3688"/>
                  </a:lnTo>
                  <a:lnTo>
                    <a:pt x="1374" y="3677"/>
                  </a:lnTo>
                  <a:lnTo>
                    <a:pt x="1365" y="3663"/>
                  </a:lnTo>
                  <a:lnTo>
                    <a:pt x="1343" y="3626"/>
                  </a:lnTo>
                  <a:lnTo>
                    <a:pt x="1318" y="3579"/>
                  </a:lnTo>
                  <a:lnTo>
                    <a:pt x="1258" y="3465"/>
                  </a:lnTo>
                  <a:lnTo>
                    <a:pt x="1191" y="3336"/>
                  </a:lnTo>
                  <a:lnTo>
                    <a:pt x="1128" y="3210"/>
                  </a:lnTo>
                  <a:lnTo>
                    <a:pt x="1075" y="3102"/>
                  </a:lnTo>
                  <a:lnTo>
                    <a:pt x="1055" y="3059"/>
                  </a:lnTo>
                  <a:lnTo>
                    <a:pt x="1042" y="3027"/>
                  </a:lnTo>
                  <a:lnTo>
                    <a:pt x="1038" y="3017"/>
                  </a:lnTo>
                  <a:lnTo>
                    <a:pt x="1035" y="3009"/>
                  </a:lnTo>
                  <a:lnTo>
                    <a:pt x="1035" y="3005"/>
                  </a:lnTo>
                  <a:lnTo>
                    <a:pt x="1037" y="3005"/>
                  </a:lnTo>
                  <a:lnTo>
                    <a:pt x="1053" y="3016"/>
                  </a:lnTo>
                  <a:lnTo>
                    <a:pt x="1071" y="3026"/>
                  </a:lnTo>
                  <a:lnTo>
                    <a:pt x="1087" y="3036"/>
                  </a:lnTo>
                  <a:lnTo>
                    <a:pt x="1103" y="3044"/>
                  </a:lnTo>
                  <a:lnTo>
                    <a:pt x="1137" y="3059"/>
                  </a:lnTo>
                  <a:lnTo>
                    <a:pt x="1169" y="3071"/>
                  </a:lnTo>
                  <a:lnTo>
                    <a:pt x="1200" y="3082"/>
                  </a:lnTo>
                  <a:lnTo>
                    <a:pt x="1229" y="3091"/>
                  </a:lnTo>
                  <a:lnTo>
                    <a:pt x="1257" y="3097"/>
                  </a:lnTo>
                  <a:lnTo>
                    <a:pt x="1283" y="3101"/>
                  </a:lnTo>
                  <a:lnTo>
                    <a:pt x="1306" y="3105"/>
                  </a:lnTo>
                  <a:lnTo>
                    <a:pt x="1326" y="3107"/>
                  </a:lnTo>
                  <a:lnTo>
                    <a:pt x="1343" y="3108"/>
                  </a:lnTo>
                  <a:lnTo>
                    <a:pt x="1358" y="3108"/>
                  </a:lnTo>
                  <a:lnTo>
                    <a:pt x="1374" y="3109"/>
                  </a:lnTo>
                  <a:lnTo>
                    <a:pt x="1373" y="3109"/>
                  </a:lnTo>
                  <a:lnTo>
                    <a:pt x="1367" y="3109"/>
                  </a:lnTo>
                  <a:lnTo>
                    <a:pt x="1359" y="3108"/>
                  </a:lnTo>
                  <a:lnTo>
                    <a:pt x="1351" y="3108"/>
                  </a:lnTo>
                  <a:lnTo>
                    <a:pt x="1343" y="3108"/>
                  </a:lnTo>
                  <a:lnTo>
                    <a:pt x="1336" y="3107"/>
                  </a:lnTo>
                  <a:lnTo>
                    <a:pt x="1329" y="3107"/>
                  </a:lnTo>
                  <a:lnTo>
                    <a:pt x="1322" y="3107"/>
                  </a:lnTo>
                  <a:lnTo>
                    <a:pt x="1316" y="3107"/>
                  </a:lnTo>
                  <a:lnTo>
                    <a:pt x="1300" y="3106"/>
                  </a:lnTo>
                  <a:lnTo>
                    <a:pt x="1284" y="3104"/>
                  </a:lnTo>
                  <a:lnTo>
                    <a:pt x="1267" y="3101"/>
                  </a:lnTo>
                  <a:lnTo>
                    <a:pt x="1247" y="3096"/>
                  </a:lnTo>
                  <a:lnTo>
                    <a:pt x="1228" y="3091"/>
                  </a:lnTo>
                  <a:lnTo>
                    <a:pt x="1209" y="3085"/>
                  </a:lnTo>
                  <a:lnTo>
                    <a:pt x="1188" y="3077"/>
                  </a:lnTo>
                  <a:lnTo>
                    <a:pt x="1168" y="3069"/>
                  </a:lnTo>
                  <a:lnTo>
                    <a:pt x="1147" y="3061"/>
                  </a:lnTo>
                  <a:lnTo>
                    <a:pt x="1128" y="3052"/>
                  </a:lnTo>
                  <a:lnTo>
                    <a:pt x="1109" y="3043"/>
                  </a:lnTo>
                  <a:lnTo>
                    <a:pt x="1090" y="3034"/>
                  </a:lnTo>
                  <a:lnTo>
                    <a:pt x="1073" y="3023"/>
                  </a:lnTo>
                  <a:lnTo>
                    <a:pt x="1058" y="3014"/>
                  </a:lnTo>
                  <a:lnTo>
                    <a:pt x="1043" y="3004"/>
                  </a:lnTo>
                  <a:lnTo>
                    <a:pt x="1030" y="2995"/>
                  </a:lnTo>
                  <a:lnTo>
                    <a:pt x="1017" y="2983"/>
                  </a:lnTo>
                  <a:lnTo>
                    <a:pt x="998" y="2966"/>
                  </a:lnTo>
                  <a:lnTo>
                    <a:pt x="977" y="2946"/>
                  </a:lnTo>
                  <a:lnTo>
                    <a:pt x="952" y="2921"/>
                  </a:lnTo>
                  <a:lnTo>
                    <a:pt x="898" y="2865"/>
                  </a:lnTo>
                  <a:lnTo>
                    <a:pt x="840" y="2805"/>
                  </a:lnTo>
                  <a:lnTo>
                    <a:pt x="784" y="2745"/>
                  </a:lnTo>
                  <a:lnTo>
                    <a:pt x="733" y="2691"/>
                  </a:lnTo>
                  <a:lnTo>
                    <a:pt x="694" y="2649"/>
                  </a:lnTo>
                  <a:lnTo>
                    <a:pt x="671" y="2625"/>
                  </a:lnTo>
                  <a:lnTo>
                    <a:pt x="653" y="2608"/>
                  </a:lnTo>
                  <a:lnTo>
                    <a:pt x="632" y="2589"/>
                  </a:lnTo>
                  <a:lnTo>
                    <a:pt x="605" y="2566"/>
                  </a:lnTo>
                  <a:lnTo>
                    <a:pt x="576" y="2542"/>
                  </a:lnTo>
                  <a:lnTo>
                    <a:pt x="543" y="2517"/>
                  </a:lnTo>
                  <a:lnTo>
                    <a:pt x="508" y="2494"/>
                  </a:lnTo>
                  <a:lnTo>
                    <a:pt x="491" y="2482"/>
                  </a:lnTo>
                  <a:lnTo>
                    <a:pt x="473" y="2472"/>
                  </a:lnTo>
                  <a:lnTo>
                    <a:pt x="454" y="2461"/>
                  </a:lnTo>
                  <a:lnTo>
                    <a:pt x="436" y="2451"/>
                  </a:lnTo>
                  <a:lnTo>
                    <a:pt x="427" y="2446"/>
                  </a:lnTo>
                  <a:lnTo>
                    <a:pt x="417" y="2439"/>
                  </a:lnTo>
                  <a:lnTo>
                    <a:pt x="406" y="2431"/>
                  </a:lnTo>
                  <a:lnTo>
                    <a:pt x="396" y="2422"/>
                  </a:lnTo>
                  <a:lnTo>
                    <a:pt x="374" y="2400"/>
                  </a:lnTo>
                  <a:lnTo>
                    <a:pt x="351" y="2375"/>
                  </a:lnTo>
                  <a:lnTo>
                    <a:pt x="328" y="2347"/>
                  </a:lnTo>
                  <a:lnTo>
                    <a:pt x="304" y="2316"/>
                  </a:lnTo>
                  <a:lnTo>
                    <a:pt x="282" y="2285"/>
                  </a:lnTo>
                  <a:lnTo>
                    <a:pt x="259" y="2253"/>
                  </a:lnTo>
                  <a:lnTo>
                    <a:pt x="218" y="2189"/>
                  </a:lnTo>
                  <a:lnTo>
                    <a:pt x="181" y="2131"/>
                  </a:lnTo>
                  <a:lnTo>
                    <a:pt x="154" y="2085"/>
                  </a:lnTo>
                  <a:lnTo>
                    <a:pt x="138" y="2056"/>
                  </a:lnTo>
                  <a:lnTo>
                    <a:pt x="136" y="2049"/>
                  </a:lnTo>
                  <a:lnTo>
                    <a:pt x="133" y="2040"/>
                  </a:lnTo>
                  <a:lnTo>
                    <a:pt x="130" y="2027"/>
                  </a:lnTo>
                  <a:lnTo>
                    <a:pt x="127" y="2010"/>
                  </a:lnTo>
                  <a:lnTo>
                    <a:pt x="121" y="1970"/>
                  </a:lnTo>
                  <a:lnTo>
                    <a:pt x="114" y="1920"/>
                  </a:lnTo>
                  <a:lnTo>
                    <a:pt x="99" y="1799"/>
                  </a:lnTo>
                  <a:lnTo>
                    <a:pt x="85" y="1666"/>
                  </a:lnTo>
                  <a:lnTo>
                    <a:pt x="72" y="1535"/>
                  </a:lnTo>
                  <a:lnTo>
                    <a:pt x="61" y="1422"/>
                  </a:lnTo>
                  <a:lnTo>
                    <a:pt x="54" y="1342"/>
                  </a:lnTo>
                  <a:lnTo>
                    <a:pt x="51" y="1312"/>
                  </a:lnTo>
                  <a:lnTo>
                    <a:pt x="0" y="1041"/>
                  </a:lnTo>
                  <a:close/>
                </a:path>
              </a:pathLst>
            </a:custGeom>
            <a:solidFill>
              <a:srgbClr val="f9d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3838680" y="3120480"/>
              <a:ext cx="1064520" cy="1695960"/>
            </a:xfrm>
            <a:custGeom>
              <a:avLst/>
              <a:gdLst/>
              <a:ahLst/>
              <a:rect l="l" t="t" r="r" b="b"/>
              <a:pathLst>
                <a:path w="2750" h="4387">
                  <a:moveTo>
                    <a:pt x="0" y="1041"/>
                  </a:moveTo>
                  <a:lnTo>
                    <a:pt x="126" y="397"/>
                  </a:lnTo>
                  <a:lnTo>
                    <a:pt x="1117" y="25"/>
                  </a:lnTo>
                  <a:lnTo>
                    <a:pt x="1783" y="0"/>
                  </a:lnTo>
                  <a:lnTo>
                    <a:pt x="2428" y="249"/>
                  </a:lnTo>
                  <a:lnTo>
                    <a:pt x="2750" y="619"/>
                  </a:lnTo>
                  <a:lnTo>
                    <a:pt x="2701" y="1116"/>
                  </a:lnTo>
                  <a:lnTo>
                    <a:pt x="2699" y="1155"/>
                  </a:lnTo>
                  <a:lnTo>
                    <a:pt x="2689" y="1261"/>
                  </a:lnTo>
                  <a:lnTo>
                    <a:pt x="2683" y="1332"/>
                  </a:lnTo>
                  <a:lnTo>
                    <a:pt x="2675" y="1412"/>
                  </a:lnTo>
                  <a:lnTo>
                    <a:pt x="2666" y="1497"/>
                  </a:lnTo>
                  <a:lnTo>
                    <a:pt x="2655" y="1588"/>
                  </a:lnTo>
                  <a:lnTo>
                    <a:pt x="2642" y="1679"/>
                  </a:lnTo>
                  <a:lnTo>
                    <a:pt x="2628" y="1770"/>
                  </a:lnTo>
                  <a:lnTo>
                    <a:pt x="2621" y="1814"/>
                  </a:lnTo>
                  <a:lnTo>
                    <a:pt x="2614" y="1855"/>
                  </a:lnTo>
                  <a:lnTo>
                    <a:pt x="2605" y="1897"/>
                  </a:lnTo>
                  <a:lnTo>
                    <a:pt x="2596" y="1936"/>
                  </a:lnTo>
                  <a:lnTo>
                    <a:pt x="2587" y="1973"/>
                  </a:lnTo>
                  <a:lnTo>
                    <a:pt x="2578" y="2007"/>
                  </a:lnTo>
                  <a:lnTo>
                    <a:pt x="2569" y="2039"/>
                  </a:lnTo>
                  <a:lnTo>
                    <a:pt x="2559" y="2067"/>
                  </a:lnTo>
                  <a:lnTo>
                    <a:pt x="2548" y="2092"/>
                  </a:lnTo>
                  <a:lnTo>
                    <a:pt x="2537" y="2113"/>
                  </a:lnTo>
                  <a:lnTo>
                    <a:pt x="2526" y="2130"/>
                  </a:lnTo>
                  <a:lnTo>
                    <a:pt x="2515" y="2143"/>
                  </a:lnTo>
                  <a:lnTo>
                    <a:pt x="2506" y="2151"/>
                  </a:lnTo>
                  <a:lnTo>
                    <a:pt x="2496" y="2161"/>
                  </a:lnTo>
                  <a:lnTo>
                    <a:pt x="2486" y="2173"/>
                  </a:lnTo>
                  <a:lnTo>
                    <a:pt x="2475" y="2185"/>
                  </a:lnTo>
                  <a:lnTo>
                    <a:pt x="2453" y="2214"/>
                  </a:lnTo>
                  <a:lnTo>
                    <a:pt x="2428" y="2247"/>
                  </a:lnTo>
                  <a:lnTo>
                    <a:pt x="2374" y="2323"/>
                  </a:lnTo>
                  <a:lnTo>
                    <a:pt x="2318" y="2405"/>
                  </a:lnTo>
                  <a:lnTo>
                    <a:pt x="2289" y="2446"/>
                  </a:lnTo>
                  <a:lnTo>
                    <a:pt x="2261" y="2487"/>
                  </a:lnTo>
                  <a:lnTo>
                    <a:pt x="2232" y="2526"/>
                  </a:lnTo>
                  <a:lnTo>
                    <a:pt x="2205" y="2562"/>
                  </a:lnTo>
                  <a:lnTo>
                    <a:pt x="2178" y="2596"/>
                  </a:lnTo>
                  <a:lnTo>
                    <a:pt x="2153" y="2625"/>
                  </a:lnTo>
                  <a:lnTo>
                    <a:pt x="2140" y="2638"/>
                  </a:lnTo>
                  <a:lnTo>
                    <a:pt x="2129" y="2649"/>
                  </a:lnTo>
                  <a:lnTo>
                    <a:pt x="2118" y="2658"/>
                  </a:lnTo>
                  <a:lnTo>
                    <a:pt x="2107" y="2667"/>
                  </a:lnTo>
                  <a:lnTo>
                    <a:pt x="2096" y="2674"/>
                  </a:lnTo>
                  <a:lnTo>
                    <a:pt x="2087" y="2683"/>
                  </a:lnTo>
                  <a:lnTo>
                    <a:pt x="2077" y="2692"/>
                  </a:lnTo>
                  <a:lnTo>
                    <a:pt x="2068" y="2702"/>
                  </a:lnTo>
                  <a:lnTo>
                    <a:pt x="2058" y="2712"/>
                  </a:lnTo>
                  <a:lnTo>
                    <a:pt x="2047" y="2722"/>
                  </a:lnTo>
                  <a:lnTo>
                    <a:pt x="2037" y="2733"/>
                  </a:lnTo>
                  <a:lnTo>
                    <a:pt x="2026" y="2743"/>
                  </a:lnTo>
                  <a:lnTo>
                    <a:pt x="2000" y="2768"/>
                  </a:lnTo>
                  <a:lnTo>
                    <a:pt x="1976" y="2794"/>
                  </a:lnTo>
                  <a:lnTo>
                    <a:pt x="1950" y="2818"/>
                  </a:lnTo>
                  <a:lnTo>
                    <a:pt x="1928" y="2842"/>
                  </a:lnTo>
                  <a:lnTo>
                    <a:pt x="1906" y="2863"/>
                  </a:lnTo>
                  <a:lnTo>
                    <a:pt x="1886" y="2882"/>
                  </a:lnTo>
                  <a:lnTo>
                    <a:pt x="1870" y="2897"/>
                  </a:lnTo>
                  <a:lnTo>
                    <a:pt x="1858" y="2908"/>
                  </a:lnTo>
                  <a:lnTo>
                    <a:pt x="1869" y="2897"/>
                  </a:lnTo>
                  <a:lnTo>
                    <a:pt x="1908" y="2859"/>
                  </a:lnTo>
                  <a:lnTo>
                    <a:pt x="1965" y="2804"/>
                  </a:lnTo>
                  <a:lnTo>
                    <a:pt x="2030" y="2741"/>
                  </a:lnTo>
                  <a:lnTo>
                    <a:pt x="2093" y="2680"/>
                  </a:lnTo>
                  <a:lnTo>
                    <a:pt x="2146" y="2629"/>
                  </a:lnTo>
                  <a:lnTo>
                    <a:pt x="2179" y="2597"/>
                  </a:lnTo>
                  <a:lnTo>
                    <a:pt x="2183" y="2595"/>
                  </a:lnTo>
                  <a:lnTo>
                    <a:pt x="2182" y="2599"/>
                  </a:lnTo>
                  <a:lnTo>
                    <a:pt x="2181" y="2608"/>
                  </a:lnTo>
                  <a:lnTo>
                    <a:pt x="2181" y="2621"/>
                  </a:lnTo>
                  <a:lnTo>
                    <a:pt x="2182" y="2640"/>
                  </a:lnTo>
                  <a:lnTo>
                    <a:pt x="2184" y="2689"/>
                  </a:lnTo>
                  <a:lnTo>
                    <a:pt x="2187" y="2752"/>
                  </a:lnTo>
                  <a:lnTo>
                    <a:pt x="2197" y="2908"/>
                  </a:lnTo>
                  <a:lnTo>
                    <a:pt x="2210" y="3088"/>
                  </a:lnTo>
                  <a:lnTo>
                    <a:pt x="2222" y="3268"/>
                  </a:lnTo>
                  <a:lnTo>
                    <a:pt x="2234" y="3428"/>
                  </a:lnTo>
                  <a:lnTo>
                    <a:pt x="2241" y="3547"/>
                  </a:lnTo>
                  <a:lnTo>
                    <a:pt x="2244" y="3601"/>
                  </a:lnTo>
                  <a:lnTo>
                    <a:pt x="2242" y="3621"/>
                  </a:lnTo>
                  <a:lnTo>
                    <a:pt x="2238" y="3643"/>
                  </a:lnTo>
                  <a:lnTo>
                    <a:pt x="2232" y="3666"/>
                  </a:lnTo>
                  <a:lnTo>
                    <a:pt x="2225" y="3690"/>
                  </a:lnTo>
                  <a:lnTo>
                    <a:pt x="2216" y="3716"/>
                  </a:lnTo>
                  <a:lnTo>
                    <a:pt x="2206" y="3742"/>
                  </a:lnTo>
                  <a:lnTo>
                    <a:pt x="2193" y="3770"/>
                  </a:lnTo>
                  <a:lnTo>
                    <a:pt x="2181" y="3798"/>
                  </a:lnTo>
                  <a:lnTo>
                    <a:pt x="2167" y="3826"/>
                  </a:lnTo>
                  <a:lnTo>
                    <a:pt x="2152" y="3856"/>
                  </a:lnTo>
                  <a:lnTo>
                    <a:pt x="2136" y="3884"/>
                  </a:lnTo>
                  <a:lnTo>
                    <a:pt x="2119" y="3914"/>
                  </a:lnTo>
                  <a:lnTo>
                    <a:pt x="2085" y="3974"/>
                  </a:lnTo>
                  <a:lnTo>
                    <a:pt x="2048" y="4033"/>
                  </a:lnTo>
                  <a:lnTo>
                    <a:pt x="1977" y="4147"/>
                  </a:lnTo>
                  <a:lnTo>
                    <a:pt x="1913" y="4248"/>
                  </a:lnTo>
                  <a:lnTo>
                    <a:pt x="1885" y="4292"/>
                  </a:lnTo>
                  <a:lnTo>
                    <a:pt x="1863" y="4330"/>
                  </a:lnTo>
                  <a:lnTo>
                    <a:pt x="1854" y="4346"/>
                  </a:lnTo>
                  <a:lnTo>
                    <a:pt x="1846" y="4361"/>
                  </a:lnTo>
                  <a:lnTo>
                    <a:pt x="1840" y="4373"/>
                  </a:lnTo>
                  <a:lnTo>
                    <a:pt x="1836" y="4383"/>
                  </a:lnTo>
                  <a:lnTo>
                    <a:pt x="1834" y="4387"/>
                  </a:lnTo>
                  <a:lnTo>
                    <a:pt x="1830" y="4387"/>
                  </a:lnTo>
                  <a:lnTo>
                    <a:pt x="1826" y="4385"/>
                  </a:lnTo>
                  <a:lnTo>
                    <a:pt x="1821" y="4379"/>
                  </a:lnTo>
                  <a:lnTo>
                    <a:pt x="1815" y="4371"/>
                  </a:lnTo>
                  <a:lnTo>
                    <a:pt x="1809" y="4361"/>
                  </a:lnTo>
                  <a:lnTo>
                    <a:pt x="1800" y="4347"/>
                  </a:lnTo>
                  <a:lnTo>
                    <a:pt x="1792" y="4331"/>
                  </a:lnTo>
                  <a:lnTo>
                    <a:pt x="1750" y="4248"/>
                  </a:lnTo>
                  <a:lnTo>
                    <a:pt x="1697" y="4143"/>
                  </a:lnTo>
                  <a:lnTo>
                    <a:pt x="1667" y="4085"/>
                  </a:lnTo>
                  <a:lnTo>
                    <a:pt x="1634" y="4025"/>
                  </a:lnTo>
                  <a:lnTo>
                    <a:pt x="1617" y="3994"/>
                  </a:lnTo>
                  <a:lnTo>
                    <a:pt x="1598" y="3965"/>
                  </a:lnTo>
                  <a:lnTo>
                    <a:pt x="1580" y="3934"/>
                  </a:lnTo>
                  <a:lnTo>
                    <a:pt x="1561" y="3905"/>
                  </a:lnTo>
                  <a:lnTo>
                    <a:pt x="1541" y="3875"/>
                  </a:lnTo>
                  <a:lnTo>
                    <a:pt x="1521" y="3846"/>
                  </a:lnTo>
                  <a:lnTo>
                    <a:pt x="1500" y="3819"/>
                  </a:lnTo>
                  <a:lnTo>
                    <a:pt x="1479" y="3792"/>
                  </a:lnTo>
                  <a:lnTo>
                    <a:pt x="1458" y="3768"/>
                  </a:lnTo>
                  <a:lnTo>
                    <a:pt x="1435" y="3743"/>
                  </a:lnTo>
                  <a:lnTo>
                    <a:pt x="1413" y="3721"/>
                  </a:lnTo>
                  <a:lnTo>
                    <a:pt x="1390" y="3701"/>
                  </a:lnTo>
                  <a:lnTo>
                    <a:pt x="1386" y="3697"/>
                  </a:lnTo>
                  <a:lnTo>
                    <a:pt x="1381" y="3688"/>
                  </a:lnTo>
                  <a:lnTo>
                    <a:pt x="1374" y="3677"/>
                  </a:lnTo>
                  <a:lnTo>
                    <a:pt x="1365" y="3663"/>
                  </a:lnTo>
                  <a:lnTo>
                    <a:pt x="1343" y="3625"/>
                  </a:lnTo>
                  <a:lnTo>
                    <a:pt x="1317" y="3577"/>
                  </a:lnTo>
                  <a:lnTo>
                    <a:pt x="1255" y="3461"/>
                  </a:lnTo>
                  <a:lnTo>
                    <a:pt x="1188" y="3330"/>
                  </a:lnTo>
                  <a:lnTo>
                    <a:pt x="1123" y="3202"/>
                  </a:lnTo>
                  <a:lnTo>
                    <a:pt x="1070" y="3092"/>
                  </a:lnTo>
                  <a:lnTo>
                    <a:pt x="1050" y="3049"/>
                  </a:lnTo>
                  <a:lnTo>
                    <a:pt x="1036" y="3017"/>
                  </a:lnTo>
                  <a:lnTo>
                    <a:pt x="1032" y="3006"/>
                  </a:lnTo>
                  <a:lnTo>
                    <a:pt x="1029" y="2998"/>
                  </a:lnTo>
                  <a:lnTo>
                    <a:pt x="1029" y="2995"/>
                  </a:lnTo>
                  <a:lnTo>
                    <a:pt x="1030" y="2995"/>
                  </a:lnTo>
                  <a:lnTo>
                    <a:pt x="1046" y="3007"/>
                  </a:lnTo>
                  <a:lnTo>
                    <a:pt x="1063" y="3018"/>
                  </a:lnTo>
                  <a:lnTo>
                    <a:pt x="1079" y="3028"/>
                  </a:lnTo>
                  <a:lnTo>
                    <a:pt x="1095" y="3039"/>
                  </a:lnTo>
                  <a:lnTo>
                    <a:pt x="1111" y="3047"/>
                  </a:lnTo>
                  <a:lnTo>
                    <a:pt x="1127" y="3055"/>
                  </a:lnTo>
                  <a:lnTo>
                    <a:pt x="1143" y="3062"/>
                  </a:lnTo>
                  <a:lnTo>
                    <a:pt x="1160" y="3069"/>
                  </a:lnTo>
                  <a:lnTo>
                    <a:pt x="1190" y="3080"/>
                  </a:lnTo>
                  <a:lnTo>
                    <a:pt x="1221" y="3090"/>
                  </a:lnTo>
                  <a:lnTo>
                    <a:pt x="1248" y="3097"/>
                  </a:lnTo>
                  <a:lnTo>
                    <a:pt x="1276" y="3102"/>
                  </a:lnTo>
                  <a:lnTo>
                    <a:pt x="1299" y="3105"/>
                  </a:lnTo>
                  <a:lnTo>
                    <a:pt x="1321" y="3107"/>
                  </a:lnTo>
                  <a:lnTo>
                    <a:pt x="1340" y="3108"/>
                  </a:lnTo>
                  <a:lnTo>
                    <a:pt x="1354" y="3109"/>
                  </a:lnTo>
                  <a:lnTo>
                    <a:pt x="1373" y="3109"/>
                  </a:lnTo>
                  <a:lnTo>
                    <a:pt x="1373" y="3109"/>
                  </a:lnTo>
                  <a:lnTo>
                    <a:pt x="1367" y="3109"/>
                  </a:lnTo>
                  <a:lnTo>
                    <a:pt x="1359" y="3108"/>
                  </a:lnTo>
                  <a:lnTo>
                    <a:pt x="1351" y="3108"/>
                  </a:lnTo>
                  <a:lnTo>
                    <a:pt x="1343" y="3108"/>
                  </a:lnTo>
                  <a:lnTo>
                    <a:pt x="1336" y="3107"/>
                  </a:lnTo>
                  <a:lnTo>
                    <a:pt x="1329" y="3107"/>
                  </a:lnTo>
                  <a:lnTo>
                    <a:pt x="1322" y="3107"/>
                  </a:lnTo>
                  <a:lnTo>
                    <a:pt x="1316" y="3107"/>
                  </a:lnTo>
                  <a:lnTo>
                    <a:pt x="1300" y="3106"/>
                  </a:lnTo>
                  <a:lnTo>
                    <a:pt x="1284" y="3104"/>
                  </a:lnTo>
                  <a:lnTo>
                    <a:pt x="1266" y="3101"/>
                  </a:lnTo>
                  <a:lnTo>
                    <a:pt x="1247" y="3097"/>
                  </a:lnTo>
                  <a:lnTo>
                    <a:pt x="1227" y="3092"/>
                  </a:lnTo>
                  <a:lnTo>
                    <a:pt x="1208" y="3086"/>
                  </a:lnTo>
                  <a:lnTo>
                    <a:pt x="1186" y="3078"/>
                  </a:lnTo>
                  <a:lnTo>
                    <a:pt x="1166" y="3071"/>
                  </a:lnTo>
                  <a:lnTo>
                    <a:pt x="1145" y="3063"/>
                  </a:lnTo>
                  <a:lnTo>
                    <a:pt x="1126" y="3054"/>
                  </a:lnTo>
                  <a:lnTo>
                    <a:pt x="1107" y="3045"/>
                  </a:lnTo>
                  <a:lnTo>
                    <a:pt x="1088" y="3036"/>
                  </a:lnTo>
                  <a:lnTo>
                    <a:pt x="1072" y="3025"/>
                  </a:lnTo>
                  <a:lnTo>
                    <a:pt x="1055" y="3015"/>
                  </a:lnTo>
                  <a:lnTo>
                    <a:pt x="1042" y="3005"/>
                  </a:lnTo>
                  <a:lnTo>
                    <a:pt x="1030" y="2995"/>
                  </a:lnTo>
                  <a:lnTo>
                    <a:pt x="1006" y="2970"/>
                  </a:lnTo>
                  <a:lnTo>
                    <a:pt x="964" y="2927"/>
                  </a:lnTo>
                  <a:lnTo>
                    <a:pt x="911" y="2872"/>
                  </a:lnTo>
                  <a:lnTo>
                    <a:pt x="850" y="2810"/>
                  </a:lnTo>
                  <a:lnTo>
                    <a:pt x="791" y="2749"/>
                  </a:lnTo>
                  <a:lnTo>
                    <a:pt x="737" y="2693"/>
                  </a:lnTo>
                  <a:lnTo>
                    <a:pt x="695" y="2649"/>
                  </a:lnTo>
                  <a:lnTo>
                    <a:pt x="671" y="2625"/>
                  </a:lnTo>
                  <a:lnTo>
                    <a:pt x="653" y="2608"/>
                  </a:lnTo>
                  <a:lnTo>
                    <a:pt x="632" y="2589"/>
                  </a:lnTo>
                  <a:lnTo>
                    <a:pt x="605" y="2566"/>
                  </a:lnTo>
                  <a:lnTo>
                    <a:pt x="576" y="2542"/>
                  </a:lnTo>
                  <a:lnTo>
                    <a:pt x="543" y="2517"/>
                  </a:lnTo>
                  <a:lnTo>
                    <a:pt x="508" y="2494"/>
                  </a:lnTo>
                  <a:lnTo>
                    <a:pt x="491" y="2482"/>
                  </a:lnTo>
                  <a:lnTo>
                    <a:pt x="473" y="2472"/>
                  </a:lnTo>
                  <a:lnTo>
                    <a:pt x="454" y="2461"/>
                  </a:lnTo>
                  <a:lnTo>
                    <a:pt x="436" y="2451"/>
                  </a:lnTo>
                  <a:lnTo>
                    <a:pt x="427" y="2446"/>
                  </a:lnTo>
                  <a:lnTo>
                    <a:pt x="417" y="2439"/>
                  </a:lnTo>
                  <a:lnTo>
                    <a:pt x="406" y="2431"/>
                  </a:lnTo>
                  <a:lnTo>
                    <a:pt x="396" y="2422"/>
                  </a:lnTo>
                  <a:lnTo>
                    <a:pt x="374" y="2400"/>
                  </a:lnTo>
                  <a:lnTo>
                    <a:pt x="351" y="2375"/>
                  </a:lnTo>
                  <a:lnTo>
                    <a:pt x="328" y="2347"/>
                  </a:lnTo>
                  <a:lnTo>
                    <a:pt x="304" y="2316"/>
                  </a:lnTo>
                  <a:lnTo>
                    <a:pt x="282" y="2285"/>
                  </a:lnTo>
                  <a:lnTo>
                    <a:pt x="259" y="2253"/>
                  </a:lnTo>
                  <a:lnTo>
                    <a:pt x="218" y="2189"/>
                  </a:lnTo>
                  <a:lnTo>
                    <a:pt x="181" y="2131"/>
                  </a:lnTo>
                  <a:lnTo>
                    <a:pt x="154" y="2085"/>
                  </a:lnTo>
                  <a:lnTo>
                    <a:pt x="138" y="2056"/>
                  </a:lnTo>
                  <a:lnTo>
                    <a:pt x="136" y="2049"/>
                  </a:lnTo>
                  <a:lnTo>
                    <a:pt x="133" y="2040"/>
                  </a:lnTo>
                  <a:lnTo>
                    <a:pt x="130" y="2027"/>
                  </a:lnTo>
                  <a:lnTo>
                    <a:pt x="127" y="2010"/>
                  </a:lnTo>
                  <a:lnTo>
                    <a:pt x="121" y="1970"/>
                  </a:lnTo>
                  <a:lnTo>
                    <a:pt x="114" y="1920"/>
                  </a:lnTo>
                  <a:lnTo>
                    <a:pt x="99" y="1799"/>
                  </a:lnTo>
                  <a:lnTo>
                    <a:pt x="85" y="1666"/>
                  </a:lnTo>
                  <a:lnTo>
                    <a:pt x="72" y="1535"/>
                  </a:lnTo>
                  <a:lnTo>
                    <a:pt x="61" y="1422"/>
                  </a:lnTo>
                  <a:lnTo>
                    <a:pt x="54" y="1342"/>
                  </a:lnTo>
                  <a:lnTo>
                    <a:pt x="51" y="1312"/>
                  </a:lnTo>
                  <a:lnTo>
                    <a:pt x="0" y="1041"/>
                  </a:lnTo>
                </a:path>
              </a:pathLst>
            </a:custGeom>
            <a:noFill/>
            <a:ln w="46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3612240" y="2362320"/>
              <a:ext cx="1531080" cy="1301760"/>
            </a:xfrm>
            <a:custGeom>
              <a:avLst/>
              <a:gdLst/>
              <a:ahLst/>
              <a:rect l="l" t="t" r="r" b="b"/>
              <a:pathLst>
                <a:path w="3954" h="3364">
                  <a:moveTo>
                    <a:pt x="725" y="2917"/>
                  </a:moveTo>
                  <a:lnTo>
                    <a:pt x="734" y="2886"/>
                  </a:lnTo>
                  <a:lnTo>
                    <a:pt x="745" y="2857"/>
                  </a:lnTo>
                  <a:lnTo>
                    <a:pt x="758" y="2829"/>
                  </a:lnTo>
                  <a:lnTo>
                    <a:pt x="772" y="2803"/>
                  </a:lnTo>
                  <a:lnTo>
                    <a:pt x="788" y="2776"/>
                  </a:lnTo>
                  <a:lnTo>
                    <a:pt x="806" y="2752"/>
                  </a:lnTo>
                  <a:lnTo>
                    <a:pt x="825" y="2728"/>
                  </a:lnTo>
                  <a:lnTo>
                    <a:pt x="846" y="2706"/>
                  </a:lnTo>
                  <a:lnTo>
                    <a:pt x="868" y="2685"/>
                  </a:lnTo>
                  <a:lnTo>
                    <a:pt x="891" y="2665"/>
                  </a:lnTo>
                  <a:lnTo>
                    <a:pt x="917" y="2646"/>
                  </a:lnTo>
                  <a:lnTo>
                    <a:pt x="943" y="2627"/>
                  </a:lnTo>
                  <a:lnTo>
                    <a:pt x="971" y="2610"/>
                  </a:lnTo>
                  <a:lnTo>
                    <a:pt x="1000" y="2594"/>
                  </a:lnTo>
                  <a:lnTo>
                    <a:pt x="1029" y="2578"/>
                  </a:lnTo>
                  <a:lnTo>
                    <a:pt x="1060" y="2564"/>
                  </a:lnTo>
                  <a:lnTo>
                    <a:pt x="1091" y="2550"/>
                  </a:lnTo>
                  <a:lnTo>
                    <a:pt x="1125" y="2537"/>
                  </a:lnTo>
                  <a:lnTo>
                    <a:pt x="1159" y="2525"/>
                  </a:lnTo>
                  <a:lnTo>
                    <a:pt x="1192" y="2513"/>
                  </a:lnTo>
                  <a:lnTo>
                    <a:pt x="1228" y="2503"/>
                  </a:lnTo>
                  <a:lnTo>
                    <a:pt x="1264" y="2493"/>
                  </a:lnTo>
                  <a:lnTo>
                    <a:pt x="1301" y="2483"/>
                  </a:lnTo>
                  <a:lnTo>
                    <a:pt x="1338" y="2474"/>
                  </a:lnTo>
                  <a:lnTo>
                    <a:pt x="1376" y="2466"/>
                  </a:lnTo>
                  <a:lnTo>
                    <a:pt x="1415" y="2459"/>
                  </a:lnTo>
                  <a:lnTo>
                    <a:pt x="1454" y="2452"/>
                  </a:lnTo>
                  <a:lnTo>
                    <a:pt x="1493" y="2445"/>
                  </a:lnTo>
                  <a:lnTo>
                    <a:pt x="1573" y="2432"/>
                  </a:lnTo>
                  <a:lnTo>
                    <a:pt x="1654" y="2422"/>
                  </a:lnTo>
                  <a:lnTo>
                    <a:pt x="1654" y="2426"/>
                  </a:lnTo>
                  <a:lnTo>
                    <a:pt x="1654" y="2429"/>
                  </a:lnTo>
                  <a:lnTo>
                    <a:pt x="1653" y="2433"/>
                  </a:lnTo>
                  <a:lnTo>
                    <a:pt x="1650" y="2437"/>
                  </a:lnTo>
                  <a:lnTo>
                    <a:pt x="1642" y="2447"/>
                  </a:lnTo>
                  <a:lnTo>
                    <a:pt x="1631" y="2456"/>
                  </a:lnTo>
                  <a:lnTo>
                    <a:pt x="1604" y="2477"/>
                  </a:lnTo>
                  <a:lnTo>
                    <a:pt x="1571" y="2500"/>
                  </a:lnTo>
                  <a:lnTo>
                    <a:pt x="1539" y="2521"/>
                  </a:lnTo>
                  <a:lnTo>
                    <a:pt x="1513" y="2540"/>
                  </a:lnTo>
                  <a:lnTo>
                    <a:pt x="1503" y="2549"/>
                  </a:lnTo>
                  <a:lnTo>
                    <a:pt x="1497" y="2555"/>
                  </a:lnTo>
                  <a:lnTo>
                    <a:pt x="1496" y="2558"/>
                  </a:lnTo>
                  <a:lnTo>
                    <a:pt x="1495" y="2561"/>
                  </a:lnTo>
                  <a:lnTo>
                    <a:pt x="1496" y="2563"/>
                  </a:lnTo>
                  <a:lnTo>
                    <a:pt x="1497" y="2564"/>
                  </a:lnTo>
                  <a:lnTo>
                    <a:pt x="1515" y="2573"/>
                  </a:lnTo>
                  <a:lnTo>
                    <a:pt x="1534" y="2580"/>
                  </a:lnTo>
                  <a:lnTo>
                    <a:pt x="1556" y="2587"/>
                  </a:lnTo>
                  <a:lnTo>
                    <a:pt x="1579" y="2594"/>
                  </a:lnTo>
                  <a:lnTo>
                    <a:pt x="1604" y="2600"/>
                  </a:lnTo>
                  <a:lnTo>
                    <a:pt x="1629" y="2605"/>
                  </a:lnTo>
                  <a:lnTo>
                    <a:pt x="1656" y="2609"/>
                  </a:lnTo>
                  <a:lnTo>
                    <a:pt x="1684" y="2613"/>
                  </a:lnTo>
                  <a:lnTo>
                    <a:pt x="1744" y="2620"/>
                  </a:lnTo>
                  <a:lnTo>
                    <a:pt x="1805" y="2624"/>
                  </a:lnTo>
                  <a:lnTo>
                    <a:pt x="1869" y="2627"/>
                  </a:lnTo>
                  <a:lnTo>
                    <a:pt x="1933" y="2629"/>
                  </a:lnTo>
                  <a:lnTo>
                    <a:pt x="2061" y="2631"/>
                  </a:lnTo>
                  <a:lnTo>
                    <a:pt x="2178" y="2631"/>
                  </a:lnTo>
                  <a:lnTo>
                    <a:pt x="2232" y="2631"/>
                  </a:lnTo>
                  <a:lnTo>
                    <a:pt x="2279" y="2632"/>
                  </a:lnTo>
                  <a:lnTo>
                    <a:pt x="2321" y="2633"/>
                  </a:lnTo>
                  <a:lnTo>
                    <a:pt x="2356" y="2636"/>
                  </a:lnTo>
                  <a:lnTo>
                    <a:pt x="2384" y="2638"/>
                  </a:lnTo>
                  <a:lnTo>
                    <a:pt x="2412" y="2638"/>
                  </a:lnTo>
                  <a:lnTo>
                    <a:pt x="2441" y="2636"/>
                  </a:lnTo>
                  <a:lnTo>
                    <a:pt x="2468" y="2632"/>
                  </a:lnTo>
                  <a:lnTo>
                    <a:pt x="2495" y="2627"/>
                  </a:lnTo>
                  <a:lnTo>
                    <a:pt x="2522" y="2621"/>
                  </a:lnTo>
                  <a:lnTo>
                    <a:pt x="2549" y="2613"/>
                  </a:lnTo>
                  <a:lnTo>
                    <a:pt x="2575" y="2605"/>
                  </a:lnTo>
                  <a:lnTo>
                    <a:pt x="2601" y="2595"/>
                  </a:lnTo>
                  <a:lnTo>
                    <a:pt x="2626" y="2584"/>
                  </a:lnTo>
                  <a:lnTo>
                    <a:pt x="2652" y="2573"/>
                  </a:lnTo>
                  <a:lnTo>
                    <a:pt x="2677" y="2562"/>
                  </a:lnTo>
                  <a:lnTo>
                    <a:pt x="2727" y="2539"/>
                  </a:lnTo>
                  <a:lnTo>
                    <a:pt x="2775" y="2518"/>
                  </a:lnTo>
                  <a:lnTo>
                    <a:pt x="2800" y="2508"/>
                  </a:lnTo>
                  <a:lnTo>
                    <a:pt x="2823" y="2498"/>
                  </a:lnTo>
                  <a:lnTo>
                    <a:pt x="2847" y="2489"/>
                  </a:lnTo>
                  <a:lnTo>
                    <a:pt x="2870" y="2482"/>
                  </a:lnTo>
                  <a:lnTo>
                    <a:pt x="2893" y="2475"/>
                  </a:lnTo>
                  <a:lnTo>
                    <a:pt x="2915" y="2471"/>
                  </a:lnTo>
                  <a:lnTo>
                    <a:pt x="2939" y="2468"/>
                  </a:lnTo>
                  <a:lnTo>
                    <a:pt x="2961" y="2466"/>
                  </a:lnTo>
                  <a:lnTo>
                    <a:pt x="2982" y="2467"/>
                  </a:lnTo>
                  <a:lnTo>
                    <a:pt x="3005" y="2469"/>
                  </a:lnTo>
                  <a:lnTo>
                    <a:pt x="3026" y="2474"/>
                  </a:lnTo>
                  <a:lnTo>
                    <a:pt x="3049" y="2481"/>
                  </a:lnTo>
                  <a:lnTo>
                    <a:pt x="3070" y="2492"/>
                  </a:lnTo>
                  <a:lnTo>
                    <a:pt x="3092" y="2504"/>
                  </a:lnTo>
                  <a:lnTo>
                    <a:pt x="3112" y="2520"/>
                  </a:lnTo>
                  <a:lnTo>
                    <a:pt x="3133" y="2538"/>
                  </a:lnTo>
                  <a:lnTo>
                    <a:pt x="3143" y="2550"/>
                  </a:lnTo>
                  <a:lnTo>
                    <a:pt x="3151" y="2562"/>
                  </a:lnTo>
                  <a:lnTo>
                    <a:pt x="3158" y="2577"/>
                  </a:lnTo>
                  <a:lnTo>
                    <a:pt x="3164" y="2594"/>
                  </a:lnTo>
                  <a:lnTo>
                    <a:pt x="3170" y="2613"/>
                  </a:lnTo>
                  <a:lnTo>
                    <a:pt x="3176" y="2633"/>
                  </a:lnTo>
                  <a:lnTo>
                    <a:pt x="3181" y="2655"/>
                  </a:lnTo>
                  <a:lnTo>
                    <a:pt x="3187" y="2678"/>
                  </a:lnTo>
                  <a:lnTo>
                    <a:pt x="3195" y="2728"/>
                  </a:lnTo>
                  <a:lnTo>
                    <a:pt x="3203" y="2782"/>
                  </a:lnTo>
                  <a:lnTo>
                    <a:pt x="3210" y="2837"/>
                  </a:lnTo>
                  <a:lnTo>
                    <a:pt x="3217" y="2894"/>
                  </a:lnTo>
                  <a:lnTo>
                    <a:pt x="3225" y="2949"/>
                  </a:lnTo>
                  <a:lnTo>
                    <a:pt x="3234" y="3004"/>
                  </a:lnTo>
                  <a:lnTo>
                    <a:pt x="3240" y="3029"/>
                  </a:lnTo>
                  <a:lnTo>
                    <a:pt x="3245" y="3055"/>
                  </a:lnTo>
                  <a:lnTo>
                    <a:pt x="3251" y="3078"/>
                  </a:lnTo>
                  <a:lnTo>
                    <a:pt x="3257" y="3100"/>
                  </a:lnTo>
                  <a:lnTo>
                    <a:pt x="3264" y="3121"/>
                  </a:lnTo>
                  <a:lnTo>
                    <a:pt x="3271" y="3140"/>
                  </a:lnTo>
                  <a:lnTo>
                    <a:pt x="3280" y="3158"/>
                  </a:lnTo>
                  <a:lnTo>
                    <a:pt x="3290" y="3173"/>
                  </a:lnTo>
                  <a:lnTo>
                    <a:pt x="3299" y="3186"/>
                  </a:lnTo>
                  <a:lnTo>
                    <a:pt x="3310" y="3196"/>
                  </a:lnTo>
                  <a:lnTo>
                    <a:pt x="3321" y="3206"/>
                  </a:lnTo>
                  <a:lnTo>
                    <a:pt x="3334" y="3211"/>
                  </a:lnTo>
                  <a:lnTo>
                    <a:pt x="3348" y="3215"/>
                  </a:lnTo>
                  <a:lnTo>
                    <a:pt x="3362" y="3216"/>
                  </a:lnTo>
                  <a:lnTo>
                    <a:pt x="3375" y="3215"/>
                  </a:lnTo>
                  <a:lnTo>
                    <a:pt x="3389" y="3212"/>
                  </a:lnTo>
                  <a:lnTo>
                    <a:pt x="3402" y="3207"/>
                  </a:lnTo>
                  <a:lnTo>
                    <a:pt x="3414" y="3200"/>
                  </a:lnTo>
                  <a:lnTo>
                    <a:pt x="3426" y="3191"/>
                  </a:lnTo>
                  <a:lnTo>
                    <a:pt x="3440" y="3182"/>
                  </a:lnTo>
                  <a:lnTo>
                    <a:pt x="3452" y="3171"/>
                  </a:lnTo>
                  <a:lnTo>
                    <a:pt x="3463" y="3158"/>
                  </a:lnTo>
                  <a:lnTo>
                    <a:pt x="3475" y="3144"/>
                  </a:lnTo>
                  <a:lnTo>
                    <a:pt x="3487" y="3129"/>
                  </a:lnTo>
                  <a:lnTo>
                    <a:pt x="3499" y="3113"/>
                  </a:lnTo>
                  <a:lnTo>
                    <a:pt x="3510" y="3096"/>
                  </a:lnTo>
                  <a:lnTo>
                    <a:pt x="3521" y="3079"/>
                  </a:lnTo>
                  <a:lnTo>
                    <a:pt x="3531" y="3061"/>
                  </a:lnTo>
                  <a:lnTo>
                    <a:pt x="3553" y="3023"/>
                  </a:lnTo>
                  <a:lnTo>
                    <a:pt x="3573" y="2984"/>
                  </a:lnTo>
                  <a:lnTo>
                    <a:pt x="3593" y="2944"/>
                  </a:lnTo>
                  <a:lnTo>
                    <a:pt x="3612" y="2906"/>
                  </a:lnTo>
                  <a:lnTo>
                    <a:pt x="3630" y="2869"/>
                  </a:lnTo>
                  <a:lnTo>
                    <a:pt x="3648" y="2834"/>
                  </a:lnTo>
                  <a:lnTo>
                    <a:pt x="3665" y="2803"/>
                  </a:lnTo>
                  <a:lnTo>
                    <a:pt x="3681" y="2775"/>
                  </a:lnTo>
                  <a:lnTo>
                    <a:pt x="3690" y="2762"/>
                  </a:lnTo>
                  <a:lnTo>
                    <a:pt x="3698" y="2749"/>
                  </a:lnTo>
                  <a:lnTo>
                    <a:pt x="3705" y="2734"/>
                  </a:lnTo>
                  <a:lnTo>
                    <a:pt x="3712" y="2721"/>
                  </a:lnTo>
                  <a:lnTo>
                    <a:pt x="3723" y="2694"/>
                  </a:lnTo>
                  <a:lnTo>
                    <a:pt x="3732" y="2667"/>
                  </a:lnTo>
                  <a:lnTo>
                    <a:pt x="3741" y="2639"/>
                  </a:lnTo>
                  <a:lnTo>
                    <a:pt x="3747" y="2613"/>
                  </a:lnTo>
                  <a:lnTo>
                    <a:pt x="3752" y="2585"/>
                  </a:lnTo>
                  <a:lnTo>
                    <a:pt x="3757" y="2558"/>
                  </a:lnTo>
                  <a:lnTo>
                    <a:pt x="3764" y="2502"/>
                  </a:lnTo>
                  <a:lnTo>
                    <a:pt x="3771" y="2444"/>
                  </a:lnTo>
                  <a:lnTo>
                    <a:pt x="3775" y="2415"/>
                  </a:lnTo>
                  <a:lnTo>
                    <a:pt x="3781" y="2384"/>
                  </a:lnTo>
                  <a:lnTo>
                    <a:pt x="3788" y="2354"/>
                  </a:lnTo>
                  <a:lnTo>
                    <a:pt x="3796" y="2323"/>
                  </a:lnTo>
                  <a:lnTo>
                    <a:pt x="3807" y="2283"/>
                  </a:lnTo>
                  <a:lnTo>
                    <a:pt x="3819" y="2245"/>
                  </a:lnTo>
                  <a:lnTo>
                    <a:pt x="3832" y="2205"/>
                  </a:lnTo>
                  <a:lnTo>
                    <a:pt x="3847" y="2166"/>
                  </a:lnTo>
                  <a:lnTo>
                    <a:pt x="3875" y="2090"/>
                  </a:lnTo>
                  <a:lnTo>
                    <a:pt x="3902" y="2013"/>
                  </a:lnTo>
                  <a:lnTo>
                    <a:pt x="3914" y="1976"/>
                  </a:lnTo>
                  <a:lnTo>
                    <a:pt x="3925" y="1939"/>
                  </a:lnTo>
                  <a:lnTo>
                    <a:pt x="3936" y="1902"/>
                  </a:lnTo>
                  <a:lnTo>
                    <a:pt x="3944" y="1865"/>
                  </a:lnTo>
                  <a:lnTo>
                    <a:pt x="3947" y="1848"/>
                  </a:lnTo>
                  <a:lnTo>
                    <a:pt x="3950" y="1830"/>
                  </a:lnTo>
                  <a:lnTo>
                    <a:pt x="3952" y="1811"/>
                  </a:lnTo>
                  <a:lnTo>
                    <a:pt x="3953" y="1794"/>
                  </a:lnTo>
                  <a:lnTo>
                    <a:pt x="3954" y="1775"/>
                  </a:lnTo>
                  <a:lnTo>
                    <a:pt x="3954" y="1758"/>
                  </a:lnTo>
                  <a:lnTo>
                    <a:pt x="3953" y="1741"/>
                  </a:lnTo>
                  <a:lnTo>
                    <a:pt x="3952" y="1723"/>
                  </a:lnTo>
                  <a:lnTo>
                    <a:pt x="3944" y="1641"/>
                  </a:lnTo>
                  <a:lnTo>
                    <a:pt x="3938" y="1562"/>
                  </a:lnTo>
                  <a:lnTo>
                    <a:pt x="3933" y="1489"/>
                  </a:lnTo>
                  <a:lnTo>
                    <a:pt x="3927" y="1419"/>
                  </a:lnTo>
                  <a:lnTo>
                    <a:pt x="3925" y="1386"/>
                  </a:lnTo>
                  <a:lnTo>
                    <a:pt x="3921" y="1353"/>
                  </a:lnTo>
                  <a:lnTo>
                    <a:pt x="3918" y="1322"/>
                  </a:lnTo>
                  <a:lnTo>
                    <a:pt x="3913" y="1291"/>
                  </a:lnTo>
                  <a:lnTo>
                    <a:pt x="3909" y="1260"/>
                  </a:lnTo>
                  <a:lnTo>
                    <a:pt x="3903" y="1231"/>
                  </a:lnTo>
                  <a:lnTo>
                    <a:pt x="3896" y="1202"/>
                  </a:lnTo>
                  <a:lnTo>
                    <a:pt x="3888" y="1174"/>
                  </a:lnTo>
                  <a:lnTo>
                    <a:pt x="3878" y="1146"/>
                  </a:lnTo>
                  <a:lnTo>
                    <a:pt x="3868" y="1119"/>
                  </a:lnTo>
                  <a:lnTo>
                    <a:pt x="3856" y="1092"/>
                  </a:lnTo>
                  <a:lnTo>
                    <a:pt x="3843" y="1066"/>
                  </a:lnTo>
                  <a:lnTo>
                    <a:pt x="3827" y="1039"/>
                  </a:lnTo>
                  <a:lnTo>
                    <a:pt x="3810" y="1014"/>
                  </a:lnTo>
                  <a:lnTo>
                    <a:pt x="3792" y="988"/>
                  </a:lnTo>
                  <a:lnTo>
                    <a:pt x="3770" y="963"/>
                  </a:lnTo>
                  <a:lnTo>
                    <a:pt x="3747" y="938"/>
                  </a:lnTo>
                  <a:lnTo>
                    <a:pt x="3721" y="913"/>
                  </a:lnTo>
                  <a:lnTo>
                    <a:pt x="3694" y="887"/>
                  </a:lnTo>
                  <a:lnTo>
                    <a:pt x="3663" y="863"/>
                  </a:lnTo>
                  <a:lnTo>
                    <a:pt x="3630" y="837"/>
                  </a:lnTo>
                  <a:lnTo>
                    <a:pt x="3595" y="813"/>
                  </a:lnTo>
                  <a:lnTo>
                    <a:pt x="3556" y="787"/>
                  </a:lnTo>
                  <a:lnTo>
                    <a:pt x="3514" y="762"/>
                  </a:lnTo>
                  <a:lnTo>
                    <a:pt x="3496" y="750"/>
                  </a:lnTo>
                  <a:lnTo>
                    <a:pt x="3477" y="738"/>
                  </a:lnTo>
                  <a:lnTo>
                    <a:pt x="3459" y="726"/>
                  </a:lnTo>
                  <a:lnTo>
                    <a:pt x="3442" y="713"/>
                  </a:lnTo>
                  <a:lnTo>
                    <a:pt x="3405" y="685"/>
                  </a:lnTo>
                  <a:lnTo>
                    <a:pt x="3368" y="656"/>
                  </a:lnTo>
                  <a:lnTo>
                    <a:pt x="3332" y="624"/>
                  </a:lnTo>
                  <a:lnTo>
                    <a:pt x="3297" y="590"/>
                  </a:lnTo>
                  <a:lnTo>
                    <a:pt x="3261" y="556"/>
                  </a:lnTo>
                  <a:lnTo>
                    <a:pt x="3226" y="520"/>
                  </a:lnTo>
                  <a:lnTo>
                    <a:pt x="3191" y="483"/>
                  </a:lnTo>
                  <a:lnTo>
                    <a:pt x="3157" y="446"/>
                  </a:lnTo>
                  <a:lnTo>
                    <a:pt x="3123" y="409"/>
                  </a:lnTo>
                  <a:lnTo>
                    <a:pt x="3090" y="372"/>
                  </a:lnTo>
                  <a:lnTo>
                    <a:pt x="3025" y="299"/>
                  </a:lnTo>
                  <a:lnTo>
                    <a:pt x="2964" y="229"/>
                  </a:lnTo>
                  <a:lnTo>
                    <a:pt x="2952" y="216"/>
                  </a:lnTo>
                  <a:lnTo>
                    <a:pt x="2936" y="203"/>
                  </a:lnTo>
                  <a:lnTo>
                    <a:pt x="2919" y="189"/>
                  </a:lnTo>
                  <a:lnTo>
                    <a:pt x="2900" y="176"/>
                  </a:lnTo>
                  <a:lnTo>
                    <a:pt x="2878" y="164"/>
                  </a:lnTo>
                  <a:lnTo>
                    <a:pt x="2857" y="152"/>
                  </a:lnTo>
                  <a:lnTo>
                    <a:pt x="2833" y="140"/>
                  </a:lnTo>
                  <a:lnTo>
                    <a:pt x="2810" y="129"/>
                  </a:lnTo>
                  <a:lnTo>
                    <a:pt x="2785" y="120"/>
                  </a:lnTo>
                  <a:lnTo>
                    <a:pt x="2761" y="111"/>
                  </a:lnTo>
                  <a:lnTo>
                    <a:pt x="2737" y="103"/>
                  </a:lnTo>
                  <a:lnTo>
                    <a:pt x="2714" y="97"/>
                  </a:lnTo>
                  <a:lnTo>
                    <a:pt x="2692" y="91"/>
                  </a:lnTo>
                  <a:lnTo>
                    <a:pt x="2670" y="88"/>
                  </a:lnTo>
                  <a:lnTo>
                    <a:pt x="2651" y="87"/>
                  </a:lnTo>
                  <a:lnTo>
                    <a:pt x="2632" y="87"/>
                  </a:lnTo>
                  <a:lnTo>
                    <a:pt x="2476" y="99"/>
                  </a:lnTo>
                  <a:lnTo>
                    <a:pt x="2331" y="110"/>
                  </a:lnTo>
                  <a:lnTo>
                    <a:pt x="2263" y="115"/>
                  </a:lnTo>
                  <a:lnTo>
                    <a:pt x="2195" y="119"/>
                  </a:lnTo>
                  <a:lnTo>
                    <a:pt x="2129" y="122"/>
                  </a:lnTo>
                  <a:lnTo>
                    <a:pt x="2063" y="122"/>
                  </a:lnTo>
                  <a:lnTo>
                    <a:pt x="2030" y="122"/>
                  </a:lnTo>
                  <a:lnTo>
                    <a:pt x="1998" y="121"/>
                  </a:lnTo>
                  <a:lnTo>
                    <a:pt x="1965" y="119"/>
                  </a:lnTo>
                  <a:lnTo>
                    <a:pt x="1932" y="117"/>
                  </a:lnTo>
                  <a:lnTo>
                    <a:pt x="1900" y="113"/>
                  </a:lnTo>
                  <a:lnTo>
                    <a:pt x="1867" y="109"/>
                  </a:lnTo>
                  <a:lnTo>
                    <a:pt x="1833" y="104"/>
                  </a:lnTo>
                  <a:lnTo>
                    <a:pt x="1800" y="98"/>
                  </a:lnTo>
                  <a:lnTo>
                    <a:pt x="1765" y="90"/>
                  </a:lnTo>
                  <a:lnTo>
                    <a:pt x="1731" y="82"/>
                  </a:lnTo>
                  <a:lnTo>
                    <a:pt x="1696" y="73"/>
                  </a:lnTo>
                  <a:lnTo>
                    <a:pt x="1661" y="63"/>
                  </a:lnTo>
                  <a:lnTo>
                    <a:pt x="1624" y="52"/>
                  </a:lnTo>
                  <a:lnTo>
                    <a:pt x="1587" y="38"/>
                  </a:lnTo>
                  <a:lnTo>
                    <a:pt x="1550" y="24"/>
                  </a:lnTo>
                  <a:lnTo>
                    <a:pt x="1512" y="9"/>
                  </a:lnTo>
                  <a:lnTo>
                    <a:pt x="1500" y="5"/>
                  </a:lnTo>
                  <a:lnTo>
                    <a:pt x="1487" y="2"/>
                  </a:lnTo>
                  <a:lnTo>
                    <a:pt x="1474" y="0"/>
                  </a:lnTo>
                  <a:lnTo>
                    <a:pt x="1460" y="0"/>
                  </a:lnTo>
                  <a:lnTo>
                    <a:pt x="1446" y="0"/>
                  </a:lnTo>
                  <a:lnTo>
                    <a:pt x="1429" y="1"/>
                  </a:lnTo>
                  <a:lnTo>
                    <a:pt x="1414" y="3"/>
                  </a:lnTo>
                  <a:lnTo>
                    <a:pt x="1398" y="6"/>
                  </a:lnTo>
                  <a:lnTo>
                    <a:pt x="1380" y="10"/>
                  </a:lnTo>
                  <a:lnTo>
                    <a:pt x="1363" y="14"/>
                  </a:lnTo>
                  <a:lnTo>
                    <a:pt x="1346" y="19"/>
                  </a:lnTo>
                  <a:lnTo>
                    <a:pt x="1328" y="25"/>
                  </a:lnTo>
                  <a:lnTo>
                    <a:pt x="1291" y="38"/>
                  </a:lnTo>
                  <a:lnTo>
                    <a:pt x="1255" y="53"/>
                  </a:lnTo>
                  <a:lnTo>
                    <a:pt x="1219" y="69"/>
                  </a:lnTo>
                  <a:lnTo>
                    <a:pt x="1182" y="86"/>
                  </a:lnTo>
                  <a:lnTo>
                    <a:pt x="1148" y="104"/>
                  </a:lnTo>
                  <a:lnTo>
                    <a:pt x="1115" y="121"/>
                  </a:lnTo>
                  <a:lnTo>
                    <a:pt x="1055" y="155"/>
                  </a:lnTo>
                  <a:lnTo>
                    <a:pt x="1007" y="182"/>
                  </a:lnTo>
                  <a:lnTo>
                    <a:pt x="974" y="202"/>
                  </a:lnTo>
                  <a:lnTo>
                    <a:pt x="944" y="221"/>
                  </a:lnTo>
                  <a:lnTo>
                    <a:pt x="917" y="239"/>
                  </a:lnTo>
                  <a:lnTo>
                    <a:pt x="891" y="258"/>
                  </a:lnTo>
                  <a:lnTo>
                    <a:pt x="869" y="275"/>
                  </a:lnTo>
                  <a:lnTo>
                    <a:pt x="847" y="292"/>
                  </a:lnTo>
                  <a:lnTo>
                    <a:pt x="828" y="310"/>
                  </a:lnTo>
                  <a:lnTo>
                    <a:pt x="810" y="326"/>
                  </a:lnTo>
                  <a:lnTo>
                    <a:pt x="793" y="342"/>
                  </a:lnTo>
                  <a:lnTo>
                    <a:pt x="778" y="359"/>
                  </a:lnTo>
                  <a:lnTo>
                    <a:pt x="764" y="375"/>
                  </a:lnTo>
                  <a:lnTo>
                    <a:pt x="750" y="390"/>
                  </a:lnTo>
                  <a:lnTo>
                    <a:pt x="725" y="421"/>
                  </a:lnTo>
                  <a:lnTo>
                    <a:pt x="701" y="450"/>
                  </a:lnTo>
                  <a:lnTo>
                    <a:pt x="676" y="480"/>
                  </a:lnTo>
                  <a:lnTo>
                    <a:pt x="650" y="509"/>
                  </a:lnTo>
                  <a:lnTo>
                    <a:pt x="636" y="524"/>
                  </a:lnTo>
                  <a:lnTo>
                    <a:pt x="621" y="538"/>
                  </a:lnTo>
                  <a:lnTo>
                    <a:pt x="605" y="554"/>
                  </a:lnTo>
                  <a:lnTo>
                    <a:pt x="587" y="568"/>
                  </a:lnTo>
                  <a:lnTo>
                    <a:pt x="568" y="583"/>
                  </a:lnTo>
                  <a:lnTo>
                    <a:pt x="547" y="597"/>
                  </a:lnTo>
                  <a:lnTo>
                    <a:pt x="525" y="613"/>
                  </a:lnTo>
                  <a:lnTo>
                    <a:pt x="502" y="628"/>
                  </a:lnTo>
                  <a:lnTo>
                    <a:pt x="475" y="643"/>
                  </a:lnTo>
                  <a:lnTo>
                    <a:pt x="445" y="660"/>
                  </a:lnTo>
                  <a:lnTo>
                    <a:pt x="415" y="675"/>
                  </a:lnTo>
                  <a:lnTo>
                    <a:pt x="380" y="691"/>
                  </a:lnTo>
                  <a:lnTo>
                    <a:pt x="368" y="696"/>
                  </a:lnTo>
                  <a:lnTo>
                    <a:pt x="357" y="699"/>
                  </a:lnTo>
                  <a:lnTo>
                    <a:pt x="345" y="700"/>
                  </a:lnTo>
                  <a:lnTo>
                    <a:pt x="336" y="700"/>
                  </a:lnTo>
                  <a:lnTo>
                    <a:pt x="320" y="697"/>
                  </a:lnTo>
                  <a:lnTo>
                    <a:pt x="306" y="693"/>
                  </a:lnTo>
                  <a:lnTo>
                    <a:pt x="298" y="691"/>
                  </a:lnTo>
                  <a:lnTo>
                    <a:pt x="293" y="690"/>
                  </a:lnTo>
                  <a:lnTo>
                    <a:pt x="287" y="690"/>
                  </a:lnTo>
                  <a:lnTo>
                    <a:pt x="282" y="691"/>
                  </a:lnTo>
                  <a:lnTo>
                    <a:pt x="277" y="694"/>
                  </a:lnTo>
                  <a:lnTo>
                    <a:pt x="272" y="699"/>
                  </a:lnTo>
                  <a:lnTo>
                    <a:pt x="267" y="707"/>
                  </a:lnTo>
                  <a:lnTo>
                    <a:pt x="262" y="717"/>
                  </a:lnTo>
                  <a:lnTo>
                    <a:pt x="242" y="761"/>
                  </a:lnTo>
                  <a:lnTo>
                    <a:pt x="219" y="817"/>
                  </a:lnTo>
                  <a:lnTo>
                    <a:pt x="193" y="881"/>
                  </a:lnTo>
                  <a:lnTo>
                    <a:pt x="166" y="949"/>
                  </a:lnTo>
                  <a:lnTo>
                    <a:pt x="138" y="1017"/>
                  </a:lnTo>
                  <a:lnTo>
                    <a:pt x="112" y="1080"/>
                  </a:lnTo>
                  <a:lnTo>
                    <a:pt x="88" y="1135"/>
                  </a:lnTo>
                  <a:lnTo>
                    <a:pt x="70" y="1178"/>
                  </a:lnTo>
                  <a:lnTo>
                    <a:pt x="67" y="1185"/>
                  </a:lnTo>
                  <a:lnTo>
                    <a:pt x="65" y="1198"/>
                  </a:lnTo>
                  <a:lnTo>
                    <a:pt x="62" y="1215"/>
                  </a:lnTo>
                  <a:lnTo>
                    <a:pt x="59" y="1238"/>
                  </a:lnTo>
                  <a:lnTo>
                    <a:pt x="54" y="1295"/>
                  </a:lnTo>
                  <a:lnTo>
                    <a:pt x="47" y="1365"/>
                  </a:lnTo>
                  <a:lnTo>
                    <a:pt x="35" y="1538"/>
                  </a:lnTo>
                  <a:lnTo>
                    <a:pt x="23" y="1732"/>
                  </a:lnTo>
                  <a:lnTo>
                    <a:pt x="13" y="1924"/>
                  </a:lnTo>
                  <a:lnTo>
                    <a:pt x="6" y="2094"/>
                  </a:lnTo>
                  <a:lnTo>
                    <a:pt x="3" y="2162"/>
                  </a:lnTo>
                  <a:lnTo>
                    <a:pt x="1" y="2216"/>
                  </a:lnTo>
                  <a:lnTo>
                    <a:pt x="0" y="2252"/>
                  </a:lnTo>
                  <a:lnTo>
                    <a:pt x="1" y="2268"/>
                  </a:lnTo>
                  <a:lnTo>
                    <a:pt x="13" y="2310"/>
                  </a:lnTo>
                  <a:lnTo>
                    <a:pt x="23" y="2349"/>
                  </a:lnTo>
                  <a:lnTo>
                    <a:pt x="33" y="2385"/>
                  </a:lnTo>
                  <a:lnTo>
                    <a:pt x="44" y="2420"/>
                  </a:lnTo>
                  <a:lnTo>
                    <a:pt x="56" y="2453"/>
                  </a:lnTo>
                  <a:lnTo>
                    <a:pt x="66" y="2483"/>
                  </a:lnTo>
                  <a:lnTo>
                    <a:pt x="77" y="2512"/>
                  </a:lnTo>
                  <a:lnTo>
                    <a:pt x="88" y="2539"/>
                  </a:lnTo>
                  <a:lnTo>
                    <a:pt x="99" y="2565"/>
                  </a:lnTo>
                  <a:lnTo>
                    <a:pt x="111" y="2590"/>
                  </a:lnTo>
                  <a:lnTo>
                    <a:pt x="122" y="2614"/>
                  </a:lnTo>
                  <a:lnTo>
                    <a:pt x="134" y="2636"/>
                  </a:lnTo>
                  <a:lnTo>
                    <a:pt x="158" y="2680"/>
                  </a:lnTo>
                  <a:lnTo>
                    <a:pt x="181" y="2721"/>
                  </a:lnTo>
                  <a:lnTo>
                    <a:pt x="232" y="2805"/>
                  </a:lnTo>
                  <a:lnTo>
                    <a:pt x="286" y="2898"/>
                  </a:lnTo>
                  <a:lnTo>
                    <a:pt x="315" y="2952"/>
                  </a:lnTo>
                  <a:lnTo>
                    <a:pt x="343" y="3011"/>
                  </a:lnTo>
                  <a:lnTo>
                    <a:pt x="359" y="3043"/>
                  </a:lnTo>
                  <a:lnTo>
                    <a:pt x="374" y="3078"/>
                  </a:lnTo>
                  <a:lnTo>
                    <a:pt x="389" y="3115"/>
                  </a:lnTo>
                  <a:lnTo>
                    <a:pt x="406" y="3153"/>
                  </a:lnTo>
                  <a:lnTo>
                    <a:pt x="412" y="3167"/>
                  </a:lnTo>
                  <a:lnTo>
                    <a:pt x="420" y="3181"/>
                  </a:lnTo>
                  <a:lnTo>
                    <a:pt x="430" y="3197"/>
                  </a:lnTo>
                  <a:lnTo>
                    <a:pt x="442" y="3214"/>
                  </a:lnTo>
                  <a:lnTo>
                    <a:pt x="457" y="3231"/>
                  </a:lnTo>
                  <a:lnTo>
                    <a:pt x="472" y="3247"/>
                  </a:lnTo>
                  <a:lnTo>
                    <a:pt x="488" y="3265"/>
                  </a:lnTo>
                  <a:lnTo>
                    <a:pt x="507" y="3281"/>
                  </a:lnTo>
                  <a:lnTo>
                    <a:pt x="526" y="3297"/>
                  </a:lnTo>
                  <a:lnTo>
                    <a:pt x="545" y="3313"/>
                  </a:lnTo>
                  <a:lnTo>
                    <a:pt x="567" y="3326"/>
                  </a:lnTo>
                  <a:lnTo>
                    <a:pt x="587" y="3338"/>
                  </a:lnTo>
                  <a:lnTo>
                    <a:pt x="598" y="3343"/>
                  </a:lnTo>
                  <a:lnTo>
                    <a:pt x="610" y="3348"/>
                  </a:lnTo>
                  <a:lnTo>
                    <a:pt x="620" y="3352"/>
                  </a:lnTo>
                  <a:lnTo>
                    <a:pt x="631" y="3355"/>
                  </a:lnTo>
                  <a:lnTo>
                    <a:pt x="641" y="3359"/>
                  </a:lnTo>
                  <a:lnTo>
                    <a:pt x="653" y="3361"/>
                  </a:lnTo>
                  <a:lnTo>
                    <a:pt x="664" y="3363"/>
                  </a:lnTo>
                  <a:lnTo>
                    <a:pt x="674" y="3364"/>
                  </a:lnTo>
                  <a:lnTo>
                    <a:pt x="725" y="2917"/>
                  </a:lnTo>
                  <a:close/>
                </a:path>
              </a:pathLst>
            </a:custGeom>
            <a:solidFill>
              <a:srgbClr val="948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3612240" y="2362320"/>
              <a:ext cx="1531080" cy="1301760"/>
            </a:xfrm>
            <a:custGeom>
              <a:avLst/>
              <a:gdLst/>
              <a:ahLst/>
              <a:rect l="l" t="t" r="r" b="b"/>
              <a:pathLst>
                <a:path w="3954" h="3364">
                  <a:moveTo>
                    <a:pt x="725" y="2917"/>
                  </a:moveTo>
                  <a:lnTo>
                    <a:pt x="734" y="2886"/>
                  </a:lnTo>
                  <a:lnTo>
                    <a:pt x="745" y="2857"/>
                  </a:lnTo>
                  <a:lnTo>
                    <a:pt x="758" y="2829"/>
                  </a:lnTo>
                  <a:lnTo>
                    <a:pt x="772" y="2803"/>
                  </a:lnTo>
                  <a:lnTo>
                    <a:pt x="788" y="2776"/>
                  </a:lnTo>
                  <a:lnTo>
                    <a:pt x="806" y="2752"/>
                  </a:lnTo>
                  <a:lnTo>
                    <a:pt x="825" y="2728"/>
                  </a:lnTo>
                  <a:lnTo>
                    <a:pt x="846" y="2706"/>
                  </a:lnTo>
                  <a:lnTo>
                    <a:pt x="868" y="2685"/>
                  </a:lnTo>
                  <a:lnTo>
                    <a:pt x="891" y="2665"/>
                  </a:lnTo>
                  <a:lnTo>
                    <a:pt x="917" y="2646"/>
                  </a:lnTo>
                  <a:lnTo>
                    <a:pt x="943" y="2627"/>
                  </a:lnTo>
                  <a:lnTo>
                    <a:pt x="971" y="2610"/>
                  </a:lnTo>
                  <a:lnTo>
                    <a:pt x="1000" y="2594"/>
                  </a:lnTo>
                  <a:lnTo>
                    <a:pt x="1029" y="2578"/>
                  </a:lnTo>
                  <a:lnTo>
                    <a:pt x="1060" y="2564"/>
                  </a:lnTo>
                  <a:lnTo>
                    <a:pt x="1091" y="2550"/>
                  </a:lnTo>
                  <a:lnTo>
                    <a:pt x="1125" y="2537"/>
                  </a:lnTo>
                  <a:lnTo>
                    <a:pt x="1159" y="2525"/>
                  </a:lnTo>
                  <a:lnTo>
                    <a:pt x="1192" y="2513"/>
                  </a:lnTo>
                  <a:lnTo>
                    <a:pt x="1228" y="2503"/>
                  </a:lnTo>
                  <a:lnTo>
                    <a:pt x="1264" y="2493"/>
                  </a:lnTo>
                  <a:lnTo>
                    <a:pt x="1301" y="2483"/>
                  </a:lnTo>
                  <a:lnTo>
                    <a:pt x="1338" y="2474"/>
                  </a:lnTo>
                  <a:lnTo>
                    <a:pt x="1376" y="2466"/>
                  </a:lnTo>
                  <a:lnTo>
                    <a:pt x="1415" y="2459"/>
                  </a:lnTo>
                  <a:lnTo>
                    <a:pt x="1454" y="2452"/>
                  </a:lnTo>
                  <a:lnTo>
                    <a:pt x="1493" y="2445"/>
                  </a:lnTo>
                  <a:lnTo>
                    <a:pt x="1573" y="2432"/>
                  </a:lnTo>
                  <a:lnTo>
                    <a:pt x="1654" y="2422"/>
                  </a:lnTo>
                  <a:lnTo>
                    <a:pt x="1654" y="2426"/>
                  </a:lnTo>
                  <a:lnTo>
                    <a:pt x="1654" y="2429"/>
                  </a:lnTo>
                  <a:lnTo>
                    <a:pt x="1653" y="2433"/>
                  </a:lnTo>
                  <a:lnTo>
                    <a:pt x="1650" y="2437"/>
                  </a:lnTo>
                  <a:lnTo>
                    <a:pt x="1642" y="2447"/>
                  </a:lnTo>
                  <a:lnTo>
                    <a:pt x="1631" y="2456"/>
                  </a:lnTo>
                  <a:lnTo>
                    <a:pt x="1604" y="2477"/>
                  </a:lnTo>
                  <a:lnTo>
                    <a:pt x="1571" y="2500"/>
                  </a:lnTo>
                  <a:lnTo>
                    <a:pt x="1539" y="2521"/>
                  </a:lnTo>
                  <a:lnTo>
                    <a:pt x="1513" y="2540"/>
                  </a:lnTo>
                  <a:lnTo>
                    <a:pt x="1503" y="2549"/>
                  </a:lnTo>
                  <a:lnTo>
                    <a:pt x="1497" y="2555"/>
                  </a:lnTo>
                  <a:lnTo>
                    <a:pt x="1496" y="2558"/>
                  </a:lnTo>
                  <a:lnTo>
                    <a:pt x="1495" y="2561"/>
                  </a:lnTo>
                  <a:lnTo>
                    <a:pt x="1496" y="2563"/>
                  </a:lnTo>
                  <a:lnTo>
                    <a:pt x="1497" y="2564"/>
                  </a:lnTo>
                  <a:lnTo>
                    <a:pt x="1515" y="2573"/>
                  </a:lnTo>
                  <a:lnTo>
                    <a:pt x="1534" y="2580"/>
                  </a:lnTo>
                  <a:lnTo>
                    <a:pt x="1556" y="2587"/>
                  </a:lnTo>
                  <a:lnTo>
                    <a:pt x="1579" y="2594"/>
                  </a:lnTo>
                  <a:lnTo>
                    <a:pt x="1604" y="2600"/>
                  </a:lnTo>
                  <a:lnTo>
                    <a:pt x="1629" y="2605"/>
                  </a:lnTo>
                  <a:lnTo>
                    <a:pt x="1656" y="2609"/>
                  </a:lnTo>
                  <a:lnTo>
                    <a:pt x="1684" y="2613"/>
                  </a:lnTo>
                  <a:lnTo>
                    <a:pt x="1744" y="2620"/>
                  </a:lnTo>
                  <a:lnTo>
                    <a:pt x="1805" y="2624"/>
                  </a:lnTo>
                  <a:lnTo>
                    <a:pt x="1869" y="2627"/>
                  </a:lnTo>
                  <a:lnTo>
                    <a:pt x="1933" y="2629"/>
                  </a:lnTo>
                  <a:lnTo>
                    <a:pt x="2061" y="2631"/>
                  </a:lnTo>
                  <a:lnTo>
                    <a:pt x="2178" y="2631"/>
                  </a:lnTo>
                  <a:lnTo>
                    <a:pt x="2232" y="2631"/>
                  </a:lnTo>
                  <a:lnTo>
                    <a:pt x="2279" y="2632"/>
                  </a:lnTo>
                  <a:lnTo>
                    <a:pt x="2321" y="2633"/>
                  </a:lnTo>
                  <a:lnTo>
                    <a:pt x="2356" y="2636"/>
                  </a:lnTo>
                  <a:lnTo>
                    <a:pt x="2384" y="2638"/>
                  </a:lnTo>
                  <a:lnTo>
                    <a:pt x="2412" y="2638"/>
                  </a:lnTo>
                  <a:lnTo>
                    <a:pt x="2441" y="2636"/>
                  </a:lnTo>
                  <a:lnTo>
                    <a:pt x="2468" y="2632"/>
                  </a:lnTo>
                  <a:lnTo>
                    <a:pt x="2495" y="2627"/>
                  </a:lnTo>
                  <a:lnTo>
                    <a:pt x="2522" y="2621"/>
                  </a:lnTo>
                  <a:lnTo>
                    <a:pt x="2549" y="2613"/>
                  </a:lnTo>
                  <a:lnTo>
                    <a:pt x="2575" y="2605"/>
                  </a:lnTo>
                  <a:lnTo>
                    <a:pt x="2601" y="2595"/>
                  </a:lnTo>
                  <a:lnTo>
                    <a:pt x="2626" y="2584"/>
                  </a:lnTo>
                  <a:lnTo>
                    <a:pt x="2652" y="2573"/>
                  </a:lnTo>
                  <a:lnTo>
                    <a:pt x="2677" y="2562"/>
                  </a:lnTo>
                  <a:lnTo>
                    <a:pt x="2727" y="2539"/>
                  </a:lnTo>
                  <a:lnTo>
                    <a:pt x="2775" y="2518"/>
                  </a:lnTo>
                  <a:lnTo>
                    <a:pt x="2800" y="2508"/>
                  </a:lnTo>
                  <a:lnTo>
                    <a:pt x="2823" y="2498"/>
                  </a:lnTo>
                  <a:lnTo>
                    <a:pt x="2847" y="2489"/>
                  </a:lnTo>
                  <a:lnTo>
                    <a:pt x="2870" y="2482"/>
                  </a:lnTo>
                  <a:lnTo>
                    <a:pt x="2893" y="2475"/>
                  </a:lnTo>
                  <a:lnTo>
                    <a:pt x="2915" y="2471"/>
                  </a:lnTo>
                  <a:lnTo>
                    <a:pt x="2939" y="2468"/>
                  </a:lnTo>
                  <a:lnTo>
                    <a:pt x="2961" y="2466"/>
                  </a:lnTo>
                  <a:lnTo>
                    <a:pt x="2982" y="2467"/>
                  </a:lnTo>
                  <a:lnTo>
                    <a:pt x="3005" y="2469"/>
                  </a:lnTo>
                  <a:lnTo>
                    <a:pt x="3026" y="2474"/>
                  </a:lnTo>
                  <a:lnTo>
                    <a:pt x="3049" y="2481"/>
                  </a:lnTo>
                  <a:lnTo>
                    <a:pt x="3070" y="2492"/>
                  </a:lnTo>
                  <a:lnTo>
                    <a:pt x="3092" y="2504"/>
                  </a:lnTo>
                  <a:lnTo>
                    <a:pt x="3112" y="2520"/>
                  </a:lnTo>
                  <a:lnTo>
                    <a:pt x="3133" y="2538"/>
                  </a:lnTo>
                  <a:lnTo>
                    <a:pt x="3143" y="2550"/>
                  </a:lnTo>
                  <a:lnTo>
                    <a:pt x="3151" y="2562"/>
                  </a:lnTo>
                  <a:lnTo>
                    <a:pt x="3158" y="2577"/>
                  </a:lnTo>
                  <a:lnTo>
                    <a:pt x="3164" y="2594"/>
                  </a:lnTo>
                  <a:lnTo>
                    <a:pt x="3170" y="2613"/>
                  </a:lnTo>
                  <a:lnTo>
                    <a:pt x="3176" y="2633"/>
                  </a:lnTo>
                  <a:lnTo>
                    <a:pt x="3181" y="2655"/>
                  </a:lnTo>
                  <a:lnTo>
                    <a:pt x="3187" y="2678"/>
                  </a:lnTo>
                  <a:lnTo>
                    <a:pt x="3195" y="2728"/>
                  </a:lnTo>
                  <a:lnTo>
                    <a:pt x="3203" y="2782"/>
                  </a:lnTo>
                  <a:lnTo>
                    <a:pt x="3210" y="2837"/>
                  </a:lnTo>
                  <a:lnTo>
                    <a:pt x="3217" y="2894"/>
                  </a:lnTo>
                  <a:lnTo>
                    <a:pt x="3225" y="2949"/>
                  </a:lnTo>
                  <a:lnTo>
                    <a:pt x="3234" y="3004"/>
                  </a:lnTo>
                  <a:lnTo>
                    <a:pt x="3240" y="3029"/>
                  </a:lnTo>
                  <a:lnTo>
                    <a:pt x="3245" y="3055"/>
                  </a:lnTo>
                  <a:lnTo>
                    <a:pt x="3251" y="3078"/>
                  </a:lnTo>
                  <a:lnTo>
                    <a:pt x="3257" y="3100"/>
                  </a:lnTo>
                  <a:lnTo>
                    <a:pt x="3264" y="3121"/>
                  </a:lnTo>
                  <a:lnTo>
                    <a:pt x="3271" y="3140"/>
                  </a:lnTo>
                  <a:lnTo>
                    <a:pt x="3280" y="3158"/>
                  </a:lnTo>
                  <a:lnTo>
                    <a:pt x="3290" y="3173"/>
                  </a:lnTo>
                  <a:lnTo>
                    <a:pt x="3299" y="3186"/>
                  </a:lnTo>
                  <a:lnTo>
                    <a:pt x="3310" y="3196"/>
                  </a:lnTo>
                  <a:lnTo>
                    <a:pt x="3321" y="3206"/>
                  </a:lnTo>
                  <a:lnTo>
                    <a:pt x="3334" y="3211"/>
                  </a:lnTo>
                  <a:lnTo>
                    <a:pt x="3348" y="3215"/>
                  </a:lnTo>
                  <a:lnTo>
                    <a:pt x="3362" y="3216"/>
                  </a:lnTo>
                  <a:lnTo>
                    <a:pt x="3375" y="3215"/>
                  </a:lnTo>
                  <a:lnTo>
                    <a:pt x="3389" y="3212"/>
                  </a:lnTo>
                  <a:lnTo>
                    <a:pt x="3402" y="3207"/>
                  </a:lnTo>
                  <a:lnTo>
                    <a:pt x="3414" y="3200"/>
                  </a:lnTo>
                  <a:lnTo>
                    <a:pt x="3426" y="3191"/>
                  </a:lnTo>
                  <a:lnTo>
                    <a:pt x="3440" y="3182"/>
                  </a:lnTo>
                  <a:lnTo>
                    <a:pt x="3452" y="3171"/>
                  </a:lnTo>
                  <a:lnTo>
                    <a:pt x="3463" y="3158"/>
                  </a:lnTo>
                  <a:lnTo>
                    <a:pt x="3475" y="3144"/>
                  </a:lnTo>
                  <a:lnTo>
                    <a:pt x="3487" y="3129"/>
                  </a:lnTo>
                  <a:lnTo>
                    <a:pt x="3499" y="3113"/>
                  </a:lnTo>
                  <a:lnTo>
                    <a:pt x="3510" y="3096"/>
                  </a:lnTo>
                  <a:lnTo>
                    <a:pt x="3521" y="3079"/>
                  </a:lnTo>
                  <a:lnTo>
                    <a:pt x="3531" y="3061"/>
                  </a:lnTo>
                  <a:lnTo>
                    <a:pt x="3553" y="3023"/>
                  </a:lnTo>
                  <a:lnTo>
                    <a:pt x="3573" y="2984"/>
                  </a:lnTo>
                  <a:lnTo>
                    <a:pt x="3593" y="2944"/>
                  </a:lnTo>
                  <a:lnTo>
                    <a:pt x="3612" y="2906"/>
                  </a:lnTo>
                  <a:lnTo>
                    <a:pt x="3630" y="2869"/>
                  </a:lnTo>
                  <a:lnTo>
                    <a:pt x="3648" y="2834"/>
                  </a:lnTo>
                  <a:lnTo>
                    <a:pt x="3665" y="2803"/>
                  </a:lnTo>
                  <a:lnTo>
                    <a:pt x="3681" y="2775"/>
                  </a:lnTo>
                  <a:lnTo>
                    <a:pt x="3690" y="2762"/>
                  </a:lnTo>
                  <a:lnTo>
                    <a:pt x="3698" y="2749"/>
                  </a:lnTo>
                  <a:lnTo>
                    <a:pt x="3705" y="2734"/>
                  </a:lnTo>
                  <a:lnTo>
                    <a:pt x="3712" y="2721"/>
                  </a:lnTo>
                  <a:lnTo>
                    <a:pt x="3723" y="2694"/>
                  </a:lnTo>
                  <a:lnTo>
                    <a:pt x="3732" y="2667"/>
                  </a:lnTo>
                  <a:lnTo>
                    <a:pt x="3741" y="2639"/>
                  </a:lnTo>
                  <a:lnTo>
                    <a:pt x="3747" y="2613"/>
                  </a:lnTo>
                  <a:lnTo>
                    <a:pt x="3752" y="2585"/>
                  </a:lnTo>
                  <a:lnTo>
                    <a:pt x="3757" y="2558"/>
                  </a:lnTo>
                  <a:lnTo>
                    <a:pt x="3764" y="2502"/>
                  </a:lnTo>
                  <a:lnTo>
                    <a:pt x="3771" y="2444"/>
                  </a:lnTo>
                  <a:lnTo>
                    <a:pt x="3775" y="2415"/>
                  </a:lnTo>
                  <a:lnTo>
                    <a:pt x="3781" y="2384"/>
                  </a:lnTo>
                  <a:lnTo>
                    <a:pt x="3788" y="2354"/>
                  </a:lnTo>
                  <a:lnTo>
                    <a:pt x="3796" y="2323"/>
                  </a:lnTo>
                  <a:lnTo>
                    <a:pt x="3807" y="2283"/>
                  </a:lnTo>
                  <a:lnTo>
                    <a:pt x="3819" y="2245"/>
                  </a:lnTo>
                  <a:lnTo>
                    <a:pt x="3832" y="2205"/>
                  </a:lnTo>
                  <a:lnTo>
                    <a:pt x="3847" y="2166"/>
                  </a:lnTo>
                  <a:lnTo>
                    <a:pt x="3875" y="2090"/>
                  </a:lnTo>
                  <a:lnTo>
                    <a:pt x="3902" y="2013"/>
                  </a:lnTo>
                  <a:lnTo>
                    <a:pt x="3914" y="1976"/>
                  </a:lnTo>
                  <a:lnTo>
                    <a:pt x="3925" y="1939"/>
                  </a:lnTo>
                  <a:lnTo>
                    <a:pt x="3936" y="1902"/>
                  </a:lnTo>
                  <a:lnTo>
                    <a:pt x="3944" y="1865"/>
                  </a:lnTo>
                  <a:lnTo>
                    <a:pt x="3947" y="1848"/>
                  </a:lnTo>
                  <a:lnTo>
                    <a:pt x="3950" y="1830"/>
                  </a:lnTo>
                  <a:lnTo>
                    <a:pt x="3952" y="1811"/>
                  </a:lnTo>
                  <a:lnTo>
                    <a:pt x="3953" y="1794"/>
                  </a:lnTo>
                  <a:lnTo>
                    <a:pt x="3954" y="1775"/>
                  </a:lnTo>
                  <a:lnTo>
                    <a:pt x="3954" y="1758"/>
                  </a:lnTo>
                  <a:lnTo>
                    <a:pt x="3953" y="1741"/>
                  </a:lnTo>
                  <a:lnTo>
                    <a:pt x="3952" y="1723"/>
                  </a:lnTo>
                  <a:lnTo>
                    <a:pt x="3944" y="1641"/>
                  </a:lnTo>
                  <a:lnTo>
                    <a:pt x="3938" y="1562"/>
                  </a:lnTo>
                  <a:lnTo>
                    <a:pt x="3933" y="1489"/>
                  </a:lnTo>
                  <a:lnTo>
                    <a:pt x="3927" y="1419"/>
                  </a:lnTo>
                  <a:lnTo>
                    <a:pt x="3925" y="1386"/>
                  </a:lnTo>
                  <a:lnTo>
                    <a:pt x="3921" y="1353"/>
                  </a:lnTo>
                  <a:lnTo>
                    <a:pt x="3918" y="1322"/>
                  </a:lnTo>
                  <a:lnTo>
                    <a:pt x="3913" y="1291"/>
                  </a:lnTo>
                  <a:lnTo>
                    <a:pt x="3909" y="1260"/>
                  </a:lnTo>
                  <a:lnTo>
                    <a:pt x="3903" y="1231"/>
                  </a:lnTo>
                  <a:lnTo>
                    <a:pt x="3896" y="1202"/>
                  </a:lnTo>
                  <a:lnTo>
                    <a:pt x="3888" y="1174"/>
                  </a:lnTo>
                  <a:lnTo>
                    <a:pt x="3878" y="1146"/>
                  </a:lnTo>
                  <a:lnTo>
                    <a:pt x="3868" y="1119"/>
                  </a:lnTo>
                  <a:lnTo>
                    <a:pt x="3856" y="1092"/>
                  </a:lnTo>
                  <a:lnTo>
                    <a:pt x="3843" y="1066"/>
                  </a:lnTo>
                  <a:lnTo>
                    <a:pt x="3827" y="1039"/>
                  </a:lnTo>
                  <a:lnTo>
                    <a:pt x="3810" y="1014"/>
                  </a:lnTo>
                  <a:lnTo>
                    <a:pt x="3792" y="988"/>
                  </a:lnTo>
                  <a:lnTo>
                    <a:pt x="3770" y="963"/>
                  </a:lnTo>
                  <a:lnTo>
                    <a:pt x="3747" y="938"/>
                  </a:lnTo>
                  <a:lnTo>
                    <a:pt x="3721" y="913"/>
                  </a:lnTo>
                  <a:lnTo>
                    <a:pt x="3694" y="887"/>
                  </a:lnTo>
                  <a:lnTo>
                    <a:pt x="3663" y="863"/>
                  </a:lnTo>
                  <a:lnTo>
                    <a:pt x="3630" y="837"/>
                  </a:lnTo>
                  <a:lnTo>
                    <a:pt x="3595" y="813"/>
                  </a:lnTo>
                  <a:lnTo>
                    <a:pt x="3556" y="787"/>
                  </a:lnTo>
                  <a:lnTo>
                    <a:pt x="3514" y="762"/>
                  </a:lnTo>
                  <a:lnTo>
                    <a:pt x="3496" y="750"/>
                  </a:lnTo>
                  <a:lnTo>
                    <a:pt x="3477" y="738"/>
                  </a:lnTo>
                  <a:lnTo>
                    <a:pt x="3459" y="726"/>
                  </a:lnTo>
                  <a:lnTo>
                    <a:pt x="3442" y="713"/>
                  </a:lnTo>
                  <a:lnTo>
                    <a:pt x="3405" y="685"/>
                  </a:lnTo>
                  <a:lnTo>
                    <a:pt x="3368" y="656"/>
                  </a:lnTo>
                  <a:lnTo>
                    <a:pt x="3332" y="624"/>
                  </a:lnTo>
                  <a:lnTo>
                    <a:pt x="3297" y="590"/>
                  </a:lnTo>
                  <a:lnTo>
                    <a:pt x="3261" y="556"/>
                  </a:lnTo>
                  <a:lnTo>
                    <a:pt x="3226" y="520"/>
                  </a:lnTo>
                  <a:lnTo>
                    <a:pt x="3191" y="483"/>
                  </a:lnTo>
                  <a:lnTo>
                    <a:pt x="3157" y="446"/>
                  </a:lnTo>
                  <a:lnTo>
                    <a:pt x="3123" y="409"/>
                  </a:lnTo>
                  <a:lnTo>
                    <a:pt x="3090" y="372"/>
                  </a:lnTo>
                  <a:lnTo>
                    <a:pt x="3025" y="299"/>
                  </a:lnTo>
                  <a:lnTo>
                    <a:pt x="2964" y="229"/>
                  </a:lnTo>
                  <a:lnTo>
                    <a:pt x="2952" y="216"/>
                  </a:lnTo>
                  <a:lnTo>
                    <a:pt x="2936" y="203"/>
                  </a:lnTo>
                  <a:lnTo>
                    <a:pt x="2919" y="189"/>
                  </a:lnTo>
                  <a:lnTo>
                    <a:pt x="2900" y="176"/>
                  </a:lnTo>
                  <a:lnTo>
                    <a:pt x="2878" y="164"/>
                  </a:lnTo>
                  <a:lnTo>
                    <a:pt x="2857" y="152"/>
                  </a:lnTo>
                  <a:lnTo>
                    <a:pt x="2833" y="140"/>
                  </a:lnTo>
                  <a:lnTo>
                    <a:pt x="2810" y="129"/>
                  </a:lnTo>
                  <a:lnTo>
                    <a:pt x="2785" y="120"/>
                  </a:lnTo>
                  <a:lnTo>
                    <a:pt x="2761" y="111"/>
                  </a:lnTo>
                  <a:lnTo>
                    <a:pt x="2737" y="103"/>
                  </a:lnTo>
                  <a:lnTo>
                    <a:pt x="2714" y="97"/>
                  </a:lnTo>
                  <a:lnTo>
                    <a:pt x="2692" y="91"/>
                  </a:lnTo>
                  <a:lnTo>
                    <a:pt x="2670" y="88"/>
                  </a:lnTo>
                  <a:lnTo>
                    <a:pt x="2651" y="87"/>
                  </a:lnTo>
                  <a:lnTo>
                    <a:pt x="2632" y="87"/>
                  </a:lnTo>
                  <a:lnTo>
                    <a:pt x="2476" y="99"/>
                  </a:lnTo>
                  <a:lnTo>
                    <a:pt x="2331" y="110"/>
                  </a:lnTo>
                  <a:lnTo>
                    <a:pt x="2263" y="115"/>
                  </a:lnTo>
                  <a:lnTo>
                    <a:pt x="2195" y="119"/>
                  </a:lnTo>
                  <a:lnTo>
                    <a:pt x="2129" y="122"/>
                  </a:lnTo>
                  <a:lnTo>
                    <a:pt x="2063" y="122"/>
                  </a:lnTo>
                  <a:lnTo>
                    <a:pt x="2030" y="122"/>
                  </a:lnTo>
                  <a:lnTo>
                    <a:pt x="1998" y="121"/>
                  </a:lnTo>
                  <a:lnTo>
                    <a:pt x="1965" y="119"/>
                  </a:lnTo>
                  <a:lnTo>
                    <a:pt x="1932" y="117"/>
                  </a:lnTo>
                  <a:lnTo>
                    <a:pt x="1900" y="113"/>
                  </a:lnTo>
                  <a:lnTo>
                    <a:pt x="1867" y="109"/>
                  </a:lnTo>
                  <a:lnTo>
                    <a:pt x="1833" y="104"/>
                  </a:lnTo>
                  <a:lnTo>
                    <a:pt x="1800" y="98"/>
                  </a:lnTo>
                  <a:lnTo>
                    <a:pt x="1765" y="90"/>
                  </a:lnTo>
                  <a:lnTo>
                    <a:pt x="1731" y="82"/>
                  </a:lnTo>
                  <a:lnTo>
                    <a:pt x="1696" y="73"/>
                  </a:lnTo>
                  <a:lnTo>
                    <a:pt x="1661" y="63"/>
                  </a:lnTo>
                  <a:lnTo>
                    <a:pt x="1624" y="52"/>
                  </a:lnTo>
                  <a:lnTo>
                    <a:pt x="1587" y="38"/>
                  </a:lnTo>
                  <a:lnTo>
                    <a:pt x="1550" y="24"/>
                  </a:lnTo>
                  <a:lnTo>
                    <a:pt x="1512" y="9"/>
                  </a:lnTo>
                  <a:lnTo>
                    <a:pt x="1500" y="5"/>
                  </a:lnTo>
                  <a:lnTo>
                    <a:pt x="1487" y="2"/>
                  </a:lnTo>
                  <a:lnTo>
                    <a:pt x="1474" y="0"/>
                  </a:lnTo>
                  <a:lnTo>
                    <a:pt x="1460" y="0"/>
                  </a:lnTo>
                  <a:lnTo>
                    <a:pt x="1446" y="0"/>
                  </a:lnTo>
                  <a:lnTo>
                    <a:pt x="1429" y="1"/>
                  </a:lnTo>
                  <a:lnTo>
                    <a:pt x="1414" y="3"/>
                  </a:lnTo>
                  <a:lnTo>
                    <a:pt x="1398" y="6"/>
                  </a:lnTo>
                  <a:lnTo>
                    <a:pt x="1380" y="10"/>
                  </a:lnTo>
                  <a:lnTo>
                    <a:pt x="1363" y="14"/>
                  </a:lnTo>
                  <a:lnTo>
                    <a:pt x="1346" y="19"/>
                  </a:lnTo>
                  <a:lnTo>
                    <a:pt x="1328" y="25"/>
                  </a:lnTo>
                  <a:lnTo>
                    <a:pt x="1291" y="38"/>
                  </a:lnTo>
                  <a:lnTo>
                    <a:pt x="1255" y="53"/>
                  </a:lnTo>
                  <a:lnTo>
                    <a:pt x="1219" y="69"/>
                  </a:lnTo>
                  <a:lnTo>
                    <a:pt x="1182" y="86"/>
                  </a:lnTo>
                  <a:lnTo>
                    <a:pt x="1148" y="104"/>
                  </a:lnTo>
                  <a:lnTo>
                    <a:pt x="1115" y="121"/>
                  </a:lnTo>
                  <a:lnTo>
                    <a:pt x="1055" y="155"/>
                  </a:lnTo>
                  <a:lnTo>
                    <a:pt x="1007" y="182"/>
                  </a:lnTo>
                  <a:lnTo>
                    <a:pt x="974" y="202"/>
                  </a:lnTo>
                  <a:lnTo>
                    <a:pt x="944" y="221"/>
                  </a:lnTo>
                  <a:lnTo>
                    <a:pt x="917" y="239"/>
                  </a:lnTo>
                  <a:lnTo>
                    <a:pt x="891" y="258"/>
                  </a:lnTo>
                  <a:lnTo>
                    <a:pt x="869" y="275"/>
                  </a:lnTo>
                  <a:lnTo>
                    <a:pt x="847" y="292"/>
                  </a:lnTo>
                  <a:lnTo>
                    <a:pt x="828" y="310"/>
                  </a:lnTo>
                  <a:lnTo>
                    <a:pt x="810" y="326"/>
                  </a:lnTo>
                  <a:lnTo>
                    <a:pt x="793" y="342"/>
                  </a:lnTo>
                  <a:lnTo>
                    <a:pt x="778" y="359"/>
                  </a:lnTo>
                  <a:lnTo>
                    <a:pt x="764" y="375"/>
                  </a:lnTo>
                  <a:lnTo>
                    <a:pt x="750" y="390"/>
                  </a:lnTo>
                  <a:lnTo>
                    <a:pt x="725" y="421"/>
                  </a:lnTo>
                  <a:lnTo>
                    <a:pt x="701" y="450"/>
                  </a:lnTo>
                  <a:lnTo>
                    <a:pt x="676" y="480"/>
                  </a:lnTo>
                  <a:lnTo>
                    <a:pt x="650" y="509"/>
                  </a:lnTo>
                  <a:lnTo>
                    <a:pt x="636" y="524"/>
                  </a:lnTo>
                  <a:lnTo>
                    <a:pt x="621" y="538"/>
                  </a:lnTo>
                  <a:lnTo>
                    <a:pt x="605" y="554"/>
                  </a:lnTo>
                  <a:lnTo>
                    <a:pt x="587" y="568"/>
                  </a:lnTo>
                  <a:lnTo>
                    <a:pt x="568" y="583"/>
                  </a:lnTo>
                  <a:lnTo>
                    <a:pt x="547" y="597"/>
                  </a:lnTo>
                  <a:lnTo>
                    <a:pt x="525" y="613"/>
                  </a:lnTo>
                  <a:lnTo>
                    <a:pt x="502" y="628"/>
                  </a:lnTo>
                  <a:lnTo>
                    <a:pt x="475" y="643"/>
                  </a:lnTo>
                  <a:lnTo>
                    <a:pt x="445" y="660"/>
                  </a:lnTo>
                  <a:lnTo>
                    <a:pt x="415" y="675"/>
                  </a:lnTo>
                  <a:lnTo>
                    <a:pt x="380" y="691"/>
                  </a:lnTo>
                  <a:lnTo>
                    <a:pt x="368" y="696"/>
                  </a:lnTo>
                  <a:lnTo>
                    <a:pt x="357" y="699"/>
                  </a:lnTo>
                  <a:lnTo>
                    <a:pt x="345" y="700"/>
                  </a:lnTo>
                  <a:lnTo>
                    <a:pt x="336" y="700"/>
                  </a:lnTo>
                  <a:lnTo>
                    <a:pt x="320" y="697"/>
                  </a:lnTo>
                  <a:lnTo>
                    <a:pt x="306" y="693"/>
                  </a:lnTo>
                  <a:lnTo>
                    <a:pt x="298" y="691"/>
                  </a:lnTo>
                  <a:lnTo>
                    <a:pt x="293" y="690"/>
                  </a:lnTo>
                  <a:lnTo>
                    <a:pt x="287" y="690"/>
                  </a:lnTo>
                  <a:lnTo>
                    <a:pt x="282" y="691"/>
                  </a:lnTo>
                  <a:lnTo>
                    <a:pt x="277" y="694"/>
                  </a:lnTo>
                  <a:lnTo>
                    <a:pt x="272" y="699"/>
                  </a:lnTo>
                  <a:lnTo>
                    <a:pt x="267" y="707"/>
                  </a:lnTo>
                  <a:lnTo>
                    <a:pt x="262" y="717"/>
                  </a:lnTo>
                  <a:lnTo>
                    <a:pt x="242" y="761"/>
                  </a:lnTo>
                  <a:lnTo>
                    <a:pt x="219" y="817"/>
                  </a:lnTo>
                  <a:lnTo>
                    <a:pt x="193" y="881"/>
                  </a:lnTo>
                  <a:lnTo>
                    <a:pt x="166" y="949"/>
                  </a:lnTo>
                  <a:lnTo>
                    <a:pt x="138" y="1017"/>
                  </a:lnTo>
                  <a:lnTo>
                    <a:pt x="112" y="1080"/>
                  </a:lnTo>
                  <a:lnTo>
                    <a:pt x="88" y="1135"/>
                  </a:lnTo>
                  <a:lnTo>
                    <a:pt x="70" y="1178"/>
                  </a:lnTo>
                  <a:lnTo>
                    <a:pt x="67" y="1185"/>
                  </a:lnTo>
                  <a:lnTo>
                    <a:pt x="65" y="1198"/>
                  </a:lnTo>
                  <a:lnTo>
                    <a:pt x="62" y="1215"/>
                  </a:lnTo>
                  <a:lnTo>
                    <a:pt x="59" y="1238"/>
                  </a:lnTo>
                  <a:lnTo>
                    <a:pt x="54" y="1295"/>
                  </a:lnTo>
                  <a:lnTo>
                    <a:pt x="47" y="1365"/>
                  </a:lnTo>
                  <a:lnTo>
                    <a:pt x="35" y="1538"/>
                  </a:lnTo>
                  <a:lnTo>
                    <a:pt x="23" y="1732"/>
                  </a:lnTo>
                  <a:lnTo>
                    <a:pt x="13" y="1924"/>
                  </a:lnTo>
                  <a:lnTo>
                    <a:pt x="6" y="2094"/>
                  </a:lnTo>
                  <a:lnTo>
                    <a:pt x="3" y="2162"/>
                  </a:lnTo>
                  <a:lnTo>
                    <a:pt x="1" y="2216"/>
                  </a:lnTo>
                  <a:lnTo>
                    <a:pt x="0" y="2252"/>
                  </a:lnTo>
                  <a:lnTo>
                    <a:pt x="1" y="2268"/>
                  </a:lnTo>
                  <a:lnTo>
                    <a:pt x="13" y="2310"/>
                  </a:lnTo>
                  <a:lnTo>
                    <a:pt x="23" y="2349"/>
                  </a:lnTo>
                  <a:lnTo>
                    <a:pt x="33" y="2385"/>
                  </a:lnTo>
                  <a:lnTo>
                    <a:pt x="44" y="2420"/>
                  </a:lnTo>
                  <a:lnTo>
                    <a:pt x="56" y="2453"/>
                  </a:lnTo>
                  <a:lnTo>
                    <a:pt x="66" y="2483"/>
                  </a:lnTo>
                  <a:lnTo>
                    <a:pt x="77" y="2512"/>
                  </a:lnTo>
                  <a:lnTo>
                    <a:pt x="88" y="2539"/>
                  </a:lnTo>
                  <a:lnTo>
                    <a:pt x="99" y="2565"/>
                  </a:lnTo>
                  <a:lnTo>
                    <a:pt x="111" y="2590"/>
                  </a:lnTo>
                  <a:lnTo>
                    <a:pt x="122" y="2614"/>
                  </a:lnTo>
                  <a:lnTo>
                    <a:pt x="134" y="2636"/>
                  </a:lnTo>
                  <a:lnTo>
                    <a:pt x="158" y="2680"/>
                  </a:lnTo>
                  <a:lnTo>
                    <a:pt x="181" y="2721"/>
                  </a:lnTo>
                  <a:lnTo>
                    <a:pt x="232" y="2805"/>
                  </a:lnTo>
                  <a:lnTo>
                    <a:pt x="286" y="2898"/>
                  </a:lnTo>
                  <a:lnTo>
                    <a:pt x="315" y="2952"/>
                  </a:lnTo>
                  <a:lnTo>
                    <a:pt x="343" y="3011"/>
                  </a:lnTo>
                  <a:lnTo>
                    <a:pt x="359" y="3043"/>
                  </a:lnTo>
                  <a:lnTo>
                    <a:pt x="374" y="3078"/>
                  </a:lnTo>
                  <a:lnTo>
                    <a:pt x="389" y="3115"/>
                  </a:lnTo>
                  <a:lnTo>
                    <a:pt x="406" y="3153"/>
                  </a:lnTo>
                  <a:lnTo>
                    <a:pt x="412" y="3167"/>
                  </a:lnTo>
                  <a:lnTo>
                    <a:pt x="420" y="3181"/>
                  </a:lnTo>
                  <a:lnTo>
                    <a:pt x="430" y="3197"/>
                  </a:lnTo>
                  <a:lnTo>
                    <a:pt x="442" y="3214"/>
                  </a:lnTo>
                  <a:lnTo>
                    <a:pt x="457" y="3231"/>
                  </a:lnTo>
                  <a:lnTo>
                    <a:pt x="472" y="3247"/>
                  </a:lnTo>
                  <a:lnTo>
                    <a:pt x="488" y="3265"/>
                  </a:lnTo>
                  <a:lnTo>
                    <a:pt x="507" y="3281"/>
                  </a:lnTo>
                  <a:lnTo>
                    <a:pt x="526" y="3297"/>
                  </a:lnTo>
                  <a:lnTo>
                    <a:pt x="545" y="3313"/>
                  </a:lnTo>
                  <a:lnTo>
                    <a:pt x="567" y="3326"/>
                  </a:lnTo>
                  <a:lnTo>
                    <a:pt x="587" y="3338"/>
                  </a:lnTo>
                  <a:lnTo>
                    <a:pt x="598" y="3343"/>
                  </a:lnTo>
                  <a:lnTo>
                    <a:pt x="610" y="3348"/>
                  </a:lnTo>
                  <a:lnTo>
                    <a:pt x="620" y="3352"/>
                  </a:lnTo>
                  <a:lnTo>
                    <a:pt x="631" y="3355"/>
                  </a:lnTo>
                  <a:lnTo>
                    <a:pt x="641" y="3359"/>
                  </a:lnTo>
                  <a:lnTo>
                    <a:pt x="653" y="3361"/>
                  </a:lnTo>
                  <a:lnTo>
                    <a:pt x="664" y="3363"/>
                  </a:lnTo>
                  <a:lnTo>
                    <a:pt x="674" y="3364"/>
                  </a:lnTo>
                  <a:lnTo>
                    <a:pt x="725" y="2917"/>
                  </a:lnTo>
                </a:path>
              </a:pathLst>
            </a:custGeom>
            <a:noFill/>
            <a:ln w="46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4132800" y="3282840"/>
              <a:ext cx="164520" cy="19080"/>
            </a:xfrm>
            <a:custGeom>
              <a:avLst/>
              <a:gdLst/>
              <a:ahLst/>
              <a:rect l="l" t="t" r="r" b="b"/>
              <a:pathLst>
                <a:path w="425" h="49">
                  <a:moveTo>
                    <a:pt x="0" y="44"/>
                  </a:moveTo>
                  <a:lnTo>
                    <a:pt x="7" y="41"/>
                  </a:lnTo>
                  <a:lnTo>
                    <a:pt x="14" y="38"/>
                  </a:lnTo>
                  <a:lnTo>
                    <a:pt x="23" y="35"/>
                  </a:lnTo>
                  <a:lnTo>
                    <a:pt x="34" y="32"/>
                  </a:lnTo>
                  <a:lnTo>
                    <a:pt x="59" y="27"/>
                  </a:lnTo>
                  <a:lnTo>
                    <a:pt x="87" y="22"/>
                  </a:lnTo>
                  <a:lnTo>
                    <a:pt x="119" y="18"/>
                  </a:lnTo>
                  <a:lnTo>
                    <a:pt x="153" y="14"/>
                  </a:lnTo>
                  <a:lnTo>
                    <a:pt x="188" y="10"/>
                  </a:lnTo>
                  <a:lnTo>
                    <a:pt x="225" y="8"/>
                  </a:lnTo>
                  <a:lnTo>
                    <a:pt x="294" y="4"/>
                  </a:lnTo>
                  <a:lnTo>
                    <a:pt x="356" y="1"/>
                  </a:lnTo>
                  <a:lnTo>
                    <a:pt x="401" y="0"/>
                  </a:lnTo>
                  <a:lnTo>
                    <a:pt x="421" y="0"/>
                  </a:lnTo>
                  <a:lnTo>
                    <a:pt x="424" y="0"/>
                  </a:lnTo>
                  <a:lnTo>
                    <a:pt x="425" y="2"/>
                  </a:lnTo>
                  <a:lnTo>
                    <a:pt x="424" y="4"/>
                  </a:lnTo>
                  <a:lnTo>
                    <a:pt x="422" y="7"/>
                  </a:lnTo>
                  <a:lnTo>
                    <a:pt x="415" y="16"/>
                  </a:lnTo>
                  <a:lnTo>
                    <a:pt x="405" y="25"/>
                  </a:lnTo>
                  <a:lnTo>
                    <a:pt x="392" y="34"/>
                  </a:lnTo>
                  <a:lnTo>
                    <a:pt x="381" y="41"/>
                  </a:lnTo>
                  <a:lnTo>
                    <a:pt x="372" y="47"/>
                  </a:lnTo>
                  <a:lnTo>
                    <a:pt x="367" y="49"/>
                  </a:lnTo>
                </a:path>
              </a:pathLst>
            </a:custGeom>
            <a:noFill/>
            <a:ln w="46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3863520" y="3298680"/>
              <a:ext cx="220680" cy="231840"/>
            </a:xfrm>
            <a:custGeom>
              <a:avLst/>
              <a:gdLst/>
              <a:ahLst/>
              <a:rect l="l" t="t" r="r" b="b"/>
              <a:pathLst>
                <a:path w="570" h="597">
                  <a:moveTo>
                    <a:pt x="570" y="2"/>
                  </a:moveTo>
                  <a:lnTo>
                    <a:pt x="539" y="0"/>
                  </a:lnTo>
                  <a:lnTo>
                    <a:pt x="509" y="0"/>
                  </a:lnTo>
                  <a:lnTo>
                    <a:pt x="479" y="2"/>
                  </a:lnTo>
                  <a:lnTo>
                    <a:pt x="450" y="6"/>
                  </a:lnTo>
                  <a:lnTo>
                    <a:pt x="421" y="11"/>
                  </a:lnTo>
                  <a:lnTo>
                    <a:pt x="393" y="18"/>
                  </a:lnTo>
                  <a:lnTo>
                    <a:pt x="366" y="27"/>
                  </a:lnTo>
                  <a:lnTo>
                    <a:pt x="338" y="37"/>
                  </a:lnTo>
                  <a:lnTo>
                    <a:pt x="313" y="48"/>
                  </a:lnTo>
                  <a:lnTo>
                    <a:pt x="287" y="61"/>
                  </a:lnTo>
                  <a:lnTo>
                    <a:pt x="263" y="76"/>
                  </a:lnTo>
                  <a:lnTo>
                    <a:pt x="239" y="92"/>
                  </a:lnTo>
                  <a:lnTo>
                    <a:pt x="217" y="109"/>
                  </a:lnTo>
                  <a:lnTo>
                    <a:pt x="194" y="128"/>
                  </a:lnTo>
                  <a:lnTo>
                    <a:pt x="174" y="147"/>
                  </a:lnTo>
                  <a:lnTo>
                    <a:pt x="154" y="167"/>
                  </a:lnTo>
                  <a:lnTo>
                    <a:pt x="135" y="189"/>
                  </a:lnTo>
                  <a:lnTo>
                    <a:pt x="117" y="211"/>
                  </a:lnTo>
                  <a:lnTo>
                    <a:pt x="101" y="235"/>
                  </a:lnTo>
                  <a:lnTo>
                    <a:pt x="84" y="259"/>
                  </a:lnTo>
                  <a:lnTo>
                    <a:pt x="70" y="284"/>
                  </a:lnTo>
                  <a:lnTo>
                    <a:pt x="57" y="310"/>
                  </a:lnTo>
                  <a:lnTo>
                    <a:pt x="45" y="337"/>
                  </a:lnTo>
                  <a:lnTo>
                    <a:pt x="34" y="363"/>
                  </a:lnTo>
                  <a:lnTo>
                    <a:pt x="25" y="392"/>
                  </a:lnTo>
                  <a:lnTo>
                    <a:pt x="17" y="419"/>
                  </a:lnTo>
                  <a:lnTo>
                    <a:pt x="11" y="448"/>
                  </a:lnTo>
                  <a:lnTo>
                    <a:pt x="6" y="477"/>
                  </a:lnTo>
                  <a:lnTo>
                    <a:pt x="3" y="507"/>
                  </a:lnTo>
                  <a:lnTo>
                    <a:pt x="1" y="537"/>
                  </a:lnTo>
                  <a:lnTo>
                    <a:pt x="0" y="566"/>
                  </a:lnTo>
                  <a:lnTo>
                    <a:pt x="1" y="597"/>
                  </a:lnTo>
                </a:path>
              </a:pathLst>
            </a:custGeom>
            <a:noFill/>
            <a:ln w="46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3691440" y="3337200"/>
              <a:ext cx="77040" cy="164160"/>
            </a:xfrm>
            <a:custGeom>
              <a:avLst/>
              <a:gdLst/>
              <a:ahLst/>
              <a:rect l="l" t="t" r="r" b="b"/>
              <a:pathLst>
                <a:path w="199" h="422">
                  <a:moveTo>
                    <a:pt x="0" y="0"/>
                  </a:moveTo>
                  <a:lnTo>
                    <a:pt x="7" y="29"/>
                  </a:lnTo>
                  <a:lnTo>
                    <a:pt x="15" y="57"/>
                  </a:lnTo>
                  <a:lnTo>
                    <a:pt x="23" y="86"/>
                  </a:lnTo>
                  <a:lnTo>
                    <a:pt x="31" y="113"/>
                  </a:lnTo>
                  <a:lnTo>
                    <a:pt x="41" y="141"/>
                  </a:lnTo>
                  <a:lnTo>
                    <a:pt x="52" y="168"/>
                  </a:lnTo>
                  <a:lnTo>
                    <a:pt x="62" y="196"/>
                  </a:lnTo>
                  <a:lnTo>
                    <a:pt x="74" y="222"/>
                  </a:lnTo>
                  <a:lnTo>
                    <a:pt x="86" y="249"/>
                  </a:lnTo>
                  <a:lnTo>
                    <a:pt x="100" y="274"/>
                  </a:lnTo>
                  <a:lnTo>
                    <a:pt x="114" y="300"/>
                  </a:lnTo>
                  <a:lnTo>
                    <a:pt x="129" y="325"/>
                  </a:lnTo>
                  <a:lnTo>
                    <a:pt x="144" y="351"/>
                  </a:lnTo>
                  <a:lnTo>
                    <a:pt x="162" y="374"/>
                  </a:lnTo>
                  <a:lnTo>
                    <a:pt x="179" y="399"/>
                  </a:lnTo>
                  <a:lnTo>
                    <a:pt x="199" y="422"/>
                  </a:lnTo>
                </a:path>
              </a:pathLst>
            </a:custGeom>
            <a:noFill/>
            <a:ln w="46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4762080" y="3634920"/>
              <a:ext cx="56160" cy="19080"/>
            </a:xfrm>
            <a:custGeom>
              <a:avLst/>
              <a:gdLst/>
              <a:ahLst/>
              <a:rect l="l" t="t" r="r" b="b"/>
              <a:pathLst>
                <a:path w="145" h="48">
                  <a:moveTo>
                    <a:pt x="0" y="48"/>
                  </a:moveTo>
                  <a:lnTo>
                    <a:pt x="14" y="37"/>
                  </a:lnTo>
                  <a:lnTo>
                    <a:pt x="32" y="27"/>
                  </a:lnTo>
                  <a:lnTo>
                    <a:pt x="49" y="17"/>
                  </a:lnTo>
                  <a:lnTo>
                    <a:pt x="67" y="11"/>
                  </a:lnTo>
                  <a:lnTo>
                    <a:pt x="87" y="5"/>
                  </a:lnTo>
                  <a:lnTo>
                    <a:pt x="106" y="2"/>
                  </a:lnTo>
                  <a:lnTo>
                    <a:pt x="127" y="0"/>
                  </a:lnTo>
                  <a:lnTo>
                    <a:pt x="145" y="1"/>
                  </a:lnTo>
                </a:path>
              </a:pathLst>
            </a:custGeom>
            <a:noFill/>
            <a:ln w="1440">
              <a:solidFill>
                <a:srgbClr val="6f57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4770000" y="3660120"/>
              <a:ext cx="46440" cy="9360"/>
            </a:xfrm>
            <a:custGeom>
              <a:avLst/>
              <a:gdLst/>
              <a:ahLst/>
              <a:rect l="l" t="t" r="r" b="b"/>
              <a:pathLst>
                <a:path w="120" h="25">
                  <a:moveTo>
                    <a:pt x="0" y="8"/>
                  </a:moveTo>
                  <a:lnTo>
                    <a:pt x="7" y="5"/>
                  </a:lnTo>
                  <a:lnTo>
                    <a:pt x="14" y="3"/>
                  </a:lnTo>
                  <a:lnTo>
                    <a:pt x="21" y="1"/>
                  </a:lnTo>
                  <a:lnTo>
                    <a:pt x="29" y="0"/>
                  </a:lnTo>
                  <a:lnTo>
                    <a:pt x="44" y="0"/>
                  </a:lnTo>
                  <a:lnTo>
                    <a:pt x="61" y="2"/>
                  </a:lnTo>
                  <a:lnTo>
                    <a:pt x="77" y="6"/>
                  </a:lnTo>
                  <a:lnTo>
                    <a:pt x="92" y="12"/>
                  </a:lnTo>
                  <a:lnTo>
                    <a:pt x="107" y="18"/>
                  </a:lnTo>
                  <a:lnTo>
                    <a:pt x="120" y="25"/>
                  </a:lnTo>
                </a:path>
              </a:pathLst>
            </a:custGeom>
            <a:noFill/>
            <a:ln w="1440">
              <a:solidFill>
                <a:srgbClr val="6f57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4059000" y="3580560"/>
              <a:ext cx="197280" cy="88920"/>
            </a:xfrm>
            <a:custGeom>
              <a:avLst/>
              <a:gdLst/>
              <a:ahLst/>
              <a:rect l="l" t="t" r="r" b="b"/>
              <a:pathLst>
                <a:path w="511" h="231">
                  <a:moveTo>
                    <a:pt x="0" y="12"/>
                  </a:moveTo>
                  <a:lnTo>
                    <a:pt x="156" y="0"/>
                  </a:lnTo>
                  <a:lnTo>
                    <a:pt x="184" y="0"/>
                  </a:lnTo>
                  <a:lnTo>
                    <a:pt x="211" y="1"/>
                  </a:lnTo>
                  <a:lnTo>
                    <a:pt x="236" y="3"/>
                  </a:lnTo>
                  <a:lnTo>
                    <a:pt x="261" y="6"/>
                  </a:lnTo>
                  <a:lnTo>
                    <a:pt x="283" y="12"/>
                  </a:lnTo>
                  <a:lnTo>
                    <a:pt x="305" y="17"/>
                  </a:lnTo>
                  <a:lnTo>
                    <a:pt x="324" y="24"/>
                  </a:lnTo>
                  <a:lnTo>
                    <a:pt x="344" y="31"/>
                  </a:lnTo>
                  <a:lnTo>
                    <a:pt x="361" y="39"/>
                  </a:lnTo>
                  <a:lnTo>
                    <a:pt x="377" y="48"/>
                  </a:lnTo>
                  <a:lnTo>
                    <a:pt x="392" y="57"/>
                  </a:lnTo>
                  <a:lnTo>
                    <a:pt x="406" y="68"/>
                  </a:lnTo>
                  <a:lnTo>
                    <a:pt x="418" y="78"/>
                  </a:lnTo>
                  <a:lnTo>
                    <a:pt x="430" y="89"/>
                  </a:lnTo>
                  <a:lnTo>
                    <a:pt x="440" y="100"/>
                  </a:lnTo>
                  <a:lnTo>
                    <a:pt x="451" y="111"/>
                  </a:lnTo>
                  <a:lnTo>
                    <a:pt x="460" y="122"/>
                  </a:lnTo>
                  <a:lnTo>
                    <a:pt x="467" y="133"/>
                  </a:lnTo>
                  <a:lnTo>
                    <a:pt x="474" y="144"/>
                  </a:lnTo>
                  <a:lnTo>
                    <a:pt x="481" y="154"/>
                  </a:lnTo>
                  <a:lnTo>
                    <a:pt x="492" y="175"/>
                  </a:lnTo>
                  <a:lnTo>
                    <a:pt x="500" y="193"/>
                  </a:lnTo>
                  <a:lnTo>
                    <a:pt x="509" y="221"/>
                  </a:lnTo>
                  <a:lnTo>
                    <a:pt x="511" y="231"/>
                  </a:lnTo>
                </a:path>
              </a:pathLst>
            </a:custGeom>
            <a:noFill/>
            <a:ln w="3240">
              <a:solidFill>
                <a:srgbClr val="6f57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4246920" y="3923280"/>
              <a:ext cx="300240" cy="131400"/>
            </a:xfrm>
            <a:custGeom>
              <a:avLst/>
              <a:gdLst/>
              <a:ahLst/>
              <a:rect l="l" t="t" r="r" b="b"/>
              <a:pathLst>
                <a:path w="777" h="338">
                  <a:moveTo>
                    <a:pt x="11" y="0"/>
                  </a:moveTo>
                  <a:lnTo>
                    <a:pt x="7" y="12"/>
                  </a:lnTo>
                  <a:lnTo>
                    <a:pt x="4" y="25"/>
                  </a:lnTo>
                  <a:lnTo>
                    <a:pt x="1" y="37"/>
                  </a:lnTo>
                  <a:lnTo>
                    <a:pt x="0" y="50"/>
                  </a:lnTo>
                  <a:lnTo>
                    <a:pt x="0" y="62"/>
                  </a:lnTo>
                  <a:lnTo>
                    <a:pt x="0" y="74"/>
                  </a:lnTo>
                  <a:lnTo>
                    <a:pt x="2" y="79"/>
                  </a:lnTo>
                  <a:lnTo>
                    <a:pt x="3" y="85"/>
                  </a:lnTo>
                  <a:lnTo>
                    <a:pt x="6" y="91"/>
                  </a:lnTo>
                  <a:lnTo>
                    <a:pt x="8" y="96"/>
                  </a:lnTo>
                  <a:lnTo>
                    <a:pt x="15" y="106"/>
                  </a:lnTo>
                  <a:lnTo>
                    <a:pt x="22" y="116"/>
                  </a:lnTo>
                  <a:lnTo>
                    <a:pt x="30" y="124"/>
                  </a:lnTo>
                  <a:lnTo>
                    <a:pt x="39" y="132"/>
                  </a:lnTo>
                  <a:lnTo>
                    <a:pt x="48" y="139"/>
                  </a:lnTo>
                  <a:lnTo>
                    <a:pt x="59" y="146"/>
                  </a:lnTo>
                  <a:lnTo>
                    <a:pt x="69" y="152"/>
                  </a:lnTo>
                  <a:lnTo>
                    <a:pt x="79" y="157"/>
                  </a:lnTo>
                  <a:lnTo>
                    <a:pt x="101" y="167"/>
                  </a:lnTo>
                  <a:lnTo>
                    <a:pt x="124" y="177"/>
                  </a:lnTo>
                  <a:lnTo>
                    <a:pt x="135" y="182"/>
                  </a:lnTo>
                  <a:lnTo>
                    <a:pt x="146" y="188"/>
                  </a:lnTo>
                  <a:lnTo>
                    <a:pt x="157" y="195"/>
                  </a:lnTo>
                  <a:lnTo>
                    <a:pt x="167" y="201"/>
                  </a:lnTo>
                  <a:lnTo>
                    <a:pt x="190" y="221"/>
                  </a:lnTo>
                  <a:lnTo>
                    <a:pt x="213" y="241"/>
                  </a:lnTo>
                  <a:lnTo>
                    <a:pt x="234" y="262"/>
                  </a:lnTo>
                  <a:lnTo>
                    <a:pt x="255" y="281"/>
                  </a:lnTo>
                  <a:lnTo>
                    <a:pt x="266" y="290"/>
                  </a:lnTo>
                  <a:lnTo>
                    <a:pt x="276" y="300"/>
                  </a:lnTo>
                  <a:lnTo>
                    <a:pt x="288" y="308"/>
                  </a:lnTo>
                  <a:lnTo>
                    <a:pt x="300" y="315"/>
                  </a:lnTo>
                  <a:lnTo>
                    <a:pt x="313" y="322"/>
                  </a:lnTo>
                  <a:lnTo>
                    <a:pt x="327" y="327"/>
                  </a:lnTo>
                  <a:lnTo>
                    <a:pt x="341" y="332"/>
                  </a:lnTo>
                  <a:lnTo>
                    <a:pt x="357" y="336"/>
                  </a:lnTo>
                  <a:lnTo>
                    <a:pt x="370" y="338"/>
                  </a:lnTo>
                  <a:lnTo>
                    <a:pt x="383" y="338"/>
                  </a:lnTo>
                  <a:lnTo>
                    <a:pt x="396" y="338"/>
                  </a:lnTo>
                  <a:lnTo>
                    <a:pt x="410" y="336"/>
                  </a:lnTo>
                  <a:lnTo>
                    <a:pt x="422" y="333"/>
                  </a:lnTo>
                  <a:lnTo>
                    <a:pt x="434" y="329"/>
                  </a:lnTo>
                  <a:lnTo>
                    <a:pt x="446" y="324"/>
                  </a:lnTo>
                  <a:lnTo>
                    <a:pt x="458" y="319"/>
                  </a:lnTo>
                  <a:lnTo>
                    <a:pt x="470" y="312"/>
                  </a:lnTo>
                  <a:lnTo>
                    <a:pt x="481" y="305"/>
                  </a:lnTo>
                  <a:lnTo>
                    <a:pt x="492" y="298"/>
                  </a:lnTo>
                  <a:lnTo>
                    <a:pt x="503" y="289"/>
                  </a:lnTo>
                  <a:lnTo>
                    <a:pt x="523" y="272"/>
                  </a:lnTo>
                  <a:lnTo>
                    <a:pt x="543" y="254"/>
                  </a:lnTo>
                  <a:lnTo>
                    <a:pt x="549" y="249"/>
                  </a:lnTo>
                  <a:lnTo>
                    <a:pt x="558" y="244"/>
                  </a:lnTo>
                  <a:lnTo>
                    <a:pt x="565" y="240"/>
                  </a:lnTo>
                  <a:lnTo>
                    <a:pt x="574" y="237"/>
                  </a:lnTo>
                  <a:lnTo>
                    <a:pt x="592" y="234"/>
                  </a:lnTo>
                  <a:lnTo>
                    <a:pt x="613" y="232"/>
                  </a:lnTo>
                  <a:lnTo>
                    <a:pt x="633" y="230"/>
                  </a:lnTo>
                  <a:lnTo>
                    <a:pt x="654" y="228"/>
                  </a:lnTo>
                  <a:lnTo>
                    <a:pt x="664" y="226"/>
                  </a:lnTo>
                  <a:lnTo>
                    <a:pt x="674" y="224"/>
                  </a:lnTo>
                  <a:lnTo>
                    <a:pt x="684" y="221"/>
                  </a:lnTo>
                  <a:lnTo>
                    <a:pt x="693" y="218"/>
                  </a:lnTo>
                  <a:lnTo>
                    <a:pt x="705" y="211"/>
                  </a:lnTo>
                  <a:lnTo>
                    <a:pt x="715" y="204"/>
                  </a:lnTo>
                  <a:lnTo>
                    <a:pt x="725" y="195"/>
                  </a:lnTo>
                  <a:lnTo>
                    <a:pt x="734" y="185"/>
                  </a:lnTo>
                  <a:lnTo>
                    <a:pt x="743" y="175"/>
                  </a:lnTo>
                  <a:lnTo>
                    <a:pt x="750" y="164"/>
                  </a:lnTo>
                  <a:lnTo>
                    <a:pt x="758" y="152"/>
                  </a:lnTo>
                  <a:lnTo>
                    <a:pt x="764" y="139"/>
                  </a:lnTo>
                  <a:lnTo>
                    <a:pt x="769" y="126"/>
                  </a:lnTo>
                  <a:lnTo>
                    <a:pt x="773" y="113"/>
                  </a:lnTo>
                  <a:lnTo>
                    <a:pt x="775" y="100"/>
                  </a:lnTo>
                  <a:lnTo>
                    <a:pt x="777" y="85"/>
                  </a:lnTo>
                  <a:lnTo>
                    <a:pt x="777" y="72"/>
                  </a:lnTo>
                  <a:lnTo>
                    <a:pt x="776" y="58"/>
                  </a:lnTo>
                  <a:lnTo>
                    <a:pt x="773" y="44"/>
                  </a:lnTo>
                  <a:lnTo>
                    <a:pt x="769" y="29"/>
                  </a:lnTo>
                </a:path>
              </a:pathLst>
            </a:custGeom>
            <a:noFill/>
            <a:ln w="3240">
              <a:solidFill>
                <a:srgbClr val="6f57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4270320" y="3590280"/>
              <a:ext cx="92880" cy="361800"/>
            </a:xfrm>
            <a:custGeom>
              <a:avLst/>
              <a:gdLst/>
              <a:ahLst/>
              <a:rect l="l" t="t" r="r" b="b"/>
              <a:pathLst>
                <a:path w="238" h="934">
                  <a:moveTo>
                    <a:pt x="0" y="0"/>
                  </a:moveTo>
                  <a:lnTo>
                    <a:pt x="8" y="5"/>
                  </a:lnTo>
                  <a:lnTo>
                    <a:pt x="27" y="19"/>
                  </a:lnTo>
                  <a:lnTo>
                    <a:pt x="56" y="42"/>
                  </a:lnTo>
                  <a:lnTo>
                    <a:pt x="89" y="69"/>
                  </a:lnTo>
                  <a:lnTo>
                    <a:pt x="107" y="86"/>
                  </a:lnTo>
                  <a:lnTo>
                    <a:pt x="124" y="103"/>
                  </a:lnTo>
                  <a:lnTo>
                    <a:pt x="140" y="121"/>
                  </a:lnTo>
                  <a:lnTo>
                    <a:pt x="156" y="141"/>
                  </a:lnTo>
                  <a:lnTo>
                    <a:pt x="170" y="161"/>
                  </a:lnTo>
                  <a:lnTo>
                    <a:pt x="181" y="180"/>
                  </a:lnTo>
                  <a:lnTo>
                    <a:pt x="186" y="191"/>
                  </a:lnTo>
                  <a:lnTo>
                    <a:pt x="191" y="201"/>
                  </a:lnTo>
                  <a:lnTo>
                    <a:pt x="194" y="212"/>
                  </a:lnTo>
                  <a:lnTo>
                    <a:pt x="197" y="222"/>
                  </a:lnTo>
                  <a:lnTo>
                    <a:pt x="202" y="246"/>
                  </a:lnTo>
                  <a:lnTo>
                    <a:pt x="206" y="275"/>
                  </a:lnTo>
                  <a:lnTo>
                    <a:pt x="211" y="309"/>
                  </a:lnTo>
                  <a:lnTo>
                    <a:pt x="215" y="346"/>
                  </a:lnTo>
                  <a:lnTo>
                    <a:pt x="223" y="427"/>
                  </a:lnTo>
                  <a:lnTo>
                    <a:pt x="230" y="512"/>
                  </a:lnTo>
                  <a:lnTo>
                    <a:pt x="235" y="595"/>
                  </a:lnTo>
                  <a:lnTo>
                    <a:pt x="237" y="667"/>
                  </a:lnTo>
                  <a:lnTo>
                    <a:pt x="238" y="697"/>
                  </a:lnTo>
                  <a:lnTo>
                    <a:pt x="237" y="722"/>
                  </a:lnTo>
                  <a:lnTo>
                    <a:pt x="236" y="741"/>
                  </a:lnTo>
                  <a:lnTo>
                    <a:pt x="234" y="755"/>
                  </a:lnTo>
                  <a:lnTo>
                    <a:pt x="231" y="764"/>
                  </a:lnTo>
                  <a:lnTo>
                    <a:pt x="228" y="771"/>
                  </a:lnTo>
                  <a:lnTo>
                    <a:pt x="223" y="779"/>
                  </a:lnTo>
                  <a:lnTo>
                    <a:pt x="218" y="786"/>
                  </a:lnTo>
                  <a:lnTo>
                    <a:pt x="206" y="800"/>
                  </a:lnTo>
                  <a:lnTo>
                    <a:pt x="193" y="815"/>
                  </a:lnTo>
                  <a:lnTo>
                    <a:pt x="186" y="824"/>
                  </a:lnTo>
                  <a:lnTo>
                    <a:pt x="180" y="834"/>
                  </a:lnTo>
                  <a:lnTo>
                    <a:pt x="175" y="845"/>
                  </a:lnTo>
                  <a:lnTo>
                    <a:pt x="170" y="859"/>
                  </a:lnTo>
                  <a:lnTo>
                    <a:pt x="166" y="874"/>
                  </a:lnTo>
                  <a:lnTo>
                    <a:pt x="163" y="891"/>
                  </a:lnTo>
                  <a:lnTo>
                    <a:pt x="161" y="912"/>
                  </a:lnTo>
                  <a:lnTo>
                    <a:pt x="161" y="934"/>
                  </a:lnTo>
                </a:path>
              </a:pathLst>
            </a:custGeom>
            <a:noFill/>
            <a:ln w="4680">
              <a:solidFill>
                <a:srgbClr val="6f57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4531320" y="3584520"/>
              <a:ext cx="190080" cy="88920"/>
            </a:xfrm>
            <a:custGeom>
              <a:avLst/>
              <a:gdLst/>
              <a:ahLst/>
              <a:rect l="l" t="t" r="r" b="b"/>
              <a:pathLst>
                <a:path w="493" h="232">
                  <a:moveTo>
                    <a:pt x="493" y="11"/>
                  </a:moveTo>
                  <a:lnTo>
                    <a:pt x="355" y="0"/>
                  </a:lnTo>
                  <a:lnTo>
                    <a:pt x="328" y="0"/>
                  </a:lnTo>
                  <a:lnTo>
                    <a:pt x="300" y="1"/>
                  </a:lnTo>
                  <a:lnTo>
                    <a:pt x="275" y="3"/>
                  </a:lnTo>
                  <a:lnTo>
                    <a:pt x="251" y="7"/>
                  </a:lnTo>
                  <a:lnTo>
                    <a:pt x="229" y="11"/>
                  </a:lnTo>
                  <a:lnTo>
                    <a:pt x="207" y="17"/>
                  </a:lnTo>
                  <a:lnTo>
                    <a:pt x="188" y="23"/>
                  </a:lnTo>
                  <a:lnTo>
                    <a:pt x="169" y="31"/>
                  </a:lnTo>
                  <a:lnTo>
                    <a:pt x="151" y="39"/>
                  </a:lnTo>
                  <a:lnTo>
                    <a:pt x="136" y="48"/>
                  </a:lnTo>
                  <a:lnTo>
                    <a:pt x="121" y="58"/>
                  </a:lnTo>
                  <a:lnTo>
                    <a:pt x="106" y="68"/>
                  </a:lnTo>
                  <a:lnTo>
                    <a:pt x="94" y="78"/>
                  </a:lnTo>
                  <a:lnTo>
                    <a:pt x="82" y="89"/>
                  </a:lnTo>
                  <a:lnTo>
                    <a:pt x="72" y="101"/>
                  </a:lnTo>
                  <a:lnTo>
                    <a:pt x="61" y="112"/>
                  </a:lnTo>
                  <a:lnTo>
                    <a:pt x="52" y="123"/>
                  </a:lnTo>
                  <a:lnTo>
                    <a:pt x="44" y="134"/>
                  </a:lnTo>
                  <a:lnTo>
                    <a:pt x="37" y="144"/>
                  </a:lnTo>
                  <a:lnTo>
                    <a:pt x="31" y="156"/>
                  </a:lnTo>
                  <a:lnTo>
                    <a:pt x="21" y="176"/>
                  </a:lnTo>
                  <a:lnTo>
                    <a:pt x="12" y="194"/>
                  </a:lnTo>
                  <a:lnTo>
                    <a:pt x="3" y="222"/>
                  </a:lnTo>
                  <a:lnTo>
                    <a:pt x="0" y="232"/>
                  </a:lnTo>
                </a:path>
              </a:pathLst>
            </a:custGeom>
            <a:noFill/>
            <a:ln w="3240">
              <a:solidFill>
                <a:srgbClr val="6f57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4496760" y="3658320"/>
              <a:ext cx="257400" cy="51840"/>
            </a:xfrm>
            <a:custGeom>
              <a:avLst/>
              <a:gdLst/>
              <a:ahLst/>
              <a:rect l="l" t="t" r="r" b="b"/>
              <a:pathLst>
                <a:path w="661" h="136">
                  <a:moveTo>
                    <a:pt x="661" y="0"/>
                  </a:moveTo>
                  <a:lnTo>
                    <a:pt x="659" y="6"/>
                  </a:lnTo>
                  <a:lnTo>
                    <a:pt x="653" y="22"/>
                  </a:lnTo>
                  <a:lnTo>
                    <a:pt x="647" y="32"/>
                  </a:lnTo>
                  <a:lnTo>
                    <a:pt x="640" y="43"/>
                  </a:lnTo>
                  <a:lnTo>
                    <a:pt x="631" y="55"/>
                  </a:lnTo>
                  <a:lnTo>
                    <a:pt x="620" y="68"/>
                  </a:lnTo>
                  <a:lnTo>
                    <a:pt x="607" y="81"/>
                  </a:lnTo>
                  <a:lnTo>
                    <a:pt x="590" y="93"/>
                  </a:lnTo>
                  <a:lnTo>
                    <a:pt x="581" y="98"/>
                  </a:lnTo>
                  <a:lnTo>
                    <a:pt x="571" y="104"/>
                  </a:lnTo>
                  <a:lnTo>
                    <a:pt x="560" y="109"/>
                  </a:lnTo>
                  <a:lnTo>
                    <a:pt x="548" y="115"/>
                  </a:lnTo>
                  <a:lnTo>
                    <a:pt x="535" y="119"/>
                  </a:lnTo>
                  <a:lnTo>
                    <a:pt x="522" y="123"/>
                  </a:lnTo>
                  <a:lnTo>
                    <a:pt x="508" y="127"/>
                  </a:lnTo>
                  <a:lnTo>
                    <a:pt x="492" y="130"/>
                  </a:lnTo>
                  <a:lnTo>
                    <a:pt x="476" y="132"/>
                  </a:lnTo>
                  <a:lnTo>
                    <a:pt x="459" y="134"/>
                  </a:lnTo>
                  <a:lnTo>
                    <a:pt x="441" y="135"/>
                  </a:lnTo>
                  <a:lnTo>
                    <a:pt x="422" y="136"/>
                  </a:lnTo>
                  <a:lnTo>
                    <a:pt x="403" y="135"/>
                  </a:lnTo>
                  <a:lnTo>
                    <a:pt x="384" y="134"/>
                  </a:lnTo>
                  <a:lnTo>
                    <a:pt x="367" y="133"/>
                  </a:lnTo>
                  <a:lnTo>
                    <a:pt x="350" y="131"/>
                  </a:lnTo>
                  <a:lnTo>
                    <a:pt x="335" y="128"/>
                  </a:lnTo>
                  <a:lnTo>
                    <a:pt x="320" y="126"/>
                  </a:lnTo>
                  <a:lnTo>
                    <a:pt x="306" y="122"/>
                  </a:lnTo>
                  <a:lnTo>
                    <a:pt x="292" y="119"/>
                  </a:lnTo>
                  <a:lnTo>
                    <a:pt x="266" y="110"/>
                  </a:lnTo>
                  <a:lnTo>
                    <a:pt x="242" y="101"/>
                  </a:lnTo>
                  <a:lnTo>
                    <a:pt x="220" y="92"/>
                  </a:lnTo>
                  <a:lnTo>
                    <a:pt x="197" y="83"/>
                  </a:lnTo>
                  <a:lnTo>
                    <a:pt x="176" y="74"/>
                  </a:lnTo>
                  <a:lnTo>
                    <a:pt x="155" y="66"/>
                  </a:lnTo>
                  <a:lnTo>
                    <a:pt x="133" y="57"/>
                  </a:lnTo>
                  <a:lnTo>
                    <a:pt x="111" y="51"/>
                  </a:lnTo>
                  <a:lnTo>
                    <a:pt x="98" y="49"/>
                  </a:lnTo>
                  <a:lnTo>
                    <a:pt x="86" y="47"/>
                  </a:lnTo>
                  <a:lnTo>
                    <a:pt x="73" y="46"/>
                  </a:lnTo>
                  <a:lnTo>
                    <a:pt x="60" y="45"/>
                  </a:lnTo>
                  <a:lnTo>
                    <a:pt x="46" y="45"/>
                  </a:lnTo>
                  <a:lnTo>
                    <a:pt x="32" y="45"/>
                  </a:lnTo>
                  <a:lnTo>
                    <a:pt x="17" y="47"/>
                  </a:lnTo>
                  <a:lnTo>
                    <a:pt x="0" y="49"/>
                  </a:lnTo>
                </a:path>
              </a:pathLst>
            </a:custGeom>
            <a:noFill/>
            <a:ln w="46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4030200" y="3658320"/>
              <a:ext cx="259200" cy="48240"/>
            </a:xfrm>
            <a:custGeom>
              <a:avLst/>
              <a:gdLst/>
              <a:ahLst/>
              <a:rect l="l" t="t" r="r" b="b"/>
              <a:pathLst>
                <a:path w="669" h="123">
                  <a:moveTo>
                    <a:pt x="0" y="0"/>
                  </a:moveTo>
                  <a:lnTo>
                    <a:pt x="2" y="5"/>
                  </a:lnTo>
                  <a:lnTo>
                    <a:pt x="9" y="20"/>
                  </a:lnTo>
                  <a:lnTo>
                    <a:pt x="16" y="29"/>
                  </a:lnTo>
                  <a:lnTo>
                    <a:pt x="23" y="39"/>
                  </a:lnTo>
                  <a:lnTo>
                    <a:pt x="33" y="50"/>
                  </a:lnTo>
                  <a:lnTo>
                    <a:pt x="45" y="62"/>
                  </a:lnTo>
                  <a:lnTo>
                    <a:pt x="59" y="73"/>
                  </a:lnTo>
                  <a:lnTo>
                    <a:pt x="77" y="84"/>
                  </a:lnTo>
                  <a:lnTo>
                    <a:pt x="86" y="89"/>
                  </a:lnTo>
                  <a:lnTo>
                    <a:pt x="97" y="94"/>
                  </a:lnTo>
                  <a:lnTo>
                    <a:pt x="108" y="99"/>
                  </a:lnTo>
                  <a:lnTo>
                    <a:pt x="120" y="103"/>
                  </a:lnTo>
                  <a:lnTo>
                    <a:pt x="133" y="107"/>
                  </a:lnTo>
                  <a:lnTo>
                    <a:pt x="146" y="111"/>
                  </a:lnTo>
                  <a:lnTo>
                    <a:pt x="161" y="115"/>
                  </a:lnTo>
                  <a:lnTo>
                    <a:pt x="177" y="118"/>
                  </a:lnTo>
                  <a:lnTo>
                    <a:pt x="193" y="120"/>
                  </a:lnTo>
                  <a:lnTo>
                    <a:pt x="210" y="122"/>
                  </a:lnTo>
                  <a:lnTo>
                    <a:pt x="229" y="123"/>
                  </a:lnTo>
                  <a:lnTo>
                    <a:pt x="248" y="123"/>
                  </a:lnTo>
                  <a:lnTo>
                    <a:pt x="267" y="123"/>
                  </a:lnTo>
                  <a:lnTo>
                    <a:pt x="285" y="122"/>
                  </a:lnTo>
                  <a:lnTo>
                    <a:pt x="302" y="121"/>
                  </a:lnTo>
                  <a:lnTo>
                    <a:pt x="319" y="119"/>
                  </a:lnTo>
                  <a:lnTo>
                    <a:pt x="349" y="113"/>
                  </a:lnTo>
                  <a:lnTo>
                    <a:pt x="378" y="106"/>
                  </a:lnTo>
                  <a:lnTo>
                    <a:pt x="403" y="98"/>
                  </a:lnTo>
                  <a:lnTo>
                    <a:pt x="427" y="89"/>
                  </a:lnTo>
                  <a:lnTo>
                    <a:pt x="450" y="80"/>
                  </a:lnTo>
                  <a:lnTo>
                    <a:pt x="472" y="71"/>
                  </a:lnTo>
                  <a:lnTo>
                    <a:pt x="493" y="62"/>
                  </a:lnTo>
                  <a:lnTo>
                    <a:pt x="515" y="53"/>
                  </a:lnTo>
                  <a:lnTo>
                    <a:pt x="536" y="46"/>
                  </a:lnTo>
                  <a:lnTo>
                    <a:pt x="559" y="40"/>
                  </a:lnTo>
                  <a:lnTo>
                    <a:pt x="571" y="38"/>
                  </a:lnTo>
                  <a:lnTo>
                    <a:pt x="583" y="36"/>
                  </a:lnTo>
                  <a:lnTo>
                    <a:pt x="596" y="34"/>
                  </a:lnTo>
                  <a:lnTo>
                    <a:pt x="609" y="33"/>
                  </a:lnTo>
                  <a:lnTo>
                    <a:pt x="623" y="33"/>
                  </a:lnTo>
                  <a:lnTo>
                    <a:pt x="638" y="33"/>
                  </a:lnTo>
                  <a:lnTo>
                    <a:pt x="652" y="34"/>
                  </a:lnTo>
                  <a:lnTo>
                    <a:pt x="669" y="36"/>
                  </a:lnTo>
                </a:path>
              </a:pathLst>
            </a:custGeom>
            <a:noFill/>
            <a:ln w="46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4456080" y="3658320"/>
              <a:ext cx="6120" cy="36720"/>
            </a:xfrm>
            <a:custGeom>
              <a:avLst/>
              <a:gdLst/>
              <a:ahLst/>
              <a:rect l="l" t="t" r="r" b="b"/>
              <a:pathLst>
                <a:path w="14" h="93">
                  <a:moveTo>
                    <a:pt x="14" y="0"/>
                  </a:moveTo>
                  <a:lnTo>
                    <a:pt x="7" y="12"/>
                  </a:lnTo>
                  <a:lnTo>
                    <a:pt x="3" y="23"/>
                  </a:lnTo>
                  <a:lnTo>
                    <a:pt x="1" y="34"/>
                  </a:lnTo>
                  <a:lnTo>
                    <a:pt x="0" y="46"/>
                  </a:lnTo>
                  <a:lnTo>
                    <a:pt x="0" y="57"/>
                  </a:lnTo>
                  <a:lnTo>
                    <a:pt x="0" y="70"/>
                  </a:lnTo>
                  <a:lnTo>
                    <a:pt x="0" y="82"/>
                  </a:lnTo>
                  <a:lnTo>
                    <a:pt x="1" y="93"/>
                  </a:lnTo>
                </a:path>
              </a:pathLst>
            </a:custGeom>
            <a:noFill/>
            <a:ln w="3240">
              <a:solidFill>
                <a:srgbClr val="6f57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4541040" y="3712320"/>
              <a:ext cx="164520" cy="42480"/>
            </a:xfrm>
            <a:custGeom>
              <a:avLst/>
              <a:gdLst/>
              <a:ahLst/>
              <a:rect l="l" t="t" r="r" b="b"/>
              <a:pathLst>
                <a:path w="423" h="109">
                  <a:moveTo>
                    <a:pt x="0" y="0"/>
                  </a:moveTo>
                  <a:lnTo>
                    <a:pt x="10" y="10"/>
                  </a:lnTo>
                  <a:lnTo>
                    <a:pt x="20" y="20"/>
                  </a:lnTo>
                  <a:lnTo>
                    <a:pt x="31" y="31"/>
                  </a:lnTo>
                  <a:lnTo>
                    <a:pt x="43" y="40"/>
                  </a:lnTo>
                  <a:lnTo>
                    <a:pt x="55" y="48"/>
                  </a:lnTo>
                  <a:lnTo>
                    <a:pt x="67" y="56"/>
                  </a:lnTo>
                  <a:lnTo>
                    <a:pt x="79" y="63"/>
                  </a:lnTo>
                  <a:lnTo>
                    <a:pt x="93" y="69"/>
                  </a:lnTo>
                  <a:lnTo>
                    <a:pt x="106" y="76"/>
                  </a:lnTo>
                  <a:lnTo>
                    <a:pt x="119" y="82"/>
                  </a:lnTo>
                  <a:lnTo>
                    <a:pt x="132" y="87"/>
                  </a:lnTo>
                  <a:lnTo>
                    <a:pt x="146" y="91"/>
                  </a:lnTo>
                  <a:lnTo>
                    <a:pt x="160" y="95"/>
                  </a:lnTo>
                  <a:lnTo>
                    <a:pt x="174" y="99"/>
                  </a:lnTo>
                  <a:lnTo>
                    <a:pt x="188" y="102"/>
                  </a:lnTo>
                  <a:lnTo>
                    <a:pt x="203" y="104"/>
                  </a:lnTo>
                  <a:lnTo>
                    <a:pt x="231" y="107"/>
                  </a:lnTo>
                  <a:lnTo>
                    <a:pt x="260" y="109"/>
                  </a:lnTo>
                  <a:lnTo>
                    <a:pt x="289" y="108"/>
                  </a:lnTo>
                  <a:lnTo>
                    <a:pt x="317" y="106"/>
                  </a:lnTo>
                  <a:lnTo>
                    <a:pt x="345" y="101"/>
                  </a:lnTo>
                  <a:lnTo>
                    <a:pt x="372" y="95"/>
                  </a:lnTo>
                  <a:lnTo>
                    <a:pt x="398" y="88"/>
                  </a:lnTo>
                  <a:lnTo>
                    <a:pt x="423" y="79"/>
                  </a:lnTo>
                </a:path>
              </a:pathLst>
            </a:custGeom>
            <a:noFill/>
            <a:ln w="3240">
              <a:solidFill>
                <a:srgbClr val="6f57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4080600" y="3712320"/>
              <a:ext cx="172080" cy="42480"/>
            </a:xfrm>
            <a:custGeom>
              <a:avLst/>
              <a:gdLst/>
              <a:ahLst/>
              <a:rect l="l" t="t" r="r" b="b"/>
              <a:pathLst>
                <a:path w="444" h="109">
                  <a:moveTo>
                    <a:pt x="444" y="0"/>
                  </a:moveTo>
                  <a:lnTo>
                    <a:pt x="434" y="10"/>
                  </a:lnTo>
                  <a:lnTo>
                    <a:pt x="422" y="20"/>
                  </a:lnTo>
                  <a:lnTo>
                    <a:pt x="411" y="31"/>
                  </a:lnTo>
                  <a:lnTo>
                    <a:pt x="399" y="40"/>
                  </a:lnTo>
                  <a:lnTo>
                    <a:pt x="387" y="48"/>
                  </a:lnTo>
                  <a:lnTo>
                    <a:pt x="373" y="56"/>
                  </a:lnTo>
                  <a:lnTo>
                    <a:pt x="360" y="63"/>
                  </a:lnTo>
                  <a:lnTo>
                    <a:pt x="347" y="69"/>
                  </a:lnTo>
                  <a:lnTo>
                    <a:pt x="333" y="76"/>
                  </a:lnTo>
                  <a:lnTo>
                    <a:pt x="318" y="82"/>
                  </a:lnTo>
                  <a:lnTo>
                    <a:pt x="304" y="87"/>
                  </a:lnTo>
                  <a:lnTo>
                    <a:pt x="290" y="91"/>
                  </a:lnTo>
                  <a:lnTo>
                    <a:pt x="274" y="95"/>
                  </a:lnTo>
                  <a:lnTo>
                    <a:pt x="260" y="99"/>
                  </a:lnTo>
                  <a:lnTo>
                    <a:pt x="245" y="102"/>
                  </a:lnTo>
                  <a:lnTo>
                    <a:pt x="229" y="104"/>
                  </a:lnTo>
                  <a:lnTo>
                    <a:pt x="199" y="107"/>
                  </a:lnTo>
                  <a:lnTo>
                    <a:pt x="168" y="109"/>
                  </a:lnTo>
                  <a:lnTo>
                    <a:pt x="138" y="108"/>
                  </a:lnTo>
                  <a:lnTo>
                    <a:pt x="108" y="106"/>
                  </a:lnTo>
                  <a:lnTo>
                    <a:pt x="79" y="101"/>
                  </a:lnTo>
                  <a:lnTo>
                    <a:pt x="51" y="95"/>
                  </a:lnTo>
                  <a:lnTo>
                    <a:pt x="38" y="92"/>
                  </a:lnTo>
                  <a:lnTo>
                    <a:pt x="24" y="88"/>
                  </a:lnTo>
                  <a:lnTo>
                    <a:pt x="12" y="83"/>
                  </a:lnTo>
                  <a:lnTo>
                    <a:pt x="0" y="79"/>
                  </a:lnTo>
                </a:path>
              </a:pathLst>
            </a:custGeom>
            <a:noFill/>
            <a:ln w="3240">
              <a:solidFill>
                <a:srgbClr val="6f57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4496760" y="3511440"/>
              <a:ext cx="288360" cy="84960"/>
            </a:xfrm>
            <a:custGeom>
              <a:avLst/>
              <a:gdLst/>
              <a:ahLst/>
              <a:rect l="l" t="t" r="r" b="b"/>
              <a:pathLst>
                <a:path w="745" h="223">
                  <a:moveTo>
                    <a:pt x="26" y="219"/>
                  </a:moveTo>
                  <a:lnTo>
                    <a:pt x="33" y="221"/>
                  </a:lnTo>
                  <a:lnTo>
                    <a:pt x="41" y="223"/>
                  </a:lnTo>
                  <a:lnTo>
                    <a:pt x="49" y="223"/>
                  </a:lnTo>
                  <a:lnTo>
                    <a:pt x="58" y="223"/>
                  </a:lnTo>
                  <a:lnTo>
                    <a:pt x="66" y="221"/>
                  </a:lnTo>
                  <a:lnTo>
                    <a:pt x="72" y="219"/>
                  </a:lnTo>
                  <a:lnTo>
                    <a:pt x="78" y="217"/>
                  </a:lnTo>
                  <a:lnTo>
                    <a:pt x="83" y="213"/>
                  </a:lnTo>
                  <a:lnTo>
                    <a:pt x="99" y="197"/>
                  </a:lnTo>
                  <a:lnTo>
                    <a:pt x="116" y="182"/>
                  </a:lnTo>
                  <a:lnTo>
                    <a:pt x="133" y="168"/>
                  </a:lnTo>
                  <a:lnTo>
                    <a:pt x="151" y="155"/>
                  </a:lnTo>
                  <a:lnTo>
                    <a:pt x="169" y="143"/>
                  </a:lnTo>
                  <a:lnTo>
                    <a:pt x="188" y="132"/>
                  </a:lnTo>
                  <a:lnTo>
                    <a:pt x="208" y="122"/>
                  </a:lnTo>
                  <a:lnTo>
                    <a:pt x="227" y="112"/>
                  </a:lnTo>
                  <a:lnTo>
                    <a:pt x="246" y="104"/>
                  </a:lnTo>
                  <a:lnTo>
                    <a:pt x="267" y="97"/>
                  </a:lnTo>
                  <a:lnTo>
                    <a:pt x="288" y="90"/>
                  </a:lnTo>
                  <a:lnTo>
                    <a:pt x="309" y="83"/>
                  </a:lnTo>
                  <a:lnTo>
                    <a:pt x="330" y="78"/>
                  </a:lnTo>
                  <a:lnTo>
                    <a:pt x="351" y="73"/>
                  </a:lnTo>
                  <a:lnTo>
                    <a:pt x="373" y="70"/>
                  </a:lnTo>
                  <a:lnTo>
                    <a:pt x="395" y="66"/>
                  </a:lnTo>
                  <a:lnTo>
                    <a:pt x="417" y="64"/>
                  </a:lnTo>
                  <a:lnTo>
                    <a:pt x="439" y="62"/>
                  </a:lnTo>
                  <a:lnTo>
                    <a:pt x="462" y="61"/>
                  </a:lnTo>
                  <a:lnTo>
                    <a:pt x="483" y="60"/>
                  </a:lnTo>
                  <a:lnTo>
                    <a:pt x="528" y="59"/>
                  </a:lnTo>
                  <a:lnTo>
                    <a:pt x="573" y="61"/>
                  </a:lnTo>
                  <a:lnTo>
                    <a:pt x="617" y="64"/>
                  </a:lnTo>
                  <a:lnTo>
                    <a:pt x="661" y="68"/>
                  </a:lnTo>
                  <a:lnTo>
                    <a:pt x="703" y="73"/>
                  </a:lnTo>
                  <a:lnTo>
                    <a:pt x="745" y="80"/>
                  </a:lnTo>
                  <a:lnTo>
                    <a:pt x="724" y="68"/>
                  </a:lnTo>
                  <a:lnTo>
                    <a:pt x="702" y="57"/>
                  </a:lnTo>
                  <a:lnTo>
                    <a:pt x="681" y="47"/>
                  </a:lnTo>
                  <a:lnTo>
                    <a:pt x="660" y="38"/>
                  </a:lnTo>
                  <a:lnTo>
                    <a:pt x="638" y="29"/>
                  </a:lnTo>
                  <a:lnTo>
                    <a:pt x="617" y="22"/>
                  </a:lnTo>
                  <a:lnTo>
                    <a:pt x="595" y="16"/>
                  </a:lnTo>
                  <a:lnTo>
                    <a:pt x="574" y="11"/>
                  </a:lnTo>
                  <a:lnTo>
                    <a:pt x="552" y="7"/>
                  </a:lnTo>
                  <a:lnTo>
                    <a:pt x="530" y="4"/>
                  </a:lnTo>
                  <a:lnTo>
                    <a:pt x="509" y="2"/>
                  </a:lnTo>
                  <a:lnTo>
                    <a:pt x="487" y="1"/>
                  </a:lnTo>
                  <a:lnTo>
                    <a:pt x="465" y="0"/>
                  </a:lnTo>
                  <a:lnTo>
                    <a:pt x="443" y="0"/>
                  </a:lnTo>
                  <a:lnTo>
                    <a:pt x="421" y="2"/>
                  </a:lnTo>
                  <a:lnTo>
                    <a:pt x="399" y="3"/>
                  </a:lnTo>
                  <a:lnTo>
                    <a:pt x="378" y="6"/>
                  </a:lnTo>
                  <a:lnTo>
                    <a:pt x="355" y="9"/>
                  </a:lnTo>
                  <a:lnTo>
                    <a:pt x="334" y="13"/>
                  </a:lnTo>
                  <a:lnTo>
                    <a:pt x="312" y="18"/>
                  </a:lnTo>
                  <a:lnTo>
                    <a:pt x="290" y="23"/>
                  </a:lnTo>
                  <a:lnTo>
                    <a:pt x="269" y="29"/>
                  </a:lnTo>
                  <a:lnTo>
                    <a:pt x="247" y="36"/>
                  </a:lnTo>
                  <a:lnTo>
                    <a:pt x="225" y="43"/>
                  </a:lnTo>
                  <a:lnTo>
                    <a:pt x="182" y="59"/>
                  </a:lnTo>
                  <a:lnTo>
                    <a:pt x="139" y="77"/>
                  </a:lnTo>
                  <a:lnTo>
                    <a:pt x="97" y="97"/>
                  </a:lnTo>
                  <a:lnTo>
                    <a:pt x="55" y="118"/>
                  </a:lnTo>
                  <a:lnTo>
                    <a:pt x="50" y="121"/>
                  </a:lnTo>
                  <a:lnTo>
                    <a:pt x="44" y="125"/>
                  </a:lnTo>
                  <a:lnTo>
                    <a:pt x="38" y="131"/>
                  </a:lnTo>
                  <a:lnTo>
                    <a:pt x="32" y="138"/>
                  </a:lnTo>
                  <a:lnTo>
                    <a:pt x="25" y="145"/>
                  </a:lnTo>
                  <a:lnTo>
                    <a:pt x="19" y="152"/>
                  </a:lnTo>
                  <a:lnTo>
                    <a:pt x="13" y="160"/>
                  </a:lnTo>
                  <a:lnTo>
                    <a:pt x="9" y="168"/>
                  </a:lnTo>
                  <a:lnTo>
                    <a:pt x="4" y="176"/>
                  </a:lnTo>
                  <a:lnTo>
                    <a:pt x="1" y="184"/>
                  </a:lnTo>
                  <a:lnTo>
                    <a:pt x="0" y="192"/>
                  </a:lnTo>
                  <a:lnTo>
                    <a:pt x="1" y="200"/>
                  </a:lnTo>
                  <a:lnTo>
                    <a:pt x="2" y="203"/>
                  </a:lnTo>
                  <a:lnTo>
                    <a:pt x="3" y="206"/>
                  </a:lnTo>
                  <a:lnTo>
                    <a:pt x="5" y="209"/>
                  </a:lnTo>
                  <a:lnTo>
                    <a:pt x="9" y="212"/>
                  </a:lnTo>
                  <a:lnTo>
                    <a:pt x="12" y="214"/>
                  </a:lnTo>
                  <a:lnTo>
                    <a:pt x="16" y="216"/>
                  </a:lnTo>
                  <a:lnTo>
                    <a:pt x="21" y="218"/>
                  </a:lnTo>
                  <a:lnTo>
                    <a:pt x="26" y="219"/>
                  </a:lnTo>
                  <a:close/>
                </a:path>
              </a:pathLst>
            </a:custGeom>
            <a:solidFill>
              <a:srgbClr val="b079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4496760" y="3511440"/>
              <a:ext cx="288360" cy="84960"/>
            </a:xfrm>
            <a:custGeom>
              <a:avLst/>
              <a:gdLst/>
              <a:ahLst/>
              <a:rect l="l" t="t" r="r" b="b"/>
              <a:pathLst>
                <a:path w="745" h="223">
                  <a:moveTo>
                    <a:pt x="26" y="219"/>
                  </a:moveTo>
                  <a:lnTo>
                    <a:pt x="33" y="221"/>
                  </a:lnTo>
                  <a:lnTo>
                    <a:pt x="41" y="223"/>
                  </a:lnTo>
                  <a:lnTo>
                    <a:pt x="49" y="223"/>
                  </a:lnTo>
                  <a:lnTo>
                    <a:pt x="58" y="223"/>
                  </a:lnTo>
                  <a:lnTo>
                    <a:pt x="66" y="221"/>
                  </a:lnTo>
                  <a:lnTo>
                    <a:pt x="72" y="219"/>
                  </a:lnTo>
                  <a:lnTo>
                    <a:pt x="78" y="217"/>
                  </a:lnTo>
                  <a:lnTo>
                    <a:pt x="83" y="213"/>
                  </a:lnTo>
                  <a:lnTo>
                    <a:pt x="99" y="197"/>
                  </a:lnTo>
                  <a:lnTo>
                    <a:pt x="116" y="182"/>
                  </a:lnTo>
                  <a:lnTo>
                    <a:pt x="133" y="168"/>
                  </a:lnTo>
                  <a:lnTo>
                    <a:pt x="151" y="155"/>
                  </a:lnTo>
                  <a:lnTo>
                    <a:pt x="169" y="143"/>
                  </a:lnTo>
                  <a:lnTo>
                    <a:pt x="188" y="132"/>
                  </a:lnTo>
                  <a:lnTo>
                    <a:pt x="208" y="122"/>
                  </a:lnTo>
                  <a:lnTo>
                    <a:pt x="227" y="112"/>
                  </a:lnTo>
                  <a:lnTo>
                    <a:pt x="246" y="104"/>
                  </a:lnTo>
                  <a:lnTo>
                    <a:pt x="267" y="97"/>
                  </a:lnTo>
                  <a:lnTo>
                    <a:pt x="288" y="90"/>
                  </a:lnTo>
                  <a:lnTo>
                    <a:pt x="309" y="83"/>
                  </a:lnTo>
                  <a:lnTo>
                    <a:pt x="330" y="78"/>
                  </a:lnTo>
                  <a:lnTo>
                    <a:pt x="351" y="73"/>
                  </a:lnTo>
                  <a:lnTo>
                    <a:pt x="373" y="70"/>
                  </a:lnTo>
                  <a:lnTo>
                    <a:pt x="395" y="66"/>
                  </a:lnTo>
                  <a:lnTo>
                    <a:pt x="417" y="64"/>
                  </a:lnTo>
                  <a:lnTo>
                    <a:pt x="439" y="62"/>
                  </a:lnTo>
                  <a:lnTo>
                    <a:pt x="462" y="61"/>
                  </a:lnTo>
                  <a:lnTo>
                    <a:pt x="483" y="60"/>
                  </a:lnTo>
                  <a:lnTo>
                    <a:pt x="528" y="59"/>
                  </a:lnTo>
                  <a:lnTo>
                    <a:pt x="573" y="61"/>
                  </a:lnTo>
                  <a:lnTo>
                    <a:pt x="617" y="64"/>
                  </a:lnTo>
                  <a:lnTo>
                    <a:pt x="661" y="68"/>
                  </a:lnTo>
                  <a:lnTo>
                    <a:pt x="703" y="73"/>
                  </a:lnTo>
                  <a:lnTo>
                    <a:pt x="745" y="80"/>
                  </a:lnTo>
                  <a:lnTo>
                    <a:pt x="724" y="68"/>
                  </a:lnTo>
                  <a:lnTo>
                    <a:pt x="702" y="57"/>
                  </a:lnTo>
                  <a:lnTo>
                    <a:pt x="681" y="47"/>
                  </a:lnTo>
                  <a:lnTo>
                    <a:pt x="660" y="38"/>
                  </a:lnTo>
                  <a:lnTo>
                    <a:pt x="638" y="29"/>
                  </a:lnTo>
                  <a:lnTo>
                    <a:pt x="617" y="22"/>
                  </a:lnTo>
                  <a:lnTo>
                    <a:pt x="595" y="16"/>
                  </a:lnTo>
                  <a:lnTo>
                    <a:pt x="574" y="11"/>
                  </a:lnTo>
                  <a:lnTo>
                    <a:pt x="552" y="7"/>
                  </a:lnTo>
                  <a:lnTo>
                    <a:pt x="530" y="4"/>
                  </a:lnTo>
                  <a:lnTo>
                    <a:pt x="509" y="2"/>
                  </a:lnTo>
                  <a:lnTo>
                    <a:pt x="487" y="1"/>
                  </a:lnTo>
                  <a:lnTo>
                    <a:pt x="465" y="0"/>
                  </a:lnTo>
                  <a:lnTo>
                    <a:pt x="443" y="0"/>
                  </a:lnTo>
                  <a:lnTo>
                    <a:pt x="421" y="2"/>
                  </a:lnTo>
                  <a:lnTo>
                    <a:pt x="399" y="3"/>
                  </a:lnTo>
                  <a:lnTo>
                    <a:pt x="378" y="6"/>
                  </a:lnTo>
                  <a:lnTo>
                    <a:pt x="355" y="9"/>
                  </a:lnTo>
                  <a:lnTo>
                    <a:pt x="334" y="13"/>
                  </a:lnTo>
                  <a:lnTo>
                    <a:pt x="312" y="18"/>
                  </a:lnTo>
                  <a:lnTo>
                    <a:pt x="290" y="23"/>
                  </a:lnTo>
                  <a:lnTo>
                    <a:pt x="269" y="29"/>
                  </a:lnTo>
                  <a:lnTo>
                    <a:pt x="247" y="36"/>
                  </a:lnTo>
                  <a:lnTo>
                    <a:pt x="225" y="43"/>
                  </a:lnTo>
                  <a:lnTo>
                    <a:pt x="182" y="59"/>
                  </a:lnTo>
                  <a:lnTo>
                    <a:pt x="139" y="77"/>
                  </a:lnTo>
                  <a:lnTo>
                    <a:pt x="97" y="97"/>
                  </a:lnTo>
                  <a:lnTo>
                    <a:pt x="55" y="118"/>
                  </a:lnTo>
                  <a:lnTo>
                    <a:pt x="50" y="121"/>
                  </a:lnTo>
                  <a:lnTo>
                    <a:pt x="44" y="125"/>
                  </a:lnTo>
                  <a:lnTo>
                    <a:pt x="38" y="131"/>
                  </a:lnTo>
                  <a:lnTo>
                    <a:pt x="32" y="138"/>
                  </a:lnTo>
                  <a:lnTo>
                    <a:pt x="25" y="145"/>
                  </a:lnTo>
                  <a:lnTo>
                    <a:pt x="19" y="152"/>
                  </a:lnTo>
                  <a:lnTo>
                    <a:pt x="13" y="160"/>
                  </a:lnTo>
                  <a:lnTo>
                    <a:pt x="9" y="168"/>
                  </a:lnTo>
                  <a:lnTo>
                    <a:pt x="4" y="176"/>
                  </a:lnTo>
                  <a:lnTo>
                    <a:pt x="1" y="184"/>
                  </a:lnTo>
                  <a:lnTo>
                    <a:pt x="0" y="192"/>
                  </a:lnTo>
                  <a:lnTo>
                    <a:pt x="1" y="200"/>
                  </a:lnTo>
                  <a:lnTo>
                    <a:pt x="2" y="203"/>
                  </a:lnTo>
                  <a:lnTo>
                    <a:pt x="3" y="206"/>
                  </a:lnTo>
                  <a:lnTo>
                    <a:pt x="5" y="209"/>
                  </a:lnTo>
                  <a:lnTo>
                    <a:pt x="9" y="212"/>
                  </a:lnTo>
                  <a:lnTo>
                    <a:pt x="12" y="214"/>
                  </a:lnTo>
                  <a:lnTo>
                    <a:pt x="16" y="216"/>
                  </a:lnTo>
                  <a:lnTo>
                    <a:pt x="21" y="218"/>
                  </a:lnTo>
                  <a:lnTo>
                    <a:pt x="26" y="219"/>
                  </a:lnTo>
                </a:path>
              </a:pathLst>
            </a:custGeom>
            <a:noFill/>
            <a:ln w="14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4390560" y="3495600"/>
              <a:ext cx="12960" cy="115920"/>
            </a:xfrm>
            <a:custGeom>
              <a:avLst/>
              <a:gdLst/>
              <a:ahLst/>
              <a:rect l="l" t="t" r="r" b="b"/>
              <a:pathLst>
                <a:path w="34" h="298">
                  <a:moveTo>
                    <a:pt x="0" y="0"/>
                  </a:moveTo>
                  <a:lnTo>
                    <a:pt x="0" y="18"/>
                  </a:lnTo>
                  <a:lnTo>
                    <a:pt x="1" y="37"/>
                  </a:lnTo>
                  <a:lnTo>
                    <a:pt x="4" y="56"/>
                  </a:lnTo>
                  <a:lnTo>
                    <a:pt x="8" y="77"/>
                  </a:lnTo>
                  <a:lnTo>
                    <a:pt x="18" y="117"/>
                  </a:lnTo>
                  <a:lnTo>
                    <a:pt x="27" y="157"/>
                  </a:lnTo>
                  <a:lnTo>
                    <a:pt x="30" y="178"/>
                  </a:lnTo>
                  <a:lnTo>
                    <a:pt x="34" y="197"/>
                  </a:lnTo>
                  <a:lnTo>
                    <a:pt x="34" y="216"/>
                  </a:lnTo>
                  <a:lnTo>
                    <a:pt x="32" y="235"/>
                  </a:lnTo>
                  <a:lnTo>
                    <a:pt x="31" y="243"/>
                  </a:lnTo>
                  <a:lnTo>
                    <a:pt x="28" y="252"/>
                  </a:lnTo>
                  <a:lnTo>
                    <a:pt x="26" y="260"/>
                  </a:lnTo>
                  <a:lnTo>
                    <a:pt x="22" y="268"/>
                  </a:lnTo>
                  <a:lnTo>
                    <a:pt x="18" y="277"/>
                  </a:lnTo>
                  <a:lnTo>
                    <a:pt x="13" y="284"/>
                  </a:lnTo>
                  <a:lnTo>
                    <a:pt x="7" y="291"/>
                  </a:lnTo>
                  <a:lnTo>
                    <a:pt x="0" y="298"/>
                  </a:lnTo>
                </a:path>
              </a:pathLst>
            </a:custGeom>
            <a:noFill/>
            <a:ln w="3240">
              <a:solidFill>
                <a:srgbClr val="6f57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4276080" y="3495600"/>
              <a:ext cx="65520" cy="88920"/>
            </a:xfrm>
            <a:custGeom>
              <a:avLst/>
              <a:gdLst/>
              <a:ahLst/>
              <a:rect l="l" t="t" r="r" b="b"/>
              <a:pathLst>
                <a:path w="167" h="229">
                  <a:moveTo>
                    <a:pt x="0" y="0"/>
                  </a:moveTo>
                  <a:lnTo>
                    <a:pt x="11" y="14"/>
                  </a:lnTo>
                  <a:lnTo>
                    <a:pt x="20" y="29"/>
                  </a:lnTo>
                  <a:lnTo>
                    <a:pt x="30" y="45"/>
                  </a:lnTo>
                  <a:lnTo>
                    <a:pt x="39" y="60"/>
                  </a:lnTo>
                  <a:lnTo>
                    <a:pt x="54" y="93"/>
                  </a:lnTo>
                  <a:lnTo>
                    <a:pt x="70" y="126"/>
                  </a:lnTo>
                  <a:lnTo>
                    <a:pt x="80" y="141"/>
                  </a:lnTo>
                  <a:lnTo>
                    <a:pt x="89" y="156"/>
                  </a:lnTo>
                  <a:lnTo>
                    <a:pt x="98" y="170"/>
                  </a:lnTo>
                  <a:lnTo>
                    <a:pt x="109" y="184"/>
                  </a:lnTo>
                  <a:lnTo>
                    <a:pt x="121" y="197"/>
                  </a:lnTo>
                  <a:lnTo>
                    <a:pt x="135" y="208"/>
                  </a:lnTo>
                  <a:lnTo>
                    <a:pt x="142" y="214"/>
                  </a:lnTo>
                  <a:lnTo>
                    <a:pt x="150" y="219"/>
                  </a:lnTo>
                  <a:lnTo>
                    <a:pt x="158" y="223"/>
                  </a:lnTo>
                  <a:lnTo>
                    <a:pt x="167" y="229"/>
                  </a:lnTo>
                </a:path>
              </a:pathLst>
            </a:custGeom>
            <a:noFill/>
            <a:ln w="3240">
              <a:solidFill>
                <a:srgbClr val="6f57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4444560" y="3503520"/>
              <a:ext cx="50400" cy="96840"/>
            </a:xfrm>
            <a:custGeom>
              <a:avLst/>
              <a:gdLst/>
              <a:ahLst/>
              <a:rect l="l" t="t" r="r" b="b"/>
              <a:pathLst>
                <a:path w="128" h="248">
                  <a:moveTo>
                    <a:pt x="128" y="0"/>
                  </a:moveTo>
                  <a:lnTo>
                    <a:pt x="120" y="16"/>
                  </a:lnTo>
                  <a:lnTo>
                    <a:pt x="113" y="32"/>
                  </a:lnTo>
                  <a:lnTo>
                    <a:pt x="107" y="48"/>
                  </a:lnTo>
                  <a:lnTo>
                    <a:pt x="101" y="66"/>
                  </a:lnTo>
                  <a:lnTo>
                    <a:pt x="89" y="100"/>
                  </a:lnTo>
                  <a:lnTo>
                    <a:pt x="78" y="135"/>
                  </a:lnTo>
                  <a:lnTo>
                    <a:pt x="72" y="152"/>
                  </a:lnTo>
                  <a:lnTo>
                    <a:pt x="65" y="169"/>
                  </a:lnTo>
                  <a:lnTo>
                    <a:pt x="57" y="185"/>
                  </a:lnTo>
                  <a:lnTo>
                    <a:pt x="48" y="200"/>
                  </a:lnTo>
                  <a:lnTo>
                    <a:pt x="38" y="214"/>
                  </a:lnTo>
                  <a:lnTo>
                    <a:pt x="26" y="227"/>
                  </a:lnTo>
                  <a:lnTo>
                    <a:pt x="20" y="233"/>
                  </a:lnTo>
                  <a:lnTo>
                    <a:pt x="14" y="238"/>
                  </a:lnTo>
                  <a:lnTo>
                    <a:pt x="7" y="243"/>
                  </a:lnTo>
                  <a:lnTo>
                    <a:pt x="0" y="248"/>
                  </a:lnTo>
                </a:path>
              </a:pathLst>
            </a:custGeom>
            <a:noFill/>
            <a:ln w="3240">
              <a:solidFill>
                <a:srgbClr val="6f57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4229280" y="4083840"/>
              <a:ext cx="311400" cy="79200"/>
            </a:xfrm>
            <a:custGeom>
              <a:avLst/>
              <a:gdLst/>
              <a:ahLst/>
              <a:rect l="l" t="t" r="r" b="b"/>
              <a:pathLst>
                <a:path w="805" h="207">
                  <a:moveTo>
                    <a:pt x="805" y="151"/>
                  </a:moveTo>
                  <a:lnTo>
                    <a:pt x="789" y="132"/>
                  </a:lnTo>
                  <a:lnTo>
                    <a:pt x="774" y="115"/>
                  </a:lnTo>
                  <a:lnTo>
                    <a:pt x="758" y="99"/>
                  </a:lnTo>
                  <a:lnTo>
                    <a:pt x="741" y="82"/>
                  </a:lnTo>
                  <a:lnTo>
                    <a:pt x="724" y="67"/>
                  </a:lnTo>
                  <a:lnTo>
                    <a:pt x="707" y="54"/>
                  </a:lnTo>
                  <a:lnTo>
                    <a:pt x="698" y="48"/>
                  </a:lnTo>
                  <a:lnTo>
                    <a:pt x="687" y="42"/>
                  </a:lnTo>
                  <a:lnTo>
                    <a:pt x="677" y="37"/>
                  </a:lnTo>
                  <a:lnTo>
                    <a:pt x="667" y="32"/>
                  </a:lnTo>
                  <a:lnTo>
                    <a:pt x="651" y="25"/>
                  </a:lnTo>
                  <a:lnTo>
                    <a:pt x="632" y="20"/>
                  </a:lnTo>
                  <a:lnTo>
                    <a:pt x="614" y="16"/>
                  </a:lnTo>
                  <a:lnTo>
                    <a:pt x="593" y="14"/>
                  </a:lnTo>
                  <a:lnTo>
                    <a:pt x="574" y="13"/>
                  </a:lnTo>
                  <a:lnTo>
                    <a:pt x="555" y="14"/>
                  </a:lnTo>
                  <a:lnTo>
                    <a:pt x="534" y="16"/>
                  </a:lnTo>
                  <a:lnTo>
                    <a:pt x="516" y="20"/>
                  </a:lnTo>
                  <a:lnTo>
                    <a:pt x="498" y="26"/>
                  </a:lnTo>
                  <a:lnTo>
                    <a:pt x="480" y="34"/>
                  </a:lnTo>
                  <a:lnTo>
                    <a:pt x="472" y="38"/>
                  </a:lnTo>
                  <a:lnTo>
                    <a:pt x="465" y="43"/>
                  </a:lnTo>
                  <a:lnTo>
                    <a:pt x="458" y="48"/>
                  </a:lnTo>
                  <a:lnTo>
                    <a:pt x="451" y="53"/>
                  </a:lnTo>
                  <a:lnTo>
                    <a:pt x="444" y="59"/>
                  </a:lnTo>
                  <a:lnTo>
                    <a:pt x="439" y="65"/>
                  </a:lnTo>
                  <a:lnTo>
                    <a:pt x="434" y="72"/>
                  </a:lnTo>
                  <a:lnTo>
                    <a:pt x="429" y="79"/>
                  </a:lnTo>
                  <a:lnTo>
                    <a:pt x="425" y="87"/>
                  </a:lnTo>
                  <a:lnTo>
                    <a:pt x="422" y="95"/>
                  </a:lnTo>
                  <a:lnTo>
                    <a:pt x="420" y="104"/>
                  </a:lnTo>
                  <a:lnTo>
                    <a:pt x="418" y="112"/>
                  </a:lnTo>
                  <a:lnTo>
                    <a:pt x="419" y="104"/>
                  </a:lnTo>
                  <a:lnTo>
                    <a:pt x="419" y="97"/>
                  </a:lnTo>
                  <a:lnTo>
                    <a:pt x="419" y="90"/>
                  </a:lnTo>
                  <a:lnTo>
                    <a:pt x="418" y="83"/>
                  </a:lnTo>
                  <a:lnTo>
                    <a:pt x="417" y="78"/>
                  </a:lnTo>
                  <a:lnTo>
                    <a:pt x="415" y="74"/>
                  </a:lnTo>
                  <a:lnTo>
                    <a:pt x="412" y="69"/>
                  </a:lnTo>
                  <a:lnTo>
                    <a:pt x="409" y="65"/>
                  </a:lnTo>
                  <a:lnTo>
                    <a:pt x="401" y="58"/>
                  </a:lnTo>
                  <a:lnTo>
                    <a:pt x="390" y="50"/>
                  </a:lnTo>
                  <a:lnTo>
                    <a:pt x="378" y="42"/>
                  </a:lnTo>
                  <a:lnTo>
                    <a:pt x="363" y="29"/>
                  </a:lnTo>
                  <a:lnTo>
                    <a:pt x="357" y="25"/>
                  </a:lnTo>
                  <a:lnTo>
                    <a:pt x="350" y="21"/>
                  </a:lnTo>
                  <a:lnTo>
                    <a:pt x="342" y="17"/>
                  </a:lnTo>
                  <a:lnTo>
                    <a:pt x="335" y="13"/>
                  </a:lnTo>
                  <a:lnTo>
                    <a:pt x="319" y="8"/>
                  </a:lnTo>
                  <a:lnTo>
                    <a:pt x="303" y="4"/>
                  </a:lnTo>
                  <a:lnTo>
                    <a:pt x="285" y="1"/>
                  </a:lnTo>
                  <a:lnTo>
                    <a:pt x="268" y="0"/>
                  </a:lnTo>
                  <a:lnTo>
                    <a:pt x="250" y="0"/>
                  </a:lnTo>
                  <a:lnTo>
                    <a:pt x="232" y="1"/>
                  </a:lnTo>
                  <a:lnTo>
                    <a:pt x="214" y="4"/>
                  </a:lnTo>
                  <a:lnTo>
                    <a:pt x="197" y="8"/>
                  </a:lnTo>
                  <a:lnTo>
                    <a:pt x="179" y="13"/>
                  </a:lnTo>
                  <a:lnTo>
                    <a:pt x="163" y="19"/>
                  </a:lnTo>
                  <a:lnTo>
                    <a:pt x="147" y="26"/>
                  </a:lnTo>
                  <a:lnTo>
                    <a:pt x="132" y="35"/>
                  </a:lnTo>
                  <a:lnTo>
                    <a:pt x="119" y="44"/>
                  </a:lnTo>
                  <a:lnTo>
                    <a:pt x="107" y="53"/>
                  </a:lnTo>
                  <a:lnTo>
                    <a:pt x="99" y="60"/>
                  </a:lnTo>
                  <a:lnTo>
                    <a:pt x="91" y="65"/>
                  </a:lnTo>
                  <a:lnTo>
                    <a:pt x="84" y="69"/>
                  </a:lnTo>
                  <a:lnTo>
                    <a:pt x="77" y="73"/>
                  </a:lnTo>
                  <a:lnTo>
                    <a:pt x="65" y="77"/>
                  </a:lnTo>
                  <a:lnTo>
                    <a:pt x="53" y="80"/>
                  </a:lnTo>
                  <a:lnTo>
                    <a:pt x="40" y="85"/>
                  </a:lnTo>
                  <a:lnTo>
                    <a:pt x="28" y="91"/>
                  </a:lnTo>
                  <a:lnTo>
                    <a:pt x="21" y="96"/>
                  </a:lnTo>
                  <a:lnTo>
                    <a:pt x="14" y="101"/>
                  </a:lnTo>
                  <a:lnTo>
                    <a:pt x="7" y="108"/>
                  </a:lnTo>
                  <a:lnTo>
                    <a:pt x="0" y="116"/>
                  </a:lnTo>
                  <a:lnTo>
                    <a:pt x="25" y="123"/>
                  </a:lnTo>
                  <a:lnTo>
                    <a:pt x="29" y="120"/>
                  </a:lnTo>
                  <a:lnTo>
                    <a:pt x="40" y="113"/>
                  </a:lnTo>
                  <a:lnTo>
                    <a:pt x="59" y="104"/>
                  </a:lnTo>
                  <a:lnTo>
                    <a:pt x="82" y="94"/>
                  </a:lnTo>
                  <a:lnTo>
                    <a:pt x="97" y="90"/>
                  </a:lnTo>
                  <a:lnTo>
                    <a:pt x="111" y="86"/>
                  </a:lnTo>
                  <a:lnTo>
                    <a:pt x="127" y="82"/>
                  </a:lnTo>
                  <a:lnTo>
                    <a:pt x="143" y="81"/>
                  </a:lnTo>
                  <a:lnTo>
                    <a:pt x="161" y="80"/>
                  </a:lnTo>
                  <a:lnTo>
                    <a:pt x="178" y="82"/>
                  </a:lnTo>
                  <a:lnTo>
                    <a:pt x="197" y="86"/>
                  </a:lnTo>
                  <a:lnTo>
                    <a:pt x="215" y="92"/>
                  </a:lnTo>
                  <a:lnTo>
                    <a:pt x="227" y="97"/>
                  </a:lnTo>
                  <a:lnTo>
                    <a:pt x="237" y="102"/>
                  </a:lnTo>
                  <a:lnTo>
                    <a:pt x="248" y="109"/>
                  </a:lnTo>
                  <a:lnTo>
                    <a:pt x="257" y="116"/>
                  </a:lnTo>
                  <a:lnTo>
                    <a:pt x="274" y="130"/>
                  </a:lnTo>
                  <a:lnTo>
                    <a:pt x="289" y="147"/>
                  </a:lnTo>
                  <a:lnTo>
                    <a:pt x="304" y="162"/>
                  </a:lnTo>
                  <a:lnTo>
                    <a:pt x="319" y="176"/>
                  </a:lnTo>
                  <a:lnTo>
                    <a:pt x="326" y="182"/>
                  </a:lnTo>
                  <a:lnTo>
                    <a:pt x="334" y="188"/>
                  </a:lnTo>
                  <a:lnTo>
                    <a:pt x="343" y="193"/>
                  </a:lnTo>
                  <a:lnTo>
                    <a:pt x="353" y="197"/>
                  </a:lnTo>
                  <a:lnTo>
                    <a:pt x="362" y="200"/>
                  </a:lnTo>
                  <a:lnTo>
                    <a:pt x="371" y="203"/>
                  </a:lnTo>
                  <a:lnTo>
                    <a:pt x="380" y="205"/>
                  </a:lnTo>
                  <a:lnTo>
                    <a:pt x="390" y="206"/>
                  </a:lnTo>
                  <a:lnTo>
                    <a:pt x="400" y="207"/>
                  </a:lnTo>
                  <a:lnTo>
                    <a:pt x="409" y="207"/>
                  </a:lnTo>
                  <a:lnTo>
                    <a:pt x="419" y="207"/>
                  </a:lnTo>
                  <a:lnTo>
                    <a:pt x="428" y="206"/>
                  </a:lnTo>
                  <a:lnTo>
                    <a:pt x="437" y="204"/>
                  </a:lnTo>
                  <a:lnTo>
                    <a:pt x="447" y="202"/>
                  </a:lnTo>
                  <a:lnTo>
                    <a:pt x="455" y="198"/>
                  </a:lnTo>
                  <a:lnTo>
                    <a:pt x="464" y="195"/>
                  </a:lnTo>
                  <a:lnTo>
                    <a:pt x="472" y="190"/>
                  </a:lnTo>
                  <a:lnTo>
                    <a:pt x="479" y="184"/>
                  </a:lnTo>
                  <a:lnTo>
                    <a:pt x="487" y="178"/>
                  </a:lnTo>
                  <a:lnTo>
                    <a:pt x="495" y="171"/>
                  </a:lnTo>
                  <a:lnTo>
                    <a:pt x="502" y="164"/>
                  </a:lnTo>
                  <a:lnTo>
                    <a:pt x="512" y="157"/>
                  </a:lnTo>
                  <a:lnTo>
                    <a:pt x="522" y="149"/>
                  </a:lnTo>
                  <a:lnTo>
                    <a:pt x="534" y="141"/>
                  </a:lnTo>
                  <a:lnTo>
                    <a:pt x="549" y="132"/>
                  </a:lnTo>
                  <a:lnTo>
                    <a:pt x="564" y="124"/>
                  </a:lnTo>
                  <a:lnTo>
                    <a:pt x="580" y="118"/>
                  </a:lnTo>
                  <a:lnTo>
                    <a:pt x="598" y="112"/>
                  </a:lnTo>
                  <a:lnTo>
                    <a:pt x="617" y="108"/>
                  </a:lnTo>
                  <a:lnTo>
                    <a:pt x="636" y="106"/>
                  </a:lnTo>
                  <a:lnTo>
                    <a:pt x="647" y="105"/>
                  </a:lnTo>
                  <a:lnTo>
                    <a:pt x="658" y="105"/>
                  </a:lnTo>
                  <a:lnTo>
                    <a:pt x="668" y="106"/>
                  </a:lnTo>
                  <a:lnTo>
                    <a:pt x="679" y="107"/>
                  </a:lnTo>
                  <a:lnTo>
                    <a:pt x="691" y="109"/>
                  </a:lnTo>
                  <a:lnTo>
                    <a:pt x="703" y="111"/>
                  </a:lnTo>
                  <a:lnTo>
                    <a:pt x="715" y="114"/>
                  </a:lnTo>
                  <a:lnTo>
                    <a:pt x="727" y="118"/>
                  </a:lnTo>
                  <a:lnTo>
                    <a:pt x="739" y="123"/>
                  </a:lnTo>
                  <a:lnTo>
                    <a:pt x="752" y="128"/>
                  </a:lnTo>
                  <a:lnTo>
                    <a:pt x="765" y="134"/>
                  </a:lnTo>
                  <a:lnTo>
                    <a:pt x="777" y="142"/>
                  </a:lnTo>
                  <a:lnTo>
                    <a:pt x="805" y="151"/>
                  </a:lnTo>
                  <a:close/>
                </a:path>
              </a:pathLst>
            </a:custGeom>
            <a:solidFill>
              <a:srgbClr val="ef9c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4229280" y="4083840"/>
              <a:ext cx="311400" cy="79200"/>
            </a:xfrm>
            <a:custGeom>
              <a:avLst/>
              <a:gdLst/>
              <a:ahLst/>
              <a:rect l="l" t="t" r="r" b="b"/>
              <a:pathLst>
                <a:path w="805" h="207">
                  <a:moveTo>
                    <a:pt x="805" y="151"/>
                  </a:moveTo>
                  <a:lnTo>
                    <a:pt x="789" y="132"/>
                  </a:lnTo>
                  <a:lnTo>
                    <a:pt x="774" y="115"/>
                  </a:lnTo>
                  <a:lnTo>
                    <a:pt x="758" y="99"/>
                  </a:lnTo>
                  <a:lnTo>
                    <a:pt x="741" y="82"/>
                  </a:lnTo>
                  <a:lnTo>
                    <a:pt x="724" y="67"/>
                  </a:lnTo>
                  <a:lnTo>
                    <a:pt x="707" y="54"/>
                  </a:lnTo>
                  <a:lnTo>
                    <a:pt x="698" y="48"/>
                  </a:lnTo>
                  <a:lnTo>
                    <a:pt x="687" y="42"/>
                  </a:lnTo>
                  <a:lnTo>
                    <a:pt x="677" y="37"/>
                  </a:lnTo>
                  <a:lnTo>
                    <a:pt x="667" y="32"/>
                  </a:lnTo>
                  <a:lnTo>
                    <a:pt x="651" y="25"/>
                  </a:lnTo>
                  <a:lnTo>
                    <a:pt x="632" y="20"/>
                  </a:lnTo>
                  <a:lnTo>
                    <a:pt x="614" y="16"/>
                  </a:lnTo>
                  <a:lnTo>
                    <a:pt x="593" y="14"/>
                  </a:lnTo>
                  <a:lnTo>
                    <a:pt x="574" y="13"/>
                  </a:lnTo>
                  <a:lnTo>
                    <a:pt x="555" y="14"/>
                  </a:lnTo>
                  <a:lnTo>
                    <a:pt x="534" y="16"/>
                  </a:lnTo>
                  <a:lnTo>
                    <a:pt x="516" y="20"/>
                  </a:lnTo>
                  <a:lnTo>
                    <a:pt x="498" y="26"/>
                  </a:lnTo>
                  <a:lnTo>
                    <a:pt x="480" y="34"/>
                  </a:lnTo>
                  <a:lnTo>
                    <a:pt x="472" y="38"/>
                  </a:lnTo>
                  <a:lnTo>
                    <a:pt x="465" y="43"/>
                  </a:lnTo>
                  <a:lnTo>
                    <a:pt x="458" y="48"/>
                  </a:lnTo>
                  <a:lnTo>
                    <a:pt x="451" y="53"/>
                  </a:lnTo>
                  <a:lnTo>
                    <a:pt x="444" y="59"/>
                  </a:lnTo>
                  <a:lnTo>
                    <a:pt x="439" y="65"/>
                  </a:lnTo>
                  <a:lnTo>
                    <a:pt x="434" y="72"/>
                  </a:lnTo>
                  <a:lnTo>
                    <a:pt x="429" y="79"/>
                  </a:lnTo>
                  <a:lnTo>
                    <a:pt x="425" y="87"/>
                  </a:lnTo>
                  <a:lnTo>
                    <a:pt x="422" y="95"/>
                  </a:lnTo>
                  <a:lnTo>
                    <a:pt x="420" y="104"/>
                  </a:lnTo>
                  <a:lnTo>
                    <a:pt x="418" y="112"/>
                  </a:lnTo>
                  <a:lnTo>
                    <a:pt x="419" y="104"/>
                  </a:lnTo>
                  <a:lnTo>
                    <a:pt x="419" y="97"/>
                  </a:lnTo>
                  <a:lnTo>
                    <a:pt x="419" y="90"/>
                  </a:lnTo>
                  <a:lnTo>
                    <a:pt x="418" y="83"/>
                  </a:lnTo>
                  <a:lnTo>
                    <a:pt x="417" y="78"/>
                  </a:lnTo>
                  <a:lnTo>
                    <a:pt x="415" y="74"/>
                  </a:lnTo>
                  <a:lnTo>
                    <a:pt x="412" y="69"/>
                  </a:lnTo>
                  <a:lnTo>
                    <a:pt x="409" y="65"/>
                  </a:lnTo>
                  <a:lnTo>
                    <a:pt x="401" y="58"/>
                  </a:lnTo>
                  <a:lnTo>
                    <a:pt x="390" y="50"/>
                  </a:lnTo>
                  <a:lnTo>
                    <a:pt x="378" y="42"/>
                  </a:lnTo>
                  <a:lnTo>
                    <a:pt x="363" y="29"/>
                  </a:lnTo>
                  <a:lnTo>
                    <a:pt x="357" y="25"/>
                  </a:lnTo>
                  <a:lnTo>
                    <a:pt x="350" y="21"/>
                  </a:lnTo>
                  <a:lnTo>
                    <a:pt x="342" y="17"/>
                  </a:lnTo>
                  <a:lnTo>
                    <a:pt x="335" y="13"/>
                  </a:lnTo>
                  <a:lnTo>
                    <a:pt x="319" y="8"/>
                  </a:lnTo>
                  <a:lnTo>
                    <a:pt x="303" y="4"/>
                  </a:lnTo>
                  <a:lnTo>
                    <a:pt x="285" y="1"/>
                  </a:lnTo>
                  <a:lnTo>
                    <a:pt x="268" y="0"/>
                  </a:lnTo>
                  <a:lnTo>
                    <a:pt x="250" y="0"/>
                  </a:lnTo>
                  <a:lnTo>
                    <a:pt x="232" y="1"/>
                  </a:lnTo>
                  <a:lnTo>
                    <a:pt x="214" y="4"/>
                  </a:lnTo>
                  <a:lnTo>
                    <a:pt x="197" y="8"/>
                  </a:lnTo>
                  <a:lnTo>
                    <a:pt x="179" y="13"/>
                  </a:lnTo>
                  <a:lnTo>
                    <a:pt x="163" y="19"/>
                  </a:lnTo>
                  <a:lnTo>
                    <a:pt x="147" y="26"/>
                  </a:lnTo>
                  <a:lnTo>
                    <a:pt x="132" y="35"/>
                  </a:lnTo>
                  <a:lnTo>
                    <a:pt x="119" y="44"/>
                  </a:lnTo>
                  <a:lnTo>
                    <a:pt x="107" y="53"/>
                  </a:lnTo>
                  <a:lnTo>
                    <a:pt x="99" y="60"/>
                  </a:lnTo>
                  <a:lnTo>
                    <a:pt x="91" y="65"/>
                  </a:lnTo>
                  <a:lnTo>
                    <a:pt x="84" y="69"/>
                  </a:lnTo>
                  <a:lnTo>
                    <a:pt x="77" y="73"/>
                  </a:lnTo>
                  <a:lnTo>
                    <a:pt x="65" y="77"/>
                  </a:lnTo>
                  <a:lnTo>
                    <a:pt x="53" y="80"/>
                  </a:lnTo>
                  <a:lnTo>
                    <a:pt x="40" y="85"/>
                  </a:lnTo>
                  <a:lnTo>
                    <a:pt x="28" y="91"/>
                  </a:lnTo>
                  <a:lnTo>
                    <a:pt x="21" y="96"/>
                  </a:lnTo>
                  <a:lnTo>
                    <a:pt x="14" y="101"/>
                  </a:lnTo>
                  <a:lnTo>
                    <a:pt x="7" y="108"/>
                  </a:lnTo>
                  <a:lnTo>
                    <a:pt x="0" y="116"/>
                  </a:lnTo>
                  <a:lnTo>
                    <a:pt x="25" y="123"/>
                  </a:lnTo>
                  <a:lnTo>
                    <a:pt x="29" y="120"/>
                  </a:lnTo>
                  <a:lnTo>
                    <a:pt x="40" y="113"/>
                  </a:lnTo>
                  <a:lnTo>
                    <a:pt x="59" y="104"/>
                  </a:lnTo>
                  <a:lnTo>
                    <a:pt x="82" y="94"/>
                  </a:lnTo>
                  <a:lnTo>
                    <a:pt x="97" y="90"/>
                  </a:lnTo>
                  <a:lnTo>
                    <a:pt x="111" y="86"/>
                  </a:lnTo>
                  <a:lnTo>
                    <a:pt x="127" y="82"/>
                  </a:lnTo>
                  <a:lnTo>
                    <a:pt x="143" y="81"/>
                  </a:lnTo>
                  <a:lnTo>
                    <a:pt x="161" y="80"/>
                  </a:lnTo>
                  <a:lnTo>
                    <a:pt x="178" y="82"/>
                  </a:lnTo>
                  <a:lnTo>
                    <a:pt x="197" y="86"/>
                  </a:lnTo>
                  <a:lnTo>
                    <a:pt x="215" y="92"/>
                  </a:lnTo>
                  <a:lnTo>
                    <a:pt x="227" y="97"/>
                  </a:lnTo>
                  <a:lnTo>
                    <a:pt x="237" y="102"/>
                  </a:lnTo>
                  <a:lnTo>
                    <a:pt x="248" y="109"/>
                  </a:lnTo>
                  <a:lnTo>
                    <a:pt x="257" y="116"/>
                  </a:lnTo>
                  <a:lnTo>
                    <a:pt x="274" y="130"/>
                  </a:lnTo>
                  <a:lnTo>
                    <a:pt x="289" y="147"/>
                  </a:lnTo>
                  <a:lnTo>
                    <a:pt x="304" y="162"/>
                  </a:lnTo>
                  <a:lnTo>
                    <a:pt x="319" y="176"/>
                  </a:lnTo>
                  <a:lnTo>
                    <a:pt x="326" y="182"/>
                  </a:lnTo>
                  <a:lnTo>
                    <a:pt x="334" y="188"/>
                  </a:lnTo>
                  <a:lnTo>
                    <a:pt x="343" y="193"/>
                  </a:lnTo>
                  <a:lnTo>
                    <a:pt x="353" y="197"/>
                  </a:lnTo>
                  <a:lnTo>
                    <a:pt x="362" y="200"/>
                  </a:lnTo>
                  <a:lnTo>
                    <a:pt x="371" y="203"/>
                  </a:lnTo>
                  <a:lnTo>
                    <a:pt x="380" y="205"/>
                  </a:lnTo>
                  <a:lnTo>
                    <a:pt x="390" y="206"/>
                  </a:lnTo>
                  <a:lnTo>
                    <a:pt x="400" y="207"/>
                  </a:lnTo>
                  <a:lnTo>
                    <a:pt x="409" y="207"/>
                  </a:lnTo>
                  <a:lnTo>
                    <a:pt x="419" y="207"/>
                  </a:lnTo>
                  <a:lnTo>
                    <a:pt x="428" y="206"/>
                  </a:lnTo>
                  <a:lnTo>
                    <a:pt x="437" y="204"/>
                  </a:lnTo>
                  <a:lnTo>
                    <a:pt x="447" y="202"/>
                  </a:lnTo>
                  <a:lnTo>
                    <a:pt x="455" y="198"/>
                  </a:lnTo>
                  <a:lnTo>
                    <a:pt x="464" y="195"/>
                  </a:lnTo>
                  <a:lnTo>
                    <a:pt x="472" y="190"/>
                  </a:lnTo>
                  <a:lnTo>
                    <a:pt x="479" y="184"/>
                  </a:lnTo>
                  <a:lnTo>
                    <a:pt x="487" y="178"/>
                  </a:lnTo>
                  <a:lnTo>
                    <a:pt x="495" y="171"/>
                  </a:lnTo>
                  <a:lnTo>
                    <a:pt x="502" y="164"/>
                  </a:lnTo>
                  <a:lnTo>
                    <a:pt x="512" y="157"/>
                  </a:lnTo>
                  <a:lnTo>
                    <a:pt x="522" y="149"/>
                  </a:lnTo>
                  <a:lnTo>
                    <a:pt x="534" y="141"/>
                  </a:lnTo>
                  <a:lnTo>
                    <a:pt x="549" y="132"/>
                  </a:lnTo>
                  <a:lnTo>
                    <a:pt x="564" y="124"/>
                  </a:lnTo>
                  <a:lnTo>
                    <a:pt x="580" y="118"/>
                  </a:lnTo>
                  <a:lnTo>
                    <a:pt x="598" y="112"/>
                  </a:lnTo>
                  <a:lnTo>
                    <a:pt x="617" y="108"/>
                  </a:lnTo>
                  <a:lnTo>
                    <a:pt x="636" y="106"/>
                  </a:lnTo>
                  <a:lnTo>
                    <a:pt x="647" y="105"/>
                  </a:lnTo>
                  <a:lnTo>
                    <a:pt x="658" y="105"/>
                  </a:lnTo>
                  <a:lnTo>
                    <a:pt x="668" y="106"/>
                  </a:lnTo>
                  <a:lnTo>
                    <a:pt x="679" y="107"/>
                  </a:lnTo>
                  <a:lnTo>
                    <a:pt x="691" y="109"/>
                  </a:lnTo>
                  <a:lnTo>
                    <a:pt x="703" y="111"/>
                  </a:lnTo>
                  <a:lnTo>
                    <a:pt x="715" y="114"/>
                  </a:lnTo>
                  <a:lnTo>
                    <a:pt x="727" y="118"/>
                  </a:lnTo>
                  <a:lnTo>
                    <a:pt x="739" y="123"/>
                  </a:lnTo>
                  <a:lnTo>
                    <a:pt x="752" y="128"/>
                  </a:lnTo>
                  <a:lnTo>
                    <a:pt x="765" y="134"/>
                  </a:lnTo>
                  <a:lnTo>
                    <a:pt x="777" y="142"/>
                  </a:lnTo>
                  <a:lnTo>
                    <a:pt x="805" y="151"/>
                  </a:lnTo>
                </a:path>
              </a:pathLst>
            </a:custGeom>
            <a:noFill/>
            <a:ln w="14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4287960" y="4178520"/>
              <a:ext cx="187560" cy="44280"/>
            </a:xfrm>
            <a:custGeom>
              <a:avLst/>
              <a:gdLst/>
              <a:ahLst/>
              <a:rect l="l" t="t" r="r" b="b"/>
              <a:pathLst>
                <a:path w="483" h="114">
                  <a:moveTo>
                    <a:pt x="0" y="12"/>
                  </a:moveTo>
                  <a:lnTo>
                    <a:pt x="12" y="24"/>
                  </a:lnTo>
                  <a:lnTo>
                    <a:pt x="25" y="35"/>
                  </a:lnTo>
                  <a:lnTo>
                    <a:pt x="39" y="46"/>
                  </a:lnTo>
                  <a:lnTo>
                    <a:pt x="54" y="55"/>
                  </a:lnTo>
                  <a:lnTo>
                    <a:pt x="68" y="64"/>
                  </a:lnTo>
                  <a:lnTo>
                    <a:pt x="83" y="72"/>
                  </a:lnTo>
                  <a:lnTo>
                    <a:pt x="100" y="80"/>
                  </a:lnTo>
                  <a:lnTo>
                    <a:pt x="116" y="87"/>
                  </a:lnTo>
                  <a:lnTo>
                    <a:pt x="132" y="92"/>
                  </a:lnTo>
                  <a:lnTo>
                    <a:pt x="149" y="99"/>
                  </a:lnTo>
                  <a:lnTo>
                    <a:pt x="165" y="103"/>
                  </a:lnTo>
                  <a:lnTo>
                    <a:pt x="182" y="107"/>
                  </a:lnTo>
                  <a:lnTo>
                    <a:pt x="200" y="110"/>
                  </a:lnTo>
                  <a:lnTo>
                    <a:pt x="217" y="112"/>
                  </a:lnTo>
                  <a:lnTo>
                    <a:pt x="234" y="113"/>
                  </a:lnTo>
                  <a:lnTo>
                    <a:pt x="251" y="114"/>
                  </a:lnTo>
                  <a:lnTo>
                    <a:pt x="268" y="113"/>
                  </a:lnTo>
                  <a:lnTo>
                    <a:pt x="285" y="112"/>
                  </a:lnTo>
                  <a:lnTo>
                    <a:pt x="302" y="110"/>
                  </a:lnTo>
                  <a:lnTo>
                    <a:pt x="319" y="107"/>
                  </a:lnTo>
                  <a:lnTo>
                    <a:pt x="335" y="104"/>
                  </a:lnTo>
                  <a:lnTo>
                    <a:pt x="351" y="99"/>
                  </a:lnTo>
                  <a:lnTo>
                    <a:pt x="367" y="94"/>
                  </a:lnTo>
                  <a:lnTo>
                    <a:pt x="382" y="86"/>
                  </a:lnTo>
                  <a:lnTo>
                    <a:pt x="397" y="79"/>
                  </a:lnTo>
                  <a:lnTo>
                    <a:pt x="411" y="71"/>
                  </a:lnTo>
                  <a:lnTo>
                    <a:pt x="425" y="61"/>
                  </a:lnTo>
                  <a:lnTo>
                    <a:pt x="437" y="51"/>
                  </a:lnTo>
                  <a:lnTo>
                    <a:pt x="451" y="39"/>
                  </a:lnTo>
                  <a:lnTo>
                    <a:pt x="462" y="27"/>
                  </a:lnTo>
                  <a:lnTo>
                    <a:pt x="473" y="14"/>
                  </a:lnTo>
                  <a:lnTo>
                    <a:pt x="483" y="0"/>
                  </a:lnTo>
                </a:path>
              </a:pathLst>
            </a:custGeom>
            <a:noFill/>
            <a:ln w="14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4558680" y="4106880"/>
              <a:ext cx="7560" cy="55800"/>
            </a:xfrm>
            <a:custGeom>
              <a:avLst/>
              <a:gdLst/>
              <a:ahLst/>
              <a:rect l="l" t="t" r="r" b="b"/>
              <a:pathLst>
                <a:path w="22" h="148">
                  <a:moveTo>
                    <a:pt x="0" y="0"/>
                  </a:moveTo>
                  <a:lnTo>
                    <a:pt x="4" y="7"/>
                  </a:lnTo>
                  <a:lnTo>
                    <a:pt x="9" y="15"/>
                  </a:lnTo>
                  <a:lnTo>
                    <a:pt x="12" y="25"/>
                  </a:lnTo>
                  <a:lnTo>
                    <a:pt x="16" y="33"/>
                  </a:lnTo>
                  <a:lnTo>
                    <a:pt x="18" y="42"/>
                  </a:lnTo>
                  <a:lnTo>
                    <a:pt x="20" y="52"/>
                  </a:lnTo>
                  <a:lnTo>
                    <a:pt x="21" y="61"/>
                  </a:lnTo>
                  <a:lnTo>
                    <a:pt x="22" y="71"/>
                  </a:lnTo>
                  <a:lnTo>
                    <a:pt x="22" y="81"/>
                  </a:lnTo>
                  <a:lnTo>
                    <a:pt x="21" y="91"/>
                  </a:lnTo>
                  <a:lnTo>
                    <a:pt x="20" y="101"/>
                  </a:lnTo>
                  <a:lnTo>
                    <a:pt x="17" y="110"/>
                  </a:lnTo>
                  <a:lnTo>
                    <a:pt x="14" y="120"/>
                  </a:lnTo>
                  <a:lnTo>
                    <a:pt x="10" y="130"/>
                  </a:lnTo>
                  <a:lnTo>
                    <a:pt x="5" y="139"/>
                  </a:lnTo>
                  <a:lnTo>
                    <a:pt x="0" y="148"/>
                  </a:lnTo>
                </a:path>
              </a:pathLst>
            </a:custGeom>
            <a:noFill/>
            <a:ln w="3240">
              <a:solidFill>
                <a:srgbClr val="6f57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4237200" y="4112640"/>
              <a:ext cx="303480" cy="50400"/>
            </a:xfrm>
            <a:custGeom>
              <a:avLst/>
              <a:gdLst/>
              <a:ahLst/>
              <a:rect l="l" t="t" r="r" b="b"/>
              <a:pathLst>
                <a:path w="785" h="127">
                  <a:moveTo>
                    <a:pt x="0" y="43"/>
                  </a:moveTo>
                  <a:lnTo>
                    <a:pt x="5" y="40"/>
                  </a:lnTo>
                  <a:lnTo>
                    <a:pt x="16" y="33"/>
                  </a:lnTo>
                  <a:lnTo>
                    <a:pt x="35" y="23"/>
                  </a:lnTo>
                  <a:lnTo>
                    <a:pt x="59" y="14"/>
                  </a:lnTo>
                  <a:lnTo>
                    <a:pt x="73" y="10"/>
                  </a:lnTo>
                  <a:lnTo>
                    <a:pt x="89" y="5"/>
                  </a:lnTo>
                  <a:lnTo>
                    <a:pt x="104" y="2"/>
                  </a:lnTo>
                  <a:lnTo>
                    <a:pt x="120" y="1"/>
                  </a:lnTo>
                  <a:lnTo>
                    <a:pt x="138" y="0"/>
                  </a:lnTo>
                  <a:lnTo>
                    <a:pt x="156" y="2"/>
                  </a:lnTo>
                  <a:lnTo>
                    <a:pt x="174" y="5"/>
                  </a:lnTo>
                  <a:lnTo>
                    <a:pt x="193" y="12"/>
                  </a:lnTo>
                  <a:lnTo>
                    <a:pt x="204" y="17"/>
                  </a:lnTo>
                  <a:lnTo>
                    <a:pt x="215" y="22"/>
                  </a:lnTo>
                  <a:lnTo>
                    <a:pt x="224" y="29"/>
                  </a:lnTo>
                  <a:lnTo>
                    <a:pt x="234" y="36"/>
                  </a:lnTo>
                  <a:lnTo>
                    <a:pt x="251" y="50"/>
                  </a:lnTo>
                  <a:lnTo>
                    <a:pt x="266" y="67"/>
                  </a:lnTo>
                  <a:lnTo>
                    <a:pt x="281" y="82"/>
                  </a:lnTo>
                  <a:lnTo>
                    <a:pt x="296" y="96"/>
                  </a:lnTo>
                  <a:lnTo>
                    <a:pt x="303" y="102"/>
                  </a:lnTo>
                  <a:lnTo>
                    <a:pt x="311" y="107"/>
                  </a:lnTo>
                  <a:lnTo>
                    <a:pt x="319" y="113"/>
                  </a:lnTo>
                  <a:lnTo>
                    <a:pt x="329" y="117"/>
                  </a:lnTo>
                  <a:lnTo>
                    <a:pt x="338" y="120"/>
                  </a:lnTo>
                  <a:lnTo>
                    <a:pt x="347" y="123"/>
                  </a:lnTo>
                  <a:lnTo>
                    <a:pt x="356" y="125"/>
                  </a:lnTo>
                  <a:lnTo>
                    <a:pt x="365" y="126"/>
                  </a:lnTo>
                  <a:lnTo>
                    <a:pt x="376" y="127"/>
                  </a:lnTo>
                  <a:lnTo>
                    <a:pt x="385" y="127"/>
                  </a:lnTo>
                  <a:lnTo>
                    <a:pt x="394" y="127"/>
                  </a:lnTo>
                  <a:lnTo>
                    <a:pt x="404" y="126"/>
                  </a:lnTo>
                  <a:lnTo>
                    <a:pt x="413" y="124"/>
                  </a:lnTo>
                  <a:lnTo>
                    <a:pt x="422" y="122"/>
                  </a:lnTo>
                  <a:lnTo>
                    <a:pt x="431" y="119"/>
                  </a:lnTo>
                  <a:lnTo>
                    <a:pt x="440" y="115"/>
                  </a:lnTo>
                  <a:lnTo>
                    <a:pt x="448" y="111"/>
                  </a:lnTo>
                  <a:lnTo>
                    <a:pt x="455" y="105"/>
                  </a:lnTo>
                  <a:lnTo>
                    <a:pt x="463" y="100"/>
                  </a:lnTo>
                  <a:lnTo>
                    <a:pt x="469" y="93"/>
                  </a:lnTo>
                  <a:lnTo>
                    <a:pt x="477" y="87"/>
                  </a:lnTo>
                  <a:lnTo>
                    <a:pt x="485" y="80"/>
                  </a:lnTo>
                  <a:lnTo>
                    <a:pt x="495" y="72"/>
                  </a:lnTo>
                  <a:lnTo>
                    <a:pt x="505" y="65"/>
                  </a:lnTo>
                  <a:lnTo>
                    <a:pt x="517" y="58"/>
                  </a:lnTo>
                  <a:lnTo>
                    <a:pt x="531" y="49"/>
                  </a:lnTo>
                  <a:lnTo>
                    <a:pt x="545" y="43"/>
                  </a:lnTo>
                  <a:lnTo>
                    <a:pt x="560" y="37"/>
                  </a:lnTo>
                  <a:lnTo>
                    <a:pt x="577" y="32"/>
                  </a:lnTo>
                  <a:lnTo>
                    <a:pt x="594" y="29"/>
                  </a:lnTo>
                  <a:lnTo>
                    <a:pt x="611" y="26"/>
                  </a:lnTo>
                  <a:lnTo>
                    <a:pt x="631" y="26"/>
                  </a:lnTo>
                  <a:lnTo>
                    <a:pt x="651" y="27"/>
                  </a:lnTo>
                  <a:lnTo>
                    <a:pt x="671" y="30"/>
                  </a:lnTo>
                  <a:lnTo>
                    <a:pt x="682" y="32"/>
                  </a:lnTo>
                  <a:lnTo>
                    <a:pt x="693" y="35"/>
                  </a:lnTo>
                  <a:lnTo>
                    <a:pt x="704" y="38"/>
                  </a:lnTo>
                  <a:lnTo>
                    <a:pt x="715" y="43"/>
                  </a:lnTo>
                  <a:lnTo>
                    <a:pt x="721" y="45"/>
                  </a:lnTo>
                  <a:lnTo>
                    <a:pt x="730" y="48"/>
                  </a:lnTo>
                  <a:lnTo>
                    <a:pt x="740" y="51"/>
                  </a:lnTo>
                  <a:lnTo>
                    <a:pt x="750" y="56"/>
                  </a:lnTo>
                  <a:lnTo>
                    <a:pt x="760" y="61"/>
                  </a:lnTo>
                  <a:lnTo>
                    <a:pt x="770" y="65"/>
                  </a:lnTo>
                  <a:lnTo>
                    <a:pt x="779" y="69"/>
                  </a:lnTo>
                  <a:lnTo>
                    <a:pt x="785" y="73"/>
                  </a:lnTo>
                </a:path>
              </a:pathLst>
            </a:custGeom>
            <a:noFill/>
            <a:ln w="46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4206600" y="4097520"/>
              <a:ext cx="19080" cy="48240"/>
            </a:xfrm>
            <a:custGeom>
              <a:avLst/>
              <a:gdLst/>
              <a:ahLst/>
              <a:rect l="l" t="t" r="r" b="b"/>
              <a:pathLst>
                <a:path w="48" h="124">
                  <a:moveTo>
                    <a:pt x="48" y="0"/>
                  </a:moveTo>
                  <a:lnTo>
                    <a:pt x="41" y="6"/>
                  </a:lnTo>
                  <a:lnTo>
                    <a:pt x="36" y="12"/>
                  </a:lnTo>
                  <a:lnTo>
                    <a:pt x="31" y="19"/>
                  </a:lnTo>
                  <a:lnTo>
                    <a:pt x="26" y="26"/>
                  </a:lnTo>
                  <a:lnTo>
                    <a:pt x="23" y="33"/>
                  </a:lnTo>
                  <a:lnTo>
                    <a:pt x="20" y="41"/>
                  </a:lnTo>
                  <a:lnTo>
                    <a:pt x="17" y="50"/>
                  </a:lnTo>
                  <a:lnTo>
                    <a:pt x="15" y="58"/>
                  </a:lnTo>
                  <a:lnTo>
                    <a:pt x="12" y="74"/>
                  </a:lnTo>
                  <a:lnTo>
                    <a:pt x="9" y="91"/>
                  </a:lnTo>
                  <a:lnTo>
                    <a:pt x="4" y="108"/>
                  </a:lnTo>
                  <a:lnTo>
                    <a:pt x="0" y="124"/>
                  </a:lnTo>
                </a:path>
              </a:pathLst>
            </a:custGeom>
            <a:noFill/>
            <a:ln w="3240">
              <a:solidFill>
                <a:srgbClr val="6f57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4560840" y="3021840"/>
              <a:ext cx="1422720" cy="1680840"/>
            </a:xfrm>
            <a:custGeom>
              <a:avLst/>
              <a:gdLst/>
              <a:ahLst/>
              <a:rect l="l" t="t" r="r" b="b"/>
              <a:pathLst>
                <a:path w="3675" h="4344">
                  <a:moveTo>
                    <a:pt x="2905" y="4344"/>
                  </a:moveTo>
                  <a:lnTo>
                    <a:pt x="2878" y="4302"/>
                  </a:lnTo>
                  <a:lnTo>
                    <a:pt x="2803" y="4190"/>
                  </a:lnTo>
                  <a:lnTo>
                    <a:pt x="2751" y="4115"/>
                  </a:lnTo>
                  <a:lnTo>
                    <a:pt x="2692" y="4028"/>
                  </a:lnTo>
                  <a:lnTo>
                    <a:pt x="2627" y="3935"/>
                  </a:lnTo>
                  <a:lnTo>
                    <a:pt x="2555" y="3837"/>
                  </a:lnTo>
                  <a:lnTo>
                    <a:pt x="2518" y="3786"/>
                  </a:lnTo>
                  <a:lnTo>
                    <a:pt x="2481" y="3736"/>
                  </a:lnTo>
                  <a:lnTo>
                    <a:pt x="2442" y="3686"/>
                  </a:lnTo>
                  <a:lnTo>
                    <a:pt x="2403" y="3636"/>
                  </a:lnTo>
                  <a:lnTo>
                    <a:pt x="2364" y="3586"/>
                  </a:lnTo>
                  <a:lnTo>
                    <a:pt x="2324" y="3538"/>
                  </a:lnTo>
                  <a:lnTo>
                    <a:pt x="2286" y="3492"/>
                  </a:lnTo>
                  <a:lnTo>
                    <a:pt x="2247" y="3447"/>
                  </a:lnTo>
                  <a:lnTo>
                    <a:pt x="2208" y="3403"/>
                  </a:lnTo>
                  <a:lnTo>
                    <a:pt x="2170" y="3362"/>
                  </a:lnTo>
                  <a:lnTo>
                    <a:pt x="2133" y="3324"/>
                  </a:lnTo>
                  <a:lnTo>
                    <a:pt x="2097" y="3289"/>
                  </a:lnTo>
                  <a:lnTo>
                    <a:pt x="2061" y="3256"/>
                  </a:lnTo>
                  <a:lnTo>
                    <a:pt x="2027" y="3227"/>
                  </a:lnTo>
                  <a:lnTo>
                    <a:pt x="1995" y="3203"/>
                  </a:lnTo>
                  <a:lnTo>
                    <a:pt x="1964" y="3181"/>
                  </a:lnTo>
                  <a:lnTo>
                    <a:pt x="1948" y="3171"/>
                  </a:lnTo>
                  <a:lnTo>
                    <a:pt x="1932" y="3158"/>
                  </a:lnTo>
                  <a:lnTo>
                    <a:pt x="1914" y="3144"/>
                  </a:lnTo>
                  <a:lnTo>
                    <a:pt x="1897" y="3127"/>
                  </a:lnTo>
                  <a:lnTo>
                    <a:pt x="1880" y="3110"/>
                  </a:lnTo>
                  <a:lnTo>
                    <a:pt x="1861" y="3091"/>
                  </a:lnTo>
                  <a:lnTo>
                    <a:pt x="1844" y="3070"/>
                  </a:lnTo>
                  <a:lnTo>
                    <a:pt x="1825" y="3049"/>
                  </a:lnTo>
                  <a:lnTo>
                    <a:pt x="1807" y="3025"/>
                  </a:lnTo>
                  <a:lnTo>
                    <a:pt x="1790" y="3002"/>
                  </a:lnTo>
                  <a:lnTo>
                    <a:pt x="1771" y="2976"/>
                  </a:lnTo>
                  <a:lnTo>
                    <a:pt x="1754" y="2951"/>
                  </a:lnTo>
                  <a:lnTo>
                    <a:pt x="1737" y="2924"/>
                  </a:lnTo>
                  <a:lnTo>
                    <a:pt x="1719" y="2897"/>
                  </a:lnTo>
                  <a:lnTo>
                    <a:pt x="1702" y="2868"/>
                  </a:lnTo>
                  <a:lnTo>
                    <a:pt x="1686" y="2840"/>
                  </a:lnTo>
                  <a:lnTo>
                    <a:pt x="1669" y="2810"/>
                  </a:lnTo>
                  <a:lnTo>
                    <a:pt x="1654" y="2782"/>
                  </a:lnTo>
                  <a:lnTo>
                    <a:pt x="1639" y="2752"/>
                  </a:lnTo>
                  <a:lnTo>
                    <a:pt x="1624" y="2721"/>
                  </a:lnTo>
                  <a:lnTo>
                    <a:pt x="1610" y="2692"/>
                  </a:lnTo>
                  <a:lnTo>
                    <a:pt x="1597" y="2662"/>
                  </a:lnTo>
                  <a:lnTo>
                    <a:pt x="1585" y="2632"/>
                  </a:lnTo>
                  <a:lnTo>
                    <a:pt x="1573" y="2603"/>
                  </a:lnTo>
                  <a:lnTo>
                    <a:pt x="1563" y="2574"/>
                  </a:lnTo>
                  <a:lnTo>
                    <a:pt x="1553" y="2545"/>
                  </a:lnTo>
                  <a:lnTo>
                    <a:pt x="1545" y="2516"/>
                  </a:lnTo>
                  <a:lnTo>
                    <a:pt x="1537" y="2489"/>
                  </a:lnTo>
                  <a:lnTo>
                    <a:pt x="1530" y="2461"/>
                  </a:lnTo>
                  <a:lnTo>
                    <a:pt x="1524" y="2435"/>
                  </a:lnTo>
                  <a:lnTo>
                    <a:pt x="1520" y="2409"/>
                  </a:lnTo>
                  <a:lnTo>
                    <a:pt x="1518" y="2385"/>
                  </a:lnTo>
                  <a:lnTo>
                    <a:pt x="1516" y="2371"/>
                  </a:lnTo>
                  <a:lnTo>
                    <a:pt x="1513" y="2353"/>
                  </a:lnTo>
                  <a:lnTo>
                    <a:pt x="1510" y="2335"/>
                  </a:lnTo>
                  <a:lnTo>
                    <a:pt x="1506" y="2316"/>
                  </a:lnTo>
                  <a:lnTo>
                    <a:pt x="1501" y="2297"/>
                  </a:lnTo>
                  <a:lnTo>
                    <a:pt x="1497" y="2280"/>
                  </a:lnTo>
                  <a:lnTo>
                    <a:pt x="1494" y="2262"/>
                  </a:lnTo>
                  <a:lnTo>
                    <a:pt x="1491" y="2248"/>
                  </a:lnTo>
                  <a:lnTo>
                    <a:pt x="1483" y="2208"/>
                  </a:lnTo>
                  <a:lnTo>
                    <a:pt x="1476" y="2173"/>
                  </a:lnTo>
                  <a:lnTo>
                    <a:pt x="1471" y="2139"/>
                  </a:lnTo>
                  <a:lnTo>
                    <a:pt x="1466" y="2105"/>
                  </a:lnTo>
                  <a:lnTo>
                    <a:pt x="1460" y="2071"/>
                  </a:lnTo>
                  <a:lnTo>
                    <a:pt x="1451" y="2034"/>
                  </a:lnTo>
                  <a:lnTo>
                    <a:pt x="1445" y="2014"/>
                  </a:lnTo>
                  <a:lnTo>
                    <a:pt x="1439" y="1993"/>
                  </a:lnTo>
                  <a:lnTo>
                    <a:pt x="1430" y="1970"/>
                  </a:lnTo>
                  <a:lnTo>
                    <a:pt x="1420" y="1945"/>
                  </a:lnTo>
                  <a:lnTo>
                    <a:pt x="1417" y="1936"/>
                  </a:lnTo>
                  <a:lnTo>
                    <a:pt x="1413" y="1924"/>
                  </a:lnTo>
                  <a:lnTo>
                    <a:pt x="1409" y="1909"/>
                  </a:lnTo>
                  <a:lnTo>
                    <a:pt x="1404" y="1894"/>
                  </a:lnTo>
                  <a:lnTo>
                    <a:pt x="1399" y="1879"/>
                  </a:lnTo>
                  <a:lnTo>
                    <a:pt x="1395" y="1865"/>
                  </a:lnTo>
                  <a:lnTo>
                    <a:pt x="1390" y="1852"/>
                  </a:lnTo>
                  <a:lnTo>
                    <a:pt x="1385" y="1844"/>
                  </a:lnTo>
                  <a:lnTo>
                    <a:pt x="1364" y="1815"/>
                  </a:lnTo>
                  <a:lnTo>
                    <a:pt x="1343" y="1785"/>
                  </a:lnTo>
                  <a:lnTo>
                    <a:pt x="1321" y="1756"/>
                  </a:lnTo>
                  <a:lnTo>
                    <a:pt x="1300" y="1729"/>
                  </a:lnTo>
                  <a:lnTo>
                    <a:pt x="1277" y="1702"/>
                  </a:lnTo>
                  <a:lnTo>
                    <a:pt x="1255" y="1676"/>
                  </a:lnTo>
                  <a:lnTo>
                    <a:pt x="1233" y="1650"/>
                  </a:lnTo>
                  <a:lnTo>
                    <a:pt x="1210" y="1625"/>
                  </a:lnTo>
                  <a:lnTo>
                    <a:pt x="1165" y="1577"/>
                  </a:lnTo>
                  <a:lnTo>
                    <a:pt x="1121" y="1533"/>
                  </a:lnTo>
                  <a:lnTo>
                    <a:pt x="1078" y="1491"/>
                  </a:lnTo>
                  <a:lnTo>
                    <a:pt x="1038" y="1454"/>
                  </a:lnTo>
                  <a:lnTo>
                    <a:pt x="999" y="1419"/>
                  </a:lnTo>
                  <a:lnTo>
                    <a:pt x="964" y="1389"/>
                  </a:lnTo>
                  <a:lnTo>
                    <a:pt x="931" y="1363"/>
                  </a:lnTo>
                  <a:lnTo>
                    <a:pt x="904" y="1340"/>
                  </a:lnTo>
                  <a:lnTo>
                    <a:pt x="862" y="1308"/>
                  </a:lnTo>
                  <a:lnTo>
                    <a:pt x="844" y="1294"/>
                  </a:lnTo>
                  <a:lnTo>
                    <a:pt x="802" y="1270"/>
                  </a:lnTo>
                  <a:lnTo>
                    <a:pt x="763" y="1249"/>
                  </a:lnTo>
                  <a:lnTo>
                    <a:pt x="726" y="1228"/>
                  </a:lnTo>
                  <a:lnTo>
                    <a:pt x="692" y="1210"/>
                  </a:lnTo>
                  <a:lnTo>
                    <a:pt x="628" y="1178"/>
                  </a:lnTo>
                  <a:lnTo>
                    <a:pt x="573" y="1153"/>
                  </a:lnTo>
                  <a:lnTo>
                    <a:pt x="526" y="1131"/>
                  </a:lnTo>
                  <a:lnTo>
                    <a:pt x="489" y="1115"/>
                  </a:lnTo>
                  <a:lnTo>
                    <a:pt x="473" y="1108"/>
                  </a:lnTo>
                  <a:lnTo>
                    <a:pt x="460" y="1102"/>
                  </a:lnTo>
                  <a:lnTo>
                    <a:pt x="449" y="1096"/>
                  </a:lnTo>
                  <a:lnTo>
                    <a:pt x="440" y="1089"/>
                  </a:lnTo>
                  <a:lnTo>
                    <a:pt x="422" y="1068"/>
                  </a:lnTo>
                  <a:lnTo>
                    <a:pt x="407" y="1047"/>
                  </a:lnTo>
                  <a:lnTo>
                    <a:pt x="395" y="1027"/>
                  </a:lnTo>
                  <a:lnTo>
                    <a:pt x="383" y="1009"/>
                  </a:lnTo>
                  <a:lnTo>
                    <a:pt x="374" y="993"/>
                  </a:lnTo>
                  <a:lnTo>
                    <a:pt x="367" y="976"/>
                  </a:lnTo>
                  <a:lnTo>
                    <a:pt x="362" y="962"/>
                  </a:lnTo>
                  <a:lnTo>
                    <a:pt x="358" y="948"/>
                  </a:lnTo>
                  <a:lnTo>
                    <a:pt x="356" y="935"/>
                  </a:lnTo>
                  <a:lnTo>
                    <a:pt x="355" y="923"/>
                  </a:lnTo>
                  <a:lnTo>
                    <a:pt x="355" y="913"/>
                  </a:lnTo>
                  <a:lnTo>
                    <a:pt x="356" y="903"/>
                  </a:lnTo>
                  <a:lnTo>
                    <a:pt x="359" y="894"/>
                  </a:lnTo>
                  <a:lnTo>
                    <a:pt x="362" y="885"/>
                  </a:lnTo>
                  <a:lnTo>
                    <a:pt x="366" y="878"/>
                  </a:lnTo>
                  <a:lnTo>
                    <a:pt x="371" y="871"/>
                  </a:lnTo>
                  <a:lnTo>
                    <a:pt x="376" y="865"/>
                  </a:lnTo>
                  <a:lnTo>
                    <a:pt x="382" y="860"/>
                  </a:lnTo>
                  <a:lnTo>
                    <a:pt x="389" y="855"/>
                  </a:lnTo>
                  <a:lnTo>
                    <a:pt x="395" y="851"/>
                  </a:lnTo>
                  <a:lnTo>
                    <a:pt x="408" y="845"/>
                  </a:lnTo>
                  <a:lnTo>
                    <a:pt x="420" y="840"/>
                  </a:lnTo>
                  <a:lnTo>
                    <a:pt x="442" y="834"/>
                  </a:lnTo>
                  <a:lnTo>
                    <a:pt x="450" y="833"/>
                  </a:lnTo>
                  <a:lnTo>
                    <a:pt x="446" y="830"/>
                  </a:lnTo>
                  <a:lnTo>
                    <a:pt x="431" y="819"/>
                  </a:lnTo>
                  <a:lnTo>
                    <a:pt x="407" y="799"/>
                  </a:lnTo>
                  <a:lnTo>
                    <a:pt x="368" y="771"/>
                  </a:lnTo>
                  <a:lnTo>
                    <a:pt x="315" y="734"/>
                  </a:lnTo>
                  <a:lnTo>
                    <a:pt x="246" y="690"/>
                  </a:lnTo>
                  <a:lnTo>
                    <a:pt x="204" y="663"/>
                  </a:lnTo>
                  <a:lnTo>
                    <a:pt x="158" y="634"/>
                  </a:lnTo>
                  <a:lnTo>
                    <a:pt x="107" y="603"/>
                  </a:lnTo>
                  <a:lnTo>
                    <a:pt x="51" y="569"/>
                  </a:lnTo>
                  <a:lnTo>
                    <a:pt x="45" y="566"/>
                  </a:lnTo>
                  <a:lnTo>
                    <a:pt x="40" y="562"/>
                  </a:lnTo>
                  <a:lnTo>
                    <a:pt x="34" y="557"/>
                  </a:lnTo>
                  <a:lnTo>
                    <a:pt x="30" y="551"/>
                  </a:lnTo>
                  <a:lnTo>
                    <a:pt x="26" y="545"/>
                  </a:lnTo>
                  <a:lnTo>
                    <a:pt x="22" y="538"/>
                  </a:lnTo>
                  <a:lnTo>
                    <a:pt x="18" y="528"/>
                  </a:lnTo>
                  <a:lnTo>
                    <a:pt x="15" y="519"/>
                  </a:lnTo>
                  <a:lnTo>
                    <a:pt x="10" y="498"/>
                  </a:lnTo>
                  <a:lnTo>
                    <a:pt x="6" y="471"/>
                  </a:lnTo>
                  <a:lnTo>
                    <a:pt x="2" y="440"/>
                  </a:lnTo>
                  <a:lnTo>
                    <a:pt x="0" y="403"/>
                  </a:lnTo>
                  <a:lnTo>
                    <a:pt x="0" y="389"/>
                  </a:lnTo>
                  <a:lnTo>
                    <a:pt x="2" y="377"/>
                  </a:lnTo>
                  <a:lnTo>
                    <a:pt x="7" y="368"/>
                  </a:lnTo>
                  <a:lnTo>
                    <a:pt x="13" y="360"/>
                  </a:lnTo>
                  <a:lnTo>
                    <a:pt x="20" y="354"/>
                  </a:lnTo>
                  <a:lnTo>
                    <a:pt x="29" y="349"/>
                  </a:lnTo>
                  <a:lnTo>
                    <a:pt x="41" y="346"/>
                  </a:lnTo>
                  <a:lnTo>
                    <a:pt x="53" y="344"/>
                  </a:lnTo>
                  <a:lnTo>
                    <a:pt x="66" y="343"/>
                  </a:lnTo>
                  <a:lnTo>
                    <a:pt x="80" y="343"/>
                  </a:lnTo>
                  <a:lnTo>
                    <a:pt x="96" y="345"/>
                  </a:lnTo>
                  <a:lnTo>
                    <a:pt x="112" y="347"/>
                  </a:lnTo>
                  <a:lnTo>
                    <a:pt x="128" y="351"/>
                  </a:lnTo>
                  <a:lnTo>
                    <a:pt x="146" y="355"/>
                  </a:lnTo>
                  <a:lnTo>
                    <a:pt x="163" y="359"/>
                  </a:lnTo>
                  <a:lnTo>
                    <a:pt x="181" y="364"/>
                  </a:lnTo>
                  <a:lnTo>
                    <a:pt x="217" y="376"/>
                  </a:lnTo>
                  <a:lnTo>
                    <a:pt x="254" y="390"/>
                  </a:lnTo>
                  <a:lnTo>
                    <a:pt x="289" y="403"/>
                  </a:lnTo>
                  <a:lnTo>
                    <a:pt x="320" y="415"/>
                  </a:lnTo>
                  <a:lnTo>
                    <a:pt x="350" y="427"/>
                  </a:lnTo>
                  <a:lnTo>
                    <a:pt x="374" y="437"/>
                  </a:lnTo>
                  <a:lnTo>
                    <a:pt x="393" y="444"/>
                  </a:lnTo>
                  <a:lnTo>
                    <a:pt x="406" y="447"/>
                  </a:lnTo>
                  <a:lnTo>
                    <a:pt x="409" y="447"/>
                  </a:lnTo>
                  <a:lnTo>
                    <a:pt x="410" y="446"/>
                  </a:lnTo>
                  <a:lnTo>
                    <a:pt x="410" y="444"/>
                  </a:lnTo>
                  <a:lnTo>
                    <a:pt x="408" y="442"/>
                  </a:lnTo>
                  <a:lnTo>
                    <a:pt x="400" y="434"/>
                  </a:lnTo>
                  <a:lnTo>
                    <a:pt x="385" y="422"/>
                  </a:lnTo>
                  <a:lnTo>
                    <a:pt x="347" y="393"/>
                  </a:lnTo>
                  <a:lnTo>
                    <a:pt x="298" y="353"/>
                  </a:lnTo>
                  <a:lnTo>
                    <a:pt x="271" y="331"/>
                  </a:lnTo>
                  <a:lnTo>
                    <a:pt x="246" y="306"/>
                  </a:lnTo>
                  <a:lnTo>
                    <a:pt x="232" y="294"/>
                  </a:lnTo>
                  <a:lnTo>
                    <a:pt x="220" y="281"/>
                  </a:lnTo>
                  <a:lnTo>
                    <a:pt x="209" y="267"/>
                  </a:lnTo>
                  <a:lnTo>
                    <a:pt x="198" y="253"/>
                  </a:lnTo>
                  <a:lnTo>
                    <a:pt x="187" y="239"/>
                  </a:lnTo>
                  <a:lnTo>
                    <a:pt x="177" y="224"/>
                  </a:lnTo>
                  <a:lnTo>
                    <a:pt x="169" y="210"/>
                  </a:lnTo>
                  <a:lnTo>
                    <a:pt x="161" y="196"/>
                  </a:lnTo>
                  <a:lnTo>
                    <a:pt x="155" y="182"/>
                  </a:lnTo>
                  <a:lnTo>
                    <a:pt x="150" y="166"/>
                  </a:lnTo>
                  <a:lnTo>
                    <a:pt x="146" y="151"/>
                  </a:lnTo>
                  <a:lnTo>
                    <a:pt x="144" y="137"/>
                  </a:lnTo>
                  <a:lnTo>
                    <a:pt x="142" y="121"/>
                  </a:lnTo>
                  <a:lnTo>
                    <a:pt x="142" y="108"/>
                  </a:lnTo>
                  <a:lnTo>
                    <a:pt x="142" y="96"/>
                  </a:lnTo>
                  <a:lnTo>
                    <a:pt x="143" y="85"/>
                  </a:lnTo>
                  <a:lnTo>
                    <a:pt x="144" y="73"/>
                  </a:lnTo>
                  <a:lnTo>
                    <a:pt x="146" y="64"/>
                  </a:lnTo>
                  <a:lnTo>
                    <a:pt x="148" y="55"/>
                  </a:lnTo>
                  <a:lnTo>
                    <a:pt x="151" y="47"/>
                  </a:lnTo>
                  <a:lnTo>
                    <a:pt x="154" y="40"/>
                  </a:lnTo>
                  <a:lnTo>
                    <a:pt x="158" y="34"/>
                  </a:lnTo>
                  <a:lnTo>
                    <a:pt x="162" y="28"/>
                  </a:lnTo>
                  <a:lnTo>
                    <a:pt x="166" y="22"/>
                  </a:lnTo>
                  <a:lnTo>
                    <a:pt x="171" y="18"/>
                  </a:lnTo>
                  <a:lnTo>
                    <a:pt x="176" y="14"/>
                  </a:lnTo>
                  <a:lnTo>
                    <a:pt x="180" y="11"/>
                  </a:lnTo>
                  <a:lnTo>
                    <a:pt x="185" y="8"/>
                  </a:lnTo>
                  <a:lnTo>
                    <a:pt x="196" y="4"/>
                  </a:lnTo>
                  <a:lnTo>
                    <a:pt x="206" y="1"/>
                  </a:lnTo>
                  <a:lnTo>
                    <a:pt x="216" y="0"/>
                  </a:lnTo>
                  <a:lnTo>
                    <a:pt x="224" y="0"/>
                  </a:lnTo>
                  <a:lnTo>
                    <a:pt x="238" y="0"/>
                  </a:lnTo>
                  <a:lnTo>
                    <a:pt x="243" y="1"/>
                  </a:lnTo>
                  <a:lnTo>
                    <a:pt x="753" y="356"/>
                  </a:lnTo>
                  <a:lnTo>
                    <a:pt x="763" y="267"/>
                  </a:lnTo>
                  <a:lnTo>
                    <a:pt x="783" y="273"/>
                  </a:lnTo>
                  <a:lnTo>
                    <a:pt x="809" y="285"/>
                  </a:lnTo>
                  <a:lnTo>
                    <a:pt x="841" y="299"/>
                  </a:lnTo>
                  <a:lnTo>
                    <a:pt x="875" y="316"/>
                  </a:lnTo>
                  <a:lnTo>
                    <a:pt x="955" y="357"/>
                  </a:lnTo>
                  <a:lnTo>
                    <a:pt x="1038" y="402"/>
                  </a:lnTo>
                  <a:lnTo>
                    <a:pt x="1116" y="446"/>
                  </a:lnTo>
                  <a:lnTo>
                    <a:pt x="1182" y="485"/>
                  </a:lnTo>
                  <a:lnTo>
                    <a:pt x="1228" y="511"/>
                  </a:lnTo>
                  <a:lnTo>
                    <a:pt x="1245" y="521"/>
                  </a:lnTo>
                  <a:lnTo>
                    <a:pt x="1270" y="535"/>
                  </a:lnTo>
                  <a:lnTo>
                    <a:pt x="1338" y="573"/>
                  </a:lnTo>
                  <a:lnTo>
                    <a:pt x="1436" y="629"/>
                  </a:lnTo>
                  <a:lnTo>
                    <a:pt x="1554" y="697"/>
                  </a:lnTo>
                  <a:lnTo>
                    <a:pt x="1679" y="771"/>
                  </a:lnTo>
                  <a:lnTo>
                    <a:pt x="1801" y="845"/>
                  </a:lnTo>
                  <a:lnTo>
                    <a:pt x="1857" y="879"/>
                  </a:lnTo>
                  <a:lnTo>
                    <a:pt x="1907" y="912"/>
                  </a:lnTo>
                  <a:lnTo>
                    <a:pt x="1951" y="942"/>
                  </a:lnTo>
                  <a:lnTo>
                    <a:pt x="1988" y="967"/>
                  </a:lnTo>
                  <a:lnTo>
                    <a:pt x="2003" y="979"/>
                  </a:lnTo>
                  <a:lnTo>
                    <a:pt x="2018" y="994"/>
                  </a:lnTo>
                  <a:lnTo>
                    <a:pt x="2035" y="1010"/>
                  </a:lnTo>
                  <a:lnTo>
                    <a:pt x="2051" y="1028"/>
                  </a:lnTo>
                  <a:lnTo>
                    <a:pt x="2067" y="1048"/>
                  </a:lnTo>
                  <a:lnTo>
                    <a:pt x="2084" y="1068"/>
                  </a:lnTo>
                  <a:lnTo>
                    <a:pt x="2101" y="1090"/>
                  </a:lnTo>
                  <a:lnTo>
                    <a:pt x="2117" y="1113"/>
                  </a:lnTo>
                  <a:lnTo>
                    <a:pt x="2150" y="1162"/>
                  </a:lnTo>
                  <a:lnTo>
                    <a:pt x="2182" y="1213"/>
                  </a:lnTo>
                  <a:lnTo>
                    <a:pt x="2212" y="1265"/>
                  </a:lnTo>
                  <a:lnTo>
                    <a:pt x="2242" y="1316"/>
                  </a:lnTo>
                  <a:lnTo>
                    <a:pt x="2269" y="1367"/>
                  </a:lnTo>
                  <a:lnTo>
                    <a:pt x="2294" y="1414"/>
                  </a:lnTo>
                  <a:lnTo>
                    <a:pt x="2316" y="1458"/>
                  </a:lnTo>
                  <a:lnTo>
                    <a:pt x="2336" y="1496"/>
                  </a:lnTo>
                  <a:lnTo>
                    <a:pt x="2362" y="1552"/>
                  </a:lnTo>
                  <a:lnTo>
                    <a:pt x="2372" y="1574"/>
                  </a:lnTo>
                  <a:lnTo>
                    <a:pt x="2645" y="2168"/>
                  </a:lnTo>
                  <a:lnTo>
                    <a:pt x="2905" y="2958"/>
                  </a:lnTo>
                  <a:lnTo>
                    <a:pt x="3675" y="3949"/>
                  </a:lnTo>
                  <a:lnTo>
                    <a:pt x="2905" y="4344"/>
                  </a:lnTo>
                  <a:close/>
                </a:path>
              </a:pathLst>
            </a:custGeom>
            <a:solidFill>
              <a:srgbClr val="f9d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4717800" y="3193920"/>
              <a:ext cx="375120" cy="195480"/>
            </a:xfrm>
            <a:custGeom>
              <a:avLst/>
              <a:gdLst/>
              <a:ahLst/>
              <a:rect l="l" t="t" r="r" b="b"/>
              <a:pathLst>
                <a:path w="970" h="501">
                  <a:moveTo>
                    <a:pt x="0" y="0"/>
                  </a:moveTo>
                  <a:lnTo>
                    <a:pt x="3" y="1"/>
                  </a:lnTo>
                  <a:lnTo>
                    <a:pt x="13" y="5"/>
                  </a:lnTo>
                  <a:lnTo>
                    <a:pt x="31" y="12"/>
                  </a:lnTo>
                  <a:lnTo>
                    <a:pt x="56" y="20"/>
                  </a:lnTo>
                  <a:lnTo>
                    <a:pt x="88" y="31"/>
                  </a:lnTo>
                  <a:lnTo>
                    <a:pt x="128" y="44"/>
                  </a:lnTo>
                  <a:lnTo>
                    <a:pt x="176" y="58"/>
                  </a:lnTo>
                  <a:lnTo>
                    <a:pt x="233" y="74"/>
                  </a:lnTo>
                  <a:lnTo>
                    <a:pt x="244" y="77"/>
                  </a:lnTo>
                  <a:lnTo>
                    <a:pt x="258" y="82"/>
                  </a:lnTo>
                  <a:lnTo>
                    <a:pt x="274" y="90"/>
                  </a:lnTo>
                  <a:lnTo>
                    <a:pt x="293" y="98"/>
                  </a:lnTo>
                  <a:lnTo>
                    <a:pt x="335" y="118"/>
                  </a:lnTo>
                  <a:lnTo>
                    <a:pt x="382" y="143"/>
                  </a:lnTo>
                  <a:lnTo>
                    <a:pt x="434" y="171"/>
                  </a:lnTo>
                  <a:lnTo>
                    <a:pt x="490" y="203"/>
                  </a:lnTo>
                  <a:lnTo>
                    <a:pt x="548" y="236"/>
                  </a:lnTo>
                  <a:lnTo>
                    <a:pt x="607" y="271"/>
                  </a:lnTo>
                  <a:lnTo>
                    <a:pt x="723" y="342"/>
                  </a:lnTo>
                  <a:lnTo>
                    <a:pt x="829" y="407"/>
                  </a:lnTo>
                  <a:lnTo>
                    <a:pt x="874" y="436"/>
                  </a:lnTo>
                  <a:lnTo>
                    <a:pt x="914" y="463"/>
                  </a:lnTo>
                  <a:lnTo>
                    <a:pt x="947" y="484"/>
                  </a:lnTo>
                  <a:lnTo>
                    <a:pt x="970" y="501"/>
                  </a:lnTo>
                </a:path>
              </a:pathLst>
            </a:custGeom>
            <a:noFill/>
            <a:ln w="46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4738680" y="3342960"/>
              <a:ext cx="460800" cy="231840"/>
            </a:xfrm>
            <a:custGeom>
              <a:avLst/>
              <a:gdLst/>
              <a:ahLst/>
              <a:rect l="l" t="t" r="r" b="b"/>
              <a:pathLst>
                <a:path w="1193" h="601">
                  <a:moveTo>
                    <a:pt x="0" y="0"/>
                  </a:moveTo>
                  <a:lnTo>
                    <a:pt x="18" y="6"/>
                  </a:lnTo>
                  <a:lnTo>
                    <a:pt x="68" y="23"/>
                  </a:lnTo>
                  <a:lnTo>
                    <a:pt x="140" y="46"/>
                  </a:lnTo>
                  <a:lnTo>
                    <a:pt x="225" y="75"/>
                  </a:lnTo>
                  <a:lnTo>
                    <a:pt x="318" y="107"/>
                  </a:lnTo>
                  <a:lnTo>
                    <a:pt x="408" y="140"/>
                  </a:lnTo>
                  <a:lnTo>
                    <a:pt x="450" y="155"/>
                  </a:lnTo>
                  <a:lnTo>
                    <a:pt x="488" y="171"/>
                  </a:lnTo>
                  <a:lnTo>
                    <a:pt x="520" y="184"/>
                  </a:lnTo>
                  <a:lnTo>
                    <a:pt x="548" y="197"/>
                  </a:lnTo>
                  <a:lnTo>
                    <a:pt x="577" y="211"/>
                  </a:lnTo>
                  <a:lnTo>
                    <a:pt x="613" y="232"/>
                  </a:lnTo>
                  <a:lnTo>
                    <a:pt x="656" y="257"/>
                  </a:lnTo>
                  <a:lnTo>
                    <a:pt x="704" y="286"/>
                  </a:lnTo>
                  <a:lnTo>
                    <a:pt x="810" y="352"/>
                  </a:lnTo>
                  <a:lnTo>
                    <a:pt x="919" y="422"/>
                  </a:lnTo>
                  <a:lnTo>
                    <a:pt x="1024" y="489"/>
                  </a:lnTo>
                  <a:lnTo>
                    <a:pt x="1110" y="546"/>
                  </a:lnTo>
                  <a:lnTo>
                    <a:pt x="1170" y="586"/>
                  </a:lnTo>
                  <a:lnTo>
                    <a:pt x="1193" y="601"/>
                  </a:lnTo>
                </a:path>
              </a:pathLst>
            </a:custGeom>
            <a:noFill/>
            <a:ln w="46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4852800" y="3159000"/>
              <a:ext cx="319320" cy="197280"/>
            </a:xfrm>
            <a:custGeom>
              <a:avLst/>
              <a:gdLst/>
              <a:ahLst/>
              <a:rect l="l" t="t" r="r" b="b"/>
              <a:pathLst>
                <a:path w="826" h="511">
                  <a:moveTo>
                    <a:pt x="0" y="0"/>
                  </a:moveTo>
                  <a:lnTo>
                    <a:pt x="17" y="11"/>
                  </a:lnTo>
                  <a:lnTo>
                    <a:pt x="66" y="40"/>
                  </a:lnTo>
                  <a:lnTo>
                    <a:pt x="138" y="82"/>
                  </a:lnTo>
                  <a:lnTo>
                    <a:pt x="222" y="133"/>
                  </a:lnTo>
                  <a:lnTo>
                    <a:pt x="314" y="188"/>
                  </a:lnTo>
                  <a:lnTo>
                    <a:pt x="404" y="241"/>
                  </a:lnTo>
                  <a:lnTo>
                    <a:pt x="483" y="289"/>
                  </a:lnTo>
                  <a:lnTo>
                    <a:pt x="543" y="325"/>
                  </a:lnTo>
                  <a:lnTo>
                    <a:pt x="594" y="358"/>
                  </a:lnTo>
                  <a:lnTo>
                    <a:pt x="644" y="391"/>
                  </a:lnTo>
                  <a:lnTo>
                    <a:pt x="692" y="422"/>
                  </a:lnTo>
                  <a:lnTo>
                    <a:pt x="736" y="451"/>
                  </a:lnTo>
                  <a:lnTo>
                    <a:pt x="772" y="475"/>
                  </a:lnTo>
                  <a:lnTo>
                    <a:pt x="801" y="495"/>
                  </a:lnTo>
                  <a:lnTo>
                    <a:pt x="819" y="507"/>
                  </a:lnTo>
                  <a:lnTo>
                    <a:pt x="826" y="511"/>
                  </a:lnTo>
                </a:path>
              </a:pathLst>
            </a:custGeom>
            <a:noFill/>
            <a:ln w="46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4560840" y="3021840"/>
              <a:ext cx="1422720" cy="1680840"/>
            </a:xfrm>
            <a:custGeom>
              <a:avLst/>
              <a:gdLst/>
              <a:ahLst/>
              <a:rect l="l" t="t" r="r" b="b"/>
              <a:pathLst>
                <a:path w="3675" h="4344">
                  <a:moveTo>
                    <a:pt x="2905" y="4344"/>
                  </a:moveTo>
                  <a:lnTo>
                    <a:pt x="2878" y="4302"/>
                  </a:lnTo>
                  <a:lnTo>
                    <a:pt x="2803" y="4190"/>
                  </a:lnTo>
                  <a:lnTo>
                    <a:pt x="2751" y="4115"/>
                  </a:lnTo>
                  <a:lnTo>
                    <a:pt x="2692" y="4028"/>
                  </a:lnTo>
                  <a:lnTo>
                    <a:pt x="2627" y="3935"/>
                  </a:lnTo>
                  <a:lnTo>
                    <a:pt x="2555" y="3837"/>
                  </a:lnTo>
                  <a:lnTo>
                    <a:pt x="2518" y="3786"/>
                  </a:lnTo>
                  <a:lnTo>
                    <a:pt x="2481" y="3736"/>
                  </a:lnTo>
                  <a:lnTo>
                    <a:pt x="2442" y="3686"/>
                  </a:lnTo>
                  <a:lnTo>
                    <a:pt x="2403" y="3636"/>
                  </a:lnTo>
                  <a:lnTo>
                    <a:pt x="2364" y="3586"/>
                  </a:lnTo>
                  <a:lnTo>
                    <a:pt x="2324" y="3538"/>
                  </a:lnTo>
                  <a:lnTo>
                    <a:pt x="2286" y="3492"/>
                  </a:lnTo>
                  <a:lnTo>
                    <a:pt x="2247" y="3447"/>
                  </a:lnTo>
                  <a:lnTo>
                    <a:pt x="2208" y="3403"/>
                  </a:lnTo>
                  <a:lnTo>
                    <a:pt x="2170" y="3362"/>
                  </a:lnTo>
                  <a:lnTo>
                    <a:pt x="2133" y="3324"/>
                  </a:lnTo>
                  <a:lnTo>
                    <a:pt x="2097" y="3289"/>
                  </a:lnTo>
                  <a:lnTo>
                    <a:pt x="2061" y="3256"/>
                  </a:lnTo>
                  <a:lnTo>
                    <a:pt x="2027" y="3227"/>
                  </a:lnTo>
                  <a:lnTo>
                    <a:pt x="1995" y="3203"/>
                  </a:lnTo>
                  <a:lnTo>
                    <a:pt x="1964" y="3181"/>
                  </a:lnTo>
                  <a:lnTo>
                    <a:pt x="1948" y="3171"/>
                  </a:lnTo>
                  <a:lnTo>
                    <a:pt x="1932" y="3158"/>
                  </a:lnTo>
                  <a:lnTo>
                    <a:pt x="1914" y="3144"/>
                  </a:lnTo>
                  <a:lnTo>
                    <a:pt x="1897" y="3127"/>
                  </a:lnTo>
                  <a:lnTo>
                    <a:pt x="1880" y="3110"/>
                  </a:lnTo>
                  <a:lnTo>
                    <a:pt x="1861" y="3091"/>
                  </a:lnTo>
                  <a:lnTo>
                    <a:pt x="1844" y="3070"/>
                  </a:lnTo>
                  <a:lnTo>
                    <a:pt x="1825" y="3049"/>
                  </a:lnTo>
                  <a:lnTo>
                    <a:pt x="1807" y="3025"/>
                  </a:lnTo>
                  <a:lnTo>
                    <a:pt x="1790" y="3002"/>
                  </a:lnTo>
                  <a:lnTo>
                    <a:pt x="1771" y="2976"/>
                  </a:lnTo>
                  <a:lnTo>
                    <a:pt x="1754" y="2951"/>
                  </a:lnTo>
                  <a:lnTo>
                    <a:pt x="1737" y="2924"/>
                  </a:lnTo>
                  <a:lnTo>
                    <a:pt x="1719" y="2897"/>
                  </a:lnTo>
                  <a:lnTo>
                    <a:pt x="1702" y="2868"/>
                  </a:lnTo>
                  <a:lnTo>
                    <a:pt x="1686" y="2840"/>
                  </a:lnTo>
                  <a:lnTo>
                    <a:pt x="1669" y="2810"/>
                  </a:lnTo>
                  <a:lnTo>
                    <a:pt x="1654" y="2782"/>
                  </a:lnTo>
                  <a:lnTo>
                    <a:pt x="1639" y="2752"/>
                  </a:lnTo>
                  <a:lnTo>
                    <a:pt x="1624" y="2721"/>
                  </a:lnTo>
                  <a:lnTo>
                    <a:pt x="1610" y="2692"/>
                  </a:lnTo>
                  <a:lnTo>
                    <a:pt x="1597" y="2662"/>
                  </a:lnTo>
                  <a:lnTo>
                    <a:pt x="1585" y="2632"/>
                  </a:lnTo>
                  <a:lnTo>
                    <a:pt x="1573" y="2603"/>
                  </a:lnTo>
                  <a:lnTo>
                    <a:pt x="1563" y="2574"/>
                  </a:lnTo>
                  <a:lnTo>
                    <a:pt x="1553" y="2545"/>
                  </a:lnTo>
                  <a:lnTo>
                    <a:pt x="1545" y="2516"/>
                  </a:lnTo>
                  <a:lnTo>
                    <a:pt x="1537" y="2489"/>
                  </a:lnTo>
                  <a:lnTo>
                    <a:pt x="1530" y="2461"/>
                  </a:lnTo>
                  <a:lnTo>
                    <a:pt x="1524" y="2435"/>
                  </a:lnTo>
                  <a:lnTo>
                    <a:pt x="1520" y="2409"/>
                  </a:lnTo>
                  <a:lnTo>
                    <a:pt x="1518" y="2385"/>
                  </a:lnTo>
                  <a:lnTo>
                    <a:pt x="1516" y="2371"/>
                  </a:lnTo>
                  <a:lnTo>
                    <a:pt x="1513" y="2353"/>
                  </a:lnTo>
                  <a:lnTo>
                    <a:pt x="1510" y="2335"/>
                  </a:lnTo>
                  <a:lnTo>
                    <a:pt x="1506" y="2316"/>
                  </a:lnTo>
                  <a:lnTo>
                    <a:pt x="1501" y="2297"/>
                  </a:lnTo>
                  <a:lnTo>
                    <a:pt x="1497" y="2280"/>
                  </a:lnTo>
                  <a:lnTo>
                    <a:pt x="1494" y="2262"/>
                  </a:lnTo>
                  <a:lnTo>
                    <a:pt x="1491" y="2248"/>
                  </a:lnTo>
                  <a:lnTo>
                    <a:pt x="1483" y="2208"/>
                  </a:lnTo>
                  <a:lnTo>
                    <a:pt x="1476" y="2173"/>
                  </a:lnTo>
                  <a:lnTo>
                    <a:pt x="1471" y="2139"/>
                  </a:lnTo>
                  <a:lnTo>
                    <a:pt x="1466" y="2105"/>
                  </a:lnTo>
                  <a:lnTo>
                    <a:pt x="1460" y="2071"/>
                  </a:lnTo>
                  <a:lnTo>
                    <a:pt x="1451" y="2034"/>
                  </a:lnTo>
                  <a:lnTo>
                    <a:pt x="1445" y="2014"/>
                  </a:lnTo>
                  <a:lnTo>
                    <a:pt x="1439" y="1993"/>
                  </a:lnTo>
                  <a:lnTo>
                    <a:pt x="1430" y="1970"/>
                  </a:lnTo>
                  <a:lnTo>
                    <a:pt x="1420" y="1945"/>
                  </a:lnTo>
                  <a:lnTo>
                    <a:pt x="1417" y="1936"/>
                  </a:lnTo>
                  <a:lnTo>
                    <a:pt x="1413" y="1924"/>
                  </a:lnTo>
                  <a:lnTo>
                    <a:pt x="1409" y="1909"/>
                  </a:lnTo>
                  <a:lnTo>
                    <a:pt x="1404" y="1894"/>
                  </a:lnTo>
                  <a:lnTo>
                    <a:pt x="1399" y="1879"/>
                  </a:lnTo>
                  <a:lnTo>
                    <a:pt x="1395" y="1865"/>
                  </a:lnTo>
                  <a:lnTo>
                    <a:pt x="1390" y="1852"/>
                  </a:lnTo>
                  <a:lnTo>
                    <a:pt x="1385" y="1844"/>
                  </a:lnTo>
                  <a:lnTo>
                    <a:pt x="1364" y="1815"/>
                  </a:lnTo>
                  <a:lnTo>
                    <a:pt x="1343" y="1785"/>
                  </a:lnTo>
                  <a:lnTo>
                    <a:pt x="1321" y="1756"/>
                  </a:lnTo>
                  <a:lnTo>
                    <a:pt x="1300" y="1729"/>
                  </a:lnTo>
                  <a:lnTo>
                    <a:pt x="1277" y="1702"/>
                  </a:lnTo>
                  <a:lnTo>
                    <a:pt x="1255" y="1676"/>
                  </a:lnTo>
                  <a:lnTo>
                    <a:pt x="1233" y="1650"/>
                  </a:lnTo>
                  <a:lnTo>
                    <a:pt x="1210" y="1625"/>
                  </a:lnTo>
                  <a:lnTo>
                    <a:pt x="1165" y="1577"/>
                  </a:lnTo>
                  <a:lnTo>
                    <a:pt x="1121" y="1533"/>
                  </a:lnTo>
                  <a:lnTo>
                    <a:pt x="1078" y="1491"/>
                  </a:lnTo>
                  <a:lnTo>
                    <a:pt x="1038" y="1454"/>
                  </a:lnTo>
                  <a:lnTo>
                    <a:pt x="999" y="1419"/>
                  </a:lnTo>
                  <a:lnTo>
                    <a:pt x="964" y="1389"/>
                  </a:lnTo>
                  <a:lnTo>
                    <a:pt x="931" y="1363"/>
                  </a:lnTo>
                  <a:lnTo>
                    <a:pt x="904" y="1340"/>
                  </a:lnTo>
                  <a:lnTo>
                    <a:pt x="862" y="1308"/>
                  </a:lnTo>
                  <a:lnTo>
                    <a:pt x="844" y="1294"/>
                  </a:lnTo>
                  <a:lnTo>
                    <a:pt x="802" y="1270"/>
                  </a:lnTo>
                  <a:lnTo>
                    <a:pt x="763" y="1249"/>
                  </a:lnTo>
                  <a:lnTo>
                    <a:pt x="726" y="1228"/>
                  </a:lnTo>
                  <a:lnTo>
                    <a:pt x="692" y="1210"/>
                  </a:lnTo>
                  <a:lnTo>
                    <a:pt x="628" y="1178"/>
                  </a:lnTo>
                  <a:lnTo>
                    <a:pt x="573" y="1153"/>
                  </a:lnTo>
                  <a:lnTo>
                    <a:pt x="526" y="1131"/>
                  </a:lnTo>
                  <a:lnTo>
                    <a:pt x="489" y="1115"/>
                  </a:lnTo>
                  <a:lnTo>
                    <a:pt x="473" y="1108"/>
                  </a:lnTo>
                  <a:lnTo>
                    <a:pt x="460" y="1102"/>
                  </a:lnTo>
                  <a:lnTo>
                    <a:pt x="449" y="1096"/>
                  </a:lnTo>
                  <a:lnTo>
                    <a:pt x="440" y="1089"/>
                  </a:lnTo>
                  <a:lnTo>
                    <a:pt x="422" y="1068"/>
                  </a:lnTo>
                  <a:lnTo>
                    <a:pt x="407" y="1047"/>
                  </a:lnTo>
                  <a:lnTo>
                    <a:pt x="395" y="1027"/>
                  </a:lnTo>
                  <a:lnTo>
                    <a:pt x="383" y="1009"/>
                  </a:lnTo>
                  <a:lnTo>
                    <a:pt x="374" y="993"/>
                  </a:lnTo>
                  <a:lnTo>
                    <a:pt x="367" y="976"/>
                  </a:lnTo>
                  <a:lnTo>
                    <a:pt x="362" y="962"/>
                  </a:lnTo>
                  <a:lnTo>
                    <a:pt x="358" y="948"/>
                  </a:lnTo>
                  <a:lnTo>
                    <a:pt x="356" y="935"/>
                  </a:lnTo>
                  <a:lnTo>
                    <a:pt x="355" y="923"/>
                  </a:lnTo>
                  <a:lnTo>
                    <a:pt x="355" y="913"/>
                  </a:lnTo>
                  <a:lnTo>
                    <a:pt x="356" y="903"/>
                  </a:lnTo>
                  <a:lnTo>
                    <a:pt x="359" y="894"/>
                  </a:lnTo>
                  <a:lnTo>
                    <a:pt x="362" y="885"/>
                  </a:lnTo>
                  <a:lnTo>
                    <a:pt x="366" y="878"/>
                  </a:lnTo>
                  <a:lnTo>
                    <a:pt x="371" y="871"/>
                  </a:lnTo>
                  <a:lnTo>
                    <a:pt x="376" y="865"/>
                  </a:lnTo>
                  <a:lnTo>
                    <a:pt x="382" y="860"/>
                  </a:lnTo>
                  <a:lnTo>
                    <a:pt x="389" y="855"/>
                  </a:lnTo>
                  <a:lnTo>
                    <a:pt x="395" y="851"/>
                  </a:lnTo>
                  <a:lnTo>
                    <a:pt x="408" y="845"/>
                  </a:lnTo>
                  <a:lnTo>
                    <a:pt x="420" y="840"/>
                  </a:lnTo>
                  <a:lnTo>
                    <a:pt x="442" y="834"/>
                  </a:lnTo>
                  <a:lnTo>
                    <a:pt x="450" y="833"/>
                  </a:lnTo>
                  <a:lnTo>
                    <a:pt x="446" y="830"/>
                  </a:lnTo>
                  <a:lnTo>
                    <a:pt x="431" y="819"/>
                  </a:lnTo>
                  <a:lnTo>
                    <a:pt x="407" y="799"/>
                  </a:lnTo>
                  <a:lnTo>
                    <a:pt x="368" y="771"/>
                  </a:lnTo>
                  <a:lnTo>
                    <a:pt x="315" y="734"/>
                  </a:lnTo>
                  <a:lnTo>
                    <a:pt x="246" y="690"/>
                  </a:lnTo>
                  <a:lnTo>
                    <a:pt x="204" y="663"/>
                  </a:lnTo>
                  <a:lnTo>
                    <a:pt x="158" y="634"/>
                  </a:lnTo>
                  <a:lnTo>
                    <a:pt x="107" y="603"/>
                  </a:lnTo>
                  <a:lnTo>
                    <a:pt x="51" y="569"/>
                  </a:lnTo>
                  <a:lnTo>
                    <a:pt x="45" y="566"/>
                  </a:lnTo>
                  <a:lnTo>
                    <a:pt x="40" y="562"/>
                  </a:lnTo>
                  <a:lnTo>
                    <a:pt x="34" y="557"/>
                  </a:lnTo>
                  <a:lnTo>
                    <a:pt x="30" y="551"/>
                  </a:lnTo>
                  <a:lnTo>
                    <a:pt x="26" y="545"/>
                  </a:lnTo>
                  <a:lnTo>
                    <a:pt x="22" y="538"/>
                  </a:lnTo>
                  <a:lnTo>
                    <a:pt x="18" y="528"/>
                  </a:lnTo>
                  <a:lnTo>
                    <a:pt x="15" y="519"/>
                  </a:lnTo>
                  <a:lnTo>
                    <a:pt x="10" y="498"/>
                  </a:lnTo>
                  <a:lnTo>
                    <a:pt x="6" y="471"/>
                  </a:lnTo>
                  <a:lnTo>
                    <a:pt x="2" y="440"/>
                  </a:lnTo>
                  <a:lnTo>
                    <a:pt x="0" y="403"/>
                  </a:lnTo>
                  <a:lnTo>
                    <a:pt x="0" y="389"/>
                  </a:lnTo>
                  <a:lnTo>
                    <a:pt x="2" y="377"/>
                  </a:lnTo>
                  <a:lnTo>
                    <a:pt x="7" y="368"/>
                  </a:lnTo>
                  <a:lnTo>
                    <a:pt x="13" y="360"/>
                  </a:lnTo>
                  <a:lnTo>
                    <a:pt x="20" y="354"/>
                  </a:lnTo>
                  <a:lnTo>
                    <a:pt x="29" y="349"/>
                  </a:lnTo>
                  <a:lnTo>
                    <a:pt x="41" y="346"/>
                  </a:lnTo>
                  <a:lnTo>
                    <a:pt x="53" y="344"/>
                  </a:lnTo>
                  <a:lnTo>
                    <a:pt x="66" y="343"/>
                  </a:lnTo>
                  <a:lnTo>
                    <a:pt x="80" y="343"/>
                  </a:lnTo>
                  <a:lnTo>
                    <a:pt x="96" y="345"/>
                  </a:lnTo>
                  <a:lnTo>
                    <a:pt x="112" y="347"/>
                  </a:lnTo>
                  <a:lnTo>
                    <a:pt x="128" y="351"/>
                  </a:lnTo>
                  <a:lnTo>
                    <a:pt x="146" y="355"/>
                  </a:lnTo>
                  <a:lnTo>
                    <a:pt x="163" y="359"/>
                  </a:lnTo>
                  <a:lnTo>
                    <a:pt x="181" y="364"/>
                  </a:lnTo>
                  <a:lnTo>
                    <a:pt x="217" y="376"/>
                  </a:lnTo>
                  <a:lnTo>
                    <a:pt x="254" y="390"/>
                  </a:lnTo>
                  <a:lnTo>
                    <a:pt x="289" y="403"/>
                  </a:lnTo>
                  <a:lnTo>
                    <a:pt x="320" y="415"/>
                  </a:lnTo>
                  <a:lnTo>
                    <a:pt x="350" y="427"/>
                  </a:lnTo>
                  <a:lnTo>
                    <a:pt x="374" y="437"/>
                  </a:lnTo>
                  <a:lnTo>
                    <a:pt x="393" y="444"/>
                  </a:lnTo>
                  <a:lnTo>
                    <a:pt x="406" y="447"/>
                  </a:lnTo>
                  <a:lnTo>
                    <a:pt x="409" y="447"/>
                  </a:lnTo>
                  <a:lnTo>
                    <a:pt x="410" y="446"/>
                  </a:lnTo>
                  <a:lnTo>
                    <a:pt x="410" y="444"/>
                  </a:lnTo>
                  <a:lnTo>
                    <a:pt x="408" y="442"/>
                  </a:lnTo>
                  <a:lnTo>
                    <a:pt x="400" y="434"/>
                  </a:lnTo>
                  <a:lnTo>
                    <a:pt x="385" y="422"/>
                  </a:lnTo>
                  <a:lnTo>
                    <a:pt x="347" y="393"/>
                  </a:lnTo>
                  <a:lnTo>
                    <a:pt x="298" y="353"/>
                  </a:lnTo>
                  <a:lnTo>
                    <a:pt x="271" y="331"/>
                  </a:lnTo>
                  <a:lnTo>
                    <a:pt x="246" y="306"/>
                  </a:lnTo>
                  <a:lnTo>
                    <a:pt x="232" y="294"/>
                  </a:lnTo>
                  <a:lnTo>
                    <a:pt x="220" y="281"/>
                  </a:lnTo>
                  <a:lnTo>
                    <a:pt x="209" y="267"/>
                  </a:lnTo>
                  <a:lnTo>
                    <a:pt x="198" y="253"/>
                  </a:lnTo>
                  <a:lnTo>
                    <a:pt x="187" y="239"/>
                  </a:lnTo>
                  <a:lnTo>
                    <a:pt x="177" y="224"/>
                  </a:lnTo>
                  <a:lnTo>
                    <a:pt x="169" y="210"/>
                  </a:lnTo>
                  <a:lnTo>
                    <a:pt x="161" y="196"/>
                  </a:lnTo>
                  <a:lnTo>
                    <a:pt x="155" y="182"/>
                  </a:lnTo>
                  <a:lnTo>
                    <a:pt x="150" y="166"/>
                  </a:lnTo>
                  <a:lnTo>
                    <a:pt x="146" y="151"/>
                  </a:lnTo>
                  <a:lnTo>
                    <a:pt x="144" y="137"/>
                  </a:lnTo>
                  <a:lnTo>
                    <a:pt x="142" y="121"/>
                  </a:lnTo>
                  <a:lnTo>
                    <a:pt x="142" y="108"/>
                  </a:lnTo>
                  <a:lnTo>
                    <a:pt x="142" y="96"/>
                  </a:lnTo>
                  <a:lnTo>
                    <a:pt x="143" y="85"/>
                  </a:lnTo>
                  <a:lnTo>
                    <a:pt x="144" y="73"/>
                  </a:lnTo>
                  <a:lnTo>
                    <a:pt x="146" y="64"/>
                  </a:lnTo>
                  <a:lnTo>
                    <a:pt x="148" y="55"/>
                  </a:lnTo>
                  <a:lnTo>
                    <a:pt x="151" y="47"/>
                  </a:lnTo>
                  <a:lnTo>
                    <a:pt x="154" y="40"/>
                  </a:lnTo>
                  <a:lnTo>
                    <a:pt x="158" y="34"/>
                  </a:lnTo>
                  <a:lnTo>
                    <a:pt x="162" y="28"/>
                  </a:lnTo>
                  <a:lnTo>
                    <a:pt x="166" y="22"/>
                  </a:lnTo>
                  <a:lnTo>
                    <a:pt x="171" y="18"/>
                  </a:lnTo>
                  <a:lnTo>
                    <a:pt x="176" y="14"/>
                  </a:lnTo>
                  <a:lnTo>
                    <a:pt x="180" y="11"/>
                  </a:lnTo>
                  <a:lnTo>
                    <a:pt x="185" y="8"/>
                  </a:lnTo>
                  <a:lnTo>
                    <a:pt x="196" y="4"/>
                  </a:lnTo>
                  <a:lnTo>
                    <a:pt x="206" y="1"/>
                  </a:lnTo>
                  <a:lnTo>
                    <a:pt x="216" y="0"/>
                  </a:lnTo>
                  <a:lnTo>
                    <a:pt x="224" y="0"/>
                  </a:lnTo>
                  <a:lnTo>
                    <a:pt x="238" y="0"/>
                  </a:lnTo>
                  <a:lnTo>
                    <a:pt x="243" y="1"/>
                  </a:lnTo>
                  <a:lnTo>
                    <a:pt x="753" y="356"/>
                  </a:lnTo>
                  <a:lnTo>
                    <a:pt x="763" y="267"/>
                  </a:lnTo>
                  <a:lnTo>
                    <a:pt x="783" y="273"/>
                  </a:lnTo>
                  <a:lnTo>
                    <a:pt x="809" y="285"/>
                  </a:lnTo>
                  <a:lnTo>
                    <a:pt x="841" y="299"/>
                  </a:lnTo>
                  <a:lnTo>
                    <a:pt x="875" y="316"/>
                  </a:lnTo>
                  <a:lnTo>
                    <a:pt x="955" y="357"/>
                  </a:lnTo>
                  <a:lnTo>
                    <a:pt x="1038" y="402"/>
                  </a:lnTo>
                  <a:lnTo>
                    <a:pt x="1116" y="446"/>
                  </a:lnTo>
                  <a:lnTo>
                    <a:pt x="1182" y="485"/>
                  </a:lnTo>
                  <a:lnTo>
                    <a:pt x="1228" y="511"/>
                  </a:lnTo>
                  <a:lnTo>
                    <a:pt x="1245" y="521"/>
                  </a:lnTo>
                  <a:lnTo>
                    <a:pt x="1267" y="534"/>
                  </a:lnTo>
                  <a:lnTo>
                    <a:pt x="1326" y="568"/>
                  </a:lnTo>
                  <a:lnTo>
                    <a:pt x="1413" y="619"/>
                  </a:lnTo>
                  <a:lnTo>
                    <a:pt x="1517" y="680"/>
                  </a:lnTo>
                  <a:lnTo>
                    <a:pt x="1629" y="746"/>
                  </a:lnTo>
                  <a:lnTo>
                    <a:pt x="1740" y="809"/>
                  </a:lnTo>
                  <a:lnTo>
                    <a:pt x="1838" y="865"/>
                  </a:lnTo>
                  <a:lnTo>
                    <a:pt x="1913" y="908"/>
                  </a:lnTo>
                  <a:lnTo>
                    <a:pt x="1932" y="919"/>
                  </a:lnTo>
                  <a:lnTo>
                    <a:pt x="1950" y="932"/>
                  </a:lnTo>
                  <a:lnTo>
                    <a:pt x="1968" y="948"/>
                  </a:lnTo>
                  <a:lnTo>
                    <a:pt x="1987" y="966"/>
                  </a:lnTo>
                  <a:lnTo>
                    <a:pt x="2006" y="986"/>
                  </a:lnTo>
                  <a:lnTo>
                    <a:pt x="2025" y="1008"/>
                  </a:lnTo>
                  <a:lnTo>
                    <a:pt x="2045" y="1031"/>
                  </a:lnTo>
                  <a:lnTo>
                    <a:pt x="2064" y="1056"/>
                  </a:lnTo>
                  <a:lnTo>
                    <a:pt x="2084" y="1081"/>
                  </a:lnTo>
                  <a:lnTo>
                    <a:pt x="2103" y="1108"/>
                  </a:lnTo>
                  <a:lnTo>
                    <a:pt x="2122" y="1135"/>
                  </a:lnTo>
                  <a:lnTo>
                    <a:pt x="2141" y="1164"/>
                  </a:lnTo>
                  <a:lnTo>
                    <a:pt x="2179" y="1222"/>
                  </a:lnTo>
                  <a:lnTo>
                    <a:pt x="2213" y="1279"/>
                  </a:lnTo>
                  <a:lnTo>
                    <a:pt x="2246" y="1336"/>
                  </a:lnTo>
                  <a:lnTo>
                    <a:pt x="2276" y="1390"/>
                  </a:lnTo>
                  <a:lnTo>
                    <a:pt x="2304" y="1440"/>
                  </a:lnTo>
                  <a:lnTo>
                    <a:pt x="2326" y="1484"/>
                  </a:lnTo>
                  <a:lnTo>
                    <a:pt x="2360" y="1549"/>
                  </a:lnTo>
                  <a:lnTo>
                    <a:pt x="2372" y="1574"/>
                  </a:lnTo>
                  <a:lnTo>
                    <a:pt x="2645" y="2168"/>
                  </a:lnTo>
                  <a:lnTo>
                    <a:pt x="2905" y="2958"/>
                  </a:lnTo>
                  <a:lnTo>
                    <a:pt x="3675" y="3949"/>
                  </a:lnTo>
                </a:path>
              </a:pathLst>
            </a:custGeom>
            <a:noFill/>
            <a:ln w="46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4084560" y="2416680"/>
              <a:ext cx="478080" cy="63360"/>
            </a:xfrm>
            <a:custGeom>
              <a:avLst/>
              <a:gdLst/>
              <a:ahLst/>
              <a:rect l="l" t="t" r="r" b="b"/>
              <a:pathLst>
                <a:path w="1237" h="162">
                  <a:moveTo>
                    <a:pt x="1237" y="128"/>
                  </a:moveTo>
                  <a:lnTo>
                    <a:pt x="1203" y="135"/>
                  </a:lnTo>
                  <a:lnTo>
                    <a:pt x="1169" y="142"/>
                  </a:lnTo>
                  <a:lnTo>
                    <a:pt x="1136" y="147"/>
                  </a:lnTo>
                  <a:lnTo>
                    <a:pt x="1102" y="151"/>
                  </a:lnTo>
                  <a:lnTo>
                    <a:pt x="1068" y="155"/>
                  </a:lnTo>
                  <a:lnTo>
                    <a:pt x="1035" y="158"/>
                  </a:lnTo>
                  <a:lnTo>
                    <a:pt x="1001" y="161"/>
                  </a:lnTo>
                  <a:lnTo>
                    <a:pt x="967" y="162"/>
                  </a:lnTo>
                  <a:lnTo>
                    <a:pt x="934" y="162"/>
                  </a:lnTo>
                  <a:lnTo>
                    <a:pt x="899" y="162"/>
                  </a:lnTo>
                  <a:lnTo>
                    <a:pt x="865" y="160"/>
                  </a:lnTo>
                  <a:lnTo>
                    <a:pt x="832" y="158"/>
                  </a:lnTo>
                  <a:lnTo>
                    <a:pt x="798" y="155"/>
                  </a:lnTo>
                  <a:lnTo>
                    <a:pt x="764" y="152"/>
                  </a:lnTo>
                  <a:lnTo>
                    <a:pt x="731" y="148"/>
                  </a:lnTo>
                  <a:lnTo>
                    <a:pt x="697" y="143"/>
                  </a:lnTo>
                  <a:lnTo>
                    <a:pt x="663" y="138"/>
                  </a:lnTo>
                  <a:lnTo>
                    <a:pt x="630" y="133"/>
                  </a:lnTo>
                  <a:lnTo>
                    <a:pt x="597" y="127"/>
                  </a:lnTo>
                  <a:lnTo>
                    <a:pt x="563" y="120"/>
                  </a:lnTo>
                  <a:lnTo>
                    <a:pt x="497" y="104"/>
                  </a:lnTo>
                  <a:lnTo>
                    <a:pt x="431" y="88"/>
                  </a:lnTo>
                  <a:lnTo>
                    <a:pt x="365" y="70"/>
                  </a:lnTo>
                  <a:lnTo>
                    <a:pt x="301" y="50"/>
                  </a:lnTo>
                  <a:lnTo>
                    <a:pt x="237" y="29"/>
                  </a:lnTo>
                  <a:lnTo>
                    <a:pt x="173" y="8"/>
                  </a:lnTo>
                  <a:lnTo>
                    <a:pt x="159" y="3"/>
                  </a:lnTo>
                  <a:lnTo>
                    <a:pt x="147" y="0"/>
                  </a:lnTo>
                  <a:lnTo>
                    <a:pt x="135" y="0"/>
                  </a:lnTo>
                  <a:lnTo>
                    <a:pt x="122" y="1"/>
                  </a:lnTo>
                  <a:lnTo>
                    <a:pt x="111" y="3"/>
                  </a:lnTo>
                  <a:lnTo>
                    <a:pt x="100" y="8"/>
                  </a:lnTo>
                  <a:lnTo>
                    <a:pt x="89" y="13"/>
                  </a:lnTo>
                  <a:lnTo>
                    <a:pt x="79" y="18"/>
                  </a:lnTo>
                  <a:lnTo>
                    <a:pt x="58" y="32"/>
                  </a:lnTo>
                  <a:lnTo>
                    <a:pt x="39" y="47"/>
                  </a:lnTo>
                  <a:lnTo>
                    <a:pt x="19" y="64"/>
                  </a:lnTo>
                  <a:lnTo>
                    <a:pt x="0" y="79"/>
                  </a:lnTo>
                </a:path>
              </a:pathLst>
            </a:custGeom>
            <a:noFill/>
            <a:ln w="46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4775760" y="2561760"/>
              <a:ext cx="86760" cy="450360"/>
            </a:xfrm>
            <a:custGeom>
              <a:avLst/>
              <a:gdLst/>
              <a:ahLst/>
              <a:rect l="l" t="t" r="r" b="b"/>
              <a:pathLst>
                <a:path w="229" h="1165">
                  <a:moveTo>
                    <a:pt x="124" y="0"/>
                  </a:moveTo>
                  <a:lnTo>
                    <a:pt x="148" y="36"/>
                  </a:lnTo>
                  <a:lnTo>
                    <a:pt x="168" y="73"/>
                  </a:lnTo>
                  <a:lnTo>
                    <a:pt x="186" y="110"/>
                  </a:lnTo>
                  <a:lnTo>
                    <a:pt x="200" y="146"/>
                  </a:lnTo>
                  <a:lnTo>
                    <a:pt x="211" y="182"/>
                  </a:lnTo>
                  <a:lnTo>
                    <a:pt x="219" y="219"/>
                  </a:lnTo>
                  <a:lnTo>
                    <a:pt x="225" y="256"/>
                  </a:lnTo>
                  <a:lnTo>
                    <a:pt x="228" y="292"/>
                  </a:lnTo>
                  <a:lnTo>
                    <a:pt x="229" y="329"/>
                  </a:lnTo>
                  <a:lnTo>
                    <a:pt x="228" y="366"/>
                  </a:lnTo>
                  <a:lnTo>
                    <a:pt x="225" y="402"/>
                  </a:lnTo>
                  <a:lnTo>
                    <a:pt x="221" y="438"/>
                  </a:lnTo>
                  <a:lnTo>
                    <a:pt x="214" y="475"/>
                  </a:lnTo>
                  <a:lnTo>
                    <a:pt x="207" y="512"/>
                  </a:lnTo>
                  <a:lnTo>
                    <a:pt x="198" y="548"/>
                  </a:lnTo>
                  <a:lnTo>
                    <a:pt x="188" y="585"/>
                  </a:lnTo>
                  <a:lnTo>
                    <a:pt x="176" y="621"/>
                  </a:lnTo>
                  <a:lnTo>
                    <a:pt x="164" y="658"/>
                  </a:lnTo>
                  <a:lnTo>
                    <a:pt x="151" y="694"/>
                  </a:lnTo>
                  <a:lnTo>
                    <a:pt x="138" y="731"/>
                  </a:lnTo>
                  <a:lnTo>
                    <a:pt x="110" y="803"/>
                  </a:lnTo>
                  <a:lnTo>
                    <a:pt x="84" y="876"/>
                  </a:lnTo>
                  <a:lnTo>
                    <a:pt x="70" y="913"/>
                  </a:lnTo>
                  <a:lnTo>
                    <a:pt x="57" y="948"/>
                  </a:lnTo>
                  <a:lnTo>
                    <a:pt x="45" y="985"/>
                  </a:lnTo>
                  <a:lnTo>
                    <a:pt x="33" y="1021"/>
                  </a:lnTo>
                  <a:lnTo>
                    <a:pt x="23" y="1056"/>
                  </a:lnTo>
                  <a:lnTo>
                    <a:pt x="14" y="1093"/>
                  </a:lnTo>
                  <a:lnTo>
                    <a:pt x="6" y="1129"/>
                  </a:lnTo>
                  <a:lnTo>
                    <a:pt x="0" y="1165"/>
                  </a:lnTo>
                </a:path>
              </a:pathLst>
            </a:custGeom>
            <a:noFill/>
            <a:ln w="46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4899240" y="2729880"/>
              <a:ext cx="126000" cy="51840"/>
            </a:xfrm>
            <a:custGeom>
              <a:avLst/>
              <a:gdLst/>
              <a:ahLst/>
              <a:rect l="l" t="t" r="r" b="b"/>
              <a:pathLst>
                <a:path w="324" h="137">
                  <a:moveTo>
                    <a:pt x="0" y="137"/>
                  </a:moveTo>
                  <a:lnTo>
                    <a:pt x="6" y="126"/>
                  </a:lnTo>
                  <a:lnTo>
                    <a:pt x="13" y="116"/>
                  </a:lnTo>
                  <a:lnTo>
                    <a:pt x="21" y="105"/>
                  </a:lnTo>
                  <a:lnTo>
                    <a:pt x="29" y="95"/>
                  </a:lnTo>
                  <a:lnTo>
                    <a:pt x="37" y="86"/>
                  </a:lnTo>
                  <a:lnTo>
                    <a:pt x="46" y="77"/>
                  </a:lnTo>
                  <a:lnTo>
                    <a:pt x="55" y="68"/>
                  </a:lnTo>
                  <a:lnTo>
                    <a:pt x="66" y="59"/>
                  </a:lnTo>
                  <a:lnTo>
                    <a:pt x="77" y="51"/>
                  </a:lnTo>
                  <a:lnTo>
                    <a:pt x="87" y="43"/>
                  </a:lnTo>
                  <a:lnTo>
                    <a:pt x="98" y="36"/>
                  </a:lnTo>
                  <a:lnTo>
                    <a:pt x="109" y="30"/>
                  </a:lnTo>
                  <a:lnTo>
                    <a:pt x="122" y="24"/>
                  </a:lnTo>
                  <a:lnTo>
                    <a:pt x="133" y="19"/>
                  </a:lnTo>
                  <a:lnTo>
                    <a:pt x="145" y="14"/>
                  </a:lnTo>
                  <a:lnTo>
                    <a:pt x="156" y="9"/>
                  </a:lnTo>
                  <a:lnTo>
                    <a:pt x="169" y="6"/>
                  </a:lnTo>
                  <a:lnTo>
                    <a:pt x="181" y="3"/>
                  </a:lnTo>
                  <a:lnTo>
                    <a:pt x="193" y="1"/>
                  </a:lnTo>
                  <a:lnTo>
                    <a:pt x="204" y="0"/>
                  </a:lnTo>
                  <a:lnTo>
                    <a:pt x="217" y="0"/>
                  </a:lnTo>
                  <a:lnTo>
                    <a:pt x="228" y="0"/>
                  </a:lnTo>
                  <a:lnTo>
                    <a:pt x="239" y="2"/>
                  </a:lnTo>
                  <a:lnTo>
                    <a:pt x="250" y="4"/>
                  </a:lnTo>
                  <a:lnTo>
                    <a:pt x="261" y="8"/>
                  </a:lnTo>
                  <a:lnTo>
                    <a:pt x="272" y="12"/>
                  </a:lnTo>
                  <a:lnTo>
                    <a:pt x="281" y="19"/>
                  </a:lnTo>
                  <a:lnTo>
                    <a:pt x="291" y="25"/>
                  </a:lnTo>
                  <a:lnTo>
                    <a:pt x="299" y="33"/>
                  </a:lnTo>
                  <a:lnTo>
                    <a:pt x="308" y="41"/>
                  </a:lnTo>
                  <a:lnTo>
                    <a:pt x="317" y="51"/>
                  </a:lnTo>
                  <a:lnTo>
                    <a:pt x="324" y="62"/>
                  </a:lnTo>
                </a:path>
              </a:pathLst>
            </a:custGeom>
            <a:noFill/>
            <a:ln w="46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3672000" y="2590560"/>
              <a:ext cx="259200" cy="297720"/>
            </a:xfrm>
            <a:custGeom>
              <a:avLst/>
              <a:gdLst/>
              <a:ahLst/>
              <a:rect l="l" t="t" r="r" b="b"/>
              <a:pathLst>
                <a:path w="669" h="769">
                  <a:moveTo>
                    <a:pt x="669" y="0"/>
                  </a:moveTo>
                  <a:lnTo>
                    <a:pt x="655" y="19"/>
                  </a:lnTo>
                  <a:lnTo>
                    <a:pt x="639" y="37"/>
                  </a:lnTo>
                  <a:lnTo>
                    <a:pt x="622" y="54"/>
                  </a:lnTo>
                  <a:lnTo>
                    <a:pt x="605" y="71"/>
                  </a:lnTo>
                  <a:lnTo>
                    <a:pt x="588" y="84"/>
                  </a:lnTo>
                  <a:lnTo>
                    <a:pt x="572" y="95"/>
                  </a:lnTo>
                  <a:lnTo>
                    <a:pt x="564" y="99"/>
                  </a:lnTo>
                  <a:lnTo>
                    <a:pt x="556" y="102"/>
                  </a:lnTo>
                  <a:lnTo>
                    <a:pt x="550" y="104"/>
                  </a:lnTo>
                  <a:lnTo>
                    <a:pt x="542" y="105"/>
                  </a:lnTo>
                  <a:lnTo>
                    <a:pt x="510" y="110"/>
                  </a:lnTo>
                  <a:lnTo>
                    <a:pt x="478" y="117"/>
                  </a:lnTo>
                  <a:lnTo>
                    <a:pt x="449" y="126"/>
                  </a:lnTo>
                  <a:lnTo>
                    <a:pt x="420" y="135"/>
                  </a:lnTo>
                  <a:lnTo>
                    <a:pt x="392" y="146"/>
                  </a:lnTo>
                  <a:lnTo>
                    <a:pt x="366" y="158"/>
                  </a:lnTo>
                  <a:lnTo>
                    <a:pt x="340" y="172"/>
                  </a:lnTo>
                  <a:lnTo>
                    <a:pt x="317" y="187"/>
                  </a:lnTo>
                  <a:lnTo>
                    <a:pt x="294" y="202"/>
                  </a:lnTo>
                  <a:lnTo>
                    <a:pt x="273" y="219"/>
                  </a:lnTo>
                  <a:lnTo>
                    <a:pt x="252" y="238"/>
                  </a:lnTo>
                  <a:lnTo>
                    <a:pt x="232" y="257"/>
                  </a:lnTo>
                  <a:lnTo>
                    <a:pt x="214" y="278"/>
                  </a:lnTo>
                  <a:lnTo>
                    <a:pt x="197" y="298"/>
                  </a:lnTo>
                  <a:lnTo>
                    <a:pt x="179" y="320"/>
                  </a:lnTo>
                  <a:lnTo>
                    <a:pt x="164" y="343"/>
                  </a:lnTo>
                  <a:lnTo>
                    <a:pt x="149" y="366"/>
                  </a:lnTo>
                  <a:lnTo>
                    <a:pt x="134" y="391"/>
                  </a:lnTo>
                  <a:lnTo>
                    <a:pt x="121" y="415"/>
                  </a:lnTo>
                  <a:lnTo>
                    <a:pt x="109" y="441"/>
                  </a:lnTo>
                  <a:lnTo>
                    <a:pt x="97" y="467"/>
                  </a:lnTo>
                  <a:lnTo>
                    <a:pt x="85" y="493"/>
                  </a:lnTo>
                  <a:lnTo>
                    <a:pt x="74" y="520"/>
                  </a:lnTo>
                  <a:lnTo>
                    <a:pt x="64" y="547"/>
                  </a:lnTo>
                  <a:lnTo>
                    <a:pt x="45" y="602"/>
                  </a:lnTo>
                  <a:lnTo>
                    <a:pt x="28" y="658"/>
                  </a:lnTo>
                  <a:lnTo>
                    <a:pt x="13" y="713"/>
                  </a:lnTo>
                  <a:lnTo>
                    <a:pt x="0" y="769"/>
                  </a:lnTo>
                </a:path>
              </a:pathLst>
            </a:custGeom>
            <a:noFill/>
            <a:ln w="46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4314960" y="3275280"/>
              <a:ext cx="299520" cy="73080"/>
            </a:xfrm>
            <a:custGeom>
              <a:avLst/>
              <a:gdLst/>
              <a:ahLst/>
              <a:rect l="l" t="t" r="r" b="b"/>
              <a:pathLst>
                <a:path w="772" h="187">
                  <a:moveTo>
                    <a:pt x="0" y="187"/>
                  </a:moveTo>
                  <a:lnTo>
                    <a:pt x="44" y="185"/>
                  </a:lnTo>
                  <a:lnTo>
                    <a:pt x="91" y="181"/>
                  </a:lnTo>
                  <a:lnTo>
                    <a:pt x="139" y="178"/>
                  </a:lnTo>
                  <a:lnTo>
                    <a:pt x="189" y="174"/>
                  </a:lnTo>
                  <a:lnTo>
                    <a:pt x="241" y="168"/>
                  </a:lnTo>
                  <a:lnTo>
                    <a:pt x="293" y="162"/>
                  </a:lnTo>
                  <a:lnTo>
                    <a:pt x="346" y="154"/>
                  </a:lnTo>
                  <a:lnTo>
                    <a:pt x="399" y="145"/>
                  </a:lnTo>
                  <a:lnTo>
                    <a:pt x="451" y="134"/>
                  </a:lnTo>
                  <a:lnTo>
                    <a:pt x="503" y="121"/>
                  </a:lnTo>
                  <a:lnTo>
                    <a:pt x="529" y="114"/>
                  </a:lnTo>
                  <a:lnTo>
                    <a:pt x="553" y="106"/>
                  </a:lnTo>
                  <a:lnTo>
                    <a:pt x="578" y="98"/>
                  </a:lnTo>
                  <a:lnTo>
                    <a:pt x="602" y="90"/>
                  </a:lnTo>
                  <a:lnTo>
                    <a:pt x="626" y="80"/>
                  </a:lnTo>
                  <a:lnTo>
                    <a:pt x="649" y="70"/>
                  </a:lnTo>
                  <a:lnTo>
                    <a:pt x="671" y="60"/>
                  </a:lnTo>
                  <a:lnTo>
                    <a:pt x="693" y="50"/>
                  </a:lnTo>
                  <a:lnTo>
                    <a:pt x="714" y="39"/>
                  </a:lnTo>
                  <a:lnTo>
                    <a:pt x="734" y="26"/>
                  </a:lnTo>
                  <a:lnTo>
                    <a:pt x="753" y="13"/>
                  </a:lnTo>
                  <a:lnTo>
                    <a:pt x="772" y="0"/>
                  </a:lnTo>
                </a:path>
              </a:pathLst>
            </a:custGeom>
            <a:noFill/>
            <a:ln w="46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4520160" y="3319560"/>
              <a:ext cx="110160" cy="34560"/>
            </a:xfrm>
            <a:custGeom>
              <a:avLst/>
              <a:gdLst/>
              <a:ahLst/>
              <a:rect l="l" t="t" r="r" b="b"/>
              <a:pathLst>
                <a:path w="285" h="93">
                  <a:moveTo>
                    <a:pt x="285" y="0"/>
                  </a:moveTo>
                  <a:lnTo>
                    <a:pt x="262" y="7"/>
                  </a:lnTo>
                  <a:lnTo>
                    <a:pt x="231" y="17"/>
                  </a:lnTo>
                  <a:lnTo>
                    <a:pt x="195" y="31"/>
                  </a:lnTo>
                  <a:lnTo>
                    <a:pt x="155" y="44"/>
                  </a:lnTo>
                  <a:lnTo>
                    <a:pt x="113" y="59"/>
                  </a:lnTo>
                  <a:lnTo>
                    <a:pt x="72" y="73"/>
                  </a:lnTo>
                  <a:lnTo>
                    <a:pt x="33" y="85"/>
                  </a:lnTo>
                  <a:lnTo>
                    <a:pt x="0" y="93"/>
                  </a:lnTo>
                </a:path>
              </a:pathLst>
            </a:custGeom>
            <a:noFill/>
            <a:ln w="46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3556080" y="2861280"/>
              <a:ext cx="723960" cy="473400"/>
            </a:xfrm>
            <a:custGeom>
              <a:avLst/>
              <a:gdLst/>
              <a:ahLst/>
              <a:rect l="l" t="t" r="r" b="b"/>
              <a:pathLst>
                <a:path w="1869" h="1224">
                  <a:moveTo>
                    <a:pt x="0" y="941"/>
                  </a:moveTo>
                  <a:lnTo>
                    <a:pt x="1415" y="1222"/>
                  </a:lnTo>
                  <a:lnTo>
                    <a:pt x="1443" y="1224"/>
                  </a:lnTo>
                  <a:lnTo>
                    <a:pt x="1451" y="1201"/>
                  </a:lnTo>
                  <a:lnTo>
                    <a:pt x="1459" y="1178"/>
                  </a:lnTo>
                  <a:lnTo>
                    <a:pt x="1469" y="1155"/>
                  </a:lnTo>
                  <a:lnTo>
                    <a:pt x="1481" y="1131"/>
                  </a:lnTo>
                  <a:lnTo>
                    <a:pt x="1487" y="1119"/>
                  </a:lnTo>
                  <a:lnTo>
                    <a:pt x="1495" y="1108"/>
                  </a:lnTo>
                  <a:lnTo>
                    <a:pt x="1502" y="1095"/>
                  </a:lnTo>
                  <a:lnTo>
                    <a:pt x="1510" y="1084"/>
                  </a:lnTo>
                  <a:lnTo>
                    <a:pt x="1519" y="1073"/>
                  </a:lnTo>
                  <a:lnTo>
                    <a:pt x="1528" y="1062"/>
                  </a:lnTo>
                  <a:lnTo>
                    <a:pt x="1538" y="1050"/>
                  </a:lnTo>
                  <a:lnTo>
                    <a:pt x="1550" y="1040"/>
                  </a:lnTo>
                  <a:lnTo>
                    <a:pt x="1565" y="1027"/>
                  </a:lnTo>
                  <a:lnTo>
                    <a:pt x="1579" y="1013"/>
                  </a:lnTo>
                  <a:lnTo>
                    <a:pt x="1595" y="998"/>
                  </a:lnTo>
                  <a:lnTo>
                    <a:pt x="1609" y="982"/>
                  </a:lnTo>
                  <a:lnTo>
                    <a:pt x="1636" y="951"/>
                  </a:lnTo>
                  <a:lnTo>
                    <a:pt x="1662" y="920"/>
                  </a:lnTo>
                  <a:lnTo>
                    <a:pt x="1685" y="890"/>
                  </a:lnTo>
                  <a:lnTo>
                    <a:pt x="1706" y="865"/>
                  </a:lnTo>
                  <a:lnTo>
                    <a:pt x="1715" y="855"/>
                  </a:lnTo>
                  <a:lnTo>
                    <a:pt x="1723" y="845"/>
                  </a:lnTo>
                  <a:lnTo>
                    <a:pt x="1730" y="838"/>
                  </a:lnTo>
                  <a:lnTo>
                    <a:pt x="1736" y="833"/>
                  </a:lnTo>
                  <a:lnTo>
                    <a:pt x="1758" y="818"/>
                  </a:lnTo>
                  <a:lnTo>
                    <a:pt x="1778" y="803"/>
                  </a:lnTo>
                  <a:lnTo>
                    <a:pt x="1795" y="787"/>
                  </a:lnTo>
                  <a:lnTo>
                    <a:pt x="1809" y="773"/>
                  </a:lnTo>
                  <a:lnTo>
                    <a:pt x="1822" y="759"/>
                  </a:lnTo>
                  <a:lnTo>
                    <a:pt x="1832" y="744"/>
                  </a:lnTo>
                  <a:lnTo>
                    <a:pt x="1841" y="731"/>
                  </a:lnTo>
                  <a:lnTo>
                    <a:pt x="1848" y="718"/>
                  </a:lnTo>
                  <a:lnTo>
                    <a:pt x="1853" y="706"/>
                  </a:lnTo>
                  <a:lnTo>
                    <a:pt x="1857" y="695"/>
                  </a:lnTo>
                  <a:lnTo>
                    <a:pt x="1860" y="683"/>
                  </a:lnTo>
                  <a:lnTo>
                    <a:pt x="1863" y="674"/>
                  </a:lnTo>
                  <a:lnTo>
                    <a:pt x="1865" y="657"/>
                  </a:lnTo>
                  <a:lnTo>
                    <a:pt x="1867" y="646"/>
                  </a:lnTo>
                  <a:lnTo>
                    <a:pt x="1869" y="632"/>
                  </a:lnTo>
                  <a:lnTo>
                    <a:pt x="1869" y="621"/>
                  </a:lnTo>
                  <a:lnTo>
                    <a:pt x="1869" y="611"/>
                  </a:lnTo>
                  <a:lnTo>
                    <a:pt x="1869" y="602"/>
                  </a:lnTo>
                  <a:lnTo>
                    <a:pt x="1867" y="594"/>
                  </a:lnTo>
                  <a:lnTo>
                    <a:pt x="1866" y="586"/>
                  </a:lnTo>
                  <a:lnTo>
                    <a:pt x="1863" y="580"/>
                  </a:lnTo>
                  <a:lnTo>
                    <a:pt x="1860" y="574"/>
                  </a:lnTo>
                  <a:lnTo>
                    <a:pt x="1857" y="570"/>
                  </a:lnTo>
                  <a:lnTo>
                    <a:pt x="1853" y="566"/>
                  </a:lnTo>
                  <a:lnTo>
                    <a:pt x="1849" y="563"/>
                  </a:lnTo>
                  <a:lnTo>
                    <a:pt x="1845" y="560"/>
                  </a:lnTo>
                  <a:lnTo>
                    <a:pt x="1840" y="558"/>
                  </a:lnTo>
                  <a:lnTo>
                    <a:pt x="1834" y="557"/>
                  </a:lnTo>
                  <a:lnTo>
                    <a:pt x="1829" y="556"/>
                  </a:lnTo>
                  <a:lnTo>
                    <a:pt x="1824" y="555"/>
                  </a:lnTo>
                  <a:lnTo>
                    <a:pt x="1814" y="555"/>
                  </a:lnTo>
                  <a:lnTo>
                    <a:pt x="1803" y="557"/>
                  </a:lnTo>
                  <a:lnTo>
                    <a:pt x="1794" y="559"/>
                  </a:lnTo>
                  <a:lnTo>
                    <a:pt x="1784" y="562"/>
                  </a:lnTo>
                  <a:lnTo>
                    <a:pt x="1771" y="567"/>
                  </a:lnTo>
                  <a:lnTo>
                    <a:pt x="1766" y="569"/>
                  </a:lnTo>
                  <a:lnTo>
                    <a:pt x="1766" y="567"/>
                  </a:lnTo>
                  <a:lnTo>
                    <a:pt x="1769" y="562"/>
                  </a:lnTo>
                  <a:lnTo>
                    <a:pt x="1773" y="553"/>
                  </a:lnTo>
                  <a:lnTo>
                    <a:pt x="1779" y="542"/>
                  </a:lnTo>
                  <a:lnTo>
                    <a:pt x="1787" y="528"/>
                  </a:lnTo>
                  <a:lnTo>
                    <a:pt x="1797" y="512"/>
                  </a:lnTo>
                  <a:lnTo>
                    <a:pt x="1808" y="495"/>
                  </a:lnTo>
                  <a:lnTo>
                    <a:pt x="1820" y="476"/>
                  </a:lnTo>
                  <a:lnTo>
                    <a:pt x="1833" y="457"/>
                  </a:lnTo>
                  <a:lnTo>
                    <a:pt x="1844" y="438"/>
                  </a:lnTo>
                  <a:lnTo>
                    <a:pt x="1851" y="421"/>
                  </a:lnTo>
                  <a:lnTo>
                    <a:pt x="1855" y="404"/>
                  </a:lnTo>
                  <a:lnTo>
                    <a:pt x="1858" y="389"/>
                  </a:lnTo>
                  <a:lnTo>
                    <a:pt x="1859" y="373"/>
                  </a:lnTo>
                  <a:lnTo>
                    <a:pt x="1858" y="360"/>
                  </a:lnTo>
                  <a:lnTo>
                    <a:pt x="1856" y="347"/>
                  </a:lnTo>
                  <a:lnTo>
                    <a:pt x="1852" y="335"/>
                  </a:lnTo>
                  <a:lnTo>
                    <a:pt x="1848" y="324"/>
                  </a:lnTo>
                  <a:lnTo>
                    <a:pt x="1843" y="315"/>
                  </a:lnTo>
                  <a:lnTo>
                    <a:pt x="1836" y="306"/>
                  </a:lnTo>
                  <a:lnTo>
                    <a:pt x="1830" y="299"/>
                  </a:lnTo>
                  <a:lnTo>
                    <a:pt x="1825" y="293"/>
                  </a:lnTo>
                  <a:lnTo>
                    <a:pt x="1819" y="288"/>
                  </a:lnTo>
                  <a:lnTo>
                    <a:pt x="1814" y="283"/>
                  </a:lnTo>
                  <a:lnTo>
                    <a:pt x="1809" y="281"/>
                  </a:lnTo>
                  <a:lnTo>
                    <a:pt x="1803" y="280"/>
                  </a:lnTo>
                  <a:lnTo>
                    <a:pt x="1796" y="279"/>
                  </a:lnTo>
                  <a:lnTo>
                    <a:pt x="1787" y="279"/>
                  </a:lnTo>
                  <a:lnTo>
                    <a:pt x="1769" y="281"/>
                  </a:lnTo>
                  <a:lnTo>
                    <a:pt x="1751" y="284"/>
                  </a:lnTo>
                  <a:lnTo>
                    <a:pt x="1733" y="289"/>
                  </a:lnTo>
                  <a:lnTo>
                    <a:pt x="1718" y="293"/>
                  </a:lnTo>
                  <a:lnTo>
                    <a:pt x="1708" y="296"/>
                  </a:lnTo>
                  <a:lnTo>
                    <a:pt x="1704" y="297"/>
                  </a:lnTo>
                  <a:lnTo>
                    <a:pt x="1710" y="291"/>
                  </a:lnTo>
                  <a:lnTo>
                    <a:pt x="1722" y="273"/>
                  </a:lnTo>
                  <a:lnTo>
                    <a:pt x="1730" y="262"/>
                  </a:lnTo>
                  <a:lnTo>
                    <a:pt x="1739" y="249"/>
                  </a:lnTo>
                  <a:lnTo>
                    <a:pt x="1747" y="234"/>
                  </a:lnTo>
                  <a:lnTo>
                    <a:pt x="1753" y="219"/>
                  </a:lnTo>
                  <a:lnTo>
                    <a:pt x="1759" y="204"/>
                  </a:lnTo>
                  <a:lnTo>
                    <a:pt x="1762" y="188"/>
                  </a:lnTo>
                  <a:lnTo>
                    <a:pt x="1763" y="180"/>
                  </a:lnTo>
                  <a:lnTo>
                    <a:pt x="1763" y="172"/>
                  </a:lnTo>
                  <a:lnTo>
                    <a:pt x="1762" y="165"/>
                  </a:lnTo>
                  <a:lnTo>
                    <a:pt x="1761" y="157"/>
                  </a:lnTo>
                  <a:lnTo>
                    <a:pt x="1758" y="150"/>
                  </a:lnTo>
                  <a:lnTo>
                    <a:pt x="1755" y="144"/>
                  </a:lnTo>
                  <a:lnTo>
                    <a:pt x="1750" y="137"/>
                  </a:lnTo>
                  <a:lnTo>
                    <a:pt x="1745" y="130"/>
                  </a:lnTo>
                  <a:lnTo>
                    <a:pt x="1737" y="125"/>
                  </a:lnTo>
                  <a:lnTo>
                    <a:pt x="1729" y="119"/>
                  </a:lnTo>
                  <a:lnTo>
                    <a:pt x="1719" y="115"/>
                  </a:lnTo>
                  <a:lnTo>
                    <a:pt x="1709" y="110"/>
                  </a:lnTo>
                  <a:lnTo>
                    <a:pt x="1696" y="107"/>
                  </a:lnTo>
                  <a:lnTo>
                    <a:pt x="1680" y="105"/>
                  </a:lnTo>
                  <a:lnTo>
                    <a:pt x="1664" y="105"/>
                  </a:lnTo>
                  <a:lnTo>
                    <a:pt x="1647" y="106"/>
                  </a:lnTo>
                  <a:lnTo>
                    <a:pt x="1612" y="109"/>
                  </a:lnTo>
                  <a:lnTo>
                    <a:pt x="1577" y="114"/>
                  </a:lnTo>
                  <a:lnTo>
                    <a:pt x="1562" y="116"/>
                  </a:lnTo>
                  <a:lnTo>
                    <a:pt x="1548" y="117"/>
                  </a:lnTo>
                  <a:lnTo>
                    <a:pt x="1534" y="117"/>
                  </a:lnTo>
                  <a:lnTo>
                    <a:pt x="1524" y="117"/>
                  </a:lnTo>
                  <a:lnTo>
                    <a:pt x="1520" y="116"/>
                  </a:lnTo>
                  <a:lnTo>
                    <a:pt x="1516" y="115"/>
                  </a:lnTo>
                  <a:lnTo>
                    <a:pt x="1514" y="113"/>
                  </a:lnTo>
                  <a:lnTo>
                    <a:pt x="1512" y="111"/>
                  </a:lnTo>
                  <a:lnTo>
                    <a:pt x="1510" y="109"/>
                  </a:lnTo>
                  <a:lnTo>
                    <a:pt x="1510" y="106"/>
                  </a:lnTo>
                  <a:lnTo>
                    <a:pt x="1510" y="102"/>
                  </a:lnTo>
                  <a:lnTo>
                    <a:pt x="1512" y="98"/>
                  </a:lnTo>
                  <a:lnTo>
                    <a:pt x="1513" y="95"/>
                  </a:lnTo>
                  <a:lnTo>
                    <a:pt x="1513" y="90"/>
                  </a:lnTo>
                  <a:lnTo>
                    <a:pt x="1512" y="85"/>
                  </a:lnTo>
                  <a:lnTo>
                    <a:pt x="1510" y="78"/>
                  </a:lnTo>
                  <a:lnTo>
                    <a:pt x="1508" y="72"/>
                  </a:lnTo>
                  <a:lnTo>
                    <a:pt x="1505" y="65"/>
                  </a:lnTo>
                  <a:lnTo>
                    <a:pt x="1500" y="58"/>
                  </a:lnTo>
                  <a:lnTo>
                    <a:pt x="1495" y="50"/>
                  </a:lnTo>
                  <a:lnTo>
                    <a:pt x="1488" y="43"/>
                  </a:lnTo>
                  <a:lnTo>
                    <a:pt x="1481" y="36"/>
                  </a:lnTo>
                  <a:lnTo>
                    <a:pt x="1473" y="28"/>
                  </a:lnTo>
                  <a:lnTo>
                    <a:pt x="1464" y="21"/>
                  </a:lnTo>
                  <a:lnTo>
                    <a:pt x="1453" y="16"/>
                  </a:lnTo>
                  <a:lnTo>
                    <a:pt x="1442" y="10"/>
                  </a:lnTo>
                  <a:lnTo>
                    <a:pt x="1428" y="6"/>
                  </a:lnTo>
                  <a:lnTo>
                    <a:pt x="1415" y="3"/>
                  </a:lnTo>
                  <a:lnTo>
                    <a:pt x="1406" y="1"/>
                  </a:lnTo>
                  <a:lnTo>
                    <a:pt x="1397" y="0"/>
                  </a:lnTo>
                  <a:lnTo>
                    <a:pt x="1387" y="0"/>
                  </a:lnTo>
                  <a:lnTo>
                    <a:pt x="1377" y="1"/>
                  </a:lnTo>
                  <a:lnTo>
                    <a:pt x="1354" y="3"/>
                  </a:lnTo>
                  <a:lnTo>
                    <a:pt x="1328" y="6"/>
                  </a:lnTo>
                  <a:lnTo>
                    <a:pt x="1299" y="11"/>
                  </a:lnTo>
                  <a:lnTo>
                    <a:pt x="1265" y="15"/>
                  </a:lnTo>
                  <a:lnTo>
                    <a:pt x="1227" y="20"/>
                  </a:lnTo>
                  <a:lnTo>
                    <a:pt x="1184" y="24"/>
                  </a:lnTo>
                  <a:lnTo>
                    <a:pt x="1166" y="26"/>
                  </a:lnTo>
                  <a:lnTo>
                    <a:pt x="1149" y="29"/>
                  </a:lnTo>
                  <a:lnTo>
                    <a:pt x="1130" y="33"/>
                  </a:lnTo>
                  <a:lnTo>
                    <a:pt x="1112" y="38"/>
                  </a:lnTo>
                  <a:lnTo>
                    <a:pt x="1095" y="43"/>
                  </a:lnTo>
                  <a:lnTo>
                    <a:pt x="1076" y="49"/>
                  </a:lnTo>
                  <a:lnTo>
                    <a:pt x="1058" y="56"/>
                  </a:lnTo>
                  <a:lnTo>
                    <a:pt x="1040" y="63"/>
                  </a:lnTo>
                  <a:lnTo>
                    <a:pt x="1004" y="78"/>
                  </a:lnTo>
                  <a:lnTo>
                    <a:pt x="968" y="96"/>
                  </a:lnTo>
                  <a:lnTo>
                    <a:pt x="932" y="113"/>
                  </a:lnTo>
                  <a:lnTo>
                    <a:pt x="897" y="129"/>
                  </a:lnTo>
                  <a:lnTo>
                    <a:pt x="837" y="158"/>
                  </a:lnTo>
                  <a:lnTo>
                    <a:pt x="781" y="186"/>
                  </a:lnTo>
                  <a:lnTo>
                    <a:pt x="728" y="212"/>
                  </a:lnTo>
                  <a:lnTo>
                    <a:pt x="681" y="237"/>
                  </a:lnTo>
                  <a:lnTo>
                    <a:pt x="640" y="257"/>
                  </a:lnTo>
                  <a:lnTo>
                    <a:pt x="607" y="273"/>
                  </a:lnTo>
                  <a:lnTo>
                    <a:pt x="583" y="284"/>
                  </a:lnTo>
                  <a:lnTo>
                    <a:pt x="569" y="291"/>
                  </a:lnTo>
                  <a:lnTo>
                    <a:pt x="565" y="292"/>
                  </a:lnTo>
                  <a:lnTo>
                    <a:pt x="559" y="295"/>
                  </a:lnTo>
                  <a:lnTo>
                    <a:pt x="552" y="298"/>
                  </a:lnTo>
                  <a:lnTo>
                    <a:pt x="542" y="303"/>
                  </a:lnTo>
                  <a:lnTo>
                    <a:pt x="533" y="310"/>
                  </a:lnTo>
                  <a:lnTo>
                    <a:pt x="523" y="317"/>
                  </a:lnTo>
                  <a:lnTo>
                    <a:pt x="512" y="326"/>
                  </a:lnTo>
                  <a:lnTo>
                    <a:pt x="501" y="336"/>
                  </a:lnTo>
                  <a:lnTo>
                    <a:pt x="481" y="356"/>
                  </a:lnTo>
                  <a:lnTo>
                    <a:pt x="461" y="376"/>
                  </a:lnTo>
                  <a:lnTo>
                    <a:pt x="442" y="398"/>
                  </a:lnTo>
                  <a:lnTo>
                    <a:pt x="425" y="417"/>
                  </a:lnTo>
                  <a:lnTo>
                    <a:pt x="411" y="434"/>
                  </a:lnTo>
                  <a:lnTo>
                    <a:pt x="399" y="449"/>
                  </a:lnTo>
                  <a:lnTo>
                    <a:pt x="391" y="458"/>
                  </a:lnTo>
                  <a:lnTo>
                    <a:pt x="389" y="461"/>
                  </a:lnTo>
                  <a:lnTo>
                    <a:pt x="387" y="453"/>
                  </a:lnTo>
                  <a:lnTo>
                    <a:pt x="382" y="431"/>
                  </a:lnTo>
                  <a:lnTo>
                    <a:pt x="377" y="416"/>
                  </a:lnTo>
                  <a:lnTo>
                    <a:pt x="370" y="399"/>
                  </a:lnTo>
                  <a:lnTo>
                    <a:pt x="361" y="380"/>
                  </a:lnTo>
                  <a:lnTo>
                    <a:pt x="351" y="360"/>
                  </a:lnTo>
                  <a:lnTo>
                    <a:pt x="343" y="350"/>
                  </a:lnTo>
                  <a:lnTo>
                    <a:pt x="336" y="340"/>
                  </a:lnTo>
                  <a:lnTo>
                    <a:pt x="328" y="329"/>
                  </a:lnTo>
                  <a:lnTo>
                    <a:pt x="320" y="319"/>
                  </a:lnTo>
                  <a:lnTo>
                    <a:pt x="311" y="309"/>
                  </a:lnTo>
                  <a:lnTo>
                    <a:pt x="301" y="300"/>
                  </a:lnTo>
                  <a:lnTo>
                    <a:pt x="289" y="290"/>
                  </a:lnTo>
                  <a:lnTo>
                    <a:pt x="277" y="280"/>
                  </a:lnTo>
                  <a:lnTo>
                    <a:pt x="265" y="271"/>
                  </a:lnTo>
                  <a:lnTo>
                    <a:pt x="251" y="263"/>
                  </a:lnTo>
                  <a:lnTo>
                    <a:pt x="236" y="255"/>
                  </a:lnTo>
                  <a:lnTo>
                    <a:pt x="221" y="247"/>
                  </a:lnTo>
                  <a:lnTo>
                    <a:pt x="205" y="240"/>
                  </a:lnTo>
                  <a:lnTo>
                    <a:pt x="186" y="233"/>
                  </a:lnTo>
                  <a:lnTo>
                    <a:pt x="168" y="227"/>
                  </a:lnTo>
                  <a:lnTo>
                    <a:pt x="148" y="222"/>
                  </a:lnTo>
                  <a:lnTo>
                    <a:pt x="135" y="223"/>
                  </a:lnTo>
                  <a:lnTo>
                    <a:pt x="125" y="224"/>
                  </a:lnTo>
                  <a:lnTo>
                    <a:pt x="116" y="226"/>
                  </a:lnTo>
                  <a:lnTo>
                    <a:pt x="109" y="228"/>
                  </a:lnTo>
                  <a:lnTo>
                    <a:pt x="104" y="230"/>
                  </a:lnTo>
                  <a:lnTo>
                    <a:pt x="100" y="233"/>
                  </a:lnTo>
                  <a:lnTo>
                    <a:pt x="98" y="238"/>
                  </a:lnTo>
                  <a:lnTo>
                    <a:pt x="95" y="241"/>
                  </a:lnTo>
                  <a:lnTo>
                    <a:pt x="95" y="244"/>
                  </a:lnTo>
                  <a:lnTo>
                    <a:pt x="95" y="247"/>
                  </a:lnTo>
                  <a:lnTo>
                    <a:pt x="95" y="250"/>
                  </a:lnTo>
                  <a:lnTo>
                    <a:pt x="97" y="253"/>
                  </a:lnTo>
                  <a:lnTo>
                    <a:pt x="99" y="257"/>
                  </a:lnTo>
                  <a:lnTo>
                    <a:pt x="100" y="259"/>
                  </a:lnTo>
                  <a:lnTo>
                    <a:pt x="99" y="281"/>
                  </a:lnTo>
                  <a:lnTo>
                    <a:pt x="95" y="344"/>
                  </a:lnTo>
                  <a:lnTo>
                    <a:pt x="93" y="386"/>
                  </a:lnTo>
                  <a:lnTo>
                    <a:pt x="90" y="435"/>
                  </a:lnTo>
                  <a:lnTo>
                    <a:pt x="87" y="487"/>
                  </a:lnTo>
                  <a:lnTo>
                    <a:pt x="82" y="544"/>
                  </a:lnTo>
                  <a:lnTo>
                    <a:pt x="76" y="601"/>
                  </a:lnTo>
                  <a:lnTo>
                    <a:pt x="69" y="659"/>
                  </a:lnTo>
                  <a:lnTo>
                    <a:pt x="62" y="716"/>
                  </a:lnTo>
                  <a:lnTo>
                    <a:pt x="52" y="771"/>
                  </a:lnTo>
                  <a:lnTo>
                    <a:pt x="47" y="798"/>
                  </a:lnTo>
                  <a:lnTo>
                    <a:pt x="41" y="822"/>
                  </a:lnTo>
                  <a:lnTo>
                    <a:pt x="35" y="846"/>
                  </a:lnTo>
                  <a:lnTo>
                    <a:pt x="29" y="869"/>
                  </a:lnTo>
                  <a:lnTo>
                    <a:pt x="22" y="889"/>
                  </a:lnTo>
                  <a:lnTo>
                    <a:pt x="15" y="909"/>
                  </a:lnTo>
                  <a:lnTo>
                    <a:pt x="8" y="926"/>
                  </a:lnTo>
                  <a:lnTo>
                    <a:pt x="0" y="941"/>
                  </a:lnTo>
                  <a:close/>
                </a:path>
              </a:pathLst>
            </a:custGeom>
            <a:solidFill>
              <a:srgbClr val="6f57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3556080" y="2861280"/>
              <a:ext cx="723960" cy="473400"/>
            </a:xfrm>
            <a:custGeom>
              <a:avLst/>
              <a:gdLst/>
              <a:ahLst/>
              <a:rect l="l" t="t" r="r" b="b"/>
              <a:pathLst>
                <a:path w="1869" h="1224">
                  <a:moveTo>
                    <a:pt x="0" y="941"/>
                  </a:moveTo>
                  <a:lnTo>
                    <a:pt x="1415" y="1222"/>
                  </a:lnTo>
                  <a:lnTo>
                    <a:pt x="1443" y="1224"/>
                  </a:lnTo>
                  <a:lnTo>
                    <a:pt x="1451" y="1201"/>
                  </a:lnTo>
                  <a:lnTo>
                    <a:pt x="1459" y="1178"/>
                  </a:lnTo>
                  <a:lnTo>
                    <a:pt x="1469" y="1155"/>
                  </a:lnTo>
                  <a:lnTo>
                    <a:pt x="1481" y="1131"/>
                  </a:lnTo>
                  <a:lnTo>
                    <a:pt x="1487" y="1119"/>
                  </a:lnTo>
                  <a:lnTo>
                    <a:pt x="1495" y="1108"/>
                  </a:lnTo>
                  <a:lnTo>
                    <a:pt x="1502" y="1095"/>
                  </a:lnTo>
                  <a:lnTo>
                    <a:pt x="1510" y="1084"/>
                  </a:lnTo>
                  <a:lnTo>
                    <a:pt x="1519" y="1073"/>
                  </a:lnTo>
                  <a:lnTo>
                    <a:pt x="1528" y="1062"/>
                  </a:lnTo>
                  <a:lnTo>
                    <a:pt x="1538" y="1050"/>
                  </a:lnTo>
                  <a:lnTo>
                    <a:pt x="1550" y="1040"/>
                  </a:lnTo>
                  <a:lnTo>
                    <a:pt x="1565" y="1027"/>
                  </a:lnTo>
                  <a:lnTo>
                    <a:pt x="1579" y="1013"/>
                  </a:lnTo>
                  <a:lnTo>
                    <a:pt x="1595" y="998"/>
                  </a:lnTo>
                  <a:lnTo>
                    <a:pt x="1609" y="982"/>
                  </a:lnTo>
                  <a:lnTo>
                    <a:pt x="1636" y="951"/>
                  </a:lnTo>
                  <a:lnTo>
                    <a:pt x="1662" y="920"/>
                  </a:lnTo>
                  <a:lnTo>
                    <a:pt x="1685" y="890"/>
                  </a:lnTo>
                  <a:lnTo>
                    <a:pt x="1706" y="865"/>
                  </a:lnTo>
                  <a:lnTo>
                    <a:pt x="1715" y="855"/>
                  </a:lnTo>
                  <a:lnTo>
                    <a:pt x="1723" y="845"/>
                  </a:lnTo>
                  <a:lnTo>
                    <a:pt x="1730" y="838"/>
                  </a:lnTo>
                  <a:lnTo>
                    <a:pt x="1736" y="833"/>
                  </a:lnTo>
                  <a:lnTo>
                    <a:pt x="1758" y="818"/>
                  </a:lnTo>
                  <a:lnTo>
                    <a:pt x="1778" y="803"/>
                  </a:lnTo>
                  <a:lnTo>
                    <a:pt x="1795" y="787"/>
                  </a:lnTo>
                  <a:lnTo>
                    <a:pt x="1809" y="773"/>
                  </a:lnTo>
                  <a:lnTo>
                    <a:pt x="1822" y="759"/>
                  </a:lnTo>
                  <a:lnTo>
                    <a:pt x="1832" y="744"/>
                  </a:lnTo>
                  <a:lnTo>
                    <a:pt x="1841" y="731"/>
                  </a:lnTo>
                  <a:lnTo>
                    <a:pt x="1848" y="718"/>
                  </a:lnTo>
                  <a:lnTo>
                    <a:pt x="1853" y="706"/>
                  </a:lnTo>
                  <a:lnTo>
                    <a:pt x="1857" y="695"/>
                  </a:lnTo>
                  <a:lnTo>
                    <a:pt x="1860" y="683"/>
                  </a:lnTo>
                  <a:lnTo>
                    <a:pt x="1863" y="674"/>
                  </a:lnTo>
                  <a:lnTo>
                    <a:pt x="1865" y="657"/>
                  </a:lnTo>
                  <a:lnTo>
                    <a:pt x="1867" y="646"/>
                  </a:lnTo>
                  <a:lnTo>
                    <a:pt x="1869" y="632"/>
                  </a:lnTo>
                  <a:lnTo>
                    <a:pt x="1869" y="621"/>
                  </a:lnTo>
                  <a:lnTo>
                    <a:pt x="1869" y="611"/>
                  </a:lnTo>
                  <a:lnTo>
                    <a:pt x="1869" y="602"/>
                  </a:lnTo>
                  <a:lnTo>
                    <a:pt x="1867" y="594"/>
                  </a:lnTo>
                  <a:lnTo>
                    <a:pt x="1866" y="586"/>
                  </a:lnTo>
                  <a:lnTo>
                    <a:pt x="1863" y="580"/>
                  </a:lnTo>
                  <a:lnTo>
                    <a:pt x="1860" y="574"/>
                  </a:lnTo>
                  <a:lnTo>
                    <a:pt x="1857" y="570"/>
                  </a:lnTo>
                  <a:lnTo>
                    <a:pt x="1853" y="566"/>
                  </a:lnTo>
                  <a:lnTo>
                    <a:pt x="1849" y="563"/>
                  </a:lnTo>
                  <a:lnTo>
                    <a:pt x="1845" y="560"/>
                  </a:lnTo>
                  <a:lnTo>
                    <a:pt x="1840" y="558"/>
                  </a:lnTo>
                  <a:lnTo>
                    <a:pt x="1834" y="557"/>
                  </a:lnTo>
                  <a:lnTo>
                    <a:pt x="1829" y="556"/>
                  </a:lnTo>
                  <a:lnTo>
                    <a:pt x="1824" y="555"/>
                  </a:lnTo>
                  <a:lnTo>
                    <a:pt x="1814" y="555"/>
                  </a:lnTo>
                  <a:lnTo>
                    <a:pt x="1803" y="557"/>
                  </a:lnTo>
                  <a:lnTo>
                    <a:pt x="1794" y="559"/>
                  </a:lnTo>
                  <a:lnTo>
                    <a:pt x="1784" y="562"/>
                  </a:lnTo>
                  <a:lnTo>
                    <a:pt x="1771" y="567"/>
                  </a:lnTo>
                  <a:lnTo>
                    <a:pt x="1766" y="569"/>
                  </a:lnTo>
                  <a:lnTo>
                    <a:pt x="1766" y="567"/>
                  </a:lnTo>
                  <a:lnTo>
                    <a:pt x="1769" y="562"/>
                  </a:lnTo>
                  <a:lnTo>
                    <a:pt x="1773" y="553"/>
                  </a:lnTo>
                  <a:lnTo>
                    <a:pt x="1779" y="542"/>
                  </a:lnTo>
                  <a:lnTo>
                    <a:pt x="1787" y="528"/>
                  </a:lnTo>
                  <a:lnTo>
                    <a:pt x="1797" y="512"/>
                  </a:lnTo>
                  <a:lnTo>
                    <a:pt x="1808" y="495"/>
                  </a:lnTo>
                  <a:lnTo>
                    <a:pt x="1820" y="476"/>
                  </a:lnTo>
                  <a:lnTo>
                    <a:pt x="1833" y="457"/>
                  </a:lnTo>
                  <a:lnTo>
                    <a:pt x="1844" y="438"/>
                  </a:lnTo>
                  <a:lnTo>
                    <a:pt x="1851" y="421"/>
                  </a:lnTo>
                  <a:lnTo>
                    <a:pt x="1855" y="404"/>
                  </a:lnTo>
                  <a:lnTo>
                    <a:pt x="1858" y="389"/>
                  </a:lnTo>
                  <a:lnTo>
                    <a:pt x="1859" y="373"/>
                  </a:lnTo>
                  <a:lnTo>
                    <a:pt x="1858" y="360"/>
                  </a:lnTo>
                  <a:lnTo>
                    <a:pt x="1856" y="347"/>
                  </a:lnTo>
                  <a:lnTo>
                    <a:pt x="1852" y="335"/>
                  </a:lnTo>
                  <a:lnTo>
                    <a:pt x="1848" y="324"/>
                  </a:lnTo>
                  <a:lnTo>
                    <a:pt x="1843" y="315"/>
                  </a:lnTo>
                  <a:lnTo>
                    <a:pt x="1836" y="306"/>
                  </a:lnTo>
                  <a:lnTo>
                    <a:pt x="1830" y="299"/>
                  </a:lnTo>
                  <a:lnTo>
                    <a:pt x="1825" y="293"/>
                  </a:lnTo>
                  <a:lnTo>
                    <a:pt x="1819" y="288"/>
                  </a:lnTo>
                  <a:lnTo>
                    <a:pt x="1814" y="283"/>
                  </a:lnTo>
                  <a:lnTo>
                    <a:pt x="1809" y="281"/>
                  </a:lnTo>
                  <a:lnTo>
                    <a:pt x="1803" y="280"/>
                  </a:lnTo>
                  <a:lnTo>
                    <a:pt x="1796" y="279"/>
                  </a:lnTo>
                  <a:lnTo>
                    <a:pt x="1787" y="279"/>
                  </a:lnTo>
                  <a:lnTo>
                    <a:pt x="1769" y="281"/>
                  </a:lnTo>
                  <a:lnTo>
                    <a:pt x="1751" y="284"/>
                  </a:lnTo>
                  <a:lnTo>
                    <a:pt x="1733" y="289"/>
                  </a:lnTo>
                  <a:lnTo>
                    <a:pt x="1718" y="293"/>
                  </a:lnTo>
                  <a:lnTo>
                    <a:pt x="1708" y="296"/>
                  </a:lnTo>
                  <a:lnTo>
                    <a:pt x="1704" y="297"/>
                  </a:lnTo>
                  <a:lnTo>
                    <a:pt x="1710" y="291"/>
                  </a:lnTo>
                  <a:lnTo>
                    <a:pt x="1722" y="273"/>
                  </a:lnTo>
                  <a:lnTo>
                    <a:pt x="1730" y="262"/>
                  </a:lnTo>
                  <a:lnTo>
                    <a:pt x="1739" y="249"/>
                  </a:lnTo>
                  <a:lnTo>
                    <a:pt x="1747" y="234"/>
                  </a:lnTo>
                  <a:lnTo>
                    <a:pt x="1753" y="219"/>
                  </a:lnTo>
                  <a:lnTo>
                    <a:pt x="1759" y="204"/>
                  </a:lnTo>
                  <a:lnTo>
                    <a:pt x="1762" y="188"/>
                  </a:lnTo>
                  <a:lnTo>
                    <a:pt x="1763" y="180"/>
                  </a:lnTo>
                  <a:lnTo>
                    <a:pt x="1763" y="172"/>
                  </a:lnTo>
                  <a:lnTo>
                    <a:pt x="1762" y="165"/>
                  </a:lnTo>
                  <a:lnTo>
                    <a:pt x="1761" y="157"/>
                  </a:lnTo>
                  <a:lnTo>
                    <a:pt x="1758" y="150"/>
                  </a:lnTo>
                  <a:lnTo>
                    <a:pt x="1755" y="144"/>
                  </a:lnTo>
                  <a:lnTo>
                    <a:pt x="1750" y="137"/>
                  </a:lnTo>
                  <a:lnTo>
                    <a:pt x="1745" y="130"/>
                  </a:lnTo>
                  <a:lnTo>
                    <a:pt x="1737" y="125"/>
                  </a:lnTo>
                  <a:lnTo>
                    <a:pt x="1729" y="119"/>
                  </a:lnTo>
                  <a:lnTo>
                    <a:pt x="1719" y="115"/>
                  </a:lnTo>
                  <a:lnTo>
                    <a:pt x="1709" y="110"/>
                  </a:lnTo>
                  <a:lnTo>
                    <a:pt x="1696" y="107"/>
                  </a:lnTo>
                  <a:lnTo>
                    <a:pt x="1680" y="105"/>
                  </a:lnTo>
                  <a:lnTo>
                    <a:pt x="1664" y="105"/>
                  </a:lnTo>
                  <a:lnTo>
                    <a:pt x="1647" y="106"/>
                  </a:lnTo>
                  <a:lnTo>
                    <a:pt x="1612" y="109"/>
                  </a:lnTo>
                  <a:lnTo>
                    <a:pt x="1577" y="114"/>
                  </a:lnTo>
                  <a:lnTo>
                    <a:pt x="1562" y="116"/>
                  </a:lnTo>
                  <a:lnTo>
                    <a:pt x="1548" y="117"/>
                  </a:lnTo>
                  <a:lnTo>
                    <a:pt x="1534" y="117"/>
                  </a:lnTo>
                  <a:lnTo>
                    <a:pt x="1524" y="117"/>
                  </a:lnTo>
                  <a:lnTo>
                    <a:pt x="1520" y="116"/>
                  </a:lnTo>
                  <a:lnTo>
                    <a:pt x="1516" y="115"/>
                  </a:lnTo>
                  <a:lnTo>
                    <a:pt x="1514" y="113"/>
                  </a:lnTo>
                  <a:lnTo>
                    <a:pt x="1512" y="111"/>
                  </a:lnTo>
                  <a:lnTo>
                    <a:pt x="1510" y="109"/>
                  </a:lnTo>
                  <a:lnTo>
                    <a:pt x="1510" y="106"/>
                  </a:lnTo>
                  <a:lnTo>
                    <a:pt x="1510" y="102"/>
                  </a:lnTo>
                  <a:lnTo>
                    <a:pt x="1512" y="98"/>
                  </a:lnTo>
                  <a:lnTo>
                    <a:pt x="1513" y="95"/>
                  </a:lnTo>
                  <a:lnTo>
                    <a:pt x="1513" y="90"/>
                  </a:lnTo>
                  <a:lnTo>
                    <a:pt x="1512" y="85"/>
                  </a:lnTo>
                  <a:lnTo>
                    <a:pt x="1510" y="78"/>
                  </a:lnTo>
                  <a:lnTo>
                    <a:pt x="1508" y="72"/>
                  </a:lnTo>
                  <a:lnTo>
                    <a:pt x="1505" y="65"/>
                  </a:lnTo>
                  <a:lnTo>
                    <a:pt x="1500" y="58"/>
                  </a:lnTo>
                  <a:lnTo>
                    <a:pt x="1495" y="50"/>
                  </a:lnTo>
                  <a:lnTo>
                    <a:pt x="1488" y="43"/>
                  </a:lnTo>
                  <a:lnTo>
                    <a:pt x="1481" y="36"/>
                  </a:lnTo>
                  <a:lnTo>
                    <a:pt x="1473" y="28"/>
                  </a:lnTo>
                  <a:lnTo>
                    <a:pt x="1464" y="21"/>
                  </a:lnTo>
                  <a:lnTo>
                    <a:pt x="1453" y="16"/>
                  </a:lnTo>
                  <a:lnTo>
                    <a:pt x="1442" y="10"/>
                  </a:lnTo>
                  <a:lnTo>
                    <a:pt x="1428" y="6"/>
                  </a:lnTo>
                  <a:lnTo>
                    <a:pt x="1415" y="3"/>
                  </a:lnTo>
                  <a:lnTo>
                    <a:pt x="1406" y="1"/>
                  </a:lnTo>
                  <a:lnTo>
                    <a:pt x="1397" y="0"/>
                  </a:lnTo>
                  <a:lnTo>
                    <a:pt x="1387" y="0"/>
                  </a:lnTo>
                  <a:lnTo>
                    <a:pt x="1377" y="1"/>
                  </a:lnTo>
                  <a:lnTo>
                    <a:pt x="1354" y="3"/>
                  </a:lnTo>
                  <a:lnTo>
                    <a:pt x="1328" y="6"/>
                  </a:lnTo>
                  <a:lnTo>
                    <a:pt x="1299" y="11"/>
                  </a:lnTo>
                  <a:lnTo>
                    <a:pt x="1265" y="15"/>
                  </a:lnTo>
                  <a:lnTo>
                    <a:pt x="1227" y="20"/>
                  </a:lnTo>
                  <a:lnTo>
                    <a:pt x="1184" y="24"/>
                  </a:lnTo>
                  <a:lnTo>
                    <a:pt x="1166" y="26"/>
                  </a:lnTo>
                  <a:lnTo>
                    <a:pt x="1149" y="29"/>
                  </a:lnTo>
                  <a:lnTo>
                    <a:pt x="1130" y="33"/>
                  </a:lnTo>
                  <a:lnTo>
                    <a:pt x="1112" y="38"/>
                  </a:lnTo>
                  <a:lnTo>
                    <a:pt x="1095" y="43"/>
                  </a:lnTo>
                  <a:lnTo>
                    <a:pt x="1076" y="49"/>
                  </a:lnTo>
                  <a:lnTo>
                    <a:pt x="1058" y="56"/>
                  </a:lnTo>
                  <a:lnTo>
                    <a:pt x="1040" y="63"/>
                  </a:lnTo>
                  <a:lnTo>
                    <a:pt x="1004" y="78"/>
                  </a:lnTo>
                  <a:lnTo>
                    <a:pt x="968" y="96"/>
                  </a:lnTo>
                  <a:lnTo>
                    <a:pt x="932" y="113"/>
                  </a:lnTo>
                  <a:lnTo>
                    <a:pt x="897" y="129"/>
                  </a:lnTo>
                  <a:lnTo>
                    <a:pt x="837" y="158"/>
                  </a:lnTo>
                  <a:lnTo>
                    <a:pt x="781" y="186"/>
                  </a:lnTo>
                  <a:lnTo>
                    <a:pt x="728" y="212"/>
                  </a:lnTo>
                  <a:lnTo>
                    <a:pt x="681" y="237"/>
                  </a:lnTo>
                  <a:lnTo>
                    <a:pt x="640" y="257"/>
                  </a:lnTo>
                  <a:lnTo>
                    <a:pt x="607" y="273"/>
                  </a:lnTo>
                  <a:lnTo>
                    <a:pt x="583" y="284"/>
                  </a:lnTo>
                  <a:lnTo>
                    <a:pt x="569" y="291"/>
                  </a:lnTo>
                  <a:lnTo>
                    <a:pt x="565" y="292"/>
                  </a:lnTo>
                  <a:lnTo>
                    <a:pt x="559" y="295"/>
                  </a:lnTo>
                  <a:lnTo>
                    <a:pt x="552" y="298"/>
                  </a:lnTo>
                  <a:lnTo>
                    <a:pt x="542" y="303"/>
                  </a:lnTo>
                  <a:lnTo>
                    <a:pt x="533" y="310"/>
                  </a:lnTo>
                  <a:lnTo>
                    <a:pt x="523" y="317"/>
                  </a:lnTo>
                  <a:lnTo>
                    <a:pt x="512" y="326"/>
                  </a:lnTo>
                  <a:lnTo>
                    <a:pt x="501" y="336"/>
                  </a:lnTo>
                  <a:lnTo>
                    <a:pt x="481" y="356"/>
                  </a:lnTo>
                  <a:lnTo>
                    <a:pt x="461" y="376"/>
                  </a:lnTo>
                  <a:lnTo>
                    <a:pt x="442" y="398"/>
                  </a:lnTo>
                  <a:lnTo>
                    <a:pt x="425" y="417"/>
                  </a:lnTo>
                  <a:lnTo>
                    <a:pt x="411" y="434"/>
                  </a:lnTo>
                  <a:lnTo>
                    <a:pt x="399" y="449"/>
                  </a:lnTo>
                  <a:lnTo>
                    <a:pt x="391" y="458"/>
                  </a:lnTo>
                  <a:lnTo>
                    <a:pt x="389" y="461"/>
                  </a:lnTo>
                  <a:lnTo>
                    <a:pt x="387" y="453"/>
                  </a:lnTo>
                  <a:lnTo>
                    <a:pt x="382" y="431"/>
                  </a:lnTo>
                  <a:lnTo>
                    <a:pt x="377" y="416"/>
                  </a:lnTo>
                  <a:lnTo>
                    <a:pt x="370" y="399"/>
                  </a:lnTo>
                  <a:lnTo>
                    <a:pt x="361" y="380"/>
                  </a:lnTo>
                  <a:lnTo>
                    <a:pt x="351" y="360"/>
                  </a:lnTo>
                  <a:lnTo>
                    <a:pt x="343" y="350"/>
                  </a:lnTo>
                  <a:lnTo>
                    <a:pt x="336" y="340"/>
                  </a:lnTo>
                  <a:lnTo>
                    <a:pt x="328" y="329"/>
                  </a:lnTo>
                  <a:lnTo>
                    <a:pt x="320" y="319"/>
                  </a:lnTo>
                  <a:lnTo>
                    <a:pt x="311" y="309"/>
                  </a:lnTo>
                  <a:lnTo>
                    <a:pt x="301" y="300"/>
                  </a:lnTo>
                  <a:lnTo>
                    <a:pt x="289" y="290"/>
                  </a:lnTo>
                  <a:lnTo>
                    <a:pt x="277" y="280"/>
                  </a:lnTo>
                  <a:lnTo>
                    <a:pt x="265" y="271"/>
                  </a:lnTo>
                  <a:lnTo>
                    <a:pt x="251" y="263"/>
                  </a:lnTo>
                  <a:lnTo>
                    <a:pt x="236" y="255"/>
                  </a:lnTo>
                  <a:lnTo>
                    <a:pt x="221" y="247"/>
                  </a:lnTo>
                  <a:lnTo>
                    <a:pt x="205" y="240"/>
                  </a:lnTo>
                  <a:lnTo>
                    <a:pt x="186" y="233"/>
                  </a:lnTo>
                  <a:lnTo>
                    <a:pt x="168" y="227"/>
                  </a:lnTo>
                  <a:lnTo>
                    <a:pt x="148" y="222"/>
                  </a:lnTo>
                  <a:lnTo>
                    <a:pt x="135" y="223"/>
                  </a:lnTo>
                  <a:lnTo>
                    <a:pt x="125" y="224"/>
                  </a:lnTo>
                  <a:lnTo>
                    <a:pt x="116" y="226"/>
                  </a:lnTo>
                  <a:lnTo>
                    <a:pt x="109" y="228"/>
                  </a:lnTo>
                  <a:lnTo>
                    <a:pt x="104" y="230"/>
                  </a:lnTo>
                  <a:lnTo>
                    <a:pt x="100" y="233"/>
                  </a:lnTo>
                  <a:lnTo>
                    <a:pt x="98" y="238"/>
                  </a:lnTo>
                  <a:lnTo>
                    <a:pt x="95" y="241"/>
                  </a:lnTo>
                  <a:lnTo>
                    <a:pt x="95" y="244"/>
                  </a:lnTo>
                  <a:lnTo>
                    <a:pt x="95" y="247"/>
                  </a:lnTo>
                  <a:lnTo>
                    <a:pt x="95" y="250"/>
                  </a:lnTo>
                  <a:lnTo>
                    <a:pt x="97" y="253"/>
                  </a:lnTo>
                  <a:lnTo>
                    <a:pt x="99" y="257"/>
                  </a:lnTo>
                  <a:lnTo>
                    <a:pt x="100" y="259"/>
                  </a:lnTo>
                  <a:lnTo>
                    <a:pt x="99" y="281"/>
                  </a:lnTo>
                  <a:lnTo>
                    <a:pt x="95" y="344"/>
                  </a:lnTo>
                  <a:lnTo>
                    <a:pt x="93" y="386"/>
                  </a:lnTo>
                  <a:lnTo>
                    <a:pt x="90" y="435"/>
                  </a:lnTo>
                  <a:lnTo>
                    <a:pt x="87" y="487"/>
                  </a:lnTo>
                  <a:lnTo>
                    <a:pt x="82" y="544"/>
                  </a:lnTo>
                  <a:lnTo>
                    <a:pt x="76" y="601"/>
                  </a:lnTo>
                  <a:lnTo>
                    <a:pt x="69" y="659"/>
                  </a:lnTo>
                  <a:lnTo>
                    <a:pt x="62" y="716"/>
                  </a:lnTo>
                  <a:lnTo>
                    <a:pt x="52" y="771"/>
                  </a:lnTo>
                  <a:lnTo>
                    <a:pt x="47" y="798"/>
                  </a:lnTo>
                  <a:lnTo>
                    <a:pt x="41" y="822"/>
                  </a:lnTo>
                  <a:lnTo>
                    <a:pt x="35" y="846"/>
                  </a:lnTo>
                  <a:lnTo>
                    <a:pt x="29" y="869"/>
                  </a:lnTo>
                  <a:lnTo>
                    <a:pt x="22" y="889"/>
                  </a:lnTo>
                  <a:lnTo>
                    <a:pt x="15" y="909"/>
                  </a:lnTo>
                  <a:lnTo>
                    <a:pt x="8" y="926"/>
                  </a:lnTo>
                  <a:lnTo>
                    <a:pt x="0" y="941"/>
                  </a:lnTo>
                </a:path>
              </a:pathLst>
            </a:custGeom>
            <a:noFill/>
            <a:ln w="1440">
              <a:solidFill>
                <a:srgbClr val="6f57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3472560" y="3220920"/>
              <a:ext cx="636840" cy="628560"/>
            </a:xfrm>
            <a:custGeom>
              <a:avLst/>
              <a:gdLst/>
              <a:ahLst/>
              <a:rect l="l" t="t" r="r" b="b"/>
              <a:pathLst>
                <a:path w="1645" h="1623">
                  <a:moveTo>
                    <a:pt x="47" y="1583"/>
                  </a:moveTo>
                  <a:lnTo>
                    <a:pt x="1099" y="1619"/>
                  </a:lnTo>
                  <a:lnTo>
                    <a:pt x="1113" y="1623"/>
                  </a:lnTo>
                  <a:lnTo>
                    <a:pt x="1124" y="1606"/>
                  </a:lnTo>
                  <a:lnTo>
                    <a:pt x="1135" y="1588"/>
                  </a:lnTo>
                  <a:lnTo>
                    <a:pt x="1147" y="1572"/>
                  </a:lnTo>
                  <a:lnTo>
                    <a:pt x="1159" y="1556"/>
                  </a:lnTo>
                  <a:lnTo>
                    <a:pt x="1172" y="1539"/>
                  </a:lnTo>
                  <a:lnTo>
                    <a:pt x="1184" y="1524"/>
                  </a:lnTo>
                  <a:lnTo>
                    <a:pt x="1197" y="1508"/>
                  </a:lnTo>
                  <a:lnTo>
                    <a:pt x="1209" y="1491"/>
                  </a:lnTo>
                  <a:lnTo>
                    <a:pt x="1226" y="1471"/>
                  </a:lnTo>
                  <a:lnTo>
                    <a:pt x="1241" y="1450"/>
                  </a:lnTo>
                  <a:lnTo>
                    <a:pt x="1256" y="1427"/>
                  </a:lnTo>
                  <a:lnTo>
                    <a:pt x="1272" y="1403"/>
                  </a:lnTo>
                  <a:lnTo>
                    <a:pt x="1286" y="1378"/>
                  </a:lnTo>
                  <a:lnTo>
                    <a:pt x="1300" y="1352"/>
                  </a:lnTo>
                  <a:lnTo>
                    <a:pt x="1314" y="1325"/>
                  </a:lnTo>
                  <a:lnTo>
                    <a:pt x="1327" y="1299"/>
                  </a:lnTo>
                  <a:lnTo>
                    <a:pt x="1352" y="1243"/>
                  </a:lnTo>
                  <a:lnTo>
                    <a:pt x="1376" y="1186"/>
                  </a:lnTo>
                  <a:lnTo>
                    <a:pt x="1397" y="1130"/>
                  </a:lnTo>
                  <a:lnTo>
                    <a:pt x="1417" y="1076"/>
                  </a:lnTo>
                  <a:lnTo>
                    <a:pt x="1434" y="1024"/>
                  </a:lnTo>
                  <a:lnTo>
                    <a:pt x="1449" y="975"/>
                  </a:lnTo>
                  <a:lnTo>
                    <a:pt x="1463" y="931"/>
                  </a:lnTo>
                  <a:lnTo>
                    <a:pt x="1473" y="894"/>
                  </a:lnTo>
                  <a:lnTo>
                    <a:pt x="1488" y="838"/>
                  </a:lnTo>
                  <a:lnTo>
                    <a:pt x="1493" y="817"/>
                  </a:lnTo>
                  <a:lnTo>
                    <a:pt x="1496" y="806"/>
                  </a:lnTo>
                  <a:lnTo>
                    <a:pt x="1503" y="776"/>
                  </a:lnTo>
                  <a:lnTo>
                    <a:pt x="1514" y="733"/>
                  </a:lnTo>
                  <a:lnTo>
                    <a:pt x="1526" y="680"/>
                  </a:lnTo>
                  <a:lnTo>
                    <a:pt x="1539" y="625"/>
                  </a:lnTo>
                  <a:lnTo>
                    <a:pt x="1552" y="572"/>
                  </a:lnTo>
                  <a:lnTo>
                    <a:pt x="1563" y="528"/>
                  </a:lnTo>
                  <a:lnTo>
                    <a:pt x="1569" y="496"/>
                  </a:lnTo>
                  <a:lnTo>
                    <a:pt x="1571" y="486"/>
                  </a:lnTo>
                  <a:lnTo>
                    <a:pt x="1571" y="478"/>
                  </a:lnTo>
                  <a:lnTo>
                    <a:pt x="1571" y="471"/>
                  </a:lnTo>
                  <a:lnTo>
                    <a:pt x="1570" y="466"/>
                  </a:lnTo>
                  <a:lnTo>
                    <a:pt x="1568" y="459"/>
                  </a:lnTo>
                  <a:lnTo>
                    <a:pt x="1568" y="452"/>
                  </a:lnTo>
                  <a:lnTo>
                    <a:pt x="1568" y="448"/>
                  </a:lnTo>
                  <a:lnTo>
                    <a:pt x="1570" y="442"/>
                  </a:lnTo>
                  <a:lnTo>
                    <a:pt x="1573" y="434"/>
                  </a:lnTo>
                  <a:lnTo>
                    <a:pt x="1578" y="425"/>
                  </a:lnTo>
                  <a:lnTo>
                    <a:pt x="1593" y="396"/>
                  </a:lnTo>
                  <a:lnTo>
                    <a:pt x="1618" y="353"/>
                  </a:lnTo>
                  <a:lnTo>
                    <a:pt x="1622" y="347"/>
                  </a:lnTo>
                  <a:lnTo>
                    <a:pt x="1625" y="341"/>
                  </a:lnTo>
                  <a:lnTo>
                    <a:pt x="1628" y="334"/>
                  </a:lnTo>
                  <a:lnTo>
                    <a:pt x="1632" y="326"/>
                  </a:lnTo>
                  <a:lnTo>
                    <a:pt x="1635" y="318"/>
                  </a:lnTo>
                  <a:lnTo>
                    <a:pt x="1638" y="309"/>
                  </a:lnTo>
                  <a:lnTo>
                    <a:pt x="1641" y="301"/>
                  </a:lnTo>
                  <a:lnTo>
                    <a:pt x="1645" y="291"/>
                  </a:lnTo>
                  <a:lnTo>
                    <a:pt x="1620" y="281"/>
                  </a:lnTo>
                  <a:lnTo>
                    <a:pt x="205" y="0"/>
                  </a:lnTo>
                  <a:lnTo>
                    <a:pt x="204" y="1"/>
                  </a:lnTo>
                  <a:lnTo>
                    <a:pt x="203" y="3"/>
                  </a:lnTo>
                  <a:lnTo>
                    <a:pt x="202" y="5"/>
                  </a:lnTo>
                  <a:lnTo>
                    <a:pt x="201" y="7"/>
                  </a:lnTo>
                  <a:lnTo>
                    <a:pt x="199" y="10"/>
                  </a:lnTo>
                  <a:lnTo>
                    <a:pt x="198" y="12"/>
                  </a:lnTo>
                  <a:lnTo>
                    <a:pt x="196" y="15"/>
                  </a:lnTo>
                  <a:lnTo>
                    <a:pt x="195" y="19"/>
                  </a:lnTo>
                  <a:lnTo>
                    <a:pt x="178" y="57"/>
                  </a:lnTo>
                  <a:lnTo>
                    <a:pt x="156" y="107"/>
                  </a:lnTo>
                  <a:lnTo>
                    <a:pt x="133" y="164"/>
                  </a:lnTo>
                  <a:lnTo>
                    <a:pt x="109" y="226"/>
                  </a:lnTo>
                  <a:lnTo>
                    <a:pt x="87" y="287"/>
                  </a:lnTo>
                  <a:lnTo>
                    <a:pt x="68" y="342"/>
                  </a:lnTo>
                  <a:lnTo>
                    <a:pt x="59" y="367"/>
                  </a:lnTo>
                  <a:lnTo>
                    <a:pt x="52" y="389"/>
                  </a:lnTo>
                  <a:lnTo>
                    <a:pt x="47" y="407"/>
                  </a:lnTo>
                  <a:lnTo>
                    <a:pt x="44" y="422"/>
                  </a:lnTo>
                  <a:lnTo>
                    <a:pt x="38" y="471"/>
                  </a:lnTo>
                  <a:lnTo>
                    <a:pt x="30" y="557"/>
                  </a:lnTo>
                  <a:lnTo>
                    <a:pt x="21" y="668"/>
                  </a:lnTo>
                  <a:lnTo>
                    <a:pt x="12" y="795"/>
                  </a:lnTo>
                  <a:lnTo>
                    <a:pt x="8" y="861"/>
                  </a:lnTo>
                  <a:lnTo>
                    <a:pt x="5" y="926"/>
                  </a:lnTo>
                  <a:lnTo>
                    <a:pt x="2" y="992"/>
                  </a:lnTo>
                  <a:lnTo>
                    <a:pt x="1" y="1054"/>
                  </a:lnTo>
                  <a:lnTo>
                    <a:pt x="0" y="1112"/>
                  </a:lnTo>
                  <a:lnTo>
                    <a:pt x="1" y="1165"/>
                  </a:lnTo>
                  <a:lnTo>
                    <a:pt x="3" y="1212"/>
                  </a:lnTo>
                  <a:lnTo>
                    <a:pt x="6" y="1251"/>
                  </a:lnTo>
                  <a:lnTo>
                    <a:pt x="11" y="1284"/>
                  </a:lnTo>
                  <a:lnTo>
                    <a:pt x="15" y="1320"/>
                  </a:lnTo>
                  <a:lnTo>
                    <a:pt x="20" y="1359"/>
                  </a:lnTo>
                  <a:lnTo>
                    <a:pt x="24" y="1400"/>
                  </a:lnTo>
                  <a:lnTo>
                    <a:pt x="28" y="1441"/>
                  </a:lnTo>
                  <a:lnTo>
                    <a:pt x="32" y="1484"/>
                  </a:lnTo>
                  <a:lnTo>
                    <a:pt x="35" y="1527"/>
                  </a:lnTo>
                  <a:lnTo>
                    <a:pt x="38" y="1570"/>
                  </a:lnTo>
                  <a:lnTo>
                    <a:pt x="47" y="1583"/>
                  </a:lnTo>
                  <a:close/>
                </a:path>
              </a:pathLst>
            </a:custGeom>
            <a:solidFill>
              <a:srgbClr val="d8aa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3472560" y="3220920"/>
              <a:ext cx="636840" cy="628560"/>
            </a:xfrm>
            <a:custGeom>
              <a:avLst/>
              <a:gdLst/>
              <a:ahLst/>
              <a:rect l="l" t="t" r="r" b="b"/>
              <a:pathLst>
                <a:path w="1645" h="1623">
                  <a:moveTo>
                    <a:pt x="47" y="1583"/>
                  </a:moveTo>
                  <a:lnTo>
                    <a:pt x="1099" y="1619"/>
                  </a:lnTo>
                  <a:lnTo>
                    <a:pt x="1113" y="1623"/>
                  </a:lnTo>
                  <a:lnTo>
                    <a:pt x="1124" y="1606"/>
                  </a:lnTo>
                  <a:lnTo>
                    <a:pt x="1135" y="1588"/>
                  </a:lnTo>
                  <a:lnTo>
                    <a:pt x="1147" y="1572"/>
                  </a:lnTo>
                  <a:lnTo>
                    <a:pt x="1159" y="1556"/>
                  </a:lnTo>
                  <a:lnTo>
                    <a:pt x="1172" y="1539"/>
                  </a:lnTo>
                  <a:lnTo>
                    <a:pt x="1184" y="1524"/>
                  </a:lnTo>
                  <a:lnTo>
                    <a:pt x="1197" y="1508"/>
                  </a:lnTo>
                  <a:lnTo>
                    <a:pt x="1209" y="1491"/>
                  </a:lnTo>
                  <a:lnTo>
                    <a:pt x="1226" y="1471"/>
                  </a:lnTo>
                  <a:lnTo>
                    <a:pt x="1241" y="1450"/>
                  </a:lnTo>
                  <a:lnTo>
                    <a:pt x="1256" y="1427"/>
                  </a:lnTo>
                  <a:lnTo>
                    <a:pt x="1272" y="1403"/>
                  </a:lnTo>
                  <a:lnTo>
                    <a:pt x="1286" y="1378"/>
                  </a:lnTo>
                  <a:lnTo>
                    <a:pt x="1300" y="1352"/>
                  </a:lnTo>
                  <a:lnTo>
                    <a:pt x="1314" y="1325"/>
                  </a:lnTo>
                  <a:lnTo>
                    <a:pt x="1327" y="1299"/>
                  </a:lnTo>
                  <a:lnTo>
                    <a:pt x="1352" y="1243"/>
                  </a:lnTo>
                  <a:lnTo>
                    <a:pt x="1376" y="1186"/>
                  </a:lnTo>
                  <a:lnTo>
                    <a:pt x="1397" y="1130"/>
                  </a:lnTo>
                  <a:lnTo>
                    <a:pt x="1417" y="1076"/>
                  </a:lnTo>
                  <a:lnTo>
                    <a:pt x="1434" y="1024"/>
                  </a:lnTo>
                  <a:lnTo>
                    <a:pt x="1449" y="975"/>
                  </a:lnTo>
                  <a:lnTo>
                    <a:pt x="1463" y="931"/>
                  </a:lnTo>
                  <a:lnTo>
                    <a:pt x="1473" y="894"/>
                  </a:lnTo>
                  <a:lnTo>
                    <a:pt x="1488" y="838"/>
                  </a:lnTo>
                  <a:lnTo>
                    <a:pt x="1493" y="817"/>
                  </a:lnTo>
                  <a:lnTo>
                    <a:pt x="1496" y="806"/>
                  </a:lnTo>
                  <a:lnTo>
                    <a:pt x="1503" y="776"/>
                  </a:lnTo>
                  <a:lnTo>
                    <a:pt x="1514" y="733"/>
                  </a:lnTo>
                  <a:lnTo>
                    <a:pt x="1526" y="680"/>
                  </a:lnTo>
                  <a:lnTo>
                    <a:pt x="1539" y="625"/>
                  </a:lnTo>
                  <a:lnTo>
                    <a:pt x="1552" y="572"/>
                  </a:lnTo>
                  <a:lnTo>
                    <a:pt x="1563" y="528"/>
                  </a:lnTo>
                  <a:lnTo>
                    <a:pt x="1569" y="496"/>
                  </a:lnTo>
                  <a:lnTo>
                    <a:pt x="1571" y="486"/>
                  </a:lnTo>
                  <a:lnTo>
                    <a:pt x="1571" y="478"/>
                  </a:lnTo>
                  <a:lnTo>
                    <a:pt x="1571" y="471"/>
                  </a:lnTo>
                  <a:lnTo>
                    <a:pt x="1570" y="466"/>
                  </a:lnTo>
                  <a:lnTo>
                    <a:pt x="1568" y="459"/>
                  </a:lnTo>
                  <a:lnTo>
                    <a:pt x="1568" y="452"/>
                  </a:lnTo>
                  <a:lnTo>
                    <a:pt x="1568" y="448"/>
                  </a:lnTo>
                  <a:lnTo>
                    <a:pt x="1570" y="442"/>
                  </a:lnTo>
                  <a:lnTo>
                    <a:pt x="1573" y="434"/>
                  </a:lnTo>
                  <a:lnTo>
                    <a:pt x="1578" y="425"/>
                  </a:lnTo>
                  <a:lnTo>
                    <a:pt x="1593" y="396"/>
                  </a:lnTo>
                  <a:lnTo>
                    <a:pt x="1618" y="353"/>
                  </a:lnTo>
                  <a:lnTo>
                    <a:pt x="1622" y="347"/>
                  </a:lnTo>
                  <a:lnTo>
                    <a:pt x="1625" y="341"/>
                  </a:lnTo>
                  <a:lnTo>
                    <a:pt x="1628" y="334"/>
                  </a:lnTo>
                  <a:lnTo>
                    <a:pt x="1632" y="326"/>
                  </a:lnTo>
                  <a:lnTo>
                    <a:pt x="1635" y="318"/>
                  </a:lnTo>
                  <a:lnTo>
                    <a:pt x="1638" y="309"/>
                  </a:lnTo>
                  <a:lnTo>
                    <a:pt x="1641" y="301"/>
                  </a:lnTo>
                  <a:lnTo>
                    <a:pt x="1645" y="291"/>
                  </a:lnTo>
                  <a:lnTo>
                    <a:pt x="1620" y="281"/>
                  </a:lnTo>
                  <a:lnTo>
                    <a:pt x="205" y="0"/>
                  </a:lnTo>
                  <a:lnTo>
                    <a:pt x="204" y="1"/>
                  </a:lnTo>
                  <a:lnTo>
                    <a:pt x="203" y="3"/>
                  </a:lnTo>
                  <a:lnTo>
                    <a:pt x="202" y="5"/>
                  </a:lnTo>
                  <a:lnTo>
                    <a:pt x="201" y="7"/>
                  </a:lnTo>
                  <a:lnTo>
                    <a:pt x="199" y="10"/>
                  </a:lnTo>
                  <a:lnTo>
                    <a:pt x="198" y="12"/>
                  </a:lnTo>
                  <a:lnTo>
                    <a:pt x="196" y="15"/>
                  </a:lnTo>
                  <a:lnTo>
                    <a:pt x="195" y="19"/>
                  </a:lnTo>
                  <a:lnTo>
                    <a:pt x="178" y="57"/>
                  </a:lnTo>
                  <a:lnTo>
                    <a:pt x="156" y="107"/>
                  </a:lnTo>
                  <a:lnTo>
                    <a:pt x="133" y="164"/>
                  </a:lnTo>
                  <a:lnTo>
                    <a:pt x="109" y="226"/>
                  </a:lnTo>
                  <a:lnTo>
                    <a:pt x="87" y="287"/>
                  </a:lnTo>
                  <a:lnTo>
                    <a:pt x="68" y="342"/>
                  </a:lnTo>
                  <a:lnTo>
                    <a:pt x="59" y="367"/>
                  </a:lnTo>
                  <a:lnTo>
                    <a:pt x="52" y="389"/>
                  </a:lnTo>
                  <a:lnTo>
                    <a:pt x="47" y="407"/>
                  </a:lnTo>
                  <a:lnTo>
                    <a:pt x="44" y="422"/>
                  </a:lnTo>
                  <a:lnTo>
                    <a:pt x="38" y="471"/>
                  </a:lnTo>
                  <a:lnTo>
                    <a:pt x="30" y="557"/>
                  </a:lnTo>
                  <a:lnTo>
                    <a:pt x="21" y="668"/>
                  </a:lnTo>
                  <a:lnTo>
                    <a:pt x="12" y="795"/>
                  </a:lnTo>
                  <a:lnTo>
                    <a:pt x="8" y="861"/>
                  </a:lnTo>
                  <a:lnTo>
                    <a:pt x="5" y="926"/>
                  </a:lnTo>
                  <a:lnTo>
                    <a:pt x="2" y="992"/>
                  </a:lnTo>
                  <a:lnTo>
                    <a:pt x="1" y="1054"/>
                  </a:lnTo>
                  <a:lnTo>
                    <a:pt x="0" y="1112"/>
                  </a:lnTo>
                  <a:lnTo>
                    <a:pt x="1" y="1165"/>
                  </a:lnTo>
                  <a:lnTo>
                    <a:pt x="3" y="1212"/>
                  </a:lnTo>
                  <a:lnTo>
                    <a:pt x="6" y="1251"/>
                  </a:lnTo>
                  <a:lnTo>
                    <a:pt x="11" y="1284"/>
                  </a:lnTo>
                  <a:lnTo>
                    <a:pt x="15" y="1320"/>
                  </a:lnTo>
                  <a:lnTo>
                    <a:pt x="20" y="1359"/>
                  </a:lnTo>
                  <a:lnTo>
                    <a:pt x="24" y="1400"/>
                  </a:lnTo>
                  <a:lnTo>
                    <a:pt x="28" y="1441"/>
                  </a:lnTo>
                  <a:lnTo>
                    <a:pt x="32" y="1484"/>
                  </a:lnTo>
                  <a:lnTo>
                    <a:pt x="35" y="1527"/>
                  </a:lnTo>
                  <a:lnTo>
                    <a:pt x="38" y="1570"/>
                  </a:lnTo>
                  <a:lnTo>
                    <a:pt x="47" y="1583"/>
                  </a:lnTo>
                </a:path>
              </a:pathLst>
            </a:custGeom>
            <a:noFill/>
            <a:ln w="1440">
              <a:solidFill>
                <a:srgbClr val="d8aa9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3972240" y="3495600"/>
              <a:ext cx="290160" cy="83160"/>
            </a:xfrm>
            <a:custGeom>
              <a:avLst/>
              <a:gdLst/>
              <a:ahLst/>
              <a:rect l="l" t="t" r="r" b="b"/>
              <a:pathLst>
                <a:path w="752" h="217">
                  <a:moveTo>
                    <a:pt x="722" y="213"/>
                  </a:moveTo>
                  <a:lnTo>
                    <a:pt x="713" y="215"/>
                  </a:lnTo>
                  <a:lnTo>
                    <a:pt x="705" y="216"/>
                  </a:lnTo>
                  <a:lnTo>
                    <a:pt x="697" y="217"/>
                  </a:lnTo>
                  <a:lnTo>
                    <a:pt x="689" y="217"/>
                  </a:lnTo>
                  <a:lnTo>
                    <a:pt x="681" y="216"/>
                  </a:lnTo>
                  <a:lnTo>
                    <a:pt x="674" y="214"/>
                  </a:lnTo>
                  <a:lnTo>
                    <a:pt x="668" y="211"/>
                  </a:lnTo>
                  <a:lnTo>
                    <a:pt x="661" y="207"/>
                  </a:lnTo>
                  <a:lnTo>
                    <a:pt x="646" y="191"/>
                  </a:lnTo>
                  <a:lnTo>
                    <a:pt x="629" y="175"/>
                  </a:lnTo>
                  <a:lnTo>
                    <a:pt x="611" y="161"/>
                  </a:lnTo>
                  <a:lnTo>
                    <a:pt x="594" y="149"/>
                  </a:lnTo>
                  <a:lnTo>
                    <a:pt x="576" y="137"/>
                  </a:lnTo>
                  <a:lnTo>
                    <a:pt x="557" y="125"/>
                  </a:lnTo>
                  <a:lnTo>
                    <a:pt x="538" y="115"/>
                  </a:lnTo>
                  <a:lnTo>
                    <a:pt x="519" y="106"/>
                  </a:lnTo>
                  <a:lnTo>
                    <a:pt x="498" y="98"/>
                  </a:lnTo>
                  <a:lnTo>
                    <a:pt x="478" y="90"/>
                  </a:lnTo>
                  <a:lnTo>
                    <a:pt x="457" y="84"/>
                  </a:lnTo>
                  <a:lnTo>
                    <a:pt x="436" y="78"/>
                  </a:lnTo>
                  <a:lnTo>
                    <a:pt x="414" y="72"/>
                  </a:lnTo>
                  <a:lnTo>
                    <a:pt x="393" y="67"/>
                  </a:lnTo>
                  <a:lnTo>
                    <a:pt x="372" y="63"/>
                  </a:lnTo>
                  <a:lnTo>
                    <a:pt x="350" y="60"/>
                  </a:lnTo>
                  <a:lnTo>
                    <a:pt x="328" y="58"/>
                  </a:lnTo>
                  <a:lnTo>
                    <a:pt x="306" y="56"/>
                  </a:lnTo>
                  <a:lnTo>
                    <a:pt x="284" y="54"/>
                  </a:lnTo>
                  <a:lnTo>
                    <a:pt x="261" y="54"/>
                  </a:lnTo>
                  <a:lnTo>
                    <a:pt x="216" y="53"/>
                  </a:lnTo>
                  <a:lnTo>
                    <a:pt x="173" y="55"/>
                  </a:lnTo>
                  <a:lnTo>
                    <a:pt x="129" y="58"/>
                  </a:lnTo>
                  <a:lnTo>
                    <a:pt x="85" y="63"/>
                  </a:lnTo>
                  <a:lnTo>
                    <a:pt x="42" y="69"/>
                  </a:lnTo>
                  <a:lnTo>
                    <a:pt x="0" y="76"/>
                  </a:lnTo>
                  <a:lnTo>
                    <a:pt x="22" y="63"/>
                  </a:lnTo>
                  <a:lnTo>
                    <a:pt x="43" y="52"/>
                  </a:lnTo>
                  <a:lnTo>
                    <a:pt x="64" y="43"/>
                  </a:lnTo>
                  <a:lnTo>
                    <a:pt x="86" y="34"/>
                  </a:lnTo>
                  <a:lnTo>
                    <a:pt x="108" y="26"/>
                  </a:lnTo>
                  <a:lnTo>
                    <a:pt x="130" y="19"/>
                  </a:lnTo>
                  <a:lnTo>
                    <a:pt x="152" y="13"/>
                  </a:lnTo>
                  <a:lnTo>
                    <a:pt x="175" y="9"/>
                  </a:lnTo>
                  <a:lnTo>
                    <a:pt x="197" y="5"/>
                  </a:lnTo>
                  <a:lnTo>
                    <a:pt x="220" y="3"/>
                  </a:lnTo>
                  <a:lnTo>
                    <a:pt x="243" y="1"/>
                  </a:lnTo>
                  <a:lnTo>
                    <a:pt x="265" y="0"/>
                  </a:lnTo>
                  <a:lnTo>
                    <a:pt x="289" y="0"/>
                  </a:lnTo>
                  <a:lnTo>
                    <a:pt x="311" y="1"/>
                  </a:lnTo>
                  <a:lnTo>
                    <a:pt x="335" y="2"/>
                  </a:lnTo>
                  <a:lnTo>
                    <a:pt x="357" y="5"/>
                  </a:lnTo>
                  <a:lnTo>
                    <a:pt x="381" y="8"/>
                  </a:lnTo>
                  <a:lnTo>
                    <a:pt x="403" y="12"/>
                  </a:lnTo>
                  <a:lnTo>
                    <a:pt x="427" y="16"/>
                  </a:lnTo>
                  <a:lnTo>
                    <a:pt x="449" y="21"/>
                  </a:lnTo>
                  <a:lnTo>
                    <a:pt x="472" y="28"/>
                  </a:lnTo>
                  <a:lnTo>
                    <a:pt x="495" y="34"/>
                  </a:lnTo>
                  <a:lnTo>
                    <a:pt x="518" y="41"/>
                  </a:lnTo>
                  <a:lnTo>
                    <a:pt x="540" y="48"/>
                  </a:lnTo>
                  <a:lnTo>
                    <a:pt x="585" y="65"/>
                  </a:lnTo>
                  <a:lnTo>
                    <a:pt x="629" y="84"/>
                  </a:lnTo>
                  <a:lnTo>
                    <a:pt x="673" y="103"/>
                  </a:lnTo>
                  <a:lnTo>
                    <a:pt x="714" y="124"/>
                  </a:lnTo>
                  <a:lnTo>
                    <a:pt x="720" y="128"/>
                  </a:lnTo>
                  <a:lnTo>
                    <a:pt x="725" y="132"/>
                  </a:lnTo>
                  <a:lnTo>
                    <a:pt x="730" y="136"/>
                  </a:lnTo>
                  <a:lnTo>
                    <a:pt x="735" y="142"/>
                  </a:lnTo>
                  <a:lnTo>
                    <a:pt x="740" y="148"/>
                  </a:lnTo>
                  <a:lnTo>
                    <a:pt x="744" y="154"/>
                  </a:lnTo>
                  <a:lnTo>
                    <a:pt x="748" y="161"/>
                  </a:lnTo>
                  <a:lnTo>
                    <a:pt x="750" y="168"/>
                  </a:lnTo>
                  <a:lnTo>
                    <a:pt x="752" y="174"/>
                  </a:lnTo>
                  <a:lnTo>
                    <a:pt x="752" y="182"/>
                  </a:lnTo>
                  <a:lnTo>
                    <a:pt x="752" y="189"/>
                  </a:lnTo>
                  <a:lnTo>
                    <a:pt x="749" y="195"/>
                  </a:lnTo>
                  <a:lnTo>
                    <a:pt x="745" y="201"/>
                  </a:lnTo>
                  <a:lnTo>
                    <a:pt x="740" y="205"/>
                  </a:lnTo>
                  <a:lnTo>
                    <a:pt x="732" y="210"/>
                  </a:lnTo>
                  <a:lnTo>
                    <a:pt x="722" y="213"/>
                  </a:lnTo>
                  <a:close/>
                </a:path>
              </a:pathLst>
            </a:custGeom>
            <a:solidFill>
              <a:srgbClr val="b079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3972240" y="3495600"/>
              <a:ext cx="290160" cy="83160"/>
            </a:xfrm>
            <a:custGeom>
              <a:avLst/>
              <a:gdLst/>
              <a:ahLst/>
              <a:rect l="l" t="t" r="r" b="b"/>
              <a:pathLst>
                <a:path w="752" h="217">
                  <a:moveTo>
                    <a:pt x="722" y="213"/>
                  </a:moveTo>
                  <a:lnTo>
                    <a:pt x="713" y="215"/>
                  </a:lnTo>
                  <a:lnTo>
                    <a:pt x="705" y="216"/>
                  </a:lnTo>
                  <a:lnTo>
                    <a:pt x="697" y="217"/>
                  </a:lnTo>
                  <a:lnTo>
                    <a:pt x="689" y="217"/>
                  </a:lnTo>
                  <a:lnTo>
                    <a:pt x="681" y="216"/>
                  </a:lnTo>
                  <a:lnTo>
                    <a:pt x="674" y="214"/>
                  </a:lnTo>
                  <a:lnTo>
                    <a:pt x="668" y="211"/>
                  </a:lnTo>
                  <a:lnTo>
                    <a:pt x="661" y="207"/>
                  </a:lnTo>
                  <a:lnTo>
                    <a:pt x="646" y="191"/>
                  </a:lnTo>
                  <a:lnTo>
                    <a:pt x="629" y="175"/>
                  </a:lnTo>
                  <a:lnTo>
                    <a:pt x="611" y="161"/>
                  </a:lnTo>
                  <a:lnTo>
                    <a:pt x="594" y="149"/>
                  </a:lnTo>
                  <a:lnTo>
                    <a:pt x="576" y="137"/>
                  </a:lnTo>
                  <a:lnTo>
                    <a:pt x="557" y="125"/>
                  </a:lnTo>
                  <a:lnTo>
                    <a:pt x="538" y="115"/>
                  </a:lnTo>
                  <a:lnTo>
                    <a:pt x="519" y="106"/>
                  </a:lnTo>
                  <a:lnTo>
                    <a:pt x="498" y="98"/>
                  </a:lnTo>
                  <a:lnTo>
                    <a:pt x="478" y="90"/>
                  </a:lnTo>
                  <a:lnTo>
                    <a:pt x="457" y="84"/>
                  </a:lnTo>
                  <a:lnTo>
                    <a:pt x="436" y="78"/>
                  </a:lnTo>
                  <a:lnTo>
                    <a:pt x="414" y="72"/>
                  </a:lnTo>
                  <a:lnTo>
                    <a:pt x="393" y="67"/>
                  </a:lnTo>
                  <a:lnTo>
                    <a:pt x="372" y="63"/>
                  </a:lnTo>
                  <a:lnTo>
                    <a:pt x="350" y="60"/>
                  </a:lnTo>
                  <a:lnTo>
                    <a:pt x="328" y="58"/>
                  </a:lnTo>
                  <a:lnTo>
                    <a:pt x="306" y="56"/>
                  </a:lnTo>
                  <a:lnTo>
                    <a:pt x="284" y="54"/>
                  </a:lnTo>
                  <a:lnTo>
                    <a:pt x="261" y="54"/>
                  </a:lnTo>
                  <a:lnTo>
                    <a:pt x="216" y="53"/>
                  </a:lnTo>
                  <a:lnTo>
                    <a:pt x="173" y="55"/>
                  </a:lnTo>
                  <a:lnTo>
                    <a:pt x="129" y="58"/>
                  </a:lnTo>
                  <a:lnTo>
                    <a:pt x="85" y="63"/>
                  </a:lnTo>
                  <a:lnTo>
                    <a:pt x="42" y="69"/>
                  </a:lnTo>
                  <a:lnTo>
                    <a:pt x="0" y="76"/>
                  </a:lnTo>
                  <a:lnTo>
                    <a:pt x="22" y="63"/>
                  </a:lnTo>
                  <a:lnTo>
                    <a:pt x="43" y="52"/>
                  </a:lnTo>
                  <a:lnTo>
                    <a:pt x="64" y="43"/>
                  </a:lnTo>
                  <a:lnTo>
                    <a:pt x="86" y="34"/>
                  </a:lnTo>
                  <a:lnTo>
                    <a:pt x="108" y="26"/>
                  </a:lnTo>
                  <a:lnTo>
                    <a:pt x="130" y="19"/>
                  </a:lnTo>
                  <a:lnTo>
                    <a:pt x="152" y="13"/>
                  </a:lnTo>
                  <a:lnTo>
                    <a:pt x="175" y="9"/>
                  </a:lnTo>
                  <a:lnTo>
                    <a:pt x="197" y="5"/>
                  </a:lnTo>
                  <a:lnTo>
                    <a:pt x="220" y="3"/>
                  </a:lnTo>
                  <a:lnTo>
                    <a:pt x="243" y="1"/>
                  </a:lnTo>
                  <a:lnTo>
                    <a:pt x="265" y="0"/>
                  </a:lnTo>
                  <a:lnTo>
                    <a:pt x="289" y="0"/>
                  </a:lnTo>
                  <a:lnTo>
                    <a:pt x="311" y="1"/>
                  </a:lnTo>
                  <a:lnTo>
                    <a:pt x="335" y="2"/>
                  </a:lnTo>
                  <a:lnTo>
                    <a:pt x="357" y="5"/>
                  </a:lnTo>
                  <a:lnTo>
                    <a:pt x="381" y="8"/>
                  </a:lnTo>
                  <a:lnTo>
                    <a:pt x="403" y="12"/>
                  </a:lnTo>
                  <a:lnTo>
                    <a:pt x="427" y="16"/>
                  </a:lnTo>
                  <a:lnTo>
                    <a:pt x="449" y="21"/>
                  </a:lnTo>
                  <a:lnTo>
                    <a:pt x="472" y="28"/>
                  </a:lnTo>
                  <a:lnTo>
                    <a:pt x="495" y="34"/>
                  </a:lnTo>
                  <a:lnTo>
                    <a:pt x="518" y="41"/>
                  </a:lnTo>
                  <a:lnTo>
                    <a:pt x="540" y="48"/>
                  </a:lnTo>
                  <a:lnTo>
                    <a:pt x="585" y="65"/>
                  </a:lnTo>
                  <a:lnTo>
                    <a:pt x="629" y="84"/>
                  </a:lnTo>
                  <a:lnTo>
                    <a:pt x="673" y="103"/>
                  </a:lnTo>
                  <a:lnTo>
                    <a:pt x="714" y="124"/>
                  </a:lnTo>
                  <a:lnTo>
                    <a:pt x="720" y="128"/>
                  </a:lnTo>
                  <a:lnTo>
                    <a:pt x="725" y="132"/>
                  </a:lnTo>
                  <a:lnTo>
                    <a:pt x="730" y="136"/>
                  </a:lnTo>
                  <a:lnTo>
                    <a:pt x="735" y="142"/>
                  </a:lnTo>
                  <a:lnTo>
                    <a:pt x="740" y="148"/>
                  </a:lnTo>
                  <a:lnTo>
                    <a:pt x="744" y="154"/>
                  </a:lnTo>
                  <a:lnTo>
                    <a:pt x="748" y="161"/>
                  </a:lnTo>
                  <a:lnTo>
                    <a:pt x="750" y="168"/>
                  </a:lnTo>
                  <a:lnTo>
                    <a:pt x="752" y="174"/>
                  </a:lnTo>
                  <a:lnTo>
                    <a:pt x="752" y="182"/>
                  </a:lnTo>
                  <a:lnTo>
                    <a:pt x="752" y="189"/>
                  </a:lnTo>
                  <a:lnTo>
                    <a:pt x="749" y="195"/>
                  </a:lnTo>
                  <a:lnTo>
                    <a:pt x="745" y="201"/>
                  </a:lnTo>
                  <a:lnTo>
                    <a:pt x="740" y="205"/>
                  </a:lnTo>
                  <a:lnTo>
                    <a:pt x="732" y="210"/>
                  </a:lnTo>
                  <a:lnTo>
                    <a:pt x="722" y="213"/>
                  </a:lnTo>
                </a:path>
              </a:pathLst>
            </a:custGeom>
            <a:noFill/>
            <a:ln w="14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3933360" y="3662280"/>
              <a:ext cx="75240" cy="11160"/>
            </a:xfrm>
            <a:custGeom>
              <a:avLst/>
              <a:gdLst/>
              <a:ahLst/>
              <a:rect l="l" t="t" r="r" b="b"/>
              <a:pathLst>
                <a:path w="194" h="34">
                  <a:moveTo>
                    <a:pt x="194" y="34"/>
                  </a:moveTo>
                  <a:lnTo>
                    <a:pt x="184" y="28"/>
                  </a:lnTo>
                  <a:lnTo>
                    <a:pt x="172" y="23"/>
                  </a:lnTo>
                  <a:lnTo>
                    <a:pt x="160" y="18"/>
                  </a:lnTo>
                  <a:lnTo>
                    <a:pt x="148" y="15"/>
                  </a:lnTo>
                  <a:lnTo>
                    <a:pt x="136" y="12"/>
                  </a:lnTo>
                  <a:lnTo>
                    <a:pt x="124" y="9"/>
                  </a:lnTo>
                  <a:lnTo>
                    <a:pt x="111" y="7"/>
                  </a:lnTo>
                  <a:lnTo>
                    <a:pt x="98" y="5"/>
                  </a:lnTo>
                  <a:lnTo>
                    <a:pt x="74" y="3"/>
                  </a:lnTo>
                  <a:lnTo>
                    <a:pt x="48" y="1"/>
                  </a:lnTo>
                  <a:lnTo>
                    <a:pt x="24" y="1"/>
                  </a:lnTo>
                  <a:lnTo>
                    <a:pt x="0" y="0"/>
                  </a:lnTo>
                </a:path>
              </a:pathLst>
            </a:custGeom>
            <a:noFill/>
            <a:ln w="1440">
              <a:solidFill>
                <a:srgbClr val="6f57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3966480" y="3578760"/>
              <a:ext cx="52200" cy="42480"/>
            </a:xfrm>
            <a:custGeom>
              <a:avLst/>
              <a:gdLst/>
              <a:ahLst/>
              <a:rect l="l" t="t" r="r" b="b"/>
              <a:pathLst>
                <a:path w="136" h="112">
                  <a:moveTo>
                    <a:pt x="136" y="112"/>
                  </a:moveTo>
                  <a:lnTo>
                    <a:pt x="125" y="107"/>
                  </a:lnTo>
                  <a:lnTo>
                    <a:pt x="116" y="101"/>
                  </a:lnTo>
                  <a:lnTo>
                    <a:pt x="107" y="95"/>
                  </a:lnTo>
                  <a:lnTo>
                    <a:pt x="99" y="89"/>
                  </a:lnTo>
                  <a:lnTo>
                    <a:pt x="83" y="74"/>
                  </a:lnTo>
                  <a:lnTo>
                    <a:pt x="66" y="58"/>
                  </a:lnTo>
                  <a:lnTo>
                    <a:pt x="51" y="43"/>
                  </a:lnTo>
                  <a:lnTo>
                    <a:pt x="36" y="28"/>
                  </a:lnTo>
                  <a:lnTo>
                    <a:pt x="27" y="21"/>
                  </a:lnTo>
                  <a:lnTo>
                    <a:pt x="18" y="14"/>
                  </a:lnTo>
                  <a:lnTo>
                    <a:pt x="10" y="6"/>
                  </a:lnTo>
                  <a:lnTo>
                    <a:pt x="0" y="0"/>
                  </a:lnTo>
                </a:path>
              </a:pathLst>
            </a:custGeom>
            <a:noFill/>
            <a:ln w="1440">
              <a:solidFill>
                <a:srgbClr val="6f57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3437640" y="2849760"/>
              <a:ext cx="804960" cy="1512360"/>
            </a:xfrm>
            <a:custGeom>
              <a:avLst/>
              <a:gdLst/>
              <a:ahLst/>
              <a:rect l="l" t="t" r="r" b="b"/>
              <a:pathLst>
                <a:path w="2076" h="3912">
                  <a:moveTo>
                    <a:pt x="370" y="3904"/>
                  </a:moveTo>
                  <a:lnTo>
                    <a:pt x="332" y="3899"/>
                  </a:lnTo>
                  <a:lnTo>
                    <a:pt x="298" y="3893"/>
                  </a:lnTo>
                  <a:lnTo>
                    <a:pt x="267" y="3886"/>
                  </a:lnTo>
                  <a:lnTo>
                    <a:pt x="238" y="3877"/>
                  </a:lnTo>
                  <a:lnTo>
                    <a:pt x="212" y="3867"/>
                  </a:lnTo>
                  <a:lnTo>
                    <a:pt x="188" y="3857"/>
                  </a:lnTo>
                  <a:lnTo>
                    <a:pt x="167" y="3847"/>
                  </a:lnTo>
                  <a:lnTo>
                    <a:pt x="146" y="3835"/>
                  </a:lnTo>
                  <a:lnTo>
                    <a:pt x="129" y="3822"/>
                  </a:lnTo>
                  <a:lnTo>
                    <a:pt x="114" y="3810"/>
                  </a:lnTo>
                  <a:lnTo>
                    <a:pt x="99" y="3797"/>
                  </a:lnTo>
                  <a:lnTo>
                    <a:pt x="88" y="3784"/>
                  </a:lnTo>
                  <a:lnTo>
                    <a:pt x="77" y="3770"/>
                  </a:lnTo>
                  <a:lnTo>
                    <a:pt x="69" y="3756"/>
                  </a:lnTo>
                  <a:lnTo>
                    <a:pt x="61" y="3743"/>
                  </a:lnTo>
                  <a:lnTo>
                    <a:pt x="55" y="3728"/>
                  </a:lnTo>
                  <a:lnTo>
                    <a:pt x="49" y="3715"/>
                  </a:lnTo>
                  <a:lnTo>
                    <a:pt x="45" y="3702"/>
                  </a:lnTo>
                  <a:lnTo>
                    <a:pt x="42" y="3689"/>
                  </a:lnTo>
                  <a:lnTo>
                    <a:pt x="40" y="3676"/>
                  </a:lnTo>
                  <a:lnTo>
                    <a:pt x="39" y="3664"/>
                  </a:lnTo>
                  <a:lnTo>
                    <a:pt x="39" y="3653"/>
                  </a:lnTo>
                  <a:lnTo>
                    <a:pt x="38" y="3642"/>
                  </a:lnTo>
                  <a:lnTo>
                    <a:pt x="39" y="3632"/>
                  </a:lnTo>
                  <a:lnTo>
                    <a:pt x="43" y="3601"/>
                  </a:lnTo>
                  <a:lnTo>
                    <a:pt x="46" y="3589"/>
                  </a:lnTo>
                  <a:lnTo>
                    <a:pt x="46" y="3560"/>
                  </a:lnTo>
                  <a:lnTo>
                    <a:pt x="47" y="3484"/>
                  </a:lnTo>
                  <a:lnTo>
                    <a:pt x="49" y="3372"/>
                  </a:lnTo>
                  <a:lnTo>
                    <a:pt x="53" y="3244"/>
                  </a:lnTo>
                  <a:lnTo>
                    <a:pt x="55" y="3109"/>
                  </a:lnTo>
                  <a:lnTo>
                    <a:pt x="57" y="2985"/>
                  </a:lnTo>
                  <a:lnTo>
                    <a:pt x="58" y="2885"/>
                  </a:lnTo>
                  <a:lnTo>
                    <a:pt x="59" y="2824"/>
                  </a:lnTo>
                  <a:lnTo>
                    <a:pt x="58" y="2776"/>
                  </a:lnTo>
                  <a:lnTo>
                    <a:pt x="55" y="2709"/>
                  </a:lnTo>
                  <a:lnTo>
                    <a:pt x="49" y="2629"/>
                  </a:lnTo>
                  <a:lnTo>
                    <a:pt x="42" y="2540"/>
                  </a:lnTo>
                  <a:lnTo>
                    <a:pt x="35" y="2447"/>
                  </a:lnTo>
                  <a:lnTo>
                    <a:pt x="27" y="2356"/>
                  </a:lnTo>
                  <a:lnTo>
                    <a:pt x="18" y="2268"/>
                  </a:lnTo>
                  <a:lnTo>
                    <a:pt x="8" y="2191"/>
                  </a:lnTo>
                  <a:lnTo>
                    <a:pt x="6" y="2173"/>
                  </a:lnTo>
                  <a:lnTo>
                    <a:pt x="4" y="2153"/>
                  </a:lnTo>
                  <a:lnTo>
                    <a:pt x="3" y="2130"/>
                  </a:lnTo>
                  <a:lnTo>
                    <a:pt x="1" y="2106"/>
                  </a:lnTo>
                  <a:lnTo>
                    <a:pt x="0" y="2053"/>
                  </a:lnTo>
                  <a:lnTo>
                    <a:pt x="1" y="1994"/>
                  </a:lnTo>
                  <a:lnTo>
                    <a:pt x="3" y="1931"/>
                  </a:lnTo>
                  <a:lnTo>
                    <a:pt x="6" y="1867"/>
                  </a:lnTo>
                  <a:lnTo>
                    <a:pt x="9" y="1801"/>
                  </a:lnTo>
                  <a:lnTo>
                    <a:pt x="13" y="1734"/>
                  </a:lnTo>
                  <a:lnTo>
                    <a:pt x="22" y="1608"/>
                  </a:lnTo>
                  <a:lnTo>
                    <a:pt x="31" y="1496"/>
                  </a:lnTo>
                  <a:lnTo>
                    <a:pt x="39" y="1410"/>
                  </a:lnTo>
                  <a:lnTo>
                    <a:pt x="46" y="1361"/>
                  </a:lnTo>
                  <a:lnTo>
                    <a:pt x="49" y="1345"/>
                  </a:lnTo>
                  <a:lnTo>
                    <a:pt x="56" y="1323"/>
                  </a:lnTo>
                  <a:lnTo>
                    <a:pt x="63" y="1299"/>
                  </a:lnTo>
                  <a:lnTo>
                    <a:pt x="73" y="1271"/>
                  </a:lnTo>
                  <a:lnTo>
                    <a:pt x="95" y="1208"/>
                  </a:lnTo>
                  <a:lnTo>
                    <a:pt x="121" y="1141"/>
                  </a:lnTo>
                  <a:lnTo>
                    <a:pt x="147" y="1074"/>
                  </a:lnTo>
                  <a:lnTo>
                    <a:pt x="172" y="1015"/>
                  </a:lnTo>
                  <a:lnTo>
                    <a:pt x="192" y="969"/>
                  </a:lnTo>
                  <a:lnTo>
                    <a:pt x="207" y="941"/>
                  </a:lnTo>
                  <a:lnTo>
                    <a:pt x="215" y="925"/>
                  </a:lnTo>
                  <a:lnTo>
                    <a:pt x="222" y="908"/>
                  </a:lnTo>
                  <a:lnTo>
                    <a:pt x="229" y="890"/>
                  </a:lnTo>
                  <a:lnTo>
                    <a:pt x="236" y="868"/>
                  </a:lnTo>
                  <a:lnTo>
                    <a:pt x="242" y="847"/>
                  </a:lnTo>
                  <a:lnTo>
                    <a:pt x="248" y="822"/>
                  </a:lnTo>
                  <a:lnTo>
                    <a:pt x="254" y="798"/>
                  </a:lnTo>
                  <a:lnTo>
                    <a:pt x="259" y="771"/>
                  </a:lnTo>
                  <a:lnTo>
                    <a:pt x="268" y="717"/>
                  </a:lnTo>
                  <a:lnTo>
                    <a:pt x="276" y="660"/>
                  </a:lnTo>
                  <a:lnTo>
                    <a:pt x="283" y="602"/>
                  </a:lnTo>
                  <a:lnTo>
                    <a:pt x="289" y="545"/>
                  </a:lnTo>
                  <a:lnTo>
                    <a:pt x="293" y="489"/>
                  </a:lnTo>
                  <a:lnTo>
                    <a:pt x="297" y="436"/>
                  </a:lnTo>
                  <a:lnTo>
                    <a:pt x="300" y="388"/>
                  </a:lnTo>
                  <a:lnTo>
                    <a:pt x="303" y="345"/>
                  </a:lnTo>
                  <a:lnTo>
                    <a:pt x="306" y="283"/>
                  </a:lnTo>
                  <a:lnTo>
                    <a:pt x="306" y="260"/>
                  </a:lnTo>
                  <a:lnTo>
                    <a:pt x="305" y="258"/>
                  </a:lnTo>
                  <a:lnTo>
                    <a:pt x="304" y="254"/>
                  </a:lnTo>
                  <a:lnTo>
                    <a:pt x="303" y="251"/>
                  </a:lnTo>
                  <a:lnTo>
                    <a:pt x="302" y="248"/>
                  </a:lnTo>
                  <a:lnTo>
                    <a:pt x="302" y="244"/>
                  </a:lnTo>
                  <a:lnTo>
                    <a:pt x="303" y="241"/>
                  </a:lnTo>
                  <a:lnTo>
                    <a:pt x="305" y="237"/>
                  </a:lnTo>
                  <a:lnTo>
                    <a:pt x="307" y="234"/>
                  </a:lnTo>
                  <a:lnTo>
                    <a:pt x="311" y="231"/>
                  </a:lnTo>
                  <a:lnTo>
                    <a:pt x="316" y="228"/>
                  </a:lnTo>
                  <a:lnTo>
                    <a:pt x="323" y="226"/>
                  </a:lnTo>
                  <a:lnTo>
                    <a:pt x="331" y="224"/>
                  </a:lnTo>
                  <a:lnTo>
                    <a:pt x="342" y="223"/>
                  </a:lnTo>
                  <a:lnTo>
                    <a:pt x="355" y="222"/>
                  </a:lnTo>
                  <a:lnTo>
                    <a:pt x="375" y="227"/>
                  </a:lnTo>
                  <a:lnTo>
                    <a:pt x="393" y="233"/>
                  </a:lnTo>
                  <a:lnTo>
                    <a:pt x="411" y="240"/>
                  </a:lnTo>
                  <a:lnTo>
                    <a:pt x="428" y="247"/>
                  </a:lnTo>
                  <a:lnTo>
                    <a:pt x="443" y="254"/>
                  </a:lnTo>
                  <a:lnTo>
                    <a:pt x="458" y="262"/>
                  </a:lnTo>
                  <a:lnTo>
                    <a:pt x="472" y="272"/>
                  </a:lnTo>
                  <a:lnTo>
                    <a:pt x="484" y="281"/>
                  </a:lnTo>
                  <a:lnTo>
                    <a:pt x="496" y="290"/>
                  </a:lnTo>
                  <a:lnTo>
                    <a:pt x="507" y="300"/>
                  </a:lnTo>
                  <a:lnTo>
                    <a:pt x="517" y="309"/>
                  </a:lnTo>
                  <a:lnTo>
                    <a:pt x="527" y="320"/>
                  </a:lnTo>
                  <a:lnTo>
                    <a:pt x="535" y="330"/>
                  </a:lnTo>
                  <a:lnTo>
                    <a:pt x="543" y="340"/>
                  </a:lnTo>
                  <a:lnTo>
                    <a:pt x="551" y="350"/>
                  </a:lnTo>
                  <a:lnTo>
                    <a:pt x="557" y="360"/>
                  </a:lnTo>
                  <a:lnTo>
                    <a:pt x="568" y="380"/>
                  </a:lnTo>
                  <a:lnTo>
                    <a:pt x="577" y="398"/>
                  </a:lnTo>
                  <a:lnTo>
                    <a:pt x="583" y="415"/>
                  </a:lnTo>
                  <a:lnTo>
                    <a:pt x="588" y="431"/>
                  </a:lnTo>
                  <a:lnTo>
                    <a:pt x="594" y="452"/>
                  </a:lnTo>
                  <a:lnTo>
                    <a:pt x="595" y="460"/>
                  </a:lnTo>
                  <a:lnTo>
                    <a:pt x="598" y="457"/>
                  </a:lnTo>
                  <a:lnTo>
                    <a:pt x="606" y="448"/>
                  </a:lnTo>
                  <a:lnTo>
                    <a:pt x="617" y="435"/>
                  </a:lnTo>
                  <a:lnTo>
                    <a:pt x="632" y="418"/>
                  </a:lnTo>
                  <a:lnTo>
                    <a:pt x="650" y="398"/>
                  </a:lnTo>
                  <a:lnTo>
                    <a:pt x="668" y="377"/>
                  </a:lnTo>
                  <a:lnTo>
                    <a:pt x="688" y="356"/>
                  </a:lnTo>
                  <a:lnTo>
                    <a:pt x="708" y="336"/>
                  </a:lnTo>
                  <a:lnTo>
                    <a:pt x="719" y="326"/>
                  </a:lnTo>
                  <a:lnTo>
                    <a:pt x="730" y="317"/>
                  </a:lnTo>
                  <a:lnTo>
                    <a:pt x="740" y="309"/>
                  </a:lnTo>
                  <a:lnTo>
                    <a:pt x="750" y="302"/>
                  </a:lnTo>
                  <a:lnTo>
                    <a:pt x="758" y="297"/>
                  </a:lnTo>
                  <a:lnTo>
                    <a:pt x="766" y="294"/>
                  </a:lnTo>
                  <a:lnTo>
                    <a:pt x="771" y="291"/>
                  </a:lnTo>
                  <a:lnTo>
                    <a:pt x="775" y="290"/>
                  </a:lnTo>
                  <a:lnTo>
                    <a:pt x="789" y="285"/>
                  </a:lnTo>
                  <a:lnTo>
                    <a:pt x="814" y="274"/>
                  </a:lnTo>
                  <a:lnTo>
                    <a:pt x="847" y="257"/>
                  </a:lnTo>
                  <a:lnTo>
                    <a:pt x="888" y="237"/>
                  </a:lnTo>
                  <a:lnTo>
                    <a:pt x="935" y="212"/>
                  </a:lnTo>
                  <a:lnTo>
                    <a:pt x="987" y="186"/>
                  </a:lnTo>
                  <a:lnTo>
                    <a:pt x="1044" y="159"/>
                  </a:lnTo>
                  <a:lnTo>
                    <a:pt x="1104" y="131"/>
                  </a:lnTo>
                  <a:lnTo>
                    <a:pt x="1139" y="114"/>
                  </a:lnTo>
                  <a:lnTo>
                    <a:pt x="1175" y="96"/>
                  </a:lnTo>
                  <a:lnTo>
                    <a:pt x="1211" y="79"/>
                  </a:lnTo>
                  <a:lnTo>
                    <a:pt x="1248" y="64"/>
                  </a:lnTo>
                  <a:lnTo>
                    <a:pt x="1265" y="56"/>
                  </a:lnTo>
                  <a:lnTo>
                    <a:pt x="1283" y="49"/>
                  </a:lnTo>
                  <a:lnTo>
                    <a:pt x="1301" y="43"/>
                  </a:lnTo>
                  <a:lnTo>
                    <a:pt x="1319" y="38"/>
                  </a:lnTo>
                  <a:lnTo>
                    <a:pt x="1337" y="34"/>
                  </a:lnTo>
                  <a:lnTo>
                    <a:pt x="1355" y="30"/>
                  </a:lnTo>
                  <a:lnTo>
                    <a:pt x="1373" y="27"/>
                  </a:lnTo>
                  <a:lnTo>
                    <a:pt x="1390" y="26"/>
                  </a:lnTo>
                  <a:lnTo>
                    <a:pt x="1433" y="21"/>
                  </a:lnTo>
                  <a:lnTo>
                    <a:pt x="1471" y="16"/>
                  </a:lnTo>
                  <a:lnTo>
                    <a:pt x="1505" y="12"/>
                  </a:lnTo>
                  <a:lnTo>
                    <a:pt x="1534" y="6"/>
                  </a:lnTo>
                  <a:lnTo>
                    <a:pt x="1561" y="3"/>
                  </a:lnTo>
                  <a:lnTo>
                    <a:pt x="1583" y="0"/>
                  </a:lnTo>
                  <a:lnTo>
                    <a:pt x="1593" y="0"/>
                  </a:lnTo>
                  <a:lnTo>
                    <a:pt x="1604" y="0"/>
                  </a:lnTo>
                  <a:lnTo>
                    <a:pt x="1613" y="1"/>
                  </a:lnTo>
                  <a:lnTo>
                    <a:pt x="1621" y="2"/>
                  </a:lnTo>
                  <a:lnTo>
                    <a:pt x="1635" y="5"/>
                  </a:lnTo>
                  <a:lnTo>
                    <a:pt x="1649" y="11"/>
                  </a:lnTo>
                  <a:lnTo>
                    <a:pt x="1660" y="16"/>
                  </a:lnTo>
                  <a:lnTo>
                    <a:pt x="1670" y="22"/>
                  </a:lnTo>
                  <a:lnTo>
                    <a:pt x="1680" y="29"/>
                  </a:lnTo>
                  <a:lnTo>
                    <a:pt x="1688" y="36"/>
                  </a:lnTo>
                  <a:lnTo>
                    <a:pt x="1696" y="43"/>
                  </a:lnTo>
                  <a:lnTo>
                    <a:pt x="1702" y="50"/>
                  </a:lnTo>
                  <a:lnTo>
                    <a:pt x="1707" y="58"/>
                  </a:lnTo>
                  <a:lnTo>
                    <a:pt x="1711" y="66"/>
                  </a:lnTo>
                  <a:lnTo>
                    <a:pt x="1715" y="73"/>
                  </a:lnTo>
                  <a:lnTo>
                    <a:pt x="1717" y="80"/>
                  </a:lnTo>
                  <a:lnTo>
                    <a:pt x="1719" y="86"/>
                  </a:lnTo>
                  <a:lnTo>
                    <a:pt x="1719" y="91"/>
                  </a:lnTo>
                  <a:lnTo>
                    <a:pt x="1719" y="95"/>
                  </a:lnTo>
                  <a:lnTo>
                    <a:pt x="1719" y="99"/>
                  </a:lnTo>
                  <a:lnTo>
                    <a:pt x="1717" y="103"/>
                  </a:lnTo>
                  <a:lnTo>
                    <a:pt x="1717" y="107"/>
                  </a:lnTo>
                  <a:lnTo>
                    <a:pt x="1717" y="110"/>
                  </a:lnTo>
                  <a:lnTo>
                    <a:pt x="1718" y="113"/>
                  </a:lnTo>
                  <a:lnTo>
                    <a:pt x="1720" y="115"/>
                  </a:lnTo>
                  <a:lnTo>
                    <a:pt x="1723" y="117"/>
                  </a:lnTo>
                  <a:lnTo>
                    <a:pt x="1727" y="118"/>
                  </a:lnTo>
                  <a:lnTo>
                    <a:pt x="1731" y="119"/>
                  </a:lnTo>
                  <a:lnTo>
                    <a:pt x="1741" y="119"/>
                  </a:lnTo>
                  <a:lnTo>
                    <a:pt x="1755" y="119"/>
                  </a:lnTo>
                  <a:lnTo>
                    <a:pt x="1769" y="117"/>
                  </a:lnTo>
                  <a:lnTo>
                    <a:pt x="1784" y="115"/>
                  </a:lnTo>
                  <a:lnTo>
                    <a:pt x="1819" y="110"/>
                  </a:lnTo>
                  <a:lnTo>
                    <a:pt x="1854" y="106"/>
                  </a:lnTo>
                  <a:lnTo>
                    <a:pt x="1871" y="105"/>
                  </a:lnTo>
                  <a:lnTo>
                    <a:pt x="1887" y="105"/>
                  </a:lnTo>
                  <a:lnTo>
                    <a:pt x="1902" y="106"/>
                  </a:lnTo>
                  <a:lnTo>
                    <a:pt x="1915" y="109"/>
                  </a:lnTo>
                  <a:lnTo>
                    <a:pt x="1926" y="115"/>
                  </a:lnTo>
                  <a:lnTo>
                    <a:pt x="1935" y="120"/>
                  </a:lnTo>
                  <a:lnTo>
                    <a:pt x="1944" y="125"/>
                  </a:lnTo>
                  <a:lnTo>
                    <a:pt x="1951" y="131"/>
                  </a:lnTo>
                  <a:lnTo>
                    <a:pt x="1957" y="137"/>
                  </a:lnTo>
                  <a:lnTo>
                    <a:pt x="1961" y="143"/>
                  </a:lnTo>
                  <a:lnTo>
                    <a:pt x="1965" y="150"/>
                  </a:lnTo>
                  <a:lnTo>
                    <a:pt x="1967" y="157"/>
                  </a:lnTo>
                  <a:lnTo>
                    <a:pt x="1969" y="166"/>
                  </a:lnTo>
                  <a:lnTo>
                    <a:pt x="1970" y="173"/>
                  </a:lnTo>
                  <a:lnTo>
                    <a:pt x="1969" y="181"/>
                  </a:lnTo>
                  <a:lnTo>
                    <a:pt x="1969" y="188"/>
                  </a:lnTo>
                  <a:lnTo>
                    <a:pt x="1965" y="204"/>
                  </a:lnTo>
                  <a:lnTo>
                    <a:pt x="1960" y="220"/>
                  </a:lnTo>
                  <a:lnTo>
                    <a:pt x="1953" y="235"/>
                  </a:lnTo>
                  <a:lnTo>
                    <a:pt x="1946" y="249"/>
                  </a:lnTo>
                  <a:lnTo>
                    <a:pt x="1937" y="261"/>
                  </a:lnTo>
                  <a:lnTo>
                    <a:pt x="1929" y="273"/>
                  </a:lnTo>
                  <a:lnTo>
                    <a:pt x="1916" y="290"/>
                  </a:lnTo>
                  <a:lnTo>
                    <a:pt x="1911" y="296"/>
                  </a:lnTo>
                  <a:lnTo>
                    <a:pt x="1915" y="295"/>
                  </a:lnTo>
                  <a:lnTo>
                    <a:pt x="1925" y="292"/>
                  </a:lnTo>
                  <a:lnTo>
                    <a:pt x="1939" y="288"/>
                  </a:lnTo>
                  <a:lnTo>
                    <a:pt x="1957" y="284"/>
                  </a:lnTo>
                  <a:lnTo>
                    <a:pt x="1976" y="281"/>
                  </a:lnTo>
                  <a:lnTo>
                    <a:pt x="1994" y="280"/>
                  </a:lnTo>
                  <a:lnTo>
                    <a:pt x="2002" y="280"/>
                  </a:lnTo>
                  <a:lnTo>
                    <a:pt x="2010" y="281"/>
                  </a:lnTo>
                  <a:lnTo>
                    <a:pt x="2016" y="283"/>
                  </a:lnTo>
                  <a:lnTo>
                    <a:pt x="2021" y="285"/>
                  </a:lnTo>
                  <a:lnTo>
                    <a:pt x="2026" y="289"/>
                  </a:lnTo>
                  <a:lnTo>
                    <a:pt x="2031" y="293"/>
                  </a:lnTo>
                  <a:lnTo>
                    <a:pt x="2037" y="299"/>
                  </a:lnTo>
                  <a:lnTo>
                    <a:pt x="2044" y="306"/>
                  </a:lnTo>
                  <a:lnTo>
                    <a:pt x="2049" y="314"/>
                  </a:lnTo>
                  <a:lnTo>
                    <a:pt x="2054" y="325"/>
                  </a:lnTo>
                  <a:lnTo>
                    <a:pt x="2059" y="335"/>
                  </a:lnTo>
                  <a:lnTo>
                    <a:pt x="2062" y="346"/>
                  </a:lnTo>
                  <a:lnTo>
                    <a:pt x="2065" y="359"/>
                  </a:lnTo>
                  <a:lnTo>
                    <a:pt x="2065" y="373"/>
                  </a:lnTo>
                  <a:lnTo>
                    <a:pt x="2065" y="388"/>
                  </a:lnTo>
                  <a:lnTo>
                    <a:pt x="2062" y="403"/>
                  </a:lnTo>
                  <a:lnTo>
                    <a:pt x="2057" y="421"/>
                  </a:lnTo>
                  <a:lnTo>
                    <a:pt x="2050" y="438"/>
                  </a:lnTo>
                  <a:lnTo>
                    <a:pt x="2040" y="456"/>
                  </a:lnTo>
                  <a:lnTo>
                    <a:pt x="2027" y="476"/>
                  </a:lnTo>
                  <a:lnTo>
                    <a:pt x="2015" y="495"/>
                  </a:lnTo>
                  <a:lnTo>
                    <a:pt x="2004" y="512"/>
                  </a:lnTo>
                  <a:lnTo>
                    <a:pt x="1995" y="529"/>
                  </a:lnTo>
                  <a:lnTo>
                    <a:pt x="1986" y="542"/>
                  </a:lnTo>
                  <a:lnTo>
                    <a:pt x="1980" y="553"/>
                  </a:lnTo>
                  <a:lnTo>
                    <a:pt x="1976" y="561"/>
                  </a:lnTo>
                  <a:lnTo>
                    <a:pt x="1973" y="566"/>
                  </a:lnTo>
                  <a:lnTo>
                    <a:pt x="1972" y="568"/>
                  </a:lnTo>
                  <a:lnTo>
                    <a:pt x="1977" y="566"/>
                  </a:lnTo>
                  <a:lnTo>
                    <a:pt x="1991" y="561"/>
                  </a:lnTo>
                  <a:lnTo>
                    <a:pt x="2000" y="558"/>
                  </a:lnTo>
                  <a:lnTo>
                    <a:pt x="2010" y="556"/>
                  </a:lnTo>
                  <a:lnTo>
                    <a:pt x="2020" y="555"/>
                  </a:lnTo>
                  <a:lnTo>
                    <a:pt x="2031" y="555"/>
                  </a:lnTo>
                  <a:lnTo>
                    <a:pt x="2036" y="556"/>
                  </a:lnTo>
                  <a:lnTo>
                    <a:pt x="2041" y="557"/>
                  </a:lnTo>
                  <a:lnTo>
                    <a:pt x="2047" y="558"/>
                  </a:lnTo>
                  <a:lnTo>
                    <a:pt x="2051" y="560"/>
                  </a:lnTo>
                  <a:lnTo>
                    <a:pt x="2056" y="563"/>
                  </a:lnTo>
                  <a:lnTo>
                    <a:pt x="2060" y="566"/>
                  </a:lnTo>
                  <a:lnTo>
                    <a:pt x="2064" y="571"/>
                  </a:lnTo>
                  <a:lnTo>
                    <a:pt x="2067" y="576"/>
                  </a:lnTo>
                  <a:lnTo>
                    <a:pt x="2070" y="582"/>
                  </a:lnTo>
                  <a:lnTo>
                    <a:pt x="2072" y="588"/>
                  </a:lnTo>
                  <a:lnTo>
                    <a:pt x="2074" y="595"/>
                  </a:lnTo>
                  <a:lnTo>
                    <a:pt x="2075" y="603"/>
                  </a:lnTo>
                  <a:lnTo>
                    <a:pt x="2076" y="612"/>
                  </a:lnTo>
                  <a:lnTo>
                    <a:pt x="2076" y="623"/>
                  </a:lnTo>
                  <a:lnTo>
                    <a:pt x="2075" y="635"/>
                  </a:lnTo>
                  <a:lnTo>
                    <a:pt x="2074" y="647"/>
                  </a:lnTo>
                  <a:lnTo>
                    <a:pt x="2072" y="659"/>
                  </a:lnTo>
                  <a:lnTo>
                    <a:pt x="2069" y="676"/>
                  </a:lnTo>
                  <a:lnTo>
                    <a:pt x="2067" y="685"/>
                  </a:lnTo>
                  <a:lnTo>
                    <a:pt x="2064" y="696"/>
                  </a:lnTo>
                  <a:lnTo>
                    <a:pt x="2060" y="707"/>
                  </a:lnTo>
                  <a:lnTo>
                    <a:pt x="2055" y="719"/>
                  </a:lnTo>
                  <a:lnTo>
                    <a:pt x="2048" y="733"/>
                  </a:lnTo>
                  <a:lnTo>
                    <a:pt x="2038" y="746"/>
                  </a:lnTo>
                  <a:lnTo>
                    <a:pt x="2028" y="760"/>
                  </a:lnTo>
                  <a:lnTo>
                    <a:pt x="2016" y="775"/>
                  </a:lnTo>
                  <a:lnTo>
                    <a:pt x="2002" y="789"/>
                  </a:lnTo>
                  <a:lnTo>
                    <a:pt x="1984" y="804"/>
                  </a:lnTo>
                  <a:lnTo>
                    <a:pt x="1965" y="819"/>
                  </a:lnTo>
                  <a:lnTo>
                    <a:pt x="1943" y="835"/>
                  </a:lnTo>
                  <a:lnTo>
                    <a:pt x="1936" y="840"/>
                  </a:lnTo>
                  <a:lnTo>
                    <a:pt x="1929" y="846"/>
                  </a:lnTo>
                  <a:lnTo>
                    <a:pt x="1921" y="855"/>
                  </a:lnTo>
                  <a:lnTo>
                    <a:pt x="1913" y="865"/>
                  </a:lnTo>
                  <a:lnTo>
                    <a:pt x="1892" y="891"/>
                  </a:lnTo>
                  <a:lnTo>
                    <a:pt x="1869" y="919"/>
                  </a:lnTo>
                  <a:lnTo>
                    <a:pt x="1844" y="951"/>
                  </a:lnTo>
                  <a:lnTo>
                    <a:pt x="1816" y="983"/>
                  </a:lnTo>
                  <a:lnTo>
                    <a:pt x="1801" y="999"/>
                  </a:lnTo>
                  <a:lnTo>
                    <a:pt x="1786" y="1014"/>
                  </a:lnTo>
                  <a:lnTo>
                    <a:pt x="1772" y="1028"/>
                  </a:lnTo>
                  <a:lnTo>
                    <a:pt x="1757" y="1042"/>
                  </a:lnTo>
                  <a:lnTo>
                    <a:pt x="1740" y="1057"/>
                  </a:lnTo>
                  <a:lnTo>
                    <a:pt x="1726" y="1073"/>
                  </a:lnTo>
                  <a:lnTo>
                    <a:pt x="1714" y="1090"/>
                  </a:lnTo>
                  <a:lnTo>
                    <a:pt x="1703" y="1106"/>
                  </a:lnTo>
                  <a:lnTo>
                    <a:pt x="1692" y="1123"/>
                  </a:lnTo>
                  <a:lnTo>
                    <a:pt x="1683" y="1141"/>
                  </a:lnTo>
                  <a:lnTo>
                    <a:pt x="1675" y="1158"/>
                  </a:lnTo>
                  <a:lnTo>
                    <a:pt x="1667" y="1175"/>
                  </a:lnTo>
                  <a:lnTo>
                    <a:pt x="1654" y="1209"/>
                  </a:lnTo>
                  <a:lnTo>
                    <a:pt x="1642" y="1241"/>
                  </a:lnTo>
                  <a:lnTo>
                    <a:pt x="1636" y="1256"/>
                  </a:lnTo>
                  <a:lnTo>
                    <a:pt x="1631" y="1269"/>
                  </a:lnTo>
                  <a:lnTo>
                    <a:pt x="1625" y="1282"/>
                  </a:lnTo>
                  <a:lnTo>
                    <a:pt x="1619" y="1294"/>
                  </a:lnTo>
                  <a:lnTo>
                    <a:pt x="1595" y="1337"/>
                  </a:lnTo>
                  <a:lnTo>
                    <a:pt x="1579" y="1365"/>
                  </a:lnTo>
                  <a:lnTo>
                    <a:pt x="1574" y="1375"/>
                  </a:lnTo>
                  <a:lnTo>
                    <a:pt x="1571" y="1382"/>
                  </a:lnTo>
                  <a:lnTo>
                    <a:pt x="1569" y="1389"/>
                  </a:lnTo>
                  <a:lnTo>
                    <a:pt x="1568" y="1393"/>
                  </a:lnTo>
                  <a:lnTo>
                    <a:pt x="1569" y="1400"/>
                  </a:lnTo>
                  <a:lnTo>
                    <a:pt x="1570" y="1407"/>
                  </a:lnTo>
                  <a:lnTo>
                    <a:pt x="1571" y="1411"/>
                  </a:lnTo>
                  <a:lnTo>
                    <a:pt x="1571" y="1417"/>
                  </a:lnTo>
                  <a:lnTo>
                    <a:pt x="1570" y="1425"/>
                  </a:lnTo>
                  <a:lnTo>
                    <a:pt x="1568" y="1435"/>
                  </a:lnTo>
                  <a:lnTo>
                    <a:pt x="1562" y="1467"/>
                  </a:lnTo>
                  <a:lnTo>
                    <a:pt x="1553" y="1512"/>
                  </a:lnTo>
                  <a:lnTo>
                    <a:pt x="1540" y="1565"/>
                  </a:lnTo>
                  <a:lnTo>
                    <a:pt x="1527" y="1620"/>
                  </a:lnTo>
                  <a:lnTo>
                    <a:pt x="1515" y="1673"/>
                  </a:lnTo>
                  <a:lnTo>
                    <a:pt x="1505" y="1717"/>
                  </a:lnTo>
                  <a:lnTo>
                    <a:pt x="1498" y="1748"/>
                  </a:lnTo>
                  <a:lnTo>
                    <a:pt x="1494" y="1759"/>
                  </a:lnTo>
                  <a:lnTo>
                    <a:pt x="1489" y="1779"/>
                  </a:lnTo>
                  <a:lnTo>
                    <a:pt x="1474" y="1834"/>
                  </a:lnTo>
                  <a:lnTo>
                    <a:pt x="1464" y="1872"/>
                  </a:lnTo>
                  <a:lnTo>
                    <a:pt x="1451" y="1916"/>
                  </a:lnTo>
                  <a:lnTo>
                    <a:pt x="1435" y="1965"/>
                  </a:lnTo>
                  <a:lnTo>
                    <a:pt x="1418" y="2016"/>
                  </a:lnTo>
                  <a:lnTo>
                    <a:pt x="1398" y="2071"/>
                  </a:lnTo>
                  <a:lnTo>
                    <a:pt x="1376" y="2127"/>
                  </a:lnTo>
                  <a:lnTo>
                    <a:pt x="1353" y="2183"/>
                  </a:lnTo>
                  <a:lnTo>
                    <a:pt x="1327" y="2238"/>
                  </a:lnTo>
                  <a:lnTo>
                    <a:pt x="1314" y="2266"/>
                  </a:lnTo>
                  <a:lnTo>
                    <a:pt x="1301" y="2292"/>
                  </a:lnTo>
                  <a:lnTo>
                    <a:pt x="1286" y="2318"/>
                  </a:lnTo>
                  <a:lnTo>
                    <a:pt x="1272" y="2343"/>
                  </a:lnTo>
                  <a:lnTo>
                    <a:pt x="1257" y="2367"/>
                  </a:lnTo>
                  <a:lnTo>
                    <a:pt x="1241" y="2390"/>
                  </a:lnTo>
                  <a:lnTo>
                    <a:pt x="1225" y="2413"/>
                  </a:lnTo>
                  <a:lnTo>
                    <a:pt x="1209" y="2433"/>
                  </a:lnTo>
                  <a:lnTo>
                    <a:pt x="1177" y="2474"/>
                  </a:lnTo>
                  <a:lnTo>
                    <a:pt x="1145" y="2516"/>
                  </a:lnTo>
                  <a:lnTo>
                    <a:pt x="1115" y="2561"/>
                  </a:lnTo>
                  <a:lnTo>
                    <a:pt x="1085" y="2605"/>
                  </a:lnTo>
                  <a:lnTo>
                    <a:pt x="1057" y="2652"/>
                  </a:lnTo>
                  <a:lnTo>
                    <a:pt x="1029" y="2700"/>
                  </a:lnTo>
                  <a:lnTo>
                    <a:pt x="1004" y="2748"/>
                  </a:lnTo>
                  <a:lnTo>
                    <a:pt x="979" y="2796"/>
                  </a:lnTo>
                  <a:lnTo>
                    <a:pt x="956" y="2845"/>
                  </a:lnTo>
                  <a:lnTo>
                    <a:pt x="935" y="2894"/>
                  </a:lnTo>
                  <a:lnTo>
                    <a:pt x="916" y="2942"/>
                  </a:lnTo>
                  <a:lnTo>
                    <a:pt x="899" y="2989"/>
                  </a:lnTo>
                  <a:lnTo>
                    <a:pt x="883" y="3036"/>
                  </a:lnTo>
                  <a:lnTo>
                    <a:pt x="870" y="3082"/>
                  </a:lnTo>
                  <a:lnTo>
                    <a:pt x="865" y="3104"/>
                  </a:lnTo>
                  <a:lnTo>
                    <a:pt x="860" y="3126"/>
                  </a:lnTo>
                  <a:lnTo>
                    <a:pt x="856" y="3147"/>
                  </a:lnTo>
                  <a:lnTo>
                    <a:pt x="852" y="3168"/>
                  </a:lnTo>
                  <a:lnTo>
                    <a:pt x="845" y="3211"/>
                  </a:lnTo>
                  <a:lnTo>
                    <a:pt x="839" y="3256"/>
                  </a:lnTo>
                  <a:lnTo>
                    <a:pt x="834" y="3302"/>
                  </a:lnTo>
                  <a:lnTo>
                    <a:pt x="830" y="3349"/>
                  </a:lnTo>
                  <a:lnTo>
                    <a:pt x="827" y="3396"/>
                  </a:lnTo>
                  <a:lnTo>
                    <a:pt x="825" y="3442"/>
                  </a:lnTo>
                  <a:lnTo>
                    <a:pt x="823" y="3487"/>
                  </a:lnTo>
                  <a:lnTo>
                    <a:pt x="821" y="3530"/>
                  </a:lnTo>
                  <a:lnTo>
                    <a:pt x="820" y="3607"/>
                  </a:lnTo>
                  <a:lnTo>
                    <a:pt x="820" y="3668"/>
                  </a:lnTo>
                  <a:lnTo>
                    <a:pt x="820" y="3709"/>
                  </a:lnTo>
                  <a:lnTo>
                    <a:pt x="820" y="3724"/>
                  </a:lnTo>
                  <a:lnTo>
                    <a:pt x="820" y="3726"/>
                  </a:lnTo>
                  <a:lnTo>
                    <a:pt x="820" y="3735"/>
                  </a:lnTo>
                  <a:lnTo>
                    <a:pt x="820" y="3746"/>
                  </a:lnTo>
                  <a:lnTo>
                    <a:pt x="817" y="3760"/>
                  </a:lnTo>
                  <a:lnTo>
                    <a:pt x="815" y="3768"/>
                  </a:lnTo>
                  <a:lnTo>
                    <a:pt x="813" y="3777"/>
                  </a:lnTo>
                  <a:lnTo>
                    <a:pt x="809" y="3787"/>
                  </a:lnTo>
                  <a:lnTo>
                    <a:pt x="805" y="3796"/>
                  </a:lnTo>
                  <a:lnTo>
                    <a:pt x="799" y="3806"/>
                  </a:lnTo>
                  <a:lnTo>
                    <a:pt x="792" y="3815"/>
                  </a:lnTo>
                  <a:lnTo>
                    <a:pt x="784" y="3825"/>
                  </a:lnTo>
                  <a:lnTo>
                    <a:pt x="775" y="3836"/>
                  </a:lnTo>
                  <a:lnTo>
                    <a:pt x="765" y="3845"/>
                  </a:lnTo>
                  <a:lnTo>
                    <a:pt x="753" y="3854"/>
                  </a:lnTo>
                  <a:lnTo>
                    <a:pt x="739" y="3863"/>
                  </a:lnTo>
                  <a:lnTo>
                    <a:pt x="724" y="3872"/>
                  </a:lnTo>
                  <a:lnTo>
                    <a:pt x="707" y="3880"/>
                  </a:lnTo>
                  <a:lnTo>
                    <a:pt x="687" y="3888"/>
                  </a:lnTo>
                  <a:lnTo>
                    <a:pt x="667" y="3894"/>
                  </a:lnTo>
                  <a:lnTo>
                    <a:pt x="643" y="3900"/>
                  </a:lnTo>
                  <a:lnTo>
                    <a:pt x="618" y="3905"/>
                  </a:lnTo>
                  <a:lnTo>
                    <a:pt x="590" y="3908"/>
                  </a:lnTo>
                  <a:lnTo>
                    <a:pt x="560" y="3911"/>
                  </a:lnTo>
                  <a:lnTo>
                    <a:pt x="527" y="3912"/>
                  </a:lnTo>
                  <a:lnTo>
                    <a:pt x="492" y="3912"/>
                  </a:lnTo>
                  <a:lnTo>
                    <a:pt x="454" y="3911"/>
                  </a:lnTo>
                  <a:lnTo>
                    <a:pt x="413" y="3908"/>
                  </a:lnTo>
                  <a:lnTo>
                    <a:pt x="370" y="3904"/>
                  </a:lnTo>
                  <a:close/>
                </a:path>
              </a:pathLst>
            </a:custGeom>
            <a:solidFill>
              <a:srgbClr val="f9d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3437640" y="2849760"/>
              <a:ext cx="804960" cy="1512360"/>
            </a:xfrm>
            <a:custGeom>
              <a:avLst/>
              <a:gdLst/>
              <a:ahLst/>
              <a:rect l="l" t="t" r="r" b="b"/>
              <a:pathLst>
                <a:path w="2076" h="3912">
                  <a:moveTo>
                    <a:pt x="370" y="3904"/>
                  </a:moveTo>
                  <a:lnTo>
                    <a:pt x="332" y="3899"/>
                  </a:lnTo>
                  <a:lnTo>
                    <a:pt x="298" y="3893"/>
                  </a:lnTo>
                  <a:lnTo>
                    <a:pt x="267" y="3886"/>
                  </a:lnTo>
                  <a:lnTo>
                    <a:pt x="238" y="3877"/>
                  </a:lnTo>
                  <a:lnTo>
                    <a:pt x="212" y="3867"/>
                  </a:lnTo>
                  <a:lnTo>
                    <a:pt x="188" y="3857"/>
                  </a:lnTo>
                  <a:lnTo>
                    <a:pt x="167" y="3847"/>
                  </a:lnTo>
                  <a:lnTo>
                    <a:pt x="146" y="3835"/>
                  </a:lnTo>
                  <a:lnTo>
                    <a:pt x="129" y="3822"/>
                  </a:lnTo>
                  <a:lnTo>
                    <a:pt x="114" y="3810"/>
                  </a:lnTo>
                  <a:lnTo>
                    <a:pt x="99" y="3797"/>
                  </a:lnTo>
                  <a:lnTo>
                    <a:pt x="88" y="3784"/>
                  </a:lnTo>
                  <a:lnTo>
                    <a:pt x="77" y="3770"/>
                  </a:lnTo>
                  <a:lnTo>
                    <a:pt x="69" y="3756"/>
                  </a:lnTo>
                  <a:lnTo>
                    <a:pt x="61" y="3743"/>
                  </a:lnTo>
                  <a:lnTo>
                    <a:pt x="55" y="3728"/>
                  </a:lnTo>
                  <a:lnTo>
                    <a:pt x="49" y="3715"/>
                  </a:lnTo>
                  <a:lnTo>
                    <a:pt x="45" y="3702"/>
                  </a:lnTo>
                  <a:lnTo>
                    <a:pt x="42" y="3689"/>
                  </a:lnTo>
                  <a:lnTo>
                    <a:pt x="40" y="3676"/>
                  </a:lnTo>
                  <a:lnTo>
                    <a:pt x="39" y="3664"/>
                  </a:lnTo>
                  <a:lnTo>
                    <a:pt x="39" y="3653"/>
                  </a:lnTo>
                  <a:lnTo>
                    <a:pt x="38" y="3642"/>
                  </a:lnTo>
                  <a:lnTo>
                    <a:pt x="39" y="3632"/>
                  </a:lnTo>
                  <a:lnTo>
                    <a:pt x="43" y="3601"/>
                  </a:lnTo>
                  <a:lnTo>
                    <a:pt x="46" y="3589"/>
                  </a:lnTo>
                  <a:lnTo>
                    <a:pt x="46" y="3560"/>
                  </a:lnTo>
                  <a:lnTo>
                    <a:pt x="47" y="3484"/>
                  </a:lnTo>
                  <a:lnTo>
                    <a:pt x="49" y="3372"/>
                  </a:lnTo>
                  <a:lnTo>
                    <a:pt x="53" y="3244"/>
                  </a:lnTo>
                  <a:lnTo>
                    <a:pt x="55" y="3109"/>
                  </a:lnTo>
                  <a:lnTo>
                    <a:pt x="57" y="2985"/>
                  </a:lnTo>
                  <a:lnTo>
                    <a:pt x="58" y="2885"/>
                  </a:lnTo>
                  <a:lnTo>
                    <a:pt x="59" y="2824"/>
                  </a:lnTo>
                  <a:lnTo>
                    <a:pt x="58" y="2776"/>
                  </a:lnTo>
                  <a:lnTo>
                    <a:pt x="55" y="2709"/>
                  </a:lnTo>
                  <a:lnTo>
                    <a:pt x="49" y="2629"/>
                  </a:lnTo>
                  <a:lnTo>
                    <a:pt x="42" y="2540"/>
                  </a:lnTo>
                  <a:lnTo>
                    <a:pt x="35" y="2447"/>
                  </a:lnTo>
                  <a:lnTo>
                    <a:pt x="27" y="2356"/>
                  </a:lnTo>
                  <a:lnTo>
                    <a:pt x="18" y="2268"/>
                  </a:lnTo>
                  <a:lnTo>
                    <a:pt x="8" y="2191"/>
                  </a:lnTo>
                  <a:lnTo>
                    <a:pt x="6" y="2173"/>
                  </a:lnTo>
                  <a:lnTo>
                    <a:pt x="4" y="2153"/>
                  </a:lnTo>
                  <a:lnTo>
                    <a:pt x="3" y="2130"/>
                  </a:lnTo>
                  <a:lnTo>
                    <a:pt x="1" y="2106"/>
                  </a:lnTo>
                  <a:lnTo>
                    <a:pt x="0" y="2053"/>
                  </a:lnTo>
                  <a:lnTo>
                    <a:pt x="1" y="1994"/>
                  </a:lnTo>
                  <a:lnTo>
                    <a:pt x="3" y="1931"/>
                  </a:lnTo>
                  <a:lnTo>
                    <a:pt x="6" y="1867"/>
                  </a:lnTo>
                  <a:lnTo>
                    <a:pt x="9" y="1801"/>
                  </a:lnTo>
                  <a:lnTo>
                    <a:pt x="13" y="1734"/>
                  </a:lnTo>
                  <a:lnTo>
                    <a:pt x="22" y="1608"/>
                  </a:lnTo>
                  <a:lnTo>
                    <a:pt x="31" y="1496"/>
                  </a:lnTo>
                  <a:lnTo>
                    <a:pt x="39" y="1410"/>
                  </a:lnTo>
                  <a:lnTo>
                    <a:pt x="46" y="1361"/>
                  </a:lnTo>
                  <a:lnTo>
                    <a:pt x="49" y="1345"/>
                  </a:lnTo>
                  <a:lnTo>
                    <a:pt x="56" y="1323"/>
                  </a:lnTo>
                  <a:lnTo>
                    <a:pt x="63" y="1299"/>
                  </a:lnTo>
                  <a:lnTo>
                    <a:pt x="73" y="1271"/>
                  </a:lnTo>
                  <a:lnTo>
                    <a:pt x="95" y="1208"/>
                  </a:lnTo>
                  <a:lnTo>
                    <a:pt x="121" y="1141"/>
                  </a:lnTo>
                  <a:lnTo>
                    <a:pt x="147" y="1074"/>
                  </a:lnTo>
                  <a:lnTo>
                    <a:pt x="172" y="1015"/>
                  </a:lnTo>
                  <a:lnTo>
                    <a:pt x="192" y="969"/>
                  </a:lnTo>
                  <a:lnTo>
                    <a:pt x="207" y="941"/>
                  </a:lnTo>
                  <a:lnTo>
                    <a:pt x="215" y="925"/>
                  </a:lnTo>
                  <a:lnTo>
                    <a:pt x="222" y="908"/>
                  </a:lnTo>
                  <a:lnTo>
                    <a:pt x="229" y="890"/>
                  </a:lnTo>
                  <a:lnTo>
                    <a:pt x="236" y="868"/>
                  </a:lnTo>
                  <a:lnTo>
                    <a:pt x="242" y="847"/>
                  </a:lnTo>
                  <a:lnTo>
                    <a:pt x="248" y="822"/>
                  </a:lnTo>
                  <a:lnTo>
                    <a:pt x="254" y="798"/>
                  </a:lnTo>
                  <a:lnTo>
                    <a:pt x="259" y="771"/>
                  </a:lnTo>
                  <a:lnTo>
                    <a:pt x="268" y="717"/>
                  </a:lnTo>
                  <a:lnTo>
                    <a:pt x="276" y="660"/>
                  </a:lnTo>
                  <a:lnTo>
                    <a:pt x="283" y="602"/>
                  </a:lnTo>
                  <a:lnTo>
                    <a:pt x="289" y="545"/>
                  </a:lnTo>
                  <a:lnTo>
                    <a:pt x="293" y="489"/>
                  </a:lnTo>
                  <a:lnTo>
                    <a:pt x="297" y="436"/>
                  </a:lnTo>
                  <a:lnTo>
                    <a:pt x="300" y="388"/>
                  </a:lnTo>
                  <a:lnTo>
                    <a:pt x="303" y="345"/>
                  </a:lnTo>
                  <a:lnTo>
                    <a:pt x="306" y="283"/>
                  </a:lnTo>
                  <a:lnTo>
                    <a:pt x="306" y="260"/>
                  </a:lnTo>
                  <a:lnTo>
                    <a:pt x="305" y="258"/>
                  </a:lnTo>
                  <a:lnTo>
                    <a:pt x="304" y="254"/>
                  </a:lnTo>
                  <a:lnTo>
                    <a:pt x="303" y="251"/>
                  </a:lnTo>
                  <a:lnTo>
                    <a:pt x="302" y="248"/>
                  </a:lnTo>
                  <a:lnTo>
                    <a:pt x="302" y="244"/>
                  </a:lnTo>
                  <a:lnTo>
                    <a:pt x="303" y="241"/>
                  </a:lnTo>
                  <a:lnTo>
                    <a:pt x="305" y="237"/>
                  </a:lnTo>
                  <a:lnTo>
                    <a:pt x="307" y="234"/>
                  </a:lnTo>
                  <a:lnTo>
                    <a:pt x="311" y="231"/>
                  </a:lnTo>
                  <a:lnTo>
                    <a:pt x="316" y="228"/>
                  </a:lnTo>
                  <a:lnTo>
                    <a:pt x="323" y="226"/>
                  </a:lnTo>
                  <a:lnTo>
                    <a:pt x="331" y="224"/>
                  </a:lnTo>
                  <a:lnTo>
                    <a:pt x="342" y="223"/>
                  </a:lnTo>
                  <a:lnTo>
                    <a:pt x="355" y="222"/>
                  </a:lnTo>
                  <a:lnTo>
                    <a:pt x="375" y="227"/>
                  </a:lnTo>
                  <a:lnTo>
                    <a:pt x="393" y="233"/>
                  </a:lnTo>
                  <a:lnTo>
                    <a:pt x="411" y="240"/>
                  </a:lnTo>
                  <a:lnTo>
                    <a:pt x="428" y="247"/>
                  </a:lnTo>
                  <a:lnTo>
                    <a:pt x="443" y="254"/>
                  </a:lnTo>
                  <a:lnTo>
                    <a:pt x="458" y="262"/>
                  </a:lnTo>
                  <a:lnTo>
                    <a:pt x="472" y="272"/>
                  </a:lnTo>
                  <a:lnTo>
                    <a:pt x="484" y="281"/>
                  </a:lnTo>
                  <a:lnTo>
                    <a:pt x="496" y="290"/>
                  </a:lnTo>
                  <a:lnTo>
                    <a:pt x="507" y="300"/>
                  </a:lnTo>
                  <a:lnTo>
                    <a:pt x="517" y="309"/>
                  </a:lnTo>
                  <a:lnTo>
                    <a:pt x="527" y="320"/>
                  </a:lnTo>
                  <a:lnTo>
                    <a:pt x="535" y="330"/>
                  </a:lnTo>
                  <a:lnTo>
                    <a:pt x="543" y="340"/>
                  </a:lnTo>
                  <a:lnTo>
                    <a:pt x="551" y="350"/>
                  </a:lnTo>
                  <a:lnTo>
                    <a:pt x="557" y="360"/>
                  </a:lnTo>
                  <a:lnTo>
                    <a:pt x="568" y="380"/>
                  </a:lnTo>
                  <a:lnTo>
                    <a:pt x="577" y="398"/>
                  </a:lnTo>
                  <a:lnTo>
                    <a:pt x="583" y="415"/>
                  </a:lnTo>
                  <a:lnTo>
                    <a:pt x="588" y="431"/>
                  </a:lnTo>
                  <a:lnTo>
                    <a:pt x="594" y="452"/>
                  </a:lnTo>
                  <a:lnTo>
                    <a:pt x="595" y="460"/>
                  </a:lnTo>
                  <a:lnTo>
                    <a:pt x="598" y="457"/>
                  </a:lnTo>
                  <a:lnTo>
                    <a:pt x="606" y="448"/>
                  </a:lnTo>
                  <a:lnTo>
                    <a:pt x="617" y="435"/>
                  </a:lnTo>
                  <a:lnTo>
                    <a:pt x="632" y="418"/>
                  </a:lnTo>
                  <a:lnTo>
                    <a:pt x="650" y="398"/>
                  </a:lnTo>
                  <a:lnTo>
                    <a:pt x="668" y="377"/>
                  </a:lnTo>
                  <a:lnTo>
                    <a:pt x="688" y="356"/>
                  </a:lnTo>
                  <a:lnTo>
                    <a:pt x="708" y="336"/>
                  </a:lnTo>
                  <a:lnTo>
                    <a:pt x="719" y="326"/>
                  </a:lnTo>
                  <a:lnTo>
                    <a:pt x="730" y="317"/>
                  </a:lnTo>
                  <a:lnTo>
                    <a:pt x="740" y="309"/>
                  </a:lnTo>
                  <a:lnTo>
                    <a:pt x="750" y="302"/>
                  </a:lnTo>
                  <a:lnTo>
                    <a:pt x="758" y="297"/>
                  </a:lnTo>
                  <a:lnTo>
                    <a:pt x="766" y="294"/>
                  </a:lnTo>
                  <a:lnTo>
                    <a:pt x="771" y="291"/>
                  </a:lnTo>
                  <a:lnTo>
                    <a:pt x="775" y="290"/>
                  </a:lnTo>
                  <a:lnTo>
                    <a:pt x="789" y="285"/>
                  </a:lnTo>
                  <a:lnTo>
                    <a:pt x="814" y="274"/>
                  </a:lnTo>
                  <a:lnTo>
                    <a:pt x="847" y="257"/>
                  </a:lnTo>
                  <a:lnTo>
                    <a:pt x="888" y="237"/>
                  </a:lnTo>
                  <a:lnTo>
                    <a:pt x="935" y="212"/>
                  </a:lnTo>
                  <a:lnTo>
                    <a:pt x="987" y="186"/>
                  </a:lnTo>
                  <a:lnTo>
                    <a:pt x="1044" y="159"/>
                  </a:lnTo>
                  <a:lnTo>
                    <a:pt x="1104" y="131"/>
                  </a:lnTo>
                  <a:lnTo>
                    <a:pt x="1139" y="114"/>
                  </a:lnTo>
                  <a:lnTo>
                    <a:pt x="1175" y="96"/>
                  </a:lnTo>
                  <a:lnTo>
                    <a:pt x="1211" y="79"/>
                  </a:lnTo>
                  <a:lnTo>
                    <a:pt x="1248" y="64"/>
                  </a:lnTo>
                  <a:lnTo>
                    <a:pt x="1265" y="56"/>
                  </a:lnTo>
                  <a:lnTo>
                    <a:pt x="1283" y="49"/>
                  </a:lnTo>
                  <a:lnTo>
                    <a:pt x="1301" y="43"/>
                  </a:lnTo>
                  <a:lnTo>
                    <a:pt x="1319" y="38"/>
                  </a:lnTo>
                  <a:lnTo>
                    <a:pt x="1337" y="34"/>
                  </a:lnTo>
                  <a:lnTo>
                    <a:pt x="1355" y="30"/>
                  </a:lnTo>
                  <a:lnTo>
                    <a:pt x="1373" y="27"/>
                  </a:lnTo>
                  <a:lnTo>
                    <a:pt x="1390" y="26"/>
                  </a:lnTo>
                  <a:lnTo>
                    <a:pt x="1433" y="21"/>
                  </a:lnTo>
                  <a:lnTo>
                    <a:pt x="1471" y="16"/>
                  </a:lnTo>
                  <a:lnTo>
                    <a:pt x="1505" y="12"/>
                  </a:lnTo>
                  <a:lnTo>
                    <a:pt x="1534" y="6"/>
                  </a:lnTo>
                  <a:lnTo>
                    <a:pt x="1561" y="3"/>
                  </a:lnTo>
                  <a:lnTo>
                    <a:pt x="1583" y="0"/>
                  </a:lnTo>
                  <a:lnTo>
                    <a:pt x="1593" y="0"/>
                  </a:lnTo>
                  <a:lnTo>
                    <a:pt x="1604" y="0"/>
                  </a:lnTo>
                  <a:lnTo>
                    <a:pt x="1613" y="1"/>
                  </a:lnTo>
                  <a:lnTo>
                    <a:pt x="1621" y="2"/>
                  </a:lnTo>
                  <a:lnTo>
                    <a:pt x="1635" y="5"/>
                  </a:lnTo>
                  <a:lnTo>
                    <a:pt x="1649" y="11"/>
                  </a:lnTo>
                  <a:lnTo>
                    <a:pt x="1660" y="16"/>
                  </a:lnTo>
                  <a:lnTo>
                    <a:pt x="1670" y="22"/>
                  </a:lnTo>
                  <a:lnTo>
                    <a:pt x="1680" y="29"/>
                  </a:lnTo>
                  <a:lnTo>
                    <a:pt x="1688" y="36"/>
                  </a:lnTo>
                  <a:lnTo>
                    <a:pt x="1696" y="43"/>
                  </a:lnTo>
                  <a:lnTo>
                    <a:pt x="1702" y="50"/>
                  </a:lnTo>
                  <a:lnTo>
                    <a:pt x="1707" y="58"/>
                  </a:lnTo>
                  <a:lnTo>
                    <a:pt x="1711" y="66"/>
                  </a:lnTo>
                  <a:lnTo>
                    <a:pt x="1715" y="73"/>
                  </a:lnTo>
                  <a:lnTo>
                    <a:pt x="1717" y="80"/>
                  </a:lnTo>
                  <a:lnTo>
                    <a:pt x="1719" y="86"/>
                  </a:lnTo>
                  <a:lnTo>
                    <a:pt x="1719" y="91"/>
                  </a:lnTo>
                  <a:lnTo>
                    <a:pt x="1719" y="95"/>
                  </a:lnTo>
                  <a:lnTo>
                    <a:pt x="1719" y="99"/>
                  </a:lnTo>
                  <a:lnTo>
                    <a:pt x="1717" y="103"/>
                  </a:lnTo>
                  <a:lnTo>
                    <a:pt x="1717" y="107"/>
                  </a:lnTo>
                  <a:lnTo>
                    <a:pt x="1717" y="110"/>
                  </a:lnTo>
                  <a:lnTo>
                    <a:pt x="1718" y="113"/>
                  </a:lnTo>
                  <a:lnTo>
                    <a:pt x="1720" y="115"/>
                  </a:lnTo>
                  <a:lnTo>
                    <a:pt x="1723" y="117"/>
                  </a:lnTo>
                  <a:lnTo>
                    <a:pt x="1727" y="118"/>
                  </a:lnTo>
                  <a:lnTo>
                    <a:pt x="1731" y="119"/>
                  </a:lnTo>
                  <a:lnTo>
                    <a:pt x="1741" y="119"/>
                  </a:lnTo>
                  <a:lnTo>
                    <a:pt x="1755" y="119"/>
                  </a:lnTo>
                  <a:lnTo>
                    <a:pt x="1769" y="117"/>
                  </a:lnTo>
                  <a:lnTo>
                    <a:pt x="1784" y="115"/>
                  </a:lnTo>
                  <a:lnTo>
                    <a:pt x="1819" y="110"/>
                  </a:lnTo>
                  <a:lnTo>
                    <a:pt x="1854" y="106"/>
                  </a:lnTo>
                  <a:lnTo>
                    <a:pt x="1871" y="105"/>
                  </a:lnTo>
                  <a:lnTo>
                    <a:pt x="1887" y="105"/>
                  </a:lnTo>
                  <a:lnTo>
                    <a:pt x="1902" y="106"/>
                  </a:lnTo>
                  <a:lnTo>
                    <a:pt x="1915" y="109"/>
                  </a:lnTo>
                  <a:lnTo>
                    <a:pt x="1926" y="115"/>
                  </a:lnTo>
                  <a:lnTo>
                    <a:pt x="1935" y="120"/>
                  </a:lnTo>
                  <a:lnTo>
                    <a:pt x="1944" y="125"/>
                  </a:lnTo>
                  <a:lnTo>
                    <a:pt x="1951" y="131"/>
                  </a:lnTo>
                  <a:lnTo>
                    <a:pt x="1957" y="137"/>
                  </a:lnTo>
                  <a:lnTo>
                    <a:pt x="1961" y="143"/>
                  </a:lnTo>
                  <a:lnTo>
                    <a:pt x="1965" y="150"/>
                  </a:lnTo>
                  <a:lnTo>
                    <a:pt x="1967" y="157"/>
                  </a:lnTo>
                  <a:lnTo>
                    <a:pt x="1969" y="166"/>
                  </a:lnTo>
                  <a:lnTo>
                    <a:pt x="1970" y="173"/>
                  </a:lnTo>
                  <a:lnTo>
                    <a:pt x="1969" y="181"/>
                  </a:lnTo>
                  <a:lnTo>
                    <a:pt x="1969" y="188"/>
                  </a:lnTo>
                  <a:lnTo>
                    <a:pt x="1965" y="204"/>
                  </a:lnTo>
                  <a:lnTo>
                    <a:pt x="1960" y="220"/>
                  </a:lnTo>
                  <a:lnTo>
                    <a:pt x="1953" y="235"/>
                  </a:lnTo>
                  <a:lnTo>
                    <a:pt x="1946" y="249"/>
                  </a:lnTo>
                  <a:lnTo>
                    <a:pt x="1937" y="261"/>
                  </a:lnTo>
                  <a:lnTo>
                    <a:pt x="1929" y="273"/>
                  </a:lnTo>
                  <a:lnTo>
                    <a:pt x="1916" y="290"/>
                  </a:lnTo>
                  <a:lnTo>
                    <a:pt x="1911" y="296"/>
                  </a:lnTo>
                  <a:lnTo>
                    <a:pt x="1915" y="295"/>
                  </a:lnTo>
                  <a:lnTo>
                    <a:pt x="1925" y="292"/>
                  </a:lnTo>
                  <a:lnTo>
                    <a:pt x="1939" y="288"/>
                  </a:lnTo>
                  <a:lnTo>
                    <a:pt x="1957" y="284"/>
                  </a:lnTo>
                  <a:lnTo>
                    <a:pt x="1976" y="281"/>
                  </a:lnTo>
                  <a:lnTo>
                    <a:pt x="1994" y="280"/>
                  </a:lnTo>
                  <a:lnTo>
                    <a:pt x="2002" y="280"/>
                  </a:lnTo>
                  <a:lnTo>
                    <a:pt x="2010" y="281"/>
                  </a:lnTo>
                  <a:lnTo>
                    <a:pt x="2016" y="283"/>
                  </a:lnTo>
                  <a:lnTo>
                    <a:pt x="2021" y="285"/>
                  </a:lnTo>
                  <a:lnTo>
                    <a:pt x="2026" y="289"/>
                  </a:lnTo>
                  <a:lnTo>
                    <a:pt x="2031" y="293"/>
                  </a:lnTo>
                  <a:lnTo>
                    <a:pt x="2037" y="299"/>
                  </a:lnTo>
                  <a:lnTo>
                    <a:pt x="2044" y="306"/>
                  </a:lnTo>
                  <a:lnTo>
                    <a:pt x="2049" y="314"/>
                  </a:lnTo>
                  <a:lnTo>
                    <a:pt x="2054" y="325"/>
                  </a:lnTo>
                  <a:lnTo>
                    <a:pt x="2059" y="335"/>
                  </a:lnTo>
                  <a:lnTo>
                    <a:pt x="2062" y="346"/>
                  </a:lnTo>
                  <a:lnTo>
                    <a:pt x="2065" y="359"/>
                  </a:lnTo>
                  <a:lnTo>
                    <a:pt x="2065" y="373"/>
                  </a:lnTo>
                  <a:lnTo>
                    <a:pt x="2065" y="388"/>
                  </a:lnTo>
                  <a:lnTo>
                    <a:pt x="2062" y="403"/>
                  </a:lnTo>
                  <a:lnTo>
                    <a:pt x="2057" y="421"/>
                  </a:lnTo>
                  <a:lnTo>
                    <a:pt x="2050" y="438"/>
                  </a:lnTo>
                  <a:lnTo>
                    <a:pt x="2040" y="456"/>
                  </a:lnTo>
                  <a:lnTo>
                    <a:pt x="2027" y="476"/>
                  </a:lnTo>
                  <a:lnTo>
                    <a:pt x="2015" y="495"/>
                  </a:lnTo>
                  <a:lnTo>
                    <a:pt x="2004" y="512"/>
                  </a:lnTo>
                  <a:lnTo>
                    <a:pt x="1995" y="529"/>
                  </a:lnTo>
                  <a:lnTo>
                    <a:pt x="1986" y="542"/>
                  </a:lnTo>
                  <a:lnTo>
                    <a:pt x="1980" y="553"/>
                  </a:lnTo>
                  <a:lnTo>
                    <a:pt x="1976" y="561"/>
                  </a:lnTo>
                  <a:lnTo>
                    <a:pt x="1973" y="566"/>
                  </a:lnTo>
                  <a:lnTo>
                    <a:pt x="1972" y="568"/>
                  </a:lnTo>
                  <a:lnTo>
                    <a:pt x="1977" y="566"/>
                  </a:lnTo>
                  <a:lnTo>
                    <a:pt x="1991" y="561"/>
                  </a:lnTo>
                  <a:lnTo>
                    <a:pt x="2000" y="558"/>
                  </a:lnTo>
                  <a:lnTo>
                    <a:pt x="2010" y="556"/>
                  </a:lnTo>
                  <a:lnTo>
                    <a:pt x="2020" y="555"/>
                  </a:lnTo>
                  <a:lnTo>
                    <a:pt x="2031" y="555"/>
                  </a:lnTo>
                  <a:lnTo>
                    <a:pt x="2036" y="556"/>
                  </a:lnTo>
                  <a:lnTo>
                    <a:pt x="2041" y="557"/>
                  </a:lnTo>
                  <a:lnTo>
                    <a:pt x="2047" y="558"/>
                  </a:lnTo>
                  <a:lnTo>
                    <a:pt x="2051" y="560"/>
                  </a:lnTo>
                  <a:lnTo>
                    <a:pt x="2056" y="563"/>
                  </a:lnTo>
                  <a:lnTo>
                    <a:pt x="2060" y="566"/>
                  </a:lnTo>
                  <a:lnTo>
                    <a:pt x="2064" y="571"/>
                  </a:lnTo>
                  <a:lnTo>
                    <a:pt x="2067" y="576"/>
                  </a:lnTo>
                  <a:lnTo>
                    <a:pt x="2070" y="582"/>
                  </a:lnTo>
                  <a:lnTo>
                    <a:pt x="2072" y="588"/>
                  </a:lnTo>
                  <a:lnTo>
                    <a:pt x="2074" y="595"/>
                  </a:lnTo>
                  <a:lnTo>
                    <a:pt x="2075" y="603"/>
                  </a:lnTo>
                  <a:lnTo>
                    <a:pt x="2076" y="612"/>
                  </a:lnTo>
                  <a:lnTo>
                    <a:pt x="2076" y="623"/>
                  </a:lnTo>
                  <a:lnTo>
                    <a:pt x="2075" y="635"/>
                  </a:lnTo>
                  <a:lnTo>
                    <a:pt x="2074" y="647"/>
                  </a:lnTo>
                  <a:lnTo>
                    <a:pt x="2072" y="659"/>
                  </a:lnTo>
                  <a:lnTo>
                    <a:pt x="2069" y="676"/>
                  </a:lnTo>
                  <a:lnTo>
                    <a:pt x="2067" y="685"/>
                  </a:lnTo>
                  <a:lnTo>
                    <a:pt x="2064" y="696"/>
                  </a:lnTo>
                  <a:lnTo>
                    <a:pt x="2060" y="707"/>
                  </a:lnTo>
                  <a:lnTo>
                    <a:pt x="2055" y="719"/>
                  </a:lnTo>
                  <a:lnTo>
                    <a:pt x="2048" y="733"/>
                  </a:lnTo>
                  <a:lnTo>
                    <a:pt x="2038" y="746"/>
                  </a:lnTo>
                  <a:lnTo>
                    <a:pt x="2028" y="760"/>
                  </a:lnTo>
                  <a:lnTo>
                    <a:pt x="2016" y="775"/>
                  </a:lnTo>
                  <a:lnTo>
                    <a:pt x="2002" y="789"/>
                  </a:lnTo>
                  <a:lnTo>
                    <a:pt x="1984" y="804"/>
                  </a:lnTo>
                  <a:lnTo>
                    <a:pt x="1965" y="819"/>
                  </a:lnTo>
                  <a:lnTo>
                    <a:pt x="1943" y="835"/>
                  </a:lnTo>
                  <a:lnTo>
                    <a:pt x="1936" y="840"/>
                  </a:lnTo>
                  <a:lnTo>
                    <a:pt x="1929" y="846"/>
                  </a:lnTo>
                  <a:lnTo>
                    <a:pt x="1921" y="855"/>
                  </a:lnTo>
                  <a:lnTo>
                    <a:pt x="1913" y="865"/>
                  </a:lnTo>
                  <a:lnTo>
                    <a:pt x="1892" y="891"/>
                  </a:lnTo>
                  <a:lnTo>
                    <a:pt x="1869" y="919"/>
                  </a:lnTo>
                  <a:lnTo>
                    <a:pt x="1844" y="951"/>
                  </a:lnTo>
                  <a:lnTo>
                    <a:pt x="1816" y="983"/>
                  </a:lnTo>
                  <a:lnTo>
                    <a:pt x="1801" y="999"/>
                  </a:lnTo>
                  <a:lnTo>
                    <a:pt x="1786" y="1014"/>
                  </a:lnTo>
                  <a:lnTo>
                    <a:pt x="1772" y="1028"/>
                  </a:lnTo>
                  <a:lnTo>
                    <a:pt x="1757" y="1042"/>
                  </a:lnTo>
                  <a:lnTo>
                    <a:pt x="1740" y="1057"/>
                  </a:lnTo>
                  <a:lnTo>
                    <a:pt x="1726" y="1073"/>
                  </a:lnTo>
                  <a:lnTo>
                    <a:pt x="1714" y="1090"/>
                  </a:lnTo>
                  <a:lnTo>
                    <a:pt x="1703" y="1106"/>
                  </a:lnTo>
                  <a:lnTo>
                    <a:pt x="1692" y="1123"/>
                  </a:lnTo>
                  <a:lnTo>
                    <a:pt x="1683" y="1141"/>
                  </a:lnTo>
                  <a:lnTo>
                    <a:pt x="1675" y="1158"/>
                  </a:lnTo>
                  <a:lnTo>
                    <a:pt x="1667" y="1175"/>
                  </a:lnTo>
                  <a:lnTo>
                    <a:pt x="1654" y="1209"/>
                  </a:lnTo>
                  <a:lnTo>
                    <a:pt x="1642" y="1241"/>
                  </a:lnTo>
                  <a:lnTo>
                    <a:pt x="1636" y="1256"/>
                  </a:lnTo>
                  <a:lnTo>
                    <a:pt x="1631" y="1269"/>
                  </a:lnTo>
                  <a:lnTo>
                    <a:pt x="1625" y="1282"/>
                  </a:lnTo>
                  <a:lnTo>
                    <a:pt x="1619" y="1294"/>
                  </a:lnTo>
                  <a:lnTo>
                    <a:pt x="1595" y="1337"/>
                  </a:lnTo>
                  <a:lnTo>
                    <a:pt x="1579" y="1365"/>
                  </a:lnTo>
                  <a:lnTo>
                    <a:pt x="1574" y="1375"/>
                  </a:lnTo>
                  <a:lnTo>
                    <a:pt x="1571" y="1382"/>
                  </a:lnTo>
                  <a:lnTo>
                    <a:pt x="1569" y="1389"/>
                  </a:lnTo>
                  <a:lnTo>
                    <a:pt x="1568" y="1393"/>
                  </a:lnTo>
                  <a:lnTo>
                    <a:pt x="1569" y="1400"/>
                  </a:lnTo>
                  <a:lnTo>
                    <a:pt x="1570" y="1407"/>
                  </a:lnTo>
                  <a:lnTo>
                    <a:pt x="1571" y="1411"/>
                  </a:lnTo>
                  <a:lnTo>
                    <a:pt x="1571" y="1417"/>
                  </a:lnTo>
                  <a:lnTo>
                    <a:pt x="1570" y="1425"/>
                  </a:lnTo>
                  <a:lnTo>
                    <a:pt x="1568" y="1435"/>
                  </a:lnTo>
                  <a:lnTo>
                    <a:pt x="1562" y="1467"/>
                  </a:lnTo>
                  <a:lnTo>
                    <a:pt x="1553" y="1512"/>
                  </a:lnTo>
                  <a:lnTo>
                    <a:pt x="1540" y="1565"/>
                  </a:lnTo>
                  <a:lnTo>
                    <a:pt x="1527" y="1620"/>
                  </a:lnTo>
                  <a:lnTo>
                    <a:pt x="1515" y="1673"/>
                  </a:lnTo>
                  <a:lnTo>
                    <a:pt x="1505" y="1717"/>
                  </a:lnTo>
                  <a:lnTo>
                    <a:pt x="1498" y="1748"/>
                  </a:lnTo>
                  <a:lnTo>
                    <a:pt x="1494" y="1759"/>
                  </a:lnTo>
                  <a:lnTo>
                    <a:pt x="1489" y="1779"/>
                  </a:lnTo>
                  <a:lnTo>
                    <a:pt x="1474" y="1834"/>
                  </a:lnTo>
                  <a:lnTo>
                    <a:pt x="1464" y="1872"/>
                  </a:lnTo>
                  <a:lnTo>
                    <a:pt x="1451" y="1916"/>
                  </a:lnTo>
                  <a:lnTo>
                    <a:pt x="1435" y="1965"/>
                  </a:lnTo>
                  <a:lnTo>
                    <a:pt x="1418" y="2016"/>
                  </a:lnTo>
                  <a:lnTo>
                    <a:pt x="1398" y="2071"/>
                  </a:lnTo>
                  <a:lnTo>
                    <a:pt x="1376" y="2127"/>
                  </a:lnTo>
                  <a:lnTo>
                    <a:pt x="1353" y="2183"/>
                  </a:lnTo>
                  <a:lnTo>
                    <a:pt x="1327" y="2238"/>
                  </a:lnTo>
                  <a:lnTo>
                    <a:pt x="1314" y="2266"/>
                  </a:lnTo>
                  <a:lnTo>
                    <a:pt x="1301" y="2292"/>
                  </a:lnTo>
                  <a:lnTo>
                    <a:pt x="1286" y="2318"/>
                  </a:lnTo>
                  <a:lnTo>
                    <a:pt x="1272" y="2343"/>
                  </a:lnTo>
                  <a:lnTo>
                    <a:pt x="1257" y="2367"/>
                  </a:lnTo>
                  <a:lnTo>
                    <a:pt x="1241" y="2390"/>
                  </a:lnTo>
                  <a:lnTo>
                    <a:pt x="1225" y="2413"/>
                  </a:lnTo>
                  <a:lnTo>
                    <a:pt x="1209" y="2433"/>
                  </a:lnTo>
                  <a:lnTo>
                    <a:pt x="1177" y="2474"/>
                  </a:lnTo>
                  <a:lnTo>
                    <a:pt x="1145" y="2516"/>
                  </a:lnTo>
                  <a:lnTo>
                    <a:pt x="1115" y="2561"/>
                  </a:lnTo>
                  <a:lnTo>
                    <a:pt x="1085" y="2605"/>
                  </a:lnTo>
                  <a:lnTo>
                    <a:pt x="1057" y="2652"/>
                  </a:lnTo>
                  <a:lnTo>
                    <a:pt x="1029" y="2700"/>
                  </a:lnTo>
                  <a:lnTo>
                    <a:pt x="1004" y="2748"/>
                  </a:lnTo>
                  <a:lnTo>
                    <a:pt x="979" y="2796"/>
                  </a:lnTo>
                  <a:lnTo>
                    <a:pt x="956" y="2845"/>
                  </a:lnTo>
                  <a:lnTo>
                    <a:pt x="935" y="2894"/>
                  </a:lnTo>
                  <a:lnTo>
                    <a:pt x="916" y="2942"/>
                  </a:lnTo>
                  <a:lnTo>
                    <a:pt x="899" y="2989"/>
                  </a:lnTo>
                  <a:lnTo>
                    <a:pt x="883" y="3036"/>
                  </a:lnTo>
                  <a:lnTo>
                    <a:pt x="870" y="3082"/>
                  </a:lnTo>
                  <a:lnTo>
                    <a:pt x="865" y="3104"/>
                  </a:lnTo>
                  <a:lnTo>
                    <a:pt x="860" y="3126"/>
                  </a:lnTo>
                  <a:lnTo>
                    <a:pt x="856" y="3147"/>
                  </a:lnTo>
                  <a:lnTo>
                    <a:pt x="852" y="3168"/>
                  </a:lnTo>
                  <a:lnTo>
                    <a:pt x="845" y="3211"/>
                  </a:lnTo>
                  <a:lnTo>
                    <a:pt x="839" y="3256"/>
                  </a:lnTo>
                  <a:lnTo>
                    <a:pt x="834" y="3302"/>
                  </a:lnTo>
                  <a:lnTo>
                    <a:pt x="830" y="3349"/>
                  </a:lnTo>
                  <a:lnTo>
                    <a:pt x="827" y="3396"/>
                  </a:lnTo>
                  <a:lnTo>
                    <a:pt x="825" y="3442"/>
                  </a:lnTo>
                  <a:lnTo>
                    <a:pt x="823" y="3487"/>
                  </a:lnTo>
                  <a:lnTo>
                    <a:pt x="821" y="3530"/>
                  </a:lnTo>
                  <a:lnTo>
                    <a:pt x="820" y="3607"/>
                  </a:lnTo>
                  <a:lnTo>
                    <a:pt x="820" y="3668"/>
                  </a:lnTo>
                  <a:lnTo>
                    <a:pt x="820" y="3709"/>
                  </a:lnTo>
                  <a:lnTo>
                    <a:pt x="820" y="3724"/>
                  </a:lnTo>
                  <a:lnTo>
                    <a:pt x="820" y="3726"/>
                  </a:lnTo>
                  <a:lnTo>
                    <a:pt x="820" y="3735"/>
                  </a:lnTo>
                  <a:lnTo>
                    <a:pt x="820" y="3746"/>
                  </a:lnTo>
                  <a:lnTo>
                    <a:pt x="817" y="3760"/>
                  </a:lnTo>
                  <a:lnTo>
                    <a:pt x="815" y="3768"/>
                  </a:lnTo>
                  <a:lnTo>
                    <a:pt x="813" y="3777"/>
                  </a:lnTo>
                  <a:lnTo>
                    <a:pt x="809" y="3787"/>
                  </a:lnTo>
                  <a:lnTo>
                    <a:pt x="805" y="3796"/>
                  </a:lnTo>
                  <a:lnTo>
                    <a:pt x="799" y="3806"/>
                  </a:lnTo>
                  <a:lnTo>
                    <a:pt x="792" y="3815"/>
                  </a:lnTo>
                  <a:lnTo>
                    <a:pt x="784" y="3825"/>
                  </a:lnTo>
                  <a:lnTo>
                    <a:pt x="775" y="3836"/>
                  </a:lnTo>
                  <a:lnTo>
                    <a:pt x="765" y="3845"/>
                  </a:lnTo>
                  <a:lnTo>
                    <a:pt x="753" y="3854"/>
                  </a:lnTo>
                  <a:lnTo>
                    <a:pt x="739" y="3863"/>
                  </a:lnTo>
                  <a:lnTo>
                    <a:pt x="724" y="3872"/>
                  </a:lnTo>
                  <a:lnTo>
                    <a:pt x="707" y="3880"/>
                  </a:lnTo>
                  <a:lnTo>
                    <a:pt x="687" y="3888"/>
                  </a:lnTo>
                  <a:lnTo>
                    <a:pt x="667" y="3894"/>
                  </a:lnTo>
                  <a:lnTo>
                    <a:pt x="643" y="3900"/>
                  </a:lnTo>
                  <a:lnTo>
                    <a:pt x="618" y="3905"/>
                  </a:lnTo>
                  <a:lnTo>
                    <a:pt x="590" y="3908"/>
                  </a:lnTo>
                  <a:lnTo>
                    <a:pt x="560" y="3911"/>
                  </a:lnTo>
                  <a:lnTo>
                    <a:pt x="527" y="3912"/>
                  </a:lnTo>
                  <a:lnTo>
                    <a:pt x="492" y="3912"/>
                  </a:lnTo>
                  <a:lnTo>
                    <a:pt x="454" y="3911"/>
                  </a:lnTo>
                  <a:lnTo>
                    <a:pt x="413" y="3908"/>
                  </a:lnTo>
                  <a:lnTo>
                    <a:pt x="370" y="3904"/>
                  </a:lnTo>
                </a:path>
              </a:pathLst>
            </a:custGeom>
            <a:noFill/>
            <a:ln w="46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3724560" y="2892600"/>
              <a:ext cx="376920" cy="336240"/>
            </a:xfrm>
            <a:custGeom>
              <a:avLst/>
              <a:gdLst/>
              <a:ahLst/>
              <a:rect l="l" t="t" r="r" b="b"/>
              <a:pathLst>
                <a:path w="975" h="870">
                  <a:moveTo>
                    <a:pt x="975" y="0"/>
                  </a:moveTo>
                  <a:lnTo>
                    <a:pt x="521" y="274"/>
                  </a:lnTo>
                  <a:lnTo>
                    <a:pt x="517" y="276"/>
                  </a:lnTo>
                  <a:lnTo>
                    <a:pt x="504" y="283"/>
                  </a:lnTo>
                  <a:lnTo>
                    <a:pt x="487" y="293"/>
                  </a:lnTo>
                  <a:lnTo>
                    <a:pt x="467" y="305"/>
                  </a:lnTo>
                  <a:lnTo>
                    <a:pt x="443" y="321"/>
                  </a:lnTo>
                  <a:lnTo>
                    <a:pt x="421" y="336"/>
                  </a:lnTo>
                  <a:lnTo>
                    <a:pt x="400" y="351"/>
                  </a:lnTo>
                  <a:lnTo>
                    <a:pt x="383" y="367"/>
                  </a:lnTo>
                  <a:lnTo>
                    <a:pt x="357" y="394"/>
                  </a:lnTo>
                  <a:lnTo>
                    <a:pt x="311" y="444"/>
                  </a:lnTo>
                  <a:lnTo>
                    <a:pt x="281" y="475"/>
                  </a:lnTo>
                  <a:lnTo>
                    <a:pt x="249" y="509"/>
                  </a:lnTo>
                  <a:lnTo>
                    <a:pt x="217" y="547"/>
                  </a:lnTo>
                  <a:lnTo>
                    <a:pt x="183" y="586"/>
                  </a:lnTo>
                  <a:lnTo>
                    <a:pt x="150" y="626"/>
                  </a:lnTo>
                  <a:lnTo>
                    <a:pt x="118" y="666"/>
                  </a:lnTo>
                  <a:lnTo>
                    <a:pt x="88" y="705"/>
                  </a:lnTo>
                  <a:lnTo>
                    <a:pt x="61" y="744"/>
                  </a:lnTo>
                  <a:lnTo>
                    <a:pt x="48" y="762"/>
                  </a:lnTo>
                  <a:lnTo>
                    <a:pt x="37" y="780"/>
                  </a:lnTo>
                  <a:lnTo>
                    <a:pt x="28" y="797"/>
                  </a:lnTo>
                  <a:lnTo>
                    <a:pt x="19" y="813"/>
                  </a:lnTo>
                  <a:lnTo>
                    <a:pt x="12" y="830"/>
                  </a:lnTo>
                  <a:lnTo>
                    <a:pt x="6" y="844"/>
                  </a:lnTo>
                  <a:lnTo>
                    <a:pt x="2" y="857"/>
                  </a:lnTo>
                  <a:lnTo>
                    <a:pt x="0" y="870"/>
                  </a:lnTo>
                </a:path>
              </a:pathLst>
            </a:custGeom>
            <a:noFill/>
            <a:ln w="46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3842640" y="2963880"/>
              <a:ext cx="336600" cy="301680"/>
            </a:xfrm>
            <a:custGeom>
              <a:avLst/>
              <a:gdLst/>
              <a:ahLst/>
              <a:rect l="l" t="t" r="r" b="b"/>
              <a:pathLst>
                <a:path w="869" h="781">
                  <a:moveTo>
                    <a:pt x="869" y="0"/>
                  </a:moveTo>
                  <a:lnTo>
                    <a:pt x="423" y="286"/>
                  </a:lnTo>
                  <a:lnTo>
                    <a:pt x="409" y="295"/>
                  </a:lnTo>
                  <a:lnTo>
                    <a:pt x="372" y="320"/>
                  </a:lnTo>
                  <a:lnTo>
                    <a:pt x="319" y="357"/>
                  </a:lnTo>
                  <a:lnTo>
                    <a:pt x="259" y="403"/>
                  </a:lnTo>
                  <a:lnTo>
                    <a:pt x="227" y="426"/>
                  </a:lnTo>
                  <a:lnTo>
                    <a:pt x="196" y="451"/>
                  </a:lnTo>
                  <a:lnTo>
                    <a:pt x="167" y="475"/>
                  </a:lnTo>
                  <a:lnTo>
                    <a:pt x="140" y="499"/>
                  </a:lnTo>
                  <a:lnTo>
                    <a:pt x="117" y="521"/>
                  </a:lnTo>
                  <a:lnTo>
                    <a:pt x="97" y="543"/>
                  </a:lnTo>
                  <a:lnTo>
                    <a:pt x="90" y="552"/>
                  </a:lnTo>
                  <a:lnTo>
                    <a:pt x="84" y="561"/>
                  </a:lnTo>
                  <a:lnTo>
                    <a:pt x="79" y="569"/>
                  </a:lnTo>
                  <a:lnTo>
                    <a:pt x="76" y="576"/>
                  </a:lnTo>
                  <a:lnTo>
                    <a:pt x="66" y="607"/>
                  </a:lnTo>
                  <a:lnTo>
                    <a:pt x="53" y="640"/>
                  </a:lnTo>
                  <a:lnTo>
                    <a:pt x="41" y="674"/>
                  </a:lnTo>
                  <a:lnTo>
                    <a:pt x="28" y="707"/>
                  </a:lnTo>
                  <a:lnTo>
                    <a:pt x="18" y="737"/>
                  </a:lnTo>
                  <a:lnTo>
                    <a:pt x="9" y="760"/>
                  </a:lnTo>
                  <a:lnTo>
                    <a:pt x="2" y="776"/>
                  </a:lnTo>
                  <a:lnTo>
                    <a:pt x="0" y="781"/>
                  </a:lnTo>
                </a:path>
              </a:pathLst>
            </a:custGeom>
            <a:noFill/>
            <a:ln w="46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3960720" y="3070080"/>
              <a:ext cx="241560" cy="231840"/>
            </a:xfrm>
            <a:custGeom>
              <a:avLst/>
              <a:gdLst/>
              <a:ahLst/>
              <a:rect l="l" t="t" r="r" b="b"/>
              <a:pathLst>
                <a:path w="625" h="601">
                  <a:moveTo>
                    <a:pt x="625" y="0"/>
                  </a:moveTo>
                  <a:lnTo>
                    <a:pt x="614" y="5"/>
                  </a:lnTo>
                  <a:lnTo>
                    <a:pt x="598" y="13"/>
                  </a:lnTo>
                  <a:lnTo>
                    <a:pt x="577" y="23"/>
                  </a:lnTo>
                  <a:lnTo>
                    <a:pt x="554" y="37"/>
                  </a:lnTo>
                  <a:lnTo>
                    <a:pt x="500" y="71"/>
                  </a:lnTo>
                  <a:lnTo>
                    <a:pt x="440" y="110"/>
                  </a:lnTo>
                  <a:lnTo>
                    <a:pt x="382" y="149"/>
                  </a:lnTo>
                  <a:lnTo>
                    <a:pt x="327" y="186"/>
                  </a:lnTo>
                  <a:lnTo>
                    <a:pt x="283" y="216"/>
                  </a:lnTo>
                  <a:lnTo>
                    <a:pt x="254" y="235"/>
                  </a:lnTo>
                  <a:lnTo>
                    <a:pt x="241" y="244"/>
                  </a:lnTo>
                  <a:lnTo>
                    <a:pt x="227" y="259"/>
                  </a:lnTo>
                  <a:lnTo>
                    <a:pt x="212" y="276"/>
                  </a:lnTo>
                  <a:lnTo>
                    <a:pt x="193" y="297"/>
                  </a:lnTo>
                  <a:lnTo>
                    <a:pt x="175" y="321"/>
                  </a:lnTo>
                  <a:lnTo>
                    <a:pt x="156" y="347"/>
                  </a:lnTo>
                  <a:lnTo>
                    <a:pt x="135" y="375"/>
                  </a:lnTo>
                  <a:lnTo>
                    <a:pt x="115" y="403"/>
                  </a:lnTo>
                  <a:lnTo>
                    <a:pt x="95" y="433"/>
                  </a:lnTo>
                  <a:lnTo>
                    <a:pt x="76" y="463"/>
                  </a:lnTo>
                  <a:lnTo>
                    <a:pt x="59" y="490"/>
                  </a:lnTo>
                  <a:lnTo>
                    <a:pt x="42" y="518"/>
                  </a:lnTo>
                  <a:lnTo>
                    <a:pt x="27" y="543"/>
                  </a:lnTo>
                  <a:lnTo>
                    <a:pt x="16" y="566"/>
                  </a:lnTo>
                  <a:lnTo>
                    <a:pt x="6" y="585"/>
                  </a:lnTo>
                  <a:lnTo>
                    <a:pt x="0" y="601"/>
                  </a:lnTo>
                </a:path>
              </a:pathLst>
            </a:custGeom>
            <a:noFill/>
            <a:ln w="46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3495600" y="2935080"/>
              <a:ext cx="176040" cy="328320"/>
            </a:xfrm>
            <a:custGeom>
              <a:avLst/>
              <a:gdLst/>
              <a:ahLst/>
              <a:rect l="l" t="t" r="r" b="b"/>
              <a:pathLst>
                <a:path w="456" h="849">
                  <a:moveTo>
                    <a:pt x="11" y="829"/>
                  </a:moveTo>
                  <a:lnTo>
                    <a:pt x="18" y="823"/>
                  </a:lnTo>
                  <a:lnTo>
                    <a:pt x="25" y="815"/>
                  </a:lnTo>
                  <a:lnTo>
                    <a:pt x="33" y="805"/>
                  </a:lnTo>
                  <a:lnTo>
                    <a:pt x="42" y="794"/>
                  </a:lnTo>
                  <a:lnTo>
                    <a:pt x="64" y="767"/>
                  </a:lnTo>
                  <a:lnTo>
                    <a:pt x="87" y="734"/>
                  </a:lnTo>
                  <a:lnTo>
                    <a:pt x="140" y="658"/>
                  </a:lnTo>
                  <a:lnTo>
                    <a:pt x="195" y="574"/>
                  </a:lnTo>
                  <a:lnTo>
                    <a:pt x="248" y="492"/>
                  </a:lnTo>
                  <a:lnTo>
                    <a:pt x="292" y="422"/>
                  </a:lnTo>
                  <a:lnTo>
                    <a:pt x="323" y="373"/>
                  </a:lnTo>
                  <a:lnTo>
                    <a:pt x="334" y="355"/>
                  </a:lnTo>
                  <a:lnTo>
                    <a:pt x="456" y="232"/>
                  </a:lnTo>
                  <a:lnTo>
                    <a:pt x="448" y="238"/>
                  </a:lnTo>
                  <a:lnTo>
                    <a:pt x="447" y="230"/>
                  </a:lnTo>
                  <a:lnTo>
                    <a:pt x="441" y="209"/>
                  </a:lnTo>
                  <a:lnTo>
                    <a:pt x="436" y="193"/>
                  </a:lnTo>
                  <a:lnTo>
                    <a:pt x="430" y="176"/>
                  </a:lnTo>
                  <a:lnTo>
                    <a:pt x="421" y="158"/>
                  </a:lnTo>
                  <a:lnTo>
                    <a:pt x="410" y="138"/>
                  </a:lnTo>
                  <a:lnTo>
                    <a:pt x="404" y="128"/>
                  </a:lnTo>
                  <a:lnTo>
                    <a:pt x="396" y="118"/>
                  </a:lnTo>
                  <a:lnTo>
                    <a:pt x="388" y="108"/>
                  </a:lnTo>
                  <a:lnTo>
                    <a:pt x="380" y="98"/>
                  </a:lnTo>
                  <a:lnTo>
                    <a:pt x="370" y="87"/>
                  </a:lnTo>
                  <a:lnTo>
                    <a:pt x="360" y="78"/>
                  </a:lnTo>
                  <a:lnTo>
                    <a:pt x="349" y="68"/>
                  </a:lnTo>
                  <a:lnTo>
                    <a:pt x="337" y="59"/>
                  </a:lnTo>
                  <a:lnTo>
                    <a:pt x="325" y="50"/>
                  </a:lnTo>
                  <a:lnTo>
                    <a:pt x="311" y="40"/>
                  </a:lnTo>
                  <a:lnTo>
                    <a:pt x="296" y="32"/>
                  </a:lnTo>
                  <a:lnTo>
                    <a:pt x="281" y="25"/>
                  </a:lnTo>
                  <a:lnTo>
                    <a:pt x="264" y="18"/>
                  </a:lnTo>
                  <a:lnTo>
                    <a:pt x="246" y="11"/>
                  </a:lnTo>
                  <a:lnTo>
                    <a:pt x="228" y="5"/>
                  </a:lnTo>
                  <a:lnTo>
                    <a:pt x="208" y="0"/>
                  </a:lnTo>
                  <a:lnTo>
                    <a:pt x="195" y="1"/>
                  </a:lnTo>
                  <a:lnTo>
                    <a:pt x="184" y="2"/>
                  </a:lnTo>
                  <a:lnTo>
                    <a:pt x="176" y="4"/>
                  </a:lnTo>
                  <a:lnTo>
                    <a:pt x="169" y="6"/>
                  </a:lnTo>
                  <a:lnTo>
                    <a:pt x="164" y="9"/>
                  </a:lnTo>
                  <a:lnTo>
                    <a:pt x="160" y="12"/>
                  </a:lnTo>
                  <a:lnTo>
                    <a:pt x="158" y="15"/>
                  </a:lnTo>
                  <a:lnTo>
                    <a:pt x="156" y="19"/>
                  </a:lnTo>
                  <a:lnTo>
                    <a:pt x="155" y="22"/>
                  </a:lnTo>
                  <a:lnTo>
                    <a:pt x="155" y="26"/>
                  </a:lnTo>
                  <a:lnTo>
                    <a:pt x="156" y="29"/>
                  </a:lnTo>
                  <a:lnTo>
                    <a:pt x="157" y="32"/>
                  </a:lnTo>
                  <a:lnTo>
                    <a:pt x="158" y="36"/>
                  </a:lnTo>
                  <a:lnTo>
                    <a:pt x="159" y="38"/>
                  </a:lnTo>
                  <a:lnTo>
                    <a:pt x="159" y="61"/>
                  </a:lnTo>
                  <a:lnTo>
                    <a:pt x="156" y="123"/>
                  </a:lnTo>
                  <a:lnTo>
                    <a:pt x="153" y="166"/>
                  </a:lnTo>
                  <a:lnTo>
                    <a:pt x="150" y="214"/>
                  </a:lnTo>
                  <a:lnTo>
                    <a:pt x="146" y="267"/>
                  </a:lnTo>
                  <a:lnTo>
                    <a:pt x="142" y="323"/>
                  </a:lnTo>
                  <a:lnTo>
                    <a:pt x="136" y="380"/>
                  </a:lnTo>
                  <a:lnTo>
                    <a:pt x="129" y="438"/>
                  </a:lnTo>
                  <a:lnTo>
                    <a:pt x="121" y="495"/>
                  </a:lnTo>
                  <a:lnTo>
                    <a:pt x="112" y="549"/>
                  </a:lnTo>
                  <a:lnTo>
                    <a:pt x="107" y="576"/>
                  </a:lnTo>
                  <a:lnTo>
                    <a:pt x="101" y="600"/>
                  </a:lnTo>
                  <a:lnTo>
                    <a:pt x="95" y="625"/>
                  </a:lnTo>
                  <a:lnTo>
                    <a:pt x="89" y="646"/>
                  </a:lnTo>
                  <a:lnTo>
                    <a:pt x="82" y="668"/>
                  </a:lnTo>
                  <a:lnTo>
                    <a:pt x="75" y="686"/>
                  </a:lnTo>
                  <a:lnTo>
                    <a:pt x="68" y="703"/>
                  </a:lnTo>
                  <a:lnTo>
                    <a:pt x="60" y="719"/>
                  </a:lnTo>
                  <a:lnTo>
                    <a:pt x="56" y="727"/>
                  </a:lnTo>
                  <a:lnTo>
                    <a:pt x="49" y="737"/>
                  </a:lnTo>
                  <a:lnTo>
                    <a:pt x="43" y="750"/>
                  </a:lnTo>
                  <a:lnTo>
                    <a:pt x="36" y="767"/>
                  </a:lnTo>
                  <a:lnTo>
                    <a:pt x="28" y="785"/>
                  </a:lnTo>
                  <a:lnTo>
                    <a:pt x="20" y="804"/>
                  </a:lnTo>
                  <a:lnTo>
                    <a:pt x="11" y="827"/>
                  </a:lnTo>
                  <a:lnTo>
                    <a:pt x="0" y="849"/>
                  </a:lnTo>
                  <a:lnTo>
                    <a:pt x="11" y="829"/>
                  </a:lnTo>
                  <a:close/>
                </a:path>
              </a:pathLst>
            </a:custGeom>
            <a:solidFill>
              <a:srgbClr val="f2af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3495600" y="2935080"/>
              <a:ext cx="176040" cy="328320"/>
            </a:xfrm>
            <a:custGeom>
              <a:avLst/>
              <a:gdLst/>
              <a:ahLst/>
              <a:rect l="l" t="t" r="r" b="b"/>
              <a:pathLst>
                <a:path w="456" h="849">
                  <a:moveTo>
                    <a:pt x="11" y="829"/>
                  </a:moveTo>
                  <a:lnTo>
                    <a:pt x="18" y="823"/>
                  </a:lnTo>
                  <a:lnTo>
                    <a:pt x="25" y="815"/>
                  </a:lnTo>
                  <a:lnTo>
                    <a:pt x="33" y="805"/>
                  </a:lnTo>
                  <a:lnTo>
                    <a:pt x="42" y="794"/>
                  </a:lnTo>
                  <a:lnTo>
                    <a:pt x="64" y="767"/>
                  </a:lnTo>
                  <a:lnTo>
                    <a:pt x="87" y="734"/>
                  </a:lnTo>
                  <a:lnTo>
                    <a:pt x="140" y="658"/>
                  </a:lnTo>
                  <a:lnTo>
                    <a:pt x="195" y="574"/>
                  </a:lnTo>
                  <a:lnTo>
                    <a:pt x="248" y="492"/>
                  </a:lnTo>
                  <a:lnTo>
                    <a:pt x="292" y="422"/>
                  </a:lnTo>
                  <a:lnTo>
                    <a:pt x="323" y="373"/>
                  </a:lnTo>
                  <a:lnTo>
                    <a:pt x="334" y="355"/>
                  </a:lnTo>
                  <a:lnTo>
                    <a:pt x="456" y="232"/>
                  </a:lnTo>
                  <a:lnTo>
                    <a:pt x="448" y="238"/>
                  </a:lnTo>
                  <a:lnTo>
                    <a:pt x="447" y="230"/>
                  </a:lnTo>
                  <a:lnTo>
                    <a:pt x="441" y="209"/>
                  </a:lnTo>
                  <a:lnTo>
                    <a:pt x="436" y="193"/>
                  </a:lnTo>
                  <a:lnTo>
                    <a:pt x="430" y="176"/>
                  </a:lnTo>
                  <a:lnTo>
                    <a:pt x="421" y="158"/>
                  </a:lnTo>
                  <a:lnTo>
                    <a:pt x="410" y="138"/>
                  </a:lnTo>
                  <a:lnTo>
                    <a:pt x="404" y="128"/>
                  </a:lnTo>
                  <a:lnTo>
                    <a:pt x="396" y="118"/>
                  </a:lnTo>
                  <a:lnTo>
                    <a:pt x="388" y="108"/>
                  </a:lnTo>
                  <a:lnTo>
                    <a:pt x="380" y="98"/>
                  </a:lnTo>
                  <a:lnTo>
                    <a:pt x="370" y="87"/>
                  </a:lnTo>
                  <a:lnTo>
                    <a:pt x="360" y="78"/>
                  </a:lnTo>
                  <a:lnTo>
                    <a:pt x="349" y="68"/>
                  </a:lnTo>
                  <a:lnTo>
                    <a:pt x="337" y="59"/>
                  </a:lnTo>
                  <a:lnTo>
                    <a:pt x="325" y="50"/>
                  </a:lnTo>
                  <a:lnTo>
                    <a:pt x="311" y="40"/>
                  </a:lnTo>
                  <a:lnTo>
                    <a:pt x="296" y="32"/>
                  </a:lnTo>
                  <a:lnTo>
                    <a:pt x="281" y="25"/>
                  </a:lnTo>
                  <a:lnTo>
                    <a:pt x="264" y="18"/>
                  </a:lnTo>
                  <a:lnTo>
                    <a:pt x="246" y="11"/>
                  </a:lnTo>
                  <a:lnTo>
                    <a:pt x="228" y="5"/>
                  </a:lnTo>
                  <a:lnTo>
                    <a:pt x="208" y="0"/>
                  </a:lnTo>
                  <a:lnTo>
                    <a:pt x="195" y="1"/>
                  </a:lnTo>
                  <a:lnTo>
                    <a:pt x="184" y="2"/>
                  </a:lnTo>
                  <a:lnTo>
                    <a:pt x="176" y="4"/>
                  </a:lnTo>
                  <a:lnTo>
                    <a:pt x="169" y="6"/>
                  </a:lnTo>
                  <a:lnTo>
                    <a:pt x="164" y="9"/>
                  </a:lnTo>
                  <a:lnTo>
                    <a:pt x="160" y="12"/>
                  </a:lnTo>
                  <a:lnTo>
                    <a:pt x="158" y="15"/>
                  </a:lnTo>
                  <a:lnTo>
                    <a:pt x="156" y="19"/>
                  </a:lnTo>
                  <a:lnTo>
                    <a:pt x="155" y="22"/>
                  </a:lnTo>
                  <a:lnTo>
                    <a:pt x="155" y="26"/>
                  </a:lnTo>
                  <a:lnTo>
                    <a:pt x="156" y="29"/>
                  </a:lnTo>
                  <a:lnTo>
                    <a:pt x="157" y="32"/>
                  </a:lnTo>
                  <a:lnTo>
                    <a:pt x="158" y="36"/>
                  </a:lnTo>
                  <a:lnTo>
                    <a:pt x="159" y="38"/>
                  </a:lnTo>
                  <a:lnTo>
                    <a:pt x="159" y="61"/>
                  </a:lnTo>
                  <a:lnTo>
                    <a:pt x="156" y="123"/>
                  </a:lnTo>
                  <a:lnTo>
                    <a:pt x="153" y="166"/>
                  </a:lnTo>
                  <a:lnTo>
                    <a:pt x="150" y="214"/>
                  </a:lnTo>
                  <a:lnTo>
                    <a:pt x="146" y="267"/>
                  </a:lnTo>
                  <a:lnTo>
                    <a:pt x="142" y="323"/>
                  </a:lnTo>
                  <a:lnTo>
                    <a:pt x="136" y="380"/>
                  </a:lnTo>
                  <a:lnTo>
                    <a:pt x="129" y="438"/>
                  </a:lnTo>
                  <a:lnTo>
                    <a:pt x="121" y="495"/>
                  </a:lnTo>
                  <a:lnTo>
                    <a:pt x="112" y="549"/>
                  </a:lnTo>
                  <a:lnTo>
                    <a:pt x="107" y="576"/>
                  </a:lnTo>
                  <a:lnTo>
                    <a:pt x="101" y="600"/>
                  </a:lnTo>
                  <a:lnTo>
                    <a:pt x="95" y="625"/>
                  </a:lnTo>
                  <a:lnTo>
                    <a:pt x="89" y="646"/>
                  </a:lnTo>
                  <a:lnTo>
                    <a:pt x="82" y="668"/>
                  </a:lnTo>
                  <a:lnTo>
                    <a:pt x="75" y="686"/>
                  </a:lnTo>
                  <a:lnTo>
                    <a:pt x="68" y="703"/>
                  </a:lnTo>
                  <a:lnTo>
                    <a:pt x="60" y="719"/>
                  </a:lnTo>
                  <a:lnTo>
                    <a:pt x="56" y="727"/>
                  </a:lnTo>
                  <a:lnTo>
                    <a:pt x="49" y="737"/>
                  </a:lnTo>
                  <a:lnTo>
                    <a:pt x="43" y="750"/>
                  </a:lnTo>
                  <a:lnTo>
                    <a:pt x="36" y="767"/>
                  </a:lnTo>
                  <a:lnTo>
                    <a:pt x="28" y="785"/>
                  </a:lnTo>
                  <a:lnTo>
                    <a:pt x="20" y="804"/>
                  </a:lnTo>
                  <a:lnTo>
                    <a:pt x="11" y="827"/>
                  </a:lnTo>
                  <a:lnTo>
                    <a:pt x="0" y="849"/>
                  </a:lnTo>
                  <a:lnTo>
                    <a:pt x="11" y="829"/>
                  </a:lnTo>
                </a:path>
              </a:pathLst>
            </a:custGeom>
            <a:noFill/>
            <a:ln w="46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3712680" y="3226680"/>
              <a:ext cx="17280" cy="36720"/>
            </a:xfrm>
            <a:custGeom>
              <a:avLst/>
              <a:gdLst/>
              <a:ahLst/>
              <a:rect l="l" t="t" r="r" b="b"/>
              <a:pathLst>
                <a:path w="47" h="94">
                  <a:moveTo>
                    <a:pt x="0" y="10"/>
                  </a:moveTo>
                  <a:lnTo>
                    <a:pt x="4" y="6"/>
                  </a:lnTo>
                  <a:lnTo>
                    <a:pt x="9" y="3"/>
                  </a:lnTo>
                  <a:lnTo>
                    <a:pt x="14" y="0"/>
                  </a:lnTo>
                  <a:lnTo>
                    <a:pt x="19" y="0"/>
                  </a:lnTo>
                  <a:lnTo>
                    <a:pt x="25" y="3"/>
                  </a:lnTo>
                  <a:lnTo>
                    <a:pt x="29" y="5"/>
                  </a:lnTo>
                  <a:lnTo>
                    <a:pt x="33" y="8"/>
                  </a:lnTo>
                  <a:lnTo>
                    <a:pt x="35" y="12"/>
                  </a:lnTo>
                  <a:lnTo>
                    <a:pt x="38" y="22"/>
                  </a:lnTo>
                  <a:lnTo>
                    <a:pt x="41" y="32"/>
                  </a:lnTo>
                  <a:lnTo>
                    <a:pt x="43" y="42"/>
                  </a:lnTo>
                  <a:lnTo>
                    <a:pt x="44" y="53"/>
                  </a:lnTo>
                  <a:lnTo>
                    <a:pt x="45" y="63"/>
                  </a:lnTo>
                  <a:lnTo>
                    <a:pt x="45" y="74"/>
                  </a:lnTo>
                  <a:lnTo>
                    <a:pt x="46" y="84"/>
                  </a:lnTo>
                  <a:lnTo>
                    <a:pt x="47" y="94"/>
                  </a:lnTo>
                </a:path>
              </a:pathLst>
            </a:custGeom>
            <a:noFill/>
            <a:ln w="46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3838680" y="3263400"/>
              <a:ext cx="13320" cy="19080"/>
            </a:xfrm>
            <a:custGeom>
              <a:avLst/>
              <a:gdLst/>
              <a:ahLst/>
              <a:rect l="l" t="t" r="r" b="b"/>
              <a:pathLst>
                <a:path w="36" h="51">
                  <a:moveTo>
                    <a:pt x="0" y="16"/>
                  </a:moveTo>
                  <a:lnTo>
                    <a:pt x="4" y="12"/>
                  </a:lnTo>
                  <a:lnTo>
                    <a:pt x="8" y="8"/>
                  </a:lnTo>
                  <a:lnTo>
                    <a:pt x="12" y="5"/>
                  </a:lnTo>
                  <a:lnTo>
                    <a:pt x="17" y="2"/>
                  </a:lnTo>
                  <a:lnTo>
                    <a:pt x="22" y="0"/>
                  </a:lnTo>
                  <a:lnTo>
                    <a:pt x="26" y="0"/>
                  </a:lnTo>
                  <a:lnTo>
                    <a:pt x="28" y="1"/>
                  </a:lnTo>
                  <a:lnTo>
                    <a:pt x="29" y="2"/>
                  </a:lnTo>
                  <a:lnTo>
                    <a:pt x="31" y="4"/>
                  </a:lnTo>
                  <a:lnTo>
                    <a:pt x="32" y="6"/>
                  </a:lnTo>
                  <a:lnTo>
                    <a:pt x="34" y="13"/>
                  </a:lnTo>
                  <a:lnTo>
                    <a:pt x="35" y="19"/>
                  </a:lnTo>
                  <a:lnTo>
                    <a:pt x="36" y="24"/>
                  </a:lnTo>
                  <a:lnTo>
                    <a:pt x="36" y="29"/>
                  </a:lnTo>
                  <a:lnTo>
                    <a:pt x="35" y="34"/>
                  </a:lnTo>
                  <a:lnTo>
                    <a:pt x="35" y="39"/>
                  </a:lnTo>
                  <a:lnTo>
                    <a:pt x="34" y="45"/>
                  </a:lnTo>
                  <a:lnTo>
                    <a:pt x="34" y="51"/>
                  </a:lnTo>
                </a:path>
              </a:pathLst>
            </a:custGeom>
            <a:noFill/>
            <a:ln w="46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3940920" y="3298680"/>
              <a:ext cx="27000" cy="26640"/>
            </a:xfrm>
            <a:custGeom>
              <a:avLst/>
              <a:gdLst/>
              <a:ahLst/>
              <a:rect l="l" t="t" r="r" b="b"/>
              <a:pathLst>
                <a:path w="66" h="71">
                  <a:moveTo>
                    <a:pt x="0" y="14"/>
                  </a:moveTo>
                  <a:lnTo>
                    <a:pt x="7" y="12"/>
                  </a:lnTo>
                  <a:lnTo>
                    <a:pt x="15" y="10"/>
                  </a:lnTo>
                  <a:lnTo>
                    <a:pt x="22" y="6"/>
                  </a:lnTo>
                  <a:lnTo>
                    <a:pt x="29" y="3"/>
                  </a:lnTo>
                  <a:lnTo>
                    <a:pt x="36" y="1"/>
                  </a:lnTo>
                  <a:lnTo>
                    <a:pt x="42" y="0"/>
                  </a:lnTo>
                  <a:lnTo>
                    <a:pt x="46" y="1"/>
                  </a:lnTo>
                  <a:lnTo>
                    <a:pt x="49" y="2"/>
                  </a:lnTo>
                  <a:lnTo>
                    <a:pt x="51" y="3"/>
                  </a:lnTo>
                  <a:lnTo>
                    <a:pt x="53" y="6"/>
                  </a:lnTo>
                  <a:lnTo>
                    <a:pt x="60" y="14"/>
                  </a:lnTo>
                  <a:lnTo>
                    <a:pt x="62" y="22"/>
                  </a:lnTo>
                  <a:lnTo>
                    <a:pt x="63" y="26"/>
                  </a:lnTo>
                  <a:lnTo>
                    <a:pt x="62" y="30"/>
                  </a:lnTo>
                  <a:lnTo>
                    <a:pt x="60" y="35"/>
                  </a:lnTo>
                  <a:lnTo>
                    <a:pt x="60" y="43"/>
                  </a:lnTo>
                  <a:lnTo>
                    <a:pt x="61" y="54"/>
                  </a:lnTo>
                  <a:lnTo>
                    <a:pt x="66" y="71"/>
                  </a:lnTo>
                </a:path>
              </a:pathLst>
            </a:custGeom>
            <a:noFill/>
            <a:ln w="46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3879000" y="3828600"/>
              <a:ext cx="2160" cy="27000"/>
            </a:xfrm>
            <a:prstGeom prst="line">
              <a:avLst/>
            </a:prstGeom>
            <a:ln w="468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4889880" y="2687040"/>
              <a:ext cx="48240" cy="36720"/>
            </a:xfrm>
            <a:custGeom>
              <a:avLst/>
              <a:gdLst/>
              <a:ahLst/>
              <a:rect l="l" t="t" r="r" b="b"/>
              <a:pathLst>
                <a:path w="122" h="98">
                  <a:moveTo>
                    <a:pt x="122" y="0"/>
                  </a:moveTo>
                  <a:lnTo>
                    <a:pt x="121" y="7"/>
                  </a:lnTo>
                  <a:lnTo>
                    <a:pt x="119" y="12"/>
                  </a:lnTo>
                  <a:lnTo>
                    <a:pt x="117" y="17"/>
                  </a:lnTo>
                  <a:lnTo>
                    <a:pt x="114" y="23"/>
                  </a:lnTo>
                  <a:lnTo>
                    <a:pt x="111" y="27"/>
                  </a:lnTo>
                  <a:lnTo>
                    <a:pt x="108" y="30"/>
                  </a:lnTo>
                  <a:lnTo>
                    <a:pt x="104" y="33"/>
                  </a:lnTo>
                  <a:lnTo>
                    <a:pt x="100" y="36"/>
                  </a:lnTo>
                  <a:lnTo>
                    <a:pt x="91" y="40"/>
                  </a:lnTo>
                  <a:lnTo>
                    <a:pt x="80" y="43"/>
                  </a:lnTo>
                  <a:lnTo>
                    <a:pt x="70" y="46"/>
                  </a:lnTo>
                  <a:lnTo>
                    <a:pt x="59" y="48"/>
                  </a:lnTo>
                  <a:lnTo>
                    <a:pt x="49" y="51"/>
                  </a:lnTo>
                  <a:lnTo>
                    <a:pt x="39" y="53"/>
                  </a:lnTo>
                  <a:lnTo>
                    <a:pt x="28" y="57"/>
                  </a:lnTo>
                  <a:lnTo>
                    <a:pt x="20" y="61"/>
                  </a:lnTo>
                  <a:lnTo>
                    <a:pt x="16" y="64"/>
                  </a:lnTo>
                  <a:lnTo>
                    <a:pt x="12" y="67"/>
                  </a:lnTo>
                  <a:lnTo>
                    <a:pt x="9" y="71"/>
                  </a:lnTo>
                  <a:lnTo>
                    <a:pt x="6" y="76"/>
                  </a:lnTo>
                  <a:lnTo>
                    <a:pt x="4" y="80"/>
                  </a:lnTo>
                  <a:lnTo>
                    <a:pt x="2" y="85"/>
                  </a:lnTo>
                  <a:lnTo>
                    <a:pt x="1" y="91"/>
                  </a:lnTo>
                  <a:lnTo>
                    <a:pt x="0" y="98"/>
                  </a:lnTo>
                </a:path>
              </a:pathLst>
            </a:custGeom>
            <a:noFill/>
            <a:ln w="46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4802760" y="2913480"/>
              <a:ext cx="11160" cy="135360"/>
            </a:xfrm>
            <a:custGeom>
              <a:avLst/>
              <a:gdLst/>
              <a:ahLst/>
              <a:rect l="l" t="t" r="r" b="b"/>
              <a:pathLst>
                <a:path w="30" h="346">
                  <a:moveTo>
                    <a:pt x="26" y="0"/>
                  </a:moveTo>
                  <a:lnTo>
                    <a:pt x="24" y="21"/>
                  </a:lnTo>
                  <a:lnTo>
                    <a:pt x="24" y="43"/>
                  </a:lnTo>
                  <a:lnTo>
                    <a:pt x="24" y="65"/>
                  </a:lnTo>
                  <a:lnTo>
                    <a:pt x="24" y="86"/>
                  </a:lnTo>
                  <a:lnTo>
                    <a:pt x="27" y="130"/>
                  </a:lnTo>
                  <a:lnTo>
                    <a:pt x="29" y="174"/>
                  </a:lnTo>
                  <a:lnTo>
                    <a:pt x="30" y="196"/>
                  </a:lnTo>
                  <a:lnTo>
                    <a:pt x="29" y="218"/>
                  </a:lnTo>
                  <a:lnTo>
                    <a:pt x="28" y="239"/>
                  </a:lnTo>
                  <a:lnTo>
                    <a:pt x="26" y="262"/>
                  </a:lnTo>
                  <a:lnTo>
                    <a:pt x="22" y="283"/>
                  </a:lnTo>
                  <a:lnTo>
                    <a:pt x="17" y="305"/>
                  </a:lnTo>
                  <a:lnTo>
                    <a:pt x="9" y="326"/>
                  </a:lnTo>
                  <a:lnTo>
                    <a:pt x="0" y="346"/>
                  </a:lnTo>
                </a:path>
              </a:pathLst>
            </a:custGeom>
            <a:noFill/>
            <a:ln w="46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5298480" y="4246200"/>
              <a:ext cx="1200240" cy="1653840"/>
            </a:xfrm>
            <a:custGeom>
              <a:avLst/>
              <a:gdLst/>
              <a:ahLst/>
              <a:rect l="l" t="t" r="r" b="b"/>
              <a:pathLst>
                <a:path w="3097" h="4274">
                  <a:moveTo>
                    <a:pt x="1125" y="8"/>
                  </a:moveTo>
                  <a:lnTo>
                    <a:pt x="1135" y="6"/>
                  </a:lnTo>
                  <a:lnTo>
                    <a:pt x="1162" y="3"/>
                  </a:lnTo>
                  <a:lnTo>
                    <a:pt x="1182" y="1"/>
                  </a:lnTo>
                  <a:lnTo>
                    <a:pt x="1205" y="0"/>
                  </a:lnTo>
                  <a:lnTo>
                    <a:pt x="1232" y="1"/>
                  </a:lnTo>
                  <a:lnTo>
                    <a:pt x="1260" y="2"/>
                  </a:lnTo>
                  <a:lnTo>
                    <a:pt x="1292" y="6"/>
                  </a:lnTo>
                  <a:lnTo>
                    <a:pt x="1326" y="12"/>
                  </a:lnTo>
                  <a:lnTo>
                    <a:pt x="1343" y="15"/>
                  </a:lnTo>
                  <a:lnTo>
                    <a:pt x="1361" y="21"/>
                  </a:lnTo>
                  <a:lnTo>
                    <a:pt x="1380" y="26"/>
                  </a:lnTo>
                  <a:lnTo>
                    <a:pt x="1399" y="32"/>
                  </a:lnTo>
                  <a:lnTo>
                    <a:pt x="1418" y="39"/>
                  </a:lnTo>
                  <a:lnTo>
                    <a:pt x="1437" y="46"/>
                  </a:lnTo>
                  <a:lnTo>
                    <a:pt x="1456" y="55"/>
                  </a:lnTo>
                  <a:lnTo>
                    <a:pt x="1477" y="64"/>
                  </a:lnTo>
                  <a:lnTo>
                    <a:pt x="1496" y="76"/>
                  </a:lnTo>
                  <a:lnTo>
                    <a:pt x="1517" y="87"/>
                  </a:lnTo>
                  <a:lnTo>
                    <a:pt x="1536" y="100"/>
                  </a:lnTo>
                  <a:lnTo>
                    <a:pt x="1556" y="114"/>
                  </a:lnTo>
                  <a:lnTo>
                    <a:pt x="1579" y="135"/>
                  </a:lnTo>
                  <a:lnTo>
                    <a:pt x="1606" y="165"/>
                  </a:lnTo>
                  <a:lnTo>
                    <a:pt x="1638" y="207"/>
                  </a:lnTo>
                  <a:lnTo>
                    <a:pt x="1675" y="258"/>
                  </a:lnTo>
                  <a:lnTo>
                    <a:pt x="1715" y="317"/>
                  </a:lnTo>
                  <a:lnTo>
                    <a:pt x="1759" y="386"/>
                  </a:lnTo>
                  <a:lnTo>
                    <a:pt x="1807" y="461"/>
                  </a:lnTo>
                  <a:lnTo>
                    <a:pt x="1858" y="543"/>
                  </a:lnTo>
                  <a:lnTo>
                    <a:pt x="1910" y="630"/>
                  </a:lnTo>
                  <a:lnTo>
                    <a:pt x="1967" y="723"/>
                  </a:lnTo>
                  <a:lnTo>
                    <a:pt x="2024" y="821"/>
                  </a:lnTo>
                  <a:lnTo>
                    <a:pt x="2082" y="923"/>
                  </a:lnTo>
                  <a:lnTo>
                    <a:pt x="2202" y="1134"/>
                  </a:lnTo>
                  <a:lnTo>
                    <a:pt x="2325" y="1352"/>
                  </a:lnTo>
                  <a:lnTo>
                    <a:pt x="2446" y="1571"/>
                  </a:lnTo>
                  <a:lnTo>
                    <a:pt x="2564" y="1785"/>
                  </a:lnTo>
                  <a:lnTo>
                    <a:pt x="2675" y="1988"/>
                  </a:lnTo>
                  <a:lnTo>
                    <a:pt x="2776" y="2175"/>
                  </a:lnTo>
                  <a:lnTo>
                    <a:pt x="2939" y="2477"/>
                  </a:lnTo>
                  <a:lnTo>
                    <a:pt x="3030" y="2644"/>
                  </a:lnTo>
                  <a:lnTo>
                    <a:pt x="3041" y="2665"/>
                  </a:lnTo>
                  <a:lnTo>
                    <a:pt x="3051" y="2686"/>
                  </a:lnTo>
                  <a:lnTo>
                    <a:pt x="3061" y="2706"/>
                  </a:lnTo>
                  <a:lnTo>
                    <a:pt x="3068" y="2727"/>
                  </a:lnTo>
                  <a:lnTo>
                    <a:pt x="3075" y="2746"/>
                  </a:lnTo>
                  <a:lnTo>
                    <a:pt x="3081" y="2765"/>
                  </a:lnTo>
                  <a:lnTo>
                    <a:pt x="3085" y="2785"/>
                  </a:lnTo>
                  <a:lnTo>
                    <a:pt x="3089" y="2804"/>
                  </a:lnTo>
                  <a:lnTo>
                    <a:pt x="3092" y="2823"/>
                  </a:lnTo>
                  <a:lnTo>
                    <a:pt x="3095" y="2842"/>
                  </a:lnTo>
                  <a:lnTo>
                    <a:pt x="3096" y="2860"/>
                  </a:lnTo>
                  <a:lnTo>
                    <a:pt x="3097" y="2878"/>
                  </a:lnTo>
                  <a:lnTo>
                    <a:pt x="3097" y="2912"/>
                  </a:lnTo>
                  <a:lnTo>
                    <a:pt x="3096" y="2946"/>
                  </a:lnTo>
                  <a:lnTo>
                    <a:pt x="3092" y="2979"/>
                  </a:lnTo>
                  <a:lnTo>
                    <a:pt x="3088" y="3009"/>
                  </a:lnTo>
                  <a:lnTo>
                    <a:pt x="3083" y="3039"/>
                  </a:lnTo>
                  <a:lnTo>
                    <a:pt x="3078" y="3066"/>
                  </a:lnTo>
                  <a:lnTo>
                    <a:pt x="3072" y="3092"/>
                  </a:lnTo>
                  <a:lnTo>
                    <a:pt x="3068" y="3116"/>
                  </a:lnTo>
                  <a:lnTo>
                    <a:pt x="3064" y="3139"/>
                  </a:lnTo>
                  <a:lnTo>
                    <a:pt x="3062" y="3160"/>
                  </a:lnTo>
                  <a:lnTo>
                    <a:pt x="3057" y="3217"/>
                  </a:lnTo>
                  <a:lnTo>
                    <a:pt x="3050" y="3273"/>
                  </a:lnTo>
                  <a:lnTo>
                    <a:pt x="3041" y="3329"/>
                  </a:lnTo>
                  <a:lnTo>
                    <a:pt x="3030" y="3383"/>
                  </a:lnTo>
                  <a:lnTo>
                    <a:pt x="3017" y="3438"/>
                  </a:lnTo>
                  <a:lnTo>
                    <a:pt x="3002" y="3490"/>
                  </a:lnTo>
                  <a:lnTo>
                    <a:pt x="2985" y="3542"/>
                  </a:lnTo>
                  <a:lnTo>
                    <a:pt x="2967" y="3592"/>
                  </a:lnTo>
                  <a:lnTo>
                    <a:pt x="2946" y="3640"/>
                  </a:lnTo>
                  <a:lnTo>
                    <a:pt x="2925" y="3687"/>
                  </a:lnTo>
                  <a:lnTo>
                    <a:pt x="2901" y="3733"/>
                  </a:lnTo>
                  <a:lnTo>
                    <a:pt x="2876" y="3778"/>
                  </a:lnTo>
                  <a:lnTo>
                    <a:pt x="2849" y="3821"/>
                  </a:lnTo>
                  <a:lnTo>
                    <a:pt x="2822" y="3863"/>
                  </a:lnTo>
                  <a:lnTo>
                    <a:pt x="2792" y="3903"/>
                  </a:lnTo>
                  <a:lnTo>
                    <a:pt x="2763" y="3940"/>
                  </a:lnTo>
                  <a:lnTo>
                    <a:pt x="2731" y="3977"/>
                  </a:lnTo>
                  <a:lnTo>
                    <a:pt x="2698" y="4012"/>
                  </a:lnTo>
                  <a:lnTo>
                    <a:pt x="2665" y="4044"/>
                  </a:lnTo>
                  <a:lnTo>
                    <a:pt x="2631" y="4075"/>
                  </a:lnTo>
                  <a:lnTo>
                    <a:pt x="2595" y="4105"/>
                  </a:lnTo>
                  <a:lnTo>
                    <a:pt x="2559" y="4131"/>
                  </a:lnTo>
                  <a:lnTo>
                    <a:pt x="2522" y="4156"/>
                  </a:lnTo>
                  <a:lnTo>
                    <a:pt x="2485" y="4178"/>
                  </a:lnTo>
                  <a:lnTo>
                    <a:pt x="2446" y="4198"/>
                  </a:lnTo>
                  <a:lnTo>
                    <a:pt x="2408" y="4217"/>
                  </a:lnTo>
                  <a:lnTo>
                    <a:pt x="2369" y="4232"/>
                  </a:lnTo>
                  <a:lnTo>
                    <a:pt x="2330" y="4245"/>
                  </a:lnTo>
                  <a:lnTo>
                    <a:pt x="2290" y="4257"/>
                  </a:lnTo>
                  <a:lnTo>
                    <a:pt x="2250" y="4265"/>
                  </a:lnTo>
                  <a:lnTo>
                    <a:pt x="2209" y="4271"/>
                  </a:lnTo>
                  <a:lnTo>
                    <a:pt x="2170" y="4274"/>
                  </a:lnTo>
                  <a:lnTo>
                    <a:pt x="2128" y="4271"/>
                  </a:lnTo>
                  <a:lnTo>
                    <a:pt x="2084" y="4258"/>
                  </a:lnTo>
                  <a:lnTo>
                    <a:pt x="2038" y="4236"/>
                  </a:lnTo>
                  <a:lnTo>
                    <a:pt x="1989" y="4207"/>
                  </a:lnTo>
                  <a:lnTo>
                    <a:pt x="1939" y="4169"/>
                  </a:lnTo>
                  <a:lnTo>
                    <a:pt x="1887" y="4124"/>
                  </a:lnTo>
                  <a:lnTo>
                    <a:pt x="1834" y="4073"/>
                  </a:lnTo>
                  <a:lnTo>
                    <a:pt x="1780" y="4015"/>
                  </a:lnTo>
                  <a:lnTo>
                    <a:pt x="1724" y="3953"/>
                  </a:lnTo>
                  <a:lnTo>
                    <a:pt x="1668" y="3884"/>
                  </a:lnTo>
                  <a:lnTo>
                    <a:pt x="1610" y="3813"/>
                  </a:lnTo>
                  <a:lnTo>
                    <a:pt x="1553" y="3736"/>
                  </a:lnTo>
                  <a:lnTo>
                    <a:pt x="1496" y="3658"/>
                  </a:lnTo>
                  <a:lnTo>
                    <a:pt x="1439" y="3577"/>
                  </a:lnTo>
                  <a:lnTo>
                    <a:pt x="1383" y="3494"/>
                  </a:lnTo>
                  <a:lnTo>
                    <a:pt x="1327" y="3410"/>
                  </a:lnTo>
                  <a:lnTo>
                    <a:pt x="1272" y="3324"/>
                  </a:lnTo>
                  <a:lnTo>
                    <a:pt x="1216" y="3240"/>
                  </a:lnTo>
                  <a:lnTo>
                    <a:pt x="1163" y="3155"/>
                  </a:lnTo>
                  <a:lnTo>
                    <a:pt x="1112" y="3071"/>
                  </a:lnTo>
                  <a:lnTo>
                    <a:pt x="1014" y="2909"/>
                  </a:lnTo>
                  <a:lnTo>
                    <a:pt x="926" y="2759"/>
                  </a:lnTo>
                  <a:lnTo>
                    <a:pt x="847" y="2625"/>
                  </a:lnTo>
                  <a:lnTo>
                    <a:pt x="781" y="2511"/>
                  </a:lnTo>
                  <a:lnTo>
                    <a:pt x="752" y="2463"/>
                  </a:lnTo>
                  <a:lnTo>
                    <a:pt x="728" y="2423"/>
                  </a:lnTo>
                  <a:lnTo>
                    <a:pt x="707" y="2390"/>
                  </a:lnTo>
                  <a:lnTo>
                    <a:pt x="691" y="2364"/>
                  </a:lnTo>
                  <a:lnTo>
                    <a:pt x="682" y="2349"/>
                  </a:lnTo>
                  <a:lnTo>
                    <a:pt x="668" y="2328"/>
                  </a:lnTo>
                  <a:lnTo>
                    <a:pt x="653" y="2299"/>
                  </a:lnTo>
                  <a:lnTo>
                    <a:pt x="636" y="2266"/>
                  </a:lnTo>
                  <a:lnTo>
                    <a:pt x="593" y="2183"/>
                  </a:lnTo>
                  <a:lnTo>
                    <a:pt x="543" y="2082"/>
                  </a:lnTo>
                  <a:lnTo>
                    <a:pt x="488" y="1967"/>
                  </a:lnTo>
                  <a:lnTo>
                    <a:pt x="429" y="1841"/>
                  </a:lnTo>
                  <a:lnTo>
                    <a:pt x="367" y="1709"/>
                  </a:lnTo>
                  <a:lnTo>
                    <a:pt x="305" y="1572"/>
                  </a:lnTo>
                  <a:lnTo>
                    <a:pt x="245" y="1435"/>
                  </a:lnTo>
                  <a:lnTo>
                    <a:pt x="187" y="1302"/>
                  </a:lnTo>
                  <a:lnTo>
                    <a:pt x="134" y="1175"/>
                  </a:lnTo>
                  <a:lnTo>
                    <a:pt x="88" y="1059"/>
                  </a:lnTo>
                  <a:lnTo>
                    <a:pt x="67" y="1006"/>
                  </a:lnTo>
                  <a:lnTo>
                    <a:pt x="49" y="956"/>
                  </a:lnTo>
                  <a:lnTo>
                    <a:pt x="34" y="911"/>
                  </a:lnTo>
                  <a:lnTo>
                    <a:pt x="20" y="871"/>
                  </a:lnTo>
                  <a:lnTo>
                    <a:pt x="10" y="837"/>
                  </a:lnTo>
                  <a:lnTo>
                    <a:pt x="3" y="807"/>
                  </a:lnTo>
                  <a:lnTo>
                    <a:pt x="0" y="783"/>
                  </a:lnTo>
                  <a:lnTo>
                    <a:pt x="0" y="767"/>
                  </a:lnTo>
                  <a:lnTo>
                    <a:pt x="3" y="751"/>
                  </a:lnTo>
                  <a:lnTo>
                    <a:pt x="7" y="736"/>
                  </a:lnTo>
                  <a:lnTo>
                    <a:pt x="12" y="719"/>
                  </a:lnTo>
                  <a:lnTo>
                    <a:pt x="19" y="704"/>
                  </a:lnTo>
                  <a:lnTo>
                    <a:pt x="27" y="689"/>
                  </a:lnTo>
                  <a:lnTo>
                    <a:pt x="35" y="673"/>
                  </a:lnTo>
                  <a:lnTo>
                    <a:pt x="44" y="658"/>
                  </a:lnTo>
                  <a:lnTo>
                    <a:pt x="54" y="643"/>
                  </a:lnTo>
                  <a:lnTo>
                    <a:pt x="64" y="627"/>
                  </a:lnTo>
                  <a:lnTo>
                    <a:pt x="76" y="613"/>
                  </a:lnTo>
                  <a:lnTo>
                    <a:pt x="88" y="599"/>
                  </a:lnTo>
                  <a:lnTo>
                    <a:pt x="99" y="586"/>
                  </a:lnTo>
                  <a:lnTo>
                    <a:pt x="124" y="558"/>
                  </a:lnTo>
                  <a:lnTo>
                    <a:pt x="149" y="534"/>
                  </a:lnTo>
                  <a:lnTo>
                    <a:pt x="174" y="511"/>
                  </a:lnTo>
                  <a:lnTo>
                    <a:pt x="197" y="490"/>
                  </a:lnTo>
                  <a:lnTo>
                    <a:pt x="219" y="471"/>
                  </a:lnTo>
                  <a:lnTo>
                    <a:pt x="239" y="456"/>
                  </a:lnTo>
                  <a:lnTo>
                    <a:pt x="268" y="435"/>
                  </a:lnTo>
                  <a:lnTo>
                    <a:pt x="279" y="426"/>
                  </a:lnTo>
                  <a:lnTo>
                    <a:pt x="1125" y="8"/>
                  </a:lnTo>
                  <a:close/>
                </a:path>
              </a:pathLst>
            </a:custGeom>
            <a:solidFill>
              <a:srgbClr val="5abb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5298480" y="4246200"/>
              <a:ext cx="1200240" cy="1653840"/>
            </a:xfrm>
            <a:custGeom>
              <a:avLst/>
              <a:gdLst/>
              <a:ahLst/>
              <a:rect l="l" t="t" r="r" b="b"/>
              <a:pathLst>
                <a:path w="3097" h="4274">
                  <a:moveTo>
                    <a:pt x="1125" y="8"/>
                  </a:moveTo>
                  <a:lnTo>
                    <a:pt x="1135" y="6"/>
                  </a:lnTo>
                  <a:lnTo>
                    <a:pt x="1162" y="3"/>
                  </a:lnTo>
                  <a:lnTo>
                    <a:pt x="1182" y="1"/>
                  </a:lnTo>
                  <a:lnTo>
                    <a:pt x="1205" y="0"/>
                  </a:lnTo>
                  <a:lnTo>
                    <a:pt x="1232" y="1"/>
                  </a:lnTo>
                  <a:lnTo>
                    <a:pt x="1260" y="2"/>
                  </a:lnTo>
                  <a:lnTo>
                    <a:pt x="1292" y="6"/>
                  </a:lnTo>
                  <a:lnTo>
                    <a:pt x="1326" y="12"/>
                  </a:lnTo>
                  <a:lnTo>
                    <a:pt x="1343" y="15"/>
                  </a:lnTo>
                  <a:lnTo>
                    <a:pt x="1361" y="21"/>
                  </a:lnTo>
                  <a:lnTo>
                    <a:pt x="1380" y="26"/>
                  </a:lnTo>
                  <a:lnTo>
                    <a:pt x="1399" y="32"/>
                  </a:lnTo>
                  <a:lnTo>
                    <a:pt x="1418" y="39"/>
                  </a:lnTo>
                  <a:lnTo>
                    <a:pt x="1437" y="46"/>
                  </a:lnTo>
                  <a:lnTo>
                    <a:pt x="1456" y="55"/>
                  </a:lnTo>
                  <a:lnTo>
                    <a:pt x="1477" y="64"/>
                  </a:lnTo>
                  <a:lnTo>
                    <a:pt x="1496" y="76"/>
                  </a:lnTo>
                  <a:lnTo>
                    <a:pt x="1517" y="87"/>
                  </a:lnTo>
                  <a:lnTo>
                    <a:pt x="1536" y="100"/>
                  </a:lnTo>
                  <a:lnTo>
                    <a:pt x="1556" y="114"/>
                  </a:lnTo>
                  <a:lnTo>
                    <a:pt x="1579" y="135"/>
                  </a:lnTo>
                  <a:lnTo>
                    <a:pt x="1606" y="165"/>
                  </a:lnTo>
                  <a:lnTo>
                    <a:pt x="1638" y="207"/>
                  </a:lnTo>
                  <a:lnTo>
                    <a:pt x="1675" y="258"/>
                  </a:lnTo>
                  <a:lnTo>
                    <a:pt x="1715" y="317"/>
                  </a:lnTo>
                  <a:lnTo>
                    <a:pt x="1759" y="386"/>
                  </a:lnTo>
                  <a:lnTo>
                    <a:pt x="1807" y="461"/>
                  </a:lnTo>
                  <a:lnTo>
                    <a:pt x="1858" y="543"/>
                  </a:lnTo>
                  <a:lnTo>
                    <a:pt x="1910" y="630"/>
                  </a:lnTo>
                  <a:lnTo>
                    <a:pt x="1967" y="723"/>
                  </a:lnTo>
                  <a:lnTo>
                    <a:pt x="2024" y="821"/>
                  </a:lnTo>
                  <a:lnTo>
                    <a:pt x="2082" y="923"/>
                  </a:lnTo>
                  <a:lnTo>
                    <a:pt x="2202" y="1134"/>
                  </a:lnTo>
                  <a:lnTo>
                    <a:pt x="2325" y="1352"/>
                  </a:lnTo>
                  <a:lnTo>
                    <a:pt x="2446" y="1571"/>
                  </a:lnTo>
                  <a:lnTo>
                    <a:pt x="2564" y="1785"/>
                  </a:lnTo>
                  <a:lnTo>
                    <a:pt x="2675" y="1988"/>
                  </a:lnTo>
                  <a:lnTo>
                    <a:pt x="2776" y="2175"/>
                  </a:lnTo>
                  <a:lnTo>
                    <a:pt x="2939" y="2477"/>
                  </a:lnTo>
                  <a:lnTo>
                    <a:pt x="3030" y="2644"/>
                  </a:lnTo>
                  <a:lnTo>
                    <a:pt x="3041" y="2665"/>
                  </a:lnTo>
                  <a:lnTo>
                    <a:pt x="3051" y="2686"/>
                  </a:lnTo>
                  <a:lnTo>
                    <a:pt x="3061" y="2706"/>
                  </a:lnTo>
                  <a:lnTo>
                    <a:pt x="3068" y="2727"/>
                  </a:lnTo>
                  <a:lnTo>
                    <a:pt x="3075" y="2746"/>
                  </a:lnTo>
                  <a:lnTo>
                    <a:pt x="3081" y="2765"/>
                  </a:lnTo>
                  <a:lnTo>
                    <a:pt x="3085" y="2785"/>
                  </a:lnTo>
                  <a:lnTo>
                    <a:pt x="3089" y="2804"/>
                  </a:lnTo>
                  <a:lnTo>
                    <a:pt x="3092" y="2823"/>
                  </a:lnTo>
                  <a:lnTo>
                    <a:pt x="3095" y="2842"/>
                  </a:lnTo>
                  <a:lnTo>
                    <a:pt x="3096" y="2860"/>
                  </a:lnTo>
                  <a:lnTo>
                    <a:pt x="3097" y="2878"/>
                  </a:lnTo>
                  <a:lnTo>
                    <a:pt x="3097" y="2912"/>
                  </a:lnTo>
                  <a:lnTo>
                    <a:pt x="3096" y="2946"/>
                  </a:lnTo>
                  <a:lnTo>
                    <a:pt x="3092" y="2979"/>
                  </a:lnTo>
                  <a:lnTo>
                    <a:pt x="3088" y="3009"/>
                  </a:lnTo>
                  <a:lnTo>
                    <a:pt x="3083" y="3039"/>
                  </a:lnTo>
                  <a:lnTo>
                    <a:pt x="3078" y="3066"/>
                  </a:lnTo>
                  <a:lnTo>
                    <a:pt x="3072" y="3092"/>
                  </a:lnTo>
                  <a:lnTo>
                    <a:pt x="3068" y="3116"/>
                  </a:lnTo>
                  <a:lnTo>
                    <a:pt x="3064" y="3139"/>
                  </a:lnTo>
                  <a:lnTo>
                    <a:pt x="3062" y="3160"/>
                  </a:lnTo>
                  <a:lnTo>
                    <a:pt x="3057" y="3217"/>
                  </a:lnTo>
                  <a:lnTo>
                    <a:pt x="3050" y="3273"/>
                  </a:lnTo>
                  <a:lnTo>
                    <a:pt x="3041" y="3329"/>
                  </a:lnTo>
                  <a:lnTo>
                    <a:pt x="3030" y="3383"/>
                  </a:lnTo>
                  <a:lnTo>
                    <a:pt x="3017" y="3438"/>
                  </a:lnTo>
                  <a:lnTo>
                    <a:pt x="3002" y="3490"/>
                  </a:lnTo>
                  <a:lnTo>
                    <a:pt x="2985" y="3542"/>
                  </a:lnTo>
                  <a:lnTo>
                    <a:pt x="2967" y="3592"/>
                  </a:lnTo>
                  <a:lnTo>
                    <a:pt x="2946" y="3640"/>
                  </a:lnTo>
                  <a:lnTo>
                    <a:pt x="2925" y="3687"/>
                  </a:lnTo>
                  <a:lnTo>
                    <a:pt x="2901" y="3733"/>
                  </a:lnTo>
                  <a:lnTo>
                    <a:pt x="2876" y="3778"/>
                  </a:lnTo>
                  <a:lnTo>
                    <a:pt x="2849" y="3821"/>
                  </a:lnTo>
                  <a:lnTo>
                    <a:pt x="2822" y="3863"/>
                  </a:lnTo>
                  <a:lnTo>
                    <a:pt x="2792" y="3903"/>
                  </a:lnTo>
                  <a:lnTo>
                    <a:pt x="2763" y="3940"/>
                  </a:lnTo>
                  <a:lnTo>
                    <a:pt x="2731" y="3977"/>
                  </a:lnTo>
                  <a:lnTo>
                    <a:pt x="2698" y="4012"/>
                  </a:lnTo>
                  <a:lnTo>
                    <a:pt x="2665" y="4044"/>
                  </a:lnTo>
                  <a:lnTo>
                    <a:pt x="2631" y="4075"/>
                  </a:lnTo>
                  <a:lnTo>
                    <a:pt x="2595" y="4105"/>
                  </a:lnTo>
                  <a:lnTo>
                    <a:pt x="2559" y="4131"/>
                  </a:lnTo>
                  <a:lnTo>
                    <a:pt x="2522" y="4156"/>
                  </a:lnTo>
                  <a:lnTo>
                    <a:pt x="2485" y="4178"/>
                  </a:lnTo>
                  <a:lnTo>
                    <a:pt x="2446" y="4198"/>
                  </a:lnTo>
                  <a:lnTo>
                    <a:pt x="2408" y="4217"/>
                  </a:lnTo>
                  <a:lnTo>
                    <a:pt x="2369" y="4232"/>
                  </a:lnTo>
                  <a:lnTo>
                    <a:pt x="2330" y="4245"/>
                  </a:lnTo>
                  <a:lnTo>
                    <a:pt x="2290" y="4257"/>
                  </a:lnTo>
                  <a:lnTo>
                    <a:pt x="2250" y="4265"/>
                  </a:lnTo>
                  <a:lnTo>
                    <a:pt x="2209" y="4271"/>
                  </a:lnTo>
                  <a:lnTo>
                    <a:pt x="2170" y="4274"/>
                  </a:lnTo>
                  <a:lnTo>
                    <a:pt x="2128" y="4271"/>
                  </a:lnTo>
                  <a:lnTo>
                    <a:pt x="2084" y="4258"/>
                  </a:lnTo>
                  <a:lnTo>
                    <a:pt x="2038" y="4236"/>
                  </a:lnTo>
                  <a:lnTo>
                    <a:pt x="1989" y="4207"/>
                  </a:lnTo>
                  <a:lnTo>
                    <a:pt x="1939" y="4169"/>
                  </a:lnTo>
                  <a:lnTo>
                    <a:pt x="1887" y="4124"/>
                  </a:lnTo>
                  <a:lnTo>
                    <a:pt x="1834" y="4073"/>
                  </a:lnTo>
                  <a:lnTo>
                    <a:pt x="1780" y="4015"/>
                  </a:lnTo>
                  <a:lnTo>
                    <a:pt x="1724" y="3953"/>
                  </a:lnTo>
                  <a:lnTo>
                    <a:pt x="1668" y="3884"/>
                  </a:lnTo>
                  <a:lnTo>
                    <a:pt x="1610" y="3813"/>
                  </a:lnTo>
                  <a:lnTo>
                    <a:pt x="1553" y="3736"/>
                  </a:lnTo>
                  <a:lnTo>
                    <a:pt x="1496" y="3658"/>
                  </a:lnTo>
                  <a:lnTo>
                    <a:pt x="1439" y="3577"/>
                  </a:lnTo>
                  <a:lnTo>
                    <a:pt x="1383" y="3494"/>
                  </a:lnTo>
                  <a:lnTo>
                    <a:pt x="1327" y="3410"/>
                  </a:lnTo>
                  <a:lnTo>
                    <a:pt x="1272" y="3324"/>
                  </a:lnTo>
                  <a:lnTo>
                    <a:pt x="1216" y="3240"/>
                  </a:lnTo>
                  <a:lnTo>
                    <a:pt x="1163" y="3155"/>
                  </a:lnTo>
                  <a:lnTo>
                    <a:pt x="1112" y="3071"/>
                  </a:lnTo>
                  <a:lnTo>
                    <a:pt x="1014" y="2909"/>
                  </a:lnTo>
                  <a:lnTo>
                    <a:pt x="926" y="2759"/>
                  </a:lnTo>
                  <a:lnTo>
                    <a:pt x="847" y="2625"/>
                  </a:lnTo>
                  <a:lnTo>
                    <a:pt x="781" y="2511"/>
                  </a:lnTo>
                  <a:lnTo>
                    <a:pt x="752" y="2463"/>
                  </a:lnTo>
                  <a:lnTo>
                    <a:pt x="728" y="2423"/>
                  </a:lnTo>
                  <a:lnTo>
                    <a:pt x="707" y="2390"/>
                  </a:lnTo>
                  <a:lnTo>
                    <a:pt x="691" y="2364"/>
                  </a:lnTo>
                  <a:lnTo>
                    <a:pt x="682" y="2349"/>
                  </a:lnTo>
                  <a:lnTo>
                    <a:pt x="668" y="2328"/>
                  </a:lnTo>
                  <a:lnTo>
                    <a:pt x="653" y="2299"/>
                  </a:lnTo>
                  <a:lnTo>
                    <a:pt x="636" y="2266"/>
                  </a:lnTo>
                  <a:lnTo>
                    <a:pt x="593" y="2183"/>
                  </a:lnTo>
                  <a:lnTo>
                    <a:pt x="543" y="2082"/>
                  </a:lnTo>
                  <a:lnTo>
                    <a:pt x="488" y="1967"/>
                  </a:lnTo>
                  <a:lnTo>
                    <a:pt x="429" y="1841"/>
                  </a:lnTo>
                  <a:lnTo>
                    <a:pt x="367" y="1709"/>
                  </a:lnTo>
                  <a:lnTo>
                    <a:pt x="305" y="1572"/>
                  </a:lnTo>
                  <a:lnTo>
                    <a:pt x="245" y="1435"/>
                  </a:lnTo>
                  <a:lnTo>
                    <a:pt x="187" y="1302"/>
                  </a:lnTo>
                  <a:lnTo>
                    <a:pt x="134" y="1175"/>
                  </a:lnTo>
                  <a:lnTo>
                    <a:pt x="88" y="1059"/>
                  </a:lnTo>
                  <a:lnTo>
                    <a:pt x="67" y="1006"/>
                  </a:lnTo>
                  <a:lnTo>
                    <a:pt x="49" y="956"/>
                  </a:lnTo>
                  <a:lnTo>
                    <a:pt x="34" y="911"/>
                  </a:lnTo>
                  <a:lnTo>
                    <a:pt x="20" y="871"/>
                  </a:lnTo>
                  <a:lnTo>
                    <a:pt x="10" y="837"/>
                  </a:lnTo>
                  <a:lnTo>
                    <a:pt x="3" y="807"/>
                  </a:lnTo>
                  <a:lnTo>
                    <a:pt x="0" y="783"/>
                  </a:lnTo>
                  <a:lnTo>
                    <a:pt x="0" y="767"/>
                  </a:lnTo>
                  <a:lnTo>
                    <a:pt x="3" y="751"/>
                  </a:lnTo>
                  <a:lnTo>
                    <a:pt x="7" y="736"/>
                  </a:lnTo>
                  <a:lnTo>
                    <a:pt x="12" y="719"/>
                  </a:lnTo>
                  <a:lnTo>
                    <a:pt x="19" y="704"/>
                  </a:lnTo>
                  <a:lnTo>
                    <a:pt x="27" y="689"/>
                  </a:lnTo>
                  <a:lnTo>
                    <a:pt x="35" y="673"/>
                  </a:lnTo>
                  <a:lnTo>
                    <a:pt x="44" y="658"/>
                  </a:lnTo>
                  <a:lnTo>
                    <a:pt x="54" y="643"/>
                  </a:lnTo>
                  <a:lnTo>
                    <a:pt x="64" y="627"/>
                  </a:lnTo>
                  <a:lnTo>
                    <a:pt x="76" y="613"/>
                  </a:lnTo>
                  <a:lnTo>
                    <a:pt x="88" y="599"/>
                  </a:lnTo>
                  <a:lnTo>
                    <a:pt x="99" y="586"/>
                  </a:lnTo>
                  <a:lnTo>
                    <a:pt x="124" y="558"/>
                  </a:lnTo>
                  <a:lnTo>
                    <a:pt x="149" y="534"/>
                  </a:lnTo>
                  <a:lnTo>
                    <a:pt x="174" y="511"/>
                  </a:lnTo>
                  <a:lnTo>
                    <a:pt x="197" y="490"/>
                  </a:lnTo>
                  <a:lnTo>
                    <a:pt x="219" y="471"/>
                  </a:lnTo>
                  <a:lnTo>
                    <a:pt x="239" y="456"/>
                  </a:lnTo>
                  <a:lnTo>
                    <a:pt x="268" y="435"/>
                  </a:lnTo>
                  <a:lnTo>
                    <a:pt x="279" y="426"/>
                  </a:lnTo>
                  <a:lnTo>
                    <a:pt x="1125" y="8"/>
                  </a:lnTo>
                </a:path>
              </a:pathLst>
            </a:custGeom>
            <a:noFill/>
            <a:ln w="46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3016080" y="4190040"/>
              <a:ext cx="907920" cy="1810440"/>
            </a:xfrm>
            <a:custGeom>
              <a:avLst/>
              <a:gdLst/>
              <a:ahLst/>
              <a:rect l="l" t="t" r="r" b="b"/>
              <a:pathLst>
                <a:path w="2342" h="4680">
                  <a:moveTo>
                    <a:pt x="1007" y="0"/>
                  </a:moveTo>
                  <a:lnTo>
                    <a:pt x="998" y="1"/>
                  </a:lnTo>
                  <a:lnTo>
                    <a:pt x="970" y="7"/>
                  </a:lnTo>
                  <a:lnTo>
                    <a:pt x="951" y="12"/>
                  </a:lnTo>
                  <a:lnTo>
                    <a:pt x="929" y="19"/>
                  </a:lnTo>
                  <a:lnTo>
                    <a:pt x="904" y="28"/>
                  </a:lnTo>
                  <a:lnTo>
                    <a:pt x="877" y="39"/>
                  </a:lnTo>
                  <a:lnTo>
                    <a:pt x="849" y="52"/>
                  </a:lnTo>
                  <a:lnTo>
                    <a:pt x="818" y="70"/>
                  </a:lnTo>
                  <a:lnTo>
                    <a:pt x="803" y="79"/>
                  </a:lnTo>
                  <a:lnTo>
                    <a:pt x="787" y="89"/>
                  </a:lnTo>
                  <a:lnTo>
                    <a:pt x="772" y="100"/>
                  </a:lnTo>
                  <a:lnTo>
                    <a:pt x="756" y="111"/>
                  </a:lnTo>
                  <a:lnTo>
                    <a:pt x="740" y="125"/>
                  </a:lnTo>
                  <a:lnTo>
                    <a:pt x="725" y="138"/>
                  </a:lnTo>
                  <a:lnTo>
                    <a:pt x="709" y="152"/>
                  </a:lnTo>
                  <a:lnTo>
                    <a:pt x="693" y="169"/>
                  </a:lnTo>
                  <a:lnTo>
                    <a:pt x="678" y="185"/>
                  </a:lnTo>
                  <a:lnTo>
                    <a:pt x="664" y="202"/>
                  </a:lnTo>
                  <a:lnTo>
                    <a:pt x="649" y="222"/>
                  </a:lnTo>
                  <a:lnTo>
                    <a:pt x="634" y="241"/>
                  </a:lnTo>
                  <a:lnTo>
                    <a:pt x="620" y="264"/>
                  </a:lnTo>
                  <a:lnTo>
                    <a:pt x="605" y="295"/>
                  </a:lnTo>
                  <a:lnTo>
                    <a:pt x="587" y="332"/>
                  </a:lnTo>
                  <a:lnTo>
                    <a:pt x="569" y="375"/>
                  </a:lnTo>
                  <a:lnTo>
                    <a:pt x="551" y="423"/>
                  </a:lnTo>
                  <a:lnTo>
                    <a:pt x="531" y="476"/>
                  </a:lnTo>
                  <a:lnTo>
                    <a:pt x="511" y="533"/>
                  </a:lnTo>
                  <a:lnTo>
                    <a:pt x="490" y="594"/>
                  </a:lnTo>
                  <a:lnTo>
                    <a:pt x="469" y="659"/>
                  </a:lnTo>
                  <a:lnTo>
                    <a:pt x="448" y="728"/>
                  </a:lnTo>
                  <a:lnTo>
                    <a:pt x="426" y="799"/>
                  </a:lnTo>
                  <a:lnTo>
                    <a:pt x="404" y="872"/>
                  </a:lnTo>
                  <a:lnTo>
                    <a:pt x="360" y="1024"/>
                  </a:lnTo>
                  <a:lnTo>
                    <a:pt x="316" y="1180"/>
                  </a:lnTo>
                  <a:lnTo>
                    <a:pt x="273" y="1336"/>
                  </a:lnTo>
                  <a:lnTo>
                    <a:pt x="233" y="1489"/>
                  </a:lnTo>
                  <a:lnTo>
                    <a:pt x="195" y="1636"/>
                  </a:lnTo>
                  <a:lnTo>
                    <a:pt x="162" y="1773"/>
                  </a:lnTo>
                  <a:lnTo>
                    <a:pt x="131" y="1895"/>
                  </a:lnTo>
                  <a:lnTo>
                    <a:pt x="107" y="2001"/>
                  </a:lnTo>
                  <a:lnTo>
                    <a:pt x="88" y="2086"/>
                  </a:lnTo>
                  <a:lnTo>
                    <a:pt x="76" y="2147"/>
                  </a:lnTo>
                  <a:lnTo>
                    <a:pt x="72" y="2175"/>
                  </a:lnTo>
                  <a:lnTo>
                    <a:pt x="68" y="2208"/>
                  </a:lnTo>
                  <a:lnTo>
                    <a:pt x="63" y="2247"/>
                  </a:lnTo>
                  <a:lnTo>
                    <a:pt x="59" y="2291"/>
                  </a:lnTo>
                  <a:lnTo>
                    <a:pt x="50" y="2394"/>
                  </a:lnTo>
                  <a:lnTo>
                    <a:pt x="41" y="2514"/>
                  </a:lnTo>
                  <a:lnTo>
                    <a:pt x="33" y="2645"/>
                  </a:lnTo>
                  <a:lnTo>
                    <a:pt x="25" y="2786"/>
                  </a:lnTo>
                  <a:lnTo>
                    <a:pt x="18" y="2932"/>
                  </a:lnTo>
                  <a:lnTo>
                    <a:pt x="12" y="3079"/>
                  </a:lnTo>
                  <a:lnTo>
                    <a:pt x="7" y="3224"/>
                  </a:lnTo>
                  <a:lnTo>
                    <a:pt x="4" y="3365"/>
                  </a:lnTo>
                  <a:lnTo>
                    <a:pt x="1" y="3497"/>
                  </a:lnTo>
                  <a:lnTo>
                    <a:pt x="0" y="3615"/>
                  </a:lnTo>
                  <a:lnTo>
                    <a:pt x="0" y="3668"/>
                  </a:lnTo>
                  <a:lnTo>
                    <a:pt x="0" y="3718"/>
                  </a:lnTo>
                  <a:lnTo>
                    <a:pt x="1" y="3762"/>
                  </a:lnTo>
                  <a:lnTo>
                    <a:pt x="3" y="3801"/>
                  </a:lnTo>
                  <a:lnTo>
                    <a:pt x="5" y="3833"/>
                  </a:lnTo>
                  <a:lnTo>
                    <a:pt x="7" y="3860"/>
                  </a:lnTo>
                  <a:lnTo>
                    <a:pt x="10" y="3880"/>
                  </a:lnTo>
                  <a:lnTo>
                    <a:pt x="13" y="3894"/>
                  </a:lnTo>
                  <a:lnTo>
                    <a:pt x="36" y="3946"/>
                  </a:lnTo>
                  <a:lnTo>
                    <a:pt x="62" y="3998"/>
                  </a:lnTo>
                  <a:lnTo>
                    <a:pt x="88" y="4047"/>
                  </a:lnTo>
                  <a:lnTo>
                    <a:pt x="117" y="4095"/>
                  </a:lnTo>
                  <a:lnTo>
                    <a:pt x="146" y="4141"/>
                  </a:lnTo>
                  <a:lnTo>
                    <a:pt x="178" y="4186"/>
                  </a:lnTo>
                  <a:lnTo>
                    <a:pt x="211" y="4229"/>
                  </a:lnTo>
                  <a:lnTo>
                    <a:pt x="244" y="4270"/>
                  </a:lnTo>
                  <a:lnTo>
                    <a:pt x="280" y="4310"/>
                  </a:lnTo>
                  <a:lnTo>
                    <a:pt x="316" y="4347"/>
                  </a:lnTo>
                  <a:lnTo>
                    <a:pt x="354" y="4383"/>
                  </a:lnTo>
                  <a:lnTo>
                    <a:pt x="392" y="4417"/>
                  </a:lnTo>
                  <a:lnTo>
                    <a:pt x="431" y="4449"/>
                  </a:lnTo>
                  <a:lnTo>
                    <a:pt x="471" y="4479"/>
                  </a:lnTo>
                  <a:lnTo>
                    <a:pt x="512" y="4508"/>
                  </a:lnTo>
                  <a:lnTo>
                    <a:pt x="553" y="4533"/>
                  </a:lnTo>
                  <a:lnTo>
                    <a:pt x="594" y="4558"/>
                  </a:lnTo>
                  <a:lnTo>
                    <a:pt x="636" y="4580"/>
                  </a:lnTo>
                  <a:lnTo>
                    <a:pt x="678" y="4599"/>
                  </a:lnTo>
                  <a:lnTo>
                    <a:pt x="721" y="4618"/>
                  </a:lnTo>
                  <a:lnTo>
                    <a:pt x="764" y="4633"/>
                  </a:lnTo>
                  <a:lnTo>
                    <a:pt x="807" y="4647"/>
                  </a:lnTo>
                  <a:lnTo>
                    <a:pt x="850" y="4659"/>
                  </a:lnTo>
                  <a:lnTo>
                    <a:pt x="892" y="4667"/>
                  </a:lnTo>
                  <a:lnTo>
                    <a:pt x="935" y="4674"/>
                  </a:lnTo>
                  <a:lnTo>
                    <a:pt x="977" y="4678"/>
                  </a:lnTo>
                  <a:lnTo>
                    <a:pt x="1019" y="4680"/>
                  </a:lnTo>
                  <a:lnTo>
                    <a:pt x="1061" y="4680"/>
                  </a:lnTo>
                  <a:lnTo>
                    <a:pt x="1102" y="4677"/>
                  </a:lnTo>
                  <a:lnTo>
                    <a:pt x="1141" y="4672"/>
                  </a:lnTo>
                  <a:lnTo>
                    <a:pt x="1181" y="4665"/>
                  </a:lnTo>
                  <a:lnTo>
                    <a:pt x="1220" y="4655"/>
                  </a:lnTo>
                  <a:lnTo>
                    <a:pt x="1259" y="4637"/>
                  </a:lnTo>
                  <a:lnTo>
                    <a:pt x="1299" y="4609"/>
                  </a:lnTo>
                  <a:lnTo>
                    <a:pt x="1337" y="4569"/>
                  </a:lnTo>
                  <a:lnTo>
                    <a:pt x="1377" y="4520"/>
                  </a:lnTo>
                  <a:lnTo>
                    <a:pt x="1416" y="4462"/>
                  </a:lnTo>
                  <a:lnTo>
                    <a:pt x="1456" y="4394"/>
                  </a:lnTo>
                  <a:lnTo>
                    <a:pt x="1496" y="4320"/>
                  </a:lnTo>
                  <a:lnTo>
                    <a:pt x="1534" y="4238"/>
                  </a:lnTo>
                  <a:lnTo>
                    <a:pt x="1574" y="4150"/>
                  </a:lnTo>
                  <a:lnTo>
                    <a:pt x="1612" y="4057"/>
                  </a:lnTo>
                  <a:lnTo>
                    <a:pt x="1651" y="3959"/>
                  </a:lnTo>
                  <a:lnTo>
                    <a:pt x="1688" y="3856"/>
                  </a:lnTo>
                  <a:lnTo>
                    <a:pt x="1725" y="3751"/>
                  </a:lnTo>
                  <a:lnTo>
                    <a:pt x="1762" y="3643"/>
                  </a:lnTo>
                  <a:lnTo>
                    <a:pt x="1797" y="3533"/>
                  </a:lnTo>
                  <a:lnTo>
                    <a:pt x="1831" y="3421"/>
                  </a:lnTo>
                  <a:lnTo>
                    <a:pt x="1865" y="3309"/>
                  </a:lnTo>
                  <a:lnTo>
                    <a:pt x="1898" y="3198"/>
                  </a:lnTo>
                  <a:lnTo>
                    <a:pt x="1929" y="3088"/>
                  </a:lnTo>
                  <a:lnTo>
                    <a:pt x="1959" y="2980"/>
                  </a:lnTo>
                  <a:lnTo>
                    <a:pt x="2015" y="2771"/>
                  </a:lnTo>
                  <a:lnTo>
                    <a:pt x="2065" y="2579"/>
                  </a:lnTo>
                  <a:lnTo>
                    <a:pt x="2144" y="2265"/>
                  </a:lnTo>
                  <a:lnTo>
                    <a:pt x="2189" y="2086"/>
                  </a:lnTo>
                  <a:lnTo>
                    <a:pt x="2196" y="2059"/>
                  </a:lnTo>
                  <a:lnTo>
                    <a:pt x="2203" y="2026"/>
                  </a:lnTo>
                  <a:lnTo>
                    <a:pt x="2210" y="1987"/>
                  </a:lnTo>
                  <a:lnTo>
                    <a:pt x="2218" y="1943"/>
                  </a:lnTo>
                  <a:lnTo>
                    <a:pt x="2233" y="1843"/>
                  </a:lnTo>
                  <a:lnTo>
                    <a:pt x="2250" y="1728"/>
                  </a:lnTo>
                  <a:lnTo>
                    <a:pt x="2266" y="1600"/>
                  </a:lnTo>
                  <a:lnTo>
                    <a:pt x="2281" y="1464"/>
                  </a:lnTo>
                  <a:lnTo>
                    <a:pt x="2296" y="1322"/>
                  </a:lnTo>
                  <a:lnTo>
                    <a:pt x="2309" y="1179"/>
                  </a:lnTo>
                  <a:lnTo>
                    <a:pt x="2320" y="1037"/>
                  </a:lnTo>
                  <a:lnTo>
                    <a:pt x="2330" y="899"/>
                  </a:lnTo>
                  <a:lnTo>
                    <a:pt x="2333" y="833"/>
                  </a:lnTo>
                  <a:lnTo>
                    <a:pt x="2337" y="769"/>
                  </a:lnTo>
                  <a:lnTo>
                    <a:pt x="2340" y="708"/>
                  </a:lnTo>
                  <a:lnTo>
                    <a:pt x="2341" y="650"/>
                  </a:lnTo>
                  <a:lnTo>
                    <a:pt x="2342" y="596"/>
                  </a:lnTo>
                  <a:lnTo>
                    <a:pt x="2342" y="546"/>
                  </a:lnTo>
                  <a:lnTo>
                    <a:pt x="2340" y="500"/>
                  </a:lnTo>
                  <a:lnTo>
                    <a:pt x="2338" y="458"/>
                  </a:lnTo>
                  <a:lnTo>
                    <a:pt x="2334" y="423"/>
                  </a:lnTo>
                  <a:lnTo>
                    <a:pt x="2330" y="393"/>
                  </a:lnTo>
                  <a:lnTo>
                    <a:pt x="2324" y="368"/>
                  </a:lnTo>
                  <a:lnTo>
                    <a:pt x="2318" y="351"/>
                  </a:lnTo>
                  <a:lnTo>
                    <a:pt x="2310" y="337"/>
                  </a:lnTo>
                  <a:lnTo>
                    <a:pt x="2301" y="324"/>
                  </a:lnTo>
                  <a:lnTo>
                    <a:pt x="2291" y="310"/>
                  </a:lnTo>
                  <a:lnTo>
                    <a:pt x="2278" y="297"/>
                  </a:lnTo>
                  <a:lnTo>
                    <a:pt x="2266" y="285"/>
                  </a:lnTo>
                  <a:lnTo>
                    <a:pt x="2254" y="273"/>
                  </a:lnTo>
                  <a:lnTo>
                    <a:pt x="2240" y="261"/>
                  </a:lnTo>
                  <a:lnTo>
                    <a:pt x="2225" y="250"/>
                  </a:lnTo>
                  <a:lnTo>
                    <a:pt x="2210" y="240"/>
                  </a:lnTo>
                  <a:lnTo>
                    <a:pt x="2195" y="230"/>
                  </a:lnTo>
                  <a:lnTo>
                    <a:pt x="2179" y="220"/>
                  </a:lnTo>
                  <a:lnTo>
                    <a:pt x="2164" y="210"/>
                  </a:lnTo>
                  <a:lnTo>
                    <a:pt x="2131" y="193"/>
                  </a:lnTo>
                  <a:lnTo>
                    <a:pt x="2100" y="178"/>
                  </a:lnTo>
                  <a:lnTo>
                    <a:pt x="2069" y="163"/>
                  </a:lnTo>
                  <a:lnTo>
                    <a:pt x="2040" y="152"/>
                  </a:lnTo>
                  <a:lnTo>
                    <a:pt x="2013" y="142"/>
                  </a:lnTo>
                  <a:lnTo>
                    <a:pt x="1990" y="134"/>
                  </a:lnTo>
                  <a:lnTo>
                    <a:pt x="1955" y="123"/>
                  </a:lnTo>
                  <a:lnTo>
                    <a:pt x="1942" y="119"/>
                  </a:lnTo>
                  <a:lnTo>
                    <a:pt x="1007" y="0"/>
                  </a:lnTo>
                  <a:close/>
                </a:path>
              </a:pathLst>
            </a:custGeom>
            <a:solidFill>
              <a:srgbClr val="5abb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3016080" y="4190040"/>
              <a:ext cx="907920" cy="1810440"/>
            </a:xfrm>
            <a:custGeom>
              <a:avLst/>
              <a:gdLst/>
              <a:ahLst/>
              <a:rect l="l" t="t" r="r" b="b"/>
              <a:pathLst>
                <a:path w="2342" h="4680">
                  <a:moveTo>
                    <a:pt x="1007" y="0"/>
                  </a:moveTo>
                  <a:lnTo>
                    <a:pt x="998" y="1"/>
                  </a:lnTo>
                  <a:lnTo>
                    <a:pt x="970" y="7"/>
                  </a:lnTo>
                  <a:lnTo>
                    <a:pt x="951" y="12"/>
                  </a:lnTo>
                  <a:lnTo>
                    <a:pt x="929" y="19"/>
                  </a:lnTo>
                  <a:lnTo>
                    <a:pt x="904" y="28"/>
                  </a:lnTo>
                  <a:lnTo>
                    <a:pt x="877" y="39"/>
                  </a:lnTo>
                  <a:lnTo>
                    <a:pt x="849" y="52"/>
                  </a:lnTo>
                  <a:lnTo>
                    <a:pt x="818" y="70"/>
                  </a:lnTo>
                  <a:lnTo>
                    <a:pt x="803" y="79"/>
                  </a:lnTo>
                  <a:lnTo>
                    <a:pt x="787" y="89"/>
                  </a:lnTo>
                  <a:lnTo>
                    <a:pt x="772" y="100"/>
                  </a:lnTo>
                  <a:lnTo>
                    <a:pt x="756" y="111"/>
                  </a:lnTo>
                  <a:lnTo>
                    <a:pt x="740" y="125"/>
                  </a:lnTo>
                  <a:lnTo>
                    <a:pt x="725" y="138"/>
                  </a:lnTo>
                  <a:lnTo>
                    <a:pt x="709" y="152"/>
                  </a:lnTo>
                  <a:lnTo>
                    <a:pt x="693" y="169"/>
                  </a:lnTo>
                  <a:lnTo>
                    <a:pt x="678" y="185"/>
                  </a:lnTo>
                  <a:lnTo>
                    <a:pt x="664" y="202"/>
                  </a:lnTo>
                  <a:lnTo>
                    <a:pt x="649" y="222"/>
                  </a:lnTo>
                  <a:lnTo>
                    <a:pt x="634" y="241"/>
                  </a:lnTo>
                  <a:lnTo>
                    <a:pt x="620" y="264"/>
                  </a:lnTo>
                  <a:lnTo>
                    <a:pt x="605" y="295"/>
                  </a:lnTo>
                  <a:lnTo>
                    <a:pt x="587" y="332"/>
                  </a:lnTo>
                  <a:lnTo>
                    <a:pt x="569" y="375"/>
                  </a:lnTo>
                  <a:lnTo>
                    <a:pt x="551" y="423"/>
                  </a:lnTo>
                  <a:lnTo>
                    <a:pt x="531" y="476"/>
                  </a:lnTo>
                  <a:lnTo>
                    <a:pt x="511" y="533"/>
                  </a:lnTo>
                  <a:lnTo>
                    <a:pt x="490" y="594"/>
                  </a:lnTo>
                  <a:lnTo>
                    <a:pt x="469" y="659"/>
                  </a:lnTo>
                  <a:lnTo>
                    <a:pt x="448" y="728"/>
                  </a:lnTo>
                  <a:lnTo>
                    <a:pt x="426" y="799"/>
                  </a:lnTo>
                  <a:lnTo>
                    <a:pt x="404" y="872"/>
                  </a:lnTo>
                  <a:lnTo>
                    <a:pt x="360" y="1024"/>
                  </a:lnTo>
                  <a:lnTo>
                    <a:pt x="316" y="1180"/>
                  </a:lnTo>
                  <a:lnTo>
                    <a:pt x="273" y="1336"/>
                  </a:lnTo>
                  <a:lnTo>
                    <a:pt x="233" y="1489"/>
                  </a:lnTo>
                  <a:lnTo>
                    <a:pt x="195" y="1636"/>
                  </a:lnTo>
                  <a:lnTo>
                    <a:pt x="162" y="1773"/>
                  </a:lnTo>
                  <a:lnTo>
                    <a:pt x="131" y="1895"/>
                  </a:lnTo>
                  <a:lnTo>
                    <a:pt x="107" y="2001"/>
                  </a:lnTo>
                  <a:lnTo>
                    <a:pt x="88" y="2086"/>
                  </a:lnTo>
                  <a:lnTo>
                    <a:pt x="76" y="2147"/>
                  </a:lnTo>
                  <a:lnTo>
                    <a:pt x="72" y="2175"/>
                  </a:lnTo>
                  <a:lnTo>
                    <a:pt x="68" y="2208"/>
                  </a:lnTo>
                  <a:lnTo>
                    <a:pt x="63" y="2247"/>
                  </a:lnTo>
                  <a:lnTo>
                    <a:pt x="59" y="2291"/>
                  </a:lnTo>
                  <a:lnTo>
                    <a:pt x="50" y="2394"/>
                  </a:lnTo>
                  <a:lnTo>
                    <a:pt x="41" y="2514"/>
                  </a:lnTo>
                  <a:lnTo>
                    <a:pt x="33" y="2645"/>
                  </a:lnTo>
                  <a:lnTo>
                    <a:pt x="25" y="2786"/>
                  </a:lnTo>
                  <a:lnTo>
                    <a:pt x="18" y="2932"/>
                  </a:lnTo>
                  <a:lnTo>
                    <a:pt x="12" y="3079"/>
                  </a:lnTo>
                  <a:lnTo>
                    <a:pt x="7" y="3224"/>
                  </a:lnTo>
                  <a:lnTo>
                    <a:pt x="4" y="3365"/>
                  </a:lnTo>
                  <a:lnTo>
                    <a:pt x="1" y="3497"/>
                  </a:lnTo>
                  <a:lnTo>
                    <a:pt x="0" y="3615"/>
                  </a:lnTo>
                  <a:lnTo>
                    <a:pt x="0" y="3668"/>
                  </a:lnTo>
                  <a:lnTo>
                    <a:pt x="0" y="3718"/>
                  </a:lnTo>
                  <a:lnTo>
                    <a:pt x="1" y="3762"/>
                  </a:lnTo>
                  <a:lnTo>
                    <a:pt x="3" y="3801"/>
                  </a:lnTo>
                  <a:lnTo>
                    <a:pt x="5" y="3833"/>
                  </a:lnTo>
                  <a:lnTo>
                    <a:pt x="7" y="3860"/>
                  </a:lnTo>
                  <a:lnTo>
                    <a:pt x="10" y="3880"/>
                  </a:lnTo>
                  <a:lnTo>
                    <a:pt x="13" y="3894"/>
                  </a:lnTo>
                  <a:lnTo>
                    <a:pt x="36" y="3946"/>
                  </a:lnTo>
                  <a:lnTo>
                    <a:pt x="62" y="3998"/>
                  </a:lnTo>
                  <a:lnTo>
                    <a:pt x="88" y="4047"/>
                  </a:lnTo>
                  <a:lnTo>
                    <a:pt x="117" y="4095"/>
                  </a:lnTo>
                  <a:lnTo>
                    <a:pt x="146" y="4141"/>
                  </a:lnTo>
                  <a:lnTo>
                    <a:pt x="178" y="4186"/>
                  </a:lnTo>
                  <a:lnTo>
                    <a:pt x="211" y="4229"/>
                  </a:lnTo>
                  <a:lnTo>
                    <a:pt x="244" y="4270"/>
                  </a:lnTo>
                  <a:lnTo>
                    <a:pt x="280" y="4310"/>
                  </a:lnTo>
                  <a:lnTo>
                    <a:pt x="316" y="4347"/>
                  </a:lnTo>
                  <a:lnTo>
                    <a:pt x="354" y="4383"/>
                  </a:lnTo>
                  <a:lnTo>
                    <a:pt x="392" y="4417"/>
                  </a:lnTo>
                  <a:lnTo>
                    <a:pt x="431" y="4449"/>
                  </a:lnTo>
                  <a:lnTo>
                    <a:pt x="471" y="4479"/>
                  </a:lnTo>
                  <a:lnTo>
                    <a:pt x="512" y="4508"/>
                  </a:lnTo>
                  <a:lnTo>
                    <a:pt x="553" y="4533"/>
                  </a:lnTo>
                  <a:lnTo>
                    <a:pt x="594" y="4558"/>
                  </a:lnTo>
                  <a:lnTo>
                    <a:pt x="636" y="4580"/>
                  </a:lnTo>
                  <a:lnTo>
                    <a:pt x="678" y="4599"/>
                  </a:lnTo>
                  <a:lnTo>
                    <a:pt x="721" y="4618"/>
                  </a:lnTo>
                  <a:lnTo>
                    <a:pt x="764" y="4633"/>
                  </a:lnTo>
                  <a:lnTo>
                    <a:pt x="807" y="4647"/>
                  </a:lnTo>
                  <a:lnTo>
                    <a:pt x="850" y="4659"/>
                  </a:lnTo>
                  <a:lnTo>
                    <a:pt x="892" y="4667"/>
                  </a:lnTo>
                  <a:lnTo>
                    <a:pt x="935" y="4674"/>
                  </a:lnTo>
                  <a:lnTo>
                    <a:pt x="977" y="4678"/>
                  </a:lnTo>
                  <a:lnTo>
                    <a:pt x="1019" y="4680"/>
                  </a:lnTo>
                  <a:lnTo>
                    <a:pt x="1061" y="4680"/>
                  </a:lnTo>
                  <a:lnTo>
                    <a:pt x="1102" y="4677"/>
                  </a:lnTo>
                  <a:lnTo>
                    <a:pt x="1141" y="4672"/>
                  </a:lnTo>
                  <a:lnTo>
                    <a:pt x="1181" y="4665"/>
                  </a:lnTo>
                  <a:lnTo>
                    <a:pt x="1220" y="4655"/>
                  </a:lnTo>
                  <a:lnTo>
                    <a:pt x="1259" y="4637"/>
                  </a:lnTo>
                  <a:lnTo>
                    <a:pt x="1299" y="4609"/>
                  </a:lnTo>
                  <a:lnTo>
                    <a:pt x="1337" y="4569"/>
                  </a:lnTo>
                  <a:lnTo>
                    <a:pt x="1377" y="4520"/>
                  </a:lnTo>
                  <a:lnTo>
                    <a:pt x="1416" y="4462"/>
                  </a:lnTo>
                  <a:lnTo>
                    <a:pt x="1456" y="4394"/>
                  </a:lnTo>
                  <a:lnTo>
                    <a:pt x="1496" y="4320"/>
                  </a:lnTo>
                  <a:lnTo>
                    <a:pt x="1534" y="4238"/>
                  </a:lnTo>
                  <a:lnTo>
                    <a:pt x="1574" y="4150"/>
                  </a:lnTo>
                  <a:lnTo>
                    <a:pt x="1612" y="4057"/>
                  </a:lnTo>
                  <a:lnTo>
                    <a:pt x="1651" y="3959"/>
                  </a:lnTo>
                  <a:lnTo>
                    <a:pt x="1688" y="3856"/>
                  </a:lnTo>
                  <a:lnTo>
                    <a:pt x="1725" y="3751"/>
                  </a:lnTo>
                  <a:lnTo>
                    <a:pt x="1762" y="3643"/>
                  </a:lnTo>
                  <a:lnTo>
                    <a:pt x="1797" y="3533"/>
                  </a:lnTo>
                  <a:lnTo>
                    <a:pt x="1831" y="3421"/>
                  </a:lnTo>
                  <a:lnTo>
                    <a:pt x="1865" y="3309"/>
                  </a:lnTo>
                  <a:lnTo>
                    <a:pt x="1898" y="3198"/>
                  </a:lnTo>
                  <a:lnTo>
                    <a:pt x="1929" y="3088"/>
                  </a:lnTo>
                  <a:lnTo>
                    <a:pt x="1959" y="2980"/>
                  </a:lnTo>
                  <a:lnTo>
                    <a:pt x="2015" y="2771"/>
                  </a:lnTo>
                  <a:lnTo>
                    <a:pt x="2065" y="2579"/>
                  </a:lnTo>
                  <a:lnTo>
                    <a:pt x="2144" y="2265"/>
                  </a:lnTo>
                  <a:lnTo>
                    <a:pt x="2189" y="2086"/>
                  </a:lnTo>
                  <a:lnTo>
                    <a:pt x="2196" y="2059"/>
                  </a:lnTo>
                  <a:lnTo>
                    <a:pt x="2203" y="2026"/>
                  </a:lnTo>
                  <a:lnTo>
                    <a:pt x="2210" y="1987"/>
                  </a:lnTo>
                  <a:lnTo>
                    <a:pt x="2218" y="1943"/>
                  </a:lnTo>
                  <a:lnTo>
                    <a:pt x="2233" y="1843"/>
                  </a:lnTo>
                  <a:lnTo>
                    <a:pt x="2250" y="1728"/>
                  </a:lnTo>
                  <a:lnTo>
                    <a:pt x="2266" y="1600"/>
                  </a:lnTo>
                  <a:lnTo>
                    <a:pt x="2281" y="1464"/>
                  </a:lnTo>
                  <a:lnTo>
                    <a:pt x="2296" y="1322"/>
                  </a:lnTo>
                  <a:lnTo>
                    <a:pt x="2309" y="1179"/>
                  </a:lnTo>
                  <a:lnTo>
                    <a:pt x="2320" y="1037"/>
                  </a:lnTo>
                  <a:lnTo>
                    <a:pt x="2330" y="899"/>
                  </a:lnTo>
                  <a:lnTo>
                    <a:pt x="2333" y="833"/>
                  </a:lnTo>
                  <a:lnTo>
                    <a:pt x="2337" y="769"/>
                  </a:lnTo>
                  <a:lnTo>
                    <a:pt x="2340" y="708"/>
                  </a:lnTo>
                  <a:lnTo>
                    <a:pt x="2341" y="650"/>
                  </a:lnTo>
                  <a:lnTo>
                    <a:pt x="2342" y="596"/>
                  </a:lnTo>
                  <a:lnTo>
                    <a:pt x="2342" y="546"/>
                  </a:lnTo>
                  <a:lnTo>
                    <a:pt x="2340" y="500"/>
                  </a:lnTo>
                  <a:lnTo>
                    <a:pt x="2338" y="458"/>
                  </a:lnTo>
                  <a:lnTo>
                    <a:pt x="2334" y="423"/>
                  </a:lnTo>
                  <a:lnTo>
                    <a:pt x="2330" y="393"/>
                  </a:lnTo>
                  <a:lnTo>
                    <a:pt x="2324" y="368"/>
                  </a:lnTo>
                  <a:lnTo>
                    <a:pt x="2318" y="351"/>
                  </a:lnTo>
                  <a:lnTo>
                    <a:pt x="2310" y="337"/>
                  </a:lnTo>
                  <a:lnTo>
                    <a:pt x="2301" y="324"/>
                  </a:lnTo>
                  <a:lnTo>
                    <a:pt x="2291" y="310"/>
                  </a:lnTo>
                  <a:lnTo>
                    <a:pt x="2278" y="297"/>
                  </a:lnTo>
                  <a:lnTo>
                    <a:pt x="2266" y="285"/>
                  </a:lnTo>
                  <a:lnTo>
                    <a:pt x="2254" y="273"/>
                  </a:lnTo>
                  <a:lnTo>
                    <a:pt x="2240" y="261"/>
                  </a:lnTo>
                  <a:lnTo>
                    <a:pt x="2225" y="250"/>
                  </a:lnTo>
                  <a:lnTo>
                    <a:pt x="2210" y="240"/>
                  </a:lnTo>
                  <a:lnTo>
                    <a:pt x="2195" y="230"/>
                  </a:lnTo>
                  <a:lnTo>
                    <a:pt x="2179" y="220"/>
                  </a:lnTo>
                  <a:lnTo>
                    <a:pt x="2164" y="210"/>
                  </a:lnTo>
                  <a:lnTo>
                    <a:pt x="2131" y="193"/>
                  </a:lnTo>
                  <a:lnTo>
                    <a:pt x="2100" y="178"/>
                  </a:lnTo>
                  <a:lnTo>
                    <a:pt x="2069" y="163"/>
                  </a:lnTo>
                  <a:lnTo>
                    <a:pt x="2040" y="152"/>
                  </a:lnTo>
                  <a:lnTo>
                    <a:pt x="2013" y="142"/>
                  </a:lnTo>
                  <a:lnTo>
                    <a:pt x="1990" y="134"/>
                  </a:lnTo>
                  <a:lnTo>
                    <a:pt x="1955" y="123"/>
                  </a:lnTo>
                  <a:lnTo>
                    <a:pt x="1942" y="119"/>
                  </a:lnTo>
                  <a:lnTo>
                    <a:pt x="1007" y="0"/>
                  </a:lnTo>
                </a:path>
              </a:pathLst>
            </a:custGeom>
            <a:noFill/>
            <a:ln w="46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4370760" y="4246200"/>
              <a:ext cx="187560" cy="81360"/>
            </a:xfrm>
            <a:custGeom>
              <a:avLst/>
              <a:gdLst/>
              <a:ahLst/>
              <a:rect l="l" t="t" r="r" b="b"/>
              <a:pathLst>
                <a:path w="483" h="211">
                  <a:moveTo>
                    <a:pt x="0" y="199"/>
                  </a:moveTo>
                  <a:lnTo>
                    <a:pt x="19" y="203"/>
                  </a:lnTo>
                  <a:lnTo>
                    <a:pt x="38" y="206"/>
                  </a:lnTo>
                  <a:lnTo>
                    <a:pt x="57" y="208"/>
                  </a:lnTo>
                  <a:lnTo>
                    <a:pt x="75" y="210"/>
                  </a:lnTo>
                  <a:lnTo>
                    <a:pt x="94" y="211"/>
                  </a:lnTo>
                  <a:lnTo>
                    <a:pt x="112" y="211"/>
                  </a:lnTo>
                  <a:lnTo>
                    <a:pt x="129" y="210"/>
                  </a:lnTo>
                  <a:lnTo>
                    <a:pt x="148" y="209"/>
                  </a:lnTo>
                  <a:lnTo>
                    <a:pt x="165" y="207"/>
                  </a:lnTo>
                  <a:lnTo>
                    <a:pt x="183" y="205"/>
                  </a:lnTo>
                  <a:lnTo>
                    <a:pt x="200" y="202"/>
                  </a:lnTo>
                  <a:lnTo>
                    <a:pt x="216" y="198"/>
                  </a:lnTo>
                  <a:lnTo>
                    <a:pt x="234" y="194"/>
                  </a:lnTo>
                  <a:lnTo>
                    <a:pt x="250" y="189"/>
                  </a:lnTo>
                  <a:lnTo>
                    <a:pt x="265" y="183"/>
                  </a:lnTo>
                  <a:lnTo>
                    <a:pt x="282" y="177"/>
                  </a:lnTo>
                  <a:lnTo>
                    <a:pt x="297" y="169"/>
                  </a:lnTo>
                  <a:lnTo>
                    <a:pt x="312" y="161"/>
                  </a:lnTo>
                  <a:lnTo>
                    <a:pt x="326" y="153"/>
                  </a:lnTo>
                  <a:lnTo>
                    <a:pt x="342" y="145"/>
                  </a:lnTo>
                  <a:lnTo>
                    <a:pt x="355" y="136"/>
                  </a:lnTo>
                  <a:lnTo>
                    <a:pt x="369" y="126"/>
                  </a:lnTo>
                  <a:lnTo>
                    <a:pt x="383" y="115"/>
                  </a:lnTo>
                  <a:lnTo>
                    <a:pt x="395" y="104"/>
                  </a:lnTo>
                  <a:lnTo>
                    <a:pt x="408" y="93"/>
                  </a:lnTo>
                  <a:lnTo>
                    <a:pt x="419" y="81"/>
                  </a:lnTo>
                  <a:lnTo>
                    <a:pt x="432" y="68"/>
                  </a:lnTo>
                  <a:lnTo>
                    <a:pt x="443" y="56"/>
                  </a:lnTo>
                  <a:lnTo>
                    <a:pt x="453" y="43"/>
                  </a:lnTo>
                  <a:lnTo>
                    <a:pt x="463" y="29"/>
                  </a:lnTo>
                  <a:lnTo>
                    <a:pt x="473" y="14"/>
                  </a:lnTo>
                  <a:lnTo>
                    <a:pt x="483" y="0"/>
                  </a:lnTo>
                </a:path>
              </a:pathLst>
            </a:custGeom>
            <a:noFill/>
            <a:ln w="46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4239360" y="4124520"/>
              <a:ext cx="456480" cy="328320"/>
            </a:xfrm>
            <a:custGeom>
              <a:avLst/>
              <a:gdLst/>
              <a:ahLst/>
              <a:rect l="l" t="t" r="r" b="b"/>
              <a:pathLst>
                <a:path w="1178" h="851">
                  <a:moveTo>
                    <a:pt x="8" y="410"/>
                  </a:moveTo>
                  <a:lnTo>
                    <a:pt x="21" y="419"/>
                  </a:lnTo>
                  <a:lnTo>
                    <a:pt x="36" y="427"/>
                  </a:lnTo>
                  <a:lnTo>
                    <a:pt x="52" y="436"/>
                  </a:lnTo>
                  <a:lnTo>
                    <a:pt x="69" y="446"/>
                  </a:lnTo>
                  <a:lnTo>
                    <a:pt x="105" y="463"/>
                  </a:lnTo>
                  <a:lnTo>
                    <a:pt x="143" y="478"/>
                  </a:lnTo>
                  <a:lnTo>
                    <a:pt x="162" y="485"/>
                  </a:lnTo>
                  <a:lnTo>
                    <a:pt x="181" y="492"/>
                  </a:lnTo>
                  <a:lnTo>
                    <a:pt x="199" y="498"/>
                  </a:lnTo>
                  <a:lnTo>
                    <a:pt x="217" y="502"/>
                  </a:lnTo>
                  <a:lnTo>
                    <a:pt x="235" y="506"/>
                  </a:lnTo>
                  <a:lnTo>
                    <a:pt x="251" y="509"/>
                  </a:lnTo>
                  <a:lnTo>
                    <a:pt x="266" y="511"/>
                  </a:lnTo>
                  <a:lnTo>
                    <a:pt x="281" y="512"/>
                  </a:lnTo>
                  <a:lnTo>
                    <a:pt x="287" y="511"/>
                  </a:lnTo>
                  <a:lnTo>
                    <a:pt x="294" y="511"/>
                  </a:lnTo>
                  <a:lnTo>
                    <a:pt x="301" y="511"/>
                  </a:lnTo>
                  <a:lnTo>
                    <a:pt x="308" y="511"/>
                  </a:lnTo>
                  <a:lnTo>
                    <a:pt x="316" y="511"/>
                  </a:lnTo>
                  <a:lnTo>
                    <a:pt x="324" y="512"/>
                  </a:lnTo>
                  <a:lnTo>
                    <a:pt x="332" y="512"/>
                  </a:lnTo>
                  <a:lnTo>
                    <a:pt x="338" y="514"/>
                  </a:lnTo>
                  <a:lnTo>
                    <a:pt x="357" y="518"/>
                  </a:lnTo>
                  <a:lnTo>
                    <a:pt x="376" y="521"/>
                  </a:lnTo>
                  <a:lnTo>
                    <a:pt x="395" y="523"/>
                  </a:lnTo>
                  <a:lnTo>
                    <a:pt x="413" y="525"/>
                  </a:lnTo>
                  <a:lnTo>
                    <a:pt x="432" y="526"/>
                  </a:lnTo>
                  <a:lnTo>
                    <a:pt x="450" y="526"/>
                  </a:lnTo>
                  <a:lnTo>
                    <a:pt x="467" y="525"/>
                  </a:lnTo>
                  <a:lnTo>
                    <a:pt x="486" y="524"/>
                  </a:lnTo>
                  <a:lnTo>
                    <a:pt x="503" y="522"/>
                  </a:lnTo>
                  <a:lnTo>
                    <a:pt x="521" y="520"/>
                  </a:lnTo>
                  <a:lnTo>
                    <a:pt x="538" y="517"/>
                  </a:lnTo>
                  <a:lnTo>
                    <a:pt x="554" y="513"/>
                  </a:lnTo>
                  <a:lnTo>
                    <a:pt x="572" y="509"/>
                  </a:lnTo>
                  <a:lnTo>
                    <a:pt x="588" y="504"/>
                  </a:lnTo>
                  <a:lnTo>
                    <a:pt x="603" y="498"/>
                  </a:lnTo>
                  <a:lnTo>
                    <a:pt x="620" y="492"/>
                  </a:lnTo>
                  <a:lnTo>
                    <a:pt x="635" y="484"/>
                  </a:lnTo>
                  <a:lnTo>
                    <a:pt x="650" y="476"/>
                  </a:lnTo>
                  <a:lnTo>
                    <a:pt x="664" y="468"/>
                  </a:lnTo>
                  <a:lnTo>
                    <a:pt x="680" y="460"/>
                  </a:lnTo>
                  <a:lnTo>
                    <a:pt x="693" y="451"/>
                  </a:lnTo>
                  <a:lnTo>
                    <a:pt x="707" y="441"/>
                  </a:lnTo>
                  <a:lnTo>
                    <a:pt x="721" y="430"/>
                  </a:lnTo>
                  <a:lnTo>
                    <a:pt x="733" y="419"/>
                  </a:lnTo>
                  <a:lnTo>
                    <a:pt x="746" y="408"/>
                  </a:lnTo>
                  <a:lnTo>
                    <a:pt x="757" y="396"/>
                  </a:lnTo>
                  <a:lnTo>
                    <a:pt x="770" y="383"/>
                  </a:lnTo>
                  <a:lnTo>
                    <a:pt x="781" y="371"/>
                  </a:lnTo>
                  <a:lnTo>
                    <a:pt x="791" y="358"/>
                  </a:lnTo>
                  <a:lnTo>
                    <a:pt x="801" y="344"/>
                  </a:lnTo>
                  <a:lnTo>
                    <a:pt x="811" y="329"/>
                  </a:lnTo>
                  <a:lnTo>
                    <a:pt x="821" y="315"/>
                  </a:lnTo>
                  <a:lnTo>
                    <a:pt x="823" y="313"/>
                  </a:lnTo>
                  <a:lnTo>
                    <a:pt x="832" y="303"/>
                  </a:lnTo>
                  <a:lnTo>
                    <a:pt x="869" y="266"/>
                  </a:lnTo>
                  <a:lnTo>
                    <a:pt x="924" y="213"/>
                  </a:lnTo>
                  <a:lnTo>
                    <a:pt x="988" y="151"/>
                  </a:lnTo>
                  <a:lnTo>
                    <a:pt x="1052" y="90"/>
                  </a:lnTo>
                  <a:lnTo>
                    <a:pt x="1106" y="38"/>
                  </a:lnTo>
                  <a:lnTo>
                    <a:pt x="1141" y="5"/>
                  </a:lnTo>
                  <a:lnTo>
                    <a:pt x="1148" y="0"/>
                  </a:lnTo>
                  <a:lnTo>
                    <a:pt x="1147" y="4"/>
                  </a:lnTo>
                  <a:lnTo>
                    <a:pt x="1147" y="14"/>
                  </a:lnTo>
                  <a:lnTo>
                    <a:pt x="1147" y="30"/>
                  </a:lnTo>
                  <a:lnTo>
                    <a:pt x="1147" y="49"/>
                  </a:lnTo>
                  <a:lnTo>
                    <a:pt x="1150" y="102"/>
                  </a:lnTo>
                  <a:lnTo>
                    <a:pt x="1154" y="169"/>
                  </a:lnTo>
                  <a:lnTo>
                    <a:pt x="1159" y="249"/>
                  </a:lnTo>
                  <a:lnTo>
                    <a:pt x="1164" y="338"/>
                  </a:lnTo>
                  <a:lnTo>
                    <a:pt x="1171" y="430"/>
                  </a:lnTo>
                  <a:lnTo>
                    <a:pt x="1178" y="526"/>
                  </a:lnTo>
                  <a:lnTo>
                    <a:pt x="1167" y="537"/>
                  </a:lnTo>
                  <a:lnTo>
                    <a:pt x="1136" y="567"/>
                  </a:lnTo>
                  <a:lnTo>
                    <a:pt x="1113" y="586"/>
                  </a:lnTo>
                  <a:lnTo>
                    <a:pt x="1089" y="609"/>
                  </a:lnTo>
                  <a:lnTo>
                    <a:pt x="1060" y="634"/>
                  </a:lnTo>
                  <a:lnTo>
                    <a:pt x="1029" y="660"/>
                  </a:lnTo>
                  <a:lnTo>
                    <a:pt x="995" y="686"/>
                  </a:lnTo>
                  <a:lnTo>
                    <a:pt x="959" y="713"/>
                  </a:lnTo>
                  <a:lnTo>
                    <a:pt x="923" y="738"/>
                  </a:lnTo>
                  <a:lnTo>
                    <a:pt x="884" y="763"/>
                  </a:lnTo>
                  <a:lnTo>
                    <a:pt x="864" y="774"/>
                  </a:lnTo>
                  <a:lnTo>
                    <a:pt x="845" y="785"/>
                  </a:lnTo>
                  <a:lnTo>
                    <a:pt x="826" y="796"/>
                  </a:lnTo>
                  <a:lnTo>
                    <a:pt x="806" y="805"/>
                  </a:lnTo>
                  <a:lnTo>
                    <a:pt x="787" y="813"/>
                  </a:lnTo>
                  <a:lnTo>
                    <a:pt x="767" y="821"/>
                  </a:lnTo>
                  <a:lnTo>
                    <a:pt x="748" y="827"/>
                  </a:lnTo>
                  <a:lnTo>
                    <a:pt x="729" y="832"/>
                  </a:lnTo>
                  <a:lnTo>
                    <a:pt x="710" y="837"/>
                  </a:lnTo>
                  <a:lnTo>
                    <a:pt x="690" y="841"/>
                  </a:lnTo>
                  <a:lnTo>
                    <a:pt x="670" y="844"/>
                  </a:lnTo>
                  <a:lnTo>
                    <a:pt x="649" y="848"/>
                  </a:lnTo>
                  <a:lnTo>
                    <a:pt x="627" y="849"/>
                  </a:lnTo>
                  <a:lnTo>
                    <a:pt x="605" y="851"/>
                  </a:lnTo>
                  <a:lnTo>
                    <a:pt x="583" y="851"/>
                  </a:lnTo>
                  <a:lnTo>
                    <a:pt x="560" y="851"/>
                  </a:lnTo>
                  <a:lnTo>
                    <a:pt x="515" y="850"/>
                  </a:lnTo>
                  <a:lnTo>
                    <a:pt x="470" y="847"/>
                  </a:lnTo>
                  <a:lnTo>
                    <a:pt x="426" y="842"/>
                  </a:lnTo>
                  <a:lnTo>
                    <a:pt x="383" y="837"/>
                  </a:lnTo>
                  <a:lnTo>
                    <a:pt x="343" y="831"/>
                  </a:lnTo>
                  <a:lnTo>
                    <a:pt x="305" y="825"/>
                  </a:lnTo>
                  <a:lnTo>
                    <a:pt x="272" y="819"/>
                  </a:lnTo>
                  <a:lnTo>
                    <a:pt x="243" y="814"/>
                  </a:lnTo>
                  <a:lnTo>
                    <a:pt x="201" y="805"/>
                  </a:lnTo>
                  <a:lnTo>
                    <a:pt x="186" y="801"/>
                  </a:lnTo>
                  <a:lnTo>
                    <a:pt x="149" y="728"/>
                  </a:lnTo>
                  <a:lnTo>
                    <a:pt x="112" y="658"/>
                  </a:lnTo>
                  <a:lnTo>
                    <a:pt x="80" y="591"/>
                  </a:lnTo>
                  <a:lnTo>
                    <a:pt x="50" y="529"/>
                  </a:lnTo>
                  <a:lnTo>
                    <a:pt x="27" y="478"/>
                  </a:lnTo>
                  <a:lnTo>
                    <a:pt x="9" y="440"/>
                  </a:lnTo>
                  <a:lnTo>
                    <a:pt x="4" y="425"/>
                  </a:lnTo>
                  <a:lnTo>
                    <a:pt x="1" y="416"/>
                  </a:lnTo>
                  <a:lnTo>
                    <a:pt x="0" y="413"/>
                  </a:lnTo>
                  <a:lnTo>
                    <a:pt x="0" y="411"/>
                  </a:lnTo>
                  <a:lnTo>
                    <a:pt x="0" y="410"/>
                  </a:lnTo>
                  <a:lnTo>
                    <a:pt x="2" y="410"/>
                  </a:lnTo>
                  <a:lnTo>
                    <a:pt x="8" y="410"/>
                  </a:lnTo>
                  <a:close/>
                </a:path>
              </a:pathLst>
            </a:custGeom>
            <a:solidFill>
              <a:srgbClr val="d8aa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4239360" y="4124520"/>
              <a:ext cx="456480" cy="328320"/>
            </a:xfrm>
            <a:custGeom>
              <a:avLst/>
              <a:gdLst/>
              <a:ahLst/>
              <a:rect l="l" t="t" r="r" b="b"/>
              <a:pathLst>
                <a:path w="1178" h="851">
                  <a:moveTo>
                    <a:pt x="8" y="410"/>
                  </a:moveTo>
                  <a:lnTo>
                    <a:pt x="21" y="419"/>
                  </a:lnTo>
                  <a:lnTo>
                    <a:pt x="36" y="427"/>
                  </a:lnTo>
                  <a:lnTo>
                    <a:pt x="52" y="436"/>
                  </a:lnTo>
                  <a:lnTo>
                    <a:pt x="69" y="446"/>
                  </a:lnTo>
                  <a:lnTo>
                    <a:pt x="105" y="463"/>
                  </a:lnTo>
                  <a:lnTo>
                    <a:pt x="143" y="478"/>
                  </a:lnTo>
                  <a:lnTo>
                    <a:pt x="162" y="485"/>
                  </a:lnTo>
                  <a:lnTo>
                    <a:pt x="181" y="492"/>
                  </a:lnTo>
                  <a:lnTo>
                    <a:pt x="199" y="498"/>
                  </a:lnTo>
                  <a:lnTo>
                    <a:pt x="217" y="502"/>
                  </a:lnTo>
                  <a:lnTo>
                    <a:pt x="235" y="506"/>
                  </a:lnTo>
                  <a:lnTo>
                    <a:pt x="251" y="509"/>
                  </a:lnTo>
                  <a:lnTo>
                    <a:pt x="266" y="511"/>
                  </a:lnTo>
                  <a:lnTo>
                    <a:pt x="281" y="512"/>
                  </a:lnTo>
                  <a:lnTo>
                    <a:pt x="287" y="511"/>
                  </a:lnTo>
                  <a:lnTo>
                    <a:pt x="294" y="511"/>
                  </a:lnTo>
                  <a:lnTo>
                    <a:pt x="301" y="511"/>
                  </a:lnTo>
                  <a:lnTo>
                    <a:pt x="308" y="511"/>
                  </a:lnTo>
                  <a:lnTo>
                    <a:pt x="316" y="511"/>
                  </a:lnTo>
                  <a:lnTo>
                    <a:pt x="324" y="512"/>
                  </a:lnTo>
                  <a:lnTo>
                    <a:pt x="332" y="512"/>
                  </a:lnTo>
                  <a:lnTo>
                    <a:pt x="338" y="514"/>
                  </a:lnTo>
                  <a:lnTo>
                    <a:pt x="357" y="518"/>
                  </a:lnTo>
                  <a:lnTo>
                    <a:pt x="376" y="521"/>
                  </a:lnTo>
                  <a:lnTo>
                    <a:pt x="395" y="523"/>
                  </a:lnTo>
                  <a:lnTo>
                    <a:pt x="413" y="525"/>
                  </a:lnTo>
                  <a:lnTo>
                    <a:pt x="432" y="526"/>
                  </a:lnTo>
                  <a:lnTo>
                    <a:pt x="450" y="526"/>
                  </a:lnTo>
                  <a:lnTo>
                    <a:pt x="467" y="525"/>
                  </a:lnTo>
                  <a:lnTo>
                    <a:pt x="486" y="524"/>
                  </a:lnTo>
                  <a:lnTo>
                    <a:pt x="503" y="522"/>
                  </a:lnTo>
                  <a:lnTo>
                    <a:pt x="521" y="520"/>
                  </a:lnTo>
                  <a:lnTo>
                    <a:pt x="538" y="517"/>
                  </a:lnTo>
                  <a:lnTo>
                    <a:pt x="554" y="513"/>
                  </a:lnTo>
                  <a:lnTo>
                    <a:pt x="572" y="509"/>
                  </a:lnTo>
                  <a:lnTo>
                    <a:pt x="588" y="504"/>
                  </a:lnTo>
                  <a:lnTo>
                    <a:pt x="603" y="498"/>
                  </a:lnTo>
                  <a:lnTo>
                    <a:pt x="620" y="492"/>
                  </a:lnTo>
                  <a:lnTo>
                    <a:pt x="635" y="484"/>
                  </a:lnTo>
                  <a:lnTo>
                    <a:pt x="650" y="476"/>
                  </a:lnTo>
                  <a:lnTo>
                    <a:pt x="664" y="468"/>
                  </a:lnTo>
                  <a:lnTo>
                    <a:pt x="680" y="460"/>
                  </a:lnTo>
                  <a:lnTo>
                    <a:pt x="693" y="451"/>
                  </a:lnTo>
                  <a:lnTo>
                    <a:pt x="707" y="441"/>
                  </a:lnTo>
                  <a:lnTo>
                    <a:pt x="721" y="430"/>
                  </a:lnTo>
                  <a:lnTo>
                    <a:pt x="733" y="419"/>
                  </a:lnTo>
                  <a:lnTo>
                    <a:pt x="746" y="408"/>
                  </a:lnTo>
                  <a:lnTo>
                    <a:pt x="757" y="396"/>
                  </a:lnTo>
                  <a:lnTo>
                    <a:pt x="770" y="383"/>
                  </a:lnTo>
                  <a:lnTo>
                    <a:pt x="781" y="371"/>
                  </a:lnTo>
                  <a:lnTo>
                    <a:pt x="791" y="358"/>
                  </a:lnTo>
                  <a:lnTo>
                    <a:pt x="801" y="344"/>
                  </a:lnTo>
                  <a:lnTo>
                    <a:pt x="811" y="329"/>
                  </a:lnTo>
                  <a:lnTo>
                    <a:pt x="821" y="315"/>
                  </a:lnTo>
                  <a:lnTo>
                    <a:pt x="823" y="313"/>
                  </a:lnTo>
                  <a:lnTo>
                    <a:pt x="832" y="303"/>
                  </a:lnTo>
                  <a:lnTo>
                    <a:pt x="869" y="266"/>
                  </a:lnTo>
                  <a:lnTo>
                    <a:pt x="924" y="213"/>
                  </a:lnTo>
                  <a:lnTo>
                    <a:pt x="988" y="151"/>
                  </a:lnTo>
                  <a:lnTo>
                    <a:pt x="1052" y="90"/>
                  </a:lnTo>
                  <a:lnTo>
                    <a:pt x="1106" y="38"/>
                  </a:lnTo>
                  <a:lnTo>
                    <a:pt x="1141" y="5"/>
                  </a:lnTo>
                  <a:lnTo>
                    <a:pt x="1148" y="0"/>
                  </a:lnTo>
                  <a:lnTo>
                    <a:pt x="1147" y="4"/>
                  </a:lnTo>
                  <a:lnTo>
                    <a:pt x="1147" y="14"/>
                  </a:lnTo>
                  <a:lnTo>
                    <a:pt x="1147" y="30"/>
                  </a:lnTo>
                  <a:lnTo>
                    <a:pt x="1147" y="49"/>
                  </a:lnTo>
                  <a:lnTo>
                    <a:pt x="1150" y="102"/>
                  </a:lnTo>
                  <a:lnTo>
                    <a:pt x="1154" y="169"/>
                  </a:lnTo>
                  <a:lnTo>
                    <a:pt x="1159" y="249"/>
                  </a:lnTo>
                  <a:lnTo>
                    <a:pt x="1164" y="338"/>
                  </a:lnTo>
                  <a:lnTo>
                    <a:pt x="1171" y="430"/>
                  </a:lnTo>
                  <a:lnTo>
                    <a:pt x="1178" y="526"/>
                  </a:lnTo>
                  <a:lnTo>
                    <a:pt x="1167" y="537"/>
                  </a:lnTo>
                  <a:lnTo>
                    <a:pt x="1136" y="567"/>
                  </a:lnTo>
                  <a:lnTo>
                    <a:pt x="1113" y="586"/>
                  </a:lnTo>
                  <a:lnTo>
                    <a:pt x="1089" y="609"/>
                  </a:lnTo>
                  <a:lnTo>
                    <a:pt x="1060" y="634"/>
                  </a:lnTo>
                  <a:lnTo>
                    <a:pt x="1029" y="660"/>
                  </a:lnTo>
                  <a:lnTo>
                    <a:pt x="995" y="686"/>
                  </a:lnTo>
                  <a:lnTo>
                    <a:pt x="959" y="713"/>
                  </a:lnTo>
                  <a:lnTo>
                    <a:pt x="923" y="738"/>
                  </a:lnTo>
                  <a:lnTo>
                    <a:pt x="884" y="763"/>
                  </a:lnTo>
                  <a:lnTo>
                    <a:pt x="864" y="774"/>
                  </a:lnTo>
                  <a:lnTo>
                    <a:pt x="845" y="785"/>
                  </a:lnTo>
                  <a:lnTo>
                    <a:pt x="826" y="796"/>
                  </a:lnTo>
                  <a:lnTo>
                    <a:pt x="806" y="805"/>
                  </a:lnTo>
                  <a:lnTo>
                    <a:pt x="787" y="813"/>
                  </a:lnTo>
                  <a:lnTo>
                    <a:pt x="767" y="821"/>
                  </a:lnTo>
                  <a:lnTo>
                    <a:pt x="748" y="827"/>
                  </a:lnTo>
                  <a:lnTo>
                    <a:pt x="729" y="832"/>
                  </a:lnTo>
                  <a:lnTo>
                    <a:pt x="710" y="837"/>
                  </a:lnTo>
                  <a:lnTo>
                    <a:pt x="690" y="841"/>
                  </a:lnTo>
                  <a:lnTo>
                    <a:pt x="670" y="844"/>
                  </a:lnTo>
                  <a:lnTo>
                    <a:pt x="649" y="848"/>
                  </a:lnTo>
                  <a:lnTo>
                    <a:pt x="627" y="849"/>
                  </a:lnTo>
                  <a:lnTo>
                    <a:pt x="605" y="851"/>
                  </a:lnTo>
                  <a:lnTo>
                    <a:pt x="583" y="851"/>
                  </a:lnTo>
                  <a:lnTo>
                    <a:pt x="560" y="851"/>
                  </a:lnTo>
                  <a:lnTo>
                    <a:pt x="515" y="850"/>
                  </a:lnTo>
                  <a:lnTo>
                    <a:pt x="470" y="847"/>
                  </a:lnTo>
                  <a:lnTo>
                    <a:pt x="426" y="842"/>
                  </a:lnTo>
                  <a:lnTo>
                    <a:pt x="383" y="837"/>
                  </a:lnTo>
                  <a:lnTo>
                    <a:pt x="343" y="831"/>
                  </a:lnTo>
                  <a:lnTo>
                    <a:pt x="305" y="825"/>
                  </a:lnTo>
                  <a:lnTo>
                    <a:pt x="272" y="819"/>
                  </a:lnTo>
                  <a:lnTo>
                    <a:pt x="243" y="814"/>
                  </a:lnTo>
                  <a:lnTo>
                    <a:pt x="201" y="805"/>
                  </a:lnTo>
                  <a:lnTo>
                    <a:pt x="186" y="801"/>
                  </a:lnTo>
                  <a:lnTo>
                    <a:pt x="149" y="728"/>
                  </a:lnTo>
                  <a:lnTo>
                    <a:pt x="112" y="658"/>
                  </a:lnTo>
                  <a:lnTo>
                    <a:pt x="80" y="591"/>
                  </a:lnTo>
                  <a:lnTo>
                    <a:pt x="50" y="529"/>
                  </a:lnTo>
                  <a:lnTo>
                    <a:pt x="27" y="478"/>
                  </a:lnTo>
                  <a:lnTo>
                    <a:pt x="9" y="440"/>
                  </a:lnTo>
                  <a:lnTo>
                    <a:pt x="4" y="425"/>
                  </a:lnTo>
                  <a:lnTo>
                    <a:pt x="1" y="416"/>
                  </a:lnTo>
                  <a:lnTo>
                    <a:pt x="0" y="413"/>
                  </a:lnTo>
                  <a:lnTo>
                    <a:pt x="0" y="411"/>
                  </a:lnTo>
                  <a:lnTo>
                    <a:pt x="0" y="410"/>
                  </a:lnTo>
                  <a:lnTo>
                    <a:pt x="2" y="410"/>
                  </a:lnTo>
                </a:path>
              </a:pathLst>
            </a:custGeom>
            <a:noFill/>
            <a:ln w="1440">
              <a:solidFill>
                <a:srgbClr val="d8aa9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4242960" y="4124520"/>
              <a:ext cx="452880" cy="203040"/>
            </a:xfrm>
            <a:custGeom>
              <a:avLst/>
              <a:gdLst/>
              <a:ahLst/>
              <a:rect l="l" t="t" r="r" b="b"/>
              <a:pathLst>
                <a:path w="1170" h="526">
                  <a:moveTo>
                    <a:pt x="0" y="410"/>
                  </a:moveTo>
                  <a:lnTo>
                    <a:pt x="13" y="419"/>
                  </a:lnTo>
                  <a:lnTo>
                    <a:pt x="28" y="427"/>
                  </a:lnTo>
                  <a:lnTo>
                    <a:pt x="44" y="436"/>
                  </a:lnTo>
                  <a:lnTo>
                    <a:pt x="61" y="446"/>
                  </a:lnTo>
                  <a:lnTo>
                    <a:pt x="97" y="463"/>
                  </a:lnTo>
                  <a:lnTo>
                    <a:pt x="135" y="478"/>
                  </a:lnTo>
                  <a:lnTo>
                    <a:pt x="154" y="485"/>
                  </a:lnTo>
                  <a:lnTo>
                    <a:pt x="173" y="492"/>
                  </a:lnTo>
                  <a:lnTo>
                    <a:pt x="191" y="498"/>
                  </a:lnTo>
                  <a:lnTo>
                    <a:pt x="209" y="502"/>
                  </a:lnTo>
                  <a:lnTo>
                    <a:pt x="227" y="506"/>
                  </a:lnTo>
                  <a:lnTo>
                    <a:pt x="243" y="509"/>
                  </a:lnTo>
                  <a:lnTo>
                    <a:pt x="258" y="511"/>
                  </a:lnTo>
                  <a:lnTo>
                    <a:pt x="273" y="512"/>
                  </a:lnTo>
                  <a:lnTo>
                    <a:pt x="279" y="511"/>
                  </a:lnTo>
                  <a:lnTo>
                    <a:pt x="286" y="511"/>
                  </a:lnTo>
                  <a:lnTo>
                    <a:pt x="293" y="511"/>
                  </a:lnTo>
                  <a:lnTo>
                    <a:pt x="300" y="511"/>
                  </a:lnTo>
                  <a:lnTo>
                    <a:pt x="308" y="511"/>
                  </a:lnTo>
                  <a:lnTo>
                    <a:pt x="316" y="512"/>
                  </a:lnTo>
                  <a:lnTo>
                    <a:pt x="324" y="512"/>
                  </a:lnTo>
                  <a:lnTo>
                    <a:pt x="330" y="514"/>
                  </a:lnTo>
                  <a:lnTo>
                    <a:pt x="349" y="518"/>
                  </a:lnTo>
                  <a:lnTo>
                    <a:pt x="368" y="521"/>
                  </a:lnTo>
                  <a:lnTo>
                    <a:pt x="387" y="523"/>
                  </a:lnTo>
                  <a:lnTo>
                    <a:pt x="405" y="525"/>
                  </a:lnTo>
                  <a:lnTo>
                    <a:pt x="424" y="526"/>
                  </a:lnTo>
                  <a:lnTo>
                    <a:pt x="442" y="526"/>
                  </a:lnTo>
                  <a:lnTo>
                    <a:pt x="459" y="525"/>
                  </a:lnTo>
                  <a:lnTo>
                    <a:pt x="478" y="524"/>
                  </a:lnTo>
                  <a:lnTo>
                    <a:pt x="495" y="522"/>
                  </a:lnTo>
                  <a:lnTo>
                    <a:pt x="513" y="520"/>
                  </a:lnTo>
                  <a:lnTo>
                    <a:pt x="530" y="517"/>
                  </a:lnTo>
                  <a:lnTo>
                    <a:pt x="546" y="513"/>
                  </a:lnTo>
                  <a:lnTo>
                    <a:pt x="564" y="509"/>
                  </a:lnTo>
                  <a:lnTo>
                    <a:pt x="580" y="504"/>
                  </a:lnTo>
                  <a:lnTo>
                    <a:pt x="595" y="498"/>
                  </a:lnTo>
                  <a:lnTo>
                    <a:pt x="612" y="492"/>
                  </a:lnTo>
                  <a:lnTo>
                    <a:pt x="627" y="484"/>
                  </a:lnTo>
                  <a:lnTo>
                    <a:pt x="642" y="476"/>
                  </a:lnTo>
                  <a:lnTo>
                    <a:pt x="656" y="468"/>
                  </a:lnTo>
                  <a:lnTo>
                    <a:pt x="672" y="460"/>
                  </a:lnTo>
                  <a:lnTo>
                    <a:pt x="685" y="451"/>
                  </a:lnTo>
                  <a:lnTo>
                    <a:pt x="699" y="441"/>
                  </a:lnTo>
                  <a:lnTo>
                    <a:pt x="713" y="430"/>
                  </a:lnTo>
                  <a:lnTo>
                    <a:pt x="725" y="419"/>
                  </a:lnTo>
                  <a:lnTo>
                    <a:pt x="738" y="408"/>
                  </a:lnTo>
                  <a:lnTo>
                    <a:pt x="749" y="396"/>
                  </a:lnTo>
                  <a:lnTo>
                    <a:pt x="762" y="383"/>
                  </a:lnTo>
                  <a:lnTo>
                    <a:pt x="773" y="371"/>
                  </a:lnTo>
                  <a:lnTo>
                    <a:pt x="783" y="358"/>
                  </a:lnTo>
                  <a:lnTo>
                    <a:pt x="793" y="344"/>
                  </a:lnTo>
                  <a:lnTo>
                    <a:pt x="803" y="329"/>
                  </a:lnTo>
                  <a:lnTo>
                    <a:pt x="813" y="315"/>
                  </a:lnTo>
                  <a:lnTo>
                    <a:pt x="815" y="313"/>
                  </a:lnTo>
                  <a:lnTo>
                    <a:pt x="824" y="303"/>
                  </a:lnTo>
                  <a:lnTo>
                    <a:pt x="861" y="266"/>
                  </a:lnTo>
                  <a:lnTo>
                    <a:pt x="916" y="213"/>
                  </a:lnTo>
                  <a:lnTo>
                    <a:pt x="980" y="151"/>
                  </a:lnTo>
                  <a:lnTo>
                    <a:pt x="1044" y="90"/>
                  </a:lnTo>
                  <a:lnTo>
                    <a:pt x="1098" y="38"/>
                  </a:lnTo>
                  <a:lnTo>
                    <a:pt x="1133" y="5"/>
                  </a:lnTo>
                  <a:lnTo>
                    <a:pt x="1140" y="0"/>
                  </a:lnTo>
                  <a:lnTo>
                    <a:pt x="1139" y="4"/>
                  </a:lnTo>
                  <a:lnTo>
                    <a:pt x="1139" y="14"/>
                  </a:lnTo>
                  <a:lnTo>
                    <a:pt x="1139" y="30"/>
                  </a:lnTo>
                  <a:lnTo>
                    <a:pt x="1139" y="49"/>
                  </a:lnTo>
                  <a:lnTo>
                    <a:pt x="1142" y="102"/>
                  </a:lnTo>
                  <a:lnTo>
                    <a:pt x="1146" y="169"/>
                  </a:lnTo>
                  <a:lnTo>
                    <a:pt x="1151" y="249"/>
                  </a:lnTo>
                  <a:lnTo>
                    <a:pt x="1156" y="338"/>
                  </a:lnTo>
                  <a:lnTo>
                    <a:pt x="1163" y="430"/>
                  </a:lnTo>
                  <a:lnTo>
                    <a:pt x="1170" y="526"/>
                  </a:lnTo>
                </a:path>
              </a:pathLst>
            </a:custGeom>
            <a:noFill/>
            <a:ln w="46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4239360" y="4282920"/>
              <a:ext cx="73080" cy="150840"/>
            </a:xfrm>
            <a:custGeom>
              <a:avLst/>
              <a:gdLst/>
              <a:ahLst/>
              <a:rect l="l" t="t" r="r" b="b"/>
              <a:pathLst>
                <a:path w="186" h="391">
                  <a:moveTo>
                    <a:pt x="186" y="391"/>
                  </a:moveTo>
                  <a:lnTo>
                    <a:pt x="149" y="318"/>
                  </a:lnTo>
                  <a:lnTo>
                    <a:pt x="112" y="248"/>
                  </a:lnTo>
                  <a:lnTo>
                    <a:pt x="80" y="181"/>
                  </a:lnTo>
                  <a:lnTo>
                    <a:pt x="50" y="119"/>
                  </a:lnTo>
                  <a:lnTo>
                    <a:pt x="27" y="68"/>
                  </a:lnTo>
                  <a:lnTo>
                    <a:pt x="9" y="30"/>
                  </a:lnTo>
                  <a:lnTo>
                    <a:pt x="4" y="15"/>
                  </a:lnTo>
                  <a:lnTo>
                    <a:pt x="1" y="6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0"/>
                  </a:lnTo>
                  <a:lnTo>
                    <a:pt x="2" y="0"/>
                  </a:lnTo>
                </a:path>
              </a:pathLst>
            </a:custGeom>
            <a:noFill/>
            <a:ln w="46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4018680" y="2874960"/>
              <a:ext cx="65520" cy="23040"/>
            </a:xfrm>
            <a:custGeom>
              <a:avLst/>
              <a:gdLst/>
              <a:ahLst/>
              <a:rect l="l" t="t" r="r" b="b"/>
              <a:pathLst>
                <a:path w="169" h="61">
                  <a:moveTo>
                    <a:pt x="0" y="0"/>
                  </a:moveTo>
                  <a:lnTo>
                    <a:pt x="0" y="7"/>
                  </a:lnTo>
                  <a:lnTo>
                    <a:pt x="1" y="14"/>
                  </a:lnTo>
                  <a:lnTo>
                    <a:pt x="3" y="22"/>
                  </a:lnTo>
                  <a:lnTo>
                    <a:pt x="7" y="29"/>
                  </a:lnTo>
                  <a:lnTo>
                    <a:pt x="12" y="36"/>
                  </a:lnTo>
                  <a:lnTo>
                    <a:pt x="18" y="43"/>
                  </a:lnTo>
                  <a:lnTo>
                    <a:pt x="26" y="49"/>
                  </a:lnTo>
                  <a:lnTo>
                    <a:pt x="36" y="54"/>
                  </a:lnTo>
                  <a:lnTo>
                    <a:pt x="46" y="58"/>
                  </a:lnTo>
                  <a:lnTo>
                    <a:pt x="60" y="60"/>
                  </a:lnTo>
                  <a:lnTo>
                    <a:pt x="73" y="61"/>
                  </a:lnTo>
                  <a:lnTo>
                    <a:pt x="89" y="59"/>
                  </a:lnTo>
                  <a:lnTo>
                    <a:pt x="107" y="56"/>
                  </a:lnTo>
                  <a:lnTo>
                    <a:pt x="125" y="50"/>
                  </a:lnTo>
                  <a:lnTo>
                    <a:pt x="146" y="40"/>
                  </a:lnTo>
                  <a:lnTo>
                    <a:pt x="169" y="29"/>
                  </a:lnTo>
                </a:path>
              </a:pathLst>
            </a:custGeom>
            <a:noFill/>
            <a:ln w="3240">
              <a:solidFill>
                <a:srgbClr val="71706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4115160" y="2919240"/>
              <a:ext cx="75240" cy="34920"/>
            </a:xfrm>
            <a:custGeom>
              <a:avLst/>
              <a:gdLst/>
              <a:ahLst/>
              <a:rect l="l" t="t" r="r" b="b"/>
              <a:pathLst>
                <a:path w="198" h="92">
                  <a:moveTo>
                    <a:pt x="33" y="0"/>
                  </a:moveTo>
                  <a:lnTo>
                    <a:pt x="21" y="14"/>
                  </a:lnTo>
                  <a:lnTo>
                    <a:pt x="11" y="25"/>
                  </a:lnTo>
                  <a:lnTo>
                    <a:pt x="7" y="30"/>
                  </a:lnTo>
                  <a:lnTo>
                    <a:pt x="4" y="34"/>
                  </a:lnTo>
                  <a:lnTo>
                    <a:pt x="1" y="39"/>
                  </a:lnTo>
                  <a:lnTo>
                    <a:pt x="0" y="44"/>
                  </a:lnTo>
                  <a:lnTo>
                    <a:pt x="0" y="48"/>
                  </a:lnTo>
                  <a:lnTo>
                    <a:pt x="1" y="52"/>
                  </a:lnTo>
                  <a:lnTo>
                    <a:pt x="4" y="57"/>
                  </a:lnTo>
                  <a:lnTo>
                    <a:pt x="8" y="62"/>
                  </a:lnTo>
                  <a:lnTo>
                    <a:pt x="14" y="67"/>
                  </a:lnTo>
                  <a:lnTo>
                    <a:pt x="22" y="73"/>
                  </a:lnTo>
                  <a:lnTo>
                    <a:pt x="33" y="80"/>
                  </a:lnTo>
                  <a:lnTo>
                    <a:pt x="45" y="89"/>
                  </a:lnTo>
                  <a:lnTo>
                    <a:pt x="52" y="91"/>
                  </a:lnTo>
                  <a:lnTo>
                    <a:pt x="59" y="92"/>
                  </a:lnTo>
                  <a:lnTo>
                    <a:pt x="68" y="92"/>
                  </a:lnTo>
                  <a:lnTo>
                    <a:pt x="78" y="92"/>
                  </a:lnTo>
                  <a:lnTo>
                    <a:pt x="88" y="90"/>
                  </a:lnTo>
                  <a:lnTo>
                    <a:pt x="101" y="88"/>
                  </a:lnTo>
                  <a:lnTo>
                    <a:pt x="112" y="84"/>
                  </a:lnTo>
                  <a:lnTo>
                    <a:pt x="124" y="81"/>
                  </a:lnTo>
                  <a:lnTo>
                    <a:pt x="136" y="77"/>
                  </a:lnTo>
                  <a:lnTo>
                    <a:pt x="148" y="73"/>
                  </a:lnTo>
                  <a:lnTo>
                    <a:pt x="159" y="68"/>
                  </a:lnTo>
                  <a:lnTo>
                    <a:pt x="169" y="63"/>
                  </a:lnTo>
                  <a:lnTo>
                    <a:pt x="178" y="57"/>
                  </a:lnTo>
                  <a:lnTo>
                    <a:pt x="186" y="52"/>
                  </a:lnTo>
                  <a:lnTo>
                    <a:pt x="193" y="46"/>
                  </a:lnTo>
                  <a:lnTo>
                    <a:pt x="198" y="40"/>
                  </a:lnTo>
                </a:path>
              </a:pathLst>
            </a:custGeom>
            <a:noFill/>
            <a:ln w="3240">
              <a:solidFill>
                <a:srgbClr val="71706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4171320" y="3002400"/>
              <a:ext cx="60120" cy="20880"/>
            </a:xfrm>
            <a:custGeom>
              <a:avLst/>
              <a:gdLst/>
              <a:ahLst/>
              <a:rect l="l" t="t" r="r" b="b"/>
              <a:pathLst>
                <a:path w="155" h="58">
                  <a:moveTo>
                    <a:pt x="0" y="0"/>
                  </a:moveTo>
                  <a:lnTo>
                    <a:pt x="11" y="12"/>
                  </a:lnTo>
                  <a:lnTo>
                    <a:pt x="22" y="25"/>
                  </a:lnTo>
                  <a:lnTo>
                    <a:pt x="32" y="36"/>
                  </a:lnTo>
                  <a:lnTo>
                    <a:pt x="44" y="46"/>
                  </a:lnTo>
                  <a:lnTo>
                    <a:pt x="49" y="50"/>
                  </a:lnTo>
                  <a:lnTo>
                    <a:pt x="56" y="54"/>
                  </a:lnTo>
                  <a:lnTo>
                    <a:pt x="62" y="56"/>
                  </a:lnTo>
                  <a:lnTo>
                    <a:pt x="69" y="58"/>
                  </a:lnTo>
                  <a:lnTo>
                    <a:pt x="75" y="58"/>
                  </a:lnTo>
                  <a:lnTo>
                    <a:pt x="82" y="57"/>
                  </a:lnTo>
                  <a:lnTo>
                    <a:pt x="89" y="55"/>
                  </a:lnTo>
                  <a:lnTo>
                    <a:pt x="97" y="51"/>
                  </a:lnTo>
                  <a:lnTo>
                    <a:pt x="104" y="48"/>
                  </a:lnTo>
                  <a:lnTo>
                    <a:pt x="111" y="43"/>
                  </a:lnTo>
                  <a:lnTo>
                    <a:pt x="119" y="37"/>
                  </a:lnTo>
                  <a:lnTo>
                    <a:pt x="128" y="30"/>
                  </a:lnTo>
                  <a:lnTo>
                    <a:pt x="137" y="22"/>
                  </a:lnTo>
                  <a:lnTo>
                    <a:pt x="144" y="14"/>
                  </a:lnTo>
                  <a:lnTo>
                    <a:pt x="151" y="7"/>
                  </a:lnTo>
                  <a:lnTo>
                    <a:pt x="155" y="0"/>
                  </a:lnTo>
                </a:path>
              </a:pathLst>
            </a:custGeom>
            <a:noFill/>
            <a:ln w="3240">
              <a:solidFill>
                <a:srgbClr val="71706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4186800" y="3097440"/>
              <a:ext cx="46440" cy="13320"/>
            </a:xfrm>
            <a:custGeom>
              <a:avLst/>
              <a:gdLst/>
              <a:ahLst/>
              <a:rect l="l" t="t" r="r" b="b"/>
              <a:pathLst>
                <a:path w="123" h="36">
                  <a:moveTo>
                    <a:pt x="0" y="0"/>
                  </a:moveTo>
                  <a:lnTo>
                    <a:pt x="4" y="6"/>
                  </a:lnTo>
                  <a:lnTo>
                    <a:pt x="8" y="11"/>
                  </a:lnTo>
                  <a:lnTo>
                    <a:pt x="14" y="16"/>
                  </a:lnTo>
                  <a:lnTo>
                    <a:pt x="20" y="20"/>
                  </a:lnTo>
                  <a:lnTo>
                    <a:pt x="26" y="24"/>
                  </a:lnTo>
                  <a:lnTo>
                    <a:pt x="33" y="28"/>
                  </a:lnTo>
                  <a:lnTo>
                    <a:pt x="40" y="31"/>
                  </a:lnTo>
                  <a:lnTo>
                    <a:pt x="48" y="33"/>
                  </a:lnTo>
                  <a:lnTo>
                    <a:pt x="56" y="36"/>
                  </a:lnTo>
                  <a:lnTo>
                    <a:pt x="65" y="36"/>
                  </a:lnTo>
                  <a:lnTo>
                    <a:pt x="74" y="35"/>
                  </a:lnTo>
                  <a:lnTo>
                    <a:pt x="83" y="32"/>
                  </a:lnTo>
                  <a:lnTo>
                    <a:pt x="93" y="29"/>
                  </a:lnTo>
                  <a:lnTo>
                    <a:pt x="102" y="24"/>
                  </a:lnTo>
                  <a:lnTo>
                    <a:pt x="113" y="17"/>
                  </a:lnTo>
                  <a:lnTo>
                    <a:pt x="123" y="9"/>
                  </a:lnTo>
                </a:path>
              </a:pathLst>
            </a:custGeom>
            <a:noFill/>
            <a:ln w="3240">
              <a:solidFill>
                <a:srgbClr val="71706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4568400" y="3186360"/>
              <a:ext cx="96840" cy="15120"/>
            </a:xfrm>
            <a:custGeom>
              <a:avLst/>
              <a:gdLst/>
              <a:ahLst/>
              <a:rect l="l" t="t" r="r" b="b"/>
              <a:pathLst>
                <a:path w="252" h="42">
                  <a:moveTo>
                    <a:pt x="0" y="0"/>
                  </a:moveTo>
                  <a:lnTo>
                    <a:pt x="26" y="11"/>
                  </a:lnTo>
                  <a:lnTo>
                    <a:pt x="57" y="22"/>
                  </a:lnTo>
                  <a:lnTo>
                    <a:pt x="76" y="27"/>
                  </a:lnTo>
                  <a:lnTo>
                    <a:pt x="95" y="32"/>
                  </a:lnTo>
                  <a:lnTo>
                    <a:pt x="114" y="36"/>
                  </a:lnTo>
                  <a:lnTo>
                    <a:pt x="135" y="39"/>
                  </a:lnTo>
                  <a:lnTo>
                    <a:pt x="154" y="42"/>
                  </a:lnTo>
                  <a:lnTo>
                    <a:pt x="173" y="42"/>
                  </a:lnTo>
                  <a:lnTo>
                    <a:pt x="182" y="42"/>
                  </a:lnTo>
                  <a:lnTo>
                    <a:pt x="191" y="41"/>
                  </a:lnTo>
                  <a:lnTo>
                    <a:pt x="199" y="40"/>
                  </a:lnTo>
                  <a:lnTo>
                    <a:pt x="207" y="38"/>
                  </a:lnTo>
                  <a:lnTo>
                    <a:pt x="214" y="36"/>
                  </a:lnTo>
                  <a:lnTo>
                    <a:pt x="222" y="33"/>
                  </a:lnTo>
                  <a:lnTo>
                    <a:pt x="229" y="30"/>
                  </a:lnTo>
                  <a:lnTo>
                    <a:pt x="235" y="25"/>
                  </a:lnTo>
                  <a:lnTo>
                    <a:pt x="240" y="21"/>
                  </a:lnTo>
                  <a:lnTo>
                    <a:pt x="245" y="15"/>
                  </a:lnTo>
                  <a:lnTo>
                    <a:pt x="249" y="9"/>
                  </a:lnTo>
                  <a:lnTo>
                    <a:pt x="252" y="0"/>
                  </a:lnTo>
                </a:path>
              </a:pathLst>
            </a:custGeom>
            <a:noFill/>
            <a:ln w="3240">
              <a:solidFill>
                <a:srgbClr val="71706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4717800" y="3379680"/>
              <a:ext cx="75240" cy="23040"/>
            </a:xfrm>
            <a:custGeom>
              <a:avLst/>
              <a:gdLst/>
              <a:ahLst/>
              <a:rect l="l" t="t" r="r" b="b"/>
              <a:pathLst>
                <a:path w="199" h="63">
                  <a:moveTo>
                    <a:pt x="0" y="7"/>
                  </a:moveTo>
                  <a:lnTo>
                    <a:pt x="14" y="15"/>
                  </a:lnTo>
                  <a:lnTo>
                    <a:pt x="30" y="25"/>
                  </a:lnTo>
                  <a:lnTo>
                    <a:pt x="47" y="33"/>
                  </a:lnTo>
                  <a:lnTo>
                    <a:pt x="64" y="41"/>
                  </a:lnTo>
                  <a:lnTo>
                    <a:pt x="80" y="48"/>
                  </a:lnTo>
                  <a:lnTo>
                    <a:pt x="98" y="54"/>
                  </a:lnTo>
                  <a:lnTo>
                    <a:pt x="114" y="58"/>
                  </a:lnTo>
                  <a:lnTo>
                    <a:pt x="130" y="61"/>
                  </a:lnTo>
                  <a:lnTo>
                    <a:pt x="146" y="63"/>
                  </a:lnTo>
                  <a:lnTo>
                    <a:pt x="159" y="62"/>
                  </a:lnTo>
                  <a:lnTo>
                    <a:pt x="165" y="61"/>
                  </a:lnTo>
                  <a:lnTo>
                    <a:pt x="171" y="59"/>
                  </a:lnTo>
                  <a:lnTo>
                    <a:pt x="176" y="56"/>
                  </a:lnTo>
                  <a:lnTo>
                    <a:pt x="181" y="53"/>
                  </a:lnTo>
                  <a:lnTo>
                    <a:pt x="186" y="50"/>
                  </a:lnTo>
                  <a:lnTo>
                    <a:pt x="190" y="45"/>
                  </a:lnTo>
                  <a:lnTo>
                    <a:pt x="193" y="40"/>
                  </a:lnTo>
                  <a:lnTo>
                    <a:pt x="195" y="34"/>
                  </a:lnTo>
                  <a:lnTo>
                    <a:pt x="197" y="27"/>
                  </a:lnTo>
                  <a:lnTo>
                    <a:pt x="198" y="19"/>
                  </a:lnTo>
                  <a:lnTo>
                    <a:pt x="199" y="10"/>
                  </a:lnTo>
                  <a:lnTo>
                    <a:pt x="198" y="0"/>
                  </a:lnTo>
                </a:path>
              </a:pathLst>
            </a:custGeom>
            <a:noFill/>
            <a:ln w="3240">
              <a:solidFill>
                <a:srgbClr val="71706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4620600" y="3049200"/>
              <a:ext cx="81000" cy="34560"/>
            </a:xfrm>
            <a:custGeom>
              <a:avLst/>
              <a:gdLst/>
              <a:ahLst/>
              <a:rect l="l" t="t" r="r" b="b"/>
              <a:pathLst>
                <a:path w="213" h="87">
                  <a:moveTo>
                    <a:pt x="0" y="0"/>
                  </a:moveTo>
                  <a:lnTo>
                    <a:pt x="9" y="9"/>
                  </a:lnTo>
                  <a:lnTo>
                    <a:pt x="18" y="18"/>
                  </a:lnTo>
                  <a:lnTo>
                    <a:pt x="29" y="27"/>
                  </a:lnTo>
                  <a:lnTo>
                    <a:pt x="42" y="36"/>
                  </a:lnTo>
                  <a:lnTo>
                    <a:pt x="55" y="45"/>
                  </a:lnTo>
                  <a:lnTo>
                    <a:pt x="69" y="54"/>
                  </a:lnTo>
                  <a:lnTo>
                    <a:pt x="83" y="62"/>
                  </a:lnTo>
                  <a:lnTo>
                    <a:pt x="99" y="70"/>
                  </a:lnTo>
                  <a:lnTo>
                    <a:pt x="114" y="76"/>
                  </a:lnTo>
                  <a:lnTo>
                    <a:pt x="129" y="81"/>
                  </a:lnTo>
                  <a:lnTo>
                    <a:pt x="145" y="85"/>
                  </a:lnTo>
                  <a:lnTo>
                    <a:pt x="159" y="87"/>
                  </a:lnTo>
                  <a:lnTo>
                    <a:pt x="166" y="87"/>
                  </a:lnTo>
                  <a:lnTo>
                    <a:pt x="173" y="87"/>
                  </a:lnTo>
                  <a:lnTo>
                    <a:pt x="180" y="87"/>
                  </a:lnTo>
                  <a:lnTo>
                    <a:pt x="188" y="85"/>
                  </a:lnTo>
                  <a:lnTo>
                    <a:pt x="195" y="84"/>
                  </a:lnTo>
                  <a:lnTo>
                    <a:pt x="201" y="81"/>
                  </a:lnTo>
                  <a:lnTo>
                    <a:pt x="207" y="78"/>
                  </a:lnTo>
                  <a:lnTo>
                    <a:pt x="213" y="75"/>
                  </a:lnTo>
                </a:path>
              </a:pathLst>
            </a:custGeom>
            <a:noFill/>
            <a:ln w="3240">
              <a:solidFill>
                <a:srgbClr val="71706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4854960" y="3145680"/>
              <a:ext cx="57600" cy="21240"/>
            </a:xfrm>
            <a:custGeom>
              <a:avLst/>
              <a:gdLst/>
              <a:ahLst/>
              <a:rect l="l" t="t" r="r" b="b"/>
              <a:pathLst>
                <a:path w="148" h="52">
                  <a:moveTo>
                    <a:pt x="148" y="44"/>
                  </a:moveTo>
                  <a:lnTo>
                    <a:pt x="139" y="49"/>
                  </a:lnTo>
                  <a:lnTo>
                    <a:pt x="130" y="51"/>
                  </a:lnTo>
                  <a:lnTo>
                    <a:pt x="120" y="52"/>
                  </a:lnTo>
                  <a:lnTo>
                    <a:pt x="110" y="52"/>
                  </a:lnTo>
                  <a:lnTo>
                    <a:pt x="100" y="50"/>
                  </a:lnTo>
                  <a:lnTo>
                    <a:pt x="90" y="48"/>
                  </a:lnTo>
                  <a:lnTo>
                    <a:pt x="80" y="45"/>
                  </a:lnTo>
                  <a:lnTo>
                    <a:pt x="69" y="41"/>
                  </a:lnTo>
                  <a:lnTo>
                    <a:pt x="50" y="31"/>
                  </a:lnTo>
                  <a:lnTo>
                    <a:pt x="32" y="20"/>
                  </a:lnTo>
                  <a:lnTo>
                    <a:pt x="14" y="10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71706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4001040" y="3112560"/>
              <a:ext cx="40680" cy="25200"/>
            </a:xfrm>
            <a:custGeom>
              <a:avLst/>
              <a:gdLst/>
              <a:ahLst/>
              <a:rect l="l" t="t" r="r" b="b"/>
              <a:pathLst>
                <a:path w="103" h="67">
                  <a:moveTo>
                    <a:pt x="0" y="0"/>
                  </a:moveTo>
                  <a:lnTo>
                    <a:pt x="4" y="7"/>
                  </a:lnTo>
                  <a:lnTo>
                    <a:pt x="8" y="14"/>
                  </a:lnTo>
                  <a:lnTo>
                    <a:pt x="13" y="20"/>
                  </a:lnTo>
                  <a:lnTo>
                    <a:pt x="18" y="26"/>
                  </a:lnTo>
                  <a:lnTo>
                    <a:pt x="29" y="37"/>
                  </a:lnTo>
                  <a:lnTo>
                    <a:pt x="43" y="46"/>
                  </a:lnTo>
                  <a:lnTo>
                    <a:pt x="56" y="54"/>
                  </a:lnTo>
                  <a:lnTo>
                    <a:pt x="71" y="60"/>
                  </a:lnTo>
                  <a:lnTo>
                    <a:pt x="86" y="64"/>
                  </a:lnTo>
                  <a:lnTo>
                    <a:pt x="103" y="67"/>
                  </a:lnTo>
                </a:path>
              </a:pathLst>
            </a:custGeom>
            <a:noFill/>
            <a:ln w="3240">
              <a:solidFill>
                <a:srgbClr val="6f57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4074840" y="3178440"/>
              <a:ext cx="36720" cy="40680"/>
            </a:xfrm>
            <a:custGeom>
              <a:avLst/>
              <a:gdLst/>
              <a:ahLst/>
              <a:rect l="l" t="t" r="r" b="b"/>
              <a:pathLst>
                <a:path w="96" h="109">
                  <a:moveTo>
                    <a:pt x="1" y="0"/>
                  </a:moveTo>
                  <a:lnTo>
                    <a:pt x="0" y="10"/>
                  </a:lnTo>
                  <a:lnTo>
                    <a:pt x="0" y="19"/>
                  </a:lnTo>
                  <a:lnTo>
                    <a:pt x="2" y="29"/>
                  </a:lnTo>
                  <a:lnTo>
                    <a:pt x="7" y="38"/>
                  </a:lnTo>
                  <a:lnTo>
                    <a:pt x="11" y="45"/>
                  </a:lnTo>
                  <a:lnTo>
                    <a:pt x="17" y="53"/>
                  </a:lnTo>
                  <a:lnTo>
                    <a:pt x="23" y="60"/>
                  </a:lnTo>
                  <a:lnTo>
                    <a:pt x="30" y="66"/>
                  </a:lnTo>
                  <a:lnTo>
                    <a:pt x="46" y="78"/>
                  </a:lnTo>
                  <a:lnTo>
                    <a:pt x="64" y="90"/>
                  </a:lnTo>
                  <a:lnTo>
                    <a:pt x="81" y="100"/>
                  </a:lnTo>
                  <a:lnTo>
                    <a:pt x="96" y="109"/>
                  </a:lnTo>
                </a:path>
              </a:pathLst>
            </a:custGeom>
            <a:noFill/>
            <a:ln w="3240">
              <a:solidFill>
                <a:srgbClr val="6f57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3916080" y="3033360"/>
              <a:ext cx="42480" cy="38880"/>
            </a:xfrm>
            <a:custGeom>
              <a:avLst/>
              <a:gdLst/>
              <a:ahLst/>
              <a:rect l="l" t="t" r="r" b="b"/>
              <a:pathLst>
                <a:path w="110" h="103">
                  <a:moveTo>
                    <a:pt x="0" y="0"/>
                  </a:moveTo>
                  <a:lnTo>
                    <a:pt x="3" y="9"/>
                  </a:lnTo>
                  <a:lnTo>
                    <a:pt x="7" y="18"/>
                  </a:lnTo>
                  <a:lnTo>
                    <a:pt x="12" y="27"/>
                  </a:lnTo>
                  <a:lnTo>
                    <a:pt x="18" y="35"/>
                  </a:lnTo>
                  <a:lnTo>
                    <a:pt x="24" y="43"/>
                  </a:lnTo>
                  <a:lnTo>
                    <a:pt x="30" y="52"/>
                  </a:lnTo>
                  <a:lnTo>
                    <a:pt x="36" y="59"/>
                  </a:lnTo>
                  <a:lnTo>
                    <a:pt x="43" y="66"/>
                  </a:lnTo>
                  <a:lnTo>
                    <a:pt x="50" y="73"/>
                  </a:lnTo>
                  <a:lnTo>
                    <a:pt x="58" y="79"/>
                  </a:lnTo>
                  <a:lnTo>
                    <a:pt x="67" y="84"/>
                  </a:lnTo>
                  <a:lnTo>
                    <a:pt x="75" y="89"/>
                  </a:lnTo>
                  <a:lnTo>
                    <a:pt x="84" y="93"/>
                  </a:lnTo>
                  <a:lnTo>
                    <a:pt x="92" y="98"/>
                  </a:lnTo>
                  <a:lnTo>
                    <a:pt x="101" y="101"/>
                  </a:lnTo>
                  <a:lnTo>
                    <a:pt x="110" y="103"/>
                  </a:lnTo>
                </a:path>
              </a:pathLst>
            </a:custGeom>
            <a:noFill/>
            <a:ln w="3240">
              <a:solidFill>
                <a:srgbClr val="6f57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3794040" y="2961720"/>
              <a:ext cx="50400" cy="59760"/>
            </a:xfrm>
            <a:custGeom>
              <a:avLst/>
              <a:gdLst/>
              <a:ahLst/>
              <a:rect l="l" t="t" r="r" b="b"/>
              <a:pathLst>
                <a:path w="132" h="154">
                  <a:moveTo>
                    <a:pt x="0" y="0"/>
                  </a:moveTo>
                  <a:lnTo>
                    <a:pt x="0" y="13"/>
                  </a:lnTo>
                  <a:lnTo>
                    <a:pt x="2" y="27"/>
                  </a:lnTo>
                  <a:lnTo>
                    <a:pt x="5" y="39"/>
                  </a:lnTo>
                  <a:lnTo>
                    <a:pt x="10" y="50"/>
                  </a:lnTo>
                  <a:lnTo>
                    <a:pt x="16" y="61"/>
                  </a:lnTo>
                  <a:lnTo>
                    <a:pt x="23" y="72"/>
                  </a:lnTo>
                  <a:lnTo>
                    <a:pt x="32" y="83"/>
                  </a:lnTo>
                  <a:lnTo>
                    <a:pt x="41" y="92"/>
                  </a:lnTo>
                  <a:lnTo>
                    <a:pt x="51" y="101"/>
                  </a:lnTo>
                  <a:lnTo>
                    <a:pt x="62" y="110"/>
                  </a:lnTo>
                  <a:lnTo>
                    <a:pt x="73" y="118"/>
                  </a:lnTo>
                  <a:lnTo>
                    <a:pt x="85" y="125"/>
                  </a:lnTo>
                  <a:lnTo>
                    <a:pt x="108" y="141"/>
                  </a:lnTo>
                  <a:lnTo>
                    <a:pt x="132" y="154"/>
                  </a:lnTo>
                </a:path>
              </a:pathLst>
            </a:custGeom>
            <a:noFill/>
            <a:ln w="3240">
              <a:solidFill>
                <a:srgbClr val="6f57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4940280" y="3439800"/>
              <a:ext cx="19080" cy="42480"/>
            </a:xfrm>
            <a:custGeom>
              <a:avLst/>
              <a:gdLst/>
              <a:ahLst/>
              <a:rect l="l" t="t" r="r" b="b"/>
              <a:pathLst>
                <a:path w="47" h="109">
                  <a:moveTo>
                    <a:pt x="39" y="0"/>
                  </a:moveTo>
                  <a:lnTo>
                    <a:pt x="43" y="7"/>
                  </a:lnTo>
                  <a:lnTo>
                    <a:pt x="45" y="14"/>
                  </a:lnTo>
                  <a:lnTo>
                    <a:pt x="47" y="23"/>
                  </a:lnTo>
                  <a:lnTo>
                    <a:pt x="47" y="30"/>
                  </a:lnTo>
                  <a:lnTo>
                    <a:pt x="46" y="37"/>
                  </a:lnTo>
                  <a:lnTo>
                    <a:pt x="44" y="44"/>
                  </a:lnTo>
                  <a:lnTo>
                    <a:pt x="42" y="52"/>
                  </a:lnTo>
                  <a:lnTo>
                    <a:pt x="39" y="58"/>
                  </a:lnTo>
                  <a:lnTo>
                    <a:pt x="31" y="73"/>
                  </a:lnTo>
                  <a:lnTo>
                    <a:pt x="21" y="86"/>
                  </a:lnTo>
                  <a:lnTo>
                    <a:pt x="11" y="98"/>
                  </a:lnTo>
                  <a:lnTo>
                    <a:pt x="0" y="109"/>
                  </a:lnTo>
                </a:path>
              </a:pathLst>
            </a:custGeom>
            <a:noFill/>
            <a:ln w="3240">
              <a:solidFill>
                <a:srgbClr val="6f57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4876200" y="3261960"/>
              <a:ext cx="17280" cy="49680"/>
            </a:xfrm>
            <a:custGeom>
              <a:avLst/>
              <a:gdLst/>
              <a:ahLst/>
              <a:rect l="l" t="t" r="r" b="b"/>
              <a:pathLst>
                <a:path w="45" h="132">
                  <a:moveTo>
                    <a:pt x="0" y="0"/>
                  </a:moveTo>
                  <a:lnTo>
                    <a:pt x="10" y="4"/>
                  </a:lnTo>
                  <a:lnTo>
                    <a:pt x="20" y="8"/>
                  </a:lnTo>
                  <a:lnTo>
                    <a:pt x="27" y="14"/>
                  </a:lnTo>
                  <a:lnTo>
                    <a:pt x="33" y="21"/>
                  </a:lnTo>
                  <a:lnTo>
                    <a:pt x="37" y="29"/>
                  </a:lnTo>
                  <a:lnTo>
                    <a:pt x="41" y="36"/>
                  </a:lnTo>
                  <a:lnTo>
                    <a:pt x="43" y="45"/>
                  </a:lnTo>
                  <a:lnTo>
                    <a:pt x="44" y="54"/>
                  </a:lnTo>
                  <a:lnTo>
                    <a:pt x="45" y="73"/>
                  </a:lnTo>
                  <a:lnTo>
                    <a:pt x="44" y="93"/>
                  </a:lnTo>
                  <a:lnTo>
                    <a:pt x="44" y="112"/>
                  </a:lnTo>
                  <a:lnTo>
                    <a:pt x="44" y="132"/>
                  </a:lnTo>
                </a:path>
              </a:pathLst>
            </a:custGeom>
            <a:noFill/>
            <a:ln w="3240">
              <a:solidFill>
                <a:srgbClr val="6f57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3576960" y="3269160"/>
              <a:ext cx="340920" cy="232200"/>
            </a:xfrm>
            <a:custGeom>
              <a:avLst/>
              <a:gdLst/>
              <a:ahLst/>
              <a:rect l="l" t="t" r="r" b="b"/>
              <a:pathLst>
                <a:path w="879" h="598">
                  <a:moveTo>
                    <a:pt x="0" y="5"/>
                  </a:moveTo>
                  <a:lnTo>
                    <a:pt x="12" y="2"/>
                  </a:lnTo>
                  <a:lnTo>
                    <a:pt x="22" y="0"/>
                  </a:lnTo>
                  <a:lnTo>
                    <a:pt x="33" y="0"/>
                  </a:lnTo>
                  <a:lnTo>
                    <a:pt x="44" y="0"/>
                  </a:lnTo>
                  <a:lnTo>
                    <a:pt x="53" y="2"/>
                  </a:lnTo>
                  <a:lnTo>
                    <a:pt x="63" y="5"/>
                  </a:lnTo>
                  <a:lnTo>
                    <a:pt x="71" y="8"/>
                  </a:lnTo>
                  <a:lnTo>
                    <a:pt x="80" y="13"/>
                  </a:lnTo>
                  <a:lnTo>
                    <a:pt x="98" y="23"/>
                  </a:lnTo>
                  <a:lnTo>
                    <a:pt x="115" y="35"/>
                  </a:lnTo>
                  <a:lnTo>
                    <a:pt x="132" y="49"/>
                  </a:lnTo>
                  <a:lnTo>
                    <a:pt x="150" y="62"/>
                  </a:lnTo>
                  <a:lnTo>
                    <a:pt x="164" y="72"/>
                  </a:lnTo>
                  <a:lnTo>
                    <a:pt x="177" y="83"/>
                  </a:lnTo>
                  <a:lnTo>
                    <a:pt x="188" y="94"/>
                  </a:lnTo>
                  <a:lnTo>
                    <a:pt x="201" y="107"/>
                  </a:lnTo>
                  <a:lnTo>
                    <a:pt x="222" y="132"/>
                  </a:lnTo>
                  <a:lnTo>
                    <a:pt x="243" y="159"/>
                  </a:lnTo>
                  <a:lnTo>
                    <a:pt x="263" y="185"/>
                  </a:lnTo>
                  <a:lnTo>
                    <a:pt x="283" y="211"/>
                  </a:lnTo>
                  <a:lnTo>
                    <a:pt x="295" y="223"/>
                  </a:lnTo>
                  <a:lnTo>
                    <a:pt x="307" y="235"/>
                  </a:lnTo>
                  <a:lnTo>
                    <a:pt x="319" y="247"/>
                  </a:lnTo>
                  <a:lnTo>
                    <a:pt x="332" y="259"/>
                  </a:lnTo>
                  <a:lnTo>
                    <a:pt x="341" y="265"/>
                  </a:lnTo>
                  <a:lnTo>
                    <a:pt x="349" y="270"/>
                  </a:lnTo>
                  <a:lnTo>
                    <a:pt x="357" y="275"/>
                  </a:lnTo>
                  <a:lnTo>
                    <a:pt x="366" y="280"/>
                  </a:lnTo>
                  <a:lnTo>
                    <a:pt x="383" y="288"/>
                  </a:lnTo>
                  <a:lnTo>
                    <a:pt x="402" y="295"/>
                  </a:lnTo>
                  <a:lnTo>
                    <a:pt x="420" y="301"/>
                  </a:lnTo>
                  <a:lnTo>
                    <a:pt x="440" y="305"/>
                  </a:lnTo>
                  <a:lnTo>
                    <a:pt x="459" y="309"/>
                  </a:lnTo>
                  <a:lnTo>
                    <a:pt x="478" y="312"/>
                  </a:lnTo>
                  <a:lnTo>
                    <a:pt x="517" y="318"/>
                  </a:lnTo>
                  <a:lnTo>
                    <a:pt x="556" y="324"/>
                  </a:lnTo>
                  <a:lnTo>
                    <a:pt x="574" y="329"/>
                  </a:lnTo>
                  <a:lnTo>
                    <a:pt x="594" y="334"/>
                  </a:lnTo>
                  <a:lnTo>
                    <a:pt x="612" y="341"/>
                  </a:lnTo>
                  <a:lnTo>
                    <a:pt x="630" y="349"/>
                  </a:lnTo>
                  <a:lnTo>
                    <a:pt x="651" y="361"/>
                  </a:lnTo>
                  <a:lnTo>
                    <a:pt x="670" y="373"/>
                  </a:lnTo>
                  <a:lnTo>
                    <a:pt x="689" y="385"/>
                  </a:lnTo>
                  <a:lnTo>
                    <a:pt x="706" y="399"/>
                  </a:lnTo>
                  <a:lnTo>
                    <a:pt x="722" y="414"/>
                  </a:lnTo>
                  <a:lnTo>
                    <a:pt x="739" y="429"/>
                  </a:lnTo>
                  <a:lnTo>
                    <a:pt x="754" y="444"/>
                  </a:lnTo>
                  <a:lnTo>
                    <a:pt x="768" y="461"/>
                  </a:lnTo>
                  <a:lnTo>
                    <a:pt x="797" y="494"/>
                  </a:lnTo>
                  <a:lnTo>
                    <a:pt x="824" y="528"/>
                  </a:lnTo>
                  <a:lnTo>
                    <a:pt x="852" y="564"/>
                  </a:lnTo>
                  <a:lnTo>
                    <a:pt x="879" y="598"/>
                  </a:lnTo>
                </a:path>
              </a:pathLst>
            </a:custGeom>
            <a:noFill/>
            <a:ln w="3240">
              <a:solidFill>
                <a:srgbClr val="6f57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"/>
          <p:cNvSpPr/>
          <p:nvPr/>
        </p:nvSpPr>
        <p:spPr>
          <a:xfrm>
            <a:off x="2941200" y="619200"/>
            <a:ext cx="3545640" cy="7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700" spc="-1" strike="noStrike">
                <a:solidFill>
                  <a:srgbClr val="902444"/>
                </a:solidFill>
                <a:latin typeface="Geometr231 Hv BT"/>
              </a:rPr>
              <a:t>GRIEF CYCLE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2629080" y="1523880"/>
            <a:ext cx="4838400" cy="65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f1a17"/>
                </a:solidFill>
                <a:latin typeface="Geometr231 Hv BT"/>
              </a:rPr>
              <a:t>1. Sho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f1a17"/>
                </a:solidFill>
                <a:latin typeface="Geometr231 Hv BT"/>
              </a:rPr>
              <a:t>2. Facing emo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f1a17"/>
                </a:solidFill>
                <a:latin typeface="Geometr231 Hv BT"/>
              </a:rPr>
              <a:t>3. De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f1a17"/>
                </a:solidFill>
                <a:latin typeface="Geometr231 Hv BT"/>
              </a:rPr>
              <a:t>4. Physical symptoms and/or ill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f1a17"/>
                </a:solidFill>
                <a:latin typeface="Geometr231 Hv BT"/>
              </a:rPr>
              <a:t>5. Pan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f1a17"/>
                </a:solidFill>
                <a:latin typeface="Geometr231 Hv BT"/>
              </a:rPr>
              <a:t>6. Gui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f1a17"/>
                </a:solidFill>
                <a:latin typeface="Geometr231 Hv BT"/>
              </a:rPr>
              <a:t>7. Host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f1a17"/>
                </a:solidFill>
                <a:latin typeface="Geometr231 Hv BT"/>
              </a:rPr>
              <a:t>8. Drif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f1a17"/>
                </a:solidFill>
                <a:latin typeface="Geometr231 Hv BT"/>
              </a:rPr>
              <a:t>9. Ho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f1a17"/>
                </a:solidFill>
                <a:latin typeface="Geometr231 Hv BT"/>
              </a:rPr>
              <a:t>10. Reaffirmation and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3499920" y="1311120"/>
            <a:ext cx="770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1f1a17"/>
                </a:solidFill>
                <a:latin typeface="Geometr231 Hv BT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3499920" y="1727280"/>
            <a:ext cx="770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1f1a17"/>
                </a:solidFill>
                <a:latin typeface="Geometr231 Hv BT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4344480" y="1727280"/>
            <a:ext cx="770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1f1a17"/>
                </a:solidFill>
                <a:latin typeface="Geometr231 Hv BT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3499920" y="2143080"/>
            <a:ext cx="770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1f1a17"/>
                </a:solidFill>
                <a:latin typeface="Geometr231 Hv BT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3499920" y="2558880"/>
            <a:ext cx="770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1f1a17"/>
                </a:solidFill>
                <a:latin typeface="Geometr231 Hv BT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4560480" y="2558880"/>
            <a:ext cx="770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1f1a17"/>
                </a:solidFill>
                <a:latin typeface="Geometr231 Hv BT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4073040" y="2975040"/>
            <a:ext cx="3056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1f1a17"/>
                </a:solidFill>
                <a:latin typeface="Geometr231 Hv BT"/>
              </a:rPr>
              <a:t>   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3269160" y="5888160"/>
            <a:ext cx="45792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1f1a17"/>
                </a:solidFill>
                <a:latin typeface="Geometr231 Hv BT"/>
              </a:rPr>
              <a:t>     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"/>
          <p:cNvSpPr/>
          <p:nvPr/>
        </p:nvSpPr>
        <p:spPr>
          <a:xfrm>
            <a:off x="2337480" y="669960"/>
            <a:ext cx="4773960" cy="62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100" spc="-1" strike="noStrike">
                <a:solidFill>
                  <a:srgbClr val="902444"/>
                </a:solidFill>
                <a:latin typeface="Geometr231 Hv BT"/>
              </a:rPr>
              <a:t>THE “GRIEF WHEEL”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0" name=""/>
          <p:cNvGrpSpPr/>
          <p:nvPr/>
        </p:nvGrpSpPr>
        <p:grpSpPr>
          <a:xfrm>
            <a:off x="2558880" y="1371600"/>
            <a:ext cx="3711600" cy="4567320"/>
            <a:chOff x="2558880" y="1371600"/>
            <a:chExt cx="3711600" cy="4567320"/>
          </a:xfrm>
        </p:grpSpPr>
        <p:sp>
          <p:nvSpPr>
            <p:cNvPr id="1181" name=""/>
            <p:cNvSpPr/>
            <p:nvPr/>
          </p:nvSpPr>
          <p:spPr>
            <a:xfrm>
              <a:off x="2897280" y="2565360"/>
              <a:ext cx="3373200" cy="3373560"/>
            </a:xfrm>
            <a:custGeom>
              <a:avLst/>
              <a:gdLst/>
              <a:ahLst/>
              <a:rect l="l" t="t" r="r" b="b"/>
              <a:pathLst>
                <a:path w="10627" h="10623">
                  <a:moveTo>
                    <a:pt x="5313" y="0"/>
                  </a:moveTo>
                  <a:lnTo>
                    <a:pt x="5587" y="7"/>
                  </a:lnTo>
                  <a:lnTo>
                    <a:pt x="5856" y="27"/>
                  </a:lnTo>
                  <a:lnTo>
                    <a:pt x="6120" y="61"/>
                  </a:lnTo>
                  <a:lnTo>
                    <a:pt x="6382" y="108"/>
                  </a:lnTo>
                  <a:lnTo>
                    <a:pt x="6639" y="168"/>
                  </a:lnTo>
                  <a:lnTo>
                    <a:pt x="6891" y="239"/>
                  </a:lnTo>
                  <a:lnTo>
                    <a:pt x="7137" y="323"/>
                  </a:lnTo>
                  <a:lnTo>
                    <a:pt x="7378" y="418"/>
                  </a:lnTo>
                  <a:lnTo>
                    <a:pt x="7614" y="525"/>
                  </a:lnTo>
                  <a:lnTo>
                    <a:pt x="7843" y="643"/>
                  </a:lnTo>
                  <a:lnTo>
                    <a:pt x="8065" y="770"/>
                  </a:lnTo>
                  <a:lnTo>
                    <a:pt x="8281" y="910"/>
                  </a:lnTo>
                  <a:lnTo>
                    <a:pt x="8490" y="1058"/>
                  </a:lnTo>
                  <a:lnTo>
                    <a:pt x="8690" y="1215"/>
                  </a:lnTo>
                  <a:lnTo>
                    <a:pt x="8883" y="1383"/>
                  </a:lnTo>
                  <a:lnTo>
                    <a:pt x="9068" y="1559"/>
                  </a:lnTo>
                  <a:lnTo>
                    <a:pt x="9244" y="1743"/>
                  </a:lnTo>
                  <a:lnTo>
                    <a:pt x="9411" y="1936"/>
                  </a:lnTo>
                  <a:lnTo>
                    <a:pt x="9569" y="2137"/>
                  </a:lnTo>
                  <a:lnTo>
                    <a:pt x="9717" y="2345"/>
                  </a:lnTo>
                  <a:lnTo>
                    <a:pt x="9855" y="2561"/>
                  </a:lnTo>
                  <a:lnTo>
                    <a:pt x="9984" y="2783"/>
                  </a:lnTo>
                  <a:lnTo>
                    <a:pt x="10102" y="3012"/>
                  </a:lnTo>
                  <a:lnTo>
                    <a:pt x="10209" y="3248"/>
                  </a:lnTo>
                  <a:lnTo>
                    <a:pt x="10304" y="3489"/>
                  </a:lnTo>
                  <a:lnTo>
                    <a:pt x="10387" y="3735"/>
                  </a:lnTo>
                  <a:lnTo>
                    <a:pt x="10459" y="3987"/>
                  </a:lnTo>
                  <a:lnTo>
                    <a:pt x="10519" y="4244"/>
                  </a:lnTo>
                  <a:lnTo>
                    <a:pt x="10565" y="4505"/>
                  </a:lnTo>
                  <a:lnTo>
                    <a:pt x="10600" y="4770"/>
                  </a:lnTo>
                  <a:lnTo>
                    <a:pt x="10620" y="5039"/>
                  </a:lnTo>
                  <a:lnTo>
                    <a:pt x="10627" y="5312"/>
                  </a:lnTo>
                  <a:lnTo>
                    <a:pt x="10620" y="5584"/>
                  </a:lnTo>
                  <a:lnTo>
                    <a:pt x="10600" y="5853"/>
                  </a:lnTo>
                  <a:lnTo>
                    <a:pt x="10565" y="6119"/>
                  </a:lnTo>
                  <a:lnTo>
                    <a:pt x="10519" y="6380"/>
                  </a:lnTo>
                  <a:lnTo>
                    <a:pt x="10459" y="6636"/>
                  </a:lnTo>
                  <a:lnTo>
                    <a:pt x="10387" y="6889"/>
                  </a:lnTo>
                  <a:lnTo>
                    <a:pt x="10304" y="7135"/>
                  </a:lnTo>
                  <a:lnTo>
                    <a:pt x="10209" y="7376"/>
                  </a:lnTo>
                  <a:lnTo>
                    <a:pt x="10102" y="7611"/>
                  </a:lnTo>
                  <a:lnTo>
                    <a:pt x="9984" y="7840"/>
                  </a:lnTo>
                  <a:lnTo>
                    <a:pt x="9855" y="8063"/>
                  </a:lnTo>
                  <a:lnTo>
                    <a:pt x="9717" y="8277"/>
                  </a:lnTo>
                  <a:lnTo>
                    <a:pt x="9569" y="8486"/>
                  </a:lnTo>
                  <a:lnTo>
                    <a:pt x="9411" y="8687"/>
                  </a:lnTo>
                  <a:lnTo>
                    <a:pt x="9244" y="8880"/>
                  </a:lnTo>
                  <a:lnTo>
                    <a:pt x="9068" y="9065"/>
                  </a:lnTo>
                  <a:lnTo>
                    <a:pt x="8883" y="9241"/>
                  </a:lnTo>
                  <a:lnTo>
                    <a:pt x="8690" y="9407"/>
                  </a:lnTo>
                  <a:lnTo>
                    <a:pt x="8490" y="9566"/>
                  </a:lnTo>
                  <a:lnTo>
                    <a:pt x="8281" y="9714"/>
                  </a:lnTo>
                  <a:lnTo>
                    <a:pt x="8065" y="9852"/>
                  </a:lnTo>
                  <a:lnTo>
                    <a:pt x="7843" y="9981"/>
                  </a:lnTo>
                  <a:lnTo>
                    <a:pt x="7614" y="10098"/>
                  </a:lnTo>
                  <a:lnTo>
                    <a:pt x="7378" y="10204"/>
                  </a:lnTo>
                  <a:lnTo>
                    <a:pt x="7137" y="10300"/>
                  </a:lnTo>
                  <a:lnTo>
                    <a:pt x="6891" y="10383"/>
                  </a:lnTo>
                  <a:lnTo>
                    <a:pt x="6639" y="10456"/>
                  </a:lnTo>
                  <a:lnTo>
                    <a:pt x="6382" y="10515"/>
                  </a:lnTo>
                  <a:lnTo>
                    <a:pt x="6120" y="10562"/>
                  </a:lnTo>
                  <a:lnTo>
                    <a:pt x="5856" y="10595"/>
                  </a:lnTo>
                  <a:lnTo>
                    <a:pt x="5587" y="10616"/>
                  </a:lnTo>
                  <a:lnTo>
                    <a:pt x="5313" y="10623"/>
                  </a:lnTo>
                  <a:lnTo>
                    <a:pt x="5041" y="10616"/>
                  </a:lnTo>
                  <a:lnTo>
                    <a:pt x="4772" y="10595"/>
                  </a:lnTo>
                  <a:lnTo>
                    <a:pt x="4506" y="10562"/>
                  </a:lnTo>
                  <a:lnTo>
                    <a:pt x="4245" y="10515"/>
                  </a:lnTo>
                  <a:lnTo>
                    <a:pt x="3989" y="10456"/>
                  </a:lnTo>
                  <a:lnTo>
                    <a:pt x="3737" y="10383"/>
                  </a:lnTo>
                  <a:lnTo>
                    <a:pt x="3490" y="10300"/>
                  </a:lnTo>
                  <a:lnTo>
                    <a:pt x="3249" y="10204"/>
                  </a:lnTo>
                  <a:lnTo>
                    <a:pt x="3013" y="10098"/>
                  </a:lnTo>
                  <a:lnTo>
                    <a:pt x="2784" y="9981"/>
                  </a:lnTo>
                  <a:lnTo>
                    <a:pt x="2561" y="9852"/>
                  </a:lnTo>
                  <a:lnTo>
                    <a:pt x="2346" y="9714"/>
                  </a:lnTo>
                  <a:lnTo>
                    <a:pt x="2138" y="9566"/>
                  </a:lnTo>
                  <a:lnTo>
                    <a:pt x="1937" y="9407"/>
                  </a:lnTo>
                  <a:lnTo>
                    <a:pt x="1744" y="9241"/>
                  </a:lnTo>
                  <a:lnTo>
                    <a:pt x="1559" y="9065"/>
                  </a:lnTo>
                  <a:lnTo>
                    <a:pt x="1383" y="8880"/>
                  </a:lnTo>
                  <a:lnTo>
                    <a:pt x="1216" y="8687"/>
                  </a:lnTo>
                  <a:lnTo>
                    <a:pt x="1057" y="8486"/>
                  </a:lnTo>
                  <a:lnTo>
                    <a:pt x="909" y="8277"/>
                  </a:lnTo>
                  <a:lnTo>
                    <a:pt x="771" y="8063"/>
                  </a:lnTo>
                  <a:lnTo>
                    <a:pt x="643" y="7840"/>
                  </a:lnTo>
                  <a:lnTo>
                    <a:pt x="525" y="7611"/>
                  </a:lnTo>
                  <a:lnTo>
                    <a:pt x="419" y="7376"/>
                  </a:lnTo>
                  <a:lnTo>
                    <a:pt x="324" y="7135"/>
                  </a:lnTo>
                  <a:lnTo>
                    <a:pt x="240" y="6889"/>
                  </a:lnTo>
                  <a:lnTo>
                    <a:pt x="168" y="6636"/>
                  </a:lnTo>
                  <a:lnTo>
                    <a:pt x="108" y="6380"/>
                  </a:lnTo>
                  <a:lnTo>
                    <a:pt x="61" y="6119"/>
                  </a:lnTo>
                  <a:lnTo>
                    <a:pt x="28" y="5853"/>
                  </a:lnTo>
                  <a:lnTo>
                    <a:pt x="7" y="5584"/>
                  </a:lnTo>
                  <a:lnTo>
                    <a:pt x="0" y="5312"/>
                  </a:lnTo>
                  <a:lnTo>
                    <a:pt x="7" y="5039"/>
                  </a:lnTo>
                  <a:lnTo>
                    <a:pt x="28" y="4770"/>
                  </a:lnTo>
                  <a:lnTo>
                    <a:pt x="61" y="4505"/>
                  </a:lnTo>
                  <a:lnTo>
                    <a:pt x="108" y="4244"/>
                  </a:lnTo>
                  <a:lnTo>
                    <a:pt x="168" y="3987"/>
                  </a:lnTo>
                  <a:lnTo>
                    <a:pt x="240" y="3735"/>
                  </a:lnTo>
                  <a:lnTo>
                    <a:pt x="324" y="3489"/>
                  </a:lnTo>
                  <a:lnTo>
                    <a:pt x="419" y="3248"/>
                  </a:lnTo>
                  <a:lnTo>
                    <a:pt x="525" y="3012"/>
                  </a:lnTo>
                  <a:lnTo>
                    <a:pt x="643" y="2783"/>
                  </a:lnTo>
                  <a:lnTo>
                    <a:pt x="771" y="2561"/>
                  </a:lnTo>
                  <a:lnTo>
                    <a:pt x="909" y="2345"/>
                  </a:lnTo>
                  <a:lnTo>
                    <a:pt x="1057" y="2137"/>
                  </a:lnTo>
                  <a:lnTo>
                    <a:pt x="1216" y="1936"/>
                  </a:lnTo>
                  <a:lnTo>
                    <a:pt x="1383" y="1743"/>
                  </a:lnTo>
                  <a:lnTo>
                    <a:pt x="1559" y="1559"/>
                  </a:lnTo>
                  <a:lnTo>
                    <a:pt x="1744" y="1383"/>
                  </a:lnTo>
                  <a:lnTo>
                    <a:pt x="1937" y="1215"/>
                  </a:lnTo>
                  <a:lnTo>
                    <a:pt x="2138" y="1058"/>
                  </a:lnTo>
                  <a:lnTo>
                    <a:pt x="2346" y="910"/>
                  </a:lnTo>
                  <a:lnTo>
                    <a:pt x="2561" y="770"/>
                  </a:lnTo>
                  <a:lnTo>
                    <a:pt x="2784" y="643"/>
                  </a:lnTo>
                  <a:lnTo>
                    <a:pt x="3013" y="525"/>
                  </a:lnTo>
                  <a:lnTo>
                    <a:pt x="3249" y="418"/>
                  </a:lnTo>
                  <a:lnTo>
                    <a:pt x="3490" y="323"/>
                  </a:lnTo>
                  <a:lnTo>
                    <a:pt x="3737" y="239"/>
                  </a:lnTo>
                  <a:lnTo>
                    <a:pt x="3989" y="168"/>
                  </a:lnTo>
                  <a:lnTo>
                    <a:pt x="4245" y="108"/>
                  </a:lnTo>
                  <a:lnTo>
                    <a:pt x="4506" y="61"/>
                  </a:lnTo>
                  <a:lnTo>
                    <a:pt x="4772" y="27"/>
                  </a:lnTo>
                  <a:lnTo>
                    <a:pt x="5041" y="7"/>
                  </a:lnTo>
                  <a:lnTo>
                    <a:pt x="5313" y="0"/>
                  </a:lnTo>
                </a:path>
              </a:pathLst>
            </a:custGeom>
            <a:noFill/>
            <a:ln w="14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3449520" y="3117960"/>
              <a:ext cx="2268720" cy="2268360"/>
            </a:xfrm>
            <a:custGeom>
              <a:avLst/>
              <a:gdLst/>
              <a:ahLst/>
              <a:rect l="l" t="t" r="r" b="b"/>
              <a:pathLst>
                <a:path w="7149" h="7146">
                  <a:moveTo>
                    <a:pt x="3574" y="0"/>
                  </a:moveTo>
                  <a:lnTo>
                    <a:pt x="3758" y="5"/>
                  </a:lnTo>
                  <a:lnTo>
                    <a:pt x="3939" y="18"/>
                  </a:lnTo>
                  <a:lnTo>
                    <a:pt x="4118" y="41"/>
                  </a:lnTo>
                  <a:lnTo>
                    <a:pt x="4294" y="73"/>
                  </a:lnTo>
                  <a:lnTo>
                    <a:pt x="4466" y="113"/>
                  </a:lnTo>
                  <a:lnTo>
                    <a:pt x="4635" y="161"/>
                  </a:lnTo>
                  <a:lnTo>
                    <a:pt x="4802" y="218"/>
                  </a:lnTo>
                  <a:lnTo>
                    <a:pt x="4964" y="282"/>
                  </a:lnTo>
                  <a:lnTo>
                    <a:pt x="5121" y="353"/>
                  </a:lnTo>
                  <a:lnTo>
                    <a:pt x="5276" y="433"/>
                  </a:lnTo>
                  <a:lnTo>
                    <a:pt x="5426" y="518"/>
                  </a:lnTo>
                  <a:lnTo>
                    <a:pt x="5571" y="612"/>
                  </a:lnTo>
                  <a:lnTo>
                    <a:pt x="5711" y="712"/>
                  </a:lnTo>
                  <a:lnTo>
                    <a:pt x="5846" y="818"/>
                  </a:lnTo>
                  <a:lnTo>
                    <a:pt x="5976" y="930"/>
                  </a:lnTo>
                  <a:lnTo>
                    <a:pt x="6100" y="1049"/>
                  </a:lnTo>
                  <a:lnTo>
                    <a:pt x="6218" y="1173"/>
                  </a:lnTo>
                  <a:lnTo>
                    <a:pt x="6332" y="1303"/>
                  </a:lnTo>
                  <a:lnTo>
                    <a:pt x="6437" y="1438"/>
                  </a:lnTo>
                  <a:lnTo>
                    <a:pt x="6537" y="1578"/>
                  </a:lnTo>
                  <a:lnTo>
                    <a:pt x="6631" y="1723"/>
                  </a:lnTo>
                  <a:lnTo>
                    <a:pt x="6716" y="1873"/>
                  </a:lnTo>
                  <a:lnTo>
                    <a:pt x="6796" y="2027"/>
                  </a:lnTo>
                  <a:lnTo>
                    <a:pt x="6867" y="2185"/>
                  </a:lnTo>
                  <a:lnTo>
                    <a:pt x="6931" y="2347"/>
                  </a:lnTo>
                  <a:lnTo>
                    <a:pt x="6988" y="2513"/>
                  </a:lnTo>
                  <a:lnTo>
                    <a:pt x="7036" y="2683"/>
                  </a:lnTo>
                  <a:lnTo>
                    <a:pt x="7076" y="2854"/>
                  </a:lnTo>
                  <a:lnTo>
                    <a:pt x="7107" y="3031"/>
                  </a:lnTo>
                  <a:lnTo>
                    <a:pt x="7131" y="3209"/>
                  </a:lnTo>
                  <a:lnTo>
                    <a:pt x="7144" y="3390"/>
                  </a:lnTo>
                  <a:lnTo>
                    <a:pt x="7149" y="3574"/>
                  </a:lnTo>
                  <a:lnTo>
                    <a:pt x="7144" y="3757"/>
                  </a:lnTo>
                  <a:lnTo>
                    <a:pt x="7131" y="3938"/>
                  </a:lnTo>
                  <a:lnTo>
                    <a:pt x="7107" y="4116"/>
                  </a:lnTo>
                  <a:lnTo>
                    <a:pt x="7076" y="4292"/>
                  </a:lnTo>
                  <a:lnTo>
                    <a:pt x="7036" y="4465"/>
                  </a:lnTo>
                  <a:lnTo>
                    <a:pt x="6988" y="4634"/>
                  </a:lnTo>
                  <a:lnTo>
                    <a:pt x="6931" y="4800"/>
                  </a:lnTo>
                  <a:lnTo>
                    <a:pt x="6867" y="4963"/>
                  </a:lnTo>
                  <a:lnTo>
                    <a:pt x="6796" y="5120"/>
                  </a:lnTo>
                  <a:lnTo>
                    <a:pt x="6716" y="5275"/>
                  </a:lnTo>
                  <a:lnTo>
                    <a:pt x="6631" y="5424"/>
                  </a:lnTo>
                  <a:lnTo>
                    <a:pt x="6537" y="5569"/>
                  </a:lnTo>
                  <a:lnTo>
                    <a:pt x="6437" y="5709"/>
                  </a:lnTo>
                  <a:lnTo>
                    <a:pt x="6332" y="5844"/>
                  </a:lnTo>
                  <a:lnTo>
                    <a:pt x="6218" y="5974"/>
                  </a:lnTo>
                  <a:lnTo>
                    <a:pt x="6100" y="6098"/>
                  </a:lnTo>
                  <a:lnTo>
                    <a:pt x="5976" y="6217"/>
                  </a:lnTo>
                  <a:lnTo>
                    <a:pt x="5846" y="6329"/>
                  </a:lnTo>
                  <a:lnTo>
                    <a:pt x="5711" y="6436"/>
                  </a:lnTo>
                  <a:lnTo>
                    <a:pt x="5571" y="6535"/>
                  </a:lnTo>
                  <a:lnTo>
                    <a:pt x="5426" y="6628"/>
                  </a:lnTo>
                  <a:lnTo>
                    <a:pt x="5276" y="6714"/>
                  </a:lnTo>
                  <a:lnTo>
                    <a:pt x="5121" y="6793"/>
                  </a:lnTo>
                  <a:lnTo>
                    <a:pt x="4964" y="6866"/>
                  </a:lnTo>
                  <a:lnTo>
                    <a:pt x="4802" y="6929"/>
                  </a:lnTo>
                  <a:lnTo>
                    <a:pt x="4635" y="6985"/>
                  </a:lnTo>
                  <a:lnTo>
                    <a:pt x="4466" y="7034"/>
                  </a:lnTo>
                  <a:lnTo>
                    <a:pt x="4294" y="7074"/>
                  </a:lnTo>
                  <a:lnTo>
                    <a:pt x="4118" y="7105"/>
                  </a:lnTo>
                  <a:lnTo>
                    <a:pt x="3939" y="7128"/>
                  </a:lnTo>
                  <a:lnTo>
                    <a:pt x="3758" y="7142"/>
                  </a:lnTo>
                  <a:lnTo>
                    <a:pt x="3574" y="7146"/>
                  </a:lnTo>
                  <a:lnTo>
                    <a:pt x="3391" y="7142"/>
                  </a:lnTo>
                  <a:lnTo>
                    <a:pt x="3210" y="7128"/>
                  </a:lnTo>
                  <a:lnTo>
                    <a:pt x="3032" y="7105"/>
                  </a:lnTo>
                  <a:lnTo>
                    <a:pt x="2856" y="7074"/>
                  </a:lnTo>
                  <a:lnTo>
                    <a:pt x="2683" y="7034"/>
                  </a:lnTo>
                  <a:lnTo>
                    <a:pt x="2513" y="6985"/>
                  </a:lnTo>
                  <a:lnTo>
                    <a:pt x="2348" y="6929"/>
                  </a:lnTo>
                  <a:lnTo>
                    <a:pt x="2186" y="6866"/>
                  </a:lnTo>
                  <a:lnTo>
                    <a:pt x="2027" y="6793"/>
                  </a:lnTo>
                  <a:lnTo>
                    <a:pt x="1873" y="6714"/>
                  </a:lnTo>
                  <a:lnTo>
                    <a:pt x="1724" y="6628"/>
                  </a:lnTo>
                  <a:lnTo>
                    <a:pt x="1579" y="6535"/>
                  </a:lnTo>
                  <a:lnTo>
                    <a:pt x="1438" y="6436"/>
                  </a:lnTo>
                  <a:lnTo>
                    <a:pt x="1303" y="6329"/>
                  </a:lnTo>
                  <a:lnTo>
                    <a:pt x="1174" y="6217"/>
                  </a:lnTo>
                  <a:lnTo>
                    <a:pt x="1049" y="6098"/>
                  </a:lnTo>
                  <a:lnTo>
                    <a:pt x="930" y="5974"/>
                  </a:lnTo>
                  <a:lnTo>
                    <a:pt x="818" y="5844"/>
                  </a:lnTo>
                  <a:lnTo>
                    <a:pt x="712" y="5709"/>
                  </a:lnTo>
                  <a:lnTo>
                    <a:pt x="612" y="5569"/>
                  </a:lnTo>
                  <a:lnTo>
                    <a:pt x="519" y="5424"/>
                  </a:lnTo>
                  <a:lnTo>
                    <a:pt x="432" y="5275"/>
                  </a:lnTo>
                  <a:lnTo>
                    <a:pt x="354" y="5120"/>
                  </a:lnTo>
                  <a:lnTo>
                    <a:pt x="281" y="4963"/>
                  </a:lnTo>
                  <a:lnTo>
                    <a:pt x="217" y="4800"/>
                  </a:lnTo>
                  <a:lnTo>
                    <a:pt x="161" y="4634"/>
                  </a:lnTo>
                  <a:lnTo>
                    <a:pt x="113" y="4465"/>
                  </a:lnTo>
                  <a:lnTo>
                    <a:pt x="73" y="4292"/>
                  </a:lnTo>
                  <a:lnTo>
                    <a:pt x="41" y="4116"/>
                  </a:lnTo>
                  <a:lnTo>
                    <a:pt x="19" y="3938"/>
                  </a:lnTo>
                  <a:lnTo>
                    <a:pt x="5" y="3757"/>
                  </a:lnTo>
                  <a:lnTo>
                    <a:pt x="0" y="3574"/>
                  </a:lnTo>
                  <a:lnTo>
                    <a:pt x="5" y="3390"/>
                  </a:lnTo>
                  <a:lnTo>
                    <a:pt x="19" y="3209"/>
                  </a:lnTo>
                  <a:lnTo>
                    <a:pt x="41" y="3031"/>
                  </a:lnTo>
                  <a:lnTo>
                    <a:pt x="73" y="2854"/>
                  </a:lnTo>
                  <a:lnTo>
                    <a:pt x="113" y="2683"/>
                  </a:lnTo>
                  <a:lnTo>
                    <a:pt x="161" y="2513"/>
                  </a:lnTo>
                  <a:lnTo>
                    <a:pt x="217" y="2347"/>
                  </a:lnTo>
                  <a:lnTo>
                    <a:pt x="281" y="2185"/>
                  </a:lnTo>
                  <a:lnTo>
                    <a:pt x="354" y="2027"/>
                  </a:lnTo>
                  <a:lnTo>
                    <a:pt x="432" y="1873"/>
                  </a:lnTo>
                  <a:lnTo>
                    <a:pt x="519" y="1723"/>
                  </a:lnTo>
                  <a:lnTo>
                    <a:pt x="612" y="1578"/>
                  </a:lnTo>
                  <a:lnTo>
                    <a:pt x="712" y="1438"/>
                  </a:lnTo>
                  <a:lnTo>
                    <a:pt x="818" y="1303"/>
                  </a:lnTo>
                  <a:lnTo>
                    <a:pt x="930" y="1173"/>
                  </a:lnTo>
                  <a:lnTo>
                    <a:pt x="1049" y="1049"/>
                  </a:lnTo>
                  <a:lnTo>
                    <a:pt x="1174" y="930"/>
                  </a:lnTo>
                  <a:lnTo>
                    <a:pt x="1303" y="818"/>
                  </a:lnTo>
                  <a:lnTo>
                    <a:pt x="1438" y="712"/>
                  </a:lnTo>
                  <a:lnTo>
                    <a:pt x="1579" y="612"/>
                  </a:lnTo>
                  <a:lnTo>
                    <a:pt x="1724" y="518"/>
                  </a:lnTo>
                  <a:lnTo>
                    <a:pt x="1873" y="433"/>
                  </a:lnTo>
                  <a:lnTo>
                    <a:pt x="2027" y="353"/>
                  </a:lnTo>
                  <a:lnTo>
                    <a:pt x="2186" y="282"/>
                  </a:lnTo>
                  <a:lnTo>
                    <a:pt x="2348" y="218"/>
                  </a:lnTo>
                  <a:lnTo>
                    <a:pt x="2513" y="161"/>
                  </a:lnTo>
                  <a:lnTo>
                    <a:pt x="2683" y="113"/>
                  </a:lnTo>
                  <a:lnTo>
                    <a:pt x="2856" y="73"/>
                  </a:lnTo>
                  <a:lnTo>
                    <a:pt x="3032" y="41"/>
                  </a:lnTo>
                  <a:lnTo>
                    <a:pt x="3210" y="18"/>
                  </a:lnTo>
                  <a:lnTo>
                    <a:pt x="3391" y="5"/>
                  </a:lnTo>
                  <a:lnTo>
                    <a:pt x="3574" y="0"/>
                  </a:lnTo>
                </a:path>
              </a:pathLst>
            </a:custGeom>
            <a:noFill/>
            <a:ln w="14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2897280" y="2565360"/>
              <a:ext cx="3373200" cy="3373560"/>
            </a:xfrm>
            <a:custGeom>
              <a:avLst/>
              <a:gdLst/>
              <a:ahLst/>
              <a:rect l="l" t="t" r="r" b="b"/>
              <a:pathLst>
                <a:path w="10627" h="10623">
                  <a:moveTo>
                    <a:pt x="5313" y="0"/>
                  </a:moveTo>
                  <a:lnTo>
                    <a:pt x="5587" y="7"/>
                  </a:lnTo>
                  <a:lnTo>
                    <a:pt x="5856" y="27"/>
                  </a:lnTo>
                  <a:lnTo>
                    <a:pt x="6120" y="61"/>
                  </a:lnTo>
                  <a:lnTo>
                    <a:pt x="6382" y="108"/>
                  </a:lnTo>
                  <a:lnTo>
                    <a:pt x="6639" y="168"/>
                  </a:lnTo>
                  <a:lnTo>
                    <a:pt x="6891" y="239"/>
                  </a:lnTo>
                  <a:lnTo>
                    <a:pt x="7137" y="323"/>
                  </a:lnTo>
                  <a:lnTo>
                    <a:pt x="7378" y="418"/>
                  </a:lnTo>
                  <a:lnTo>
                    <a:pt x="7614" y="525"/>
                  </a:lnTo>
                  <a:lnTo>
                    <a:pt x="7843" y="643"/>
                  </a:lnTo>
                  <a:lnTo>
                    <a:pt x="8065" y="770"/>
                  </a:lnTo>
                  <a:lnTo>
                    <a:pt x="8281" y="910"/>
                  </a:lnTo>
                  <a:lnTo>
                    <a:pt x="8490" y="1058"/>
                  </a:lnTo>
                  <a:lnTo>
                    <a:pt x="8690" y="1215"/>
                  </a:lnTo>
                  <a:lnTo>
                    <a:pt x="8883" y="1383"/>
                  </a:lnTo>
                  <a:lnTo>
                    <a:pt x="9068" y="1559"/>
                  </a:lnTo>
                  <a:lnTo>
                    <a:pt x="9244" y="1743"/>
                  </a:lnTo>
                  <a:lnTo>
                    <a:pt x="9411" y="1936"/>
                  </a:lnTo>
                  <a:lnTo>
                    <a:pt x="9569" y="2137"/>
                  </a:lnTo>
                  <a:lnTo>
                    <a:pt x="9717" y="2345"/>
                  </a:lnTo>
                  <a:lnTo>
                    <a:pt x="9855" y="2561"/>
                  </a:lnTo>
                  <a:lnTo>
                    <a:pt x="9984" y="2783"/>
                  </a:lnTo>
                  <a:lnTo>
                    <a:pt x="10102" y="3012"/>
                  </a:lnTo>
                  <a:lnTo>
                    <a:pt x="10209" y="3248"/>
                  </a:lnTo>
                  <a:lnTo>
                    <a:pt x="10304" y="3489"/>
                  </a:lnTo>
                  <a:lnTo>
                    <a:pt x="10387" y="3735"/>
                  </a:lnTo>
                  <a:lnTo>
                    <a:pt x="10459" y="3987"/>
                  </a:lnTo>
                  <a:lnTo>
                    <a:pt x="10519" y="4244"/>
                  </a:lnTo>
                  <a:lnTo>
                    <a:pt x="10565" y="4505"/>
                  </a:lnTo>
                  <a:lnTo>
                    <a:pt x="10600" y="4770"/>
                  </a:lnTo>
                  <a:lnTo>
                    <a:pt x="10620" y="5039"/>
                  </a:lnTo>
                  <a:lnTo>
                    <a:pt x="10627" y="5312"/>
                  </a:lnTo>
                  <a:lnTo>
                    <a:pt x="10620" y="5584"/>
                  </a:lnTo>
                  <a:lnTo>
                    <a:pt x="10600" y="5853"/>
                  </a:lnTo>
                  <a:lnTo>
                    <a:pt x="10565" y="6119"/>
                  </a:lnTo>
                  <a:lnTo>
                    <a:pt x="10519" y="6380"/>
                  </a:lnTo>
                  <a:lnTo>
                    <a:pt x="10459" y="6636"/>
                  </a:lnTo>
                  <a:lnTo>
                    <a:pt x="10387" y="6889"/>
                  </a:lnTo>
                  <a:lnTo>
                    <a:pt x="10304" y="7135"/>
                  </a:lnTo>
                  <a:lnTo>
                    <a:pt x="10209" y="7376"/>
                  </a:lnTo>
                  <a:lnTo>
                    <a:pt x="10102" y="7611"/>
                  </a:lnTo>
                  <a:lnTo>
                    <a:pt x="9984" y="7840"/>
                  </a:lnTo>
                  <a:lnTo>
                    <a:pt x="9855" y="8063"/>
                  </a:lnTo>
                  <a:lnTo>
                    <a:pt x="9717" y="8277"/>
                  </a:lnTo>
                  <a:lnTo>
                    <a:pt x="9569" y="8486"/>
                  </a:lnTo>
                  <a:lnTo>
                    <a:pt x="9411" y="8687"/>
                  </a:lnTo>
                  <a:lnTo>
                    <a:pt x="9244" y="8880"/>
                  </a:lnTo>
                  <a:lnTo>
                    <a:pt x="9068" y="9065"/>
                  </a:lnTo>
                  <a:lnTo>
                    <a:pt x="8883" y="9241"/>
                  </a:lnTo>
                  <a:lnTo>
                    <a:pt x="8690" y="9407"/>
                  </a:lnTo>
                  <a:lnTo>
                    <a:pt x="8490" y="9566"/>
                  </a:lnTo>
                  <a:lnTo>
                    <a:pt x="8281" y="9714"/>
                  </a:lnTo>
                  <a:lnTo>
                    <a:pt x="8065" y="9852"/>
                  </a:lnTo>
                  <a:lnTo>
                    <a:pt x="7843" y="9981"/>
                  </a:lnTo>
                  <a:lnTo>
                    <a:pt x="7614" y="10098"/>
                  </a:lnTo>
                  <a:lnTo>
                    <a:pt x="7378" y="10204"/>
                  </a:lnTo>
                  <a:lnTo>
                    <a:pt x="7137" y="10300"/>
                  </a:lnTo>
                  <a:lnTo>
                    <a:pt x="6891" y="10383"/>
                  </a:lnTo>
                  <a:lnTo>
                    <a:pt x="6639" y="10456"/>
                  </a:lnTo>
                  <a:lnTo>
                    <a:pt x="6382" y="10515"/>
                  </a:lnTo>
                  <a:lnTo>
                    <a:pt x="6120" y="10562"/>
                  </a:lnTo>
                  <a:lnTo>
                    <a:pt x="5856" y="10595"/>
                  </a:lnTo>
                  <a:lnTo>
                    <a:pt x="5587" y="10616"/>
                  </a:lnTo>
                  <a:lnTo>
                    <a:pt x="5313" y="10623"/>
                  </a:lnTo>
                  <a:lnTo>
                    <a:pt x="5041" y="10616"/>
                  </a:lnTo>
                  <a:lnTo>
                    <a:pt x="4772" y="10595"/>
                  </a:lnTo>
                  <a:lnTo>
                    <a:pt x="4506" y="10562"/>
                  </a:lnTo>
                  <a:lnTo>
                    <a:pt x="4245" y="10515"/>
                  </a:lnTo>
                  <a:lnTo>
                    <a:pt x="3989" y="10456"/>
                  </a:lnTo>
                  <a:lnTo>
                    <a:pt x="3737" y="10383"/>
                  </a:lnTo>
                  <a:lnTo>
                    <a:pt x="3490" y="10300"/>
                  </a:lnTo>
                  <a:lnTo>
                    <a:pt x="3249" y="10204"/>
                  </a:lnTo>
                  <a:lnTo>
                    <a:pt x="3013" y="10098"/>
                  </a:lnTo>
                  <a:lnTo>
                    <a:pt x="2784" y="9981"/>
                  </a:lnTo>
                  <a:lnTo>
                    <a:pt x="2561" y="9852"/>
                  </a:lnTo>
                  <a:lnTo>
                    <a:pt x="2346" y="9714"/>
                  </a:lnTo>
                  <a:lnTo>
                    <a:pt x="2138" y="9566"/>
                  </a:lnTo>
                  <a:lnTo>
                    <a:pt x="1937" y="9407"/>
                  </a:lnTo>
                  <a:lnTo>
                    <a:pt x="1744" y="9241"/>
                  </a:lnTo>
                  <a:lnTo>
                    <a:pt x="1559" y="9065"/>
                  </a:lnTo>
                  <a:lnTo>
                    <a:pt x="1383" y="8880"/>
                  </a:lnTo>
                  <a:lnTo>
                    <a:pt x="1216" y="8687"/>
                  </a:lnTo>
                  <a:lnTo>
                    <a:pt x="1057" y="8486"/>
                  </a:lnTo>
                  <a:lnTo>
                    <a:pt x="909" y="8277"/>
                  </a:lnTo>
                  <a:lnTo>
                    <a:pt x="771" y="8063"/>
                  </a:lnTo>
                  <a:lnTo>
                    <a:pt x="643" y="7840"/>
                  </a:lnTo>
                  <a:lnTo>
                    <a:pt x="525" y="7611"/>
                  </a:lnTo>
                  <a:lnTo>
                    <a:pt x="419" y="7376"/>
                  </a:lnTo>
                  <a:lnTo>
                    <a:pt x="324" y="7135"/>
                  </a:lnTo>
                  <a:lnTo>
                    <a:pt x="240" y="6889"/>
                  </a:lnTo>
                  <a:lnTo>
                    <a:pt x="168" y="6636"/>
                  </a:lnTo>
                  <a:lnTo>
                    <a:pt x="108" y="6380"/>
                  </a:lnTo>
                  <a:lnTo>
                    <a:pt x="61" y="6119"/>
                  </a:lnTo>
                  <a:lnTo>
                    <a:pt x="28" y="5853"/>
                  </a:lnTo>
                  <a:lnTo>
                    <a:pt x="7" y="5584"/>
                  </a:lnTo>
                  <a:lnTo>
                    <a:pt x="0" y="5312"/>
                  </a:lnTo>
                  <a:lnTo>
                    <a:pt x="7" y="5039"/>
                  </a:lnTo>
                  <a:lnTo>
                    <a:pt x="28" y="4770"/>
                  </a:lnTo>
                  <a:lnTo>
                    <a:pt x="61" y="4505"/>
                  </a:lnTo>
                  <a:lnTo>
                    <a:pt x="108" y="4244"/>
                  </a:lnTo>
                  <a:lnTo>
                    <a:pt x="168" y="3987"/>
                  </a:lnTo>
                  <a:lnTo>
                    <a:pt x="240" y="3735"/>
                  </a:lnTo>
                  <a:lnTo>
                    <a:pt x="324" y="3489"/>
                  </a:lnTo>
                  <a:lnTo>
                    <a:pt x="419" y="3248"/>
                  </a:lnTo>
                  <a:lnTo>
                    <a:pt x="525" y="3012"/>
                  </a:lnTo>
                  <a:lnTo>
                    <a:pt x="643" y="2783"/>
                  </a:lnTo>
                  <a:lnTo>
                    <a:pt x="771" y="2561"/>
                  </a:lnTo>
                  <a:lnTo>
                    <a:pt x="909" y="2345"/>
                  </a:lnTo>
                  <a:lnTo>
                    <a:pt x="1057" y="2137"/>
                  </a:lnTo>
                  <a:lnTo>
                    <a:pt x="1216" y="1936"/>
                  </a:lnTo>
                  <a:lnTo>
                    <a:pt x="1383" y="1743"/>
                  </a:lnTo>
                  <a:lnTo>
                    <a:pt x="1559" y="1559"/>
                  </a:lnTo>
                  <a:lnTo>
                    <a:pt x="1744" y="1383"/>
                  </a:lnTo>
                  <a:lnTo>
                    <a:pt x="1937" y="1215"/>
                  </a:lnTo>
                  <a:lnTo>
                    <a:pt x="2138" y="1058"/>
                  </a:lnTo>
                  <a:lnTo>
                    <a:pt x="2346" y="910"/>
                  </a:lnTo>
                  <a:lnTo>
                    <a:pt x="2561" y="770"/>
                  </a:lnTo>
                  <a:lnTo>
                    <a:pt x="2784" y="643"/>
                  </a:lnTo>
                  <a:lnTo>
                    <a:pt x="3013" y="525"/>
                  </a:lnTo>
                  <a:lnTo>
                    <a:pt x="3249" y="418"/>
                  </a:lnTo>
                  <a:lnTo>
                    <a:pt x="3490" y="323"/>
                  </a:lnTo>
                  <a:lnTo>
                    <a:pt x="3737" y="239"/>
                  </a:lnTo>
                  <a:lnTo>
                    <a:pt x="3989" y="168"/>
                  </a:lnTo>
                  <a:lnTo>
                    <a:pt x="4245" y="108"/>
                  </a:lnTo>
                  <a:lnTo>
                    <a:pt x="4506" y="61"/>
                  </a:lnTo>
                  <a:lnTo>
                    <a:pt x="4772" y="27"/>
                  </a:lnTo>
                  <a:lnTo>
                    <a:pt x="5041" y="7"/>
                  </a:lnTo>
                  <a:lnTo>
                    <a:pt x="5313" y="0"/>
                  </a:lnTo>
                </a:path>
              </a:pathLst>
            </a:custGeom>
            <a:noFill/>
            <a:ln w="14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3449520" y="3117960"/>
              <a:ext cx="2268720" cy="2268360"/>
            </a:xfrm>
            <a:custGeom>
              <a:avLst/>
              <a:gdLst/>
              <a:ahLst/>
              <a:rect l="l" t="t" r="r" b="b"/>
              <a:pathLst>
                <a:path w="7149" h="7146">
                  <a:moveTo>
                    <a:pt x="3574" y="0"/>
                  </a:moveTo>
                  <a:lnTo>
                    <a:pt x="3758" y="5"/>
                  </a:lnTo>
                  <a:lnTo>
                    <a:pt x="3939" y="18"/>
                  </a:lnTo>
                  <a:lnTo>
                    <a:pt x="4118" y="41"/>
                  </a:lnTo>
                  <a:lnTo>
                    <a:pt x="4294" y="73"/>
                  </a:lnTo>
                  <a:lnTo>
                    <a:pt x="4466" y="113"/>
                  </a:lnTo>
                  <a:lnTo>
                    <a:pt x="4635" y="161"/>
                  </a:lnTo>
                  <a:lnTo>
                    <a:pt x="4802" y="218"/>
                  </a:lnTo>
                  <a:lnTo>
                    <a:pt x="4964" y="282"/>
                  </a:lnTo>
                  <a:lnTo>
                    <a:pt x="5121" y="353"/>
                  </a:lnTo>
                  <a:lnTo>
                    <a:pt x="5276" y="433"/>
                  </a:lnTo>
                  <a:lnTo>
                    <a:pt x="5426" y="518"/>
                  </a:lnTo>
                  <a:lnTo>
                    <a:pt x="5571" y="612"/>
                  </a:lnTo>
                  <a:lnTo>
                    <a:pt x="5711" y="712"/>
                  </a:lnTo>
                  <a:lnTo>
                    <a:pt x="5846" y="818"/>
                  </a:lnTo>
                  <a:lnTo>
                    <a:pt x="5976" y="930"/>
                  </a:lnTo>
                  <a:lnTo>
                    <a:pt x="6100" y="1049"/>
                  </a:lnTo>
                  <a:lnTo>
                    <a:pt x="6218" y="1173"/>
                  </a:lnTo>
                  <a:lnTo>
                    <a:pt x="6332" y="1303"/>
                  </a:lnTo>
                  <a:lnTo>
                    <a:pt x="6437" y="1438"/>
                  </a:lnTo>
                  <a:lnTo>
                    <a:pt x="6537" y="1578"/>
                  </a:lnTo>
                  <a:lnTo>
                    <a:pt x="6631" y="1723"/>
                  </a:lnTo>
                  <a:lnTo>
                    <a:pt x="6716" y="1873"/>
                  </a:lnTo>
                  <a:lnTo>
                    <a:pt x="6796" y="2027"/>
                  </a:lnTo>
                  <a:lnTo>
                    <a:pt x="6867" y="2185"/>
                  </a:lnTo>
                  <a:lnTo>
                    <a:pt x="6931" y="2347"/>
                  </a:lnTo>
                  <a:lnTo>
                    <a:pt x="6988" y="2513"/>
                  </a:lnTo>
                  <a:lnTo>
                    <a:pt x="7036" y="2683"/>
                  </a:lnTo>
                  <a:lnTo>
                    <a:pt x="7076" y="2854"/>
                  </a:lnTo>
                  <a:lnTo>
                    <a:pt x="7107" y="3031"/>
                  </a:lnTo>
                  <a:lnTo>
                    <a:pt x="7131" y="3209"/>
                  </a:lnTo>
                  <a:lnTo>
                    <a:pt x="7144" y="3390"/>
                  </a:lnTo>
                  <a:lnTo>
                    <a:pt x="7149" y="3574"/>
                  </a:lnTo>
                  <a:lnTo>
                    <a:pt x="7144" y="3757"/>
                  </a:lnTo>
                  <a:lnTo>
                    <a:pt x="7131" y="3938"/>
                  </a:lnTo>
                  <a:lnTo>
                    <a:pt x="7107" y="4116"/>
                  </a:lnTo>
                  <a:lnTo>
                    <a:pt x="7076" y="4292"/>
                  </a:lnTo>
                  <a:lnTo>
                    <a:pt x="7036" y="4465"/>
                  </a:lnTo>
                  <a:lnTo>
                    <a:pt x="6988" y="4634"/>
                  </a:lnTo>
                  <a:lnTo>
                    <a:pt x="6931" y="4800"/>
                  </a:lnTo>
                  <a:lnTo>
                    <a:pt x="6867" y="4963"/>
                  </a:lnTo>
                  <a:lnTo>
                    <a:pt x="6796" y="5120"/>
                  </a:lnTo>
                  <a:lnTo>
                    <a:pt x="6716" y="5275"/>
                  </a:lnTo>
                  <a:lnTo>
                    <a:pt x="6631" y="5424"/>
                  </a:lnTo>
                  <a:lnTo>
                    <a:pt x="6537" y="5569"/>
                  </a:lnTo>
                  <a:lnTo>
                    <a:pt x="6437" y="5709"/>
                  </a:lnTo>
                  <a:lnTo>
                    <a:pt x="6332" y="5844"/>
                  </a:lnTo>
                  <a:lnTo>
                    <a:pt x="6218" y="5974"/>
                  </a:lnTo>
                  <a:lnTo>
                    <a:pt x="6100" y="6098"/>
                  </a:lnTo>
                  <a:lnTo>
                    <a:pt x="5976" y="6217"/>
                  </a:lnTo>
                  <a:lnTo>
                    <a:pt x="5846" y="6329"/>
                  </a:lnTo>
                  <a:lnTo>
                    <a:pt x="5711" y="6436"/>
                  </a:lnTo>
                  <a:lnTo>
                    <a:pt x="5571" y="6535"/>
                  </a:lnTo>
                  <a:lnTo>
                    <a:pt x="5426" y="6628"/>
                  </a:lnTo>
                  <a:lnTo>
                    <a:pt x="5276" y="6714"/>
                  </a:lnTo>
                  <a:lnTo>
                    <a:pt x="5121" y="6793"/>
                  </a:lnTo>
                  <a:lnTo>
                    <a:pt x="4964" y="6866"/>
                  </a:lnTo>
                  <a:lnTo>
                    <a:pt x="4802" y="6929"/>
                  </a:lnTo>
                  <a:lnTo>
                    <a:pt x="4635" y="6985"/>
                  </a:lnTo>
                  <a:lnTo>
                    <a:pt x="4466" y="7034"/>
                  </a:lnTo>
                  <a:lnTo>
                    <a:pt x="4294" y="7074"/>
                  </a:lnTo>
                  <a:lnTo>
                    <a:pt x="4118" y="7105"/>
                  </a:lnTo>
                  <a:lnTo>
                    <a:pt x="3939" y="7128"/>
                  </a:lnTo>
                  <a:lnTo>
                    <a:pt x="3758" y="7142"/>
                  </a:lnTo>
                  <a:lnTo>
                    <a:pt x="3574" y="7146"/>
                  </a:lnTo>
                  <a:lnTo>
                    <a:pt x="3391" y="7142"/>
                  </a:lnTo>
                  <a:lnTo>
                    <a:pt x="3210" y="7128"/>
                  </a:lnTo>
                  <a:lnTo>
                    <a:pt x="3032" y="7105"/>
                  </a:lnTo>
                  <a:lnTo>
                    <a:pt x="2856" y="7074"/>
                  </a:lnTo>
                  <a:lnTo>
                    <a:pt x="2683" y="7034"/>
                  </a:lnTo>
                  <a:lnTo>
                    <a:pt x="2513" y="6985"/>
                  </a:lnTo>
                  <a:lnTo>
                    <a:pt x="2348" y="6929"/>
                  </a:lnTo>
                  <a:lnTo>
                    <a:pt x="2186" y="6866"/>
                  </a:lnTo>
                  <a:lnTo>
                    <a:pt x="2027" y="6793"/>
                  </a:lnTo>
                  <a:lnTo>
                    <a:pt x="1873" y="6714"/>
                  </a:lnTo>
                  <a:lnTo>
                    <a:pt x="1724" y="6628"/>
                  </a:lnTo>
                  <a:lnTo>
                    <a:pt x="1579" y="6535"/>
                  </a:lnTo>
                  <a:lnTo>
                    <a:pt x="1438" y="6436"/>
                  </a:lnTo>
                  <a:lnTo>
                    <a:pt x="1303" y="6329"/>
                  </a:lnTo>
                  <a:lnTo>
                    <a:pt x="1174" y="6217"/>
                  </a:lnTo>
                  <a:lnTo>
                    <a:pt x="1049" y="6098"/>
                  </a:lnTo>
                  <a:lnTo>
                    <a:pt x="930" y="5974"/>
                  </a:lnTo>
                  <a:lnTo>
                    <a:pt x="818" y="5844"/>
                  </a:lnTo>
                  <a:lnTo>
                    <a:pt x="712" y="5709"/>
                  </a:lnTo>
                  <a:lnTo>
                    <a:pt x="612" y="5569"/>
                  </a:lnTo>
                  <a:lnTo>
                    <a:pt x="519" y="5424"/>
                  </a:lnTo>
                  <a:lnTo>
                    <a:pt x="432" y="5275"/>
                  </a:lnTo>
                  <a:lnTo>
                    <a:pt x="354" y="5120"/>
                  </a:lnTo>
                  <a:lnTo>
                    <a:pt x="281" y="4963"/>
                  </a:lnTo>
                  <a:lnTo>
                    <a:pt x="217" y="4800"/>
                  </a:lnTo>
                  <a:lnTo>
                    <a:pt x="161" y="4634"/>
                  </a:lnTo>
                  <a:lnTo>
                    <a:pt x="113" y="4465"/>
                  </a:lnTo>
                  <a:lnTo>
                    <a:pt x="73" y="4292"/>
                  </a:lnTo>
                  <a:lnTo>
                    <a:pt x="41" y="4116"/>
                  </a:lnTo>
                  <a:lnTo>
                    <a:pt x="19" y="3938"/>
                  </a:lnTo>
                  <a:lnTo>
                    <a:pt x="5" y="3757"/>
                  </a:lnTo>
                  <a:lnTo>
                    <a:pt x="0" y="3574"/>
                  </a:lnTo>
                  <a:lnTo>
                    <a:pt x="5" y="3390"/>
                  </a:lnTo>
                  <a:lnTo>
                    <a:pt x="19" y="3209"/>
                  </a:lnTo>
                  <a:lnTo>
                    <a:pt x="41" y="3031"/>
                  </a:lnTo>
                  <a:lnTo>
                    <a:pt x="73" y="2854"/>
                  </a:lnTo>
                  <a:lnTo>
                    <a:pt x="113" y="2683"/>
                  </a:lnTo>
                  <a:lnTo>
                    <a:pt x="161" y="2513"/>
                  </a:lnTo>
                  <a:lnTo>
                    <a:pt x="217" y="2347"/>
                  </a:lnTo>
                  <a:lnTo>
                    <a:pt x="281" y="2185"/>
                  </a:lnTo>
                  <a:lnTo>
                    <a:pt x="354" y="2027"/>
                  </a:lnTo>
                  <a:lnTo>
                    <a:pt x="432" y="1873"/>
                  </a:lnTo>
                  <a:lnTo>
                    <a:pt x="519" y="1723"/>
                  </a:lnTo>
                  <a:lnTo>
                    <a:pt x="612" y="1578"/>
                  </a:lnTo>
                  <a:lnTo>
                    <a:pt x="712" y="1438"/>
                  </a:lnTo>
                  <a:lnTo>
                    <a:pt x="818" y="1303"/>
                  </a:lnTo>
                  <a:lnTo>
                    <a:pt x="930" y="1173"/>
                  </a:lnTo>
                  <a:lnTo>
                    <a:pt x="1049" y="1049"/>
                  </a:lnTo>
                  <a:lnTo>
                    <a:pt x="1174" y="930"/>
                  </a:lnTo>
                  <a:lnTo>
                    <a:pt x="1303" y="818"/>
                  </a:lnTo>
                  <a:lnTo>
                    <a:pt x="1438" y="712"/>
                  </a:lnTo>
                  <a:lnTo>
                    <a:pt x="1579" y="612"/>
                  </a:lnTo>
                  <a:lnTo>
                    <a:pt x="1724" y="518"/>
                  </a:lnTo>
                  <a:lnTo>
                    <a:pt x="1873" y="433"/>
                  </a:lnTo>
                  <a:lnTo>
                    <a:pt x="2027" y="353"/>
                  </a:lnTo>
                  <a:lnTo>
                    <a:pt x="2186" y="282"/>
                  </a:lnTo>
                  <a:lnTo>
                    <a:pt x="2348" y="218"/>
                  </a:lnTo>
                  <a:lnTo>
                    <a:pt x="2513" y="161"/>
                  </a:lnTo>
                  <a:lnTo>
                    <a:pt x="2683" y="113"/>
                  </a:lnTo>
                  <a:lnTo>
                    <a:pt x="2856" y="73"/>
                  </a:lnTo>
                  <a:lnTo>
                    <a:pt x="3032" y="41"/>
                  </a:lnTo>
                  <a:lnTo>
                    <a:pt x="3210" y="18"/>
                  </a:lnTo>
                  <a:lnTo>
                    <a:pt x="3391" y="5"/>
                  </a:lnTo>
                  <a:lnTo>
                    <a:pt x="3574" y="0"/>
                  </a:lnTo>
                </a:path>
              </a:pathLst>
            </a:custGeom>
            <a:noFill/>
            <a:ln w="14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2897280" y="2098800"/>
              <a:ext cx="3373200" cy="3840120"/>
            </a:xfrm>
            <a:custGeom>
              <a:avLst/>
              <a:gdLst/>
              <a:ahLst/>
              <a:rect l="l" t="t" r="r" b="b"/>
              <a:pathLst>
                <a:path w="10625" h="12092">
                  <a:moveTo>
                    <a:pt x="10542" y="7720"/>
                  </a:moveTo>
                  <a:lnTo>
                    <a:pt x="10487" y="7987"/>
                  </a:lnTo>
                  <a:lnTo>
                    <a:pt x="10418" y="8248"/>
                  </a:lnTo>
                  <a:lnTo>
                    <a:pt x="10339" y="8503"/>
                  </a:lnTo>
                  <a:lnTo>
                    <a:pt x="10246" y="8752"/>
                  </a:lnTo>
                  <a:lnTo>
                    <a:pt x="10142" y="8995"/>
                  </a:lnTo>
                  <a:lnTo>
                    <a:pt x="10027" y="9229"/>
                  </a:lnTo>
                  <a:lnTo>
                    <a:pt x="9901" y="9457"/>
                  </a:lnTo>
                  <a:lnTo>
                    <a:pt x="9765" y="9677"/>
                  </a:lnTo>
                  <a:lnTo>
                    <a:pt x="9618" y="9890"/>
                  </a:lnTo>
                  <a:lnTo>
                    <a:pt x="9462" y="10095"/>
                  </a:lnTo>
                  <a:lnTo>
                    <a:pt x="9296" y="10291"/>
                  </a:lnTo>
                  <a:lnTo>
                    <a:pt x="9122" y="10479"/>
                  </a:lnTo>
                  <a:lnTo>
                    <a:pt x="8939" y="10658"/>
                  </a:lnTo>
                  <a:lnTo>
                    <a:pt x="8748" y="10827"/>
                  </a:lnTo>
                  <a:lnTo>
                    <a:pt x="8549" y="10987"/>
                  </a:lnTo>
                  <a:lnTo>
                    <a:pt x="8343" y="11138"/>
                  </a:lnTo>
                  <a:lnTo>
                    <a:pt x="8130" y="11279"/>
                  </a:lnTo>
                  <a:lnTo>
                    <a:pt x="7911" y="11410"/>
                  </a:lnTo>
                  <a:lnTo>
                    <a:pt x="7685" y="11529"/>
                  </a:lnTo>
                  <a:lnTo>
                    <a:pt x="7454" y="11639"/>
                  </a:lnTo>
                  <a:lnTo>
                    <a:pt x="7217" y="11737"/>
                  </a:lnTo>
                  <a:lnTo>
                    <a:pt x="6976" y="11823"/>
                  </a:lnTo>
                  <a:lnTo>
                    <a:pt x="6730" y="11899"/>
                  </a:lnTo>
                  <a:lnTo>
                    <a:pt x="6479" y="11963"/>
                  </a:lnTo>
                  <a:lnTo>
                    <a:pt x="6225" y="12013"/>
                  </a:lnTo>
                  <a:lnTo>
                    <a:pt x="5967" y="12052"/>
                  </a:lnTo>
                  <a:lnTo>
                    <a:pt x="5707" y="12078"/>
                  </a:lnTo>
                  <a:lnTo>
                    <a:pt x="5444" y="12092"/>
                  </a:lnTo>
                  <a:lnTo>
                    <a:pt x="5178" y="12092"/>
                  </a:lnTo>
                  <a:lnTo>
                    <a:pt x="4912" y="12078"/>
                  </a:lnTo>
                  <a:lnTo>
                    <a:pt x="4642" y="12051"/>
                  </a:lnTo>
                  <a:lnTo>
                    <a:pt x="4372" y="12010"/>
                  </a:lnTo>
                  <a:lnTo>
                    <a:pt x="4106" y="11955"/>
                  </a:lnTo>
                  <a:lnTo>
                    <a:pt x="3844" y="11887"/>
                  </a:lnTo>
                  <a:lnTo>
                    <a:pt x="3589" y="11807"/>
                  </a:lnTo>
                  <a:lnTo>
                    <a:pt x="3341" y="11714"/>
                  </a:lnTo>
                  <a:lnTo>
                    <a:pt x="3099" y="11610"/>
                  </a:lnTo>
                  <a:lnTo>
                    <a:pt x="2863" y="11495"/>
                  </a:lnTo>
                  <a:lnTo>
                    <a:pt x="2635" y="11370"/>
                  </a:lnTo>
                  <a:lnTo>
                    <a:pt x="2415" y="11232"/>
                  </a:lnTo>
                  <a:lnTo>
                    <a:pt x="2202" y="11087"/>
                  </a:lnTo>
                  <a:lnTo>
                    <a:pt x="1997" y="10930"/>
                  </a:lnTo>
                  <a:lnTo>
                    <a:pt x="1801" y="10765"/>
                  </a:lnTo>
                  <a:lnTo>
                    <a:pt x="1613" y="10591"/>
                  </a:lnTo>
                  <a:lnTo>
                    <a:pt x="1434" y="10407"/>
                  </a:lnTo>
                  <a:lnTo>
                    <a:pt x="1264" y="10217"/>
                  </a:lnTo>
                  <a:lnTo>
                    <a:pt x="1104" y="10019"/>
                  </a:lnTo>
                  <a:lnTo>
                    <a:pt x="953" y="9812"/>
                  </a:lnTo>
                  <a:lnTo>
                    <a:pt x="812" y="9599"/>
                  </a:lnTo>
                  <a:lnTo>
                    <a:pt x="682" y="9380"/>
                  </a:lnTo>
                  <a:lnTo>
                    <a:pt x="562" y="9155"/>
                  </a:lnTo>
                  <a:lnTo>
                    <a:pt x="453" y="8923"/>
                  </a:lnTo>
                  <a:lnTo>
                    <a:pt x="354" y="8687"/>
                  </a:lnTo>
                  <a:lnTo>
                    <a:pt x="268" y="8445"/>
                  </a:lnTo>
                  <a:lnTo>
                    <a:pt x="192" y="8199"/>
                  </a:lnTo>
                  <a:lnTo>
                    <a:pt x="128" y="7949"/>
                  </a:lnTo>
                  <a:lnTo>
                    <a:pt x="78" y="7694"/>
                  </a:lnTo>
                  <a:lnTo>
                    <a:pt x="39" y="7437"/>
                  </a:lnTo>
                  <a:lnTo>
                    <a:pt x="13" y="7177"/>
                  </a:lnTo>
                  <a:lnTo>
                    <a:pt x="0" y="6914"/>
                  </a:lnTo>
                  <a:lnTo>
                    <a:pt x="0" y="6649"/>
                  </a:lnTo>
                  <a:lnTo>
                    <a:pt x="13" y="6381"/>
                  </a:lnTo>
                  <a:lnTo>
                    <a:pt x="40" y="6113"/>
                  </a:lnTo>
                  <a:lnTo>
                    <a:pt x="82" y="5843"/>
                  </a:lnTo>
                  <a:lnTo>
                    <a:pt x="123" y="5636"/>
                  </a:lnTo>
                  <a:lnTo>
                    <a:pt x="172" y="5432"/>
                  </a:lnTo>
                  <a:lnTo>
                    <a:pt x="229" y="5232"/>
                  </a:lnTo>
                  <a:lnTo>
                    <a:pt x="293" y="5035"/>
                  </a:lnTo>
                  <a:lnTo>
                    <a:pt x="364" y="4843"/>
                  </a:lnTo>
                  <a:lnTo>
                    <a:pt x="443" y="4654"/>
                  </a:lnTo>
                  <a:lnTo>
                    <a:pt x="527" y="4469"/>
                  </a:lnTo>
                  <a:lnTo>
                    <a:pt x="619" y="4290"/>
                  </a:lnTo>
                  <a:lnTo>
                    <a:pt x="717" y="4114"/>
                  </a:lnTo>
                  <a:lnTo>
                    <a:pt x="822" y="3942"/>
                  </a:lnTo>
                  <a:lnTo>
                    <a:pt x="932" y="3775"/>
                  </a:lnTo>
                  <a:lnTo>
                    <a:pt x="1049" y="3613"/>
                  </a:lnTo>
                  <a:lnTo>
                    <a:pt x="1171" y="3456"/>
                  </a:lnTo>
                  <a:lnTo>
                    <a:pt x="1299" y="3304"/>
                  </a:lnTo>
                  <a:lnTo>
                    <a:pt x="1431" y="3157"/>
                  </a:lnTo>
                  <a:lnTo>
                    <a:pt x="1570" y="3015"/>
                  </a:lnTo>
                  <a:lnTo>
                    <a:pt x="1713" y="2879"/>
                  </a:lnTo>
                  <a:lnTo>
                    <a:pt x="1861" y="2748"/>
                  </a:lnTo>
                  <a:lnTo>
                    <a:pt x="2014" y="2622"/>
                  </a:lnTo>
                  <a:lnTo>
                    <a:pt x="2172" y="2503"/>
                  </a:lnTo>
                  <a:lnTo>
                    <a:pt x="2333" y="2388"/>
                  </a:lnTo>
                  <a:lnTo>
                    <a:pt x="2498" y="2281"/>
                  </a:lnTo>
                  <a:lnTo>
                    <a:pt x="2667" y="2179"/>
                  </a:lnTo>
                  <a:lnTo>
                    <a:pt x="2840" y="2084"/>
                  </a:lnTo>
                  <a:lnTo>
                    <a:pt x="3018" y="1995"/>
                  </a:lnTo>
                  <a:lnTo>
                    <a:pt x="3197" y="1912"/>
                  </a:lnTo>
                  <a:lnTo>
                    <a:pt x="3381" y="1836"/>
                  </a:lnTo>
                  <a:lnTo>
                    <a:pt x="3566" y="1767"/>
                  </a:lnTo>
                  <a:lnTo>
                    <a:pt x="3755" y="1705"/>
                  </a:lnTo>
                  <a:lnTo>
                    <a:pt x="3948" y="1650"/>
                  </a:lnTo>
                  <a:lnTo>
                    <a:pt x="4141" y="1602"/>
                  </a:lnTo>
                  <a:lnTo>
                    <a:pt x="4338" y="1561"/>
                  </a:lnTo>
                  <a:lnTo>
                    <a:pt x="9490" y="0"/>
                  </a:lnTo>
                  <a:lnTo>
                    <a:pt x="9985" y="1633"/>
                  </a:lnTo>
                  <a:lnTo>
                    <a:pt x="8038" y="2223"/>
                  </a:lnTo>
                  <a:lnTo>
                    <a:pt x="8208" y="2330"/>
                  </a:lnTo>
                  <a:lnTo>
                    <a:pt x="8373" y="2442"/>
                  </a:lnTo>
                  <a:lnTo>
                    <a:pt x="8534" y="2561"/>
                  </a:lnTo>
                  <a:lnTo>
                    <a:pt x="8690" y="2685"/>
                  </a:lnTo>
                  <a:lnTo>
                    <a:pt x="8840" y="2815"/>
                  </a:lnTo>
                  <a:lnTo>
                    <a:pt x="8986" y="2950"/>
                  </a:lnTo>
                  <a:lnTo>
                    <a:pt x="9126" y="3089"/>
                  </a:lnTo>
                  <a:lnTo>
                    <a:pt x="9261" y="3234"/>
                  </a:lnTo>
                  <a:lnTo>
                    <a:pt x="9390" y="3384"/>
                  </a:lnTo>
                  <a:lnTo>
                    <a:pt x="9514" y="3539"/>
                  </a:lnTo>
                  <a:lnTo>
                    <a:pt x="9632" y="3697"/>
                  </a:lnTo>
                  <a:lnTo>
                    <a:pt x="9743" y="3859"/>
                  </a:lnTo>
                  <a:lnTo>
                    <a:pt x="9849" y="4027"/>
                  </a:lnTo>
                  <a:lnTo>
                    <a:pt x="9948" y="4197"/>
                  </a:lnTo>
                  <a:lnTo>
                    <a:pt x="10042" y="4371"/>
                  </a:lnTo>
                  <a:lnTo>
                    <a:pt x="10129" y="4549"/>
                  </a:lnTo>
                  <a:lnTo>
                    <a:pt x="10210" y="4731"/>
                  </a:lnTo>
                  <a:lnTo>
                    <a:pt x="10283" y="4914"/>
                  </a:lnTo>
                  <a:lnTo>
                    <a:pt x="10350" y="5102"/>
                  </a:lnTo>
                  <a:lnTo>
                    <a:pt x="10410" y="5292"/>
                  </a:lnTo>
                  <a:lnTo>
                    <a:pt x="10463" y="5485"/>
                  </a:lnTo>
                  <a:lnTo>
                    <a:pt x="10508" y="5679"/>
                  </a:lnTo>
                  <a:lnTo>
                    <a:pt x="10547" y="5877"/>
                  </a:lnTo>
                  <a:lnTo>
                    <a:pt x="10577" y="6075"/>
                  </a:lnTo>
                  <a:lnTo>
                    <a:pt x="10601" y="6276"/>
                  </a:lnTo>
                  <a:lnTo>
                    <a:pt x="10616" y="6479"/>
                  </a:lnTo>
                  <a:lnTo>
                    <a:pt x="10625" y="6683"/>
                  </a:lnTo>
                  <a:lnTo>
                    <a:pt x="10624" y="6889"/>
                  </a:lnTo>
                  <a:lnTo>
                    <a:pt x="10616" y="7095"/>
                  </a:lnTo>
                  <a:lnTo>
                    <a:pt x="10600" y="7303"/>
                  </a:lnTo>
                  <a:lnTo>
                    <a:pt x="10575" y="7511"/>
                  </a:lnTo>
                  <a:lnTo>
                    <a:pt x="10542" y="7720"/>
                  </a:lnTo>
                  <a:close/>
                  <a:moveTo>
                    <a:pt x="4302" y="3355"/>
                  </a:moveTo>
                  <a:lnTo>
                    <a:pt x="4256" y="3369"/>
                  </a:lnTo>
                  <a:lnTo>
                    <a:pt x="4141" y="3407"/>
                  </a:lnTo>
                  <a:lnTo>
                    <a:pt x="4028" y="3449"/>
                  </a:lnTo>
                  <a:lnTo>
                    <a:pt x="3915" y="3494"/>
                  </a:lnTo>
                  <a:lnTo>
                    <a:pt x="3806" y="3544"/>
                  </a:lnTo>
                  <a:lnTo>
                    <a:pt x="3697" y="3596"/>
                  </a:lnTo>
                  <a:lnTo>
                    <a:pt x="3591" y="3652"/>
                  </a:lnTo>
                  <a:lnTo>
                    <a:pt x="3488" y="3712"/>
                  </a:lnTo>
                  <a:lnTo>
                    <a:pt x="3385" y="3775"/>
                  </a:lnTo>
                  <a:lnTo>
                    <a:pt x="3284" y="3842"/>
                  </a:lnTo>
                  <a:lnTo>
                    <a:pt x="3187" y="3911"/>
                  </a:lnTo>
                  <a:lnTo>
                    <a:pt x="3092" y="3985"/>
                  </a:lnTo>
                  <a:lnTo>
                    <a:pt x="2999" y="4061"/>
                  </a:lnTo>
                  <a:lnTo>
                    <a:pt x="2908" y="4140"/>
                  </a:lnTo>
                  <a:lnTo>
                    <a:pt x="2821" y="4222"/>
                  </a:lnTo>
                  <a:lnTo>
                    <a:pt x="2736" y="4307"/>
                  </a:lnTo>
                  <a:lnTo>
                    <a:pt x="2653" y="4396"/>
                  </a:lnTo>
                  <a:lnTo>
                    <a:pt x="2573" y="4487"/>
                  </a:lnTo>
                  <a:lnTo>
                    <a:pt x="2498" y="4581"/>
                  </a:lnTo>
                  <a:lnTo>
                    <a:pt x="2424" y="4677"/>
                  </a:lnTo>
                  <a:lnTo>
                    <a:pt x="2354" y="4776"/>
                  </a:lnTo>
                  <a:lnTo>
                    <a:pt x="2287" y="4878"/>
                  </a:lnTo>
                  <a:lnTo>
                    <a:pt x="2223" y="4982"/>
                  </a:lnTo>
                  <a:lnTo>
                    <a:pt x="2164" y="5089"/>
                  </a:lnTo>
                  <a:lnTo>
                    <a:pt x="2107" y="5198"/>
                  </a:lnTo>
                  <a:lnTo>
                    <a:pt x="2054" y="5310"/>
                  </a:lnTo>
                  <a:lnTo>
                    <a:pt x="2005" y="5423"/>
                  </a:lnTo>
                  <a:lnTo>
                    <a:pt x="1960" y="5540"/>
                  </a:lnTo>
                  <a:lnTo>
                    <a:pt x="1919" y="5657"/>
                  </a:lnTo>
                  <a:lnTo>
                    <a:pt x="1881" y="5777"/>
                  </a:lnTo>
                  <a:lnTo>
                    <a:pt x="1847" y="5899"/>
                  </a:lnTo>
                  <a:lnTo>
                    <a:pt x="1818" y="6024"/>
                  </a:lnTo>
                  <a:lnTo>
                    <a:pt x="1793" y="6150"/>
                  </a:lnTo>
                  <a:lnTo>
                    <a:pt x="1765" y="6331"/>
                  </a:lnTo>
                  <a:lnTo>
                    <a:pt x="1747" y="6512"/>
                  </a:lnTo>
                  <a:lnTo>
                    <a:pt x="1738" y="6692"/>
                  </a:lnTo>
                  <a:lnTo>
                    <a:pt x="1738" y="6870"/>
                  </a:lnTo>
                  <a:lnTo>
                    <a:pt x="1747" y="7047"/>
                  </a:lnTo>
                  <a:lnTo>
                    <a:pt x="1764" y="7222"/>
                  </a:lnTo>
                  <a:lnTo>
                    <a:pt x="1790" y="7396"/>
                  </a:lnTo>
                  <a:lnTo>
                    <a:pt x="1825" y="7567"/>
                  </a:lnTo>
                  <a:lnTo>
                    <a:pt x="1868" y="7735"/>
                  </a:lnTo>
                  <a:lnTo>
                    <a:pt x="1919" y="7901"/>
                  </a:lnTo>
                  <a:lnTo>
                    <a:pt x="1977" y="8064"/>
                  </a:lnTo>
                  <a:lnTo>
                    <a:pt x="2043" y="8222"/>
                  </a:lnTo>
                  <a:lnTo>
                    <a:pt x="2116" y="8378"/>
                  </a:lnTo>
                  <a:lnTo>
                    <a:pt x="2197" y="8529"/>
                  </a:lnTo>
                  <a:lnTo>
                    <a:pt x="2285" y="8677"/>
                  </a:lnTo>
                  <a:lnTo>
                    <a:pt x="2379" y="8821"/>
                  </a:lnTo>
                  <a:lnTo>
                    <a:pt x="2481" y="8959"/>
                  </a:lnTo>
                  <a:lnTo>
                    <a:pt x="2589" y="9093"/>
                  </a:lnTo>
                  <a:lnTo>
                    <a:pt x="2703" y="9221"/>
                  </a:lnTo>
                  <a:lnTo>
                    <a:pt x="2823" y="9344"/>
                  </a:lnTo>
                  <a:lnTo>
                    <a:pt x="2949" y="9461"/>
                  </a:lnTo>
                  <a:lnTo>
                    <a:pt x="3081" y="9572"/>
                  </a:lnTo>
                  <a:lnTo>
                    <a:pt x="3220" y="9677"/>
                  </a:lnTo>
                  <a:lnTo>
                    <a:pt x="3362" y="9777"/>
                  </a:lnTo>
                  <a:lnTo>
                    <a:pt x="3511" y="9868"/>
                  </a:lnTo>
                  <a:lnTo>
                    <a:pt x="3665" y="9953"/>
                  </a:lnTo>
                  <a:lnTo>
                    <a:pt x="3822" y="10030"/>
                  </a:lnTo>
                  <a:lnTo>
                    <a:pt x="3986" y="10100"/>
                  </a:lnTo>
                  <a:lnTo>
                    <a:pt x="4153" y="10162"/>
                  </a:lnTo>
                  <a:lnTo>
                    <a:pt x="4325" y="10216"/>
                  </a:lnTo>
                  <a:lnTo>
                    <a:pt x="4500" y="10262"/>
                  </a:lnTo>
                  <a:lnTo>
                    <a:pt x="4680" y="10298"/>
                  </a:lnTo>
                  <a:lnTo>
                    <a:pt x="4862" y="10326"/>
                  </a:lnTo>
                  <a:lnTo>
                    <a:pt x="5042" y="10345"/>
                  </a:lnTo>
                  <a:lnTo>
                    <a:pt x="5222" y="10353"/>
                  </a:lnTo>
                  <a:lnTo>
                    <a:pt x="5401" y="10353"/>
                  </a:lnTo>
                  <a:lnTo>
                    <a:pt x="5577" y="10345"/>
                  </a:lnTo>
                  <a:lnTo>
                    <a:pt x="5753" y="10327"/>
                  </a:lnTo>
                  <a:lnTo>
                    <a:pt x="5926" y="10301"/>
                  </a:lnTo>
                  <a:lnTo>
                    <a:pt x="6097" y="10267"/>
                  </a:lnTo>
                  <a:lnTo>
                    <a:pt x="6265" y="10224"/>
                  </a:lnTo>
                  <a:lnTo>
                    <a:pt x="6431" y="10174"/>
                  </a:lnTo>
                  <a:lnTo>
                    <a:pt x="6594" y="10115"/>
                  </a:lnTo>
                  <a:lnTo>
                    <a:pt x="6753" y="10049"/>
                  </a:lnTo>
                  <a:lnTo>
                    <a:pt x="6908" y="9975"/>
                  </a:lnTo>
                  <a:lnTo>
                    <a:pt x="7060" y="9895"/>
                  </a:lnTo>
                  <a:lnTo>
                    <a:pt x="7207" y="9807"/>
                  </a:lnTo>
                  <a:lnTo>
                    <a:pt x="7351" y="9713"/>
                  </a:lnTo>
                  <a:lnTo>
                    <a:pt x="7489" y="9611"/>
                  </a:lnTo>
                  <a:lnTo>
                    <a:pt x="7623" y="9503"/>
                  </a:lnTo>
                  <a:lnTo>
                    <a:pt x="7752" y="9389"/>
                  </a:lnTo>
                  <a:lnTo>
                    <a:pt x="7875" y="9269"/>
                  </a:lnTo>
                  <a:lnTo>
                    <a:pt x="7992" y="9143"/>
                  </a:lnTo>
                  <a:lnTo>
                    <a:pt x="8103" y="9011"/>
                  </a:lnTo>
                  <a:lnTo>
                    <a:pt x="8209" y="8873"/>
                  </a:lnTo>
                  <a:lnTo>
                    <a:pt x="8307" y="8730"/>
                  </a:lnTo>
                  <a:lnTo>
                    <a:pt x="8399" y="8581"/>
                  </a:lnTo>
                  <a:lnTo>
                    <a:pt x="8483" y="8429"/>
                  </a:lnTo>
                  <a:lnTo>
                    <a:pt x="8561" y="8270"/>
                  </a:lnTo>
                  <a:lnTo>
                    <a:pt x="8631" y="8107"/>
                  </a:lnTo>
                  <a:lnTo>
                    <a:pt x="8693" y="7940"/>
                  </a:lnTo>
                  <a:lnTo>
                    <a:pt x="8747" y="7768"/>
                  </a:lnTo>
                  <a:lnTo>
                    <a:pt x="8792" y="7593"/>
                  </a:lnTo>
                  <a:lnTo>
                    <a:pt x="8830" y="7412"/>
                  </a:lnTo>
                  <a:lnTo>
                    <a:pt x="8857" y="7231"/>
                  </a:lnTo>
                  <a:lnTo>
                    <a:pt x="8876" y="7051"/>
                  </a:lnTo>
                  <a:lnTo>
                    <a:pt x="8885" y="6871"/>
                  </a:lnTo>
                  <a:lnTo>
                    <a:pt x="8885" y="6692"/>
                  </a:lnTo>
                  <a:lnTo>
                    <a:pt x="8877" y="6516"/>
                  </a:lnTo>
                  <a:lnTo>
                    <a:pt x="8858" y="6340"/>
                  </a:lnTo>
                  <a:lnTo>
                    <a:pt x="8832" y="6167"/>
                  </a:lnTo>
                  <a:lnTo>
                    <a:pt x="8798" y="5997"/>
                  </a:lnTo>
                  <a:lnTo>
                    <a:pt x="8756" y="5828"/>
                  </a:lnTo>
                  <a:lnTo>
                    <a:pt x="8705" y="5662"/>
                  </a:lnTo>
                  <a:lnTo>
                    <a:pt x="8647" y="5500"/>
                  </a:lnTo>
                  <a:lnTo>
                    <a:pt x="8581" y="5341"/>
                  </a:lnTo>
                  <a:lnTo>
                    <a:pt x="8507" y="5186"/>
                  </a:lnTo>
                  <a:lnTo>
                    <a:pt x="8426" y="5033"/>
                  </a:lnTo>
                  <a:lnTo>
                    <a:pt x="8339" y="4885"/>
                  </a:lnTo>
                  <a:lnTo>
                    <a:pt x="8244" y="4743"/>
                  </a:lnTo>
                  <a:lnTo>
                    <a:pt x="8142" y="4604"/>
                  </a:lnTo>
                  <a:lnTo>
                    <a:pt x="8034" y="4471"/>
                  </a:lnTo>
                  <a:lnTo>
                    <a:pt x="7921" y="4342"/>
                  </a:lnTo>
                  <a:lnTo>
                    <a:pt x="7799" y="4219"/>
                  </a:lnTo>
                  <a:lnTo>
                    <a:pt x="7673" y="4102"/>
                  </a:lnTo>
                  <a:lnTo>
                    <a:pt x="7541" y="3991"/>
                  </a:lnTo>
                  <a:lnTo>
                    <a:pt x="7404" y="3885"/>
                  </a:lnTo>
                  <a:lnTo>
                    <a:pt x="7260" y="3787"/>
                  </a:lnTo>
                  <a:lnTo>
                    <a:pt x="7112" y="3695"/>
                  </a:lnTo>
                  <a:lnTo>
                    <a:pt x="6959" y="3611"/>
                  </a:lnTo>
                  <a:lnTo>
                    <a:pt x="6800" y="3533"/>
                  </a:lnTo>
                  <a:lnTo>
                    <a:pt x="6638" y="3463"/>
                  </a:lnTo>
                  <a:lnTo>
                    <a:pt x="6471" y="3401"/>
                  </a:lnTo>
                  <a:lnTo>
                    <a:pt x="6299" y="3347"/>
                  </a:lnTo>
                  <a:lnTo>
                    <a:pt x="6123" y="3302"/>
                  </a:lnTo>
                  <a:lnTo>
                    <a:pt x="5943" y="3264"/>
                  </a:lnTo>
                  <a:lnTo>
                    <a:pt x="5890" y="3256"/>
                  </a:lnTo>
                  <a:lnTo>
                    <a:pt x="5837" y="3247"/>
                  </a:lnTo>
                  <a:lnTo>
                    <a:pt x="5785" y="3239"/>
                  </a:lnTo>
                  <a:lnTo>
                    <a:pt x="5732" y="3233"/>
                  </a:lnTo>
                  <a:lnTo>
                    <a:pt x="5679" y="3227"/>
                  </a:lnTo>
                  <a:lnTo>
                    <a:pt x="5626" y="3222"/>
                  </a:lnTo>
                  <a:lnTo>
                    <a:pt x="5574" y="3218"/>
                  </a:lnTo>
                  <a:lnTo>
                    <a:pt x="5521" y="3215"/>
                  </a:lnTo>
                  <a:lnTo>
                    <a:pt x="5469" y="3211"/>
                  </a:lnTo>
                  <a:lnTo>
                    <a:pt x="5416" y="3210"/>
                  </a:lnTo>
                  <a:lnTo>
                    <a:pt x="5364" y="3208"/>
                  </a:lnTo>
                  <a:lnTo>
                    <a:pt x="5312" y="3208"/>
                  </a:lnTo>
                  <a:lnTo>
                    <a:pt x="5259" y="3208"/>
                  </a:lnTo>
                  <a:lnTo>
                    <a:pt x="5208" y="3210"/>
                  </a:lnTo>
                  <a:lnTo>
                    <a:pt x="5157" y="3211"/>
                  </a:lnTo>
                  <a:lnTo>
                    <a:pt x="5105" y="3215"/>
                  </a:lnTo>
                  <a:lnTo>
                    <a:pt x="5053" y="3218"/>
                  </a:lnTo>
                  <a:lnTo>
                    <a:pt x="5002" y="3222"/>
                  </a:lnTo>
                  <a:lnTo>
                    <a:pt x="4950" y="3226"/>
                  </a:lnTo>
                  <a:lnTo>
                    <a:pt x="4900" y="3232"/>
                  </a:lnTo>
                  <a:lnTo>
                    <a:pt x="4849" y="3238"/>
                  </a:lnTo>
                  <a:lnTo>
                    <a:pt x="4798" y="3246"/>
                  </a:lnTo>
                  <a:lnTo>
                    <a:pt x="4747" y="3253"/>
                  </a:lnTo>
                  <a:lnTo>
                    <a:pt x="4698" y="3262"/>
                  </a:lnTo>
                  <a:lnTo>
                    <a:pt x="4648" y="3271"/>
                  </a:lnTo>
                  <a:lnTo>
                    <a:pt x="4597" y="3281"/>
                  </a:lnTo>
                  <a:lnTo>
                    <a:pt x="4547" y="3291"/>
                  </a:lnTo>
                  <a:lnTo>
                    <a:pt x="4499" y="3303"/>
                  </a:lnTo>
                  <a:lnTo>
                    <a:pt x="4449" y="3315"/>
                  </a:lnTo>
                  <a:lnTo>
                    <a:pt x="4400" y="3328"/>
                  </a:lnTo>
                  <a:lnTo>
                    <a:pt x="4351" y="3341"/>
                  </a:lnTo>
                  <a:lnTo>
                    <a:pt x="4302" y="3355"/>
                  </a:lnTo>
                  <a:close/>
                </a:path>
              </a:pathLst>
            </a:custGeom>
            <a:solidFill>
              <a:srgbClr val="f7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2897280" y="2098800"/>
              <a:ext cx="3373200" cy="3840120"/>
            </a:xfrm>
            <a:custGeom>
              <a:avLst/>
              <a:gdLst/>
              <a:ahLst/>
              <a:rect l="l" t="t" r="r" b="b"/>
              <a:pathLst>
                <a:path w="10625" h="12092">
                  <a:moveTo>
                    <a:pt x="10542" y="7720"/>
                  </a:moveTo>
                  <a:lnTo>
                    <a:pt x="10487" y="7987"/>
                  </a:lnTo>
                  <a:lnTo>
                    <a:pt x="10418" y="8248"/>
                  </a:lnTo>
                  <a:lnTo>
                    <a:pt x="10339" y="8503"/>
                  </a:lnTo>
                  <a:lnTo>
                    <a:pt x="10246" y="8752"/>
                  </a:lnTo>
                  <a:lnTo>
                    <a:pt x="10142" y="8995"/>
                  </a:lnTo>
                  <a:lnTo>
                    <a:pt x="10027" y="9229"/>
                  </a:lnTo>
                  <a:lnTo>
                    <a:pt x="9901" y="9457"/>
                  </a:lnTo>
                  <a:lnTo>
                    <a:pt x="9765" y="9677"/>
                  </a:lnTo>
                  <a:lnTo>
                    <a:pt x="9618" y="9890"/>
                  </a:lnTo>
                  <a:lnTo>
                    <a:pt x="9462" y="10095"/>
                  </a:lnTo>
                  <a:lnTo>
                    <a:pt x="9296" y="10291"/>
                  </a:lnTo>
                  <a:lnTo>
                    <a:pt x="9122" y="10479"/>
                  </a:lnTo>
                  <a:lnTo>
                    <a:pt x="8939" y="10658"/>
                  </a:lnTo>
                  <a:lnTo>
                    <a:pt x="8748" y="10827"/>
                  </a:lnTo>
                  <a:lnTo>
                    <a:pt x="8549" y="10987"/>
                  </a:lnTo>
                  <a:lnTo>
                    <a:pt x="8343" y="11138"/>
                  </a:lnTo>
                  <a:lnTo>
                    <a:pt x="8130" y="11279"/>
                  </a:lnTo>
                  <a:lnTo>
                    <a:pt x="7911" y="11410"/>
                  </a:lnTo>
                  <a:lnTo>
                    <a:pt x="7685" y="11529"/>
                  </a:lnTo>
                  <a:lnTo>
                    <a:pt x="7454" y="11639"/>
                  </a:lnTo>
                  <a:lnTo>
                    <a:pt x="7217" y="11737"/>
                  </a:lnTo>
                  <a:lnTo>
                    <a:pt x="6976" y="11823"/>
                  </a:lnTo>
                  <a:lnTo>
                    <a:pt x="6730" y="11899"/>
                  </a:lnTo>
                  <a:lnTo>
                    <a:pt x="6479" y="11963"/>
                  </a:lnTo>
                  <a:lnTo>
                    <a:pt x="6225" y="12013"/>
                  </a:lnTo>
                  <a:lnTo>
                    <a:pt x="5967" y="12052"/>
                  </a:lnTo>
                  <a:lnTo>
                    <a:pt x="5707" y="12078"/>
                  </a:lnTo>
                  <a:lnTo>
                    <a:pt x="5444" y="12092"/>
                  </a:lnTo>
                  <a:lnTo>
                    <a:pt x="5178" y="12092"/>
                  </a:lnTo>
                  <a:lnTo>
                    <a:pt x="4912" y="12078"/>
                  </a:lnTo>
                  <a:lnTo>
                    <a:pt x="4642" y="12051"/>
                  </a:lnTo>
                  <a:lnTo>
                    <a:pt x="4372" y="12010"/>
                  </a:lnTo>
                  <a:lnTo>
                    <a:pt x="4106" y="11955"/>
                  </a:lnTo>
                  <a:lnTo>
                    <a:pt x="3844" y="11887"/>
                  </a:lnTo>
                  <a:lnTo>
                    <a:pt x="3589" y="11807"/>
                  </a:lnTo>
                  <a:lnTo>
                    <a:pt x="3341" y="11714"/>
                  </a:lnTo>
                  <a:lnTo>
                    <a:pt x="3099" y="11610"/>
                  </a:lnTo>
                  <a:lnTo>
                    <a:pt x="2863" y="11495"/>
                  </a:lnTo>
                  <a:lnTo>
                    <a:pt x="2635" y="11370"/>
                  </a:lnTo>
                  <a:lnTo>
                    <a:pt x="2415" y="11232"/>
                  </a:lnTo>
                  <a:lnTo>
                    <a:pt x="2202" y="11087"/>
                  </a:lnTo>
                  <a:lnTo>
                    <a:pt x="1997" y="10930"/>
                  </a:lnTo>
                  <a:lnTo>
                    <a:pt x="1801" y="10765"/>
                  </a:lnTo>
                  <a:lnTo>
                    <a:pt x="1613" y="10591"/>
                  </a:lnTo>
                  <a:lnTo>
                    <a:pt x="1434" y="10407"/>
                  </a:lnTo>
                  <a:lnTo>
                    <a:pt x="1264" y="10217"/>
                  </a:lnTo>
                  <a:lnTo>
                    <a:pt x="1104" y="10019"/>
                  </a:lnTo>
                  <a:lnTo>
                    <a:pt x="953" y="9812"/>
                  </a:lnTo>
                  <a:lnTo>
                    <a:pt x="812" y="9599"/>
                  </a:lnTo>
                  <a:lnTo>
                    <a:pt x="682" y="9380"/>
                  </a:lnTo>
                  <a:lnTo>
                    <a:pt x="562" y="9155"/>
                  </a:lnTo>
                  <a:lnTo>
                    <a:pt x="453" y="8923"/>
                  </a:lnTo>
                  <a:lnTo>
                    <a:pt x="354" y="8687"/>
                  </a:lnTo>
                  <a:lnTo>
                    <a:pt x="268" y="8445"/>
                  </a:lnTo>
                  <a:lnTo>
                    <a:pt x="192" y="8199"/>
                  </a:lnTo>
                  <a:lnTo>
                    <a:pt x="128" y="7949"/>
                  </a:lnTo>
                  <a:lnTo>
                    <a:pt x="78" y="7694"/>
                  </a:lnTo>
                  <a:lnTo>
                    <a:pt x="39" y="7437"/>
                  </a:lnTo>
                  <a:lnTo>
                    <a:pt x="13" y="7177"/>
                  </a:lnTo>
                  <a:lnTo>
                    <a:pt x="0" y="6914"/>
                  </a:lnTo>
                  <a:lnTo>
                    <a:pt x="0" y="6649"/>
                  </a:lnTo>
                  <a:lnTo>
                    <a:pt x="13" y="6381"/>
                  </a:lnTo>
                  <a:lnTo>
                    <a:pt x="40" y="6113"/>
                  </a:lnTo>
                  <a:lnTo>
                    <a:pt x="82" y="5843"/>
                  </a:lnTo>
                  <a:lnTo>
                    <a:pt x="123" y="5636"/>
                  </a:lnTo>
                  <a:lnTo>
                    <a:pt x="172" y="5432"/>
                  </a:lnTo>
                  <a:lnTo>
                    <a:pt x="229" y="5232"/>
                  </a:lnTo>
                  <a:lnTo>
                    <a:pt x="293" y="5035"/>
                  </a:lnTo>
                  <a:lnTo>
                    <a:pt x="364" y="4843"/>
                  </a:lnTo>
                  <a:lnTo>
                    <a:pt x="443" y="4654"/>
                  </a:lnTo>
                  <a:lnTo>
                    <a:pt x="527" y="4469"/>
                  </a:lnTo>
                  <a:lnTo>
                    <a:pt x="619" y="4290"/>
                  </a:lnTo>
                  <a:lnTo>
                    <a:pt x="717" y="4114"/>
                  </a:lnTo>
                  <a:lnTo>
                    <a:pt x="822" y="3942"/>
                  </a:lnTo>
                  <a:lnTo>
                    <a:pt x="932" y="3775"/>
                  </a:lnTo>
                  <a:lnTo>
                    <a:pt x="1049" y="3613"/>
                  </a:lnTo>
                  <a:lnTo>
                    <a:pt x="1171" y="3456"/>
                  </a:lnTo>
                  <a:lnTo>
                    <a:pt x="1299" y="3304"/>
                  </a:lnTo>
                  <a:lnTo>
                    <a:pt x="1431" y="3157"/>
                  </a:lnTo>
                  <a:lnTo>
                    <a:pt x="1570" y="3015"/>
                  </a:lnTo>
                  <a:lnTo>
                    <a:pt x="1713" y="2879"/>
                  </a:lnTo>
                  <a:lnTo>
                    <a:pt x="1861" y="2748"/>
                  </a:lnTo>
                  <a:lnTo>
                    <a:pt x="2014" y="2622"/>
                  </a:lnTo>
                  <a:lnTo>
                    <a:pt x="2172" y="2503"/>
                  </a:lnTo>
                  <a:lnTo>
                    <a:pt x="2333" y="2388"/>
                  </a:lnTo>
                  <a:lnTo>
                    <a:pt x="2498" y="2281"/>
                  </a:lnTo>
                  <a:lnTo>
                    <a:pt x="2667" y="2179"/>
                  </a:lnTo>
                  <a:lnTo>
                    <a:pt x="2840" y="2084"/>
                  </a:lnTo>
                  <a:lnTo>
                    <a:pt x="3018" y="1995"/>
                  </a:lnTo>
                  <a:lnTo>
                    <a:pt x="3197" y="1912"/>
                  </a:lnTo>
                  <a:lnTo>
                    <a:pt x="3381" y="1836"/>
                  </a:lnTo>
                  <a:lnTo>
                    <a:pt x="3566" y="1767"/>
                  </a:lnTo>
                  <a:lnTo>
                    <a:pt x="3755" y="1705"/>
                  </a:lnTo>
                  <a:lnTo>
                    <a:pt x="3948" y="1650"/>
                  </a:lnTo>
                  <a:lnTo>
                    <a:pt x="4141" y="1602"/>
                  </a:lnTo>
                  <a:lnTo>
                    <a:pt x="4338" y="1561"/>
                  </a:lnTo>
                  <a:lnTo>
                    <a:pt x="9490" y="0"/>
                  </a:lnTo>
                  <a:lnTo>
                    <a:pt x="9985" y="1633"/>
                  </a:lnTo>
                  <a:lnTo>
                    <a:pt x="8038" y="2223"/>
                  </a:lnTo>
                  <a:lnTo>
                    <a:pt x="8208" y="2330"/>
                  </a:lnTo>
                  <a:lnTo>
                    <a:pt x="8373" y="2442"/>
                  </a:lnTo>
                  <a:lnTo>
                    <a:pt x="8534" y="2561"/>
                  </a:lnTo>
                  <a:lnTo>
                    <a:pt x="8690" y="2685"/>
                  </a:lnTo>
                  <a:lnTo>
                    <a:pt x="8840" y="2815"/>
                  </a:lnTo>
                  <a:lnTo>
                    <a:pt x="8986" y="2950"/>
                  </a:lnTo>
                  <a:lnTo>
                    <a:pt x="9126" y="3089"/>
                  </a:lnTo>
                  <a:lnTo>
                    <a:pt x="9261" y="3234"/>
                  </a:lnTo>
                  <a:lnTo>
                    <a:pt x="9390" y="3384"/>
                  </a:lnTo>
                  <a:lnTo>
                    <a:pt x="9514" y="3539"/>
                  </a:lnTo>
                  <a:lnTo>
                    <a:pt x="9632" y="3697"/>
                  </a:lnTo>
                  <a:lnTo>
                    <a:pt x="9743" y="3859"/>
                  </a:lnTo>
                  <a:lnTo>
                    <a:pt x="9849" y="4027"/>
                  </a:lnTo>
                  <a:lnTo>
                    <a:pt x="9948" y="4197"/>
                  </a:lnTo>
                  <a:lnTo>
                    <a:pt x="10042" y="4371"/>
                  </a:lnTo>
                  <a:lnTo>
                    <a:pt x="10129" y="4549"/>
                  </a:lnTo>
                  <a:lnTo>
                    <a:pt x="10210" y="4731"/>
                  </a:lnTo>
                  <a:lnTo>
                    <a:pt x="10283" y="4914"/>
                  </a:lnTo>
                  <a:lnTo>
                    <a:pt x="10350" y="5102"/>
                  </a:lnTo>
                  <a:lnTo>
                    <a:pt x="10410" y="5292"/>
                  </a:lnTo>
                  <a:lnTo>
                    <a:pt x="10463" y="5485"/>
                  </a:lnTo>
                  <a:lnTo>
                    <a:pt x="10508" y="5679"/>
                  </a:lnTo>
                  <a:lnTo>
                    <a:pt x="10547" y="5877"/>
                  </a:lnTo>
                  <a:lnTo>
                    <a:pt x="10577" y="6075"/>
                  </a:lnTo>
                  <a:lnTo>
                    <a:pt x="10601" y="6276"/>
                  </a:lnTo>
                  <a:lnTo>
                    <a:pt x="10616" y="6479"/>
                  </a:lnTo>
                  <a:lnTo>
                    <a:pt x="10625" y="6683"/>
                  </a:lnTo>
                  <a:lnTo>
                    <a:pt x="10624" y="6889"/>
                  </a:lnTo>
                  <a:lnTo>
                    <a:pt x="10616" y="7095"/>
                  </a:lnTo>
                  <a:lnTo>
                    <a:pt x="10600" y="7303"/>
                  </a:lnTo>
                  <a:lnTo>
                    <a:pt x="10575" y="7511"/>
                  </a:lnTo>
                  <a:lnTo>
                    <a:pt x="10542" y="7720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3449520" y="3117960"/>
              <a:ext cx="2268720" cy="2268360"/>
            </a:xfrm>
            <a:custGeom>
              <a:avLst/>
              <a:gdLst/>
              <a:ahLst/>
              <a:rect l="l" t="t" r="r" b="b"/>
              <a:pathLst>
                <a:path w="7147" h="7145">
                  <a:moveTo>
                    <a:pt x="2564" y="147"/>
                  </a:moveTo>
                  <a:lnTo>
                    <a:pt x="2518" y="161"/>
                  </a:lnTo>
                  <a:lnTo>
                    <a:pt x="2403" y="199"/>
                  </a:lnTo>
                  <a:lnTo>
                    <a:pt x="2290" y="241"/>
                  </a:lnTo>
                  <a:lnTo>
                    <a:pt x="2177" y="286"/>
                  </a:lnTo>
                  <a:lnTo>
                    <a:pt x="2068" y="336"/>
                  </a:lnTo>
                  <a:lnTo>
                    <a:pt x="1959" y="388"/>
                  </a:lnTo>
                  <a:lnTo>
                    <a:pt x="1853" y="444"/>
                  </a:lnTo>
                  <a:lnTo>
                    <a:pt x="1750" y="504"/>
                  </a:lnTo>
                  <a:lnTo>
                    <a:pt x="1647" y="567"/>
                  </a:lnTo>
                  <a:lnTo>
                    <a:pt x="1546" y="634"/>
                  </a:lnTo>
                  <a:lnTo>
                    <a:pt x="1449" y="703"/>
                  </a:lnTo>
                  <a:lnTo>
                    <a:pt x="1354" y="777"/>
                  </a:lnTo>
                  <a:lnTo>
                    <a:pt x="1261" y="853"/>
                  </a:lnTo>
                  <a:lnTo>
                    <a:pt x="1170" y="932"/>
                  </a:lnTo>
                  <a:lnTo>
                    <a:pt x="1083" y="1014"/>
                  </a:lnTo>
                  <a:lnTo>
                    <a:pt x="998" y="1099"/>
                  </a:lnTo>
                  <a:lnTo>
                    <a:pt x="915" y="1188"/>
                  </a:lnTo>
                  <a:lnTo>
                    <a:pt x="835" y="1279"/>
                  </a:lnTo>
                  <a:lnTo>
                    <a:pt x="760" y="1373"/>
                  </a:lnTo>
                  <a:lnTo>
                    <a:pt x="686" y="1469"/>
                  </a:lnTo>
                  <a:lnTo>
                    <a:pt x="616" y="1568"/>
                  </a:lnTo>
                  <a:lnTo>
                    <a:pt x="549" y="1670"/>
                  </a:lnTo>
                  <a:lnTo>
                    <a:pt x="485" y="1774"/>
                  </a:lnTo>
                  <a:lnTo>
                    <a:pt x="426" y="1881"/>
                  </a:lnTo>
                  <a:lnTo>
                    <a:pt x="369" y="1990"/>
                  </a:lnTo>
                  <a:lnTo>
                    <a:pt x="316" y="2102"/>
                  </a:lnTo>
                  <a:lnTo>
                    <a:pt x="267" y="2215"/>
                  </a:lnTo>
                  <a:lnTo>
                    <a:pt x="222" y="2332"/>
                  </a:lnTo>
                  <a:lnTo>
                    <a:pt x="181" y="2449"/>
                  </a:lnTo>
                  <a:lnTo>
                    <a:pt x="143" y="2569"/>
                  </a:lnTo>
                  <a:lnTo>
                    <a:pt x="109" y="2691"/>
                  </a:lnTo>
                  <a:lnTo>
                    <a:pt x="80" y="2816"/>
                  </a:lnTo>
                  <a:lnTo>
                    <a:pt x="55" y="2942"/>
                  </a:lnTo>
                  <a:lnTo>
                    <a:pt x="27" y="3123"/>
                  </a:lnTo>
                  <a:lnTo>
                    <a:pt x="9" y="3304"/>
                  </a:lnTo>
                  <a:lnTo>
                    <a:pt x="0" y="3484"/>
                  </a:lnTo>
                  <a:lnTo>
                    <a:pt x="0" y="3662"/>
                  </a:lnTo>
                  <a:lnTo>
                    <a:pt x="9" y="3839"/>
                  </a:lnTo>
                  <a:lnTo>
                    <a:pt x="26" y="4014"/>
                  </a:lnTo>
                  <a:lnTo>
                    <a:pt x="52" y="4188"/>
                  </a:lnTo>
                  <a:lnTo>
                    <a:pt x="87" y="4359"/>
                  </a:lnTo>
                  <a:lnTo>
                    <a:pt x="130" y="4527"/>
                  </a:lnTo>
                  <a:lnTo>
                    <a:pt x="181" y="4693"/>
                  </a:lnTo>
                  <a:lnTo>
                    <a:pt x="239" y="4856"/>
                  </a:lnTo>
                  <a:lnTo>
                    <a:pt x="305" y="5014"/>
                  </a:lnTo>
                  <a:lnTo>
                    <a:pt x="378" y="5170"/>
                  </a:lnTo>
                  <a:lnTo>
                    <a:pt x="459" y="5321"/>
                  </a:lnTo>
                  <a:lnTo>
                    <a:pt x="547" y="5469"/>
                  </a:lnTo>
                  <a:lnTo>
                    <a:pt x="641" y="5613"/>
                  </a:lnTo>
                  <a:lnTo>
                    <a:pt x="743" y="5751"/>
                  </a:lnTo>
                  <a:lnTo>
                    <a:pt x="851" y="5885"/>
                  </a:lnTo>
                  <a:lnTo>
                    <a:pt x="965" y="6013"/>
                  </a:lnTo>
                  <a:lnTo>
                    <a:pt x="1085" y="6136"/>
                  </a:lnTo>
                  <a:lnTo>
                    <a:pt x="1211" y="6253"/>
                  </a:lnTo>
                  <a:lnTo>
                    <a:pt x="1343" y="6364"/>
                  </a:lnTo>
                  <a:lnTo>
                    <a:pt x="1482" y="6469"/>
                  </a:lnTo>
                  <a:lnTo>
                    <a:pt x="1624" y="6569"/>
                  </a:lnTo>
                  <a:lnTo>
                    <a:pt x="1773" y="6660"/>
                  </a:lnTo>
                  <a:lnTo>
                    <a:pt x="1927" y="6745"/>
                  </a:lnTo>
                  <a:lnTo>
                    <a:pt x="2084" y="6822"/>
                  </a:lnTo>
                  <a:lnTo>
                    <a:pt x="2248" y="6892"/>
                  </a:lnTo>
                  <a:lnTo>
                    <a:pt x="2415" y="6954"/>
                  </a:lnTo>
                  <a:lnTo>
                    <a:pt x="2587" y="7008"/>
                  </a:lnTo>
                  <a:lnTo>
                    <a:pt x="2762" y="7054"/>
                  </a:lnTo>
                  <a:lnTo>
                    <a:pt x="2942" y="7090"/>
                  </a:lnTo>
                  <a:lnTo>
                    <a:pt x="3124" y="7118"/>
                  </a:lnTo>
                  <a:lnTo>
                    <a:pt x="3304" y="7137"/>
                  </a:lnTo>
                  <a:lnTo>
                    <a:pt x="3484" y="7145"/>
                  </a:lnTo>
                  <a:lnTo>
                    <a:pt x="3663" y="7145"/>
                  </a:lnTo>
                  <a:lnTo>
                    <a:pt x="3839" y="7137"/>
                  </a:lnTo>
                  <a:lnTo>
                    <a:pt x="4015" y="7119"/>
                  </a:lnTo>
                  <a:lnTo>
                    <a:pt x="4188" y="7093"/>
                  </a:lnTo>
                  <a:lnTo>
                    <a:pt x="4359" y="7059"/>
                  </a:lnTo>
                  <a:lnTo>
                    <a:pt x="4527" y="7016"/>
                  </a:lnTo>
                  <a:lnTo>
                    <a:pt x="4693" y="6966"/>
                  </a:lnTo>
                  <a:lnTo>
                    <a:pt x="4856" y="6907"/>
                  </a:lnTo>
                  <a:lnTo>
                    <a:pt x="5015" y="6841"/>
                  </a:lnTo>
                  <a:lnTo>
                    <a:pt x="5170" y="6767"/>
                  </a:lnTo>
                  <a:lnTo>
                    <a:pt x="5322" y="6687"/>
                  </a:lnTo>
                  <a:lnTo>
                    <a:pt x="5469" y="6599"/>
                  </a:lnTo>
                  <a:lnTo>
                    <a:pt x="5613" y="6505"/>
                  </a:lnTo>
                  <a:lnTo>
                    <a:pt x="5751" y="6403"/>
                  </a:lnTo>
                  <a:lnTo>
                    <a:pt x="5885" y="6295"/>
                  </a:lnTo>
                  <a:lnTo>
                    <a:pt x="6014" y="6181"/>
                  </a:lnTo>
                  <a:lnTo>
                    <a:pt x="6137" y="6061"/>
                  </a:lnTo>
                  <a:lnTo>
                    <a:pt x="6254" y="5935"/>
                  </a:lnTo>
                  <a:lnTo>
                    <a:pt x="6365" y="5803"/>
                  </a:lnTo>
                  <a:lnTo>
                    <a:pt x="6471" y="5665"/>
                  </a:lnTo>
                  <a:lnTo>
                    <a:pt x="6569" y="5522"/>
                  </a:lnTo>
                  <a:lnTo>
                    <a:pt x="6661" y="5373"/>
                  </a:lnTo>
                  <a:lnTo>
                    <a:pt x="6745" y="5221"/>
                  </a:lnTo>
                  <a:lnTo>
                    <a:pt x="6823" y="5062"/>
                  </a:lnTo>
                  <a:lnTo>
                    <a:pt x="6893" y="4899"/>
                  </a:lnTo>
                  <a:lnTo>
                    <a:pt x="6955" y="4732"/>
                  </a:lnTo>
                  <a:lnTo>
                    <a:pt x="7009" y="4560"/>
                  </a:lnTo>
                  <a:lnTo>
                    <a:pt x="7054" y="4385"/>
                  </a:lnTo>
                  <a:lnTo>
                    <a:pt x="7092" y="4204"/>
                  </a:lnTo>
                  <a:lnTo>
                    <a:pt x="7119" y="4023"/>
                  </a:lnTo>
                  <a:lnTo>
                    <a:pt x="7138" y="3843"/>
                  </a:lnTo>
                  <a:lnTo>
                    <a:pt x="7147" y="3663"/>
                  </a:lnTo>
                  <a:lnTo>
                    <a:pt x="7147" y="3484"/>
                  </a:lnTo>
                  <a:lnTo>
                    <a:pt x="7139" y="3308"/>
                  </a:lnTo>
                  <a:lnTo>
                    <a:pt x="7120" y="3132"/>
                  </a:lnTo>
                  <a:lnTo>
                    <a:pt x="7094" y="2959"/>
                  </a:lnTo>
                  <a:lnTo>
                    <a:pt x="7060" y="2789"/>
                  </a:lnTo>
                  <a:lnTo>
                    <a:pt x="7018" y="2620"/>
                  </a:lnTo>
                  <a:lnTo>
                    <a:pt x="6967" y="2454"/>
                  </a:lnTo>
                  <a:lnTo>
                    <a:pt x="6909" y="2292"/>
                  </a:lnTo>
                  <a:lnTo>
                    <a:pt x="6843" y="2133"/>
                  </a:lnTo>
                  <a:lnTo>
                    <a:pt x="6769" y="1978"/>
                  </a:lnTo>
                  <a:lnTo>
                    <a:pt x="6688" y="1825"/>
                  </a:lnTo>
                  <a:lnTo>
                    <a:pt x="6601" y="1677"/>
                  </a:lnTo>
                  <a:lnTo>
                    <a:pt x="6506" y="1535"/>
                  </a:lnTo>
                  <a:lnTo>
                    <a:pt x="6404" y="1396"/>
                  </a:lnTo>
                  <a:lnTo>
                    <a:pt x="6296" y="1263"/>
                  </a:lnTo>
                  <a:lnTo>
                    <a:pt x="6183" y="1134"/>
                  </a:lnTo>
                  <a:lnTo>
                    <a:pt x="6061" y="1011"/>
                  </a:lnTo>
                  <a:lnTo>
                    <a:pt x="5935" y="894"/>
                  </a:lnTo>
                  <a:lnTo>
                    <a:pt x="5803" y="783"/>
                  </a:lnTo>
                  <a:lnTo>
                    <a:pt x="5666" y="677"/>
                  </a:lnTo>
                  <a:lnTo>
                    <a:pt x="5522" y="579"/>
                  </a:lnTo>
                  <a:lnTo>
                    <a:pt x="5374" y="487"/>
                  </a:lnTo>
                  <a:lnTo>
                    <a:pt x="5221" y="403"/>
                  </a:lnTo>
                  <a:lnTo>
                    <a:pt x="5062" y="325"/>
                  </a:lnTo>
                  <a:lnTo>
                    <a:pt x="4900" y="255"/>
                  </a:lnTo>
                  <a:lnTo>
                    <a:pt x="4733" y="193"/>
                  </a:lnTo>
                  <a:lnTo>
                    <a:pt x="4561" y="139"/>
                  </a:lnTo>
                  <a:lnTo>
                    <a:pt x="4385" y="94"/>
                  </a:lnTo>
                  <a:lnTo>
                    <a:pt x="4205" y="56"/>
                  </a:lnTo>
                  <a:lnTo>
                    <a:pt x="4152" y="48"/>
                  </a:lnTo>
                  <a:lnTo>
                    <a:pt x="4099" y="39"/>
                  </a:lnTo>
                  <a:lnTo>
                    <a:pt x="4047" y="31"/>
                  </a:lnTo>
                  <a:lnTo>
                    <a:pt x="3994" y="25"/>
                  </a:lnTo>
                  <a:lnTo>
                    <a:pt x="3941" y="19"/>
                  </a:lnTo>
                  <a:lnTo>
                    <a:pt x="3888" y="14"/>
                  </a:lnTo>
                  <a:lnTo>
                    <a:pt x="3836" y="10"/>
                  </a:lnTo>
                  <a:lnTo>
                    <a:pt x="3783" y="7"/>
                  </a:lnTo>
                  <a:lnTo>
                    <a:pt x="3731" y="3"/>
                  </a:lnTo>
                  <a:lnTo>
                    <a:pt x="3678" y="2"/>
                  </a:lnTo>
                  <a:lnTo>
                    <a:pt x="3626" y="0"/>
                  </a:lnTo>
                  <a:lnTo>
                    <a:pt x="3574" y="0"/>
                  </a:lnTo>
                  <a:lnTo>
                    <a:pt x="3521" y="0"/>
                  </a:lnTo>
                  <a:lnTo>
                    <a:pt x="3470" y="2"/>
                  </a:lnTo>
                  <a:lnTo>
                    <a:pt x="3419" y="3"/>
                  </a:lnTo>
                  <a:lnTo>
                    <a:pt x="3367" y="7"/>
                  </a:lnTo>
                  <a:lnTo>
                    <a:pt x="3315" y="10"/>
                  </a:lnTo>
                  <a:lnTo>
                    <a:pt x="3264" y="14"/>
                  </a:lnTo>
                  <a:lnTo>
                    <a:pt x="3212" y="18"/>
                  </a:lnTo>
                  <a:lnTo>
                    <a:pt x="3162" y="24"/>
                  </a:lnTo>
                  <a:lnTo>
                    <a:pt x="3111" y="30"/>
                  </a:lnTo>
                  <a:lnTo>
                    <a:pt x="3060" y="38"/>
                  </a:lnTo>
                  <a:lnTo>
                    <a:pt x="3009" y="45"/>
                  </a:lnTo>
                  <a:lnTo>
                    <a:pt x="2960" y="54"/>
                  </a:lnTo>
                  <a:lnTo>
                    <a:pt x="2910" y="63"/>
                  </a:lnTo>
                  <a:lnTo>
                    <a:pt x="2859" y="73"/>
                  </a:lnTo>
                  <a:lnTo>
                    <a:pt x="2809" y="83"/>
                  </a:lnTo>
                  <a:lnTo>
                    <a:pt x="2761" y="95"/>
                  </a:lnTo>
                  <a:lnTo>
                    <a:pt x="2711" y="107"/>
                  </a:lnTo>
                  <a:lnTo>
                    <a:pt x="2662" y="120"/>
                  </a:lnTo>
                  <a:lnTo>
                    <a:pt x="2613" y="133"/>
                  </a:lnTo>
                  <a:lnTo>
                    <a:pt x="2564" y="147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3424320" y="1371600"/>
              <a:ext cx="1025280" cy="1200240"/>
            </a:xfrm>
            <a:custGeom>
              <a:avLst/>
              <a:gdLst/>
              <a:ahLst/>
              <a:rect l="l" t="t" r="r" b="b"/>
              <a:pathLst>
                <a:path w="3228" h="3776">
                  <a:moveTo>
                    <a:pt x="1287" y="2903"/>
                  </a:moveTo>
                  <a:lnTo>
                    <a:pt x="0" y="934"/>
                  </a:lnTo>
                  <a:lnTo>
                    <a:pt x="1430" y="0"/>
                  </a:lnTo>
                  <a:lnTo>
                    <a:pt x="2717" y="1970"/>
                  </a:lnTo>
                  <a:lnTo>
                    <a:pt x="3228" y="1636"/>
                  </a:lnTo>
                  <a:lnTo>
                    <a:pt x="2878" y="3776"/>
                  </a:lnTo>
                  <a:lnTo>
                    <a:pt x="777" y="3237"/>
                  </a:lnTo>
                  <a:lnTo>
                    <a:pt x="1287" y="2903"/>
                  </a:lnTo>
                  <a:close/>
                </a:path>
              </a:pathLst>
            </a:custGeom>
            <a:solidFill>
              <a:srgbClr val="dc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3424320" y="1371600"/>
              <a:ext cx="1025280" cy="1200240"/>
            </a:xfrm>
            <a:custGeom>
              <a:avLst/>
              <a:gdLst/>
              <a:ahLst/>
              <a:rect l="l" t="t" r="r" b="b"/>
              <a:pathLst>
                <a:path w="3228" h="3776">
                  <a:moveTo>
                    <a:pt x="1287" y="2903"/>
                  </a:moveTo>
                  <a:lnTo>
                    <a:pt x="0" y="934"/>
                  </a:lnTo>
                  <a:lnTo>
                    <a:pt x="1430" y="0"/>
                  </a:lnTo>
                  <a:lnTo>
                    <a:pt x="2717" y="1970"/>
                  </a:lnTo>
                  <a:lnTo>
                    <a:pt x="3228" y="1636"/>
                  </a:lnTo>
                  <a:lnTo>
                    <a:pt x="2878" y="3776"/>
                  </a:lnTo>
                  <a:lnTo>
                    <a:pt x="777" y="3237"/>
                  </a:lnTo>
                  <a:lnTo>
                    <a:pt x="1287" y="2903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3005280" y="4452840"/>
              <a:ext cx="3240000" cy="1486080"/>
            </a:xfrm>
            <a:custGeom>
              <a:avLst/>
              <a:gdLst/>
              <a:ahLst/>
              <a:rect l="l" t="t" r="r" b="b"/>
              <a:pathLst>
                <a:path w="10201" h="4680">
                  <a:moveTo>
                    <a:pt x="0" y="2554"/>
                  </a:moveTo>
                  <a:lnTo>
                    <a:pt x="555" y="457"/>
                  </a:lnTo>
                  <a:lnTo>
                    <a:pt x="2593" y="1197"/>
                  </a:lnTo>
                  <a:lnTo>
                    <a:pt x="2530" y="1231"/>
                  </a:lnTo>
                  <a:lnTo>
                    <a:pt x="2465" y="1264"/>
                  </a:lnTo>
                  <a:lnTo>
                    <a:pt x="2401" y="1298"/>
                  </a:lnTo>
                  <a:lnTo>
                    <a:pt x="2336" y="1331"/>
                  </a:lnTo>
                  <a:lnTo>
                    <a:pt x="2272" y="1365"/>
                  </a:lnTo>
                  <a:lnTo>
                    <a:pt x="2208" y="1398"/>
                  </a:lnTo>
                  <a:lnTo>
                    <a:pt x="2144" y="1433"/>
                  </a:lnTo>
                  <a:lnTo>
                    <a:pt x="2079" y="1466"/>
                  </a:lnTo>
                  <a:lnTo>
                    <a:pt x="2130" y="1533"/>
                  </a:lnTo>
                  <a:lnTo>
                    <a:pt x="2181" y="1599"/>
                  </a:lnTo>
                  <a:lnTo>
                    <a:pt x="2234" y="1664"/>
                  </a:lnTo>
                  <a:lnTo>
                    <a:pt x="2289" y="1727"/>
                  </a:lnTo>
                  <a:lnTo>
                    <a:pt x="2344" y="1790"/>
                  </a:lnTo>
                  <a:lnTo>
                    <a:pt x="2401" y="1851"/>
                  </a:lnTo>
                  <a:lnTo>
                    <a:pt x="2460" y="1910"/>
                  </a:lnTo>
                  <a:lnTo>
                    <a:pt x="2521" y="1968"/>
                  </a:lnTo>
                  <a:lnTo>
                    <a:pt x="2583" y="2025"/>
                  </a:lnTo>
                  <a:lnTo>
                    <a:pt x="2645" y="2082"/>
                  </a:lnTo>
                  <a:lnTo>
                    <a:pt x="2710" y="2136"/>
                  </a:lnTo>
                  <a:lnTo>
                    <a:pt x="2776" y="2189"/>
                  </a:lnTo>
                  <a:lnTo>
                    <a:pt x="2843" y="2239"/>
                  </a:lnTo>
                  <a:lnTo>
                    <a:pt x="2911" y="2289"/>
                  </a:lnTo>
                  <a:lnTo>
                    <a:pt x="2981" y="2337"/>
                  </a:lnTo>
                  <a:lnTo>
                    <a:pt x="3051" y="2383"/>
                  </a:lnTo>
                  <a:lnTo>
                    <a:pt x="3124" y="2428"/>
                  </a:lnTo>
                  <a:lnTo>
                    <a:pt x="3197" y="2472"/>
                  </a:lnTo>
                  <a:lnTo>
                    <a:pt x="3272" y="2514"/>
                  </a:lnTo>
                  <a:lnTo>
                    <a:pt x="3347" y="2553"/>
                  </a:lnTo>
                  <a:lnTo>
                    <a:pt x="3424" y="2591"/>
                  </a:lnTo>
                  <a:lnTo>
                    <a:pt x="3502" y="2627"/>
                  </a:lnTo>
                  <a:lnTo>
                    <a:pt x="3581" y="2662"/>
                  </a:lnTo>
                  <a:lnTo>
                    <a:pt x="3662" y="2695"/>
                  </a:lnTo>
                  <a:lnTo>
                    <a:pt x="3743" y="2725"/>
                  </a:lnTo>
                  <a:lnTo>
                    <a:pt x="3825" y="2754"/>
                  </a:lnTo>
                  <a:lnTo>
                    <a:pt x="3908" y="2781"/>
                  </a:lnTo>
                  <a:lnTo>
                    <a:pt x="3992" y="2806"/>
                  </a:lnTo>
                  <a:lnTo>
                    <a:pt x="4078" y="2830"/>
                  </a:lnTo>
                  <a:lnTo>
                    <a:pt x="4164" y="2851"/>
                  </a:lnTo>
                  <a:lnTo>
                    <a:pt x="4251" y="2870"/>
                  </a:lnTo>
                  <a:lnTo>
                    <a:pt x="4339" y="2886"/>
                  </a:lnTo>
                  <a:lnTo>
                    <a:pt x="4521" y="2914"/>
                  </a:lnTo>
                  <a:lnTo>
                    <a:pt x="4701" y="2933"/>
                  </a:lnTo>
                  <a:lnTo>
                    <a:pt x="4881" y="2941"/>
                  </a:lnTo>
                  <a:lnTo>
                    <a:pt x="5060" y="2941"/>
                  </a:lnTo>
                  <a:lnTo>
                    <a:pt x="5236" y="2933"/>
                  </a:lnTo>
                  <a:lnTo>
                    <a:pt x="5412" y="2915"/>
                  </a:lnTo>
                  <a:lnTo>
                    <a:pt x="5585" y="2889"/>
                  </a:lnTo>
                  <a:lnTo>
                    <a:pt x="5756" y="2855"/>
                  </a:lnTo>
                  <a:lnTo>
                    <a:pt x="5924" y="2812"/>
                  </a:lnTo>
                  <a:lnTo>
                    <a:pt x="6090" y="2762"/>
                  </a:lnTo>
                  <a:lnTo>
                    <a:pt x="6253" y="2703"/>
                  </a:lnTo>
                  <a:lnTo>
                    <a:pt x="6412" y="2637"/>
                  </a:lnTo>
                  <a:lnTo>
                    <a:pt x="6567" y="2563"/>
                  </a:lnTo>
                  <a:lnTo>
                    <a:pt x="6719" y="2483"/>
                  </a:lnTo>
                  <a:lnTo>
                    <a:pt x="6866" y="2395"/>
                  </a:lnTo>
                  <a:lnTo>
                    <a:pt x="7010" y="2301"/>
                  </a:lnTo>
                  <a:lnTo>
                    <a:pt x="7148" y="2199"/>
                  </a:lnTo>
                  <a:lnTo>
                    <a:pt x="7282" y="2091"/>
                  </a:lnTo>
                  <a:lnTo>
                    <a:pt x="7411" y="1977"/>
                  </a:lnTo>
                  <a:lnTo>
                    <a:pt x="7534" y="1857"/>
                  </a:lnTo>
                  <a:lnTo>
                    <a:pt x="7651" y="1731"/>
                  </a:lnTo>
                  <a:lnTo>
                    <a:pt x="7762" y="1599"/>
                  </a:lnTo>
                  <a:lnTo>
                    <a:pt x="7868" y="1461"/>
                  </a:lnTo>
                  <a:lnTo>
                    <a:pt x="7966" y="1318"/>
                  </a:lnTo>
                  <a:lnTo>
                    <a:pt x="8058" y="1169"/>
                  </a:lnTo>
                  <a:lnTo>
                    <a:pt x="8142" y="1017"/>
                  </a:lnTo>
                  <a:lnTo>
                    <a:pt x="8220" y="858"/>
                  </a:lnTo>
                  <a:lnTo>
                    <a:pt x="8290" y="695"/>
                  </a:lnTo>
                  <a:lnTo>
                    <a:pt x="8352" y="528"/>
                  </a:lnTo>
                  <a:lnTo>
                    <a:pt x="8406" y="356"/>
                  </a:lnTo>
                  <a:lnTo>
                    <a:pt x="8451" y="181"/>
                  </a:lnTo>
                  <a:lnTo>
                    <a:pt x="8489" y="0"/>
                  </a:lnTo>
                  <a:lnTo>
                    <a:pt x="10201" y="308"/>
                  </a:lnTo>
                  <a:lnTo>
                    <a:pt x="10146" y="575"/>
                  </a:lnTo>
                  <a:lnTo>
                    <a:pt x="10077" y="836"/>
                  </a:lnTo>
                  <a:lnTo>
                    <a:pt x="9998" y="1091"/>
                  </a:lnTo>
                  <a:lnTo>
                    <a:pt x="9905" y="1340"/>
                  </a:lnTo>
                  <a:lnTo>
                    <a:pt x="9801" y="1583"/>
                  </a:lnTo>
                  <a:lnTo>
                    <a:pt x="9686" y="1817"/>
                  </a:lnTo>
                  <a:lnTo>
                    <a:pt x="9560" y="2045"/>
                  </a:lnTo>
                  <a:lnTo>
                    <a:pt x="9424" y="2265"/>
                  </a:lnTo>
                  <a:lnTo>
                    <a:pt x="9277" y="2478"/>
                  </a:lnTo>
                  <a:lnTo>
                    <a:pt x="9121" y="2683"/>
                  </a:lnTo>
                  <a:lnTo>
                    <a:pt x="8955" y="2879"/>
                  </a:lnTo>
                  <a:lnTo>
                    <a:pt x="8781" y="3067"/>
                  </a:lnTo>
                  <a:lnTo>
                    <a:pt x="8598" y="3246"/>
                  </a:lnTo>
                  <a:lnTo>
                    <a:pt x="8407" y="3415"/>
                  </a:lnTo>
                  <a:lnTo>
                    <a:pt x="8208" y="3575"/>
                  </a:lnTo>
                  <a:lnTo>
                    <a:pt x="8002" y="3726"/>
                  </a:lnTo>
                  <a:lnTo>
                    <a:pt x="7789" y="3867"/>
                  </a:lnTo>
                  <a:lnTo>
                    <a:pt x="7570" y="3998"/>
                  </a:lnTo>
                  <a:lnTo>
                    <a:pt x="7344" y="4117"/>
                  </a:lnTo>
                  <a:lnTo>
                    <a:pt x="7113" y="4227"/>
                  </a:lnTo>
                  <a:lnTo>
                    <a:pt x="6876" y="4325"/>
                  </a:lnTo>
                  <a:lnTo>
                    <a:pt x="6635" y="4411"/>
                  </a:lnTo>
                  <a:lnTo>
                    <a:pt x="6389" y="4487"/>
                  </a:lnTo>
                  <a:lnTo>
                    <a:pt x="6138" y="4551"/>
                  </a:lnTo>
                  <a:lnTo>
                    <a:pt x="5884" y="4601"/>
                  </a:lnTo>
                  <a:lnTo>
                    <a:pt x="5626" y="4640"/>
                  </a:lnTo>
                  <a:lnTo>
                    <a:pt x="5366" y="4666"/>
                  </a:lnTo>
                  <a:lnTo>
                    <a:pt x="5103" y="4680"/>
                  </a:lnTo>
                  <a:lnTo>
                    <a:pt x="4837" y="4680"/>
                  </a:lnTo>
                  <a:lnTo>
                    <a:pt x="4571" y="4666"/>
                  </a:lnTo>
                  <a:lnTo>
                    <a:pt x="4301" y="4639"/>
                  </a:lnTo>
                  <a:lnTo>
                    <a:pt x="4031" y="4598"/>
                  </a:lnTo>
                  <a:lnTo>
                    <a:pt x="3893" y="4571"/>
                  </a:lnTo>
                  <a:lnTo>
                    <a:pt x="3755" y="4541"/>
                  </a:lnTo>
                  <a:lnTo>
                    <a:pt x="3619" y="4506"/>
                  </a:lnTo>
                  <a:lnTo>
                    <a:pt x="3485" y="4470"/>
                  </a:lnTo>
                  <a:lnTo>
                    <a:pt x="3352" y="4428"/>
                  </a:lnTo>
                  <a:lnTo>
                    <a:pt x="3221" y="4385"/>
                  </a:lnTo>
                  <a:lnTo>
                    <a:pt x="3091" y="4338"/>
                  </a:lnTo>
                  <a:lnTo>
                    <a:pt x="2964" y="4288"/>
                  </a:lnTo>
                  <a:lnTo>
                    <a:pt x="2838" y="4235"/>
                  </a:lnTo>
                  <a:lnTo>
                    <a:pt x="2713" y="4178"/>
                  </a:lnTo>
                  <a:lnTo>
                    <a:pt x="2591" y="4119"/>
                  </a:lnTo>
                  <a:lnTo>
                    <a:pt x="2471" y="4057"/>
                  </a:lnTo>
                  <a:lnTo>
                    <a:pt x="2353" y="3991"/>
                  </a:lnTo>
                  <a:lnTo>
                    <a:pt x="2237" y="3924"/>
                  </a:lnTo>
                  <a:lnTo>
                    <a:pt x="2123" y="3853"/>
                  </a:lnTo>
                  <a:lnTo>
                    <a:pt x="2011" y="3779"/>
                  </a:lnTo>
                  <a:lnTo>
                    <a:pt x="1901" y="3703"/>
                  </a:lnTo>
                  <a:lnTo>
                    <a:pt x="1793" y="3624"/>
                  </a:lnTo>
                  <a:lnTo>
                    <a:pt x="1687" y="3543"/>
                  </a:lnTo>
                  <a:lnTo>
                    <a:pt x="1584" y="3459"/>
                  </a:lnTo>
                  <a:lnTo>
                    <a:pt x="1483" y="3373"/>
                  </a:lnTo>
                  <a:lnTo>
                    <a:pt x="1383" y="3284"/>
                  </a:lnTo>
                  <a:lnTo>
                    <a:pt x="1287" y="3193"/>
                  </a:lnTo>
                  <a:lnTo>
                    <a:pt x="1193" y="3100"/>
                  </a:lnTo>
                  <a:lnTo>
                    <a:pt x="1101" y="3004"/>
                  </a:lnTo>
                  <a:lnTo>
                    <a:pt x="1012" y="2907"/>
                  </a:lnTo>
                  <a:lnTo>
                    <a:pt x="925" y="2806"/>
                  </a:lnTo>
                  <a:lnTo>
                    <a:pt x="841" y="2705"/>
                  </a:lnTo>
                  <a:lnTo>
                    <a:pt x="759" y="2601"/>
                  </a:lnTo>
                  <a:lnTo>
                    <a:pt x="680" y="2495"/>
                  </a:lnTo>
                  <a:lnTo>
                    <a:pt x="603" y="2387"/>
                  </a:lnTo>
                  <a:lnTo>
                    <a:pt x="530" y="2277"/>
                  </a:lnTo>
                  <a:lnTo>
                    <a:pt x="463" y="2312"/>
                  </a:lnTo>
                  <a:lnTo>
                    <a:pt x="397" y="2346"/>
                  </a:lnTo>
                  <a:lnTo>
                    <a:pt x="331" y="2381"/>
                  </a:lnTo>
                  <a:lnTo>
                    <a:pt x="265" y="2415"/>
                  </a:lnTo>
                  <a:lnTo>
                    <a:pt x="199" y="2450"/>
                  </a:lnTo>
                  <a:lnTo>
                    <a:pt x="133" y="2484"/>
                  </a:lnTo>
                  <a:lnTo>
                    <a:pt x="66" y="2519"/>
                  </a:lnTo>
                  <a:lnTo>
                    <a:pt x="0" y="2554"/>
                  </a:lnTo>
                  <a:close/>
                  <a:moveTo>
                    <a:pt x="2068" y="1471"/>
                  </a:moveTo>
                  <a:lnTo>
                    <a:pt x="2067" y="1473"/>
                  </a:lnTo>
                  <a:lnTo>
                    <a:pt x="2067" y="1473"/>
                  </a:lnTo>
                  <a:lnTo>
                    <a:pt x="2067" y="1473"/>
                  </a:lnTo>
                  <a:lnTo>
                    <a:pt x="2067" y="1473"/>
                  </a:lnTo>
                  <a:lnTo>
                    <a:pt x="2066" y="1473"/>
                  </a:lnTo>
                  <a:lnTo>
                    <a:pt x="2066" y="1473"/>
                  </a:lnTo>
                  <a:lnTo>
                    <a:pt x="2066" y="1473"/>
                  </a:lnTo>
                  <a:lnTo>
                    <a:pt x="2066" y="1473"/>
                  </a:lnTo>
                  <a:lnTo>
                    <a:pt x="2066" y="1473"/>
                  </a:lnTo>
                  <a:lnTo>
                    <a:pt x="2066" y="1473"/>
                  </a:lnTo>
                  <a:lnTo>
                    <a:pt x="2066" y="1473"/>
                  </a:lnTo>
                  <a:lnTo>
                    <a:pt x="2067" y="1473"/>
                  </a:lnTo>
                  <a:lnTo>
                    <a:pt x="2067" y="1473"/>
                  </a:lnTo>
                  <a:lnTo>
                    <a:pt x="2067" y="1473"/>
                  </a:lnTo>
                  <a:lnTo>
                    <a:pt x="2067" y="1473"/>
                  </a:lnTo>
                  <a:lnTo>
                    <a:pt x="2068" y="1471"/>
                  </a:lnTo>
                  <a:close/>
                </a:path>
              </a:pathLst>
            </a:custGeom>
            <a:solidFill>
              <a:srgbClr val="ee9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3005280" y="4452840"/>
              <a:ext cx="3240000" cy="1486080"/>
            </a:xfrm>
            <a:custGeom>
              <a:avLst/>
              <a:gdLst/>
              <a:ahLst/>
              <a:rect l="l" t="t" r="r" b="b"/>
              <a:pathLst>
                <a:path w="10201" h="4680">
                  <a:moveTo>
                    <a:pt x="0" y="2554"/>
                  </a:moveTo>
                  <a:lnTo>
                    <a:pt x="555" y="457"/>
                  </a:lnTo>
                  <a:lnTo>
                    <a:pt x="2593" y="1197"/>
                  </a:lnTo>
                  <a:lnTo>
                    <a:pt x="2530" y="1231"/>
                  </a:lnTo>
                  <a:lnTo>
                    <a:pt x="2465" y="1264"/>
                  </a:lnTo>
                  <a:lnTo>
                    <a:pt x="2401" y="1298"/>
                  </a:lnTo>
                  <a:lnTo>
                    <a:pt x="2336" y="1331"/>
                  </a:lnTo>
                  <a:lnTo>
                    <a:pt x="2272" y="1365"/>
                  </a:lnTo>
                  <a:lnTo>
                    <a:pt x="2208" y="1398"/>
                  </a:lnTo>
                  <a:lnTo>
                    <a:pt x="2144" y="1433"/>
                  </a:lnTo>
                  <a:lnTo>
                    <a:pt x="2079" y="1466"/>
                  </a:lnTo>
                  <a:lnTo>
                    <a:pt x="2130" y="1533"/>
                  </a:lnTo>
                  <a:lnTo>
                    <a:pt x="2181" y="1599"/>
                  </a:lnTo>
                  <a:lnTo>
                    <a:pt x="2234" y="1664"/>
                  </a:lnTo>
                  <a:lnTo>
                    <a:pt x="2289" y="1727"/>
                  </a:lnTo>
                  <a:lnTo>
                    <a:pt x="2344" y="1790"/>
                  </a:lnTo>
                  <a:lnTo>
                    <a:pt x="2401" y="1851"/>
                  </a:lnTo>
                  <a:lnTo>
                    <a:pt x="2460" y="1910"/>
                  </a:lnTo>
                  <a:lnTo>
                    <a:pt x="2521" y="1968"/>
                  </a:lnTo>
                  <a:lnTo>
                    <a:pt x="2583" y="2025"/>
                  </a:lnTo>
                  <a:lnTo>
                    <a:pt x="2645" y="2082"/>
                  </a:lnTo>
                  <a:lnTo>
                    <a:pt x="2710" y="2136"/>
                  </a:lnTo>
                  <a:lnTo>
                    <a:pt x="2776" y="2189"/>
                  </a:lnTo>
                  <a:lnTo>
                    <a:pt x="2843" y="2239"/>
                  </a:lnTo>
                  <a:lnTo>
                    <a:pt x="2911" y="2289"/>
                  </a:lnTo>
                  <a:lnTo>
                    <a:pt x="2981" y="2337"/>
                  </a:lnTo>
                  <a:lnTo>
                    <a:pt x="3051" y="2383"/>
                  </a:lnTo>
                  <a:lnTo>
                    <a:pt x="3124" y="2428"/>
                  </a:lnTo>
                  <a:lnTo>
                    <a:pt x="3197" y="2472"/>
                  </a:lnTo>
                  <a:lnTo>
                    <a:pt x="3272" y="2514"/>
                  </a:lnTo>
                  <a:lnTo>
                    <a:pt x="3347" y="2553"/>
                  </a:lnTo>
                  <a:lnTo>
                    <a:pt x="3424" y="2591"/>
                  </a:lnTo>
                  <a:lnTo>
                    <a:pt x="3502" y="2627"/>
                  </a:lnTo>
                  <a:lnTo>
                    <a:pt x="3581" y="2662"/>
                  </a:lnTo>
                  <a:lnTo>
                    <a:pt x="3662" y="2695"/>
                  </a:lnTo>
                  <a:lnTo>
                    <a:pt x="3743" y="2725"/>
                  </a:lnTo>
                  <a:lnTo>
                    <a:pt x="3825" y="2754"/>
                  </a:lnTo>
                  <a:lnTo>
                    <a:pt x="3908" y="2781"/>
                  </a:lnTo>
                  <a:lnTo>
                    <a:pt x="3992" y="2806"/>
                  </a:lnTo>
                  <a:lnTo>
                    <a:pt x="4078" y="2830"/>
                  </a:lnTo>
                  <a:lnTo>
                    <a:pt x="4164" y="2851"/>
                  </a:lnTo>
                  <a:lnTo>
                    <a:pt x="4251" y="2870"/>
                  </a:lnTo>
                  <a:lnTo>
                    <a:pt x="4339" y="2886"/>
                  </a:lnTo>
                  <a:lnTo>
                    <a:pt x="4521" y="2914"/>
                  </a:lnTo>
                  <a:lnTo>
                    <a:pt x="4701" y="2933"/>
                  </a:lnTo>
                  <a:lnTo>
                    <a:pt x="4881" y="2941"/>
                  </a:lnTo>
                  <a:lnTo>
                    <a:pt x="5060" y="2941"/>
                  </a:lnTo>
                  <a:lnTo>
                    <a:pt x="5236" y="2933"/>
                  </a:lnTo>
                  <a:lnTo>
                    <a:pt x="5412" y="2915"/>
                  </a:lnTo>
                  <a:lnTo>
                    <a:pt x="5585" y="2889"/>
                  </a:lnTo>
                  <a:lnTo>
                    <a:pt x="5756" y="2855"/>
                  </a:lnTo>
                  <a:lnTo>
                    <a:pt x="5924" y="2812"/>
                  </a:lnTo>
                  <a:lnTo>
                    <a:pt x="6090" y="2762"/>
                  </a:lnTo>
                  <a:lnTo>
                    <a:pt x="6253" y="2703"/>
                  </a:lnTo>
                  <a:lnTo>
                    <a:pt x="6412" y="2637"/>
                  </a:lnTo>
                  <a:lnTo>
                    <a:pt x="6567" y="2563"/>
                  </a:lnTo>
                  <a:lnTo>
                    <a:pt x="6719" y="2483"/>
                  </a:lnTo>
                  <a:lnTo>
                    <a:pt x="6866" y="2395"/>
                  </a:lnTo>
                  <a:lnTo>
                    <a:pt x="7010" y="2301"/>
                  </a:lnTo>
                  <a:lnTo>
                    <a:pt x="7148" y="2199"/>
                  </a:lnTo>
                  <a:lnTo>
                    <a:pt x="7282" y="2091"/>
                  </a:lnTo>
                  <a:lnTo>
                    <a:pt x="7411" y="1977"/>
                  </a:lnTo>
                  <a:lnTo>
                    <a:pt x="7534" y="1857"/>
                  </a:lnTo>
                  <a:lnTo>
                    <a:pt x="7651" y="1731"/>
                  </a:lnTo>
                  <a:lnTo>
                    <a:pt x="7762" y="1599"/>
                  </a:lnTo>
                  <a:lnTo>
                    <a:pt x="7868" y="1461"/>
                  </a:lnTo>
                  <a:lnTo>
                    <a:pt x="7966" y="1318"/>
                  </a:lnTo>
                  <a:lnTo>
                    <a:pt x="8058" y="1169"/>
                  </a:lnTo>
                  <a:lnTo>
                    <a:pt x="8142" y="1017"/>
                  </a:lnTo>
                  <a:lnTo>
                    <a:pt x="8220" y="858"/>
                  </a:lnTo>
                  <a:lnTo>
                    <a:pt x="8290" y="695"/>
                  </a:lnTo>
                  <a:lnTo>
                    <a:pt x="8352" y="528"/>
                  </a:lnTo>
                  <a:lnTo>
                    <a:pt x="8406" y="356"/>
                  </a:lnTo>
                  <a:lnTo>
                    <a:pt x="8451" y="181"/>
                  </a:lnTo>
                  <a:lnTo>
                    <a:pt x="8489" y="0"/>
                  </a:lnTo>
                  <a:lnTo>
                    <a:pt x="10201" y="308"/>
                  </a:lnTo>
                  <a:lnTo>
                    <a:pt x="10146" y="575"/>
                  </a:lnTo>
                  <a:lnTo>
                    <a:pt x="10077" y="836"/>
                  </a:lnTo>
                  <a:lnTo>
                    <a:pt x="9998" y="1091"/>
                  </a:lnTo>
                  <a:lnTo>
                    <a:pt x="9905" y="1340"/>
                  </a:lnTo>
                  <a:lnTo>
                    <a:pt x="9801" y="1583"/>
                  </a:lnTo>
                  <a:lnTo>
                    <a:pt x="9686" y="1817"/>
                  </a:lnTo>
                  <a:lnTo>
                    <a:pt x="9560" y="2045"/>
                  </a:lnTo>
                  <a:lnTo>
                    <a:pt x="9424" y="2265"/>
                  </a:lnTo>
                  <a:lnTo>
                    <a:pt x="9277" y="2478"/>
                  </a:lnTo>
                  <a:lnTo>
                    <a:pt x="9121" y="2683"/>
                  </a:lnTo>
                  <a:lnTo>
                    <a:pt x="8955" y="2879"/>
                  </a:lnTo>
                  <a:lnTo>
                    <a:pt x="8781" y="3067"/>
                  </a:lnTo>
                  <a:lnTo>
                    <a:pt x="8598" y="3246"/>
                  </a:lnTo>
                  <a:lnTo>
                    <a:pt x="8407" y="3415"/>
                  </a:lnTo>
                  <a:lnTo>
                    <a:pt x="8208" y="3575"/>
                  </a:lnTo>
                  <a:lnTo>
                    <a:pt x="8002" y="3726"/>
                  </a:lnTo>
                  <a:lnTo>
                    <a:pt x="7789" y="3867"/>
                  </a:lnTo>
                  <a:lnTo>
                    <a:pt x="7570" y="3998"/>
                  </a:lnTo>
                  <a:lnTo>
                    <a:pt x="7344" y="4117"/>
                  </a:lnTo>
                  <a:lnTo>
                    <a:pt x="7113" y="4227"/>
                  </a:lnTo>
                  <a:lnTo>
                    <a:pt x="6876" y="4325"/>
                  </a:lnTo>
                  <a:lnTo>
                    <a:pt x="6635" y="4411"/>
                  </a:lnTo>
                  <a:lnTo>
                    <a:pt x="6389" y="4487"/>
                  </a:lnTo>
                  <a:lnTo>
                    <a:pt x="6138" y="4551"/>
                  </a:lnTo>
                  <a:lnTo>
                    <a:pt x="5884" y="4601"/>
                  </a:lnTo>
                  <a:lnTo>
                    <a:pt x="5626" y="4640"/>
                  </a:lnTo>
                  <a:lnTo>
                    <a:pt x="5366" y="4666"/>
                  </a:lnTo>
                  <a:lnTo>
                    <a:pt x="5103" y="4680"/>
                  </a:lnTo>
                  <a:lnTo>
                    <a:pt x="4837" y="4680"/>
                  </a:lnTo>
                  <a:lnTo>
                    <a:pt x="4571" y="4666"/>
                  </a:lnTo>
                  <a:lnTo>
                    <a:pt x="4301" y="4639"/>
                  </a:lnTo>
                  <a:lnTo>
                    <a:pt x="4031" y="4598"/>
                  </a:lnTo>
                  <a:lnTo>
                    <a:pt x="3893" y="4571"/>
                  </a:lnTo>
                  <a:lnTo>
                    <a:pt x="3755" y="4541"/>
                  </a:lnTo>
                  <a:lnTo>
                    <a:pt x="3619" y="4506"/>
                  </a:lnTo>
                  <a:lnTo>
                    <a:pt x="3485" y="4470"/>
                  </a:lnTo>
                  <a:lnTo>
                    <a:pt x="3352" y="4428"/>
                  </a:lnTo>
                  <a:lnTo>
                    <a:pt x="3221" y="4385"/>
                  </a:lnTo>
                  <a:lnTo>
                    <a:pt x="3091" y="4338"/>
                  </a:lnTo>
                  <a:lnTo>
                    <a:pt x="2964" y="4288"/>
                  </a:lnTo>
                  <a:lnTo>
                    <a:pt x="2838" y="4235"/>
                  </a:lnTo>
                  <a:lnTo>
                    <a:pt x="2713" y="4178"/>
                  </a:lnTo>
                  <a:lnTo>
                    <a:pt x="2591" y="4119"/>
                  </a:lnTo>
                  <a:lnTo>
                    <a:pt x="2471" y="4057"/>
                  </a:lnTo>
                  <a:lnTo>
                    <a:pt x="2353" y="3991"/>
                  </a:lnTo>
                  <a:lnTo>
                    <a:pt x="2237" y="3924"/>
                  </a:lnTo>
                  <a:lnTo>
                    <a:pt x="2123" y="3853"/>
                  </a:lnTo>
                  <a:lnTo>
                    <a:pt x="2011" y="3779"/>
                  </a:lnTo>
                  <a:lnTo>
                    <a:pt x="1901" y="3703"/>
                  </a:lnTo>
                  <a:lnTo>
                    <a:pt x="1793" y="3624"/>
                  </a:lnTo>
                  <a:lnTo>
                    <a:pt x="1687" y="3543"/>
                  </a:lnTo>
                  <a:lnTo>
                    <a:pt x="1584" y="3459"/>
                  </a:lnTo>
                  <a:lnTo>
                    <a:pt x="1483" y="3373"/>
                  </a:lnTo>
                  <a:lnTo>
                    <a:pt x="1383" y="3284"/>
                  </a:lnTo>
                  <a:lnTo>
                    <a:pt x="1287" y="3193"/>
                  </a:lnTo>
                  <a:lnTo>
                    <a:pt x="1193" y="3100"/>
                  </a:lnTo>
                  <a:lnTo>
                    <a:pt x="1101" y="3004"/>
                  </a:lnTo>
                  <a:lnTo>
                    <a:pt x="1012" y="2907"/>
                  </a:lnTo>
                  <a:lnTo>
                    <a:pt x="925" y="2806"/>
                  </a:lnTo>
                  <a:lnTo>
                    <a:pt x="841" y="2705"/>
                  </a:lnTo>
                  <a:lnTo>
                    <a:pt x="759" y="2601"/>
                  </a:lnTo>
                  <a:lnTo>
                    <a:pt x="680" y="2495"/>
                  </a:lnTo>
                  <a:lnTo>
                    <a:pt x="603" y="2387"/>
                  </a:lnTo>
                  <a:lnTo>
                    <a:pt x="530" y="2277"/>
                  </a:lnTo>
                  <a:lnTo>
                    <a:pt x="463" y="2312"/>
                  </a:lnTo>
                  <a:lnTo>
                    <a:pt x="397" y="2346"/>
                  </a:lnTo>
                  <a:lnTo>
                    <a:pt x="331" y="2381"/>
                  </a:lnTo>
                  <a:lnTo>
                    <a:pt x="265" y="2415"/>
                  </a:lnTo>
                  <a:lnTo>
                    <a:pt x="199" y="2450"/>
                  </a:lnTo>
                  <a:lnTo>
                    <a:pt x="133" y="2484"/>
                  </a:lnTo>
                  <a:lnTo>
                    <a:pt x="66" y="2519"/>
                  </a:lnTo>
                  <a:lnTo>
                    <a:pt x="0" y="2554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3662280" y="4919760"/>
              <a:ext cx="1800" cy="14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0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 rot="3360000">
              <a:off x="3728160" y="1611720"/>
              <a:ext cx="153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ffffff"/>
                  </a:solidFill>
                  <a:latin typeface="Geometr231 Hv BT"/>
                </a:rPr>
                <a:t>C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 rot="3360000">
              <a:off x="3805560" y="1725480"/>
              <a:ext cx="1501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ffffff"/>
                  </a:solidFill>
                  <a:latin typeface="Geometr231 Hv BT"/>
                </a:rPr>
                <a:t>R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 rot="3360000">
              <a:off x="3896280" y="1816560"/>
              <a:ext cx="831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ffffff"/>
                  </a:solidFill>
                  <a:latin typeface="Geometr231 Hv BT"/>
                </a:rPr>
                <a:t>I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 rot="3360000">
              <a:off x="3923640" y="1893960"/>
              <a:ext cx="1332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ffffff"/>
                  </a:solidFill>
                  <a:latin typeface="Geometr231 Hv BT"/>
                </a:rPr>
                <a:t>S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 rot="3360000">
              <a:off x="3996360" y="1969200"/>
              <a:ext cx="831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ffffff"/>
                  </a:solidFill>
                  <a:latin typeface="Geometr231 Hv BT"/>
                </a:rPr>
                <a:t>I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 rot="3360000">
              <a:off x="4021920" y="2044440"/>
              <a:ext cx="1332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ffffff"/>
                  </a:solidFill>
                  <a:latin typeface="Geometr231 Hv BT"/>
                </a:rPr>
                <a:t>S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4583160" y="2565360"/>
              <a:ext cx="1687320" cy="3060720"/>
            </a:xfrm>
            <a:custGeom>
              <a:avLst/>
              <a:gdLst/>
              <a:ahLst/>
              <a:rect l="l" t="t" r="r" b="b"/>
              <a:pathLst>
                <a:path w="5314" h="9639">
                  <a:moveTo>
                    <a:pt x="4014" y="9639"/>
                  </a:moveTo>
                  <a:lnTo>
                    <a:pt x="1852" y="9464"/>
                  </a:lnTo>
                  <a:lnTo>
                    <a:pt x="2219" y="7327"/>
                  </a:lnTo>
                  <a:lnTo>
                    <a:pt x="2264" y="7385"/>
                  </a:lnTo>
                  <a:lnTo>
                    <a:pt x="2308" y="7443"/>
                  </a:lnTo>
                  <a:lnTo>
                    <a:pt x="2353" y="7500"/>
                  </a:lnTo>
                  <a:lnTo>
                    <a:pt x="2398" y="7557"/>
                  </a:lnTo>
                  <a:lnTo>
                    <a:pt x="2442" y="7614"/>
                  </a:lnTo>
                  <a:lnTo>
                    <a:pt x="2486" y="7672"/>
                  </a:lnTo>
                  <a:lnTo>
                    <a:pt x="2531" y="7729"/>
                  </a:lnTo>
                  <a:lnTo>
                    <a:pt x="2575" y="7786"/>
                  </a:lnTo>
                  <a:lnTo>
                    <a:pt x="2632" y="7724"/>
                  </a:lnTo>
                  <a:lnTo>
                    <a:pt x="2688" y="7663"/>
                  </a:lnTo>
                  <a:lnTo>
                    <a:pt x="2742" y="7599"/>
                  </a:lnTo>
                  <a:lnTo>
                    <a:pt x="2795" y="7534"/>
                  </a:lnTo>
                  <a:lnTo>
                    <a:pt x="2847" y="7469"/>
                  </a:lnTo>
                  <a:lnTo>
                    <a:pt x="2897" y="7400"/>
                  </a:lnTo>
                  <a:lnTo>
                    <a:pt x="2946" y="7332"/>
                  </a:lnTo>
                  <a:lnTo>
                    <a:pt x="2992" y="7263"/>
                  </a:lnTo>
                  <a:lnTo>
                    <a:pt x="3037" y="7192"/>
                  </a:lnTo>
                  <a:lnTo>
                    <a:pt x="3082" y="7120"/>
                  </a:lnTo>
                  <a:lnTo>
                    <a:pt x="3123" y="7047"/>
                  </a:lnTo>
                  <a:lnTo>
                    <a:pt x="3164" y="6973"/>
                  </a:lnTo>
                  <a:lnTo>
                    <a:pt x="3202" y="6898"/>
                  </a:lnTo>
                  <a:lnTo>
                    <a:pt x="3238" y="6822"/>
                  </a:lnTo>
                  <a:lnTo>
                    <a:pt x="3274" y="6745"/>
                  </a:lnTo>
                  <a:lnTo>
                    <a:pt x="3307" y="6667"/>
                  </a:lnTo>
                  <a:lnTo>
                    <a:pt x="3339" y="6588"/>
                  </a:lnTo>
                  <a:lnTo>
                    <a:pt x="3368" y="6508"/>
                  </a:lnTo>
                  <a:lnTo>
                    <a:pt x="3396" y="6427"/>
                  </a:lnTo>
                  <a:lnTo>
                    <a:pt x="3422" y="6346"/>
                  </a:lnTo>
                  <a:lnTo>
                    <a:pt x="3446" y="6264"/>
                  </a:lnTo>
                  <a:lnTo>
                    <a:pt x="3467" y="6181"/>
                  </a:lnTo>
                  <a:lnTo>
                    <a:pt x="3488" y="6097"/>
                  </a:lnTo>
                  <a:lnTo>
                    <a:pt x="3506" y="6013"/>
                  </a:lnTo>
                  <a:lnTo>
                    <a:pt x="3521" y="5927"/>
                  </a:lnTo>
                  <a:lnTo>
                    <a:pt x="3535" y="5841"/>
                  </a:lnTo>
                  <a:lnTo>
                    <a:pt x="3547" y="5755"/>
                  </a:lnTo>
                  <a:lnTo>
                    <a:pt x="3557" y="5667"/>
                  </a:lnTo>
                  <a:lnTo>
                    <a:pt x="3565" y="5579"/>
                  </a:lnTo>
                  <a:lnTo>
                    <a:pt x="3571" y="5490"/>
                  </a:lnTo>
                  <a:lnTo>
                    <a:pt x="3574" y="5401"/>
                  </a:lnTo>
                  <a:lnTo>
                    <a:pt x="3575" y="5312"/>
                  </a:lnTo>
                  <a:lnTo>
                    <a:pt x="3570" y="5128"/>
                  </a:lnTo>
                  <a:lnTo>
                    <a:pt x="3557" y="4947"/>
                  </a:lnTo>
                  <a:lnTo>
                    <a:pt x="3533" y="4769"/>
                  </a:lnTo>
                  <a:lnTo>
                    <a:pt x="3502" y="4592"/>
                  </a:lnTo>
                  <a:lnTo>
                    <a:pt x="3462" y="4421"/>
                  </a:lnTo>
                  <a:lnTo>
                    <a:pt x="3413" y="4251"/>
                  </a:lnTo>
                  <a:lnTo>
                    <a:pt x="3357" y="4085"/>
                  </a:lnTo>
                  <a:lnTo>
                    <a:pt x="3293" y="3923"/>
                  </a:lnTo>
                  <a:lnTo>
                    <a:pt x="3222" y="3765"/>
                  </a:lnTo>
                  <a:lnTo>
                    <a:pt x="3142" y="3611"/>
                  </a:lnTo>
                  <a:lnTo>
                    <a:pt x="3057" y="3461"/>
                  </a:lnTo>
                  <a:lnTo>
                    <a:pt x="2963" y="3316"/>
                  </a:lnTo>
                  <a:lnTo>
                    <a:pt x="2863" y="3176"/>
                  </a:lnTo>
                  <a:lnTo>
                    <a:pt x="2758" y="3041"/>
                  </a:lnTo>
                  <a:lnTo>
                    <a:pt x="2644" y="2911"/>
                  </a:lnTo>
                  <a:lnTo>
                    <a:pt x="2526" y="2787"/>
                  </a:lnTo>
                  <a:lnTo>
                    <a:pt x="2402" y="2668"/>
                  </a:lnTo>
                  <a:lnTo>
                    <a:pt x="2272" y="2556"/>
                  </a:lnTo>
                  <a:lnTo>
                    <a:pt x="2137" y="2450"/>
                  </a:lnTo>
                  <a:lnTo>
                    <a:pt x="1997" y="2350"/>
                  </a:lnTo>
                  <a:lnTo>
                    <a:pt x="1852" y="2256"/>
                  </a:lnTo>
                  <a:lnTo>
                    <a:pt x="1702" y="2171"/>
                  </a:lnTo>
                  <a:lnTo>
                    <a:pt x="1547" y="2091"/>
                  </a:lnTo>
                  <a:lnTo>
                    <a:pt x="1390" y="2020"/>
                  </a:lnTo>
                  <a:lnTo>
                    <a:pt x="1228" y="1956"/>
                  </a:lnTo>
                  <a:lnTo>
                    <a:pt x="1061" y="1899"/>
                  </a:lnTo>
                  <a:lnTo>
                    <a:pt x="892" y="1851"/>
                  </a:lnTo>
                  <a:lnTo>
                    <a:pt x="720" y="1811"/>
                  </a:lnTo>
                  <a:lnTo>
                    <a:pt x="544" y="1779"/>
                  </a:lnTo>
                  <a:lnTo>
                    <a:pt x="365" y="1756"/>
                  </a:lnTo>
                  <a:lnTo>
                    <a:pt x="184" y="1743"/>
                  </a:lnTo>
                  <a:lnTo>
                    <a:pt x="0" y="1738"/>
                  </a:lnTo>
                  <a:lnTo>
                    <a:pt x="0" y="0"/>
                  </a:lnTo>
                  <a:lnTo>
                    <a:pt x="274" y="7"/>
                  </a:lnTo>
                  <a:lnTo>
                    <a:pt x="543" y="27"/>
                  </a:lnTo>
                  <a:lnTo>
                    <a:pt x="807" y="61"/>
                  </a:lnTo>
                  <a:lnTo>
                    <a:pt x="1069" y="108"/>
                  </a:lnTo>
                  <a:lnTo>
                    <a:pt x="1326" y="168"/>
                  </a:lnTo>
                  <a:lnTo>
                    <a:pt x="1578" y="239"/>
                  </a:lnTo>
                  <a:lnTo>
                    <a:pt x="1824" y="323"/>
                  </a:lnTo>
                  <a:lnTo>
                    <a:pt x="2065" y="418"/>
                  </a:lnTo>
                  <a:lnTo>
                    <a:pt x="2301" y="525"/>
                  </a:lnTo>
                  <a:lnTo>
                    <a:pt x="2530" y="643"/>
                  </a:lnTo>
                  <a:lnTo>
                    <a:pt x="2752" y="770"/>
                  </a:lnTo>
                  <a:lnTo>
                    <a:pt x="2968" y="910"/>
                  </a:lnTo>
                  <a:lnTo>
                    <a:pt x="3177" y="1058"/>
                  </a:lnTo>
                  <a:lnTo>
                    <a:pt x="3377" y="1215"/>
                  </a:lnTo>
                  <a:lnTo>
                    <a:pt x="3570" y="1383"/>
                  </a:lnTo>
                  <a:lnTo>
                    <a:pt x="3755" y="1559"/>
                  </a:lnTo>
                  <a:lnTo>
                    <a:pt x="3931" y="1743"/>
                  </a:lnTo>
                  <a:lnTo>
                    <a:pt x="4098" y="1936"/>
                  </a:lnTo>
                  <a:lnTo>
                    <a:pt x="4256" y="2137"/>
                  </a:lnTo>
                  <a:lnTo>
                    <a:pt x="4404" y="2345"/>
                  </a:lnTo>
                  <a:lnTo>
                    <a:pt x="4542" y="2561"/>
                  </a:lnTo>
                  <a:lnTo>
                    <a:pt x="4671" y="2783"/>
                  </a:lnTo>
                  <a:lnTo>
                    <a:pt x="4789" y="3012"/>
                  </a:lnTo>
                  <a:lnTo>
                    <a:pt x="4896" y="3248"/>
                  </a:lnTo>
                  <a:lnTo>
                    <a:pt x="4991" y="3489"/>
                  </a:lnTo>
                  <a:lnTo>
                    <a:pt x="5074" y="3735"/>
                  </a:lnTo>
                  <a:lnTo>
                    <a:pt x="5146" y="3987"/>
                  </a:lnTo>
                  <a:lnTo>
                    <a:pt x="5206" y="4244"/>
                  </a:lnTo>
                  <a:lnTo>
                    <a:pt x="5252" y="4505"/>
                  </a:lnTo>
                  <a:lnTo>
                    <a:pt x="5287" y="4770"/>
                  </a:lnTo>
                  <a:lnTo>
                    <a:pt x="5307" y="5039"/>
                  </a:lnTo>
                  <a:lnTo>
                    <a:pt x="5314" y="5312"/>
                  </a:lnTo>
                  <a:lnTo>
                    <a:pt x="5312" y="5453"/>
                  </a:lnTo>
                  <a:lnTo>
                    <a:pt x="5306" y="5594"/>
                  </a:lnTo>
                  <a:lnTo>
                    <a:pt x="5298" y="5734"/>
                  </a:lnTo>
                  <a:lnTo>
                    <a:pt x="5285" y="5872"/>
                  </a:lnTo>
                  <a:lnTo>
                    <a:pt x="5268" y="6011"/>
                  </a:lnTo>
                  <a:lnTo>
                    <a:pt x="5248" y="6148"/>
                  </a:lnTo>
                  <a:lnTo>
                    <a:pt x="5224" y="6283"/>
                  </a:lnTo>
                  <a:lnTo>
                    <a:pt x="5198" y="6418"/>
                  </a:lnTo>
                  <a:lnTo>
                    <a:pt x="5168" y="6551"/>
                  </a:lnTo>
                  <a:lnTo>
                    <a:pt x="5134" y="6682"/>
                  </a:lnTo>
                  <a:lnTo>
                    <a:pt x="5098" y="6813"/>
                  </a:lnTo>
                  <a:lnTo>
                    <a:pt x="5057" y="6943"/>
                  </a:lnTo>
                  <a:lnTo>
                    <a:pt x="5013" y="7070"/>
                  </a:lnTo>
                  <a:lnTo>
                    <a:pt x="4967" y="7196"/>
                  </a:lnTo>
                  <a:lnTo>
                    <a:pt x="4918" y="7322"/>
                  </a:lnTo>
                  <a:lnTo>
                    <a:pt x="4865" y="7445"/>
                  </a:lnTo>
                  <a:lnTo>
                    <a:pt x="4810" y="7567"/>
                  </a:lnTo>
                  <a:lnTo>
                    <a:pt x="4751" y="7687"/>
                  </a:lnTo>
                  <a:lnTo>
                    <a:pt x="4689" y="7804"/>
                  </a:lnTo>
                  <a:lnTo>
                    <a:pt x="4626" y="7921"/>
                  </a:lnTo>
                  <a:lnTo>
                    <a:pt x="4559" y="8037"/>
                  </a:lnTo>
                  <a:lnTo>
                    <a:pt x="4488" y="8149"/>
                  </a:lnTo>
                  <a:lnTo>
                    <a:pt x="4416" y="8260"/>
                  </a:lnTo>
                  <a:lnTo>
                    <a:pt x="4340" y="8369"/>
                  </a:lnTo>
                  <a:lnTo>
                    <a:pt x="4263" y="8476"/>
                  </a:lnTo>
                  <a:lnTo>
                    <a:pt x="4183" y="8582"/>
                  </a:lnTo>
                  <a:lnTo>
                    <a:pt x="4099" y="8685"/>
                  </a:lnTo>
                  <a:lnTo>
                    <a:pt x="4014" y="8786"/>
                  </a:lnTo>
                  <a:lnTo>
                    <a:pt x="3927" y="8884"/>
                  </a:lnTo>
                  <a:lnTo>
                    <a:pt x="3836" y="8982"/>
                  </a:lnTo>
                  <a:lnTo>
                    <a:pt x="3743" y="9076"/>
                  </a:lnTo>
                  <a:lnTo>
                    <a:pt x="3648" y="9167"/>
                  </a:lnTo>
                  <a:lnTo>
                    <a:pt x="3694" y="9227"/>
                  </a:lnTo>
                  <a:lnTo>
                    <a:pt x="3740" y="9285"/>
                  </a:lnTo>
                  <a:lnTo>
                    <a:pt x="3785" y="9344"/>
                  </a:lnTo>
                  <a:lnTo>
                    <a:pt x="3831" y="9404"/>
                  </a:lnTo>
                  <a:lnTo>
                    <a:pt x="3877" y="9462"/>
                  </a:lnTo>
                  <a:lnTo>
                    <a:pt x="3922" y="9522"/>
                  </a:lnTo>
                  <a:lnTo>
                    <a:pt x="3969" y="9580"/>
                  </a:lnTo>
                  <a:lnTo>
                    <a:pt x="4014" y="9639"/>
                  </a:lnTo>
                  <a:close/>
                  <a:moveTo>
                    <a:pt x="2584" y="7796"/>
                  </a:moveTo>
                  <a:lnTo>
                    <a:pt x="2584" y="7797"/>
                  </a:lnTo>
                  <a:lnTo>
                    <a:pt x="2584" y="7797"/>
                  </a:lnTo>
                  <a:lnTo>
                    <a:pt x="2584" y="7797"/>
                  </a:lnTo>
                  <a:lnTo>
                    <a:pt x="2584" y="7797"/>
                  </a:lnTo>
                  <a:lnTo>
                    <a:pt x="2585" y="7797"/>
                  </a:lnTo>
                  <a:lnTo>
                    <a:pt x="2585" y="7798"/>
                  </a:lnTo>
                  <a:lnTo>
                    <a:pt x="2585" y="7798"/>
                  </a:lnTo>
                  <a:lnTo>
                    <a:pt x="2585" y="7798"/>
                  </a:lnTo>
                  <a:lnTo>
                    <a:pt x="2585" y="7798"/>
                  </a:lnTo>
                  <a:lnTo>
                    <a:pt x="2585" y="7798"/>
                  </a:lnTo>
                  <a:lnTo>
                    <a:pt x="2585" y="7797"/>
                  </a:lnTo>
                  <a:lnTo>
                    <a:pt x="2584" y="7797"/>
                  </a:lnTo>
                  <a:lnTo>
                    <a:pt x="2584" y="7797"/>
                  </a:lnTo>
                  <a:lnTo>
                    <a:pt x="2584" y="7797"/>
                  </a:lnTo>
                  <a:lnTo>
                    <a:pt x="2584" y="7797"/>
                  </a:lnTo>
                  <a:lnTo>
                    <a:pt x="2584" y="7796"/>
                  </a:lnTo>
                  <a:close/>
                </a:path>
              </a:pathLst>
            </a:custGeom>
            <a:solidFill>
              <a:srgbClr val="e87b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4583160" y="2565360"/>
              <a:ext cx="1687320" cy="3060720"/>
            </a:xfrm>
            <a:custGeom>
              <a:avLst/>
              <a:gdLst/>
              <a:ahLst/>
              <a:rect l="l" t="t" r="r" b="b"/>
              <a:pathLst>
                <a:path w="5314" h="9639">
                  <a:moveTo>
                    <a:pt x="4014" y="9639"/>
                  </a:moveTo>
                  <a:lnTo>
                    <a:pt x="1852" y="9464"/>
                  </a:lnTo>
                  <a:lnTo>
                    <a:pt x="2219" y="7327"/>
                  </a:lnTo>
                  <a:lnTo>
                    <a:pt x="2264" y="7385"/>
                  </a:lnTo>
                  <a:lnTo>
                    <a:pt x="2308" y="7443"/>
                  </a:lnTo>
                  <a:lnTo>
                    <a:pt x="2353" y="7500"/>
                  </a:lnTo>
                  <a:lnTo>
                    <a:pt x="2398" y="7557"/>
                  </a:lnTo>
                  <a:lnTo>
                    <a:pt x="2442" y="7614"/>
                  </a:lnTo>
                  <a:lnTo>
                    <a:pt x="2486" y="7672"/>
                  </a:lnTo>
                  <a:lnTo>
                    <a:pt x="2531" y="7729"/>
                  </a:lnTo>
                  <a:lnTo>
                    <a:pt x="2575" y="7786"/>
                  </a:lnTo>
                  <a:lnTo>
                    <a:pt x="2632" y="7724"/>
                  </a:lnTo>
                  <a:lnTo>
                    <a:pt x="2688" y="7663"/>
                  </a:lnTo>
                  <a:lnTo>
                    <a:pt x="2742" y="7599"/>
                  </a:lnTo>
                  <a:lnTo>
                    <a:pt x="2795" y="7534"/>
                  </a:lnTo>
                  <a:lnTo>
                    <a:pt x="2847" y="7469"/>
                  </a:lnTo>
                  <a:lnTo>
                    <a:pt x="2897" y="7400"/>
                  </a:lnTo>
                  <a:lnTo>
                    <a:pt x="2946" y="7332"/>
                  </a:lnTo>
                  <a:lnTo>
                    <a:pt x="2992" y="7263"/>
                  </a:lnTo>
                  <a:lnTo>
                    <a:pt x="3037" y="7192"/>
                  </a:lnTo>
                  <a:lnTo>
                    <a:pt x="3082" y="7120"/>
                  </a:lnTo>
                  <a:lnTo>
                    <a:pt x="3123" y="7047"/>
                  </a:lnTo>
                  <a:lnTo>
                    <a:pt x="3164" y="6973"/>
                  </a:lnTo>
                  <a:lnTo>
                    <a:pt x="3202" y="6898"/>
                  </a:lnTo>
                  <a:lnTo>
                    <a:pt x="3238" y="6822"/>
                  </a:lnTo>
                  <a:lnTo>
                    <a:pt x="3274" y="6745"/>
                  </a:lnTo>
                  <a:lnTo>
                    <a:pt x="3307" y="6667"/>
                  </a:lnTo>
                  <a:lnTo>
                    <a:pt x="3339" y="6588"/>
                  </a:lnTo>
                  <a:lnTo>
                    <a:pt x="3368" y="6508"/>
                  </a:lnTo>
                  <a:lnTo>
                    <a:pt x="3396" y="6427"/>
                  </a:lnTo>
                  <a:lnTo>
                    <a:pt x="3422" y="6346"/>
                  </a:lnTo>
                  <a:lnTo>
                    <a:pt x="3446" y="6264"/>
                  </a:lnTo>
                  <a:lnTo>
                    <a:pt x="3467" y="6181"/>
                  </a:lnTo>
                  <a:lnTo>
                    <a:pt x="3488" y="6097"/>
                  </a:lnTo>
                  <a:lnTo>
                    <a:pt x="3506" y="6013"/>
                  </a:lnTo>
                  <a:lnTo>
                    <a:pt x="3521" y="5927"/>
                  </a:lnTo>
                  <a:lnTo>
                    <a:pt x="3535" y="5841"/>
                  </a:lnTo>
                  <a:lnTo>
                    <a:pt x="3547" y="5755"/>
                  </a:lnTo>
                  <a:lnTo>
                    <a:pt x="3557" y="5667"/>
                  </a:lnTo>
                  <a:lnTo>
                    <a:pt x="3565" y="5579"/>
                  </a:lnTo>
                  <a:lnTo>
                    <a:pt x="3571" y="5490"/>
                  </a:lnTo>
                  <a:lnTo>
                    <a:pt x="3574" y="5401"/>
                  </a:lnTo>
                  <a:lnTo>
                    <a:pt x="3575" y="5312"/>
                  </a:lnTo>
                  <a:lnTo>
                    <a:pt x="3570" y="5128"/>
                  </a:lnTo>
                  <a:lnTo>
                    <a:pt x="3557" y="4947"/>
                  </a:lnTo>
                  <a:lnTo>
                    <a:pt x="3533" y="4769"/>
                  </a:lnTo>
                  <a:lnTo>
                    <a:pt x="3502" y="4592"/>
                  </a:lnTo>
                  <a:lnTo>
                    <a:pt x="3462" y="4421"/>
                  </a:lnTo>
                  <a:lnTo>
                    <a:pt x="3413" y="4251"/>
                  </a:lnTo>
                  <a:lnTo>
                    <a:pt x="3357" y="4085"/>
                  </a:lnTo>
                  <a:lnTo>
                    <a:pt x="3293" y="3923"/>
                  </a:lnTo>
                  <a:lnTo>
                    <a:pt x="3222" y="3765"/>
                  </a:lnTo>
                  <a:lnTo>
                    <a:pt x="3142" y="3611"/>
                  </a:lnTo>
                  <a:lnTo>
                    <a:pt x="3057" y="3461"/>
                  </a:lnTo>
                  <a:lnTo>
                    <a:pt x="2963" y="3316"/>
                  </a:lnTo>
                  <a:lnTo>
                    <a:pt x="2863" y="3176"/>
                  </a:lnTo>
                  <a:lnTo>
                    <a:pt x="2758" y="3041"/>
                  </a:lnTo>
                  <a:lnTo>
                    <a:pt x="2644" y="2911"/>
                  </a:lnTo>
                  <a:lnTo>
                    <a:pt x="2526" y="2787"/>
                  </a:lnTo>
                  <a:lnTo>
                    <a:pt x="2402" y="2668"/>
                  </a:lnTo>
                  <a:lnTo>
                    <a:pt x="2272" y="2556"/>
                  </a:lnTo>
                  <a:lnTo>
                    <a:pt x="2137" y="2450"/>
                  </a:lnTo>
                  <a:lnTo>
                    <a:pt x="1997" y="2350"/>
                  </a:lnTo>
                  <a:lnTo>
                    <a:pt x="1852" y="2256"/>
                  </a:lnTo>
                  <a:lnTo>
                    <a:pt x="1702" y="2171"/>
                  </a:lnTo>
                  <a:lnTo>
                    <a:pt x="1547" y="2091"/>
                  </a:lnTo>
                  <a:lnTo>
                    <a:pt x="1390" y="2020"/>
                  </a:lnTo>
                  <a:lnTo>
                    <a:pt x="1228" y="1956"/>
                  </a:lnTo>
                  <a:lnTo>
                    <a:pt x="1061" y="1899"/>
                  </a:lnTo>
                  <a:lnTo>
                    <a:pt x="892" y="1851"/>
                  </a:lnTo>
                  <a:lnTo>
                    <a:pt x="720" y="1811"/>
                  </a:lnTo>
                  <a:lnTo>
                    <a:pt x="544" y="1779"/>
                  </a:lnTo>
                  <a:lnTo>
                    <a:pt x="365" y="1756"/>
                  </a:lnTo>
                  <a:lnTo>
                    <a:pt x="184" y="1743"/>
                  </a:lnTo>
                  <a:lnTo>
                    <a:pt x="0" y="1738"/>
                  </a:lnTo>
                  <a:lnTo>
                    <a:pt x="0" y="0"/>
                  </a:lnTo>
                  <a:lnTo>
                    <a:pt x="274" y="7"/>
                  </a:lnTo>
                  <a:lnTo>
                    <a:pt x="543" y="27"/>
                  </a:lnTo>
                  <a:lnTo>
                    <a:pt x="807" y="61"/>
                  </a:lnTo>
                  <a:lnTo>
                    <a:pt x="1069" y="108"/>
                  </a:lnTo>
                  <a:lnTo>
                    <a:pt x="1326" y="168"/>
                  </a:lnTo>
                  <a:lnTo>
                    <a:pt x="1578" y="239"/>
                  </a:lnTo>
                  <a:lnTo>
                    <a:pt x="1824" y="323"/>
                  </a:lnTo>
                  <a:lnTo>
                    <a:pt x="2065" y="418"/>
                  </a:lnTo>
                  <a:lnTo>
                    <a:pt x="2301" y="525"/>
                  </a:lnTo>
                  <a:lnTo>
                    <a:pt x="2530" y="643"/>
                  </a:lnTo>
                  <a:lnTo>
                    <a:pt x="2752" y="770"/>
                  </a:lnTo>
                  <a:lnTo>
                    <a:pt x="2968" y="910"/>
                  </a:lnTo>
                  <a:lnTo>
                    <a:pt x="3177" y="1058"/>
                  </a:lnTo>
                  <a:lnTo>
                    <a:pt x="3377" y="1215"/>
                  </a:lnTo>
                  <a:lnTo>
                    <a:pt x="3570" y="1383"/>
                  </a:lnTo>
                  <a:lnTo>
                    <a:pt x="3755" y="1559"/>
                  </a:lnTo>
                  <a:lnTo>
                    <a:pt x="3931" y="1743"/>
                  </a:lnTo>
                  <a:lnTo>
                    <a:pt x="4098" y="1936"/>
                  </a:lnTo>
                  <a:lnTo>
                    <a:pt x="4256" y="2137"/>
                  </a:lnTo>
                  <a:lnTo>
                    <a:pt x="4404" y="2345"/>
                  </a:lnTo>
                  <a:lnTo>
                    <a:pt x="4542" y="2561"/>
                  </a:lnTo>
                  <a:lnTo>
                    <a:pt x="4671" y="2783"/>
                  </a:lnTo>
                  <a:lnTo>
                    <a:pt x="4789" y="3012"/>
                  </a:lnTo>
                  <a:lnTo>
                    <a:pt x="4896" y="3248"/>
                  </a:lnTo>
                  <a:lnTo>
                    <a:pt x="4991" y="3489"/>
                  </a:lnTo>
                  <a:lnTo>
                    <a:pt x="5074" y="3735"/>
                  </a:lnTo>
                  <a:lnTo>
                    <a:pt x="5146" y="3987"/>
                  </a:lnTo>
                  <a:lnTo>
                    <a:pt x="5206" y="4244"/>
                  </a:lnTo>
                  <a:lnTo>
                    <a:pt x="5252" y="4505"/>
                  </a:lnTo>
                  <a:lnTo>
                    <a:pt x="5287" y="4770"/>
                  </a:lnTo>
                  <a:lnTo>
                    <a:pt x="5307" y="5039"/>
                  </a:lnTo>
                  <a:lnTo>
                    <a:pt x="5314" y="5312"/>
                  </a:lnTo>
                  <a:lnTo>
                    <a:pt x="5312" y="5453"/>
                  </a:lnTo>
                  <a:lnTo>
                    <a:pt x="5306" y="5594"/>
                  </a:lnTo>
                  <a:lnTo>
                    <a:pt x="5298" y="5734"/>
                  </a:lnTo>
                  <a:lnTo>
                    <a:pt x="5285" y="5872"/>
                  </a:lnTo>
                  <a:lnTo>
                    <a:pt x="5268" y="6011"/>
                  </a:lnTo>
                  <a:lnTo>
                    <a:pt x="5248" y="6148"/>
                  </a:lnTo>
                  <a:lnTo>
                    <a:pt x="5224" y="6283"/>
                  </a:lnTo>
                  <a:lnTo>
                    <a:pt x="5198" y="6418"/>
                  </a:lnTo>
                  <a:lnTo>
                    <a:pt x="5168" y="6551"/>
                  </a:lnTo>
                  <a:lnTo>
                    <a:pt x="5134" y="6682"/>
                  </a:lnTo>
                  <a:lnTo>
                    <a:pt x="5098" y="6813"/>
                  </a:lnTo>
                  <a:lnTo>
                    <a:pt x="5057" y="6943"/>
                  </a:lnTo>
                  <a:lnTo>
                    <a:pt x="5013" y="7070"/>
                  </a:lnTo>
                  <a:lnTo>
                    <a:pt x="4967" y="7196"/>
                  </a:lnTo>
                  <a:lnTo>
                    <a:pt x="4918" y="7322"/>
                  </a:lnTo>
                  <a:lnTo>
                    <a:pt x="4865" y="7445"/>
                  </a:lnTo>
                  <a:lnTo>
                    <a:pt x="4810" y="7567"/>
                  </a:lnTo>
                  <a:lnTo>
                    <a:pt x="4751" y="7687"/>
                  </a:lnTo>
                  <a:lnTo>
                    <a:pt x="4689" y="7804"/>
                  </a:lnTo>
                  <a:lnTo>
                    <a:pt x="4626" y="7921"/>
                  </a:lnTo>
                  <a:lnTo>
                    <a:pt x="4559" y="8037"/>
                  </a:lnTo>
                  <a:lnTo>
                    <a:pt x="4488" y="8149"/>
                  </a:lnTo>
                  <a:lnTo>
                    <a:pt x="4416" y="8260"/>
                  </a:lnTo>
                  <a:lnTo>
                    <a:pt x="4340" y="8369"/>
                  </a:lnTo>
                  <a:lnTo>
                    <a:pt x="4263" y="8476"/>
                  </a:lnTo>
                  <a:lnTo>
                    <a:pt x="4183" y="8582"/>
                  </a:lnTo>
                  <a:lnTo>
                    <a:pt x="4099" y="8685"/>
                  </a:lnTo>
                  <a:lnTo>
                    <a:pt x="4014" y="8786"/>
                  </a:lnTo>
                  <a:lnTo>
                    <a:pt x="3927" y="8884"/>
                  </a:lnTo>
                  <a:lnTo>
                    <a:pt x="3836" y="8982"/>
                  </a:lnTo>
                  <a:lnTo>
                    <a:pt x="3743" y="9076"/>
                  </a:lnTo>
                  <a:lnTo>
                    <a:pt x="3648" y="9167"/>
                  </a:lnTo>
                  <a:lnTo>
                    <a:pt x="3694" y="9227"/>
                  </a:lnTo>
                  <a:lnTo>
                    <a:pt x="3740" y="9285"/>
                  </a:lnTo>
                  <a:lnTo>
                    <a:pt x="3785" y="9344"/>
                  </a:lnTo>
                  <a:lnTo>
                    <a:pt x="3831" y="9404"/>
                  </a:lnTo>
                  <a:lnTo>
                    <a:pt x="3877" y="9462"/>
                  </a:lnTo>
                  <a:lnTo>
                    <a:pt x="3922" y="9522"/>
                  </a:lnTo>
                  <a:lnTo>
                    <a:pt x="3969" y="9580"/>
                  </a:lnTo>
                  <a:lnTo>
                    <a:pt x="4014" y="9639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5403960" y="5040360"/>
              <a:ext cx="1440" cy="144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0"/>
                  </a:move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2558880" y="2565360"/>
              <a:ext cx="3567240" cy="1322280"/>
            </a:xfrm>
            <a:custGeom>
              <a:avLst/>
              <a:gdLst/>
              <a:ahLst/>
              <a:rect l="l" t="t" r="r" b="b"/>
              <a:pathLst>
                <a:path w="11236" h="4162">
                  <a:moveTo>
                    <a:pt x="6376" y="1724"/>
                  </a:moveTo>
                  <a:lnTo>
                    <a:pt x="0" y="1724"/>
                  </a:lnTo>
                  <a:lnTo>
                    <a:pt x="0" y="17"/>
                  </a:lnTo>
                  <a:lnTo>
                    <a:pt x="5952" y="17"/>
                  </a:lnTo>
                  <a:lnTo>
                    <a:pt x="6005" y="13"/>
                  </a:lnTo>
                  <a:lnTo>
                    <a:pt x="6058" y="10"/>
                  </a:lnTo>
                  <a:lnTo>
                    <a:pt x="6109" y="7"/>
                  </a:lnTo>
                  <a:lnTo>
                    <a:pt x="6163" y="5"/>
                  </a:lnTo>
                  <a:lnTo>
                    <a:pt x="6216" y="2"/>
                  </a:lnTo>
                  <a:lnTo>
                    <a:pt x="6269" y="1"/>
                  </a:lnTo>
                  <a:lnTo>
                    <a:pt x="6323" y="0"/>
                  </a:lnTo>
                  <a:lnTo>
                    <a:pt x="6376" y="0"/>
                  </a:lnTo>
                  <a:lnTo>
                    <a:pt x="6547" y="2"/>
                  </a:lnTo>
                  <a:lnTo>
                    <a:pt x="6716" y="11"/>
                  </a:lnTo>
                  <a:lnTo>
                    <a:pt x="6882" y="24"/>
                  </a:lnTo>
                  <a:lnTo>
                    <a:pt x="7048" y="42"/>
                  </a:lnTo>
                  <a:lnTo>
                    <a:pt x="7213" y="66"/>
                  </a:lnTo>
                  <a:lnTo>
                    <a:pt x="7375" y="94"/>
                  </a:lnTo>
                  <a:lnTo>
                    <a:pt x="7536" y="128"/>
                  </a:lnTo>
                  <a:lnTo>
                    <a:pt x="7695" y="166"/>
                  </a:lnTo>
                  <a:lnTo>
                    <a:pt x="7852" y="209"/>
                  </a:lnTo>
                  <a:lnTo>
                    <a:pt x="8008" y="256"/>
                  </a:lnTo>
                  <a:lnTo>
                    <a:pt x="8161" y="309"/>
                  </a:lnTo>
                  <a:lnTo>
                    <a:pt x="8312" y="365"/>
                  </a:lnTo>
                  <a:lnTo>
                    <a:pt x="8460" y="427"/>
                  </a:lnTo>
                  <a:lnTo>
                    <a:pt x="8607" y="493"/>
                  </a:lnTo>
                  <a:lnTo>
                    <a:pt x="8752" y="562"/>
                  </a:lnTo>
                  <a:lnTo>
                    <a:pt x="8894" y="636"/>
                  </a:lnTo>
                  <a:lnTo>
                    <a:pt x="9033" y="714"/>
                  </a:lnTo>
                  <a:lnTo>
                    <a:pt x="9170" y="796"/>
                  </a:lnTo>
                  <a:lnTo>
                    <a:pt x="9304" y="883"/>
                  </a:lnTo>
                  <a:lnTo>
                    <a:pt x="9435" y="972"/>
                  </a:lnTo>
                  <a:lnTo>
                    <a:pt x="9564" y="1066"/>
                  </a:lnTo>
                  <a:lnTo>
                    <a:pt x="9689" y="1163"/>
                  </a:lnTo>
                  <a:lnTo>
                    <a:pt x="9812" y="1265"/>
                  </a:lnTo>
                  <a:lnTo>
                    <a:pt x="9931" y="1370"/>
                  </a:lnTo>
                  <a:lnTo>
                    <a:pt x="10048" y="1478"/>
                  </a:lnTo>
                  <a:lnTo>
                    <a:pt x="10160" y="1589"/>
                  </a:lnTo>
                  <a:lnTo>
                    <a:pt x="10270" y="1703"/>
                  </a:lnTo>
                  <a:lnTo>
                    <a:pt x="10376" y="1821"/>
                  </a:lnTo>
                  <a:lnTo>
                    <a:pt x="10479" y="1942"/>
                  </a:lnTo>
                  <a:lnTo>
                    <a:pt x="10578" y="2066"/>
                  </a:lnTo>
                  <a:lnTo>
                    <a:pt x="10673" y="2194"/>
                  </a:lnTo>
                  <a:lnTo>
                    <a:pt x="10765" y="2323"/>
                  </a:lnTo>
                  <a:lnTo>
                    <a:pt x="10824" y="2287"/>
                  </a:lnTo>
                  <a:lnTo>
                    <a:pt x="10883" y="2250"/>
                  </a:lnTo>
                  <a:lnTo>
                    <a:pt x="10942" y="2213"/>
                  </a:lnTo>
                  <a:lnTo>
                    <a:pt x="11001" y="2178"/>
                  </a:lnTo>
                  <a:lnTo>
                    <a:pt x="11060" y="2141"/>
                  </a:lnTo>
                  <a:lnTo>
                    <a:pt x="11118" y="2104"/>
                  </a:lnTo>
                  <a:lnTo>
                    <a:pt x="11178" y="2067"/>
                  </a:lnTo>
                  <a:lnTo>
                    <a:pt x="11236" y="2031"/>
                  </a:lnTo>
                  <a:lnTo>
                    <a:pt x="10838" y="4162"/>
                  </a:lnTo>
                  <a:lnTo>
                    <a:pt x="8750" y="3575"/>
                  </a:lnTo>
                  <a:lnTo>
                    <a:pt x="8817" y="3533"/>
                  </a:lnTo>
                  <a:lnTo>
                    <a:pt x="8884" y="3492"/>
                  </a:lnTo>
                  <a:lnTo>
                    <a:pt x="8951" y="3450"/>
                  </a:lnTo>
                  <a:lnTo>
                    <a:pt x="9019" y="3408"/>
                  </a:lnTo>
                  <a:lnTo>
                    <a:pt x="9086" y="3367"/>
                  </a:lnTo>
                  <a:lnTo>
                    <a:pt x="9153" y="3325"/>
                  </a:lnTo>
                  <a:lnTo>
                    <a:pt x="9220" y="3284"/>
                  </a:lnTo>
                  <a:lnTo>
                    <a:pt x="9287" y="3241"/>
                  </a:lnTo>
                  <a:lnTo>
                    <a:pt x="9225" y="3157"/>
                  </a:lnTo>
                  <a:lnTo>
                    <a:pt x="9161" y="3075"/>
                  </a:lnTo>
                  <a:lnTo>
                    <a:pt x="9094" y="2994"/>
                  </a:lnTo>
                  <a:lnTo>
                    <a:pt x="9024" y="2916"/>
                  </a:lnTo>
                  <a:lnTo>
                    <a:pt x="8953" y="2840"/>
                  </a:lnTo>
                  <a:lnTo>
                    <a:pt x="8880" y="2765"/>
                  </a:lnTo>
                  <a:lnTo>
                    <a:pt x="8804" y="2693"/>
                  </a:lnTo>
                  <a:lnTo>
                    <a:pt x="8727" y="2624"/>
                  </a:lnTo>
                  <a:lnTo>
                    <a:pt x="8647" y="2556"/>
                  </a:lnTo>
                  <a:lnTo>
                    <a:pt x="8565" y="2490"/>
                  </a:lnTo>
                  <a:lnTo>
                    <a:pt x="8482" y="2427"/>
                  </a:lnTo>
                  <a:lnTo>
                    <a:pt x="8397" y="2367"/>
                  </a:lnTo>
                  <a:lnTo>
                    <a:pt x="8309" y="2308"/>
                  </a:lnTo>
                  <a:lnTo>
                    <a:pt x="8221" y="2252"/>
                  </a:lnTo>
                  <a:lnTo>
                    <a:pt x="8130" y="2199"/>
                  </a:lnTo>
                  <a:lnTo>
                    <a:pt x="8038" y="2150"/>
                  </a:lnTo>
                  <a:lnTo>
                    <a:pt x="7944" y="2101"/>
                  </a:lnTo>
                  <a:lnTo>
                    <a:pt x="7848" y="2057"/>
                  </a:lnTo>
                  <a:lnTo>
                    <a:pt x="7752" y="2013"/>
                  </a:lnTo>
                  <a:lnTo>
                    <a:pt x="7652" y="1975"/>
                  </a:lnTo>
                  <a:lnTo>
                    <a:pt x="7553" y="1938"/>
                  </a:lnTo>
                  <a:lnTo>
                    <a:pt x="7451" y="1904"/>
                  </a:lnTo>
                  <a:lnTo>
                    <a:pt x="7349" y="1873"/>
                  </a:lnTo>
                  <a:lnTo>
                    <a:pt x="7245" y="1845"/>
                  </a:lnTo>
                  <a:lnTo>
                    <a:pt x="7140" y="1821"/>
                  </a:lnTo>
                  <a:lnTo>
                    <a:pt x="7034" y="1800"/>
                  </a:lnTo>
                  <a:lnTo>
                    <a:pt x="6927" y="1781"/>
                  </a:lnTo>
                  <a:lnTo>
                    <a:pt x="6819" y="1766"/>
                  </a:lnTo>
                  <a:lnTo>
                    <a:pt x="6710" y="1754"/>
                  </a:lnTo>
                  <a:lnTo>
                    <a:pt x="6600" y="1746"/>
                  </a:lnTo>
                  <a:lnTo>
                    <a:pt x="6489" y="1740"/>
                  </a:lnTo>
                  <a:lnTo>
                    <a:pt x="6376" y="1738"/>
                  </a:lnTo>
                  <a:lnTo>
                    <a:pt x="6376" y="1724"/>
                  </a:lnTo>
                  <a:close/>
                </a:path>
              </a:pathLst>
            </a:custGeom>
            <a:solidFill>
              <a:srgbClr val="dc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2558880" y="2565360"/>
              <a:ext cx="3567240" cy="1322280"/>
            </a:xfrm>
            <a:custGeom>
              <a:avLst/>
              <a:gdLst/>
              <a:ahLst/>
              <a:rect l="l" t="t" r="r" b="b"/>
              <a:pathLst>
                <a:path w="11236" h="4162">
                  <a:moveTo>
                    <a:pt x="6376" y="1724"/>
                  </a:moveTo>
                  <a:lnTo>
                    <a:pt x="0" y="1724"/>
                  </a:lnTo>
                  <a:lnTo>
                    <a:pt x="0" y="17"/>
                  </a:lnTo>
                  <a:lnTo>
                    <a:pt x="5952" y="17"/>
                  </a:lnTo>
                  <a:lnTo>
                    <a:pt x="6005" y="13"/>
                  </a:lnTo>
                  <a:lnTo>
                    <a:pt x="6058" y="10"/>
                  </a:lnTo>
                  <a:lnTo>
                    <a:pt x="6109" y="7"/>
                  </a:lnTo>
                  <a:lnTo>
                    <a:pt x="6163" y="5"/>
                  </a:lnTo>
                  <a:lnTo>
                    <a:pt x="6216" y="2"/>
                  </a:lnTo>
                  <a:lnTo>
                    <a:pt x="6269" y="1"/>
                  </a:lnTo>
                  <a:lnTo>
                    <a:pt x="6323" y="0"/>
                  </a:lnTo>
                  <a:lnTo>
                    <a:pt x="6376" y="0"/>
                  </a:lnTo>
                  <a:lnTo>
                    <a:pt x="6547" y="2"/>
                  </a:lnTo>
                  <a:lnTo>
                    <a:pt x="6716" y="11"/>
                  </a:lnTo>
                  <a:lnTo>
                    <a:pt x="6882" y="24"/>
                  </a:lnTo>
                  <a:lnTo>
                    <a:pt x="7048" y="42"/>
                  </a:lnTo>
                  <a:lnTo>
                    <a:pt x="7213" y="66"/>
                  </a:lnTo>
                  <a:lnTo>
                    <a:pt x="7375" y="94"/>
                  </a:lnTo>
                  <a:lnTo>
                    <a:pt x="7536" y="128"/>
                  </a:lnTo>
                  <a:lnTo>
                    <a:pt x="7695" y="166"/>
                  </a:lnTo>
                  <a:lnTo>
                    <a:pt x="7852" y="209"/>
                  </a:lnTo>
                  <a:lnTo>
                    <a:pt x="8008" y="256"/>
                  </a:lnTo>
                  <a:lnTo>
                    <a:pt x="8161" y="309"/>
                  </a:lnTo>
                  <a:lnTo>
                    <a:pt x="8312" y="365"/>
                  </a:lnTo>
                  <a:lnTo>
                    <a:pt x="8460" y="427"/>
                  </a:lnTo>
                  <a:lnTo>
                    <a:pt x="8607" y="493"/>
                  </a:lnTo>
                  <a:lnTo>
                    <a:pt x="8752" y="562"/>
                  </a:lnTo>
                  <a:lnTo>
                    <a:pt x="8894" y="636"/>
                  </a:lnTo>
                  <a:lnTo>
                    <a:pt x="9033" y="714"/>
                  </a:lnTo>
                  <a:lnTo>
                    <a:pt x="9170" y="796"/>
                  </a:lnTo>
                  <a:lnTo>
                    <a:pt x="9304" y="883"/>
                  </a:lnTo>
                  <a:lnTo>
                    <a:pt x="9435" y="972"/>
                  </a:lnTo>
                  <a:lnTo>
                    <a:pt x="9564" y="1066"/>
                  </a:lnTo>
                  <a:lnTo>
                    <a:pt x="9689" y="1163"/>
                  </a:lnTo>
                  <a:lnTo>
                    <a:pt x="9812" y="1265"/>
                  </a:lnTo>
                  <a:lnTo>
                    <a:pt x="9931" y="1370"/>
                  </a:lnTo>
                  <a:lnTo>
                    <a:pt x="10048" y="1478"/>
                  </a:lnTo>
                  <a:lnTo>
                    <a:pt x="10160" y="1589"/>
                  </a:lnTo>
                  <a:lnTo>
                    <a:pt x="10270" y="1703"/>
                  </a:lnTo>
                  <a:lnTo>
                    <a:pt x="10376" y="1821"/>
                  </a:lnTo>
                  <a:lnTo>
                    <a:pt x="10479" y="1942"/>
                  </a:lnTo>
                  <a:lnTo>
                    <a:pt x="10578" y="2066"/>
                  </a:lnTo>
                  <a:lnTo>
                    <a:pt x="10673" y="2194"/>
                  </a:lnTo>
                  <a:lnTo>
                    <a:pt x="10765" y="2323"/>
                  </a:lnTo>
                  <a:lnTo>
                    <a:pt x="10824" y="2287"/>
                  </a:lnTo>
                  <a:lnTo>
                    <a:pt x="10883" y="2250"/>
                  </a:lnTo>
                  <a:lnTo>
                    <a:pt x="10942" y="2213"/>
                  </a:lnTo>
                  <a:lnTo>
                    <a:pt x="11001" y="2178"/>
                  </a:lnTo>
                  <a:lnTo>
                    <a:pt x="11060" y="2141"/>
                  </a:lnTo>
                  <a:lnTo>
                    <a:pt x="11118" y="2104"/>
                  </a:lnTo>
                  <a:lnTo>
                    <a:pt x="11178" y="2067"/>
                  </a:lnTo>
                  <a:lnTo>
                    <a:pt x="11236" y="2031"/>
                  </a:lnTo>
                  <a:lnTo>
                    <a:pt x="10838" y="4162"/>
                  </a:lnTo>
                  <a:lnTo>
                    <a:pt x="8750" y="3575"/>
                  </a:lnTo>
                  <a:lnTo>
                    <a:pt x="8817" y="3533"/>
                  </a:lnTo>
                  <a:lnTo>
                    <a:pt x="8884" y="3492"/>
                  </a:lnTo>
                  <a:lnTo>
                    <a:pt x="8951" y="3450"/>
                  </a:lnTo>
                  <a:lnTo>
                    <a:pt x="9019" y="3408"/>
                  </a:lnTo>
                  <a:lnTo>
                    <a:pt x="9086" y="3367"/>
                  </a:lnTo>
                  <a:lnTo>
                    <a:pt x="9153" y="3325"/>
                  </a:lnTo>
                  <a:lnTo>
                    <a:pt x="9220" y="3284"/>
                  </a:lnTo>
                  <a:lnTo>
                    <a:pt x="9287" y="3241"/>
                  </a:lnTo>
                  <a:lnTo>
                    <a:pt x="9225" y="3157"/>
                  </a:lnTo>
                  <a:lnTo>
                    <a:pt x="9161" y="3075"/>
                  </a:lnTo>
                  <a:lnTo>
                    <a:pt x="9094" y="2994"/>
                  </a:lnTo>
                  <a:lnTo>
                    <a:pt x="9024" y="2916"/>
                  </a:lnTo>
                  <a:lnTo>
                    <a:pt x="8953" y="2840"/>
                  </a:lnTo>
                  <a:lnTo>
                    <a:pt x="8880" y="2765"/>
                  </a:lnTo>
                  <a:lnTo>
                    <a:pt x="8804" y="2693"/>
                  </a:lnTo>
                  <a:lnTo>
                    <a:pt x="8727" y="2624"/>
                  </a:lnTo>
                  <a:lnTo>
                    <a:pt x="8647" y="2556"/>
                  </a:lnTo>
                  <a:lnTo>
                    <a:pt x="8565" y="2490"/>
                  </a:lnTo>
                  <a:lnTo>
                    <a:pt x="8482" y="2427"/>
                  </a:lnTo>
                  <a:lnTo>
                    <a:pt x="8397" y="2367"/>
                  </a:lnTo>
                  <a:lnTo>
                    <a:pt x="8309" y="2308"/>
                  </a:lnTo>
                  <a:lnTo>
                    <a:pt x="8221" y="2252"/>
                  </a:lnTo>
                  <a:lnTo>
                    <a:pt x="8130" y="2199"/>
                  </a:lnTo>
                  <a:lnTo>
                    <a:pt x="8038" y="2150"/>
                  </a:lnTo>
                  <a:lnTo>
                    <a:pt x="7944" y="2101"/>
                  </a:lnTo>
                  <a:lnTo>
                    <a:pt x="7848" y="2057"/>
                  </a:lnTo>
                  <a:lnTo>
                    <a:pt x="7752" y="2013"/>
                  </a:lnTo>
                  <a:lnTo>
                    <a:pt x="7652" y="1975"/>
                  </a:lnTo>
                  <a:lnTo>
                    <a:pt x="7553" y="1938"/>
                  </a:lnTo>
                  <a:lnTo>
                    <a:pt x="7451" y="1904"/>
                  </a:lnTo>
                  <a:lnTo>
                    <a:pt x="7349" y="1873"/>
                  </a:lnTo>
                  <a:lnTo>
                    <a:pt x="7245" y="1845"/>
                  </a:lnTo>
                  <a:lnTo>
                    <a:pt x="7140" y="1821"/>
                  </a:lnTo>
                  <a:lnTo>
                    <a:pt x="7034" y="1800"/>
                  </a:lnTo>
                  <a:lnTo>
                    <a:pt x="6927" y="1781"/>
                  </a:lnTo>
                  <a:lnTo>
                    <a:pt x="6819" y="1766"/>
                  </a:lnTo>
                  <a:lnTo>
                    <a:pt x="6710" y="1754"/>
                  </a:lnTo>
                  <a:lnTo>
                    <a:pt x="6600" y="1746"/>
                  </a:lnTo>
                  <a:lnTo>
                    <a:pt x="6489" y="1740"/>
                  </a:lnTo>
                  <a:lnTo>
                    <a:pt x="6376" y="1738"/>
                  </a:lnTo>
                  <a:lnTo>
                    <a:pt x="6376" y="1724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2662920" y="2654280"/>
              <a:ext cx="2218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Geometr231 Hv BT"/>
                </a:rPr>
                <a:t>LIFE FUNC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 rot="1800000">
              <a:off x="5265360" y="2920680"/>
              <a:ext cx="1332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ffffff"/>
                  </a:solidFill>
                  <a:latin typeface="Geometr231 Hv BT"/>
                </a:rPr>
                <a:t>S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 rot="2160000">
              <a:off x="5356800" y="3002040"/>
              <a:ext cx="1789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ffffff"/>
                  </a:solidFill>
                  <a:latin typeface="Geometr231 Hv BT"/>
                </a:rPr>
                <a:t>H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 rot="2640000">
              <a:off x="5485680" y="3126960"/>
              <a:ext cx="1882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ffffff"/>
                  </a:solidFill>
                  <a:latin typeface="Geometr231 Hv BT"/>
                </a:rPr>
                <a:t>O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 rot="2940000">
              <a:off x="5612760" y="3251520"/>
              <a:ext cx="153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ffffff"/>
                  </a:solidFill>
                  <a:latin typeface="Geometr231 Hv BT"/>
                </a:rPr>
                <a:t>C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 rot="3420000">
              <a:off x="5698080" y="3377880"/>
              <a:ext cx="1501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ffffff"/>
                  </a:solidFill>
                  <a:latin typeface="Geometr231 Hv BT"/>
                </a:rPr>
                <a:t>K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 rot="5460000">
              <a:off x="5904360" y="4223160"/>
              <a:ext cx="1468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ffffff"/>
                  </a:solidFill>
                  <a:latin typeface="Geometr231 Hv BT"/>
                </a:rPr>
                <a:t>P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 rot="5820000">
              <a:off x="5884920" y="4372920"/>
              <a:ext cx="1501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ffffff"/>
                  </a:solidFill>
                  <a:latin typeface="Geometr231 Hv BT"/>
                </a:rPr>
                <a:t>R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 rot="6360000">
              <a:off x="5821560" y="4547520"/>
              <a:ext cx="1882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ffffff"/>
                  </a:solidFill>
                  <a:latin typeface="Geometr231 Hv BT"/>
                </a:rPr>
                <a:t>O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 rot="6600000">
              <a:off x="5796000" y="469332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ffffff"/>
                  </a:solidFill>
                  <a:latin typeface="Geometr231 Hv BT"/>
                </a:rPr>
                <a:t>T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 rot="6960000">
              <a:off x="5738760" y="480816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ffffff"/>
                  </a:solidFill>
                  <a:latin typeface="Geometr231 Hv BT"/>
                </a:rPr>
                <a:t>E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 rot="7140000">
              <a:off x="5664960" y="4938120"/>
              <a:ext cx="1332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ffffff"/>
                  </a:solidFill>
                  <a:latin typeface="Geometr231 Hv BT"/>
                </a:rPr>
                <a:t>S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 rot="7500000">
              <a:off x="5605560" y="500544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ffffff"/>
                  </a:solidFill>
                  <a:latin typeface="Geometr231 Hv BT"/>
                </a:rPr>
                <a:t>T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 rot="2820000">
              <a:off x="3484800" y="5170680"/>
              <a:ext cx="148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Geometr231 Hv BT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 rot="2460000">
              <a:off x="3588480" y="5229360"/>
              <a:ext cx="69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Geometr231 Hv BT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 rot="2340000">
              <a:off x="3621600" y="5276880"/>
              <a:ext cx="111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Geometr231 Hv BT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 rot="2160000">
              <a:off x="3695400" y="5345280"/>
              <a:ext cx="15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Geometr231 Hv BT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 rot="1800000">
              <a:off x="3821040" y="5409720"/>
              <a:ext cx="127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Geometr231 Hv BT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 rot="1500000">
              <a:off x="3924000" y="5460840"/>
              <a:ext cx="148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Geometr231 Hv BT"/>
                </a:rPr>
                <a:t>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 rot="1140000">
              <a:off x="4058640" y="5510160"/>
              <a:ext cx="130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Geometr231 Hv BT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 rot="720000">
              <a:off x="4167720" y="5540400"/>
              <a:ext cx="154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Geometr231 Hv BT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 rot="540000">
              <a:off x="4302720" y="5557320"/>
              <a:ext cx="69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Geometr231 Hv BT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 rot="540000">
              <a:off x="4354920" y="5576760"/>
              <a:ext cx="111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Geometr231 Hv BT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 rot="60000">
              <a:off x="4451040" y="5568840"/>
              <a:ext cx="130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Geometr231 Hv BT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 rot="21420000">
              <a:off x="4563360" y="556704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Geometr231 Hv BT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 rot="21300000">
              <a:off x="4665240" y="5559480"/>
              <a:ext cx="69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Geometr231 Hv BT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 rot="20940000">
              <a:off x="4717800" y="5543280"/>
              <a:ext cx="15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Geometr231 Hv BT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 rot="20580000">
              <a:off x="4853160" y="5513040"/>
              <a:ext cx="154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Geometr231 Hv BT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 rot="15540000">
              <a:off x="3099960" y="4381560"/>
              <a:ext cx="1119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1f1a17"/>
                  </a:solidFill>
                  <a:latin typeface="Geometr231 Hv BT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 rot="15840000">
              <a:off x="3094920" y="42796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1f1a17"/>
                  </a:solidFill>
                  <a:latin typeface="Geometr231 Hv BT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 rot="16020000">
              <a:off x="3070440" y="4160520"/>
              <a:ext cx="139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1f1a17"/>
                  </a:solidFill>
                  <a:latin typeface="Geometr231 Hv BT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 rot="16380000">
              <a:off x="3092400" y="4032000"/>
              <a:ext cx="1119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1f1a17"/>
                  </a:solidFill>
                  <a:latin typeface="Geometr231 Hv BT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 rot="16740000">
              <a:off x="3098880" y="3918600"/>
              <a:ext cx="13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1f1a17"/>
                  </a:solidFill>
                  <a:latin typeface="Geometr231 Hv BT"/>
                </a:rPr>
                <a:t>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 rot="17100000">
              <a:off x="3136680" y="3786480"/>
              <a:ext cx="1152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1f1a17"/>
                  </a:solidFill>
                  <a:latin typeface="Geometr231 Hv BT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 rot="17280000">
              <a:off x="3162600" y="3670560"/>
              <a:ext cx="1364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1f1a17"/>
                  </a:solidFill>
                  <a:latin typeface="Geometr231 Hv BT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 rot="17520000">
              <a:off x="3234960" y="3588840"/>
              <a:ext cx="615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1f1a17"/>
                  </a:solidFill>
                  <a:latin typeface="Geometr231 Hv BT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 rot="17520000">
              <a:off x="3245400" y="3524760"/>
              <a:ext cx="98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1f1a17"/>
                  </a:solidFill>
                  <a:latin typeface="Geometr231 Hv BT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 rot="18060000">
              <a:off x="3295440" y="3435840"/>
              <a:ext cx="1152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1f1a17"/>
                  </a:solidFill>
                  <a:latin typeface="Geometr231 Hv BT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 rot="18240000">
              <a:off x="3360240" y="33573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1f1a17"/>
                  </a:solidFill>
                  <a:latin typeface="Geometr231 Hv BT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 rot="18360000">
              <a:off x="3420360" y="3298320"/>
              <a:ext cx="615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1f1a17"/>
                  </a:solidFill>
                  <a:latin typeface="Geometr231 Hv BT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 rot="18720000">
              <a:off x="3454560" y="3221640"/>
              <a:ext cx="139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1f1a17"/>
                  </a:solidFill>
                  <a:latin typeface="Geometr231 Hv BT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 rot="19020000">
              <a:off x="3547800" y="3136680"/>
              <a:ext cx="1364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1f1a17"/>
                  </a:solidFill>
                  <a:latin typeface="Geometr231 Hv BT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6" name=""/>
          <p:cNvGrpSpPr/>
          <p:nvPr/>
        </p:nvGrpSpPr>
        <p:grpSpPr>
          <a:xfrm>
            <a:off x="1522800" y="1898640"/>
            <a:ext cx="5886360" cy="3741120"/>
            <a:chOff x="1522800" y="1898640"/>
            <a:chExt cx="5886360" cy="3741120"/>
          </a:xfrm>
        </p:grpSpPr>
        <p:sp>
          <p:nvSpPr>
            <p:cNvPr id="1247" name=""/>
            <p:cNvSpPr/>
            <p:nvPr/>
          </p:nvSpPr>
          <p:spPr>
            <a:xfrm>
              <a:off x="1524240" y="1898640"/>
              <a:ext cx="5884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1f1a17"/>
                  </a:solidFill>
                  <a:latin typeface="Times New Roman"/>
                </a:rPr>
                <a:t>“</a:t>
              </a:r>
              <a:r>
                <a:rPr b="0" i="1" lang="en-GB" sz="2400" spc="-1" strike="noStrike">
                  <a:solidFill>
                    <a:srgbClr val="1f1a17"/>
                  </a:solidFill>
                  <a:latin typeface="Times New Roman"/>
                </a:rPr>
                <a:t>...then shall be brought to pass the saying that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1523520" y="2235240"/>
              <a:ext cx="58255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1f1a17"/>
                  </a:solidFill>
                  <a:latin typeface="Times New Roman"/>
                </a:rPr>
                <a:t>is written: ”Death is swallowed up in victory.”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1526040" y="2573280"/>
              <a:ext cx="58208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1f1a17"/>
                  </a:solidFill>
                  <a:latin typeface="Times New Roman"/>
                </a:rPr>
                <a:t>“</a:t>
              </a:r>
              <a:r>
                <a:rPr b="0" i="1" lang="en-GB" sz="2400" spc="-1" strike="noStrike">
                  <a:solidFill>
                    <a:srgbClr val="1f1a17"/>
                  </a:solidFill>
                  <a:latin typeface="Times New Roman"/>
                </a:rPr>
                <a:t>O death, where is your sting? O grave, wher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1522800" y="2911320"/>
              <a:ext cx="2086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1f1a17"/>
                  </a:solidFill>
                  <a:latin typeface="Times New Roman"/>
                </a:rPr>
                <a:t>is your victory?”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1525320" y="3922560"/>
              <a:ext cx="51868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1f1a17"/>
                  </a:solidFill>
                  <a:latin typeface="Times New Roman"/>
                </a:rPr>
                <a:t>“</a:t>
              </a:r>
              <a:r>
                <a:rPr b="0" i="1" lang="en-GB" sz="2400" spc="-1" strike="noStrike">
                  <a:solidFill>
                    <a:srgbClr val="1f1a17"/>
                  </a:solidFill>
                  <a:latin typeface="Times New Roman"/>
                </a:rPr>
                <a:t>But I would not have you to be ignorant,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1524600" y="4260600"/>
              <a:ext cx="55771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1f1a17"/>
                  </a:solidFill>
                  <a:latin typeface="Times New Roman"/>
                </a:rPr>
                <a:t>Brethren, concerning them which are asleep,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1524960" y="4599000"/>
              <a:ext cx="55861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1f1a17"/>
                  </a:solidFill>
                  <a:latin typeface="Times New Roman"/>
                </a:rPr>
                <a:t>that ye sorrow not even as others which hav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1523520" y="4935600"/>
              <a:ext cx="12200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1f1a17"/>
                  </a:solidFill>
                  <a:latin typeface="Times New Roman"/>
                </a:rPr>
                <a:t>no hope.”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4530240" y="3247920"/>
              <a:ext cx="25761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1f1a17"/>
                  </a:solidFill>
                  <a:latin typeface="Times New Roman"/>
                </a:rPr>
                <a:t>1 Corinthians 15:5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4411080" y="5273640"/>
              <a:ext cx="2695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1f1a17"/>
                  </a:solidFill>
                  <a:latin typeface="Times New Roman"/>
                </a:rPr>
                <a:t>1 Thessalonians 4: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7" name=""/>
          <p:cNvGrpSpPr/>
          <p:nvPr/>
        </p:nvGrpSpPr>
        <p:grpSpPr>
          <a:xfrm>
            <a:off x="7080120" y="614520"/>
            <a:ext cx="1834920" cy="1594440"/>
            <a:chOff x="7080120" y="614520"/>
            <a:chExt cx="1834920" cy="1594440"/>
          </a:xfrm>
        </p:grpSpPr>
        <p:sp>
          <p:nvSpPr>
            <p:cNvPr id="1258" name=""/>
            <p:cNvSpPr/>
            <p:nvPr/>
          </p:nvSpPr>
          <p:spPr>
            <a:xfrm>
              <a:off x="7209360" y="708120"/>
              <a:ext cx="1581120" cy="1459800"/>
            </a:xfrm>
            <a:custGeom>
              <a:avLst/>
              <a:gdLst/>
              <a:ahLst/>
              <a:rect l="l" t="t" r="r" b="b"/>
              <a:pathLst>
                <a:path w="3446" h="3184">
                  <a:moveTo>
                    <a:pt x="2685" y="3184"/>
                  </a:moveTo>
                  <a:lnTo>
                    <a:pt x="3446" y="897"/>
                  </a:lnTo>
                  <a:lnTo>
                    <a:pt x="761" y="0"/>
                  </a:lnTo>
                  <a:lnTo>
                    <a:pt x="0" y="2288"/>
                  </a:lnTo>
                  <a:lnTo>
                    <a:pt x="2685" y="3184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8432640" y="1112760"/>
              <a:ext cx="363600" cy="1054800"/>
            </a:xfrm>
            <a:custGeom>
              <a:avLst/>
              <a:gdLst/>
              <a:ahLst/>
              <a:rect l="l" t="t" r="r" b="b"/>
              <a:pathLst>
                <a:path w="794" h="2299">
                  <a:moveTo>
                    <a:pt x="772" y="23"/>
                  </a:moveTo>
                  <a:lnTo>
                    <a:pt x="761" y="12"/>
                  </a:lnTo>
                  <a:lnTo>
                    <a:pt x="0" y="2299"/>
                  </a:lnTo>
                  <a:lnTo>
                    <a:pt x="34" y="2299"/>
                  </a:lnTo>
                  <a:lnTo>
                    <a:pt x="794" y="12"/>
                  </a:lnTo>
                  <a:lnTo>
                    <a:pt x="783" y="0"/>
                  </a:lnTo>
                  <a:lnTo>
                    <a:pt x="794" y="12"/>
                  </a:lnTo>
                  <a:lnTo>
                    <a:pt x="794" y="0"/>
                  </a:lnTo>
                  <a:lnTo>
                    <a:pt x="783" y="0"/>
                  </a:lnTo>
                  <a:lnTo>
                    <a:pt x="772" y="2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7554240" y="696960"/>
              <a:ext cx="1236240" cy="426600"/>
            </a:xfrm>
            <a:custGeom>
              <a:avLst/>
              <a:gdLst/>
              <a:ahLst/>
              <a:rect l="l" t="t" r="r" b="b"/>
              <a:pathLst>
                <a:path w="2696" h="930">
                  <a:moveTo>
                    <a:pt x="23" y="22"/>
                  </a:moveTo>
                  <a:lnTo>
                    <a:pt x="11" y="33"/>
                  </a:lnTo>
                  <a:lnTo>
                    <a:pt x="2685" y="930"/>
                  </a:lnTo>
                  <a:lnTo>
                    <a:pt x="2696" y="907"/>
                  </a:lnTo>
                  <a:lnTo>
                    <a:pt x="23" y="11"/>
                  </a:lnTo>
                  <a:lnTo>
                    <a:pt x="0" y="22"/>
                  </a:lnTo>
                  <a:lnTo>
                    <a:pt x="23" y="11"/>
                  </a:lnTo>
                  <a:lnTo>
                    <a:pt x="0" y="0"/>
                  </a:lnTo>
                  <a:lnTo>
                    <a:pt x="0" y="22"/>
                  </a:lnTo>
                  <a:lnTo>
                    <a:pt x="23" y="2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7203600" y="708120"/>
              <a:ext cx="361080" cy="1054800"/>
            </a:xfrm>
            <a:custGeom>
              <a:avLst/>
              <a:gdLst/>
              <a:ahLst/>
              <a:rect l="l" t="t" r="r" b="b"/>
              <a:pathLst>
                <a:path w="784" h="2299">
                  <a:moveTo>
                    <a:pt x="22" y="2275"/>
                  </a:moveTo>
                  <a:lnTo>
                    <a:pt x="22" y="2288"/>
                  </a:lnTo>
                  <a:lnTo>
                    <a:pt x="784" y="0"/>
                  </a:lnTo>
                  <a:lnTo>
                    <a:pt x="761" y="0"/>
                  </a:lnTo>
                  <a:lnTo>
                    <a:pt x="0" y="2288"/>
                  </a:lnTo>
                  <a:lnTo>
                    <a:pt x="11" y="2299"/>
                  </a:lnTo>
                  <a:lnTo>
                    <a:pt x="0" y="2288"/>
                  </a:lnTo>
                  <a:lnTo>
                    <a:pt x="0" y="2299"/>
                  </a:lnTo>
                  <a:lnTo>
                    <a:pt x="11" y="2299"/>
                  </a:lnTo>
                  <a:lnTo>
                    <a:pt x="22" y="227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7209360" y="1752120"/>
              <a:ext cx="1236960" cy="426600"/>
            </a:xfrm>
            <a:custGeom>
              <a:avLst/>
              <a:gdLst/>
              <a:ahLst/>
              <a:rect l="l" t="t" r="r" b="b"/>
              <a:pathLst>
                <a:path w="2697" h="932">
                  <a:moveTo>
                    <a:pt x="2663" y="909"/>
                  </a:moveTo>
                  <a:lnTo>
                    <a:pt x="2685" y="898"/>
                  </a:lnTo>
                  <a:lnTo>
                    <a:pt x="11" y="0"/>
                  </a:lnTo>
                  <a:lnTo>
                    <a:pt x="0" y="24"/>
                  </a:lnTo>
                  <a:lnTo>
                    <a:pt x="2674" y="920"/>
                  </a:lnTo>
                  <a:lnTo>
                    <a:pt x="2697" y="909"/>
                  </a:lnTo>
                  <a:lnTo>
                    <a:pt x="2674" y="920"/>
                  </a:lnTo>
                  <a:lnTo>
                    <a:pt x="2685" y="932"/>
                  </a:lnTo>
                  <a:lnTo>
                    <a:pt x="2697" y="909"/>
                  </a:lnTo>
                  <a:lnTo>
                    <a:pt x="2663" y="90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7107480" y="633600"/>
              <a:ext cx="1782360" cy="1555920"/>
            </a:xfrm>
            <a:custGeom>
              <a:avLst/>
              <a:gdLst/>
              <a:ahLst/>
              <a:rect l="l" t="t" r="r" b="b"/>
              <a:pathLst>
                <a:path w="3882" h="3387">
                  <a:moveTo>
                    <a:pt x="1566" y="24"/>
                  </a:moveTo>
                  <a:lnTo>
                    <a:pt x="1980" y="696"/>
                  </a:lnTo>
                  <a:lnTo>
                    <a:pt x="2427" y="0"/>
                  </a:lnTo>
                  <a:lnTo>
                    <a:pt x="2461" y="774"/>
                  </a:lnTo>
                  <a:lnTo>
                    <a:pt x="3199" y="315"/>
                  </a:lnTo>
                  <a:lnTo>
                    <a:pt x="2842" y="1043"/>
                  </a:lnTo>
                  <a:lnTo>
                    <a:pt x="3715" y="898"/>
                  </a:lnTo>
                  <a:lnTo>
                    <a:pt x="3043" y="1447"/>
                  </a:lnTo>
                  <a:lnTo>
                    <a:pt x="3882" y="1638"/>
                  </a:lnTo>
                  <a:lnTo>
                    <a:pt x="3032" y="1885"/>
                  </a:lnTo>
                  <a:lnTo>
                    <a:pt x="3669" y="2400"/>
                  </a:lnTo>
                  <a:lnTo>
                    <a:pt x="2808" y="2299"/>
                  </a:lnTo>
                  <a:lnTo>
                    <a:pt x="3111" y="3005"/>
                  </a:lnTo>
                  <a:lnTo>
                    <a:pt x="2405" y="2580"/>
                  </a:lnTo>
                  <a:lnTo>
                    <a:pt x="2315" y="3365"/>
                  </a:lnTo>
                  <a:lnTo>
                    <a:pt x="1913" y="2692"/>
                  </a:lnTo>
                  <a:lnTo>
                    <a:pt x="1454" y="3387"/>
                  </a:lnTo>
                  <a:lnTo>
                    <a:pt x="1420" y="2613"/>
                  </a:lnTo>
                  <a:lnTo>
                    <a:pt x="682" y="3073"/>
                  </a:lnTo>
                  <a:lnTo>
                    <a:pt x="1040" y="2345"/>
                  </a:lnTo>
                  <a:lnTo>
                    <a:pt x="167" y="2490"/>
                  </a:lnTo>
                  <a:lnTo>
                    <a:pt x="838" y="1951"/>
                  </a:lnTo>
                  <a:lnTo>
                    <a:pt x="0" y="1750"/>
                  </a:lnTo>
                  <a:lnTo>
                    <a:pt x="850" y="1503"/>
                  </a:lnTo>
                  <a:lnTo>
                    <a:pt x="212" y="988"/>
                  </a:lnTo>
                  <a:lnTo>
                    <a:pt x="1085" y="1089"/>
                  </a:lnTo>
                  <a:lnTo>
                    <a:pt x="771" y="382"/>
                  </a:lnTo>
                  <a:lnTo>
                    <a:pt x="1477" y="808"/>
                  </a:lnTo>
                  <a:lnTo>
                    <a:pt x="1566" y="24"/>
                  </a:lnTo>
                  <a:close/>
                </a:path>
              </a:pathLst>
            </a:custGeom>
            <a:solidFill>
              <a:srgbClr val="f7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7821000" y="638640"/>
              <a:ext cx="200880" cy="325440"/>
            </a:xfrm>
            <a:custGeom>
              <a:avLst/>
              <a:gdLst/>
              <a:ahLst/>
              <a:rect l="l" t="t" r="r" b="b"/>
              <a:pathLst>
                <a:path w="436" h="707">
                  <a:moveTo>
                    <a:pt x="403" y="673"/>
                  </a:moveTo>
                  <a:lnTo>
                    <a:pt x="436" y="673"/>
                  </a:lnTo>
                  <a:lnTo>
                    <a:pt x="22" y="0"/>
                  </a:lnTo>
                  <a:lnTo>
                    <a:pt x="0" y="23"/>
                  </a:lnTo>
                  <a:lnTo>
                    <a:pt x="403" y="684"/>
                  </a:lnTo>
                  <a:lnTo>
                    <a:pt x="436" y="684"/>
                  </a:lnTo>
                  <a:lnTo>
                    <a:pt x="403" y="684"/>
                  </a:lnTo>
                  <a:lnTo>
                    <a:pt x="425" y="707"/>
                  </a:lnTo>
                  <a:lnTo>
                    <a:pt x="436" y="684"/>
                  </a:lnTo>
                  <a:lnTo>
                    <a:pt x="403" y="673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8006040" y="614520"/>
              <a:ext cx="219600" cy="338400"/>
            </a:xfrm>
            <a:custGeom>
              <a:avLst/>
              <a:gdLst/>
              <a:ahLst/>
              <a:rect l="l" t="t" r="r" b="b"/>
              <a:pathLst>
                <a:path w="481" h="740">
                  <a:moveTo>
                    <a:pt x="481" y="44"/>
                  </a:moveTo>
                  <a:lnTo>
                    <a:pt x="458" y="33"/>
                  </a:lnTo>
                  <a:lnTo>
                    <a:pt x="0" y="729"/>
                  </a:lnTo>
                  <a:lnTo>
                    <a:pt x="33" y="740"/>
                  </a:lnTo>
                  <a:lnTo>
                    <a:pt x="481" y="56"/>
                  </a:lnTo>
                  <a:lnTo>
                    <a:pt x="458" y="44"/>
                  </a:lnTo>
                  <a:lnTo>
                    <a:pt x="481" y="44"/>
                  </a:lnTo>
                  <a:lnTo>
                    <a:pt x="481" y="0"/>
                  </a:lnTo>
                  <a:lnTo>
                    <a:pt x="458" y="33"/>
                  </a:lnTo>
                  <a:lnTo>
                    <a:pt x="481" y="4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8215200" y="633600"/>
              <a:ext cx="27360" cy="371520"/>
            </a:xfrm>
            <a:custGeom>
              <a:avLst/>
              <a:gdLst/>
              <a:ahLst/>
              <a:rect l="l" t="t" r="r" b="b"/>
              <a:pathLst>
                <a:path w="56" h="808">
                  <a:moveTo>
                    <a:pt x="34" y="763"/>
                  </a:moveTo>
                  <a:lnTo>
                    <a:pt x="56" y="774"/>
                  </a:lnTo>
                  <a:lnTo>
                    <a:pt x="23" y="0"/>
                  </a:lnTo>
                  <a:lnTo>
                    <a:pt x="0" y="0"/>
                  </a:lnTo>
                  <a:lnTo>
                    <a:pt x="34" y="774"/>
                  </a:lnTo>
                  <a:lnTo>
                    <a:pt x="45" y="786"/>
                  </a:lnTo>
                  <a:lnTo>
                    <a:pt x="34" y="774"/>
                  </a:lnTo>
                  <a:lnTo>
                    <a:pt x="34" y="808"/>
                  </a:lnTo>
                  <a:lnTo>
                    <a:pt x="45" y="786"/>
                  </a:lnTo>
                  <a:lnTo>
                    <a:pt x="34" y="763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8231400" y="757440"/>
              <a:ext cx="361080" cy="236520"/>
            </a:xfrm>
            <a:custGeom>
              <a:avLst/>
              <a:gdLst/>
              <a:ahLst/>
              <a:rect l="l" t="t" r="r" b="b"/>
              <a:pathLst>
                <a:path w="783" h="516">
                  <a:moveTo>
                    <a:pt x="761" y="45"/>
                  </a:moveTo>
                  <a:lnTo>
                    <a:pt x="738" y="34"/>
                  </a:lnTo>
                  <a:lnTo>
                    <a:pt x="0" y="493"/>
                  </a:lnTo>
                  <a:lnTo>
                    <a:pt x="11" y="516"/>
                  </a:lnTo>
                  <a:lnTo>
                    <a:pt x="749" y="56"/>
                  </a:lnTo>
                  <a:lnTo>
                    <a:pt x="738" y="34"/>
                  </a:lnTo>
                  <a:lnTo>
                    <a:pt x="761" y="45"/>
                  </a:lnTo>
                  <a:lnTo>
                    <a:pt x="783" y="0"/>
                  </a:lnTo>
                  <a:lnTo>
                    <a:pt x="738" y="34"/>
                  </a:lnTo>
                  <a:lnTo>
                    <a:pt x="761" y="45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8402760" y="773640"/>
              <a:ext cx="178560" cy="349560"/>
            </a:xfrm>
            <a:custGeom>
              <a:avLst/>
              <a:gdLst/>
              <a:ahLst/>
              <a:rect l="l" t="t" r="r" b="b"/>
              <a:pathLst>
                <a:path w="391" h="762">
                  <a:moveTo>
                    <a:pt x="22" y="728"/>
                  </a:moveTo>
                  <a:lnTo>
                    <a:pt x="33" y="751"/>
                  </a:lnTo>
                  <a:lnTo>
                    <a:pt x="391" y="11"/>
                  </a:lnTo>
                  <a:lnTo>
                    <a:pt x="368" y="0"/>
                  </a:lnTo>
                  <a:lnTo>
                    <a:pt x="11" y="739"/>
                  </a:lnTo>
                  <a:lnTo>
                    <a:pt x="22" y="751"/>
                  </a:lnTo>
                  <a:lnTo>
                    <a:pt x="11" y="739"/>
                  </a:lnTo>
                  <a:lnTo>
                    <a:pt x="0" y="762"/>
                  </a:lnTo>
                  <a:lnTo>
                    <a:pt x="22" y="751"/>
                  </a:lnTo>
                  <a:lnTo>
                    <a:pt x="22" y="728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8410680" y="1035360"/>
              <a:ext cx="421560" cy="82800"/>
            </a:xfrm>
            <a:custGeom>
              <a:avLst/>
              <a:gdLst/>
              <a:ahLst/>
              <a:rect l="l" t="t" r="r" b="b"/>
              <a:pathLst>
                <a:path w="917" h="180">
                  <a:moveTo>
                    <a:pt x="884" y="34"/>
                  </a:moveTo>
                  <a:lnTo>
                    <a:pt x="873" y="12"/>
                  </a:lnTo>
                  <a:lnTo>
                    <a:pt x="0" y="157"/>
                  </a:lnTo>
                  <a:lnTo>
                    <a:pt x="0" y="180"/>
                  </a:lnTo>
                  <a:lnTo>
                    <a:pt x="873" y="34"/>
                  </a:lnTo>
                  <a:lnTo>
                    <a:pt x="861" y="12"/>
                  </a:lnTo>
                  <a:lnTo>
                    <a:pt x="884" y="34"/>
                  </a:lnTo>
                  <a:lnTo>
                    <a:pt x="917" y="0"/>
                  </a:lnTo>
                  <a:lnTo>
                    <a:pt x="873" y="12"/>
                  </a:lnTo>
                  <a:lnTo>
                    <a:pt x="884" y="3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8487720" y="1041120"/>
              <a:ext cx="330840" cy="261720"/>
            </a:xfrm>
            <a:custGeom>
              <a:avLst/>
              <a:gdLst/>
              <a:ahLst/>
              <a:rect l="l" t="t" r="r" b="b"/>
              <a:pathLst>
                <a:path w="717" h="571">
                  <a:moveTo>
                    <a:pt x="45" y="549"/>
                  </a:moveTo>
                  <a:lnTo>
                    <a:pt x="45" y="571"/>
                  </a:lnTo>
                  <a:lnTo>
                    <a:pt x="717" y="22"/>
                  </a:lnTo>
                  <a:lnTo>
                    <a:pt x="694" y="0"/>
                  </a:lnTo>
                  <a:lnTo>
                    <a:pt x="34" y="549"/>
                  </a:lnTo>
                  <a:lnTo>
                    <a:pt x="34" y="571"/>
                  </a:lnTo>
                  <a:lnTo>
                    <a:pt x="34" y="549"/>
                  </a:lnTo>
                  <a:lnTo>
                    <a:pt x="0" y="560"/>
                  </a:lnTo>
                  <a:lnTo>
                    <a:pt x="34" y="571"/>
                  </a:lnTo>
                  <a:lnTo>
                    <a:pt x="45" y="549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8504640" y="1294560"/>
              <a:ext cx="410400" cy="101520"/>
            </a:xfrm>
            <a:custGeom>
              <a:avLst/>
              <a:gdLst/>
              <a:ahLst/>
              <a:rect l="l" t="t" r="r" b="b"/>
              <a:pathLst>
                <a:path w="895" h="224">
                  <a:moveTo>
                    <a:pt x="839" y="224"/>
                  </a:moveTo>
                  <a:lnTo>
                    <a:pt x="839" y="190"/>
                  </a:lnTo>
                  <a:lnTo>
                    <a:pt x="11" y="0"/>
                  </a:lnTo>
                  <a:lnTo>
                    <a:pt x="0" y="22"/>
                  </a:lnTo>
                  <a:lnTo>
                    <a:pt x="839" y="224"/>
                  </a:lnTo>
                  <a:lnTo>
                    <a:pt x="839" y="190"/>
                  </a:lnTo>
                  <a:lnTo>
                    <a:pt x="839" y="224"/>
                  </a:lnTo>
                  <a:lnTo>
                    <a:pt x="895" y="202"/>
                  </a:lnTo>
                  <a:lnTo>
                    <a:pt x="839" y="190"/>
                  </a:lnTo>
                  <a:lnTo>
                    <a:pt x="839" y="22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8482680" y="1380240"/>
              <a:ext cx="407160" cy="129240"/>
            </a:xfrm>
            <a:custGeom>
              <a:avLst/>
              <a:gdLst/>
              <a:ahLst/>
              <a:rect l="l" t="t" r="r" b="b"/>
              <a:pathLst>
                <a:path w="884" h="281">
                  <a:moveTo>
                    <a:pt x="45" y="259"/>
                  </a:moveTo>
                  <a:lnTo>
                    <a:pt x="34" y="281"/>
                  </a:lnTo>
                  <a:lnTo>
                    <a:pt x="884" y="34"/>
                  </a:lnTo>
                  <a:lnTo>
                    <a:pt x="884" y="0"/>
                  </a:lnTo>
                  <a:lnTo>
                    <a:pt x="34" y="248"/>
                  </a:lnTo>
                  <a:lnTo>
                    <a:pt x="23" y="270"/>
                  </a:lnTo>
                  <a:lnTo>
                    <a:pt x="34" y="248"/>
                  </a:lnTo>
                  <a:lnTo>
                    <a:pt x="0" y="259"/>
                  </a:lnTo>
                  <a:lnTo>
                    <a:pt x="23" y="270"/>
                  </a:lnTo>
                  <a:lnTo>
                    <a:pt x="45" y="259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8493120" y="1498320"/>
              <a:ext cx="319680" cy="247680"/>
            </a:xfrm>
            <a:custGeom>
              <a:avLst/>
              <a:gdLst/>
              <a:ahLst/>
              <a:rect l="l" t="t" r="r" b="b"/>
              <a:pathLst>
                <a:path w="694" h="537">
                  <a:moveTo>
                    <a:pt x="648" y="526"/>
                  </a:moveTo>
                  <a:lnTo>
                    <a:pt x="659" y="504"/>
                  </a:lnTo>
                  <a:lnTo>
                    <a:pt x="22" y="0"/>
                  </a:lnTo>
                  <a:lnTo>
                    <a:pt x="0" y="11"/>
                  </a:lnTo>
                  <a:lnTo>
                    <a:pt x="637" y="526"/>
                  </a:lnTo>
                  <a:lnTo>
                    <a:pt x="648" y="504"/>
                  </a:lnTo>
                  <a:lnTo>
                    <a:pt x="648" y="526"/>
                  </a:lnTo>
                  <a:lnTo>
                    <a:pt x="694" y="537"/>
                  </a:lnTo>
                  <a:lnTo>
                    <a:pt x="659" y="504"/>
                  </a:lnTo>
                  <a:lnTo>
                    <a:pt x="648" y="526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8385840" y="1680120"/>
              <a:ext cx="404640" cy="60480"/>
            </a:xfrm>
            <a:custGeom>
              <a:avLst/>
              <a:gdLst/>
              <a:ahLst/>
              <a:rect l="l" t="t" r="r" b="b"/>
              <a:pathLst>
                <a:path w="884" h="134">
                  <a:moveTo>
                    <a:pt x="35" y="11"/>
                  </a:moveTo>
                  <a:lnTo>
                    <a:pt x="11" y="33"/>
                  </a:lnTo>
                  <a:lnTo>
                    <a:pt x="884" y="134"/>
                  </a:lnTo>
                  <a:lnTo>
                    <a:pt x="884" y="112"/>
                  </a:lnTo>
                  <a:lnTo>
                    <a:pt x="23" y="0"/>
                  </a:lnTo>
                  <a:lnTo>
                    <a:pt x="0" y="22"/>
                  </a:lnTo>
                  <a:lnTo>
                    <a:pt x="23" y="0"/>
                  </a:lnTo>
                  <a:lnTo>
                    <a:pt x="0" y="0"/>
                  </a:lnTo>
                  <a:lnTo>
                    <a:pt x="0" y="22"/>
                  </a:lnTo>
                  <a:lnTo>
                    <a:pt x="35" y="11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8385840" y="1685880"/>
              <a:ext cx="159840" cy="349560"/>
            </a:xfrm>
            <a:custGeom>
              <a:avLst/>
              <a:gdLst/>
              <a:ahLst/>
              <a:rect l="l" t="t" r="r" b="b"/>
              <a:pathLst>
                <a:path w="348" h="763">
                  <a:moveTo>
                    <a:pt x="313" y="741"/>
                  </a:moveTo>
                  <a:lnTo>
                    <a:pt x="337" y="717"/>
                  </a:lnTo>
                  <a:lnTo>
                    <a:pt x="35" y="0"/>
                  </a:lnTo>
                  <a:lnTo>
                    <a:pt x="0" y="11"/>
                  </a:lnTo>
                  <a:lnTo>
                    <a:pt x="313" y="729"/>
                  </a:lnTo>
                  <a:lnTo>
                    <a:pt x="326" y="706"/>
                  </a:lnTo>
                  <a:lnTo>
                    <a:pt x="313" y="741"/>
                  </a:lnTo>
                  <a:lnTo>
                    <a:pt x="348" y="763"/>
                  </a:lnTo>
                  <a:lnTo>
                    <a:pt x="337" y="717"/>
                  </a:lnTo>
                  <a:lnTo>
                    <a:pt x="313" y="741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8206920" y="1809360"/>
              <a:ext cx="327240" cy="214560"/>
            </a:xfrm>
            <a:custGeom>
              <a:avLst/>
              <a:gdLst/>
              <a:ahLst/>
              <a:rect l="l" t="t" r="r" b="b"/>
              <a:pathLst>
                <a:path w="717" h="471">
                  <a:moveTo>
                    <a:pt x="22" y="22"/>
                  </a:moveTo>
                  <a:lnTo>
                    <a:pt x="0" y="33"/>
                  </a:lnTo>
                  <a:lnTo>
                    <a:pt x="704" y="471"/>
                  </a:lnTo>
                  <a:lnTo>
                    <a:pt x="717" y="436"/>
                  </a:lnTo>
                  <a:lnTo>
                    <a:pt x="11" y="11"/>
                  </a:lnTo>
                  <a:lnTo>
                    <a:pt x="0" y="22"/>
                  </a:lnTo>
                  <a:lnTo>
                    <a:pt x="11" y="11"/>
                  </a:lnTo>
                  <a:lnTo>
                    <a:pt x="0" y="0"/>
                  </a:lnTo>
                  <a:lnTo>
                    <a:pt x="0" y="22"/>
                  </a:lnTo>
                  <a:lnTo>
                    <a:pt x="22" y="2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8165160" y="1818000"/>
              <a:ext cx="49680" cy="379800"/>
            </a:xfrm>
            <a:custGeom>
              <a:avLst/>
              <a:gdLst/>
              <a:ahLst/>
              <a:rect l="l" t="t" r="r" b="b"/>
              <a:pathLst>
                <a:path w="112" h="829">
                  <a:moveTo>
                    <a:pt x="0" y="796"/>
                  </a:moveTo>
                  <a:lnTo>
                    <a:pt x="34" y="785"/>
                  </a:lnTo>
                  <a:lnTo>
                    <a:pt x="112" y="0"/>
                  </a:lnTo>
                  <a:lnTo>
                    <a:pt x="90" y="0"/>
                  </a:lnTo>
                  <a:lnTo>
                    <a:pt x="0" y="785"/>
                  </a:lnTo>
                  <a:lnTo>
                    <a:pt x="34" y="785"/>
                  </a:lnTo>
                  <a:lnTo>
                    <a:pt x="0" y="796"/>
                  </a:lnTo>
                  <a:lnTo>
                    <a:pt x="22" y="829"/>
                  </a:lnTo>
                  <a:lnTo>
                    <a:pt x="34" y="785"/>
                  </a:lnTo>
                  <a:lnTo>
                    <a:pt x="0" y="796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7975440" y="1859400"/>
              <a:ext cx="204120" cy="324720"/>
            </a:xfrm>
            <a:custGeom>
              <a:avLst/>
              <a:gdLst/>
              <a:ahLst/>
              <a:rect l="l" t="t" r="r" b="b"/>
              <a:pathLst>
                <a:path w="448" h="706">
                  <a:moveTo>
                    <a:pt x="34" y="33"/>
                  </a:moveTo>
                  <a:lnTo>
                    <a:pt x="0" y="33"/>
                  </a:lnTo>
                  <a:lnTo>
                    <a:pt x="414" y="706"/>
                  </a:lnTo>
                  <a:lnTo>
                    <a:pt x="448" y="695"/>
                  </a:lnTo>
                  <a:lnTo>
                    <a:pt x="34" y="22"/>
                  </a:lnTo>
                  <a:lnTo>
                    <a:pt x="0" y="22"/>
                  </a:lnTo>
                  <a:lnTo>
                    <a:pt x="34" y="22"/>
                  </a:lnTo>
                  <a:lnTo>
                    <a:pt x="23" y="0"/>
                  </a:lnTo>
                  <a:lnTo>
                    <a:pt x="0" y="22"/>
                  </a:lnTo>
                  <a:lnTo>
                    <a:pt x="34" y="33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7768440" y="1870560"/>
              <a:ext cx="220320" cy="338400"/>
            </a:xfrm>
            <a:custGeom>
              <a:avLst/>
              <a:gdLst/>
              <a:ahLst/>
              <a:rect l="l" t="t" r="r" b="b"/>
              <a:pathLst>
                <a:path w="482" h="740">
                  <a:moveTo>
                    <a:pt x="0" y="695"/>
                  </a:moveTo>
                  <a:lnTo>
                    <a:pt x="24" y="706"/>
                  </a:lnTo>
                  <a:lnTo>
                    <a:pt x="482" y="11"/>
                  </a:lnTo>
                  <a:lnTo>
                    <a:pt x="448" y="0"/>
                  </a:lnTo>
                  <a:lnTo>
                    <a:pt x="0" y="684"/>
                  </a:lnTo>
                  <a:lnTo>
                    <a:pt x="24" y="695"/>
                  </a:lnTo>
                  <a:lnTo>
                    <a:pt x="0" y="695"/>
                  </a:lnTo>
                  <a:lnTo>
                    <a:pt x="0" y="740"/>
                  </a:lnTo>
                  <a:lnTo>
                    <a:pt x="24" y="706"/>
                  </a:lnTo>
                  <a:lnTo>
                    <a:pt x="0" y="695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7754760" y="1818000"/>
              <a:ext cx="24840" cy="371520"/>
            </a:xfrm>
            <a:custGeom>
              <a:avLst/>
              <a:gdLst/>
              <a:ahLst/>
              <a:rect l="l" t="t" r="r" b="b"/>
              <a:pathLst>
                <a:path w="57" h="807">
                  <a:moveTo>
                    <a:pt x="22" y="44"/>
                  </a:moveTo>
                  <a:lnTo>
                    <a:pt x="0" y="33"/>
                  </a:lnTo>
                  <a:lnTo>
                    <a:pt x="33" y="807"/>
                  </a:lnTo>
                  <a:lnTo>
                    <a:pt x="57" y="807"/>
                  </a:lnTo>
                  <a:lnTo>
                    <a:pt x="22" y="33"/>
                  </a:lnTo>
                  <a:lnTo>
                    <a:pt x="11" y="22"/>
                  </a:lnTo>
                  <a:lnTo>
                    <a:pt x="22" y="33"/>
                  </a:lnTo>
                  <a:lnTo>
                    <a:pt x="22" y="0"/>
                  </a:lnTo>
                  <a:lnTo>
                    <a:pt x="11" y="22"/>
                  </a:lnTo>
                  <a:lnTo>
                    <a:pt x="22" y="4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7404840" y="1828800"/>
              <a:ext cx="358560" cy="237240"/>
            </a:xfrm>
            <a:custGeom>
              <a:avLst/>
              <a:gdLst/>
              <a:ahLst/>
              <a:rect l="l" t="t" r="r" b="b"/>
              <a:pathLst>
                <a:path w="783" h="515">
                  <a:moveTo>
                    <a:pt x="22" y="471"/>
                  </a:moveTo>
                  <a:lnTo>
                    <a:pt x="46" y="482"/>
                  </a:lnTo>
                  <a:lnTo>
                    <a:pt x="783" y="22"/>
                  </a:lnTo>
                  <a:lnTo>
                    <a:pt x="772" y="0"/>
                  </a:lnTo>
                  <a:lnTo>
                    <a:pt x="34" y="460"/>
                  </a:lnTo>
                  <a:lnTo>
                    <a:pt x="46" y="482"/>
                  </a:lnTo>
                  <a:lnTo>
                    <a:pt x="22" y="471"/>
                  </a:lnTo>
                  <a:lnTo>
                    <a:pt x="0" y="515"/>
                  </a:lnTo>
                  <a:lnTo>
                    <a:pt x="46" y="482"/>
                  </a:lnTo>
                  <a:lnTo>
                    <a:pt x="22" y="471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7413480" y="1699560"/>
              <a:ext cx="181800" cy="349560"/>
            </a:xfrm>
            <a:custGeom>
              <a:avLst/>
              <a:gdLst/>
              <a:ahLst/>
              <a:rect l="l" t="t" r="r" b="b"/>
              <a:pathLst>
                <a:path w="392" h="762">
                  <a:moveTo>
                    <a:pt x="370" y="34"/>
                  </a:moveTo>
                  <a:lnTo>
                    <a:pt x="359" y="11"/>
                  </a:lnTo>
                  <a:lnTo>
                    <a:pt x="0" y="751"/>
                  </a:lnTo>
                  <a:lnTo>
                    <a:pt x="24" y="762"/>
                  </a:lnTo>
                  <a:lnTo>
                    <a:pt x="381" y="23"/>
                  </a:lnTo>
                  <a:lnTo>
                    <a:pt x="370" y="11"/>
                  </a:lnTo>
                  <a:lnTo>
                    <a:pt x="381" y="23"/>
                  </a:lnTo>
                  <a:lnTo>
                    <a:pt x="392" y="0"/>
                  </a:lnTo>
                  <a:lnTo>
                    <a:pt x="370" y="11"/>
                  </a:lnTo>
                  <a:lnTo>
                    <a:pt x="370" y="3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7162560" y="1704960"/>
              <a:ext cx="421560" cy="82440"/>
            </a:xfrm>
            <a:custGeom>
              <a:avLst/>
              <a:gdLst/>
              <a:ahLst/>
              <a:rect l="l" t="t" r="r" b="b"/>
              <a:pathLst>
                <a:path w="917" h="179">
                  <a:moveTo>
                    <a:pt x="33" y="146"/>
                  </a:moveTo>
                  <a:lnTo>
                    <a:pt x="44" y="168"/>
                  </a:lnTo>
                  <a:lnTo>
                    <a:pt x="917" y="23"/>
                  </a:lnTo>
                  <a:lnTo>
                    <a:pt x="917" y="0"/>
                  </a:lnTo>
                  <a:lnTo>
                    <a:pt x="44" y="146"/>
                  </a:lnTo>
                  <a:lnTo>
                    <a:pt x="55" y="168"/>
                  </a:lnTo>
                  <a:lnTo>
                    <a:pt x="33" y="146"/>
                  </a:lnTo>
                  <a:lnTo>
                    <a:pt x="0" y="179"/>
                  </a:lnTo>
                  <a:lnTo>
                    <a:pt x="44" y="168"/>
                  </a:lnTo>
                  <a:lnTo>
                    <a:pt x="33" y="146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7179120" y="1520280"/>
              <a:ext cx="327960" cy="261720"/>
            </a:xfrm>
            <a:custGeom>
              <a:avLst/>
              <a:gdLst/>
              <a:ahLst/>
              <a:rect l="l" t="t" r="r" b="b"/>
              <a:pathLst>
                <a:path w="717" h="572">
                  <a:moveTo>
                    <a:pt x="671" y="34"/>
                  </a:moveTo>
                  <a:lnTo>
                    <a:pt x="671" y="11"/>
                  </a:lnTo>
                  <a:lnTo>
                    <a:pt x="0" y="550"/>
                  </a:lnTo>
                  <a:lnTo>
                    <a:pt x="22" y="572"/>
                  </a:lnTo>
                  <a:lnTo>
                    <a:pt x="682" y="22"/>
                  </a:lnTo>
                  <a:lnTo>
                    <a:pt x="682" y="0"/>
                  </a:lnTo>
                  <a:lnTo>
                    <a:pt x="682" y="22"/>
                  </a:lnTo>
                  <a:lnTo>
                    <a:pt x="717" y="11"/>
                  </a:lnTo>
                  <a:lnTo>
                    <a:pt x="682" y="0"/>
                  </a:lnTo>
                  <a:lnTo>
                    <a:pt x="671" y="3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7080120" y="1427040"/>
              <a:ext cx="410400" cy="109800"/>
            </a:xfrm>
            <a:custGeom>
              <a:avLst/>
              <a:gdLst/>
              <a:ahLst/>
              <a:rect l="l" t="t" r="r" b="b"/>
              <a:pathLst>
                <a:path w="894" h="236">
                  <a:moveTo>
                    <a:pt x="56" y="0"/>
                  </a:moveTo>
                  <a:lnTo>
                    <a:pt x="56" y="35"/>
                  </a:lnTo>
                  <a:lnTo>
                    <a:pt x="883" y="236"/>
                  </a:lnTo>
                  <a:lnTo>
                    <a:pt x="894" y="202"/>
                  </a:lnTo>
                  <a:lnTo>
                    <a:pt x="56" y="0"/>
                  </a:lnTo>
                  <a:lnTo>
                    <a:pt x="56" y="35"/>
                  </a:lnTo>
                  <a:lnTo>
                    <a:pt x="56" y="0"/>
                  </a:lnTo>
                  <a:lnTo>
                    <a:pt x="0" y="23"/>
                  </a:lnTo>
                  <a:lnTo>
                    <a:pt x="56" y="35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7107480" y="1314000"/>
              <a:ext cx="404640" cy="129240"/>
            </a:xfrm>
            <a:custGeom>
              <a:avLst/>
              <a:gdLst/>
              <a:ahLst/>
              <a:rect l="l" t="t" r="r" b="b"/>
              <a:pathLst>
                <a:path w="884" h="281">
                  <a:moveTo>
                    <a:pt x="838" y="34"/>
                  </a:moveTo>
                  <a:lnTo>
                    <a:pt x="850" y="0"/>
                  </a:lnTo>
                  <a:lnTo>
                    <a:pt x="0" y="246"/>
                  </a:lnTo>
                  <a:lnTo>
                    <a:pt x="0" y="281"/>
                  </a:lnTo>
                  <a:lnTo>
                    <a:pt x="850" y="34"/>
                  </a:lnTo>
                  <a:lnTo>
                    <a:pt x="861" y="11"/>
                  </a:lnTo>
                  <a:lnTo>
                    <a:pt x="850" y="34"/>
                  </a:lnTo>
                  <a:lnTo>
                    <a:pt x="884" y="22"/>
                  </a:lnTo>
                  <a:lnTo>
                    <a:pt x="861" y="11"/>
                  </a:lnTo>
                  <a:lnTo>
                    <a:pt x="838" y="3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7184880" y="1077120"/>
              <a:ext cx="316440" cy="252720"/>
            </a:xfrm>
            <a:custGeom>
              <a:avLst/>
              <a:gdLst/>
              <a:ahLst/>
              <a:rect l="l" t="t" r="r" b="b"/>
              <a:pathLst>
                <a:path w="694" h="550">
                  <a:moveTo>
                    <a:pt x="45" y="11"/>
                  </a:moveTo>
                  <a:lnTo>
                    <a:pt x="34" y="34"/>
                  </a:lnTo>
                  <a:lnTo>
                    <a:pt x="671" y="550"/>
                  </a:lnTo>
                  <a:lnTo>
                    <a:pt x="694" y="527"/>
                  </a:lnTo>
                  <a:lnTo>
                    <a:pt x="56" y="11"/>
                  </a:lnTo>
                  <a:lnTo>
                    <a:pt x="45" y="34"/>
                  </a:lnTo>
                  <a:lnTo>
                    <a:pt x="45" y="11"/>
                  </a:lnTo>
                  <a:lnTo>
                    <a:pt x="0" y="0"/>
                  </a:lnTo>
                  <a:lnTo>
                    <a:pt x="34" y="34"/>
                  </a:lnTo>
                  <a:lnTo>
                    <a:pt x="45" y="11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7203600" y="1082160"/>
              <a:ext cx="410760" cy="63720"/>
            </a:xfrm>
            <a:custGeom>
              <a:avLst/>
              <a:gdLst/>
              <a:ahLst/>
              <a:rect l="l" t="t" r="r" b="b"/>
              <a:pathLst>
                <a:path w="895" h="135">
                  <a:moveTo>
                    <a:pt x="850" y="124"/>
                  </a:moveTo>
                  <a:lnTo>
                    <a:pt x="873" y="102"/>
                  </a:lnTo>
                  <a:lnTo>
                    <a:pt x="0" y="0"/>
                  </a:lnTo>
                  <a:lnTo>
                    <a:pt x="0" y="23"/>
                  </a:lnTo>
                  <a:lnTo>
                    <a:pt x="862" y="135"/>
                  </a:lnTo>
                  <a:lnTo>
                    <a:pt x="884" y="113"/>
                  </a:lnTo>
                  <a:lnTo>
                    <a:pt x="862" y="135"/>
                  </a:lnTo>
                  <a:lnTo>
                    <a:pt x="895" y="135"/>
                  </a:lnTo>
                  <a:lnTo>
                    <a:pt x="884" y="113"/>
                  </a:lnTo>
                  <a:lnTo>
                    <a:pt x="850" y="12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7446600" y="793080"/>
              <a:ext cx="162360" cy="347040"/>
            </a:xfrm>
            <a:custGeom>
              <a:avLst/>
              <a:gdLst/>
              <a:ahLst/>
              <a:rect l="l" t="t" r="r" b="b"/>
              <a:pathLst>
                <a:path w="358" h="752">
                  <a:moveTo>
                    <a:pt x="45" y="23"/>
                  </a:moveTo>
                  <a:lnTo>
                    <a:pt x="22" y="34"/>
                  </a:lnTo>
                  <a:lnTo>
                    <a:pt x="324" y="752"/>
                  </a:lnTo>
                  <a:lnTo>
                    <a:pt x="358" y="741"/>
                  </a:lnTo>
                  <a:lnTo>
                    <a:pt x="45" y="23"/>
                  </a:lnTo>
                  <a:lnTo>
                    <a:pt x="33" y="45"/>
                  </a:lnTo>
                  <a:lnTo>
                    <a:pt x="45" y="23"/>
                  </a:lnTo>
                  <a:lnTo>
                    <a:pt x="0" y="0"/>
                  </a:lnTo>
                  <a:lnTo>
                    <a:pt x="22" y="34"/>
                  </a:lnTo>
                  <a:lnTo>
                    <a:pt x="45" y="23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7460280" y="804240"/>
              <a:ext cx="330480" cy="211680"/>
            </a:xfrm>
            <a:custGeom>
              <a:avLst/>
              <a:gdLst/>
              <a:ahLst/>
              <a:rect l="l" t="t" r="r" b="b"/>
              <a:pathLst>
                <a:path w="717" h="460">
                  <a:moveTo>
                    <a:pt x="695" y="437"/>
                  </a:moveTo>
                  <a:lnTo>
                    <a:pt x="717" y="426"/>
                  </a:lnTo>
                  <a:lnTo>
                    <a:pt x="12" y="0"/>
                  </a:lnTo>
                  <a:lnTo>
                    <a:pt x="0" y="22"/>
                  </a:lnTo>
                  <a:lnTo>
                    <a:pt x="706" y="448"/>
                  </a:lnTo>
                  <a:lnTo>
                    <a:pt x="717" y="437"/>
                  </a:lnTo>
                  <a:lnTo>
                    <a:pt x="706" y="448"/>
                  </a:lnTo>
                  <a:lnTo>
                    <a:pt x="717" y="460"/>
                  </a:lnTo>
                  <a:lnTo>
                    <a:pt x="717" y="437"/>
                  </a:lnTo>
                  <a:lnTo>
                    <a:pt x="695" y="437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7779600" y="644400"/>
              <a:ext cx="52200" cy="361080"/>
            </a:xfrm>
            <a:custGeom>
              <a:avLst/>
              <a:gdLst/>
              <a:ahLst/>
              <a:rect l="l" t="t" r="r" b="b"/>
              <a:pathLst>
                <a:path w="111" h="784">
                  <a:moveTo>
                    <a:pt x="100" y="0"/>
                  </a:moveTo>
                  <a:lnTo>
                    <a:pt x="89" y="0"/>
                  </a:lnTo>
                  <a:lnTo>
                    <a:pt x="0" y="784"/>
                  </a:lnTo>
                  <a:lnTo>
                    <a:pt x="22" y="784"/>
                  </a:lnTo>
                  <a:lnTo>
                    <a:pt x="111" y="0"/>
                  </a:lnTo>
                  <a:lnTo>
                    <a:pt x="10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7559280" y="1010880"/>
              <a:ext cx="862560" cy="900720"/>
            </a:xfrm>
            <a:custGeom>
              <a:avLst/>
              <a:gdLst/>
              <a:ahLst/>
              <a:rect l="l" t="t" r="r" b="b"/>
              <a:pathLst>
                <a:path w="1880" h="1963">
                  <a:moveTo>
                    <a:pt x="660" y="1727"/>
                  </a:moveTo>
                  <a:lnTo>
                    <a:pt x="694" y="1727"/>
                  </a:lnTo>
                  <a:lnTo>
                    <a:pt x="727" y="1715"/>
                  </a:lnTo>
                  <a:lnTo>
                    <a:pt x="760" y="1704"/>
                  </a:lnTo>
                  <a:lnTo>
                    <a:pt x="795" y="1704"/>
                  </a:lnTo>
                  <a:lnTo>
                    <a:pt x="828" y="1693"/>
                  </a:lnTo>
                  <a:lnTo>
                    <a:pt x="862" y="1693"/>
                  </a:lnTo>
                  <a:lnTo>
                    <a:pt x="895" y="1682"/>
                  </a:lnTo>
                  <a:lnTo>
                    <a:pt x="929" y="1671"/>
                  </a:lnTo>
                  <a:lnTo>
                    <a:pt x="963" y="1671"/>
                  </a:lnTo>
                  <a:lnTo>
                    <a:pt x="996" y="1660"/>
                  </a:lnTo>
                  <a:lnTo>
                    <a:pt x="1029" y="1660"/>
                  </a:lnTo>
                  <a:lnTo>
                    <a:pt x="1063" y="1660"/>
                  </a:lnTo>
                  <a:lnTo>
                    <a:pt x="1097" y="1649"/>
                  </a:lnTo>
                  <a:lnTo>
                    <a:pt x="1130" y="1649"/>
                  </a:lnTo>
                  <a:lnTo>
                    <a:pt x="1164" y="1638"/>
                  </a:lnTo>
                  <a:lnTo>
                    <a:pt x="1197" y="1638"/>
                  </a:lnTo>
                  <a:lnTo>
                    <a:pt x="1231" y="1627"/>
                  </a:lnTo>
                  <a:lnTo>
                    <a:pt x="1265" y="1627"/>
                  </a:lnTo>
                  <a:lnTo>
                    <a:pt x="1298" y="1627"/>
                  </a:lnTo>
                  <a:lnTo>
                    <a:pt x="1342" y="1614"/>
                  </a:lnTo>
                  <a:lnTo>
                    <a:pt x="1377" y="1614"/>
                  </a:lnTo>
                  <a:lnTo>
                    <a:pt x="1410" y="1603"/>
                  </a:lnTo>
                  <a:lnTo>
                    <a:pt x="1443" y="1603"/>
                  </a:lnTo>
                  <a:lnTo>
                    <a:pt x="1477" y="1603"/>
                  </a:lnTo>
                  <a:lnTo>
                    <a:pt x="1510" y="1592"/>
                  </a:lnTo>
                  <a:lnTo>
                    <a:pt x="1545" y="1592"/>
                  </a:lnTo>
                  <a:lnTo>
                    <a:pt x="1578" y="1592"/>
                  </a:lnTo>
                  <a:lnTo>
                    <a:pt x="1611" y="1592"/>
                  </a:lnTo>
                  <a:lnTo>
                    <a:pt x="1656" y="1581"/>
                  </a:lnTo>
                  <a:lnTo>
                    <a:pt x="1690" y="1581"/>
                  </a:lnTo>
                  <a:lnTo>
                    <a:pt x="1723" y="1581"/>
                  </a:lnTo>
                  <a:lnTo>
                    <a:pt x="1757" y="1570"/>
                  </a:lnTo>
                  <a:lnTo>
                    <a:pt x="1812" y="1570"/>
                  </a:lnTo>
                  <a:lnTo>
                    <a:pt x="1858" y="1548"/>
                  </a:lnTo>
                  <a:lnTo>
                    <a:pt x="1869" y="1526"/>
                  </a:lnTo>
                  <a:lnTo>
                    <a:pt x="1880" y="1491"/>
                  </a:lnTo>
                  <a:lnTo>
                    <a:pt x="1880" y="1458"/>
                  </a:lnTo>
                  <a:lnTo>
                    <a:pt x="1880" y="1424"/>
                  </a:lnTo>
                  <a:lnTo>
                    <a:pt x="1869" y="1402"/>
                  </a:lnTo>
                  <a:lnTo>
                    <a:pt x="1869" y="1379"/>
                  </a:lnTo>
                  <a:lnTo>
                    <a:pt x="1824" y="1189"/>
                  </a:lnTo>
                  <a:lnTo>
                    <a:pt x="1790" y="1031"/>
                  </a:lnTo>
                  <a:lnTo>
                    <a:pt x="1768" y="897"/>
                  </a:lnTo>
                  <a:lnTo>
                    <a:pt x="1768" y="763"/>
                  </a:lnTo>
                  <a:lnTo>
                    <a:pt x="1768" y="628"/>
                  </a:lnTo>
                  <a:lnTo>
                    <a:pt x="1790" y="483"/>
                  </a:lnTo>
                  <a:lnTo>
                    <a:pt x="1801" y="325"/>
                  </a:lnTo>
                  <a:lnTo>
                    <a:pt x="1824" y="135"/>
                  </a:lnTo>
                  <a:lnTo>
                    <a:pt x="1824" y="90"/>
                  </a:lnTo>
                  <a:lnTo>
                    <a:pt x="1812" y="56"/>
                  </a:lnTo>
                  <a:lnTo>
                    <a:pt x="1790" y="34"/>
                  </a:lnTo>
                  <a:lnTo>
                    <a:pt x="1768" y="12"/>
                  </a:lnTo>
                  <a:lnTo>
                    <a:pt x="1746" y="12"/>
                  </a:lnTo>
                  <a:lnTo>
                    <a:pt x="1734" y="0"/>
                  </a:lnTo>
                  <a:lnTo>
                    <a:pt x="1712" y="0"/>
                  </a:lnTo>
                  <a:lnTo>
                    <a:pt x="1667" y="0"/>
                  </a:lnTo>
                  <a:lnTo>
                    <a:pt x="1633" y="0"/>
                  </a:lnTo>
                  <a:lnTo>
                    <a:pt x="1589" y="12"/>
                  </a:lnTo>
                  <a:lnTo>
                    <a:pt x="1556" y="12"/>
                  </a:lnTo>
                  <a:lnTo>
                    <a:pt x="1510" y="12"/>
                  </a:lnTo>
                  <a:lnTo>
                    <a:pt x="1477" y="12"/>
                  </a:lnTo>
                  <a:lnTo>
                    <a:pt x="1432" y="12"/>
                  </a:lnTo>
                  <a:lnTo>
                    <a:pt x="1399" y="23"/>
                  </a:lnTo>
                  <a:lnTo>
                    <a:pt x="1354" y="23"/>
                  </a:lnTo>
                  <a:lnTo>
                    <a:pt x="1320" y="23"/>
                  </a:lnTo>
                  <a:lnTo>
                    <a:pt x="1287" y="23"/>
                  </a:lnTo>
                  <a:lnTo>
                    <a:pt x="1242" y="23"/>
                  </a:lnTo>
                  <a:lnTo>
                    <a:pt x="1208" y="34"/>
                  </a:lnTo>
                  <a:lnTo>
                    <a:pt x="1164" y="34"/>
                  </a:lnTo>
                  <a:lnTo>
                    <a:pt x="1130" y="34"/>
                  </a:lnTo>
                  <a:lnTo>
                    <a:pt x="1086" y="45"/>
                  </a:lnTo>
                  <a:lnTo>
                    <a:pt x="1051" y="45"/>
                  </a:lnTo>
                  <a:lnTo>
                    <a:pt x="1007" y="45"/>
                  </a:lnTo>
                  <a:lnTo>
                    <a:pt x="974" y="56"/>
                  </a:lnTo>
                  <a:lnTo>
                    <a:pt x="929" y="56"/>
                  </a:lnTo>
                  <a:lnTo>
                    <a:pt x="895" y="56"/>
                  </a:lnTo>
                  <a:lnTo>
                    <a:pt x="850" y="68"/>
                  </a:lnTo>
                  <a:lnTo>
                    <a:pt x="817" y="68"/>
                  </a:lnTo>
                  <a:lnTo>
                    <a:pt x="773" y="68"/>
                  </a:lnTo>
                  <a:lnTo>
                    <a:pt x="738" y="79"/>
                  </a:lnTo>
                  <a:lnTo>
                    <a:pt x="694" y="79"/>
                  </a:lnTo>
                  <a:lnTo>
                    <a:pt x="660" y="79"/>
                  </a:lnTo>
                  <a:lnTo>
                    <a:pt x="616" y="90"/>
                  </a:lnTo>
                  <a:lnTo>
                    <a:pt x="582" y="90"/>
                  </a:lnTo>
                  <a:lnTo>
                    <a:pt x="537" y="101"/>
                  </a:lnTo>
                  <a:lnTo>
                    <a:pt x="504" y="101"/>
                  </a:lnTo>
                  <a:lnTo>
                    <a:pt x="458" y="101"/>
                  </a:lnTo>
                  <a:lnTo>
                    <a:pt x="369" y="124"/>
                  </a:lnTo>
                  <a:lnTo>
                    <a:pt x="280" y="146"/>
                  </a:lnTo>
                  <a:lnTo>
                    <a:pt x="213" y="169"/>
                  </a:lnTo>
                  <a:lnTo>
                    <a:pt x="156" y="191"/>
                  </a:lnTo>
                  <a:lnTo>
                    <a:pt x="112" y="213"/>
                  </a:lnTo>
                  <a:lnTo>
                    <a:pt x="78" y="236"/>
                  </a:lnTo>
                  <a:lnTo>
                    <a:pt x="45" y="259"/>
                  </a:lnTo>
                  <a:lnTo>
                    <a:pt x="34" y="281"/>
                  </a:lnTo>
                  <a:lnTo>
                    <a:pt x="23" y="303"/>
                  </a:lnTo>
                  <a:lnTo>
                    <a:pt x="12" y="325"/>
                  </a:lnTo>
                  <a:lnTo>
                    <a:pt x="12" y="336"/>
                  </a:lnTo>
                  <a:lnTo>
                    <a:pt x="23" y="360"/>
                  </a:lnTo>
                  <a:lnTo>
                    <a:pt x="23" y="371"/>
                  </a:lnTo>
                  <a:lnTo>
                    <a:pt x="23" y="382"/>
                  </a:lnTo>
                  <a:lnTo>
                    <a:pt x="34" y="382"/>
                  </a:lnTo>
                  <a:lnTo>
                    <a:pt x="23" y="505"/>
                  </a:lnTo>
                  <a:lnTo>
                    <a:pt x="12" y="617"/>
                  </a:lnTo>
                  <a:lnTo>
                    <a:pt x="12" y="718"/>
                  </a:lnTo>
                  <a:lnTo>
                    <a:pt x="0" y="819"/>
                  </a:lnTo>
                  <a:lnTo>
                    <a:pt x="0" y="908"/>
                  </a:lnTo>
                  <a:lnTo>
                    <a:pt x="0" y="998"/>
                  </a:lnTo>
                  <a:lnTo>
                    <a:pt x="0" y="1088"/>
                  </a:lnTo>
                  <a:lnTo>
                    <a:pt x="0" y="1178"/>
                  </a:lnTo>
                  <a:lnTo>
                    <a:pt x="12" y="1256"/>
                  </a:lnTo>
                  <a:lnTo>
                    <a:pt x="12" y="1346"/>
                  </a:lnTo>
                  <a:lnTo>
                    <a:pt x="34" y="1436"/>
                  </a:lnTo>
                  <a:lnTo>
                    <a:pt x="45" y="1526"/>
                  </a:lnTo>
                  <a:lnTo>
                    <a:pt x="67" y="1627"/>
                  </a:lnTo>
                  <a:lnTo>
                    <a:pt x="101" y="1727"/>
                  </a:lnTo>
                  <a:lnTo>
                    <a:pt x="134" y="1839"/>
                  </a:lnTo>
                  <a:lnTo>
                    <a:pt x="168" y="1951"/>
                  </a:lnTo>
                  <a:lnTo>
                    <a:pt x="179" y="1951"/>
                  </a:lnTo>
                  <a:lnTo>
                    <a:pt x="179" y="1963"/>
                  </a:lnTo>
                  <a:lnTo>
                    <a:pt x="202" y="1963"/>
                  </a:lnTo>
                  <a:lnTo>
                    <a:pt x="213" y="1963"/>
                  </a:lnTo>
                  <a:lnTo>
                    <a:pt x="246" y="1963"/>
                  </a:lnTo>
                  <a:lnTo>
                    <a:pt x="280" y="1951"/>
                  </a:lnTo>
                  <a:lnTo>
                    <a:pt x="314" y="1918"/>
                  </a:lnTo>
                  <a:lnTo>
                    <a:pt x="358" y="1884"/>
                  </a:lnTo>
                  <a:lnTo>
                    <a:pt x="381" y="1862"/>
                  </a:lnTo>
                  <a:lnTo>
                    <a:pt x="403" y="1839"/>
                  </a:lnTo>
                  <a:lnTo>
                    <a:pt x="425" y="1817"/>
                  </a:lnTo>
                  <a:lnTo>
                    <a:pt x="458" y="1805"/>
                  </a:lnTo>
                  <a:lnTo>
                    <a:pt x="482" y="1783"/>
                  </a:lnTo>
                  <a:lnTo>
                    <a:pt x="504" y="1772"/>
                  </a:lnTo>
                  <a:lnTo>
                    <a:pt x="526" y="1761"/>
                  </a:lnTo>
                  <a:lnTo>
                    <a:pt x="548" y="1761"/>
                  </a:lnTo>
                  <a:lnTo>
                    <a:pt x="571" y="1750"/>
                  </a:lnTo>
                  <a:lnTo>
                    <a:pt x="593" y="1739"/>
                  </a:lnTo>
                  <a:lnTo>
                    <a:pt x="616" y="1739"/>
                  </a:lnTo>
                  <a:lnTo>
                    <a:pt x="627" y="1739"/>
                  </a:lnTo>
                  <a:lnTo>
                    <a:pt x="638" y="1727"/>
                  </a:lnTo>
                  <a:lnTo>
                    <a:pt x="649" y="1727"/>
                  </a:lnTo>
                  <a:lnTo>
                    <a:pt x="660" y="1727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7862040" y="1726920"/>
              <a:ext cx="504000" cy="82440"/>
            </a:xfrm>
            <a:custGeom>
              <a:avLst/>
              <a:gdLst/>
              <a:ahLst/>
              <a:rect l="l" t="t" r="r" b="b"/>
              <a:pathLst>
                <a:path w="1097" h="180">
                  <a:moveTo>
                    <a:pt x="1097" y="0"/>
                  </a:moveTo>
                  <a:lnTo>
                    <a:pt x="1063" y="0"/>
                  </a:lnTo>
                  <a:lnTo>
                    <a:pt x="1030" y="11"/>
                  </a:lnTo>
                  <a:lnTo>
                    <a:pt x="985" y="11"/>
                  </a:lnTo>
                  <a:lnTo>
                    <a:pt x="951" y="11"/>
                  </a:lnTo>
                  <a:lnTo>
                    <a:pt x="918" y="22"/>
                  </a:lnTo>
                  <a:lnTo>
                    <a:pt x="885" y="22"/>
                  </a:lnTo>
                  <a:lnTo>
                    <a:pt x="850" y="22"/>
                  </a:lnTo>
                  <a:lnTo>
                    <a:pt x="817" y="33"/>
                  </a:lnTo>
                  <a:lnTo>
                    <a:pt x="783" y="33"/>
                  </a:lnTo>
                  <a:lnTo>
                    <a:pt x="750" y="33"/>
                  </a:lnTo>
                  <a:lnTo>
                    <a:pt x="705" y="44"/>
                  </a:lnTo>
                  <a:lnTo>
                    <a:pt x="671" y="44"/>
                  </a:lnTo>
                  <a:lnTo>
                    <a:pt x="638" y="44"/>
                  </a:lnTo>
                  <a:lnTo>
                    <a:pt x="605" y="55"/>
                  </a:lnTo>
                  <a:lnTo>
                    <a:pt x="571" y="55"/>
                  </a:lnTo>
                  <a:lnTo>
                    <a:pt x="537" y="68"/>
                  </a:lnTo>
                  <a:lnTo>
                    <a:pt x="504" y="68"/>
                  </a:lnTo>
                  <a:lnTo>
                    <a:pt x="470" y="68"/>
                  </a:lnTo>
                  <a:lnTo>
                    <a:pt x="437" y="79"/>
                  </a:lnTo>
                  <a:lnTo>
                    <a:pt x="403" y="79"/>
                  </a:lnTo>
                  <a:lnTo>
                    <a:pt x="369" y="90"/>
                  </a:lnTo>
                  <a:lnTo>
                    <a:pt x="336" y="90"/>
                  </a:lnTo>
                  <a:lnTo>
                    <a:pt x="303" y="101"/>
                  </a:lnTo>
                  <a:lnTo>
                    <a:pt x="269" y="101"/>
                  </a:lnTo>
                  <a:lnTo>
                    <a:pt x="235" y="112"/>
                  </a:lnTo>
                  <a:lnTo>
                    <a:pt x="202" y="112"/>
                  </a:lnTo>
                  <a:lnTo>
                    <a:pt x="168" y="123"/>
                  </a:lnTo>
                  <a:lnTo>
                    <a:pt x="135" y="134"/>
                  </a:lnTo>
                  <a:lnTo>
                    <a:pt x="100" y="134"/>
                  </a:lnTo>
                  <a:lnTo>
                    <a:pt x="67" y="145"/>
                  </a:lnTo>
                  <a:lnTo>
                    <a:pt x="34" y="145"/>
                  </a:lnTo>
                  <a:lnTo>
                    <a:pt x="0" y="156"/>
                  </a:lnTo>
                  <a:lnTo>
                    <a:pt x="0" y="180"/>
                  </a:lnTo>
                  <a:lnTo>
                    <a:pt x="34" y="180"/>
                  </a:lnTo>
                  <a:lnTo>
                    <a:pt x="67" y="168"/>
                  </a:lnTo>
                  <a:lnTo>
                    <a:pt x="100" y="168"/>
                  </a:lnTo>
                  <a:lnTo>
                    <a:pt x="135" y="156"/>
                  </a:lnTo>
                  <a:lnTo>
                    <a:pt x="168" y="145"/>
                  </a:lnTo>
                  <a:lnTo>
                    <a:pt x="202" y="145"/>
                  </a:lnTo>
                  <a:lnTo>
                    <a:pt x="235" y="134"/>
                  </a:lnTo>
                  <a:lnTo>
                    <a:pt x="269" y="134"/>
                  </a:lnTo>
                  <a:lnTo>
                    <a:pt x="303" y="123"/>
                  </a:lnTo>
                  <a:lnTo>
                    <a:pt x="336" y="123"/>
                  </a:lnTo>
                  <a:lnTo>
                    <a:pt x="369" y="112"/>
                  </a:lnTo>
                  <a:lnTo>
                    <a:pt x="403" y="112"/>
                  </a:lnTo>
                  <a:lnTo>
                    <a:pt x="437" y="101"/>
                  </a:lnTo>
                  <a:lnTo>
                    <a:pt x="470" y="101"/>
                  </a:lnTo>
                  <a:lnTo>
                    <a:pt x="504" y="90"/>
                  </a:lnTo>
                  <a:lnTo>
                    <a:pt x="537" y="90"/>
                  </a:lnTo>
                  <a:lnTo>
                    <a:pt x="571" y="79"/>
                  </a:lnTo>
                  <a:lnTo>
                    <a:pt x="605" y="79"/>
                  </a:lnTo>
                  <a:lnTo>
                    <a:pt x="649" y="79"/>
                  </a:lnTo>
                  <a:lnTo>
                    <a:pt x="682" y="68"/>
                  </a:lnTo>
                  <a:lnTo>
                    <a:pt x="717" y="68"/>
                  </a:lnTo>
                  <a:lnTo>
                    <a:pt x="750" y="68"/>
                  </a:lnTo>
                  <a:lnTo>
                    <a:pt x="783" y="55"/>
                  </a:lnTo>
                  <a:lnTo>
                    <a:pt x="817" y="55"/>
                  </a:lnTo>
                  <a:lnTo>
                    <a:pt x="850" y="55"/>
                  </a:lnTo>
                  <a:lnTo>
                    <a:pt x="885" y="44"/>
                  </a:lnTo>
                  <a:lnTo>
                    <a:pt x="918" y="44"/>
                  </a:lnTo>
                  <a:lnTo>
                    <a:pt x="951" y="44"/>
                  </a:lnTo>
                  <a:lnTo>
                    <a:pt x="996" y="33"/>
                  </a:lnTo>
                  <a:lnTo>
                    <a:pt x="1030" y="33"/>
                  </a:lnTo>
                  <a:lnTo>
                    <a:pt x="1063" y="33"/>
                  </a:lnTo>
                  <a:lnTo>
                    <a:pt x="1097" y="33"/>
                  </a:lnTo>
                  <a:lnTo>
                    <a:pt x="109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8366400" y="1644480"/>
              <a:ext cx="65880" cy="96120"/>
            </a:xfrm>
            <a:custGeom>
              <a:avLst/>
              <a:gdLst/>
              <a:ahLst/>
              <a:rect l="l" t="t" r="r" b="b"/>
              <a:pathLst>
                <a:path w="145" h="213">
                  <a:moveTo>
                    <a:pt x="101" y="12"/>
                  </a:moveTo>
                  <a:lnTo>
                    <a:pt x="101" y="0"/>
                  </a:lnTo>
                  <a:lnTo>
                    <a:pt x="101" y="23"/>
                  </a:lnTo>
                  <a:lnTo>
                    <a:pt x="112" y="45"/>
                  </a:lnTo>
                  <a:lnTo>
                    <a:pt x="112" y="79"/>
                  </a:lnTo>
                  <a:lnTo>
                    <a:pt x="112" y="101"/>
                  </a:lnTo>
                  <a:lnTo>
                    <a:pt x="101" y="135"/>
                  </a:lnTo>
                  <a:lnTo>
                    <a:pt x="90" y="158"/>
                  </a:lnTo>
                  <a:lnTo>
                    <a:pt x="55" y="180"/>
                  </a:lnTo>
                  <a:lnTo>
                    <a:pt x="0" y="180"/>
                  </a:lnTo>
                  <a:lnTo>
                    <a:pt x="0" y="213"/>
                  </a:lnTo>
                  <a:lnTo>
                    <a:pt x="67" y="202"/>
                  </a:lnTo>
                  <a:lnTo>
                    <a:pt x="101" y="180"/>
                  </a:lnTo>
                  <a:lnTo>
                    <a:pt x="134" y="147"/>
                  </a:lnTo>
                  <a:lnTo>
                    <a:pt x="145" y="112"/>
                  </a:lnTo>
                  <a:lnTo>
                    <a:pt x="145" y="79"/>
                  </a:lnTo>
                  <a:lnTo>
                    <a:pt x="134" y="45"/>
                  </a:lnTo>
                  <a:lnTo>
                    <a:pt x="123" y="12"/>
                  </a:lnTo>
                  <a:lnTo>
                    <a:pt x="123" y="0"/>
                  </a:lnTo>
                  <a:lnTo>
                    <a:pt x="101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8366400" y="1071720"/>
              <a:ext cx="55440" cy="578160"/>
            </a:xfrm>
            <a:custGeom>
              <a:avLst/>
              <a:gdLst/>
              <a:ahLst/>
              <a:rect l="l" t="t" r="r" b="b"/>
              <a:pathLst>
                <a:path w="123" h="1256">
                  <a:moveTo>
                    <a:pt x="55" y="0"/>
                  </a:moveTo>
                  <a:lnTo>
                    <a:pt x="33" y="190"/>
                  </a:lnTo>
                  <a:lnTo>
                    <a:pt x="11" y="348"/>
                  </a:lnTo>
                  <a:lnTo>
                    <a:pt x="0" y="493"/>
                  </a:lnTo>
                  <a:lnTo>
                    <a:pt x="0" y="628"/>
                  </a:lnTo>
                  <a:lnTo>
                    <a:pt x="0" y="762"/>
                  </a:lnTo>
                  <a:lnTo>
                    <a:pt x="22" y="896"/>
                  </a:lnTo>
                  <a:lnTo>
                    <a:pt x="44" y="1065"/>
                  </a:lnTo>
                  <a:lnTo>
                    <a:pt x="101" y="1256"/>
                  </a:lnTo>
                  <a:lnTo>
                    <a:pt x="123" y="1244"/>
                  </a:lnTo>
                  <a:lnTo>
                    <a:pt x="79" y="1054"/>
                  </a:lnTo>
                  <a:lnTo>
                    <a:pt x="44" y="896"/>
                  </a:lnTo>
                  <a:lnTo>
                    <a:pt x="33" y="762"/>
                  </a:lnTo>
                  <a:lnTo>
                    <a:pt x="22" y="628"/>
                  </a:lnTo>
                  <a:lnTo>
                    <a:pt x="33" y="493"/>
                  </a:lnTo>
                  <a:lnTo>
                    <a:pt x="44" y="348"/>
                  </a:lnTo>
                  <a:lnTo>
                    <a:pt x="55" y="190"/>
                  </a:lnTo>
                  <a:lnTo>
                    <a:pt x="79" y="0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8344440" y="1005480"/>
              <a:ext cx="57960" cy="65880"/>
            </a:xfrm>
            <a:custGeom>
              <a:avLst/>
              <a:gdLst/>
              <a:ahLst/>
              <a:rect l="l" t="t" r="r" b="b"/>
              <a:pathLst>
                <a:path w="124" h="146">
                  <a:moveTo>
                    <a:pt x="0" y="23"/>
                  </a:moveTo>
                  <a:lnTo>
                    <a:pt x="0" y="34"/>
                  </a:lnTo>
                  <a:lnTo>
                    <a:pt x="22" y="23"/>
                  </a:lnTo>
                  <a:lnTo>
                    <a:pt x="34" y="34"/>
                  </a:lnTo>
                  <a:lnTo>
                    <a:pt x="56" y="34"/>
                  </a:lnTo>
                  <a:lnTo>
                    <a:pt x="67" y="45"/>
                  </a:lnTo>
                  <a:lnTo>
                    <a:pt x="89" y="67"/>
                  </a:lnTo>
                  <a:lnTo>
                    <a:pt x="100" y="101"/>
                  </a:lnTo>
                  <a:lnTo>
                    <a:pt x="100" y="146"/>
                  </a:lnTo>
                  <a:lnTo>
                    <a:pt x="124" y="146"/>
                  </a:lnTo>
                  <a:lnTo>
                    <a:pt x="124" y="101"/>
                  </a:lnTo>
                  <a:lnTo>
                    <a:pt x="112" y="56"/>
                  </a:lnTo>
                  <a:lnTo>
                    <a:pt x="89" y="34"/>
                  </a:lnTo>
                  <a:lnTo>
                    <a:pt x="67" y="11"/>
                  </a:lnTo>
                  <a:lnTo>
                    <a:pt x="45" y="0"/>
                  </a:lnTo>
                  <a:lnTo>
                    <a:pt x="22" y="0"/>
                  </a:lnTo>
                  <a:lnTo>
                    <a:pt x="0" y="0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7768440" y="1005480"/>
              <a:ext cx="576000" cy="60480"/>
            </a:xfrm>
            <a:custGeom>
              <a:avLst/>
              <a:gdLst/>
              <a:ahLst/>
              <a:rect l="l" t="t" r="r" b="b"/>
              <a:pathLst>
                <a:path w="1254" h="135">
                  <a:moveTo>
                    <a:pt x="0" y="135"/>
                  </a:moveTo>
                  <a:lnTo>
                    <a:pt x="46" y="123"/>
                  </a:lnTo>
                  <a:lnTo>
                    <a:pt x="79" y="123"/>
                  </a:lnTo>
                  <a:lnTo>
                    <a:pt x="124" y="112"/>
                  </a:lnTo>
                  <a:lnTo>
                    <a:pt x="158" y="112"/>
                  </a:lnTo>
                  <a:lnTo>
                    <a:pt x="202" y="112"/>
                  </a:lnTo>
                  <a:lnTo>
                    <a:pt x="236" y="101"/>
                  </a:lnTo>
                  <a:lnTo>
                    <a:pt x="280" y="101"/>
                  </a:lnTo>
                  <a:lnTo>
                    <a:pt x="315" y="90"/>
                  </a:lnTo>
                  <a:lnTo>
                    <a:pt x="359" y="90"/>
                  </a:lnTo>
                  <a:lnTo>
                    <a:pt x="392" y="90"/>
                  </a:lnTo>
                  <a:lnTo>
                    <a:pt x="437" y="79"/>
                  </a:lnTo>
                  <a:lnTo>
                    <a:pt x="471" y="79"/>
                  </a:lnTo>
                  <a:lnTo>
                    <a:pt x="516" y="79"/>
                  </a:lnTo>
                  <a:lnTo>
                    <a:pt x="549" y="67"/>
                  </a:lnTo>
                  <a:lnTo>
                    <a:pt x="593" y="67"/>
                  </a:lnTo>
                  <a:lnTo>
                    <a:pt x="628" y="67"/>
                  </a:lnTo>
                  <a:lnTo>
                    <a:pt x="672" y="67"/>
                  </a:lnTo>
                  <a:lnTo>
                    <a:pt x="706" y="56"/>
                  </a:lnTo>
                  <a:lnTo>
                    <a:pt x="750" y="56"/>
                  </a:lnTo>
                  <a:lnTo>
                    <a:pt x="784" y="56"/>
                  </a:lnTo>
                  <a:lnTo>
                    <a:pt x="829" y="45"/>
                  </a:lnTo>
                  <a:lnTo>
                    <a:pt x="862" y="45"/>
                  </a:lnTo>
                  <a:lnTo>
                    <a:pt x="896" y="45"/>
                  </a:lnTo>
                  <a:lnTo>
                    <a:pt x="941" y="45"/>
                  </a:lnTo>
                  <a:lnTo>
                    <a:pt x="974" y="45"/>
                  </a:lnTo>
                  <a:lnTo>
                    <a:pt x="1019" y="34"/>
                  </a:lnTo>
                  <a:lnTo>
                    <a:pt x="1052" y="34"/>
                  </a:lnTo>
                  <a:lnTo>
                    <a:pt x="1098" y="34"/>
                  </a:lnTo>
                  <a:lnTo>
                    <a:pt x="1131" y="34"/>
                  </a:lnTo>
                  <a:lnTo>
                    <a:pt x="1175" y="34"/>
                  </a:lnTo>
                  <a:lnTo>
                    <a:pt x="1209" y="34"/>
                  </a:lnTo>
                  <a:lnTo>
                    <a:pt x="1254" y="23"/>
                  </a:lnTo>
                  <a:lnTo>
                    <a:pt x="1254" y="0"/>
                  </a:lnTo>
                  <a:lnTo>
                    <a:pt x="1209" y="0"/>
                  </a:lnTo>
                  <a:lnTo>
                    <a:pt x="1175" y="0"/>
                  </a:lnTo>
                  <a:lnTo>
                    <a:pt x="1131" y="0"/>
                  </a:lnTo>
                  <a:lnTo>
                    <a:pt x="1098" y="11"/>
                  </a:lnTo>
                  <a:lnTo>
                    <a:pt x="1052" y="11"/>
                  </a:lnTo>
                  <a:lnTo>
                    <a:pt x="1019" y="11"/>
                  </a:lnTo>
                  <a:lnTo>
                    <a:pt x="974" y="11"/>
                  </a:lnTo>
                  <a:lnTo>
                    <a:pt x="941" y="11"/>
                  </a:lnTo>
                  <a:lnTo>
                    <a:pt x="896" y="23"/>
                  </a:lnTo>
                  <a:lnTo>
                    <a:pt x="862" y="23"/>
                  </a:lnTo>
                  <a:lnTo>
                    <a:pt x="829" y="23"/>
                  </a:lnTo>
                  <a:lnTo>
                    <a:pt x="784" y="23"/>
                  </a:lnTo>
                  <a:lnTo>
                    <a:pt x="750" y="34"/>
                  </a:lnTo>
                  <a:lnTo>
                    <a:pt x="706" y="34"/>
                  </a:lnTo>
                  <a:lnTo>
                    <a:pt x="672" y="34"/>
                  </a:lnTo>
                  <a:lnTo>
                    <a:pt x="628" y="34"/>
                  </a:lnTo>
                  <a:lnTo>
                    <a:pt x="593" y="45"/>
                  </a:lnTo>
                  <a:lnTo>
                    <a:pt x="549" y="45"/>
                  </a:lnTo>
                  <a:lnTo>
                    <a:pt x="516" y="45"/>
                  </a:lnTo>
                  <a:lnTo>
                    <a:pt x="471" y="56"/>
                  </a:lnTo>
                  <a:lnTo>
                    <a:pt x="437" y="56"/>
                  </a:lnTo>
                  <a:lnTo>
                    <a:pt x="392" y="56"/>
                  </a:lnTo>
                  <a:lnTo>
                    <a:pt x="359" y="67"/>
                  </a:lnTo>
                  <a:lnTo>
                    <a:pt x="315" y="67"/>
                  </a:lnTo>
                  <a:lnTo>
                    <a:pt x="280" y="67"/>
                  </a:lnTo>
                  <a:lnTo>
                    <a:pt x="236" y="79"/>
                  </a:lnTo>
                  <a:lnTo>
                    <a:pt x="202" y="79"/>
                  </a:lnTo>
                  <a:lnTo>
                    <a:pt x="158" y="90"/>
                  </a:lnTo>
                  <a:lnTo>
                    <a:pt x="124" y="90"/>
                  </a:lnTo>
                  <a:lnTo>
                    <a:pt x="79" y="90"/>
                  </a:lnTo>
                  <a:lnTo>
                    <a:pt x="46" y="101"/>
                  </a:lnTo>
                  <a:lnTo>
                    <a:pt x="0" y="101"/>
                  </a:lnTo>
                  <a:lnTo>
                    <a:pt x="0" y="13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7559280" y="1052280"/>
              <a:ext cx="209160" cy="137160"/>
            </a:xfrm>
            <a:custGeom>
              <a:avLst/>
              <a:gdLst/>
              <a:ahLst/>
              <a:rect l="l" t="t" r="r" b="b"/>
              <a:pathLst>
                <a:path w="458" h="303">
                  <a:moveTo>
                    <a:pt x="45" y="292"/>
                  </a:moveTo>
                  <a:lnTo>
                    <a:pt x="45" y="281"/>
                  </a:lnTo>
                  <a:lnTo>
                    <a:pt x="34" y="281"/>
                  </a:lnTo>
                  <a:lnTo>
                    <a:pt x="34" y="270"/>
                  </a:lnTo>
                  <a:lnTo>
                    <a:pt x="34" y="246"/>
                  </a:lnTo>
                  <a:lnTo>
                    <a:pt x="34" y="235"/>
                  </a:lnTo>
                  <a:lnTo>
                    <a:pt x="34" y="213"/>
                  </a:lnTo>
                  <a:lnTo>
                    <a:pt x="45" y="202"/>
                  </a:lnTo>
                  <a:lnTo>
                    <a:pt x="56" y="180"/>
                  </a:lnTo>
                  <a:lnTo>
                    <a:pt x="78" y="157"/>
                  </a:lnTo>
                  <a:lnTo>
                    <a:pt x="112" y="134"/>
                  </a:lnTo>
                  <a:lnTo>
                    <a:pt x="156" y="112"/>
                  </a:lnTo>
                  <a:lnTo>
                    <a:pt x="213" y="90"/>
                  </a:lnTo>
                  <a:lnTo>
                    <a:pt x="280" y="67"/>
                  </a:lnTo>
                  <a:lnTo>
                    <a:pt x="369" y="45"/>
                  </a:lnTo>
                  <a:lnTo>
                    <a:pt x="458" y="34"/>
                  </a:lnTo>
                  <a:lnTo>
                    <a:pt x="458" y="0"/>
                  </a:lnTo>
                  <a:lnTo>
                    <a:pt x="358" y="22"/>
                  </a:lnTo>
                  <a:lnTo>
                    <a:pt x="280" y="45"/>
                  </a:lnTo>
                  <a:lnTo>
                    <a:pt x="213" y="67"/>
                  </a:lnTo>
                  <a:lnTo>
                    <a:pt x="145" y="90"/>
                  </a:lnTo>
                  <a:lnTo>
                    <a:pt x="101" y="112"/>
                  </a:lnTo>
                  <a:lnTo>
                    <a:pt x="67" y="134"/>
                  </a:lnTo>
                  <a:lnTo>
                    <a:pt x="45" y="157"/>
                  </a:lnTo>
                  <a:lnTo>
                    <a:pt x="23" y="180"/>
                  </a:lnTo>
                  <a:lnTo>
                    <a:pt x="12" y="213"/>
                  </a:lnTo>
                  <a:lnTo>
                    <a:pt x="0" y="235"/>
                  </a:lnTo>
                  <a:lnTo>
                    <a:pt x="0" y="246"/>
                  </a:lnTo>
                  <a:lnTo>
                    <a:pt x="0" y="270"/>
                  </a:lnTo>
                  <a:lnTo>
                    <a:pt x="12" y="281"/>
                  </a:lnTo>
                  <a:lnTo>
                    <a:pt x="12" y="292"/>
                  </a:lnTo>
                  <a:lnTo>
                    <a:pt x="12" y="303"/>
                  </a:lnTo>
                  <a:lnTo>
                    <a:pt x="23" y="303"/>
                  </a:lnTo>
                  <a:lnTo>
                    <a:pt x="12" y="292"/>
                  </a:lnTo>
                  <a:lnTo>
                    <a:pt x="45" y="29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7548480" y="1184040"/>
              <a:ext cx="90360" cy="727560"/>
            </a:xfrm>
            <a:custGeom>
              <a:avLst/>
              <a:gdLst/>
              <a:ahLst/>
              <a:rect l="l" t="t" r="r" b="b"/>
              <a:pathLst>
                <a:path w="202" h="1581">
                  <a:moveTo>
                    <a:pt x="202" y="1558"/>
                  </a:moveTo>
                  <a:lnTo>
                    <a:pt x="202" y="1569"/>
                  </a:lnTo>
                  <a:lnTo>
                    <a:pt x="168" y="1446"/>
                  </a:lnTo>
                  <a:lnTo>
                    <a:pt x="135" y="1345"/>
                  </a:lnTo>
                  <a:lnTo>
                    <a:pt x="101" y="1245"/>
                  </a:lnTo>
                  <a:lnTo>
                    <a:pt x="79" y="1144"/>
                  </a:lnTo>
                  <a:lnTo>
                    <a:pt x="68" y="1054"/>
                  </a:lnTo>
                  <a:lnTo>
                    <a:pt x="57" y="964"/>
                  </a:lnTo>
                  <a:lnTo>
                    <a:pt x="46" y="874"/>
                  </a:lnTo>
                  <a:lnTo>
                    <a:pt x="35" y="796"/>
                  </a:lnTo>
                  <a:lnTo>
                    <a:pt x="35" y="706"/>
                  </a:lnTo>
                  <a:lnTo>
                    <a:pt x="35" y="616"/>
                  </a:lnTo>
                  <a:lnTo>
                    <a:pt x="35" y="526"/>
                  </a:lnTo>
                  <a:lnTo>
                    <a:pt x="35" y="437"/>
                  </a:lnTo>
                  <a:lnTo>
                    <a:pt x="46" y="336"/>
                  </a:lnTo>
                  <a:lnTo>
                    <a:pt x="57" y="235"/>
                  </a:lnTo>
                  <a:lnTo>
                    <a:pt x="57" y="123"/>
                  </a:lnTo>
                  <a:lnTo>
                    <a:pt x="68" y="0"/>
                  </a:lnTo>
                  <a:lnTo>
                    <a:pt x="35" y="0"/>
                  </a:lnTo>
                  <a:lnTo>
                    <a:pt x="35" y="123"/>
                  </a:lnTo>
                  <a:lnTo>
                    <a:pt x="23" y="235"/>
                  </a:lnTo>
                  <a:lnTo>
                    <a:pt x="23" y="336"/>
                  </a:lnTo>
                  <a:lnTo>
                    <a:pt x="12" y="437"/>
                  </a:lnTo>
                  <a:lnTo>
                    <a:pt x="12" y="526"/>
                  </a:lnTo>
                  <a:lnTo>
                    <a:pt x="0" y="616"/>
                  </a:lnTo>
                  <a:lnTo>
                    <a:pt x="12" y="706"/>
                  </a:lnTo>
                  <a:lnTo>
                    <a:pt x="12" y="796"/>
                  </a:lnTo>
                  <a:lnTo>
                    <a:pt x="12" y="874"/>
                  </a:lnTo>
                  <a:lnTo>
                    <a:pt x="23" y="964"/>
                  </a:lnTo>
                  <a:lnTo>
                    <a:pt x="35" y="1054"/>
                  </a:lnTo>
                  <a:lnTo>
                    <a:pt x="57" y="1144"/>
                  </a:lnTo>
                  <a:lnTo>
                    <a:pt x="79" y="1245"/>
                  </a:lnTo>
                  <a:lnTo>
                    <a:pt x="113" y="1345"/>
                  </a:lnTo>
                  <a:lnTo>
                    <a:pt x="146" y="1457"/>
                  </a:lnTo>
                  <a:lnTo>
                    <a:pt x="179" y="1569"/>
                  </a:lnTo>
                  <a:lnTo>
                    <a:pt x="179" y="1581"/>
                  </a:lnTo>
                  <a:lnTo>
                    <a:pt x="179" y="1569"/>
                  </a:lnTo>
                  <a:lnTo>
                    <a:pt x="179" y="1581"/>
                  </a:lnTo>
                  <a:lnTo>
                    <a:pt x="202" y="15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7630920" y="1870560"/>
              <a:ext cx="96120" cy="46080"/>
            </a:xfrm>
            <a:custGeom>
              <a:avLst/>
              <a:gdLst/>
              <a:ahLst/>
              <a:rect l="l" t="t" r="r" b="b"/>
              <a:pathLst>
                <a:path w="213" h="101">
                  <a:moveTo>
                    <a:pt x="191" y="0"/>
                  </a:moveTo>
                  <a:lnTo>
                    <a:pt x="146" y="33"/>
                  </a:lnTo>
                  <a:lnTo>
                    <a:pt x="112" y="67"/>
                  </a:lnTo>
                  <a:lnTo>
                    <a:pt x="79" y="78"/>
                  </a:lnTo>
                  <a:lnTo>
                    <a:pt x="57" y="78"/>
                  </a:lnTo>
                  <a:lnTo>
                    <a:pt x="46" y="78"/>
                  </a:lnTo>
                  <a:lnTo>
                    <a:pt x="35" y="67"/>
                  </a:lnTo>
                  <a:lnTo>
                    <a:pt x="23" y="67"/>
                  </a:lnTo>
                  <a:lnTo>
                    <a:pt x="0" y="90"/>
                  </a:lnTo>
                  <a:lnTo>
                    <a:pt x="12" y="90"/>
                  </a:lnTo>
                  <a:lnTo>
                    <a:pt x="23" y="101"/>
                  </a:lnTo>
                  <a:lnTo>
                    <a:pt x="35" y="101"/>
                  </a:lnTo>
                  <a:lnTo>
                    <a:pt x="57" y="101"/>
                  </a:lnTo>
                  <a:lnTo>
                    <a:pt x="90" y="101"/>
                  </a:lnTo>
                  <a:lnTo>
                    <a:pt x="124" y="90"/>
                  </a:lnTo>
                  <a:lnTo>
                    <a:pt x="169" y="56"/>
                  </a:lnTo>
                  <a:lnTo>
                    <a:pt x="213" y="22"/>
                  </a:lnTo>
                  <a:lnTo>
                    <a:pt x="19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7716600" y="1798920"/>
              <a:ext cx="145440" cy="82440"/>
            </a:xfrm>
            <a:custGeom>
              <a:avLst/>
              <a:gdLst/>
              <a:ahLst/>
              <a:rect l="l" t="t" r="r" b="b"/>
              <a:pathLst>
                <a:path w="313" h="180">
                  <a:moveTo>
                    <a:pt x="313" y="0"/>
                  </a:moveTo>
                  <a:lnTo>
                    <a:pt x="302" y="0"/>
                  </a:lnTo>
                  <a:lnTo>
                    <a:pt x="291" y="0"/>
                  </a:lnTo>
                  <a:lnTo>
                    <a:pt x="280" y="0"/>
                  </a:lnTo>
                  <a:lnTo>
                    <a:pt x="269" y="12"/>
                  </a:lnTo>
                  <a:lnTo>
                    <a:pt x="246" y="12"/>
                  </a:lnTo>
                  <a:lnTo>
                    <a:pt x="224" y="24"/>
                  </a:lnTo>
                  <a:lnTo>
                    <a:pt x="201" y="24"/>
                  </a:lnTo>
                  <a:lnTo>
                    <a:pt x="179" y="35"/>
                  </a:lnTo>
                  <a:lnTo>
                    <a:pt x="157" y="46"/>
                  </a:lnTo>
                  <a:lnTo>
                    <a:pt x="123" y="57"/>
                  </a:lnTo>
                  <a:lnTo>
                    <a:pt x="100" y="79"/>
                  </a:lnTo>
                  <a:lnTo>
                    <a:pt x="78" y="90"/>
                  </a:lnTo>
                  <a:lnTo>
                    <a:pt x="45" y="113"/>
                  </a:lnTo>
                  <a:lnTo>
                    <a:pt x="22" y="136"/>
                  </a:lnTo>
                  <a:lnTo>
                    <a:pt x="0" y="158"/>
                  </a:lnTo>
                  <a:lnTo>
                    <a:pt x="22" y="180"/>
                  </a:lnTo>
                  <a:lnTo>
                    <a:pt x="45" y="158"/>
                  </a:lnTo>
                  <a:lnTo>
                    <a:pt x="67" y="136"/>
                  </a:lnTo>
                  <a:lnTo>
                    <a:pt x="89" y="113"/>
                  </a:lnTo>
                  <a:lnTo>
                    <a:pt x="111" y="102"/>
                  </a:lnTo>
                  <a:lnTo>
                    <a:pt x="146" y="90"/>
                  </a:lnTo>
                  <a:lnTo>
                    <a:pt x="168" y="68"/>
                  </a:lnTo>
                  <a:lnTo>
                    <a:pt x="190" y="68"/>
                  </a:lnTo>
                  <a:lnTo>
                    <a:pt x="212" y="57"/>
                  </a:lnTo>
                  <a:lnTo>
                    <a:pt x="235" y="46"/>
                  </a:lnTo>
                  <a:lnTo>
                    <a:pt x="246" y="46"/>
                  </a:lnTo>
                  <a:lnTo>
                    <a:pt x="269" y="35"/>
                  </a:lnTo>
                  <a:lnTo>
                    <a:pt x="280" y="35"/>
                  </a:lnTo>
                  <a:lnTo>
                    <a:pt x="291" y="35"/>
                  </a:lnTo>
                  <a:lnTo>
                    <a:pt x="302" y="24"/>
                  </a:lnTo>
                  <a:lnTo>
                    <a:pt x="313" y="24"/>
                  </a:lnTo>
                  <a:lnTo>
                    <a:pt x="31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7639200" y="1041120"/>
              <a:ext cx="722160" cy="722160"/>
            </a:xfrm>
            <a:custGeom>
              <a:avLst/>
              <a:gdLst/>
              <a:ahLst/>
              <a:rect l="l" t="t" r="r" b="b"/>
              <a:pathLst>
                <a:path w="1567" h="1570">
                  <a:moveTo>
                    <a:pt x="1567" y="1446"/>
                  </a:moveTo>
                  <a:lnTo>
                    <a:pt x="1522" y="1379"/>
                  </a:lnTo>
                  <a:lnTo>
                    <a:pt x="1500" y="1300"/>
                  </a:lnTo>
                  <a:lnTo>
                    <a:pt x="1477" y="1211"/>
                  </a:lnTo>
                  <a:lnTo>
                    <a:pt x="1454" y="1099"/>
                  </a:lnTo>
                  <a:lnTo>
                    <a:pt x="1443" y="987"/>
                  </a:lnTo>
                  <a:lnTo>
                    <a:pt x="1432" y="863"/>
                  </a:lnTo>
                  <a:lnTo>
                    <a:pt x="1432" y="739"/>
                  </a:lnTo>
                  <a:lnTo>
                    <a:pt x="1432" y="616"/>
                  </a:lnTo>
                  <a:lnTo>
                    <a:pt x="1432" y="493"/>
                  </a:lnTo>
                  <a:lnTo>
                    <a:pt x="1432" y="380"/>
                  </a:lnTo>
                  <a:lnTo>
                    <a:pt x="1443" y="280"/>
                  </a:lnTo>
                  <a:lnTo>
                    <a:pt x="1443" y="191"/>
                  </a:lnTo>
                  <a:lnTo>
                    <a:pt x="1454" y="112"/>
                  </a:lnTo>
                  <a:lnTo>
                    <a:pt x="1454" y="56"/>
                  </a:lnTo>
                  <a:lnTo>
                    <a:pt x="1466" y="22"/>
                  </a:lnTo>
                  <a:lnTo>
                    <a:pt x="1466" y="11"/>
                  </a:lnTo>
                  <a:lnTo>
                    <a:pt x="1454" y="11"/>
                  </a:lnTo>
                  <a:lnTo>
                    <a:pt x="1443" y="0"/>
                  </a:lnTo>
                  <a:lnTo>
                    <a:pt x="1421" y="0"/>
                  </a:lnTo>
                  <a:lnTo>
                    <a:pt x="1399" y="0"/>
                  </a:lnTo>
                  <a:lnTo>
                    <a:pt x="1377" y="0"/>
                  </a:lnTo>
                  <a:lnTo>
                    <a:pt x="1343" y="11"/>
                  </a:lnTo>
                  <a:lnTo>
                    <a:pt x="1309" y="11"/>
                  </a:lnTo>
                  <a:lnTo>
                    <a:pt x="1264" y="11"/>
                  </a:lnTo>
                  <a:lnTo>
                    <a:pt x="1231" y="11"/>
                  </a:lnTo>
                  <a:lnTo>
                    <a:pt x="1186" y="11"/>
                  </a:lnTo>
                  <a:lnTo>
                    <a:pt x="1141" y="11"/>
                  </a:lnTo>
                  <a:lnTo>
                    <a:pt x="1097" y="22"/>
                  </a:lnTo>
                  <a:lnTo>
                    <a:pt x="1041" y="22"/>
                  </a:lnTo>
                  <a:lnTo>
                    <a:pt x="996" y="22"/>
                  </a:lnTo>
                  <a:lnTo>
                    <a:pt x="951" y="22"/>
                  </a:lnTo>
                  <a:lnTo>
                    <a:pt x="896" y="22"/>
                  </a:lnTo>
                  <a:lnTo>
                    <a:pt x="850" y="33"/>
                  </a:lnTo>
                  <a:lnTo>
                    <a:pt x="806" y="33"/>
                  </a:lnTo>
                  <a:lnTo>
                    <a:pt x="750" y="33"/>
                  </a:lnTo>
                  <a:lnTo>
                    <a:pt x="705" y="44"/>
                  </a:lnTo>
                  <a:lnTo>
                    <a:pt x="660" y="44"/>
                  </a:lnTo>
                  <a:lnTo>
                    <a:pt x="627" y="44"/>
                  </a:lnTo>
                  <a:lnTo>
                    <a:pt x="581" y="44"/>
                  </a:lnTo>
                  <a:lnTo>
                    <a:pt x="548" y="56"/>
                  </a:lnTo>
                  <a:lnTo>
                    <a:pt x="515" y="56"/>
                  </a:lnTo>
                  <a:lnTo>
                    <a:pt x="481" y="56"/>
                  </a:lnTo>
                  <a:lnTo>
                    <a:pt x="448" y="56"/>
                  </a:lnTo>
                  <a:lnTo>
                    <a:pt x="425" y="56"/>
                  </a:lnTo>
                  <a:lnTo>
                    <a:pt x="414" y="56"/>
                  </a:lnTo>
                  <a:lnTo>
                    <a:pt x="392" y="56"/>
                  </a:lnTo>
                  <a:lnTo>
                    <a:pt x="380" y="56"/>
                  </a:lnTo>
                  <a:lnTo>
                    <a:pt x="347" y="67"/>
                  </a:lnTo>
                  <a:lnTo>
                    <a:pt x="303" y="78"/>
                  </a:lnTo>
                  <a:lnTo>
                    <a:pt x="268" y="89"/>
                  </a:lnTo>
                  <a:lnTo>
                    <a:pt x="224" y="101"/>
                  </a:lnTo>
                  <a:lnTo>
                    <a:pt x="190" y="123"/>
                  </a:lnTo>
                  <a:lnTo>
                    <a:pt x="168" y="134"/>
                  </a:lnTo>
                  <a:lnTo>
                    <a:pt x="135" y="145"/>
                  </a:lnTo>
                  <a:lnTo>
                    <a:pt x="112" y="156"/>
                  </a:lnTo>
                  <a:lnTo>
                    <a:pt x="78" y="168"/>
                  </a:lnTo>
                  <a:lnTo>
                    <a:pt x="67" y="179"/>
                  </a:lnTo>
                  <a:lnTo>
                    <a:pt x="45" y="191"/>
                  </a:lnTo>
                  <a:lnTo>
                    <a:pt x="34" y="202"/>
                  </a:lnTo>
                  <a:lnTo>
                    <a:pt x="23" y="213"/>
                  </a:lnTo>
                  <a:lnTo>
                    <a:pt x="12" y="213"/>
                  </a:lnTo>
                  <a:lnTo>
                    <a:pt x="0" y="224"/>
                  </a:lnTo>
                  <a:lnTo>
                    <a:pt x="1175" y="191"/>
                  </a:lnTo>
                  <a:lnTo>
                    <a:pt x="1186" y="1401"/>
                  </a:lnTo>
                  <a:lnTo>
                    <a:pt x="1320" y="1570"/>
                  </a:lnTo>
                  <a:lnTo>
                    <a:pt x="1343" y="1546"/>
                  </a:lnTo>
                  <a:lnTo>
                    <a:pt x="1366" y="1524"/>
                  </a:lnTo>
                  <a:lnTo>
                    <a:pt x="1377" y="1502"/>
                  </a:lnTo>
                  <a:lnTo>
                    <a:pt x="1399" y="1491"/>
                  </a:lnTo>
                  <a:lnTo>
                    <a:pt x="1421" y="1480"/>
                  </a:lnTo>
                  <a:lnTo>
                    <a:pt x="1443" y="1469"/>
                  </a:lnTo>
                  <a:lnTo>
                    <a:pt x="1466" y="1469"/>
                  </a:lnTo>
                  <a:lnTo>
                    <a:pt x="1477" y="1458"/>
                  </a:lnTo>
                  <a:lnTo>
                    <a:pt x="1500" y="1458"/>
                  </a:lnTo>
                  <a:lnTo>
                    <a:pt x="1511" y="1458"/>
                  </a:lnTo>
                  <a:lnTo>
                    <a:pt x="1533" y="1446"/>
                  </a:lnTo>
                  <a:lnTo>
                    <a:pt x="1544" y="1446"/>
                  </a:lnTo>
                  <a:lnTo>
                    <a:pt x="1555" y="1446"/>
                  </a:lnTo>
                  <a:lnTo>
                    <a:pt x="1567" y="144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8286480" y="1035360"/>
              <a:ext cx="79920" cy="675000"/>
            </a:xfrm>
            <a:custGeom>
              <a:avLst/>
              <a:gdLst/>
              <a:ahLst/>
              <a:rect l="l" t="t" r="r" b="b"/>
              <a:pathLst>
                <a:path w="168" h="1470">
                  <a:moveTo>
                    <a:pt x="56" y="34"/>
                  </a:moveTo>
                  <a:lnTo>
                    <a:pt x="44" y="23"/>
                  </a:lnTo>
                  <a:lnTo>
                    <a:pt x="44" y="34"/>
                  </a:lnTo>
                  <a:lnTo>
                    <a:pt x="33" y="68"/>
                  </a:lnTo>
                  <a:lnTo>
                    <a:pt x="33" y="124"/>
                  </a:lnTo>
                  <a:lnTo>
                    <a:pt x="22" y="203"/>
                  </a:lnTo>
                  <a:lnTo>
                    <a:pt x="22" y="292"/>
                  </a:lnTo>
                  <a:lnTo>
                    <a:pt x="11" y="392"/>
                  </a:lnTo>
                  <a:lnTo>
                    <a:pt x="11" y="505"/>
                  </a:lnTo>
                  <a:lnTo>
                    <a:pt x="0" y="628"/>
                  </a:lnTo>
                  <a:lnTo>
                    <a:pt x="0" y="751"/>
                  </a:lnTo>
                  <a:lnTo>
                    <a:pt x="11" y="875"/>
                  </a:lnTo>
                  <a:lnTo>
                    <a:pt x="22" y="999"/>
                  </a:lnTo>
                  <a:lnTo>
                    <a:pt x="33" y="1111"/>
                  </a:lnTo>
                  <a:lnTo>
                    <a:pt x="44" y="1223"/>
                  </a:lnTo>
                  <a:lnTo>
                    <a:pt x="67" y="1323"/>
                  </a:lnTo>
                  <a:lnTo>
                    <a:pt x="101" y="1402"/>
                  </a:lnTo>
                  <a:lnTo>
                    <a:pt x="145" y="1470"/>
                  </a:lnTo>
                  <a:lnTo>
                    <a:pt x="168" y="1458"/>
                  </a:lnTo>
                  <a:lnTo>
                    <a:pt x="123" y="1391"/>
                  </a:lnTo>
                  <a:lnTo>
                    <a:pt x="101" y="1312"/>
                  </a:lnTo>
                  <a:lnTo>
                    <a:pt x="78" y="1211"/>
                  </a:lnTo>
                  <a:lnTo>
                    <a:pt x="56" y="1111"/>
                  </a:lnTo>
                  <a:lnTo>
                    <a:pt x="44" y="999"/>
                  </a:lnTo>
                  <a:lnTo>
                    <a:pt x="33" y="875"/>
                  </a:lnTo>
                  <a:lnTo>
                    <a:pt x="33" y="751"/>
                  </a:lnTo>
                  <a:lnTo>
                    <a:pt x="33" y="628"/>
                  </a:lnTo>
                  <a:lnTo>
                    <a:pt x="33" y="505"/>
                  </a:lnTo>
                  <a:lnTo>
                    <a:pt x="44" y="392"/>
                  </a:lnTo>
                  <a:lnTo>
                    <a:pt x="44" y="292"/>
                  </a:lnTo>
                  <a:lnTo>
                    <a:pt x="56" y="203"/>
                  </a:lnTo>
                  <a:lnTo>
                    <a:pt x="56" y="124"/>
                  </a:lnTo>
                  <a:lnTo>
                    <a:pt x="67" y="68"/>
                  </a:lnTo>
                  <a:lnTo>
                    <a:pt x="67" y="34"/>
                  </a:lnTo>
                  <a:lnTo>
                    <a:pt x="67" y="23"/>
                  </a:lnTo>
                  <a:lnTo>
                    <a:pt x="56" y="0"/>
                  </a:lnTo>
                  <a:lnTo>
                    <a:pt x="67" y="23"/>
                  </a:lnTo>
                  <a:lnTo>
                    <a:pt x="67" y="12"/>
                  </a:lnTo>
                  <a:lnTo>
                    <a:pt x="56" y="0"/>
                  </a:lnTo>
                  <a:lnTo>
                    <a:pt x="56" y="3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7815240" y="1035360"/>
              <a:ext cx="498960" cy="41760"/>
            </a:xfrm>
            <a:custGeom>
              <a:avLst/>
              <a:gdLst/>
              <a:ahLst/>
              <a:rect l="l" t="t" r="r" b="b"/>
              <a:pathLst>
                <a:path w="1086" h="90">
                  <a:moveTo>
                    <a:pt x="12" y="90"/>
                  </a:moveTo>
                  <a:lnTo>
                    <a:pt x="0" y="90"/>
                  </a:lnTo>
                  <a:lnTo>
                    <a:pt x="12" y="90"/>
                  </a:lnTo>
                  <a:lnTo>
                    <a:pt x="34" y="90"/>
                  </a:lnTo>
                  <a:lnTo>
                    <a:pt x="45" y="79"/>
                  </a:lnTo>
                  <a:lnTo>
                    <a:pt x="68" y="79"/>
                  </a:lnTo>
                  <a:lnTo>
                    <a:pt x="101" y="79"/>
                  </a:lnTo>
                  <a:lnTo>
                    <a:pt x="135" y="79"/>
                  </a:lnTo>
                  <a:lnTo>
                    <a:pt x="168" y="79"/>
                  </a:lnTo>
                  <a:lnTo>
                    <a:pt x="201" y="68"/>
                  </a:lnTo>
                  <a:lnTo>
                    <a:pt x="247" y="68"/>
                  </a:lnTo>
                  <a:lnTo>
                    <a:pt x="280" y="68"/>
                  </a:lnTo>
                  <a:lnTo>
                    <a:pt x="325" y="68"/>
                  </a:lnTo>
                  <a:lnTo>
                    <a:pt x="370" y="68"/>
                  </a:lnTo>
                  <a:lnTo>
                    <a:pt x="426" y="56"/>
                  </a:lnTo>
                  <a:lnTo>
                    <a:pt x="470" y="56"/>
                  </a:lnTo>
                  <a:lnTo>
                    <a:pt x="516" y="56"/>
                  </a:lnTo>
                  <a:lnTo>
                    <a:pt x="571" y="45"/>
                  </a:lnTo>
                  <a:lnTo>
                    <a:pt x="616" y="45"/>
                  </a:lnTo>
                  <a:lnTo>
                    <a:pt x="661" y="45"/>
                  </a:lnTo>
                  <a:lnTo>
                    <a:pt x="717" y="45"/>
                  </a:lnTo>
                  <a:lnTo>
                    <a:pt x="761" y="34"/>
                  </a:lnTo>
                  <a:lnTo>
                    <a:pt x="806" y="34"/>
                  </a:lnTo>
                  <a:lnTo>
                    <a:pt x="851" y="34"/>
                  </a:lnTo>
                  <a:lnTo>
                    <a:pt x="884" y="34"/>
                  </a:lnTo>
                  <a:lnTo>
                    <a:pt x="929" y="34"/>
                  </a:lnTo>
                  <a:lnTo>
                    <a:pt x="963" y="34"/>
                  </a:lnTo>
                  <a:lnTo>
                    <a:pt x="997" y="34"/>
                  </a:lnTo>
                  <a:lnTo>
                    <a:pt x="1019" y="34"/>
                  </a:lnTo>
                  <a:lnTo>
                    <a:pt x="1041" y="34"/>
                  </a:lnTo>
                  <a:lnTo>
                    <a:pt x="1063" y="34"/>
                  </a:lnTo>
                  <a:lnTo>
                    <a:pt x="1074" y="34"/>
                  </a:lnTo>
                  <a:lnTo>
                    <a:pt x="1086" y="34"/>
                  </a:lnTo>
                  <a:lnTo>
                    <a:pt x="1086" y="0"/>
                  </a:lnTo>
                  <a:lnTo>
                    <a:pt x="1074" y="0"/>
                  </a:lnTo>
                  <a:lnTo>
                    <a:pt x="1063" y="0"/>
                  </a:lnTo>
                  <a:lnTo>
                    <a:pt x="1041" y="0"/>
                  </a:lnTo>
                  <a:lnTo>
                    <a:pt x="1019" y="0"/>
                  </a:lnTo>
                  <a:lnTo>
                    <a:pt x="997" y="0"/>
                  </a:lnTo>
                  <a:lnTo>
                    <a:pt x="963" y="0"/>
                  </a:lnTo>
                  <a:lnTo>
                    <a:pt x="929" y="0"/>
                  </a:lnTo>
                  <a:lnTo>
                    <a:pt x="884" y="12"/>
                  </a:lnTo>
                  <a:lnTo>
                    <a:pt x="851" y="12"/>
                  </a:lnTo>
                  <a:lnTo>
                    <a:pt x="806" y="12"/>
                  </a:lnTo>
                  <a:lnTo>
                    <a:pt x="761" y="12"/>
                  </a:lnTo>
                  <a:lnTo>
                    <a:pt x="717" y="12"/>
                  </a:lnTo>
                  <a:lnTo>
                    <a:pt x="661" y="23"/>
                  </a:lnTo>
                  <a:lnTo>
                    <a:pt x="616" y="23"/>
                  </a:lnTo>
                  <a:lnTo>
                    <a:pt x="571" y="23"/>
                  </a:lnTo>
                  <a:lnTo>
                    <a:pt x="516" y="23"/>
                  </a:lnTo>
                  <a:lnTo>
                    <a:pt x="470" y="34"/>
                  </a:lnTo>
                  <a:lnTo>
                    <a:pt x="426" y="34"/>
                  </a:lnTo>
                  <a:lnTo>
                    <a:pt x="370" y="34"/>
                  </a:lnTo>
                  <a:lnTo>
                    <a:pt x="325" y="34"/>
                  </a:lnTo>
                  <a:lnTo>
                    <a:pt x="280" y="45"/>
                  </a:lnTo>
                  <a:lnTo>
                    <a:pt x="247" y="45"/>
                  </a:lnTo>
                  <a:lnTo>
                    <a:pt x="201" y="45"/>
                  </a:lnTo>
                  <a:lnTo>
                    <a:pt x="168" y="45"/>
                  </a:lnTo>
                  <a:lnTo>
                    <a:pt x="135" y="56"/>
                  </a:lnTo>
                  <a:lnTo>
                    <a:pt x="101" y="56"/>
                  </a:lnTo>
                  <a:lnTo>
                    <a:pt x="68" y="56"/>
                  </a:lnTo>
                  <a:lnTo>
                    <a:pt x="45" y="56"/>
                  </a:lnTo>
                  <a:lnTo>
                    <a:pt x="34" y="56"/>
                  </a:lnTo>
                  <a:lnTo>
                    <a:pt x="12" y="56"/>
                  </a:lnTo>
                  <a:lnTo>
                    <a:pt x="0" y="56"/>
                  </a:lnTo>
                  <a:lnTo>
                    <a:pt x="12" y="9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7619760" y="1062720"/>
              <a:ext cx="200880" cy="85320"/>
            </a:xfrm>
            <a:custGeom>
              <a:avLst/>
              <a:gdLst/>
              <a:ahLst/>
              <a:rect l="l" t="t" r="r" b="b"/>
              <a:pathLst>
                <a:path w="437" h="191">
                  <a:moveTo>
                    <a:pt x="45" y="169"/>
                  </a:moveTo>
                  <a:lnTo>
                    <a:pt x="57" y="191"/>
                  </a:lnTo>
                  <a:lnTo>
                    <a:pt x="57" y="180"/>
                  </a:lnTo>
                  <a:lnTo>
                    <a:pt x="68" y="180"/>
                  </a:lnTo>
                  <a:lnTo>
                    <a:pt x="79" y="169"/>
                  </a:lnTo>
                  <a:lnTo>
                    <a:pt x="101" y="158"/>
                  </a:lnTo>
                  <a:lnTo>
                    <a:pt x="112" y="147"/>
                  </a:lnTo>
                  <a:lnTo>
                    <a:pt x="134" y="135"/>
                  </a:lnTo>
                  <a:lnTo>
                    <a:pt x="157" y="124"/>
                  </a:lnTo>
                  <a:lnTo>
                    <a:pt x="191" y="112"/>
                  </a:lnTo>
                  <a:lnTo>
                    <a:pt x="213" y="101"/>
                  </a:lnTo>
                  <a:lnTo>
                    <a:pt x="247" y="90"/>
                  </a:lnTo>
                  <a:lnTo>
                    <a:pt x="280" y="79"/>
                  </a:lnTo>
                  <a:lnTo>
                    <a:pt x="313" y="57"/>
                  </a:lnTo>
                  <a:lnTo>
                    <a:pt x="348" y="45"/>
                  </a:lnTo>
                  <a:lnTo>
                    <a:pt x="392" y="45"/>
                  </a:lnTo>
                  <a:lnTo>
                    <a:pt x="437" y="34"/>
                  </a:lnTo>
                  <a:lnTo>
                    <a:pt x="425" y="0"/>
                  </a:lnTo>
                  <a:lnTo>
                    <a:pt x="381" y="12"/>
                  </a:lnTo>
                  <a:lnTo>
                    <a:pt x="348" y="23"/>
                  </a:lnTo>
                  <a:lnTo>
                    <a:pt x="302" y="34"/>
                  </a:lnTo>
                  <a:lnTo>
                    <a:pt x="269" y="45"/>
                  </a:lnTo>
                  <a:lnTo>
                    <a:pt x="235" y="57"/>
                  </a:lnTo>
                  <a:lnTo>
                    <a:pt x="202" y="79"/>
                  </a:lnTo>
                  <a:lnTo>
                    <a:pt x="180" y="90"/>
                  </a:lnTo>
                  <a:lnTo>
                    <a:pt x="146" y="101"/>
                  </a:lnTo>
                  <a:lnTo>
                    <a:pt x="123" y="112"/>
                  </a:lnTo>
                  <a:lnTo>
                    <a:pt x="101" y="124"/>
                  </a:lnTo>
                  <a:lnTo>
                    <a:pt x="79" y="135"/>
                  </a:lnTo>
                  <a:lnTo>
                    <a:pt x="68" y="147"/>
                  </a:lnTo>
                  <a:lnTo>
                    <a:pt x="57" y="158"/>
                  </a:lnTo>
                  <a:lnTo>
                    <a:pt x="45" y="158"/>
                  </a:lnTo>
                  <a:lnTo>
                    <a:pt x="45" y="169"/>
                  </a:lnTo>
                  <a:lnTo>
                    <a:pt x="45" y="191"/>
                  </a:lnTo>
                  <a:lnTo>
                    <a:pt x="45" y="169"/>
                  </a:lnTo>
                  <a:lnTo>
                    <a:pt x="0" y="191"/>
                  </a:lnTo>
                  <a:lnTo>
                    <a:pt x="45" y="191"/>
                  </a:lnTo>
                  <a:lnTo>
                    <a:pt x="45" y="169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7639200" y="1118520"/>
              <a:ext cx="550800" cy="29880"/>
            </a:xfrm>
            <a:custGeom>
              <a:avLst/>
              <a:gdLst/>
              <a:ahLst/>
              <a:rect l="l" t="t" r="r" b="b"/>
              <a:pathLst>
                <a:path w="1198" h="67">
                  <a:moveTo>
                    <a:pt x="1198" y="23"/>
                  </a:moveTo>
                  <a:lnTo>
                    <a:pt x="1175" y="0"/>
                  </a:lnTo>
                  <a:lnTo>
                    <a:pt x="0" y="45"/>
                  </a:lnTo>
                  <a:lnTo>
                    <a:pt x="0" y="67"/>
                  </a:lnTo>
                  <a:lnTo>
                    <a:pt x="1175" y="34"/>
                  </a:lnTo>
                  <a:lnTo>
                    <a:pt x="1163" y="23"/>
                  </a:lnTo>
                  <a:lnTo>
                    <a:pt x="1186" y="23"/>
                  </a:lnTo>
                  <a:lnTo>
                    <a:pt x="1186" y="0"/>
                  </a:lnTo>
                  <a:lnTo>
                    <a:pt x="1175" y="0"/>
                  </a:lnTo>
                  <a:lnTo>
                    <a:pt x="1198" y="23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8173800" y="1128960"/>
              <a:ext cx="21600" cy="556560"/>
            </a:xfrm>
            <a:custGeom>
              <a:avLst/>
              <a:gdLst/>
              <a:ahLst/>
              <a:rect l="l" t="t" r="r" b="b"/>
              <a:pathLst>
                <a:path w="46" h="1210">
                  <a:moveTo>
                    <a:pt x="35" y="1199"/>
                  </a:moveTo>
                  <a:lnTo>
                    <a:pt x="46" y="1210"/>
                  </a:lnTo>
                  <a:lnTo>
                    <a:pt x="35" y="0"/>
                  </a:lnTo>
                  <a:lnTo>
                    <a:pt x="0" y="0"/>
                  </a:lnTo>
                  <a:lnTo>
                    <a:pt x="12" y="1210"/>
                  </a:lnTo>
                  <a:lnTo>
                    <a:pt x="35" y="1199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8179560" y="1680120"/>
              <a:ext cx="70920" cy="91080"/>
            </a:xfrm>
            <a:custGeom>
              <a:avLst/>
              <a:gdLst/>
              <a:ahLst/>
              <a:rect l="l" t="t" r="r" b="b"/>
              <a:pathLst>
                <a:path w="156" h="202">
                  <a:moveTo>
                    <a:pt x="134" y="169"/>
                  </a:moveTo>
                  <a:lnTo>
                    <a:pt x="156" y="169"/>
                  </a:lnTo>
                  <a:lnTo>
                    <a:pt x="23" y="0"/>
                  </a:lnTo>
                  <a:lnTo>
                    <a:pt x="0" y="11"/>
                  </a:lnTo>
                  <a:lnTo>
                    <a:pt x="134" y="191"/>
                  </a:lnTo>
                  <a:lnTo>
                    <a:pt x="156" y="191"/>
                  </a:lnTo>
                  <a:lnTo>
                    <a:pt x="134" y="191"/>
                  </a:lnTo>
                  <a:lnTo>
                    <a:pt x="145" y="202"/>
                  </a:lnTo>
                  <a:lnTo>
                    <a:pt x="156" y="191"/>
                  </a:lnTo>
                  <a:lnTo>
                    <a:pt x="134" y="169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8242560" y="1699560"/>
              <a:ext cx="126720" cy="68400"/>
            </a:xfrm>
            <a:custGeom>
              <a:avLst/>
              <a:gdLst/>
              <a:ahLst/>
              <a:rect l="l" t="t" r="r" b="b"/>
              <a:pathLst>
                <a:path w="280" h="146">
                  <a:moveTo>
                    <a:pt x="246" y="23"/>
                  </a:moveTo>
                  <a:lnTo>
                    <a:pt x="258" y="0"/>
                  </a:lnTo>
                  <a:lnTo>
                    <a:pt x="246" y="0"/>
                  </a:lnTo>
                  <a:lnTo>
                    <a:pt x="235" y="0"/>
                  </a:lnTo>
                  <a:lnTo>
                    <a:pt x="224" y="0"/>
                  </a:lnTo>
                  <a:lnTo>
                    <a:pt x="202" y="0"/>
                  </a:lnTo>
                  <a:lnTo>
                    <a:pt x="191" y="11"/>
                  </a:lnTo>
                  <a:lnTo>
                    <a:pt x="168" y="11"/>
                  </a:lnTo>
                  <a:lnTo>
                    <a:pt x="145" y="11"/>
                  </a:lnTo>
                  <a:lnTo>
                    <a:pt x="123" y="23"/>
                  </a:lnTo>
                  <a:lnTo>
                    <a:pt x="112" y="34"/>
                  </a:lnTo>
                  <a:lnTo>
                    <a:pt x="90" y="45"/>
                  </a:lnTo>
                  <a:lnTo>
                    <a:pt x="68" y="56"/>
                  </a:lnTo>
                  <a:lnTo>
                    <a:pt x="45" y="78"/>
                  </a:lnTo>
                  <a:lnTo>
                    <a:pt x="22" y="100"/>
                  </a:lnTo>
                  <a:lnTo>
                    <a:pt x="0" y="124"/>
                  </a:lnTo>
                  <a:lnTo>
                    <a:pt x="22" y="146"/>
                  </a:lnTo>
                  <a:lnTo>
                    <a:pt x="34" y="124"/>
                  </a:lnTo>
                  <a:lnTo>
                    <a:pt x="57" y="100"/>
                  </a:lnTo>
                  <a:lnTo>
                    <a:pt x="79" y="78"/>
                  </a:lnTo>
                  <a:lnTo>
                    <a:pt x="101" y="67"/>
                  </a:lnTo>
                  <a:lnTo>
                    <a:pt x="123" y="56"/>
                  </a:lnTo>
                  <a:lnTo>
                    <a:pt x="134" y="56"/>
                  </a:lnTo>
                  <a:lnTo>
                    <a:pt x="157" y="45"/>
                  </a:lnTo>
                  <a:lnTo>
                    <a:pt x="179" y="34"/>
                  </a:lnTo>
                  <a:lnTo>
                    <a:pt x="191" y="34"/>
                  </a:lnTo>
                  <a:lnTo>
                    <a:pt x="202" y="34"/>
                  </a:lnTo>
                  <a:lnTo>
                    <a:pt x="224" y="34"/>
                  </a:lnTo>
                  <a:lnTo>
                    <a:pt x="235" y="34"/>
                  </a:lnTo>
                  <a:lnTo>
                    <a:pt x="246" y="34"/>
                  </a:lnTo>
                  <a:lnTo>
                    <a:pt x="258" y="34"/>
                  </a:lnTo>
                  <a:lnTo>
                    <a:pt x="269" y="11"/>
                  </a:lnTo>
                  <a:lnTo>
                    <a:pt x="258" y="34"/>
                  </a:lnTo>
                  <a:lnTo>
                    <a:pt x="280" y="34"/>
                  </a:lnTo>
                  <a:lnTo>
                    <a:pt x="269" y="11"/>
                  </a:lnTo>
                  <a:lnTo>
                    <a:pt x="246" y="23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7763400" y="1052280"/>
              <a:ext cx="520200" cy="52200"/>
            </a:xfrm>
            <a:custGeom>
              <a:avLst/>
              <a:gdLst/>
              <a:ahLst/>
              <a:rect l="l" t="t" r="r" b="b"/>
              <a:pathLst>
                <a:path w="1131" h="112">
                  <a:moveTo>
                    <a:pt x="1131" y="22"/>
                  </a:moveTo>
                  <a:lnTo>
                    <a:pt x="1120" y="0"/>
                  </a:lnTo>
                  <a:lnTo>
                    <a:pt x="1109" y="0"/>
                  </a:lnTo>
                  <a:lnTo>
                    <a:pt x="1086" y="0"/>
                  </a:lnTo>
                  <a:lnTo>
                    <a:pt x="1063" y="0"/>
                  </a:lnTo>
                  <a:lnTo>
                    <a:pt x="1041" y="0"/>
                  </a:lnTo>
                  <a:lnTo>
                    <a:pt x="1019" y="0"/>
                  </a:lnTo>
                  <a:lnTo>
                    <a:pt x="985" y="0"/>
                  </a:lnTo>
                  <a:lnTo>
                    <a:pt x="952" y="11"/>
                  </a:lnTo>
                  <a:lnTo>
                    <a:pt x="907" y="11"/>
                  </a:lnTo>
                  <a:lnTo>
                    <a:pt x="873" y="11"/>
                  </a:lnTo>
                  <a:lnTo>
                    <a:pt x="829" y="11"/>
                  </a:lnTo>
                  <a:lnTo>
                    <a:pt x="784" y="22"/>
                  </a:lnTo>
                  <a:lnTo>
                    <a:pt x="728" y="22"/>
                  </a:lnTo>
                  <a:lnTo>
                    <a:pt x="683" y="22"/>
                  </a:lnTo>
                  <a:lnTo>
                    <a:pt x="628" y="34"/>
                  </a:lnTo>
                  <a:lnTo>
                    <a:pt x="582" y="34"/>
                  </a:lnTo>
                  <a:lnTo>
                    <a:pt x="538" y="34"/>
                  </a:lnTo>
                  <a:lnTo>
                    <a:pt x="482" y="45"/>
                  </a:lnTo>
                  <a:lnTo>
                    <a:pt x="437" y="45"/>
                  </a:lnTo>
                  <a:lnTo>
                    <a:pt x="381" y="56"/>
                  </a:lnTo>
                  <a:lnTo>
                    <a:pt x="337" y="56"/>
                  </a:lnTo>
                  <a:lnTo>
                    <a:pt x="291" y="56"/>
                  </a:lnTo>
                  <a:lnTo>
                    <a:pt x="247" y="67"/>
                  </a:lnTo>
                  <a:lnTo>
                    <a:pt x="213" y="67"/>
                  </a:lnTo>
                  <a:lnTo>
                    <a:pt x="169" y="67"/>
                  </a:lnTo>
                  <a:lnTo>
                    <a:pt x="135" y="79"/>
                  </a:lnTo>
                  <a:lnTo>
                    <a:pt x="101" y="79"/>
                  </a:lnTo>
                  <a:lnTo>
                    <a:pt x="79" y="79"/>
                  </a:lnTo>
                  <a:lnTo>
                    <a:pt x="46" y="79"/>
                  </a:lnTo>
                  <a:lnTo>
                    <a:pt x="35" y="90"/>
                  </a:lnTo>
                  <a:lnTo>
                    <a:pt x="11" y="90"/>
                  </a:lnTo>
                  <a:lnTo>
                    <a:pt x="0" y="90"/>
                  </a:lnTo>
                  <a:lnTo>
                    <a:pt x="11" y="112"/>
                  </a:lnTo>
                  <a:lnTo>
                    <a:pt x="23" y="112"/>
                  </a:lnTo>
                  <a:lnTo>
                    <a:pt x="35" y="112"/>
                  </a:lnTo>
                  <a:lnTo>
                    <a:pt x="46" y="112"/>
                  </a:lnTo>
                  <a:lnTo>
                    <a:pt x="79" y="112"/>
                  </a:lnTo>
                  <a:lnTo>
                    <a:pt x="101" y="101"/>
                  </a:lnTo>
                  <a:lnTo>
                    <a:pt x="135" y="101"/>
                  </a:lnTo>
                  <a:lnTo>
                    <a:pt x="169" y="101"/>
                  </a:lnTo>
                  <a:lnTo>
                    <a:pt x="213" y="101"/>
                  </a:lnTo>
                  <a:lnTo>
                    <a:pt x="247" y="90"/>
                  </a:lnTo>
                  <a:lnTo>
                    <a:pt x="291" y="90"/>
                  </a:lnTo>
                  <a:lnTo>
                    <a:pt x="337" y="79"/>
                  </a:lnTo>
                  <a:lnTo>
                    <a:pt x="392" y="79"/>
                  </a:lnTo>
                  <a:lnTo>
                    <a:pt x="437" y="79"/>
                  </a:lnTo>
                  <a:lnTo>
                    <a:pt x="482" y="67"/>
                  </a:lnTo>
                  <a:lnTo>
                    <a:pt x="538" y="67"/>
                  </a:lnTo>
                  <a:lnTo>
                    <a:pt x="582" y="56"/>
                  </a:lnTo>
                  <a:lnTo>
                    <a:pt x="628" y="56"/>
                  </a:lnTo>
                  <a:lnTo>
                    <a:pt x="683" y="56"/>
                  </a:lnTo>
                  <a:lnTo>
                    <a:pt x="728" y="45"/>
                  </a:lnTo>
                  <a:lnTo>
                    <a:pt x="784" y="45"/>
                  </a:lnTo>
                  <a:lnTo>
                    <a:pt x="829" y="45"/>
                  </a:lnTo>
                  <a:lnTo>
                    <a:pt x="873" y="34"/>
                  </a:lnTo>
                  <a:lnTo>
                    <a:pt x="907" y="34"/>
                  </a:lnTo>
                  <a:lnTo>
                    <a:pt x="952" y="34"/>
                  </a:lnTo>
                  <a:lnTo>
                    <a:pt x="985" y="34"/>
                  </a:lnTo>
                  <a:lnTo>
                    <a:pt x="1019" y="34"/>
                  </a:lnTo>
                  <a:lnTo>
                    <a:pt x="1041" y="34"/>
                  </a:lnTo>
                  <a:lnTo>
                    <a:pt x="1063" y="34"/>
                  </a:lnTo>
                  <a:lnTo>
                    <a:pt x="1086" y="34"/>
                  </a:lnTo>
                  <a:lnTo>
                    <a:pt x="1109" y="34"/>
                  </a:lnTo>
                  <a:lnTo>
                    <a:pt x="1098" y="11"/>
                  </a:lnTo>
                  <a:lnTo>
                    <a:pt x="1131" y="2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8250840" y="1058040"/>
              <a:ext cx="77400" cy="658440"/>
            </a:xfrm>
            <a:custGeom>
              <a:avLst/>
              <a:gdLst/>
              <a:ahLst/>
              <a:rect l="l" t="t" r="r" b="b"/>
              <a:pathLst>
                <a:path w="169" h="1436">
                  <a:moveTo>
                    <a:pt x="169" y="1413"/>
                  </a:moveTo>
                  <a:lnTo>
                    <a:pt x="135" y="1346"/>
                  </a:lnTo>
                  <a:lnTo>
                    <a:pt x="101" y="1267"/>
                  </a:lnTo>
                  <a:lnTo>
                    <a:pt x="79" y="1178"/>
                  </a:lnTo>
                  <a:lnTo>
                    <a:pt x="57" y="1077"/>
                  </a:lnTo>
                  <a:lnTo>
                    <a:pt x="46" y="965"/>
                  </a:lnTo>
                  <a:lnTo>
                    <a:pt x="35" y="842"/>
                  </a:lnTo>
                  <a:lnTo>
                    <a:pt x="35" y="718"/>
                  </a:lnTo>
                  <a:lnTo>
                    <a:pt x="35" y="606"/>
                  </a:lnTo>
                  <a:lnTo>
                    <a:pt x="35" y="483"/>
                  </a:lnTo>
                  <a:lnTo>
                    <a:pt x="35" y="371"/>
                  </a:lnTo>
                  <a:lnTo>
                    <a:pt x="46" y="270"/>
                  </a:lnTo>
                  <a:lnTo>
                    <a:pt x="46" y="180"/>
                  </a:lnTo>
                  <a:lnTo>
                    <a:pt x="57" y="112"/>
                  </a:lnTo>
                  <a:lnTo>
                    <a:pt x="57" y="56"/>
                  </a:lnTo>
                  <a:lnTo>
                    <a:pt x="57" y="23"/>
                  </a:lnTo>
                  <a:lnTo>
                    <a:pt x="68" y="11"/>
                  </a:lnTo>
                  <a:lnTo>
                    <a:pt x="35" y="0"/>
                  </a:lnTo>
                  <a:lnTo>
                    <a:pt x="35" y="23"/>
                  </a:lnTo>
                  <a:lnTo>
                    <a:pt x="35" y="56"/>
                  </a:lnTo>
                  <a:lnTo>
                    <a:pt x="23" y="112"/>
                  </a:lnTo>
                  <a:lnTo>
                    <a:pt x="23" y="180"/>
                  </a:lnTo>
                  <a:lnTo>
                    <a:pt x="12" y="270"/>
                  </a:lnTo>
                  <a:lnTo>
                    <a:pt x="12" y="371"/>
                  </a:lnTo>
                  <a:lnTo>
                    <a:pt x="12" y="483"/>
                  </a:lnTo>
                  <a:lnTo>
                    <a:pt x="0" y="606"/>
                  </a:lnTo>
                  <a:lnTo>
                    <a:pt x="12" y="718"/>
                  </a:lnTo>
                  <a:lnTo>
                    <a:pt x="12" y="842"/>
                  </a:lnTo>
                  <a:lnTo>
                    <a:pt x="23" y="965"/>
                  </a:lnTo>
                  <a:lnTo>
                    <a:pt x="35" y="1077"/>
                  </a:lnTo>
                  <a:lnTo>
                    <a:pt x="46" y="1178"/>
                  </a:lnTo>
                  <a:lnTo>
                    <a:pt x="79" y="1278"/>
                  </a:lnTo>
                  <a:lnTo>
                    <a:pt x="112" y="1357"/>
                  </a:lnTo>
                  <a:lnTo>
                    <a:pt x="146" y="1436"/>
                  </a:lnTo>
                  <a:lnTo>
                    <a:pt x="169" y="1413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7732800" y="1071720"/>
              <a:ext cx="509760" cy="46800"/>
            </a:xfrm>
            <a:custGeom>
              <a:avLst/>
              <a:gdLst/>
              <a:ahLst/>
              <a:rect l="l" t="t" r="r" b="b"/>
              <a:pathLst>
                <a:path w="1107" h="101">
                  <a:moveTo>
                    <a:pt x="1107" y="22"/>
                  </a:moveTo>
                  <a:lnTo>
                    <a:pt x="1096" y="0"/>
                  </a:lnTo>
                  <a:lnTo>
                    <a:pt x="1085" y="0"/>
                  </a:lnTo>
                  <a:lnTo>
                    <a:pt x="1074" y="0"/>
                  </a:lnTo>
                  <a:lnTo>
                    <a:pt x="1051" y="0"/>
                  </a:lnTo>
                  <a:lnTo>
                    <a:pt x="1029" y="0"/>
                  </a:lnTo>
                  <a:lnTo>
                    <a:pt x="996" y="0"/>
                  </a:lnTo>
                  <a:lnTo>
                    <a:pt x="973" y="0"/>
                  </a:lnTo>
                  <a:lnTo>
                    <a:pt x="928" y="0"/>
                  </a:lnTo>
                  <a:lnTo>
                    <a:pt x="895" y="11"/>
                  </a:lnTo>
                  <a:lnTo>
                    <a:pt x="850" y="11"/>
                  </a:lnTo>
                  <a:lnTo>
                    <a:pt x="805" y="11"/>
                  </a:lnTo>
                  <a:lnTo>
                    <a:pt x="760" y="11"/>
                  </a:lnTo>
                  <a:lnTo>
                    <a:pt x="716" y="22"/>
                  </a:lnTo>
                  <a:lnTo>
                    <a:pt x="670" y="22"/>
                  </a:lnTo>
                  <a:lnTo>
                    <a:pt x="626" y="22"/>
                  </a:lnTo>
                  <a:lnTo>
                    <a:pt x="570" y="34"/>
                  </a:lnTo>
                  <a:lnTo>
                    <a:pt x="525" y="34"/>
                  </a:lnTo>
                  <a:lnTo>
                    <a:pt x="469" y="34"/>
                  </a:lnTo>
                  <a:lnTo>
                    <a:pt x="425" y="45"/>
                  </a:lnTo>
                  <a:lnTo>
                    <a:pt x="379" y="45"/>
                  </a:lnTo>
                  <a:lnTo>
                    <a:pt x="324" y="56"/>
                  </a:lnTo>
                  <a:lnTo>
                    <a:pt x="279" y="56"/>
                  </a:lnTo>
                  <a:lnTo>
                    <a:pt x="235" y="56"/>
                  </a:lnTo>
                  <a:lnTo>
                    <a:pt x="201" y="56"/>
                  </a:lnTo>
                  <a:lnTo>
                    <a:pt x="167" y="67"/>
                  </a:lnTo>
                  <a:lnTo>
                    <a:pt x="123" y="67"/>
                  </a:lnTo>
                  <a:lnTo>
                    <a:pt x="101" y="67"/>
                  </a:lnTo>
                  <a:lnTo>
                    <a:pt x="66" y="67"/>
                  </a:lnTo>
                  <a:lnTo>
                    <a:pt x="44" y="78"/>
                  </a:lnTo>
                  <a:lnTo>
                    <a:pt x="22" y="78"/>
                  </a:lnTo>
                  <a:lnTo>
                    <a:pt x="11" y="78"/>
                  </a:lnTo>
                  <a:lnTo>
                    <a:pt x="0" y="78"/>
                  </a:lnTo>
                  <a:lnTo>
                    <a:pt x="0" y="101"/>
                  </a:lnTo>
                  <a:lnTo>
                    <a:pt x="11" y="101"/>
                  </a:lnTo>
                  <a:lnTo>
                    <a:pt x="22" y="101"/>
                  </a:lnTo>
                  <a:lnTo>
                    <a:pt x="44" y="101"/>
                  </a:lnTo>
                  <a:lnTo>
                    <a:pt x="66" y="101"/>
                  </a:lnTo>
                  <a:lnTo>
                    <a:pt x="101" y="101"/>
                  </a:lnTo>
                  <a:lnTo>
                    <a:pt x="134" y="89"/>
                  </a:lnTo>
                  <a:lnTo>
                    <a:pt x="167" y="89"/>
                  </a:lnTo>
                  <a:lnTo>
                    <a:pt x="201" y="89"/>
                  </a:lnTo>
                  <a:lnTo>
                    <a:pt x="246" y="89"/>
                  </a:lnTo>
                  <a:lnTo>
                    <a:pt x="279" y="78"/>
                  </a:lnTo>
                  <a:lnTo>
                    <a:pt x="324" y="78"/>
                  </a:lnTo>
                  <a:lnTo>
                    <a:pt x="379" y="78"/>
                  </a:lnTo>
                  <a:lnTo>
                    <a:pt x="425" y="67"/>
                  </a:lnTo>
                  <a:lnTo>
                    <a:pt x="469" y="67"/>
                  </a:lnTo>
                  <a:lnTo>
                    <a:pt x="525" y="56"/>
                  </a:lnTo>
                  <a:lnTo>
                    <a:pt x="570" y="56"/>
                  </a:lnTo>
                  <a:lnTo>
                    <a:pt x="626" y="56"/>
                  </a:lnTo>
                  <a:lnTo>
                    <a:pt x="670" y="45"/>
                  </a:lnTo>
                  <a:lnTo>
                    <a:pt x="716" y="45"/>
                  </a:lnTo>
                  <a:lnTo>
                    <a:pt x="760" y="45"/>
                  </a:lnTo>
                  <a:lnTo>
                    <a:pt x="805" y="34"/>
                  </a:lnTo>
                  <a:lnTo>
                    <a:pt x="850" y="34"/>
                  </a:lnTo>
                  <a:lnTo>
                    <a:pt x="895" y="34"/>
                  </a:lnTo>
                  <a:lnTo>
                    <a:pt x="928" y="34"/>
                  </a:lnTo>
                  <a:lnTo>
                    <a:pt x="973" y="34"/>
                  </a:lnTo>
                  <a:lnTo>
                    <a:pt x="996" y="34"/>
                  </a:lnTo>
                  <a:lnTo>
                    <a:pt x="1029" y="34"/>
                  </a:lnTo>
                  <a:lnTo>
                    <a:pt x="1051" y="22"/>
                  </a:lnTo>
                  <a:lnTo>
                    <a:pt x="1074" y="22"/>
                  </a:lnTo>
                  <a:lnTo>
                    <a:pt x="1085" y="22"/>
                  </a:lnTo>
                  <a:lnTo>
                    <a:pt x="1096" y="34"/>
                  </a:lnTo>
                  <a:lnTo>
                    <a:pt x="1085" y="11"/>
                  </a:lnTo>
                  <a:lnTo>
                    <a:pt x="1107" y="2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8215200" y="1077120"/>
              <a:ext cx="70920" cy="655200"/>
            </a:xfrm>
            <a:custGeom>
              <a:avLst/>
              <a:gdLst/>
              <a:ahLst/>
              <a:rect l="l" t="t" r="r" b="b"/>
              <a:pathLst>
                <a:path w="157" h="1424">
                  <a:moveTo>
                    <a:pt x="157" y="1413"/>
                  </a:moveTo>
                  <a:lnTo>
                    <a:pt x="124" y="1345"/>
                  </a:lnTo>
                  <a:lnTo>
                    <a:pt x="90" y="1267"/>
                  </a:lnTo>
                  <a:lnTo>
                    <a:pt x="67" y="1177"/>
                  </a:lnTo>
                  <a:lnTo>
                    <a:pt x="56" y="1065"/>
                  </a:lnTo>
                  <a:lnTo>
                    <a:pt x="45" y="953"/>
                  </a:lnTo>
                  <a:lnTo>
                    <a:pt x="34" y="841"/>
                  </a:lnTo>
                  <a:lnTo>
                    <a:pt x="23" y="718"/>
                  </a:lnTo>
                  <a:lnTo>
                    <a:pt x="23" y="594"/>
                  </a:lnTo>
                  <a:lnTo>
                    <a:pt x="23" y="482"/>
                  </a:lnTo>
                  <a:lnTo>
                    <a:pt x="34" y="370"/>
                  </a:lnTo>
                  <a:lnTo>
                    <a:pt x="34" y="269"/>
                  </a:lnTo>
                  <a:lnTo>
                    <a:pt x="45" y="179"/>
                  </a:lnTo>
                  <a:lnTo>
                    <a:pt x="45" y="113"/>
                  </a:lnTo>
                  <a:lnTo>
                    <a:pt x="56" y="56"/>
                  </a:lnTo>
                  <a:lnTo>
                    <a:pt x="56" y="11"/>
                  </a:lnTo>
                  <a:lnTo>
                    <a:pt x="34" y="0"/>
                  </a:lnTo>
                  <a:lnTo>
                    <a:pt x="23" y="11"/>
                  </a:lnTo>
                  <a:lnTo>
                    <a:pt x="23" y="56"/>
                  </a:lnTo>
                  <a:lnTo>
                    <a:pt x="23" y="113"/>
                  </a:lnTo>
                  <a:lnTo>
                    <a:pt x="11" y="179"/>
                  </a:lnTo>
                  <a:lnTo>
                    <a:pt x="11" y="269"/>
                  </a:lnTo>
                  <a:lnTo>
                    <a:pt x="0" y="370"/>
                  </a:lnTo>
                  <a:lnTo>
                    <a:pt x="0" y="482"/>
                  </a:lnTo>
                  <a:lnTo>
                    <a:pt x="0" y="594"/>
                  </a:lnTo>
                  <a:lnTo>
                    <a:pt x="0" y="718"/>
                  </a:lnTo>
                  <a:lnTo>
                    <a:pt x="0" y="841"/>
                  </a:lnTo>
                  <a:lnTo>
                    <a:pt x="11" y="953"/>
                  </a:lnTo>
                  <a:lnTo>
                    <a:pt x="23" y="1076"/>
                  </a:lnTo>
                  <a:lnTo>
                    <a:pt x="45" y="1177"/>
                  </a:lnTo>
                  <a:lnTo>
                    <a:pt x="67" y="1278"/>
                  </a:lnTo>
                  <a:lnTo>
                    <a:pt x="101" y="1357"/>
                  </a:lnTo>
                  <a:lnTo>
                    <a:pt x="135" y="1424"/>
                  </a:lnTo>
                  <a:lnTo>
                    <a:pt x="157" y="1413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8173800" y="1035360"/>
              <a:ext cx="140400" cy="93600"/>
            </a:xfrm>
            <a:custGeom>
              <a:avLst/>
              <a:gdLst/>
              <a:ahLst/>
              <a:rect l="l" t="t" r="r" b="b"/>
              <a:pathLst>
                <a:path w="303" h="203">
                  <a:moveTo>
                    <a:pt x="303" y="0"/>
                  </a:moveTo>
                  <a:lnTo>
                    <a:pt x="269" y="12"/>
                  </a:lnTo>
                  <a:lnTo>
                    <a:pt x="236" y="23"/>
                  </a:lnTo>
                  <a:lnTo>
                    <a:pt x="203" y="34"/>
                  </a:lnTo>
                  <a:lnTo>
                    <a:pt x="168" y="56"/>
                  </a:lnTo>
                  <a:lnTo>
                    <a:pt x="146" y="68"/>
                  </a:lnTo>
                  <a:lnTo>
                    <a:pt x="124" y="79"/>
                  </a:lnTo>
                  <a:lnTo>
                    <a:pt x="101" y="101"/>
                  </a:lnTo>
                  <a:lnTo>
                    <a:pt x="79" y="113"/>
                  </a:lnTo>
                  <a:lnTo>
                    <a:pt x="68" y="124"/>
                  </a:lnTo>
                  <a:lnTo>
                    <a:pt x="46" y="146"/>
                  </a:lnTo>
                  <a:lnTo>
                    <a:pt x="35" y="157"/>
                  </a:lnTo>
                  <a:lnTo>
                    <a:pt x="23" y="168"/>
                  </a:lnTo>
                  <a:lnTo>
                    <a:pt x="12" y="180"/>
                  </a:lnTo>
                  <a:lnTo>
                    <a:pt x="12" y="191"/>
                  </a:lnTo>
                  <a:lnTo>
                    <a:pt x="0" y="191"/>
                  </a:lnTo>
                  <a:lnTo>
                    <a:pt x="23" y="203"/>
                  </a:lnTo>
                  <a:lnTo>
                    <a:pt x="35" y="203"/>
                  </a:lnTo>
                  <a:lnTo>
                    <a:pt x="35" y="191"/>
                  </a:lnTo>
                  <a:lnTo>
                    <a:pt x="46" y="180"/>
                  </a:lnTo>
                  <a:lnTo>
                    <a:pt x="57" y="168"/>
                  </a:lnTo>
                  <a:lnTo>
                    <a:pt x="68" y="168"/>
                  </a:lnTo>
                  <a:lnTo>
                    <a:pt x="79" y="146"/>
                  </a:lnTo>
                  <a:lnTo>
                    <a:pt x="101" y="135"/>
                  </a:lnTo>
                  <a:lnTo>
                    <a:pt x="113" y="124"/>
                  </a:lnTo>
                  <a:lnTo>
                    <a:pt x="135" y="101"/>
                  </a:lnTo>
                  <a:lnTo>
                    <a:pt x="157" y="90"/>
                  </a:lnTo>
                  <a:lnTo>
                    <a:pt x="191" y="79"/>
                  </a:lnTo>
                  <a:lnTo>
                    <a:pt x="214" y="68"/>
                  </a:lnTo>
                  <a:lnTo>
                    <a:pt x="247" y="56"/>
                  </a:lnTo>
                  <a:lnTo>
                    <a:pt x="269" y="45"/>
                  </a:lnTo>
                  <a:lnTo>
                    <a:pt x="303" y="34"/>
                  </a:lnTo>
                  <a:lnTo>
                    <a:pt x="303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7589880" y="1104840"/>
              <a:ext cx="652680" cy="790200"/>
            </a:xfrm>
            <a:custGeom>
              <a:avLst/>
              <a:gdLst/>
              <a:ahLst/>
              <a:rect l="l" t="t" r="r" b="b"/>
              <a:pathLst>
                <a:path w="1421" h="1727">
                  <a:moveTo>
                    <a:pt x="0" y="101"/>
                  </a:moveTo>
                  <a:lnTo>
                    <a:pt x="45" y="101"/>
                  </a:lnTo>
                  <a:lnTo>
                    <a:pt x="78" y="90"/>
                  </a:lnTo>
                  <a:lnTo>
                    <a:pt x="124" y="90"/>
                  </a:lnTo>
                  <a:lnTo>
                    <a:pt x="157" y="79"/>
                  </a:lnTo>
                  <a:lnTo>
                    <a:pt x="201" y="79"/>
                  </a:lnTo>
                  <a:lnTo>
                    <a:pt x="235" y="68"/>
                  </a:lnTo>
                  <a:lnTo>
                    <a:pt x="280" y="68"/>
                  </a:lnTo>
                  <a:lnTo>
                    <a:pt x="314" y="68"/>
                  </a:lnTo>
                  <a:lnTo>
                    <a:pt x="358" y="57"/>
                  </a:lnTo>
                  <a:lnTo>
                    <a:pt x="391" y="57"/>
                  </a:lnTo>
                  <a:lnTo>
                    <a:pt x="437" y="57"/>
                  </a:lnTo>
                  <a:lnTo>
                    <a:pt x="470" y="45"/>
                  </a:lnTo>
                  <a:lnTo>
                    <a:pt x="515" y="45"/>
                  </a:lnTo>
                  <a:lnTo>
                    <a:pt x="549" y="45"/>
                  </a:lnTo>
                  <a:lnTo>
                    <a:pt x="593" y="34"/>
                  </a:lnTo>
                  <a:lnTo>
                    <a:pt x="627" y="34"/>
                  </a:lnTo>
                  <a:lnTo>
                    <a:pt x="671" y="34"/>
                  </a:lnTo>
                  <a:lnTo>
                    <a:pt x="706" y="22"/>
                  </a:lnTo>
                  <a:lnTo>
                    <a:pt x="750" y="22"/>
                  </a:lnTo>
                  <a:lnTo>
                    <a:pt x="783" y="22"/>
                  </a:lnTo>
                  <a:lnTo>
                    <a:pt x="828" y="22"/>
                  </a:lnTo>
                  <a:lnTo>
                    <a:pt x="862" y="11"/>
                  </a:lnTo>
                  <a:lnTo>
                    <a:pt x="907" y="11"/>
                  </a:lnTo>
                  <a:lnTo>
                    <a:pt x="940" y="11"/>
                  </a:lnTo>
                  <a:lnTo>
                    <a:pt x="973" y="11"/>
                  </a:lnTo>
                  <a:lnTo>
                    <a:pt x="1019" y="11"/>
                  </a:lnTo>
                  <a:lnTo>
                    <a:pt x="1052" y="0"/>
                  </a:lnTo>
                  <a:lnTo>
                    <a:pt x="1097" y="0"/>
                  </a:lnTo>
                  <a:lnTo>
                    <a:pt x="1141" y="0"/>
                  </a:lnTo>
                  <a:lnTo>
                    <a:pt x="1175" y="0"/>
                  </a:lnTo>
                  <a:lnTo>
                    <a:pt x="1220" y="0"/>
                  </a:lnTo>
                  <a:lnTo>
                    <a:pt x="1253" y="0"/>
                  </a:lnTo>
                  <a:lnTo>
                    <a:pt x="1275" y="0"/>
                  </a:lnTo>
                  <a:lnTo>
                    <a:pt x="1287" y="0"/>
                  </a:lnTo>
                  <a:lnTo>
                    <a:pt x="1310" y="11"/>
                  </a:lnTo>
                  <a:lnTo>
                    <a:pt x="1332" y="22"/>
                  </a:lnTo>
                  <a:lnTo>
                    <a:pt x="1354" y="45"/>
                  </a:lnTo>
                  <a:lnTo>
                    <a:pt x="1365" y="79"/>
                  </a:lnTo>
                  <a:lnTo>
                    <a:pt x="1365" y="123"/>
                  </a:lnTo>
                  <a:lnTo>
                    <a:pt x="1343" y="314"/>
                  </a:lnTo>
                  <a:lnTo>
                    <a:pt x="1332" y="482"/>
                  </a:lnTo>
                  <a:lnTo>
                    <a:pt x="1321" y="617"/>
                  </a:lnTo>
                  <a:lnTo>
                    <a:pt x="1310" y="752"/>
                  </a:lnTo>
                  <a:lnTo>
                    <a:pt x="1310" y="886"/>
                  </a:lnTo>
                  <a:lnTo>
                    <a:pt x="1332" y="1032"/>
                  </a:lnTo>
                  <a:lnTo>
                    <a:pt x="1365" y="1189"/>
                  </a:lnTo>
                  <a:lnTo>
                    <a:pt x="1410" y="1379"/>
                  </a:lnTo>
                  <a:lnTo>
                    <a:pt x="1410" y="1390"/>
                  </a:lnTo>
                  <a:lnTo>
                    <a:pt x="1421" y="1412"/>
                  </a:lnTo>
                  <a:lnTo>
                    <a:pt x="1421" y="1447"/>
                  </a:lnTo>
                  <a:lnTo>
                    <a:pt x="1421" y="1480"/>
                  </a:lnTo>
                  <a:lnTo>
                    <a:pt x="1421" y="1513"/>
                  </a:lnTo>
                  <a:lnTo>
                    <a:pt x="1399" y="1537"/>
                  </a:lnTo>
                  <a:lnTo>
                    <a:pt x="1354" y="1559"/>
                  </a:lnTo>
                  <a:lnTo>
                    <a:pt x="1298" y="1570"/>
                  </a:lnTo>
                  <a:lnTo>
                    <a:pt x="1264" y="1570"/>
                  </a:lnTo>
                  <a:lnTo>
                    <a:pt x="1231" y="1570"/>
                  </a:lnTo>
                  <a:lnTo>
                    <a:pt x="1198" y="1581"/>
                  </a:lnTo>
                  <a:lnTo>
                    <a:pt x="1153" y="1581"/>
                  </a:lnTo>
                  <a:lnTo>
                    <a:pt x="1119" y="1581"/>
                  </a:lnTo>
                  <a:lnTo>
                    <a:pt x="1086" y="1592"/>
                  </a:lnTo>
                  <a:lnTo>
                    <a:pt x="1052" y="1592"/>
                  </a:lnTo>
                  <a:lnTo>
                    <a:pt x="1019" y="1592"/>
                  </a:lnTo>
                  <a:lnTo>
                    <a:pt x="984" y="1603"/>
                  </a:lnTo>
                  <a:lnTo>
                    <a:pt x="951" y="1603"/>
                  </a:lnTo>
                  <a:lnTo>
                    <a:pt x="918" y="1603"/>
                  </a:lnTo>
                  <a:lnTo>
                    <a:pt x="884" y="1615"/>
                  </a:lnTo>
                  <a:lnTo>
                    <a:pt x="839" y="1615"/>
                  </a:lnTo>
                  <a:lnTo>
                    <a:pt x="806" y="1615"/>
                  </a:lnTo>
                  <a:lnTo>
                    <a:pt x="772" y="1626"/>
                  </a:lnTo>
                  <a:lnTo>
                    <a:pt x="739" y="1626"/>
                  </a:lnTo>
                  <a:lnTo>
                    <a:pt x="706" y="1637"/>
                  </a:lnTo>
                  <a:lnTo>
                    <a:pt x="671" y="1637"/>
                  </a:lnTo>
                  <a:lnTo>
                    <a:pt x="638" y="1637"/>
                  </a:lnTo>
                  <a:lnTo>
                    <a:pt x="605" y="1649"/>
                  </a:lnTo>
                  <a:lnTo>
                    <a:pt x="571" y="1649"/>
                  </a:lnTo>
                  <a:lnTo>
                    <a:pt x="537" y="1660"/>
                  </a:lnTo>
                  <a:lnTo>
                    <a:pt x="504" y="1660"/>
                  </a:lnTo>
                  <a:lnTo>
                    <a:pt x="470" y="1671"/>
                  </a:lnTo>
                  <a:lnTo>
                    <a:pt x="437" y="1671"/>
                  </a:lnTo>
                  <a:lnTo>
                    <a:pt x="403" y="1682"/>
                  </a:lnTo>
                  <a:lnTo>
                    <a:pt x="369" y="1693"/>
                  </a:lnTo>
                  <a:lnTo>
                    <a:pt x="336" y="1693"/>
                  </a:lnTo>
                  <a:lnTo>
                    <a:pt x="302" y="1704"/>
                  </a:lnTo>
                  <a:lnTo>
                    <a:pt x="269" y="1704"/>
                  </a:lnTo>
                  <a:lnTo>
                    <a:pt x="235" y="1716"/>
                  </a:lnTo>
                  <a:lnTo>
                    <a:pt x="201" y="1727"/>
                  </a:lnTo>
                  <a:lnTo>
                    <a:pt x="0" y="101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7644600" y="1407600"/>
              <a:ext cx="109800" cy="214560"/>
            </a:xfrm>
            <a:custGeom>
              <a:avLst/>
              <a:gdLst/>
              <a:ahLst/>
              <a:rect l="l" t="t" r="r" b="b"/>
              <a:pathLst>
                <a:path w="234" h="471">
                  <a:moveTo>
                    <a:pt x="33" y="426"/>
                  </a:moveTo>
                  <a:lnTo>
                    <a:pt x="44" y="415"/>
                  </a:lnTo>
                  <a:lnTo>
                    <a:pt x="55" y="392"/>
                  </a:lnTo>
                  <a:lnTo>
                    <a:pt x="55" y="381"/>
                  </a:lnTo>
                  <a:lnTo>
                    <a:pt x="55" y="347"/>
                  </a:lnTo>
                  <a:lnTo>
                    <a:pt x="33" y="123"/>
                  </a:lnTo>
                  <a:lnTo>
                    <a:pt x="33" y="101"/>
                  </a:lnTo>
                  <a:lnTo>
                    <a:pt x="22" y="90"/>
                  </a:lnTo>
                  <a:lnTo>
                    <a:pt x="11" y="90"/>
                  </a:lnTo>
                  <a:lnTo>
                    <a:pt x="0" y="33"/>
                  </a:lnTo>
                  <a:lnTo>
                    <a:pt x="123" y="0"/>
                  </a:lnTo>
                  <a:lnTo>
                    <a:pt x="145" y="0"/>
                  </a:lnTo>
                  <a:lnTo>
                    <a:pt x="167" y="0"/>
                  </a:lnTo>
                  <a:lnTo>
                    <a:pt x="178" y="11"/>
                  </a:lnTo>
                  <a:lnTo>
                    <a:pt x="190" y="22"/>
                  </a:lnTo>
                  <a:lnTo>
                    <a:pt x="201" y="33"/>
                  </a:lnTo>
                  <a:lnTo>
                    <a:pt x="201" y="55"/>
                  </a:lnTo>
                  <a:lnTo>
                    <a:pt x="212" y="67"/>
                  </a:lnTo>
                  <a:lnTo>
                    <a:pt x="212" y="90"/>
                  </a:lnTo>
                  <a:lnTo>
                    <a:pt x="212" y="112"/>
                  </a:lnTo>
                  <a:lnTo>
                    <a:pt x="201" y="145"/>
                  </a:lnTo>
                  <a:lnTo>
                    <a:pt x="201" y="167"/>
                  </a:lnTo>
                  <a:lnTo>
                    <a:pt x="190" y="191"/>
                  </a:lnTo>
                  <a:lnTo>
                    <a:pt x="201" y="191"/>
                  </a:lnTo>
                  <a:lnTo>
                    <a:pt x="201" y="202"/>
                  </a:lnTo>
                  <a:lnTo>
                    <a:pt x="212" y="202"/>
                  </a:lnTo>
                  <a:lnTo>
                    <a:pt x="223" y="213"/>
                  </a:lnTo>
                  <a:lnTo>
                    <a:pt x="223" y="235"/>
                  </a:lnTo>
                  <a:lnTo>
                    <a:pt x="223" y="246"/>
                  </a:lnTo>
                  <a:lnTo>
                    <a:pt x="234" y="257"/>
                  </a:lnTo>
                  <a:lnTo>
                    <a:pt x="234" y="280"/>
                  </a:lnTo>
                  <a:lnTo>
                    <a:pt x="234" y="303"/>
                  </a:lnTo>
                  <a:lnTo>
                    <a:pt x="234" y="325"/>
                  </a:lnTo>
                  <a:lnTo>
                    <a:pt x="234" y="347"/>
                  </a:lnTo>
                  <a:lnTo>
                    <a:pt x="223" y="370"/>
                  </a:lnTo>
                  <a:lnTo>
                    <a:pt x="212" y="392"/>
                  </a:lnTo>
                  <a:lnTo>
                    <a:pt x="201" y="415"/>
                  </a:lnTo>
                  <a:lnTo>
                    <a:pt x="178" y="426"/>
                  </a:lnTo>
                  <a:lnTo>
                    <a:pt x="156" y="437"/>
                  </a:lnTo>
                  <a:lnTo>
                    <a:pt x="33" y="471"/>
                  </a:lnTo>
                  <a:lnTo>
                    <a:pt x="33" y="426"/>
                  </a:lnTo>
                  <a:close/>
                </a:path>
              </a:pathLst>
            </a:custGeom>
            <a:solidFill>
              <a:srgbClr val="f7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7686000" y="1437840"/>
              <a:ext cx="30600" cy="57960"/>
            </a:xfrm>
            <a:custGeom>
              <a:avLst/>
              <a:gdLst/>
              <a:ahLst/>
              <a:rect l="l" t="t" r="r" b="b"/>
              <a:pathLst>
                <a:path w="67" h="124">
                  <a:moveTo>
                    <a:pt x="67" y="45"/>
                  </a:moveTo>
                  <a:lnTo>
                    <a:pt x="67" y="34"/>
                  </a:lnTo>
                  <a:lnTo>
                    <a:pt x="67" y="23"/>
                  </a:lnTo>
                  <a:lnTo>
                    <a:pt x="56" y="12"/>
                  </a:lnTo>
                  <a:lnTo>
                    <a:pt x="56" y="0"/>
                  </a:lnTo>
                  <a:lnTo>
                    <a:pt x="45" y="0"/>
                  </a:lnTo>
                  <a:lnTo>
                    <a:pt x="34" y="0"/>
                  </a:lnTo>
                  <a:lnTo>
                    <a:pt x="22" y="0"/>
                  </a:lnTo>
                  <a:lnTo>
                    <a:pt x="11" y="0"/>
                  </a:lnTo>
                  <a:lnTo>
                    <a:pt x="0" y="12"/>
                  </a:lnTo>
                  <a:lnTo>
                    <a:pt x="0" y="23"/>
                  </a:lnTo>
                  <a:lnTo>
                    <a:pt x="0" y="34"/>
                  </a:lnTo>
                  <a:lnTo>
                    <a:pt x="11" y="124"/>
                  </a:lnTo>
                  <a:lnTo>
                    <a:pt x="34" y="113"/>
                  </a:lnTo>
                  <a:lnTo>
                    <a:pt x="45" y="100"/>
                  </a:lnTo>
                  <a:lnTo>
                    <a:pt x="56" y="100"/>
                  </a:lnTo>
                  <a:lnTo>
                    <a:pt x="56" y="89"/>
                  </a:lnTo>
                  <a:lnTo>
                    <a:pt x="67" y="78"/>
                  </a:lnTo>
                  <a:lnTo>
                    <a:pt x="67" y="67"/>
                  </a:lnTo>
                  <a:lnTo>
                    <a:pt x="67" y="45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7691760" y="1515240"/>
              <a:ext cx="35280" cy="65520"/>
            </a:xfrm>
            <a:custGeom>
              <a:avLst/>
              <a:gdLst/>
              <a:ahLst/>
              <a:rect l="l" t="t" r="r" b="b"/>
              <a:pathLst>
                <a:path w="78" h="146">
                  <a:moveTo>
                    <a:pt x="34" y="146"/>
                  </a:moveTo>
                  <a:lnTo>
                    <a:pt x="45" y="146"/>
                  </a:lnTo>
                  <a:lnTo>
                    <a:pt x="56" y="135"/>
                  </a:lnTo>
                  <a:lnTo>
                    <a:pt x="56" y="123"/>
                  </a:lnTo>
                  <a:lnTo>
                    <a:pt x="67" y="123"/>
                  </a:lnTo>
                  <a:lnTo>
                    <a:pt x="67" y="112"/>
                  </a:lnTo>
                  <a:lnTo>
                    <a:pt x="78" y="90"/>
                  </a:lnTo>
                  <a:lnTo>
                    <a:pt x="78" y="79"/>
                  </a:lnTo>
                  <a:lnTo>
                    <a:pt x="78" y="57"/>
                  </a:lnTo>
                  <a:lnTo>
                    <a:pt x="67" y="33"/>
                  </a:lnTo>
                  <a:lnTo>
                    <a:pt x="67" y="22"/>
                  </a:lnTo>
                  <a:lnTo>
                    <a:pt x="67" y="11"/>
                  </a:lnTo>
                  <a:lnTo>
                    <a:pt x="56" y="0"/>
                  </a:lnTo>
                  <a:lnTo>
                    <a:pt x="45" y="0"/>
                  </a:lnTo>
                  <a:lnTo>
                    <a:pt x="34" y="0"/>
                  </a:lnTo>
                  <a:lnTo>
                    <a:pt x="23" y="0"/>
                  </a:lnTo>
                  <a:lnTo>
                    <a:pt x="0" y="11"/>
                  </a:lnTo>
                  <a:lnTo>
                    <a:pt x="11" y="123"/>
                  </a:lnTo>
                  <a:lnTo>
                    <a:pt x="11" y="135"/>
                  </a:lnTo>
                  <a:lnTo>
                    <a:pt x="11" y="146"/>
                  </a:lnTo>
                  <a:lnTo>
                    <a:pt x="23" y="146"/>
                  </a:lnTo>
                  <a:lnTo>
                    <a:pt x="34" y="146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7754760" y="1377000"/>
              <a:ext cx="60480" cy="214560"/>
            </a:xfrm>
            <a:custGeom>
              <a:avLst/>
              <a:gdLst/>
              <a:ahLst/>
              <a:rect l="l" t="t" r="r" b="b"/>
              <a:pathLst>
                <a:path w="134" h="471">
                  <a:moveTo>
                    <a:pt x="33" y="147"/>
                  </a:moveTo>
                  <a:lnTo>
                    <a:pt x="22" y="112"/>
                  </a:lnTo>
                  <a:lnTo>
                    <a:pt x="22" y="101"/>
                  </a:lnTo>
                  <a:lnTo>
                    <a:pt x="11" y="90"/>
                  </a:lnTo>
                  <a:lnTo>
                    <a:pt x="0" y="90"/>
                  </a:lnTo>
                  <a:lnTo>
                    <a:pt x="0" y="34"/>
                  </a:lnTo>
                  <a:lnTo>
                    <a:pt x="101" y="0"/>
                  </a:lnTo>
                  <a:lnTo>
                    <a:pt x="112" y="57"/>
                  </a:lnTo>
                  <a:lnTo>
                    <a:pt x="90" y="68"/>
                  </a:lnTo>
                  <a:lnTo>
                    <a:pt x="90" y="79"/>
                  </a:lnTo>
                  <a:lnTo>
                    <a:pt x="79" y="101"/>
                  </a:lnTo>
                  <a:lnTo>
                    <a:pt x="90" y="123"/>
                  </a:lnTo>
                  <a:lnTo>
                    <a:pt x="101" y="336"/>
                  </a:lnTo>
                  <a:lnTo>
                    <a:pt x="101" y="371"/>
                  </a:lnTo>
                  <a:lnTo>
                    <a:pt x="101" y="382"/>
                  </a:lnTo>
                  <a:lnTo>
                    <a:pt x="112" y="393"/>
                  </a:lnTo>
                  <a:lnTo>
                    <a:pt x="134" y="393"/>
                  </a:lnTo>
                  <a:lnTo>
                    <a:pt x="134" y="438"/>
                  </a:lnTo>
                  <a:lnTo>
                    <a:pt x="22" y="471"/>
                  </a:lnTo>
                  <a:lnTo>
                    <a:pt x="22" y="415"/>
                  </a:lnTo>
                  <a:lnTo>
                    <a:pt x="33" y="415"/>
                  </a:lnTo>
                  <a:lnTo>
                    <a:pt x="45" y="404"/>
                  </a:lnTo>
                  <a:lnTo>
                    <a:pt x="45" y="382"/>
                  </a:lnTo>
                  <a:lnTo>
                    <a:pt x="45" y="348"/>
                  </a:lnTo>
                  <a:lnTo>
                    <a:pt x="33" y="147"/>
                  </a:lnTo>
                  <a:close/>
                </a:path>
              </a:pathLst>
            </a:custGeom>
            <a:solidFill>
              <a:srgbClr val="f7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7810200" y="1360800"/>
              <a:ext cx="101520" cy="217080"/>
            </a:xfrm>
            <a:custGeom>
              <a:avLst/>
              <a:gdLst/>
              <a:ahLst/>
              <a:rect l="l" t="t" r="r" b="b"/>
              <a:pathLst>
                <a:path w="225" h="471">
                  <a:moveTo>
                    <a:pt x="23" y="415"/>
                  </a:moveTo>
                  <a:lnTo>
                    <a:pt x="34" y="404"/>
                  </a:lnTo>
                  <a:lnTo>
                    <a:pt x="45" y="393"/>
                  </a:lnTo>
                  <a:lnTo>
                    <a:pt x="45" y="381"/>
                  </a:lnTo>
                  <a:lnTo>
                    <a:pt x="45" y="347"/>
                  </a:lnTo>
                  <a:lnTo>
                    <a:pt x="34" y="123"/>
                  </a:lnTo>
                  <a:lnTo>
                    <a:pt x="23" y="101"/>
                  </a:lnTo>
                  <a:lnTo>
                    <a:pt x="23" y="90"/>
                  </a:lnTo>
                  <a:lnTo>
                    <a:pt x="11" y="90"/>
                  </a:lnTo>
                  <a:lnTo>
                    <a:pt x="0" y="90"/>
                  </a:lnTo>
                  <a:lnTo>
                    <a:pt x="0" y="33"/>
                  </a:lnTo>
                  <a:lnTo>
                    <a:pt x="124" y="0"/>
                  </a:lnTo>
                  <a:lnTo>
                    <a:pt x="146" y="0"/>
                  </a:lnTo>
                  <a:lnTo>
                    <a:pt x="168" y="0"/>
                  </a:lnTo>
                  <a:lnTo>
                    <a:pt x="179" y="11"/>
                  </a:lnTo>
                  <a:lnTo>
                    <a:pt x="190" y="22"/>
                  </a:lnTo>
                  <a:lnTo>
                    <a:pt x="201" y="44"/>
                  </a:lnTo>
                  <a:lnTo>
                    <a:pt x="201" y="56"/>
                  </a:lnTo>
                  <a:lnTo>
                    <a:pt x="201" y="78"/>
                  </a:lnTo>
                  <a:lnTo>
                    <a:pt x="201" y="90"/>
                  </a:lnTo>
                  <a:lnTo>
                    <a:pt x="201" y="123"/>
                  </a:lnTo>
                  <a:lnTo>
                    <a:pt x="201" y="145"/>
                  </a:lnTo>
                  <a:lnTo>
                    <a:pt x="190" y="180"/>
                  </a:lnTo>
                  <a:lnTo>
                    <a:pt x="179" y="191"/>
                  </a:lnTo>
                  <a:lnTo>
                    <a:pt x="190" y="202"/>
                  </a:lnTo>
                  <a:lnTo>
                    <a:pt x="201" y="202"/>
                  </a:lnTo>
                  <a:lnTo>
                    <a:pt x="201" y="213"/>
                  </a:lnTo>
                  <a:lnTo>
                    <a:pt x="212" y="224"/>
                  </a:lnTo>
                  <a:lnTo>
                    <a:pt x="225" y="235"/>
                  </a:lnTo>
                  <a:lnTo>
                    <a:pt x="225" y="257"/>
                  </a:lnTo>
                  <a:lnTo>
                    <a:pt x="225" y="268"/>
                  </a:lnTo>
                  <a:lnTo>
                    <a:pt x="225" y="292"/>
                  </a:lnTo>
                  <a:lnTo>
                    <a:pt x="225" y="314"/>
                  </a:lnTo>
                  <a:lnTo>
                    <a:pt x="225" y="336"/>
                  </a:lnTo>
                  <a:lnTo>
                    <a:pt x="225" y="358"/>
                  </a:lnTo>
                  <a:lnTo>
                    <a:pt x="212" y="381"/>
                  </a:lnTo>
                  <a:lnTo>
                    <a:pt x="201" y="404"/>
                  </a:lnTo>
                  <a:lnTo>
                    <a:pt x="190" y="415"/>
                  </a:lnTo>
                  <a:lnTo>
                    <a:pt x="179" y="426"/>
                  </a:lnTo>
                  <a:lnTo>
                    <a:pt x="157" y="437"/>
                  </a:lnTo>
                  <a:lnTo>
                    <a:pt x="23" y="471"/>
                  </a:lnTo>
                  <a:lnTo>
                    <a:pt x="23" y="415"/>
                  </a:lnTo>
                  <a:close/>
                </a:path>
              </a:pathLst>
            </a:custGeom>
            <a:solidFill>
              <a:srgbClr val="f7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7851600" y="1390680"/>
              <a:ext cx="29880" cy="57960"/>
            </a:xfrm>
            <a:custGeom>
              <a:avLst/>
              <a:gdLst/>
              <a:ahLst/>
              <a:rect l="l" t="t" r="r" b="b"/>
              <a:pathLst>
                <a:path w="67" h="124">
                  <a:moveTo>
                    <a:pt x="67" y="45"/>
                  </a:moveTo>
                  <a:lnTo>
                    <a:pt x="56" y="34"/>
                  </a:lnTo>
                  <a:lnTo>
                    <a:pt x="56" y="23"/>
                  </a:lnTo>
                  <a:lnTo>
                    <a:pt x="56" y="11"/>
                  </a:lnTo>
                  <a:lnTo>
                    <a:pt x="45" y="0"/>
                  </a:lnTo>
                  <a:lnTo>
                    <a:pt x="34" y="0"/>
                  </a:lnTo>
                  <a:lnTo>
                    <a:pt x="22" y="0"/>
                  </a:lnTo>
                  <a:lnTo>
                    <a:pt x="11" y="0"/>
                  </a:lnTo>
                  <a:lnTo>
                    <a:pt x="0" y="11"/>
                  </a:lnTo>
                  <a:lnTo>
                    <a:pt x="0" y="23"/>
                  </a:lnTo>
                  <a:lnTo>
                    <a:pt x="0" y="34"/>
                  </a:lnTo>
                  <a:lnTo>
                    <a:pt x="0" y="124"/>
                  </a:lnTo>
                  <a:lnTo>
                    <a:pt x="22" y="113"/>
                  </a:lnTo>
                  <a:lnTo>
                    <a:pt x="34" y="113"/>
                  </a:lnTo>
                  <a:lnTo>
                    <a:pt x="45" y="101"/>
                  </a:lnTo>
                  <a:lnTo>
                    <a:pt x="56" y="101"/>
                  </a:lnTo>
                  <a:lnTo>
                    <a:pt x="56" y="89"/>
                  </a:lnTo>
                  <a:lnTo>
                    <a:pt x="56" y="78"/>
                  </a:lnTo>
                  <a:lnTo>
                    <a:pt x="67" y="67"/>
                  </a:lnTo>
                  <a:lnTo>
                    <a:pt x="67" y="45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7851600" y="1468440"/>
              <a:ext cx="35280" cy="68400"/>
            </a:xfrm>
            <a:custGeom>
              <a:avLst/>
              <a:gdLst/>
              <a:ahLst/>
              <a:rect l="l" t="t" r="r" b="b"/>
              <a:pathLst>
                <a:path w="78" h="146">
                  <a:moveTo>
                    <a:pt x="34" y="146"/>
                  </a:moveTo>
                  <a:lnTo>
                    <a:pt x="45" y="146"/>
                  </a:lnTo>
                  <a:lnTo>
                    <a:pt x="56" y="134"/>
                  </a:lnTo>
                  <a:lnTo>
                    <a:pt x="67" y="134"/>
                  </a:lnTo>
                  <a:lnTo>
                    <a:pt x="67" y="123"/>
                  </a:lnTo>
                  <a:lnTo>
                    <a:pt x="78" y="112"/>
                  </a:lnTo>
                  <a:lnTo>
                    <a:pt x="78" y="101"/>
                  </a:lnTo>
                  <a:lnTo>
                    <a:pt x="78" y="79"/>
                  </a:lnTo>
                  <a:lnTo>
                    <a:pt x="78" y="68"/>
                  </a:lnTo>
                  <a:lnTo>
                    <a:pt x="78" y="46"/>
                  </a:lnTo>
                  <a:lnTo>
                    <a:pt x="67" y="22"/>
                  </a:lnTo>
                  <a:lnTo>
                    <a:pt x="67" y="11"/>
                  </a:lnTo>
                  <a:lnTo>
                    <a:pt x="56" y="11"/>
                  </a:lnTo>
                  <a:lnTo>
                    <a:pt x="56" y="0"/>
                  </a:lnTo>
                  <a:lnTo>
                    <a:pt x="45" y="0"/>
                  </a:lnTo>
                  <a:lnTo>
                    <a:pt x="34" y="0"/>
                  </a:lnTo>
                  <a:lnTo>
                    <a:pt x="22" y="0"/>
                  </a:lnTo>
                  <a:lnTo>
                    <a:pt x="0" y="11"/>
                  </a:lnTo>
                  <a:lnTo>
                    <a:pt x="11" y="123"/>
                  </a:lnTo>
                  <a:lnTo>
                    <a:pt x="11" y="134"/>
                  </a:lnTo>
                  <a:lnTo>
                    <a:pt x="22" y="146"/>
                  </a:lnTo>
                  <a:lnTo>
                    <a:pt x="34" y="146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7912080" y="1338480"/>
              <a:ext cx="104040" cy="212400"/>
            </a:xfrm>
            <a:custGeom>
              <a:avLst/>
              <a:gdLst/>
              <a:ahLst/>
              <a:rect l="l" t="t" r="r" b="b"/>
              <a:pathLst>
                <a:path w="223" h="460">
                  <a:moveTo>
                    <a:pt x="22" y="460"/>
                  </a:moveTo>
                  <a:lnTo>
                    <a:pt x="22" y="403"/>
                  </a:lnTo>
                  <a:lnTo>
                    <a:pt x="33" y="392"/>
                  </a:lnTo>
                  <a:lnTo>
                    <a:pt x="44" y="381"/>
                  </a:lnTo>
                  <a:lnTo>
                    <a:pt x="44" y="370"/>
                  </a:lnTo>
                  <a:lnTo>
                    <a:pt x="44" y="337"/>
                  </a:lnTo>
                  <a:lnTo>
                    <a:pt x="33" y="135"/>
                  </a:lnTo>
                  <a:lnTo>
                    <a:pt x="33" y="101"/>
                  </a:lnTo>
                  <a:lnTo>
                    <a:pt x="33" y="89"/>
                  </a:lnTo>
                  <a:lnTo>
                    <a:pt x="22" y="78"/>
                  </a:lnTo>
                  <a:lnTo>
                    <a:pt x="0" y="78"/>
                  </a:lnTo>
                  <a:lnTo>
                    <a:pt x="0" y="22"/>
                  </a:lnTo>
                  <a:lnTo>
                    <a:pt x="111" y="0"/>
                  </a:lnTo>
                  <a:lnTo>
                    <a:pt x="111" y="45"/>
                  </a:lnTo>
                  <a:lnTo>
                    <a:pt x="100" y="56"/>
                  </a:lnTo>
                  <a:lnTo>
                    <a:pt x="89" y="67"/>
                  </a:lnTo>
                  <a:lnTo>
                    <a:pt x="89" y="89"/>
                  </a:lnTo>
                  <a:lnTo>
                    <a:pt x="89" y="123"/>
                  </a:lnTo>
                  <a:lnTo>
                    <a:pt x="100" y="337"/>
                  </a:lnTo>
                  <a:lnTo>
                    <a:pt x="100" y="359"/>
                  </a:lnTo>
                  <a:lnTo>
                    <a:pt x="100" y="370"/>
                  </a:lnTo>
                  <a:lnTo>
                    <a:pt x="111" y="381"/>
                  </a:lnTo>
                  <a:lnTo>
                    <a:pt x="122" y="381"/>
                  </a:lnTo>
                  <a:lnTo>
                    <a:pt x="133" y="370"/>
                  </a:lnTo>
                  <a:lnTo>
                    <a:pt x="145" y="359"/>
                  </a:lnTo>
                  <a:lnTo>
                    <a:pt x="156" y="348"/>
                  </a:lnTo>
                  <a:lnTo>
                    <a:pt x="167" y="337"/>
                  </a:lnTo>
                  <a:lnTo>
                    <a:pt x="178" y="313"/>
                  </a:lnTo>
                  <a:lnTo>
                    <a:pt x="190" y="291"/>
                  </a:lnTo>
                  <a:lnTo>
                    <a:pt x="190" y="269"/>
                  </a:lnTo>
                  <a:lnTo>
                    <a:pt x="201" y="247"/>
                  </a:lnTo>
                  <a:lnTo>
                    <a:pt x="223" y="258"/>
                  </a:lnTo>
                  <a:lnTo>
                    <a:pt x="190" y="426"/>
                  </a:lnTo>
                  <a:lnTo>
                    <a:pt x="22" y="460"/>
                  </a:lnTo>
                  <a:close/>
                </a:path>
              </a:pathLst>
            </a:custGeom>
            <a:solidFill>
              <a:srgbClr val="f7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8011440" y="1314000"/>
              <a:ext cx="101520" cy="217080"/>
            </a:xfrm>
            <a:custGeom>
              <a:avLst/>
              <a:gdLst/>
              <a:ahLst/>
              <a:rect l="l" t="t" r="r" b="b"/>
              <a:pathLst>
                <a:path w="223" h="470">
                  <a:moveTo>
                    <a:pt x="101" y="191"/>
                  </a:moveTo>
                  <a:lnTo>
                    <a:pt x="112" y="191"/>
                  </a:lnTo>
                  <a:lnTo>
                    <a:pt x="112" y="179"/>
                  </a:lnTo>
                  <a:lnTo>
                    <a:pt x="123" y="157"/>
                  </a:lnTo>
                  <a:lnTo>
                    <a:pt x="123" y="112"/>
                  </a:lnTo>
                  <a:lnTo>
                    <a:pt x="145" y="112"/>
                  </a:lnTo>
                  <a:lnTo>
                    <a:pt x="156" y="314"/>
                  </a:lnTo>
                  <a:lnTo>
                    <a:pt x="134" y="314"/>
                  </a:lnTo>
                  <a:lnTo>
                    <a:pt x="123" y="281"/>
                  </a:lnTo>
                  <a:lnTo>
                    <a:pt x="123" y="257"/>
                  </a:lnTo>
                  <a:lnTo>
                    <a:pt x="112" y="246"/>
                  </a:lnTo>
                  <a:lnTo>
                    <a:pt x="101" y="246"/>
                  </a:lnTo>
                  <a:lnTo>
                    <a:pt x="90" y="246"/>
                  </a:lnTo>
                  <a:lnTo>
                    <a:pt x="90" y="358"/>
                  </a:lnTo>
                  <a:lnTo>
                    <a:pt x="90" y="382"/>
                  </a:lnTo>
                  <a:lnTo>
                    <a:pt x="101" y="393"/>
                  </a:lnTo>
                  <a:lnTo>
                    <a:pt x="112" y="393"/>
                  </a:lnTo>
                  <a:lnTo>
                    <a:pt x="134" y="393"/>
                  </a:lnTo>
                  <a:lnTo>
                    <a:pt x="145" y="382"/>
                  </a:lnTo>
                  <a:lnTo>
                    <a:pt x="156" y="369"/>
                  </a:lnTo>
                  <a:lnTo>
                    <a:pt x="168" y="358"/>
                  </a:lnTo>
                  <a:lnTo>
                    <a:pt x="179" y="336"/>
                  </a:lnTo>
                  <a:lnTo>
                    <a:pt x="190" y="314"/>
                  </a:lnTo>
                  <a:lnTo>
                    <a:pt x="201" y="292"/>
                  </a:lnTo>
                  <a:lnTo>
                    <a:pt x="201" y="269"/>
                  </a:lnTo>
                  <a:lnTo>
                    <a:pt x="223" y="281"/>
                  </a:lnTo>
                  <a:lnTo>
                    <a:pt x="201" y="437"/>
                  </a:lnTo>
                  <a:lnTo>
                    <a:pt x="11" y="470"/>
                  </a:lnTo>
                  <a:lnTo>
                    <a:pt x="11" y="415"/>
                  </a:lnTo>
                  <a:lnTo>
                    <a:pt x="22" y="415"/>
                  </a:lnTo>
                  <a:lnTo>
                    <a:pt x="33" y="404"/>
                  </a:lnTo>
                  <a:lnTo>
                    <a:pt x="33" y="393"/>
                  </a:lnTo>
                  <a:lnTo>
                    <a:pt x="33" y="369"/>
                  </a:lnTo>
                  <a:lnTo>
                    <a:pt x="22" y="123"/>
                  </a:lnTo>
                  <a:lnTo>
                    <a:pt x="22" y="101"/>
                  </a:lnTo>
                  <a:lnTo>
                    <a:pt x="22" y="90"/>
                  </a:lnTo>
                  <a:lnTo>
                    <a:pt x="11" y="90"/>
                  </a:lnTo>
                  <a:lnTo>
                    <a:pt x="0" y="90"/>
                  </a:lnTo>
                  <a:lnTo>
                    <a:pt x="0" y="34"/>
                  </a:lnTo>
                  <a:lnTo>
                    <a:pt x="179" y="0"/>
                  </a:lnTo>
                  <a:lnTo>
                    <a:pt x="212" y="134"/>
                  </a:lnTo>
                  <a:lnTo>
                    <a:pt x="190" y="157"/>
                  </a:lnTo>
                  <a:lnTo>
                    <a:pt x="179" y="134"/>
                  </a:lnTo>
                  <a:lnTo>
                    <a:pt x="179" y="123"/>
                  </a:lnTo>
                  <a:lnTo>
                    <a:pt x="168" y="101"/>
                  </a:lnTo>
                  <a:lnTo>
                    <a:pt x="156" y="90"/>
                  </a:lnTo>
                  <a:lnTo>
                    <a:pt x="145" y="78"/>
                  </a:lnTo>
                  <a:lnTo>
                    <a:pt x="134" y="78"/>
                  </a:lnTo>
                  <a:lnTo>
                    <a:pt x="123" y="67"/>
                  </a:lnTo>
                  <a:lnTo>
                    <a:pt x="112" y="67"/>
                  </a:lnTo>
                  <a:lnTo>
                    <a:pt x="101" y="78"/>
                  </a:lnTo>
                  <a:lnTo>
                    <a:pt x="90" y="78"/>
                  </a:lnTo>
                  <a:lnTo>
                    <a:pt x="78" y="90"/>
                  </a:lnTo>
                  <a:lnTo>
                    <a:pt x="78" y="112"/>
                  </a:lnTo>
                  <a:lnTo>
                    <a:pt x="78" y="191"/>
                  </a:lnTo>
                  <a:lnTo>
                    <a:pt x="101" y="191"/>
                  </a:lnTo>
                  <a:close/>
                </a:path>
              </a:pathLst>
            </a:custGeom>
            <a:solidFill>
              <a:srgbClr val="f7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7600320" y="1062720"/>
              <a:ext cx="184680" cy="82800"/>
            </a:xfrm>
            <a:custGeom>
              <a:avLst/>
              <a:gdLst/>
              <a:ahLst/>
              <a:rect l="l" t="t" r="r" b="b"/>
              <a:pathLst>
                <a:path w="403" h="180">
                  <a:moveTo>
                    <a:pt x="403" y="0"/>
                  </a:moveTo>
                  <a:lnTo>
                    <a:pt x="346" y="12"/>
                  </a:lnTo>
                  <a:lnTo>
                    <a:pt x="302" y="23"/>
                  </a:lnTo>
                  <a:lnTo>
                    <a:pt x="257" y="34"/>
                  </a:lnTo>
                  <a:lnTo>
                    <a:pt x="224" y="45"/>
                  </a:lnTo>
                  <a:lnTo>
                    <a:pt x="190" y="57"/>
                  </a:lnTo>
                  <a:lnTo>
                    <a:pt x="156" y="79"/>
                  </a:lnTo>
                  <a:lnTo>
                    <a:pt x="123" y="90"/>
                  </a:lnTo>
                  <a:lnTo>
                    <a:pt x="101" y="101"/>
                  </a:lnTo>
                  <a:lnTo>
                    <a:pt x="78" y="112"/>
                  </a:lnTo>
                  <a:lnTo>
                    <a:pt x="55" y="124"/>
                  </a:lnTo>
                  <a:lnTo>
                    <a:pt x="33" y="135"/>
                  </a:lnTo>
                  <a:lnTo>
                    <a:pt x="22" y="147"/>
                  </a:lnTo>
                  <a:lnTo>
                    <a:pt x="11" y="147"/>
                  </a:lnTo>
                  <a:lnTo>
                    <a:pt x="0" y="158"/>
                  </a:lnTo>
                  <a:lnTo>
                    <a:pt x="22" y="180"/>
                  </a:lnTo>
                  <a:lnTo>
                    <a:pt x="44" y="169"/>
                  </a:lnTo>
                  <a:lnTo>
                    <a:pt x="55" y="158"/>
                  </a:lnTo>
                  <a:lnTo>
                    <a:pt x="66" y="147"/>
                  </a:lnTo>
                  <a:lnTo>
                    <a:pt x="89" y="135"/>
                  </a:lnTo>
                  <a:lnTo>
                    <a:pt x="112" y="124"/>
                  </a:lnTo>
                  <a:lnTo>
                    <a:pt x="134" y="112"/>
                  </a:lnTo>
                  <a:lnTo>
                    <a:pt x="167" y="101"/>
                  </a:lnTo>
                  <a:lnTo>
                    <a:pt x="201" y="90"/>
                  </a:lnTo>
                  <a:lnTo>
                    <a:pt x="235" y="79"/>
                  </a:lnTo>
                  <a:lnTo>
                    <a:pt x="268" y="68"/>
                  </a:lnTo>
                  <a:lnTo>
                    <a:pt x="313" y="45"/>
                  </a:lnTo>
                  <a:lnTo>
                    <a:pt x="357" y="45"/>
                  </a:lnTo>
                  <a:lnTo>
                    <a:pt x="403" y="34"/>
                  </a:lnTo>
                  <a:lnTo>
                    <a:pt x="40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6" name=""/>
          <p:cNvGrpSpPr/>
          <p:nvPr/>
        </p:nvGrpSpPr>
        <p:grpSpPr>
          <a:xfrm>
            <a:off x="7080120" y="614520"/>
            <a:ext cx="1834920" cy="1594440"/>
            <a:chOff x="7080120" y="614520"/>
            <a:chExt cx="1834920" cy="1594440"/>
          </a:xfrm>
        </p:grpSpPr>
        <p:sp>
          <p:nvSpPr>
            <p:cNvPr id="1327" name=""/>
            <p:cNvSpPr/>
            <p:nvPr/>
          </p:nvSpPr>
          <p:spPr>
            <a:xfrm>
              <a:off x="7209360" y="708120"/>
              <a:ext cx="1581120" cy="1459800"/>
            </a:xfrm>
            <a:custGeom>
              <a:avLst/>
              <a:gdLst/>
              <a:ahLst/>
              <a:rect l="l" t="t" r="r" b="b"/>
              <a:pathLst>
                <a:path w="3446" h="3184">
                  <a:moveTo>
                    <a:pt x="2685" y="3184"/>
                  </a:moveTo>
                  <a:lnTo>
                    <a:pt x="3446" y="897"/>
                  </a:lnTo>
                  <a:lnTo>
                    <a:pt x="761" y="0"/>
                  </a:lnTo>
                  <a:lnTo>
                    <a:pt x="0" y="2288"/>
                  </a:lnTo>
                  <a:lnTo>
                    <a:pt x="2685" y="3184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8432640" y="1112760"/>
              <a:ext cx="363600" cy="1054800"/>
            </a:xfrm>
            <a:custGeom>
              <a:avLst/>
              <a:gdLst/>
              <a:ahLst/>
              <a:rect l="l" t="t" r="r" b="b"/>
              <a:pathLst>
                <a:path w="794" h="2299">
                  <a:moveTo>
                    <a:pt x="772" y="23"/>
                  </a:moveTo>
                  <a:lnTo>
                    <a:pt x="761" y="12"/>
                  </a:lnTo>
                  <a:lnTo>
                    <a:pt x="0" y="2299"/>
                  </a:lnTo>
                  <a:lnTo>
                    <a:pt x="34" y="2299"/>
                  </a:lnTo>
                  <a:lnTo>
                    <a:pt x="794" y="12"/>
                  </a:lnTo>
                  <a:lnTo>
                    <a:pt x="783" y="0"/>
                  </a:lnTo>
                  <a:lnTo>
                    <a:pt x="794" y="12"/>
                  </a:lnTo>
                  <a:lnTo>
                    <a:pt x="794" y="0"/>
                  </a:lnTo>
                  <a:lnTo>
                    <a:pt x="783" y="0"/>
                  </a:lnTo>
                  <a:lnTo>
                    <a:pt x="772" y="2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7554240" y="696960"/>
              <a:ext cx="1236240" cy="426600"/>
            </a:xfrm>
            <a:custGeom>
              <a:avLst/>
              <a:gdLst/>
              <a:ahLst/>
              <a:rect l="l" t="t" r="r" b="b"/>
              <a:pathLst>
                <a:path w="2696" h="930">
                  <a:moveTo>
                    <a:pt x="23" y="22"/>
                  </a:moveTo>
                  <a:lnTo>
                    <a:pt x="11" y="33"/>
                  </a:lnTo>
                  <a:lnTo>
                    <a:pt x="2685" y="930"/>
                  </a:lnTo>
                  <a:lnTo>
                    <a:pt x="2696" y="907"/>
                  </a:lnTo>
                  <a:lnTo>
                    <a:pt x="23" y="11"/>
                  </a:lnTo>
                  <a:lnTo>
                    <a:pt x="0" y="22"/>
                  </a:lnTo>
                  <a:lnTo>
                    <a:pt x="23" y="11"/>
                  </a:lnTo>
                  <a:lnTo>
                    <a:pt x="0" y="0"/>
                  </a:lnTo>
                  <a:lnTo>
                    <a:pt x="0" y="22"/>
                  </a:lnTo>
                  <a:lnTo>
                    <a:pt x="23" y="2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7203600" y="708120"/>
              <a:ext cx="361080" cy="1054800"/>
            </a:xfrm>
            <a:custGeom>
              <a:avLst/>
              <a:gdLst/>
              <a:ahLst/>
              <a:rect l="l" t="t" r="r" b="b"/>
              <a:pathLst>
                <a:path w="784" h="2299">
                  <a:moveTo>
                    <a:pt x="22" y="2275"/>
                  </a:moveTo>
                  <a:lnTo>
                    <a:pt x="22" y="2288"/>
                  </a:lnTo>
                  <a:lnTo>
                    <a:pt x="784" y="0"/>
                  </a:lnTo>
                  <a:lnTo>
                    <a:pt x="761" y="0"/>
                  </a:lnTo>
                  <a:lnTo>
                    <a:pt x="0" y="2288"/>
                  </a:lnTo>
                  <a:lnTo>
                    <a:pt x="11" y="2299"/>
                  </a:lnTo>
                  <a:lnTo>
                    <a:pt x="0" y="2288"/>
                  </a:lnTo>
                  <a:lnTo>
                    <a:pt x="0" y="2299"/>
                  </a:lnTo>
                  <a:lnTo>
                    <a:pt x="11" y="2299"/>
                  </a:lnTo>
                  <a:lnTo>
                    <a:pt x="22" y="227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7209360" y="1752120"/>
              <a:ext cx="1236960" cy="426600"/>
            </a:xfrm>
            <a:custGeom>
              <a:avLst/>
              <a:gdLst/>
              <a:ahLst/>
              <a:rect l="l" t="t" r="r" b="b"/>
              <a:pathLst>
                <a:path w="2697" h="932">
                  <a:moveTo>
                    <a:pt x="2663" y="909"/>
                  </a:moveTo>
                  <a:lnTo>
                    <a:pt x="2685" y="898"/>
                  </a:lnTo>
                  <a:lnTo>
                    <a:pt x="11" y="0"/>
                  </a:lnTo>
                  <a:lnTo>
                    <a:pt x="0" y="24"/>
                  </a:lnTo>
                  <a:lnTo>
                    <a:pt x="2674" y="920"/>
                  </a:lnTo>
                  <a:lnTo>
                    <a:pt x="2697" y="909"/>
                  </a:lnTo>
                  <a:lnTo>
                    <a:pt x="2674" y="920"/>
                  </a:lnTo>
                  <a:lnTo>
                    <a:pt x="2685" y="932"/>
                  </a:lnTo>
                  <a:lnTo>
                    <a:pt x="2697" y="909"/>
                  </a:lnTo>
                  <a:lnTo>
                    <a:pt x="2663" y="90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7107480" y="633600"/>
              <a:ext cx="1782360" cy="1555920"/>
            </a:xfrm>
            <a:custGeom>
              <a:avLst/>
              <a:gdLst/>
              <a:ahLst/>
              <a:rect l="l" t="t" r="r" b="b"/>
              <a:pathLst>
                <a:path w="3882" h="3387">
                  <a:moveTo>
                    <a:pt x="1566" y="24"/>
                  </a:moveTo>
                  <a:lnTo>
                    <a:pt x="1980" y="696"/>
                  </a:lnTo>
                  <a:lnTo>
                    <a:pt x="2427" y="0"/>
                  </a:lnTo>
                  <a:lnTo>
                    <a:pt x="2461" y="774"/>
                  </a:lnTo>
                  <a:lnTo>
                    <a:pt x="3199" y="315"/>
                  </a:lnTo>
                  <a:lnTo>
                    <a:pt x="2842" y="1043"/>
                  </a:lnTo>
                  <a:lnTo>
                    <a:pt x="3715" y="898"/>
                  </a:lnTo>
                  <a:lnTo>
                    <a:pt x="3043" y="1447"/>
                  </a:lnTo>
                  <a:lnTo>
                    <a:pt x="3882" y="1638"/>
                  </a:lnTo>
                  <a:lnTo>
                    <a:pt x="3032" y="1885"/>
                  </a:lnTo>
                  <a:lnTo>
                    <a:pt x="3669" y="2400"/>
                  </a:lnTo>
                  <a:lnTo>
                    <a:pt x="2808" y="2299"/>
                  </a:lnTo>
                  <a:lnTo>
                    <a:pt x="3111" y="3005"/>
                  </a:lnTo>
                  <a:lnTo>
                    <a:pt x="2405" y="2580"/>
                  </a:lnTo>
                  <a:lnTo>
                    <a:pt x="2315" y="3365"/>
                  </a:lnTo>
                  <a:lnTo>
                    <a:pt x="1913" y="2692"/>
                  </a:lnTo>
                  <a:lnTo>
                    <a:pt x="1454" y="3387"/>
                  </a:lnTo>
                  <a:lnTo>
                    <a:pt x="1420" y="2613"/>
                  </a:lnTo>
                  <a:lnTo>
                    <a:pt x="682" y="3073"/>
                  </a:lnTo>
                  <a:lnTo>
                    <a:pt x="1040" y="2345"/>
                  </a:lnTo>
                  <a:lnTo>
                    <a:pt x="167" y="2490"/>
                  </a:lnTo>
                  <a:lnTo>
                    <a:pt x="838" y="1951"/>
                  </a:lnTo>
                  <a:lnTo>
                    <a:pt x="0" y="1750"/>
                  </a:lnTo>
                  <a:lnTo>
                    <a:pt x="850" y="1503"/>
                  </a:lnTo>
                  <a:lnTo>
                    <a:pt x="212" y="988"/>
                  </a:lnTo>
                  <a:lnTo>
                    <a:pt x="1085" y="1089"/>
                  </a:lnTo>
                  <a:lnTo>
                    <a:pt x="771" y="382"/>
                  </a:lnTo>
                  <a:lnTo>
                    <a:pt x="1477" y="808"/>
                  </a:lnTo>
                  <a:lnTo>
                    <a:pt x="1566" y="24"/>
                  </a:lnTo>
                  <a:close/>
                </a:path>
              </a:pathLst>
            </a:custGeom>
            <a:solidFill>
              <a:srgbClr val="f7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7821000" y="638640"/>
              <a:ext cx="200880" cy="325440"/>
            </a:xfrm>
            <a:custGeom>
              <a:avLst/>
              <a:gdLst/>
              <a:ahLst/>
              <a:rect l="l" t="t" r="r" b="b"/>
              <a:pathLst>
                <a:path w="436" h="707">
                  <a:moveTo>
                    <a:pt x="403" y="673"/>
                  </a:moveTo>
                  <a:lnTo>
                    <a:pt x="436" y="673"/>
                  </a:lnTo>
                  <a:lnTo>
                    <a:pt x="22" y="0"/>
                  </a:lnTo>
                  <a:lnTo>
                    <a:pt x="0" y="23"/>
                  </a:lnTo>
                  <a:lnTo>
                    <a:pt x="403" y="684"/>
                  </a:lnTo>
                  <a:lnTo>
                    <a:pt x="436" y="684"/>
                  </a:lnTo>
                  <a:lnTo>
                    <a:pt x="403" y="684"/>
                  </a:lnTo>
                  <a:lnTo>
                    <a:pt x="425" y="707"/>
                  </a:lnTo>
                  <a:lnTo>
                    <a:pt x="436" y="684"/>
                  </a:lnTo>
                  <a:lnTo>
                    <a:pt x="403" y="673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8006040" y="614520"/>
              <a:ext cx="219600" cy="338400"/>
            </a:xfrm>
            <a:custGeom>
              <a:avLst/>
              <a:gdLst/>
              <a:ahLst/>
              <a:rect l="l" t="t" r="r" b="b"/>
              <a:pathLst>
                <a:path w="481" h="740">
                  <a:moveTo>
                    <a:pt x="481" y="44"/>
                  </a:moveTo>
                  <a:lnTo>
                    <a:pt x="458" y="33"/>
                  </a:lnTo>
                  <a:lnTo>
                    <a:pt x="0" y="729"/>
                  </a:lnTo>
                  <a:lnTo>
                    <a:pt x="33" y="740"/>
                  </a:lnTo>
                  <a:lnTo>
                    <a:pt x="481" y="56"/>
                  </a:lnTo>
                  <a:lnTo>
                    <a:pt x="458" y="44"/>
                  </a:lnTo>
                  <a:lnTo>
                    <a:pt x="481" y="44"/>
                  </a:lnTo>
                  <a:lnTo>
                    <a:pt x="481" y="0"/>
                  </a:lnTo>
                  <a:lnTo>
                    <a:pt x="458" y="33"/>
                  </a:lnTo>
                  <a:lnTo>
                    <a:pt x="481" y="4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8215200" y="633600"/>
              <a:ext cx="27360" cy="371520"/>
            </a:xfrm>
            <a:custGeom>
              <a:avLst/>
              <a:gdLst/>
              <a:ahLst/>
              <a:rect l="l" t="t" r="r" b="b"/>
              <a:pathLst>
                <a:path w="56" h="808">
                  <a:moveTo>
                    <a:pt x="34" y="763"/>
                  </a:moveTo>
                  <a:lnTo>
                    <a:pt x="56" y="774"/>
                  </a:lnTo>
                  <a:lnTo>
                    <a:pt x="23" y="0"/>
                  </a:lnTo>
                  <a:lnTo>
                    <a:pt x="0" y="0"/>
                  </a:lnTo>
                  <a:lnTo>
                    <a:pt x="34" y="774"/>
                  </a:lnTo>
                  <a:lnTo>
                    <a:pt x="45" y="786"/>
                  </a:lnTo>
                  <a:lnTo>
                    <a:pt x="34" y="774"/>
                  </a:lnTo>
                  <a:lnTo>
                    <a:pt x="34" y="808"/>
                  </a:lnTo>
                  <a:lnTo>
                    <a:pt x="45" y="786"/>
                  </a:lnTo>
                  <a:lnTo>
                    <a:pt x="34" y="763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8231400" y="757440"/>
              <a:ext cx="361080" cy="236520"/>
            </a:xfrm>
            <a:custGeom>
              <a:avLst/>
              <a:gdLst/>
              <a:ahLst/>
              <a:rect l="l" t="t" r="r" b="b"/>
              <a:pathLst>
                <a:path w="783" h="516">
                  <a:moveTo>
                    <a:pt x="761" y="45"/>
                  </a:moveTo>
                  <a:lnTo>
                    <a:pt x="738" y="34"/>
                  </a:lnTo>
                  <a:lnTo>
                    <a:pt x="0" y="493"/>
                  </a:lnTo>
                  <a:lnTo>
                    <a:pt x="11" y="516"/>
                  </a:lnTo>
                  <a:lnTo>
                    <a:pt x="749" y="56"/>
                  </a:lnTo>
                  <a:lnTo>
                    <a:pt x="738" y="34"/>
                  </a:lnTo>
                  <a:lnTo>
                    <a:pt x="761" y="45"/>
                  </a:lnTo>
                  <a:lnTo>
                    <a:pt x="783" y="0"/>
                  </a:lnTo>
                  <a:lnTo>
                    <a:pt x="738" y="34"/>
                  </a:lnTo>
                  <a:lnTo>
                    <a:pt x="761" y="45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8402760" y="773640"/>
              <a:ext cx="178560" cy="349560"/>
            </a:xfrm>
            <a:custGeom>
              <a:avLst/>
              <a:gdLst/>
              <a:ahLst/>
              <a:rect l="l" t="t" r="r" b="b"/>
              <a:pathLst>
                <a:path w="391" h="762">
                  <a:moveTo>
                    <a:pt x="22" y="728"/>
                  </a:moveTo>
                  <a:lnTo>
                    <a:pt x="33" y="751"/>
                  </a:lnTo>
                  <a:lnTo>
                    <a:pt x="391" y="11"/>
                  </a:lnTo>
                  <a:lnTo>
                    <a:pt x="368" y="0"/>
                  </a:lnTo>
                  <a:lnTo>
                    <a:pt x="11" y="739"/>
                  </a:lnTo>
                  <a:lnTo>
                    <a:pt x="22" y="751"/>
                  </a:lnTo>
                  <a:lnTo>
                    <a:pt x="11" y="739"/>
                  </a:lnTo>
                  <a:lnTo>
                    <a:pt x="0" y="762"/>
                  </a:lnTo>
                  <a:lnTo>
                    <a:pt x="22" y="751"/>
                  </a:lnTo>
                  <a:lnTo>
                    <a:pt x="22" y="728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8410680" y="1035360"/>
              <a:ext cx="421560" cy="82800"/>
            </a:xfrm>
            <a:custGeom>
              <a:avLst/>
              <a:gdLst/>
              <a:ahLst/>
              <a:rect l="l" t="t" r="r" b="b"/>
              <a:pathLst>
                <a:path w="917" h="180">
                  <a:moveTo>
                    <a:pt x="884" y="34"/>
                  </a:moveTo>
                  <a:lnTo>
                    <a:pt x="873" y="12"/>
                  </a:lnTo>
                  <a:lnTo>
                    <a:pt x="0" y="157"/>
                  </a:lnTo>
                  <a:lnTo>
                    <a:pt x="0" y="180"/>
                  </a:lnTo>
                  <a:lnTo>
                    <a:pt x="873" y="34"/>
                  </a:lnTo>
                  <a:lnTo>
                    <a:pt x="861" y="12"/>
                  </a:lnTo>
                  <a:lnTo>
                    <a:pt x="884" y="34"/>
                  </a:lnTo>
                  <a:lnTo>
                    <a:pt x="917" y="0"/>
                  </a:lnTo>
                  <a:lnTo>
                    <a:pt x="873" y="12"/>
                  </a:lnTo>
                  <a:lnTo>
                    <a:pt x="884" y="3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8487720" y="1041120"/>
              <a:ext cx="330840" cy="261720"/>
            </a:xfrm>
            <a:custGeom>
              <a:avLst/>
              <a:gdLst/>
              <a:ahLst/>
              <a:rect l="l" t="t" r="r" b="b"/>
              <a:pathLst>
                <a:path w="717" h="571">
                  <a:moveTo>
                    <a:pt x="45" y="549"/>
                  </a:moveTo>
                  <a:lnTo>
                    <a:pt x="45" y="571"/>
                  </a:lnTo>
                  <a:lnTo>
                    <a:pt x="717" y="22"/>
                  </a:lnTo>
                  <a:lnTo>
                    <a:pt x="694" y="0"/>
                  </a:lnTo>
                  <a:lnTo>
                    <a:pt x="34" y="549"/>
                  </a:lnTo>
                  <a:lnTo>
                    <a:pt x="34" y="571"/>
                  </a:lnTo>
                  <a:lnTo>
                    <a:pt x="34" y="549"/>
                  </a:lnTo>
                  <a:lnTo>
                    <a:pt x="0" y="560"/>
                  </a:lnTo>
                  <a:lnTo>
                    <a:pt x="34" y="571"/>
                  </a:lnTo>
                  <a:lnTo>
                    <a:pt x="45" y="549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8504640" y="1294560"/>
              <a:ext cx="410400" cy="101520"/>
            </a:xfrm>
            <a:custGeom>
              <a:avLst/>
              <a:gdLst/>
              <a:ahLst/>
              <a:rect l="l" t="t" r="r" b="b"/>
              <a:pathLst>
                <a:path w="895" h="224">
                  <a:moveTo>
                    <a:pt x="839" y="224"/>
                  </a:moveTo>
                  <a:lnTo>
                    <a:pt x="839" y="190"/>
                  </a:lnTo>
                  <a:lnTo>
                    <a:pt x="11" y="0"/>
                  </a:lnTo>
                  <a:lnTo>
                    <a:pt x="0" y="22"/>
                  </a:lnTo>
                  <a:lnTo>
                    <a:pt x="839" y="224"/>
                  </a:lnTo>
                  <a:lnTo>
                    <a:pt x="839" y="190"/>
                  </a:lnTo>
                  <a:lnTo>
                    <a:pt x="839" y="224"/>
                  </a:lnTo>
                  <a:lnTo>
                    <a:pt x="895" y="202"/>
                  </a:lnTo>
                  <a:lnTo>
                    <a:pt x="839" y="190"/>
                  </a:lnTo>
                  <a:lnTo>
                    <a:pt x="839" y="22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8482680" y="1380240"/>
              <a:ext cx="407160" cy="129240"/>
            </a:xfrm>
            <a:custGeom>
              <a:avLst/>
              <a:gdLst/>
              <a:ahLst/>
              <a:rect l="l" t="t" r="r" b="b"/>
              <a:pathLst>
                <a:path w="884" h="281">
                  <a:moveTo>
                    <a:pt x="45" y="259"/>
                  </a:moveTo>
                  <a:lnTo>
                    <a:pt x="34" y="281"/>
                  </a:lnTo>
                  <a:lnTo>
                    <a:pt x="884" y="34"/>
                  </a:lnTo>
                  <a:lnTo>
                    <a:pt x="884" y="0"/>
                  </a:lnTo>
                  <a:lnTo>
                    <a:pt x="34" y="248"/>
                  </a:lnTo>
                  <a:lnTo>
                    <a:pt x="23" y="270"/>
                  </a:lnTo>
                  <a:lnTo>
                    <a:pt x="34" y="248"/>
                  </a:lnTo>
                  <a:lnTo>
                    <a:pt x="0" y="259"/>
                  </a:lnTo>
                  <a:lnTo>
                    <a:pt x="23" y="270"/>
                  </a:lnTo>
                  <a:lnTo>
                    <a:pt x="45" y="259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8493120" y="1498320"/>
              <a:ext cx="319680" cy="247680"/>
            </a:xfrm>
            <a:custGeom>
              <a:avLst/>
              <a:gdLst/>
              <a:ahLst/>
              <a:rect l="l" t="t" r="r" b="b"/>
              <a:pathLst>
                <a:path w="694" h="537">
                  <a:moveTo>
                    <a:pt x="648" y="526"/>
                  </a:moveTo>
                  <a:lnTo>
                    <a:pt x="659" y="504"/>
                  </a:lnTo>
                  <a:lnTo>
                    <a:pt x="22" y="0"/>
                  </a:lnTo>
                  <a:lnTo>
                    <a:pt x="0" y="11"/>
                  </a:lnTo>
                  <a:lnTo>
                    <a:pt x="637" y="526"/>
                  </a:lnTo>
                  <a:lnTo>
                    <a:pt x="648" y="504"/>
                  </a:lnTo>
                  <a:lnTo>
                    <a:pt x="648" y="526"/>
                  </a:lnTo>
                  <a:lnTo>
                    <a:pt x="694" y="537"/>
                  </a:lnTo>
                  <a:lnTo>
                    <a:pt x="659" y="504"/>
                  </a:lnTo>
                  <a:lnTo>
                    <a:pt x="648" y="526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8385840" y="1680120"/>
              <a:ext cx="404640" cy="60480"/>
            </a:xfrm>
            <a:custGeom>
              <a:avLst/>
              <a:gdLst/>
              <a:ahLst/>
              <a:rect l="l" t="t" r="r" b="b"/>
              <a:pathLst>
                <a:path w="884" h="134">
                  <a:moveTo>
                    <a:pt x="35" y="11"/>
                  </a:moveTo>
                  <a:lnTo>
                    <a:pt x="11" y="33"/>
                  </a:lnTo>
                  <a:lnTo>
                    <a:pt x="884" y="134"/>
                  </a:lnTo>
                  <a:lnTo>
                    <a:pt x="884" y="112"/>
                  </a:lnTo>
                  <a:lnTo>
                    <a:pt x="23" y="0"/>
                  </a:lnTo>
                  <a:lnTo>
                    <a:pt x="0" y="22"/>
                  </a:lnTo>
                  <a:lnTo>
                    <a:pt x="23" y="0"/>
                  </a:lnTo>
                  <a:lnTo>
                    <a:pt x="0" y="0"/>
                  </a:lnTo>
                  <a:lnTo>
                    <a:pt x="0" y="22"/>
                  </a:lnTo>
                  <a:lnTo>
                    <a:pt x="35" y="11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8385840" y="1685880"/>
              <a:ext cx="159840" cy="349560"/>
            </a:xfrm>
            <a:custGeom>
              <a:avLst/>
              <a:gdLst/>
              <a:ahLst/>
              <a:rect l="l" t="t" r="r" b="b"/>
              <a:pathLst>
                <a:path w="348" h="763">
                  <a:moveTo>
                    <a:pt x="313" y="741"/>
                  </a:moveTo>
                  <a:lnTo>
                    <a:pt x="337" y="717"/>
                  </a:lnTo>
                  <a:lnTo>
                    <a:pt x="35" y="0"/>
                  </a:lnTo>
                  <a:lnTo>
                    <a:pt x="0" y="11"/>
                  </a:lnTo>
                  <a:lnTo>
                    <a:pt x="313" y="729"/>
                  </a:lnTo>
                  <a:lnTo>
                    <a:pt x="326" y="706"/>
                  </a:lnTo>
                  <a:lnTo>
                    <a:pt x="313" y="741"/>
                  </a:lnTo>
                  <a:lnTo>
                    <a:pt x="348" y="763"/>
                  </a:lnTo>
                  <a:lnTo>
                    <a:pt x="337" y="717"/>
                  </a:lnTo>
                  <a:lnTo>
                    <a:pt x="313" y="741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8206920" y="1809360"/>
              <a:ext cx="327240" cy="214560"/>
            </a:xfrm>
            <a:custGeom>
              <a:avLst/>
              <a:gdLst/>
              <a:ahLst/>
              <a:rect l="l" t="t" r="r" b="b"/>
              <a:pathLst>
                <a:path w="717" h="471">
                  <a:moveTo>
                    <a:pt x="22" y="22"/>
                  </a:moveTo>
                  <a:lnTo>
                    <a:pt x="0" y="33"/>
                  </a:lnTo>
                  <a:lnTo>
                    <a:pt x="704" y="471"/>
                  </a:lnTo>
                  <a:lnTo>
                    <a:pt x="717" y="436"/>
                  </a:lnTo>
                  <a:lnTo>
                    <a:pt x="11" y="11"/>
                  </a:lnTo>
                  <a:lnTo>
                    <a:pt x="0" y="22"/>
                  </a:lnTo>
                  <a:lnTo>
                    <a:pt x="11" y="11"/>
                  </a:lnTo>
                  <a:lnTo>
                    <a:pt x="0" y="0"/>
                  </a:lnTo>
                  <a:lnTo>
                    <a:pt x="0" y="22"/>
                  </a:lnTo>
                  <a:lnTo>
                    <a:pt x="22" y="2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8165160" y="1818000"/>
              <a:ext cx="49680" cy="379800"/>
            </a:xfrm>
            <a:custGeom>
              <a:avLst/>
              <a:gdLst/>
              <a:ahLst/>
              <a:rect l="l" t="t" r="r" b="b"/>
              <a:pathLst>
                <a:path w="112" h="829">
                  <a:moveTo>
                    <a:pt x="0" y="796"/>
                  </a:moveTo>
                  <a:lnTo>
                    <a:pt x="34" y="785"/>
                  </a:lnTo>
                  <a:lnTo>
                    <a:pt x="112" y="0"/>
                  </a:lnTo>
                  <a:lnTo>
                    <a:pt x="90" y="0"/>
                  </a:lnTo>
                  <a:lnTo>
                    <a:pt x="0" y="785"/>
                  </a:lnTo>
                  <a:lnTo>
                    <a:pt x="34" y="785"/>
                  </a:lnTo>
                  <a:lnTo>
                    <a:pt x="0" y="796"/>
                  </a:lnTo>
                  <a:lnTo>
                    <a:pt x="22" y="829"/>
                  </a:lnTo>
                  <a:lnTo>
                    <a:pt x="34" y="785"/>
                  </a:lnTo>
                  <a:lnTo>
                    <a:pt x="0" y="796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7975440" y="1859400"/>
              <a:ext cx="204120" cy="324720"/>
            </a:xfrm>
            <a:custGeom>
              <a:avLst/>
              <a:gdLst/>
              <a:ahLst/>
              <a:rect l="l" t="t" r="r" b="b"/>
              <a:pathLst>
                <a:path w="448" h="706">
                  <a:moveTo>
                    <a:pt x="34" y="33"/>
                  </a:moveTo>
                  <a:lnTo>
                    <a:pt x="0" y="33"/>
                  </a:lnTo>
                  <a:lnTo>
                    <a:pt x="414" y="706"/>
                  </a:lnTo>
                  <a:lnTo>
                    <a:pt x="448" y="695"/>
                  </a:lnTo>
                  <a:lnTo>
                    <a:pt x="34" y="22"/>
                  </a:lnTo>
                  <a:lnTo>
                    <a:pt x="0" y="22"/>
                  </a:lnTo>
                  <a:lnTo>
                    <a:pt x="34" y="22"/>
                  </a:lnTo>
                  <a:lnTo>
                    <a:pt x="23" y="0"/>
                  </a:lnTo>
                  <a:lnTo>
                    <a:pt x="0" y="22"/>
                  </a:lnTo>
                  <a:lnTo>
                    <a:pt x="34" y="33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7768440" y="1870560"/>
              <a:ext cx="220320" cy="338400"/>
            </a:xfrm>
            <a:custGeom>
              <a:avLst/>
              <a:gdLst/>
              <a:ahLst/>
              <a:rect l="l" t="t" r="r" b="b"/>
              <a:pathLst>
                <a:path w="482" h="740">
                  <a:moveTo>
                    <a:pt x="0" y="695"/>
                  </a:moveTo>
                  <a:lnTo>
                    <a:pt x="24" y="706"/>
                  </a:lnTo>
                  <a:lnTo>
                    <a:pt x="482" y="11"/>
                  </a:lnTo>
                  <a:lnTo>
                    <a:pt x="448" y="0"/>
                  </a:lnTo>
                  <a:lnTo>
                    <a:pt x="0" y="684"/>
                  </a:lnTo>
                  <a:lnTo>
                    <a:pt x="24" y="695"/>
                  </a:lnTo>
                  <a:lnTo>
                    <a:pt x="0" y="695"/>
                  </a:lnTo>
                  <a:lnTo>
                    <a:pt x="0" y="740"/>
                  </a:lnTo>
                  <a:lnTo>
                    <a:pt x="24" y="706"/>
                  </a:lnTo>
                  <a:lnTo>
                    <a:pt x="0" y="695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7754760" y="1818000"/>
              <a:ext cx="24840" cy="371520"/>
            </a:xfrm>
            <a:custGeom>
              <a:avLst/>
              <a:gdLst/>
              <a:ahLst/>
              <a:rect l="l" t="t" r="r" b="b"/>
              <a:pathLst>
                <a:path w="57" h="807">
                  <a:moveTo>
                    <a:pt x="22" y="44"/>
                  </a:moveTo>
                  <a:lnTo>
                    <a:pt x="0" y="33"/>
                  </a:lnTo>
                  <a:lnTo>
                    <a:pt x="33" y="807"/>
                  </a:lnTo>
                  <a:lnTo>
                    <a:pt x="57" y="807"/>
                  </a:lnTo>
                  <a:lnTo>
                    <a:pt x="22" y="33"/>
                  </a:lnTo>
                  <a:lnTo>
                    <a:pt x="11" y="22"/>
                  </a:lnTo>
                  <a:lnTo>
                    <a:pt x="22" y="33"/>
                  </a:lnTo>
                  <a:lnTo>
                    <a:pt x="22" y="0"/>
                  </a:lnTo>
                  <a:lnTo>
                    <a:pt x="11" y="22"/>
                  </a:lnTo>
                  <a:lnTo>
                    <a:pt x="22" y="4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7404840" y="1828800"/>
              <a:ext cx="358560" cy="237240"/>
            </a:xfrm>
            <a:custGeom>
              <a:avLst/>
              <a:gdLst/>
              <a:ahLst/>
              <a:rect l="l" t="t" r="r" b="b"/>
              <a:pathLst>
                <a:path w="783" h="515">
                  <a:moveTo>
                    <a:pt x="22" y="471"/>
                  </a:moveTo>
                  <a:lnTo>
                    <a:pt x="46" y="482"/>
                  </a:lnTo>
                  <a:lnTo>
                    <a:pt x="783" y="22"/>
                  </a:lnTo>
                  <a:lnTo>
                    <a:pt x="772" y="0"/>
                  </a:lnTo>
                  <a:lnTo>
                    <a:pt x="34" y="460"/>
                  </a:lnTo>
                  <a:lnTo>
                    <a:pt x="46" y="482"/>
                  </a:lnTo>
                  <a:lnTo>
                    <a:pt x="22" y="471"/>
                  </a:lnTo>
                  <a:lnTo>
                    <a:pt x="0" y="515"/>
                  </a:lnTo>
                  <a:lnTo>
                    <a:pt x="46" y="482"/>
                  </a:lnTo>
                  <a:lnTo>
                    <a:pt x="22" y="471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7413480" y="1699560"/>
              <a:ext cx="181800" cy="349560"/>
            </a:xfrm>
            <a:custGeom>
              <a:avLst/>
              <a:gdLst/>
              <a:ahLst/>
              <a:rect l="l" t="t" r="r" b="b"/>
              <a:pathLst>
                <a:path w="392" h="762">
                  <a:moveTo>
                    <a:pt x="370" y="34"/>
                  </a:moveTo>
                  <a:lnTo>
                    <a:pt x="359" y="11"/>
                  </a:lnTo>
                  <a:lnTo>
                    <a:pt x="0" y="751"/>
                  </a:lnTo>
                  <a:lnTo>
                    <a:pt x="24" y="762"/>
                  </a:lnTo>
                  <a:lnTo>
                    <a:pt x="381" y="23"/>
                  </a:lnTo>
                  <a:lnTo>
                    <a:pt x="370" y="11"/>
                  </a:lnTo>
                  <a:lnTo>
                    <a:pt x="381" y="23"/>
                  </a:lnTo>
                  <a:lnTo>
                    <a:pt x="392" y="0"/>
                  </a:lnTo>
                  <a:lnTo>
                    <a:pt x="370" y="11"/>
                  </a:lnTo>
                  <a:lnTo>
                    <a:pt x="370" y="3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7162560" y="1704960"/>
              <a:ext cx="421560" cy="82440"/>
            </a:xfrm>
            <a:custGeom>
              <a:avLst/>
              <a:gdLst/>
              <a:ahLst/>
              <a:rect l="l" t="t" r="r" b="b"/>
              <a:pathLst>
                <a:path w="917" h="179">
                  <a:moveTo>
                    <a:pt x="33" y="146"/>
                  </a:moveTo>
                  <a:lnTo>
                    <a:pt x="44" y="168"/>
                  </a:lnTo>
                  <a:lnTo>
                    <a:pt x="917" y="23"/>
                  </a:lnTo>
                  <a:lnTo>
                    <a:pt x="917" y="0"/>
                  </a:lnTo>
                  <a:lnTo>
                    <a:pt x="44" y="146"/>
                  </a:lnTo>
                  <a:lnTo>
                    <a:pt x="55" y="168"/>
                  </a:lnTo>
                  <a:lnTo>
                    <a:pt x="33" y="146"/>
                  </a:lnTo>
                  <a:lnTo>
                    <a:pt x="0" y="179"/>
                  </a:lnTo>
                  <a:lnTo>
                    <a:pt x="44" y="168"/>
                  </a:lnTo>
                  <a:lnTo>
                    <a:pt x="33" y="146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7179120" y="1520280"/>
              <a:ext cx="327960" cy="261720"/>
            </a:xfrm>
            <a:custGeom>
              <a:avLst/>
              <a:gdLst/>
              <a:ahLst/>
              <a:rect l="l" t="t" r="r" b="b"/>
              <a:pathLst>
                <a:path w="717" h="572">
                  <a:moveTo>
                    <a:pt x="671" y="34"/>
                  </a:moveTo>
                  <a:lnTo>
                    <a:pt x="671" y="11"/>
                  </a:lnTo>
                  <a:lnTo>
                    <a:pt x="0" y="550"/>
                  </a:lnTo>
                  <a:lnTo>
                    <a:pt x="22" y="572"/>
                  </a:lnTo>
                  <a:lnTo>
                    <a:pt x="682" y="22"/>
                  </a:lnTo>
                  <a:lnTo>
                    <a:pt x="682" y="0"/>
                  </a:lnTo>
                  <a:lnTo>
                    <a:pt x="682" y="22"/>
                  </a:lnTo>
                  <a:lnTo>
                    <a:pt x="717" y="11"/>
                  </a:lnTo>
                  <a:lnTo>
                    <a:pt x="682" y="0"/>
                  </a:lnTo>
                  <a:lnTo>
                    <a:pt x="671" y="3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7080120" y="1427040"/>
              <a:ext cx="410400" cy="109800"/>
            </a:xfrm>
            <a:custGeom>
              <a:avLst/>
              <a:gdLst/>
              <a:ahLst/>
              <a:rect l="l" t="t" r="r" b="b"/>
              <a:pathLst>
                <a:path w="894" h="236">
                  <a:moveTo>
                    <a:pt x="56" y="0"/>
                  </a:moveTo>
                  <a:lnTo>
                    <a:pt x="56" y="35"/>
                  </a:lnTo>
                  <a:lnTo>
                    <a:pt x="883" y="236"/>
                  </a:lnTo>
                  <a:lnTo>
                    <a:pt x="894" y="202"/>
                  </a:lnTo>
                  <a:lnTo>
                    <a:pt x="56" y="0"/>
                  </a:lnTo>
                  <a:lnTo>
                    <a:pt x="56" y="35"/>
                  </a:lnTo>
                  <a:lnTo>
                    <a:pt x="56" y="0"/>
                  </a:lnTo>
                  <a:lnTo>
                    <a:pt x="0" y="23"/>
                  </a:lnTo>
                  <a:lnTo>
                    <a:pt x="56" y="35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7107480" y="1314000"/>
              <a:ext cx="404640" cy="129240"/>
            </a:xfrm>
            <a:custGeom>
              <a:avLst/>
              <a:gdLst/>
              <a:ahLst/>
              <a:rect l="l" t="t" r="r" b="b"/>
              <a:pathLst>
                <a:path w="884" h="281">
                  <a:moveTo>
                    <a:pt x="838" y="34"/>
                  </a:moveTo>
                  <a:lnTo>
                    <a:pt x="850" y="0"/>
                  </a:lnTo>
                  <a:lnTo>
                    <a:pt x="0" y="246"/>
                  </a:lnTo>
                  <a:lnTo>
                    <a:pt x="0" y="281"/>
                  </a:lnTo>
                  <a:lnTo>
                    <a:pt x="850" y="34"/>
                  </a:lnTo>
                  <a:lnTo>
                    <a:pt x="861" y="11"/>
                  </a:lnTo>
                  <a:lnTo>
                    <a:pt x="850" y="34"/>
                  </a:lnTo>
                  <a:lnTo>
                    <a:pt x="884" y="22"/>
                  </a:lnTo>
                  <a:lnTo>
                    <a:pt x="861" y="11"/>
                  </a:lnTo>
                  <a:lnTo>
                    <a:pt x="838" y="3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7184880" y="1077120"/>
              <a:ext cx="316440" cy="252720"/>
            </a:xfrm>
            <a:custGeom>
              <a:avLst/>
              <a:gdLst/>
              <a:ahLst/>
              <a:rect l="l" t="t" r="r" b="b"/>
              <a:pathLst>
                <a:path w="694" h="550">
                  <a:moveTo>
                    <a:pt x="45" y="11"/>
                  </a:moveTo>
                  <a:lnTo>
                    <a:pt x="34" y="34"/>
                  </a:lnTo>
                  <a:lnTo>
                    <a:pt x="671" y="550"/>
                  </a:lnTo>
                  <a:lnTo>
                    <a:pt x="694" y="527"/>
                  </a:lnTo>
                  <a:lnTo>
                    <a:pt x="56" y="11"/>
                  </a:lnTo>
                  <a:lnTo>
                    <a:pt x="45" y="34"/>
                  </a:lnTo>
                  <a:lnTo>
                    <a:pt x="45" y="11"/>
                  </a:lnTo>
                  <a:lnTo>
                    <a:pt x="0" y="0"/>
                  </a:lnTo>
                  <a:lnTo>
                    <a:pt x="34" y="34"/>
                  </a:lnTo>
                  <a:lnTo>
                    <a:pt x="45" y="11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7203600" y="1082160"/>
              <a:ext cx="410760" cy="63720"/>
            </a:xfrm>
            <a:custGeom>
              <a:avLst/>
              <a:gdLst/>
              <a:ahLst/>
              <a:rect l="l" t="t" r="r" b="b"/>
              <a:pathLst>
                <a:path w="895" h="135">
                  <a:moveTo>
                    <a:pt x="850" y="124"/>
                  </a:moveTo>
                  <a:lnTo>
                    <a:pt x="873" y="102"/>
                  </a:lnTo>
                  <a:lnTo>
                    <a:pt x="0" y="0"/>
                  </a:lnTo>
                  <a:lnTo>
                    <a:pt x="0" y="23"/>
                  </a:lnTo>
                  <a:lnTo>
                    <a:pt x="862" y="135"/>
                  </a:lnTo>
                  <a:lnTo>
                    <a:pt x="884" y="113"/>
                  </a:lnTo>
                  <a:lnTo>
                    <a:pt x="862" y="135"/>
                  </a:lnTo>
                  <a:lnTo>
                    <a:pt x="895" y="135"/>
                  </a:lnTo>
                  <a:lnTo>
                    <a:pt x="884" y="113"/>
                  </a:lnTo>
                  <a:lnTo>
                    <a:pt x="850" y="12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7446600" y="793080"/>
              <a:ext cx="162360" cy="347040"/>
            </a:xfrm>
            <a:custGeom>
              <a:avLst/>
              <a:gdLst/>
              <a:ahLst/>
              <a:rect l="l" t="t" r="r" b="b"/>
              <a:pathLst>
                <a:path w="358" h="752">
                  <a:moveTo>
                    <a:pt x="45" y="23"/>
                  </a:moveTo>
                  <a:lnTo>
                    <a:pt x="22" y="34"/>
                  </a:lnTo>
                  <a:lnTo>
                    <a:pt x="324" y="752"/>
                  </a:lnTo>
                  <a:lnTo>
                    <a:pt x="358" y="741"/>
                  </a:lnTo>
                  <a:lnTo>
                    <a:pt x="45" y="23"/>
                  </a:lnTo>
                  <a:lnTo>
                    <a:pt x="33" y="45"/>
                  </a:lnTo>
                  <a:lnTo>
                    <a:pt x="45" y="23"/>
                  </a:lnTo>
                  <a:lnTo>
                    <a:pt x="0" y="0"/>
                  </a:lnTo>
                  <a:lnTo>
                    <a:pt x="22" y="34"/>
                  </a:lnTo>
                  <a:lnTo>
                    <a:pt x="45" y="23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7460280" y="804240"/>
              <a:ext cx="330480" cy="211680"/>
            </a:xfrm>
            <a:custGeom>
              <a:avLst/>
              <a:gdLst/>
              <a:ahLst/>
              <a:rect l="l" t="t" r="r" b="b"/>
              <a:pathLst>
                <a:path w="717" h="460">
                  <a:moveTo>
                    <a:pt x="695" y="437"/>
                  </a:moveTo>
                  <a:lnTo>
                    <a:pt x="717" y="426"/>
                  </a:lnTo>
                  <a:lnTo>
                    <a:pt x="12" y="0"/>
                  </a:lnTo>
                  <a:lnTo>
                    <a:pt x="0" y="22"/>
                  </a:lnTo>
                  <a:lnTo>
                    <a:pt x="706" y="448"/>
                  </a:lnTo>
                  <a:lnTo>
                    <a:pt x="717" y="437"/>
                  </a:lnTo>
                  <a:lnTo>
                    <a:pt x="706" y="448"/>
                  </a:lnTo>
                  <a:lnTo>
                    <a:pt x="717" y="460"/>
                  </a:lnTo>
                  <a:lnTo>
                    <a:pt x="717" y="437"/>
                  </a:lnTo>
                  <a:lnTo>
                    <a:pt x="695" y="437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7779600" y="644400"/>
              <a:ext cx="52200" cy="361080"/>
            </a:xfrm>
            <a:custGeom>
              <a:avLst/>
              <a:gdLst/>
              <a:ahLst/>
              <a:rect l="l" t="t" r="r" b="b"/>
              <a:pathLst>
                <a:path w="111" h="784">
                  <a:moveTo>
                    <a:pt x="100" y="0"/>
                  </a:moveTo>
                  <a:lnTo>
                    <a:pt x="89" y="0"/>
                  </a:lnTo>
                  <a:lnTo>
                    <a:pt x="0" y="784"/>
                  </a:lnTo>
                  <a:lnTo>
                    <a:pt x="22" y="784"/>
                  </a:lnTo>
                  <a:lnTo>
                    <a:pt x="111" y="0"/>
                  </a:lnTo>
                  <a:lnTo>
                    <a:pt x="10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7559280" y="1010880"/>
              <a:ext cx="862560" cy="900720"/>
            </a:xfrm>
            <a:custGeom>
              <a:avLst/>
              <a:gdLst/>
              <a:ahLst/>
              <a:rect l="l" t="t" r="r" b="b"/>
              <a:pathLst>
                <a:path w="1880" h="1963">
                  <a:moveTo>
                    <a:pt x="660" y="1727"/>
                  </a:moveTo>
                  <a:lnTo>
                    <a:pt x="694" y="1727"/>
                  </a:lnTo>
                  <a:lnTo>
                    <a:pt x="727" y="1715"/>
                  </a:lnTo>
                  <a:lnTo>
                    <a:pt x="760" y="1704"/>
                  </a:lnTo>
                  <a:lnTo>
                    <a:pt x="795" y="1704"/>
                  </a:lnTo>
                  <a:lnTo>
                    <a:pt x="828" y="1693"/>
                  </a:lnTo>
                  <a:lnTo>
                    <a:pt x="862" y="1693"/>
                  </a:lnTo>
                  <a:lnTo>
                    <a:pt x="895" y="1682"/>
                  </a:lnTo>
                  <a:lnTo>
                    <a:pt x="929" y="1671"/>
                  </a:lnTo>
                  <a:lnTo>
                    <a:pt x="963" y="1671"/>
                  </a:lnTo>
                  <a:lnTo>
                    <a:pt x="996" y="1660"/>
                  </a:lnTo>
                  <a:lnTo>
                    <a:pt x="1029" y="1660"/>
                  </a:lnTo>
                  <a:lnTo>
                    <a:pt x="1063" y="1660"/>
                  </a:lnTo>
                  <a:lnTo>
                    <a:pt x="1097" y="1649"/>
                  </a:lnTo>
                  <a:lnTo>
                    <a:pt x="1130" y="1649"/>
                  </a:lnTo>
                  <a:lnTo>
                    <a:pt x="1164" y="1638"/>
                  </a:lnTo>
                  <a:lnTo>
                    <a:pt x="1197" y="1638"/>
                  </a:lnTo>
                  <a:lnTo>
                    <a:pt x="1231" y="1627"/>
                  </a:lnTo>
                  <a:lnTo>
                    <a:pt x="1265" y="1627"/>
                  </a:lnTo>
                  <a:lnTo>
                    <a:pt x="1298" y="1627"/>
                  </a:lnTo>
                  <a:lnTo>
                    <a:pt x="1342" y="1614"/>
                  </a:lnTo>
                  <a:lnTo>
                    <a:pt x="1377" y="1614"/>
                  </a:lnTo>
                  <a:lnTo>
                    <a:pt x="1410" y="1603"/>
                  </a:lnTo>
                  <a:lnTo>
                    <a:pt x="1443" y="1603"/>
                  </a:lnTo>
                  <a:lnTo>
                    <a:pt x="1477" y="1603"/>
                  </a:lnTo>
                  <a:lnTo>
                    <a:pt x="1510" y="1592"/>
                  </a:lnTo>
                  <a:lnTo>
                    <a:pt x="1545" y="1592"/>
                  </a:lnTo>
                  <a:lnTo>
                    <a:pt x="1578" y="1592"/>
                  </a:lnTo>
                  <a:lnTo>
                    <a:pt x="1611" y="1592"/>
                  </a:lnTo>
                  <a:lnTo>
                    <a:pt x="1656" y="1581"/>
                  </a:lnTo>
                  <a:lnTo>
                    <a:pt x="1690" y="1581"/>
                  </a:lnTo>
                  <a:lnTo>
                    <a:pt x="1723" y="1581"/>
                  </a:lnTo>
                  <a:lnTo>
                    <a:pt x="1757" y="1570"/>
                  </a:lnTo>
                  <a:lnTo>
                    <a:pt x="1812" y="1570"/>
                  </a:lnTo>
                  <a:lnTo>
                    <a:pt x="1858" y="1548"/>
                  </a:lnTo>
                  <a:lnTo>
                    <a:pt x="1869" y="1526"/>
                  </a:lnTo>
                  <a:lnTo>
                    <a:pt x="1880" y="1491"/>
                  </a:lnTo>
                  <a:lnTo>
                    <a:pt x="1880" y="1458"/>
                  </a:lnTo>
                  <a:lnTo>
                    <a:pt x="1880" y="1424"/>
                  </a:lnTo>
                  <a:lnTo>
                    <a:pt x="1869" y="1402"/>
                  </a:lnTo>
                  <a:lnTo>
                    <a:pt x="1869" y="1379"/>
                  </a:lnTo>
                  <a:lnTo>
                    <a:pt x="1824" y="1189"/>
                  </a:lnTo>
                  <a:lnTo>
                    <a:pt x="1790" y="1031"/>
                  </a:lnTo>
                  <a:lnTo>
                    <a:pt x="1768" y="897"/>
                  </a:lnTo>
                  <a:lnTo>
                    <a:pt x="1768" y="763"/>
                  </a:lnTo>
                  <a:lnTo>
                    <a:pt x="1768" y="628"/>
                  </a:lnTo>
                  <a:lnTo>
                    <a:pt x="1790" y="483"/>
                  </a:lnTo>
                  <a:lnTo>
                    <a:pt x="1801" y="325"/>
                  </a:lnTo>
                  <a:lnTo>
                    <a:pt x="1824" y="135"/>
                  </a:lnTo>
                  <a:lnTo>
                    <a:pt x="1824" y="90"/>
                  </a:lnTo>
                  <a:lnTo>
                    <a:pt x="1812" y="56"/>
                  </a:lnTo>
                  <a:lnTo>
                    <a:pt x="1790" y="34"/>
                  </a:lnTo>
                  <a:lnTo>
                    <a:pt x="1768" y="12"/>
                  </a:lnTo>
                  <a:lnTo>
                    <a:pt x="1746" y="12"/>
                  </a:lnTo>
                  <a:lnTo>
                    <a:pt x="1734" y="0"/>
                  </a:lnTo>
                  <a:lnTo>
                    <a:pt x="1712" y="0"/>
                  </a:lnTo>
                  <a:lnTo>
                    <a:pt x="1667" y="0"/>
                  </a:lnTo>
                  <a:lnTo>
                    <a:pt x="1633" y="0"/>
                  </a:lnTo>
                  <a:lnTo>
                    <a:pt x="1589" y="12"/>
                  </a:lnTo>
                  <a:lnTo>
                    <a:pt x="1556" y="12"/>
                  </a:lnTo>
                  <a:lnTo>
                    <a:pt x="1510" y="12"/>
                  </a:lnTo>
                  <a:lnTo>
                    <a:pt x="1477" y="12"/>
                  </a:lnTo>
                  <a:lnTo>
                    <a:pt x="1432" y="12"/>
                  </a:lnTo>
                  <a:lnTo>
                    <a:pt x="1399" y="23"/>
                  </a:lnTo>
                  <a:lnTo>
                    <a:pt x="1354" y="23"/>
                  </a:lnTo>
                  <a:lnTo>
                    <a:pt x="1320" y="23"/>
                  </a:lnTo>
                  <a:lnTo>
                    <a:pt x="1287" y="23"/>
                  </a:lnTo>
                  <a:lnTo>
                    <a:pt x="1242" y="23"/>
                  </a:lnTo>
                  <a:lnTo>
                    <a:pt x="1208" y="34"/>
                  </a:lnTo>
                  <a:lnTo>
                    <a:pt x="1164" y="34"/>
                  </a:lnTo>
                  <a:lnTo>
                    <a:pt x="1130" y="34"/>
                  </a:lnTo>
                  <a:lnTo>
                    <a:pt x="1086" y="45"/>
                  </a:lnTo>
                  <a:lnTo>
                    <a:pt x="1051" y="45"/>
                  </a:lnTo>
                  <a:lnTo>
                    <a:pt x="1007" y="45"/>
                  </a:lnTo>
                  <a:lnTo>
                    <a:pt x="974" y="56"/>
                  </a:lnTo>
                  <a:lnTo>
                    <a:pt x="929" y="56"/>
                  </a:lnTo>
                  <a:lnTo>
                    <a:pt x="895" y="56"/>
                  </a:lnTo>
                  <a:lnTo>
                    <a:pt x="850" y="68"/>
                  </a:lnTo>
                  <a:lnTo>
                    <a:pt x="817" y="68"/>
                  </a:lnTo>
                  <a:lnTo>
                    <a:pt x="773" y="68"/>
                  </a:lnTo>
                  <a:lnTo>
                    <a:pt x="738" y="79"/>
                  </a:lnTo>
                  <a:lnTo>
                    <a:pt x="694" y="79"/>
                  </a:lnTo>
                  <a:lnTo>
                    <a:pt x="660" y="79"/>
                  </a:lnTo>
                  <a:lnTo>
                    <a:pt x="616" y="90"/>
                  </a:lnTo>
                  <a:lnTo>
                    <a:pt x="582" y="90"/>
                  </a:lnTo>
                  <a:lnTo>
                    <a:pt x="537" y="101"/>
                  </a:lnTo>
                  <a:lnTo>
                    <a:pt x="504" y="101"/>
                  </a:lnTo>
                  <a:lnTo>
                    <a:pt x="458" y="101"/>
                  </a:lnTo>
                  <a:lnTo>
                    <a:pt x="369" y="124"/>
                  </a:lnTo>
                  <a:lnTo>
                    <a:pt x="280" y="146"/>
                  </a:lnTo>
                  <a:lnTo>
                    <a:pt x="213" y="169"/>
                  </a:lnTo>
                  <a:lnTo>
                    <a:pt x="156" y="191"/>
                  </a:lnTo>
                  <a:lnTo>
                    <a:pt x="112" y="213"/>
                  </a:lnTo>
                  <a:lnTo>
                    <a:pt x="78" y="236"/>
                  </a:lnTo>
                  <a:lnTo>
                    <a:pt x="45" y="259"/>
                  </a:lnTo>
                  <a:lnTo>
                    <a:pt x="34" y="281"/>
                  </a:lnTo>
                  <a:lnTo>
                    <a:pt x="23" y="303"/>
                  </a:lnTo>
                  <a:lnTo>
                    <a:pt x="12" y="325"/>
                  </a:lnTo>
                  <a:lnTo>
                    <a:pt x="12" y="336"/>
                  </a:lnTo>
                  <a:lnTo>
                    <a:pt x="23" y="360"/>
                  </a:lnTo>
                  <a:lnTo>
                    <a:pt x="23" y="371"/>
                  </a:lnTo>
                  <a:lnTo>
                    <a:pt x="23" y="382"/>
                  </a:lnTo>
                  <a:lnTo>
                    <a:pt x="34" y="382"/>
                  </a:lnTo>
                  <a:lnTo>
                    <a:pt x="23" y="505"/>
                  </a:lnTo>
                  <a:lnTo>
                    <a:pt x="12" y="617"/>
                  </a:lnTo>
                  <a:lnTo>
                    <a:pt x="12" y="718"/>
                  </a:lnTo>
                  <a:lnTo>
                    <a:pt x="0" y="819"/>
                  </a:lnTo>
                  <a:lnTo>
                    <a:pt x="0" y="908"/>
                  </a:lnTo>
                  <a:lnTo>
                    <a:pt x="0" y="998"/>
                  </a:lnTo>
                  <a:lnTo>
                    <a:pt x="0" y="1088"/>
                  </a:lnTo>
                  <a:lnTo>
                    <a:pt x="0" y="1178"/>
                  </a:lnTo>
                  <a:lnTo>
                    <a:pt x="12" y="1256"/>
                  </a:lnTo>
                  <a:lnTo>
                    <a:pt x="12" y="1346"/>
                  </a:lnTo>
                  <a:lnTo>
                    <a:pt x="34" y="1436"/>
                  </a:lnTo>
                  <a:lnTo>
                    <a:pt x="45" y="1526"/>
                  </a:lnTo>
                  <a:lnTo>
                    <a:pt x="67" y="1627"/>
                  </a:lnTo>
                  <a:lnTo>
                    <a:pt x="101" y="1727"/>
                  </a:lnTo>
                  <a:lnTo>
                    <a:pt x="134" y="1839"/>
                  </a:lnTo>
                  <a:lnTo>
                    <a:pt x="168" y="1951"/>
                  </a:lnTo>
                  <a:lnTo>
                    <a:pt x="179" y="1951"/>
                  </a:lnTo>
                  <a:lnTo>
                    <a:pt x="179" y="1963"/>
                  </a:lnTo>
                  <a:lnTo>
                    <a:pt x="202" y="1963"/>
                  </a:lnTo>
                  <a:lnTo>
                    <a:pt x="213" y="1963"/>
                  </a:lnTo>
                  <a:lnTo>
                    <a:pt x="246" y="1963"/>
                  </a:lnTo>
                  <a:lnTo>
                    <a:pt x="280" y="1951"/>
                  </a:lnTo>
                  <a:lnTo>
                    <a:pt x="314" y="1918"/>
                  </a:lnTo>
                  <a:lnTo>
                    <a:pt x="358" y="1884"/>
                  </a:lnTo>
                  <a:lnTo>
                    <a:pt x="381" y="1862"/>
                  </a:lnTo>
                  <a:lnTo>
                    <a:pt x="403" y="1839"/>
                  </a:lnTo>
                  <a:lnTo>
                    <a:pt x="425" y="1817"/>
                  </a:lnTo>
                  <a:lnTo>
                    <a:pt x="458" y="1805"/>
                  </a:lnTo>
                  <a:lnTo>
                    <a:pt x="482" y="1783"/>
                  </a:lnTo>
                  <a:lnTo>
                    <a:pt x="504" y="1772"/>
                  </a:lnTo>
                  <a:lnTo>
                    <a:pt x="526" y="1761"/>
                  </a:lnTo>
                  <a:lnTo>
                    <a:pt x="548" y="1761"/>
                  </a:lnTo>
                  <a:lnTo>
                    <a:pt x="571" y="1750"/>
                  </a:lnTo>
                  <a:lnTo>
                    <a:pt x="593" y="1739"/>
                  </a:lnTo>
                  <a:lnTo>
                    <a:pt x="616" y="1739"/>
                  </a:lnTo>
                  <a:lnTo>
                    <a:pt x="627" y="1739"/>
                  </a:lnTo>
                  <a:lnTo>
                    <a:pt x="638" y="1727"/>
                  </a:lnTo>
                  <a:lnTo>
                    <a:pt x="649" y="1727"/>
                  </a:lnTo>
                  <a:lnTo>
                    <a:pt x="660" y="1727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7862040" y="1726920"/>
              <a:ext cx="504000" cy="82440"/>
            </a:xfrm>
            <a:custGeom>
              <a:avLst/>
              <a:gdLst/>
              <a:ahLst/>
              <a:rect l="l" t="t" r="r" b="b"/>
              <a:pathLst>
                <a:path w="1097" h="180">
                  <a:moveTo>
                    <a:pt x="1097" y="0"/>
                  </a:moveTo>
                  <a:lnTo>
                    <a:pt x="1063" y="0"/>
                  </a:lnTo>
                  <a:lnTo>
                    <a:pt x="1030" y="11"/>
                  </a:lnTo>
                  <a:lnTo>
                    <a:pt x="985" y="11"/>
                  </a:lnTo>
                  <a:lnTo>
                    <a:pt x="951" y="11"/>
                  </a:lnTo>
                  <a:lnTo>
                    <a:pt x="918" y="22"/>
                  </a:lnTo>
                  <a:lnTo>
                    <a:pt x="885" y="22"/>
                  </a:lnTo>
                  <a:lnTo>
                    <a:pt x="850" y="22"/>
                  </a:lnTo>
                  <a:lnTo>
                    <a:pt x="817" y="33"/>
                  </a:lnTo>
                  <a:lnTo>
                    <a:pt x="783" y="33"/>
                  </a:lnTo>
                  <a:lnTo>
                    <a:pt x="750" y="33"/>
                  </a:lnTo>
                  <a:lnTo>
                    <a:pt x="705" y="44"/>
                  </a:lnTo>
                  <a:lnTo>
                    <a:pt x="671" y="44"/>
                  </a:lnTo>
                  <a:lnTo>
                    <a:pt x="638" y="44"/>
                  </a:lnTo>
                  <a:lnTo>
                    <a:pt x="605" y="55"/>
                  </a:lnTo>
                  <a:lnTo>
                    <a:pt x="571" y="55"/>
                  </a:lnTo>
                  <a:lnTo>
                    <a:pt x="537" y="68"/>
                  </a:lnTo>
                  <a:lnTo>
                    <a:pt x="504" y="68"/>
                  </a:lnTo>
                  <a:lnTo>
                    <a:pt x="470" y="68"/>
                  </a:lnTo>
                  <a:lnTo>
                    <a:pt x="437" y="79"/>
                  </a:lnTo>
                  <a:lnTo>
                    <a:pt x="403" y="79"/>
                  </a:lnTo>
                  <a:lnTo>
                    <a:pt x="369" y="90"/>
                  </a:lnTo>
                  <a:lnTo>
                    <a:pt x="336" y="90"/>
                  </a:lnTo>
                  <a:lnTo>
                    <a:pt x="303" y="101"/>
                  </a:lnTo>
                  <a:lnTo>
                    <a:pt x="269" y="101"/>
                  </a:lnTo>
                  <a:lnTo>
                    <a:pt x="235" y="112"/>
                  </a:lnTo>
                  <a:lnTo>
                    <a:pt x="202" y="112"/>
                  </a:lnTo>
                  <a:lnTo>
                    <a:pt x="168" y="123"/>
                  </a:lnTo>
                  <a:lnTo>
                    <a:pt x="135" y="134"/>
                  </a:lnTo>
                  <a:lnTo>
                    <a:pt x="100" y="134"/>
                  </a:lnTo>
                  <a:lnTo>
                    <a:pt x="67" y="145"/>
                  </a:lnTo>
                  <a:lnTo>
                    <a:pt x="34" y="145"/>
                  </a:lnTo>
                  <a:lnTo>
                    <a:pt x="0" y="156"/>
                  </a:lnTo>
                  <a:lnTo>
                    <a:pt x="0" y="180"/>
                  </a:lnTo>
                  <a:lnTo>
                    <a:pt x="34" y="180"/>
                  </a:lnTo>
                  <a:lnTo>
                    <a:pt x="67" y="168"/>
                  </a:lnTo>
                  <a:lnTo>
                    <a:pt x="100" y="168"/>
                  </a:lnTo>
                  <a:lnTo>
                    <a:pt x="135" y="156"/>
                  </a:lnTo>
                  <a:lnTo>
                    <a:pt x="168" y="145"/>
                  </a:lnTo>
                  <a:lnTo>
                    <a:pt x="202" y="145"/>
                  </a:lnTo>
                  <a:lnTo>
                    <a:pt x="235" y="134"/>
                  </a:lnTo>
                  <a:lnTo>
                    <a:pt x="269" y="134"/>
                  </a:lnTo>
                  <a:lnTo>
                    <a:pt x="303" y="123"/>
                  </a:lnTo>
                  <a:lnTo>
                    <a:pt x="336" y="123"/>
                  </a:lnTo>
                  <a:lnTo>
                    <a:pt x="369" y="112"/>
                  </a:lnTo>
                  <a:lnTo>
                    <a:pt x="403" y="112"/>
                  </a:lnTo>
                  <a:lnTo>
                    <a:pt x="437" y="101"/>
                  </a:lnTo>
                  <a:lnTo>
                    <a:pt x="470" y="101"/>
                  </a:lnTo>
                  <a:lnTo>
                    <a:pt x="504" y="90"/>
                  </a:lnTo>
                  <a:lnTo>
                    <a:pt x="537" y="90"/>
                  </a:lnTo>
                  <a:lnTo>
                    <a:pt x="571" y="79"/>
                  </a:lnTo>
                  <a:lnTo>
                    <a:pt x="605" y="79"/>
                  </a:lnTo>
                  <a:lnTo>
                    <a:pt x="649" y="79"/>
                  </a:lnTo>
                  <a:lnTo>
                    <a:pt x="682" y="68"/>
                  </a:lnTo>
                  <a:lnTo>
                    <a:pt x="717" y="68"/>
                  </a:lnTo>
                  <a:lnTo>
                    <a:pt x="750" y="68"/>
                  </a:lnTo>
                  <a:lnTo>
                    <a:pt x="783" y="55"/>
                  </a:lnTo>
                  <a:lnTo>
                    <a:pt x="817" y="55"/>
                  </a:lnTo>
                  <a:lnTo>
                    <a:pt x="850" y="55"/>
                  </a:lnTo>
                  <a:lnTo>
                    <a:pt x="885" y="44"/>
                  </a:lnTo>
                  <a:lnTo>
                    <a:pt x="918" y="44"/>
                  </a:lnTo>
                  <a:lnTo>
                    <a:pt x="951" y="44"/>
                  </a:lnTo>
                  <a:lnTo>
                    <a:pt x="996" y="33"/>
                  </a:lnTo>
                  <a:lnTo>
                    <a:pt x="1030" y="33"/>
                  </a:lnTo>
                  <a:lnTo>
                    <a:pt x="1063" y="33"/>
                  </a:lnTo>
                  <a:lnTo>
                    <a:pt x="1097" y="33"/>
                  </a:lnTo>
                  <a:lnTo>
                    <a:pt x="109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8366400" y="1644480"/>
              <a:ext cx="65880" cy="96120"/>
            </a:xfrm>
            <a:custGeom>
              <a:avLst/>
              <a:gdLst/>
              <a:ahLst/>
              <a:rect l="l" t="t" r="r" b="b"/>
              <a:pathLst>
                <a:path w="145" h="213">
                  <a:moveTo>
                    <a:pt x="101" y="12"/>
                  </a:moveTo>
                  <a:lnTo>
                    <a:pt x="101" y="0"/>
                  </a:lnTo>
                  <a:lnTo>
                    <a:pt x="101" y="23"/>
                  </a:lnTo>
                  <a:lnTo>
                    <a:pt x="112" y="45"/>
                  </a:lnTo>
                  <a:lnTo>
                    <a:pt x="112" y="79"/>
                  </a:lnTo>
                  <a:lnTo>
                    <a:pt x="112" y="101"/>
                  </a:lnTo>
                  <a:lnTo>
                    <a:pt x="101" y="135"/>
                  </a:lnTo>
                  <a:lnTo>
                    <a:pt x="90" y="158"/>
                  </a:lnTo>
                  <a:lnTo>
                    <a:pt x="55" y="180"/>
                  </a:lnTo>
                  <a:lnTo>
                    <a:pt x="0" y="180"/>
                  </a:lnTo>
                  <a:lnTo>
                    <a:pt x="0" y="213"/>
                  </a:lnTo>
                  <a:lnTo>
                    <a:pt x="67" y="202"/>
                  </a:lnTo>
                  <a:lnTo>
                    <a:pt x="101" y="180"/>
                  </a:lnTo>
                  <a:lnTo>
                    <a:pt x="134" y="147"/>
                  </a:lnTo>
                  <a:lnTo>
                    <a:pt x="145" y="112"/>
                  </a:lnTo>
                  <a:lnTo>
                    <a:pt x="145" y="79"/>
                  </a:lnTo>
                  <a:lnTo>
                    <a:pt x="134" y="45"/>
                  </a:lnTo>
                  <a:lnTo>
                    <a:pt x="123" y="12"/>
                  </a:lnTo>
                  <a:lnTo>
                    <a:pt x="123" y="0"/>
                  </a:lnTo>
                  <a:lnTo>
                    <a:pt x="101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8366400" y="1071720"/>
              <a:ext cx="55440" cy="578160"/>
            </a:xfrm>
            <a:custGeom>
              <a:avLst/>
              <a:gdLst/>
              <a:ahLst/>
              <a:rect l="l" t="t" r="r" b="b"/>
              <a:pathLst>
                <a:path w="123" h="1256">
                  <a:moveTo>
                    <a:pt x="55" y="0"/>
                  </a:moveTo>
                  <a:lnTo>
                    <a:pt x="33" y="190"/>
                  </a:lnTo>
                  <a:lnTo>
                    <a:pt x="11" y="348"/>
                  </a:lnTo>
                  <a:lnTo>
                    <a:pt x="0" y="493"/>
                  </a:lnTo>
                  <a:lnTo>
                    <a:pt x="0" y="628"/>
                  </a:lnTo>
                  <a:lnTo>
                    <a:pt x="0" y="762"/>
                  </a:lnTo>
                  <a:lnTo>
                    <a:pt x="22" y="896"/>
                  </a:lnTo>
                  <a:lnTo>
                    <a:pt x="44" y="1065"/>
                  </a:lnTo>
                  <a:lnTo>
                    <a:pt x="101" y="1256"/>
                  </a:lnTo>
                  <a:lnTo>
                    <a:pt x="123" y="1244"/>
                  </a:lnTo>
                  <a:lnTo>
                    <a:pt x="79" y="1054"/>
                  </a:lnTo>
                  <a:lnTo>
                    <a:pt x="44" y="896"/>
                  </a:lnTo>
                  <a:lnTo>
                    <a:pt x="33" y="762"/>
                  </a:lnTo>
                  <a:lnTo>
                    <a:pt x="22" y="628"/>
                  </a:lnTo>
                  <a:lnTo>
                    <a:pt x="33" y="493"/>
                  </a:lnTo>
                  <a:lnTo>
                    <a:pt x="44" y="348"/>
                  </a:lnTo>
                  <a:lnTo>
                    <a:pt x="55" y="190"/>
                  </a:lnTo>
                  <a:lnTo>
                    <a:pt x="79" y="0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8344440" y="1005480"/>
              <a:ext cx="57960" cy="65880"/>
            </a:xfrm>
            <a:custGeom>
              <a:avLst/>
              <a:gdLst/>
              <a:ahLst/>
              <a:rect l="l" t="t" r="r" b="b"/>
              <a:pathLst>
                <a:path w="124" h="146">
                  <a:moveTo>
                    <a:pt x="0" y="23"/>
                  </a:moveTo>
                  <a:lnTo>
                    <a:pt x="0" y="34"/>
                  </a:lnTo>
                  <a:lnTo>
                    <a:pt x="22" y="23"/>
                  </a:lnTo>
                  <a:lnTo>
                    <a:pt x="34" y="34"/>
                  </a:lnTo>
                  <a:lnTo>
                    <a:pt x="56" y="34"/>
                  </a:lnTo>
                  <a:lnTo>
                    <a:pt x="67" y="45"/>
                  </a:lnTo>
                  <a:lnTo>
                    <a:pt x="89" y="67"/>
                  </a:lnTo>
                  <a:lnTo>
                    <a:pt x="100" y="101"/>
                  </a:lnTo>
                  <a:lnTo>
                    <a:pt x="100" y="146"/>
                  </a:lnTo>
                  <a:lnTo>
                    <a:pt x="124" y="146"/>
                  </a:lnTo>
                  <a:lnTo>
                    <a:pt x="124" y="101"/>
                  </a:lnTo>
                  <a:lnTo>
                    <a:pt x="112" y="56"/>
                  </a:lnTo>
                  <a:lnTo>
                    <a:pt x="89" y="34"/>
                  </a:lnTo>
                  <a:lnTo>
                    <a:pt x="67" y="11"/>
                  </a:lnTo>
                  <a:lnTo>
                    <a:pt x="45" y="0"/>
                  </a:lnTo>
                  <a:lnTo>
                    <a:pt x="22" y="0"/>
                  </a:lnTo>
                  <a:lnTo>
                    <a:pt x="0" y="0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7768440" y="1005480"/>
              <a:ext cx="576000" cy="60480"/>
            </a:xfrm>
            <a:custGeom>
              <a:avLst/>
              <a:gdLst/>
              <a:ahLst/>
              <a:rect l="l" t="t" r="r" b="b"/>
              <a:pathLst>
                <a:path w="1254" h="135">
                  <a:moveTo>
                    <a:pt x="0" y="135"/>
                  </a:moveTo>
                  <a:lnTo>
                    <a:pt x="46" y="123"/>
                  </a:lnTo>
                  <a:lnTo>
                    <a:pt x="79" y="123"/>
                  </a:lnTo>
                  <a:lnTo>
                    <a:pt x="124" y="112"/>
                  </a:lnTo>
                  <a:lnTo>
                    <a:pt x="158" y="112"/>
                  </a:lnTo>
                  <a:lnTo>
                    <a:pt x="202" y="112"/>
                  </a:lnTo>
                  <a:lnTo>
                    <a:pt x="236" y="101"/>
                  </a:lnTo>
                  <a:lnTo>
                    <a:pt x="280" y="101"/>
                  </a:lnTo>
                  <a:lnTo>
                    <a:pt x="315" y="90"/>
                  </a:lnTo>
                  <a:lnTo>
                    <a:pt x="359" y="90"/>
                  </a:lnTo>
                  <a:lnTo>
                    <a:pt x="392" y="90"/>
                  </a:lnTo>
                  <a:lnTo>
                    <a:pt x="437" y="79"/>
                  </a:lnTo>
                  <a:lnTo>
                    <a:pt x="471" y="79"/>
                  </a:lnTo>
                  <a:lnTo>
                    <a:pt x="516" y="79"/>
                  </a:lnTo>
                  <a:lnTo>
                    <a:pt x="549" y="67"/>
                  </a:lnTo>
                  <a:lnTo>
                    <a:pt x="593" y="67"/>
                  </a:lnTo>
                  <a:lnTo>
                    <a:pt x="628" y="67"/>
                  </a:lnTo>
                  <a:lnTo>
                    <a:pt x="672" y="67"/>
                  </a:lnTo>
                  <a:lnTo>
                    <a:pt x="706" y="56"/>
                  </a:lnTo>
                  <a:lnTo>
                    <a:pt x="750" y="56"/>
                  </a:lnTo>
                  <a:lnTo>
                    <a:pt x="784" y="56"/>
                  </a:lnTo>
                  <a:lnTo>
                    <a:pt x="829" y="45"/>
                  </a:lnTo>
                  <a:lnTo>
                    <a:pt x="862" y="45"/>
                  </a:lnTo>
                  <a:lnTo>
                    <a:pt x="896" y="45"/>
                  </a:lnTo>
                  <a:lnTo>
                    <a:pt x="941" y="45"/>
                  </a:lnTo>
                  <a:lnTo>
                    <a:pt x="974" y="45"/>
                  </a:lnTo>
                  <a:lnTo>
                    <a:pt x="1019" y="34"/>
                  </a:lnTo>
                  <a:lnTo>
                    <a:pt x="1052" y="34"/>
                  </a:lnTo>
                  <a:lnTo>
                    <a:pt x="1098" y="34"/>
                  </a:lnTo>
                  <a:lnTo>
                    <a:pt x="1131" y="34"/>
                  </a:lnTo>
                  <a:lnTo>
                    <a:pt x="1175" y="34"/>
                  </a:lnTo>
                  <a:lnTo>
                    <a:pt x="1209" y="34"/>
                  </a:lnTo>
                  <a:lnTo>
                    <a:pt x="1254" y="23"/>
                  </a:lnTo>
                  <a:lnTo>
                    <a:pt x="1254" y="0"/>
                  </a:lnTo>
                  <a:lnTo>
                    <a:pt x="1209" y="0"/>
                  </a:lnTo>
                  <a:lnTo>
                    <a:pt x="1175" y="0"/>
                  </a:lnTo>
                  <a:lnTo>
                    <a:pt x="1131" y="0"/>
                  </a:lnTo>
                  <a:lnTo>
                    <a:pt x="1098" y="11"/>
                  </a:lnTo>
                  <a:lnTo>
                    <a:pt x="1052" y="11"/>
                  </a:lnTo>
                  <a:lnTo>
                    <a:pt x="1019" y="11"/>
                  </a:lnTo>
                  <a:lnTo>
                    <a:pt x="974" y="11"/>
                  </a:lnTo>
                  <a:lnTo>
                    <a:pt x="941" y="11"/>
                  </a:lnTo>
                  <a:lnTo>
                    <a:pt x="896" y="23"/>
                  </a:lnTo>
                  <a:lnTo>
                    <a:pt x="862" y="23"/>
                  </a:lnTo>
                  <a:lnTo>
                    <a:pt x="829" y="23"/>
                  </a:lnTo>
                  <a:lnTo>
                    <a:pt x="784" y="23"/>
                  </a:lnTo>
                  <a:lnTo>
                    <a:pt x="750" y="34"/>
                  </a:lnTo>
                  <a:lnTo>
                    <a:pt x="706" y="34"/>
                  </a:lnTo>
                  <a:lnTo>
                    <a:pt x="672" y="34"/>
                  </a:lnTo>
                  <a:lnTo>
                    <a:pt x="628" y="34"/>
                  </a:lnTo>
                  <a:lnTo>
                    <a:pt x="593" y="45"/>
                  </a:lnTo>
                  <a:lnTo>
                    <a:pt x="549" y="45"/>
                  </a:lnTo>
                  <a:lnTo>
                    <a:pt x="516" y="45"/>
                  </a:lnTo>
                  <a:lnTo>
                    <a:pt x="471" y="56"/>
                  </a:lnTo>
                  <a:lnTo>
                    <a:pt x="437" y="56"/>
                  </a:lnTo>
                  <a:lnTo>
                    <a:pt x="392" y="56"/>
                  </a:lnTo>
                  <a:lnTo>
                    <a:pt x="359" y="67"/>
                  </a:lnTo>
                  <a:lnTo>
                    <a:pt x="315" y="67"/>
                  </a:lnTo>
                  <a:lnTo>
                    <a:pt x="280" y="67"/>
                  </a:lnTo>
                  <a:lnTo>
                    <a:pt x="236" y="79"/>
                  </a:lnTo>
                  <a:lnTo>
                    <a:pt x="202" y="79"/>
                  </a:lnTo>
                  <a:lnTo>
                    <a:pt x="158" y="90"/>
                  </a:lnTo>
                  <a:lnTo>
                    <a:pt x="124" y="90"/>
                  </a:lnTo>
                  <a:lnTo>
                    <a:pt x="79" y="90"/>
                  </a:lnTo>
                  <a:lnTo>
                    <a:pt x="46" y="101"/>
                  </a:lnTo>
                  <a:lnTo>
                    <a:pt x="0" y="101"/>
                  </a:lnTo>
                  <a:lnTo>
                    <a:pt x="0" y="13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7559280" y="1052280"/>
              <a:ext cx="209160" cy="137160"/>
            </a:xfrm>
            <a:custGeom>
              <a:avLst/>
              <a:gdLst/>
              <a:ahLst/>
              <a:rect l="l" t="t" r="r" b="b"/>
              <a:pathLst>
                <a:path w="458" h="303">
                  <a:moveTo>
                    <a:pt x="45" y="292"/>
                  </a:moveTo>
                  <a:lnTo>
                    <a:pt x="45" y="281"/>
                  </a:lnTo>
                  <a:lnTo>
                    <a:pt x="34" y="281"/>
                  </a:lnTo>
                  <a:lnTo>
                    <a:pt x="34" y="270"/>
                  </a:lnTo>
                  <a:lnTo>
                    <a:pt x="34" y="246"/>
                  </a:lnTo>
                  <a:lnTo>
                    <a:pt x="34" y="235"/>
                  </a:lnTo>
                  <a:lnTo>
                    <a:pt x="34" y="213"/>
                  </a:lnTo>
                  <a:lnTo>
                    <a:pt x="45" y="202"/>
                  </a:lnTo>
                  <a:lnTo>
                    <a:pt x="56" y="180"/>
                  </a:lnTo>
                  <a:lnTo>
                    <a:pt x="78" y="157"/>
                  </a:lnTo>
                  <a:lnTo>
                    <a:pt x="112" y="134"/>
                  </a:lnTo>
                  <a:lnTo>
                    <a:pt x="156" y="112"/>
                  </a:lnTo>
                  <a:lnTo>
                    <a:pt x="213" y="90"/>
                  </a:lnTo>
                  <a:lnTo>
                    <a:pt x="280" y="67"/>
                  </a:lnTo>
                  <a:lnTo>
                    <a:pt x="369" y="45"/>
                  </a:lnTo>
                  <a:lnTo>
                    <a:pt x="458" y="34"/>
                  </a:lnTo>
                  <a:lnTo>
                    <a:pt x="458" y="0"/>
                  </a:lnTo>
                  <a:lnTo>
                    <a:pt x="358" y="22"/>
                  </a:lnTo>
                  <a:lnTo>
                    <a:pt x="280" y="45"/>
                  </a:lnTo>
                  <a:lnTo>
                    <a:pt x="213" y="67"/>
                  </a:lnTo>
                  <a:lnTo>
                    <a:pt x="145" y="90"/>
                  </a:lnTo>
                  <a:lnTo>
                    <a:pt x="101" y="112"/>
                  </a:lnTo>
                  <a:lnTo>
                    <a:pt x="67" y="134"/>
                  </a:lnTo>
                  <a:lnTo>
                    <a:pt x="45" y="157"/>
                  </a:lnTo>
                  <a:lnTo>
                    <a:pt x="23" y="180"/>
                  </a:lnTo>
                  <a:lnTo>
                    <a:pt x="12" y="213"/>
                  </a:lnTo>
                  <a:lnTo>
                    <a:pt x="0" y="235"/>
                  </a:lnTo>
                  <a:lnTo>
                    <a:pt x="0" y="246"/>
                  </a:lnTo>
                  <a:lnTo>
                    <a:pt x="0" y="270"/>
                  </a:lnTo>
                  <a:lnTo>
                    <a:pt x="12" y="281"/>
                  </a:lnTo>
                  <a:lnTo>
                    <a:pt x="12" y="292"/>
                  </a:lnTo>
                  <a:lnTo>
                    <a:pt x="12" y="303"/>
                  </a:lnTo>
                  <a:lnTo>
                    <a:pt x="23" y="303"/>
                  </a:lnTo>
                  <a:lnTo>
                    <a:pt x="12" y="292"/>
                  </a:lnTo>
                  <a:lnTo>
                    <a:pt x="45" y="29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7548480" y="1184040"/>
              <a:ext cx="90360" cy="727560"/>
            </a:xfrm>
            <a:custGeom>
              <a:avLst/>
              <a:gdLst/>
              <a:ahLst/>
              <a:rect l="l" t="t" r="r" b="b"/>
              <a:pathLst>
                <a:path w="202" h="1581">
                  <a:moveTo>
                    <a:pt x="202" y="1558"/>
                  </a:moveTo>
                  <a:lnTo>
                    <a:pt x="202" y="1569"/>
                  </a:lnTo>
                  <a:lnTo>
                    <a:pt x="168" y="1446"/>
                  </a:lnTo>
                  <a:lnTo>
                    <a:pt x="135" y="1345"/>
                  </a:lnTo>
                  <a:lnTo>
                    <a:pt x="101" y="1245"/>
                  </a:lnTo>
                  <a:lnTo>
                    <a:pt x="79" y="1144"/>
                  </a:lnTo>
                  <a:lnTo>
                    <a:pt x="68" y="1054"/>
                  </a:lnTo>
                  <a:lnTo>
                    <a:pt x="57" y="964"/>
                  </a:lnTo>
                  <a:lnTo>
                    <a:pt x="46" y="874"/>
                  </a:lnTo>
                  <a:lnTo>
                    <a:pt x="35" y="796"/>
                  </a:lnTo>
                  <a:lnTo>
                    <a:pt x="35" y="706"/>
                  </a:lnTo>
                  <a:lnTo>
                    <a:pt x="35" y="616"/>
                  </a:lnTo>
                  <a:lnTo>
                    <a:pt x="35" y="526"/>
                  </a:lnTo>
                  <a:lnTo>
                    <a:pt x="35" y="437"/>
                  </a:lnTo>
                  <a:lnTo>
                    <a:pt x="46" y="336"/>
                  </a:lnTo>
                  <a:lnTo>
                    <a:pt x="57" y="235"/>
                  </a:lnTo>
                  <a:lnTo>
                    <a:pt x="57" y="123"/>
                  </a:lnTo>
                  <a:lnTo>
                    <a:pt x="68" y="0"/>
                  </a:lnTo>
                  <a:lnTo>
                    <a:pt x="35" y="0"/>
                  </a:lnTo>
                  <a:lnTo>
                    <a:pt x="35" y="123"/>
                  </a:lnTo>
                  <a:lnTo>
                    <a:pt x="23" y="235"/>
                  </a:lnTo>
                  <a:lnTo>
                    <a:pt x="23" y="336"/>
                  </a:lnTo>
                  <a:lnTo>
                    <a:pt x="12" y="437"/>
                  </a:lnTo>
                  <a:lnTo>
                    <a:pt x="12" y="526"/>
                  </a:lnTo>
                  <a:lnTo>
                    <a:pt x="0" y="616"/>
                  </a:lnTo>
                  <a:lnTo>
                    <a:pt x="12" y="706"/>
                  </a:lnTo>
                  <a:lnTo>
                    <a:pt x="12" y="796"/>
                  </a:lnTo>
                  <a:lnTo>
                    <a:pt x="12" y="874"/>
                  </a:lnTo>
                  <a:lnTo>
                    <a:pt x="23" y="964"/>
                  </a:lnTo>
                  <a:lnTo>
                    <a:pt x="35" y="1054"/>
                  </a:lnTo>
                  <a:lnTo>
                    <a:pt x="57" y="1144"/>
                  </a:lnTo>
                  <a:lnTo>
                    <a:pt x="79" y="1245"/>
                  </a:lnTo>
                  <a:lnTo>
                    <a:pt x="113" y="1345"/>
                  </a:lnTo>
                  <a:lnTo>
                    <a:pt x="146" y="1457"/>
                  </a:lnTo>
                  <a:lnTo>
                    <a:pt x="179" y="1569"/>
                  </a:lnTo>
                  <a:lnTo>
                    <a:pt x="179" y="1581"/>
                  </a:lnTo>
                  <a:lnTo>
                    <a:pt x="179" y="1569"/>
                  </a:lnTo>
                  <a:lnTo>
                    <a:pt x="179" y="1581"/>
                  </a:lnTo>
                  <a:lnTo>
                    <a:pt x="202" y="15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7630920" y="1870560"/>
              <a:ext cx="96120" cy="46080"/>
            </a:xfrm>
            <a:custGeom>
              <a:avLst/>
              <a:gdLst/>
              <a:ahLst/>
              <a:rect l="l" t="t" r="r" b="b"/>
              <a:pathLst>
                <a:path w="213" h="101">
                  <a:moveTo>
                    <a:pt x="191" y="0"/>
                  </a:moveTo>
                  <a:lnTo>
                    <a:pt x="146" y="33"/>
                  </a:lnTo>
                  <a:lnTo>
                    <a:pt x="112" y="67"/>
                  </a:lnTo>
                  <a:lnTo>
                    <a:pt x="79" y="78"/>
                  </a:lnTo>
                  <a:lnTo>
                    <a:pt x="57" y="78"/>
                  </a:lnTo>
                  <a:lnTo>
                    <a:pt x="46" y="78"/>
                  </a:lnTo>
                  <a:lnTo>
                    <a:pt x="35" y="67"/>
                  </a:lnTo>
                  <a:lnTo>
                    <a:pt x="23" y="67"/>
                  </a:lnTo>
                  <a:lnTo>
                    <a:pt x="0" y="90"/>
                  </a:lnTo>
                  <a:lnTo>
                    <a:pt x="12" y="90"/>
                  </a:lnTo>
                  <a:lnTo>
                    <a:pt x="23" y="101"/>
                  </a:lnTo>
                  <a:lnTo>
                    <a:pt x="35" y="101"/>
                  </a:lnTo>
                  <a:lnTo>
                    <a:pt x="57" y="101"/>
                  </a:lnTo>
                  <a:lnTo>
                    <a:pt x="90" y="101"/>
                  </a:lnTo>
                  <a:lnTo>
                    <a:pt x="124" y="90"/>
                  </a:lnTo>
                  <a:lnTo>
                    <a:pt x="169" y="56"/>
                  </a:lnTo>
                  <a:lnTo>
                    <a:pt x="213" y="22"/>
                  </a:lnTo>
                  <a:lnTo>
                    <a:pt x="19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7716600" y="1798920"/>
              <a:ext cx="145440" cy="82440"/>
            </a:xfrm>
            <a:custGeom>
              <a:avLst/>
              <a:gdLst/>
              <a:ahLst/>
              <a:rect l="l" t="t" r="r" b="b"/>
              <a:pathLst>
                <a:path w="313" h="180">
                  <a:moveTo>
                    <a:pt x="313" y="0"/>
                  </a:moveTo>
                  <a:lnTo>
                    <a:pt x="302" y="0"/>
                  </a:lnTo>
                  <a:lnTo>
                    <a:pt x="291" y="0"/>
                  </a:lnTo>
                  <a:lnTo>
                    <a:pt x="280" y="0"/>
                  </a:lnTo>
                  <a:lnTo>
                    <a:pt x="269" y="12"/>
                  </a:lnTo>
                  <a:lnTo>
                    <a:pt x="246" y="12"/>
                  </a:lnTo>
                  <a:lnTo>
                    <a:pt x="224" y="24"/>
                  </a:lnTo>
                  <a:lnTo>
                    <a:pt x="201" y="24"/>
                  </a:lnTo>
                  <a:lnTo>
                    <a:pt x="179" y="35"/>
                  </a:lnTo>
                  <a:lnTo>
                    <a:pt x="157" y="46"/>
                  </a:lnTo>
                  <a:lnTo>
                    <a:pt x="123" y="57"/>
                  </a:lnTo>
                  <a:lnTo>
                    <a:pt x="100" y="79"/>
                  </a:lnTo>
                  <a:lnTo>
                    <a:pt x="78" y="90"/>
                  </a:lnTo>
                  <a:lnTo>
                    <a:pt x="45" y="113"/>
                  </a:lnTo>
                  <a:lnTo>
                    <a:pt x="22" y="136"/>
                  </a:lnTo>
                  <a:lnTo>
                    <a:pt x="0" y="158"/>
                  </a:lnTo>
                  <a:lnTo>
                    <a:pt x="22" y="180"/>
                  </a:lnTo>
                  <a:lnTo>
                    <a:pt x="45" y="158"/>
                  </a:lnTo>
                  <a:lnTo>
                    <a:pt x="67" y="136"/>
                  </a:lnTo>
                  <a:lnTo>
                    <a:pt x="89" y="113"/>
                  </a:lnTo>
                  <a:lnTo>
                    <a:pt x="111" y="102"/>
                  </a:lnTo>
                  <a:lnTo>
                    <a:pt x="146" y="90"/>
                  </a:lnTo>
                  <a:lnTo>
                    <a:pt x="168" y="68"/>
                  </a:lnTo>
                  <a:lnTo>
                    <a:pt x="190" y="68"/>
                  </a:lnTo>
                  <a:lnTo>
                    <a:pt x="212" y="57"/>
                  </a:lnTo>
                  <a:lnTo>
                    <a:pt x="235" y="46"/>
                  </a:lnTo>
                  <a:lnTo>
                    <a:pt x="246" y="46"/>
                  </a:lnTo>
                  <a:lnTo>
                    <a:pt x="269" y="35"/>
                  </a:lnTo>
                  <a:lnTo>
                    <a:pt x="280" y="35"/>
                  </a:lnTo>
                  <a:lnTo>
                    <a:pt x="291" y="35"/>
                  </a:lnTo>
                  <a:lnTo>
                    <a:pt x="302" y="24"/>
                  </a:lnTo>
                  <a:lnTo>
                    <a:pt x="313" y="24"/>
                  </a:lnTo>
                  <a:lnTo>
                    <a:pt x="31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7639200" y="1041120"/>
              <a:ext cx="722160" cy="722160"/>
            </a:xfrm>
            <a:custGeom>
              <a:avLst/>
              <a:gdLst/>
              <a:ahLst/>
              <a:rect l="l" t="t" r="r" b="b"/>
              <a:pathLst>
                <a:path w="1567" h="1570">
                  <a:moveTo>
                    <a:pt x="1567" y="1446"/>
                  </a:moveTo>
                  <a:lnTo>
                    <a:pt x="1522" y="1379"/>
                  </a:lnTo>
                  <a:lnTo>
                    <a:pt x="1500" y="1300"/>
                  </a:lnTo>
                  <a:lnTo>
                    <a:pt x="1477" y="1211"/>
                  </a:lnTo>
                  <a:lnTo>
                    <a:pt x="1454" y="1099"/>
                  </a:lnTo>
                  <a:lnTo>
                    <a:pt x="1443" y="987"/>
                  </a:lnTo>
                  <a:lnTo>
                    <a:pt x="1432" y="863"/>
                  </a:lnTo>
                  <a:lnTo>
                    <a:pt x="1432" y="739"/>
                  </a:lnTo>
                  <a:lnTo>
                    <a:pt x="1432" y="616"/>
                  </a:lnTo>
                  <a:lnTo>
                    <a:pt x="1432" y="493"/>
                  </a:lnTo>
                  <a:lnTo>
                    <a:pt x="1432" y="380"/>
                  </a:lnTo>
                  <a:lnTo>
                    <a:pt x="1443" y="280"/>
                  </a:lnTo>
                  <a:lnTo>
                    <a:pt x="1443" y="191"/>
                  </a:lnTo>
                  <a:lnTo>
                    <a:pt x="1454" y="112"/>
                  </a:lnTo>
                  <a:lnTo>
                    <a:pt x="1454" y="56"/>
                  </a:lnTo>
                  <a:lnTo>
                    <a:pt x="1466" y="22"/>
                  </a:lnTo>
                  <a:lnTo>
                    <a:pt x="1466" y="11"/>
                  </a:lnTo>
                  <a:lnTo>
                    <a:pt x="1454" y="11"/>
                  </a:lnTo>
                  <a:lnTo>
                    <a:pt x="1443" y="0"/>
                  </a:lnTo>
                  <a:lnTo>
                    <a:pt x="1421" y="0"/>
                  </a:lnTo>
                  <a:lnTo>
                    <a:pt x="1399" y="0"/>
                  </a:lnTo>
                  <a:lnTo>
                    <a:pt x="1377" y="0"/>
                  </a:lnTo>
                  <a:lnTo>
                    <a:pt x="1343" y="11"/>
                  </a:lnTo>
                  <a:lnTo>
                    <a:pt x="1309" y="11"/>
                  </a:lnTo>
                  <a:lnTo>
                    <a:pt x="1264" y="11"/>
                  </a:lnTo>
                  <a:lnTo>
                    <a:pt x="1231" y="11"/>
                  </a:lnTo>
                  <a:lnTo>
                    <a:pt x="1186" y="11"/>
                  </a:lnTo>
                  <a:lnTo>
                    <a:pt x="1141" y="11"/>
                  </a:lnTo>
                  <a:lnTo>
                    <a:pt x="1097" y="22"/>
                  </a:lnTo>
                  <a:lnTo>
                    <a:pt x="1041" y="22"/>
                  </a:lnTo>
                  <a:lnTo>
                    <a:pt x="996" y="22"/>
                  </a:lnTo>
                  <a:lnTo>
                    <a:pt x="951" y="22"/>
                  </a:lnTo>
                  <a:lnTo>
                    <a:pt x="896" y="22"/>
                  </a:lnTo>
                  <a:lnTo>
                    <a:pt x="850" y="33"/>
                  </a:lnTo>
                  <a:lnTo>
                    <a:pt x="806" y="33"/>
                  </a:lnTo>
                  <a:lnTo>
                    <a:pt x="750" y="33"/>
                  </a:lnTo>
                  <a:lnTo>
                    <a:pt x="705" y="44"/>
                  </a:lnTo>
                  <a:lnTo>
                    <a:pt x="660" y="44"/>
                  </a:lnTo>
                  <a:lnTo>
                    <a:pt x="627" y="44"/>
                  </a:lnTo>
                  <a:lnTo>
                    <a:pt x="581" y="44"/>
                  </a:lnTo>
                  <a:lnTo>
                    <a:pt x="548" y="56"/>
                  </a:lnTo>
                  <a:lnTo>
                    <a:pt x="515" y="56"/>
                  </a:lnTo>
                  <a:lnTo>
                    <a:pt x="481" y="56"/>
                  </a:lnTo>
                  <a:lnTo>
                    <a:pt x="448" y="56"/>
                  </a:lnTo>
                  <a:lnTo>
                    <a:pt x="425" y="56"/>
                  </a:lnTo>
                  <a:lnTo>
                    <a:pt x="414" y="56"/>
                  </a:lnTo>
                  <a:lnTo>
                    <a:pt x="392" y="56"/>
                  </a:lnTo>
                  <a:lnTo>
                    <a:pt x="380" y="56"/>
                  </a:lnTo>
                  <a:lnTo>
                    <a:pt x="347" y="67"/>
                  </a:lnTo>
                  <a:lnTo>
                    <a:pt x="303" y="78"/>
                  </a:lnTo>
                  <a:lnTo>
                    <a:pt x="268" y="89"/>
                  </a:lnTo>
                  <a:lnTo>
                    <a:pt x="224" y="101"/>
                  </a:lnTo>
                  <a:lnTo>
                    <a:pt x="190" y="123"/>
                  </a:lnTo>
                  <a:lnTo>
                    <a:pt x="168" y="134"/>
                  </a:lnTo>
                  <a:lnTo>
                    <a:pt x="135" y="145"/>
                  </a:lnTo>
                  <a:lnTo>
                    <a:pt x="112" y="156"/>
                  </a:lnTo>
                  <a:lnTo>
                    <a:pt x="78" y="168"/>
                  </a:lnTo>
                  <a:lnTo>
                    <a:pt x="67" y="179"/>
                  </a:lnTo>
                  <a:lnTo>
                    <a:pt x="45" y="191"/>
                  </a:lnTo>
                  <a:lnTo>
                    <a:pt x="34" y="202"/>
                  </a:lnTo>
                  <a:lnTo>
                    <a:pt x="23" y="213"/>
                  </a:lnTo>
                  <a:lnTo>
                    <a:pt x="12" y="213"/>
                  </a:lnTo>
                  <a:lnTo>
                    <a:pt x="0" y="224"/>
                  </a:lnTo>
                  <a:lnTo>
                    <a:pt x="1175" y="191"/>
                  </a:lnTo>
                  <a:lnTo>
                    <a:pt x="1186" y="1401"/>
                  </a:lnTo>
                  <a:lnTo>
                    <a:pt x="1320" y="1570"/>
                  </a:lnTo>
                  <a:lnTo>
                    <a:pt x="1343" y="1546"/>
                  </a:lnTo>
                  <a:lnTo>
                    <a:pt x="1366" y="1524"/>
                  </a:lnTo>
                  <a:lnTo>
                    <a:pt x="1377" y="1502"/>
                  </a:lnTo>
                  <a:lnTo>
                    <a:pt x="1399" y="1491"/>
                  </a:lnTo>
                  <a:lnTo>
                    <a:pt x="1421" y="1480"/>
                  </a:lnTo>
                  <a:lnTo>
                    <a:pt x="1443" y="1469"/>
                  </a:lnTo>
                  <a:lnTo>
                    <a:pt x="1466" y="1469"/>
                  </a:lnTo>
                  <a:lnTo>
                    <a:pt x="1477" y="1458"/>
                  </a:lnTo>
                  <a:lnTo>
                    <a:pt x="1500" y="1458"/>
                  </a:lnTo>
                  <a:lnTo>
                    <a:pt x="1511" y="1458"/>
                  </a:lnTo>
                  <a:lnTo>
                    <a:pt x="1533" y="1446"/>
                  </a:lnTo>
                  <a:lnTo>
                    <a:pt x="1544" y="1446"/>
                  </a:lnTo>
                  <a:lnTo>
                    <a:pt x="1555" y="1446"/>
                  </a:lnTo>
                  <a:lnTo>
                    <a:pt x="1567" y="144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8286480" y="1035360"/>
              <a:ext cx="79920" cy="675000"/>
            </a:xfrm>
            <a:custGeom>
              <a:avLst/>
              <a:gdLst/>
              <a:ahLst/>
              <a:rect l="l" t="t" r="r" b="b"/>
              <a:pathLst>
                <a:path w="168" h="1470">
                  <a:moveTo>
                    <a:pt x="56" y="34"/>
                  </a:moveTo>
                  <a:lnTo>
                    <a:pt x="44" y="23"/>
                  </a:lnTo>
                  <a:lnTo>
                    <a:pt x="44" y="34"/>
                  </a:lnTo>
                  <a:lnTo>
                    <a:pt x="33" y="68"/>
                  </a:lnTo>
                  <a:lnTo>
                    <a:pt x="33" y="124"/>
                  </a:lnTo>
                  <a:lnTo>
                    <a:pt x="22" y="203"/>
                  </a:lnTo>
                  <a:lnTo>
                    <a:pt x="22" y="292"/>
                  </a:lnTo>
                  <a:lnTo>
                    <a:pt x="11" y="392"/>
                  </a:lnTo>
                  <a:lnTo>
                    <a:pt x="11" y="505"/>
                  </a:lnTo>
                  <a:lnTo>
                    <a:pt x="0" y="628"/>
                  </a:lnTo>
                  <a:lnTo>
                    <a:pt x="0" y="751"/>
                  </a:lnTo>
                  <a:lnTo>
                    <a:pt x="11" y="875"/>
                  </a:lnTo>
                  <a:lnTo>
                    <a:pt x="22" y="999"/>
                  </a:lnTo>
                  <a:lnTo>
                    <a:pt x="33" y="1111"/>
                  </a:lnTo>
                  <a:lnTo>
                    <a:pt x="44" y="1223"/>
                  </a:lnTo>
                  <a:lnTo>
                    <a:pt x="67" y="1323"/>
                  </a:lnTo>
                  <a:lnTo>
                    <a:pt x="101" y="1402"/>
                  </a:lnTo>
                  <a:lnTo>
                    <a:pt x="145" y="1470"/>
                  </a:lnTo>
                  <a:lnTo>
                    <a:pt x="168" y="1458"/>
                  </a:lnTo>
                  <a:lnTo>
                    <a:pt x="123" y="1391"/>
                  </a:lnTo>
                  <a:lnTo>
                    <a:pt x="101" y="1312"/>
                  </a:lnTo>
                  <a:lnTo>
                    <a:pt x="78" y="1211"/>
                  </a:lnTo>
                  <a:lnTo>
                    <a:pt x="56" y="1111"/>
                  </a:lnTo>
                  <a:lnTo>
                    <a:pt x="44" y="999"/>
                  </a:lnTo>
                  <a:lnTo>
                    <a:pt x="33" y="875"/>
                  </a:lnTo>
                  <a:lnTo>
                    <a:pt x="33" y="751"/>
                  </a:lnTo>
                  <a:lnTo>
                    <a:pt x="33" y="628"/>
                  </a:lnTo>
                  <a:lnTo>
                    <a:pt x="33" y="505"/>
                  </a:lnTo>
                  <a:lnTo>
                    <a:pt x="44" y="392"/>
                  </a:lnTo>
                  <a:lnTo>
                    <a:pt x="44" y="292"/>
                  </a:lnTo>
                  <a:lnTo>
                    <a:pt x="56" y="203"/>
                  </a:lnTo>
                  <a:lnTo>
                    <a:pt x="56" y="124"/>
                  </a:lnTo>
                  <a:lnTo>
                    <a:pt x="67" y="68"/>
                  </a:lnTo>
                  <a:lnTo>
                    <a:pt x="67" y="34"/>
                  </a:lnTo>
                  <a:lnTo>
                    <a:pt x="67" y="23"/>
                  </a:lnTo>
                  <a:lnTo>
                    <a:pt x="56" y="0"/>
                  </a:lnTo>
                  <a:lnTo>
                    <a:pt x="67" y="23"/>
                  </a:lnTo>
                  <a:lnTo>
                    <a:pt x="67" y="12"/>
                  </a:lnTo>
                  <a:lnTo>
                    <a:pt x="56" y="0"/>
                  </a:lnTo>
                  <a:lnTo>
                    <a:pt x="56" y="3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7815240" y="1035360"/>
              <a:ext cx="498960" cy="41760"/>
            </a:xfrm>
            <a:custGeom>
              <a:avLst/>
              <a:gdLst/>
              <a:ahLst/>
              <a:rect l="l" t="t" r="r" b="b"/>
              <a:pathLst>
                <a:path w="1086" h="90">
                  <a:moveTo>
                    <a:pt x="12" y="90"/>
                  </a:moveTo>
                  <a:lnTo>
                    <a:pt x="0" y="90"/>
                  </a:lnTo>
                  <a:lnTo>
                    <a:pt x="12" y="90"/>
                  </a:lnTo>
                  <a:lnTo>
                    <a:pt x="34" y="90"/>
                  </a:lnTo>
                  <a:lnTo>
                    <a:pt x="45" y="79"/>
                  </a:lnTo>
                  <a:lnTo>
                    <a:pt x="68" y="79"/>
                  </a:lnTo>
                  <a:lnTo>
                    <a:pt x="101" y="79"/>
                  </a:lnTo>
                  <a:lnTo>
                    <a:pt x="135" y="79"/>
                  </a:lnTo>
                  <a:lnTo>
                    <a:pt x="168" y="79"/>
                  </a:lnTo>
                  <a:lnTo>
                    <a:pt x="201" y="68"/>
                  </a:lnTo>
                  <a:lnTo>
                    <a:pt x="247" y="68"/>
                  </a:lnTo>
                  <a:lnTo>
                    <a:pt x="280" y="68"/>
                  </a:lnTo>
                  <a:lnTo>
                    <a:pt x="325" y="68"/>
                  </a:lnTo>
                  <a:lnTo>
                    <a:pt x="370" y="68"/>
                  </a:lnTo>
                  <a:lnTo>
                    <a:pt x="426" y="56"/>
                  </a:lnTo>
                  <a:lnTo>
                    <a:pt x="470" y="56"/>
                  </a:lnTo>
                  <a:lnTo>
                    <a:pt x="516" y="56"/>
                  </a:lnTo>
                  <a:lnTo>
                    <a:pt x="571" y="45"/>
                  </a:lnTo>
                  <a:lnTo>
                    <a:pt x="616" y="45"/>
                  </a:lnTo>
                  <a:lnTo>
                    <a:pt x="661" y="45"/>
                  </a:lnTo>
                  <a:lnTo>
                    <a:pt x="717" y="45"/>
                  </a:lnTo>
                  <a:lnTo>
                    <a:pt x="761" y="34"/>
                  </a:lnTo>
                  <a:lnTo>
                    <a:pt x="806" y="34"/>
                  </a:lnTo>
                  <a:lnTo>
                    <a:pt x="851" y="34"/>
                  </a:lnTo>
                  <a:lnTo>
                    <a:pt x="884" y="34"/>
                  </a:lnTo>
                  <a:lnTo>
                    <a:pt x="929" y="34"/>
                  </a:lnTo>
                  <a:lnTo>
                    <a:pt x="963" y="34"/>
                  </a:lnTo>
                  <a:lnTo>
                    <a:pt x="997" y="34"/>
                  </a:lnTo>
                  <a:lnTo>
                    <a:pt x="1019" y="34"/>
                  </a:lnTo>
                  <a:lnTo>
                    <a:pt x="1041" y="34"/>
                  </a:lnTo>
                  <a:lnTo>
                    <a:pt x="1063" y="34"/>
                  </a:lnTo>
                  <a:lnTo>
                    <a:pt x="1074" y="34"/>
                  </a:lnTo>
                  <a:lnTo>
                    <a:pt x="1086" y="34"/>
                  </a:lnTo>
                  <a:lnTo>
                    <a:pt x="1086" y="0"/>
                  </a:lnTo>
                  <a:lnTo>
                    <a:pt x="1074" y="0"/>
                  </a:lnTo>
                  <a:lnTo>
                    <a:pt x="1063" y="0"/>
                  </a:lnTo>
                  <a:lnTo>
                    <a:pt x="1041" y="0"/>
                  </a:lnTo>
                  <a:lnTo>
                    <a:pt x="1019" y="0"/>
                  </a:lnTo>
                  <a:lnTo>
                    <a:pt x="997" y="0"/>
                  </a:lnTo>
                  <a:lnTo>
                    <a:pt x="963" y="0"/>
                  </a:lnTo>
                  <a:lnTo>
                    <a:pt x="929" y="0"/>
                  </a:lnTo>
                  <a:lnTo>
                    <a:pt x="884" y="12"/>
                  </a:lnTo>
                  <a:lnTo>
                    <a:pt x="851" y="12"/>
                  </a:lnTo>
                  <a:lnTo>
                    <a:pt x="806" y="12"/>
                  </a:lnTo>
                  <a:lnTo>
                    <a:pt x="761" y="12"/>
                  </a:lnTo>
                  <a:lnTo>
                    <a:pt x="717" y="12"/>
                  </a:lnTo>
                  <a:lnTo>
                    <a:pt x="661" y="23"/>
                  </a:lnTo>
                  <a:lnTo>
                    <a:pt x="616" y="23"/>
                  </a:lnTo>
                  <a:lnTo>
                    <a:pt x="571" y="23"/>
                  </a:lnTo>
                  <a:lnTo>
                    <a:pt x="516" y="23"/>
                  </a:lnTo>
                  <a:lnTo>
                    <a:pt x="470" y="34"/>
                  </a:lnTo>
                  <a:lnTo>
                    <a:pt x="426" y="34"/>
                  </a:lnTo>
                  <a:lnTo>
                    <a:pt x="370" y="34"/>
                  </a:lnTo>
                  <a:lnTo>
                    <a:pt x="325" y="34"/>
                  </a:lnTo>
                  <a:lnTo>
                    <a:pt x="280" y="45"/>
                  </a:lnTo>
                  <a:lnTo>
                    <a:pt x="247" y="45"/>
                  </a:lnTo>
                  <a:lnTo>
                    <a:pt x="201" y="45"/>
                  </a:lnTo>
                  <a:lnTo>
                    <a:pt x="168" y="45"/>
                  </a:lnTo>
                  <a:lnTo>
                    <a:pt x="135" y="56"/>
                  </a:lnTo>
                  <a:lnTo>
                    <a:pt x="101" y="56"/>
                  </a:lnTo>
                  <a:lnTo>
                    <a:pt x="68" y="56"/>
                  </a:lnTo>
                  <a:lnTo>
                    <a:pt x="45" y="56"/>
                  </a:lnTo>
                  <a:lnTo>
                    <a:pt x="34" y="56"/>
                  </a:lnTo>
                  <a:lnTo>
                    <a:pt x="12" y="56"/>
                  </a:lnTo>
                  <a:lnTo>
                    <a:pt x="0" y="56"/>
                  </a:lnTo>
                  <a:lnTo>
                    <a:pt x="12" y="9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7619760" y="1062720"/>
              <a:ext cx="200880" cy="85320"/>
            </a:xfrm>
            <a:custGeom>
              <a:avLst/>
              <a:gdLst/>
              <a:ahLst/>
              <a:rect l="l" t="t" r="r" b="b"/>
              <a:pathLst>
                <a:path w="437" h="191">
                  <a:moveTo>
                    <a:pt x="45" y="169"/>
                  </a:moveTo>
                  <a:lnTo>
                    <a:pt x="57" y="191"/>
                  </a:lnTo>
                  <a:lnTo>
                    <a:pt x="57" y="180"/>
                  </a:lnTo>
                  <a:lnTo>
                    <a:pt x="68" y="180"/>
                  </a:lnTo>
                  <a:lnTo>
                    <a:pt x="79" y="169"/>
                  </a:lnTo>
                  <a:lnTo>
                    <a:pt x="101" y="158"/>
                  </a:lnTo>
                  <a:lnTo>
                    <a:pt x="112" y="147"/>
                  </a:lnTo>
                  <a:lnTo>
                    <a:pt x="134" y="135"/>
                  </a:lnTo>
                  <a:lnTo>
                    <a:pt x="157" y="124"/>
                  </a:lnTo>
                  <a:lnTo>
                    <a:pt x="191" y="112"/>
                  </a:lnTo>
                  <a:lnTo>
                    <a:pt x="213" y="101"/>
                  </a:lnTo>
                  <a:lnTo>
                    <a:pt x="247" y="90"/>
                  </a:lnTo>
                  <a:lnTo>
                    <a:pt x="280" y="79"/>
                  </a:lnTo>
                  <a:lnTo>
                    <a:pt x="313" y="57"/>
                  </a:lnTo>
                  <a:lnTo>
                    <a:pt x="348" y="45"/>
                  </a:lnTo>
                  <a:lnTo>
                    <a:pt x="392" y="45"/>
                  </a:lnTo>
                  <a:lnTo>
                    <a:pt x="437" y="34"/>
                  </a:lnTo>
                  <a:lnTo>
                    <a:pt x="425" y="0"/>
                  </a:lnTo>
                  <a:lnTo>
                    <a:pt x="381" y="12"/>
                  </a:lnTo>
                  <a:lnTo>
                    <a:pt x="348" y="23"/>
                  </a:lnTo>
                  <a:lnTo>
                    <a:pt x="302" y="34"/>
                  </a:lnTo>
                  <a:lnTo>
                    <a:pt x="269" y="45"/>
                  </a:lnTo>
                  <a:lnTo>
                    <a:pt x="235" y="57"/>
                  </a:lnTo>
                  <a:lnTo>
                    <a:pt x="202" y="79"/>
                  </a:lnTo>
                  <a:lnTo>
                    <a:pt x="180" y="90"/>
                  </a:lnTo>
                  <a:lnTo>
                    <a:pt x="146" y="101"/>
                  </a:lnTo>
                  <a:lnTo>
                    <a:pt x="123" y="112"/>
                  </a:lnTo>
                  <a:lnTo>
                    <a:pt x="101" y="124"/>
                  </a:lnTo>
                  <a:lnTo>
                    <a:pt x="79" y="135"/>
                  </a:lnTo>
                  <a:lnTo>
                    <a:pt x="68" y="147"/>
                  </a:lnTo>
                  <a:lnTo>
                    <a:pt x="57" y="158"/>
                  </a:lnTo>
                  <a:lnTo>
                    <a:pt x="45" y="158"/>
                  </a:lnTo>
                  <a:lnTo>
                    <a:pt x="45" y="169"/>
                  </a:lnTo>
                  <a:lnTo>
                    <a:pt x="45" y="191"/>
                  </a:lnTo>
                  <a:lnTo>
                    <a:pt x="45" y="169"/>
                  </a:lnTo>
                  <a:lnTo>
                    <a:pt x="0" y="191"/>
                  </a:lnTo>
                  <a:lnTo>
                    <a:pt x="45" y="191"/>
                  </a:lnTo>
                  <a:lnTo>
                    <a:pt x="45" y="169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7639200" y="1118520"/>
              <a:ext cx="550800" cy="29880"/>
            </a:xfrm>
            <a:custGeom>
              <a:avLst/>
              <a:gdLst/>
              <a:ahLst/>
              <a:rect l="l" t="t" r="r" b="b"/>
              <a:pathLst>
                <a:path w="1198" h="67">
                  <a:moveTo>
                    <a:pt x="1198" y="23"/>
                  </a:moveTo>
                  <a:lnTo>
                    <a:pt x="1175" y="0"/>
                  </a:lnTo>
                  <a:lnTo>
                    <a:pt x="0" y="45"/>
                  </a:lnTo>
                  <a:lnTo>
                    <a:pt x="0" y="67"/>
                  </a:lnTo>
                  <a:lnTo>
                    <a:pt x="1175" y="34"/>
                  </a:lnTo>
                  <a:lnTo>
                    <a:pt x="1163" y="23"/>
                  </a:lnTo>
                  <a:lnTo>
                    <a:pt x="1186" y="23"/>
                  </a:lnTo>
                  <a:lnTo>
                    <a:pt x="1186" y="0"/>
                  </a:lnTo>
                  <a:lnTo>
                    <a:pt x="1175" y="0"/>
                  </a:lnTo>
                  <a:lnTo>
                    <a:pt x="1198" y="23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8173800" y="1128960"/>
              <a:ext cx="21600" cy="556560"/>
            </a:xfrm>
            <a:custGeom>
              <a:avLst/>
              <a:gdLst/>
              <a:ahLst/>
              <a:rect l="l" t="t" r="r" b="b"/>
              <a:pathLst>
                <a:path w="46" h="1210">
                  <a:moveTo>
                    <a:pt x="35" y="1199"/>
                  </a:moveTo>
                  <a:lnTo>
                    <a:pt x="46" y="1210"/>
                  </a:lnTo>
                  <a:lnTo>
                    <a:pt x="35" y="0"/>
                  </a:lnTo>
                  <a:lnTo>
                    <a:pt x="0" y="0"/>
                  </a:lnTo>
                  <a:lnTo>
                    <a:pt x="12" y="1210"/>
                  </a:lnTo>
                  <a:lnTo>
                    <a:pt x="35" y="1199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8179560" y="1680120"/>
              <a:ext cx="70920" cy="91080"/>
            </a:xfrm>
            <a:custGeom>
              <a:avLst/>
              <a:gdLst/>
              <a:ahLst/>
              <a:rect l="l" t="t" r="r" b="b"/>
              <a:pathLst>
                <a:path w="156" h="202">
                  <a:moveTo>
                    <a:pt x="134" y="169"/>
                  </a:moveTo>
                  <a:lnTo>
                    <a:pt x="156" y="169"/>
                  </a:lnTo>
                  <a:lnTo>
                    <a:pt x="23" y="0"/>
                  </a:lnTo>
                  <a:lnTo>
                    <a:pt x="0" y="11"/>
                  </a:lnTo>
                  <a:lnTo>
                    <a:pt x="134" y="191"/>
                  </a:lnTo>
                  <a:lnTo>
                    <a:pt x="156" y="191"/>
                  </a:lnTo>
                  <a:lnTo>
                    <a:pt x="134" y="191"/>
                  </a:lnTo>
                  <a:lnTo>
                    <a:pt x="145" y="202"/>
                  </a:lnTo>
                  <a:lnTo>
                    <a:pt x="156" y="191"/>
                  </a:lnTo>
                  <a:lnTo>
                    <a:pt x="134" y="169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8242560" y="1699560"/>
              <a:ext cx="126720" cy="68400"/>
            </a:xfrm>
            <a:custGeom>
              <a:avLst/>
              <a:gdLst/>
              <a:ahLst/>
              <a:rect l="l" t="t" r="r" b="b"/>
              <a:pathLst>
                <a:path w="280" h="146">
                  <a:moveTo>
                    <a:pt x="246" y="23"/>
                  </a:moveTo>
                  <a:lnTo>
                    <a:pt x="258" y="0"/>
                  </a:lnTo>
                  <a:lnTo>
                    <a:pt x="246" y="0"/>
                  </a:lnTo>
                  <a:lnTo>
                    <a:pt x="235" y="0"/>
                  </a:lnTo>
                  <a:lnTo>
                    <a:pt x="224" y="0"/>
                  </a:lnTo>
                  <a:lnTo>
                    <a:pt x="202" y="0"/>
                  </a:lnTo>
                  <a:lnTo>
                    <a:pt x="191" y="11"/>
                  </a:lnTo>
                  <a:lnTo>
                    <a:pt x="168" y="11"/>
                  </a:lnTo>
                  <a:lnTo>
                    <a:pt x="145" y="11"/>
                  </a:lnTo>
                  <a:lnTo>
                    <a:pt x="123" y="23"/>
                  </a:lnTo>
                  <a:lnTo>
                    <a:pt x="112" y="34"/>
                  </a:lnTo>
                  <a:lnTo>
                    <a:pt x="90" y="45"/>
                  </a:lnTo>
                  <a:lnTo>
                    <a:pt x="68" y="56"/>
                  </a:lnTo>
                  <a:lnTo>
                    <a:pt x="45" y="78"/>
                  </a:lnTo>
                  <a:lnTo>
                    <a:pt x="22" y="100"/>
                  </a:lnTo>
                  <a:lnTo>
                    <a:pt x="0" y="124"/>
                  </a:lnTo>
                  <a:lnTo>
                    <a:pt x="22" y="146"/>
                  </a:lnTo>
                  <a:lnTo>
                    <a:pt x="34" y="124"/>
                  </a:lnTo>
                  <a:lnTo>
                    <a:pt x="57" y="100"/>
                  </a:lnTo>
                  <a:lnTo>
                    <a:pt x="79" y="78"/>
                  </a:lnTo>
                  <a:lnTo>
                    <a:pt x="101" y="67"/>
                  </a:lnTo>
                  <a:lnTo>
                    <a:pt x="123" y="56"/>
                  </a:lnTo>
                  <a:lnTo>
                    <a:pt x="134" y="56"/>
                  </a:lnTo>
                  <a:lnTo>
                    <a:pt x="157" y="45"/>
                  </a:lnTo>
                  <a:lnTo>
                    <a:pt x="179" y="34"/>
                  </a:lnTo>
                  <a:lnTo>
                    <a:pt x="191" y="34"/>
                  </a:lnTo>
                  <a:lnTo>
                    <a:pt x="202" y="34"/>
                  </a:lnTo>
                  <a:lnTo>
                    <a:pt x="224" y="34"/>
                  </a:lnTo>
                  <a:lnTo>
                    <a:pt x="235" y="34"/>
                  </a:lnTo>
                  <a:lnTo>
                    <a:pt x="246" y="34"/>
                  </a:lnTo>
                  <a:lnTo>
                    <a:pt x="258" y="34"/>
                  </a:lnTo>
                  <a:lnTo>
                    <a:pt x="269" y="11"/>
                  </a:lnTo>
                  <a:lnTo>
                    <a:pt x="258" y="34"/>
                  </a:lnTo>
                  <a:lnTo>
                    <a:pt x="280" y="34"/>
                  </a:lnTo>
                  <a:lnTo>
                    <a:pt x="269" y="11"/>
                  </a:lnTo>
                  <a:lnTo>
                    <a:pt x="246" y="23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7763400" y="1052280"/>
              <a:ext cx="520200" cy="52200"/>
            </a:xfrm>
            <a:custGeom>
              <a:avLst/>
              <a:gdLst/>
              <a:ahLst/>
              <a:rect l="l" t="t" r="r" b="b"/>
              <a:pathLst>
                <a:path w="1131" h="112">
                  <a:moveTo>
                    <a:pt x="1131" y="22"/>
                  </a:moveTo>
                  <a:lnTo>
                    <a:pt x="1120" y="0"/>
                  </a:lnTo>
                  <a:lnTo>
                    <a:pt x="1109" y="0"/>
                  </a:lnTo>
                  <a:lnTo>
                    <a:pt x="1086" y="0"/>
                  </a:lnTo>
                  <a:lnTo>
                    <a:pt x="1063" y="0"/>
                  </a:lnTo>
                  <a:lnTo>
                    <a:pt x="1041" y="0"/>
                  </a:lnTo>
                  <a:lnTo>
                    <a:pt x="1019" y="0"/>
                  </a:lnTo>
                  <a:lnTo>
                    <a:pt x="985" y="0"/>
                  </a:lnTo>
                  <a:lnTo>
                    <a:pt x="952" y="11"/>
                  </a:lnTo>
                  <a:lnTo>
                    <a:pt x="907" y="11"/>
                  </a:lnTo>
                  <a:lnTo>
                    <a:pt x="873" y="11"/>
                  </a:lnTo>
                  <a:lnTo>
                    <a:pt x="829" y="11"/>
                  </a:lnTo>
                  <a:lnTo>
                    <a:pt x="784" y="22"/>
                  </a:lnTo>
                  <a:lnTo>
                    <a:pt x="728" y="22"/>
                  </a:lnTo>
                  <a:lnTo>
                    <a:pt x="683" y="22"/>
                  </a:lnTo>
                  <a:lnTo>
                    <a:pt x="628" y="34"/>
                  </a:lnTo>
                  <a:lnTo>
                    <a:pt x="582" y="34"/>
                  </a:lnTo>
                  <a:lnTo>
                    <a:pt x="538" y="34"/>
                  </a:lnTo>
                  <a:lnTo>
                    <a:pt x="482" y="45"/>
                  </a:lnTo>
                  <a:lnTo>
                    <a:pt x="437" y="45"/>
                  </a:lnTo>
                  <a:lnTo>
                    <a:pt x="381" y="56"/>
                  </a:lnTo>
                  <a:lnTo>
                    <a:pt x="337" y="56"/>
                  </a:lnTo>
                  <a:lnTo>
                    <a:pt x="291" y="56"/>
                  </a:lnTo>
                  <a:lnTo>
                    <a:pt x="247" y="67"/>
                  </a:lnTo>
                  <a:lnTo>
                    <a:pt x="213" y="67"/>
                  </a:lnTo>
                  <a:lnTo>
                    <a:pt x="169" y="67"/>
                  </a:lnTo>
                  <a:lnTo>
                    <a:pt x="135" y="79"/>
                  </a:lnTo>
                  <a:lnTo>
                    <a:pt x="101" y="79"/>
                  </a:lnTo>
                  <a:lnTo>
                    <a:pt x="79" y="79"/>
                  </a:lnTo>
                  <a:lnTo>
                    <a:pt x="46" y="79"/>
                  </a:lnTo>
                  <a:lnTo>
                    <a:pt x="35" y="90"/>
                  </a:lnTo>
                  <a:lnTo>
                    <a:pt x="11" y="90"/>
                  </a:lnTo>
                  <a:lnTo>
                    <a:pt x="0" y="90"/>
                  </a:lnTo>
                  <a:lnTo>
                    <a:pt x="11" y="112"/>
                  </a:lnTo>
                  <a:lnTo>
                    <a:pt x="23" y="112"/>
                  </a:lnTo>
                  <a:lnTo>
                    <a:pt x="35" y="112"/>
                  </a:lnTo>
                  <a:lnTo>
                    <a:pt x="46" y="112"/>
                  </a:lnTo>
                  <a:lnTo>
                    <a:pt x="79" y="112"/>
                  </a:lnTo>
                  <a:lnTo>
                    <a:pt x="101" y="101"/>
                  </a:lnTo>
                  <a:lnTo>
                    <a:pt x="135" y="101"/>
                  </a:lnTo>
                  <a:lnTo>
                    <a:pt x="169" y="101"/>
                  </a:lnTo>
                  <a:lnTo>
                    <a:pt x="213" y="101"/>
                  </a:lnTo>
                  <a:lnTo>
                    <a:pt x="247" y="90"/>
                  </a:lnTo>
                  <a:lnTo>
                    <a:pt x="291" y="90"/>
                  </a:lnTo>
                  <a:lnTo>
                    <a:pt x="337" y="79"/>
                  </a:lnTo>
                  <a:lnTo>
                    <a:pt x="392" y="79"/>
                  </a:lnTo>
                  <a:lnTo>
                    <a:pt x="437" y="79"/>
                  </a:lnTo>
                  <a:lnTo>
                    <a:pt x="482" y="67"/>
                  </a:lnTo>
                  <a:lnTo>
                    <a:pt x="538" y="67"/>
                  </a:lnTo>
                  <a:lnTo>
                    <a:pt x="582" y="56"/>
                  </a:lnTo>
                  <a:lnTo>
                    <a:pt x="628" y="56"/>
                  </a:lnTo>
                  <a:lnTo>
                    <a:pt x="683" y="56"/>
                  </a:lnTo>
                  <a:lnTo>
                    <a:pt x="728" y="45"/>
                  </a:lnTo>
                  <a:lnTo>
                    <a:pt x="784" y="45"/>
                  </a:lnTo>
                  <a:lnTo>
                    <a:pt x="829" y="45"/>
                  </a:lnTo>
                  <a:lnTo>
                    <a:pt x="873" y="34"/>
                  </a:lnTo>
                  <a:lnTo>
                    <a:pt x="907" y="34"/>
                  </a:lnTo>
                  <a:lnTo>
                    <a:pt x="952" y="34"/>
                  </a:lnTo>
                  <a:lnTo>
                    <a:pt x="985" y="34"/>
                  </a:lnTo>
                  <a:lnTo>
                    <a:pt x="1019" y="34"/>
                  </a:lnTo>
                  <a:lnTo>
                    <a:pt x="1041" y="34"/>
                  </a:lnTo>
                  <a:lnTo>
                    <a:pt x="1063" y="34"/>
                  </a:lnTo>
                  <a:lnTo>
                    <a:pt x="1086" y="34"/>
                  </a:lnTo>
                  <a:lnTo>
                    <a:pt x="1109" y="34"/>
                  </a:lnTo>
                  <a:lnTo>
                    <a:pt x="1098" y="11"/>
                  </a:lnTo>
                  <a:lnTo>
                    <a:pt x="1131" y="2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8250840" y="1058040"/>
              <a:ext cx="77400" cy="658440"/>
            </a:xfrm>
            <a:custGeom>
              <a:avLst/>
              <a:gdLst/>
              <a:ahLst/>
              <a:rect l="l" t="t" r="r" b="b"/>
              <a:pathLst>
                <a:path w="169" h="1436">
                  <a:moveTo>
                    <a:pt x="169" y="1413"/>
                  </a:moveTo>
                  <a:lnTo>
                    <a:pt x="135" y="1346"/>
                  </a:lnTo>
                  <a:lnTo>
                    <a:pt x="101" y="1267"/>
                  </a:lnTo>
                  <a:lnTo>
                    <a:pt x="79" y="1178"/>
                  </a:lnTo>
                  <a:lnTo>
                    <a:pt x="57" y="1077"/>
                  </a:lnTo>
                  <a:lnTo>
                    <a:pt x="46" y="965"/>
                  </a:lnTo>
                  <a:lnTo>
                    <a:pt x="35" y="842"/>
                  </a:lnTo>
                  <a:lnTo>
                    <a:pt x="35" y="718"/>
                  </a:lnTo>
                  <a:lnTo>
                    <a:pt x="35" y="606"/>
                  </a:lnTo>
                  <a:lnTo>
                    <a:pt x="35" y="483"/>
                  </a:lnTo>
                  <a:lnTo>
                    <a:pt x="35" y="371"/>
                  </a:lnTo>
                  <a:lnTo>
                    <a:pt x="46" y="270"/>
                  </a:lnTo>
                  <a:lnTo>
                    <a:pt x="46" y="180"/>
                  </a:lnTo>
                  <a:lnTo>
                    <a:pt x="57" y="112"/>
                  </a:lnTo>
                  <a:lnTo>
                    <a:pt x="57" y="56"/>
                  </a:lnTo>
                  <a:lnTo>
                    <a:pt x="57" y="23"/>
                  </a:lnTo>
                  <a:lnTo>
                    <a:pt x="68" y="11"/>
                  </a:lnTo>
                  <a:lnTo>
                    <a:pt x="35" y="0"/>
                  </a:lnTo>
                  <a:lnTo>
                    <a:pt x="35" y="23"/>
                  </a:lnTo>
                  <a:lnTo>
                    <a:pt x="35" y="56"/>
                  </a:lnTo>
                  <a:lnTo>
                    <a:pt x="23" y="112"/>
                  </a:lnTo>
                  <a:lnTo>
                    <a:pt x="23" y="180"/>
                  </a:lnTo>
                  <a:lnTo>
                    <a:pt x="12" y="270"/>
                  </a:lnTo>
                  <a:lnTo>
                    <a:pt x="12" y="371"/>
                  </a:lnTo>
                  <a:lnTo>
                    <a:pt x="12" y="483"/>
                  </a:lnTo>
                  <a:lnTo>
                    <a:pt x="0" y="606"/>
                  </a:lnTo>
                  <a:lnTo>
                    <a:pt x="12" y="718"/>
                  </a:lnTo>
                  <a:lnTo>
                    <a:pt x="12" y="842"/>
                  </a:lnTo>
                  <a:lnTo>
                    <a:pt x="23" y="965"/>
                  </a:lnTo>
                  <a:lnTo>
                    <a:pt x="35" y="1077"/>
                  </a:lnTo>
                  <a:lnTo>
                    <a:pt x="46" y="1178"/>
                  </a:lnTo>
                  <a:lnTo>
                    <a:pt x="79" y="1278"/>
                  </a:lnTo>
                  <a:lnTo>
                    <a:pt x="112" y="1357"/>
                  </a:lnTo>
                  <a:lnTo>
                    <a:pt x="146" y="1436"/>
                  </a:lnTo>
                  <a:lnTo>
                    <a:pt x="169" y="1413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7732800" y="1071720"/>
              <a:ext cx="509760" cy="46800"/>
            </a:xfrm>
            <a:custGeom>
              <a:avLst/>
              <a:gdLst/>
              <a:ahLst/>
              <a:rect l="l" t="t" r="r" b="b"/>
              <a:pathLst>
                <a:path w="1107" h="101">
                  <a:moveTo>
                    <a:pt x="1107" y="22"/>
                  </a:moveTo>
                  <a:lnTo>
                    <a:pt x="1096" y="0"/>
                  </a:lnTo>
                  <a:lnTo>
                    <a:pt x="1085" y="0"/>
                  </a:lnTo>
                  <a:lnTo>
                    <a:pt x="1074" y="0"/>
                  </a:lnTo>
                  <a:lnTo>
                    <a:pt x="1051" y="0"/>
                  </a:lnTo>
                  <a:lnTo>
                    <a:pt x="1029" y="0"/>
                  </a:lnTo>
                  <a:lnTo>
                    <a:pt x="996" y="0"/>
                  </a:lnTo>
                  <a:lnTo>
                    <a:pt x="973" y="0"/>
                  </a:lnTo>
                  <a:lnTo>
                    <a:pt x="928" y="0"/>
                  </a:lnTo>
                  <a:lnTo>
                    <a:pt x="895" y="11"/>
                  </a:lnTo>
                  <a:lnTo>
                    <a:pt x="850" y="11"/>
                  </a:lnTo>
                  <a:lnTo>
                    <a:pt x="805" y="11"/>
                  </a:lnTo>
                  <a:lnTo>
                    <a:pt x="760" y="11"/>
                  </a:lnTo>
                  <a:lnTo>
                    <a:pt x="716" y="22"/>
                  </a:lnTo>
                  <a:lnTo>
                    <a:pt x="670" y="22"/>
                  </a:lnTo>
                  <a:lnTo>
                    <a:pt x="626" y="22"/>
                  </a:lnTo>
                  <a:lnTo>
                    <a:pt x="570" y="34"/>
                  </a:lnTo>
                  <a:lnTo>
                    <a:pt x="525" y="34"/>
                  </a:lnTo>
                  <a:lnTo>
                    <a:pt x="469" y="34"/>
                  </a:lnTo>
                  <a:lnTo>
                    <a:pt x="425" y="45"/>
                  </a:lnTo>
                  <a:lnTo>
                    <a:pt x="379" y="45"/>
                  </a:lnTo>
                  <a:lnTo>
                    <a:pt x="324" y="56"/>
                  </a:lnTo>
                  <a:lnTo>
                    <a:pt x="279" y="56"/>
                  </a:lnTo>
                  <a:lnTo>
                    <a:pt x="235" y="56"/>
                  </a:lnTo>
                  <a:lnTo>
                    <a:pt x="201" y="56"/>
                  </a:lnTo>
                  <a:lnTo>
                    <a:pt x="167" y="67"/>
                  </a:lnTo>
                  <a:lnTo>
                    <a:pt x="123" y="67"/>
                  </a:lnTo>
                  <a:lnTo>
                    <a:pt x="101" y="67"/>
                  </a:lnTo>
                  <a:lnTo>
                    <a:pt x="66" y="67"/>
                  </a:lnTo>
                  <a:lnTo>
                    <a:pt x="44" y="78"/>
                  </a:lnTo>
                  <a:lnTo>
                    <a:pt x="22" y="78"/>
                  </a:lnTo>
                  <a:lnTo>
                    <a:pt x="11" y="78"/>
                  </a:lnTo>
                  <a:lnTo>
                    <a:pt x="0" y="78"/>
                  </a:lnTo>
                  <a:lnTo>
                    <a:pt x="0" y="101"/>
                  </a:lnTo>
                  <a:lnTo>
                    <a:pt x="11" y="101"/>
                  </a:lnTo>
                  <a:lnTo>
                    <a:pt x="22" y="101"/>
                  </a:lnTo>
                  <a:lnTo>
                    <a:pt x="44" y="101"/>
                  </a:lnTo>
                  <a:lnTo>
                    <a:pt x="66" y="101"/>
                  </a:lnTo>
                  <a:lnTo>
                    <a:pt x="101" y="101"/>
                  </a:lnTo>
                  <a:lnTo>
                    <a:pt x="134" y="89"/>
                  </a:lnTo>
                  <a:lnTo>
                    <a:pt x="167" y="89"/>
                  </a:lnTo>
                  <a:lnTo>
                    <a:pt x="201" y="89"/>
                  </a:lnTo>
                  <a:lnTo>
                    <a:pt x="246" y="89"/>
                  </a:lnTo>
                  <a:lnTo>
                    <a:pt x="279" y="78"/>
                  </a:lnTo>
                  <a:lnTo>
                    <a:pt x="324" y="78"/>
                  </a:lnTo>
                  <a:lnTo>
                    <a:pt x="379" y="78"/>
                  </a:lnTo>
                  <a:lnTo>
                    <a:pt x="425" y="67"/>
                  </a:lnTo>
                  <a:lnTo>
                    <a:pt x="469" y="67"/>
                  </a:lnTo>
                  <a:lnTo>
                    <a:pt x="525" y="56"/>
                  </a:lnTo>
                  <a:lnTo>
                    <a:pt x="570" y="56"/>
                  </a:lnTo>
                  <a:lnTo>
                    <a:pt x="626" y="56"/>
                  </a:lnTo>
                  <a:lnTo>
                    <a:pt x="670" y="45"/>
                  </a:lnTo>
                  <a:lnTo>
                    <a:pt x="716" y="45"/>
                  </a:lnTo>
                  <a:lnTo>
                    <a:pt x="760" y="45"/>
                  </a:lnTo>
                  <a:lnTo>
                    <a:pt x="805" y="34"/>
                  </a:lnTo>
                  <a:lnTo>
                    <a:pt x="850" y="34"/>
                  </a:lnTo>
                  <a:lnTo>
                    <a:pt x="895" y="34"/>
                  </a:lnTo>
                  <a:lnTo>
                    <a:pt x="928" y="34"/>
                  </a:lnTo>
                  <a:lnTo>
                    <a:pt x="973" y="34"/>
                  </a:lnTo>
                  <a:lnTo>
                    <a:pt x="996" y="34"/>
                  </a:lnTo>
                  <a:lnTo>
                    <a:pt x="1029" y="34"/>
                  </a:lnTo>
                  <a:lnTo>
                    <a:pt x="1051" y="22"/>
                  </a:lnTo>
                  <a:lnTo>
                    <a:pt x="1074" y="22"/>
                  </a:lnTo>
                  <a:lnTo>
                    <a:pt x="1085" y="22"/>
                  </a:lnTo>
                  <a:lnTo>
                    <a:pt x="1096" y="34"/>
                  </a:lnTo>
                  <a:lnTo>
                    <a:pt x="1085" y="11"/>
                  </a:lnTo>
                  <a:lnTo>
                    <a:pt x="1107" y="2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8215200" y="1077120"/>
              <a:ext cx="70920" cy="655200"/>
            </a:xfrm>
            <a:custGeom>
              <a:avLst/>
              <a:gdLst/>
              <a:ahLst/>
              <a:rect l="l" t="t" r="r" b="b"/>
              <a:pathLst>
                <a:path w="157" h="1424">
                  <a:moveTo>
                    <a:pt x="157" y="1413"/>
                  </a:moveTo>
                  <a:lnTo>
                    <a:pt x="124" y="1345"/>
                  </a:lnTo>
                  <a:lnTo>
                    <a:pt x="90" y="1267"/>
                  </a:lnTo>
                  <a:lnTo>
                    <a:pt x="67" y="1177"/>
                  </a:lnTo>
                  <a:lnTo>
                    <a:pt x="56" y="1065"/>
                  </a:lnTo>
                  <a:lnTo>
                    <a:pt x="45" y="953"/>
                  </a:lnTo>
                  <a:lnTo>
                    <a:pt x="34" y="841"/>
                  </a:lnTo>
                  <a:lnTo>
                    <a:pt x="23" y="718"/>
                  </a:lnTo>
                  <a:lnTo>
                    <a:pt x="23" y="594"/>
                  </a:lnTo>
                  <a:lnTo>
                    <a:pt x="23" y="482"/>
                  </a:lnTo>
                  <a:lnTo>
                    <a:pt x="34" y="370"/>
                  </a:lnTo>
                  <a:lnTo>
                    <a:pt x="34" y="269"/>
                  </a:lnTo>
                  <a:lnTo>
                    <a:pt x="45" y="179"/>
                  </a:lnTo>
                  <a:lnTo>
                    <a:pt x="45" y="113"/>
                  </a:lnTo>
                  <a:lnTo>
                    <a:pt x="56" y="56"/>
                  </a:lnTo>
                  <a:lnTo>
                    <a:pt x="56" y="11"/>
                  </a:lnTo>
                  <a:lnTo>
                    <a:pt x="34" y="0"/>
                  </a:lnTo>
                  <a:lnTo>
                    <a:pt x="23" y="11"/>
                  </a:lnTo>
                  <a:lnTo>
                    <a:pt x="23" y="56"/>
                  </a:lnTo>
                  <a:lnTo>
                    <a:pt x="23" y="113"/>
                  </a:lnTo>
                  <a:lnTo>
                    <a:pt x="11" y="179"/>
                  </a:lnTo>
                  <a:lnTo>
                    <a:pt x="11" y="269"/>
                  </a:lnTo>
                  <a:lnTo>
                    <a:pt x="0" y="370"/>
                  </a:lnTo>
                  <a:lnTo>
                    <a:pt x="0" y="482"/>
                  </a:lnTo>
                  <a:lnTo>
                    <a:pt x="0" y="594"/>
                  </a:lnTo>
                  <a:lnTo>
                    <a:pt x="0" y="718"/>
                  </a:lnTo>
                  <a:lnTo>
                    <a:pt x="0" y="841"/>
                  </a:lnTo>
                  <a:lnTo>
                    <a:pt x="11" y="953"/>
                  </a:lnTo>
                  <a:lnTo>
                    <a:pt x="23" y="1076"/>
                  </a:lnTo>
                  <a:lnTo>
                    <a:pt x="45" y="1177"/>
                  </a:lnTo>
                  <a:lnTo>
                    <a:pt x="67" y="1278"/>
                  </a:lnTo>
                  <a:lnTo>
                    <a:pt x="101" y="1357"/>
                  </a:lnTo>
                  <a:lnTo>
                    <a:pt x="135" y="1424"/>
                  </a:lnTo>
                  <a:lnTo>
                    <a:pt x="157" y="1413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8173800" y="1035360"/>
              <a:ext cx="140400" cy="93600"/>
            </a:xfrm>
            <a:custGeom>
              <a:avLst/>
              <a:gdLst/>
              <a:ahLst/>
              <a:rect l="l" t="t" r="r" b="b"/>
              <a:pathLst>
                <a:path w="303" h="203">
                  <a:moveTo>
                    <a:pt x="303" y="0"/>
                  </a:moveTo>
                  <a:lnTo>
                    <a:pt x="269" y="12"/>
                  </a:lnTo>
                  <a:lnTo>
                    <a:pt x="236" y="23"/>
                  </a:lnTo>
                  <a:lnTo>
                    <a:pt x="203" y="34"/>
                  </a:lnTo>
                  <a:lnTo>
                    <a:pt x="168" y="56"/>
                  </a:lnTo>
                  <a:lnTo>
                    <a:pt x="146" y="68"/>
                  </a:lnTo>
                  <a:lnTo>
                    <a:pt x="124" y="79"/>
                  </a:lnTo>
                  <a:lnTo>
                    <a:pt x="101" y="101"/>
                  </a:lnTo>
                  <a:lnTo>
                    <a:pt x="79" y="113"/>
                  </a:lnTo>
                  <a:lnTo>
                    <a:pt x="68" y="124"/>
                  </a:lnTo>
                  <a:lnTo>
                    <a:pt x="46" y="146"/>
                  </a:lnTo>
                  <a:lnTo>
                    <a:pt x="35" y="157"/>
                  </a:lnTo>
                  <a:lnTo>
                    <a:pt x="23" y="168"/>
                  </a:lnTo>
                  <a:lnTo>
                    <a:pt x="12" y="180"/>
                  </a:lnTo>
                  <a:lnTo>
                    <a:pt x="12" y="191"/>
                  </a:lnTo>
                  <a:lnTo>
                    <a:pt x="0" y="191"/>
                  </a:lnTo>
                  <a:lnTo>
                    <a:pt x="23" y="203"/>
                  </a:lnTo>
                  <a:lnTo>
                    <a:pt x="35" y="203"/>
                  </a:lnTo>
                  <a:lnTo>
                    <a:pt x="35" y="191"/>
                  </a:lnTo>
                  <a:lnTo>
                    <a:pt x="46" y="180"/>
                  </a:lnTo>
                  <a:lnTo>
                    <a:pt x="57" y="168"/>
                  </a:lnTo>
                  <a:lnTo>
                    <a:pt x="68" y="168"/>
                  </a:lnTo>
                  <a:lnTo>
                    <a:pt x="79" y="146"/>
                  </a:lnTo>
                  <a:lnTo>
                    <a:pt x="101" y="135"/>
                  </a:lnTo>
                  <a:lnTo>
                    <a:pt x="113" y="124"/>
                  </a:lnTo>
                  <a:lnTo>
                    <a:pt x="135" y="101"/>
                  </a:lnTo>
                  <a:lnTo>
                    <a:pt x="157" y="90"/>
                  </a:lnTo>
                  <a:lnTo>
                    <a:pt x="191" y="79"/>
                  </a:lnTo>
                  <a:lnTo>
                    <a:pt x="214" y="68"/>
                  </a:lnTo>
                  <a:lnTo>
                    <a:pt x="247" y="56"/>
                  </a:lnTo>
                  <a:lnTo>
                    <a:pt x="269" y="45"/>
                  </a:lnTo>
                  <a:lnTo>
                    <a:pt x="303" y="34"/>
                  </a:lnTo>
                  <a:lnTo>
                    <a:pt x="303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7589880" y="1104840"/>
              <a:ext cx="652680" cy="790200"/>
            </a:xfrm>
            <a:custGeom>
              <a:avLst/>
              <a:gdLst/>
              <a:ahLst/>
              <a:rect l="l" t="t" r="r" b="b"/>
              <a:pathLst>
                <a:path w="1421" h="1727">
                  <a:moveTo>
                    <a:pt x="0" y="101"/>
                  </a:moveTo>
                  <a:lnTo>
                    <a:pt x="45" y="101"/>
                  </a:lnTo>
                  <a:lnTo>
                    <a:pt x="78" y="90"/>
                  </a:lnTo>
                  <a:lnTo>
                    <a:pt x="124" y="90"/>
                  </a:lnTo>
                  <a:lnTo>
                    <a:pt x="157" y="79"/>
                  </a:lnTo>
                  <a:lnTo>
                    <a:pt x="201" y="79"/>
                  </a:lnTo>
                  <a:lnTo>
                    <a:pt x="235" y="68"/>
                  </a:lnTo>
                  <a:lnTo>
                    <a:pt x="280" y="68"/>
                  </a:lnTo>
                  <a:lnTo>
                    <a:pt x="314" y="68"/>
                  </a:lnTo>
                  <a:lnTo>
                    <a:pt x="358" y="57"/>
                  </a:lnTo>
                  <a:lnTo>
                    <a:pt x="391" y="57"/>
                  </a:lnTo>
                  <a:lnTo>
                    <a:pt x="437" y="57"/>
                  </a:lnTo>
                  <a:lnTo>
                    <a:pt x="470" y="45"/>
                  </a:lnTo>
                  <a:lnTo>
                    <a:pt x="515" y="45"/>
                  </a:lnTo>
                  <a:lnTo>
                    <a:pt x="549" y="45"/>
                  </a:lnTo>
                  <a:lnTo>
                    <a:pt x="593" y="34"/>
                  </a:lnTo>
                  <a:lnTo>
                    <a:pt x="627" y="34"/>
                  </a:lnTo>
                  <a:lnTo>
                    <a:pt x="671" y="34"/>
                  </a:lnTo>
                  <a:lnTo>
                    <a:pt x="706" y="22"/>
                  </a:lnTo>
                  <a:lnTo>
                    <a:pt x="750" y="22"/>
                  </a:lnTo>
                  <a:lnTo>
                    <a:pt x="783" y="22"/>
                  </a:lnTo>
                  <a:lnTo>
                    <a:pt x="828" y="22"/>
                  </a:lnTo>
                  <a:lnTo>
                    <a:pt x="862" y="11"/>
                  </a:lnTo>
                  <a:lnTo>
                    <a:pt x="907" y="11"/>
                  </a:lnTo>
                  <a:lnTo>
                    <a:pt x="940" y="11"/>
                  </a:lnTo>
                  <a:lnTo>
                    <a:pt x="973" y="11"/>
                  </a:lnTo>
                  <a:lnTo>
                    <a:pt x="1019" y="11"/>
                  </a:lnTo>
                  <a:lnTo>
                    <a:pt x="1052" y="0"/>
                  </a:lnTo>
                  <a:lnTo>
                    <a:pt x="1097" y="0"/>
                  </a:lnTo>
                  <a:lnTo>
                    <a:pt x="1141" y="0"/>
                  </a:lnTo>
                  <a:lnTo>
                    <a:pt x="1175" y="0"/>
                  </a:lnTo>
                  <a:lnTo>
                    <a:pt x="1220" y="0"/>
                  </a:lnTo>
                  <a:lnTo>
                    <a:pt x="1253" y="0"/>
                  </a:lnTo>
                  <a:lnTo>
                    <a:pt x="1275" y="0"/>
                  </a:lnTo>
                  <a:lnTo>
                    <a:pt x="1287" y="0"/>
                  </a:lnTo>
                  <a:lnTo>
                    <a:pt x="1310" y="11"/>
                  </a:lnTo>
                  <a:lnTo>
                    <a:pt x="1332" y="22"/>
                  </a:lnTo>
                  <a:lnTo>
                    <a:pt x="1354" y="45"/>
                  </a:lnTo>
                  <a:lnTo>
                    <a:pt x="1365" y="79"/>
                  </a:lnTo>
                  <a:lnTo>
                    <a:pt x="1365" y="123"/>
                  </a:lnTo>
                  <a:lnTo>
                    <a:pt x="1343" y="314"/>
                  </a:lnTo>
                  <a:lnTo>
                    <a:pt x="1332" y="482"/>
                  </a:lnTo>
                  <a:lnTo>
                    <a:pt x="1321" y="617"/>
                  </a:lnTo>
                  <a:lnTo>
                    <a:pt x="1310" y="752"/>
                  </a:lnTo>
                  <a:lnTo>
                    <a:pt x="1310" y="886"/>
                  </a:lnTo>
                  <a:lnTo>
                    <a:pt x="1332" y="1032"/>
                  </a:lnTo>
                  <a:lnTo>
                    <a:pt x="1365" y="1189"/>
                  </a:lnTo>
                  <a:lnTo>
                    <a:pt x="1410" y="1379"/>
                  </a:lnTo>
                  <a:lnTo>
                    <a:pt x="1410" y="1390"/>
                  </a:lnTo>
                  <a:lnTo>
                    <a:pt x="1421" y="1412"/>
                  </a:lnTo>
                  <a:lnTo>
                    <a:pt x="1421" y="1447"/>
                  </a:lnTo>
                  <a:lnTo>
                    <a:pt x="1421" y="1480"/>
                  </a:lnTo>
                  <a:lnTo>
                    <a:pt x="1421" y="1513"/>
                  </a:lnTo>
                  <a:lnTo>
                    <a:pt x="1399" y="1537"/>
                  </a:lnTo>
                  <a:lnTo>
                    <a:pt x="1354" y="1559"/>
                  </a:lnTo>
                  <a:lnTo>
                    <a:pt x="1298" y="1570"/>
                  </a:lnTo>
                  <a:lnTo>
                    <a:pt x="1264" y="1570"/>
                  </a:lnTo>
                  <a:lnTo>
                    <a:pt x="1231" y="1570"/>
                  </a:lnTo>
                  <a:lnTo>
                    <a:pt x="1198" y="1581"/>
                  </a:lnTo>
                  <a:lnTo>
                    <a:pt x="1153" y="1581"/>
                  </a:lnTo>
                  <a:lnTo>
                    <a:pt x="1119" y="1581"/>
                  </a:lnTo>
                  <a:lnTo>
                    <a:pt x="1086" y="1592"/>
                  </a:lnTo>
                  <a:lnTo>
                    <a:pt x="1052" y="1592"/>
                  </a:lnTo>
                  <a:lnTo>
                    <a:pt x="1019" y="1592"/>
                  </a:lnTo>
                  <a:lnTo>
                    <a:pt x="984" y="1603"/>
                  </a:lnTo>
                  <a:lnTo>
                    <a:pt x="951" y="1603"/>
                  </a:lnTo>
                  <a:lnTo>
                    <a:pt x="918" y="1603"/>
                  </a:lnTo>
                  <a:lnTo>
                    <a:pt x="884" y="1615"/>
                  </a:lnTo>
                  <a:lnTo>
                    <a:pt x="839" y="1615"/>
                  </a:lnTo>
                  <a:lnTo>
                    <a:pt x="806" y="1615"/>
                  </a:lnTo>
                  <a:lnTo>
                    <a:pt x="772" y="1626"/>
                  </a:lnTo>
                  <a:lnTo>
                    <a:pt x="739" y="1626"/>
                  </a:lnTo>
                  <a:lnTo>
                    <a:pt x="706" y="1637"/>
                  </a:lnTo>
                  <a:lnTo>
                    <a:pt x="671" y="1637"/>
                  </a:lnTo>
                  <a:lnTo>
                    <a:pt x="638" y="1637"/>
                  </a:lnTo>
                  <a:lnTo>
                    <a:pt x="605" y="1649"/>
                  </a:lnTo>
                  <a:lnTo>
                    <a:pt x="571" y="1649"/>
                  </a:lnTo>
                  <a:lnTo>
                    <a:pt x="537" y="1660"/>
                  </a:lnTo>
                  <a:lnTo>
                    <a:pt x="504" y="1660"/>
                  </a:lnTo>
                  <a:lnTo>
                    <a:pt x="470" y="1671"/>
                  </a:lnTo>
                  <a:lnTo>
                    <a:pt x="437" y="1671"/>
                  </a:lnTo>
                  <a:lnTo>
                    <a:pt x="403" y="1682"/>
                  </a:lnTo>
                  <a:lnTo>
                    <a:pt x="369" y="1693"/>
                  </a:lnTo>
                  <a:lnTo>
                    <a:pt x="336" y="1693"/>
                  </a:lnTo>
                  <a:lnTo>
                    <a:pt x="302" y="1704"/>
                  </a:lnTo>
                  <a:lnTo>
                    <a:pt x="269" y="1704"/>
                  </a:lnTo>
                  <a:lnTo>
                    <a:pt x="235" y="1716"/>
                  </a:lnTo>
                  <a:lnTo>
                    <a:pt x="201" y="1727"/>
                  </a:lnTo>
                  <a:lnTo>
                    <a:pt x="0" y="101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7644600" y="1407600"/>
              <a:ext cx="109800" cy="214560"/>
            </a:xfrm>
            <a:custGeom>
              <a:avLst/>
              <a:gdLst/>
              <a:ahLst/>
              <a:rect l="l" t="t" r="r" b="b"/>
              <a:pathLst>
                <a:path w="234" h="471">
                  <a:moveTo>
                    <a:pt x="33" y="426"/>
                  </a:moveTo>
                  <a:lnTo>
                    <a:pt x="44" y="415"/>
                  </a:lnTo>
                  <a:lnTo>
                    <a:pt x="55" y="392"/>
                  </a:lnTo>
                  <a:lnTo>
                    <a:pt x="55" y="381"/>
                  </a:lnTo>
                  <a:lnTo>
                    <a:pt x="55" y="347"/>
                  </a:lnTo>
                  <a:lnTo>
                    <a:pt x="33" y="123"/>
                  </a:lnTo>
                  <a:lnTo>
                    <a:pt x="33" y="101"/>
                  </a:lnTo>
                  <a:lnTo>
                    <a:pt x="22" y="90"/>
                  </a:lnTo>
                  <a:lnTo>
                    <a:pt x="11" y="90"/>
                  </a:lnTo>
                  <a:lnTo>
                    <a:pt x="0" y="33"/>
                  </a:lnTo>
                  <a:lnTo>
                    <a:pt x="123" y="0"/>
                  </a:lnTo>
                  <a:lnTo>
                    <a:pt x="145" y="0"/>
                  </a:lnTo>
                  <a:lnTo>
                    <a:pt x="167" y="0"/>
                  </a:lnTo>
                  <a:lnTo>
                    <a:pt x="178" y="11"/>
                  </a:lnTo>
                  <a:lnTo>
                    <a:pt x="190" y="22"/>
                  </a:lnTo>
                  <a:lnTo>
                    <a:pt x="201" y="33"/>
                  </a:lnTo>
                  <a:lnTo>
                    <a:pt x="201" y="55"/>
                  </a:lnTo>
                  <a:lnTo>
                    <a:pt x="212" y="67"/>
                  </a:lnTo>
                  <a:lnTo>
                    <a:pt x="212" y="90"/>
                  </a:lnTo>
                  <a:lnTo>
                    <a:pt x="212" y="112"/>
                  </a:lnTo>
                  <a:lnTo>
                    <a:pt x="201" y="145"/>
                  </a:lnTo>
                  <a:lnTo>
                    <a:pt x="201" y="167"/>
                  </a:lnTo>
                  <a:lnTo>
                    <a:pt x="190" y="191"/>
                  </a:lnTo>
                  <a:lnTo>
                    <a:pt x="201" y="191"/>
                  </a:lnTo>
                  <a:lnTo>
                    <a:pt x="201" y="202"/>
                  </a:lnTo>
                  <a:lnTo>
                    <a:pt x="212" y="202"/>
                  </a:lnTo>
                  <a:lnTo>
                    <a:pt x="223" y="213"/>
                  </a:lnTo>
                  <a:lnTo>
                    <a:pt x="223" y="235"/>
                  </a:lnTo>
                  <a:lnTo>
                    <a:pt x="223" y="246"/>
                  </a:lnTo>
                  <a:lnTo>
                    <a:pt x="234" y="257"/>
                  </a:lnTo>
                  <a:lnTo>
                    <a:pt x="234" y="280"/>
                  </a:lnTo>
                  <a:lnTo>
                    <a:pt x="234" y="303"/>
                  </a:lnTo>
                  <a:lnTo>
                    <a:pt x="234" y="325"/>
                  </a:lnTo>
                  <a:lnTo>
                    <a:pt x="234" y="347"/>
                  </a:lnTo>
                  <a:lnTo>
                    <a:pt x="223" y="370"/>
                  </a:lnTo>
                  <a:lnTo>
                    <a:pt x="212" y="392"/>
                  </a:lnTo>
                  <a:lnTo>
                    <a:pt x="201" y="415"/>
                  </a:lnTo>
                  <a:lnTo>
                    <a:pt x="178" y="426"/>
                  </a:lnTo>
                  <a:lnTo>
                    <a:pt x="156" y="437"/>
                  </a:lnTo>
                  <a:lnTo>
                    <a:pt x="33" y="471"/>
                  </a:lnTo>
                  <a:lnTo>
                    <a:pt x="33" y="426"/>
                  </a:lnTo>
                  <a:close/>
                </a:path>
              </a:pathLst>
            </a:custGeom>
            <a:solidFill>
              <a:srgbClr val="f7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7686000" y="1437840"/>
              <a:ext cx="30600" cy="57960"/>
            </a:xfrm>
            <a:custGeom>
              <a:avLst/>
              <a:gdLst/>
              <a:ahLst/>
              <a:rect l="l" t="t" r="r" b="b"/>
              <a:pathLst>
                <a:path w="67" h="124">
                  <a:moveTo>
                    <a:pt x="67" y="45"/>
                  </a:moveTo>
                  <a:lnTo>
                    <a:pt x="67" y="34"/>
                  </a:lnTo>
                  <a:lnTo>
                    <a:pt x="67" y="23"/>
                  </a:lnTo>
                  <a:lnTo>
                    <a:pt x="56" y="12"/>
                  </a:lnTo>
                  <a:lnTo>
                    <a:pt x="56" y="0"/>
                  </a:lnTo>
                  <a:lnTo>
                    <a:pt x="45" y="0"/>
                  </a:lnTo>
                  <a:lnTo>
                    <a:pt x="34" y="0"/>
                  </a:lnTo>
                  <a:lnTo>
                    <a:pt x="22" y="0"/>
                  </a:lnTo>
                  <a:lnTo>
                    <a:pt x="11" y="0"/>
                  </a:lnTo>
                  <a:lnTo>
                    <a:pt x="0" y="12"/>
                  </a:lnTo>
                  <a:lnTo>
                    <a:pt x="0" y="23"/>
                  </a:lnTo>
                  <a:lnTo>
                    <a:pt x="0" y="34"/>
                  </a:lnTo>
                  <a:lnTo>
                    <a:pt x="11" y="124"/>
                  </a:lnTo>
                  <a:lnTo>
                    <a:pt x="34" y="113"/>
                  </a:lnTo>
                  <a:lnTo>
                    <a:pt x="45" y="100"/>
                  </a:lnTo>
                  <a:lnTo>
                    <a:pt x="56" y="100"/>
                  </a:lnTo>
                  <a:lnTo>
                    <a:pt x="56" y="89"/>
                  </a:lnTo>
                  <a:lnTo>
                    <a:pt x="67" y="78"/>
                  </a:lnTo>
                  <a:lnTo>
                    <a:pt x="67" y="67"/>
                  </a:lnTo>
                  <a:lnTo>
                    <a:pt x="67" y="45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7691760" y="1515240"/>
              <a:ext cx="35280" cy="65520"/>
            </a:xfrm>
            <a:custGeom>
              <a:avLst/>
              <a:gdLst/>
              <a:ahLst/>
              <a:rect l="l" t="t" r="r" b="b"/>
              <a:pathLst>
                <a:path w="78" h="146">
                  <a:moveTo>
                    <a:pt x="34" y="146"/>
                  </a:moveTo>
                  <a:lnTo>
                    <a:pt x="45" y="146"/>
                  </a:lnTo>
                  <a:lnTo>
                    <a:pt x="56" y="135"/>
                  </a:lnTo>
                  <a:lnTo>
                    <a:pt x="56" y="123"/>
                  </a:lnTo>
                  <a:lnTo>
                    <a:pt x="67" y="123"/>
                  </a:lnTo>
                  <a:lnTo>
                    <a:pt x="67" y="112"/>
                  </a:lnTo>
                  <a:lnTo>
                    <a:pt x="78" y="90"/>
                  </a:lnTo>
                  <a:lnTo>
                    <a:pt x="78" y="79"/>
                  </a:lnTo>
                  <a:lnTo>
                    <a:pt x="78" y="57"/>
                  </a:lnTo>
                  <a:lnTo>
                    <a:pt x="67" y="33"/>
                  </a:lnTo>
                  <a:lnTo>
                    <a:pt x="67" y="22"/>
                  </a:lnTo>
                  <a:lnTo>
                    <a:pt x="67" y="11"/>
                  </a:lnTo>
                  <a:lnTo>
                    <a:pt x="56" y="0"/>
                  </a:lnTo>
                  <a:lnTo>
                    <a:pt x="45" y="0"/>
                  </a:lnTo>
                  <a:lnTo>
                    <a:pt x="34" y="0"/>
                  </a:lnTo>
                  <a:lnTo>
                    <a:pt x="23" y="0"/>
                  </a:lnTo>
                  <a:lnTo>
                    <a:pt x="0" y="11"/>
                  </a:lnTo>
                  <a:lnTo>
                    <a:pt x="11" y="123"/>
                  </a:lnTo>
                  <a:lnTo>
                    <a:pt x="11" y="135"/>
                  </a:lnTo>
                  <a:lnTo>
                    <a:pt x="11" y="146"/>
                  </a:lnTo>
                  <a:lnTo>
                    <a:pt x="23" y="146"/>
                  </a:lnTo>
                  <a:lnTo>
                    <a:pt x="34" y="146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7754760" y="1377000"/>
              <a:ext cx="60480" cy="214560"/>
            </a:xfrm>
            <a:custGeom>
              <a:avLst/>
              <a:gdLst/>
              <a:ahLst/>
              <a:rect l="l" t="t" r="r" b="b"/>
              <a:pathLst>
                <a:path w="134" h="471">
                  <a:moveTo>
                    <a:pt x="33" y="147"/>
                  </a:moveTo>
                  <a:lnTo>
                    <a:pt x="22" y="112"/>
                  </a:lnTo>
                  <a:lnTo>
                    <a:pt x="22" y="101"/>
                  </a:lnTo>
                  <a:lnTo>
                    <a:pt x="11" y="90"/>
                  </a:lnTo>
                  <a:lnTo>
                    <a:pt x="0" y="90"/>
                  </a:lnTo>
                  <a:lnTo>
                    <a:pt x="0" y="34"/>
                  </a:lnTo>
                  <a:lnTo>
                    <a:pt x="101" y="0"/>
                  </a:lnTo>
                  <a:lnTo>
                    <a:pt x="112" y="57"/>
                  </a:lnTo>
                  <a:lnTo>
                    <a:pt x="90" y="68"/>
                  </a:lnTo>
                  <a:lnTo>
                    <a:pt x="90" y="79"/>
                  </a:lnTo>
                  <a:lnTo>
                    <a:pt x="79" y="101"/>
                  </a:lnTo>
                  <a:lnTo>
                    <a:pt x="90" y="123"/>
                  </a:lnTo>
                  <a:lnTo>
                    <a:pt x="101" y="336"/>
                  </a:lnTo>
                  <a:lnTo>
                    <a:pt x="101" y="371"/>
                  </a:lnTo>
                  <a:lnTo>
                    <a:pt x="101" y="382"/>
                  </a:lnTo>
                  <a:lnTo>
                    <a:pt x="112" y="393"/>
                  </a:lnTo>
                  <a:lnTo>
                    <a:pt x="134" y="393"/>
                  </a:lnTo>
                  <a:lnTo>
                    <a:pt x="134" y="438"/>
                  </a:lnTo>
                  <a:lnTo>
                    <a:pt x="22" y="471"/>
                  </a:lnTo>
                  <a:lnTo>
                    <a:pt x="22" y="415"/>
                  </a:lnTo>
                  <a:lnTo>
                    <a:pt x="33" y="415"/>
                  </a:lnTo>
                  <a:lnTo>
                    <a:pt x="45" y="404"/>
                  </a:lnTo>
                  <a:lnTo>
                    <a:pt x="45" y="382"/>
                  </a:lnTo>
                  <a:lnTo>
                    <a:pt x="45" y="348"/>
                  </a:lnTo>
                  <a:lnTo>
                    <a:pt x="33" y="147"/>
                  </a:lnTo>
                  <a:close/>
                </a:path>
              </a:pathLst>
            </a:custGeom>
            <a:solidFill>
              <a:srgbClr val="f7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7810200" y="1360800"/>
              <a:ext cx="101520" cy="217080"/>
            </a:xfrm>
            <a:custGeom>
              <a:avLst/>
              <a:gdLst/>
              <a:ahLst/>
              <a:rect l="l" t="t" r="r" b="b"/>
              <a:pathLst>
                <a:path w="225" h="471">
                  <a:moveTo>
                    <a:pt x="23" y="415"/>
                  </a:moveTo>
                  <a:lnTo>
                    <a:pt x="34" y="404"/>
                  </a:lnTo>
                  <a:lnTo>
                    <a:pt x="45" y="393"/>
                  </a:lnTo>
                  <a:lnTo>
                    <a:pt x="45" y="381"/>
                  </a:lnTo>
                  <a:lnTo>
                    <a:pt x="45" y="347"/>
                  </a:lnTo>
                  <a:lnTo>
                    <a:pt x="34" y="123"/>
                  </a:lnTo>
                  <a:lnTo>
                    <a:pt x="23" y="101"/>
                  </a:lnTo>
                  <a:lnTo>
                    <a:pt x="23" y="90"/>
                  </a:lnTo>
                  <a:lnTo>
                    <a:pt x="11" y="90"/>
                  </a:lnTo>
                  <a:lnTo>
                    <a:pt x="0" y="90"/>
                  </a:lnTo>
                  <a:lnTo>
                    <a:pt x="0" y="33"/>
                  </a:lnTo>
                  <a:lnTo>
                    <a:pt x="124" y="0"/>
                  </a:lnTo>
                  <a:lnTo>
                    <a:pt x="146" y="0"/>
                  </a:lnTo>
                  <a:lnTo>
                    <a:pt x="168" y="0"/>
                  </a:lnTo>
                  <a:lnTo>
                    <a:pt x="179" y="11"/>
                  </a:lnTo>
                  <a:lnTo>
                    <a:pt x="190" y="22"/>
                  </a:lnTo>
                  <a:lnTo>
                    <a:pt x="201" y="44"/>
                  </a:lnTo>
                  <a:lnTo>
                    <a:pt x="201" y="56"/>
                  </a:lnTo>
                  <a:lnTo>
                    <a:pt x="201" y="78"/>
                  </a:lnTo>
                  <a:lnTo>
                    <a:pt x="201" y="90"/>
                  </a:lnTo>
                  <a:lnTo>
                    <a:pt x="201" y="123"/>
                  </a:lnTo>
                  <a:lnTo>
                    <a:pt x="201" y="145"/>
                  </a:lnTo>
                  <a:lnTo>
                    <a:pt x="190" y="180"/>
                  </a:lnTo>
                  <a:lnTo>
                    <a:pt x="179" y="191"/>
                  </a:lnTo>
                  <a:lnTo>
                    <a:pt x="190" y="202"/>
                  </a:lnTo>
                  <a:lnTo>
                    <a:pt x="201" y="202"/>
                  </a:lnTo>
                  <a:lnTo>
                    <a:pt x="201" y="213"/>
                  </a:lnTo>
                  <a:lnTo>
                    <a:pt x="212" y="224"/>
                  </a:lnTo>
                  <a:lnTo>
                    <a:pt x="225" y="235"/>
                  </a:lnTo>
                  <a:lnTo>
                    <a:pt x="225" y="257"/>
                  </a:lnTo>
                  <a:lnTo>
                    <a:pt x="225" y="268"/>
                  </a:lnTo>
                  <a:lnTo>
                    <a:pt x="225" y="292"/>
                  </a:lnTo>
                  <a:lnTo>
                    <a:pt x="225" y="314"/>
                  </a:lnTo>
                  <a:lnTo>
                    <a:pt x="225" y="336"/>
                  </a:lnTo>
                  <a:lnTo>
                    <a:pt x="225" y="358"/>
                  </a:lnTo>
                  <a:lnTo>
                    <a:pt x="212" y="381"/>
                  </a:lnTo>
                  <a:lnTo>
                    <a:pt x="201" y="404"/>
                  </a:lnTo>
                  <a:lnTo>
                    <a:pt x="190" y="415"/>
                  </a:lnTo>
                  <a:lnTo>
                    <a:pt x="179" y="426"/>
                  </a:lnTo>
                  <a:lnTo>
                    <a:pt x="157" y="437"/>
                  </a:lnTo>
                  <a:lnTo>
                    <a:pt x="23" y="471"/>
                  </a:lnTo>
                  <a:lnTo>
                    <a:pt x="23" y="415"/>
                  </a:lnTo>
                  <a:close/>
                </a:path>
              </a:pathLst>
            </a:custGeom>
            <a:solidFill>
              <a:srgbClr val="f7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7851600" y="1390680"/>
              <a:ext cx="29880" cy="57960"/>
            </a:xfrm>
            <a:custGeom>
              <a:avLst/>
              <a:gdLst/>
              <a:ahLst/>
              <a:rect l="l" t="t" r="r" b="b"/>
              <a:pathLst>
                <a:path w="67" h="124">
                  <a:moveTo>
                    <a:pt x="67" y="45"/>
                  </a:moveTo>
                  <a:lnTo>
                    <a:pt x="56" y="34"/>
                  </a:lnTo>
                  <a:lnTo>
                    <a:pt x="56" y="23"/>
                  </a:lnTo>
                  <a:lnTo>
                    <a:pt x="56" y="11"/>
                  </a:lnTo>
                  <a:lnTo>
                    <a:pt x="45" y="0"/>
                  </a:lnTo>
                  <a:lnTo>
                    <a:pt x="34" y="0"/>
                  </a:lnTo>
                  <a:lnTo>
                    <a:pt x="22" y="0"/>
                  </a:lnTo>
                  <a:lnTo>
                    <a:pt x="11" y="0"/>
                  </a:lnTo>
                  <a:lnTo>
                    <a:pt x="0" y="11"/>
                  </a:lnTo>
                  <a:lnTo>
                    <a:pt x="0" y="23"/>
                  </a:lnTo>
                  <a:lnTo>
                    <a:pt x="0" y="34"/>
                  </a:lnTo>
                  <a:lnTo>
                    <a:pt x="0" y="124"/>
                  </a:lnTo>
                  <a:lnTo>
                    <a:pt x="22" y="113"/>
                  </a:lnTo>
                  <a:lnTo>
                    <a:pt x="34" y="113"/>
                  </a:lnTo>
                  <a:lnTo>
                    <a:pt x="45" y="101"/>
                  </a:lnTo>
                  <a:lnTo>
                    <a:pt x="56" y="101"/>
                  </a:lnTo>
                  <a:lnTo>
                    <a:pt x="56" y="89"/>
                  </a:lnTo>
                  <a:lnTo>
                    <a:pt x="56" y="78"/>
                  </a:lnTo>
                  <a:lnTo>
                    <a:pt x="67" y="67"/>
                  </a:lnTo>
                  <a:lnTo>
                    <a:pt x="67" y="45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7851600" y="1468440"/>
              <a:ext cx="35280" cy="68400"/>
            </a:xfrm>
            <a:custGeom>
              <a:avLst/>
              <a:gdLst/>
              <a:ahLst/>
              <a:rect l="l" t="t" r="r" b="b"/>
              <a:pathLst>
                <a:path w="78" h="146">
                  <a:moveTo>
                    <a:pt x="34" y="146"/>
                  </a:moveTo>
                  <a:lnTo>
                    <a:pt x="45" y="146"/>
                  </a:lnTo>
                  <a:lnTo>
                    <a:pt x="56" y="134"/>
                  </a:lnTo>
                  <a:lnTo>
                    <a:pt x="67" y="134"/>
                  </a:lnTo>
                  <a:lnTo>
                    <a:pt x="67" y="123"/>
                  </a:lnTo>
                  <a:lnTo>
                    <a:pt x="78" y="112"/>
                  </a:lnTo>
                  <a:lnTo>
                    <a:pt x="78" y="101"/>
                  </a:lnTo>
                  <a:lnTo>
                    <a:pt x="78" y="79"/>
                  </a:lnTo>
                  <a:lnTo>
                    <a:pt x="78" y="68"/>
                  </a:lnTo>
                  <a:lnTo>
                    <a:pt x="78" y="46"/>
                  </a:lnTo>
                  <a:lnTo>
                    <a:pt x="67" y="22"/>
                  </a:lnTo>
                  <a:lnTo>
                    <a:pt x="67" y="11"/>
                  </a:lnTo>
                  <a:lnTo>
                    <a:pt x="56" y="11"/>
                  </a:lnTo>
                  <a:lnTo>
                    <a:pt x="56" y="0"/>
                  </a:lnTo>
                  <a:lnTo>
                    <a:pt x="45" y="0"/>
                  </a:lnTo>
                  <a:lnTo>
                    <a:pt x="34" y="0"/>
                  </a:lnTo>
                  <a:lnTo>
                    <a:pt x="22" y="0"/>
                  </a:lnTo>
                  <a:lnTo>
                    <a:pt x="0" y="11"/>
                  </a:lnTo>
                  <a:lnTo>
                    <a:pt x="11" y="123"/>
                  </a:lnTo>
                  <a:lnTo>
                    <a:pt x="11" y="134"/>
                  </a:lnTo>
                  <a:lnTo>
                    <a:pt x="22" y="146"/>
                  </a:lnTo>
                  <a:lnTo>
                    <a:pt x="34" y="146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7912080" y="1338480"/>
              <a:ext cx="104040" cy="212400"/>
            </a:xfrm>
            <a:custGeom>
              <a:avLst/>
              <a:gdLst/>
              <a:ahLst/>
              <a:rect l="l" t="t" r="r" b="b"/>
              <a:pathLst>
                <a:path w="223" h="460">
                  <a:moveTo>
                    <a:pt x="22" y="460"/>
                  </a:moveTo>
                  <a:lnTo>
                    <a:pt x="22" y="403"/>
                  </a:lnTo>
                  <a:lnTo>
                    <a:pt x="33" y="392"/>
                  </a:lnTo>
                  <a:lnTo>
                    <a:pt x="44" y="381"/>
                  </a:lnTo>
                  <a:lnTo>
                    <a:pt x="44" y="370"/>
                  </a:lnTo>
                  <a:lnTo>
                    <a:pt x="44" y="337"/>
                  </a:lnTo>
                  <a:lnTo>
                    <a:pt x="33" y="135"/>
                  </a:lnTo>
                  <a:lnTo>
                    <a:pt x="33" y="101"/>
                  </a:lnTo>
                  <a:lnTo>
                    <a:pt x="33" y="89"/>
                  </a:lnTo>
                  <a:lnTo>
                    <a:pt x="22" y="78"/>
                  </a:lnTo>
                  <a:lnTo>
                    <a:pt x="0" y="78"/>
                  </a:lnTo>
                  <a:lnTo>
                    <a:pt x="0" y="22"/>
                  </a:lnTo>
                  <a:lnTo>
                    <a:pt x="111" y="0"/>
                  </a:lnTo>
                  <a:lnTo>
                    <a:pt x="111" y="45"/>
                  </a:lnTo>
                  <a:lnTo>
                    <a:pt x="100" y="56"/>
                  </a:lnTo>
                  <a:lnTo>
                    <a:pt x="89" y="67"/>
                  </a:lnTo>
                  <a:lnTo>
                    <a:pt x="89" y="89"/>
                  </a:lnTo>
                  <a:lnTo>
                    <a:pt x="89" y="123"/>
                  </a:lnTo>
                  <a:lnTo>
                    <a:pt x="100" y="337"/>
                  </a:lnTo>
                  <a:lnTo>
                    <a:pt x="100" y="359"/>
                  </a:lnTo>
                  <a:lnTo>
                    <a:pt x="100" y="370"/>
                  </a:lnTo>
                  <a:lnTo>
                    <a:pt x="111" y="381"/>
                  </a:lnTo>
                  <a:lnTo>
                    <a:pt x="122" y="381"/>
                  </a:lnTo>
                  <a:lnTo>
                    <a:pt x="133" y="370"/>
                  </a:lnTo>
                  <a:lnTo>
                    <a:pt x="145" y="359"/>
                  </a:lnTo>
                  <a:lnTo>
                    <a:pt x="156" y="348"/>
                  </a:lnTo>
                  <a:lnTo>
                    <a:pt x="167" y="337"/>
                  </a:lnTo>
                  <a:lnTo>
                    <a:pt x="178" y="313"/>
                  </a:lnTo>
                  <a:lnTo>
                    <a:pt x="190" y="291"/>
                  </a:lnTo>
                  <a:lnTo>
                    <a:pt x="190" y="269"/>
                  </a:lnTo>
                  <a:lnTo>
                    <a:pt x="201" y="247"/>
                  </a:lnTo>
                  <a:lnTo>
                    <a:pt x="223" y="258"/>
                  </a:lnTo>
                  <a:lnTo>
                    <a:pt x="190" y="426"/>
                  </a:lnTo>
                  <a:lnTo>
                    <a:pt x="22" y="460"/>
                  </a:lnTo>
                  <a:close/>
                </a:path>
              </a:pathLst>
            </a:custGeom>
            <a:solidFill>
              <a:srgbClr val="f7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8011440" y="1314000"/>
              <a:ext cx="101520" cy="217080"/>
            </a:xfrm>
            <a:custGeom>
              <a:avLst/>
              <a:gdLst/>
              <a:ahLst/>
              <a:rect l="l" t="t" r="r" b="b"/>
              <a:pathLst>
                <a:path w="223" h="470">
                  <a:moveTo>
                    <a:pt x="101" y="191"/>
                  </a:moveTo>
                  <a:lnTo>
                    <a:pt x="112" y="191"/>
                  </a:lnTo>
                  <a:lnTo>
                    <a:pt x="112" y="179"/>
                  </a:lnTo>
                  <a:lnTo>
                    <a:pt x="123" y="157"/>
                  </a:lnTo>
                  <a:lnTo>
                    <a:pt x="123" y="112"/>
                  </a:lnTo>
                  <a:lnTo>
                    <a:pt x="145" y="112"/>
                  </a:lnTo>
                  <a:lnTo>
                    <a:pt x="156" y="314"/>
                  </a:lnTo>
                  <a:lnTo>
                    <a:pt x="134" y="314"/>
                  </a:lnTo>
                  <a:lnTo>
                    <a:pt x="123" y="281"/>
                  </a:lnTo>
                  <a:lnTo>
                    <a:pt x="123" y="257"/>
                  </a:lnTo>
                  <a:lnTo>
                    <a:pt x="112" y="246"/>
                  </a:lnTo>
                  <a:lnTo>
                    <a:pt x="101" y="246"/>
                  </a:lnTo>
                  <a:lnTo>
                    <a:pt x="90" y="246"/>
                  </a:lnTo>
                  <a:lnTo>
                    <a:pt x="90" y="358"/>
                  </a:lnTo>
                  <a:lnTo>
                    <a:pt x="90" y="382"/>
                  </a:lnTo>
                  <a:lnTo>
                    <a:pt x="101" y="393"/>
                  </a:lnTo>
                  <a:lnTo>
                    <a:pt x="112" y="393"/>
                  </a:lnTo>
                  <a:lnTo>
                    <a:pt x="134" y="393"/>
                  </a:lnTo>
                  <a:lnTo>
                    <a:pt x="145" y="382"/>
                  </a:lnTo>
                  <a:lnTo>
                    <a:pt x="156" y="369"/>
                  </a:lnTo>
                  <a:lnTo>
                    <a:pt x="168" y="358"/>
                  </a:lnTo>
                  <a:lnTo>
                    <a:pt x="179" y="336"/>
                  </a:lnTo>
                  <a:lnTo>
                    <a:pt x="190" y="314"/>
                  </a:lnTo>
                  <a:lnTo>
                    <a:pt x="201" y="292"/>
                  </a:lnTo>
                  <a:lnTo>
                    <a:pt x="201" y="269"/>
                  </a:lnTo>
                  <a:lnTo>
                    <a:pt x="223" y="281"/>
                  </a:lnTo>
                  <a:lnTo>
                    <a:pt x="201" y="437"/>
                  </a:lnTo>
                  <a:lnTo>
                    <a:pt x="11" y="470"/>
                  </a:lnTo>
                  <a:lnTo>
                    <a:pt x="11" y="415"/>
                  </a:lnTo>
                  <a:lnTo>
                    <a:pt x="22" y="415"/>
                  </a:lnTo>
                  <a:lnTo>
                    <a:pt x="33" y="404"/>
                  </a:lnTo>
                  <a:lnTo>
                    <a:pt x="33" y="393"/>
                  </a:lnTo>
                  <a:lnTo>
                    <a:pt x="33" y="369"/>
                  </a:lnTo>
                  <a:lnTo>
                    <a:pt x="22" y="123"/>
                  </a:lnTo>
                  <a:lnTo>
                    <a:pt x="22" y="101"/>
                  </a:lnTo>
                  <a:lnTo>
                    <a:pt x="22" y="90"/>
                  </a:lnTo>
                  <a:lnTo>
                    <a:pt x="11" y="90"/>
                  </a:lnTo>
                  <a:lnTo>
                    <a:pt x="0" y="90"/>
                  </a:lnTo>
                  <a:lnTo>
                    <a:pt x="0" y="34"/>
                  </a:lnTo>
                  <a:lnTo>
                    <a:pt x="179" y="0"/>
                  </a:lnTo>
                  <a:lnTo>
                    <a:pt x="212" y="134"/>
                  </a:lnTo>
                  <a:lnTo>
                    <a:pt x="190" y="157"/>
                  </a:lnTo>
                  <a:lnTo>
                    <a:pt x="179" y="134"/>
                  </a:lnTo>
                  <a:lnTo>
                    <a:pt x="179" y="123"/>
                  </a:lnTo>
                  <a:lnTo>
                    <a:pt x="168" y="101"/>
                  </a:lnTo>
                  <a:lnTo>
                    <a:pt x="156" y="90"/>
                  </a:lnTo>
                  <a:lnTo>
                    <a:pt x="145" y="78"/>
                  </a:lnTo>
                  <a:lnTo>
                    <a:pt x="134" y="78"/>
                  </a:lnTo>
                  <a:lnTo>
                    <a:pt x="123" y="67"/>
                  </a:lnTo>
                  <a:lnTo>
                    <a:pt x="112" y="67"/>
                  </a:lnTo>
                  <a:lnTo>
                    <a:pt x="101" y="78"/>
                  </a:lnTo>
                  <a:lnTo>
                    <a:pt x="90" y="78"/>
                  </a:lnTo>
                  <a:lnTo>
                    <a:pt x="78" y="90"/>
                  </a:lnTo>
                  <a:lnTo>
                    <a:pt x="78" y="112"/>
                  </a:lnTo>
                  <a:lnTo>
                    <a:pt x="78" y="191"/>
                  </a:lnTo>
                  <a:lnTo>
                    <a:pt x="101" y="191"/>
                  </a:lnTo>
                  <a:close/>
                </a:path>
              </a:pathLst>
            </a:custGeom>
            <a:solidFill>
              <a:srgbClr val="f7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7600320" y="1062720"/>
              <a:ext cx="184680" cy="82800"/>
            </a:xfrm>
            <a:custGeom>
              <a:avLst/>
              <a:gdLst/>
              <a:ahLst/>
              <a:rect l="l" t="t" r="r" b="b"/>
              <a:pathLst>
                <a:path w="403" h="180">
                  <a:moveTo>
                    <a:pt x="403" y="0"/>
                  </a:moveTo>
                  <a:lnTo>
                    <a:pt x="346" y="12"/>
                  </a:lnTo>
                  <a:lnTo>
                    <a:pt x="302" y="23"/>
                  </a:lnTo>
                  <a:lnTo>
                    <a:pt x="257" y="34"/>
                  </a:lnTo>
                  <a:lnTo>
                    <a:pt x="224" y="45"/>
                  </a:lnTo>
                  <a:lnTo>
                    <a:pt x="190" y="57"/>
                  </a:lnTo>
                  <a:lnTo>
                    <a:pt x="156" y="79"/>
                  </a:lnTo>
                  <a:lnTo>
                    <a:pt x="123" y="90"/>
                  </a:lnTo>
                  <a:lnTo>
                    <a:pt x="101" y="101"/>
                  </a:lnTo>
                  <a:lnTo>
                    <a:pt x="78" y="112"/>
                  </a:lnTo>
                  <a:lnTo>
                    <a:pt x="55" y="124"/>
                  </a:lnTo>
                  <a:lnTo>
                    <a:pt x="33" y="135"/>
                  </a:lnTo>
                  <a:lnTo>
                    <a:pt x="22" y="147"/>
                  </a:lnTo>
                  <a:lnTo>
                    <a:pt x="11" y="147"/>
                  </a:lnTo>
                  <a:lnTo>
                    <a:pt x="0" y="158"/>
                  </a:lnTo>
                  <a:lnTo>
                    <a:pt x="22" y="180"/>
                  </a:lnTo>
                  <a:lnTo>
                    <a:pt x="44" y="169"/>
                  </a:lnTo>
                  <a:lnTo>
                    <a:pt x="55" y="158"/>
                  </a:lnTo>
                  <a:lnTo>
                    <a:pt x="66" y="147"/>
                  </a:lnTo>
                  <a:lnTo>
                    <a:pt x="89" y="135"/>
                  </a:lnTo>
                  <a:lnTo>
                    <a:pt x="112" y="124"/>
                  </a:lnTo>
                  <a:lnTo>
                    <a:pt x="134" y="112"/>
                  </a:lnTo>
                  <a:lnTo>
                    <a:pt x="167" y="101"/>
                  </a:lnTo>
                  <a:lnTo>
                    <a:pt x="201" y="90"/>
                  </a:lnTo>
                  <a:lnTo>
                    <a:pt x="235" y="79"/>
                  </a:lnTo>
                  <a:lnTo>
                    <a:pt x="268" y="68"/>
                  </a:lnTo>
                  <a:lnTo>
                    <a:pt x="313" y="45"/>
                  </a:lnTo>
                  <a:lnTo>
                    <a:pt x="357" y="45"/>
                  </a:lnTo>
                  <a:lnTo>
                    <a:pt x="403" y="34"/>
                  </a:lnTo>
                  <a:lnTo>
                    <a:pt x="40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5" name=""/>
          <p:cNvGrpSpPr/>
          <p:nvPr/>
        </p:nvGrpSpPr>
        <p:grpSpPr>
          <a:xfrm>
            <a:off x="1578600" y="838080"/>
            <a:ext cx="5825160" cy="5090400"/>
            <a:chOff x="1578600" y="838080"/>
            <a:chExt cx="5825160" cy="5090400"/>
          </a:xfrm>
        </p:grpSpPr>
        <p:sp>
          <p:nvSpPr>
            <p:cNvPr id="1396" name=""/>
            <p:cNvSpPr/>
            <p:nvPr/>
          </p:nvSpPr>
          <p:spPr>
            <a:xfrm>
              <a:off x="1579320" y="838080"/>
              <a:ext cx="47311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1f1a17"/>
                  </a:solidFill>
                  <a:latin typeface="Times New Roman"/>
                </a:rPr>
                <a:t>“</a:t>
              </a:r>
              <a:r>
                <a:rPr b="0" i="1" lang="en-GB" sz="2400" spc="-1" strike="noStrike">
                  <a:solidFill>
                    <a:srgbClr val="1f1a17"/>
                  </a:solidFill>
                  <a:latin typeface="Times New Roman"/>
                </a:rPr>
                <a:t>For if we believe that Jesus died and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1580400" y="1174680"/>
              <a:ext cx="44920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1f1a17"/>
                  </a:solidFill>
                  <a:latin typeface="Times New Roman"/>
                </a:rPr>
                <a:t>rose again, even so them also which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1580040" y="1512720"/>
              <a:ext cx="50011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1f1a17"/>
                  </a:solidFill>
                  <a:latin typeface="Times New Roman"/>
                </a:rPr>
                <a:t>sleep in Jesus will God bring with Him.”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1578600" y="2862000"/>
              <a:ext cx="5094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1f1a17"/>
                  </a:solidFill>
                  <a:latin typeface="Times New Roman"/>
                </a:rPr>
                <a:t>“</a:t>
              </a:r>
              <a:r>
                <a:rPr b="0" i="1" lang="en-GB" sz="2400" spc="-1" strike="noStrike">
                  <a:solidFill>
                    <a:srgbClr val="1f1a17"/>
                  </a:solidFill>
                  <a:latin typeface="Times New Roman"/>
                </a:rPr>
                <a:t>For the Lord Himself will descend from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1580040" y="3200400"/>
              <a:ext cx="50529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1f1a17"/>
                  </a:solidFill>
                  <a:latin typeface="Times New Roman"/>
                </a:rPr>
                <a:t>heaven with a shout, with the voice of an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1581120" y="3538440"/>
              <a:ext cx="55587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1f1a17"/>
                  </a:solidFill>
                  <a:latin typeface="Times New Roman"/>
                </a:rPr>
                <a:t>archangel, and with the trumpet of God. And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1578960" y="3875040"/>
              <a:ext cx="56728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1f1a17"/>
                  </a:solidFill>
                  <a:latin typeface="Times New Roman"/>
                </a:rPr>
                <a:t>the dead in Christ will rise first. Then we who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1580400" y="4213080"/>
              <a:ext cx="49507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1f1a17"/>
                  </a:solidFill>
                  <a:latin typeface="Times New Roman"/>
                </a:rPr>
                <a:t>are alive and remain shall be caught up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1578960" y="4549680"/>
              <a:ext cx="54187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1f1a17"/>
                  </a:solidFill>
                  <a:latin typeface="Times New Roman"/>
                </a:rPr>
                <a:t>together with them in the clouds to meet th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1579680" y="4887720"/>
              <a:ext cx="58240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1f1a17"/>
                  </a:solidFill>
                  <a:latin typeface="Times New Roman"/>
                </a:rPr>
                <a:t>Lord in the air. And thus, we shall be ever with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1579320" y="5226120"/>
              <a:ext cx="12884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1f1a17"/>
                  </a:solidFill>
                  <a:latin typeface="Times New Roman"/>
                </a:rPr>
                <a:t>the Lord.”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4466520" y="2187360"/>
              <a:ext cx="2695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1f1a17"/>
                  </a:solidFill>
                  <a:latin typeface="Times New Roman"/>
                </a:rPr>
                <a:t>1 Thessalonians 4: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4466520" y="5562360"/>
              <a:ext cx="2695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1f1a17"/>
                  </a:solidFill>
                  <a:latin typeface="Times New Roman"/>
                </a:rPr>
                <a:t>1 Thessalonians 4: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7T20:08:42Z</dcterms:created>
  <dc:creator>adriaan</dc:creator>
  <dc:description/>
  <dc:language>en-US</dc:language>
  <cp:lastModifiedBy>Vern Tisdalle</cp:lastModifiedBy>
  <dcterms:modified xsi:type="dcterms:W3CDTF">2005-11-28T13:35:32Z</dcterms:modified>
  <cp:revision>255</cp:revision>
  <dc:subject/>
  <dc:title>No Slide Title</dc:title>
</cp:coreProperties>
</file>